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20.png" ContentType="image/png"/>
  <Override PartName="/ppt/media/image18.png" ContentType="image/png"/>
  <Override PartName="/ppt/media/type.wav" ContentType="audio/x-wav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media/image2.wmf" ContentType="image/x-wmf"/>
  <Override PartName="/ppt/media/chimes.wav" ContentType="audio/x-wav"/>
  <Override PartName="/ppt/media/image16.png" ContentType="image/png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A79-622F-41BC-8AF0-F33CE6B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32A-DFDA-4E36-B263-65B1B1E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FFA-F2D3-40F6-9A96-37B4206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1C5-AE41-4CDB-8897-1FD227B2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76C-137A-489D-B115-99E0556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9AC-3D4B-49E6-9E4A-DE8801CC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81B-EB1B-4AD4-9E09-D93D418C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A3E-84BD-4733-96EC-7625671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F24-B79C-46ED-AF41-18B76951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058-0E70-48DD-9941-86AD006B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C02-98B2-4FA9-93F7-E915FE1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DFC-8C33-40E8-8E42-04A4A5E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6DC-7777-4BCE-A0EF-0D8F6F7BE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5.jpeg"/><Relationship Id="rId5" Type="http://schemas.openxmlformats.org/officeDocument/2006/relationships/image" Target="../media/image31.png"/><Relationship Id="rId6" Type="http://schemas.openxmlformats.org/officeDocument/2006/relationships/image" Target="../media/image29.jpeg"/><Relationship Id="rId7" Type="http://schemas.openxmlformats.org/officeDocument/2006/relationships/image" Target="../media/image25.jpeg"/><Relationship Id="rId8" Type="http://schemas.openxmlformats.org/officeDocument/2006/relationships/image" Target="../media/image31.png"/><Relationship Id="rId9" Type="http://schemas.openxmlformats.org/officeDocument/2006/relationships/image" Target="../media/image29.jpeg"/><Relationship Id="rId10" Type="http://schemas.openxmlformats.org/officeDocument/2006/relationships/image" Target="../media/image28.png"/><Relationship Id="rId11" Type="http://schemas.openxmlformats.org/officeDocument/2006/relationships/image" Target="../media/image27.jpeg"/><Relationship Id="rId12" Type="http://schemas.openxmlformats.org/officeDocument/2006/relationships/image" Target="../media/image30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50920" y="1268280"/>
            <a:ext cx="8610480" cy="5068800"/>
            <a:chOff x="250920" y="1268280"/>
            <a:chExt cx="8610480" cy="5068800"/>
          </a:xfrm>
        </p:grpSpPr>
        <p:grpSp>
          <p:nvGrpSpPr>
            <p:cNvPr id="42" name="Group 3"/>
            <p:cNvGrpSpPr/>
            <p:nvPr/>
          </p:nvGrpSpPr>
          <p:grpSpPr>
            <a:xfrm>
              <a:off x="250920" y="1268280"/>
              <a:ext cx="8610480" cy="5068800"/>
              <a:chOff x="250920" y="1268280"/>
              <a:chExt cx="8610480" cy="5068800"/>
            </a:xfrm>
          </p:grpSpPr>
          <p:sp>
            <p:nvSpPr>
              <p:cNvPr id="43" name="AutoShape 4"/>
              <p:cNvSpPr/>
              <p:nvPr/>
            </p:nvSpPr>
            <p:spPr>
              <a:xfrm>
                <a:off x="2340000" y="6165720"/>
                <a:ext cx="4537080" cy="171360"/>
              </a:xfrm>
              <a:custGeom>
                <a:avLst/>
                <a:gdLst>
                  <a:gd name="textAreaLeft" fmla="*/ 1134360 w 4537080"/>
                  <a:gd name="textAreaRight" fmla="*/ 3403080 w 4537080"/>
                  <a:gd name="textAreaTop" fmla="*/ 2124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Group 5"/>
              <p:cNvGrpSpPr/>
              <p:nvPr/>
            </p:nvGrpSpPr>
            <p:grpSpPr>
              <a:xfrm>
                <a:off x="250920" y="1268280"/>
                <a:ext cx="8610480" cy="4876920"/>
                <a:chOff x="250920" y="1268280"/>
                <a:chExt cx="8610480" cy="4876920"/>
              </a:xfrm>
            </p:grpSpPr>
            <p:sp>
              <p:nvSpPr>
                <p:cNvPr id="45" name="AutoShape 6"/>
                <p:cNvSpPr/>
                <p:nvPr/>
              </p:nvSpPr>
              <p:spPr>
                <a:xfrm>
                  <a:off x="250920" y="1268280"/>
                  <a:ext cx="8610480" cy="4876920"/>
                </a:xfrm>
                <a:custGeom>
                  <a:avLst/>
                  <a:gdLst>
                    <a:gd name="textAreaLeft" fmla="*/ 574560 w 8610480"/>
                    <a:gd name="textAreaRight" fmla="*/ 8035920 w 8610480"/>
                    <a:gd name="textAreaTop" fmla="*/ 574560 h 4876920"/>
                    <a:gd name="textAreaBottom" fmla="*/ 4302360 h 4876920"/>
                  </a:gdLst>
                  <a:ahLst/>
                  <a:rect l="textAreaLeft" t="textAreaTop" r="textAreaRight" b="textAreaBottom"/>
                  <a:pathLst>
                    <a:path w="38135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535" y="21600"/>
                      </a:lnTo>
                      <a:arcTo wR="3600" hR="3600" stAng="10800000" swAng="5400000"/>
                      <a:lnTo>
                        <a:pt x="38135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" name="Picture 7" descr="BD20657_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71640" y="1412640"/>
                  <a:ext cx="716292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BD20657_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2920" y="5516280"/>
                  <a:ext cx="716292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48" name="Object 9"/>
            <p:cNvGraphicFramePr/>
            <p:nvPr/>
          </p:nvGraphicFramePr>
          <p:xfrm>
            <a:off x="6732720" y="3644640"/>
            <a:ext cx="12031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32720" y="3644640"/>
                      <a:ext cx="12031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Rectangle 10"/>
          <p:cNvSpPr/>
          <p:nvPr/>
        </p:nvSpPr>
        <p:spPr>
          <a:xfrm>
            <a:off x="0" y="307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627280" y="2492280"/>
            <a:ext cx="3960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700360" y="2133720"/>
            <a:ext cx="417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上有个魔术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爱给大家变戏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变猪变羊又变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得大家笑哈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0" y="333360"/>
            <a:ext cx="2556000" cy="358920"/>
          </a:xfrm>
          <a:prstGeom prst="cloudCallout">
            <a:avLst>
              <a:gd name="adj1" fmla="val 67888"/>
              <a:gd name="adj2" fmla="val 202212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276720" y="549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    谜 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2006090803465241000"/>
          <p:cNvPicPr/>
          <p:nvPr/>
        </p:nvPicPr>
        <p:blipFill>
          <a:blip r:embed="rId1"/>
          <a:stretch/>
        </p:blipFill>
        <p:spPr>
          <a:xfrm>
            <a:off x="-299880" y="-223920"/>
            <a:ext cx="9748800" cy="73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238400" y="2943360"/>
            <a:ext cx="6940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这篇课文按照火烧云从上来到下去的顺序可以把课文分为几部分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怎样分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每部分讲了什么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WordArt 4" descr=""/>
          <p:cNvPicPr/>
          <p:nvPr/>
        </p:nvPicPr>
        <p:blipFill>
          <a:blip r:embed="rId2"/>
          <a:stretch/>
        </p:blipFill>
        <p:spPr>
          <a:xfrm>
            <a:off x="865080" y="596880"/>
            <a:ext cx="5389560" cy="19573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00731012354437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找出生字——为生字找朋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檀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盈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g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凶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庙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惚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紫檀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笑盈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寺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恍恍惚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5579"/>
          <p:cNvPicPr/>
          <p:nvPr/>
        </p:nvPicPr>
        <p:blipFill>
          <a:blip r:embed="rId1"/>
          <a:srcRect l="0" t="0" r="1661" b="12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认识新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紫檀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笑盈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梨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百合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葡萄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凶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模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恍恍惚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茄子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庙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1219320"/>
            <a:ext cx="882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云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猪     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盈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彤彤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百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紫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猛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门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必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紫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色       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恍恍惚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00720" y="0"/>
            <a:ext cx="464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晚饭过后，火烧云上来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霞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照得小孩子的脸红红的。大白狗变成红的了。红公鸡变成金的了。黑母鸡变成紫檀色的了。喂猪的老爷爷在墙根靠着，笑盈盈地看着他的两头小白猪变成小金猪了。他刚想说 “你们也变了”，旁边走来个乘凉的人对他说：“您老人家必要高寿，您老是金胡子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0" y="0"/>
          <a:ext cx="4495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４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692360" y="476280"/>
            <a:ext cx="64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大白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公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黑母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紫檀色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00000" y="3213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99f7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像这样三个或三个以上结构相似、语言一致、意思紧密联系的短语或句子连成一串的修辞手法，叫“排比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776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3" descr=""/>
          <p:cNvPicPr/>
          <p:nvPr/>
        </p:nvPicPr>
        <p:blipFill>
          <a:blip r:embed="rId2"/>
          <a:stretch/>
        </p:blipFill>
        <p:spPr>
          <a:xfrm>
            <a:off x="1206360" y="749160"/>
            <a:ext cx="691380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晚饭过后，火烧云上来了。霞光照得小孩子的脸红红的。大白狗变成红的了。红公鸡变成金的了。喂猪的老头儿在墙根靠着，笑盈盈地看着他的两头小白猪变成小金猪了。他刚想说：“你们也变了……”旁边走来了个乘凉的人对他说：“您老人家必要高寿，您老是金胡子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上的云从西边一直烧到东边，红彤彤的，好像是天空着了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个地方的火烧云变化极多，一会儿红彤彤的，一会儿金灿灿的，一会儿半紫半黄，一会儿半灰半百合色。葡萄灰、梨黄、茄子紫，这些颜色天空都有。还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Z157_7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红霞（红彤彤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霞（云霞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彩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霞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五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缤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纷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朝霞（早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4000" spc="-1" strike="noStrike" u="sng">
                <a:solidFill>
                  <a:srgbClr val="ffff66"/>
                </a:solidFill>
                <a:uFillTx/>
                <a:latin typeface="Times New Roman"/>
              </a:rPr>
              <a:t>晚霞（晚上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3809880" y="2819520"/>
            <a:ext cx="152640" cy="251460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63720" y="911160"/>
            <a:ext cx="71611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90a74"/>
                </a:solidFill>
                <a:latin typeface="Times New Roman"/>
              </a:rPr>
              <a:t>作者从哪两方面讲了火烧云的变化</a:t>
            </a:r>
            <a:r>
              <a:rPr b="1" lang="zh-CN" sz="6600" spc="-1" strike="noStrike">
                <a:solidFill>
                  <a:srgbClr val="190a74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908000" y="386064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颜色、  形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1" name="chimes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6半灰"/>
          <p:cNvPicPr/>
          <p:nvPr/>
        </p:nvPicPr>
        <p:blipFill>
          <a:blip r:embed="rId1"/>
          <a:stretch/>
        </p:blipFill>
        <p:spPr>
          <a:xfrm>
            <a:off x="0" y="3500280"/>
            <a:ext cx="3132000" cy="2076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44039"/>
          <p:cNvPicPr/>
          <p:nvPr/>
        </p:nvPicPr>
        <p:blipFill>
          <a:blip r:embed="rId2"/>
          <a:stretch/>
        </p:blipFill>
        <p:spPr>
          <a:xfrm>
            <a:off x="3200400" y="35053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J0144357"/>
          <p:cNvPicPr/>
          <p:nvPr/>
        </p:nvPicPr>
        <p:blipFill>
          <a:blip r:embed="rId3"/>
          <a:stretch/>
        </p:blipFill>
        <p:spPr>
          <a:xfrm>
            <a:off x="0" y="0"/>
            <a:ext cx="3745080" cy="245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5半紫"/>
          <p:cNvPicPr/>
          <p:nvPr/>
        </p:nvPicPr>
        <p:blipFill>
          <a:blip r:embed="rId4"/>
          <a:stretch/>
        </p:blipFill>
        <p:spPr>
          <a:xfrm>
            <a:off x="4932360" y="0"/>
            <a:ext cx="421164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97344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金灿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260400" y="256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半紫半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J0148849-p"/>
          <p:cNvPicPr/>
          <p:nvPr/>
        </p:nvPicPr>
        <p:blipFill>
          <a:blip r:embed="rId5"/>
          <a:stretch/>
        </p:blipFill>
        <p:spPr>
          <a:xfrm>
            <a:off x="6443640" y="3500280"/>
            <a:ext cx="2700360" cy="2089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891360" y="580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半灰半百合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398480" y="58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茄子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7576920" y="573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梨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3红通通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J0144357"/>
          <p:cNvPicPr/>
          <p:nvPr/>
        </p:nvPicPr>
        <p:blipFill>
          <a:blip r:embed="rId2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5半紫"/>
          <p:cNvPicPr/>
          <p:nvPr/>
        </p:nvPicPr>
        <p:blipFill>
          <a:blip r:embed="rId3"/>
          <a:srcRect l="2381" t="0" r="1563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6半灰"/>
          <p:cNvPicPr/>
          <p:nvPr/>
        </p:nvPicPr>
        <p:blipFill>
          <a:blip r:embed="rId4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0099"/>
          <p:cNvPicPr/>
          <p:nvPr/>
        </p:nvPicPr>
        <p:blipFill>
          <a:blip r:embed="rId5"/>
          <a:srcRect l="3144" t="1535" r="2360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148849-p"/>
          <p:cNvPicPr/>
          <p:nvPr/>
        </p:nvPicPr>
        <p:blipFill>
          <a:blip r:embed="rId6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8"/>
          <p:cNvGrpSpPr/>
          <p:nvPr/>
        </p:nvGrpSpPr>
        <p:grpSpPr>
          <a:xfrm>
            <a:off x="0" y="0"/>
            <a:ext cx="9144000" cy="4580640"/>
            <a:chOff x="0" y="0"/>
            <a:chExt cx="9144000" cy="4580640"/>
          </a:xfrm>
        </p:grpSpPr>
        <p:grpSp>
          <p:nvGrpSpPr>
            <p:cNvPr id="114" name="Group 9"/>
            <p:cNvGrpSpPr/>
            <p:nvPr/>
          </p:nvGrpSpPr>
          <p:grpSpPr>
            <a:xfrm>
              <a:off x="0" y="0"/>
              <a:ext cx="9144000" cy="4580640"/>
              <a:chOff x="0" y="0"/>
              <a:chExt cx="9144000" cy="4580640"/>
            </a:xfrm>
          </p:grpSpPr>
          <p:grpSp>
            <p:nvGrpSpPr>
              <p:cNvPr id="115" name="Group 10"/>
              <p:cNvGrpSpPr/>
              <p:nvPr/>
            </p:nvGrpSpPr>
            <p:grpSpPr>
              <a:xfrm>
                <a:off x="0" y="2219400"/>
                <a:ext cx="9144000" cy="2361240"/>
                <a:chOff x="0" y="2219400"/>
                <a:chExt cx="9144000" cy="2361240"/>
              </a:xfrm>
            </p:grpSpPr>
            <p:grpSp>
              <p:nvGrpSpPr>
                <p:cNvPr id="116" name="Group 11"/>
                <p:cNvGrpSpPr/>
                <p:nvPr/>
              </p:nvGrpSpPr>
              <p:grpSpPr>
                <a:xfrm>
                  <a:off x="0" y="2219400"/>
                  <a:ext cx="6372360" cy="2361240"/>
                  <a:chOff x="0" y="2219400"/>
                  <a:chExt cx="6372360" cy="2361240"/>
                </a:xfrm>
              </p:grpSpPr>
              <p:pic>
                <p:nvPicPr>
                  <p:cNvPr id="117" name="Picture 12" descr="6半灰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219400"/>
                    <a:ext cx="313200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8" name="Picture 13" descr="0099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337480"/>
                    <a:ext cx="32403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9" name="Picture 14" descr="J0148849-p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00720" y="2337480"/>
                  <a:ext cx="2843280" cy="224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0" name="Picture 15" descr="5半紫"/>
              <p:cNvPicPr/>
              <p:nvPr/>
            </p:nvPicPr>
            <p:blipFill>
              <a:blip r:embed="rId10"/>
              <a:stretch/>
            </p:blipFill>
            <p:spPr>
              <a:xfrm>
                <a:off x="6300720" y="0"/>
                <a:ext cx="2843280" cy="2337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Group 16"/>
            <p:cNvGrpSpPr/>
            <p:nvPr/>
          </p:nvGrpSpPr>
          <p:grpSpPr>
            <a:xfrm>
              <a:off x="0" y="0"/>
              <a:ext cx="6335640" cy="2456640"/>
              <a:chOff x="0" y="0"/>
              <a:chExt cx="6335640" cy="2456640"/>
            </a:xfrm>
          </p:grpSpPr>
          <p:pic>
            <p:nvPicPr>
              <p:cNvPr id="122" name="Picture 17" descr="J0144357"/>
              <p:cNvPicPr/>
              <p:nvPr/>
            </p:nvPicPr>
            <p:blipFill>
              <a:blip r:embed="rId11"/>
              <a:stretch/>
            </p:blipFill>
            <p:spPr>
              <a:xfrm>
                <a:off x="3203640" y="0"/>
                <a:ext cx="3132000" cy="24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8" descr="3红通通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3203640" cy="2456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" name="Text Box 19"/>
          <p:cNvSpPr/>
          <p:nvPr/>
        </p:nvSpPr>
        <p:spPr>
          <a:xfrm>
            <a:off x="900000" y="522936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 地方的火烧云变化极多，一会儿红彤彤的，一会儿金灿灿的，一会儿半紫半黄， 一会儿半灰半百合色。葡萄灰，梨黄，茄子紫，这些颜色天空都有，还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93070"/>
          <p:cNvPicPr/>
          <p:nvPr/>
        </p:nvPicPr>
        <p:blipFill>
          <a:blip r:embed="rId1"/>
          <a:stretch/>
        </p:blipFill>
        <p:spPr>
          <a:xfrm>
            <a:off x="108000" y="-968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"/>
          <p:cNvSpPr txBox="1"/>
          <p:nvPr/>
        </p:nvSpPr>
        <p:spPr>
          <a:xfrm>
            <a:off x="1619280" y="981000"/>
            <a:ext cx="6095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火烧云的变化极多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174040" y="2421000"/>
            <a:ext cx="572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还有什么变化极多呢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会儿，天空出现一匹马，马头向南，马尾向西。马是跪着的，像等人骑上它的背，它才站起来似的。过了两三秒钟，那匹马大起来了，腿伸开了，脖子也长了，尾巴可不见了。看的人正在寻找马尾巴，那匹马变模糊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忽然又来了一条大狗。那条大狗十分凶猛，在向前跑，后边似乎还跟着好几条小狗。跑这跑着，小狗不知哪里去了，大狗也不见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着又来了一头大狮子，跟庙门前的石头狮子一模一样，也那么大，也那样蹲着，很威武很镇静的蹲着。可是一转眼就变了，再也找不着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时恍恍惚惚的，天空里又像这个又像那个，其实什么也不像，什么也看不清了，必须低下头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揉一揉眼睛，沉静一会儿再看。可是天空偏偏不等待那些爱好它的孩子。一会儿工夫，火烧云下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92040" y="1699920"/>
            <a:ext cx="63324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是跪着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783080" y="444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比较下列两个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185200" y="3095640"/>
            <a:ext cx="497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是跪着的，像等人骑上它的背，它才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来似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45880" y="914400"/>
            <a:ext cx="6795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作者描写火烧云，主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抓住了火烧云的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(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、和（   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的特点来进行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204880" y="3809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变化极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38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1041120" y="2514600"/>
            <a:ext cx="6049800" cy="2212200"/>
            <a:chOff x="1041120" y="2514600"/>
            <a:chExt cx="6049800" cy="2212200"/>
          </a:xfrm>
        </p:grpSpPr>
        <p:sp>
          <p:nvSpPr>
            <p:cNvPr id="141" name="Text Box 6"/>
            <p:cNvSpPr/>
            <p:nvPr/>
          </p:nvSpPr>
          <p:spPr>
            <a:xfrm>
              <a:off x="6596280" y="2514600"/>
              <a:ext cx="49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颜色、形状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1041120" y="3809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极多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chimes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84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二、按课文原句填空，想一想所填词语的作用，把自己思考的结果说给同学听听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天上的云从西边一直（烧）东边，红通通的，好像是（天空着了火 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这地方的火烧云（变化极多 ），　一　会　儿　　（红彤彤），　一会儿　（金烂烂的），　一　会　儿　（半紫半黄），一会儿（半灰白半百合色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三、摘录课文中描写火烧云颜色多，而且变化快的句子，边抄边想，作者为什么能把火烧云描写得那样生动具体，你从中学到了哪些观察的方法？在小组中交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四、在作者的眼里火烧云是那么好看，那么有趣，你从中受到什么启示。把自己的想法与同学交流，再简要地写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95280" y="404640"/>
            <a:ext cx="30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想想说说做做：</a:t>
            </a:r>
            <a:endParaRPr b="1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9640" y="6093000"/>
            <a:ext cx="217800" cy="287280"/>
          </a:xfrm>
          <a:custGeom>
            <a:avLst/>
            <a:gdLst>
              <a:gd name="textAreaLeft" fmla="*/ 14040 w 217800"/>
              <a:gd name="textAreaRight" fmla="*/ 203760 w 21780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479">
                <a:moveTo>
                  <a:pt x="0" y="0"/>
                </a:moveTo>
                <a:lnTo>
                  <a:pt x="21600" y="0"/>
                </a:lnTo>
                <a:lnTo>
                  <a:pt x="21600" y="28479"/>
                </a:lnTo>
                <a:lnTo>
                  <a:pt x="0" y="28479"/>
                </a:lnTo>
                <a:close/>
              </a:path>
              <a:path fill="lightenLess" w="21600" h="284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79">
                <a:moveTo>
                  <a:pt x="21600" y="0"/>
                </a:moveTo>
                <a:lnTo>
                  <a:pt x="21600" y="28479"/>
                </a:lnTo>
                <a:lnTo>
                  <a:pt x="20200" y="27079"/>
                </a:lnTo>
                <a:lnTo>
                  <a:pt x="20200" y="1400"/>
                </a:lnTo>
                <a:close/>
              </a:path>
              <a:path fill="darkenLess" w="21600" h="28479">
                <a:moveTo>
                  <a:pt x="21600" y="28479"/>
                </a:moveTo>
                <a:lnTo>
                  <a:pt x="0" y="28479"/>
                </a:lnTo>
                <a:lnTo>
                  <a:pt x="1400" y="27079"/>
                </a:lnTo>
                <a:lnTo>
                  <a:pt x="20200" y="27079"/>
                </a:lnTo>
                <a:close/>
              </a:path>
              <a:path fill="lighten" w="21600" h="28479">
                <a:moveTo>
                  <a:pt x="0" y="284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79"/>
                </a:lnTo>
                <a:close/>
              </a:path>
              <a:path fill="darken" w="21600" h="28479">
                <a:moveTo>
                  <a:pt x="14299" y="14240"/>
                </a:moveTo>
                <a:lnTo>
                  <a:pt x="3794" y="21246"/>
                </a:lnTo>
                <a:lnTo>
                  <a:pt x="3794" y="7233"/>
                </a:lnTo>
                <a:close/>
              </a:path>
              <a:path fill="darken" w="21600" h="28479">
                <a:moveTo>
                  <a:pt x="16144" y="7233"/>
                </a:moveTo>
                <a:lnTo>
                  <a:pt x="16144" y="21246"/>
                </a:lnTo>
                <a:lnTo>
                  <a:pt x="17806" y="21246"/>
                </a:lnTo>
                <a:lnTo>
                  <a:pt x="17806" y="723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5076720" y="1989000"/>
            <a:ext cx="432000" cy="2876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195640" y="2276640"/>
            <a:ext cx="158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500720" y="2565360"/>
            <a:ext cx="1295280" cy="35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258920" y="2924280"/>
            <a:ext cx="107964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4643280" y="2924280"/>
            <a:ext cx="1224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332000" y="3284640"/>
            <a:ext cx="1224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356000" y="3284640"/>
            <a:ext cx="2160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段落大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第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1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自然段：</a:t>
            </a:r>
            <a:r>
              <a:rPr b="0" lang="zh-CN" sz="4000" spc="-1" strike="noStrike" u="sng">
                <a:solidFill>
                  <a:srgbClr val="6600cc"/>
                </a:solidFill>
                <a:uFillTx/>
                <a:latin typeface="Times New Roman"/>
              </a:rPr>
              <a:t>写火烧云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第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2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自然段：</a:t>
            </a:r>
            <a:r>
              <a:rPr b="0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写叫火烧云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第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3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自然段：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写火烧云各种各样的颜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第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4-6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自然段：</a:t>
            </a:r>
            <a:r>
              <a:rPr b="0" lang="zh-CN" sz="4000" spc="-1" strike="noStrike" u="sng">
                <a:solidFill>
                  <a:srgbClr val="00cc99"/>
                </a:solidFill>
                <a:uFillTx/>
                <a:latin typeface="Times New Roman"/>
              </a:rPr>
              <a:t>写火烧云的各种形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第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7</a:t>
            </a:r>
            <a:r>
              <a:rPr b="0" lang="zh-CN" sz="4000" spc="-1" strike="noStrike" u="sng">
                <a:solidFill>
                  <a:srgbClr val="ff9933"/>
                </a:solidFill>
                <a:uFillTx/>
                <a:latin typeface="Times New Roman"/>
              </a:rPr>
              <a:t>自然段：</a:t>
            </a:r>
            <a:r>
              <a:rPr b="0" lang="zh-CN" sz="4000" spc="-1" strike="noStrike" u="sng">
                <a:solidFill>
                  <a:srgbClr val="6600cc"/>
                </a:solidFill>
                <a:uFillTx/>
                <a:latin typeface="Times New Roman"/>
              </a:rPr>
              <a:t>写火烧云下去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964820220070625214350014_640"/>
          <p:cNvPicPr/>
          <p:nvPr/>
        </p:nvPicPr>
        <p:blipFill>
          <a:blip r:embed="rId1"/>
          <a:srcRect l="0" t="16942" r="0" b="16010"/>
          <a:stretch/>
        </p:blipFill>
        <p:spPr>
          <a:xfrm>
            <a:off x="0" y="107172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什么人们又叫晚霞</a:t>
            </a:r>
            <a:r>
              <a:rPr b="0" i="1" lang="zh-CN" sz="4800" spc="-1" strike="noStrike">
                <a:solidFill>
                  <a:srgbClr val="ff00ff"/>
                </a:solidFill>
                <a:latin typeface="Times New Roman"/>
              </a:rPr>
              <a:t>火烧云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上的云从西边一直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东边，红彤彤的，好像是天空着了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720880" y="228600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以日出为内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写一段话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99"/>
                </a:solidFill>
                <a:latin typeface="Arial"/>
                <a:ea typeface="华文彩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99"/>
                </a:solidFill>
                <a:latin typeface="华文行楷"/>
                <a:ea typeface="华文行楷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huo"/>
          <p:cNvPicPr/>
          <p:nvPr/>
        </p:nvPicPr>
        <p:blipFill>
          <a:blip r:embed="rId2"/>
          <a:stretch/>
        </p:blipFill>
        <p:spPr>
          <a:xfrm>
            <a:off x="2571840" y="1643040"/>
            <a:ext cx="403848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6112302465810018"/>
          <p:cNvPicPr/>
          <p:nvPr/>
        </p:nvPicPr>
        <p:blipFill>
          <a:blip r:embed="rId1"/>
          <a:stretch/>
        </p:blipFill>
        <p:spPr>
          <a:xfrm>
            <a:off x="-320760" y="-239760"/>
            <a:ext cx="9747360" cy="73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60503110456844"/>
          <p:cNvPicPr/>
          <p:nvPr/>
        </p:nvPicPr>
        <p:blipFill>
          <a:blip r:embed="rId1"/>
          <a:srcRect l="0" t="0" r="0" b="52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0076181028538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61227_dc_skill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3l8ORmAC"/>
          <p:cNvPicPr/>
          <p:nvPr/>
        </p:nvPicPr>
        <p:blipFill>
          <a:blip r:embed="rId1"/>
          <a:srcRect l="0" t="0" r="0" b="3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34:39Z</dcterms:created>
  <dc:creator/>
  <dc:description/>
  <dc:language>en-US</dc:language>
  <cp:lastModifiedBy>dreamsummit</cp:lastModifiedBy>
  <dcterms:modified xsi:type="dcterms:W3CDTF">2016-04-19T07:23:4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