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5F744-A24D-4775-823B-64087A94C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B649-BFEB-40D1-9B16-3E25CB197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9C3A-FD84-4E78-AEC6-7B6A8040A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13455-73B3-4C50-971C-6443350B4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A72E1-D684-41C0-A6AD-E02E82B7F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634AE-1FE4-4613-A41B-B9FE3E9BE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3EF06-0A78-4876-8386-F8624F19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19116-687B-4EBE-8329-B575335F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08AD-C3FA-4B0E-B7AC-EF77BF316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89695-F7D6-4BAC-B4E5-E2CC5E6A6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0B3D2-295D-4D1B-9B28-DF3B3C82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4BB54-4781-4271-BC3C-3688350E9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CB973-E49A-4F37-852D-87DE8505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16D59-841A-41C9-9BB5-0D4AC5A67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0706-BED7-455D-999B-F7D9702D09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1765E-CCFB-4C4F-A2E5-540767EAC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BB4ED-CF41-40EC-9B58-AADF52DD7B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40C6-78F6-4E93-BF0F-FD221ED0B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4D3D7-3398-4104-9D0E-8439F74BC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B00909-4733-4EFD-8EDC-66C216D66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08E448-1483-4CAD-A9E3-CF2777A5B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171588-178C-4E71-B366-A57C76C0C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9048-1428-401F-9F0D-0E4CF84E9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AA0D8-5E22-4E33-A185-39FFCA13E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1C9DE1-8AEB-4A87-AB71-78ECA6086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011188-5F58-47D3-8DBB-74B2A939D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A35E1-2964-4FD1-B688-13D515C08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286F67-09CB-426E-8C76-69038E83F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D352C-1269-4ED2-8D20-7FD3FA2F3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72FE84-DA43-4CC2-9F28-A0C28B1A2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ECF7A8-089B-48A6-BCE6-535B3ED17F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04AD76-DE9F-49F4-9F5F-100AE30F4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432A00-2570-4CFC-B9A6-8B3BD4B5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26FA-5D71-45F9-8742-5D99DA5F1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1FF4E4-1E39-4F50-A39C-DC8C2D377E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FD9BB2-04CB-47A4-8C43-07008C571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DE3897-A761-430F-B5F4-84976EBAB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AD8B6E-50AC-4E10-8DE1-54C882405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4D48E-5B5F-4C8F-92B3-7EE56CCF0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E07BC3-9852-4E18-90F0-AE9E9B565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5C7A0E-C01C-4AD0-AEAE-F6BE69897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A7E827-1DE8-4254-9A1C-BA2E512CC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2081E-2A6E-46AE-90E4-6D04AFF96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768D-6BD5-468C-AC4C-96D9A07A3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BD078-A57E-4236-930F-50A765E36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0FA2-5A1F-430A-B39E-A96EDCDD9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D645-1510-4973-91CE-5B1CCCC2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CC36-9163-4F59-AF83-444C8E2F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4F3D8-59A3-4E60-B40A-80EC0A3514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5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87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59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17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89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48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37C9-48BC-4BCB-8A5C-3D45EE459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148" name=""/>
              <p:cNvSpPr/>
              <p:nvPr/>
            </p:nvSpPr>
            <p:spPr>
              <a:xfrm>
                <a:off x="76320" y="175428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6320" y="198432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6320" y="221148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6320" y="244152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6320" y="267192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6320" y="38149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76320" y="42735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6320" y="47307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76320" y="51897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6320" y="564696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6320" y="610416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6320" y="656136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dt" idx="7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 type="ftr" idx="8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 type="sldNum" idx="9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CDBA1-67E7-4BA7-B681-B5E8F61AB1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219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66ff"/>
                </a:gs>
                <a:gs pos="50000">
                  <a:srgbClr val="ffff00"/>
                </a:gs>
                <a:gs pos="100000">
                  <a:srgbClr val="33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221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76320" y="267156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6320" y="31287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76320" y="3585960"/>
                <a:ext cx="152280" cy="1526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76320" y="42717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6320" y="47289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620640"/>
                <a:ext cx="152280" cy="1522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6320" y="1076400"/>
                <a:ext cx="152280" cy="15372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6320" y="1536480"/>
                <a:ext cx="152280" cy="150840"/>
              </a:xfrm>
              <a:prstGeom prst="rect">
                <a:avLst/>
              </a:prstGeom>
              <a:solidFill>
                <a:srgbClr val="3366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dt" idx="10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ftr" idx="11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sldNum" idx="12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69089-78BA-4AFE-BB43-1138CEEE9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263,11,&#24187;&#28783;&#29255; 11" TargetMode="Externa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hyperlink" Target="../Local%2520Settings/Temporary%2520Internet%2520Files/Content.IE5/RK0DC2YI/&#26543;&#21494;&#34676;&#34678;&#8212;&#8212;&#38771;&#21551;&#23792;.ppt" TargetMode="External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0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8101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spcBef>
                <a:spcPts val="50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6600"/>
                </a:solidFill>
                <a:latin typeface="Times New Roman"/>
                <a:ea typeface="隶书"/>
              </a:rPr>
              <a:t>放声朗读并思考</a:t>
            </a:r>
            <a:endParaRPr b="0" lang="en-US" sz="8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04292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◆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枯叶蝴蝶产地在哪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枯叶蝴蝶的特点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◆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枯叶蝴蝶怎样伪装自己？（用原文回答），伪装的目的是什么？伪装的结果是什么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ff"/>
                </a:solidFill>
                <a:latin typeface="Times New Roman"/>
              </a:rPr>
              <a:t>◆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人们为什么给这种蝴蝶取名“枯叶蝶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它为什么会濒临灭绝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1227240" y="1341360"/>
            <a:ext cx="791676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▼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选最喜欢的语句读一读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▼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产生感觉的地方标一标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▼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紧抓句子轻声读品一品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   </a:t>
            </a: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▼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用几句评论的话在句子旁侧写一写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332000" y="3573360"/>
            <a:ext cx="781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1</a:t>
            </a:r>
            <a:r>
              <a:rPr b="1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、我喜欢————一（几）句（段），因为它写出了—————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、我最欣赏课文的—————一句，——词用得好，好在—————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3</a:t>
            </a:r>
            <a:r>
              <a:rPr b="1" lang="zh-CN" sz="2800" spc="-1" strike="noStrike">
                <a:solidFill>
                  <a:srgbClr val="ffffff"/>
                </a:solidFill>
                <a:latin typeface="方正舒体"/>
                <a:ea typeface="方正舒体"/>
              </a:rPr>
              <a:t>、我对——————一句感触很深，它告诉我们————————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2843280" y="260280"/>
            <a:ext cx="4824360" cy="105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634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品评语言 </a:t>
            </a:r>
            <a:endParaRPr b="1" lang="en-US" sz="4000" spc="1" strike="noStrike">
              <a:ln w="255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50920" y="0"/>
            <a:ext cx="69102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它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收敛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它的花纹、图案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隐藏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它的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粉墨、彩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逸出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繁华的花丛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停止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它翱翔的姿态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变成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一张憔悴的，干枯了的，甚至不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枯黄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，而是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Arial"/>
              </a:rPr>
              <a:t>枯稿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如同</a:t>
            </a:r>
            <a:r>
              <a:rPr b="1" lang="zh-CN" sz="2800" spc="-1" strike="noStrike" u="sng">
                <a:solidFill>
                  <a:srgbClr val="ffffff"/>
                </a:solidFill>
                <a:uFillTx/>
                <a:latin typeface="Arial"/>
              </a:rPr>
              <a:t>死灰颜色</a:t>
            </a:r>
            <a:r>
              <a:rPr b="1" lang="zh-CN" sz="2800" spc="-1" strike="noStrike">
                <a:solidFill>
                  <a:srgbClr val="ffffff"/>
                </a:solidFill>
                <a:latin typeface="Arial"/>
              </a:rPr>
              <a:t>的枯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2781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24000" y="2205000"/>
            <a:ext cx="837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这一段描写细腻，“收敛”“隐藏”“逸出”“停止”，从这些动词中我们可以读出了枯叶蝴蝶的伪装技术高超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此外，描写了一系列的颜色：“粉墨、彩色、枯黄、枯槁、死灰颜色”。通过对比，将枯叶蝴蝶阖起翅膀与张开翅膀时迥然不同的颜色描摹出来，鲜明的表现了枯叶蝴蝶伪装得彻底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14400" y="4816440"/>
            <a:ext cx="91296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ff"/>
                </a:solidFill>
                <a:latin typeface="Arial"/>
              </a:rPr>
              <a:t>        </a:t>
            </a: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枯黄，只是写出了他的色彩；枯槁，不仅写出了它的色彩，更    写出了它的神态。同时运用比拟手法，用描写人的容貌的“枯槁”比拟蝴蝶翅膀的颜色，形象而且具有象征意义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1432080" y="316872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2771640" y="620640"/>
            <a:ext cx="482472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 </a:t>
            </a:r>
            <a:r>
              <a:rPr b="1" lang="zh-CN" sz="40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合作释疑</a:t>
            </a:r>
            <a:endParaRPr b="1" lang="en-US" sz="4000" spc="1" strike="noStrike">
              <a:ln w="255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33" name=""/>
          <p:cNvSpPr/>
          <p:nvPr/>
        </p:nvSpPr>
        <p:spPr>
          <a:xfrm>
            <a:off x="1763640" y="2076480"/>
            <a:ext cx="73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zh-CN" sz="4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跳读课文，找出难以理解的句子或提出不能解决的问题，组内讨论交流。小组长记录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黑体"/>
                <a:ea typeface="黑体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762120" y="457200"/>
            <a:ext cx="4876560" cy="71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ccccff"/>
                </a:solidFill>
                <a:uFillTx/>
                <a:latin typeface="Times New Roman"/>
                <a:ea typeface="隶书"/>
                <a:hlinkClick r:id="rId1"/>
              </a:rPr>
              <a:t>理解下列句子的含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55640" y="1125360"/>
            <a:ext cx="77724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它还是逃不脱被捕捉的命运，不仅因为它的美丽，还因为它那用来隐蔽它的美丽的枯槁与憔悴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有一种生物比它还聪明，这种生物的特技之一是装假作伪，因此装假作伪这种行径是瞒不过这种生物——人的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国家的禁止更增加了他的身价。枯叶蝶真是因此要绝对的绝灭了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我要我的翅膀两面都光彩夺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143000" y="3715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0" y="836280"/>
            <a:ext cx="9144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它还是逃不脱被捕捉的命运，不仅因为它的美丽，还因为它那用来隐蔽它的美丽的枯槁与憔悴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含义：美丽的蝴蝶不难发现，但隐蔽自身美丽的蝴蝶却是罕见的，因而他身价不菲。枯叶蝶“被捕”就说因为它善于伪装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有一种生物比它还聪明，这种生物的特技之一是装假作伪，因此装假作伪这种行径是瞒不过这种生物——人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含义：“装假作伪”的行为，前者指人的，后者指蝶的，这句话表现力作者对“装假作伪”者的憎恶，对真善美的渴望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wipe dir="d"/>
  </p:transition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3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" dur="500"/>
                                        <p:tgtEl>
                                          <p:spTgt spid="3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3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141560" y="304920"/>
            <a:ext cx="77724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11280" y="691920"/>
            <a:ext cx="835344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国家的禁止更增加了他的身价。枯叶蝶真是因此要绝对的绝灭了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含义：保护濒危物种就是呵护我们生存家园的完整，一些见利忘义者置国家法律于不顾，为金钱铤而走险。“绝对”指没有任何条件、不容置疑的意思。枯叶蝶的下场可想而知。表明作者对蝶命运的忧虑，对利欲熏心者的愤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、“我要我的翅膀两面都光彩夺目。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含义：这句话运用比喻修辞，“翅膀两面”指人的内心和外在行为。这句话指做人要表里如一，要外在美和内在美统一。是议论句，总结全文，点名主旨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 rot="21453600">
            <a:off x="0" y="0"/>
            <a:ext cx="4246560" cy="127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2727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53966" dir="2700000" blurRad="0" rotWithShape="0">
                    <a:srgbClr val="c0c0c0">
                      <a:alpha val="79000"/>
                    </a:srgbClr>
                  </a:outerShdw>
                </a:effectLst>
                <a:latin typeface="隶书"/>
              </a:rPr>
              <a:t>放飞思绪</a:t>
            </a:r>
            <a:endParaRPr b="1" lang="en-US" sz="4000" spc="1" strike="noStrike">
              <a:ln w="255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53966" dir="2700000" blurRad="0" rotWithShape="0">
                  <a:srgbClr val="c0c0c0">
                    <a:alpha val="79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1" name=""/>
          <p:cNvSpPr/>
          <p:nvPr/>
        </p:nvSpPr>
        <p:spPr>
          <a:xfrm>
            <a:off x="1136520" y="1197000"/>
            <a:ext cx="8007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       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由枯叶蝴蝶的悲剧你联想到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黑体"/>
              </a:rPr>
              <a:t>了什么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提示：可多角度立意，可以抨击那些见利忘义者，可以联想保护濒危动物的重要性，谈及人类与自然的和谐相处等方面。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2987640" y="476280"/>
            <a:ext cx="51832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50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5560">
                  <a:solidFill>
                    <a:srgbClr val="ff00ff"/>
                  </a:solidFill>
                  <a:miter/>
                </a:ln>
                <a:solidFill>
                  <a:srgbClr val="00ff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隶书"/>
              </a:rPr>
              <a:t>心灵对话 </a:t>
            </a:r>
            <a:endParaRPr b="1" lang="en-US" sz="4000" spc="1" strike="noStrike">
              <a:ln w="25560">
                <a:solidFill>
                  <a:srgbClr val="ff00ff"/>
                </a:solidFill>
                <a:miter/>
              </a:ln>
              <a:solidFill>
                <a:srgbClr val="00ff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隶书"/>
              <a:ea typeface="隶书"/>
            </a:endParaRPr>
          </a:p>
        </p:txBody>
      </p:sp>
      <p:sp>
        <p:nvSpPr>
          <p:cNvPr id="343" name=""/>
          <p:cNvSpPr/>
          <p:nvPr/>
        </p:nvSpPr>
        <p:spPr>
          <a:xfrm>
            <a:off x="2124000" y="2133720"/>
            <a:ext cx="8050320" cy="42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1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、枯叶蝴蝶，我想对你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：“————————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2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、人类，我要对你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：“—————————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3</a:t>
            </a: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、徐迟先生，我想对您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：“————————”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1763640" y="1844640"/>
            <a:ext cx="676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（一句最简洁、最真诚的话表达心声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ffff"/>
                </a:solidFill>
                <a:latin typeface="Times New Roman"/>
              </a:rPr>
              <a:t>心灵感悟</a:t>
            </a:r>
            <a:endParaRPr b="0" lang="en-US" sz="5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37160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枯叶蝴蝶，我想对你说：生命是宝贵的，生命的旅程也太短暂，既然生命的乐章萌发了嫩芽，就应该让它勇敢地成长，绽放鲜花，结成硕果；既然生命的乐章跳荡着理想的音符，就应该让它灿烂地演绎，讴歌幸福，奏响辉煌。不要不敢面对生命的鲜活，让你的生命，让你的真美在这林林总总的喧嚣中尽情璀璨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人类，我想对你说：你是花的根，环境是未绽的的花苞，根努力，花儿就能开出耀人的美丽。让枯竭和凋落远离地球；让天空湛蓝，河流洁净；让花儿娇艳，让蝴蝶们尽情飞舞吧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徐迟先生，我想对你说：从你富丽润泽的语言中，我感受到了你对生活的激情；从你充满诗意的哲理中，我悟出了做人的真谛。你的远见卓识，滋润了世间芸芸众生的心灵之花。感谢您，徐迟先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3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3132000" y="4581360"/>
            <a:ext cx="3024360" cy="223236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0" y="4149720"/>
            <a:ext cx="3168720" cy="223200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3">
            <a:lum contrast="36000"/>
          </a:blip>
          <a:srcRect l="-284" t="20319" r="12926" b="0"/>
          <a:stretch/>
        </p:blipFill>
        <p:spPr>
          <a:xfrm>
            <a:off x="3203640" y="2205000"/>
            <a:ext cx="3035160" cy="2198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>
            <a:hlinkClick r:id="rId4"/>
          </p:cNvPr>
          <p:cNvPicPr/>
          <p:nvPr/>
        </p:nvPicPr>
        <p:blipFill>
          <a:blip r:embed="rId5"/>
          <a:srcRect l="-1830" t="0" r="8547" b="10004"/>
          <a:stretch/>
        </p:blipFill>
        <p:spPr>
          <a:xfrm>
            <a:off x="6084720" y="404640"/>
            <a:ext cx="3022920" cy="617220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6">
            <a:lum contrast="84000"/>
          </a:blip>
          <a:srcRect l="2515" t="17575" r="0" b="9401"/>
          <a:stretch/>
        </p:blipFill>
        <p:spPr>
          <a:xfrm>
            <a:off x="3209760" y="412920"/>
            <a:ext cx="2981520" cy="171576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 txBox="1"/>
          <p:nvPr/>
        </p:nvSpPr>
        <p:spPr>
          <a:xfrm rot="935400">
            <a:off x="0" y="404280"/>
            <a:ext cx="284328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8513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隶书"/>
              </a:rPr>
              <a:t>考考你的眼力</a:t>
            </a:r>
            <a:endParaRPr b="1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隶书"/>
              <a:ea typeface="隶书"/>
            </a:endParaRPr>
          </a:p>
        </p:txBody>
      </p:sp>
      <p:pic>
        <p:nvPicPr>
          <p:cNvPr id="297" name="zp39_3" descr=""/>
          <p:cNvPicPr/>
          <p:nvPr/>
        </p:nvPicPr>
        <p:blipFill>
          <a:blip r:embed="rId7"/>
          <a:stretch/>
        </p:blipFill>
        <p:spPr>
          <a:xfrm>
            <a:off x="0" y="1844640"/>
            <a:ext cx="3133800" cy="227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68360" y="-126360"/>
            <a:ext cx="8229600" cy="70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小结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普通蝴蝶    美丽 多姿多彩 光彩夺目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00080"/>
                </a:solidFill>
                <a:latin typeface="黑体"/>
                <a:ea typeface="黑体"/>
              </a:rPr>
              <a:t>                 </a:t>
            </a:r>
            <a:r>
              <a:rPr b="0" lang="zh-CN" sz="3200" spc="-1" strike="noStrike">
                <a:solidFill>
                  <a:srgbClr val="800080"/>
                </a:solidFill>
                <a:latin typeface="黑体"/>
                <a:ea typeface="黑体"/>
              </a:rPr>
              <a:t>本真实在    自由飞翔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枯叶蝴蝶    实美丽 却显出死灰  枯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黑体"/>
                <a:ea typeface="黑体"/>
              </a:rPr>
              <a:t>                  </a:t>
            </a:r>
            <a:r>
              <a:rPr b="0" lang="zh-CN" sz="3200" spc="-1" strike="noStrike">
                <a:solidFill>
                  <a:srgbClr val="ffffff"/>
                </a:solidFill>
                <a:latin typeface="黑体"/>
                <a:ea typeface="黑体"/>
              </a:rPr>
              <a:t>装假作伪    被捕捉濒危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哲理    我要我的 翅膀两面都光彩夺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黑体"/>
                <a:ea typeface="黑体"/>
              </a:rPr>
              <a:t>          </a:t>
            </a:r>
            <a:r>
              <a:rPr b="0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我愿自然界的一切都现出他们的真相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启示   生活要真善美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做人要表里如一   内在 外在美统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-335880">
              <a:lnSpc>
                <a:spcPct val="80000"/>
              </a:lnSpc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         </a:t>
            </a:r>
            <a:r>
              <a:rPr b="0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保护环境  保护生物  保护濒危生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588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ffffff"/>
                </a:solidFill>
                <a:latin typeface="Times New Roman"/>
              </a:rPr>
              <a:t>             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0">
    <p:wipe dir="d"/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3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3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3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4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3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3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3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48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539640" y="66600"/>
            <a:ext cx="860436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同学们，崇尚真善美是我们人类永恒的活动，崇尚真善美是我们社会和谐发展，我们的民族阔步向前的奠基石。作为学生，崇尚真善美能陶冶我们的情操，树立正确的人生观、世界观，弘扬和发展校园文化。让我们一切从美出发，学会珍惜，学做诚信人，让我们崇尚真善美，更让美之花在我们校园尽情绽放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0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2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1160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ff66"/>
                </a:solidFill>
                <a:latin typeface="Times New Roman"/>
                <a:ea typeface="隶书"/>
              </a:rPr>
              <a:t>寄语：</a:t>
            </a:r>
            <a:endParaRPr b="0" lang="en-US" sz="8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6000" y="1125000"/>
            <a:ext cx="7556400" cy="508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做一只翅膀两面都光彩夺目的蝴蝶吧！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ffff"/>
                </a:solidFill>
                <a:latin typeface="Times New Roman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我要我的翅膀两面都光彩夺目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我愿这自然界的一切都显出它们的真相。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4266360" y="228600"/>
            <a:ext cx="2192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方正舒体"/>
              </a:rPr>
              <a:t>枯叶蝴蝶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959640" y="1700280"/>
            <a:ext cx="4208760" cy="88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枯叶蝶，又名木叶蝶或枯叶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蛱蝶。一种形似树叶状的蝴蝶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在生物学中经常作为拟态与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护色的著名例证，体长约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30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毫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米，翅展不过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65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毫米。停在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干上是头向下的，酷似一片下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垂的枯叶，足以乱真。在中国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枯叶蝶产于南方省区，四川峨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眉山较多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7162920" y="-152280"/>
            <a:ext cx="1512720" cy="178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3048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小档案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1"/>
          <a:srcRect l="57981" t="0" r="0" b="756"/>
          <a:stretch/>
        </p:blipFill>
        <p:spPr>
          <a:xfrm>
            <a:off x="1116000" y="44280"/>
            <a:ext cx="1195560" cy="680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028000" y="6308640"/>
            <a:ext cx="720720" cy="549360"/>
          </a:xfrm>
          <a:custGeom>
            <a:avLst/>
            <a:gdLst>
              <a:gd name="textAreaLeft" fmla="*/ 34200 w 720720"/>
              <a:gd name="textAreaRight" fmla="*/ 686520 w 720720"/>
              <a:gd name="textAreaTop" fmla="*/ 34200 h 549360"/>
              <a:gd name="textAreaBottom" fmla="*/ 515160 h 549360"/>
            </a:gdLst>
            <a:ahLst/>
            <a:rect l="textAreaLeft" t="textAreaTop" r="textAreaRight" b="textAreaBottom"/>
            <a:pathLst>
              <a:path w="28333" h="21600">
                <a:moveTo>
                  <a:pt x="0" y="0"/>
                </a:moveTo>
                <a:lnTo>
                  <a:pt x="28333" y="0"/>
                </a:lnTo>
                <a:lnTo>
                  <a:pt x="28333" y="21600"/>
                </a:lnTo>
                <a:lnTo>
                  <a:pt x="0" y="21600"/>
                </a:lnTo>
                <a:close/>
              </a:path>
              <a:path fill="lightenLess" w="28333" h="21600">
                <a:moveTo>
                  <a:pt x="0" y="0"/>
                </a:moveTo>
                <a:lnTo>
                  <a:pt x="28333" y="0"/>
                </a:lnTo>
                <a:lnTo>
                  <a:pt x="26983" y="1350"/>
                </a:lnTo>
                <a:lnTo>
                  <a:pt x="1350" y="1350"/>
                </a:lnTo>
                <a:close/>
              </a:path>
              <a:path fill="darken" w="28333" h="21600">
                <a:moveTo>
                  <a:pt x="28333" y="0"/>
                </a:moveTo>
                <a:lnTo>
                  <a:pt x="28333" y="21600"/>
                </a:lnTo>
                <a:lnTo>
                  <a:pt x="26983" y="20250"/>
                </a:lnTo>
                <a:lnTo>
                  <a:pt x="26983" y="1350"/>
                </a:lnTo>
                <a:close/>
              </a:path>
              <a:path fill="darkenLess" w="28333" h="21600">
                <a:moveTo>
                  <a:pt x="28333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26983" y="20250"/>
                </a:lnTo>
                <a:close/>
              </a:path>
              <a:path fill="lighten" w="28333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28333" h="21600">
                <a:moveTo>
                  <a:pt x="17684" y="10800"/>
                </a:moveTo>
                <a:lnTo>
                  <a:pt x="7123" y="17844"/>
                </a:lnTo>
                <a:lnTo>
                  <a:pt x="7123" y="3756"/>
                </a:lnTo>
                <a:close/>
              </a:path>
              <a:path fill="darken" w="28333" h="21600">
                <a:moveTo>
                  <a:pt x="19539" y="3756"/>
                </a:moveTo>
                <a:lnTo>
                  <a:pt x="19539" y="17844"/>
                </a:lnTo>
                <a:lnTo>
                  <a:pt x="21210" y="17844"/>
                </a:lnTo>
                <a:lnTo>
                  <a:pt x="21210" y="3756"/>
                </a:lnTo>
                <a:close/>
              </a:path>
            </a:pathLst>
          </a:custGeom>
          <a:solidFill>
            <a:srgbClr val="00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5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5580000" y="260280"/>
            <a:ext cx="20782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枯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叶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蝴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蝶</a:t>
            </a: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52480" y="61722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  <a:ea typeface="黑体"/>
              </a:rPr>
              <a:t>    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740720" y="4869000"/>
            <a:ext cx="930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徐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行楷"/>
              </a:rPr>
              <a:t>迟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857760" y="2952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392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43000" y="-360"/>
            <a:ext cx="7772400" cy="126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ff"/>
                </a:solidFill>
                <a:latin typeface="Times New Roman"/>
              </a:rPr>
              <a:t>诗歌朗诵：</a:t>
            </a:r>
            <a:endParaRPr b="0" lang="en-US" sz="4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70000" y="1268280"/>
            <a:ext cx="777240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假如我是最后一只枯叶蝴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是一只寂寞的蝴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秋风里阖上我的翅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如同一片飘落的枯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是那一只枯叶蝴蝶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并不想有人留意我的存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想逃开那些关注的目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我向往着自由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向往着肆意的快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-5473440"/>
            <a:ext cx="324000" cy="1106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70000" y="475920"/>
            <a:ext cx="777240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于是我将所有的美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换取了一身憔悴、枯萎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没有娇艳的容颜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没有柔曼的舞姿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也没有轻如鲛纱的美丽翅翼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只有一个形象的如蝶般凄美的名字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475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6600"/>
                </a:solidFill>
                <a:latin typeface="Times New Roman"/>
                <a:ea typeface="华文隶书"/>
              </a:rPr>
              <a:t>学习目标</a:t>
            </a:r>
            <a:br>
              <a:rPr sz="8800"/>
            </a:br>
            <a:endParaRPr b="0" lang="en-US" sz="88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971280" y="1946160"/>
            <a:ext cx="7970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正确、流利、有感情地朗读课文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联系语境赏析生动而深刻的语言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ffff"/>
                </a:solidFill>
                <a:latin typeface="Times New Roman"/>
              </a:rPr>
              <a:t>★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</a:rPr>
              <a:t>领会作者的写作意图，感悟做人道理。</a:t>
            </a:r>
            <a:r>
              <a:rPr b="1" lang="zh-CN" sz="4000" spc="-1" strike="noStrike">
                <a:solidFill>
                  <a:srgbClr val="00ffff"/>
                </a:solidFill>
                <a:latin typeface="Times New Roman"/>
              </a:rPr>
              <a:t>　</a:t>
            </a:r>
            <a:r>
              <a:rPr b="0" lang="zh-CN" sz="4000" spc="-1" strike="noStrike">
                <a:solidFill>
                  <a:srgbClr val="00ffff"/>
                </a:solidFill>
                <a:latin typeface="Times New Roman"/>
              </a:rPr>
              <a:t>　　　　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132000" y="-360"/>
            <a:ext cx="4824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6600"/>
                </a:solidFill>
                <a:latin typeface="Times New Roman"/>
                <a:ea typeface="隶书"/>
              </a:rPr>
              <a:t>听读任务</a:t>
            </a:r>
            <a:endParaRPr b="0" lang="en-US" sz="66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71640" y="476280"/>
            <a:ext cx="7632720" cy="37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ff"/>
                </a:solidFill>
                <a:latin typeface="Times New Roman"/>
              </a:rPr>
              <a:t>◆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标注自然段并圈点你认为重要的字词。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8551800" y="6265800"/>
            <a:ext cx="592200" cy="59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2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" dur="206553" fill="hold"/>
                                        <p:tgtEl>
                                          <p:spTgt spid="3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1042560" y="1879200"/>
            <a:ext cx="9644040" cy="270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ffff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00ffff"/>
                </a:solidFill>
                <a:latin typeface="黑体"/>
                <a:ea typeface="黑体"/>
              </a:rPr>
              <a:t>开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阖 </a:t>
            </a:r>
            <a:r>
              <a:rPr b="1" lang="en-US" sz="6000" spc="-1" strike="noStrike">
                <a:solidFill>
                  <a:srgbClr val="ffffff"/>
                </a:solidFill>
                <a:latin typeface="黑体"/>
                <a:ea typeface="黑体"/>
              </a:rPr>
              <a:t> </a:t>
            </a: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   收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敛</a:t>
            </a: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    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逸</a:t>
            </a:r>
            <a:r>
              <a:rPr b="1" lang="zh-CN" sz="6000" spc="-1" strike="noStrike">
                <a:solidFill>
                  <a:srgbClr val="ffff66"/>
                </a:solidFill>
                <a:latin typeface="黑体"/>
                <a:ea typeface="黑体"/>
              </a:rPr>
              <a:t>出      枯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槁</a:t>
            </a:r>
            <a:r>
              <a:rPr b="1" lang="en-US" sz="6000" spc="-1" strike="noStrike">
                <a:solidFill>
                  <a:srgbClr val="ffff66"/>
                </a:solidFill>
                <a:latin typeface="黑体"/>
                <a:ea typeface="黑体"/>
              </a:rPr>
              <a:t>      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黑体"/>
                <a:ea typeface="黑体"/>
              </a:rPr>
              <a:t>憔悴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18" name=""/>
          <p:cNvGrpSpPr/>
          <p:nvPr/>
        </p:nvGrpSpPr>
        <p:grpSpPr>
          <a:xfrm>
            <a:off x="-56880" y="-197640"/>
            <a:ext cx="4222440" cy="1763640"/>
            <a:chOff x="-56880" y="-197640"/>
            <a:chExt cx="4222440" cy="1763640"/>
          </a:xfrm>
        </p:grpSpPr>
        <p:sp>
          <p:nvSpPr>
            <p:cNvPr id="319" name=""/>
            <p:cNvSpPr/>
            <p:nvPr/>
          </p:nvSpPr>
          <p:spPr>
            <a:xfrm rot="21263400">
              <a:off x="0" y="0"/>
              <a:ext cx="4108320" cy="1368360"/>
            </a:xfrm>
            <a:prstGeom prst="irregularSeal2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 txBox="1"/>
            <p:nvPr/>
          </p:nvSpPr>
          <p:spPr>
            <a:xfrm rot="21263400">
              <a:off x="358200" y="300600"/>
              <a:ext cx="2391480" cy="6271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InflateTop">
                <a:avLst>
                  <a:gd name="adj" fmla="val 3191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0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宋体"/>
                </a:rPr>
                <a:t>一、我会读</a:t>
              </a:r>
              <a:endParaRPr b="0" lang="en-US" sz="40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  <a:ea typeface="宋体"/>
              </a:endParaRPr>
            </a:p>
          </p:txBody>
        </p:sp>
      </p:grpSp>
      <p:sp>
        <p:nvSpPr>
          <p:cNvPr id="321" name=""/>
          <p:cNvSpPr/>
          <p:nvPr/>
        </p:nvSpPr>
        <p:spPr>
          <a:xfrm>
            <a:off x="3132000" y="1862280"/>
            <a:ext cx="6480360" cy="35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hé                   liǎn      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5400" spc="-1" strike="noStrike">
                <a:solidFill>
                  <a:srgbClr val="ff0000"/>
                </a:solidFill>
                <a:latin typeface="Times New Roman"/>
              </a:rPr>
              <a:t>ì</a:t>
            </a: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                    gǎo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</a:rPr>
              <a:t>qiáo cuì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3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9T23:41:34Z</dcterms:created>
  <dc:creator>user</dc:creator>
  <dc:description/>
  <dc:language>en-US</dc:language>
  <cp:lastModifiedBy>admin</cp:lastModifiedBy>
  <dcterms:modified xsi:type="dcterms:W3CDTF">2015-07-01T00:31:07Z</dcterms:modified>
  <cp:revision>30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