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64E-50EE-46FC-9037-BED7B1EC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0A7-61F5-48D3-9DFE-0BDB29CC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9E5-8A23-4CCF-B788-CDED8948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4B1-35EC-47B3-A442-E9512426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26B7-10C9-4274-B9A4-CB82D878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B2E8-FE5A-400B-AC32-275A07F5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A7B-F6FE-48D9-A20C-B26A7C46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E22-3BD1-40BC-8A7A-9466815B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32A-E6BC-4CE4-85E8-4C980DF5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8F7-4E07-4525-9B8C-12B27AA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CE6-0B62-45DC-9749-7974DD72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C7E-0245-49BF-B819-2BE20083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00A8-8CAD-4BD7-A852-E6F340D595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.baidu.com/i?ct=503316480&amp;z=0&amp;tn=baiduimagedetail&amp;word=%B1%BE%B2&#1912;%D9&#319;%CA%E9&#1264;&amp;in=26004&amp;cl=2&amp;lm=-1&amp;pn=8&amp;rn=1&amp;di=30179452635&amp;ln=226&amp;fr=&amp;fmq=&amp;ic=0&amp;s=0&amp;se=1&amp;sme=0&amp;tab=&amp;width=&amp;height=&amp;face=0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9907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湘教版语文第十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 李时珍与《本草纲目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38080" y="4191120"/>
            <a:ext cx="396252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457200" y="533520"/>
            <a:ext cx="79246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一次，他问父亲：“书上说白花蛇身上有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斜方块花纹，是这样的吗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父亲说：“你为什么不自己去捉一条看看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第二天李时珍就跟着捕蛇人爬到山洞附近，捉了一条白花蛇。李时珍一数，果然不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1" action="ppaction://hlinksldjump"/>
              </a:rPr>
              <a:t>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，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正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斜方块花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"/>
          <p:cNvSpPr/>
          <p:nvPr/>
        </p:nvSpPr>
        <p:spPr>
          <a:xfrm>
            <a:off x="3581280" y="3200400"/>
            <a:ext cx="3429000" cy="2286000"/>
          </a:xfrm>
          <a:prstGeom prst="cloudCallout">
            <a:avLst>
              <a:gd name="adj1" fmla="val -51018"/>
              <a:gd name="adj2" fmla="val 6277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父亲说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你为什么不自己去捉一条看看呢？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从父亲的语言中你可以感悟到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384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743560" y="1371600"/>
            <a:ext cx="36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父亲说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你为什么不自己去捉一条看看呢？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从父亲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语言中你可以感悟到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125240" y="2590920"/>
            <a:ext cx="97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504d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c0504d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c0504d"/>
                </a:solidFill>
                <a:latin typeface="楷体"/>
                <a:ea typeface="楷体"/>
              </a:rPr>
              <a:t>他是想让李时珍通过实践，解决问题。李时珍捉到了白花蛇，印证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楷体"/>
                <a:ea typeface="楷体"/>
              </a:rPr>
              <a:t>答案。从而感悟出父亲的教育方法和李时珍的收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91143914"/>
          <p:cNvPicPr/>
          <p:nvPr/>
        </p:nvPicPr>
        <p:blipFill>
          <a:blip r:embed="rId1"/>
          <a:stretch/>
        </p:blipFill>
        <p:spPr>
          <a:xfrm>
            <a:off x="5638680" y="3733920"/>
            <a:ext cx="2895840" cy="2070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6920640" y="5867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白花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147320" y="1924560"/>
            <a:ext cx="6372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李时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1905120" y="167652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713680" y="1600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确认蛇身花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952280" y="380880"/>
            <a:ext cx="51184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李时珍听说湖北均县的太和山上有一种很稀罕的果子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榔梅，人吃了可以长寿，就要去采。走到半路，人家告诉他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榔梅是皇家的禁物，谁要是私自采了就要杀头。李时珍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着月色，采了一些榔梅，回到住处仔细一研究，不禁哑然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笑。原来，这禁采的圣物是一种榆树类的果实，哪里有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长生不老的功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1" action="ppaction://hlinksldjump"/>
              </a:rPr>
              <a:t>效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iào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3048120" y="3200400"/>
            <a:ext cx="3581280" cy="2209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李时珍当时为什么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哑然失笑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？说明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205360" y="129528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李时珍当时为什么会“哑然失笑”？说明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053960" y="22860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  <a:ea typeface="楷体"/>
              </a:rPr>
              <a:t>如果只是道听途说，不通过实践，会闹出不少笑话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4952880" y="3809880"/>
            <a:ext cx="3200400" cy="21369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6406200" y="5943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榔 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125000" y="1680120"/>
            <a:ext cx="63720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李  时  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905120" y="1676520"/>
            <a:ext cx="228600" cy="2590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729160" y="1447920"/>
            <a:ext cx="175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确认蛇身花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冒死采摘榔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1911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04920" y="380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李时珍认真读书，勇于实践，进步很快，名气渐渐地大了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时被召进宫里。他阅读了宫中大量的医药书，还接触到了许多外国进贡的药材，这使他眼界大开，受益不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李时珍发现历史上流传下来的药物书中有不少错误，加上几百年来增加了很多新药，原来的药物书已经不适用了。他决心重新编一部集古药、新药之大成的药物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2895480" y="3352680"/>
            <a:ext cx="3353040" cy="2133720"/>
          </a:xfrm>
          <a:prstGeom prst="cloudCallout">
            <a:avLst>
              <a:gd name="adj1" fmla="val -42898"/>
              <a:gd name="adj2" fmla="val 70685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李时珍想编一部怎样的书？你是怎样理解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912120" y="12193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李时珍想编一部怎样的书？你是怎样理解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01240" y="1941480"/>
            <a:ext cx="146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504d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c0504d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c0504d"/>
                </a:solidFill>
                <a:latin typeface="楷体"/>
                <a:ea typeface="楷体"/>
              </a:rPr>
              <a:t>他决心重新编一部集古药、新药之大成的药物书。新编的药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楷体"/>
                <a:ea typeface="楷体"/>
              </a:rPr>
              <a:t>书既要保留古书的正确内容，又将增添许多新的知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24480" y="2971800"/>
            <a:ext cx="1843200" cy="2895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6784920" y="59436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本草纲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500120" y="304920"/>
            <a:ext cx="617580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李时珍知道，编撰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huà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新的药物书，只靠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1" action="ppaction://hlinksldjump"/>
              </a:rPr>
              <a:t>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ó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2" action="ppaction://hlinksldjump"/>
              </a:rPr>
              <a:t>览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ǎ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群书是远远不够的，还必须到实践中去观察、采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和印证。他辞官回乡，四处奔波，实地考察。那些捕鱼的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打柴的、种地的、打猎的，都是他的朋友，大家给他提供了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珍贵的资料。位于湖北境内的武当山，有一片未经采伐的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林。李时珍一头扎进这天然宝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3" action="ppaction://hlinksldjump"/>
              </a:rPr>
              <a:t>库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kù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终日活动在悬崖峭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间，晚上就寄居在药农沿山壁搭起的木板房中。大风吹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木板房摇摇欲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4" action="ppaction://hlinksldjump"/>
              </a:rPr>
              <a:t>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huì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四周猿啸狼嚎，不绝于耳。他不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困难，不辞劳苦，搜集了种类繁多的动物、植物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5" action="ppaction://hlinksldjump"/>
              </a:rPr>
              <a:t>矿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kuàn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物标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3352680" y="4038480"/>
            <a:ext cx="3200400" cy="2057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李时珍为了编写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本草纲目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都遇到了哪些困难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417400" y="914400"/>
            <a:ext cx="41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李时珍为了编写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本草纲目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都遇到了哪些困难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5800" y="18288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504d"/>
                </a:solidFill>
                <a:latin typeface="Arial"/>
                <a:ea typeface="楷体"/>
              </a:rPr>
              <a:t>    </a:t>
            </a:r>
            <a:r>
              <a:rPr b="1" lang="zh-CN" sz="2000" spc="-1" strike="noStrike">
                <a:solidFill>
                  <a:srgbClr val="c0504d"/>
                </a:solidFill>
                <a:latin typeface="Arial"/>
                <a:ea typeface="楷体"/>
              </a:rPr>
              <a:t>   </a:t>
            </a:r>
            <a:r>
              <a:rPr b="1" lang="zh-CN" sz="2000" spc="-1" strike="noStrike">
                <a:solidFill>
                  <a:srgbClr val="c0504d"/>
                </a:solidFill>
                <a:latin typeface="Arial"/>
                <a:ea typeface="楷体"/>
              </a:rPr>
              <a:t>晚上就寄居在药农沿山壁搭起的木板房中，大风吹来，摇摇欲坠，四周猿啸狼嚎，不绝于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2210040" cy="3581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6554880" y="6172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李时珍采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914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641760" y="124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579640" y="4572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本草纲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5101721"/>
          <p:cNvPicPr/>
          <p:nvPr/>
        </p:nvPicPr>
        <p:blipFill>
          <a:blip r:embed="rId1"/>
          <a:stretch/>
        </p:blipFill>
        <p:spPr>
          <a:xfrm>
            <a:off x="3429000" y="457200"/>
            <a:ext cx="3048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125000" y="1680120"/>
            <a:ext cx="63720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李  时  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1905120" y="1676520"/>
            <a:ext cx="228600" cy="2590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713680" y="1447920"/>
            <a:ext cx="146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确认蛇身花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冒死采摘榔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辛苦收集资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28600" y="228600"/>
            <a:ext cx="876312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李时珍认为，使用药物是人命关天的大事，不能有半点马虎。一些拿不准的问题，他总是要通过实验，得出正确的结论。他听说曼陀罗花有麻醉作用，可是该服用多少才算合适呢？一天，他称出两份曼陀罗花药末，一份备用，一份吞服下去。吃完药，李时珍对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1" action="ppaction://hlinksldjump"/>
              </a:rPr>
              <a:t>徒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弟说：“等会儿药力发作，你用针扎我身上的穴位，用刀子在我手上划，看痛不痛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徒弟含泪点点头，要知道这种麻药吃多了会让人致死的，他真为师傅捏一把汗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过了一会儿，李时珍觉得有些头昏心慌。于是，他示意徒弟用针扎他的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可是，当徒弟用针扎他的时候，痛得他把手缩了回去。李时珍知道，药力还不够，他又服下了另一份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一会儿，李时珍觉得天旋地转，接着就昏过去了。徒弟用针扎、用刀尖划他的皮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2" action="ppaction://hlinksldjump"/>
              </a:rPr>
              <a:t>肤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ū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他也不知道。就这样，李时珍终于摸清了服用这种麻药的分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2819520" y="2438280"/>
            <a:ext cx="3504960" cy="23623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3a3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通过这件事可以看出李时珍具有怎样的精神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791320" y="2971800"/>
            <a:ext cx="2354040" cy="2981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838080" y="5335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通过这件事可以看出李时珍具有怎样的精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027880" y="1447920"/>
            <a:ext cx="542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504d"/>
                </a:solidFill>
                <a:latin typeface="Arial"/>
                <a:ea typeface="楷体"/>
              </a:rPr>
              <a:t>       </a:t>
            </a:r>
            <a:r>
              <a:rPr b="1" lang="zh-CN" sz="2000" spc="-1" strike="noStrike">
                <a:solidFill>
                  <a:srgbClr val="c0504d"/>
                </a:solidFill>
                <a:latin typeface="Arial"/>
                <a:ea typeface="楷体"/>
              </a:rPr>
              <a:t>李时珍为了验证药效，不惜冒着生命危险去尝试，这是何等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  <a:ea typeface="楷体"/>
              </a:rPr>
              <a:t>高的献身精神啊！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  <a:ea typeface="楷体"/>
              </a:rPr>
              <a:t>《</a:t>
            </a:r>
            <a:r>
              <a:rPr b="1" lang="zh-CN" sz="2000" spc="-1" strike="noStrike">
                <a:solidFill>
                  <a:srgbClr val="c0504d"/>
                </a:solidFill>
                <a:latin typeface="Arial"/>
                <a:ea typeface="楷体"/>
              </a:rPr>
              <a:t>本草纲目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  <a:ea typeface="楷体"/>
              </a:rPr>
              <a:t>》</a:t>
            </a:r>
            <a:r>
              <a:rPr b="1" lang="zh-CN" sz="2000" spc="-1" strike="noStrike">
                <a:solidFill>
                  <a:srgbClr val="c0504d"/>
                </a:solidFill>
                <a:latin typeface="Arial"/>
                <a:ea typeface="楷体"/>
              </a:rPr>
              <a:t>不仅是李时珍二十七年心血的结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  <a:ea typeface="楷体"/>
              </a:rPr>
              <a:t>更是李时珍用生命写成的巨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661440" y="6019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曼陀罗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125000" y="1680120"/>
            <a:ext cx="63720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李  时  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1905120" y="1676520"/>
            <a:ext cx="228600" cy="2590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637360" y="1447920"/>
            <a:ext cx="1460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确认蛇身花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冒死采摘榔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辛苦收集资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冒险亲身试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1905120" y="1676520"/>
            <a:ext cx="228600" cy="2590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652760" y="533520"/>
            <a:ext cx="5869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　经过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的努力，凝结着他一生心血的巨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本草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目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终于写成。全书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卷，记载的药物近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0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，每种药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都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1" action="ppaction://hlinksldjump"/>
              </a:rPr>
              <a:t>详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ián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细记述了产地、形状、颜色、气味、功用和采集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制作方法。书中还收集了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万多个药方，并附有大量插图。这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伟大的医药著作，把我国药学水平提升到了一个新的高度。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来，它被译成多种文字。直至今天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本草纲目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仍被人们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“中药宝库”“东方医学巨典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3276720" y="3429000"/>
            <a:ext cx="3200400" cy="1905120"/>
          </a:xfrm>
          <a:prstGeom prst="cloudCallout">
            <a:avLst>
              <a:gd name="adj1" fmla="val -35120"/>
              <a:gd name="adj2" fmla="val 74666"/>
            </a:avLst>
          </a:prstGeom>
          <a:solidFill>
            <a:srgbClr val="71cd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为什么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本草纲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是伟大的著作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253836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789200" y="83700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  <a:ea typeface="楷体"/>
              </a:rPr>
              <a:t>因为写这本书用了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楷体"/>
              </a:rPr>
              <a:t>27</a:t>
            </a:r>
            <a:r>
              <a:rPr b="1" lang="zh-CN" sz="2400" spc="-1" strike="noStrike">
                <a:solidFill>
                  <a:srgbClr val="c0504d"/>
                </a:solidFill>
                <a:latin typeface="Arial"/>
                <a:ea typeface="楷体"/>
              </a:rPr>
              <a:t>年的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444280" y="837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"/>
              </a:rPr>
              <a:t>时间长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824200" y="152280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  <a:ea typeface="楷体"/>
              </a:rPr>
              <a:t>因为这本书字数多，有一百多万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036480" y="1522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字数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281400" y="2056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  <a:ea typeface="楷体"/>
              </a:rPr>
              <a:t>这本书内容丰富，记下了一千八九种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707160" y="2056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内容丰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2898000" y="25898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  <a:ea typeface="楷体"/>
              </a:rPr>
              <a:t>这本书流传广，已译成几国文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5672880" y="25898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"/>
              </a:rPr>
              <a:t>流传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c5101721"/>
          <p:cNvPicPr/>
          <p:nvPr/>
        </p:nvPicPr>
        <p:blipFill>
          <a:blip r:embed="rId1"/>
          <a:stretch/>
        </p:blipFill>
        <p:spPr>
          <a:xfrm>
            <a:off x="1905120" y="3429000"/>
            <a:ext cx="1933560" cy="25146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2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5" descr="W020070301495044803171"/>
          <p:cNvPicPr/>
          <p:nvPr/>
        </p:nvPicPr>
        <p:blipFill>
          <a:blip r:embed="rId3"/>
          <a:stretch/>
        </p:blipFill>
        <p:spPr>
          <a:xfrm>
            <a:off x="4800600" y="3429000"/>
            <a:ext cx="1709640" cy="2486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6"/>
          <p:cNvSpPr/>
          <p:nvPr/>
        </p:nvSpPr>
        <p:spPr>
          <a:xfrm>
            <a:off x="7242120" y="58672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本草纲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125000" y="1680120"/>
            <a:ext cx="63720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李  时  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637360" y="1371600"/>
            <a:ext cx="1460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确认蛇身花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冒死采摘榔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辛苦收集资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冒险亲身试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 rot="10800000">
            <a:off x="4723920" y="1599840"/>
            <a:ext cx="228600" cy="2590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466600" y="2590920"/>
            <a:ext cx="144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本草纲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287800" y="480060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"/>
              </a:rPr>
              <a:t>勤于思考，勇于实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1905120" y="1676520"/>
            <a:ext cx="228600" cy="2590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371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2239920" cy="28958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153600" y="457200"/>
            <a:ext cx="5154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李时珍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18—159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）明代医学家。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东璧，号濒湖，蕲州（治今湖北蕲春）人。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业医。继承家学，更着重研究药物，重视临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实践与革新。常上山采药，向农民、渔民、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夫、药农等请教，并参考历代有关书籍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，对药物加以鉴别考证，纠正了古代本草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籍中药名、品种、产地等某些错误，又收集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理宋、元以来民间发现的药物，充实内容，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著成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本草纲目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收录原有诸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所载药物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，新增药物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7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。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了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世纪以前中国人民丰富的药物学经验，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学的发展作出了巨大贡献，成为中医药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一份宝贵遗产。还著有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濒湖脉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经八脉考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流传于世，另有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五脏图论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焦客难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命门考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等已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5101721"/>
          <p:cNvPicPr/>
          <p:nvPr/>
        </p:nvPicPr>
        <p:blipFill>
          <a:blip r:embed="rId1"/>
          <a:stretch/>
        </p:blipFill>
        <p:spPr>
          <a:xfrm>
            <a:off x="533520" y="457200"/>
            <a:ext cx="2008080" cy="26668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666880" y="135612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本草纲目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是明代伟大医药学家李时珍为修改古代医书的错误而编。他以毕生精力，亲历实践，广收博采，实地考察，对本草学进行了全面的整理总结，历时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27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年编成。共有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52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卷，载有药物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892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种，其中载有新药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374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种，收集医方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1096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个，书中还绘制了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160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幅精美的插图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约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90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万字，分为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部、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类。每种药物分列释名（确定名称）、集解（叙述产地）、正误（更正过去文献的错误）、修治（炮制方法）、气味、主治、发明（前三项指分析药物的功能）、附方（收集民间流传的药方）等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80880" y="3276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李时珍把植物分为草部、谷部、菜部、果部、本部五部，又把草部分为山草、芳草、溼草、毒草、蔓草、水草、石草、苔草、杂草等九类，是我国医药宝库中的一份珍贵遗产。是对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世纪以前中医药学的系统总结，在训诂、语言文字、历史、地理、植物、动物、矿物、冶金等方面也有突出成就。本书十七世纪末即传播，先后有多种文字的译本，对世界自然科学也有举世公认的卓越贡献。其有关资料曾被达尔文所引。这本药典，不论从它严密的科学分类，或是从它包含药物的数目之多和流畅生动的文笔来看，都远远超过古代任何一部本草著作。被誉为“东方药物巨典”，对人类近代科学以及医学方面影响最大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770200" cy="3581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5197680" y="5202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李时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971800" y="8380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  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3"/>
          <p:cNvSpPr txBox="1"/>
          <p:nvPr/>
        </p:nvSpPr>
        <p:spPr>
          <a:xfrm>
            <a:off x="4038480" y="3124080"/>
            <a:ext cx="1600200" cy="106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指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>
            <a:off x="2666880" y="2209680"/>
            <a:ext cx="4038840" cy="2590920"/>
          </a:xfrm>
          <a:prstGeom prst="cloudCallout">
            <a:avLst>
              <a:gd name="adj1" fmla="val -43162"/>
              <a:gd name="adj2" fmla="val 7352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课文写了李时珍的哪几件事？着重写了哪件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j0195812"/>
          <p:cNvPicPr/>
          <p:nvPr/>
        </p:nvPicPr>
        <p:blipFill>
          <a:blip r:embed="rId1"/>
          <a:stretch/>
        </p:blipFill>
        <p:spPr>
          <a:xfrm>
            <a:off x="304920" y="228600"/>
            <a:ext cx="81432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159920" y="838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33520" y="2514600"/>
            <a:ext cx="8076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李时珍小时候，常常跟随行医的父亲一起摆弄草药，各色各样的草啊虫啊，都成了他童年的玩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李时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时独立行医，一直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虽然读了不少书，但自己觉得学问并无大的长进，倒是积累了一大堆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有一次，他问父亲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上说白花蛇身上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斜方块花纹，是这样的吗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父亲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为什么不自己去捉一条看看呢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第二天李时珍就跟着捕蛇人爬到山洞附近，捉了一条白花蛇。李时珍一数，果然不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差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正好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斜方块花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914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34800" y="936720"/>
            <a:ext cx="8474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李时珍听说湖北均县的太和山上有一种很稀罕的果子叫榔梅，人吃了可以长寿，就要去采。走到半路，人家告诉他，这榔梅是皇家的禁物，谁要是私自采了就要杀头。李时珍趁着月色，采了一些榔梅，回到住处仔细一研究，不禁哑然失笑。原来，这禁采的圣物是一种榆树类的果实，哪里有什么长生不老的功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ià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李时珍认真读书，勇于实践，进步很快，名气渐渐地大了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时被召进宫里。他阅读了宫中大量的医药书，还接触到了许多外国进贡的药材，这使他眼界大开，受益不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李时珍发现历史上流传下来的药物书中有不少错误，加上几百年来增加了很多新药，原来的药物书已经不适用了。他决心重新编一部集古药、新药之大成的药物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6858000" y="243828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5943600" y="1600200"/>
            <a:ext cx="1981080" cy="609480"/>
          </a:xfrm>
          <a:prstGeom prst="wedgeRectCallout">
            <a:avLst>
              <a:gd name="adj1" fmla="val 44550"/>
              <a:gd name="adj2" fmla="val 9114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哑然失笑：形容笑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371520"/>
            <a:ext cx="85806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李时珍知道，编撰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zhuà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新的药物书，只靠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ó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ǎ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群书是远远不够的，还必须到实践中去观察、采集和印证。他辞官回乡，四处奔波，实地考察。那些捕鱼的、打柴的、种地的、打猎的，都是他的朋友，大家给他提供了许多珍贵的资料。位于湖北境内的武当山，有一片未经采伐的老林。李时珍一头扎进这天然宝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终日活动在悬崖峭壁之间，晚上就寄居在药农沿山壁搭起的木板房中 。大风吹来 ，木板房摇摇欲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zhu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四周猿啸狼嚎，不绝于耳。他不怕困难，不辞劳苦，搜集了种类繁多的动物、植物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矿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uà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物标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2743200" y="762120"/>
            <a:ext cx="205740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3886200" y="1066680"/>
            <a:ext cx="1676520" cy="533520"/>
          </a:xfrm>
          <a:prstGeom prst="wedgeRectCallout">
            <a:avLst>
              <a:gd name="adj1" fmla="val -44884"/>
              <a:gd name="adj2" fmla="val -11577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编撰：编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6172200" y="259092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6172200" y="1676520"/>
            <a:ext cx="2057400" cy="685800"/>
          </a:xfrm>
          <a:prstGeom prst="wedgeRectCallout">
            <a:avLst>
              <a:gd name="adj1" fmla="val 45986"/>
              <a:gd name="adj2" fmla="val 8240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悬崖峭壁：形容山崖又高又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304920" y="3352680"/>
            <a:ext cx="243828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2133720" y="2286000"/>
            <a:ext cx="2209680" cy="914400"/>
          </a:xfrm>
          <a:prstGeom prst="wedgeRectCallout">
            <a:avLst>
              <a:gd name="adj1" fmla="val -45259"/>
              <a:gd name="adj2" fmla="val 6337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摇摇欲坠：形容非常危险，就要掉下来或垮下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34800" y="936720"/>
            <a:ext cx="8474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李时珍认为，使用药物是人命关天的大事，不能有半点马虎。一些拿不准的问题，他总是要通过实验，得出正确的结论。他听说曼陀罗花有麻醉作用，可是该服用多少才算合适呢？一天，他称出两份曼陀罗花药末，一份备用，一份吞服下去。吃完药，李时珍对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徒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弟说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会儿药力发作，你用针扎我身上的穴位，用刀子在我手上划，看痛不痛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徒弟含泪点点头，要知道这种麻药吃多了会让人致死的，他真为师傅捏一把汗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过了一会儿，李时珍觉得有些头昏心慌。于是，他示意徒弟用针扎他的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可是，当徒弟用针扎他的时候，痛得他把手缩了回去。李时珍知道，药力还不够，他又服下了另一份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4419720" y="13716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4038480" y="1523880"/>
            <a:ext cx="2057400" cy="762120"/>
          </a:xfrm>
          <a:prstGeom prst="wedgeRectCallout">
            <a:avLst>
              <a:gd name="adj1" fmla="val -462"/>
              <a:gd name="adj2" fmla="val -8208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人命关天：人命事件关系重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34800" y="371520"/>
            <a:ext cx="8474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不一会儿，李时珍觉得天旋地转，接着就昏过去了。徒弟用针扎、用刀尖划他的皮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肤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ū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他也不知道。就这样，李时珍终于摸清了服用这种麻药的分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经过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努力，凝结着他一生心血的巨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草纲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于写成。全书共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，记载的药物近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，每种药物都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iá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细记述了产地、形状、颜色、气味、功用和采集、制作方法。书中还收集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多个药方，并附有大量插图。这部伟大的医药著作，把我国药学水平提升到了一个新的高度。后来，它被译成多种文字。直至今天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草纲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仍被人们誉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药宝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方医学巨典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00:24:11Z</dcterms:created>
  <dc:creator/>
  <dc:description/>
  <cp:keywords/>
  <dc:language>en-US</dc:language>
  <cp:lastModifiedBy>Administrator</cp:lastModifiedBy>
  <dcterms:modified xsi:type="dcterms:W3CDTF">2015-04-10T03:00:44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  <property fmtid="{D5CDD505-2E9C-101B-9397-08002B2CF9AE}" pid="3" name="Version">
    <vt:r8>1</vt:r8>
  </property>
</Properties>
</file>