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F433-004D-4613-BAF8-5D0F4BD7F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FA92-89BD-4F02-98A9-DE86B347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93CA-ADFB-438D-98E9-EBA52883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B0BB-9D40-413F-806E-CE429A82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632A-C039-4F42-A2E9-8B43EFA3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DB14-1576-45A7-8068-C9ED29D3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61E8-30D7-4841-BFB6-7AA4AC22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15CD-42A7-4CF6-A96B-683AB9D9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87F0-1D6C-4540-ABE7-F742B396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31B4-2398-450D-BFF5-88A2B216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8FC3-EEF1-4536-B0F5-0812F4FE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0F57-3922-4772-BBE0-20124042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D499-4E28-4FEF-B6FE-5BEA472B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FB6B-A2EF-4332-9AC8-5288DD94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5B72-B237-4AFA-9ED0-DD16C91E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FC0D-A924-4571-85F9-C9F39D485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EDCF-D675-4971-A4AA-88241DF6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1CE7-E65D-42E5-A20D-4B09ADBA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E16E-FF7B-4AFB-9593-96EEE6E7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C5A7-BE47-4E68-8659-3A8D92DD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BD26-8723-4B8C-AF21-76302E09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9870-EA72-470E-A46E-5278B536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2C24-16BE-4776-B051-64FCF115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1A9F-D498-4C9B-8AEF-C778247F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F606-E829-43A3-866C-A9CF33E3E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0567-65DE-4D07-90EE-BBBD152BF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《</a:t>
            </a: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梦圆飞天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Object 2"/>
          <p:cNvGraphicFramePr/>
          <p:nvPr/>
        </p:nvGraphicFramePr>
        <p:xfrm>
          <a:off x="0" y="19080"/>
          <a:ext cx="9144000" cy="683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80"/>
                    <a:ext cx="9144000" cy="68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Text Box 3"/>
          <p:cNvSpPr/>
          <p:nvPr/>
        </p:nvSpPr>
        <p:spPr>
          <a:xfrm>
            <a:off x="4067280" y="2060640"/>
            <a:ext cx="151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3300"/>
                </a:solidFill>
                <a:latin typeface="Times New Roman"/>
                <a:ea typeface="楷体"/>
              </a:rPr>
              <a:t>四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Object 2"/>
          <p:cNvGraphicFramePr/>
          <p:nvPr/>
        </p:nvGraphicFramePr>
        <p:xfrm>
          <a:off x="0" y="19080"/>
          <a:ext cx="9144000" cy="683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80"/>
                    <a:ext cx="9144000" cy="68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 Box 3"/>
          <p:cNvSpPr/>
          <p:nvPr/>
        </p:nvSpPr>
        <p:spPr>
          <a:xfrm>
            <a:off x="4067280" y="2060640"/>
            <a:ext cx="151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3300"/>
                </a:solidFill>
                <a:latin typeface="Times New Roman"/>
                <a:ea typeface="楷体"/>
              </a:rPr>
              <a:t>三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Object 2"/>
          <p:cNvGraphicFramePr/>
          <p:nvPr/>
        </p:nvGraphicFramePr>
        <p:xfrm>
          <a:off x="0" y="19080"/>
          <a:ext cx="9144000" cy="683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80"/>
                    <a:ext cx="9144000" cy="68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3"/>
          <p:cNvSpPr/>
          <p:nvPr/>
        </p:nvSpPr>
        <p:spPr>
          <a:xfrm>
            <a:off x="4067280" y="2060640"/>
            <a:ext cx="151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3300"/>
                </a:solidFill>
                <a:latin typeface="Times New Roman"/>
                <a:ea typeface="楷体"/>
              </a:rPr>
              <a:t>二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Object 2"/>
          <p:cNvGraphicFramePr/>
          <p:nvPr/>
        </p:nvGraphicFramePr>
        <p:xfrm>
          <a:off x="0" y="19080"/>
          <a:ext cx="9144000" cy="683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80"/>
                    <a:ext cx="9144000" cy="68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Text Box 3"/>
          <p:cNvSpPr/>
          <p:nvPr/>
        </p:nvSpPr>
        <p:spPr>
          <a:xfrm>
            <a:off x="4067280" y="2060640"/>
            <a:ext cx="151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3300"/>
                </a:solidFill>
                <a:latin typeface="Times New Roman"/>
                <a:ea typeface="楷体"/>
              </a:rPr>
              <a:t>一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3"/>
          <p:cNvSpPr/>
          <p:nvPr/>
        </p:nvSpPr>
        <p:spPr>
          <a:xfrm>
            <a:off x="4876920" y="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烈焰升腾，大漠震颤。宛如巨龙的橘红色火焰划破秋日的戈壁长空，托举着“神州”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号飞船的火箭，在地动山摇般的轰鸣声中腾空而起，直指苍穹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4067280" y="3346560"/>
            <a:ext cx="5076720" cy="351144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3"/>
          <p:cNvSpPr/>
          <p:nvPr/>
        </p:nvSpPr>
        <p:spPr>
          <a:xfrm>
            <a:off x="0" y="476280"/>
            <a:ext cx="4932360" cy="1873080"/>
          </a:xfrm>
          <a:prstGeom prst="cloudCallout">
            <a:avLst>
              <a:gd name="adj1" fmla="val 62583"/>
              <a:gd name="adj2" fmla="val 15398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飞行正常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楷体"/>
                <a:ea typeface="楷体"/>
              </a:rPr>
              <a:t>    </a:t>
            </a:r>
            <a:r>
              <a:rPr b="1" lang="zh-CN" sz="4400" spc="-1" strike="noStrike">
                <a:solidFill>
                  <a:srgbClr val="703dff"/>
                </a:solidFill>
                <a:latin typeface="楷体"/>
                <a:ea typeface="楷体"/>
              </a:rPr>
              <a:t>这声音穿过茫茫太空，传到北京指挥控制中心，传到游弋在浩瀚大洋上的“远望”</a:t>
            </a:r>
            <a:r>
              <a:rPr b="1" lang="en-US" sz="4400" spc="-1" strike="noStrike">
                <a:solidFill>
                  <a:srgbClr val="703dff"/>
                </a:solidFill>
                <a:latin typeface="楷体"/>
                <a:ea typeface="楷体"/>
              </a:rPr>
              <a:t>3</a:t>
            </a:r>
            <a:r>
              <a:rPr b="1" lang="zh-CN" sz="4400" spc="-1" strike="noStrike">
                <a:solidFill>
                  <a:srgbClr val="703dff"/>
                </a:solidFill>
                <a:latin typeface="楷体"/>
                <a:ea typeface="楷体"/>
              </a:rPr>
              <a:t>号测量船，传到每一个炎黄子孙的心中。</a:t>
            </a: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835280" y="3068640"/>
            <a:ext cx="61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楷体"/>
              </a:rPr>
              <a:t>传到全世界人的心中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over dir="l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4067280" y="3346560"/>
            <a:ext cx="5076720" cy="351144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3"/>
          <p:cNvSpPr/>
          <p:nvPr/>
        </p:nvSpPr>
        <p:spPr>
          <a:xfrm>
            <a:off x="0" y="0"/>
            <a:ext cx="7740720" cy="3068640"/>
          </a:xfrm>
          <a:prstGeom prst="cloudCallout">
            <a:avLst>
              <a:gd name="adj1" fmla="val 21740"/>
              <a:gd name="adj2" fmla="val 9004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“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向世界各国人民问好！向在太空中工作的同行们问好！向祖国人民、港澳同胞、台湾同胞、海外侨胞问好！感谢全国人民的关怀！”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cover dir="r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9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6000" spc="-1" strike="noStrike">
                <a:solidFill>
                  <a:srgbClr val="ff3300"/>
                </a:solidFill>
                <a:latin typeface="Comic Sans MS"/>
              </a:rPr>
              <a:t>我看到我们美丽的家了！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杨利伟</a:t>
            </a: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兴奋</a:t>
            </a: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地对儿子说。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Object 2"/>
          <p:cNvGraphicFramePr/>
          <p:nvPr/>
        </p:nvGraphicFramePr>
        <p:xfrm>
          <a:off x="0" y="0"/>
          <a:ext cx="9144000" cy="684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 Box 3"/>
          <p:cNvSpPr/>
          <p:nvPr/>
        </p:nvSpPr>
        <p:spPr>
          <a:xfrm>
            <a:off x="609480" y="30492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  <a:ea typeface="楷体"/>
              </a:rPr>
              <a:t>来到茫茫太空，我看到了神奇美妙的景色。舷窗外，阳光把飞船的太阳能帆板照得格外明亮，下面就是人类居住了一万多年的美丽的地球。蔚蓝色的地球披着淡淡的云层，长长的海岸线在大陆和海洋间清晰可辨。飞船高速飞行着，一会儿白天，一会儿黑夜。黑白交替之间，地球的边缘仿佛镶了一道美丽的金边，景色十分迷人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609480" y="30492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                                                   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"/>
              </a:rPr>
              <a:t>神奇美妙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2209680" y="3429000"/>
            <a:ext cx="6096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685800" y="4038480"/>
            <a:ext cx="7620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685800" y="4648320"/>
            <a:ext cx="7620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685800" y="5257800"/>
            <a:ext cx="7620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Line 9"/>
          <p:cNvSpPr/>
          <p:nvPr/>
        </p:nvSpPr>
        <p:spPr>
          <a:xfrm>
            <a:off x="685800" y="5867280"/>
            <a:ext cx="7620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Line 10"/>
          <p:cNvSpPr/>
          <p:nvPr/>
        </p:nvSpPr>
        <p:spPr>
          <a:xfrm>
            <a:off x="685800" y="6477120"/>
            <a:ext cx="5410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自学课本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、可以连贯的朗读课文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、读准生字词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、画出不理解的字词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思考问题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梦圆飞天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中，文章按照怎样的顺序，生动的记叙了一件什么事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、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神奇的克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一文中，什么是克隆，克隆的神奇在哪儿？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图片12"/>
          <p:cNvPicPr/>
          <p:nvPr/>
        </p:nvPicPr>
        <p:blipFill>
          <a:blip r:embed="rId1"/>
          <a:stretch/>
        </p:blipFill>
        <p:spPr>
          <a:xfrm>
            <a:off x="900000" y="0"/>
            <a:ext cx="7559640" cy="6886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图片14"/>
          <p:cNvPicPr/>
          <p:nvPr/>
        </p:nvPicPr>
        <p:blipFill>
          <a:blip r:embed="rId2"/>
          <a:stretch/>
        </p:blipFill>
        <p:spPr>
          <a:xfrm>
            <a:off x="900000" y="0"/>
            <a:ext cx="755964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图片17"/>
          <p:cNvPicPr/>
          <p:nvPr/>
        </p:nvPicPr>
        <p:blipFill>
          <a:blip r:embed="rId3"/>
          <a:stretch/>
        </p:blipFill>
        <p:spPr>
          <a:xfrm>
            <a:off x="826920" y="0"/>
            <a:ext cx="756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Text Box 3"/>
          <p:cNvSpPr/>
          <p:nvPr/>
        </p:nvSpPr>
        <p:spPr>
          <a:xfrm>
            <a:off x="990720" y="30492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ffffcc"/>
                </a:solidFill>
                <a:latin typeface="楷体"/>
                <a:ea typeface="楷体"/>
              </a:rPr>
              <a:t>浩瀚太空从此写下了中国人的名字，留下了中国人的脚印。中华民族千年的飞天梦想，今朝终于成真了！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676520" y="11430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楷体"/>
                <a:ea typeface="楷体"/>
              </a:rPr>
              <a:t>中国人的名字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676520" y="198108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楷体"/>
                <a:ea typeface="楷体"/>
              </a:rPr>
              <a:t>中国人的脚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990720" y="358128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楷体"/>
                <a:ea typeface="楷体"/>
              </a:rPr>
              <a:t>今朝终于成真了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228600" y="42670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克隆   繁衍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接   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养   濒危  马铃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厄运   平衡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诱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  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率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52280" y="0"/>
            <a:ext cx="883944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乳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白色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执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行   滑坡  震颤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控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制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侨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胞   边缘   肃然伫立  浩瀚  绷紧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苍穹 戈壁 游弋   寒风凛冽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烈焰升腾   大漠震颤   宛如巨龙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破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激情澎湃   直指苍穹  升腾  地动山摇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腾空而起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《</a:t>
            </a: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梦圆飞天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思考问题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梦圆飞天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中，文章按照怎样的顺序，生动的记叙了一件什么事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762120" y="137160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，是一个令全世界华夏儿女难忘的日子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838080" y="35053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请同学们读读这句话，说说为什么这天是一个令人难忘的日子呢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Oval 4"/>
          <p:cNvSpPr/>
          <p:nvPr/>
        </p:nvSpPr>
        <p:spPr>
          <a:xfrm>
            <a:off x="3733920" y="25146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4191120" y="25146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Oval 6"/>
          <p:cNvSpPr/>
          <p:nvPr/>
        </p:nvSpPr>
        <p:spPr>
          <a:xfrm>
            <a:off x="4648320" y="25146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Oval 7"/>
          <p:cNvSpPr/>
          <p:nvPr/>
        </p:nvSpPr>
        <p:spPr>
          <a:xfrm>
            <a:off x="5105520" y="25146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Oval 8"/>
          <p:cNvSpPr/>
          <p:nvPr/>
        </p:nvSpPr>
        <p:spPr>
          <a:xfrm>
            <a:off x="5562720" y="25146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Object 7"/>
          <p:cNvGraphicFramePr/>
          <p:nvPr/>
        </p:nvGraphicFramePr>
        <p:xfrm>
          <a:off x="0" y="19080"/>
          <a:ext cx="9144000" cy="683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80"/>
                    <a:ext cx="9144000" cy="68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Text Box 2"/>
          <p:cNvSpPr/>
          <p:nvPr/>
        </p:nvSpPr>
        <p:spPr>
          <a:xfrm>
            <a:off x="1835280" y="1557360"/>
            <a:ext cx="73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此刻，载人航天发射场亮如白昼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835280" y="2060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与航天员朝夕相处的教练、专家来了，手举鲜花的少先队员来了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763640" y="3141720"/>
            <a:ext cx="72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嘹亮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歌唱祖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的乐曲声响起来了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1692360" y="3789360"/>
            <a:ext cx="74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3600" spc="-1" strike="noStrike">
                <a:solidFill>
                  <a:srgbClr val="cc3300"/>
                </a:solidFill>
                <a:latin typeface="楷体"/>
                <a:ea typeface="楷体"/>
              </a:rPr>
              <a:t>人们怀着无比激动的心情来为“神舟”</a:t>
            </a:r>
            <a:r>
              <a:rPr b="1" lang="en-US" sz="3600" spc="-1" strike="noStrike">
                <a:solidFill>
                  <a:srgbClr val="cc3300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cc3300"/>
                </a:solidFill>
                <a:latin typeface="楷体"/>
                <a:ea typeface="楷体"/>
              </a:rPr>
              <a:t>号飞船送行，与航天员杨利伟送行。人人脸上写满了喜悦与自豪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0">
    <p:checker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Object 4"/>
          <p:cNvGraphicFramePr/>
          <p:nvPr/>
        </p:nvGraphicFramePr>
        <p:xfrm>
          <a:off x="0" y="19080"/>
          <a:ext cx="9144000" cy="683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80"/>
                    <a:ext cx="9144000" cy="68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 Box 2"/>
          <p:cNvSpPr/>
          <p:nvPr/>
        </p:nvSpPr>
        <p:spPr>
          <a:xfrm>
            <a:off x="1752480" y="97488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随着发射时间一秒一秒地逼近，人们的心弦都绷得紧紧的，似乎可以听到自己急促的呼吸声。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Object 2"/>
          <p:cNvGraphicFramePr/>
          <p:nvPr/>
        </p:nvGraphicFramePr>
        <p:xfrm>
          <a:off x="0" y="19080"/>
          <a:ext cx="9144000" cy="683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80"/>
                    <a:ext cx="9144000" cy="68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3"/>
          <p:cNvSpPr/>
          <p:nvPr/>
        </p:nvSpPr>
        <p:spPr>
          <a:xfrm>
            <a:off x="4067280" y="2060640"/>
            <a:ext cx="151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3300"/>
                </a:solidFill>
                <a:latin typeface="Times New Roman"/>
                <a:ea typeface="楷体"/>
              </a:rPr>
              <a:t>五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ll</cp:lastModifiedBy>
  <dcterms:modified xsi:type="dcterms:W3CDTF">2016-03-25T02:17:0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