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png" ContentType="image/png"/>
  <Override PartName="/ppt/media/image21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20.gif" ContentType="image/gif"/>
  <Override PartName="/ppt/media/image19.png" ContentType="image/png"/>
  <Override PartName="/ppt/media/image15.png" ContentType="image/png"/>
  <Override PartName="/ppt/media/image3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180-40C2-4210-AFD0-EC1B8FCC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629-617F-40C1-A260-C51C2708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B83-8629-4397-8D6F-1AEED069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584-2AD4-4DF2-8B6F-95EBC145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3A6-96FC-403F-BD6A-42315F55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6D9-6807-49B9-BB6E-00E04855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868-805F-47E8-B1ED-D662F18F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5A4-7567-42EF-9A38-35CE9E24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D25-0948-4785-80FE-E383D84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967-DDFE-424A-89FF-472E813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09C-B7A8-4390-B631-3899567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6EE-36A1-4DEC-A738-11DB73C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9878-DA6D-4BF5-8AE7-91BC7C6D8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6.jpeg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1989000"/>
            <a:ext cx="5678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Arial"/>
                <a:ea typeface="隶书"/>
              </a:rPr>
              <a:t>牛和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9079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北师大版 五年级 语文  下册  角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2753"/>
          <a:stretch/>
        </p:blipFill>
        <p:spPr>
          <a:xfrm>
            <a:off x="539640" y="7128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3500280"/>
            <a:ext cx="691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因为牛的眼睛看人，觉得人比 牛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牛是怕人的；鹅的眼睛看人，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得人比鹅小，所以鹅不怕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89880" y="27082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牛怕人，鹅不怕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1120" y="5581800"/>
            <a:ext cx="2286000" cy="95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1333440" cy="167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124000" y="907920"/>
            <a:ext cx="158436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因为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2619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82880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对牛：欺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038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对鹅：害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743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拍它的背、摸它的肚子、触它的屁股、刮它的皮、骑牛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80060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远远地站在安全的地方、绕个大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1120" y="5308560"/>
            <a:ext cx="17524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35440" y="1096920"/>
            <a:ext cx="27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第五—七自然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141720"/>
            <a:ext cx="689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从哪些句子能看出鹅的神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找出重点词体会，并用三角符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画出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4876920"/>
            <a:ext cx="65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竖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起头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侧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着眼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摇一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神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过来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伸长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脖子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扑打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翅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52480" y="1752480"/>
            <a:ext cx="6553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哪些句子可以看出“我”怕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2492280"/>
            <a:ext cx="68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响、贴着墙壁、悄悄地走、心里害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16160" y="692280"/>
            <a:ext cx="68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找出文中描写鹅欺负“我”的句子。我又是怎样表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6640" y="26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1828800"/>
            <a:ext cx="112716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4284720" cy="3386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03280" y="1773360"/>
            <a:ext cx="22100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幼圆"/>
              </a:rPr>
              <a:t>神气十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1960" y="1773360"/>
            <a:ext cx="22100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幼圆"/>
              </a:rPr>
              <a:t>胆大妄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4920" y="609480"/>
            <a:ext cx="8610480" cy="3871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孩子们大喊了一声，急急逃跑。这使鹅追的更快了。我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得腿也软了，更跑不快。这时，带头的那只老雄鹅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啪嗒啪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过来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吭，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赶上我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吭，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开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一口就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咬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我当胸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衣襟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拉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不放。在忙乱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的书包掉了，鞋子也弄脱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想，它一定要把我咬死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就又哭又叫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要吃我了！鹅要咬死我了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82120" y="4745160"/>
            <a:ext cx="55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7544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5880" y="375444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5299200"/>
            <a:ext cx="38163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幼圆"/>
              </a:rPr>
              <a:t>我”狼狈不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100720" cy="6093000"/>
            <a:chOff x="0" y="0"/>
            <a:chExt cx="8100720" cy="60930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944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2094480" y="0"/>
              <a:ext cx="209412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4134600" y="0"/>
              <a:ext cx="20944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6092280" y="0"/>
              <a:ext cx="20084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0" y="936720"/>
              <a:ext cx="20944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6"/>
            <a:stretch/>
          </p:blipFill>
          <p:spPr>
            <a:xfrm>
              <a:off x="2094480" y="936720"/>
              <a:ext cx="209412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7"/>
            <a:stretch/>
          </p:blipFill>
          <p:spPr>
            <a:xfrm>
              <a:off x="4134600" y="936720"/>
              <a:ext cx="20944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8"/>
            <a:stretch/>
          </p:blipFill>
          <p:spPr>
            <a:xfrm>
              <a:off x="6092280" y="936720"/>
              <a:ext cx="20084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9"/>
            <a:stretch/>
          </p:blipFill>
          <p:spPr>
            <a:xfrm>
              <a:off x="0" y="1991160"/>
              <a:ext cx="20944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0"/>
            <a:stretch/>
          </p:blipFill>
          <p:spPr>
            <a:xfrm>
              <a:off x="2094480" y="1991160"/>
              <a:ext cx="209412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1"/>
            <a:stretch/>
          </p:blipFill>
          <p:spPr>
            <a:xfrm>
              <a:off x="4134600" y="1991160"/>
              <a:ext cx="209448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2"/>
            <a:stretch/>
          </p:blipFill>
          <p:spPr>
            <a:xfrm>
              <a:off x="6092280" y="1991160"/>
              <a:ext cx="200844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3"/>
            <a:stretch/>
          </p:blipFill>
          <p:spPr>
            <a:xfrm>
              <a:off x="0" y="3002760"/>
              <a:ext cx="209448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4"/>
            <a:stretch/>
          </p:blipFill>
          <p:spPr>
            <a:xfrm>
              <a:off x="2094480" y="3002760"/>
              <a:ext cx="209412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15"/>
            <a:stretch/>
          </p:blipFill>
          <p:spPr>
            <a:xfrm>
              <a:off x="4134600" y="3002760"/>
              <a:ext cx="209448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6092280" y="3002760"/>
              <a:ext cx="200844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7"/>
            <a:stretch/>
          </p:blipFill>
          <p:spPr>
            <a:xfrm>
              <a:off x="0" y="4013640"/>
              <a:ext cx="209448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8"/>
            <a:stretch/>
          </p:blipFill>
          <p:spPr>
            <a:xfrm>
              <a:off x="2094480" y="4013640"/>
              <a:ext cx="209412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9"/>
            <a:stretch/>
          </p:blipFill>
          <p:spPr>
            <a:xfrm>
              <a:off x="4134600" y="4013640"/>
              <a:ext cx="209448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0"/>
            <a:stretch/>
          </p:blipFill>
          <p:spPr>
            <a:xfrm>
              <a:off x="6092280" y="4013640"/>
              <a:ext cx="200844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1"/>
            <a:stretch/>
          </p:blipFill>
          <p:spPr>
            <a:xfrm>
              <a:off x="0" y="5037840"/>
              <a:ext cx="209448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2"/>
            <a:stretch/>
          </p:blipFill>
          <p:spPr>
            <a:xfrm>
              <a:off x="2094480" y="5037840"/>
              <a:ext cx="209412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3"/>
            <a:stretch/>
          </p:blipFill>
          <p:spPr>
            <a:xfrm>
              <a:off x="4134600" y="5037840"/>
              <a:ext cx="2094480" cy="10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4"/>
            <a:stretch/>
          </p:blipFill>
          <p:spPr>
            <a:xfrm>
              <a:off x="6092280" y="5037840"/>
              <a:ext cx="2008440" cy="105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" descr=""/>
          <p:cNvPicPr/>
          <p:nvPr/>
        </p:nvPicPr>
        <p:blipFill>
          <a:blip r:embed="rId25"/>
          <a:srcRect l="0" t="0" r="-413" b="2824"/>
          <a:stretch/>
        </p:blipFill>
        <p:spPr>
          <a:xfrm>
            <a:off x="108000" y="1197000"/>
            <a:ext cx="2771640" cy="460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6"/>
          <a:stretch/>
        </p:blipFill>
        <p:spPr>
          <a:xfrm>
            <a:off x="7093080" y="26028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35280" y="765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这时，“我”的救命英雄——金奎叔出现了！金奎叔是怎样对待鹅？鹅又有什么表现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7"/>
          <a:srcRect l="0" t="0" r="60" b="21746"/>
          <a:stretch/>
        </p:blipFill>
        <p:spPr>
          <a:xfrm>
            <a:off x="3492360" y="3141720"/>
            <a:ext cx="4176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373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4464000" cy="371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227664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老雄鹅害怕了，好不容易挣脱束缚，张开翅膀，连飞带跳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“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啪啪啪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”</a:t>
            </a:r>
            <a:r>
              <a:rPr b="0" lang="zh-CN" sz="3600" spc="-1" strike="noStrike">
                <a:solidFill>
                  <a:srgbClr val="660066"/>
                </a:solidFill>
                <a:latin typeface="宋体"/>
              </a:rPr>
              <a:t>地落到了池中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8160" y="28526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35772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99480" y="3933720"/>
            <a:ext cx="7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18920" cy="1435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79640" y="220680"/>
            <a:ext cx="53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飞快地走了过来，一把握住鹅的长脖子。鹅用脚爪划他，用嘴啄他，可是金奎叔的力气是那么大，他轻轻地把鹅提了起来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0"/>
            <a:ext cx="1655640" cy="1844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942160" y="1159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31280" y="1459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000" y="14590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164360" y="5013360"/>
            <a:ext cx="1368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740720" cy="6018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3888000" cy="3225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51120" y="98748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一个词形容这时的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48920" y="227664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落荒而逃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55640" y="936720"/>
            <a:ext cx="1008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651640" y="4724280"/>
            <a:ext cx="10112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88000" y="5157720"/>
            <a:ext cx="900360" cy="1081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380360" y="5516640"/>
            <a:ext cx="1439640" cy="811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4695840" cy="5629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20970600">
            <a:off x="1314360" y="844560"/>
            <a:ext cx="282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金奎叔对我讲了句什么话</a:t>
            </a: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?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这句话使我对鹅的态度发生什么变化</a:t>
            </a:r>
            <a:r>
              <a:rPr b="1" lang="en-US" sz="3200" spc="-1" strike="noStrike">
                <a:solidFill>
                  <a:srgbClr val="3333cc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27480" y="1932120"/>
            <a:ext cx="318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它虽然把我们看得比它小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可我们实在比它强呀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826920" y="765000"/>
          <a:ext cx="6192720" cy="4265640"/>
        </p:xfrm>
        <a:graphic>
          <a:graphicData uri="http://schemas.openxmlformats.org/drawingml/2006/table">
            <a:tbl>
              <a:tblPr/>
              <a:tblGrid>
                <a:gridCol w="1179360"/>
                <a:gridCol w="2421000"/>
                <a:gridCol w="259236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态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启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535120" y="206064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欺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06064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害 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3440" y="306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欺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306864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害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3860640"/>
            <a:ext cx="44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看事物的角度不同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所得结果不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028000" cy="585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643280" cy="360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99280" y="76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9480" y="4941720"/>
            <a:ext cx="26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同学们对牛有什么印象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20793600">
            <a:off x="1517400" y="1423080"/>
            <a:ext cx="419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隶书"/>
              </a:rPr>
              <a:t>拓展延伸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隶书"/>
              </a:rPr>
              <a:t>你能想出与本课道理相同的小故事吗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32000" y="1268280"/>
            <a:ext cx="5327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对于任何事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由于看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题的角度不同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结果就会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同。因此，我们要多角度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问题，做生活的有心人！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们下次再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0056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66640" y="620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08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你对鹅又有什么看法呢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3408" t="4158" r="7268" b="4369"/>
          <a:stretch/>
        </p:blipFill>
        <p:spPr>
          <a:xfrm>
            <a:off x="611280" y="1268280"/>
            <a:ext cx="374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24040" y="1225440"/>
            <a:ext cx="13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课文主要写了一件什么事</a:t>
            </a:r>
            <a:r>
              <a:rPr b="1" lang="en-US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31280" y="18446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先写……接着写……最后写…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314172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课文按</a:t>
            </a:r>
            <a:r>
              <a:rPr b="1" lang="en-US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顺序来写</a:t>
            </a:r>
            <a:r>
              <a:rPr b="1" lang="en-US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可分为三部分</a:t>
            </a:r>
            <a:r>
              <a:rPr b="1" lang="en-US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2908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事情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561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49200" y="533520"/>
            <a:ext cx="17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部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(1~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64080" y="2394000"/>
            <a:ext cx="24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部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(5~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63720" y="3992400"/>
            <a:ext cx="26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部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(12~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6480" y="1241280"/>
            <a:ext cx="45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写由于牛和鹅看人的态度不同，所以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们对待牛和鹅的态度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2997360"/>
            <a:ext cx="41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写“我们”回家的路上被鹅追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后来金奎叔叔帮助“我们”赶走了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4724280"/>
            <a:ext cx="41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写“我”记着金奎叔的话，从此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牛、对鹅都改变了态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486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417168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25120" y="70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378936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43520" y="20653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rcRect l="3408" t="4158" r="7268" b="4369"/>
          <a:stretch/>
        </p:blipFill>
        <p:spPr>
          <a:xfrm>
            <a:off x="5796000" y="2565360"/>
            <a:ext cx="2666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486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1125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为什么把牛字写得小，把鹅字               写得大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2800" y="2754360"/>
            <a:ext cx="39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. “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我们”是怎样对待牛和鹅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找出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31440" y="429264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找出“我们” 牛的动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并打上三角符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9080" y="53737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拍、摸、触、刮、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5200" y="2133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对牛和鹅的态度不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43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76380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象声词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0" y="441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吭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760" y="5334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啪嗒啪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33412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啪啪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46680" y="441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吁哩哩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屁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60020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破碗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160020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扳牛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6002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池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8195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惹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8195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握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28195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束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掐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035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ì ɡ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1066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w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31040" y="10666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07840" y="1066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án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8120" y="22543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4640" y="22543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w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2720" y="225432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hù f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8880" y="2254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qi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440" y="56340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561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6120" y="62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、回顾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785960"/>
            <a:ext cx="74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和鹅对人的态度分别是什么？为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781360"/>
            <a:ext cx="60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“我们”对牛和鹅的态度又是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的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38680" y="5181480"/>
            <a:ext cx="1422360" cy="592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00800" y="5334120"/>
            <a:ext cx="142236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9:55:05Z</dcterms:created>
  <dc:creator>Administrator</dc:creator>
  <dc:description/>
  <dc:language>en-US</dc:language>
  <cp:lastModifiedBy/>
  <dcterms:modified xsi:type="dcterms:W3CDTF">2015-07-28T01:34:20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