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736-868D-479D-B62D-7C1E1738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AFB-480A-4306-B0E9-773E918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057-2A85-4A5D-9273-6DF98AE1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CD1-710F-43F1-B13E-BF6F14C7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9DA8-1343-439C-8596-739B411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70D-96E6-469F-B46A-507AA946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296-E711-43A4-B85B-B482C40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3796-4484-4A06-B757-D7BC0F14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EE9B-D416-4645-88F4-6DE7B6CF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F92-4095-48B5-AEFB-8BE9AF3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35F-6E00-4267-8357-447B422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04B-00EE-4CAE-BFE8-16FBBDC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9999-8E0C-468D-9A81-FBE3CA3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49AE-A1C8-4787-A8F6-C0F5269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DDE-A9D8-4FA8-AB70-B1E269D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37E-65E2-43A5-94DB-18F7B1F4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5C18-5DA5-42BC-A671-21BB9764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0E2E-2A65-4135-BF23-4A0077CD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9FD9-F01D-4F8A-B6CB-EE39F2AD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AC4E-67D5-45E4-B695-F3936235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5437-AE80-49C1-932F-BA99F0F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7BBF-69A4-4B4B-A5E7-031F61B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55D-AD96-4599-857E-0BC3675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B28F-B950-4B19-BC81-187C24A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DA89-720F-4DE2-B93A-7CE590A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809D-F5CE-4CF1-886F-AC503C0D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F250B-0A9B-4DD1-B04C-583B1331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A241-0470-4EDD-ACF2-91AAED3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3350-1C0E-4ED7-9398-CC8579EF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84D4-2DD4-4CFF-A1CD-4F662762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E1A9-CD6B-4D97-AF85-6568CCD0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9BE0-3A89-4D50-B2F8-8FE14F82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C074-F7F3-4154-B73C-F81476B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338-9D4B-4D56-889F-02078B0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45B3-F7A5-4C52-9062-9BA462A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348A-BA8C-4768-89AB-C5BE73E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3EC1-9D47-4B2F-94BE-D1692EB9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9BFF-0E11-4CF1-A58E-4874FEAC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363A-F8D1-41E8-BE58-E5E9B3B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DB86-7D06-47AD-AF57-E03F713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5349-88A5-4344-BF13-538CC463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C913-F24C-40DD-A896-77FCAB61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3A7E-61CB-43F0-8B95-982E41B9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5343-0844-4796-B9C8-C03EE853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EF3-F249-4483-B577-57FE69E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0864-1560-4631-A05C-49A3849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2402-86FC-42DC-B7E0-0FC52FA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6C774-584B-43CE-B926-DCF8F694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51CA-7E53-4ACE-A703-B553B57C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DAB2-7424-4521-960C-BAC6F80A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B728-D6AB-4D74-88FC-7A1A92D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6719-5304-4A93-87DC-F1183CAB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5B042-16A5-470C-B3FF-7CBE424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0C5A0-43A1-4391-9EEE-4FE1C895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B9918-1AB1-424E-B3B7-BC5F5C4B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901-E245-4926-9614-8C0CEBDB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F0C6-8390-4103-B034-1B4EEE16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891-5268-4C3B-821F-7FC6924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D58-BAC6-4FEA-9EC6-83F798B1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630-F252-4B80-9727-D4CC283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0E79-E9FD-4A31-B877-CF816685E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A9B3-860E-4F01-A97C-9346AC7B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81E-83E2-4830-91B3-0D1B6633E06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6318-19A4-48B4-8B3E-77AA0B35F07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B7F-574C-4869-AE0B-E3A6507787AE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4920" cy="6727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828800" y="2057400"/>
            <a:ext cx="5486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普罗米修斯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38080" y="685800"/>
            <a:ext cx="32004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古希腊神话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自从有了火，人类就开始用它烧熟食物，驱寒取暖，并用火来驱赶危害人类安全的猛兽…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9718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很久很久以前，地面上没有火，人们只好吃生的东西，在无边的黑夜中度过一个又一个长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657600" y="4572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普罗米修斯的双手和双脚戴着铁环，被死死地锁在高高的悬崖上。他既不能动弹，也不能睡觉，日夜遭受着风吹雨淋的痛苦。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52680" y="533520"/>
            <a:ext cx="579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夏日炎炎，太阳像火球似的炙烤着他，他（　　）；雷电来了，他（　　）；冬日，凛冽的寒风抽打着他，他（　　）；刺骨的雪霜冰冻着他，他（　　）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09880" y="736560"/>
            <a:ext cx="487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普罗米修斯的双手和双脚戴着铁环，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死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高高的悬崖上。他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既不能动弹，也不能睡觉，日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遭受着风吹雨淋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痛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66680" y="990720"/>
            <a:ext cx="51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2767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普罗米修斯摇摇头，坚定地回答：“为人类造福，有什么错？我可以忍受各种痛苦，但决不会承认错误，更不会归还火种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火神很敬佩普罗米修斯，受刑前曾悄悄地对他说：“只要你向宙斯承认错误，归还火种，我一定请求他饶恕你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57600" y="457200"/>
            <a:ext cx="54864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火神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敢违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宙斯的命令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普罗米修斯押到高加索山上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普罗米修斯的双手和双脚戴着铁环，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死死地锁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高的悬崖上。他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既不能动弹，也不能睡觉，日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遭受着风吹雨淋的痛苦。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4920" y="6858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宙斯狂笑着说：“如果你现在向我求饶，归还火种，我还可以饶恕你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2004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普罗米修斯摇摇头，坚定地回答：“为人类造福，有什么错？我可以忍受各种痛苦，但决不会承认错误，更不会归还火种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2997360"/>
            <a:ext cx="8677080" cy="3470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" y="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狠心的宙斯又派了一只凶恶的鹫鹰，每天站在普罗米修斯的双膝上，用它尖利的嘴巴，啄食他的肝脏。白天，他的肝脏就被吃光了，可是一到晚上，肝脏又重新长了起来。这样，普罗米修斯所承受的痛苦，永远没有尽头了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124080"/>
            <a:ext cx="4114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2916360" cy="3662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-36360" y="4005360"/>
            <a:ext cx="3058920" cy="2657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886200" y="53352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受刑中的普罗米修斯在想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84720" y="1844640"/>
            <a:ext cx="4114800" cy="2895480"/>
            <a:chOff x="4284720" y="1844640"/>
            <a:chExt cx="4114800" cy="2895480"/>
          </a:xfrm>
        </p:grpSpPr>
        <p:sp>
          <p:nvSpPr>
            <p:cNvPr id="269" name=""/>
            <p:cNvSpPr/>
            <p:nvPr/>
          </p:nvSpPr>
          <p:spPr>
            <a:xfrm>
              <a:off x="4513320" y="184464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04040" y="2454120"/>
              <a:ext cx="2514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84720" y="3216240"/>
              <a:ext cx="3733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84720" y="3978360"/>
              <a:ext cx="3733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4720" y="4740120"/>
              <a:ext cx="3733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42320" y="39783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87280" y="2133720"/>
            <a:ext cx="795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火，人类只能（  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火，人类只能（  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火，人类只能（  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2133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遭受猛兽袭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924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忍受寒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3716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吃生的食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学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读课文，读准生字生词的音。借助工具书理解课文中新词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907920"/>
            <a:ext cx="957564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普罗米修斯冒着生命危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人类（                           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普罗米修斯冒着生命危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人类（                           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普罗米修斯冒着生命危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人类（                           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普罗米修斯冒着生命危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人类（                           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19280" y="1484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吃到香气扑鼻、鲜香异常的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278136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会丧命在猛兽的利齿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47640" y="414972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可以驱寒取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544500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在夜晚有了光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68360" y="795240"/>
            <a:ext cx="11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177336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自从有了火，人类从黑暗走向（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自从有了火，人类从寒冷走向（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自从有了火，人类从痛苦走向（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自从有了火，人类从疾病走向（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自从有了火，人类从野蛮走向（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1868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b1b"/>
                </a:solidFill>
                <a:latin typeface="Arial"/>
              </a:rPr>
              <a:t>光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0320" y="2282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b1b"/>
                </a:solidFill>
                <a:latin typeface="Arial"/>
              </a:rPr>
              <a:t>温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0940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b1b"/>
                </a:solidFill>
                <a:latin typeface="Arial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2360" y="5805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-5605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720" y="3363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b1b"/>
                </a:solidFill>
                <a:latin typeface="Times New Roman"/>
              </a:rPr>
              <a:t>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24720" y="3940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b1b"/>
                </a:solidFill>
                <a:latin typeface="Times New Roman"/>
              </a:rPr>
              <a:t>文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9640" y="6602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普罗米修斯的双手和双脚带着铁环，被死死的锁在高高的悬崖上。他既不能动弹，也不能睡觉，日夜遭受着风吹雨淋的痛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27813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火辣辣的太阳炙烤着大地，普罗米修斯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漫漫长夜空无一人，普罗米修斯（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雪纷飞，冰天雪地，普罗米修斯（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35240" y="463860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尽管如此，普罗米修斯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是不向宙斯屈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92360" y="620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课文中的这几位神给你留下了怎样的印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1484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普罗米修斯是一个真正的英雄，他有正义感、不畏强权、善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63640" y="278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宙斯冷酷无情，心狠手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35280" y="36450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Times New Roman"/>
              </a:rPr>
              <a:t>火神是一位有正义感的神，但是他很软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35280" y="46530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赫拉克勒斯不仅有力气，他还有正义感，敢作敢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83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山险峻、铁链加身，烈日如火、暴雨如注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沉重的铁链只能锁住你的躯体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怎能锁住那颗坦荡无私的心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难道这仅仅是物质的火种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，你给予我们的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声声不息的精神火种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勇敢、坚强、博爱、无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就是你——普罗米修斯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804000" y="2133720"/>
            <a:ext cx="231156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-181080" y="-44280"/>
            <a:ext cx="8101080" cy="72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                                     </a:t>
            </a: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普罗米修斯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是谁？让漫漫黑夜跳跃希望的火苗？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是谁？让蛮荒时代沐浴文明的曙光？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是谁？甘愿触犯天条也要救人类于水火？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是谁？身受酷刑却无怨无悔？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啊！巨人，是你给人类带来火种，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送来光和热，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    高山险峻、铁链加身，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烈日如火、暴雨如注．．．．．．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但沉重的铁链只能锁住你的躯体，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却怎能锁住那颗坦荡无私的心！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难道仅仅是物质的火种吗？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不，你给予我们的，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是生生不息的精神火种！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勇敢、坚强、博爱、无私，</a:t>
            </a:r>
            <a:br>
              <a:rPr sz="2800"/>
            </a:br>
            <a:r>
              <a:rPr b="1" lang="zh-CN" sz="2800" spc="-1" strike="noStrike">
                <a:solidFill>
                  <a:srgbClr val="fb4b1b"/>
                </a:solidFill>
                <a:latin typeface="楷体_GB2312"/>
                <a:ea typeface="楷体_GB2312"/>
              </a:rPr>
              <a:t>　　　　这就是你－－－普罗米修斯！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1640" y="907560"/>
            <a:ext cx="4273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业：写话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写你想对普罗米修斯说的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雪莱，写一写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0"/>
            <a:ext cx="4211640" cy="6858000"/>
            <a:chOff x="0" y="0"/>
            <a:chExt cx="4211640" cy="6858000"/>
          </a:xfrm>
        </p:grpSpPr>
        <p:pic>
          <p:nvPicPr>
            <p:cNvPr id="307" name="Picture 4" descr=""/>
            <p:cNvPicPr/>
            <p:nvPr/>
          </p:nvPicPr>
          <p:blipFill>
            <a:blip r:embed="rId1"/>
            <a:srcRect l="32292" t="541" r="29916" b="0"/>
            <a:stretch/>
          </p:blipFill>
          <p:spPr>
            <a:xfrm>
              <a:off x="0" y="0"/>
              <a:ext cx="421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 txBox="1"/>
            <p:nvPr/>
          </p:nvSpPr>
          <p:spPr>
            <a:xfrm>
              <a:off x="0" y="0"/>
              <a:ext cx="42116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àn) 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ǐ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iù) 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hé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á) 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ēn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ù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jì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èi) 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áo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ù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éi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kàng)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ěn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jiù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īng) 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双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ī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ān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zàng) 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ǒ) 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ā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驱寒取暖                       气急败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3203640" y="333360"/>
            <a:ext cx="2361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22096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普罗米修斯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宙斯　阿波罗　赫拉克勒斯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3357720"/>
            <a:ext cx="7656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驱寒取暖　挽弓搭箭　高加索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厉　惩罚　执行　饶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锁链　鹫鹰　动弹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tan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304920"/>
            <a:ext cx="2362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692000" y="1052280"/>
            <a:ext cx="655308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主要讲了一件什么事？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本文就是写普罗米修斯为了给人类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造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不惜冒着生命危险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违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宙斯的命令，勇敢地盗取天火，从而遭到严厉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惩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最后在大力神赫拉克勒斯的解救下获得了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549360"/>
            <a:ext cx="72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1523880"/>
            <a:ext cx="73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990720"/>
            <a:ext cx="8915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谁？让漫漫黑夜跳跃希望的火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谁？让蛮荒时代沐浴文明的曙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？甘愿触犯天条也要救人类于水火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？身受酷刑却无怨无悔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6920" y="838080"/>
            <a:ext cx="831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１、轻声朗读课文，难读的词句多读几遍，并给课文标上小节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２、划出神话中出现的众神，想想他们之间发生了哪些事？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19520" y="2757600"/>
            <a:ext cx="335268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普罗米修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286000" y="1981080"/>
            <a:ext cx="4266720" cy="2286000"/>
            <a:chOff x="2286000" y="1981080"/>
            <a:chExt cx="4266720" cy="2286000"/>
          </a:xfrm>
        </p:grpSpPr>
        <p:sp>
          <p:nvSpPr>
            <p:cNvPr id="222" name=""/>
            <p:cNvSpPr/>
            <p:nvPr/>
          </p:nvSpPr>
          <p:spPr>
            <a:xfrm>
              <a:off x="4343400" y="19810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3200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3124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1972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3520" y="380880"/>
            <a:ext cx="7848000" cy="5411880"/>
            <a:chOff x="533520" y="380880"/>
            <a:chExt cx="7848000" cy="5411880"/>
          </a:xfrm>
        </p:grpSpPr>
        <p:sp>
          <p:nvSpPr>
            <p:cNvPr id="227" name=""/>
            <p:cNvSpPr/>
            <p:nvPr/>
          </p:nvSpPr>
          <p:spPr>
            <a:xfrm>
              <a:off x="3124080" y="5089320"/>
              <a:ext cx="27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宋体"/>
                </a:rPr>
                <a:t>赫拉克勒斯</a:t>
              </a:r>
              <a:r>
                <a:rPr b="1" lang="en-US" sz="40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5480" y="1203120"/>
              <a:ext cx="281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宙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520" y="3184560"/>
              <a:ext cx="175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66cc"/>
                  </a:solidFill>
                  <a:latin typeface="宋体"/>
                </a:rPr>
                <a:t>阿波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2560" y="280332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6600"/>
                  </a:solidFill>
                  <a:latin typeface="宋体"/>
                </a:rPr>
                <a:t>火神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5480" y="380880"/>
              <a:ext cx="281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众神的领袖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23461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66cc"/>
                  </a:solidFill>
                  <a:latin typeface="宋体"/>
                </a:rPr>
                <a:t>太阳神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4419360"/>
              <a:ext cx="18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66ff"/>
                  </a:solidFill>
                  <a:latin typeface="宋体"/>
                </a:rPr>
                <a:t>大力神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533520"/>
            <a:ext cx="8458200" cy="703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很久很久以前，地面上没有火，人们只好吃生的东西，在无边的黑夜中度过一个又一个长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743200"/>
            <a:ext cx="8305560" cy="1783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火，人们只好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没有火，人们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9528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茹毛饮血——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5867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原始人不会用火，连毛带血地生吃禽兽。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1371600" cy="833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400800" y="5032440"/>
            <a:ext cx="1295280" cy="682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848720" y="4876920"/>
            <a:ext cx="1143000" cy="8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5:50:33Z</dcterms:created>
  <dc:creator>Administrator</dc:creator>
  <dc:description/>
  <dc:language>en-US</dc:language>
  <cp:lastModifiedBy/>
  <dcterms:modified xsi:type="dcterms:W3CDTF">2015-07-28T02:02:12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