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camera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42D-ADA9-478E-85A7-AE0FD14B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DFE-7756-45A0-8E6F-EF05660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178-72E3-4223-853D-2652A160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107-DDE8-41D7-8536-8A46F794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F8-A93D-4A4D-B27A-0458D9F3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643-C401-4CE9-8FD4-481BE5F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413-24CD-4C6F-BE01-BF40DB5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2B8-9F71-4388-8C9C-20B73B74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6B7-767C-493C-BC35-C77EF24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DFD-1DA4-487A-B132-8C82A81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92F-8662-40EB-AD96-105ACCC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CCC-7500-4D0B-AAB9-95E6AF5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876-E8E3-4303-B3A3-02F20DBD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4419720" y="2666880"/>
            <a:ext cx="342900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穷人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42" name="Picture 10" descr="穷人"/>
          <p:cNvPicPr/>
          <p:nvPr/>
        </p:nvPicPr>
        <p:blipFill>
          <a:blip r:embed="rId1"/>
          <a:stretch/>
        </p:blipFill>
        <p:spPr>
          <a:xfrm>
            <a:off x="1066680" y="1981080"/>
            <a:ext cx="2801880" cy="3934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447920" y="114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沪教版五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980720" y="3429000"/>
            <a:ext cx="5410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古老的钟发哑地敲了十下，十一下</a:t>
            </a:r>
            <a:r>
              <a:rPr b="1" lang="en-US" sz="3600" spc="-1" strike="noStrike">
                <a:solidFill>
                  <a:srgbClr val="ff00ff"/>
                </a:solidFill>
                <a:latin typeface="华文仿宋"/>
                <a:ea typeface="华文仿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080" y="20574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１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从“屋内装饰”看出“穷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66680" y="228600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　　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孩子们没有鞋穿，不论冬夏都光着脚跑来跑去；吃的是黑面包，菜只有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38280" y="4724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２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从“吃、穿”看出“穷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丈夫清早驾着小船出海，这时候还没有回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丈夫不顾惜身体，冒着寒冷和风暴出去打鱼，她自己也从早到晚地干活，还只能勉强填饱肚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糟糕，真糟糕！什么也没有打到，还把网给撕破了。倒霉，倒霉！天气可真厉害！我简直记不起几时有过这样的夜晚了，还谈得上什么打鱼！谢谢上帝，总算活着回来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29528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３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从“桑娜和渔夫的忙碌”看出“穷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屋外寒风呼啸，汹涌澎湃的海浪拍击着海岸，溅起一阵阵浪花。海上正起着风暴，外面又黑又冷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海风呼啸声、波涛的轰鸣、狂风的怒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海面上什么也看不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12193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从“天气的恶劣”看出“穷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1295280" y="4876920"/>
            <a:ext cx="7391520" cy="1600200"/>
            <a:chOff x="1295280" y="4876920"/>
            <a:chExt cx="7391520" cy="1600200"/>
          </a:xfrm>
        </p:grpSpPr>
        <p:sp>
          <p:nvSpPr>
            <p:cNvPr id="82" name="AutoShape 6"/>
            <p:cNvSpPr/>
            <p:nvPr/>
          </p:nvSpPr>
          <p:spPr>
            <a:xfrm>
              <a:off x="1295280" y="4876920"/>
              <a:ext cx="7391520" cy="1600200"/>
            </a:xfrm>
            <a:prstGeom prst="cloudCallout">
              <a:avLst>
                <a:gd name="adj1" fmla="val -35074"/>
                <a:gd name="adj2" fmla="val -5486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1905120" y="52578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提示：渔夫在这样恶劣的天气之下仍然冒险出海打鱼，这里以环境描写写出了“穷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QQ截图未命名7"/>
          <p:cNvPicPr/>
          <p:nvPr/>
        </p:nvPicPr>
        <p:blipFill>
          <a:blip r:embed="rId1"/>
          <a:stretch/>
        </p:blipFill>
        <p:spPr>
          <a:xfrm>
            <a:off x="457200" y="304920"/>
            <a:ext cx="8353440" cy="6172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057400" y="5715000"/>
            <a:ext cx="533412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“天气的恶劣”看出“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pic_27067202"/>
          <p:cNvPicPr/>
          <p:nvPr/>
        </p:nvPicPr>
        <p:blipFill>
          <a:blip r:embed="rId1"/>
          <a:stretch/>
        </p:blipFill>
        <p:spPr>
          <a:xfrm>
            <a:off x="6553080" y="4114800"/>
            <a:ext cx="22860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0"/>
          <p:cNvGrpSpPr/>
          <p:nvPr/>
        </p:nvGrpSpPr>
        <p:grpSpPr>
          <a:xfrm>
            <a:off x="1066680" y="1523880"/>
            <a:ext cx="7391520" cy="2667240"/>
            <a:chOff x="1066680" y="1523880"/>
            <a:chExt cx="7391520" cy="2667240"/>
          </a:xfrm>
        </p:grpSpPr>
        <p:sp>
          <p:nvSpPr>
            <p:cNvPr id="90" name="AutoShape 7"/>
            <p:cNvSpPr/>
            <p:nvPr/>
          </p:nvSpPr>
          <p:spPr>
            <a:xfrm>
              <a:off x="1066680" y="1523880"/>
              <a:ext cx="7391520" cy="2667240"/>
            </a:xfrm>
            <a:prstGeom prst="wedgeEllipseCallout">
              <a:avLst>
                <a:gd name="adj1" fmla="val 38143"/>
                <a:gd name="adj2" fmla="val 4648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1600200" y="2057400"/>
              <a:ext cx="6400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有人说这篇课文中的“穷人”桑娜和渔夫其实并不“穷”，其实他们很“富有”。你支持这种观点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9"/>
          <p:cNvSpPr txBox="1"/>
          <p:nvPr/>
        </p:nvSpPr>
        <p:spPr>
          <a:xfrm>
            <a:off x="2743200" y="502920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47920" y="28195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地扫得干干净净，炉子里的火还没有熄，食具在搁板上闪闪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挂着白色帐子的床上，五个孩子正在海风呼啸声中安静地睡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1752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１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华文中宋"/>
              </a:rPr>
              <a:t>.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家中整洁、温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99840" y="342864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桑娜想起了傍晚就想去探望的那个生病的女邻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9051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２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桑娜关心生病的女邻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3880" y="27432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752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３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中宋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夫妻俩不顾生活艰难收养孤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133720" y="289548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认真体会人物的对话和心理活动描写，看看这些描写体现了人物怎样的思想品质，它们与桑娜和渔夫的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富有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95280" y="30477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这样做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是指收养西蒙的两个孤儿，把他们抚养成人。面对西蒙的悲惨遭遇，桑娜本能地把两个孤儿抱回了自己的家。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不知道为什么要这样做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但是觉得非这样做不可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看似矛盾，实际上反映了桑娜同情穷人、关心穷人的善良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5800" y="1676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她的心跳得很厉害，自己也不知道为什么要这样做，但是觉得非这样做不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dee30dd6a3fe6c38c10292b"/>
          <p:cNvPicPr/>
          <p:nvPr/>
        </p:nvPicPr>
        <p:blipFill>
          <a:blip r:embed="rId1"/>
          <a:stretch/>
        </p:blipFill>
        <p:spPr>
          <a:xfrm>
            <a:off x="0" y="189000"/>
            <a:ext cx="414036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284720" y="189000"/>
            <a:ext cx="485928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尔斯泰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俄国作家。出身贵族。幼年父母双亡，由姑母抚养成人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去高加索从军，曾参加克里米亚的塞瓦斯托波尔战役，并在这里开始文学创作生涯，开始创作小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退役后两度出国游历、考察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6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起，用六年时间写成巨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争与和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擅长细腻的心理描写，善于表现人物心理，形象生动逼真，对欧洲和世界文学产生过巨大影响。他的代表作有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列尼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穷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入小学语文课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55640" y="404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会说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4360" y="1341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闹着玩的吗？自己的五个孩子已经够他受的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2781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什么把他们抱过来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843280" y="5013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忐忑不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55640" y="3716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该怎么对他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765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如果桑娜不把这两个孤儿抱过来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如果桑娜把这两个孤儿抱过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桑娜想：与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宁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也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桑娜抱回孤儿后，心里十分紧张、担忧，担心给丈夫增加负担，不知道怎么告诉丈夫这件事。但是她最终决定宁可让丈夫揍一顿，也要收养孤儿。透过桑娜的心理活动，读者能感受到桑娜深爱丈夫，同情孤儿，宁可自己吃苦也要帮助别人的美好心灵。省略号的连续运用，表明桑娜当时的心理活动的时断时续，逼真地写出了桑娜不安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33720" y="4495680"/>
            <a:ext cx="655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她忐忑不安地想：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会说什么呢？这是闹着玩的吗？自己的五个孩子已经够他受的了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是他来啦？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不，还没来！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为什么把他们抱过来啊？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会揍我的！那也活该，我自作自受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嗯，揍我一顿也好！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332000" y="1413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人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沉默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263700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也不知道她什么时候死的，大概是昨天。唉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桑那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沉默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4360" y="1413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嗯，是个问题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95280" y="3357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嗯，你看怎么办？得把他们抱来，同死人呆在一起怎么行！哦，我们，我们总能熬过去的！快去！别等他们醒来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42920" y="620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渔夫皱起眉，他的脸变得严肃、忧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16000" y="2637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搔搔后脑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312920" y="4459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24000" y="1413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夫心里想：如果不把这两个孩子抱来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把这两个孩子抱来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与其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宁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00200" y="3809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这段话细致地描写了渔夫做出决定的前后思考过程，说明他与妻子桑娜一样，有着一颗甘愿自己受苦也要帮助他人的高尚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6002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渔夫皱起眉，他的脸变得严肃、忧虑。“嗯，是个问题！”他搔搔后脑勺说，“嗯，你看怎么办？得把他们抱来，同死人呆在一起怎么行！哦，我们，我们总能熬过去的！快去！别等他们醒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80720" y="3580920"/>
            <a:ext cx="67820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文章的悬念终于被解开，读者悬着的心也终于放下了。丈夫的理解，使桑娜沉浸在激动、兴奋和快慰中，这“一动不动”的动作恰如其分地表达了她当时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1600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④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但桑娜坐着一动不动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怎么啦？不愿意吗？你怎么啦，桑娜？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瞧，他们在这里啦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桑娜拉开了帐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Q截图未命名11"/>
          <p:cNvPicPr/>
          <p:nvPr/>
        </p:nvPicPr>
        <p:blipFill>
          <a:blip r:embed="rId1"/>
          <a:srcRect l="6129" t="0" r="47423" b="7143"/>
          <a:stretch/>
        </p:blipFill>
        <p:spPr>
          <a:xfrm>
            <a:off x="304920" y="32767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穷人1"/>
          <p:cNvPicPr/>
          <p:nvPr/>
        </p:nvPicPr>
        <p:blipFill>
          <a:blip r:embed="rId1"/>
          <a:stretch/>
        </p:blipFill>
        <p:spPr>
          <a:xfrm>
            <a:off x="7924680" y="1371600"/>
            <a:ext cx="12193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3"/>
          <p:cNvGraphicFramePr/>
          <p:nvPr/>
        </p:nvGraphicFramePr>
        <p:xfrm>
          <a:off x="2666880" y="4191120"/>
          <a:ext cx="18288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41911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22860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049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个孩子  勉强填饱肚子 光着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6002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桑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7524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渔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3716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邻居西蒙的孩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早到晚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432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顾惜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648320" y="22860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抱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1055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8320" y="35053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抱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105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能熬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6002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一颗乐于助人，善良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71629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可自己受苦也要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609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 flipV="1">
            <a:off x="6094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5486400" y="1371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769608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990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426708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7696080" y="3885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>
            <a:off x="25909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5909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45720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 flipV="1">
            <a:off x="45720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1371600" y="2514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2"/>
          <p:cNvSpPr/>
          <p:nvPr/>
        </p:nvSpPr>
        <p:spPr>
          <a:xfrm rot="10792800">
            <a:off x="7009920" y="281916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16"/>
                </a:lnTo>
                <a:cubicBezTo>
                  <a:pt x="10800" y="9716"/>
                  <a:pt x="5400" y="10616"/>
                  <a:pt x="0" y="10616"/>
                </a:cubicBezTo>
                <a:cubicBezTo>
                  <a:pt x="5400" y="10616"/>
                  <a:pt x="10800" y="11516"/>
                  <a:pt x="10800" y="124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3" descr="官方logo副本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b49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gaoxia8197200651213493812833"/>
          <p:cNvPicPr/>
          <p:nvPr/>
        </p:nvPicPr>
        <p:blipFill>
          <a:blip r:embed="rId2"/>
          <a:stretch/>
        </p:blipFill>
        <p:spPr>
          <a:xfrm>
            <a:off x="380880" y="1066680"/>
            <a:ext cx="2210040" cy="212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19320" y="36576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因为：桑娜和渔夫有勤劳、善良、淳朴、富于同情心、宁可自己吃苦也要帮助别人的美好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2590920" y="19051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中宋"/>
              </a:rPr>
              <a:t>他们是最“富有”的人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pic>
        <p:nvPicPr>
          <p:cNvPr id="160" name="Picture 11" descr="Gif0405_071"/>
          <p:cNvPicPr/>
          <p:nvPr/>
        </p:nvPicPr>
        <p:blipFill>
          <a:blip r:embed="rId3"/>
          <a:stretch/>
        </p:blipFill>
        <p:spPr>
          <a:xfrm>
            <a:off x="6781680" y="5181480"/>
            <a:ext cx="2019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QQ截图未命名3"/>
          <p:cNvPicPr/>
          <p:nvPr/>
        </p:nvPicPr>
        <p:blipFill>
          <a:blip r:embed="rId1"/>
          <a:stretch/>
        </p:blipFill>
        <p:spPr>
          <a:xfrm>
            <a:off x="252360" y="228600"/>
            <a:ext cx="8639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QQ截图未命名14"/>
          <p:cNvPicPr/>
          <p:nvPr/>
        </p:nvPicPr>
        <p:blipFill>
          <a:blip r:embed="rId1"/>
          <a:stretch/>
        </p:blipFill>
        <p:spPr>
          <a:xfrm>
            <a:off x="766800" y="523800"/>
            <a:ext cx="7610400" cy="5810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7340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俄罗斯穷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QQ截图未命名13"/>
          <p:cNvPicPr/>
          <p:nvPr/>
        </p:nvPicPr>
        <p:blipFill>
          <a:blip r:embed="rId1"/>
          <a:stretch/>
        </p:blipFill>
        <p:spPr>
          <a:xfrm>
            <a:off x="609480" y="533520"/>
            <a:ext cx="8210520" cy="5790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37340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俄罗斯穷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81080" y="3733560"/>
            <a:ext cx="56390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桑娜告诉丈夫自己已经把孩子抱回家后，课文就戛然而止了。孩子的命运会怎样呢？桑娜与渔夫又会带领孩子怎样渡过一个又一个的难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1905120" y="1371600"/>
            <a:ext cx="6705360" cy="2057400"/>
            <a:chOff x="1905120" y="1371600"/>
            <a:chExt cx="6705360" cy="2057400"/>
          </a:xfrm>
        </p:grpSpPr>
        <p:pic>
          <p:nvPicPr>
            <p:cNvPr id="171" name="Picture 6" descr="qr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8"/>
            <p:cNvSpPr/>
            <p:nvPr/>
          </p:nvSpPr>
          <p:spPr>
            <a:xfrm>
              <a:off x="1905120" y="1676520"/>
              <a:ext cx="350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课后小练笔：续写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《</a:t>
              </a: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穷人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684360" y="119700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1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她自己也不知道为什么要这样做，但是她觉得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非这样做不可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17002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蒙死了，孩子总不能和死人呆在一起，如果没有人管他们，他们以后怎么办？所以说“她觉得非这样做不可”。但她做这件事情的时候，并没有多考虑，只是良心驱遣她本能地这样做了，所以说，“她自己也不知道为什么要这样做”。从这句朴实的话中，可以看出桑娜的心地多么善良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029600" y="26028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难句讲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11280" y="3429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2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他搔搔后脑勺说，“嗯，你看怎么办？得把他们抱来，同死人呆在一起怎么行！哦，我们，我们总能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熬过去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的！快去！别等他们醒来。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11280" y="4365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讲渔夫考虑怎样对待西蒙的孩子的过程。“他搔搔后脑勺”说明他在考虑问题。“嗯，你看怎么办？”这是在和桑娜商量。“得把他们抱来，同死人呆在一起怎么行！”这是从简单的做人道理出发来考虑，孩子同死人在一起是不行的。“哦，我们，我们总能熬过去的！”考虑自己的生活虽然会更苦一些，但“总能熬过去的”。“快去！别等他们醒来、”怕孩子醒来知道妈妈死了，心灵受创伤。这样的考虑过程合乎情理，说明渔夫的心灵和桑娜一样地善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读拼音，写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image00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选词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抱怨　埋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你没做好只能怪自己不争气，不能（　）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我（　）小明睡过了头，没能搭上清早的班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安静　平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老师说：“班会就要开始，请大家（　）。”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南湖（　）得像一面镜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128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宁可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也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与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如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  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尽管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还是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9780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娜觉得（　）看着西蒙的孩子活活饿死，（　）自己多受些苦，把他们抱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夫和妻子（　）自己多受些苦，（　）要把西蒙的孩子抱回家中抚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写出下列句子中省略号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170080"/>
            <a:ext cx="9144000" cy="468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古老的钟发哑地敲了十下，十一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始终不见丈夫回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他来啦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，还没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把他们抱过来啊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会揍我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也活该，我自作自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谢谢上帝，总算活着回来啦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不在，你在家里做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907920"/>
            <a:ext cx="91440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声音的延续 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语言中断，语言断断续续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表示沉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1197000"/>
            <a:ext cx="89647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写出下列句子中红色字的意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船上的帆还没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请把这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报发下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上课时不要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昨天，百货大楼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元宵节的夜晚，家家户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结彩，好不热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50920" y="476280"/>
            <a:ext cx="8569080" cy="22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溅起浪花　填饱肚子　抱怨   自作自受　　　　　　　湿淋淋   黧黑  忐忑不安  寒风呼啸  汹涌澎湃   波涛轰鸣  心惊肉跳   寡妇  熬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阅读下面一段话，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渔夫皱起眉，他的脸变得严肃，忧虑。“嗯，是个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搔搔后脑勺说，“嗯，你看怎么办？得把他们抱来，同死人呆在一起怎么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哦，我们，我们总能熬过去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等他们醒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神情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动作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语言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这段话中我们可以看出渔夫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79280" y="260280"/>
            <a:ext cx="87854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、阅读答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（一）一条小面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前，有个地方闹饥荒。一位富有的面包师把城里最穷的二十个小孩召来，对他们说：“这个篮子里的面包你们一人一条。在上帝带来好光景以前，你们每天都可以来拿一条面包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些饥饿的孩子蜂拥而上，围住篮子你推我嚷，因为他们每个人都想拿到最大的面包。最后，当他们拿到了面包，也没有向这位好心的面包师说声谢谢，就走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但是格琳琴，这位衣着贫寒的小姑娘，既没有同大家一起吵闹，也没有与其他人争抢。她只是谦让地站在一步以外，等那些坏行为的孩子离去以后，才拿起剩在篮子里最小的一条面包。她亲吻了面包师的手以表示感谢，然后才回家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，那些孩子同先前一样没有教养，抢在前面。而羞怯、可怜的小格琳琴只得到一条比头一天还小一半的面包。当她回家以后，妈妈切开面包，许多崭新、发亮的银币掉了出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妈妈惊奇地叫道：“立即把钱送回去，一定是揉面的时候不小心揉进去的。赶快去，格琳琴，赶快去！”当小姑娘把妈妈的话告诉面包师的时候，他说：“不，不，我的孩子，这没有错。是我把银币放进小面包里的，我要奖励你。愿你永远保持现在这样一颗平安、感恩的心。回家吧，告诉你妈妈这些钱是你的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为什么格琳琴的到了奖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何为贫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富有的父亲带着小儿子去乡下旅行，想让他见识一下穷人是怎么生活的。在农场最穷的人家里他们度过了一天一夜。旅行结束后，父亲问儿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行怎么样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极了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回你知道穷人是怎么过日子的了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儿子回答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发现咱家里只有一条狗，可是他们家里却有四条狗；咱家仅有一个水池通向花坛的中央，可他们竟有一条望不到头的小河；我们的花园里只有几盏灯，可他们却有满天的星星；还有，我们的院子只有那么一点儿，可他们的院子却有整个农场那么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子说完，父亲哑口无言。接着儿子又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父亲让我明白了我们有多么贫穷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522936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认为自己家贫穷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穷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条小面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为贫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三个故事后，说说你对贫穷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0" y="22320"/>
            <a:ext cx="9144000" cy="42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你！桑娜站起来，不敢抬起眼睛看他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是啊，天气坏透了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鱼打得怎么样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24000" y="206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是指桑娜还没有想出好办法时，丈夫的出现使他惊讶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应读作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ò]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惊讶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536724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是桑娜对天气坏和丈夫打渔艰难的理解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理解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0"/>
            <a:ext cx="914400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什么时候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嗯，你看怎么办？得把他们抱来，同死人呆在一起怎么行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们，我们总能熬过去的！快去！别等他们醒来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50920" y="620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是渔夫对桑娜告诉邻居西蒙死了的这一消息感到吃惊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吃惊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4292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看出渔夫在思考这个问题后醒悟而作出决定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，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示下决心醒悟的意思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呼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抱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作自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魁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倒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忧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 rot="5400000">
            <a:off x="-343080" y="278136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词语理解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191120" y="1371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中形容海风发出高而长的声音，说明寒风猛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191120" y="2362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埋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191120" y="2971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自己做错了事，自己承受不好的结果。受：承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038480" y="4038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身体）强壮高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19112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遇事不利；遭遇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191120" y="5105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忧愁担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200" y="16765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速读课文，</a:t>
            </a:r>
            <a:br>
              <a:rPr sz="4000"/>
            </a:b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复述故事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0920" y="35053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课文记叙了在一个寒风呼啸的夜晚</a:t>
            </a:r>
            <a:r>
              <a:rPr b="1" lang="en-US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桑娜与渔夫主动收养已故邻居西蒙的两个孤儿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r"/>
          <p:cNvPicPr/>
          <p:nvPr/>
        </p:nvPicPr>
        <p:blipFill>
          <a:blip r:embed="rId1"/>
          <a:stretch/>
        </p:blipFill>
        <p:spPr>
          <a:xfrm>
            <a:off x="533520" y="129528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QQ截图未命名6"/>
          <p:cNvPicPr/>
          <p:nvPr/>
        </p:nvPicPr>
        <p:blipFill>
          <a:blip r:embed="rId1"/>
          <a:stretch/>
        </p:blipFill>
        <p:spPr>
          <a:xfrm>
            <a:off x="380880" y="252360"/>
            <a:ext cx="83822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504960"/>
            <a:ext cx="67820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课文中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人”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指的是谁，他们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”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体现在哪些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533520" y="1447920"/>
            <a:ext cx="7009920" cy="1600200"/>
            <a:chOff x="533520" y="1447920"/>
            <a:chExt cx="7009920" cy="1600200"/>
          </a:xfrm>
        </p:grpSpPr>
        <p:sp>
          <p:nvSpPr>
            <p:cNvPr id="66" name="WordArt 4"/>
            <p:cNvSpPr txBox="1"/>
            <p:nvPr/>
          </p:nvSpPr>
          <p:spPr>
            <a:xfrm>
              <a:off x="2971800" y="1981440"/>
              <a:ext cx="4571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黑体"/>
                </a:rPr>
                <a:t>理解课文内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67" name="Picture 5" descr="063ck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4475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qr"/>
          <p:cNvPicPr/>
          <p:nvPr/>
        </p:nvPicPr>
        <p:blipFill>
          <a:blip r:embed="rId1"/>
          <a:stretch/>
        </p:blipFill>
        <p:spPr>
          <a:xfrm>
            <a:off x="2819520" y="990720"/>
            <a:ext cx="3962160" cy="5410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086600" y="9144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黑体"/>
              </a:rPr>
              <a:t>桑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3520" y="38098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黑体"/>
              </a:rPr>
              <a:t>渔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1828800" y="2895480"/>
            <a:ext cx="114300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6629040" y="1981080"/>
            <a:ext cx="121932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4T12:59:0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