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30F-4BA5-4A07-80AB-C30E4CE7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C0A-862E-4D36-95CB-54740A6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B26-3D6B-45B1-A0E1-690CBBB5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DB0-C40F-4C54-9795-03D5AF6C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B38-3F2C-4623-8138-9EE783B0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CA3-85B0-4EDA-9DA0-08D4AFF4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904-B733-45FE-BA0F-7E9D1BC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F5A-DDD9-48B1-92B1-6C4E93F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73E-5B24-41D2-9B27-4A3BDA9C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216-0A06-4BD2-A7F4-AF693B7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CC3-7E1E-43D5-A5E1-2830332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C7D-269D-4526-B313-E261170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C74-353A-4B5C-8C0B-B8BDA3F38B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669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赛马三月街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１．你能用一到两个词语形容“三月街”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２．你觉得作者是一个怎样的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３．如果你遇到这件事，你会怎么办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相传南诏细奴罗时，观音于三月十五日到大理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因此每年这个时候善男信女们便搭棚礼拜诵经并祭之。随着社会经济的发展，庙会逐渐演变成了滇西地方贸易集市和节日。传统三月街是物资交易以骡马、山货、药材、茶叶为大宗。白族要对歌跳舞，彝、白、回、藏各族还要赛马欢歌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90760" y="1224000"/>
            <a:ext cx="61624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00120" y="1409760"/>
            <a:ext cx="6143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uàng             bà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ǒ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é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赚             拌            耸          腾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xiān           jiǎo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luó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biā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掀　　　　搅　　　          　 鞭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hì</a:t>
            </a: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　　　 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wǔ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Calibri"/>
              </a:rPr>
              <a:t>誓　　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669400" y="5805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261760" y="350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　　央求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准备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赛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25320" y="1197000"/>
            <a:ext cx="359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盛大　　惊险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68240" y="4076640"/>
            <a:ext cx="359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机智　　勇敢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阿妈</a:t>
            </a: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特意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给阿爸打了二两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阿爸掏出烟，我</a:t>
            </a: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赶忙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上去给他点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那就让他试试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583080" y="333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央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枣红马跑的少了　　省些力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Calibri"/>
              </a:rPr>
              <a:t>偷偷的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糠料里伴上鸡蛋　　喂红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枣红马长的油光水滑的了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726000" y="1890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准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773360"/>
            <a:ext cx="7696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溜出马队，不跑了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原地打转　誓不从命　急得我大汗直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调转马头　相反方向　飞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轰动　倒彩　来劲　跑得更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醒过来　不含糊　拔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笑倒　笑弯了腰　捂着肚子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086360" y="404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赛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3:30:38Z</dcterms:created>
  <dc:creator/>
  <dc:description/>
  <cp:keywords/>
  <dc:language>en-US</dc:language>
  <cp:lastModifiedBy>Administrator</cp:lastModifiedBy>
  <dcterms:modified xsi:type="dcterms:W3CDTF">2015-04-09T15:21:50Z</dcterms:modified>
  <cp:revision>7</cp:revision>
  <dc:subject/>
  <dc:title>赛马三月街</dc:title>
</cp:coreProperties>
</file>