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F2D-91D7-4FAE-94BC-64C37A40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8EE-7656-469F-BFD5-F80035FE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A79-1C0D-431D-A5BA-CDD7E265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764-3B77-42EF-9E62-83437642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0594-B611-4FFC-90D5-31AAA6F5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7970-84F5-48B4-A2CE-4374B77D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0F7B-2755-41F9-89F5-422E0770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9062-F549-4D2C-A5A8-C13B09F0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EBBE-1B2D-4CB8-91BB-514AAA33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5338-A22B-474E-B51F-125EB06F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987A-0802-4972-BD38-06ECB662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120-5759-46F1-BA4A-9BDCF14E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E0F2-3B33-4C8E-A774-0B506CD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DEF3-6E9A-4124-8D66-8F7FC1B5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116E-3C15-451C-B39F-D4F9F03F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A745-B246-4D2A-A251-D03E790B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5C4C-5CAE-4C17-A743-E4F57D97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A0CB-198D-4485-A250-22D5CBBF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5EB2-75D1-4410-A77A-57A8B33C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6448-7728-4A30-B84E-456063A9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9112-F320-4107-93BD-1CA8E31F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A3755-A57D-4AF6-A492-DAA2B09E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897-6D2D-44BB-959A-9802492F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ED4E-1145-4626-883A-3A8E8C05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5F24-D586-4DC4-8637-960BBA57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D209-E28D-4688-ABD1-E156DC06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D395-EC72-4CAB-88F7-189D0EA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4EB64-2A7F-4CD5-9604-8E4E4A45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0C79-451B-4A1B-9940-6AA1581F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9A24-72E1-4A51-B2C3-6668ABDF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DCB-B135-49BE-B066-0670C28E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713-6B5B-4068-A100-F3F59BD1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384-F907-4C6D-8131-EDABAF56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FE2-F558-4803-8E33-DD6DDA8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5CB-BBAD-4623-9F41-7C1E51DC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C10-AB44-47CC-92CA-83C5CD8B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646FE3-FEB9-446E-9A47-929751659F8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9A6B16-743A-45EA-B306-57D67B33FEE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A2508B-C5EC-42DD-9E92-842EE9A0483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神奇的克隆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09480" y="2286000"/>
            <a:ext cx="784836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请同学们初读课文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想想课文主要写了什么内容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按照怎样的顺序介绍克隆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066680" y="1066680"/>
            <a:ext cx="579096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学习第一至第四自然段：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85800" y="2057400"/>
            <a:ext cx="8000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默读第一自然段：什么是克隆？文中是怎样说明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79280" y="0"/>
            <a:ext cx="914364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知道，高等动物一般要通过雄性和雌性生殖细胞的结合，才能繁衍后代，人们把这种繁殖叫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有性繁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换句话说，每只动物都有自己的爸爸妈妈。如果不经过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两性细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合而直接繁衍后代，就叫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无性繁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也称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克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689280" y="5029200"/>
            <a:ext cx="11869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1f497d"/>
                </a:solidFill>
                <a:latin typeface="Calibri"/>
              </a:rPr>
              <a:t>下定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295280" y="762120"/>
            <a:ext cx="4571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第五自然段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838080" y="1660680"/>
            <a:ext cx="7543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高等动物可不可以克隆呢？自读第五自然段，你读懂了什么？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080" y="3657600"/>
            <a:ext cx="754344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第一只克隆羊叫什么？名字是怎样得来的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诞生有什么意义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3640" cy="63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那么，高等生物可不可以克隆呢？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世纪开始，科学家在这方面进行了卓有成效的研究。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1996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年，英国科学家成功地克隆出了世界上第一只克隆羊。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这是一项了不起的成就，轰动了当时的科学界。科学家借用一名乡村歌手的名字，给这只克隆羊起名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多利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。 克隆技术是一项可以造福于人类的科技成果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765600" y="5791320"/>
            <a:ext cx="11869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1f497d"/>
                </a:solidFill>
                <a:latin typeface="Calibri"/>
              </a:rPr>
              <a:t>举例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57200" y="1371600"/>
            <a:ext cx="60955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学习第六至第八自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04920" y="2743200"/>
            <a:ext cx="800064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克隆技术是怎样造福人类的？你读懂了什么？除了书上的，你还了解哪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000820"/>
          <p:cNvPicPr/>
          <p:nvPr/>
        </p:nvPicPr>
        <p:blipFill>
          <a:blip r:embed="rId1"/>
          <a:stretch/>
        </p:blipFill>
        <p:spPr>
          <a:xfrm>
            <a:off x="6515280" y="4835520"/>
            <a:ext cx="2628720" cy="2022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jgzj3"/>
          <p:cNvPicPr/>
          <p:nvPr/>
        </p:nvPicPr>
        <p:blipFill>
          <a:blip r:embed="rId2"/>
          <a:stretch/>
        </p:blipFill>
        <p:spPr>
          <a:xfrm>
            <a:off x="0" y="0"/>
            <a:ext cx="1218960" cy="6857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179280" y="0"/>
            <a:ext cx="9322920" cy="756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1" lang="zh-CN" sz="5400" spc="-1" strike="noStrike">
                <a:solidFill>
                  <a:srgbClr val="000000"/>
                </a:solidFill>
                <a:latin typeface="Microsoft Sans Serif"/>
              </a:rPr>
              <a:t>插上想象的翅膀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Microsoft Sans Serif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假如你是一位克隆专家，你想克隆什么呢？为什么要克隆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要求：（</a:t>
            </a:r>
            <a:r>
              <a:rPr b="1" lang="en-US" sz="4000" spc="-1" strike="noStrike">
                <a:solidFill>
                  <a:srgbClr val="000000"/>
                </a:solidFill>
                <a:latin typeface="Microsoft Sans Serif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）想法要奇妙 （</a:t>
            </a:r>
            <a:r>
              <a:rPr b="1" lang="en-US" sz="4000" spc="-1" strike="noStrike">
                <a:solidFill>
                  <a:srgbClr val="000000"/>
                </a:solidFill>
                <a:latin typeface="Microsoft Sans Serif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）表达要有条理 （</a:t>
            </a:r>
            <a:r>
              <a:rPr b="1" lang="en-US" sz="4000" spc="-1" strike="noStrike">
                <a:solidFill>
                  <a:srgbClr val="000000"/>
                </a:solidFill>
                <a:latin typeface="Microsoft Sans Serif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法要有益于人类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80880" y="1476360"/>
            <a:ext cx="8610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文写了什么，按照什么顺序写的？用了什么说明方法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3"/>
          <p:cNvSpPr txBox="1"/>
          <p:nvPr/>
        </p:nvSpPr>
        <p:spPr>
          <a:xfrm>
            <a:off x="1447920" y="762120"/>
            <a:ext cx="2057040" cy="5331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ffcc00"/>
                </a:solidFill>
                <a:latin typeface="隶书"/>
                <a:ea typeface="隶书"/>
              </a:rPr>
              <a:t>总结课文</a:t>
            </a:r>
            <a:endParaRPr b="0" lang="en-US" sz="3600" spc="-1" strike="noStrike">
              <a:ln w="0">
                <a:noFill/>
              </a:ln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50920" y="3933720"/>
            <a:ext cx="2700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隆之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622600" y="3308400"/>
            <a:ext cx="2015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性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22600" y="4687920"/>
            <a:ext cx="216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造福人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419720" y="2743200"/>
            <a:ext cx="18712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植   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422600" y="3246480"/>
            <a:ext cx="2088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低等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456080" y="375120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等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422600" y="4327560"/>
            <a:ext cx="1152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422600" y="4759200"/>
            <a:ext cx="12250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挽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4422600" y="5264280"/>
            <a:ext cx="10792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6296040" y="3103560"/>
            <a:ext cx="2303280" cy="226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说明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下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举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分类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2622600" y="3679920"/>
            <a:ext cx="144000" cy="1294920"/>
          </a:xfrm>
          <a:prstGeom prst="leftBrace">
            <a:avLst>
              <a:gd name="adj1" fmla="val 74725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4351320" y="4614840"/>
            <a:ext cx="144000" cy="864720"/>
          </a:xfrm>
          <a:prstGeom prst="leftBrace">
            <a:avLst>
              <a:gd name="adj1" fmla="val 4990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4351320" y="2959200"/>
            <a:ext cx="142560" cy="1223640"/>
          </a:xfrm>
          <a:prstGeom prst="leftBrace">
            <a:avLst>
              <a:gd name="adj1" fmla="val 7138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5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341</Words>
  <Paragraphs>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2:13:16Z</dcterms:created>
  <dc:creator>dell</dc:creator>
  <dc:description/>
  <dc:language>en-US</dc:language>
  <cp:lastModifiedBy>dell</cp:lastModifiedBy>
  <dcterms:modified xsi:type="dcterms:W3CDTF">2016-03-25T02:16:54Z</dcterms:modified>
  <cp:revision>1</cp:revision>
  <dc:subject/>
  <dc:title> 《神奇的克隆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9</vt:r8>
  </property>
</Properties>
</file>