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C2A-F77E-4FCB-870A-48CA4CC8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9CE-B9C2-4BFA-9ECC-2041EABA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FC628-BE71-4BDB-954E-5459D75D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45F42-6B61-4DFF-817B-B21D90A3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F59CB-FEFD-4743-9BA3-60121AD2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EA5A7-6D6C-412E-8B8F-E09BCDE7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5CB58-0C4E-4358-8C46-86C03DB3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03763-0693-4244-976F-7976A6F8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92434-BDEC-4F04-A2E6-17EE7905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DCCC5-4E7D-4625-A7E2-D4CCB981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9418E-E946-4AE9-9662-2E8A5AA7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270D6-DA0A-4104-A2BB-8FBE133A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EEB-B27F-4F68-84C6-3AF2ECEE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0C028-430B-4E64-9E91-A8A1E7A1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18EBB-F01F-4EAB-81BF-5FEC6CF9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A7BCA-9666-4E7A-B465-E2CB9705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7084D-A5F8-48D0-A005-3231B967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91EEE-5690-4629-87D0-8C696835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47D47-83BD-4BCC-994F-10D898D9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42E03-902D-4287-AE4D-22FF579F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D407C-0444-4410-9818-09F718AE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08862-C831-453E-A4DE-3AB54560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D6D5E-C99B-4B42-A718-28770FBA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05A-D690-4A07-9C9A-A3225CBF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AE139-5177-43CD-8C4A-98309FC1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B6819-6C54-4F98-8783-5E0CA754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62CDD-4FF3-4CCC-AF29-07C70DB5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3209E-A55A-4DB0-88C3-6666AC0B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4AFB9-354F-45B3-9D44-74F7F402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9702A-803C-40E9-BE8D-41C3836D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EA02A-2E4B-44A1-B778-3E1570B5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36196-849A-491A-94FC-19057D7B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03369-F527-41C6-BDF9-40D39331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D2999-77E1-4F22-9228-574DBCEE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BFBC-AFAC-409C-85CB-34962B00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AB3B4-86D9-410C-9890-E1E4060A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464DF-AF66-4F86-B270-9EECD8F3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B1671-0EAB-4944-A805-52029C47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F7BEF-D2DF-4FE9-AE1D-514F3A90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4E81C-BF5D-4AA2-9B9A-F708762F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9A81F-BED6-4014-BC3B-D8A1B8E6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13D55-6D19-4318-9E02-3BDA39BE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7EB77-9C78-4550-90D4-2F10862B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5983D-A1EB-467B-B871-0904FBE0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CDA2F-74DD-4183-8961-77A39971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FB75-55EF-4C71-B1C5-F59334AD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C5C78-A29E-4473-A51F-32F6401C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C26F8-F479-4A84-9917-78E61523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15B15-601E-44FD-8DF5-E23D1170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560A9-7F54-4D01-A7CD-92935550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8E7DE-0CB3-4215-A61C-74C50091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CCBB6-FE49-4B10-948E-4CE7587A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8CA73-B8A9-439F-8CE6-7553F398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9FDDE-4DDD-439E-BD8E-1E627D31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9C35E-EB4A-465A-AB57-8DBFDBCE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D0085-0607-478E-A8CB-27D089FD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BA19-B939-40FC-BC44-C6B780CC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B0D8D-144B-401B-94F2-D3B5D06A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AC9B0-947E-47EA-A543-037E4D92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6C7EF-C7E3-4E1C-8C75-4D3529DF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1C746-7AFB-48C3-BCB5-F87274EC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63BA4-3837-4B9F-99C7-BD1C0E20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686DD-8C9E-447F-8E63-8156E279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64AB0-A42F-4C70-9CFA-27B6264C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F6AC-6735-4537-8FBE-D81E68C8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AE57-29FF-4CA5-84F7-5D81E271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9C33-DE81-4005-893A-603F5130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32DC-2F78-494E-98B3-6B9B2E4A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0D6-4AF8-4FF0-A439-37CC937D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5983-1CB7-4A12-9B4C-EE834020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AB1C-71BA-4357-86C9-453EFC0B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78B5-8091-49F4-AFBE-0347E8C6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BE84-279E-4F1B-9912-C4852159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7453-E710-4CDE-86DA-75876BF7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74F72-7E9B-4637-9F0D-41449400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A87CF-2A38-447F-85EC-3C329120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CBCE7-67D5-4A22-8856-F4F255D9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9F808-E372-4310-9308-AC2F786B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11B38-AC8C-4320-84F2-F4998498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B4C-C147-4554-A03F-FB563AAD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16297-0D1B-4FBD-B9D0-5BB653B3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471F-65B2-44ED-A0A3-6EB537F7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D56C-9DEE-4630-949C-3735D21D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663AF-AABA-4113-BC77-CC1CDD16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59258-758E-4E36-8116-1D521A09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AF4A-A87B-4AE2-806B-631C3386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94B8-211A-4F29-ACB1-D81D4829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F37B2-A69E-4A52-9C91-8B4B1CC0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A6E6F-40F6-4E9C-A096-24BEFA0A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7A148-415D-432C-9D69-572BF280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498-0F3C-4785-B933-547377E8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FB0DB-2BAD-4BB4-9C9B-93318469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06525-13A2-46F1-BDDD-8E535B3A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B6BA-F2CC-401A-81B2-71015804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2D8A4-378D-4648-BC7F-AB3F6A9E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C49ED-6CAB-4527-B4AD-72F74505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5803F-EC33-4920-8525-F00C91EE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F6126-B178-409C-8C01-C96FE322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EFC38-C6D0-4C18-9187-DA7FC581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28494-5D5C-4C6D-A493-82A71E43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5BCC7-BAD3-4A23-B37E-D1405DC6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6F7-FECD-4077-895F-1DCF7449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54F47-63EF-4E7A-8736-6F4277FB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3DD9A-6557-4AB2-9C4E-C8FADB79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B8054-DF8B-46EF-A088-DF2C4831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51085-6B1D-452C-BF3D-E8330AF0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C5EF4-7C96-40A0-8346-883F42BA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6ACE0-795D-43E4-9CA1-ADEEC9D5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A7284-2557-4893-BDBC-B0264C02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49D62-CB45-480B-AAE0-8E112F69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33E32-DCC4-4B3D-A9D2-5100224F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9E69D-AA21-43BC-9866-065C62BC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292-B3FE-45D0-B43E-3F360286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F74A6-9CDF-4C06-8B29-A78A2791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79C76-D435-4DAC-80C7-E230E06F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64168-CAB9-4CE1-B95B-F2DF9DEA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FBBF9-62A9-4071-9E69-357B9BEF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F50E2-C8AF-4133-B74D-D99F20B9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1B83E-F66F-42F2-9331-31888AB6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6C1A9-7397-45CB-879B-8279D113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0025B-DE41-45A3-95C3-17F93005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C6708-7ACB-42E9-8DC4-F0B8ACA8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62290-B14B-4405-BF70-56C5259E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D2F-4489-4DBB-A041-A38AC524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5870B-624A-41A5-A014-195562CD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A2E64-A8BC-43FF-8B83-69BA1DC6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E146E-75DE-42BB-9756-FCE4BE85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C13D3-71F5-415D-903A-DBD687EB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EC864-F33B-451E-A9CD-803379E3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518B6-7B59-46A7-AE1B-8D5AAF49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D4410-9CE0-4172-8C47-ED5BE97F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CD067-6C23-47FE-A7C6-7A26937A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9B526-8655-4C4C-9F0D-1B880325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C044F-380E-4993-8AF0-AB3B4768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A03-136B-426F-9244-8A42CD9D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07D2E-CD40-457F-9C91-E5FC45DA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183B4-C062-4151-B78C-3B5F7DCA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DB556-B18D-4D37-979C-FF7617E0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6403E-34F0-4B85-A146-F52C4257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361F8-4FA9-46BE-A412-958D3CE2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21204-E706-4566-AF78-1BE65C2B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E83AA-17BE-48F9-B3BD-486D4416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E3A8D-F5D4-487D-AF4E-A0BCD312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8514F-319D-4E21-BDC0-6BF07A30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90A9B-F71A-42F6-841C-3F4E6C8D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0964-F1BD-4C1B-8A81-235554E2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5A66B-4DF7-4843-B8B1-5F06BE2C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CDC03-AF80-43EB-AC52-10C407E5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E4BAF-F21C-4998-A194-7CA66748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C8391-D512-4BE1-A57A-DF64B57D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CD878-1EA0-456E-944D-40EF3362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A257D-F365-4D1E-A414-807DCAE5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B1B3D-53C6-4CEB-9938-1E36E448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E60CC-C8E4-4726-880C-72C48F40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328A6-42F1-4FA1-B77F-C930498D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0A487-0B7C-4897-8509-187527AA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C9DE-673C-41A1-851A-F25F5BD43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4346-D76B-4437-8C0E-A497AC233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D007-2595-4AA9-98ED-37E531A57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2FCD-0B6F-44A5-8E7A-34687380F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8276-555B-4015-AA91-E4C635CE478B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1392-B14D-4E3A-92A4-01CFBCB06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B1AB-4E31-4C4B-9AF4-AE16DAA5A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2CDF-33F3-45F8-ADCB-0CF0BD18B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5BBD-C88C-4212-BA5E-3220BE901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A22E-5C0E-411A-82F5-792E4DE2C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DF21-97A0-471A-8B8E-0A98878B4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4C30-647E-4FD6-88B5-E4FA1192D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864D-983D-4277-972F-7533E2F91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6"/>
          <p:cNvSpPr/>
          <p:nvPr/>
        </p:nvSpPr>
        <p:spPr>
          <a:xfrm>
            <a:off x="2551680" y="2852640"/>
            <a:ext cx="43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司马迁发愤写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史记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466560" y="1628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司马迁出生在黄河岸边的龙门。他从小看着波涛滚滚的黄河从龙门下呼啸而去，听着父老乡亲们讲述古代英雄的故事，心里十分激动。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3687120" y="2595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英雄的影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684360" y="47941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面对滔滔的黄河水，听着英雄们的故事，司马迁十分激动，他会想些什么呢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1447920" y="49528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57754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468360" y="299736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6629400" y="49528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684360" y="148428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受父亲的影响，司马迁努力读书，大大充实了自己的历史知识。他还四处游历，广交朋友，积累了大量的历史资料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3620160" y="403560"/>
            <a:ext cx="200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父亲的影响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>
            <a:off x="2237400" y="4853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年少时，还有什么原因促使司马迁发愤写史呢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3"/>
          <p:cNvSpPr/>
          <p:nvPr/>
        </p:nvSpPr>
        <p:spPr>
          <a:xfrm>
            <a:off x="3264120" y="115200"/>
            <a:ext cx="24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牢记父亲的嘱托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395280" y="39290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想想父子分别的情形，你们看到了什么，听到了什么，感受到了什么呀？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324000" y="765000"/>
            <a:ext cx="842472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司马谈临终之时，泪流满面地拉着儿子的手说：“我死后，朝廷会让你继任我的官职的，你千万不要忘记我生平想要完成的史书哇！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2494440" y="458064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时的司马迁可能会想些什么呢？说些什么呢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1665360" y="5176800"/>
            <a:ext cx="56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司马迁也早已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他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468360" y="1052640"/>
            <a:ext cx="79912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司马迁牢记父亲的嘱托，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天忙着研读历史文献，整理父亲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下来的史料和自己早年走遍全国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集来的资料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3264120" y="332640"/>
            <a:ext cx="24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牢记父亲的嘱托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468360" y="486900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句话讲了司马迁的求知过程，它让人不自觉地联想起陆游的一句千古名句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705680" y="15573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嘱托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4168800" y="1844640"/>
            <a:ext cx="261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示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死去元知万事空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但悲不见九州同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王师北定中原日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家祭无忘告乃翁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468360" y="2205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司马迁为什么要振作精神，下定决心努力写《史记》呢？就请同学们细细朗读课文第三自然段，在字里行间寻找答案吧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79280" y="1197000"/>
            <a:ext cx="84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他想：“人总是要死的，有的重于泰山，有的轻于鸿毛。我如果就这样死了，不是比鸿毛还轻吗？我一定要活下去！我一定要写完这部史书！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2554920" y="450792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这样死了，司马迁为什么会想到死呢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3"/>
          <p:cNvSpPr/>
          <p:nvPr/>
        </p:nvSpPr>
        <p:spPr>
          <a:xfrm>
            <a:off x="395280" y="177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黑体"/>
              </a:rPr>
              <a:t>　　正当他专心致志写作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黑体"/>
              </a:rPr>
              <a:t>史记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黑体"/>
              </a:rPr>
              <a:t>的时候，一场飞来横祸突然降临到他的头上。原来，司马迁因为替一位将军辩护，得罪了汉武帝，入狱受了酷刑。司马迁悲愤交加，几次想血溅墙头，了此残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3"/>
          <p:cNvSpPr/>
          <p:nvPr/>
        </p:nvSpPr>
        <p:spPr>
          <a:xfrm>
            <a:off x="2411280" y="1916280"/>
            <a:ext cx="331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3708360" y="189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酷　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826920" y="29458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腐刑：又称宫刑，是使人失去生殖能力的刑罚，是最惨无人道、最灭绝人性的。受了这种刑罚，就成了像太监一样的人。它带给受刑者的，不仅是肉体上的巨大伤害，更使其心灵蒙受了永远的耻辱。它使正常人的身体残缺，心灵残缺，使一个原本顶天立地的男子汉再也不能昂首挺胸地活着！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-252360" y="551340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遭受酷刑的司马迁，真是痛不欲生，他（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1641960" y="2349360"/>
            <a:ext cx="607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司马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悲愤交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几次想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血溅墙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了此残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539640" y="45054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司马迁受刑后是怎么想的？又是怎么做的呢？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司马迁怎么想的句子，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司马迁怎么做的句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3"/>
          <p:cNvSpPr/>
          <p:nvPr/>
        </p:nvSpPr>
        <p:spPr>
          <a:xfrm>
            <a:off x="3851280" y="1413000"/>
            <a:ext cx="49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西汉史学家、文学家、思想家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开始学习古文书传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时，遍游南北，考察风俗，采集传说。初任郎中，后继承父亲司马谈之职，任太史令。因替投降匈奴的李陵辩护，获罪下狱，受了腐刑。但他忍辱负重，发愤著书，用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时间，创作了名震古今中外的史学巨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3520080" y="3333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了解司马迁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36" name="Picture 7" descr="1"/>
          <p:cNvPicPr/>
          <p:nvPr/>
        </p:nvPicPr>
        <p:blipFill>
          <a:blip r:embed="rId1"/>
          <a:stretch/>
        </p:blipFill>
        <p:spPr>
          <a:xfrm>
            <a:off x="826920" y="1341360"/>
            <a:ext cx="2949840" cy="41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3"/>
          <p:cNvSpPr/>
          <p:nvPr/>
        </p:nvSpPr>
        <p:spPr>
          <a:xfrm>
            <a:off x="539640" y="1265400"/>
            <a:ext cx="83534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他想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人总是要死的，有的重于泰山，有的轻于鸿毛。我如果就这样死了，不是比鸿毛还轻吗？我一定要活下去！我一定要写完这部史书！”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想到这里，他尽力克制自己，把个人的耻辱、痛苦全都埋在心底，重又摊开光洁平滑的竹简，在上面写下了一行行工整的隶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539640" y="692280"/>
            <a:ext cx="83534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他想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人总是要死的，有的重于泰山，有的轻于鸿毛。我如果就这样死了，不是比鸿毛还轻吗？ 我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一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要活下去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我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一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要写完这部史书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想到这里，他尽力克制自己，把个人的耻辱、痛苦全都埋在心底，重又摊开光洁平滑的竹简，在上面写下了一行行工整的隶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3"/>
          <p:cNvSpPr/>
          <p:nvPr/>
        </p:nvSpPr>
        <p:spPr>
          <a:xfrm>
            <a:off x="1656720" y="4437000"/>
            <a:ext cx="5868720" cy="180036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冬天的早晨，凉气袭人，当人们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      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他已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         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夏天的中午，烈日当空，当人们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      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他仍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         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数个夜晚，月黑风高，当人们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       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他依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        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                                                   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179280" y="1052640"/>
            <a:ext cx="87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　就这样，司马迁发愤写作，用了整整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时间，终于完成了一部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5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万字的辉煌巨著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史记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7" name="Text Box 3"/>
          <p:cNvSpPr/>
          <p:nvPr/>
        </p:nvSpPr>
        <p:spPr>
          <a:xfrm>
            <a:off x="179280" y="3357720"/>
            <a:ext cx="88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这部前无古人的著作，几乎耗尽了他毕生的心血，是他用生命写成的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3"/>
          <p:cNvSpPr/>
          <p:nvPr/>
        </p:nvSpPr>
        <p:spPr>
          <a:xfrm>
            <a:off x="1187280" y="5157720"/>
            <a:ext cx="83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司马迁，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，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_      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9" name="Picture 4" descr="1"/>
          <p:cNvPicPr/>
          <p:nvPr/>
        </p:nvPicPr>
        <p:blipFill>
          <a:blip r:embed="rId1"/>
          <a:stretch/>
        </p:blipFill>
        <p:spPr>
          <a:xfrm>
            <a:off x="2987640" y="549360"/>
            <a:ext cx="29494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468360" y="234936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是司马迁受酷刑后忍辱写成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史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是屈原遭到放逐后写成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离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是谈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               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愤是海伦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               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愤是阿炳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                                         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愤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                                             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3097440" y="26028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发愤到底是什么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2814480" y="1628640"/>
            <a:ext cx="37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发奋”指振作起来。“发愤”指决心努力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3040920" y="1052640"/>
            <a:ext cx="38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可以换成“发奋”吗？为什么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1187280" y="5157720"/>
            <a:ext cx="83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司马迁，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，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_      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5" name="Picture 6" descr="未标题-2 拷贝"/>
          <p:cNvPicPr/>
          <p:nvPr/>
        </p:nvPicPr>
        <p:blipFill>
          <a:blip r:embed="rId1"/>
          <a:stretch/>
        </p:blipFill>
        <p:spPr>
          <a:xfrm>
            <a:off x="3059280" y="404640"/>
            <a:ext cx="3479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4"/>
          <p:cNvSpPr/>
          <p:nvPr/>
        </p:nvSpPr>
        <p:spPr>
          <a:xfrm>
            <a:off x="468360" y="1268280"/>
            <a:ext cx="867564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业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认真研读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史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的一篇文章，写出自己的感受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结合自己收集的资料，试着对司马迁作一个综合的评价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3708360" y="141300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国第一部纪传体史书，记载了从传说中的黄帝到汉武帝长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间的历史。在史学和文学史上都有很高的地位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究天人之际，通古今之变，成一家之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鲁迅称它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家之绝唱，无韵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414240" y="404640"/>
            <a:ext cx="21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了解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史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39" name="Picture 5" descr="未标题-1 拷贝"/>
          <p:cNvPicPr/>
          <p:nvPr/>
        </p:nvPicPr>
        <p:blipFill>
          <a:blip r:embed="rId1"/>
          <a:stretch/>
        </p:blipFill>
        <p:spPr>
          <a:xfrm>
            <a:off x="755640" y="1557360"/>
            <a:ext cx="29638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26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读准字音：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1258920" y="2060640"/>
            <a:ext cx="712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司马迁  辉煌 耻辱 呼啸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朝廷  监狱　记载 搜集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酷刑   泰山 悲愤 飞来横祸</a:t>
            </a:r>
            <a:br>
              <a:rPr sz="4000"/>
            </a:b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1969920" y="137952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qiān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6092640" y="1477800"/>
            <a:ext cx="11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1525680" y="2798640"/>
            <a:ext cx="113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í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ng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5" name="Rectangle 10"/>
          <p:cNvSpPr/>
          <p:nvPr/>
        </p:nvSpPr>
        <p:spPr>
          <a:xfrm>
            <a:off x="3276360" y="2652840"/>
            <a:ext cx="7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6" name="Rectangle 11"/>
          <p:cNvSpPr/>
          <p:nvPr/>
        </p:nvSpPr>
        <p:spPr>
          <a:xfrm>
            <a:off x="1482840" y="3949560"/>
            <a:ext cx="121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í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ng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2921040" y="4022640"/>
            <a:ext cx="10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à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i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8" name="Rectangle 13"/>
          <p:cNvSpPr/>
          <p:nvPr/>
        </p:nvSpPr>
        <p:spPr>
          <a:xfrm>
            <a:off x="6417360" y="3949560"/>
            <a:ext cx="15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è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ng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5"/>
          <p:cNvSpPr/>
          <p:nvPr/>
        </p:nvSpPr>
        <p:spPr>
          <a:xfrm>
            <a:off x="203040" y="2598840"/>
            <a:ext cx="556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z à i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4089240" y="2522520"/>
            <a:ext cx="4876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横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éng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270080" y="38941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1193760" y="20653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zǎi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AutoShape 9"/>
          <p:cNvSpPr/>
          <p:nvPr/>
        </p:nvSpPr>
        <p:spPr>
          <a:xfrm>
            <a:off x="965160" y="237024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5003640" y="19890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èng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5" name="AutoShape 11"/>
          <p:cNvSpPr/>
          <p:nvPr/>
        </p:nvSpPr>
        <p:spPr>
          <a:xfrm>
            <a:off x="4775040" y="221760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2260440" y="20653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记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3098880" y="4046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2108160" y="351324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载重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5918040" y="20653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飞来横祸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0" name="Text Box 16"/>
          <p:cNvSpPr/>
          <p:nvPr/>
        </p:nvSpPr>
        <p:spPr>
          <a:xfrm>
            <a:off x="6451560" y="38941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Text Box 17"/>
          <p:cNvSpPr/>
          <p:nvPr/>
        </p:nvSpPr>
        <p:spPr>
          <a:xfrm>
            <a:off x="5842080" y="351324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横七竖八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26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准字音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266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读准词语：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216000" y="2363760"/>
            <a:ext cx="93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耳濡目染  名山大川  博览群书  专心致志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飞来横祸  悲愤交加  血溅墙头  了此残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轻于鸿毛  重于泰山  忍辱负重  奋笔疾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坚持不懈  毕生心血  前无古人  辉煌巨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1447560" y="2060640"/>
            <a:ext cx="626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司马迁为什么要发愤写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记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　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他又是怎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的？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他是在怎样的情况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的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结果怎样？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2368440" y="6739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默读课文，思考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11280" y="765000"/>
            <a:ext cx="8064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谈话交流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史记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3851280" y="2708280"/>
            <a:ext cx="4321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4569480" y="1916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前无古人的著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324000" y="2852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无古人的著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可以用什么词来形容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2373840" y="4437000"/>
            <a:ext cx="484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巨作　巨著　鸿篇巨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79280" y="234936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请同学们自己读读第一、二自然段，想一想司马迁为什么会写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史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呢？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2:12:44Z</dcterms:created>
  <dc:creator/>
  <dc:description/>
  <dc:language>en-US</dc:language>
  <cp:lastModifiedBy>dell</cp:lastModifiedBy>
  <dcterms:modified xsi:type="dcterms:W3CDTF">2014-07-03T03:10:10Z</dcterms:modified>
  <cp:revision>93</cp:revision>
  <dc:subject/>
  <dc:title/>
</cp:coreProperties>
</file>