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5F9-7F2B-4A6B-938B-9D763733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4AF-FDAF-44D5-9EE0-9461D559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3A3-6378-4F7F-A059-FA2A21E9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102-1C48-4AAA-82FC-27F892B6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C017-4110-4A6B-BA03-2CF0F642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6DC3-EF4D-4B8D-8B3C-93216334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2110-50B4-4018-9F66-96A7E422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EAC2-6123-4896-B159-7C8CAFCC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7A5B-4433-4CF5-9C6F-8317B84A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FCC8-4922-4042-8E81-7A782BBC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048C-D35B-4EC6-AD15-80660BD6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A73-C449-4471-9BB2-32C5EE0C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F08A-582E-4DC2-88C8-F684F45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5E21-4F22-4F63-976C-C41F7F5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B18A-5D0F-46CD-9521-8D73082B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DB2F-A2DF-46CC-B49C-771DEE94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2C76-ACFD-46E9-AEF3-7C4408EF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5E6-6F57-45FE-BF58-B0889424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8FF-02BC-4220-B5E3-2F95409A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9C1-E16A-4FF4-8A4E-30C0F3F3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1A1-65B7-439B-BF0D-9F6E2D88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A75-4A77-4AD2-B6A8-851F67F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981-D887-4CDA-90C8-667D79D3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D85-135B-4A27-91EE-4366D452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16BA-45FD-4972-99D6-1F83CF61929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E6C4-1F81-4444-833B-BD8A4F1DE9F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71640" y="1557360"/>
            <a:ext cx="6913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 </a:t>
            </a: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我和祖父的园子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63640" y="1557360"/>
            <a:ext cx="648036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当祖父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种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种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小白菜的时候，我就跟在后面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260280"/>
            <a:ext cx="72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父发现我铲的那块地还留着一片狗尾草，就问我：“这是什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说：“谷子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父大笑起来，笑够了，把草拔下来，问我：“你每天吃的就是这个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说：“是的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看祖父还在笑，就说：“你不信，我到屋里拿来给你看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跑到屋里拿了一个谷穗，远远地抛给祖父，说：“这不是一样的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父把我叫过去，慢慢讲给我听，说谷子是有芒针的，狗尾草却没有，只是毛嘟嘟的，很像狗尾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5435640" cy="3432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59280" y="3141720"/>
            <a:ext cx="6084720" cy="3801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976560" y="0"/>
            <a:ext cx="51674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92360" y="126828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9000"/>
            <a:ext cx="8893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花开了，就像睡醒了似的。鸟飞了，就像在天上逛似的。虫子叫了，就像虫子在说话似的。一切都活了，要做什么，就做什么。要怎么样，就怎么样，都是自由的。倭瓜愿意爬上架就爬上架，愿意爬上房就爬上房。黄瓜愿意开一朵花，就开一朵花，愿意结一个瓜，就结一个瓜。玉米愿意长多高就长多高，它若愿意长上天去，也没有人管。蝴蝶随意地飞，一会儿从墙头上飞来一对黄蝴蝶，一会儿又从墙头上飞走一只白蝴蝶。它们是从谁家来的，又飞到谁家去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太阳也不知道这个。天蓝悠悠的，又高又远。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5280" y="981000"/>
            <a:ext cx="87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蜂子  蝴蝶  蜻蜓  蚂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浇菜  铲地  拔草  下种  栽花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玉米  韭菜  倭瓜  谷穗  黄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177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园子里的昆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3789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在园子里做的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5589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园子里的农作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76360" y="765000"/>
            <a:ext cx="76676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观赏小昆虫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跟随外祖父栽花，拔草，种菜，铲地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误把狗尾草当谷穗留下不铲除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摘吃黄瓜，追逐蜻蜓，捉玩蚂蚱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用瓢舀水往天空扬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沐浴阳光，感受花、鸟、果、虫的    自由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用草帽遮脸睡觉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720" y="692280"/>
            <a:ext cx="394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907920"/>
            <a:ext cx="144360" cy="4753080"/>
          </a:xfrm>
          <a:custGeom>
            <a:avLst/>
            <a:gdLst>
              <a:gd name="textAreaLeft" fmla="*/ 92160 w 144360"/>
              <a:gd name="textAreaRight" fmla="*/ 144360 w 14436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183672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用自己喜欢的方式再读课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会“我”在园子里的心情是怎样的？你是从哪里体会到的？用笔勾出相关句子，并在旁边批注自己的体会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6960" y="62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再读提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692280"/>
            <a:ext cx="860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家有一个大园子，这园子里蜂子、蝴蝶、蜻蜓、蚂蚱，样样都有。蝴蝶有白蝴蝶、黄蝴蝶。这些蝴蝶极小，不太好看。好看的是大红蝴蝶，满身带着金粉。蜻蜓是金的，蚂蚱是绿的。蜂子则嗡嗡地飞着，满身绒毛，落到一朵花上，胖圆圆的就跟一个小毛球似的一动不动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5543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从这几句话中，你体会到什么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哪些词句中体会到的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1413000"/>
            <a:ext cx="8353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祖父戴一顶大草帽，我戴一顶小草帽。祖父栽花，我就栽花；祖父拔草，我就拔草。当祖父下种，种小白菜的时候，我就跟在后边，把那下了种的土窝，用脚一个一个地溜平。哪里会溜得准，东一脚西一脚地瞎闹。有时不单菜种没被土盖上，反而被我踢飞了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65520" y="403920"/>
            <a:ext cx="510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你觉得“我”在祖父园子里做的事情哪一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有趣？说说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280" y="1700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祖父铲地，我也铲地。因为我太小，拿不动锄头杆，祖父就把锄头杆拔下来，让我单拿着那个锄头的“头”来铲。其实哪里是铲，也不过爬在地上，用锄头乱勾一阵就是了。也认不得哪个是苗，哪个是草，往往把韭菜当作野草一起割掉，把狗尾草当做谷穗留着。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5520" y="403920"/>
            <a:ext cx="510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你觉得“我”在祖父园子里做的事情哪一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有趣？说说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7280" y="3357720"/>
            <a:ext cx="885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萧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911—194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国现代著名女作家。黑龙江省呼兰县人，原名张乃莹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在上海出版成名作《生死场》时，开始用萧红作笔名，蜚声文坛。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l9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发表了著名长篇小说《呼兰河传》。在萧红不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的创作生涯中，为祖国文学宝库留下了近百万字的作品，深受广大读者的喜爱，具有广泛而深远的影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1633" t="14406" r="19767" b="20683"/>
          <a:stretch/>
        </p:blipFill>
        <p:spPr>
          <a:xfrm>
            <a:off x="4284720" y="0"/>
            <a:ext cx="2951280" cy="333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71640" y="105264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走近作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1640" y="260280"/>
            <a:ext cx="72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父发现我铲的那块地还留着一片狗尾草，就问我：“这是什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说：“谷子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父大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够了，把草拔下来，问我：“你每天吃的就是这个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说：“是的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看祖父还在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说：“你不信，我到屋里拿来给你看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跑到屋里拿了一个谷穗，远远地抛给祖父，说：“这不是一样的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父把我叫过去，慢慢讲给我听，说谷子是有芒针的，狗尾草却没有，只是毛嘟嘟的，很像狗尾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6560" y="1814400"/>
            <a:ext cx="8353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玩腻了，我又跑到祖父那里乱闹一阵。祖父浇菜，我也抢过来浇。不过我并不往菜上浇，而是拿着水瓢，拼尽了力气，把水往天空一扬，大喊着： “下雨了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下雨了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65520" y="403920"/>
            <a:ext cx="510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你觉得“我”在祖父园子里做的事情哪一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有趣？说说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默读文章后面的几段话，你从中体会又到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892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切都活了，要做什么，就做什么。要怎么样，就怎么样，都是自由的。倭瓜愿意爬上架就爬上架，愿意爬上房就爬上房。黄瓜愿意开一谎花，就开一谎花，愿意结一个瓜，就结一个瓜。玉米愿意长多高就长多高，它若愿意长上天去，也没有人管。蝴蝶随意地飞，一会儿从墙头上飞来一对黄蝴蝶，一会儿又从墙头上飞走一只白蝴蝶。它们是从谁家来的，又飞到谁家去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太阳也不知道这个。只是天空蓝悠悠的，又高又远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2133720"/>
            <a:ext cx="8353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抬头看见一个黄瓜长大了，跑过去摘下来，我又去吃黄瓜去了。黄瓜还没有吃完，又看见一只大蜻蜒从旁边飞过，于是丢下黄瓜追蜻蜒了。跑了几步就又去做别的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13760" y="403920"/>
            <a:ext cx="51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你觉得“我”在祖父园子里做的事情哪一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有趣？说说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2360" y="126828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49360"/>
            <a:ext cx="84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花开了，就像睡醒了似的。鸟飞了，就像在天上逛似的。虫子叫了，就像虫子在说话似的。一切都活了，要做什么，就做什么。要怎么样，就怎么样，都是自由的。倭瓜愿意爬上架就爬上架，愿意爬上房就爬上房。黄瓜愿意开一朵花，就开一朵花，愿意结一个瓜，就结一个瓜。玉米愿意长多高就长多高，它若愿意长上天去，也没有人管。蝴蝶随意地飞，一会儿从墙头上飞来一对黄蝴蝶，一会儿又从墙头上飞走一只白蝴蝶。它们是从谁家来的，又飞到谁家去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太阳也不知道这个。天蓝悠悠的，又高又远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620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2693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62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162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0920" y="112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3213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162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13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0360" y="3197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2133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92360" y="126828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549360"/>
            <a:ext cx="8424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花开了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像睡醒了似的。鸟飞了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像在天上逛似的。虫子叫了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像虫子在说话似的。一切都活了，要做什么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做什么。要怎么样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怎么样，都是自由的。倭瓜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愿意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爬上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爬上架，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愿意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爬上房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爬上房。黄瓜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愿意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开一朵花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开一朵花，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愿意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结一个瓜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结一个瓜。玉米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愿意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长多高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长多高，它若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愿意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长上天去，也没有人管。蝴蝶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随意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地飞，一会儿从墙头上飞来一对黄蝴蝶，一会儿又从墙头上飞走一只白蝴蝶。它们是从谁家来的，又飞到谁家去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太阳也不知道这个。天蓝悠悠的，又高又远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1125360"/>
            <a:ext cx="78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变成那倭瓜啦！我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就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变成那黄瓜啦！我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就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变成那玉米啦！我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就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变成那蝴蝶啦！我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就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125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这些富有孩子气的语言，同样富有诗情画意，把世界在孩子心里的样子描绘出来了，在她的心中，倭瓜、黄瓜、玉米、蝴蝶都是有灵性的，都是做得了自己的主的，是自由快乐的，不受约束的，由着自己的性子生长的。它们的事情，人不去干涉，太阳也不过问。这样的感受，当然与作者的自由快乐是分不开的，用自由而富有灵性的心感知到的事物，才会如此无拘无束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83664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”在园中自由自在的童年生活。跟着祖父在园中，栽花、拔草、种白菜、铲地、浇水，当然这都是童年游戏的内容，不是真正的劳作，是“乱闹”，至于摘黄瓜、追蜻蜓、采倭瓜花、捉绿蚂蚱，更是孩童的游戏了。玩闹累了，就在园子里睡下。当然，让作者感到自由快乐的，不光是祖父的园子，还有慈爱的祖父。他给了孩子心灵的自由，他允许孩子随便玩闹，对孩子倾尽了爱心和耐心。他的爱放飞了孩子的天性，在他暖融融的爱的包围下，才有了孩子自由、快乐、幸福的童年。正是因为作者的心灵是自由的，所以在她孩童的眼里，一切才是自由的，快乐的，甚至是充满梦幻色彩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836640"/>
            <a:ext cx="8136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园子中蜜蜂、蝴蝶、蜻蜓、蚂蚱，自由飞舞；花儿、草儿、树儿、瓜儿，生机勃勃；蓝天、白云、清风，悠悠洒洒……我在这片乐土上放飞童心，无拘无束，自然的人性与天真的童年相映成趣。请你写几句简短的话，也来赞一赞我和祖父的园子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1341360"/>
            <a:ext cx="72723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就这样一天一天的，祖父，后园，我，这三样是一样也不可缺少的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378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萧红《呼兰河传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5690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740520"/>
            <a:ext cx="8077320" cy="52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和祖父的园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家有一个大园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园子里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样样都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这个园子里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愿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我愿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愿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我愿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愿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…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花开了，就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似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鸟飞了，就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似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虫子叫了，就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似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都活了，要做什么，就做什么，要怎么样，就怎么样，都是自由的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03280" y="1341360"/>
            <a:ext cx="676908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ff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我”在祖父的园子里是自由自在、快乐无忧的，“我”的童年生活是多彩有趣的，令人向往的。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75240" y="46440"/>
            <a:ext cx="10947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祖父的园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64840" y="836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自由的园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64840" y="2133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快乐的园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52160" y="342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爱的园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2133720"/>
            <a:ext cx="8137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作者为什么能将她的童年生活写得那样有趣，真实，吸引读者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55280" y="981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祖父的园子──“我”的乐园</a:t>
            </a:r>
            <a:br>
              <a:rPr sz="4000"/>
            </a:b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留心观察生活，用心感受生活，真实表达感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54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书名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549360"/>
            <a:ext cx="34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胡兰河传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119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66920" y="119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萧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5080" y="2276640"/>
            <a:ext cx="11552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和祖父的园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133720"/>
            <a:ext cx="71280" cy="3095640"/>
          </a:xfrm>
          <a:custGeom>
            <a:avLst/>
            <a:gdLst>
              <a:gd name="textAreaLeft" fmla="*/ 45720 w 71280"/>
              <a:gd name="textAreaRight" fmla="*/ 71640 w 7128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2276640"/>
            <a:ext cx="187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园子的印象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2920" y="1844640"/>
            <a:ext cx="865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1844640"/>
            <a:ext cx="863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2276640"/>
            <a:ext cx="93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昆虫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06064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蜜蜂蝴蝶蜻蜓蚂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414972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园子里的活动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2920" y="3500280"/>
            <a:ext cx="73080" cy="1729080"/>
          </a:xfrm>
          <a:custGeom>
            <a:avLst/>
            <a:gdLst>
              <a:gd name="textAreaLeft" fmla="*/ 46800 w 73080"/>
              <a:gd name="textAreaRight" fmla="*/ 73440 w 730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3429000"/>
            <a:ext cx="1223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栽 拔种 铲摘 吃追 采捉 浇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1557360"/>
            <a:ext cx="71640" cy="3672000"/>
          </a:xfrm>
          <a:custGeom>
            <a:avLst/>
            <a:gdLst>
              <a:gd name="textAreaLeft" fmla="*/ 0 w 71640"/>
              <a:gd name="textAreaRight" fmla="*/ 25920 w 71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43080" y="1700280"/>
            <a:ext cx="9421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自由　快乐　幸福的乐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19280" y="1268280"/>
            <a:ext cx="6480000" cy="779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从祖父那里，知道了人生除掉了冰冷和憎恶而外，还有温暖和爱。所以我就向这“温暖”和“爱”的方面，怀着永久的憧憬和追求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6960" y="62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初读提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55736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１、认真读课文，读准字音，读通读顺句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２、找出自己喜欢的段落先自己练读，再读给同伴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想一想：作者回忆了童年时代在祖父的园子里快乐玩耍的哪些情景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42920" y="836640"/>
            <a:ext cx="74898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呼兰河这小城里边，以前住着我的祖父，现在埋着我的祖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生的时候，祖父已经六十多岁了，我长到四五岁，祖父就快七十了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从前那后花园的主人，而今不见了。老主人死了，小主人逃荒去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那园里的蝴蝶，蚂蚱，蜻蜓，也许还是年年仍旧，也许现在完全荒凉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9640" y="76500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萧红的《呼兰河传》，是对故乡的一本回忆录。也就在写完后的一年，这个女子就从世间消失了，只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。但她把她对乡土农家的爱恋，把她对生活的严肃思考，传达给了她的读者，世世代代的读者。在《呼兰河传》里，她用了许多的文字写了自己的童年，尤其重点描写了家里的园子，她称它为祖父的园子，自己的后花园。为什么她对园子如此念念不忘呢？这个园子给童年的萧红留下了什么呢？让我们随着作者美好的回忆，走进她魂牵梦绕的祖父的园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003640" y="1843200"/>
            <a:ext cx="2887920" cy="424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971640" y="1844640"/>
            <a:ext cx="3095640" cy="4248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840" y="6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外链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25400" y="4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981000"/>
            <a:ext cx="8820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玉米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浇菜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韭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菜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铲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地　拔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倭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瓜 蜂子  蜻蜓 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穗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黄瓜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抛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下种 蚂蚱  栽花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蝴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蝶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瞎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帽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锄头杆  阴凉 芒针  谎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7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25400" y="4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981000"/>
            <a:ext cx="8820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玉米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浇菜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韭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菜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铲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地　拔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倭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瓜 蜂子  蜻蜓 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穗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黄瓜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抛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下种 蚂蚱  栽花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蝴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蝶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瞎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帽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锄头杆  阴凉 芒针  谎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981000"/>
            <a:ext cx="87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蜂子  蝴蝶  蜻蜓  蚂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浇菜  铲地  拔草  下种  栽花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玉米  韭菜  倭瓜  谷穗  黄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177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园子里的昆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3789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在园子里做的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5589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园子里的农作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692280"/>
            <a:ext cx="860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家有一个大园子，这园子里蜂子、蝴蝶、蜻蜓、蚂蚱，样样都有。蝴蝶有白蝴蝶、黄蝴蝶。这些蝴蝶极小，不太好看。好看的是大红蝴蝶，满身带着金粉。蜻蜓是金的，蚂蚱是绿的。蜂子则嗡嗡地飞着，满身绒毛，落到一朵花上，胖圆圆的就跟一个小毛球似的一动不动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admin</cp:lastModifiedBy>
  <dcterms:modified xsi:type="dcterms:W3CDTF">2014-03-02T13:51:32Z</dcterms:modified>
  <cp:revision>1022</cp:revision>
  <dc:subject/>
  <dc:title>幻灯片 1</dc:title>
</cp:coreProperties>
</file>