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906-C5B0-40E2-8FB8-1830759D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0AF-790C-4FEE-875E-47244D0F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2AC-E6E5-433B-9469-0BD139CC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8DB-7207-4179-8A26-46631697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364D-F1A0-4574-B4A7-4D8D1ED5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3770-5011-4F2D-A4C2-9C6F4C1F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DAF3-2F5D-4359-81B0-7872B5C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B3B0-84E2-4D76-B528-F22CD340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361-D6E1-4B9A-9B62-F71D4C48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C1D-84DA-459E-B4E8-62A3EF2A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D4C7-A543-4183-86DD-8EE8726D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8C3-38E6-493C-8799-DFC34226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113B-608A-4FB1-90D9-23AF43C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AF6-FE50-43D6-8CDC-3BC977A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9F07-40F0-430F-ADB6-B67B8349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8F4F-AF98-4F5E-800A-66D66C10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E55-4F8D-42FC-8463-68893E7A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E35-0ED8-4B66-8532-BF03212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953-8012-4721-B675-8408AF44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A0F-8CD7-40A0-B2B9-6EC1FD45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E54-B3E1-4DB3-A561-94325AC6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789-497A-4D5A-BF0E-32EAEEB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712-F87E-4700-A7B1-30DAC0CA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332-0042-4BC0-B429-CEB9C426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1F59-D891-4736-90BD-3F5AF8308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2CFE-8734-48C3-9CB3-BC1CEBC3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371600" y="1143000"/>
            <a:ext cx="380988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﹡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塘春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16400" y="1676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作者的写作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600200" y="3352680"/>
            <a:ext cx="6095880" cy="2362320"/>
          </a:xfrm>
          <a:prstGeom prst="pie">
            <a:avLst/>
          </a:prstGeom>
          <a:solidFill>
            <a:srgbClr val="ffad9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了作者对小塘春色、南方水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大自然的无比热爱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38480" y="24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"/>
              </a:rPr>
              <a:t>旖旎明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6510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756800" y="1447920"/>
            <a:ext cx="60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676520" y="1447920"/>
            <a:ext cx="228600" cy="2361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55840" y="1371600"/>
            <a:ext cx="149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水草、鸭、红蜻蜓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春燕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048120" y="152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52480" y="24382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084840" y="243828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绿茵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、倒影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82520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339000" y="342900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波光、树林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1447920"/>
            <a:ext cx="228600" cy="236196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603600" y="53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塘春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6095880" y="1905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了作者对小塘春色、南方水乡及大自然的无比热爱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304920" y="43434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3276720" y="434340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523880" y="502920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xiá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弋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柬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iǎ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倩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qià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粼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lí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1447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8672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486400" y="914400"/>
            <a:ext cx="277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竹外桃花三两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春江水暖鸭先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蒌蒿满地芦芽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正是河豚欲上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170760" y="4114800"/>
            <a:ext cx="20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楷体"/>
                <a:ea typeface="楷体"/>
              </a:rPr>
              <a:t>——</a:t>
            </a:r>
            <a:r>
              <a:rPr b="0" lang="zh-CN" sz="1800" spc="-1" strike="noStrike">
                <a:solidFill>
                  <a:srgbClr val="ff3300"/>
                </a:solidFill>
                <a:latin typeface="楷体"/>
                <a:ea typeface="楷体"/>
              </a:rPr>
              <a:t>苏轼 </a:t>
            </a:r>
            <a:r>
              <a:rPr b="0" lang="en-US" sz="1800" spc="-1" strike="noStrike">
                <a:solidFill>
                  <a:srgbClr val="ff33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ff3300"/>
                </a:solidFill>
                <a:latin typeface="楷体"/>
                <a:ea typeface="楷体"/>
              </a:rPr>
              <a:t>惠崇春江晚景 </a:t>
            </a:r>
            <a:r>
              <a:rPr b="0" lang="en-US" sz="1800" spc="-1" strike="noStrike">
                <a:solidFill>
                  <a:srgbClr val="ff3300"/>
                </a:solidFill>
                <a:latin typeface="楷体"/>
                <a:ea typeface="楷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624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038480" cy="3431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803840" y="11174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"/>
              </a:rPr>
              <a:t>池塘生春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413320" y="341244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园柳变鸣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482440" y="4800600"/>
            <a:ext cx="223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谢灵运</a:t>
            </a:r>
            <a:r>
              <a:rPr b="0" lang="en-US" sz="2400" spc="-1" strike="noStrike">
                <a:solidFill>
                  <a:srgbClr val="ff33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登池上楼</a:t>
            </a:r>
            <a:r>
              <a:rPr b="0" lang="en-US" sz="2400" spc="-1" strike="noStrike">
                <a:solidFill>
                  <a:srgbClr val="ff3300"/>
                </a:solidFill>
                <a:latin typeface="楷体"/>
                <a:ea typeface="楷体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387880" y="1600200"/>
            <a:ext cx="423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旖旎明媚    三五成群  成双成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弋           请柬         若即若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朴实无华    欢声笑语    粼粼波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438280" y="2133720"/>
            <a:ext cx="1447920" cy="609480"/>
          </a:xfrm>
          <a:prstGeom prst="wedgeRectCallout">
            <a:avLst>
              <a:gd name="adj1" fmla="val -67652"/>
              <a:gd name="adj2" fmla="val 105208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水中游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6324480" y="2057400"/>
            <a:ext cx="1524240" cy="609480"/>
          </a:xfrm>
          <a:prstGeom prst="wedgeRectCallout">
            <a:avLst>
              <a:gd name="adj1" fmla="val -61773"/>
              <a:gd name="adj2" fmla="val 7890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像接近又好像不接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2057400" y="685800"/>
            <a:ext cx="1523880" cy="609480"/>
          </a:xfrm>
          <a:prstGeom prst="wedgeRectCallout">
            <a:avLst>
              <a:gd name="adj1" fmla="val -47810"/>
              <a:gd name="adj2" fmla="val 1375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柔和美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590920" y="838080"/>
            <a:ext cx="4419360" cy="2971800"/>
          </a:xfrm>
          <a:prstGeom prst="cloudCallout">
            <a:avLst>
              <a:gd name="adj1" fmla="val -99893"/>
              <a:gd name="adj2" fmla="val 67416"/>
            </a:avLst>
          </a:prstGeom>
          <a:solidFill>
            <a:srgbClr val="f5e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春天的小塘景色怎样，你能快速浏览课文，在文中找到一个最合适的词语概括出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0195812"/>
          <p:cNvPicPr/>
          <p:nvPr/>
        </p:nvPicPr>
        <p:blipFill>
          <a:blip r:embed="rId1"/>
          <a:stretch/>
        </p:blipFill>
        <p:spPr>
          <a:xfrm>
            <a:off x="304920" y="228600"/>
            <a:ext cx="814320" cy="838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59920" y="83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2971800" y="4572000"/>
            <a:ext cx="3505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旖旎明媚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5"/>
          <p:cNvSpPr/>
          <p:nvPr/>
        </p:nvSpPr>
        <p:spPr>
          <a:xfrm>
            <a:off x="2209680" y="1600200"/>
            <a:ext cx="5562720" cy="2438280"/>
          </a:xfrm>
          <a:prstGeom prst="cloudCallout">
            <a:avLst>
              <a:gd name="adj1" fmla="val 69462"/>
              <a:gd name="adj2" fmla="val 75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课文围绕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"/>
              </a:rPr>
              <a:t>旖旎明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从哪几个方面写小塘的景色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46080"/>
            <a:ext cx="9903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 rot="5400000">
            <a:off x="2209680" y="457200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99" name="WordArt 11"/>
          <p:cNvSpPr txBox="1"/>
          <p:nvPr/>
        </p:nvSpPr>
        <p:spPr>
          <a:xfrm rot="5400000">
            <a:off x="4152600" y="468612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100" name="WordArt 12"/>
          <p:cNvSpPr txBox="1"/>
          <p:nvPr/>
        </p:nvSpPr>
        <p:spPr>
          <a:xfrm rot="5400000">
            <a:off x="6209640" y="4533840"/>
            <a:ext cx="990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9"/>
          <p:cNvSpPr/>
          <p:nvPr/>
        </p:nvSpPr>
        <p:spPr>
          <a:xfrm>
            <a:off x="3200400" y="1828800"/>
            <a:ext cx="3962520" cy="1905120"/>
          </a:xfrm>
          <a:prstGeom prst="cloudCallout">
            <a:avLst>
              <a:gd name="adj1" fmla="val -122796"/>
              <a:gd name="adj2" fmla="val 4016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是谁先哼起了春之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1905120" y="3352680"/>
            <a:ext cx="1523880" cy="381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4952880" y="2514600"/>
            <a:ext cx="8384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495680" y="3657600"/>
            <a:ext cx="10670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蜻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3886200" y="2895480"/>
            <a:ext cx="9907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鸭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2286000" y="2514600"/>
            <a:ext cx="12952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洗衣姑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867280" y="2971800"/>
            <a:ext cx="12956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歇脚老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2286000" y="4191120"/>
            <a:ext cx="3962520" cy="144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段主要采用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7"/>
          <p:cNvSpPr txBox="1"/>
          <p:nvPr/>
        </p:nvSpPr>
        <p:spPr>
          <a:xfrm>
            <a:off x="3429000" y="4648320"/>
            <a:ext cx="160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拟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914400" y="30492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悟“早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912400" y="1241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喜欢的方式读第二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8"/>
          <p:cNvSpPr/>
          <p:nvPr/>
        </p:nvSpPr>
        <p:spPr>
          <a:xfrm>
            <a:off x="3840120" y="1828800"/>
            <a:ext cx="62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破折号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段用了哪些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描写了小塘的什么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71520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解释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623040" y="36576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比喻、拟人、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131000" y="5029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采用静态描写，写了小塘的静态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762120" y="304920"/>
            <a:ext cx="1904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“静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024360" y="10666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朗读第三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5"/>
          <p:cNvSpPr/>
          <p:nvPr/>
        </p:nvSpPr>
        <p:spPr>
          <a:xfrm>
            <a:off x="2362320" y="1143000"/>
            <a:ext cx="3809880" cy="2057400"/>
          </a:xfrm>
          <a:prstGeom prst="cloudCallout">
            <a:avLst>
              <a:gd name="adj1" fmla="val 114250"/>
              <a:gd name="adj2" fmla="val 61652"/>
            </a:avLst>
          </a:prstGeom>
          <a:solidFill>
            <a:srgbClr val="92ee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这时作者把小塘比做什么？作者用什么描写手法来写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80880" y="9907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3886200" y="35812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动态描写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990720" y="380880"/>
            <a:ext cx="1752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体“动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2057400" y="37339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绿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72320" y="2643120"/>
            <a:ext cx="341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一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更是分外的旖旎明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二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美在一个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早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三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美在一个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静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四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美在一个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动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1981080" y="457200"/>
            <a:ext cx="3581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能找出每个自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段能概括段意的句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子吗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971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用横线画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238880" y="26668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7010280" y="35053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544880" y="3832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10:12:18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