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3F1-B016-4DAE-90E9-673209B0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943-D354-4D55-BF5B-172E5398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5C0-CE3C-463E-B0A4-1FF40A03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E0C-5C06-49AA-B2A6-085644D1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DEBD-275B-4D62-95FB-BB047221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F6B6-FB65-4BC4-9FEC-0CAF9AA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8296-CD3F-4862-AD39-0A121544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F500-F5DE-4C36-898B-7E9B4B0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25BB-3E3A-4E53-B517-522C3EDA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2475-5307-4AD3-B825-2118B8E4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ADDB-9465-49B0-91AA-53F5577A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0E3-0BD4-4DD1-9A10-9D785A3E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AF99-FC3A-42DD-B602-9225428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189-10A9-44AA-9A39-CB82741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AAE4-ECF7-4129-9A08-50106874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17E-95F4-48CC-BE7A-FA0C5899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452F-1B87-4C30-BAE3-5F578101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A7F-3AD8-45B6-9A75-CB62533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40B-B074-4A85-B564-DA491FCF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5A81-46BC-4AA7-B81F-584F7A8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53B-1B2E-4141-A6F4-97A1E40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36F-300C-4A03-B41A-22901FE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58E-3380-4028-B2F2-EACDD69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6DF-CB4E-4C87-A552-892635AF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048-F8E7-424D-9B0B-E56256A5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B8F-0C88-41D2-A706-15E086A24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371600" y="1143000"/>
            <a:ext cx="380988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﹡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塘春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516400" y="16765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说作者的写作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600200" y="3352680"/>
            <a:ext cx="6095880" cy="2362320"/>
          </a:xfrm>
          <a:prstGeom prst="pie">
            <a:avLst/>
          </a:prstGeom>
          <a:solidFill>
            <a:srgbClr val="ffad9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达了作者对小塘春色、南方水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大自然的无比热爱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438480" y="24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"/>
              </a:rPr>
              <a:t>旖旎明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651040" y="14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756800" y="1447920"/>
            <a:ext cx="60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676520" y="1447920"/>
            <a:ext cx="228600" cy="2361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55840" y="1371600"/>
            <a:ext cx="149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水草、鸭、红蜻蜓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春燕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048120" y="1523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52480" y="24382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084840" y="243828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绿茵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、倒影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82520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339000" y="342900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：波光、树林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1447920"/>
            <a:ext cx="228600" cy="236196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603600" y="53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塘春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6095880" y="1905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达了作者对小塘春色、南方水乡及大自然的无比热爱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8"/>
          <p:cNvSpPr txBox="1"/>
          <p:nvPr/>
        </p:nvSpPr>
        <p:spPr>
          <a:xfrm>
            <a:off x="304920" y="43434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19"/>
          <p:cNvSpPr txBox="1"/>
          <p:nvPr/>
        </p:nvSpPr>
        <p:spPr>
          <a:xfrm>
            <a:off x="3276720" y="434340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1523880" y="502920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嫌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xiá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弋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y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柬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iǎ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倩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qià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粼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lí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ShockwaveFlash1"/>
          <p:cNvGraphicFramePr/>
          <p:nvPr/>
        </p:nvGraphicFramePr>
        <p:xfrm>
          <a:off x="6477120" y="990720"/>
          <a:ext cx="533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990720"/>
                    <a:ext cx="53316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1447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8672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486400" y="914400"/>
            <a:ext cx="277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竹外桃花三两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春江水暖鸭先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蒌蒿满地芦芽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正是河豚欲上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170760" y="4114800"/>
            <a:ext cx="20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楷体"/>
                <a:ea typeface="楷体"/>
              </a:rPr>
              <a:t>——</a:t>
            </a:r>
            <a:r>
              <a:rPr b="0" lang="zh-CN" sz="1800" spc="-1" strike="noStrike">
                <a:solidFill>
                  <a:srgbClr val="ff3300"/>
                </a:solidFill>
                <a:latin typeface="楷体"/>
                <a:ea typeface="楷体"/>
              </a:rPr>
              <a:t>苏轼 </a:t>
            </a:r>
            <a:r>
              <a:rPr b="0" lang="en-US" sz="1800" spc="-1" strike="noStrike">
                <a:solidFill>
                  <a:srgbClr val="ff33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ff3300"/>
                </a:solidFill>
                <a:latin typeface="楷体"/>
                <a:ea typeface="楷体"/>
              </a:rPr>
              <a:t>惠崇春江晚景 </a:t>
            </a:r>
            <a:r>
              <a:rPr b="0" lang="en-US" sz="1800" spc="-1" strike="noStrike">
                <a:solidFill>
                  <a:srgbClr val="ff3300"/>
                </a:solidFill>
                <a:latin typeface="楷体"/>
                <a:ea typeface="楷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624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038480" cy="3431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803840" y="111744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"/>
              </a:rPr>
              <a:t>池塘生春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413320" y="341244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园柳变鸣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482440" y="4800600"/>
            <a:ext cx="2236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谢灵运</a:t>
            </a:r>
            <a:r>
              <a:rPr b="0" lang="en-US" sz="2400" spc="-1" strike="noStrike">
                <a:solidFill>
                  <a:srgbClr val="ff33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登池上楼</a:t>
            </a:r>
            <a:r>
              <a:rPr b="0" lang="en-US" sz="2400" spc="-1" strike="noStrike">
                <a:solidFill>
                  <a:srgbClr val="ff3300"/>
                </a:solidFill>
                <a:latin typeface="楷体"/>
                <a:ea typeface="楷体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387880" y="1600200"/>
            <a:ext cx="423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旖旎明媚    三五成群  成双成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弋           请柬         若即若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朴实无华    欢声笑语    粼粼波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438280" y="2133720"/>
            <a:ext cx="1447920" cy="609480"/>
          </a:xfrm>
          <a:prstGeom prst="wedgeRectCallout">
            <a:avLst>
              <a:gd name="adj1" fmla="val -67652"/>
              <a:gd name="adj2" fmla="val 105208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水中游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6324480" y="2057400"/>
            <a:ext cx="1524240" cy="609480"/>
          </a:xfrm>
          <a:prstGeom prst="wedgeRectCallout">
            <a:avLst>
              <a:gd name="adj1" fmla="val -61773"/>
              <a:gd name="adj2" fmla="val 7890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像接近又好像不接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2057400" y="685800"/>
            <a:ext cx="1523880" cy="609480"/>
          </a:xfrm>
          <a:prstGeom prst="wedgeRectCallout">
            <a:avLst>
              <a:gd name="adj1" fmla="val -47810"/>
              <a:gd name="adj2" fmla="val 1375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柔和美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590920" y="838080"/>
            <a:ext cx="4419360" cy="2971800"/>
          </a:xfrm>
          <a:prstGeom prst="cloudCallout">
            <a:avLst>
              <a:gd name="adj1" fmla="val -99893"/>
              <a:gd name="adj2" fmla="val 67416"/>
            </a:avLst>
          </a:prstGeom>
          <a:solidFill>
            <a:srgbClr val="f5e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春天的小塘景色怎样，你能快速浏览课文，在文中找到一个最合适的词语概括出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0195812"/>
          <p:cNvPicPr/>
          <p:nvPr/>
        </p:nvPicPr>
        <p:blipFill>
          <a:blip r:embed="rId1"/>
          <a:stretch/>
        </p:blipFill>
        <p:spPr>
          <a:xfrm>
            <a:off x="304920" y="228600"/>
            <a:ext cx="814320" cy="838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59920" y="83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2971800" y="4572000"/>
            <a:ext cx="3505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旖旎明媚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5"/>
          <p:cNvSpPr/>
          <p:nvPr/>
        </p:nvSpPr>
        <p:spPr>
          <a:xfrm>
            <a:off x="2209680" y="1600200"/>
            <a:ext cx="5562720" cy="2438280"/>
          </a:xfrm>
          <a:prstGeom prst="cloudCallout">
            <a:avLst>
              <a:gd name="adj1" fmla="val 69462"/>
              <a:gd name="adj2" fmla="val 75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课文围绕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"/>
              </a:rPr>
              <a:t>旖旎明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从哪几个方面写小塘的景色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46080"/>
            <a:ext cx="9903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 rot="5400000">
            <a:off x="2209680" y="4572000"/>
            <a:ext cx="9907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99" name="WordArt 11"/>
          <p:cNvSpPr txBox="1"/>
          <p:nvPr/>
        </p:nvSpPr>
        <p:spPr>
          <a:xfrm rot="5400000">
            <a:off x="4152600" y="468612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宋体"/>
              </a:rPr>
              <a:t>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  <p:sp>
        <p:nvSpPr>
          <p:cNvPr id="100" name="WordArt 12"/>
          <p:cNvSpPr txBox="1"/>
          <p:nvPr/>
        </p:nvSpPr>
        <p:spPr>
          <a:xfrm rot="5400000">
            <a:off x="6209640" y="4533840"/>
            <a:ext cx="990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动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9"/>
          <p:cNvSpPr/>
          <p:nvPr/>
        </p:nvSpPr>
        <p:spPr>
          <a:xfrm>
            <a:off x="3200400" y="1828800"/>
            <a:ext cx="3962520" cy="1905120"/>
          </a:xfrm>
          <a:prstGeom prst="cloudCallout">
            <a:avLst>
              <a:gd name="adj1" fmla="val -122796"/>
              <a:gd name="adj2" fmla="val 4016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是谁先哼起了春之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1905120" y="3352680"/>
            <a:ext cx="1523880" cy="381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4952880" y="2514600"/>
            <a:ext cx="8384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495680" y="3657600"/>
            <a:ext cx="10670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蜻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3886200" y="2895480"/>
            <a:ext cx="9907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鸭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2286000" y="2514600"/>
            <a:ext cx="12952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洗衣姑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5867280" y="2971800"/>
            <a:ext cx="12956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歇脚老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2286000" y="4191120"/>
            <a:ext cx="3962520" cy="144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段主要采用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7"/>
          <p:cNvSpPr txBox="1"/>
          <p:nvPr/>
        </p:nvSpPr>
        <p:spPr>
          <a:xfrm>
            <a:off x="3429000" y="4648320"/>
            <a:ext cx="1600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拟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WordArt 18"/>
          <p:cNvSpPr txBox="1"/>
          <p:nvPr/>
        </p:nvSpPr>
        <p:spPr>
          <a:xfrm>
            <a:off x="914400" y="30492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悟“早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912400" y="1241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喜欢的方式读第二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8"/>
          <p:cNvSpPr/>
          <p:nvPr/>
        </p:nvSpPr>
        <p:spPr>
          <a:xfrm>
            <a:off x="3840120" y="1828800"/>
            <a:ext cx="62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破折号的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段用了哪些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描写了小塘的什么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71520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解释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623040" y="36576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比喻、拟人、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131000" y="5029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采用静态描写，写了小塘的静态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2"/>
          <p:cNvSpPr txBox="1"/>
          <p:nvPr/>
        </p:nvSpPr>
        <p:spPr>
          <a:xfrm>
            <a:off x="762120" y="304920"/>
            <a:ext cx="1904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感“静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024360" y="10666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朗读第三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5"/>
          <p:cNvSpPr/>
          <p:nvPr/>
        </p:nvSpPr>
        <p:spPr>
          <a:xfrm>
            <a:off x="2362320" y="1143000"/>
            <a:ext cx="3809880" cy="2057400"/>
          </a:xfrm>
          <a:prstGeom prst="cloudCallout">
            <a:avLst>
              <a:gd name="adj1" fmla="val 114250"/>
              <a:gd name="adj2" fmla="val 61652"/>
            </a:avLst>
          </a:prstGeom>
          <a:solidFill>
            <a:srgbClr val="92ee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这时作者把小塘比做什么？作者用什么描写手法来写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80880" y="9907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3886200" y="35812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动态描写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990720" y="380880"/>
            <a:ext cx="1752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体“动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2057400" y="37339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绿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72320" y="2643120"/>
            <a:ext cx="341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一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更是分外的旖旎明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二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美在一个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早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三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美在一个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静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四自然段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春天的小塘，美在一个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动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"/>
              </a:rPr>
              <a:t>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1981080" y="457200"/>
            <a:ext cx="3581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能找出每个自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段能概括段意的句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子吗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9718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用横线画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238880" y="26668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总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7010280" y="35053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7544880" y="3832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8T10:12:18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