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CD25-F658-4ED1-BB07-33B76A234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B161-81B7-400F-8F78-A27E8666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7F08-F0F0-4EA3-B529-7CACF8EF1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281A-1D09-4F85-8C0F-98D2A006E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F60E-CCD4-420B-A454-D1569F97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6990-83D1-45D8-95FC-6C6AB690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6C05-8FEA-4C80-92DF-2605DC7E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48A5-1B23-417C-ACCB-72C91D86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374A-DDA5-4534-B2B5-6CB7B52B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4786-5DE9-44D4-A448-772ED5EC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CADC-5A9E-43D5-9FC6-E6B3A561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971A-93CD-47EC-9E51-388A7697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1DF3-8912-4908-B7D1-1B28C47FA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649116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990720"/>
            <a:ext cx="697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北师大版 五年级 语文  下册  第四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33720" y="2590920"/>
            <a:ext cx="44956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9000"/>
                    </a:srgbClr>
                  </a:outerShdw>
                </a:effectLst>
                <a:latin typeface="宋体"/>
              </a:rPr>
              <a:t>修鞋姑娘</a:t>
            </a:r>
            <a:endParaRPr b="1" lang="en-US" sz="18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8080" y="1539000"/>
            <a:ext cx="7620480" cy="4191120"/>
          </a:xfrm>
          <a:prstGeom prst="rect">
            <a:avLst/>
          </a:prstGeom>
          <a:solidFill>
            <a:srgbClr val="ffffff">
              <a:alpha val="58000"/>
            </a:srgbClr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修鞋姑娘，你在哪？</a:t>
            </a:r>
            <a:r>
              <a:rPr b="1" lang="zh-CN" sz="6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rId1"/>
          </p:cNvPr>
          <p:cNvSpPr/>
          <p:nvPr/>
        </p:nvSpPr>
        <p:spPr>
          <a:xfrm>
            <a:off x="8001000" y="6019920"/>
            <a:ext cx="457200" cy="304560"/>
          </a:xfrm>
          <a:custGeom>
            <a:avLst/>
            <a:gdLst>
              <a:gd name="textAreaLeft" fmla="*/ 18720 w 457200"/>
              <a:gd name="textAreaRight" fmla="*/ 438480 w 457200"/>
              <a:gd name="textAreaTop" fmla="*/ 18720 h 304560"/>
              <a:gd name="textAreaBottom" fmla="*/ 28584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63" y="1350"/>
                </a:lnTo>
                <a:lnTo>
                  <a:pt x="1350" y="135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63" y="20250"/>
                </a:lnTo>
                <a:lnTo>
                  <a:pt x="31063" y="135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1063" y="2025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2413" h="21600">
                <a:moveTo>
                  <a:pt x="9163" y="8394"/>
                </a:moveTo>
                <a:lnTo>
                  <a:pt x="13616" y="8394"/>
                </a:lnTo>
                <a:lnTo>
                  <a:pt x="18061" y="3756"/>
                </a:lnTo>
                <a:lnTo>
                  <a:pt x="18061" y="17844"/>
                </a:lnTo>
                <a:lnTo>
                  <a:pt x="13616" y="13206"/>
                </a:lnTo>
                <a:lnTo>
                  <a:pt x="9163" y="13206"/>
                </a:lnTo>
                <a:close/>
              </a:path>
              <a:path fill="darken" w="32413" h="21600">
                <a:moveTo>
                  <a:pt x="19724" y="10800"/>
                </a:moveTo>
                <a:lnTo>
                  <a:pt x="23250" y="10800"/>
                </a:lnTo>
              </a:path>
              <a:path fill="darken" w="32413" h="21600">
                <a:moveTo>
                  <a:pt x="19724" y="8394"/>
                </a:moveTo>
                <a:lnTo>
                  <a:pt x="23250" y="5611"/>
                </a:lnTo>
              </a:path>
              <a:path fill="darken" w="32413" h="21600">
                <a:moveTo>
                  <a:pt x="19724" y="13206"/>
                </a:moveTo>
                <a:lnTo>
                  <a:pt x="23250" y="15989"/>
                </a:lnTo>
              </a:path>
            </a:pathLst>
          </a:custGeom>
          <a:solidFill>
            <a:srgbClr val="cffd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838080"/>
            <a:ext cx="7924680" cy="5257800"/>
          </a:xfrm>
          <a:prstGeom prst="flowChartAlternateProcess">
            <a:avLst/>
          </a:prstGeom>
          <a:solidFill>
            <a:srgbClr val="ffffff">
              <a:alpha val="58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2792160"/>
            <a:ext cx="70866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22096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”仅仅在寻找修鞋姑娘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600200" y="990720"/>
            <a:ext cx="2449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华文行楷"/>
              </a:rPr>
              <a:t>探究乐园</a:t>
            </a:r>
            <a:endParaRPr b="0" lang="en-US" sz="1800" spc="-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077320" y="52578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295280" y="3505320"/>
            <a:ext cx="2438640" cy="2232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5334120" y="35053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838080" y="1066680"/>
            <a:ext cx="5639040" cy="50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诚实善良是一种美德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是人类取之不尽、用之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竭的智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有诚实善良讲信用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，人生的道路才会越走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838080" y="2999880"/>
            <a:ext cx="693432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续写课文：茫茫人海苦苦寻觅，修鞋姑娘，你在哪儿？功夫不负有心人，终于有一天，我又见到了那位来自异乡的修鞋姑娘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写小片段：要求通过观察一位同学的外貌、语言、动作、神态，表现同学某一方面的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90720" y="685800"/>
            <a:ext cx="2449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华文行楷"/>
              </a:rPr>
              <a:t>作业超市</a:t>
            </a:r>
            <a:endParaRPr b="0" lang="en-US" sz="1800" spc="-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924680" y="5410080"/>
            <a:ext cx="9144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175785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457200"/>
            <a:ext cx="7925040" cy="5867280"/>
          </a:xfrm>
          <a:prstGeom prst="flowChartAlternateProcess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9621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200" spc="-1" strike="noStrike">
                <a:solidFill>
                  <a:srgbClr val="990000"/>
                </a:solidFill>
                <a:latin typeface="Arial"/>
                <a:ea typeface="华文隶书"/>
              </a:rPr>
              <a:t>句子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隶书"/>
              </a:rPr>
              <a:t>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吧吧吧，三个</a:t>
            </a:r>
            <a:r>
              <a:rPr b="1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钉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</a:t>
            </a:r>
            <a:r>
              <a:rPr b="1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钉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去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不用</a:t>
            </a:r>
            <a:r>
              <a:rPr b="1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绱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钉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几个</a:t>
            </a:r>
            <a:r>
              <a:rPr b="1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钉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就行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43000" y="533520"/>
            <a:ext cx="187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华文行楷"/>
              </a:rPr>
              <a:t>小测试</a:t>
            </a:r>
            <a:endParaRPr b="0" lang="en-US" sz="1800" spc="-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295280"/>
            <a:ext cx="7620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隶书"/>
              </a:rPr>
              <a:t> 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  <a:ea typeface="华文隶书"/>
              </a:rPr>
              <a:t>词语直通车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绽开    锥子    扎透    拽着   嫣然一笑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阴影    窘迫    尴尬    惭愧  无地自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001000" y="57150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838080"/>
            <a:ext cx="7924680" cy="5257800"/>
          </a:xfrm>
          <a:prstGeom prst="flowChartAlternateProcess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2901600"/>
            <a:ext cx="777240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默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—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然段，看看修鞋姑娘是个怎样的人？从哪儿看出来的？用“﹏﹏﹏勾画相关语句，并批注我独特的感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90720" y="1219320"/>
            <a:ext cx="2438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华文行楷"/>
              </a:rPr>
              <a:t>我的任务</a:t>
            </a:r>
            <a:endParaRPr b="0" lang="en-US" sz="1800" spc="-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3" name=""/>
          <p:cNvSpPr/>
          <p:nvPr/>
        </p:nvSpPr>
        <p:spPr>
          <a:xfrm>
            <a:off x="6477120" y="5943600"/>
            <a:ext cx="304560" cy="228600"/>
          </a:xfrm>
          <a:custGeom>
            <a:avLst/>
            <a:gdLst>
              <a:gd name="textAreaLeft" fmla="*/ 14040 w 304560"/>
              <a:gd name="textAreaRight" fmla="*/ 290520 w 30456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416" y="1350"/>
                </a:lnTo>
                <a:lnTo>
                  <a:pt x="1350" y="135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416" y="20250"/>
                </a:lnTo>
                <a:lnTo>
                  <a:pt x="27416" y="135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416" y="2025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19920" y="5943600"/>
            <a:ext cx="304560" cy="228600"/>
          </a:xfrm>
          <a:custGeom>
            <a:avLst/>
            <a:gdLst>
              <a:gd name="textAreaLeft" fmla="*/ 14040 w 304560"/>
              <a:gd name="textAreaRight" fmla="*/ 290520 w 30456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416" y="1350"/>
                </a:lnTo>
                <a:lnTo>
                  <a:pt x="1350" y="135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416" y="20250"/>
                </a:lnTo>
                <a:lnTo>
                  <a:pt x="27416" y="135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416" y="2025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62720" y="5943600"/>
            <a:ext cx="304560" cy="228600"/>
          </a:xfrm>
          <a:custGeom>
            <a:avLst/>
            <a:gdLst>
              <a:gd name="textAreaLeft" fmla="*/ 14040 w 304560"/>
              <a:gd name="textAreaRight" fmla="*/ 290520 w 30456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416" y="1350"/>
                </a:lnTo>
                <a:lnTo>
                  <a:pt x="1350" y="135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416" y="20250"/>
                </a:lnTo>
                <a:lnTo>
                  <a:pt x="27416" y="135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416" y="2025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5943600"/>
            <a:ext cx="304560" cy="228600"/>
          </a:xfrm>
          <a:custGeom>
            <a:avLst/>
            <a:gdLst>
              <a:gd name="textAreaLeft" fmla="*/ 14040 w 304560"/>
              <a:gd name="textAreaRight" fmla="*/ 290520 w 30456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416" y="1350"/>
                </a:lnTo>
                <a:lnTo>
                  <a:pt x="1350" y="135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416" y="20250"/>
                </a:lnTo>
                <a:lnTo>
                  <a:pt x="27416" y="135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416" y="2025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391520" y="5943600"/>
            <a:ext cx="228600" cy="3049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ffdf2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924680" y="56386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838080"/>
            <a:ext cx="8076960" cy="5257800"/>
          </a:xfrm>
          <a:prstGeom prst="flowChartAlternateProcess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3523680"/>
            <a:ext cx="82058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5943600"/>
            <a:ext cx="304920" cy="228600"/>
          </a:xfrm>
          <a:custGeom>
            <a:avLst/>
            <a:gdLst>
              <a:gd name="textAreaLeft" fmla="*/ 14040 w 304920"/>
              <a:gd name="textAreaRight" fmla="*/ 290880 w 30492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50" y="1350"/>
                </a:lnTo>
                <a:lnTo>
                  <a:pt x="1350" y="135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50" y="20250"/>
                </a:lnTo>
                <a:lnTo>
                  <a:pt x="27450" y="135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450" y="2025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9920" y="5943600"/>
            <a:ext cx="304560" cy="228600"/>
          </a:xfrm>
          <a:custGeom>
            <a:avLst/>
            <a:gdLst>
              <a:gd name="textAreaLeft" fmla="*/ 14040 w 304560"/>
              <a:gd name="textAreaRight" fmla="*/ 290520 w 30456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416" y="1350"/>
                </a:lnTo>
                <a:lnTo>
                  <a:pt x="1350" y="135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416" y="20250"/>
                </a:lnTo>
                <a:lnTo>
                  <a:pt x="27416" y="135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416" y="2025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5943600"/>
            <a:ext cx="304560" cy="228600"/>
          </a:xfrm>
          <a:custGeom>
            <a:avLst/>
            <a:gdLst>
              <a:gd name="textAreaLeft" fmla="*/ 14040 w 304560"/>
              <a:gd name="textAreaRight" fmla="*/ 290520 w 30456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416" y="1350"/>
                </a:lnTo>
                <a:lnTo>
                  <a:pt x="1350" y="135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416" y="20250"/>
                </a:lnTo>
                <a:lnTo>
                  <a:pt x="27416" y="135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416" y="2025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34320" y="5943600"/>
            <a:ext cx="304560" cy="228600"/>
          </a:xfrm>
          <a:custGeom>
            <a:avLst/>
            <a:gdLst>
              <a:gd name="textAreaLeft" fmla="*/ 14040 w 304560"/>
              <a:gd name="textAreaRight" fmla="*/ 290520 w 30456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416" y="1350"/>
                </a:lnTo>
                <a:lnTo>
                  <a:pt x="1350" y="135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416" y="20250"/>
                </a:lnTo>
                <a:lnTo>
                  <a:pt x="27416" y="135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416" y="2025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5943600"/>
            <a:ext cx="228600" cy="3049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ffdf2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1371600"/>
            <a:ext cx="4876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她却坦然地接过去，自信地对我说：“不用绱，钉几个钉子就行了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1676520"/>
            <a:ext cx="152388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坦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266688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自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095880" y="1143000"/>
            <a:ext cx="2444760" cy="4572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838080"/>
            <a:ext cx="7924680" cy="5257800"/>
          </a:xfrm>
          <a:prstGeom prst="flowChartAlternateProcess">
            <a:avLst/>
          </a:prstGeom>
          <a:solidFill>
            <a:srgbClr val="ffffff">
              <a:alpha val="74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3123360"/>
            <a:ext cx="7620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她只是打量我一眼，也不管同意不同意，吧吧吧，三个钉子钉进去，接着一手拽着鞋底，一手扯着鞋帮，冲我使劲扯了扯，那意思是说：“这下你该放心了吧？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77120" y="5943600"/>
            <a:ext cx="304560" cy="228600"/>
          </a:xfrm>
          <a:custGeom>
            <a:avLst/>
            <a:gdLst>
              <a:gd name="textAreaLeft" fmla="*/ 14040 w 304560"/>
              <a:gd name="textAreaRight" fmla="*/ 290520 w 30456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416" y="1350"/>
                </a:lnTo>
                <a:lnTo>
                  <a:pt x="1350" y="135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416" y="20250"/>
                </a:lnTo>
                <a:lnTo>
                  <a:pt x="27416" y="135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416" y="2025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19920" y="5943600"/>
            <a:ext cx="304560" cy="228600"/>
          </a:xfrm>
          <a:custGeom>
            <a:avLst/>
            <a:gdLst>
              <a:gd name="textAreaLeft" fmla="*/ 14040 w 304560"/>
              <a:gd name="textAreaRight" fmla="*/ 290520 w 30456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416" y="1350"/>
                </a:lnTo>
                <a:lnTo>
                  <a:pt x="1350" y="135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416" y="20250"/>
                </a:lnTo>
                <a:lnTo>
                  <a:pt x="27416" y="135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416" y="2025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62720" y="5943600"/>
            <a:ext cx="304560" cy="228600"/>
          </a:xfrm>
          <a:custGeom>
            <a:avLst/>
            <a:gdLst>
              <a:gd name="textAreaLeft" fmla="*/ 14040 w 304560"/>
              <a:gd name="textAreaRight" fmla="*/ 290520 w 30456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416" y="1350"/>
                </a:lnTo>
                <a:lnTo>
                  <a:pt x="1350" y="135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416" y="20250"/>
                </a:lnTo>
                <a:lnTo>
                  <a:pt x="27416" y="135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416" y="2025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34320" y="5943600"/>
            <a:ext cx="304560" cy="228600"/>
          </a:xfrm>
          <a:custGeom>
            <a:avLst/>
            <a:gdLst>
              <a:gd name="textAreaLeft" fmla="*/ 14040 w 304560"/>
              <a:gd name="textAreaRight" fmla="*/ 290520 w 30456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416" y="1350"/>
                </a:lnTo>
                <a:lnTo>
                  <a:pt x="1350" y="135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416" y="20250"/>
                </a:lnTo>
                <a:lnTo>
                  <a:pt x="27416" y="135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416" y="2025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91520" y="5943600"/>
            <a:ext cx="228600" cy="3049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ffdf2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28954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36576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137160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打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28954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86200" y="365760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8001000" y="5562720"/>
            <a:ext cx="53352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838080"/>
            <a:ext cx="7924680" cy="5257800"/>
          </a:xfrm>
          <a:prstGeom prst="flowChartAlternateProcess">
            <a:avLst/>
          </a:prstGeom>
          <a:solidFill>
            <a:srgbClr val="ffffff">
              <a:alpha val="74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1977480"/>
            <a:ext cx="70866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3123360"/>
            <a:ext cx="70102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648880"/>
            <a:ext cx="739152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这儿倒是需要绱一绱，你看，线都断了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姑娘把鞋绱好递给我，叫我脱下另一只。我抬起脚，叫她看那只鞋坏没坏。她说：“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你的脚是汗脚，线是烂断的。就是没坏，也穿不了几天。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着，就把我的鞋脱下去绱起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5943600"/>
            <a:ext cx="304560" cy="228600"/>
          </a:xfrm>
          <a:custGeom>
            <a:avLst/>
            <a:gdLst>
              <a:gd name="textAreaLeft" fmla="*/ 14040 w 304560"/>
              <a:gd name="textAreaRight" fmla="*/ 290520 w 30456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416" y="1350"/>
                </a:lnTo>
                <a:lnTo>
                  <a:pt x="1350" y="135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416" y="20250"/>
                </a:lnTo>
                <a:lnTo>
                  <a:pt x="27416" y="135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416" y="2025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5943600"/>
            <a:ext cx="304560" cy="228600"/>
          </a:xfrm>
          <a:custGeom>
            <a:avLst/>
            <a:gdLst>
              <a:gd name="textAreaLeft" fmla="*/ 14040 w 304560"/>
              <a:gd name="textAreaRight" fmla="*/ 290520 w 30456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416" y="1350"/>
                </a:lnTo>
                <a:lnTo>
                  <a:pt x="1350" y="135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416" y="20250"/>
                </a:lnTo>
                <a:lnTo>
                  <a:pt x="27416" y="135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416" y="2025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62720" y="5943600"/>
            <a:ext cx="304560" cy="228600"/>
          </a:xfrm>
          <a:custGeom>
            <a:avLst/>
            <a:gdLst>
              <a:gd name="textAreaLeft" fmla="*/ 14040 w 304560"/>
              <a:gd name="textAreaRight" fmla="*/ 290520 w 30456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416" y="1350"/>
                </a:lnTo>
                <a:lnTo>
                  <a:pt x="1350" y="135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416" y="20250"/>
                </a:lnTo>
                <a:lnTo>
                  <a:pt x="27416" y="135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416" y="2025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5943600"/>
            <a:ext cx="304560" cy="228600"/>
          </a:xfrm>
          <a:custGeom>
            <a:avLst/>
            <a:gdLst>
              <a:gd name="textAreaLeft" fmla="*/ 14040 w 304560"/>
              <a:gd name="textAreaRight" fmla="*/ 290520 w 30456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416" y="1350"/>
                </a:lnTo>
                <a:lnTo>
                  <a:pt x="1350" y="135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416" y="20250"/>
                </a:lnTo>
                <a:lnTo>
                  <a:pt x="27416" y="135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416" y="2025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5943600"/>
            <a:ext cx="228600" cy="3049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ffdf2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001000" y="54864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33520" y="838080"/>
            <a:ext cx="8305560" cy="5257800"/>
          </a:xfrm>
          <a:prstGeom prst="flowChartAlternateProcess">
            <a:avLst/>
          </a:prstGeom>
          <a:solidFill>
            <a:srgbClr val="f3fffc">
              <a:alpha val="82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3133080"/>
            <a:ext cx="518148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她矮乎乎的身架，胖乎乎的脸蛋，蚕眉下，一双圆圆的眼睛，一眨也不眨地盯着手上的活儿。她那冻红了的手背，记录着她经历的风霜艰辛。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29600" y="6095880"/>
            <a:ext cx="457200" cy="381240"/>
          </a:xfrm>
          <a:custGeom>
            <a:avLst/>
            <a:gdLst>
              <a:gd name="textAreaLeft" fmla="*/ 23760 w 457200"/>
              <a:gd name="textAreaRight" fmla="*/ 433440 w 457200"/>
              <a:gd name="textAreaTop" fmla="*/ 23760 h 381240"/>
              <a:gd name="textAreaBottom" fmla="*/ 35748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50" y="1350"/>
                </a:lnTo>
                <a:lnTo>
                  <a:pt x="1350" y="135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50" y="20250"/>
                </a:lnTo>
                <a:lnTo>
                  <a:pt x="24550" y="135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4550" y="2025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900" h="21600">
                <a:moveTo>
                  <a:pt x="9432" y="10800"/>
                </a:moveTo>
                <a:lnTo>
                  <a:pt x="19994" y="3756"/>
                </a:lnTo>
                <a:lnTo>
                  <a:pt x="19994" y="17844"/>
                </a:lnTo>
                <a:close/>
              </a:path>
              <a:path fill="darken" w="25900" h="21600">
                <a:moveTo>
                  <a:pt x="5906" y="3756"/>
                </a:moveTo>
                <a:lnTo>
                  <a:pt x="7577" y="3756"/>
                </a:lnTo>
                <a:lnTo>
                  <a:pt x="7577" y="17844"/>
                </a:lnTo>
                <a:lnTo>
                  <a:pt x="5906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77120" y="5943600"/>
            <a:ext cx="304560" cy="228600"/>
          </a:xfrm>
          <a:custGeom>
            <a:avLst/>
            <a:gdLst>
              <a:gd name="textAreaLeft" fmla="*/ 14040 w 304560"/>
              <a:gd name="textAreaRight" fmla="*/ 290520 w 30456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416" y="1350"/>
                </a:lnTo>
                <a:lnTo>
                  <a:pt x="1350" y="135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416" y="20250"/>
                </a:lnTo>
                <a:lnTo>
                  <a:pt x="27416" y="135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416" y="2025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5943600"/>
            <a:ext cx="304560" cy="228600"/>
          </a:xfrm>
          <a:custGeom>
            <a:avLst/>
            <a:gdLst>
              <a:gd name="textAreaLeft" fmla="*/ 14040 w 304560"/>
              <a:gd name="textAreaRight" fmla="*/ 290520 w 30456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416" y="1350"/>
                </a:lnTo>
                <a:lnTo>
                  <a:pt x="1350" y="135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416" y="20250"/>
                </a:lnTo>
                <a:lnTo>
                  <a:pt x="27416" y="135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416" y="2025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62720" y="5943600"/>
            <a:ext cx="304560" cy="228600"/>
          </a:xfrm>
          <a:custGeom>
            <a:avLst/>
            <a:gdLst>
              <a:gd name="textAreaLeft" fmla="*/ 14040 w 304560"/>
              <a:gd name="textAreaRight" fmla="*/ 290520 w 30456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416" y="1350"/>
                </a:lnTo>
                <a:lnTo>
                  <a:pt x="1350" y="135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416" y="20250"/>
                </a:lnTo>
                <a:lnTo>
                  <a:pt x="27416" y="135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416" y="2025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934320" y="5943600"/>
            <a:ext cx="304560" cy="228600"/>
          </a:xfrm>
          <a:custGeom>
            <a:avLst/>
            <a:gdLst>
              <a:gd name="textAreaLeft" fmla="*/ 14040 w 304560"/>
              <a:gd name="textAreaRight" fmla="*/ 290520 w 30456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416" y="1350"/>
                </a:lnTo>
                <a:lnTo>
                  <a:pt x="1350" y="135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416" y="20250"/>
                </a:lnTo>
                <a:lnTo>
                  <a:pt x="27416" y="135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416" y="2025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91520" y="5943600"/>
            <a:ext cx="228600" cy="3049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ffdf2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943600" y="990720"/>
            <a:ext cx="2590920" cy="4876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8229600" y="54864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609480"/>
            <a:ext cx="7924680" cy="5562720"/>
          </a:xfrm>
          <a:prstGeom prst="flowChartAlternateProcess">
            <a:avLst/>
          </a:prstGeom>
          <a:solidFill>
            <a:srgbClr val="ffffff">
              <a:alpha val="76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938240"/>
            <a:ext cx="764568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谁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姑娘嫣然一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:“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你不怕我跑了吗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相信你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.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此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只想尽快摆脱窘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别的什么也不想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期待着她答应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她却笑了笑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也相信你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这钱足够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不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这只有三角钱啊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!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告诉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是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过你还给了我别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.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她歪着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友好而又顽皮的看着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别的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我给了你什么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?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纳闷的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诚实、信任哪！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她坦然的回答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8520" y="5790240"/>
            <a:ext cx="94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14400" y="762120"/>
            <a:ext cx="2449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华文行楷"/>
              </a:rPr>
              <a:t>合作对话</a:t>
            </a:r>
            <a:endParaRPr b="0" lang="en-US" sz="1800" spc="-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001000" y="56386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990720"/>
            <a:ext cx="7924680" cy="5257800"/>
          </a:xfrm>
          <a:prstGeom prst="flowChartAlternateProcess">
            <a:avLst/>
          </a:prstGeom>
          <a:solidFill>
            <a:srgbClr val="ffffff">
              <a:alpha val="58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真惭愧。是她诚实，还是我诚实？是她信任我，还是我信任她呢？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33520" y="533520"/>
            <a:ext cx="1143000" cy="1143000"/>
            <a:chOff x="533520" y="533520"/>
            <a:chExt cx="1143000" cy="114300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533520" y="53352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 txBox="1"/>
            <p:nvPr/>
          </p:nvSpPr>
          <p:spPr>
            <a:xfrm>
              <a:off x="533520" y="533520"/>
              <a:ext cx="114300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7T02:08:27Z</dcterms:created>
  <dc:creator>Administrator</dc:creator>
  <dc:description/>
  <dc:language>en-US</dc:language>
  <cp:lastModifiedBy/>
  <dcterms:modified xsi:type="dcterms:W3CDTF">2015-07-28T01:38:05Z</dcterms:modified>
  <cp:revision>6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