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004-2B2C-4F28-9D5F-BEE2EE43FA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37A-AB8A-4BD2-AAE3-27805E130D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536-EA46-47C0-BC81-A41B795B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3B0-27F9-43E8-B861-34E11769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B35-561A-4721-A782-7861553F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5F7-8BED-462C-A75C-232645AC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AEE-3605-4352-A20E-CB0D57D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D7D-63C3-4E10-B345-B44CA499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4C9-D48D-4B1D-92C0-02259C18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7CE-D1AF-435A-A130-C0E9CCBC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829-F70E-4370-B58F-EE136634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19F-1D23-439F-8B1A-7B26541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A4-D492-412E-B19A-0E0AA6AE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5AF-8F4F-49E6-A7F2-88545F9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66A6-DC18-4952-AC06-9FA2DD03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79090377bc02591144196a70607ed1c18aeed9deeec311b901f206227f993c44c8c0952e57112a9c56d6e3333916692bb5e2096865e703a1659a4f9b5a5c2634aa71809e&amp;a=29&amp;b=29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9486.htm" TargetMode="External"/><Relationship Id="rId2" Type="http://schemas.openxmlformats.org/officeDocument/2006/relationships/hyperlink" Target="http://baike.baidu.com/view/1942.htm" TargetMode="External"/><Relationship Id="rId3" Type="http://schemas.openxmlformats.org/officeDocument/2006/relationships/hyperlink" Target="http://baike.baidu.com/view/21240.htm" TargetMode="External"/><Relationship Id="rId4" Type="http://schemas.openxmlformats.org/officeDocument/2006/relationships/hyperlink" Target="http://baike.baidu.com/view/51882.htm" TargetMode="External"/><Relationship Id="rId5" Type="http://schemas.openxmlformats.org/officeDocument/2006/relationships/hyperlink" Target="http://baike.baidu.com/view/51457.htm" TargetMode="External"/><Relationship Id="rId6" Type="http://schemas.openxmlformats.org/officeDocument/2006/relationships/hyperlink" Target="http://baike.baidu.com/view/363629.htm" TargetMode="External"/><Relationship Id="rId7" Type="http://schemas.openxmlformats.org/officeDocument/2006/relationships/hyperlink" Target="http://baike.baidu.com/view/41196.htm" TargetMode="External"/><Relationship Id="rId8" Type="http://schemas.openxmlformats.org/officeDocument/2006/relationships/hyperlink" Target="http://baike.baidu.com/view/447390.htm" TargetMode="External"/><Relationship Id="rId9" Type="http://schemas.openxmlformats.org/officeDocument/2006/relationships/hyperlink" Target="http://baike.baidu.com/view/424013.htm" TargetMode="External"/><Relationship Id="rId10" Type="http://schemas.openxmlformats.org/officeDocument/2006/relationships/hyperlink" Target="http://baike.baidu.com/view/261964.htm" TargetMode="External"/><Relationship Id="rId11" Type="http://schemas.openxmlformats.org/officeDocument/2006/relationships/hyperlink" Target="http://baike.baidu.com/view/301812.htm" TargetMode="External"/><Relationship Id="rId12" Type="http://schemas.openxmlformats.org/officeDocument/2006/relationships/hyperlink" Target="http://baike.baidu.com/view/544887.htm" TargetMode="External"/><Relationship Id="rId13" Type="http://schemas.openxmlformats.org/officeDocument/2006/relationships/hyperlink" Target="http://baike.baidu.com/view/552956.htm" TargetMode="External"/><Relationship Id="rId14" Type="http://schemas.openxmlformats.org/officeDocument/2006/relationships/hyperlink" Target="http://baike.baidu.com/view/552960.htm" TargetMode="External"/><Relationship Id="rId15" Type="http://schemas.openxmlformats.org/officeDocument/2006/relationships/hyperlink" Target="http://baike.baidu.com/view/901194.htm" TargetMode="External"/><Relationship Id="rId16" Type="http://schemas.openxmlformats.org/officeDocument/2006/relationships/hyperlink" Target="http://baike.baidu.com/view/62550.htm" TargetMode="External"/><Relationship Id="rId17" Type="http://schemas.openxmlformats.org/officeDocument/2006/relationships/hyperlink" Target="http://baike.baidu.com/view/901190.htm" TargetMode="External"/><Relationship Id="rId18" Type="http://schemas.openxmlformats.org/officeDocument/2006/relationships/hyperlink" Target="http://baike.baidu.com/view/901219.htm" TargetMode="External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ae5088f8ee9a87bd682171d96125b245835580a10ef9e62cb630767cec86ecfed26ad32e83666a1f400d22a8be54928fee2feecb8c3b3d2be698535eda673b37f1e35b75&amp;a=29&amp;b=2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79090377bc02591144196a70607ed1c18aeed9deeec311b901f206227f993c44c8c0952e57112a9c56d6e3333916692bb5e2096865e703a1659a4f9b5a5c2634aa71809e&amp;a=29&amp;b=29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79090377bc02591144196a70607ed1c18aeed9deeec311b901f206227f993c44c8c0952e57112a9c56d6e3333916692bb5e2096865e703a1659a4f9b5a5c2634aa71809e&amp;a=29&amp;b=29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79090377bc02591144196a70607ed1c18aeed9deeec311b901f206227f993c44c8c0952e57112a9c56d6e3333916692bb5e2096865e703a1659a4f9b5a5c2634aa71809e&amp;a=29&amp;b=29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79090377bc02591144196a70607ed1c18aeed9deeec311b901f206227f993c44c8c0952e57112a9c56d6e3333916692bb5e2096865e703a1659a4f9b5a5c2634aa71809e&amp;a=29&amp;b=29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8102301183249090"/>
          <p:cNvPicPr/>
          <p:nvPr/>
        </p:nvPicPr>
        <p:blipFill>
          <a:blip r:embed="rId1"/>
          <a:stretch/>
        </p:blipFill>
        <p:spPr>
          <a:xfrm>
            <a:off x="0" y="0"/>
            <a:ext cx="9144000" cy="7635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  <a:ea typeface="华文行楷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3300"/>
                </a:solidFill>
                <a:latin typeface="Arial"/>
                <a:ea typeface="华文行楷"/>
              </a:rPr>
              <a:t>早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Y2ltZzIxLjE2My5jb20vMjAwOC8yMDA4LzUvMTMvMjAwODA1MTMxNjIxMTVkMmE0Mi5qcGc="/>
          <p:cNvPicPr/>
          <p:nvPr/>
        </p:nvPicPr>
        <p:blipFill>
          <a:blip r:embed="rId2"/>
          <a:stretch/>
        </p:blipFill>
        <p:spPr>
          <a:xfrm>
            <a:off x="4716360" y="260280"/>
            <a:ext cx="442764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38080" y="1447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请同学们朗读课文，想一想课文写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5791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三味书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清末绍兴城里著名私塾。鲁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岁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岁在这里求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12_jpg"/>
          <p:cNvPicPr/>
          <p:nvPr/>
        </p:nvPicPr>
        <p:blipFill>
          <a:blip r:embed="rId1"/>
          <a:srcRect l="13535" t="10205" r="7789" b="51316"/>
          <a:stretch/>
        </p:blipFill>
        <p:spPr>
          <a:xfrm>
            <a:off x="1187280" y="476280"/>
            <a:ext cx="680436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1500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一想，这是一篇什么文体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文章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57120" y="11430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用自己的话说一说课文写了什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图片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755640" y="0"/>
            <a:ext cx="799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十四番花信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古人认为，应花期而来的风，其来有信，所以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花信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由小寒到谷雨共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个节气，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，每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为一候，计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候，每候应一种花信。小寒节三信：梅花、山茶、水仙；大寒节三信：瑞香、兰花、山矾；立春节三信：迎春、樱桃、望春；雨水节三信：菜花、杏花、李花；惊蛰节三信：桃花、棠棣、蔷薇；春分节三信：海棠、梨花、木兰；清明节三信：桐花、麦花、柳花；谷雨节三信：牡丹、酴蘸、楝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    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因为梅花在二十四花信风中排在第一，所以课文中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二十四番花信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，一候是梅花，开得最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79480" y="192240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71640" y="2924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新台门</a:t>
            </a: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→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石桥</a:t>
            </a: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→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三味书屋</a:t>
            </a: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→</a:t>
            </a:r>
            <a:r>
              <a:rPr b="0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后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文章是按照什么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89ef6116d5b0fe4a6ef3f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9693934f3287a195ab5f57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202U3P23-10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段落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第一段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交代时间、地点、人物和事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第二段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(2-4)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写三味书屋的清香和屋内陈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第三段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5-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）由腊梅花开得早写到鲁迅书桌上“早”字的来历及作者得到的感悟启迪。</a:t>
            </a:r>
            <a:r>
              <a:rPr b="0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第一段，你读懂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500040" y="2214720"/>
            <a:ext cx="7929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访问对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味书屋的地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85840" y="357120"/>
            <a:ext cx="8858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读第二部分，想一想每一段写了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写作者疑惑于三味书屋的香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三味书屋的陈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作者明白了那是腊梅花的香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第二段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为什么先写书屋的香味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你知道为什么三味书屋有这个名字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文中你能读到鲁迅的哪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301"/>
          <p:cNvPicPr/>
          <p:nvPr/>
        </p:nvPicPr>
        <p:blipFill>
          <a:blip r:embed="rId2"/>
          <a:srcRect l="13458" t="10702" r="11424" b="54214"/>
          <a:stretch/>
        </p:blipFill>
        <p:spPr>
          <a:xfrm>
            <a:off x="1752480" y="609480"/>
            <a:ext cx="5410440" cy="432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就是鲁迅小时侯就读的书塾三味书屋。请仔细看图，说说三味书屋的陈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80880" y="762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课文是怎样介绍三味书屋的陈设的呢？默读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，画出有关句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26668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方位顺序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838080" y="3886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南墙上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东面正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画面前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东北角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味书屋的陈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三自然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方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顺序介绍三味书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南墙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匾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东面正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画前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生座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四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书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东北角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迅用过的一张书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图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990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找一找鲁迅的书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6668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学生的书桌分列在四面，东北角上是鲁迅用过的一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1214280"/>
            <a:ext cx="80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按照作者的方法我们来写写自己的教室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71680" y="142884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看过腊梅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由轻声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，想一想：第五段写了梅花的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25909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4572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这股令作者无限欣喜的纯净疏淡的清香是不是腊梅的香味呢？让我们跟随作者去看个究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76520" y="2590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默读课文第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至５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3581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出课文中写梅花的句子，读一读，体会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Users\dell\AppData\Roaming\Tencent\Users\712326765\QQ\WinTemp\RichOle\ZN533F{D}B})CD%DJ4[EWC1.png"/>
          <p:cNvPicPr/>
          <p:nvPr/>
        </p:nvPicPr>
        <p:blipFill>
          <a:blip r:embed="rId1"/>
          <a:stretch/>
        </p:blipFill>
        <p:spPr>
          <a:xfrm>
            <a:off x="714240" y="857160"/>
            <a:ext cx="815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" descr="u=3302266292,3803884536&amp;fm=23&amp;gp=0.jpg"/>
          <p:cNvPicPr/>
          <p:nvPr/>
        </p:nvPicPr>
        <p:blipFill>
          <a:blip r:embed="rId1"/>
          <a:stretch/>
        </p:blipFill>
        <p:spPr>
          <a:xfrm>
            <a:off x="-792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694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7c80"/>
                </a:solidFill>
                <a:latin typeface="Arial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鲁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881.9.25—1936.10.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，原名周樟寿，后改名周树人，字豫山，后改为豫才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祖籍河南省正阳县，从发表第一篇白话小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狂人日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时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91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月），始以“鲁迅”为笔名。他的著作主要以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小说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杂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为主，代表作有：小说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呐喊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彷徨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/>
              </a:rPr>
              <a:t>故事新编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等，散文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/>
              </a:rPr>
              <a:t>朝花夕拾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原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8"/>
              </a:rPr>
              <a:t>旧事重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）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/>
              </a:rPr>
              <a:t>野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，杂文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0"/>
              </a:rPr>
              <a:t>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1"/>
              </a:rPr>
              <a:t>热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2"/>
              </a:rPr>
              <a:t>华盖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3"/>
              </a:rPr>
              <a:t>华盖集续编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4"/>
              </a:rPr>
              <a:t>南腔北调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5"/>
              </a:rPr>
              <a:t>三闲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6"/>
              </a:rPr>
              <a:t>二心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7"/>
              </a:rPr>
              <a:t>而已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8"/>
              </a:rPr>
              <a:t>且介亭杂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:\Users\dell\AppData\Roaming\Tencent\Users\712326765\QQ\WinTemp\RichOle\@PF3Z{TTWQIEG@H5I`C(2WB.png"/>
          <p:cNvPicPr/>
          <p:nvPr/>
        </p:nvPicPr>
        <p:blipFill>
          <a:blip r:embed="rId1"/>
          <a:stretch/>
        </p:blipFill>
        <p:spPr>
          <a:xfrm>
            <a:off x="857160" y="642960"/>
            <a:ext cx="7658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3" descr="u=3741010354,3299693787&amp;fm=23&amp;gp=0.jpg"/>
          <p:cNvPicPr/>
          <p:nvPr/>
        </p:nvPicPr>
        <p:blipFill>
          <a:blip r:embed="rId1"/>
          <a:stretch/>
        </p:blipFill>
        <p:spPr>
          <a:xfrm>
            <a:off x="285840" y="42876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颜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白里透黄，黄里透绿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润泽透明，冰清玉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格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候， 开得最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533520"/>
            <a:ext cx="8458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迈进后园，蜡梅开得正盛，几乎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满树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花。那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花白里透黄，黄里透绿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花瓣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润泽透明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琥珀或玉石雕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，很有点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冰清玉洁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韵致。梅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飘香而送暖，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花开的时候，正预示着春天的到来。二十四番花信风，一候是梅花，开得</a:t>
            </a:r>
            <a:r>
              <a:rPr b="1" lang="zh-CN" sz="3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最早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572000" y="328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颜色美，形态美，品格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38520" y="377928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朗读你知道了什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0880" y="43426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了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清玉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55640" y="4867920"/>
            <a:ext cx="78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象冰那样清澈透明，象玉那样洁白无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比喻人的品德高尚纯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587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是在讲谁的品德高尚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436720" y="434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事物也是冰清玉洁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80880" y="10666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早哇！鲁迅的书桌上就刻着一个“早”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71640" y="2781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7200" y="4648320"/>
            <a:ext cx="86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为什么在书桌上刻一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lxf09"/>
          <p:cNvPicPr/>
          <p:nvPr/>
        </p:nvPicPr>
        <p:blipFill>
          <a:blip r:embed="rId1"/>
          <a:stretch/>
        </p:blipFill>
        <p:spPr>
          <a:xfrm>
            <a:off x="1066680" y="2133720"/>
            <a:ext cx="2714760" cy="21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lxf10"/>
          <p:cNvPicPr/>
          <p:nvPr/>
        </p:nvPicPr>
        <p:blipFill>
          <a:blip r:embed="rId2"/>
          <a:stretch/>
        </p:blipFill>
        <p:spPr>
          <a:xfrm>
            <a:off x="4876920" y="2133720"/>
            <a:ext cx="2665440" cy="21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62120" y="762120"/>
            <a:ext cx="784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那年鲁迅的父亲生了病，躺在床上。鲁迅一面上书塾，一面要帮家务，天天奔走于当铺和药铺之间。有一天早晨，鲁迅上学迟到了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929680" y="35042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这一段你体会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鲁迅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面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上书塾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面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要帮家务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天天奔走于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当铺与药铺之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762120"/>
            <a:ext cx="784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从那以后，鲁迅上学就再也没有迟到过，而且时时早，事事早，奋斗了一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3124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那以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什么？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143000" y="42670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为什么会迟到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762120" y="1066680"/>
            <a:ext cx="784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迅听了没有说什么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默默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到座位上。他在书桌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轻轻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刻了一个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57200" y="458604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生活的担子虽然压在他瘦弱的肩上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面对困难他什么也没说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他只是把一个早字轻轻地刻在桌上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但是却深深地烙在了心里。鲁迅从小就养成了这样坚强的性格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在困难面前决不屈服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736360" y="33570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鲁迅认为老师批评得对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己是迟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854360" y="470880"/>
            <a:ext cx="50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对寿镜吾老先生的严厉批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迅怎么做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62120" y="762120"/>
            <a:ext cx="784836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从那以后，鲁迅上学就再也没有迟到过，而且时时早，事事早，奋斗了一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66680" y="3124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那以后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什么？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43000" y="42670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鲁迅为什么会迟到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6746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4360" y="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今天老师带领同学们去浙江绍兴访问鲁迅先生早年求学的地方</a:t>
            </a:r>
            <a:r>
              <a:rPr b="1" lang="en-US" sz="4000" spc="-1" strike="noStrike">
                <a:solidFill>
                  <a:srgbClr val="ff3300"/>
                </a:solidFill>
                <a:latin typeface="华文中宋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味书屋。在三味书屋的东北角上有一张鲁迅先生曾经用过的书桌，在书桌上鲁迅曾刻了一个字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你们知道这个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字的来历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57200" y="762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　　鲁迅从小就严格要求自己，虽然是不得已才迟到的，但他还是牢记老师的教导，树立了时时早，事事早的信念，并为此奋斗了一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3520" y="2819520"/>
            <a:ext cx="8076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11280" y="1773360"/>
            <a:ext cx="8076960" cy="6732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黑体"/>
              </a:rPr>
              <a:t>是啊，的确要早。要珍惜清晨，要珍惜春天，要学梅花，做“东风第一枝”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24000" y="364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这里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晨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的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6920" y="4724280"/>
            <a:ext cx="65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２、这句话告诉我们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68360" y="53006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要学梅花，学鲁迅珍惜时间，时时早，事事早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16000" y="4221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生命中最美好的时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5280" y="340920"/>
            <a:ext cx="81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我们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记在心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鲁迅不畏艰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敢为人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时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事早的精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时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青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今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好学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066680" y="9144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说说作者为什么要写梅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914400" y="16765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腊梅花开得最早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作者把腊梅花的清香、颜色、花瓣写得那么美，以花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图片1"/>
          <p:cNvPicPr/>
          <p:nvPr/>
        </p:nvPicPr>
        <p:blipFill>
          <a:blip r:embed="rId1"/>
          <a:stretch/>
        </p:blipFill>
        <p:spPr>
          <a:xfrm>
            <a:off x="1447920" y="34290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鲁迅像"/>
          <p:cNvPicPr/>
          <p:nvPr/>
        </p:nvPicPr>
        <p:blipFill>
          <a:blip r:embed="rId2"/>
          <a:stretch/>
        </p:blipFill>
        <p:spPr>
          <a:xfrm>
            <a:off x="5105520" y="3352680"/>
            <a:ext cx="2382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838080" y="22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说说课文为什么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题目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30481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还可以用什么作为课题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762120" y="3886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３、学了这篇课文后你有什么收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322280" y="914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总结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124000" y="981000"/>
            <a:ext cx="7221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开得最早的梅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鲁迅书桌上的“早”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早”字的来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黑体"/>
              </a:rPr>
              <a:t>从中获得的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3995640" y="1700280"/>
            <a:ext cx="0" cy="649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3995640" y="2997360"/>
            <a:ext cx="0" cy="649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3995640" y="4365720"/>
            <a:ext cx="0" cy="649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通过“早”，将腊梅花与人的品格自然而然地联系并融合了起来，统摄全篇。用“早”为题目，给人以警策，印象深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268360" y="692280"/>
            <a:ext cx="6264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笨鸟先飞早入林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笨人勤学早成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早起的鸟儿有虫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一年之计在于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468360" y="1268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文通过对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三味书屋陈设的介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蜡梅花的赞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鲁迅书桌上“早”字的来历的讲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0" y="1102680"/>
            <a:ext cx="88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之所以在文中写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梅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是为了写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突出鲁迅和梅花一样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时时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事事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并且都有着纯洁而崇高的品格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题，目的是：激发我们学习鲁迅先生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时时早、事事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的精神。鲁迅是我国著名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文学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他的著作有：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朝花夕拾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、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祝福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、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阿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Q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正传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，他塑造的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阿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Q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、孔乙己、祥林嫂、闰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人物形象家喻户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752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luxunsw"/>
          <p:cNvPicPr/>
          <p:nvPr/>
        </p:nvPicPr>
        <p:blipFill>
          <a:blip r:embed="rId2"/>
          <a:stretch/>
        </p:blipFill>
        <p:spPr>
          <a:xfrm>
            <a:off x="0" y="0"/>
            <a:ext cx="4876920" cy="30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00009856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zgzp2_1"/>
          <p:cNvPicPr/>
          <p:nvPr/>
        </p:nvPicPr>
        <p:blipFill>
          <a:blip r:embed="rId4"/>
          <a:stretch/>
        </p:blipFill>
        <p:spPr>
          <a:xfrm>
            <a:off x="228600" y="39625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0102165"/>
          <p:cNvPicPr/>
          <p:nvPr/>
        </p:nvPicPr>
        <p:blipFill>
          <a:blip r:embed="rId5"/>
          <a:stretch/>
        </p:blipFill>
        <p:spPr>
          <a:xfrm>
            <a:off x="3733920" y="342900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9528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工作起来从不知道疲倦，常常白天做别的工作，晚上写文章，一写就写到天亮。他在书房里，总是坐在书桌前不停地工作，有时也靠在躺椅上看书，他认为这就是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到了晚年，对于时间抓得更紧，不管斗争多么紧张，环境多么恶劣，身体多么不好，他仍是如饥似渴地学习，夜以继日地忘我工作。有病的时间，他就想着病好了要做什么事；病稍好一些，就动手做起来。他逝世前不久，体温很高，体重减轻到不足八十斤，可他仍然不停地用笔作武器，同敌人战斗。他在逝世前三天，还给别人翻译的苏联小说集写了一篇序言；在他逝世的前一天，还记了日记。因此，毛泽东尊称他为中国第一等圣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1476360" y="1916280"/>
            <a:ext cx="6767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哪里有天才，我是把别人喝咖啡的工夫都用在工作上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鲁迅像"/>
          <p:cNvPicPr/>
          <p:nvPr/>
        </p:nvPicPr>
        <p:blipFill>
          <a:blip r:embed="rId1"/>
          <a:stretch/>
        </p:blipFill>
        <p:spPr>
          <a:xfrm>
            <a:off x="0" y="0"/>
            <a:ext cx="3708360" cy="6237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3851280" y="0"/>
            <a:ext cx="52927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节约时间，也就是使一个人有限的生命更加有效，也即等于延长了人的生命。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       生命是以时间为单位的，浪费别人的时间等于谋财害命；浪费自己的时间，等于慢性自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时间就像海绵里的水一样，只要你愿挤，总还是有的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——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鲁迅像"/>
          <p:cNvPicPr/>
          <p:nvPr/>
        </p:nvPicPr>
        <p:blipFill>
          <a:blip r:embed="rId3"/>
          <a:stretch/>
        </p:blipFill>
        <p:spPr>
          <a:xfrm>
            <a:off x="826920" y="692280"/>
            <a:ext cx="4378320" cy="5062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6863760" y="692280"/>
            <a:ext cx="182628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鲁迅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国现代伟大的文学家和翻译家，原名周树人，字豫才，浙江绍兴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14400" y="9144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会认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371600" y="32446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971800" y="3276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648320" y="3276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248520" y="33210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95280" y="454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酿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89548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朴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57200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墨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248520" y="4616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寿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258920" y="2349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i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12408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80060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248520" y="2406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s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1143000" y="32767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1143000" y="23623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1066680" y="449568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523880" y="32446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657600" y="32767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867280" y="327672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447920" y="4540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58128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默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579132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676520" y="2330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7339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943600" y="2362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1143000" y="32767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1143000" y="23623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066680" y="449568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79280" y="765000"/>
            <a:ext cx="8713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酿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雪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朴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素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寿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镜吾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花瓣　预示　韵致　蔬菜 纯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润泽透明　冰清玉洁 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纸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品行方正　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默无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7:05:34Z</dcterms:created>
  <dc:creator>User</dc:creator>
  <dc:description/>
  <dc:language>en-US</dc:language>
  <cp:lastModifiedBy>dell</cp:lastModifiedBy>
  <dcterms:modified xsi:type="dcterms:W3CDTF">2016-04-05T03:50:27Z</dcterms:modified>
  <cp:revision>40</cp:revision>
  <dc:subject/>
  <dc:title>    </dc:title>
</cp:coreProperties>
</file>