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13.jpeg" ContentType="image/jpeg"/>
  <Override PartName="/ppt/media/image12.jpeg" ContentType="image/jpeg"/>
  <Override PartName="/ppt/media/image7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6C2-976B-479C-A9E8-82F85A18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EBB-0EE7-44CE-ADE7-F2796020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3065-C751-46F6-8C85-C28E58C4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A720-2FE7-494F-8619-D864815E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FA35-8DDC-4EC5-9AEE-F8C893BC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15F3-21FD-4FF4-AC23-E4488AE2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7C18-B6BC-4271-B1DF-C1E22B6E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3A5A-45D3-45BB-BF44-7B3F97E8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6F91-BA99-48B2-8B1A-3FC99262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3C6B-18C1-47CA-90A3-75810804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CBA5-C546-4348-8AA5-64394B98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8D9-595B-43C0-8980-70976F32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9FF5-8DEC-493F-9A2B-F28A2DC5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71D5-B09D-42CC-9419-1836FBA5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4B8B-2D0C-40BF-85C8-3F06AF9A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F0B3-6D25-4502-86D8-7D0324AF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904D-5CA1-4927-9D73-6D51690D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41C91-7DBC-4CDF-A145-78B3B773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90558-9EE9-4926-9435-C0E2E20C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BAF75-4E83-4995-8FEF-20CA07ED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F5429-8412-4F0E-B37E-B28A3B64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F7218-8B70-4EC7-91A3-24998C13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C9C-C620-4806-B054-4B4145A4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40509-618B-4779-A096-3CED4546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791EA-8C78-4874-9D12-F7AE17B7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74561-E996-4BEA-94DA-B6CADE85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09048-A007-4A0A-9FAC-D7E82EDF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3CBA8-ED47-4A01-A850-7B1AA551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CAEB2-0FDB-4306-BAB7-FB7DBA40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465C0-5133-4658-B9B8-1DF7DEAE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1375B-6001-4243-A945-1B147AF1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24B39-50A2-4BB0-8C1F-1065FE34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A523F-F3DC-483B-AFC0-45ACEE96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1FB9-D6AC-4D12-82F3-9A5AB7AC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E0A6C-4377-4D57-9115-53EE2954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52B8E-B10E-43BD-B701-57B781AC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4AB3C-0251-467D-B1E1-15AD313A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677DA-B3E7-4750-8A79-0D9BD55A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249D1-EE70-4354-A8E3-23D48E2F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E3607-21FC-4C7F-96AA-7B03577B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5AF4E-6D7C-488B-A6A5-872179DE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63581-BD39-4E10-A656-57CD6643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F3548-F7C8-4A6D-88A5-B20D7693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E5011-8B47-4277-848C-AFF75E3E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1FF-113B-416A-BBAA-4F214FC0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7B2B1-E3DC-4C6A-9C53-49B430FC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6442F-4654-4971-9334-8B341693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3ED74-A67F-48B0-B8D4-6A2FC50B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0EF5E-D03D-4066-8224-838A3991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9F001-99E0-49AE-A2ED-2BDAA3DC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D1D94-B834-4075-B5FF-AA54F7F7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4E213-1E2F-446B-A02D-9DD49C94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15E19-6E91-4AF3-9945-2F903F4D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CE6C9-CF6C-4471-94F0-051F4893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E965D-84FD-4AA2-8CD4-F07E24DE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8A26-7231-4404-B2AE-AEDC343F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6DFED-F941-4C65-A95F-8BF0B9F7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8C717-67DE-46D8-A182-8F5AEFC8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FB664-B10F-4BEE-86C5-72C09311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42135-3F6C-4A09-85A8-F9D0690D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7F4AA-9D3F-4510-80A7-85EDEAFE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913BD-53D8-4756-80B7-D4F7C821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A874E-2645-477F-B8CD-8E11D7D0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B6166-ACF5-4D36-98BC-21552B77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EAD57-848A-48FF-9CBC-AABE663F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6F1EF-313F-40F1-B7E0-823DDD11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042-3777-4E5E-8F8F-EF8BFBA5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0D161-469A-446E-8C6E-51800F97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B9914-6311-4BDD-84C6-9E5B9F5C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A3C65-1097-46F5-A0C6-13B9559D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EC9EF-559E-4FFD-B1F3-2389C403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B5628-9002-47D8-92EA-F4DBB0E9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42F24-01C3-426F-B39F-2F2F953C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70372-0132-4579-81D8-4912B581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2F638-701C-408E-8DB7-DBCA1E5C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C83E9-26B5-430F-A812-10EE6EF4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45D9C-0455-4F60-B598-2ABE8321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A78-5C1D-49B0-B02F-85F2FA8D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E357C-0BBF-47B0-867F-076B64C6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E4936-7129-45BD-BBFB-E1E5E254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CF5AB-8385-44D6-B745-1CA04B64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20869-36F9-424C-9547-06083445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F8865-2E7A-453B-BDBE-211B58FE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E14-1D3A-47C2-BB8E-E6742B0C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38C5-72A3-4DA0-B3A9-40CCD73278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8D22-4C78-44A5-A52C-2F85444382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83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2E96-EB6B-427B-B473-E0263C74BFC0}" type="slidenum">
              <a:rPr b="0" lang="zh-CN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2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11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2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17C8-CF9E-43E1-B3B0-2C06CFEEFF98}" type="slidenum">
              <a:rPr b="0" lang="zh-CN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E3E3-076B-4B3C-9268-360ED7D5DB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9727-BD1F-470B-BC4B-857B8D3F91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65ED-1F54-49FB-9FDB-A199DAEE34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7047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1219320" y="1523880"/>
            <a:ext cx="6400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长江之歌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332000" y="2276640"/>
            <a:ext cx="5545080" cy="28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草檀斋毛泽东字体"/>
              </a:rPr>
              <a:t>谢谢指导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草檀斋毛泽东字体"/>
              <a:ea typeface="草檀斋毛泽东字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66560" y="692280"/>
            <a:ext cx="82296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83b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3b08"/>
                </a:solidFill>
                <a:latin typeface="Arial"/>
              </a:rPr>
              <a:t>中国有两条著名的河流</a:t>
            </a:r>
            <a:r>
              <a:rPr b="0" lang="en-US" sz="3600" spc="-1" strike="noStrike">
                <a:solidFill>
                  <a:srgbClr val="f83b08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f83b08"/>
                </a:solidFill>
                <a:latin typeface="Arial"/>
              </a:rPr>
              <a:t>黄河和长江。他们孕育了华夏文明，滋养着神州大地上的万千炎黄子孙，因此被誉为我们中华民族的“母亲河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83b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3b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3b08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f83b08"/>
                </a:solidFill>
                <a:latin typeface="Arial"/>
              </a:rPr>
              <a:t>长江之歌</a:t>
            </a:r>
            <a:r>
              <a:rPr b="0" lang="en-US" sz="3600" spc="-1" strike="noStrike">
                <a:solidFill>
                  <a:srgbClr val="f83b08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f83b08"/>
                </a:solidFill>
                <a:latin typeface="Arial"/>
              </a:rPr>
              <a:t>是上世纪八十年代风靡全国的一部纪录片</a:t>
            </a:r>
            <a:r>
              <a:rPr b="0" lang="en-US" sz="3600" spc="-1" strike="noStrike">
                <a:solidFill>
                  <a:srgbClr val="f83b08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f83b08"/>
                </a:solidFill>
                <a:latin typeface="Arial"/>
              </a:rPr>
              <a:t>话说长江</a:t>
            </a:r>
            <a:r>
              <a:rPr b="0" lang="en-US" sz="3600" spc="-1" strike="noStrike">
                <a:solidFill>
                  <a:srgbClr val="f83b08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f83b08"/>
                </a:solidFill>
                <a:latin typeface="Arial"/>
              </a:rPr>
              <a:t>的主题曲，作者是胡宏伟。</a:t>
            </a:r>
            <a:r>
              <a:rPr b="0" lang="zh-CN" sz="3200" spc="-1" strike="noStrike">
                <a:solidFill>
                  <a:srgbClr val="f83b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44360" y="763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3b08"/>
                </a:solidFill>
                <a:latin typeface="Arial"/>
              </a:rPr>
              <a:t>长江之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21840" y="852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3b08"/>
                </a:solidFill>
                <a:latin typeface="Arial"/>
              </a:rPr>
              <a:t>胡宏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65880" y="1413000"/>
            <a:ext cx="1887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你从雪山走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春潮是你的丰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你向东海奔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惊涛是你的气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你用甘甜的乳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哺育各族儿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你用健美的臂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挽起高山大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我们赞美长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你是无穷的源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我们依恋长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你有母亲的情怀</a:t>
            </a: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69160" y="1413000"/>
            <a:ext cx="198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你从远古走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巨浪 荡涤着尘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你向未来奔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涛声回荡在天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你用纯洁的清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灌溉花的国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你用磅礴的力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推动新的时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我们赞美长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你是无穷的源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我们依恋长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你有母亲的情怀</a:t>
            </a:r>
            <a:r>
              <a:rPr b="0" lang="zh-CN" sz="2800" spc="-1" strike="noStrike">
                <a:solidFill>
                  <a:srgbClr val="ccff99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332000" y="2349360"/>
            <a:ext cx="6095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乳汁　哺育　挽起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荡涤　尘埃　灌溉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奔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987640" y="4581360"/>
            <a:ext cx="2971800" cy="1068840"/>
            <a:chOff x="2987640" y="4581360"/>
            <a:chExt cx="2971800" cy="1068840"/>
          </a:xfrm>
        </p:grpSpPr>
        <p:sp>
          <p:nvSpPr>
            <p:cNvPr id="302" name=""/>
            <p:cNvSpPr/>
            <p:nvPr/>
          </p:nvSpPr>
          <p:spPr>
            <a:xfrm>
              <a:off x="2987640" y="4733640"/>
              <a:ext cx="152280" cy="8384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92560" y="4581360"/>
              <a:ext cx="2666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ēn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奔跑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èn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投奔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ǔ yù      dàng dí      chén āi     guàn g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826560" y="1341360"/>
            <a:ext cx="76186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哺育   荡涤    尘埃    灌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718960" y="1197000"/>
            <a:ext cx="1887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从雪山走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春潮是你的丰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向东海奔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惊涛是你的气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用甘甜的乳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哺育各族儿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用健美的臂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挽起高山大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赞美长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是无穷的源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依恋长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有母亲的情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32360" y="148428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31440" y="2133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江的源远流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29973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85520" y="3429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歌颂长江所起的巨大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932360" y="4724280"/>
            <a:ext cx="228600" cy="1524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96080" y="5084640"/>
            <a:ext cx="281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抒发了对母亲河——长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依恋的情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077160" y="1197000"/>
            <a:ext cx="198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从远古走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巨浪 荡涤着尘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向未来奔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涛声回荡在天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用纯洁的清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灌溉花的国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用磅礴的力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推动新的时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赞美长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是无穷的源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依恋长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有母亲的情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19640" y="141300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61120" y="1557360"/>
            <a:ext cx="252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出了长江的悠久历史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永远奔腾的气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219640" y="321300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19640" y="486900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85520" y="3429000"/>
            <a:ext cx="252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歌颂长江对土地的滋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时代的贡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54280" y="4869000"/>
            <a:ext cx="274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更加深情地赞颂长江，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在感受长江伟大的同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种强的历史沧桑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75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75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75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75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75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75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长江之歌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》</a:t>
            </a: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用（        ）的手法，把长江比作（       ）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赞颂了长江的（         ）、（         ），表达了对长江的（         ）、（         ）之情。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1917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d3333"/>
                </a:solidFill>
                <a:latin typeface="Arial"/>
                <a:ea typeface="楷体_GB2312"/>
              </a:rPr>
              <a:t>拟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03640" y="2492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d3333"/>
                </a:solidFill>
                <a:latin typeface="Arial"/>
                <a:ea typeface="楷体_GB2312"/>
              </a:rPr>
              <a:t>母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76360" y="2997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d3333"/>
                </a:solidFill>
                <a:latin typeface="Arial"/>
                <a:ea typeface="楷体_GB2312"/>
              </a:rPr>
              <a:t>宏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80000" y="299736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d3333"/>
                </a:solidFill>
                <a:latin typeface="Arial"/>
                <a:ea typeface="楷体_GB2312"/>
              </a:rPr>
              <a:t>壮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835280" y="3645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d3333"/>
                </a:solidFill>
                <a:latin typeface="Arial"/>
                <a:ea typeface="楷体_GB2312"/>
              </a:rPr>
              <a:t>热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356000" y="3573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d3333"/>
                </a:solidFill>
                <a:latin typeface="Arial"/>
                <a:ea typeface="楷体_GB2312"/>
              </a:rPr>
              <a:t>依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1142640" y="-360"/>
            <a:ext cx="7467480" cy="71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关描写长江的古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暮江吟　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白居易 </a:t>
            </a:r>
            <a:br>
              <a:rPr sz="18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道残阳铺水中，半江瑟瑟半江红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怜九月初三夜，露似珍珠月似弓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望天门山　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李白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门中断楚江开，碧水东流至此回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岸青山相对出，孤帆一片日边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早发白帝城　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李白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辞白帝彩云间，千里江陵一日还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岸猿声啼不住，轻舟已过万重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惠崇春江晓景　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苏轼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竹外桃花三两枝，春江水暖鸭先知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蒌蒿满地芦芽短，正是河豚欲上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057400" y="2514600"/>
            <a:ext cx="5257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）诵读诗歌，学唱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话说长江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主题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）课外搜集有关长江的诗词，举行长江诗词朗诵会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33520" y="1143000"/>
            <a:ext cx="35337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作业</a:t>
            </a:r>
            <a:endParaRPr b="0" lang="en-US" sz="4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0:12:34Z</dcterms:created>
  <dc:creator/>
  <dc:description>劳东浩搜集整理  仅供学习交流 著作权原创所有</dc:description>
  <cp:keywords/>
  <dc:language>en-US</dc:language>
  <cp:lastModifiedBy>User</cp:lastModifiedBy>
  <cp:lastPrinted>1899-12-30T00:00:00Z</cp:lastPrinted>
  <dcterms:modified xsi:type="dcterms:W3CDTF">2014-02-25T09:11:34Z</dcterms:modified>
  <cp:revision>3</cp:revision>
  <dc:subject/>
  <dc:title>长江之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31</vt:lpwstr>
  </property>
</Properties>
</file>