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832-8A08-451D-8E83-484A3A31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6CB-9054-4EC8-97C0-C568B9E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6D0-6225-414F-95CC-EACF57E9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E90-83DD-43A7-8A40-82EBF13F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CD65-3C6A-4BE5-82B4-1E54D94C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CEDF-9C03-487D-9851-75139C27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86D6-A397-48BE-8C02-02B3EC3B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BE0A-1EFB-470B-BFD6-31D8D49E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6DEC-9B0C-459E-818E-1E268CA1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9F7E-D692-4620-A83E-4EB1BD1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5ACC-104A-4FD3-9940-99790DD8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DF1-8975-4491-BECE-D4A0AEEA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79F5-D08A-4989-8C90-5C45CFD9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74FF-D915-439C-A0CD-88CF06F7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557F-7249-4EE9-A30B-0D83CBC4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4A06-BD2E-4CBC-9CA2-85FA1FB2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E87-3F38-4D0E-A95B-B97BB7EB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E57-2D69-47DC-B35B-7A093149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6C0-0782-4F5E-A3DE-DED1965E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381-5E26-4D65-8730-B65516C9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38D-2AF9-465C-81DD-799E3D45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4A6-826D-41A8-B1BC-8B462312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95D-FB48-4840-83A4-C6E7AFE9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2E3-5F47-4D56-9F52-B4C84EC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2B4D-EDEF-4A0D-9EC9-81E5D4EFC04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92CE-1229-4312-8E5F-8C1E0AEDF40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45800" y="1052640"/>
            <a:ext cx="78984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最后的常春藤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283032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s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撒腿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s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撒种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ò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拐弯抹角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m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抹布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xiànɡ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巷战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hànɡ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巷道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tiá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调色板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diào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调动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tái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苔藓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tāi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舌苔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ài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方兴未艾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yì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自怨自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1593720" y="2071800"/>
          <a:ext cx="6121440" cy="2714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3720" y="2071800"/>
                    <a:ext cx="612144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1438200" y="1670040"/>
          <a:ext cx="6991560" cy="3759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8200" y="1670040"/>
                    <a:ext cx="69915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2751120"/>
            <a:ext cx="854064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锡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邋遢　暴躁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干燥　蓬松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帐篷　撒手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撤离　疲倦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蜷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缱绻　掺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寒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渗透　缅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沉湎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腼腆　筹码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范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踌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28800" y="1213920"/>
            <a:ext cx="750096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辨析词义，选择最恰当的词语填写在句中横线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独树一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别具一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昨天下午，在秦皇岛备战亚洲杯的中国女足，在沙滩上了一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训练课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以木结构为主体的中国古建筑，在世界建筑之林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有区别于世界其他建筑的鲜明特点，它在材料、技术、构造做法、损毁规律及保护维修手段方面与西方古建筑有许多不同之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28800" y="1356840"/>
            <a:ext cx="728640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联结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连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日，四川地震发生后，各新闻媒体主播用已经沙哑了的声音夜以继日地播放着灾情，正是这些沙哑的声音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着灾区和全国人民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在这里我们相聚一堂，以诗歌作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纽带，把更多的诗歌爱好者呈现在人们的面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17480" y="1905120"/>
            <a:ext cx="7709040" cy="34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启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启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日，在中牟县万滩镇万滩村，群众围着镇奶牛养殖小区贴出的“大量收购蒜秧”的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议论纷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地震过后，笔者对与饲料产业密切相关的豆粕、玉米受地震影响作了分析，希望能通过对饲料原料的分析给读者一些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90560" y="2499840"/>
            <a:ext cx="77104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解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别具一格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指具有一种独特的风格或色彩，多用于艺术作品的构思或对问题的见解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独树一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指独自另立一面旗帜，来形容新路，自成一家；可指艺术创作、政治道路，也可指工农业产品不同一般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2701800"/>
            <a:ext cx="854064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都是动词，但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连接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有使动的意义。从方式上看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连接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重在衔接，就是互相连接在一起，而且连接的方式具体而明确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联结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重在结合，由于某种因素的作用，使二者之间有了密切的联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39600" y="2475000"/>
            <a:ext cx="74134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启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常用文体的一种，指为了公开声明某事而登在报刊或贴在墙壁上的文字，名词，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征稿启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启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即启发指示，使有所领悟，可作动词、名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631680" y="2241720"/>
            <a:ext cx="3759480" cy="14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鄂州南楼</a:t>
            </a:r>
            <a:r>
              <a:rPr b="1" lang="zh-CN" sz="2800" spc="-1" strike="noStrike" baseline="30000">
                <a:solidFill>
                  <a:srgbClr val="007a77"/>
                </a:solidFill>
                <a:latin typeface="Times New Roman"/>
                <a:ea typeface="华文新魏"/>
              </a:rPr>
              <a:t>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□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范成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85840" y="1616040"/>
            <a:ext cx="2066760" cy="31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2"/>
          <p:cNvGraphicFramePr/>
          <p:nvPr/>
        </p:nvGraphicFramePr>
        <p:xfrm>
          <a:off x="2573280" y="2892600"/>
          <a:ext cx="5927760" cy="217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3280" y="2892600"/>
                    <a:ext cx="592776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39600" y="2738160"/>
            <a:ext cx="741348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)A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别具一格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独树一帜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2)A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连接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联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3)A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启事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启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57160" y="1028520"/>
            <a:ext cx="74296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文学常识填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亨利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86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910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国现代短篇小说之父，世界著名的短篇小说家之一，一生经历复杂，掌握了丰富的创作素材。他的作品已以写小人物为主，以情节取胜，结局往往出人意料，引出人们“含泪的微笑”，发人深思，深受广大读者的欢迎，代表作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《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《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最后的常春藤叶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爱的牺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美　警察与赞美诗　麦琪的礼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0920" y="2852280"/>
            <a:ext cx="7413480" cy="28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小说最震撼人心的是哪一个情节？说明原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应该是小说的结局部分，因为这一部分写到苏艾的揭谜：老贝尔曼的死，换来了最后一片叶子这幅他追求终生的杰作，而正是这幅杰作唤醒了琼珊对生的渴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1138320" y="928800"/>
            <a:ext cx="6862680" cy="86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1071720" y="1857240"/>
            <a:ext cx="3090600" cy="871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1680" y="2271600"/>
            <a:ext cx="85406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试问小说的结局有怎样的特点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亨利式的结尾。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亨利在短篇小说的艺术处理上最大的特点就是“小说的意外结局”。出乎意料之外，又在情理之中。读者眼看着情节似乎明明朝着一个方向发展，但结局往往来了个出其不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最后一片叶子与琼珊有怎样的关系？为什么最后的藤叶能挽救琼珊的生命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最后一片叶子关系到琼珊的生死。叶子是希望的象征，如若叶子落了，她也就给自己找到了放弃抗争的理由；当然，只要叶子不落，她就有所期待，有所抗争，在最后一片常春藤叶的鼓舞下，重新振作起来，直到康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为什么说贝尔曼画的最后一片藤叶是他的杰作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因为这片叶子给予病人生的希望和信念，表现了普通人之间的无私和情意，闪烁着人性的光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贝尔曼画常青藤本应是小说的重要情节，作者却没有实写，这样处理有什么好处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作品没有实写这一情节，使得小说产生出人意外的效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亨利式结尾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也给读者留下了想象的空间。我们可以想象，那个风雨交加的夜晚，老人是怎样冒雨踉踉跄跄爬到离地面二十来英尺的地方，颤抖着调拌黄色和绿色，在墙上施展他从未施展的艺术才能，同时也毫无保留地献出了生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00080" y="1428480"/>
            <a:ext cx="7143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贝尔曼是小说的主人公，作品集中写他的只有两处，试分析这个他是怎样的人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初见贝尔曼时，作者通过外貌描写告诉我们：贝尔曼是一个性格暴躁、酗酒成性、牢骚满腹、郁郁不得志的老画家；又通过语言描写，当他得知琼珊的病情和“白痴般的想法”后，“讽刺地咆哮了一阵子”，写出他的善良和同情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99720" y="1428840"/>
            <a:ext cx="72867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再见贝尔曼时，贝尔曼已经身体虚弱，病了两天就去世了。贝尔曼是因为冒雨画最后一片叶子，得了肺炎而去世的。他的崇高爱心、自我牺牲精神由此得到了展现。我们看到了贝尔曼平凡的甚至有点讨厌的外表下有一颗火热的爱心，虽然穷困潦倒，却无私关怀、帮助他人，甚至不惜付出生命的代价。作者借此歌颂了穷苦朋友相濡以沫的珍贵友情和普通人的心灵美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56800" y="1213920"/>
            <a:ext cx="73580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品读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亨利式的语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比如：“到了十一月，一个冷酷无情、肉眼看不见、医生管他叫做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肺炎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’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不速之客，在艺术区里蹑手蹑脚，用他的冰冷的手指这儿碰碰那儿摸摸。”“叶子。常春藤上的叶子。等最后一片掉落下来，我也得去了。三天前我就知道了。难道大夫没有告诉你吗？”“又掉了一片。不，我不要喝汤。只剩四片了。我希望在天黑之前看到最后的藤叶飘落下来。那时候我也该走了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2352240"/>
            <a:ext cx="854064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①鄂州南楼：鄂州，今武汉市武昌。南楼，以东晋时镇武昌的征西将军庾亮游此而著名，是当时武昌城的一个谯楼，在湖北鄂城县南。范成大登临的是黄鹤山上的南楼。②“黄鹤”：在南楼附近有黄鹤楼，借用骑鹤仙人的故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1680" y="3068640"/>
            <a:ext cx="85406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品味：采用幽默、风趣、俏皮、夸张、讽刺、比喻的语言，渲染悲剧的喜剧色彩，让读者在俏皮的描写中醒悟内在庄严的思想感情，在生动活泼中给人启迪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72640" y="1955880"/>
            <a:ext cx="7473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阅读下面选段，完成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老贝尔曼是住在楼下底层的一个画家，年纪六十开头，有一把像是米开朗琪罗的摩西雕像的胡子，从萨蒂尔似的脑袋上顺着小鬼般的身体卷垂下来。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贝尔曼在艺术界是个失意的人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他耍了四十年画笔，仍同艺术女神隔有相当距离，连她的长袍的边缘都没有摸到。他老是说要画一幅杰作，可是始终没有动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971640" y="785880"/>
            <a:ext cx="3171600" cy="904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除了偶尔涂抹一些商业画或广告画以外，几年来没有什么创作。他替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艺术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一些雇不起职业模特儿的青年艺术家充当模特儿，挣几个小钱。他喝杜松子酒总是过量，老是唠唠叨叨地谈着他未来的杰作。此外，他还是个暴躁的小老头儿，极端瞧不起别人的温情，却认为自己是保护楼上两个青年艺术家的看家恶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苏艾在楼下那间灯光暗淡的小屋子里找到了酒气扑人的贝尔曼。角落里的画架上绷着一幅空白的画布，它在那儿静候杰作的落笔，已经有二十五年了。她把琼珊的想法告诉了他，又说她多么担心，惟恐那个虚弱的像是枯叶一般的琼珊抓不住她同世界的微弱联系，真会撒手而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00080" y="1357200"/>
            <a:ext cx="71438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老贝尔曼的充血的眼睛老是迎风流泪。他对这种白痴般的想法大不以为然，讽刺地咆哮了一阵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什么话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他嚷道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难道世界上竟有这种傻子，因为可恶的藤叶落掉而想死？我活了一辈子也没有听到过这种怪事。不，我没有心思替你当那无聊的隐士模特儿。你怎么能让她脑袋里有这种傻念头呢？唉，可怜的琼珊小姐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1680" y="2751120"/>
            <a:ext cx="854064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她病得很重，很虚弱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苏艾说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高烧烧得她疑神疑鬼，满脑袋都是稀奇古怪的念头。好吧，贝尔曼先生，既然你不愿意替我当模特儿，我也不勉强了。我认得你这个可恶的老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老贫嘴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⑥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你真女人气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贝尔曼嚷道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谁说我不愿意来着？走吧。我跟你一起去。我已经说了半天，愿意为你效劳。天哪！像琼珊小姐那样的好人实在不应该在这种地方害病。总有一天，我要画一幅杰作，那么我们都可以离开这里啦。天哪！是啊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⑦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他们上楼时，琼珊已经睡着了。苏艾把窗帘拉到窗槛上，打手势让贝尔曼到另一间屋子里去。他们在那儿担心地瞥着窗外的常春藤。接着，他们默默无言地对瞅了一会儿。寒雨夹着雪花下个不停。贝尔曼穿着一件蓝色的旧衬衫，坐在一口翻转过来权充岩石的铁锅上，扮作隐居的矿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选文第⑥段写贝尔曼念叨琼珊的病情和杰作，有何作用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</a:t>
            </a: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解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贝尔曼念叨为琼珊做一幅画，主要是为后文作铺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贝尔曼念叨琼珊的病情和杰作，是为下文画藤叶作铺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1680" y="2271600"/>
            <a:ext cx="854064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第①段中“贝尔曼在艺术界是个失意的人”中的“失意”，从文中哪些语句可以看出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2590560"/>
            <a:ext cx="85406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③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汉树”：点化崔颢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黄鹤楼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诗句“晴川历历汉阳树”。④三更市：夜市直到深夜。⑤鲈乡：指作者故乡苏州一带鱼米之乡，暗用张翰在洛阳思吴中鲈鱼脍之典。垂钓手：指隐者，用以自喻。⑥武昌鱼好：化用三国时民谣“宁饮建业水，不食武昌鱼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1680" y="2909520"/>
            <a:ext cx="854064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解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　作者在文中直接写出他与艺术女神无缘，又通过侧面描写角落里的画架上绷着一幅空白的画布，它在那儿静候杰作的落笔，已经有二十五年了。由以上事实可以看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1680" y="2669760"/>
            <a:ext cx="854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可由以下几句看出其“失意”：①他耍了四十年画笔，仍同艺术女神隔有相当距离，连她的长袍的边缘都没有摸到。②角落里的画架上绷着一幅空白的画布，它在那儿静候杰作的落笔，已经有二十五年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这几段文字从哪些方面塑造贝尔曼的形象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解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　这几段文字多处写到了贝尔曼的语言和肖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主要通过外貌和语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1680" y="1904760"/>
            <a:ext cx="854064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小说揭示了什么样的主题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_____________________________________________________________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928800" y="304164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解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小说主要是歌颂下层人民的优秀品质，表现他们之间的友情和美好心灵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　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小说歌颂了穷苦朋友相濡以沫的珍贵友情和普通人的美好心灵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1"/>
          <p:cNvGrpSpPr/>
          <p:nvPr/>
        </p:nvGrpSpPr>
        <p:grpSpPr>
          <a:xfrm>
            <a:off x="3214800" y="3981600"/>
            <a:ext cx="2571480" cy="947520"/>
            <a:chOff x="3214800" y="3981600"/>
            <a:chExt cx="2571480" cy="947520"/>
          </a:xfrm>
        </p:grpSpPr>
        <p:grpSp>
          <p:nvGrpSpPr>
            <p:cNvPr id="137" name="云形标注 2"/>
            <p:cNvGrpSpPr/>
            <p:nvPr/>
          </p:nvGrpSpPr>
          <p:grpSpPr>
            <a:xfrm>
              <a:off x="3214800" y="3981600"/>
              <a:ext cx="2571480" cy="947520"/>
              <a:chOff x="3214800" y="3981600"/>
              <a:chExt cx="2571480" cy="947520"/>
            </a:xfrm>
          </p:grpSpPr>
          <p:pic>
            <p:nvPicPr>
              <p:cNvPr id="138" name="云形标注 2" descr=""/>
              <p:cNvPicPr/>
              <p:nvPr/>
            </p:nvPicPr>
            <p:blipFill>
              <a:blip r:embed="rId2"/>
              <a:stretch/>
            </p:blipFill>
            <p:spPr>
              <a:xfrm>
                <a:off x="3214800" y="3981600"/>
                <a:ext cx="2571480" cy="9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3741480" y="4212720"/>
                <a:ext cx="137592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pic>
          <p:nvPicPr>
            <p:cNvPr id="140" name="Text Box 37" descr=""/>
            <p:cNvPicPr/>
            <p:nvPr/>
          </p:nvPicPr>
          <p:blipFill>
            <a:blip r:embed="rId3"/>
            <a:stretch/>
          </p:blipFill>
          <p:spPr>
            <a:xfrm>
              <a:off x="3424320" y="4189680"/>
              <a:ext cx="2077200" cy="58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4"/>
          <p:cNvSpPr/>
          <p:nvPr/>
        </p:nvSpPr>
        <p:spPr>
          <a:xfrm>
            <a:off x="4341960" y="53960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练规范、练技能、练速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3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95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2303640"/>
            <a:ext cx="854064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鉴赏提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　范成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1126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1193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，字致能，号石湖居士，苏州吴县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今江苏苏州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人。绍兴二十四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1154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进士。历著作佐郎、礼部员外郎、起居舍人等职。乾道六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1170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使金，不畏强暴，词气慷慨，几乎被杀。还朝后在静江、成都、建康等地任职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累官至吏部尚书拜参知政事。辞官后退居故乡石湖。他与陆游、杨万里、尤袤合称中兴四大诗人。这首诗是诗人在淳熙四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1177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自四川东归，八月中秋前一天到达鄂州，中秋夜，受当地官吏的招待同游南楼而作的。首联点出在中秋夜游南楼的时间和遐想。颔联写南楼形胜。颈联写鄂州和江西的夜景。末联抒情，自嘲流连鄂州景色，不如早早回乡的心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1047600" y="2106720"/>
          <a:ext cx="7167600" cy="339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0" y="2106720"/>
                    <a:ext cx="716760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>
            <a:off x="928800" y="1009800"/>
            <a:ext cx="7153200" cy="995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39600" y="2566800"/>
            <a:ext cx="7413480" cy="19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答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)páo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xiào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2)nuò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3)bì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4)piē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5)ni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6)jià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7)chī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8)dū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9)xū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0)láo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dā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500040" y="1928880"/>
          <a:ext cx="8421840" cy="267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040" y="1928880"/>
                    <a:ext cx="842184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8:28:39Z</dcterms:created>
  <dc:creator>微软中国</dc:creator>
  <dc:description/>
  <dc:language>en-US</dc:language>
  <cp:lastModifiedBy>雨林木风</cp:lastModifiedBy>
  <dcterms:modified xsi:type="dcterms:W3CDTF">2013-01-31T02:12:42Z</dcterms:modified>
  <cp:revision>159</cp:revision>
  <dc:subject/>
  <dc:title>幻灯片 1</dc:title>
</cp:coreProperties>
</file>