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E7D-2249-4BD5-851B-437AF68A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D58-0889-4562-B9B3-9F33E603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69E-115C-43E0-845D-C22D45A3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8EF-6F6D-43BE-8067-5E6D1D24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C6F-151B-49A0-8F64-6DD0FC8B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578-2283-4981-A310-391A14AE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759-7F65-43F1-A52A-16D0E059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85A-06E2-4E68-BBF7-25CB4D05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467-575D-49F2-8B40-312446F0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11C-5BA1-4FDE-A01A-7D8E0306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DAD-3EFC-4AE6-BA4D-665CA25F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381-2564-4A48-9C08-A0E618DD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06C3-72D1-4161-A7A9-C8B31EAB6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audio" Target="file:///tmp/home/.config/libreoffice/4/user/gallery/chimes.wav" TargetMode="External"/><Relationship Id="rId7" Type="http://schemas.microsoft.com/office/2007/relationships/media" Target="file:///tmp/home/.config/libreoffice/4/user/gallery/chimes.wav" TargetMode="External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200391837207"/>
          <p:cNvPicPr/>
          <p:nvPr/>
        </p:nvPicPr>
        <p:blipFill>
          <a:blip r:embed="rId2"/>
          <a:srcRect l="0" t="0" r="0" b="3333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286920"/>
            <a:ext cx="77756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这儿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原来是一座村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昨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儿是一座村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生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多少年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模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贫穷落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困扰着人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现代文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是那样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遥远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渺茫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晨曦中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阿爸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田间劳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烟雾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阿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煮饭在灶旁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小孩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稻草堆里打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姑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溪边挑回一担担摇晃的夕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714000" y="3645360"/>
            <a:ext cx="1034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大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年轻人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800" y="-108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96720" y="162864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呵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只不过短短的几年时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变化超出了人们的想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祖国边陲的这座村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奇迹般地改变了自己的模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高速公路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代替了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泥泞的古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破旧的土屋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变成了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幢幢厂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儿童乐园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充满着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欢声笑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彩灯喷泉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装点得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像仙境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20"/>
          <p:cNvPicPr/>
          <p:nvPr/>
        </p:nvPicPr>
        <p:blipFill>
          <a:blip r:embed="rId2"/>
          <a:stretch/>
        </p:blipFill>
        <p:spPr>
          <a:xfrm>
            <a:off x="5508720" y="1413000"/>
            <a:ext cx="3348000" cy="44654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1187280" y="5697720"/>
            <a:ext cx="42148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突出诗歌语言的优美，押韵，体现了语言的准确与生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2340000" y="3933720"/>
            <a:ext cx="863640" cy="158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340000" y="4437000"/>
            <a:ext cx="863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268360" y="479736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195640" y="5229360"/>
            <a:ext cx="1008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4920" y="1196640"/>
            <a:ext cx="72723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人们呢？我熟悉的乡亲们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难道离开了世代居住的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不，他们没有离开故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在特区，到处可以看到那些熟悉的面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他们开着卡车，运送水泥、钢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提着皮包，和外商谈判办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伴着灯光，在知识的海洋里遨游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和着乐曲，翩翩起舞放声歌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156360" y="4407120"/>
            <a:ext cx="25210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出诗歌语言的优美，押韵，体现了语言的准确与生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684360" y="263700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684360" y="321300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 flipV="1">
            <a:off x="4500720" y="2565000"/>
            <a:ext cx="107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724360" y="2133720"/>
            <a:ext cx="31687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问自答：设问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7380360" y="263700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2556000" y="5445000"/>
            <a:ext cx="2087280" cy="1008360"/>
          </a:xfrm>
          <a:prstGeom prst="cloudCallout">
            <a:avLst>
              <a:gd name="adj1" fmla="val -49773"/>
              <a:gd name="adj2" fmla="val -120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表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0" y="1557000"/>
            <a:ext cx="8153280" cy="449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再不是只求三餐眼看脚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探寻的目光已越出国界射向四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从仪表到心灵都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焕然一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就像那彩色的特区新城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这就是昔日面向黄土背朝天的农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改革开放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给他们插上翅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似春燕在田野上飞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传递着新的信息，描画着美好春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28"/>
          <p:cNvPicPr/>
          <p:nvPr/>
        </p:nvPicPr>
        <p:blipFill>
          <a:blip r:embed="rId2"/>
          <a:stretch/>
        </p:blipFill>
        <p:spPr>
          <a:xfrm>
            <a:off x="6012000" y="1341360"/>
            <a:ext cx="2857320" cy="252108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5"/>
          <p:cNvSpPr/>
          <p:nvPr/>
        </p:nvSpPr>
        <p:spPr>
          <a:xfrm>
            <a:off x="5003640" y="907920"/>
            <a:ext cx="2305080" cy="792360"/>
          </a:xfrm>
          <a:prstGeom prst="cloudCallout">
            <a:avLst>
              <a:gd name="adj1" fmla="val -65837"/>
              <a:gd name="adj2" fmla="val 101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心灵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50920" y="836640"/>
            <a:ext cx="8370720" cy="298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就是昔日面向黄土背朝天的农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改革开放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给他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插上翅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似春燕在田野上飞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传递着新的信息，描画着美好春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3635280" y="2276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79280" y="404280"/>
            <a:ext cx="89647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首诗歌先写了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深圳的昨天），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接着写了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深圳的今天），最后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变化的原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。赞美了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改革开放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给深圳带来的巨大变化，抒发了对祖国的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无比热爱之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。采用了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比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）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比喻  ）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设问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）等句式，使整首诗歌语句优美，引人深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979640" y="1268280"/>
            <a:ext cx="540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昨天，这儿是一座村庄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635280" y="3716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zt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zt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z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2130197"/>
          <p:cNvPicPr/>
          <p:nvPr/>
        </p:nvPicPr>
        <p:blipFill>
          <a:blip r:embed="rId2"/>
          <a:srcRect l="0" t="1831" r="0" b="88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3" name="Picture 3" descr="P2130197"/>
          <p:cNvPicPr/>
          <p:nvPr/>
        </p:nvPicPr>
        <p:blipFill>
          <a:blip r:embed="rId3"/>
          <a:srcRect l="0" t="1831" r="0" b="88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44" name="WordArt 4"/>
          <p:cNvSpPr txBox="1"/>
          <p:nvPr/>
        </p:nvSpPr>
        <p:spPr>
          <a:xfrm>
            <a:off x="1908000" y="260280"/>
            <a:ext cx="540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昨天，这儿是一座村庄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572000" y="429264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zt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2150277"/>
          <p:cNvPicPr/>
          <p:nvPr/>
        </p:nvPicPr>
        <p:blipFill>
          <a:blip r:embed="rId2"/>
          <a:srcRect l="0" t="5039" r="0" b="4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b05"/>
          <p:cNvPicPr/>
          <p:nvPr/>
        </p:nvPicPr>
        <p:blipFill>
          <a:blip r:embed="rId2"/>
          <a:stretch/>
        </p:blipFill>
        <p:spPr>
          <a:xfrm>
            <a:off x="0" y="117360"/>
            <a:ext cx="9144000" cy="6696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sz67"/>
          <p:cNvPicPr/>
          <p:nvPr/>
        </p:nvPicPr>
        <p:blipFill>
          <a:blip r:embed="rId2"/>
          <a:srcRect l="0" t="6934" r="0" b="0"/>
          <a:stretch/>
        </p:blipFill>
        <p:spPr>
          <a:xfrm>
            <a:off x="0" y="0"/>
            <a:ext cx="9144000" cy="6775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NewsMedia_161770"/>
          <p:cNvPicPr/>
          <p:nvPr/>
        </p:nvPicPr>
        <p:blipFill>
          <a:blip r:embed="rId2">
            <a:lum contrast="24000"/>
          </a:blip>
          <a:srcRect l="0" t="3171" r="0" b="10314"/>
          <a:stretch/>
        </p:blipFill>
        <p:spPr>
          <a:xfrm>
            <a:off x="4284720" y="3284640"/>
            <a:ext cx="4464000" cy="3022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8" name="Picture 3" descr="NewsMedia_161763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24000" y="453960"/>
            <a:ext cx="4608360" cy="3057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xp037"/>
          <p:cNvPicPr/>
          <p:nvPr/>
        </p:nvPicPr>
        <p:blipFill>
          <a:blip r:embed="rId2"/>
          <a:stretch/>
        </p:blipFill>
        <p:spPr>
          <a:xfrm>
            <a:off x="144360" y="1300320"/>
            <a:ext cx="89647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9280" y="404280"/>
            <a:ext cx="89647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首诗歌先写了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），接着写了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），最后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  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）。赞美了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）给深圳带来的巨大变化，抒发了对祖国的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）。采用了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）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）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）等句式，使整首诗歌语句优美，引人深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228600" y="304920"/>
            <a:ext cx="4495680" cy="2971800"/>
            <a:chOff x="228600" y="304920"/>
            <a:chExt cx="4495680" cy="2971800"/>
          </a:xfrm>
        </p:grpSpPr>
        <p:pic>
          <p:nvPicPr>
            <p:cNvPr id="112" name="Picture 3" descr="海南"/>
            <p:cNvPicPr/>
            <p:nvPr/>
          </p:nvPicPr>
          <p:blipFill>
            <a:blip r:embed="rId2"/>
            <a:stretch/>
          </p:blipFill>
          <p:spPr>
            <a:xfrm>
              <a:off x="228600" y="304920"/>
              <a:ext cx="44956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4"/>
            <p:cNvSpPr/>
            <p:nvPr/>
          </p:nvSpPr>
          <p:spPr>
            <a:xfrm>
              <a:off x="304920" y="411120"/>
              <a:ext cx="190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海 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5"/>
          <p:cNvGrpSpPr/>
          <p:nvPr/>
        </p:nvGrpSpPr>
        <p:grpSpPr>
          <a:xfrm>
            <a:off x="228600" y="3581280"/>
            <a:ext cx="4419720" cy="2971800"/>
            <a:chOff x="228600" y="3581280"/>
            <a:chExt cx="4419720" cy="2971800"/>
          </a:xfrm>
        </p:grpSpPr>
        <p:pic>
          <p:nvPicPr>
            <p:cNvPr id="115" name="Picture 6" descr="汕头"/>
            <p:cNvPicPr/>
            <p:nvPr/>
          </p:nvPicPr>
          <p:blipFill>
            <a:blip r:embed="rId3"/>
            <a:stretch/>
          </p:blipFill>
          <p:spPr>
            <a:xfrm>
              <a:off x="228600" y="3581280"/>
              <a:ext cx="441972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7"/>
            <p:cNvSpPr/>
            <p:nvPr/>
          </p:nvSpPr>
          <p:spPr>
            <a:xfrm>
              <a:off x="533520" y="3733560"/>
              <a:ext cx="190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汕 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8"/>
          <p:cNvGrpSpPr/>
          <p:nvPr/>
        </p:nvGrpSpPr>
        <p:grpSpPr>
          <a:xfrm>
            <a:off x="4876920" y="3581280"/>
            <a:ext cx="4419000" cy="2987640"/>
            <a:chOff x="4876920" y="3581280"/>
            <a:chExt cx="4419000" cy="2987640"/>
          </a:xfrm>
        </p:grpSpPr>
        <p:pic>
          <p:nvPicPr>
            <p:cNvPr id="118" name="Picture 9" descr="珠海"/>
            <p:cNvPicPr/>
            <p:nvPr/>
          </p:nvPicPr>
          <p:blipFill>
            <a:blip r:embed="rId4"/>
            <a:stretch/>
          </p:blipFill>
          <p:spPr>
            <a:xfrm>
              <a:off x="4876920" y="3581280"/>
              <a:ext cx="40381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0"/>
            <p:cNvSpPr/>
            <p:nvPr/>
          </p:nvSpPr>
          <p:spPr>
            <a:xfrm>
              <a:off x="7391160" y="3733560"/>
              <a:ext cx="190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珠 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11"/>
          <p:cNvSpPr/>
          <p:nvPr/>
        </p:nvSpPr>
        <p:spPr>
          <a:xfrm>
            <a:off x="7604280" y="3573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2"/>
          <p:cNvGrpSpPr/>
          <p:nvPr/>
        </p:nvGrpSpPr>
        <p:grpSpPr>
          <a:xfrm>
            <a:off x="4952880" y="330120"/>
            <a:ext cx="3962520" cy="2946240"/>
            <a:chOff x="4952880" y="330120"/>
            <a:chExt cx="3962520" cy="2946240"/>
          </a:xfrm>
        </p:grpSpPr>
        <p:pic>
          <p:nvPicPr>
            <p:cNvPr id="122" name="Picture 13" descr="厦门"/>
            <p:cNvPicPr/>
            <p:nvPr/>
          </p:nvPicPr>
          <p:blipFill>
            <a:blip r:embed="rId5"/>
            <a:stretch/>
          </p:blipFill>
          <p:spPr>
            <a:xfrm>
              <a:off x="4952880" y="330120"/>
              <a:ext cx="3962520" cy="29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4"/>
            <p:cNvSpPr/>
            <p:nvPr/>
          </p:nvSpPr>
          <p:spPr>
            <a:xfrm>
              <a:off x="7467480" y="4572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3300"/>
                  </a:solidFill>
                  <a:latin typeface="Times New Roman"/>
                  <a:ea typeface="楷体_GB2312"/>
                </a:rPr>
                <a:t>厦 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WordArt 15"/>
          <p:cNvSpPr txBox="1"/>
          <p:nvPr/>
        </p:nvSpPr>
        <p:spPr>
          <a:xfrm>
            <a:off x="2895480" y="2514600"/>
            <a:ext cx="3810240" cy="14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经济特区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25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326017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练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祖国日新月异，每个人的家乡也都有了很大的变化。家乡的变化是多方面的，如住房、城市及乡村的建设、交通等等。请你选择最优代表性的一两个方面， （学习运用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对比、比喻、设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手法。）写一写家乡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读课文，注意读准字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概括每节的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划分段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9280" y="1628640"/>
            <a:ext cx="8785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模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样、渺茫、晨曦、边陲、泥泞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幢幢厂房、欢声笑语、面庞、遨游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着乐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曲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翩翩起舞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仪表、焕然一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</a:rPr>
              <a:t>开火车读词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50920" y="620640"/>
            <a:ext cx="712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昨天，这儿是一座村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，多少年来一个模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贫穷落后困扰着人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代文明是那样遥远、渺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晨曦中阿爸在田间劳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烟雾里阿妈煮饭在灶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孩子在稻草堆里打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姑娘从溪边挑回一担担摇晃的夕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5940360" y="836640"/>
            <a:ext cx="360360" cy="1800360"/>
          </a:xfrm>
          <a:custGeom>
            <a:avLst/>
            <a:gdLst>
              <a:gd name="textAreaLeft" fmla="*/ 0 w 360360"/>
              <a:gd name="textAreaRight" fmla="*/ 129960 w 360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6804000" y="3500280"/>
            <a:ext cx="360360" cy="1800360"/>
          </a:xfrm>
          <a:custGeom>
            <a:avLst/>
            <a:gdLst>
              <a:gd name="textAreaLeft" fmla="*/ 0 w 360360"/>
              <a:gd name="textAreaRight" fmla="*/ 129960 w 360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443640" y="98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昨天，这儿是一座贫穷落后的村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164360" y="3573360"/>
            <a:ext cx="197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人们在村庄里劳动着、生活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516720" y="260280"/>
            <a:ext cx="201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昨天，这儿是一座贫穷落后的村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50920" y="620640"/>
            <a:ext cx="712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呵，只不过短短的几年时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变化超出了人们的想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祖国边陲的这座村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奇迹般地改变了自己的模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高速公路代替了泥泞的古道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破旧的土屋变成了厂房幢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儿童乐园充满着欢声笑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彩灯喷泉装点得像仙境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940360" y="836640"/>
            <a:ext cx="360360" cy="1800360"/>
          </a:xfrm>
          <a:custGeom>
            <a:avLst/>
            <a:gdLst>
              <a:gd name="textAreaLeft" fmla="*/ 0 w 360360"/>
              <a:gd name="textAreaRight" fmla="*/ 129960 w 360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6804000" y="3500280"/>
            <a:ext cx="360360" cy="1800360"/>
          </a:xfrm>
          <a:custGeom>
            <a:avLst/>
            <a:gdLst>
              <a:gd name="textAreaLeft" fmla="*/ 0 w 360360"/>
              <a:gd name="textAreaRight" fmla="*/ 129960 w 360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443640" y="98100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村庄在短短几年奇迹般改变了自己的模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7308720" y="3354480"/>
            <a:ext cx="12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贫穷的村庄装点得像仙境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50920" y="620640"/>
            <a:ext cx="712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人们呢？我熟悉的乡亲们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难道离开了世代居住的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不，他们没有离开故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在特区，到处可以看到那些熟悉的面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他们开着卡车，运送水泥、钢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提着皮包，和外商谈判办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伴着灯光，在知识的海洋里遨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和着乐曲，翩翩起舞放声歌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5940360" y="836640"/>
            <a:ext cx="360360" cy="1800360"/>
          </a:xfrm>
          <a:custGeom>
            <a:avLst/>
            <a:gdLst>
              <a:gd name="textAreaLeft" fmla="*/ 0 w 360360"/>
              <a:gd name="textAreaRight" fmla="*/ 129960 w 360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6804000" y="3500280"/>
            <a:ext cx="360360" cy="1800360"/>
          </a:xfrm>
          <a:custGeom>
            <a:avLst/>
            <a:gdLst>
              <a:gd name="textAreaLeft" fmla="*/ 0 w 360360"/>
              <a:gd name="textAreaRight" fmla="*/ 129960 w 360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443640" y="981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乡亲们没有离开故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308720" y="2924280"/>
            <a:ext cx="12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乡亲们在特区忙碌地工作、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692280"/>
            <a:ext cx="712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再不是只求三餐眼看脚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探寻的目光已越出国界射向四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从仪表到心灵都焕然一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就像那彩色的特区新城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这就是昔日面向黄土背朝天的农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改革开放给他们插上翅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似春燕在田野上飞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传递着新的信息，描画着美好春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5940360" y="836640"/>
            <a:ext cx="360360" cy="1800360"/>
          </a:xfrm>
          <a:custGeom>
            <a:avLst/>
            <a:gdLst>
              <a:gd name="textAreaLeft" fmla="*/ 0 w 360360"/>
              <a:gd name="textAreaRight" fmla="*/ 129960 w 360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6804000" y="3500280"/>
            <a:ext cx="360360" cy="1800360"/>
          </a:xfrm>
          <a:custGeom>
            <a:avLst/>
            <a:gdLst>
              <a:gd name="textAreaLeft" fmla="*/ 0 w 360360"/>
              <a:gd name="textAreaRight" fmla="*/ 129960 w 360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443640" y="98100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乡亲们不满足于现状，还要走出国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7308720" y="3716280"/>
            <a:ext cx="18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过去的农民在改革开放中展望明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组合作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这儿”的昨天是什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这儿”的今天发生了哪些巨大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这儿”为什么会有这样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16:52:31Z</dcterms:created>
  <dc:creator>微软用户</dc:creator>
  <dc:description/>
  <dc:language>en-US</dc:language>
  <cp:lastModifiedBy>花鱼世界168</cp:lastModifiedBy>
  <dcterms:modified xsi:type="dcterms:W3CDTF">2015-07-01T00:32:46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