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3B51A-287D-41A4-BC35-F27C07687D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57E41-F1FB-4CD1-AD7B-6D50420E5D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743-765C-4347-8C6A-5D1FBAC1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30E-76DA-4CF1-81E1-81C2634F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AC1-2810-4319-AEAF-A20EAD1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27C-8EF9-4E06-ACE6-C555D628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C11-E3D6-4281-9CB2-4666800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C05-EBD3-494D-9FF2-CC44B1D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875-BD63-4992-A65E-6971CE41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373-EDFF-45F8-ACAD-589DDB9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4B8-CFAC-4290-B1ED-C940B62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D17-9BD8-4037-84A5-D9C2FD9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ECE-133D-404C-9699-085D046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905-62A9-46C5-B8CB-590D899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DFD8C-0827-4C1B-BECF-B6649D5A392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084400" y="2343240"/>
            <a:ext cx="49752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290680" y="985680"/>
            <a:ext cx="4562640" cy="1034280"/>
            <a:chOff x="2290680" y="985680"/>
            <a:chExt cx="4562640" cy="1034280"/>
          </a:xfrm>
        </p:grpSpPr>
        <p:sp>
          <p:nvSpPr>
            <p:cNvPr id="65" name="Text Box 2"/>
            <p:cNvSpPr/>
            <p:nvPr/>
          </p:nvSpPr>
          <p:spPr>
            <a:xfrm>
              <a:off x="3293640" y="1011600"/>
              <a:ext cx="3559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鸟音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3"/>
            <p:cNvSpPr/>
            <p:nvPr/>
          </p:nvSpPr>
          <p:spPr>
            <a:xfrm>
              <a:off x="2290680" y="985680"/>
              <a:ext cx="184680" cy="10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544680" y="135720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料，爷爷却阻止了我。他让我把从家里带来的那个鸟笼挂在树枝上，然后，蹲在树荫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5"/>
          <p:cNvSpPr/>
          <p:nvPr/>
        </p:nvSpPr>
        <p:spPr>
          <a:xfrm>
            <a:off x="609480" y="3159000"/>
            <a:ext cx="7920000" cy="55908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722160" y="367200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爷爷阻止了“我”，却让“我”把从家里带来的那个鸟笼挂在树枝上，然后，蹲在树荫下。读到这儿，读者再次产生疑问：爷爷为什么这样做呢？以此引出课文的高潮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6"/>
          <p:cNvGrpSpPr/>
          <p:nvPr/>
        </p:nvGrpSpPr>
        <p:grpSpPr>
          <a:xfrm>
            <a:off x="519120" y="3002040"/>
            <a:ext cx="7915320" cy="558720"/>
            <a:chOff x="519120" y="3002040"/>
            <a:chExt cx="7915320" cy="558720"/>
          </a:xfrm>
        </p:grpSpPr>
        <p:sp>
          <p:nvSpPr>
            <p:cNvPr id="106" name="直接连接符 7"/>
            <p:cNvSpPr/>
            <p:nvPr/>
          </p:nvSpPr>
          <p:spPr>
            <a:xfrm>
              <a:off x="519120" y="3560760"/>
              <a:ext cx="7683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任意多边形 8"/>
            <p:cNvSpPr/>
            <p:nvPr/>
          </p:nvSpPr>
          <p:spPr>
            <a:xfrm>
              <a:off x="519120" y="3002040"/>
              <a:ext cx="791532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面对“我”要爷爷给我捉鸟的请求，爷爷是怎样做的？这样写有何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790560" y="3295800"/>
            <a:ext cx="7848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”已经对林中鸟儿和笼中鸟儿叫声的不同有了感性认识，但就是想不明白其中的道理和缘由：不都是一样的鸟儿吗？在哪里不都是一样地叫吗？为什么会给人不一样的感觉呢？而“我”想不明白的问题，正是爷爷要告诉“我”的，也正是爷爷带“我”来到树林里鸟儿最多的地方听鸟鸣的目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873000" y="2587680"/>
            <a:ext cx="7683480" cy="560160"/>
            <a:chOff x="873000" y="2587680"/>
            <a:chExt cx="7683480" cy="560160"/>
          </a:xfrm>
        </p:grpSpPr>
        <p:sp>
          <p:nvSpPr>
            <p:cNvPr id="110" name="直接连接符 4"/>
            <p:cNvSpPr/>
            <p:nvPr/>
          </p:nvSpPr>
          <p:spPr>
            <a:xfrm>
              <a:off x="873000" y="3147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任意多边形 5"/>
            <p:cNvSpPr/>
            <p:nvPr/>
          </p:nvSpPr>
          <p:spPr>
            <a:xfrm>
              <a:off x="873000" y="2587680"/>
              <a:ext cx="768348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我”产生了怎样的疑问？这个问题在文中有何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矩形 1"/>
          <p:cNvSpPr/>
          <p:nvPr/>
        </p:nvSpPr>
        <p:spPr>
          <a:xfrm>
            <a:off x="992160" y="123516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我怎么也想不出，一样的百灵鸟儿，为什么在家养着的和长在树林里的叫得不一样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711360" y="3233880"/>
            <a:ext cx="7848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理解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是对爷爷的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语言描写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爷爷告诉“我”的道理：花有花色，鸟有鸟性。鸟儿的翅膀和嗓子都是大自然赋予的。翅膀是为了自由自在地飞翔，嗓子是为了自由自在地歌唱。大自然才是鸟儿真正的家园，鸟儿天生就是属于大自然的，应该在大自然中自由地飞行和放歌。它是大自然的自由使者，而不应该成为被养在笼中的囚徒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57080" y="1057320"/>
            <a:ext cx="7650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还是爷爷通晓天地万物：“花有花色，鸟有鸟性呀！鸟是天地的灵物。大自然赋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fù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予它一对自由的翅膀，一副清亮的嗓子。它生来属于大自然，不属于你、我、他。你把它捉住入了笼子，就使它失去了自由，成了可怜的玩意儿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"/>
          <p:cNvSpPr/>
          <p:nvPr/>
        </p:nvSpPr>
        <p:spPr>
          <a:xfrm>
            <a:off x="736560" y="3568680"/>
            <a:ext cx="810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理解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说话有“言为心声”的说法，鸟儿的鸣叫同样表达了它的心声。自由自在的鸟儿在树林里放声高歌，无忧无虑，声音清脆婉转，令人心旷神怡；笼中的鸟儿在寂寞中大放悲声，顾影自怜，哀怨缠绵，令人悲悯哀怜。这就是鸟儿的天性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它应在大自然中自由歌唱，而不应被关在笼中为人唱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988920" y="1057320"/>
            <a:ext cx="7650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爷爷望望树上的鸟儿又说：“鸟鸣为其心声呀！你听枝头那鸟儿，唱得多清脆，多甜美！这叫声掉在地上还有音儿呢；掉进河里，水也会变得清亮亮地响。而笼子里的鸟儿，鸣叫得让人哀怜，好像是在向人哭诉忧愁、冤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关在笼子里为人鸣叫，违背了鸟的天性呀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682560" y="1357200"/>
            <a:ext cx="7846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这正是它的高贵之处，它不为求得人们的欣赏和评赞而歌唱，只为终生保持自己的本色和特性而自由地活着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5"/>
          <p:cNvSpPr/>
          <p:nvPr/>
        </p:nvSpPr>
        <p:spPr>
          <a:xfrm>
            <a:off x="378000" y="2654280"/>
            <a:ext cx="7920000" cy="55872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682560" y="3086280"/>
            <a:ext cx="795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鸟儿是人类的朋友，它们美化着自然，为大自然奏响着天籁之音，为人类渲染着一个美妙的世界。自由地飞翔和自由地歌唱就是鸟儿的天性。鸟儿在笼中得到人们再多的欣赏和赞美都不会快乐，因为在它们的心目中，只有自由才是真正的快乐。它们没有虚荣与矫情，只有自己的本色和特性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为自由而生，为自由而活。在文中起到了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点明中心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作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云形 6"/>
          <p:cNvGrpSpPr/>
          <p:nvPr/>
        </p:nvGrpSpPr>
        <p:grpSpPr>
          <a:xfrm>
            <a:off x="4906800" y="554040"/>
            <a:ext cx="2457720" cy="988920"/>
            <a:chOff x="4906800" y="554040"/>
            <a:chExt cx="2457720" cy="988920"/>
          </a:xfrm>
        </p:grpSpPr>
        <p:pic>
          <p:nvPicPr>
            <p:cNvPr id="121" name="云形 6" descr=""/>
            <p:cNvPicPr/>
            <p:nvPr/>
          </p:nvPicPr>
          <p:blipFill>
            <a:blip r:embed="rId1"/>
            <a:stretch/>
          </p:blipFill>
          <p:spPr>
            <a:xfrm>
              <a:off x="4906800" y="554040"/>
              <a:ext cx="245772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600880" y="781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明中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600120" y="2498760"/>
            <a:ext cx="8093160" cy="560520"/>
            <a:chOff x="600120" y="2498760"/>
            <a:chExt cx="8093160" cy="560520"/>
          </a:xfrm>
        </p:grpSpPr>
        <p:sp>
          <p:nvSpPr>
            <p:cNvPr id="124" name="直接连接符 8"/>
            <p:cNvSpPr/>
            <p:nvPr/>
          </p:nvSpPr>
          <p:spPr>
            <a:xfrm>
              <a:off x="600120" y="3032280"/>
              <a:ext cx="809316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9"/>
            <p:cNvSpPr/>
            <p:nvPr/>
          </p:nvSpPr>
          <p:spPr>
            <a:xfrm>
              <a:off x="600120" y="2498760"/>
              <a:ext cx="809316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这段话有什么含义？在文中起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"/>
          <p:cNvSpPr/>
          <p:nvPr/>
        </p:nvSpPr>
        <p:spPr>
          <a:xfrm>
            <a:off x="544680" y="116532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一天，捉鸟儿未有收获，却得到了比捉了鸟儿不知要珍贵多少倍的东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5"/>
          <p:cNvSpPr/>
          <p:nvPr/>
        </p:nvSpPr>
        <p:spPr>
          <a:xfrm>
            <a:off x="609480" y="2913120"/>
            <a:ext cx="7920000" cy="56016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492120" y="3371760"/>
            <a:ext cx="8066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”是爱鸟儿的人，所以鸟儿在“我”的心中自然是珍贵的。而和爷爷来到树林这一天所得到的，比捉了鸟儿不知要珍贵多少倍的东西又是什么呢？那就是“我”终于了解了鸟儿的天性，它们是大自然的精灵，它们活着的理由就是自由地飞翔，自由地歌唱。“我”也终于明白了，怎样做才是真正的爱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6"/>
          <p:cNvGrpSpPr/>
          <p:nvPr/>
        </p:nvGrpSpPr>
        <p:grpSpPr>
          <a:xfrm>
            <a:off x="477720" y="2676600"/>
            <a:ext cx="8093160" cy="560160"/>
            <a:chOff x="477720" y="2676600"/>
            <a:chExt cx="8093160" cy="560160"/>
          </a:xfrm>
        </p:grpSpPr>
        <p:sp>
          <p:nvSpPr>
            <p:cNvPr id="130" name="直接连接符 7"/>
            <p:cNvSpPr/>
            <p:nvPr/>
          </p:nvSpPr>
          <p:spPr>
            <a:xfrm>
              <a:off x="477720" y="3210120"/>
              <a:ext cx="809316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任意多边形 8"/>
            <p:cNvSpPr/>
            <p:nvPr/>
          </p:nvSpPr>
          <p:spPr>
            <a:xfrm>
              <a:off x="477720" y="2676600"/>
              <a:ext cx="809316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为什么说“捉鸟儿未有收获，却得到了比捉了鸟儿不知要珍贵多少倍的东西”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977760" y="329400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写了“我”喜欢百灵鸟儿，捕来养在家里，爷爷不喜欢，就带“我”到树林中感受林中鸟儿与笼中鸟儿鸟音的不同。告诉人们鸟儿是大自然的精灵，应该自由自在地飞翔和歌唱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907920" y="26128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写了一件什么事？告诉读者一个什么道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内容占位符 2"/>
          <p:cNvSpPr/>
          <p:nvPr/>
        </p:nvSpPr>
        <p:spPr>
          <a:xfrm>
            <a:off x="851040" y="213984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“我”为什么喜欢百灵鸟儿，也喜欢捉百灵鸟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255680" y="3328920"/>
            <a:ext cx="72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灵鸟儿飞得高高的，又能唱很多种歌，歌声颤酥酥、亮爽爽的，叫人爱得着迷，所以“我”尤其喜欢百灵鸟儿。捉到它们挂在家里，还能欣赏它们的音乐会，所以“我”喜欢捉百灵鸟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635040" y="141912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爷爷为什么自己不养鸟也不喜欢别人养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爷爷知道：树林才是鸟儿们的天堂，只有在树林里，鸟儿们才是真正自由、幸福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内容占位符 2"/>
          <p:cNvSpPr/>
          <p:nvPr/>
        </p:nvSpPr>
        <p:spPr>
          <a:xfrm>
            <a:off x="663480" y="119232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笼中鸟儿与自然中鸟儿的叫声有什么不同？为什么有这样的区别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846000" y="2503440"/>
            <a:ext cx="74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样的百灵鸟儿，在笼中养着的和长在树林里的叫声音色不一样。因为鸟儿是大自然的精灵，被生生地困在笼中，没有了自由的翅膀和歌喉，也就不能唱出美妙动人的歌声。歌唱是鸟儿的天性，无论身在哪里，鸟儿都会唱歌。但笼中鸟儿唱的不是自由自在的欢乐之歌，而是丧失自由的悲凉之声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，体会爷爷与“我”的对话，感悟爷爷话语的内涵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领悟自由是人与动物和谐相处的基础，激发爱护动物、善待生命的情感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790560" y="128268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了爷爷说的话，你得到了哪些启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985680" y="20620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爷爷的话中我明白了：鸟儿是人类的朋友，它们美化着自然，为大自然奏响着天籁之音，为人类渲染着一个美妙的世界。自由地飞翔和自由地歌唱就是鸟儿的天性。鸟儿在笼中得到人们再多的欣赏和赞美都不会快乐，因为在它们的心目中，只有自由才是真正的快乐。它们没有虚荣与矫情，只有自己的本色和特性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自由而生，为自由而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6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11"/>
          <p:cNvSpPr/>
          <p:nvPr/>
        </p:nvSpPr>
        <p:spPr>
          <a:xfrm>
            <a:off x="1914480" y="4378320"/>
            <a:ext cx="553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鸟儿是大自然的精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人与动物和谐相处　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　　　　　　　　　　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3979800" y="20397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鸟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423800" y="33019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捕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5694120" y="3006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559960" y="358632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面带愠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4136400" y="330192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听鸟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7"/>
          <p:cNvSpPr/>
          <p:nvPr/>
        </p:nvSpPr>
        <p:spPr>
          <a:xfrm>
            <a:off x="2742840" y="3006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8"/>
          <p:cNvSpPr/>
          <p:nvPr/>
        </p:nvSpPr>
        <p:spPr>
          <a:xfrm>
            <a:off x="5536440" y="358632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讲述道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9"/>
          <p:cNvSpPr/>
          <p:nvPr/>
        </p:nvSpPr>
        <p:spPr>
          <a:xfrm>
            <a:off x="7159320" y="33019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放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20"/>
          <p:cNvSpPr/>
          <p:nvPr/>
        </p:nvSpPr>
        <p:spPr>
          <a:xfrm>
            <a:off x="2098800" y="3532320"/>
            <a:ext cx="18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1"/>
          <p:cNvSpPr/>
          <p:nvPr/>
        </p:nvSpPr>
        <p:spPr>
          <a:xfrm>
            <a:off x="5057640" y="3532320"/>
            <a:ext cx="197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内容占位符 2"/>
          <p:cNvSpPr/>
          <p:nvPr/>
        </p:nvSpPr>
        <p:spPr>
          <a:xfrm>
            <a:off x="934920" y="2440080"/>
            <a:ext cx="7417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“我”的经历讲述了笼中鸟儿和林中鸟儿鸣叫的不同，告诉人们，鸟儿是大自然的精灵，应该自由自在地飞翔和歌唱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1"/>
          <p:cNvSpPr/>
          <p:nvPr/>
        </p:nvSpPr>
        <p:spPr>
          <a:xfrm>
            <a:off x="1101600" y="1655640"/>
            <a:ext cx="73328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鸟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梁实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爱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开始欣赏鸟，是在四川。黎明时，窗外是一片鸟啭，不是吱吱喳喳的麻雀，不是呱呱噪啼的乌鸦，那一片声音是清脆的，是嘹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liáo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亮的，有的一声长叫，包括着六七个音阶，有的只是一个声音，圆润而不觉其单调，有时候是独奏，有时候是合唱，简直是一派和谐的交响乐。不知有多少个春天的早晨，这样的鸟声把我从梦境唤起。等到旭日高升，市声鼎沸，鸟就沉默了，不知到哪里去了。一直等到夜晚，才又听到杜鹃叫，由远叫到近，由近叫到远，一声急似一声，竟是凄绝的哀乐。客夜闻此，说不出的酸楚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979560" y="1150920"/>
            <a:ext cx="733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我爱鸟的声音鸟的形体，这爱好是很单纯的，我对鸟并不存任何幻想。有人初闻杜鹃，兴奋得一夜不能睡，一时想到“杜宇”“望帝”，一时又想到啼血，想到客愁，觉得有无限诗意。我曾告诉他事实上全不是这样的。杜鹃原是很健壮的一种鸟，比一般的鸟魁梧得多，扁嘴大口，并不特别美，而且自己不知构巢，依仗体壮力大，硬把卵下在别个的巢里，如果巢里已有了够多的卵，便不客气地给挤落下去，孵育的责任由别个代负了，孵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fū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出来之后，羽毛渐丰，就可把巢据为己有，那人听了我的话之后，对于这豪横无情的鸟，再也不能幻出什么诗意出来了。我想济慈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夜莺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雪莱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云雀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还不都是诗人自我的幻想，与鸟何干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979560" y="1150920"/>
            <a:ext cx="73324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鸟并不永久地给人喜悦，有时也给人悲苦。诗人哈代在一首诗里说，他在圣诞的前夕，炉里燃着熊熊的火，满室生春，桌上摆着丰盛的筵席，准备着过一个普天同庆的夜晚，蓦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mò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然看见在窗外一片美丽的雪景当中，有一只小鸟畏畏缩缩的在寒枝的梢头踞立，正在啄食一颗残余的僵冻的果儿，禁不住那料峭的寒风，栽倒地上死了，滚成一个雪团！诗人感喟曰：“鸟！你连这一个快乐的夜晚都不给我！”我也有过一次类似经验，在东北的一间双重玻璃窗的屋里，忽然看见枝头有一只麻雀，战栗地跳动抖擞着，在啄食一块干枯的叶子。但是我发现那麻雀的羽毛特别的长，而且是蓬松戟张着的：像是披着一件蓑衣，立刻使人联想到那垃圾堆上的大群褴褛而臃肿的人，那形容是一模一样的。那孤苦伶仃的麻雀，也就不暇令人哀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870120" y="1219320"/>
            <a:ext cx="7481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自从离开四川以后，不再容易看见那样多型类的鸟的跳荡，也不再容易听到那样悦耳的鸟鸣。只是清早遇到烟突冒烟的时候，一群麻雀挤在檐下的烟突旁边取暖，隔着窗纸有时还能看见伏在窗棂上的雀儿的映影。喜鹊不知逃到哪里去了。带哨子的鸽子也很少看见在天空打旋。黄昏时偶尔还听见寒鸦在古木上鼓噪，入夜也还能听见那像哭又像笑的鸱枭的怪叫。再令人触目的就是那些偶然一见的囚在笼里的小鸟儿了，但是我不忍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E:\分类文件\冀教、北师、长春、教科共用文件\课件制作所需文件\JK\JK6上\JK六上推荐阅读图片\鸟.jpg"/>
          <p:cNvPicPr/>
          <p:nvPr/>
        </p:nvPicPr>
        <p:blipFill>
          <a:blip r:embed="rId1"/>
          <a:stretch/>
        </p:blipFill>
        <p:spPr>
          <a:xfrm>
            <a:off x="2932200" y="4475160"/>
            <a:ext cx="29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"/>
          <p:cNvPicPr/>
          <p:nvPr/>
        </p:nvPicPr>
        <p:blipFill>
          <a:blip r:embed="rId1"/>
          <a:stretch/>
        </p:blipFill>
        <p:spPr>
          <a:xfrm>
            <a:off x="817560" y="2103480"/>
            <a:ext cx="7808760" cy="393228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77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矩形 1"/>
          <p:cNvSpPr/>
          <p:nvPr/>
        </p:nvSpPr>
        <p:spPr>
          <a:xfrm>
            <a:off x="1042920" y="2206800"/>
            <a:ext cx="7418520" cy="2714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百啭千声随意移，山花红紫树高低。始知锁向金笼听，不及林间自在啼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画眉鸟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欧阳修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黄四娘家花满蹊，千朵万朵压枝低。留连戏蝶时时舞，自在娇莺恰恰啼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江畔独步寻花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杜甫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独怜幽草涧边生，上有黄鹂深树鸣。春潮带雨晚来急，野渡无人舟自横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滁州西涧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韦应物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8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矩形 1"/>
          <p:cNvSpPr/>
          <p:nvPr/>
        </p:nvSpPr>
        <p:spPr>
          <a:xfrm>
            <a:off x="1740600" y="2309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国四大传统名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1265400" y="277668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百灵、画眉、绣眼、点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ké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百灵和画眉在宋代有不少爱好者，至清代已进入千家万户，这时，绣眼和点颏也相继进入名鸟的行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88" name="矩形 11"/>
          <p:cNvSpPr/>
          <p:nvPr/>
        </p:nvSpPr>
        <p:spPr>
          <a:xfrm>
            <a:off x="890640" y="2746440"/>
            <a:ext cx="754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通过“我”的经历讲述了笼中鸟儿和林中鸟儿鸣叫的不同，告诉人们，鸟儿是大自然的精灵，应该自由自在地飞翔和歌唱的道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8"/>
          <p:cNvGrpSpPr/>
          <p:nvPr/>
        </p:nvGrpSpPr>
        <p:grpSpPr>
          <a:xfrm>
            <a:off x="600120" y="1014480"/>
            <a:ext cx="8083440" cy="5508720"/>
            <a:chOff x="600120" y="1014480"/>
            <a:chExt cx="8083440" cy="5508720"/>
          </a:xfrm>
        </p:grpSpPr>
        <p:sp>
          <p:nvSpPr>
            <p:cNvPr id="72" name="圆角矩形 4"/>
            <p:cNvSpPr/>
            <p:nvPr/>
          </p:nvSpPr>
          <p:spPr>
            <a:xfrm>
              <a:off x="600120" y="387648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“我”为什么喜欢百灵鸟儿，也喜欢捉百灵鸟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5"/>
            <p:cNvSpPr/>
            <p:nvPr/>
          </p:nvSpPr>
          <p:spPr>
            <a:xfrm>
              <a:off x="5227560" y="404676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爷爷为什么自己不养鸟也不喜欢别人养鸟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圆角矩形 6"/>
            <p:cNvSpPr/>
            <p:nvPr/>
          </p:nvSpPr>
          <p:spPr>
            <a:xfrm>
              <a:off x="5211720" y="529308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了爷爷说的话，你得到了哪些启发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7"/>
            <p:cNvSpPr/>
            <p:nvPr/>
          </p:nvSpPr>
          <p:spPr>
            <a:xfrm>
              <a:off x="600120" y="515988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笼中鸟儿与自然中鸟儿的叫声有什么不同？为什么有这样的区别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7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矩形 1"/>
              <p:cNvSpPr/>
              <p:nvPr/>
            </p:nvSpPr>
            <p:spPr>
              <a:xfrm>
                <a:off x="2434320" y="211176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写了一件什么事？告诉读者一个什么道理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2"/>
              <p:cNvSpPr/>
              <p:nvPr/>
            </p:nvSpPr>
            <p:spPr>
              <a:xfrm>
                <a:off x="4534560" y="1335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本色鸟音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7167"/>
          <p:cNvSpPr/>
          <p:nvPr/>
        </p:nvSpPr>
        <p:spPr>
          <a:xfrm>
            <a:off x="865080" y="2157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 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划去括号内不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们之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友情之深，不是谁都能离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爬山虎的藤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经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延开了，即将覆盖整面墙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直接连接符 4"/>
          <p:cNvSpPr/>
          <p:nvPr/>
        </p:nvSpPr>
        <p:spPr>
          <a:xfrm>
            <a:off x="3567240" y="2897280"/>
            <a:ext cx="554040" cy="34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9"/>
          <p:cNvSpPr/>
          <p:nvPr/>
        </p:nvSpPr>
        <p:spPr>
          <a:xfrm>
            <a:off x="1557360" y="3446640"/>
            <a:ext cx="555480" cy="34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20"/>
          <p:cNvSpPr/>
          <p:nvPr/>
        </p:nvSpPr>
        <p:spPr>
          <a:xfrm>
            <a:off x="3392640" y="3992400"/>
            <a:ext cx="554040" cy="34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21"/>
          <p:cNvSpPr/>
          <p:nvPr/>
        </p:nvSpPr>
        <p:spPr>
          <a:xfrm>
            <a:off x="6838920" y="3978360"/>
            <a:ext cx="554040" cy="34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2389320" y="30672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7877160" y="30384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1"/>
          <p:cNvSpPr/>
          <p:nvPr/>
        </p:nvSpPr>
        <p:spPr>
          <a:xfrm>
            <a:off x="2997360" y="4159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5594400" y="41562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2"/>
          <p:cNvSpPr/>
          <p:nvPr/>
        </p:nvSpPr>
        <p:spPr>
          <a:xfrm>
            <a:off x="2013120" y="1878120"/>
            <a:ext cx="587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笼　拢　珑　聋　垄　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罩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267624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420516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0"/>
          <p:cNvSpPr/>
          <p:nvPr/>
        </p:nvSpPr>
        <p:spPr>
          <a:xfrm>
            <a:off x="603864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"/>
          <p:cNvSpPr/>
          <p:nvPr/>
        </p:nvSpPr>
        <p:spPr>
          <a:xfrm>
            <a:off x="2676240" y="36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4524120" y="36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3"/>
          <p:cNvSpPr/>
          <p:nvPr/>
        </p:nvSpPr>
        <p:spPr>
          <a:xfrm>
            <a:off x="6360840" y="36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6"/>
          <p:cNvSpPr/>
          <p:nvPr/>
        </p:nvSpPr>
        <p:spPr>
          <a:xfrm>
            <a:off x="1357200" y="170352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下列词语的近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脆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违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忧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沉思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迷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通晓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3068280" y="23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清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5973480" y="23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违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306828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忧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597348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深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3068280" y="348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痴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5973480" y="3397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知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7"/>
          <p:cNvSpPr/>
          <p:nvPr/>
        </p:nvSpPr>
        <p:spPr>
          <a:xfrm>
            <a:off x="1655640" y="2060640"/>
            <a:ext cx="677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 　   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8"/>
          <p:cNvSpPr/>
          <p:nvPr/>
        </p:nvSpPr>
        <p:spPr>
          <a:xfrm>
            <a:off x="2356560" y="273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3436920" y="273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"/>
          <p:cNvSpPr/>
          <p:nvPr/>
        </p:nvSpPr>
        <p:spPr>
          <a:xfrm>
            <a:off x="5429160" y="273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1"/>
          <p:cNvSpPr/>
          <p:nvPr/>
        </p:nvSpPr>
        <p:spPr>
          <a:xfrm>
            <a:off x="6521400" y="273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2044440" y="326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3132720" y="326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5429160" y="326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5"/>
          <p:cNvSpPr/>
          <p:nvPr/>
        </p:nvSpPr>
        <p:spPr>
          <a:xfrm>
            <a:off x="6521400" y="326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6"/>
          <p:cNvSpPr/>
          <p:nvPr/>
        </p:nvSpPr>
        <p:spPr>
          <a:xfrm>
            <a:off x="2356560" y="384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7"/>
          <p:cNvSpPr/>
          <p:nvPr/>
        </p:nvSpPr>
        <p:spPr>
          <a:xfrm>
            <a:off x="3436920" y="384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8"/>
          <p:cNvSpPr/>
          <p:nvPr/>
        </p:nvSpPr>
        <p:spPr>
          <a:xfrm>
            <a:off x="5429160" y="384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9"/>
          <p:cNvSpPr/>
          <p:nvPr/>
        </p:nvSpPr>
        <p:spPr>
          <a:xfrm>
            <a:off x="6521400" y="384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8"/>
          <p:cNvSpPr/>
          <p:nvPr/>
        </p:nvSpPr>
        <p:spPr>
          <a:xfrm>
            <a:off x="674640" y="1643040"/>
            <a:ext cx="75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让我感到奇怪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那是它唱的歌。那是一支悲伤痛苦的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关联词语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9"/>
          <p:cNvSpPr/>
          <p:nvPr/>
        </p:nvSpPr>
        <p:spPr>
          <a:xfrm>
            <a:off x="1200240" y="274788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难道不让我感到奇怪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1200240" y="4392720"/>
            <a:ext cx="66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那虽然是它唱的歌，但那是一支悲伤痛苦的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1"/>
          <p:cNvSpPr/>
          <p:nvPr/>
        </p:nvSpPr>
        <p:spPr>
          <a:xfrm>
            <a:off x="1077840" y="1306440"/>
            <a:ext cx="71787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尤其是那百灵鸟儿，飞得高高的，又能唱很多种歌，歌声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颤酥酥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亮爽爽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，再灵巧的歌手都学不来，真叫人爱得着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品析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个句子写出了“我”对百灵鸟的喜爱以及喜爱的原因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颤酥酥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这里指鸟儿的鸣声颤动而柔软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亮爽爽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指清脆而爽快。点明了百灵鸟的特点及惹人喜爱之处，为下文“我”捕百灵鸟做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684360" y="1386000"/>
            <a:ext cx="771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“颤酥酥”“亮爽爽”这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词语还有很多，例如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24" descr="花盆.png"/>
          <p:cNvPicPr/>
          <p:nvPr/>
        </p:nvPicPr>
        <p:blipFill>
          <a:blip r:embed="rId1"/>
          <a:stretch/>
        </p:blipFill>
        <p:spPr>
          <a:xfrm>
            <a:off x="441360" y="153972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828720" y="303516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金灿灿　孤零零　闹哄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86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词语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735120" y="1333440"/>
            <a:ext cx="7848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常跟着大一点儿的孩子们到田野捕百灵，偶尔逮到一只，便放进笼子里，挂在庭院的椿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chūn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树上，给它喂米喂水，逗弄它鸣叫。日复一日，逮得多了，葫芦架下挂的是，小枣树上挂的是，房檐下挂的也是，我家的庭院竟成了鸟的乐园。它们整日里叫个不停，只要有一只先叫，其他的便跟着叫起来。到了黎明，它们叫得最得意、最嘹亮、最自在了，大概是为酣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hān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睡了一夜的人们唱一支振奋的歌吧。满胡同的伙伴儿们都跑来围着鸟笼逗趣儿，邻家的婶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shěn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婶们也拿了针线，边做手中的活，边欣赏鸟儿们的音乐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3"/>
          <p:cNvGrpSpPr/>
          <p:nvPr/>
        </p:nvGrpSpPr>
        <p:grpSpPr>
          <a:xfrm>
            <a:off x="614520" y="1413000"/>
            <a:ext cx="7914960" cy="558720"/>
            <a:chOff x="614520" y="1413000"/>
            <a:chExt cx="7914960" cy="558720"/>
          </a:xfrm>
        </p:grpSpPr>
        <p:sp>
          <p:nvSpPr>
            <p:cNvPr id="90" name="直接连接符 4"/>
            <p:cNvSpPr/>
            <p:nvPr/>
          </p:nvSpPr>
          <p:spPr>
            <a:xfrm>
              <a:off x="614520" y="19717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任意多边形 5"/>
            <p:cNvSpPr/>
            <p:nvPr/>
          </p:nvSpPr>
          <p:spPr>
            <a:xfrm>
              <a:off x="614520" y="1413000"/>
              <a:ext cx="791496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用了哪些修辞手法？这样写是为了突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1"/>
          <p:cNvSpPr/>
          <p:nvPr/>
        </p:nvSpPr>
        <p:spPr>
          <a:xfrm>
            <a:off x="735120" y="238140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段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拟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。把“我”家的庭院比作鸟的乐园；用三个“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出了百灵鸟声音的动听；人们边做活，边欣赏鸟儿们的音乐会。这样写突出了满胡同的人都十分喜爱“我”家庭院里那些声音美妙的百灵鸟，这些鸟儿给人们的生活带来了许多欢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57312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让我非常奇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8"/>
          <p:cNvSpPr/>
          <p:nvPr/>
        </p:nvSpPr>
        <p:spPr>
          <a:xfrm>
            <a:off x="655560" y="2394000"/>
            <a:ext cx="7683480" cy="56016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757080" y="3011400"/>
            <a:ext cx="766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一段文字里包含了四个</a:t>
            </a:r>
            <a:r>
              <a:rPr b="1" lang="zh-CN" sz="2000" spc="-1" strike="noStrike" u="sng">
                <a:solidFill>
                  <a:srgbClr val="ff00ff"/>
                </a:solidFill>
                <a:uFillTx/>
                <a:latin typeface="宋体"/>
              </a:rPr>
              <a:t>悬念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：①为什么大家都喜爱那些百灵鸟，而唯独爷爷不喜欢，面有怒色？②许多老人退休之后都以养鸟来自娱自乐，打发时间，为什么爷爷不这样呢？③爷爷自己不喜欢养鸟也就罢了，为什么也不喜欢“我”养鸟呢？④“我”要求爷爷去河边钓鱼时顺便逮几只百灵鸟回来，他为什么总是执意不肯呢？这些都是让“我”也是让读者感到困惑和奇怪的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6"/>
          <p:cNvGrpSpPr/>
          <p:nvPr/>
        </p:nvGrpSpPr>
        <p:grpSpPr>
          <a:xfrm>
            <a:off x="600120" y="2209680"/>
            <a:ext cx="7915320" cy="559080"/>
            <a:chOff x="600120" y="2209680"/>
            <a:chExt cx="7915320" cy="559080"/>
          </a:xfrm>
        </p:grpSpPr>
        <p:sp>
          <p:nvSpPr>
            <p:cNvPr id="97" name="直接连接符 7"/>
            <p:cNvSpPr/>
            <p:nvPr/>
          </p:nvSpPr>
          <p:spPr>
            <a:xfrm>
              <a:off x="600120" y="2768760"/>
              <a:ext cx="7683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任意多边形 9"/>
            <p:cNvSpPr/>
            <p:nvPr/>
          </p:nvSpPr>
          <p:spPr>
            <a:xfrm>
              <a:off x="600120" y="2209680"/>
              <a:ext cx="791532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这让我非常奇怪”，“我”为什么奇怪？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中，作者设置了哪些悬念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设置悬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3"/>
          <p:cNvSpPr/>
          <p:nvPr/>
        </p:nvSpPr>
        <p:spPr>
          <a:xfrm>
            <a:off x="903240" y="1846440"/>
            <a:ext cx="74977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设置悬念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置悬念是在文章的某一部分设置一个疑问或矛盾冲突，以造成读者某种急切期待和热烈关注的心理的一种写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设置悬念有什么作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情节环环相扣、曲折生动，激发读者阅读兴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设置悬念的答题技巧有哪些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作者设置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悬念，使读者产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疑问，激发阅读兴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0:55:45Z</dcterms:modified>
  <cp:revision>4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