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B1003-6B06-4977-BC0D-A85416A1C59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BDAE5-A228-434D-BEFB-C7E2EA79E5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D89-6B35-4F00-B633-5E679817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834-66D6-449F-914B-B8D85563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17C-29C6-4964-B1FF-AC842DD4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831-BB51-4978-B245-4F197A87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F72B-A6F0-47FA-98D0-73C82F68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451-2012-47FC-8A0E-EE5C1032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E1D-A955-4472-9DC7-8FB7C8DB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E79-4F90-4AB5-88D3-68C9543B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CA1-7EAC-45EF-9FD0-FD91C14A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4D3-D1B1-442F-B0EF-F815D927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4B6-72DA-4EF1-ABD1-E0E183F9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D76-C4A5-494C-AAE2-15317D90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A0990-39BF-4A4B-9C36-2E36BD7FA88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090880" y="2328840"/>
            <a:ext cx="5346720" cy="30718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"/>
          <p:cNvSpPr/>
          <p:nvPr/>
        </p:nvSpPr>
        <p:spPr>
          <a:xfrm>
            <a:off x="2181240" y="1011240"/>
            <a:ext cx="478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最富有的时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2"/>
          <p:cNvSpPr/>
          <p:nvPr/>
        </p:nvSpPr>
        <p:spPr>
          <a:xfrm>
            <a:off x="790560" y="352728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父母对“汽车事件”的处理影响了一个孩子的成长，让“我”从小就明白，当私欲与道德发生冲突时，首先应该从道德的角度考虑问题，道德上的完善是人生最重要的财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"/>
          <p:cNvSpPr/>
          <p:nvPr/>
        </p:nvSpPr>
        <p:spPr>
          <a:xfrm>
            <a:off x="743040" y="1190520"/>
            <a:ext cx="76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直到成年以后，我才有了一辆轿车。随着时间的流逝，对母亲说的那句“做事光明磊落，就等于有了一大笔财富”渐渐有了更深的理解。现在我终于明白了：父亲给老板打电话的时候，其实是我们家最富有的时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885960" y="1589040"/>
            <a:ext cx="768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假如知道实情的凯特立克要送给父亲一面锦旗，请你帮他设计一下写在锦旗上的话吧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24" descr="花盆.png"/>
          <p:cNvPicPr/>
          <p:nvPr/>
        </p:nvPicPr>
        <p:blipFill>
          <a:blip r:embed="rId1"/>
          <a:stretch/>
        </p:blipFill>
        <p:spPr>
          <a:xfrm>
            <a:off x="642960" y="173052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02" name="矩形 2"/>
          <p:cNvSpPr/>
          <p:nvPr/>
        </p:nvSpPr>
        <p:spPr>
          <a:xfrm>
            <a:off x="1528920" y="3216240"/>
            <a:ext cx="68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信赖源于诚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3"/>
          <p:cNvGrpSpPr/>
          <p:nvPr/>
        </p:nvGrpSpPr>
        <p:grpSpPr>
          <a:xfrm>
            <a:off x="5521320" y="3786120"/>
            <a:ext cx="3683160" cy="2718000"/>
            <a:chOff x="5521320" y="3786120"/>
            <a:chExt cx="3683160" cy="2718000"/>
          </a:xfrm>
        </p:grpSpPr>
        <p:pic>
          <p:nvPicPr>
            <p:cNvPr id="104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521320" y="3786120"/>
              <a:ext cx="3683160" cy="271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矩形 1"/>
            <p:cNvSpPr/>
            <p:nvPr/>
          </p:nvSpPr>
          <p:spPr>
            <a:xfrm>
              <a:off x="5811120" y="398628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句子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1025640" y="3432240"/>
            <a:ext cx="74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通过讲述父亲意外中奖，又将奖品还给真正主人的事，告诉我们“做事光明磊落，就等于有了一大笔财富”这一道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961920" y="26528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文通过什么事告诉我们一个什么道理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内容占位符 2"/>
          <p:cNvSpPr/>
          <p:nvPr/>
        </p:nvSpPr>
        <p:spPr>
          <a:xfrm>
            <a:off x="851040" y="1900080"/>
            <a:ext cx="7405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贫寒的家境下，父亲是怎样做的，母亲是怎样理解财富的，这对表现父亲有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208160" y="3598920"/>
            <a:ext cx="72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贫寒的家境下，父亲还是经常接济比“我们”还穷的亲戚。母亲则认为：做事光明磊落，就等于有了一大笔财富。这为表现父亲做事光明磊落的美好品质埋下了伏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内容占位符 2"/>
          <p:cNvSpPr/>
          <p:nvPr/>
        </p:nvSpPr>
        <p:spPr>
          <a:xfrm>
            <a:off x="635040" y="121428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面对中奖的轿车时，“我”和父亲的表现有什么不同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1039680" y="3176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面对中奖的轿车，“我”充满了兴奋与渴望，而父亲却不开心，咆哮着让“我”走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父亲最终是怎么做的？表现了他的什么品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1230480" y="2625840"/>
            <a:ext cx="70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父亲经过思考之后，把车还给了它真正的主人。表现了父亲做事光明磊落的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内容占位符 2"/>
          <p:cNvSpPr/>
          <p:nvPr/>
        </p:nvSpPr>
        <p:spPr>
          <a:xfrm>
            <a:off x="790560" y="1360440"/>
            <a:ext cx="76453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什么说“父亲给老板打电话的时候，其实是我们家最富有的时刻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198440" y="2419200"/>
            <a:ext cx="72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父亲的良知战胜了对汽车的贪念，没有了精神上的债务，他表现出来的人性中的诚实与自尊，是妈妈期望的“财富”，而“我”从这件事情中了解了做人的真谛，成为具有健康心理的精神富有者。所以说“父亲给老板打电话的时候，其实是我们家最富有的时刻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7"/>
          <p:cNvSpPr/>
          <p:nvPr/>
        </p:nvSpPr>
        <p:spPr>
          <a:xfrm>
            <a:off x="1422360" y="464328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409680" y="1896840"/>
            <a:ext cx="10033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最富有的时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5649480" y="2617920"/>
            <a:ext cx="347220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难忘的经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永生的财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2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3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矩形 2"/>
          <p:cNvSpPr/>
          <p:nvPr/>
        </p:nvSpPr>
        <p:spPr>
          <a:xfrm>
            <a:off x="1339920" y="2017800"/>
            <a:ext cx="64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总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575720" y="331164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中奖经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左大括号 4"/>
          <p:cNvSpPr/>
          <p:nvPr/>
        </p:nvSpPr>
        <p:spPr>
          <a:xfrm>
            <a:off x="1155600" y="2455920"/>
            <a:ext cx="271440" cy="2674800"/>
          </a:xfrm>
          <a:custGeom>
            <a:avLst/>
            <a:gdLst>
              <a:gd name="textAreaLeft" fmla="*/ 173520 w 271440"/>
              <a:gd name="textAreaRight" fmla="*/ 271800 w 271440"/>
              <a:gd name="textAreaTop" fmla="*/ 6840 h 2674800"/>
              <a:gd name="textAreaBottom" fmla="*/ 2667960 h 267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3"/>
                </a:cubicBezTo>
                <a:lnTo>
                  <a:pt x="10800" y="10617"/>
                </a:lnTo>
                <a:cubicBezTo>
                  <a:pt x="10800" y="10709"/>
                  <a:pt x="5400" y="10800"/>
                  <a:pt x="0" y="10800"/>
                </a:cubicBezTo>
                <a:cubicBezTo>
                  <a:pt x="5400" y="10800"/>
                  <a:pt x="10800" y="10892"/>
                  <a:pt x="10800" y="10983"/>
                </a:cubicBezTo>
                <a:lnTo>
                  <a:pt x="10800" y="21417"/>
                </a:lnTo>
                <a:cubicBezTo>
                  <a:pt x="10800" y="2150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左大括号 5"/>
          <p:cNvSpPr/>
          <p:nvPr/>
        </p:nvSpPr>
        <p:spPr>
          <a:xfrm>
            <a:off x="2701800" y="2743200"/>
            <a:ext cx="409680" cy="1897200"/>
          </a:xfrm>
          <a:custGeom>
            <a:avLst/>
            <a:gdLst>
              <a:gd name="textAreaLeft" fmla="*/ 261720 w 409680"/>
              <a:gd name="textAreaRight" fmla="*/ 410040 w 409680"/>
              <a:gd name="textAreaTop" fmla="*/ 10440 h 1897200"/>
              <a:gd name="textAreaBottom" fmla="*/ 1886760 h 189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89"/>
                </a:cubicBezTo>
                <a:lnTo>
                  <a:pt x="10800" y="10411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89"/>
                </a:cubicBezTo>
                <a:lnTo>
                  <a:pt x="10800" y="21211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7"/>
          <p:cNvSpPr/>
          <p:nvPr/>
        </p:nvSpPr>
        <p:spPr>
          <a:xfrm>
            <a:off x="3041640" y="2508120"/>
            <a:ext cx="333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父亲中奖 “我”很高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父亲领奖 神情严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母亲细说 事情真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父亲做出 还车决定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车被开走 父亲高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右大括号 9"/>
          <p:cNvSpPr/>
          <p:nvPr/>
        </p:nvSpPr>
        <p:spPr>
          <a:xfrm>
            <a:off x="7230960" y="2297160"/>
            <a:ext cx="262080" cy="2833560"/>
          </a:xfrm>
          <a:custGeom>
            <a:avLst/>
            <a:gdLst>
              <a:gd name="textAreaLeft" fmla="*/ 0 w 262080"/>
              <a:gd name="textAreaRight" fmla="*/ 94680 w 262080"/>
              <a:gd name="textAreaTop" fmla="*/ 6480 h 2833560"/>
              <a:gd name="textAreaBottom" fmla="*/ 2827080 h 28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16200" y="10800"/>
                  <a:pt x="21600" y="10800"/>
                </a:cubicBezTo>
                <a:cubicBezTo>
                  <a:pt x="162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1"/>
          <p:cNvSpPr/>
          <p:nvPr/>
        </p:nvSpPr>
        <p:spPr>
          <a:xfrm>
            <a:off x="1930320" y="215568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家庭的困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4024440" y="2114640"/>
            <a:ext cx="41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妈妈对财富的理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2436120" y="48290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还车时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4"/>
          <p:cNvSpPr/>
          <p:nvPr/>
        </p:nvSpPr>
        <p:spPr>
          <a:xfrm>
            <a:off x="3952800" y="4853160"/>
            <a:ext cx="33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最富有的时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内容占位符 2"/>
          <p:cNvSpPr/>
          <p:nvPr/>
        </p:nvSpPr>
        <p:spPr>
          <a:xfrm>
            <a:off x="934920" y="227484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主要写了第二次世界大战前，生活困难的“我们”意外中奖，获得了一辆汽车，父亲经过思考之后，把车还给了它真正的主人的事，说明了“做事光明磊落，就等于有了一大笔财富”的道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8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2" name="组合 3"/>
          <p:cNvGrpSpPr/>
          <p:nvPr/>
        </p:nvGrpSpPr>
        <p:grpSpPr>
          <a:xfrm>
            <a:off x="558720" y="1131840"/>
            <a:ext cx="2594160" cy="666720"/>
            <a:chOff x="558720" y="1131840"/>
            <a:chExt cx="2594160" cy="666720"/>
          </a:xfrm>
        </p:grpSpPr>
        <p:sp>
          <p:nvSpPr>
            <p:cNvPr id="143" name="圆角矩形 4"/>
            <p:cNvSpPr/>
            <p:nvPr/>
          </p:nvSpPr>
          <p:spPr>
            <a:xfrm>
              <a:off x="1374840" y="12697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3184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16"/>
            <p:cNvSpPr/>
            <p:nvPr/>
          </p:nvSpPr>
          <p:spPr>
            <a:xfrm>
              <a:off x="1634040" y="128880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矩形 1"/>
          <p:cNvSpPr/>
          <p:nvPr/>
        </p:nvSpPr>
        <p:spPr>
          <a:xfrm>
            <a:off x="873000" y="1704960"/>
            <a:ext cx="7664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手捧空花盆的孩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很久以前，有位国王要挑选一个诚实的孩子做继承人。国王吩咐大臣给全国的每个孩子发一些花种，并宣布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谁能用这些种子培育出最美丽的花，谁就是他的继承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有个叫雄日的孩子，他十分用心地培育花种。十天过去了，一个月过去了，花盆里的种子却不见发芽。雄日又给种子施了些肥，浇了点水。他天天看啊，看啊，种子就是不发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国王规定的日子到了。许许多多的孩子捧着盛开着鲜花的花盆拥上街头。国王从孩子们的面前走过，看着一盆盆鲜花，脸上没有一丝高兴的表情。突然，国王看见了手捧空花盆的雄日。他停下来问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你怎么捧着空花盆呢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? ”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雄日把花种不发芽的经过告诉了国王。国王听了，高兴地拉着他的手，说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: “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你就是我的继承人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!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孩子们问国王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: “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为什么您让他做继承人呢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? ”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国王说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: “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我发给你们的花种都是煮熟了的，这样的种子能培育出美丽的鲜花吗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?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6"/>
          <p:cNvSpPr/>
          <p:nvPr/>
        </p:nvSpPr>
        <p:spPr>
          <a:xfrm>
            <a:off x="811080" y="23814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课文内容，学习文章抓住人物语言刻画人物性格、揭示人物品质的方法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“做事光明磊落，就等于有了一定大笔财富”的意思；培养做事光明磊落的作风，树立正确价值观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"/>
          <p:cNvSpPr/>
          <p:nvPr/>
        </p:nvSpPr>
        <p:spPr>
          <a:xfrm>
            <a:off x="1152360" y="2138400"/>
            <a:ext cx="723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而无信，百事皆虚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增广贤文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仿宋"/>
                <a:ea typeface="仿宋"/>
              </a:rPr>
              <a:t>理解：做人要讲诚信，如果不讲诚信，就得不到别人的信任，什么事都做不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慈父之爱子，非为报也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淮南子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刘安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仿宋"/>
                <a:ea typeface="仿宋"/>
              </a:rPr>
              <a:t>译文：慈祥的父亲疼爱自己的孩子，并不是为了有什么回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9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1476000" y="20001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诺千金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1090440" y="2416320"/>
            <a:ext cx="741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形容说话算数，所许诺言十分可靠。出自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史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季布栾布列传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得黄金百，不如得季布一诺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曾子的妻子要去赶集，孩子哭闹，她对孩子说若不哭闹回来就给他杀猪吃。赶集回来后，曾子就把猪杀了。妻子责怪他，他说，说话要算话，不能骗孩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55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矩形 1"/>
          <p:cNvSpPr/>
          <p:nvPr/>
        </p:nvSpPr>
        <p:spPr>
          <a:xfrm>
            <a:off x="1262520" y="3645000"/>
            <a:ext cx="12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曾子杀猪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60" name="矩形 11"/>
          <p:cNvSpPr/>
          <p:nvPr/>
        </p:nvSpPr>
        <p:spPr>
          <a:xfrm>
            <a:off x="1017720" y="241128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主要写了第二次世界大战前，生活困难的“我们”意外中奖，获得了一辆汽车，父亲经过思考之后，把车还给了它真正的主人的事，说明了“做事光明磊落，就等于有了一大笔财富”的道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2" name="矩形 19"/>
          <p:cNvSpPr/>
          <p:nvPr/>
        </p:nvSpPr>
        <p:spPr>
          <a:xfrm>
            <a:off x="1506600" y="2571840"/>
            <a:ext cx="654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给加点字选择正确的读音，打“√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证券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quà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uàn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馈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ku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ɡuì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亲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q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qi)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凯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kǎ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ɡǎi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4852800" y="38005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4890960" y="32670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5"/>
          <p:cNvSpPr/>
          <p:nvPr/>
        </p:nvSpPr>
        <p:spPr>
          <a:xfrm>
            <a:off x="1923840" y="38052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6"/>
          <p:cNvSpPr/>
          <p:nvPr/>
        </p:nvSpPr>
        <p:spPr>
          <a:xfrm>
            <a:off x="1936440" y="32670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4"/>
          <p:cNvSpPr/>
          <p:nvPr/>
        </p:nvSpPr>
        <p:spPr>
          <a:xfrm>
            <a:off x="2938680" y="404820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5"/>
          <p:cNvSpPr/>
          <p:nvPr/>
        </p:nvSpPr>
        <p:spPr>
          <a:xfrm>
            <a:off x="5642280" y="405612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6"/>
          <p:cNvSpPr/>
          <p:nvPr/>
        </p:nvSpPr>
        <p:spPr>
          <a:xfrm>
            <a:off x="5654880" y="350028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7"/>
          <p:cNvSpPr/>
          <p:nvPr/>
        </p:nvSpPr>
        <p:spPr>
          <a:xfrm>
            <a:off x="2444040" y="347184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2"/>
          <p:cNvSpPr/>
          <p:nvPr/>
        </p:nvSpPr>
        <p:spPr>
          <a:xfrm>
            <a:off x="1468440" y="2011320"/>
            <a:ext cx="694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词语中的错别字，并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厚待　　斩新　　想入非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激动　　轿车　　歇斯低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流逝　　安慰　　谜惑不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接连接符 15"/>
          <p:cNvSpPr/>
          <p:nvPr/>
        </p:nvSpPr>
        <p:spPr>
          <a:xfrm>
            <a:off x="3348000" y="317196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接连接符 17"/>
          <p:cNvSpPr/>
          <p:nvPr/>
        </p:nvSpPr>
        <p:spPr>
          <a:xfrm>
            <a:off x="5219640" y="374796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直接连接符 20"/>
          <p:cNvSpPr/>
          <p:nvPr/>
        </p:nvSpPr>
        <p:spPr>
          <a:xfrm>
            <a:off x="4581360" y="425124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1"/>
          <p:cNvSpPr/>
          <p:nvPr/>
        </p:nvSpPr>
        <p:spPr>
          <a:xfrm>
            <a:off x="6137280" y="2747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2"/>
          <p:cNvSpPr/>
          <p:nvPr/>
        </p:nvSpPr>
        <p:spPr>
          <a:xfrm>
            <a:off x="6137280" y="32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3"/>
          <p:cNvSpPr/>
          <p:nvPr/>
        </p:nvSpPr>
        <p:spPr>
          <a:xfrm>
            <a:off x="6137280" y="3832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16"/>
          <p:cNvSpPr/>
          <p:nvPr/>
        </p:nvSpPr>
        <p:spPr>
          <a:xfrm>
            <a:off x="1295280" y="168264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写出下列词语的近义词和反义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近义词　　　　反义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富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温柔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幸运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9"/>
          <p:cNvSpPr/>
          <p:nvPr/>
        </p:nvSpPr>
        <p:spPr>
          <a:xfrm>
            <a:off x="4917960" y="389736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20"/>
          <p:cNvSpPr/>
          <p:nvPr/>
        </p:nvSpPr>
        <p:spPr>
          <a:xfrm>
            <a:off x="2900160" y="288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富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21"/>
          <p:cNvSpPr/>
          <p:nvPr/>
        </p:nvSpPr>
        <p:spPr>
          <a:xfrm>
            <a:off x="5068440" y="2879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贫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22"/>
          <p:cNvSpPr/>
          <p:nvPr/>
        </p:nvSpPr>
        <p:spPr>
          <a:xfrm>
            <a:off x="2881080" y="3406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温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23"/>
          <p:cNvSpPr/>
          <p:nvPr/>
        </p:nvSpPr>
        <p:spPr>
          <a:xfrm>
            <a:off x="5068440" y="3432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粗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24"/>
          <p:cNvSpPr/>
          <p:nvPr/>
        </p:nvSpPr>
        <p:spPr>
          <a:xfrm>
            <a:off x="2881080" y="400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好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7"/>
          <p:cNvSpPr/>
          <p:nvPr/>
        </p:nvSpPr>
        <p:spPr>
          <a:xfrm>
            <a:off x="684360" y="197172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选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享受　 享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很想和爸爸共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美好时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这是每个中国人都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权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8"/>
          <p:cNvSpPr/>
          <p:nvPr/>
        </p:nvSpPr>
        <p:spPr>
          <a:xfrm>
            <a:off x="4249800" y="3605040"/>
            <a:ext cx="9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享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9"/>
          <p:cNvSpPr/>
          <p:nvPr/>
        </p:nvSpPr>
        <p:spPr>
          <a:xfrm>
            <a:off x="3414960" y="307980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享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8"/>
          <p:cNvSpPr/>
          <p:nvPr/>
        </p:nvSpPr>
        <p:spPr>
          <a:xfrm>
            <a:off x="674640" y="1601640"/>
            <a:ext cx="7569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难道我们中奖得到汽车是不道德的吗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双重否定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城里最大的百货商店的橱窗里展出了一辆崭新的别克轿车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缩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9"/>
          <p:cNvSpPr/>
          <p:nvPr/>
        </p:nvSpPr>
        <p:spPr>
          <a:xfrm>
            <a:off x="1433520" y="4819680"/>
            <a:ext cx="31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2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橱窗里展出了轿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0"/>
          <p:cNvSpPr/>
          <p:nvPr/>
        </p:nvSpPr>
        <p:spPr>
          <a:xfrm>
            <a:off x="1405080" y="3252960"/>
            <a:ext cx="54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们中奖得到汽车不是不道德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8"/>
          <p:cNvGrpSpPr/>
          <p:nvPr/>
        </p:nvGrpSpPr>
        <p:grpSpPr>
          <a:xfrm>
            <a:off x="314280" y="1014480"/>
            <a:ext cx="8366040" cy="5508720"/>
            <a:chOff x="314280" y="1014480"/>
            <a:chExt cx="8366040" cy="5508720"/>
          </a:xfrm>
        </p:grpSpPr>
        <p:sp>
          <p:nvSpPr>
            <p:cNvPr id="70" name="圆角矩形 4"/>
            <p:cNvSpPr/>
            <p:nvPr/>
          </p:nvSpPr>
          <p:spPr>
            <a:xfrm>
              <a:off x="314280" y="3753720"/>
              <a:ext cx="3493440" cy="1117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读课文，说说贫寒的家境下，父亲是怎样做的，母亲是怎样理解财富的，这对表现父亲有什么作用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圆角矩形 5"/>
            <p:cNvSpPr/>
            <p:nvPr/>
          </p:nvSpPr>
          <p:spPr>
            <a:xfrm>
              <a:off x="5224320" y="3889440"/>
              <a:ext cx="34560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当面对中奖的轿车时，“我”和父亲的表现有什么不同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圆角矩形 6"/>
            <p:cNvSpPr/>
            <p:nvPr/>
          </p:nvSpPr>
          <p:spPr>
            <a:xfrm>
              <a:off x="5211720" y="5075640"/>
              <a:ext cx="34686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为什么说“父亲给老板打电话的时候，其实是我们家最富有的时刻”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圆角矩形 7"/>
            <p:cNvSpPr/>
            <p:nvPr/>
          </p:nvSpPr>
          <p:spPr>
            <a:xfrm>
              <a:off x="314280" y="5315760"/>
              <a:ext cx="349344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父亲最终是怎么做的？表现了他的什么品质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" name="组合 3"/>
            <p:cNvGrpSpPr/>
            <p:nvPr/>
          </p:nvGrpSpPr>
          <p:grpSpPr>
            <a:xfrm>
              <a:off x="2188440" y="1014480"/>
              <a:ext cx="4767120" cy="5508720"/>
              <a:chOff x="2188440" y="1014480"/>
              <a:chExt cx="4767120" cy="5508720"/>
            </a:xfrm>
          </p:grpSpPr>
          <p:pic>
            <p:nvPicPr>
              <p:cNvPr id="7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440" y="1014480"/>
                <a:ext cx="476712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矩形 1"/>
              <p:cNvSpPr/>
              <p:nvPr/>
            </p:nvSpPr>
            <p:spPr>
              <a:xfrm>
                <a:off x="2435040" y="1991880"/>
                <a:ext cx="421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课文通过什么事告诉我们一个什么道理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矩形 2"/>
              <p:cNvSpPr/>
              <p:nvPr/>
            </p:nvSpPr>
            <p:spPr>
              <a:xfrm>
                <a:off x="4627080" y="12945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诚信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2"/>
          <p:cNvSpPr/>
          <p:nvPr/>
        </p:nvSpPr>
        <p:spPr>
          <a:xfrm>
            <a:off x="1077840" y="182556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二次世界大战前，我们家是城里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唯一没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汽车的人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1163520" y="3278160"/>
            <a:ext cx="69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唯一没有汽车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说明了“我”家家境窘迫，为下文写父亲归还汽车，突出其光明磊落的品质做好了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铺垫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2"/>
          <p:cNvSpPr/>
          <p:nvPr/>
        </p:nvSpPr>
        <p:spPr>
          <a:xfrm>
            <a:off x="735120" y="1582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母亲经常对家里人说：“做事光明磊落，就等于有了一大笔财富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"/>
          <p:cNvSpPr/>
          <p:nvPr/>
        </p:nvSpPr>
        <p:spPr>
          <a:xfrm>
            <a:off x="838080" y="2960640"/>
            <a:ext cx="77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一句是全文的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中心句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也是文章要反映的主题。“光明磊落”，形容没有私心，胸怀坦荡。这句话表明了母亲对财富的态度：物质上的贫穷不算什么，而道德上的完善才是人生最大的财富；一个有道德的、襟怀坦荡的人，就是最富有的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2"/>
          <p:cNvSpPr/>
          <p:nvPr/>
        </p:nvSpPr>
        <p:spPr>
          <a:xfrm>
            <a:off x="735120" y="1214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父亲开着别克轿车缓缓地从拥挤的人群旁边驶过。我几次想跳上车去，同父亲一起享受这幸福的时刻，都被父亲赶开了。最后一次，父亲甚至向我咆哮：“走开，让我清静清静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892080" y="3570120"/>
            <a:ext cx="76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面对中奖的汽车，“我”与父亲的表现形成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对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“我”是兴奋与渴望的，而父亲却不开心，咆哮着让“我”走开。“我”的表现在情理之中，父亲的态度则让人充满疑惑，此处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设置悬念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进一步引出下面的故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873000" y="2587680"/>
            <a:ext cx="78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然段主要写了“我”和母亲的对话，从对话描写中慢慢揭开故事的谜团。作者在描写人物对话的时候，采用了人物语言独立成段的方法，使文章内容条理清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4"/>
          <p:cNvGrpSpPr/>
          <p:nvPr/>
        </p:nvGrpSpPr>
        <p:grpSpPr>
          <a:xfrm>
            <a:off x="907920" y="1692360"/>
            <a:ext cx="7683480" cy="558720"/>
            <a:chOff x="907920" y="1692360"/>
            <a:chExt cx="7683480" cy="558720"/>
          </a:xfrm>
        </p:grpSpPr>
        <p:sp>
          <p:nvSpPr>
            <p:cNvPr id="87" name="直接连接符 6"/>
            <p:cNvSpPr/>
            <p:nvPr/>
          </p:nvSpPr>
          <p:spPr>
            <a:xfrm>
              <a:off x="907920" y="225108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任意多边形 7"/>
            <p:cNvSpPr/>
            <p:nvPr/>
          </p:nvSpPr>
          <p:spPr>
            <a:xfrm>
              <a:off x="907920" y="169236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探究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重点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：第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7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－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16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自然段主要写了什么？在写法上有什么特点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21"/>
          <p:cNvSpPr/>
          <p:nvPr/>
        </p:nvSpPr>
        <p:spPr>
          <a:xfrm>
            <a:off x="681120" y="963720"/>
            <a:ext cx="79722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人物语言独立成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23"/>
          <p:cNvSpPr/>
          <p:nvPr/>
        </p:nvSpPr>
        <p:spPr>
          <a:xfrm>
            <a:off x="820800" y="2079720"/>
            <a:ext cx="734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什么是人物语言独立成段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就是在进行对话描写时，把每个人的语言都作为相对独立的段落组织文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人物语言独立成段有哪些表达效果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让人物对话分明了然，有利于强调说话人的神态语气等细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线连接符 7"/>
          <p:cNvSpPr/>
          <p:nvPr/>
        </p:nvSpPr>
        <p:spPr>
          <a:xfrm>
            <a:off x="914400" y="1887480"/>
            <a:ext cx="7656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任意多边形 5"/>
          <p:cNvSpPr/>
          <p:nvPr/>
        </p:nvSpPr>
        <p:spPr>
          <a:xfrm>
            <a:off x="522360" y="2211480"/>
            <a:ext cx="8007120" cy="558720"/>
          </a:xfrm>
          <a:custGeom>
            <a:avLst/>
            <a:gdLst/>
            <a:ahLst/>
            <a:rect l="l" t="t" r="r" b="b"/>
            <a:pathLst>
              <a:path w="7683786" h="559769">
                <a:moveTo>
                  <a:pt x="0" y="0"/>
                </a:moveTo>
                <a:lnTo>
                  <a:pt x="7683786" y="0"/>
                </a:lnTo>
                <a:lnTo>
                  <a:pt x="7683786" y="559769"/>
                </a:lnTo>
                <a:lnTo>
                  <a:pt x="0" y="55976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690480" y="2705040"/>
            <a:ext cx="80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方面，虽然家里并不富裕，父亲却一直接济比“我们”还穷的亲戚，可以看出父亲是一个有着优秀品德的人，母亲相信他在面临道德抉择时的选择，说明了母亲对父亲的信任。另一方面，也表明了母亲个人的态度。联系文章开头部分母亲常说的那句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做事光明磊落，就等于有了一大笔财富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就能判断出母亲也会做和父亲一样的选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4181040" y="14050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爸爸知道该怎么做的。”母亲平静地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组合 6"/>
          <p:cNvGrpSpPr/>
          <p:nvPr/>
        </p:nvGrpSpPr>
        <p:grpSpPr>
          <a:xfrm>
            <a:off x="812880" y="2084400"/>
            <a:ext cx="7908840" cy="558720"/>
            <a:chOff x="812880" y="2084400"/>
            <a:chExt cx="7908840" cy="558720"/>
          </a:xfrm>
        </p:grpSpPr>
        <p:sp>
          <p:nvSpPr>
            <p:cNvPr id="96" name="直接连接符 7"/>
            <p:cNvSpPr/>
            <p:nvPr/>
          </p:nvSpPr>
          <p:spPr>
            <a:xfrm>
              <a:off x="812880" y="25844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任意多边形 8"/>
            <p:cNvSpPr/>
            <p:nvPr/>
          </p:nvSpPr>
          <p:spPr>
            <a:xfrm>
              <a:off x="812880" y="2084400"/>
              <a:ext cx="790884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难点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：母亲为什么说“你爸爸知道该怎么做的”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12:53:18Z</dcterms:modified>
  <cp:revision>4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