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D7986-089C-409B-8D68-98B121FF43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B29EE-1B4A-4A57-A34E-843C338402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154B6-6A7B-4F5C-BA51-0B58CD2C46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F697C-FA26-43A4-9411-5BCFE8549A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F0D72-9EB5-4104-8264-8A57EEC366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3FA05-5EE5-41A2-BF41-A5F011D53E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2F68C-19AD-4B76-AD5F-9A074CCCB7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E3F49-A892-4704-B2C3-7F41135341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3F38E-E175-4C18-8FD0-305B126156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6174C-FA36-4E2B-B2DF-79C77B7EF4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98DA5-BFA6-4E59-8614-EC8D5FCFEB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A0FB6-2947-484C-9769-D34D84C55F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818-5B0B-476E-8B39-553763C7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FD4-A221-44D5-902D-D8E6249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92F-C5B7-4AA7-94CD-38992BE4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02A-96F8-428E-B366-5405127C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EFC-ED0D-45D8-B454-03EAC02E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02D-8A88-42CF-8E80-A293D38D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7C6-59A8-4B75-B0F4-85B7547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C89-68FB-4F5D-85C5-19809A1A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614-1C11-4472-AEEA-945DA54D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BFE-99B3-49D2-8B44-F7E6368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006-5AEE-4DF9-9313-C7E5CBB5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719-8107-4426-8B61-5BE559F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A9A0A-6ACC-4FC7-ABF2-5FD5366FDE8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"/>
          <p:cNvPicPr/>
          <p:nvPr/>
        </p:nvPicPr>
        <p:blipFill>
          <a:blip r:embed="rId1"/>
          <a:stretch/>
        </p:blipFill>
        <p:spPr>
          <a:xfrm>
            <a:off x="2749680" y="2341440"/>
            <a:ext cx="3644640" cy="299880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2979720" y="3159000"/>
            <a:ext cx="3186000" cy="1150920"/>
            <a:chOff x="297972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20400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88548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297972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957320" y="905040"/>
            <a:ext cx="5594400" cy="1180800"/>
            <a:chOff x="1957320" y="905040"/>
            <a:chExt cx="5594400" cy="1180800"/>
          </a:xfrm>
        </p:grpSpPr>
        <p:sp>
          <p:nvSpPr>
            <p:cNvPr id="65" name="Text Box 2"/>
            <p:cNvSpPr/>
            <p:nvPr/>
          </p:nvSpPr>
          <p:spPr>
            <a:xfrm>
              <a:off x="3216240" y="1011240"/>
              <a:ext cx="4335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香山的红叶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957320" y="905040"/>
              <a:ext cx="1180800" cy="1180800"/>
              <a:chOff x="195732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95732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18016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衬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9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竖钩内收，点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靠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3"/>
          <p:cNvSpPr/>
          <p:nvPr/>
        </p:nvSpPr>
        <p:spPr>
          <a:xfrm>
            <a:off x="1967040" y="1868400"/>
            <a:ext cx="146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è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73"/>
          <p:cNvSpPr/>
          <p:nvPr/>
        </p:nvSpPr>
        <p:spPr>
          <a:xfrm>
            <a:off x="6789600" y="3805200"/>
            <a:ext cx="236520" cy="357120"/>
          </a:xfrm>
          <a:custGeom>
            <a:avLst/>
            <a:gdLst/>
            <a:ahLst/>
            <a:rect l="l" t="t" r="r" b="b"/>
            <a:pathLst>
              <a:path w="298" h="449">
                <a:moveTo>
                  <a:pt x="85" y="44"/>
                </a:moveTo>
                <a:lnTo>
                  <a:pt x="102" y="54"/>
                </a:lnTo>
                <a:lnTo>
                  <a:pt x="121" y="65"/>
                </a:lnTo>
                <a:lnTo>
                  <a:pt x="138" y="79"/>
                </a:lnTo>
                <a:lnTo>
                  <a:pt x="156" y="92"/>
                </a:lnTo>
                <a:lnTo>
                  <a:pt x="173" y="107"/>
                </a:lnTo>
                <a:lnTo>
                  <a:pt x="192" y="125"/>
                </a:lnTo>
                <a:lnTo>
                  <a:pt x="209" y="142"/>
                </a:lnTo>
                <a:lnTo>
                  <a:pt x="227" y="161"/>
                </a:lnTo>
                <a:lnTo>
                  <a:pt x="234" y="171"/>
                </a:lnTo>
                <a:lnTo>
                  <a:pt x="244" y="180"/>
                </a:lnTo>
                <a:lnTo>
                  <a:pt x="250" y="190"/>
                </a:lnTo>
                <a:lnTo>
                  <a:pt x="257" y="201"/>
                </a:lnTo>
                <a:lnTo>
                  <a:pt x="263" y="211"/>
                </a:lnTo>
                <a:lnTo>
                  <a:pt x="269" y="221"/>
                </a:lnTo>
                <a:lnTo>
                  <a:pt x="275" y="230"/>
                </a:lnTo>
                <a:lnTo>
                  <a:pt x="278" y="240"/>
                </a:lnTo>
                <a:lnTo>
                  <a:pt x="284" y="249"/>
                </a:lnTo>
                <a:lnTo>
                  <a:pt x="288" y="259"/>
                </a:lnTo>
                <a:lnTo>
                  <a:pt x="290" y="269"/>
                </a:lnTo>
                <a:lnTo>
                  <a:pt x="292" y="278"/>
                </a:lnTo>
                <a:lnTo>
                  <a:pt x="294" y="288"/>
                </a:lnTo>
                <a:lnTo>
                  <a:pt x="296" y="299"/>
                </a:lnTo>
                <a:lnTo>
                  <a:pt x="298" y="309"/>
                </a:lnTo>
                <a:lnTo>
                  <a:pt x="298" y="319"/>
                </a:lnTo>
                <a:lnTo>
                  <a:pt x="298" y="330"/>
                </a:lnTo>
                <a:lnTo>
                  <a:pt x="298" y="342"/>
                </a:lnTo>
                <a:lnTo>
                  <a:pt x="298" y="351"/>
                </a:lnTo>
                <a:lnTo>
                  <a:pt x="298" y="361"/>
                </a:lnTo>
                <a:lnTo>
                  <a:pt x="298" y="368"/>
                </a:lnTo>
                <a:lnTo>
                  <a:pt x="296" y="376"/>
                </a:lnTo>
                <a:lnTo>
                  <a:pt x="296" y="384"/>
                </a:lnTo>
                <a:lnTo>
                  <a:pt x="296" y="390"/>
                </a:lnTo>
                <a:lnTo>
                  <a:pt x="296" y="395"/>
                </a:lnTo>
                <a:lnTo>
                  <a:pt x="294" y="401"/>
                </a:lnTo>
                <a:lnTo>
                  <a:pt x="294" y="405"/>
                </a:lnTo>
                <a:lnTo>
                  <a:pt x="292" y="411"/>
                </a:lnTo>
                <a:lnTo>
                  <a:pt x="290" y="416"/>
                </a:lnTo>
                <a:lnTo>
                  <a:pt x="286" y="422"/>
                </a:lnTo>
                <a:lnTo>
                  <a:pt x="280" y="428"/>
                </a:lnTo>
                <a:lnTo>
                  <a:pt x="275" y="432"/>
                </a:lnTo>
                <a:lnTo>
                  <a:pt x="269" y="438"/>
                </a:lnTo>
                <a:lnTo>
                  <a:pt x="261" y="441"/>
                </a:lnTo>
                <a:lnTo>
                  <a:pt x="255" y="445"/>
                </a:lnTo>
                <a:lnTo>
                  <a:pt x="250" y="447"/>
                </a:lnTo>
                <a:lnTo>
                  <a:pt x="244" y="449"/>
                </a:lnTo>
                <a:lnTo>
                  <a:pt x="238" y="449"/>
                </a:lnTo>
                <a:lnTo>
                  <a:pt x="234" y="449"/>
                </a:lnTo>
                <a:lnTo>
                  <a:pt x="228" y="445"/>
                </a:lnTo>
                <a:lnTo>
                  <a:pt x="223" y="441"/>
                </a:lnTo>
                <a:lnTo>
                  <a:pt x="215" y="438"/>
                </a:lnTo>
                <a:lnTo>
                  <a:pt x="209" y="430"/>
                </a:lnTo>
                <a:lnTo>
                  <a:pt x="202" y="420"/>
                </a:lnTo>
                <a:lnTo>
                  <a:pt x="194" y="411"/>
                </a:lnTo>
                <a:lnTo>
                  <a:pt x="184" y="399"/>
                </a:lnTo>
                <a:lnTo>
                  <a:pt x="175" y="386"/>
                </a:lnTo>
                <a:lnTo>
                  <a:pt x="165" y="368"/>
                </a:lnTo>
                <a:lnTo>
                  <a:pt x="156" y="353"/>
                </a:lnTo>
                <a:lnTo>
                  <a:pt x="144" y="334"/>
                </a:lnTo>
                <a:lnTo>
                  <a:pt x="133" y="313"/>
                </a:lnTo>
                <a:lnTo>
                  <a:pt x="121" y="290"/>
                </a:lnTo>
                <a:lnTo>
                  <a:pt x="109" y="267"/>
                </a:lnTo>
                <a:lnTo>
                  <a:pt x="96" y="240"/>
                </a:lnTo>
                <a:lnTo>
                  <a:pt x="83" y="213"/>
                </a:lnTo>
                <a:lnTo>
                  <a:pt x="69" y="188"/>
                </a:lnTo>
                <a:lnTo>
                  <a:pt x="58" y="165"/>
                </a:lnTo>
                <a:lnTo>
                  <a:pt x="46" y="144"/>
                </a:lnTo>
                <a:lnTo>
                  <a:pt x="37" y="125"/>
                </a:lnTo>
                <a:lnTo>
                  <a:pt x="29" y="106"/>
                </a:lnTo>
                <a:lnTo>
                  <a:pt x="21" y="88"/>
                </a:lnTo>
                <a:lnTo>
                  <a:pt x="15" y="73"/>
                </a:lnTo>
                <a:lnTo>
                  <a:pt x="10" y="59"/>
                </a:lnTo>
                <a:lnTo>
                  <a:pt x="6" y="46"/>
                </a:lnTo>
                <a:lnTo>
                  <a:pt x="2" y="36"/>
                </a:lnTo>
                <a:lnTo>
                  <a:pt x="0" y="27"/>
                </a:lnTo>
                <a:lnTo>
                  <a:pt x="0" y="19"/>
                </a:lnTo>
                <a:lnTo>
                  <a:pt x="0" y="11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5" y="2"/>
                </a:lnTo>
                <a:lnTo>
                  <a:pt x="31" y="4"/>
                </a:lnTo>
                <a:lnTo>
                  <a:pt x="37" y="8"/>
                </a:lnTo>
                <a:lnTo>
                  <a:pt x="40" y="10"/>
                </a:lnTo>
                <a:lnTo>
                  <a:pt x="48" y="13"/>
                </a:lnTo>
                <a:lnTo>
                  <a:pt x="54" y="19"/>
                </a:lnTo>
                <a:lnTo>
                  <a:pt x="61" y="25"/>
                </a:lnTo>
                <a:lnTo>
                  <a:pt x="69" y="31"/>
                </a:lnTo>
                <a:lnTo>
                  <a:pt x="77" y="36"/>
                </a:lnTo>
                <a:lnTo>
                  <a:pt x="85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74"/>
          <p:cNvSpPr/>
          <p:nvPr/>
        </p:nvSpPr>
        <p:spPr>
          <a:xfrm>
            <a:off x="6969240" y="2757600"/>
            <a:ext cx="431640" cy="2276280"/>
          </a:xfrm>
          <a:custGeom>
            <a:avLst/>
            <a:gdLst/>
            <a:ahLst/>
            <a:rect l="l" t="t" r="r" b="b"/>
            <a:pathLst>
              <a:path w="543" h="2868">
                <a:moveTo>
                  <a:pt x="353" y="2868"/>
                </a:moveTo>
                <a:lnTo>
                  <a:pt x="347" y="2866"/>
                </a:lnTo>
                <a:lnTo>
                  <a:pt x="341" y="2862"/>
                </a:lnTo>
                <a:lnTo>
                  <a:pt x="335" y="2858"/>
                </a:lnTo>
                <a:lnTo>
                  <a:pt x="332" y="2853"/>
                </a:lnTo>
                <a:lnTo>
                  <a:pt x="326" y="2849"/>
                </a:lnTo>
                <a:lnTo>
                  <a:pt x="322" y="2843"/>
                </a:lnTo>
                <a:lnTo>
                  <a:pt x="318" y="2835"/>
                </a:lnTo>
                <a:lnTo>
                  <a:pt x="314" y="2830"/>
                </a:lnTo>
                <a:lnTo>
                  <a:pt x="312" y="2822"/>
                </a:lnTo>
                <a:lnTo>
                  <a:pt x="309" y="2812"/>
                </a:lnTo>
                <a:lnTo>
                  <a:pt x="307" y="2805"/>
                </a:lnTo>
                <a:lnTo>
                  <a:pt x="303" y="2795"/>
                </a:lnTo>
                <a:lnTo>
                  <a:pt x="301" y="2784"/>
                </a:lnTo>
                <a:lnTo>
                  <a:pt x="299" y="2774"/>
                </a:lnTo>
                <a:lnTo>
                  <a:pt x="297" y="2762"/>
                </a:lnTo>
                <a:lnTo>
                  <a:pt x="295" y="2751"/>
                </a:lnTo>
                <a:lnTo>
                  <a:pt x="291" y="2738"/>
                </a:lnTo>
                <a:lnTo>
                  <a:pt x="287" y="2726"/>
                </a:lnTo>
                <a:lnTo>
                  <a:pt x="284" y="2714"/>
                </a:lnTo>
                <a:lnTo>
                  <a:pt x="278" y="2701"/>
                </a:lnTo>
                <a:lnTo>
                  <a:pt x="270" y="2690"/>
                </a:lnTo>
                <a:lnTo>
                  <a:pt x="263" y="2678"/>
                </a:lnTo>
                <a:lnTo>
                  <a:pt x="253" y="2667"/>
                </a:lnTo>
                <a:lnTo>
                  <a:pt x="243" y="2655"/>
                </a:lnTo>
                <a:lnTo>
                  <a:pt x="234" y="2643"/>
                </a:lnTo>
                <a:lnTo>
                  <a:pt x="222" y="2632"/>
                </a:lnTo>
                <a:lnTo>
                  <a:pt x="211" y="2620"/>
                </a:lnTo>
                <a:lnTo>
                  <a:pt x="197" y="2609"/>
                </a:lnTo>
                <a:lnTo>
                  <a:pt x="184" y="2597"/>
                </a:lnTo>
                <a:lnTo>
                  <a:pt x="170" y="2588"/>
                </a:lnTo>
                <a:lnTo>
                  <a:pt x="155" y="2578"/>
                </a:lnTo>
                <a:lnTo>
                  <a:pt x="142" y="2567"/>
                </a:lnTo>
                <a:lnTo>
                  <a:pt x="124" y="2557"/>
                </a:lnTo>
                <a:lnTo>
                  <a:pt x="107" y="2547"/>
                </a:lnTo>
                <a:lnTo>
                  <a:pt x="94" y="2540"/>
                </a:lnTo>
                <a:lnTo>
                  <a:pt x="78" y="2530"/>
                </a:lnTo>
                <a:lnTo>
                  <a:pt x="67" y="2523"/>
                </a:lnTo>
                <a:lnTo>
                  <a:pt x="55" y="2513"/>
                </a:lnTo>
                <a:lnTo>
                  <a:pt x="44" y="2505"/>
                </a:lnTo>
                <a:lnTo>
                  <a:pt x="34" y="2498"/>
                </a:lnTo>
                <a:lnTo>
                  <a:pt x="26" y="2492"/>
                </a:lnTo>
                <a:lnTo>
                  <a:pt x="19" y="2484"/>
                </a:lnTo>
                <a:lnTo>
                  <a:pt x="13" y="2478"/>
                </a:lnTo>
                <a:lnTo>
                  <a:pt x="9" y="2473"/>
                </a:lnTo>
                <a:lnTo>
                  <a:pt x="5" y="2465"/>
                </a:lnTo>
                <a:lnTo>
                  <a:pt x="1" y="2459"/>
                </a:lnTo>
                <a:lnTo>
                  <a:pt x="0" y="2455"/>
                </a:lnTo>
                <a:lnTo>
                  <a:pt x="0" y="2450"/>
                </a:lnTo>
                <a:lnTo>
                  <a:pt x="0" y="2448"/>
                </a:lnTo>
                <a:lnTo>
                  <a:pt x="1" y="2446"/>
                </a:lnTo>
                <a:lnTo>
                  <a:pt x="3" y="2444"/>
                </a:lnTo>
                <a:lnTo>
                  <a:pt x="5" y="2442"/>
                </a:lnTo>
                <a:lnTo>
                  <a:pt x="9" y="2442"/>
                </a:lnTo>
                <a:lnTo>
                  <a:pt x="15" y="2440"/>
                </a:lnTo>
                <a:lnTo>
                  <a:pt x="21" y="2440"/>
                </a:lnTo>
                <a:lnTo>
                  <a:pt x="26" y="2440"/>
                </a:lnTo>
                <a:lnTo>
                  <a:pt x="32" y="2440"/>
                </a:lnTo>
                <a:lnTo>
                  <a:pt x="42" y="2440"/>
                </a:lnTo>
                <a:lnTo>
                  <a:pt x="49" y="2442"/>
                </a:lnTo>
                <a:lnTo>
                  <a:pt x="59" y="2442"/>
                </a:lnTo>
                <a:lnTo>
                  <a:pt x="69" y="2444"/>
                </a:lnTo>
                <a:lnTo>
                  <a:pt x="80" y="2446"/>
                </a:lnTo>
                <a:lnTo>
                  <a:pt x="94" y="2448"/>
                </a:lnTo>
                <a:lnTo>
                  <a:pt x="105" y="2450"/>
                </a:lnTo>
                <a:lnTo>
                  <a:pt x="128" y="2455"/>
                </a:lnTo>
                <a:lnTo>
                  <a:pt x="149" y="2459"/>
                </a:lnTo>
                <a:lnTo>
                  <a:pt x="170" y="2463"/>
                </a:lnTo>
                <a:lnTo>
                  <a:pt x="192" y="2467"/>
                </a:lnTo>
                <a:lnTo>
                  <a:pt x="211" y="2469"/>
                </a:lnTo>
                <a:lnTo>
                  <a:pt x="228" y="2469"/>
                </a:lnTo>
                <a:lnTo>
                  <a:pt x="236" y="2467"/>
                </a:lnTo>
                <a:lnTo>
                  <a:pt x="245" y="2467"/>
                </a:lnTo>
                <a:lnTo>
                  <a:pt x="251" y="2465"/>
                </a:lnTo>
                <a:lnTo>
                  <a:pt x="259" y="2463"/>
                </a:lnTo>
                <a:lnTo>
                  <a:pt x="272" y="2461"/>
                </a:lnTo>
                <a:lnTo>
                  <a:pt x="286" y="2459"/>
                </a:lnTo>
                <a:lnTo>
                  <a:pt x="299" y="2457"/>
                </a:lnTo>
                <a:lnTo>
                  <a:pt x="311" y="2452"/>
                </a:lnTo>
                <a:lnTo>
                  <a:pt x="316" y="2448"/>
                </a:lnTo>
                <a:lnTo>
                  <a:pt x="322" y="2444"/>
                </a:lnTo>
                <a:lnTo>
                  <a:pt x="328" y="2440"/>
                </a:lnTo>
                <a:lnTo>
                  <a:pt x="334" y="2436"/>
                </a:lnTo>
                <a:lnTo>
                  <a:pt x="339" y="2430"/>
                </a:lnTo>
                <a:lnTo>
                  <a:pt x="343" y="2425"/>
                </a:lnTo>
                <a:lnTo>
                  <a:pt x="349" y="2417"/>
                </a:lnTo>
                <a:lnTo>
                  <a:pt x="353" y="2411"/>
                </a:lnTo>
                <a:lnTo>
                  <a:pt x="355" y="2405"/>
                </a:lnTo>
                <a:lnTo>
                  <a:pt x="355" y="2402"/>
                </a:lnTo>
                <a:lnTo>
                  <a:pt x="357" y="2396"/>
                </a:lnTo>
                <a:lnTo>
                  <a:pt x="358" y="2390"/>
                </a:lnTo>
                <a:lnTo>
                  <a:pt x="358" y="2384"/>
                </a:lnTo>
                <a:lnTo>
                  <a:pt x="360" y="2377"/>
                </a:lnTo>
                <a:lnTo>
                  <a:pt x="360" y="2367"/>
                </a:lnTo>
                <a:lnTo>
                  <a:pt x="362" y="2359"/>
                </a:lnTo>
                <a:lnTo>
                  <a:pt x="362" y="2350"/>
                </a:lnTo>
                <a:lnTo>
                  <a:pt x="364" y="2340"/>
                </a:lnTo>
                <a:lnTo>
                  <a:pt x="364" y="2329"/>
                </a:lnTo>
                <a:lnTo>
                  <a:pt x="366" y="2317"/>
                </a:lnTo>
                <a:lnTo>
                  <a:pt x="366" y="2304"/>
                </a:lnTo>
                <a:lnTo>
                  <a:pt x="368" y="2292"/>
                </a:lnTo>
                <a:lnTo>
                  <a:pt x="368" y="2279"/>
                </a:lnTo>
                <a:lnTo>
                  <a:pt x="370" y="2263"/>
                </a:lnTo>
                <a:lnTo>
                  <a:pt x="370" y="2248"/>
                </a:lnTo>
                <a:lnTo>
                  <a:pt x="370" y="2233"/>
                </a:lnTo>
                <a:lnTo>
                  <a:pt x="372" y="2215"/>
                </a:lnTo>
                <a:lnTo>
                  <a:pt x="372" y="2200"/>
                </a:lnTo>
                <a:lnTo>
                  <a:pt x="374" y="2181"/>
                </a:lnTo>
                <a:lnTo>
                  <a:pt x="374" y="2164"/>
                </a:lnTo>
                <a:lnTo>
                  <a:pt x="374" y="2144"/>
                </a:lnTo>
                <a:lnTo>
                  <a:pt x="374" y="2123"/>
                </a:lnTo>
                <a:lnTo>
                  <a:pt x="376" y="2104"/>
                </a:lnTo>
                <a:lnTo>
                  <a:pt x="376" y="2081"/>
                </a:lnTo>
                <a:lnTo>
                  <a:pt x="376" y="2060"/>
                </a:lnTo>
                <a:lnTo>
                  <a:pt x="376" y="2037"/>
                </a:lnTo>
                <a:lnTo>
                  <a:pt x="376" y="2014"/>
                </a:lnTo>
                <a:lnTo>
                  <a:pt x="376" y="1991"/>
                </a:lnTo>
                <a:lnTo>
                  <a:pt x="378" y="1966"/>
                </a:lnTo>
                <a:lnTo>
                  <a:pt x="378" y="1941"/>
                </a:lnTo>
                <a:lnTo>
                  <a:pt x="376" y="1887"/>
                </a:lnTo>
                <a:lnTo>
                  <a:pt x="376" y="1835"/>
                </a:lnTo>
                <a:lnTo>
                  <a:pt x="376" y="1780"/>
                </a:lnTo>
                <a:lnTo>
                  <a:pt x="374" y="1724"/>
                </a:lnTo>
                <a:lnTo>
                  <a:pt x="374" y="1666"/>
                </a:lnTo>
                <a:lnTo>
                  <a:pt x="372" y="1609"/>
                </a:lnTo>
                <a:lnTo>
                  <a:pt x="370" y="1549"/>
                </a:lnTo>
                <a:lnTo>
                  <a:pt x="368" y="1490"/>
                </a:lnTo>
                <a:lnTo>
                  <a:pt x="366" y="1427"/>
                </a:lnTo>
                <a:lnTo>
                  <a:pt x="362" y="1363"/>
                </a:lnTo>
                <a:lnTo>
                  <a:pt x="360" y="1300"/>
                </a:lnTo>
                <a:lnTo>
                  <a:pt x="357" y="1235"/>
                </a:lnTo>
                <a:lnTo>
                  <a:pt x="353" y="1167"/>
                </a:lnTo>
                <a:lnTo>
                  <a:pt x="349" y="1098"/>
                </a:lnTo>
                <a:lnTo>
                  <a:pt x="345" y="1029"/>
                </a:lnTo>
                <a:lnTo>
                  <a:pt x="341" y="960"/>
                </a:lnTo>
                <a:lnTo>
                  <a:pt x="339" y="926"/>
                </a:lnTo>
                <a:lnTo>
                  <a:pt x="337" y="893"/>
                </a:lnTo>
                <a:lnTo>
                  <a:pt x="335" y="860"/>
                </a:lnTo>
                <a:lnTo>
                  <a:pt x="334" y="830"/>
                </a:lnTo>
                <a:lnTo>
                  <a:pt x="332" y="799"/>
                </a:lnTo>
                <a:lnTo>
                  <a:pt x="330" y="768"/>
                </a:lnTo>
                <a:lnTo>
                  <a:pt x="328" y="739"/>
                </a:lnTo>
                <a:lnTo>
                  <a:pt x="326" y="712"/>
                </a:lnTo>
                <a:lnTo>
                  <a:pt x="324" y="684"/>
                </a:lnTo>
                <a:lnTo>
                  <a:pt x="322" y="659"/>
                </a:lnTo>
                <a:lnTo>
                  <a:pt x="320" y="632"/>
                </a:lnTo>
                <a:lnTo>
                  <a:pt x="320" y="607"/>
                </a:lnTo>
                <a:lnTo>
                  <a:pt x="318" y="584"/>
                </a:lnTo>
                <a:lnTo>
                  <a:pt x="316" y="561"/>
                </a:lnTo>
                <a:lnTo>
                  <a:pt x="314" y="538"/>
                </a:lnTo>
                <a:lnTo>
                  <a:pt x="314" y="517"/>
                </a:lnTo>
                <a:lnTo>
                  <a:pt x="312" y="496"/>
                </a:lnTo>
                <a:lnTo>
                  <a:pt x="311" y="476"/>
                </a:lnTo>
                <a:lnTo>
                  <a:pt x="309" y="457"/>
                </a:lnTo>
                <a:lnTo>
                  <a:pt x="309" y="438"/>
                </a:lnTo>
                <a:lnTo>
                  <a:pt x="307" y="421"/>
                </a:lnTo>
                <a:lnTo>
                  <a:pt x="305" y="403"/>
                </a:lnTo>
                <a:lnTo>
                  <a:pt x="305" y="388"/>
                </a:lnTo>
                <a:lnTo>
                  <a:pt x="303" y="373"/>
                </a:lnTo>
                <a:lnTo>
                  <a:pt x="303" y="359"/>
                </a:lnTo>
                <a:lnTo>
                  <a:pt x="301" y="346"/>
                </a:lnTo>
                <a:lnTo>
                  <a:pt x="299" y="332"/>
                </a:lnTo>
                <a:lnTo>
                  <a:pt x="299" y="321"/>
                </a:lnTo>
                <a:lnTo>
                  <a:pt x="297" y="309"/>
                </a:lnTo>
                <a:lnTo>
                  <a:pt x="297" y="298"/>
                </a:lnTo>
                <a:lnTo>
                  <a:pt x="295" y="288"/>
                </a:lnTo>
                <a:lnTo>
                  <a:pt x="295" y="281"/>
                </a:lnTo>
                <a:lnTo>
                  <a:pt x="291" y="265"/>
                </a:lnTo>
                <a:lnTo>
                  <a:pt x="289" y="252"/>
                </a:lnTo>
                <a:lnTo>
                  <a:pt x="287" y="238"/>
                </a:lnTo>
                <a:lnTo>
                  <a:pt x="286" y="225"/>
                </a:lnTo>
                <a:lnTo>
                  <a:pt x="282" y="213"/>
                </a:lnTo>
                <a:lnTo>
                  <a:pt x="280" y="202"/>
                </a:lnTo>
                <a:lnTo>
                  <a:pt x="276" y="190"/>
                </a:lnTo>
                <a:lnTo>
                  <a:pt x="274" y="181"/>
                </a:lnTo>
                <a:lnTo>
                  <a:pt x="266" y="160"/>
                </a:lnTo>
                <a:lnTo>
                  <a:pt x="257" y="142"/>
                </a:lnTo>
                <a:lnTo>
                  <a:pt x="247" y="125"/>
                </a:lnTo>
                <a:lnTo>
                  <a:pt x="241" y="117"/>
                </a:lnTo>
                <a:lnTo>
                  <a:pt x="236" y="110"/>
                </a:lnTo>
                <a:lnTo>
                  <a:pt x="222" y="96"/>
                </a:lnTo>
                <a:lnTo>
                  <a:pt x="211" y="83"/>
                </a:lnTo>
                <a:lnTo>
                  <a:pt x="201" y="69"/>
                </a:lnTo>
                <a:lnTo>
                  <a:pt x="197" y="64"/>
                </a:lnTo>
                <a:lnTo>
                  <a:pt x="193" y="60"/>
                </a:lnTo>
                <a:lnTo>
                  <a:pt x="192" y="54"/>
                </a:lnTo>
                <a:lnTo>
                  <a:pt x="188" y="48"/>
                </a:lnTo>
                <a:lnTo>
                  <a:pt x="188" y="43"/>
                </a:lnTo>
                <a:lnTo>
                  <a:pt x="186" y="39"/>
                </a:lnTo>
                <a:lnTo>
                  <a:pt x="186" y="33"/>
                </a:lnTo>
                <a:lnTo>
                  <a:pt x="186" y="27"/>
                </a:lnTo>
                <a:lnTo>
                  <a:pt x="186" y="23"/>
                </a:lnTo>
                <a:lnTo>
                  <a:pt x="188" y="18"/>
                </a:lnTo>
                <a:lnTo>
                  <a:pt x="193" y="14"/>
                </a:lnTo>
                <a:lnTo>
                  <a:pt x="199" y="8"/>
                </a:lnTo>
                <a:lnTo>
                  <a:pt x="203" y="6"/>
                </a:lnTo>
                <a:lnTo>
                  <a:pt x="207" y="4"/>
                </a:lnTo>
                <a:lnTo>
                  <a:pt x="213" y="2"/>
                </a:lnTo>
                <a:lnTo>
                  <a:pt x="218" y="2"/>
                </a:lnTo>
                <a:lnTo>
                  <a:pt x="224" y="0"/>
                </a:lnTo>
                <a:lnTo>
                  <a:pt x="230" y="0"/>
                </a:lnTo>
                <a:lnTo>
                  <a:pt x="238" y="0"/>
                </a:lnTo>
                <a:lnTo>
                  <a:pt x="245" y="0"/>
                </a:lnTo>
                <a:lnTo>
                  <a:pt x="253" y="0"/>
                </a:lnTo>
                <a:lnTo>
                  <a:pt x="263" y="2"/>
                </a:lnTo>
                <a:lnTo>
                  <a:pt x="272" y="2"/>
                </a:lnTo>
                <a:lnTo>
                  <a:pt x="282" y="6"/>
                </a:lnTo>
                <a:lnTo>
                  <a:pt x="305" y="10"/>
                </a:lnTo>
                <a:lnTo>
                  <a:pt x="324" y="18"/>
                </a:lnTo>
                <a:lnTo>
                  <a:pt x="345" y="25"/>
                </a:lnTo>
                <a:lnTo>
                  <a:pt x="364" y="35"/>
                </a:lnTo>
                <a:lnTo>
                  <a:pt x="382" y="45"/>
                </a:lnTo>
                <a:lnTo>
                  <a:pt x="401" y="56"/>
                </a:lnTo>
                <a:lnTo>
                  <a:pt x="418" y="69"/>
                </a:lnTo>
                <a:lnTo>
                  <a:pt x="435" y="83"/>
                </a:lnTo>
                <a:lnTo>
                  <a:pt x="445" y="91"/>
                </a:lnTo>
                <a:lnTo>
                  <a:pt x="453" y="98"/>
                </a:lnTo>
                <a:lnTo>
                  <a:pt x="460" y="104"/>
                </a:lnTo>
                <a:lnTo>
                  <a:pt x="466" y="110"/>
                </a:lnTo>
                <a:lnTo>
                  <a:pt x="474" y="117"/>
                </a:lnTo>
                <a:lnTo>
                  <a:pt x="479" y="123"/>
                </a:lnTo>
                <a:lnTo>
                  <a:pt x="483" y="127"/>
                </a:lnTo>
                <a:lnTo>
                  <a:pt x="489" y="133"/>
                </a:lnTo>
                <a:lnTo>
                  <a:pt x="493" y="137"/>
                </a:lnTo>
                <a:lnTo>
                  <a:pt x="497" y="142"/>
                </a:lnTo>
                <a:lnTo>
                  <a:pt x="499" y="146"/>
                </a:lnTo>
                <a:lnTo>
                  <a:pt x="502" y="150"/>
                </a:lnTo>
                <a:lnTo>
                  <a:pt x="504" y="154"/>
                </a:lnTo>
                <a:lnTo>
                  <a:pt x="504" y="156"/>
                </a:lnTo>
                <a:lnTo>
                  <a:pt x="506" y="160"/>
                </a:lnTo>
                <a:lnTo>
                  <a:pt x="506" y="162"/>
                </a:lnTo>
                <a:lnTo>
                  <a:pt x="506" y="167"/>
                </a:lnTo>
                <a:lnTo>
                  <a:pt x="506" y="173"/>
                </a:lnTo>
                <a:lnTo>
                  <a:pt x="506" y="181"/>
                </a:lnTo>
                <a:lnTo>
                  <a:pt x="506" y="188"/>
                </a:lnTo>
                <a:lnTo>
                  <a:pt x="506" y="198"/>
                </a:lnTo>
                <a:lnTo>
                  <a:pt x="506" y="208"/>
                </a:lnTo>
                <a:lnTo>
                  <a:pt x="506" y="219"/>
                </a:lnTo>
                <a:lnTo>
                  <a:pt x="504" y="233"/>
                </a:lnTo>
                <a:lnTo>
                  <a:pt x="504" y="246"/>
                </a:lnTo>
                <a:lnTo>
                  <a:pt x="504" y="259"/>
                </a:lnTo>
                <a:lnTo>
                  <a:pt x="502" y="275"/>
                </a:lnTo>
                <a:lnTo>
                  <a:pt x="501" y="292"/>
                </a:lnTo>
                <a:lnTo>
                  <a:pt x="501" y="309"/>
                </a:lnTo>
                <a:lnTo>
                  <a:pt x="499" y="329"/>
                </a:lnTo>
                <a:lnTo>
                  <a:pt x="497" y="350"/>
                </a:lnTo>
                <a:lnTo>
                  <a:pt x="495" y="371"/>
                </a:lnTo>
                <a:lnTo>
                  <a:pt x="491" y="415"/>
                </a:lnTo>
                <a:lnTo>
                  <a:pt x="487" y="459"/>
                </a:lnTo>
                <a:lnTo>
                  <a:pt x="483" y="503"/>
                </a:lnTo>
                <a:lnTo>
                  <a:pt x="479" y="549"/>
                </a:lnTo>
                <a:lnTo>
                  <a:pt x="479" y="595"/>
                </a:lnTo>
                <a:lnTo>
                  <a:pt x="478" y="641"/>
                </a:lnTo>
                <a:lnTo>
                  <a:pt x="479" y="664"/>
                </a:lnTo>
                <a:lnTo>
                  <a:pt x="479" y="689"/>
                </a:lnTo>
                <a:lnTo>
                  <a:pt x="481" y="712"/>
                </a:lnTo>
                <a:lnTo>
                  <a:pt x="483" y="737"/>
                </a:lnTo>
                <a:lnTo>
                  <a:pt x="483" y="749"/>
                </a:lnTo>
                <a:lnTo>
                  <a:pt x="485" y="762"/>
                </a:lnTo>
                <a:lnTo>
                  <a:pt x="485" y="778"/>
                </a:lnTo>
                <a:lnTo>
                  <a:pt x="487" y="793"/>
                </a:lnTo>
                <a:lnTo>
                  <a:pt x="489" y="808"/>
                </a:lnTo>
                <a:lnTo>
                  <a:pt x="489" y="826"/>
                </a:lnTo>
                <a:lnTo>
                  <a:pt x="491" y="843"/>
                </a:lnTo>
                <a:lnTo>
                  <a:pt x="491" y="862"/>
                </a:lnTo>
                <a:lnTo>
                  <a:pt x="493" y="881"/>
                </a:lnTo>
                <a:lnTo>
                  <a:pt x="495" y="903"/>
                </a:lnTo>
                <a:lnTo>
                  <a:pt x="495" y="924"/>
                </a:lnTo>
                <a:lnTo>
                  <a:pt x="497" y="945"/>
                </a:lnTo>
                <a:lnTo>
                  <a:pt x="497" y="968"/>
                </a:lnTo>
                <a:lnTo>
                  <a:pt x="499" y="991"/>
                </a:lnTo>
                <a:lnTo>
                  <a:pt x="499" y="1016"/>
                </a:lnTo>
                <a:lnTo>
                  <a:pt x="501" y="1041"/>
                </a:lnTo>
                <a:lnTo>
                  <a:pt x="502" y="1068"/>
                </a:lnTo>
                <a:lnTo>
                  <a:pt x="502" y="1094"/>
                </a:lnTo>
                <a:lnTo>
                  <a:pt x="504" y="1121"/>
                </a:lnTo>
                <a:lnTo>
                  <a:pt x="504" y="1150"/>
                </a:lnTo>
                <a:lnTo>
                  <a:pt x="506" y="1181"/>
                </a:lnTo>
                <a:lnTo>
                  <a:pt x="508" y="1212"/>
                </a:lnTo>
                <a:lnTo>
                  <a:pt x="508" y="1242"/>
                </a:lnTo>
                <a:lnTo>
                  <a:pt x="510" y="1275"/>
                </a:lnTo>
                <a:lnTo>
                  <a:pt x="510" y="1308"/>
                </a:lnTo>
                <a:lnTo>
                  <a:pt x="512" y="1340"/>
                </a:lnTo>
                <a:lnTo>
                  <a:pt x="512" y="1375"/>
                </a:lnTo>
                <a:lnTo>
                  <a:pt x="514" y="1411"/>
                </a:lnTo>
                <a:lnTo>
                  <a:pt x="516" y="1448"/>
                </a:lnTo>
                <a:lnTo>
                  <a:pt x="516" y="1484"/>
                </a:lnTo>
                <a:lnTo>
                  <a:pt x="518" y="1522"/>
                </a:lnTo>
                <a:lnTo>
                  <a:pt x="518" y="1561"/>
                </a:lnTo>
                <a:lnTo>
                  <a:pt x="520" y="1599"/>
                </a:lnTo>
                <a:lnTo>
                  <a:pt x="520" y="1638"/>
                </a:lnTo>
                <a:lnTo>
                  <a:pt x="522" y="1674"/>
                </a:lnTo>
                <a:lnTo>
                  <a:pt x="524" y="1711"/>
                </a:lnTo>
                <a:lnTo>
                  <a:pt x="524" y="1747"/>
                </a:lnTo>
                <a:lnTo>
                  <a:pt x="525" y="1782"/>
                </a:lnTo>
                <a:lnTo>
                  <a:pt x="525" y="1814"/>
                </a:lnTo>
                <a:lnTo>
                  <a:pt x="527" y="1847"/>
                </a:lnTo>
                <a:lnTo>
                  <a:pt x="527" y="1880"/>
                </a:lnTo>
                <a:lnTo>
                  <a:pt x="529" y="1910"/>
                </a:lnTo>
                <a:lnTo>
                  <a:pt x="529" y="1941"/>
                </a:lnTo>
                <a:lnTo>
                  <a:pt x="531" y="1970"/>
                </a:lnTo>
                <a:lnTo>
                  <a:pt x="531" y="1999"/>
                </a:lnTo>
                <a:lnTo>
                  <a:pt x="533" y="2025"/>
                </a:lnTo>
                <a:lnTo>
                  <a:pt x="533" y="2052"/>
                </a:lnTo>
                <a:lnTo>
                  <a:pt x="535" y="2079"/>
                </a:lnTo>
                <a:lnTo>
                  <a:pt x="535" y="2104"/>
                </a:lnTo>
                <a:lnTo>
                  <a:pt x="535" y="2127"/>
                </a:lnTo>
                <a:lnTo>
                  <a:pt x="537" y="2152"/>
                </a:lnTo>
                <a:lnTo>
                  <a:pt x="537" y="2173"/>
                </a:lnTo>
                <a:lnTo>
                  <a:pt x="539" y="2194"/>
                </a:lnTo>
                <a:lnTo>
                  <a:pt x="539" y="2215"/>
                </a:lnTo>
                <a:lnTo>
                  <a:pt x="539" y="2235"/>
                </a:lnTo>
                <a:lnTo>
                  <a:pt x="539" y="2254"/>
                </a:lnTo>
                <a:lnTo>
                  <a:pt x="541" y="2271"/>
                </a:lnTo>
                <a:lnTo>
                  <a:pt x="541" y="2288"/>
                </a:lnTo>
                <a:lnTo>
                  <a:pt x="541" y="2306"/>
                </a:lnTo>
                <a:lnTo>
                  <a:pt x="541" y="2319"/>
                </a:lnTo>
                <a:lnTo>
                  <a:pt x="541" y="2334"/>
                </a:lnTo>
                <a:lnTo>
                  <a:pt x="541" y="2348"/>
                </a:lnTo>
                <a:lnTo>
                  <a:pt x="543" y="2359"/>
                </a:lnTo>
                <a:lnTo>
                  <a:pt x="543" y="2371"/>
                </a:lnTo>
                <a:lnTo>
                  <a:pt x="537" y="2419"/>
                </a:lnTo>
                <a:lnTo>
                  <a:pt x="531" y="2467"/>
                </a:lnTo>
                <a:lnTo>
                  <a:pt x="524" y="2513"/>
                </a:lnTo>
                <a:lnTo>
                  <a:pt x="516" y="2557"/>
                </a:lnTo>
                <a:lnTo>
                  <a:pt x="506" y="2601"/>
                </a:lnTo>
                <a:lnTo>
                  <a:pt x="495" y="2643"/>
                </a:lnTo>
                <a:lnTo>
                  <a:pt x="483" y="2684"/>
                </a:lnTo>
                <a:lnTo>
                  <a:pt x="472" y="2724"/>
                </a:lnTo>
                <a:lnTo>
                  <a:pt x="462" y="2741"/>
                </a:lnTo>
                <a:lnTo>
                  <a:pt x="454" y="2757"/>
                </a:lnTo>
                <a:lnTo>
                  <a:pt x="447" y="2772"/>
                </a:lnTo>
                <a:lnTo>
                  <a:pt x="437" y="2786"/>
                </a:lnTo>
                <a:lnTo>
                  <a:pt x="430" y="2799"/>
                </a:lnTo>
                <a:lnTo>
                  <a:pt x="422" y="2810"/>
                </a:lnTo>
                <a:lnTo>
                  <a:pt x="416" y="2820"/>
                </a:lnTo>
                <a:lnTo>
                  <a:pt x="408" y="2832"/>
                </a:lnTo>
                <a:lnTo>
                  <a:pt x="401" y="2839"/>
                </a:lnTo>
                <a:lnTo>
                  <a:pt x="393" y="2847"/>
                </a:lnTo>
                <a:lnTo>
                  <a:pt x="387" y="2853"/>
                </a:lnTo>
                <a:lnTo>
                  <a:pt x="380" y="2858"/>
                </a:lnTo>
                <a:lnTo>
                  <a:pt x="374" y="2862"/>
                </a:lnTo>
                <a:lnTo>
                  <a:pt x="366" y="2866"/>
                </a:lnTo>
                <a:lnTo>
                  <a:pt x="360" y="2868"/>
                </a:lnTo>
                <a:lnTo>
                  <a:pt x="353" y="28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5"/>
          <p:cNvSpPr/>
          <p:nvPr/>
        </p:nvSpPr>
        <p:spPr>
          <a:xfrm>
            <a:off x="6662880" y="3382920"/>
            <a:ext cx="1206360" cy="301680"/>
          </a:xfrm>
          <a:custGeom>
            <a:avLst/>
            <a:gdLst/>
            <a:ahLst/>
            <a:rect l="l" t="t" r="r" b="b"/>
            <a:pathLst>
              <a:path w="1518" h="380">
                <a:moveTo>
                  <a:pt x="55" y="327"/>
                </a:moveTo>
                <a:lnTo>
                  <a:pt x="44" y="321"/>
                </a:lnTo>
                <a:lnTo>
                  <a:pt x="34" y="313"/>
                </a:lnTo>
                <a:lnTo>
                  <a:pt x="27" y="307"/>
                </a:lnTo>
                <a:lnTo>
                  <a:pt x="19" y="302"/>
                </a:lnTo>
                <a:lnTo>
                  <a:pt x="13" y="298"/>
                </a:lnTo>
                <a:lnTo>
                  <a:pt x="9" y="292"/>
                </a:lnTo>
                <a:lnTo>
                  <a:pt x="6" y="288"/>
                </a:lnTo>
                <a:lnTo>
                  <a:pt x="2" y="284"/>
                </a:lnTo>
                <a:lnTo>
                  <a:pt x="0" y="281"/>
                </a:lnTo>
                <a:lnTo>
                  <a:pt x="0" y="279"/>
                </a:lnTo>
                <a:lnTo>
                  <a:pt x="0" y="275"/>
                </a:lnTo>
                <a:lnTo>
                  <a:pt x="2" y="273"/>
                </a:lnTo>
                <a:lnTo>
                  <a:pt x="6" y="269"/>
                </a:lnTo>
                <a:lnTo>
                  <a:pt x="9" y="267"/>
                </a:lnTo>
                <a:lnTo>
                  <a:pt x="13" y="265"/>
                </a:lnTo>
                <a:lnTo>
                  <a:pt x="21" y="261"/>
                </a:lnTo>
                <a:lnTo>
                  <a:pt x="25" y="259"/>
                </a:lnTo>
                <a:lnTo>
                  <a:pt x="32" y="257"/>
                </a:lnTo>
                <a:lnTo>
                  <a:pt x="40" y="254"/>
                </a:lnTo>
                <a:lnTo>
                  <a:pt x="52" y="252"/>
                </a:lnTo>
                <a:lnTo>
                  <a:pt x="63" y="248"/>
                </a:lnTo>
                <a:lnTo>
                  <a:pt x="77" y="246"/>
                </a:lnTo>
                <a:lnTo>
                  <a:pt x="92" y="242"/>
                </a:lnTo>
                <a:lnTo>
                  <a:pt x="109" y="238"/>
                </a:lnTo>
                <a:lnTo>
                  <a:pt x="126" y="234"/>
                </a:lnTo>
                <a:lnTo>
                  <a:pt x="148" y="231"/>
                </a:lnTo>
                <a:lnTo>
                  <a:pt x="169" y="227"/>
                </a:lnTo>
                <a:lnTo>
                  <a:pt x="192" y="221"/>
                </a:lnTo>
                <a:lnTo>
                  <a:pt x="217" y="217"/>
                </a:lnTo>
                <a:lnTo>
                  <a:pt x="244" y="209"/>
                </a:lnTo>
                <a:lnTo>
                  <a:pt x="272" y="204"/>
                </a:lnTo>
                <a:lnTo>
                  <a:pt x="303" y="196"/>
                </a:lnTo>
                <a:lnTo>
                  <a:pt x="332" y="192"/>
                </a:lnTo>
                <a:lnTo>
                  <a:pt x="363" y="186"/>
                </a:lnTo>
                <a:lnTo>
                  <a:pt x="393" y="181"/>
                </a:lnTo>
                <a:lnTo>
                  <a:pt x="426" y="175"/>
                </a:lnTo>
                <a:lnTo>
                  <a:pt x="460" y="167"/>
                </a:lnTo>
                <a:lnTo>
                  <a:pt x="495" y="161"/>
                </a:lnTo>
                <a:lnTo>
                  <a:pt x="530" y="156"/>
                </a:lnTo>
                <a:lnTo>
                  <a:pt x="566" y="148"/>
                </a:lnTo>
                <a:lnTo>
                  <a:pt x="604" y="140"/>
                </a:lnTo>
                <a:lnTo>
                  <a:pt x="643" y="133"/>
                </a:lnTo>
                <a:lnTo>
                  <a:pt x="681" y="125"/>
                </a:lnTo>
                <a:lnTo>
                  <a:pt x="721" y="115"/>
                </a:lnTo>
                <a:lnTo>
                  <a:pt x="764" y="108"/>
                </a:lnTo>
                <a:lnTo>
                  <a:pt x="806" y="98"/>
                </a:lnTo>
                <a:lnTo>
                  <a:pt x="848" y="89"/>
                </a:lnTo>
                <a:lnTo>
                  <a:pt x="892" y="79"/>
                </a:lnTo>
                <a:lnTo>
                  <a:pt x="913" y="73"/>
                </a:lnTo>
                <a:lnTo>
                  <a:pt x="933" y="69"/>
                </a:lnTo>
                <a:lnTo>
                  <a:pt x="954" y="66"/>
                </a:lnTo>
                <a:lnTo>
                  <a:pt x="973" y="60"/>
                </a:lnTo>
                <a:lnTo>
                  <a:pt x="992" y="56"/>
                </a:lnTo>
                <a:lnTo>
                  <a:pt x="1009" y="52"/>
                </a:lnTo>
                <a:lnTo>
                  <a:pt x="1027" y="48"/>
                </a:lnTo>
                <a:lnTo>
                  <a:pt x="1046" y="44"/>
                </a:lnTo>
                <a:lnTo>
                  <a:pt x="1061" y="41"/>
                </a:lnTo>
                <a:lnTo>
                  <a:pt x="1078" y="37"/>
                </a:lnTo>
                <a:lnTo>
                  <a:pt x="1094" y="33"/>
                </a:lnTo>
                <a:lnTo>
                  <a:pt x="1109" y="31"/>
                </a:lnTo>
                <a:lnTo>
                  <a:pt x="1125" y="27"/>
                </a:lnTo>
                <a:lnTo>
                  <a:pt x="1140" y="25"/>
                </a:lnTo>
                <a:lnTo>
                  <a:pt x="1153" y="21"/>
                </a:lnTo>
                <a:lnTo>
                  <a:pt x="1167" y="19"/>
                </a:lnTo>
                <a:lnTo>
                  <a:pt x="1180" y="18"/>
                </a:lnTo>
                <a:lnTo>
                  <a:pt x="1192" y="16"/>
                </a:lnTo>
                <a:lnTo>
                  <a:pt x="1205" y="14"/>
                </a:lnTo>
                <a:lnTo>
                  <a:pt x="1217" y="12"/>
                </a:lnTo>
                <a:lnTo>
                  <a:pt x="1226" y="10"/>
                </a:lnTo>
                <a:lnTo>
                  <a:pt x="1238" y="8"/>
                </a:lnTo>
                <a:lnTo>
                  <a:pt x="1247" y="6"/>
                </a:lnTo>
                <a:lnTo>
                  <a:pt x="1257" y="6"/>
                </a:lnTo>
                <a:lnTo>
                  <a:pt x="1267" y="4"/>
                </a:lnTo>
                <a:lnTo>
                  <a:pt x="1274" y="2"/>
                </a:lnTo>
                <a:lnTo>
                  <a:pt x="1284" y="2"/>
                </a:lnTo>
                <a:lnTo>
                  <a:pt x="1292" y="2"/>
                </a:lnTo>
                <a:lnTo>
                  <a:pt x="1297" y="0"/>
                </a:lnTo>
                <a:lnTo>
                  <a:pt x="1305" y="0"/>
                </a:lnTo>
                <a:lnTo>
                  <a:pt x="1311" y="0"/>
                </a:lnTo>
                <a:lnTo>
                  <a:pt x="1317" y="0"/>
                </a:lnTo>
                <a:lnTo>
                  <a:pt x="1334" y="0"/>
                </a:lnTo>
                <a:lnTo>
                  <a:pt x="1353" y="2"/>
                </a:lnTo>
                <a:lnTo>
                  <a:pt x="1370" y="6"/>
                </a:lnTo>
                <a:lnTo>
                  <a:pt x="1388" y="12"/>
                </a:lnTo>
                <a:lnTo>
                  <a:pt x="1397" y="16"/>
                </a:lnTo>
                <a:lnTo>
                  <a:pt x="1405" y="19"/>
                </a:lnTo>
                <a:lnTo>
                  <a:pt x="1414" y="23"/>
                </a:lnTo>
                <a:lnTo>
                  <a:pt x="1424" y="27"/>
                </a:lnTo>
                <a:lnTo>
                  <a:pt x="1432" y="33"/>
                </a:lnTo>
                <a:lnTo>
                  <a:pt x="1441" y="39"/>
                </a:lnTo>
                <a:lnTo>
                  <a:pt x="1449" y="46"/>
                </a:lnTo>
                <a:lnTo>
                  <a:pt x="1459" y="52"/>
                </a:lnTo>
                <a:lnTo>
                  <a:pt x="1472" y="67"/>
                </a:lnTo>
                <a:lnTo>
                  <a:pt x="1483" y="79"/>
                </a:lnTo>
                <a:lnTo>
                  <a:pt x="1493" y="92"/>
                </a:lnTo>
                <a:lnTo>
                  <a:pt x="1501" y="102"/>
                </a:lnTo>
                <a:lnTo>
                  <a:pt x="1508" y="112"/>
                </a:lnTo>
                <a:lnTo>
                  <a:pt x="1510" y="115"/>
                </a:lnTo>
                <a:lnTo>
                  <a:pt x="1514" y="119"/>
                </a:lnTo>
                <a:lnTo>
                  <a:pt x="1514" y="123"/>
                </a:lnTo>
                <a:lnTo>
                  <a:pt x="1516" y="125"/>
                </a:lnTo>
                <a:lnTo>
                  <a:pt x="1518" y="129"/>
                </a:lnTo>
                <a:lnTo>
                  <a:pt x="1518" y="131"/>
                </a:lnTo>
                <a:lnTo>
                  <a:pt x="1516" y="140"/>
                </a:lnTo>
                <a:lnTo>
                  <a:pt x="1516" y="148"/>
                </a:lnTo>
                <a:lnTo>
                  <a:pt x="1512" y="156"/>
                </a:lnTo>
                <a:lnTo>
                  <a:pt x="1507" y="161"/>
                </a:lnTo>
                <a:lnTo>
                  <a:pt x="1501" y="167"/>
                </a:lnTo>
                <a:lnTo>
                  <a:pt x="1497" y="171"/>
                </a:lnTo>
                <a:lnTo>
                  <a:pt x="1493" y="173"/>
                </a:lnTo>
                <a:lnTo>
                  <a:pt x="1487" y="177"/>
                </a:lnTo>
                <a:lnTo>
                  <a:pt x="1482" y="179"/>
                </a:lnTo>
                <a:lnTo>
                  <a:pt x="1476" y="181"/>
                </a:lnTo>
                <a:lnTo>
                  <a:pt x="1470" y="185"/>
                </a:lnTo>
                <a:lnTo>
                  <a:pt x="1462" y="186"/>
                </a:lnTo>
                <a:lnTo>
                  <a:pt x="1457" y="188"/>
                </a:lnTo>
                <a:lnTo>
                  <a:pt x="1447" y="190"/>
                </a:lnTo>
                <a:lnTo>
                  <a:pt x="1439" y="192"/>
                </a:lnTo>
                <a:lnTo>
                  <a:pt x="1430" y="196"/>
                </a:lnTo>
                <a:lnTo>
                  <a:pt x="1420" y="198"/>
                </a:lnTo>
                <a:lnTo>
                  <a:pt x="1409" y="200"/>
                </a:lnTo>
                <a:lnTo>
                  <a:pt x="1397" y="202"/>
                </a:lnTo>
                <a:lnTo>
                  <a:pt x="1384" y="204"/>
                </a:lnTo>
                <a:lnTo>
                  <a:pt x="1370" y="206"/>
                </a:lnTo>
                <a:lnTo>
                  <a:pt x="1357" y="206"/>
                </a:lnTo>
                <a:lnTo>
                  <a:pt x="1341" y="208"/>
                </a:lnTo>
                <a:lnTo>
                  <a:pt x="1324" y="208"/>
                </a:lnTo>
                <a:lnTo>
                  <a:pt x="1307" y="209"/>
                </a:lnTo>
                <a:lnTo>
                  <a:pt x="1290" y="209"/>
                </a:lnTo>
                <a:lnTo>
                  <a:pt x="1270" y="209"/>
                </a:lnTo>
                <a:lnTo>
                  <a:pt x="1249" y="209"/>
                </a:lnTo>
                <a:lnTo>
                  <a:pt x="1228" y="209"/>
                </a:lnTo>
                <a:lnTo>
                  <a:pt x="1205" y="211"/>
                </a:lnTo>
                <a:lnTo>
                  <a:pt x="1182" y="211"/>
                </a:lnTo>
                <a:lnTo>
                  <a:pt x="1157" y="213"/>
                </a:lnTo>
                <a:lnTo>
                  <a:pt x="1132" y="215"/>
                </a:lnTo>
                <a:lnTo>
                  <a:pt x="1105" y="217"/>
                </a:lnTo>
                <a:lnTo>
                  <a:pt x="1078" y="219"/>
                </a:lnTo>
                <a:lnTo>
                  <a:pt x="1050" y="221"/>
                </a:lnTo>
                <a:lnTo>
                  <a:pt x="1021" y="225"/>
                </a:lnTo>
                <a:lnTo>
                  <a:pt x="992" y="229"/>
                </a:lnTo>
                <a:lnTo>
                  <a:pt x="961" y="231"/>
                </a:lnTo>
                <a:lnTo>
                  <a:pt x="931" y="234"/>
                </a:lnTo>
                <a:lnTo>
                  <a:pt x="898" y="240"/>
                </a:lnTo>
                <a:lnTo>
                  <a:pt x="865" y="244"/>
                </a:lnTo>
                <a:lnTo>
                  <a:pt x="833" y="250"/>
                </a:lnTo>
                <a:lnTo>
                  <a:pt x="800" y="254"/>
                </a:lnTo>
                <a:lnTo>
                  <a:pt x="768" y="259"/>
                </a:lnTo>
                <a:lnTo>
                  <a:pt x="737" y="263"/>
                </a:lnTo>
                <a:lnTo>
                  <a:pt x="706" y="269"/>
                </a:lnTo>
                <a:lnTo>
                  <a:pt x="675" y="273"/>
                </a:lnTo>
                <a:lnTo>
                  <a:pt x="645" y="279"/>
                </a:lnTo>
                <a:lnTo>
                  <a:pt x="616" y="282"/>
                </a:lnTo>
                <a:lnTo>
                  <a:pt x="587" y="288"/>
                </a:lnTo>
                <a:lnTo>
                  <a:pt x="560" y="292"/>
                </a:lnTo>
                <a:lnTo>
                  <a:pt x="531" y="298"/>
                </a:lnTo>
                <a:lnTo>
                  <a:pt x="506" y="302"/>
                </a:lnTo>
                <a:lnTo>
                  <a:pt x="480" y="307"/>
                </a:lnTo>
                <a:lnTo>
                  <a:pt x="455" y="313"/>
                </a:lnTo>
                <a:lnTo>
                  <a:pt x="432" y="317"/>
                </a:lnTo>
                <a:lnTo>
                  <a:pt x="409" y="323"/>
                </a:lnTo>
                <a:lnTo>
                  <a:pt x="386" y="327"/>
                </a:lnTo>
                <a:lnTo>
                  <a:pt x="363" y="334"/>
                </a:lnTo>
                <a:lnTo>
                  <a:pt x="339" y="340"/>
                </a:lnTo>
                <a:lnTo>
                  <a:pt x="318" y="348"/>
                </a:lnTo>
                <a:lnTo>
                  <a:pt x="299" y="352"/>
                </a:lnTo>
                <a:lnTo>
                  <a:pt x="282" y="357"/>
                </a:lnTo>
                <a:lnTo>
                  <a:pt x="265" y="361"/>
                </a:lnTo>
                <a:lnTo>
                  <a:pt x="249" y="365"/>
                </a:lnTo>
                <a:lnTo>
                  <a:pt x="236" y="369"/>
                </a:lnTo>
                <a:lnTo>
                  <a:pt x="222" y="371"/>
                </a:lnTo>
                <a:lnTo>
                  <a:pt x="211" y="373"/>
                </a:lnTo>
                <a:lnTo>
                  <a:pt x="201" y="375"/>
                </a:lnTo>
                <a:lnTo>
                  <a:pt x="194" y="376"/>
                </a:lnTo>
                <a:lnTo>
                  <a:pt x="186" y="378"/>
                </a:lnTo>
                <a:lnTo>
                  <a:pt x="180" y="378"/>
                </a:lnTo>
                <a:lnTo>
                  <a:pt x="176" y="378"/>
                </a:lnTo>
                <a:lnTo>
                  <a:pt x="172" y="380"/>
                </a:lnTo>
                <a:lnTo>
                  <a:pt x="163" y="378"/>
                </a:lnTo>
                <a:lnTo>
                  <a:pt x="153" y="376"/>
                </a:lnTo>
                <a:lnTo>
                  <a:pt x="142" y="373"/>
                </a:lnTo>
                <a:lnTo>
                  <a:pt x="126" y="369"/>
                </a:lnTo>
                <a:lnTo>
                  <a:pt x="121" y="365"/>
                </a:lnTo>
                <a:lnTo>
                  <a:pt x="113" y="361"/>
                </a:lnTo>
                <a:lnTo>
                  <a:pt x="103" y="357"/>
                </a:lnTo>
                <a:lnTo>
                  <a:pt x="96" y="352"/>
                </a:lnTo>
                <a:lnTo>
                  <a:pt x="86" y="346"/>
                </a:lnTo>
                <a:lnTo>
                  <a:pt x="77" y="340"/>
                </a:lnTo>
                <a:lnTo>
                  <a:pt x="65" y="334"/>
                </a:lnTo>
                <a:lnTo>
                  <a:pt x="55" y="3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76"/>
          <p:cNvSpPr/>
          <p:nvPr/>
        </p:nvSpPr>
        <p:spPr>
          <a:xfrm>
            <a:off x="6296040" y="3933720"/>
            <a:ext cx="298440" cy="311400"/>
          </a:xfrm>
          <a:custGeom>
            <a:avLst/>
            <a:gdLst/>
            <a:ahLst/>
            <a:rect l="l" t="t" r="r" b="b"/>
            <a:pathLst>
              <a:path w="376" h="394">
                <a:moveTo>
                  <a:pt x="305" y="131"/>
                </a:moveTo>
                <a:lnTo>
                  <a:pt x="315" y="138"/>
                </a:lnTo>
                <a:lnTo>
                  <a:pt x="323" y="146"/>
                </a:lnTo>
                <a:lnTo>
                  <a:pt x="330" y="154"/>
                </a:lnTo>
                <a:lnTo>
                  <a:pt x="336" y="161"/>
                </a:lnTo>
                <a:lnTo>
                  <a:pt x="344" y="169"/>
                </a:lnTo>
                <a:lnTo>
                  <a:pt x="349" y="177"/>
                </a:lnTo>
                <a:lnTo>
                  <a:pt x="353" y="184"/>
                </a:lnTo>
                <a:lnTo>
                  <a:pt x="359" y="194"/>
                </a:lnTo>
                <a:lnTo>
                  <a:pt x="363" y="202"/>
                </a:lnTo>
                <a:lnTo>
                  <a:pt x="367" y="211"/>
                </a:lnTo>
                <a:lnTo>
                  <a:pt x="371" y="221"/>
                </a:lnTo>
                <a:lnTo>
                  <a:pt x="373" y="231"/>
                </a:lnTo>
                <a:lnTo>
                  <a:pt x="374" y="240"/>
                </a:lnTo>
                <a:lnTo>
                  <a:pt x="376" y="252"/>
                </a:lnTo>
                <a:lnTo>
                  <a:pt x="376" y="263"/>
                </a:lnTo>
                <a:lnTo>
                  <a:pt x="376" y="275"/>
                </a:lnTo>
                <a:lnTo>
                  <a:pt x="376" y="286"/>
                </a:lnTo>
                <a:lnTo>
                  <a:pt x="376" y="298"/>
                </a:lnTo>
                <a:lnTo>
                  <a:pt x="376" y="309"/>
                </a:lnTo>
                <a:lnTo>
                  <a:pt x="376" y="319"/>
                </a:lnTo>
                <a:lnTo>
                  <a:pt x="376" y="328"/>
                </a:lnTo>
                <a:lnTo>
                  <a:pt x="376" y="338"/>
                </a:lnTo>
                <a:lnTo>
                  <a:pt x="376" y="346"/>
                </a:lnTo>
                <a:lnTo>
                  <a:pt x="374" y="353"/>
                </a:lnTo>
                <a:lnTo>
                  <a:pt x="374" y="361"/>
                </a:lnTo>
                <a:lnTo>
                  <a:pt x="374" y="367"/>
                </a:lnTo>
                <a:lnTo>
                  <a:pt x="373" y="373"/>
                </a:lnTo>
                <a:lnTo>
                  <a:pt x="373" y="378"/>
                </a:lnTo>
                <a:lnTo>
                  <a:pt x="371" y="382"/>
                </a:lnTo>
                <a:lnTo>
                  <a:pt x="369" y="386"/>
                </a:lnTo>
                <a:lnTo>
                  <a:pt x="367" y="390"/>
                </a:lnTo>
                <a:lnTo>
                  <a:pt x="365" y="394"/>
                </a:lnTo>
                <a:lnTo>
                  <a:pt x="363" y="394"/>
                </a:lnTo>
                <a:lnTo>
                  <a:pt x="357" y="394"/>
                </a:lnTo>
                <a:lnTo>
                  <a:pt x="351" y="394"/>
                </a:lnTo>
                <a:lnTo>
                  <a:pt x="346" y="390"/>
                </a:lnTo>
                <a:lnTo>
                  <a:pt x="338" y="386"/>
                </a:lnTo>
                <a:lnTo>
                  <a:pt x="328" y="380"/>
                </a:lnTo>
                <a:lnTo>
                  <a:pt x="317" y="373"/>
                </a:lnTo>
                <a:lnTo>
                  <a:pt x="305" y="363"/>
                </a:lnTo>
                <a:lnTo>
                  <a:pt x="292" y="353"/>
                </a:lnTo>
                <a:lnTo>
                  <a:pt x="278" y="342"/>
                </a:lnTo>
                <a:lnTo>
                  <a:pt x="263" y="326"/>
                </a:lnTo>
                <a:lnTo>
                  <a:pt x="248" y="313"/>
                </a:lnTo>
                <a:lnTo>
                  <a:pt x="232" y="296"/>
                </a:lnTo>
                <a:lnTo>
                  <a:pt x="213" y="277"/>
                </a:lnTo>
                <a:lnTo>
                  <a:pt x="196" y="257"/>
                </a:lnTo>
                <a:lnTo>
                  <a:pt x="177" y="236"/>
                </a:lnTo>
                <a:lnTo>
                  <a:pt x="156" y="213"/>
                </a:lnTo>
                <a:lnTo>
                  <a:pt x="135" y="194"/>
                </a:lnTo>
                <a:lnTo>
                  <a:pt x="117" y="173"/>
                </a:lnTo>
                <a:lnTo>
                  <a:pt x="100" y="154"/>
                </a:lnTo>
                <a:lnTo>
                  <a:pt x="83" y="136"/>
                </a:lnTo>
                <a:lnTo>
                  <a:pt x="69" y="119"/>
                </a:lnTo>
                <a:lnTo>
                  <a:pt x="56" y="104"/>
                </a:lnTo>
                <a:lnTo>
                  <a:pt x="44" y="88"/>
                </a:lnTo>
                <a:lnTo>
                  <a:pt x="33" y="73"/>
                </a:lnTo>
                <a:lnTo>
                  <a:pt x="25" y="62"/>
                </a:lnTo>
                <a:lnTo>
                  <a:pt x="17" y="48"/>
                </a:lnTo>
                <a:lnTo>
                  <a:pt x="10" y="37"/>
                </a:lnTo>
                <a:lnTo>
                  <a:pt x="6" y="27"/>
                </a:lnTo>
                <a:lnTo>
                  <a:pt x="2" y="17"/>
                </a:lnTo>
                <a:lnTo>
                  <a:pt x="0" y="8"/>
                </a:lnTo>
                <a:lnTo>
                  <a:pt x="0" y="0"/>
                </a:lnTo>
                <a:lnTo>
                  <a:pt x="27" y="10"/>
                </a:lnTo>
                <a:lnTo>
                  <a:pt x="54" y="19"/>
                </a:lnTo>
                <a:lnTo>
                  <a:pt x="81" y="29"/>
                </a:lnTo>
                <a:lnTo>
                  <a:pt x="106" y="37"/>
                </a:lnTo>
                <a:lnTo>
                  <a:pt x="129" y="46"/>
                </a:lnTo>
                <a:lnTo>
                  <a:pt x="152" y="54"/>
                </a:lnTo>
                <a:lnTo>
                  <a:pt x="173" y="64"/>
                </a:lnTo>
                <a:lnTo>
                  <a:pt x="192" y="71"/>
                </a:lnTo>
                <a:lnTo>
                  <a:pt x="211" y="79"/>
                </a:lnTo>
                <a:lnTo>
                  <a:pt x="229" y="87"/>
                </a:lnTo>
                <a:lnTo>
                  <a:pt x="246" y="94"/>
                </a:lnTo>
                <a:lnTo>
                  <a:pt x="259" y="102"/>
                </a:lnTo>
                <a:lnTo>
                  <a:pt x="273" y="110"/>
                </a:lnTo>
                <a:lnTo>
                  <a:pt x="286" y="117"/>
                </a:lnTo>
                <a:lnTo>
                  <a:pt x="296" y="123"/>
                </a:lnTo>
                <a:lnTo>
                  <a:pt x="305" y="1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77"/>
          <p:cNvSpPr/>
          <p:nvPr/>
        </p:nvSpPr>
        <p:spPr>
          <a:xfrm>
            <a:off x="6386400" y="3675240"/>
            <a:ext cx="258840" cy="333360"/>
          </a:xfrm>
          <a:custGeom>
            <a:avLst/>
            <a:gdLst/>
            <a:ahLst/>
            <a:rect l="l" t="t" r="r" b="b"/>
            <a:pathLst>
              <a:path w="327" h="418">
                <a:moveTo>
                  <a:pt x="146" y="11"/>
                </a:moveTo>
                <a:lnTo>
                  <a:pt x="150" y="6"/>
                </a:lnTo>
                <a:lnTo>
                  <a:pt x="156" y="4"/>
                </a:lnTo>
                <a:lnTo>
                  <a:pt x="164" y="2"/>
                </a:lnTo>
                <a:lnTo>
                  <a:pt x="173" y="0"/>
                </a:lnTo>
                <a:lnTo>
                  <a:pt x="181" y="2"/>
                </a:lnTo>
                <a:lnTo>
                  <a:pt x="192" y="4"/>
                </a:lnTo>
                <a:lnTo>
                  <a:pt x="204" y="6"/>
                </a:lnTo>
                <a:lnTo>
                  <a:pt x="217" y="11"/>
                </a:lnTo>
                <a:lnTo>
                  <a:pt x="229" y="15"/>
                </a:lnTo>
                <a:lnTo>
                  <a:pt x="240" y="23"/>
                </a:lnTo>
                <a:lnTo>
                  <a:pt x="252" y="31"/>
                </a:lnTo>
                <a:lnTo>
                  <a:pt x="261" y="38"/>
                </a:lnTo>
                <a:lnTo>
                  <a:pt x="273" y="48"/>
                </a:lnTo>
                <a:lnTo>
                  <a:pt x="281" y="57"/>
                </a:lnTo>
                <a:lnTo>
                  <a:pt x="300" y="77"/>
                </a:lnTo>
                <a:lnTo>
                  <a:pt x="308" y="90"/>
                </a:lnTo>
                <a:lnTo>
                  <a:pt x="313" y="103"/>
                </a:lnTo>
                <a:lnTo>
                  <a:pt x="319" y="115"/>
                </a:lnTo>
                <a:lnTo>
                  <a:pt x="325" y="126"/>
                </a:lnTo>
                <a:lnTo>
                  <a:pt x="327" y="138"/>
                </a:lnTo>
                <a:lnTo>
                  <a:pt x="327" y="142"/>
                </a:lnTo>
                <a:lnTo>
                  <a:pt x="327" y="148"/>
                </a:lnTo>
                <a:lnTo>
                  <a:pt x="327" y="153"/>
                </a:lnTo>
                <a:lnTo>
                  <a:pt x="327" y="157"/>
                </a:lnTo>
                <a:lnTo>
                  <a:pt x="325" y="163"/>
                </a:lnTo>
                <a:lnTo>
                  <a:pt x="323" y="167"/>
                </a:lnTo>
                <a:lnTo>
                  <a:pt x="319" y="174"/>
                </a:lnTo>
                <a:lnTo>
                  <a:pt x="317" y="182"/>
                </a:lnTo>
                <a:lnTo>
                  <a:pt x="311" y="190"/>
                </a:lnTo>
                <a:lnTo>
                  <a:pt x="308" y="199"/>
                </a:lnTo>
                <a:lnTo>
                  <a:pt x="300" y="207"/>
                </a:lnTo>
                <a:lnTo>
                  <a:pt x="294" y="217"/>
                </a:lnTo>
                <a:lnTo>
                  <a:pt x="286" y="226"/>
                </a:lnTo>
                <a:lnTo>
                  <a:pt x="277" y="236"/>
                </a:lnTo>
                <a:lnTo>
                  <a:pt x="267" y="245"/>
                </a:lnTo>
                <a:lnTo>
                  <a:pt x="256" y="255"/>
                </a:lnTo>
                <a:lnTo>
                  <a:pt x="244" y="267"/>
                </a:lnTo>
                <a:lnTo>
                  <a:pt x="231" y="278"/>
                </a:lnTo>
                <a:lnTo>
                  <a:pt x="217" y="288"/>
                </a:lnTo>
                <a:lnTo>
                  <a:pt x="202" y="299"/>
                </a:lnTo>
                <a:lnTo>
                  <a:pt x="187" y="313"/>
                </a:lnTo>
                <a:lnTo>
                  <a:pt x="169" y="324"/>
                </a:lnTo>
                <a:lnTo>
                  <a:pt x="150" y="338"/>
                </a:lnTo>
                <a:lnTo>
                  <a:pt x="133" y="351"/>
                </a:lnTo>
                <a:lnTo>
                  <a:pt x="116" y="363"/>
                </a:lnTo>
                <a:lnTo>
                  <a:pt x="100" y="374"/>
                </a:lnTo>
                <a:lnTo>
                  <a:pt x="87" y="384"/>
                </a:lnTo>
                <a:lnTo>
                  <a:pt x="73" y="391"/>
                </a:lnTo>
                <a:lnTo>
                  <a:pt x="62" y="399"/>
                </a:lnTo>
                <a:lnTo>
                  <a:pt x="52" y="405"/>
                </a:lnTo>
                <a:lnTo>
                  <a:pt x="43" y="411"/>
                </a:lnTo>
                <a:lnTo>
                  <a:pt x="33" y="414"/>
                </a:lnTo>
                <a:lnTo>
                  <a:pt x="27" y="416"/>
                </a:lnTo>
                <a:lnTo>
                  <a:pt x="20" y="418"/>
                </a:lnTo>
                <a:lnTo>
                  <a:pt x="14" y="418"/>
                </a:lnTo>
                <a:lnTo>
                  <a:pt x="10" y="418"/>
                </a:lnTo>
                <a:lnTo>
                  <a:pt x="6" y="418"/>
                </a:lnTo>
                <a:lnTo>
                  <a:pt x="4" y="416"/>
                </a:lnTo>
                <a:lnTo>
                  <a:pt x="2" y="412"/>
                </a:lnTo>
                <a:lnTo>
                  <a:pt x="0" y="411"/>
                </a:lnTo>
                <a:lnTo>
                  <a:pt x="0" y="407"/>
                </a:lnTo>
                <a:lnTo>
                  <a:pt x="0" y="403"/>
                </a:lnTo>
                <a:lnTo>
                  <a:pt x="0" y="399"/>
                </a:lnTo>
                <a:lnTo>
                  <a:pt x="0" y="395"/>
                </a:lnTo>
                <a:lnTo>
                  <a:pt x="2" y="389"/>
                </a:lnTo>
                <a:lnTo>
                  <a:pt x="4" y="386"/>
                </a:lnTo>
                <a:lnTo>
                  <a:pt x="6" y="380"/>
                </a:lnTo>
                <a:lnTo>
                  <a:pt x="10" y="372"/>
                </a:lnTo>
                <a:lnTo>
                  <a:pt x="14" y="366"/>
                </a:lnTo>
                <a:lnTo>
                  <a:pt x="18" y="359"/>
                </a:lnTo>
                <a:lnTo>
                  <a:pt x="23" y="351"/>
                </a:lnTo>
                <a:lnTo>
                  <a:pt x="27" y="343"/>
                </a:lnTo>
                <a:lnTo>
                  <a:pt x="33" y="334"/>
                </a:lnTo>
                <a:lnTo>
                  <a:pt x="41" y="324"/>
                </a:lnTo>
                <a:lnTo>
                  <a:pt x="66" y="286"/>
                </a:lnTo>
                <a:lnTo>
                  <a:pt x="79" y="267"/>
                </a:lnTo>
                <a:lnTo>
                  <a:pt x="91" y="247"/>
                </a:lnTo>
                <a:lnTo>
                  <a:pt x="102" y="230"/>
                </a:lnTo>
                <a:lnTo>
                  <a:pt x="114" y="213"/>
                </a:lnTo>
                <a:lnTo>
                  <a:pt x="125" y="196"/>
                </a:lnTo>
                <a:lnTo>
                  <a:pt x="135" y="180"/>
                </a:lnTo>
                <a:lnTo>
                  <a:pt x="139" y="165"/>
                </a:lnTo>
                <a:lnTo>
                  <a:pt x="142" y="151"/>
                </a:lnTo>
                <a:lnTo>
                  <a:pt x="146" y="136"/>
                </a:lnTo>
                <a:lnTo>
                  <a:pt x="148" y="121"/>
                </a:lnTo>
                <a:lnTo>
                  <a:pt x="150" y="107"/>
                </a:lnTo>
                <a:lnTo>
                  <a:pt x="150" y="92"/>
                </a:lnTo>
                <a:lnTo>
                  <a:pt x="150" y="84"/>
                </a:lnTo>
                <a:lnTo>
                  <a:pt x="148" y="77"/>
                </a:lnTo>
                <a:lnTo>
                  <a:pt x="148" y="71"/>
                </a:lnTo>
                <a:lnTo>
                  <a:pt x="146" y="63"/>
                </a:lnTo>
                <a:lnTo>
                  <a:pt x="142" y="54"/>
                </a:lnTo>
                <a:lnTo>
                  <a:pt x="139" y="46"/>
                </a:lnTo>
                <a:lnTo>
                  <a:pt x="137" y="38"/>
                </a:lnTo>
                <a:lnTo>
                  <a:pt x="137" y="32"/>
                </a:lnTo>
                <a:lnTo>
                  <a:pt x="137" y="27"/>
                </a:lnTo>
                <a:lnTo>
                  <a:pt x="139" y="21"/>
                </a:lnTo>
                <a:lnTo>
                  <a:pt x="142" y="15"/>
                </a:lnTo>
                <a:lnTo>
                  <a:pt x="146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78"/>
          <p:cNvSpPr/>
          <p:nvPr/>
        </p:nvSpPr>
        <p:spPr>
          <a:xfrm>
            <a:off x="6189840" y="3714840"/>
            <a:ext cx="163440" cy="1163520"/>
          </a:xfrm>
          <a:custGeom>
            <a:avLst/>
            <a:gdLst/>
            <a:ahLst/>
            <a:rect l="l" t="t" r="r" b="b"/>
            <a:pathLst>
              <a:path w="205" h="1464">
                <a:moveTo>
                  <a:pt x="27" y="1334"/>
                </a:moveTo>
                <a:lnTo>
                  <a:pt x="19" y="1299"/>
                </a:lnTo>
                <a:lnTo>
                  <a:pt x="11" y="1267"/>
                </a:lnTo>
                <a:lnTo>
                  <a:pt x="9" y="1251"/>
                </a:lnTo>
                <a:lnTo>
                  <a:pt x="7" y="1238"/>
                </a:lnTo>
                <a:lnTo>
                  <a:pt x="4" y="1222"/>
                </a:lnTo>
                <a:lnTo>
                  <a:pt x="2" y="1209"/>
                </a:lnTo>
                <a:lnTo>
                  <a:pt x="2" y="1196"/>
                </a:lnTo>
                <a:lnTo>
                  <a:pt x="0" y="1184"/>
                </a:lnTo>
                <a:lnTo>
                  <a:pt x="0" y="1173"/>
                </a:lnTo>
                <a:lnTo>
                  <a:pt x="0" y="1161"/>
                </a:lnTo>
                <a:lnTo>
                  <a:pt x="0" y="1149"/>
                </a:lnTo>
                <a:lnTo>
                  <a:pt x="0" y="1140"/>
                </a:lnTo>
                <a:lnTo>
                  <a:pt x="2" y="1132"/>
                </a:lnTo>
                <a:lnTo>
                  <a:pt x="4" y="1125"/>
                </a:lnTo>
                <a:lnTo>
                  <a:pt x="6" y="1117"/>
                </a:lnTo>
                <a:lnTo>
                  <a:pt x="7" y="1107"/>
                </a:lnTo>
                <a:lnTo>
                  <a:pt x="9" y="1096"/>
                </a:lnTo>
                <a:lnTo>
                  <a:pt x="13" y="1084"/>
                </a:lnTo>
                <a:lnTo>
                  <a:pt x="15" y="1071"/>
                </a:lnTo>
                <a:lnTo>
                  <a:pt x="17" y="1057"/>
                </a:lnTo>
                <a:lnTo>
                  <a:pt x="21" y="1040"/>
                </a:lnTo>
                <a:lnTo>
                  <a:pt x="23" y="1023"/>
                </a:lnTo>
                <a:lnTo>
                  <a:pt x="27" y="1004"/>
                </a:lnTo>
                <a:lnTo>
                  <a:pt x="29" y="982"/>
                </a:lnTo>
                <a:lnTo>
                  <a:pt x="32" y="961"/>
                </a:lnTo>
                <a:lnTo>
                  <a:pt x="34" y="936"/>
                </a:lnTo>
                <a:lnTo>
                  <a:pt x="38" y="911"/>
                </a:lnTo>
                <a:lnTo>
                  <a:pt x="42" y="883"/>
                </a:lnTo>
                <a:lnTo>
                  <a:pt x="46" y="854"/>
                </a:lnTo>
                <a:lnTo>
                  <a:pt x="52" y="823"/>
                </a:lnTo>
                <a:lnTo>
                  <a:pt x="52" y="808"/>
                </a:lnTo>
                <a:lnTo>
                  <a:pt x="54" y="792"/>
                </a:lnTo>
                <a:lnTo>
                  <a:pt x="54" y="775"/>
                </a:lnTo>
                <a:lnTo>
                  <a:pt x="55" y="758"/>
                </a:lnTo>
                <a:lnTo>
                  <a:pt x="55" y="741"/>
                </a:lnTo>
                <a:lnTo>
                  <a:pt x="57" y="723"/>
                </a:lnTo>
                <a:lnTo>
                  <a:pt x="57" y="704"/>
                </a:lnTo>
                <a:lnTo>
                  <a:pt x="59" y="683"/>
                </a:lnTo>
                <a:lnTo>
                  <a:pt x="59" y="664"/>
                </a:lnTo>
                <a:lnTo>
                  <a:pt x="61" y="641"/>
                </a:lnTo>
                <a:lnTo>
                  <a:pt x="63" y="620"/>
                </a:lnTo>
                <a:lnTo>
                  <a:pt x="63" y="597"/>
                </a:lnTo>
                <a:lnTo>
                  <a:pt x="65" y="574"/>
                </a:lnTo>
                <a:lnTo>
                  <a:pt x="65" y="551"/>
                </a:lnTo>
                <a:lnTo>
                  <a:pt x="65" y="526"/>
                </a:lnTo>
                <a:lnTo>
                  <a:pt x="67" y="499"/>
                </a:lnTo>
                <a:lnTo>
                  <a:pt x="67" y="474"/>
                </a:lnTo>
                <a:lnTo>
                  <a:pt x="69" y="447"/>
                </a:lnTo>
                <a:lnTo>
                  <a:pt x="69" y="420"/>
                </a:lnTo>
                <a:lnTo>
                  <a:pt x="69" y="391"/>
                </a:lnTo>
                <a:lnTo>
                  <a:pt x="71" y="362"/>
                </a:lnTo>
                <a:lnTo>
                  <a:pt x="71" y="334"/>
                </a:lnTo>
                <a:lnTo>
                  <a:pt x="71" y="303"/>
                </a:lnTo>
                <a:lnTo>
                  <a:pt x="73" y="272"/>
                </a:lnTo>
                <a:lnTo>
                  <a:pt x="73" y="240"/>
                </a:lnTo>
                <a:lnTo>
                  <a:pt x="73" y="207"/>
                </a:lnTo>
                <a:lnTo>
                  <a:pt x="73" y="174"/>
                </a:lnTo>
                <a:lnTo>
                  <a:pt x="73" y="142"/>
                </a:lnTo>
                <a:lnTo>
                  <a:pt x="75" y="107"/>
                </a:lnTo>
                <a:lnTo>
                  <a:pt x="75" y="73"/>
                </a:lnTo>
                <a:lnTo>
                  <a:pt x="75" y="36"/>
                </a:lnTo>
                <a:lnTo>
                  <a:pt x="75" y="0"/>
                </a:lnTo>
                <a:lnTo>
                  <a:pt x="88" y="17"/>
                </a:lnTo>
                <a:lnTo>
                  <a:pt x="103" y="32"/>
                </a:lnTo>
                <a:lnTo>
                  <a:pt x="115" y="48"/>
                </a:lnTo>
                <a:lnTo>
                  <a:pt x="126" y="61"/>
                </a:lnTo>
                <a:lnTo>
                  <a:pt x="138" y="75"/>
                </a:lnTo>
                <a:lnTo>
                  <a:pt x="148" y="86"/>
                </a:lnTo>
                <a:lnTo>
                  <a:pt x="157" y="98"/>
                </a:lnTo>
                <a:lnTo>
                  <a:pt x="165" y="107"/>
                </a:lnTo>
                <a:lnTo>
                  <a:pt x="173" y="117"/>
                </a:lnTo>
                <a:lnTo>
                  <a:pt x="180" y="124"/>
                </a:lnTo>
                <a:lnTo>
                  <a:pt x="186" y="132"/>
                </a:lnTo>
                <a:lnTo>
                  <a:pt x="190" y="140"/>
                </a:lnTo>
                <a:lnTo>
                  <a:pt x="196" y="146"/>
                </a:lnTo>
                <a:lnTo>
                  <a:pt x="199" y="149"/>
                </a:lnTo>
                <a:lnTo>
                  <a:pt x="201" y="153"/>
                </a:lnTo>
                <a:lnTo>
                  <a:pt x="205" y="157"/>
                </a:lnTo>
                <a:lnTo>
                  <a:pt x="205" y="159"/>
                </a:lnTo>
                <a:lnTo>
                  <a:pt x="205" y="163"/>
                </a:lnTo>
                <a:lnTo>
                  <a:pt x="205" y="169"/>
                </a:lnTo>
                <a:lnTo>
                  <a:pt x="203" y="174"/>
                </a:lnTo>
                <a:lnTo>
                  <a:pt x="203" y="180"/>
                </a:lnTo>
                <a:lnTo>
                  <a:pt x="203" y="188"/>
                </a:lnTo>
                <a:lnTo>
                  <a:pt x="203" y="197"/>
                </a:lnTo>
                <a:lnTo>
                  <a:pt x="203" y="205"/>
                </a:lnTo>
                <a:lnTo>
                  <a:pt x="203" y="217"/>
                </a:lnTo>
                <a:lnTo>
                  <a:pt x="203" y="228"/>
                </a:lnTo>
                <a:lnTo>
                  <a:pt x="203" y="240"/>
                </a:lnTo>
                <a:lnTo>
                  <a:pt x="203" y="253"/>
                </a:lnTo>
                <a:lnTo>
                  <a:pt x="203" y="267"/>
                </a:lnTo>
                <a:lnTo>
                  <a:pt x="203" y="282"/>
                </a:lnTo>
                <a:lnTo>
                  <a:pt x="203" y="299"/>
                </a:lnTo>
                <a:lnTo>
                  <a:pt x="203" y="314"/>
                </a:lnTo>
                <a:lnTo>
                  <a:pt x="201" y="334"/>
                </a:lnTo>
                <a:lnTo>
                  <a:pt x="201" y="353"/>
                </a:lnTo>
                <a:lnTo>
                  <a:pt x="201" y="372"/>
                </a:lnTo>
                <a:lnTo>
                  <a:pt x="201" y="393"/>
                </a:lnTo>
                <a:lnTo>
                  <a:pt x="201" y="414"/>
                </a:lnTo>
                <a:lnTo>
                  <a:pt x="199" y="437"/>
                </a:lnTo>
                <a:lnTo>
                  <a:pt x="199" y="460"/>
                </a:lnTo>
                <a:lnTo>
                  <a:pt x="199" y="485"/>
                </a:lnTo>
                <a:lnTo>
                  <a:pt x="197" y="512"/>
                </a:lnTo>
                <a:lnTo>
                  <a:pt x="197" y="537"/>
                </a:lnTo>
                <a:lnTo>
                  <a:pt x="197" y="566"/>
                </a:lnTo>
                <a:lnTo>
                  <a:pt x="196" y="595"/>
                </a:lnTo>
                <a:lnTo>
                  <a:pt x="196" y="624"/>
                </a:lnTo>
                <a:lnTo>
                  <a:pt x="194" y="654"/>
                </a:lnTo>
                <a:lnTo>
                  <a:pt x="194" y="687"/>
                </a:lnTo>
                <a:lnTo>
                  <a:pt x="192" y="720"/>
                </a:lnTo>
                <a:lnTo>
                  <a:pt x="192" y="752"/>
                </a:lnTo>
                <a:lnTo>
                  <a:pt x="190" y="783"/>
                </a:lnTo>
                <a:lnTo>
                  <a:pt x="188" y="814"/>
                </a:lnTo>
                <a:lnTo>
                  <a:pt x="188" y="844"/>
                </a:lnTo>
                <a:lnTo>
                  <a:pt x="186" y="875"/>
                </a:lnTo>
                <a:lnTo>
                  <a:pt x="184" y="904"/>
                </a:lnTo>
                <a:lnTo>
                  <a:pt x="184" y="931"/>
                </a:lnTo>
                <a:lnTo>
                  <a:pt x="182" y="959"/>
                </a:lnTo>
                <a:lnTo>
                  <a:pt x="180" y="984"/>
                </a:lnTo>
                <a:lnTo>
                  <a:pt x="178" y="1011"/>
                </a:lnTo>
                <a:lnTo>
                  <a:pt x="176" y="1036"/>
                </a:lnTo>
                <a:lnTo>
                  <a:pt x="174" y="1059"/>
                </a:lnTo>
                <a:lnTo>
                  <a:pt x="174" y="1082"/>
                </a:lnTo>
                <a:lnTo>
                  <a:pt x="173" y="1105"/>
                </a:lnTo>
                <a:lnTo>
                  <a:pt x="171" y="1126"/>
                </a:lnTo>
                <a:lnTo>
                  <a:pt x="169" y="1148"/>
                </a:lnTo>
                <a:lnTo>
                  <a:pt x="167" y="1167"/>
                </a:lnTo>
                <a:lnTo>
                  <a:pt x="165" y="1186"/>
                </a:lnTo>
                <a:lnTo>
                  <a:pt x="163" y="1203"/>
                </a:lnTo>
                <a:lnTo>
                  <a:pt x="163" y="1220"/>
                </a:lnTo>
                <a:lnTo>
                  <a:pt x="161" y="1238"/>
                </a:lnTo>
                <a:lnTo>
                  <a:pt x="159" y="1253"/>
                </a:lnTo>
                <a:lnTo>
                  <a:pt x="157" y="1267"/>
                </a:lnTo>
                <a:lnTo>
                  <a:pt x="155" y="1282"/>
                </a:lnTo>
                <a:lnTo>
                  <a:pt x="155" y="1293"/>
                </a:lnTo>
                <a:lnTo>
                  <a:pt x="153" y="1307"/>
                </a:lnTo>
                <a:lnTo>
                  <a:pt x="151" y="1316"/>
                </a:lnTo>
                <a:lnTo>
                  <a:pt x="150" y="1328"/>
                </a:lnTo>
                <a:lnTo>
                  <a:pt x="150" y="1338"/>
                </a:lnTo>
                <a:lnTo>
                  <a:pt x="148" y="1345"/>
                </a:lnTo>
                <a:lnTo>
                  <a:pt x="146" y="1353"/>
                </a:lnTo>
                <a:lnTo>
                  <a:pt x="146" y="1359"/>
                </a:lnTo>
                <a:lnTo>
                  <a:pt x="140" y="1372"/>
                </a:lnTo>
                <a:lnTo>
                  <a:pt x="136" y="1382"/>
                </a:lnTo>
                <a:lnTo>
                  <a:pt x="132" y="1393"/>
                </a:lnTo>
                <a:lnTo>
                  <a:pt x="128" y="1403"/>
                </a:lnTo>
                <a:lnTo>
                  <a:pt x="123" y="1412"/>
                </a:lnTo>
                <a:lnTo>
                  <a:pt x="119" y="1422"/>
                </a:lnTo>
                <a:lnTo>
                  <a:pt x="115" y="1430"/>
                </a:lnTo>
                <a:lnTo>
                  <a:pt x="111" y="1435"/>
                </a:lnTo>
                <a:lnTo>
                  <a:pt x="107" y="1443"/>
                </a:lnTo>
                <a:lnTo>
                  <a:pt x="103" y="1449"/>
                </a:lnTo>
                <a:lnTo>
                  <a:pt x="100" y="1453"/>
                </a:lnTo>
                <a:lnTo>
                  <a:pt x="98" y="1457"/>
                </a:lnTo>
                <a:lnTo>
                  <a:pt x="94" y="1460"/>
                </a:lnTo>
                <a:lnTo>
                  <a:pt x="92" y="1462"/>
                </a:lnTo>
                <a:lnTo>
                  <a:pt x="88" y="1464"/>
                </a:lnTo>
                <a:lnTo>
                  <a:pt x="86" y="1464"/>
                </a:lnTo>
                <a:lnTo>
                  <a:pt x="84" y="1464"/>
                </a:lnTo>
                <a:lnTo>
                  <a:pt x="80" y="1462"/>
                </a:lnTo>
                <a:lnTo>
                  <a:pt x="78" y="1460"/>
                </a:lnTo>
                <a:lnTo>
                  <a:pt x="75" y="1457"/>
                </a:lnTo>
                <a:lnTo>
                  <a:pt x="73" y="1453"/>
                </a:lnTo>
                <a:lnTo>
                  <a:pt x="69" y="1447"/>
                </a:lnTo>
                <a:lnTo>
                  <a:pt x="65" y="1441"/>
                </a:lnTo>
                <a:lnTo>
                  <a:pt x="61" y="1434"/>
                </a:lnTo>
                <a:lnTo>
                  <a:pt x="57" y="1424"/>
                </a:lnTo>
                <a:lnTo>
                  <a:pt x="54" y="1414"/>
                </a:lnTo>
                <a:lnTo>
                  <a:pt x="48" y="1405"/>
                </a:lnTo>
                <a:lnTo>
                  <a:pt x="44" y="1393"/>
                </a:lnTo>
                <a:lnTo>
                  <a:pt x="40" y="1380"/>
                </a:lnTo>
                <a:lnTo>
                  <a:pt x="36" y="1364"/>
                </a:lnTo>
                <a:lnTo>
                  <a:pt x="32" y="1349"/>
                </a:lnTo>
                <a:lnTo>
                  <a:pt x="27" y="13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79"/>
          <p:cNvSpPr/>
          <p:nvPr/>
        </p:nvSpPr>
        <p:spPr>
          <a:xfrm>
            <a:off x="5592600" y="3268800"/>
            <a:ext cx="946440" cy="1137960"/>
          </a:xfrm>
          <a:custGeom>
            <a:avLst/>
            <a:gdLst/>
            <a:ahLst/>
            <a:rect l="l" t="t" r="r" b="b"/>
            <a:pathLst>
              <a:path w="1192" h="1434">
                <a:moveTo>
                  <a:pt x="202" y="1321"/>
                </a:moveTo>
                <a:lnTo>
                  <a:pt x="179" y="1338"/>
                </a:lnTo>
                <a:lnTo>
                  <a:pt x="156" y="1354"/>
                </a:lnTo>
                <a:lnTo>
                  <a:pt x="137" y="1367"/>
                </a:lnTo>
                <a:lnTo>
                  <a:pt x="117" y="1380"/>
                </a:lnTo>
                <a:lnTo>
                  <a:pt x="98" y="1392"/>
                </a:lnTo>
                <a:lnTo>
                  <a:pt x="83" y="1402"/>
                </a:lnTo>
                <a:lnTo>
                  <a:pt x="68" y="1411"/>
                </a:lnTo>
                <a:lnTo>
                  <a:pt x="54" y="1419"/>
                </a:lnTo>
                <a:lnTo>
                  <a:pt x="43" y="1425"/>
                </a:lnTo>
                <a:lnTo>
                  <a:pt x="31" y="1428"/>
                </a:lnTo>
                <a:lnTo>
                  <a:pt x="21" y="1432"/>
                </a:lnTo>
                <a:lnTo>
                  <a:pt x="16" y="1434"/>
                </a:lnTo>
                <a:lnTo>
                  <a:pt x="10" y="1434"/>
                </a:lnTo>
                <a:lnTo>
                  <a:pt x="6" y="1432"/>
                </a:lnTo>
                <a:lnTo>
                  <a:pt x="2" y="1430"/>
                </a:lnTo>
                <a:lnTo>
                  <a:pt x="2" y="1426"/>
                </a:lnTo>
                <a:lnTo>
                  <a:pt x="0" y="1425"/>
                </a:lnTo>
                <a:lnTo>
                  <a:pt x="0" y="1423"/>
                </a:lnTo>
                <a:lnTo>
                  <a:pt x="0" y="1421"/>
                </a:lnTo>
                <a:lnTo>
                  <a:pt x="2" y="1417"/>
                </a:lnTo>
                <a:lnTo>
                  <a:pt x="4" y="1413"/>
                </a:lnTo>
                <a:lnTo>
                  <a:pt x="6" y="1409"/>
                </a:lnTo>
                <a:lnTo>
                  <a:pt x="8" y="1405"/>
                </a:lnTo>
                <a:lnTo>
                  <a:pt x="10" y="1402"/>
                </a:lnTo>
                <a:lnTo>
                  <a:pt x="14" y="1396"/>
                </a:lnTo>
                <a:lnTo>
                  <a:pt x="18" y="1390"/>
                </a:lnTo>
                <a:lnTo>
                  <a:pt x="23" y="1384"/>
                </a:lnTo>
                <a:lnTo>
                  <a:pt x="29" y="1378"/>
                </a:lnTo>
                <a:lnTo>
                  <a:pt x="35" y="1371"/>
                </a:lnTo>
                <a:lnTo>
                  <a:pt x="41" y="1363"/>
                </a:lnTo>
                <a:lnTo>
                  <a:pt x="46" y="1355"/>
                </a:lnTo>
                <a:lnTo>
                  <a:pt x="54" y="1348"/>
                </a:lnTo>
                <a:lnTo>
                  <a:pt x="62" y="1338"/>
                </a:lnTo>
                <a:lnTo>
                  <a:pt x="69" y="1330"/>
                </a:lnTo>
                <a:lnTo>
                  <a:pt x="79" y="1321"/>
                </a:lnTo>
                <a:lnTo>
                  <a:pt x="89" y="1309"/>
                </a:lnTo>
                <a:lnTo>
                  <a:pt x="98" y="1300"/>
                </a:lnTo>
                <a:lnTo>
                  <a:pt x="108" y="1288"/>
                </a:lnTo>
                <a:lnTo>
                  <a:pt x="119" y="1277"/>
                </a:lnTo>
                <a:lnTo>
                  <a:pt x="131" y="1265"/>
                </a:lnTo>
                <a:lnTo>
                  <a:pt x="142" y="1252"/>
                </a:lnTo>
                <a:lnTo>
                  <a:pt x="154" y="1238"/>
                </a:lnTo>
                <a:lnTo>
                  <a:pt x="167" y="1225"/>
                </a:lnTo>
                <a:lnTo>
                  <a:pt x="181" y="1211"/>
                </a:lnTo>
                <a:lnTo>
                  <a:pt x="208" y="1183"/>
                </a:lnTo>
                <a:lnTo>
                  <a:pt x="223" y="1167"/>
                </a:lnTo>
                <a:lnTo>
                  <a:pt x="238" y="1152"/>
                </a:lnTo>
                <a:lnTo>
                  <a:pt x="267" y="1121"/>
                </a:lnTo>
                <a:lnTo>
                  <a:pt x="296" y="1091"/>
                </a:lnTo>
                <a:lnTo>
                  <a:pt x="323" y="1060"/>
                </a:lnTo>
                <a:lnTo>
                  <a:pt x="352" y="1027"/>
                </a:lnTo>
                <a:lnTo>
                  <a:pt x="380" y="995"/>
                </a:lnTo>
                <a:lnTo>
                  <a:pt x="409" y="962"/>
                </a:lnTo>
                <a:lnTo>
                  <a:pt x="438" y="929"/>
                </a:lnTo>
                <a:lnTo>
                  <a:pt x="467" y="895"/>
                </a:lnTo>
                <a:lnTo>
                  <a:pt x="496" y="858"/>
                </a:lnTo>
                <a:lnTo>
                  <a:pt x="522" y="824"/>
                </a:lnTo>
                <a:lnTo>
                  <a:pt x="551" y="787"/>
                </a:lnTo>
                <a:lnTo>
                  <a:pt x="578" y="749"/>
                </a:lnTo>
                <a:lnTo>
                  <a:pt x="605" y="711"/>
                </a:lnTo>
                <a:lnTo>
                  <a:pt x="632" y="670"/>
                </a:lnTo>
                <a:lnTo>
                  <a:pt x="659" y="630"/>
                </a:lnTo>
                <a:lnTo>
                  <a:pt x="686" y="590"/>
                </a:lnTo>
                <a:lnTo>
                  <a:pt x="699" y="568"/>
                </a:lnTo>
                <a:lnTo>
                  <a:pt x="711" y="549"/>
                </a:lnTo>
                <a:lnTo>
                  <a:pt x="724" y="530"/>
                </a:lnTo>
                <a:lnTo>
                  <a:pt x="736" y="511"/>
                </a:lnTo>
                <a:lnTo>
                  <a:pt x="747" y="494"/>
                </a:lnTo>
                <a:lnTo>
                  <a:pt x="757" y="476"/>
                </a:lnTo>
                <a:lnTo>
                  <a:pt x="768" y="459"/>
                </a:lnTo>
                <a:lnTo>
                  <a:pt x="778" y="444"/>
                </a:lnTo>
                <a:lnTo>
                  <a:pt x="787" y="428"/>
                </a:lnTo>
                <a:lnTo>
                  <a:pt x="797" y="413"/>
                </a:lnTo>
                <a:lnTo>
                  <a:pt x="805" y="400"/>
                </a:lnTo>
                <a:lnTo>
                  <a:pt x="814" y="386"/>
                </a:lnTo>
                <a:lnTo>
                  <a:pt x="822" y="375"/>
                </a:lnTo>
                <a:lnTo>
                  <a:pt x="830" y="363"/>
                </a:lnTo>
                <a:lnTo>
                  <a:pt x="835" y="352"/>
                </a:lnTo>
                <a:lnTo>
                  <a:pt x="843" y="340"/>
                </a:lnTo>
                <a:lnTo>
                  <a:pt x="849" y="330"/>
                </a:lnTo>
                <a:lnTo>
                  <a:pt x="855" y="321"/>
                </a:lnTo>
                <a:lnTo>
                  <a:pt x="860" y="311"/>
                </a:lnTo>
                <a:lnTo>
                  <a:pt x="864" y="304"/>
                </a:lnTo>
                <a:lnTo>
                  <a:pt x="870" y="296"/>
                </a:lnTo>
                <a:lnTo>
                  <a:pt x="874" y="288"/>
                </a:lnTo>
                <a:lnTo>
                  <a:pt x="876" y="282"/>
                </a:lnTo>
                <a:lnTo>
                  <a:pt x="879" y="277"/>
                </a:lnTo>
                <a:lnTo>
                  <a:pt x="881" y="271"/>
                </a:lnTo>
                <a:lnTo>
                  <a:pt x="883" y="265"/>
                </a:lnTo>
                <a:lnTo>
                  <a:pt x="885" y="261"/>
                </a:lnTo>
                <a:lnTo>
                  <a:pt x="887" y="258"/>
                </a:lnTo>
                <a:lnTo>
                  <a:pt x="887" y="256"/>
                </a:lnTo>
                <a:lnTo>
                  <a:pt x="887" y="252"/>
                </a:lnTo>
                <a:lnTo>
                  <a:pt x="887" y="250"/>
                </a:lnTo>
                <a:lnTo>
                  <a:pt x="883" y="246"/>
                </a:lnTo>
                <a:lnTo>
                  <a:pt x="879" y="246"/>
                </a:lnTo>
                <a:lnTo>
                  <a:pt x="874" y="246"/>
                </a:lnTo>
                <a:lnTo>
                  <a:pt x="866" y="246"/>
                </a:lnTo>
                <a:lnTo>
                  <a:pt x="856" y="248"/>
                </a:lnTo>
                <a:lnTo>
                  <a:pt x="847" y="250"/>
                </a:lnTo>
                <a:lnTo>
                  <a:pt x="835" y="254"/>
                </a:lnTo>
                <a:lnTo>
                  <a:pt x="822" y="258"/>
                </a:lnTo>
                <a:lnTo>
                  <a:pt x="807" y="263"/>
                </a:lnTo>
                <a:lnTo>
                  <a:pt x="789" y="269"/>
                </a:lnTo>
                <a:lnTo>
                  <a:pt x="770" y="277"/>
                </a:lnTo>
                <a:lnTo>
                  <a:pt x="751" y="286"/>
                </a:lnTo>
                <a:lnTo>
                  <a:pt x="728" y="294"/>
                </a:lnTo>
                <a:lnTo>
                  <a:pt x="705" y="305"/>
                </a:lnTo>
                <a:lnTo>
                  <a:pt x="678" y="315"/>
                </a:lnTo>
                <a:lnTo>
                  <a:pt x="651" y="329"/>
                </a:lnTo>
                <a:lnTo>
                  <a:pt x="622" y="340"/>
                </a:lnTo>
                <a:lnTo>
                  <a:pt x="595" y="352"/>
                </a:lnTo>
                <a:lnTo>
                  <a:pt x="570" y="361"/>
                </a:lnTo>
                <a:lnTo>
                  <a:pt x="545" y="373"/>
                </a:lnTo>
                <a:lnTo>
                  <a:pt x="521" y="380"/>
                </a:lnTo>
                <a:lnTo>
                  <a:pt x="499" y="390"/>
                </a:lnTo>
                <a:lnTo>
                  <a:pt x="478" y="398"/>
                </a:lnTo>
                <a:lnTo>
                  <a:pt x="459" y="405"/>
                </a:lnTo>
                <a:lnTo>
                  <a:pt x="440" y="411"/>
                </a:lnTo>
                <a:lnTo>
                  <a:pt x="425" y="417"/>
                </a:lnTo>
                <a:lnTo>
                  <a:pt x="409" y="421"/>
                </a:lnTo>
                <a:lnTo>
                  <a:pt x="396" y="425"/>
                </a:lnTo>
                <a:lnTo>
                  <a:pt x="382" y="428"/>
                </a:lnTo>
                <a:lnTo>
                  <a:pt x="373" y="430"/>
                </a:lnTo>
                <a:lnTo>
                  <a:pt x="363" y="432"/>
                </a:lnTo>
                <a:lnTo>
                  <a:pt x="355" y="432"/>
                </a:lnTo>
                <a:lnTo>
                  <a:pt x="338" y="432"/>
                </a:lnTo>
                <a:lnTo>
                  <a:pt x="321" y="430"/>
                </a:lnTo>
                <a:lnTo>
                  <a:pt x="304" y="426"/>
                </a:lnTo>
                <a:lnTo>
                  <a:pt x="286" y="423"/>
                </a:lnTo>
                <a:lnTo>
                  <a:pt x="269" y="417"/>
                </a:lnTo>
                <a:lnTo>
                  <a:pt x="254" y="411"/>
                </a:lnTo>
                <a:lnTo>
                  <a:pt x="240" y="401"/>
                </a:lnTo>
                <a:lnTo>
                  <a:pt x="227" y="394"/>
                </a:lnTo>
                <a:lnTo>
                  <a:pt x="217" y="388"/>
                </a:lnTo>
                <a:lnTo>
                  <a:pt x="210" y="382"/>
                </a:lnTo>
                <a:lnTo>
                  <a:pt x="202" y="378"/>
                </a:lnTo>
                <a:lnTo>
                  <a:pt x="194" y="373"/>
                </a:lnTo>
                <a:lnTo>
                  <a:pt x="188" y="369"/>
                </a:lnTo>
                <a:lnTo>
                  <a:pt x="183" y="365"/>
                </a:lnTo>
                <a:lnTo>
                  <a:pt x="177" y="359"/>
                </a:lnTo>
                <a:lnTo>
                  <a:pt x="173" y="355"/>
                </a:lnTo>
                <a:lnTo>
                  <a:pt x="169" y="352"/>
                </a:lnTo>
                <a:lnTo>
                  <a:pt x="165" y="348"/>
                </a:lnTo>
                <a:lnTo>
                  <a:pt x="162" y="344"/>
                </a:lnTo>
                <a:lnTo>
                  <a:pt x="160" y="340"/>
                </a:lnTo>
                <a:lnTo>
                  <a:pt x="158" y="336"/>
                </a:lnTo>
                <a:lnTo>
                  <a:pt x="156" y="332"/>
                </a:lnTo>
                <a:lnTo>
                  <a:pt x="156" y="330"/>
                </a:lnTo>
                <a:lnTo>
                  <a:pt x="156" y="329"/>
                </a:lnTo>
                <a:lnTo>
                  <a:pt x="154" y="325"/>
                </a:lnTo>
                <a:lnTo>
                  <a:pt x="154" y="323"/>
                </a:lnTo>
                <a:lnTo>
                  <a:pt x="156" y="321"/>
                </a:lnTo>
                <a:lnTo>
                  <a:pt x="160" y="317"/>
                </a:lnTo>
                <a:lnTo>
                  <a:pt x="164" y="315"/>
                </a:lnTo>
                <a:lnTo>
                  <a:pt x="171" y="313"/>
                </a:lnTo>
                <a:lnTo>
                  <a:pt x="179" y="311"/>
                </a:lnTo>
                <a:lnTo>
                  <a:pt x="188" y="307"/>
                </a:lnTo>
                <a:lnTo>
                  <a:pt x="198" y="305"/>
                </a:lnTo>
                <a:lnTo>
                  <a:pt x="210" y="304"/>
                </a:lnTo>
                <a:lnTo>
                  <a:pt x="223" y="300"/>
                </a:lnTo>
                <a:lnTo>
                  <a:pt x="238" y="298"/>
                </a:lnTo>
                <a:lnTo>
                  <a:pt x="254" y="296"/>
                </a:lnTo>
                <a:lnTo>
                  <a:pt x="271" y="294"/>
                </a:lnTo>
                <a:lnTo>
                  <a:pt x="288" y="290"/>
                </a:lnTo>
                <a:lnTo>
                  <a:pt x="309" y="288"/>
                </a:lnTo>
                <a:lnTo>
                  <a:pt x="329" y="286"/>
                </a:lnTo>
                <a:lnTo>
                  <a:pt x="350" y="282"/>
                </a:lnTo>
                <a:lnTo>
                  <a:pt x="371" y="279"/>
                </a:lnTo>
                <a:lnTo>
                  <a:pt x="392" y="273"/>
                </a:lnTo>
                <a:lnTo>
                  <a:pt x="415" y="269"/>
                </a:lnTo>
                <a:lnTo>
                  <a:pt x="438" y="263"/>
                </a:lnTo>
                <a:lnTo>
                  <a:pt x="461" y="258"/>
                </a:lnTo>
                <a:lnTo>
                  <a:pt x="484" y="252"/>
                </a:lnTo>
                <a:lnTo>
                  <a:pt x="532" y="236"/>
                </a:lnTo>
                <a:lnTo>
                  <a:pt x="582" y="221"/>
                </a:lnTo>
                <a:lnTo>
                  <a:pt x="634" y="204"/>
                </a:lnTo>
                <a:lnTo>
                  <a:pt x="686" y="185"/>
                </a:lnTo>
                <a:lnTo>
                  <a:pt x="709" y="177"/>
                </a:lnTo>
                <a:lnTo>
                  <a:pt x="732" y="167"/>
                </a:lnTo>
                <a:lnTo>
                  <a:pt x="753" y="160"/>
                </a:lnTo>
                <a:lnTo>
                  <a:pt x="774" y="152"/>
                </a:lnTo>
                <a:lnTo>
                  <a:pt x="793" y="144"/>
                </a:lnTo>
                <a:lnTo>
                  <a:pt x="812" y="135"/>
                </a:lnTo>
                <a:lnTo>
                  <a:pt x="830" y="127"/>
                </a:lnTo>
                <a:lnTo>
                  <a:pt x="845" y="117"/>
                </a:lnTo>
                <a:lnTo>
                  <a:pt x="860" y="110"/>
                </a:lnTo>
                <a:lnTo>
                  <a:pt x="874" y="102"/>
                </a:lnTo>
                <a:lnTo>
                  <a:pt x="887" y="92"/>
                </a:lnTo>
                <a:lnTo>
                  <a:pt x="899" y="85"/>
                </a:lnTo>
                <a:lnTo>
                  <a:pt x="908" y="77"/>
                </a:lnTo>
                <a:lnTo>
                  <a:pt x="918" y="67"/>
                </a:lnTo>
                <a:lnTo>
                  <a:pt x="926" y="60"/>
                </a:lnTo>
                <a:lnTo>
                  <a:pt x="933" y="54"/>
                </a:lnTo>
                <a:lnTo>
                  <a:pt x="939" y="46"/>
                </a:lnTo>
                <a:lnTo>
                  <a:pt x="947" y="39"/>
                </a:lnTo>
                <a:lnTo>
                  <a:pt x="952" y="33"/>
                </a:lnTo>
                <a:lnTo>
                  <a:pt x="958" y="29"/>
                </a:lnTo>
                <a:lnTo>
                  <a:pt x="962" y="23"/>
                </a:lnTo>
                <a:lnTo>
                  <a:pt x="968" y="19"/>
                </a:lnTo>
                <a:lnTo>
                  <a:pt x="974" y="16"/>
                </a:lnTo>
                <a:lnTo>
                  <a:pt x="977" y="12"/>
                </a:lnTo>
                <a:lnTo>
                  <a:pt x="985" y="6"/>
                </a:lnTo>
                <a:lnTo>
                  <a:pt x="993" y="4"/>
                </a:lnTo>
                <a:lnTo>
                  <a:pt x="998" y="2"/>
                </a:lnTo>
                <a:lnTo>
                  <a:pt x="1004" y="0"/>
                </a:lnTo>
                <a:lnTo>
                  <a:pt x="1006" y="0"/>
                </a:lnTo>
                <a:lnTo>
                  <a:pt x="1010" y="2"/>
                </a:lnTo>
                <a:lnTo>
                  <a:pt x="1014" y="4"/>
                </a:lnTo>
                <a:lnTo>
                  <a:pt x="1018" y="6"/>
                </a:lnTo>
                <a:lnTo>
                  <a:pt x="1022" y="8"/>
                </a:lnTo>
                <a:lnTo>
                  <a:pt x="1027" y="12"/>
                </a:lnTo>
                <a:lnTo>
                  <a:pt x="1033" y="14"/>
                </a:lnTo>
                <a:lnTo>
                  <a:pt x="1039" y="18"/>
                </a:lnTo>
                <a:lnTo>
                  <a:pt x="1046" y="23"/>
                </a:lnTo>
                <a:lnTo>
                  <a:pt x="1054" y="27"/>
                </a:lnTo>
                <a:lnTo>
                  <a:pt x="1062" y="33"/>
                </a:lnTo>
                <a:lnTo>
                  <a:pt x="1071" y="39"/>
                </a:lnTo>
                <a:lnTo>
                  <a:pt x="1079" y="44"/>
                </a:lnTo>
                <a:lnTo>
                  <a:pt x="1089" y="52"/>
                </a:lnTo>
                <a:lnTo>
                  <a:pt x="1100" y="58"/>
                </a:lnTo>
                <a:lnTo>
                  <a:pt x="1110" y="66"/>
                </a:lnTo>
                <a:lnTo>
                  <a:pt x="1121" y="75"/>
                </a:lnTo>
                <a:lnTo>
                  <a:pt x="1131" y="85"/>
                </a:lnTo>
                <a:lnTo>
                  <a:pt x="1141" y="94"/>
                </a:lnTo>
                <a:lnTo>
                  <a:pt x="1148" y="102"/>
                </a:lnTo>
                <a:lnTo>
                  <a:pt x="1156" y="112"/>
                </a:lnTo>
                <a:lnTo>
                  <a:pt x="1162" y="119"/>
                </a:lnTo>
                <a:lnTo>
                  <a:pt x="1167" y="127"/>
                </a:lnTo>
                <a:lnTo>
                  <a:pt x="1173" y="133"/>
                </a:lnTo>
                <a:lnTo>
                  <a:pt x="1179" y="140"/>
                </a:lnTo>
                <a:lnTo>
                  <a:pt x="1183" y="146"/>
                </a:lnTo>
                <a:lnTo>
                  <a:pt x="1185" y="152"/>
                </a:lnTo>
                <a:lnTo>
                  <a:pt x="1189" y="156"/>
                </a:lnTo>
                <a:lnTo>
                  <a:pt x="1190" y="162"/>
                </a:lnTo>
                <a:lnTo>
                  <a:pt x="1192" y="165"/>
                </a:lnTo>
                <a:lnTo>
                  <a:pt x="1192" y="167"/>
                </a:lnTo>
                <a:lnTo>
                  <a:pt x="1192" y="171"/>
                </a:lnTo>
                <a:lnTo>
                  <a:pt x="1192" y="175"/>
                </a:lnTo>
                <a:lnTo>
                  <a:pt x="1192" y="181"/>
                </a:lnTo>
                <a:lnTo>
                  <a:pt x="1190" y="185"/>
                </a:lnTo>
                <a:lnTo>
                  <a:pt x="1189" y="190"/>
                </a:lnTo>
                <a:lnTo>
                  <a:pt x="1187" y="194"/>
                </a:lnTo>
                <a:lnTo>
                  <a:pt x="1183" y="200"/>
                </a:lnTo>
                <a:lnTo>
                  <a:pt x="1177" y="210"/>
                </a:lnTo>
                <a:lnTo>
                  <a:pt x="1167" y="219"/>
                </a:lnTo>
                <a:lnTo>
                  <a:pt x="1158" y="229"/>
                </a:lnTo>
                <a:lnTo>
                  <a:pt x="1146" y="238"/>
                </a:lnTo>
                <a:lnTo>
                  <a:pt x="1135" y="250"/>
                </a:lnTo>
                <a:lnTo>
                  <a:pt x="1127" y="254"/>
                </a:lnTo>
                <a:lnTo>
                  <a:pt x="1119" y="261"/>
                </a:lnTo>
                <a:lnTo>
                  <a:pt x="1110" y="269"/>
                </a:lnTo>
                <a:lnTo>
                  <a:pt x="1100" y="279"/>
                </a:lnTo>
                <a:lnTo>
                  <a:pt x="1091" y="288"/>
                </a:lnTo>
                <a:lnTo>
                  <a:pt x="1081" y="300"/>
                </a:lnTo>
                <a:lnTo>
                  <a:pt x="1070" y="313"/>
                </a:lnTo>
                <a:lnTo>
                  <a:pt x="1056" y="327"/>
                </a:lnTo>
                <a:lnTo>
                  <a:pt x="1045" y="342"/>
                </a:lnTo>
                <a:lnTo>
                  <a:pt x="1031" y="359"/>
                </a:lnTo>
                <a:lnTo>
                  <a:pt x="1018" y="377"/>
                </a:lnTo>
                <a:lnTo>
                  <a:pt x="1004" y="396"/>
                </a:lnTo>
                <a:lnTo>
                  <a:pt x="991" y="417"/>
                </a:lnTo>
                <a:lnTo>
                  <a:pt x="975" y="438"/>
                </a:lnTo>
                <a:lnTo>
                  <a:pt x="960" y="461"/>
                </a:lnTo>
                <a:lnTo>
                  <a:pt x="945" y="484"/>
                </a:lnTo>
                <a:lnTo>
                  <a:pt x="929" y="511"/>
                </a:lnTo>
                <a:lnTo>
                  <a:pt x="912" y="538"/>
                </a:lnTo>
                <a:lnTo>
                  <a:pt x="895" y="567"/>
                </a:lnTo>
                <a:lnTo>
                  <a:pt x="878" y="593"/>
                </a:lnTo>
                <a:lnTo>
                  <a:pt x="858" y="620"/>
                </a:lnTo>
                <a:lnTo>
                  <a:pt x="839" y="647"/>
                </a:lnTo>
                <a:lnTo>
                  <a:pt x="818" y="674"/>
                </a:lnTo>
                <a:lnTo>
                  <a:pt x="797" y="701"/>
                </a:lnTo>
                <a:lnTo>
                  <a:pt x="776" y="730"/>
                </a:lnTo>
                <a:lnTo>
                  <a:pt x="755" y="757"/>
                </a:lnTo>
                <a:lnTo>
                  <a:pt x="709" y="812"/>
                </a:lnTo>
                <a:lnTo>
                  <a:pt x="663" y="870"/>
                </a:lnTo>
                <a:lnTo>
                  <a:pt x="615" y="929"/>
                </a:lnTo>
                <a:lnTo>
                  <a:pt x="590" y="958"/>
                </a:lnTo>
                <a:lnTo>
                  <a:pt x="563" y="987"/>
                </a:lnTo>
                <a:lnTo>
                  <a:pt x="536" y="1016"/>
                </a:lnTo>
                <a:lnTo>
                  <a:pt x="509" y="1043"/>
                </a:lnTo>
                <a:lnTo>
                  <a:pt x="484" y="1069"/>
                </a:lnTo>
                <a:lnTo>
                  <a:pt x="457" y="1094"/>
                </a:lnTo>
                <a:lnTo>
                  <a:pt x="430" y="1119"/>
                </a:lnTo>
                <a:lnTo>
                  <a:pt x="405" y="1144"/>
                </a:lnTo>
                <a:lnTo>
                  <a:pt x="378" y="1169"/>
                </a:lnTo>
                <a:lnTo>
                  <a:pt x="352" y="1192"/>
                </a:lnTo>
                <a:lnTo>
                  <a:pt x="327" y="1215"/>
                </a:lnTo>
                <a:lnTo>
                  <a:pt x="302" y="1238"/>
                </a:lnTo>
                <a:lnTo>
                  <a:pt x="277" y="1259"/>
                </a:lnTo>
                <a:lnTo>
                  <a:pt x="252" y="1281"/>
                </a:lnTo>
                <a:lnTo>
                  <a:pt x="227" y="1302"/>
                </a:lnTo>
                <a:lnTo>
                  <a:pt x="202" y="13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80"/>
          <p:cNvSpPr/>
          <p:nvPr/>
        </p:nvSpPr>
        <p:spPr>
          <a:xfrm>
            <a:off x="6145200" y="2801880"/>
            <a:ext cx="344520" cy="249120"/>
          </a:xfrm>
          <a:custGeom>
            <a:avLst/>
            <a:gdLst/>
            <a:ahLst/>
            <a:rect l="l" t="t" r="r" b="b"/>
            <a:pathLst>
              <a:path w="434" h="313">
                <a:moveTo>
                  <a:pt x="0" y="38"/>
                </a:moveTo>
                <a:lnTo>
                  <a:pt x="0" y="34"/>
                </a:lnTo>
                <a:lnTo>
                  <a:pt x="2" y="29"/>
                </a:lnTo>
                <a:lnTo>
                  <a:pt x="4" y="25"/>
                </a:lnTo>
                <a:lnTo>
                  <a:pt x="8" y="21"/>
                </a:lnTo>
                <a:lnTo>
                  <a:pt x="10" y="17"/>
                </a:lnTo>
                <a:lnTo>
                  <a:pt x="15" y="15"/>
                </a:lnTo>
                <a:lnTo>
                  <a:pt x="19" y="11"/>
                </a:lnTo>
                <a:lnTo>
                  <a:pt x="25" y="10"/>
                </a:lnTo>
                <a:lnTo>
                  <a:pt x="33" y="8"/>
                </a:lnTo>
                <a:lnTo>
                  <a:pt x="39" y="6"/>
                </a:lnTo>
                <a:lnTo>
                  <a:pt x="46" y="4"/>
                </a:lnTo>
                <a:lnTo>
                  <a:pt x="56" y="2"/>
                </a:lnTo>
                <a:lnTo>
                  <a:pt x="65" y="0"/>
                </a:lnTo>
                <a:lnTo>
                  <a:pt x="75" y="0"/>
                </a:lnTo>
                <a:lnTo>
                  <a:pt x="85" y="0"/>
                </a:lnTo>
                <a:lnTo>
                  <a:pt x="96" y="0"/>
                </a:lnTo>
                <a:lnTo>
                  <a:pt x="117" y="0"/>
                </a:lnTo>
                <a:lnTo>
                  <a:pt x="142" y="2"/>
                </a:lnTo>
                <a:lnTo>
                  <a:pt x="167" y="6"/>
                </a:lnTo>
                <a:lnTo>
                  <a:pt x="192" y="11"/>
                </a:lnTo>
                <a:lnTo>
                  <a:pt x="206" y="13"/>
                </a:lnTo>
                <a:lnTo>
                  <a:pt x="219" y="17"/>
                </a:lnTo>
                <a:lnTo>
                  <a:pt x="234" y="23"/>
                </a:lnTo>
                <a:lnTo>
                  <a:pt x="248" y="27"/>
                </a:lnTo>
                <a:lnTo>
                  <a:pt x="263" y="33"/>
                </a:lnTo>
                <a:lnTo>
                  <a:pt x="277" y="38"/>
                </a:lnTo>
                <a:lnTo>
                  <a:pt x="292" y="44"/>
                </a:lnTo>
                <a:lnTo>
                  <a:pt x="307" y="52"/>
                </a:lnTo>
                <a:lnTo>
                  <a:pt x="321" y="59"/>
                </a:lnTo>
                <a:lnTo>
                  <a:pt x="332" y="67"/>
                </a:lnTo>
                <a:lnTo>
                  <a:pt x="344" y="75"/>
                </a:lnTo>
                <a:lnTo>
                  <a:pt x="353" y="82"/>
                </a:lnTo>
                <a:lnTo>
                  <a:pt x="363" y="88"/>
                </a:lnTo>
                <a:lnTo>
                  <a:pt x="373" y="96"/>
                </a:lnTo>
                <a:lnTo>
                  <a:pt x="380" y="104"/>
                </a:lnTo>
                <a:lnTo>
                  <a:pt x="388" y="113"/>
                </a:lnTo>
                <a:lnTo>
                  <a:pt x="396" y="121"/>
                </a:lnTo>
                <a:lnTo>
                  <a:pt x="401" y="129"/>
                </a:lnTo>
                <a:lnTo>
                  <a:pt x="407" y="136"/>
                </a:lnTo>
                <a:lnTo>
                  <a:pt x="413" y="146"/>
                </a:lnTo>
                <a:lnTo>
                  <a:pt x="417" y="153"/>
                </a:lnTo>
                <a:lnTo>
                  <a:pt x="420" y="163"/>
                </a:lnTo>
                <a:lnTo>
                  <a:pt x="422" y="173"/>
                </a:lnTo>
                <a:lnTo>
                  <a:pt x="426" y="182"/>
                </a:lnTo>
                <a:lnTo>
                  <a:pt x="428" y="194"/>
                </a:lnTo>
                <a:lnTo>
                  <a:pt x="428" y="205"/>
                </a:lnTo>
                <a:lnTo>
                  <a:pt x="430" y="215"/>
                </a:lnTo>
                <a:lnTo>
                  <a:pt x="432" y="225"/>
                </a:lnTo>
                <a:lnTo>
                  <a:pt x="432" y="232"/>
                </a:lnTo>
                <a:lnTo>
                  <a:pt x="434" y="240"/>
                </a:lnTo>
                <a:lnTo>
                  <a:pt x="434" y="248"/>
                </a:lnTo>
                <a:lnTo>
                  <a:pt x="434" y="253"/>
                </a:lnTo>
                <a:lnTo>
                  <a:pt x="434" y="261"/>
                </a:lnTo>
                <a:lnTo>
                  <a:pt x="434" y="265"/>
                </a:lnTo>
                <a:lnTo>
                  <a:pt x="432" y="271"/>
                </a:lnTo>
                <a:lnTo>
                  <a:pt x="432" y="274"/>
                </a:lnTo>
                <a:lnTo>
                  <a:pt x="428" y="282"/>
                </a:lnTo>
                <a:lnTo>
                  <a:pt x="426" y="288"/>
                </a:lnTo>
                <a:lnTo>
                  <a:pt x="420" y="292"/>
                </a:lnTo>
                <a:lnTo>
                  <a:pt x="415" y="296"/>
                </a:lnTo>
                <a:lnTo>
                  <a:pt x="407" y="301"/>
                </a:lnTo>
                <a:lnTo>
                  <a:pt x="399" y="305"/>
                </a:lnTo>
                <a:lnTo>
                  <a:pt x="390" y="309"/>
                </a:lnTo>
                <a:lnTo>
                  <a:pt x="378" y="311"/>
                </a:lnTo>
                <a:lnTo>
                  <a:pt x="367" y="313"/>
                </a:lnTo>
                <a:lnTo>
                  <a:pt x="355" y="313"/>
                </a:lnTo>
                <a:lnTo>
                  <a:pt x="346" y="313"/>
                </a:lnTo>
                <a:lnTo>
                  <a:pt x="336" y="311"/>
                </a:lnTo>
                <a:lnTo>
                  <a:pt x="325" y="309"/>
                </a:lnTo>
                <a:lnTo>
                  <a:pt x="315" y="305"/>
                </a:lnTo>
                <a:lnTo>
                  <a:pt x="303" y="301"/>
                </a:lnTo>
                <a:lnTo>
                  <a:pt x="292" y="296"/>
                </a:lnTo>
                <a:lnTo>
                  <a:pt x="278" y="290"/>
                </a:lnTo>
                <a:lnTo>
                  <a:pt x="265" y="282"/>
                </a:lnTo>
                <a:lnTo>
                  <a:pt x="252" y="274"/>
                </a:lnTo>
                <a:lnTo>
                  <a:pt x="238" y="265"/>
                </a:lnTo>
                <a:lnTo>
                  <a:pt x="223" y="253"/>
                </a:lnTo>
                <a:lnTo>
                  <a:pt x="207" y="242"/>
                </a:lnTo>
                <a:lnTo>
                  <a:pt x="192" y="228"/>
                </a:lnTo>
                <a:lnTo>
                  <a:pt x="177" y="215"/>
                </a:lnTo>
                <a:lnTo>
                  <a:pt x="159" y="200"/>
                </a:lnTo>
                <a:lnTo>
                  <a:pt x="142" y="182"/>
                </a:lnTo>
                <a:lnTo>
                  <a:pt x="125" y="167"/>
                </a:lnTo>
                <a:lnTo>
                  <a:pt x="110" y="153"/>
                </a:lnTo>
                <a:lnTo>
                  <a:pt x="94" y="140"/>
                </a:lnTo>
                <a:lnTo>
                  <a:pt x="81" y="129"/>
                </a:lnTo>
                <a:lnTo>
                  <a:pt x="67" y="117"/>
                </a:lnTo>
                <a:lnTo>
                  <a:pt x="56" y="106"/>
                </a:lnTo>
                <a:lnTo>
                  <a:pt x="46" y="96"/>
                </a:lnTo>
                <a:lnTo>
                  <a:pt x="37" y="86"/>
                </a:lnTo>
                <a:lnTo>
                  <a:pt x="29" y="77"/>
                </a:lnTo>
                <a:lnTo>
                  <a:pt x="21" y="69"/>
                </a:lnTo>
                <a:lnTo>
                  <a:pt x="15" y="61"/>
                </a:lnTo>
                <a:lnTo>
                  <a:pt x="10" y="56"/>
                </a:lnTo>
                <a:lnTo>
                  <a:pt x="6" y="50"/>
                </a:lnTo>
                <a:lnTo>
                  <a:pt x="2" y="46"/>
                </a:lnTo>
                <a:lnTo>
                  <a:pt x="2" y="42"/>
                </a:lnTo>
                <a:lnTo>
                  <a:pt x="0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1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1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有”的横短撇长，“阝”的竖较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73"/>
          <p:cNvSpPr/>
          <p:nvPr/>
        </p:nvSpPr>
        <p:spPr>
          <a:xfrm>
            <a:off x="6939000" y="2948040"/>
            <a:ext cx="717480" cy="1415880"/>
          </a:xfrm>
          <a:custGeom>
            <a:avLst/>
            <a:gdLst/>
            <a:ahLst/>
            <a:rect l="l" t="t" r="r" b="b"/>
            <a:pathLst>
              <a:path w="904" h="1785">
                <a:moveTo>
                  <a:pt x="451" y="1516"/>
                </a:moveTo>
                <a:lnTo>
                  <a:pt x="430" y="1503"/>
                </a:lnTo>
                <a:lnTo>
                  <a:pt x="409" y="1491"/>
                </a:lnTo>
                <a:lnTo>
                  <a:pt x="390" y="1478"/>
                </a:lnTo>
                <a:lnTo>
                  <a:pt x="373" y="1466"/>
                </a:lnTo>
                <a:lnTo>
                  <a:pt x="355" y="1456"/>
                </a:lnTo>
                <a:lnTo>
                  <a:pt x="342" y="1445"/>
                </a:lnTo>
                <a:lnTo>
                  <a:pt x="329" y="1435"/>
                </a:lnTo>
                <a:lnTo>
                  <a:pt x="317" y="1428"/>
                </a:lnTo>
                <a:lnTo>
                  <a:pt x="306" y="1420"/>
                </a:lnTo>
                <a:lnTo>
                  <a:pt x="298" y="1412"/>
                </a:lnTo>
                <a:lnTo>
                  <a:pt x="290" y="1405"/>
                </a:lnTo>
                <a:lnTo>
                  <a:pt x="286" y="1399"/>
                </a:lnTo>
                <a:lnTo>
                  <a:pt x="283" y="1395"/>
                </a:lnTo>
                <a:lnTo>
                  <a:pt x="281" y="1389"/>
                </a:lnTo>
                <a:lnTo>
                  <a:pt x="281" y="1387"/>
                </a:lnTo>
                <a:lnTo>
                  <a:pt x="281" y="1384"/>
                </a:lnTo>
                <a:lnTo>
                  <a:pt x="284" y="1382"/>
                </a:lnTo>
                <a:lnTo>
                  <a:pt x="288" y="1380"/>
                </a:lnTo>
                <a:lnTo>
                  <a:pt x="292" y="1378"/>
                </a:lnTo>
                <a:lnTo>
                  <a:pt x="300" y="1378"/>
                </a:lnTo>
                <a:lnTo>
                  <a:pt x="308" y="1376"/>
                </a:lnTo>
                <a:lnTo>
                  <a:pt x="315" y="1376"/>
                </a:lnTo>
                <a:lnTo>
                  <a:pt x="325" y="1376"/>
                </a:lnTo>
                <a:lnTo>
                  <a:pt x="336" y="1376"/>
                </a:lnTo>
                <a:lnTo>
                  <a:pt x="348" y="1378"/>
                </a:lnTo>
                <a:lnTo>
                  <a:pt x="361" y="1378"/>
                </a:lnTo>
                <a:lnTo>
                  <a:pt x="375" y="1380"/>
                </a:lnTo>
                <a:lnTo>
                  <a:pt x="390" y="1382"/>
                </a:lnTo>
                <a:lnTo>
                  <a:pt x="407" y="1385"/>
                </a:lnTo>
                <a:lnTo>
                  <a:pt x="425" y="1387"/>
                </a:lnTo>
                <a:lnTo>
                  <a:pt x="444" y="1391"/>
                </a:lnTo>
                <a:lnTo>
                  <a:pt x="465" y="1397"/>
                </a:lnTo>
                <a:lnTo>
                  <a:pt x="484" y="1403"/>
                </a:lnTo>
                <a:lnTo>
                  <a:pt x="503" y="1409"/>
                </a:lnTo>
                <a:lnTo>
                  <a:pt x="521" y="1412"/>
                </a:lnTo>
                <a:lnTo>
                  <a:pt x="538" y="1418"/>
                </a:lnTo>
                <a:lnTo>
                  <a:pt x="553" y="1420"/>
                </a:lnTo>
                <a:lnTo>
                  <a:pt x="567" y="1424"/>
                </a:lnTo>
                <a:lnTo>
                  <a:pt x="580" y="1426"/>
                </a:lnTo>
                <a:lnTo>
                  <a:pt x="594" y="1426"/>
                </a:lnTo>
                <a:lnTo>
                  <a:pt x="605" y="1428"/>
                </a:lnTo>
                <a:lnTo>
                  <a:pt x="615" y="1428"/>
                </a:lnTo>
                <a:lnTo>
                  <a:pt x="624" y="1428"/>
                </a:lnTo>
                <a:lnTo>
                  <a:pt x="634" y="1428"/>
                </a:lnTo>
                <a:lnTo>
                  <a:pt x="641" y="1426"/>
                </a:lnTo>
                <a:lnTo>
                  <a:pt x="647" y="1424"/>
                </a:lnTo>
                <a:lnTo>
                  <a:pt x="653" y="1422"/>
                </a:lnTo>
                <a:lnTo>
                  <a:pt x="659" y="1420"/>
                </a:lnTo>
                <a:lnTo>
                  <a:pt x="663" y="1414"/>
                </a:lnTo>
                <a:lnTo>
                  <a:pt x="668" y="1409"/>
                </a:lnTo>
                <a:lnTo>
                  <a:pt x="672" y="1401"/>
                </a:lnTo>
                <a:lnTo>
                  <a:pt x="676" y="1393"/>
                </a:lnTo>
                <a:lnTo>
                  <a:pt x="678" y="1384"/>
                </a:lnTo>
                <a:lnTo>
                  <a:pt x="682" y="1372"/>
                </a:lnTo>
                <a:lnTo>
                  <a:pt x="682" y="1361"/>
                </a:lnTo>
                <a:lnTo>
                  <a:pt x="684" y="1349"/>
                </a:lnTo>
                <a:lnTo>
                  <a:pt x="684" y="1341"/>
                </a:lnTo>
                <a:lnTo>
                  <a:pt x="682" y="1334"/>
                </a:lnTo>
                <a:lnTo>
                  <a:pt x="680" y="1324"/>
                </a:lnTo>
                <a:lnTo>
                  <a:pt x="678" y="1314"/>
                </a:lnTo>
                <a:lnTo>
                  <a:pt x="676" y="1305"/>
                </a:lnTo>
                <a:lnTo>
                  <a:pt x="672" y="1293"/>
                </a:lnTo>
                <a:lnTo>
                  <a:pt x="668" y="1282"/>
                </a:lnTo>
                <a:lnTo>
                  <a:pt x="665" y="1268"/>
                </a:lnTo>
                <a:lnTo>
                  <a:pt x="661" y="1255"/>
                </a:lnTo>
                <a:lnTo>
                  <a:pt x="655" y="1242"/>
                </a:lnTo>
                <a:lnTo>
                  <a:pt x="649" y="1226"/>
                </a:lnTo>
                <a:lnTo>
                  <a:pt x="641" y="1211"/>
                </a:lnTo>
                <a:lnTo>
                  <a:pt x="636" y="1195"/>
                </a:lnTo>
                <a:lnTo>
                  <a:pt x="628" y="1178"/>
                </a:lnTo>
                <a:lnTo>
                  <a:pt x="618" y="1161"/>
                </a:lnTo>
                <a:lnTo>
                  <a:pt x="611" y="1144"/>
                </a:lnTo>
                <a:lnTo>
                  <a:pt x="592" y="1111"/>
                </a:lnTo>
                <a:lnTo>
                  <a:pt x="572" y="1080"/>
                </a:lnTo>
                <a:lnTo>
                  <a:pt x="549" y="1048"/>
                </a:lnTo>
                <a:lnTo>
                  <a:pt x="526" y="1017"/>
                </a:lnTo>
                <a:lnTo>
                  <a:pt x="501" y="986"/>
                </a:lnTo>
                <a:lnTo>
                  <a:pt x="475" y="954"/>
                </a:lnTo>
                <a:lnTo>
                  <a:pt x="461" y="938"/>
                </a:lnTo>
                <a:lnTo>
                  <a:pt x="446" y="923"/>
                </a:lnTo>
                <a:lnTo>
                  <a:pt x="430" y="908"/>
                </a:lnTo>
                <a:lnTo>
                  <a:pt x="415" y="890"/>
                </a:lnTo>
                <a:lnTo>
                  <a:pt x="400" y="877"/>
                </a:lnTo>
                <a:lnTo>
                  <a:pt x="384" y="865"/>
                </a:lnTo>
                <a:lnTo>
                  <a:pt x="371" y="852"/>
                </a:lnTo>
                <a:lnTo>
                  <a:pt x="359" y="840"/>
                </a:lnTo>
                <a:lnTo>
                  <a:pt x="346" y="829"/>
                </a:lnTo>
                <a:lnTo>
                  <a:pt x="336" y="819"/>
                </a:lnTo>
                <a:lnTo>
                  <a:pt x="325" y="810"/>
                </a:lnTo>
                <a:lnTo>
                  <a:pt x="317" y="800"/>
                </a:lnTo>
                <a:lnTo>
                  <a:pt x="308" y="790"/>
                </a:lnTo>
                <a:lnTo>
                  <a:pt x="302" y="783"/>
                </a:lnTo>
                <a:lnTo>
                  <a:pt x="296" y="775"/>
                </a:lnTo>
                <a:lnTo>
                  <a:pt x="290" y="769"/>
                </a:lnTo>
                <a:lnTo>
                  <a:pt x="286" y="762"/>
                </a:lnTo>
                <a:lnTo>
                  <a:pt x="283" y="756"/>
                </a:lnTo>
                <a:lnTo>
                  <a:pt x="283" y="752"/>
                </a:lnTo>
                <a:lnTo>
                  <a:pt x="281" y="746"/>
                </a:lnTo>
                <a:lnTo>
                  <a:pt x="281" y="744"/>
                </a:lnTo>
                <a:lnTo>
                  <a:pt x="283" y="742"/>
                </a:lnTo>
                <a:lnTo>
                  <a:pt x="283" y="741"/>
                </a:lnTo>
                <a:lnTo>
                  <a:pt x="283" y="739"/>
                </a:lnTo>
                <a:lnTo>
                  <a:pt x="284" y="735"/>
                </a:lnTo>
                <a:lnTo>
                  <a:pt x="286" y="731"/>
                </a:lnTo>
                <a:lnTo>
                  <a:pt x="288" y="727"/>
                </a:lnTo>
                <a:lnTo>
                  <a:pt x="290" y="721"/>
                </a:lnTo>
                <a:lnTo>
                  <a:pt x="292" y="716"/>
                </a:lnTo>
                <a:lnTo>
                  <a:pt x="296" y="710"/>
                </a:lnTo>
                <a:lnTo>
                  <a:pt x="298" y="704"/>
                </a:lnTo>
                <a:lnTo>
                  <a:pt x="302" y="696"/>
                </a:lnTo>
                <a:lnTo>
                  <a:pt x="306" y="691"/>
                </a:lnTo>
                <a:lnTo>
                  <a:pt x="309" y="683"/>
                </a:lnTo>
                <a:lnTo>
                  <a:pt x="313" y="673"/>
                </a:lnTo>
                <a:lnTo>
                  <a:pt x="317" y="666"/>
                </a:lnTo>
                <a:lnTo>
                  <a:pt x="321" y="656"/>
                </a:lnTo>
                <a:lnTo>
                  <a:pt x="325" y="646"/>
                </a:lnTo>
                <a:lnTo>
                  <a:pt x="331" y="635"/>
                </a:lnTo>
                <a:lnTo>
                  <a:pt x="336" y="625"/>
                </a:lnTo>
                <a:lnTo>
                  <a:pt x="342" y="614"/>
                </a:lnTo>
                <a:lnTo>
                  <a:pt x="346" y="602"/>
                </a:lnTo>
                <a:lnTo>
                  <a:pt x="354" y="589"/>
                </a:lnTo>
                <a:lnTo>
                  <a:pt x="359" y="577"/>
                </a:lnTo>
                <a:lnTo>
                  <a:pt x="365" y="564"/>
                </a:lnTo>
                <a:lnTo>
                  <a:pt x="371" y="551"/>
                </a:lnTo>
                <a:lnTo>
                  <a:pt x="379" y="535"/>
                </a:lnTo>
                <a:lnTo>
                  <a:pt x="384" y="522"/>
                </a:lnTo>
                <a:lnTo>
                  <a:pt x="392" y="506"/>
                </a:lnTo>
                <a:lnTo>
                  <a:pt x="400" y="489"/>
                </a:lnTo>
                <a:lnTo>
                  <a:pt x="407" y="474"/>
                </a:lnTo>
                <a:lnTo>
                  <a:pt x="415" y="456"/>
                </a:lnTo>
                <a:lnTo>
                  <a:pt x="423" y="441"/>
                </a:lnTo>
                <a:lnTo>
                  <a:pt x="430" y="424"/>
                </a:lnTo>
                <a:lnTo>
                  <a:pt x="438" y="408"/>
                </a:lnTo>
                <a:lnTo>
                  <a:pt x="446" y="393"/>
                </a:lnTo>
                <a:lnTo>
                  <a:pt x="451" y="378"/>
                </a:lnTo>
                <a:lnTo>
                  <a:pt x="459" y="364"/>
                </a:lnTo>
                <a:lnTo>
                  <a:pt x="465" y="351"/>
                </a:lnTo>
                <a:lnTo>
                  <a:pt x="471" y="337"/>
                </a:lnTo>
                <a:lnTo>
                  <a:pt x="476" y="324"/>
                </a:lnTo>
                <a:lnTo>
                  <a:pt x="482" y="312"/>
                </a:lnTo>
                <a:lnTo>
                  <a:pt x="488" y="301"/>
                </a:lnTo>
                <a:lnTo>
                  <a:pt x="494" y="289"/>
                </a:lnTo>
                <a:lnTo>
                  <a:pt x="499" y="278"/>
                </a:lnTo>
                <a:lnTo>
                  <a:pt x="503" y="268"/>
                </a:lnTo>
                <a:lnTo>
                  <a:pt x="507" y="259"/>
                </a:lnTo>
                <a:lnTo>
                  <a:pt x="513" y="249"/>
                </a:lnTo>
                <a:lnTo>
                  <a:pt x="517" y="241"/>
                </a:lnTo>
                <a:lnTo>
                  <a:pt x="521" y="232"/>
                </a:lnTo>
                <a:lnTo>
                  <a:pt x="522" y="224"/>
                </a:lnTo>
                <a:lnTo>
                  <a:pt x="526" y="217"/>
                </a:lnTo>
                <a:lnTo>
                  <a:pt x="528" y="211"/>
                </a:lnTo>
                <a:lnTo>
                  <a:pt x="530" y="205"/>
                </a:lnTo>
                <a:lnTo>
                  <a:pt x="534" y="199"/>
                </a:lnTo>
                <a:lnTo>
                  <a:pt x="534" y="193"/>
                </a:lnTo>
                <a:lnTo>
                  <a:pt x="536" y="188"/>
                </a:lnTo>
                <a:lnTo>
                  <a:pt x="538" y="184"/>
                </a:lnTo>
                <a:lnTo>
                  <a:pt x="538" y="180"/>
                </a:lnTo>
                <a:lnTo>
                  <a:pt x="538" y="176"/>
                </a:lnTo>
                <a:lnTo>
                  <a:pt x="538" y="174"/>
                </a:lnTo>
                <a:lnTo>
                  <a:pt x="538" y="170"/>
                </a:lnTo>
                <a:lnTo>
                  <a:pt x="538" y="169"/>
                </a:lnTo>
                <a:lnTo>
                  <a:pt x="534" y="167"/>
                </a:lnTo>
                <a:lnTo>
                  <a:pt x="530" y="165"/>
                </a:lnTo>
                <a:lnTo>
                  <a:pt x="524" y="165"/>
                </a:lnTo>
                <a:lnTo>
                  <a:pt x="517" y="163"/>
                </a:lnTo>
                <a:lnTo>
                  <a:pt x="507" y="165"/>
                </a:lnTo>
                <a:lnTo>
                  <a:pt x="498" y="165"/>
                </a:lnTo>
                <a:lnTo>
                  <a:pt x="486" y="167"/>
                </a:lnTo>
                <a:lnTo>
                  <a:pt x="473" y="169"/>
                </a:lnTo>
                <a:lnTo>
                  <a:pt x="459" y="170"/>
                </a:lnTo>
                <a:lnTo>
                  <a:pt x="442" y="174"/>
                </a:lnTo>
                <a:lnTo>
                  <a:pt x="425" y="178"/>
                </a:lnTo>
                <a:lnTo>
                  <a:pt x="407" y="182"/>
                </a:lnTo>
                <a:lnTo>
                  <a:pt x="386" y="186"/>
                </a:lnTo>
                <a:lnTo>
                  <a:pt x="365" y="192"/>
                </a:lnTo>
                <a:lnTo>
                  <a:pt x="342" y="197"/>
                </a:lnTo>
                <a:lnTo>
                  <a:pt x="317" y="205"/>
                </a:lnTo>
                <a:lnTo>
                  <a:pt x="290" y="211"/>
                </a:lnTo>
                <a:lnTo>
                  <a:pt x="265" y="217"/>
                </a:lnTo>
                <a:lnTo>
                  <a:pt x="240" y="222"/>
                </a:lnTo>
                <a:lnTo>
                  <a:pt x="215" y="228"/>
                </a:lnTo>
                <a:lnTo>
                  <a:pt x="192" y="232"/>
                </a:lnTo>
                <a:lnTo>
                  <a:pt x="169" y="236"/>
                </a:lnTo>
                <a:lnTo>
                  <a:pt x="148" y="240"/>
                </a:lnTo>
                <a:lnTo>
                  <a:pt x="127" y="241"/>
                </a:lnTo>
                <a:lnTo>
                  <a:pt x="108" y="245"/>
                </a:lnTo>
                <a:lnTo>
                  <a:pt x="89" y="247"/>
                </a:lnTo>
                <a:lnTo>
                  <a:pt x="71" y="249"/>
                </a:lnTo>
                <a:lnTo>
                  <a:pt x="56" y="251"/>
                </a:lnTo>
                <a:lnTo>
                  <a:pt x="41" y="251"/>
                </a:lnTo>
                <a:lnTo>
                  <a:pt x="25" y="251"/>
                </a:lnTo>
                <a:lnTo>
                  <a:pt x="14" y="253"/>
                </a:lnTo>
                <a:lnTo>
                  <a:pt x="0" y="253"/>
                </a:lnTo>
                <a:lnTo>
                  <a:pt x="0" y="157"/>
                </a:lnTo>
                <a:lnTo>
                  <a:pt x="50" y="151"/>
                </a:lnTo>
                <a:lnTo>
                  <a:pt x="98" y="145"/>
                </a:lnTo>
                <a:lnTo>
                  <a:pt x="146" y="138"/>
                </a:lnTo>
                <a:lnTo>
                  <a:pt x="190" y="130"/>
                </a:lnTo>
                <a:lnTo>
                  <a:pt x="235" y="122"/>
                </a:lnTo>
                <a:lnTo>
                  <a:pt x="256" y="119"/>
                </a:lnTo>
                <a:lnTo>
                  <a:pt x="277" y="115"/>
                </a:lnTo>
                <a:lnTo>
                  <a:pt x="296" y="109"/>
                </a:lnTo>
                <a:lnTo>
                  <a:pt x="317" y="105"/>
                </a:lnTo>
                <a:lnTo>
                  <a:pt x="336" y="101"/>
                </a:lnTo>
                <a:lnTo>
                  <a:pt x="354" y="96"/>
                </a:lnTo>
                <a:lnTo>
                  <a:pt x="373" y="92"/>
                </a:lnTo>
                <a:lnTo>
                  <a:pt x="388" y="88"/>
                </a:lnTo>
                <a:lnTo>
                  <a:pt x="405" y="82"/>
                </a:lnTo>
                <a:lnTo>
                  <a:pt x="421" y="78"/>
                </a:lnTo>
                <a:lnTo>
                  <a:pt x="434" y="73"/>
                </a:lnTo>
                <a:lnTo>
                  <a:pt x="448" y="69"/>
                </a:lnTo>
                <a:lnTo>
                  <a:pt x="461" y="65"/>
                </a:lnTo>
                <a:lnTo>
                  <a:pt x="473" y="59"/>
                </a:lnTo>
                <a:lnTo>
                  <a:pt x="484" y="55"/>
                </a:lnTo>
                <a:lnTo>
                  <a:pt x="494" y="51"/>
                </a:lnTo>
                <a:lnTo>
                  <a:pt x="503" y="46"/>
                </a:lnTo>
                <a:lnTo>
                  <a:pt x="513" y="42"/>
                </a:lnTo>
                <a:lnTo>
                  <a:pt x="519" y="38"/>
                </a:lnTo>
                <a:lnTo>
                  <a:pt x="526" y="32"/>
                </a:lnTo>
                <a:lnTo>
                  <a:pt x="532" y="28"/>
                </a:lnTo>
                <a:lnTo>
                  <a:pt x="538" y="25"/>
                </a:lnTo>
                <a:lnTo>
                  <a:pt x="542" y="19"/>
                </a:lnTo>
                <a:lnTo>
                  <a:pt x="547" y="15"/>
                </a:lnTo>
                <a:lnTo>
                  <a:pt x="555" y="11"/>
                </a:lnTo>
                <a:lnTo>
                  <a:pt x="563" y="7"/>
                </a:lnTo>
                <a:lnTo>
                  <a:pt x="570" y="3"/>
                </a:lnTo>
                <a:lnTo>
                  <a:pt x="580" y="2"/>
                </a:lnTo>
                <a:lnTo>
                  <a:pt x="590" y="0"/>
                </a:lnTo>
                <a:lnTo>
                  <a:pt x="597" y="0"/>
                </a:lnTo>
                <a:lnTo>
                  <a:pt x="601" y="0"/>
                </a:lnTo>
                <a:lnTo>
                  <a:pt x="605" y="2"/>
                </a:lnTo>
                <a:lnTo>
                  <a:pt x="609" y="3"/>
                </a:lnTo>
                <a:lnTo>
                  <a:pt x="615" y="5"/>
                </a:lnTo>
                <a:lnTo>
                  <a:pt x="620" y="9"/>
                </a:lnTo>
                <a:lnTo>
                  <a:pt x="626" y="15"/>
                </a:lnTo>
                <a:lnTo>
                  <a:pt x="634" y="19"/>
                </a:lnTo>
                <a:lnTo>
                  <a:pt x="643" y="25"/>
                </a:lnTo>
                <a:lnTo>
                  <a:pt x="651" y="32"/>
                </a:lnTo>
                <a:lnTo>
                  <a:pt x="661" y="38"/>
                </a:lnTo>
                <a:lnTo>
                  <a:pt x="672" y="48"/>
                </a:lnTo>
                <a:lnTo>
                  <a:pt x="682" y="55"/>
                </a:lnTo>
                <a:lnTo>
                  <a:pt x="693" y="65"/>
                </a:lnTo>
                <a:lnTo>
                  <a:pt x="707" y="74"/>
                </a:lnTo>
                <a:lnTo>
                  <a:pt x="718" y="84"/>
                </a:lnTo>
                <a:lnTo>
                  <a:pt x="732" y="96"/>
                </a:lnTo>
                <a:lnTo>
                  <a:pt x="745" y="107"/>
                </a:lnTo>
                <a:lnTo>
                  <a:pt x="759" y="119"/>
                </a:lnTo>
                <a:lnTo>
                  <a:pt x="770" y="128"/>
                </a:lnTo>
                <a:lnTo>
                  <a:pt x="780" y="140"/>
                </a:lnTo>
                <a:lnTo>
                  <a:pt x="789" y="149"/>
                </a:lnTo>
                <a:lnTo>
                  <a:pt x="799" y="157"/>
                </a:lnTo>
                <a:lnTo>
                  <a:pt x="807" y="167"/>
                </a:lnTo>
                <a:lnTo>
                  <a:pt x="814" y="174"/>
                </a:lnTo>
                <a:lnTo>
                  <a:pt x="820" y="182"/>
                </a:lnTo>
                <a:lnTo>
                  <a:pt x="826" y="190"/>
                </a:lnTo>
                <a:lnTo>
                  <a:pt x="832" y="195"/>
                </a:lnTo>
                <a:lnTo>
                  <a:pt x="835" y="201"/>
                </a:lnTo>
                <a:lnTo>
                  <a:pt x="837" y="207"/>
                </a:lnTo>
                <a:lnTo>
                  <a:pt x="839" y="211"/>
                </a:lnTo>
                <a:lnTo>
                  <a:pt x="841" y="215"/>
                </a:lnTo>
                <a:lnTo>
                  <a:pt x="841" y="217"/>
                </a:lnTo>
                <a:lnTo>
                  <a:pt x="837" y="226"/>
                </a:lnTo>
                <a:lnTo>
                  <a:pt x="830" y="234"/>
                </a:lnTo>
                <a:lnTo>
                  <a:pt x="826" y="240"/>
                </a:lnTo>
                <a:lnTo>
                  <a:pt x="822" y="243"/>
                </a:lnTo>
                <a:lnTo>
                  <a:pt x="816" y="247"/>
                </a:lnTo>
                <a:lnTo>
                  <a:pt x="810" y="253"/>
                </a:lnTo>
                <a:lnTo>
                  <a:pt x="805" y="257"/>
                </a:lnTo>
                <a:lnTo>
                  <a:pt x="799" y="261"/>
                </a:lnTo>
                <a:lnTo>
                  <a:pt x="791" y="266"/>
                </a:lnTo>
                <a:lnTo>
                  <a:pt x="784" y="270"/>
                </a:lnTo>
                <a:lnTo>
                  <a:pt x="774" y="274"/>
                </a:lnTo>
                <a:lnTo>
                  <a:pt x="766" y="280"/>
                </a:lnTo>
                <a:lnTo>
                  <a:pt x="755" y="284"/>
                </a:lnTo>
                <a:lnTo>
                  <a:pt x="745" y="289"/>
                </a:lnTo>
                <a:lnTo>
                  <a:pt x="732" y="295"/>
                </a:lnTo>
                <a:lnTo>
                  <a:pt x="720" y="305"/>
                </a:lnTo>
                <a:lnTo>
                  <a:pt x="707" y="312"/>
                </a:lnTo>
                <a:lnTo>
                  <a:pt x="695" y="322"/>
                </a:lnTo>
                <a:lnTo>
                  <a:pt x="680" y="334"/>
                </a:lnTo>
                <a:lnTo>
                  <a:pt x="666" y="345"/>
                </a:lnTo>
                <a:lnTo>
                  <a:pt x="653" y="359"/>
                </a:lnTo>
                <a:lnTo>
                  <a:pt x="638" y="372"/>
                </a:lnTo>
                <a:lnTo>
                  <a:pt x="622" y="387"/>
                </a:lnTo>
                <a:lnTo>
                  <a:pt x="607" y="405"/>
                </a:lnTo>
                <a:lnTo>
                  <a:pt x="592" y="422"/>
                </a:lnTo>
                <a:lnTo>
                  <a:pt x="576" y="441"/>
                </a:lnTo>
                <a:lnTo>
                  <a:pt x="561" y="460"/>
                </a:lnTo>
                <a:lnTo>
                  <a:pt x="544" y="481"/>
                </a:lnTo>
                <a:lnTo>
                  <a:pt x="528" y="504"/>
                </a:lnTo>
                <a:lnTo>
                  <a:pt x="513" y="529"/>
                </a:lnTo>
                <a:lnTo>
                  <a:pt x="498" y="554"/>
                </a:lnTo>
                <a:lnTo>
                  <a:pt x="484" y="577"/>
                </a:lnTo>
                <a:lnTo>
                  <a:pt x="471" y="598"/>
                </a:lnTo>
                <a:lnTo>
                  <a:pt x="459" y="620"/>
                </a:lnTo>
                <a:lnTo>
                  <a:pt x="448" y="639"/>
                </a:lnTo>
                <a:lnTo>
                  <a:pt x="438" y="658"/>
                </a:lnTo>
                <a:lnTo>
                  <a:pt x="428" y="673"/>
                </a:lnTo>
                <a:lnTo>
                  <a:pt x="423" y="689"/>
                </a:lnTo>
                <a:lnTo>
                  <a:pt x="415" y="704"/>
                </a:lnTo>
                <a:lnTo>
                  <a:pt x="411" y="716"/>
                </a:lnTo>
                <a:lnTo>
                  <a:pt x="405" y="727"/>
                </a:lnTo>
                <a:lnTo>
                  <a:pt x="403" y="737"/>
                </a:lnTo>
                <a:lnTo>
                  <a:pt x="402" y="744"/>
                </a:lnTo>
                <a:lnTo>
                  <a:pt x="402" y="750"/>
                </a:lnTo>
                <a:lnTo>
                  <a:pt x="402" y="756"/>
                </a:lnTo>
                <a:lnTo>
                  <a:pt x="403" y="758"/>
                </a:lnTo>
                <a:lnTo>
                  <a:pt x="405" y="764"/>
                </a:lnTo>
                <a:lnTo>
                  <a:pt x="409" y="769"/>
                </a:lnTo>
                <a:lnTo>
                  <a:pt x="413" y="775"/>
                </a:lnTo>
                <a:lnTo>
                  <a:pt x="419" y="781"/>
                </a:lnTo>
                <a:lnTo>
                  <a:pt x="427" y="787"/>
                </a:lnTo>
                <a:lnTo>
                  <a:pt x="434" y="794"/>
                </a:lnTo>
                <a:lnTo>
                  <a:pt x="442" y="802"/>
                </a:lnTo>
                <a:lnTo>
                  <a:pt x="451" y="810"/>
                </a:lnTo>
                <a:lnTo>
                  <a:pt x="463" y="819"/>
                </a:lnTo>
                <a:lnTo>
                  <a:pt x="475" y="829"/>
                </a:lnTo>
                <a:lnTo>
                  <a:pt x="488" y="838"/>
                </a:lnTo>
                <a:lnTo>
                  <a:pt x="503" y="848"/>
                </a:lnTo>
                <a:lnTo>
                  <a:pt x="519" y="858"/>
                </a:lnTo>
                <a:lnTo>
                  <a:pt x="536" y="869"/>
                </a:lnTo>
                <a:lnTo>
                  <a:pt x="553" y="879"/>
                </a:lnTo>
                <a:lnTo>
                  <a:pt x="574" y="890"/>
                </a:lnTo>
                <a:lnTo>
                  <a:pt x="592" y="906"/>
                </a:lnTo>
                <a:lnTo>
                  <a:pt x="609" y="919"/>
                </a:lnTo>
                <a:lnTo>
                  <a:pt x="626" y="934"/>
                </a:lnTo>
                <a:lnTo>
                  <a:pt x="643" y="950"/>
                </a:lnTo>
                <a:lnTo>
                  <a:pt x="678" y="982"/>
                </a:lnTo>
                <a:lnTo>
                  <a:pt x="709" y="1015"/>
                </a:lnTo>
                <a:lnTo>
                  <a:pt x="724" y="1034"/>
                </a:lnTo>
                <a:lnTo>
                  <a:pt x="739" y="1051"/>
                </a:lnTo>
                <a:lnTo>
                  <a:pt x="755" y="1071"/>
                </a:lnTo>
                <a:lnTo>
                  <a:pt x="768" y="1088"/>
                </a:lnTo>
                <a:lnTo>
                  <a:pt x="782" y="1107"/>
                </a:lnTo>
                <a:lnTo>
                  <a:pt x="793" y="1128"/>
                </a:lnTo>
                <a:lnTo>
                  <a:pt x="807" y="1147"/>
                </a:lnTo>
                <a:lnTo>
                  <a:pt x="818" y="1169"/>
                </a:lnTo>
                <a:lnTo>
                  <a:pt x="828" y="1190"/>
                </a:lnTo>
                <a:lnTo>
                  <a:pt x="839" y="1213"/>
                </a:lnTo>
                <a:lnTo>
                  <a:pt x="849" y="1234"/>
                </a:lnTo>
                <a:lnTo>
                  <a:pt x="858" y="1255"/>
                </a:lnTo>
                <a:lnTo>
                  <a:pt x="866" y="1276"/>
                </a:lnTo>
                <a:lnTo>
                  <a:pt x="874" y="1297"/>
                </a:lnTo>
                <a:lnTo>
                  <a:pt x="881" y="1318"/>
                </a:lnTo>
                <a:lnTo>
                  <a:pt x="887" y="1339"/>
                </a:lnTo>
                <a:lnTo>
                  <a:pt x="893" y="1359"/>
                </a:lnTo>
                <a:lnTo>
                  <a:pt x="897" y="1380"/>
                </a:lnTo>
                <a:lnTo>
                  <a:pt x="901" y="1399"/>
                </a:lnTo>
                <a:lnTo>
                  <a:pt x="903" y="1418"/>
                </a:lnTo>
                <a:lnTo>
                  <a:pt x="904" y="1437"/>
                </a:lnTo>
                <a:lnTo>
                  <a:pt x="904" y="1456"/>
                </a:lnTo>
                <a:lnTo>
                  <a:pt x="904" y="1474"/>
                </a:lnTo>
                <a:lnTo>
                  <a:pt x="903" y="1493"/>
                </a:lnTo>
                <a:lnTo>
                  <a:pt x="901" y="1512"/>
                </a:lnTo>
                <a:lnTo>
                  <a:pt x="897" y="1531"/>
                </a:lnTo>
                <a:lnTo>
                  <a:pt x="893" y="1551"/>
                </a:lnTo>
                <a:lnTo>
                  <a:pt x="889" y="1568"/>
                </a:lnTo>
                <a:lnTo>
                  <a:pt x="885" y="1583"/>
                </a:lnTo>
                <a:lnTo>
                  <a:pt x="879" y="1600"/>
                </a:lnTo>
                <a:lnTo>
                  <a:pt x="874" y="1616"/>
                </a:lnTo>
                <a:lnTo>
                  <a:pt x="868" y="1629"/>
                </a:lnTo>
                <a:lnTo>
                  <a:pt x="860" y="1643"/>
                </a:lnTo>
                <a:lnTo>
                  <a:pt x="855" y="1656"/>
                </a:lnTo>
                <a:lnTo>
                  <a:pt x="847" y="1668"/>
                </a:lnTo>
                <a:lnTo>
                  <a:pt x="839" y="1681"/>
                </a:lnTo>
                <a:lnTo>
                  <a:pt x="832" y="1691"/>
                </a:lnTo>
                <a:lnTo>
                  <a:pt x="822" y="1702"/>
                </a:lnTo>
                <a:lnTo>
                  <a:pt x="814" y="1712"/>
                </a:lnTo>
                <a:lnTo>
                  <a:pt x="805" y="1721"/>
                </a:lnTo>
                <a:lnTo>
                  <a:pt x="797" y="1731"/>
                </a:lnTo>
                <a:lnTo>
                  <a:pt x="787" y="1739"/>
                </a:lnTo>
                <a:lnTo>
                  <a:pt x="780" y="1746"/>
                </a:lnTo>
                <a:lnTo>
                  <a:pt x="772" y="1752"/>
                </a:lnTo>
                <a:lnTo>
                  <a:pt x="762" y="1760"/>
                </a:lnTo>
                <a:lnTo>
                  <a:pt x="757" y="1766"/>
                </a:lnTo>
                <a:lnTo>
                  <a:pt x="749" y="1769"/>
                </a:lnTo>
                <a:lnTo>
                  <a:pt x="741" y="1773"/>
                </a:lnTo>
                <a:lnTo>
                  <a:pt x="736" y="1777"/>
                </a:lnTo>
                <a:lnTo>
                  <a:pt x="728" y="1781"/>
                </a:lnTo>
                <a:lnTo>
                  <a:pt x="722" y="1783"/>
                </a:lnTo>
                <a:lnTo>
                  <a:pt x="716" y="1785"/>
                </a:lnTo>
                <a:lnTo>
                  <a:pt x="711" y="1785"/>
                </a:lnTo>
                <a:lnTo>
                  <a:pt x="705" y="1785"/>
                </a:lnTo>
                <a:lnTo>
                  <a:pt x="701" y="1783"/>
                </a:lnTo>
                <a:lnTo>
                  <a:pt x="695" y="1781"/>
                </a:lnTo>
                <a:lnTo>
                  <a:pt x="689" y="1779"/>
                </a:lnTo>
                <a:lnTo>
                  <a:pt x="684" y="1777"/>
                </a:lnTo>
                <a:lnTo>
                  <a:pt x="678" y="1773"/>
                </a:lnTo>
                <a:lnTo>
                  <a:pt x="672" y="1769"/>
                </a:lnTo>
                <a:lnTo>
                  <a:pt x="668" y="1766"/>
                </a:lnTo>
                <a:lnTo>
                  <a:pt x="665" y="1762"/>
                </a:lnTo>
                <a:lnTo>
                  <a:pt x="661" y="1756"/>
                </a:lnTo>
                <a:lnTo>
                  <a:pt x="657" y="1752"/>
                </a:lnTo>
                <a:lnTo>
                  <a:pt x="655" y="1744"/>
                </a:lnTo>
                <a:lnTo>
                  <a:pt x="653" y="1739"/>
                </a:lnTo>
                <a:lnTo>
                  <a:pt x="651" y="1731"/>
                </a:lnTo>
                <a:lnTo>
                  <a:pt x="649" y="1723"/>
                </a:lnTo>
                <a:lnTo>
                  <a:pt x="647" y="1716"/>
                </a:lnTo>
                <a:lnTo>
                  <a:pt x="647" y="1706"/>
                </a:lnTo>
                <a:lnTo>
                  <a:pt x="647" y="1696"/>
                </a:lnTo>
                <a:lnTo>
                  <a:pt x="647" y="1685"/>
                </a:lnTo>
                <a:lnTo>
                  <a:pt x="645" y="1675"/>
                </a:lnTo>
                <a:lnTo>
                  <a:pt x="643" y="1666"/>
                </a:lnTo>
                <a:lnTo>
                  <a:pt x="640" y="1656"/>
                </a:lnTo>
                <a:lnTo>
                  <a:pt x="636" y="1647"/>
                </a:lnTo>
                <a:lnTo>
                  <a:pt x="628" y="1637"/>
                </a:lnTo>
                <a:lnTo>
                  <a:pt x="620" y="1627"/>
                </a:lnTo>
                <a:lnTo>
                  <a:pt x="611" y="1616"/>
                </a:lnTo>
                <a:lnTo>
                  <a:pt x="599" y="1606"/>
                </a:lnTo>
                <a:lnTo>
                  <a:pt x="586" y="1595"/>
                </a:lnTo>
                <a:lnTo>
                  <a:pt x="572" y="1585"/>
                </a:lnTo>
                <a:lnTo>
                  <a:pt x="557" y="1574"/>
                </a:lnTo>
                <a:lnTo>
                  <a:pt x="538" y="1562"/>
                </a:lnTo>
                <a:lnTo>
                  <a:pt x="519" y="1551"/>
                </a:lnTo>
                <a:lnTo>
                  <a:pt x="498" y="1539"/>
                </a:lnTo>
                <a:lnTo>
                  <a:pt x="476" y="1528"/>
                </a:lnTo>
                <a:lnTo>
                  <a:pt x="451" y="15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74"/>
          <p:cNvSpPr/>
          <p:nvPr/>
        </p:nvSpPr>
        <p:spPr>
          <a:xfrm>
            <a:off x="6854760" y="3035160"/>
            <a:ext cx="162000" cy="2005200"/>
          </a:xfrm>
          <a:custGeom>
            <a:avLst/>
            <a:gdLst/>
            <a:ahLst/>
            <a:rect l="l" t="t" r="r" b="b"/>
            <a:pathLst>
              <a:path w="203" h="2526">
                <a:moveTo>
                  <a:pt x="69" y="10"/>
                </a:moveTo>
                <a:lnTo>
                  <a:pt x="75" y="11"/>
                </a:lnTo>
                <a:lnTo>
                  <a:pt x="79" y="13"/>
                </a:lnTo>
                <a:lnTo>
                  <a:pt x="84" y="15"/>
                </a:lnTo>
                <a:lnTo>
                  <a:pt x="92" y="19"/>
                </a:lnTo>
                <a:lnTo>
                  <a:pt x="100" y="21"/>
                </a:lnTo>
                <a:lnTo>
                  <a:pt x="105" y="23"/>
                </a:lnTo>
                <a:lnTo>
                  <a:pt x="123" y="27"/>
                </a:lnTo>
                <a:lnTo>
                  <a:pt x="140" y="33"/>
                </a:lnTo>
                <a:lnTo>
                  <a:pt x="159" y="36"/>
                </a:lnTo>
                <a:lnTo>
                  <a:pt x="180" y="40"/>
                </a:lnTo>
                <a:lnTo>
                  <a:pt x="203" y="46"/>
                </a:lnTo>
                <a:lnTo>
                  <a:pt x="201" y="159"/>
                </a:lnTo>
                <a:lnTo>
                  <a:pt x="201" y="271"/>
                </a:lnTo>
                <a:lnTo>
                  <a:pt x="199" y="380"/>
                </a:lnTo>
                <a:lnTo>
                  <a:pt x="199" y="484"/>
                </a:lnTo>
                <a:lnTo>
                  <a:pt x="198" y="585"/>
                </a:lnTo>
                <a:lnTo>
                  <a:pt x="198" y="683"/>
                </a:lnTo>
                <a:lnTo>
                  <a:pt x="198" y="779"/>
                </a:lnTo>
                <a:lnTo>
                  <a:pt x="196" y="871"/>
                </a:lnTo>
                <a:lnTo>
                  <a:pt x="196" y="960"/>
                </a:lnTo>
                <a:lnTo>
                  <a:pt x="196" y="1044"/>
                </a:lnTo>
                <a:lnTo>
                  <a:pt x="194" y="1127"/>
                </a:lnTo>
                <a:lnTo>
                  <a:pt x="194" y="1205"/>
                </a:lnTo>
                <a:lnTo>
                  <a:pt x="194" y="1282"/>
                </a:lnTo>
                <a:lnTo>
                  <a:pt x="192" y="1353"/>
                </a:lnTo>
                <a:lnTo>
                  <a:pt x="192" y="1422"/>
                </a:lnTo>
                <a:lnTo>
                  <a:pt x="192" y="1488"/>
                </a:lnTo>
                <a:lnTo>
                  <a:pt x="190" y="1551"/>
                </a:lnTo>
                <a:lnTo>
                  <a:pt x="190" y="1610"/>
                </a:lnTo>
                <a:lnTo>
                  <a:pt x="190" y="1666"/>
                </a:lnTo>
                <a:lnTo>
                  <a:pt x="188" y="1718"/>
                </a:lnTo>
                <a:lnTo>
                  <a:pt x="188" y="1768"/>
                </a:lnTo>
                <a:lnTo>
                  <a:pt x="188" y="1814"/>
                </a:lnTo>
                <a:lnTo>
                  <a:pt x="186" y="1856"/>
                </a:lnTo>
                <a:lnTo>
                  <a:pt x="186" y="1896"/>
                </a:lnTo>
                <a:lnTo>
                  <a:pt x="186" y="1931"/>
                </a:lnTo>
                <a:lnTo>
                  <a:pt x="184" y="1964"/>
                </a:lnTo>
                <a:lnTo>
                  <a:pt x="184" y="1994"/>
                </a:lnTo>
                <a:lnTo>
                  <a:pt x="182" y="2019"/>
                </a:lnTo>
                <a:lnTo>
                  <a:pt x="182" y="2042"/>
                </a:lnTo>
                <a:lnTo>
                  <a:pt x="180" y="2063"/>
                </a:lnTo>
                <a:lnTo>
                  <a:pt x="180" y="2079"/>
                </a:lnTo>
                <a:lnTo>
                  <a:pt x="178" y="2092"/>
                </a:lnTo>
                <a:lnTo>
                  <a:pt x="176" y="2115"/>
                </a:lnTo>
                <a:lnTo>
                  <a:pt x="175" y="2140"/>
                </a:lnTo>
                <a:lnTo>
                  <a:pt x="173" y="2163"/>
                </a:lnTo>
                <a:lnTo>
                  <a:pt x="173" y="2184"/>
                </a:lnTo>
                <a:lnTo>
                  <a:pt x="171" y="2205"/>
                </a:lnTo>
                <a:lnTo>
                  <a:pt x="169" y="2227"/>
                </a:lnTo>
                <a:lnTo>
                  <a:pt x="169" y="2248"/>
                </a:lnTo>
                <a:lnTo>
                  <a:pt x="167" y="2267"/>
                </a:lnTo>
                <a:lnTo>
                  <a:pt x="165" y="2286"/>
                </a:lnTo>
                <a:lnTo>
                  <a:pt x="165" y="2303"/>
                </a:lnTo>
                <a:lnTo>
                  <a:pt x="163" y="2321"/>
                </a:lnTo>
                <a:lnTo>
                  <a:pt x="161" y="2340"/>
                </a:lnTo>
                <a:lnTo>
                  <a:pt x="159" y="2372"/>
                </a:lnTo>
                <a:lnTo>
                  <a:pt x="155" y="2405"/>
                </a:lnTo>
                <a:lnTo>
                  <a:pt x="151" y="2420"/>
                </a:lnTo>
                <a:lnTo>
                  <a:pt x="150" y="2434"/>
                </a:lnTo>
                <a:lnTo>
                  <a:pt x="146" y="2447"/>
                </a:lnTo>
                <a:lnTo>
                  <a:pt x="144" y="2459"/>
                </a:lnTo>
                <a:lnTo>
                  <a:pt x="140" y="2470"/>
                </a:lnTo>
                <a:lnTo>
                  <a:pt x="136" y="2480"/>
                </a:lnTo>
                <a:lnTo>
                  <a:pt x="134" y="2489"/>
                </a:lnTo>
                <a:lnTo>
                  <a:pt x="130" y="2497"/>
                </a:lnTo>
                <a:lnTo>
                  <a:pt x="127" y="2503"/>
                </a:lnTo>
                <a:lnTo>
                  <a:pt x="123" y="2509"/>
                </a:lnTo>
                <a:lnTo>
                  <a:pt x="121" y="2514"/>
                </a:lnTo>
                <a:lnTo>
                  <a:pt x="117" y="2518"/>
                </a:lnTo>
                <a:lnTo>
                  <a:pt x="113" y="2522"/>
                </a:lnTo>
                <a:lnTo>
                  <a:pt x="111" y="2524"/>
                </a:lnTo>
                <a:lnTo>
                  <a:pt x="109" y="2524"/>
                </a:lnTo>
                <a:lnTo>
                  <a:pt x="105" y="2526"/>
                </a:lnTo>
                <a:lnTo>
                  <a:pt x="105" y="2524"/>
                </a:lnTo>
                <a:lnTo>
                  <a:pt x="103" y="2524"/>
                </a:lnTo>
                <a:lnTo>
                  <a:pt x="102" y="2522"/>
                </a:lnTo>
                <a:lnTo>
                  <a:pt x="102" y="2520"/>
                </a:lnTo>
                <a:lnTo>
                  <a:pt x="100" y="2518"/>
                </a:lnTo>
                <a:lnTo>
                  <a:pt x="98" y="2516"/>
                </a:lnTo>
                <a:lnTo>
                  <a:pt x="96" y="2513"/>
                </a:lnTo>
                <a:lnTo>
                  <a:pt x="94" y="2509"/>
                </a:lnTo>
                <a:lnTo>
                  <a:pt x="94" y="2505"/>
                </a:lnTo>
                <a:lnTo>
                  <a:pt x="92" y="2499"/>
                </a:lnTo>
                <a:lnTo>
                  <a:pt x="90" y="2495"/>
                </a:lnTo>
                <a:lnTo>
                  <a:pt x="88" y="2489"/>
                </a:lnTo>
                <a:lnTo>
                  <a:pt x="86" y="2482"/>
                </a:lnTo>
                <a:lnTo>
                  <a:pt x="84" y="2476"/>
                </a:lnTo>
                <a:lnTo>
                  <a:pt x="82" y="2468"/>
                </a:lnTo>
                <a:lnTo>
                  <a:pt x="80" y="2461"/>
                </a:lnTo>
                <a:lnTo>
                  <a:pt x="80" y="2451"/>
                </a:lnTo>
                <a:lnTo>
                  <a:pt x="79" y="2443"/>
                </a:lnTo>
                <a:lnTo>
                  <a:pt x="77" y="2434"/>
                </a:lnTo>
                <a:lnTo>
                  <a:pt x="75" y="2424"/>
                </a:lnTo>
                <a:lnTo>
                  <a:pt x="73" y="2413"/>
                </a:lnTo>
                <a:lnTo>
                  <a:pt x="71" y="2401"/>
                </a:lnTo>
                <a:lnTo>
                  <a:pt x="69" y="2390"/>
                </a:lnTo>
                <a:lnTo>
                  <a:pt x="67" y="2378"/>
                </a:lnTo>
                <a:lnTo>
                  <a:pt x="67" y="2365"/>
                </a:lnTo>
                <a:lnTo>
                  <a:pt x="65" y="2351"/>
                </a:lnTo>
                <a:lnTo>
                  <a:pt x="63" y="2338"/>
                </a:lnTo>
                <a:lnTo>
                  <a:pt x="61" y="2324"/>
                </a:lnTo>
                <a:lnTo>
                  <a:pt x="61" y="2309"/>
                </a:lnTo>
                <a:lnTo>
                  <a:pt x="59" y="2294"/>
                </a:lnTo>
                <a:lnTo>
                  <a:pt x="57" y="2276"/>
                </a:lnTo>
                <a:lnTo>
                  <a:pt x="57" y="2261"/>
                </a:lnTo>
                <a:lnTo>
                  <a:pt x="55" y="2242"/>
                </a:lnTo>
                <a:lnTo>
                  <a:pt x="55" y="2225"/>
                </a:lnTo>
                <a:lnTo>
                  <a:pt x="54" y="2203"/>
                </a:lnTo>
                <a:lnTo>
                  <a:pt x="52" y="2184"/>
                </a:lnTo>
                <a:lnTo>
                  <a:pt x="52" y="2161"/>
                </a:lnTo>
                <a:lnTo>
                  <a:pt x="50" y="2138"/>
                </a:lnTo>
                <a:lnTo>
                  <a:pt x="50" y="2113"/>
                </a:lnTo>
                <a:lnTo>
                  <a:pt x="48" y="2088"/>
                </a:lnTo>
                <a:lnTo>
                  <a:pt x="48" y="2061"/>
                </a:lnTo>
                <a:lnTo>
                  <a:pt x="46" y="2035"/>
                </a:lnTo>
                <a:lnTo>
                  <a:pt x="46" y="2006"/>
                </a:lnTo>
                <a:lnTo>
                  <a:pt x="44" y="1975"/>
                </a:lnTo>
                <a:lnTo>
                  <a:pt x="42" y="1944"/>
                </a:lnTo>
                <a:lnTo>
                  <a:pt x="42" y="1912"/>
                </a:lnTo>
                <a:lnTo>
                  <a:pt x="42" y="1879"/>
                </a:lnTo>
                <a:lnTo>
                  <a:pt x="40" y="1845"/>
                </a:lnTo>
                <a:lnTo>
                  <a:pt x="40" y="1810"/>
                </a:lnTo>
                <a:lnTo>
                  <a:pt x="38" y="1774"/>
                </a:lnTo>
                <a:lnTo>
                  <a:pt x="38" y="1735"/>
                </a:lnTo>
                <a:lnTo>
                  <a:pt x="36" y="1697"/>
                </a:lnTo>
                <a:lnTo>
                  <a:pt x="36" y="1656"/>
                </a:lnTo>
                <a:lnTo>
                  <a:pt x="36" y="1614"/>
                </a:lnTo>
                <a:lnTo>
                  <a:pt x="34" y="1572"/>
                </a:lnTo>
                <a:lnTo>
                  <a:pt x="34" y="1530"/>
                </a:lnTo>
                <a:lnTo>
                  <a:pt x="34" y="1484"/>
                </a:lnTo>
                <a:lnTo>
                  <a:pt x="34" y="1438"/>
                </a:lnTo>
                <a:lnTo>
                  <a:pt x="32" y="1392"/>
                </a:lnTo>
                <a:lnTo>
                  <a:pt x="32" y="1344"/>
                </a:lnTo>
                <a:lnTo>
                  <a:pt x="32" y="1296"/>
                </a:lnTo>
                <a:lnTo>
                  <a:pt x="32" y="1244"/>
                </a:lnTo>
                <a:lnTo>
                  <a:pt x="32" y="1194"/>
                </a:lnTo>
                <a:lnTo>
                  <a:pt x="32" y="1140"/>
                </a:lnTo>
                <a:lnTo>
                  <a:pt x="32" y="1088"/>
                </a:lnTo>
                <a:lnTo>
                  <a:pt x="32" y="1036"/>
                </a:lnTo>
                <a:lnTo>
                  <a:pt x="32" y="988"/>
                </a:lnTo>
                <a:lnTo>
                  <a:pt x="32" y="939"/>
                </a:lnTo>
                <a:lnTo>
                  <a:pt x="32" y="892"/>
                </a:lnTo>
                <a:lnTo>
                  <a:pt x="31" y="846"/>
                </a:lnTo>
                <a:lnTo>
                  <a:pt x="31" y="802"/>
                </a:lnTo>
                <a:lnTo>
                  <a:pt x="31" y="760"/>
                </a:lnTo>
                <a:lnTo>
                  <a:pt x="31" y="718"/>
                </a:lnTo>
                <a:lnTo>
                  <a:pt x="29" y="678"/>
                </a:lnTo>
                <a:lnTo>
                  <a:pt x="29" y="639"/>
                </a:lnTo>
                <a:lnTo>
                  <a:pt x="29" y="603"/>
                </a:lnTo>
                <a:lnTo>
                  <a:pt x="27" y="566"/>
                </a:lnTo>
                <a:lnTo>
                  <a:pt x="27" y="532"/>
                </a:lnTo>
                <a:lnTo>
                  <a:pt x="25" y="499"/>
                </a:lnTo>
                <a:lnTo>
                  <a:pt x="25" y="466"/>
                </a:lnTo>
                <a:lnTo>
                  <a:pt x="25" y="436"/>
                </a:lnTo>
                <a:lnTo>
                  <a:pt x="23" y="407"/>
                </a:lnTo>
                <a:lnTo>
                  <a:pt x="23" y="380"/>
                </a:lnTo>
                <a:lnTo>
                  <a:pt x="21" y="353"/>
                </a:lnTo>
                <a:lnTo>
                  <a:pt x="21" y="330"/>
                </a:lnTo>
                <a:lnTo>
                  <a:pt x="19" y="305"/>
                </a:lnTo>
                <a:lnTo>
                  <a:pt x="17" y="284"/>
                </a:lnTo>
                <a:lnTo>
                  <a:pt x="17" y="263"/>
                </a:lnTo>
                <a:lnTo>
                  <a:pt x="15" y="246"/>
                </a:lnTo>
                <a:lnTo>
                  <a:pt x="15" y="228"/>
                </a:lnTo>
                <a:lnTo>
                  <a:pt x="13" y="211"/>
                </a:lnTo>
                <a:lnTo>
                  <a:pt x="13" y="198"/>
                </a:lnTo>
                <a:lnTo>
                  <a:pt x="11" y="184"/>
                </a:lnTo>
                <a:lnTo>
                  <a:pt x="9" y="173"/>
                </a:lnTo>
                <a:lnTo>
                  <a:pt x="9" y="163"/>
                </a:lnTo>
                <a:lnTo>
                  <a:pt x="8" y="153"/>
                </a:lnTo>
                <a:lnTo>
                  <a:pt x="6" y="138"/>
                </a:lnTo>
                <a:lnTo>
                  <a:pt x="4" y="123"/>
                </a:lnTo>
                <a:lnTo>
                  <a:pt x="2" y="109"/>
                </a:lnTo>
                <a:lnTo>
                  <a:pt x="2" y="98"/>
                </a:lnTo>
                <a:lnTo>
                  <a:pt x="0" y="84"/>
                </a:lnTo>
                <a:lnTo>
                  <a:pt x="0" y="75"/>
                </a:lnTo>
                <a:lnTo>
                  <a:pt x="0" y="63"/>
                </a:lnTo>
                <a:lnTo>
                  <a:pt x="0" y="54"/>
                </a:lnTo>
                <a:lnTo>
                  <a:pt x="0" y="46"/>
                </a:lnTo>
                <a:lnTo>
                  <a:pt x="0" y="38"/>
                </a:lnTo>
                <a:lnTo>
                  <a:pt x="0" y="31"/>
                </a:lnTo>
                <a:lnTo>
                  <a:pt x="2" y="25"/>
                </a:lnTo>
                <a:lnTo>
                  <a:pt x="2" y="19"/>
                </a:lnTo>
                <a:lnTo>
                  <a:pt x="4" y="15"/>
                </a:lnTo>
                <a:lnTo>
                  <a:pt x="6" y="11"/>
                </a:lnTo>
                <a:lnTo>
                  <a:pt x="8" y="10"/>
                </a:lnTo>
                <a:lnTo>
                  <a:pt x="13" y="6"/>
                </a:lnTo>
                <a:lnTo>
                  <a:pt x="19" y="2"/>
                </a:lnTo>
                <a:lnTo>
                  <a:pt x="27" y="0"/>
                </a:lnTo>
                <a:lnTo>
                  <a:pt x="34" y="0"/>
                </a:lnTo>
                <a:lnTo>
                  <a:pt x="42" y="0"/>
                </a:lnTo>
                <a:lnTo>
                  <a:pt x="52" y="2"/>
                </a:lnTo>
                <a:lnTo>
                  <a:pt x="59" y="6"/>
                </a:lnTo>
                <a:lnTo>
                  <a:pt x="69" y="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75"/>
          <p:cNvSpPr/>
          <p:nvPr/>
        </p:nvSpPr>
        <p:spPr>
          <a:xfrm>
            <a:off x="6086520" y="3425760"/>
            <a:ext cx="571320" cy="1251000"/>
          </a:xfrm>
          <a:custGeom>
            <a:avLst/>
            <a:gdLst/>
            <a:ahLst/>
            <a:rect l="l" t="t" r="r" b="b"/>
            <a:pathLst>
              <a:path w="720" h="1576">
                <a:moveTo>
                  <a:pt x="684" y="204"/>
                </a:moveTo>
                <a:lnTo>
                  <a:pt x="682" y="206"/>
                </a:lnTo>
                <a:lnTo>
                  <a:pt x="680" y="210"/>
                </a:lnTo>
                <a:lnTo>
                  <a:pt x="678" y="211"/>
                </a:lnTo>
                <a:lnTo>
                  <a:pt x="676" y="217"/>
                </a:lnTo>
                <a:lnTo>
                  <a:pt x="674" y="223"/>
                </a:lnTo>
                <a:lnTo>
                  <a:pt x="672" y="231"/>
                </a:lnTo>
                <a:lnTo>
                  <a:pt x="670" y="238"/>
                </a:lnTo>
                <a:lnTo>
                  <a:pt x="670" y="246"/>
                </a:lnTo>
                <a:lnTo>
                  <a:pt x="668" y="258"/>
                </a:lnTo>
                <a:lnTo>
                  <a:pt x="668" y="267"/>
                </a:lnTo>
                <a:lnTo>
                  <a:pt x="666" y="281"/>
                </a:lnTo>
                <a:lnTo>
                  <a:pt x="666" y="292"/>
                </a:lnTo>
                <a:lnTo>
                  <a:pt x="665" y="307"/>
                </a:lnTo>
                <a:lnTo>
                  <a:pt x="665" y="321"/>
                </a:lnTo>
                <a:lnTo>
                  <a:pt x="665" y="338"/>
                </a:lnTo>
                <a:lnTo>
                  <a:pt x="665" y="355"/>
                </a:lnTo>
                <a:lnTo>
                  <a:pt x="665" y="373"/>
                </a:lnTo>
                <a:lnTo>
                  <a:pt x="663" y="392"/>
                </a:lnTo>
                <a:lnTo>
                  <a:pt x="663" y="411"/>
                </a:lnTo>
                <a:lnTo>
                  <a:pt x="663" y="432"/>
                </a:lnTo>
                <a:lnTo>
                  <a:pt x="665" y="455"/>
                </a:lnTo>
                <a:lnTo>
                  <a:pt x="665" y="476"/>
                </a:lnTo>
                <a:lnTo>
                  <a:pt x="665" y="501"/>
                </a:lnTo>
                <a:lnTo>
                  <a:pt x="665" y="526"/>
                </a:lnTo>
                <a:lnTo>
                  <a:pt x="665" y="551"/>
                </a:lnTo>
                <a:lnTo>
                  <a:pt x="666" y="578"/>
                </a:lnTo>
                <a:lnTo>
                  <a:pt x="666" y="605"/>
                </a:lnTo>
                <a:lnTo>
                  <a:pt x="666" y="634"/>
                </a:lnTo>
                <a:lnTo>
                  <a:pt x="668" y="664"/>
                </a:lnTo>
                <a:lnTo>
                  <a:pt x="668" y="695"/>
                </a:lnTo>
                <a:lnTo>
                  <a:pt x="670" y="726"/>
                </a:lnTo>
                <a:lnTo>
                  <a:pt x="672" y="759"/>
                </a:lnTo>
                <a:lnTo>
                  <a:pt x="672" y="791"/>
                </a:lnTo>
                <a:lnTo>
                  <a:pt x="674" y="824"/>
                </a:lnTo>
                <a:lnTo>
                  <a:pt x="674" y="856"/>
                </a:lnTo>
                <a:lnTo>
                  <a:pt x="674" y="887"/>
                </a:lnTo>
                <a:lnTo>
                  <a:pt x="676" y="918"/>
                </a:lnTo>
                <a:lnTo>
                  <a:pt x="676" y="947"/>
                </a:lnTo>
                <a:lnTo>
                  <a:pt x="676" y="975"/>
                </a:lnTo>
                <a:lnTo>
                  <a:pt x="676" y="1004"/>
                </a:lnTo>
                <a:lnTo>
                  <a:pt x="676" y="1031"/>
                </a:lnTo>
                <a:lnTo>
                  <a:pt x="676" y="1058"/>
                </a:lnTo>
                <a:lnTo>
                  <a:pt x="674" y="1083"/>
                </a:lnTo>
                <a:lnTo>
                  <a:pt x="674" y="1108"/>
                </a:lnTo>
                <a:lnTo>
                  <a:pt x="674" y="1133"/>
                </a:lnTo>
                <a:lnTo>
                  <a:pt x="672" y="1156"/>
                </a:lnTo>
                <a:lnTo>
                  <a:pt x="672" y="1177"/>
                </a:lnTo>
                <a:lnTo>
                  <a:pt x="670" y="1198"/>
                </a:lnTo>
                <a:lnTo>
                  <a:pt x="670" y="1219"/>
                </a:lnTo>
                <a:lnTo>
                  <a:pt x="668" y="1240"/>
                </a:lnTo>
                <a:lnTo>
                  <a:pt x="666" y="1259"/>
                </a:lnTo>
                <a:lnTo>
                  <a:pt x="665" y="1277"/>
                </a:lnTo>
                <a:lnTo>
                  <a:pt x="663" y="1294"/>
                </a:lnTo>
                <a:lnTo>
                  <a:pt x="661" y="1311"/>
                </a:lnTo>
                <a:lnTo>
                  <a:pt x="659" y="1327"/>
                </a:lnTo>
                <a:lnTo>
                  <a:pt x="657" y="1342"/>
                </a:lnTo>
                <a:lnTo>
                  <a:pt x="655" y="1355"/>
                </a:lnTo>
                <a:lnTo>
                  <a:pt x="653" y="1369"/>
                </a:lnTo>
                <a:lnTo>
                  <a:pt x="649" y="1382"/>
                </a:lnTo>
                <a:lnTo>
                  <a:pt x="647" y="1394"/>
                </a:lnTo>
                <a:lnTo>
                  <a:pt x="643" y="1405"/>
                </a:lnTo>
                <a:lnTo>
                  <a:pt x="642" y="1415"/>
                </a:lnTo>
                <a:lnTo>
                  <a:pt x="638" y="1425"/>
                </a:lnTo>
                <a:lnTo>
                  <a:pt x="636" y="1432"/>
                </a:lnTo>
                <a:lnTo>
                  <a:pt x="628" y="1450"/>
                </a:lnTo>
                <a:lnTo>
                  <a:pt x="620" y="1467"/>
                </a:lnTo>
                <a:lnTo>
                  <a:pt x="615" y="1482"/>
                </a:lnTo>
                <a:lnTo>
                  <a:pt x="607" y="1496"/>
                </a:lnTo>
                <a:lnTo>
                  <a:pt x="601" y="1509"/>
                </a:lnTo>
                <a:lnTo>
                  <a:pt x="594" y="1521"/>
                </a:lnTo>
                <a:lnTo>
                  <a:pt x="588" y="1530"/>
                </a:lnTo>
                <a:lnTo>
                  <a:pt x="580" y="1540"/>
                </a:lnTo>
                <a:lnTo>
                  <a:pt x="572" y="1549"/>
                </a:lnTo>
                <a:lnTo>
                  <a:pt x="567" y="1557"/>
                </a:lnTo>
                <a:lnTo>
                  <a:pt x="559" y="1563"/>
                </a:lnTo>
                <a:lnTo>
                  <a:pt x="553" y="1569"/>
                </a:lnTo>
                <a:lnTo>
                  <a:pt x="546" y="1572"/>
                </a:lnTo>
                <a:lnTo>
                  <a:pt x="538" y="1574"/>
                </a:lnTo>
                <a:lnTo>
                  <a:pt x="532" y="1576"/>
                </a:lnTo>
                <a:lnTo>
                  <a:pt x="524" y="1576"/>
                </a:lnTo>
                <a:lnTo>
                  <a:pt x="519" y="1576"/>
                </a:lnTo>
                <a:lnTo>
                  <a:pt x="511" y="1574"/>
                </a:lnTo>
                <a:lnTo>
                  <a:pt x="505" y="1572"/>
                </a:lnTo>
                <a:lnTo>
                  <a:pt x="499" y="1570"/>
                </a:lnTo>
                <a:lnTo>
                  <a:pt x="494" y="1567"/>
                </a:lnTo>
                <a:lnTo>
                  <a:pt x="490" y="1563"/>
                </a:lnTo>
                <a:lnTo>
                  <a:pt x="484" y="1557"/>
                </a:lnTo>
                <a:lnTo>
                  <a:pt x="480" y="1551"/>
                </a:lnTo>
                <a:lnTo>
                  <a:pt x="476" y="1546"/>
                </a:lnTo>
                <a:lnTo>
                  <a:pt x="475" y="1538"/>
                </a:lnTo>
                <a:lnTo>
                  <a:pt x="471" y="1530"/>
                </a:lnTo>
                <a:lnTo>
                  <a:pt x="469" y="1521"/>
                </a:lnTo>
                <a:lnTo>
                  <a:pt x="467" y="1511"/>
                </a:lnTo>
                <a:lnTo>
                  <a:pt x="465" y="1501"/>
                </a:lnTo>
                <a:lnTo>
                  <a:pt x="465" y="1492"/>
                </a:lnTo>
                <a:lnTo>
                  <a:pt x="465" y="1480"/>
                </a:lnTo>
                <a:lnTo>
                  <a:pt x="463" y="1469"/>
                </a:lnTo>
                <a:lnTo>
                  <a:pt x="463" y="1457"/>
                </a:lnTo>
                <a:lnTo>
                  <a:pt x="459" y="1446"/>
                </a:lnTo>
                <a:lnTo>
                  <a:pt x="457" y="1434"/>
                </a:lnTo>
                <a:lnTo>
                  <a:pt x="453" y="1421"/>
                </a:lnTo>
                <a:lnTo>
                  <a:pt x="448" y="1409"/>
                </a:lnTo>
                <a:lnTo>
                  <a:pt x="444" y="1398"/>
                </a:lnTo>
                <a:lnTo>
                  <a:pt x="436" y="1384"/>
                </a:lnTo>
                <a:lnTo>
                  <a:pt x="428" y="1373"/>
                </a:lnTo>
                <a:lnTo>
                  <a:pt x="421" y="1359"/>
                </a:lnTo>
                <a:lnTo>
                  <a:pt x="411" y="1348"/>
                </a:lnTo>
                <a:lnTo>
                  <a:pt x="402" y="1334"/>
                </a:lnTo>
                <a:lnTo>
                  <a:pt x="392" y="1323"/>
                </a:lnTo>
                <a:lnTo>
                  <a:pt x="380" y="1311"/>
                </a:lnTo>
                <a:lnTo>
                  <a:pt x="367" y="1300"/>
                </a:lnTo>
                <a:lnTo>
                  <a:pt x="356" y="1288"/>
                </a:lnTo>
                <a:lnTo>
                  <a:pt x="340" y="1277"/>
                </a:lnTo>
                <a:lnTo>
                  <a:pt x="325" y="1265"/>
                </a:lnTo>
                <a:lnTo>
                  <a:pt x="313" y="1256"/>
                </a:lnTo>
                <a:lnTo>
                  <a:pt x="302" y="1244"/>
                </a:lnTo>
                <a:lnTo>
                  <a:pt x="292" y="1235"/>
                </a:lnTo>
                <a:lnTo>
                  <a:pt x="283" y="1227"/>
                </a:lnTo>
                <a:lnTo>
                  <a:pt x="275" y="1217"/>
                </a:lnTo>
                <a:lnTo>
                  <a:pt x="269" y="1210"/>
                </a:lnTo>
                <a:lnTo>
                  <a:pt x="263" y="1202"/>
                </a:lnTo>
                <a:lnTo>
                  <a:pt x="260" y="1194"/>
                </a:lnTo>
                <a:lnTo>
                  <a:pt x="258" y="1188"/>
                </a:lnTo>
                <a:lnTo>
                  <a:pt x="256" y="1183"/>
                </a:lnTo>
                <a:lnTo>
                  <a:pt x="254" y="1177"/>
                </a:lnTo>
                <a:lnTo>
                  <a:pt x="254" y="1173"/>
                </a:lnTo>
                <a:lnTo>
                  <a:pt x="256" y="1169"/>
                </a:lnTo>
                <a:lnTo>
                  <a:pt x="258" y="1167"/>
                </a:lnTo>
                <a:lnTo>
                  <a:pt x="260" y="1165"/>
                </a:lnTo>
                <a:lnTo>
                  <a:pt x="263" y="1164"/>
                </a:lnTo>
                <a:lnTo>
                  <a:pt x="267" y="1164"/>
                </a:lnTo>
                <a:lnTo>
                  <a:pt x="271" y="1164"/>
                </a:lnTo>
                <a:lnTo>
                  <a:pt x="275" y="1164"/>
                </a:lnTo>
                <a:lnTo>
                  <a:pt x="281" y="1164"/>
                </a:lnTo>
                <a:lnTo>
                  <a:pt x="288" y="1164"/>
                </a:lnTo>
                <a:lnTo>
                  <a:pt x="294" y="1165"/>
                </a:lnTo>
                <a:lnTo>
                  <a:pt x="304" y="1167"/>
                </a:lnTo>
                <a:lnTo>
                  <a:pt x="311" y="1169"/>
                </a:lnTo>
                <a:lnTo>
                  <a:pt x="321" y="1173"/>
                </a:lnTo>
                <a:lnTo>
                  <a:pt x="331" y="1175"/>
                </a:lnTo>
                <a:lnTo>
                  <a:pt x="342" y="1179"/>
                </a:lnTo>
                <a:lnTo>
                  <a:pt x="354" y="1183"/>
                </a:lnTo>
                <a:lnTo>
                  <a:pt x="365" y="1187"/>
                </a:lnTo>
                <a:lnTo>
                  <a:pt x="379" y="1192"/>
                </a:lnTo>
                <a:lnTo>
                  <a:pt x="392" y="1196"/>
                </a:lnTo>
                <a:lnTo>
                  <a:pt x="405" y="1200"/>
                </a:lnTo>
                <a:lnTo>
                  <a:pt x="417" y="1202"/>
                </a:lnTo>
                <a:lnTo>
                  <a:pt x="428" y="1206"/>
                </a:lnTo>
                <a:lnTo>
                  <a:pt x="440" y="1206"/>
                </a:lnTo>
                <a:lnTo>
                  <a:pt x="450" y="1208"/>
                </a:lnTo>
                <a:lnTo>
                  <a:pt x="459" y="1208"/>
                </a:lnTo>
                <a:lnTo>
                  <a:pt x="469" y="1208"/>
                </a:lnTo>
                <a:lnTo>
                  <a:pt x="476" y="1208"/>
                </a:lnTo>
                <a:lnTo>
                  <a:pt x="484" y="1206"/>
                </a:lnTo>
                <a:lnTo>
                  <a:pt x="492" y="1204"/>
                </a:lnTo>
                <a:lnTo>
                  <a:pt x="498" y="1200"/>
                </a:lnTo>
                <a:lnTo>
                  <a:pt x="503" y="1196"/>
                </a:lnTo>
                <a:lnTo>
                  <a:pt x="507" y="1190"/>
                </a:lnTo>
                <a:lnTo>
                  <a:pt x="511" y="1187"/>
                </a:lnTo>
                <a:lnTo>
                  <a:pt x="513" y="1179"/>
                </a:lnTo>
                <a:lnTo>
                  <a:pt x="515" y="1175"/>
                </a:lnTo>
                <a:lnTo>
                  <a:pt x="515" y="1171"/>
                </a:lnTo>
                <a:lnTo>
                  <a:pt x="517" y="1165"/>
                </a:lnTo>
                <a:lnTo>
                  <a:pt x="517" y="1160"/>
                </a:lnTo>
                <a:lnTo>
                  <a:pt x="519" y="1152"/>
                </a:lnTo>
                <a:lnTo>
                  <a:pt x="519" y="1144"/>
                </a:lnTo>
                <a:lnTo>
                  <a:pt x="519" y="1137"/>
                </a:lnTo>
                <a:lnTo>
                  <a:pt x="521" y="1127"/>
                </a:lnTo>
                <a:lnTo>
                  <a:pt x="521" y="1117"/>
                </a:lnTo>
                <a:lnTo>
                  <a:pt x="521" y="1106"/>
                </a:lnTo>
                <a:lnTo>
                  <a:pt x="523" y="1094"/>
                </a:lnTo>
                <a:lnTo>
                  <a:pt x="523" y="1083"/>
                </a:lnTo>
                <a:lnTo>
                  <a:pt x="523" y="1069"/>
                </a:lnTo>
                <a:lnTo>
                  <a:pt x="523" y="1054"/>
                </a:lnTo>
                <a:lnTo>
                  <a:pt x="523" y="1041"/>
                </a:lnTo>
                <a:lnTo>
                  <a:pt x="523" y="1025"/>
                </a:lnTo>
                <a:lnTo>
                  <a:pt x="524" y="1008"/>
                </a:lnTo>
                <a:lnTo>
                  <a:pt x="524" y="991"/>
                </a:lnTo>
                <a:lnTo>
                  <a:pt x="524" y="973"/>
                </a:lnTo>
                <a:lnTo>
                  <a:pt x="524" y="954"/>
                </a:lnTo>
                <a:lnTo>
                  <a:pt x="524" y="933"/>
                </a:lnTo>
                <a:lnTo>
                  <a:pt x="524" y="914"/>
                </a:lnTo>
                <a:lnTo>
                  <a:pt x="524" y="891"/>
                </a:lnTo>
                <a:lnTo>
                  <a:pt x="524" y="870"/>
                </a:lnTo>
                <a:lnTo>
                  <a:pt x="524" y="847"/>
                </a:lnTo>
                <a:lnTo>
                  <a:pt x="524" y="822"/>
                </a:lnTo>
                <a:lnTo>
                  <a:pt x="524" y="799"/>
                </a:lnTo>
                <a:lnTo>
                  <a:pt x="524" y="772"/>
                </a:lnTo>
                <a:lnTo>
                  <a:pt x="524" y="745"/>
                </a:lnTo>
                <a:lnTo>
                  <a:pt x="524" y="718"/>
                </a:lnTo>
                <a:lnTo>
                  <a:pt x="524" y="691"/>
                </a:lnTo>
                <a:lnTo>
                  <a:pt x="524" y="663"/>
                </a:lnTo>
                <a:lnTo>
                  <a:pt x="524" y="632"/>
                </a:lnTo>
                <a:lnTo>
                  <a:pt x="524" y="605"/>
                </a:lnTo>
                <a:lnTo>
                  <a:pt x="524" y="578"/>
                </a:lnTo>
                <a:lnTo>
                  <a:pt x="524" y="551"/>
                </a:lnTo>
                <a:lnTo>
                  <a:pt x="524" y="526"/>
                </a:lnTo>
                <a:lnTo>
                  <a:pt x="524" y="501"/>
                </a:lnTo>
                <a:lnTo>
                  <a:pt x="523" y="476"/>
                </a:lnTo>
                <a:lnTo>
                  <a:pt x="523" y="453"/>
                </a:lnTo>
                <a:lnTo>
                  <a:pt x="523" y="432"/>
                </a:lnTo>
                <a:lnTo>
                  <a:pt x="521" y="411"/>
                </a:lnTo>
                <a:lnTo>
                  <a:pt x="521" y="390"/>
                </a:lnTo>
                <a:lnTo>
                  <a:pt x="521" y="371"/>
                </a:lnTo>
                <a:lnTo>
                  <a:pt x="519" y="352"/>
                </a:lnTo>
                <a:lnTo>
                  <a:pt x="519" y="334"/>
                </a:lnTo>
                <a:lnTo>
                  <a:pt x="517" y="317"/>
                </a:lnTo>
                <a:lnTo>
                  <a:pt x="515" y="300"/>
                </a:lnTo>
                <a:lnTo>
                  <a:pt x="515" y="284"/>
                </a:lnTo>
                <a:lnTo>
                  <a:pt x="513" y="271"/>
                </a:lnTo>
                <a:lnTo>
                  <a:pt x="513" y="258"/>
                </a:lnTo>
                <a:lnTo>
                  <a:pt x="511" y="244"/>
                </a:lnTo>
                <a:lnTo>
                  <a:pt x="509" y="233"/>
                </a:lnTo>
                <a:lnTo>
                  <a:pt x="507" y="221"/>
                </a:lnTo>
                <a:lnTo>
                  <a:pt x="505" y="211"/>
                </a:lnTo>
                <a:lnTo>
                  <a:pt x="505" y="202"/>
                </a:lnTo>
                <a:lnTo>
                  <a:pt x="503" y="192"/>
                </a:lnTo>
                <a:lnTo>
                  <a:pt x="501" y="185"/>
                </a:lnTo>
                <a:lnTo>
                  <a:pt x="499" y="179"/>
                </a:lnTo>
                <a:lnTo>
                  <a:pt x="498" y="171"/>
                </a:lnTo>
                <a:lnTo>
                  <a:pt x="496" y="167"/>
                </a:lnTo>
                <a:lnTo>
                  <a:pt x="494" y="162"/>
                </a:lnTo>
                <a:lnTo>
                  <a:pt x="490" y="160"/>
                </a:lnTo>
                <a:lnTo>
                  <a:pt x="488" y="156"/>
                </a:lnTo>
                <a:lnTo>
                  <a:pt x="484" y="156"/>
                </a:lnTo>
                <a:lnTo>
                  <a:pt x="480" y="154"/>
                </a:lnTo>
                <a:lnTo>
                  <a:pt x="475" y="154"/>
                </a:lnTo>
                <a:lnTo>
                  <a:pt x="469" y="152"/>
                </a:lnTo>
                <a:lnTo>
                  <a:pt x="463" y="152"/>
                </a:lnTo>
                <a:lnTo>
                  <a:pt x="455" y="152"/>
                </a:lnTo>
                <a:lnTo>
                  <a:pt x="448" y="152"/>
                </a:lnTo>
                <a:lnTo>
                  <a:pt x="438" y="152"/>
                </a:lnTo>
                <a:lnTo>
                  <a:pt x="428" y="152"/>
                </a:lnTo>
                <a:lnTo>
                  <a:pt x="419" y="152"/>
                </a:lnTo>
                <a:lnTo>
                  <a:pt x="407" y="152"/>
                </a:lnTo>
                <a:lnTo>
                  <a:pt x="396" y="154"/>
                </a:lnTo>
                <a:lnTo>
                  <a:pt x="382" y="154"/>
                </a:lnTo>
                <a:lnTo>
                  <a:pt x="369" y="156"/>
                </a:lnTo>
                <a:lnTo>
                  <a:pt x="356" y="156"/>
                </a:lnTo>
                <a:lnTo>
                  <a:pt x="340" y="158"/>
                </a:lnTo>
                <a:lnTo>
                  <a:pt x="325" y="160"/>
                </a:lnTo>
                <a:lnTo>
                  <a:pt x="309" y="160"/>
                </a:lnTo>
                <a:lnTo>
                  <a:pt x="292" y="162"/>
                </a:lnTo>
                <a:lnTo>
                  <a:pt x="275" y="163"/>
                </a:lnTo>
                <a:lnTo>
                  <a:pt x="256" y="167"/>
                </a:lnTo>
                <a:lnTo>
                  <a:pt x="237" y="169"/>
                </a:lnTo>
                <a:lnTo>
                  <a:pt x="215" y="171"/>
                </a:lnTo>
                <a:lnTo>
                  <a:pt x="196" y="175"/>
                </a:lnTo>
                <a:lnTo>
                  <a:pt x="173" y="177"/>
                </a:lnTo>
                <a:lnTo>
                  <a:pt x="152" y="181"/>
                </a:lnTo>
                <a:lnTo>
                  <a:pt x="129" y="185"/>
                </a:lnTo>
                <a:lnTo>
                  <a:pt x="104" y="188"/>
                </a:lnTo>
                <a:lnTo>
                  <a:pt x="79" y="192"/>
                </a:lnTo>
                <a:lnTo>
                  <a:pt x="54" y="196"/>
                </a:lnTo>
                <a:lnTo>
                  <a:pt x="27" y="200"/>
                </a:lnTo>
                <a:lnTo>
                  <a:pt x="0" y="204"/>
                </a:lnTo>
                <a:lnTo>
                  <a:pt x="0" y="150"/>
                </a:lnTo>
                <a:lnTo>
                  <a:pt x="0" y="96"/>
                </a:lnTo>
                <a:lnTo>
                  <a:pt x="25" y="94"/>
                </a:lnTo>
                <a:lnTo>
                  <a:pt x="50" y="94"/>
                </a:lnTo>
                <a:lnTo>
                  <a:pt x="73" y="92"/>
                </a:lnTo>
                <a:lnTo>
                  <a:pt x="96" y="91"/>
                </a:lnTo>
                <a:lnTo>
                  <a:pt x="118" y="89"/>
                </a:lnTo>
                <a:lnTo>
                  <a:pt x="139" y="89"/>
                </a:lnTo>
                <a:lnTo>
                  <a:pt x="160" y="87"/>
                </a:lnTo>
                <a:lnTo>
                  <a:pt x="179" y="85"/>
                </a:lnTo>
                <a:lnTo>
                  <a:pt x="198" y="83"/>
                </a:lnTo>
                <a:lnTo>
                  <a:pt x="217" y="81"/>
                </a:lnTo>
                <a:lnTo>
                  <a:pt x="235" y="79"/>
                </a:lnTo>
                <a:lnTo>
                  <a:pt x="252" y="77"/>
                </a:lnTo>
                <a:lnTo>
                  <a:pt x="267" y="75"/>
                </a:lnTo>
                <a:lnTo>
                  <a:pt x="283" y="75"/>
                </a:lnTo>
                <a:lnTo>
                  <a:pt x="298" y="73"/>
                </a:lnTo>
                <a:lnTo>
                  <a:pt x="311" y="69"/>
                </a:lnTo>
                <a:lnTo>
                  <a:pt x="325" y="68"/>
                </a:lnTo>
                <a:lnTo>
                  <a:pt x="338" y="66"/>
                </a:lnTo>
                <a:lnTo>
                  <a:pt x="350" y="64"/>
                </a:lnTo>
                <a:lnTo>
                  <a:pt x="361" y="62"/>
                </a:lnTo>
                <a:lnTo>
                  <a:pt x="371" y="60"/>
                </a:lnTo>
                <a:lnTo>
                  <a:pt x="380" y="58"/>
                </a:lnTo>
                <a:lnTo>
                  <a:pt x="390" y="56"/>
                </a:lnTo>
                <a:lnTo>
                  <a:pt x="400" y="54"/>
                </a:lnTo>
                <a:lnTo>
                  <a:pt x="407" y="52"/>
                </a:lnTo>
                <a:lnTo>
                  <a:pt x="413" y="50"/>
                </a:lnTo>
                <a:lnTo>
                  <a:pt x="419" y="46"/>
                </a:lnTo>
                <a:lnTo>
                  <a:pt x="425" y="44"/>
                </a:lnTo>
                <a:lnTo>
                  <a:pt x="430" y="43"/>
                </a:lnTo>
                <a:lnTo>
                  <a:pt x="434" y="41"/>
                </a:lnTo>
                <a:lnTo>
                  <a:pt x="438" y="39"/>
                </a:lnTo>
                <a:lnTo>
                  <a:pt x="440" y="37"/>
                </a:lnTo>
                <a:lnTo>
                  <a:pt x="446" y="27"/>
                </a:lnTo>
                <a:lnTo>
                  <a:pt x="452" y="20"/>
                </a:lnTo>
                <a:lnTo>
                  <a:pt x="459" y="14"/>
                </a:lnTo>
                <a:lnTo>
                  <a:pt x="467" y="8"/>
                </a:lnTo>
                <a:lnTo>
                  <a:pt x="476" y="4"/>
                </a:lnTo>
                <a:lnTo>
                  <a:pt x="488" y="2"/>
                </a:lnTo>
                <a:lnTo>
                  <a:pt x="499" y="0"/>
                </a:lnTo>
                <a:lnTo>
                  <a:pt x="513" y="0"/>
                </a:lnTo>
                <a:lnTo>
                  <a:pt x="523" y="0"/>
                </a:lnTo>
                <a:lnTo>
                  <a:pt x="534" y="2"/>
                </a:lnTo>
                <a:lnTo>
                  <a:pt x="546" y="4"/>
                </a:lnTo>
                <a:lnTo>
                  <a:pt x="561" y="10"/>
                </a:lnTo>
                <a:lnTo>
                  <a:pt x="576" y="16"/>
                </a:lnTo>
                <a:lnTo>
                  <a:pt x="584" y="20"/>
                </a:lnTo>
                <a:lnTo>
                  <a:pt x="594" y="25"/>
                </a:lnTo>
                <a:lnTo>
                  <a:pt x="603" y="29"/>
                </a:lnTo>
                <a:lnTo>
                  <a:pt x="613" y="35"/>
                </a:lnTo>
                <a:lnTo>
                  <a:pt x="624" y="41"/>
                </a:lnTo>
                <a:lnTo>
                  <a:pt x="636" y="48"/>
                </a:lnTo>
                <a:lnTo>
                  <a:pt x="645" y="54"/>
                </a:lnTo>
                <a:lnTo>
                  <a:pt x="655" y="62"/>
                </a:lnTo>
                <a:lnTo>
                  <a:pt x="665" y="68"/>
                </a:lnTo>
                <a:lnTo>
                  <a:pt x="674" y="75"/>
                </a:lnTo>
                <a:lnTo>
                  <a:pt x="682" y="81"/>
                </a:lnTo>
                <a:lnTo>
                  <a:pt x="688" y="87"/>
                </a:lnTo>
                <a:lnTo>
                  <a:pt x="695" y="92"/>
                </a:lnTo>
                <a:lnTo>
                  <a:pt x="701" y="98"/>
                </a:lnTo>
                <a:lnTo>
                  <a:pt x="705" y="104"/>
                </a:lnTo>
                <a:lnTo>
                  <a:pt x="709" y="110"/>
                </a:lnTo>
                <a:lnTo>
                  <a:pt x="713" y="114"/>
                </a:lnTo>
                <a:lnTo>
                  <a:pt x="714" y="119"/>
                </a:lnTo>
                <a:lnTo>
                  <a:pt x="718" y="123"/>
                </a:lnTo>
                <a:lnTo>
                  <a:pt x="718" y="127"/>
                </a:lnTo>
                <a:lnTo>
                  <a:pt x="720" y="129"/>
                </a:lnTo>
                <a:lnTo>
                  <a:pt x="720" y="133"/>
                </a:lnTo>
                <a:lnTo>
                  <a:pt x="720" y="140"/>
                </a:lnTo>
                <a:lnTo>
                  <a:pt x="718" y="150"/>
                </a:lnTo>
                <a:lnTo>
                  <a:pt x="714" y="160"/>
                </a:lnTo>
                <a:lnTo>
                  <a:pt x="711" y="167"/>
                </a:lnTo>
                <a:lnTo>
                  <a:pt x="707" y="177"/>
                </a:lnTo>
                <a:lnTo>
                  <a:pt x="699" y="187"/>
                </a:lnTo>
                <a:lnTo>
                  <a:pt x="691" y="196"/>
                </a:lnTo>
                <a:lnTo>
                  <a:pt x="684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76"/>
          <p:cNvSpPr/>
          <p:nvPr/>
        </p:nvSpPr>
        <p:spPr>
          <a:xfrm>
            <a:off x="5986440" y="3502080"/>
            <a:ext cx="168120" cy="1127160"/>
          </a:xfrm>
          <a:custGeom>
            <a:avLst/>
            <a:gdLst/>
            <a:ahLst/>
            <a:rect l="l" t="t" r="r" b="b"/>
            <a:pathLst>
              <a:path w="213" h="1421">
                <a:moveTo>
                  <a:pt x="90" y="1421"/>
                </a:moveTo>
                <a:lnTo>
                  <a:pt x="88" y="1419"/>
                </a:lnTo>
                <a:lnTo>
                  <a:pt x="86" y="1419"/>
                </a:lnTo>
                <a:lnTo>
                  <a:pt x="82" y="1415"/>
                </a:lnTo>
                <a:lnTo>
                  <a:pt x="78" y="1411"/>
                </a:lnTo>
                <a:lnTo>
                  <a:pt x="77" y="1407"/>
                </a:lnTo>
                <a:lnTo>
                  <a:pt x="73" y="1402"/>
                </a:lnTo>
                <a:lnTo>
                  <a:pt x="69" y="1394"/>
                </a:lnTo>
                <a:lnTo>
                  <a:pt x="65" y="1386"/>
                </a:lnTo>
                <a:lnTo>
                  <a:pt x="61" y="1377"/>
                </a:lnTo>
                <a:lnTo>
                  <a:pt x="55" y="1367"/>
                </a:lnTo>
                <a:lnTo>
                  <a:pt x="52" y="1355"/>
                </a:lnTo>
                <a:lnTo>
                  <a:pt x="48" y="1344"/>
                </a:lnTo>
                <a:lnTo>
                  <a:pt x="44" y="1330"/>
                </a:lnTo>
                <a:lnTo>
                  <a:pt x="38" y="1317"/>
                </a:lnTo>
                <a:lnTo>
                  <a:pt x="34" y="1304"/>
                </a:lnTo>
                <a:lnTo>
                  <a:pt x="30" y="1288"/>
                </a:lnTo>
                <a:lnTo>
                  <a:pt x="25" y="1273"/>
                </a:lnTo>
                <a:lnTo>
                  <a:pt x="21" y="1258"/>
                </a:lnTo>
                <a:lnTo>
                  <a:pt x="17" y="1244"/>
                </a:lnTo>
                <a:lnTo>
                  <a:pt x="13" y="1231"/>
                </a:lnTo>
                <a:lnTo>
                  <a:pt x="11" y="1219"/>
                </a:lnTo>
                <a:lnTo>
                  <a:pt x="7" y="1208"/>
                </a:lnTo>
                <a:lnTo>
                  <a:pt x="6" y="1196"/>
                </a:lnTo>
                <a:lnTo>
                  <a:pt x="4" y="1187"/>
                </a:lnTo>
                <a:lnTo>
                  <a:pt x="2" y="1175"/>
                </a:lnTo>
                <a:lnTo>
                  <a:pt x="2" y="1167"/>
                </a:lnTo>
                <a:lnTo>
                  <a:pt x="0" y="1158"/>
                </a:lnTo>
                <a:lnTo>
                  <a:pt x="0" y="1150"/>
                </a:lnTo>
                <a:lnTo>
                  <a:pt x="2" y="1140"/>
                </a:lnTo>
                <a:lnTo>
                  <a:pt x="2" y="1133"/>
                </a:lnTo>
                <a:lnTo>
                  <a:pt x="4" y="1127"/>
                </a:lnTo>
                <a:lnTo>
                  <a:pt x="6" y="1119"/>
                </a:lnTo>
                <a:lnTo>
                  <a:pt x="7" y="1116"/>
                </a:lnTo>
                <a:lnTo>
                  <a:pt x="9" y="1110"/>
                </a:lnTo>
                <a:lnTo>
                  <a:pt x="11" y="1104"/>
                </a:lnTo>
                <a:lnTo>
                  <a:pt x="13" y="1096"/>
                </a:lnTo>
                <a:lnTo>
                  <a:pt x="17" y="1089"/>
                </a:lnTo>
                <a:lnTo>
                  <a:pt x="19" y="1081"/>
                </a:lnTo>
                <a:lnTo>
                  <a:pt x="21" y="1073"/>
                </a:lnTo>
                <a:lnTo>
                  <a:pt x="23" y="1064"/>
                </a:lnTo>
                <a:lnTo>
                  <a:pt x="25" y="1054"/>
                </a:lnTo>
                <a:lnTo>
                  <a:pt x="29" y="1043"/>
                </a:lnTo>
                <a:lnTo>
                  <a:pt x="30" y="1031"/>
                </a:lnTo>
                <a:lnTo>
                  <a:pt x="32" y="1020"/>
                </a:lnTo>
                <a:lnTo>
                  <a:pt x="34" y="1006"/>
                </a:lnTo>
                <a:lnTo>
                  <a:pt x="36" y="993"/>
                </a:lnTo>
                <a:lnTo>
                  <a:pt x="40" y="979"/>
                </a:lnTo>
                <a:lnTo>
                  <a:pt x="42" y="964"/>
                </a:lnTo>
                <a:lnTo>
                  <a:pt x="42" y="956"/>
                </a:lnTo>
                <a:lnTo>
                  <a:pt x="44" y="947"/>
                </a:lnTo>
                <a:lnTo>
                  <a:pt x="46" y="935"/>
                </a:lnTo>
                <a:lnTo>
                  <a:pt x="46" y="924"/>
                </a:lnTo>
                <a:lnTo>
                  <a:pt x="48" y="910"/>
                </a:lnTo>
                <a:lnTo>
                  <a:pt x="48" y="897"/>
                </a:lnTo>
                <a:lnTo>
                  <a:pt x="50" y="879"/>
                </a:lnTo>
                <a:lnTo>
                  <a:pt x="50" y="862"/>
                </a:lnTo>
                <a:lnTo>
                  <a:pt x="52" y="843"/>
                </a:lnTo>
                <a:lnTo>
                  <a:pt x="54" y="822"/>
                </a:lnTo>
                <a:lnTo>
                  <a:pt x="54" y="799"/>
                </a:lnTo>
                <a:lnTo>
                  <a:pt x="55" y="776"/>
                </a:lnTo>
                <a:lnTo>
                  <a:pt x="55" y="751"/>
                </a:lnTo>
                <a:lnTo>
                  <a:pt x="57" y="724"/>
                </a:lnTo>
                <a:lnTo>
                  <a:pt x="59" y="695"/>
                </a:lnTo>
                <a:lnTo>
                  <a:pt x="59" y="666"/>
                </a:lnTo>
                <a:lnTo>
                  <a:pt x="61" y="636"/>
                </a:lnTo>
                <a:lnTo>
                  <a:pt x="61" y="603"/>
                </a:lnTo>
                <a:lnTo>
                  <a:pt x="63" y="570"/>
                </a:lnTo>
                <a:lnTo>
                  <a:pt x="65" y="534"/>
                </a:lnTo>
                <a:lnTo>
                  <a:pt x="65" y="497"/>
                </a:lnTo>
                <a:lnTo>
                  <a:pt x="67" y="459"/>
                </a:lnTo>
                <a:lnTo>
                  <a:pt x="67" y="421"/>
                </a:lnTo>
                <a:lnTo>
                  <a:pt x="69" y="378"/>
                </a:lnTo>
                <a:lnTo>
                  <a:pt x="71" y="336"/>
                </a:lnTo>
                <a:lnTo>
                  <a:pt x="71" y="292"/>
                </a:lnTo>
                <a:lnTo>
                  <a:pt x="73" y="248"/>
                </a:lnTo>
                <a:lnTo>
                  <a:pt x="73" y="200"/>
                </a:lnTo>
                <a:lnTo>
                  <a:pt x="75" y="152"/>
                </a:lnTo>
                <a:lnTo>
                  <a:pt x="77" y="104"/>
                </a:lnTo>
                <a:lnTo>
                  <a:pt x="77" y="52"/>
                </a:lnTo>
                <a:lnTo>
                  <a:pt x="78" y="0"/>
                </a:lnTo>
                <a:lnTo>
                  <a:pt x="146" y="0"/>
                </a:lnTo>
                <a:lnTo>
                  <a:pt x="213" y="0"/>
                </a:lnTo>
                <a:lnTo>
                  <a:pt x="213" y="37"/>
                </a:lnTo>
                <a:lnTo>
                  <a:pt x="211" y="75"/>
                </a:lnTo>
                <a:lnTo>
                  <a:pt x="211" y="114"/>
                </a:lnTo>
                <a:lnTo>
                  <a:pt x="211" y="154"/>
                </a:lnTo>
                <a:lnTo>
                  <a:pt x="209" y="194"/>
                </a:lnTo>
                <a:lnTo>
                  <a:pt x="207" y="238"/>
                </a:lnTo>
                <a:lnTo>
                  <a:pt x="207" y="281"/>
                </a:lnTo>
                <a:lnTo>
                  <a:pt x="205" y="327"/>
                </a:lnTo>
                <a:lnTo>
                  <a:pt x="203" y="373"/>
                </a:lnTo>
                <a:lnTo>
                  <a:pt x="201" y="421"/>
                </a:lnTo>
                <a:lnTo>
                  <a:pt x="199" y="469"/>
                </a:lnTo>
                <a:lnTo>
                  <a:pt x="197" y="520"/>
                </a:lnTo>
                <a:lnTo>
                  <a:pt x="196" y="572"/>
                </a:lnTo>
                <a:lnTo>
                  <a:pt x="192" y="624"/>
                </a:lnTo>
                <a:lnTo>
                  <a:pt x="190" y="678"/>
                </a:lnTo>
                <a:lnTo>
                  <a:pt x="188" y="735"/>
                </a:lnTo>
                <a:lnTo>
                  <a:pt x="186" y="762"/>
                </a:lnTo>
                <a:lnTo>
                  <a:pt x="186" y="789"/>
                </a:lnTo>
                <a:lnTo>
                  <a:pt x="184" y="816"/>
                </a:lnTo>
                <a:lnTo>
                  <a:pt x="182" y="841"/>
                </a:lnTo>
                <a:lnTo>
                  <a:pt x="182" y="866"/>
                </a:lnTo>
                <a:lnTo>
                  <a:pt x="180" y="891"/>
                </a:lnTo>
                <a:lnTo>
                  <a:pt x="178" y="916"/>
                </a:lnTo>
                <a:lnTo>
                  <a:pt x="176" y="939"/>
                </a:lnTo>
                <a:lnTo>
                  <a:pt x="174" y="960"/>
                </a:lnTo>
                <a:lnTo>
                  <a:pt x="174" y="981"/>
                </a:lnTo>
                <a:lnTo>
                  <a:pt x="173" y="1002"/>
                </a:lnTo>
                <a:lnTo>
                  <a:pt x="171" y="1023"/>
                </a:lnTo>
                <a:lnTo>
                  <a:pt x="169" y="1043"/>
                </a:lnTo>
                <a:lnTo>
                  <a:pt x="167" y="1062"/>
                </a:lnTo>
                <a:lnTo>
                  <a:pt x="165" y="1081"/>
                </a:lnTo>
                <a:lnTo>
                  <a:pt x="163" y="1098"/>
                </a:lnTo>
                <a:lnTo>
                  <a:pt x="161" y="1116"/>
                </a:lnTo>
                <a:lnTo>
                  <a:pt x="159" y="1133"/>
                </a:lnTo>
                <a:lnTo>
                  <a:pt x="159" y="1148"/>
                </a:lnTo>
                <a:lnTo>
                  <a:pt x="157" y="1163"/>
                </a:lnTo>
                <a:lnTo>
                  <a:pt x="155" y="1179"/>
                </a:lnTo>
                <a:lnTo>
                  <a:pt x="153" y="1192"/>
                </a:lnTo>
                <a:lnTo>
                  <a:pt x="151" y="1206"/>
                </a:lnTo>
                <a:lnTo>
                  <a:pt x="149" y="1219"/>
                </a:lnTo>
                <a:lnTo>
                  <a:pt x="148" y="1231"/>
                </a:lnTo>
                <a:lnTo>
                  <a:pt x="148" y="1242"/>
                </a:lnTo>
                <a:lnTo>
                  <a:pt x="146" y="1254"/>
                </a:lnTo>
                <a:lnTo>
                  <a:pt x="144" y="1263"/>
                </a:lnTo>
                <a:lnTo>
                  <a:pt x="142" y="1275"/>
                </a:lnTo>
                <a:lnTo>
                  <a:pt x="142" y="1283"/>
                </a:lnTo>
                <a:lnTo>
                  <a:pt x="140" y="1292"/>
                </a:lnTo>
                <a:lnTo>
                  <a:pt x="140" y="1300"/>
                </a:lnTo>
                <a:lnTo>
                  <a:pt x="136" y="1315"/>
                </a:lnTo>
                <a:lnTo>
                  <a:pt x="134" y="1330"/>
                </a:lnTo>
                <a:lnTo>
                  <a:pt x="130" y="1342"/>
                </a:lnTo>
                <a:lnTo>
                  <a:pt x="128" y="1354"/>
                </a:lnTo>
                <a:lnTo>
                  <a:pt x="125" y="1365"/>
                </a:lnTo>
                <a:lnTo>
                  <a:pt x="121" y="1375"/>
                </a:lnTo>
                <a:lnTo>
                  <a:pt x="119" y="1384"/>
                </a:lnTo>
                <a:lnTo>
                  <a:pt x="115" y="1392"/>
                </a:lnTo>
                <a:lnTo>
                  <a:pt x="111" y="1398"/>
                </a:lnTo>
                <a:lnTo>
                  <a:pt x="107" y="1405"/>
                </a:lnTo>
                <a:lnTo>
                  <a:pt x="105" y="1409"/>
                </a:lnTo>
                <a:lnTo>
                  <a:pt x="101" y="1413"/>
                </a:lnTo>
                <a:lnTo>
                  <a:pt x="98" y="1417"/>
                </a:lnTo>
                <a:lnTo>
                  <a:pt x="96" y="1419"/>
                </a:lnTo>
                <a:lnTo>
                  <a:pt x="94" y="1421"/>
                </a:lnTo>
                <a:lnTo>
                  <a:pt x="90" y="14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77"/>
          <p:cNvSpPr/>
          <p:nvPr/>
        </p:nvSpPr>
        <p:spPr>
          <a:xfrm>
            <a:off x="6086520" y="3989520"/>
            <a:ext cx="282600" cy="104760"/>
          </a:xfrm>
          <a:custGeom>
            <a:avLst/>
            <a:gdLst/>
            <a:ahLst/>
            <a:rect l="l" t="t" r="r" b="b"/>
            <a:pathLst>
              <a:path w="356" h="132">
                <a:moveTo>
                  <a:pt x="185" y="23"/>
                </a:moveTo>
                <a:lnTo>
                  <a:pt x="190" y="21"/>
                </a:lnTo>
                <a:lnTo>
                  <a:pt x="196" y="19"/>
                </a:lnTo>
                <a:lnTo>
                  <a:pt x="202" y="17"/>
                </a:lnTo>
                <a:lnTo>
                  <a:pt x="208" y="15"/>
                </a:lnTo>
                <a:lnTo>
                  <a:pt x="215" y="9"/>
                </a:lnTo>
                <a:lnTo>
                  <a:pt x="223" y="7"/>
                </a:lnTo>
                <a:lnTo>
                  <a:pt x="229" y="3"/>
                </a:lnTo>
                <a:lnTo>
                  <a:pt x="235" y="1"/>
                </a:lnTo>
                <a:lnTo>
                  <a:pt x="240" y="0"/>
                </a:lnTo>
                <a:lnTo>
                  <a:pt x="244" y="0"/>
                </a:lnTo>
                <a:lnTo>
                  <a:pt x="250" y="0"/>
                </a:lnTo>
                <a:lnTo>
                  <a:pt x="254" y="0"/>
                </a:lnTo>
                <a:lnTo>
                  <a:pt x="260" y="0"/>
                </a:lnTo>
                <a:lnTo>
                  <a:pt x="265" y="0"/>
                </a:lnTo>
                <a:lnTo>
                  <a:pt x="273" y="1"/>
                </a:lnTo>
                <a:lnTo>
                  <a:pt x="283" y="3"/>
                </a:lnTo>
                <a:lnTo>
                  <a:pt x="288" y="5"/>
                </a:lnTo>
                <a:lnTo>
                  <a:pt x="292" y="7"/>
                </a:lnTo>
                <a:lnTo>
                  <a:pt x="300" y="9"/>
                </a:lnTo>
                <a:lnTo>
                  <a:pt x="306" y="11"/>
                </a:lnTo>
                <a:lnTo>
                  <a:pt x="311" y="13"/>
                </a:lnTo>
                <a:lnTo>
                  <a:pt x="319" y="17"/>
                </a:lnTo>
                <a:lnTo>
                  <a:pt x="323" y="19"/>
                </a:lnTo>
                <a:lnTo>
                  <a:pt x="329" y="23"/>
                </a:lnTo>
                <a:lnTo>
                  <a:pt x="333" y="24"/>
                </a:lnTo>
                <a:lnTo>
                  <a:pt x="336" y="28"/>
                </a:lnTo>
                <a:lnTo>
                  <a:pt x="344" y="36"/>
                </a:lnTo>
                <a:lnTo>
                  <a:pt x="348" y="42"/>
                </a:lnTo>
                <a:lnTo>
                  <a:pt x="352" y="48"/>
                </a:lnTo>
                <a:lnTo>
                  <a:pt x="354" y="53"/>
                </a:lnTo>
                <a:lnTo>
                  <a:pt x="356" y="59"/>
                </a:lnTo>
                <a:lnTo>
                  <a:pt x="354" y="63"/>
                </a:lnTo>
                <a:lnTo>
                  <a:pt x="352" y="67"/>
                </a:lnTo>
                <a:lnTo>
                  <a:pt x="350" y="71"/>
                </a:lnTo>
                <a:lnTo>
                  <a:pt x="346" y="74"/>
                </a:lnTo>
                <a:lnTo>
                  <a:pt x="340" y="78"/>
                </a:lnTo>
                <a:lnTo>
                  <a:pt x="334" y="82"/>
                </a:lnTo>
                <a:lnTo>
                  <a:pt x="327" y="84"/>
                </a:lnTo>
                <a:lnTo>
                  <a:pt x="317" y="88"/>
                </a:lnTo>
                <a:lnTo>
                  <a:pt x="308" y="90"/>
                </a:lnTo>
                <a:lnTo>
                  <a:pt x="298" y="94"/>
                </a:lnTo>
                <a:lnTo>
                  <a:pt x="285" y="96"/>
                </a:lnTo>
                <a:lnTo>
                  <a:pt x="273" y="97"/>
                </a:lnTo>
                <a:lnTo>
                  <a:pt x="258" y="99"/>
                </a:lnTo>
                <a:lnTo>
                  <a:pt x="242" y="103"/>
                </a:lnTo>
                <a:lnTo>
                  <a:pt x="225" y="105"/>
                </a:lnTo>
                <a:lnTo>
                  <a:pt x="208" y="107"/>
                </a:lnTo>
                <a:lnTo>
                  <a:pt x="190" y="109"/>
                </a:lnTo>
                <a:lnTo>
                  <a:pt x="173" y="111"/>
                </a:lnTo>
                <a:lnTo>
                  <a:pt x="156" y="115"/>
                </a:lnTo>
                <a:lnTo>
                  <a:pt x="141" y="117"/>
                </a:lnTo>
                <a:lnTo>
                  <a:pt x="125" y="119"/>
                </a:lnTo>
                <a:lnTo>
                  <a:pt x="110" y="120"/>
                </a:lnTo>
                <a:lnTo>
                  <a:pt x="95" y="122"/>
                </a:lnTo>
                <a:lnTo>
                  <a:pt x="81" y="124"/>
                </a:lnTo>
                <a:lnTo>
                  <a:pt x="70" y="126"/>
                </a:lnTo>
                <a:lnTo>
                  <a:pt x="56" y="126"/>
                </a:lnTo>
                <a:lnTo>
                  <a:pt x="47" y="128"/>
                </a:lnTo>
                <a:lnTo>
                  <a:pt x="35" y="130"/>
                </a:lnTo>
                <a:lnTo>
                  <a:pt x="25" y="130"/>
                </a:lnTo>
                <a:lnTo>
                  <a:pt x="16" y="130"/>
                </a:lnTo>
                <a:lnTo>
                  <a:pt x="8" y="132"/>
                </a:lnTo>
                <a:lnTo>
                  <a:pt x="0" y="132"/>
                </a:lnTo>
                <a:lnTo>
                  <a:pt x="0" y="36"/>
                </a:lnTo>
                <a:lnTo>
                  <a:pt x="16" y="36"/>
                </a:lnTo>
                <a:lnTo>
                  <a:pt x="31" y="36"/>
                </a:lnTo>
                <a:lnTo>
                  <a:pt x="47" y="34"/>
                </a:lnTo>
                <a:lnTo>
                  <a:pt x="60" y="34"/>
                </a:lnTo>
                <a:lnTo>
                  <a:pt x="73" y="34"/>
                </a:lnTo>
                <a:lnTo>
                  <a:pt x="87" y="34"/>
                </a:lnTo>
                <a:lnTo>
                  <a:pt x="98" y="34"/>
                </a:lnTo>
                <a:lnTo>
                  <a:pt x="110" y="34"/>
                </a:lnTo>
                <a:lnTo>
                  <a:pt x="121" y="32"/>
                </a:lnTo>
                <a:lnTo>
                  <a:pt x="133" y="32"/>
                </a:lnTo>
                <a:lnTo>
                  <a:pt x="142" y="30"/>
                </a:lnTo>
                <a:lnTo>
                  <a:pt x="152" y="30"/>
                </a:lnTo>
                <a:lnTo>
                  <a:pt x="160" y="28"/>
                </a:lnTo>
                <a:lnTo>
                  <a:pt x="169" y="26"/>
                </a:lnTo>
                <a:lnTo>
                  <a:pt x="177" y="24"/>
                </a:lnTo>
                <a:lnTo>
                  <a:pt x="185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78"/>
          <p:cNvSpPr/>
          <p:nvPr/>
        </p:nvSpPr>
        <p:spPr>
          <a:xfrm>
            <a:off x="6107040" y="3741840"/>
            <a:ext cx="254160" cy="75960"/>
          </a:xfrm>
          <a:custGeom>
            <a:avLst/>
            <a:gdLst/>
            <a:ahLst/>
            <a:rect l="l" t="t" r="r" b="b"/>
            <a:pathLst>
              <a:path w="321" h="96">
                <a:moveTo>
                  <a:pt x="146" y="23"/>
                </a:moveTo>
                <a:lnTo>
                  <a:pt x="175" y="13"/>
                </a:lnTo>
                <a:lnTo>
                  <a:pt x="189" y="9"/>
                </a:lnTo>
                <a:lnTo>
                  <a:pt x="204" y="5"/>
                </a:lnTo>
                <a:lnTo>
                  <a:pt x="217" y="3"/>
                </a:lnTo>
                <a:lnTo>
                  <a:pt x="235" y="2"/>
                </a:lnTo>
                <a:lnTo>
                  <a:pt x="252" y="0"/>
                </a:lnTo>
                <a:lnTo>
                  <a:pt x="269" y="0"/>
                </a:lnTo>
                <a:lnTo>
                  <a:pt x="283" y="0"/>
                </a:lnTo>
                <a:lnTo>
                  <a:pt x="294" y="2"/>
                </a:lnTo>
                <a:lnTo>
                  <a:pt x="298" y="3"/>
                </a:lnTo>
                <a:lnTo>
                  <a:pt x="304" y="5"/>
                </a:lnTo>
                <a:lnTo>
                  <a:pt x="308" y="7"/>
                </a:lnTo>
                <a:lnTo>
                  <a:pt x="311" y="9"/>
                </a:lnTo>
                <a:lnTo>
                  <a:pt x="313" y="13"/>
                </a:lnTo>
                <a:lnTo>
                  <a:pt x="317" y="15"/>
                </a:lnTo>
                <a:lnTo>
                  <a:pt x="319" y="19"/>
                </a:lnTo>
                <a:lnTo>
                  <a:pt x="319" y="25"/>
                </a:lnTo>
                <a:lnTo>
                  <a:pt x="321" y="28"/>
                </a:lnTo>
                <a:lnTo>
                  <a:pt x="321" y="34"/>
                </a:lnTo>
                <a:lnTo>
                  <a:pt x="319" y="40"/>
                </a:lnTo>
                <a:lnTo>
                  <a:pt x="317" y="48"/>
                </a:lnTo>
                <a:lnTo>
                  <a:pt x="315" y="50"/>
                </a:lnTo>
                <a:lnTo>
                  <a:pt x="313" y="53"/>
                </a:lnTo>
                <a:lnTo>
                  <a:pt x="311" y="57"/>
                </a:lnTo>
                <a:lnTo>
                  <a:pt x="308" y="59"/>
                </a:lnTo>
                <a:lnTo>
                  <a:pt x="304" y="63"/>
                </a:lnTo>
                <a:lnTo>
                  <a:pt x="300" y="65"/>
                </a:lnTo>
                <a:lnTo>
                  <a:pt x="296" y="67"/>
                </a:lnTo>
                <a:lnTo>
                  <a:pt x="290" y="71"/>
                </a:lnTo>
                <a:lnTo>
                  <a:pt x="284" y="73"/>
                </a:lnTo>
                <a:lnTo>
                  <a:pt x="277" y="75"/>
                </a:lnTo>
                <a:lnTo>
                  <a:pt x="271" y="76"/>
                </a:lnTo>
                <a:lnTo>
                  <a:pt x="263" y="78"/>
                </a:lnTo>
                <a:lnTo>
                  <a:pt x="256" y="80"/>
                </a:lnTo>
                <a:lnTo>
                  <a:pt x="246" y="82"/>
                </a:lnTo>
                <a:lnTo>
                  <a:pt x="236" y="84"/>
                </a:lnTo>
                <a:lnTo>
                  <a:pt x="227" y="84"/>
                </a:lnTo>
                <a:lnTo>
                  <a:pt x="217" y="86"/>
                </a:lnTo>
                <a:lnTo>
                  <a:pt x="206" y="88"/>
                </a:lnTo>
                <a:lnTo>
                  <a:pt x="194" y="88"/>
                </a:lnTo>
                <a:lnTo>
                  <a:pt x="183" y="90"/>
                </a:lnTo>
                <a:lnTo>
                  <a:pt x="171" y="90"/>
                </a:lnTo>
                <a:lnTo>
                  <a:pt x="158" y="92"/>
                </a:lnTo>
                <a:lnTo>
                  <a:pt x="144" y="92"/>
                </a:lnTo>
                <a:lnTo>
                  <a:pt x="131" y="94"/>
                </a:lnTo>
                <a:lnTo>
                  <a:pt x="116" y="94"/>
                </a:lnTo>
                <a:lnTo>
                  <a:pt x="100" y="94"/>
                </a:lnTo>
                <a:lnTo>
                  <a:pt x="85" y="94"/>
                </a:lnTo>
                <a:lnTo>
                  <a:pt x="70" y="94"/>
                </a:lnTo>
                <a:lnTo>
                  <a:pt x="52" y="96"/>
                </a:lnTo>
                <a:lnTo>
                  <a:pt x="37" y="96"/>
                </a:lnTo>
                <a:lnTo>
                  <a:pt x="18" y="96"/>
                </a:lnTo>
                <a:lnTo>
                  <a:pt x="0" y="96"/>
                </a:lnTo>
                <a:lnTo>
                  <a:pt x="0" y="65"/>
                </a:lnTo>
                <a:lnTo>
                  <a:pt x="0" y="36"/>
                </a:lnTo>
                <a:lnTo>
                  <a:pt x="23" y="36"/>
                </a:lnTo>
                <a:lnTo>
                  <a:pt x="45" y="34"/>
                </a:lnTo>
                <a:lnTo>
                  <a:pt x="64" y="34"/>
                </a:lnTo>
                <a:lnTo>
                  <a:pt x="83" y="34"/>
                </a:lnTo>
                <a:lnTo>
                  <a:pt x="100" y="32"/>
                </a:lnTo>
                <a:lnTo>
                  <a:pt x="117" y="30"/>
                </a:lnTo>
                <a:lnTo>
                  <a:pt x="133" y="27"/>
                </a:lnTo>
                <a:lnTo>
                  <a:pt x="146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79"/>
          <p:cNvSpPr/>
          <p:nvPr/>
        </p:nvSpPr>
        <p:spPr>
          <a:xfrm>
            <a:off x="5389560" y="2759040"/>
            <a:ext cx="996840" cy="1557360"/>
          </a:xfrm>
          <a:custGeom>
            <a:avLst/>
            <a:gdLst/>
            <a:ahLst/>
            <a:rect l="l" t="t" r="r" b="b"/>
            <a:pathLst>
              <a:path w="1258" h="1961">
                <a:moveTo>
                  <a:pt x="2" y="1959"/>
                </a:moveTo>
                <a:lnTo>
                  <a:pt x="2" y="1957"/>
                </a:lnTo>
                <a:lnTo>
                  <a:pt x="0" y="1956"/>
                </a:lnTo>
                <a:lnTo>
                  <a:pt x="2" y="1954"/>
                </a:lnTo>
                <a:lnTo>
                  <a:pt x="2" y="1950"/>
                </a:lnTo>
                <a:lnTo>
                  <a:pt x="4" y="1946"/>
                </a:lnTo>
                <a:lnTo>
                  <a:pt x="6" y="1942"/>
                </a:lnTo>
                <a:lnTo>
                  <a:pt x="8" y="1938"/>
                </a:lnTo>
                <a:lnTo>
                  <a:pt x="12" y="1933"/>
                </a:lnTo>
                <a:lnTo>
                  <a:pt x="16" y="1927"/>
                </a:lnTo>
                <a:lnTo>
                  <a:pt x="20" y="1919"/>
                </a:lnTo>
                <a:lnTo>
                  <a:pt x="25" y="1913"/>
                </a:lnTo>
                <a:lnTo>
                  <a:pt x="31" y="1906"/>
                </a:lnTo>
                <a:lnTo>
                  <a:pt x="37" y="1898"/>
                </a:lnTo>
                <a:lnTo>
                  <a:pt x="43" y="1888"/>
                </a:lnTo>
                <a:lnTo>
                  <a:pt x="50" y="1879"/>
                </a:lnTo>
                <a:lnTo>
                  <a:pt x="58" y="1869"/>
                </a:lnTo>
                <a:lnTo>
                  <a:pt x="66" y="1860"/>
                </a:lnTo>
                <a:lnTo>
                  <a:pt x="75" y="1848"/>
                </a:lnTo>
                <a:lnTo>
                  <a:pt x="85" y="1837"/>
                </a:lnTo>
                <a:lnTo>
                  <a:pt x="94" y="1825"/>
                </a:lnTo>
                <a:lnTo>
                  <a:pt x="106" y="1812"/>
                </a:lnTo>
                <a:lnTo>
                  <a:pt x="116" y="1798"/>
                </a:lnTo>
                <a:lnTo>
                  <a:pt x="129" y="1785"/>
                </a:lnTo>
                <a:lnTo>
                  <a:pt x="140" y="1769"/>
                </a:lnTo>
                <a:lnTo>
                  <a:pt x="154" y="1756"/>
                </a:lnTo>
                <a:lnTo>
                  <a:pt x="167" y="1741"/>
                </a:lnTo>
                <a:lnTo>
                  <a:pt x="181" y="1723"/>
                </a:lnTo>
                <a:lnTo>
                  <a:pt x="194" y="1706"/>
                </a:lnTo>
                <a:lnTo>
                  <a:pt x="210" y="1689"/>
                </a:lnTo>
                <a:lnTo>
                  <a:pt x="225" y="1671"/>
                </a:lnTo>
                <a:lnTo>
                  <a:pt x="242" y="1652"/>
                </a:lnTo>
                <a:lnTo>
                  <a:pt x="258" y="1635"/>
                </a:lnTo>
                <a:lnTo>
                  <a:pt x="292" y="1597"/>
                </a:lnTo>
                <a:lnTo>
                  <a:pt x="325" y="1560"/>
                </a:lnTo>
                <a:lnTo>
                  <a:pt x="357" y="1524"/>
                </a:lnTo>
                <a:lnTo>
                  <a:pt x="388" y="1485"/>
                </a:lnTo>
                <a:lnTo>
                  <a:pt x="419" y="1447"/>
                </a:lnTo>
                <a:lnTo>
                  <a:pt x="449" y="1407"/>
                </a:lnTo>
                <a:lnTo>
                  <a:pt x="478" y="1368"/>
                </a:lnTo>
                <a:lnTo>
                  <a:pt x="507" y="1328"/>
                </a:lnTo>
                <a:lnTo>
                  <a:pt x="534" y="1288"/>
                </a:lnTo>
                <a:lnTo>
                  <a:pt x="561" y="1247"/>
                </a:lnTo>
                <a:lnTo>
                  <a:pt x="588" y="1207"/>
                </a:lnTo>
                <a:lnTo>
                  <a:pt x="613" y="1165"/>
                </a:lnTo>
                <a:lnTo>
                  <a:pt x="638" y="1124"/>
                </a:lnTo>
                <a:lnTo>
                  <a:pt x="663" y="1082"/>
                </a:lnTo>
                <a:lnTo>
                  <a:pt x="686" y="1040"/>
                </a:lnTo>
                <a:lnTo>
                  <a:pt x="709" y="996"/>
                </a:lnTo>
                <a:lnTo>
                  <a:pt x="732" y="954"/>
                </a:lnTo>
                <a:lnTo>
                  <a:pt x="753" y="911"/>
                </a:lnTo>
                <a:lnTo>
                  <a:pt x="774" y="869"/>
                </a:lnTo>
                <a:lnTo>
                  <a:pt x="793" y="827"/>
                </a:lnTo>
                <a:lnTo>
                  <a:pt x="812" y="787"/>
                </a:lnTo>
                <a:lnTo>
                  <a:pt x="830" y="744"/>
                </a:lnTo>
                <a:lnTo>
                  <a:pt x="847" y="704"/>
                </a:lnTo>
                <a:lnTo>
                  <a:pt x="864" y="666"/>
                </a:lnTo>
                <a:lnTo>
                  <a:pt x="879" y="625"/>
                </a:lnTo>
                <a:lnTo>
                  <a:pt x="895" y="587"/>
                </a:lnTo>
                <a:lnTo>
                  <a:pt x="908" y="549"/>
                </a:lnTo>
                <a:lnTo>
                  <a:pt x="922" y="512"/>
                </a:lnTo>
                <a:lnTo>
                  <a:pt x="935" y="476"/>
                </a:lnTo>
                <a:lnTo>
                  <a:pt x="945" y="439"/>
                </a:lnTo>
                <a:lnTo>
                  <a:pt x="956" y="405"/>
                </a:lnTo>
                <a:lnTo>
                  <a:pt x="966" y="370"/>
                </a:lnTo>
                <a:lnTo>
                  <a:pt x="970" y="353"/>
                </a:lnTo>
                <a:lnTo>
                  <a:pt x="974" y="337"/>
                </a:lnTo>
                <a:lnTo>
                  <a:pt x="977" y="322"/>
                </a:lnTo>
                <a:lnTo>
                  <a:pt x="981" y="307"/>
                </a:lnTo>
                <a:lnTo>
                  <a:pt x="985" y="291"/>
                </a:lnTo>
                <a:lnTo>
                  <a:pt x="989" y="278"/>
                </a:lnTo>
                <a:lnTo>
                  <a:pt x="993" y="263"/>
                </a:lnTo>
                <a:lnTo>
                  <a:pt x="995" y="251"/>
                </a:lnTo>
                <a:lnTo>
                  <a:pt x="1000" y="224"/>
                </a:lnTo>
                <a:lnTo>
                  <a:pt x="1004" y="201"/>
                </a:lnTo>
                <a:lnTo>
                  <a:pt x="1008" y="180"/>
                </a:lnTo>
                <a:lnTo>
                  <a:pt x="1010" y="161"/>
                </a:lnTo>
                <a:lnTo>
                  <a:pt x="1012" y="144"/>
                </a:lnTo>
                <a:lnTo>
                  <a:pt x="1014" y="128"/>
                </a:lnTo>
                <a:lnTo>
                  <a:pt x="1014" y="113"/>
                </a:lnTo>
                <a:lnTo>
                  <a:pt x="1014" y="101"/>
                </a:lnTo>
                <a:lnTo>
                  <a:pt x="1012" y="90"/>
                </a:lnTo>
                <a:lnTo>
                  <a:pt x="1010" y="82"/>
                </a:lnTo>
                <a:lnTo>
                  <a:pt x="1006" y="74"/>
                </a:lnTo>
                <a:lnTo>
                  <a:pt x="1002" y="69"/>
                </a:lnTo>
                <a:lnTo>
                  <a:pt x="998" y="65"/>
                </a:lnTo>
                <a:lnTo>
                  <a:pt x="995" y="61"/>
                </a:lnTo>
                <a:lnTo>
                  <a:pt x="991" y="55"/>
                </a:lnTo>
                <a:lnTo>
                  <a:pt x="989" y="51"/>
                </a:lnTo>
                <a:lnTo>
                  <a:pt x="985" y="48"/>
                </a:lnTo>
                <a:lnTo>
                  <a:pt x="985" y="42"/>
                </a:lnTo>
                <a:lnTo>
                  <a:pt x="983" y="34"/>
                </a:lnTo>
                <a:lnTo>
                  <a:pt x="981" y="26"/>
                </a:lnTo>
                <a:lnTo>
                  <a:pt x="983" y="21"/>
                </a:lnTo>
                <a:lnTo>
                  <a:pt x="985" y="15"/>
                </a:lnTo>
                <a:lnTo>
                  <a:pt x="991" y="9"/>
                </a:lnTo>
                <a:lnTo>
                  <a:pt x="993" y="7"/>
                </a:lnTo>
                <a:lnTo>
                  <a:pt x="995" y="5"/>
                </a:lnTo>
                <a:lnTo>
                  <a:pt x="998" y="3"/>
                </a:lnTo>
                <a:lnTo>
                  <a:pt x="1004" y="2"/>
                </a:lnTo>
                <a:lnTo>
                  <a:pt x="1008" y="2"/>
                </a:lnTo>
                <a:lnTo>
                  <a:pt x="1014" y="0"/>
                </a:lnTo>
                <a:lnTo>
                  <a:pt x="1025" y="0"/>
                </a:lnTo>
                <a:lnTo>
                  <a:pt x="1039" y="0"/>
                </a:lnTo>
                <a:lnTo>
                  <a:pt x="1052" y="2"/>
                </a:lnTo>
                <a:lnTo>
                  <a:pt x="1069" y="5"/>
                </a:lnTo>
                <a:lnTo>
                  <a:pt x="1087" y="9"/>
                </a:lnTo>
                <a:lnTo>
                  <a:pt x="1100" y="15"/>
                </a:lnTo>
                <a:lnTo>
                  <a:pt x="1116" y="21"/>
                </a:lnTo>
                <a:lnTo>
                  <a:pt x="1129" y="26"/>
                </a:lnTo>
                <a:lnTo>
                  <a:pt x="1142" y="34"/>
                </a:lnTo>
                <a:lnTo>
                  <a:pt x="1156" y="42"/>
                </a:lnTo>
                <a:lnTo>
                  <a:pt x="1169" y="51"/>
                </a:lnTo>
                <a:lnTo>
                  <a:pt x="1196" y="69"/>
                </a:lnTo>
                <a:lnTo>
                  <a:pt x="1204" y="74"/>
                </a:lnTo>
                <a:lnTo>
                  <a:pt x="1210" y="78"/>
                </a:lnTo>
                <a:lnTo>
                  <a:pt x="1215" y="82"/>
                </a:lnTo>
                <a:lnTo>
                  <a:pt x="1219" y="88"/>
                </a:lnTo>
                <a:lnTo>
                  <a:pt x="1229" y="96"/>
                </a:lnTo>
                <a:lnTo>
                  <a:pt x="1236" y="105"/>
                </a:lnTo>
                <a:lnTo>
                  <a:pt x="1242" y="115"/>
                </a:lnTo>
                <a:lnTo>
                  <a:pt x="1248" y="122"/>
                </a:lnTo>
                <a:lnTo>
                  <a:pt x="1254" y="132"/>
                </a:lnTo>
                <a:lnTo>
                  <a:pt x="1258" y="142"/>
                </a:lnTo>
                <a:lnTo>
                  <a:pt x="1258" y="144"/>
                </a:lnTo>
                <a:lnTo>
                  <a:pt x="1258" y="147"/>
                </a:lnTo>
                <a:lnTo>
                  <a:pt x="1256" y="151"/>
                </a:lnTo>
                <a:lnTo>
                  <a:pt x="1254" y="157"/>
                </a:lnTo>
                <a:lnTo>
                  <a:pt x="1252" y="163"/>
                </a:lnTo>
                <a:lnTo>
                  <a:pt x="1250" y="170"/>
                </a:lnTo>
                <a:lnTo>
                  <a:pt x="1246" y="178"/>
                </a:lnTo>
                <a:lnTo>
                  <a:pt x="1244" y="186"/>
                </a:lnTo>
                <a:lnTo>
                  <a:pt x="1240" y="195"/>
                </a:lnTo>
                <a:lnTo>
                  <a:pt x="1236" y="207"/>
                </a:lnTo>
                <a:lnTo>
                  <a:pt x="1233" y="216"/>
                </a:lnTo>
                <a:lnTo>
                  <a:pt x="1227" y="230"/>
                </a:lnTo>
                <a:lnTo>
                  <a:pt x="1221" y="241"/>
                </a:lnTo>
                <a:lnTo>
                  <a:pt x="1215" y="255"/>
                </a:lnTo>
                <a:lnTo>
                  <a:pt x="1210" y="270"/>
                </a:lnTo>
                <a:lnTo>
                  <a:pt x="1204" y="286"/>
                </a:lnTo>
                <a:lnTo>
                  <a:pt x="1196" y="301"/>
                </a:lnTo>
                <a:lnTo>
                  <a:pt x="1190" y="318"/>
                </a:lnTo>
                <a:lnTo>
                  <a:pt x="1183" y="337"/>
                </a:lnTo>
                <a:lnTo>
                  <a:pt x="1173" y="355"/>
                </a:lnTo>
                <a:lnTo>
                  <a:pt x="1165" y="376"/>
                </a:lnTo>
                <a:lnTo>
                  <a:pt x="1158" y="395"/>
                </a:lnTo>
                <a:lnTo>
                  <a:pt x="1148" y="416"/>
                </a:lnTo>
                <a:lnTo>
                  <a:pt x="1139" y="439"/>
                </a:lnTo>
                <a:lnTo>
                  <a:pt x="1129" y="462"/>
                </a:lnTo>
                <a:lnTo>
                  <a:pt x="1119" y="485"/>
                </a:lnTo>
                <a:lnTo>
                  <a:pt x="1108" y="510"/>
                </a:lnTo>
                <a:lnTo>
                  <a:pt x="1098" y="537"/>
                </a:lnTo>
                <a:lnTo>
                  <a:pt x="1087" y="562"/>
                </a:lnTo>
                <a:lnTo>
                  <a:pt x="1075" y="591"/>
                </a:lnTo>
                <a:lnTo>
                  <a:pt x="1064" y="618"/>
                </a:lnTo>
                <a:lnTo>
                  <a:pt x="1050" y="646"/>
                </a:lnTo>
                <a:lnTo>
                  <a:pt x="1025" y="706"/>
                </a:lnTo>
                <a:lnTo>
                  <a:pt x="1000" y="762"/>
                </a:lnTo>
                <a:lnTo>
                  <a:pt x="975" y="817"/>
                </a:lnTo>
                <a:lnTo>
                  <a:pt x="949" y="871"/>
                </a:lnTo>
                <a:lnTo>
                  <a:pt x="922" y="923"/>
                </a:lnTo>
                <a:lnTo>
                  <a:pt x="897" y="973"/>
                </a:lnTo>
                <a:lnTo>
                  <a:pt x="870" y="1023"/>
                </a:lnTo>
                <a:lnTo>
                  <a:pt x="843" y="1069"/>
                </a:lnTo>
                <a:lnTo>
                  <a:pt x="814" y="1115"/>
                </a:lnTo>
                <a:lnTo>
                  <a:pt x="787" y="1159"/>
                </a:lnTo>
                <a:lnTo>
                  <a:pt x="760" y="1203"/>
                </a:lnTo>
                <a:lnTo>
                  <a:pt x="734" y="1243"/>
                </a:lnTo>
                <a:lnTo>
                  <a:pt x="705" y="1284"/>
                </a:lnTo>
                <a:lnTo>
                  <a:pt x="678" y="1322"/>
                </a:lnTo>
                <a:lnTo>
                  <a:pt x="651" y="1359"/>
                </a:lnTo>
                <a:lnTo>
                  <a:pt x="624" y="1393"/>
                </a:lnTo>
                <a:lnTo>
                  <a:pt x="597" y="1430"/>
                </a:lnTo>
                <a:lnTo>
                  <a:pt x="570" y="1464"/>
                </a:lnTo>
                <a:lnTo>
                  <a:pt x="544" y="1497"/>
                </a:lnTo>
                <a:lnTo>
                  <a:pt x="517" y="1529"/>
                </a:lnTo>
                <a:lnTo>
                  <a:pt x="490" y="1560"/>
                </a:lnTo>
                <a:lnTo>
                  <a:pt x="465" y="1591"/>
                </a:lnTo>
                <a:lnTo>
                  <a:pt x="438" y="1620"/>
                </a:lnTo>
                <a:lnTo>
                  <a:pt x="413" y="1647"/>
                </a:lnTo>
                <a:lnTo>
                  <a:pt x="386" y="1673"/>
                </a:lnTo>
                <a:lnTo>
                  <a:pt x="361" y="1698"/>
                </a:lnTo>
                <a:lnTo>
                  <a:pt x="336" y="1721"/>
                </a:lnTo>
                <a:lnTo>
                  <a:pt x="309" y="1744"/>
                </a:lnTo>
                <a:lnTo>
                  <a:pt x="284" y="1767"/>
                </a:lnTo>
                <a:lnTo>
                  <a:pt x="259" y="1789"/>
                </a:lnTo>
                <a:lnTo>
                  <a:pt x="235" y="1808"/>
                </a:lnTo>
                <a:lnTo>
                  <a:pt x="210" y="1827"/>
                </a:lnTo>
                <a:lnTo>
                  <a:pt x="185" y="1846"/>
                </a:lnTo>
                <a:lnTo>
                  <a:pt x="164" y="1865"/>
                </a:lnTo>
                <a:lnTo>
                  <a:pt x="142" y="1881"/>
                </a:lnTo>
                <a:lnTo>
                  <a:pt x="123" y="1896"/>
                </a:lnTo>
                <a:lnTo>
                  <a:pt x="106" y="1909"/>
                </a:lnTo>
                <a:lnTo>
                  <a:pt x="89" y="1921"/>
                </a:lnTo>
                <a:lnTo>
                  <a:pt x="73" y="1931"/>
                </a:lnTo>
                <a:lnTo>
                  <a:pt x="60" y="1938"/>
                </a:lnTo>
                <a:lnTo>
                  <a:pt x="48" y="1946"/>
                </a:lnTo>
                <a:lnTo>
                  <a:pt x="39" y="1952"/>
                </a:lnTo>
                <a:lnTo>
                  <a:pt x="29" y="1956"/>
                </a:lnTo>
                <a:lnTo>
                  <a:pt x="21" y="1959"/>
                </a:lnTo>
                <a:lnTo>
                  <a:pt x="14" y="1961"/>
                </a:lnTo>
                <a:lnTo>
                  <a:pt x="10" y="1961"/>
                </a:lnTo>
                <a:lnTo>
                  <a:pt x="6" y="1961"/>
                </a:lnTo>
                <a:lnTo>
                  <a:pt x="2" y="19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0"/>
          <p:cNvSpPr/>
          <p:nvPr/>
        </p:nvSpPr>
        <p:spPr>
          <a:xfrm>
            <a:off x="5699160" y="3073320"/>
            <a:ext cx="1046160" cy="257400"/>
          </a:xfrm>
          <a:custGeom>
            <a:avLst/>
            <a:gdLst/>
            <a:ahLst/>
            <a:rect l="l" t="t" r="r" b="b"/>
            <a:pathLst>
              <a:path w="1317" h="324">
                <a:moveTo>
                  <a:pt x="1255" y="144"/>
                </a:moveTo>
                <a:lnTo>
                  <a:pt x="1251" y="144"/>
                </a:lnTo>
                <a:lnTo>
                  <a:pt x="1248" y="146"/>
                </a:lnTo>
                <a:lnTo>
                  <a:pt x="1242" y="148"/>
                </a:lnTo>
                <a:lnTo>
                  <a:pt x="1236" y="150"/>
                </a:lnTo>
                <a:lnTo>
                  <a:pt x="1228" y="152"/>
                </a:lnTo>
                <a:lnTo>
                  <a:pt x="1221" y="154"/>
                </a:lnTo>
                <a:lnTo>
                  <a:pt x="1213" y="155"/>
                </a:lnTo>
                <a:lnTo>
                  <a:pt x="1203" y="157"/>
                </a:lnTo>
                <a:lnTo>
                  <a:pt x="1192" y="159"/>
                </a:lnTo>
                <a:lnTo>
                  <a:pt x="1182" y="161"/>
                </a:lnTo>
                <a:lnTo>
                  <a:pt x="1171" y="163"/>
                </a:lnTo>
                <a:lnTo>
                  <a:pt x="1157" y="167"/>
                </a:lnTo>
                <a:lnTo>
                  <a:pt x="1144" y="169"/>
                </a:lnTo>
                <a:lnTo>
                  <a:pt x="1130" y="173"/>
                </a:lnTo>
                <a:lnTo>
                  <a:pt x="1115" y="175"/>
                </a:lnTo>
                <a:lnTo>
                  <a:pt x="1100" y="179"/>
                </a:lnTo>
                <a:lnTo>
                  <a:pt x="1082" y="180"/>
                </a:lnTo>
                <a:lnTo>
                  <a:pt x="1065" y="184"/>
                </a:lnTo>
                <a:lnTo>
                  <a:pt x="1046" y="188"/>
                </a:lnTo>
                <a:lnTo>
                  <a:pt x="1027" y="192"/>
                </a:lnTo>
                <a:lnTo>
                  <a:pt x="1008" y="194"/>
                </a:lnTo>
                <a:lnTo>
                  <a:pt x="986" y="198"/>
                </a:lnTo>
                <a:lnTo>
                  <a:pt x="965" y="202"/>
                </a:lnTo>
                <a:lnTo>
                  <a:pt x="942" y="205"/>
                </a:lnTo>
                <a:lnTo>
                  <a:pt x="919" y="209"/>
                </a:lnTo>
                <a:lnTo>
                  <a:pt x="894" y="213"/>
                </a:lnTo>
                <a:lnTo>
                  <a:pt x="869" y="219"/>
                </a:lnTo>
                <a:lnTo>
                  <a:pt x="844" y="223"/>
                </a:lnTo>
                <a:lnTo>
                  <a:pt x="818" y="227"/>
                </a:lnTo>
                <a:lnTo>
                  <a:pt x="789" y="230"/>
                </a:lnTo>
                <a:lnTo>
                  <a:pt x="762" y="236"/>
                </a:lnTo>
                <a:lnTo>
                  <a:pt x="731" y="240"/>
                </a:lnTo>
                <a:lnTo>
                  <a:pt x="702" y="246"/>
                </a:lnTo>
                <a:lnTo>
                  <a:pt x="674" y="251"/>
                </a:lnTo>
                <a:lnTo>
                  <a:pt x="647" y="257"/>
                </a:lnTo>
                <a:lnTo>
                  <a:pt x="620" y="261"/>
                </a:lnTo>
                <a:lnTo>
                  <a:pt x="593" y="267"/>
                </a:lnTo>
                <a:lnTo>
                  <a:pt x="568" y="271"/>
                </a:lnTo>
                <a:lnTo>
                  <a:pt x="543" y="274"/>
                </a:lnTo>
                <a:lnTo>
                  <a:pt x="520" y="278"/>
                </a:lnTo>
                <a:lnTo>
                  <a:pt x="497" y="282"/>
                </a:lnTo>
                <a:lnTo>
                  <a:pt x="474" y="286"/>
                </a:lnTo>
                <a:lnTo>
                  <a:pt x="453" y="290"/>
                </a:lnTo>
                <a:lnTo>
                  <a:pt x="432" y="294"/>
                </a:lnTo>
                <a:lnTo>
                  <a:pt x="413" y="298"/>
                </a:lnTo>
                <a:lnTo>
                  <a:pt x="393" y="299"/>
                </a:lnTo>
                <a:lnTo>
                  <a:pt x="376" y="303"/>
                </a:lnTo>
                <a:lnTo>
                  <a:pt x="359" y="305"/>
                </a:lnTo>
                <a:lnTo>
                  <a:pt x="342" y="307"/>
                </a:lnTo>
                <a:lnTo>
                  <a:pt x="326" y="309"/>
                </a:lnTo>
                <a:lnTo>
                  <a:pt x="311" y="313"/>
                </a:lnTo>
                <a:lnTo>
                  <a:pt x="297" y="315"/>
                </a:lnTo>
                <a:lnTo>
                  <a:pt x="284" y="315"/>
                </a:lnTo>
                <a:lnTo>
                  <a:pt x="272" y="317"/>
                </a:lnTo>
                <a:lnTo>
                  <a:pt x="261" y="319"/>
                </a:lnTo>
                <a:lnTo>
                  <a:pt x="249" y="321"/>
                </a:lnTo>
                <a:lnTo>
                  <a:pt x="240" y="321"/>
                </a:lnTo>
                <a:lnTo>
                  <a:pt x="230" y="322"/>
                </a:lnTo>
                <a:lnTo>
                  <a:pt x="223" y="322"/>
                </a:lnTo>
                <a:lnTo>
                  <a:pt x="215" y="322"/>
                </a:lnTo>
                <a:lnTo>
                  <a:pt x="209" y="324"/>
                </a:lnTo>
                <a:lnTo>
                  <a:pt x="203" y="324"/>
                </a:lnTo>
                <a:lnTo>
                  <a:pt x="200" y="324"/>
                </a:lnTo>
                <a:lnTo>
                  <a:pt x="196" y="324"/>
                </a:lnTo>
                <a:lnTo>
                  <a:pt x="188" y="324"/>
                </a:lnTo>
                <a:lnTo>
                  <a:pt x="180" y="322"/>
                </a:lnTo>
                <a:lnTo>
                  <a:pt x="171" y="321"/>
                </a:lnTo>
                <a:lnTo>
                  <a:pt x="161" y="319"/>
                </a:lnTo>
                <a:lnTo>
                  <a:pt x="152" y="315"/>
                </a:lnTo>
                <a:lnTo>
                  <a:pt x="140" y="309"/>
                </a:lnTo>
                <a:lnTo>
                  <a:pt x="129" y="305"/>
                </a:lnTo>
                <a:lnTo>
                  <a:pt x="115" y="299"/>
                </a:lnTo>
                <a:lnTo>
                  <a:pt x="104" y="292"/>
                </a:lnTo>
                <a:lnTo>
                  <a:pt x="90" y="286"/>
                </a:lnTo>
                <a:lnTo>
                  <a:pt x="75" y="276"/>
                </a:lnTo>
                <a:lnTo>
                  <a:pt x="61" y="269"/>
                </a:lnTo>
                <a:lnTo>
                  <a:pt x="46" y="259"/>
                </a:lnTo>
                <a:lnTo>
                  <a:pt x="31" y="250"/>
                </a:lnTo>
                <a:lnTo>
                  <a:pt x="15" y="240"/>
                </a:lnTo>
                <a:lnTo>
                  <a:pt x="0" y="228"/>
                </a:lnTo>
                <a:lnTo>
                  <a:pt x="27" y="223"/>
                </a:lnTo>
                <a:lnTo>
                  <a:pt x="52" y="219"/>
                </a:lnTo>
                <a:lnTo>
                  <a:pt x="79" y="215"/>
                </a:lnTo>
                <a:lnTo>
                  <a:pt x="105" y="209"/>
                </a:lnTo>
                <a:lnTo>
                  <a:pt x="134" y="205"/>
                </a:lnTo>
                <a:lnTo>
                  <a:pt x="163" y="200"/>
                </a:lnTo>
                <a:lnTo>
                  <a:pt x="192" y="196"/>
                </a:lnTo>
                <a:lnTo>
                  <a:pt x="221" y="190"/>
                </a:lnTo>
                <a:lnTo>
                  <a:pt x="251" y="186"/>
                </a:lnTo>
                <a:lnTo>
                  <a:pt x="284" y="180"/>
                </a:lnTo>
                <a:lnTo>
                  <a:pt x="315" y="175"/>
                </a:lnTo>
                <a:lnTo>
                  <a:pt x="349" y="169"/>
                </a:lnTo>
                <a:lnTo>
                  <a:pt x="382" y="163"/>
                </a:lnTo>
                <a:lnTo>
                  <a:pt x="416" y="157"/>
                </a:lnTo>
                <a:lnTo>
                  <a:pt x="451" y="150"/>
                </a:lnTo>
                <a:lnTo>
                  <a:pt x="487" y="144"/>
                </a:lnTo>
                <a:lnTo>
                  <a:pt x="524" y="136"/>
                </a:lnTo>
                <a:lnTo>
                  <a:pt x="558" y="131"/>
                </a:lnTo>
                <a:lnTo>
                  <a:pt x="593" y="125"/>
                </a:lnTo>
                <a:lnTo>
                  <a:pt x="628" y="119"/>
                </a:lnTo>
                <a:lnTo>
                  <a:pt x="660" y="113"/>
                </a:lnTo>
                <a:lnTo>
                  <a:pt x="693" y="107"/>
                </a:lnTo>
                <a:lnTo>
                  <a:pt x="724" y="102"/>
                </a:lnTo>
                <a:lnTo>
                  <a:pt x="752" y="96"/>
                </a:lnTo>
                <a:lnTo>
                  <a:pt x="783" y="90"/>
                </a:lnTo>
                <a:lnTo>
                  <a:pt x="810" y="84"/>
                </a:lnTo>
                <a:lnTo>
                  <a:pt x="839" y="79"/>
                </a:lnTo>
                <a:lnTo>
                  <a:pt x="866" y="73"/>
                </a:lnTo>
                <a:lnTo>
                  <a:pt x="891" y="67"/>
                </a:lnTo>
                <a:lnTo>
                  <a:pt x="915" y="61"/>
                </a:lnTo>
                <a:lnTo>
                  <a:pt x="940" y="54"/>
                </a:lnTo>
                <a:lnTo>
                  <a:pt x="963" y="48"/>
                </a:lnTo>
                <a:lnTo>
                  <a:pt x="983" y="40"/>
                </a:lnTo>
                <a:lnTo>
                  <a:pt x="1004" y="35"/>
                </a:lnTo>
                <a:lnTo>
                  <a:pt x="1021" y="29"/>
                </a:lnTo>
                <a:lnTo>
                  <a:pt x="1038" y="25"/>
                </a:lnTo>
                <a:lnTo>
                  <a:pt x="1056" y="19"/>
                </a:lnTo>
                <a:lnTo>
                  <a:pt x="1071" y="15"/>
                </a:lnTo>
                <a:lnTo>
                  <a:pt x="1086" y="13"/>
                </a:lnTo>
                <a:lnTo>
                  <a:pt x="1100" y="10"/>
                </a:lnTo>
                <a:lnTo>
                  <a:pt x="1111" y="8"/>
                </a:lnTo>
                <a:lnTo>
                  <a:pt x="1123" y="4"/>
                </a:lnTo>
                <a:lnTo>
                  <a:pt x="1134" y="2"/>
                </a:lnTo>
                <a:lnTo>
                  <a:pt x="1144" y="2"/>
                </a:lnTo>
                <a:lnTo>
                  <a:pt x="1152" y="0"/>
                </a:lnTo>
                <a:lnTo>
                  <a:pt x="1159" y="0"/>
                </a:lnTo>
                <a:lnTo>
                  <a:pt x="1165" y="0"/>
                </a:lnTo>
                <a:lnTo>
                  <a:pt x="1171" y="0"/>
                </a:lnTo>
                <a:lnTo>
                  <a:pt x="1180" y="0"/>
                </a:lnTo>
                <a:lnTo>
                  <a:pt x="1192" y="2"/>
                </a:lnTo>
                <a:lnTo>
                  <a:pt x="1203" y="4"/>
                </a:lnTo>
                <a:lnTo>
                  <a:pt x="1215" y="6"/>
                </a:lnTo>
                <a:lnTo>
                  <a:pt x="1228" y="10"/>
                </a:lnTo>
                <a:lnTo>
                  <a:pt x="1242" y="13"/>
                </a:lnTo>
                <a:lnTo>
                  <a:pt x="1269" y="23"/>
                </a:lnTo>
                <a:lnTo>
                  <a:pt x="1274" y="27"/>
                </a:lnTo>
                <a:lnTo>
                  <a:pt x="1280" y="33"/>
                </a:lnTo>
                <a:lnTo>
                  <a:pt x="1286" y="36"/>
                </a:lnTo>
                <a:lnTo>
                  <a:pt x="1292" y="40"/>
                </a:lnTo>
                <a:lnTo>
                  <a:pt x="1296" y="46"/>
                </a:lnTo>
                <a:lnTo>
                  <a:pt x="1299" y="50"/>
                </a:lnTo>
                <a:lnTo>
                  <a:pt x="1307" y="58"/>
                </a:lnTo>
                <a:lnTo>
                  <a:pt x="1311" y="65"/>
                </a:lnTo>
                <a:lnTo>
                  <a:pt x="1315" y="73"/>
                </a:lnTo>
                <a:lnTo>
                  <a:pt x="1317" y="79"/>
                </a:lnTo>
                <a:lnTo>
                  <a:pt x="1317" y="84"/>
                </a:lnTo>
                <a:lnTo>
                  <a:pt x="1317" y="86"/>
                </a:lnTo>
                <a:lnTo>
                  <a:pt x="1315" y="88"/>
                </a:lnTo>
                <a:lnTo>
                  <a:pt x="1315" y="92"/>
                </a:lnTo>
                <a:lnTo>
                  <a:pt x="1313" y="94"/>
                </a:lnTo>
                <a:lnTo>
                  <a:pt x="1309" y="98"/>
                </a:lnTo>
                <a:lnTo>
                  <a:pt x="1307" y="102"/>
                </a:lnTo>
                <a:lnTo>
                  <a:pt x="1299" y="109"/>
                </a:lnTo>
                <a:lnTo>
                  <a:pt x="1292" y="117"/>
                </a:lnTo>
                <a:lnTo>
                  <a:pt x="1280" y="125"/>
                </a:lnTo>
                <a:lnTo>
                  <a:pt x="1269" y="134"/>
                </a:lnTo>
                <a:lnTo>
                  <a:pt x="1255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2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女”的横要写得长一些，托住上面的“次”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3"/>
          <p:cNvSpPr/>
          <p:nvPr/>
        </p:nvSpPr>
        <p:spPr>
          <a:xfrm>
            <a:off x="223524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83"/>
          <p:cNvSpPr/>
          <p:nvPr/>
        </p:nvSpPr>
        <p:spPr>
          <a:xfrm>
            <a:off x="5911920" y="4033800"/>
            <a:ext cx="1039680" cy="876240"/>
          </a:xfrm>
          <a:custGeom>
            <a:avLst/>
            <a:gdLst/>
            <a:ahLst/>
            <a:rect l="l" t="t" r="r" b="b"/>
            <a:pathLst>
              <a:path w="1311" h="1103">
                <a:moveTo>
                  <a:pt x="1190" y="21"/>
                </a:moveTo>
                <a:lnTo>
                  <a:pt x="1199" y="25"/>
                </a:lnTo>
                <a:lnTo>
                  <a:pt x="1211" y="30"/>
                </a:lnTo>
                <a:lnTo>
                  <a:pt x="1221" y="34"/>
                </a:lnTo>
                <a:lnTo>
                  <a:pt x="1230" y="38"/>
                </a:lnTo>
                <a:lnTo>
                  <a:pt x="1238" y="44"/>
                </a:lnTo>
                <a:lnTo>
                  <a:pt x="1247" y="48"/>
                </a:lnTo>
                <a:lnTo>
                  <a:pt x="1263" y="57"/>
                </a:lnTo>
                <a:lnTo>
                  <a:pt x="1276" y="69"/>
                </a:lnTo>
                <a:lnTo>
                  <a:pt x="1288" y="78"/>
                </a:lnTo>
                <a:lnTo>
                  <a:pt x="1299" y="92"/>
                </a:lnTo>
                <a:lnTo>
                  <a:pt x="1309" y="105"/>
                </a:lnTo>
                <a:lnTo>
                  <a:pt x="1309" y="111"/>
                </a:lnTo>
                <a:lnTo>
                  <a:pt x="1311" y="121"/>
                </a:lnTo>
                <a:lnTo>
                  <a:pt x="1311" y="130"/>
                </a:lnTo>
                <a:lnTo>
                  <a:pt x="1309" y="142"/>
                </a:lnTo>
                <a:lnTo>
                  <a:pt x="1309" y="155"/>
                </a:lnTo>
                <a:lnTo>
                  <a:pt x="1305" y="169"/>
                </a:lnTo>
                <a:lnTo>
                  <a:pt x="1301" y="184"/>
                </a:lnTo>
                <a:lnTo>
                  <a:pt x="1297" y="201"/>
                </a:lnTo>
                <a:lnTo>
                  <a:pt x="1292" y="220"/>
                </a:lnTo>
                <a:lnTo>
                  <a:pt x="1286" y="240"/>
                </a:lnTo>
                <a:lnTo>
                  <a:pt x="1278" y="259"/>
                </a:lnTo>
                <a:lnTo>
                  <a:pt x="1269" y="282"/>
                </a:lnTo>
                <a:lnTo>
                  <a:pt x="1259" y="305"/>
                </a:lnTo>
                <a:lnTo>
                  <a:pt x="1249" y="328"/>
                </a:lnTo>
                <a:lnTo>
                  <a:pt x="1238" y="353"/>
                </a:lnTo>
                <a:lnTo>
                  <a:pt x="1224" y="380"/>
                </a:lnTo>
                <a:lnTo>
                  <a:pt x="1211" y="409"/>
                </a:lnTo>
                <a:lnTo>
                  <a:pt x="1198" y="437"/>
                </a:lnTo>
                <a:lnTo>
                  <a:pt x="1182" y="464"/>
                </a:lnTo>
                <a:lnTo>
                  <a:pt x="1165" y="491"/>
                </a:lnTo>
                <a:lnTo>
                  <a:pt x="1148" y="516"/>
                </a:lnTo>
                <a:lnTo>
                  <a:pt x="1130" y="541"/>
                </a:lnTo>
                <a:lnTo>
                  <a:pt x="1111" y="566"/>
                </a:lnTo>
                <a:lnTo>
                  <a:pt x="1092" y="589"/>
                </a:lnTo>
                <a:lnTo>
                  <a:pt x="1073" y="612"/>
                </a:lnTo>
                <a:lnTo>
                  <a:pt x="1052" y="635"/>
                </a:lnTo>
                <a:lnTo>
                  <a:pt x="1031" y="658"/>
                </a:lnTo>
                <a:lnTo>
                  <a:pt x="1009" y="679"/>
                </a:lnTo>
                <a:lnTo>
                  <a:pt x="986" y="700"/>
                </a:lnTo>
                <a:lnTo>
                  <a:pt x="963" y="721"/>
                </a:lnTo>
                <a:lnTo>
                  <a:pt x="940" y="743"/>
                </a:lnTo>
                <a:lnTo>
                  <a:pt x="915" y="764"/>
                </a:lnTo>
                <a:lnTo>
                  <a:pt x="890" y="783"/>
                </a:lnTo>
                <a:lnTo>
                  <a:pt x="865" y="804"/>
                </a:lnTo>
                <a:lnTo>
                  <a:pt x="841" y="821"/>
                </a:lnTo>
                <a:lnTo>
                  <a:pt x="814" y="840"/>
                </a:lnTo>
                <a:lnTo>
                  <a:pt x="787" y="858"/>
                </a:lnTo>
                <a:lnTo>
                  <a:pt x="760" y="875"/>
                </a:lnTo>
                <a:lnTo>
                  <a:pt x="731" y="892"/>
                </a:lnTo>
                <a:lnTo>
                  <a:pt x="704" y="908"/>
                </a:lnTo>
                <a:lnTo>
                  <a:pt x="675" y="923"/>
                </a:lnTo>
                <a:lnTo>
                  <a:pt x="645" y="938"/>
                </a:lnTo>
                <a:lnTo>
                  <a:pt x="616" y="952"/>
                </a:lnTo>
                <a:lnTo>
                  <a:pt x="587" y="965"/>
                </a:lnTo>
                <a:lnTo>
                  <a:pt x="556" y="979"/>
                </a:lnTo>
                <a:lnTo>
                  <a:pt x="526" y="992"/>
                </a:lnTo>
                <a:lnTo>
                  <a:pt x="495" y="1004"/>
                </a:lnTo>
                <a:lnTo>
                  <a:pt x="464" y="1015"/>
                </a:lnTo>
                <a:lnTo>
                  <a:pt x="434" y="1025"/>
                </a:lnTo>
                <a:lnTo>
                  <a:pt x="403" y="1032"/>
                </a:lnTo>
                <a:lnTo>
                  <a:pt x="376" y="1040"/>
                </a:lnTo>
                <a:lnTo>
                  <a:pt x="347" y="1048"/>
                </a:lnTo>
                <a:lnTo>
                  <a:pt x="322" y="1054"/>
                </a:lnTo>
                <a:lnTo>
                  <a:pt x="297" y="1059"/>
                </a:lnTo>
                <a:lnTo>
                  <a:pt x="272" y="1065"/>
                </a:lnTo>
                <a:lnTo>
                  <a:pt x="249" y="1071"/>
                </a:lnTo>
                <a:lnTo>
                  <a:pt x="228" y="1077"/>
                </a:lnTo>
                <a:lnTo>
                  <a:pt x="207" y="1080"/>
                </a:lnTo>
                <a:lnTo>
                  <a:pt x="188" y="1084"/>
                </a:lnTo>
                <a:lnTo>
                  <a:pt x="169" y="1088"/>
                </a:lnTo>
                <a:lnTo>
                  <a:pt x="151" y="1092"/>
                </a:lnTo>
                <a:lnTo>
                  <a:pt x="136" y="1094"/>
                </a:lnTo>
                <a:lnTo>
                  <a:pt x="121" y="1098"/>
                </a:lnTo>
                <a:lnTo>
                  <a:pt x="107" y="1100"/>
                </a:lnTo>
                <a:lnTo>
                  <a:pt x="94" y="1102"/>
                </a:lnTo>
                <a:lnTo>
                  <a:pt x="82" y="1103"/>
                </a:lnTo>
                <a:lnTo>
                  <a:pt x="71" y="1103"/>
                </a:lnTo>
                <a:lnTo>
                  <a:pt x="61" y="1103"/>
                </a:lnTo>
                <a:lnTo>
                  <a:pt x="52" y="1103"/>
                </a:lnTo>
                <a:lnTo>
                  <a:pt x="42" y="1103"/>
                </a:lnTo>
                <a:lnTo>
                  <a:pt x="34" y="1103"/>
                </a:lnTo>
                <a:lnTo>
                  <a:pt x="27" y="1102"/>
                </a:lnTo>
                <a:lnTo>
                  <a:pt x="21" y="1102"/>
                </a:lnTo>
                <a:lnTo>
                  <a:pt x="15" y="1100"/>
                </a:lnTo>
                <a:lnTo>
                  <a:pt x="11" y="1098"/>
                </a:lnTo>
                <a:lnTo>
                  <a:pt x="8" y="1096"/>
                </a:lnTo>
                <a:lnTo>
                  <a:pt x="4" y="1094"/>
                </a:lnTo>
                <a:lnTo>
                  <a:pt x="2" y="1092"/>
                </a:lnTo>
                <a:lnTo>
                  <a:pt x="0" y="1090"/>
                </a:lnTo>
                <a:lnTo>
                  <a:pt x="0" y="1088"/>
                </a:lnTo>
                <a:lnTo>
                  <a:pt x="0" y="1084"/>
                </a:lnTo>
                <a:lnTo>
                  <a:pt x="0" y="1082"/>
                </a:lnTo>
                <a:lnTo>
                  <a:pt x="2" y="1078"/>
                </a:lnTo>
                <a:lnTo>
                  <a:pt x="4" y="1077"/>
                </a:lnTo>
                <a:lnTo>
                  <a:pt x="9" y="1073"/>
                </a:lnTo>
                <a:lnTo>
                  <a:pt x="15" y="1069"/>
                </a:lnTo>
                <a:lnTo>
                  <a:pt x="23" y="1065"/>
                </a:lnTo>
                <a:lnTo>
                  <a:pt x="32" y="1061"/>
                </a:lnTo>
                <a:lnTo>
                  <a:pt x="44" y="1055"/>
                </a:lnTo>
                <a:lnTo>
                  <a:pt x="56" y="1052"/>
                </a:lnTo>
                <a:lnTo>
                  <a:pt x="69" y="1046"/>
                </a:lnTo>
                <a:lnTo>
                  <a:pt x="84" y="1040"/>
                </a:lnTo>
                <a:lnTo>
                  <a:pt x="100" y="1034"/>
                </a:lnTo>
                <a:lnTo>
                  <a:pt x="117" y="1029"/>
                </a:lnTo>
                <a:lnTo>
                  <a:pt x="136" y="1023"/>
                </a:lnTo>
                <a:lnTo>
                  <a:pt x="155" y="1015"/>
                </a:lnTo>
                <a:lnTo>
                  <a:pt x="196" y="1002"/>
                </a:lnTo>
                <a:lnTo>
                  <a:pt x="238" y="988"/>
                </a:lnTo>
                <a:lnTo>
                  <a:pt x="280" y="973"/>
                </a:lnTo>
                <a:lnTo>
                  <a:pt x="324" y="958"/>
                </a:lnTo>
                <a:lnTo>
                  <a:pt x="347" y="948"/>
                </a:lnTo>
                <a:lnTo>
                  <a:pt x="370" y="940"/>
                </a:lnTo>
                <a:lnTo>
                  <a:pt x="393" y="931"/>
                </a:lnTo>
                <a:lnTo>
                  <a:pt x="416" y="919"/>
                </a:lnTo>
                <a:lnTo>
                  <a:pt x="439" y="910"/>
                </a:lnTo>
                <a:lnTo>
                  <a:pt x="462" y="898"/>
                </a:lnTo>
                <a:lnTo>
                  <a:pt x="487" y="885"/>
                </a:lnTo>
                <a:lnTo>
                  <a:pt x="512" y="871"/>
                </a:lnTo>
                <a:lnTo>
                  <a:pt x="555" y="848"/>
                </a:lnTo>
                <a:lnTo>
                  <a:pt x="599" y="823"/>
                </a:lnTo>
                <a:lnTo>
                  <a:pt x="641" y="798"/>
                </a:lnTo>
                <a:lnTo>
                  <a:pt x="681" y="771"/>
                </a:lnTo>
                <a:lnTo>
                  <a:pt x="722" y="743"/>
                </a:lnTo>
                <a:lnTo>
                  <a:pt x="741" y="727"/>
                </a:lnTo>
                <a:lnTo>
                  <a:pt x="760" y="712"/>
                </a:lnTo>
                <a:lnTo>
                  <a:pt x="777" y="696"/>
                </a:lnTo>
                <a:lnTo>
                  <a:pt x="796" y="679"/>
                </a:lnTo>
                <a:lnTo>
                  <a:pt x="814" y="662"/>
                </a:lnTo>
                <a:lnTo>
                  <a:pt x="833" y="645"/>
                </a:lnTo>
                <a:lnTo>
                  <a:pt x="850" y="627"/>
                </a:lnTo>
                <a:lnTo>
                  <a:pt x="867" y="610"/>
                </a:lnTo>
                <a:lnTo>
                  <a:pt x="883" y="593"/>
                </a:lnTo>
                <a:lnTo>
                  <a:pt x="900" y="576"/>
                </a:lnTo>
                <a:lnTo>
                  <a:pt x="915" y="558"/>
                </a:lnTo>
                <a:lnTo>
                  <a:pt x="931" y="539"/>
                </a:lnTo>
                <a:lnTo>
                  <a:pt x="944" y="520"/>
                </a:lnTo>
                <a:lnTo>
                  <a:pt x="960" y="499"/>
                </a:lnTo>
                <a:lnTo>
                  <a:pt x="973" y="480"/>
                </a:lnTo>
                <a:lnTo>
                  <a:pt x="986" y="458"/>
                </a:lnTo>
                <a:lnTo>
                  <a:pt x="1000" y="437"/>
                </a:lnTo>
                <a:lnTo>
                  <a:pt x="1011" y="414"/>
                </a:lnTo>
                <a:lnTo>
                  <a:pt x="1025" y="391"/>
                </a:lnTo>
                <a:lnTo>
                  <a:pt x="1036" y="368"/>
                </a:lnTo>
                <a:lnTo>
                  <a:pt x="1048" y="345"/>
                </a:lnTo>
                <a:lnTo>
                  <a:pt x="1059" y="320"/>
                </a:lnTo>
                <a:lnTo>
                  <a:pt x="1067" y="295"/>
                </a:lnTo>
                <a:lnTo>
                  <a:pt x="1075" y="274"/>
                </a:lnTo>
                <a:lnTo>
                  <a:pt x="1080" y="251"/>
                </a:lnTo>
                <a:lnTo>
                  <a:pt x="1086" y="232"/>
                </a:lnTo>
                <a:lnTo>
                  <a:pt x="1092" y="213"/>
                </a:lnTo>
                <a:lnTo>
                  <a:pt x="1098" y="196"/>
                </a:lnTo>
                <a:lnTo>
                  <a:pt x="1102" y="180"/>
                </a:lnTo>
                <a:lnTo>
                  <a:pt x="1104" y="165"/>
                </a:lnTo>
                <a:lnTo>
                  <a:pt x="1107" y="149"/>
                </a:lnTo>
                <a:lnTo>
                  <a:pt x="1107" y="138"/>
                </a:lnTo>
                <a:lnTo>
                  <a:pt x="1109" y="124"/>
                </a:lnTo>
                <a:lnTo>
                  <a:pt x="1109" y="115"/>
                </a:lnTo>
                <a:lnTo>
                  <a:pt x="1109" y="105"/>
                </a:lnTo>
                <a:lnTo>
                  <a:pt x="1109" y="96"/>
                </a:lnTo>
                <a:lnTo>
                  <a:pt x="1107" y="88"/>
                </a:lnTo>
                <a:lnTo>
                  <a:pt x="1105" y="80"/>
                </a:lnTo>
                <a:lnTo>
                  <a:pt x="1102" y="67"/>
                </a:lnTo>
                <a:lnTo>
                  <a:pt x="1098" y="55"/>
                </a:lnTo>
                <a:lnTo>
                  <a:pt x="1094" y="46"/>
                </a:lnTo>
                <a:lnTo>
                  <a:pt x="1092" y="36"/>
                </a:lnTo>
                <a:lnTo>
                  <a:pt x="1090" y="27"/>
                </a:lnTo>
                <a:lnTo>
                  <a:pt x="1090" y="19"/>
                </a:lnTo>
                <a:lnTo>
                  <a:pt x="1090" y="17"/>
                </a:lnTo>
                <a:lnTo>
                  <a:pt x="1090" y="13"/>
                </a:lnTo>
                <a:lnTo>
                  <a:pt x="1092" y="11"/>
                </a:lnTo>
                <a:lnTo>
                  <a:pt x="1094" y="9"/>
                </a:lnTo>
                <a:lnTo>
                  <a:pt x="1100" y="4"/>
                </a:lnTo>
                <a:lnTo>
                  <a:pt x="1105" y="2"/>
                </a:lnTo>
                <a:lnTo>
                  <a:pt x="1109" y="2"/>
                </a:lnTo>
                <a:lnTo>
                  <a:pt x="1113" y="0"/>
                </a:lnTo>
                <a:lnTo>
                  <a:pt x="1119" y="0"/>
                </a:lnTo>
                <a:lnTo>
                  <a:pt x="1125" y="2"/>
                </a:lnTo>
                <a:lnTo>
                  <a:pt x="1130" y="2"/>
                </a:lnTo>
                <a:lnTo>
                  <a:pt x="1136" y="4"/>
                </a:lnTo>
                <a:lnTo>
                  <a:pt x="1144" y="4"/>
                </a:lnTo>
                <a:lnTo>
                  <a:pt x="1151" y="7"/>
                </a:lnTo>
                <a:lnTo>
                  <a:pt x="1159" y="9"/>
                </a:lnTo>
                <a:lnTo>
                  <a:pt x="1169" y="13"/>
                </a:lnTo>
                <a:lnTo>
                  <a:pt x="1178" y="17"/>
                </a:lnTo>
                <a:lnTo>
                  <a:pt x="1190" y="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84"/>
          <p:cNvSpPr/>
          <p:nvPr/>
        </p:nvSpPr>
        <p:spPr>
          <a:xfrm>
            <a:off x="6292800" y="3881520"/>
            <a:ext cx="1071720" cy="1131840"/>
          </a:xfrm>
          <a:custGeom>
            <a:avLst/>
            <a:gdLst/>
            <a:ahLst/>
            <a:rect l="l" t="t" r="r" b="b"/>
            <a:pathLst>
              <a:path w="1351" h="1424">
                <a:moveTo>
                  <a:pt x="614" y="860"/>
                </a:moveTo>
                <a:lnTo>
                  <a:pt x="654" y="873"/>
                </a:lnTo>
                <a:lnTo>
                  <a:pt x="693" y="887"/>
                </a:lnTo>
                <a:lnTo>
                  <a:pt x="731" y="900"/>
                </a:lnTo>
                <a:lnTo>
                  <a:pt x="767" y="913"/>
                </a:lnTo>
                <a:lnTo>
                  <a:pt x="804" y="929"/>
                </a:lnTo>
                <a:lnTo>
                  <a:pt x="840" y="942"/>
                </a:lnTo>
                <a:lnTo>
                  <a:pt x="875" y="956"/>
                </a:lnTo>
                <a:lnTo>
                  <a:pt x="908" y="969"/>
                </a:lnTo>
                <a:lnTo>
                  <a:pt x="942" y="983"/>
                </a:lnTo>
                <a:lnTo>
                  <a:pt x="973" y="998"/>
                </a:lnTo>
                <a:lnTo>
                  <a:pt x="1005" y="1011"/>
                </a:lnTo>
                <a:lnTo>
                  <a:pt x="1036" y="1027"/>
                </a:lnTo>
                <a:lnTo>
                  <a:pt x="1065" y="1042"/>
                </a:lnTo>
                <a:lnTo>
                  <a:pt x="1094" y="1055"/>
                </a:lnTo>
                <a:lnTo>
                  <a:pt x="1123" y="1073"/>
                </a:lnTo>
                <a:lnTo>
                  <a:pt x="1149" y="1088"/>
                </a:lnTo>
                <a:lnTo>
                  <a:pt x="1172" y="1103"/>
                </a:lnTo>
                <a:lnTo>
                  <a:pt x="1195" y="1119"/>
                </a:lnTo>
                <a:lnTo>
                  <a:pt x="1217" y="1134"/>
                </a:lnTo>
                <a:lnTo>
                  <a:pt x="1236" y="1150"/>
                </a:lnTo>
                <a:lnTo>
                  <a:pt x="1253" y="1163"/>
                </a:lnTo>
                <a:lnTo>
                  <a:pt x="1270" y="1178"/>
                </a:lnTo>
                <a:lnTo>
                  <a:pt x="1286" y="1192"/>
                </a:lnTo>
                <a:lnTo>
                  <a:pt x="1299" y="1207"/>
                </a:lnTo>
                <a:lnTo>
                  <a:pt x="1311" y="1221"/>
                </a:lnTo>
                <a:lnTo>
                  <a:pt x="1322" y="1234"/>
                </a:lnTo>
                <a:lnTo>
                  <a:pt x="1330" y="1247"/>
                </a:lnTo>
                <a:lnTo>
                  <a:pt x="1338" y="1261"/>
                </a:lnTo>
                <a:lnTo>
                  <a:pt x="1343" y="1274"/>
                </a:lnTo>
                <a:lnTo>
                  <a:pt x="1347" y="1288"/>
                </a:lnTo>
                <a:lnTo>
                  <a:pt x="1351" y="1301"/>
                </a:lnTo>
                <a:lnTo>
                  <a:pt x="1351" y="1315"/>
                </a:lnTo>
                <a:lnTo>
                  <a:pt x="1351" y="1328"/>
                </a:lnTo>
                <a:lnTo>
                  <a:pt x="1351" y="1340"/>
                </a:lnTo>
                <a:lnTo>
                  <a:pt x="1349" y="1351"/>
                </a:lnTo>
                <a:lnTo>
                  <a:pt x="1349" y="1363"/>
                </a:lnTo>
                <a:lnTo>
                  <a:pt x="1347" y="1372"/>
                </a:lnTo>
                <a:lnTo>
                  <a:pt x="1345" y="1382"/>
                </a:lnTo>
                <a:lnTo>
                  <a:pt x="1345" y="1389"/>
                </a:lnTo>
                <a:lnTo>
                  <a:pt x="1341" y="1395"/>
                </a:lnTo>
                <a:lnTo>
                  <a:pt x="1339" y="1403"/>
                </a:lnTo>
                <a:lnTo>
                  <a:pt x="1338" y="1409"/>
                </a:lnTo>
                <a:lnTo>
                  <a:pt x="1334" y="1413"/>
                </a:lnTo>
                <a:lnTo>
                  <a:pt x="1332" y="1416"/>
                </a:lnTo>
                <a:lnTo>
                  <a:pt x="1328" y="1420"/>
                </a:lnTo>
                <a:lnTo>
                  <a:pt x="1324" y="1422"/>
                </a:lnTo>
                <a:lnTo>
                  <a:pt x="1320" y="1422"/>
                </a:lnTo>
                <a:lnTo>
                  <a:pt x="1316" y="1424"/>
                </a:lnTo>
                <a:lnTo>
                  <a:pt x="1311" y="1422"/>
                </a:lnTo>
                <a:lnTo>
                  <a:pt x="1305" y="1422"/>
                </a:lnTo>
                <a:lnTo>
                  <a:pt x="1299" y="1420"/>
                </a:lnTo>
                <a:lnTo>
                  <a:pt x="1293" y="1418"/>
                </a:lnTo>
                <a:lnTo>
                  <a:pt x="1286" y="1416"/>
                </a:lnTo>
                <a:lnTo>
                  <a:pt x="1280" y="1414"/>
                </a:lnTo>
                <a:lnTo>
                  <a:pt x="1263" y="1407"/>
                </a:lnTo>
                <a:lnTo>
                  <a:pt x="1245" y="1399"/>
                </a:lnTo>
                <a:lnTo>
                  <a:pt x="1226" y="1388"/>
                </a:lnTo>
                <a:lnTo>
                  <a:pt x="1207" y="1376"/>
                </a:lnTo>
                <a:lnTo>
                  <a:pt x="1184" y="1363"/>
                </a:lnTo>
                <a:lnTo>
                  <a:pt x="1172" y="1353"/>
                </a:lnTo>
                <a:lnTo>
                  <a:pt x="1159" y="1343"/>
                </a:lnTo>
                <a:lnTo>
                  <a:pt x="1146" y="1334"/>
                </a:lnTo>
                <a:lnTo>
                  <a:pt x="1128" y="1322"/>
                </a:lnTo>
                <a:lnTo>
                  <a:pt x="1111" y="1311"/>
                </a:lnTo>
                <a:lnTo>
                  <a:pt x="1094" y="1299"/>
                </a:lnTo>
                <a:lnTo>
                  <a:pt x="1073" y="1286"/>
                </a:lnTo>
                <a:lnTo>
                  <a:pt x="1052" y="1272"/>
                </a:lnTo>
                <a:lnTo>
                  <a:pt x="1030" y="1257"/>
                </a:lnTo>
                <a:lnTo>
                  <a:pt x="1005" y="1244"/>
                </a:lnTo>
                <a:lnTo>
                  <a:pt x="981" y="1226"/>
                </a:lnTo>
                <a:lnTo>
                  <a:pt x="956" y="1211"/>
                </a:lnTo>
                <a:lnTo>
                  <a:pt x="929" y="1194"/>
                </a:lnTo>
                <a:lnTo>
                  <a:pt x="900" y="1175"/>
                </a:lnTo>
                <a:lnTo>
                  <a:pt x="871" y="1155"/>
                </a:lnTo>
                <a:lnTo>
                  <a:pt x="840" y="1136"/>
                </a:lnTo>
                <a:lnTo>
                  <a:pt x="810" y="1113"/>
                </a:lnTo>
                <a:lnTo>
                  <a:pt x="777" y="1092"/>
                </a:lnTo>
                <a:lnTo>
                  <a:pt x="746" y="1071"/>
                </a:lnTo>
                <a:lnTo>
                  <a:pt x="714" y="1052"/>
                </a:lnTo>
                <a:lnTo>
                  <a:pt x="681" y="1032"/>
                </a:lnTo>
                <a:lnTo>
                  <a:pt x="648" y="1015"/>
                </a:lnTo>
                <a:lnTo>
                  <a:pt x="616" y="998"/>
                </a:lnTo>
                <a:lnTo>
                  <a:pt x="581" y="981"/>
                </a:lnTo>
                <a:lnTo>
                  <a:pt x="549" y="965"/>
                </a:lnTo>
                <a:lnTo>
                  <a:pt x="514" y="950"/>
                </a:lnTo>
                <a:lnTo>
                  <a:pt x="480" y="935"/>
                </a:lnTo>
                <a:lnTo>
                  <a:pt x="445" y="921"/>
                </a:lnTo>
                <a:lnTo>
                  <a:pt x="410" y="908"/>
                </a:lnTo>
                <a:lnTo>
                  <a:pt x="376" y="896"/>
                </a:lnTo>
                <a:lnTo>
                  <a:pt x="341" y="883"/>
                </a:lnTo>
                <a:lnTo>
                  <a:pt x="305" y="871"/>
                </a:lnTo>
                <a:lnTo>
                  <a:pt x="288" y="865"/>
                </a:lnTo>
                <a:lnTo>
                  <a:pt x="270" y="860"/>
                </a:lnTo>
                <a:lnTo>
                  <a:pt x="253" y="856"/>
                </a:lnTo>
                <a:lnTo>
                  <a:pt x="238" y="850"/>
                </a:lnTo>
                <a:lnTo>
                  <a:pt x="222" y="844"/>
                </a:lnTo>
                <a:lnTo>
                  <a:pt x="207" y="841"/>
                </a:lnTo>
                <a:lnTo>
                  <a:pt x="194" y="835"/>
                </a:lnTo>
                <a:lnTo>
                  <a:pt x="180" y="831"/>
                </a:lnTo>
                <a:lnTo>
                  <a:pt x="167" y="827"/>
                </a:lnTo>
                <a:lnTo>
                  <a:pt x="153" y="821"/>
                </a:lnTo>
                <a:lnTo>
                  <a:pt x="142" y="817"/>
                </a:lnTo>
                <a:lnTo>
                  <a:pt x="130" y="814"/>
                </a:lnTo>
                <a:lnTo>
                  <a:pt x="119" y="810"/>
                </a:lnTo>
                <a:lnTo>
                  <a:pt x="109" y="806"/>
                </a:lnTo>
                <a:lnTo>
                  <a:pt x="100" y="802"/>
                </a:lnTo>
                <a:lnTo>
                  <a:pt x="90" y="800"/>
                </a:lnTo>
                <a:lnTo>
                  <a:pt x="80" y="796"/>
                </a:lnTo>
                <a:lnTo>
                  <a:pt x="73" y="793"/>
                </a:lnTo>
                <a:lnTo>
                  <a:pt x="65" y="791"/>
                </a:lnTo>
                <a:lnTo>
                  <a:pt x="57" y="787"/>
                </a:lnTo>
                <a:lnTo>
                  <a:pt x="50" y="785"/>
                </a:lnTo>
                <a:lnTo>
                  <a:pt x="44" y="781"/>
                </a:lnTo>
                <a:lnTo>
                  <a:pt x="38" y="779"/>
                </a:lnTo>
                <a:lnTo>
                  <a:pt x="32" y="777"/>
                </a:lnTo>
                <a:lnTo>
                  <a:pt x="28" y="775"/>
                </a:lnTo>
                <a:lnTo>
                  <a:pt x="23" y="773"/>
                </a:lnTo>
                <a:lnTo>
                  <a:pt x="19" y="771"/>
                </a:lnTo>
                <a:lnTo>
                  <a:pt x="17" y="769"/>
                </a:lnTo>
                <a:lnTo>
                  <a:pt x="13" y="768"/>
                </a:lnTo>
                <a:lnTo>
                  <a:pt x="11" y="766"/>
                </a:lnTo>
                <a:lnTo>
                  <a:pt x="9" y="766"/>
                </a:lnTo>
                <a:lnTo>
                  <a:pt x="7" y="764"/>
                </a:lnTo>
                <a:lnTo>
                  <a:pt x="4" y="758"/>
                </a:lnTo>
                <a:lnTo>
                  <a:pt x="2" y="752"/>
                </a:lnTo>
                <a:lnTo>
                  <a:pt x="0" y="745"/>
                </a:lnTo>
                <a:lnTo>
                  <a:pt x="0" y="737"/>
                </a:lnTo>
                <a:lnTo>
                  <a:pt x="0" y="727"/>
                </a:lnTo>
                <a:lnTo>
                  <a:pt x="2" y="716"/>
                </a:lnTo>
                <a:lnTo>
                  <a:pt x="4" y="704"/>
                </a:lnTo>
                <a:lnTo>
                  <a:pt x="7" y="693"/>
                </a:lnTo>
                <a:lnTo>
                  <a:pt x="9" y="685"/>
                </a:lnTo>
                <a:lnTo>
                  <a:pt x="13" y="675"/>
                </a:lnTo>
                <a:lnTo>
                  <a:pt x="15" y="664"/>
                </a:lnTo>
                <a:lnTo>
                  <a:pt x="19" y="650"/>
                </a:lnTo>
                <a:lnTo>
                  <a:pt x="23" y="637"/>
                </a:lnTo>
                <a:lnTo>
                  <a:pt x="27" y="622"/>
                </a:lnTo>
                <a:lnTo>
                  <a:pt x="32" y="602"/>
                </a:lnTo>
                <a:lnTo>
                  <a:pt x="36" y="583"/>
                </a:lnTo>
                <a:lnTo>
                  <a:pt x="42" y="562"/>
                </a:lnTo>
                <a:lnTo>
                  <a:pt x="48" y="541"/>
                </a:lnTo>
                <a:lnTo>
                  <a:pt x="53" y="516"/>
                </a:lnTo>
                <a:lnTo>
                  <a:pt x="59" y="489"/>
                </a:lnTo>
                <a:lnTo>
                  <a:pt x="67" y="462"/>
                </a:lnTo>
                <a:lnTo>
                  <a:pt x="75" y="432"/>
                </a:lnTo>
                <a:lnTo>
                  <a:pt x="82" y="401"/>
                </a:lnTo>
                <a:lnTo>
                  <a:pt x="92" y="368"/>
                </a:lnTo>
                <a:lnTo>
                  <a:pt x="100" y="338"/>
                </a:lnTo>
                <a:lnTo>
                  <a:pt x="107" y="309"/>
                </a:lnTo>
                <a:lnTo>
                  <a:pt x="113" y="282"/>
                </a:lnTo>
                <a:lnTo>
                  <a:pt x="119" y="255"/>
                </a:lnTo>
                <a:lnTo>
                  <a:pt x="124" y="232"/>
                </a:lnTo>
                <a:lnTo>
                  <a:pt x="130" y="209"/>
                </a:lnTo>
                <a:lnTo>
                  <a:pt x="134" y="190"/>
                </a:lnTo>
                <a:lnTo>
                  <a:pt x="136" y="171"/>
                </a:lnTo>
                <a:lnTo>
                  <a:pt x="140" y="153"/>
                </a:lnTo>
                <a:lnTo>
                  <a:pt x="140" y="138"/>
                </a:lnTo>
                <a:lnTo>
                  <a:pt x="142" y="125"/>
                </a:lnTo>
                <a:lnTo>
                  <a:pt x="142" y="111"/>
                </a:lnTo>
                <a:lnTo>
                  <a:pt x="142" y="101"/>
                </a:lnTo>
                <a:lnTo>
                  <a:pt x="142" y="92"/>
                </a:lnTo>
                <a:lnTo>
                  <a:pt x="140" y="86"/>
                </a:lnTo>
                <a:lnTo>
                  <a:pt x="138" y="80"/>
                </a:lnTo>
                <a:lnTo>
                  <a:pt x="134" y="71"/>
                </a:lnTo>
                <a:lnTo>
                  <a:pt x="130" y="63"/>
                </a:lnTo>
                <a:lnTo>
                  <a:pt x="126" y="54"/>
                </a:lnTo>
                <a:lnTo>
                  <a:pt x="124" y="44"/>
                </a:lnTo>
                <a:lnTo>
                  <a:pt x="123" y="36"/>
                </a:lnTo>
                <a:lnTo>
                  <a:pt x="123" y="27"/>
                </a:lnTo>
                <a:lnTo>
                  <a:pt x="123" y="23"/>
                </a:lnTo>
                <a:lnTo>
                  <a:pt x="123" y="17"/>
                </a:lnTo>
                <a:lnTo>
                  <a:pt x="124" y="13"/>
                </a:lnTo>
                <a:lnTo>
                  <a:pt x="126" y="9"/>
                </a:lnTo>
                <a:lnTo>
                  <a:pt x="132" y="4"/>
                </a:lnTo>
                <a:lnTo>
                  <a:pt x="138" y="2"/>
                </a:lnTo>
                <a:lnTo>
                  <a:pt x="142" y="0"/>
                </a:lnTo>
                <a:lnTo>
                  <a:pt x="146" y="0"/>
                </a:lnTo>
                <a:lnTo>
                  <a:pt x="151" y="0"/>
                </a:lnTo>
                <a:lnTo>
                  <a:pt x="157" y="0"/>
                </a:lnTo>
                <a:lnTo>
                  <a:pt x="163" y="0"/>
                </a:lnTo>
                <a:lnTo>
                  <a:pt x="169" y="0"/>
                </a:lnTo>
                <a:lnTo>
                  <a:pt x="176" y="0"/>
                </a:lnTo>
                <a:lnTo>
                  <a:pt x="184" y="2"/>
                </a:lnTo>
                <a:lnTo>
                  <a:pt x="192" y="4"/>
                </a:lnTo>
                <a:lnTo>
                  <a:pt x="201" y="4"/>
                </a:lnTo>
                <a:lnTo>
                  <a:pt x="211" y="6"/>
                </a:lnTo>
                <a:lnTo>
                  <a:pt x="222" y="9"/>
                </a:lnTo>
                <a:lnTo>
                  <a:pt x="232" y="11"/>
                </a:lnTo>
                <a:lnTo>
                  <a:pt x="243" y="13"/>
                </a:lnTo>
                <a:lnTo>
                  <a:pt x="253" y="17"/>
                </a:lnTo>
                <a:lnTo>
                  <a:pt x="261" y="19"/>
                </a:lnTo>
                <a:lnTo>
                  <a:pt x="270" y="23"/>
                </a:lnTo>
                <a:lnTo>
                  <a:pt x="278" y="27"/>
                </a:lnTo>
                <a:lnTo>
                  <a:pt x="286" y="30"/>
                </a:lnTo>
                <a:lnTo>
                  <a:pt x="293" y="34"/>
                </a:lnTo>
                <a:lnTo>
                  <a:pt x="299" y="38"/>
                </a:lnTo>
                <a:lnTo>
                  <a:pt x="305" y="42"/>
                </a:lnTo>
                <a:lnTo>
                  <a:pt x="311" y="46"/>
                </a:lnTo>
                <a:lnTo>
                  <a:pt x="314" y="52"/>
                </a:lnTo>
                <a:lnTo>
                  <a:pt x="320" y="55"/>
                </a:lnTo>
                <a:lnTo>
                  <a:pt x="322" y="59"/>
                </a:lnTo>
                <a:lnTo>
                  <a:pt x="326" y="63"/>
                </a:lnTo>
                <a:lnTo>
                  <a:pt x="328" y="69"/>
                </a:lnTo>
                <a:lnTo>
                  <a:pt x="330" y="71"/>
                </a:lnTo>
                <a:lnTo>
                  <a:pt x="330" y="75"/>
                </a:lnTo>
                <a:lnTo>
                  <a:pt x="330" y="77"/>
                </a:lnTo>
                <a:lnTo>
                  <a:pt x="330" y="80"/>
                </a:lnTo>
                <a:lnTo>
                  <a:pt x="330" y="86"/>
                </a:lnTo>
                <a:lnTo>
                  <a:pt x="330" y="90"/>
                </a:lnTo>
                <a:lnTo>
                  <a:pt x="328" y="101"/>
                </a:lnTo>
                <a:lnTo>
                  <a:pt x="326" y="115"/>
                </a:lnTo>
                <a:lnTo>
                  <a:pt x="322" y="130"/>
                </a:lnTo>
                <a:lnTo>
                  <a:pt x="318" y="148"/>
                </a:lnTo>
                <a:lnTo>
                  <a:pt x="313" y="165"/>
                </a:lnTo>
                <a:lnTo>
                  <a:pt x="305" y="186"/>
                </a:lnTo>
                <a:lnTo>
                  <a:pt x="297" y="209"/>
                </a:lnTo>
                <a:lnTo>
                  <a:pt x="290" y="232"/>
                </a:lnTo>
                <a:lnTo>
                  <a:pt x="280" y="259"/>
                </a:lnTo>
                <a:lnTo>
                  <a:pt x="268" y="286"/>
                </a:lnTo>
                <a:lnTo>
                  <a:pt x="259" y="316"/>
                </a:lnTo>
                <a:lnTo>
                  <a:pt x="245" y="347"/>
                </a:lnTo>
                <a:lnTo>
                  <a:pt x="234" y="380"/>
                </a:lnTo>
                <a:lnTo>
                  <a:pt x="219" y="412"/>
                </a:lnTo>
                <a:lnTo>
                  <a:pt x="205" y="445"/>
                </a:lnTo>
                <a:lnTo>
                  <a:pt x="194" y="474"/>
                </a:lnTo>
                <a:lnTo>
                  <a:pt x="182" y="501"/>
                </a:lnTo>
                <a:lnTo>
                  <a:pt x="172" y="528"/>
                </a:lnTo>
                <a:lnTo>
                  <a:pt x="165" y="551"/>
                </a:lnTo>
                <a:lnTo>
                  <a:pt x="161" y="562"/>
                </a:lnTo>
                <a:lnTo>
                  <a:pt x="157" y="574"/>
                </a:lnTo>
                <a:lnTo>
                  <a:pt x="153" y="583"/>
                </a:lnTo>
                <a:lnTo>
                  <a:pt x="151" y="593"/>
                </a:lnTo>
                <a:lnTo>
                  <a:pt x="147" y="602"/>
                </a:lnTo>
                <a:lnTo>
                  <a:pt x="146" y="612"/>
                </a:lnTo>
                <a:lnTo>
                  <a:pt x="144" y="620"/>
                </a:lnTo>
                <a:lnTo>
                  <a:pt x="142" y="627"/>
                </a:lnTo>
                <a:lnTo>
                  <a:pt x="140" y="635"/>
                </a:lnTo>
                <a:lnTo>
                  <a:pt x="138" y="641"/>
                </a:lnTo>
                <a:lnTo>
                  <a:pt x="138" y="649"/>
                </a:lnTo>
                <a:lnTo>
                  <a:pt x="136" y="652"/>
                </a:lnTo>
                <a:lnTo>
                  <a:pt x="136" y="658"/>
                </a:lnTo>
                <a:lnTo>
                  <a:pt x="136" y="664"/>
                </a:lnTo>
                <a:lnTo>
                  <a:pt x="136" y="668"/>
                </a:lnTo>
                <a:lnTo>
                  <a:pt x="136" y="672"/>
                </a:lnTo>
                <a:lnTo>
                  <a:pt x="136" y="674"/>
                </a:lnTo>
                <a:lnTo>
                  <a:pt x="136" y="677"/>
                </a:lnTo>
                <a:lnTo>
                  <a:pt x="138" y="679"/>
                </a:lnTo>
                <a:lnTo>
                  <a:pt x="142" y="681"/>
                </a:lnTo>
                <a:lnTo>
                  <a:pt x="144" y="685"/>
                </a:lnTo>
                <a:lnTo>
                  <a:pt x="147" y="687"/>
                </a:lnTo>
                <a:lnTo>
                  <a:pt x="151" y="689"/>
                </a:lnTo>
                <a:lnTo>
                  <a:pt x="157" y="691"/>
                </a:lnTo>
                <a:lnTo>
                  <a:pt x="161" y="693"/>
                </a:lnTo>
                <a:lnTo>
                  <a:pt x="172" y="698"/>
                </a:lnTo>
                <a:lnTo>
                  <a:pt x="186" y="702"/>
                </a:lnTo>
                <a:lnTo>
                  <a:pt x="199" y="706"/>
                </a:lnTo>
                <a:lnTo>
                  <a:pt x="217" y="712"/>
                </a:lnTo>
                <a:lnTo>
                  <a:pt x="234" y="716"/>
                </a:lnTo>
                <a:lnTo>
                  <a:pt x="238" y="718"/>
                </a:lnTo>
                <a:lnTo>
                  <a:pt x="243" y="718"/>
                </a:lnTo>
                <a:lnTo>
                  <a:pt x="249" y="720"/>
                </a:lnTo>
                <a:lnTo>
                  <a:pt x="255" y="722"/>
                </a:lnTo>
                <a:lnTo>
                  <a:pt x="263" y="723"/>
                </a:lnTo>
                <a:lnTo>
                  <a:pt x="268" y="727"/>
                </a:lnTo>
                <a:lnTo>
                  <a:pt x="284" y="731"/>
                </a:lnTo>
                <a:lnTo>
                  <a:pt x="303" y="737"/>
                </a:lnTo>
                <a:lnTo>
                  <a:pt x="322" y="745"/>
                </a:lnTo>
                <a:lnTo>
                  <a:pt x="343" y="752"/>
                </a:lnTo>
                <a:lnTo>
                  <a:pt x="366" y="760"/>
                </a:lnTo>
                <a:lnTo>
                  <a:pt x="391" y="769"/>
                </a:lnTo>
                <a:lnTo>
                  <a:pt x="418" y="779"/>
                </a:lnTo>
                <a:lnTo>
                  <a:pt x="445" y="791"/>
                </a:lnTo>
                <a:lnTo>
                  <a:pt x="476" y="802"/>
                </a:lnTo>
                <a:lnTo>
                  <a:pt x="508" y="816"/>
                </a:lnTo>
                <a:lnTo>
                  <a:pt x="541" y="829"/>
                </a:lnTo>
                <a:lnTo>
                  <a:pt x="577" y="844"/>
                </a:lnTo>
                <a:lnTo>
                  <a:pt x="614" y="8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85"/>
          <p:cNvSpPr/>
          <p:nvPr/>
        </p:nvSpPr>
        <p:spPr>
          <a:xfrm>
            <a:off x="5497560" y="4013280"/>
            <a:ext cx="2279520" cy="331560"/>
          </a:xfrm>
          <a:custGeom>
            <a:avLst/>
            <a:gdLst/>
            <a:ahLst/>
            <a:rect l="l" t="t" r="r" b="b"/>
            <a:pathLst>
              <a:path w="2871" h="418">
                <a:moveTo>
                  <a:pt x="2865" y="215"/>
                </a:moveTo>
                <a:lnTo>
                  <a:pt x="2864" y="217"/>
                </a:lnTo>
                <a:lnTo>
                  <a:pt x="2862" y="217"/>
                </a:lnTo>
                <a:lnTo>
                  <a:pt x="2860" y="219"/>
                </a:lnTo>
                <a:lnTo>
                  <a:pt x="2856" y="219"/>
                </a:lnTo>
                <a:lnTo>
                  <a:pt x="2852" y="221"/>
                </a:lnTo>
                <a:lnTo>
                  <a:pt x="2848" y="221"/>
                </a:lnTo>
                <a:lnTo>
                  <a:pt x="2844" y="221"/>
                </a:lnTo>
                <a:lnTo>
                  <a:pt x="2840" y="223"/>
                </a:lnTo>
                <a:lnTo>
                  <a:pt x="2835" y="223"/>
                </a:lnTo>
                <a:lnTo>
                  <a:pt x="2829" y="223"/>
                </a:lnTo>
                <a:lnTo>
                  <a:pt x="2821" y="224"/>
                </a:lnTo>
                <a:lnTo>
                  <a:pt x="2816" y="224"/>
                </a:lnTo>
                <a:lnTo>
                  <a:pt x="2808" y="224"/>
                </a:lnTo>
                <a:lnTo>
                  <a:pt x="2800" y="224"/>
                </a:lnTo>
                <a:lnTo>
                  <a:pt x="2793" y="224"/>
                </a:lnTo>
                <a:lnTo>
                  <a:pt x="2783" y="224"/>
                </a:lnTo>
                <a:lnTo>
                  <a:pt x="2773" y="224"/>
                </a:lnTo>
                <a:lnTo>
                  <a:pt x="2764" y="224"/>
                </a:lnTo>
                <a:lnTo>
                  <a:pt x="2752" y="224"/>
                </a:lnTo>
                <a:lnTo>
                  <a:pt x="2743" y="224"/>
                </a:lnTo>
                <a:lnTo>
                  <a:pt x="2731" y="224"/>
                </a:lnTo>
                <a:lnTo>
                  <a:pt x="2718" y="223"/>
                </a:lnTo>
                <a:lnTo>
                  <a:pt x="2706" y="223"/>
                </a:lnTo>
                <a:lnTo>
                  <a:pt x="2693" y="223"/>
                </a:lnTo>
                <a:lnTo>
                  <a:pt x="2679" y="221"/>
                </a:lnTo>
                <a:lnTo>
                  <a:pt x="2664" y="221"/>
                </a:lnTo>
                <a:lnTo>
                  <a:pt x="2649" y="221"/>
                </a:lnTo>
                <a:lnTo>
                  <a:pt x="2633" y="219"/>
                </a:lnTo>
                <a:lnTo>
                  <a:pt x="2618" y="219"/>
                </a:lnTo>
                <a:lnTo>
                  <a:pt x="2602" y="217"/>
                </a:lnTo>
                <a:lnTo>
                  <a:pt x="2585" y="217"/>
                </a:lnTo>
                <a:lnTo>
                  <a:pt x="2568" y="215"/>
                </a:lnTo>
                <a:lnTo>
                  <a:pt x="2531" y="213"/>
                </a:lnTo>
                <a:lnTo>
                  <a:pt x="2499" y="211"/>
                </a:lnTo>
                <a:lnTo>
                  <a:pt x="2466" y="209"/>
                </a:lnTo>
                <a:lnTo>
                  <a:pt x="2436" y="209"/>
                </a:lnTo>
                <a:lnTo>
                  <a:pt x="2407" y="207"/>
                </a:lnTo>
                <a:lnTo>
                  <a:pt x="2378" y="205"/>
                </a:lnTo>
                <a:lnTo>
                  <a:pt x="2353" y="205"/>
                </a:lnTo>
                <a:lnTo>
                  <a:pt x="2328" y="205"/>
                </a:lnTo>
                <a:lnTo>
                  <a:pt x="2305" y="203"/>
                </a:lnTo>
                <a:lnTo>
                  <a:pt x="2284" y="203"/>
                </a:lnTo>
                <a:lnTo>
                  <a:pt x="2263" y="203"/>
                </a:lnTo>
                <a:lnTo>
                  <a:pt x="2244" y="203"/>
                </a:lnTo>
                <a:lnTo>
                  <a:pt x="2228" y="203"/>
                </a:lnTo>
                <a:lnTo>
                  <a:pt x="2213" y="203"/>
                </a:lnTo>
                <a:lnTo>
                  <a:pt x="2199" y="203"/>
                </a:lnTo>
                <a:lnTo>
                  <a:pt x="2186" y="203"/>
                </a:lnTo>
                <a:lnTo>
                  <a:pt x="2173" y="203"/>
                </a:lnTo>
                <a:lnTo>
                  <a:pt x="2157" y="203"/>
                </a:lnTo>
                <a:lnTo>
                  <a:pt x="2140" y="205"/>
                </a:lnTo>
                <a:lnTo>
                  <a:pt x="2119" y="205"/>
                </a:lnTo>
                <a:lnTo>
                  <a:pt x="2100" y="207"/>
                </a:lnTo>
                <a:lnTo>
                  <a:pt x="2077" y="207"/>
                </a:lnTo>
                <a:lnTo>
                  <a:pt x="2052" y="209"/>
                </a:lnTo>
                <a:lnTo>
                  <a:pt x="2027" y="211"/>
                </a:lnTo>
                <a:lnTo>
                  <a:pt x="1998" y="213"/>
                </a:lnTo>
                <a:lnTo>
                  <a:pt x="1969" y="215"/>
                </a:lnTo>
                <a:lnTo>
                  <a:pt x="1938" y="217"/>
                </a:lnTo>
                <a:lnTo>
                  <a:pt x="1906" y="219"/>
                </a:lnTo>
                <a:lnTo>
                  <a:pt x="1871" y="221"/>
                </a:lnTo>
                <a:lnTo>
                  <a:pt x="1835" y="223"/>
                </a:lnTo>
                <a:lnTo>
                  <a:pt x="1798" y="224"/>
                </a:lnTo>
                <a:lnTo>
                  <a:pt x="1758" y="228"/>
                </a:lnTo>
                <a:lnTo>
                  <a:pt x="1716" y="230"/>
                </a:lnTo>
                <a:lnTo>
                  <a:pt x="1672" y="232"/>
                </a:lnTo>
                <a:lnTo>
                  <a:pt x="1626" y="236"/>
                </a:lnTo>
                <a:lnTo>
                  <a:pt x="1578" y="240"/>
                </a:lnTo>
                <a:lnTo>
                  <a:pt x="1530" y="246"/>
                </a:lnTo>
                <a:lnTo>
                  <a:pt x="1480" y="251"/>
                </a:lnTo>
                <a:lnTo>
                  <a:pt x="1428" y="257"/>
                </a:lnTo>
                <a:lnTo>
                  <a:pt x="1374" y="263"/>
                </a:lnTo>
                <a:lnTo>
                  <a:pt x="1318" y="270"/>
                </a:lnTo>
                <a:lnTo>
                  <a:pt x="1263" y="278"/>
                </a:lnTo>
                <a:lnTo>
                  <a:pt x="1205" y="286"/>
                </a:lnTo>
                <a:lnTo>
                  <a:pt x="1146" y="294"/>
                </a:lnTo>
                <a:lnTo>
                  <a:pt x="1084" y="303"/>
                </a:lnTo>
                <a:lnTo>
                  <a:pt x="1021" y="313"/>
                </a:lnTo>
                <a:lnTo>
                  <a:pt x="958" y="324"/>
                </a:lnTo>
                <a:lnTo>
                  <a:pt x="890" y="336"/>
                </a:lnTo>
                <a:lnTo>
                  <a:pt x="858" y="342"/>
                </a:lnTo>
                <a:lnTo>
                  <a:pt x="823" y="345"/>
                </a:lnTo>
                <a:lnTo>
                  <a:pt x="791" y="351"/>
                </a:lnTo>
                <a:lnTo>
                  <a:pt x="760" y="357"/>
                </a:lnTo>
                <a:lnTo>
                  <a:pt x="729" y="361"/>
                </a:lnTo>
                <a:lnTo>
                  <a:pt x="700" y="366"/>
                </a:lnTo>
                <a:lnTo>
                  <a:pt x="672" y="370"/>
                </a:lnTo>
                <a:lnTo>
                  <a:pt x="643" y="374"/>
                </a:lnTo>
                <a:lnTo>
                  <a:pt x="616" y="378"/>
                </a:lnTo>
                <a:lnTo>
                  <a:pt x="591" y="382"/>
                </a:lnTo>
                <a:lnTo>
                  <a:pt x="566" y="386"/>
                </a:lnTo>
                <a:lnTo>
                  <a:pt x="541" y="388"/>
                </a:lnTo>
                <a:lnTo>
                  <a:pt x="518" y="391"/>
                </a:lnTo>
                <a:lnTo>
                  <a:pt x="495" y="395"/>
                </a:lnTo>
                <a:lnTo>
                  <a:pt x="474" y="397"/>
                </a:lnTo>
                <a:lnTo>
                  <a:pt x="455" y="399"/>
                </a:lnTo>
                <a:lnTo>
                  <a:pt x="434" y="403"/>
                </a:lnTo>
                <a:lnTo>
                  <a:pt x="416" y="405"/>
                </a:lnTo>
                <a:lnTo>
                  <a:pt x="397" y="407"/>
                </a:lnTo>
                <a:lnTo>
                  <a:pt x="382" y="409"/>
                </a:lnTo>
                <a:lnTo>
                  <a:pt x="364" y="411"/>
                </a:lnTo>
                <a:lnTo>
                  <a:pt x="349" y="413"/>
                </a:lnTo>
                <a:lnTo>
                  <a:pt x="336" y="413"/>
                </a:lnTo>
                <a:lnTo>
                  <a:pt x="322" y="414"/>
                </a:lnTo>
                <a:lnTo>
                  <a:pt x="311" y="414"/>
                </a:lnTo>
                <a:lnTo>
                  <a:pt x="299" y="416"/>
                </a:lnTo>
                <a:lnTo>
                  <a:pt x="288" y="416"/>
                </a:lnTo>
                <a:lnTo>
                  <a:pt x="278" y="418"/>
                </a:lnTo>
                <a:lnTo>
                  <a:pt x="270" y="418"/>
                </a:lnTo>
                <a:lnTo>
                  <a:pt x="263" y="418"/>
                </a:lnTo>
                <a:lnTo>
                  <a:pt x="255" y="418"/>
                </a:lnTo>
                <a:lnTo>
                  <a:pt x="249" y="418"/>
                </a:lnTo>
                <a:lnTo>
                  <a:pt x="226" y="418"/>
                </a:lnTo>
                <a:lnTo>
                  <a:pt x="205" y="416"/>
                </a:lnTo>
                <a:lnTo>
                  <a:pt x="182" y="413"/>
                </a:lnTo>
                <a:lnTo>
                  <a:pt x="161" y="409"/>
                </a:lnTo>
                <a:lnTo>
                  <a:pt x="140" y="403"/>
                </a:lnTo>
                <a:lnTo>
                  <a:pt x="130" y="399"/>
                </a:lnTo>
                <a:lnTo>
                  <a:pt x="121" y="393"/>
                </a:lnTo>
                <a:lnTo>
                  <a:pt x="109" y="390"/>
                </a:lnTo>
                <a:lnTo>
                  <a:pt x="101" y="384"/>
                </a:lnTo>
                <a:lnTo>
                  <a:pt x="92" y="378"/>
                </a:lnTo>
                <a:lnTo>
                  <a:pt x="82" y="372"/>
                </a:lnTo>
                <a:lnTo>
                  <a:pt x="71" y="365"/>
                </a:lnTo>
                <a:lnTo>
                  <a:pt x="61" y="359"/>
                </a:lnTo>
                <a:lnTo>
                  <a:pt x="54" y="353"/>
                </a:lnTo>
                <a:lnTo>
                  <a:pt x="44" y="347"/>
                </a:lnTo>
                <a:lnTo>
                  <a:pt x="36" y="342"/>
                </a:lnTo>
                <a:lnTo>
                  <a:pt x="30" y="336"/>
                </a:lnTo>
                <a:lnTo>
                  <a:pt x="25" y="330"/>
                </a:lnTo>
                <a:lnTo>
                  <a:pt x="19" y="326"/>
                </a:lnTo>
                <a:lnTo>
                  <a:pt x="13" y="322"/>
                </a:lnTo>
                <a:lnTo>
                  <a:pt x="9" y="318"/>
                </a:lnTo>
                <a:lnTo>
                  <a:pt x="6" y="315"/>
                </a:lnTo>
                <a:lnTo>
                  <a:pt x="4" y="311"/>
                </a:lnTo>
                <a:lnTo>
                  <a:pt x="2" y="307"/>
                </a:lnTo>
                <a:lnTo>
                  <a:pt x="0" y="305"/>
                </a:lnTo>
                <a:lnTo>
                  <a:pt x="0" y="301"/>
                </a:lnTo>
                <a:lnTo>
                  <a:pt x="0" y="299"/>
                </a:lnTo>
                <a:lnTo>
                  <a:pt x="0" y="295"/>
                </a:lnTo>
                <a:lnTo>
                  <a:pt x="2" y="292"/>
                </a:lnTo>
                <a:lnTo>
                  <a:pt x="4" y="290"/>
                </a:lnTo>
                <a:lnTo>
                  <a:pt x="9" y="290"/>
                </a:lnTo>
                <a:lnTo>
                  <a:pt x="15" y="288"/>
                </a:lnTo>
                <a:lnTo>
                  <a:pt x="19" y="288"/>
                </a:lnTo>
                <a:lnTo>
                  <a:pt x="25" y="288"/>
                </a:lnTo>
                <a:lnTo>
                  <a:pt x="29" y="288"/>
                </a:lnTo>
                <a:lnTo>
                  <a:pt x="34" y="288"/>
                </a:lnTo>
                <a:lnTo>
                  <a:pt x="40" y="288"/>
                </a:lnTo>
                <a:lnTo>
                  <a:pt x="48" y="288"/>
                </a:lnTo>
                <a:lnTo>
                  <a:pt x="50" y="288"/>
                </a:lnTo>
                <a:lnTo>
                  <a:pt x="55" y="288"/>
                </a:lnTo>
                <a:lnTo>
                  <a:pt x="59" y="288"/>
                </a:lnTo>
                <a:lnTo>
                  <a:pt x="65" y="286"/>
                </a:lnTo>
                <a:lnTo>
                  <a:pt x="73" y="286"/>
                </a:lnTo>
                <a:lnTo>
                  <a:pt x="78" y="286"/>
                </a:lnTo>
                <a:lnTo>
                  <a:pt x="88" y="286"/>
                </a:lnTo>
                <a:lnTo>
                  <a:pt x="96" y="286"/>
                </a:lnTo>
                <a:lnTo>
                  <a:pt x="105" y="284"/>
                </a:lnTo>
                <a:lnTo>
                  <a:pt x="115" y="284"/>
                </a:lnTo>
                <a:lnTo>
                  <a:pt x="126" y="282"/>
                </a:lnTo>
                <a:lnTo>
                  <a:pt x="136" y="282"/>
                </a:lnTo>
                <a:lnTo>
                  <a:pt x="149" y="280"/>
                </a:lnTo>
                <a:lnTo>
                  <a:pt x="161" y="280"/>
                </a:lnTo>
                <a:lnTo>
                  <a:pt x="174" y="278"/>
                </a:lnTo>
                <a:lnTo>
                  <a:pt x="190" y="276"/>
                </a:lnTo>
                <a:lnTo>
                  <a:pt x="203" y="276"/>
                </a:lnTo>
                <a:lnTo>
                  <a:pt x="220" y="274"/>
                </a:lnTo>
                <a:lnTo>
                  <a:pt x="236" y="272"/>
                </a:lnTo>
                <a:lnTo>
                  <a:pt x="253" y="270"/>
                </a:lnTo>
                <a:lnTo>
                  <a:pt x="270" y="269"/>
                </a:lnTo>
                <a:lnTo>
                  <a:pt x="290" y="267"/>
                </a:lnTo>
                <a:lnTo>
                  <a:pt x="307" y="265"/>
                </a:lnTo>
                <a:lnTo>
                  <a:pt x="328" y="263"/>
                </a:lnTo>
                <a:lnTo>
                  <a:pt x="347" y="259"/>
                </a:lnTo>
                <a:lnTo>
                  <a:pt x="368" y="257"/>
                </a:lnTo>
                <a:lnTo>
                  <a:pt x="391" y="255"/>
                </a:lnTo>
                <a:lnTo>
                  <a:pt x="412" y="251"/>
                </a:lnTo>
                <a:lnTo>
                  <a:pt x="437" y="249"/>
                </a:lnTo>
                <a:lnTo>
                  <a:pt x="460" y="246"/>
                </a:lnTo>
                <a:lnTo>
                  <a:pt x="485" y="244"/>
                </a:lnTo>
                <a:lnTo>
                  <a:pt x="510" y="240"/>
                </a:lnTo>
                <a:lnTo>
                  <a:pt x="562" y="232"/>
                </a:lnTo>
                <a:lnTo>
                  <a:pt x="614" y="226"/>
                </a:lnTo>
                <a:lnTo>
                  <a:pt x="666" y="219"/>
                </a:lnTo>
                <a:lnTo>
                  <a:pt x="720" y="213"/>
                </a:lnTo>
                <a:lnTo>
                  <a:pt x="773" y="205"/>
                </a:lnTo>
                <a:lnTo>
                  <a:pt x="829" y="199"/>
                </a:lnTo>
                <a:lnTo>
                  <a:pt x="885" y="192"/>
                </a:lnTo>
                <a:lnTo>
                  <a:pt x="940" y="186"/>
                </a:lnTo>
                <a:lnTo>
                  <a:pt x="996" y="178"/>
                </a:lnTo>
                <a:lnTo>
                  <a:pt x="1054" y="173"/>
                </a:lnTo>
                <a:lnTo>
                  <a:pt x="1111" y="165"/>
                </a:lnTo>
                <a:lnTo>
                  <a:pt x="1171" y="159"/>
                </a:lnTo>
                <a:lnTo>
                  <a:pt x="1230" y="151"/>
                </a:lnTo>
                <a:lnTo>
                  <a:pt x="1292" y="146"/>
                </a:lnTo>
                <a:lnTo>
                  <a:pt x="1351" y="138"/>
                </a:lnTo>
                <a:lnTo>
                  <a:pt x="1414" y="132"/>
                </a:lnTo>
                <a:lnTo>
                  <a:pt x="1474" y="125"/>
                </a:lnTo>
                <a:lnTo>
                  <a:pt x="1531" y="119"/>
                </a:lnTo>
                <a:lnTo>
                  <a:pt x="1589" y="111"/>
                </a:lnTo>
                <a:lnTo>
                  <a:pt x="1645" y="105"/>
                </a:lnTo>
                <a:lnTo>
                  <a:pt x="1700" y="100"/>
                </a:lnTo>
                <a:lnTo>
                  <a:pt x="1754" y="96"/>
                </a:lnTo>
                <a:lnTo>
                  <a:pt x="1806" y="90"/>
                </a:lnTo>
                <a:lnTo>
                  <a:pt x="1858" y="84"/>
                </a:lnTo>
                <a:lnTo>
                  <a:pt x="1906" y="80"/>
                </a:lnTo>
                <a:lnTo>
                  <a:pt x="1954" y="75"/>
                </a:lnTo>
                <a:lnTo>
                  <a:pt x="2002" y="71"/>
                </a:lnTo>
                <a:lnTo>
                  <a:pt x="2046" y="65"/>
                </a:lnTo>
                <a:lnTo>
                  <a:pt x="2090" y="61"/>
                </a:lnTo>
                <a:lnTo>
                  <a:pt x="2132" y="57"/>
                </a:lnTo>
                <a:lnTo>
                  <a:pt x="2173" y="52"/>
                </a:lnTo>
                <a:lnTo>
                  <a:pt x="2211" y="48"/>
                </a:lnTo>
                <a:lnTo>
                  <a:pt x="2228" y="46"/>
                </a:lnTo>
                <a:lnTo>
                  <a:pt x="2247" y="42"/>
                </a:lnTo>
                <a:lnTo>
                  <a:pt x="2265" y="40"/>
                </a:lnTo>
                <a:lnTo>
                  <a:pt x="2282" y="38"/>
                </a:lnTo>
                <a:lnTo>
                  <a:pt x="2299" y="36"/>
                </a:lnTo>
                <a:lnTo>
                  <a:pt x="2315" y="34"/>
                </a:lnTo>
                <a:lnTo>
                  <a:pt x="2330" y="32"/>
                </a:lnTo>
                <a:lnTo>
                  <a:pt x="2345" y="31"/>
                </a:lnTo>
                <a:lnTo>
                  <a:pt x="2359" y="29"/>
                </a:lnTo>
                <a:lnTo>
                  <a:pt x="2372" y="29"/>
                </a:lnTo>
                <a:lnTo>
                  <a:pt x="2386" y="27"/>
                </a:lnTo>
                <a:lnTo>
                  <a:pt x="2399" y="25"/>
                </a:lnTo>
                <a:lnTo>
                  <a:pt x="2411" y="23"/>
                </a:lnTo>
                <a:lnTo>
                  <a:pt x="2424" y="21"/>
                </a:lnTo>
                <a:lnTo>
                  <a:pt x="2434" y="21"/>
                </a:lnTo>
                <a:lnTo>
                  <a:pt x="2445" y="19"/>
                </a:lnTo>
                <a:lnTo>
                  <a:pt x="2455" y="17"/>
                </a:lnTo>
                <a:lnTo>
                  <a:pt x="2466" y="15"/>
                </a:lnTo>
                <a:lnTo>
                  <a:pt x="2483" y="13"/>
                </a:lnTo>
                <a:lnTo>
                  <a:pt x="2501" y="11"/>
                </a:lnTo>
                <a:lnTo>
                  <a:pt x="2514" y="9"/>
                </a:lnTo>
                <a:lnTo>
                  <a:pt x="2528" y="6"/>
                </a:lnTo>
                <a:lnTo>
                  <a:pt x="2539" y="4"/>
                </a:lnTo>
                <a:lnTo>
                  <a:pt x="2547" y="2"/>
                </a:lnTo>
                <a:lnTo>
                  <a:pt x="2555" y="0"/>
                </a:lnTo>
                <a:lnTo>
                  <a:pt x="2570" y="0"/>
                </a:lnTo>
                <a:lnTo>
                  <a:pt x="2585" y="2"/>
                </a:lnTo>
                <a:lnTo>
                  <a:pt x="2601" y="4"/>
                </a:lnTo>
                <a:lnTo>
                  <a:pt x="2620" y="8"/>
                </a:lnTo>
                <a:lnTo>
                  <a:pt x="2639" y="13"/>
                </a:lnTo>
                <a:lnTo>
                  <a:pt x="2650" y="17"/>
                </a:lnTo>
                <a:lnTo>
                  <a:pt x="2660" y="19"/>
                </a:lnTo>
                <a:lnTo>
                  <a:pt x="2672" y="23"/>
                </a:lnTo>
                <a:lnTo>
                  <a:pt x="2685" y="27"/>
                </a:lnTo>
                <a:lnTo>
                  <a:pt x="2697" y="31"/>
                </a:lnTo>
                <a:lnTo>
                  <a:pt x="2710" y="36"/>
                </a:lnTo>
                <a:lnTo>
                  <a:pt x="2731" y="48"/>
                </a:lnTo>
                <a:lnTo>
                  <a:pt x="2752" y="61"/>
                </a:lnTo>
                <a:lnTo>
                  <a:pt x="2771" y="73"/>
                </a:lnTo>
                <a:lnTo>
                  <a:pt x="2791" y="84"/>
                </a:lnTo>
                <a:lnTo>
                  <a:pt x="2808" y="94"/>
                </a:lnTo>
                <a:lnTo>
                  <a:pt x="2823" y="105"/>
                </a:lnTo>
                <a:lnTo>
                  <a:pt x="2839" y="119"/>
                </a:lnTo>
                <a:lnTo>
                  <a:pt x="2852" y="132"/>
                </a:lnTo>
                <a:lnTo>
                  <a:pt x="2856" y="138"/>
                </a:lnTo>
                <a:lnTo>
                  <a:pt x="2860" y="146"/>
                </a:lnTo>
                <a:lnTo>
                  <a:pt x="2864" y="151"/>
                </a:lnTo>
                <a:lnTo>
                  <a:pt x="2865" y="157"/>
                </a:lnTo>
                <a:lnTo>
                  <a:pt x="2867" y="165"/>
                </a:lnTo>
                <a:lnTo>
                  <a:pt x="2869" y="171"/>
                </a:lnTo>
                <a:lnTo>
                  <a:pt x="2871" y="182"/>
                </a:lnTo>
                <a:lnTo>
                  <a:pt x="2871" y="194"/>
                </a:lnTo>
                <a:lnTo>
                  <a:pt x="2871" y="201"/>
                </a:lnTo>
                <a:lnTo>
                  <a:pt x="2869" y="207"/>
                </a:lnTo>
                <a:lnTo>
                  <a:pt x="2867" y="209"/>
                </a:lnTo>
                <a:lnTo>
                  <a:pt x="2867" y="213"/>
                </a:lnTo>
                <a:lnTo>
                  <a:pt x="2865" y="2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86"/>
          <p:cNvSpPr/>
          <p:nvPr/>
        </p:nvSpPr>
        <p:spPr>
          <a:xfrm>
            <a:off x="6705720" y="3498840"/>
            <a:ext cx="904680" cy="417600"/>
          </a:xfrm>
          <a:custGeom>
            <a:avLst/>
            <a:gdLst/>
            <a:ahLst/>
            <a:rect l="l" t="t" r="r" b="b"/>
            <a:pathLst>
              <a:path w="1140" h="526">
                <a:moveTo>
                  <a:pt x="1140" y="466"/>
                </a:moveTo>
                <a:lnTo>
                  <a:pt x="1140" y="468"/>
                </a:lnTo>
                <a:lnTo>
                  <a:pt x="1136" y="470"/>
                </a:lnTo>
                <a:lnTo>
                  <a:pt x="1132" y="474"/>
                </a:lnTo>
                <a:lnTo>
                  <a:pt x="1127" y="476"/>
                </a:lnTo>
                <a:lnTo>
                  <a:pt x="1119" y="478"/>
                </a:lnTo>
                <a:lnTo>
                  <a:pt x="1111" y="480"/>
                </a:lnTo>
                <a:lnTo>
                  <a:pt x="1100" y="482"/>
                </a:lnTo>
                <a:lnTo>
                  <a:pt x="1088" y="484"/>
                </a:lnTo>
                <a:lnTo>
                  <a:pt x="1075" y="488"/>
                </a:lnTo>
                <a:lnTo>
                  <a:pt x="1059" y="489"/>
                </a:lnTo>
                <a:lnTo>
                  <a:pt x="1042" y="491"/>
                </a:lnTo>
                <a:lnTo>
                  <a:pt x="1025" y="493"/>
                </a:lnTo>
                <a:lnTo>
                  <a:pt x="1006" y="495"/>
                </a:lnTo>
                <a:lnTo>
                  <a:pt x="985" y="497"/>
                </a:lnTo>
                <a:lnTo>
                  <a:pt x="961" y="501"/>
                </a:lnTo>
                <a:lnTo>
                  <a:pt x="938" y="503"/>
                </a:lnTo>
                <a:lnTo>
                  <a:pt x="912" y="505"/>
                </a:lnTo>
                <a:lnTo>
                  <a:pt x="887" y="507"/>
                </a:lnTo>
                <a:lnTo>
                  <a:pt x="862" y="509"/>
                </a:lnTo>
                <a:lnTo>
                  <a:pt x="839" y="511"/>
                </a:lnTo>
                <a:lnTo>
                  <a:pt x="816" y="514"/>
                </a:lnTo>
                <a:lnTo>
                  <a:pt x="793" y="516"/>
                </a:lnTo>
                <a:lnTo>
                  <a:pt x="771" y="518"/>
                </a:lnTo>
                <a:lnTo>
                  <a:pt x="750" y="518"/>
                </a:lnTo>
                <a:lnTo>
                  <a:pt x="731" y="520"/>
                </a:lnTo>
                <a:lnTo>
                  <a:pt x="712" y="522"/>
                </a:lnTo>
                <a:lnTo>
                  <a:pt x="695" y="524"/>
                </a:lnTo>
                <a:lnTo>
                  <a:pt x="677" y="524"/>
                </a:lnTo>
                <a:lnTo>
                  <a:pt x="660" y="526"/>
                </a:lnTo>
                <a:lnTo>
                  <a:pt x="645" y="526"/>
                </a:lnTo>
                <a:lnTo>
                  <a:pt x="631" y="526"/>
                </a:lnTo>
                <a:lnTo>
                  <a:pt x="618" y="526"/>
                </a:lnTo>
                <a:lnTo>
                  <a:pt x="604" y="526"/>
                </a:lnTo>
                <a:lnTo>
                  <a:pt x="591" y="526"/>
                </a:lnTo>
                <a:lnTo>
                  <a:pt x="580" y="526"/>
                </a:lnTo>
                <a:lnTo>
                  <a:pt x="568" y="524"/>
                </a:lnTo>
                <a:lnTo>
                  <a:pt x="547" y="520"/>
                </a:lnTo>
                <a:lnTo>
                  <a:pt x="526" y="516"/>
                </a:lnTo>
                <a:lnTo>
                  <a:pt x="509" y="511"/>
                </a:lnTo>
                <a:lnTo>
                  <a:pt x="499" y="505"/>
                </a:lnTo>
                <a:lnTo>
                  <a:pt x="491" y="501"/>
                </a:lnTo>
                <a:lnTo>
                  <a:pt x="484" y="497"/>
                </a:lnTo>
                <a:lnTo>
                  <a:pt x="476" y="491"/>
                </a:lnTo>
                <a:lnTo>
                  <a:pt x="470" y="486"/>
                </a:lnTo>
                <a:lnTo>
                  <a:pt x="462" y="478"/>
                </a:lnTo>
                <a:lnTo>
                  <a:pt x="459" y="474"/>
                </a:lnTo>
                <a:lnTo>
                  <a:pt x="455" y="470"/>
                </a:lnTo>
                <a:lnTo>
                  <a:pt x="449" y="466"/>
                </a:lnTo>
                <a:lnTo>
                  <a:pt x="443" y="461"/>
                </a:lnTo>
                <a:lnTo>
                  <a:pt x="437" y="453"/>
                </a:lnTo>
                <a:lnTo>
                  <a:pt x="430" y="447"/>
                </a:lnTo>
                <a:lnTo>
                  <a:pt x="422" y="440"/>
                </a:lnTo>
                <a:lnTo>
                  <a:pt x="413" y="432"/>
                </a:lnTo>
                <a:lnTo>
                  <a:pt x="405" y="422"/>
                </a:lnTo>
                <a:lnTo>
                  <a:pt x="393" y="415"/>
                </a:lnTo>
                <a:lnTo>
                  <a:pt x="384" y="403"/>
                </a:lnTo>
                <a:lnTo>
                  <a:pt x="372" y="393"/>
                </a:lnTo>
                <a:lnTo>
                  <a:pt x="359" y="382"/>
                </a:lnTo>
                <a:lnTo>
                  <a:pt x="347" y="370"/>
                </a:lnTo>
                <a:lnTo>
                  <a:pt x="334" y="357"/>
                </a:lnTo>
                <a:lnTo>
                  <a:pt x="318" y="345"/>
                </a:lnTo>
                <a:lnTo>
                  <a:pt x="305" y="330"/>
                </a:lnTo>
                <a:lnTo>
                  <a:pt x="288" y="317"/>
                </a:lnTo>
                <a:lnTo>
                  <a:pt x="272" y="301"/>
                </a:lnTo>
                <a:lnTo>
                  <a:pt x="255" y="286"/>
                </a:lnTo>
                <a:lnTo>
                  <a:pt x="238" y="269"/>
                </a:lnTo>
                <a:lnTo>
                  <a:pt x="219" y="253"/>
                </a:lnTo>
                <a:lnTo>
                  <a:pt x="199" y="234"/>
                </a:lnTo>
                <a:lnTo>
                  <a:pt x="180" y="217"/>
                </a:lnTo>
                <a:lnTo>
                  <a:pt x="161" y="198"/>
                </a:lnTo>
                <a:lnTo>
                  <a:pt x="140" y="178"/>
                </a:lnTo>
                <a:lnTo>
                  <a:pt x="117" y="157"/>
                </a:lnTo>
                <a:lnTo>
                  <a:pt x="96" y="136"/>
                </a:lnTo>
                <a:lnTo>
                  <a:pt x="73" y="115"/>
                </a:lnTo>
                <a:lnTo>
                  <a:pt x="48" y="94"/>
                </a:lnTo>
                <a:lnTo>
                  <a:pt x="25" y="71"/>
                </a:lnTo>
                <a:lnTo>
                  <a:pt x="0" y="48"/>
                </a:lnTo>
                <a:lnTo>
                  <a:pt x="11" y="23"/>
                </a:lnTo>
                <a:lnTo>
                  <a:pt x="23" y="0"/>
                </a:lnTo>
                <a:lnTo>
                  <a:pt x="82" y="35"/>
                </a:lnTo>
                <a:lnTo>
                  <a:pt x="140" y="69"/>
                </a:lnTo>
                <a:lnTo>
                  <a:pt x="196" y="100"/>
                </a:lnTo>
                <a:lnTo>
                  <a:pt x="251" y="130"/>
                </a:lnTo>
                <a:lnTo>
                  <a:pt x="305" y="159"/>
                </a:lnTo>
                <a:lnTo>
                  <a:pt x="359" y="186"/>
                </a:lnTo>
                <a:lnTo>
                  <a:pt x="411" y="211"/>
                </a:lnTo>
                <a:lnTo>
                  <a:pt x="461" y="234"/>
                </a:lnTo>
                <a:lnTo>
                  <a:pt x="510" y="255"/>
                </a:lnTo>
                <a:lnTo>
                  <a:pt x="558" y="274"/>
                </a:lnTo>
                <a:lnTo>
                  <a:pt x="604" y="294"/>
                </a:lnTo>
                <a:lnTo>
                  <a:pt x="651" y="309"/>
                </a:lnTo>
                <a:lnTo>
                  <a:pt x="695" y="324"/>
                </a:lnTo>
                <a:lnTo>
                  <a:pt x="737" y="338"/>
                </a:lnTo>
                <a:lnTo>
                  <a:pt x="779" y="349"/>
                </a:lnTo>
                <a:lnTo>
                  <a:pt x="819" y="359"/>
                </a:lnTo>
                <a:lnTo>
                  <a:pt x="839" y="363"/>
                </a:lnTo>
                <a:lnTo>
                  <a:pt x="858" y="367"/>
                </a:lnTo>
                <a:lnTo>
                  <a:pt x="877" y="372"/>
                </a:lnTo>
                <a:lnTo>
                  <a:pt x="894" y="376"/>
                </a:lnTo>
                <a:lnTo>
                  <a:pt x="912" y="380"/>
                </a:lnTo>
                <a:lnTo>
                  <a:pt x="929" y="384"/>
                </a:lnTo>
                <a:lnTo>
                  <a:pt x="944" y="388"/>
                </a:lnTo>
                <a:lnTo>
                  <a:pt x="960" y="393"/>
                </a:lnTo>
                <a:lnTo>
                  <a:pt x="975" y="397"/>
                </a:lnTo>
                <a:lnTo>
                  <a:pt x="988" y="401"/>
                </a:lnTo>
                <a:lnTo>
                  <a:pt x="1002" y="405"/>
                </a:lnTo>
                <a:lnTo>
                  <a:pt x="1015" y="407"/>
                </a:lnTo>
                <a:lnTo>
                  <a:pt x="1027" y="411"/>
                </a:lnTo>
                <a:lnTo>
                  <a:pt x="1038" y="415"/>
                </a:lnTo>
                <a:lnTo>
                  <a:pt x="1050" y="418"/>
                </a:lnTo>
                <a:lnTo>
                  <a:pt x="1059" y="422"/>
                </a:lnTo>
                <a:lnTo>
                  <a:pt x="1069" y="424"/>
                </a:lnTo>
                <a:lnTo>
                  <a:pt x="1079" y="428"/>
                </a:lnTo>
                <a:lnTo>
                  <a:pt x="1086" y="432"/>
                </a:lnTo>
                <a:lnTo>
                  <a:pt x="1096" y="434"/>
                </a:lnTo>
                <a:lnTo>
                  <a:pt x="1102" y="438"/>
                </a:lnTo>
                <a:lnTo>
                  <a:pt x="1109" y="441"/>
                </a:lnTo>
                <a:lnTo>
                  <a:pt x="1115" y="443"/>
                </a:lnTo>
                <a:lnTo>
                  <a:pt x="1121" y="447"/>
                </a:lnTo>
                <a:lnTo>
                  <a:pt x="1125" y="449"/>
                </a:lnTo>
                <a:lnTo>
                  <a:pt x="1128" y="451"/>
                </a:lnTo>
                <a:lnTo>
                  <a:pt x="1132" y="455"/>
                </a:lnTo>
                <a:lnTo>
                  <a:pt x="1134" y="457"/>
                </a:lnTo>
                <a:lnTo>
                  <a:pt x="1138" y="459"/>
                </a:lnTo>
                <a:lnTo>
                  <a:pt x="1138" y="463"/>
                </a:lnTo>
                <a:lnTo>
                  <a:pt x="1140" y="464"/>
                </a:lnTo>
                <a:lnTo>
                  <a:pt x="1140" y="4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87"/>
          <p:cNvSpPr/>
          <p:nvPr/>
        </p:nvSpPr>
        <p:spPr>
          <a:xfrm>
            <a:off x="6297480" y="3322800"/>
            <a:ext cx="503280" cy="653760"/>
          </a:xfrm>
          <a:custGeom>
            <a:avLst/>
            <a:gdLst/>
            <a:ahLst/>
            <a:rect l="l" t="t" r="r" b="b"/>
            <a:pathLst>
              <a:path w="636" h="824">
                <a:moveTo>
                  <a:pt x="206" y="726"/>
                </a:moveTo>
                <a:lnTo>
                  <a:pt x="181" y="741"/>
                </a:lnTo>
                <a:lnTo>
                  <a:pt x="160" y="755"/>
                </a:lnTo>
                <a:lnTo>
                  <a:pt x="139" y="766"/>
                </a:lnTo>
                <a:lnTo>
                  <a:pt x="119" y="778"/>
                </a:lnTo>
                <a:lnTo>
                  <a:pt x="102" y="787"/>
                </a:lnTo>
                <a:lnTo>
                  <a:pt x="87" y="797"/>
                </a:lnTo>
                <a:lnTo>
                  <a:pt x="73" y="805"/>
                </a:lnTo>
                <a:lnTo>
                  <a:pt x="60" y="810"/>
                </a:lnTo>
                <a:lnTo>
                  <a:pt x="48" y="814"/>
                </a:lnTo>
                <a:lnTo>
                  <a:pt x="37" y="818"/>
                </a:lnTo>
                <a:lnTo>
                  <a:pt x="29" y="822"/>
                </a:lnTo>
                <a:lnTo>
                  <a:pt x="22" y="824"/>
                </a:lnTo>
                <a:lnTo>
                  <a:pt x="14" y="824"/>
                </a:lnTo>
                <a:lnTo>
                  <a:pt x="10" y="824"/>
                </a:lnTo>
                <a:lnTo>
                  <a:pt x="6" y="824"/>
                </a:lnTo>
                <a:lnTo>
                  <a:pt x="2" y="822"/>
                </a:lnTo>
                <a:lnTo>
                  <a:pt x="0" y="818"/>
                </a:lnTo>
                <a:lnTo>
                  <a:pt x="0" y="816"/>
                </a:lnTo>
                <a:lnTo>
                  <a:pt x="0" y="810"/>
                </a:lnTo>
                <a:lnTo>
                  <a:pt x="2" y="806"/>
                </a:lnTo>
                <a:lnTo>
                  <a:pt x="6" y="801"/>
                </a:lnTo>
                <a:lnTo>
                  <a:pt x="10" y="793"/>
                </a:lnTo>
                <a:lnTo>
                  <a:pt x="14" y="785"/>
                </a:lnTo>
                <a:lnTo>
                  <a:pt x="22" y="778"/>
                </a:lnTo>
                <a:lnTo>
                  <a:pt x="27" y="768"/>
                </a:lnTo>
                <a:lnTo>
                  <a:pt x="37" y="757"/>
                </a:lnTo>
                <a:lnTo>
                  <a:pt x="47" y="747"/>
                </a:lnTo>
                <a:lnTo>
                  <a:pt x="56" y="734"/>
                </a:lnTo>
                <a:lnTo>
                  <a:pt x="68" y="722"/>
                </a:lnTo>
                <a:lnTo>
                  <a:pt x="81" y="707"/>
                </a:lnTo>
                <a:lnTo>
                  <a:pt x="95" y="693"/>
                </a:lnTo>
                <a:lnTo>
                  <a:pt x="110" y="678"/>
                </a:lnTo>
                <a:lnTo>
                  <a:pt x="141" y="647"/>
                </a:lnTo>
                <a:lnTo>
                  <a:pt x="169" y="616"/>
                </a:lnTo>
                <a:lnTo>
                  <a:pt x="198" y="588"/>
                </a:lnTo>
                <a:lnTo>
                  <a:pt x="223" y="559"/>
                </a:lnTo>
                <a:lnTo>
                  <a:pt x="248" y="532"/>
                </a:lnTo>
                <a:lnTo>
                  <a:pt x="261" y="519"/>
                </a:lnTo>
                <a:lnTo>
                  <a:pt x="271" y="503"/>
                </a:lnTo>
                <a:lnTo>
                  <a:pt x="283" y="490"/>
                </a:lnTo>
                <a:lnTo>
                  <a:pt x="292" y="476"/>
                </a:lnTo>
                <a:lnTo>
                  <a:pt x="304" y="463"/>
                </a:lnTo>
                <a:lnTo>
                  <a:pt x="311" y="449"/>
                </a:lnTo>
                <a:lnTo>
                  <a:pt x="319" y="438"/>
                </a:lnTo>
                <a:lnTo>
                  <a:pt x="325" y="426"/>
                </a:lnTo>
                <a:lnTo>
                  <a:pt x="338" y="401"/>
                </a:lnTo>
                <a:lnTo>
                  <a:pt x="352" y="373"/>
                </a:lnTo>
                <a:lnTo>
                  <a:pt x="363" y="344"/>
                </a:lnTo>
                <a:lnTo>
                  <a:pt x="377" y="315"/>
                </a:lnTo>
                <a:lnTo>
                  <a:pt x="386" y="284"/>
                </a:lnTo>
                <a:lnTo>
                  <a:pt x="398" y="254"/>
                </a:lnTo>
                <a:lnTo>
                  <a:pt x="407" y="223"/>
                </a:lnTo>
                <a:lnTo>
                  <a:pt x="411" y="206"/>
                </a:lnTo>
                <a:lnTo>
                  <a:pt x="415" y="192"/>
                </a:lnTo>
                <a:lnTo>
                  <a:pt x="417" y="177"/>
                </a:lnTo>
                <a:lnTo>
                  <a:pt x="421" y="163"/>
                </a:lnTo>
                <a:lnTo>
                  <a:pt x="423" y="150"/>
                </a:lnTo>
                <a:lnTo>
                  <a:pt x="425" y="138"/>
                </a:lnTo>
                <a:lnTo>
                  <a:pt x="425" y="127"/>
                </a:lnTo>
                <a:lnTo>
                  <a:pt x="427" y="115"/>
                </a:lnTo>
                <a:lnTo>
                  <a:pt x="427" y="106"/>
                </a:lnTo>
                <a:lnTo>
                  <a:pt x="427" y="96"/>
                </a:lnTo>
                <a:lnTo>
                  <a:pt x="427" y="87"/>
                </a:lnTo>
                <a:lnTo>
                  <a:pt x="425" y="79"/>
                </a:lnTo>
                <a:lnTo>
                  <a:pt x="425" y="71"/>
                </a:lnTo>
                <a:lnTo>
                  <a:pt x="423" y="66"/>
                </a:lnTo>
                <a:lnTo>
                  <a:pt x="421" y="60"/>
                </a:lnTo>
                <a:lnTo>
                  <a:pt x="419" y="54"/>
                </a:lnTo>
                <a:lnTo>
                  <a:pt x="415" y="48"/>
                </a:lnTo>
                <a:lnTo>
                  <a:pt x="413" y="43"/>
                </a:lnTo>
                <a:lnTo>
                  <a:pt x="411" y="37"/>
                </a:lnTo>
                <a:lnTo>
                  <a:pt x="409" y="31"/>
                </a:lnTo>
                <a:lnTo>
                  <a:pt x="411" y="23"/>
                </a:lnTo>
                <a:lnTo>
                  <a:pt x="413" y="18"/>
                </a:lnTo>
                <a:lnTo>
                  <a:pt x="415" y="12"/>
                </a:lnTo>
                <a:lnTo>
                  <a:pt x="419" y="6"/>
                </a:lnTo>
                <a:lnTo>
                  <a:pt x="421" y="4"/>
                </a:lnTo>
                <a:lnTo>
                  <a:pt x="425" y="2"/>
                </a:lnTo>
                <a:lnTo>
                  <a:pt x="428" y="2"/>
                </a:lnTo>
                <a:lnTo>
                  <a:pt x="432" y="0"/>
                </a:lnTo>
                <a:lnTo>
                  <a:pt x="436" y="0"/>
                </a:lnTo>
                <a:lnTo>
                  <a:pt x="442" y="2"/>
                </a:lnTo>
                <a:lnTo>
                  <a:pt x="448" y="2"/>
                </a:lnTo>
                <a:lnTo>
                  <a:pt x="455" y="2"/>
                </a:lnTo>
                <a:lnTo>
                  <a:pt x="461" y="4"/>
                </a:lnTo>
                <a:lnTo>
                  <a:pt x="469" y="6"/>
                </a:lnTo>
                <a:lnTo>
                  <a:pt x="476" y="8"/>
                </a:lnTo>
                <a:lnTo>
                  <a:pt x="486" y="10"/>
                </a:lnTo>
                <a:lnTo>
                  <a:pt x="496" y="12"/>
                </a:lnTo>
                <a:lnTo>
                  <a:pt x="505" y="14"/>
                </a:lnTo>
                <a:lnTo>
                  <a:pt x="515" y="16"/>
                </a:lnTo>
                <a:lnTo>
                  <a:pt x="526" y="18"/>
                </a:lnTo>
                <a:lnTo>
                  <a:pt x="536" y="21"/>
                </a:lnTo>
                <a:lnTo>
                  <a:pt x="547" y="23"/>
                </a:lnTo>
                <a:lnTo>
                  <a:pt x="557" y="25"/>
                </a:lnTo>
                <a:lnTo>
                  <a:pt x="567" y="29"/>
                </a:lnTo>
                <a:lnTo>
                  <a:pt x="574" y="33"/>
                </a:lnTo>
                <a:lnTo>
                  <a:pt x="582" y="35"/>
                </a:lnTo>
                <a:lnTo>
                  <a:pt x="590" y="39"/>
                </a:lnTo>
                <a:lnTo>
                  <a:pt x="597" y="43"/>
                </a:lnTo>
                <a:lnTo>
                  <a:pt x="603" y="46"/>
                </a:lnTo>
                <a:lnTo>
                  <a:pt x="609" y="48"/>
                </a:lnTo>
                <a:lnTo>
                  <a:pt x="615" y="52"/>
                </a:lnTo>
                <a:lnTo>
                  <a:pt x="619" y="56"/>
                </a:lnTo>
                <a:lnTo>
                  <a:pt x="624" y="58"/>
                </a:lnTo>
                <a:lnTo>
                  <a:pt x="628" y="62"/>
                </a:lnTo>
                <a:lnTo>
                  <a:pt x="630" y="64"/>
                </a:lnTo>
                <a:lnTo>
                  <a:pt x="634" y="66"/>
                </a:lnTo>
                <a:lnTo>
                  <a:pt x="634" y="71"/>
                </a:lnTo>
                <a:lnTo>
                  <a:pt x="636" y="79"/>
                </a:lnTo>
                <a:lnTo>
                  <a:pt x="634" y="87"/>
                </a:lnTo>
                <a:lnTo>
                  <a:pt x="632" y="98"/>
                </a:lnTo>
                <a:lnTo>
                  <a:pt x="630" y="110"/>
                </a:lnTo>
                <a:lnTo>
                  <a:pt x="626" y="123"/>
                </a:lnTo>
                <a:lnTo>
                  <a:pt x="620" y="138"/>
                </a:lnTo>
                <a:lnTo>
                  <a:pt x="615" y="156"/>
                </a:lnTo>
                <a:lnTo>
                  <a:pt x="607" y="175"/>
                </a:lnTo>
                <a:lnTo>
                  <a:pt x="599" y="196"/>
                </a:lnTo>
                <a:lnTo>
                  <a:pt x="590" y="217"/>
                </a:lnTo>
                <a:lnTo>
                  <a:pt x="578" y="242"/>
                </a:lnTo>
                <a:lnTo>
                  <a:pt x="567" y="267"/>
                </a:lnTo>
                <a:lnTo>
                  <a:pt x="555" y="294"/>
                </a:lnTo>
                <a:lnTo>
                  <a:pt x="540" y="323"/>
                </a:lnTo>
                <a:lnTo>
                  <a:pt x="526" y="353"/>
                </a:lnTo>
                <a:lnTo>
                  <a:pt x="511" y="384"/>
                </a:lnTo>
                <a:lnTo>
                  <a:pt x="494" y="415"/>
                </a:lnTo>
                <a:lnTo>
                  <a:pt x="476" y="444"/>
                </a:lnTo>
                <a:lnTo>
                  <a:pt x="459" y="471"/>
                </a:lnTo>
                <a:lnTo>
                  <a:pt x="442" y="497"/>
                </a:lnTo>
                <a:lnTo>
                  <a:pt x="423" y="522"/>
                </a:lnTo>
                <a:lnTo>
                  <a:pt x="404" y="547"/>
                </a:lnTo>
                <a:lnTo>
                  <a:pt x="384" y="570"/>
                </a:lnTo>
                <a:lnTo>
                  <a:pt x="363" y="593"/>
                </a:lnTo>
                <a:lnTo>
                  <a:pt x="342" y="615"/>
                </a:lnTo>
                <a:lnTo>
                  <a:pt x="321" y="636"/>
                </a:lnTo>
                <a:lnTo>
                  <a:pt x="298" y="655"/>
                </a:lnTo>
                <a:lnTo>
                  <a:pt x="275" y="674"/>
                </a:lnTo>
                <a:lnTo>
                  <a:pt x="252" y="691"/>
                </a:lnTo>
                <a:lnTo>
                  <a:pt x="229" y="709"/>
                </a:lnTo>
                <a:lnTo>
                  <a:pt x="206" y="7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88"/>
          <p:cNvSpPr/>
          <p:nvPr/>
        </p:nvSpPr>
        <p:spPr>
          <a:xfrm>
            <a:off x="6629400" y="3022560"/>
            <a:ext cx="782640" cy="382680"/>
          </a:xfrm>
          <a:custGeom>
            <a:avLst/>
            <a:gdLst/>
            <a:ahLst/>
            <a:rect l="l" t="t" r="r" b="b"/>
            <a:pathLst>
              <a:path w="986" h="482">
                <a:moveTo>
                  <a:pt x="654" y="373"/>
                </a:moveTo>
                <a:lnTo>
                  <a:pt x="633" y="388"/>
                </a:lnTo>
                <a:lnTo>
                  <a:pt x="616" y="401"/>
                </a:lnTo>
                <a:lnTo>
                  <a:pt x="599" y="415"/>
                </a:lnTo>
                <a:lnTo>
                  <a:pt x="583" y="426"/>
                </a:lnTo>
                <a:lnTo>
                  <a:pt x="568" y="438"/>
                </a:lnTo>
                <a:lnTo>
                  <a:pt x="553" y="447"/>
                </a:lnTo>
                <a:lnTo>
                  <a:pt x="541" y="455"/>
                </a:lnTo>
                <a:lnTo>
                  <a:pt x="530" y="463"/>
                </a:lnTo>
                <a:lnTo>
                  <a:pt x="518" y="469"/>
                </a:lnTo>
                <a:lnTo>
                  <a:pt x="509" y="474"/>
                </a:lnTo>
                <a:lnTo>
                  <a:pt x="501" y="478"/>
                </a:lnTo>
                <a:lnTo>
                  <a:pt x="493" y="480"/>
                </a:lnTo>
                <a:lnTo>
                  <a:pt x="487" y="482"/>
                </a:lnTo>
                <a:lnTo>
                  <a:pt x="482" y="482"/>
                </a:lnTo>
                <a:lnTo>
                  <a:pt x="478" y="482"/>
                </a:lnTo>
                <a:lnTo>
                  <a:pt x="476" y="480"/>
                </a:lnTo>
                <a:lnTo>
                  <a:pt x="474" y="480"/>
                </a:lnTo>
                <a:lnTo>
                  <a:pt x="472" y="478"/>
                </a:lnTo>
                <a:lnTo>
                  <a:pt x="472" y="474"/>
                </a:lnTo>
                <a:lnTo>
                  <a:pt x="472" y="470"/>
                </a:lnTo>
                <a:lnTo>
                  <a:pt x="472" y="467"/>
                </a:lnTo>
                <a:lnTo>
                  <a:pt x="474" y="461"/>
                </a:lnTo>
                <a:lnTo>
                  <a:pt x="476" y="453"/>
                </a:lnTo>
                <a:lnTo>
                  <a:pt x="478" y="444"/>
                </a:lnTo>
                <a:lnTo>
                  <a:pt x="482" y="434"/>
                </a:lnTo>
                <a:lnTo>
                  <a:pt x="487" y="424"/>
                </a:lnTo>
                <a:lnTo>
                  <a:pt x="493" y="413"/>
                </a:lnTo>
                <a:lnTo>
                  <a:pt x="499" y="399"/>
                </a:lnTo>
                <a:lnTo>
                  <a:pt x="507" y="386"/>
                </a:lnTo>
                <a:lnTo>
                  <a:pt x="514" y="371"/>
                </a:lnTo>
                <a:lnTo>
                  <a:pt x="524" y="353"/>
                </a:lnTo>
                <a:lnTo>
                  <a:pt x="535" y="336"/>
                </a:lnTo>
                <a:lnTo>
                  <a:pt x="543" y="319"/>
                </a:lnTo>
                <a:lnTo>
                  <a:pt x="551" y="302"/>
                </a:lnTo>
                <a:lnTo>
                  <a:pt x="558" y="286"/>
                </a:lnTo>
                <a:lnTo>
                  <a:pt x="566" y="271"/>
                </a:lnTo>
                <a:lnTo>
                  <a:pt x="572" y="257"/>
                </a:lnTo>
                <a:lnTo>
                  <a:pt x="578" y="244"/>
                </a:lnTo>
                <a:lnTo>
                  <a:pt x="581" y="232"/>
                </a:lnTo>
                <a:lnTo>
                  <a:pt x="587" y="221"/>
                </a:lnTo>
                <a:lnTo>
                  <a:pt x="589" y="211"/>
                </a:lnTo>
                <a:lnTo>
                  <a:pt x="593" y="202"/>
                </a:lnTo>
                <a:lnTo>
                  <a:pt x="595" y="194"/>
                </a:lnTo>
                <a:lnTo>
                  <a:pt x="597" y="186"/>
                </a:lnTo>
                <a:lnTo>
                  <a:pt x="597" y="181"/>
                </a:lnTo>
                <a:lnTo>
                  <a:pt x="597" y="175"/>
                </a:lnTo>
                <a:lnTo>
                  <a:pt x="597" y="171"/>
                </a:lnTo>
                <a:lnTo>
                  <a:pt x="595" y="169"/>
                </a:lnTo>
                <a:lnTo>
                  <a:pt x="591" y="167"/>
                </a:lnTo>
                <a:lnTo>
                  <a:pt x="587" y="165"/>
                </a:lnTo>
                <a:lnTo>
                  <a:pt x="581" y="163"/>
                </a:lnTo>
                <a:lnTo>
                  <a:pt x="574" y="163"/>
                </a:lnTo>
                <a:lnTo>
                  <a:pt x="566" y="163"/>
                </a:lnTo>
                <a:lnTo>
                  <a:pt x="557" y="165"/>
                </a:lnTo>
                <a:lnTo>
                  <a:pt x="547" y="165"/>
                </a:lnTo>
                <a:lnTo>
                  <a:pt x="535" y="167"/>
                </a:lnTo>
                <a:lnTo>
                  <a:pt x="522" y="169"/>
                </a:lnTo>
                <a:lnTo>
                  <a:pt x="509" y="171"/>
                </a:lnTo>
                <a:lnTo>
                  <a:pt x="493" y="173"/>
                </a:lnTo>
                <a:lnTo>
                  <a:pt x="478" y="177"/>
                </a:lnTo>
                <a:lnTo>
                  <a:pt x="461" y="181"/>
                </a:lnTo>
                <a:lnTo>
                  <a:pt x="443" y="184"/>
                </a:lnTo>
                <a:lnTo>
                  <a:pt x="424" y="188"/>
                </a:lnTo>
                <a:lnTo>
                  <a:pt x="405" y="192"/>
                </a:lnTo>
                <a:lnTo>
                  <a:pt x="359" y="202"/>
                </a:lnTo>
                <a:lnTo>
                  <a:pt x="313" y="209"/>
                </a:lnTo>
                <a:lnTo>
                  <a:pt x="265" y="215"/>
                </a:lnTo>
                <a:lnTo>
                  <a:pt x="215" y="219"/>
                </a:lnTo>
                <a:lnTo>
                  <a:pt x="165" y="223"/>
                </a:lnTo>
                <a:lnTo>
                  <a:pt x="138" y="225"/>
                </a:lnTo>
                <a:lnTo>
                  <a:pt x="111" y="227"/>
                </a:lnTo>
                <a:lnTo>
                  <a:pt x="84" y="227"/>
                </a:lnTo>
                <a:lnTo>
                  <a:pt x="57" y="229"/>
                </a:lnTo>
                <a:lnTo>
                  <a:pt x="29" y="229"/>
                </a:lnTo>
                <a:lnTo>
                  <a:pt x="0" y="229"/>
                </a:lnTo>
                <a:lnTo>
                  <a:pt x="0" y="158"/>
                </a:lnTo>
                <a:lnTo>
                  <a:pt x="15" y="156"/>
                </a:lnTo>
                <a:lnTo>
                  <a:pt x="33" y="156"/>
                </a:lnTo>
                <a:lnTo>
                  <a:pt x="50" y="156"/>
                </a:lnTo>
                <a:lnTo>
                  <a:pt x="69" y="154"/>
                </a:lnTo>
                <a:lnTo>
                  <a:pt x="88" y="154"/>
                </a:lnTo>
                <a:lnTo>
                  <a:pt x="107" y="152"/>
                </a:lnTo>
                <a:lnTo>
                  <a:pt x="128" y="148"/>
                </a:lnTo>
                <a:lnTo>
                  <a:pt x="150" y="146"/>
                </a:lnTo>
                <a:lnTo>
                  <a:pt x="173" y="144"/>
                </a:lnTo>
                <a:lnTo>
                  <a:pt x="196" y="140"/>
                </a:lnTo>
                <a:lnTo>
                  <a:pt x="219" y="136"/>
                </a:lnTo>
                <a:lnTo>
                  <a:pt x="242" y="131"/>
                </a:lnTo>
                <a:lnTo>
                  <a:pt x="267" y="127"/>
                </a:lnTo>
                <a:lnTo>
                  <a:pt x="292" y="121"/>
                </a:lnTo>
                <a:lnTo>
                  <a:pt x="319" y="115"/>
                </a:lnTo>
                <a:lnTo>
                  <a:pt x="345" y="110"/>
                </a:lnTo>
                <a:lnTo>
                  <a:pt x="370" y="102"/>
                </a:lnTo>
                <a:lnTo>
                  <a:pt x="395" y="96"/>
                </a:lnTo>
                <a:lnTo>
                  <a:pt x="418" y="88"/>
                </a:lnTo>
                <a:lnTo>
                  <a:pt x="439" y="83"/>
                </a:lnTo>
                <a:lnTo>
                  <a:pt x="461" y="77"/>
                </a:lnTo>
                <a:lnTo>
                  <a:pt x="480" y="73"/>
                </a:lnTo>
                <a:lnTo>
                  <a:pt x="497" y="67"/>
                </a:lnTo>
                <a:lnTo>
                  <a:pt x="512" y="62"/>
                </a:lnTo>
                <a:lnTo>
                  <a:pt x="526" y="58"/>
                </a:lnTo>
                <a:lnTo>
                  <a:pt x="539" y="52"/>
                </a:lnTo>
                <a:lnTo>
                  <a:pt x="551" y="48"/>
                </a:lnTo>
                <a:lnTo>
                  <a:pt x="560" y="42"/>
                </a:lnTo>
                <a:lnTo>
                  <a:pt x="568" y="39"/>
                </a:lnTo>
                <a:lnTo>
                  <a:pt x="574" y="33"/>
                </a:lnTo>
                <a:lnTo>
                  <a:pt x="580" y="29"/>
                </a:lnTo>
                <a:lnTo>
                  <a:pt x="583" y="25"/>
                </a:lnTo>
                <a:lnTo>
                  <a:pt x="587" y="19"/>
                </a:lnTo>
                <a:lnTo>
                  <a:pt x="593" y="16"/>
                </a:lnTo>
                <a:lnTo>
                  <a:pt x="601" y="12"/>
                </a:lnTo>
                <a:lnTo>
                  <a:pt x="608" y="8"/>
                </a:lnTo>
                <a:lnTo>
                  <a:pt x="618" y="6"/>
                </a:lnTo>
                <a:lnTo>
                  <a:pt x="629" y="2"/>
                </a:lnTo>
                <a:lnTo>
                  <a:pt x="641" y="2"/>
                </a:lnTo>
                <a:lnTo>
                  <a:pt x="654" y="0"/>
                </a:lnTo>
                <a:lnTo>
                  <a:pt x="660" y="0"/>
                </a:lnTo>
                <a:lnTo>
                  <a:pt x="668" y="2"/>
                </a:lnTo>
                <a:lnTo>
                  <a:pt x="676" y="4"/>
                </a:lnTo>
                <a:lnTo>
                  <a:pt x="685" y="6"/>
                </a:lnTo>
                <a:lnTo>
                  <a:pt x="695" y="8"/>
                </a:lnTo>
                <a:lnTo>
                  <a:pt x="704" y="10"/>
                </a:lnTo>
                <a:lnTo>
                  <a:pt x="716" y="14"/>
                </a:lnTo>
                <a:lnTo>
                  <a:pt x="727" y="17"/>
                </a:lnTo>
                <a:lnTo>
                  <a:pt x="739" y="23"/>
                </a:lnTo>
                <a:lnTo>
                  <a:pt x="752" y="29"/>
                </a:lnTo>
                <a:lnTo>
                  <a:pt x="766" y="35"/>
                </a:lnTo>
                <a:lnTo>
                  <a:pt x="779" y="40"/>
                </a:lnTo>
                <a:lnTo>
                  <a:pt x="795" y="48"/>
                </a:lnTo>
                <a:lnTo>
                  <a:pt x="810" y="56"/>
                </a:lnTo>
                <a:lnTo>
                  <a:pt x="827" y="63"/>
                </a:lnTo>
                <a:lnTo>
                  <a:pt x="844" y="73"/>
                </a:lnTo>
                <a:lnTo>
                  <a:pt x="862" y="85"/>
                </a:lnTo>
                <a:lnTo>
                  <a:pt x="877" y="94"/>
                </a:lnTo>
                <a:lnTo>
                  <a:pt x="892" y="104"/>
                </a:lnTo>
                <a:lnTo>
                  <a:pt x="906" y="113"/>
                </a:lnTo>
                <a:lnTo>
                  <a:pt x="919" y="123"/>
                </a:lnTo>
                <a:lnTo>
                  <a:pt x="931" y="131"/>
                </a:lnTo>
                <a:lnTo>
                  <a:pt x="940" y="138"/>
                </a:lnTo>
                <a:lnTo>
                  <a:pt x="950" y="146"/>
                </a:lnTo>
                <a:lnTo>
                  <a:pt x="960" y="154"/>
                </a:lnTo>
                <a:lnTo>
                  <a:pt x="967" y="159"/>
                </a:lnTo>
                <a:lnTo>
                  <a:pt x="973" y="167"/>
                </a:lnTo>
                <a:lnTo>
                  <a:pt x="977" y="173"/>
                </a:lnTo>
                <a:lnTo>
                  <a:pt x="981" y="179"/>
                </a:lnTo>
                <a:lnTo>
                  <a:pt x="985" y="183"/>
                </a:lnTo>
                <a:lnTo>
                  <a:pt x="986" y="188"/>
                </a:lnTo>
                <a:lnTo>
                  <a:pt x="986" y="192"/>
                </a:lnTo>
                <a:lnTo>
                  <a:pt x="986" y="198"/>
                </a:lnTo>
                <a:lnTo>
                  <a:pt x="985" y="202"/>
                </a:lnTo>
                <a:lnTo>
                  <a:pt x="985" y="206"/>
                </a:lnTo>
                <a:lnTo>
                  <a:pt x="983" y="207"/>
                </a:lnTo>
                <a:lnTo>
                  <a:pt x="979" y="211"/>
                </a:lnTo>
                <a:lnTo>
                  <a:pt x="977" y="215"/>
                </a:lnTo>
                <a:lnTo>
                  <a:pt x="971" y="217"/>
                </a:lnTo>
                <a:lnTo>
                  <a:pt x="967" y="219"/>
                </a:lnTo>
                <a:lnTo>
                  <a:pt x="962" y="221"/>
                </a:lnTo>
                <a:lnTo>
                  <a:pt x="956" y="223"/>
                </a:lnTo>
                <a:lnTo>
                  <a:pt x="950" y="225"/>
                </a:lnTo>
                <a:lnTo>
                  <a:pt x="942" y="227"/>
                </a:lnTo>
                <a:lnTo>
                  <a:pt x="933" y="227"/>
                </a:lnTo>
                <a:lnTo>
                  <a:pt x="925" y="229"/>
                </a:lnTo>
                <a:lnTo>
                  <a:pt x="914" y="229"/>
                </a:lnTo>
                <a:lnTo>
                  <a:pt x="904" y="229"/>
                </a:lnTo>
                <a:lnTo>
                  <a:pt x="892" y="230"/>
                </a:lnTo>
                <a:lnTo>
                  <a:pt x="881" y="234"/>
                </a:lnTo>
                <a:lnTo>
                  <a:pt x="867" y="238"/>
                </a:lnTo>
                <a:lnTo>
                  <a:pt x="854" y="244"/>
                </a:lnTo>
                <a:lnTo>
                  <a:pt x="841" y="250"/>
                </a:lnTo>
                <a:lnTo>
                  <a:pt x="827" y="257"/>
                </a:lnTo>
                <a:lnTo>
                  <a:pt x="812" y="265"/>
                </a:lnTo>
                <a:lnTo>
                  <a:pt x="796" y="273"/>
                </a:lnTo>
                <a:lnTo>
                  <a:pt x="781" y="282"/>
                </a:lnTo>
                <a:lnTo>
                  <a:pt x="764" y="292"/>
                </a:lnTo>
                <a:lnTo>
                  <a:pt x="747" y="303"/>
                </a:lnTo>
                <a:lnTo>
                  <a:pt x="729" y="315"/>
                </a:lnTo>
                <a:lnTo>
                  <a:pt x="710" y="328"/>
                </a:lnTo>
                <a:lnTo>
                  <a:pt x="693" y="342"/>
                </a:lnTo>
                <a:lnTo>
                  <a:pt x="674" y="357"/>
                </a:lnTo>
                <a:lnTo>
                  <a:pt x="654" y="3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89"/>
          <p:cNvSpPr/>
          <p:nvPr/>
        </p:nvSpPr>
        <p:spPr>
          <a:xfrm>
            <a:off x="6448320" y="2733840"/>
            <a:ext cx="420840" cy="672840"/>
          </a:xfrm>
          <a:custGeom>
            <a:avLst/>
            <a:gdLst/>
            <a:ahLst/>
            <a:rect l="l" t="t" r="r" b="b"/>
            <a:pathLst>
              <a:path w="530" h="849">
                <a:moveTo>
                  <a:pt x="526" y="114"/>
                </a:moveTo>
                <a:lnTo>
                  <a:pt x="528" y="119"/>
                </a:lnTo>
                <a:lnTo>
                  <a:pt x="530" y="125"/>
                </a:lnTo>
                <a:lnTo>
                  <a:pt x="530" y="131"/>
                </a:lnTo>
                <a:lnTo>
                  <a:pt x="530" y="139"/>
                </a:lnTo>
                <a:lnTo>
                  <a:pt x="530" y="146"/>
                </a:lnTo>
                <a:lnTo>
                  <a:pt x="528" y="156"/>
                </a:lnTo>
                <a:lnTo>
                  <a:pt x="526" y="166"/>
                </a:lnTo>
                <a:lnTo>
                  <a:pt x="524" y="177"/>
                </a:lnTo>
                <a:lnTo>
                  <a:pt x="521" y="189"/>
                </a:lnTo>
                <a:lnTo>
                  <a:pt x="517" y="200"/>
                </a:lnTo>
                <a:lnTo>
                  <a:pt x="513" y="214"/>
                </a:lnTo>
                <a:lnTo>
                  <a:pt x="507" y="229"/>
                </a:lnTo>
                <a:lnTo>
                  <a:pt x="501" y="244"/>
                </a:lnTo>
                <a:lnTo>
                  <a:pt x="494" y="260"/>
                </a:lnTo>
                <a:lnTo>
                  <a:pt x="486" y="277"/>
                </a:lnTo>
                <a:lnTo>
                  <a:pt x="478" y="294"/>
                </a:lnTo>
                <a:lnTo>
                  <a:pt x="461" y="334"/>
                </a:lnTo>
                <a:lnTo>
                  <a:pt x="440" y="373"/>
                </a:lnTo>
                <a:lnTo>
                  <a:pt x="419" y="409"/>
                </a:lnTo>
                <a:lnTo>
                  <a:pt x="396" y="446"/>
                </a:lnTo>
                <a:lnTo>
                  <a:pt x="373" y="482"/>
                </a:lnTo>
                <a:lnTo>
                  <a:pt x="346" y="517"/>
                </a:lnTo>
                <a:lnTo>
                  <a:pt x="319" y="549"/>
                </a:lnTo>
                <a:lnTo>
                  <a:pt x="304" y="565"/>
                </a:lnTo>
                <a:lnTo>
                  <a:pt x="288" y="582"/>
                </a:lnTo>
                <a:lnTo>
                  <a:pt x="273" y="597"/>
                </a:lnTo>
                <a:lnTo>
                  <a:pt x="258" y="613"/>
                </a:lnTo>
                <a:lnTo>
                  <a:pt x="244" y="628"/>
                </a:lnTo>
                <a:lnTo>
                  <a:pt x="231" y="642"/>
                </a:lnTo>
                <a:lnTo>
                  <a:pt x="204" y="670"/>
                </a:lnTo>
                <a:lnTo>
                  <a:pt x="179" y="697"/>
                </a:lnTo>
                <a:lnTo>
                  <a:pt x="158" y="722"/>
                </a:lnTo>
                <a:lnTo>
                  <a:pt x="137" y="745"/>
                </a:lnTo>
                <a:lnTo>
                  <a:pt x="125" y="755"/>
                </a:lnTo>
                <a:lnTo>
                  <a:pt x="116" y="766"/>
                </a:lnTo>
                <a:lnTo>
                  <a:pt x="106" y="776"/>
                </a:lnTo>
                <a:lnTo>
                  <a:pt x="98" y="786"/>
                </a:lnTo>
                <a:lnTo>
                  <a:pt x="89" y="793"/>
                </a:lnTo>
                <a:lnTo>
                  <a:pt x="81" y="803"/>
                </a:lnTo>
                <a:lnTo>
                  <a:pt x="73" y="810"/>
                </a:lnTo>
                <a:lnTo>
                  <a:pt x="66" y="816"/>
                </a:lnTo>
                <a:lnTo>
                  <a:pt x="58" y="822"/>
                </a:lnTo>
                <a:lnTo>
                  <a:pt x="50" y="828"/>
                </a:lnTo>
                <a:lnTo>
                  <a:pt x="43" y="834"/>
                </a:lnTo>
                <a:lnTo>
                  <a:pt x="37" y="837"/>
                </a:lnTo>
                <a:lnTo>
                  <a:pt x="31" y="841"/>
                </a:lnTo>
                <a:lnTo>
                  <a:pt x="25" y="845"/>
                </a:lnTo>
                <a:lnTo>
                  <a:pt x="20" y="847"/>
                </a:lnTo>
                <a:lnTo>
                  <a:pt x="16" y="847"/>
                </a:lnTo>
                <a:lnTo>
                  <a:pt x="12" y="849"/>
                </a:lnTo>
                <a:lnTo>
                  <a:pt x="8" y="849"/>
                </a:lnTo>
                <a:lnTo>
                  <a:pt x="6" y="847"/>
                </a:lnTo>
                <a:lnTo>
                  <a:pt x="2" y="845"/>
                </a:lnTo>
                <a:lnTo>
                  <a:pt x="0" y="845"/>
                </a:lnTo>
                <a:lnTo>
                  <a:pt x="0" y="841"/>
                </a:lnTo>
                <a:lnTo>
                  <a:pt x="0" y="837"/>
                </a:lnTo>
                <a:lnTo>
                  <a:pt x="2" y="832"/>
                </a:lnTo>
                <a:lnTo>
                  <a:pt x="6" y="824"/>
                </a:lnTo>
                <a:lnTo>
                  <a:pt x="10" y="816"/>
                </a:lnTo>
                <a:lnTo>
                  <a:pt x="16" y="805"/>
                </a:lnTo>
                <a:lnTo>
                  <a:pt x="22" y="793"/>
                </a:lnTo>
                <a:lnTo>
                  <a:pt x="29" y="780"/>
                </a:lnTo>
                <a:lnTo>
                  <a:pt x="37" y="764"/>
                </a:lnTo>
                <a:lnTo>
                  <a:pt x="47" y="747"/>
                </a:lnTo>
                <a:lnTo>
                  <a:pt x="56" y="730"/>
                </a:lnTo>
                <a:lnTo>
                  <a:pt x="68" y="709"/>
                </a:lnTo>
                <a:lnTo>
                  <a:pt x="81" y="688"/>
                </a:lnTo>
                <a:lnTo>
                  <a:pt x="95" y="665"/>
                </a:lnTo>
                <a:lnTo>
                  <a:pt x="110" y="642"/>
                </a:lnTo>
                <a:lnTo>
                  <a:pt x="125" y="617"/>
                </a:lnTo>
                <a:lnTo>
                  <a:pt x="141" y="592"/>
                </a:lnTo>
                <a:lnTo>
                  <a:pt x="154" y="569"/>
                </a:lnTo>
                <a:lnTo>
                  <a:pt x="167" y="544"/>
                </a:lnTo>
                <a:lnTo>
                  <a:pt x="181" y="521"/>
                </a:lnTo>
                <a:lnTo>
                  <a:pt x="192" y="498"/>
                </a:lnTo>
                <a:lnTo>
                  <a:pt x="206" y="475"/>
                </a:lnTo>
                <a:lnTo>
                  <a:pt x="217" y="452"/>
                </a:lnTo>
                <a:lnTo>
                  <a:pt x="227" y="428"/>
                </a:lnTo>
                <a:lnTo>
                  <a:pt x="238" y="405"/>
                </a:lnTo>
                <a:lnTo>
                  <a:pt x="248" y="382"/>
                </a:lnTo>
                <a:lnTo>
                  <a:pt x="258" y="359"/>
                </a:lnTo>
                <a:lnTo>
                  <a:pt x="265" y="336"/>
                </a:lnTo>
                <a:lnTo>
                  <a:pt x="275" y="315"/>
                </a:lnTo>
                <a:lnTo>
                  <a:pt x="281" y="292"/>
                </a:lnTo>
                <a:lnTo>
                  <a:pt x="288" y="269"/>
                </a:lnTo>
                <a:lnTo>
                  <a:pt x="294" y="250"/>
                </a:lnTo>
                <a:lnTo>
                  <a:pt x="300" y="231"/>
                </a:lnTo>
                <a:lnTo>
                  <a:pt x="306" y="214"/>
                </a:lnTo>
                <a:lnTo>
                  <a:pt x="310" y="196"/>
                </a:lnTo>
                <a:lnTo>
                  <a:pt x="313" y="179"/>
                </a:lnTo>
                <a:lnTo>
                  <a:pt x="317" y="166"/>
                </a:lnTo>
                <a:lnTo>
                  <a:pt x="321" y="150"/>
                </a:lnTo>
                <a:lnTo>
                  <a:pt x="323" y="139"/>
                </a:lnTo>
                <a:lnTo>
                  <a:pt x="323" y="125"/>
                </a:lnTo>
                <a:lnTo>
                  <a:pt x="325" y="116"/>
                </a:lnTo>
                <a:lnTo>
                  <a:pt x="325" y="106"/>
                </a:lnTo>
                <a:lnTo>
                  <a:pt x="323" y="98"/>
                </a:lnTo>
                <a:lnTo>
                  <a:pt x="321" y="91"/>
                </a:lnTo>
                <a:lnTo>
                  <a:pt x="319" y="85"/>
                </a:lnTo>
                <a:lnTo>
                  <a:pt x="315" y="81"/>
                </a:lnTo>
                <a:lnTo>
                  <a:pt x="311" y="77"/>
                </a:lnTo>
                <a:lnTo>
                  <a:pt x="304" y="73"/>
                </a:lnTo>
                <a:lnTo>
                  <a:pt x="296" y="68"/>
                </a:lnTo>
                <a:lnTo>
                  <a:pt x="290" y="60"/>
                </a:lnTo>
                <a:lnTo>
                  <a:pt x="286" y="52"/>
                </a:lnTo>
                <a:lnTo>
                  <a:pt x="285" y="45"/>
                </a:lnTo>
                <a:lnTo>
                  <a:pt x="285" y="41"/>
                </a:lnTo>
                <a:lnTo>
                  <a:pt x="285" y="35"/>
                </a:lnTo>
                <a:lnTo>
                  <a:pt x="285" y="31"/>
                </a:lnTo>
                <a:lnTo>
                  <a:pt x="285" y="27"/>
                </a:lnTo>
                <a:lnTo>
                  <a:pt x="286" y="22"/>
                </a:lnTo>
                <a:lnTo>
                  <a:pt x="288" y="18"/>
                </a:lnTo>
                <a:lnTo>
                  <a:pt x="290" y="14"/>
                </a:lnTo>
                <a:lnTo>
                  <a:pt x="294" y="10"/>
                </a:lnTo>
                <a:lnTo>
                  <a:pt x="298" y="6"/>
                </a:lnTo>
                <a:lnTo>
                  <a:pt x="302" y="4"/>
                </a:lnTo>
                <a:lnTo>
                  <a:pt x="308" y="2"/>
                </a:lnTo>
                <a:lnTo>
                  <a:pt x="311" y="0"/>
                </a:lnTo>
                <a:lnTo>
                  <a:pt x="319" y="0"/>
                </a:lnTo>
                <a:lnTo>
                  <a:pt x="325" y="0"/>
                </a:lnTo>
                <a:lnTo>
                  <a:pt x="333" y="0"/>
                </a:lnTo>
                <a:lnTo>
                  <a:pt x="342" y="0"/>
                </a:lnTo>
                <a:lnTo>
                  <a:pt x="350" y="2"/>
                </a:lnTo>
                <a:lnTo>
                  <a:pt x="359" y="4"/>
                </a:lnTo>
                <a:lnTo>
                  <a:pt x="371" y="6"/>
                </a:lnTo>
                <a:lnTo>
                  <a:pt x="382" y="10"/>
                </a:lnTo>
                <a:lnTo>
                  <a:pt x="394" y="14"/>
                </a:lnTo>
                <a:lnTo>
                  <a:pt x="407" y="18"/>
                </a:lnTo>
                <a:lnTo>
                  <a:pt x="419" y="25"/>
                </a:lnTo>
                <a:lnTo>
                  <a:pt x="432" y="31"/>
                </a:lnTo>
                <a:lnTo>
                  <a:pt x="444" y="37"/>
                </a:lnTo>
                <a:lnTo>
                  <a:pt x="453" y="43"/>
                </a:lnTo>
                <a:lnTo>
                  <a:pt x="463" y="48"/>
                </a:lnTo>
                <a:lnTo>
                  <a:pt x="473" y="54"/>
                </a:lnTo>
                <a:lnTo>
                  <a:pt x="480" y="60"/>
                </a:lnTo>
                <a:lnTo>
                  <a:pt x="488" y="66"/>
                </a:lnTo>
                <a:lnTo>
                  <a:pt x="496" y="71"/>
                </a:lnTo>
                <a:lnTo>
                  <a:pt x="501" y="77"/>
                </a:lnTo>
                <a:lnTo>
                  <a:pt x="507" y="83"/>
                </a:lnTo>
                <a:lnTo>
                  <a:pt x="513" y="89"/>
                </a:lnTo>
                <a:lnTo>
                  <a:pt x="517" y="94"/>
                </a:lnTo>
                <a:lnTo>
                  <a:pt x="521" y="100"/>
                </a:lnTo>
                <a:lnTo>
                  <a:pt x="523" y="108"/>
                </a:lnTo>
                <a:lnTo>
                  <a:pt x="526" y="1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90"/>
          <p:cNvSpPr/>
          <p:nvPr/>
        </p:nvSpPr>
        <p:spPr>
          <a:xfrm>
            <a:off x="5916600" y="3325680"/>
            <a:ext cx="468360" cy="649440"/>
          </a:xfrm>
          <a:custGeom>
            <a:avLst/>
            <a:gdLst/>
            <a:ahLst/>
            <a:rect l="l" t="t" r="r" b="b"/>
            <a:pathLst>
              <a:path w="591" h="818">
                <a:moveTo>
                  <a:pt x="351" y="254"/>
                </a:moveTo>
                <a:lnTo>
                  <a:pt x="364" y="238"/>
                </a:lnTo>
                <a:lnTo>
                  <a:pt x="376" y="221"/>
                </a:lnTo>
                <a:lnTo>
                  <a:pt x="389" y="206"/>
                </a:lnTo>
                <a:lnTo>
                  <a:pt x="401" y="190"/>
                </a:lnTo>
                <a:lnTo>
                  <a:pt x="412" y="177"/>
                </a:lnTo>
                <a:lnTo>
                  <a:pt x="424" y="163"/>
                </a:lnTo>
                <a:lnTo>
                  <a:pt x="435" y="150"/>
                </a:lnTo>
                <a:lnTo>
                  <a:pt x="447" y="136"/>
                </a:lnTo>
                <a:lnTo>
                  <a:pt x="456" y="125"/>
                </a:lnTo>
                <a:lnTo>
                  <a:pt x="466" y="113"/>
                </a:lnTo>
                <a:lnTo>
                  <a:pt x="476" y="102"/>
                </a:lnTo>
                <a:lnTo>
                  <a:pt x="485" y="92"/>
                </a:lnTo>
                <a:lnTo>
                  <a:pt x="495" y="81"/>
                </a:lnTo>
                <a:lnTo>
                  <a:pt x="502" y="73"/>
                </a:lnTo>
                <a:lnTo>
                  <a:pt x="510" y="63"/>
                </a:lnTo>
                <a:lnTo>
                  <a:pt x="518" y="56"/>
                </a:lnTo>
                <a:lnTo>
                  <a:pt x="526" y="48"/>
                </a:lnTo>
                <a:lnTo>
                  <a:pt x="533" y="40"/>
                </a:lnTo>
                <a:lnTo>
                  <a:pt x="539" y="35"/>
                </a:lnTo>
                <a:lnTo>
                  <a:pt x="545" y="29"/>
                </a:lnTo>
                <a:lnTo>
                  <a:pt x="550" y="23"/>
                </a:lnTo>
                <a:lnTo>
                  <a:pt x="556" y="19"/>
                </a:lnTo>
                <a:lnTo>
                  <a:pt x="562" y="14"/>
                </a:lnTo>
                <a:lnTo>
                  <a:pt x="566" y="12"/>
                </a:lnTo>
                <a:lnTo>
                  <a:pt x="570" y="8"/>
                </a:lnTo>
                <a:lnTo>
                  <a:pt x="574" y="6"/>
                </a:lnTo>
                <a:lnTo>
                  <a:pt x="577" y="4"/>
                </a:lnTo>
                <a:lnTo>
                  <a:pt x="581" y="2"/>
                </a:lnTo>
                <a:lnTo>
                  <a:pt x="583" y="2"/>
                </a:lnTo>
                <a:lnTo>
                  <a:pt x="585" y="0"/>
                </a:lnTo>
                <a:lnTo>
                  <a:pt x="587" y="2"/>
                </a:lnTo>
                <a:lnTo>
                  <a:pt x="589" y="2"/>
                </a:lnTo>
                <a:lnTo>
                  <a:pt x="589" y="4"/>
                </a:lnTo>
                <a:lnTo>
                  <a:pt x="589" y="8"/>
                </a:lnTo>
                <a:lnTo>
                  <a:pt x="591" y="12"/>
                </a:lnTo>
                <a:lnTo>
                  <a:pt x="589" y="17"/>
                </a:lnTo>
                <a:lnTo>
                  <a:pt x="589" y="21"/>
                </a:lnTo>
                <a:lnTo>
                  <a:pt x="587" y="29"/>
                </a:lnTo>
                <a:lnTo>
                  <a:pt x="585" y="35"/>
                </a:lnTo>
                <a:lnTo>
                  <a:pt x="583" y="42"/>
                </a:lnTo>
                <a:lnTo>
                  <a:pt x="581" y="50"/>
                </a:lnTo>
                <a:lnTo>
                  <a:pt x="577" y="60"/>
                </a:lnTo>
                <a:lnTo>
                  <a:pt x="574" y="69"/>
                </a:lnTo>
                <a:lnTo>
                  <a:pt x="570" y="79"/>
                </a:lnTo>
                <a:lnTo>
                  <a:pt x="566" y="90"/>
                </a:lnTo>
                <a:lnTo>
                  <a:pt x="560" y="102"/>
                </a:lnTo>
                <a:lnTo>
                  <a:pt x="554" y="113"/>
                </a:lnTo>
                <a:lnTo>
                  <a:pt x="549" y="127"/>
                </a:lnTo>
                <a:lnTo>
                  <a:pt x="543" y="140"/>
                </a:lnTo>
                <a:lnTo>
                  <a:pt x="535" y="154"/>
                </a:lnTo>
                <a:lnTo>
                  <a:pt x="529" y="169"/>
                </a:lnTo>
                <a:lnTo>
                  <a:pt x="520" y="184"/>
                </a:lnTo>
                <a:lnTo>
                  <a:pt x="512" y="200"/>
                </a:lnTo>
                <a:lnTo>
                  <a:pt x="502" y="217"/>
                </a:lnTo>
                <a:lnTo>
                  <a:pt x="495" y="234"/>
                </a:lnTo>
                <a:lnTo>
                  <a:pt x="483" y="254"/>
                </a:lnTo>
                <a:lnTo>
                  <a:pt x="474" y="271"/>
                </a:lnTo>
                <a:lnTo>
                  <a:pt x="462" y="292"/>
                </a:lnTo>
                <a:lnTo>
                  <a:pt x="451" y="311"/>
                </a:lnTo>
                <a:lnTo>
                  <a:pt x="439" y="332"/>
                </a:lnTo>
                <a:lnTo>
                  <a:pt x="428" y="353"/>
                </a:lnTo>
                <a:lnTo>
                  <a:pt x="414" y="376"/>
                </a:lnTo>
                <a:lnTo>
                  <a:pt x="401" y="399"/>
                </a:lnTo>
                <a:lnTo>
                  <a:pt x="387" y="422"/>
                </a:lnTo>
                <a:lnTo>
                  <a:pt x="372" y="447"/>
                </a:lnTo>
                <a:lnTo>
                  <a:pt x="359" y="470"/>
                </a:lnTo>
                <a:lnTo>
                  <a:pt x="345" y="493"/>
                </a:lnTo>
                <a:lnTo>
                  <a:pt x="332" y="515"/>
                </a:lnTo>
                <a:lnTo>
                  <a:pt x="320" y="536"/>
                </a:lnTo>
                <a:lnTo>
                  <a:pt x="309" y="557"/>
                </a:lnTo>
                <a:lnTo>
                  <a:pt x="295" y="576"/>
                </a:lnTo>
                <a:lnTo>
                  <a:pt x="284" y="595"/>
                </a:lnTo>
                <a:lnTo>
                  <a:pt x="274" y="614"/>
                </a:lnTo>
                <a:lnTo>
                  <a:pt x="263" y="632"/>
                </a:lnTo>
                <a:lnTo>
                  <a:pt x="253" y="647"/>
                </a:lnTo>
                <a:lnTo>
                  <a:pt x="243" y="664"/>
                </a:lnTo>
                <a:lnTo>
                  <a:pt x="234" y="678"/>
                </a:lnTo>
                <a:lnTo>
                  <a:pt x="224" y="693"/>
                </a:lnTo>
                <a:lnTo>
                  <a:pt x="215" y="707"/>
                </a:lnTo>
                <a:lnTo>
                  <a:pt x="207" y="720"/>
                </a:lnTo>
                <a:lnTo>
                  <a:pt x="197" y="731"/>
                </a:lnTo>
                <a:lnTo>
                  <a:pt x="190" y="743"/>
                </a:lnTo>
                <a:lnTo>
                  <a:pt x="182" y="753"/>
                </a:lnTo>
                <a:lnTo>
                  <a:pt x="174" y="762"/>
                </a:lnTo>
                <a:lnTo>
                  <a:pt x="169" y="772"/>
                </a:lnTo>
                <a:lnTo>
                  <a:pt x="161" y="779"/>
                </a:lnTo>
                <a:lnTo>
                  <a:pt x="155" y="787"/>
                </a:lnTo>
                <a:lnTo>
                  <a:pt x="149" y="793"/>
                </a:lnTo>
                <a:lnTo>
                  <a:pt x="144" y="799"/>
                </a:lnTo>
                <a:lnTo>
                  <a:pt x="138" y="804"/>
                </a:lnTo>
                <a:lnTo>
                  <a:pt x="134" y="808"/>
                </a:lnTo>
                <a:lnTo>
                  <a:pt x="128" y="812"/>
                </a:lnTo>
                <a:lnTo>
                  <a:pt x="124" y="814"/>
                </a:lnTo>
                <a:lnTo>
                  <a:pt x="121" y="816"/>
                </a:lnTo>
                <a:lnTo>
                  <a:pt x="117" y="818"/>
                </a:lnTo>
                <a:lnTo>
                  <a:pt x="113" y="818"/>
                </a:lnTo>
                <a:lnTo>
                  <a:pt x="107" y="816"/>
                </a:lnTo>
                <a:lnTo>
                  <a:pt x="99" y="816"/>
                </a:lnTo>
                <a:lnTo>
                  <a:pt x="94" y="812"/>
                </a:lnTo>
                <a:lnTo>
                  <a:pt x="88" y="808"/>
                </a:lnTo>
                <a:lnTo>
                  <a:pt x="82" y="802"/>
                </a:lnTo>
                <a:lnTo>
                  <a:pt x="76" y="797"/>
                </a:lnTo>
                <a:lnTo>
                  <a:pt x="73" y="789"/>
                </a:lnTo>
                <a:lnTo>
                  <a:pt x="67" y="781"/>
                </a:lnTo>
                <a:lnTo>
                  <a:pt x="61" y="772"/>
                </a:lnTo>
                <a:lnTo>
                  <a:pt x="57" y="760"/>
                </a:lnTo>
                <a:lnTo>
                  <a:pt x="53" y="749"/>
                </a:lnTo>
                <a:lnTo>
                  <a:pt x="48" y="737"/>
                </a:lnTo>
                <a:lnTo>
                  <a:pt x="44" y="722"/>
                </a:lnTo>
                <a:lnTo>
                  <a:pt x="38" y="707"/>
                </a:lnTo>
                <a:lnTo>
                  <a:pt x="34" y="691"/>
                </a:lnTo>
                <a:lnTo>
                  <a:pt x="30" y="674"/>
                </a:lnTo>
                <a:lnTo>
                  <a:pt x="25" y="659"/>
                </a:lnTo>
                <a:lnTo>
                  <a:pt x="19" y="643"/>
                </a:lnTo>
                <a:lnTo>
                  <a:pt x="13" y="630"/>
                </a:lnTo>
                <a:lnTo>
                  <a:pt x="9" y="616"/>
                </a:lnTo>
                <a:lnTo>
                  <a:pt x="7" y="603"/>
                </a:lnTo>
                <a:lnTo>
                  <a:pt x="3" y="591"/>
                </a:lnTo>
                <a:lnTo>
                  <a:pt x="2" y="580"/>
                </a:lnTo>
                <a:lnTo>
                  <a:pt x="0" y="568"/>
                </a:lnTo>
                <a:lnTo>
                  <a:pt x="0" y="559"/>
                </a:lnTo>
                <a:lnTo>
                  <a:pt x="0" y="551"/>
                </a:lnTo>
                <a:lnTo>
                  <a:pt x="0" y="543"/>
                </a:lnTo>
                <a:lnTo>
                  <a:pt x="0" y="536"/>
                </a:lnTo>
                <a:lnTo>
                  <a:pt x="2" y="530"/>
                </a:lnTo>
                <a:lnTo>
                  <a:pt x="2" y="524"/>
                </a:lnTo>
                <a:lnTo>
                  <a:pt x="3" y="520"/>
                </a:lnTo>
                <a:lnTo>
                  <a:pt x="5" y="518"/>
                </a:lnTo>
                <a:lnTo>
                  <a:pt x="11" y="515"/>
                </a:lnTo>
                <a:lnTo>
                  <a:pt x="17" y="511"/>
                </a:lnTo>
                <a:lnTo>
                  <a:pt x="25" y="509"/>
                </a:lnTo>
                <a:lnTo>
                  <a:pt x="32" y="509"/>
                </a:lnTo>
                <a:lnTo>
                  <a:pt x="40" y="509"/>
                </a:lnTo>
                <a:lnTo>
                  <a:pt x="48" y="511"/>
                </a:lnTo>
                <a:lnTo>
                  <a:pt x="57" y="515"/>
                </a:lnTo>
                <a:lnTo>
                  <a:pt x="65" y="518"/>
                </a:lnTo>
                <a:lnTo>
                  <a:pt x="71" y="522"/>
                </a:lnTo>
                <a:lnTo>
                  <a:pt x="76" y="526"/>
                </a:lnTo>
                <a:lnTo>
                  <a:pt x="82" y="530"/>
                </a:lnTo>
                <a:lnTo>
                  <a:pt x="90" y="534"/>
                </a:lnTo>
                <a:lnTo>
                  <a:pt x="96" y="534"/>
                </a:lnTo>
                <a:lnTo>
                  <a:pt x="103" y="536"/>
                </a:lnTo>
                <a:lnTo>
                  <a:pt x="105" y="534"/>
                </a:lnTo>
                <a:lnTo>
                  <a:pt x="107" y="534"/>
                </a:lnTo>
                <a:lnTo>
                  <a:pt x="111" y="532"/>
                </a:lnTo>
                <a:lnTo>
                  <a:pt x="113" y="530"/>
                </a:lnTo>
                <a:lnTo>
                  <a:pt x="117" y="526"/>
                </a:lnTo>
                <a:lnTo>
                  <a:pt x="121" y="522"/>
                </a:lnTo>
                <a:lnTo>
                  <a:pt x="126" y="515"/>
                </a:lnTo>
                <a:lnTo>
                  <a:pt x="136" y="507"/>
                </a:lnTo>
                <a:lnTo>
                  <a:pt x="145" y="497"/>
                </a:lnTo>
                <a:lnTo>
                  <a:pt x="157" y="486"/>
                </a:lnTo>
                <a:lnTo>
                  <a:pt x="163" y="478"/>
                </a:lnTo>
                <a:lnTo>
                  <a:pt x="169" y="470"/>
                </a:lnTo>
                <a:lnTo>
                  <a:pt x="176" y="463"/>
                </a:lnTo>
                <a:lnTo>
                  <a:pt x="184" y="455"/>
                </a:lnTo>
                <a:lnTo>
                  <a:pt x="192" y="447"/>
                </a:lnTo>
                <a:lnTo>
                  <a:pt x="199" y="438"/>
                </a:lnTo>
                <a:lnTo>
                  <a:pt x="209" y="428"/>
                </a:lnTo>
                <a:lnTo>
                  <a:pt x="216" y="419"/>
                </a:lnTo>
                <a:lnTo>
                  <a:pt x="226" y="407"/>
                </a:lnTo>
                <a:lnTo>
                  <a:pt x="236" y="396"/>
                </a:lnTo>
                <a:lnTo>
                  <a:pt x="245" y="384"/>
                </a:lnTo>
                <a:lnTo>
                  <a:pt x="257" y="373"/>
                </a:lnTo>
                <a:lnTo>
                  <a:pt x="266" y="359"/>
                </a:lnTo>
                <a:lnTo>
                  <a:pt x="278" y="346"/>
                </a:lnTo>
                <a:lnTo>
                  <a:pt x="289" y="332"/>
                </a:lnTo>
                <a:lnTo>
                  <a:pt x="301" y="317"/>
                </a:lnTo>
                <a:lnTo>
                  <a:pt x="312" y="301"/>
                </a:lnTo>
                <a:lnTo>
                  <a:pt x="326" y="286"/>
                </a:lnTo>
                <a:lnTo>
                  <a:pt x="337" y="271"/>
                </a:lnTo>
                <a:lnTo>
                  <a:pt x="351" y="2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91"/>
          <p:cNvSpPr/>
          <p:nvPr/>
        </p:nvSpPr>
        <p:spPr>
          <a:xfrm>
            <a:off x="5978520" y="3051000"/>
            <a:ext cx="282600" cy="268560"/>
          </a:xfrm>
          <a:custGeom>
            <a:avLst/>
            <a:gdLst/>
            <a:ahLst/>
            <a:rect l="l" t="t" r="r" b="b"/>
            <a:pathLst>
              <a:path w="355" h="337">
                <a:moveTo>
                  <a:pt x="250" y="59"/>
                </a:moveTo>
                <a:lnTo>
                  <a:pt x="261" y="67"/>
                </a:lnTo>
                <a:lnTo>
                  <a:pt x="275" y="74"/>
                </a:lnTo>
                <a:lnTo>
                  <a:pt x="284" y="82"/>
                </a:lnTo>
                <a:lnTo>
                  <a:pt x="296" y="92"/>
                </a:lnTo>
                <a:lnTo>
                  <a:pt x="305" y="99"/>
                </a:lnTo>
                <a:lnTo>
                  <a:pt x="313" y="109"/>
                </a:lnTo>
                <a:lnTo>
                  <a:pt x="323" y="119"/>
                </a:lnTo>
                <a:lnTo>
                  <a:pt x="329" y="128"/>
                </a:lnTo>
                <a:lnTo>
                  <a:pt x="336" y="140"/>
                </a:lnTo>
                <a:lnTo>
                  <a:pt x="340" y="149"/>
                </a:lnTo>
                <a:lnTo>
                  <a:pt x="346" y="161"/>
                </a:lnTo>
                <a:lnTo>
                  <a:pt x="350" y="170"/>
                </a:lnTo>
                <a:lnTo>
                  <a:pt x="352" y="182"/>
                </a:lnTo>
                <a:lnTo>
                  <a:pt x="353" y="193"/>
                </a:lnTo>
                <a:lnTo>
                  <a:pt x="355" y="205"/>
                </a:lnTo>
                <a:lnTo>
                  <a:pt x="355" y="217"/>
                </a:lnTo>
                <a:lnTo>
                  <a:pt x="353" y="228"/>
                </a:lnTo>
                <a:lnTo>
                  <a:pt x="352" y="241"/>
                </a:lnTo>
                <a:lnTo>
                  <a:pt x="350" y="253"/>
                </a:lnTo>
                <a:lnTo>
                  <a:pt x="348" y="263"/>
                </a:lnTo>
                <a:lnTo>
                  <a:pt x="346" y="272"/>
                </a:lnTo>
                <a:lnTo>
                  <a:pt x="342" y="282"/>
                </a:lnTo>
                <a:lnTo>
                  <a:pt x="340" y="289"/>
                </a:lnTo>
                <a:lnTo>
                  <a:pt x="338" y="297"/>
                </a:lnTo>
                <a:lnTo>
                  <a:pt x="336" y="305"/>
                </a:lnTo>
                <a:lnTo>
                  <a:pt x="334" y="311"/>
                </a:lnTo>
                <a:lnTo>
                  <a:pt x="332" y="316"/>
                </a:lnTo>
                <a:lnTo>
                  <a:pt x="329" y="322"/>
                </a:lnTo>
                <a:lnTo>
                  <a:pt x="327" y="326"/>
                </a:lnTo>
                <a:lnTo>
                  <a:pt x="325" y="330"/>
                </a:lnTo>
                <a:lnTo>
                  <a:pt x="323" y="332"/>
                </a:lnTo>
                <a:lnTo>
                  <a:pt x="321" y="336"/>
                </a:lnTo>
                <a:lnTo>
                  <a:pt x="315" y="337"/>
                </a:lnTo>
                <a:lnTo>
                  <a:pt x="309" y="337"/>
                </a:lnTo>
                <a:lnTo>
                  <a:pt x="304" y="336"/>
                </a:lnTo>
                <a:lnTo>
                  <a:pt x="296" y="334"/>
                </a:lnTo>
                <a:lnTo>
                  <a:pt x="288" y="330"/>
                </a:lnTo>
                <a:lnTo>
                  <a:pt x="279" y="324"/>
                </a:lnTo>
                <a:lnTo>
                  <a:pt x="269" y="318"/>
                </a:lnTo>
                <a:lnTo>
                  <a:pt x="257" y="311"/>
                </a:lnTo>
                <a:lnTo>
                  <a:pt x="246" y="301"/>
                </a:lnTo>
                <a:lnTo>
                  <a:pt x="234" y="291"/>
                </a:lnTo>
                <a:lnTo>
                  <a:pt x="221" y="280"/>
                </a:lnTo>
                <a:lnTo>
                  <a:pt x="206" y="266"/>
                </a:lnTo>
                <a:lnTo>
                  <a:pt x="192" y="253"/>
                </a:lnTo>
                <a:lnTo>
                  <a:pt x="175" y="238"/>
                </a:lnTo>
                <a:lnTo>
                  <a:pt x="160" y="220"/>
                </a:lnTo>
                <a:lnTo>
                  <a:pt x="142" y="203"/>
                </a:lnTo>
                <a:lnTo>
                  <a:pt x="125" y="186"/>
                </a:lnTo>
                <a:lnTo>
                  <a:pt x="110" y="169"/>
                </a:lnTo>
                <a:lnTo>
                  <a:pt x="94" y="153"/>
                </a:lnTo>
                <a:lnTo>
                  <a:pt x="79" y="138"/>
                </a:lnTo>
                <a:lnTo>
                  <a:pt x="67" y="124"/>
                </a:lnTo>
                <a:lnTo>
                  <a:pt x="56" y="111"/>
                </a:lnTo>
                <a:lnTo>
                  <a:pt x="44" y="98"/>
                </a:lnTo>
                <a:lnTo>
                  <a:pt x="35" y="86"/>
                </a:lnTo>
                <a:lnTo>
                  <a:pt x="27" y="76"/>
                </a:lnTo>
                <a:lnTo>
                  <a:pt x="19" y="65"/>
                </a:lnTo>
                <a:lnTo>
                  <a:pt x="14" y="57"/>
                </a:lnTo>
                <a:lnTo>
                  <a:pt x="8" y="48"/>
                </a:lnTo>
                <a:lnTo>
                  <a:pt x="4" y="40"/>
                </a:lnTo>
                <a:lnTo>
                  <a:pt x="2" y="34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2" y="17"/>
                </a:lnTo>
                <a:lnTo>
                  <a:pt x="4" y="15"/>
                </a:lnTo>
                <a:lnTo>
                  <a:pt x="6" y="13"/>
                </a:lnTo>
                <a:lnTo>
                  <a:pt x="10" y="11"/>
                </a:lnTo>
                <a:lnTo>
                  <a:pt x="14" y="9"/>
                </a:lnTo>
                <a:lnTo>
                  <a:pt x="18" y="7"/>
                </a:lnTo>
                <a:lnTo>
                  <a:pt x="21" y="5"/>
                </a:lnTo>
                <a:lnTo>
                  <a:pt x="27" y="3"/>
                </a:lnTo>
                <a:lnTo>
                  <a:pt x="33" y="3"/>
                </a:lnTo>
                <a:lnTo>
                  <a:pt x="41" y="2"/>
                </a:lnTo>
                <a:lnTo>
                  <a:pt x="46" y="2"/>
                </a:lnTo>
                <a:lnTo>
                  <a:pt x="54" y="0"/>
                </a:lnTo>
                <a:lnTo>
                  <a:pt x="62" y="0"/>
                </a:lnTo>
                <a:lnTo>
                  <a:pt x="71" y="0"/>
                </a:lnTo>
                <a:lnTo>
                  <a:pt x="79" y="0"/>
                </a:lnTo>
                <a:lnTo>
                  <a:pt x="89" y="2"/>
                </a:lnTo>
                <a:lnTo>
                  <a:pt x="98" y="2"/>
                </a:lnTo>
                <a:lnTo>
                  <a:pt x="110" y="3"/>
                </a:lnTo>
                <a:lnTo>
                  <a:pt x="119" y="5"/>
                </a:lnTo>
                <a:lnTo>
                  <a:pt x="129" y="9"/>
                </a:lnTo>
                <a:lnTo>
                  <a:pt x="152" y="17"/>
                </a:lnTo>
                <a:lnTo>
                  <a:pt x="173" y="25"/>
                </a:lnTo>
                <a:lnTo>
                  <a:pt x="198" y="34"/>
                </a:lnTo>
                <a:lnTo>
                  <a:pt x="223" y="46"/>
                </a:lnTo>
                <a:lnTo>
                  <a:pt x="250" y="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扶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4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扌”的竖钩要长，“夫”的捺要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64"/>
          <p:cNvSpPr/>
          <p:nvPr/>
        </p:nvSpPr>
        <p:spPr>
          <a:xfrm>
            <a:off x="6823080" y="3900600"/>
            <a:ext cx="923760" cy="950760"/>
          </a:xfrm>
          <a:custGeom>
            <a:avLst/>
            <a:gdLst/>
            <a:ahLst/>
            <a:rect l="l" t="t" r="r" b="b"/>
            <a:pathLst>
              <a:path w="1163" h="1197">
                <a:moveTo>
                  <a:pt x="553" y="714"/>
                </a:moveTo>
                <a:lnTo>
                  <a:pt x="570" y="731"/>
                </a:lnTo>
                <a:lnTo>
                  <a:pt x="589" y="750"/>
                </a:lnTo>
                <a:lnTo>
                  <a:pt x="608" y="768"/>
                </a:lnTo>
                <a:lnTo>
                  <a:pt x="628" y="785"/>
                </a:lnTo>
                <a:lnTo>
                  <a:pt x="649" y="802"/>
                </a:lnTo>
                <a:lnTo>
                  <a:pt x="670" y="819"/>
                </a:lnTo>
                <a:lnTo>
                  <a:pt x="693" y="837"/>
                </a:lnTo>
                <a:lnTo>
                  <a:pt x="716" y="854"/>
                </a:lnTo>
                <a:lnTo>
                  <a:pt x="741" y="871"/>
                </a:lnTo>
                <a:lnTo>
                  <a:pt x="766" y="888"/>
                </a:lnTo>
                <a:lnTo>
                  <a:pt x="791" y="906"/>
                </a:lnTo>
                <a:lnTo>
                  <a:pt x="818" y="923"/>
                </a:lnTo>
                <a:lnTo>
                  <a:pt x="846" y="940"/>
                </a:lnTo>
                <a:lnTo>
                  <a:pt x="873" y="958"/>
                </a:lnTo>
                <a:lnTo>
                  <a:pt x="902" y="975"/>
                </a:lnTo>
                <a:lnTo>
                  <a:pt x="933" y="992"/>
                </a:lnTo>
                <a:lnTo>
                  <a:pt x="960" y="1009"/>
                </a:lnTo>
                <a:lnTo>
                  <a:pt x="985" y="1025"/>
                </a:lnTo>
                <a:lnTo>
                  <a:pt x="1009" y="1040"/>
                </a:lnTo>
                <a:lnTo>
                  <a:pt x="1031" y="1054"/>
                </a:lnTo>
                <a:lnTo>
                  <a:pt x="1052" y="1065"/>
                </a:lnTo>
                <a:lnTo>
                  <a:pt x="1071" y="1077"/>
                </a:lnTo>
                <a:lnTo>
                  <a:pt x="1088" y="1086"/>
                </a:lnTo>
                <a:lnTo>
                  <a:pt x="1104" y="1096"/>
                </a:lnTo>
                <a:lnTo>
                  <a:pt x="1117" y="1103"/>
                </a:lnTo>
                <a:lnTo>
                  <a:pt x="1128" y="1111"/>
                </a:lnTo>
                <a:lnTo>
                  <a:pt x="1140" y="1119"/>
                </a:lnTo>
                <a:lnTo>
                  <a:pt x="1148" y="1123"/>
                </a:lnTo>
                <a:lnTo>
                  <a:pt x="1153" y="1128"/>
                </a:lnTo>
                <a:lnTo>
                  <a:pt x="1159" y="1132"/>
                </a:lnTo>
                <a:lnTo>
                  <a:pt x="1161" y="1136"/>
                </a:lnTo>
                <a:lnTo>
                  <a:pt x="1163" y="1138"/>
                </a:lnTo>
                <a:lnTo>
                  <a:pt x="1163" y="1142"/>
                </a:lnTo>
                <a:lnTo>
                  <a:pt x="1161" y="1144"/>
                </a:lnTo>
                <a:lnTo>
                  <a:pt x="1161" y="1146"/>
                </a:lnTo>
                <a:lnTo>
                  <a:pt x="1159" y="1148"/>
                </a:lnTo>
                <a:lnTo>
                  <a:pt x="1153" y="1153"/>
                </a:lnTo>
                <a:lnTo>
                  <a:pt x="1148" y="1159"/>
                </a:lnTo>
                <a:lnTo>
                  <a:pt x="1138" y="1163"/>
                </a:lnTo>
                <a:lnTo>
                  <a:pt x="1128" y="1169"/>
                </a:lnTo>
                <a:lnTo>
                  <a:pt x="1117" y="1173"/>
                </a:lnTo>
                <a:lnTo>
                  <a:pt x="1105" y="1178"/>
                </a:lnTo>
                <a:lnTo>
                  <a:pt x="1096" y="1180"/>
                </a:lnTo>
                <a:lnTo>
                  <a:pt x="1086" y="1184"/>
                </a:lnTo>
                <a:lnTo>
                  <a:pt x="1075" y="1186"/>
                </a:lnTo>
                <a:lnTo>
                  <a:pt x="1061" y="1188"/>
                </a:lnTo>
                <a:lnTo>
                  <a:pt x="1048" y="1190"/>
                </a:lnTo>
                <a:lnTo>
                  <a:pt x="1033" y="1192"/>
                </a:lnTo>
                <a:lnTo>
                  <a:pt x="1017" y="1194"/>
                </a:lnTo>
                <a:lnTo>
                  <a:pt x="1000" y="1196"/>
                </a:lnTo>
                <a:lnTo>
                  <a:pt x="983" y="1196"/>
                </a:lnTo>
                <a:lnTo>
                  <a:pt x="962" y="1197"/>
                </a:lnTo>
                <a:lnTo>
                  <a:pt x="940" y="1197"/>
                </a:lnTo>
                <a:lnTo>
                  <a:pt x="919" y="1197"/>
                </a:lnTo>
                <a:lnTo>
                  <a:pt x="896" y="1197"/>
                </a:lnTo>
                <a:lnTo>
                  <a:pt x="871" y="1196"/>
                </a:lnTo>
                <a:lnTo>
                  <a:pt x="844" y="1194"/>
                </a:lnTo>
                <a:lnTo>
                  <a:pt x="818" y="1192"/>
                </a:lnTo>
                <a:lnTo>
                  <a:pt x="791" y="1190"/>
                </a:lnTo>
                <a:lnTo>
                  <a:pt x="764" y="1186"/>
                </a:lnTo>
                <a:lnTo>
                  <a:pt x="739" y="1182"/>
                </a:lnTo>
                <a:lnTo>
                  <a:pt x="716" y="1178"/>
                </a:lnTo>
                <a:lnTo>
                  <a:pt x="695" y="1174"/>
                </a:lnTo>
                <a:lnTo>
                  <a:pt x="674" y="1171"/>
                </a:lnTo>
                <a:lnTo>
                  <a:pt x="654" y="1165"/>
                </a:lnTo>
                <a:lnTo>
                  <a:pt x="635" y="1159"/>
                </a:lnTo>
                <a:lnTo>
                  <a:pt x="620" y="1153"/>
                </a:lnTo>
                <a:lnTo>
                  <a:pt x="604" y="1148"/>
                </a:lnTo>
                <a:lnTo>
                  <a:pt x="591" y="1142"/>
                </a:lnTo>
                <a:lnTo>
                  <a:pt x="578" y="1134"/>
                </a:lnTo>
                <a:lnTo>
                  <a:pt x="566" y="1126"/>
                </a:lnTo>
                <a:lnTo>
                  <a:pt x="556" y="1117"/>
                </a:lnTo>
                <a:lnTo>
                  <a:pt x="549" y="1109"/>
                </a:lnTo>
                <a:lnTo>
                  <a:pt x="541" y="1100"/>
                </a:lnTo>
                <a:lnTo>
                  <a:pt x="537" y="1094"/>
                </a:lnTo>
                <a:lnTo>
                  <a:pt x="533" y="1088"/>
                </a:lnTo>
                <a:lnTo>
                  <a:pt x="528" y="1078"/>
                </a:lnTo>
                <a:lnTo>
                  <a:pt x="522" y="1069"/>
                </a:lnTo>
                <a:lnTo>
                  <a:pt x="514" y="1057"/>
                </a:lnTo>
                <a:lnTo>
                  <a:pt x="507" y="1044"/>
                </a:lnTo>
                <a:lnTo>
                  <a:pt x="497" y="1027"/>
                </a:lnTo>
                <a:lnTo>
                  <a:pt x="487" y="1009"/>
                </a:lnTo>
                <a:lnTo>
                  <a:pt x="476" y="990"/>
                </a:lnTo>
                <a:lnTo>
                  <a:pt x="464" y="969"/>
                </a:lnTo>
                <a:lnTo>
                  <a:pt x="453" y="946"/>
                </a:lnTo>
                <a:lnTo>
                  <a:pt x="439" y="921"/>
                </a:lnTo>
                <a:lnTo>
                  <a:pt x="424" y="894"/>
                </a:lnTo>
                <a:lnTo>
                  <a:pt x="409" y="865"/>
                </a:lnTo>
                <a:lnTo>
                  <a:pt x="393" y="835"/>
                </a:lnTo>
                <a:lnTo>
                  <a:pt x="376" y="804"/>
                </a:lnTo>
                <a:lnTo>
                  <a:pt x="359" y="769"/>
                </a:lnTo>
                <a:lnTo>
                  <a:pt x="342" y="733"/>
                </a:lnTo>
                <a:lnTo>
                  <a:pt x="322" y="695"/>
                </a:lnTo>
                <a:lnTo>
                  <a:pt x="301" y="656"/>
                </a:lnTo>
                <a:lnTo>
                  <a:pt x="280" y="614"/>
                </a:lnTo>
                <a:lnTo>
                  <a:pt x="259" y="572"/>
                </a:lnTo>
                <a:lnTo>
                  <a:pt x="236" y="526"/>
                </a:lnTo>
                <a:lnTo>
                  <a:pt x="213" y="480"/>
                </a:lnTo>
                <a:lnTo>
                  <a:pt x="190" y="430"/>
                </a:lnTo>
                <a:lnTo>
                  <a:pt x="165" y="380"/>
                </a:lnTo>
                <a:lnTo>
                  <a:pt x="140" y="328"/>
                </a:lnTo>
                <a:lnTo>
                  <a:pt x="113" y="274"/>
                </a:lnTo>
                <a:lnTo>
                  <a:pt x="86" y="217"/>
                </a:lnTo>
                <a:lnTo>
                  <a:pt x="57" y="159"/>
                </a:lnTo>
                <a:lnTo>
                  <a:pt x="31" y="100"/>
                </a:lnTo>
                <a:lnTo>
                  <a:pt x="0" y="38"/>
                </a:lnTo>
                <a:lnTo>
                  <a:pt x="34" y="19"/>
                </a:lnTo>
                <a:lnTo>
                  <a:pt x="69" y="0"/>
                </a:lnTo>
                <a:lnTo>
                  <a:pt x="90" y="34"/>
                </a:lnTo>
                <a:lnTo>
                  <a:pt x="111" y="67"/>
                </a:lnTo>
                <a:lnTo>
                  <a:pt x="130" y="100"/>
                </a:lnTo>
                <a:lnTo>
                  <a:pt x="151" y="132"/>
                </a:lnTo>
                <a:lnTo>
                  <a:pt x="171" y="163"/>
                </a:lnTo>
                <a:lnTo>
                  <a:pt x="190" y="194"/>
                </a:lnTo>
                <a:lnTo>
                  <a:pt x="209" y="224"/>
                </a:lnTo>
                <a:lnTo>
                  <a:pt x="228" y="253"/>
                </a:lnTo>
                <a:lnTo>
                  <a:pt x="246" y="282"/>
                </a:lnTo>
                <a:lnTo>
                  <a:pt x="263" y="309"/>
                </a:lnTo>
                <a:lnTo>
                  <a:pt x="280" y="336"/>
                </a:lnTo>
                <a:lnTo>
                  <a:pt x="297" y="361"/>
                </a:lnTo>
                <a:lnTo>
                  <a:pt x="315" y="386"/>
                </a:lnTo>
                <a:lnTo>
                  <a:pt x="330" y="410"/>
                </a:lnTo>
                <a:lnTo>
                  <a:pt x="347" y="434"/>
                </a:lnTo>
                <a:lnTo>
                  <a:pt x="363" y="457"/>
                </a:lnTo>
                <a:lnTo>
                  <a:pt x="376" y="478"/>
                </a:lnTo>
                <a:lnTo>
                  <a:pt x="391" y="499"/>
                </a:lnTo>
                <a:lnTo>
                  <a:pt x="405" y="520"/>
                </a:lnTo>
                <a:lnTo>
                  <a:pt x="420" y="539"/>
                </a:lnTo>
                <a:lnTo>
                  <a:pt x="434" y="558"/>
                </a:lnTo>
                <a:lnTo>
                  <a:pt x="445" y="576"/>
                </a:lnTo>
                <a:lnTo>
                  <a:pt x="459" y="593"/>
                </a:lnTo>
                <a:lnTo>
                  <a:pt x="470" y="610"/>
                </a:lnTo>
                <a:lnTo>
                  <a:pt x="482" y="625"/>
                </a:lnTo>
                <a:lnTo>
                  <a:pt x="493" y="641"/>
                </a:lnTo>
                <a:lnTo>
                  <a:pt x="505" y="654"/>
                </a:lnTo>
                <a:lnTo>
                  <a:pt x="514" y="668"/>
                </a:lnTo>
                <a:lnTo>
                  <a:pt x="526" y="681"/>
                </a:lnTo>
                <a:lnTo>
                  <a:pt x="535" y="693"/>
                </a:lnTo>
                <a:lnTo>
                  <a:pt x="543" y="704"/>
                </a:lnTo>
                <a:lnTo>
                  <a:pt x="553" y="7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65"/>
          <p:cNvSpPr/>
          <p:nvPr/>
        </p:nvSpPr>
        <p:spPr>
          <a:xfrm>
            <a:off x="6356520" y="3753000"/>
            <a:ext cx="1050840" cy="284040"/>
          </a:xfrm>
          <a:custGeom>
            <a:avLst/>
            <a:gdLst/>
            <a:ahLst/>
            <a:rect l="l" t="t" r="r" b="b"/>
            <a:pathLst>
              <a:path w="1325" h="357">
                <a:moveTo>
                  <a:pt x="807" y="65"/>
                </a:moveTo>
                <a:lnTo>
                  <a:pt x="832" y="57"/>
                </a:lnTo>
                <a:lnTo>
                  <a:pt x="857" y="51"/>
                </a:lnTo>
                <a:lnTo>
                  <a:pt x="880" y="44"/>
                </a:lnTo>
                <a:lnTo>
                  <a:pt x="903" y="38"/>
                </a:lnTo>
                <a:lnTo>
                  <a:pt x="924" y="32"/>
                </a:lnTo>
                <a:lnTo>
                  <a:pt x="943" y="26"/>
                </a:lnTo>
                <a:lnTo>
                  <a:pt x="962" y="23"/>
                </a:lnTo>
                <a:lnTo>
                  <a:pt x="981" y="17"/>
                </a:lnTo>
                <a:lnTo>
                  <a:pt x="999" y="13"/>
                </a:lnTo>
                <a:lnTo>
                  <a:pt x="1014" y="9"/>
                </a:lnTo>
                <a:lnTo>
                  <a:pt x="1029" y="7"/>
                </a:lnTo>
                <a:lnTo>
                  <a:pt x="1045" y="3"/>
                </a:lnTo>
                <a:lnTo>
                  <a:pt x="1058" y="1"/>
                </a:lnTo>
                <a:lnTo>
                  <a:pt x="1072" y="0"/>
                </a:lnTo>
                <a:lnTo>
                  <a:pt x="1083" y="0"/>
                </a:lnTo>
                <a:lnTo>
                  <a:pt x="1095" y="0"/>
                </a:lnTo>
                <a:lnTo>
                  <a:pt x="1112" y="0"/>
                </a:lnTo>
                <a:lnTo>
                  <a:pt x="1129" y="1"/>
                </a:lnTo>
                <a:lnTo>
                  <a:pt x="1146" y="3"/>
                </a:lnTo>
                <a:lnTo>
                  <a:pt x="1166" y="7"/>
                </a:lnTo>
                <a:lnTo>
                  <a:pt x="1183" y="11"/>
                </a:lnTo>
                <a:lnTo>
                  <a:pt x="1204" y="17"/>
                </a:lnTo>
                <a:lnTo>
                  <a:pt x="1223" y="21"/>
                </a:lnTo>
                <a:lnTo>
                  <a:pt x="1244" y="26"/>
                </a:lnTo>
                <a:lnTo>
                  <a:pt x="1254" y="30"/>
                </a:lnTo>
                <a:lnTo>
                  <a:pt x="1264" y="36"/>
                </a:lnTo>
                <a:lnTo>
                  <a:pt x="1273" y="42"/>
                </a:lnTo>
                <a:lnTo>
                  <a:pt x="1281" y="46"/>
                </a:lnTo>
                <a:lnTo>
                  <a:pt x="1288" y="51"/>
                </a:lnTo>
                <a:lnTo>
                  <a:pt x="1294" y="55"/>
                </a:lnTo>
                <a:lnTo>
                  <a:pt x="1300" y="61"/>
                </a:lnTo>
                <a:lnTo>
                  <a:pt x="1306" y="65"/>
                </a:lnTo>
                <a:lnTo>
                  <a:pt x="1311" y="71"/>
                </a:lnTo>
                <a:lnTo>
                  <a:pt x="1315" y="76"/>
                </a:lnTo>
                <a:lnTo>
                  <a:pt x="1317" y="80"/>
                </a:lnTo>
                <a:lnTo>
                  <a:pt x="1321" y="86"/>
                </a:lnTo>
                <a:lnTo>
                  <a:pt x="1323" y="90"/>
                </a:lnTo>
                <a:lnTo>
                  <a:pt x="1323" y="96"/>
                </a:lnTo>
                <a:lnTo>
                  <a:pt x="1325" y="99"/>
                </a:lnTo>
                <a:lnTo>
                  <a:pt x="1325" y="105"/>
                </a:lnTo>
                <a:lnTo>
                  <a:pt x="1325" y="109"/>
                </a:lnTo>
                <a:lnTo>
                  <a:pt x="1323" y="113"/>
                </a:lnTo>
                <a:lnTo>
                  <a:pt x="1323" y="117"/>
                </a:lnTo>
                <a:lnTo>
                  <a:pt x="1321" y="119"/>
                </a:lnTo>
                <a:lnTo>
                  <a:pt x="1317" y="122"/>
                </a:lnTo>
                <a:lnTo>
                  <a:pt x="1315" y="126"/>
                </a:lnTo>
                <a:lnTo>
                  <a:pt x="1311" y="130"/>
                </a:lnTo>
                <a:lnTo>
                  <a:pt x="1308" y="132"/>
                </a:lnTo>
                <a:lnTo>
                  <a:pt x="1302" y="136"/>
                </a:lnTo>
                <a:lnTo>
                  <a:pt x="1298" y="138"/>
                </a:lnTo>
                <a:lnTo>
                  <a:pt x="1292" y="142"/>
                </a:lnTo>
                <a:lnTo>
                  <a:pt x="1285" y="144"/>
                </a:lnTo>
                <a:lnTo>
                  <a:pt x="1279" y="147"/>
                </a:lnTo>
                <a:lnTo>
                  <a:pt x="1271" y="149"/>
                </a:lnTo>
                <a:lnTo>
                  <a:pt x="1264" y="153"/>
                </a:lnTo>
                <a:lnTo>
                  <a:pt x="1254" y="155"/>
                </a:lnTo>
                <a:lnTo>
                  <a:pt x="1244" y="157"/>
                </a:lnTo>
                <a:lnTo>
                  <a:pt x="1235" y="159"/>
                </a:lnTo>
                <a:lnTo>
                  <a:pt x="1225" y="163"/>
                </a:lnTo>
                <a:lnTo>
                  <a:pt x="1214" y="165"/>
                </a:lnTo>
                <a:lnTo>
                  <a:pt x="1202" y="167"/>
                </a:lnTo>
                <a:lnTo>
                  <a:pt x="1191" y="168"/>
                </a:lnTo>
                <a:lnTo>
                  <a:pt x="1177" y="170"/>
                </a:lnTo>
                <a:lnTo>
                  <a:pt x="1164" y="172"/>
                </a:lnTo>
                <a:lnTo>
                  <a:pt x="1150" y="174"/>
                </a:lnTo>
                <a:lnTo>
                  <a:pt x="1137" y="176"/>
                </a:lnTo>
                <a:lnTo>
                  <a:pt x="1121" y="178"/>
                </a:lnTo>
                <a:lnTo>
                  <a:pt x="1106" y="180"/>
                </a:lnTo>
                <a:lnTo>
                  <a:pt x="1089" y="180"/>
                </a:lnTo>
                <a:lnTo>
                  <a:pt x="1073" y="182"/>
                </a:lnTo>
                <a:lnTo>
                  <a:pt x="1054" y="184"/>
                </a:lnTo>
                <a:lnTo>
                  <a:pt x="1037" y="186"/>
                </a:lnTo>
                <a:lnTo>
                  <a:pt x="1001" y="190"/>
                </a:lnTo>
                <a:lnTo>
                  <a:pt x="966" y="195"/>
                </a:lnTo>
                <a:lnTo>
                  <a:pt x="933" y="199"/>
                </a:lnTo>
                <a:lnTo>
                  <a:pt x="901" y="205"/>
                </a:lnTo>
                <a:lnTo>
                  <a:pt x="870" y="209"/>
                </a:lnTo>
                <a:lnTo>
                  <a:pt x="841" y="215"/>
                </a:lnTo>
                <a:lnTo>
                  <a:pt x="812" y="218"/>
                </a:lnTo>
                <a:lnTo>
                  <a:pt x="787" y="222"/>
                </a:lnTo>
                <a:lnTo>
                  <a:pt x="761" y="228"/>
                </a:lnTo>
                <a:lnTo>
                  <a:pt x="738" y="232"/>
                </a:lnTo>
                <a:lnTo>
                  <a:pt x="715" y="236"/>
                </a:lnTo>
                <a:lnTo>
                  <a:pt x="693" y="239"/>
                </a:lnTo>
                <a:lnTo>
                  <a:pt x="674" y="241"/>
                </a:lnTo>
                <a:lnTo>
                  <a:pt x="655" y="245"/>
                </a:lnTo>
                <a:lnTo>
                  <a:pt x="638" y="249"/>
                </a:lnTo>
                <a:lnTo>
                  <a:pt x="622" y="251"/>
                </a:lnTo>
                <a:lnTo>
                  <a:pt x="592" y="261"/>
                </a:lnTo>
                <a:lnTo>
                  <a:pt x="561" y="270"/>
                </a:lnTo>
                <a:lnTo>
                  <a:pt x="526" y="280"/>
                </a:lnTo>
                <a:lnTo>
                  <a:pt x="494" y="289"/>
                </a:lnTo>
                <a:lnTo>
                  <a:pt x="457" y="297"/>
                </a:lnTo>
                <a:lnTo>
                  <a:pt x="423" y="305"/>
                </a:lnTo>
                <a:lnTo>
                  <a:pt x="384" y="312"/>
                </a:lnTo>
                <a:lnTo>
                  <a:pt x="346" y="318"/>
                </a:lnTo>
                <a:lnTo>
                  <a:pt x="327" y="322"/>
                </a:lnTo>
                <a:lnTo>
                  <a:pt x="310" y="326"/>
                </a:lnTo>
                <a:lnTo>
                  <a:pt x="292" y="332"/>
                </a:lnTo>
                <a:lnTo>
                  <a:pt x="275" y="335"/>
                </a:lnTo>
                <a:lnTo>
                  <a:pt x="260" y="339"/>
                </a:lnTo>
                <a:lnTo>
                  <a:pt x="246" y="341"/>
                </a:lnTo>
                <a:lnTo>
                  <a:pt x="233" y="345"/>
                </a:lnTo>
                <a:lnTo>
                  <a:pt x="219" y="347"/>
                </a:lnTo>
                <a:lnTo>
                  <a:pt x="208" y="349"/>
                </a:lnTo>
                <a:lnTo>
                  <a:pt x="198" y="351"/>
                </a:lnTo>
                <a:lnTo>
                  <a:pt x="189" y="353"/>
                </a:lnTo>
                <a:lnTo>
                  <a:pt x="181" y="355"/>
                </a:lnTo>
                <a:lnTo>
                  <a:pt x="175" y="357"/>
                </a:lnTo>
                <a:lnTo>
                  <a:pt x="169" y="357"/>
                </a:lnTo>
                <a:lnTo>
                  <a:pt x="166" y="357"/>
                </a:lnTo>
                <a:lnTo>
                  <a:pt x="162" y="357"/>
                </a:lnTo>
                <a:lnTo>
                  <a:pt x="152" y="357"/>
                </a:lnTo>
                <a:lnTo>
                  <a:pt x="143" y="355"/>
                </a:lnTo>
                <a:lnTo>
                  <a:pt x="131" y="351"/>
                </a:lnTo>
                <a:lnTo>
                  <a:pt x="119" y="345"/>
                </a:lnTo>
                <a:lnTo>
                  <a:pt x="114" y="343"/>
                </a:lnTo>
                <a:lnTo>
                  <a:pt x="108" y="339"/>
                </a:lnTo>
                <a:lnTo>
                  <a:pt x="102" y="334"/>
                </a:lnTo>
                <a:lnTo>
                  <a:pt x="96" y="330"/>
                </a:lnTo>
                <a:lnTo>
                  <a:pt x="89" y="324"/>
                </a:lnTo>
                <a:lnTo>
                  <a:pt x="83" y="318"/>
                </a:lnTo>
                <a:lnTo>
                  <a:pt x="77" y="310"/>
                </a:lnTo>
                <a:lnTo>
                  <a:pt x="70" y="305"/>
                </a:lnTo>
                <a:lnTo>
                  <a:pt x="62" y="299"/>
                </a:lnTo>
                <a:lnTo>
                  <a:pt x="54" y="293"/>
                </a:lnTo>
                <a:lnTo>
                  <a:pt x="47" y="289"/>
                </a:lnTo>
                <a:lnTo>
                  <a:pt x="41" y="284"/>
                </a:lnTo>
                <a:lnTo>
                  <a:pt x="33" y="280"/>
                </a:lnTo>
                <a:lnTo>
                  <a:pt x="27" y="274"/>
                </a:lnTo>
                <a:lnTo>
                  <a:pt x="24" y="270"/>
                </a:lnTo>
                <a:lnTo>
                  <a:pt x="18" y="266"/>
                </a:lnTo>
                <a:lnTo>
                  <a:pt x="14" y="261"/>
                </a:lnTo>
                <a:lnTo>
                  <a:pt x="10" y="257"/>
                </a:lnTo>
                <a:lnTo>
                  <a:pt x="8" y="253"/>
                </a:lnTo>
                <a:lnTo>
                  <a:pt x="6" y="249"/>
                </a:lnTo>
                <a:lnTo>
                  <a:pt x="4" y="247"/>
                </a:lnTo>
                <a:lnTo>
                  <a:pt x="2" y="243"/>
                </a:lnTo>
                <a:lnTo>
                  <a:pt x="0" y="239"/>
                </a:lnTo>
                <a:lnTo>
                  <a:pt x="0" y="238"/>
                </a:lnTo>
                <a:lnTo>
                  <a:pt x="0" y="236"/>
                </a:lnTo>
                <a:lnTo>
                  <a:pt x="2" y="234"/>
                </a:lnTo>
                <a:lnTo>
                  <a:pt x="4" y="232"/>
                </a:lnTo>
                <a:lnTo>
                  <a:pt x="8" y="230"/>
                </a:lnTo>
                <a:lnTo>
                  <a:pt x="12" y="228"/>
                </a:lnTo>
                <a:lnTo>
                  <a:pt x="16" y="228"/>
                </a:lnTo>
                <a:lnTo>
                  <a:pt x="22" y="226"/>
                </a:lnTo>
                <a:lnTo>
                  <a:pt x="27" y="224"/>
                </a:lnTo>
                <a:lnTo>
                  <a:pt x="33" y="224"/>
                </a:lnTo>
                <a:lnTo>
                  <a:pt x="41" y="222"/>
                </a:lnTo>
                <a:lnTo>
                  <a:pt x="50" y="220"/>
                </a:lnTo>
                <a:lnTo>
                  <a:pt x="60" y="218"/>
                </a:lnTo>
                <a:lnTo>
                  <a:pt x="70" y="218"/>
                </a:lnTo>
                <a:lnTo>
                  <a:pt x="81" y="216"/>
                </a:lnTo>
                <a:lnTo>
                  <a:pt x="93" y="215"/>
                </a:lnTo>
                <a:lnTo>
                  <a:pt x="104" y="211"/>
                </a:lnTo>
                <a:lnTo>
                  <a:pt x="118" y="211"/>
                </a:lnTo>
                <a:lnTo>
                  <a:pt x="133" y="211"/>
                </a:lnTo>
                <a:lnTo>
                  <a:pt x="146" y="211"/>
                </a:lnTo>
                <a:lnTo>
                  <a:pt x="164" y="209"/>
                </a:lnTo>
                <a:lnTo>
                  <a:pt x="179" y="207"/>
                </a:lnTo>
                <a:lnTo>
                  <a:pt x="196" y="205"/>
                </a:lnTo>
                <a:lnTo>
                  <a:pt x="214" y="203"/>
                </a:lnTo>
                <a:lnTo>
                  <a:pt x="233" y="199"/>
                </a:lnTo>
                <a:lnTo>
                  <a:pt x="252" y="197"/>
                </a:lnTo>
                <a:lnTo>
                  <a:pt x="271" y="193"/>
                </a:lnTo>
                <a:lnTo>
                  <a:pt x="292" y="188"/>
                </a:lnTo>
                <a:lnTo>
                  <a:pt x="313" y="184"/>
                </a:lnTo>
                <a:lnTo>
                  <a:pt x="334" y="178"/>
                </a:lnTo>
                <a:lnTo>
                  <a:pt x="358" y="172"/>
                </a:lnTo>
                <a:lnTo>
                  <a:pt x="381" y="167"/>
                </a:lnTo>
                <a:lnTo>
                  <a:pt x="404" y="159"/>
                </a:lnTo>
                <a:lnTo>
                  <a:pt x="452" y="147"/>
                </a:lnTo>
                <a:lnTo>
                  <a:pt x="501" y="138"/>
                </a:lnTo>
                <a:lnTo>
                  <a:pt x="551" y="128"/>
                </a:lnTo>
                <a:lnTo>
                  <a:pt x="601" y="117"/>
                </a:lnTo>
                <a:lnTo>
                  <a:pt x="651" y="105"/>
                </a:lnTo>
                <a:lnTo>
                  <a:pt x="703" y="94"/>
                </a:lnTo>
                <a:lnTo>
                  <a:pt x="755" y="80"/>
                </a:lnTo>
                <a:lnTo>
                  <a:pt x="807" y="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66"/>
          <p:cNvSpPr/>
          <p:nvPr/>
        </p:nvSpPr>
        <p:spPr>
          <a:xfrm>
            <a:off x="6516720" y="3311640"/>
            <a:ext cx="744480" cy="263520"/>
          </a:xfrm>
          <a:custGeom>
            <a:avLst/>
            <a:gdLst/>
            <a:ahLst/>
            <a:rect l="l" t="t" r="r" b="b"/>
            <a:pathLst>
              <a:path w="939" h="332">
                <a:moveTo>
                  <a:pt x="6" y="224"/>
                </a:moveTo>
                <a:lnTo>
                  <a:pt x="10" y="223"/>
                </a:lnTo>
                <a:lnTo>
                  <a:pt x="12" y="221"/>
                </a:lnTo>
                <a:lnTo>
                  <a:pt x="19" y="217"/>
                </a:lnTo>
                <a:lnTo>
                  <a:pt x="27" y="215"/>
                </a:lnTo>
                <a:lnTo>
                  <a:pt x="38" y="213"/>
                </a:lnTo>
                <a:lnTo>
                  <a:pt x="50" y="213"/>
                </a:lnTo>
                <a:lnTo>
                  <a:pt x="61" y="211"/>
                </a:lnTo>
                <a:lnTo>
                  <a:pt x="75" y="211"/>
                </a:lnTo>
                <a:lnTo>
                  <a:pt x="86" y="211"/>
                </a:lnTo>
                <a:lnTo>
                  <a:pt x="94" y="211"/>
                </a:lnTo>
                <a:lnTo>
                  <a:pt x="104" y="209"/>
                </a:lnTo>
                <a:lnTo>
                  <a:pt x="115" y="207"/>
                </a:lnTo>
                <a:lnTo>
                  <a:pt x="129" y="205"/>
                </a:lnTo>
                <a:lnTo>
                  <a:pt x="144" y="201"/>
                </a:lnTo>
                <a:lnTo>
                  <a:pt x="159" y="196"/>
                </a:lnTo>
                <a:lnTo>
                  <a:pt x="179" y="190"/>
                </a:lnTo>
                <a:lnTo>
                  <a:pt x="200" y="184"/>
                </a:lnTo>
                <a:lnTo>
                  <a:pt x="223" y="176"/>
                </a:lnTo>
                <a:lnTo>
                  <a:pt x="246" y="169"/>
                </a:lnTo>
                <a:lnTo>
                  <a:pt x="273" y="159"/>
                </a:lnTo>
                <a:lnTo>
                  <a:pt x="301" y="152"/>
                </a:lnTo>
                <a:lnTo>
                  <a:pt x="330" y="140"/>
                </a:lnTo>
                <a:lnTo>
                  <a:pt x="363" y="130"/>
                </a:lnTo>
                <a:lnTo>
                  <a:pt x="397" y="117"/>
                </a:lnTo>
                <a:lnTo>
                  <a:pt x="432" y="105"/>
                </a:lnTo>
                <a:lnTo>
                  <a:pt x="468" y="94"/>
                </a:lnTo>
                <a:lnTo>
                  <a:pt x="501" y="82"/>
                </a:lnTo>
                <a:lnTo>
                  <a:pt x="534" y="71"/>
                </a:lnTo>
                <a:lnTo>
                  <a:pt x="564" y="61"/>
                </a:lnTo>
                <a:lnTo>
                  <a:pt x="591" y="52"/>
                </a:lnTo>
                <a:lnTo>
                  <a:pt x="618" y="42"/>
                </a:lnTo>
                <a:lnTo>
                  <a:pt x="643" y="34"/>
                </a:lnTo>
                <a:lnTo>
                  <a:pt x="666" y="27"/>
                </a:lnTo>
                <a:lnTo>
                  <a:pt x="687" y="21"/>
                </a:lnTo>
                <a:lnTo>
                  <a:pt x="706" y="15"/>
                </a:lnTo>
                <a:lnTo>
                  <a:pt x="726" y="11"/>
                </a:lnTo>
                <a:lnTo>
                  <a:pt x="741" y="6"/>
                </a:lnTo>
                <a:lnTo>
                  <a:pt x="756" y="4"/>
                </a:lnTo>
                <a:lnTo>
                  <a:pt x="768" y="2"/>
                </a:lnTo>
                <a:lnTo>
                  <a:pt x="779" y="0"/>
                </a:lnTo>
                <a:lnTo>
                  <a:pt x="789" y="0"/>
                </a:lnTo>
                <a:lnTo>
                  <a:pt x="816" y="0"/>
                </a:lnTo>
                <a:lnTo>
                  <a:pt x="827" y="0"/>
                </a:lnTo>
                <a:lnTo>
                  <a:pt x="841" y="2"/>
                </a:lnTo>
                <a:lnTo>
                  <a:pt x="854" y="2"/>
                </a:lnTo>
                <a:lnTo>
                  <a:pt x="868" y="6"/>
                </a:lnTo>
                <a:lnTo>
                  <a:pt x="879" y="8"/>
                </a:lnTo>
                <a:lnTo>
                  <a:pt x="893" y="13"/>
                </a:lnTo>
                <a:lnTo>
                  <a:pt x="898" y="15"/>
                </a:lnTo>
                <a:lnTo>
                  <a:pt x="904" y="19"/>
                </a:lnTo>
                <a:lnTo>
                  <a:pt x="910" y="21"/>
                </a:lnTo>
                <a:lnTo>
                  <a:pt x="914" y="25"/>
                </a:lnTo>
                <a:lnTo>
                  <a:pt x="923" y="33"/>
                </a:lnTo>
                <a:lnTo>
                  <a:pt x="929" y="40"/>
                </a:lnTo>
                <a:lnTo>
                  <a:pt x="933" y="46"/>
                </a:lnTo>
                <a:lnTo>
                  <a:pt x="937" y="54"/>
                </a:lnTo>
                <a:lnTo>
                  <a:pt x="939" y="59"/>
                </a:lnTo>
                <a:lnTo>
                  <a:pt x="939" y="65"/>
                </a:lnTo>
                <a:lnTo>
                  <a:pt x="939" y="75"/>
                </a:lnTo>
                <a:lnTo>
                  <a:pt x="937" y="86"/>
                </a:lnTo>
                <a:lnTo>
                  <a:pt x="933" y="96"/>
                </a:lnTo>
                <a:lnTo>
                  <a:pt x="929" y="104"/>
                </a:lnTo>
                <a:lnTo>
                  <a:pt x="923" y="113"/>
                </a:lnTo>
                <a:lnTo>
                  <a:pt x="914" y="121"/>
                </a:lnTo>
                <a:lnTo>
                  <a:pt x="910" y="123"/>
                </a:lnTo>
                <a:lnTo>
                  <a:pt x="904" y="127"/>
                </a:lnTo>
                <a:lnTo>
                  <a:pt x="898" y="130"/>
                </a:lnTo>
                <a:lnTo>
                  <a:pt x="893" y="132"/>
                </a:lnTo>
                <a:lnTo>
                  <a:pt x="885" y="138"/>
                </a:lnTo>
                <a:lnTo>
                  <a:pt x="877" y="142"/>
                </a:lnTo>
                <a:lnTo>
                  <a:pt x="870" y="148"/>
                </a:lnTo>
                <a:lnTo>
                  <a:pt x="860" y="152"/>
                </a:lnTo>
                <a:lnTo>
                  <a:pt x="850" y="157"/>
                </a:lnTo>
                <a:lnTo>
                  <a:pt x="839" y="161"/>
                </a:lnTo>
                <a:lnTo>
                  <a:pt x="827" y="167"/>
                </a:lnTo>
                <a:lnTo>
                  <a:pt x="814" y="173"/>
                </a:lnTo>
                <a:lnTo>
                  <a:pt x="800" y="176"/>
                </a:lnTo>
                <a:lnTo>
                  <a:pt x="785" y="182"/>
                </a:lnTo>
                <a:lnTo>
                  <a:pt x="768" y="186"/>
                </a:lnTo>
                <a:lnTo>
                  <a:pt x="752" y="192"/>
                </a:lnTo>
                <a:lnTo>
                  <a:pt x="733" y="196"/>
                </a:lnTo>
                <a:lnTo>
                  <a:pt x="714" y="201"/>
                </a:lnTo>
                <a:lnTo>
                  <a:pt x="695" y="207"/>
                </a:lnTo>
                <a:lnTo>
                  <a:pt x="674" y="211"/>
                </a:lnTo>
                <a:lnTo>
                  <a:pt x="587" y="232"/>
                </a:lnTo>
                <a:lnTo>
                  <a:pt x="545" y="242"/>
                </a:lnTo>
                <a:lnTo>
                  <a:pt x="503" y="251"/>
                </a:lnTo>
                <a:lnTo>
                  <a:pt x="461" y="261"/>
                </a:lnTo>
                <a:lnTo>
                  <a:pt x="420" y="271"/>
                </a:lnTo>
                <a:lnTo>
                  <a:pt x="380" y="282"/>
                </a:lnTo>
                <a:lnTo>
                  <a:pt x="340" y="292"/>
                </a:lnTo>
                <a:lnTo>
                  <a:pt x="319" y="295"/>
                </a:lnTo>
                <a:lnTo>
                  <a:pt x="299" y="301"/>
                </a:lnTo>
                <a:lnTo>
                  <a:pt x="280" y="305"/>
                </a:lnTo>
                <a:lnTo>
                  <a:pt x="263" y="309"/>
                </a:lnTo>
                <a:lnTo>
                  <a:pt x="246" y="313"/>
                </a:lnTo>
                <a:lnTo>
                  <a:pt x="230" y="315"/>
                </a:lnTo>
                <a:lnTo>
                  <a:pt x="215" y="319"/>
                </a:lnTo>
                <a:lnTo>
                  <a:pt x="202" y="320"/>
                </a:lnTo>
                <a:lnTo>
                  <a:pt x="188" y="324"/>
                </a:lnTo>
                <a:lnTo>
                  <a:pt x="175" y="326"/>
                </a:lnTo>
                <a:lnTo>
                  <a:pt x="165" y="328"/>
                </a:lnTo>
                <a:lnTo>
                  <a:pt x="154" y="328"/>
                </a:lnTo>
                <a:lnTo>
                  <a:pt x="144" y="330"/>
                </a:lnTo>
                <a:lnTo>
                  <a:pt x="136" y="330"/>
                </a:lnTo>
                <a:lnTo>
                  <a:pt x="129" y="330"/>
                </a:lnTo>
                <a:lnTo>
                  <a:pt x="121" y="332"/>
                </a:lnTo>
                <a:lnTo>
                  <a:pt x="109" y="330"/>
                </a:lnTo>
                <a:lnTo>
                  <a:pt x="96" y="328"/>
                </a:lnTo>
                <a:lnTo>
                  <a:pt x="83" y="324"/>
                </a:lnTo>
                <a:lnTo>
                  <a:pt x="71" y="320"/>
                </a:lnTo>
                <a:lnTo>
                  <a:pt x="65" y="317"/>
                </a:lnTo>
                <a:lnTo>
                  <a:pt x="60" y="313"/>
                </a:lnTo>
                <a:lnTo>
                  <a:pt x="54" y="309"/>
                </a:lnTo>
                <a:lnTo>
                  <a:pt x="48" y="303"/>
                </a:lnTo>
                <a:lnTo>
                  <a:pt x="44" y="297"/>
                </a:lnTo>
                <a:lnTo>
                  <a:pt x="38" y="292"/>
                </a:lnTo>
                <a:lnTo>
                  <a:pt x="35" y="286"/>
                </a:lnTo>
                <a:lnTo>
                  <a:pt x="29" y="278"/>
                </a:lnTo>
                <a:lnTo>
                  <a:pt x="23" y="272"/>
                </a:lnTo>
                <a:lnTo>
                  <a:pt x="17" y="269"/>
                </a:lnTo>
                <a:lnTo>
                  <a:pt x="13" y="265"/>
                </a:lnTo>
                <a:lnTo>
                  <a:pt x="10" y="261"/>
                </a:lnTo>
                <a:lnTo>
                  <a:pt x="6" y="257"/>
                </a:lnTo>
                <a:lnTo>
                  <a:pt x="4" y="253"/>
                </a:lnTo>
                <a:lnTo>
                  <a:pt x="2" y="249"/>
                </a:lnTo>
                <a:lnTo>
                  <a:pt x="0" y="246"/>
                </a:lnTo>
                <a:lnTo>
                  <a:pt x="0" y="244"/>
                </a:lnTo>
                <a:lnTo>
                  <a:pt x="0" y="240"/>
                </a:lnTo>
                <a:lnTo>
                  <a:pt x="0" y="236"/>
                </a:lnTo>
                <a:lnTo>
                  <a:pt x="2" y="230"/>
                </a:lnTo>
                <a:lnTo>
                  <a:pt x="6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67"/>
          <p:cNvSpPr/>
          <p:nvPr/>
        </p:nvSpPr>
        <p:spPr>
          <a:xfrm>
            <a:off x="6265800" y="2798640"/>
            <a:ext cx="676440" cy="2041560"/>
          </a:xfrm>
          <a:custGeom>
            <a:avLst/>
            <a:gdLst/>
            <a:ahLst/>
            <a:rect l="l" t="t" r="r" b="b"/>
            <a:pathLst>
              <a:path w="853" h="2570">
                <a:moveTo>
                  <a:pt x="841" y="499"/>
                </a:moveTo>
                <a:lnTo>
                  <a:pt x="841" y="528"/>
                </a:lnTo>
                <a:lnTo>
                  <a:pt x="841" y="557"/>
                </a:lnTo>
                <a:lnTo>
                  <a:pt x="839" y="587"/>
                </a:lnTo>
                <a:lnTo>
                  <a:pt x="839" y="622"/>
                </a:lnTo>
                <a:lnTo>
                  <a:pt x="837" y="656"/>
                </a:lnTo>
                <a:lnTo>
                  <a:pt x="835" y="693"/>
                </a:lnTo>
                <a:lnTo>
                  <a:pt x="833" y="731"/>
                </a:lnTo>
                <a:lnTo>
                  <a:pt x="831" y="770"/>
                </a:lnTo>
                <a:lnTo>
                  <a:pt x="830" y="812"/>
                </a:lnTo>
                <a:lnTo>
                  <a:pt x="830" y="835"/>
                </a:lnTo>
                <a:lnTo>
                  <a:pt x="828" y="856"/>
                </a:lnTo>
                <a:lnTo>
                  <a:pt x="826" y="879"/>
                </a:lnTo>
                <a:lnTo>
                  <a:pt x="824" y="902"/>
                </a:lnTo>
                <a:lnTo>
                  <a:pt x="824" y="925"/>
                </a:lnTo>
                <a:lnTo>
                  <a:pt x="822" y="950"/>
                </a:lnTo>
                <a:lnTo>
                  <a:pt x="820" y="975"/>
                </a:lnTo>
                <a:lnTo>
                  <a:pt x="818" y="1000"/>
                </a:lnTo>
                <a:lnTo>
                  <a:pt x="816" y="1025"/>
                </a:lnTo>
                <a:lnTo>
                  <a:pt x="814" y="1052"/>
                </a:lnTo>
                <a:lnTo>
                  <a:pt x="812" y="1079"/>
                </a:lnTo>
                <a:lnTo>
                  <a:pt x="810" y="1106"/>
                </a:lnTo>
                <a:lnTo>
                  <a:pt x="808" y="1132"/>
                </a:lnTo>
                <a:lnTo>
                  <a:pt x="806" y="1161"/>
                </a:lnTo>
                <a:lnTo>
                  <a:pt x="801" y="1217"/>
                </a:lnTo>
                <a:lnTo>
                  <a:pt x="793" y="1273"/>
                </a:lnTo>
                <a:lnTo>
                  <a:pt x="787" y="1326"/>
                </a:lnTo>
                <a:lnTo>
                  <a:pt x="780" y="1378"/>
                </a:lnTo>
                <a:lnTo>
                  <a:pt x="774" y="1426"/>
                </a:lnTo>
                <a:lnTo>
                  <a:pt x="766" y="1474"/>
                </a:lnTo>
                <a:lnTo>
                  <a:pt x="759" y="1522"/>
                </a:lnTo>
                <a:lnTo>
                  <a:pt x="753" y="1566"/>
                </a:lnTo>
                <a:lnTo>
                  <a:pt x="745" y="1608"/>
                </a:lnTo>
                <a:lnTo>
                  <a:pt x="739" y="1630"/>
                </a:lnTo>
                <a:lnTo>
                  <a:pt x="735" y="1649"/>
                </a:lnTo>
                <a:lnTo>
                  <a:pt x="732" y="1668"/>
                </a:lnTo>
                <a:lnTo>
                  <a:pt x="728" y="1687"/>
                </a:lnTo>
                <a:lnTo>
                  <a:pt x="724" y="1706"/>
                </a:lnTo>
                <a:lnTo>
                  <a:pt x="718" y="1724"/>
                </a:lnTo>
                <a:lnTo>
                  <a:pt x="714" y="1743"/>
                </a:lnTo>
                <a:lnTo>
                  <a:pt x="711" y="1758"/>
                </a:lnTo>
                <a:lnTo>
                  <a:pt x="705" y="1775"/>
                </a:lnTo>
                <a:lnTo>
                  <a:pt x="701" y="1791"/>
                </a:lnTo>
                <a:lnTo>
                  <a:pt x="695" y="1808"/>
                </a:lnTo>
                <a:lnTo>
                  <a:pt x="691" y="1822"/>
                </a:lnTo>
                <a:lnTo>
                  <a:pt x="686" y="1837"/>
                </a:lnTo>
                <a:lnTo>
                  <a:pt x="680" y="1850"/>
                </a:lnTo>
                <a:lnTo>
                  <a:pt x="670" y="1881"/>
                </a:lnTo>
                <a:lnTo>
                  <a:pt x="659" y="1910"/>
                </a:lnTo>
                <a:lnTo>
                  <a:pt x="647" y="1937"/>
                </a:lnTo>
                <a:lnTo>
                  <a:pt x="636" y="1965"/>
                </a:lnTo>
                <a:lnTo>
                  <a:pt x="624" y="1992"/>
                </a:lnTo>
                <a:lnTo>
                  <a:pt x="611" y="2017"/>
                </a:lnTo>
                <a:lnTo>
                  <a:pt x="597" y="2042"/>
                </a:lnTo>
                <a:lnTo>
                  <a:pt x="586" y="2067"/>
                </a:lnTo>
                <a:lnTo>
                  <a:pt x="572" y="2092"/>
                </a:lnTo>
                <a:lnTo>
                  <a:pt x="559" y="2115"/>
                </a:lnTo>
                <a:lnTo>
                  <a:pt x="545" y="2136"/>
                </a:lnTo>
                <a:lnTo>
                  <a:pt x="532" y="2157"/>
                </a:lnTo>
                <a:lnTo>
                  <a:pt x="517" y="2179"/>
                </a:lnTo>
                <a:lnTo>
                  <a:pt x="503" y="2198"/>
                </a:lnTo>
                <a:lnTo>
                  <a:pt x="488" y="2217"/>
                </a:lnTo>
                <a:lnTo>
                  <a:pt x="473" y="2236"/>
                </a:lnTo>
                <a:lnTo>
                  <a:pt x="457" y="2253"/>
                </a:lnTo>
                <a:lnTo>
                  <a:pt x="442" y="2271"/>
                </a:lnTo>
                <a:lnTo>
                  <a:pt x="426" y="2288"/>
                </a:lnTo>
                <a:lnTo>
                  <a:pt x="409" y="2305"/>
                </a:lnTo>
                <a:lnTo>
                  <a:pt x="375" y="2338"/>
                </a:lnTo>
                <a:lnTo>
                  <a:pt x="338" y="2371"/>
                </a:lnTo>
                <a:lnTo>
                  <a:pt x="300" y="2403"/>
                </a:lnTo>
                <a:lnTo>
                  <a:pt x="263" y="2432"/>
                </a:lnTo>
                <a:lnTo>
                  <a:pt x="244" y="2447"/>
                </a:lnTo>
                <a:lnTo>
                  <a:pt x="223" y="2461"/>
                </a:lnTo>
                <a:lnTo>
                  <a:pt x="204" y="2474"/>
                </a:lnTo>
                <a:lnTo>
                  <a:pt x="185" y="2488"/>
                </a:lnTo>
                <a:lnTo>
                  <a:pt x="163" y="2499"/>
                </a:lnTo>
                <a:lnTo>
                  <a:pt x="144" y="2511"/>
                </a:lnTo>
                <a:lnTo>
                  <a:pt x="127" y="2520"/>
                </a:lnTo>
                <a:lnTo>
                  <a:pt x="110" y="2530"/>
                </a:lnTo>
                <a:lnTo>
                  <a:pt x="94" y="2537"/>
                </a:lnTo>
                <a:lnTo>
                  <a:pt x="79" y="2545"/>
                </a:lnTo>
                <a:lnTo>
                  <a:pt x="66" y="2551"/>
                </a:lnTo>
                <a:lnTo>
                  <a:pt x="54" y="2557"/>
                </a:lnTo>
                <a:lnTo>
                  <a:pt x="44" y="2561"/>
                </a:lnTo>
                <a:lnTo>
                  <a:pt x="35" y="2564"/>
                </a:lnTo>
                <a:lnTo>
                  <a:pt x="25" y="2568"/>
                </a:lnTo>
                <a:lnTo>
                  <a:pt x="18" y="2568"/>
                </a:lnTo>
                <a:lnTo>
                  <a:pt x="12" y="2570"/>
                </a:lnTo>
                <a:lnTo>
                  <a:pt x="8" y="2570"/>
                </a:lnTo>
                <a:lnTo>
                  <a:pt x="4" y="2568"/>
                </a:lnTo>
                <a:lnTo>
                  <a:pt x="0" y="2566"/>
                </a:lnTo>
                <a:lnTo>
                  <a:pt x="0" y="2562"/>
                </a:lnTo>
                <a:lnTo>
                  <a:pt x="0" y="2559"/>
                </a:lnTo>
                <a:lnTo>
                  <a:pt x="2" y="2553"/>
                </a:lnTo>
                <a:lnTo>
                  <a:pt x="8" y="2547"/>
                </a:lnTo>
                <a:lnTo>
                  <a:pt x="14" y="2537"/>
                </a:lnTo>
                <a:lnTo>
                  <a:pt x="21" y="2528"/>
                </a:lnTo>
                <a:lnTo>
                  <a:pt x="31" y="2518"/>
                </a:lnTo>
                <a:lnTo>
                  <a:pt x="43" y="2505"/>
                </a:lnTo>
                <a:lnTo>
                  <a:pt x="56" y="2491"/>
                </a:lnTo>
                <a:lnTo>
                  <a:pt x="71" y="2476"/>
                </a:lnTo>
                <a:lnTo>
                  <a:pt x="89" y="2461"/>
                </a:lnTo>
                <a:lnTo>
                  <a:pt x="106" y="2442"/>
                </a:lnTo>
                <a:lnTo>
                  <a:pt x="127" y="2422"/>
                </a:lnTo>
                <a:lnTo>
                  <a:pt x="148" y="2401"/>
                </a:lnTo>
                <a:lnTo>
                  <a:pt x="171" y="2378"/>
                </a:lnTo>
                <a:lnTo>
                  <a:pt x="196" y="2355"/>
                </a:lnTo>
                <a:lnTo>
                  <a:pt x="219" y="2332"/>
                </a:lnTo>
                <a:lnTo>
                  <a:pt x="242" y="2307"/>
                </a:lnTo>
                <a:lnTo>
                  <a:pt x="265" y="2282"/>
                </a:lnTo>
                <a:lnTo>
                  <a:pt x="286" y="2257"/>
                </a:lnTo>
                <a:lnTo>
                  <a:pt x="307" y="2230"/>
                </a:lnTo>
                <a:lnTo>
                  <a:pt x="329" y="2204"/>
                </a:lnTo>
                <a:lnTo>
                  <a:pt x="350" y="2175"/>
                </a:lnTo>
                <a:lnTo>
                  <a:pt x="369" y="2146"/>
                </a:lnTo>
                <a:lnTo>
                  <a:pt x="388" y="2115"/>
                </a:lnTo>
                <a:lnTo>
                  <a:pt x="407" y="2084"/>
                </a:lnTo>
                <a:lnTo>
                  <a:pt x="426" y="2052"/>
                </a:lnTo>
                <a:lnTo>
                  <a:pt x="444" y="2019"/>
                </a:lnTo>
                <a:lnTo>
                  <a:pt x="461" y="1985"/>
                </a:lnTo>
                <a:lnTo>
                  <a:pt x="476" y="1950"/>
                </a:lnTo>
                <a:lnTo>
                  <a:pt x="492" y="1914"/>
                </a:lnTo>
                <a:lnTo>
                  <a:pt x="507" y="1877"/>
                </a:lnTo>
                <a:lnTo>
                  <a:pt x="520" y="1841"/>
                </a:lnTo>
                <a:lnTo>
                  <a:pt x="532" y="1804"/>
                </a:lnTo>
                <a:lnTo>
                  <a:pt x="544" y="1766"/>
                </a:lnTo>
                <a:lnTo>
                  <a:pt x="555" y="1726"/>
                </a:lnTo>
                <a:lnTo>
                  <a:pt x="565" y="1683"/>
                </a:lnTo>
                <a:lnTo>
                  <a:pt x="576" y="1641"/>
                </a:lnTo>
                <a:lnTo>
                  <a:pt x="586" y="1597"/>
                </a:lnTo>
                <a:lnTo>
                  <a:pt x="595" y="1551"/>
                </a:lnTo>
                <a:lnTo>
                  <a:pt x="605" y="1503"/>
                </a:lnTo>
                <a:lnTo>
                  <a:pt x="613" y="1455"/>
                </a:lnTo>
                <a:lnTo>
                  <a:pt x="620" y="1405"/>
                </a:lnTo>
                <a:lnTo>
                  <a:pt x="630" y="1353"/>
                </a:lnTo>
                <a:lnTo>
                  <a:pt x="638" y="1301"/>
                </a:lnTo>
                <a:lnTo>
                  <a:pt x="643" y="1248"/>
                </a:lnTo>
                <a:lnTo>
                  <a:pt x="651" y="1192"/>
                </a:lnTo>
                <a:lnTo>
                  <a:pt x="657" y="1134"/>
                </a:lnTo>
                <a:lnTo>
                  <a:pt x="661" y="1079"/>
                </a:lnTo>
                <a:lnTo>
                  <a:pt x="664" y="1023"/>
                </a:lnTo>
                <a:lnTo>
                  <a:pt x="668" y="971"/>
                </a:lnTo>
                <a:lnTo>
                  <a:pt x="672" y="919"/>
                </a:lnTo>
                <a:lnTo>
                  <a:pt x="674" y="869"/>
                </a:lnTo>
                <a:lnTo>
                  <a:pt x="678" y="820"/>
                </a:lnTo>
                <a:lnTo>
                  <a:pt x="680" y="774"/>
                </a:lnTo>
                <a:lnTo>
                  <a:pt x="682" y="727"/>
                </a:lnTo>
                <a:lnTo>
                  <a:pt x="684" y="683"/>
                </a:lnTo>
                <a:lnTo>
                  <a:pt x="684" y="641"/>
                </a:lnTo>
                <a:lnTo>
                  <a:pt x="684" y="601"/>
                </a:lnTo>
                <a:lnTo>
                  <a:pt x="684" y="560"/>
                </a:lnTo>
                <a:lnTo>
                  <a:pt x="684" y="524"/>
                </a:lnTo>
                <a:lnTo>
                  <a:pt x="684" y="487"/>
                </a:lnTo>
                <a:lnTo>
                  <a:pt x="682" y="453"/>
                </a:lnTo>
                <a:lnTo>
                  <a:pt x="680" y="420"/>
                </a:lnTo>
                <a:lnTo>
                  <a:pt x="678" y="388"/>
                </a:lnTo>
                <a:lnTo>
                  <a:pt x="676" y="357"/>
                </a:lnTo>
                <a:lnTo>
                  <a:pt x="672" y="330"/>
                </a:lnTo>
                <a:lnTo>
                  <a:pt x="670" y="303"/>
                </a:lnTo>
                <a:lnTo>
                  <a:pt x="666" y="278"/>
                </a:lnTo>
                <a:lnTo>
                  <a:pt x="663" y="253"/>
                </a:lnTo>
                <a:lnTo>
                  <a:pt x="659" y="232"/>
                </a:lnTo>
                <a:lnTo>
                  <a:pt x="655" y="211"/>
                </a:lnTo>
                <a:lnTo>
                  <a:pt x="649" y="192"/>
                </a:lnTo>
                <a:lnTo>
                  <a:pt x="645" y="175"/>
                </a:lnTo>
                <a:lnTo>
                  <a:pt x="640" y="157"/>
                </a:lnTo>
                <a:lnTo>
                  <a:pt x="636" y="144"/>
                </a:lnTo>
                <a:lnTo>
                  <a:pt x="630" y="130"/>
                </a:lnTo>
                <a:lnTo>
                  <a:pt x="624" y="119"/>
                </a:lnTo>
                <a:lnTo>
                  <a:pt x="618" y="109"/>
                </a:lnTo>
                <a:lnTo>
                  <a:pt x="611" y="102"/>
                </a:lnTo>
                <a:lnTo>
                  <a:pt x="605" y="94"/>
                </a:lnTo>
                <a:lnTo>
                  <a:pt x="599" y="86"/>
                </a:lnTo>
                <a:lnTo>
                  <a:pt x="595" y="81"/>
                </a:lnTo>
                <a:lnTo>
                  <a:pt x="592" y="73"/>
                </a:lnTo>
                <a:lnTo>
                  <a:pt x="588" y="67"/>
                </a:lnTo>
                <a:lnTo>
                  <a:pt x="586" y="61"/>
                </a:lnTo>
                <a:lnTo>
                  <a:pt x="584" y="56"/>
                </a:lnTo>
                <a:lnTo>
                  <a:pt x="582" y="50"/>
                </a:lnTo>
                <a:lnTo>
                  <a:pt x="582" y="44"/>
                </a:lnTo>
                <a:lnTo>
                  <a:pt x="582" y="38"/>
                </a:lnTo>
                <a:lnTo>
                  <a:pt x="582" y="29"/>
                </a:lnTo>
                <a:lnTo>
                  <a:pt x="584" y="19"/>
                </a:lnTo>
                <a:lnTo>
                  <a:pt x="588" y="10"/>
                </a:lnTo>
                <a:lnTo>
                  <a:pt x="592" y="6"/>
                </a:lnTo>
                <a:lnTo>
                  <a:pt x="593" y="4"/>
                </a:lnTo>
                <a:lnTo>
                  <a:pt x="597" y="2"/>
                </a:lnTo>
                <a:lnTo>
                  <a:pt x="603" y="2"/>
                </a:lnTo>
                <a:lnTo>
                  <a:pt x="609" y="0"/>
                </a:lnTo>
                <a:lnTo>
                  <a:pt x="616" y="0"/>
                </a:lnTo>
                <a:lnTo>
                  <a:pt x="622" y="0"/>
                </a:lnTo>
                <a:lnTo>
                  <a:pt x="632" y="0"/>
                </a:lnTo>
                <a:lnTo>
                  <a:pt x="640" y="0"/>
                </a:lnTo>
                <a:lnTo>
                  <a:pt x="651" y="2"/>
                </a:lnTo>
                <a:lnTo>
                  <a:pt x="661" y="4"/>
                </a:lnTo>
                <a:lnTo>
                  <a:pt x="672" y="6"/>
                </a:lnTo>
                <a:lnTo>
                  <a:pt x="686" y="10"/>
                </a:lnTo>
                <a:lnTo>
                  <a:pt x="697" y="13"/>
                </a:lnTo>
                <a:lnTo>
                  <a:pt x="712" y="17"/>
                </a:lnTo>
                <a:lnTo>
                  <a:pt x="726" y="21"/>
                </a:lnTo>
                <a:lnTo>
                  <a:pt x="741" y="29"/>
                </a:lnTo>
                <a:lnTo>
                  <a:pt x="755" y="36"/>
                </a:lnTo>
                <a:lnTo>
                  <a:pt x="768" y="42"/>
                </a:lnTo>
                <a:lnTo>
                  <a:pt x="780" y="50"/>
                </a:lnTo>
                <a:lnTo>
                  <a:pt x="791" y="56"/>
                </a:lnTo>
                <a:lnTo>
                  <a:pt x="801" y="61"/>
                </a:lnTo>
                <a:lnTo>
                  <a:pt x="810" y="67"/>
                </a:lnTo>
                <a:lnTo>
                  <a:pt x="820" y="71"/>
                </a:lnTo>
                <a:lnTo>
                  <a:pt x="828" y="77"/>
                </a:lnTo>
                <a:lnTo>
                  <a:pt x="833" y="81"/>
                </a:lnTo>
                <a:lnTo>
                  <a:pt x="839" y="84"/>
                </a:lnTo>
                <a:lnTo>
                  <a:pt x="845" y="88"/>
                </a:lnTo>
                <a:lnTo>
                  <a:pt x="849" y="92"/>
                </a:lnTo>
                <a:lnTo>
                  <a:pt x="851" y="96"/>
                </a:lnTo>
                <a:lnTo>
                  <a:pt x="853" y="98"/>
                </a:lnTo>
                <a:lnTo>
                  <a:pt x="853" y="102"/>
                </a:lnTo>
                <a:lnTo>
                  <a:pt x="853" y="111"/>
                </a:lnTo>
                <a:lnTo>
                  <a:pt x="853" y="123"/>
                </a:lnTo>
                <a:lnTo>
                  <a:pt x="853" y="136"/>
                </a:lnTo>
                <a:lnTo>
                  <a:pt x="853" y="150"/>
                </a:lnTo>
                <a:lnTo>
                  <a:pt x="853" y="163"/>
                </a:lnTo>
                <a:lnTo>
                  <a:pt x="853" y="178"/>
                </a:lnTo>
                <a:lnTo>
                  <a:pt x="853" y="207"/>
                </a:lnTo>
                <a:lnTo>
                  <a:pt x="851" y="217"/>
                </a:lnTo>
                <a:lnTo>
                  <a:pt x="849" y="228"/>
                </a:lnTo>
                <a:lnTo>
                  <a:pt x="847" y="242"/>
                </a:lnTo>
                <a:lnTo>
                  <a:pt x="847" y="255"/>
                </a:lnTo>
                <a:lnTo>
                  <a:pt x="845" y="269"/>
                </a:lnTo>
                <a:lnTo>
                  <a:pt x="845" y="284"/>
                </a:lnTo>
                <a:lnTo>
                  <a:pt x="843" y="301"/>
                </a:lnTo>
                <a:lnTo>
                  <a:pt x="843" y="319"/>
                </a:lnTo>
                <a:lnTo>
                  <a:pt x="843" y="338"/>
                </a:lnTo>
                <a:lnTo>
                  <a:pt x="841" y="357"/>
                </a:lnTo>
                <a:lnTo>
                  <a:pt x="841" y="378"/>
                </a:lnTo>
                <a:lnTo>
                  <a:pt x="841" y="399"/>
                </a:lnTo>
                <a:lnTo>
                  <a:pt x="841" y="422"/>
                </a:lnTo>
                <a:lnTo>
                  <a:pt x="841" y="447"/>
                </a:lnTo>
                <a:lnTo>
                  <a:pt x="841" y="472"/>
                </a:lnTo>
                <a:lnTo>
                  <a:pt x="841" y="4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68"/>
          <p:cNvSpPr/>
          <p:nvPr/>
        </p:nvSpPr>
        <p:spPr>
          <a:xfrm>
            <a:off x="5827680" y="2792520"/>
            <a:ext cx="409680" cy="2276280"/>
          </a:xfrm>
          <a:custGeom>
            <a:avLst/>
            <a:gdLst/>
            <a:ahLst/>
            <a:rect l="l" t="t" r="r" b="b"/>
            <a:pathLst>
              <a:path w="517" h="2868">
                <a:moveTo>
                  <a:pt x="425" y="2576"/>
                </a:moveTo>
                <a:lnTo>
                  <a:pt x="421" y="2605"/>
                </a:lnTo>
                <a:lnTo>
                  <a:pt x="415" y="2634"/>
                </a:lnTo>
                <a:lnTo>
                  <a:pt x="407" y="2661"/>
                </a:lnTo>
                <a:lnTo>
                  <a:pt x="400" y="2688"/>
                </a:lnTo>
                <a:lnTo>
                  <a:pt x="390" y="2713"/>
                </a:lnTo>
                <a:lnTo>
                  <a:pt x="380" y="2738"/>
                </a:lnTo>
                <a:lnTo>
                  <a:pt x="369" y="2762"/>
                </a:lnTo>
                <a:lnTo>
                  <a:pt x="357" y="2789"/>
                </a:lnTo>
                <a:lnTo>
                  <a:pt x="348" y="2799"/>
                </a:lnTo>
                <a:lnTo>
                  <a:pt x="340" y="2807"/>
                </a:lnTo>
                <a:lnTo>
                  <a:pt x="333" y="2816"/>
                </a:lnTo>
                <a:lnTo>
                  <a:pt x="325" y="2824"/>
                </a:lnTo>
                <a:lnTo>
                  <a:pt x="317" y="2830"/>
                </a:lnTo>
                <a:lnTo>
                  <a:pt x="309" y="2837"/>
                </a:lnTo>
                <a:lnTo>
                  <a:pt x="304" y="2843"/>
                </a:lnTo>
                <a:lnTo>
                  <a:pt x="298" y="2849"/>
                </a:lnTo>
                <a:lnTo>
                  <a:pt x="292" y="2853"/>
                </a:lnTo>
                <a:lnTo>
                  <a:pt x="286" y="2857"/>
                </a:lnTo>
                <a:lnTo>
                  <a:pt x="283" y="2860"/>
                </a:lnTo>
                <a:lnTo>
                  <a:pt x="277" y="2862"/>
                </a:lnTo>
                <a:lnTo>
                  <a:pt x="273" y="2866"/>
                </a:lnTo>
                <a:lnTo>
                  <a:pt x="269" y="2866"/>
                </a:lnTo>
                <a:lnTo>
                  <a:pt x="267" y="2868"/>
                </a:lnTo>
                <a:lnTo>
                  <a:pt x="265" y="2868"/>
                </a:lnTo>
                <a:lnTo>
                  <a:pt x="256" y="2862"/>
                </a:lnTo>
                <a:lnTo>
                  <a:pt x="248" y="2855"/>
                </a:lnTo>
                <a:lnTo>
                  <a:pt x="242" y="2851"/>
                </a:lnTo>
                <a:lnTo>
                  <a:pt x="238" y="2847"/>
                </a:lnTo>
                <a:lnTo>
                  <a:pt x="235" y="2841"/>
                </a:lnTo>
                <a:lnTo>
                  <a:pt x="231" y="2835"/>
                </a:lnTo>
                <a:lnTo>
                  <a:pt x="227" y="2828"/>
                </a:lnTo>
                <a:lnTo>
                  <a:pt x="223" y="2822"/>
                </a:lnTo>
                <a:lnTo>
                  <a:pt x="221" y="2812"/>
                </a:lnTo>
                <a:lnTo>
                  <a:pt x="217" y="2805"/>
                </a:lnTo>
                <a:lnTo>
                  <a:pt x="213" y="2795"/>
                </a:lnTo>
                <a:lnTo>
                  <a:pt x="212" y="2786"/>
                </a:lnTo>
                <a:lnTo>
                  <a:pt x="210" y="2774"/>
                </a:lnTo>
                <a:lnTo>
                  <a:pt x="208" y="2762"/>
                </a:lnTo>
                <a:lnTo>
                  <a:pt x="204" y="2749"/>
                </a:lnTo>
                <a:lnTo>
                  <a:pt x="200" y="2738"/>
                </a:lnTo>
                <a:lnTo>
                  <a:pt x="196" y="2724"/>
                </a:lnTo>
                <a:lnTo>
                  <a:pt x="192" y="2713"/>
                </a:lnTo>
                <a:lnTo>
                  <a:pt x="187" y="2701"/>
                </a:lnTo>
                <a:lnTo>
                  <a:pt x="181" y="2688"/>
                </a:lnTo>
                <a:lnTo>
                  <a:pt x="173" y="2676"/>
                </a:lnTo>
                <a:lnTo>
                  <a:pt x="166" y="2665"/>
                </a:lnTo>
                <a:lnTo>
                  <a:pt x="158" y="2653"/>
                </a:lnTo>
                <a:lnTo>
                  <a:pt x="150" y="2642"/>
                </a:lnTo>
                <a:lnTo>
                  <a:pt x="133" y="2619"/>
                </a:lnTo>
                <a:lnTo>
                  <a:pt x="112" y="2597"/>
                </a:lnTo>
                <a:lnTo>
                  <a:pt x="93" y="2576"/>
                </a:lnTo>
                <a:lnTo>
                  <a:pt x="81" y="2569"/>
                </a:lnTo>
                <a:lnTo>
                  <a:pt x="71" y="2561"/>
                </a:lnTo>
                <a:lnTo>
                  <a:pt x="62" y="2553"/>
                </a:lnTo>
                <a:lnTo>
                  <a:pt x="52" y="2546"/>
                </a:lnTo>
                <a:lnTo>
                  <a:pt x="45" y="2540"/>
                </a:lnTo>
                <a:lnTo>
                  <a:pt x="37" y="2532"/>
                </a:lnTo>
                <a:lnTo>
                  <a:pt x="31" y="2524"/>
                </a:lnTo>
                <a:lnTo>
                  <a:pt x="23" y="2519"/>
                </a:lnTo>
                <a:lnTo>
                  <a:pt x="18" y="2511"/>
                </a:lnTo>
                <a:lnTo>
                  <a:pt x="14" y="2505"/>
                </a:lnTo>
                <a:lnTo>
                  <a:pt x="10" y="2498"/>
                </a:lnTo>
                <a:lnTo>
                  <a:pt x="6" y="2492"/>
                </a:lnTo>
                <a:lnTo>
                  <a:pt x="2" y="2486"/>
                </a:lnTo>
                <a:lnTo>
                  <a:pt x="0" y="2480"/>
                </a:lnTo>
                <a:lnTo>
                  <a:pt x="0" y="2475"/>
                </a:lnTo>
                <a:lnTo>
                  <a:pt x="0" y="2471"/>
                </a:lnTo>
                <a:lnTo>
                  <a:pt x="0" y="2469"/>
                </a:lnTo>
                <a:lnTo>
                  <a:pt x="0" y="2467"/>
                </a:lnTo>
                <a:lnTo>
                  <a:pt x="2" y="2465"/>
                </a:lnTo>
                <a:lnTo>
                  <a:pt x="6" y="2463"/>
                </a:lnTo>
                <a:lnTo>
                  <a:pt x="10" y="2463"/>
                </a:lnTo>
                <a:lnTo>
                  <a:pt x="14" y="2461"/>
                </a:lnTo>
                <a:lnTo>
                  <a:pt x="20" y="2461"/>
                </a:lnTo>
                <a:lnTo>
                  <a:pt x="27" y="2461"/>
                </a:lnTo>
                <a:lnTo>
                  <a:pt x="35" y="2463"/>
                </a:lnTo>
                <a:lnTo>
                  <a:pt x="43" y="2465"/>
                </a:lnTo>
                <a:lnTo>
                  <a:pt x="52" y="2465"/>
                </a:lnTo>
                <a:lnTo>
                  <a:pt x="62" y="2469"/>
                </a:lnTo>
                <a:lnTo>
                  <a:pt x="73" y="2471"/>
                </a:lnTo>
                <a:lnTo>
                  <a:pt x="87" y="2475"/>
                </a:lnTo>
                <a:lnTo>
                  <a:pt x="100" y="2478"/>
                </a:lnTo>
                <a:lnTo>
                  <a:pt x="116" y="2484"/>
                </a:lnTo>
                <a:lnTo>
                  <a:pt x="129" y="2488"/>
                </a:lnTo>
                <a:lnTo>
                  <a:pt x="142" y="2492"/>
                </a:lnTo>
                <a:lnTo>
                  <a:pt x="156" y="2496"/>
                </a:lnTo>
                <a:lnTo>
                  <a:pt x="169" y="2500"/>
                </a:lnTo>
                <a:lnTo>
                  <a:pt x="181" y="2501"/>
                </a:lnTo>
                <a:lnTo>
                  <a:pt x="190" y="2501"/>
                </a:lnTo>
                <a:lnTo>
                  <a:pt x="202" y="2501"/>
                </a:lnTo>
                <a:lnTo>
                  <a:pt x="212" y="2501"/>
                </a:lnTo>
                <a:lnTo>
                  <a:pt x="219" y="2501"/>
                </a:lnTo>
                <a:lnTo>
                  <a:pt x="229" y="2500"/>
                </a:lnTo>
                <a:lnTo>
                  <a:pt x="237" y="2496"/>
                </a:lnTo>
                <a:lnTo>
                  <a:pt x="242" y="2494"/>
                </a:lnTo>
                <a:lnTo>
                  <a:pt x="248" y="2488"/>
                </a:lnTo>
                <a:lnTo>
                  <a:pt x="254" y="2484"/>
                </a:lnTo>
                <a:lnTo>
                  <a:pt x="260" y="2476"/>
                </a:lnTo>
                <a:lnTo>
                  <a:pt x="265" y="2471"/>
                </a:lnTo>
                <a:lnTo>
                  <a:pt x="265" y="2465"/>
                </a:lnTo>
                <a:lnTo>
                  <a:pt x="267" y="2461"/>
                </a:lnTo>
                <a:lnTo>
                  <a:pt x="267" y="2453"/>
                </a:lnTo>
                <a:lnTo>
                  <a:pt x="269" y="2444"/>
                </a:lnTo>
                <a:lnTo>
                  <a:pt x="271" y="2434"/>
                </a:lnTo>
                <a:lnTo>
                  <a:pt x="271" y="2425"/>
                </a:lnTo>
                <a:lnTo>
                  <a:pt x="273" y="2411"/>
                </a:lnTo>
                <a:lnTo>
                  <a:pt x="275" y="2398"/>
                </a:lnTo>
                <a:lnTo>
                  <a:pt x="277" y="2382"/>
                </a:lnTo>
                <a:lnTo>
                  <a:pt x="277" y="2367"/>
                </a:lnTo>
                <a:lnTo>
                  <a:pt x="279" y="2350"/>
                </a:lnTo>
                <a:lnTo>
                  <a:pt x="281" y="2331"/>
                </a:lnTo>
                <a:lnTo>
                  <a:pt x="283" y="2309"/>
                </a:lnTo>
                <a:lnTo>
                  <a:pt x="285" y="2288"/>
                </a:lnTo>
                <a:lnTo>
                  <a:pt x="286" y="2265"/>
                </a:lnTo>
                <a:lnTo>
                  <a:pt x="286" y="2242"/>
                </a:lnTo>
                <a:lnTo>
                  <a:pt x="288" y="2215"/>
                </a:lnTo>
                <a:lnTo>
                  <a:pt x="290" y="2189"/>
                </a:lnTo>
                <a:lnTo>
                  <a:pt x="292" y="2162"/>
                </a:lnTo>
                <a:lnTo>
                  <a:pt x="294" y="2131"/>
                </a:lnTo>
                <a:lnTo>
                  <a:pt x="296" y="2100"/>
                </a:lnTo>
                <a:lnTo>
                  <a:pt x="296" y="2070"/>
                </a:lnTo>
                <a:lnTo>
                  <a:pt x="298" y="2035"/>
                </a:lnTo>
                <a:lnTo>
                  <a:pt x="300" y="2000"/>
                </a:lnTo>
                <a:lnTo>
                  <a:pt x="302" y="1964"/>
                </a:lnTo>
                <a:lnTo>
                  <a:pt x="304" y="1928"/>
                </a:lnTo>
                <a:lnTo>
                  <a:pt x="304" y="1889"/>
                </a:lnTo>
                <a:lnTo>
                  <a:pt x="306" y="1849"/>
                </a:lnTo>
                <a:lnTo>
                  <a:pt x="308" y="1807"/>
                </a:lnTo>
                <a:lnTo>
                  <a:pt x="308" y="1764"/>
                </a:lnTo>
                <a:lnTo>
                  <a:pt x="309" y="1720"/>
                </a:lnTo>
                <a:lnTo>
                  <a:pt x="311" y="1676"/>
                </a:lnTo>
                <a:lnTo>
                  <a:pt x="311" y="1630"/>
                </a:lnTo>
                <a:lnTo>
                  <a:pt x="313" y="1586"/>
                </a:lnTo>
                <a:lnTo>
                  <a:pt x="313" y="1542"/>
                </a:lnTo>
                <a:lnTo>
                  <a:pt x="313" y="1498"/>
                </a:lnTo>
                <a:lnTo>
                  <a:pt x="315" y="1455"/>
                </a:lnTo>
                <a:lnTo>
                  <a:pt x="315" y="1415"/>
                </a:lnTo>
                <a:lnTo>
                  <a:pt x="317" y="1375"/>
                </a:lnTo>
                <a:lnTo>
                  <a:pt x="317" y="1334"/>
                </a:lnTo>
                <a:lnTo>
                  <a:pt x="317" y="1296"/>
                </a:lnTo>
                <a:lnTo>
                  <a:pt x="317" y="1260"/>
                </a:lnTo>
                <a:lnTo>
                  <a:pt x="319" y="1223"/>
                </a:lnTo>
                <a:lnTo>
                  <a:pt x="319" y="1187"/>
                </a:lnTo>
                <a:lnTo>
                  <a:pt x="319" y="1152"/>
                </a:lnTo>
                <a:lnTo>
                  <a:pt x="319" y="1117"/>
                </a:lnTo>
                <a:lnTo>
                  <a:pt x="321" y="1085"/>
                </a:lnTo>
                <a:lnTo>
                  <a:pt x="321" y="1052"/>
                </a:lnTo>
                <a:lnTo>
                  <a:pt x="321" y="1022"/>
                </a:lnTo>
                <a:lnTo>
                  <a:pt x="321" y="991"/>
                </a:lnTo>
                <a:lnTo>
                  <a:pt x="321" y="962"/>
                </a:lnTo>
                <a:lnTo>
                  <a:pt x="321" y="933"/>
                </a:lnTo>
                <a:lnTo>
                  <a:pt x="321" y="906"/>
                </a:lnTo>
                <a:lnTo>
                  <a:pt x="321" y="879"/>
                </a:lnTo>
                <a:lnTo>
                  <a:pt x="321" y="853"/>
                </a:lnTo>
                <a:lnTo>
                  <a:pt x="321" y="830"/>
                </a:lnTo>
                <a:lnTo>
                  <a:pt x="321" y="805"/>
                </a:lnTo>
                <a:lnTo>
                  <a:pt x="321" y="784"/>
                </a:lnTo>
                <a:lnTo>
                  <a:pt x="321" y="760"/>
                </a:lnTo>
                <a:lnTo>
                  <a:pt x="321" y="741"/>
                </a:lnTo>
                <a:lnTo>
                  <a:pt x="323" y="720"/>
                </a:lnTo>
                <a:lnTo>
                  <a:pt x="323" y="703"/>
                </a:lnTo>
                <a:lnTo>
                  <a:pt x="323" y="684"/>
                </a:lnTo>
                <a:lnTo>
                  <a:pt x="323" y="668"/>
                </a:lnTo>
                <a:lnTo>
                  <a:pt x="319" y="636"/>
                </a:lnTo>
                <a:lnTo>
                  <a:pt x="319" y="605"/>
                </a:lnTo>
                <a:lnTo>
                  <a:pt x="317" y="574"/>
                </a:lnTo>
                <a:lnTo>
                  <a:pt x="315" y="545"/>
                </a:lnTo>
                <a:lnTo>
                  <a:pt x="313" y="519"/>
                </a:lnTo>
                <a:lnTo>
                  <a:pt x="313" y="492"/>
                </a:lnTo>
                <a:lnTo>
                  <a:pt x="313" y="465"/>
                </a:lnTo>
                <a:lnTo>
                  <a:pt x="311" y="440"/>
                </a:lnTo>
                <a:lnTo>
                  <a:pt x="311" y="415"/>
                </a:lnTo>
                <a:lnTo>
                  <a:pt x="311" y="392"/>
                </a:lnTo>
                <a:lnTo>
                  <a:pt x="311" y="369"/>
                </a:lnTo>
                <a:lnTo>
                  <a:pt x="311" y="348"/>
                </a:lnTo>
                <a:lnTo>
                  <a:pt x="311" y="327"/>
                </a:lnTo>
                <a:lnTo>
                  <a:pt x="311" y="307"/>
                </a:lnTo>
                <a:lnTo>
                  <a:pt x="311" y="288"/>
                </a:lnTo>
                <a:lnTo>
                  <a:pt x="311" y="271"/>
                </a:lnTo>
                <a:lnTo>
                  <a:pt x="308" y="254"/>
                </a:lnTo>
                <a:lnTo>
                  <a:pt x="306" y="236"/>
                </a:lnTo>
                <a:lnTo>
                  <a:pt x="304" y="221"/>
                </a:lnTo>
                <a:lnTo>
                  <a:pt x="302" y="208"/>
                </a:lnTo>
                <a:lnTo>
                  <a:pt x="298" y="194"/>
                </a:lnTo>
                <a:lnTo>
                  <a:pt x="296" y="181"/>
                </a:lnTo>
                <a:lnTo>
                  <a:pt x="294" y="169"/>
                </a:lnTo>
                <a:lnTo>
                  <a:pt x="290" y="158"/>
                </a:lnTo>
                <a:lnTo>
                  <a:pt x="286" y="146"/>
                </a:lnTo>
                <a:lnTo>
                  <a:pt x="283" y="137"/>
                </a:lnTo>
                <a:lnTo>
                  <a:pt x="279" y="127"/>
                </a:lnTo>
                <a:lnTo>
                  <a:pt x="275" y="117"/>
                </a:lnTo>
                <a:lnTo>
                  <a:pt x="265" y="100"/>
                </a:lnTo>
                <a:lnTo>
                  <a:pt x="260" y="92"/>
                </a:lnTo>
                <a:lnTo>
                  <a:pt x="254" y="85"/>
                </a:lnTo>
                <a:lnTo>
                  <a:pt x="246" y="77"/>
                </a:lnTo>
                <a:lnTo>
                  <a:pt x="242" y="69"/>
                </a:lnTo>
                <a:lnTo>
                  <a:pt x="237" y="64"/>
                </a:lnTo>
                <a:lnTo>
                  <a:pt x="233" y="58"/>
                </a:lnTo>
                <a:lnTo>
                  <a:pt x="231" y="52"/>
                </a:lnTo>
                <a:lnTo>
                  <a:pt x="229" y="46"/>
                </a:lnTo>
                <a:lnTo>
                  <a:pt x="227" y="41"/>
                </a:lnTo>
                <a:lnTo>
                  <a:pt x="227" y="35"/>
                </a:lnTo>
                <a:lnTo>
                  <a:pt x="227" y="31"/>
                </a:lnTo>
                <a:lnTo>
                  <a:pt x="229" y="25"/>
                </a:lnTo>
                <a:lnTo>
                  <a:pt x="231" y="21"/>
                </a:lnTo>
                <a:lnTo>
                  <a:pt x="233" y="18"/>
                </a:lnTo>
                <a:lnTo>
                  <a:pt x="237" y="14"/>
                </a:lnTo>
                <a:lnTo>
                  <a:pt x="242" y="10"/>
                </a:lnTo>
                <a:lnTo>
                  <a:pt x="246" y="8"/>
                </a:lnTo>
                <a:lnTo>
                  <a:pt x="254" y="6"/>
                </a:lnTo>
                <a:lnTo>
                  <a:pt x="260" y="2"/>
                </a:lnTo>
                <a:lnTo>
                  <a:pt x="267" y="2"/>
                </a:lnTo>
                <a:lnTo>
                  <a:pt x="273" y="0"/>
                </a:lnTo>
                <a:lnTo>
                  <a:pt x="281" y="0"/>
                </a:lnTo>
                <a:lnTo>
                  <a:pt x="288" y="0"/>
                </a:lnTo>
                <a:lnTo>
                  <a:pt x="298" y="0"/>
                </a:lnTo>
                <a:lnTo>
                  <a:pt x="306" y="2"/>
                </a:lnTo>
                <a:lnTo>
                  <a:pt x="315" y="4"/>
                </a:lnTo>
                <a:lnTo>
                  <a:pt x="327" y="8"/>
                </a:lnTo>
                <a:lnTo>
                  <a:pt x="336" y="12"/>
                </a:lnTo>
                <a:lnTo>
                  <a:pt x="348" y="16"/>
                </a:lnTo>
                <a:lnTo>
                  <a:pt x="359" y="20"/>
                </a:lnTo>
                <a:lnTo>
                  <a:pt x="373" y="25"/>
                </a:lnTo>
                <a:lnTo>
                  <a:pt x="384" y="31"/>
                </a:lnTo>
                <a:lnTo>
                  <a:pt x="400" y="39"/>
                </a:lnTo>
                <a:lnTo>
                  <a:pt x="413" y="45"/>
                </a:lnTo>
                <a:lnTo>
                  <a:pt x="427" y="52"/>
                </a:lnTo>
                <a:lnTo>
                  <a:pt x="438" y="60"/>
                </a:lnTo>
                <a:lnTo>
                  <a:pt x="450" y="68"/>
                </a:lnTo>
                <a:lnTo>
                  <a:pt x="459" y="75"/>
                </a:lnTo>
                <a:lnTo>
                  <a:pt x="469" y="83"/>
                </a:lnTo>
                <a:lnTo>
                  <a:pt x="476" y="89"/>
                </a:lnTo>
                <a:lnTo>
                  <a:pt x="484" y="96"/>
                </a:lnTo>
                <a:lnTo>
                  <a:pt x="492" y="104"/>
                </a:lnTo>
                <a:lnTo>
                  <a:pt x="498" y="110"/>
                </a:lnTo>
                <a:lnTo>
                  <a:pt x="503" y="117"/>
                </a:lnTo>
                <a:lnTo>
                  <a:pt x="507" y="123"/>
                </a:lnTo>
                <a:lnTo>
                  <a:pt x="511" y="129"/>
                </a:lnTo>
                <a:lnTo>
                  <a:pt x="513" y="135"/>
                </a:lnTo>
                <a:lnTo>
                  <a:pt x="515" y="140"/>
                </a:lnTo>
                <a:lnTo>
                  <a:pt x="517" y="146"/>
                </a:lnTo>
                <a:lnTo>
                  <a:pt x="517" y="152"/>
                </a:lnTo>
                <a:lnTo>
                  <a:pt x="509" y="181"/>
                </a:lnTo>
                <a:lnTo>
                  <a:pt x="505" y="196"/>
                </a:lnTo>
                <a:lnTo>
                  <a:pt x="499" y="211"/>
                </a:lnTo>
                <a:lnTo>
                  <a:pt x="496" y="229"/>
                </a:lnTo>
                <a:lnTo>
                  <a:pt x="492" y="246"/>
                </a:lnTo>
                <a:lnTo>
                  <a:pt x="488" y="263"/>
                </a:lnTo>
                <a:lnTo>
                  <a:pt x="482" y="284"/>
                </a:lnTo>
                <a:lnTo>
                  <a:pt x="480" y="290"/>
                </a:lnTo>
                <a:lnTo>
                  <a:pt x="478" y="298"/>
                </a:lnTo>
                <a:lnTo>
                  <a:pt x="476" y="307"/>
                </a:lnTo>
                <a:lnTo>
                  <a:pt x="475" y="317"/>
                </a:lnTo>
                <a:lnTo>
                  <a:pt x="473" y="329"/>
                </a:lnTo>
                <a:lnTo>
                  <a:pt x="471" y="342"/>
                </a:lnTo>
                <a:lnTo>
                  <a:pt x="469" y="355"/>
                </a:lnTo>
                <a:lnTo>
                  <a:pt x="467" y="371"/>
                </a:lnTo>
                <a:lnTo>
                  <a:pt x="467" y="386"/>
                </a:lnTo>
                <a:lnTo>
                  <a:pt x="465" y="403"/>
                </a:lnTo>
                <a:lnTo>
                  <a:pt x="463" y="423"/>
                </a:lnTo>
                <a:lnTo>
                  <a:pt x="461" y="442"/>
                </a:lnTo>
                <a:lnTo>
                  <a:pt x="459" y="463"/>
                </a:lnTo>
                <a:lnTo>
                  <a:pt x="459" y="486"/>
                </a:lnTo>
                <a:lnTo>
                  <a:pt x="457" y="509"/>
                </a:lnTo>
                <a:lnTo>
                  <a:pt x="455" y="534"/>
                </a:lnTo>
                <a:lnTo>
                  <a:pt x="453" y="559"/>
                </a:lnTo>
                <a:lnTo>
                  <a:pt x="453" y="586"/>
                </a:lnTo>
                <a:lnTo>
                  <a:pt x="452" y="615"/>
                </a:lnTo>
                <a:lnTo>
                  <a:pt x="450" y="643"/>
                </a:lnTo>
                <a:lnTo>
                  <a:pt x="450" y="674"/>
                </a:lnTo>
                <a:lnTo>
                  <a:pt x="448" y="707"/>
                </a:lnTo>
                <a:lnTo>
                  <a:pt x="448" y="739"/>
                </a:lnTo>
                <a:lnTo>
                  <a:pt x="446" y="774"/>
                </a:lnTo>
                <a:lnTo>
                  <a:pt x="444" y="808"/>
                </a:lnTo>
                <a:lnTo>
                  <a:pt x="444" y="847"/>
                </a:lnTo>
                <a:lnTo>
                  <a:pt x="442" y="883"/>
                </a:lnTo>
                <a:lnTo>
                  <a:pt x="442" y="924"/>
                </a:lnTo>
                <a:lnTo>
                  <a:pt x="440" y="964"/>
                </a:lnTo>
                <a:lnTo>
                  <a:pt x="438" y="1004"/>
                </a:lnTo>
                <a:lnTo>
                  <a:pt x="438" y="1048"/>
                </a:lnTo>
                <a:lnTo>
                  <a:pt x="436" y="1093"/>
                </a:lnTo>
                <a:lnTo>
                  <a:pt x="436" y="1139"/>
                </a:lnTo>
                <a:lnTo>
                  <a:pt x="434" y="1183"/>
                </a:lnTo>
                <a:lnTo>
                  <a:pt x="434" y="1227"/>
                </a:lnTo>
                <a:lnTo>
                  <a:pt x="432" y="1269"/>
                </a:lnTo>
                <a:lnTo>
                  <a:pt x="432" y="1311"/>
                </a:lnTo>
                <a:lnTo>
                  <a:pt x="432" y="1354"/>
                </a:lnTo>
                <a:lnTo>
                  <a:pt x="430" y="1394"/>
                </a:lnTo>
                <a:lnTo>
                  <a:pt x="430" y="1432"/>
                </a:lnTo>
                <a:lnTo>
                  <a:pt x="430" y="1471"/>
                </a:lnTo>
                <a:lnTo>
                  <a:pt x="430" y="1509"/>
                </a:lnTo>
                <a:lnTo>
                  <a:pt x="428" y="1547"/>
                </a:lnTo>
                <a:lnTo>
                  <a:pt x="428" y="1584"/>
                </a:lnTo>
                <a:lnTo>
                  <a:pt x="428" y="1618"/>
                </a:lnTo>
                <a:lnTo>
                  <a:pt x="428" y="1653"/>
                </a:lnTo>
                <a:lnTo>
                  <a:pt x="428" y="1688"/>
                </a:lnTo>
                <a:lnTo>
                  <a:pt x="428" y="1720"/>
                </a:lnTo>
                <a:lnTo>
                  <a:pt x="428" y="1753"/>
                </a:lnTo>
                <a:lnTo>
                  <a:pt x="428" y="1784"/>
                </a:lnTo>
                <a:lnTo>
                  <a:pt x="428" y="1814"/>
                </a:lnTo>
                <a:lnTo>
                  <a:pt x="428" y="1843"/>
                </a:lnTo>
                <a:lnTo>
                  <a:pt x="428" y="1874"/>
                </a:lnTo>
                <a:lnTo>
                  <a:pt x="430" y="1901"/>
                </a:lnTo>
                <a:lnTo>
                  <a:pt x="430" y="1929"/>
                </a:lnTo>
                <a:lnTo>
                  <a:pt x="430" y="1954"/>
                </a:lnTo>
                <a:lnTo>
                  <a:pt x="430" y="1981"/>
                </a:lnTo>
                <a:lnTo>
                  <a:pt x="432" y="2006"/>
                </a:lnTo>
                <a:lnTo>
                  <a:pt x="432" y="2029"/>
                </a:lnTo>
                <a:lnTo>
                  <a:pt x="432" y="2054"/>
                </a:lnTo>
                <a:lnTo>
                  <a:pt x="434" y="2075"/>
                </a:lnTo>
                <a:lnTo>
                  <a:pt x="434" y="2098"/>
                </a:lnTo>
                <a:lnTo>
                  <a:pt x="436" y="2119"/>
                </a:lnTo>
                <a:lnTo>
                  <a:pt x="436" y="2139"/>
                </a:lnTo>
                <a:lnTo>
                  <a:pt x="438" y="2179"/>
                </a:lnTo>
                <a:lnTo>
                  <a:pt x="440" y="2215"/>
                </a:lnTo>
                <a:lnTo>
                  <a:pt x="440" y="2252"/>
                </a:lnTo>
                <a:lnTo>
                  <a:pt x="442" y="2286"/>
                </a:lnTo>
                <a:lnTo>
                  <a:pt x="442" y="2319"/>
                </a:lnTo>
                <a:lnTo>
                  <a:pt x="442" y="2350"/>
                </a:lnTo>
                <a:lnTo>
                  <a:pt x="440" y="2379"/>
                </a:lnTo>
                <a:lnTo>
                  <a:pt x="440" y="2407"/>
                </a:lnTo>
                <a:lnTo>
                  <a:pt x="438" y="2434"/>
                </a:lnTo>
                <a:lnTo>
                  <a:pt x="436" y="2459"/>
                </a:lnTo>
                <a:lnTo>
                  <a:pt x="436" y="2482"/>
                </a:lnTo>
                <a:lnTo>
                  <a:pt x="434" y="2503"/>
                </a:lnTo>
                <a:lnTo>
                  <a:pt x="432" y="2524"/>
                </a:lnTo>
                <a:lnTo>
                  <a:pt x="428" y="2544"/>
                </a:lnTo>
                <a:lnTo>
                  <a:pt x="427" y="2561"/>
                </a:lnTo>
                <a:lnTo>
                  <a:pt x="425" y="25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69"/>
          <p:cNvSpPr/>
          <p:nvPr/>
        </p:nvSpPr>
        <p:spPr>
          <a:xfrm>
            <a:off x="5468760" y="3825720"/>
            <a:ext cx="889200" cy="716040"/>
          </a:xfrm>
          <a:custGeom>
            <a:avLst/>
            <a:gdLst/>
            <a:ahLst/>
            <a:rect l="l" t="t" r="r" b="b"/>
            <a:pathLst>
              <a:path w="1121" h="902">
                <a:moveTo>
                  <a:pt x="177" y="902"/>
                </a:moveTo>
                <a:lnTo>
                  <a:pt x="169" y="902"/>
                </a:lnTo>
                <a:lnTo>
                  <a:pt x="164" y="900"/>
                </a:lnTo>
                <a:lnTo>
                  <a:pt x="156" y="898"/>
                </a:lnTo>
                <a:lnTo>
                  <a:pt x="150" y="896"/>
                </a:lnTo>
                <a:lnTo>
                  <a:pt x="142" y="894"/>
                </a:lnTo>
                <a:lnTo>
                  <a:pt x="137" y="890"/>
                </a:lnTo>
                <a:lnTo>
                  <a:pt x="129" y="885"/>
                </a:lnTo>
                <a:lnTo>
                  <a:pt x="123" y="881"/>
                </a:lnTo>
                <a:lnTo>
                  <a:pt x="116" y="873"/>
                </a:lnTo>
                <a:lnTo>
                  <a:pt x="108" y="867"/>
                </a:lnTo>
                <a:lnTo>
                  <a:pt x="100" y="860"/>
                </a:lnTo>
                <a:lnTo>
                  <a:pt x="93" y="852"/>
                </a:lnTo>
                <a:lnTo>
                  <a:pt x="85" y="842"/>
                </a:lnTo>
                <a:lnTo>
                  <a:pt x="77" y="831"/>
                </a:lnTo>
                <a:lnTo>
                  <a:pt x="70" y="821"/>
                </a:lnTo>
                <a:lnTo>
                  <a:pt x="62" y="808"/>
                </a:lnTo>
                <a:lnTo>
                  <a:pt x="52" y="798"/>
                </a:lnTo>
                <a:lnTo>
                  <a:pt x="45" y="789"/>
                </a:lnTo>
                <a:lnTo>
                  <a:pt x="39" y="779"/>
                </a:lnTo>
                <a:lnTo>
                  <a:pt x="31" y="769"/>
                </a:lnTo>
                <a:lnTo>
                  <a:pt x="25" y="760"/>
                </a:lnTo>
                <a:lnTo>
                  <a:pt x="20" y="750"/>
                </a:lnTo>
                <a:lnTo>
                  <a:pt x="16" y="741"/>
                </a:lnTo>
                <a:lnTo>
                  <a:pt x="12" y="731"/>
                </a:lnTo>
                <a:lnTo>
                  <a:pt x="8" y="721"/>
                </a:lnTo>
                <a:lnTo>
                  <a:pt x="4" y="712"/>
                </a:lnTo>
                <a:lnTo>
                  <a:pt x="2" y="704"/>
                </a:lnTo>
                <a:lnTo>
                  <a:pt x="0" y="695"/>
                </a:lnTo>
                <a:lnTo>
                  <a:pt x="0" y="687"/>
                </a:lnTo>
                <a:lnTo>
                  <a:pt x="0" y="679"/>
                </a:lnTo>
                <a:lnTo>
                  <a:pt x="2" y="670"/>
                </a:lnTo>
                <a:lnTo>
                  <a:pt x="4" y="664"/>
                </a:lnTo>
                <a:lnTo>
                  <a:pt x="4" y="656"/>
                </a:lnTo>
                <a:lnTo>
                  <a:pt x="4" y="648"/>
                </a:lnTo>
                <a:lnTo>
                  <a:pt x="6" y="643"/>
                </a:lnTo>
                <a:lnTo>
                  <a:pt x="8" y="637"/>
                </a:lnTo>
                <a:lnTo>
                  <a:pt x="10" y="633"/>
                </a:lnTo>
                <a:lnTo>
                  <a:pt x="14" y="629"/>
                </a:lnTo>
                <a:lnTo>
                  <a:pt x="16" y="625"/>
                </a:lnTo>
                <a:lnTo>
                  <a:pt x="22" y="622"/>
                </a:lnTo>
                <a:lnTo>
                  <a:pt x="25" y="618"/>
                </a:lnTo>
                <a:lnTo>
                  <a:pt x="31" y="616"/>
                </a:lnTo>
                <a:lnTo>
                  <a:pt x="37" y="614"/>
                </a:lnTo>
                <a:lnTo>
                  <a:pt x="43" y="612"/>
                </a:lnTo>
                <a:lnTo>
                  <a:pt x="48" y="612"/>
                </a:lnTo>
                <a:lnTo>
                  <a:pt x="56" y="610"/>
                </a:lnTo>
                <a:lnTo>
                  <a:pt x="64" y="610"/>
                </a:lnTo>
                <a:lnTo>
                  <a:pt x="73" y="610"/>
                </a:lnTo>
                <a:lnTo>
                  <a:pt x="89" y="614"/>
                </a:lnTo>
                <a:lnTo>
                  <a:pt x="104" y="618"/>
                </a:lnTo>
                <a:lnTo>
                  <a:pt x="119" y="620"/>
                </a:lnTo>
                <a:lnTo>
                  <a:pt x="133" y="620"/>
                </a:lnTo>
                <a:lnTo>
                  <a:pt x="146" y="620"/>
                </a:lnTo>
                <a:lnTo>
                  <a:pt x="158" y="618"/>
                </a:lnTo>
                <a:lnTo>
                  <a:pt x="167" y="614"/>
                </a:lnTo>
                <a:lnTo>
                  <a:pt x="177" y="610"/>
                </a:lnTo>
                <a:lnTo>
                  <a:pt x="177" y="608"/>
                </a:lnTo>
                <a:lnTo>
                  <a:pt x="181" y="606"/>
                </a:lnTo>
                <a:lnTo>
                  <a:pt x="183" y="604"/>
                </a:lnTo>
                <a:lnTo>
                  <a:pt x="187" y="600"/>
                </a:lnTo>
                <a:lnTo>
                  <a:pt x="192" y="597"/>
                </a:lnTo>
                <a:lnTo>
                  <a:pt x="198" y="593"/>
                </a:lnTo>
                <a:lnTo>
                  <a:pt x="206" y="587"/>
                </a:lnTo>
                <a:lnTo>
                  <a:pt x="213" y="583"/>
                </a:lnTo>
                <a:lnTo>
                  <a:pt x="221" y="577"/>
                </a:lnTo>
                <a:lnTo>
                  <a:pt x="231" y="570"/>
                </a:lnTo>
                <a:lnTo>
                  <a:pt x="240" y="564"/>
                </a:lnTo>
                <a:lnTo>
                  <a:pt x="252" y="556"/>
                </a:lnTo>
                <a:lnTo>
                  <a:pt x="263" y="547"/>
                </a:lnTo>
                <a:lnTo>
                  <a:pt x="277" y="539"/>
                </a:lnTo>
                <a:lnTo>
                  <a:pt x="290" y="529"/>
                </a:lnTo>
                <a:lnTo>
                  <a:pt x="306" y="520"/>
                </a:lnTo>
                <a:lnTo>
                  <a:pt x="321" y="508"/>
                </a:lnTo>
                <a:lnTo>
                  <a:pt x="336" y="499"/>
                </a:lnTo>
                <a:lnTo>
                  <a:pt x="354" y="487"/>
                </a:lnTo>
                <a:lnTo>
                  <a:pt x="371" y="474"/>
                </a:lnTo>
                <a:lnTo>
                  <a:pt x="390" y="460"/>
                </a:lnTo>
                <a:lnTo>
                  <a:pt x="409" y="447"/>
                </a:lnTo>
                <a:lnTo>
                  <a:pt x="430" y="433"/>
                </a:lnTo>
                <a:lnTo>
                  <a:pt x="452" y="418"/>
                </a:lnTo>
                <a:lnTo>
                  <a:pt x="473" y="403"/>
                </a:lnTo>
                <a:lnTo>
                  <a:pt x="496" y="387"/>
                </a:lnTo>
                <a:lnTo>
                  <a:pt x="519" y="370"/>
                </a:lnTo>
                <a:lnTo>
                  <a:pt x="544" y="353"/>
                </a:lnTo>
                <a:lnTo>
                  <a:pt x="569" y="336"/>
                </a:lnTo>
                <a:lnTo>
                  <a:pt x="594" y="318"/>
                </a:lnTo>
                <a:lnTo>
                  <a:pt x="620" y="299"/>
                </a:lnTo>
                <a:lnTo>
                  <a:pt x="649" y="278"/>
                </a:lnTo>
                <a:lnTo>
                  <a:pt x="676" y="261"/>
                </a:lnTo>
                <a:lnTo>
                  <a:pt x="703" y="242"/>
                </a:lnTo>
                <a:lnTo>
                  <a:pt x="728" y="224"/>
                </a:lnTo>
                <a:lnTo>
                  <a:pt x="753" y="209"/>
                </a:lnTo>
                <a:lnTo>
                  <a:pt x="778" y="192"/>
                </a:lnTo>
                <a:lnTo>
                  <a:pt x="801" y="176"/>
                </a:lnTo>
                <a:lnTo>
                  <a:pt x="824" y="163"/>
                </a:lnTo>
                <a:lnTo>
                  <a:pt x="845" y="147"/>
                </a:lnTo>
                <a:lnTo>
                  <a:pt x="866" y="134"/>
                </a:lnTo>
                <a:lnTo>
                  <a:pt x="887" y="123"/>
                </a:lnTo>
                <a:lnTo>
                  <a:pt x="906" y="109"/>
                </a:lnTo>
                <a:lnTo>
                  <a:pt x="926" y="98"/>
                </a:lnTo>
                <a:lnTo>
                  <a:pt x="943" y="88"/>
                </a:lnTo>
                <a:lnTo>
                  <a:pt x="960" y="76"/>
                </a:lnTo>
                <a:lnTo>
                  <a:pt x="976" y="67"/>
                </a:lnTo>
                <a:lnTo>
                  <a:pt x="991" y="59"/>
                </a:lnTo>
                <a:lnTo>
                  <a:pt x="1006" y="50"/>
                </a:lnTo>
                <a:lnTo>
                  <a:pt x="1020" y="42"/>
                </a:lnTo>
                <a:lnTo>
                  <a:pt x="1031" y="36"/>
                </a:lnTo>
                <a:lnTo>
                  <a:pt x="1045" y="28"/>
                </a:lnTo>
                <a:lnTo>
                  <a:pt x="1054" y="23"/>
                </a:lnTo>
                <a:lnTo>
                  <a:pt x="1066" y="19"/>
                </a:lnTo>
                <a:lnTo>
                  <a:pt x="1075" y="13"/>
                </a:lnTo>
                <a:lnTo>
                  <a:pt x="1083" y="9"/>
                </a:lnTo>
                <a:lnTo>
                  <a:pt x="1091" y="5"/>
                </a:lnTo>
                <a:lnTo>
                  <a:pt x="1098" y="4"/>
                </a:lnTo>
                <a:lnTo>
                  <a:pt x="1104" y="2"/>
                </a:lnTo>
                <a:lnTo>
                  <a:pt x="1108" y="0"/>
                </a:lnTo>
                <a:lnTo>
                  <a:pt x="1114" y="0"/>
                </a:lnTo>
                <a:lnTo>
                  <a:pt x="1116" y="0"/>
                </a:lnTo>
                <a:lnTo>
                  <a:pt x="1118" y="0"/>
                </a:lnTo>
                <a:lnTo>
                  <a:pt x="1119" y="0"/>
                </a:lnTo>
                <a:lnTo>
                  <a:pt x="1121" y="2"/>
                </a:lnTo>
                <a:lnTo>
                  <a:pt x="1121" y="4"/>
                </a:lnTo>
                <a:lnTo>
                  <a:pt x="1119" y="7"/>
                </a:lnTo>
                <a:lnTo>
                  <a:pt x="1118" y="9"/>
                </a:lnTo>
                <a:lnTo>
                  <a:pt x="1116" y="13"/>
                </a:lnTo>
                <a:lnTo>
                  <a:pt x="1112" y="19"/>
                </a:lnTo>
                <a:lnTo>
                  <a:pt x="1108" y="25"/>
                </a:lnTo>
                <a:lnTo>
                  <a:pt x="1102" y="30"/>
                </a:lnTo>
                <a:lnTo>
                  <a:pt x="1096" y="36"/>
                </a:lnTo>
                <a:lnTo>
                  <a:pt x="1091" y="44"/>
                </a:lnTo>
                <a:lnTo>
                  <a:pt x="1083" y="52"/>
                </a:lnTo>
                <a:lnTo>
                  <a:pt x="1075" y="59"/>
                </a:lnTo>
                <a:lnTo>
                  <a:pt x="1066" y="69"/>
                </a:lnTo>
                <a:lnTo>
                  <a:pt x="1058" y="78"/>
                </a:lnTo>
                <a:lnTo>
                  <a:pt x="1047" y="88"/>
                </a:lnTo>
                <a:lnTo>
                  <a:pt x="1035" y="98"/>
                </a:lnTo>
                <a:lnTo>
                  <a:pt x="1024" y="109"/>
                </a:lnTo>
                <a:lnTo>
                  <a:pt x="1012" y="123"/>
                </a:lnTo>
                <a:lnTo>
                  <a:pt x="999" y="134"/>
                </a:lnTo>
                <a:lnTo>
                  <a:pt x="985" y="147"/>
                </a:lnTo>
                <a:lnTo>
                  <a:pt x="970" y="163"/>
                </a:lnTo>
                <a:lnTo>
                  <a:pt x="954" y="176"/>
                </a:lnTo>
                <a:lnTo>
                  <a:pt x="939" y="192"/>
                </a:lnTo>
                <a:lnTo>
                  <a:pt x="922" y="207"/>
                </a:lnTo>
                <a:lnTo>
                  <a:pt x="905" y="224"/>
                </a:lnTo>
                <a:lnTo>
                  <a:pt x="887" y="242"/>
                </a:lnTo>
                <a:lnTo>
                  <a:pt x="868" y="259"/>
                </a:lnTo>
                <a:lnTo>
                  <a:pt x="849" y="278"/>
                </a:lnTo>
                <a:lnTo>
                  <a:pt x="828" y="297"/>
                </a:lnTo>
                <a:lnTo>
                  <a:pt x="807" y="316"/>
                </a:lnTo>
                <a:lnTo>
                  <a:pt x="786" y="338"/>
                </a:lnTo>
                <a:lnTo>
                  <a:pt x="764" y="359"/>
                </a:lnTo>
                <a:lnTo>
                  <a:pt x="739" y="380"/>
                </a:lnTo>
                <a:lnTo>
                  <a:pt x="718" y="399"/>
                </a:lnTo>
                <a:lnTo>
                  <a:pt x="695" y="420"/>
                </a:lnTo>
                <a:lnTo>
                  <a:pt x="674" y="439"/>
                </a:lnTo>
                <a:lnTo>
                  <a:pt x="653" y="458"/>
                </a:lnTo>
                <a:lnTo>
                  <a:pt x="632" y="478"/>
                </a:lnTo>
                <a:lnTo>
                  <a:pt x="613" y="495"/>
                </a:lnTo>
                <a:lnTo>
                  <a:pt x="594" y="512"/>
                </a:lnTo>
                <a:lnTo>
                  <a:pt x="574" y="529"/>
                </a:lnTo>
                <a:lnTo>
                  <a:pt x="557" y="547"/>
                </a:lnTo>
                <a:lnTo>
                  <a:pt x="540" y="562"/>
                </a:lnTo>
                <a:lnTo>
                  <a:pt x="523" y="579"/>
                </a:lnTo>
                <a:lnTo>
                  <a:pt x="505" y="595"/>
                </a:lnTo>
                <a:lnTo>
                  <a:pt x="490" y="608"/>
                </a:lnTo>
                <a:lnTo>
                  <a:pt x="475" y="624"/>
                </a:lnTo>
                <a:lnTo>
                  <a:pt x="461" y="637"/>
                </a:lnTo>
                <a:lnTo>
                  <a:pt x="446" y="650"/>
                </a:lnTo>
                <a:lnTo>
                  <a:pt x="432" y="664"/>
                </a:lnTo>
                <a:lnTo>
                  <a:pt x="421" y="675"/>
                </a:lnTo>
                <a:lnTo>
                  <a:pt x="407" y="687"/>
                </a:lnTo>
                <a:lnTo>
                  <a:pt x="396" y="698"/>
                </a:lnTo>
                <a:lnTo>
                  <a:pt x="384" y="710"/>
                </a:lnTo>
                <a:lnTo>
                  <a:pt x="373" y="721"/>
                </a:lnTo>
                <a:lnTo>
                  <a:pt x="363" y="731"/>
                </a:lnTo>
                <a:lnTo>
                  <a:pt x="354" y="741"/>
                </a:lnTo>
                <a:lnTo>
                  <a:pt x="346" y="750"/>
                </a:lnTo>
                <a:lnTo>
                  <a:pt x="336" y="758"/>
                </a:lnTo>
                <a:lnTo>
                  <a:pt x="329" y="767"/>
                </a:lnTo>
                <a:lnTo>
                  <a:pt x="321" y="775"/>
                </a:lnTo>
                <a:lnTo>
                  <a:pt x="315" y="783"/>
                </a:lnTo>
                <a:lnTo>
                  <a:pt x="308" y="789"/>
                </a:lnTo>
                <a:lnTo>
                  <a:pt x="304" y="796"/>
                </a:lnTo>
                <a:lnTo>
                  <a:pt x="292" y="808"/>
                </a:lnTo>
                <a:lnTo>
                  <a:pt x="283" y="819"/>
                </a:lnTo>
                <a:lnTo>
                  <a:pt x="273" y="829"/>
                </a:lnTo>
                <a:lnTo>
                  <a:pt x="263" y="838"/>
                </a:lnTo>
                <a:lnTo>
                  <a:pt x="256" y="846"/>
                </a:lnTo>
                <a:lnTo>
                  <a:pt x="246" y="854"/>
                </a:lnTo>
                <a:lnTo>
                  <a:pt x="238" y="862"/>
                </a:lnTo>
                <a:lnTo>
                  <a:pt x="231" y="869"/>
                </a:lnTo>
                <a:lnTo>
                  <a:pt x="223" y="875"/>
                </a:lnTo>
                <a:lnTo>
                  <a:pt x="217" y="879"/>
                </a:lnTo>
                <a:lnTo>
                  <a:pt x="210" y="885"/>
                </a:lnTo>
                <a:lnTo>
                  <a:pt x="202" y="888"/>
                </a:lnTo>
                <a:lnTo>
                  <a:pt x="189" y="896"/>
                </a:lnTo>
                <a:lnTo>
                  <a:pt x="177" y="9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70"/>
          <p:cNvSpPr/>
          <p:nvPr/>
        </p:nvSpPr>
        <p:spPr>
          <a:xfrm>
            <a:off x="5654520" y="3416400"/>
            <a:ext cx="746280" cy="263520"/>
          </a:xfrm>
          <a:custGeom>
            <a:avLst/>
            <a:gdLst/>
            <a:ahLst/>
            <a:rect l="l" t="t" r="r" b="b"/>
            <a:pathLst>
              <a:path w="940" h="332">
                <a:moveTo>
                  <a:pt x="931" y="41"/>
                </a:moveTo>
                <a:lnTo>
                  <a:pt x="934" y="50"/>
                </a:lnTo>
                <a:lnTo>
                  <a:pt x="938" y="60"/>
                </a:lnTo>
                <a:lnTo>
                  <a:pt x="938" y="69"/>
                </a:lnTo>
                <a:lnTo>
                  <a:pt x="940" y="79"/>
                </a:lnTo>
                <a:lnTo>
                  <a:pt x="938" y="91"/>
                </a:lnTo>
                <a:lnTo>
                  <a:pt x="938" y="100"/>
                </a:lnTo>
                <a:lnTo>
                  <a:pt x="934" y="110"/>
                </a:lnTo>
                <a:lnTo>
                  <a:pt x="931" y="119"/>
                </a:lnTo>
                <a:lnTo>
                  <a:pt x="931" y="121"/>
                </a:lnTo>
                <a:lnTo>
                  <a:pt x="927" y="125"/>
                </a:lnTo>
                <a:lnTo>
                  <a:pt x="925" y="127"/>
                </a:lnTo>
                <a:lnTo>
                  <a:pt x="921" y="131"/>
                </a:lnTo>
                <a:lnTo>
                  <a:pt x="917" y="133"/>
                </a:lnTo>
                <a:lnTo>
                  <a:pt x="911" y="137"/>
                </a:lnTo>
                <a:lnTo>
                  <a:pt x="906" y="139"/>
                </a:lnTo>
                <a:lnTo>
                  <a:pt x="900" y="142"/>
                </a:lnTo>
                <a:lnTo>
                  <a:pt x="892" y="144"/>
                </a:lnTo>
                <a:lnTo>
                  <a:pt x="884" y="148"/>
                </a:lnTo>
                <a:lnTo>
                  <a:pt x="875" y="152"/>
                </a:lnTo>
                <a:lnTo>
                  <a:pt x="865" y="154"/>
                </a:lnTo>
                <a:lnTo>
                  <a:pt x="856" y="158"/>
                </a:lnTo>
                <a:lnTo>
                  <a:pt x="844" y="162"/>
                </a:lnTo>
                <a:lnTo>
                  <a:pt x="833" y="165"/>
                </a:lnTo>
                <a:lnTo>
                  <a:pt x="821" y="169"/>
                </a:lnTo>
                <a:lnTo>
                  <a:pt x="808" y="173"/>
                </a:lnTo>
                <a:lnTo>
                  <a:pt x="794" y="177"/>
                </a:lnTo>
                <a:lnTo>
                  <a:pt x="779" y="181"/>
                </a:lnTo>
                <a:lnTo>
                  <a:pt x="764" y="185"/>
                </a:lnTo>
                <a:lnTo>
                  <a:pt x="748" y="188"/>
                </a:lnTo>
                <a:lnTo>
                  <a:pt x="731" y="192"/>
                </a:lnTo>
                <a:lnTo>
                  <a:pt x="714" y="196"/>
                </a:lnTo>
                <a:lnTo>
                  <a:pt x="696" y="202"/>
                </a:lnTo>
                <a:lnTo>
                  <a:pt x="677" y="206"/>
                </a:lnTo>
                <a:lnTo>
                  <a:pt x="658" y="210"/>
                </a:lnTo>
                <a:lnTo>
                  <a:pt x="639" y="215"/>
                </a:lnTo>
                <a:lnTo>
                  <a:pt x="618" y="219"/>
                </a:lnTo>
                <a:lnTo>
                  <a:pt x="597" y="225"/>
                </a:lnTo>
                <a:lnTo>
                  <a:pt x="575" y="229"/>
                </a:lnTo>
                <a:lnTo>
                  <a:pt x="552" y="235"/>
                </a:lnTo>
                <a:lnTo>
                  <a:pt x="529" y="238"/>
                </a:lnTo>
                <a:lnTo>
                  <a:pt x="504" y="244"/>
                </a:lnTo>
                <a:lnTo>
                  <a:pt x="483" y="252"/>
                </a:lnTo>
                <a:lnTo>
                  <a:pt x="460" y="258"/>
                </a:lnTo>
                <a:lnTo>
                  <a:pt x="439" y="261"/>
                </a:lnTo>
                <a:lnTo>
                  <a:pt x="418" y="267"/>
                </a:lnTo>
                <a:lnTo>
                  <a:pt x="399" y="273"/>
                </a:lnTo>
                <a:lnTo>
                  <a:pt x="380" y="277"/>
                </a:lnTo>
                <a:lnTo>
                  <a:pt x="360" y="283"/>
                </a:lnTo>
                <a:lnTo>
                  <a:pt x="343" y="286"/>
                </a:lnTo>
                <a:lnTo>
                  <a:pt x="326" y="290"/>
                </a:lnTo>
                <a:lnTo>
                  <a:pt x="309" y="294"/>
                </a:lnTo>
                <a:lnTo>
                  <a:pt x="293" y="298"/>
                </a:lnTo>
                <a:lnTo>
                  <a:pt x="278" y="302"/>
                </a:lnTo>
                <a:lnTo>
                  <a:pt x="263" y="304"/>
                </a:lnTo>
                <a:lnTo>
                  <a:pt x="249" y="307"/>
                </a:lnTo>
                <a:lnTo>
                  <a:pt x="236" y="311"/>
                </a:lnTo>
                <a:lnTo>
                  <a:pt x="224" y="313"/>
                </a:lnTo>
                <a:lnTo>
                  <a:pt x="213" y="315"/>
                </a:lnTo>
                <a:lnTo>
                  <a:pt x="201" y="317"/>
                </a:lnTo>
                <a:lnTo>
                  <a:pt x="192" y="319"/>
                </a:lnTo>
                <a:lnTo>
                  <a:pt x="182" y="321"/>
                </a:lnTo>
                <a:lnTo>
                  <a:pt x="172" y="323"/>
                </a:lnTo>
                <a:lnTo>
                  <a:pt x="165" y="325"/>
                </a:lnTo>
                <a:lnTo>
                  <a:pt x="157" y="327"/>
                </a:lnTo>
                <a:lnTo>
                  <a:pt x="151" y="329"/>
                </a:lnTo>
                <a:lnTo>
                  <a:pt x="145" y="329"/>
                </a:lnTo>
                <a:lnTo>
                  <a:pt x="140" y="330"/>
                </a:lnTo>
                <a:lnTo>
                  <a:pt x="136" y="330"/>
                </a:lnTo>
                <a:lnTo>
                  <a:pt x="132" y="330"/>
                </a:lnTo>
                <a:lnTo>
                  <a:pt x="128" y="330"/>
                </a:lnTo>
                <a:lnTo>
                  <a:pt x="126" y="330"/>
                </a:lnTo>
                <a:lnTo>
                  <a:pt x="126" y="332"/>
                </a:lnTo>
                <a:lnTo>
                  <a:pt x="117" y="330"/>
                </a:lnTo>
                <a:lnTo>
                  <a:pt x="107" y="329"/>
                </a:lnTo>
                <a:lnTo>
                  <a:pt x="99" y="327"/>
                </a:lnTo>
                <a:lnTo>
                  <a:pt x="90" y="321"/>
                </a:lnTo>
                <a:lnTo>
                  <a:pt x="78" y="315"/>
                </a:lnTo>
                <a:lnTo>
                  <a:pt x="69" y="309"/>
                </a:lnTo>
                <a:lnTo>
                  <a:pt x="57" y="302"/>
                </a:lnTo>
                <a:lnTo>
                  <a:pt x="46" y="292"/>
                </a:lnTo>
                <a:lnTo>
                  <a:pt x="38" y="288"/>
                </a:lnTo>
                <a:lnTo>
                  <a:pt x="32" y="286"/>
                </a:lnTo>
                <a:lnTo>
                  <a:pt x="28" y="283"/>
                </a:lnTo>
                <a:lnTo>
                  <a:pt x="23" y="279"/>
                </a:lnTo>
                <a:lnTo>
                  <a:pt x="15" y="273"/>
                </a:lnTo>
                <a:lnTo>
                  <a:pt x="9" y="265"/>
                </a:lnTo>
                <a:lnTo>
                  <a:pt x="3" y="258"/>
                </a:lnTo>
                <a:lnTo>
                  <a:pt x="2" y="250"/>
                </a:lnTo>
                <a:lnTo>
                  <a:pt x="0" y="244"/>
                </a:lnTo>
                <a:lnTo>
                  <a:pt x="0" y="238"/>
                </a:lnTo>
                <a:lnTo>
                  <a:pt x="0" y="236"/>
                </a:lnTo>
                <a:lnTo>
                  <a:pt x="2" y="235"/>
                </a:lnTo>
                <a:lnTo>
                  <a:pt x="5" y="233"/>
                </a:lnTo>
                <a:lnTo>
                  <a:pt x="7" y="231"/>
                </a:lnTo>
                <a:lnTo>
                  <a:pt x="13" y="229"/>
                </a:lnTo>
                <a:lnTo>
                  <a:pt x="17" y="227"/>
                </a:lnTo>
                <a:lnTo>
                  <a:pt x="23" y="223"/>
                </a:lnTo>
                <a:lnTo>
                  <a:pt x="28" y="221"/>
                </a:lnTo>
                <a:lnTo>
                  <a:pt x="36" y="219"/>
                </a:lnTo>
                <a:lnTo>
                  <a:pt x="44" y="215"/>
                </a:lnTo>
                <a:lnTo>
                  <a:pt x="53" y="211"/>
                </a:lnTo>
                <a:lnTo>
                  <a:pt x="63" y="210"/>
                </a:lnTo>
                <a:lnTo>
                  <a:pt x="73" y="206"/>
                </a:lnTo>
                <a:lnTo>
                  <a:pt x="84" y="202"/>
                </a:lnTo>
                <a:lnTo>
                  <a:pt x="96" y="198"/>
                </a:lnTo>
                <a:lnTo>
                  <a:pt x="107" y="194"/>
                </a:lnTo>
                <a:lnTo>
                  <a:pt x="121" y="188"/>
                </a:lnTo>
                <a:lnTo>
                  <a:pt x="136" y="185"/>
                </a:lnTo>
                <a:lnTo>
                  <a:pt x="149" y="181"/>
                </a:lnTo>
                <a:lnTo>
                  <a:pt x="167" y="175"/>
                </a:lnTo>
                <a:lnTo>
                  <a:pt x="182" y="169"/>
                </a:lnTo>
                <a:lnTo>
                  <a:pt x="199" y="165"/>
                </a:lnTo>
                <a:lnTo>
                  <a:pt x="218" y="160"/>
                </a:lnTo>
                <a:lnTo>
                  <a:pt x="236" y="154"/>
                </a:lnTo>
                <a:lnTo>
                  <a:pt x="257" y="148"/>
                </a:lnTo>
                <a:lnTo>
                  <a:pt x="276" y="140"/>
                </a:lnTo>
                <a:lnTo>
                  <a:pt x="297" y="135"/>
                </a:lnTo>
                <a:lnTo>
                  <a:pt x="320" y="127"/>
                </a:lnTo>
                <a:lnTo>
                  <a:pt x="343" y="121"/>
                </a:lnTo>
                <a:lnTo>
                  <a:pt x="366" y="114"/>
                </a:lnTo>
                <a:lnTo>
                  <a:pt x="391" y="106"/>
                </a:lnTo>
                <a:lnTo>
                  <a:pt x="414" y="100"/>
                </a:lnTo>
                <a:lnTo>
                  <a:pt x="439" y="94"/>
                </a:lnTo>
                <a:lnTo>
                  <a:pt x="462" y="89"/>
                </a:lnTo>
                <a:lnTo>
                  <a:pt x="483" y="83"/>
                </a:lnTo>
                <a:lnTo>
                  <a:pt x="506" y="77"/>
                </a:lnTo>
                <a:lnTo>
                  <a:pt x="527" y="71"/>
                </a:lnTo>
                <a:lnTo>
                  <a:pt x="547" y="66"/>
                </a:lnTo>
                <a:lnTo>
                  <a:pt x="568" y="62"/>
                </a:lnTo>
                <a:lnTo>
                  <a:pt x="587" y="56"/>
                </a:lnTo>
                <a:lnTo>
                  <a:pt x="604" y="52"/>
                </a:lnTo>
                <a:lnTo>
                  <a:pt x="623" y="46"/>
                </a:lnTo>
                <a:lnTo>
                  <a:pt x="641" y="43"/>
                </a:lnTo>
                <a:lnTo>
                  <a:pt x="656" y="39"/>
                </a:lnTo>
                <a:lnTo>
                  <a:pt x="671" y="35"/>
                </a:lnTo>
                <a:lnTo>
                  <a:pt x="687" y="31"/>
                </a:lnTo>
                <a:lnTo>
                  <a:pt x="702" y="27"/>
                </a:lnTo>
                <a:lnTo>
                  <a:pt x="716" y="25"/>
                </a:lnTo>
                <a:lnTo>
                  <a:pt x="729" y="21"/>
                </a:lnTo>
                <a:lnTo>
                  <a:pt x="742" y="20"/>
                </a:lnTo>
                <a:lnTo>
                  <a:pt x="754" y="16"/>
                </a:lnTo>
                <a:lnTo>
                  <a:pt x="765" y="14"/>
                </a:lnTo>
                <a:lnTo>
                  <a:pt x="777" y="12"/>
                </a:lnTo>
                <a:lnTo>
                  <a:pt x="787" y="10"/>
                </a:lnTo>
                <a:lnTo>
                  <a:pt x="796" y="8"/>
                </a:lnTo>
                <a:lnTo>
                  <a:pt x="806" y="6"/>
                </a:lnTo>
                <a:lnTo>
                  <a:pt x="813" y="4"/>
                </a:lnTo>
                <a:lnTo>
                  <a:pt x="821" y="2"/>
                </a:lnTo>
                <a:lnTo>
                  <a:pt x="829" y="2"/>
                </a:lnTo>
                <a:lnTo>
                  <a:pt x="835" y="2"/>
                </a:lnTo>
                <a:lnTo>
                  <a:pt x="840" y="0"/>
                </a:lnTo>
                <a:lnTo>
                  <a:pt x="846" y="0"/>
                </a:lnTo>
                <a:lnTo>
                  <a:pt x="850" y="0"/>
                </a:lnTo>
                <a:lnTo>
                  <a:pt x="863" y="0"/>
                </a:lnTo>
                <a:lnTo>
                  <a:pt x="877" y="2"/>
                </a:lnTo>
                <a:lnTo>
                  <a:pt x="888" y="6"/>
                </a:lnTo>
                <a:lnTo>
                  <a:pt x="900" y="10"/>
                </a:lnTo>
                <a:lnTo>
                  <a:pt x="909" y="16"/>
                </a:lnTo>
                <a:lnTo>
                  <a:pt x="919" y="23"/>
                </a:lnTo>
                <a:lnTo>
                  <a:pt x="923" y="27"/>
                </a:lnTo>
                <a:lnTo>
                  <a:pt x="927" y="31"/>
                </a:lnTo>
                <a:lnTo>
                  <a:pt x="929" y="35"/>
                </a:lnTo>
                <a:lnTo>
                  <a:pt x="931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5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扁下宽。起笔的横略长，能覆盖住下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矩形 2"/>
          <p:cNvSpPr/>
          <p:nvPr/>
        </p:nvSpPr>
        <p:spPr>
          <a:xfrm>
            <a:off x="2192400" y="1825560"/>
            <a:ext cx="102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69"/>
          <p:cNvSpPr/>
          <p:nvPr/>
        </p:nvSpPr>
        <p:spPr>
          <a:xfrm>
            <a:off x="5500800" y="3065400"/>
            <a:ext cx="2408040" cy="274680"/>
          </a:xfrm>
          <a:custGeom>
            <a:avLst/>
            <a:gdLst/>
            <a:ahLst/>
            <a:rect l="l" t="t" r="r" b="b"/>
            <a:pathLst>
              <a:path w="4550" h="517">
                <a:moveTo>
                  <a:pt x="2251" y="334"/>
                </a:moveTo>
                <a:lnTo>
                  <a:pt x="2104" y="341"/>
                </a:lnTo>
                <a:lnTo>
                  <a:pt x="1959" y="351"/>
                </a:lnTo>
                <a:lnTo>
                  <a:pt x="1812" y="363"/>
                </a:lnTo>
                <a:lnTo>
                  <a:pt x="1667" y="377"/>
                </a:lnTo>
                <a:lnTo>
                  <a:pt x="1520" y="393"/>
                </a:lnTo>
                <a:lnTo>
                  <a:pt x="1373" y="410"/>
                </a:lnTo>
                <a:lnTo>
                  <a:pt x="1228" y="429"/>
                </a:lnTo>
                <a:lnTo>
                  <a:pt x="1082" y="451"/>
                </a:lnTo>
                <a:lnTo>
                  <a:pt x="1043" y="457"/>
                </a:lnTo>
                <a:lnTo>
                  <a:pt x="1007" y="461"/>
                </a:lnTo>
                <a:lnTo>
                  <a:pt x="971" y="467"/>
                </a:lnTo>
                <a:lnTo>
                  <a:pt x="937" y="471"/>
                </a:lnTo>
                <a:lnTo>
                  <a:pt x="904" y="475"/>
                </a:lnTo>
                <a:lnTo>
                  <a:pt x="870" y="480"/>
                </a:lnTo>
                <a:lnTo>
                  <a:pt x="840" y="484"/>
                </a:lnTo>
                <a:lnTo>
                  <a:pt x="810" y="488"/>
                </a:lnTo>
                <a:lnTo>
                  <a:pt x="781" y="491"/>
                </a:lnTo>
                <a:lnTo>
                  <a:pt x="752" y="495"/>
                </a:lnTo>
                <a:lnTo>
                  <a:pt x="727" y="498"/>
                </a:lnTo>
                <a:lnTo>
                  <a:pt x="701" y="501"/>
                </a:lnTo>
                <a:lnTo>
                  <a:pt x="676" y="504"/>
                </a:lnTo>
                <a:lnTo>
                  <a:pt x="653" y="506"/>
                </a:lnTo>
                <a:lnTo>
                  <a:pt x="632" y="508"/>
                </a:lnTo>
                <a:lnTo>
                  <a:pt x="611" y="510"/>
                </a:lnTo>
                <a:lnTo>
                  <a:pt x="591" y="511"/>
                </a:lnTo>
                <a:lnTo>
                  <a:pt x="572" y="513"/>
                </a:lnTo>
                <a:lnTo>
                  <a:pt x="555" y="514"/>
                </a:lnTo>
                <a:lnTo>
                  <a:pt x="539" y="516"/>
                </a:lnTo>
                <a:lnTo>
                  <a:pt x="524" y="516"/>
                </a:lnTo>
                <a:lnTo>
                  <a:pt x="509" y="517"/>
                </a:lnTo>
                <a:lnTo>
                  <a:pt x="496" y="517"/>
                </a:lnTo>
                <a:lnTo>
                  <a:pt x="485" y="517"/>
                </a:lnTo>
                <a:lnTo>
                  <a:pt x="475" y="517"/>
                </a:lnTo>
                <a:lnTo>
                  <a:pt x="465" y="517"/>
                </a:lnTo>
                <a:lnTo>
                  <a:pt x="456" y="516"/>
                </a:lnTo>
                <a:lnTo>
                  <a:pt x="449" y="516"/>
                </a:lnTo>
                <a:lnTo>
                  <a:pt x="443" y="514"/>
                </a:lnTo>
                <a:lnTo>
                  <a:pt x="439" y="513"/>
                </a:lnTo>
                <a:lnTo>
                  <a:pt x="434" y="511"/>
                </a:lnTo>
                <a:lnTo>
                  <a:pt x="433" y="510"/>
                </a:lnTo>
                <a:lnTo>
                  <a:pt x="430" y="510"/>
                </a:lnTo>
                <a:lnTo>
                  <a:pt x="427" y="510"/>
                </a:lnTo>
                <a:lnTo>
                  <a:pt x="424" y="508"/>
                </a:lnTo>
                <a:lnTo>
                  <a:pt x="421" y="508"/>
                </a:lnTo>
                <a:lnTo>
                  <a:pt x="417" y="507"/>
                </a:lnTo>
                <a:lnTo>
                  <a:pt x="413" y="506"/>
                </a:lnTo>
                <a:lnTo>
                  <a:pt x="404" y="503"/>
                </a:lnTo>
                <a:lnTo>
                  <a:pt x="394" y="500"/>
                </a:lnTo>
                <a:lnTo>
                  <a:pt x="381" y="494"/>
                </a:lnTo>
                <a:lnTo>
                  <a:pt x="368" y="490"/>
                </a:lnTo>
                <a:lnTo>
                  <a:pt x="354" y="484"/>
                </a:lnTo>
                <a:lnTo>
                  <a:pt x="338" y="477"/>
                </a:lnTo>
                <a:lnTo>
                  <a:pt x="321" y="470"/>
                </a:lnTo>
                <a:lnTo>
                  <a:pt x="302" y="461"/>
                </a:lnTo>
                <a:lnTo>
                  <a:pt x="283" y="452"/>
                </a:lnTo>
                <a:lnTo>
                  <a:pt x="262" y="444"/>
                </a:lnTo>
                <a:lnTo>
                  <a:pt x="240" y="434"/>
                </a:lnTo>
                <a:lnTo>
                  <a:pt x="218" y="423"/>
                </a:lnTo>
                <a:lnTo>
                  <a:pt x="194" y="412"/>
                </a:lnTo>
                <a:lnTo>
                  <a:pt x="182" y="406"/>
                </a:lnTo>
                <a:lnTo>
                  <a:pt x="171" y="400"/>
                </a:lnTo>
                <a:lnTo>
                  <a:pt x="159" y="395"/>
                </a:lnTo>
                <a:lnTo>
                  <a:pt x="148" y="390"/>
                </a:lnTo>
                <a:lnTo>
                  <a:pt x="138" y="385"/>
                </a:lnTo>
                <a:lnTo>
                  <a:pt x="128" y="379"/>
                </a:lnTo>
                <a:lnTo>
                  <a:pt x="118" y="373"/>
                </a:lnTo>
                <a:lnTo>
                  <a:pt x="109" y="367"/>
                </a:lnTo>
                <a:lnTo>
                  <a:pt x="100" y="363"/>
                </a:lnTo>
                <a:lnTo>
                  <a:pt x="92" y="357"/>
                </a:lnTo>
                <a:lnTo>
                  <a:pt x="83" y="353"/>
                </a:lnTo>
                <a:lnTo>
                  <a:pt x="76" y="347"/>
                </a:lnTo>
                <a:lnTo>
                  <a:pt x="67" y="343"/>
                </a:lnTo>
                <a:lnTo>
                  <a:pt x="61" y="337"/>
                </a:lnTo>
                <a:lnTo>
                  <a:pt x="54" y="333"/>
                </a:lnTo>
                <a:lnTo>
                  <a:pt x="48" y="328"/>
                </a:lnTo>
                <a:lnTo>
                  <a:pt x="41" y="324"/>
                </a:lnTo>
                <a:lnTo>
                  <a:pt x="37" y="320"/>
                </a:lnTo>
                <a:lnTo>
                  <a:pt x="31" y="315"/>
                </a:lnTo>
                <a:lnTo>
                  <a:pt x="27" y="311"/>
                </a:lnTo>
                <a:lnTo>
                  <a:pt x="23" y="307"/>
                </a:lnTo>
                <a:lnTo>
                  <a:pt x="18" y="303"/>
                </a:lnTo>
                <a:lnTo>
                  <a:pt x="14" y="300"/>
                </a:lnTo>
                <a:lnTo>
                  <a:pt x="11" y="295"/>
                </a:lnTo>
                <a:lnTo>
                  <a:pt x="8" y="292"/>
                </a:lnTo>
                <a:lnTo>
                  <a:pt x="5" y="290"/>
                </a:lnTo>
                <a:lnTo>
                  <a:pt x="4" y="287"/>
                </a:lnTo>
                <a:lnTo>
                  <a:pt x="2" y="284"/>
                </a:lnTo>
                <a:lnTo>
                  <a:pt x="1" y="281"/>
                </a:lnTo>
                <a:lnTo>
                  <a:pt x="0" y="278"/>
                </a:lnTo>
                <a:lnTo>
                  <a:pt x="0" y="277"/>
                </a:lnTo>
                <a:lnTo>
                  <a:pt x="0" y="275"/>
                </a:lnTo>
                <a:lnTo>
                  <a:pt x="0" y="272"/>
                </a:lnTo>
                <a:lnTo>
                  <a:pt x="1" y="271"/>
                </a:lnTo>
                <a:lnTo>
                  <a:pt x="4" y="269"/>
                </a:lnTo>
                <a:lnTo>
                  <a:pt x="7" y="268"/>
                </a:lnTo>
                <a:lnTo>
                  <a:pt x="11" y="267"/>
                </a:lnTo>
                <a:lnTo>
                  <a:pt x="17" y="265"/>
                </a:lnTo>
                <a:lnTo>
                  <a:pt x="24" y="264"/>
                </a:lnTo>
                <a:lnTo>
                  <a:pt x="31" y="264"/>
                </a:lnTo>
                <a:lnTo>
                  <a:pt x="40" y="262"/>
                </a:lnTo>
                <a:lnTo>
                  <a:pt x="48" y="261"/>
                </a:lnTo>
                <a:lnTo>
                  <a:pt x="60" y="261"/>
                </a:lnTo>
                <a:lnTo>
                  <a:pt x="71" y="259"/>
                </a:lnTo>
                <a:lnTo>
                  <a:pt x="83" y="259"/>
                </a:lnTo>
                <a:lnTo>
                  <a:pt x="96" y="258"/>
                </a:lnTo>
                <a:lnTo>
                  <a:pt x="110" y="258"/>
                </a:lnTo>
                <a:lnTo>
                  <a:pt x="126" y="258"/>
                </a:lnTo>
                <a:lnTo>
                  <a:pt x="142" y="256"/>
                </a:lnTo>
                <a:lnTo>
                  <a:pt x="159" y="256"/>
                </a:lnTo>
                <a:lnTo>
                  <a:pt x="178" y="256"/>
                </a:lnTo>
                <a:lnTo>
                  <a:pt x="197" y="256"/>
                </a:lnTo>
                <a:lnTo>
                  <a:pt x="217" y="256"/>
                </a:lnTo>
                <a:lnTo>
                  <a:pt x="237" y="255"/>
                </a:lnTo>
                <a:lnTo>
                  <a:pt x="260" y="255"/>
                </a:lnTo>
                <a:lnTo>
                  <a:pt x="282" y="255"/>
                </a:lnTo>
                <a:lnTo>
                  <a:pt x="306" y="255"/>
                </a:lnTo>
                <a:lnTo>
                  <a:pt x="331" y="255"/>
                </a:lnTo>
                <a:lnTo>
                  <a:pt x="357" y="255"/>
                </a:lnTo>
                <a:lnTo>
                  <a:pt x="382" y="255"/>
                </a:lnTo>
                <a:lnTo>
                  <a:pt x="410" y="255"/>
                </a:lnTo>
                <a:lnTo>
                  <a:pt x="437" y="255"/>
                </a:lnTo>
                <a:lnTo>
                  <a:pt x="467" y="255"/>
                </a:lnTo>
                <a:lnTo>
                  <a:pt x="498" y="255"/>
                </a:lnTo>
                <a:lnTo>
                  <a:pt x="558" y="255"/>
                </a:lnTo>
                <a:lnTo>
                  <a:pt x="619" y="254"/>
                </a:lnTo>
                <a:lnTo>
                  <a:pt x="679" y="254"/>
                </a:lnTo>
                <a:lnTo>
                  <a:pt x="741" y="252"/>
                </a:lnTo>
                <a:lnTo>
                  <a:pt x="801" y="249"/>
                </a:lnTo>
                <a:lnTo>
                  <a:pt x="862" y="246"/>
                </a:lnTo>
                <a:lnTo>
                  <a:pt x="922" y="243"/>
                </a:lnTo>
                <a:lnTo>
                  <a:pt x="984" y="241"/>
                </a:lnTo>
                <a:lnTo>
                  <a:pt x="1045" y="236"/>
                </a:lnTo>
                <a:lnTo>
                  <a:pt x="1105" y="232"/>
                </a:lnTo>
                <a:lnTo>
                  <a:pt x="1167" y="228"/>
                </a:lnTo>
                <a:lnTo>
                  <a:pt x="1228" y="222"/>
                </a:lnTo>
                <a:lnTo>
                  <a:pt x="1288" y="216"/>
                </a:lnTo>
                <a:lnTo>
                  <a:pt x="1348" y="210"/>
                </a:lnTo>
                <a:lnTo>
                  <a:pt x="1410" y="203"/>
                </a:lnTo>
                <a:lnTo>
                  <a:pt x="1471" y="196"/>
                </a:lnTo>
                <a:lnTo>
                  <a:pt x="1533" y="189"/>
                </a:lnTo>
                <a:lnTo>
                  <a:pt x="1599" y="182"/>
                </a:lnTo>
                <a:lnTo>
                  <a:pt x="1667" y="173"/>
                </a:lnTo>
                <a:lnTo>
                  <a:pt x="1739" y="166"/>
                </a:lnTo>
                <a:lnTo>
                  <a:pt x="1813" y="159"/>
                </a:lnTo>
                <a:lnTo>
                  <a:pt x="1891" y="151"/>
                </a:lnTo>
                <a:lnTo>
                  <a:pt x="1972" y="143"/>
                </a:lnTo>
                <a:lnTo>
                  <a:pt x="2055" y="136"/>
                </a:lnTo>
                <a:lnTo>
                  <a:pt x="2142" y="127"/>
                </a:lnTo>
                <a:lnTo>
                  <a:pt x="2232" y="118"/>
                </a:lnTo>
                <a:lnTo>
                  <a:pt x="2325" y="110"/>
                </a:lnTo>
                <a:lnTo>
                  <a:pt x="2421" y="100"/>
                </a:lnTo>
                <a:lnTo>
                  <a:pt x="2520" y="91"/>
                </a:lnTo>
                <a:lnTo>
                  <a:pt x="2621" y="81"/>
                </a:lnTo>
                <a:lnTo>
                  <a:pt x="2726" y="69"/>
                </a:lnTo>
                <a:lnTo>
                  <a:pt x="2836" y="59"/>
                </a:lnTo>
                <a:lnTo>
                  <a:pt x="2889" y="55"/>
                </a:lnTo>
                <a:lnTo>
                  <a:pt x="2942" y="52"/>
                </a:lnTo>
                <a:lnTo>
                  <a:pt x="2994" y="48"/>
                </a:lnTo>
                <a:lnTo>
                  <a:pt x="3044" y="45"/>
                </a:lnTo>
                <a:lnTo>
                  <a:pt x="3093" y="42"/>
                </a:lnTo>
                <a:lnTo>
                  <a:pt x="3141" y="39"/>
                </a:lnTo>
                <a:lnTo>
                  <a:pt x="3188" y="35"/>
                </a:lnTo>
                <a:lnTo>
                  <a:pt x="3233" y="33"/>
                </a:lnTo>
                <a:lnTo>
                  <a:pt x="3278" y="30"/>
                </a:lnTo>
                <a:lnTo>
                  <a:pt x="3321" y="28"/>
                </a:lnTo>
                <a:lnTo>
                  <a:pt x="3362" y="25"/>
                </a:lnTo>
                <a:lnTo>
                  <a:pt x="3403" y="22"/>
                </a:lnTo>
                <a:lnTo>
                  <a:pt x="3443" y="20"/>
                </a:lnTo>
                <a:lnTo>
                  <a:pt x="3481" y="17"/>
                </a:lnTo>
                <a:lnTo>
                  <a:pt x="3518" y="16"/>
                </a:lnTo>
                <a:lnTo>
                  <a:pt x="3554" y="15"/>
                </a:lnTo>
                <a:lnTo>
                  <a:pt x="3590" y="12"/>
                </a:lnTo>
                <a:lnTo>
                  <a:pt x="3623" y="10"/>
                </a:lnTo>
                <a:lnTo>
                  <a:pt x="3656" y="9"/>
                </a:lnTo>
                <a:lnTo>
                  <a:pt x="3688" y="7"/>
                </a:lnTo>
                <a:lnTo>
                  <a:pt x="3718" y="6"/>
                </a:lnTo>
                <a:lnTo>
                  <a:pt x="3747" y="5"/>
                </a:lnTo>
                <a:lnTo>
                  <a:pt x="3776" y="5"/>
                </a:lnTo>
                <a:lnTo>
                  <a:pt x="3803" y="3"/>
                </a:lnTo>
                <a:lnTo>
                  <a:pt x="3829" y="2"/>
                </a:lnTo>
                <a:lnTo>
                  <a:pt x="3853" y="2"/>
                </a:lnTo>
                <a:lnTo>
                  <a:pt x="3878" y="2"/>
                </a:lnTo>
                <a:lnTo>
                  <a:pt x="3901" y="0"/>
                </a:lnTo>
                <a:lnTo>
                  <a:pt x="3922" y="0"/>
                </a:lnTo>
                <a:lnTo>
                  <a:pt x="3943" y="0"/>
                </a:lnTo>
                <a:lnTo>
                  <a:pt x="3963" y="0"/>
                </a:lnTo>
                <a:lnTo>
                  <a:pt x="3982" y="0"/>
                </a:lnTo>
                <a:lnTo>
                  <a:pt x="4000" y="0"/>
                </a:lnTo>
                <a:lnTo>
                  <a:pt x="4018" y="0"/>
                </a:lnTo>
                <a:lnTo>
                  <a:pt x="4035" y="0"/>
                </a:lnTo>
                <a:lnTo>
                  <a:pt x="4052" y="2"/>
                </a:lnTo>
                <a:lnTo>
                  <a:pt x="4085" y="3"/>
                </a:lnTo>
                <a:lnTo>
                  <a:pt x="4117" y="6"/>
                </a:lnTo>
                <a:lnTo>
                  <a:pt x="4147" y="10"/>
                </a:lnTo>
                <a:lnTo>
                  <a:pt x="4176" y="15"/>
                </a:lnTo>
                <a:lnTo>
                  <a:pt x="4203" y="20"/>
                </a:lnTo>
                <a:lnTo>
                  <a:pt x="4231" y="26"/>
                </a:lnTo>
                <a:lnTo>
                  <a:pt x="4256" y="33"/>
                </a:lnTo>
                <a:lnTo>
                  <a:pt x="4282" y="40"/>
                </a:lnTo>
                <a:lnTo>
                  <a:pt x="4305" y="49"/>
                </a:lnTo>
                <a:lnTo>
                  <a:pt x="4328" y="58"/>
                </a:lnTo>
                <a:lnTo>
                  <a:pt x="4352" y="66"/>
                </a:lnTo>
                <a:lnTo>
                  <a:pt x="4373" y="76"/>
                </a:lnTo>
                <a:lnTo>
                  <a:pt x="4395" y="87"/>
                </a:lnTo>
                <a:lnTo>
                  <a:pt x="4415" y="98"/>
                </a:lnTo>
                <a:lnTo>
                  <a:pt x="4425" y="105"/>
                </a:lnTo>
                <a:lnTo>
                  <a:pt x="4434" y="112"/>
                </a:lnTo>
                <a:lnTo>
                  <a:pt x="4444" y="120"/>
                </a:lnTo>
                <a:lnTo>
                  <a:pt x="4452" y="127"/>
                </a:lnTo>
                <a:lnTo>
                  <a:pt x="4461" y="134"/>
                </a:lnTo>
                <a:lnTo>
                  <a:pt x="4468" y="140"/>
                </a:lnTo>
                <a:lnTo>
                  <a:pt x="4477" y="147"/>
                </a:lnTo>
                <a:lnTo>
                  <a:pt x="4484" y="153"/>
                </a:lnTo>
                <a:lnTo>
                  <a:pt x="4490" y="160"/>
                </a:lnTo>
                <a:lnTo>
                  <a:pt x="4497" y="166"/>
                </a:lnTo>
                <a:lnTo>
                  <a:pt x="4503" y="172"/>
                </a:lnTo>
                <a:lnTo>
                  <a:pt x="4508" y="177"/>
                </a:lnTo>
                <a:lnTo>
                  <a:pt x="4514" y="183"/>
                </a:lnTo>
                <a:lnTo>
                  <a:pt x="4519" y="189"/>
                </a:lnTo>
                <a:lnTo>
                  <a:pt x="4524" y="193"/>
                </a:lnTo>
                <a:lnTo>
                  <a:pt x="4529" y="199"/>
                </a:lnTo>
                <a:lnTo>
                  <a:pt x="4531" y="203"/>
                </a:lnTo>
                <a:lnTo>
                  <a:pt x="4536" y="209"/>
                </a:lnTo>
                <a:lnTo>
                  <a:pt x="4539" y="213"/>
                </a:lnTo>
                <a:lnTo>
                  <a:pt x="4542" y="218"/>
                </a:lnTo>
                <a:lnTo>
                  <a:pt x="4543" y="222"/>
                </a:lnTo>
                <a:lnTo>
                  <a:pt x="4546" y="226"/>
                </a:lnTo>
                <a:lnTo>
                  <a:pt x="4547" y="229"/>
                </a:lnTo>
                <a:lnTo>
                  <a:pt x="4549" y="233"/>
                </a:lnTo>
                <a:lnTo>
                  <a:pt x="4549" y="236"/>
                </a:lnTo>
                <a:lnTo>
                  <a:pt x="4550" y="239"/>
                </a:lnTo>
                <a:lnTo>
                  <a:pt x="4550" y="243"/>
                </a:lnTo>
                <a:lnTo>
                  <a:pt x="4550" y="246"/>
                </a:lnTo>
                <a:lnTo>
                  <a:pt x="4549" y="248"/>
                </a:lnTo>
                <a:lnTo>
                  <a:pt x="4547" y="251"/>
                </a:lnTo>
                <a:lnTo>
                  <a:pt x="4546" y="254"/>
                </a:lnTo>
                <a:lnTo>
                  <a:pt x="4544" y="255"/>
                </a:lnTo>
                <a:lnTo>
                  <a:pt x="4542" y="259"/>
                </a:lnTo>
                <a:lnTo>
                  <a:pt x="4539" y="262"/>
                </a:lnTo>
                <a:lnTo>
                  <a:pt x="4536" y="265"/>
                </a:lnTo>
                <a:lnTo>
                  <a:pt x="4531" y="269"/>
                </a:lnTo>
                <a:lnTo>
                  <a:pt x="4527" y="272"/>
                </a:lnTo>
                <a:lnTo>
                  <a:pt x="4521" y="275"/>
                </a:lnTo>
                <a:lnTo>
                  <a:pt x="4516" y="278"/>
                </a:lnTo>
                <a:lnTo>
                  <a:pt x="4508" y="281"/>
                </a:lnTo>
                <a:lnTo>
                  <a:pt x="4501" y="284"/>
                </a:lnTo>
                <a:lnTo>
                  <a:pt x="4494" y="285"/>
                </a:lnTo>
                <a:lnTo>
                  <a:pt x="4485" y="288"/>
                </a:lnTo>
                <a:lnTo>
                  <a:pt x="4477" y="291"/>
                </a:lnTo>
                <a:lnTo>
                  <a:pt x="4468" y="292"/>
                </a:lnTo>
                <a:lnTo>
                  <a:pt x="4458" y="295"/>
                </a:lnTo>
                <a:lnTo>
                  <a:pt x="4448" y="297"/>
                </a:lnTo>
                <a:lnTo>
                  <a:pt x="4436" y="298"/>
                </a:lnTo>
                <a:lnTo>
                  <a:pt x="4425" y="301"/>
                </a:lnTo>
                <a:lnTo>
                  <a:pt x="4413" y="303"/>
                </a:lnTo>
                <a:lnTo>
                  <a:pt x="4400" y="304"/>
                </a:lnTo>
                <a:lnTo>
                  <a:pt x="4387" y="305"/>
                </a:lnTo>
                <a:lnTo>
                  <a:pt x="4375" y="307"/>
                </a:lnTo>
                <a:lnTo>
                  <a:pt x="4360" y="308"/>
                </a:lnTo>
                <a:lnTo>
                  <a:pt x="4346" y="308"/>
                </a:lnTo>
                <a:lnTo>
                  <a:pt x="4331" y="310"/>
                </a:lnTo>
                <a:lnTo>
                  <a:pt x="4317" y="311"/>
                </a:lnTo>
                <a:lnTo>
                  <a:pt x="4301" y="311"/>
                </a:lnTo>
                <a:lnTo>
                  <a:pt x="4285" y="313"/>
                </a:lnTo>
                <a:lnTo>
                  <a:pt x="4268" y="313"/>
                </a:lnTo>
                <a:lnTo>
                  <a:pt x="4251" y="313"/>
                </a:lnTo>
                <a:lnTo>
                  <a:pt x="4233" y="313"/>
                </a:lnTo>
                <a:lnTo>
                  <a:pt x="4216" y="313"/>
                </a:lnTo>
                <a:lnTo>
                  <a:pt x="4199" y="314"/>
                </a:lnTo>
                <a:lnTo>
                  <a:pt x="4177" y="314"/>
                </a:lnTo>
                <a:lnTo>
                  <a:pt x="4157" y="314"/>
                </a:lnTo>
                <a:lnTo>
                  <a:pt x="4136" y="314"/>
                </a:lnTo>
                <a:lnTo>
                  <a:pt x="4114" y="314"/>
                </a:lnTo>
                <a:lnTo>
                  <a:pt x="4092" y="314"/>
                </a:lnTo>
                <a:lnTo>
                  <a:pt x="4069" y="313"/>
                </a:lnTo>
                <a:lnTo>
                  <a:pt x="4025" y="313"/>
                </a:lnTo>
                <a:lnTo>
                  <a:pt x="3977" y="313"/>
                </a:lnTo>
                <a:lnTo>
                  <a:pt x="3928" y="313"/>
                </a:lnTo>
                <a:lnTo>
                  <a:pt x="3879" y="313"/>
                </a:lnTo>
                <a:lnTo>
                  <a:pt x="3827" y="311"/>
                </a:lnTo>
                <a:lnTo>
                  <a:pt x="3776" y="310"/>
                </a:lnTo>
                <a:lnTo>
                  <a:pt x="3721" y="308"/>
                </a:lnTo>
                <a:lnTo>
                  <a:pt x="3666" y="307"/>
                </a:lnTo>
                <a:lnTo>
                  <a:pt x="3610" y="305"/>
                </a:lnTo>
                <a:lnTo>
                  <a:pt x="3554" y="303"/>
                </a:lnTo>
                <a:lnTo>
                  <a:pt x="3495" y="301"/>
                </a:lnTo>
                <a:lnTo>
                  <a:pt x="3436" y="297"/>
                </a:lnTo>
                <a:lnTo>
                  <a:pt x="3375" y="294"/>
                </a:lnTo>
                <a:lnTo>
                  <a:pt x="3244" y="288"/>
                </a:lnTo>
                <a:lnTo>
                  <a:pt x="3112" y="285"/>
                </a:lnTo>
                <a:lnTo>
                  <a:pt x="2975" y="287"/>
                </a:lnTo>
                <a:lnTo>
                  <a:pt x="2837" y="291"/>
                </a:lnTo>
                <a:lnTo>
                  <a:pt x="2696" y="298"/>
                </a:lnTo>
                <a:lnTo>
                  <a:pt x="2551" y="307"/>
                </a:lnTo>
                <a:lnTo>
                  <a:pt x="2402" y="320"/>
                </a:lnTo>
                <a:lnTo>
                  <a:pt x="2327" y="326"/>
                </a:lnTo>
                <a:lnTo>
                  <a:pt x="2251" y="3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70"/>
          <p:cNvSpPr/>
          <p:nvPr/>
        </p:nvSpPr>
        <p:spPr>
          <a:xfrm>
            <a:off x="6122880" y="2884320"/>
            <a:ext cx="282600" cy="576360"/>
          </a:xfrm>
          <a:custGeom>
            <a:avLst/>
            <a:gdLst/>
            <a:ahLst/>
            <a:rect l="l" t="t" r="r" b="b"/>
            <a:pathLst>
              <a:path w="533" h="1088">
                <a:moveTo>
                  <a:pt x="56" y="126"/>
                </a:moveTo>
                <a:lnTo>
                  <a:pt x="49" y="125"/>
                </a:lnTo>
                <a:lnTo>
                  <a:pt x="45" y="122"/>
                </a:lnTo>
                <a:lnTo>
                  <a:pt x="39" y="120"/>
                </a:lnTo>
                <a:lnTo>
                  <a:pt x="35" y="118"/>
                </a:lnTo>
                <a:lnTo>
                  <a:pt x="26" y="113"/>
                </a:lnTo>
                <a:lnTo>
                  <a:pt x="19" y="108"/>
                </a:lnTo>
                <a:lnTo>
                  <a:pt x="13" y="102"/>
                </a:lnTo>
                <a:lnTo>
                  <a:pt x="7" y="96"/>
                </a:lnTo>
                <a:lnTo>
                  <a:pt x="4" y="90"/>
                </a:lnTo>
                <a:lnTo>
                  <a:pt x="2" y="84"/>
                </a:lnTo>
                <a:lnTo>
                  <a:pt x="0" y="77"/>
                </a:lnTo>
                <a:lnTo>
                  <a:pt x="0" y="72"/>
                </a:lnTo>
                <a:lnTo>
                  <a:pt x="0" y="64"/>
                </a:lnTo>
                <a:lnTo>
                  <a:pt x="2" y="57"/>
                </a:lnTo>
                <a:lnTo>
                  <a:pt x="3" y="50"/>
                </a:lnTo>
                <a:lnTo>
                  <a:pt x="6" y="43"/>
                </a:lnTo>
                <a:lnTo>
                  <a:pt x="9" y="36"/>
                </a:lnTo>
                <a:lnTo>
                  <a:pt x="13" y="28"/>
                </a:lnTo>
                <a:lnTo>
                  <a:pt x="17" y="24"/>
                </a:lnTo>
                <a:lnTo>
                  <a:pt x="23" y="21"/>
                </a:lnTo>
                <a:lnTo>
                  <a:pt x="29" y="17"/>
                </a:lnTo>
                <a:lnTo>
                  <a:pt x="38" y="14"/>
                </a:lnTo>
                <a:lnTo>
                  <a:pt x="46" y="11"/>
                </a:lnTo>
                <a:lnTo>
                  <a:pt x="56" y="8"/>
                </a:lnTo>
                <a:lnTo>
                  <a:pt x="68" y="5"/>
                </a:lnTo>
                <a:lnTo>
                  <a:pt x="81" y="4"/>
                </a:lnTo>
                <a:lnTo>
                  <a:pt x="94" y="2"/>
                </a:lnTo>
                <a:lnTo>
                  <a:pt x="110" y="1"/>
                </a:lnTo>
                <a:lnTo>
                  <a:pt x="125" y="0"/>
                </a:lnTo>
                <a:lnTo>
                  <a:pt x="144" y="1"/>
                </a:lnTo>
                <a:lnTo>
                  <a:pt x="163" y="1"/>
                </a:lnTo>
                <a:lnTo>
                  <a:pt x="173" y="2"/>
                </a:lnTo>
                <a:lnTo>
                  <a:pt x="183" y="2"/>
                </a:lnTo>
                <a:lnTo>
                  <a:pt x="194" y="4"/>
                </a:lnTo>
                <a:lnTo>
                  <a:pt x="206" y="5"/>
                </a:lnTo>
                <a:lnTo>
                  <a:pt x="218" y="7"/>
                </a:lnTo>
                <a:lnTo>
                  <a:pt x="229" y="8"/>
                </a:lnTo>
                <a:lnTo>
                  <a:pt x="249" y="13"/>
                </a:lnTo>
                <a:lnTo>
                  <a:pt x="268" y="15"/>
                </a:lnTo>
                <a:lnTo>
                  <a:pt x="288" y="20"/>
                </a:lnTo>
                <a:lnTo>
                  <a:pt x="305" y="23"/>
                </a:lnTo>
                <a:lnTo>
                  <a:pt x="324" y="27"/>
                </a:lnTo>
                <a:lnTo>
                  <a:pt x="340" y="30"/>
                </a:lnTo>
                <a:lnTo>
                  <a:pt x="357" y="34"/>
                </a:lnTo>
                <a:lnTo>
                  <a:pt x="373" y="38"/>
                </a:lnTo>
                <a:lnTo>
                  <a:pt x="387" y="41"/>
                </a:lnTo>
                <a:lnTo>
                  <a:pt x="402" y="46"/>
                </a:lnTo>
                <a:lnTo>
                  <a:pt x="415" y="48"/>
                </a:lnTo>
                <a:lnTo>
                  <a:pt x="428" y="53"/>
                </a:lnTo>
                <a:lnTo>
                  <a:pt x="439" y="56"/>
                </a:lnTo>
                <a:lnTo>
                  <a:pt x="449" y="60"/>
                </a:lnTo>
                <a:lnTo>
                  <a:pt x="459" y="63"/>
                </a:lnTo>
                <a:lnTo>
                  <a:pt x="468" y="67"/>
                </a:lnTo>
                <a:lnTo>
                  <a:pt x="471" y="70"/>
                </a:lnTo>
                <a:lnTo>
                  <a:pt x="475" y="73"/>
                </a:lnTo>
                <a:lnTo>
                  <a:pt x="480" y="77"/>
                </a:lnTo>
                <a:lnTo>
                  <a:pt x="482" y="82"/>
                </a:lnTo>
                <a:lnTo>
                  <a:pt x="485" y="89"/>
                </a:lnTo>
                <a:lnTo>
                  <a:pt x="490" y="95"/>
                </a:lnTo>
                <a:lnTo>
                  <a:pt x="492" y="103"/>
                </a:lnTo>
                <a:lnTo>
                  <a:pt x="495" y="112"/>
                </a:lnTo>
                <a:lnTo>
                  <a:pt x="498" y="122"/>
                </a:lnTo>
                <a:lnTo>
                  <a:pt x="501" y="132"/>
                </a:lnTo>
                <a:lnTo>
                  <a:pt x="504" y="144"/>
                </a:lnTo>
                <a:lnTo>
                  <a:pt x="507" y="155"/>
                </a:lnTo>
                <a:lnTo>
                  <a:pt x="510" y="169"/>
                </a:lnTo>
                <a:lnTo>
                  <a:pt x="511" y="184"/>
                </a:lnTo>
                <a:lnTo>
                  <a:pt x="514" y="198"/>
                </a:lnTo>
                <a:lnTo>
                  <a:pt x="516" y="214"/>
                </a:lnTo>
                <a:lnTo>
                  <a:pt x="518" y="231"/>
                </a:lnTo>
                <a:lnTo>
                  <a:pt x="520" y="250"/>
                </a:lnTo>
                <a:lnTo>
                  <a:pt x="521" y="269"/>
                </a:lnTo>
                <a:lnTo>
                  <a:pt x="523" y="287"/>
                </a:lnTo>
                <a:lnTo>
                  <a:pt x="524" y="309"/>
                </a:lnTo>
                <a:lnTo>
                  <a:pt x="526" y="331"/>
                </a:lnTo>
                <a:lnTo>
                  <a:pt x="527" y="352"/>
                </a:lnTo>
                <a:lnTo>
                  <a:pt x="528" y="377"/>
                </a:lnTo>
                <a:lnTo>
                  <a:pt x="528" y="401"/>
                </a:lnTo>
                <a:lnTo>
                  <a:pt x="530" y="426"/>
                </a:lnTo>
                <a:lnTo>
                  <a:pt x="530" y="452"/>
                </a:lnTo>
                <a:lnTo>
                  <a:pt x="531" y="479"/>
                </a:lnTo>
                <a:lnTo>
                  <a:pt x="531" y="508"/>
                </a:lnTo>
                <a:lnTo>
                  <a:pt x="531" y="537"/>
                </a:lnTo>
                <a:lnTo>
                  <a:pt x="531" y="567"/>
                </a:lnTo>
                <a:lnTo>
                  <a:pt x="533" y="597"/>
                </a:lnTo>
                <a:lnTo>
                  <a:pt x="531" y="627"/>
                </a:lnTo>
                <a:lnTo>
                  <a:pt x="531" y="657"/>
                </a:lnTo>
                <a:lnTo>
                  <a:pt x="531" y="686"/>
                </a:lnTo>
                <a:lnTo>
                  <a:pt x="531" y="714"/>
                </a:lnTo>
                <a:lnTo>
                  <a:pt x="530" y="741"/>
                </a:lnTo>
                <a:lnTo>
                  <a:pt x="530" y="765"/>
                </a:lnTo>
                <a:lnTo>
                  <a:pt x="528" y="790"/>
                </a:lnTo>
                <a:lnTo>
                  <a:pt x="528" y="814"/>
                </a:lnTo>
                <a:lnTo>
                  <a:pt x="527" y="837"/>
                </a:lnTo>
                <a:lnTo>
                  <a:pt x="526" y="859"/>
                </a:lnTo>
                <a:lnTo>
                  <a:pt x="524" y="879"/>
                </a:lnTo>
                <a:lnTo>
                  <a:pt x="523" y="898"/>
                </a:lnTo>
                <a:lnTo>
                  <a:pt x="521" y="917"/>
                </a:lnTo>
                <a:lnTo>
                  <a:pt x="520" y="935"/>
                </a:lnTo>
                <a:lnTo>
                  <a:pt x="518" y="951"/>
                </a:lnTo>
                <a:lnTo>
                  <a:pt x="516" y="967"/>
                </a:lnTo>
                <a:lnTo>
                  <a:pt x="514" y="981"/>
                </a:lnTo>
                <a:lnTo>
                  <a:pt x="511" y="996"/>
                </a:lnTo>
                <a:lnTo>
                  <a:pt x="510" y="1009"/>
                </a:lnTo>
                <a:lnTo>
                  <a:pt x="507" y="1020"/>
                </a:lnTo>
                <a:lnTo>
                  <a:pt x="504" y="1030"/>
                </a:lnTo>
                <a:lnTo>
                  <a:pt x="501" y="1040"/>
                </a:lnTo>
                <a:lnTo>
                  <a:pt x="498" y="1049"/>
                </a:lnTo>
                <a:lnTo>
                  <a:pt x="495" y="1058"/>
                </a:lnTo>
                <a:lnTo>
                  <a:pt x="492" y="1065"/>
                </a:lnTo>
                <a:lnTo>
                  <a:pt x="490" y="1071"/>
                </a:lnTo>
                <a:lnTo>
                  <a:pt x="485" y="1075"/>
                </a:lnTo>
                <a:lnTo>
                  <a:pt x="482" y="1079"/>
                </a:lnTo>
                <a:lnTo>
                  <a:pt x="480" y="1084"/>
                </a:lnTo>
                <a:lnTo>
                  <a:pt x="475" y="1085"/>
                </a:lnTo>
                <a:lnTo>
                  <a:pt x="471" y="1086"/>
                </a:lnTo>
                <a:lnTo>
                  <a:pt x="468" y="1088"/>
                </a:lnTo>
                <a:lnTo>
                  <a:pt x="464" y="1086"/>
                </a:lnTo>
                <a:lnTo>
                  <a:pt x="459" y="1086"/>
                </a:lnTo>
                <a:lnTo>
                  <a:pt x="455" y="1085"/>
                </a:lnTo>
                <a:lnTo>
                  <a:pt x="451" y="1084"/>
                </a:lnTo>
                <a:lnTo>
                  <a:pt x="446" y="1082"/>
                </a:lnTo>
                <a:lnTo>
                  <a:pt x="444" y="1079"/>
                </a:lnTo>
                <a:lnTo>
                  <a:pt x="439" y="1076"/>
                </a:lnTo>
                <a:lnTo>
                  <a:pt x="435" y="1072"/>
                </a:lnTo>
                <a:lnTo>
                  <a:pt x="431" y="1069"/>
                </a:lnTo>
                <a:lnTo>
                  <a:pt x="426" y="1065"/>
                </a:lnTo>
                <a:lnTo>
                  <a:pt x="422" y="1059"/>
                </a:lnTo>
                <a:lnTo>
                  <a:pt x="418" y="1055"/>
                </a:lnTo>
                <a:lnTo>
                  <a:pt x="415" y="1049"/>
                </a:lnTo>
                <a:lnTo>
                  <a:pt x="410" y="1042"/>
                </a:lnTo>
                <a:lnTo>
                  <a:pt x="406" y="1036"/>
                </a:lnTo>
                <a:lnTo>
                  <a:pt x="402" y="1029"/>
                </a:lnTo>
                <a:lnTo>
                  <a:pt x="397" y="1020"/>
                </a:lnTo>
                <a:lnTo>
                  <a:pt x="393" y="1013"/>
                </a:lnTo>
                <a:lnTo>
                  <a:pt x="390" y="1004"/>
                </a:lnTo>
                <a:lnTo>
                  <a:pt x="386" y="996"/>
                </a:lnTo>
                <a:lnTo>
                  <a:pt x="382" y="986"/>
                </a:lnTo>
                <a:lnTo>
                  <a:pt x="377" y="976"/>
                </a:lnTo>
                <a:lnTo>
                  <a:pt x="373" y="966"/>
                </a:lnTo>
                <a:lnTo>
                  <a:pt x="369" y="955"/>
                </a:lnTo>
                <a:lnTo>
                  <a:pt x="366" y="944"/>
                </a:lnTo>
                <a:lnTo>
                  <a:pt x="361" y="932"/>
                </a:lnTo>
                <a:lnTo>
                  <a:pt x="357" y="919"/>
                </a:lnTo>
                <a:lnTo>
                  <a:pt x="353" y="907"/>
                </a:lnTo>
                <a:lnTo>
                  <a:pt x="349" y="894"/>
                </a:lnTo>
                <a:lnTo>
                  <a:pt x="346" y="881"/>
                </a:lnTo>
                <a:lnTo>
                  <a:pt x="341" y="866"/>
                </a:lnTo>
                <a:lnTo>
                  <a:pt x="337" y="852"/>
                </a:lnTo>
                <a:lnTo>
                  <a:pt x="305" y="734"/>
                </a:lnTo>
                <a:lnTo>
                  <a:pt x="272" y="617"/>
                </a:lnTo>
                <a:lnTo>
                  <a:pt x="239" y="499"/>
                </a:lnTo>
                <a:lnTo>
                  <a:pt x="207" y="381"/>
                </a:lnTo>
                <a:lnTo>
                  <a:pt x="199" y="355"/>
                </a:lnTo>
                <a:lnTo>
                  <a:pt x="192" y="332"/>
                </a:lnTo>
                <a:lnTo>
                  <a:pt x="183" y="308"/>
                </a:lnTo>
                <a:lnTo>
                  <a:pt x="174" y="286"/>
                </a:lnTo>
                <a:lnTo>
                  <a:pt x="167" y="264"/>
                </a:lnTo>
                <a:lnTo>
                  <a:pt x="158" y="246"/>
                </a:lnTo>
                <a:lnTo>
                  <a:pt x="150" y="227"/>
                </a:lnTo>
                <a:lnTo>
                  <a:pt x="140" y="210"/>
                </a:lnTo>
                <a:lnTo>
                  <a:pt x="131" y="194"/>
                </a:lnTo>
                <a:lnTo>
                  <a:pt x="125" y="187"/>
                </a:lnTo>
                <a:lnTo>
                  <a:pt x="121" y="180"/>
                </a:lnTo>
                <a:lnTo>
                  <a:pt x="117" y="172"/>
                </a:lnTo>
                <a:lnTo>
                  <a:pt x="111" y="167"/>
                </a:lnTo>
                <a:lnTo>
                  <a:pt x="107" y="161"/>
                </a:lnTo>
                <a:lnTo>
                  <a:pt x="101" y="155"/>
                </a:lnTo>
                <a:lnTo>
                  <a:pt x="95" y="151"/>
                </a:lnTo>
                <a:lnTo>
                  <a:pt x="91" y="145"/>
                </a:lnTo>
                <a:lnTo>
                  <a:pt x="85" y="141"/>
                </a:lnTo>
                <a:lnTo>
                  <a:pt x="79" y="138"/>
                </a:lnTo>
                <a:lnTo>
                  <a:pt x="74" y="133"/>
                </a:lnTo>
                <a:lnTo>
                  <a:pt x="68" y="131"/>
                </a:lnTo>
                <a:lnTo>
                  <a:pt x="62" y="128"/>
                </a:lnTo>
                <a:lnTo>
                  <a:pt x="56" y="1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71"/>
          <p:cNvSpPr/>
          <p:nvPr/>
        </p:nvSpPr>
        <p:spPr>
          <a:xfrm>
            <a:off x="6862680" y="2765520"/>
            <a:ext cx="401760" cy="726840"/>
          </a:xfrm>
          <a:custGeom>
            <a:avLst/>
            <a:gdLst/>
            <a:ahLst/>
            <a:rect l="l" t="t" r="r" b="b"/>
            <a:pathLst>
              <a:path w="757" h="1373">
                <a:moveTo>
                  <a:pt x="412" y="843"/>
                </a:moveTo>
                <a:lnTo>
                  <a:pt x="389" y="878"/>
                </a:lnTo>
                <a:lnTo>
                  <a:pt x="369" y="911"/>
                </a:lnTo>
                <a:lnTo>
                  <a:pt x="348" y="942"/>
                </a:lnTo>
                <a:lnTo>
                  <a:pt x="328" y="974"/>
                </a:lnTo>
                <a:lnTo>
                  <a:pt x="308" y="1003"/>
                </a:lnTo>
                <a:lnTo>
                  <a:pt x="289" y="1032"/>
                </a:lnTo>
                <a:lnTo>
                  <a:pt x="272" y="1059"/>
                </a:lnTo>
                <a:lnTo>
                  <a:pt x="255" y="1086"/>
                </a:lnTo>
                <a:lnTo>
                  <a:pt x="238" y="1111"/>
                </a:lnTo>
                <a:lnTo>
                  <a:pt x="222" y="1135"/>
                </a:lnTo>
                <a:lnTo>
                  <a:pt x="206" y="1158"/>
                </a:lnTo>
                <a:lnTo>
                  <a:pt x="190" y="1180"/>
                </a:lnTo>
                <a:lnTo>
                  <a:pt x="176" y="1200"/>
                </a:lnTo>
                <a:lnTo>
                  <a:pt x="163" y="1220"/>
                </a:lnTo>
                <a:lnTo>
                  <a:pt x="148" y="1238"/>
                </a:lnTo>
                <a:lnTo>
                  <a:pt x="137" y="1255"/>
                </a:lnTo>
                <a:lnTo>
                  <a:pt x="124" y="1271"/>
                </a:lnTo>
                <a:lnTo>
                  <a:pt x="114" y="1285"/>
                </a:lnTo>
                <a:lnTo>
                  <a:pt x="102" y="1300"/>
                </a:lnTo>
                <a:lnTo>
                  <a:pt x="92" y="1312"/>
                </a:lnTo>
                <a:lnTo>
                  <a:pt x="84" y="1323"/>
                </a:lnTo>
                <a:lnTo>
                  <a:pt x="75" y="1333"/>
                </a:lnTo>
                <a:lnTo>
                  <a:pt x="66" y="1343"/>
                </a:lnTo>
                <a:lnTo>
                  <a:pt x="59" y="1350"/>
                </a:lnTo>
                <a:lnTo>
                  <a:pt x="52" y="1357"/>
                </a:lnTo>
                <a:lnTo>
                  <a:pt x="46" y="1363"/>
                </a:lnTo>
                <a:lnTo>
                  <a:pt x="40" y="1367"/>
                </a:lnTo>
                <a:lnTo>
                  <a:pt x="35" y="1370"/>
                </a:lnTo>
                <a:lnTo>
                  <a:pt x="30" y="1372"/>
                </a:lnTo>
                <a:lnTo>
                  <a:pt x="27" y="1373"/>
                </a:lnTo>
                <a:lnTo>
                  <a:pt x="24" y="1373"/>
                </a:lnTo>
                <a:lnTo>
                  <a:pt x="22" y="1372"/>
                </a:lnTo>
                <a:lnTo>
                  <a:pt x="17" y="1372"/>
                </a:lnTo>
                <a:lnTo>
                  <a:pt x="14" y="1370"/>
                </a:lnTo>
                <a:lnTo>
                  <a:pt x="12" y="1369"/>
                </a:lnTo>
                <a:lnTo>
                  <a:pt x="9" y="1367"/>
                </a:lnTo>
                <a:lnTo>
                  <a:pt x="6" y="1364"/>
                </a:lnTo>
                <a:lnTo>
                  <a:pt x="4" y="1361"/>
                </a:lnTo>
                <a:lnTo>
                  <a:pt x="3" y="1357"/>
                </a:lnTo>
                <a:lnTo>
                  <a:pt x="1" y="1353"/>
                </a:lnTo>
                <a:lnTo>
                  <a:pt x="0" y="1348"/>
                </a:lnTo>
                <a:lnTo>
                  <a:pt x="0" y="1343"/>
                </a:lnTo>
                <a:lnTo>
                  <a:pt x="0" y="1337"/>
                </a:lnTo>
                <a:lnTo>
                  <a:pt x="0" y="1330"/>
                </a:lnTo>
                <a:lnTo>
                  <a:pt x="0" y="1323"/>
                </a:lnTo>
                <a:lnTo>
                  <a:pt x="0" y="1315"/>
                </a:lnTo>
                <a:lnTo>
                  <a:pt x="1" y="1307"/>
                </a:lnTo>
                <a:lnTo>
                  <a:pt x="3" y="1298"/>
                </a:lnTo>
                <a:lnTo>
                  <a:pt x="4" y="1289"/>
                </a:lnTo>
                <a:lnTo>
                  <a:pt x="7" y="1279"/>
                </a:lnTo>
                <a:lnTo>
                  <a:pt x="9" y="1268"/>
                </a:lnTo>
                <a:lnTo>
                  <a:pt x="12" y="1258"/>
                </a:lnTo>
                <a:lnTo>
                  <a:pt x="14" y="1245"/>
                </a:lnTo>
                <a:lnTo>
                  <a:pt x="17" y="1233"/>
                </a:lnTo>
                <a:lnTo>
                  <a:pt x="22" y="1220"/>
                </a:lnTo>
                <a:lnTo>
                  <a:pt x="24" y="1206"/>
                </a:lnTo>
                <a:lnTo>
                  <a:pt x="29" y="1193"/>
                </a:lnTo>
                <a:lnTo>
                  <a:pt x="33" y="1179"/>
                </a:lnTo>
                <a:lnTo>
                  <a:pt x="37" y="1163"/>
                </a:lnTo>
                <a:lnTo>
                  <a:pt x="43" y="1147"/>
                </a:lnTo>
                <a:lnTo>
                  <a:pt x="48" y="1131"/>
                </a:lnTo>
                <a:lnTo>
                  <a:pt x="53" y="1114"/>
                </a:lnTo>
                <a:lnTo>
                  <a:pt x="59" y="1097"/>
                </a:lnTo>
                <a:lnTo>
                  <a:pt x="65" y="1078"/>
                </a:lnTo>
                <a:lnTo>
                  <a:pt x="78" y="1045"/>
                </a:lnTo>
                <a:lnTo>
                  <a:pt x="89" y="1010"/>
                </a:lnTo>
                <a:lnTo>
                  <a:pt x="104" y="976"/>
                </a:lnTo>
                <a:lnTo>
                  <a:pt x="117" y="941"/>
                </a:lnTo>
                <a:lnTo>
                  <a:pt x="131" y="907"/>
                </a:lnTo>
                <a:lnTo>
                  <a:pt x="144" y="871"/>
                </a:lnTo>
                <a:lnTo>
                  <a:pt x="158" y="835"/>
                </a:lnTo>
                <a:lnTo>
                  <a:pt x="173" y="799"/>
                </a:lnTo>
                <a:lnTo>
                  <a:pt x="187" y="761"/>
                </a:lnTo>
                <a:lnTo>
                  <a:pt x="202" y="724"/>
                </a:lnTo>
                <a:lnTo>
                  <a:pt x="216" y="686"/>
                </a:lnTo>
                <a:lnTo>
                  <a:pt x="229" y="647"/>
                </a:lnTo>
                <a:lnTo>
                  <a:pt x="243" y="608"/>
                </a:lnTo>
                <a:lnTo>
                  <a:pt x="256" y="570"/>
                </a:lnTo>
                <a:lnTo>
                  <a:pt x="269" y="529"/>
                </a:lnTo>
                <a:lnTo>
                  <a:pt x="282" y="489"/>
                </a:lnTo>
                <a:lnTo>
                  <a:pt x="288" y="470"/>
                </a:lnTo>
                <a:lnTo>
                  <a:pt x="292" y="453"/>
                </a:lnTo>
                <a:lnTo>
                  <a:pt x="298" y="436"/>
                </a:lnTo>
                <a:lnTo>
                  <a:pt x="302" y="420"/>
                </a:lnTo>
                <a:lnTo>
                  <a:pt x="307" y="403"/>
                </a:lnTo>
                <a:lnTo>
                  <a:pt x="311" y="387"/>
                </a:lnTo>
                <a:lnTo>
                  <a:pt x="314" y="371"/>
                </a:lnTo>
                <a:lnTo>
                  <a:pt x="318" y="357"/>
                </a:lnTo>
                <a:lnTo>
                  <a:pt x="321" y="342"/>
                </a:lnTo>
                <a:lnTo>
                  <a:pt x="322" y="328"/>
                </a:lnTo>
                <a:lnTo>
                  <a:pt x="325" y="315"/>
                </a:lnTo>
                <a:lnTo>
                  <a:pt x="327" y="300"/>
                </a:lnTo>
                <a:lnTo>
                  <a:pt x="330" y="287"/>
                </a:lnTo>
                <a:lnTo>
                  <a:pt x="330" y="276"/>
                </a:lnTo>
                <a:lnTo>
                  <a:pt x="331" y="263"/>
                </a:lnTo>
                <a:lnTo>
                  <a:pt x="333" y="251"/>
                </a:lnTo>
                <a:lnTo>
                  <a:pt x="333" y="240"/>
                </a:lnTo>
                <a:lnTo>
                  <a:pt x="333" y="230"/>
                </a:lnTo>
                <a:lnTo>
                  <a:pt x="333" y="218"/>
                </a:lnTo>
                <a:lnTo>
                  <a:pt x="331" y="208"/>
                </a:lnTo>
                <a:lnTo>
                  <a:pt x="331" y="200"/>
                </a:lnTo>
                <a:lnTo>
                  <a:pt x="330" y="190"/>
                </a:lnTo>
                <a:lnTo>
                  <a:pt x="328" y="181"/>
                </a:lnTo>
                <a:lnTo>
                  <a:pt x="327" y="172"/>
                </a:lnTo>
                <a:lnTo>
                  <a:pt x="324" y="164"/>
                </a:lnTo>
                <a:lnTo>
                  <a:pt x="322" y="156"/>
                </a:lnTo>
                <a:lnTo>
                  <a:pt x="320" y="149"/>
                </a:lnTo>
                <a:lnTo>
                  <a:pt x="317" y="142"/>
                </a:lnTo>
                <a:lnTo>
                  <a:pt x="311" y="129"/>
                </a:lnTo>
                <a:lnTo>
                  <a:pt x="304" y="118"/>
                </a:lnTo>
                <a:lnTo>
                  <a:pt x="297" y="113"/>
                </a:lnTo>
                <a:lnTo>
                  <a:pt x="292" y="109"/>
                </a:lnTo>
                <a:lnTo>
                  <a:pt x="286" y="106"/>
                </a:lnTo>
                <a:lnTo>
                  <a:pt x="282" y="102"/>
                </a:lnTo>
                <a:lnTo>
                  <a:pt x="274" y="95"/>
                </a:lnTo>
                <a:lnTo>
                  <a:pt x="266" y="87"/>
                </a:lnTo>
                <a:lnTo>
                  <a:pt x="261" y="80"/>
                </a:lnTo>
                <a:lnTo>
                  <a:pt x="255" y="73"/>
                </a:lnTo>
                <a:lnTo>
                  <a:pt x="252" y="67"/>
                </a:lnTo>
                <a:lnTo>
                  <a:pt x="249" y="60"/>
                </a:lnTo>
                <a:lnTo>
                  <a:pt x="248" y="54"/>
                </a:lnTo>
                <a:lnTo>
                  <a:pt x="248" y="48"/>
                </a:lnTo>
                <a:lnTo>
                  <a:pt x="248" y="43"/>
                </a:lnTo>
                <a:lnTo>
                  <a:pt x="249" y="37"/>
                </a:lnTo>
                <a:lnTo>
                  <a:pt x="251" y="31"/>
                </a:lnTo>
                <a:lnTo>
                  <a:pt x="253" y="27"/>
                </a:lnTo>
                <a:lnTo>
                  <a:pt x="256" y="23"/>
                </a:lnTo>
                <a:lnTo>
                  <a:pt x="261" y="20"/>
                </a:lnTo>
                <a:lnTo>
                  <a:pt x="265" y="15"/>
                </a:lnTo>
                <a:lnTo>
                  <a:pt x="269" y="12"/>
                </a:lnTo>
                <a:lnTo>
                  <a:pt x="276" y="10"/>
                </a:lnTo>
                <a:lnTo>
                  <a:pt x="284" y="7"/>
                </a:lnTo>
                <a:lnTo>
                  <a:pt x="292" y="5"/>
                </a:lnTo>
                <a:lnTo>
                  <a:pt x="301" y="4"/>
                </a:lnTo>
                <a:lnTo>
                  <a:pt x="311" y="2"/>
                </a:lnTo>
                <a:lnTo>
                  <a:pt x="321" y="1"/>
                </a:lnTo>
                <a:lnTo>
                  <a:pt x="333" y="1"/>
                </a:lnTo>
                <a:lnTo>
                  <a:pt x="346" y="0"/>
                </a:lnTo>
                <a:lnTo>
                  <a:pt x="358" y="0"/>
                </a:lnTo>
                <a:lnTo>
                  <a:pt x="371" y="0"/>
                </a:lnTo>
                <a:lnTo>
                  <a:pt x="386" y="0"/>
                </a:lnTo>
                <a:lnTo>
                  <a:pt x="402" y="0"/>
                </a:lnTo>
                <a:lnTo>
                  <a:pt x="416" y="0"/>
                </a:lnTo>
                <a:lnTo>
                  <a:pt x="433" y="0"/>
                </a:lnTo>
                <a:lnTo>
                  <a:pt x="445" y="2"/>
                </a:lnTo>
                <a:lnTo>
                  <a:pt x="458" y="7"/>
                </a:lnTo>
                <a:lnTo>
                  <a:pt x="471" y="10"/>
                </a:lnTo>
                <a:lnTo>
                  <a:pt x="485" y="14"/>
                </a:lnTo>
                <a:lnTo>
                  <a:pt x="513" y="23"/>
                </a:lnTo>
                <a:lnTo>
                  <a:pt x="527" y="28"/>
                </a:lnTo>
                <a:lnTo>
                  <a:pt x="541" y="33"/>
                </a:lnTo>
                <a:lnTo>
                  <a:pt x="556" y="38"/>
                </a:lnTo>
                <a:lnTo>
                  <a:pt x="570" y="46"/>
                </a:lnTo>
                <a:lnTo>
                  <a:pt x="583" y="53"/>
                </a:lnTo>
                <a:lnTo>
                  <a:pt x="597" y="60"/>
                </a:lnTo>
                <a:lnTo>
                  <a:pt x="610" y="67"/>
                </a:lnTo>
                <a:lnTo>
                  <a:pt x="625" y="77"/>
                </a:lnTo>
                <a:lnTo>
                  <a:pt x="636" y="87"/>
                </a:lnTo>
                <a:lnTo>
                  <a:pt x="649" y="97"/>
                </a:lnTo>
                <a:lnTo>
                  <a:pt x="661" y="109"/>
                </a:lnTo>
                <a:lnTo>
                  <a:pt x="672" y="119"/>
                </a:lnTo>
                <a:lnTo>
                  <a:pt x="682" y="129"/>
                </a:lnTo>
                <a:lnTo>
                  <a:pt x="694" y="138"/>
                </a:lnTo>
                <a:lnTo>
                  <a:pt x="703" y="148"/>
                </a:lnTo>
                <a:lnTo>
                  <a:pt x="711" y="156"/>
                </a:lnTo>
                <a:lnTo>
                  <a:pt x="720" y="165"/>
                </a:lnTo>
                <a:lnTo>
                  <a:pt x="727" y="174"/>
                </a:lnTo>
                <a:lnTo>
                  <a:pt x="734" y="181"/>
                </a:lnTo>
                <a:lnTo>
                  <a:pt x="740" y="190"/>
                </a:lnTo>
                <a:lnTo>
                  <a:pt x="746" y="197"/>
                </a:lnTo>
                <a:lnTo>
                  <a:pt x="750" y="205"/>
                </a:lnTo>
                <a:lnTo>
                  <a:pt x="753" y="213"/>
                </a:lnTo>
                <a:lnTo>
                  <a:pt x="756" y="220"/>
                </a:lnTo>
                <a:lnTo>
                  <a:pt x="757" y="227"/>
                </a:lnTo>
                <a:lnTo>
                  <a:pt x="757" y="234"/>
                </a:lnTo>
                <a:lnTo>
                  <a:pt x="757" y="239"/>
                </a:lnTo>
                <a:lnTo>
                  <a:pt x="756" y="243"/>
                </a:lnTo>
                <a:lnTo>
                  <a:pt x="754" y="250"/>
                </a:lnTo>
                <a:lnTo>
                  <a:pt x="751" y="256"/>
                </a:lnTo>
                <a:lnTo>
                  <a:pt x="749" y="264"/>
                </a:lnTo>
                <a:lnTo>
                  <a:pt x="746" y="273"/>
                </a:lnTo>
                <a:lnTo>
                  <a:pt x="741" y="283"/>
                </a:lnTo>
                <a:lnTo>
                  <a:pt x="736" y="293"/>
                </a:lnTo>
                <a:lnTo>
                  <a:pt x="730" y="305"/>
                </a:lnTo>
                <a:lnTo>
                  <a:pt x="724" y="318"/>
                </a:lnTo>
                <a:lnTo>
                  <a:pt x="717" y="331"/>
                </a:lnTo>
                <a:lnTo>
                  <a:pt x="710" y="345"/>
                </a:lnTo>
                <a:lnTo>
                  <a:pt x="701" y="361"/>
                </a:lnTo>
                <a:lnTo>
                  <a:pt x="692" y="377"/>
                </a:lnTo>
                <a:lnTo>
                  <a:pt x="682" y="394"/>
                </a:lnTo>
                <a:lnTo>
                  <a:pt x="672" y="413"/>
                </a:lnTo>
                <a:lnTo>
                  <a:pt x="661" y="431"/>
                </a:lnTo>
                <a:lnTo>
                  <a:pt x="649" y="452"/>
                </a:lnTo>
                <a:lnTo>
                  <a:pt x="636" y="473"/>
                </a:lnTo>
                <a:lnTo>
                  <a:pt x="623" y="496"/>
                </a:lnTo>
                <a:lnTo>
                  <a:pt x="610" y="519"/>
                </a:lnTo>
                <a:lnTo>
                  <a:pt x="596" y="544"/>
                </a:lnTo>
                <a:lnTo>
                  <a:pt x="580" y="568"/>
                </a:lnTo>
                <a:lnTo>
                  <a:pt x="564" y="594"/>
                </a:lnTo>
                <a:lnTo>
                  <a:pt x="547" y="621"/>
                </a:lnTo>
                <a:lnTo>
                  <a:pt x="530" y="650"/>
                </a:lnTo>
                <a:lnTo>
                  <a:pt x="513" y="680"/>
                </a:lnTo>
                <a:lnTo>
                  <a:pt x="494" y="711"/>
                </a:lnTo>
                <a:lnTo>
                  <a:pt x="474" y="742"/>
                </a:lnTo>
                <a:lnTo>
                  <a:pt x="453" y="774"/>
                </a:lnTo>
                <a:lnTo>
                  <a:pt x="433" y="807"/>
                </a:lnTo>
                <a:lnTo>
                  <a:pt x="412" y="8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2"/>
          <p:cNvSpPr/>
          <p:nvPr/>
        </p:nvSpPr>
        <p:spPr>
          <a:xfrm>
            <a:off x="5740560" y="3627360"/>
            <a:ext cx="217440" cy="1473120"/>
          </a:xfrm>
          <a:custGeom>
            <a:avLst/>
            <a:gdLst/>
            <a:ahLst/>
            <a:rect l="l" t="t" r="r" b="b"/>
            <a:pathLst>
              <a:path w="411" h="2784">
                <a:moveTo>
                  <a:pt x="108" y="137"/>
                </a:moveTo>
                <a:lnTo>
                  <a:pt x="104" y="118"/>
                </a:lnTo>
                <a:lnTo>
                  <a:pt x="101" y="102"/>
                </a:lnTo>
                <a:lnTo>
                  <a:pt x="98" y="88"/>
                </a:lnTo>
                <a:lnTo>
                  <a:pt x="97" y="73"/>
                </a:lnTo>
                <a:lnTo>
                  <a:pt x="95" y="60"/>
                </a:lnTo>
                <a:lnTo>
                  <a:pt x="95" y="50"/>
                </a:lnTo>
                <a:lnTo>
                  <a:pt x="95" y="40"/>
                </a:lnTo>
                <a:lnTo>
                  <a:pt x="97" y="31"/>
                </a:lnTo>
                <a:lnTo>
                  <a:pt x="100" y="23"/>
                </a:lnTo>
                <a:lnTo>
                  <a:pt x="103" y="17"/>
                </a:lnTo>
                <a:lnTo>
                  <a:pt x="108" y="11"/>
                </a:lnTo>
                <a:lnTo>
                  <a:pt x="114" y="7"/>
                </a:lnTo>
                <a:lnTo>
                  <a:pt x="121" y="3"/>
                </a:lnTo>
                <a:lnTo>
                  <a:pt x="130" y="1"/>
                </a:lnTo>
                <a:lnTo>
                  <a:pt x="134" y="0"/>
                </a:lnTo>
                <a:lnTo>
                  <a:pt x="140" y="0"/>
                </a:lnTo>
                <a:lnTo>
                  <a:pt x="144" y="0"/>
                </a:lnTo>
                <a:lnTo>
                  <a:pt x="152" y="0"/>
                </a:lnTo>
                <a:lnTo>
                  <a:pt x="163" y="0"/>
                </a:lnTo>
                <a:lnTo>
                  <a:pt x="176" y="0"/>
                </a:lnTo>
                <a:lnTo>
                  <a:pt x="190" y="1"/>
                </a:lnTo>
                <a:lnTo>
                  <a:pt x="203" y="3"/>
                </a:lnTo>
                <a:lnTo>
                  <a:pt x="218" y="4"/>
                </a:lnTo>
                <a:lnTo>
                  <a:pt x="234" y="7"/>
                </a:lnTo>
                <a:lnTo>
                  <a:pt x="249" y="10"/>
                </a:lnTo>
                <a:lnTo>
                  <a:pt x="265" y="13"/>
                </a:lnTo>
                <a:lnTo>
                  <a:pt x="281" y="17"/>
                </a:lnTo>
                <a:lnTo>
                  <a:pt x="298" y="21"/>
                </a:lnTo>
                <a:lnTo>
                  <a:pt x="316" y="26"/>
                </a:lnTo>
                <a:lnTo>
                  <a:pt x="334" y="31"/>
                </a:lnTo>
                <a:lnTo>
                  <a:pt x="352" y="37"/>
                </a:lnTo>
                <a:lnTo>
                  <a:pt x="372" y="43"/>
                </a:lnTo>
                <a:lnTo>
                  <a:pt x="391" y="50"/>
                </a:lnTo>
                <a:lnTo>
                  <a:pt x="411" y="57"/>
                </a:lnTo>
                <a:lnTo>
                  <a:pt x="411" y="184"/>
                </a:lnTo>
                <a:lnTo>
                  <a:pt x="411" y="308"/>
                </a:lnTo>
                <a:lnTo>
                  <a:pt x="411" y="427"/>
                </a:lnTo>
                <a:lnTo>
                  <a:pt x="411" y="543"/>
                </a:lnTo>
                <a:lnTo>
                  <a:pt x="411" y="655"/>
                </a:lnTo>
                <a:lnTo>
                  <a:pt x="409" y="710"/>
                </a:lnTo>
                <a:lnTo>
                  <a:pt x="409" y="763"/>
                </a:lnTo>
                <a:lnTo>
                  <a:pt x="409" y="815"/>
                </a:lnTo>
                <a:lnTo>
                  <a:pt x="409" y="866"/>
                </a:lnTo>
                <a:lnTo>
                  <a:pt x="408" y="917"/>
                </a:lnTo>
                <a:lnTo>
                  <a:pt x="408" y="967"/>
                </a:lnTo>
                <a:lnTo>
                  <a:pt x="408" y="1016"/>
                </a:lnTo>
                <a:lnTo>
                  <a:pt x="406" y="1064"/>
                </a:lnTo>
                <a:lnTo>
                  <a:pt x="406" y="1110"/>
                </a:lnTo>
                <a:lnTo>
                  <a:pt x="405" y="1156"/>
                </a:lnTo>
                <a:lnTo>
                  <a:pt x="405" y="1200"/>
                </a:lnTo>
                <a:lnTo>
                  <a:pt x="404" y="1245"/>
                </a:lnTo>
                <a:lnTo>
                  <a:pt x="402" y="1287"/>
                </a:lnTo>
                <a:lnTo>
                  <a:pt x="402" y="1329"/>
                </a:lnTo>
                <a:lnTo>
                  <a:pt x="401" y="1370"/>
                </a:lnTo>
                <a:lnTo>
                  <a:pt x="399" y="1409"/>
                </a:lnTo>
                <a:lnTo>
                  <a:pt x="398" y="1448"/>
                </a:lnTo>
                <a:lnTo>
                  <a:pt x="396" y="1486"/>
                </a:lnTo>
                <a:lnTo>
                  <a:pt x="395" y="1523"/>
                </a:lnTo>
                <a:lnTo>
                  <a:pt x="393" y="1559"/>
                </a:lnTo>
                <a:lnTo>
                  <a:pt x="391" y="1593"/>
                </a:lnTo>
                <a:lnTo>
                  <a:pt x="389" y="1627"/>
                </a:lnTo>
                <a:lnTo>
                  <a:pt x="388" y="1661"/>
                </a:lnTo>
                <a:lnTo>
                  <a:pt x="385" y="1696"/>
                </a:lnTo>
                <a:lnTo>
                  <a:pt x="383" y="1729"/>
                </a:lnTo>
                <a:lnTo>
                  <a:pt x="380" y="1762"/>
                </a:lnTo>
                <a:lnTo>
                  <a:pt x="379" y="1794"/>
                </a:lnTo>
                <a:lnTo>
                  <a:pt x="378" y="1827"/>
                </a:lnTo>
                <a:lnTo>
                  <a:pt x="375" y="1857"/>
                </a:lnTo>
                <a:lnTo>
                  <a:pt x="373" y="1889"/>
                </a:lnTo>
                <a:lnTo>
                  <a:pt x="370" y="1919"/>
                </a:lnTo>
                <a:lnTo>
                  <a:pt x="369" y="1948"/>
                </a:lnTo>
                <a:lnTo>
                  <a:pt x="366" y="1976"/>
                </a:lnTo>
                <a:lnTo>
                  <a:pt x="363" y="2005"/>
                </a:lnTo>
                <a:lnTo>
                  <a:pt x="362" y="2034"/>
                </a:lnTo>
                <a:lnTo>
                  <a:pt x="359" y="2061"/>
                </a:lnTo>
                <a:lnTo>
                  <a:pt x="356" y="2089"/>
                </a:lnTo>
                <a:lnTo>
                  <a:pt x="355" y="2115"/>
                </a:lnTo>
                <a:lnTo>
                  <a:pt x="352" y="2141"/>
                </a:lnTo>
                <a:lnTo>
                  <a:pt x="349" y="2166"/>
                </a:lnTo>
                <a:lnTo>
                  <a:pt x="346" y="2191"/>
                </a:lnTo>
                <a:lnTo>
                  <a:pt x="343" y="2215"/>
                </a:lnTo>
                <a:lnTo>
                  <a:pt x="340" y="2238"/>
                </a:lnTo>
                <a:lnTo>
                  <a:pt x="337" y="2263"/>
                </a:lnTo>
                <a:lnTo>
                  <a:pt x="334" y="2286"/>
                </a:lnTo>
                <a:lnTo>
                  <a:pt x="332" y="2308"/>
                </a:lnTo>
                <a:lnTo>
                  <a:pt x="329" y="2329"/>
                </a:lnTo>
                <a:lnTo>
                  <a:pt x="324" y="2351"/>
                </a:lnTo>
                <a:lnTo>
                  <a:pt x="321" y="2372"/>
                </a:lnTo>
                <a:lnTo>
                  <a:pt x="317" y="2392"/>
                </a:lnTo>
                <a:lnTo>
                  <a:pt x="314" y="2413"/>
                </a:lnTo>
                <a:lnTo>
                  <a:pt x="310" y="2431"/>
                </a:lnTo>
                <a:lnTo>
                  <a:pt x="307" y="2452"/>
                </a:lnTo>
                <a:lnTo>
                  <a:pt x="303" y="2470"/>
                </a:lnTo>
                <a:lnTo>
                  <a:pt x="298" y="2489"/>
                </a:lnTo>
                <a:lnTo>
                  <a:pt x="294" y="2509"/>
                </a:lnTo>
                <a:lnTo>
                  <a:pt x="291" y="2528"/>
                </a:lnTo>
                <a:lnTo>
                  <a:pt x="287" y="2545"/>
                </a:lnTo>
                <a:lnTo>
                  <a:pt x="283" y="2562"/>
                </a:lnTo>
                <a:lnTo>
                  <a:pt x="278" y="2578"/>
                </a:lnTo>
                <a:lnTo>
                  <a:pt x="275" y="2594"/>
                </a:lnTo>
                <a:lnTo>
                  <a:pt x="271" y="2610"/>
                </a:lnTo>
                <a:lnTo>
                  <a:pt x="267" y="2624"/>
                </a:lnTo>
                <a:lnTo>
                  <a:pt x="264" y="2639"/>
                </a:lnTo>
                <a:lnTo>
                  <a:pt x="260" y="2652"/>
                </a:lnTo>
                <a:lnTo>
                  <a:pt x="255" y="2663"/>
                </a:lnTo>
                <a:lnTo>
                  <a:pt x="252" y="2676"/>
                </a:lnTo>
                <a:lnTo>
                  <a:pt x="248" y="2686"/>
                </a:lnTo>
                <a:lnTo>
                  <a:pt x="245" y="2698"/>
                </a:lnTo>
                <a:lnTo>
                  <a:pt x="241" y="2708"/>
                </a:lnTo>
                <a:lnTo>
                  <a:pt x="238" y="2716"/>
                </a:lnTo>
                <a:lnTo>
                  <a:pt x="234" y="2725"/>
                </a:lnTo>
                <a:lnTo>
                  <a:pt x="231" y="2734"/>
                </a:lnTo>
                <a:lnTo>
                  <a:pt x="226" y="2741"/>
                </a:lnTo>
                <a:lnTo>
                  <a:pt x="224" y="2748"/>
                </a:lnTo>
                <a:lnTo>
                  <a:pt x="221" y="2754"/>
                </a:lnTo>
                <a:lnTo>
                  <a:pt x="218" y="2760"/>
                </a:lnTo>
                <a:lnTo>
                  <a:pt x="215" y="2765"/>
                </a:lnTo>
                <a:lnTo>
                  <a:pt x="212" y="2770"/>
                </a:lnTo>
                <a:lnTo>
                  <a:pt x="209" y="2773"/>
                </a:lnTo>
                <a:lnTo>
                  <a:pt x="206" y="2775"/>
                </a:lnTo>
                <a:lnTo>
                  <a:pt x="203" y="2778"/>
                </a:lnTo>
                <a:lnTo>
                  <a:pt x="201" y="2781"/>
                </a:lnTo>
                <a:lnTo>
                  <a:pt x="199" y="2783"/>
                </a:lnTo>
                <a:lnTo>
                  <a:pt x="196" y="2783"/>
                </a:lnTo>
                <a:lnTo>
                  <a:pt x="195" y="2784"/>
                </a:lnTo>
                <a:lnTo>
                  <a:pt x="186" y="2780"/>
                </a:lnTo>
                <a:lnTo>
                  <a:pt x="178" y="2775"/>
                </a:lnTo>
                <a:lnTo>
                  <a:pt x="170" y="2770"/>
                </a:lnTo>
                <a:lnTo>
                  <a:pt x="162" y="2764"/>
                </a:lnTo>
                <a:lnTo>
                  <a:pt x="154" y="2758"/>
                </a:lnTo>
                <a:lnTo>
                  <a:pt x="146" y="2751"/>
                </a:lnTo>
                <a:lnTo>
                  <a:pt x="137" y="2744"/>
                </a:lnTo>
                <a:lnTo>
                  <a:pt x="130" y="2735"/>
                </a:lnTo>
                <a:lnTo>
                  <a:pt x="121" y="2725"/>
                </a:lnTo>
                <a:lnTo>
                  <a:pt x="113" y="2715"/>
                </a:lnTo>
                <a:lnTo>
                  <a:pt x="106" y="2702"/>
                </a:lnTo>
                <a:lnTo>
                  <a:pt x="97" y="2691"/>
                </a:lnTo>
                <a:lnTo>
                  <a:pt x="88" y="2676"/>
                </a:lnTo>
                <a:lnTo>
                  <a:pt x="81" y="2660"/>
                </a:lnTo>
                <a:lnTo>
                  <a:pt x="72" y="2644"/>
                </a:lnTo>
                <a:lnTo>
                  <a:pt x="65" y="2627"/>
                </a:lnTo>
                <a:lnTo>
                  <a:pt x="57" y="2606"/>
                </a:lnTo>
                <a:lnTo>
                  <a:pt x="49" y="2585"/>
                </a:lnTo>
                <a:lnTo>
                  <a:pt x="42" y="2565"/>
                </a:lnTo>
                <a:lnTo>
                  <a:pt x="36" y="2548"/>
                </a:lnTo>
                <a:lnTo>
                  <a:pt x="31" y="2532"/>
                </a:lnTo>
                <a:lnTo>
                  <a:pt x="25" y="2516"/>
                </a:lnTo>
                <a:lnTo>
                  <a:pt x="21" y="2500"/>
                </a:lnTo>
                <a:lnTo>
                  <a:pt x="16" y="2486"/>
                </a:lnTo>
                <a:lnTo>
                  <a:pt x="12" y="2473"/>
                </a:lnTo>
                <a:lnTo>
                  <a:pt x="9" y="2460"/>
                </a:lnTo>
                <a:lnTo>
                  <a:pt x="6" y="2449"/>
                </a:lnTo>
                <a:lnTo>
                  <a:pt x="3" y="2436"/>
                </a:lnTo>
                <a:lnTo>
                  <a:pt x="2" y="2424"/>
                </a:lnTo>
                <a:lnTo>
                  <a:pt x="0" y="2413"/>
                </a:lnTo>
                <a:lnTo>
                  <a:pt x="0" y="2403"/>
                </a:lnTo>
                <a:lnTo>
                  <a:pt x="0" y="2391"/>
                </a:lnTo>
                <a:lnTo>
                  <a:pt x="0" y="2380"/>
                </a:lnTo>
                <a:lnTo>
                  <a:pt x="0" y="2368"/>
                </a:lnTo>
                <a:lnTo>
                  <a:pt x="2" y="2357"/>
                </a:lnTo>
                <a:lnTo>
                  <a:pt x="3" y="2344"/>
                </a:lnTo>
                <a:lnTo>
                  <a:pt x="6" y="2331"/>
                </a:lnTo>
                <a:lnTo>
                  <a:pt x="9" y="2316"/>
                </a:lnTo>
                <a:lnTo>
                  <a:pt x="12" y="2302"/>
                </a:lnTo>
                <a:lnTo>
                  <a:pt x="16" y="2286"/>
                </a:lnTo>
                <a:lnTo>
                  <a:pt x="21" y="2270"/>
                </a:lnTo>
                <a:lnTo>
                  <a:pt x="25" y="2253"/>
                </a:lnTo>
                <a:lnTo>
                  <a:pt x="31" y="2236"/>
                </a:lnTo>
                <a:lnTo>
                  <a:pt x="36" y="2218"/>
                </a:lnTo>
                <a:lnTo>
                  <a:pt x="42" y="2198"/>
                </a:lnTo>
                <a:lnTo>
                  <a:pt x="49" y="2179"/>
                </a:lnTo>
                <a:lnTo>
                  <a:pt x="57" y="2158"/>
                </a:lnTo>
                <a:lnTo>
                  <a:pt x="65" y="2136"/>
                </a:lnTo>
                <a:lnTo>
                  <a:pt x="70" y="2113"/>
                </a:lnTo>
                <a:lnTo>
                  <a:pt x="74" y="2090"/>
                </a:lnTo>
                <a:lnTo>
                  <a:pt x="78" y="2064"/>
                </a:lnTo>
                <a:lnTo>
                  <a:pt x="84" y="2037"/>
                </a:lnTo>
                <a:lnTo>
                  <a:pt x="90" y="2010"/>
                </a:lnTo>
                <a:lnTo>
                  <a:pt x="95" y="1979"/>
                </a:lnTo>
                <a:lnTo>
                  <a:pt x="101" y="1949"/>
                </a:lnTo>
                <a:lnTo>
                  <a:pt x="108" y="1916"/>
                </a:lnTo>
                <a:lnTo>
                  <a:pt x="114" y="1883"/>
                </a:lnTo>
                <a:lnTo>
                  <a:pt x="120" y="1847"/>
                </a:lnTo>
                <a:lnTo>
                  <a:pt x="126" y="1811"/>
                </a:lnTo>
                <a:lnTo>
                  <a:pt x="131" y="1772"/>
                </a:lnTo>
                <a:lnTo>
                  <a:pt x="137" y="1733"/>
                </a:lnTo>
                <a:lnTo>
                  <a:pt x="142" y="1693"/>
                </a:lnTo>
                <a:lnTo>
                  <a:pt x="147" y="1651"/>
                </a:lnTo>
                <a:lnTo>
                  <a:pt x="152" y="1608"/>
                </a:lnTo>
                <a:lnTo>
                  <a:pt x="154" y="1563"/>
                </a:lnTo>
                <a:lnTo>
                  <a:pt x="159" y="1517"/>
                </a:lnTo>
                <a:lnTo>
                  <a:pt x="163" y="1471"/>
                </a:lnTo>
                <a:lnTo>
                  <a:pt x="167" y="1424"/>
                </a:lnTo>
                <a:lnTo>
                  <a:pt x="170" y="1375"/>
                </a:lnTo>
                <a:lnTo>
                  <a:pt x="175" y="1324"/>
                </a:lnTo>
                <a:lnTo>
                  <a:pt x="178" y="1274"/>
                </a:lnTo>
                <a:lnTo>
                  <a:pt x="180" y="1222"/>
                </a:lnTo>
                <a:lnTo>
                  <a:pt x="183" y="1169"/>
                </a:lnTo>
                <a:lnTo>
                  <a:pt x="186" y="1116"/>
                </a:lnTo>
                <a:lnTo>
                  <a:pt x="189" y="1059"/>
                </a:lnTo>
                <a:lnTo>
                  <a:pt x="190" y="1003"/>
                </a:lnTo>
                <a:lnTo>
                  <a:pt x="192" y="946"/>
                </a:lnTo>
                <a:lnTo>
                  <a:pt x="193" y="885"/>
                </a:lnTo>
                <a:lnTo>
                  <a:pt x="193" y="825"/>
                </a:lnTo>
                <a:lnTo>
                  <a:pt x="195" y="764"/>
                </a:lnTo>
                <a:lnTo>
                  <a:pt x="192" y="733"/>
                </a:lnTo>
                <a:lnTo>
                  <a:pt x="190" y="702"/>
                </a:lnTo>
                <a:lnTo>
                  <a:pt x="188" y="674"/>
                </a:lnTo>
                <a:lnTo>
                  <a:pt x="186" y="645"/>
                </a:lnTo>
                <a:lnTo>
                  <a:pt x="185" y="617"/>
                </a:lnTo>
                <a:lnTo>
                  <a:pt x="182" y="590"/>
                </a:lnTo>
                <a:lnTo>
                  <a:pt x="180" y="564"/>
                </a:lnTo>
                <a:lnTo>
                  <a:pt x="178" y="538"/>
                </a:lnTo>
                <a:lnTo>
                  <a:pt x="176" y="514"/>
                </a:lnTo>
                <a:lnTo>
                  <a:pt x="173" y="491"/>
                </a:lnTo>
                <a:lnTo>
                  <a:pt x="172" y="468"/>
                </a:lnTo>
                <a:lnTo>
                  <a:pt x="169" y="445"/>
                </a:lnTo>
                <a:lnTo>
                  <a:pt x="166" y="423"/>
                </a:lnTo>
                <a:lnTo>
                  <a:pt x="165" y="401"/>
                </a:lnTo>
                <a:lnTo>
                  <a:pt x="162" y="381"/>
                </a:lnTo>
                <a:lnTo>
                  <a:pt x="159" y="361"/>
                </a:lnTo>
                <a:lnTo>
                  <a:pt x="156" y="342"/>
                </a:lnTo>
                <a:lnTo>
                  <a:pt x="153" y="325"/>
                </a:lnTo>
                <a:lnTo>
                  <a:pt x="152" y="306"/>
                </a:lnTo>
                <a:lnTo>
                  <a:pt x="149" y="291"/>
                </a:lnTo>
                <a:lnTo>
                  <a:pt x="146" y="273"/>
                </a:lnTo>
                <a:lnTo>
                  <a:pt x="143" y="257"/>
                </a:lnTo>
                <a:lnTo>
                  <a:pt x="139" y="243"/>
                </a:lnTo>
                <a:lnTo>
                  <a:pt x="136" y="229"/>
                </a:lnTo>
                <a:lnTo>
                  <a:pt x="133" y="214"/>
                </a:lnTo>
                <a:lnTo>
                  <a:pt x="130" y="201"/>
                </a:lnTo>
                <a:lnTo>
                  <a:pt x="126" y="190"/>
                </a:lnTo>
                <a:lnTo>
                  <a:pt x="123" y="177"/>
                </a:lnTo>
                <a:lnTo>
                  <a:pt x="118" y="167"/>
                </a:lnTo>
                <a:lnTo>
                  <a:pt x="116" y="155"/>
                </a:lnTo>
                <a:lnTo>
                  <a:pt x="111" y="145"/>
                </a:lnTo>
                <a:lnTo>
                  <a:pt x="108" y="1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73"/>
          <p:cNvSpPr/>
          <p:nvPr/>
        </p:nvSpPr>
        <p:spPr>
          <a:xfrm>
            <a:off x="5889600" y="3554280"/>
            <a:ext cx="644400" cy="1016280"/>
          </a:xfrm>
          <a:custGeom>
            <a:avLst/>
            <a:gdLst/>
            <a:ahLst/>
            <a:rect l="l" t="t" r="r" b="b"/>
            <a:pathLst>
              <a:path w="1218" h="1922">
                <a:moveTo>
                  <a:pt x="1212" y="275"/>
                </a:moveTo>
                <a:lnTo>
                  <a:pt x="1212" y="277"/>
                </a:lnTo>
                <a:lnTo>
                  <a:pt x="1211" y="282"/>
                </a:lnTo>
                <a:lnTo>
                  <a:pt x="1209" y="285"/>
                </a:lnTo>
                <a:lnTo>
                  <a:pt x="1208" y="289"/>
                </a:lnTo>
                <a:lnTo>
                  <a:pt x="1207" y="292"/>
                </a:lnTo>
                <a:lnTo>
                  <a:pt x="1204" y="295"/>
                </a:lnTo>
                <a:lnTo>
                  <a:pt x="1199" y="299"/>
                </a:lnTo>
                <a:lnTo>
                  <a:pt x="1196" y="302"/>
                </a:lnTo>
                <a:lnTo>
                  <a:pt x="1192" y="303"/>
                </a:lnTo>
                <a:lnTo>
                  <a:pt x="1186" y="306"/>
                </a:lnTo>
                <a:lnTo>
                  <a:pt x="1182" y="308"/>
                </a:lnTo>
                <a:lnTo>
                  <a:pt x="1176" y="311"/>
                </a:lnTo>
                <a:lnTo>
                  <a:pt x="1169" y="312"/>
                </a:lnTo>
                <a:lnTo>
                  <a:pt x="1163" y="312"/>
                </a:lnTo>
                <a:lnTo>
                  <a:pt x="1155" y="313"/>
                </a:lnTo>
                <a:lnTo>
                  <a:pt x="1148" y="313"/>
                </a:lnTo>
                <a:lnTo>
                  <a:pt x="1135" y="318"/>
                </a:lnTo>
                <a:lnTo>
                  <a:pt x="1122" y="323"/>
                </a:lnTo>
                <a:lnTo>
                  <a:pt x="1106" y="331"/>
                </a:lnTo>
                <a:lnTo>
                  <a:pt x="1090" y="339"/>
                </a:lnTo>
                <a:lnTo>
                  <a:pt x="1074" y="349"/>
                </a:lnTo>
                <a:lnTo>
                  <a:pt x="1055" y="359"/>
                </a:lnTo>
                <a:lnTo>
                  <a:pt x="1037" y="372"/>
                </a:lnTo>
                <a:lnTo>
                  <a:pt x="1017" y="387"/>
                </a:lnTo>
                <a:lnTo>
                  <a:pt x="996" y="401"/>
                </a:lnTo>
                <a:lnTo>
                  <a:pt x="975" y="419"/>
                </a:lnTo>
                <a:lnTo>
                  <a:pt x="952" y="437"/>
                </a:lnTo>
                <a:lnTo>
                  <a:pt x="927" y="456"/>
                </a:lnTo>
                <a:lnTo>
                  <a:pt x="903" y="478"/>
                </a:lnTo>
                <a:lnTo>
                  <a:pt x="890" y="488"/>
                </a:lnTo>
                <a:lnTo>
                  <a:pt x="877" y="499"/>
                </a:lnTo>
                <a:lnTo>
                  <a:pt x="864" y="512"/>
                </a:lnTo>
                <a:lnTo>
                  <a:pt x="851" y="524"/>
                </a:lnTo>
                <a:lnTo>
                  <a:pt x="837" y="537"/>
                </a:lnTo>
                <a:lnTo>
                  <a:pt x="824" y="550"/>
                </a:lnTo>
                <a:lnTo>
                  <a:pt x="809" y="564"/>
                </a:lnTo>
                <a:lnTo>
                  <a:pt x="796" y="578"/>
                </a:lnTo>
                <a:lnTo>
                  <a:pt x="783" y="591"/>
                </a:lnTo>
                <a:lnTo>
                  <a:pt x="770" y="606"/>
                </a:lnTo>
                <a:lnTo>
                  <a:pt x="759" y="619"/>
                </a:lnTo>
                <a:lnTo>
                  <a:pt x="747" y="632"/>
                </a:lnTo>
                <a:lnTo>
                  <a:pt x="736" y="643"/>
                </a:lnTo>
                <a:lnTo>
                  <a:pt x="726" y="656"/>
                </a:lnTo>
                <a:lnTo>
                  <a:pt x="716" y="668"/>
                </a:lnTo>
                <a:lnTo>
                  <a:pt x="707" y="679"/>
                </a:lnTo>
                <a:lnTo>
                  <a:pt x="698" y="689"/>
                </a:lnTo>
                <a:lnTo>
                  <a:pt x="690" y="701"/>
                </a:lnTo>
                <a:lnTo>
                  <a:pt x="681" y="711"/>
                </a:lnTo>
                <a:lnTo>
                  <a:pt x="674" y="719"/>
                </a:lnTo>
                <a:lnTo>
                  <a:pt x="667" y="729"/>
                </a:lnTo>
                <a:lnTo>
                  <a:pt x="661" y="738"/>
                </a:lnTo>
                <a:lnTo>
                  <a:pt x="655" y="747"/>
                </a:lnTo>
                <a:lnTo>
                  <a:pt x="649" y="754"/>
                </a:lnTo>
                <a:lnTo>
                  <a:pt x="645" y="763"/>
                </a:lnTo>
                <a:lnTo>
                  <a:pt x="641" y="770"/>
                </a:lnTo>
                <a:lnTo>
                  <a:pt x="636" y="777"/>
                </a:lnTo>
                <a:lnTo>
                  <a:pt x="634" y="783"/>
                </a:lnTo>
                <a:lnTo>
                  <a:pt x="631" y="789"/>
                </a:lnTo>
                <a:lnTo>
                  <a:pt x="628" y="794"/>
                </a:lnTo>
                <a:lnTo>
                  <a:pt x="626" y="800"/>
                </a:lnTo>
                <a:lnTo>
                  <a:pt x="625" y="804"/>
                </a:lnTo>
                <a:lnTo>
                  <a:pt x="624" y="809"/>
                </a:lnTo>
                <a:lnTo>
                  <a:pt x="624" y="812"/>
                </a:lnTo>
                <a:lnTo>
                  <a:pt x="624" y="816"/>
                </a:lnTo>
                <a:lnTo>
                  <a:pt x="625" y="819"/>
                </a:lnTo>
                <a:lnTo>
                  <a:pt x="626" y="822"/>
                </a:lnTo>
                <a:lnTo>
                  <a:pt x="628" y="823"/>
                </a:lnTo>
                <a:lnTo>
                  <a:pt x="632" y="827"/>
                </a:lnTo>
                <a:lnTo>
                  <a:pt x="638" y="832"/>
                </a:lnTo>
                <a:lnTo>
                  <a:pt x="645" y="839"/>
                </a:lnTo>
                <a:lnTo>
                  <a:pt x="652" y="845"/>
                </a:lnTo>
                <a:lnTo>
                  <a:pt x="661" y="852"/>
                </a:lnTo>
                <a:lnTo>
                  <a:pt x="671" y="860"/>
                </a:lnTo>
                <a:lnTo>
                  <a:pt x="681" y="869"/>
                </a:lnTo>
                <a:lnTo>
                  <a:pt x="693" y="879"/>
                </a:lnTo>
                <a:lnTo>
                  <a:pt x="706" y="889"/>
                </a:lnTo>
                <a:lnTo>
                  <a:pt x="720" y="901"/>
                </a:lnTo>
                <a:lnTo>
                  <a:pt x="734" y="912"/>
                </a:lnTo>
                <a:lnTo>
                  <a:pt x="750" y="925"/>
                </a:lnTo>
                <a:lnTo>
                  <a:pt x="766" y="938"/>
                </a:lnTo>
                <a:lnTo>
                  <a:pt x="785" y="951"/>
                </a:lnTo>
                <a:lnTo>
                  <a:pt x="803" y="966"/>
                </a:lnTo>
                <a:lnTo>
                  <a:pt x="824" y="980"/>
                </a:lnTo>
                <a:lnTo>
                  <a:pt x="839" y="996"/>
                </a:lnTo>
                <a:lnTo>
                  <a:pt x="854" y="1012"/>
                </a:lnTo>
                <a:lnTo>
                  <a:pt x="870" y="1029"/>
                </a:lnTo>
                <a:lnTo>
                  <a:pt x="884" y="1046"/>
                </a:lnTo>
                <a:lnTo>
                  <a:pt x="897" y="1065"/>
                </a:lnTo>
                <a:lnTo>
                  <a:pt x="911" y="1085"/>
                </a:lnTo>
                <a:lnTo>
                  <a:pt x="924" y="1105"/>
                </a:lnTo>
                <a:lnTo>
                  <a:pt x="936" y="1127"/>
                </a:lnTo>
                <a:lnTo>
                  <a:pt x="949" y="1150"/>
                </a:lnTo>
                <a:lnTo>
                  <a:pt x="960" y="1173"/>
                </a:lnTo>
                <a:lnTo>
                  <a:pt x="970" y="1197"/>
                </a:lnTo>
                <a:lnTo>
                  <a:pt x="981" y="1222"/>
                </a:lnTo>
                <a:lnTo>
                  <a:pt x="991" y="1249"/>
                </a:lnTo>
                <a:lnTo>
                  <a:pt x="1001" y="1275"/>
                </a:lnTo>
                <a:lnTo>
                  <a:pt x="1009" y="1304"/>
                </a:lnTo>
                <a:lnTo>
                  <a:pt x="1018" y="1333"/>
                </a:lnTo>
                <a:lnTo>
                  <a:pt x="1021" y="1347"/>
                </a:lnTo>
                <a:lnTo>
                  <a:pt x="1025" y="1361"/>
                </a:lnTo>
                <a:lnTo>
                  <a:pt x="1028" y="1376"/>
                </a:lnTo>
                <a:lnTo>
                  <a:pt x="1031" y="1390"/>
                </a:lnTo>
                <a:lnTo>
                  <a:pt x="1035" y="1419"/>
                </a:lnTo>
                <a:lnTo>
                  <a:pt x="1038" y="1446"/>
                </a:lnTo>
                <a:lnTo>
                  <a:pt x="1040" y="1474"/>
                </a:lnTo>
                <a:lnTo>
                  <a:pt x="1040" y="1501"/>
                </a:lnTo>
                <a:lnTo>
                  <a:pt x="1038" y="1527"/>
                </a:lnTo>
                <a:lnTo>
                  <a:pt x="1035" y="1553"/>
                </a:lnTo>
                <a:lnTo>
                  <a:pt x="1032" y="1579"/>
                </a:lnTo>
                <a:lnTo>
                  <a:pt x="1027" y="1603"/>
                </a:lnTo>
                <a:lnTo>
                  <a:pt x="1021" y="1629"/>
                </a:lnTo>
                <a:lnTo>
                  <a:pt x="1014" y="1652"/>
                </a:lnTo>
                <a:lnTo>
                  <a:pt x="1005" y="1677"/>
                </a:lnTo>
                <a:lnTo>
                  <a:pt x="996" y="1700"/>
                </a:lnTo>
                <a:lnTo>
                  <a:pt x="986" y="1723"/>
                </a:lnTo>
                <a:lnTo>
                  <a:pt x="975" y="1746"/>
                </a:lnTo>
                <a:lnTo>
                  <a:pt x="962" y="1766"/>
                </a:lnTo>
                <a:lnTo>
                  <a:pt x="950" y="1786"/>
                </a:lnTo>
                <a:lnTo>
                  <a:pt x="937" y="1805"/>
                </a:lnTo>
                <a:lnTo>
                  <a:pt x="926" y="1822"/>
                </a:lnTo>
                <a:lnTo>
                  <a:pt x="914" y="1838"/>
                </a:lnTo>
                <a:lnTo>
                  <a:pt x="901" y="1852"/>
                </a:lnTo>
                <a:lnTo>
                  <a:pt x="890" y="1865"/>
                </a:lnTo>
                <a:lnTo>
                  <a:pt x="877" y="1878"/>
                </a:lnTo>
                <a:lnTo>
                  <a:pt x="865" y="1888"/>
                </a:lnTo>
                <a:lnTo>
                  <a:pt x="852" y="1897"/>
                </a:lnTo>
                <a:lnTo>
                  <a:pt x="841" y="1904"/>
                </a:lnTo>
                <a:lnTo>
                  <a:pt x="828" y="1910"/>
                </a:lnTo>
                <a:lnTo>
                  <a:pt x="816" y="1916"/>
                </a:lnTo>
                <a:lnTo>
                  <a:pt x="803" y="1919"/>
                </a:lnTo>
                <a:lnTo>
                  <a:pt x="792" y="1922"/>
                </a:lnTo>
                <a:lnTo>
                  <a:pt x="779" y="1922"/>
                </a:lnTo>
                <a:lnTo>
                  <a:pt x="767" y="1922"/>
                </a:lnTo>
                <a:lnTo>
                  <a:pt x="756" y="1920"/>
                </a:lnTo>
                <a:lnTo>
                  <a:pt x="746" y="1917"/>
                </a:lnTo>
                <a:lnTo>
                  <a:pt x="736" y="1914"/>
                </a:lnTo>
                <a:lnTo>
                  <a:pt x="726" y="1910"/>
                </a:lnTo>
                <a:lnTo>
                  <a:pt x="717" y="1904"/>
                </a:lnTo>
                <a:lnTo>
                  <a:pt x="710" y="1898"/>
                </a:lnTo>
                <a:lnTo>
                  <a:pt x="704" y="1891"/>
                </a:lnTo>
                <a:lnTo>
                  <a:pt x="698" y="1884"/>
                </a:lnTo>
                <a:lnTo>
                  <a:pt x="694" y="1875"/>
                </a:lnTo>
                <a:lnTo>
                  <a:pt x="690" y="1865"/>
                </a:lnTo>
                <a:lnTo>
                  <a:pt x="688" y="1855"/>
                </a:lnTo>
                <a:lnTo>
                  <a:pt x="687" y="1844"/>
                </a:lnTo>
                <a:lnTo>
                  <a:pt x="688" y="1831"/>
                </a:lnTo>
                <a:lnTo>
                  <a:pt x="690" y="1818"/>
                </a:lnTo>
                <a:lnTo>
                  <a:pt x="691" y="1811"/>
                </a:lnTo>
                <a:lnTo>
                  <a:pt x="693" y="1803"/>
                </a:lnTo>
                <a:lnTo>
                  <a:pt x="693" y="1796"/>
                </a:lnTo>
                <a:lnTo>
                  <a:pt x="691" y="1789"/>
                </a:lnTo>
                <a:lnTo>
                  <a:pt x="691" y="1782"/>
                </a:lnTo>
                <a:lnTo>
                  <a:pt x="690" y="1775"/>
                </a:lnTo>
                <a:lnTo>
                  <a:pt x="688" y="1767"/>
                </a:lnTo>
                <a:lnTo>
                  <a:pt x="685" y="1760"/>
                </a:lnTo>
                <a:lnTo>
                  <a:pt x="683" y="1753"/>
                </a:lnTo>
                <a:lnTo>
                  <a:pt x="680" y="1746"/>
                </a:lnTo>
                <a:lnTo>
                  <a:pt x="677" y="1739"/>
                </a:lnTo>
                <a:lnTo>
                  <a:pt x="672" y="1731"/>
                </a:lnTo>
                <a:lnTo>
                  <a:pt x="668" y="1724"/>
                </a:lnTo>
                <a:lnTo>
                  <a:pt x="664" y="1717"/>
                </a:lnTo>
                <a:lnTo>
                  <a:pt x="660" y="1710"/>
                </a:lnTo>
                <a:lnTo>
                  <a:pt x="654" y="1703"/>
                </a:lnTo>
                <a:lnTo>
                  <a:pt x="648" y="1695"/>
                </a:lnTo>
                <a:lnTo>
                  <a:pt x="641" y="1688"/>
                </a:lnTo>
                <a:lnTo>
                  <a:pt x="634" y="1683"/>
                </a:lnTo>
                <a:lnTo>
                  <a:pt x="626" y="1675"/>
                </a:lnTo>
                <a:lnTo>
                  <a:pt x="619" y="1668"/>
                </a:lnTo>
                <a:lnTo>
                  <a:pt x="611" y="1662"/>
                </a:lnTo>
                <a:lnTo>
                  <a:pt x="602" y="1655"/>
                </a:lnTo>
                <a:lnTo>
                  <a:pt x="593" y="1649"/>
                </a:lnTo>
                <a:lnTo>
                  <a:pt x="583" y="1642"/>
                </a:lnTo>
                <a:lnTo>
                  <a:pt x="573" y="1636"/>
                </a:lnTo>
                <a:lnTo>
                  <a:pt x="563" y="1629"/>
                </a:lnTo>
                <a:lnTo>
                  <a:pt x="552" y="1624"/>
                </a:lnTo>
                <a:lnTo>
                  <a:pt x="540" y="1618"/>
                </a:lnTo>
                <a:lnTo>
                  <a:pt x="529" y="1612"/>
                </a:lnTo>
                <a:lnTo>
                  <a:pt x="516" y="1605"/>
                </a:lnTo>
                <a:lnTo>
                  <a:pt x="504" y="1599"/>
                </a:lnTo>
                <a:lnTo>
                  <a:pt x="490" y="1593"/>
                </a:lnTo>
                <a:lnTo>
                  <a:pt x="477" y="1589"/>
                </a:lnTo>
                <a:lnTo>
                  <a:pt x="462" y="1583"/>
                </a:lnTo>
                <a:lnTo>
                  <a:pt x="449" y="1577"/>
                </a:lnTo>
                <a:lnTo>
                  <a:pt x="436" y="1572"/>
                </a:lnTo>
                <a:lnTo>
                  <a:pt x="423" y="1566"/>
                </a:lnTo>
                <a:lnTo>
                  <a:pt x="412" y="1560"/>
                </a:lnTo>
                <a:lnTo>
                  <a:pt x="400" y="1554"/>
                </a:lnTo>
                <a:lnTo>
                  <a:pt x="389" y="1550"/>
                </a:lnTo>
                <a:lnTo>
                  <a:pt x="379" y="1544"/>
                </a:lnTo>
                <a:lnTo>
                  <a:pt x="369" y="1539"/>
                </a:lnTo>
                <a:lnTo>
                  <a:pt x="360" y="1534"/>
                </a:lnTo>
                <a:lnTo>
                  <a:pt x="351" y="1528"/>
                </a:lnTo>
                <a:lnTo>
                  <a:pt x="343" y="1524"/>
                </a:lnTo>
                <a:lnTo>
                  <a:pt x="334" y="1518"/>
                </a:lnTo>
                <a:lnTo>
                  <a:pt x="327" y="1514"/>
                </a:lnTo>
                <a:lnTo>
                  <a:pt x="320" y="1508"/>
                </a:lnTo>
                <a:lnTo>
                  <a:pt x="314" y="1504"/>
                </a:lnTo>
                <a:lnTo>
                  <a:pt x="308" y="1500"/>
                </a:lnTo>
                <a:lnTo>
                  <a:pt x="302" y="1495"/>
                </a:lnTo>
                <a:lnTo>
                  <a:pt x="298" y="1491"/>
                </a:lnTo>
                <a:lnTo>
                  <a:pt x="294" y="1487"/>
                </a:lnTo>
                <a:lnTo>
                  <a:pt x="290" y="1484"/>
                </a:lnTo>
                <a:lnTo>
                  <a:pt x="287" y="1480"/>
                </a:lnTo>
                <a:lnTo>
                  <a:pt x="284" y="1475"/>
                </a:lnTo>
                <a:lnTo>
                  <a:pt x="282" y="1472"/>
                </a:lnTo>
                <a:lnTo>
                  <a:pt x="279" y="1469"/>
                </a:lnTo>
                <a:lnTo>
                  <a:pt x="278" y="1465"/>
                </a:lnTo>
                <a:lnTo>
                  <a:pt x="278" y="1462"/>
                </a:lnTo>
                <a:lnTo>
                  <a:pt x="278" y="1459"/>
                </a:lnTo>
                <a:lnTo>
                  <a:pt x="278" y="1458"/>
                </a:lnTo>
                <a:lnTo>
                  <a:pt x="278" y="1455"/>
                </a:lnTo>
                <a:lnTo>
                  <a:pt x="279" y="1452"/>
                </a:lnTo>
                <a:lnTo>
                  <a:pt x="282" y="1451"/>
                </a:lnTo>
                <a:lnTo>
                  <a:pt x="287" y="1446"/>
                </a:lnTo>
                <a:lnTo>
                  <a:pt x="292" y="1444"/>
                </a:lnTo>
                <a:lnTo>
                  <a:pt x="298" y="1439"/>
                </a:lnTo>
                <a:lnTo>
                  <a:pt x="307" y="1436"/>
                </a:lnTo>
                <a:lnTo>
                  <a:pt x="315" y="1433"/>
                </a:lnTo>
                <a:lnTo>
                  <a:pt x="327" y="1431"/>
                </a:lnTo>
                <a:lnTo>
                  <a:pt x="333" y="1429"/>
                </a:lnTo>
                <a:lnTo>
                  <a:pt x="338" y="1428"/>
                </a:lnTo>
                <a:lnTo>
                  <a:pt x="346" y="1426"/>
                </a:lnTo>
                <a:lnTo>
                  <a:pt x="351" y="1426"/>
                </a:lnTo>
                <a:lnTo>
                  <a:pt x="359" y="1425"/>
                </a:lnTo>
                <a:lnTo>
                  <a:pt x="367" y="1425"/>
                </a:lnTo>
                <a:lnTo>
                  <a:pt x="374" y="1423"/>
                </a:lnTo>
                <a:lnTo>
                  <a:pt x="383" y="1423"/>
                </a:lnTo>
                <a:lnTo>
                  <a:pt x="392" y="1423"/>
                </a:lnTo>
                <a:lnTo>
                  <a:pt x="402" y="1423"/>
                </a:lnTo>
                <a:lnTo>
                  <a:pt x="412" y="1423"/>
                </a:lnTo>
                <a:lnTo>
                  <a:pt x="422" y="1423"/>
                </a:lnTo>
                <a:lnTo>
                  <a:pt x="432" y="1423"/>
                </a:lnTo>
                <a:lnTo>
                  <a:pt x="444" y="1423"/>
                </a:lnTo>
                <a:lnTo>
                  <a:pt x="455" y="1425"/>
                </a:lnTo>
                <a:lnTo>
                  <a:pt x="467" y="1426"/>
                </a:lnTo>
                <a:lnTo>
                  <a:pt x="480" y="1426"/>
                </a:lnTo>
                <a:lnTo>
                  <a:pt x="493" y="1428"/>
                </a:lnTo>
                <a:lnTo>
                  <a:pt x="505" y="1429"/>
                </a:lnTo>
                <a:lnTo>
                  <a:pt x="520" y="1432"/>
                </a:lnTo>
                <a:lnTo>
                  <a:pt x="544" y="1435"/>
                </a:lnTo>
                <a:lnTo>
                  <a:pt x="566" y="1438"/>
                </a:lnTo>
                <a:lnTo>
                  <a:pt x="588" y="1441"/>
                </a:lnTo>
                <a:lnTo>
                  <a:pt x="609" y="1442"/>
                </a:lnTo>
                <a:lnTo>
                  <a:pt x="628" y="1444"/>
                </a:lnTo>
                <a:lnTo>
                  <a:pt x="647" y="1445"/>
                </a:lnTo>
                <a:lnTo>
                  <a:pt x="664" y="1445"/>
                </a:lnTo>
                <a:lnTo>
                  <a:pt x="680" y="1446"/>
                </a:lnTo>
                <a:lnTo>
                  <a:pt x="694" y="1445"/>
                </a:lnTo>
                <a:lnTo>
                  <a:pt x="707" y="1445"/>
                </a:lnTo>
                <a:lnTo>
                  <a:pt x="719" y="1444"/>
                </a:lnTo>
                <a:lnTo>
                  <a:pt x="730" y="1442"/>
                </a:lnTo>
                <a:lnTo>
                  <a:pt x="739" y="1441"/>
                </a:lnTo>
                <a:lnTo>
                  <a:pt x="743" y="1439"/>
                </a:lnTo>
                <a:lnTo>
                  <a:pt x="746" y="1438"/>
                </a:lnTo>
                <a:lnTo>
                  <a:pt x="750" y="1436"/>
                </a:lnTo>
                <a:lnTo>
                  <a:pt x="753" y="1435"/>
                </a:lnTo>
                <a:lnTo>
                  <a:pt x="755" y="1433"/>
                </a:lnTo>
                <a:lnTo>
                  <a:pt x="757" y="1432"/>
                </a:lnTo>
                <a:lnTo>
                  <a:pt x="762" y="1428"/>
                </a:lnTo>
                <a:lnTo>
                  <a:pt x="765" y="1423"/>
                </a:lnTo>
                <a:lnTo>
                  <a:pt x="767" y="1418"/>
                </a:lnTo>
                <a:lnTo>
                  <a:pt x="769" y="1412"/>
                </a:lnTo>
                <a:lnTo>
                  <a:pt x="772" y="1406"/>
                </a:lnTo>
                <a:lnTo>
                  <a:pt x="773" y="1399"/>
                </a:lnTo>
                <a:lnTo>
                  <a:pt x="773" y="1390"/>
                </a:lnTo>
                <a:lnTo>
                  <a:pt x="773" y="1382"/>
                </a:lnTo>
                <a:lnTo>
                  <a:pt x="773" y="1373"/>
                </a:lnTo>
                <a:lnTo>
                  <a:pt x="773" y="1361"/>
                </a:lnTo>
                <a:lnTo>
                  <a:pt x="772" y="1350"/>
                </a:lnTo>
                <a:lnTo>
                  <a:pt x="769" y="1337"/>
                </a:lnTo>
                <a:lnTo>
                  <a:pt x="767" y="1324"/>
                </a:lnTo>
                <a:lnTo>
                  <a:pt x="765" y="1308"/>
                </a:lnTo>
                <a:lnTo>
                  <a:pt x="762" y="1292"/>
                </a:lnTo>
                <a:lnTo>
                  <a:pt x="757" y="1275"/>
                </a:lnTo>
                <a:lnTo>
                  <a:pt x="753" y="1256"/>
                </a:lnTo>
                <a:lnTo>
                  <a:pt x="749" y="1238"/>
                </a:lnTo>
                <a:lnTo>
                  <a:pt x="743" y="1220"/>
                </a:lnTo>
                <a:lnTo>
                  <a:pt x="737" y="1203"/>
                </a:lnTo>
                <a:lnTo>
                  <a:pt x="731" y="1187"/>
                </a:lnTo>
                <a:lnTo>
                  <a:pt x="724" y="1170"/>
                </a:lnTo>
                <a:lnTo>
                  <a:pt x="717" y="1154"/>
                </a:lnTo>
                <a:lnTo>
                  <a:pt x="708" y="1137"/>
                </a:lnTo>
                <a:lnTo>
                  <a:pt x="700" y="1121"/>
                </a:lnTo>
                <a:lnTo>
                  <a:pt x="691" y="1104"/>
                </a:lnTo>
                <a:lnTo>
                  <a:pt x="683" y="1087"/>
                </a:lnTo>
                <a:lnTo>
                  <a:pt x="672" y="1071"/>
                </a:lnTo>
                <a:lnTo>
                  <a:pt x="662" y="1053"/>
                </a:lnTo>
                <a:lnTo>
                  <a:pt x="651" y="1036"/>
                </a:lnTo>
                <a:lnTo>
                  <a:pt x="639" y="1017"/>
                </a:lnTo>
                <a:lnTo>
                  <a:pt x="628" y="1000"/>
                </a:lnTo>
                <a:lnTo>
                  <a:pt x="616" y="984"/>
                </a:lnTo>
                <a:lnTo>
                  <a:pt x="605" y="971"/>
                </a:lnTo>
                <a:lnTo>
                  <a:pt x="593" y="957"/>
                </a:lnTo>
                <a:lnTo>
                  <a:pt x="583" y="944"/>
                </a:lnTo>
                <a:lnTo>
                  <a:pt x="573" y="932"/>
                </a:lnTo>
                <a:lnTo>
                  <a:pt x="564" y="921"/>
                </a:lnTo>
                <a:lnTo>
                  <a:pt x="556" y="909"/>
                </a:lnTo>
                <a:lnTo>
                  <a:pt x="547" y="899"/>
                </a:lnTo>
                <a:lnTo>
                  <a:pt x="539" y="889"/>
                </a:lnTo>
                <a:lnTo>
                  <a:pt x="531" y="881"/>
                </a:lnTo>
                <a:lnTo>
                  <a:pt x="524" y="872"/>
                </a:lnTo>
                <a:lnTo>
                  <a:pt x="518" y="865"/>
                </a:lnTo>
                <a:lnTo>
                  <a:pt x="513" y="858"/>
                </a:lnTo>
                <a:lnTo>
                  <a:pt x="507" y="852"/>
                </a:lnTo>
                <a:lnTo>
                  <a:pt x="503" y="846"/>
                </a:lnTo>
                <a:lnTo>
                  <a:pt x="498" y="843"/>
                </a:lnTo>
                <a:lnTo>
                  <a:pt x="495" y="840"/>
                </a:lnTo>
                <a:lnTo>
                  <a:pt x="494" y="837"/>
                </a:lnTo>
                <a:lnTo>
                  <a:pt x="493" y="835"/>
                </a:lnTo>
                <a:lnTo>
                  <a:pt x="493" y="832"/>
                </a:lnTo>
                <a:lnTo>
                  <a:pt x="491" y="827"/>
                </a:lnTo>
                <a:lnTo>
                  <a:pt x="491" y="823"/>
                </a:lnTo>
                <a:lnTo>
                  <a:pt x="491" y="819"/>
                </a:lnTo>
                <a:lnTo>
                  <a:pt x="491" y="813"/>
                </a:lnTo>
                <a:lnTo>
                  <a:pt x="491" y="807"/>
                </a:lnTo>
                <a:lnTo>
                  <a:pt x="493" y="801"/>
                </a:lnTo>
                <a:lnTo>
                  <a:pt x="493" y="794"/>
                </a:lnTo>
                <a:lnTo>
                  <a:pt x="495" y="787"/>
                </a:lnTo>
                <a:lnTo>
                  <a:pt x="497" y="780"/>
                </a:lnTo>
                <a:lnTo>
                  <a:pt x="498" y="773"/>
                </a:lnTo>
                <a:lnTo>
                  <a:pt x="501" y="764"/>
                </a:lnTo>
                <a:lnTo>
                  <a:pt x="504" y="755"/>
                </a:lnTo>
                <a:lnTo>
                  <a:pt x="507" y="745"/>
                </a:lnTo>
                <a:lnTo>
                  <a:pt x="511" y="735"/>
                </a:lnTo>
                <a:lnTo>
                  <a:pt x="516" y="725"/>
                </a:lnTo>
                <a:lnTo>
                  <a:pt x="520" y="715"/>
                </a:lnTo>
                <a:lnTo>
                  <a:pt x="524" y="704"/>
                </a:lnTo>
                <a:lnTo>
                  <a:pt x="530" y="692"/>
                </a:lnTo>
                <a:lnTo>
                  <a:pt x="536" y="679"/>
                </a:lnTo>
                <a:lnTo>
                  <a:pt x="541" y="666"/>
                </a:lnTo>
                <a:lnTo>
                  <a:pt x="547" y="653"/>
                </a:lnTo>
                <a:lnTo>
                  <a:pt x="554" y="640"/>
                </a:lnTo>
                <a:lnTo>
                  <a:pt x="562" y="626"/>
                </a:lnTo>
                <a:lnTo>
                  <a:pt x="570" y="611"/>
                </a:lnTo>
                <a:lnTo>
                  <a:pt x="579" y="597"/>
                </a:lnTo>
                <a:lnTo>
                  <a:pt x="588" y="581"/>
                </a:lnTo>
                <a:lnTo>
                  <a:pt x="596" y="565"/>
                </a:lnTo>
                <a:lnTo>
                  <a:pt x="606" y="550"/>
                </a:lnTo>
                <a:lnTo>
                  <a:pt x="616" y="534"/>
                </a:lnTo>
                <a:lnTo>
                  <a:pt x="625" y="519"/>
                </a:lnTo>
                <a:lnTo>
                  <a:pt x="635" y="506"/>
                </a:lnTo>
                <a:lnTo>
                  <a:pt x="644" y="492"/>
                </a:lnTo>
                <a:lnTo>
                  <a:pt x="652" y="479"/>
                </a:lnTo>
                <a:lnTo>
                  <a:pt x="660" y="466"/>
                </a:lnTo>
                <a:lnTo>
                  <a:pt x="667" y="455"/>
                </a:lnTo>
                <a:lnTo>
                  <a:pt x="674" y="442"/>
                </a:lnTo>
                <a:lnTo>
                  <a:pt x="681" y="430"/>
                </a:lnTo>
                <a:lnTo>
                  <a:pt x="688" y="419"/>
                </a:lnTo>
                <a:lnTo>
                  <a:pt x="694" y="408"/>
                </a:lnTo>
                <a:lnTo>
                  <a:pt x="700" y="397"/>
                </a:lnTo>
                <a:lnTo>
                  <a:pt x="706" y="387"/>
                </a:lnTo>
                <a:lnTo>
                  <a:pt x="710" y="378"/>
                </a:lnTo>
                <a:lnTo>
                  <a:pt x="714" y="368"/>
                </a:lnTo>
                <a:lnTo>
                  <a:pt x="719" y="359"/>
                </a:lnTo>
                <a:lnTo>
                  <a:pt x="723" y="351"/>
                </a:lnTo>
                <a:lnTo>
                  <a:pt x="727" y="342"/>
                </a:lnTo>
                <a:lnTo>
                  <a:pt x="730" y="335"/>
                </a:lnTo>
                <a:lnTo>
                  <a:pt x="733" y="328"/>
                </a:lnTo>
                <a:lnTo>
                  <a:pt x="734" y="321"/>
                </a:lnTo>
                <a:lnTo>
                  <a:pt x="737" y="315"/>
                </a:lnTo>
                <a:lnTo>
                  <a:pt x="739" y="309"/>
                </a:lnTo>
                <a:lnTo>
                  <a:pt x="740" y="303"/>
                </a:lnTo>
                <a:lnTo>
                  <a:pt x="740" y="298"/>
                </a:lnTo>
                <a:lnTo>
                  <a:pt x="742" y="293"/>
                </a:lnTo>
                <a:lnTo>
                  <a:pt x="742" y="289"/>
                </a:lnTo>
                <a:lnTo>
                  <a:pt x="740" y="285"/>
                </a:lnTo>
                <a:lnTo>
                  <a:pt x="740" y="282"/>
                </a:lnTo>
                <a:lnTo>
                  <a:pt x="739" y="279"/>
                </a:lnTo>
                <a:lnTo>
                  <a:pt x="737" y="276"/>
                </a:lnTo>
                <a:lnTo>
                  <a:pt x="736" y="275"/>
                </a:lnTo>
                <a:lnTo>
                  <a:pt x="733" y="272"/>
                </a:lnTo>
                <a:lnTo>
                  <a:pt x="731" y="270"/>
                </a:lnTo>
                <a:lnTo>
                  <a:pt x="729" y="269"/>
                </a:lnTo>
                <a:lnTo>
                  <a:pt x="724" y="267"/>
                </a:lnTo>
                <a:lnTo>
                  <a:pt x="721" y="266"/>
                </a:lnTo>
                <a:lnTo>
                  <a:pt x="717" y="264"/>
                </a:lnTo>
                <a:lnTo>
                  <a:pt x="708" y="263"/>
                </a:lnTo>
                <a:lnTo>
                  <a:pt x="697" y="262"/>
                </a:lnTo>
                <a:lnTo>
                  <a:pt x="685" y="260"/>
                </a:lnTo>
                <a:lnTo>
                  <a:pt x="672" y="260"/>
                </a:lnTo>
                <a:lnTo>
                  <a:pt x="658" y="259"/>
                </a:lnTo>
                <a:lnTo>
                  <a:pt x="642" y="260"/>
                </a:lnTo>
                <a:lnTo>
                  <a:pt x="625" y="260"/>
                </a:lnTo>
                <a:lnTo>
                  <a:pt x="606" y="262"/>
                </a:lnTo>
                <a:lnTo>
                  <a:pt x="586" y="263"/>
                </a:lnTo>
                <a:lnTo>
                  <a:pt x="566" y="264"/>
                </a:lnTo>
                <a:lnTo>
                  <a:pt x="544" y="267"/>
                </a:lnTo>
                <a:lnTo>
                  <a:pt x="521" y="270"/>
                </a:lnTo>
                <a:lnTo>
                  <a:pt x="498" y="275"/>
                </a:lnTo>
                <a:lnTo>
                  <a:pt x="441" y="282"/>
                </a:lnTo>
                <a:lnTo>
                  <a:pt x="383" y="289"/>
                </a:lnTo>
                <a:lnTo>
                  <a:pt x="354" y="292"/>
                </a:lnTo>
                <a:lnTo>
                  <a:pt x="326" y="295"/>
                </a:lnTo>
                <a:lnTo>
                  <a:pt x="295" y="296"/>
                </a:lnTo>
                <a:lnTo>
                  <a:pt x="265" y="299"/>
                </a:lnTo>
                <a:lnTo>
                  <a:pt x="235" y="300"/>
                </a:lnTo>
                <a:lnTo>
                  <a:pt x="203" y="302"/>
                </a:lnTo>
                <a:lnTo>
                  <a:pt x="171" y="302"/>
                </a:lnTo>
                <a:lnTo>
                  <a:pt x="138" y="302"/>
                </a:lnTo>
                <a:lnTo>
                  <a:pt x="105" y="300"/>
                </a:lnTo>
                <a:lnTo>
                  <a:pt x="71" y="299"/>
                </a:lnTo>
                <a:lnTo>
                  <a:pt x="36" y="298"/>
                </a:lnTo>
                <a:lnTo>
                  <a:pt x="0" y="295"/>
                </a:lnTo>
                <a:lnTo>
                  <a:pt x="0" y="236"/>
                </a:lnTo>
                <a:lnTo>
                  <a:pt x="0" y="177"/>
                </a:lnTo>
                <a:lnTo>
                  <a:pt x="36" y="175"/>
                </a:lnTo>
                <a:lnTo>
                  <a:pt x="71" y="175"/>
                </a:lnTo>
                <a:lnTo>
                  <a:pt x="105" y="174"/>
                </a:lnTo>
                <a:lnTo>
                  <a:pt x="138" y="172"/>
                </a:lnTo>
                <a:lnTo>
                  <a:pt x="171" y="171"/>
                </a:lnTo>
                <a:lnTo>
                  <a:pt x="203" y="169"/>
                </a:lnTo>
                <a:lnTo>
                  <a:pt x="235" y="167"/>
                </a:lnTo>
                <a:lnTo>
                  <a:pt x="265" y="164"/>
                </a:lnTo>
                <a:lnTo>
                  <a:pt x="295" y="161"/>
                </a:lnTo>
                <a:lnTo>
                  <a:pt x="326" y="158"/>
                </a:lnTo>
                <a:lnTo>
                  <a:pt x="354" y="155"/>
                </a:lnTo>
                <a:lnTo>
                  <a:pt x="383" y="151"/>
                </a:lnTo>
                <a:lnTo>
                  <a:pt x="441" y="145"/>
                </a:lnTo>
                <a:lnTo>
                  <a:pt x="498" y="138"/>
                </a:lnTo>
                <a:lnTo>
                  <a:pt x="511" y="135"/>
                </a:lnTo>
                <a:lnTo>
                  <a:pt x="526" y="133"/>
                </a:lnTo>
                <a:lnTo>
                  <a:pt x="539" y="131"/>
                </a:lnTo>
                <a:lnTo>
                  <a:pt x="552" y="129"/>
                </a:lnTo>
                <a:lnTo>
                  <a:pt x="564" y="126"/>
                </a:lnTo>
                <a:lnTo>
                  <a:pt x="576" y="123"/>
                </a:lnTo>
                <a:lnTo>
                  <a:pt x="599" y="119"/>
                </a:lnTo>
                <a:lnTo>
                  <a:pt x="622" y="113"/>
                </a:lnTo>
                <a:lnTo>
                  <a:pt x="642" y="108"/>
                </a:lnTo>
                <a:lnTo>
                  <a:pt x="661" y="102"/>
                </a:lnTo>
                <a:lnTo>
                  <a:pt x="680" y="95"/>
                </a:lnTo>
                <a:lnTo>
                  <a:pt x="696" y="89"/>
                </a:lnTo>
                <a:lnTo>
                  <a:pt x="711" y="82"/>
                </a:lnTo>
                <a:lnTo>
                  <a:pt x="726" y="74"/>
                </a:lnTo>
                <a:lnTo>
                  <a:pt x="739" y="67"/>
                </a:lnTo>
                <a:lnTo>
                  <a:pt x="750" y="60"/>
                </a:lnTo>
                <a:lnTo>
                  <a:pt x="760" y="53"/>
                </a:lnTo>
                <a:lnTo>
                  <a:pt x="770" y="46"/>
                </a:lnTo>
                <a:lnTo>
                  <a:pt x="779" y="38"/>
                </a:lnTo>
                <a:lnTo>
                  <a:pt x="783" y="34"/>
                </a:lnTo>
                <a:lnTo>
                  <a:pt x="788" y="31"/>
                </a:lnTo>
                <a:lnTo>
                  <a:pt x="793" y="28"/>
                </a:lnTo>
                <a:lnTo>
                  <a:pt x="799" y="24"/>
                </a:lnTo>
                <a:lnTo>
                  <a:pt x="806" y="21"/>
                </a:lnTo>
                <a:lnTo>
                  <a:pt x="812" y="18"/>
                </a:lnTo>
                <a:lnTo>
                  <a:pt x="821" y="14"/>
                </a:lnTo>
                <a:lnTo>
                  <a:pt x="828" y="11"/>
                </a:lnTo>
                <a:lnTo>
                  <a:pt x="837" y="10"/>
                </a:lnTo>
                <a:lnTo>
                  <a:pt x="845" y="7"/>
                </a:lnTo>
                <a:lnTo>
                  <a:pt x="855" y="5"/>
                </a:lnTo>
                <a:lnTo>
                  <a:pt x="865" y="2"/>
                </a:lnTo>
                <a:lnTo>
                  <a:pt x="875" y="1"/>
                </a:lnTo>
                <a:lnTo>
                  <a:pt x="886" y="1"/>
                </a:lnTo>
                <a:lnTo>
                  <a:pt x="897" y="0"/>
                </a:lnTo>
                <a:lnTo>
                  <a:pt x="910" y="0"/>
                </a:lnTo>
                <a:lnTo>
                  <a:pt x="917" y="4"/>
                </a:lnTo>
                <a:lnTo>
                  <a:pt x="926" y="8"/>
                </a:lnTo>
                <a:lnTo>
                  <a:pt x="936" y="13"/>
                </a:lnTo>
                <a:lnTo>
                  <a:pt x="946" y="18"/>
                </a:lnTo>
                <a:lnTo>
                  <a:pt x="956" y="24"/>
                </a:lnTo>
                <a:lnTo>
                  <a:pt x="968" y="30"/>
                </a:lnTo>
                <a:lnTo>
                  <a:pt x="979" y="37"/>
                </a:lnTo>
                <a:lnTo>
                  <a:pt x="991" y="44"/>
                </a:lnTo>
                <a:lnTo>
                  <a:pt x="1004" y="51"/>
                </a:lnTo>
                <a:lnTo>
                  <a:pt x="1017" y="59"/>
                </a:lnTo>
                <a:lnTo>
                  <a:pt x="1029" y="67"/>
                </a:lnTo>
                <a:lnTo>
                  <a:pt x="1044" y="76"/>
                </a:lnTo>
                <a:lnTo>
                  <a:pt x="1058" y="86"/>
                </a:lnTo>
                <a:lnTo>
                  <a:pt x="1073" y="96"/>
                </a:lnTo>
                <a:lnTo>
                  <a:pt x="1089" y="106"/>
                </a:lnTo>
                <a:lnTo>
                  <a:pt x="1104" y="118"/>
                </a:lnTo>
                <a:lnTo>
                  <a:pt x="1119" y="128"/>
                </a:lnTo>
                <a:lnTo>
                  <a:pt x="1135" y="139"/>
                </a:lnTo>
                <a:lnTo>
                  <a:pt x="1148" y="151"/>
                </a:lnTo>
                <a:lnTo>
                  <a:pt x="1161" y="161"/>
                </a:lnTo>
                <a:lnTo>
                  <a:pt x="1172" y="172"/>
                </a:lnTo>
                <a:lnTo>
                  <a:pt x="1182" y="182"/>
                </a:lnTo>
                <a:lnTo>
                  <a:pt x="1191" y="192"/>
                </a:lnTo>
                <a:lnTo>
                  <a:pt x="1198" y="203"/>
                </a:lnTo>
                <a:lnTo>
                  <a:pt x="1205" y="213"/>
                </a:lnTo>
                <a:lnTo>
                  <a:pt x="1209" y="223"/>
                </a:lnTo>
                <a:lnTo>
                  <a:pt x="1214" y="233"/>
                </a:lnTo>
                <a:lnTo>
                  <a:pt x="1217" y="241"/>
                </a:lnTo>
                <a:lnTo>
                  <a:pt x="1218" y="250"/>
                </a:lnTo>
                <a:lnTo>
                  <a:pt x="1218" y="254"/>
                </a:lnTo>
                <a:lnTo>
                  <a:pt x="1217" y="259"/>
                </a:lnTo>
                <a:lnTo>
                  <a:pt x="1217" y="263"/>
                </a:lnTo>
                <a:lnTo>
                  <a:pt x="1215" y="266"/>
                </a:lnTo>
                <a:lnTo>
                  <a:pt x="1214" y="270"/>
                </a:lnTo>
                <a:lnTo>
                  <a:pt x="1212" y="2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74"/>
          <p:cNvSpPr/>
          <p:nvPr/>
        </p:nvSpPr>
        <p:spPr>
          <a:xfrm>
            <a:off x="6116760" y="3616200"/>
            <a:ext cx="769680" cy="1559160"/>
          </a:xfrm>
          <a:custGeom>
            <a:avLst/>
            <a:gdLst/>
            <a:ahLst/>
            <a:rect l="l" t="t" r="r" b="b"/>
            <a:pathLst>
              <a:path w="1454" h="2947">
                <a:moveTo>
                  <a:pt x="285" y="2823"/>
                </a:moveTo>
                <a:lnTo>
                  <a:pt x="269" y="2831"/>
                </a:lnTo>
                <a:lnTo>
                  <a:pt x="254" y="2842"/>
                </a:lnTo>
                <a:lnTo>
                  <a:pt x="239" y="2849"/>
                </a:lnTo>
                <a:lnTo>
                  <a:pt x="225" y="2857"/>
                </a:lnTo>
                <a:lnTo>
                  <a:pt x="210" y="2865"/>
                </a:lnTo>
                <a:lnTo>
                  <a:pt x="197" y="2873"/>
                </a:lnTo>
                <a:lnTo>
                  <a:pt x="184" y="2879"/>
                </a:lnTo>
                <a:lnTo>
                  <a:pt x="171" y="2886"/>
                </a:lnTo>
                <a:lnTo>
                  <a:pt x="160" y="2893"/>
                </a:lnTo>
                <a:lnTo>
                  <a:pt x="148" y="2899"/>
                </a:lnTo>
                <a:lnTo>
                  <a:pt x="137" y="2905"/>
                </a:lnTo>
                <a:lnTo>
                  <a:pt x="127" y="2909"/>
                </a:lnTo>
                <a:lnTo>
                  <a:pt x="117" y="2915"/>
                </a:lnTo>
                <a:lnTo>
                  <a:pt x="107" y="2919"/>
                </a:lnTo>
                <a:lnTo>
                  <a:pt x="97" y="2924"/>
                </a:lnTo>
                <a:lnTo>
                  <a:pt x="88" y="2926"/>
                </a:lnTo>
                <a:lnTo>
                  <a:pt x="79" y="2931"/>
                </a:lnTo>
                <a:lnTo>
                  <a:pt x="72" y="2934"/>
                </a:lnTo>
                <a:lnTo>
                  <a:pt x="64" y="2937"/>
                </a:lnTo>
                <a:lnTo>
                  <a:pt x="56" y="2939"/>
                </a:lnTo>
                <a:lnTo>
                  <a:pt x="51" y="2941"/>
                </a:lnTo>
                <a:lnTo>
                  <a:pt x="43" y="2942"/>
                </a:lnTo>
                <a:lnTo>
                  <a:pt x="38" y="2944"/>
                </a:lnTo>
                <a:lnTo>
                  <a:pt x="33" y="2945"/>
                </a:lnTo>
                <a:lnTo>
                  <a:pt x="28" y="2945"/>
                </a:lnTo>
                <a:lnTo>
                  <a:pt x="23" y="2947"/>
                </a:lnTo>
                <a:lnTo>
                  <a:pt x="19" y="2947"/>
                </a:lnTo>
                <a:lnTo>
                  <a:pt x="15" y="2945"/>
                </a:lnTo>
                <a:lnTo>
                  <a:pt x="12" y="2945"/>
                </a:lnTo>
                <a:lnTo>
                  <a:pt x="9" y="2944"/>
                </a:lnTo>
                <a:lnTo>
                  <a:pt x="6" y="2942"/>
                </a:lnTo>
                <a:lnTo>
                  <a:pt x="4" y="2941"/>
                </a:lnTo>
                <a:lnTo>
                  <a:pt x="2" y="2939"/>
                </a:lnTo>
                <a:lnTo>
                  <a:pt x="2" y="2937"/>
                </a:lnTo>
                <a:lnTo>
                  <a:pt x="0" y="2934"/>
                </a:lnTo>
                <a:lnTo>
                  <a:pt x="0" y="2931"/>
                </a:lnTo>
                <a:lnTo>
                  <a:pt x="2" y="2928"/>
                </a:lnTo>
                <a:lnTo>
                  <a:pt x="3" y="2924"/>
                </a:lnTo>
                <a:lnTo>
                  <a:pt x="4" y="2919"/>
                </a:lnTo>
                <a:lnTo>
                  <a:pt x="7" y="2915"/>
                </a:lnTo>
                <a:lnTo>
                  <a:pt x="12" y="2911"/>
                </a:lnTo>
                <a:lnTo>
                  <a:pt x="15" y="2905"/>
                </a:lnTo>
                <a:lnTo>
                  <a:pt x="19" y="2901"/>
                </a:lnTo>
                <a:lnTo>
                  <a:pt x="25" y="2895"/>
                </a:lnTo>
                <a:lnTo>
                  <a:pt x="30" y="2888"/>
                </a:lnTo>
                <a:lnTo>
                  <a:pt x="36" y="2882"/>
                </a:lnTo>
                <a:lnTo>
                  <a:pt x="43" y="2875"/>
                </a:lnTo>
                <a:lnTo>
                  <a:pt x="51" y="2867"/>
                </a:lnTo>
                <a:lnTo>
                  <a:pt x="58" y="2860"/>
                </a:lnTo>
                <a:lnTo>
                  <a:pt x="66" y="2853"/>
                </a:lnTo>
                <a:lnTo>
                  <a:pt x="76" y="2844"/>
                </a:lnTo>
                <a:lnTo>
                  <a:pt x="85" y="2836"/>
                </a:lnTo>
                <a:lnTo>
                  <a:pt x="95" y="2827"/>
                </a:lnTo>
                <a:lnTo>
                  <a:pt x="107" y="2817"/>
                </a:lnTo>
                <a:lnTo>
                  <a:pt x="117" y="2808"/>
                </a:lnTo>
                <a:lnTo>
                  <a:pt x="130" y="2798"/>
                </a:lnTo>
                <a:lnTo>
                  <a:pt x="141" y="2788"/>
                </a:lnTo>
                <a:lnTo>
                  <a:pt x="154" y="2777"/>
                </a:lnTo>
                <a:lnTo>
                  <a:pt x="167" y="2767"/>
                </a:lnTo>
                <a:lnTo>
                  <a:pt x="182" y="2755"/>
                </a:lnTo>
                <a:lnTo>
                  <a:pt x="196" y="2744"/>
                </a:lnTo>
                <a:lnTo>
                  <a:pt x="210" y="2731"/>
                </a:lnTo>
                <a:lnTo>
                  <a:pt x="226" y="2718"/>
                </a:lnTo>
                <a:lnTo>
                  <a:pt x="242" y="2706"/>
                </a:lnTo>
                <a:lnTo>
                  <a:pt x="274" y="2679"/>
                </a:lnTo>
                <a:lnTo>
                  <a:pt x="307" y="2651"/>
                </a:lnTo>
                <a:lnTo>
                  <a:pt x="338" y="2621"/>
                </a:lnTo>
                <a:lnTo>
                  <a:pt x="372" y="2591"/>
                </a:lnTo>
                <a:lnTo>
                  <a:pt x="403" y="2561"/>
                </a:lnTo>
                <a:lnTo>
                  <a:pt x="436" y="2528"/>
                </a:lnTo>
                <a:lnTo>
                  <a:pt x="468" y="2495"/>
                </a:lnTo>
                <a:lnTo>
                  <a:pt x="500" y="2460"/>
                </a:lnTo>
                <a:lnTo>
                  <a:pt x="531" y="2425"/>
                </a:lnTo>
                <a:lnTo>
                  <a:pt x="562" y="2389"/>
                </a:lnTo>
                <a:lnTo>
                  <a:pt x="593" y="2352"/>
                </a:lnTo>
                <a:lnTo>
                  <a:pt x="624" y="2315"/>
                </a:lnTo>
                <a:lnTo>
                  <a:pt x="654" y="2276"/>
                </a:lnTo>
                <a:lnTo>
                  <a:pt x="683" y="2237"/>
                </a:lnTo>
                <a:lnTo>
                  <a:pt x="711" y="2197"/>
                </a:lnTo>
                <a:lnTo>
                  <a:pt x="740" y="2156"/>
                </a:lnTo>
                <a:lnTo>
                  <a:pt x="767" y="2116"/>
                </a:lnTo>
                <a:lnTo>
                  <a:pt x="795" y="2076"/>
                </a:lnTo>
                <a:lnTo>
                  <a:pt x="822" y="2034"/>
                </a:lnTo>
                <a:lnTo>
                  <a:pt x="848" y="1994"/>
                </a:lnTo>
                <a:lnTo>
                  <a:pt x="874" y="1953"/>
                </a:lnTo>
                <a:lnTo>
                  <a:pt x="899" y="1911"/>
                </a:lnTo>
                <a:lnTo>
                  <a:pt x="922" y="1871"/>
                </a:lnTo>
                <a:lnTo>
                  <a:pt x="945" y="1829"/>
                </a:lnTo>
                <a:lnTo>
                  <a:pt x="968" y="1789"/>
                </a:lnTo>
                <a:lnTo>
                  <a:pt x="988" y="1747"/>
                </a:lnTo>
                <a:lnTo>
                  <a:pt x="1008" y="1706"/>
                </a:lnTo>
                <a:lnTo>
                  <a:pt x="1027" y="1662"/>
                </a:lnTo>
                <a:lnTo>
                  <a:pt x="1044" y="1621"/>
                </a:lnTo>
                <a:lnTo>
                  <a:pt x="1051" y="1599"/>
                </a:lnTo>
                <a:lnTo>
                  <a:pt x="1060" y="1577"/>
                </a:lnTo>
                <a:lnTo>
                  <a:pt x="1067" y="1556"/>
                </a:lnTo>
                <a:lnTo>
                  <a:pt x="1074" y="1534"/>
                </a:lnTo>
                <a:lnTo>
                  <a:pt x="1080" y="1511"/>
                </a:lnTo>
                <a:lnTo>
                  <a:pt x="1087" y="1490"/>
                </a:lnTo>
                <a:lnTo>
                  <a:pt x="1097" y="1449"/>
                </a:lnTo>
                <a:lnTo>
                  <a:pt x="1109" y="1408"/>
                </a:lnTo>
                <a:lnTo>
                  <a:pt x="1119" y="1366"/>
                </a:lnTo>
                <a:lnTo>
                  <a:pt x="1127" y="1324"/>
                </a:lnTo>
                <a:lnTo>
                  <a:pt x="1135" y="1282"/>
                </a:lnTo>
                <a:lnTo>
                  <a:pt x="1143" y="1241"/>
                </a:lnTo>
                <a:lnTo>
                  <a:pt x="1150" y="1199"/>
                </a:lnTo>
                <a:lnTo>
                  <a:pt x="1156" y="1156"/>
                </a:lnTo>
                <a:lnTo>
                  <a:pt x="1162" y="1114"/>
                </a:lnTo>
                <a:lnTo>
                  <a:pt x="1168" y="1072"/>
                </a:lnTo>
                <a:lnTo>
                  <a:pt x="1173" y="1029"/>
                </a:lnTo>
                <a:lnTo>
                  <a:pt x="1178" y="987"/>
                </a:lnTo>
                <a:lnTo>
                  <a:pt x="1186" y="905"/>
                </a:lnTo>
                <a:lnTo>
                  <a:pt x="1191" y="863"/>
                </a:lnTo>
                <a:lnTo>
                  <a:pt x="1195" y="823"/>
                </a:lnTo>
                <a:lnTo>
                  <a:pt x="1198" y="783"/>
                </a:lnTo>
                <a:lnTo>
                  <a:pt x="1201" y="742"/>
                </a:lnTo>
                <a:lnTo>
                  <a:pt x="1202" y="704"/>
                </a:lnTo>
                <a:lnTo>
                  <a:pt x="1204" y="665"/>
                </a:lnTo>
                <a:lnTo>
                  <a:pt x="1204" y="627"/>
                </a:lnTo>
                <a:lnTo>
                  <a:pt x="1202" y="590"/>
                </a:lnTo>
                <a:lnTo>
                  <a:pt x="1201" y="552"/>
                </a:lnTo>
                <a:lnTo>
                  <a:pt x="1199" y="516"/>
                </a:lnTo>
                <a:lnTo>
                  <a:pt x="1198" y="480"/>
                </a:lnTo>
                <a:lnTo>
                  <a:pt x="1195" y="446"/>
                </a:lnTo>
                <a:lnTo>
                  <a:pt x="1192" y="413"/>
                </a:lnTo>
                <a:lnTo>
                  <a:pt x="1188" y="380"/>
                </a:lnTo>
                <a:lnTo>
                  <a:pt x="1185" y="347"/>
                </a:lnTo>
                <a:lnTo>
                  <a:pt x="1181" y="315"/>
                </a:lnTo>
                <a:lnTo>
                  <a:pt x="1176" y="285"/>
                </a:lnTo>
                <a:lnTo>
                  <a:pt x="1173" y="254"/>
                </a:lnTo>
                <a:lnTo>
                  <a:pt x="1171" y="240"/>
                </a:lnTo>
                <a:lnTo>
                  <a:pt x="1169" y="226"/>
                </a:lnTo>
                <a:lnTo>
                  <a:pt x="1168" y="213"/>
                </a:lnTo>
                <a:lnTo>
                  <a:pt x="1166" y="200"/>
                </a:lnTo>
                <a:lnTo>
                  <a:pt x="1165" y="187"/>
                </a:lnTo>
                <a:lnTo>
                  <a:pt x="1163" y="174"/>
                </a:lnTo>
                <a:lnTo>
                  <a:pt x="1162" y="162"/>
                </a:lnTo>
                <a:lnTo>
                  <a:pt x="1161" y="151"/>
                </a:lnTo>
                <a:lnTo>
                  <a:pt x="1161" y="141"/>
                </a:lnTo>
                <a:lnTo>
                  <a:pt x="1159" y="129"/>
                </a:lnTo>
                <a:lnTo>
                  <a:pt x="1159" y="119"/>
                </a:lnTo>
                <a:lnTo>
                  <a:pt x="1158" y="110"/>
                </a:lnTo>
                <a:lnTo>
                  <a:pt x="1158" y="100"/>
                </a:lnTo>
                <a:lnTo>
                  <a:pt x="1158" y="92"/>
                </a:lnTo>
                <a:lnTo>
                  <a:pt x="1158" y="83"/>
                </a:lnTo>
                <a:lnTo>
                  <a:pt x="1156" y="76"/>
                </a:lnTo>
                <a:lnTo>
                  <a:pt x="1156" y="67"/>
                </a:lnTo>
                <a:lnTo>
                  <a:pt x="1158" y="60"/>
                </a:lnTo>
                <a:lnTo>
                  <a:pt x="1158" y="54"/>
                </a:lnTo>
                <a:lnTo>
                  <a:pt x="1158" y="47"/>
                </a:lnTo>
                <a:lnTo>
                  <a:pt x="1158" y="41"/>
                </a:lnTo>
                <a:lnTo>
                  <a:pt x="1159" y="36"/>
                </a:lnTo>
                <a:lnTo>
                  <a:pt x="1161" y="30"/>
                </a:lnTo>
                <a:lnTo>
                  <a:pt x="1161" y="26"/>
                </a:lnTo>
                <a:lnTo>
                  <a:pt x="1162" y="21"/>
                </a:lnTo>
                <a:lnTo>
                  <a:pt x="1163" y="17"/>
                </a:lnTo>
                <a:lnTo>
                  <a:pt x="1165" y="13"/>
                </a:lnTo>
                <a:lnTo>
                  <a:pt x="1166" y="10"/>
                </a:lnTo>
                <a:lnTo>
                  <a:pt x="1169" y="4"/>
                </a:lnTo>
                <a:lnTo>
                  <a:pt x="1173" y="0"/>
                </a:lnTo>
                <a:lnTo>
                  <a:pt x="1175" y="0"/>
                </a:lnTo>
                <a:lnTo>
                  <a:pt x="1178" y="0"/>
                </a:lnTo>
                <a:lnTo>
                  <a:pt x="1181" y="0"/>
                </a:lnTo>
                <a:lnTo>
                  <a:pt x="1185" y="0"/>
                </a:lnTo>
                <a:lnTo>
                  <a:pt x="1189" y="1"/>
                </a:lnTo>
                <a:lnTo>
                  <a:pt x="1194" y="1"/>
                </a:lnTo>
                <a:lnTo>
                  <a:pt x="1199" y="3"/>
                </a:lnTo>
                <a:lnTo>
                  <a:pt x="1205" y="3"/>
                </a:lnTo>
                <a:lnTo>
                  <a:pt x="1211" y="4"/>
                </a:lnTo>
                <a:lnTo>
                  <a:pt x="1217" y="5"/>
                </a:lnTo>
                <a:lnTo>
                  <a:pt x="1224" y="7"/>
                </a:lnTo>
                <a:lnTo>
                  <a:pt x="1231" y="8"/>
                </a:lnTo>
                <a:lnTo>
                  <a:pt x="1240" y="10"/>
                </a:lnTo>
                <a:lnTo>
                  <a:pt x="1247" y="11"/>
                </a:lnTo>
                <a:lnTo>
                  <a:pt x="1256" y="14"/>
                </a:lnTo>
                <a:lnTo>
                  <a:pt x="1266" y="15"/>
                </a:lnTo>
                <a:lnTo>
                  <a:pt x="1274" y="18"/>
                </a:lnTo>
                <a:lnTo>
                  <a:pt x="1284" y="21"/>
                </a:lnTo>
                <a:lnTo>
                  <a:pt x="1294" y="24"/>
                </a:lnTo>
                <a:lnTo>
                  <a:pt x="1304" y="27"/>
                </a:lnTo>
                <a:lnTo>
                  <a:pt x="1326" y="33"/>
                </a:lnTo>
                <a:lnTo>
                  <a:pt x="1349" y="40"/>
                </a:lnTo>
                <a:lnTo>
                  <a:pt x="1374" y="49"/>
                </a:lnTo>
                <a:lnTo>
                  <a:pt x="1399" y="57"/>
                </a:lnTo>
                <a:lnTo>
                  <a:pt x="1427" y="67"/>
                </a:lnTo>
                <a:lnTo>
                  <a:pt x="1454" y="77"/>
                </a:lnTo>
                <a:lnTo>
                  <a:pt x="1454" y="132"/>
                </a:lnTo>
                <a:lnTo>
                  <a:pt x="1454" y="185"/>
                </a:lnTo>
                <a:lnTo>
                  <a:pt x="1454" y="237"/>
                </a:lnTo>
                <a:lnTo>
                  <a:pt x="1453" y="289"/>
                </a:lnTo>
                <a:lnTo>
                  <a:pt x="1453" y="339"/>
                </a:lnTo>
                <a:lnTo>
                  <a:pt x="1451" y="388"/>
                </a:lnTo>
                <a:lnTo>
                  <a:pt x="1451" y="436"/>
                </a:lnTo>
                <a:lnTo>
                  <a:pt x="1450" y="482"/>
                </a:lnTo>
                <a:lnTo>
                  <a:pt x="1448" y="528"/>
                </a:lnTo>
                <a:lnTo>
                  <a:pt x="1448" y="573"/>
                </a:lnTo>
                <a:lnTo>
                  <a:pt x="1447" y="616"/>
                </a:lnTo>
                <a:lnTo>
                  <a:pt x="1446" y="658"/>
                </a:lnTo>
                <a:lnTo>
                  <a:pt x="1443" y="699"/>
                </a:lnTo>
                <a:lnTo>
                  <a:pt x="1441" y="738"/>
                </a:lnTo>
                <a:lnTo>
                  <a:pt x="1440" y="777"/>
                </a:lnTo>
                <a:lnTo>
                  <a:pt x="1438" y="816"/>
                </a:lnTo>
                <a:lnTo>
                  <a:pt x="1435" y="852"/>
                </a:lnTo>
                <a:lnTo>
                  <a:pt x="1434" y="888"/>
                </a:lnTo>
                <a:lnTo>
                  <a:pt x="1431" y="922"/>
                </a:lnTo>
                <a:lnTo>
                  <a:pt x="1428" y="956"/>
                </a:lnTo>
                <a:lnTo>
                  <a:pt x="1425" y="987"/>
                </a:lnTo>
                <a:lnTo>
                  <a:pt x="1424" y="1019"/>
                </a:lnTo>
                <a:lnTo>
                  <a:pt x="1421" y="1049"/>
                </a:lnTo>
                <a:lnTo>
                  <a:pt x="1417" y="1078"/>
                </a:lnTo>
                <a:lnTo>
                  <a:pt x="1414" y="1107"/>
                </a:lnTo>
                <a:lnTo>
                  <a:pt x="1411" y="1134"/>
                </a:lnTo>
                <a:lnTo>
                  <a:pt x="1408" y="1160"/>
                </a:lnTo>
                <a:lnTo>
                  <a:pt x="1404" y="1184"/>
                </a:lnTo>
                <a:lnTo>
                  <a:pt x="1401" y="1209"/>
                </a:lnTo>
                <a:lnTo>
                  <a:pt x="1397" y="1231"/>
                </a:lnTo>
                <a:lnTo>
                  <a:pt x="1394" y="1254"/>
                </a:lnTo>
                <a:lnTo>
                  <a:pt x="1389" y="1274"/>
                </a:lnTo>
                <a:lnTo>
                  <a:pt x="1381" y="1314"/>
                </a:lnTo>
                <a:lnTo>
                  <a:pt x="1372" y="1354"/>
                </a:lnTo>
                <a:lnTo>
                  <a:pt x="1363" y="1395"/>
                </a:lnTo>
                <a:lnTo>
                  <a:pt x="1353" y="1435"/>
                </a:lnTo>
                <a:lnTo>
                  <a:pt x="1343" y="1475"/>
                </a:lnTo>
                <a:lnTo>
                  <a:pt x="1333" y="1514"/>
                </a:lnTo>
                <a:lnTo>
                  <a:pt x="1322" y="1553"/>
                </a:lnTo>
                <a:lnTo>
                  <a:pt x="1310" y="1592"/>
                </a:lnTo>
                <a:lnTo>
                  <a:pt x="1299" y="1631"/>
                </a:lnTo>
                <a:lnTo>
                  <a:pt x="1287" y="1668"/>
                </a:lnTo>
                <a:lnTo>
                  <a:pt x="1276" y="1706"/>
                </a:lnTo>
                <a:lnTo>
                  <a:pt x="1264" y="1743"/>
                </a:lnTo>
                <a:lnTo>
                  <a:pt x="1253" y="1779"/>
                </a:lnTo>
                <a:lnTo>
                  <a:pt x="1240" y="1814"/>
                </a:lnTo>
                <a:lnTo>
                  <a:pt x="1228" y="1848"/>
                </a:lnTo>
                <a:lnTo>
                  <a:pt x="1217" y="1883"/>
                </a:lnTo>
                <a:lnTo>
                  <a:pt x="1199" y="1916"/>
                </a:lnTo>
                <a:lnTo>
                  <a:pt x="1182" y="1949"/>
                </a:lnTo>
                <a:lnTo>
                  <a:pt x="1163" y="1982"/>
                </a:lnTo>
                <a:lnTo>
                  <a:pt x="1143" y="2014"/>
                </a:lnTo>
                <a:lnTo>
                  <a:pt x="1123" y="2047"/>
                </a:lnTo>
                <a:lnTo>
                  <a:pt x="1100" y="2080"/>
                </a:lnTo>
                <a:lnTo>
                  <a:pt x="1077" y="2113"/>
                </a:lnTo>
                <a:lnTo>
                  <a:pt x="1054" y="2146"/>
                </a:lnTo>
                <a:lnTo>
                  <a:pt x="1028" y="2179"/>
                </a:lnTo>
                <a:lnTo>
                  <a:pt x="1002" y="2212"/>
                </a:lnTo>
                <a:lnTo>
                  <a:pt x="976" y="2245"/>
                </a:lnTo>
                <a:lnTo>
                  <a:pt x="947" y="2279"/>
                </a:lnTo>
                <a:lnTo>
                  <a:pt x="919" y="2312"/>
                </a:lnTo>
                <a:lnTo>
                  <a:pt x="888" y="2345"/>
                </a:lnTo>
                <a:lnTo>
                  <a:pt x="858" y="2378"/>
                </a:lnTo>
                <a:lnTo>
                  <a:pt x="827" y="2411"/>
                </a:lnTo>
                <a:lnTo>
                  <a:pt x="795" y="2444"/>
                </a:lnTo>
                <a:lnTo>
                  <a:pt x="762" y="2476"/>
                </a:lnTo>
                <a:lnTo>
                  <a:pt x="730" y="2508"/>
                </a:lnTo>
                <a:lnTo>
                  <a:pt x="697" y="2536"/>
                </a:lnTo>
                <a:lnTo>
                  <a:pt x="664" y="2565"/>
                </a:lnTo>
                <a:lnTo>
                  <a:pt x="631" y="2594"/>
                </a:lnTo>
                <a:lnTo>
                  <a:pt x="598" y="2621"/>
                </a:lnTo>
                <a:lnTo>
                  <a:pt x="565" y="2647"/>
                </a:lnTo>
                <a:lnTo>
                  <a:pt x="531" y="2672"/>
                </a:lnTo>
                <a:lnTo>
                  <a:pt x="497" y="2696"/>
                </a:lnTo>
                <a:lnTo>
                  <a:pt x="462" y="2719"/>
                </a:lnTo>
                <a:lnTo>
                  <a:pt x="428" y="2742"/>
                </a:lnTo>
                <a:lnTo>
                  <a:pt x="393" y="2764"/>
                </a:lnTo>
                <a:lnTo>
                  <a:pt x="357" y="2784"/>
                </a:lnTo>
                <a:lnTo>
                  <a:pt x="321" y="2804"/>
                </a:lnTo>
                <a:lnTo>
                  <a:pt x="285" y="28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75"/>
          <p:cNvSpPr/>
          <p:nvPr/>
        </p:nvSpPr>
        <p:spPr>
          <a:xfrm>
            <a:off x="6805440" y="3533760"/>
            <a:ext cx="779760" cy="1638360"/>
          </a:xfrm>
          <a:custGeom>
            <a:avLst/>
            <a:gdLst/>
            <a:ahLst/>
            <a:rect l="l" t="t" r="r" b="b"/>
            <a:pathLst>
              <a:path w="1471" h="3098">
                <a:moveTo>
                  <a:pt x="736" y="2627"/>
                </a:moveTo>
                <a:lnTo>
                  <a:pt x="721" y="2618"/>
                </a:lnTo>
                <a:lnTo>
                  <a:pt x="708" y="2608"/>
                </a:lnTo>
                <a:lnTo>
                  <a:pt x="695" y="2600"/>
                </a:lnTo>
                <a:lnTo>
                  <a:pt x="684" y="2591"/>
                </a:lnTo>
                <a:lnTo>
                  <a:pt x="671" y="2582"/>
                </a:lnTo>
                <a:lnTo>
                  <a:pt x="659" y="2574"/>
                </a:lnTo>
                <a:lnTo>
                  <a:pt x="649" y="2565"/>
                </a:lnTo>
                <a:lnTo>
                  <a:pt x="639" y="2558"/>
                </a:lnTo>
                <a:lnTo>
                  <a:pt x="629" y="2549"/>
                </a:lnTo>
                <a:lnTo>
                  <a:pt x="619" y="2542"/>
                </a:lnTo>
                <a:lnTo>
                  <a:pt x="610" y="2534"/>
                </a:lnTo>
                <a:lnTo>
                  <a:pt x="602" y="2526"/>
                </a:lnTo>
                <a:lnTo>
                  <a:pt x="595" y="2519"/>
                </a:lnTo>
                <a:lnTo>
                  <a:pt x="587" y="2512"/>
                </a:lnTo>
                <a:lnTo>
                  <a:pt x="580" y="2506"/>
                </a:lnTo>
                <a:lnTo>
                  <a:pt x="574" y="2499"/>
                </a:lnTo>
                <a:lnTo>
                  <a:pt x="569" y="2493"/>
                </a:lnTo>
                <a:lnTo>
                  <a:pt x="563" y="2487"/>
                </a:lnTo>
                <a:lnTo>
                  <a:pt x="557" y="2482"/>
                </a:lnTo>
                <a:lnTo>
                  <a:pt x="553" y="2476"/>
                </a:lnTo>
                <a:lnTo>
                  <a:pt x="550" y="2470"/>
                </a:lnTo>
                <a:lnTo>
                  <a:pt x="546" y="2466"/>
                </a:lnTo>
                <a:lnTo>
                  <a:pt x="544" y="2460"/>
                </a:lnTo>
                <a:lnTo>
                  <a:pt x="541" y="2456"/>
                </a:lnTo>
                <a:lnTo>
                  <a:pt x="540" y="2451"/>
                </a:lnTo>
                <a:lnTo>
                  <a:pt x="538" y="2449"/>
                </a:lnTo>
                <a:lnTo>
                  <a:pt x="537" y="2444"/>
                </a:lnTo>
                <a:lnTo>
                  <a:pt x="537" y="2441"/>
                </a:lnTo>
                <a:lnTo>
                  <a:pt x="537" y="2438"/>
                </a:lnTo>
                <a:lnTo>
                  <a:pt x="538" y="2436"/>
                </a:lnTo>
                <a:lnTo>
                  <a:pt x="538" y="2433"/>
                </a:lnTo>
                <a:lnTo>
                  <a:pt x="541" y="2431"/>
                </a:lnTo>
                <a:lnTo>
                  <a:pt x="546" y="2428"/>
                </a:lnTo>
                <a:lnTo>
                  <a:pt x="551" y="2426"/>
                </a:lnTo>
                <a:lnTo>
                  <a:pt x="557" y="2424"/>
                </a:lnTo>
                <a:lnTo>
                  <a:pt x="566" y="2423"/>
                </a:lnTo>
                <a:lnTo>
                  <a:pt x="574" y="2424"/>
                </a:lnTo>
                <a:lnTo>
                  <a:pt x="586" y="2424"/>
                </a:lnTo>
                <a:lnTo>
                  <a:pt x="592" y="2426"/>
                </a:lnTo>
                <a:lnTo>
                  <a:pt x="597" y="2426"/>
                </a:lnTo>
                <a:lnTo>
                  <a:pt x="605" y="2427"/>
                </a:lnTo>
                <a:lnTo>
                  <a:pt x="612" y="2428"/>
                </a:lnTo>
                <a:lnTo>
                  <a:pt x="619" y="2430"/>
                </a:lnTo>
                <a:lnTo>
                  <a:pt x="626" y="2431"/>
                </a:lnTo>
                <a:lnTo>
                  <a:pt x="635" y="2433"/>
                </a:lnTo>
                <a:lnTo>
                  <a:pt x="642" y="2436"/>
                </a:lnTo>
                <a:lnTo>
                  <a:pt x="652" y="2437"/>
                </a:lnTo>
                <a:lnTo>
                  <a:pt x="661" y="2440"/>
                </a:lnTo>
                <a:lnTo>
                  <a:pt x="671" y="2441"/>
                </a:lnTo>
                <a:lnTo>
                  <a:pt x="681" y="2444"/>
                </a:lnTo>
                <a:lnTo>
                  <a:pt x="691" y="2447"/>
                </a:lnTo>
                <a:lnTo>
                  <a:pt x="703" y="2450"/>
                </a:lnTo>
                <a:lnTo>
                  <a:pt x="714" y="2453"/>
                </a:lnTo>
                <a:lnTo>
                  <a:pt x="726" y="2456"/>
                </a:lnTo>
                <a:lnTo>
                  <a:pt x="739" y="2460"/>
                </a:lnTo>
                <a:lnTo>
                  <a:pt x="752" y="2463"/>
                </a:lnTo>
                <a:lnTo>
                  <a:pt x="764" y="2466"/>
                </a:lnTo>
                <a:lnTo>
                  <a:pt x="779" y="2470"/>
                </a:lnTo>
                <a:lnTo>
                  <a:pt x="803" y="2477"/>
                </a:lnTo>
                <a:lnTo>
                  <a:pt x="825" y="2485"/>
                </a:lnTo>
                <a:lnTo>
                  <a:pt x="848" y="2490"/>
                </a:lnTo>
                <a:lnTo>
                  <a:pt x="868" y="2496"/>
                </a:lnTo>
                <a:lnTo>
                  <a:pt x="888" y="2502"/>
                </a:lnTo>
                <a:lnTo>
                  <a:pt x="907" y="2506"/>
                </a:lnTo>
                <a:lnTo>
                  <a:pt x="924" y="2509"/>
                </a:lnTo>
                <a:lnTo>
                  <a:pt x="942" y="2512"/>
                </a:lnTo>
                <a:lnTo>
                  <a:pt x="957" y="2515"/>
                </a:lnTo>
                <a:lnTo>
                  <a:pt x="972" y="2516"/>
                </a:lnTo>
                <a:lnTo>
                  <a:pt x="985" y="2518"/>
                </a:lnTo>
                <a:lnTo>
                  <a:pt x="998" y="2518"/>
                </a:lnTo>
                <a:lnTo>
                  <a:pt x="1009" y="2516"/>
                </a:lnTo>
                <a:lnTo>
                  <a:pt x="1021" y="2515"/>
                </a:lnTo>
                <a:lnTo>
                  <a:pt x="1031" y="2513"/>
                </a:lnTo>
                <a:lnTo>
                  <a:pt x="1039" y="2510"/>
                </a:lnTo>
                <a:lnTo>
                  <a:pt x="1042" y="2506"/>
                </a:lnTo>
                <a:lnTo>
                  <a:pt x="1047" y="2500"/>
                </a:lnTo>
                <a:lnTo>
                  <a:pt x="1051" y="2495"/>
                </a:lnTo>
                <a:lnTo>
                  <a:pt x="1055" y="2487"/>
                </a:lnTo>
                <a:lnTo>
                  <a:pt x="1060" y="2479"/>
                </a:lnTo>
                <a:lnTo>
                  <a:pt x="1064" y="2469"/>
                </a:lnTo>
                <a:lnTo>
                  <a:pt x="1067" y="2459"/>
                </a:lnTo>
                <a:lnTo>
                  <a:pt x="1071" y="2446"/>
                </a:lnTo>
                <a:lnTo>
                  <a:pt x="1075" y="2433"/>
                </a:lnTo>
                <a:lnTo>
                  <a:pt x="1077" y="2426"/>
                </a:lnTo>
                <a:lnTo>
                  <a:pt x="1080" y="2417"/>
                </a:lnTo>
                <a:lnTo>
                  <a:pt x="1081" y="2410"/>
                </a:lnTo>
                <a:lnTo>
                  <a:pt x="1084" y="2401"/>
                </a:lnTo>
                <a:lnTo>
                  <a:pt x="1086" y="2392"/>
                </a:lnTo>
                <a:lnTo>
                  <a:pt x="1087" y="2382"/>
                </a:lnTo>
                <a:lnTo>
                  <a:pt x="1090" y="2374"/>
                </a:lnTo>
                <a:lnTo>
                  <a:pt x="1091" y="2364"/>
                </a:lnTo>
                <a:lnTo>
                  <a:pt x="1094" y="2352"/>
                </a:lnTo>
                <a:lnTo>
                  <a:pt x="1096" y="2342"/>
                </a:lnTo>
                <a:lnTo>
                  <a:pt x="1097" y="2331"/>
                </a:lnTo>
                <a:lnTo>
                  <a:pt x="1100" y="2319"/>
                </a:lnTo>
                <a:lnTo>
                  <a:pt x="1101" y="2306"/>
                </a:lnTo>
                <a:lnTo>
                  <a:pt x="1104" y="2295"/>
                </a:lnTo>
                <a:lnTo>
                  <a:pt x="1104" y="2283"/>
                </a:lnTo>
                <a:lnTo>
                  <a:pt x="1104" y="2270"/>
                </a:lnTo>
                <a:lnTo>
                  <a:pt x="1104" y="2257"/>
                </a:lnTo>
                <a:lnTo>
                  <a:pt x="1104" y="2244"/>
                </a:lnTo>
                <a:lnTo>
                  <a:pt x="1104" y="2230"/>
                </a:lnTo>
                <a:lnTo>
                  <a:pt x="1104" y="2215"/>
                </a:lnTo>
                <a:lnTo>
                  <a:pt x="1104" y="2200"/>
                </a:lnTo>
                <a:lnTo>
                  <a:pt x="1104" y="2184"/>
                </a:lnTo>
                <a:lnTo>
                  <a:pt x="1104" y="2166"/>
                </a:lnTo>
                <a:lnTo>
                  <a:pt x="1104" y="2149"/>
                </a:lnTo>
                <a:lnTo>
                  <a:pt x="1104" y="2132"/>
                </a:lnTo>
                <a:lnTo>
                  <a:pt x="1104" y="2113"/>
                </a:lnTo>
                <a:lnTo>
                  <a:pt x="1104" y="2093"/>
                </a:lnTo>
                <a:lnTo>
                  <a:pt x="1104" y="2073"/>
                </a:lnTo>
                <a:lnTo>
                  <a:pt x="1104" y="2053"/>
                </a:lnTo>
                <a:lnTo>
                  <a:pt x="1104" y="2031"/>
                </a:lnTo>
                <a:lnTo>
                  <a:pt x="1104" y="2009"/>
                </a:lnTo>
                <a:lnTo>
                  <a:pt x="1104" y="1986"/>
                </a:lnTo>
                <a:lnTo>
                  <a:pt x="1104" y="1963"/>
                </a:lnTo>
                <a:lnTo>
                  <a:pt x="1104" y="1940"/>
                </a:lnTo>
                <a:lnTo>
                  <a:pt x="1104" y="1916"/>
                </a:lnTo>
                <a:lnTo>
                  <a:pt x="1104" y="1890"/>
                </a:lnTo>
                <a:lnTo>
                  <a:pt x="1104" y="1866"/>
                </a:lnTo>
                <a:lnTo>
                  <a:pt x="1104" y="1838"/>
                </a:lnTo>
                <a:lnTo>
                  <a:pt x="1104" y="1812"/>
                </a:lnTo>
                <a:lnTo>
                  <a:pt x="1104" y="1785"/>
                </a:lnTo>
                <a:lnTo>
                  <a:pt x="1104" y="1756"/>
                </a:lnTo>
                <a:lnTo>
                  <a:pt x="1104" y="1727"/>
                </a:lnTo>
                <a:lnTo>
                  <a:pt x="1104" y="1699"/>
                </a:lnTo>
                <a:lnTo>
                  <a:pt x="1104" y="1668"/>
                </a:lnTo>
                <a:lnTo>
                  <a:pt x="1104" y="1638"/>
                </a:lnTo>
                <a:lnTo>
                  <a:pt x="1104" y="1608"/>
                </a:lnTo>
                <a:lnTo>
                  <a:pt x="1104" y="1544"/>
                </a:lnTo>
                <a:lnTo>
                  <a:pt x="1103" y="1484"/>
                </a:lnTo>
                <a:lnTo>
                  <a:pt x="1103" y="1424"/>
                </a:lnTo>
                <a:lnTo>
                  <a:pt x="1103" y="1364"/>
                </a:lnTo>
                <a:lnTo>
                  <a:pt x="1103" y="1307"/>
                </a:lnTo>
                <a:lnTo>
                  <a:pt x="1103" y="1249"/>
                </a:lnTo>
                <a:lnTo>
                  <a:pt x="1101" y="1192"/>
                </a:lnTo>
                <a:lnTo>
                  <a:pt x="1100" y="1137"/>
                </a:lnTo>
                <a:lnTo>
                  <a:pt x="1100" y="1082"/>
                </a:lnTo>
                <a:lnTo>
                  <a:pt x="1098" y="1028"/>
                </a:lnTo>
                <a:lnTo>
                  <a:pt x="1096" y="976"/>
                </a:lnTo>
                <a:lnTo>
                  <a:pt x="1094" y="924"/>
                </a:lnTo>
                <a:lnTo>
                  <a:pt x="1091" y="872"/>
                </a:lnTo>
                <a:lnTo>
                  <a:pt x="1088" y="822"/>
                </a:lnTo>
                <a:lnTo>
                  <a:pt x="1086" y="773"/>
                </a:lnTo>
                <a:lnTo>
                  <a:pt x="1083" y="725"/>
                </a:lnTo>
                <a:lnTo>
                  <a:pt x="1080" y="701"/>
                </a:lnTo>
                <a:lnTo>
                  <a:pt x="1078" y="678"/>
                </a:lnTo>
                <a:lnTo>
                  <a:pt x="1075" y="656"/>
                </a:lnTo>
                <a:lnTo>
                  <a:pt x="1073" y="633"/>
                </a:lnTo>
                <a:lnTo>
                  <a:pt x="1071" y="613"/>
                </a:lnTo>
                <a:lnTo>
                  <a:pt x="1068" y="591"/>
                </a:lnTo>
                <a:lnTo>
                  <a:pt x="1065" y="571"/>
                </a:lnTo>
                <a:lnTo>
                  <a:pt x="1062" y="553"/>
                </a:lnTo>
                <a:lnTo>
                  <a:pt x="1060" y="534"/>
                </a:lnTo>
                <a:lnTo>
                  <a:pt x="1057" y="515"/>
                </a:lnTo>
                <a:lnTo>
                  <a:pt x="1054" y="498"/>
                </a:lnTo>
                <a:lnTo>
                  <a:pt x="1051" y="482"/>
                </a:lnTo>
                <a:lnTo>
                  <a:pt x="1048" y="465"/>
                </a:lnTo>
                <a:lnTo>
                  <a:pt x="1045" y="450"/>
                </a:lnTo>
                <a:lnTo>
                  <a:pt x="1042" y="434"/>
                </a:lnTo>
                <a:lnTo>
                  <a:pt x="1039" y="422"/>
                </a:lnTo>
                <a:lnTo>
                  <a:pt x="1037" y="407"/>
                </a:lnTo>
                <a:lnTo>
                  <a:pt x="1032" y="394"/>
                </a:lnTo>
                <a:lnTo>
                  <a:pt x="1029" y="383"/>
                </a:lnTo>
                <a:lnTo>
                  <a:pt x="1026" y="371"/>
                </a:lnTo>
                <a:lnTo>
                  <a:pt x="1024" y="361"/>
                </a:lnTo>
                <a:lnTo>
                  <a:pt x="1021" y="351"/>
                </a:lnTo>
                <a:lnTo>
                  <a:pt x="1018" y="342"/>
                </a:lnTo>
                <a:lnTo>
                  <a:pt x="1015" y="334"/>
                </a:lnTo>
                <a:lnTo>
                  <a:pt x="1012" y="327"/>
                </a:lnTo>
                <a:lnTo>
                  <a:pt x="1009" y="319"/>
                </a:lnTo>
                <a:lnTo>
                  <a:pt x="1008" y="312"/>
                </a:lnTo>
                <a:lnTo>
                  <a:pt x="1005" y="308"/>
                </a:lnTo>
                <a:lnTo>
                  <a:pt x="1002" y="302"/>
                </a:lnTo>
                <a:lnTo>
                  <a:pt x="1001" y="299"/>
                </a:lnTo>
                <a:lnTo>
                  <a:pt x="998" y="296"/>
                </a:lnTo>
                <a:lnTo>
                  <a:pt x="996" y="293"/>
                </a:lnTo>
                <a:lnTo>
                  <a:pt x="990" y="292"/>
                </a:lnTo>
                <a:lnTo>
                  <a:pt x="986" y="291"/>
                </a:lnTo>
                <a:lnTo>
                  <a:pt x="980" y="288"/>
                </a:lnTo>
                <a:lnTo>
                  <a:pt x="975" y="286"/>
                </a:lnTo>
                <a:lnTo>
                  <a:pt x="967" y="286"/>
                </a:lnTo>
                <a:lnTo>
                  <a:pt x="960" y="285"/>
                </a:lnTo>
                <a:lnTo>
                  <a:pt x="952" y="283"/>
                </a:lnTo>
                <a:lnTo>
                  <a:pt x="943" y="282"/>
                </a:lnTo>
                <a:lnTo>
                  <a:pt x="934" y="282"/>
                </a:lnTo>
                <a:lnTo>
                  <a:pt x="924" y="280"/>
                </a:lnTo>
                <a:lnTo>
                  <a:pt x="913" y="280"/>
                </a:lnTo>
                <a:lnTo>
                  <a:pt x="903" y="280"/>
                </a:lnTo>
                <a:lnTo>
                  <a:pt x="891" y="280"/>
                </a:lnTo>
                <a:lnTo>
                  <a:pt x="878" y="280"/>
                </a:lnTo>
                <a:lnTo>
                  <a:pt x="865" y="280"/>
                </a:lnTo>
                <a:lnTo>
                  <a:pt x="852" y="280"/>
                </a:lnTo>
                <a:lnTo>
                  <a:pt x="838" y="282"/>
                </a:lnTo>
                <a:lnTo>
                  <a:pt x="824" y="282"/>
                </a:lnTo>
                <a:lnTo>
                  <a:pt x="808" y="283"/>
                </a:lnTo>
                <a:lnTo>
                  <a:pt x="793" y="283"/>
                </a:lnTo>
                <a:lnTo>
                  <a:pt x="776" y="285"/>
                </a:lnTo>
                <a:lnTo>
                  <a:pt x="760" y="286"/>
                </a:lnTo>
                <a:lnTo>
                  <a:pt x="743" y="289"/>
                </a:lnTo>
                <a:lnTo>
                  <a:pt x="724" y="291"/>
                </a:lnTo>
                <a:lnTo>
                  <a:pt x="705" y="292"/>
                </a:lnTo>
                <a:lnTo>
                  <a:pt x="687" y="295"/>
                </a:lnTo>
                <a:lnTo>
                  <a:pt x="668" y="298"/>
                </a:lnTo>
                <a:lnTo>
                  <a:pt x="648" y="299"/>
                </a:lnTo>
                <a:lnTo>
                  <a:pt x="626" y="303"/>
                </a:lnTo>
                <a:lnTo>
                  <a:pt x="606" y="306"/>
                </a:lnTo>
                <a:lnTo>
                  <a:pt x="585" y="309"/>
                </a:lnTo>
                <a:lnTo>
                  <a:pt x="563" y="314"/>
                </a:lnTo>
                <a:lnTo>
                  <a:pt x="538" y="318"/>
                </a:lnTo>
                <a:lnTo>
                  <a:pt x="514" y="324"/>
                </a:lnTo>
                <a:lnTo>
                  <a:pt x="491" y="329"/>
                </a:lnTo>
                <a:lnTo>
                  <a:pt x="468" y="334"/>
                </a:lnTo>
                <a:lnTo>
                  <a:pt x="445" y="338"/>
                </a:lnTo>
                <a:lnTo>
                  <a:pt x="423" y="342"/>
                </a:lnTo>
                <a:lnTo>
                  <a:pt x="402" y="347"/>
                </a:lnTo>
                <a:lnTo>
                  <a:pt x="380" y="351"/>
                </a:lnTo>
                <a:lnTo>
                  <a:pt x="360" y="354"/>
                </a:lnTo>
                <a:lnTo>
                  <a:pt x="338" y="358"/>
                </a:lnTo>
                <a:lnTo>
                  <a:pt x="318" y="361"/>
                </a:lnTo>
                <a:lnTo>
                  <a:pt x="299" y="364"/>
                </a:lnTo>
                <a:lnTo>
                  <a:pt x="279" y="367"/>
                </a:lnTo>
                <a:lnTo>
                  <a:pt x="261" y="370"/>
                </a:lnTo>
                <a:lnTo>
                  <a:pt x="242" y="373"/>
                </a:lnTo>
                <a:lnTo>
                  <a:pt x="225" y="375"/>
                </a:lnTo>
                <a:lnTo>
                  <a:pt x="207" y="377"/>
                </a:lnTo>
                <a:lnTo>
                  <a:pt x="190" y="378"/>
                </a:lnTo>
                <a:lnTo>
                  <a:pt x="173" y="381"/>
                </a:lnTo>
                <a:lnTo>
                  <a:pt x="157" y="383"/>
                </a:lnTo>
                <a:lnTo>
                  <a:pt x="141" y="384"/>
                </a:lnTo>
                <a:lnTo>
                  <a:pt x="127" y="386"/>
                </a:lnTo>
                <a:lnTo>
                  <a:pt x="111" y="387"/>
                </a:lnTo>
                <a:lnTo>
                  <a:pt x="96" y="387"/>
                </a:lnTo>
                <a:lnTo>
                  <a:pt x="84" y="388"/>
                </a:lnTo>
                <a:lnTo>
                  <a:pt x="69" y="390"/>
                </a:lnTo>
                <a:lnTo>
                  <a:pt x="58" y="390"/>
                </a:lnTo>
                <a:lnTo>
                  <a:pt x="45" y="390"/>
                </a:lnTo>
                <a:lnTo>
                  <a:pt x="33" y="391"/>
                </a:lnTo>
                <a:lnTo>
                  <a:pt x="22" y="391"/>
                </a:lnTo>
                <a:lnTo>
                  <a:pt x="10" y="391"/>
                </a:lnTo>
                <a:lnTo>
                  <a:pt x="0" y="391"/>
                </a:lnTo>
                <a:lnTo>
                  <a:pt x="0" y="314"/>
                </a:lnTo>
                <a:lnTo>
                  <a:pt x="0" y="234"/>
                </a:lnTo>
                <a:lnTo>
                  <a:pt x="10" y="234"/>
                </a:lnTo>
                <a:lnTo>
                  <a:pt x="22" y="234"/>
                </a:lnTo>
                <a:lnTo>
                  <a:pt x="32" y="234"/>
                </a:lnTo>
                <a:lnTo>
                  <a:pt x="43" y="233"/>
                </a:lnTo>
                <a:lnTo>
                  <a:pt x="56" y="233"/>
                </a:lnTo>
                <a:lnTo>
                  <a:pt x="68" y="233"/>
                </a:lnTo>
                <a:lnTo>
                  <a:pt x="81" y="231"/>
                </a:lnTo>
                <a:lnTo>
                  <a:pt x="94" y="231"/>
                </a:lnTo>
                <a:lnTo>
                  <a:pt x="107" y="230"/>
                </a:lnTo>
                <a:lnTo>
                  <a:pt x="121" y="229"/>
                </a:lnTo>
                <a:lnTo>
                  <a:pt x="134" y="227"/>
                </a:lnTo>
                <a:lnTo>
                  <a:pt x="150" y="226"/>
                </a:lnTo>
                <a:lnTo>
                  <a:pt x="164" y="224"/>
                </a:lnTo>
                <a:lnTo>
                  <a:pt x="180" y="223"/>
                </a:lnTo>
                <a:lnTo>
                  <a:pt x="194" y="221"/>
                </a:lnTo>
                <a:lnTo>
                  <a:pt x="212" y="220"/>
                </a:lnTo>
                <a:lnTo>
                  <a:pt x="227" y="219"/>
                </a:lnTo>
                <a:lnTo>
                  <a:pt x="245" y="216"/>
                </a:lnTo>
                <a:lnTo>
                  <a:pt x="262" y="214"/>
                </a:lnTo>
                <a:lnTo>
                  <a:pt x="279" y="211"/>
                </a:lnTo>
                <a:lnTo>
                  <a:pt x="297" y="210"/>
                </a:lnTo>
                <a:lnTo>
                  <a:pt x="315" y="207"/>
                </a:lnTo>
                <a:lnTo>
                  <a:pt x="334" y="204"/>
                </a:lnTo>
                <a:lnTo>
                  <a:pt x="353" y="201"/>
                </a:lnTo>
                <a:lnTo>
                  <a:pt x="373" y="200"/>
                </a:lnTo>
                <a:lnTo>
                  <a:pt x="392" y="195"/>
                </a:lnTo>
                <a:lnTo>
                  <a:pt x="412" y="193"/>
                </a:lnTo>
                <a:lnTo>
                  <a:pt x="433" y="190"/>
                </a:lnTo>
                <a:lnTo>
                  <a:pt x="454" y="187"/>
                </a:lnTo>
                <a:lnTo>
                  <a:pt x="475" y="184"/>
                </a:lnTo>
                <a:lnTo>
                  <a:pt x="497" y="180"/>
                </a:lnTo>
                <a:lnTo>
                  <a:pt x="520" y="177"/>
                </a:lnTo>
                <a:lnTo>
                  <a:pt x="538" y="172"/>
                </a:lnTo>
                <a:lnTo>
                  <a:pt x="559" y="168"/>
                </a:lnTo>
                <a:lnTo>
                  <a:pt x="577" y="165"/>
                </a:lnTo>
                <a:lnTo>
                  <a:pt x="596" y="161"/>
                </a:lnTo>
                <a:lnTo>
                  <a:pt x="615" y="157"/>
                </a:lnTo>
                <a:lnTo>
                  <a:pt x="632" y="154"/>
                </a:lnTo>
                <a:lnTo>
                  <a:pt x="649" y="149"/>
                </a:lnTo>
                <a:lnTo>
                  <a:pt x="665" y="147"/>
                </a:lnTo>
                <a:lnTo>
                  <a:pt x="681" y="142"/>
                </a:lnTo>
                <a:lnTo>
                  <a:pt x="697" y="139"/>
                </a:lnTo>
                <a:lnTo>
                  <a:pt x="711" y="135"/>
                </a:lnTo>
                <a:lnTo>
                  <a:pt x="726" y="132"/>
                </a:lnTo>
                <a:lnTo>
                  <a:pt x="739" y="128"/>
                </a:lnTo>
                <a:lnTo>
                  <a:pt x="752" y="124"/>
                </a:lnTo>
                <a:lnTo>
                  <a:pt x="764" y="121"/>
                </a:lnTo>
                <a:lnTo>
                  <a:pt x="776" y="116"/>
                </a:lnTo>
                <a:lnTo>
                  <a:pt x="788" y="113"/>
                </a:lnTo>
                <a:lnTo>
                  <a:pt x="799" y="109"/>
                </a:lnTo>
                <a:lnTo>
                  <a:pt x="809" y="106"/>
                </a:lnTo>
                <a:lnTo>
                  <a:pt x="818" y="102"/>
                </a:lnTo>
                <a:lnTo>
                  <a:pt x="828" y="99"/>
                </a:lnTo>
                <a:lnTo>
                  <a:pt x="836" y="95"/>
                </a:lnTo>
                <a:lnTo>
                  <a:pt x="844" y="92"/>
                </a:lnTo>
                <a:lnTo>
                  <a:pt x="851" y="88"/>
                </a:lnTo>
                <a:lnTo>
                  <a:pt x="858" y="83"/>
                </a:lnTo>
                <a:lnTo>
                  <a:pt x="864" y="80"/>
                </a:lnTo>
                <a:lnTo>
                  <a:pt x="870" y="76"/>
                </a:lnTo>
                <a:lnTo>
                  <a:pt x="874" y="73"/>
                </a:lnTo>
                <a:lnTo>
                  <a:pt x="878" y="69"/>
                </a:lnTo>
                <a:lnTo>
                  <a:pt x="881" y="66"/>
                </a:lnTo>
                <a:lnTo>
                  <a:pt x="884" y="62"/>
                </a:lnTo>
                <a:lnTo>
                  <a:pt x="887" y="59"/>
                </a:lnTo>
                <a:lnTo>
                  <a:pt x="891" y="52"/>
                </a:lnTo>
                <a:lnTo>
                  <a:pt x="895" y="44"/>
                </a:lnTo>
                <a:lnTo>
                  <a:pt x="901" y="39"/>
                </a:lnTo>
                <a:lnTo>
                  <a:pt x="907" y="33"/>
                </a:lnTo>
                <a:lnTo>
                  <a:pt x="914" y="27"/>
                </a:lnTo>
                <a:lnTo>
                  <a:pt x="920" y="21"/>
                </a:lnTo>
                <a:lnTo>
                  <a:pt x="929" y="17"/>
                </a:lnTo>
                <a:lnTo>
                  <a:pt x="936" y="14"/>
                </a:lnTo>
                <a:lnTo>
                  <a:pt x="944" y="10"/>
                </a:lnTo>
                <a:lnTo>
                  <a:pt x="953" y="7"/>
                </a:lnTo>
                <a:lnTo>
                  <a:pt x="963" y="4"/>
                </a:lnTo>
                <a:lnTo>
                  <a:pt x="973" y="3"/>
                </a:lnTo>
                <a:lnTo>
                  <a:pt x="983" y="1"/>
                </a:lnTo>
                <a:lnTo>
                  <a:pt x="993" y="0"/>
                </a:lnTo>
                <a:lnTo>
                  <a:pt x="1005" y="0"/>
                </a:lnTo>
                <a:lnTo>
                  <a:pt x="1018" y="0"/>
                </a:lnTo>
                <a:lnTo>
                  <a:pt x="1029" y="3"/>
                </a:lnTo>
                <a:lnTo>
                  <a:pt x="1042" y="7"/>
                </a:lnTo>
                <a:lnTo>
                  <a:pt x="1055" y="13"/>
                </a:lnTo>
                <a:lnTo>
                  <a:pt x="1070" y="17"/>
                </a:lnTo>
                <a:lnTo>
                  <a:pt x="1084" y="23"/>
                </a:lnTo>
                <a:lnTo>
                  <a:pt x="1100" y="30"/>
                </a:lnTo>
                <a:lnTo>
                  <a:pt x="1114" y="36"/>
                </a:lnTo>
                <a:lnTo>
                  <a:pt x="1132" y="43"/>
                </a:lnTo>
                <a:lnTo>
                  <a:pt x="1147" y="50"/>
                </a:lnTo>
                <a:lnTo>
                  <a:pt x="1165" y="59"/>
                </a:lnTo>
                <a:lnTo>
                  <a:pt x="1182" y="67"/>
                </a:lnTo>
                <a:lnTo>
                  <a:pt x="1201" y="76"/>
                </a:lnTo>
                <a:lnTo>
                  <a:pt x="1218" y="86"/>
                </a:lnTo>
                <a:lnTo>
                  <a:pt x="1238" y="96"/>
                </a:lnTo>
                <a:lnTo>
                  <a:pt x="1257" y="106"/>
                </a:lnTo>
                <a:lnTo>
                  <a:pt x="1277" y="118"/>
                </a:lnTo>
                <a:lnTo>
                  <a:pt x="1297" y="132"/>
                </a:lnTo>
                <a:lnTo>
                  <a:pt x="1316" y="145"/>
                </a:lnTo>
                <a:lnTo>
                  <a:pt x="1333" y="160"/>
                </a:lnTo>
                <a:lnTo>
                  <a:pt x="1349" y="172"/>
                </a:lnTo>
                <a:lnTo>
                  <a:pt x="1365" y="184"/>
                </a:lnTo>
                <a:lnTo>
                  <a:pt x="1381" y="195"/>
                </a:lnTo>
                <a:lnTo>
                  <a:pt x="1394" y="207"/>
                </a:lnTo>
                <a:lnTo>
                  <a:pt x="1407" y="217"/>
                </a:lnTo>
                <a:lnTo>
                  <a:pt x="1418" y="227"/>
                </a:lnTo>
                <a:lnTo>
                  <a:pt x="1428" y="236"/>
                </a:lnTo>
                <a:lnTo>
                  <a:pt x="1438" y="244"/>
                </a:lnTo>
                <a:lnTo>
                  <a:pt x="1447" y="252"/>
                </a:lnTo>
                <a:lnTo>
                  <a:pt x="1454" y="259"/>
                </a:lnTo>
                <a:lnTo>
                  <a:pt x="1461" y="265"/>
                </a:lnTo>
                <a:lnTo>
                  <a:pt x="1467" y="270"/>
                </a:lnTo>
                <a:lnTo>
                  <a:pt x="1471" y="275"/>
                </a:lnTo>
                <a:lnTo>
                  <a:pt x="1471" y="278"/>
                </a:lnTo>
                <a:lnTo>
                  <a:pt x="1470" y="282"/>
                </a:lnTo>
                <a:lnTo>
                  <a:pt x="1468" y="288"/>
                </a:lnTo>
                <a:lnTo>
                  <a:pt x="1467" y="292"/>
                </a:lnTo>
                <a:lnTo>
                  <a:pt x="1466" y="298"/>
                </a:lnTo>
                <a:lnTo>
                  <a:pt x="1463" y="303"/>
                </a:lnTo>
                <a:lnTo>
                  <a:pt x="1458" y="311"/>
                </a:lnTo>
                <a:lnTo>
                  <a:pt x="1455" y="318"/>
                </a:lnTo>
                <a:lnTo>
                  <a:pt x="1451" y="325"/>
                </a:lnTo>
                <a:lnTo>
                  <a:pt x="1445" y="334"/>
                </a:lnTo>
                <a:lnTo>
                  <a:pt x="1441" y="342"/>
                </a:lnTo>
                <a:lnTo>
                  <a:pt x="1434" y="351"/>
                </a:lnTo>
                <a:lnTo>
                  <a:pt x="1428" y="360"/>
                </a:lnTo>
                <a:lnTo>
                  <a:pt x="1421" y="370"/>
                </a:lnTo>
                <a:lnTo>
                  <a:pt x="1414" y="380"/>
                </a:lnTo>
                <a:lnTo>
                  <a:pt x="1407" y="391"/>
                </a:lnTo>
                <a:lnTo>
                  <a:pt x="1402" y="397"/>
                </a:lnTo>
                <a:lnTo>
                  <a:pt x="1399" y="404"/>
                </a:lnTo>
                <a:lnTo>
                  <a:pt x="1395" y="413"/>
                </a:lnTo>
                <a:lnTo>
                  <a:pt x="1392" y="422"/>
                </a:lnTo>
                <a:lnTo>
                  <a:pt x="1388" y="430"/>
                </a:lnTo>
                <a:lnTo>
                  <a:pt x="1385" y="442"/>
                </a:lnTo>
                <a:lnTo>
                  <a:pt x="1382" y="453"/>
                </a:lnTo>
                <a:lnTo>
                  <a:pt x="1379" y="466"/>
                </a:lnTo>
                <a:lnTo>
                  <a:pt x="1376" y="479"/>
                </a:lnTo>
                <a:lnTo>
                  <a:pt x="1373" y="494"/>
                </a:lnTo>
                <a:lnTo>
                  <a:pt x="1371" y="509"/>
                </a:lnTo>
                <a:lnTo>
                  <a:pt x="1369" y="525"/>
                </a:lnTo>
                <a:lnTo>
                  <a:pt x="1366" y="542"/>
                </a:lnTo>
                <a:lnTo>
                  <a:pt x="1365" y="561"/>
                </a:lnTo>
                <a:lnTo>
                  <a:pt x="1362" y="580"/>
                </a:lnTo>
                <a:lnTo>
                  <a:pt x="1360" y="600"/>
                </a:lnTo>
                <a:lnTo>
                  <a:pt x="1359" y="622"/>
                </a:lnTo>
                <a:lnTo>
                  <a:pt x="1358" y="643"/>
                </a:lnTo>
                <a:lnTo>
                  <a:pt x="1358" y="666"/>
                </a:lnTo>
                <a:lnTo>
                  <a:pt x="1356" y="691"/>
                </a:lnTo>
                <a:lnTo>
                  <a:pt x="1356" y="715"/>
                </a:lnTo>
                <a:lnTo>
                  <a:pt x="1355" y="743"/>
                </a:lnTo>
                <a:lnTo>
                  <a:pt x="1355" y="768"/>
                </a:lnTo>
                <a:lnTo>
                  <a:pt x="1355" y="797"/>
                </a:lnTo>
                <a:lnTo>
                  <a:pt x="1355" y="826"/>
                </a:lnTo>
                <a:lnTo>
                  <a:pt x="1356" y="856"/>
                </a:lnTo>
                <a:lnTo>
                  <a:pt x="1356" y="888"/>
                </a:lnTo>
                <a:lnTo>
                  <a:pt x="1358" y="920"/>
                </a:lnTo>
                <a:lnTo>
                  <a:pt x="1359" y="953"/>
                </a:lnTo>
                <a:lnTo>
                  <a:pt x="1360" y="987"/>
                </a:lnTo>
                <a:lnTo>
                  <a:pt x="1362" y="1022"/>
                </a:lnTo>
                <a:lnTo>
                  <a:pt x="1363" y="1059"/>
                </a:lnTo>
                <a:lnTo>
                  <a:pt x="1363" y="1131"/>
                </a:lnTo>
                <a:lnTo>
                  <a:pt x="1363" y="1167"/>
                </a:lnTo>
                <a:lnTo>
                  <a:pt x="1363" y="1203"/>
                </a:lnTo>
                <a:lnTo>
                  <a:pt x="1363" y="1238"/>
                </a:lnTo>
                <a:lnTo>
                  <a:pt x="1363" y="1272"/>
                </a:lnTo>
                <a:lnTo>
                  <a:pt x="1363" y="1307"/>
                </a:lnTo>
                <a:lnTo>
                  <a:pt x="1363" y="1341"/>
                </a:lnTo>
                <a:lnTo>
                  <a:pt x="1363" y="1375"/>
                </a:lnTo>
                <a:lnTo>
                  <a:pt x="1365" y="1409"/>
                </a:lnTo>
                <a:lnTo>
                  <a:pt x="1365" y="1441"/>
                </a:lnTo>
                <a:lnTo>
                  <a:pt x="1365" y="1474"/>
                </a:lnTo>
                <a:lnTo>
                  <a:pt x="1365" y="1506"/>
                </a:lnTo>
                <a:lnTo>
                  <a:pt x="1365" y="1539"/>
                </a:lnTo>
                <a:lnTo>
                  <a:pt x="1366" y="1569"/>
                </a:lnTo>
                <a:lnTo>
                  <a:pt x="1366" y="1601"/>
                </a:lnTo>
                <a:lnTo>
                  <a:pt x="1366" y="1631"/>
                </a:lnTo>
                <a:lnTo>
                  <a:pt x="1368" y="1661"/>
                </a:lnTo>
                <a:lnTo>
                  <a:pt x="1368" y="1691"/>
                </a:lnTo>
                <a:lnTo>
                  <a:pt x="1369" y="1720"/>
                </a:lnTo>
                <a:lnTo>
                  <a:pt x="1369" y="1749"/>
                </a:lnTo>
                <a:lnTo>
                  <a:pt x="1371" y="1778"/>
                </a:lnTo>
                <a:lnTo>
                  <a:pt x="1372" y="1806"/>
                </a:lnTo>
                <a:lnTo>
                  <a:pt x="1373" y="1834"/>
                </a:lnTo>
                <a:lnTo>
                  <a:pt x="1373" y="1861"/>
                </a:lnTo>
                <a:lnTo>
                  <a:pt x="1375" y="1887"/>
                </a:lnTo>
                <a:lnTo>
                  <a:pt x="1376" y="1914"/>
                </a:lnTo>
                <a:lnTo>
                  <a:pt x="1378" y="1940"/>
                </a:lnTo>
                <a:lnTo>
                  <a:pt x="1379" y="1965"/>
                </a:lnTo>
                <a:lnTo>
                  <a:pt x="1381" y="1991"/>
                </a:lnTo>
                <a:lnTo>
                  <a:pt x="1384" y="2015"/>
                </a:lnTo>
                <a:lnTo>
                  <a:pt x="1385" y="2040"/>
                </a:lnTo>
                <a:lnTo>
                  <a:pt x="1389" y="2086"/>
                </a:lnTo>
                <a:lnTo>
                  <a:pt x="1392" y="2133"/>
                </a:lnTo>
                <a:lnTo>
                  <a:pt x="1395" y="2178"/>
                </a:lnTo>
                <a:lnTo>
                  <a:pt x="1396" y="2223"/>
                </a:lnTo>
                <a:lnTo>
                  <a:pt x="1398" y="2266"/>
                </a:lnTo>
                <a:lnTo>
                  <a:pt x="1399" y="2307"/>
                </a:lnTo>
                <a:lnTo>
                  <a:pt x="1401" y="2348"/>
                </a:lnTo>
                <a:lnTo>
                  <a:pt x="1401" y="2387"/>
                </a:lnTo>
                <a:lnTo>
                  <a:pt x="1401" y="2424"/>
                </a:lnTo>
                <a:lnTo>
                  <a:pt x="1401" y="2443"/>
                </a:lnTo>
                <a:lnTo>
                  <a:pt x="1399" y="2462"/>
                </a:lnTo>
                <a:lnTo>
                  <a:pt x="1399" y="2479"/>
                </a:lnTo>
                <a:lnTo>
                  <a:pt x="1398" y="2496"/>
                </a:lnTo>
                <a:lnTo>
                  <a:pt x="1398" y="2513"/>
                </a:lnTo>
                <a:lnTo>
                  <a:pt x="1396" y="2529"/>
                </a:lnTo>
                <a:lnTo>
                  <a:pt x="1395" y="2545"/>
                </a:lnTo>
                <a:lnTo>
                  <a:pt x="1395" y="2561"/>
                </a:lnTo>
                <a:lnTo>
                  <a:pt x="1394" y="2577"/>
                </a:lnTo>
                <a:lnTo>
                  <a:pt x="1392" y="2591"/>
                </a:lnTo>
                <a:lnTo>
                  <a:pt x="1391" y="2605"/>
                </a:lnTo>
                <a:lnTo>
                  <a:pt x="1389" y="2620"/>
                </a:lnTo>
                <a:lnTo>
                  <a:pt x="1386" y="2633"/>
                </a:lnTo>
                <a:lnTo>
                  <a:pt x="1385" y="2647"/>
                </a:lnTo>
                <a:lnTo>
                  <a:pt x="1381" y="2672"/>
                </a:lnTo>
                <a:lnTo>
                  <a:pt x="1375" y="2698"/>
                </a:lnTo>
                <a:lnTo>
                  <a:pt x="1369" y="2722"/>
                </a:lnTo>
                <a:lnTo>
                  <a:pt x="1362" y="2745"/>
                </a:lnTo>
                <a:lnTo>
                  <a:pt x="1353" y="2770"/>
                </a:lnTo>
                <a:lnTo>
                  <a:pt x="1345" y="2791"/>
                </a:lnTo>
                <a:lnTo>
                  <a:pt x="1336" y="2814"/>
                </a:lnTo>
                <a:lnTo>
                  <a:pt x="1326" y="2836"/>
                </a:lnTo>
                <a:lnTo>
                  <a:pt x="1316" y="2856"/>
                </a:lnTo>
                <a:lnTo>
                  <a:pt x="1304" y="2876"/>
                </a:lnTo>
                <a:lnTo>
                  <a:pt x="1293" y="2895"/>
                </a:lnTo>
                <a:lnTo>
                  <a:pt x="1281" y="2914"/>
                </a:lnTo>
                <a:lnTo>
                  <a:pt x="1270" y="2932"/>
                </a:lnTo>
                <a:lnTo>
                  <a:pt x="1258" y="2948"/>
                </a:lnTo>
                <a:lnTo>
                  <a:pt x="1245" y="2964"/>
                </a:lnTo>
                <a:lnTo>
                  <a:pt x="1234" y="2980"/>
                </a:lnTo>
                <a:lnTo>
                  <a:pt x="1222" y="2994"/>
                </a:lnTo>
                <a:lnTo>
                  <a:pt x="1209" y="3007"/>
                </a:lnTo>
                <a:lnTo>
                  <a:pt x="1198" y="3020"/>
                </a:lnTo>
                <a:lnTo>
                  <a:pt x="1185" y="3032"/>
                </a:lnTo>
                <a:lnTo>
                  <a:pt x="1173" y="3042"/>
                </a:lnTo>
                <a:lnTo>
                  <a:pt x="1162" y="3052"/>
                </a:lnTo>
                <a:lnTo>
                  <a:pt x="1150" y="3060"/>
                </a:lnTo>
                <a:lnTo>
                  <a:pt x="1139" y="3069"/>
                </a:lnTo>
                <a:lnTo>
                  <a:pt x="1127" y="3075"/>
                </a:lnTo>
                <a:lnTo>
                  <a:pt x="1117" y="3082"/>
                </a:lnTo>
                <a:lnTo>
                  <a:pt x="1107" y="3086"/>
                </a:lnTo>
                <a:lnTo>
                  <a:pt x="1097" y="3091"/>
                </a:lnTo>
                <a:lnTo>
                  <a:pt x="1087" y="3094"/>
                </a:lnTo>
                <a:lnTo>
                  <a:pt x="1077" y="3096"/>
                </a:lnTo>
                <a:lnTo>
                  <a:pt x="1068" y="3098"/>
                </a:lnTo>
                <a:lnTo>
                  <a:pt x="1061" y="3098"/>
                </a:lnTo>
                <a:lnTo>
                  <a:pt x="1052" y="3098"/>
                </a:lnTo>
                <a:lnTo>
                  <a:pt x="1045" y="3095"/>
                </a:lnTo>
                <a:lnTo>
                  <a:pt x="1038" y="3092"/>
                </a:lnTo>
                <a:lnTo>
                  <a:pt x="1032" y="3088"/>
                </a:lnTo>
                <a:lnTo>
                  <a:pt x="1025" y="3081"/>
                </a:lnTo>
                <a:lnTo>
                  <a:pt x="1019" y="3073"/>
                </a:lnTo>
                <a:lnTo>
                  <a:pt x="1014" y="3066"/>
                </a:lnTo>
                <a:lnTo>
                  <a:pt x="1009" y="3056"/>
                </a:lnTo>
                <a:lnTo>
                  <a:pt x="1003" y="3046"/>
                </a:lnTo>
                <a:lnTo>
                  <a:pt x="999" y="3033"/>
                </a:lnTo>
                <a:lnTo>
                  <a:pt x="995" y="3020"/>
                </a:lnTo>
                <a:lnTo>
                  <a:pt x="990" y="3007"/>
                </a:lnTo>
                <a:lnTo>
                  <a:pt x="986" y="2991"/>
                </a:lnTo>
                <a:lnTo>
                  <a:pt x="982" y="2975"/>
                </a:lnTo>
                <a:lnTo>
                  <a:pt x="978" y="2958"/>
                </a:lnTo>
                <a:lnTo>
                  <a:pt x="975" y="2941"/>
                </a:lnTo>
                <a:lnTo>
                  <a:pt x="969" y="2922"/>
                </a:lnTo>
                <a:lnTo>
                  <a:pt x="963" y="2903"/>
                </a:lnTo>
                <a:lnTo>
                  <a:pt x="957" y="2885"/>
                </a:lnTo>
                <a:lnTo>
                  <a:pt x="949" y="2865"/>
                </a:lnTo>
                <a:lnTo>
                  <a:pt x="940" y="2844"/>
                </a:lnTo>
                <a:lnTo>
                  <a:pt x="929" y="2824"/>
                </a:lnTo>
                <a:lnTo>
                  <a:pt x="923" y="2814"/>
                </a:lnTo>
                <a:lnTo>
                  <a:pt x="917" y="2804"/>
                </a:lnTo>
                <a:lnTo>
                  <a:pt x="910" y="2794"/>
                </a:lnTo>
                <a:lnTo>
                  <a:pt x="903" y="2784"/>
                </a:lnTo>
                <a:lnTo>
                  <a:pt x="895" y="2774"/>
                </a:lnTo>
                <a:lnTo>
                  <a:pt x="888" y="2764"/>
                </a:lnTo>
                <a:lnTo>
                  <a:pt x="880" y="2754"/>
                </a:lnTo>
                <a:lnTo>
                  <a:pt x="871" y="2744"/>
                </a:lnTo>
                <a:lnTo>
                  <a:pt x="862" y="2734"/>
                </a:lnTo>
                <a:lnTo>
                  <a:pt x="854" y="2724"/>
                </a:lnTo>
                <a:lnTo>
                  <a:pt x="844" y="2715"/>
                </a:lnTo>
                <a:lnTo>
                  <a:pt x="834" y="2705"/>
                </a:lnTo>
                <a:lnTo>
                  <a:pt x="822" y="2695"/>
                </a:lnTo>
                <a:lnTo>
                  <a:pt x="812" y="2685"/>
                </a:lnTo>
                <a:lnTo>
                  <a:pt x="800" y="2675"/>
                </a:lnTo>
                <a:lnTo>
                  <a:pt x="789" y="2665"/>
                </a:lnTo>
                <a:lnTo>
                  <a:pt x="776" y="2656"/>
                </a:lnTo>
                <a:lnTo>
                  <a:pt x="763" y="2646"/>
                </a:lnTo>
                <a:lnTo>
                  <a:pt x="750" y="2637"/>
                </a:lnTo>
                <a:lnTo>
                  <a:pt x="736" y="26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76"/>
          <p:cNvSpPr/>
          <p:nvPr/>
        </p:nvSpPr>
        <p:spPr>
          <a:xfrm>
            <a:off x="6805440" y="3963960"/>
            <a:ext cx="462240" cy="119160"/>
          </a:xfrm>
          <a:custGeom>
            <a:avLst/>
            <a:gdLst/>
            <a:ahLst/>
            <a:rect l="l" t="t" r="r" b="b"/>
            <a:pathLst>
              <a:path w="871" h="224">
                <a:moveTo>
                  <a:pt x="865" y="106"/>
                </a:moveTo>
                <a:lnTo>
                  <a:pt x="867" y="110"/>
                </a:lnTo>
                <a:lnTo>
                  <a:pt x="868" y="113"/>
                </a:lnTo>
                <a:lnTo>
                  <a:pt x="870" y="116"/>
                </a:lnTo>
                <a:lnTo>
                  <a:pt x="871" y="120"/>
                </a:lnTo>
                <a:lnTo>
                  <a:pt x="871" y="123"/>
                </a:lnTo>
                <a:lnTo>
                  <a:pt x="871" y="126"/>
                </a:lnTo>
                <a:lnTo>
                  <a:pt x="870" y="129"/>
                </a:lnTo>
                <a:lnTo>
                  <a:pt x="870" y="132"/>
                </a:lnTo>
                <a:lnTo>
                  <a:pt x="868" y="135"/>
                </a:lnTo>
                <a:lnTo>
                  <a:pt x="867" y="138"/>
                </a:lnTo>
                <a:lnTo>
                  <a:pt x="865" y="141"/>
                </a:lnTo>
                <a:lnTo>
                  <a:pt x="862" y="144"/>
                </a:lnTo>
                <a:lnTo>
                  <a:pt x="859" y="145"/>
                </a:lnTo>
                <a:lnTo>
                  <a:pt x="857" y="148"/>
                </a:lnTo>
                <a:lnTo>
                  <a:pt x="852" y="151"/>
                </a:lnTo>
                <a:lnTo>
                  <a:pt x="849" y="152"/>
                </a:lnTo>
                <a:lnTo>
                  <a:pt x="845" y="155"/>
                </a:lnTo>
                <a:lnTo>
                  <a:pt x="841" y="156"/>
                </a:lnTo>
                <a:lnTo>
                  <a:pt x="835" y="159"/>
                </a:lnTo>
                <a:lnTo>
                  <a:pt x="829" y="161"/>
                </a:lnTo>
                <a:lnTo>
                  <a:pt x="824" y="164"/>
                </a:lnTo>
                <a:lnTo>
                  <a:pt x="818" y="165"/>
                </a:lnTo>
                <a:lnTo>
                  <a:pt x="812" y="168"/>
                </a:lnTo>
                <a:lnTo>
                  <a:pt x="805" y="169"/>
                </a:lnTo>
                <a:lnTo>
                  <a:pt x="798" y="171"/>
                </a:lnTo>
                <a:lnTo>
                  <a:pt x="789" y="174"/>
                </a:lnTo>
                <a:lnTo>
                  <a:pt x="782" y="175"/>
                </a:lnTo>
                <a:lnTo>
                  <a:pt x="773" y="177"/>
                </a:lnTo>
                <a:lnTo>
                  <a:pt x="764" y="180"/>
                </a:lnTo>
                <a:lnTo>
                  <a:pt x="756" y="181"/>
                </a:lnTo>
                <a:lnTo>
                  <a:pt x="746" y="182"/>
                </a:lnTo>
                <a:lnTo>
                  <a:pt x="736" y="185"/>
                </a:lnTo>
                <a:lnTo>
                  <a:pt x="726" y="187"/>
                </a:lnTo>
                <a:lnTo>
                  <a:pt x="714" y="188"/>
                </a:lnTo>
                <a:lnTo>
                  <a:pt x="703" y="190"/>
                </a:lnTo>
                <a:lnTo>
                  <a:pt x="690" y="192"/>
                </a:lnTo>
                <a:lnTo>
                  <a:pt x="675" y="194"/>
                </a:lnTo>
                <a:lnTo>
                  <a:pt x="661" y="195"/>
                </a:lnTo>
                <a:lnTo>
                  <a:pt x="646" y="197"/>
                </a:lnTo>
                <a:lnTo>
                  <a:pt x="631" y="200"/>
                </a:lnTo>
                <a:lnTo>
                  <a:pt x="613" y="201"/>
                </a:lnTo>
                <a:lnTo>
                  <a:pt x="596" y="203"/>
                </a:lnTo>
                <a:lnTo>
                  <a:pt x="577" y="204"/>
                </a:lnTo>
                <a:lnTo>
                  <a:pt x="559" y="205"/>
                </a:lnTo>
                <a:lnTo>
                  <a:pt x="538" y="207"/>
                </a:lnTo>
                <a:lnTo>
                  <a:pt x="517" y="208"/>
                </a:lnTo>
                <a:lnTo>
                  <a:pt x="495" y="210"/>
                </a:lnTo>
                <a:lnTo>
                  <a:pt x="474" y="211"/>
                </a:lnTo>
                <a:lnTo>
                  <a:pt x="451" y="213"/>
                </a:lnTo>
                <a:lnTo>
                  <a:pt x="426" y="214"/>
                </a:lnTo>
                <a:lnTo>
                  <a:pt x="402" y="215"/>
                </a:lnTo>
                <a:lnTo>
                  <a:pt x="376" y="217"/>
                </a:lnTo>
                <a:lnTo>
                  <a:pt x="348" y="217"/>
                </a:lnTo>
                <a:lnTo>
                  <a:pt x="321" y="218"/>
                </a:lnTo>
                <a:lnTo>
                  <a:pt x="294" y="220"/>
                </a:lnTo>
                <a:lnTo>
                  <a:pt x="263" y="220"/>
                </a:lnTo>
                <a:lnTo>
                  <a:pt x="235" y="221"/>
                </a:lnTo>
                <a:lnTo>
                  <a:pt x="203" y="221"/>
                </a:lnTo>
                <a:lnTo>
                  <a:pt x="171" y="223"/>
                </a:lnTo>
                <a:lnTo>
                  <a:pt x="140" y="223"/>
                </a:lnTo>
                <a:lnTo>
                  <a:pt x="105" y="223"/>
                </a:lnTo>
                <a:lnTo>
                  <a:pt x="72" y="223"/>
                </a:lnTo>
                <a:lnTo>
                  <a:pt x="36" y="223"/>
                </a:lnTo>
                <a:lnTo>
                  <a:pt x="0" y="224"/>
                </a:lnTo>
                <a:lnTo>
                  <a:pt x="0" y="145"/>
                </a:lnTo>
                <a:lnTo>
                  <a:pt x="0" y="67"/>
                </a:lnTo>
                <a:lnTo>
                  <a:pt x="20" y="66"/>
                </a:lnTo>
                <a:lnTo>
                  <a:pt x="42" y="66"/>
                </a:lnTo>
                <a:lnTo>
                  <a:pt x="65" y="64"/>
                </a:lnTo>
                <a:lnTo>
                  <a:pt x="88" y="63"/>
                </a:lnTo>
                <a:lnTo>
                  <a:pt x="112" y="61"/>
                </a:lnTo>
                <a:lnTo>
                  <a:pt x="137" y="60"/>
                </a:lnTo>
                <a:lnTo>
                  <a:pt x="163" y="57"/>
                </a:lnTo>
                <a:lnTo>
                  <a:pt x="189" y="54"/>
                </a:lnTo>
                <a:lnTo>
                  <a:pt x="216" y="51"/>
                </a:lnTo>
                <a:lnTo>
                  <a:pt x="243" y="48"/>
                </a:lnTo>
                <a:lnTo>
                  <a:pt x="271" y="46"/>
                </a:lnTo>
                <a:lnTo>
                  <a:pt x="298" y="43"/>
                </a:lnTo>
                <a:lnTo>
                  <a:pt x="354" y="36"/>
                </a:lnTo>
                <a:lnTo>
                  <a:pt x="412" y="28"/>
                </a:lnTo>
                <a:lnTo>
                  <a:pt x="439" y="24"/>
                </a:lnTo>
                <a:lnTo>
                  <a:pt x="466" y="20"/>
                </a:lnTo>
                <a:lnTo>
                  <a:pt x="491" y="17"/>
                </a:lnTo>
                <a:lnTo>
                  <a:pt x="517" y="14"/>
                </a:lnTo>
                <a:lnTo>
                  <a:pt x="540" y="10"/>
                </a:lnTo>
                <a:lnTo>
                  <a:pt x="563" y="7"/>
                </a:lnTo>
                <a:lnTo>
                  <a:pt x="585" y="5"/>
                </a:lnTo>
                <a:lnTo>
                  <a:pt x="606" y="2"/>
                </a:lnTo>
                <a:lnTo>
                  <a:pt x="626" y="1"/>
                </a:lnTo>
                <a:lnTo>
                  <a:pt x="645" y="0"/>
                </a:lnTo>
                <a:lnTo>
                  <a:pt x="662" y="0"/>
                </a:lnTo>
                <a:lnTo>
                  <a:pt x="680" y="0"/>
                </a:lnTo>
                <a:lnTo>
                  <a:pt x="694" y="1"/>
                </a:lnTo>
                <a:lnTo>
                  <a:pt x="710" y="2"/>
                </a:lnTo>
                <a:lnTo>
                  <a:pt x="723" y="5"/>
                </a:lnTo>
                <a:lnTo>
                  <a:pt x="736" y="8"/>
                </a:lnTo>
                <a:lnTo>
                  <a:pt x="747" y="13"/>
                </a:lnTo>
                <a:lnTo>
                  <a:pt x="759" y="17"/>
                </a:lnTo>
                <a:lnTo>
                  <a:pt x="770" y="21"/>
                </a:lnTo>
                <a:lnTo>
                  <a:pt x="780" y="25"/>
                </a:lnTo>
                <a:lnTo>
                  <a:pt x="790" y="31"/>
                </a:lnTo>
                <a:lnTo>
                  <a:pt x="799" y="37"/>
                </a:lnTo>
                <a:lnTo>
                  <a:pt x="809" y="43"/>
                </a:lnTo>
                <a:lnTo>
                  <a:pt x="816" y="50"/>
                </a:lnTo>
                <a:lnTo>
                  <a:pt x="825" y="56"/>
                </a:lnTo>
                <a:lnTo>
                  <a:pt x="832" y="63"/>
                </a:lnTo>
                <a:lnTo>
                  <a:pt x="839" y="70"/>
                </a:lnTo>
                <a:lnTo>
                  <a:pt x="845" y="77"/>
                </a:lnTo>
                <a:lnTo>
                  <a:pt x="851" y="84"/>
                </a:lnTo>
                <a:lnTo>
                  <a:pt x="857" y="92"/>
                </a:lnTo>
                <a:lnTo>
                  <a:pt x="861" y="99"/>
                </a:lnTo>
                <a:lnTo>
                  <a:pt x="865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77"/>
          <p:cNvSpPr/>
          <p:nvPr/>
        </p:nvSpPr>
        <p:spPr>
          <a:xfrm>
            <a:off x="6783480" y="4311720"/>
            <a:ext cx="515880" cy="123840"/>
          </a:xfrm>
          <a:custGeom>
            <a:avLst/>
            <a:gdLst/>
            <a:ahLst/>
            <a:rect l="l" t="t" r="r" b="b"/>
            <a:pathLst>
              <a:path w="974" h="235">
                <a:moveTo>
                  <a:pt x="0" y="98"/>
                </a:moveTo>
                <a:lnTo>
                  <a:pt x="36" y="92"/>
                </a:lnTo>
                <a:lnTo>
                  <a:pt x="70" y="86"/>
                </a:lnTo>
                <a:lnTo>
                  <a:pt x="105" y="81"/>
                </a:lnTo>
                <a:lnTo>
                  <a:pt x="138" y="76"/>
                </a:lnTo>
                <a:lnTo>
                  <a:pt x="171" y="71"/>
                </a:lnTo>
                <a:lnTo>
                  <a:pt x="203" y="66"/>
                </a:lnTo>
                <a:lnTo>
                  <a:pt x="233" y="62"/>
                </a:lnTo>
                <a:lnTo>
                  <a:pt x="262" y="56"/>
                </a:lnTo>
                <a:lnTo>
                  <a:pt x="292" y="52"/>
                </a:lnTo>
                <a:lnTo>
                  <a:pt x="319" y="48"/>
                </a:lnTo>
                <a:lnTo>
                  <a:pt x="347" y="45"/>
                </a:lnTo>
                <a:lnTo>
                  <a:pt x="373" y="40"/>
                </a:lnTo>
                <a:lnTo>
                  <a:pt x="397" y="36"/>
                </a:lnTo>
                <a:lnTo>
                  <a:pt x="422" y="33"/>
                </a:lnTo>
                <a:lnTo>
                  <a:pt x="445" y="29"/>
                </a:lnTo>
                <a:lnTo>
                  <a:pt x="468" y="26"/>
                </a:lnTo>
                <a:lnTo>
                  <a:pt x="488" y="23"/>
                </a:lnTo>
                <a:lnTo>
                  <a:pt x="509" y="20"/>
                </a:lnTo>
                <a:lnTo>
                  <a:pt x="528" y="17"/>
                </a:lnTo>
                <a:lnTo>
                  <a:pt x="547" y="14"/>
                </a:lnTo>
                <a:lnTo>
                  <a:pt x="564" y="12"/>
                </a:lnTo>
                <a:lnTo>
                  <a:pt x="581" y="10"/>
                </a:lnTo>
                <a:lnTo>
                  <a:pt x="596" y="9"/>
                </a:lnTo>
                <a:lnTo>
                  <a:pt x="612" y="6"/>
                </a:lnTo>
                <a:lnTo>
                  <a:pt x="625" y="4"/>
                </a:lnTo>
                <a:lnTo>
                  <a:pt x="638" y="3"/>
                </a:lnTo>
                <a:lnTo>
                  <a:pt x="649" y="1"/>
                </a:lnTo>
                <a:lnTo>
                  <a:pt x="659" y="1"/>
                </a:lnTo>
                <a:lnTo>
                  <a:pt x="669" y="0"/>
                </a:lnTo>
                <a:lnTo>
                  <a:pt x="678" y="0"/>
                </a:lnTo>
                <a:lnTo>
                  <a:pt x="685" y="0"/>
                </a:lnTo>
                <a:lnTo>
                  <a:pt x="692" y="0"/>
                </a:lnTo>
                <a:lnTo>
                  <a:pt x="717" y="0"/>
                </a:lnTo>
                <a:lnTo>
                  <a:pt x="741" y="0"/>
                </a:lnTo>
                <a:lnTo>
                  <a:pt x="766" y="0"/>
                </a:lnTo>
                <a:lnTo>
                  <a:pt x="790" y="1"/>
                </a:lnTo>
                <a:lnTo>
                  <a:pt x="813" y="4"/>
                </a:lnTo>
                <a:lnTo>
                  <a:pt x="826" y="6"/>
                </a:lnTo>
                <a:lnTo>
                  <a:pt x="838" y="7"/>
                </a:lnTo>
                <a:lnTo>
                  <a:pt x="851" y="10"/>
                </a:lnTo>
                <a:lnTo>
                  <a:pt x="862" y="12"/>
                </a:lnTo>
                <a:lnTo>
                  <a:pt x="875" y="16"/>
                </a:lnTo>
                <a:lnTo>
                  <a:pt x="887" y="19"/>
                </a:lnTo>
                <a:lnTo>
                  <a:pt x="898" y="23"/>
                </a:lnTo>
                <a:lnTo>
                  <a:pt x="910" y="26"/>
                </a:lnTo>
                <a:lnTo>
                  <a:pt x="918" y="30"/>
                </a:lnTo>
                <a:lnTo>
                  <a:pt x="927" y="33"/>
                </a:lnTo>
                <a:lnTo>
                  <a:pt x="936" y="37"/>
                </a:lnTo>
                <a:lnTo>
                  <a:pt x="943" y="40"/>
                </a:lnTo>
                <a:lnTo>
                  <a:pt x="949" y="45"/>
                </a:lnTo>
                <a:lnTo>
                  <a:pt x="954" y="49"/>
                </a:lnTo>
                <a:lnTo>
                  <a:pt x="959" y="52"/>
                </a:lnTo>
                <a:lnTo>
                  <a:pt x="963" y="56"/>
                </a:lnTo>
                <a:lnTo>
                  <a:pt x="967" y="59"/>
                </a:lnTo>
                <a:lnTo>
                  <a:pt x="969" y="63"/>
                </a:lnTo>
                <a:lnTo>
                  <a:pt x="972" y="66"/>
                </a:lnTo>
                <a:lnTo>
                  <a:pt x="973" y="71"/>
                </a:lnTo>
                <a:lnTo>
                  <a:pt x="973" y="73"/>
                </a:lnTo>
                <a:lnTo>
                  <a:pt x="974" y="78"/>
                </a:lnTo>
                <a:lnTo>
                  <a:pt x="973" y="82"/>
                </a:lnTo>
                <a:lnTo>
                  <a:pt x="972" y="86"/>
                </a:lnTo>
                <a:lnTo>
                  <a:pt x="969" y="91"/>
                </a:lnTo>
                <a:lnTo>
                  <a:pt x="966" y="95"/>
                </a:lnTo>
                <a:lnTo>
                  <a:pt x="962" y="101"/>
                </a:lnTo>
                <a:lnTo>
                  <a:pt x="956" y="107"/>
                </a:lnTo>
                <a:lnTo>
                  <a:pt x="949" y="112"/>
                </a:lnTo>
                <a:lnTo>
                  <a:pt x="941" y="120"/>
                </a:lnTo>
                <a:lnTo>
                  <a:pt x="933" y="125"/>
                </a:lnTo>
                <a:lnTo>
                  <a:pt x="923" y="132"/>
                </a:lnTo>
                <a:lnTo>
                  <a:pt x="913" y="140"/>
                </a:lnTo>
                <a:lnTo>
                  <a:pt x="900" y="147"/>
                </a:lnTo>
                <a:lnTo>
                  <a:pt x="888" y="154"/>
                </a:lnTo>
                <a:lnTo>
                  <a:pt x="874" y="161"/>
                </a:lnTo>
                <a:lnTo>
                  <a:pt x="859" y="168"/>
                </a:lnTo>
                <a:lnTo>
                  <a:pt x="843" y="176"/>
                </a:lnTo>
                <a:lnTo>
                  <a:pt x="833" y="180"/>
                </a:lnTo>
                <a:lnTo>
                  <a:pt x="822" y="183"/>
                </a:lnTo>
                <a:lnTo>
                  <a:pt x="809" y="186"/>
                </a:lnTo>
                <a:lnTo>
                  <a:pt x="795" y="190"/>
                </a:lnTo>
                <a:lnTo>
                  <a:pt x="780" y="193"/>
                </a:lnTo>
                <a:lnTo>
                  <a:pt x="764" y="196"/>
                </a:lnTo>
                <a:lnTo>
                  <a:pt x="748" y="199"/>
                </a:lnTo>
                <a:lnTo>
                  <a:pt x="730" y="202"/>
                </a:lnTo>
                <a:lnTo>
                  <a:pt x="711" y="204"/>
                </a:lnTo>
                <a:lnTo>
                  <a:pt x="691" y="207"/>
                </a:lnTo>
                <a:lnTo>
                  <a:pt x="671" y="209"/>
                </a:lnTo>
                <a:lnTo>
                  <a:pt x="649" y="212"/>
                </a:lnTo>
                <a:lnTo>
                  <a:pt x="626" y="215"/>
                </a:lnTo>
                <a:lnTo>
                  <a:pt x="602" y="216"/>
                </a:lnTo>
                <a:lnTo>
                  <a:pt x="577" y="219"/>
                </a:lnTo>
                <a:lnTo>
                  <a:pt x="551" y="220"/>
                </a:lnTo>
                <a:lnTo>
                  <a:pt x="524" y="222"/>
                </a:lnTo>
                <a:lnTo>
                  <a:pt x="497" y="223"/>
                </a:lnTo>
                <a:lnTo>
                  <a:pt x="468" y="225"/>
                </a:lnTo>
                <a:lnTo>
                  <a:pt x="437" y="226"/>
                </a:lnTo>
                <a:lnTo>
                  <a:pt x="407" y="228"/>
                </a:lnTo>
                <a:lnTo>
                  <a:pt x="374" y="229"/>
                </a:lnTo>
                <a:lnTo>
                  <a:pt x="342" y="230"/>
                </a:lnTo>
                <a:lnTo>
                  <a:pt x="308" y="230"/>
                </a:lnTo>
                <a:lnTo>
                  <a:pt x="273" y="232"/>
                </a:lnTo>
                <a:lnTo>
                  <a:pt x="237" y="233"/>
                </a:lnTo>
                <a:lnTo>
                  <a:pt x="200" y="233"/>
                </a:lnTo>
                <a:lnTo>
                  <a:pt x="161" y="233"/>
                </a:lnTo>
                <a:lnTo>
                  <a:pt x="122" y="235"/>
                </a:lnTo>
                <a:lnTo>
                  <a:pt x="82" y="235"/>
                </a:lnTo>
                <a:lnTo>
                  <a:pt x="42" y="235"/>
                </a:lnTo>
                <a:lnTo>
                  <a:pt x="0" y="235"/>
                </a:lnTo>
                <a:lnTo>
                  <a:pt x="0" y="166"/>
                </a:lnTo>
                <a:lnTo>
                  <a:pt x="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6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上部要紧凑；右下部横画宜长，托住右上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矩形 2"/>
          <p:cNvSpPr/>
          <p:nvPr/>
        </p:nvSpPr>
        <p:spPr>
          <a:xfrm>
            <a:off x="2192400" y="1825560"/>
            <a:ext cx="145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87"/>
          <p:cNvSpPr/>
          <p:nvPr/>
        </p:nvSpPr>
        <p:spPr>
          <a:xfrm>
            <a:off x="6381720" y="2987640"/>
            <a:ext cx="135000" cy="784440"/>
          </a:xfrm>
          <a:custGeom>
            <a:avLst/>
            <a:gdLst/>
            <a:ahLst/>
            <a:rect l="l" t="t" r="r" b="b"/>
            <a:pathLst>
              <a:path w="255" h="1482">
                <a:moveTo>
                  <a:pt x="255" y="35"/>
                </a:moveTo>
                <a:lnTo>
                  <a:pt x="255" y="114"/>
                </a:lnTo>
                <a:lnTo>
                  <a:pt x="255" y="192"/>
                </a:lnTo>
                <a:lnTo>
                  <a:pt x="253" y="265"/>
                </a:lnTo>
                <a:lnTo>
                  <a:pt x="253" y="337"/>
                </a:lnTo>
                <a:lnTo>
                  <a:pt x="253" y="408"/>
                </a:lnTo>
                <a:lnTo>
                  <a:pt x="253" y="474"/>
                </a:lnTo>
                <a:lnTo>
                  <a:pt x="253" y="539"/>
                </a:lnTo>
                <a:lnTo>
                  <a:pt x="253" y="602"/>
                </a:lnTo>
                <a:lnTo>
                  <a:pt x="253" y="661"/>
                </a:lnTo>
                <a:lnTo>
                  <a:pt x="253" y="719"/>
                </a:lnTo>
                <a:lnTo>
                  <a:pt x="253" y="775"/>
                </a:lnTo>
                <a:lnTo>
                  <a:pt x="253" y="826"/>
                </a:lnTo>
                <a:lnTo>
                  <a:pt x="253" y="877"/>
                </a:lnTo>
                <a:lnTo>
                  <a:pt x="252" y="926"/>
                </a:lnTo>
                <a:lnTo>
                  <a:pt x="252" y="970"/>
                </a:lnTo>
                <a:lnTo>
                  <a:pt x="252" y="1015"/>
                </a:lnTo>
                <a:lnTo>
                  <a:pt x="250" y="1055"/>
                </a:lnTo>
                <a:lnTo>
                  <a:pt x="250" y="1094"/>
                </a:lnTo>
                <a:lnTo>
                  <a:pt x="250" y="1130"/>
                </a:lnTo>
                <a:lnTo>
                  <a:pt x="249" y="1165"/>
                </a:lnTo>
                <a:lnTo>
                  <a:pt x="249" y="1196"/>
                </a:lnTo>
                <a:lnTo>
                  <a:pt x="247" y="1227"/>
                </a:lnTo>
                <a:lnTo>
                  <a:pt x="246" y="1253"/>
                </a:lnTo>
                <a:lnTo>
                  <a:pt x="246" y="1279"/>
                </a:lnTo>
                <a:lnTo>
                  <a:pt x="244" y="1302"/>
                </a:lnTo>
                <a:lnTo>
                  <a:pt x="243" y="1322"/>
                </a:lnTo>
                <a:lnTo>
                  <a:pt x="243" y="1339"/>
                </a:lnTo>
                <a:lnTo>
                  <a:pt x="242" y="1355"/>
                </a:lnTo>
                <a:lnTo>
                  <a:pt x="240" y="1369"/>
                </a:lnTo>
                <a:lnTo>
                  <a:pt x="239" y="1381"/>
                </a:lnTo>
                <a:lnTo>
                  <a:pt x="237" y="1389"/>
                </a:lnTo>
                <a:lnTo>
                  <a:pt x="236" y="1397"/>
                </a:lnTo>
                <a:lnTo>
                  <a:pt x="232" y="1408"/>
                </a:lnTo>
                <a:lnTo>
                  <a:pt x="229" y="1418"/>
                </a:lnTo>
                <a:lnTo>
                  <a:pt x="224" y="1428"/>
                </a:lnTo>
                <a:lnTo>
                  <a:pt x="221" y="1437"/>
                </a:lnTo>
                <a:lnTo>
                  <a:pt x="217" y="1444"/>
                </a:lnTo>
                <a:lnTo>
                  <a:pt x="214" y="1451"/>
                </a:lnTo>
                <a:lnTo>
                  <a:pt x="210" y="1457"/>
                </a:lnTo>
                <a:lnTo>
                  <a:pt x="207" y="1463"/>
                </a:lnTo>
                <a:lnTo>
                  <a:pt x="204" y="1467"/>
                </a:lnTo>
                <a:lnTo>
                  <a:pt x="200" y="1471"/>
                </a:lnTo>
                <a:lnTo>
                  <a:pt x="197" y="1474"/>
                </a:lnTo>
                <a:lnTo>
                  <a:pt x="193" y="1477"/>
                </a:lnTo>
                <a:lnTo>
                  <a:pt x="190" y="1479"/>
                </a:lnTo>
                <a:lnTo>
                  <a:pt x="185" y="1480"/>
                </a:lnTo>
                <a:lnTo>
                  <a:pt x="183" y="1480"/>
                </a:lnTo>
                <a:lnTo>
                  <a:pt x="180" y="1482"/>
                </a:lnTo>
                <a:lnTo>
                  <a:pt x="175" y="1480"/>
                </a:lnTo>
                <a:lnTo>
                  <a:pt x="172" y="1479"/>
                </a:lnTo>
                <a:lnTo>
                  <a:pt x="168" y="1476"/>
                </a:lnTo>
                <a:lnTo>
                  <a:pt x="165" y="1473"/>
                </a:lnTo>
                <a:lnTo>
                  <a:pt x="161" y="1469"/>
                </a:lnTo>
                <a:lnTo>
                  <a:pt x="158" y="1461"/>
                </a:lnTo>
                <a:lnTo>
                  <a:pt x="154" y="1456"/>
                </a:lnTo>
                <a:lnTo>
                  <a:pt x="151" y="1447"/>
                </a:lnTo>
                <a:lnTo>
                  <a:pt x="148" y="1437"/>
                </a:lnTo>
                <a:lnTo>
                  <a:pt x="144" y="1427"/>
                </a:lnTo>
                <a:lnTo>
                  <a:pt x="141" y="1415"/>
                </a:lnTo>
                <a:lnTo>
                  <a:pt x="136" y="1401"/>
                </a:lnTo>
                <a:lnTo>
                  <a:pt x="134" y="1387"/>
                </a:lnTo>
                <a:lnTo>
                  <a:pt x="129" y="1371"/>
                </a:lnTo>
                <a:lnTo>
                  <a:pt x="128" y="1362"/>
                </a:lnTo>
                <a:lnTo>
                  <a:pt x="126" y="1353"/>
                </a:lnTo>
                <a:lnTo>
                  <a:pt x="125" y="1343"/>
                </a:lnTo>
                <a:lnTo>
                  <a:pt x="124" y="1335"/>
                </a:lnTo>
                <a:lnTo>
                  <a:pt x="121" y="1326"/>
                </a:lnTo>
                <a:lnTo>
                  <a:pt x="119" y="1317"/>
                </a:lnTo>
                <a:lnTo>
                  <a:pt x="118" y="1307"/>
                </a:lnTo>
                <a:lnTo>
                  <a:pt x="116" y="1297"/>
                </a:lnTo>
                <a:lnTo>
                  <a:pt x="115" y="1286"/>
                </a:lnTo>
                <a:lnTo>
                  <a:pt x="112" y="1273"/>
                </a:lnTo>
                <a:lnTo>
                  <a:pt x="111" y="1261"/>
                </a:lnTo>
                <a:lnTo>
                  <a:pt x="109" y="1247"/>
                </a:lnTo>
                <a:lnTo>
                  <a:pt x="108" y="1234"/>
                </a:lnTo>
                <a:lnTo>
                  <a:pt x="106" y="1218"/>
                </a:lnTo>
                <a:lnTo>
                  <a:pt x="105" y="1202"/>
                </a:lnTo>
                <a:lnTo>
                  <a:pt x="103" y="1186"/>
                </a:lnTo>
                <a:lnTo>
                  <a:pt x="102" y="1169"/>
                </a:lnTo>
                <a:lnTo>
                  <a:pt x="100" y="1152"/>
                </a:lnTo>
                <a:lnTo>
                  <a:pt x="99" y="1133"/>
                </a:lnTo>
                <a:lnTo>
                  <a:pt x="98" y="1114"/>
                </a:lnTo>
                <a:lnTo>
                  <a:pt x="96" y="1094"/>
                </a:lnTo>
                <a:lnTo>
                  <a:pt x="95" y="1073"/>
                </a:lnTo>
                <a:lnTo>
                  <a:pt x="93" y="1053"/>
                </a:lnTo>
                <a:lnTo>
                  <a:pt x="92" y="1029"/>
                </a:lnTo>
                <a:lnTo>
                  <a:pt x="92" y="1006"/>
                </a:lnTo>
                <a:lnTo>
                  <a:pt x="90" y="983"/>
                </a:lnTo>
                <a:lnTo>
                  <a:pt x="89" y="959"/>
                </a:lnTo>
                <a:lnTo>
                  <a:pt x="89" y="933"/>
                </a:lnTo>
                <a:lnTo>
                  <a:pt x="88" y="907"/>
                </a:lnTo>
                <a:lnTo>
                  <a:pt x="88" y="881"/>
                </a:lnTo>
                <a:lnTo>
                  <a:pt x="86" y="854"/>
                </a:lnTo>
                <a:lnTo>
                  <a:pt x="86" y="825"/>
                </a:lnTo>
                <a:lnTo>
                  <a:pt x="86" y="796"/>
                </a:lnTo>
                <a:lnTo>
                  <a:pt x="86" y="767"/>
                </a:lnTo>
                <a:lnTo>
                  <a:pt x="86" y="737"/>
                </a:lnTo>
                <a:lnTo>
                  <a:pt x="86" y="706"/>
                </a:lnTo>
                <a:lnTo>
                  <a:pt x="85" y="674"/>
                </a:lnTo>
                <a:lnTo>
                  <a:pt x="85" y="645"/>
                </a:lnTo>
                <a:lnTo>
                  <a:pt x="85" y="615"/>
                </a:lnTo>
                <a:lnTo>
                  <a:pt x="85" y="586"/>
                </a:lnTo>
                <a:lnTo>
                  <a:pt x="85" y="559"/>
                </a:lnTo>
                <a:lnTo>
                  <a:pt x="83" y="533"/>
                </a:lnTo>
                <a:lnTo>
                  <a:pt x="83" y="507"/>
                </a:lnTo>
                <a:lnTo>
                  <a:pt x="82" y="481"/>
                </a:lnTo>
                <a:lnTo>
                  <a:pt x="80" y="457"/>
                </a:lnTo>
                <a:lnTo>
                  <a:pt x="80" y="433"/>
                </a:lnTo>
                <a:lnTo>
                  <a:pt x="79" y="410"/>
                </a:lnTo>
                <a:lnTo>
                  <a:pt x="77" y="389"/>
                </a:lnTo>
                <a:lnTo>
                  <a:pt x="76" y="369"/>
                </a:lnTo>
                <a:lnTo>
                  <a:pt x="75" y="349"/>
                </a:lnTo>
                <a:lnTo>
                  <a:pt x="73" y="328"/>
                </a:lnTo>
                <a:lnTo>
                  <a:pt x="72" y="310"/>
                </a:lnTo>
                <a:lnTo>
                  <a:pt x="70" y="292"/>
                </a:lnTo>
                <a:lnTo>
                  <a:pt x="67" y="275"/>
                </a:lnTo>
                <a:lnTo>
                  <a:pt x="66" y="259"/>
                </a:lnTo>
                <a:lnTo>
                  <a:pt x="63" y="243"/>
                </a:lnTo>
                <a:lnTo>
                  <a:pt x="62" y="229"/>
                </a:lnTo>
                <a:lnTo>
                  <a:pt x="59" y="215"/>
                </a:lnTo>
                <a:lnTo>
                  <a:pt x="57" y="202"/>
                </a:lnTo>
                <a:lnTo>
                  <a:pt x="54" y="190"/>
                </a:lnTo>
                <a:lnTo>
                  <a:pt x="52" y="179"/>
                </a:lnTo>
                <a:lnTo>
                  <a:pt x="49" y="167"/>
                </a:lnTo>
                <a:lnTo>
                  <a:pt x="46" y="157"/>
                </a:lnTo>
                <a:lnTo>
                  <a:pt x="43" y="148"/>
                </a:lnTo>
                <a:lnTo>
                  <a:pt x="40" y="140"/>
                </a:lnTo>
                <a:lnTo>
                  <a:pt x="37" y="133"/>
                </a:lnTo>
                <a:lnTo>
                  <a:pt x="33" y="125"/>
                </a:lnTo>
                <a:lnTo>
                  <a:pt x="30" y="120"/>
                </a:lnTo>
                <a:lnTo>
                  <a:pt x="23" y="111"/>
                </a:lnTo>
                <a:lnTo>
                  <a:pt x="17" y="104"/>
                </a:lnTo>
                <a:lnTo>
                  <a:pt x="13" y="95"/>
                </a:lnTo>
                <a:lnTo>
                  <a:pt x="8" y="88"/>
                </a:lnTo>
                <a:lnTo>
                  <a:pt x="5" y="81"/>
                </a:lnTo>
                <a:lnTo>
                  <a:pt x="3" y="72"/>
                </a:lnTo>
                <a:lnTo>
                  <a:pt x="1" y="65"/>
                </a:lnTo>
                <a:lnTo>
                  <a:pt x="0" y="59"/>
                </a:lnTo>
                <a:lnTo>
                  <a:pt x="0" y="52"/>
                </a:lnTo>
                <a:lnTo>
                  <a:pt x="0" y="45"/>
                </a:lnTo>
                <a:lnTo>
                  <a:pt x="0" y="39"/>
                </a:lnTo>
                <a:lnTo>
                  <a:pt x="1" y="33"/>
                </a:lnTo>
                <a:lnTo>
                  <a:pt x="3" y="27"/>
                </a:lnTo>
                <a:lnTo>
                  <a:pt x="5" y="23"/>
                </a:lnTo>
                <a:lnTo>
                  <a:pt x="8" y="17"/>
                </a:lnTo>
                <a:lnTo>
                  <a:pt x="11" y="15"/>
                </a:lnTo>
                <a:lnTo>
                  <a:pt x="13" y="12"/>
                </a:lnTo>
                <a:lnTo>
                  <a:pt x="16" y="10"/>
                </a:lnTo>
                <a:lnTo>
                  <a:pt x="18" y="9"/>
                </a:lnTo>
                <a:lnTo>
                  <a:pt x="21" y="7"/>
                </a:lnTo>
                <a:lnTo>
                  <a:pt x="26" y="6"/>
                </a:lnTo>
                <a:lnTo>
                  <a:pt x="29" y="4"/>
                </a:lnTo>
                <a:lnTo>
                  <a:pt x="34" y="3"/>
                </a:lnTo>
                <a:lnTo>
                  <a:pt x="39" y="3"/>
                </a:lnTo>
                <a:lnTo>
                  <a:pt x="44" y="2"/>
                </a:lnTo>
                <a:lnTo>
                  <a:pt x="49" y="2"/>
                </a:lnTo>
                <a:lnTo>
                  <a:pt x="56" y="0"/>
                </a:lnTo>
                <a:lnTo>
                  <a:pt x="62" y="0"/>
                </a:lnTo>
                <a:lnTo>
                  <a:pt x="76" y="0"/>
                </a:lnTo>
                <a:lnTo>
                  <a:pt x="90" y="0"/>
                </a:lnTo>
                <a:lnTo>
                  <a:pt x="106" y="2"/>
                </a:lnTo>
                <a:lnTo>
                  <a:pt x="125" y="4"/>
                </a:lnTo>
                <a:lnTo>
                  <a:pt x="144" y="7"/>
                </a:lnTo>
                <a:lnTo>
                  <a:pt x="164" y="10"/>
                </a:lnTo>
                <a:lnTo>
                  <a:pt x="184" y="15"/>
                </a:lnTo>
                <a:lnTo>
                  <a:pt x="207" y="20"/>
                </a:lnTo>
                <a:lnTo>
                  <a:pt x="230" y="27"/>
                </a:lnTo>
                <a:lnTo>
                  <a:pt x="255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88"/>
          <p:cNvSpPr/>
          <p:nvPr/>
        </p:nvSpPr>
        <p:spPr>
          <a:xfrm>
            <a:off x="6465960" y="2917800"/>
            <a:ext cx="504720" cy="854280"/>
          </a:xfrm>
          <a:custGeom>
            <a:avLst/>
            <a:gdLst/>
            <a:ahLst/>
            <a:rect l="l" t="t" r="r" b="b"/>
            <a:pathLst>
              <a:path w="952" h="1614">
                <a:moveTo>
                  <a:pt x="708" y="691"/>
                </a:moveTo>
                <a:lnTo>
                  <a:pt x="708" y="666"/>
                </a:lnTo>
                <a:lnTo>
                  <a:pt x="708" y="640"/>
                </a:lnTo>
                <a:lnTo>
                  <a:pt x="708" y="617"/>
                </a:lnTo>
                <a:lnTo>
                  <a:pt x="707" y="594"/>
                </a:lnTo>
                <a:lnTo>
                  <a:pt x="707" y="571"/>
                </a:lnTo>
                <a:lnTo>
                  <a:pt x="707" y="550"/>
                </a:lnTo>
                <a:lnTo>
                  <a:pt x="705" y="528"/>
                </a:lnTo>
                <a:lnTo>
                  <a:pt x="705" y="506"/>
                </a:lnTo>
                <a:lnTo>
                  <a:pt x="704" y="486"/>
                </a:lnTo>
                <a:lnTo>
                  <a:pt x="704" y="468"/>
                </a:lnTo>
                <a:lnTo>
                  <a:pt x="702" y="449"/>
                </a:lnTo>
                <a:lnTo>
                  <a:pt x="701" y="432"/>
                </a:lnTo>
                <a:lnTo>
                  <a:pt x="700" y="414"/>
                </a:lnTo>
                <a:lnTo>
                  <a:pt x="700" y="397"/>
                </a:lnTo>
                <a:lnTo>
                  <a:pt x="698" y="381"/>
                </a:lnTo>
                <a:lnTo>
                  <a:pt x="697" y="367"/>
                </a:lnTo>
                <a:lnTo>
                  <a:pt x="695" y="352"/>
                </a:lnTo>
                <a:lnTo>
                  <a:pt x="694" y="338"/>
                </a:lnTo>
                <a:lnTo>
                  <a:pt x="692" y="325"/>
                </a:lnTo>
                <a:lnTo>
                  <a:pt x="691" y="314"/>
                </a:lnTo>
                <a:lnTo>
                  <a:pt x="690" y="302"/>
                </a:lnTo>
                <a:lnTo>
                  <a:pt x="688" y="292"/>
                </a:lnTo>
                <a:lnTo>
                  <a:pt x="687" y="282"/>
                </a:lnTo>
                <a:lnTo>
                  <a:pt x="685" y="273"/>
                </a:lnTo>
                <a:lnTo>
                  <a:pt x="682" y="265"/>
                </a:lnTo>
                <a:lnTo>
                  <a:pt x="681" y="257"/>
                </a:lnTo>
                <a:lnTo>
                  <a:pt x="679" y="250"/>
                </a:lnTo>
                <a:lnTo>
                  <a:pt x="678" y="244"/>
                </a:lnTo>
                <a:lnTo>
                  <a:pt x="677" y="240"/>
                </a:lnTo>
                <a:lnTo>
                  <a:pt x="674" y="236"/>
                </a:lnTo>
                <a:lnTo>
                  <a:pt x="672" y="233"/>
                </a:lnTo>
                <a:lnTo>
                  <a:pt x="671" y="230"/>
                </a:lnTo>
                <a:lnTo>
                  <a:pt x="667" y="229"/>
                </a:lnTo>
                <a:lnTo>
                  <a:pt x="664" y="227"/>
                </a:lnTo>
                <a:lnTo>
                  <a:pt x="658" y="226"/>
                </a:lnTo>
                <a:lnTo>
                  <a:pt x="654" y="224"/>
                </a:lnTo>
                <a:lnTo>
                  <a:pt x="648" y="223"/>
                </a:lnTo>
                <a:lnTo>
                  <a:pt x="642" y="223"/>
                </a:lnTo>
                <a:lnTo>
                  <a:pt x="636" y="221"/>
                </a:lnTo>
                <a:lnTo>
                  <a:pt x="629" y="221"/>
                </a:lnTo>
                <a:lnTo>
                  <a:pt x="622" y="221"/>
                </a:lnTo>
                <a:lnTo>
                  <a:pt x="615" y="221"/>
                </a:lnTo>
                <a:lnTo>
                  <a:pt x="606" y="221"/>
                </a:lnTo>
                <a:lnTo>
                  <a:pt x="599" y="221"/>
                </a:lnTo>
                <a:lnTo>
                  <a:pt x="590" y="221"/>
                </a:lnTo>
                <a:lnTo>
                  <a:pt x="580" y="223"/>
                </a:lnTo>
                <a:lnTo>
                  <a:pt x="571" y="223"/>
                </a:lnTo>
                <a:lnTo>
                  <a:pt x="561" y="224"/>
                </a:lnTo>
                <a:lnTo>
                  <a:pt x="551" y="226"/>
                </a:lnTo>
                <a:lnTo>
                  <a:pt x="540" y="227"/>
                </a:lnTo>
                <a:lnTo>
                  <a:pt x="530" y="227"/>
                </a:lnTo>
                <a:lnTo>
                  <a:pt x="518" y="229"/>
                </a:lnTo>
                <a:lnTo>
                  <a:pt x="507" y="230"/>
                </a:lnTo>
                <a:lnTo>
                  <a:pt x="494" y="231"/>
                </a:lnTo>
                <a:lnTo>
                  <a:pt x="482" y="234"/>
                </a:lnTo>
                <a:lnTo>
                  <a:pt x="469" y="236"/>
                </a:lnTo>
                <a:lnTo>
                  <a:pt x="442" y="239"/>
                </a:lnTo>
                <a:lnTo>
                  <a:pt x="415" y="243"/>
                </a:lnTo>
                <a:lnTo>
                  <a:pt x="384" y="247"/>
                </a:lnTo>
                <a:lnTo>
                  <a:pt x="354" y="252"/>
                </a:lnTo>
                <a:lnTo>
                  <a:pt x="322" y="255"/>
                </a:lnTo>
                <a:lnTo>
                  <a:pt x="292" y="259"/>
                </a:lnTo>
                <a:lnTo>
                  <a:pt x="263" y="263"/>
                </a:lnTo>
                <a:lnTo>
                  <a:pt x="235" y="266"/>
                </a:lnTo>
                <a:lnTo>
                  <a:pt x="209" y="270"/>
                </a:lnTo>
                <a:lnTo>
                  <a:pt x="183" y="273"/>
                </a:lnTo>
                <a:lnTo>
                  <a:pt x="158" y="276"/>
                </a:lnTo>
                <a:lnTo>
                  <a:pt x="134" y="279"/>
                </a:lnTo>
                <a:lnTo>
                  <a:pt x="112" y="282"/>
                </a:lnTo>
                <a:lnTo>
                  <a:pt x="92" y="285"/>
                </a:lnTo>
                <a:lnTo>
                  <a:pt x="82" y="286"/>
                </a:lnTo>
                <a:lnTo>
                  <a:pt x="72" y="288"/>
                </a:lnTo>
                <a:lnTo>
                  <a:pt x="63" y="288"/>
                </a:lnTo>
                <a:lnTo>
                  <a:pt x="55" y="289"/>
                </a:lnTo>
                <a:lnTo>
                  <a:pt x="46" y="291"/>
                </a:lnTo>
                <a:lnTo>
                  <a:pt x="39" y="291"/>
                </a:lnTo>
                <a:lnTo>
                  <a:pt x="30" y="292"/>
                </a:lnTo>
                <a:lnTo>
                  <a:pt x="24" y="292"/>
                </a:lnTo>
                <a:lnTo>
                  <a:pt x="17" y="292"/>
                </a:lnTo>
                <a:lnTo>
                  <a:pt x="10" y="292"/>
                </a:lnTo>
                <a:lnTo>
                  <a:pt x="4" y="292"/>
                </a:lnTo>
                <a:lnTo>
                  <a:pt x="0" y="293"/>
                </a:lnTo>
                <a:lnTo>
                  <a:pt x="0" y="230"/>
                </a:lnTo>
                <a:lnTo>
                  <a:pt x="0" y="167"/>
                </a:lnTo>
                <a:lnTo>
                  <a:pt x="17" y="167"/>
                </a:lnTo>
                <a:lnTo>
                  <a:pt x="36" y="165"/>
                </a:lnTo>
                <a:lnTo>
                  <a:pt x="56" y="165"/>
                </a:lnTo>
                <a:lnTo>
                  <a:pt x="76" y="162"/>
                </a:lnTo>
                <a:lnTo>
                  <a:pt x="96" y="161"/>
                </a:lnTo>
                <a:lnTo>
                  <a:pt x="118" y="158"/>
                </a:lnTo>
                <a:lnTo>
                  <a:pt x="140" y="155"/>
                </a:lnTo>
                <a:lnTo>
                  <a:pt x="163" y="151"/>
                </a:lnTo>
                <a:lnTo>
                  <a:pt x="186" y="147"/>
                </a:lnTo>
                <a:lnTo>
                  <a:pt x="209" y="142"/>
                </a:lnTo>
                <a:lnTo>
                  <a:pt x="232" y="138"/>
                </a:lnTo>
                <a:lnTo>
                  <a:pt x="256" y="132"/>
                </a:lnTo>
                <a:lnTo>
                  <a:pt x="281" y="125"/>
                </a:lnTo>
                <a:lnTo>
                  <a:pt x="305" y="119"/>
                </a:lnTo>
                <a:lnTo>
                  <a:pt x="330" y="112"/>
                </a:lnTo>
                <a:lnTo>
                  <a:pt x="354" y="105"/>
                </a:lnTo>
                <a:lnTo>
                  <a:pt x="377" y="100"/>
                </a:lnTo>
                <a:lnTo>
                  <a:pt x="400" y="95"/>
                </a:lnTo>
                <a:lnTo>
                  <a:pt x="423" y="90"/>
                </a:lnTo>
                <a:lnTo>
                  <a:pt x="443" y="85"/>
                </a:lnTo>
                <a:lnTo>
                  <a:pt x="464" y="79"/>
                </a:lnTo>
                <a:lnTo>
                  <a:pt x="484" y="73"/>
                </a:lnTo>
                <a:lnTo>
                  <a:pt x="501" y="67"/>
                </a:lnTo>
                <a:lnTo>
                  <a:pt x="517" y="62"/>
                </a:lnTo>
                <a:lnTo>
                  <a:pt x="533" y="56"/>
                </a:lnTo>
                <a:lnTo>
                  <a:pt x="546" y="50"/>
                </a:lnTo>
                <a:lnTo>
                  <a:pt x="553" y="47"/>
                </a:lnTo>
                <a:lnTo>
                  <a:pt x="559" y="44"/>
                </a:lnTo>
                <a:lnTo>
                  <a:pt x="564" y="41"/>
                </a:lnTo>
                <a:lnTo>
                  <a:pt x="569" y="39"/>
                </a:lnTo>
                <a:lnTo>
                  <a:pt x="574" y="37"/>
                </a:lnTo>
                <a:lnTo>
                  <a:pt x="579" y="34"/>
                </a:lnTo>
                <a:lnTo>
                  <a:pt x="582" y="31"/>
                </a:lnTo>
                <a:lnTo>
                  <a:pt x="586" y="28"/>
                </a:lnTo>
                <a:lnTo>
                  <a:pt x="589" y="27"/>
                </a:lnTo>
                <a:lnTo>
                  <a:pt x="592" y="24"/>
                </a:lnTo>
                <a:lnTo>
                  <a:pt x="595" y="21"/>
                </a:lnTo>
                <a:lnTo>
                  <a:pt x="596" y="20"/>
                </a:lnTo>
                <a:lnTo>
                  <a:pt x="600" y="16"/>
                </a:lnTo>
                <a:lnTo>
                  <a:pt x="603" y="13"/>
                </a:lnTo>
                <a:lnTo>
                  <a:pt x="609" y="10"/>
                </a:lnTo>
                <a:lnTo>
                  <a:pt x="613" y="8"/>
                </a:lnTo>
                <a:lnTo>
                  <a:pt x="619" y="5"/>
                </a:lnTo>
                <a:lnTo>
                  <a:pt x="623" y="4"/>
                </a:lnTo>
                <a:lnTo>
                  <a:pt x="636" y="1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90" y="0"/>
                </a:lnTo>
                <a:lnTo>
                  <a:pt x="697" y="0"/>
                </a:lnTo>
                <a:lnTo>
                  <a:pt x="704" y="0"/>
                </a:lnTo>
                <a:lnTo>
                  <a:pt x="713" y="1"/>
                </a:lnTo>
                <a:lnTo>
                  <a:pt x="721" y="3"/>
                </a:lnTo>
                <a:lnTo>
                  <a:pt x="730" y="5"/>
                </a:lnTo>
                <a:lnTo>
                  <a:pt x="740" y="8"/>
                </a:lnTo>
                <a:lnTo>
                  <a:pt x="750" y="13"/>
                </a:lnTo>
                <a:lnTo>
                  <a:pt x="760" y="17"/>
                </a:lnTo>
                <a:lnTo>
                  <a:pt x="770" y="23"/>
                </a:lnTo>
                <a:lnTo>
                  <a:pt x="782" y="28"/>
                </a:lnTo>
                <a:lnTo>
                  <a:pt x="793" y="36"/>
                </a:lnTo>
                <a:lnTo>
                  <a:pt x="805" y="43"/>
                </a:lnTo>
                <a:lnTo>
                  <a:pt x="818" y="52"/>
                </a:lnTo>
                <a:lnTo>
                  <a:pt x="831" y="62"/>
                </a:lnTo>
                <a:lnTo>
                  <a:pt x="844" y="72"/>
                </a:lnTo>
                <a:lnTo>
                  <a:pt x="858" y="83"/>
                </a:lnTo>
                <a:lnTo>
                  <a:pt x="868" y="95"/>
                </a:lnTo>
                <a:lnTo>
                  <a:pt x="877" y="106"/>
                </a:lnTo>
                <a:lnTo>
                  <a:pt x="887" y="116"/>
                </a:lnTo>
                <a:lnTo>
                  <a:pt x="895" y="126"/>
                </a:lnTo>
                <a:lnTo>
                  <a:pt x="904" y="136"/>
                </a:lnTo>
                <a:lnTo>
                  <a:pt x="911" y="145"/>
                </a:lnTo>
                <a:lnTo>
                  <a:pt x="918" y="154"/>
                </a:lnTo>
                <a:lnTo>
                  <a:pt x="924" y="162"/>
                </a:lnTo>
                <a:lnTo>
                  <a:pt x="931" y="170"/>
                </a:lnTo>
                <a:lnTo>
                  <a:pt x="936" y="177"/>
                </a:lnTo>
                <a:lnTo>
                  <a:pt x="940" y="183"/>
                </a:lnTo>
                <a:lnTo>
                  <a:pt x="944" y="190"/>
                </a:lnTo>
                <a:lnTo>
                  <a:pt x="947" y="195"/>
                </a:lnTo>
                <a:lnTo>
                  <a:pt x="949" y="200"/>
                </a:lnTo>
                <a:lnTo>
                  <a:pt x="950" y="206"/>
                </a:lnTo>
                <a:lnTo>
                  <a:pt x="952" y="210"/>
                </a:lnTo>
                <a:lnTo>
                  <a:pt x="950" y="217"/>
                </a:lnTo>
                <a:lnTo>
                  <a:pt x="950" y="224"/>
                </a:lnTo>
                <a:lnTo>
                  <a:pt x="950" y="233"/>
                </a:lnTo>
                <a:lnTo>
                  <a:pt x="949" y="240"/>
                </a:lnTo>
                <a:lnTo>
                  <a:pt x="946" y="247"/>
                </a:lnTo>
                <a:lnTo>
                  <a:pt x="943" y="256"/>
                </a:lnTo>
                <a:lnTo>
                  <a:pt x="939" y="263"/>
                </a:lnTo>
                <a:lnTo>
                  <a:pt x="936" y="267"/>
                </a:lnTo>
                <a:lnTo>
                  <a:pt x="933" y="272"/>
                </a:lnTo>
                <a:lnTo>
                  <a:pt x="930" y="275"/>
                </a:lnTo>
                <a:lnTo>
                  <a:pt x="929" y="278"/>
                </a:lnTo>
                <a:lnTo>
                  <a:pt x="927" y="280"/>
                </a:lnTo>
                <a:lnTo>
                  <a:pt x="926" y="286"/>
                </a:lnTo>
                <a:lnTo>
                  <a:pt x="923" y="291"/>
                </a:lnTo>
                <a:lnTo>
                  <a:pt x="921" y="296"/>
                </a:lnTo>
                <a:lnTo>
                  <a:pt x="920" y="303"/>
                </a:lnTo>
                <a:lnTo>
                  <a:pt x="918" y="311"/>
                </a:lnTo>
                <a:lnTo>
                  <a:pt x="917" y="319"/>
                </a:lnTo>
                <a:lnTo>
                  <a:pt x="916" y="328"/>
                </a:lnTo>
                <a:lnTo>
                  <a:pt x="914" y="338"/>
                </a:lnTo>
                <a:lnTo>
                  <a:pt x="913" y="348"/>
                </a:lnTo>
                <a:lnTo>
                  <a:pt x="911" y="360"/>
                </a:lnTo>
                <a:lnTo>
                  <a:pt x="910" y="371"/>
                </a:lnTo>
                <a:lnTo>
                  <a:pt x="908" y="384"/>
                </a:lnTo>
                <a:lnTo>
                  <a:pt x="907" y="397"/>
                </a:lnTo>
                <a:lnTo>
                  <a:pt x="905" y="411"/>
                </a:lnTo>
                <a:lnTo>
                  <a:pt x="904" y="426"/>
                </a:lnTo>
                <a:lnTo>
                  <a:pt x="903" y="442"/>
                </a:lnTo>
                <a:lnTo>
                  <a:pt x="901" y="459"/>
                </a:lnTo>
                <a:lnTo>
                  <a:pt x="901" y="475"/>
                </a:lnTo>
                <a:lnTo>
                  <a:pt x="900" y="493"/>
                </a:lnTo>
                <a:lnTo>
                  <a:pt x="898" y="512"/>
                </a:lnTo>
                <a:lnTo>
                  <a:pt x="898" y="531"/>
                </a:lnTo>
                <a:lnTo>
                  <a:pt x="897" y="551"/>
                </a:lnTo>
                <a:lnTo>
                  <a:pt x="897" y="571"/>
                </a:lnTo>
                <a:lnTo>
                  <a:pt x="895" y="593"/>
                </a:lnTo>
                <a:lnTo>
                  <a:pt x="895" y="616"/>
                </a:lnTo>
                <a:lnTo>
                  <a:pt x="895" y="639"/>
                </a:lnTo>
                <a:lnTo>
                  <a:pt x="895" y="662"/>
                </a:lnTo>
                <a:lnTo>
                  <a:pt x="895" y="686"/>
                </a:lnTo>
                <a:lnTo>
                  <a:pt x="895" y="712"/>
                </a:lnTo>
                <a:lnTo>
                  <a:pt x="895" y="737"/>
                </a:lnTo>
                <a:lnTo>
                  <a:pt x="895" y="763"/>
                </a:lnTo>
                <a:lnTo>
                  <a:pt x="894" y="787"/>
                </a:lnTo>
                <a:lnTo>
                  <a:pt x="894" y="812"/>
                </a:lnTo>
                <a:lnTo>
                  <a:pt x="894" y="859"/>
                </a:lnTo>
                <a:lnTo>
                  <a:pt x="894" y="905"/>
                </a:lnTo>
                <a:lnTo>
                  <a:pt x="894" y="950"/>
                </a:lnTo>
                <a:lnTo>
                  <a:pt x="894" y="993"/>
                </a:lnTo>
                <a:lnTo>
                  <a:pt x="893" y="1035"/>
                </a:lnTo>
                <a:lnTo>
                  <a:pt x="893" y="1077"/>
                </a:lnTo>
                <a:lnTo>
                  <a:pt x="891" y="1115"/>
                </a:lnTo>
                <a:lnTo>
                  <a:pt x="890" y="1154"/>
                </a:lnTo>
                <a:lnTo>
                  <a:pt x="888" y="1192"/>
                </a:lnTo>
                <a:lnTo>
                  <a:pt x="887" y="1228"/>
                </a:lnTo>
                <a:lnTo>
                  <a:pt x="884" y="1262"/>
                </a:lnTo>
                <a:lnTo>
                  <a:pt x="882" y="1297"/>
                </a:lnTo>
                <a:lnTo>
                  <a:pt x="880" y="1328"/>
                </a:lnTo>
                <a:lnTo>
                  <a:pt x="877" y="1362"/>
                </a:lnTo>
                <a:lnTo>
                  <a:pt x="874" y="1376"/>
                </a:lnTo>
                <a:lnTo>
                  <a:pt x="872" y="1392"/>
                </a:lnTo>
                <a:lnTo>
                  <a:pt x="871" y="1406"/>
                </a:lnTo>
                <a:lnTo>
                  <a:pt x="869" y="1419"/>
                </a:lnTo>
                <a:lnTo>
                  <a:pt x="868" y="1434"/>
                </a:lnTo>
                <a:lnTo>
                  <a:pt x="868" y="1447"/>
                </a:lnTo>
                <a:lnTo>
                  <a:pt x="867" y="1459"/>
                </a:lnTo>
                <a:lnTo>
                  <a:pt x="865" y="1471"/>
                </a:lnTo>
                <a:lnTo>
                  <a:pt x="864" y="1483"/>
                </a:lnTo>
                <a:lnTo>
                  <a:pt x="864" y="1494"/>
                </a:lnTo>
                <a:lnTo>
                  <a:pt x="862" y="1504"/>
                </a:lnTo>
                <a:lnTo>
                  <a:pt x="861" y="1514"/>
                </a:lnTo>
                <a:lnTo>
                  <a:pt x="861" y="1524"/>
                </a:lnTo>
                <a:lnTo>
                  <a:pt x="859" y="1533"/>
                </a:lnTo>
                <a:lnTo>
                  <a:pt x="858" y="1542"/>
                </a:lnTo>
                <a:lnTo>
                  <a:pt x="858" y="1550"/>
                </a:lnTo>
                <a:lnTo>
                  <a:pt x="857" y="1557"/>
                </a:lnTo>
                <a:lnTo>
                  <a:pt x="855" y="1565"/>
                </a:lnTo>
                <a:lnTo>
                  <a:pt x="855" y="1572"/>
                </a:lnTo>
                <a:lnTo>
                  <a:pt x="854" y="1578"/>
                </a:lnTo>
                <a:lnTo>
                  <a:pt x="852" y="1583"/>
                </a:lnTo>
                <a:lnTo>
                  <a:pt x="852" y="1588"/>
                </a:lnTo>
                <a:lnTo>
                  <a:pt x="851" y="1593"/>
                </a:lnTo>
                <a:lnTo>
                  <a:pt x="849" y="1598"/>
                </a:lnTo>
                <a:lnTo>
                  <a:pt x="849" y="1601"/>
                </a:lnTo>
                <a:lnTo>
                  <a:pt x="848" y="1603"/>
                </a:lnTo>
                <a:lnTo>
                  <a:pt x="846" y="1606"/>
                </a:lnTo>
                <a:lnTo>
                  <a:pt x="845" y="1609"/>
                </a:lnTo>
                <a:lnTo>
                  <a:pt x="844" y="1611"/>
                </a:lnTo>
                <a:lnTo>
                  <a:pt x="842" y="1612"/>
                </a:lnTo>
                <a:lnTo>
                  <a:pt x="841" y="1612"/>
                </a:lnTo>
                <a:lnTo>
                  <a:pt x="839" y="1614"/>
                </a:lnTo>
                <a:lnTo>
                  <a:pt x="835" y="1612"/>
                </a:lnTo>
                <a:lnTo>
                  <a:pt x="831" y="1612"/>
                </a:lnTo>
                <a:lnTo>
                  <a:pt x="826" y="1611"/>
                </a:lnTo>
                <a:lnTo>
                  <a:pt x="822" y="1609"/>
                </a:lnTo>
                <a:lnTo>
                  <a:pt x="816" y="1606"/>
                </a:lnTo>
                <a:lnTo>
                  <a:pt x="812" y="1603"/>
                </a:lnTo>
                <a:lnTo>
                  <a:pt x="806" y="1601"/>
                </a:lnTo>
                <a:lnTo>
                  <a:pt x="802" y="1598"/>
                </a:lnTo>
                <a:lnTo>
                  <a:pt x="796" y="1593"/>
                </a:lnTo>
                <a:lnTo>
                  <a:pt x="790" y="1589"/>
                </a:lnTo>
                <a:lnTo>
                  <a:pt x="786" y="1583"/>
                </a:lnTo>
                <a:lnTo>
                  <a:pt x="782" y="1578"/>
                </a:lnTo>
                <a:lnTo>
                  <a:pt x="776" y="1572"/>
                </a:lnTo>
                <a:lnTo>
                  <a:pt x="772" y="1565"/>
                </a:lnTo>
                <a:lnTo>
                  <a:pt x="769" y="1557"/>
                </a:lnTo>
                <a:lnTo>
                  <a:pt x="764" y="1550"/>
                </a:lnTo>
                <a:lnTo>
                  <a:pt x="757" y="1542"/>
                </a:lnTo>
                <a:lnTo>
                  <a:pt x="751" y="1534"/>
                </a:lnTo>
                <a:lnTo>
                  <a:pt x="746" y="1527"/>
                </a:lnTo>
                <a:lnTo>
                  <a:pt x="740" y="1519"/>
                </a:lnTo>
                <a:lnTo>
                  <a:pt x="734" y="1511"/>
                </a:lnTo>
                <a:lnTo>
                  <a:pt x="730" y="1504"/>
                </a:lnTo>
                <a:lnTo>
                  <a:pt x="726" y="1497"/>
                </a:lnTo>
                <a:lnTo>
                  <a:pt x="723" y="1490"/>
                </a:lnTo>
                <a:lnTo>
                  <a:pt x="718" y="1483"/>
                </a:lnTo>
                <a:lnTo>
                  <a:pt x="717" y="1477"/>
                </a:lnTo>
                <a:lnTo>
                  <a:pt x="714" y="1470"/>
                </a:lnTo>
                <a:lnTo>
                  <a:pt x="711" y="1464"/>
                </a:lnTo>
                <a:lnTo>
                  <a:pt x="710" y="1459"/>
                </a:lnTo>
                <a:lnTo>
                  <a:pt x="710" y="1454"/>
                </a:lnTo>
                <a:lnTo>
                  <a:pt x="708" y="1449"/>
                </a:lnTo>
                <a:lnTo>
                  <a:pt x="708" y="1445"/>
                </a:lnTo>
                <a:lnTo>
                  <a:pt x="708" y="1441"/>
                </a:lnTo>
                <a:lnTo>
                  <a:pt x="708" y="1435"/>
                </a:lnTo>
                <a:lnTo>
                  <a:pt x="708" y="1429"/>
                </a:lnTo>
                <a:lnTo>
                  <a:pt x="708" y="1422"/>
                </a:lnTo>
                <a:lnTo>
                  <a:pt x="708" y="1413"/>
                </a:lnTo>
                <a:lnTo>
                  <a:pt x="710" y="1403"/>
                </a:lnTo>
                <a:lnTo>
                  <a:pt x="710" y="1393"/>
                </a:lnTo>
                <a:lnTo>
                  <a:pt x="711" y="1382"/>
                </a:lnTo>
                <a:lnTo>
                  <a:pt x="711" y="1370"/>
                </a:lnTo>
                <a:lnTo>
                  <a:pt x="713" y="1357"/>
                </a:lnTo>
                <a:lnTo>
                  <a:pt x="714" y="1343"/>
                </a:lnTo>
                <a:lnTo>
                  <a:pt x="717" y="1327"/>
                </a:lnTo>
                <a:lnTo>
                  <a:pt x="718" y="1311"/>
                </a:lnTo>
                <a:lnTo>
                  <a:pt x="721" y="1294"/>
                </a:lnTo>
                <a:lnTo>
                  <a:pt x="724" y="1275"/>
                </a:lnTo>
                <a:lnTo>
                  <a:pt x="727" y="1256"/>
                </a:lnTo>
                <a:lnTo>
                  <a:pt x="727" y="1246"/>
                </a:lnTo>
                <a:lnTo>
                  <a:pt x="727" y="1236"/>
                </a:lnTo>
                <a:lnTo>
                  <a:pt x="727" y="1225"/>
                </a:lnTo>
                <a:lnTo>
                  <a:pt x="727" y="1213"/>
                </a:lnTo>
                <a:lnTo>
                  <a:pt x="727" y="1202"/>
                </a:lnTo>
                <a:lnTo>
                  <a:pt x="727" y="1189"/>
                </a:lnTo>
                <a:lnTo>
                  <a:pt x="727" y="1176"/>
                </a:lnTo>
                <a:lnTo>
                  <a:pt x="727" y="1161"/>
                </a:lnTo>
                <a:lnTo>
                  <a:pt x="727" y="1149"/>
                </a:lnTo>
                <a:lnTo>
                  <a:pt x="727" y="1134"/>
                </a:lnTo>
                <a:lnTo>
                  <a:pt x="726" y="1118"/>
                </a:lnTo>
                <a:lnTo>
                  <a:pt x="726" y="1102"/>
                </a:lnTo>
                <a:lnTo>
                  <a:pt x="726" y="1087"/>
                </a:lnTo>
                <a:lnTo>
                  <a:pt x="726" y="1071"/>
                </a:lnTo>
                <a:lnTo>
                  <a:pt x="726" y="1054"/>
                </a:lnTo>
                <a:lnTo>
                  <a:pt x="724" y="1036"/>
                </a:lnTo>
                <a:lnTo>
                  <a:pt x="724" y="1019"/>
                </a:lnTo>
                <a:lnTo>
                  <a:pt x="723" y="1000"/>
                </a:lnTo>
                <a:lnTo>
                  <a:pt x="723" y="982"/>
                </a:lnTo>
                <a:lnTo>
                  <a:pt x="723" y="961"/>
                </a:lnTo>
                <a:lnTo>
                  <a:pt x="721" y="941"/>
                </a:lnTo>
                <a:lnTo>
                  <a:pt x="721" y="921"/>
                </a:lnTo>
                <a:lnTo>
                  <a:pt x="720" y="901"/>
                </a:lnTo>
                <a:lnTo>
                  <a:pt x="718" y="879"/>
                </a:lnTo>
                <a:lnTo>
                  <a:pt x="718" y="858"/>
                </a:lnTo>
                <a:lnTo>
                  <a:pt x="717" y="835"/>
                </a:lnTo>
                <a:lnTo>
                  <a:pt x="715" y="812"/>
                </a:lnTo>
                <a:lnTo>
                  <a:pt x="714" y="789"/>
                </a:lnTo>
                <a:lnTo>
                  <a:pt x="713" y="766"/>
                </a:lnTo>
                <a:lnTo>
                  <a:pt x="711" y="741"/>
                </a:lnTo>
                <a:lnTo>
                  <a:pt x="710" y="717"/>
                </a:lnTo>
                <a:lnTo>
                  <a:pt x="708" y="6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89"/>
          <p:cNvSpPr/>
          <p:nvPr/>
        </p:nvSpPr>
        <p:spPr>
          <a:xfrm>
            <a:off x="7032600" y="2887560"/>
            <a:ext cx="114480" cy="838440"/>
          </a:xfrm>
          <a:custGeom>
            <a:avLst/>
            <a:gdLst/>
            <a:ahLst/>
            <a:rect l="l" t="t" r="r" b="b"/>
            <a:pathLst>
              <a:path w="217" h="1584">
                <a:moveTo>
                  <a:pt x="217" y="55"/>
                </a:moveTo>
                <a:lnTo>
                  <a:pt x="217" y="134"/>
                </a:lnTo>
                <a:lnTo>
                  <a:pt x="217" y="210"/>
                </a:lnTo>
                <a:lnTo>
                  <a:pt x="217" y="285"/>
                </a:lnTo>
                <a:lnTo>
                  <a:pt x="216" y="357"/>
                </a:lnTo>
                <a:lnTo>
                  <a:pt x="216" y="428"/>
                </a:lnTo>
                <a:lnTo>
                  <a:pt x="216" y="495"/>
                </a:lnTo>
                <a:lnTo>
                  <a:pt x="216" y="561"/>
                </a:lnTo>
                <a:lnTo>
                  <a:pt x="216" y="625"/>
                </a:lnTo>
                <a:lnTo>
                  <a:pt x="216" y="685"/>
                </a:lnTo>
                <a:lnTo>
                  <a:pt x="216" y="744"/>
                </a:lnTo>
                <a:lnTo>
                  <a:pt x="216" y="800"/>
                </a:lnTo>
                <a:lnTo>
                  <a:pt x="216" y="855"/>
                </a:lnTo>
                <a:lnTo>
                  <a:pt x="216" y="907"/>
                </a:lnTo>
                <a:lnTo>
                  <a:pt x="214" y="957"/>
                </a:lnTo>
                <a:lnTo>
                  <a:pt x="214" y="1005"/>
                </a:lnTo>
                <a:lnTo>
                  <a:pt x="214" y="1049"/>
                </a:lnTo>
                <a:lnTo>
                  <a:pt x="214" y="1093"/>
                </a:lnTo>
                <a:lnTo>
                  <a:pt x="213" y="1133"/>
                </a:lnTo>
                <a:lnTo>
                  <a:pt x="213" y="1172"/>
                </a:lnTo>
                <a:lnTo>
                  <a:pt x="211" y="1209"/>
                </a:lnTo>
                <a:lnTo>
                  <a:pt x="211" y="1242"/>
                </a:lnTo>
                <a:lnTo>
                  <a:pt x="210" y="1276"/>
                </a:lnTo>
                <a:lnTo>
                  <a:pt x="210" y="1306"/>
                </a:lnTo>
                <a:lnTo>
                  <a:pt x="208" y="1333"/>
                </a:lnTo>
                <a:lnTo>
                  <a:pt x="207" y="1359"/>
                </a:lnTo>
                <a:lnTo>
                  <a:pt x="207" y="1382"/>
                </a:lnTo>
                <a:lnTo>
                  <a:pt x="205" y="1404"/>
                </a:lnTo>
                <a:lnTo>
                  <a:pt x="204" y="1424"/>
                </a:lnTo>
                <a:lnTo>
                  <a:pt x="203" y="1440"/>
                </a:lnTo>
                <a:lnTo>
                  <a:pt x="201" y="1455"/>
                </a:lnTo>
                <a:lnTo>
                  <a:pt x="200" y="1468"/>
                </a:lnTo>
                <a:lnTo>
                  <a:pt x="198" y="1480"/>
                </a:lnTo>
                <a:lnTo>
                  <a:pt x="195" y="1489"/>
                </a:lnTo>
                <a:lnTo>
                  <a:pt x="194" y="1497"/>
                </a:lnTo>
                <a:lnTo>
                  <a:pt x="193" y="1506"/>
                </a:lnTo>
                <a:lnTo>
                  <a:pt x="191" y="1514"/>
                </a:lnTo>
                <a:lnTo>
                  <a:pt x="190" y="1522"/>
                </a:lnTo>
                <a:lnTo>
                  <a:pt x="187" y="1529"/>
                </a:lnTo>
                <a:lnTo>
                  <a:pt x="185" y="1536"/>
                </a:lnTo>
                <a:lnTo>
                  <a:pt x="184" y="1542"/>
                </a:lnTo>
                <a:lnTo>
                  <a:pt x="181" y="1548"/>
                </a:lnTo>
                <a:lnTo>
                  <a:pt x="180" y="1553"/>
                </a:lnTo>
                <a:lnTo>
                  <a:pt x="178" y="1558"/>
                </a:lnTo>
                <a:lnTo>
                  <a:pt x="175" y="1563"/>
                </a:lnTo>
                <a:lnTo>
                  <a:pt x="174" y="1566"/>
                </a:lnTo>
                <a:lnTo>
                  <a:pt x="172" y="1571"/>
                </a:lnTo>
                <a:lnTo>
                  <a:pt x="169" y="1574"/>
                </a:lnTo>
                <a:lnTo>
                  <a:pt x="168" y="1576"/>
                </a:lnTo>
                <a:lnTo>
                  <a:pt x="165" y="1578"/>
                </a:lnTo>
                <a:lnTo>
                  <a:pt x="164" y="1581"/>
                </a:lnTo>
                <a:lnTo>
                  <a:pt x="161" y="1582"/>
                </a:lnTo>
                <a:lnTo>
                  <a:pt x="158" y="1582"/>
                </a:lnTo>
                <a:lnTo>
                  <a:pt x="157" y="1584"/>
                </a:lnTo>
                <a:lnTo>
                  <a:pt x="154" y="1584"/>
                </a:lnTo>
                <a:lnTo>
                  <a:pt x="151" y="1584"/>
                </a:lnTo>
                <a:lnTo>
                  <a:pt x="148" y="1582"/>
                </a:lnTo>
                <a:lnTo>
                  <a:pt x="145" y="1581"/>
                </a:lnTo>
                <a:lnTo>
                  <a:pt x="142" y="1579"/>
                </a:lnTo>
                <a:lnTo>
                  <a:pt x="139" y="1578"/>
                </a:lnTo>
                <a:lnTo>
                  <a:pt x="136" y="1575"/>
                </a:lnTo>
                <a:lnTo>
                  <a:pt x="133" y="1574"/>
                </a:lnTo>
                <a:lnTo>
                  <a:pt x="131" y="1571"/>
                </a:lnTo>
                <a:lnTo>
                  <a:pt x="126" y="1566"/>
                </a:lnTo>
                <a:lnTo>
                  <a:pt x="123" y="1563"/>
                </a:lnTo>
                <a:lnTo>
                  <a:pt x="121" y="1558"/>
                </a:lnTo>
                <a:lnTo>
                  <a:pt x="116" y="1553"/>
                </a:lnTo>
                <a:lnTo>
                  <a:pt x="113" y="1546"/>
                </a:lnTo>
                <a:lnTo>
                  <a:pt x="110" y="1539"/>
                </a:lnTo>
                <a:lnTo>
                  <a:pt x="108" y="1530"/>
                </a:lnTo>
                <a:lnTo>
                  <a:pt x="105" y="1522"/>
                </a:lnTo>
                <a:lnTo>
                  <a:pt x="102" y="1512"/>
                </a:lnTo>
                <a:lnTo>
                  <a:pt x="99" y="1500"/>
                </a:lnTo>
                <a:lnTo>
                  <a:pt x="96" y="1487"/>
                </a:lnTo>
                <a:lnTo>
                  <a:pt x="93" y="1474"/>
                </a:lnTo>
                <a:lnTo>
                  <a:pt x="92" y="1460"/>
                </a:lnTo>
                <a:lnTo>
                  <a:pt x="89" y="1444"/>
                </a:lnTo>
                <a:lnTo>
                  <a:pt x="87" y="1428"/>
                </a:lnTo>
                <a:lnTo>
                  <a:pt x="85" y="1409"/>
                </a:lnTo>
                <a:lnTo>
                  <a:pt x="83" y="1391"/>
                </a:lnTo>
                <a:lnTo>
                  <a:pt x="82" y="1372"/>
                </a:lnTo>
                <a:lnTo>
                  <a:pt x="80" y="1350"/>
                </a:lnTo>
                <a:lnTo>
                  <a:pt x="77" y="1329"/>
                </a:lnTo>
                <a:lnTo>
                  <a:pt x="76" y="1307"/>
                </a:lnTo>
                <a:lnTo>
                  <a:pt x="76" y="1283"/>
                </a:lnTo>
                <a:lnTo>
                  <a:pt x="74" y="1258"/>
                </a:lnTo>
                <a:lnTo>
                  <a:pt x="73" y="1232"/>
                </a:lnTo>
                <a:lnTo>
                  <a:pt x="72" y="1205"/>
                </a:lnTo>
                <a:lnTo>
                  <a:pt x="70" y="1178"/>
                </a:lnTo>
                <a:lnTo>
                  <a:pt x="70" y="1147"/>
                </a:lnTo>
                <a:lnTo>
                  <a:pt x="69" y="1117"/>
                </a:lnTo>
                <a:lnTo>
                  <a:pt x="69" y="1087"/>
                </a:lnTo>
                <a:lnTo>
                  <a:pt x="69" y="1054"/>
                </a:lnTo>
                <a:lnTo>
                  <a:pt x="67" y="1021"/>
                </a:lnTo>
                <a:lnTo>
                  <a:pt x="67" y="986"/>
                </a:lnTo>
                <a:lnTo>
                  <a:pt x="67" y="950"/>
                </a:lnTo>
                <a:lnTo>
                  <a:pt x="67" y="914"/>
                </a:lnTo>
                <a:lnTo>
                  <a:pt x="67" y="877"/>
                </a:lnTo>
                <a:lnTo>
                  <a:pt x="67" y="841"/>
                </a:lnTo>
                <a:lnTo>
                  <a:pt x="67" y="806"/>
                </a:lnTo>
                <a:lnTo>
                  <a:pt x="66" y="772"/>
                </a:lnTo>
                <a:lnTo>
                  <a:pt x="66" y="739"/>
                </a:lnTo>
                <a:lnTo>
                  <a:pt x="66" y="707"/>
                </a:lnTo>
                <a:lnTo>
                  <a:pt x="64" y="675"/>
                </a:lnTo>
                <a:lnTo>
                  <a:pt x="64" y="646"/>
                </a:lnTo>
                <a:lnTo>
                  <a:pt x="63" y="616"/>
                </a:lnTo>
                <a:lnTo>
                  <a:pt x="63" y="589"/>
                </a:lnTo>
                <a:lnTo>
                  <a:pt x="62" y="560"/>
                </a:lnTo>
                <a:lnTo>
                  <a:pt x="60" y="534"/>
                </a:lnTo>
                <a:lnTo>
                  <a:pt x="59" y="508"/>
                </a:lnTo>
                <a:lnTo>
                  <a:pt x="57" y="484"/>
                </a:lnTo>
                <a:lnTo>
                  <a:pt x="57" y="459"/>
                </a:lnTo>
                <a:lnTo>
                  <a:pt x="56" y="436"/>
                </a:lnTo>
                <a:lnTo>
                  <a:pt x="54" y="415"/>
                </a:lnTo>
                <a:lnTo>
                  <a:pt x="53" y="393"/>
                </a:lnTo>
                <a:lnTo>
                  <a:pt x="51" y="373"/>
                </a:lnTo>
                <a:lnTo>
                  <a:pt x="50" y="353"/>
                </a:lnTo>
                <a:lnTo>
                  <a:pt x="49" y="334"/>
                </a:lnTo>
                <a:lnTo>
                  <a:pt x="47" y="317"/>
                </a:lnTo>
                <a:lnTo>
                  <a:pt x="44" y="299"/>
                </a:lnTo>
                <a:lnTo>
                  <a:pt x="43" y="284"/>
                </a:lnTo>
                <a:lnTo>
                  <a:pt x="41" y="268"/>
                </a:lnTo>
                <a:lnTo>
                  <a:pt x="40" y="252"/>
                </a:lnTo>
                <a:lnTo>
                  <a:pt x="38" y="239"/>
                </a:lnTo>
                <a:lnTo>
                  <a:pt x="37" y="226"/>
                </a:lnTo>
                <a:lnTo>
                  <a:pt x="36" y="213"/>
                </a:lnTo>
                <a:lnTo>
                  <a:pt x="33" y="202"/>
                </a:lnTo>
                <a:lnTo>
                  <a:pt x="31" y="190"/>
                </a:lnTo>
                <a:lnTo>
                  <a:pt x="30" y="180"/>
                </a:lnTo>
                <a:lnTo>
                  <a:pt x="24" y="164"/>
                </a:lnTo>
                <a:lnTo>
                  <a:pt x="18" y="150"/>
                </a:lnTo>
                <a:lnTo>
                  <a:pt x="13" y="135"/>
                </a:lnTo>
                <a:lnTo>
                  <a:pt x="8" y="121"/>
                </a:lnTo>
                <a:lnTo>
                  <a:pt x="5" y="108"/>
                </a:lnTo>
                <a:lnTo>
                  <a:pt x="2" y="95"/>
                </a:lnTo>
                <a:lnTo>
                  <a:pt x="1" y="83"/>
                </a:lnTo>
                <a:lnTo>
                  <a:pt x="0" y="72"/>
                </a:lnTo>
                <a:lnTo>
                  <a:pt x="0" y="62"/>
                </a:lnTo>
                <a:lnTo>
                  <a:pt x="0" y="53"/>
                </a:lnTo>
                <a:lnTo>
                  <a:pt x="0" y="43"/>
                </a:lnTo>
                <a:lnTo>
                  <a:pt x="1" y="36"/>
                </a:lnTo>
                <a:lnTo>
                  <a:pt x="2" y="29"/>
                </a:lnTo>
                <a:lnTo>
                  <a:pt x="5" y="22"/>
                </a:lnTo>
                <a:lnTo>
                  <a:pt x="8" y="17"/>
                </a:lnTo>
                <a:lnTo>
                  <a:pt x="11" y="13"/>
                </a:lnTo>
                <a:lnTo>
                  <a:pt x="15" y="9"/>
                </a:lnTo>
                <a:lnTo>
                  <a:pt x="21" y="6"/>
                </a:lnTo>
                <a:lnTo>
                  <a:pt x="27" y="3"/>
                </a:lnTo>
                <a:lnTo>
                  <a:pt x="36" y="1"/>
                </a:lnTo>
                <a:lnTo>
                  <a:pt x="44" y="0"/>
                </a:lnTo>
                <a:lnTo>
                  <a:pt x="54" y="0"/>
                </a:lnTo>
                <a:lnTo>
                  <a:pt x="66" y="0"/>
                </a:lnTo>
                <a:lnTo>
                  <a:pt x="79" y="1"/>
                </a:lnTo>
                <a:lnTo>
                  <a:pt x="93" y="4"/>
                </a:lnTo>
                <a:lnTo>
                  <a:pt x="108" y="7"/>
                </a:lnTo>
                <a:lnTo>
                  <a:pt x="123" y="12"/>
                </a:lnTo>
                <a:lnTo>
                  <a:pt x="139" y="17"/>
                </a:lnTo>
                <a:lnTo>
                  <a:pt x="158" y="24"/>
                </a:lnTo>
                <a:lnTo>
                  <a:pt x="177" y="33"/>
                </a:lnTo>
                <a:lnTo>
                  <a:pt x="195" y="43"/>
                </a:lnTo>
                <a:lnTo>
                  <a:pt x="205" y="49"/>
                </a:lnTo>
                <a:lnTo>
                  <a:pt x="217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90"/>
          <p:cNvSpPr/>
          <p:nvPr/>
        </p:nvSpPr>
        <p:spPr>
          <a:xfrm>
            <a:off x="7027920" y="3100320"/>
            <a:ext cx="363600" cy="917640"/>
          </a:xfrm>
          <a:custGeom>
            <a:avLst/>
            <a:gdLst/>
            <a:ahLst/>
            <a:rect l="l" t="t" r="r" b="b"/>
            <a:pathLst>
              <a:path w="688" h="1732">
                <a:moveTo>
                  <a:pt x="2" y="1727"/>
                </a:moveTo>
                <a:lnTo>
                  <a:pt x="1" y="1724"/>
                </a:lnTo>
                <a:lnTo>
                  <a:pt x="0" y="1721"/>
                </a:lnTo>
                <a:lnTo>
                  <a:pt x="0" y="1719"/>
                </a:lnTo>
                <a:lnTo>
                  <a:pt x="0" y="1714"/>
                </a:lnTo>
                <a:lnTo>
                  <a:pt x="0" y="1711"/>
                </a:lnTo>
                <a:lnTo>
                  <a:pt x="0" y="1706"/>
                </a:lnTo>
                <a:lnTo>
                  <a:pt x="1" y="1701"/>
                </a:lnTo>
                <a:lnTo>
                  <a:pt x="2" y="1696"/>
                </a:lnTo>
                <a:lnTo>
                  <a:pt x="4" y="1690"/>
                </a:lnTo>
                <a:lnTo>
                  <a:pt x="7" y="1684"/>
                </a:lnTo>
                <a:lnTo>
                  <a:pt x="10" y="1677"/>
                </a:lnTo>
                <a:lnTo>
                  <a:pt x="12" y="1670"/>
                </a:lnTo>
                <a:lnTo>
                  <a:pt x="17" y="1662"/>
                </a:lnTo>
                <a:lnTo>
                  <a:pt x="20" y="1655"/>
                </a:lnTo>
                <a:lnTo>
                  <a:pt x="24" y="1647"/>
                </a:lnTo>
                <a:lnTo>
                  <a:pt x="28" y="1638"/>
                </a:lnTo>
                <a:lnTo>
                  <a:pt x="34" y="1629"/>
                </a:lnTo>
                <a:lnTo>
                  <a:pt x="40" y="1619"/>
                </a:lnTo>
                <a:lnTo>
                  <a:pt x="46" y="1611"/>
                </a:lnTo>
                <a:lnTo>
                  <a:pt x="51" y="1601"/>
                </a:lnTo>
                <a:lnTo>
                  <a:pt x="57" y="1589"/>
                </a:lnTo>
                <a:lnTo>
                  <a:pt x="64" y="1579"/>
                </a:lnTo>
                <a:lnTo>
                  <a:pt x="80" y="1556"/>
                </a:lnTo>
                <a:lnTo>
                  <a:pt x="96" y="1533"/>
                </a:lnTo>
                <a:lnTo>
                  <a:pt x="113" y="1507"/>
                </a:lnTo>
                <a:lnTo>
                  <a:pt x="132" y="1481"/>
                </a:lnTo>
                <a:lnTo>
                  <a:pt x="152" y="1455"/>
                </a:lnTo>
                <a:lnTo>
                  <a:pt x="172" y="1426"/>
                </a:lnTo>
                <a:lnTo>
                  <a:pt x="192" y="1398"/>
                </a:lnTo>
                <a:lnTo>
                  <a:pt x="213" y="1369"/>
                </a:lnTo>
                <a:lnTo>
                  <a:pt x="231" y="1340"/>
                </a:lnTo>
                <a:lnTo>
                  <a:pt x="250" y="1310"/>
                </a:lnTo>
                <a:lnTo>
                  <a:pt x="269" y="1279"/>
                </a:lnTo>
                <a:lnTo>
                  <a:pt x="286" y="1248"/>
                </a:lnTo>
                <a:lnTo>
                  <a:pt x="303" y="1216"/>
                </a:lnTo>
                <a:lnTo>
                  <a:pt x="319" y="1183"/>
                </a:lnTo>
                <a:lnTo>
                  <a:pt x="335" y="1150"/>
                </a:lnTo>
                <a:lnTo>
                  <a:pt x="351" y="1115"/>
                </a:lnTo>
                <a:lnTo>
                  <a:pt x="364" y="1081"/>
                </a:lnTo>
                <a:lnTo>
                  <a:pt x="378" y="1045"/>
                </a:lnTo>
                <a:lnTo>
                  <a:pt x="390" y="1007"/>
                </a:lnTo>
                <a:lnTo>
                  <a:pt x="403" y="970"/>
                </a:lnTo>
                <a:lnTo>
                  <a:pt x="413" y="931"/>
                </a:lnTo>
                <a:lnTo>
                  <a:pt x="423" y="895"/>
                </a:lnTo>
                <a:lnTo>
                  <a:pt x="431" y="859"/>
                </a:lnTo>
                <a:lnTo>
                  <a:pt x="440" y="825"/>
                </a:lnTo>
                <a:lnTo>
                  <a:pt x="447" y="789"/>
                </a:lnTo>
                <a:lnTo>
                  <a:pt x="454" y="754"/>
                </a:lnTo>
                <a:lnTo>
                  <a:pt x="460" y="719"/>
                </a:lnTo>
                <a:lnTo>
                  <a:pt x="466" y="685"/>
                </a:lnTo>
                <a:lnTo>
                  <a:pt x="470" y="650"/>
                </a:lnTo>
                <a:lnTo>
                  <a:pt x="475" y="616"/>
                </a:lnTo>
                <a:lnTo>
                  <a:pt x="479" y="581"/>
                </a:lnTo>
                <a:lnTo>
                  <a:pt x="482" y="548"/>
                </a:lnTo>
                <a:lnTo>
                  <a:pt x="483" y="515"/>
                </a:lnTo>
                <a:lnTo>
                  <a:pt x="486" y="482"/>
                </a:lnTo>
                <a:lnTo>
                  <a:pt x="486" y="449"/>
                </a:lnTo>
                <a:lnTo>
                  <a:pt x="488" y="417"/>
                </a:lnTo>
                <a:lnTo>
                  <a:pt x="488" y="385"/>
                </a:lnTo>
                <a:lnTo>
                  <a:pt x="488" y="358"/>
                </a:lnTo>
                <a:lnTo>
                  <a:pt x="486" y="332"/>
                </a:lnTo>
                <a:lnTo>
                  <a:pt x="486" y="308"/>
                </a:lnTo>
                <a:lnTo>
                  <a:pt x="485" y="283"/>
                </a:lnTo>
                <a:lnTo>
                  <a:pt x="483" y="262"/>
                </a:lnTo>
                <a:lnTo>
                  <a:pt x="480" y="240"/>
                </a:lnTo>
                <a:lnTo>
                  <a:pt x="479" y="220"/>
                </a:lnTo>
                <a:lnTo>
                  <a:pt x="477" y="211"/>
                </a:lnTo>
                <a:lnTo>
                  <a:pt x="476" y="203"/>
                </a:lnTo>
                <a:lnTo>
                  <a:pt x="475" y="194"/>
                </a:lnTo>
                <a:lnTo>
                  <a:pt x="473" y="185"/>
                </a:lnTo>
                <a:lnTo>
                  <a:pt x="472" y="177"/>
                </a:lnTo>
                <a:lnTo>
                  <a:pt x="470" y="170"/>
                </a:lnTo>
                <a:lnTo>
                  <a:pt x="469" y="162"/>
                </a:lnTo>
                <a:lnTo>
                  <a:pt x="467" y="157"/>
                </a:lnTo>
                <a:lnTo>
                  <a:pt x="466" y="149"/>
                </a:lnTo>
                <a:lnTo>
                  <a:pt x="465" y="144"/>
                </a:lnTo>
                <a:lnTo>
                  <a:pt x="462" y="139"/>
                </a:lnTo>
                <a:lnTo>
                  <a:pt x="460" y="134"/>
                </a:lnTo>
                <a:lnTo>
                  <a:pt x="459" y="129"/>
                </a:lnTo>
                <a:lnTo>
                  <a:pt x="457" y="125"/>
                </a:lnTo>
                <a:lnTo>
                  <a:pt x="456" y="122"/>
                </a:lnTo>
                <a:lnTo>
                  <a:pt x="453" y="118"/>
                </a:lnTo>
                <a:lnTo>
                  <a:pt x="452" y="116"/>
                </a:lnTo>
                <a:lnTo>
                  <a:pt x="450" y="113"/>
                </a:lnTo>
                <a:lnTo>
                  <a:pt x="447" y="109"/>
                </a:lnTo>
                <a:lnTo>
                  <a:pt x="443" y="105"/>
                </a:lnTo>
                <a:lnTo>
                  <a:pt x="437" y="95"/>
                </a:lnTo>
                <a:lnTo>
                  <a:pt x="431" y="83"/>
                </a:lnTo>
                <a:lnTo>
                  <a:pt x="430" y="77"/>
                </a:lnTo>
                <a:lnTo>
                  <a:pt x="427" y="72"/>
                </a:lnTo>
                <a:lnTo>
                  <a:pt x="426" y="66"/>
                </a:lnTo>
                <a:lnTo>
                  <a:pt x="424" y="60"/>
                </a:lnTo>
                <a:lnTo>
                  <a:pt x="424" y="54"/>
                </a:lnTo>
                <a:lnTo>
                  <a:pt x="424" y="49"/>
                </a:lnTo>
                <a:lnTo>
                  <a:pt x="426" y="43"/>
                </a:lnTo>
                <a:lnTo>
                  <a:pt x="426" y="39"/>
                </a:lnTo>
                <a:lnTo>
                  <a:pt x="429" y="33"/>
                </a:lnTo>
                <a:lnTo>
                  <a:pt x="431" y="30"/>
                </a:lnTo>
                <a:lnTo>
                  <a:pt x="431" y="26"/>
                </a:lnTo>
                <a:lnTo>
                  <a:pt x="433" y="21"/>
                </a:lnTo>
                <a:lnTo>
                  <a:pt x="436" y="18"/>
                </a:lnTo>
                <a:lnTo>
                  <a:pt x="439" y="14"/>
                </a:lnTo>
                <a:lnTo>
                  <a:pt x="443" y="11"/>
                </a:lnTo>
                <a:lnTo>
                  <a:pt x="447" y="8"/>
                </a:lnTo>
                <a:lnTo>
                  <a:pt x="453" y="5"/>
                </a:lnTo>
                <a:lnTo>
                  <a:pt x="460" y="3"/>
                </a:lnTo>
                <a:lnTo>
                  <a:pt x="467" y="1"/>
                </a:lnTo>
                <a:lnTo>
                  <a:pt x="475" y="0"/>
                </a:lnTo>
                <a:lnTo>
                  <a:pt x="485" y="0"/>
                </a:lnTo>
                <a:lnTo>
                  <a:pt x="495" y="0"/>
                </a:lnTo>
                <a:lnTo>
                  <a:pt x="506" y="1"/>
                </a:lnTo>
                <a:lnTo>
                  <a:pt x="518" y="3"/>
                </a:lnTo>
                <a:lnTo>
                  <a:pt x="531" y="5"/>
                </a:lnTo>
                <a:lnTo>
                  <a:pt x="544" y="8"/>
                </a:lnTo>
                <a:lnTo>
                  <a:pt x="564" y="17"/>
                </a:lnTo>
                <a:lnTo>
                  <a:pt x="585" y="24"/>
                </a:lnTo>
                <a:lnTo>
                  <a:pt x="604" y="33"/>
                </a:lnTo>
                <a:lnTo>
                  <a:pt x="614" y="36"/>
                </a:lnTo>
                <a:lnTo>
                  <a:pt x="623" y="40"/>
                </a:lnTo>
                <a:lnTo>
                  <a:pt x="632" y="44"/>
                </a:lnTo>
                <a:lnTo>
                  <a:pt x="640" y="47"/>
                </a:lnTo>
                <a:lnTo>
                  <a:pt x="647" y="51"/>
                </a:lnTo>
                <a:lnTo>
                  <a:pt x="655" y="56"/>
                </a:lnTo>
                <a:lnTo>
                  <a:pt x="660" y="60"/>
                </a:lnTo>
                <a:lnTo>
                  <a:pt x="666" y="63"/>
                </a:lnTo>
                <a:lnTo>
                  <a:pt x="670" y="67"/>
                </a:lnTo>
                <a:lnTo>
                  <a:pt x="675" y="72"/>
                </a:lnTo>
                <a:lnTo>
                  <a:pt x="676" y="75"/>
                </a:lnTo>
                <a:lnTo>
                  <a:pt x="678" y="76"/>
                </a:lnTo>
                <a:lnTo>
                  <a:pt x="679" y="80"/>
                </a:lnTo>
                <a:lnTo>
                  <a:pt x="680" y="83"/>
                </a:lnTo>
                <a:lnTo>
                  <a:pt x="682" y="87"/>
                </a:lnTo>
                <a:lnTo>
                  <a:pt x="682" y="92"/>
                </a:lnTo>
                <a:lnTo>
                  <a:pt x="683" y="98"/>
                </a:lnTo>
                <a:lnTo>
                  <a:pt x="685" y="102"/>
                </a:lnTo>
                <a:lnTo>
                  <a:pt x="685" y="108"/>
                </a:lnTo>
                <a:lnTo>
                  <a:pt x="686" y="115"/>
                </a:lnTo>
                <a:lnTo>
                  <a:pt x="686" y="121"/>
                </a:lnTo>
                <a:lnTo>
                  <a:pt x="688" y="128"/>
                </a:lnTo>
                <a:lnTo>
                  <a:pt x="688" y="135"/>
                </a:lnTo>
                <a:lnTo>
                  <a:pt x="688" y="144"/>
                </a:lnTo>
                <a:lnTo>
                  <a:pt x="688" y="152"/>
                </a:lnTo>
                <a:lnTo>
                  <a:pt x="688" y="161"/>
                </a:lnTo>
                <a:lnTo>
                  <a:pt x="688" y="170"/>
                </a:lnTo>
                <a:lnTo>
                  <a:pt x="688" y="178"/>
                </a:lnTo>
                <a:lnTo>
                  <a:pt x="686" y="198"/>
                </a:lnTo>
                <a:lnTo>
                  <a:pt x="686" y="220"/>
                </a:lnTo>
                <a:lnTo>
                  <a:pt x="685" y="242"/>
                </a:lnTo>
                <a:lnTo>
                  <a:pt x="682" y="266"/>
                </a:lnTo>
                <a:lnTo>
                  <a:pt x="680" y="290"/>
                </a:lnTo>
                <a:lnTo>
                  <a:pt x="678" y="316"/>
                </a:lnTo>
                <a:lnTo>
                  <a:pt x="675" y="344"/>
                </a:lnTo>
                <a:lnTo>
                  <a:pt x="670" y="371"/>
                </a:lnTo>
                <a:lnTo>
                  <a:pt x="668" y="400"/>
                </a:lnTo>
                <a:lnTo>
                  <a:pt x="663" y="429"/>
                </a:lnTo>
                <a:lnTo>
                  <a:pt x="660" y="457"/>
                </a:lnTo>
                <a:lnTo>
                  <a:pt x="653" y="515"/>
                </a:lnTo>
                <a:lnTo>
                  <a:pt x="646" y="574"/>
                </a:lnTo>
                <a:lnTo>
                  <a:pt x="639" y="633"/>
                </a:lnTo>
                <a:lnTo>
                  <a:pt x="632" y="692"/>
                </a:lnTo>
                <a:lnTo>
                  <a:pt x="629" y="721"/>
                </a:lnTo>
                <a:lnTo>
                  <a:pt x="624" y="748"/>
                </a:lnTo>
                <a:lnTo>
                  <a:pt x="621" y="777"/>
                </a:lnTo>
                <a:lnTo>
                  <a:pt x="619" y="804"/>
                </a:lnTo>
                <a:lnTo>
                  <a:pt x="614" y="832"/>
                </a:lnTo>
                <a:lnTo>
                  <a:pt x="610" y="859"/>
                </a:lnTo>
                <a:lnTo>
                  <a:pt x="604" y="886"/>
                </a:lnTo>
                <a:lnTo>
                  <a:pt x="597" y="914"/>
                </a:lnTo>
                <a:lnTo>
                  <a:pt x="590" y="943"/>
                </a:lnTo>
                <a:lnTo>
                  <a:pt x="583" y="970"/>
                </a:lnTo>
                <a:lnTo>
                  <a:pt x="574" y="997"/>
                </a:lnTo>
                <a:lnTo>
                  <a:pt x="564" y="1025"/>
                </a:lnTo>
                <a:lnTo>
                  <a:pt x="554" y="1052"/>
                </a:lnTo>
                <a:lnTo>
                  <a:pt x="544" y="1079"/>
                </a:lnTo>
                <a:lnTo>
                  <a:pt x="532" y="1107"/>
                </a:lnTo>
                <a:lnTo>
                  <a:pt x="521" y="1134"/>
                </a:lnTo>
                <a:lnTo>
                  <a:pt x="508" y="1161"/>
                </a:lnTo>
                <a:lnTo>
                  <a:pt x="496" y="1190"/>
                </a:lnTo>
                <a:lnTo>
                  <a:pt x="482" y="1218"/>
                </a:lnTo>
                <a:lnTo>
                  <a:pt x="469" y="1245"/>
                </a:lnTo>
                <a:lnTo>
                  <a:pt x="452" y="1272"/>
                </a:lnTo>
                <a:lnTo>
                  <a:pt x="434" y="1298"/>
                </a:lnTo>
                <a:lnTo>
                  <a:pt x="417" y="1324"/>
                </a:lnTo>
                <a:lnTo>
                  <a:pt x="400" y="1349"/>
                </a:lnTo>
                <a:lnTo>
                  <a:pt x="381" y="1372"/>
                </a:lnTo>
                <a:lnTo>
                  <a:pt x="364" y="1395"/>
                </a:lnTo>
                <a:lnTo>
                  <a:pt x="346" y="1418"/>
                </a:lnTo>
                <a:lnTo>
                  <a:pt x="329" y="1439"/>
                </a:lnTo>
                <a:lnTo>
                  <a:pt x="312" y="1459"/>
                </a:lnTo>
                <a:lnTo>
                  <a:pt x="293" y="1481"/>
                </a:lnTo>
                <a:lnTo>
                  <a:pt x="259" y="1521"/>
                </a:lnTo>
                <a:lnTo>
                  <a:pt x="224" y="1562"/>
                </a:lnTo>
                <a:lnTo>
                  <a:pt x="190" y="1602"/>
                </a:lnTo>
                <a:lnTo>
                  <a:pt x="181" y="1611"/>
                </a:lnTo>
                <a:lnTo>
                  <a:pt x="172" y="1621"/>
                </a:lnTo>
                <a:lnTo>
                  <a:pt x="164" y="1629"/>
                </a:lnTo>
                <a:lnTo>
                  <a:pt x="155" y="1638"/>
                </a:lnTo>
                <a:lnTo>
                  <a:pt x="146" y="1647"/>
                </a:lnTo>
                <a:lnTo>
                  <a:pt x="139" y="1654"/>
                </a:lnTo>
                <a:lnTo>
                  <a:pt x="131" y="1661"/>
                </a:lnTo>
                <a:lnTo>
                  <a:pt x="123" y="1668"/>
                </a:lnTo>
                <a:lnTo>
                  <a:pt x="116" y="1675"/>
                </a:lnTo>
                <a:lnTo>
                  <a:pt x="109" y="1681"/>
                </a:lnTo>
                <a:lnTo>
                  <a:pt x="102" y="1687"/>
                </a:lnTo>
                <a:lnTo>
                  <a:pt x="95" y="1693"/>
                </a:lnTo>
                <a:lnTo>
                  <a:pt x="87" y="1698"/>
                </a:lnTo>
                <a:lnTo>
                  <a:pt x="80" y="1703"/>
                </a:lnTo>
                <a:lnTo>
                  <a:pt x="74" y="1707"/>
                </a:lnTo>
                <a:lnTo>
                  <a:pt x="69" y="1711"/>
                </a:lnTo>
                <a:lnTo>
                  <a:pt x="61" y="1716"/>
                </a:lnTo>
                <a:lnTo>
                  <a:pt x="56" y="1719"/>
                </a:lnTo>
                <a:lnTo>
                  <a:pt x="51" y="1721"/>
                </a:lnTo>
                <a:lnTo>
                  <a:pt x="46" y="1724"/>
                </a:lnTo>
                <a:lnTo>
                  <a:pt x="40" y="1726"/>
                </a:lnTo>
                <a:lnTo>
                  <a:pt x="36" y="1729"/>
                </a:lnTo>
                <a:lnTo>
                  <a:pt x="31" y="1730"/>
                </a:lnTo>
                <a:lnTo>
                  <a:pt x="27" y="1732"/>
                </a:lnTo>
                <a:lnTo>
                  <a:pt x="23" y="1732"/>
                </a:lnTo>
                <a:lnTo>
                  <a:pt x="18" y="1732"/>
                </a:lnTo>
                <a:lnTo>
                  <a:pt x="15" y="1732"/>
                </a:lnTo>
                <a:lnTo>
                  <a:pt x="12" y="1732"/>
                </a:lnTo>
                <a:lnTo>
                  <a:pt x="10" y="1732"/>
                </a:lnTo>
                <a:lnTo>
                  <a:pt x="7" y="1730"/>
                </a:lnTo>
                <a:lnTo>
                  <a:pt x="4" y="1729"/>
                </a:lnTo>
                <a:lnTo>
                  <a:pt x="2" y="17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91"/>
          <p:cNvSpPr/>
          <p:nvPr/>
        </p:nvSpPr>
        <p:spPr>
          <a:xfrm>
            <a:off x="7311960" y="3736800"/>
            <a:ext cx="303120" cy="284400"/>
          </a:xfrm>
          <a:custGeom>
            <a:avLst/>
            <a:gdLst/>
            <a:ahLst/>
            <a:rect l="l" t="t" r="r" b="b"/>
            <a:pathLst>
              <a:path w="572" h="537">
                <a:moveTo>
                  <a:pt x="359" y="125"/>
                </a:moveTo>
                <a:lnTo>
                  <a:pt x="379" y="141"/>
                </a:lnTo>
                <a:lnTo>
                  <a:pt x="399" y="157"/>
                </a:lnTo>
                <a:lnTo>
                  <a:pt x="418" y="173"/>
                </a:lnTo>
                <a:lnTo>
                  <a:pt x="435" y="189"/>
                </a:lnTo>
                <a:lnTo>
                  <a:pt x="452" y="205"/>
                </a:lnTo>
                <a:lnTo>
                  <a:pt x="468" y="219"/>
                </a:lnTo>
                <a:lnTo>
                  <a:pt x="483" y="235"/>
                </a:lnTo>
                <a:lnTo>
                  <a:pt x="496" y="249"/>
                </a:lnTo>
                <a:lnTo>
                  <a:pt x="509" y="264"/>
                </a:lnTo>
                <a:lnTo>
                  <a:pt x="520" y="278"/>
                </a:lnTo>
                <a:lnTo>
                  <a:pt x="530" y="292"/>
                </a:lnTo>
                <a:lnTo>
                  <a:pt x="540" y="305"/>
                </a:lnTo>
                <a:lnTo>
                  <a:pt x="547" y="318"/>
                </a:lnTo>
                <a:lnTo>
                  <a:pt x="555" y="331"/>
                </a:lnTo>
                <a:lnTo>
                  <a:pt x="560" y="344"/>
                </a:lnTo>
                <a:lnTo>
                  <a:pt x="565" y="356"/>
                </a:lnTo>
                <a:lnTo>
                  <a:pt x="568" y="367"/>
                </a:lnTo>
                <a:lnTo>
                  <a:pt x="569" y="379"/>
                </a:lnTo>
                <a:lnTo>
                  <a:pt x="570" y="392"/>
                </a:lnTo>
                <a:lnTo>
                  <a:pt x="572" y="403"/>
                </a:lnTo>
                <a:lnTo>
                  <a:pt x="572" y="415"/>
                </a:lnTo>
                <a:lnTo>
                  <a:pt x="572" y="426"/>
                </a:lnTo>
                <a:lnTo>
                  <a:pt x="570" y="436"/>
                </a:lnTo>
                <a:lnTo>
                  <a:pt x="569" y="448"/>
                </a:lnTo>
                <a:lnTo>
                  <a:pt x="566" y="458"/>
                </a:lnTo>
                <a:lnTo>
                  <a:pt x="565" y="469"/>
                </a:lnTo>
                <a:lnTo>
                  <a:pt x="562" y="480"/>
                </a:lnTo>
                <a:lnTo>
                  <a:pt x="559" y="488"/>
                </a:lnTo>
                <a:lnTo>
                  <a:pt x="556" y="498"/>
                </a:lnTo>
                <a:lnTo>
                  <a:pt x="552" y="507"/>
                </a:lnTo>
                <a:lnTo>
                  <a:pt x="549" y="516"/>
                </a:lnTo>
                <a:lnTo>
                  <a:pt x="546" y="524"/>
                </a:lnTo>
                <a:lnTo>
                  <a:pt x="542" y="527"/>
                </a:lnTo>
                <a:lnTo>
                  <a:pt x="537" y="530"/>
                </a:lnTo>
                <a:lnTo>
                  <a:pt x="533" y="533"/>
                </a:lnTo>
                <a:lnTo>
                  <a:pt x="529" y="534"/>
                </a:lnTo>
                <a:lnTo>
                  <a:pt x="524" y="536"/>
                </a:lnTo>
                <a:lnTo>
                  <a:pt x="519" y="536"/>
                </a:lnTo>
                <a:lnTo>
                  <a:pt x="513" y="537"/>
                </a:lnTo>
                <a:lnTo>
                  <a:pt x="507" y="536"/>
                </a:lnTo>
                <a:lnTo>
                  <a:pt x="500" y="534"/>
                </a:lnTo>
                <a:lnTo>
                  <a:pt x="493" y="533"/>
                </a:lnTo>
                <a:lnTo>
                  <a:pt x="486" y="530"/>
                </a:lnTo>
                <a:lnTo>
                  <a:pt x="478" y="527"/>
                </a:lnTo>
                <a:lnTo>
                  <a:pt x="471" y="524"/>
                </a:lnTo>
                <a:lnTo>
                  <a:pt x="463" y="520"/>
                </a:lnTo>
                <a:lnTo>
                  <a:pt x="454" y="514"/>
                </a:lnTo>
                <a:lnTo>
                  <a:pt x="445" y="508"/>
                </a:lnTo>
                <a:lnTo>
                  <a:pt x="435" y="503"/>
                </a:lnTo>
                <a:lnTo>
                  <a:pt x="425" y="495"/>
                </a:lnTo>
                <a:lnTo>
                  <a:pt x="415" y="488"/>
                </a:lnTo>
                <a:lnTo>
                  <a:pt x="405" y="481"/>
                </a:lnTo>
                <a:lnTo>
                  <a:pt x="393" y="472"/>
                </a:lnTo>
                <a:lnTo>
                  <a:pt x="382" y="462"/>
                </a:lnTo>
                <a:lnTo>
                  <a:pt x="370" y="452"/>
                </a:lnTo>
                <a:lnTo>
                  <a:pt x="359" y="442"/>
                </a:lnTo>
                <a:lnTo>
                  <a:pt x="346" y="431"/>
                </a:lnTo>
                <a:lnTo>
                  <a:pt x="333" y="419"/>
                </a:lnTo>
                <a:lnTo>
                  <a:pt x="320" y="406"/>
                </a:lnTo>
                <a:lnTo>
                  <a:pt x="306" y="393"/>
                </a:lnTo>
                <a:lnTo>
                  <a:pt x="293" y="380"/>
                </a:lnTo>
                <a:lnTo>
                  <a:pt x="278" y="366"/>
                </a:lnTo>
                <a:lnTo>
                  <a:pt x="262" y="350"/>
                </a:lnTo>
                <a:lnTo>
                  <a:pt x="248" y="336"/>
                </a:lnTo>
                <a:lnTo>
                  <a:pt x="232" y="320"/>
                </a:lnTo>
                <a:lnTo>
                  <a:pt x="218" y="304"/>
                </a:lnTo>
                <a:lnTo>
                  <a:pt x="203" y="290"/>
                </a:lnTo>
                <a:lnTo>
                  <a:pt x="189" y="275"/>
                </a:lnTo>
                <a:lnTo>
                  <a:pt x="176" y="261"/>
                </a:lnTo>
                <a:lnTo>
                  <a:pt x="163" y="246"/>
                </a:lnTo>
                <a:lnTo>
                  <a:pt x="152" y="233"/>
                </a:lnTo>
                <a:lnTo>
                  <a:pt x="139" y="220"/>
                </a:lnTo>
                <a:lnTo>
                  <a:pt x="129" y="209"/>
                </a:lnTo>
                <a:lnTo>
                  <a:pt x="117" y="196"/>
                </a:lnTo>
                <a:lnTo>
                  <a:pt x="107" y="184"/>
                </a:lnTo>
                <a:lnTo>
                  <a:pt x="97" y="173"/>
                </a:lnTo>
                <a:lnTo>
                  <a:pt x="88" y="163"/>
                </a:lnTo>
                <a:lnTo>
                  <a:pt x="80" y="153"/>
                </a:lnTo>
                <a:lnTo>
                  <a:pt x="71" y="143"/>
                </a:lnTo>
                <a:lnTo>
                  <a:pt x="64" y="133"/>
                </a:lnTo>
                <a:lnTo>
                  <a:pt x="57" y="124"/>
                </a:lnTo>
                <a:lnTo>
                  <a:pt x="49" y="115"/>
                </a:lnTo>
                <a:lnTo>
                  <a:pt x="44" y="107"/>
                </a:lnTo>
                <a:lnTo>
                  <a:pt x="38" y="100"/>
                </a:lnTo>
                <a:lnTo>
                  <a:pt x="32" y="92"/>
                </a:lnTo>
                <a:lnTo>
                  <a:pt x="28" y="85"/>
                </a:lnTo>
                <a:lnTo>
                  <a:pt x="23" y="79"/>
                </a:lnTo>
                <a:lnTo>
                  <a:pt x="19" y="72"/>
                </a:lnTo>
                <a:lnTo>
                  <a:pt x="16" y="68"/>
                </a:lnTo>
                <a:lnTo>
                  <a:pt x="13" y="62"/>
                </a:lnTo>
                <a:lnTo>
                  <a:pt x="10" y="58"/>
                </a:lnTo>
                <a:lnTo>
                  <a:pt x="9" y="53"/>
                </a:lnTo>
                <a:lnTo>
                  <a:pt x="6" y="51"/>
                </a:lnTo>
                <a:lnTo>
                  <a:pt x="6" y="46"/>
                </a:lnTo>
                <a:lnTo>
                  <a:pt x="5" y="45"/>
                </a:lnTo>
                <a:lnTo>
                  <a:pt x="5" y="42"/>
                </a:lnTo>
                <a:lnTo>
                  <a:pt x="2" y="38"/>
                </a:lnTo>
                <a:lnTo>
                  <a:pt x="0" y="35"/>
                </a:lnTo>
                <a:lnTo>
                  <a:pt x="0" y="32"/>
                </a:lnTo>
                <a:lnTo>
                  <a:pt x="0" y="29"/>
                </a:lnTo>
                <a:lnTo>
                  <a:pt x="3" y="28"/>
                </a:lnTo>
                <a:lnTo>
                  <a:pt x="6" y="25"/>
                </a:lnTo>
                <a:lnTo>
                  <a:pt x="10" y="23"/>
                </a:lnTo>
                <a:lnTo>
                  <a:pt x="16" y="20"/>
                </a:lnTo>
                <a:lnTo>
                  <a:pt x="23" y="19"/>
                </a:lnTo>
                <a:lnTo>
                  <a:pt x="31" y="17"/>
                </a:lnTo>
                <a:lnTo>
                  <a:pt x="39" y="15"/>
                </a:lnTo>
                <a:lnTo>
                  <a:pt x="49" y="13"/>
                </a:lnTo>
                <a:lnTo>
                  <a:pt x="59" y="10"/>
                </a:lnTo>
                <a:lnTo>
                  <a:pt x="71" y="7"/>
                </a:lnTo>
                <a:lnTo>
                  <a:pt x="84" y="4"/>
                </a:lnTo>
                <a:lnTo>
                  <a:pt x="98" y="0"/>
                </a:lnTo>
                <a:lnTo>
                  <a:pt x="108" y="0"/>
                </a:lnTo>
                <a:lnTo>
                  <a:pt x="120" y="2"/>
                </a:lnTo>
                <a:lnTo>
                  <a:pt x="133" y="4"/>
                </a:lnTo>
                <a:lnTo>
                  <a:pt x="147" y="7"/>
                </a:lnTo>
                <a:lnTo>
                  <a:pt x="160" y="12"/>
                </a:lnTo>
                <a:lnTo>
                  <a:pt x="176" y="17"/>
                </a:lnTo>
                <a:lnTo>
                  <a:pt x="192" y="23"/>
                </a:lnTo>
                <a:lnTo>
                  <a:pt x="208" y="30"/>
                </a:lnTo>
                <a:lnTo>
                  <a:pt x="225" y="39"/>
                </a:lnTo>
                <a:lnTo>
                  <a:pt x="242" y="49"/>
                </a:lnTo>
                <a:lnTo>
                  <a:pt x="261" y="59"/>
                </a:lnTo>
                <a:lnTo>
                  <a:pt x="280" y="71"/>
                </a:lnTo>
                <a:lnTo>
                  <a:pt x="298" y="82"/>
                </a:lnTo>
                <a:lnTo>
                  <a:pt x="319" y="95"/>
                </a:lnTo>
                <a:lnTo>
                  <a:pt x="339" y="110"/>
                </a:lnTo>
                <a:lnTo>
                  <a:pt x="359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92"/>
          <p:cNvSpPr/>
          <p:nvPr/>
        </p:nvSpPr>
        <p:spPr>
          <a:xfrm>
            <a:off x="6680160" y="3825720"/>
            <a:ext cx="230400" cy="189000"/>
          </a:xfrm>
          <a:custGeom>
            <a:avLst/>
            <a:gdLst/>
            <a:ahLst/>
            <a:rect l="l" t="t" r="r" b="b"/>
            <a:pathLst>
              <a:path w="435" h="357">
                <a:moveTo>
                  <a:pt x="304" y="85"/>
                </a:moveTo>
                <a:lnTo>
                  <a:pt x="322" y="92"/>
                </a:lnTo>
                <a:lnTo>
                  <a:pt x="336" y="101"/>
                </a:lnTo>
                <a:lnTo>
                  <a:pt x="350" y="110"/>
                </a:lnTo>
                <a:lnTo>
                  <a:pt x="363" y="120"/>
                </a:lnTo>
                <a:lnTo>
                  <a:pt x="376" y="130"/>
                </a:lnTo>
                <a:lnTo>
                  <a:pt x="386" y="140"/>
                </a:lnTo>
                <a:lnTo>
                  <a:pt x="396" y="150"/>
                </a:lnTo>
                <a:lnTo>
                  <a:pt x="404" y="160"/>
                </a:lnTo>
                <a:lnTo>
                  <a:pt x="412" y="171"/>
                </a:lnTo>
                <a:lnTo>
                  <a:pt x="418" y="183"/>
                </a:lnTo>
                <a:lnTo>
                  <a:pt x="424" y="193"/>
                </a:lnTo>
                <a:lnTo>
                  <a:pt x="427" y="205"/>
                </a:lnTo>
                <a:lnTo>
                  <a:pt x="431" y="216"/>
                </a:lnTo>
                <a:lnTo>
                  <a:pt x="432" y="229"/>
                </a:lnTo>
                <a:lnTo>
                  <a:pt x="434" y="241"/>
                </a:lnTo>
                <a:lnTo>
                  <a:pt x="435" y="252"/>
                </a:lnTo>
                <a:lnTo>
                  <a:pt x="431" y="264"/>
                </a:lnTo>
                <a:lnTo>
                  <a:pt x="428" y="275"/>
                </a:lnTo>
                <a:lnTo>
                  <a:pt x="424" y="285"/>
                </a:lnTo>
                <a:lnTo>
                  <a:pt x="421" y="295"/>
                </a:lnTo>
                <a:lnTo>
                  <a:pt x="417" y="304"/>
                </a:lnTo>
                <a:lnTo>
                  <a:pt x="412" y="313"/>
                </a:lnTo>
                <a:lnTo>
                  <a:pt x="409" y="321"/>
                </a:lnTo>
                <a:lnTo>
                  <a:pt x="405" y="328"/>
                </a:lnTo>
                <a:lnTo>
                  <a:pt x="401" y="334"/>
                </a:lnTo>
                <a:lnTo>
                  <a:pt x="395" y="340"/>
                </a:lnTo>
                <a:lnTo>
                  <a:pt x="391" y="344"/>
                </a:lnTo>
                <a:lnTo>
                  <a:pt x="385" y="349"/>
                </a:lnTo>
                <a:lnTo>
                  <a:pt x="379" y="353"/>
                </a:lnTo>
                <a:lnTo>
                  <a:pt x="373" y="354"/>
                </a:lnTo>
                <a:lnTo>
                  <a:pt x="368" y="356"/>
                </a:lnTo>
                <a:lnTo>
                  <a:pt x="360" y="357"/>
                </a:lnTo>
                <a:lnTo>
                  <a:pt x="350" y="356"/>
                </a:lnTo>
                <a:lnTo>
                  <a:pt x="339" y="354"/>
                </a:lnTo>
                <a:lnTo>
                  <a:pt x="329" y="353"/>
                </a:lnTo>
                <a:lnTo>
                  <a:pt x="317" y="349"/>
                </a:lnTo>
                <a:lnTo>
                  <a:pt x="307" y="344"/>
                </a:lnTo>
                <a:lnTo>
                  <a:pt x="296" y="338"/>
                </a:lnTo>
                <a:lnTo>
                  <a:pt x="284" y="333"/>
                </a:lnTo>
                <a:lnTo>
                  <a:pt x="271" y="326"/>
                </a:lnTo>
                <a:lnTo>
                  <a:pt x="258" y="317"/>
                </a:lnTo>
                <a:lnTo>
                  <a:pt x="245" y="308"/>
                </a:lnTo>
                <a:lnTo>
                  <a:pt x="232" y="298"/>
                </a:lnTo>
                <a:lnTo>
                  <a:pt x="218" y="287"/>
                </a:lnTo>
                <a:lnTo>
                  <a:pt x="203" y="274"/>
                </a:lnTo>
                <a:lnTo>
                  <a:pt x="188" y="261"/>
                </a:lnTo>
                <a:lnTo>
                  <a:pt x="172" y="246"/>
                </a:lnTo>
                <a:lnTo>
                  <a:pt x="156" y="232"/>
                </a:lnTo>
                <a:lnTo>
                  <a:pt x="139" y="216"/>
                </a:lnTo>
                <a:lnTo>
                  <a:pt x="123" y="200"/>
                </a:lnTo>
                <a:lnTo>
                  <a:pt x="107" y="186"/>
                </a:lnTo>
                <a:lnTo>
                  <a:pt x="93" y="171"/>
                </a:lnTo>
                <a:lnTo>
                  <a:pt x="80" y="159"/>
                </a:lnTo>
                <a:lnTo>
                  <a:pt x="67" y="147"/>
                </a:lnTo>
                <a:lnTo>
                  <a:pt x="55" y="134"/>
                </a:lnTo>
                <a:lnTo>
                  <a:pt x="45" y="124"/>
                </a:lnTo>
                <a:lnTo>
                  <a:pt x="36" y="112"/>
                </a:lnTo>
                <a:lnTo>
                  <a:pt x="28" y="104"/>
                </a:lnTo>
                <a:lnTo>
                  <a:pt x="22" y="95"/>
                </a:lnTo>
                <a:lnTo>
                  <a:pt x="16" y="87"/>
                </a:lnTo>
                <a:lnTo>
                  <a:pt x="12" y="79"/>
                </a:lnTo>
                <a:lnTo>
                  <a:pt x="8" y="74"/>
                </a:lnTo>
                <a:lnTo>
                  <a:pt x="6" y="68"/>
                </a:lnTo>
                <a:lnTo>
                  <a:pt x="6" y="64"/>
                </a:lnTo>
                <a:lnTo>
                  <a:pt x="3" y="59"/>
                </a:lnTo>
                <a:lnTo>
                  <a:pt x="2" y="55"/>
                </a:lnTo>
                <a:lnTo>
                  <a:pt x="0" y="52"/>
                </a:lnTo>
                <a:lnTo>
                  <a:pt x="2" y="48"/>
                </a:lnTo>
                <a:lnTo>
                  <a:pt x="5" y="43"/>
                </a:lnTo>
                <a:lnTo>
                  <a:pt x="8" y="39"/>
                </a:lnTo>
                <a:lnTo>
                  <a:pt x="12" y="36"/>
                </a:lnTo>
                <a:lnTo>
                  <a:pt x="18" y="32"/>
                </a:lnTo>
                <a:lnTo>
                  <a:pt x="24" y="28"/>
                </a:lnTo>
                <a:lnTo>
                  <a:pt x="32" y="25"/>
                </a:lnTo>
                <a:lnTo>
                  <a:pt x="41" y="20"/>
                </a:lnTo>
                <a:lnTo>
                  <a:pt x="51" y="16"/>
                </a:lnTo>
                <a:lnTo>
                  <a:pt x="61" y="12"/>
                </a:lnTo>
                <a:lnTo>
                  <a:pt x="72" y="9"/>
                </a:lnTo>
                <a:lnTo>
                  <a:pt x="85" y="4"/>
                </a:lnTo>
                <a:lnTo>
                  <a:pt x="100" y="0"/>
                </a:lnTo>
                <a:lnTo>
                  <a:pt x="110" y="0"/>
                </a:lnTo>
                <a:lnTo>
                  <a:pt x="121" y="2"/>
                </a:lnTo>
                <a:lnTo>
                  <a:pt x="133" y="3"/>
                </a:lnTo>
                <a:lnTo>
                  <a:pt x="144" y="4"/>
                </a:lnTo>
                <a:lnTo>
                  <a:pt x="156" y="7"/>
                </a:lnTo>
                <a:lnTo>
                  <a:pt x="169" y="10"/>
                </a:lnTo>
                <a:lnTo>
                  <a:pt x="182" y="13"/>
                </a:lnTo>
                <a:lnTo>
                  <a:pt x="195" y="19"/>
                </a:lnTo>
                <a:lnTo>
                  <a:pt x="208" y="23"/>
                </a:lnTo>
                <a:lnTo>
                  <a:pt x="222" y="29"/>
                </a:lnTo>
                <a:lnTo>
                  <a:pt x="235" y="36"/>
                </a:lnTo>
                <a:lnTo>
                  <a:pt x="250" y="45"/>
                </a:lnTo>
                <a:lnTo>
                  <a:pt x="263" y="53"/>
                </a:lnTo>
                <a:lnTo>
                  <a:pt x="277" y="62"/>
                </a:lnTo>
                <a:lnTo>
                  <a:pt x="290" y="74"/>
                </a:lnTo>
                <a:lnTo>
                  <a:pt x="304" y="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93"/>
          <p:cNvSpPr/>
          <p:nvPr/>
        </p:nvSpPr>
        <p:spPr>
          <a:xfrm>
            <a:off x="6229440" y="4159080"/>
            <a:ext cx="1687320" cy="314640"/>
          </a:xfrm>
          <a:custGeom>
            <a:avLst/>
            <a:gdLst/>
            <a:ahLst/>
            <a:rect l="l" t="t" r="r" b="b"/>
            <a:pathLst>
              <a:path w="3189" h="595">
                <a:moveTo>
                  <a:pt x="1473" y="399"/>
                </a:moveTo>
                <a:lnTo>
                  <a:pt x="1427" y="402"/>
                </a:lnTo>
                <a:lnTo>
                  <a:pt x="1381" y="408"/>
                </a:lnTo>
                <a:lnTo>
                  <a:pt x="1333" y="412"/>
                </a:lnTo>
                <a:lnTo>
                  <a:pt x="1284" y="418"/>
                </a:lnTo>
                <a:lnTo>
                  <a:pt x="1235" y="424"/>
                </a:lnTo>
                <a:lnTo>
                  <a:pt x="1186" y="431"/>
                </a:lnTo>
                <a:lnTo>
                  <a:pt x="1136" y="438"/>
                </a:lnTo>
                <a:lnTo>
                  <a:pt x="1086" y="445"/>
                </a:lnTo>
                <a:lnTo>
                  <a:pt x="1035" y="452"/>
                </a:lnTo>
                <a:lnTo>
                  <a:pt x="984" y="461"/>
                </a:lnTo>
                <a:lnTo>
                  <a:pt x="932" y="471"/>
                </a:lnTo>
                <a:lnTo>
                  <a:pt x="880" y="480"/>
                </a:lnTo>
                <a:lnTo>
                  <a:pt x="828" y="490"/>
                </a:lnTo>
                <a:lnTo>
                  <a:pt x="776" y="501"/>
                </a:lnTo>
                <a:lnTo>
                  <a:pt x="723" y="511"/>
                </a:lnTo>
                <a:lnTo>
                  <a:pt x="671" y="524"/>
                </a:lnTo>
                <a:lnTo>
                  <a:pt x="644" y="530"/>
                </a:lnTo>
                <a:lnTo>
                  <a:pt x="616" y="536"/>
                </a:lnTo>
                <a:lnTo>
                  <a:pt x="590" y="540"/>
                </a:lnTo>
                <a:lnTo>
                  <a:pt x="566" y="546"/>
                </a:lnTo>
                <a:lnTo>
                  <a:pt x="542" y="550"/>
                </a:lnTo>
                <a:lnTo>
                  <a:pt x="517" y="555"/>
                </a:lnTo>
                <a:lnTo>
                  <a:pt x="494" y="559"/>
                </a:lnTo>
                <a:lnTo>
                  <a:pt x="472" y="563"/>
                </a:lnTo>
                <a:lnTo>
                  <a:pt x="451" y="568"/>
                </a:lnTo>
                <a:lnTo>
                  <a:pt x="431" y="570"/>
                </a:lnTo>
                <a:lnTo>
                  <a:pt x="411" y="575"/>
                </a:lnTo>
                <a:lnTo>
                  <a:pt x="392" y="578"/>
                </a:lnTo>
                <a:lnTo>
                  <a:pt x="373" y="580"/>
                </a:lnTo>
                <a:lnTo>
                  <a:pt x="356" y="583"/>
                </a:lnTo>
                <a:lnTo>
                  <a:pt x="340" y="585"/>
                </a:lnTo>
                <a:lnTo>
                  <a:pt x="324" y="588"/>
                </a:lnTo>
                <a:lnTo>
                  <a:pt x="308" y="589"/>
                </a:lnTo>
                <a:lnTo>
                  <a:pt x="295" y="591"/>
                </a:lnTo>
                <a:lnTo>
                  <a:pt x="281" y="592"/>
                </a:lnTo>
                <a:lnTo>
                  <a:pt x="269" y="593"/>
                </a:lnTo>
                <a:lnTo>
                  <a:pt x="258" y="593"/>
                </a:lnTo>
                <a:lnTo>
                  <a:pt x="246" y="595"/>
                </a:lnTo>
                <a:lnTo>
                  <a:pt x="236" y="595"/>
                </a:lnTo>
                <a:lnTo>
                  <a:pt x="228" y="595"/>
                </a:lnTo>
                <a:lnTo>
                  <a:pt x="219" y="595"/>
                </a:lnTo>
                <a:lnTo>
                  <a:pt x="212" y="595"/>
                </a:lnTo>
                <a:lnTo>
                  <a:pt x="206" y="593"/>
                </a:lnTo>
                <a:lnTo>
                  <a:pt x="200" y="593"/>
                </a:lnTo>
                <a:lnTo>
                  <a:pt x="195" y="592"/>
                </a:lnTo>
                <a:lnTo>
                  <a:pt x="192" y="591"/>
                </a:lnTo>
                <a:lnTo>
                  <a:pt x="189" y="589"/>
                </a:lnTo>
                <a:lnTo>
                  <a:pt x="186" y="588"/>
                </a:lnTo>
                <a:lnTo>
                  <a:pt x="183" y="586"/>
                </a:lnTo>
                <a:lnTo>
                  <a:pt x="179" y="586"/>
                </a:lnTo>
                <a:lnTo>
                  <a:pt x="174" y="585"/>
                </a:lnTo>
                <a:lnTo>
                  <a:pt x="172" y="585"/>
                </a:lnTo>
                <a:lnTo>
                  <a:pt x="167" y="582"/>
                </a:lnTo>
                <a:lnTo>
                  <a:pt x="163" y="580"/>
                </a:lnTo>
                <a:lnTo>
                  <a:pt x="159" y="578"/>
                </a:lnTo>
                <a:lnTo>
                  <a:pt x="154" y="575"/>
                </a:lnTo>
                <a:lnTo>
                  <a:pt x="150" y="572"/>
                </a:lnTo>
                <a:lnTo>
                  <a:pt x="144" y="569"/>
                </a:lnTo>
                <a:lnTo>
                  <a:pt x="140" y="565"/>
                </a:lnTo>
                <a:lnTo>
                  <a:pt x="134" y="560"/>
                </a:lnTo>
                <a:lnTo>
                  <a:pt x="130" y="556"/>
                </a:lnTo>
                <a:lnTo>
                  <a:pt x="124" y="552"/>
                </a:lnTo>
                <a:lnTo>
                  <a:pt x="118" y="546"/>
                </a:lnTo>
                <a:lnTo>
                  <a:pt x="114" y="540"/>
                </a:lnTo>
                <a:lnTo>
                  <a:pt x="108" y="534"/>
                </a:lnTo>
                <a:lnTo>
                  <a:pt x="101" y="527"/>
                </a:lnTo>
                <a:lnTo>
                  <a:pt x="95" y="521"/>
                </a:lnTo>
                <a:lnTo>
                  <a:pt x="89" y="514"/>
                </a:lnTo>
                <a:lnTo>
                  <a:pt x="82" y="506"/>
                </a:lnTo>
                <a:lnTo>
                  <a:pt x="77" y="498"/>
                </a:lnTo>
                <a:lnTo>
                  <a:pt x="69" y="490"/>
                </a:lnTo>
                <a:lnTo>
                  <a:pt x="62" y="481"/>
                </a:lnTo>
                <a:lnTo>
                  <a:pt x="55" y="472"/>
                </a:lnTo>
                <a:lnTo>
                  <a:pt x="48" y="462"/>
                </a:lnTo>
                <a:lnTo>
                  <a:pt x="41" y="452"/>
                </a:lnTo>
                <a:lnTo>
                  <a:pt x="32" y="442"/>
                </a:lnTo>
                <a:lnTo>
                  <a:pt x="25" y="432"/>
                </a:lnTo>
                <a:lnTo>
                  <a:pt x="16" y="421"/>
                </a:lnTo>
                <a:lnTo>
                  <a:pt x="7" y="411"/>
                </a:lnTo>
                <a:lnTo>
                  <a:pt x="0" y="399"/>
                </a:lnTo>
                <a:lnTo>
                  <a:pt x="64" y="390"/>
                </a:lnTo>
                <a:lnTo>
                  <a:pt x="127" y="383"/>
                </a:lnTo>
                <a:lnTo>
                  <a:pt x="189" y="375"/>
                </a:lnTo>
                <a:lnTo>
                  <a:pt x="249" y="367"/>
                </a:lnTo>
                <a:lnTo>
                  <a:pt x="308" y="360"/>
                </a:lnTo>
                <a:lnTo>
                  <a:pt x="366" y="353"/>
                </a:lnTo>
                <a:lnTo>
                  <a:pt x="423" y="346"/>
                </a:lnTo>
                <a:lnTo>
                  <a:pt x="478" y="339"/>
                </a:lnTo>
                <a:lnTo>
                  <a:pt x="533" y="331"/>
                </a:lnTo>
                <a:lnTo>
                  <a:pt x="586" y="326"/>
                </a:lnTo>
                <a:lnTo>
                  <a:pt x="638" y="318"/>
                </a:lnTo>
                <a:lnTo>
                  <a:pt x="690" y="313"/>
                </a:lnTo>
                <a:lnTo>
                  <a:pt x="739" y="305"/>
                </a:lnTo>
                <a:lnTo>
                  <a:pt x="788" y="300"/>
                </a:lnTo>
                <a:lnTo>
                  <a:pt x="835" y="294"/>
                </a:lnTo>
                <a:lnTo>
                  <a:pt x="881" y="288"/>
                </a:lnTo>
                <a:lnTo>
                  <a:pt x="926" y="282"/>
                </a:lnTo>
                <a:lnTo>
                  <a:pt x="969" y="277"/>
                </a:lnTo>
                <a:lnTo>
                  <a:pt x="1012" y="271"/>
                </a:lnTo>
                <a:lnTo>
                  <a:pt x="1053" y="265"/>
                </a:lnTo>
                <a:lnTo>
                  <a:pt x="1093" y="261"/>
                </a:lnTo>
                <a:lnTo>
                  <a:pt x="1132" y="255"/>
                </a:lnTo>
                <a:lnTo>
                  <a:pt x="1169" y="249"/>
                </a:lnTo>
                <a:lnTo>
                  <a:pt x="1207" y="245"/>
                </a:lnTo>
                <a:lnTo>
                  <a:pt x="1241" y="241"/>
                </a:lnTo>
                <a:lnTo>
                  <a:pt x="1276" y="235"/>
                </a:lnTo>
                <a:lnTo>
                  <a:pt x="1309" y="231"/>
                </a:lnTo>
                <a:lnTo>
                  <a:pt x="1341" y="226"/>
                </a:lnTo>
                <a:lnTo>
                  <a:pt x="1371" y="222"/>
                </a:lnTo>
                <a:lnTo>
                  <a:pt x="1400" y="218"/>
                </a:lnTo>
                <a:lnTo>
                  <a:pt x="1427" y="213"/>
                </a:lnTo>
                <a:lnTo>
                  <a:pt x="1454" y="210"/>
                </a:lnTo>
                <a:lnTo>
                  <a:pt x="1503" y="206"/>
                </a:lnTo>
                <a:lnTo>
                  <a:pt x="1554" y="200"/>
                </a:lnTo>
                <a:lnTo>
                  <a:pt x="1604" y="196"/>
                </a:lnTo>
                <a:lnTo>
                  <a:pt x="1654" y="190"/>
                </a:lnTo>
                <a:lnTo>
                  <a:pt x="1705" y="185"/>
                </a:lnTo>
                <a:lnTo>
                  <a:pt x="1757" y="177"/>
                </a:lnTo>
                <a:lnTo>
                  <a:pt x="1810" y="170"/>
                </a:lnTo>
                <a:lnTo>
                  <a:pt x="1863" y="163"/>
                </a:lnTo>
                <a:lnTo>
                  <a:pt x="1916" y="154"/>
                </a:lnTo>
                <a:lnTo>
                  <a:pt x="1971" y="146"/>
                </a:lnTo>
                <a:lnTo>
                  <a:pt x="2026" y="137"/>
                </a:lnTo>
                <a:lnTo>
                  <a:pt x="2082" y="127"/>
                </a:lnTo>
                <a:lnTo>
                  <a:pt x="2138" y="117"/>
                </a:lnTo>
                <a:lnTo>
                  <a:pt x="2196" y="107"/>
                </a:lnTo>
                <a:lnTo>
                  <a:pt x="2253" y="95"/>
                </a:lnTo>
                <a:lnTo>
                  <a:pt x="2314" y="84"/>
                </a:lnTo>
                <a:lnTo>
                  <a:pt x="2343" y="78"/>
                </a:lnTo>
                <a:lnTo>
                  <a:pt x="2371" y="72"/>
                </a:lnTo>
                <a:lnTo>
                  <a:pt x="2399" y="67"/>
                </a:lnTo>
                <a:lnTo>
                  <a:pt x="2425" y="62"/>
                </a:lnTo>
                <a:lnTo>
                  <a:pt x="2450" y="56"/>
                </a:lnTo>
                <a:lnTo>
                  <a:pt x="2475" y="52"/>
                </a:lnTo>
                <a:lnTo>
                  <a:pt x="2499" y="48"/>
                </a:lnTo>
                <a:lnTo>
                  <a:pt x="2522" y="43"/>
                </a:lnTo>
                <a:lnTo>
                  <a:pt x="2545" y="39"/>
                </a:lnTo>
                <a:lnTo>
                  <a:pt x="2567" y="36"/>
                </a:lnTo>
                <a:lnTo>
                  <a:pt x="2587" y="32"/>
                </a:lnTo>
                <a:lnTo>
                  <a:pt x="2607" y="29"/>
                </a:lnTo>
                <a:lnTo>
                  <a:pt x="2626" y="26"/>
                </a:lnTo>
                <a:lnTo>
                  <a:pt x="2645" y="23"/>
                </a:lnTo>
                <a:lnTo>
                  <a:pt x="2662" y="20"/>
                </a:lnTo>
                <a:lnTo>
                  <a:pt x="2679" y="18"/>
                </a:lnTo>
                <a:lnTo>
                  <a:pt x="2694" y="16"/>
                </a:lnTo>
                <a:lnTo>
                  <a:pt x="2710" y="13"/>
                </a:lnTo>
                <a:lnTo>
                  <a:pt x="2724" y="12"/>
                </a:lnTo>
                <a:lnTo>
                  <a:pt x="2737" y="10"/>
                </a:lnTo>
                <a:lnTo>
                  <a:pt x="2750" y="9"/>
                </a:lnTo>
                <a:lnTo>
                  <a:pt x="2761" y="7"/>
                </a:lnTo>
                <a:lnTo>
                  <a:pt x="2772" y="6"/>
                </a:lnTo>
                <a:lnTo>
                  <a:pt x="2782" y="5"/>
                </a:lnTo>
                <a:lnTo>
                  <a:pt x="2792" y="3"/>
                </a:lnTo>
                <a:lnTo>
                  <a:pt x="2800" y="3"/>
                </a:lnTo>
                <a:lnTo>
                  <a:pt x="2808" y="2"/>
                </a:lnTo>
                <a:lnTo>
                  <a:pt x="2815" y="2"/>
                </a:lnTo>
                <a:lnTo>
                  <a:pt x="2820" y="0"/>
                </a:lnTo>
                <a:lnTo>
                  <a:pt x="2826" y="0"/>
                </a:lnTo>
                <a:lnTo>
                  <a:pt x="2831" y="0"/>
                </a:lnTo>
                <a:lnTo>
                  <a:pt x="2835" y="0"/>
                </a:lnTo>
                <a:lnTo>
                  <a:pt x="2842" y="0"/>
                </a:lnTo>
                <a:lnTo>
                  <a:pt x="2851" y="2"/>
                </a:lnTo>
                <a:lnTo>
                  <a:pt x="2859" y="3"/>
                </a:lnTo>
                <a:lnTo>
                  <a:pt x="2869" y="5"/>
                </a:lnTo>
                <a:lnTo>
                  <a:pt x="2881" y="7"/>
                </a:lnTo>
                <a:lnTo>
                  <a:pt x="2892" y="10"/>
                </a:lnTo>
                <a:lnTo>
                  <a:pt x="2904" y="13"/>
                </a:lnTo>
                <a:lnTo>
                  <a:pt x="2917" y="19"/>
                </a:lnTo>
                <a:lnTo>
                  <a:pt x="2930" y="23"/>
                </a:lnTo>
                <a:lnTo>
                  <a:pt x="2944" y="29"/>
                </a:lnTo>
                <a:lnTo>
                  <a:pt x="2959" y="36"/>
                </a:lnTo>
                <a:lnTo>
                  <a:pt x="2975" y="43"/>
                </a:lnTo>
                <a:lnTo>
                  <a:pt x="2990" y="52"/>
                </a:lnTo>
                <a:lnTo>
                  <a:pt x="3006" y="62"/>
                </a:lnTo>
                <a:lnTo>
                  <a:pt x="3023" y="72"/>
                </a:lnTo>
                <a:lnTo>
                  <a:pt x="3041" y="84"/>
                </a:lnTo>
                <a:lnTo>
                  <a:pt x="3057" y="95"/>
                </a:lnTo>
                <a:lnTo>
                  <a:pt x="3072" y="107"/>
                </a:lnTo>
                <a:lnTo>
                  <a:pt x="3088" y="118"/>
                </a:lnTo>
                <a:lnTo>
                  <a:pt x="3103" y="128"/>
                </a:lnTo>
                <a:lnTo>
                  <a:pt x="3116" y="138"/>
                </a:lnTo>
                <a:lnTo>
                  <a:pt x="3129" y="149"/>
                </a:lnTo>
                <a:lnTo>
                  <a:pt x="3139" y="159"/>
                </a:lnTo>
                <a:lnTo>
                  <a:pt x="3149" y="169"/>
                </a:lnTo>
                <a:lnTo>
                  <a:pt x="3159" y="177"/>
                </a:lnTo>
                <a:lnTo>
                  <a:pt x="3166" y="187"/>
                </a:lnTo>
                <a:lnTo>
                  <a:pt x="3173" y="198"/>
                </a:lnTo>
                <a:lnTo>
                  <a:pt x="3179" y="208"/>
                </a:lnTo>
                <a:lnTo>
                  <a:pt x="3183" y="218"/>
                </a:lnTo>
                <a:lnTo>
                  <a:pt x="3186" y="229"/>
                </a:lnTo>
                <a:lnTo>
                  <a:pt x="3189" y="241"/>
                </a:lnTo>
                <a:lnTo>
                  <a:pt x="3189" y="252"/>
                </a:lnTo>
                <a:lnTo>
                  <a:pt x="3189" y="258"/>
                </a:lnTo>
                <a:lnTo>
                  <a:pt x="3186" y="262"/>
                </a:lnTo>
                <a:lnTo>
                  <a:pt x="3183" y="268"/>
                </a:lnTo>
                <a:lnTo>
                  <a:pt x="3179" y="274"/>
                </a:lnTo>
                <a:lnTo>
                  <a:pt x="3173" y="278"/>
                </a:lnTo>
                <a:lnTo>
                  <a:pt x="3166" y="282"/>
                </a:lnTo>
                <a:lnTo>
                  <a:pt x="3157" y="287"/>
                </a:lnTo>
                <a:lnTo>
                  <a:pt x="3147" y="291"/>
                </a:lnTo>
                <a:lnTo>
                  <a:pt x="3136" y="295"/>
                </a:lnTo>
                <a:lnTo>
                  <a:pt x="3124" y="298"/>
                </a:lnTo>
                <a:lnTo>
                  <a:pt x="3110" y="303"/>
                </a:lnTo>
                <a:lnTo>
                  <a:pt x="3095" y="305"/>
                </a:lnTo>
                <a:lnTo>
                  <a:pt x="3078" y="308"/>
                </a:lnTo>
                <a:lnTo>
                  <a:pt x="3061" y="311"/>
                </a:lnTo>
                <a:lnTo>
                  <a:pt x="3042" y="314"/>
                </a:lnTo>
                <a:lnTo>
                  <a:pt x="3022" y="317"/>
                </a:lnTo>
                <a:lnTo>
                  <a:pt x="3000" y="318"/>
                </a:lnTo>
                <a:lnTo>
                  <a:pt x="2977" y="321"/>
                </a:lnTo>
                <a:lnTo>
                  <a:pt x="2953" y="323"/>
                </a:lnTo>
                <a:lnTo>
                  <a:pt x="2927" y="326"/>
                </a:lnTo>
                <a:lnTo>
                  <a:pt x="2900" y="327"/>
                </a:lnTo>
                <a:lnTo>
                  <a:pt x="2872" y="329"/>
                </a:lnTo>
                <a:lnTo>
                  <a:pt x="2842" y="330"/>
                </a:lnTo>
                <a:lnTo>
                  <a:pt x="2812" y="331"/>
                </a:lnTo>
                <a:lnTo>
                  <a:pt x="2780" y="331"/>
                </a:lnTo>
                <a:lnTo>
                  <a:pt x="2747" y="333"/>
                </a:lnTo>
                <a:lnTo>
                  <a:pt x="2711" y="333"/>
                </a:lnTo>
                <a:lnTo>
                  <a:pt x="2675" y="334"/>
                </a:lnTo>
                <a:lnTo>
                  <a:pt x="2638" y="334"/>
                </a:lnTo>
                <a:lnTo>
                  <a:pt x="2600" y="334"/>
                </a:lnTo>
                <a:lnTo>
                  <a:pt x="2560" y="334"/>
                </a:lnTo>
                <a:lnTo>
                  <a:pt x="2518" y="336"/>
                </a:lnTo>
                <a:lnTo>
                  <a:pt x="2435" y="339"/>
                </a:lnTo>
                <a:lnTo>
                  <a:pt x="2354" y="343"/>
                </a:lnTo>
                <a:lnTo>
                  <a:pt x="2276" y="347"/>
                </a:lnTo>
                <a:lnTo>
                  <a:pt x="2200" y="352"/>
                </a:lnTo>
                <a:lnTo>
                  <a:pt x="2127" y="354"/>
                </a:lnTo>
                <a:lnTo>
                  <a:pt x="2055" y="359"/>
                </a:lnTo>
                <a:lnTo>
                  <a:pt x="1985" y="363"/>
                </a:lnTo>
                <a:lnTo>
                  <a:pt x="1919" y="367"/>
                </a:lnTo>
                <a:lnTo>
                  <a:pt x="1854" y="370"/>
                </a:lnTo>
                <a:lnTo>
                  <a:pt x="1793" y="375"/>
                </a:lnTo>
                <a:lnTo>
                  <a:pt x="1732" y="379"/>
                </a:lnTo>
                <a:lnTo>
                  <a:pt x="1676" y="382"/>
                </a:lnTo>
                <a:lnTo>
                  <a:pt x="1621" y="386"/>
                </a:lnTo>
                <a:lnTo>
                  <a:pt x="1569" y="390"/>
                </a:lnTo>
                <a:lnTo>
                  <a:pt x="1520" y="395"/>
                </a:lnTo>
                <a:lnTo>
                  <a:pt x="1473" y="3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94"/>
          <p:cNvSpPr/>
          <p:nvPr/>
        </p:nvSpPr>
        <p:spPr>
          <a:xfrm>
            <a:off x="6424560" y="4159080"/>
            <a:ext cx="922320" cy="882720"/>
          </a:xfrm>
          <a:custGeom>
            <a:avLst/>
            <a:gdLst/>
            <a:ahLst/>
            <a:rect l="l" t="t" r="r" b="b"/>
            <a:pathLst>
              <a:path w="1742" h="1669">
                <a:moveTo>
                  <a:pt x="395" y="1614"/>
                </a:moveTo>
                <a:lnTo>
                  <a:pt x="372" y="1620"/>
                </a:lnTo>
                <a:lnTo>
                  <a:pt x="350" y="1624"/>
                </a:lnTo>
                <a:lnTo>
                  <a:pt x="330" y="1630"/>
                </a:lnTo>
                <a:lnTo>
                  <a:pt x="308" y="1634"/>
                </a:lnTo>
                <a:lnTo>
                  <a:pt x="290" y="1639"/>
                </a:lnTo>
                <a:lnTo>
                  <a:pt x="269" y="1643"/>
                </a:lnTo>
                <a:lnTo>
                  <a:pt x="252" y="1647"/>
                </a:lnTo>
                <a:lnTo>
                  <a:pt x="233" y="1650"/>
                </a:lnTo>
                <a:lnTo>
                  <a:pt x="216" y="1653"/>
                </a:lnTo>
                <a:lnTo>
                  <a:pt x="200" y="1656"/>
                </a:lnTo>
                <a:lnTo>
                  <a:pt x="184" y="1659"/>
                </a:lnTo>
                <a:lnTo>
                  <a:pt x="169" y="1660"/>
                </a:lnTo>
                <a:lnTo>
                  <a:pt x="154" y="1663"/>
                </a:lnTo>
                <a:lnTo>
                  <a:pt x="140" y="1664"/>
                </a:lnTo>
                <a:lnTo>
                  <a:pt x="127" y="1666"/>
                </a:lnTo>
                <a:lnTo>
                  <a:pt x="114" y="1666"/>
                </a:lnTo>
                <a:lnTo>
                  <a:pt x="102" y="1667"/>
                </a:lnTo>
                <a:lnTo>
                  <a:pt x="91" y="1667"/>
                </a:lnTo>
                <a:lnTo>
                  <a:pt x="81" y="1669"/>
                </a:lnTo>
                <a:lnTo>
                  <a:pt x="71" y="1669"/>
                </a:lnTo>
                <a:lnTo>
                  <a:pt x="62" y="1669"/>
                </a:lnTo>
                <a:lnTo>
                  <a:pt x="53" y="1667"/>
                </a:lnTo>
                <a:lnTo>
                  <a:pt x="45" y="1667"/>
                </a:lnTo>
                <a:lnTo>
                  <a:pt x="38" y="1667"/>
                </a:lnTo>
                <a:lnTo>
                  <a:pt x="30" y="1666"/>
                </a:lnTo>
                <a:lnTo>
                  <a:pt x="25" y="1664"/>
                </a:lnTo>
                <a:lnTo>
                  <a:pt x="19" y="1663"/>
                </a:lnTo>
                <a:lnTo>
                  <a:pt x="15" y="1662"/>
                </a:lnTo>
                <a:lnTo>
                  <a:pt x="10" y="1660"/>
                </a:lnTo>
                <a:lnTo>
                  <a:pt x="7" y="1659"/>
                </a:lnTo>
                <a:lnTo>
                  <a:pt x="5" y="1657"/>
                </a:lnTo>
                <a:lnTo>
                  <a:pt x="3" y="1656"/>
                </a:lnTo>
                <a:lnTo>
                  <a:pt x="2" y="1653"/>
                </a:lnTo>
                <a:lnTo>
                  <a:pt x="0" y="1652"/>
                </a:lnTo>
                <a:lnTo>
                  <a:pt x="0" y="1649"/>
                </a:lnTo>
                <a:lnTo>
                  <a:pt x="0" y="1646"/>
                </a:lnTo>
                <a:lnTo>
                  <a:pt x="0" y="1644"/>
                </a:lnTo>
                <a:lnTo>
                  <a:pt x="2" y="1641"/>
                </a:lnTo>
                <a:lnTo>
                  <a:pt x="5" y="1639"/>
                </a:lnTo>
                <a:lnTo>
                  <a:pt x="6" y="1636"/>
                </a:lnTo>
                <a:lnTo>
                  <a:pt x="9" y="1633"/>
                </a:lnTo>
                <a:lnTo>
                  <a:pt x="13" y="1630"/>
                </a:lnTo>
                <a:lnTo>
                  <a:pt x="16" y="1627"/>
                </a:lnTo>
                <a:lnTo>
                  <a:pt x="22" y="1623"/>
                </a:lnTo>
                <a:lnTo>
                  <a:pt x="26" y="1620"/>
                </a:lnTo>
                <a:lnTo>
                  <a:pt x="32" y="1616"/>
                </a:lnTo>
                <a:lnTo>
                  <a:pt x="38" y="1613"/>
                </a:lnTo>
                <a:lnTo>
                  <a:pt x="45" y="1608"/>
                </a:lnTo>
                <a:lnTo>
                  <a:pt x="52" y="1605"/>
                </a:lnTo>
                <a:lnTo>
                  <a:pt x="61" y="1601"/>
                </a:lnTo>
                <a:lnTo>
                  <a:pt x="68" y="1597"/>
                </a:lnTo>
                <a:lnTo>
                  <a:pt x="78" y="1593"/>
                </a:lnTo>
                <a:lnTo>
                  <a:pt x="87" y="1588"/>
                </a:lnTo>
                <a:lnTo>
                  <a:pt x="97" y="1582"/>
                </a:lnTo>
                <a:lnTo>
                  <a:pt x="107" y="1578"/>
                </a:lnTo>
                <a:lnTo>
                  <a:pt x="118" y="1574"/>
                </a:lnTo>
                <a:lnTo>
                  <a:pt x="130" y="1568"/>
                </a:lnTo>
                <a:lnTo>
                  <a:pt x="143" y="1564"/>
                </a:lnTo>
                <a:lnTo>
                  <a:pt x="154" y="1558"/>
                </a:lnTo>
                <a:lnTo>
                  <a:pt x="169" y="1552"/>
                </a:lnTo>
                <a:lnTo>
                  <a:pt x="182" y="1548"/>
                </a:lnTo>
                <a:lnTo>
                  <a:pt x="196" y="1542"/>
                </a:lnTo>
                <a:lnTo>
                  <a:pt x="210" y="1536"/>
                </a:lnTo>
                <a:lnTo>
                  <a:pt x="226" y="1531"/>
                </a:lnTo>
                <a:lnTo>
                  <a:pt x="255" y="1518"/>
                </a:lnTo>
                <a:lnTo>
                  <a:pt x="282" y="1506"/>
                </a:lnTo>
                <a:lnTo>
                  <a:pt x="313" y="1495"/>
                </a:lnTo>
                <a:lnTo>
                  <a:pt x="341" y="1482"/>
                </a:lnTo>
                <a:lnTo>
                  <a:pt x="402" y="1457"/>
                </a:lnTo>
                <a:lnTo>
                  <a:pt x="432" y="1444"/>
                </a:lnTo>
                <a:lnTo>
                  <a:pt x="462" y="1430"/>
                </a:lnTo>
                <a:lnTo>
                  <a:pt x="493" y="1417"/>
                </a:lnTo>
                <a:lnTo>
                  <a:pt x="524" y="1402"/>
                </a:lnTo>
                <a:lnTo>
                  <a:pt x="554" y="1387"/>
                </a:lnTo>
                <a:lnTo>
                  <a:pt x="586" y="1371"/>
                </a:lnTo>
                <a:lnTo>
                  <a:pt x="618" y="1354"/>
                </a:lnTo>
                <a:lnTo>
                  <a:pt x="648" y="1336"/>
                </a:lnTo>
                <a:lnTo>
                  <a:pt x="680" y="1319"/>
                </a:lnTo>
                <a:lnTo>
                  <a:pt x="711" y="1299"/>
                </a:lnTo>
                <a:lnTo>
                  <a:pt x="743" y="1279"/>
                </a:lnTo>
                <a:lnTo>
                  <a:pt x="773" y="1259"/>
                </a:lnTo>
                <a:lnTo>
                  <a:pt x="804" y="1237"/>
                </a:lnTo>
                <a:lnTo>
                  <a:pt x="834" y="1215"/>
                </a:lnTo>
                <a:lnTo>
                  <a:pt x="864" y="1194"/>
                </a:lnTo>
                <a:lnTo>
                  <a:pt x="893" y="1171"/>
                </a:lnTo>
                <a:lnTo>
                  <a:pt x="922" y="1148"/>
                </a:lnTo>
                <a:lnTo>
                  <a:pt x="949" y="1123"/>
                </a:lnTo>
                <a:lnTo>
                  <a:pt x="978" y="1099"/>
                </a:lnTo>
                <a:lnTo>
                  <a:pt x="1005" y="1073"/>
                </a:lnTo>
                <a:lnTo>
                  <a:pt x="1032" y="1047"/>
                </a:lnTo>
                <a:lnTo>
                  <a:pt x="1058" y="1020"/>
                </a:lnTo>
                <a:lnTo>
                  <a:pt x="1084" y="991"/>
                </a:lnTo>
                <a:lnTo>
                  <a:pt x="1110" y="962"/>
                </a:lnTo>
                <a:lnTo>
                  <a:pt x="1135" y="932"/>
                </a:lnTo>
                <a:lnTo>
                  <a:pt x="1159" y="901"/>
                </a:lnTo>
                <a:lnTo>
                  <a:pt x="1179" y="873"/>
                </a:lnTo>
                <a:lnTo>
                  <a:pt x="1199" y="845"/>
                </a:lnTo>
                <a:lnTo>
                  <a:pt x="1218" y="818"/>
                </a:lnTo>
                <a:lnTo>
                  <a:pt x="1235" y="791"/>
                </a:lnTo>
                <a:lnTo>
                  <a:pt x="1254" y="763"/>
                </a:lnTo>
                <a:lnTo>
                  <a:pt x="1270" y="736"/>
                </a:lnTo>
                <a:lnTo>
                  <a:pt x="1286" y="709"/>
                </a:lnTo>
                <a:lnTo>
                  <a:pt x="1302" y="681"/>
                </a:lnTo>
                <a:lnTo>
                  <a:pt x="1316" y="654"/>
                </a:lnTo>
                <a:lnTo>
                  <a:pt x="1330" y="625"/>
                </a:lnTo>
                <a:lnTo>
                  <a:pt x="1343" y="598"/>
                </a:lnTo>
                <a:lnTo>
                  <a:pt x="1356" y="570"/>
                </a:lnTo>
                <a:lnTo>
                  <a:pt x="1368" y="543"/>
                </a:lnTo>
                <a:lnTo>
                  <a:pt x="1381" y="516"/>
                </a:lnTo>
                <a:lnTo>
                  <a:pt x="1391" y="488"/>
                </a:lnTo>
                <a:lnTo>
                  <a:pt x="1402" y="461"/>
                </a:lnTo>
                <a:lnTo>
                  <a:pt x="1408" y="438"/>
                </a:lnTo>
                <a:lnTo>
                  <a:pt x="1414" y="415"/>
                </a:lnTo>
                <a:lnTo>
                  <a:pt x="1420" y="392"/>
                </a:lnTo>
                <a:lnTo>
                  <a:pt x="1425" y="370"/>
                </a:lnTo>
                <a:lnTo>
                  <a:pt x="1430" y="349"/>
                </a:lnTo>
                <a:lnTo>
                  <a:pt x="1434" y="327"/>
                </a:lnTo>
                <a:lnTo>
                  <a:pt x="1438" y="305"/>
                </a:lnTo>
                <a:lnTo>
                  <a:pt x="1441" y="285"/>
                </a:lnTo>
                <a:lnTo>
                  <a:pt x="1443" y="265"/>
                </a:lnTo>
                <a:lnTo>
                  <a:pt x="1446" y="245"/>
                </a:lnTo>
                <a:lnTo>
                  <a:pt x="1446" y="225"/>
                </a:lnTo>
                <a:lnTo>
                  <a:pt x="1446" y="205"/>
                </a:lnTo>
                <a:lnTo>
                  <a:pt x="1446" y="185"/>
                </a:lnTo>
                <a:lnTo>
                  <a:pt x="1444" y="164"/>
                </a:lnTo>
                <a:lnTo>
                  <a:pt x="1443" y="146"/>
                </a:lnTo>
                <a:lnTo>
                  <a:pt x="1440" y="126"/>
                </a:lnTo>
                <a:lnTo>
                  <a:pt x="1436" y="110"/>
                </a:lnTo>
                <a:lnTo>
                  <a:pt x="1434" y="97"/>
                </a:lnTo>
                <a:lnTo>
                  <a:pt x="1433" y="82"/>
                </a:lnTo>
                <a:lnTo>
                  <a:pt x="1433" y="71"/>
                </a:lnTo>
                <a:lnTo>
                  <a:pt x="1433" y="59"/>
                </a:lnTo>
                <a:lnTo>
                  <a:pt x="1434" y="49"/>
                </a:lnTo>
                <a:lnTo>
                  <a:pt x="1436" y="41"/>
                </a:lnTo>
                <a:lnTo>
                  <a:pt x="1440" y="32"/>
                </a:lnTo>
                <a:lnTo>
                  <a:pt x="1443" y="25"/>
                </a:lnTo>
                <a:lnTo>
                  <a:pt x="1448" y="18"/>
                </a:lnTo>
                <a:lnTo>
                  <a:pt x="1454" y="13"/>
                </a:lnTo>
                <a:lnTo>
                  <a:pt x="1460" y="7"/>
                </a:lnTo>
                <a:lnTo>
                  <a:pt x="1467" y="5"/>
                </a:lnTo>
                <a:lnTo>
                  <a:pt x="1476" y="2"/>
                </a:lnTo>
                <a:lnTo>
                  <a:pt x="1486" y="0"/>
                </a:lnTo>
                <a:lnTo>
                  <a:pt x="1496" y="0"/>
                </a:lnTo>
                <a:lnTo>
                  <a:pt x="1502" y="0"/>
                </a:lnTo>
                <a:lnTo>
                  <a:pt x="1510" y="2"/>
                </a:lnTo>
                <a:lnTo>
                  <a:pt x="1518" y="2"/>
                </a:lnTo>
                <a:lnTo>
                  <a:pt x="1526" y="3"/>
                </a:lnTo>
                <a:lnTo>
                  <a:pt x="1535" y="6"/>
                </a:lnTo>
                <a:lnTo>
                  <a:pt x="1544" y="7"/>
                </a:lnTo>
                <a:lnTo>
                  <a:pt x="1562" y="13"/>
                </a:lnTo>
                <a:lnTo>
                  <a:pt x="1582" y="19"/>
                </a:lnTo>
                <a:lnTo>
                  <a:pt x="1603" y="26"/>
                </a:lnTo>
                <a:lnTo>
                  <a:pt x="1623" y="33"/>
                </a:lnTo>
                <a:lnTo>
                  <a:pt x="1644" y="42"/>
                </a:lnTo>
                <a:lnTo>
                  <a:pt x="1654" y="51"/>
                </a:lnTo>
                <a:lnTo>
                  <a:pt x="1663" y="58"/>
                </a:lnTo>
                <a:lnTo>
                  <a:pt x="1672" y="65"/>
                </a:lnTo>
                <a:lnTo>
                  <a:pt x="1680" y="74"/>
                </a:lnTo>
                <a:lnTo>
                  <a:pt x="1687" y="81"/>
                </a:lnTo>
                <a:lnTo>
                  <a:pt x="1693" y="88"/>
                </a:lnTo>
                <a:lnTo>
                  <a:pt x="1699" y="95"/>
                </a:lnTo>
                <a:lnTo>
                  <a:pt x="1705" y="103"/>
                </a:lnTo>
                <a:lnTo>
                  <a:pt x="1710" y="110"/>
                </a:lnTo>
                <a:lnTo>
                  <a:pt x="1715" y="115"/>
                </a:lnTo>
                <a:lnTo>
                  <a:pt x="1719" y="121"/>
                </a:lnTo>
                <a:lnTo>
                  <a:pt x="1723" y="127"/>
                </a:lnTo>
                <a:lnTo>
                  <a:pt x="1726" y="133"/>
                </a:lnTo>
                <a:lnTo>
                  <a:pt x="1731" y="137"/>
                </a:lnTo>
                <a:lnTo>
                  <a:pt x="1735" y="143"/>
                </a:lnTo>
                <a:lnTo>
                  <a:pt x="1738" y="147"/>
                </a:lnTo>
                <a:lnTo>
                  <a:pt x="1739" y="149"/>
                </a:lnTo>
                <a:lnTo>
                  <a:pt x="1741" y="151"/>
                </a:lnTo>
                <a:lnTo>
                  <a:pt x="1742" y="154"/>
                </a:lnTo>
                <a:lnTo>
                  <a:pt x="1742" y="159"/>
                </a:lnTo>
                <a:lnTo>
                  <a:pt x="1742" y="163"/>
                </a:lnTo>
                <a:lnTo>
                  <a:pt x="1742" y="167"/>
                </a:lnTo>
                <a:lnTo>
                  <a:pt x="1742" y="173"/>
                </a:lnTo>
                <a:lnTo>
                  <a:pt x="1742" y="179"/>
                </a:lnTo>
                <a:lnTo>
                  <a:pt x="1741" y="185"/>
                </a:lnTo>
                <a:lnTo>
                  <a:pt x="1739" y="190"/>
                </a:lnTo>
                <a:lnTo>
                  <a:pt x="1738" y="198"/>
                </a:lnTo>
                <a:lnTo>
                  <a:pt x="1736" y="206"/>
                </a:lnTo>
                <a:lnTo>
                  <a:pt x="1735" y="213"/>
                </a:lnTo>
                <a:lnTo>
                  <a:pt x="1732" y="222"/>
                </a:lnTo>
                <a:lnTo>
                  <a:pt x="1731" y="232"/>
                </a:lnTo>
                <a:lnTo>
                  <a:pt x="1728" y="241"/>
                </a:lnTo>
                <a:lnTo>
                  <a:pt x="1725" y="251"/>
                </a:lnTo>
                <a:lnTo>
                  <a:pt x="1722" y="262"/>
                </a:lnTo>
                <a:lnTo>
                  <a:pt x="1719" y="272"/>
                </a:lnTo>
                <a:lnTo>
                  <a:pt x="1715" y="284"/>
                </a:lnTo>
                <a:lnTo>
                  <a:pt x="1712" y="297"/>
                </a:lnTo>
                <a:lnTo>
                  <a:pt x="1708" y="308"/>
                </a:lnTo>
                <a:lnTo>
                  <a:pt x="1705" y="321"/>
                </a:lnTo>
                <a:lnTo>
                  <a:pt x="1700" y="336"/>
                </a:lnTo>
                <a:lnTo>
                  <a:pt x="1696" y="349"/>
                </a:lnTo>
                <a:lnTo>
                  <a:pt x="1692" y="363"/>
                </a:lnTo>
                <a:lnTo>
                  <a:pt x="1687" y="379"/>
                </a:lnTo>
                <a:lnTo>
                  <a:pt x="1683" y="395"/>
                </a:lnTo>
                <a:lnTo>
                  <a:pt x="1677" y="411"/>
                </a:lnTo>
                <a:lnTo>
                  <a:pt x="1673" y="426"/>
                </a:lnTo>
                <a:lnTo>
                  <a:pt x="1669" y="444"/>
                </a:lnTo>
                <a:lnTo>
                  <a:pt x="1663" y="461"/>
                </a:lnTo>
                <a:lnTo>
                  <a:pt x="1651" y="496"/>
                </a:lnTo>
                <a:lnTo>
                  <a:pt x="1640" y="530"/>
                </a:lnTo>
                <a:lnTo>
                  <a:pt x="1628" y="563"/>
                </a:lnTo>
                <a:lnTo>
                  <a:pt x="1614" y="595"/>
                </a:lnTo>
                <a:lnTo>
                  <a:pt x="1601" y="627"/>
                </a:lnTo>
                <a:lnTo>
                  <a:pt x="1587" y="658"/>
                </a:lnTo>
                <a:lnTo>
                  <a:pt x="1571" y="688"/>
                </a:lnTo>
                <a:lnTo>
                  <a:pt x="1555" y="717"/>
                </a:lnTo>
                <a:lnTo>
                  <a:pt x="1539" y="747"/>
                </a:lnTo>
                <a:lnTo>
                  <a:pt x="1523" y="776"/>
                </a:lnTo>
                <a:lnTo>
                  <a:pt x="1489" y="832"/>
                </a:lnTo>
                <a:lnTo>
                  <a:pt x="1456" y="889"/>
                </a:lnTo>
                <a:lnTo>
                  <a:pt x="1421" y="943"/>
                </a:lnTo>
                <a:lnTo>
                  <a:pt x="1402" y="971"/>
                </a:lnTo>
                <a:lnTo>
                  <a:pt x="1384" y="998"/>
                </a:lnTo>
                <a:lnTo>
                  <a:pt x="1365" y="1025"/>
                </a:lnTo>
                <a:lnTo>
                  <a:pt x="1343" y="1053"/>
                </a:lnTo>
                <a:lnTo>
                  <a:pt x="1322" y="1080"/>
                </a:lnTo>
                <a:lnTo>
                  <a:pt x="1300" y="1106"/>
                </a:lnTo>
                <a:lnTo>
                  <a:pt x="1277" y="1132"/>
                </a:lnTo>
                <a:lnTo>
                  <a:pt x="1253" y="1158"/>
                </a:lnTo>
                <a:lnTo>
                  <a:pt x="1228" y="1182"/>
                </a:lnTo>
                <a:lnTo>
                  <a:pt x="1202" y="1208"/>
                </a:lnTo>
                <a:lnTo>
                  <a:pt x="1175" y="1231"/>
                </a:lnTo>
                <a:lnTo>
                  <a:pt x="1148" y="1256"/>
                </a:lnTo>
                <a:lnTo>
                  <a:pt x="1119" y="1277"/>
                </a:lnTo>
                <a:lnTo>
                  <a:pt x="1090" y="1300"/>
                </a:lnTo>
                <a:lnTo>
                  <a:pt x="1060" y="1320"/>
                </a:lnTo>
                <a:lnTo>
                  <a:pt x="1030" y="1342"/>
                </a:lnTo>
                <a:lnTo>
                  <a:pt x="996" y="1361"/>
                </a:lnTo>
                <a:lnTo>
                  <a:pt x="965" y="1381"/>
                </a:lnTo>
                <a:lnTo>
                  <a:pt x="930" y="1400"/>
                </a:lnTo>
                <a:lnTo>
                  <a:pt x="896" y="1420"/>
                </a:lnTo>
                <a:lnTo>
                  <a:pt x="860" y="1438"/>
                </a:lnTo>
                <a:lnTo>
                  <a:pt x="824" y="1457"/>
                </a:lnTo>
                <a:lnTo>
                  <a:pt x="786" y="1476"/>
                </a:lnTo>
                <a:lnTo>
                  <a:pt x="747" y="1493"/>
                </a:lnTo>
                <a:lnTo>
                  <a:pt x="707" y="1510"/>
                </a:lnTo>
                <a:lnTo>
                  <a:pt x="665" y="1528"/>
                </a:lnTo>
                <a:lnTo>
                  <a:pt x="624" y="1544"/>
                </a:lnTo>
                <a:lnTo>
                  <a:pt x="580" y="1559"/>
                </a:lnTo>
                <a:lnTo>
                  <a:pt x="536" y="1574"/>
                </a:lnTo>
                <a:lnTo>
                  <a:pt x="490" y="1588"/>
                </a:lnTo>
                <a:lnTo>
                  <a:pt x="444" y="1601"/>
                </a:lnTo>
                <a:lnTo>
                  <a:pt x="395" y="16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95"/>
          <p:cNvSpPr/>
          <p:nvPr/>
        </p:nvSpPr>
        <p:spPr>
          <a:xfrm>
            <a:off x="5978520" y="2722680"/>
            <a:ext cx="237960" cy="2411280"/>
          </a:xfrm>
          <a:custGeom>
            <a:avLst/>
            <a:gdLst/>
            <a:ahLst/>
            <a:rect l="l" t="t" r="r" b="b"/>
            <a:pathLst>
              <a:path w="449" h="4557">
                <a:moveTo>
                  <a:pt x="138" y="430"/>
                </a:moveTo>
                <a:lnTo>
                  <a:pt x="135" y="414"/>
                </a:lnTo>
                <a:lnTo>
                  <a:pt x="133" y="398"/>
                </a:lnTo>
                <a:lnTo>
                  <a:pt x="132" y="384"/>
                </a:lnTo>
                <a:lnTo>
                  <a:pt x="131" y="370"/>
                </a:lnTo>
                <a:lnTo>
                  <a:pt x="128" y="355"/>
                </a:lnTo>
                <a:lnTo>
                  <a:pt x="126" y="342"/>
                </a:lnTo>
                <a:lnTo>
                  <a:pt x="125" y="329"/>
                </a:lnTo>
                <a:lnTo>
                  <a:pt x="123" y="316"/>
                </a:lnTo>
                <a:lnTo>
                  <a:pt x="121" y="303"/>
                </a:lnTo>
                <a:lnTo>
                  <a:pt x="119" y="292"/>
                </a:lnTo>
                <a:lnTo>
                  <a:pt x="118" y="280"/>
                </a:lnTo>
                <a:lnTo>
                  <a:pt x="116" y="269"/>
                </a:lnTo>
                <a:lnTo>
                  <a:pt x="115" y="257"/>
                </a:lnTo>
                <a:lnTo>
                  <a:pt x="112" y="247"/>
                </a:lnTo>
                <a:lnTo>
                  <a:pt x="110" y="237"/>
                </a:lnTo>
                <a:lnTo>
                  <a:pt x="109" y="227"/>
                </a:lnTo>
                <a:lnTo>
                  <a:pt x="108" y="218"/>
                </a:lnTo>
                <a:lnTo>
                  <a:pt x="105" y="210"/>
                </a:lnTo>
                <a:lnTo>
                  <a:pt x="103" y="201"/>
                </a:lnTo>
                <a:lnTo>
                  <a:pt x="102" y="194"/>
                </a:lnTo>
                <a:lnTo>
                  <a:pt x="100" y="187"/>
                </a:lnTo>
                <a:lnTo>
                  <a:pt x="97" y="180"/>
                </a:lnTo>
                <a:lnTo>
                  <a:pt x="96" y="174"/>
                </a:lnTo>
                <a:lnTo>
                  <a:pt x="95" y="167"/>
                </a:lnTo>
                <a:lnTo>
                  <a:pt x="93" y="161"/>
                </a:lnTo>
                <a:lnTo>
                  <a:pt x="92" y="157"/>
                </a:lnTo>
                <a:lnTo>
                  <a:pt x="89" y="152"/>
                </a:lnTo>
                <a:lnTo>
                  <a:pt x="87" y="148"/>
                </a:lnTo>
                <a:lnTo>
                  <a:pt x="86" y="144"/>
                </a:lnTo>
                <a:lnTo>
                  <a:pt x="85" y="141"/>
                </a:lnTo>
                <a:lnTo>
                  <a:pt x="83" y="138"/>
                </a:lnTo>
                <a:lnTo>
                  <a:pt x="82" y="136"/>
                </a:lnTo>
                <a:lnTo>
                  <a:pt x="74" y="132"/>
                </a:lnTo>
                <a:lnTo>
                  <a:pt x="67" y="126"/>
                </a:lnTo>
                <a:lnTo>
                  <a:pt x="62" y="122"/>
                </a:lnTo>
                <a:lnTo>
                  <a:pt x="57" y="116"/>
                </a:lnTo>
                <a:lnTo>
                  <a:pt x="51" y="110"/>
                </a:lnTo>
                <a:lnTo>
                  <a:pt x="49" y="105"/>
                </a:lnTo>
                <a:lnTo>
                  <a:pt x="44" y="97"/>
                </a:lnTo>
                <a:lnTo>
                  <a:pt x="41" y="92"/>
                </a:lnTo>
                <a:lnTo>
                  <a:pt x="40" y="85"/>
                </a:lnTo>
                <a:lnTo>
                  <a:pt x="37" y="77"/>
                </a:lnTo>
                <a:lnTo>
                  <a:pt x="37" y="70"/>
                </a:lnTo>
                <a:lnTo>
                  <a:pt x="37" y="63"/>
                </a:lnTo>
                <a:lnTo>
                  <a:pt x="37" y="54"/>
                </a:lnTo>
                <a:lnTo>
                  <a:pt x="38" y="47"/>
                </a:lnTo>
                <a:lnTo>
                  <a:pt x="40" y="38"/>
                </a:lnTo>
                <a:lnTo>
                  <a:pt x="44" y="31"/>
                </a:lnTo>
                <a:lnTo>
                  <a:pt x="44" y="24"/>
                </a:lnTo>
                <a:lnTo>
                  <a:pt x="46" y="17"/>
                </a:lnTo>
                <a:lnTo>
                  <a:pt x="50" y="11"/>
                </a:lnTo>
                <a:lnTo>
                  <a:pt x="54" y="7"/>
                </a:lnTo>
                <a:lnTo>
                  <a:pt x="57" y="5"/>
                </a:lnTo>
                <a:lnTo>
                  <a:pt x="60" y="4"/>
                </a:lnTo>
                <a:lnTo>
                  <a:pt x="64" y="2"/>
                </a:lnTo>
                <a:lnTo>
                  <a:pt x="69" y="1"/>
                </a:lnTo>
                <a:lnTo>
                  <a:pt x="73" y="1"/>
                </a:lnTo>
                <a:lnTo>
                  <a:pt x="77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100" y="0"/>
                </a:lnTo>
                <a:lnTo>
                  <a:pt x="106" y="0"/>
                </a:lnTo>
                <a:lnTo>
                  <a:pt x="113" y="1"/>
                </a:lnTo>
                <a:lnTo>
                  <a:pt x="121" y="2"/>
                </a:lnTo>
                <a:lnTo>
                  <a:pt x="129" y="4"/>
                </a:lnTo>
                <a:lnTo>
                  <a:pt x="138" y="5"/>
                </a:lnTo>
                <a:lnTo>
                  <a:pt x="146" y="7"/>
                </a:lnTo>
                <a:lnTo>
                  <a:pt x="155" y="10"/>
                </a:lnTo>
                <a:lnTo>
                  <a:pt x="164" y="11"/>
                </a:lnTo>
                <a:lnTo>
                  <a:pt x="174" y="14"/>
                </a:lnTo>
                <a:lnTo>
                  <a:pt x="184" y="17"/>
                </a:lnTo>
                <a:lnTo>
                  <a:pt x="195" y="20"/>
                </a:lnTo>
                <a:lnTo>
                  <a:pt x="207" y="24"/>
                </a:lnTo>
                <a:lnTo>
                  <a:pt x="218" y="27"/>
                </a:lnTo>
                <a:lnTo>
                  <a:pt x="230" y="31"/>
                </a:lnTo>
                <a:lnTo>
                  <a:pt x="250" y="40"/>
                </a:lnTo>
                <a:lnTo>
                  <a:pt x="270" y="47"/>
                </a:lnTo>
                <a:lnTo>
                  <a:pt x="289" y="56"/>
                </a:lnTo>
                <a:lnTo>
                  <a:pt x="306" y="63"/>
                </a:lnTo>
                <a:lnTo>
                  <a:pt x="324" y="70"/>
                </a:lnTo>
                <a:lnTo>
                  <a:pt x="339" y="79"/>
                </a:lnTo>
                <a:lnTo>
                  <a:pt x="354" y="86"/>
                </a:lnTo>
                <a:lnTo>
                  <a:pt x="368" y="95"/>
                </a:lnTo>
                <a:lnTo>
                  <a:pt x="380" y="102"/>
                </a:lnTo>
                <a:lnTo>
                  <a:pt x="391" y="110"/>
                </a:lnTo>
                <a:lnTo>
                  <a:pt x="403" y="118"/>
                </a:lnTo>
                <a:lnTo>
                  <a:pt x="411" y="125"/>
                </a:lnTo>
                <a:lnTo>
                  <a:pt x="419" y="133"/>
                </a:lnTo>
                <a:lnTo>
                  <a:pt x="426" y="141"/>
                </a:lnTo>
                <a:lnTo>
                  <a:pt x="431" y="149"/>
                </a:lnTo>
                <a:lnTo>
                  <a:pt x="436" y="157"/>
                </a:lnTo>
                <a:lnTo>
                  <a:pt x="439" y="168"/>
                </a:lnTo>
                <a:lnTo>
                  <a:pt x="442" y="180"/>
                </a:lnTo>
                <a:lnTo>
                  <a:pt x="443" y="190"/>
                </a:lnTo>
                <a:lnTo>
                  <a:pt x="446" y="201"/>
                </a:lnTo>
                <a:lnTo>
                  <a:pt x="447" y="211"/>
                </a:lnTo>
                <a:lnTo>
                  <a:pt x="449" y="221"/>
                </a:lnTo>
                <a:lnTo>
                  <a:pt x="449" y="231"/>
                </a:lnTo>
                <a:lnTo>
                  <a:pt x="449" y="240"/>
                </a:lnTo>
                <a:lnTo>
                  <a:pt x="449" y="250"/>
                </a:lnTo>
                <a:lnTo>
                  <a:pt x="449" y="260"/>
                </a:lnTo>
                <a:lnTo>
                  <a:pt x="447" y="270"/>
                </a:lnTo>
                <a:lnTo>
                  <a:pt x="446" y="280"/>
                </a:lnTo>
                <a:lnTo>
                  <a:pt x="443" y="290"/>
                </a:lnTo>
                <a:lnTo>
                  <a:pt x="442" y="302"/>
                </a:lnTo>
                <a:lnTo>
                  <a:pt x="439" y="313"/>
                </a:lnTo>
                <a:lnTo>
                  <a:pt x="436" y="325"/>
                </a:lnTo>
                <a:lnTo>
                  <a:pt x="431" y="336"/>
                </a:lnTo>
                <a:lnTo>
                  <a:pt x="429" y="349"/>
                </a:lnTo>
                <a:lnTo>
                  <a:pt x="424" y="362"/>
                </a:lnTo>
                <a:lnTo>
                  <a:pt x="421" y="375"/>
                </a:lnTo>
                <a:lnTo>
                  <a:pt x="419" y="390"/>
                </a:lnTo>
                <a:lnTo>
                  <a:pt x="414" y="404"/>
                </a:lnTo>
                <a:lnTo>
                  <a:pt x="411" y="419"/>
                </a:lnTo>
                <a:lnTo>
                  <a:pt x="407" y="434"/>
                </a:lnTo>
                <a:lnTo>
                  <a:pt x="404" y="450"/>
                </a:lnTo>
                <a:lnTo>
                  <a:pt x="400" y="467"/>
                </a:lnTo>
                <a:lnTo>
                  <a:pt x="397" y="483"/>
                </a:lnTo>
                <a:lnTo>
                  <a:pt x="394" y="502"/>
                </a:lnTo>
                <a:lnTo>
                  <a:pt x="390" y="519"/>
                </a:lnTo>
                <a:lnTo>
                  <a:pt x="387" y="538"/>
                </a:lnTo>
                <a:lnTo>
                  <a:pt x="383" y="557"/>
                </a:lnTo>
                <a:lnTo>
                  <a:pt x="380" y="577"/>
                </a:lnTo>
                <a:lnTo>
                  <a:pt x="378" y="587"/>
                </a:lnTo>
                <a:lnTo>
                  <a:pt x="377" y="601"/>
                </a:lnTo>
                <a:lnTo>
                  <a:pt x="374" y="619"/>
                </a:lnTo>
                <a:lnTo>
                  <a:pt x="372" y="637"/>
                </a:lnTo>
                <a:lnTo>
                  <a:pt x="371" y="660"/>
                </a:lnTo>
                <a:lnTo>
                  <a:pt x="370" y="686"/>
                </a:lnTo>
                <a:lnTo>
                  <a:pt x="367" y="714"/>
                </a:lnTo>
                <a:lnTo>
                  <a:pt x="365" y="745"/>
                </a:lnTo>
                <a:lnTo>
                  <a:pt x="364" y="778"/>
                </a:lnTo>
                <a:lnTo>
                  <a:pt x="362" y="816"/>
                </a:lnTo>
                <a:lnTo>
                  <a:pt x="360" y="855"/>
                </a:lnTo>
                <a:lnTo>
                  <a:pt x="358" y="896"/>
                </a:lnTo>
                <a:lnTo>
                  <a:pt x="357" y="943"/>
                </a:lnTo>
                <a:lnTo>
                  <a:pt x="355" y="990"/>
                </a:lnTo>
                <a:lnTo>
                  <a:pt x="354" y="1040"/>
                </a:lnTo>
                <a:lnTo>
                  <a:pt x="351" y="1095"/>
                </a:lnTo>
                <a:lnTo>
                  <a:pt x="349" y="1151"/>
                </a:lnTo>
                <a:lnTo>
                  <a:pt x="348" y="1210"/>
                </a:lnTo>
                <a:lnTo>
                  <a:pt x="347" y="1272"/>
                </a:lnTo>
                <a:lnTo>
                  <a:pt x="344" y="1337"/>
                </a:lnTo>
                <a:lnTo>
                  <a:pt x="342" y="1405"/>
                </a:lnTo>
                <a:lnTo>
                  <a:pt x="341" y="1475"/>
                </a:lnTo>
                <a:lnTo>
                  <a:pt x="339" y="1549"/>
                </a:lnTo>
                <a:lnTo>
                  <a:pt x="338" y="1625"/>
                </a:lnTo>
                <a:lnTo>
                  <a:pt x="335" y="1704"/>
                </a:lnTo>
                <a:lnTo>
                  <a:pt x="334" y="1786"/>
                </a:lnTo>
                <a:lnTo>
                  <a:pt x="332" y="1871"/>
                </a:lnTo>
                <a:lnTo>
                  <a:pt x="331" y="1957"/>
                </a:lnTo>
                <a:lnTo>
                  <a:pt x="329" y="2048"/>
                </a:lnTo>
                <a:lnTo>
                  <a:pt x="326" y="2142"/>
                </a:lnTo>
                <a:lnTo>
                  <a:pt x="325" y="2237"/>
                </a:lnTo>
                <a:lnTo>
                  <a:pt x="324" y="2336"/>
                </a:lnTo>
                <a:lnTo>
                  <a:pt x="321" y="2435"/>
                </a:lnTo>
                <a:lnTo>
                  <a:pt x="316" y="2532"/>
                </a:lnTo>
                <a:lnTo>
                  <a:pt x="313" y="2625"/>
                </a:lnTo>
                <a:lnTo>
                  <a:pt x="309" y="2716"/>
                </a:lnTo>
                <a:lnTo>
                  <a:pt x="306" y="2805"/>
                </a:lnTo>
                <a:lnTo>
                  <a:pt x="303" y="2890"/>
                </a:lnTo>
                <a:lnTo>
                  <a:pt x="299" y="2974"/>
                </a:lnTo>
                <a:lnTo>
                  <a:pt x="296" y="3056"/>
                </a:lnTo>
                <a:lnTo>
                  <a:pt x="293" y="3134"/>
                </a:lnTo>
                <a:lnTo>
                  <a:pt x="289" y="3210"/>
                </a:lnTo>
                <a:lnTo>
                  <a:pt x="286" y="3283"/>
                </a:lnTo>
                <a:lnTo>
                  <a:pt x="283" y="3354"/>
                </a:lnTo>
                <a:lnTo>
                  <a:pt x="279" y="3422"/>
                </a:lnTo>
                <a:lnTo>
                  <a:pt x="276" y="3488"/>
                </a:lnTo>
                <a:lnTo>
                  <a:pt x="273" y="3551"/>
                </a:lnTo>
                <a:lnTo>
                  <a:pt x="270" y="3612"/>
                </a:lnTo>
                <a:lnTo>
                  <a:pt x="267" y="3669"/>
                </a:lnTo>
                <a:lnTo>
                  <a:pt x="264" y="3725"/>
                </a:lnTo>
                <a:lnTo>
                  <a:pt x="262" y="3779"/>
                </a:lnTo>
                <a:lnTo>
                  <a:pt x="259" y="3829"/>
                </a:lnTo>
                <a:lnTo>
                  <a:pt x="256" y="3878"/>
                </a:lnTo>
                <a:lnTo>
                  <a:pt x="253" y="3923"/>
                </a:lnTo>
                <a:lnTo>
                  <a:pt x="250" y="3966"/>
                </a:lnTo>
                <a:lnTo>
                  <a:pt x="247" y="4008"/>
                </a:lnTo>
                <a:lnTo>
                  <a:pt x="244" y="4045"/>
                </a:lnTo>
                <a:lnTo>
                  <a:pt x="243" y="4081"/>
                </a:lnTo>
                <a:lnTo>
                  <a:pt x="240" y="4114"/>
                </a:lnTo>
                <a:lnTo>
                  <a:pt x="239" y="4144"/>
                </a:lnTo>
                <a:lnTo>
                  <a:pt x="236" y="4173"/>
                </a:lnTo>
                <a:lnTo>
                  <a:pt x="234" y="4199"/>
                </a:lnTo>
                <a:lnTo>
                  <a:pt x="231" y="4222"/>
                </a:lnTo>
                <a:lnTo>
                  <a:pt x="230" y="4244"/>
                </a:lnTo>
                <a:lnTo>
                  <a:pt x="227" y="4262"/>
                </a:lnTo>
                <a:lnTo>
                  <a:pt x="223" y="4281"/>
                </a:lnTo>
                <a:lnTo>
                  <a:pt x="220" y="4300"/>
                </a:lnTo>
                <a:lnTo>
                  <a:pt x="216" y="4317"/>
                </a:lnTo>
                <a:lnTo>
                  <a:pt x="213" y="4333"/>
                </a:lnTo>
                <a:lnTo>
                  <a:pt x="210" y="4350"/>
                </a:lnTo>
                <a:lnTo>
                  <a:pt x="205" y="4366"/>
                </a:lnTo>
                <a:lnTo>
                  <a:pt x="203" y="4380"/>
                </a:lnTo>
                <a:lnTo>
                  <a:pt x="200" y="4395"/>
                </a:lnTo>
                <a:lnTo>
                  <a:pt x="195" y="4409"/>
                </a:lnTo>
                <a:lnTo>
                  <a:pt x="193" y="4422"/>
                </a:lnTo>
                <a:lnTo>
                  <a:pt x="190" y="4434"/>
                </a:lnTo>
                <a:lnTo>
                  <a:pt x="187" y="4447"/>
                </a:lnTo>
                <a:lnTo>
                  <a:pt x="182" y="4458"/>
                </a:lnTo>
                <a:lnTo>
                  <a:pt x="180" y="4468"/>
                </a:lnTo>
                <a:lnTo>
                  <a:pt x="177" y="4478"/>
                </a:lnTo>
                <a:lnTo>
                  <a:pt x="174" y="4488"/>
                </a:lnTo>
                <a:lnTo>
                  <a:pt x="171" y="4497"/>
                </a:lnTo>
                <a:lnTo>
                  <a:pt x="168" y="4506"/>
                </a:lnTo>
                <a:lnTo>
                  <a:pt x="165" y="4513"/>
                </a:lnTo>
                <a:lnTo>
                  <a:pt x="162" y="4520"/>
                </a:lnTo>
                <a:lnTo>
                  <a:pt x="159" y="4526"/>
                </a:lnTo>
                <a:lnTo>
                  <a:pt x="157" y="4532"/>
                </a:lnTo>
                <a:lnTo>
                  <a:pt x="154" y="4537"/>
                </a:lnTo>
                <a:lnTo>
                  <a:pt x="152" y="4542"/>
                </a:lnTo>
                <a:lnTo>
                  <a:pt x="149" y="4546"/>
                </a:lnTo>
                <a:lnTo>
                  <a:pt x="148" y="4549"/>
                </a:lnTo>
                <a:lnTo>
                  <a:pt x="145" y="4552"/>
                </a:lnTo>
                <a:lnTo>
                  <a:pt x="144" y="4555"/>
                </a:lnTo>
                <a:lnTo>
                  <a:pt x="141" y="4556"/>
                </a:lnTo>
                <a:lnTo>
                  <a:pt x="139" y="4556"/>
                </a:lnTo>
                <a:lnTo>
                  <a:pt x="138" y="4557"/>
                </a:lnTo>
                <a:lnTo>
                  <a:pt x="135" y="4556"/>
                </a:lnTo>
                <a:lnTo>
                  <a:pt x="133" y="4556"/>
                </a:lnTo>
                <a:lnTo>
                  <a:pt x="132" y="4555"/>
                </a:lnTo>
                <a:lnTo>
                  <a:pt x="129" y="4553"/>
                </a:lnTo>
                <a:lnTo>
                  <a:pt x="126" y="4550"/>
                </a:lnTo>
                <a:lnTo>
                  <a:pt x="125" y="4547"/>
                </a:lnTo>
                <a:lnTo>
                  <a:pt x="122" y="4544"/>
                </a:lnTo>
                <a:lnTo>
                  <a:pt x="119" y="4542"/>
                </a:lnTo>
                <a:lnTo>
                  <a:pt x="118" y="4537"/>
                </a:lnTo>
                <a:lnTo>
                  <a:pt x="115" y="4533"/>
                </a:lnTo>
                <a:lnTo>
                  <a:pt x="112" y="4529"/>
                </a:lnTo>
                <a:lnTo>
                  <a:pt x="109" y="4523"/>
                </a:lnTo>
                <a:lnTo>
                  <a:pt x="106" y="4517"/>
                </a:lnTo>
                <a:lnTo>
                  <a:pt x="103" y="4510"/>
                </a:lnTo>
                <a:lnTo>
                  <a:pt x="100" y="4504"/>
                </a:lnTo>
                <a:lnTo>
                  <a:pt x="97" y="4497"/>
                </a:lnTo>
                <a:lnTo>
                  <a:pt x="95" y="4490"/>
                </a:lnTo>
                <a:lnTo>
                  <a:pt x="90" y="4481"/>
                </a:lnTo>
                <a:lnTo>
                  <a:pt x="87" y="4473"/>
                </a:lnTo>
                <a:lnTo>
                  <a:pt x="85" y="4464"/>
                </a:lnTo>
                <a:lnTo>
                  <a:pt x="82" y="4455"/>
                </a:lnTo>
                <a:lnTo>
                  <a:pt x="77" y="4445"/>
                </a:lnTo>
                <a:lnTo>
                  <a:pt x="74" y="4435"/>
                </a:lnTo>
                <a:lnTo>
                  <a:pt x="72" y="4425"/>
                </a:lnTo>
                <a:lnTo>
                  <a:pt x="67" y="4413"/>
                </a:lnTo>
                <a:lnTo>
                  <a:pt x="64" y="4402"/>
                </a:lnTo>
                <a:lnTo>
                  <a:pt x="60" y="4390"/>
                </a:lnTo>
                <a:lnTo>
                  <a:pt x="57" y="4379"/>
                </a:lnTo>
                <a:lnTo>
                  <a:pt x="54" y="4366"/>
                </a:lnTo>
                <a:lnTo>
                  <a:pt x="50" y="4353"/>
                </a:lnTo>
                <a:lnTo>
                  <a:pt x="47" y="4340"/>
                </a:lnTo>
                <a:lnTo>
                  <a:pt x="44" y="4327"/>
                </a:lnTo>
                <a:lnTo>
                  <a:pt x="37" y="4300"/>
                </a:lnTo>
                <a:lnTo>
                  <a:pt x="31" y="4272"/>
                </a:lnTo>
                <a:lnTo>
                  <a:pt x="26" y="4246"/>
                </a:lnTo>
                <a:lnTo>
                  <a:pt x="20" y="4221"/>
                </a:lnTo>
                <a:lnTo>
                  <a:pt x="15" y="4196"/>
                </a:lnTo>
                <a:lnTo>
                  <a:pt x="11" y="4173"/>
                </a:lnTo>
                <a:lnTo>
                  <a:pt x="7" y="4150"/>
                </a:lnTo>
                <a:lnTo>
                  <a:pt x="4" y="4127"/>
                </a:lnTo>
                <a:lnTo>
                  <a:pt x="2" y="4107"/>
                </a:lnTo>
                <a:lnTo>
                  <a:pt x="1" y="4087"/>
                </a:lnTo>
                <a:lnTo>
                  <a:pt x="0" y="4068"/>
                </a:lnTo>
                <a:lnTo>
                  <a:pt x="0" y="4049"/>
                </a:lnTo>
                <a:lnTo>
                  <a:pt x="0" y="4033"/>
                </a:lnTo>
                <a:lnTo>
                  <a:pt x="1" y="4018"/>
                </a:lnTo>
                <a:lnTo>
                  <a:pt x="2" y="4003"/>
                </a:lnTo>
                <a:lnTo>
                  <a:pt x="4" y="3997"/>
                </a:lnTo>
                <a:lnTo>
                  <a:pt x="7" y="3992"/>
                </a:lnTo>
                <a:lnTo>
                  <a:pt x="7" y="3984"/>
                </a:lnTo>
                <a:lnTo>
                  <a:pt x="7" y="3977"/>
                </a:lnTo>
                <a:lnTo>
                  <a:pt x="7" y="3970"/>
                </a:lnTo>
                <a:lnTo>
                  <a:pt x="7" y="3960"/>
                </a:lnTo>
                <a:lnTo>
                  <a:pt x="8" y="3951"/>
                </a:lnTo>
                <a:lnTo>
                  <a:pt x="8" y="3940"/>
                </a:lnTo>
                <a:lnTo>
                  <a:pt x="10" y="3928"/>
                </a:lnTo>
                <a:lnTo>
                  <a:pt x="10" y="3917"/>
                </a:lnTo>
                <a:lnTo>
                  <a:pt x="11" y="3904"/>
                </a:lnTo>
                <a:lnTo>
                  <a:pt x="13" y="3889"/>
                </a:lnTo>
                <a:lnTo>
                  <a:pt x="14" y="3875"/>
                </a:lnTo>
                <a:lnTo>
                  <a:pt x="15" y="3859"/>
                </a:lnTo>
                <a:lnTo>
                  <a:pt x="17" y="3843"/>
                </a:lnTo>
                <a:lnTo>
                  <a:pt x="18" y="3826"/>
                </a:lnTo>
                <a:lnTo>
                  <a:pt x="21" y="3809"/>
                </a:lnTo>
                <a:lnTo>
                  <a:pt x="23" y="3790"/>
                </a:lnTo>
                <a:lnTo>
                  <a:pt x="26" y="3770"/>
                </a:lnTo>
                <a:lnTo>
                  <a:pt x="28" y="3750"/>
                </a:lnTo>
                <a:lnTo>
                  <a:pt x="30" y="3728"/>
                </a:lnTo>
                <a:lnTo>
                  <a:pt x="33" y="3707"/>
                </a:lnTo>
                <a:lnTo>
                  <a:pt x="36" y="3684"/>
                </a:lnTo>
                <a:lnTo>
                  <a:pt x="40" y="3661"/>
                </a:lnTo>
                <a:lnTo>
                  <a:pt x="43" y="3636"/>
                </a:lnTo>
                <a:lnTo>
                  <a:pt x="46" y="3612"/>
                </a:lnTo>
                <a:lnTo>
                  <a:pt x="50" y="3586"/>
                </a:lnTo>
                <a:lnTo>
                  <a:pt x="54" y="3558"/>
                </a:lnTo>
                <a:lnTo>
                  <a:pt x="57" y="3531"/>
                </a:lnTo>
                <a:lnTo>
                  <a:pt x="62" y="3504"/>
                </a:lnTo>
                <a:lnTo>
                  <a:pt x="66" y="3475"/>
                </a:lnTo>
                <a:lnTo>
                  <a:pt x="72" y="3445"/>
                </a:lnTo>
                <a:lnTo>
                  <a:pt x="76" y="3414"/>
                </a:lnTo>
                <a:lnTo>
                  <a:pt x="82" y="3384"/>
                </a:lnTo>
                <a:lnTo>
                  <a:pt x="85" y="3351"/>
                </a:lnTo>
                <a:lnTo>
                  <a:pt x="87" y="3318"/>
                </a:lnTo>
                <a:lnTo>
                  <a:pt x="90" y="3283"/>
                </a:lnTo>
                <a:lnTo>
                  <a:pt x="95" y="3247"/>
                </a:lnTo>
                <a:lnTo>
                  <a:pt x="97" y="3211"/>
                </a:lnTo>
                <a:lnTo>
                  <a:pt x="100" y="3173"/>
                </a:lnTo>
                <a:lnTo>
                  <a:pt x="103" y="3134"/>
                </a:lnTo>
                <a:lnTo>
                  <a:pt x="106" y="3093"/>
                </a:lnTo>
                <a:lnTo>
                  <a:pt x="108" y="3052"/>
                </a:lnTo>
                <a:lnTo>
                  <a:pt x="110" y="3008"/>
                </a:lnTo>
                <a:lnTo>
                  <a:pt x="113" y="2964"/>
                </a:lnTo>
                <a:lnTo>
                  <a:pt x="116" y="2919"/>
                </a:lnTo>
                <a:lnTo>
                  <a:pt x="118" y="2873"/>
                </a:lnTo>
                <a:lnTo>
                  <a:pt x="121" y="2826"/>
                </a:lnTo>
                <a:lnTo>
                  <a:pt x="123" y="2777"/>
                </a:lnTo>
                <a:lnTo>
                  <a:pt x="125" y="2726"/>
                </a:lnTo>
                <a:lnTo>
                  <a:pt x="128" y="2674"/>
                </a:lnTo>
                <a:lnTo>
                  <a:pt x="129" y="2623"/>
                </a:lnTo>
                <a:lnTo>
                  <a:pt x="132" y="2569"/>
                </a:lnTo>
                <a:lnTo>
                  <a:pt x="133" y="2515"/>
                </a:lnTo>
                <a:lnTo>
                  <a:pt x="135" y="2458"/>
                </a:lnTo>
                <a:lnTo>
                  <a:pt x="138" y="2402"/>
                </a:lnTo>
                <a:lnTo>
                  <a:pt x="139" y="2343"/>
                </a:lnTo>
                <a:lnTo>
                  <a:pt x="141" y="2284"/>
                </a:lnTo>
                <a:lnTo>
                  <a:pt x="144" y="2224"/>
                </a:lnTo>
                <a:lnTo>
                  <a:pt x="145" y="2163"/>
                </a:lnTo>
                <a:lnTo>
                  <a:pt x="146" y="2100"/>
                </a:lnTo>
                <a:lnTo>
                  <a:pt x="149" y="2037"/>
                </a:lnTo>
                <a:lnTo>
                  <a:pt x="151" y="1972"/>
                </a:lnTo>
                <a:lnTo>
                  <a:pt x="152" y="1906"/>
                </a:lnTo>
                <a:lnTo>
                  <a:pt x="154" y="1838"/>
                </a:lnTo>
                <a:lnTo>
                  <a:pt x="157" y="1770"/>
                </a:lnTo>
                <a:lnTo>
                  <a:pt x="158" y="1703"/>
                </a:lnTo>
                <a:lnTo>
                  <a:pt x="159" y="1636"/>
                </a:lnTo>
                <a:lnTo>
                  <a:pt x="159" y="1572"/>
                </a:lnTo>
                <a:lnTo>
                  <a:pt x="161" y="1508"/>
                </a:lnTo>
                <a:lnTo>
                  <a:pt x="162" y="1446"/>
                </a:lnTo>
                <a:lnTo>
                  <a:pt x="162" y="1387"/>
                </a:lnTo>
                <a:lnTo>
                  <a:pt x="162" y="1328"/>
                </a:lnTo>
                <a:lnTo>
                  <a:pt x="164" y="1272"/>
                </a:lnTo>
                <a:lnTo>
                  <a:pt x="164" y="1218"/>
                </a:lnTo>
                <a:lnTo>
                  <a:pt x="164" y="1164"/>
                </a:lnTo>
                <a:lnTo>
                  <a:pt x="162" y="1112"/>
                </a:lnTo>
                <a:lnTo>
                  <a:pt x="162" y="1062"/>
                </a:lnTo>
                <a:lnTo>
                  <a:pt x="162" y="1015"/>
                </a:lnTo>
                <a:lnTo>
                  <a:pt x="161" y="968"/>
                </a:lnTo>
                <a:lnTo>
                  <a:pt x="161" y="922"/>
                </a:lnTo>
                <a:lnTo>
                  <a:pt x="159" y="879"/>
                </a:lnTo>
                <a:lnTo>
                  <a:pt x="159" y="839"/>
                </a:lnTo>
                <a:lnTo>
                  <a:pt x="158" y="799"/>
                </a:lnTo>
                <a:lnTo>
                  <a:pt x="157" y="761"/>
                </a:lnTo>
                <a:lnTo>
                  <a:pt x="155" y="725"/>
                </a:lnTo>
                <a:lnTo>
                  <a:pt x="155" y="691"/>
                </a:lnTo>
                <a:lnTo>
                  <a:pt x="154" y="658"/>
                </a:lnTo>
                <a:lnTo>
                  <a:pt x="152" y="627"/>
                </a:lnTo>
                <a:lnTo>
                  <a:pt x="151" y="597"/>
                </a:lnTo>
                <a:lnTo>
                  <a:pt x="149" y="570"/>
                </a:lnTo>
                <a:lnTo>
                  <a:pt x="146" y="545"/>
                </a:lnTo>
                <a:lnTo>
                  <a:pt x="145" y="521"/>
                </a:lnTo>
                <a:lnTo>
                  <a:pt x="144" y="499"/>
                </a:lnTo>
                <a:lnTo>
                  <a:pt x="142" y="479"/>
                </a:lnTo>
                <a:lnTo>
                  <a:pt x="141" y="460"/>
                </a:lnTo>
                <a:lnTo>
                  <a:pt x="139" y="444"/>
                </a:lnTo>
                <a:lnTo>
                  <a:pt x="138" y="4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96"/>
          <p:cNvSpPr/>
          <p:nvPr/>
        </p:nvSpPr>
        <p:spPr>
          <a:xfrm>
            <a:off x="5568840" y="3483000"/>
            <a:ext cx="817560" cy="276120"/>
          </a:xfrm>
          <a:custGeom>
            <a:avLst/>
            <a:gdLst/>
            <a:ahLst/>
            <a:rect l="l" t="t" r="r" b="b"/>
            <a:pathLst>
              <a:path w="1547" h="524">
                <a:moveTo>
                  <a:pt x="73" y="461"/>
                </a:moveTo>
                <a:lnTo>
                  <a:pt x="63" y="453"/>
                </a:lnTo>
                <a:lnTo>
                  <a:pt x="54" y="445"/>
                </a:lnTo>
                <a:lnTo>
                  <a:pt x="46" y="438"/>
                </a:lnTo>
                <a:lnTo>
                  <a:pt x="39" y="429"/>
                </a:lnTo>
                <a:lnTo>
                  <a:pt x="31" y="422"/>
                </a:lnTo>
                <a:lnTo>
                  <a:pt x="26" y="413"/>
                </a:lnTo>
                <a:lnTo>
                  <a:pt x="20" y="406"/>
                </a:lnTo>
                <a:lnTo>
                  <a:pt x="15" y="397"/>
                </a:lnTo>
                <a:lnTo>
                  <a:pt x="11" y="390"/>
                </a:lnTo>
                <a:lnTo>
                  <a:pt x="8" y="383"/>
                </a:lnTo>
                <a:lnTo>
                  <a:pt x="5" y="374"/>
                </a:lnTo>
                <a:lnTo>
                  <a:pt x="3" y="367"/>
                </a:lnTo>
                <a:lnTo>
                  <a:pt x="1" y="358"/>
                </a:lnTo>
                <a:lnTo>
                  <a:pt x="0" y="351"/>
                </a:lnTo>
                <a:lnTo>
                  <a:pt x="0" y="343"/>
                </a:lnTo>
                <a:lnTo>
                  <a:pt x="0" y="335"/>
                </a:lnTo>
                <a:lnTo>
                  <a:pt x="66" y="314"/>
                </a:lnTo>
                <a:lnTo>
                  <a:pt x="132" y="294"/>
                </a:lnTo>
                <a:lnTo>
                  <a:pt x="195" y="273"/>
                </a:lnTo>
                <a:lnTo>
                  <a:pt x="257" y="253"/>
                </a:lnTo>
                <a:lnTo>
                  <a:pt x="318" y="235"/>
                </a:lnTo>
                <a:lnTo>
                  <a:pt x="375" y="217"/>
                </a:lnTo>
                <a:lnTo>
                  <a:pt x="433" y="200"/>
                </a:lnTo>
                <a:lnTo>
                  <a:pt x="488" y="184"/>
                </a:lnTo>
                <a:lnTo>
                  <a:pt x="541" y="168"/>
                </a:lnTo>
                <a:lnTo>
                  <a:pt x="591" y="154"/>
                </a:lnTo>
                <a:lnTo>
                  <a:pt x="642" y="140"/>
                </a:lnTo>
                <a:lnTo>
                  <a:pt x="689" y="127"/>
                </a:lnTo>
                <a:lnTo>
                  <a:pt x="735" y="114"/>
                </a:lnTo>
                <a:lnTo>
                  <a:pt x="778" y="102"/>
                </a:lnTo>
                <a:lnTo>
                  <a:pt x="822" y="91"/>
                </a:lnTo>
                <a:lnTo>
                  <a:pt x="862" y="79"/>
                </a:lnTo>
                <a:lnTo>
                  <a:pt x="899" y="70"/>
                </a:lnTo>
                <a:lnTo>
                  <a:pt x="937" y="60"/>
                </a:lnTo>
                <a:lnTo>
                  <a:pt x="971" y="52"/>
                </a:lnTo>
                <a:lnTo>
                  <a:pt x="1005" y="45"/>
                </a:lnTo>
                <a:lnTo>
                  <a:pt x="1035" y="37"/>
                </a:lnTo>
                <a:lnTo>
                  <a:pt x="1064" y="30"/>
                </a:lnTo>
                <a:lnTo>
                  <a:pt x="1091" y="24"/>
                </a:lnTo>
                <a:lnTo>
                  <a:pt x="1117" y="20"/>
                </a:lnTo>
                <a:lnTo>
                  <a:pt x="1140" y="14"/>
                </a:lnTo>
                <a:lnTo>
                  <a:pt x="1161" y="11"/>
                </a:lnTo>
                <a:lnTo>
                  <a:pt x="1180" y="7"/>
                </a:lnTo>
                <a:lnTo>
                  <a:pt x="1197" y="4"/>
                </a:lnTo>
                <a:lnTo>
                  <a:pt x="1213" y="3"/>
                </a:lnTo>
                <a:lnTo>
                  <a:pt x="1228" y="1"/>
                </a:lnTo>
                <a:lnTo>
                  <a:pt x="1239" y="0"/>
                </a:lnTo>
                <a:lnTo>
                  <a:pt x="1249" y="0"/>
                </a:lnTo>
                <a:lnTo>
                  <a:pt x="1267" y="0"/>
                </a:lnTo>
                <a:lnTo>
                  <a:pt x="1282" y="0"/>
                </a:lnTo>
                <a:lnTo>
                  <a:pt x="1300" y="0"/>
                </a:lnTo>
                <a:lnTo>
                  <a:pt x="1315" y="0"/>
                </a:lnTo>
                <a:lnTo>
                  <a:pt x="1331" y="0"/>
                </a:lnTo>
                <a:lnTo>
                  <a:pt x="1346" y="1"/>
                </a:lnTo>
                <a:lnTo>
                  <a:pt x="1360" y="1"/>
                </a:lnTo>
                <a:lnTo>
                  <a:pt x="1374" y="3"/>
                </a:lnTo>
                <a:lnTo>
                  <a:pt x="1389" y="3"/>
                </a:lnTo>
                <a:lnTo>
                  <a:pt x="1402" y="4"/>
                </a:lnTo>
                <a:lnTo>
                  <a:pt x="1415" y="7"/>
                </a:lnTo>
                <a:lnTo>
                  <a:pt x="1428" y="9"/>
                </a:lnTo>
                <a:lnTo>
                  <a:pt x="1439" y="11"/>
                </a:lnTo>
                <a:lnTo>
                  <a:pt x="1451" y="14"/>
                </a:lnTo>
                <a:lnTo>
                  <a:pt x="1462" y="17"/>
                </a:lnTo>
                <a:lnTo>
                  <a:pt x="1472" y="21"/>
                </a:lnTo>
                <a:lnTo>
                  <a:pt x="1482" y="24"/>
                </a:lnTo>
                <a:lnTo>
                  <a:pt x="1491" y="30"/>
                </a:lnTo>
                <a:lnTo>
                  <a:pt x="1500" y="34"/>
                </a:lnTo>
                <a:lnTo>
                  <a:pt x="1508" y="40"/>
                </a:lnTo>
                <a:lnTo>
                  <a:pt x="1514" y="46"/>
                </a:lnTo>
                <a:lnTo>
                  <a:pt x="1521" y="52"/>
                </a:lnTo>
                <a:lnTo>
                  <a:pt x="1526" y="57"/>
                </a:lnTo>
                <a:lnTo>
                  <a:pt x="1531" y="63"/>
                </a:lnTo>
                <a:lnTo>
                  <a:pt x="1534" y="69"/>
                </a:lnTo>
                <a:lnTo>
                  <a:pt x="1539" y="75"/>
                </a:lnTo>
                <a:lnTo>
                  <a:pt x="1541" y="81"/>
                </a:lnTo>
                <a:lnTo>
                  <a:pt x="1543" y="86"/>
                </a:lnTo>
                <a:lnTo>
                  <a:pt x="1546" y="91"/>
                </a:lnTo>
                <a:lnTo>
                  <a:pt x="1546" y="96"/>
                </a:lnTo>
                <a:lnTo>
                  <a:pt x="1547" y="101"/>
                </a:lnTo>
                <a:lnTo>
                  <a:pt x="1547" y="105"/>
                </a:lnTo>
                <a:lnTo>
                  <a:pt x="1547" y="109"/>
                </a:lnTo>
                <a:lnTo>
                  <a:pt x="1546" y="114"/>
                </a:lnTo>
                <a:lnTo>
                  <a:pt x="1543" y="118"/>
                </a:lnTo>
                <a:lnTo>
                  <a:pt x="1540" y="124"/>
                </a:lnTo>
                <a:lnTo>
                  <a:pt x="1536" y="129"/>
                </a:lnTo>
                <a:lnTo>
                  <a:pt x="1530" y="135"/>
                </a:lnTo>
                <a:lnTo>
                  <a:pt x="1524" y="141"/>
                </a:lnTo>
                <a:lnTo>
                  <a:pt x="1517" y="147"/>
                </a:lnTo>
                <a:lnTo>
                  <a:pt x="1508" y="153"/>
                </a:lnTo>
                <a:lnTo>
                  <a:pt x="1498" y="158"/>
                </a:lnTo>
                <a:lnTo>
                  <a:pt x="1488" y="164"/>
                </a:lnTo>
                <a:lnTo>
                  <a:pt x="1477" y="170"/>
                </a:lnTo>
                <a:lnTo>
                  <a:pt x="1464" y="174"/>
                </a:lnTo>
                <a:lnTo>
                  <a:pt x="1449" y="180"/>
                </a:lnTo>
                <a:lnTo>
                  <a:pt x="1434" y="184"/>
                </a:lnTo>
                <a:lnTo>
                  <a:pt x="1416" y="188"/>
                </a:lnTo>
                <a:lnTo>
                  <a:pt x="1408" y="193"/>
                </a:lnTo>
                <a:lnTo>
                  <a:pt x="1398" y="197"/>
                </a:lnTo>
                <a:lnTo>
                  <a:pt x="1387" y="201"/>
                </a:lnTo>
                <a:lnTo>
                  <a:pt x="1376" y="206"/>
                </a:lnTo>
                <a:lnTo>
                  <a:pt x="1364" y="210"/>
                </a:lnTo>
                <a:lnTo>
                  <a:pt x="1351" y="214"/>
                </a:lnTo>
                <a:lnTo>
                  <a:pt x="1338" y="219"/>
                </a:lnTo>
                <a:lnTo>
                  <a:pt x="1326" y="224"/>
                </a:lnTo>
                <a:lnTo>
                  <a:pt x="1310" y="229"/>
                </a:lnTo>
                <a:lnTo>
                  <a:pt x="1295" y="233"/>
                </a:lnTo>
                <a:lnTo>
                  <a:pt x="1279" y="239"/>
                </a:lnTo>
                <a:lnTo>
                  <a:pt x="1262" y="245"/>
                </a:lnTo>
                <a:lnTo>
                  <a:pt x="1245" y="249"/>
                </a:lnTo>
                <a:lnTo>
                  <a:pt x="1226" y="255"/>
                </a:lnTo>
                <a:lnTo>
                  <a:pt x="1207" y="260"/>
                </a:lnTo>
                <a:lnTo>
                  <a:pt x="1187" y="266"/>
                </a:lnTo>
                <a:lnTo>
                  <a:pt x="1167" y="272"/>
                </a:lnTo>
                <a:lnTo>
                  <a:pt x="1146" y="279"/>
                </a:lnTo>
                <a:lnTo>
                  <a:pt x="1124" y="285"/>
                </a:lnTo>
                <a:lnTo>
                  <a:pt x="1101" y="291"/>
                </a:lnTo>
                <a:lnTo>
                  <a:pt x="1078" y="298"/>
                </a:lnTo>
                <a:lnTo>
                  <a:pt x="1053" y="304"/>
                </a:lnTo>
                <a:lnTo>
                  <a:pt x="1028" y="311"/>
                </a:lnTo>
                <a:lnTo>
                  <a:pt x="1002" y="318"/>
                </a:lnTo>
                <a:lnTo>
                  <a:pt x="974" y="324"/>
                </a:lnTo>
                <a:lnTo>
                  <a:pt x="947" y="331"/>
                </a:lnTo>
                <a:lnTo>
                  <a:pt x="918" y="338"/>
                </a:lnTo>
                <a:lnTo>
                  <a:pt x="889" y="347"/>
                </a:lnTo>
                <a:lnTo>
                  <a:pt x="859" y="354"/>
                </a:lnTo>
                <a:lnTo>
                  <a:pt x="827" y="361"/>
                </a:lnTo>
                <a:lnTo>
                  <a:pt x="796" y="368"/>
                </a:lnTo>
                <a:lnTo>
                  <a:pt x="764" y="377"/>
                </a:lnTo>
                <a:lnTo>
                  <a:pt x="731" y="387"/>
                </a:lnTo>
                <a:lnTo>
                  <a:pt x="699" y="396"/>
                </a:lnTo>
                <a:lnTo>
                  <a:pt x="669" y="406"/>
                </a:lnTo>
                <a:lnTo>
                  <a:pt x="639" y="415"/>
                </a:lnTo>
                <a:lnTo>
                  <a:pt x="610" y="422"/>
                </a:lnTo>
                <a:lnTo>
                  <a:pt x="583" y="430"/>
                </a:lnTo>
                <a:lnTo>
                  <a:pt x="555" y="438"/>
                </a:lnTo>
                <a:lnTo>
                  <a:pt x="529" y="445"/>
                </a:lnTo>
                <a:lnTo>
                  <a:pt x="505" y="452"/>
                </a:lnTo>
                <a:lnTo>
                  <a:pt x="480" y="458"/>
                </a:lnTo>
                <a:lnTo>
                  <a:pt x="457" y="465"/>
                </a:lnTo>
                <a:lnTo>
                  <a:pt x="436" y="471"/>
                </a:lnTo>
                <a:lnTo>
                  <a:pt x="416" y="476"/>
                </a:lnTo>
                <a:lnTo>
                  <a:pt x="396" y="481"/>
                </a:lnTo>
                <a:lnTo>
                  <a:pt x="377" y="486"/>
                </a:lnTo>
                <a:lnTo>
                  <a:pt x="358" y="491"/>
                </a:lnTo>
                <a:lnTo>
                  <a:pt x="341" y="495"/>
                </a:lnTo>
                <a:lnTo>
                  <a:pt x="325" y="498"/>
                </a:lnTo>
                <a:lnTo>
                  <a:pt x="311" y="502"/>
                </a:lnTo>
                <a:lnTo>
                  <a:pt x="296" y="505"/>
                </a:lnTo>
                <a:lnTo>
                  <a:pt x="283" y="508"/>
                </a:lnTo>
                <a:lnTo>
                  <a:pt x="270" y="511"/>
                </a:lnTo>
                <a:lnTo>
                  <a:pt x="260" y="514"/>
                </a:lnTo>
                <a:lnTo>
                  <a:pt x="250" y="515"/>
                </a:lnTo>
                <a:lnTo>
                  <a:pt x="240" y="518"/>
                </a:lnTo>
                <a:lnTo>
                  <a:pt x="233" y="520"/>
                </a:lnTo>
                <a:lnTo>
                  <a:pt x="226" y="521"/>
                </a:lnTo>
                <a:lnTo>
                  <a:pt x="218" y="522"/>
                </a:lnTo>
                <a:lnTo>
                  <a:pt x="214" y="522"/>
                </a:lnTo>
                <a:lnTo>
                  <a:pt x="210" y="524"/>
                </a:lnTo>
                <a:lnTo>
                  <a:pt x="207" y="524"/>
                </a:lnTo>
                <a:lnTo>
                  <a:pt x="204" y="524"/>
                </a:lnTo>
                <a:lnTo>
                  <a:pt x="200" y="524"/>
                </a:lnTo>
                <a:lnTo>
                  <a:pt x="195" y="522"/>
                </a:lnTo>
                <a:lnTo>
                  <a:pt x="190" y="521"/>
                </a:lnTo>
                <a:lnTo>
                  <a:pt x="184" y="520"/>
                </a:lnTo>
                <a:lnTo>
                  <a:pt x="177" y="518"/>
                </a:lnTo>
                <a:lnTo>
                  <a:pt x="170" y="515"/>
                </a:lnTo>
                <a:lnTo>
                  <a:pt x="161" y="512"/>
                </a:lnTo>
                <a:lnTo>
                  <a:pt x="152" y="508"/>
                </a:lnTo>
                <a:lnTo>
                  <a:pt x="144" y="504"/>
                </a:lnTo>
                <a:lnTo>
                  <a:pt x="135" y="499"/>
                </a:lnTo>
                <a:lnTo>
                  <a:pt x="125" y="494"/>
                </a:lnTo>
                <a:lnTo>
                  <a:pt x="115" y="488"/>
                </a:lnTo>
                <a:lnTo>
                  <a:pt x="105" y="482"/>
                </a:lnTo>
                <a:lnTo>
                  <a:pt x="95" y="475"/>
                </a:lnTo>
                <a:lnTo>
                  <a:pt x="83" y="468"/>
                </a:lnTo>
                <a:lnTo>
                  <a:pt x="73" y="4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97"/>
          <p:cNvSpPr/>
          <p:nvPr/>
        </p:nvSpPr>
        <p:spPr>
          <a:xfrm>
            <a:off x="5506920" y="3538440"/>
            <a:ext cx="612720" cy="1100160"/>
          </a:xfrm>
          <a:custGeom>
            <a:avLst/>
            <a:gdLst/>
            <a:ahLst/>
            <a:rect l="l" t="t" r="r" b="b"/>
            <a:pathLst>
              <a:path w="1160" h="2079">
                <a:moveTo>
                  <a:pt x="675" y="1383"/>
                </a:moveTo>
                <a:lnTo>
                  <a:pt x="651" y="1422"/>
                </a:lnTo>
                <a:lnTo>
                  <a:pt x="626" y="1460"/>
                </a:lnTo>
                <a:lnTo>
                  <a:pt x="600" y="1497"/>
                </a:lnTo>
                <a:lnTo>
                  <a:pt x="574" y="1533"/>
                </a:lnTo>
                <a:lnTo>
                  <a:pt x="549" y="1568"/>
                </a:lnTo>
                <a:lnTo>
                  <a:pt x="523" y="1602"/>
                </a:lnTo>
                <a:lnTo>
                  <a:pt x="495" y="1635"/>
                </a:lnTo>
                <a:lnTo>
                  <a:pt x="468" y="1669"/>
                </a:lnTo>
                <a:lnTo>
                  <a:pt x="441" y="1700"/>
                </a:lnTo>
                <a:lnTo>
                  <a:pt x="413" y="1732"/>
                </a:lnTo>
                <a:lnTo>
                  <a:pt x="386" y="1762"/>
                </a:lnTo>
                <a:lnTo>
                  <a:pt x="357" y="1792"/>
                </a:lnTo>
                <a:lnTo>
                  <a:pt x="330" y="1821"/>
                </a:lnTo>
                <a:lnTo>
                  <a:pt x="302" y="1850"/>
                </a:lnTo>
                <a:lnTo>
                  <a:pt x="274" y="1879"/>
                </a:lnTo>
                <a:lnTo>
                  <a:pt x="246" y="1907"/>
                </a:lnTo>
                <a:lnTo>
                  <a:pt x="233" y="1920"/>
                </a:lnTo>
                <a:lnTo>
                  <a:pt x="219" y="1933"/>
                </a:lnTo>
                <a:lnTo>
                  <a:pt x="206" y="1945"/>
                </a:lnTo>
                <a:lnTo>
                  <a:pt x="194" y="1958"/>
                </a:lnTo>
                <a:lnTo>
                  <a:pt x="183" y="1968"/>
                </a:lnTo>
                <a:lnTo>
                  <a:pt x="171" y="1979"/>
                </a:lnTo>
                <a:lnTo>
                  <a:pt x="160" y="1988"/>
                </a:lnTo>
                <a:lnTo>
                  <a:pt x="148" y="1998"/>
                </a:lnTo>
                <a:lnTo>
                  <a:pt x="138" y="2007"/>
                </a:lnTo>
                <a:lnTo>
                  <a:pt x="128" y="2015"/>
                </a:lnTo>
                <a:lnTo>
                  <a:pt x="118" y="2023"/>
                </a:lnTo>
                <a:lnTo>
                  <a:pt x="109" y="2030"/>
                </a:lnTo>
                <a:lnTo>
                  <a:pt x="101" y="2037"/>
                </a:lnTo>
                <a:lnTo>
                  <a:pt x="92" y="2043"/>
                </a:lnTo>
                <a:lnTo>
                  <a:pt x="85" y="2049"/>
                </a:lnTo>
                <a:lnTo>
                  <a:pt x="76" y="2054"/>
                </a:lnTo>
                <a:lnTo>
                  <a:pt x="69" y="2059"/>
                </a:lnTo>
                <a:lnTo>
                  <a:pt x="62" y="2063"/>
                </a:lnTo>
                <a:lnTo>
                  <a:pt x="56" y="2066"/>
                </a:lnTo>
                <a:lnTo>
                  <a:pt x="50" y="2069"/>
                </a:lnTo>
                <a:lnTo>
                  <a:pt x="43" y="2072"/>
                </a:lnTo>
                <a:lnTo>
                  <a:pt x="39" y="2074"/>
                </a:lnTo>
                <a:lnTo>
                  <a:pt x="33" y="2076"/>
                </a:lnTo>
                <a:lnTo>
                  <a:pt x="29" y="2077"/>
                </a:lnTo>
                <a:lnTo>
                  <a:pt x="25" y="2079"/>
                </a:lnTo>
                <a:lnTo>
                  <a:pt x="20" y="2079"/>
                </a:lnTo>
                <a:lnTo>
                  <a:pt x="17" y="2079"/>
                </a:lnTo>
                <a:lnTo>
                  <a:pt x="13" y="2079"/>
                </a:lnTo>
                <a:lnTo>
                  <a:pt x="10" y="2079"/>
                </a:lnTo>
                <a:lnTo>
                  <a:pt x="7" y="2077"/>
                </a:lnTo>
                <a:lnTo>
                  <a:pt x="6" y="2076"/>
                </a:lnTo>
                <a:lnTo>
                  <a:pt x="4" y="2074"/>
                </a:lnTo>
                <a:lnTo>
                  <a:pt x="1" y="2072"/>
                </a:lnTo>
                <a:lnTo>
                  <a:pt x="1" y="2069"/>
                </a:lnTo>
                <a:lnTo>
                  <a:pt x="0" y="2063"/>
                </a:lnTo>
                <a:lnTo>
                  <a:pt x="0" y="2056"/>
                </a:lnTo>
                <a:lnTo>
                  <a:pt x="0" y="2047"/>
                </a:lnTo>
                <a:lnTo>
                  <a:pt x="3" y="2037"/>
                </a:lnTo>
                <a:lnTo>
                  <a:pt x="7" y="2026"/>
                </a:lnTo>
                <a:lnTo>
                  <a:pt x="12" y="2013"/>
                </a:lnTo>
                <a:lnTo>
                  <a:pt x="19" y="1998"/>
                </a:lnTo>
                <a:lnTo>
                  <a:pt x="26" y="1982"/>
                </a:lnTo>
                <a:lnTo>
                  <a:pt x="35" y="1967"/>
                </a:lnTo>
                <a:lnTo>
                  <a:pt x="46" y="1949"/>
                </a:lnTo>
                <a:lnTo>
                  <a:pt x="58" y="1931"/>
                </a:lnTo>
                <a:lnTo>
                  <a:pt x="69" y="1910"/>
                </a:lnTo>
                <a:lnTo>
                  <a:pt x="84" y="1889"/>
                </a:lnTo>
                <a:lnTo>
                  <a:pt x="99" y="1867"/>
                </a:lnTo>
                <a:lnTo>
                  <a:pt x="117" y="1844"/>
                </a:lnTo>
                <a:lnTo>
                  <a:pt x="134" y="1823"/>
                </a:lnTo>
                <a:lnTo>
                  <a:pt x="151" y="1801"/>
                </a:lnTo>
                <a:lnTo>
                  <a:pt x="168" y="1778"/>
                </a:lnTo>
                <a:lnTo>
                  <a:pt x="186" y="1753"/>
                </a:lnTo>
                <a:lnTo>
                  <a:pt x="204" y="1728"/>
                </a:lnTo>
                <a:lnTo>
                  <a:pt x="223" y="1702"/>
                </a:lnTo>
                <a:lnTo>
                  <a:pt x="242" y="1673"/>
                </a:lnTo>
                <a:lnTo>
                  <a:pt x="261" y="1644"/>
                </a:lnTo>
                <a:lnTo>
                  <a:pt x="281" y="1615"/>
                </a:lnTo>
                <a:lnTo>
                  <a:pt x="299" y="1584"/>
                </a:lnTo>
                <a:lnTo>
                  <a:pt x="321" y="1552"/>
                </a:lnTo>
                <a:lnTo>
                  <a:pt x="341" y="1520"/>
                </a:lnTo>
                <a:lnTo>
                  <a:pt x="363" y="1487"/>
                </a:lnTo>
                <a:lnTo>
                  <a:pt x="386" y="1453"/>
                </a:lnTo>
                <a:lnTo>
                  <a:pt x="409" y="1418"/>
                </a:lnTo>
                <a:lnTo>
                  <a:pt x="433" y="1383"/>
                </a:lnTo>
                <a:lnTo>
                  <a:pt x="443" y="1365"/>
                </a:lnTo>
                <a:lnTo>
                  <a:pt x="455" y="1345"/>
                </a:lnTo>
                <a:lnTo>
                  <a:pt x="466" y="1322"/>
                </a:lnTo>
                <a:lnTo>
                  <a:pt x="479" y="1299"/>
                </a:lnTo>
                <a:lnTo>
                  <a:pt x="494" y="1274"/>
                </a:lnTo>
                <a:lnTo>
                  <a:pt x="508" y="1248"/>
                </a:lnTo>
                <a:lnTo>
                  <a:pt x="523" y="1219"/>
                </a:lnTo>
                <a:lnTo>
                  <a:pt x="538" y="1191"/>
                </a:lnTo>
                <a:lnTo>
                  <a:pt x="554" y="1159"/>
                </a:lnTo>
                <a:lnTo>
                  <a:pt x="572" y="1126"/>
                </a:lnTo>
                <a:lnTo>
                  <a:pt x="589" y="1091"/>
                </a:lnTo>
                <a:lnTo>
                  <a:pt x="608" y="1055"/>
                </a:lnTo>
                <a:lnTo>
                  <a:pt x="626" y="1018"/>
                </a:lnTo>
                <a:lnTo>
                  <a:pt x="645" y="979"/>
                </a:lnTo>
                <a:lnTo>
                  <a:pt x="665" y="939"/>
                </a:lnTo>
                <a:lnTo>
                  <a:pt x="687" y="895"/>
                </a:lnTo>
                <a:lnTo>
                  <a:pt x="708" y="852"/>
                </a:lnTo>
                <a:lnTo>
                  <a:pt x="730" y="806"/>
                </a:lnTo>
                <a:lnTo>
                  <a:pt x="753" y="760"/>
                </a:lnTo>
                <a:lnTo>
                  <a:pt x="776" y="711"/>
                </a:lnTo>
                <a:lnTo>
                  <a:pt x="800" y="661"/>
                </a:lnTo>
                <a:lnTo>
                  <a:pt x="825" y="609"/>
                </a:lnTo>
                <a:lnTo>
                  <a:pt x="849" y="554"/>
                </a:lnTo>
                <a:lnTo>
                  <a:pt x="875" y="500"/>
                </a:lnTo>
                <a:lnTo>
                  <a:pt x="903" y="443"/>
                </a:lnTo>
                <a:lnTo>
                  <a:pt x="930" y="384"/>
                </a:lnTo>
                <a:lnTo>
                  <a:pt x="957" y="324"/>
                </a:lnTo>
                <a:lnTo>
                  <a:pt x="985" y="263"/>
                </a:lnTo>
                <a:lnTo>
                  <a:pt x="1014" y="200"/>
                </a:lnTo>
                <a:lnTo>
                  <a:pt x="1044" y="135"/>
                </a:lnTo>
                <a:lnTo>
                  <a:pt x="1074" y="68"/>
                </a:lnTo>
                <a:lnTo>
                  <a:pt x="1104" y="0"/>
                </a:lnTo>
                <a:lnTo>
                  <a:pt x="1133" y="199"/>
                </a:lnTo>
                <a:lnTo>
                  <a:pt x="1146" y="298"/>
                </a:lnTo>
                <a:lnTo>
                  <a:pt x="1160" y="399"/>
                </a:lnTo>
                <a:lnTo>
                  <a:pt x="1129" y="479"/>
                </a:lnTo>
                <a:lnTo>
                  <a:pt x="1098" y="557"/>
                </a:lnTo>
                <a:lnTo>
                  <a:pt x="1067" y="632"/>
                </a:lnTo>
                <a:lnTo>
                  <a:pt x="1035" y="705"/>
                </a:lnTo>
                <a:lnTo>
                  <a:pt x="1005" y="775"/>
                </a:lnTo>
                <a:lnTo>
                  <a:pt x="973" y="842"/>
                </a:lnTo>
                <a:lnTo>
                  <a:pt x="943" y="907"/>
                </a:lnTo>
                <a:lnTo>
                  <a:pt x="911" y="969"/>
                </a:lnTo>
                <a:lnTo>
                  <a:pt x="881" y="1028"/>
                </a:lnTo>
                <a:lnTo>
                  <a:pt x="851" y="1085"/>
                </a:lnTo>
                <a:lnTo>
                  <a:pt x="821" y="1140"/>
                </a:lnTo>
                <a:lnTo>
                  <a:pt x="790" y="1193"/>
                </a:lnTo>
                <a:lnTo>
                  <a:pt x="760" y="1244"/>
                </a:lnTo>
                <a:lnTo>
                  <a:pt x="731" y="1291"/>
                </a:lnTo>
                <a:lnTo>
                  <a:pt x="703" y="1339"/>
                </a:lnTo>
                <a:lnTo>
                  <a:pt x="675" y="13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8"/>
          <p:cNvSpPr/>
          <p:nvPr/>
        </p:nvSpPr>
        <p:spPr>
          <a:xfrm>
            <a:off x="6100920" y="3925800"/>
            <a:ext cx="239400" cy="185760"/>
          </a:xfrm>
          <a:custGeom>
            <a:avLst/>
            <a:gdLst/>
            <a:ahLst/>
            <a:rect l="l" t="t" r="r" b="b"/>
            <a:pathLst>
              <a:path w="452" h="351">
                <a:moveTo>
                  <a:pt x="410" y="147"/>
                </a:moveTo>
                <a:lnTo>
                  <a:pt x="420" y="162"/>
                </a:lnTo>
                <a:lnTo>
                  <a:pt x="429" y="177"/>
                </a:lnTo>
                <a:lnTo>
                  <a:pt x="436" y="191"/>
                </a:lnTo>
                <a:lnTo>
                  <a:pt x="442" y="206"/>
                </a:lnTo>
                <a:lnTo>
                  <a:pt x="446" y="219"/>
                </a:lnTo>
                <a:lnTo>
                  <a:pt x="449" y="232"/>
                </a:lnTo>
                <a:lnTo>
                  <a:pt x="452" y="244"/>
                </a:lnTo>
                <a:lnTo>
                  <a:pt x="452" y="256"/>
                </a:lnTo>
                <a:lnTo>
                  <a:pt x="452" y="268"/>
                </a:lnTo>
                <a:lnTo>
                  <a:pt x="449" y="279"/>
                </a:lnTo>
                <a:lnTo>
                  <a:pt x="446" y="289"/>
                </a:lnTo>
                <a:lnTo>
                  <a:pt x="442" y="299"/>
                </a:lnTo>
                <a:lnTo>
                  <a:pt x="436" y="309"/>
                </a:lnTo>
                <a:lnTo>
                  <a:pt x="429" y="318"/>
                </a:lnTo>
                <a:lnTo>
                  <a:pt x="420" y="327"/>
                </a:lnTo>
                <a:lnTo>
                  <a:pt x="410" y="335"/>
                </a:lnTo>
                <a:lnTo>
                  <a:pt x="404" y="341"/>
                </a:lnTo>
                <a:lnTo>
                  <a:pt x="399" y="345"/>
                </a:lnTo>
                <a:lnTo>
                  <a:pt x="393" y="348"/>
                </a:lnTo>
                <a:lnTo>
                  <a:pt x="386" y="350"/>
                </a:lnTo>
                <a:lnTo>
                  <a:pt x="379" y="351"/>
                </a:lnTo>
                <a:lnTo>
                  <a:pt x="371" y="351"/>
                </a:lnTo>
                <a:lnTo>
                  <a:pt x="363" y="350"/>
                </a:lnTo>
                <a:lnTo>
                  <a:pt x="354" y="348"/>
                </a:lnTo>
                <a:lnTo>
                  <a:pt x="344" y="345"/>
                </a:lnTo>
                <a:lnTo>
                  <a:pt x="335" y="341"/>
                </a:lnTo>
                <a:lnTo>
                  <a:pt x="325" y="335"/>
                </a:lnTo>
                <a:lnTo>
                  <a:pt x="314" y="329"/>
                </a:lnTo>
                <a:lnTo>
                  <a:pt x="304" y="322"/>
                </a:lnTo>
                <a:lnTo>
                  <a:pt x="292" y="314"/>
                </a:lnTo>
                <a:lnTo>
                  <a:pt x="279" y="305"/>
                </a:lnTo>
                <a:lnTo>
                  <a:pt x="268" y="295"/>
                </a:lnTo>
                <a:lnTo>
                  <a:pt x="255" y="283"/>
                </a:lnTo>
                <a:lnTo>
                  <a:pt x="240" y="270"/>
                </a:lnTo>
                <a:lnTo>
                  <a:pt x="227" y="257"/>
                </a:lnTo>
                <a:lnTo>
                  <a:pt x="213" y="243"/>
                </a:lnTo>
                <a:lnTo>
                  <a:pt x="197" y="229"/>
                </a:lnTo>
                <a:lnTo>
                  <a:pt x="181" y="213"/>
                </a:lnTo>
                <a:lnTo>
                  <a:pt x="165" y="196"/>
                </a:lnTo>
                <a:lnTo>
                  <a:pt x="150" y="177"/>
                </a:lnTo>
                <a:lnTo>
                  <a:pt x="132" y="158"/>
                </a:lnTo>
                <a:lnTo>
                  <a:pt x="115" y="138"/>
                </a:lnTo>
                <a:lnTo>
                  <a:pt x="98" y="118"/>
                </a:lnTo>
                <a:lnTo>
                  <a:pt x="79" y="96"/>
                </a:lnTo>
                <a:lnTo>
                  <a:pt x="60" y="73"/>
                </a:lnTo>
                <a:lnTo>
                  <a:pt x="40" y="50"/>
                </a:lnTo>
                <a:lnTo>
                  <a:pt x="20" y="26"/>
                </a:lnTo>
                <a:lnTo>
                  <a:pt x="0" y="0"/>
                </a:lnTo>
                <a:lnTo>
                  <a:pt x="20" y="0"/>
                </a:lnTo>
                <a:lnTo>
                  <a:pt x="40" y="0"/>
                </a:lnTo>
                <a:lnTo>
                  <a:pt x="60" y="1"/>
                </a:lnTo>
                <a:lnTo>
                  <a:pt x="79" y="1"/>
                </a:lnTo>
                <a:lnTo>
                  <a:pt x="98" y="3"/>
                </a:lnTo>
                <a:lnTo>
                  <a:pt x="117" y="4"/>
                </a:lnTo>
                <a:lnTo>
                  <a:pt x="134" y="6"/>
                </a:lnTo>
                <a:lnTo>
                  <a:pt x="151" y="8"/>
                </a:lnTo>
                <a:lnTo>
                  <a:pt x="167" y="10"/>
                </a:lnTo>
                <a:lnTo>
                  <a:pt x="183" y="13"/>
                </a:lnTo>
                <a:lnTo>
                  <a:pt x="199" y="16"/>
                </a:lnTo>
                <a:lnTo>
                  <a:pt x="214" y="18"/>
                </a:lnTo>
                <a:lnTo>
                  <a:pt x="229" y="21"/>
                </a:lnTo>
                <a:lnTo>
                  <a:pt x="242" y="26"/>
                </a:lnTo>
                <a:lnTo>
                  <a:pt x="256" y="30"/>
                </a:lnTo>
                <a:lnTo>
                  <a:pt x="269" y="34"/>
                </a:lnTo>
                <a:lnTo>
                  <a:pt x="281" y="39"/>
                </a:lnTo>
                <a:lnTo>
                  <a:pt x="294" y="43"/>
                </a:lnTo>
                <a:lnTo>
                  <a:pt x="305" y="49"/>
                </a:lnTo>
                <a:lnTo>
                  <a:pt x="315" y="54"/>
                </a:lnTo>
                <a:lnTo>
                  <a:pt x="325" y="60"/>
                </a:lnTo>
                <a:lnTo>
                  <a:pt x="335" y="66"/>
                </a:lnTo>
                <a:lnTo>
                  <a:pt x="345" y="73"/>
                </a:lnTo>
                <a:lnTo>
                  <a:pt x="354" y="79"/>
                </a:lnTo>
                <a:lnTo>
                  <a:pt x="363" y="86"/>
                </a:lnTo>
                <a:lnTo>
                  <a:pt x="371" y="93"/>
                </a:lnTo>
                <a:lnTo>
                  <a:pt x="379" y="102"/>
                </a:lnTo>
                <a:lnTo>
                  <a:pt x="386" y="111"/>
                </a:lnTo>
                <a:lnTo>
                  <a:pt x="393" y="119"/>
                </a:lnTo>
                <a:lnTo>
                  <a:pt x="399" y="128"/>
                </a:lnTo>
                <a:lnTo>
                  <a:pt x="404" y="137"/>
                </a:lnTo>
                <a:lnTo>
                  <a:pt x="410" y="1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99"/>
          <p:cNvSpPr/>
          <p:nvPr/>
        </p:nvSpPr>
        <p:spPr>
          <a:xfrm>
            <a:off x="6404040" y="3197160"/>
            <a:ext cx="328680" cy="974880"/>
          </a:xfrm>
          <a:custGeom>
            <a:avLst/>
            <a:gdLst/>
            <a:ahLst/>
            <a:rect l="l" t="t" r="r" b="b"/>
            <a:pathLst>
              <a:path w="621" h="1843">
                <a:moveTo>
                  <a:pt x="229" y="1651"/>
                </a:moveTo>
                <a:lnTo>
                  <a:pt x="216" y="1664"/>
                </a:lnTo>
                <a:lnTo>
                  <a:pt x="205" y="1677"/>
                </a:lnTo>
                <a:lnTo>
                  <a:pt x="193" y="1690"/>
                </a:lnTo>
                <a:lnTo>
                  <a:pt x="183" y="1702"/>
                </a:lnTo>
                <a:lnTo>
                  <a:pt x="172" y="1713"/>
                </a:lnTo>
                <a:lnTo>
                  <a:pt x="162" y="1725"/>
                </a:lnTo>
                <a:lnTo>
                  <a:pt x="152" y="1735"/>
                </a:lnTo>
                <a:lnTo>
                  <a:pt x="141" y="1745"/>
                </a:lnTo>
                <a:lnTo>
                  <a:pt x="131" y="1755"/>
                </a:lnTo>
                <a:lnTo>
                  <a:pt x="123" y="1764"/>
                </a:lnTo>
                <a:lnTo>
                  <a:pt x="114" y="1772"/>
                </a:lnTo>
                <a:lnTo>
                  <a:pt x="105" y="1781"/>
                </a:lnTo>
                <a:lnTo>
                  <a:pt x="97" y="1788"/>
                </a:lnTo>
                <a:lnTo>
                  <a:pt x="90" y="1795"/>
                </a:lnTo>
                <a:lnTo>
                  <a:pt x="82" y="1802"/>
                </a:lnTo>
                <a:lnTo>
                  <a:pt x="75" y="1808"/>
                </a:lnTo>
                <a:lnTo>
                  <a:pt x="68" y="1814"/>
                </a:lnTo>
                <a:lnTo>
                  <a:pt x="61" y="1818"/>
                </a:lnTo>
                <a:lnTo>
                  <a:pt x="55" y="1824"/>
                </a:lnTo>
                <a:lnTo>
                  <a:pt x="49" y="1827"/>
                </a:lnTo>
                <a:lnTo>
                  <a:pt x="44" y="1831"/>
                </a:lnTo>
                <a:lnTo>
                  <a:pt x="38" y="1834"/>
                </a:lnTo>
                <a:lnTo>
                  <a:pt x="33" y="1837"/>
                </a:lnTo>
                <a:lnTo>
                  <a:pt x="29" y="1840"/>
                </a:lnTo>
                <a:lnTo>
                  <a:pt x="25" y="1841"/>
                </a:lnTo>
                <a:lnTo>
                  <a:pt x="21" y="1843"/>
                </a:lnTo>
                <a:lnTo>
                  <a:pt x="18" y="1843"/>
                </a:lnTo>
                <a:lnTo>
                  <a:pt x="15" y="1843"/>
                </a:lnTo>
                <a:lnTo>
                  <a:pt x="12" y="1843"/>
                </a:lnTo>
                <a:lnTo>
                  <a:pt x="9" y="1843"/>
                </a:lnTo>
                <a:lnTo>
                  <a:pt x="6" y="1841"/>
                </a:lnTo>
                <a:lnTo>
                  <a:pt x="5" y="1840"/>
                </a:lnTo>
                <a:lnTo>
                  <a:pt x="2" y="1834"/>
                </a:lnTo>
                <a:lnTo>
                  <a:pt x="0" y="1831"/>
                </a:lnTo>
                <a:lnTo>
                  <a:pt x="0" y="1828"/>
                </a:lnTo>
                <a:lnTo>
                  <a:pt x="0" y="1824"/>
                </a:lnTo>
                <a:lnTo>
                  <a:pt x="0" y="1821"/>
                </a:lnTo>
                <a:lnTo>
                  <a:pt x="0" y="1817"/>
                </a:lnTo>
                <a:lnTo>
                  <a:pt x="2" y="1811"/>
                </a:lnTo>
                <a:lnTo>
                  <a:pt x="2" y="1807"/>
                </a:lnTo>
                <a:lnTo>
                  <a:pt x="3" y="1801"/>
                </a:lnTo>
                <a:lnTo>
                  <a:pt x="6" y="1795"/>
                </a:lnTo>
                <a:lnTo>
                  <a:pt x="8" y="1789"/>
                </a:lnTo>
                <a:lnTo>
                  <a:pt x="10" y="1782"/>
                </a:lnTo>
                <a:lnTo>
                  <a:pt x="12" y="1775"/>
                </a:lnTo>
                <a:lnTo>
                  <a:pt x="16" y="1768"/>
                </a:lnTo>
                <a:lnTo>
                  <a:pt x="19" y="1761"/>
                </a:lnTo>
                <a:lnTo>
                  <a:pt x="22" y="1752"/>
                </a:lnTo>
                <a:lnTo>
                  <a:pt x="26" y="1743"/>
                </a:lnTo>
                <a:lnTo>
                  <a:pt x="31" y="1735"/>
                </a:lnTo>
                <a:lnTo>
                  <a:pt x="35" y="1726"/>
                </a:lnTo>
                <a:lnTo>
                  <a:pt x="41" y="1716"/>
                </a:lnTo>
                <a:lnTo>
                  <a:pt x="46" y="1707"/>
                </a:lnTo>
                <a:lnTo>
                  <a:pt x="51" y="1696"/>
                </a:lnTo>
                <a:lnTo>
                  <a:pt x="58" y="1686"/>
                </a:lnTo>
                <a:lnTo>
                  <a:pt x="64" y="1674"/>
                </a:lnTo>
                <a:lnTo>
                  <a:pt x="69" y="1663"/>
                </a:lnTo>
                <a:lnTo>
                  <a:pt x="77" y="1651"/>
                </a:lnTo>
                <a:lnTo>
                  <a:pt x="84" y="1640"/>
                </a:lnTo>
                <a:lnTo>
                  <a:pt x="92" y="1627"/>
                </a:lnTo>
                <a:lnTo>
                  <a:pt x="100" y="1614"/>
                </a:lnTo>
                <a:lnTo>
                  <a:pt x="108" y="1601"/>
                </a:lnTo>
                <a:lnTo>
                  <a:pt x="117" y="1588"/>
                </a:lnTo>
                <a:lnTo>
                  <a:pt x="152" y="1532"/>
                </a:lnTo>
                <a:lnTo>
                  <a:pt x="186" y="1477"/>
                </a:lnTo>
                <a:lnTo>
                  <a:pt x="202" y="1448"/>
                </a:lnTo>
                <a:lnTo>
                  <a:pt x="219" y="1420"/>
                </a:lnTo>
                <a:lnTo>
                  <a:pt x="235" y="1391"/>
                </a:lnTo>
                <a:lnTo>
                  <a:pt x="252" y="1362"/>
                </a:lnTo>
                <a:lnTo>
                  <a:pt x="267" y="1333"/>
                </a:lnTo>
                <a:lnTo>
                  <a:pt x="283" y="1303"/>
                </a:lnTo>
                <a:lnTo>
                  <a:pt x="297" y="1271"/>
                </a:lnTo>
                <a:lnTo>
                  <a:pt x="311" y="1240"/>
                </a:lnTo>
                <a:lnTo>
                  <a:pt x="324" y="1208"/>
                </a:lnTo>
                <a:lnTo>
                  <a:pt x="336" y="1175"/>
                </a:lnTo>
                <a:lnTo>
                  <a:pt x="349" y="1140"/>
                </a:lnTo>
                <a:lnTo>
                  <a:pt x="359" y="1106"/>
                </a:lnTo>
                <a:lnTo>
                  <a:pt x="369" y="1070"/>
                </a:lnTo>
                <a:lnTo>
                  <a:pt x="378" y="1034"/>
                </a:lnTo>
                <a:lnTo>
                  <a:pt x="386" y="998"/>
                </a:lnTo>
                <a:lnTo>
                  <a:pt x="393" y="960"/>
                </a:lnTo>
                <a:lnTo>
                  <a:pt x="401" y="923"/>
                </a:lnTo>
                <a:lnTo>
                  <a:pt x="408" y="885"/>
                </a:lnTo>
                <a:lnTo>
                  <a:pt x="414" y="847"/>
                </a:lnTo>
                <a:lnTo>
                  <a:pt x="419" y="808"/>
                </a:lnTo>
                <a:lnTo>
                  <a:pt x="424" y="767"/>
                </a:lnTo>
                <a:lnTo>
                  <a:pt x="429" y="727"/>
                </a:lnTo>
                <a:lnTo>
                  <a:pt x="434" y="687"/>
                </a:lnTo>
                <a:lnTo>
                  <a:pt x="438" y="646"/>
                </a:lnTo>
                <a:lnTo>
                  <a:pt x="441" y="605"/>
                </a:lnTo>
                <a:lnTo>
                  <a:pt x="445" y="563"/>
                </a:lnTo>
                <a:lnTo>
                  <a:pt x="450" y="520"/>
                </a:lnTo>
                <a:lnTo>
                  <a:pt x="452" y="478"/>
                </a:lnTo>
                <a:lnTo>
                  <a:pt x="452" y="456"/>
                </a:lnTo>
                <a:lnTo>
                  <a:pt x="452" y="435"/>
                </a:lnTo>
                <a:lnTo>
                  <a:pt x="452" y="415"/>
                </a:lnTo>
                <a:lnTo>
                  <a:pt x="451" y="396"/>
                </a:lnTo>
                <a:lnTo>
                  <a:pt x="451" y="377"/>
                </a:lnTo>
                <a:lnTo>
                  <a:pt x="451" y="359"/>
                </a:lnTo>
                <a:lnTo>
                  <a:pt x="450" y="341"/>
                </a:lnTo>
                <a:lnTo>
                  <a:pt x="450" y="324"/>
                </a:lnTo>
                <a:lnTo>
                  <a:pt x="448" y="308"/>
                </a:lnTo>
                <a:lnTo>
                  <a:pt x="448" y="292"/>
                </a:lnTo>
                <a:lnTo>
                  <a:pt x="447" y="276"/>
                </a:lnTo>
                <a:lnTo>
                  <a:pt x="445" y="262"/>
                </a:lnTo>
                <a:lnTo>
                  <a:pt x="444" y="248"/>
                </a:lnTo>
                <a:lnTo>
                  <a:pt x="442" y="235"/>
                </a:lnTo>
                <a:lnTo>
                  <a:pt x="442" y="222"/>
                </a:lnTo>
                <a:lnTo>
                  <a:pt x="441" y="210"/>
                </a:lnTo>
                <a:lnTo>
                  <a:pt x="439" y="199"/>
                </a:lnTo>
                <a:lnTo>
                  <a:pt x="438" y="187"/>
                </a:lnTo>
                <a:lnTo>
                  <a:pt x="437" y="177"/>
                </a:lnTo>
                <a:lnTo>
                  <a:pt x="435" y="167"/>
                </a:lnTo>
                <a:lnTo>
                  <a:pt x="434" y="158"/>
                </a:lnTo>
                <a:lnTo>
                  <a:pt x="432" y="150"/>
                </a:lnTo>
                <a:lnTo>
                  <a:pt x="429" y="143"/>
                </a:lnTo>
                <a:lnTo>
                  <a:pt x="428" y="135"/>
                </a:lnTo>
                <a:lnTo>
                  <a:pt x="426" y="128"/>
                </a:lnTo>
                <a:lnTo>
                  <a:pt x="425" y="122"/>
                </a:lnTo>
                <a:lnTo>
                  <a:pt x="424" y="118"/>
                </a:lnTo>
                <a:lnTo>
                  <a:pt x="422" y="112"/>
                </a:lnTo>
                <a:lnTo>
                  <a:pt x="421" y="109"/>
                </a:lnTo>
                <a:lnTo>
                  <a:pt x="418" y="105"/>
                </a:lnTo>
                <a:lnTo>
                  <a:pt x="416" y="102"/>
                </a:lnTo>
                <a:lnTo>
                  <a:pt x="415" y="101"/>
                </a:lnTo>
                <a:lnTo>
                  <a:pt x="408" y="92"/>
                </a:lnTo>
                <a:lnTo>
                  <a:pt x="402" y="84"/>
                </a:lnTo>
                <a:lnTo>
                  <a:pt x="396" y="75"/>
                </a:lnTo>
                <a:lnTo>
                  <a:pt x="393" y="71"/>
                </a:lnTo>
                <a:lnTo>
                  <a:pt x="392" y="66"/>
                </a:lnTo>
                <a:lnTo>
                  <a:pt x="390" y="61"/>
                </a:lnTo>
                <a:lnTo>
                  <a:pt x="389" y="56"/>
                </a:lnTo>
                <a:lnTo>
                  <a:pt x="389" y="50"/>
                </a:lnTo>
                <a:lnTo>
                  <a:pt x="389" y="43"/>
                </a:lnTo>
                <a:lnTo>
                  <a:pt x="389" y="37"/>
                </a:lnTo>
                <a:lnTo>
                  <a:pt x="390" y="30"/>
                </a:lnTo>
                <a:lnTo>
                  <a:pt x="393" y="23"/>
                </a:lnTo>
                <a:lnTo>
                  <a:pt x="396" y="16"/>
                </a:lnTo>
                <a:lnTo>
                  <a:pt x="401" y="12"/>
                </a:lnTo>
                <a:lnTo>
                  <a:pt x="403" y="9"/>
                </a:lnTo>
                <a:lnTo>
                  <a:pt x="409" y="6"/>
                </a:lnTo>
                <a:lnTo>
                  <a:pt x="414" y="4"/>
                </a:lnTo>
                <a:lnTo>
                  <a:pt x="419" y="3"/>
                </a:lnTo>
                <a:lnTo>
                  <a:pt x="426" y="1"/>
                </a:lnTo>
                <a:lnTo>
                  <a:pt x="432" y="0"/>
                </a:lnTo>
                <a:lnTo>
                  <a:pt x="441" y="0"/>
                </a:lnTo>
                <a:lnTo>
                  <a:pt x="448" y="0"/>
                </a:lnTo>
                <a:lnTo>
                  <a:pt x="458" y="1"/>
                </a:lnTo>
                <a:lnTo>
                  <a:pt x="467" y="3"/>
                </a:lnTo>
                <a:lnTo>
                  <a:pt x="477" y="4"/>
                </a:lnTo>
                <a:lnTo>
                  <a:pt x="488" y="6"/>
                </a:lnTo>
                <a:lnTo>
                  <a:pt x="500" y="9"/>
                </a:lnTo>
                <a:lnTo>
                  <a:pt x="513" y="12"/>
                </a:lnTo>
                <a:lnTo>
                  <a:pt x="527" y="16"/>
                </a:lnTo>
                <a:lnTo>
                  <a:pt x="537" y="25"/>
                </a:lnTo>
                <a:lnTo>
                  <a:pt x="546" y="33"/>
                </a:lnTo>
                <a:lnTo>
                  <a:pt x="556" y="45"/>
                </a:lnTo>
                <a:lnTo>
                  <a:pt x="565" y="55"/>
                </a:lnTo>
                <a:lnTo>
                  <a:pt x="573" y="68"/>
                </a:lnTo>
                <a:lnTo>
                  <a:pt x="581" y="79"/>
                </a:lnTo>
                <a:lnTo>
                  <a:pt x="588" y="94"/>
                </a:lnTo>
                <a:lnTo>
                  <a:pt x="593" y="108"/>
                </a:lnTo>
                <a:lnTo>
                  <a:pt x="601" y="122"/>
                </a:lnTo>
                <a:lnTo>
                  <a:pt x="605" y="138"/>
                </a:lnTo>
                <a:lnTo>
                  <a:pt x="609" y="156"/>
                </a:lnTo>
                <a:lnTo>
                  <a:pt x="614" y="173"/>
                </a:lnTo>
                <a:lnTo>
                  <a:pt x="617" y="190"/>
                </a:lnTo>
                <a:lnTo>
                  <a:pt x="618" y="209"/>
                </a:lnTo>
                <a:lnTo>
                  <a:pt x="619" y="228"/>
                </a:lnTo>
                <a:lnTo>
                  <a:pt x="621" y="246"/>
                </a:lnTo>
                <a:lnTo>
                  <a:pt x="621" y="266"/>
                </a:lnTo>
                <a:lnTo>
                  <a:pt x="619" y="287"/>
                </a:lnTo>
                <a:lnTo>
                  <a:pt x="619" y="308"/>
                </a:lnTo>
                <a:lnTo>
                  <a:pt x="619" y="328"/>
                </a:lnTo>
                <a:lnTo>
                  <a:pt x="619" y="351"/>
                </a:lnTo>
                <a:lnTo>
                  <a:pt x="619" y="373"/>
                </a:lnTo>
                <a:lnTo>
                  <a:pt x="618" y="396"/>
                </a:lnTo>
                <a:lnTo>
                  <a:pt x="618" y="419"/>
                </a:lnTo>
                <a:lnTo>
                  <a:pt x="617" y="443"/>
                </a:lnTo>
                <a:lnTo>
                  <a:pt x="615" y="468"/>
                </a:lnTo>
                <a:lnTo>
                  <a:pt x="614" y="492"/>
                </a:lnTo>
                <a:lnTo>
                  <a:pt x="612" y="518"/>
                </a:lnTo>
                <a:lnTo>
                  <a:pt x="609" y="543"/>
                </a:lnTo>
                <a:lnTo>
                  <a:pt x="608" y="570"/>
                </a:lnTo>
                <a:lnTo>
                  <a:pt x="605" y="596"/>
                </a:lnTo>
                <a:lnTo>
                  <a:pt x="602" y="623"/>
                </a:lnTo>
                <a:lnTo>
                  <a:pt x="598" y="651"/>
                </a:lnTo>
                <a:lnTo>
                  <a:pt x="595" y="680"/>
                </a:lnTo>
                <a:lnTo>
                  <a:pt x="591" y="708"/>
                </a:lnTo>
                <a:lnTo>
                  <a:pt x="586" y="737"/>
                </a:lnTo>
                <a:lnTo>
                  <a:pt x="582" y="767"/>
                </a:lnTo>
                <a:lnTo>
                  <a:pt x="578" y="798"/>
                </a:lnTo>
                <a:lnTo>
                  <a:pt x="573" y="828"/>
                </a:lnTo>
                <a:lnTo>
                  <a:pt x="569" y="859"/>
                </a:lnTo>
                <a:lnTo>
                  <a:pt x="563" y="891"/>
                </a:lnTo>
                <a:lnTo>
                  <a:pt x="557" y="923"/>
                </a:lnTo>
                <a:lnTo>
                  <a:pt x="550" y="956"/>
                </a:lnTo>
                <a:lnTo>
                  <a:pt x="543" y="989"/>
                </a:lnTo>
                <a:lnTo>
                  <a:pt x="536" y="1022"/>
                </a:lnTo>
                <a:lnTo>
                  <a:pt x="527" y="1057"/>
                </a:lnTo>
                <a:lnTo>
                  <a:pt x="517" y="1091"/>
                </a:lnTo>
                <a:lnTo>
                  <a:pt x="509" y="1127"/>
                </a:lnTo>
                <a:lnTo>
                  <a:pt x="497" y="1162"/>
                </a:lnTo>
                <a:lnTo>
                  <a:pt x="486" y="1198"/>
                </a:lnTo>
                <a:lnTo>
                  <a:pt x="473" y="1232"/>
                </a:lnTo>
                <a:lnTo>
                  <a:pt x="460" y="1267"/>
                </a:lnTo>
                <a:lnTo>
                  <a:pt x="445" y="1301"/>
                </a:lnTo>
                <a:lnTo>
                  <a:pt x="429" y="1336"/>
                </a:lnTo>
                <a:lnTo>
                  <a:pt x="414" y="1371"/>
                </a:lnTo>
                <a:lnTo>
                  <a:pt x="396" y="1404"/>
                </a:lnTo>
                <a:lnTo>
                  <a:pt x="378" y="1437"/>
                </a:lnTo>
                <a:lnTo>
                  <a:pt x="359" y="1470"/>
                </a:lnTo>
                <a:lnTo>
                  <a:pt x="340" y="1502"/>
                </a:lnTo>
                <a:lnTo>
                  <a:pt x="319" y="1533"/>
                </a:lnTo>
                <a:lnTo>
                  <a:pt x="297" y="1563"/>
                </a:lnTo>
                <a:lnTo>
                  <a:pt x="275" y="1594"/>
                </a:lnTo>
                <a:lnTo>
                  <a:pt x="252" y="1622"/>
                </a:lnTo>
                <a:lnTo>
                  <a:pt x="229" y="16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100"/>
          <p:cNvSpPr/>
          <p:nvPr/>
        </p:nvSpPr>
        <p:spPr>
          <a:xfrm>
            <a:off x="7097760" y="2795760"/>
            <a:ext cx="554040" cy="909360"/>
          </a:xfrm>
          <a:custGeom>
            <a:avLst/>
            <a:gdLst/>
            <a:ahLst/>
            <a:rect l="l" t="t" r="r" b="b"/>
            <a:pathLst>
              <a:path w="1046" h="1719">
                <a:moveTo>
                  <a:pt x="727" y="314"/>
                </a:moveTo>
                <a:lnTo>
                  <a:pt x="726" y="308"/>
                </a:lnTo>
                <a:lnTo>
                  <a:pt x="723" y="303"/>
                </a:lnTo>
                <a:lnTo>
                  <a:pt x="720" y="298"/>
                </a:lnTo>
                <a:lnTo>
                  <a:pt x="716" y="294"/>
                </a:lnTo>
                <a:lnTo>
                  <a:pt x="712" y="290"/>
                </a:lnTo>
                <a:lnTo>
                  <a:pt x="707" y="285"/>
                </a:lnTo>
                <a:lnTo>
                  <a:pt x="703" y="281"/>
                </a:lnTo>
                <a:lnTo>
                  <a:pt x="697" y="278"/>
                </a:lnTo>
                <a:lnTo>
                  <a:pt x="690" y="275"/>
                </a:lnTo>
                <a:lnTo>
                  <a:pt x="684" y="272"/>
                </a:lnTo>
                <a:lnTo>
                  <a:pt x="676" y="271"/>
                </a:lnTo>
                <a:lnTo>
                  <a:pt x="668" y="268"/>
                </a:lnTo>
                <a:lnTo>
                  <a:pt x="660" y="267"/>
                </a:lnTo>
                <a:lnTo>
                  <a:pt x="651" y="265"/>
                </a:lnTo>
                <a:lnTo>
                  <a:pt x="642" y="264"/>
                </a:lnTo>
                <a:lnTo>
                  <a:pt x="632" y="264"/>
                </a:lnTo>
                <a:lnTo>
                  <a:pt x="622" y="264"/>
                </a:lnTo>
                <a:lnTo>
                  <a:pt x="611" y="264"/>
                </a:lnTo>
                <a:lnTo>
                  <a:pt x="599" y="264"/>
                </a:lnTo>
                <a:lnTo>
                  <a:pt x="588" y="264"/>
                </a:lnTo>
                <a:lnTo>
                  <a:pt x="576" y="265"/>
                </a:lnTo>
                <a:lnTo>
                  <a:pt x="563" y="267"/>
                </a:lnTo>
                <a:lnTo>
                  <a:pt x="550" y="268"/>
                </a:lnTo>
                <a:lnTo>
                  <a:pt x="536" y="270"/>
                </a:lnTo>
                <a:lnTo>
                  <a:pt x="522" y="271"/>
                </a:lnTo>
                <a:lnTo>
                  <a:pt x="507" y="274"/>
                </a:lnTo>
                <a:lnTo>
                  <a:pt x="493" y="277"/>
                </a:lnTo>
                <a:lnTo>
                  <a:pt x="477" y="280"/>
                </a:lnTo>
                <a:lnTo>
                  <a:pt x="461" y="283"/>
                </a:lnTo>
                <a:lnTo>
                  <a:pt x="445" y="285"/>
                </a:lnTo>
                <a:lnTo>
                  <a:pt x="428" y="290"/>
                </a:lnTo>
                <a:lnTo>
                  <a:pt x="411" y="294"/>
                </a:lnTo>
                <a:lnTo>
                  <a:pt x="376" y="306"/>
                </a:lnTo>
                <a:lnTo>
                  <a:pt x="343" y="316"/>
                </a:lnTo>
                <a:lnTo>
                  <a:pt x="311" y="324"/>
                </a:lnTo>
                <a:lnTo>
                  <a:pt x="281" y="333"/>
                </a:lnTo>
                <a:lnTo>
                  <a:pt x="252" y="342"/>
                </a:lnTo>
                <a:lnTo>
                  <a:pt x="224" y="347"/>
                </a:lnTo>
                <a:lnTo>
                  <a:pt x="196" y="355"/>
                </a:lnTo>
                <a:lnTo>
                  <a:pt x="170" y="359"/>
                </a:lnTo>
                <a:lnTo>
                  <a:pt x="146" y="363"/>
                </a:lnTo>
                <a:lnTo>
                  <a:pt x="121" y="367"/>
                </a:lnTo>
                <a:lnTo>
                  <a:pt x="100" y="370"/>
                </a:lnTo>
                <a:lnTo>
                  <a:pt x="78" y="373"/>
                </a:lnTo>
                <a:lnTo>
                  <a:pt x="57" y="375"/>
                </a:lnTo>
                <a:lnTo>
                  <a:pt x="36" y="376"/>
                </a:lnTo>
                <a:lnTo>
                  <a:pt x="18" y="376"/>
                </a:lnTo>
                <a:lnTo>
                  <a:pt x="0" y="378"/>
                </a:lnTo>
                <a:lnTo>
                  <a:pt x="0" y="231"/>
                </a:lnTo>
                <a:lnTo>
                  <a:pt x="19" y="229"/>
                </a:lnTo>
                <a:lnTo>
                  <a:pt x="38" y="229"/>
                </a:lnTo>
                <a:lnTo>
                  <a:pt x="58" y="228"/>
                </a:lnTo>
                <a:lnTo>
                  <a:pt x="80" y="226"/>
                </a:lnTo>
                <a:lnTo>
                  <a:pt x="103" y="224"/>
                </a:lnTo>
                <a:lnTo>
                  <a:pt x="127" y="222"/>
                </a:lnTo>
                <a:lnTo>
                  <a:pt x="152" y="218"/>
                </a:lnTo>
                <a:lnTo>
                  <a:pt x="177" y="215"/>
                </a:lnTo>
                <a:lnTo>
                  <a:pt x="205" y="211"/>
                </a:lnTo>
                <a:lnTo>
                  <a:pt x="232" y="206"/>
                </a:lnTo>
                <a:lnTo>
                  <a:pt x="260" y="200"/>
                </a:lnTo>
                <a:lnTo>
                  <a:pt x="288" y="195"/>
                </a:lnTo>
                <a:lnTo>
                  <a:pt x="319" y="189"/>
                </a:lnTo>
                <a:lnTo>
                  <a:pt x="349" y="182"/>
                </a:lnTo>
                <a:lnTo>
                  <a:pt x="379" y="175"/>
                </a:lnTo>
                <a:lnTo>
                  <a:pt x="411" y="167"/>
                </a:lnTo>
                <a:lnTo>
                  <a:pt x="427" y="163"/>
                </a:lnTo>
                <a:lnTo>
                  <a:pt x="441" y="160"/>
                </a:lnTo>
                <a:lnTo>
                  <a:pt x="455" y="156"/>
                </a:lnTo>
                <a:lnTo>
                  <a:pt x="470" y="152"/>
                </a:lnTo>
                <a:lnTo>
                  <a:pt x="484" y="147"/>
                </a:lnTo>
                <a:lnTo>
                  <a:pt x="497" y="144"/>
                </a:lnTo>
                <a:lnTo>
                  <a:pt x="510" y="140"/>
                </a:lnTo>
                <a:lnTo>
                  <a:pt x="523" y="136"/>
                </a:lnTo>
                <a:lnTo>
                  <a:pt x="535" y="131"/>
                </a:lnTo>
                <a:lnTo>
                  <a:pt x="546" y="128"/>
                </a:lnTo>
                <a:lnTo>
                  <a:pt x="558" y="124"/>
                </a:lnTo>
                <a:lnTo>
                  <a:pt x="568" y="120"/>
                </a:lnTo>
                <a:lnTo>
                  <a:pt x="578" y="116"/>
                </a:lnTo>
                <a:lnTo>
                  <a:pt x="588" y="113"/>
                </a:lnTo>
                <a:lnTo>
                  <a:pt x="598" y="108"/>
                </a:lnTo>
                <a:lnTo>
                  <a:pt x="606" y="104"/>
                </a:lnTo>
                <a:lnTo>
                  <a:pt x="615" y="101"/>
                </a:lnTo>
                <a:lnTo>
                  <a:pt x="624" y="97"/>
                </a:lnTo>
                <a:lnTo>
                  <a:pt x="631" y="92"/>
                </a:lnTo>
                <a:lnTo>
                  <a:pt x="638" y="88"/>
                </a:lnTo>
                <a:lnTo>
                  <a:pt x="645" y="85"/>
                </a:lnTo>
                <a:lnTo>
                  <a:pt x="651" y="81"/>
                </a:lnTo>
                <a:lnTo>
                  <a:pt x="657" y="77"/>
                </a:lnTo>
                <a:lnTo>
                  <a:pt x="663" y="72"/>
                </a:lnTo>
                <a:lnTo>
                  <a:pt x="667" y="69"/>
                </a:lnTo>
                <a:lnTo>
                  <a:pt x="671" y="65"/>
                </a:lnTo>
                <a:lnTo>
                  <a:pt x="676" y="61"/>
                </a:lnTo>
                <a:lnTo>
                  <a:pt x="680" y="58"/>
                </a:lnTo>
                <a:lnTo>
                  <a:pt x="683" y="54"/>
                </a:lnTo>
                <a:lnTo>
                  <a:pt x="686" y="49"/>
                </a:lnTo>
                <a:lnTo>
                  <a:pt x="689" y="45"/>
                </a:lnTo>
                <a:lnTo>
                  <a:pt x="690" y="42"/>
                </a:lnTo>
                <a:lnTo>
                  <a:pt x="697" y="33"/>
                </a:lnTo>
                <a:lnTo>
                  <a:pt x="704" y="26"/>
                </a:lnTo>
                <a:lnTo>
                  <a:pt x="712" y="19"/>
                </a:lnTo>
                <a:lnTo>
                  <a:pt x="720" y="13"/>
                </a:lnTo>
                <a:lnTo>
                  <a:pt x="730" y="8"/>
                </a:lnTo>
                <a:lnTo>
                  <a:pt x="735" y="5"/>
                </a:lnTo>
                <a:lnTo>
                  <a:pt x="740" y="3"/>
                </a:lnTo>
                <a:lnTo>
                  <a:pt x="746" y="2"/>
                </a:lnTo>
                <a:lnTo>
                  <a:pt x="752" y="0"/>
                </a:lnTo>
                <a:lnTo>
                  <a:pt x="758" y="0"/>
                </a:lnTo>
                <a:lnTo>
                  <a:pt x="765" y="0"/>
                </a:lnTo>
                <a:lnTo>
                  <a:pt x="772" y="3"/>
                </a:lnTo>
                <a:lnTo>
                  <a:pt x="779" y="8"/>
                </a:lnTo>
                <a:lnTo>
                  <a:pt x="788" y="12"/>
                </a:lnTo>
                <a:lnTo>
                  <a:pt x="797" y="16"/>
                </a:lnTo>
                <a:lnTo>
                  <a:pt x="805" y="21"/>
                </a:lnTo>
                <a:lnTo>
                  <a:pt x="815" y="25"/>
                </a:lnTo>
                <a:lnTo>
                  <a:pt x="825" y="31"/>
                </a:lnTo>
                <a:lnTo>
                  <a:pt x="835" y="36"/>
                </a:lnTo>
                <a:lnTo>
                  <a:pt x="845" y="42"/>
                </a:lnTo>
                <a:lnTo>
                  <a:pt x="857" y="49"/>
                </a:lnTo>
                <a:lnTo>
                  <a:pt x="869" y="57"/>
                </a:lnTo>
                <a:lnTo>
                  <a:pt x="880" y="64"/>
                </a:lnTo>
                <a:lnTo>
                  <a:pt x="893" y="74"/>
                </a:lnTo>
                <a:lnTo>
                  <a:pt x="906" y="82"/>
                </a:lnTo>
                <a:lnTo>
                  <a:pt x="919" y="94"/>
                </a:lnTo>
                <a:lnTo>
                  <a:pt x="933" y="105"/>
                </a:lnTo>
                <a:lnTo>
                  <a:pt x="946" y="117"/>
                </a:lnTo>
                <a:lnTo>
                  <a:pt x="959" y="127"/>
                </a:lnTo>
                <a:lnTo>
                  <a:pt x="971" y="139"/>
                </a:lnTo>
                <a:lnTo>
                  <a:pt x="981" y="149"/>
                </a:lnTo>
                <a:lnTo>
                  <a:pt x="991" y="157"/>
                </a:lnTo>
                <a:lnTo>
                  <a:pt x="1001" y="167"/>
                </a:lnTo>
                <a:lnTo>
                  <a:pt x="1010" y="175"/>
                </a:lnTo>
                <a:lnTo>
                  <a:pt x="1017" y="183"/>
                </a:lnTo>
                <a:lnTo>
                  <a:pt x="1023" y="190"/>
                </a:lnTo>
                <a:lnTo>
                  <a:pt x="1028" y="198"/>
                </a:lnTo>
                <a:lnTo>
                  <a:pt x="1034" y="205"/>
                </a:lnTo>
                <a:lnTo>
                  <a:pt x="1038" y="211"/>
                </a:lnTo>
                <a:lnTo>
                  <a:pt x="1041" y="216"/>
                </a:lnTo>
                <a:lnTo>
                  <a:pt x="1043" y="221"/>
                </a:lnTo>
                <a:lnTo>
                  <a:pt x="1044" y="226"/>
                </a:lnTo>
                <a:lnTo>
                  <a:pt x="1046" y="231"/>
                </a:lnTo>
                <a:lnTo>
                  <a:pt x="1044" y="238"/>
                </a:lnTo>
                <a:lnTo>
                  <a:pt x="1044" y="247"/>
                </a:lnTo>
                <a:lnTo>
                  <a:pt x="1043" y="254"/>
                </a:lnTo>
                <a:lnTo>
                  <a:pt x="1041" y="262"/>
                </a:lnTo>
                <a:lnTo>
                  <a:pt x="1038" y="278"/>
                </a:lnTo>
                <a:lnTo>
                  <a:pt x="1033" y="293"/>
                </a:lnTo>
                <a:lnTo>
                  <a:pt x="1027" y="308"/>
                </a:lnTo>
                <a:lnTo>
                  <a:pt x="1021" y="324"/>
                </a:lnTo>
                <a:lnTo>
                  <a:pt x="1008" y="356"/>
                </a:lnTo>
                <a:lnTo>
                  <a:pt x="1004" y="360"/>
                </a:lnTo>
                <a:lnTo>
                  <a:pt x="1001" y="366"/>
                </a:lnTo>
                <a:lnTo>
                  <a:pt x="998" y="372"/>
                </a:lnTo>
                <a:lnTo>
                  <a:pt x="995" y="378"/>
                </a:lnTo>
                <a:lnTo>
                  <a:pt x="991" y="385"/>
                </a:lnTo>
                <a:lnTo>
                  <a:pt x="988" y="393"/>
                </a:lnTo>
                <a:lnTo>
                  <a:pt x="987" y="402"/>
                </a:lnTo>
                <a:lnTo>
                  <a:pt x="984" y="412"/>
                </a:lnTo>
                <a:lnTo>
                  <a:pt x="981" y="422"/>
                </a:lnTo>
                <a:lnTo>
                  <a:pt x="978" y="434"/>
                </a:lnTo>
                <a:lnTo>
                  <a:pt x="976" y="445"/>
                </a:lnTo>
                <a:lnTo>
                  <a:pt x="974" y="458"/>
                </a:lnTo>
                <a:lnTo>
                  <a:pt x="971" y="471"/>
                </a:lnTo>
                <a:lnTo>
                  <a:pt x="969" y="486"/>
                </a:lnTo>
                <a:lnTo>
                  <a:pt x="968" y="500"/>
                </a:lnTo>
                <a:lnTo>
                  <a:pt x="965" y="516"/>
                </a:lnTo>
                <a:lnTo>
                  <a:pt x="964" y="533"/>
                </a:lnTo>
                <a:lnTo>
                  <a:pt x="962" y="550"/>
                </a:lnTo>
                <a:lnTo>
                  <a:pt x="961" y="568"/>
                </a:lnTo>
                <a:lnTo>
                  <a:pt x="959" y="588"/>
                </a:lnTo>
                <a:lnTo>
                  <a:pt x="958" y="606"/>
                </a:lnTo>
                <a:lnTo>
                  <a:pt x="956" y="628"/>
                </a:lnTo>
                <a:lnTo>
                  <a:pt x="956" y="650"/>
                </a:lnTo>
                <a:lnTo>
                  <a:pt x="955" y="671"/>
                </a:lnTo>
                <a:lnTo>
                  <a:pt x="953" y="694"/>
                </a:lnTo>
                <a:lnTo>
                  <a:pt x="953" y="719"/>
                </a:lnTo>
                <a:lnTo>
                  <a:pt x="953" y="743"/>
                </a:lnTo>
                <a:lnTo>
                  <a:pt x="952" y="769"/>
                </a:lnTo>
                <a:lnTo>
                  <a:pt x="952" y="795"/>
                </a:lnTo>
                <a:lnTo>
                  <a:pt x="952" y="822"/>
                </a:lnTo>
                <a:lnTo>
                  <a:pt x="952" y="851"/>
                </a:lnTo>
                <a:lnTo>
                  <a:pt x="952" y="880"/>
                </a:lnTo>
                <a:lnTo>
                  <a:pt x="952" y="909"/>
                </a:lnTo>
                <a:lnTo>
                  <a:pt x="952" y="938"/>
                </a:lnTo>
                <a:lnTo>
                  <a:pt x="952" y="965"/>
                </a:lnTo>
                <a:lnTo>
                  <a:pt x="951" y="992"/>
                </a:lnTo>
                <a:lnTo>
                  <a:pt x="951" y="1020"/>
                </a:lnTo>
                <a:lnTo>
                  <a:pt x="951" y="1046"/>
                </a:lnTo>
                <a:lnTo>
                  <a:pt x="951" y="1071"/>
                </a:lnTo>
                <a:lnTo>
                  <a:pt x="951" y="1096"/>
                </a:lnTo>
                <a:lnTo>
                  <a:pt x="951" y="1120"/>
                </a:lnTo>
                <a:lnTo>
                  <a:pt x="951" y="1143"/>
                </a:lnTo>
                <a:lnTo>
                  <a:pt x="951" y="1166"/>
                </a:lnTo>
                <a:lnTo>
                  <a:pt x="951" y="1189"/>
                </a:lnTo>
                <a:lnTo>
                  <a:pt x="951" y="1211"/>
                </a:lnTo>
                <a:lnTo>
                  <a:pt x="949" y="1233"/>
                </a:lnTo>
                <a:lnTo>
                  <a:pt x="949" y="1253"/>
                </a:lnTo>
                <a:lnTo>
                  <a:pt x="949" y="1273"/>
                </a:lnTo>
                <a:lnTo>
                  <a:pt x="949" y="1292"/>
                </a:lnTo>
                <a:lnTo>
                  <a:pt x="948" y="1310"/>
                </a:lnTo>
                <a:lnTo>
                  <a:pt x="948" y="1329"/>
                </a:lnTo>
                <a:lnTo>
                  <a:pt x="946" y="1346"/>
                </a:lnTo>
                <a:lnTo>
                  <a:pt x="946" y="1364"/>
                </a:lnTo>
                <a:lnTo>
                  <a:pt x="945" y="1380"/>
                </a:lnTo>
                <a:lnTo>
                  <a:pt x="945" y="1395"/>
                </a:lnTo>
                <a:lnTo>
                  <a:pt x="943" y="1410"/>
                </a:lnTo>
                <a:lnTo>
                  <a:pt x="942" y="1424"/>
                </a:lnTo>
                <a:lnTo>
                  <a:pt x="942" y="1439"/>
                </a:lnTo>
                <a:lnTo>
                  <a:pt x="940" y="1452"/>
                </a:lnTo>
                <a:lnTo>
                  <a:pt x="939" y="1464"/>
                </a:lnTo>
                <a:lnTo>
                  <a:pt x="938" y="1476"/>
                </a:lnTo>
                <a:lnTo>
                  <a:pt x="936" y="1487"/>
                </a:lnTo>
                <a:lnTo>
                  <a:pt x="935" y="1498"/>
                </a:lnTo>
                <a:lnTo>
                  <a:pt x="933" y="1509"/>
                </a:lnTo>
                <a:lnTo>
                  <a:pt x="930" y="1521"/>
                </a:lnTo>
                <a:lnTo>
                  <a:pt x="929" y="1531"/>
                </a:lnTo>
                <a:lnTo>
                  <a:pt x="928" y="1542"/>
                </a:lnTo>
                <a:lnTo>
                  <a:pt x="926" y="1552"/>
                </a:lnTo>
                <a:lnTo>
                  <a:pt x="922" y="1572"/>
                </a:lnTo>
                <a:lnTo>
                  <a:pt x="919" y="1591"/>
                </a:lnTo>
                <a:lnTo>
                  <a:pt x="915" y="1608"/>
                </a:lnTo>
                <a:lnTo>
                  <a:pt x="910" y="1624"/>
                </a:lnTo>
                <a:lnTo>
                  <a:pt x="906" y="1639"/>
                </a:lnTo>
                <a:lnTo>
                  <a:pt x="900" y="1653"/>
                </a:lnTo>
                <a:lnTo>
                  <a:pt x="894" y="1665"/>
                </a:lnTo>
                <a:lnTo>
                  <a:pt x="889" y="1676"/>
                </a:lnTo>
                <a:lnTo>
                  <a:pt x="883" y="1685"/>
                </a:lnTo>
                <a:lnTo>
                  <a:pt x="876" y="1693"/>
                </a:lnTo>
                <a:lnTo>
                  <a:pt x="867" y="1702"/>
                </a:lnTo>
                <a:lnTo>
                  <a:pt x="858" y="1708"/>
                </a:lnTo>
                <a:lnTo>
                  <a:pt x="850" y="1714"/>
                </a:lnTo>
                <a:lnTo>
                  <a:pt x="840" y="1718"/>
                </a:lnTo>
                <a:lnTo>
                  <a:pt x="837" y="1719"/>
                </a:lnTo>
                <a:lnTo>
                  <a:pt x="834" y="1719"/>
                </a:lnTo>
                <a:lnTo>
                  <a:pt x="833" y="1719"/>
                </a:lnTo>
                <a:lnTo>
                  <a:pt x="830" y="1719"/>
                </a:lnTo>
                <a:lnTo>
                  <a:pt x="827" y="1718"/>
                </a:lnTo>
                <a:lnTo>
                  <a:pt x="825" y="1718"/>
                </a:lnTo>
                <a:lnTo>
                  <a:pt x="822" y="1716"/>
                </a:lnTo>
                <a:lnTo>
                  <a:pt x="821" y="1714"/>
                </a:lnTo>
                <a:lnTo>
                  <a:pt x="818" y="1712"/>
                </a:lnTo>
                <a:lnTo>
                  <a:pt x="817" y="1709"/>
                </a:lnTo>
                <a:lnTo>
                  <a:pt x="814" y="1706"/>
                </a:lnTo>
                <a:lnTo>
                  <a:pt x="812" y="1703"/>
                </a:lnTo>
                <a:lnTo>
                  <a:pt x="808" y="1696"/>
                </a:lnTo>
                <a:lnTo>
                  <a:pt x="805" y="1688"/>
                </a:lnTo>
                <a:lnTo>
                  <a:pt x="801" y="1678"/>
                </a:lnTo>
                <a:lnTo>
                  <a:pt x="798" y="1666"/>
                </a:lnTo>
                <a:lnTo>
                  <a:pt x="795" y="1653"/>
                </a:lnTo>
                <a:lnTo>
                  <a:pt x="792" y="1637"/>
                </a:lnTo>
                <a:lnTo>
                  <a:pt x="791" y="1621"/>
                </a:lnTo>
                <a:lnTo>
                  <a:pt x="788" y="1604"/>
                </a:lnTo>
                <a:lnTo>
                  <a:pt x="785" y="1587"/>
                </a:lnTo>
                <a:lnTo>
                  <a:pt x="784" y="1567"/>
                </a:lnTo>
                <a:lnTo>
                  <a:pt x="782" y="1545"/>
                </a:lnTo>
                <a:lnTo>
                  <a:pt x="781" y="1522"/>
                </a:lnTo>
                <a:lnTo>
                  <a:pt x="779" y="1499"/>
                </a:lnTo>
                <a:lnTo>
                  <a:pt x="779" y="1473"/>
                </a:lnTo>
                <a:lnTo>
                  <a:pt x="778" y="1446"/>
                </a:lnTo>
                <a:lnTo>
                  <a:pt x="778" y="1418"/>
                </a:lnTo>
                <a:lnTo>
                  <a:pt x="776" y="1390"/>
                </a:lnTo>
                <a:lnTo>
                  <a:pt x="776" y="1358"/>
                </a:lnTo>
                <a:lnTo>
                  <a:pt x="776" y="1326"/>
                </a:lnTo>
                <a:lnTo>
                  <a:pt x="778" y="1293"/>
                </a:lnTo>
                <a:lnTo>
                  <a:pt x="778" y="1259"/>
                </a:lnTo>
                <a:lnTo>
                  <a:pt x="778" y="1224"/>
                </a:lnTo>
                <a:lnTo>
                  <a:pt x="779" y="1187"/>
                </a:lnTo>
                <a:lnTo>
                  <a:pt x="781" y="1149"/>
                </a:lnTo>
                <a:lnTo>
                  <a:pt x="782" y="1109"/>
                </a:lnTo>
                <a:lnTo>
                  <a:pt x="784" y="1069"/>
                </a:lnTo>
                <a:lnTo>
                  <a:pt x="784" y="1028"/>
                </a:lnTo>
                <a:lnTo>
                  <a:pt x="784" y="988"/>
                </a:lnTo>
                <a:lnTo>
                  <a:pt x="784" y="949"/>
                </a:lnTo>
                <a:lnTo>
                  <a:pt x="782" y="912"/>
                </a:lnTo>
                <a:lnTo>
                  <a:pt x="782" y="876"/>
                </a:lnTo>
                <a:lnTo>
                  <a:pt x="782" y="841"/>
                </a:lnTo>
                <a:lnTo>
                  <a:pt x="781" y="807"/>
                </a:lnTo>
                <a:lnTo>
                  <a:pt x="781" y="773"/>
                </a:lnTo>
                <a:lnTo>
                  <a:pt x="779" y="742"/>
                </a:lnTo>
                <a:lnTo>
                  <a:pt x="778" y="712"/>
                </a:lnTo>
                <a:lnTo>
                  <a:pt x="776" y="681"/>
                </a:lnTo>
                <a:lnTo>
                  <a:pt x="775" y="653"/>
                </a:lnTo>
                <a:lnTo>
                  <a:pt x="773" y="625"/>
                </a:lnTo>
                <a:lnTo>
                  <a:pt x="772" y="599"/>
                </a:lnTo>
                <a:lnTo>
                  <a:pt x="771" y="575"/>
                </a:lnTo>
                <a:lnTo>
                  <a:pt x="769" y="550"/>
                </a:lnTo>
                <a:lnTo>
                  <a:pt x="768" y="527"/>
                </a:lnTo>
                <a:lnTo>
                  <a:pt x="765" y="506"/>
                </a:lnTo>
                <a:lnTo>
                  <a:pt x="763" y="484"/>
                </a:lnTo>
                <a:lnTo>
                  <a:pt x="762" y="464"/>
                </a:lnTo>
                <a:lnTo>
                  <a:pt x="759" y="447"/>
                </a:lnTo>
                <a:lnTo>
                  <a:pt x="756" y="428"/>
                </a:lnTo>
                <a:lnTo>
                  <a:pt x="755" y="412"/>
                </a:lnTo>
                <a:lnTo>
                  <a:pt x="752" y="396"/>
                </a:lnTo>
                <a:lnTo>
                  <a:pt x="749" y="383"/>
                </a:lnTo>
                <a:lnTo>
                  <a:pt x="746" y="369"/>
                </a:lnTo>
                <a:lnTo>
                  <a:pt x="743" y="357"/>
                </a:lnTo>
                <a:lnTo>
                  <a:pt x="740" y="347"/>
                </a:lnTo>
                <a:lnTo>
                  <a:pt x="738" y="337"/>
                </a:lnTo>
                <a:lnTo>
                  <a:pt x="735" y="329"/>
                </a:lnTo>
                <a:lnTo>
                  <a:pt x="730" y="321"/>
                </a:lnTo>
                <a:lnTo>
                  <a:pt x="727" y="3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101"/>
          <p:cNvSpPr/>
          <p:nvPr/>
        </p:nvSpPr>
        <p:spPr>
          <a:xfrm>
            <a:off x="6708600" y="4043520"/>
            <a:ext cx="971640" cy="1035000"/>
          </a:xfrm>
          <a:custGeom>
            <a:avLst/>
            <a:gdLst/>
            <a:ahLst/>
            <a:rect l="l" t="t" r="r" b="b"/>
            <a:pathLst>
              <a:path w="1836" h="1956">
                <a:moveTo>
                  <a:pt x="82" y="741"/>
                </a:moveTo>
                <a:lnTo>
                  <a:pt x="95" y="714"/>
                </a:lnTo>
                <a:lnTo>
                  <a:pt x="108" y="687"/>
                </a:lnTo>
                <a:lnTo>
                  <a:pt x="121" y="661"/>
                </a:lnTo>
                <a:lnTo>
                  <a:pt x="133" y="635"/>
                </a:lnTo>
                <a:lnTo>
                  <a:pt x="146" y="609"/>
                </a:lnTo>
                <a:lnTo>
                  <a:pt x="156" y="583"/>
                </a:lnTo>
                <a:lnTo>
                  <a:pt x="167" y="558"/>
                </a:lnTo>
                <a:lnTo>
                  <a:pt x="177" y="534"/>
                </a:lnTo>
                <a:lnTo>
                  <a:pt x="186" y="510"/>
                </a:lnTo>
                <a:lnTo>
                  <a:pt x="195" y="485"/>
                </a:lnTo>
                <a:lnTo>
                  <a:pt x="203" y="461"/>
                </a:lnTo>
                <a:lnTo>
                  <a:pt x="210" y="438"/>
                </a:lnTo>
                <a:lnTo>
                  <a:pt x="216" y="413"/>
                </a:lnTo>
                <a:lnTo>
                  <a:pt x="222" y="390"/>
                </a:lnTo>
                <a:lnTo>
                  <a:pt x="226" y="366"/>
                </a:lnTo>
                <a:lnTo>
                  <a:pt x="231" y="343"/>
                </a:lnTo>
                <a:lnTo>
                  <a:pt x="233" y="320"/>
                </a:lnTo>
                <a:lnTo>
                  <a:pt x="238" y="298"/>
                </a:lnTo>
                <a:lnTo>
                  <a:pt x="241" y="276"/>
                </a:lnTo>
                <a:lnTo>
                  <a:pt x="243" y="256"/>
                </a:lnTo>
                <a:lnTo>
                  <a:pt x="246" y="237"/>
                </a:lnTo>
                <a:lnTo>
                  <a:pt x="249" y="219"/>
                </a:lnTo>
                <a:lnTo>
                  <a:pt x="252" y="201"/>
                </a:lnTo>
                <a:lnTo>
                  <a:pt x="254" y="186"/>
                </a:lnTo>
                <a:lnTo>
                  <a:pt x="255" y="170"/>
                </a:lnTo>
                <a:lnTo>
                  <a:pt x="256" y="157"/>
                </a:lnTo>
                <a:lnTo>
                  <a:pt x="256" y="142"/>
                </a:lnTo>
                <a:lnTo>
                  <a:pt x="256" y="131"/>
                </a:lnTo>
                <a:lnTo>
                  <a:pt x="256" y="119"/>
                </a:lnTo>
                <a:lnTo>
                  <a:pt x="255" y="109"/>
                </a:lnTo>
                <a:lnTo>
                  <a:pt x="252" y="99"/>
                </a:lnTo>
                <a:lnTo>
                  <a:pt x="249" y="92"/>
                </a:lnTo>
                <a:lnTo>
                  <a:pt x="246" y="83"/>
                </a:lnTo>
                <a:lnTo>
                  <a:pt x="243" y="76"/>
                </a:lnTo>
                <a:lnTo>
                  <a:pt x="241" y="70"/>
                </a:lnTo>
                <a:lnTo>
                  <a:pt x="239" y="63"/>
                </a:lnTo>
                <a:lnTo>
                  <a:pt x="238" y="57"/>
                </a:lnTo>
                <a:lnTo>
                  <a:pt x="238" y="52"/>
                </a:lnTo>
                <a:lnTo>
                  <a:pt x="239" y="47"/>
                </a:lnTo>
                <a:lnTo>
                  <a:pt x="241" y="42"/>
                </a:lnTo>
                <a:lnTo>
                  <a:pt x="242" y="37"/>
                </a:lnTo>
                <a:lnTo>
                  <a:pt x="245" y="33"/>
                </a:lnTo>
                <a:lnTo>
                  <a:pt x="249" y="29"/>
                </a:lnTo>
                <a:lnTo>
                  <a:pt x="255" y="24"/>
                </a:lnTo>
                <a:lnTo>
                  <a:pt x="261" y="20"/>
                </a:lnTo>
                <a:lnTo>
                  <a:pt x="268" y="16"/>
                </a:lnTo>
                <a:lnTo>
                  <a:pt x="277" y="11"/>
                </a:lnTo>
                <a:lnTo>
                  <a:pt x="287" y="9"/>
                </a:lnTo>
                <a:lnTo>
                  <a:pt x="294" y="4"/>
                </a:lnTo>
                <a:lnTo>
                  <a:pt x="301" y="1"/>
                </a:lnTo>
                <a:lnTo>
                  <a:pt x="310" y="0"/>
                </a:lnTo>
                <a:lnTo>
                  <a:pt x="318" y="0"/>
                </a:lnTo>
                <a:lnTo>
                  <a:pt x="327" y="0"/>
                </a:lnTo>
                <a:lnTo>
                  <a:pt x="336" y="1"/>
                </a:lnTo>
                <a:lnTo>
                  <a:pt x="344" y="4"/>
                </a:lnTo>
                <a:lnTo>
                  <a:pt x="354" y="7"/>
                </a:lnTo>
                <a:lnTo>
                  <a:pt x="364" y="11"/>
                </a:lnTo>
                <a:lnTo>
                  <a:pt x="375" y="17"/>
                </a:lnTo>
                <a:lnTo>
                  <a:pt x="385" y="23"/>
                </a:lnTo>
                <a:lnTo>
                  <a:pt x="395" y="32"/>
                </a:lnTo>
                <a:lnTo>
                  <a:pt x="405" y="39"/>
                </a:lnTo>
                <a:lnTo>
                  <a:pt x="415" y="49"/>
                </a:lnTo>
                <a:lnTo>
                  <a:pt x="425" y="59"/>
                </a:lnTo>
                <a:lnTo>
                  <a:pt x="436" y="70"/>
                </a:lnTo>
                <a:lnTo>
                  <a:pt x="446" y="82"/>
                </a:lnTo>
                <a:lnTo>
                  <a:pt x="455" y="93"/>
                </a:lnTo>
                <a:lnTo>
                  <a:pt x="465" y="104"/>
                </a:lnTo>
                <a:lnTo>
                  <a:pt x="474" y="114"/>
                </a:lnTo>
                <a:lnTo>
                  <a:pt x="482" y="124"/>
                </a:lnTo>
                <a:lnTo>
                  <a:pt x="490" y="134"/>
                </a:lnTo>
                <a:lnTo>
                  <a:pt x="497" y="142"/>
                </a:lnTo>
                <a:lnTo>
                  <a:pt x="503" y="151"/>
                </a:lnTo>
                <a:lnTo>
                  <a:pt x="510" y="160"/>
                </a:lnTo>
                <a:lnTo>
                  <a:pt x="514" y="168"/>
                </a:lnTo>
                <a:lnTo>
                  <a:pt x="518" y="177"/>
                </a:lnTo>
                <a:lnTo>
                  <a:pt x="523" y="186"/>
                </a:lnTo>
                <a:lnTo>
                  <a:pt x="526" y="193"/>
                </a:lnTo>
                <a:lnTo>
                  <a:pt x="527" y="201"/>
                </a:lnTo>
                <a:lnTo>
                  <a:pt x="529" y="209"/>
                </a:lnTo>
                <a:lnTo>
                  <a:pt x="530" y="217"/>
                </a:lnTo>
                <a:lnTo>
                  <a:pt x="527" y="222"/>
                </a:lnTo>
                <a:lnTo>
                  <a:pt x="526" y="226"/>
                </a:lnTo>
                <a:lnTo>
                  <a:pt x="523" y="230"/>
                </a:lnTo>
                <a:lnTo>
                  <a:pt x="521" y="236"/>
                </a:lnTo>
                <a:lnTo>
                  <a:pt x="518" y="242"/>
                </a:lnTo>
                <a:lnTo>
                  <a:pt x="517" y="248"/>
                </a:lnTo>
                <a:lnTo>
                  <a:pt x="514" y="253"/>
                </a:lnTo>
                <a:lnTo>
                  <a:pt x="511" y="260"/>
                </a:lnTo>
                <a:lnTo>
                  <a:pt x="508" y="268"/>
                </a:lnTo>
                <a:lnTo>
                  <a:pt x="506" y="275"/>
                </a:lnTo>
                <a:lnTo>
                  <a:pt x="501" y="284"/>
                </a:lnTo>
                <a:lnTo>
                  <a:pt x="498" y="292"/>
                </a:lnTo>
                <a:lnTo>
                  <a:pt x="494" y="301"/>
                </a:lnTo>
                <a:lnTo>
                  <a:pt x="490" y="309"/>
                </a:lnTo>
                <a:lnTo>
                  <a:pt x="487" y="320"/>
                </a:lnTo>
                <a:lnTo>
                  <a:pt x="482" y="330"/>
                </a:lnTo>
                <a:lnTo>
                  <a:pt x="478" y="340"/>
                </a:lnTo>
                <a:lnTo>
                  <a:pt x="472" y="351"/>
                </a:lnTo>
                <a:lnTo>
                  <a:pt x="468" y="363"/>
                </a:lnTo>
                <a:lnTo>
                  <a:pt x="462" y="374"/>
                </a:lnTo>
                <a:lnTo>
                  <a:pt x="457" y="386"/>
                </a:lnTo>
                <a:lnTo>
                  <a:pt x="451" y="399"/>
                </a:lnTo>
                <a:lnTo>
                  <a:pt x="445" y="412"/>
                </a:lnTo>
                <a:lnTo>
                  <a:pt x="439" y="426"/>
                </a:lnTo>
                <a:lnTo>
                  <a:pt x="432" y="440"/>
                </a:lnTo>
                <a:lnTo>
                  <a:pt x="426" y="455"/>
                </a:lnTo>
                <a:lnTo>
                  <a:pt x="419" y="469"/>
                </a:lnTo>
                <a:lnTo>
                  <a:pt x="412" y="485"/>
                </a:lnTo>
                <a:lnTo>
                  <a:pt x="405" y="501"/>
                </a:lnTo>
                <a:lnTo>
                  <a:pt x="396" y="518"/>
                </a:lnTo>
                <a:lnTo>
                  <a:pt x="387" y="534"/>
                </a:lnTo>
                <a:lnTo>
                  <a:pt x="380" y="553"/>
                </a:lnTo>
                <a:lnTo>
                  <a:pt x="372" y="570"/>
                </a:lnTo>
                <a:lnTo>
                  <a:pt x="363" y="586"/>
                </a:lnTo>
                <a:lnTo>
                  <a:pt x="356" y="603"/>
                </a:lnTo>
                <a:lnTo>
                  <a:pt x="347" y="618"/>
                </a:lnTo>
                <a:lnTo>
                  <a:pt x="340" y="633"/>
                </a:lnTo>
                <a:lnTo>
                  <a:pt x="334" y="648"/>
                </a:lnTo>
                <a:lnTo>
                  <a:pt x="327" y="662"/>
                </a:lnTo>
                <a:lnTo>
                  <a:pt x="321" y="675"/>
                </a:lnTo>
                <a:lnTo>
                  <a:pt x="315" y="688"/>
                </a:lnTo>
                <a:lnTo>
                  <a:pt x="310" y="700"/>
                </a:lnTo>
                <a:lnTo>
                  <a:pt x="304" y="711"/>
                </a:lnTo>
                <a:lnTo>
                  <a:pt x="300" y="723"/>
                </a:lnTo>
                <a:lnTo>
                  <a:pt x="294" y="733"/>
                </a:lnTo>
                <a:lnTo>
                  <a:pt x="290" y="743"/>
                </a:lnTo>
                <a:lnTo>
                  <a:pt x="287" y="753"/>
                </a:lnTo>
                <a:lnTo>
                  <a:pt x="282" y="761"/>
                </a:lnTo>
                <a:lnTo>
                  <a:pt x="279" y="770"/>
                </a:lnTo>
                <a:lnTo>
                  <a:pt x="277" y="779"/>
                </a:lnTo>
                <a:lnTo>
                  <a:pt x="274" y="786"/>
                </a:lnTo>
                <a:lnTo>
                  <a:pt x="271" y="793"/>
                </a:lnTo>
                <a:lnTo>
                  <a:pt x="269" y="800"/>
                </a:lnTo>
                <a:lnTo>
                  <a:pt x="267" y="806"/>
                </a:lnTo>
                <a:lnTo>
                  <a:pt x="265" y="812"/>
                </a:lnTo>
                <a:lnTo>
                  <a:pt x="265" y="818"/>
                </a:lnTo>
                <a:lnTo>
                  <a:pt x="264" y="822"/>
                </a:lnTo>
                <a:lnTo>
                  <a:pt x="264" y="828"/>
                </a:lnTo>
                <a:lnTo>
                  <a:pt x="264" y="831"/>
                </a:lnTo>
                <a:lnTo>
                  <a:pt x="264" y="835"/>
                </a:lnTo>
                <a:lnTo>
                  <a:pt x="264" y="838"/>
                </a:lnTo>
                <a:lnTo>
                  <a:pt x="265" y="841"/>
                </a:lnTo>
                <a:lnTo>
                  <a:pt x="267" y="844"/>
                </a:lnTo>
                <a:lnTo>
                  <a:pt x="268" y="846"/>
                </a:lnTo>
                <a:lnTo>
                  <a:pt x="271" y="848"/>
                </a:lnTo>
                <a:lnTo>
                  <a:pt x="274" y="851"/>
                </a:lnTo>
                <a:lnTo>
                  <a:pt x="278" y="854"/>
                </a:lnTo>
                <a:lnTo>
                  <a:pt x="284" y="858"/>
                </a:lnTo>
                <a:lnTo>
                  <a:pt x="291" y="861"/>
                </a:lnTo>
                <a:lnTo>
                  <a:pt x="300" y="867"/>
                </a:lnTo>
                <a:lnTo>
                  <a:pt x="310" y="871"/>
                </a:lnTo>
                <a:lnTo>
                  <a:pt x="320" y="877"/>
                </a:lnTo>
                <a:lnTo>
                  <a:pt x="331" y="882"/>
                </a:lnTo>
                <a:lnTo>
                  <a:pt x="344" y="888"/>
                </a:lnTo>
                <a:lnTo>
                  <a:pt x="359" y="895"/>
                </a:lnTo>
                <a:lnTo>
                  <a:pt x="373" y="903"/>
                </a:lnTo>
                <a:lnTo>
                  <a:pt x="390" y="911"/>
                </a:lnTo>
                <a:lnTo>
                  <a:pt x="408" y="918"/>
                </a:lnTo>
                <a:lnTo>
                  <a:pt x="426" y="927"/>
                </a:lnTo>
                <a:lnTo>
                  <a:pt x="445" y="936"/>
                </a:lnTo>
                <a:lnTo>
                  <a:pt x="467" y="946"/>
                </a:lnTo>
                <a:lnTo>
                  <a:pt x="488" y="956"/>
                </a:lnTo>
                <a:lnTo>
                  <a:pt x="511" y="966"/>
                </a:lnTo>
                <a:lnTo>
                  <a:pt x="534" y="977"/>
                </a:lnTo>
                <a:lnTo>
                  <a:pt x="559" y="987"/>
                </a:lnTo>
                <a:lnTo>
                  <a:pt x="586" y="999"/>
                </a:lnTo>
                <a:lnTo>
                  <a:pt x="612" y="1012"/>
                </a:lnTo>
                <a:lnTo>
                  <a:pt x="641" y="1023"/>
                </a:lnTo>
                <a:lnTo>
                  <a:pt x="670" y="1036"/>
                </a:lnTo>
                <a:lnTo>
                  <a:pt x="700" y="1051"/>
                </a:lnTo>
                <a:lnTo>
                  <a:pt x="732" y="1064"/>
                </a:lnTo>
                <a:lnTo>
                  <a:pt x="763" y="1078"/>
                </a:lnTo>
                <a:lnTo>
                  <a:pt x="796" y="1093"/>
                </a:lnTo>
                <a:lnTo>
                  <a:pt x="831" y="1107"/>
                </a:lnTo>
                <a:lnTo>
                  <a:pt x="865" y="1123"/>
                </a:lnTo>
                <a:lnTo>
                  <a:pt x="903" y="1139"/>
                </a:lnTo>
                <a:lnTo>
                  <a:pt x="939" y="1154"/>
                </a:lnTo>
                <a:lnTo>
                  <a:pt x="973" y="1170"/>
                </a:lnTo>
                <a:lnTo>
                  <a:pt x="1008" y="1186"/>
                </a:lnTo>
                <a:lnTo>
                  <a:pt x="1041" y="1202"/>
                </a:lnTo>
                <a:lnTo>
                  <a:pt x="1074" y="1216"/>
                </a:lnTo>
                <a:lnTo>
                  <a:pt x="1106" y="1232"/>
                </a:lnTo>
                <a:lnTo>
                  <a:pt x="1138" y="1247"/>
                </a:lnTo>
                <a:lnTo>
                  <a:pt x="1168" y="1261"/>
                </a:lnTo>
                <a:lnTo>
                  <a:pt x="1198" y="1275"/>
                </a:lnTo>
                <a:lnTo>
                  <a:pt x="1227" y="1290"/>
                </a:lnTo>
                <a:lnTo>
                  <a:pt x="1254" y="1304"/>
                </a:lnTo>
                <a:lnTo>
                  <a:pt x="1281" y="1319"/>
                </a:lnTo>
                <a:lnTo>
                  <a:pt x="1307" y="1332"/>
                </a:lnTo>
                <a:lnTo>
                  <a:pt x="1333" y="1346"/>
                </a:lnTo>
                <a:lnTo>
                  <a:pt x="1358" y="1359"/>
                </a:lnTo>
                <a:lnTo>
                  <a:pt x="1382" y="1372"/>
                </a:lnTo>
                <a:lnTo>
                  <a:pt x="1405" y="1386"/>
                </a:lnTo>
                <a:lnTo>
                  <a:pt x="1428" y="1399"/>
                </a:lnTo>
                <a:lnTo>
                  <a:pt x="1450" y="1411"/>
                </a:lnTo>
                <a:lnTo>
                  <a:pt x="1470" y="1424"/>
                </a:lnTo>
                <a:lnTo>
                  <a:pt x="1490" y="1437"/>
                </a:lnTo>
                <a:lnTo>
                  <a:pt x="1510" y="1448"/>
                </a:lnTo>
                <a:lnTo>
                  <a:pt x="1529" y="1460"/>
                </a:lnTo>
                <a:lnTo>
                  <a:pt x="1548" y="1471"/>
                </a:lnTo>
                <a:lnTo>
                  <a:pt x="1565" y="1483"/>
                </a:lnTo>
                <a:lnTo>
                  <a:pt x="1581" y="1494"/>
                </a:lnTo>
                <a:lnTo>
                  <a:pt x="1597" y="1506"/>
                </a:lnTo>
                <a:lnTo>
                  <a:pt x="1613" y="1517"/>
                </a:lnTo>
                <a:lnTo>
                  <a:pt x="1627" y="1527"/>
                </a:lnTo>
                <a:lnTo>
                  <a:pt x="1641" y="1537"/>
                </a:lnTo>
                <a:lnTo>
                  <a:pt x="1654" y="1549"/>
                </a:lnTo>
                <a:lnTo>
                  <a:pt x="1667" y="1559"/>
                </a:lnTo>
                <a:lnTo>
                  <a:pt x="1687" y="1578"/>
                </a:lnTo>
                <a:lnTo>
                  <a:pt x="1706" y="1598"/>
                </a:lnTo>
                <a:lnTo>
                  <a:pt x="1723" y="1618"/>
                </a:lnTo>
                <a:lnTo>
                  <a:pt x="1739" y="1637"/>
                </a:lnTo>
                <a:lnTo>
                  <a:pt x="1755" y="1657"/>
                </a:lnTo>
                <a:lnTo>
                  <a:pt x="1768" y="1676"/>
                </a:lnTo>
                <a:lnTo>
                  <a:pt x="1781" y="1694"/>
                </a:lnTo>
                <a:lnTo>
                  <a:pt x="1793" y="1713"/>
                </a:lnTo>
                <a:lnTo>
                  <a:pt x="1803" y="1732"/>
                </a:lnTo>
                <a:lnTo>
                  <a:pt x="1811" y="1750"/>
                </a:lnTo>
                <a:lnTo>
                  <a:pt x="1818" y="1768"/>
                </a:lnTo>
                <a:lnTo>
                  <a:pt x="1824" y="1785"/>
                </a:lnTo>
                <a:lnTo>
                  <a:pt x="1829" y="1802"/>
                </a:lnTo>
                <a:lnTo>
                  <a:pt x="1833" y="1820"/>
                </a:lnTo>
                <a:lnTo>
                  <a:pt x="1834" y="1835"/>
                </a:lnTo>
                <a:lnTo>
                  <a:pt x="1836" y="1851"/>
                </a:lnTo>
                <a:lnTo>
                  <a:pt x="1834" y="1863"/>
                </a:lnTo>
                <a:lnTo>
                  <a:pt x="1834" y="1874"/>
                </a:lnTo>
                <a:lnTo>
                  <a:pt x="1833" y="1884"/>
                </a:lnTo>
                <a:lnTo>
                  <a:pt x="1831" y="1894"/>
                </a:lnTo>
                <a:lnTo>
                  <a:pt x="1830" y="1903"/>
                </a:lnTo>
                <a:lnTo>
                  <a:pt x="1827" y="1912"/>
                </a:lnTo>
                <a:lnTo>
                  <a:pt x="1824" y="1920"/>
                </a:lnTo>
                <a:lnTo>
                  <a:pt x="1821" y="1928"/>
                </a:lnTo>
                <a:lnTo>
                  <a:pt x="1817" y="1933"/>
                </a:lnTo>
                <a:lnTo>
                  <a:pt x="1813" y="1939"/>
                </a:lnTo>
                <a:lnTo>
                  <a:pt x="1808" y="1945"/>
                </a:lnTo>
                <a:lnTo>
                  <a:pt x="1804" y="1949"/>
                </a:lnTo>
                <a:lnTo>
                  <a:pt x="1798" y="1952"/>
                </a:lnTo>
                <a:lnTo>
                  <a:pt x="1793" y="1955"/>
                </a:lnTo>
                <a:lnTo>
                  <a:pt x="1785" y="1956"/>
                </a:lnTo>
                <a:lnTo>
                  <a:pt x="1780" y="1956"/>
                </a:lnTo>
                <a:lnTo>
                  <a:pt x="1775" y="1956"/>
                </a:lnTo>
                <a:lnTo>
                  <a:pt x="1771" y="1955"/>
                </a:lnTo>
                <a:lnTo>
                  <a:pt x="1765" y="1955"/>
                </a:lnTo>
                <a:lnTo>
                  <a:pt x="1759" y="1952"/>
                </a:lnTo>
                <a:lnTo>
                  <a:pt x="1754" y="1951"/>
                </a:lnTo>
                <a:lnTo>
                  <a:pt x="1746" y="1948"/>
                </a:lnTo>
                <a:lnTo>
                  <a:pt x="1738" y="1945"/>
                </a:lnTo>
                <a:lnTo>
                  <a:pt x="1729" y="1941"/>
                </a:lnTo>
                <a:lnTo>
                  <a:pt x="1721" y="1936"/>
                </a:lnTo>
                <a:lnTo>
                  <a:pt x="1712" y="1932"/>
                </a:lnTo>
                <a:lnTo>
                  <a:pt x="1700" y="1928"/>
                </a:lnTo>
                <a:lnTo>
                  <a:pt x="1690" y="1922"/>
                </a:lnTo>
                <a:lnTo>
                  <a:pt x="1679" y="1916"/>
                </a:lnTo>
                <a:lnTo>
                  <a:pt x="1666" y="1909"/>
                </a:lnTo>
                <a:lnTo>
                  <a:pt x="1654" y="1902"/>
                </a:lnTo>
                <a:lnTo>
                  <a:pt x="1640" y="1894"/>
                </a:lnTo>
                <a:lnTo>
                  <a:pt x="1627" y="1886"/>
                </a:lnTo>
                <a:lnTo>
                  <a:pt x="1613" y="1877"/>
                </a:lnTo>
                <a:lnTo>
                  <a:pt x="1597" y="1869"/>
                </a:lnTo>
                <a:lnTo>
                  <a:pt x="1581" y="1858"/>
                </a:lnTo>
                <a:lnTo>
                  <a:pt x="1565" y="1848"/>
                </a:lnTo>
                <a:lnTo>
                  <a:pt x="1548" y="1838"/>
                </a:lnTo>
                <a:lnTo>
                  <a:pt x="1531" y="1827"/>
                </a:lnTo>
                <a:lnTo>
                  <a:pt x="1513" y="1815"/>
                </a:lnTo>
                <a:lnTo>
                  <a:pt x="1495" y="1804"/>
                </a:lnTo>
                <a:lnTo>
                  <a:pt x="1476" y="1791"/>
                </a:lnTo>
                <a:lnTo>
                  <a:pt x="1456" y="1778"/>
                </a:lnTo>
                <a:lnTo>
                  <a:pt x="1436" y="1765"/>
                </a:lnTo>
                <a:lnTo>
                  <a:pt x="1415" y="1750"/>
                </a:lnTo>
                <a:lnTo>
                  <a:pt x="1394" y="1736"/>
                </a:lnTo>
                <a:lnTo>
                  <a:pt x="1372" y="1720"/>
                </a:lnTo>
                <a:lnTo>
                  <a:pt x="1351" y="1704"/>
                </a:lnTo>
                <a:lnTo>
                  <a:pt x="1305" y="1673"/>
                </a:lnTo>
                <a:lnTo>
                  <a:pt x="1258" y="1643"/>
                </a:lnTo>
                <a:lnTo>
                  <a:pt x="1212" y="1612"/>
                </a:lnTo>
                <a:lnTo>
                  <a:pt x="1165" y="1582"/>
                </a:lnTo>
                <a:lnTo>
                  <a:pt x="1119" y="1552"/>
                </a:lnTo>
                <a:lnTo>
                  <a:pt x="1071" y="1523"/>
                </a:lnTo>
                <a:lnTo>
                  <a:pt x="976" y="1467"/>
                </a:lnTo>
                <a:lnTo>
                  <a:pt x="883" y="1411"/>
                </a:lnTo>
                <a:lnTo>
                  <a:pt x="788" y="1355"/>
                </a:lnTo>
                <a:lnTo>
                  <a:pt x="742" y="1327"/>
                </a:lnTo>
                <a:lnTo>
                  <a:pt x="696" y="1300"/>
                </a:lnTo>
                <a:lnTo>
                  <a:pt x="649" y="1271"/>
                </a:lnTo>
                <a:lnTo>
                  <a:pt x="603" y="1244"/>
                </a:lnTo>
                <a:lnTo>
                  <a:pt x="580" y="1232"/>
                </a:lnTo>
                <a:lnTo>
                  <a:pt x="559" y="1221"/>
                </a:lnTo>
                <a:lnTo>
                  <a:pt x="537" y="1209"/>
                </a:lnTo>
                <a:lnTo>
                  <a:pt x="517" y="1199"/>
                </a:lnTo>
                <a:lnTo>
                  <a:pt x="495" y="1189"/>
                </a:lnTo>
                <a:lnTo>
                  <a:pt x="475" y="1179"/>
                </a:lnTo>
                <a:lnTo>
                  <a:pt x="457" y="1169"/>
                </a:lnTo>
                <a:lnTo>
                  <a:pt x="436" y="1160"/>
                </a:lnTo>
                <a:lnTo>
                  <a:pt x="418" y="1152"/>
                </a:lnTo>
                <a:lnTo>
                  <a:pt x="400" y="1143"/>
                </a:lnTo>
                <a:lnTo>
                  <a:pt x="382" y="1134"/>
                </a:lnTo>
                <a:lnTo>
                  <a:pt x="364" y="1127"/>
                </a:lnTo>
                <a:lnTo>
                  <a:pt x="349" y="1120"/>
                </a:lnTo>
                <a:lnTo>
                  <a:pt x="331" y="1113"/>
                </a:lnTo>
                <a:lnTo>
                  <a:pt x="315" y="1106"/>
                </a:lnTo>
                <a:lnTo>
                  <a:pt x="301" y="1100"/>
                </a:lnTo>
                <a:lnTo>
                  <a:pt x="287" y="1093"/>
                </a:lnTo>
                <a:lnTo>
                  <a:pt x="272" y="1087"/>
                </a:lnTo>
                <a:lnTo>
                  <a:pt x="259" y="1081"/>
                </a:lnTo>
                <a:lnTo>
                  <a:pt x="246" y="1077"/>
                </a:lnTo>
                <a:lnTo>
                  <a:pt x="233" y="1071"/>
                </a:lnTo>
                <a:lnTo>
                  <a:pt x="222" y="1067"/>
                </a:lnTo>
                <a:lnTo>
                  <a:pt x="210" y="1062"/>
                </a:lnTo>
                <a:lnTo>
                  <a:pt x="200" y="1058"/>
                </a:lnTo>
                <a:lnTo>
                  <a:pt x="190" y="1054"/>
                </a:lnTo>
                <a:lnTo>
                  <a:pt x="180" y="1051"/>
                </a:lnTo>
                <a:lnTo>
                  <a:pt x="172" y="1048"/>
                </a:lnTo>
                <a:lnTo>
                  <a:pt x="163" y="1044"/>
                </a:lnTo>
                <a:lnTo>
                  <a:pt x="156" y="1041"/>
                </a:lnTo>
                <a:lnTo>
                  <a:pt x="148" y="1039"/>
                </a:lnTo>
                <a:lnTo>
                  <a:pt x="143" y="1036"/>
                </a:lnTo>
                <a:lnTo>
                  <a:pt x="137" y="1035"/>
                </a:lnTo>
                <a:lnTo>
                  <a:pt x="117" y="1026"/>
                </a:lnTo>
                <a:lnTo>
                  <a:pt x="95" y="1018"/>
                </a:lnTo>
                <a:lnTo>
                  <a:pt x="77" y="1011"/>
                </a:lnTo>
                <a:lnTo>
                  <a:pt x="66" y="1006"/>
                </a:lnTo>
                <a:lnTo>
                  <a:pt x="58" y="1003"/>
                </a:lnTo>
                <a:lnTo>
                  <a:pt x="49" y="999"/>
                </a:lnTo>
                <a:lnTo>
                  <a:pt x="42" y="995"/>
                </a:lnTo>
                <a:lnTo>
                  <a:pt x="35" y="992"/>
                </a:lnTo>
                <a:lnTo>
                  <a:pt x="28" y="987"/>
                </a:lnTo>
                <a:lnTo>
                  <a:pt x="20" y="983"/>
                </a:lnTo>
                <a:lnTo>
                  <a:pt x="16" y="979"/>
                </a:lnTo>
                <a:lnTo>
                  <a:pt x="10" y="976"/>
                </a:lnTo>
                <a:lnTo>
                  <a:pt x="7" y="972"/>
                </a:lnTo>
                <a:lnTo>
                  <a:pt x="3" y="967"/>
                </a:lnTo>
                <a:lnTo>
                  <a:pt x="2" y="960"/>
                </a:lnTo>
                <a:lnTo>
                  <a:pt x="0" y="953"/>
                </a:lnTo>
                <a:lnTo>
                  <a:pt x="0" y="944"/>
                </a:lnTo>
                <a:lnTo>
                  <a:pt x="0" y="934"/>
                </a:lnTo>
                <a:lnTo>
                  <a:pt x="3" y="923"/>
                </a:lnTo>
                <a:lnTo>
                  <a:pt x="6" y="910"/>
                </a:lnTo>
                <a:lnTo>
                  <a:pt x="9" y="895"/>
                </a:lnTo>
                <a:lnTo>
                  <a:pt x="15" y="881"/>
                </a:lnTo>
                <a:lnTo>
                  <a:pt x="20" y="864"/>
                </a:lnTo>
                <a:lnTo>
                  <a:pt x="28" y="846"/>
                </a:lnTo>
                <a:lnTo>
                  <a:pt x="36" y="828"/>
                </a:lnTo>
                <a:lnTo>
                  <a:pt x="45" y="808"/>
                </a:lnTo>
                <a:lnTo>
                  <a:pt x="56" y="786"/>
                </a:lnTo>
                <a:lnTo>
                  <a:pt x="68" y="764"/>
                </a:lnTo>
                <a:lnTo>
                  <a:pt x="82" y="7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任意多边形 8"/>
          <p:cNvSpPr/>
          <p:nvPr/>
        </p:nvSpPr>
        <p:spPr>
          <a:xfrm>
            <a:off x="3684600" y="2859120"/>
            <a:ext cx="1028520" cy="1460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3601800" y="256068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90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3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1434960" y="2817720"/>
            <a:ext cx="7047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黄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荫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锦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扶     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2"/>
          <p:cNvSpPr/>
          <p:nvPr/>
        </p:nvSpPr>
        <p:spPr>
          <a:xfrm>
            <a:off x="2065680" y="24354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4281120" y="243684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98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矩形 9"/>
          <p:cNvSpPr/>
          <p:nvPr/>
        </p:nvSpPr>
        <p:spPr>
          <a:xfrm>
            <a:off x="6352560" y="2435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0"/>
          <p:cNvSpPr/>
          <p:nvPr/>
        </p:nvSpPr>
        <p:spPr>
          <a:xfrm>
            <a:off x="1975680" y="359892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2"/>
          <p:cNvSpPr/>
          <p:nvPr/>
        </p:nvSpPr>
        <p:spPr>
          <a:xfrm>
            <a:off x="3640680" y="359892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ā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1538280" y="2752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组合 4"/>
          <p:cNvGrpSpPr/>
          <p:nvPr/>
        </p:nvGrpSpPr>
        <p:grpSpPr>
          <a:xfrm>
            <a:off x="2063880" y="2320920"/>
            <a:ext cx="4113000" cy="1373400"/>
            <a:chOff x="2063880" y="2320920"/>
            <a:chExt cx="4113000" cy="1373400"/>
          </a:xfrm>
        </p:grpSpPr>
        <p:sp>
          <p:nvSpPr>
            <p:cNvPr id="306" name="左大括号 2"/>
            <p:cNvSpPr/>
            <p:nvPr/>
          </p:nvSpPr>
          <p:spPr>
            <a:xfrm>
              <a:off x="2063880" y="2563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Box 3"/>
            <p:cNvSpPr/>
            <p:nvPr/>
          </p:nvSpPr>
          <p:spPr>
            <a:xfrm>
              <a:off x="2230560" y="2320920"/>
              <a:ext cx="39463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ū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铺床　铺垫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床铺　当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TextBox 13"/>
          <p:cNvSpPr/>
          <p:nvPr/>
        </p:nvSpPr>
        <p:spPr>
          <a:xfrm>
            <a:off x="1633680" y="42004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组合 5"/>
          <p:cNvGrpSpPr/>
          <p:nvPr/>
        </p:nvGrpSpPr>
        <p:grpSpPr>
          <a:xfrm>
            <a:off x="2095560" y="3760920"/>
            <a:ext cx="3579840" cy="1373400"/>
            <a:chOff x="2095560" y="3760920"/>
            <a:chExt cx="3579840" cy="1373400"/>
          </a:xfrm>
        </p:grpSpPr>
        <p:sp>
          <p:nvSpPr>
            <p:cNvPr id="310" name="左大括号 14"/>
            <p:cNvSpPr/>
            <p:nvPr/>
          </p:nvSpPr>
          <p:spPr>
            <a:xfrm>
              <a:off x="2095560" y="397980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Box 15"/>
            <p:cNvSpPr/>
            <p:nvPr/>
          </p:nvSpPr>
          <p:spPr>
            <a:xfrm>
              <a:off x="2230200" y="3760920"/>
              <a:ext cx="34452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假期　假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ǎ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假如　真假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313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1"/>
          <p:cNvSpPr/>
          <p:nvPr/>
        </p:nvSpPr>
        <p:spPr>
          <a:xfrm>
            <a:off x="1069920" y="1760400"/>
            <a:ext cx="7696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萧瑟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漫山遍野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喜笑颜开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无边无际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"/>
          <p:cNvGrpSpPr/>
          <p:nvPr/>
        </p:nvGrpSpPr>
        <p:grpSpPr>
          <a:xfrm>
            <a:off x="558720" y="1065240"/>
            <a:ext cx="2594160" cy="666720"/>
            <a:chOff x="558720" y="1065240"/>
            <a:chExt cx="2594160" cy="666720"/>
          </a:xfrm>
        </p:grpSpPr>
        <p:sp>
          <p:nvSpPr>
            <p:cNvPr id="318" name="圆角矩形 5"/>
            <p:cNvSpPr/>
            <p:nvPr/>
          </p:nvSpPr>
          <p:spPr>
            <a:xfrm>
              <a:off x="1374840" y="12031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06524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16"/>
            <p:cNvSpPr/>
            <p:nvPr/>
          </p:nvSpPr>
          <p:spPr>
            <a:xfrm>
              <a:off x="1634040" y="1222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矩形 1"/>
          <p:cNvSpPr/>
          <p:nvPr/>
        </p:nvSpPr>
        <p:spPr>
          <a:xfrm>
            <a:off x="1890720" y="1768320"/>
            <a:ext cx="665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冷落；凄凉。文中指景色凄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秋天来了，院里的景色变得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萧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遍布山野，形容很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这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漫山遍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都是小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因为高兴而笑容满面的样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自从考试分数下来后，妈妈每次跟别人说起话来都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喜笑颜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开阔而望不到边缘。文中指香山的红叶所占的面积十分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大海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无边无际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一眼望不到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98560" y="2444760"/>
            <a:ext cx="72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理解香山的红叶在作者眼中与众不同的美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"/>
          <p:cNvSpPr/>
          <p:nvPr/>
        </p:nvSpPr>
        <p:spPr>
          <a:xfrm>
            <a:off x="1274760" y="188748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葱郁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秋高气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相辉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2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矩形 1"/>
          <p:cNvSpPr/>
          <p:nvPr/>
        </p:nvSpPr>
        <p:spPr>
          <a:xfrm>
            <a:off x="2687760" y="1889280"/>
            <a:ext cx="5873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植物浓绿、青翠、茂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这里的大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青葱郁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生机勃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秋天天空晴朗明净，气候凉爽宜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在这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秋高气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日子里，我们迎来了秋季运动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各种光亮、彩色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相互映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今晚，星月灯火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交相辉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"/>
          <p:cNvSpPr/>
          <p:nvPr/>
        </p:nvSpPr>
        <p:spPr>
          <a:xfrm>
            <a:off x="880920" y="1824120"/>
            <a:ext cx="745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奇丽多姿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淡相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3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矩形 1"/>
          <p:cNvSpPr/>
          <p:nvPr/>
        </p:nvSpPr>
        <p:spPr>
          <a:xfrm>
            <a:off x="2279520" y="1833480"/>
            <a:ext cx="62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姿态各异，奇特而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花园里的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奇丽多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争芳斗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色彩的深和浅相互谐调。文中指红叶和青松相互衬托，显得很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花园里艳丽的牡丹、素雅的茶花都盛开了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浓淡相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香气满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1"/>
          <p:cNvSpPr/>
          <p:nvPr/>
        </p:nvSpPr>
        <p:spPr>
          <a:xfrm>
            <a:off x="3963240" y="19350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惊奇　惊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2209680" y="2506680"/>
            <a:ext cx="614520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两个词语都有感到奇怪的意思，都是形容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侧重点不同，“惊奇”表示觉得很奇怪，语意较轻；“惊异”表示惊奇诧异，语意较重。使用场合不同，“惊奇”在书面语和口语中都比较常见；“惊异”多见于书面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里的变化之大，令人</a:t>
            </a:r>
            <a:r>
              <a:rPr b="1" lang="zh-CN" sz="2000" spc="-1" strike="noStrike">
                <a:solidFill>
                  <a:srgbClr val="ff00ff"/>
                </a:solidFill>
                <a:latin typeface="宋体"/>
              </a:rPr>
              <a:t>惊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个温柔的小女孩儿竟然如此坚强，这使大家感到</a:t>
            </a:r>
            <a:r>
              <a:rPr b="1" lang="zh-CN" sz="2000" spc="-1" strike="noStrike">
                <a:solidFill>
                  <a:srgbClr val="ff00ff"/>
                </a:solidFill>
                <a:latin typeface="宋体"/>
              </a:rPr>
              <a:t>惊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37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组合 4"/>
          <p:cNvGrpSpPr/>
          <p:nvPr/>
        </p:nvGrpSpPr>
        <p:grpSpPr>
          <a:xfrm>
            <a:off x="681120" y="2523960"/>
            <a:ext cx="1670040" cy="459720"/>
            <a:chOff x="681120" y="2523960"/>
            <a:chExt cx="1670040" cy="459720"/>
          </a:xfrm>
        </p:grpSpPr>
        <p:pic>
          <p:nvPicPr>
            <p:cNvPr id="341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5783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3"/>
            <p:cNvSpPr/>
            <p:nvPr/>
          </p:nvSpPr>
          <p:spPr>
            <a:xfrm>
              <a:off x="1024200" y="25239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20"/>
          <p:cNvGrpSpPr/>
          <p:nvPr/>
        </p:nvGrpSpPr>
        <p:grpSpPr>
          <a:xfrm>
            <a:off x="681120" y="3029040"/>
            <a:ext cx="1670040" cy="459720"/>
            <a:chOff x="681120" y="3029040"/>
            <a:chExt cx="1670040" cy="459720"/>
          </a:xfrm>
        </p:grpSpPr>
        <p:pic>
          <p:nvPicPr>
            <p:cNvPr id="344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083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22"/>
            <p:cNvSpPr/>
            <p:nvPr/>
          </p:nvSpPr>
          <p:spPr>
            <a:xfrm>
              <a:off x="1024200" y="3029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23"/>
          <p:cNvGrpSpPr/>
          <p:nvPr/>
        </p:nvGrpSpPr>
        <p:grpSpPr>
          <a:xfrm>
            <a:off x="681120" y="5000760"/>
            <a:ext cx="1670040" cy="459720"/>
            <a:chOff x="681120" y="5000760"/>
            <a:chExt cx="1670040" cy="459720"/>
          </a:xfrm>
        </p:grpSpPr>
        <p:pic>
          <p:nvPicPr>
            <p:cNvPr id="347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50551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25"/>
            <p:cNvSpPr/>
            <p:nvPr/>
          </p:nvSpPr>
          <p:spPr>
            <a:xfrm>
              <a:off x="1024200" y="50007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"/>
          <p:cNvSpPr/>
          <p:nvPr/>
        </p:nvSpPr>
        <p:spPr>
          <a:xfrm>
            <a:off x="824040" y="2071800"/>
            <a:ext cx="76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香山与众不同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香山因为有了不同于普通树叶的红叶，而让人感觉与众不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最美香山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具体写香山红叶给人带来的美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7"/>
          <p:cNvSpPr/>
          <p:nvPr/>
        </p:nvSpPr>
        <p:spPr>
          <a:xfrm>
            <a:off x="1440000" y="2941560"/>
            <a:ext cx="6584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课文从不同角度一再描写了香山红叶艳丽如花、繁盛茂密，彰显着生命活力的特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882720" y="1440000"/>
            <a:ext cx="73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，想一想课文主要写了香山红叶的什么特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354" name="矩形 11"/>
          <p:cNvSpPr/>
          <p:nvPr/>
        </p:nvSpPr>
        <p:spPr>
          <a:xfrm>
            <a:off x="1017720" y="242100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主要通过对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香山红叶与众不同之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描写，表达了作者对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香山红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赞美之情和对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大自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比热爱的思想感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4813200" y="4689360"/>
          <a:ext cx="288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809960" y="3257640"/>
          <a:ext cx="288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矩形 7167"/>
          <p:cNvSpPr/>
          <p:nvPr/>
        </p:nvSpPr>
        <p:spPr>
          <a:xfrm>
            <a:off x="1085760" y="19162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．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n  lì              yù  mào          huā   tu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jǐn  c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o sè            chèn tuō         huā   yào    yè       f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2" descr=""/>
          <p:cNvPicPr/>
          <p:nvPr/>
        </p:nvPicPr>
        <p:blipFill>
          <a:blip r:embed="rId1"/>
          <a:stretch/>
        </p:blipFill>
        <p:spPr>
          <a:xfrm>
            <a:off x="1190520" y="3208320"/>
            <a:ext cx="1451160" cy="738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"/>
          <p:cNvPicPr/>
          <p:nvPr/>
        </p:nvPicPr>
        <p:blipFill>
          <a:blip r:embed="rId2"/>
          <a:stretch/>
        </p:blipFill>
        <p:spPr>
          <a:xfrm>
            <a:off x="1174680" y="4670280"/>
            <a:ext cx="1451160" cy="73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"/>
          <p:cNvPicPr/>
          <p:nvPr/>
        </p:nvPicPr>
        <p:blipFill>
          <a:blip r:embed="rId3"/>
          <a:stretch/>
        </p:blipFill>
        <p:spPr>
          <a:xfrm>
            <a:off x="2987640" y="4670280"/>
            <a:ext cx="1451160" cy="738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4"/>
          <a:stretch/>
        </p:blipFill>
        <p:spPr>
          <a:xfrm>
            <a:off x="2976480" y="3225960"/>
            <a:ext cx="1451160" cy="738000"/>
          </a:xfrm>
          <a:prstGeom prst="rect">
            <a:avLst/>
          </a:prstGeom>
          <a:ln w="0">
            <a:noFill/>
          </a:ln>
        </p:spPr>
      </p:pic>
      <p:sp>
        <p:nvSpPr>
          <p:cNvPr id="362" name="矩形 3"/>
          <p:cNvSpPr/>
          <p:nvPr/>
        </p:nvSpPr>
        <p:spPr>
          <a:xfrm>
            <a:off x="1385280" y="321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艳 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4"/>
          <p:cNvSpPr/>
          <p:nvPr/>
        </p:nvSpPr>
        <p:spPr>
          <a:xfrm>
            <a:off x="3134520" y="324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郁 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21"/>
          <p:cNvSpPr/>
          <p:nvPr/>
        </p:nvSpPr>
        <p:spPr>
          <a:xfrm>
            <a:off x="1367640" y="4675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萧 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22"/>
          <p:cNvSpPr/>
          <p:nvPr/>
        </p:nvSpPr>
        <p:spPr>
          <a:xfrm>
            <a:off x="3168000" y="4686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衬 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67" name="组合 5"/>
          <p:cNvGrpSpPr/>
          <p:nvPr/>
        </p:nvGrpSpPr>
        <p:grpSpPr>
          <a:xfrm>
            <a:off x="4795920" y="3255840"/>
            <a:ext cx="2710440" cy="709560"/>
            <a:chOff x="4795920" y="3255840"/>
            <a:chExt cx="2710440" cy="709560"/>
          </a:xfrm>
        </p:grpSpPr>
        <p:sp>
          <p:nvSpPr>
            <p:cNvPr id="368" name="矩形 26"/>
            <p:cNvSpPr/>
            <p:nvPr/>
          </p:nvSpPr>
          <p:spPr>
            <a:xfrm>
              <a:off x="4795920" y="3261960"/>
              <a:ext cx="147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花 团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"/>
            <p:cNvSpPr/>
            <p:nvPr/>
          </p:nvSpPr>
          <p:spPr>
            <a:xfrm>
              <a:off x="6411240" y="32558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锦 簇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"/>
          <p:cNvGrpSpPr/>
          <p:nvPr/>
        </p:nvGrpSpPr>
        <p:grpSpPr>
          <a:xfrm>
            <a:off x="4794120" y="4689360"/>
            <a:ext cx="2727720" cy="731520"/>
            <a:chOff x="4794120" y="4689360"/>
            <a:chExt cx="2727720" cy="731520"/>
          </a:xfrm>
        </p:grpSpPr>
        <p:sp>
          <p:nvSpPr>
            <p:cNvPr id="371" name="矩形 25"/>
            <p:cNvSpPr/>
            <p:nvPr/>
          </p:nvSpPr>
          <p:spPr>
            <a:xfrm>
              <a:off x="4794120" y="4689360"/>
              <a:ext cx="15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花 要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2"/>
            <p:cNvSpPr/>
            <p:nvPr/>
          </p:nvSpPr>
          <p:spPr>
            <a:xfrm>
              <a:off x="6426720" y="47174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叶 扶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3"/>
          <p:cNvSpPr/>
          <p:nvPr/>
        </p:nvSpPr>
        <p:spPr>
          <a:xfrm>
            <a:off x="1703520" y="1790640"/>
            <a:ext cx="677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联（　　 ）    瑟（ 　　）    褐（　 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连（　　 ）    琴（　 　）　  歇（　 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姿（　 　）    簇（　    　） 扶（　　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资（　 　）    族（　　    ） 肤（ 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左大括号 2"/>
          <p:cNvSpPr/>
          <p:nvPr/>
        </p:nvSpPr>
        <p:spPr>
          <a:xfrm>
            <a:off x="1544760" y="2489040"/>
            <a:ext cx="153720" cy="914400"/>
          </a:xfrm>
          <a:custGeom>
            <a:avLst/>
            <a:gdLst>
              <a:gd name="textAreaLeft" fmla="*/ 98280 w 153720"/>
              <a:gd name="textAreaRight" fmla="*/ 154080 w 1537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2"/>
                  <a:pt x="10800" y="303"/>
                </a:cubicBezTo>
                <a:lnTo>
                  <a:pt x="10800" y="10497"/>
                </a:lnTo>
                <a:cubicBezTo>
                  <a:pt x="10800" y="10649"/>
                  <a:pt x="5400" y="10800"/>
                  <a:pt x="0" y="10800"/>
                </a:cubicBezTo>
                <a:cubicBezTo>
                  <a:pt x="5400" y="10800"/>
                  <a:pt x="10800" y="10952"/>
                  <a:pt x="10800" y="11103"/>
                </a:cubicBezTo>
                <a:lnTo>
                  <a:pt x="10800" y="21297"/>
                </a:lnTo>
                <a:cubicBezTo>
                  <a:pt x="10800" y="214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左大括号 4"/>
          <p:cNvSpPr/>
          <p:nvPr/>
        </p:nvSpPr>
        <p:spPr>
          <a:xfrm>
            <a:off x="3857760" y="24890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左大括号 5"/>
          <p:cNvSpPr/>
          <p:nvPr/>
        </p:nvSpPr>
        <p:spPr>
          <a:xfrm>
            <a:off x="6156360" y="35942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左大括号 6"/>
          <p:cNvSpPr/>
          <p:nvPr/>
        </p:nvSpPr>
        <p:spPr>
          <a:xfrm>
            <a:off x="6156360" y="24890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左大括号 7"/>
          <p:cNvSpPr/>
          <p:nvPr/>
        </p:nvSpPr>
        <p:spPr>
          <a:xfrm>
            <a:off x="3857760" y="35863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左大括号 8"/>
          <p:cNvSpPr/>
          <p:nvPr/>
        </p:nvSpPr>
        <p:spPr>
          <a:xfrm>
            <a:off x="1547640" y="358632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10"/>
          <p:cNvSpPr/>
          <p:nvPr/>
        </p:nvSpPr>
        <p:spPr>
          <a:xfrm>
            <a:off x="2423880" y="244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联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11"/>
          <p:cNvSpPr/>
          <p:nvPr/>
        </p:nvSpPr>
        <p:spPr>
          <a:xfrm>
            <a:off x="2444400" y="299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连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12"/>
          <p:cNvSpPr/>
          <p:nvPr/>
        </p:nvSpPr>
        <p:spPr>
          <a:xfrm>
            <a:off x="4750920" y="245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萧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3"/>
          <p:cNvSpPr/>
          <p:nvPr/>
        </p:nvSpPr>
        <p:spPr>
          <a:xfrm>
            <a:off x="4711320" y="302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琴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4"/>
          <p:cNvSpPr/>
          <p:nvPr/>
        </p:nvSpPr>
        <p:spPr>
          <a:xfrm>
            <a:off x="7067160" y="244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褐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5"/>
          <p:cNvSpPr/>
          <p:nvPr/>
        </p:nvSpPr>
        <p:spPr>
          <a:xfrm>
            <a:off x="704484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歇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16"/>
          <p:cNvSpPr/>
          <p:nvPr/>
        </p:nvSpPr>
        <p:spPr>
          <a:xfrm>
            <a:off x="2423880" y="356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姿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7"/>
          <p:cNvSpPr/>
          <p:nvPr/>
        </p:nvSpPr>
        <p:spPr>
          <a:xfrm>
            <a:off x="2425320" y="410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8"/>
          <p:cNvSpPr/>
          <p:nvPr/>
        </p:nvSpPr>
        <p:spPr>
          <a:xfrm>
            <a:off x="4745880" y="3551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团锦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9"/>
          <p:cNvSpPr/>
          <p:nvPr/>
        </p:nvSpPr>
        <p:spPr>
          <a:xfrm>
            <a:off x="4772880" y="4083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少数民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20"/>
          <p:cNvSpPr/>
          <p:nvPr/>
        </p:nvSpPr>
        <p:spPr>
          <a:xfrm>
            <a:off x="7067160" y="3548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扶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21"/>
          <p:cNvSpPr/>
          <p:nvPr/>
        </p:nvSpPr>
        <p:spPr>
          <a:xfrm>
            <a:off x="6739560" y="40798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皮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2"/>
          <p:cNvSpPr/>
          <p:nvPr/>
        </p:nvSpPr>
        <p:spPr>
          <a:xfrm>
            <a:off x="1224000" y="2128680"/>
            <a:ext cx="74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．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     林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青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   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相宜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       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Courier New"/>
              </a:rPr>
              <a:t>辉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1"/>
          <p:cNvSpPr/>
          <p:nvPr/>
        </p:nvSpPr>
        <p:spPr>
          <a:xfrm>
            <a:off x="1990440" y="276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3"/>
          <p:cNvSpPr/>
          <p:nvPr/>
        </p:nvSpPr>
        <p:spPr>
          <a:xfrm>
            <a:off x="3249360" y="27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6153120" y="27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2"/>
          <p:cNvSpPr/>
          <p:nvPr/>
        </p:nvSpPr>
        <p:spPr>
          <a:xfrm>
            <a:off x="70722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2263680" y="332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201840" y="330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5"/>
          <p:cNvSpPr/>
          <p:nvPr/>
        </p:nvSpPr>
        <p:spPr>
          <a:xfrm>
            <a:off x="5532480" y="332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6454800" y="332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1974600" y="389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18"/>
          <p:cNvSpPr/>
          <p:nvPr/>
        </p:nvSpPr>
        <p:spPr>
          <a:xfrm>
            <a:off x="3208320" y="3881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19"/>
          <p:cNvSpPr/>
          <p:nvPr/>
        </p:nvSpPr>
        <p:spPr>
          <a:xfrm>
            <a:off x="5503680" y="386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20"/>
          <p:cNvSpPr/>
          <p:nvPr/>
        </p:nvSpPr>
        <p:spPr>
          <a:xfrm>
            <a:off x="6446880" y="3875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矩形 1"/>
          <p:cNvSpPr/>
          <p:nvPr/>
        </p:nvSpPr>
        <p:spPr>
          <a:xfrm>
            <a:off x="755640" y="11016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ourier New"/>
              </a:rPr>
              <a:t>．按要求写句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ourier New"/>
              </a:rPr>
              <a:t>这些“红花”开得密。那些褐色的枝条看不出来了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用恰当的关联词语连成一句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ourier New"/>
              </a:rPr>
              <a:t>黄栌树叶红了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把句子改写成拟人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ourier New"/>
              </a:rPr>
              <a:t>方法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ourier New"/>
              </a:rPr>
              <a:t>叶子大红锦簇，哪里的春天能比得上它热闹呢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改为陈述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ourier New"/>
              </a:rPr>
              <a:t>红叶和青松在秋高气爽的日子里交相辉映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变换词序，不改变意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ourier New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1111320" y="25369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因为这些“红花”开得密，所以那些褐色的枝条看不出来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1192320" y="3460680"/>
            <a:ext cx="29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黄栌树叶羞红了脸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8"/>
          <p:cNvSpPr/>
          <p:nvPr/>
        </p:nvSpPr>
        <p:spPr>
          <a:xfrm>
            <a:off x="1152360" y="4368960"/>
            <a:ext cx="60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叶子大红锦簇，哪里的春天也比不上它热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9"/>
          <p:cNvSpPr/>
          <p:nvPr/>
        </p:nvSpPr>
        <p:spPr>
          <a:xfrm>
            <a:off x="1138320" y="572940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在秋高气爽的日子里，红叶和青松交相辉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/>
          <p:cNvSpPr/>
          <p:nvPr/>
        </p:nvSpPr>
        <p:spPr>
          <a:xfrm>
            <a:off x="630360" y="2295360"/>
            <a:ext cx="794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叶君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9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9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湖北黄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湖北红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，中国著名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儿童文学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翻译家。以翻译丹麦文版安徒生童话故事而享誉世界文坛，被授予丹麦“国旗勋章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香山的红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叶君健童话故事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3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4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略窄，右部上面点、撇相呼应，捺要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3"/>
          <p:cNvSpPr/>
          <p:nvPr/>
        </p:nvSpPr>
        <p:spPr>
          <a:xfrm>
            <a:off x="209232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30"/>
          <p:cNvSpPr/>
          <p:nvPr/>
        </p:nvSpPr>
        <p:spPr>
          <a:xfrm>
            <a:off x="6321600" y="3786120"/>
            <a:ext cx="1233360" cy="273240"/>
          </a:xfrm>
          <a:custGeom>
            <a:avLst/>
            <a:gdLst/>
            <a:ahLst/>
            <a:rect l="l" t="t" r="r" b="b"/>
            <a:pathLst>
              <a:path w="1555" h="343">
                <a:moveTo>
                  <a:pt x="1497" y="184"/>
                </a:moveTo>
                <a:lnTo>
                  <a:pt x="1490" y="186"/>
                </a:lnTo>
                <a:lnTo>
                  <a:pt x="1482" y="188"/>
                </a:lnTo>
                <a:lnTo>
                  <a:pt x="1470" y="190"/>
                </a:lnTo>
                <a:lnTo>
                  <a:pt x="1461" y="192"/>
                </a:lnTo>
                <a:lnTo>
                  <a:pt x="1447" y="194"/>
                </a:lnTo>
                <a:lnTo>
                  <a:pt x="1434" y="194"/>
                </a:lnTo>
                <a:lnTo>
                  <a:pt x="1419" y="196"/>
                </a:lnTo>
                <a:lnTo>
                  <a:pt x="1401" y="196"/>
                </a:lnTo>
                <a:lnTo>
                  <a:pt x="1384" y="196"/>
                </a:lnTo>
                <a:lnTo>
                  <a:pt x="1363" y="197"/>
                </a:lnTo>
                <a:lnTo>
                  <a:pt x="1344" y="197"/>
                </a:lnTo>
                <a:lnTo>
                  <a:pt x="1321" y="197"/>
                </a:lnTo>
                <a:lnTo>
                  <a:pt x="1298" y="197"/>
                </a:lnTo>
                <a:lnTo>
                  <a:pt x="1273" y="197"/>
                </a:lnTo>
                <a:lnTo>
                  <a:pt x="1246" y="197"/>
                </a:lnTo>
                <a:lnTo>
                  <a:pt x="1219" y="197"/>
                </a:lnTo>
                <a:lnTo>
                  <a:pt x="1190" y="197"/>
                </a:lnTo>
                <a:lnTo>
                  <a:pt x="1163" y="197"/>
                </a:lnTo>
                <a:lnTo>
                  <a:pt x="1136" y="197"/>
                </a:lnTo>
                <a:lnTo>
                  <a:pt x="1110" y="197"/>
                </a:lnTo>
                <a:lnTo>
                  <a:pt x="1085" y="197"/>
                </a:lnTo>
                <a:lnTo>
                  <a:pt x="1058" y="197"/>
                </a:lnTo>
                <a:lnTo>
                  <a:pt x="1033" y="199"/>
                </a:lnTo>
                <a:lnTo>
                  <a:pt x="1010" y="199"/>
                </a:lnTo>
                <a:lnTo>
                  <a:pt x="987" y="199"/>
                </a:lnTo>
                <a:lnTo>
                  <a:pt x="962" y="201"/>
                </a:lnTo>
                <a:lnTo>
                  <a:pt x="941" y="201"/>
                </a:lnTo>
                <a:lnTo>
                  <a:pt x="918" y="203"/>
                </a:lnTo>
                <a:lnTo>
                  <a:pt x="896" y="205"/>
                </a:lnTo>
                <a:lnTo>
                  <a:pt x="875" y="205"/>
                </a:lnTo>
                <a:lnTo>
                  <a:pt x="856" y="209"/>
                </a:lnTo>
                <a:lnTo>
                  <a:pt x="835" y="211"/>
                </a:lnTo>
                <a:lnTo>
                  <a:pt x="816" y="213"/>
                </a:lnTo>
                <a:lnTo>
                  <a:pt x="795" y="217"/>
                </a:lnTo>
                <a:lnTo>
                  <a:pt x="774" y="219"/>
                </a:lnTo>
                <a:lnTo>
                  <a:pt x="752" y="222"/>
                </a:lnTo>
                <a:lnTo>
                  <a:pt x="731" y="226"/>
                </a:lnTo>
                <a:lnTo>
                  <a:pt x="708" y="230"/>
                </a:lnTo>
                <a:lnTo>
                  <a:pt x="685" y="236"/>
                </a:lnTo>
                <a:lnTo>
                  <a:pt x="662" y="240"/>
                </a:lnTo>
                <a:lnTo>
                  <a:pt x="637" y="245"/>
                </a:lnTo>
                <a:lnTo>
                  <a:pt x="612" y="251"/>
                </a:lnTo>
                <a:lnTo>
                  <a:pt x="587" y="257"/>
                </a:lnTo>
                <a:lnTo>
                  <a:pt x="561" y="263"/>
                </a:lnTo>
                <a:lnTo>
                  <a:pt x="536" y="269"/>
                </a:lnTo>
                <a:lnTo>
                  <a:pt x="509" y="276"/>
                </a:lnTo>
                <a:lnTo>
                  <a:pt x="480" y="282"/>
                </a:lnTo>
                <a:lnTo>
                  <a:pt x="453" y="290"/>
                </a:lnTo>
                <a:lnTo>
                  <a:pt x="424" y="297"/>
                </a:lnTo>
                <a:lnTo>
                  <a:pt x="399" y="303"/>
                </a:lnTo>
                <a:lnTo>
                  <a:pt x="374" y="309"/>
                </a:lnTo>
                <a:lnTo>
                  <a:pt x="351" y="315"/>
                </a:lnTo>
                <a:lnTo>
                  <a:pt x="328" y="320"/>
                </a:lnTo>
                <a:lnTo>
                  <a:pt x="307" y="324"/>
                </a:lnTo>
                <a:lnTo>
                  <a:pt x="288" y="328"/>
                </a:lnTo>
                <a:lnTo>
                  <a:pt x="271" y="332"/>
                </a:lnTo>
                <a:lnTo>
                  <a:pt x="253" y="334"/>
                </a:lnTo>
                <a:lnTo>
                  <a:pt x="238" y="336"/>
                </a:lnTo>
                <a:lnTo>
                  <a:pt x="223" y="338"/>
                </a:lnTo>
                <a:lnTo>
                  <a:pt x="211" y="340"/>
                </a:lnTo>
                <a:lnTo>
                  <a:pt x="200" y="341"/>
                </a:lnTo>
                <a:lnTo>
                  <a:pt x="190" y="341"/>
                </a:lnTo>
                <a:lnTo>
                  <a:pt x="180" y="341"/>
                </a:lnTo>
                <a:lnTo>
                  <a:pt x="175" y="343"/>
                </a:lnTo>
                <a:lnTo>
                  <a:pt x="167" y="341"/>
                </a:lnTo>
                <a:lnTo>
                  <a:pt x="159" y="341"/>
                </a:lnTo>
                <a:lnTo>
                  <a:pt x="152" y="338"/>
                </a:lnTo>
                <a:lnTo>
                  <a:pt x="144" y="336"/>
                </a:lnTo>
                <a:lnTo>
                  <a:pt x="134" y="332"/>
                </a:lnTo>
                <a:lnTo>
                  <a:pt x="125" y="326"/>
                </a:lnTo>
                <a:lnTo>
                  <a:pt x="115" y="320"/>
                </a:lnTo>
                <a:lnTo>
                  <a:pt x="104" y="315"/>
                </a:lnTo>
                <a:lnTo>
                  <a:pt x="92" y="307"/>
                </a:lnTo>
                <a:lnTo>
                  <a:pt x="81" y="299"/>
                </a:lnTo>
                <a:lnTo>
                  <a:pt x="69" y="292"/>
                </a:lnTo>
                <a:lnTo>
                  <a:pt x="56" y="282"/>
                </a:lnTo>
                <a:lnTo>
                  <a:pt x="42" y="272"/>
                </a:lnTo>
                <a:lnTo>
                  <a:pt x="29" y="261"/>
                </a:lnTo>
                <a:lnTo>
                  <a:pt x="15" y="249"/>
                </a:lnTo>
                <a:lnTo>
                  <a:pt x="0" y="238"/>
                </a:lnTo>
                <a:lnTo>
                  <a:pt x="40" y="230"/>
                </a:lnTo>
                <a:lnTo>
                  <a:pt x="79" y="222"/>
                </a:lnTo>
                <a:lnTo>
                  <a:pt x="117" y="215"/>
                </a:lnTo>
                <a:lnTo>
                  <a:pt x="156" y="207"/>
                </a:lnTo>
                <a:lnTo>
                  <a:pt x="192" y="199"/>
                </a:lnTo>
                <a:lnTo>
                  <a:pt x="228" y="194"/>
                </a:lnTo>
                <a:lnTo>
                  <a:pt x="265" y="186"/>
                </a:lnTo>
                <a:lnTo>
                  <a:pt x="299" y="180"/>
                </a:lnTo>
                <a:lnTo>
                  <a:pt x="334" y="173"/>
                </a:lnTo>
                <a:lnTo>
                  <a:pt x="369" y="167"/>
                </a:lnTo>
                <a:lnTo>
                  <a:pt x="401" y="159"/>
                </a:lnTo>
                <a:lnTo>
                  <a:pt x="432" y="153"/>
                </a:lnTo>
                <a:lnTo>
                  <a:pt x="465" y="148"/>
                </a:lnTo>
                <a:lnTo>
                  <a:pt x="495" y="142"/>
                </a:lnTo>
                <a:lnTo>
                  <a:pt x="524" y="136"/>
                </a:lnTo>
                <a:lnTo>
                  <a:pt x="555" y="130"/>
                </a:lnTo>
                <a:lnTo>
                  <a:pt x="582" y="125"/>
                </a:lnTo>
                <a:lnTo>
                  <a:pt x="610" y="119"/>
                </a:lnTo>
                <a:lnTo>
                  <a:pt x="637" y="113"/>
                </a:lnTo>
                <a:lnTo>
                  <a:pt x="664" y="107"/>
                </a:lnTo>
                <a:lnTo>
                  <a:pt x="689" y="102"/>
                </a:lnTo>
                <a:lnTo>
                  <a:pt x="714" y="96"/>
                </a:lnTo>
                <a:lnTo>
                  <a:pt x="737" y="92"/>
                </a:lnTo>
                <a:lnTo>
                  <a:pt x="760" y="86"/>
                </a:lnTo>
                <a:lnTo>
                  <a:pt x="783" y="82"/>
                </a:lnTo>
                <a:lnTo>
                  <a:pt x="804" y="77"/>
                </a:lnTo>
                <a:lnTo>
                  <a:pt x="825" y="73"/>
                </a:lnTo>
                <a:lnTo>
                  <a:pt x="845" y="69"/>
                </a:lnTo>
                <a:lnTo>
                  <a:pt x="864" y="63"/>
                </a:lnTo>
                <a:lnTo>
                  <a:pt x="883" y="59"/>
                </a:lnTo>
                <a:lnTo>
                  <a:pt x="900" y="55"/>
                </a:lnTo>
                <a:lnTo>
                  <a:pt x="918" y="52"/>
                </a:lnTo>
                <a:lnTo>
                  <a:pt x="948" y="46"/>
                </a:lnTo>
                <a:lnTo>
                  <a:pt x="979" y="38"/>
                </a:lnTo>
                <a:lnTo>
                  <a:pt x="1008" y="32"/>
                </a:lnTo>
                <a:lnTo>
                  <a:pt x="1037" y="27"/>
                </a:lnTo>
                <a:lnTo>
                  <a:pt x="1063" y="23"/>
                </a:lnTo>
                <a:lnTo>
                  <a:pt x="1088" y="17"/>
                </a:lnTo>
                <a:lnTo>
                  <a:pt x="1113" y="13"/>
                </a:lnTo>
                <a:lnTo>
                  <a:pt x="1136" y="11"/>
                </a:lnTo>
                <a:lnTo>
                  <a:pt x="1157" y="7"/>
                </a:lnTo>
                <a:lnTo>
                  <a:pt x="1179" y="6"/>
                </a:lnTo>
                <a:lnTo>
                  <a:pt x="1198" y="4"/>
                </a:lnTo>
                <a:lnTo>
                  <a:pt x="1215" y="2"/>
                </a:lnTo>
                <a:lnTo>
                  <a:pt x="1232" y="2"/>
                </a:lnTo>
                <a:lnTo>
                  <a:pt x="1248" y="0"/>
                </a:lnTo>
                <a:lnTo>
                  <a:pt x="1263" y="0"/>
                </a:lnTo>
                <a:lnTo>
                  <a:pt x="1277" y="0"/>
                </a:lnTo>
                <a:lnTo>
                  <a:pt x="1301" y="0"/>
                </a:lnTo>
                <a:lnTo>
                  <a:pt x="1326" y="2"/>
                </a:lnTo>
                <a:lnTo>
                  <a:pt x="1351" y="6"/>
                </a:lnTo>
                <a:lnTo>
                  <a:pt x="1374" y="9"/>
                </a:lnTo>
                <a:lnTo>
                  <a:pt x="1396" y="15"/>
                </a:lnTo>
                <a:lnTo>
                  <a:pt x="1419" y="21"/>
                </a:lnTo>
                <a:lnTo>
                  <a:pt x="1440" y="31"/>
                </a:lnTo>
                <a:lnTo>
                  <a:pt x="1463" y="40"/>
                </a:lnTo>
                <a:lnTo>
                  <a:pt x="1472" y="46"/>
                </a:lnTo>
                <a:lnTo>
                  <a:pt x="1482" y="54"/>
                </a:lnTo>
                <a:lnTo>
                  <a:pt x="1491" y="59"/>
                </a:lnTo>
                <a:lnTo>
                  <a:pt x="1499" y="67"/>
                </a:lnTo>
                <a:lnTo>
                  <a:pt x="1507" y="73"/>
                </a:lnTo>
                <a:lnTo>
                  <a:pt x="1515" y="78"/>
                </a:lnTo>
                <a:lnTo>
                  <a:pt x="1520" y="84"/>
                </a:lnTo>
                <a:lnTo>
                  <a:pt x="1526" y="88"/>
                </a:lnTo>
                <a:lnTo>
                  <a:pt x="1532" y="94"/>
                </a:lnTo>
                <a:lnTo>
                  <a:pt x="1536" y="98"/>
                </a:lnTo>
                <a:lnTo>
                  <a:pt x="1543" y="105"/>
                </a:lnTo>
                <a:lnTo>
                  <a:pt x="1549" y="113"/>
                </a:lnTo>
                <a:lnTo>
                  <a:pt x="1555" y="119"/>
                </a:lnTo>
                <a:lnTo>
                  <a:pt x="1555" y="123"/>
                </a:lnTo>
                <a:lnTo>
                  <a:pt x="1553" y="128"/>
                </a:lnTo>
                <a:lnTo>
                  <a:pt x="1553" y="132"/>
                </a:lnTo>
                <a:lnTo>
                  <a:pt x="1551" y="138"/>
                </a:lnTo>
                <a:lnTo>
                  <a:pt x="1545" y="148"/>
                </a:lnTo>
                <a:lnTo>
                  <a:pt x="1539" y="155"/>
                </a:lnTo>
                <a:lnTo>
                  <a:pt x="1530" y="165"/>
                </a:lnTo>
                <a:lnTo>
                  <a:pt x="1520" y="173"/>
                </a:lnTo>
                <a:lnTo>
                  <a:pt x="1509" y="178"/>
                </a:lnTo>
                <a:lnTo>
                  <a:pt x="1497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31"/>
          <p:cNvSpPr/>
          <p:nvPr/>
        </p:nvSpPr>
        <p:spPr>
          <a:xfrm>
            <a:off x="6346800" y="3492360"/>
            <a:ext cx="593640" cy="1249560"/>
          </a:xfrm>
          <a:custGeom>
            <a:avLst/>
            <a:gdLst/>
            <a:ahLst/>
            <a:rect l="l" t="t" r="r" b="b"/>
            <a:pathLst>
              <a:path w="748" h="1574">
                <a:moveTo>
                  <a:pt x="535" y="1056"/>
                </a:moveTo>
                <a:lnTo>
                  <a:pt x="520" y="1089"/>
                </a:lnTo>
                <a:lnTo>
                  <a:pt x="505" y="1119"/>
                </a:lnTo>
                <a:lnTo>
                  <a:pt x="487" y="1148"/>
                </a:lnTo>
                <a:lnTo>
                  <a:pt x="468" y="1177"/>
                </a:lnTo>
                <a:lnTo>
                  <a:pt x="451" y="1206"/>
                </a:lnTo>
                <a:lnTo>
                  <a:pt x="432" y="1233"/>
                </a:lnTo>
                <a:lnTo>
                  <a:pt x="410" y="1260"/>
                </a:lnTo>
                <a:lnTo>
                  <a:pt x="391" y="1284"/>
                </a:lnTo>
                <a:lnTo>
                  <a:pt x="370" y="1307"/>
                </a:lnTo>
                <a:lnTo>
                  <a:pt x="349" y="1331"/>
                </a:lnTo>
                <a:lnTo>
                  <a:pt x="326" y="1354"/>
                </a:lnTo>
                <a:lnTo>
                  <a:pt x="303" y="1375"/>
                </a:lnTo>
                <a:lnTo>
                  <a:pt x="282" y="1396"/>
                </a:lnTo>
                <a:lnTo>
                  <a:pt x="259" y="1415"/>
                </a:lnTo>
                <a:lnTo>
                  <a:pt x="234" y="1434"/>
                </a:lnTo>
                <a:lnTo>
                  <a:pt x="211" y="1451"/>
                </a:lnTo>
                <a:lnTo>
                  <a:pt x="188" y="1469"/>
                </a:lnTo>
                <a:lnTo>
                  <a:pt x="167" y="1484"/>
                </a:lnTo>
                <a:lnTo>
                  <a:pt x="146" y="1499"/>
                </a:lnTo>
                <a:lnTo>
                  <a:pt x="126" y="1513"/>
                </a:lnTo>
                <a:lnTo>
                  <a:pt x="109" y="1524"/>
                </a:lnTo>
                <a:lnTo>
                  <a:pt x="92" y="1534"/>
                </a:lnTo>
                <a:lnTo>
                  <a:pt x="76" y="1544"/>
                </a:lnTo>
                <a:lnTo>
                  <a:pt x="63" y="1551"/>
                </a:lnTo>
                <a:lnTo>
                  <a:pt x="50" y="1559"/>
                </a:lnTo>
                <a:lnTo>
                  <a:pt x="40" y="1565"/>
                </a:lnTo>
                <a:lnTo>
                  <a:pt x="30" y="1569"/>
                </a:lnTo>
                <a:lnTo>
                  <a:pt x="21" y="1570"/>
                </a:lnTo>
                <a:lnTo>
                  <a:pt x="15" y="1572"/>
                </a:lnTo>
                <a:lnTo>
                  <a:pt x="9" y="1574"/>
                </a:lnTo>
                <a:lnTo>
                  <a:pt x="5" y="1572"/>
                </a:lnTo>
                <a:lnTo>
                  <a:pt x="2" y="1570"/>
                </a:lnTo>
                <a:lnTo>
                  <a:pt x="0" y="1569"/>
                </a:lnTo>
                <a:lnTo>
                  <a:pt x="0" y="1563"/>
                </a:lnTo>
                <a:lnTo>
                  <a:pt x="2" y="1559"/>
                </a:lnTo>
                <a:lnTo>
                  <a:pt x="5" y="1551"/>
                </a:lnTo>
                <a:lnTo>
                  <a:pt x="11" y="1544"/>
                </a:lnTo>
                <a:lnTo>
                  <a:pt x="17" y="1534"/>
                </a:lnTo>
                <a:lnTo>
                  <a:pt x="25" y="1524"/>
                </a:lnTo>
                <a:lnTo>
                  <a:pt x="34" y="1513"/>
                </a:lnTo>
                <a:lnTo>
                  <a:pt x="44" y="1501"/>
                </a:lnTo>
                <a:lnTo>
                  <a:pt x="57" y="1488"/>
                </a:lnTo>
                <a:lnTo>
                  <a:pt x="69" y="1474"/>
                </a:lnTo>
                <a:lnTo>
                  <a:pt x="84" y="1457"/>
                </a:lnTo>
                <a:lnTo>
                  <a:pt x="99" y="1442"/>
                </a:lnTo>
                <a:lnTo>
                  <a:pt x="117" y="1425"/>
                </a:lnTo>
                <a:lnTo>
                  <a:pt x="134" y="1405"/>
                </a:lnTo>
                <a:lnTo>
                  <a:pt x="153" y="1386"/>
                </a:lnTo>
                <a:lnTo>
                  <a:pt x="172" y="1365"/>
                </a:lnTo>
                <a:lnTo>
                  <a:pt x="190" y="1346"/>
                </a:lnTo>
                <a:lnTo>
                  <a:pt x="209" y="1323"/>
                </a:lnTo>
                <a:lnTo>
                  <a:pt x="226" y="1302"/>
                </a:lnTo>
                <a:lnTo>
                  <a:pt x="243" y="1279"/>
                </a:lnTo>
                <a:lnTo>
                  <a:pt x="261" y="1256"/>
                </a:lnTo>
                <a:lnTo>
                  <a:pt x="278" y="1231"/>
                </a:lnTo>
                <a:lnTo>
                  <a:pt x="295" y="1206"/>
                </a:lnTo>
                <a:lnTo>
                  <a:pt x="311" y="1181"/>
                </a:lnTo>
                <a:lnTo>
                  <a:pt x="328" y="1154"/>
                </a:lnTo>
                <a:lnTo>
                  <a:pt x="343" y="1127"/>
                </a:lnTo>
                <a:lnTo>
                  <a:pt x="359" y="1098"/>
                </a:lnTo>
                <a:lnTo>
                  <a:pt x="374" y="1069"/>
                </a:lnTo>
                <a:lnTo>
                  <a:pt x="389" y="1041"/>
                </a:lnTo>
                <a:lnTo>
                  <a:pt x="405" y="1010"/>
                </a:lnTo>
                <a:lnTo>
                  <a:pt x="420" y="977"/>
                </a:lnTo>
                <a:lnTo>
                  <a:pt x="432" y="947"/>
                </a:lnTo>
                <a:lnTo>
                  <a:pt x="445" y="918"/>
                </a:lnTo>
                <a:lnTo>
                  <a:pt x="457" y="887"/>
                </a:lnTo>
                <a:lnTo>
                  <a:pt x="466" y="856"/>
                </a:lnTo>
                <a:lnTo>
                  <a:pt x="478" y="826"/>
                </a:lnTo>
                <a:lnTo>
                  <a:pt x="487" y="795"/>
                </a:lnTo>
                <a:lnTo>
                  <a:pt x="497" y="762"/>
                </a:lnTo>
                <a:lnTo>
                  <a:pt x="506" y="732"/>
                </a:lnTo>
                <a:lnTo>
                  <a:pt x="514" y="699"/>
                </a:lnTo>
                <a:lnTo>
                  <a:pt x="522" y="668"/>
                </a:lnTo>
                <a:lnTo>
                  <a:pt x="529" y="636"/>
                </a:lnTo>
                <a:lnTo>
                  <a:pt x="537" y="605"/>
                </a:lnTo>
                <a:lnTo>
                  <a:pt x="543" y="572"/>
                </a:lnTo>
                <a:lnTo>
                  <a:pt x="549" y="540"/>
                </a:lnTo>
                <a:lnTo>
                  <a:pt x="554" y="509"/>
                </a:lnTo>
                <a:lnTo>
                  <a:pt x="558" y="476"/>
                </a:lnTo>
                <a:lnTo>
                  <a:pt x="562" y="413"/>
                </a:lnTo>
                <a:lnTo>
                  <a:pt x="564" y="350"/>
                </a:lnTo>
                <a:lnTo>
                  <a:pt x="566" y="288"/>
                </a:lnTo>
                <a:lnTo>
                  <a:pt x="566" y="259"/>
                </a:lnTo>
                <a:lnTo>
                  <a:pt x="564" y="229"/>
                </a:lnTo>
                <a:lnTo>
                  <a:pt x="562" y="200"/>
                </a:lnTo>
                <a:lnTo>
                  <a:pt x="560" y="169"/>
                </a:lnTo>
                <a:lnTo>
                  <a:pt x="558" y="140"/>
                </a:lnTo>
                <a:lnTo>
                  <a:pt x="554" y="112"/>
                </a:lnTo>
                <a:lnTo>
                  <a:pt x="551" y="85"/>
                </a:lnTo>
                <a:lnTo>
                  <a:pt x="547" y="56"/>
                </a:lnTo>
                <a:lnTo>
                  <a:pt x="541" y="29"/>
                </a:lnTo>
                <a:lnTo>
                  <a:pt x="535" y="0"/>
                </a:lnTo>
                <a:lnTo>
                  <a:pt x="554" y="6"/>
                </a:lnTo>
                <a:lnTo>
                  <a:pt x="574" y="10"/>
                </a:lnTo>
                <a:lnTo>
                  <a:pt x="589" y="16"/>
                </a:lnTo>
                <a:lnTo>
                  <a:pt x="606" y="21"/>
                </a:lnTo>
                <a:lnTo>
                  <a:pt x="620" y="25"/>
                </a:lnTo>
                <a:lnTo>
                  <a:pt x="635" y="31"/>
                </a:lnTo>
                <a:lnTo>
                  <a:pt x="647" y="35"/>
                </a:lnTo>
                <a:lnTo>
                  <a:pt x="658" y="41"/>
                </a:lnTo>
                <a:lnTo>
                  <a:pt x="670" y="46"/>
                </a:lnTo>
                <a:lnTo>
                  <a:pt x="679" y="50"/>
                </a:lnTo>
                <a:lnTo>
                  <a:pt x="689" y="56"/>
                </a:lnTo>
                <a:lnTo>
                  <a:pt x="696" y="60"/>
                </a:lnTo>
                <a:lnTo>
                  <a:pt x="704" y="66"/>
                </a:lnTo>
                <a:lnTo>
                  <a:pt x="710" y="69"/>
                </a:lnTo>
                <a:lnTo>
                  <a:pt x="716" y="75"/>
                </a:lnTo>
                <a:lnTo>
                  <a:pt x="721" y="81"/>
                </a:lnTo>
                <a:lnTo>
                  <a:pt x="729" y="91"/>
                </a:lnTo>
                <a:lnTo>
                  <a:pt x="737" y="102"/>
                </a:lnTo>
                <a:lnTo>
                  <a:pt x="743" y="116"/>
                </a:lnTo>
                <a:lnTo>
                  <a:pt x="746" y="131"/>
                </a:lnTo>
                <a:lnTo>
                  <a:pt x="746" y="140"/>
                </a:lnTo>
                <a:lnTo>
                  <a:pt x="748" y="148"/>
                </a:lnTo>
                <a:lnTo>
                  <a:pt x="748" y="158"/>
                </a:lnTo>
                <a:lnTo>
                  <a:pt x="748" y="167"/>
                </a:lnTo>
                <a:lnTo>
                  <a:pt x="748" y="177"/>
                </a:lnTo>
                <a:lnTo>
                  <a:pt x="748" y="188"/>
                </a:lnTo>
                <a:lnTo>
                  <a:pt x="746" y="200"/>
                </a:lnTo>
                <a:lnTo>
                  <a:pt x="744" y="211"/>
                </a:lnTo>
                <a:lnTo>
                  <a:pt x="743" y="225"/>
                </a:lnTo>
                <a:lnTo>
                  <a:pt x="741" y="238"/>
                </a:lnTo>
                <a:lnTo>
                  <a:pt x="739" y="256"/>
                </a:lnTo>
                <a:lnTo>
                  <a:pt x="735" y="271"/>
                </a:lnTo>
                <a:lnTo>
                  <a:pt x="733" y="288"/>
                </a:lnTo>
                <a:lnTo>
                  <a:pt x="731" y="307"/>
                </a:lnTo>
                <a:lnTo>
                  <a:pt x="727" y="329"/>
                </a:lnTo>
                <a:lnTo>
                  <a:pt x="725" y="350"/>
                </a:lnTo>
                <a:lnTo>
                  <a:pt x="723" y="371"/>
                </a:lnTo>
                <a:lnTo>
                  <a:pt x="719" y="394"/>
                </a:lnTo>
                <a:lnTo>
                  <a:pt x="716" y="419"/>
                </a:lnTo>
                <a:lnTo>
                  <a:pt x="714" y="444"/>
                </a:lnTo>
                <a:lnTo>
                  <a:pt x="710" y="471"/>
                </a:lnTo>
                <a:lnTo>
                  <a:pt x="706" y="497"/>
                </a:lnTo>
                <a:lnTo>
                  <a:pt x="702" y="526"/>
                </a:lnTo>
                <a:lnTo>
                  <a:pt x="698" y="555"/>
                </a:lnTo>
                <a:lnTo>
                  <a:pt x="693" y="588"/>
                </a:lnTo>
                <a:lnTo>
                  <a:pt x="687" y="618"/>
                </a:lnTo>
                <a:lnTo>
                  <a:pt x="681" y="651"/>
                </a:lnTo>
                <a:lnTo>
                  <a:pt x="673" y="682"/>
                </a:lnTo>
                <a:lnTo>
                  <a:pt x="666" y="712"/>
                </a:lnTo>
                <a:lnTo>
                  <a:pt x="658" y="743"/>
                </a:lnTo>
                <a:lnTo>
                  <a:pt x="648" y="774"/>
                </a:lnTo>
                <a:lnTo>
                  <a:pt x="639" y="807"/>
                </a:lnTo>
                <a:lnTo>
                  <a:pt x="627" y="837"/>
                </a:lnTo>
                <a:lnTo>
                  <a:pt x="616" y="868"/>
                </a:lnTo>
                <a:lnTo>
                  <a:pt x="604" y="899"/>
                </a:lnTo>
                <a:lnTo>
                  <a:pt x="591" y="929"/>
                </a:lnTo>
                <a:lnTo>
                  <a:pt x="577" y="962"/>
                </a:lnTo>
                <a:lnTo>
                  <a:pt x="564" y="993"/>
                </a:lnTo>
                <a:lnTo>
                  <a:pt x="551" y="1025"/>
                </a:lnTo>
                <a:lnTo>
                  <a:pt x="535" y="10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2"/>
          <p:cNvSpPr/>
          <p:nvPr/>
        </p:nvSpPr>
        <p:spPr>
          <a:xfrm>
            <a:off x="6789600" y="3975120"/>
            <a:ext cx="932040" cy="806400"/>
          </a:xfrm>
          <a:custGeom>
            <a:avLst/>
            <a:gdLst/>
            <a:ahLst/>
            <a:rect l="l" t="t" r="r" b="b"/>
            <a:pathLst>
              <a:path w="1173" h="1015">
                <a:moveTo>
                  <a:pt x="941" y="1015"/>
                </a:moveTo>
                <a:lnTo>
                  <a:pt x="912" y="1015"/>
                </a:lnTo>
                <a:lnTo>
                  <a:pt x="885" y="1013"/>
                </a:lnTo>
                <a:lnTo>
                  <a:pt x="860" y="1013"/>
                </a:lnTo>
                <a:lnTo>
                  <a:pt x="837" y="1011"/>
                </a:lnTo>
                <a:lnTo>
                  <a:pt x="814" y="1011"/>
                </a:lnTo>
                <a:lnTo>
                  <a:pt x="791" y="1009"/>
                </a:lnTo>
                <a:lnTo>
                  <a:pt x="772" y="1008"/>
                </a:lnTo>
                <a:lnTo>
                  <a:pt x="753" y="1006"/>
                </a:lnTo>
                <a:lnTo>
                  <a:pt x="733" y="1002"/>
                </a:lnTo>
                <a:lnTo>
                  <a:pt x="718" y="1000"/>
                </a:lnTo>
                <a:lnTo>
                  <a:pt x="703" y="996"/>
                </a:lnTo>
                <a:lnTo>
                  <a:pt x="689" y="992"/>
                </a:lnTo>
                <a:lnTo>
                  <a:pt x="678" y="988"/>
                </a:lnTo>
                <a:lnTo>
                  <a:pt x="666" y="984"/>
                </a:lnTo>
                <a:lnTo>
                  <a:pt x="659" y="981"/>
                </a:lnTo>
                <a:lnTo>
                  <a:pt x="651" y="975"/>
                </a:lnTo>
                <a:lnTo>
                  <a:pt x="643" y="971"/>
                </a:lnTo>
                <a:lnTo>
                  <a:pt x="638" y="967"/>
                </a:lnTo>
                <a:lnTo>
                  <a:pt x="630" y="963"/>
                </a:lnTo>
                <a:lnTo>
                  <a:pt x="622" y="958"/>
                </a:lnTo>
                <a:lnTo>
                  <a:pt x="614" y="952"/>
                </a:lnTo>
                <a:lnTo>
                  <a:pt x="607" y="944"/>
                </a:lnTo>
                <a:lnTo>
                  <a:pt x="599" y="935"/>
                </a:lnTo>
                <a:lnTo>
                  <a:pt x="591" y="925"/>
                </a:lnTo>
                <a:lnTo>
                  <a:pt x="582" y="915"/>
                </a:lnTo>
                <a:lnTo>
                  <a:pt x="574" y="904"/>
                </a:lnTo>
                <a:lnTo>
                  <a:pt x="566" y="892"/>
                </a:lnTo>
                <a:lnTo>
                  <a:pt x="557" y="879"/>
                </a:lnTo>
                <a:lnTo>
                  <a:pt x="549" y="865"/>
                </a:lnTo>
                <a:lnTo>
                  <a:pt x="540" y="850"/>
                </a:lnTo>
                <a:lnTo>
                  <a:pt x="532" y="835"/>
                </a:lnTo>
                <a:lnTo>
                  <a:pt x="522" y="818"/>
                </a:lnTo>
                <a:lnTo>
                  <a:pt x="517" y="808"/>
                </a:lnTo>
                <a:lnTo>
                  <a:pt x="511" y="798"/>
                </a:lnTo>
                <a:lnTo>
                  <a:pt x="503" y="787"/>
                </a:lnTo>
                <a:lnTo>
                  <a:pt x="495" y="775"/>
                </a:lnTo>
                <a:lnTo>
                  <a:pt x="488" y="762"/>
                </a:lnTo>
                <a:lnTo>
                  <a:pt x="478" y="748"/>
                </a:lnTo>
                <a:lnTo>
                  <a:pt x="469" y="733"/>
                </a:lnTo>
                <a:lnTo>
                  <a:pt x="457" y="718"/>
                </a:lnTo>
                <a:lnTo>
                  <a:pt x="446" y="700"/>
                </a:lnTo>
                <a:lnTo>
                  <a:pt x="434" y="683"/>
                </a:lnTo>
                <a:lnTo>
                  <a:pt x="421" y="664"/>
                </a:lnTo>
                <a:lnTo>
                  <a:pt x="407" y="645"/>
                </a:lnTo>
                <a:lnTo>
                  <a:pt x="394" y="626"/>
                </a:lnTo>
                <a:lnTo>
                  <a:pt x="378" y="603"/>
                </a:lnTo>
                <a:lnTo>
                  <a:pt x="363" y="581"/>
                </a:lnTo>
                <a:lnTo>
                  <a:pt x="348" y="556"/>
                </a:lnTo>
                <a:lnTo>
                  <a:pt x="330" y="533"/>
                </a:lnTo>
                <a:lnTo>
                  <a:pt x="313" y="507"/>
                </a:lnTo>
                <a:lnTo>
                  <a:pt x="296" y="480"/>
                </a:lnTo>
                <a:lnTo>
                  <a:pt x="277" y="453"/>
                </a:lnTo>
                <a:lnTo>
                  <a:pt x="257" y="424"/>
                </a:lnTo>
                <a:lnTo>
                  <a:pt x="236" y="395"/>
                </a:lnTo>
                <a:lnTo>
                  <a:pt x="217" y="363"/>
                </a:lnTo>
                <a:lnTo>
                  <a:pt x="194" y="332"/>
                </a:lnTo>
                <a:lnTo>
                  <a:pt x="173" y="299"/>
                </a:lnTo>
                <a:lnTo>
                  <a:pt x="150" y="265"/>
                </a:lnTo>
                <a:lnTo>
                  <a:pt x="127" y="230"/>
                </a:lnTo>
                <a:lnTo>
                  <a:pt x="104" y="194"/>
                </a:lnTo>
                <a:lnTo>
                  <a:pt x="79" y="157"/>
                </a:lnTo>
                <a:lnTo>
                  <a:pt x="54" y="119"/>
                </a:lnTo>
                <a:lnTo>
                  <a:pt x="27" y="79"/>
                </a:lnTo>
                <a:lnTo>
                  <a:pt x="0" y="38"/>
                </a:lnTo>
                <a:lnTo>
                  <a:pt x="29" y="19"/>
                </a:lnTo>
                <a:lnTo>
                  <a:pt x="60" y="0"/>
                </a:lnTo>
                <a:lnTo>
                  <a:pt x="89" y="36"/>
                </a:lnTo>
                <a:lnTo>
                  <a:pt x="117" y="71"/>
                </a:lnTo>
                <a:lnTo>
                  <a:pt x="148" y="107"/>
                </a:lnTo>
                <a:lnTo>
                  <a:pt x="175" y="140"/>
                </a:lnTo>
                <a:lnTo>
                  <a:pt x="204" y="173"/>
                </a:lnTo>
                <a:lnTo>
                  <a:pt x="233" y="205"/>
                </a:lnTo>
                <a:lnTo>
                  <a:pt x="259" y="236"/>
                </a:lnTo>
                <a:lnTo>
                  <a:pt x="286" y="267"/>
                </a:lnTo>
                <a:lnTo>
                  <a:pt x="313" y="295"/>
                </a:lnTo>
                <a:lnTo>
                  <a:pt x="338" y="324"/>
                </a:lnTo>
                <a:lnTo>
                  <a:pt x="365" y="351"/>
                </a:lnTo>
                <a:lnTo>
                  <a:pt x="390" y="378"/>
                </a:lnTo>
                <a:lnTo>
                  <a:pt x="415" y="403"/>
                </a:lnTo>
                <a:lnTo>
                  <a:pt x="440" y="428"/>
                </a:lnTo>
                <a:lnTo>
                  <a:pt x="465" y="451"/>
                </a:lnTo>
                <a:lnTo>
                  <a:pt x="488" y="474"/>
                </a:lnTo>
                <a:lnTo>
                  <a:pt x="509" y="497"/>
                </a:lnTo>
                <a:lnTo>
                  <a:pt x="532" y="518"/>
                </a:lnTo>
                <a:lnTo>
                  <a:pt x="555" y="539"/>
                </a:lnTo>
                <a:lnTo>
                  <a:pt x="580" y="558"/>
                </a:lnTo>
                <a:lnTo>
                  <a:pt x="603" y="579"/>
                </a:lnTo>
                <a:lnTo>
                  <a:pt x="628" y="599"/>
                </a:lnTo>
                <a:lnTo>
                  <a:pt x="655" y="616"/>
                </a:lnTo>
                <a:lnTo>
                  <a:pt x="682" y="635"/>
                </a:lnTo>
                <a:lnTo>
                  <a:pt x="709" y="654"/>
                </a:lnTo>
                <a:lnTo>
                  <a:pt x="735" y="672"/>
                </a:lnTo>
                <a:lnTo>
                  <a:pt x="764" y="689"/>
                </a:lnTo>
                <a:lnTo>
                  <a:pt x="793" y="708"/>
                </a:lnTo>
                <a:lnTo>
                  <a:pt x="824" y="725"/>
                </a:lnTo>
                <a:lnTo>
                  <a:pt x="854" y="743"/>
                </a:lnTo>
                <a:lnTo>
                  <a:pt x="885" y="760"/>
                </a:lnTo>
                <a:lnTo>
                  <a:pt x="918" y="777"/>
                </a:lnTo>
                <a:lnTo>
                  <a:pt x="933" y="787"/>
                </a:lnTo>
                <a:lnTo>
                  <a:pt x="948" y="794"/>
                </a:lnTo>
                <a:lnTo>
                  <a:pt x="964" y="802"/>
                </a:lnTo>
                <a:lnTo>
                  <a:pt x="977" y="812"/>
                </a:lnTo>
                <a:lnTo>
                  <a:pt x="993" y="819"/>
                </a:lnTo>
                <a:lnTo>
                  <a:pt x="1006" y="827"/>
                </a:lnTo>
                <a:lnTo>
                  <a:pt x="1018" y="835"/>
                </a:lnTo>
                <a:lnTo>
                  <a:pt x="1031" y="842"/>
                </a:lnTo>
                <a:lnTo>
                  <a:pt x="1043" y="850"/>
                </a:lnTo>
                <a:lnTo>
                  <a:pt x="1054" y="856"/>
                </a:lnTo>
                <a:lnTo>
                  <a:pt x="1064" y="864"/>
                </a:lnTo>
                <a:lnTo>
                  <a:pt x="1075" y="869"/>
                </a:lnTo>
                <a:lnTo>
                  <a:pt x="1085" y="877"/>
                </a:lnTo>
                <a:lnTo>
                  <a:pt x="1092" y="883"/>
                </a:lnTo>
                <a:lnTo>
                  <a:pt x="1102" y="889"/>
                </a:lnTo>
                <a:lnTo>
                  <a:pt x="1110" y="894"/>
                </a:lnTo>
                <a:lnTo>
                  <a:pt x="1117" y="900"/>
                </a:lnTo>
                <a:lnTo>
                  <a:pt x="1125" y="906"/>
                </a:lnTo>
                <a:lnTo>
                  <a:pt x="1131" y="912"/>
                </a:lnTo>
                <a:lnTo>
                  <a:pt x="1137" y="917"/>
                </a:lnTo>
                <a:lnTo>
                  <a:pt x="1142" y="921"/>
                </a:lnTo>
                <a:lnTo>
                  <a:pt x="1148" y="927"/>
                </a:lnTo>
                <a:lnTo>
                  <a:pt x="1154" y="931"/>
                </a:lnTo>
                <a:lnTo>
                  <a:pt x="1158" y="935"/>
                </a:lnTo>
                <a:lnTo>
                  <a:pt x="1162" y="938"/>
                </a:lnTo>
                <a:lnTo>
                  <a:pt x="1163" y="942"/>
                </a:lnTo>
                <a:lnTo>
                  <a:pt x="1167" y="946"/>
                </a:lnTo>
                <a:lnTo>
                  <a:pt x="1169" y="950"/>
                </a:lnTo>
                <a:lnTo>
                  <a:pt x="1171" y="954"/>
                </a:lnTo>
                <a:lnTo>
                  <a:pt x="1171" y="956"/>
                </a:lnTo>
                <a:lnTo>
                  <a:pt x="1173" y="960"/>
                </a:lnTo>
                <a:lnTo>
                  <a:pt x="1173" y="961"/>
                </a:lnTo>
                <a:lnTo>
                  <a:pt x="1171" y="969"/>
                </a:lnTo>
                <a:lnTo>
                  <a:pt x="1169" y="975"/>
                </a:lnTo>
                <a:lnTo>
                  <a:pt x="1163" y="981"/>
                </a:lnTo>
                <a:lnTo>
                  <a:pt x="1158" y="986"/>
                </a:lnTo>
                <a:lnTo>
                  <a:pt x="1150" y="992"/>
                </a:lnTo>
                <a:lnTo>
                  <a:pt x="1138" y="996"/>
                </a:lnTo>
                <a:lnTo>
                  <a:pt x="1127" y="1000"/>
                </a:lnTo>
                <a:lnTo>
                  <a:pt x="1114" y="1004"/>
                </a:lnTo>
                <a:lnTo>
                  <a:pt x="1098" y="1006"/>
                </a:lnTo>
                <a:lnTo>
                  <a:pt x="1081" y="1008"/>
                </a:lnTo>
                <a:lnTo>
                  <a:pt x="1062" y="1011"/>
                </a:lnTo>
                <a:lnTo>
                  <a:pt x="1041" y="1011"/>
                </a:lnTo>
                <a:lnTo>
                  <a:pt x="1018" y="1013"/>
                </a:lnTo>
                <a:lnTo>
                  <a:pt x="995" y="1013"/>
                </a:lnTo>
                <a:lnTo>
                  <a:pt x="968" y="1015"/>
                </a:lnTo>
                <a:lnTo>
                  <a:pt x="941" y="10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33"/>
          <p:cNvSpPr/>
          <p:nvPr/>
        </p:nvSpPr>
        <p:spPr>
          <a:xfrm>
            <a:off x="6469200" y="3325680"/>
            <a:ext cx="882360" cy="249480"/>
          </a:xfrm>
          <a:custGeom>
            <a:avLst/>
            <a:gdLst/>
            <a:ahLst/>
            <a:rect l="l" t="t" r="r" b="b"/>
            <a:pathLst>
              <a:path w="1114" h="315">
                <a:moveTo>
                  <a:pt x="661" y="223"/>
                </a:moveTo>
                <a:lnTo>
                  <a:pt x="634" y="229"/>
                </a:lnTo>
                <a:lnTo>
                  <a:pt x="609" y="236"/>
                </a:lnTo>
                <a:lnTo>
                  <a:pt x="582" y="242"/>
                </a:lnTo>
                <a:lnTo>
                  <a:pt x="557" y="246"/>
                </a:lnTo>
                <a:lnTo>
                  <a:pt x="534" y="252"/>
                </a:lnTo>
                <a:lnTo>
                  <a:pt x="511" y="257"/>
                </a:lnTo>
                <a:lnTo>
                  <a:pt x="488" y="261"/>
                </a:lnTo>
                <a:lnTo>
                  <a:pt x="467" y="267"/>
                </a:lnTo>
                <a:lnTo>
                  <a:pt x="444" y="271"/>
                </a:lnTo>
                <a:lnTo>
                  <a:pt x="424" y="275"/>
                </a:lnTo>
                <a:lnTo>
                  <a:pt x="403" y="278"/>
                </a:lnTo>
                <a:lnTo>
                  <a:pt x="384" y="282"/>
                </a:lnTo>
                <a:lnTo>
                  <a:pt x="367" y="286"/>
                </a:lnTo>
                <a:lnTo>
                  <a:pt x="350" y="288"/>
                </a:lnTo>
                <a:lnTo>
                  <a:pt x="332" y="292"/>
                </a:lnTo>
                <a:lnTo>
                  <a:pt x="315" y="294"/>
                </a:lnTo>
                <a:lnTo>
                  <a:pt x="300" y="298"/>
                </a:lnTo>
                <a:lnTo>
                  <a:pt x="286" y="300"/>
                </a:lnTo>
                <a:lnTo>
                  <a:pt x="273" y="301"/>
                </a:lnTo>
                <a:lnTo>
                  <a:pt x="259" y="303"/>
                </a:lnTo>
                <a:lnTo>
                  <a:pt x="246" y="305"/>
                </a:lnTo>
                <a:lnTo>
                  <a:pt x="234" y="307"/>
                </a:lnTo>
                <a:lnTo>
                  <a:pt x="225" y="309"/>
                </a:lnTo>
                <a:lnTo>
                  <a:pt x="213" y="311"/>
                </a:lnTo>
                <a:lnTo>
                  <a:pt x="206" y="311"/>
                </a:lnTo>
                <a:lnTo>
                  <a:pt x="196" y="313"/>
                </a:lnTo>
                <a:lnTo>
                  <a:pt x="188" y="313"/>
                </a:lnTo>
                <a:lnTo>
                  <a:pt x="181" y="315"/>
                </a:lnTo>
                <a:lnTo>
                  <a:pt x="175" y="315"/>
                </a:lnTo>
                <a:lnTo>
                  <a:pt x="171" y="315"/>
                </a:lnTo>
                <a:lnTo>
                  <a:pt x="165" y="315"/>
                </a:lnTo>
                <a:lnTo>
                  <a:pt x="161" y="315"/>
                </a:lnTo>
                <a:lnTo>
                  <a:pt x="144" y="315"/>
                </a:lnTo>
                <a:lnTo>
                  <a:pt x="129" y="313"/>
                </a:lnTo>
                <a:lnTo>
                  <a:pt x="113" y="311"/>
                </a:lnTo>
                <a:lnTo>
                  <a:pt x="100" y="307"/>
                </a:lnTo>
                <a:lnTo>
                  <a:pt x="87" y="303"/>
                </a:lnTo>
                <a:lnTo>
                  <a:pt x="73" y="300"/>
                </a:lnTo>
                <a:lnTo>
                  <a:pt x="46" y="290"/>
                </a:lnTo>
                <a:lnTo>
                  <a:pt x="41" y="286"/>
                </a:lnTo>
                <a:lnTo>
                  <a:pt x="35" y="284"/>
                </a:lnTo>
                <a:lnTo>
                  <a:pt x="29" y="282"/>
                </a:lnTo>
                <a:lnTo>
                  <a:pt x="23" y="280"/>
                </a:lnTo>
                <a:lnTo>
                  <a:pt x="16" y="278"/>
                </a:lnTo>
                <a:lnTo>
                  <a:pt x="10" y="277"/>
                </a:lnTo>
                <a:lnTo>
                  <a:pt x="6" y="273"/>
                </a:lnTo>
                <a:lnTo>
                  <a:pt x="2" y="271"/>
                </a:lnTo>
                <a:lnTo>
                  <a:pt x="0" y="267"/>
                </a:lnTo>
                <a:lnTo>
                  <a:pt x="0" y="263"/>
                </a:lnTo>
                <a:lnTo>
                  <a:pt x="0" y="261"/>
                </a:lnTo>
                <a:lnTo>
                  <a:pt x="2" y="257"/>
                </a:lnTo>
                <a:lnTo>
                  <a:pt x="4" y="255"/>
                </a:lnTo>
                <a:lnTo>
                  <a:pt x="6" y="253"/>
                </a:lnTo>
                <a:lnTo>
                  <a:pt x="10" y="250"/>
                </a:lnTo>
                <a:lnTo>
                  <a:pt x="14" y="248"/>
                </a:lnTo>
                <a:lnTo>
                  <a:pt x="19" y="246"/>
                </a:lnTo>
                <a:lnTo>
                  <a:pt x="25" y="244"/>
                </a:lnTo>
                <a:lnTo>
                  <a:pt x="31" y="240"/>
                </a:lnTo>
                <a:lnTo>
                  <a:pt x="37" y="238"/>
                </a:lnTo>
                <a:lnTo>
                  <a:pt x="44" y="236"/>
                </a:lnTo>
                <a:lnTo>
                  <a:pt x="54" y="232"/>
                </a:lnTo>
                <a:lnTo>
                  <a:pt x="62" y="230"/>
                </a:lnTo>
                <a:lnTo>
                  <a:pt x="71" y="229"/>
                </a:lnTo>
                <a:lnTo>
                  <a:pt x="81" y="227"/>
                </a:lnTo>
                <a:lnTo>
                  <a:pt x="92" y="223"/>
                </a:lnTo>
                <a:lnTo>
                  <a:pt x="104" y="221"/>
                </a:lnTo>
                <a:lnTo>
                  <a:pt x="117" y="217"/>
                </a:lnTo>
                <a:lnTo>
                  <a:pt x="135" y="213"/>
                </a:lnTo>
                <a:lnTo>
                  <a:pt x="152" y="209"/>
                </a:lnTo>
                <a:lnTo>
                  <a:pt x="171" y="204"/>
                </a:lnTo>
                <a:lnTo>
                  <a:pt x="192" y="198"/>
                </a:lnTo>
                <a:lnTo>
                  <a:pt x="215" y="190"/>
                </a:lnTo>
                <a:lnTo>
                  <a:pt x="240" y="184"/>
                </a:lnTo>
                <a:lnTo>
                  <a:pt x="267" y="177"/>
                </a:lnTo>
                <a:lnTo>
                  <a:pt x="296" y="167"/>
                </a:lnTo>
                <a:lnTo>
                  <a:pt x="327" y="159"/>
                </a:lnTo>
                <a:lnTo>
                  <a:pt x="359" y="150"/>
                </a:lnTo>
                <a:lnTo>
                  <a:pt x="396" y="138"/>
                </a:lnTo>
                <a:lnTo>
                  <a:pt x="432" y="129"/>
                </a:lnTo>
                <a:lnTo>
                  <a:pt x="471" y="117"/>
                </a:lnTo>
                <a:lnTo>
                  <a:pt x="511" y="104"/>
                </a:lnTo>
                <a:lnTo>
                  <a:pt x="530" y="98"/>
                </a:lnTo>
                <a:lnTo>
                  <a:pt x="549" y="92"/>
                </a:lnTo>
                <a:lnTo>
                  <a:pt x="570" y="86"/>
                </a:lnTo>
                <a:lnTo>
                  <a:pt x="588" y="81"/>
                </a:lnTo>
                <a:lnTo>
                  <a:pt x="607" y="75"/>
                </a:lnTo>
                <a:lnTo>
                  <a:pt x="624" y="69"/>
                </a:lnTo>
                <a:lnTo>
                  <a:pt x="641" y="65"/>
                </a:lnTo>
                <a:lnTo>
                  <a:pt x="659" y="60"/>
                </a:lnTo>
                <a:lnTo>
                  <a:pt x="674" y="54"/>
                </a:lnTo>
                <a:lnTo>
                  <a:pt x="689" y="50"/>
                </a:lnTo>
                <a:lnTo>
                  <a:pt x="705" y="46"/>
                </a:lnTo>
                <a:lnTo>
                  <a:pt x="720" y="42"/>
                </a:lnTo>
                <a:lnTo>
                  <a:pt x="733" y="37"/>
                </a:lnTo>
                <a:lnTo>
                  <a:pt x="749" y="33"/>
                </a:lnTo>
                <a:lnTo>
                  <a:pt x="760" y="31"/>
                </a:lnTo>
                <a:lnTo>
                  <a:pt x="774" y="27"/>
                </a:lnTo>
                <a:lnTo>
                  <a:pt x="799" y="19"/>
                </a:lnTo>
                <a:lnTo>
                  <a:pt x="820" y="15"/>
                </a:lnTo>
                <a:lnTo>
                  <a:pt x="841" y="10"/>
                </a:lnTo>
                <a:lnTo>
                  <a:pt x="860" y="6"/>
                </a:lnTo>
                <a:lnTo>
                  <a:pt x="876" y="4"/>
                </a:lnTo>
                <a:lnTo>
                  <a:pt x="891" y="0"/>
                </a:lnTo>
                <a:lnTo>
                  <a:pt x="904" y="0"/>
                </a:lnTo>
                <a:lnTo>
                  <a:pt x="916" y="0"/>
                </a:lnTo>
                <a:lnTo>
                  <a:pt x="933" y="0"/>
                </a:lnTo>
                <a:lnTo>
                  <a:pt x="950" y="2"/>
                </a:lnTo>
                <a:lnTo>
                  <a:pt x="968" y="4"/>
                </a:lnTo>
                <a:lnTo>
                  <a:pt x="987" y="8"/>
                </a:lnTo>
                <a:lnTo>
                  <a:pt x="1004" y="12"/>
                </a:lnTo>
                <a:lnTo>
                  <a:pt x="1021" y="15"/>
                </a:lnTo>
                <a:lnTo>
                  <a:pt x="1056" y="25"/>
                </a:lnTo>
                <a:lnTo>
                  <a:pt x="1067" y="35"/>
                </a:lnTo>
                <a:lnTo>
                  <a:pt x="1079" y="44"/>
                </a:lnTo>
                <a:lnTo>
                  <a:pt x="1089" y="54"/>
                </a:lnTo>
                <a:lnTo>
                  <a:pt x="1098" y="63"/>
                </a:lnTo>
                <a:lnTo>
                  <a:pt x="1104" y="71"/>
                </a:lnTo>
                <a:lnTo>
                  <a:pt x="1110" y="79"/>
                </a:lnTo>
                <a:lnTo>
                  <a:pt x="1112" y="83"/>
                </a:lnTo>
                <a:lnTo>
                  <a:pt x="1112" y="86"/>
                </a:lnTo>
                <a:lnTo>
                  <a:pt x="1114" y="88"/>
                </a:lnTo>
                <a:lnTo>
                  <a:pt x="1114" y="92"/>
                </a:lnTo>
                <a:lnTo>
                  <a:pt x="1112" y="94"/>
                </a:lnTo>
                <a:lnTo>
                  <a:pt x="1110" y="96"/>
                </a:lnTo>
                <a:lnTo>
                  <a:pt x="1106" y="98"/>
                </a:lnTo>
                <a:lnTo>
                  <a:pt x="1102" y="100"/>
                </a:lnTo>
                <a:lnTo>
                  <a:pt x="1098" y="102"/>
                </a:lnTo>
                <a:lnTo>
                  <a:pt x="1092" y="106"/>
                </a:lnTo>
                <a:lnTo>
                  <a:pt x="1085" y="108"/>
                </a:lnTo>
                <a:lnTo>
                  <a:pt x="1077" y="111"/>
                </a:lnTo>
                <a:lnTo>
                  <a:pt x="1069" y="113"/>
                </a:lnTo>
                <a:lnTo>
                  <a:pt x="1060" y="117"/>
                </a:lnTo>
                <a:lnTo>
                  <a:pt x="1050" y="121"/>
                </a:lnTo>
                <a:lnTo>
                  <a:pt x="1039" y="125"/>
                </a:lnTo>
                <a:lnTo>
                  <a:pt x="1027" y="129"/>
                </a:lnTo>
                <a:lnTo>
                  <a:pt x="1014" y="133"/>
                </a:lnTo>
                <a:lnTo>
                  <a:pt x="1000" y="136"/>
                </a:lnTo>
                <a:lnTo>
                  <a:pt x="985" y="142"/>
                </a:lnTo>
                <a:lnTo>
                  <a:pt x="970" y="146"/>
                </a:lnTo>
                <a:lnTo>
                  <a:pt x="954" y="150"/>
                </a:lnTo>
                <a:lnTo>
                  <a:pt x="937" y="156"/>
                </a:lnTo>
                <a:lnTo>
                  <a:pt x="918" y="161"/>
                </a:lnTo>
                <a:lnTo>
                  <a:pt x="900" y="165"/>
                </a:lnTo>
                <a:lnTo>
                  <a:pt x="879" y="171"/>
                </a:lnTo>
                <a:lnTo>
                  <a:pt x="858" y="177"/>
                </a:lnTo>
                <a:lnTo>
                  <a:pt x="837" y="182"/>
                </a:lnTo>
                <a:lnTo>
                  <a:pt x="814" y="188"/>
                </a:lnTo>
                <a:lnTo>
                  <a:pt x="791" y="192"/>
                </a:lnTo>
                <a:lnTo>
                  <a:pt x="766" y="200"/>
                </a:lnTo>
                <a:lnTo>
                  <a:pt x="741" y="205"/>
                </a:lnTo>
                <a:lnTo>
                  <a:pt x="716" y="211"/>
                </a:lnTo>
                <a:lnTo>
                  <a:pt x="689" y="217"/>
                </a:lnTo>
                <a:lnTo>
                  <a:pt x="661" y="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34"/>
          <p:cNvSpPr/>
          <p:nvPr/>
        </p:nvSpPr>
        <p:spPr>
          <a:xfrm>
            <a:off x="6956280" y="2738520"/>
            <a:ext cx="368280" cy="577800"/>
          </a:xfrm>
          <a:custGeom>
            <a:avLst/>
            <a:gdLst/>
            <a:ahLst/>
            <a:rect l="l" t="t" r="r" b="b"/>
            <a:pathLst>
              <a:path w="465" h="730">
                <a:moveTo>
                  <a:pt x="350" y="384"/>
                </a:moveTo>
                <a:lnTo>
                  <a:pt x="323" y="419"/>
                </a:lnTo>
                <a:lnTo>
                  <a:pt x="296" y="453"/>
                </a:lnTo>
                <a:lnTo>
                  <a:pt x="271" y="486"/>
                </a:lnTo>
                <a:lnTo>
                  <a:pt x="244" y="518"/>
                </a:lnTo>
                <a:lnTo>
                  <a:pt x="217" y="551"/>
                </a:lnTo>
                <a:lnTo>
                  <a:pt x="192" y="580"/>
                </a:lnTo>
                <a:lnTo>
                  <a:pt x="179" y="595"/>
                </a:lnTo>
                <a:lnTo>
                  <a:pt x="166" y="609"/>
                </a:lnTo>
                <a:lnTo>
                  <a:pt x="152" y="622"/>
                </a:lnTo>
                <a:lnTo>
                  <a:pt x="141" y="636"/>
                </a:lnTo>
                <a:lnTo>
                  <a:pt x="127" y="647"/>
                </a:lnTo>
                <a:lnTo>
                  <a:pt x="116" y="659"/>
                </a:lnTo>
                <a:lnTo>
                  <a:pt x="104" y="668"/>
                </a:lnTo>
                <a:lnTo>
                  <a:pt x="93" y="680"/>
                </a:lnTo>
                <a:lnTo>
                  <a:pt x="81" y="687"/>
                </a:lnTo>
                <a:lnTo>
                  <a:pt x="71" y="697"/>
                </a:lnTo>
                <a:lnTo>
                  <a:pt x="64" y="705"/>
                </a:lnTo>
                <a:lnTo>
                  <a:pt x="54" y="710"/>
                </a:lnTo>
                <a:lnTo>
                  <a:pt x="47" y="716"/>
                </a:lnTo>
                <a:lnTo>
                  <a:pt x="39" y="722"/>
                </a:lnTo>
                <a:lnTo>
                  <a:pt x="33" y="724"/>
                </a:lnTo>
                <a:lnTo>
                  <a:pt x="27" y="728"/>
                </a:lnTo>
                <a:lnTo>
                  <a:pt x="22" y="730"/>
                </a:lnTo>
                <a:lnTo>
                  <a:pt x="18" y="730"/>
                </a:lnTo>
                <a:lnTo>
                  <a:pt x="14" y="730"/>
                </a:lnTo>
                <a:lnTo>
                  <a:pt x="12" y="728"/>
                </a:lnTo>
                <a:lnTo>
                  <a:pt x="8" y="724"/>
                </a:lnTo>
                <a:lnTo>
                  <a:pt x="4" y="720"/>
                </a:lnTo>
                <a:lnTo>
                  <a:pt x="2" y="716"/>
                </a:lnTo>
                <a:lnTo>
                  <a:pt x="2" y="712"/>
                </a:lnTo>
                <a:lnTo>
                  <a:pt x="0" y="707"/>
                </a:lnTo>
                <a:lnTo>
                  <a:pt x="2" y="699"/>
                </a:lnTo>
                <a:lnTo>
                  <a:pt x="2" y="691"/>
                </a:lnTo>
                <a:lnTo>
                  <a:pt x="4" y="684"/>
                </a:lnTo>
                <a:lnTo>
                  <a:pt x="8" y="676"/>
                </a:lnTo>
                <a:lnTo>
                  <a:pt x="12" y="664"/>
                </a:lnTo>
                <a:lnTo>
                  <a:pt x="18" y="655"/>
                </a:lnTo>
                <a:lnTo>
                  <a:pt x="24" y="641"/>
                </a:lnTo>
                <a:lnTo>
                  <a:pt x="31" y="628"/>
                </a:lnTo>
                <a:lnTo>
                  <a:pt x="39" y="614"/>
                </a:lnTo>
                <a:lnTo>
                  <a:pt x="48" y="599"/>
                </a:lnTo>
                <a:lnTo>
                  <a:pt x="58" y="582"/>
                </a:lnTo>
                <a:lnTo>
                  <a:pt x="79" y="551"/>
                </a:lnTo>
                <a:lnTo>
                  <a:pt x="100" y="518"/>
                </a:lnTo>
                <a:lnTo>
                  <a:pt x="119" y="486"/>
                </a:lnTo>
                <a:lnTo>
                  <a:pt x="137" y="451"/>
                </a:lnTo>
                <a:lnTo>
                  <a:pt x="146" y="434"/>
                </a:lnTo>
                <a:lnTo>
                  <a:pt x="154" y="415"/>
                </a:lnTo>
                <a:lnTo>
                  <a:pt x="162" y="396"/>
                </a:lnTo>
                <a:lnTo>
                  <a:pt x="169" y="376"/>
                </a:lnTo>
                <a:lnTo>
                  <a:pt x="177" y="355"/>
                </a:lnTo>
                <a:lnTo>
                  <a:pt x="185" y="334"/>
                </a:lnTo>
                <a:lnTo>
                  <a:pt x="190" y="313"/>
                </a:lnTo>
                <a:lnTo>
                  <a:pt x="198" y="292"/>
                </a:lnTo>
                <a:lnTo>
                  <a:pt x="204" y="273"/>
                </a:lnTo>
                <a:lnTo>
                  <a:pt x="210" y="254"/>
                </a:lnTo>
                <a:lnTo>
                  <a:pt x="214" y="236"/>
                </a:lnTo>
                <a:lnTo>
                  <a:pt x="219" y="219"/>
                </a:lnTo>
                <a:lnTo>
                  <a:pt x="223" y="204"/>
                </a:lnTo>
                <a:lnTo>
                  <a:pt x="227" y="190"/>
                </a:lnTo>
                <a:lnTo>
                  <a:pt x="229" y="175"/>
                </a:lnTo>
                <a:lnTo>
                  <a:pt x="231" y="163"/>
                </a:lnTo>
                <a:lnTo>
                  <a:pt x="233" y="150"/>
                </a:lnTo>
                <a:lnTo>
                  <a:pt x="233" y="140"/>
                </a:lnTo>
                <a:lnTo>
                  <a:pt x="233" y="131"/>
                </a:lnTo>
                <a:lnTo>
                  <a:pt x="233" y="121"/>
                </a:lnTo>
                <a:lnTo>
                  <a:pt x="231" y="113"/>
                </a:lnTo>
                <a:lnTo>
                  <a:pt x="229" y="106"/>
                </a:lnTo>
                <a:lnTo>
                  <a:pt x="225" y="98"/>
                </a:lnTo>
                <a:lnTo>
                  <a:pt x="221" y="94"/>
                </a:lnTo>
                <a:lnTo>
                  <a:pt x="217" y="88"/>
                </a:lnTo>
                <a:lnTo>
                  <a:pt x="214" y="83"/>
                </a:lnTo>
                <a:lnTo>
                  <a:pt x="210" y="79"/>
                </a:lnTo>
                <a:lnTo>
                  <a:pt x="208" y="73"/>
                </a:lnTo>
                <a:lnTo>
                  <a:pt x="204" y="64"/>
                </a:lnTo>
                <a:lnTo>
                  <a:pt x="202" y="54"/>
                </a:lnTo>
                <a:lnTo>
                  <a:pt x="202" y="44"/>
                </a:lnTo>
                <a:lnTo>
                  <a:pt x="204" y="35"/>
                </a:lnTo>
                <a:lnTo>
                  <a:pt x="206" y="23"/>
                </a:lnTo>
                <a:lnTo>
                  <a:pt x="210" y="14"/>
                </a:lnTo>
                <a:lnTo>
                  <a:pt x="212" y="10"/>
                </a:lnTo>
                <a:lnTo>
                  <a:pt x="215" y="6"/>
                </a:lnTo>
                <a:lnTo>
                  <a:pt x="219" y="4"/>
                </a:lnTo>
                <a:lnTo>
                  <a:pt x="225" y="2"/>
                </a:lnTo>
                <a:lnTo>
                  <a:pt x="231" y="0"/>
                </a:lnTo>
                <a:lnTo>
                  <a:pt x="237" y="0"/>
                </a:lnTo>
                <a:lnTo>
                  <a:pt x="244" y="0"/>
                </a:lnTo>
                <a:lnTo>
                  <a:pt x="254" y="2"/>
                </a:lnTo>
                <a:lnTo>
                  <a:pt x="262" y="4"/>
                </a:lnTo>
                <a:lnTo>
                  <a:pt x="273" y="8"/>
                </a:lnTo>
                <a:lnTo>
                  <a:pt x="283" y="12"/>
                </a:lnTo>
                <a:lnTo>
                  <a:pt x="294" y="16"/>
                </a:lnTo>
                <a:lnTo>
                  <a:pt x="308" y="21"/>
                </a:lnTo>
                <a:lnTo>
                  <a:pt x="321" y="27"/>
                </a:lnTo>
                <a:lnTo>
                  <a:pt x="334" y="33"/>
                </a:lnTo>
                <a:lnTo>
                  <a:pt x="350" y="41"/>
                </a:lnTo>
                <a:lnTo>
                  <a:pt x="363" y="50"/>
                </a:lnTo>
                <a:lnTo>
                  <a:pt x="377" y="60"/>
                </a:lnTo>
                <a:lnTo>
                  <a:pt x="390" y="69"/>
                </a:lnTo>
                <a:lnTo>
                  <a:pt x="402" y="79"/>
                </a:lnTo>
                <a:lnTo>
                  <a:pt x="411" y="87"/>
                </a:lnTo>
                <a:lnTo>
                  <a:pt x="421" y="96"/>
                </a:lnTo>
                <a:lnTo>
                  <a:pt x="429" y="104"/>
                </a:lnTo>
                <a:lnTo>
                  <a:pt x="436" y="112"/>
                </a:lnTo>
                <a:lnTo>
                  <a:pt x="444" y="119"/>
                </a:lnTo>
                <a:lnTo>
                  <a:pt x="450" y="127"/>
                </a:lnTo>
                <a:lnTo>
                  <a:pt x="453" y="135"/>
                </a:lnTo>
                <a:lnTo>
                  <a:pt x="457" y="142"/>
                </a:lnTo>
                <a:lnTo>
                  <a:pt x="461" y="150"/>
                </a:lnTo>
                <a:lnTo>
                  <a:pt x="463" y="158"/>
                </a:lnTo>
                <a:lnTo>
                  <a:pt x="465" y="165"/>
                </a:lnTo>
                <a:lnTo>
                  <a:pt x="465" y="173"/>
                </a:lnTo>
                <a:lnTo>
                  <a:pt x="465" y="181"/>
                </a:lnTo>
                <a:lnTo>
                  <a:pt x="463" y="188"/>
                </a:lnTo>
                <a:lnTo>
                  <a:pt x="461" y="198"/>
                </a:lnTo>
                <a:lnTo>
                  <a:pt x="457" y="207"/>
                </a:lnTo>
                <a:lnTo>
                  <a:pt x="453" y="217"/>
                </a:lnTo>
                <a:lnTo>
                  <a:pt x="450" y="229"/>
                </a:lnTo>
                <a:lnTo>
                  <a:pt x="444" y="240"/>
                </a:lnTo>
                <a:lnTo>
                  <a:pt x="436" y="254"/>
                </a:lnTo>
                <a:lnTo>
                  <a:pt x="429" y="267"/>
                </a:lnTo>
                <a:lnTo>
                  <a:pt x="421" y="280"/>
                </a:lnTo>
                <a:lnTo>
                  <a:pt x="411" y="296"/>
                </a:lnTo>
                <a:lnTo>
                  <a:pt x="402" y="311"/>
                </a:lnTo>
                <a:lnTo>
                  <a:pt x="390" y="328"/>
                </a:lnTo>
                <a:lnTo>
                  <a:pt x="377" y="346"/>
                </a:lnTo>
                <a:lnTo>
                  <a:pt x="363" y="365"/>
                </a:lnTo>
                <a:lnTo>
                  <a:pt x="350" y="3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35"/>
          <p:cNvSpPr/>
          <p:nvPr/>
        </p:nvSpPr>
        <p:spPr>
          <a:xfrm>
            <a:off x="6568920" y="2990880"/>
            <a:ext cx="220680" cy="303120"/>
          </a:xfrm>
          <a:custGeom>
            <a:avLst/>
            <a:gdLst/>
            <a:ahLst/>
            <a:rect l="l" t="t" r="r" b="b"/>
            <a:pathLst>
              <a:path w="278" h="382">
                <a:moveTo>
                  <a:pt x="0" y="0"/>
                </a:moveTo>
                <a:lnTo>
                  <a:pt x="31" y="9"/>
                </a:lnTo>
                <a:lnTo>
                  <a:pt x="59" y="21"/>
                </a:lnTo>
                <a:lnTo>
                  <a:pt x="86" y="34"/>
                </a:lnTo>
                <a:lnTo>
                  <a:pt x="113" y="46"/>
                </a:lnTo>
                <a:lnTo>
                  <a:pt x="140" y="61"/>
                </a:lnTo>
                <a:lnTo>
                  <a:pt x="163" y="75"/>
                </a:lnTo>
                <a:lnTo>
                  <a:pt x="186" y="90"/>
                </a:lnTo>
                <a:lnTo>
                  <a:pt x="209" y="105"/>
                </a:lnTo>
                <a:lnTo>
                  <a:pt x="217" y="111"/>
                </a:lnTo>
                <a:lnTo>
                  <a:pt x="225" y="121"/>
                </a:lnTo>
                <a:lnTo>
                  <a:pt x="232" y="128"/>
                </a:lnTo>
                <a:lnTo>
                  <a:pt x="240" y="136"/>
                </a:lnTo>
                <a:lnTo>
                  <a:pt x="246" y="144"/>
                </a:lnTo>
                <a:lnTo>
                  <a:pt x="251" y="153"/>
                </a:lnTo>
                <a:lnTo>
                  <a:pt x="257" y="161"/>
                </a:lnTo>
                <a:lnTo>
                  <a:pt x="261" y="171"/>
                </a:lnTo>
                <a:lnTo>
                  <a:pt x="265" y="178"/>
                </a:lnTo>
                <a:lnTo>
                  <a:pt x="269" y="188"/>
                </a:lnTo>
                <a:lnTo>
                  <a:pt x="272" y="196"/>
                </a:lnTo>
                <a:lnTo>
                  <a:pt x="274" y="205"/>
                </a:lnTo>
                <a:lnTo>
                  <a:pt x="276" y="213"/>
                </a:lnTo>
                <a:lnTo>
                  <a:pt x="278" y="221"/>
                </a:lnTo>
                <a:lnTo>
                  <a:pt x="278" y="228"/>
                </a:lnTo>
                <a:lnTo>
                  <a:pt x="278" y="236"/>
                </a:lnTo>
                <a:lnTo>
                  <a:pt x="278" y="251"/>
                </a:lnTo>
                <a:lnTo>
                  <a:pt x="276" y="267"/>
                </a:lnTo>
                <a:lnTo>
                  <a:pt x="274" y="280"/>
                </a:lnTo>
                <a:lnTo>
                  <a:pt x="271" y="294"/>
                </a:lnTo>
                <a:lnTo>
                  <a:pt x="269" y="307"/>
                </a:lnTo>
                <a:lnTo>
                  <a:pt x="265" y="320"/>
                </a:lnTo>
                <a:lnTo>
                  <a:pt x="259" y="332"/>
                </a:lnTo>
                <a:lnTo>
                  <a:pt x="255" y="341"/>
                </a:lnTo>
                <a:lnTo>
                  <a:pt x="248" y="351"/>
                </a:lnTo>
                <a:lnTo>
                  <a:pt x="238" y="359"/>
                </a:lnTo>
                <a:lnTo>
                  <a:pt x="230" y="366"/>
                </a:lnTo>
                <a:lnTo>
                  <a:pt x="223" y="372"/>
                </a:lnTo>
                <a:lnTo>
                  <a:pt x="215" y="376"/>
                </a:lnTo>
                <a:lnTo>
                  <a:pt x="209" y="380"/>
                </a:lnTo>
                <a:lnTo>
                  <a:pt x="203" y="380"/>
                </a:lnTo>
                <a:lnTo>
                  <a:pt x="198" y="382"/>
                </a:lnTo>
                <a:lnTo>
                  <a:pt x="196" y="382"/>
                </a:lnTo>
                <a:lnTo>
                  <a:pt x="192" y="380"/>
                </a:lnTo>
                <a:lnTo>
                  <a:pt x="188" y="378"/>
                </a:lnTo>
                <a:lnTo>
                  <a:pt x="184" y="376"/>
                </a:lnTo>
                <a:lnTo>
                  <a:pt x="180" y="374"/>
                </a:lnTo>
                <a:lnTo>
                  <a:pt x="177" y="370"/>
                </a:lnTo>
                <a:lnTo>
                  <a:pt x="171" y="365"/>
                </a:lnTo>
                <a:lnTo>
                  <a:pt x="165" y="361"/>
                </a:lnTo>
                <a:lnTo>
                  <a:pt x="159" y="355"/>
                </a:lnTo>
                <a:lnTo>
                  <a:pt x="153" y="347"/>
                </a:lnTo>
                <a:lnTo>
                  <a:pt x="148" y="340"/>
                </a:lnTo>
                <a:lnTo>
                  <a:pt x="142" y="332"/>
                </a:lnTo>
                <a:lnTo>
                  <a:pt x="136" y="322"/>
                </a:lnTo>
                <a:lnTo>
                  <a:pt x="129" y="313"/>
                </a:lnTo>
                <a:lnTo>
                  <a:pt x="123" y="301"/>
                </a:lnTo>
                <a:lnTo>
                  <a:pt x="117" y="290"/>
                </a:lnTo>
                <a:lnTo>
                  <a:pt x="109" y="278"/>
                </a:lnTo>
                <a:lnTo>
                  <a:pt x="104" y="267"/>
                </a:lnTo>
                <a:lnTo>
                  <a:pt x="96" y="255"/>
                </a:lnTo>
                <a:lnTo>
                  <a:pt x="88" y="242"/>
                </a:lnTo>
                <a:lnTo>
                  <a:pt x="81" y="228"/>
                </a:lnTo>
                <a:lnTo>
                  <a:pt x="73" y="213"/>
                </a:lnTo>
                <a:lnTo>
                  <a:pt x="65" y="196"/>
                </a:lnTo>
                <a:lnTo>
                  <a:pt x="58" y="178"/>
                </a:lnTo>
                <a:lnTo>
                  <a:pt x="50" y="159"/>
                </a:lnTo>
                <a:lnTo>
                  <a:pt x="42" y="140"/>
                </a:lnTo>
                <a:lnTo>
                  <a:pt x="36" y="119"/>
                </a:lnTo>
                <a:lnTo>
                  <a:pt x="29" y="98"/>
                </a:lnTo>
                <a:lnTo>
                  <a:pt x="21" y="75"/>
                </a:lnTo>
                <a:lnTo>
                  <a:pt x="13" y="52"/>
                </a:lnTo>
                <a:lnTo>
                  <a:pt x="8" y="2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36"/>
          <p:cNvSpPr/>
          <p:nvPr/>
        </p:nvSpPr>
        <p:spPr>
          <a:xfrm>
            <a:off x="5437080" y="4162320"/>
            <a:ext cx="957240" cy="419040"/>
          </a:xfrm>
          <a:custGeom>
            <a:avLst/>
            <a:gdLst/>
            <a:ahLst/>
            <a:rect l="l" t="t" r="r" b="b"/>
            <a:pathLst>
              <a:path w="1205" h="528">
                <a:moveTo>
                  <a:pt x="184" y="528"/>
                </a:moveTo>
                <a:lnTo>
                  <a:pt x="178" y="528"/>
                </a:lnTo>
                <a:lnTo>
                  <a:pt x="171" y="528"/>
                </a:lnTo>
                <a:lnTo>
                  <a:pt x="165" y="526"/>
                </a:lnTo>
                <a:lnTo>
                  <a:pt x="159" y="524"/>
                </a:lnTo>
                <a:lnTo>
                  <a:pt x="151" y="520"/>
                </a:lnTo>
                <a:lnTo>
                  <a:pt x="146" y="518"/>
                </a:lnTo>
                <a:lnTo>
                  <a:pt x="138" y="512"/>
                </a:lnTo>
                <a:lnTo>
                  <a:pt x="130" y="509"/>
                </a:lnTo>
                <a:lnTo>
                  <a:pt x="125" y="503"/>
                </a:lnTo>
                <a:lnTo>
                  <a:pt x="117" y="497"/>
                </a:lnTo>
                <a:lnTo>
                  <a:pt x="109" y="491"/>
                </a:lnTo>
                <a:lnTo>
                  <a:pt x="101" y="484"/>
                </a:lnTo>
                <a:lnTo>
                  <a:pt x="94" y="476"/>
                </a:lnTo>
                <a:lnTo>
                  <a:pt x="86" y="468"/>
                </a:lnTo>
                <a:lnTo>
                  <a:pt x="77" y="459"/>
                </a:lnTo>
                <a:lnTo>
                  <a:pt x="69" y="449"/>
                </a:lnTo>
                <a:lnTo>
                  <a:pt x="61" y="441"/>
                </a:lnTo>
                <a:lnTo>
                  <a:pt x="54" y="434"/>
                </a:lnTo>
                <a:lnTo>
                  <a:pt x="46" y="426"/>
                </a:lnTo>
                <a:lnTo>
                  <a:pt x="38" y="418"/>
                </a:lnTo>
                <a:lnTo>
                  <a:pt x="32" y="413"/>
                </a:lnTo>
                <a:lnTo>
                  <a:pt x="27" y="405"/>
                </a:lnTo>
                <a:lnTo>
                  <a:pt x="21" y="397"/>
                </a:lnTo>
                <a:lnTo>
                  <a:pt x="17" y="390"/>
                </a:lnTo>
                <a:lnTo>
                  <a:pt x="13" y="382"/>
                </a:lnTo>
                <a:lnTo>
                  <a:pt x="9" y="374"/>
                </a:lnTo>
                <a:lnTo>
                  <a:pt x="6" y="367"/>
                </a:lnTo>
                <a:lnTo>
                  <a:pt x="4" y="361"/>
                </a:lnTo>
                <a:lnTo>
                  <a:pt x="2" y="353"/>
                </a:lnTo>
                <a:lnTo>
                  <a:pt x="0" y="345"/>
                </a:lnTo>
                <a:lnTo>
                  <a:pt x="0" y="338"/>
                </a:lnTo>
                <a:lnTo>
                  <a:pt x="0" y="330"/>
                </a:lnTo>
                <a:lnTo>
                  <a:pt x="0" y="322"/>
                </a:lnTo>
                <a:lnTo>
                  <a:pt x="0" y="317"/>
                </a:lnTo>
                <a:lnTo>
                  <a:pt x="2" y="311"/>
                </a:lnTo>
                <a:lnTo>
                  <a:pt x="4" y="305"/>
                </a:lnTo>
                <a:lnTo>
                  <a:pt x="6" y="301"/>
                </a:lnTo>
                <a:lnTo>
                  <a:pt x="9" y="297"/>
                </a:lnTo>
                <a:lnTo>
                  <a:pt x="13" y="294"/>
                </a:lnTo>
                <a:lnTo>
                  <a:pt x="17" y="290"/>
                </a:lnTo>
                <a:lnTo>
                  <a:pt x="21" y="288"/>
                </a:lnTo>
                <a:lnTo>
                  <a:pt x="27" y="288"/>
                </a:lnTo>
                <a:lnTo>
                  <a:pt x="32" y="286"/>
                </a:lnTo>
                <a:lnTo>
                  <a:pt x="38" y="286"/>
                </a:lnTo>
                <a:lnTo>
                  <a:pt x="46" y="286"/>
                </a:lnTo>
                <a:lnTo>
                  <a:pt x="52" y="288"/>
                </a:lnTo>
                <a:lnTo>
                  <a:pt x="61" y="288"/>
                </a:lnTo>
                <a:lnTo>
                  <a:pt x="69" y="292"/>
                </a:lnTo>
                <a:lnTo>
                  <a:pt x="86" y="295"/>
                </a:lnTo>
                <a:lnTo>
                  <a:pt x="101" y="301"/>
                </a:lnTo>
                <a:lnTo>
                  <a:pt x="117" y="305"/>
                </a:lnTo>
                <a:lnTo>
                  <a:pt x="130" y="307"/>
                </a:lnTo>
                <a:lnTo>
                  <a:pt x="142" y="309"/>
                </a:lnTo>
                <a:lnTo>
                  <a:pt x="153" y="309"/>
                </a:lnTo>
                <a:lnTo>
                  <a:pt x="159" y="309"/>
                </a:lnTo>
                <a:lnTo>
                  <a:pt x="163" y="307"/>
                </a:lnTo>
                <a:lnTo>
                  <a:pt x="169" y="305"/>
                </a:lnTo>
                <a:lnTo>
                  <a:pt x="173" y="303"/>
                </a:lnTo>
                <a:lnTo>
                  <a:pt x="176" y="303"/>
                </a:lnTo>
                <a:lnTo>
                  <a:pt x="178" y="303"/>
                </a:lnTo>
                <a:lnTo>
                  <a:pt x="184" y="303"/>
                </a:lnTo>
                <a:lnTo>
                  <a:pt x="188" y="301"/>
                </a:lnTo>
                <a:lnTo>
                  <a:pt x="194" y="299"/>
                </a:lnTo>
                <a:lnTo>
                  <a:pt x="201" y="297"/>
                </a:lnTo>
                <a:lnTo>
                  <a:pt x="209" y="295"/>
                </a:lnTo>
                <a:lnTo>
                  <a:pt x="217" y="294"/>
                </a:lnTo>
                <a:lnTo>
                  <a:pt x="226" y="292"/>
                </a:lnTo>
                <a:lnTo>
                  <a:pt x="236" y="288"/>
                </a:lnTo>
                <a:lnTo>
                  <a:pt x="245" y="286"/>
                </a:lnTo>
                <a:lnTo>
                  <a:pt x="257" y="282"/>
                </a:lnTo>
                <a:lnTo>
                  <a:pt x="270" y="278"/>
                </a:lnTo>
                <a:lnTo>
                  <a:pt x="282" y="274"/>
                </a:lnTo>
                <a:lnTo>
                  <a:pt x="297" y="269"/>
                </a:lnTo>
                <a:lnTo>
                  <a:pt x="311" y="265"/>
                </a:lnTo>
                <a:lnTo>
                  <a:pt x="326" y="259"/>
                </a:lnTo>
                <a:lnTo>
                  <a:pt x="343" y="255"/>
                </a:lnTo>
                <a:lnTo>
                  <a:pt x="359" y="249"/>
                </a:lnTo>
                <a:lnTo>
                  <a:pt x="378" y="242"/>
                </a:lnTo>
                <a:lnTo>
                  <a:pt x="395" y="236"/>
                </a:lnTo>
                <a:lnTo>
                  <a:pt x="414" y="230"/>
                </a:lnTo>
                <a:lnTo>
                  <a:pt x="435" y="223"/>
                </a:lnTo>
                <a:lnTo>
                  <a:pt x="457" y="215"/>
                </a:lnTo>
                <a:lnTo>
                  <a:pt x="478" y="207"/>
                </a:lnTo>
                <a:lnTo>
                  <a:pt x="499" y="200"/>
                </a:lnTo>
                <a:lnTo>
                  <a:pt x="522" y="192"/>
                </a:lnTo>
                <a:lnTo>
                  <a:pt x="547" y="182"/>
                </a:lnTo>
                <a:lnTo>
                  <a:pt x="572" y="175"/>
                </a:lnTo>
                <a:lnTo>
                  <a:pt x="597" y="165"/>
                </a:lnTo>
                <a:lnTo>
                  <a:pt x="622" y="155"/>
                </a:lnTo>
                <a:lnTo>
                  <a:pt x="649" y="146"/>
                </a:lnTo>
                <a:lnTo>
                  <a:pt x="675" y="136"/>
                </a:lnTo>
                <a:lnTo>
                  <a:pt x="702" y="129"/>
                </a:lnTo>
                <a:lnTo>
                  <a:pt x="727" y="121"/>
                </a:lnTo>
                <a:lnTo>
                  <a:pt x="752" y="111"/>
                </a:lnTo>
                <a:lnTo>
                  <a:pt x="775" y="104"/>
                </a:lnTo>
                <a:lnTo>
                  <a:pt x="798" y="98"/>
                </a:lnTo>
                <a:lnTo>
                  <a:pt x="821" y="90"/>
                </a:lnTo>
                <a:lnTo>
                  <a:pt x="842" y="82"/>
                </a:lnTo>
                <a:lnTo>
                  <a:pt x="864" y="77"/>
                </a:lnTo>
                <a:lnTo>
                  <a:pt x="883" y="71"/>
                </a:lnTo>
                <a:lnTo>
                  <a:pt x="904" y="63"/>
                </a:lnTo>
                <a:lnTo>
                  <a:pt x="921" y="57"/>
                </a:lnTo>
                <a:lnTo>
                  <a:pt x="940" y="52"/>
                </a:lnTo>
                <a:lnTo>
                  <a:pt x="958" y="48"/>
                </a:lnTo>
                <a:lnTo>
                  <a:pt x="973" y="42"/>
                </a:lnTo>
                <a:lnTo>
                  <a:pt x="990" y="38"/>
                </a:lnTo>
                <a:lnTo>
                  <a:pt x="1006" y="33"/>
                </a:lnTo>
                <a:lnTo>
                  <a:pt x="1019" y="29"/>
                </a:lnTo>
                <a:lnTo>
                  <a:pt x="1032" y="25"/>
                </a:lnTo>
                <a:lnTo>
                  <a:pt x="1046" y="21"/>
                </a:lnTo>
                <a:lnTo>
                  <a:pt x="1057" y="19"/>
                </a:lnTo>
                <a:lnTo>
                  <a:pt x="1071" y="15"/>
                </a:lnTo>
                <a:lnTo>
                  <a:pt x="1080" y="11"/>
                </a:lnTo>
                <a:lnTo>
                  <a:pt x="1092" y="9"/>
                </a:lnTo>
                <a:lnTo>
                  <a:pt x="1100" y="8"/>
                </a:lnTo>
                <a:lnTo>
                  <a:pt x="1109" y="6"/>
                </a:lnTo>
                <a:lnTo>
                  <a:pt x="1117" y="4"/>
                </a:lnTo>
                <a:lnTo>
                  <a:pt x="1125" y="4"/>
                </a:lnTo>
                <a:lnTo>
                  <a:pt x="1132" y="2"/>
                </a:lnTo>
                <a:lnTo>
                  <a:pt x="1138" y="2"/>
                </a:lnTo>
                <a:lnTo>
                  <a:pt x="1144" y="0"/>
                </a:lnTo>
                <a:lnTo>
                  <a:pt x="1148" y="0"/>
                </a:lnTo>
                <a:lnTo>
                  <a:pt x="1161" y="0"/>
                </a:lnTo>
                <a:lnTo>
                  <a:pt x="1171" y="0"/>
                </a:lnTo>
                <a:lnTo>
                  <a:pt x="1182" y="2"/>
                </a:lnTo>
                <a:lnTo>
                  <a:pt x="1190" y="2"/>
                </a:lnTo>
                <a:lnTo>
                  <a:pt x="1198" y="4"/>
                </a:lnTo>
                <a:lnTo>
                  <a:pt x="1201" y="6"/>
                </a:lnTo>
                <a:lnTo>
                  <a:pt x="1203" y="8"/>
                </a:lnTo>
                <a:lnTo>
                  <a:pt x="1205" y="9"/>
                </a:lnTo>
                <a:lnTo>
                  <a:pt x="1205" y="11"/>
                </a:lnTo>
                <a:lnTo>
                  <a:pt x="1205" y="13"/>
                </a:lnTo>
                <a:lnTo>
                  <a:pt x="1205" y="15"/>
                </a:lnTo>
                <a:lnTo>
                  <a:pt x="1203" y="19"/>
                </a:lnTo>
                <a:lnTo>
                  <a:pt x="1199" y="23"/>
                </a:lnTo>
                <a:lnTo>
                  <a:pt x="1194" y="29"/>
                </a:lnTo>
                <a:lnTo>
                  <a:pt x="1188" y="33"/>
                </a:lnTo>
                <a:lnTo>
                  <a:pt x="1180" y="38"/>
                </a:lnTo>
                <a:lnTo>
                  <a:pt x="1171" y="46"/>
                </a:lnTo>
                <a:lnTo>
                  <a:pt x="1161" y="54"/>
                </a:lnTo>
                <a:lnTo>
                  <a:pt x="1148" y="61"/>
                </a:lnTo>
                <a:lnTo>
                  <a:pt x="1134" y="69"/>
                </a:lnTo>
                <a:lnTo>
                  <a:pt x="1119" y="79"/>
                </a:lnTo>
                <a:lnTo>
                  <a:pt x="1103" y="88"/>
                </a:lnTo>
                <a:lnTo>
                  <a:pt x="1084" y="98"/>
                </a:lnTo>
                <a:lnTo>
                  <a:pt x="1065" y="109"/>
                </a:lnTo>
                <a:lnTo>
                  <a:pt x="1044" y="121"/>
                </a:lnTo>
                <a:lnTo>
                  <a:pt x="1021" y="132"/>
                </a:lnTo>
                <a:lnTo>
                  <a:pt x="996" y="146"/>
                </a:lnTo>
                <a:lnTo>
                  <a:pt x="971" y="157"/>
                </a:lnTo>
                <a:lnTo>
                  <a:pt x="944" y="171"/>
                </a:lnTo>
                <a:lnTo>
                  <a:pt x="917" y="184"/>
                </a:lnTo>
                <a:lnTo>
                  <a:pt x="890" y="198"/>
                </a:lnTo>
                <a:lnTo>
                  <a:pt x="862" y="213"/>
                </a:lnTo>
                <a:lnTo>
                  <a:pt x="833" y="226"/>
                </a:lnTo>
                <a:lnTo>
                  <a:pt x="802" y="242"/>
                </a:lnTo>
                <a:lnTo>
                  <a:pt x="771" y="255"/>
                </a:lnTo>
                <a:lnTo>
                  <a:pt x="741" y="271"/>
                </a:lnTo>
                <a:lnTo>
                  <a:pt x="708" y="286"/>
                </a:lnTo>
                <a:lnTo>
                  <a:pt x="673" y="303"/>
                </a:lnTo>
                <a:lnTo>
                  <a:pt x="639" y="319"/>
                </a:lnTo>
                <a:lnTo>
                  <a:pt x="604" y="336"/>
                </a:lnTo>
                <a:lnTo>
                  <a:pt x="570" y="353"/>
                </a:lnTo>
                <a:lnTo>
                  <a:pt x="533" y="370"/>
                </a:lnTo>
                <a:lnTo>
                  <a:pt x="497" y="390"/>
                </a:lnTo>
                <a:lnTo>
                  <a:pt x="462" y="407"/>
                </a:lnTo>
                <a:lnTo>
                  <a:pt x="432" y="424"/>
                </a:lnTo>
                <a:lnTo>
                  <a:pt x="401" y="439"/>
                </a:lnTo>
                <a:lnTo>
                  <a:pt x="372" y="455"/>
                </a:lnTo>
                <a:lnTo>
                  <a:pt x="345" y="466"/>
                </a:lnTo>
                <a:lnTo>
                  <a:pt x="320" y="478"/>
                </a:lnTo>
                <a:lnTo>
                  <a:pt x="299" y="489"/>
                </a:lnTo>
                <a:lnTo>
                  <a:pt x="278" y="499"/>
                </a:lnTo>
                <a:lnTo>
                  <a:pt x="259" y="507"/>
                </a:lnTo>
                <a:lnTo>
                  <a:pt x="242" y="512"/>
                </a:lnTo>
                <a:lnTo>
                  <a:pt x="226" y="518"/>
                </a:lnTo>
                <a:lnTo>
                  <a:pt x="213" y="522"/>
                </a:lnTo>
                <a:lnTo>
                  <a:pt x="201" y="526"/>
                </a:lnTo>
                <a:lnTo>
                  <a:pt x="192" y="528"/>
                </a:lnTo>
                <a:lnTo>
                  <a:pt x="188" y="528"/>
                </a:lnTo>
                <a:lnTo>
                  <a:pt x="184" y="5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37"/>
          <p:cNvSpPr/>
          <p:nvPr/>
        </p:nvSpPr>
        <p:spPr>
          <a:xfrm>
            <a:off x="6151680" y="2968560"/>
            <a:ext cx="174600" cy="2043000"/>
          </a:xfrm>
          <a:custGeom>
            <a:avLst/>
            <a:gdLst/>
            <a:ahLst/>
            <a:rect l="l" t="t" r="r" b="b"/>
            <a:pathLst>
              <a:path w="221" h="2572">
                <a:moveTo>
                  <a:pt x="27" y="0"/>
                </a:moveTo>
                <a:lnTo>
                  <a:pt x="48" y="17"/>
                </a:lnTo>
                <a:lnTo>
                  <a:pt x="67" y="33"/>
                </a:lnTo>
                <a:lnTo>
                  <a:pt x="86" y="48"/>
                </a:lnTo>
                <a:lnTo>
                  <a:pt x="104" y="61"/>
                </a:lnTo>
                <a:lnTo>
                  <a:pt x="119" y="75"/>
                </a:lnTo>
                <a:lnTo>
                  <a:pt x="134" y="86"/>
                </a:lnTo>
                <a:lnTo>
                  <a:pt x="148" y="98"/>
                </a:lnTo>
                <a:lnTo>
                  <a:pt x="159" y="109"/>
                </a:lnTo>
                <a:lnTo>
                  <a:pt x="171" y="119"/>
                </a:lnTo>
                <a:lnTo>
                  <a:pt x="180" y="127"/>
                </a:lnTo>
                <a:lnTo>
                  <a:pt x="188" y="134"/>
                </a:lnTo>
                <a:lnTo>
                  <a:pt x="196" y="140"/>
                </a:lnTo>
                <a:lnTo>
                  <a:pt x="202" y="146"/>
                </a:lnTo>
                <a:lnTo>
                  <a:pt x="207" y="152"/>
                </a:lnTo>
                <a:lnTo>
                  <a:pt x="211" y="155"/>
                </a:lnTo>
                <a:lnTo>
                  <a:pt x="213" y="157"/>
                </a:lnTo>
                <a:lnTo>
                  <a:pt x="215" y="163"/>
                </a:lnTo>
                <a:lnTo>
                  <a:pt x="217" y="169"/>
                </a:lnTo>
                <a:lnTo>
                  <a:pt x="219" y="175"/>
                </a:lnTo>
                <a:lnTo>
                  <a:pt x="219" y="182"/>
                </a:lnTo>
                <a:lnTo>
                  <a:pt x="221" y="190"/>
                </a:lnTo>
                <a:lnTo>
                  <a:pt x="221" y="200"/>
                </a:lnTo>
                <a:lnTo>
                  <a:pt x="221" y="209"/>
                </a:lnTo>
                <a:lnTo>
                  <a:pt x="221" y="219"/>
                </a:lnTo>
                <a:lnTo>
                  <a:pt x="221" y="230"/>
                </a:lnTo>
                <a:lnTo>
                  <a:pt x="221" y="242"/>
                </a:lnTo>
                <a:lnTo>
                  <a:pt x="221" y="253"/>
                </a:lnTo>
                <a:lnTo>
                  <a:pt x="219" y="267"/>
                </a:lnTo>
                <a:lnTo>
                  <a:pt x="219" y="282"/>
                </a:lnTo>
                <a:lnTo>
                  <a:pt x="217" y="296"/>
                </a:lnTo>
                <a:lnTo>
                  <a:pt x="215" y="313"/>
                </a:lnTo>
                <a:lnTo>
                  <a:pt x="213" y="330"/>
                </a:lnTo>
                <a:lnTo>
                  <a:pt x="211" y="338"/>
                </a:lnTo>
                <a:lnTo>
                  <a:pt x="211" y="349"/>
                </a:lnTo>
                <a:lnTo>
                  <a:pt x="209" y="361"/>
                </a:lnTo>
                <a:lnTo>
                  <a:pt x="209" y="372"/>
                </a:lnTo>
                <a:lnTo>
                  <a:pt x="207" y="388"/>
                </a:lnTo>
                <a:lnTo>
                  <a:pt x="207" y="403"/>
                </a:lnTo>
                <a:lnTo>
                  <a:pt x="205" y="418"/>
                </a:lnTo>
                <a:lnTo>
                  <a:pt x="205" y="436"/>
                </a:lnTo>
                <a:lnTo>
                  <a:pt x="203" y="455"/>
                </a:lnTo>
                <a:lnTo>
                  <a:pt x="203" y="474"/>
                </a:lnTo>
                <a:lnTo>
                  <a:pt x="202" y="495"/>
                </a:lnTo>
                <a:lnTo>
                  <a:pt x="202" y="516"/>
                </a:lnTo>
                <a:lnTo>
                  <a:pt x="200" y="539"/>
                </a:lnTo>
                <a:lnTo>
                  <a:pt x="200" y="564"/>
                </a:lnTo>
                <a:lnTo>
                  <a:pt x="198" y="589"/>
                </a:lnTo>
                <a:lnTo>
                  <a:pt x="198" y="616"/>
                </a:lnTo>
                <a:lnTo>
                  <a:pt x="196" y="645"/>
                </a:lnTo>
                <a:lnTo>
                  <a:pt x="196" y="674"/>
                </a:lnTo>
                <a:lnTo>
                  <a:pt x="194" y="702"/>
                </a:lnTo>
                <a:lnTo>
                  <a:pt x="194" y="735"/>
                </a:lnTo>
                <a:lnTo>
                  <a:pt x="194" y="766"/>
                </a:lnTo>
                <a:lnTo>
                  <a:pt x="192" y="800"/>
                </a:lnTo>
                <a:lnTo>
                  <a:pt x="192" y="835"/>
                </a:lnTo>
                <a:lnTo>
                  <a:pt x="192" y="871"/>
                </a:lnTo>
                <a:lnTo>
                  <a:pt x="192" y="908"/>
                </a:lnTo>
                <a:lnTo>
                  <a:pt x="190" y="946"/>
                </a:lnTo>
                <a:lnTo>
                  <a:pt x="190" y="987"/>
                </a:lnTo>
                <a:lnTo>
                  <a:pt x="190" y="1027"/>
                </a:lnTo>
                <a:lnTo>
                  <a:pt x="190" y="1067"/>
                </a:lnTo>
                <a:lnTo>
                  <a:pt x="190" y="1111"/>
                </a:lnTo>
                <a:lnTo>
                  <a:pt x="190" y="1155"/>
                </a:lnTo>
                <a:lnTo>
                  <a:pt x="190" y="1200"/>
                </a:lnTo>
                <a:lnTo>
                  <a:pt x="188" y="1246"/>
                </a:lnTo>
                <a:lnTo>
                  <a:pt x="188" y="1290"/>
                </a:lnTo>
                <a:lnTo>
                  <a:pt x="186" y="1334"/>
                </a:lnTo>
                <a:lnTo>
                  <a:pt x="186" y="1376"/>
                </a:lnTo>
                <a:lnTo>
                  <a:pt x="184" y="1417"/>
                </a:lnTo>
                <a:lnTo>
                  <a:pt x="184" y="1457"/>
                </a:lnTo>
                <a:lnTo>
                  <a:pt x="184" y="1497"/>
                </a:lnTo>
                <a:lnTo>
                  <a:pt x="182" y="1536"/>
                </a:lnTo>
                <a:lnTo>
                  <a:pt x="182" y="1574"/>
                </a:lnTo>
                <a:lnTo>
                  <a:pt x="182" y="1610"/>
                </a:lnTo>
                <a:lnTo>
                  <a:pt x="180" y="1647"/>
                </a:lnTo>
                <a:lnTo>
                  <a:pt x="180" y="1681"/>
                </a:lnTo>
                <a:lnTo>
                  <a:pt x="180" y="1714"/>
                </a:lnTo>
                <a:lnTo>
                  <a:pt x="179" y="1747"/>
                </a:lnTo>
                <a:lnTo>
                  <a:pt x="179" y="1779"/>
                </a:lnTo>
                <a:lnTo>
                  <a:pt x="179" y="1810"/>
                </a:lnTo>
                <a:lnTo>
                  <a:pt x="179" y="1841"/>
                </a:lnTo>
                <a:lnTo>
                  <a:pt x="177" y="1870"/>
                </a:lnTo>
                <a:lnTo>
                  <a:pt x="177" y="1896"/>
                </a:lnTo>
                <a:lnTo>
                  <a:pt x="177" y="1923"/>
                </a:lnTo>
                <a:lnTo>
                  <a:pt x="175" y="1948"/>
                </a:lnTo>
                <a:lnTo>
                  <a:pt x="175" y="1973"/>
                </a:lnTo>
                <a:lnTo>
                  <a:pt x="175" y="1998"/>
                </a:lnTo>
                <a:lnTo>
                  <a:pt x="173" y="2019"/>
                </a:lnTo>
                <a:lnTo>
                  <a:pt x="173" y="2042"/>
                </a:lnTo>
                <a:lnTo>
                  <a:pt x="173" y="2061"/>
                </a:lnTo>
                <a:lnTo>
                  <a:pt x="171" y="2081"/>
                </a:lnTo>
                <a:lnTo>
                  <a:pt x="171" y="2100"/>
                </a:lnTo>
                <a:lnTo>
                  <a:pt x="169" y="2117"/>
                </a:lnTo>
                <a:lnTo>
                  <a:pt x="169" y="2132"/>
                </a:lnTo>
                <a:lnTo>
                  <a:pt x="167" y="2148"/>
                </a:lnTo>
                <a:lnTo>
                  <a:pt x="167" y="2163"/>
                </a:lnTo>
                <a:lnTo>
                  <a:pt x="165" y="2192"/>
                </a:lnTo>
                <a:lnTo>
                  <a:pt x="163" y="2219"/>
                </a:lnTo>
                <a:lnTo>
                  <a:pt x="159" y="2246"/>
                </a:lnTo>
                <a:lnTo>
                  <a:pt x="157" y="2273"/>
                </a:lnTo>
                <a:lnTo>
                  <a:pt x="155" y="2296"/>
                </a:lnTo>
                <a:lnTo>
                  <a:pt x="154" y="2319"/>
                </a:lnTo>
                <a:lnTo>
                  <a:pt x="152" y="2342"/>
                </a:lnTo>
                <a:lnTo>
                  <a:pt x="150" y="2363"/>
                </a:lnTo>
                <a:lnTo>
                  <a:pt x="146" y="2382"/>
                </a:lnTo>
                <a:lnTo>
                  <a:pt x="144" y="2401"/>
                </a:lnTo>
                <a:lnTo>
                  <a:pt x="142" y="2418"/>
                </a:lnTo>
                <a:lnTo>
                  <a:pt x="140" y="2436"/>
                </a:lnTo>
                <a:lnTo>
                  <a:pt x="138" y="2451"/>
                </a:lnTo>
                <a:lnTo>
                  <a:pt x="136" y="2466"/>
                </a:lnTo>
                <a:lnTo>
                  <a:pt x="134" y="2480"/>
                </a:lnTo>
                <a:lnTo>
                  <a:pt x="132" y="2493"/>
                </a:lnTo>
                <a:lnTo>
                  <a:pt x="129" y="2503"/>
                </a:lnTo>
                <a:lnTo>
                  <a:pt x="127" y="2511"/>
                </a:lnTo>
                <a:lnTo>
                  <a:pt x="125" y="2520"/>
                </a:lnTo>
                <a:lnTo>
                  <a:pt x="121" y="2528"/>
                </a:lnTo>
                <a:lnTo>
                  <a:pt x="119" y="2536"/>
                </a:lnTo>
                <a:lnTo>
                  <a:pt x="115" y="2541"/>
                </a:lnTo>
                <a:lnTo>
                  <a:pt x="111" y="2547"/>
                </a:lnTo>
                <a:lnTo>
                  <a:pt x="109" y="2553"/>
                </a:lnTo>
                <a:lnTo>
                  <a:pt x="106" y="2557"/>
                </a:lnTo>
                <a:lnTo>
                  <a:pt x="102" y="2561"/>
                </a:lnTo>
                <a:lnTo>
                  <a:pt x="100" y="2564"/>
                </a:lnTo>
                <a:lnTo>
                  <a:pt x="96" y="2566"/>
                </a:lnTo>
                <a:lnTo>
                  <a:pt x="92" y="2570"/>
                </a:lnTo>
                <a:lnTo>
                  <a:pt x="90" y="2570"/>
                </a:lnTo>
                <a:lnTo>
                  <a:pt x="88" y="2572"/>
                </a:lnTo>
                <a:lnTo>
                  <a:pt x="86" y="2572"/>
                </a:lnTo>
                <a:lnTo>
                  <a:pt x="81" y="2572"/>
                </a:lnTo>
                <a:lnTo>
                  <a:pt x="77" y="2570"/>
                </a:lnTo>
                <a:lnTo>
                  <a:pt x="73" y="2566"/>
                </a:lnTo>
                <a:lnTo>
                  <a:pt x="67" y="2562"/>
                </a:lnTo>
                <a:lnTo>
                  <a:pt x="63" y="2557"/>
                </a:lnTo>
                <a:lnTo>
                  <a:pt x="59" y="2551"/>
                </a:lnTo>
                <a:lnTo>
                  <a:pt x="56" y="2543"/>
                </a:lnTo>
                <a:lnTo>
                  <a:pt x="52" y="2534"/>
                </a:lnTo>
                <a:lnTo>
                  <a:pt x="48" y="2524"/>
                </a:lnTo>
                <a:lnTo>
                  <a:pt x="44" y="2513"/>
                </a:lnTo>
                <a:lnTo>
                  <a:pt x="40" y="2501"/>
                </a:lnTo>
                <a:lnTo>
                  <a:pt x="38" y="2488"/>
                </a:lnTo>
                <a:lnTo>
                  <a:pt x="35" y="2474"/>
                </a:lnTo>
                <a:lnTo>
                  <a:pt x="33" y="2459"/>
                </a:lnTo>
                <a:lnTo>
                  <a:pt x="29" y="2443"/>
                </a:lnTo>
                <a:lnTo>
                  <a:pt x="27" y="2426"/>
                </a:lnTo>
                <a:lnTo>
                  <a:pt x="23" y="2409"/>
                </a:lnTo>
                <a:lnTo>
                  <a:pt x="19" y="2394"/>
                </a:lnTo>
                <a:lnTo>
                  <a:pt x="15" y="2378"/>
                </a:lnTo>
                <a:lnTo>
                  <a:pt x="12" y="2363"/>
                </a:lnTo>
                <a:lnTo>
                  <a:pt x="10" y="2347"/>
                </a:lnTo>
                <a:lnTo>
                  <a:pt x="8" y="2334"/>
                </a:lnTo>
                <a:lnTo>
                  <a:pt x="4" y="2323"/>
                </a:lnTo>
                <a:lnTo>
                  <a:pt x="2" y="2309"/>
                </a:lnTo>
                <a:lnTo>
                  <a:pt x="2" y="2298"/>
                </a:lnTo>
                <a:lnTo>
                  <a:pt x="0" y="2288"/>
                </a:lnTo>
                <a:lnTo>
                  <a:pt x="0" y="2278"/>
                </a:lnTo>
                <a:lnTo>
                  <a:pt x="0" y="2269"/>
                </a:lnTo>
                <a:lnTo>
                  <a:pt x="0" y="2261"/>
                </a:lnTo>
                <a:lnTo>
                  <a:pt x="0" y="2253"/>
                </a:lnTo>
                <a:lnTo>
                  <a:pt x="2" y="2248"/>
                </a:lnTo>
                <a:lnTo>
                  <a:pt x="4" y="2242"/>
                </a:lnTo>
                <a:lnTo>
                  <a:pt x="4" y="2236"/>
                </a:lnTo>
                <a:lnTo>
                  <a:pt x="4" y="2228"/>
                </a:lnTo>
                <a:lnTo>
                  <a:pt x="6" y="2221"/>
                </a:lnTo>
                <a:lnTo>
                  <a:pt x="6" y="2209"/>
                </a:lnTo>
                <a:lnTo>
                  <a:pt x="8" y="2198"/>
                </a:lnTo>
                <a:lnTo>
                  <a:pt x="8" y="2184"/>
                </a:lnTo>
                <a:lnTo>
                  <a:pt x="10" y="2171"/>
                </a:lnTo>
                <a:lnTo>
                  <a:pt x="12" y="2156"/>
                </a:lnTo>
                <a:lnTo>
                  <a:pt x="13" y="2138"/>
                </a:lnTo>
                <a:lnTo>
                  <a:pt x="15" y="2119"/>
                </a:lnTo>
                <a:lnTo>
                  <a:pt x="17" y="2098"/>
                </a:lnTo>
                <a:lnTo>
                  <a:pt x="19" y="2077"/>
                </a:lnTo>
                <a:lnTo>
                  <a:pt x="21" y="2054"/>
                </a:lnTo>
                <a:lnTo>
                  <a:pt x="23" y="2031"/>
                </a:lnTo>
                <a:lnTo>
                  <a:pt x="25" y="2006"/>
                </a:lnTo>
                <a:lnTo>
                  <a:pt x="27" y="1979"/>
                </a:lnTo>
                <a:lnTo>
                  <a:pt x="29" y="1964"/>
                </a:lnTo>
                <a:lnTo>
                  <a:pt x="29" y="1950"/>
                </a:lnTo>
                <a:lnTo>
                  <a:pt x="31" y="1935"/>
                </a:lnTo>
                <a:lnTo>
                  <a:pt x="33" y="1918"/>
                </a:lnTo>
                <a:lnTo>
                  <a:pt x="33" y="1900"/>
                </a:lnTo>
                <a:lnTo>
                  <a:pt x="35" y="1883"/>
                </a:lnTo>
                <a:lnTo>
                  <a:pt x="35" y="1864"/>
                </a:lnTo>
                <a:lnTo>
                  <a:pt x="36" y="1845"/>
                </a:lnTo>
                <a:lnTo>
                  <a:pt x="36" y="1825"/>
                </a:lnTo>
                <a:lnTo>
                  <a:pt x="38" y="1804"/>
                </a:lnTo>
                <a:lnTo>
                  <a:pt x="38" y="1781"/>
                </a:lnTo>
                <a:lnTo>
                  <a:pt x="40" y="1760"/>
                </a:lnTo>
                <a:lnTo>
                  <a:pt x="40" y="1737"/>
                </a:lnTo>
                <a:lnTo>
                  <a:pt x="42" y="1712"/>
                </a:lnTo>
                <a:lnTo>
                  <a:pt x="42" y="1687"/>
                </a:lnTo>
                <a:lnTo>
                  <a:pt x="44" y="1662"/>
                </a:lnTo>
                <a:lnTo>
                  <a:pt x="44" y="1635"/>
                </a:lnTo>
                <a:lnTo>
                  <a:pt x="44" y="1608"/>
                </a:lnTo>
                <a:lnTo>
                  <a:pt x="46" y="1580"/>
                </a:lnTo>
                <a:lnTo>
                  <a:pt x="46" y="1551"/>
                </a:lnTo>
                <a:lnTo>
                  <a:pt x="46" y="1522"/>
                </a:lnTo>
                <a:lnTo>
                  <a:pt x="48" y="1491"/>
                </a:lnTo>
                <a:lnTo>
                  <a:pt x="48" y="1461"/>
                </a:lnTo>
                <a:lnTo>
                  <a:pt x="48" y="1430"/>
                </a:lnTo>
                <a:lnTo>
                  <a:pt x="48" y="1397"/>
                </a:lnTo>
                <a:lnTo>
                  <a:pt x="50" y="1363"/>
                </a:lnTo>
                <a:lnTo>
                  <a:pt x="50" y="1330"/>
                </a:lnTo>
                <a:lnTo>
                  <a:pt x="50" y="1294"/>
                </a:lnTo>
                <a:lnTo>
                  <a:pt x="50" y="1259"/>
                </a:lnTo>
                <a:lnTo>
                  <a:pt x="50" y="1223"/>
                </a:lnTo>
                <a:lnTo>
                  <a:pt x="50" y="1186"/>
                </a:lnTo>
                <a:lnTo>
                  <a:pt x="50" y="1148"/>
                </a:lnTo>
                <a:lnTo>
                  <a:pt x="50" y="1071"/>
                </a:lnTo>
                <a:lnTo>
                  <a:pt x="50" y="994"/>
                </a:lnTo>
                <a:lnTo>
                  <a:pt x="50" y="919"/>
                </a:lnTo>
                <a:lnTo>
                  <a:pt x="48" y="845"/>
                </a:lnTo>
                <a:lnTo>
                  <a:pt x="48" y="772"/>
                </a:lnTo>
                <a:lnTo>
                  <a:pt x="46" y="699"/>
                </a:lnTo>
                <a:lnTo>
                  <a:pt x="44" y="626"/>
                </a:lnTo>
                <a:lnTo>
                  <a:pt x="44" y="553"/>
                </a:lnTo>
                <a:lnTo>
                  <a:pt x="42" y="482"/>
                </a:lnTo>
                <a:lnTo>
                  <a:pt x="40" y="411"/>
                </a:lnTo>
                <a:lnTo>
                  <a:pt x="38" y="342"/>
                </a:lnTo>
                <a:lnTo>
                  <a:pt x="36" y="271"/>
                </a:lnTo>
                <a:lnTo>
                  <a:pt x="35" y="203"/>
                </a:lnTo>
                <a:lnTo>
                  <a:pt x="33" y="134"/>
                </a:lnTo>
                <a:lnTo>
                  <a:pt x="29" y="67"/>
                </a:lnTo>
                <a:lnTo>
                  <a:pt x="2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38"/>
          <p:cNvSpPr/>
          <p:nvPr/>
        </p:nvSpPr>
        <p:spPr>
          <a:xfrm>
            <a:off x="5776920" y="3052800"/>
            <a:ext cx="128520" cy="1341360"/>
          </a:xfrm>
          <a:custGeom>
            <a:avLst/>
            <a:gdLst/>
            <a:ahLst/>
            <a:rect l="l" t="t" r="r" b="b"/>
            <a:pathLst>
              <a:path w="163" h="1689">
                <a:moveTo>
                  <a:pt x="11" y="38"/>
                </a:moveTo>
                <a:lnTo>
                  <a:pt x="88" y="19"/>
                </a:lnTo>
                <a:lnTo>
                  <a:pt x="163" y="0"/>
                </a:lnTo>
                <a:lnTo>
                  <a:pt x="159" y="220"/>
                </a:lnTo>
                <a:lnTo>
                  <a:pt x="155" y="437"/>
                </a:lnTo>
                <a:lnTo>
                  <a:pt x="151" y="652"/>
                </a:lnTo>
                <a:lnTo>
                  <a:pt x="148" y="863"/>
                </a:lnTo>
                <a:lnTo>
                  <a:pt x="144" y="1073"/>
                </a:lnTo>
                <a:lnTo>
                  <a:pt x="142" y="1280"/>
                </a:lnTo>
                <a:lnTo>
                  <a:pt x="140" y="1485"/>
                </a:lnTo>
                <a:lnTo>
                  <a:pt x="140" y="1689"/>
                </a:lnTo>
                <a:lnTo>
                  <a:pt x="71" y="1689"/>
                </a:lnTo>
                <a:lnTo>
                  <a:pt x="0" y="1689"/>
                </a:lnTo>
                <a:lnTo>
                  <a:pt x="4" y="1595"/>
                </a:lnTo>
                <a:lnTo>
                  <a:pt x="7" y="1501"/>
                </a:lnTo>
                <a:lnTo>
                  <a:pt x="9" y="1406"/>
                </a:lnTo>
                <a:lnTo>
                  <a:pt x="11" y="1312"/>
                </a:lnTo>
                <a:lnTo>
                  <a:pt x="11" y="1218"/>
                </a:lnTo>
                <a:lnTo>
                  <a:pt x="11" y="1124"/>
                </a:lnTo>
                <a:lnTo>
                  <a:pt x="11" y="936"/>
                </a:lnTo>
                <a:lnTo>
                  <a:pt x="11" y="888"/>
                </a:lnTo>
                <a:lnTo>
                  <a:pt x="11" y="840"/>
                </a:lnTo>
                <a:lnTo>
                  <a:pt x="11" y="790"/>
                </a:lnTo>
                <a:lnTo>
                  <a:pt x="11" y="740"/>
                </a:lnTo>
                <a:lnTo>
                  <a:pt x="11" y="689"/>
                </a:lnTo>
                <a:lnTo>
                  <a:pt x="11" y="635"/>
                </a:lnTo>
                <a:lnTo>
                  <a:pt x="11" y="581"/>
                </a:lnTo>
                <a:lnTo>
                  <a:pt x="11" y="527"/>
                </a:lnTo>
                <a:lnTo>
                  <a:pt x="11" y="470"/>
                </a:lnTo>
                <a:lnTo>
                  <a:pt x="11" y="412"/>
                </a:lnTo>
                <a:lnTo>
                  <a:pt x="11" y="355"/>
                </a:lnTo>
                <a:lnTo>
                  <a:pt x="11" y="293"/>
                </a:lnTo>
                <a:lnTo>
                  <a:pt x="11" y="232"/>
                </a:lnTo>
                <a:lnTo>
                  <a:pt x="11" y="168"/>
                </a:lnTo>
                <a:lnTo>
                  <a:pt x="11" y="105"/>
                </a:lnTo>
                <a:lnTo>
                  <a:pt x="11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39"/>
          <p:cNvSpPr/>
          <p:nvPr/>
        </p:nvSpPr>
        <p:spPr>
          <a:xfrm>
            <a:off x="5832360" y="3807000"/>
            <a:ext cx="295560" cy="136440"/>
          </a:xfrm>
          <a:custGeom>
            <a:avLst/>
            <a:gdLst/>
            <a:ahLst/>
            <a:rect l="l" t="t" r="r" b="b"/>
            <a:pathLst>
              <a:path w="370" h="170">
                <a:moveTo>
                  <a:pt x="290" y="130"/>
                </a:moveTo>
                <a:lnTo>
                  <a:pt x="280" y="134"/>
                </a:lnTo>
                <a:lnTo>
                  <a:pt x="270" y="136"/>
                </a:lnTo>
                <a:lnTo>
                  <a:pt x="259" y="138"/>
                </a:lnTo>
                <a:lnTo>
                  <a:pt x="246" y="140"/>
                </a:lnTo>
                <a:lnTo>
                  <a:pt x="232" y="144"/>
                </a:lnTo>
                <a:lnTo>
                  <a:pt x="217" y="146"/>
                </a:lnTo>
                <a:lnTo>
                  <a:pt x="201" y="147"/>
                </a:lnTo>
                <a:lnTo>
                  <a:pt x="182" y="151"/>
                </a:lnTo>
                <a:lnTo>
                  <a:pt x="165" y="153"/>
                </a:lnTo>
                <a:lnTo>
                  <a:pt x="144" y="155"/>
                </a:lnTo>
                <a:lnTo>
                  <a:pt x="125" y="157"/>
                </a:lnTo>
                <a:lnTo>
                  <a:pt x="102" y="161"/>
                </a:lnTo>
                <a:lnTo>
                  <a:pt x="79" y="163"/>
                </a:lnTo>
                <a:lnTo>
                  <a:pt x="54" y="165"/>
                </a:lnTo>
                <a:lnTo>
                  <a:pt x="27" y="169"/>
                </a:lnTo>
                <a:lnTo>
                  <a:pt x="0" y="170"/>
                </a:lnTo>
                <a:lnTo>
                  <a:pt x="0" y="117"/>
                </a:lnTo>
                <a:lnTo>
                  <a:pt x="0" y="65"/>
                </a:lnTo>
                <a:lnTo>
                  <a:pt x="21" y="65"/>
                </a:lnTo>
                <a:lnTo>
                  <a:pt x="42" y="63"/>
                </a:lnTo>
                <a:lnTo>
                  <a:pt x="63" y="59"/>
                </a:lnTo>
                <a:lnTo>
                  <a:pt x="84" y="55"/>
                </a:lnTo>
                <a:lnTo>
                  <a:pt x="105" y="50"/>
                </a:lnTo>
                <a:lnTo>
                  <a:pt x="125" y="42"/>
                </a:lnTo>
                <a:lnTo>
                  <a:pt x="144" y="34"/>
                </a:lnTo>
                <a:lnTo>
                  <a:pt x="161" y="25"/>
                </a:lnTo>
                <a:lnTo>
                  <a:pt x="174" y="21"/>
                </a:lnTo>
                <a:lnTo>
                  <a:pt x="190" y="15"/>
                </a:lnTo>
                <a:lnTo>
                  <a:pt x="205" y="11"/>
                </a:lnTo>
                <a:lnTo>
                  <a:pt x="222" y="7"/>
                </a:lnTo>
                <a:lnTo>
                  <a:pt x="240" y="4"/>
                </a:lnTo>
                <a:lnTo>
                  <a:pt x="259" y="2"/>
                </a:lnTo>
                <a:lnTo>
                  <a:pt x="280" y="0"/>
                </a:lnTo>
                <a:lnTo>
                  <a:pt x="301" y="0"/>
                </a:lnTo>
                <a:lnTo>
                  <a:pt x="309" y="2"/>
                </a:lnTo>
                <a:lnTo>
                  <a:pt x="317" y="4"/>
                </a:lnTo>
                <a:lnTo>
                  <a:pt x="324" y="5"/>
                </a:lnTo>
                <a:lnTo>
                  <a:pt x="332" y="9"/>
                </a:lnTo>
                <a:lnTo>
                  <a:pt x="338" y="11"/>
                </a:lnTo>
                <a:lnTo>
                  <a:pt x="343" y="15"/>
                </a:lnTo>
                <a:lnTo>
                  <a:pt x="347" y="17"/>
                </a:lnTo>
                <a:lnTo>
                  <a:pt x="353" y="21"/>
                </a:lnTo>
                <a:lnTo>
                  <a:pt x="357" y="23"/>
                </a:lnTo>
                <a:lnTo>
                  <a:pt x="361" y="27"/>
                </a:lnTo>
                <a:lnTo>
                  <a:pt x="363" y="30"/>
                </a:lnTo>
                <a:lnTo>
                  <a:pt x="366" y="34"/>
                </a:lnTo>
                <a:lnTo>
                  <a:pt x="368" y="38"/>
                </a:lnTo>
                <a:lnTo>
                  <a:pt x="368" y="42"/>
                </a:lnTo>
                <a:lnTo>
                  <a:pt x="370" y="48"/>
                </a:lnTo>
                <a:lnTo>
                  <a:pt x="370" y="51"/>
                </a:lnTo>
                <a:lnTo>
                  <a:pt x="370" y="59"/>
                </a:lnTo>
                <a:lnTo>
                  <a:pt x="368" y="65"/>
                </a:lnTo>
                <a:lnTo>
                  <a:pt x="368" y="73"/>
                </a:lnTo>
                <a:lnTo>
                  <a:pt x="366" y="78"/>
                </a:lnTo>
                <a:lnTo>
                  <a:pt x="363" y="84"/>
                </a:lnTo>
                <a:lnTo>
                  <a:pt x="361" y="90"/>
                </a:lnTo>
                <a:lnTo>
                  <a:pt x="357" y="96"/>
                </a:lnTo>
                <a:lnTo>
                  <a:pt x="351" y="101"/>
                </a:lnTo>
                <a:lnTo>
                  <a:pt x="345" y="105"/>
                </a:lnTo>
                <a:lnTo>
                  <a:pt x="340" y="111"/>
                </a:lnTo>
                <a:lnTo>
                  <a:pt x="334" y="115"/>
                </a:lnTo>
                <a:lnTo>
                  <a:pt x="326" y="119"/>
                </a:lnTo>
                <a:lnTo>
                  <a:pt x="318" y="123"/>
                </a:lnTo>
                <a:lnTo>
                  <a:pt x="309" y="124"/>
                </a:lnTo>
                <a:lnTo>
                  <a:pt x="299" y="128"/>
                </a:lnTo>
                <a:lnTo>
                  <a:pt x="290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40"/>
          <p:cNvSpPr/>
          <p:nvPr/>
        </p:nvSpPr>
        <p:spPr>
          <a:xfrm>
            <a:off x="5861160" y="3408480"/>
            <a:ext cx="276120" cy="147600"/>
          </a:xfrm>
          <a:custGeom>
            <a:avLst/>
            <a:gdLst/>
            <a:ahLst/>
            <a:rect l="l" t="t" r="r" b="b"/>
            <a:pathLst>
              <a:path w="350" h="186">
                <a:moveTo>
                  <a:pt x="0" y="67"/>
                </a:moveTo>
                <a:lnTo>
                  <a:pt x="21" y="65"/>
                </a:lnTo>
                <a:lnTo>
                  <a:pt x="45" y="63"/>
                </a:lnTo>
                <a:lnTo>
                  <a:pt x="69" y="61"/>
                </a:lnTo>
                <a:lnTo>
                  <a:pt x="93" y="57"/>
                </a:lnTo>
                <a:lnTo>
                  <a:pt x="117" y="52"/>
                </a:lnTo>
                <a:lnTo>
                  <a:pt x="140" y="44"/>
                </a:lnTo>
                <a:lnTo>
                  <a:pt x="164" y="36"/>
                </a:lnTo>
                <a:lnTo>
                  <a:pt x="187" y="27"/>
                </a:lnTo>
                <a:lnTo>
                  <a:pt x="206" y="21"/>
                </a:lnTo>
                <a:lnTo>
                  <a:pt x="227" y="17"/>
                </a:lnTo>
                <a:lnTo>
                  <a:pt x="244" y="13"/>
                </a:lnTo>
                <a:lnTo>
                  <a:pt x="254" y="11"/>
                </a:lnTo>
                <a:lnTo>
                  <a:pt x="261" y="9"/>
                </a:lnTo>
                <a:lnTo>
                  <a:pt x="267" y="7"/>
                </a:lnTo>
                <a:lnTo>
                  <a:pt x="275" y="6"/>
                </a:lnTo>
                <a:lnTo>
                  <a:pt x="281" y="4"/>
                </a:lnTo>
                <a:lnTo>
                  <a:pt x="286" y="2"/>
                </a:lnTo>
                <a:lnTo>
                  <a:pt x="292" y="2"/>
                </a:lnTo>
                <a:lnTo>
                  <a:pt x="296" y="2"/>
                </a:lnTo>
                <a:lnTo>
                  <a:pt x="298" y="0"/>
                </a:lnTo>
                <a:lnTo>
                  <a:pt x="302" y="0"/>
                </a:lnTo>
                <a:lnTo>
                  <a:pt x="306" y="2"/>
                </a:lnTo>
                <a:lnTo>
                  <a:pt x="311" y="4"/>
                </a:lnTo>
                <a:lnTo>
                  <a:pt x="315" y="7"/>
                </a:lnTo>
                <a:lnTo>
                  <a:pt x="321" y="11"/>
                </a:lnTo>
                <a:lnTo>
                  <a:pt x="323" y="15"/>
                </a:lnTo>
                <a:lnTo>
                  <a:pt x="327" y="19"/>
                </a:lnTo>
                <a:lnTo>
                  <a:pt x="329" y="23"/>
                </a:lnTo>
                <a:lnTo>
                  <a:pt x="332" y="29"/>
                </a:lnTo>
                <a:lnTo>
                  <a:pt x="336" y="34"/>
                </a:lnTo>
                <a:lnTo>
                  <a:pt x="340" y="40"/>
                </a:lnTo>
                <a:lnTo>
                  <a:pt x="344" y="46"/>
                </a:lnTo>
                <a:lnTo>
                  <a:pt x="348" y="54"/>
                </a:lnTo>
                <a:lnTo>
                  <a:pt x="350" y="61"/>
                </a:lnTo>
                <a:lnTo>
                  <a:pt x="350" y="69"/>
                </a:lnTo>
                <a:lnTo>
                  <a:pt x="350" y="75"/>
                </a:lnTo>
                <a:lnTo>
                  <a:pt x="350" y="82"/>
                </a:lnTo>
                <a:lnTo>
                  <a:pt x="348" y="90"/>
                </a:lnTo>
                <a:lnTo>
                  <a:pt x="346" y="96"/>
                </a:lnTo>
                <a:lnTo>
                  <a:pt x="344" y="103"/>
                </a:lnTo>
                <a:lnTo>
                  <a:pt x="338" y="109"/>
                </a:lnTo>
                <a:lnTo>
                  <a:pt x="334" y="115"/>
                </a:lnTo>
                <a:lnTo>
                  <a:pt x="329" y="121"/>
                </a:lnTo>
                <a:lnTo>
                  <a:pt x="323" y="126"/>
                </a:lnTo>
                <a:lnTo>
                  <a:pt x="315" y="130"/>
                </a:lnTo>
                <a:lnTo>
                  <a:pt x="307" y="136"/>
                </a:lnTo>
                <a:lnTo>
                  <a:pt x="298" y="140"/>
                </a:lnTo>
                <a:lnTo>
                  <a:pt x="288" y="144"/>
                </a:lnTo>
                <a:lnTo>
                  <a:pt x="279" y="146"/>
                </a:lnTo>
                <a:lnTo>
                  <a:pt x="267" y="151"/>
                </a:lnTo>
                <a:lnTo>
                  <a:pt x="256" y="155"/>
                </a:lnTo>
                <a:lnTo>
                  <a:pt x="242" y="159"/>
                </a:lnTo>
                <a:lnTo>
                  <a:pt x="229" y="163"/>
                </a:lnTo>
                <a:lnTo>
                  <a:pt x="213" y="167"/>
                </a:lnTo>
                <a:lnTo>
                  <a:pt x="198" y="171"/>
                </a:lnTo>
                <a:lnTo>
                  <a:pt x="183" y="173"/>
                </a:lnTo>
                <a:lnTo>
                  <a:pt x="165" y="176"/>
                </a:lnTo>
                <a:lnTo>
                  <a:pt x="148" y="178"/>
                </a:lnTo>
                <a:lnTo>
                  <a:pt x="129" y="180"/>
                </a:lnTo>
                <a:lnTo>
                  <a:pt x="110" y="182"/>
                </a:lnTo>
                <a:lnTo>
                  <a:pt x="89" y="182"/>
                </a:lnTo>
                <a:lnTo>
                  <a:pt x="68" y="184"/>
                </a:lnTo>
                <a:lnTo>
                  <a:pt x="46" y="184"/>
                </a:lnTo>
                <a:lnTo>
                  <a:pt x="23" y="184"/>
                </a:lnTo>
                <a:lnTo>
                  <a:pt x="0" y="186"/>
                </a:lnTo>
                <a:lnTo>
                  <a:pt x="0" y="126"/>
                </a:lnTo>
                <a:lnTo>
                  <a:pt x="0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41"/>
          <p:cNvSpPr/>
          <p:nvPr/>
        </p:nvSpPr>
        <p:spPr>
          <a:xfrm>
            <a:off x="5564160" y="2886120"/>
            <a:ext cx="932040" cy="264960"/>
          </a:xfrm>
          <a:custGeom>
            <a:avLst/>
            <a:gdLst/>
            <a:ahLst/>
            <a:rect l="l" t="t" r="r" b="b"/>
            <a:pathLst>
              <a:path w="1173" h="334">
                <a:moveTo>
                  <a:pt x="395" y="290"/>
                </a:moveTo>
                <a:lnTo>
                  <a:pt x="363" y="298"/>
                </a:lnTo>
                <a:lnTo>
                  <a:pt x="334" y="304"/>
                </a:lnTo>
                <a:lnTo>
                  <a:pt x="305" y="309"/>
                </a:lnTo>
                <a:lnTo>
                  <a:pt x="280" y="315"/>
                </a:lnTo>
                <a:lnTo>
                  <a:pt x="255" y="319"/>
                </a:lnTo>
                <a:lnTo>
                  <a:pt x="232" y="325"/>
                </a:lnTo>
                <a:lnTo>
                  <a:pt x="213" y="327"/>
                </a:lnTo>
                <a:lnTo>
                  <a:pt x="194" y="331"/>
                </a:lnTo>
                <a:lnTo>
                  <a:pt x="177" y="332"/>
                </a:lnTo>
                <a:lnTo>
                  <a:pt x="161" y="334"/>
                </a:lnTo>
                <a:lnTo>
                  <a:pt x="148" y="334"/>
                </a:lnTo>
                <a:lnTo>
                  <a:pt x="136" y="334"/>
                </a:lnTo>
                <a:lnTo>
                  <a:pt x="125" y="334"/>
                </a:lnTo>
                <a:lnTo>
                  <a:pt x="117" y="334"/>
                </a:lnTo>
                <a:lnTo>
                  <a:pt x="109" y="332"/>
                </a:lnTo>
                <a:lnTo>
                  <a:pt x="106" y="331"/>
                </a:lnTo>
                <a:lnTo>
                  <a:pt x="96" y="329"/>
                </a:lnTo>
                <a:lnTo>
                  <a:pt x="88" y="327"/>
                </a:lnTo>
                <a:lnTo>
                  <a:pt x="79" y="325"/>
                </a:lnTo>
                <a:lnTo>
                  <a:pt x="71" y="321"/>
                </a:lnTo>
                <a:lnTo>
                  <a:pt x="61" y="317"/>
                </a:lnTo>
                <a:lnTo>
                  <a:pt x="52" y="313"/>
                </a:lnTo>
                <a:lnTo>
                  <a:pt x="35" y="304"/>
                </a:lnTo>
                <a:lnTo>
                  <a:pt x="27" y="298"/>
                </a:lnTo>
                <a:lnTo>
                  <a:pt x="19" y="292"/>
                </a:lnTo>
                <a:lnTo>
                  <a:pt x="13" y="284"/>
                </a:lnTo>
                <a:lnTo>
                  <a:pt x="10" y="277"/>
                </a:lnTo>
                <a:lnTo>
                  <a:pt x="6" y="269"/>
                </a:lnTo>
                <a:lnTo>
                  <a:pt x="2" y="263"/>
                </a:lnTo>
                <a:lnTo>
                  <a:pt x="2" y="256"/>
                </a:lnTo>
                <a:lnTo>
                  <a:pt x="0" y="250"/>
                </a:lnTo>
                <a:lnTo>
                  <a:pt x="2" y="248"/>
                </a:lnTo>
                <a:lnTo>
                  <a:pt x="4" y="246"/>
                </a:lnTo>
                <a:lnTo>
                  <a:pt x="6" y="244"/>
                </a:lnTo>
                <a:lnTo>
                  <a:pt x="10" y="244"/>
                </a:lnTo>
                <a:lnTo>
                  <a:pt x="13" y="242"/>
                </a:lnTo>
                <a:lnTo>
                  <a:pt x="17" y="240"/>
                </a:lnTo>
                <a:lnTo>
                  <a:pt x="23" y="238"/>
                </a:lnTo>
                <a:lnTo>
                  <a:pt x="27" y="236"/>
                </a:lnTo>
                <a:lnTo>
                  <a:pt x="35" y="235"/>
                </a:lnTo>
                <a:lnTo>
                  <a:pt x="40" y="233"/>
                </a:lnTo>
                <a:lnTo>
                  <a:pt x="48" y="229"/>
                </a:lnTo>
                <a:lnTo>
                  <a:pt x="58" y="227"/>
                </a:lnTo>
                <a:lnTo>
                  <a:pt x="65" y="225"/>
                </a:lnTo>
                <a:lnTo>
                  <a:pt x="77" y="223"/>
                </a:lnTo>
                <a:lnTo>
                  <a:pt x="86" y="219"/>
                </a:lnTo>
                <a:lnTo>
                  <a:pt x="98" y="217"/>
                </a:lnTo>
                <a:lnTo>
                  <a:pt x="109" y="213"/>
                </a:lnTo>
                <a:lnTo>
                  <a:pt x="121" y="212"/>
                </a:lnTo>
                <a:lnTo>
                  <a:pt x="134" y="208"/>
                </a:lnTo>
                <a:lnTo>
                  <a:pt x="148" y="204"/>
                </a:lnTo>
                <a:lnTo>
                  <a:pt x="161" y="200"/>
                </a:lnTo>
                <a:lnTo>
                  <a:pt x="177" y="198"/>
                </a:lnTo>
                <a:lnTo>
                  <a:pt x="192" y="194"/>
                </a:lnTo>
                <a:lnTo>
                  <a:pt x="207" y="190"/>
                </a:lnTo>
                <a:lnTo>
                  <a:pt x="225" y="187"/>
                </a:lnTo>
                <a:lnTo>
                  <a:pt x="242" y="181"/>
                </a:lnTo>
                <a:lnTo>
                  <a:pt x="259" y="177"/>
                </a:lnTo>
                <a:lnTo>
                  <a:pt x="278" y="173"/>
                </a:lnTo>
                <a:lnTo>
                  <a:pt x="298" y="167"/>
                </a:lnTo>
                <a:lnTo>
                  <a:pt x="317" y="164"/>
                </a:lnTo>
                <a:lnTo>
                  <a:pt x="338" y="158"/>
                </a:lnTo>
                <a:lnTo>
                  <a:pt x="378" y="150"/>
                </a:lnTo>
                <a:lnTo>
                  <a:pt x="417" y="142"/>
                </a:lnTo>
                <a:lnTo>
                  <a:pt x="455" y="137"/>
                </a:lnTo>
                <a:lnTo>
                  <a:pt x="491" y="129"/>
                </a:lnTo>
                <a:lnTo>
                  <a:pt x="526" y="121"/>
                </a:lnTo>
                <a:lnTo>
                  <a:pt x="560" y="114"/>
                </a:lnTo>
                <a:lnTo>
                  <a:pt x="593" y="106"/>
                </a:lnTo>
                <a:lnTo>
                  <a:pt x="624" y="98"/>
                </a:lnTo>
                <a:lnTo>
                  <a:pt x="655" y="91"/>
                </a:lnTo>
                <a:lnTo>
                  <a:pt x="683" y="85"/>
                </a:lnTo>
                <a:lnTo>
                  <a:pt x="710" y="77"/>
                </a:lnTo>
                <a:lnTo>
                  <a:pt x="735" y="69"/>
                </a:lnTo>
                <a:lnTo>
                  <a:pt x="760" y="62"/>
                </a:lnTo>
                <a:lnTo>
                  <a:pt x="783" y="54"/>
                </a:lnTo>
                <a:lnTo>
                  <a:pt x="804" y="46"/>
                </a:lnTo>
                <a:lnTo>
                  <a:pt x="825" y="39"/>
                </a:lnTo>
                <a:lnTo>
                  <a:pt x="841" y="35"/>
                </a:lnTo>
                <a:lnTo>
                  <a:pt x="858" y="29"/>
                </a:lnTo>
                <a:lnTo>
                  <a:pt x="873" y="25"/>
                </a:lnTo>
                <a:lnTo>
                  <a:pt x="889" y="21"/>
                </a:lnTo>
                <a:lnTo>
                  <a:pt x="904" y="18"/>
                </a:lnTo>
                <a:lnTo>
                  <a:pt x="918" y="16"/>
                </a:lnTo>
                <a:lnTo>
                  <a:pt x="931" y="12"/>
                </a:lnTo>
                <a:lnTo>
                  <a:pt x="944" y="10"/>
                </a:lnTo>
                <a:lnTo>
                  <a:pt x="956" y="8"/>
                </a:lnTo>
                <a:lnTo>
                  <a:pt x="967" y="6"/>
                </a:lnTo>
                <a:lnTo>
                  <a:pt x="979" y="4"/>
                </a:lnTo>
                <a:lnTo>
                  <a:pt x="989" y="2"/>
                </a:lnTo>
                <a:lnTo>
                  <a:pt x="998" y="0"/>
                </a:lnTo>
                <a:lnTo>
                  <a:pt x="1008" y="0"/>
                </a:lnTo>
                <a:lnTo>
                  <a:pt x="1015" y="0"/>
                </a:lnTo>
                <a:lnTo>
                  <a:pt x="1021" y="0"/>
                </a:lnTo>
                <a:lnTo>
                  <a:pt x="1073" y="20"/>
                </a:lnTo>
                <a:lnTo>
                  <a:pt x="1127" y="39"/>
                </a:lnTo>
                <a:lnTo>
                  <a:pt x="1132" y="43"/>
                </a:lnTo>
                <a:lnTo>
                  <a:pt x="1138" y="45"/>
                </a:lnTo>
                <a:lnTo>
                  <a:pt x="1144" y="48"/>
                </a:lnTo>
                <a:lnTo>
                  <a:pt x="1148" y="52"/>
                </a:lnTo>
                <a:lnTo>
                  <a:pt x="1152" y="54"/>
                </a:lnTo>
                <a:lnTo>
                  <a:pt x="1156" y="58"/>
                </a:lnTo>
                <a:lnTo>
                  <a:pt x="1161" y="66"/>
                </a:lnTo>
                <a:lnTo>
                  <a:pt x="1167" y="73"/>
                </a:lnTo>
                <a:lnTo>
                  <a:pt x="1171" y="81"/>
                </a:lnTo>
                <a:lnTo>
                  <a:pt x="1171" y="87"/>
                </a:lnTo>
                <a:lnTo>
                  <a:pt x="1173" y="93"/>
                </a:lnTo>
                <a:lnTo>
                  <a:pt x="1171" y="96"/>
                </a:lnTo>
                <a:lnTo>
                  <a:pt x="1171" y="102"/>
                </a:lnTo>
                <a:lnTo>
                  <a:pt x="1167" y="108"/>
                </a:lnTo>
                <a:lnTo>
                  <a:pt x="1161" y="112"/>
                </a:lnTo>
                <a:lnTo>
                  <a:pt x="1156" y="117"/>
                </a:lnTo>
                <a:lnTo>
                  <a:pt x="1152" y="119"/>
                </a:lnTo>
                <a:lnTo>
                  <a:pt x="1148" y="121"/>
                </a:lnTo>
                <a:lnTo>
                  <a:pt x="1144" y="125"/>
                </a:lnTo>
                <a:lnTo>
                  <a:pt x="1138" y="127"/>
                </a:lnTo>
                <a:lnTo>
                  <a:pt x="1132" y="129"/>
                </a:lnTo>
                <a:lnTo>
                  <a:pt x="1127" y="133"/>
                </a:lnTo>
                <a:lnTo>
                  <a:pt x="1119" y="135"/>
                </a:lnTo>
                <a:lnTo>
                  <a:pt x="1111" y="137"/>
                </a:lnTo>
                <a:lnTo>
                  <a:pt x="1102" y="139"/>
                </a:lnTo>
                <a:lnTo>
                  <a:pt x="1090" y="142"/>
                </a:lnTo>
                <a:lnTo>
                  <a:pt x="1079" y="144"/>
                </a:lnTo>
                <a:lnTo>
                  <a:pt x="1067" y="148"/>
                </a:lnTo>
                <a:lnTo>
                  <a:pt x="1052" y="150"/>
                </a:lnTo>
                <a:lnTo>
                  <a:pt x="1037" y="154"/>
                </a:lnTo>
                <a:lnTo>
                  <a:pt x="1021" y="156"/>
                </a:lnTo>
                <a:lnTo>
                  <a:pt x="1004" y="160"/>
                </a:lnTo>
                <a:lnTo>
                  <a:pt x="985" y="164"/>
                </a:lnTo>
                <a:lnTo>
                  <a:pt x="964" y="167"/>
                </a:lnTo>
                <a:lnTo>
                  <a:pt x="942" y="171"/>
                </a:lnTo>
                <a:lnTo>
                  <a:pt x="919" y="175"/>
                </a:lnTo>
                <a:lnTo>
                  <a:pt x="896" y="179"/>
                </a:lnTo>
                <a:lnTo>
                  <a:pt x="871" y="185"/>
                </a:lnTo>
                <a:lnTo>
                  <a:pt x="814" y="200"/>
                </a:lnTo>
                <a:lnTo>
                  <a:pt x="758" y="213"/>
                </a:lnTo>
                <a:lnTo>
                  <a:pt x="701" y="225"/>
                </a:lnTo>
                <a:lnTo>
                  <a:pt x="641" y="238"/>
                </a:lnTo>
                <a:lnTo>
                  <a:pt x="582" y="250"/>
                </a:lnTo>
                <a:lnTo>
                  <a:pt x="522" y="263"/>
                </a:lnTo>
                <a:lnTo>
                  <a:pt x="459" y="275"/>
                </a:lnTo>
                <a:lnTo>
                  <a:pt x="428" y="283"/>
                </a:lnTo>
                <a:lnTo>
                  <a:pt x="395" y="2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萧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0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下部的中横稍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3"/>
          <p:cNvSpPr/>
          <p:nvPr/>
        </p:nvSpPr>
        <p:spPr>
          <a:xfrm>
            <a:off x="1982880" y="1868400"/>
            <a:ext cx="13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08"/>
          <p:cNvSpPr/>
          <p:nvPr/>
        </p:nvSpPr>
        <p:spPr>
          <a:xfrm>
            <a:off x="7056360" y="3921120"/>
            <a:ext cx="217440" cy="1109520"/>
          </a:xfrm>
          <a:custGeom>
            <a:avLst/>
            <a:gdLst/>
            <a:ahLst/>
            <a:rect l="l" t="t" r="r" b="b"/>
            <a:pathLst>
              <a:path w="275" h="1397">
                <a:moveTo>
                  <a:pt x="29" y="69"/>
                </a:moveTo>
                <a:lnTo>
                  <a:pt x="21" y="59"/>
                </a:lnTo>
                <a:lnTo>
                  <a:pt x="14" y="51"/>
                </a:lnTo>
                <a:lnTo>
                  <a:pt x="8" y="42"/>
                </a:lnTo>
                <a:lnTo>
                  <a:pt x="2" y="34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4" y="11"/>
                </a:lnTo>
                <a:lnTo>
                  <a:pt x="4" y="7"/>
                </a:lnTo>
                <a:lnTo>
                  <a:pt x="6" y="3"/>
                </a:lnTo>
                <a:lnTo>
                  <a:pt x="10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2" y="0"/>
                </a:lnTo>
                <a:lnTo>
                  <a:pt x="48" y="0"/>
                </a:lnTo>
                <a:lnTo>
                  <a:pt x="56" y="0"/>
                </a:lnTo>
                <a:lnTo>
                  <a:pt x="69" y="0"/>
                </a:lnTo>
                <a:lnTo>
                  <a:pt x="83" y="2"/>
                </a:lnTo>
                <a:lnTo>
                  <a:pt x="98" y="3"/>
                </a:lnTo>
                <a:lnTo>
                  <a:pt x="114" y="5"/>
                </a:lnTo>
                <a:lnTo>
                  <a:pt x="129" y="9"/>
                </a:lnTo>
                <a:lnTo>
                  <a:pt x="146" y="13"/>
                </a:lnTo>
                <a:lnTo>
                  <a:pt x="163" y="17"/>
                </a:lnTo>
                <a:lnTo>
                  <a:pt x="183" y="23"/>
                </a:lnTo>
                <a:lnTo>
                  <a:pt x="196" y="30"/>
                </a:lnTo>
                <a:lnTo>
                  <a:pt x="208" y="40"/>
                </a:lnTo>
                <a:lnTo>
                  <a:pt x="219" y="48"/>
                </a:lnTo>
                <a:lnTo>
                  <a:pt x="229" y="57"/>
                </a:lnTo>
                <a:lnTo>
                  <a:pt x="238" y="65"/>
                </a:lnTo>
                <a:lnTo>
                  <a:pt x="246" y="74"/>
                </a:lnTo>
                <a:lnTo>
                  <a:pt x="252" y="82"/>
                </a:lnTo>
                <a:lnTo>
                  <a:pt x="257" y="92"/>
                </a:lnTo>
                <a:lnTo>
                  <a:pt x="261" y="101"/>
                </a:lnTo>
                <a:lnTo>
                  <a:pt x="265" y="109"/>
                </a:lnTo>
                <a:lnTo>
                  <a:pt x="267" y="119"/>
                </a:lnTo>
                <a:lnTo>
                  <a:pt x="267" y="126"/>
                </a:lnTo>
                <a:lnTo>
                  <a:pt x="267" y="136"/>
                </a:lnTo>
                <a:lnTo>
                  <a:pt x="265" y="144"/>
                </a:lnTo>
                <a:lnTo>
                  <a:pt x="261" y="153"/>
                </a:lnTo>
                <a:lnTo>
                  <a:pt x="257" y="163"/>
                </a:lnTo>
                <a:lnTo>
                  <a:pt x="256" y="169"/>
                </a:lnTo>
                <a:lnTo>
                  <a:pt x="254" y="176"/>
                </a:lnTo>
                <a:lnTo>
                  <a:pt x="252" y="186"/>
                </a:lnTo>
                <a:lnTo>
                  <a:pt x="248" y="195"/>
                </a:lnTo>
                <a:lnTo>
                  <a:pt x="246" y="205"/>
                </a:lnTo>
                <a:lnTo>
                  <a:pt x="246" y="217"/>
                </a:lnTo>
                <a:lnTo>
                  <a:pt x="244" y="228"/>
                </a:lnTo>
                <a:lnTo>
                  <a:pt x="242" y="241"/>
                </a:lnTo>
                <a:lnTo>
                  <a:pt x="240" y="257"/>
                </a:lnTo>
                <a:lnTo>
                  <a:pt x="240" y="270"/>
                </a:lnTo>
                <a:lnTo>
                  <a:pt x="240" y="288"/>
                </a:lnTo>
                <a:lnTo>
                  <a:pt x="240" y="305"/>
                </a:lnTo>
                <a:lnTo>
                  <a:pt x="240" y="322"/>
                </a:lnTo>
                <a:lnTo>
                  <a:pt x="242" y="341"/>
                </a:lnTo>
                <a:lnTo>
                  <a:pt x="242" y="362"/>
                </a:lnTo>
                <a:lnTo>
                  <a:pt x="246" y="384"/>
                </a:lnTo>
                <a:lnTo>
                  <a:pt x="246" y="405"/>
                </a:lnTo>
                <a:lnTo>
                  <a:pt x="246" y="430"/>
                </a:lnTo>
                <a:lnTo>
                  <a:pt x="246" y="455"/>
                </a:lnTo>
                <a:lnTo>
                  <a:pt x="248" y="480"/>
                </a:lnTo>
                <a:lnTo>
                  <a:pt x="248" y="506"/>
                </a:lnTo>
                <a:lnTo>
                  <a:pt x="250" y="535"/>
                </a:lnTo>
                <a:lnTo>
                  <a:pt x="252" y="564"/>
                </a:lnTo>
                <a:lnTo>
                  <a:pt x="254" y="595"/>
                </a:lnTo>
                <a:lnTo>
                  <a:pt x="256" y="625"/>
                </a:lnTo>
                <a:lnTo>
                  <a:pt x="257" y="658"/>
                </a:lnTo>
                <a:lnTo>
                  <a:pt x="259" y="693"/>
                </a:lnTo>
                <a:lnTo>
                  <a:pt x="261" y="729"/>
                </a:lnTo>
                <a:lnTo>
                  <a:pt x="263" y="766"/>
                </a:lnTo>
                <a:lnTo>
                  <a:pt x="265" y="804"/>
                </a:lnTo>
                <a:lnTo>
                  <a:pt x="269" y="842"/>
                </a:lnTo>
                <a:lnTo>
                  <a:pt x="271" y="885"/>
                </a:lnTo>
                <a:lnTo>
                  <a:pt x="273" y="925"/>
                </a:lnTo>
                <a:lnTo>
                  <a:pt x="275" y="963"/>
                </a:lnTo>
                <a:lnTo>
                  <a:pt x="275" y="1000"/>
                </a:lnTo>
                <a:lnTo>
                  <a:pt x="275" y="1034"/>
                </a:lnTo>
                <a:lnTo>
                  <a:pt x="275" y="1067"/>
                </a:lnTo>
                <a:lnTo>
                  <a:pt x="275" y="1100"/>
                </a:lnTo>
                <a:lnTo>
                  <a:pt x="275" y="1128"/>
                </a:lnTo>
                <a:lnTo>
                  <a:pt x="273" y="1155"/>
                </a:lnTo>
                <a:lnTo>
                  <a:pt x="273" y="1180"/>
                </a:lnTo>
                <a:lnTo>
                  <a:pt x="271" y="1203"/>
                </a:lnTo>
                <a:lnTo>
                  <a:pt x="269" y="1224"/>
                </a:lnTo>
                <a:lnTo>
                  <a:pt x="267" y="1243"/>
                </a:lnTo>
                <a:lnTo>
                  <a:pt x="265" y="1263"/>
                </a:lnTo>
                <a:lnTo>
                  <a:pt x="261" y="1278"/>
                </a:lnTo>
                <a:lnTo>
                  <a:pt x="259" y="1291"/>
                </a:lnTo>
                <a:lnTo>
                  <a:pt x="257" y="1303"/>
                </a:lnTo>
                <a:lnTo>
                  <a:pt x="254" y="1315"/>
                </a:lnTo>
                <a:lnTo>
                  <a:pt x="248" y="1324"/>
                </a:lnTo>
                <a:lnTo>
                  <a:pt x="244" y="1334"/>
                </a:lnTo>
                <a:lnTo>
                  <a:pt x="240" y="1343"/>
                </a:lnTo>
                <a:lnTo>
                  <a:pt x="238" y="1351"/>
                </a:lnTo>
                <a:lnTo>
                  <a:pt x="234" y="1359"/>
                </a:lnTo>
                <a:lnTo>
                  <a:pt x="231" y="1366"/>
                </a:lnTo>
                <a:lnTo>
                  <a:pt x="229" y="1372"/>
                </a:lnTo>
                <a:lnTo>
                  <a:pt x="225" y="1378"/>
                </a:lnTo>
                <a:lnTo>
                  <a:pt x="223" y="1382"/>
                </a:lnTo>
                <a:lnTo>
                  <a:pt x="219" y="1387"/>
                </a:lnTo>
                <a:lnTo>
                  <a:pt x="217" y="1389"/>
                </a:lnTo>
                <a:lnTo>
                  <a:pt x="215" y="1393"/>
                </a:lnTo>
                <a:lnTo>
                  <a:pt x="211" y="1395"/>
                </a:lnTo>
                <a:lnTo>
                  <a:pt x="209" y="1397"/>
                </a:lnTo>
                <a:lnTo>
                  <a:pt x="208" y="1397"/>
                </a:lnTo>
                <a:lnTo>
                  <a:pt x="204" y="1397"/>
                </a:lnTo>
                <a:lnTo>
                  <a:pt x="202" y="1395"/>
                </a:lnTo>
                <a:lnTo>
                  <a:pt x="198" y="1393"/>
                </a:lnTo>
                <a:lnTo>
                  <a:pt x="194" y="1389"/>
                </a:lnTo>
                <a:lnTo>
                  <a:pt x="192" y="1387"/>
                </a:lnTo>
                <a:lnTo>
                  <a:pt x="186" y="1382"/>
                </a:lnTo>
                <a:lnTo>
                  <a:pt x="183" y="1378"/>
                </a:lnTo>
                <a:lnTo>
                  <a:pt x="179" y="1372"/>
                </a:lnTo>
                <a:lnTo>
                  <a:pt x="173" y="1366"/>
                </a:lnTo>
                <a:lnTo>
                  <a:pt x="167" y="1359"/>
                </a:lnTo>
                <a:lnTo>
                  <a:pt x="163" y="1351"/>
                </a:lnTo>
                <a:lnTo>
                  <a:pt x="158" y="1343"/>
                </a:lnTo>
                <a:lnTo>
                  <a:pt x="150" y="1334"/>
                </a:lnTo>
                <a:lnTo>
                  <a:pt x="144" y="1324"/>
                </a:lnTo>
                <a:lnTo>
                  <a:pt x="138" y="1315"/>
                </a:lnTo>
                <a:lnTo>
                  <a:pt x="131" y="1303"/>
                </a:lnTo>
                <a:lnTo>
                  <a:pt x="125" y="1291"/>
                </a:lnTo>
                <a:lnTo>
                  <a:pt x="119" y="1282"/>
                </a:lnTo>
                <a:lnTo>
                  <a:pt x="114" y="1270"/>
                </a:lnTo>
                <a:lnTo>
                  <a:pt x="110" y="1257"/>
                </a:lnTo>
                <a:lnTo>
                  <a:pt x="106" y="1245"/>
                </a:lnTo>
                <a:lnTo>
                  <a:pt x="104" y="1234"/>
                </a:lnTo>
                <a:lnTo>
                  <a:pt x="102" y="1220"/>
                </a:lnTo>
                <a:lnTo>
                  <a:pt x="100" y="1207"/>
                </a:lnTo>
                <a:lnTo>
                  <a:pt x="98" y="1194"/>
                </a:lnTo>
                <a:lnTo>
                  <a:pt x="98" y="1180"/>
                </a:lnTo>
                <a:lnTo>
                  <a:pt x="98" y="1167"/>
                </a:lnTo>
                <a:lnTo>
                  <a:pt x="100" y="1153"/>
                </a:lnTo>
                <a:lnTo>
                  <a:pt x="102" y="1124"/>
                </a:lnTo>
                <a:lnTo>
                  <a:pt x="106" y="1094"/>
                </a:lnTo>
                <a:lnTo>
                  <a:pt x="108" y="1084"/>
                </a:lnTo>
                <a:lnTo>
                  <a:pt x="108" y="1075"/>
                </a:lnTo>
                <a:lnTo>
                  <a:pt x="110" y="1065"/>
                </a:lnTo>
                <a:lnTo>
                  <a:pt x="110" y="1055"/>
                </a:lnTo>
                <a:lnTo>
                  <a:pt x="112" y="1044"/>
                </a:lnTo>
                <a:lnTo>
                  <a:pt x="112" y="1032"/>
                </a:lnTo>
                <a:lnTo>
                  <a:pt x="112" y="1021"/>
                </a:lnTo>
                <a:lnTo>
                  <a:pt x="114" y="1007"/>
                </a:lnTo>
                <a:lnTo>
                  <a:pt x="114" y="994"/>
                </a:lnTo>
                <a:lnTo>
                  <a:pt x="114" y="981"/>
                </a:lnTo>
                <a:lnTo>
                  <a:pt x="114" y="967"/>
                </a:lnTo>
                <a:lnTo>
                  <a:pt x="115" y="952"/>
                </a:lnTo>
                <a:lnTo>
                  <a:pt x="115" y="936"/>
                </a:lnTo>
                <a:lnTo>
                  <a:pt x="115" y="921"/>
                </a:lnTo>
                <a:lnTo>
                  <a:pt x="115" y="906"/>
                </a:lnTo>
                <a:lnTo>
                  <a:pt x="115" y="888"/>
                </a:lnTo>
                <a:lnTo>
                  <a:pt x="115" y="871"/>
                </a:lnTo>
                <a:lnTo>
                  <a:pt x="115" y="852"/>
                </a:lnTo>
                <a:lnTo>
                  <a:pt x="115" y="835"/>
                </a:lnTo>
                <a:lnTo>
                  <a:pt x="115" y="815"/>
                </a:lnTo>
                <a:lnTo>
                  <a:pt x="114" y="794"/>
                </a:lnTo>
                <a:lnTo>
                  <a:pt x="114" y="775"/>
                </a:lnTo>
                <a:lnTo>
                  <a:pt x="114" y="754"/>
                </a:lnTo>
                <a:lnTo>
                  <a:pt x="114" y="731"/>
                </a:lnTo>
                <a:lnTo>
                  <a:pt x="112" y="710"/>
                </a:lnTo>
                <a:lnTo>
                  <a:pt x="112" y="687"/>
                </a:lnTo>
                <a:lnTo>
                  <a:pt x="112" y="662"/>
                </a:lnTo>
                <a:lnTo>
                  <a:pt x="110" y="639"/>
                </a:lnTo>
                <a:lnTo>
                  <a:pt x="110" y="614"/>
                </a:lnTo>
                <a:lnTo>
                  <a:pt x="108" y="587"/>
                </a:lnTo>
                <a:lnTo>
                  <a:pt x="108" y="562"/>
                </a:lnTo>
                <a:lnTo>
                  <a:pt x="106" y="535"/>
                </a:lnTo>
                <a:lnTo>
                  <a:pt x="104" y="508"/>
                </a:lnTo>
                <a:lnTo>
                  <a:pt x="104" y="481"/>
                </a:lnTo>
                <a:lnTo>
                  <a:pt x="102" y="456"/>
                </a:lnTo>
                <a:lnTo>
                  <a:pt x="100" y="432"/>
                </a:lnTo>
                <a:lnTo>
                  <a:pt x="98" y="408"/>
                </a:lnTo>
                <a:lnTo>
                  <a:pt x="98" y="385"/>
                </a:lnTo>
                <a:lnTo>
                  <a:pt x="96" y="362"/>
                </a:lnTo>
                <a:lnTo>
                  <a:pt x="94" y="341"/>
                </a:lnTo>
                <a:lnTo>
                  <a:pt x="92" y="322"/>
                </a:lnTo>
                <a:lnTo>
                  <a:pt x="90" y="301"/>
                </a:lnTo>
                <a:lnTo>
                  <a:pt x="89" y="284"/>
                </a:lnTo>
                <a:lnTo>
                  <a:pt x="87" y="265"/>
                </a:lnTo>
                <a:lnTo>
                  <a:pt x="85" y="247"/>
                </a:lnTo>
                <a:lnTo>
                  <a:pt x="83" y="232"/>
                </a:lnTo>
                <a:lnTo>
                  <a:pt x="79" y="217"/>
                </a:lnTo>
                <a:lnTo>
                  <a:pt x="77" y="201"/>
                </a:lnTo>
                <a:lnTo>
                  <a:pt x="75" y="188"/>
                </a:lnTo>
                <a:lnTo>
                  <a:pt x="73" y="174"/>
                </a:lnTo>
                <a:lnTo>
                  <a:pt x="69" y="161"/>
                </a:lnTo>
                <a:lnTo>
                  <a:pt x="67" y="149"/>
                </a:lnTo>
                <a:lnTo>
                  <a:pt x="64" y="138"/>
                </a:lnTo>
                <a:lnTo>
                  <a:pt x="62" y="128"/>
                </a:lnTo>
                <a:lnTo>
                  <a:pt x="58" y="119"/>
                </a:lnTo>
                <a:lnTo>
                  <a:pt x="56" y="111"/>
                </a:lnTo>
                <a:lnTo>
                  <a:pt x="52" y="103"/>
                </a:lnTo>
                <a:lnTo>
                  <a:pt x="50" y="96"/>
                </a:lnTo>
                <a:lnTo>
                  <a:pt x="46" y="88"/>
                </a:lnTo>
                <a:lnTo>
                  <a:pt x="42" y="84"/>
                </a:lnTo>
                <a:lnTo>
                  <a:pt x="41" y="78"/>
                </a:lnTo>
                <a:lnTo>
                  <a:pt x="37" y="74"/>
                </a:lnTo>
                <a:lnTo>
                  <a:pt x="33" y="71"/>
                </a:lnTo>
                <a:lnTo>
                  <a:pt x="29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09"/>
          <p:cNvSpPr/>
          <p:nvPr/>
        </p:nvSpPr>
        <p:spPr>
          <a:xfrm>
            <a:off x="6718320" y="4141800"/>
            <a:ext cx="303120" cy="369720"/>
          </a:xfrm>
          <a:custGeom>
            <a:avLst/>
            <a:gdLst/>
            <a:ahLst/>
            <a:rect l="l" t="t" r="r" b="b"/>
            <a:pathLst>
              <a:path w="382" h="466">
                <a:moveTo>
                  <a:pt x="253" y="117"/>
                </a:moveTo>
                <a:lnTo>
                  <a:pt x="269" y="132"/>
                </a:lnTo>
                <a:lnTo>
                  <a:pt x="284" y="148"/>
                </a:lnTo>
                <a:lnTo>
                  <a:pt x="298" y="161"/>
                </a:lnTo>
                <a:lnTo>
                  <a:pt x="311" y="177"/>
                </a:lnTo>
                <a:lnTo>
                  <a:pt x="324" y="190"/>
                </a:lnTo>
                <a:lnTo>
                  <a:pt x="334" y="205"/>
                </a:lnTo>
                <a:lnTo>
                  <a:pt x="346" y="219"/>
                </a:lnTo>
                <a:lnTo>
                  <a:pt x="353" y="234"/>
                </a:lnTo>
                <a:lnTo>
                  <a:pt x="361" y="248"/>
                </a:lnTo>
                <a:lnTo>
                  <a:pt x="369" y="261"/>
                </a:lnTo>
                <a:lnTo>
                  <a:pt x="374" y="276"/>
                </a:lnTo>
                <a:lnTo>
                  <a:pt x="378" y="290"/>
                </a:lnTo>
                <a:lnTo>
                  <a:pt x="380" y="305"/>
                </a:lnTo>
                <a:lnTo>
                  <a:pt x="382" y="321"/>
                </a:lnTo>
                <a:lnTo>
                  <a:pt x="382" y="334"/>
                </a:lnTo>
                <a:lnTo>
                  <a:pt x="380" y="349"/>
                </a:lnTo>
                <a:lnTo>
                  <a:pt x="376" y="365"/>
                </a:lnTo>
                <a:lnTo>
                  <a:pt x="374" y="378"/>
                </a:lnTo>
                <a:lnTo>
                  <a:pt x="371" y="392"/>
                </a:lnTo>
                <a:lnTo>
                  <a:pt x="369" y="403"/>
                </a:lnTo>
                <a:lnTo>
                  <a:pt x="365" y="413"/>
                </a:lnTo>
                <a:lnTo>
                  <a:pt x="361" y="422"/>
                </a:lnTo>
                <a:lnTo>
                  <a:pt x="357" y="432"/>
                </a:lnTo>
                <a:lnTo>
                  <a:pt x="355" y="438"/>
                </a:lnTo>
                <a:lnTo>
                  <a:pt x="351" y="445"/>
                </a:lnTo>
                <a:lnTo>
                  <a:pt x="348" y="451"/>
                </a:lnTo>
                <a:lnTo>
                  <a:pt x="344" y="455"/>
                </a:lnTo>
                <a:lnTo>
                  <a:pt x="340" y="459"/>
                </a:lnTo>
                <a:lnTo>
                  <a:pt x="338" y="463"/>
                </a:lnTo>
                <a:lnTo>
                  <a:pt x="334" y="464"/>
                </a:lnTo>
                <a:lnTo>
                  <a:pt x="332" y="466"/>
                </a:lnTo>
                <a:lnTo>
                  <a:pt x="328" y="466"/>
                </a:lnTo>
                <a:lnTo>
                  <a:pt x="326" y="464"/>
                </a:lnTo>
                <a:lnTo>
                  <a:pt x="323" y="463"/>
                </a:lnTo>
                <a:lnTo>
                  <a:pt x="317" y="459"/>
                </a:lnTo>
                <a:lnTo>
                  <a:pt x="309" y="453"/>
                </a:lnTo>
                <a:lnTo>
                  <a:pt x="301" y="445"/>
                </a:lnTo>
                <a:lnTo>
                  <a:pt x="294" y="436"/>
                </a:lnTo>
                <a:lnTo>
                  <a:pt x="284" y="426"/>
                </a:lnTo>
                <a:lnTo>
                  <a:pt x="273" y="413"/>
                </a:lnTo>
                <a:lnTo>
                  <a:pt x="261" y="397"/>
                </a:lnTo>
                <a:lnTo>
                  <a:pt x="248" y="382"/>
                </a:lnTo>
                <a:lnTo>
                  <a:pt x="234" y="363"/>
                </a:lnTo>
                <a:lnTo>
                  <a:pt x="219" y="344"/>
                </a:lnTo>
                <a:lnTo>
                  <a:pt x="204" y="322"/>
                </a:lnTo>
                <a:lnTo>
                  <a:pt x="196" y="311"/>
                </a:lnTo>
                <a:lnTo>
                  <a:pt x="186" y="297"/>
                </a:lnTo>
                <a:lnTo>
                  <a:pt x="179" y="286"/>
                </a:lnTo>
                <a:lnTo>
                  <a:pt x="169" y="273"/>
                </a:lnTo>
                <a:lnTo>
                  <a:pt x="161" y="259"/>
                </a:lnTo>
                <a:lnTo>
                  <a:pt x="152" y="246"/>
                </a:lnTo>
                <a:lnTo>
                  <a:pt x="132" y="219"/>
                </a:lnTo>
                <a:lnTo>
                  <a:pt x="115" y="196"/>
                </a:lnTo>
                <a:lnTo>
                  <a:pt x="100" y="173"/>
                </a:lnTo>
                <a:lnTo>
                  <a:pt x="85" y="152"/>
                </a:lnTo>
                <a:lnTo>
                  <a:pt x="71" y="130"/>
                </a:lnTo>
                <a:lnTo>
                  <a:pt x="60" y="113"/>
                </a:lnTo>
                <a:lnTo>
                  <a:pt x="48" y="96"/>
                </a:lnTo>
                <a:lnTo>
                  <a:pt x="38" y="81"/>
                </a:lnTo>
                <a:lnTo>
                  <a:pt x="29" y="65"/>
                </a:lnTo>
                <a:lnTo>
                  <a:pt x="21" y="54"/>
                </a:lnTo>
                <a:lnTo>
                  <a:pt x="13" y="42"/>
                </a:lnTo>
                <a:lnTo>
                  <a:pt x="10" y="33"/>
                </a:lnTo>
                <a:lnTo>
                  <a:pt x="4" y="25"/>
                </a:lnTo>
                <a:lnTo>
                  <a:pt x="2" y="19"/>
                </a:lnTo>
                <a:lnTo>
                  <a:pt x="0" y="15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4" y="6"/>
                </a:lnTo>
                <a:lnTo>
                  <a:pt x="6" y="4"/>
                </a:lnTo>
                <a:lnTo>
                  <a:pt x="10" y="4"/>
                </a:lnTo>
                <a:lnTo>
                  <a:pt x="13" y="2"/>
                </a:lnTo>
                <a:lnTo>
                  <a:pt x="17" y="2"/>
                </a:lnTo>
                <a:lnTo>
                  <a:pt x="25" y="0"/>
                </a:lnTo>
                <a:lnTo>
                  <a:pt x="37" y="0"/>
                </a:lnTo>
                <a:lnTo>
                  <a:pt x="50" y="0"/>
                </a:lnTo>
                <a:lnTo>
                  <a:pt x="63" y="0"/>
                </a:lnTo>
                <a:lnTo>
                  <a:pt x="71" y="0"/>
                </a:lnTo>
                <a:lnTo>
                  <a:pt x="79" y="2"/>
                </a:lnTo>
                <a:lnTo>
                  <a:pt x="86" y="4"/>
                </a:lnTo>
                <a:lnTo>
                  <a:pt x="96" y="6"/>
                </a:lnTo>
                <a:lnTo>
                  <a:pt x="106" y="10"/>
                </a:lnTo>
                <a:lnTo>
                  <a:pt x="117" y="15"/>
                </a:lnTo>
                <a:lnTo>
                  <a:pt x="127" y="21"/>
                </a:lnTo>
                <a:lnTo>
                  <a:pt x="140" y="27"/>
                </a:lnTo>
                <a:lnTo>
                  <a:pt x="152" y="35"/>
                </a:lnTo>
                <a:lnTo>
                  <a:pt x="165" y="44"/>
                </a:lnTo>
                <a:lnTo>
                  <a:pt x="179" y="54"/>
                </a:lnTo>
                <a:lnTo>
                  <a:pt x="192" y="63"/>
                </a:lnTo>
                <a:lnTo>
                  <a:pt x="205" y="75"/>
                </a:lnTo>
                <a:lnTo>
                  <a:pt x="221" y="88"/>
                </a:lnTo>
                <a:lnTo>
                  <a:pt x="236" y="102"/>
                </a:lnTo>
                <a:lnTo>
                  <a:pt x="253" y="1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10"/>
          <p:cNvSpPr/>
          <p:nvPr/>
        </p:nvSpPr>
        <p:spPr>
          <a:xfrm>
            <a:off x="6059520" y="4137120"/>
            <a:ext cx="336600" cy="588960"/>
          </a:xfrm>
          <a:custGeom>
            <a:avLst/>
            <a:gdLst/>
            <a:ahLst/>
            <a:rect l="l" t="t" r="r" b="b"/>
            <a:pathLst>
              <a:path w="422" h="741">
                <a:moveTo>
                  <a:pt x="5" y="741"/>
                </a:moveTo>
                <a:lnTo>
                  <a:pt x="2" y="737"/>
                </a:lnTo>
                <a:lnTo>
                  <a:pt x="2" y="735"/>
                </a:lnTo>
                <a:lnTo>
                  <a:pt x="0" y="732"/>
                </a:lnTo>
                <a:lnTo>
                  <a:pt x="0" y="728"/>
                </a:lnTo>
                <a:lnTo>
                  <a:pt x="0" y="722"/>
                </a:lnTo>
                <a:lnTo>
                  <a:pt x="2" y="716"/>
                </a:lnTo>
                <a:lnTo>
                  <a:pt x="3" y="712"/>
                </a:lnTo>
                <a:lnTo>
                  <a:pt x="5" y="705"/>
                </a:lnTo>
                <a:lnTo>
                  <a:pt x="7" y="699"/>
                </a:lnTo>
                <a:lnTo>
                  <a:pt x="11" y="691"/>
                </a:lnTo>
                <a:lnTo>
                  <a:pt x="15" y="684"/>
                </a:lnTo>
                <a:lnTo>
                  <a:pt x="19" y="674"/>
                </a:lnTo>
                <a:lnTo>
                  <a:pt x="25" y="666"/>
                </a:lnTo>
                <a:lnTo>
                  <a:pt x="30" y="657"/>
                </a:lnTo>
                <a:lnTo>
                  <a:pt x="36" y="645"/>
                </a:lnTo>
                <a:lnTo>
                  <a:pt x="42" y="636"/>
                </a:lnTo>
                <a:lnTo>
                  <a:pt x="57" y="613"/>
                </a:lnTo>
                <a:lnTo>
                  <a:pt x="73" y="589"/>
                </a:lnTo>
                <a:lnTo>
                  <a:pt x="90" y="565"/>
                </a:lnTo>
                <a:lnTo>
                  <a:pt x="105" y="540"/>
                </a:lnTo>
                <a:lnTo>
                  <a:pt x="123" y="513"/>
                </a:lnTo>
                <a:lnTo>
                  <a:pt x="138" y="484"/>
                </a:lnTo>
                <a:lnTo>
                  <a:pt x="155" y="455"/>
                </a:lnTo>
                <a:lnTo>
                  <a:pt x="169" y="426"/>
                </a:lnTo>
                <a:lnTo>
                  <a:pt x="182" y="396"/>
                </a:lnTo>
                <a:lnTo>
                  <a:pt x="195" y="367"/>
                </a:lnTo>
                <a:lnTo>
                  <a:pt x="207" y="338"/>
                </a:lnTo>
                <a:lnTo>
                  <a:pt x="217" y="311"/>
                </a:lnTo>
                <a:lnTo>
                  <a:pt x="226" y="284"/>
                </a:lnTo>
                <a:lnTo>
                  <a:pt x="234" y="257"/>
                </a:lnTo>
                <a:lnTo>
                  <a:pt x="240" y="231"/>
                </a:lnTo>
                <a:lnTo>
                  <a:pt x="245" y="204"/>
                </a:lnTo>
                <a:lnTo>
                  <a:pt x="247" y="194"/>
                </a:lnTo>
                <a:lnTo>
                  <a:pt x="249" y="183"/>
                </a:lnTo>
                <a:lnTo>
                  <a:pt x="249" y="173"/>
                </a:lnTo>
                <a:lnTo>
                  <a:pt x="251" y="163"/>
                </a:lnTo>
                <a:lnTo>
                  <a:pt x="249" y="144"/>
                </a:lnTo>
                <a:lnTo>
                  <a:pt x="249" y="127"/>
                </a:lnTo>
                <a:lnTo>
                  <a:pt x="245" y="112"/>
                </a:lnTo>
                <a:lnTo>
                  <a:pt x="242" y="98"/>
                </a:lnTo>
                <a:lnTo>
                  <a:pt x="240" y="92"/>
                </a:lnTo>
                <a:lnTo>
                  <a:pt x="238" y="87"/>
                </a:lnTo>
                <a:lnTo>
                  <a:pt x="234" y="81"/>
                </a:lnTo>
                <a:lnTo>
                  <a:pt x="232" y="77"/>
                </a:lnTo>
                <a:lnTo>
                  <a:pt x="228" y="73"/>
                </a:lnTo>
                <a:lnTo>
                  <a:pt x="224" y="71"/>
                </a:lnTo>
                <a:lnTo>
                  <a:pt x="220" y="67"/>
                </a:lnTo>
                <a:lnTo>
                  <a:pt x="219" y="65"/>
                </a:lnTo>
                <a:lnTo>
                  <a:pt x="217" y="62"/>
                </a:lnTo>
                <a:lnTo>
                  <a:pt x="215" y="58"/>
                </a:lnTo>
                <a:lnTo>
                  <a:pt x="213" y="52"/>
                </a:lnTo>
                <a:lnTo>
                  <a:pt x="213" y="42"/>
                </a:lnTo>
                <a:lnTo>
                  <a:pt x="213" y="35"/>
                </a:lnTo>
                <a:lnTo>
                  <a:pt x="217" y="27"/>
                </a:lnTo>
                <a:lnTo>
                  <a:pt x="220" y="17"/>
                </a:lnTo>
                <a:lnTo>
                  <a:pt x="222" y="14"/>
                </a:lnTo>
                <a:lnTo>
                  <a:pt x="226" y="10"/>
                </a:lnTo>
                <a:lnTo>
                  <a:pt x="230" y="8"/>
                </a:lnTo>
                <a:lnTo>
                  <a:pt x="234" y="4"/>
                </a:lnTo>
                <a:lnTo>
                  <a:pt x="240" y="2"/>
                </a:lnTo>
                <a:lnTo>
                  <a:pt x="245" y="2"/>
                </a:lnTo>
                <a:lnTo>
                  <a:pt x="251" y="0"/>
                </a:lnTo>
                <a:lnTo>
                  <a:pt x="259" y="0"/>
                </a:lnTo>
                <a:lnTo>
                  <a:pt x="265" y="0"/>
                </a:lnTo>
                <a:lnTo>
                  <a:pt x="274" y="2"/>
                </a:lnTo>
                <a:lnTo>
                  <a:pt x="282" y="2"/>
                </a:lnTo>
                <a:lnTo>
                  <a:pt x="291" y="4"/>
                </a:lnTo>
                <a:lnTo>
                  <a:pt x="301" y="8"/>
                </a:lnTo>
                <a:lnTo>
                  <a:pt x="313" y="10"/>
                </a:lnTo>
                <a:lnTo>
                  <a:pt x="322" y="14"/>
                </a:lnTo>
                <a:lnTo>
                  <a:pt x="334" y="17"/>
                </a:lnTo>
                <a:lnTo>
                  <a:pt x="343" y="23"/>
                </a:lnTo>
                <a:lnTo>
                  <a:pt x="353" y="27"/>
                </a:lnTo>
                <a:lnTo>
                  <a:pt x="361" y="31"/>
                </a:lnTo>
                <a:lnTo>
                  <a:pt x="368" y="35"/>
                </a:lnTo>
                <a:lnTo>
                  <a:pt x="374" y="41"/>
                </a:lnTo>
                <a:lnTo>
                  <a:pt x="382" y="44"/>
                </a:lnTo>
                <a:lnTo>
                  <a:pt x="393" y="52"/>
                </a:lnTo>
                <a:lnTo>
                  <a:pt x="403" y="62"/>
                </a:lnTo>
                <a:lnTo>
                  <a:pt x="411" y="69"/>
                </a:lnTo>
                <a:lnTo>
                  <a:pt x="418" y="79"/>
                </a:lnTo>
                <a:lnTo>
                  <a:pt x="422" y="89"/>
                </a:lnTo>
                <a:lnTo>
                  <a:pt x="422" y="92"/>
                </a:lnTo>
                <a:lnTo>
                  <a:pt x="422" y="98"/>
                </a:lnTo>
                <a:lnTo>
                  <a:pt x="420" y="106"/>
                </a:lnTo>
                <a:lnTo>
                  <a:pt x="418" y="113"/>
                </a:lnTo>
                <a:lnTo>
                  <a:pt x="416" y="123"/>
                </a:lnTo>
                <a:lnTo>
                  <a:pt x="412" y="133"/>
                </a:lnTo>
                <a:lnTo>
                  <a:pt x="409" y="144"/>
                </a:lnTo>
                <a:lnTo>
                  <a:pt x="405" y="158"/>
                </a:lnTo>
                <a:lnTo>
                  <a:pt x="401" y="171"/>
                </a:lnTo>
                <a:lnTo>
                  <a:pt x="395" y="186"/>
                </a:lnTo>
                <a:lnTo>
                  <a:pt x="391" y="202"/>
                </a:lnTo>
                <a:lnTo>
                  <a:pt x="386" y="219"/>
                </a:lnTo>
                <a:lnTo>
                  <a:pt x="380" y="236"/>
                </a:lnTo>
                <a:lnTo>
                  <a:pt x="372" y="256"/>
                </a:lnTo>
                <a:lnTo>
                  <a:pt x="366" y="277"/>
                </a:lnTo>
                <a:lnTo>
                  <a:pt x="359" y="298"/>
                </a:lnTo>
                <a:lnTo>
                  <a:pt x="351" y="321"/>
                </a:lnTo>
                <a:lnTo>
                  <a:pt x="343" y="344"/>
                </a:lnTo>
                <a:lnTo>
                  <a:pt x="336" y="367"/>
                </a:lnTo>
                <a:lnTo>
                  <a:pt x="326" y="390"/>
                </a:lnTo>
                <a:lnTo>
                  <a:pt x="316" y="411"/>
                </a:lnTo>
                <a:lnTo>
                  <a:pt x="307" y="432"/>
                </a:lnTo>
                <a:lnTo>
                  <a:pt x="295" y="451"/>
                </a:lnTo>
                <a:lnTo>
                  <a:pt x="284" y="472"/>
                </a:lnTo>
                <a:lnTo>
                  <a:pt x="270" y="492"/>
                </a:lnTo>
                <a:lnTo>
                  <a:pt x="259" y="511"/>
                </a:lnTo>
                <a:lnTo>
                  <a:pt x="245" y="528"/>
                </a:lnTo>
                <a:lnTo>
                  <a:pt x="230" y="545"/>
                </a:lnTo>
                <a:lnTo>
                  <a:pt x="217" y="563"/>
                </a:lnTo>
                <a:lnTo>
                  <a:pt x="201" y="580"/>
                </a:lnTo>
                <a:lnTo>
                  <a:pt x="186" y="597"/>
                </a:lnTo>
                <a:lnTo>
                  <a:pt x="169" y="613"/>
                </a:lnTo>
                <a:lnTo>
                  <a:pt x="153" y="630"/>
                </a:lnTo>
                <a:lnTo>
                  <a:pt x="138" y="645"/>
                </a:lnTo>
                <a:lnTo>
                  <a:pt x="123" y="661"/>
                </a:lnTo>
                <a:lnTo>
                  <a:pt x="107" y="674"/>
                </a:lnTo>
                <a:lnTo>
                  <a:pt x="94" y="685"/>
                </a:lnTo>
                <a:lnTo>
                  <a:pt x="82" y="697"/>
                </a:lnTo>
                <a:lnTo>
                  <a:pt x="69" y="707"/>
                </a:lnTo>
                <a:lnTo>
                  <a:pt x="59" y="716"/>
                </a:lnTo>
                <a:lnTo>
                  <a:pt x="48" y="724"/>
                </a:lnTo>
                <a:lnTo>
                  <a:pt x="38" y="730"/>
                </a:lnTo>
                <a:lnTo>
                  <a:pt x="30" y="735"/>
                </a:lnTo>
                <a:lnTo>
                  <a:pt x="23" y="739"/>
                </a:lnTo>
                <a:lnTo>
                  <a:pt x="17" y="741"/>
                </a:lnTo>
                <a:lnTo>
                  <a:pt x="11" y="741"/>
                </a:lnTo>
                <a:lnTo>
                  <a:pt x="7" y="741"/>
                </a:lnTo>
                <a:lnTo>
                  <a:pt x="5" y="7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11"/>
          <p:cNvSpPr/>
          <p:nvPr/>
        </p:nvSpPr>
        <p:spPr>
          <a:xfrm>
            <a:off x="5580000" y="3998880"/>
            <a:ext cx="488880" cy="968400"/>
          </a:xfrm>
          <a:custGeom>
            <a:avLst/>
            <a:gdLst/>
            <a:ahLst/>
            <a:rect l="l" t="t" r="r" b="b"/>
            <a:pathLst>
              <a:path w="616" h="1220">
                <a:moveTo>
                  <a:pt x="393" y="879"/>
                </a:moveTo>
                <a:lnTo>
                  <a:pt x="378" y="904"/>
                </a:lnTo>
                <a:lnTo>
                  <a:pt x="361" y="925"/>
                </a:lnTo>
                <a:lnTo>
                  <a:pt x="345" y="946"/>
                </a:lnTo>
                <a:lnTo>
                  <a:pt x="330" y="967"/>
                </a:lnTo>
                <a:lnTo>
                  <a:pt x="315" y="986"/>
                </a:lnTo>
                <a:lnTo>
                  <a:pt x="299" y="1005"/>
                </a:lnTo>
                <a:lnTo>
                  <a:pt x="284" y="1023"/>
                </a:lnTo>
                <a:lnTo>
                  <a:pt x="267" y="1040"/>
                </a:lnTo>
                <a:lnTo>
                  <a:pt x="251" y="1055"/>
                </a:lnTo>
                <a:lnTo>
                  <a:pt x="236" y="1071"/>
                </a:lnTo>
                <a:lnTo>
                  <a:pt x="221" y="1084"/>
                </a:lnTo>
                <a:lnTo>
                  <a:pt x="205" y="1097"/>
                </a:lnTo>
                <a:lnTo>
                  <a:pt x="190" y="1111"/>
                </a:lnTo>
                <a:lnTo>
                  <a:pt x="173" y="1124"/>
                </a:lnTo>
                <a:lnTo>
                  <a:pt x="157" y="1136"/>
                </a:lnTo>
                <a:lnTo>
                  <a:pt x="140" y="1147"/>
                </a:lnTo>
                <a:lnTo>
                  <a:pt x="125" y="1157"/>
                </a:lnTo>
                <a:lnTo>
                  <a:pt x="109" y="1167"/>
                </a:lnTo>
                <a:lnTo>
                  <a:pt x="96" y="1176"/>
                </a:lnTo>
                <a:lnTo>
                  <a:pt x="82" y="1184"/>
                </a:lnTo>
                <a:lnTo>
                  <a:pt x="71" y="1192"/>
                </a:lnTo>
                <a:lnTo>
                  <a:pt x="61" y="1197"/>
                </a:lnTo>
                <a:lnTo>
                  <a:pt x="52" y="1203"/>
                </a:lnTo>
                <a:lnTo>
                  <a:pt x="42" y="1209"/>
                </a:lnTo>
                <a:lnTo>
                  <a:pt x="34" y="1213"/>
                </a:lnTo>
                <a:lnTo>
                  <a:pt x="27" y="1217"/>
                </a:lnTo>
                <a:lnTo>
                  <a:pt x="21" y="1218"/>
                </a:lnTo>
                <a:lnTo>
                  <a:pt x="15" y="1220"/>
                </a:lnTo>
                <a:lnTo>
                  <a:pt x="11" y="1220"/>
                </a:lnTo>
                <a:lnTo>
                  <a:pt x="8" y="1220"/>
                </a:lnTo>
                <a:lnTo>
                  <a:pt x="4" y="1218"/>
                </a:lnTo>
                <a:lnTo>
                  <a:pt x="2" y="1217"/>
                </a:lnTo>
                <a:lnTo>
                  <a:pt x="0" y="1215"/>
                </a:lnTo>
                <a:lnTo>
                  <a:pt x="0" y="1211"/>
                </a:lnTo>
                <a:lnTo>
                  <a:pt x="0" y="1205"/>
                </a:lnTo>
                <a:lnTo>
                  <a:pt x="2" y="1199"/>
                </a:lnTo>
                <a:lnTo>
                  <a:pt x="4" y="1193"/>
                </a:lnTo>
                <a:lnTo>
                  <a:pt x="8" y="1186"/>
                </a:lnTo>
                <a:lnTo>
                  <a:pt x="13" y="1176"/>
                </a:lnTo>
                <a:lnTo>
                  <a:pt x="21" y="1167"/>
                </a:lnTo>
                <a:lnTo>
                  <a:pt x="29" y="1155"/>
                </a:lnTo>
                <a:lnTo>
                  <a:pt x="36" y="1144"/>
                </a:lnTo>
                <a:lnTo>
                  <a:pt x="48" y="1130"/>
                </a:lnTo>
                <a:lnTo>
                  <a:pt x="59" y="1117"/>
                </a:lnTo>
                <a:lnTo>
                  <a:pt x="71" y="1103"/>
                </a:lnTo>
                <a:lnTo>
                  <a:pt x="84" y="1088"/>
                </a:lnTo>
                <a:lnTo>
                  <a:pt x="100" y="1071"/>
                </a:lnTo>
                <a:lnTo>
                  <a:pt x="115" y="1053"/>
                </a:lnTo>
                <a:lnTo>
                  <a:pt x="130" y="1034"/>
                </a:lnTo>
                <a:lnTo>
                  <a:pt x="148" y="1015"/>
                </a:lnTo>
                <a:lnTo>
                  <a:pt x="177" y="975"/>
                </a:lnTo>
                <a:lnTo>
                  <a:pt x="205" y="934"/>
                </a:lnTo>
                <a:lnTo>
                  <a:pt x="232" y="894"/>
                </a:lnTo>
                <a:lnTo>
                  <a:pt x="259" y="852"/>
                </a:lnTo>
                <a:lnTo>
                  <a:pt x="282" y="808"/>
                </a:lnTo>
                <a:lnTo>
                  <a:pt x="296" y="787"/>
                </a:lnTo>
                <a:lnTo>
                  <a:pt x="307" y="763"/>
                </a:lnTo>
                <a:lnTo>
                  <a:pt x="319" y="740"/>
                </a:lnTo>
                <a:lnTo>
                  <a:pt x="330" y="716"/>
                </a:lnTo>
                <a:lnTo>
                  <a:pt x="349" y="671"/>
                </a:lnTo>
                <a:lnTo>
                  <a:pt x="367" y="625"/>
                </a:lnTo>
                <a:lnTo>
                  <a:pt x="382" y="579"/>
                </a:lnTo>
                <a:lnTo>
                  <a:pt x="395" y="531"/>
                </a:lnTo>
                <a:lnTo>
                  <a:pt x="401" y="506"/>
                </a:lnTo>
                <a:lnTo>
                  <a:pt x="407" y="481"/>
                </a:lnTo>
                <a:lnTo>
                  <a:pt x="413" y="456"/>
                </a:lnTo>
                <a:lnTo>
                  <a:pt x="418" y="430"/>
                </a:lnTo>
                <a:lnTo>
                  <a:pt x="422" y="403"/>
                </a:lnTo>
                <a:lnTo>
                  <a:pt x="426" y="376"/>
                </a:lnTo>
                <a:lnTo>
                  <a:pt x="430" y="349"/>
                </a:lnTo>
                <a:lnTo>
                  <a:pt x="432" y="320"/>
                </a:lnTo>
                <a:lnTo>
                  <a:pt x="434" y="293"/>
                </a:lnTo>
                <a:lnTo>
                  <a:pt x="436" y="266"/>
                </a:lnTo>
                <a:lnTo>
                  <a:pt x="436" y="241"/>
                </a:lnTo>
                <a:lnTo>
                  <a:pt x="438" y="220"/>
                </a:lnTo>
                <a:lnTo>
                  <a:pt x="438" y="199"/>
                </a:lnTo>
                <a:lnTo>
                  <a:pt x="438" y="180"/>
                </a:lnTo>
                <a:lnTo>
                  <a:pt x="436" y="161"/>
                </a:lnTo>
                <a:lnTo>
                  <a:pt x="436" y="145"/>
                </a:lnTo>
                <a:lnTo>
                  <a:pt x="434" y="130"/>
                </a:lnTo>
                <a:lnTo>
                  <a:pt x="432" y="119"/>
                </a:lnTo>
                <a:lnTo>
                  <a:pt x="430" y="107"/>
                </a:lnTo>
                <a:lnTo>
                  <a:pt x="428" y="97"/>
                </a:lnTo>
                <a:lnTo>
                  <a:pt x="426" y="90"/>
                </a:lnTo>
                <a:lnTo>
                  <a:pt x="424" y="82"/>
                </a:lnTo>
                <a:lnTo>
                  <a:pt x="422" y="78"/>
                </a:lnTo>
                <a:lnTo>
                  <a:pt x="420" y="76"/>
                </a:lnTo>
                <a:lnTo>
                  <a:pt x="411" y="71"/>
                </a:lnTo>
                <a:lnTo>
                  <a:pt x="403" y="65"/>
                </a:lnTo>
                <a:lnTo>
                  <a:pt x="395" y="57"/>
                </a:lnTo>
                <a:lnTo>
                  <a:pt x="392" y="51"/>
                </a:lnTo>
                <a:lnTo>
                  <a:pt x="388" y="42"/>
                </a:lnTo>
                <a:lnTo>
                  <a:pt x="384" y="34"/>
                </a:lnTo>
                <a:lnTo>
                  <a:pt x="382" y="26"/>
                </a:lnTo>
                <a:lnTo>
                  <a:pt x="382" y="17"/>
                </a:lnTo>
                <a:lnTo>
                  <a:pt x="382" y="15"/>
                </a:lnTo>
                <a:lnTo>
                  <a:pt x="384" y="13"/>
                </a:lnTo>
                <a:lnTo>
                  <a:pt x="386" y="11"/>
                </a:lnTo>
                <a:lnTo>
                  <a:pt x="388" y="9"/>
                </a:lnTo>
                <a:lnTo>
                  <a:pt x="392" y="7"/>
                </a:lnTo>
                <a:lnTo>
                  <a:pt x="397" y="5"/>
                </a:lnTo>
                <a:lnTo>
                  <a:pt x="403" y="3"/>
                </a:lnTo>
                <a:lnTo>
                  <a:pt x="409" y="1"/>
                </a:lnTo>
                <a:lnTo>
                  <a:pt x="415" y="1"/>
                </a:lnTo>
                <a:lnTo>
                  <a:pt x="422" y="1"/>
                </a:lnTo>
                <a:lnTo>
                  <a:pt x="432" y="0"/>
                </a:lnTo>
                <a:lnTo>
                  <a:pt x="440" y="0"/>
                </a:lnTo>
                <a:lnTo>
                  <a:pt x="449" y="1"/>
                </a:lnTo>
                <a:lnTo>
                  <a:pt x="461" y="1"/>
                </a:lnTo>
                <a:lnTo>
                  <a:pt x="470" y="3"/>
                </a:lnTo>
                <a:lnTo>
                  <a:pt x="484" y="5"/>
                </a:lnTo>
                <a:lnTo>
                  <a:pt x="507" y="11"/>
                </a:lnTo>
                <a:lnTo>
                  <a:pt x="528" y="17"/>
                </a:lnTo>
                <a:lnTo>
                  <a:pt x="537" y="19"/>
                </a:lnTo>
                <a:lnTo>
                  <a:pt x="547" y="23"/>
                </a:lnTo>
                <a:lnTo>
                  <a:pt x="557" y="26"/>
                </a:lnTo>
                <a:lnTo>
                  <a:pt x="564" y="28"/>
                </a:lnTo>
                <a:lnTo>
                  <a:pt x="574" y="32"/>
                </a:lnTo>
                <a:lnTo>
                  <a:pt x="580" y="36"/>
                </a:lnTo>
                <a:lnTo>
                  <a:pt x="587" y="38"/>
                </a:lnTo>
                <a:lnTo>
                  <a:pt x="593" y="42"/>
                </a:lnTo>
                <a:lnTo>
                  <a:pt x="599" y="44"/>
                </a:lnTo>
                <a:lnTo>
                  <a:pt x="603" y="48"/>
                </a:lnTo>
                <a:lnTo>
                  <a:pt x="607" y="49"/>
                </a:lnTo>
                <a:lnTo>
                  <a:pt x="610" y="51"/>
                </a:lnTo>
                <a:lnTo>
                  <a:pt x="612" y="57"/>
                </a:lnTo>
                <a:lnTo>
                  <a:pt x="612" y="61"/>
                </a:lnTo>
                <a:lnTo>
                  <a:pt x="614" y="65"/>
                </a:lnTo>
                <a:lnTo>
                  <a:pt x="614" y="69"/>
                </a:lnTo>
                <a:lnTo>
                  <a:pt x="614" y="74"/>
                </a:lnTo>
                <a:lnTo>
                  <a:pt x="616" y="78"/>
                </a:lnTo>
                <a:lnTo>
                  <a:pt x="616" y="84"/>
                </a:lnTo>
                <a:lnTo>
                  <a:pt x="616" y="92"/>
                </a:lnTo>
                <a:lnTo>
                  <a:pt x="616" y="97"/>
                </a:lnTo>
                <a:lnTo>
                  <a:pt x="616" y="105"/>
                </a:lnTo>
                <a:lnTo>
                  <a:pt x="616" y="113"/>
                </a:lnTo>
                <a:lnTo>
                  <a:pt x="616" y="122"/>
                </a:lnTo>
                <a:lnTo>
                  <a:pt x="616" y="130"/>
                </a:lnTo>
                <a:lnTo>
                  <a:pt x="616" y="140"/>
                </a:lnTo>
                <a:lnTo>
                  <a:pt x="616" y="149"/>
                </a:lnTo>
                <a:lnTo>
                  <a:pt x="614" y="161"/>
                </a:lnTo>
                <a:lnTo>
                  <a:pt x="614" y="170"/>
                </a:lnTo>
                <a:lnTo>
                  <a:pt x="612" y="182"/>
                </a:lnTo>
                <a:lnTo>
                  <a:pt x="612" y="193"/>
                </a:lnTo>
                <a:lnTo>
                  <a:pt x="610" y="207"/>
                </a:lnTo>
                <a:lnTo>
                  <a:pt x="608" y="220"/>
                </a:lnTo>
                <a:lnTo>
                  <a:pt x="607" y="234"/>
                </a:lnTo>
                <a:lnTo>
                  <a:pt x="605" y="247"/>
                </a:lnTo>
                <a:lnTo>
                  <a:pt x="603" y="261"/>
                </a:lnTo>
                <a:lnTo>
                  <a:pt x="601" y="276"/>
                </a:lnTo>
                <a:lnTo>
                  <a:pt x="599" y="291"/>
                </a:lnTo>
                <a:lnTo>
                  <a:pt x="597" y="309"/>
                </a:lnTo>
                <a:lnTo>
                  <a:pt x="593" y="326"/>
                </a:lnTo>
                <a:lnTo>
                  <a:pt x="591" y="341"/>
                </a:lnTo>
                <a:lnTo>
                  <a:pt x="587" y="360"/>
                </a:lnTo>
                <a:lnTo>
                  <a:pt x="584" y="378"/>
                </a:lnTo>
                <a:lnTo>
                  <a:pt x="576" y="414"/>
                </a:lnTo>
                <a:lnTo>
                  <a:pt x="568" y="451"/>
                </a:lnTo>
                <a:lnTo>
                  <a:pt x="561" y="487"/>
                </a:lnTo>
                <a:lnTo>
                  <a:pt x="551" y="522"/>
                </a:lnTo>
                <a:lnTo>
                  <a:pt x="541" y="556"/>
                </a:lnTo>
                <a:lnTo>
                  <a:pt x="530" y="589"/>
                </a:lnTo>
                <a:lnTo>
                  <a:pt x="520" y="623"/>
                </a:lnTo>
                <a:lnTo>
                  <a:pt x="509" y="654"/>
                </a:lnTo>
                <a:lnTo>
                  <a:pt x="495" y="687"/>
                </a:lnTo>
                <a:lnTo>
                  <a:pt x="482" y="716"/>
                </a:lnTo>
                <a:lnTo>
                  <a:pt x="468" y="746"/>
                </a:lnTo>
                <a:lnTo>
                  <a:pt x="455" y="775"/>
                </a:lnTo>
                <a:lnTo>
                  <a:pt x="441" y="802"/>
                </a:lnTo>
                <a:lnTo>
                  <a:pt x="426" y="829"/>
                </a:lnTo>
                <a:lnTo>
                  <a:pt x="411" y="854"/>
                </a:lnTo>
                <a:lnTo>
                  <a:pt x="393" y="8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12"/>
          <p:cNvSpPr/>
          <p:nvPr/>
        </p:nvSpPr>
        <p:spPr>
          <a:xfrm>
            <a:off x="6448320" y="3219480"/>
            <a:ext cx="189000" cy="1681200"/>
          </a:xfrm>
          <a:custGeom>
            <a:avLst/>
            <a:gdLst/>
            <a:ahLst/>
            <a:rect l="l" t="t" r="r" b="b"/>
            <a:pathLst>
              <a:path w="238" h="2117">
                <a:moveTo>
                  <a:pt x="10" y="55"/>
                </a:moveTo>
                <a:lnTo>
                  <a:pt x="6" y="50"/>
                </a:lnTo>
                <a:lnTo>
                  <a:pt x="2" y="44"/>
                </a:lnTo>
                <a:lnTo>
                  <a:pt x="0" y="38"/>
                </a:lnTo>
                <a:lnTo>
                  <a:pt x="0" y="30"/>
                </a:lnTo>
                <a:lnTo>
                  <a:pt x="0" y="25"/>
                </a:lnTo>
                <a:lnTo>
                  <a:pt x="2" y="19"/>
                </a:lnTo>
                <a:lnTo>
                  <a:pt x="6" y="13"/>
                </a:lnTo>
                <a:lnTo>
                  <a:pt x="10" y="7"/>
                </a:lnTo>
                <a:lnTo>
                  <a:pt x="12" y="5"/>
                </a:lnTo>
                <a:lnTo>
                  <a:pt x="16" y="3"/>
                </a:lnTo>
                <a:lnTo>
                  <a:pt x="21" y="2"/>
                </a:lnTo>
                <a:lnTo>
                  <a:pt x="25" y="2"/>
                </a:lnTo>
                <a:lnTo>
                  <a:pt x="33" y="0"/>
                </a:lnTo>
                <a:lnTo>
                  <a:pt x="39" y="0"/>
                </a:lnTo>
                <a:lnTo>
                  <a:pt x="46" y="0"/>
                </a:lnTo>
                <a:lnTo>
                  <a:pt x="54" y="0"/>
                </a:lnTo>
                <a:lnTo>
                  <a:pt x="64" y="0"/>
                </a:lnTo>
                <a:lnTo>
                  <a:pt x="71" y="0"/>
                </a:lnTo>
                <a:lnTo>
                  <a:pt x="81" y="0"/>
                </a:lnTo>
                <a:lnTo>
                  <a:pt x="92" y="2"/>
                </a:lnTo>
                <a:lnTo>
                  <a:pt x="113" y="3"/>
                </a:lnTo>
                <a:lnTo>
                  <a:pt x="137" y="7"/>
                </a:lnTo>
                <a:lnTo>
                  <a:pt x="148" y="13"/>
                </a:lnTo>
                <a:lnTo>
                  <a:pt x="160" y="17"/>
                </a:lnTo>
                <a:lnTo>
                  <a:pt x="169" y="21"/>
                </a:lnTo>
                <a:lnTo>
                  <a:pt x="179" y="25"/>
                </a:lnTo>
                <a:lnTo>
                  <a:pt x="188" y="30"/>
                </a:lnTo>
                <a:lnTo>
                  <a:pt x="196" y="34"/>
                </a:lnTo>
                <a:lnTo>
                  <a:pt x="204" y="38"/>
                </a:lnTo>
                <a:lnTo>
                  <a:pt x="211" y="42"/>
                </a:lnTo>
                <a:lnTo>
                  <a:pt x="217" y="48"/>
                </a:lnTo>
                <a:lnTo>
                  <a:pt x="223" y="51"/>
                </a:lnTo>
                <a:lnTo>
                  <a:pt x="227" y="55"/>
                </a:lnTo>
                <a:lnTo>
                  <a:pt x="231" y="61"/>
                </a:lnTo>
                <a:lnTo>
                  <a:pt x="234" y="65"/>
                </a:lnTo>
                <a:lnTo>
                  <a:pt x="236" y="69"/>
                </a:lnTo>
                <a:lnTo>
                  <a:pt x="238" y="73"/>
                </a:lnTo>
                <a:lnTo>
                  <a:pt x="238" y="78"/>
                </a:lnTo>
                <a:lnTo>
                  <a:pt x="238" y="80"/>
                </a:lnTo>
                <a:lnTo>
                  <a:pt x="238" y="86"/>
                </a:lnTo>
                <a:lnTo>
                  <a:pt x="238" y="92"/>
                </a:lnTo>
                <a:lnTo>
                  <a:pt x="238" y="99"/>
                </a:lnTo>
                <a:lnTo>
                  <a:pt x="238" y="109"/>
                </a:lnTo>
                <a:lnTo>
                  <a:pt x="238" y="121"/>
                </a:lnTo>
                <a:lnTo>
                  <a:pt x="238" y="134"/>
                </a:lnTo>
                <a:lnTo>
                  <a:pt x="238" y="149"/>
                </a:lnTo>
                <a:lnTo>
                  <a:pt x="238" y="167"/>
                </a:lnTo>
                <a:lnTo>
                  <a:pt x="238" y="184"/>
                </a:lnTo>
                <a:lnTo>
                  <a:pt x="238" y="205"/>
                </a:lnTo>
                <a:lnTo>
                  <a:pt x="238" y="226"/>
                </a:lnTo>
                <a:lnTo>
                  <a:pt x="238" y="249"/>
                </a:lnTo>
                <a:lnTo>
                  <a:pt x="238" y="274"/>
                </a:lnTo>
                <a:lnTo>
                  <a:pt x="238" y="301"/>
                </a:lnTo>
                <a:lnTo>
                  <a:pt x="238" y="330"/>
                </a:lnTo>
                <a:lnTo>
                  <a:pt x="238" y="361"/>
                </a:lnTo>
                <a:lnTo>
                  <a:pt x="238" y="391"/>
                </a:lnTo>
                <a:lnTo>
                  <a:pt x="238" y="426"/>
                </a:lnTo>
                <a:lnTo>
                  <a:pt x="238" y="460"/>
                </a:lnTo>
                <a:lnTo>
                  <a:pt x="238" y="497"/>
                </a:lnTo>
                <a:lnTo>
                  <a:pt x="238" y="535"/>
                </a:lnTo>
                <a:lnTo>
                  <a:pt x="238" y="576"/>
                </a:lnTo>
                <a:lnTo>
                  <a:pt x="238" y="618"/>
                </a:lnTo>
                <a:lnTo>
                  <a:pt x="238" y="660"/>
                </a:lnTo>
                <a:lnTo>
                  <a:pt x="238" y="706"/>
                </a:lnTo>
                <a:lnTo>
                  <a:pt x="238" y="752"/>
                </a:lnTo>
                <a:lnTo>
                  <a:pt x="238" y="800"/>
                </a:lnTo>
                <a:lnTo>
                  <a:pt x="238" y="850"/>
                </a:lnTo>
                <a:lnTo>
                  <a:pt x="238" y="902"/>
                </a:lnTo>
                <a:lnTo>
                  <a:pt x="238" y="956"/>
                </a:lnTo>
                <a:lnTo>
                  <a:pt x="238" y="1009"/>
                </a:lnTo>
                <a:lnTo>
                  <a:pt x="238" y="1065"/>
                </a:lnTo>
                <a:lnTo>
                  <a:pt x="238" y="1119"/>
                </a:lnTo>
                <a:lnTo>
                  <a:pt x="238" y="1171"/>
                </a:lnTo>
                <a:lnTo>
                  <a:pt x="236" y="1220"/>
                </a:lnTo>
                <a:lnTo>
                  <a:pt x="236" y="1270"/>
                </a:lnTo>
                <a:lnTo>
                  <a:pt x="236" y="1316"/>
                </a:lnTo>
                <a:lnTo>
                  <a:pt x="236" y="1363"/>
                </a:lnTo>
                <a:lnTo>
                  <a:pt x="236" y="1407"/>
                </a:lnTo>
                <a:lnTo>
                  <a:pt x="234" y="1451"/>
                </a:lnTo>
                <a:lnTo>
                  <a:pt x="234" y="1491"/>
                </a:lnTo>
                <a:lnTo>
                  <a:pt x="234" y="1531"/>
                </a:lnTo>
                <a:lnTo>
                  <a:pt x="233" y="1570"/>
                </a:lnTo>
                <a:lnTo>
                  <a:pt x="233" y="1606"/>
                </a:lnTo>
                <a:lnTo>
                  <a:pt x="231" y="1641"/>
                </a:lnTo>
                <a:lnTo>
                  <a:pt x="231" y="1675"/>
                </a:lnTo>
                <a:lnTo>
                  <a:pt x="231" y="1708"/>
                </a:lnTo>
                <a:lnTo>
                  <a:pt x="229" y="1739"/>
                </a:lnTo>
                <a:lnTo>
                  <a:pt x="229" y="1768"/>
                </a:lnTo>
                <a:lnTo>
                  <a:pt x="227" y="1794"/>
                </a:lnTo>
                <a:lnTo>
                  <a:pt x="227" y="1821"/>
                </a:lnTo>
                <a:lnTo>
                  <a:pt x="225" y="1844"/>
                </a:lnTo>
                <a:lnTo>
                  <a:pt x="223" y="1867"/>
                </a:lnTo>
                <a:lnTo>
                  <a:pt x="223" y="1890"/>
                </a:lnTo>
                <a:lnTo>
                  <a:pt x="221" y="1910"/>
                </a:lnTo>
                <a:lnTo>
                  <a:pt x="221" y="1927"/>
                </a:lnTo>
                <a:lnTo>
                  <a:pt x="219" y="1944"/>
                </a:lnTo>
                <a:lnTo>
                  <a:pt x="219" y="1959"/>
                </a:lnTo>
                <a:lnTo>
                  <a:pt x="217" y="1973"/>
                </a:lnTo>
                <a:lnTo>
                  <a:pt x="215" y="1984"/>
                </a:lnTo>
                <a:lnTo>
                  <a:pt x="215" y="1996"/>
                </a:lnTo>
                <a:lnTo>
                  <a:pt x="213" y="2004"/>
                </a:lnTo>
                <a:lnTo>
                  <a:pt x="213" y="2011"/>
                </a:lnTo>
                <a:lnTo>
                  <a:pt x="209" y="2025"/>
                </a:lnTo>
                <a:lnTo>
                  <a:pt x="208" y="2036"/>
                </a:lnTo>
                <a:lnTo>
                  <a:pt x="206" y="2048"/>
                </a:lnTo>
                <a:lnTo>
                  <a:pt x="204" y="2057"/>
                </a:lnTo>
                <a:lnTo>
                  <a:pt x="202" y="2067"/>
                </a:lnTo>
                <a:lnTo>
                  <a:pt x="198" y="2075"/>
                </a:lnTo>
                <a:lnTo>
                  <a:pt x="196" y="2082"/>
                </a:lnTo>
                <a:lnTo>
                  <a:pt x="194" y="2090"/>
                </a:lnTo>
                <a:lnTo>
                  <a:pt x="192" y="2096"/>
                </a:lnTo>
                <a:lnTo>
                  <a:pt x="188" y="2102"/>
                </a:lnTo>
                <a:lnTo>
                  <a:pt x="186" y="2105"/>
                </a:lnTo>
                <a:lnTo>
                  <a:pt x="185" y="2109"/>
                </a:lnTo>
                <a:lnTo>
                  <a:pt x="183" y="2113"/>
                </a:lnTo>
                <a:lnTo>
                  <a:pt x="179" y="2115"/>
                </a:lnTo>
                <a:lnTo>
                  <a:pt x="177" y="2117"/>
                </a:lnTo>
                <a:lnTo>
                  <a:pt x="175" y="2117"/>
                </a:lnTo>
                <a:lnTo>
                  <a:pt x="171" y="2117"/>
                </a:lnTo>
                <a:lnTo>
                  <a:pt x="169" y="2115"/>
                </a:lnTo>
                <a:lnTo>
                  <a:pt x="165" y="2113"/>
                </a:lnTo>
                <a:lnTo>
                  <a:pt x="163" y="2109"/>
                </a:lnTo>
                <a:lnTo>
                  <a:pt x="160" y="2105"/>
                </a:lnTo>
                <a:lnTo>
                  <a:pt x="156" y="2102"/>
                </a:lnTo>
                <a:lnTo>
                  <a:pt x="152" y="2096"/>
                </a:lnTo>
                <a:lnTo>
                  <a:pt x="148" y="2088"/>
                </a:lnTo>
                <a:lnTo>
                  <a:pt x="142" y="2080"/>
                </a:lnTo>
                <a:lnTo>
                  <a:pt x="138" y="2073"/>
                </a:lnTo>
                <a:lnTo>
                  <a:pt x="135" y="2063"/>
                </a:lnTo>
                <a:lnTo>
                  <a:pt x="129" y="2054"/>
                </a:lnTo>
                <a:lnTo>
                  <a:pt x="125" y="2042"/>
                </a:lnTo>
                <a:lnTo>
                  <a:pt x="121" y="2029"/>
                </a:lnTo>
                <a:lnTo>
                  <a:pt x="115" y="2015"/>
                </a:lnTo>
                <a:lnTo>
                  <a:pt x="112" y="2000"/>
                </a:lnTo>
                <a:lnTo>
                  <a:pt x="104" y="1984"/>
                </a:lnTo>
                <a:lnTo>
                  <a:pt x="98" y="1971"/>
                </a:lnTo>
                <a:lnTo>
                  <a:pt x="92" y="1958"/>
                </a:lnTo>
                <a:lnTo>
                  <a:pt x="87" y="1946"/>
                </a:lnTo>
                <a:lnTo>
                  <a:pt x="83" y="1935"/>
                </a:lnTo>
                <a:lnTo>
                  <a:pt x="79" y="1923"/>
                </a:lnTo>
                <a:lnTo>
                  <a:pt x="75" y="1913"/>
                </a:lnTo>
                <a:lnTo>
                  <a:pt x="71" y="1904"/>
                </a:lnTo>
                <a:lnTo>
                  <a:pt x="69" y="1896"/>
                </a:lnTo>
                <a:lnTo>
                  <a:pt x="67" y="1888"/>
                </a:lnTo>
                <a:lnTo>
                  <a:pt x="65" y="1881"/>
                </a:lnTo>
                <a:lnTo>
                  <a:pt x="64" y="1875"/>
                </a:lnTo>
                <a:lnTo>
                  <a:pt x="62" y="1871"/>
                </a:lnTo>
                <a:lnTo>
                  <a:pt x="62" y="1865"/>
                </a:lnTo>
                <a:lnTo>
                  <a:pt x="62" y="1864"/>
                </a:lnTo>
                <a:lnTo>
                  <a:pt x="62" y="1860"/>
                </a:lnTo>
                <a:lnTo>
                  <a:pt x="62" y="1858"/>
                </a:lnTo>
                <a:lnTo>
                  <a:pt x="62" y="1854"/>
                </a:lnTo>
                <a:lnTo>
                  <a:pt x="62" y="1850"/>
                </a:lnTo>
                <a:lnTo>
                  <a:pt x="64" y="1844"/>
                </a:lnTo>
                <a:lnTo>
                  <a:pt x="64" y="1839"/>
                </a:lnTo>
                <a:lnTo>
                  <a:pt x="65" y="1831"/>
                </a:lnTo>
                <a:lnTo>
                  <a:pt x="67" y="1823"/>
                </a:lnTo>
                <a:lnTo>
                  <a:pt x="69" y="1816"/>
                </a:lnTo>
                <a:lnTo>
                  <a:pt x="71" y="1806"/>
                </a:lnTo>
                <a:lnTo>
                  <a:pt x="73" y="1794"/>
                </a:lnTo>
                <a:lnTo>
                  <a:pt x="75" y="1783"/>
                </a:lnTo>
                <a:lnTo>
                  <a:pt x="77" y="1769"/>
                </a:lnTo>
                <a:lnTo>
                  <a:pt x="79" y="1756"/>
                </a:lnTo>
                <a:lnTo>
                  <a:pt x="81" y="1741"/>
                </a:lnTo>
                <a:lnTo>
                  <a:pt x="83" y="1725"/>
                </a:lnTo>
                <a:lnTo>
                  <a:pt x="87" y="1708"/>
                </a:lnTo>
                <a:lnTo>
                  <a:pt x="87" y="1698"/>
                </a:lnTo>
                <a:lnTo>
                  <a:pt x="89" y="1689"/>
                </a:lnTo>
                <a:lnTo>
                  <a:pt x="89" y="1679"/>
                </a:lnTo>
                <a:lnTo>
                  <a:pt x="90" y="1666"/>
                </a:lnTo>
                <a:lnTo>
                  <a:pt x="90" y="1654"/>
                </a:lnTo>
                <a:lnTo>
                  <a:pt x="92" y="1641"/>
                </a:lnTo>
                <a:lnTo>
                  <a:pt x="92" y="1625"/>
                </a:lnTo>
                <a:lnTo>
                  <a:pt x="92" y="1610"/>
                </a:lnTo>
                <a:lnTo>
                  <a:pt x="94" y="1595"/>
                </a:lnTo>
                <a:lnTo>
                  <a:pt x="94" y="1578"/>
                </a:lnTo>
                <a:lnTo>
                  <a:pt x="94" y="1560"/>
                </a:lnTo>
                <a:lnTo>
                  <a:pt x="96" y="1541"/>
                </a:lnTo>
                <a:lnTo>
                  <a:pt x="96" y="1520"/>
                </a:lnTo>
                <a:lnTo>
                  <a:pt x="96" y="1501"/>
                </a:lnTo>
                <a:lnTo>
                  <a:pt x="96" y="1480"/>
                </a:lnTo>
                <a:lnTo>
                  <a:pt x="96" y="1457"/>
                </a:lnTo>
                <a:lnTo>
                  <a:pt x="96" y="1434"/>
                </a:lnTo>
                <a:lnTo>
                  <a:pt x="98" y="1411"/>
                </a:lnTo>
                <a:lnTo>
                  <a:pt x="98" y="1386"/>
                </a:lnTo>
                <a:lnTo>
                  <a:pt x="98" y="1359"/>
                </a:lnTo>
                <a:lnTo>
                  <a:pt x="98" y="1332"/>
                </a:lnTo>
                <a:lnTo>
                  <a:pt x="98" y="1305"/>
                </a:lnTo>
                <a:lnTo>
                  <a:pt x="98" y="1278"/>
                </a:lnTo>
                <a:lnTo>
                  <a:pt x="98" y="1247"/>
                </a:lnTo>
                <a:lnTo>
                  <a:pt x="98" y="1219"/>
                </a:lnTo>
                <a:lnTo>
                  <a:pt x="98" y="1188"/>
                </a:lnTo>
                <a:lnTo>
                  <a:pt x="98" y="1157"/>
                </a:lnTo>
                <a:lnTo>
                  <a:pt x="98" y="1124"/>
                </a:lnTo>
                <a:lnTo>
                  <a:pt x="98" y="1090"/>
                </a:lnTo>
                <a:lnTo>
                  <a:pt x="98" y="1057"/>
                </a:lnTo>
                <a:lnTo>
                  <a:pt x="98" y="1023"/>
                </a:lnTo>
                <a:lnTo>
                  <a:pt x="98" y="986"/>
                </a:lnTo>
                <a:lnTo>
                  <a:pt x="98" y="950"/>
                </a:lnTo>
                <a:lnTo>
                  <a:pt x="98" y="915"/>
                </a:lnTo>
                <a:lnTo>
                  <a:pt x="98" y="883"/>
                </a:lnTo>
                <a:lnTo>
                  <a:pt x="98" y="848"/>
                </a:lnTo>
                <a:lnTo>
                  <a:pt x="98" y="815"/>
                </a:lnTo>
                <a:lnTo>
                  <a:pt x="98" y="785"/>
                </a:lnTo>
                <a:lnTo>
                  <a:pt x="96" y="754"/>
                </a:lnTo>
                <a:lnTo>
                  <a:pt x="96" y="723"/>
                </a:lnTo>
                <a:lnTo>
                  <a:pt x="96" y="695"/>
                </a:lnTo>
                <a:lnTo>
                  <a:pt x="96" y="666"/>
                </a:lnTo>
                <a:lnTo>
                  <a:pt x="94" y="639"/>
                </a:lnTo>
                <a:lnTo>
                  <a:pt x="94" y="612"/>
                </a:lnTo>
                <a:lnTo>
                  <a:pt x="92" y="587"/>
                </a:lnTo>
                <a:lnTo>
                  <a:pt x="92" y="560"/>
                </a:lnTo>
                <a:lnTo>
                  <a:pt x="92" y="537"/>
                </a:lnTo>
                <a:lnTo>
                  <a:pt x="90" y="512"/>
                </a:lnTo>
                <a:lnTo>
                  <a:pt x="90" y="491"/>
                </a:lnTo>
                <a:lnTo>
                  <a:pt x="89" y="468"/>
                </a:lnTo>
                <a:lnTo>
                  <a:pt x="89" y="447"/>
                </a:lnTo>
                <a:lnTo>
                  <a:pt x="87" y="426"/>
                </a:lnTo>
                <a:lnTo>
                  <a:pt x="87" y="407"/>
                </a:lnTo>
                <a:lnTo>
                  <a:pt x="85" y="387"/>
                </a:lnTo>
                <a:lnTo>
                  <a:pt x="83" y="370"/>
                </a:lnTo>
                <a:lnTo>
                  <a:pt x="83" y="353"/>
                </a:lnTo>
                <a:lnTo>
                  <a:pt x="81" y="336"/>
                </a:lnTo>
                <a:lnTo>
                  <a:pt x="81" y="320"/>
                </a:lnTo>
                <a:lnTo>
                  <a:pt x="79" y="305"/>
                </a:lnTo>
                <a:lnTo>
                  <a:pt x="77" y="289"/>
                </a:lnTo>
                <a:lnTo>
                  <a:pt x="77" y="276"/>
                </a:lnTo>
                <a:lnTo>
                  <a:pt x="75" y="265"/>
                </a:lnTo>
                <a:lnTo>
                  <a:pt x="75" y="251"/>
                </a:lnTo>
                <a:lnTo>
                  <a:pt x="73" y="242"/>
                </a:lnTo>
                <a:lnTo>
                  <a:pt x="71" y="220"/>
                </a:lnTo>
                <a:lnTo>
                  <a:pt x="67" y="199"/>
                </a:lnTo>
                <a:lnTo>
                  <a:pt x="65" y="182"/>
                </a:lnTo>
                <a:lnTo>
                  <a:pt x="62" y="165"/>
                </a:lnTo>
                <a:lnTo>
                  <a:pt x="58" y="147"/>
                </a:lnTo>
                <a:lnTo>
                  <a:pt x="54" y="134"/>
                </a:lnTo>
                <a:lnTo>
                  <a:pt x="50" y="121"/>
                </a:lnTo>
                <a:lnTo>
                  <a:pt x="46" y="109"/>
                </a:lnTo>
                <a:lnTo>
                  <a:pt x="42" y="98"/>
                </a:lnTo>
                <a:lnTo>
                  <a:pt x="39" y="88"/>
                </a:lnTo>
                <a:lnTo>
                  <a:pt x="33" y="80"/>
                </a:lnTo>
                <a:lnTo>
                  <a:pt x="29" y="73"/>
                </a:lnTo>
                <a:lnTo>
                  <a:pt x="23" y="67"/>
                </a:lnTo>
                <a:lnTo>
                  <a:pt x="19" y="61"/>
                </a:lnTo>
                <a:lnTo>
                  <a:pt x="16" y="57"/>
                </a:lnTo>
                <a:lnTo>
                  <a:pt x="10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13"/>
          <p:cNvSpPr/>
          <p:nvPr/>
        </p:nvSpPr>
        <p:spPr>
          <a:xfrm>
            <a:off x="6053040" y="3800520"/>
            <a:ext cx="1047960" cy="181080"/>
          </a:xfrm>
          <a:custGeom>
            <a:avLst/>
            <a:gdLst/>
            <a:ahLst/>
            <a:rect l="l" t="t" r="r" b="b"/>
            <a:pathLst>
              <a:path w="1319" h="228">
                <a:moveTo>
                  <a:pt x="443" y="198"/>
                </a:moveTo>
                <a:lnTo>
                  <a:pt x="413" y="203"/>
                </a:lnTo>
                <a:lnTo>
                  <a:pt x="384" y="209"/>
                </a:lnTo>
                <a:lnTo>
                  <a:pt x="357" y="213"/>
                </a:lnTo>
                <a:lnTo>
                  <a:pt x="332" y="217"/>
                </a:lnTo>
                <a:lnTo>
                  <a:pt x="307" y="221"/>
                </a:lnTo>
                <a:lnTo>
                  <a:pt x="286" y="223"/>
                </a:lnTo>
                <a:lnTo>
                  <a:pt x="265" y="225"/>
                </a:lnTo>
                <a:lnTo>
                  <a:pt x="246" y="226"/>
                </a:lnTo>
                <a:lnTo>
                  <a:pt x="228" y="226"/>
                </a:lnTo>
                <a:lnTo>
                  <a:pt x="211" y="228"/>
                </a:lnTo>
                <a:lnTo>
                  <a:pt x="198" y="226"/>
                </a:lnTo>
                <a:lnTo>
                  <a:pt x="184" y="226"/>
                </a:lnTo>
                <a:lnTo>
                  <a:pt x="175" y="226"/>
                </a:lnTo>
                <a:lnTo>
                  <a:pt x="165" y="225"/>
                </a:lnTo>
                <a:lnTo>
                  <a:pt x="157" y="223"/>
                </a:lnTo>
                <a:lnTo>
                  <a:pt x="152" y="221"/>
                </a:lnTo>
                <a:lnTo>
                  <a:pt x="144" y="219"/>
                </a:lnTo>
                <a:lnTo>
                  <a:pt x="136" y="215"/>
                </a:lnTo>
                <a:lnTo>
                  <a:pt x="129" y="211"/>
                </a:lnTo>
                <a:lnTo>
                  <a:pt x="121" y="207"/>
                </a:lnTo>
                <a:lnTo>
                  <a:pt x="113" y="203"/>
                </a:lnTo>
                <a:lnTo>
                  <a:pt x="104" y="198"/>
                </a:lnTo>
                <a:lnTo>
                  <a:pt x="94" y="192"/>
                </a:lnTo>
                <a:lnTo>
                  <a:pt x="84" y="186"/>
                </a:lnTo>
                <a:lnTo>
                  <a:pt x="75" y="179"/>
                </a:lnTo>
                <a:lnTo>
                  <a:pt x="65" y="171"/>
                </a:lnTo>
                <a:lnTo>
                  <a:pt x="56" y="163"/>
                </a:lnTo>
                <a:lnTo>
                  <a:pt x="44" y="155"/>
                </a:lnTo>
                <a:lnTo>
                  <a:pt x="35" y="146"/>
                </a:lnTo>
                <a:lnTo>
                  <a:pt x="23" y="136"/>
                </a:lnTo>
                <a:lnTo>
                  <a:pt x="11" y="127"/>
                </a:lnTo>
                <a:lnTo>
                  <a:pt x="0" y="115"/>
                </a:lnTo>
                <a:lnTo>
                  <a:pt x="29" y="115"/>
                </a:lnTo>
                <a:lnTo>
                  <a:pt x="61" y="115"/>
                </a:lnTo>
                <a:lnTo>
                  <a:pt x="94" y="113"/>
                </a:lnTo>
                <a:lnTo>
                  <a:pt x="129" y="111"/>
                </a:lnTo>
                <a:lnTo>
                  <a:pt x="165" y="109"/>
                </a:lnTo>
                <a:lnTo>
                  <a:pt x="203" y="107"/>
                </a:lnTo>
                <a:lnTo>
                  <a:pt x="244" y="104"/>
                </a:lnTo>
                <a:lnTo>
                  <a:pt x="286" y="100"/>
                </a:lnTo>
                <a:lnTo>
                  <a:pt x="328" y="96"/>
                </a:lnTo>
                <a:lnTo>
                  <a:pt x="374" y="92"/>
                </a:lnTo>
                <a:lnTo>
                  <a:pt x="422" y="86"/>
                </a:lnTo>
                <a:lnTo>
                  <a:pt x="470" y="81"/>
                </a:lnTo>
                <a:lnTo>
                  <a:pt x="522" y="77"/>
                </a:lnTo>
                <a:lnTo>
                  <a:pt x="574" y="69"/>
                </a:lnTo>
                <a:lnTo>
                  <a:pt x="628" y="63"/>
                </a:lnTo>
                <a:lnTo>
                  <a:pt x="685" y="58"/>
                </a:lnTo>
                <a:lnTo>
                  <a:pt x="712" y="54"/>
                </a:lnTo>
                <a:lnTo>
                  <a:pt x="739" y="50"/>
                </a:lnTo>
                <a:lnTo>
                  <a:pt x="766" y="48"/>
                </a:lnTo>
                <a:lnTo>
                  <a:pt x="793" y="44"/>
                </a:lnTo>
                <a:lnTo>
                  <a:pt x="818" y="42"/>
                </a:lnTo>
                <a:lnTo>
                  <a:pt x="843" y="38"/>
                </a:lnTo>
                <a:lnTo>
                  <a:pt x="866" y="36"/>
                </a:lnTo>
                <a:lnTo>
                  <a:pt x="889" y="33"/>
                </a:lnTo>
                <a:lnTo>
                  <a:pt x="910" y="31"/>
                </a:lnTo>
                <a:lnTo>
                  <a:pt x="933" y="29"/>
                </a:lnTo>
                <a:lnTo>
                  <a:pt x="952" y="25"/>
                </a:lnTo>
                <a:lnTo>
                  <a:pt x="973" y="23"/>
                </a:lnTo>
                <a:lnTo>
                  <a:pt x="993" y="21"/>
                </a:lnTo>
                <a:lnTo>
                  <a:pt x="1010" y="19"/>
                </a:lnTo>
                <a:lnTo>
                  <a:pt x="1029" y="17"/>
                </a:lnTo>
                <a:lnTo>
                  <a:pt x="1046" y="15"/>
                </a:lnTo>
                <a:lnTo>
                  <a:pt x="1062" y="13"/>
                </a:lnTo>
                <a:lnTo>
                  <a:pt x="1077" y="12"/>
                </a:lnTo>
                <a:lnTo>
                  <a:pt x="1092" y="10"/>
                </a:lnTo>
                <a:lnTo>
                  <a:pt x="1106" y="8"/>
                </a:lnTo>
                <a:lnTo>
                  <a:pt x="1119" y="6"/>
                </a:lnTo>
                <a:lnTo>
                  <a:pt x="1133" y="6"/>
                </a:lnTo>
                <a:lnTo>
                  <a:pt x="1144" y="4"/>
                </a:lnTo>
                <a:lnTo>
                  <a:pt x="1156" y="4"/>
                </a:lnTo>
                <a:lnTo>
                  <a:pt x="1165" y="2"/>
                </a:lnTo>
                <a:lnTo>
                  <a:pt x="1175" y="2"/>
                </a:lnTo>
                <a:lnTo>
                  <a:pt x="1185" y="0"/>
                </a:lnTo>
                <a:lnTo>
                  <a:pt x="1192" y="0"/>
                </a:lnTo>
                <a:lnTo>
                  <a:pt x="1200" y="0"/>
                </a:lnTo>
                <a:lnTo>
                  <a:pt x="1206" y="0"/>
                </a:lnTo>
                <a:lnTo>
                  <a:pt x="1211" y="0"/>
                </a:lnTo>
                <a:lnTo>
                  <a:pt x="1217" y="0"/>
                </a:lnTo>
                <a:lnTo>
                  <a:pt x="1231" y="0"/>
                </a:lnTo>
                <a:lnTo>
                  <a:pt x="1246" y="2"/>
                </a:lnTo>
                <a:lnTo>
                  <a:pt x="1259" y="4"/>
                </a:lnTo>
                <a:lnTo>
                  <a:pt x="1273" y="10"/>
                </a:lnTo>
                <a:lnTo>
                  <a:pt x="1284" y="15"/>
                </a:lnTo>
                <a:lnTo>
                  <a:pt x="1292" y="19"/>
                </a:lnTo>
                <a:lnTo>
                  <a:pt x="1298" y="23"/>
                </a:lnTo>
                <a:lnTo>
                  <a:pt x="1304" y="29"/>
                </a:lnTo>
                <a:lnTo>
                  <a:pt x="1307" y="33"/>
                </a:lnTo>
                <a:lnTo>
                  <a:pt x="1313" y="38"/>
                </a:lnTo>
                <a:lnTo>
                  <a:pt x="1319" y="46"/>
                </a:lnTo>
                <a:lnTo>
                  <a:pt x="1319" y="48"/>
                </a:lnTo>
                <a:lnTo>
                  <a:pt x="1319" y="52"/>
                </a:lnTo>
                <a:lnTo>
                  <a:pt x="1319" y="56"/>
                </a:lnTo>
                <a:lnTo>
                  <a:pt x="1317" y="59"/>
                </a:lnTo>
                <a:lnTo>
                  <a:pt x="1317" y="61"/>
                </a:lnTo>
                <a:lnTo>
                  <a:pt x="1315" y="65"/>
                </a:lnTo>
                <a:lnTo>
                  <a:pt x="1311" y="69"/>
                </a:lnTo>
                <a:lnTo>
                  <a:pt x="1307" y="71"/>
                </a:lnTo>
                <a:lnTo>
                  <a:pt x="1304" y="75"/>
                </a:lnTo>
                <a:lnTo>
                  <a:pt x="1300" y="77"/>
                </a:lnTo>
                <a:lnTo>
                  <a:pt x="1294" y="81"/>
                </a:lnTo>
                <a:lnTo>
                  <a:pt x="1288" y="84"/>
                </a:lnTo>
                <a:lnTo>
                  <a:pt x="1281" y="86"/>
                </a:lnTo>
                <a:lnTo>
                  <a:pt x="1275" y="90"/>
                </a:lnTo>
                <a:lnTo>
                  <a:pt x="1267" y="92"/>
                </a:lnTo>
                <a:lnTo>
                  <a:pt x="1257" y="96"/>
                </a:lnTo>
                <a:lnTo>
                  <a:pt x="1248" y="98"/>
                </a:lnTo>
                <a:lnTo>
                  <a:pt x="1238" y="100"/>
                </a:lnTo>
                <a:lnTo>
                  <a:pt x="1229" y="104"/>
                </a:lnTo>
                <a:lnTo>
                  <a:pt x="1217" y="106"/>
                </a:lnTo>
                <a:lnTo>
                  <a:pt x="1204" y="107"/>
                </a:lnTo>
                <a:lnTo>
                  <a:pt x="1192" y="109"/>
                </a:lnTo>
                <a:lnTo>
                  <a:pt x="1179" y="111"/>
                </a:lnTo>
                <a:lnTo>
                  <a:pt x="1165" y="115"/>
                </a:lnTo>
                <a:lnTo>
                  <a:pt x="1150" y="117"/>
                </a:lnTo>
                <a:lnTo>
                  <a:pt x="1135" y="119"/>
                </a:lnTo>
                <a:lnTo>
                  <a:pt x="1119" y="121"/>
                </a:lnTo>
                <a:lnTo>
                  <a:pt x="1102" y="121"/>
                </a:lnTo>
                <a:lnTo>
                  <a:pt x="1085" y="123"/>
                </a:lnTo>
                <a:lnTo>
                  <a:pt x="1065" y="125"/>
                </a:lnTo>
                <a:lnTo>
                  <a:pt x="1046" y="127"/>
                </a:lnTo>
                <a:lnTo>
                  <a:pt x="1027" y="127"/>
                </a:lnTo>
                <a:lnTo>
                  <a:pt x="987" y="131"/>
                </a:lnTo>
                <a:lnTo>
                  <a:pt x="946" y="132"/>
                </a:lnTo>
                <a:lnTo>
                  <a:pt x="908" y="134"/>
                </a:lnTo>
                <a:lnTo>
                  <a:pt x="870" y="138"/>
                </a:lnTo>
                <a:lnTo>
                  <a:pt x="831" y="142"/>
                </a:lnTo>
                <a:lnTo>
                  <a:pt x="795" y="146"/>
                </a:lnTo>
                <a:lnTo>
                  <a:pt x="756" y="150"/>
                </a:lnTo>
                <a:lnTo>
                  <a:pt x="720" y="154"/>
                </a:lnTo>
                <a:lnTo>
                  <a:pt x="649" y="163"/>
                </a:lnTo>
                <a:lnTo>
                  <a:pt x="580" y="173"/>
                </a:lnTo>
                <a:lnTo>
                  <a:pt x="511" y="184"/>
                </a:lnTo>
                <a:lnTo>
                  <a:pt x="443" y="1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14"/>
          <p:cNvSpPr/>
          <p:nvPr/>
        </p:nvSpPr>
        <p:spPr>
          <a:xfrm>
            <a:off x="5481720" y="3503520"/>
            <a:ext cx="2282760" cy="290520"/>
          </a:xfrm>
          <a:custGeom>
            <a:avLst/>
            <a:gdLst/>
            <a:ahLst/>
            <a:rect l="l" t="t" r="r" b="b"/>
            <a:pathLst>
              <a:path w="2876" h="366">
                <a:moveTo>
                  <a:pt x="0" y="245"/>
                </a:moveTo>
                <a:lnTo>
                  <a:pt x="10" y="245"/>
                </a:lnTo>
                <a:lnTo>
                  <a:pt x="21" y="245"/>
                </a:lnTo>
                <a:lnTo>
                  <a:pt x="35" y="243"/>
                </a:lnTo>
                <a:lnTo>
                  <a:pt x="48" y="243"/>
                </a:lnTo>
                <a:lnTo>
                  <a:pt x="62" y="243"/>
                </a:lnTo>
                <a:lnTo>
                  <a:pt x="75" y="243"/>
                </a:lnTo>
                <a:lnTo>
                  <a:pt x="90" y="242"/>
                </a:lnTo>
                <a:lnTo>
                  <a:pt x="106" y="242"/>
                </a:lnTo>
                <a:lnTo>
                  <a:pt x="123" y="240"/>
                </a:lnTo>
                <a:lnTo>
                  <a:pt x="140" y="238"/>
                </a:lnTo>
                <a:lnTo>
                  <a:pt x="158" y="238"/>
                </a:lnTo>
                <a:lnTo>
                  <a:pt x="177" y="236"/>
                </a:lnTo>
                <a:lnTo>
                  <a:pt x="194" y="234"/>
                </a:lnTo>
                <a:lnTo>
                  <a:pt x="215" y="232"/>
                </a:lnTo>
                <a:lnTo>
                  <a:pt x="234" y="232"/>
                </a:lnTo>
                <a:lnTo>
                  <a:pt x="255" y="230"/>
                </a:lnTo>
                <a:lnTo>
                  <a:pt x="278" y="228"/>
                </a:lnTo>
                <a:lnTo>
                  <a:pt x="300" y="226"/>
                </a:lnTo>
                <a:lnTo>
                  <a:pt x="323" y="222"/>
                </a:lnTo>
                <a:lnTo>
                  <a:pt x="348" y="220"/>
                </a:lnTo>
                <a:lnTo>
                  <a:pt x="371" y="219"/>
                </a:lnTo>
                <a:lnTo>
                  <a:pt x="396" y="217"/>
                </a:lnTo>
                <a:lnTo>
                  <a:pt x="422" y="213"/>
                </a:lnTo>
                <a:lnTo>
                  <a:pt x="449" y="211"/>
                </a:lnTo>
                <a:lnTo>
                  <a:pt x="476" y="209"/>
                </a:lnTo>
                <a:lnTo>
                  <a:pt x="503" y="205"/>
                </a:lnTo>
                <a:lnTo>
                  <a:pt x="532" y="203"/>
                </a:lnTo>
                <a:lnTo>
                  <a:pt x="561" y="199"/>
                </a:lnTo>
                <a:lnTo>
                  <a:pt x="591" y="197"/>
                </a:lnTo>
                <a:lnTo>
                  <a:pt x="620" y="194"/>
                </a:lnTo>
                <a:lnTo>
                  <a:pt x="653" y="190"/>
                </a:lnTo>
                <a:lnTo>
                  <a:pt x="684" y="188"/>
                </a:lnTo>
                <a:lnTo>
                  <a:pt x="747" y="180"/>
                </a:lnTo>
                <a:lnTo>
                  <a:pt x="808" y="174"/>
                </a:lnTo>
                <a:lnTo>
                  <a:pt x="870" y="169"/>
                </a:lnTo>
                <a:lnTo>
                  <a:pt x="927" y="163"/>
                </a:lnTo>
                <a:lnTo>
                  <a:pt x="985" y="157"/>
                </a:lnTo>
                <a:lnTo>
                  <a:pt x="1041" y="151"/>
                </a:lnTo>
                <a:lnTo>
                  <a:pt x="1094" y="146"/>
                </a:lnTo>
                <a:lnTo>
                  <a:pt x="1148" y="142"/>
                </a:lnTo>
                <a:lnTo>
                  <a:pt x="1198" y="136"/>
                </a:lnTo>
                <a:lnTo>
                  <a:pt x="1248" y="132"/>
                </a:lnTo>
                <a:lnTo>
                  <a:pt x="1296" y="128"/>
                </a:lnTo>
                <a:lnTo>
                  <a:pt x="1342" y="123"/>
                </a:lnTo>
                <a:lnTo>
                  <a:pt x="1386" y="119"/>
                </a:lnTo>
                <a:lnTo>
                  <a:pt x="1428" y="115"/>
                </a:lnTo>
                <a:lnTo>
                  <a:pt x="1469" y="109"/>
                </a:lnTo>
                <a:lnTo>
                  <a:pt x="1507" y="105"/>
                </a:lnTo>
                <a:lnTo>
                  <a:pt x="1580" y="99"/>
                </a:lnTo>
                <a:lnTo>
                  <a:pt x="1653" y="94"/>
                </a:lnTo>
                <a:lnTo>
                  <a:pt x="1726" y="88"/>
                </a:lnTo>
                <a:lnTo>
                  <a:pt x="1801" y="78"/>
                </a:lnTo>
                <a:lnTo>
                  <a:pt x="1876" y="71"/>
                </a:lnTo>
                <a:lnTo>
                  <a:pt x="1951" y="59"/>
                </a:lnTo>
                <a:lnTo>
                  <a:pt x="2027" y="48"/>
                </a:lnTo>
                <a:lnTo>
                  <a:pt x="2104" y="36"/>
                </a:lnTo>
                <a:lnTo>
                  <a:pt x="2139" y="30"/>
                </a:lnTo>
                <a:lnTo>
                  <a:pt x="2173" y="27"/>
                </a:lnTo>
                <a:lnTo>
                  <a:pt x="2206" y="23"/>
                </a:lnTo>
                <a:lnTo>
                  <a:pt x="2239" y="19"/>
                </a:lnTo>
                <a:lnTo>
                  <a:pt x="2269" y="17"/>
                </a:lnTo>
                <a:lnTo>
                  <a:pt x="2300" y="13"/>
                </a:lnTo>
                <a:lnTo>
                  <a:pt x="2329" y="11"/>
                </a:lnTo>
                <a:lnTo>
                  <a:pt x="2358" y="9"/>
                </a:lnTo>
                <a:lnTo>
                  <a:pt x="2383" y="7"/>
                </a:lnTo>
                <a:lnTo>
                  <a:pt x="2410" y="5"/>
                </a:lnTo>
                <a:lnTo>
                  <a:pt x="2433" y="4"/>
                </a:lnTo>
                <a:lnTo>
                  <a:pt x="2456" y="2"/>
                </a:lnTo>
                <a:lnTo>
                  <a:pt x="2479" y="2"/>
                </a:lnTo>
                <a:lnTo>
                  <a:pt x="2498" y="2"/>
                </a:lnTo>
                <a:lnTo>
                  <a:pt x="2517" y="0"/>
                </a:lnTo>
                <a:lnTo>
                  <a:pt x="2534" y="0"/>
                </a:lnTo>
                <a:lnTo>
                  <a:pt x="2567" y="2"/>
                </a:lnTo>
                <a:lnTo>
                  <a:pt x="2602" y="2"/>
                </a:lnTo>
                <a:lnTo>
                  <a:pt x="2632" y="5"/>
                </a:lnTo>
                <a:lnTo>
                  <a:pt x="2665" y="9"/>
                </a:lnTo>
                <a:lnTo>
                  <a:pt x="2696" y="17"/>
                </a:lnTo>
                <a:lnTo>
                  <a:pt x="2709" y="21"/>
                </a:lnTo>
                <a:lnTo>
                  <a:pt x="2722" y="25"/>
                </a:lnTo>
                <a:lnTo>
                  <a:pt x="2738" y="28"/>
                </a:lnTo>
                <a:lnTo>
                  <a:pt x="2751" y="34"/>
                </a:lnTo>
                <a:lnTo>
                  <a:pt x="2763" y="40"/>
                </a:lnTo>
                <a:lnTo>
                  <a:pt x="2776" y="48"/>
                </a:lnTo>
                <a:lnTo>
                  <a:pt x="2788" y="53"/>
                </a:lnTo>
                <a:lnTo>
                  <a:pt x="2797" y="59"/>
                </a:lnTo>
                <a:lnTo>
                  <a:pt x="2809" y="65"/>
                </a:lnTo>
                <a:lnTo>
                  <a:pt x="2818" y="71"/>
                </a:lnTo>
                <a:lnTo>
                  <a:pt x="2826" y="76"/>
                </a:lnTo>
                <a:lnTo>
                  <a:pt x="2836" y="82"/>
                </a:lnTo>
                <a:lnTo>
                  <a:pt x="2843" y="86"/>
                </a:lnTo>
                <a:lnTo>
                  <a:pt x="2849" y="90"/>
                </a:lnTo>
                <a:lnTo>
                  <a:pt x="2855" y="96"/>
                </a:lnTo>
                <a:lnTo>
                  <a:pt x="2861" y="99"/>
                </a:lnTo>
                <a:lnTo>
                  <a:pt x="2866" y="103"/>
                </a:lnTo>
                <a:lnTo>
                  <a:pt x="2870" y="105"/>
                </a:lnTo>
                <a:lnTo>
                  <a:pt x="2872" y="109"/>
                </a:lnTo>
                <a:lnTo>
                  <a:pt x="2874" y="111"/>
                </a:lnTo>
                <a:lnTo>
                  <a:pt x="2876" y="115"/>
                </a:lnTo>
                <a:lnTo>
                  <a:pt x="2876" y="117"/>
                </a:lnTo>
                <a:lnTo>
                  <a:pt x="2876" y="119"/>
                </a:lnTo>
                <a:lnTo>
                  <a:pt x="2876" y="121"/>
                </a:lnTo>
                <a:lnTo>
                  <a:pt x="2874" y="123"/>
                </a:lnTo>
                <a:lnTo>
                  <a:pt x="2870" y="124"/>
                </a:lnTo>
                <a:lnTo>
                  <a:pt x="2868" y="126"/>
                </a:lnTo>
                <a:lnTo>
                  <a:pt x="2865" y="128"/>
                </a:lnTo>
                <a:lnTo>
                  <a:pt x="2861" y="130"/>
                </a:lnTo>
                <a:lnTo>
                  <a:pt x="2855" y="132"/>
                </a:lnTo>
                <a:lnTo>
                  <a:pt x="2849" y="134"/>
                </a:lnTo>
                <a:lnTo>
                  <a:pt x="2843" y="136"/>
                </a:lnTo>
                <a:lnTo>
                  <a:pt x="2836" y="136"/>
                </a:lnTo>
                <a:lnTo>
                  <a:pt x="2828" y="138"/>
                </a:lnTo>
                <a:lnTo>
                  <a:pt x="2820" y="140"/>
                </a:lnTo>
                <a:lnTo>
                  <a:pt x="2811" y="142"/>
                </a:lnTo>
                <a:lnTo>
                  <a:pt x="2801" y="142"/>
                </a:lnTo>
                <a:lnTo>
                  <a:pt x="2792" y="144"/>
                </a:lnTo>
                <a:lnTo>
                  <a:pt x="2780" y="144"/>
                </a:lnTo>
                <a:lnTo>
                  <a:pt x="2769" y="146"/>
                </a:lnTo>
                <a:lnTo>
                  <a:pt x="2755" y="146"/>
                </a:lnTo>
                <a:lnTo>
                  <a:pt x="2744" y="147"/>
                </a:lnTo>
                <a:lnTo>
                  <a:pt x="2728" y="147"/>
                </a:lnTo>
                <a:lnTo>
                  <a:pt x="2715" y="149"/>
                </a:lnTo>
                <a:lnTo>
                  <a:pt x="2699" y="149"/>
                </a:lnTo>
                <a:lnTo>
                  <a:pt x="2684" y="149"/>
                </a:lnTo>
                <a:lnTo>
                  <a:pt x="2667" y="149"/>
                </a:lnTo>
                <a:lnTo>
                  <a:pt x="2651" y="151"/>
                </a:lnTo>
                <a:lnTo>
                  <a:pt x="2632" y="151"/>
                </a:lnTo>
                <a:lnTo>
                  <a:pt x="2615" y="151"/>
                </a:lnTo>
                <a:lnTo>
                  <a:pt x="2596" y="151"/>
                </a:lnTo>
                <a:lnTo>
                  <a:pt x="2577" y="151"/>
                </a:lnTo>
                <a:lnTo>
                  <a:pt x="2555" y="151"/>
                </a:lnTo>
                <a:lnTo>
                  <a:pt x="2534" y="151"/>
                </a:lnTo>
                <a:lnTo>
                  <a:pt x="2492" y="151"/>
                </a:lnTo>
                <a:lnTo>
                  <a:pt x="2450" y="151"/>
                </a:lnTo>
                <a:lnTo>
                  <a:pt x="2410" y="151"/>
                </a:lnTo>
                <a:lnTo>
                  <a:pt x="2371" y="151"/>
                </a:lnTo>
                <a:lnTo>
                  <a:pt x="2333" y="151"/>
                </a:lnTo>
                <a:lnTo>
                  <a:pt x="2294" y="153"/>
                </a:lnTo>
                <a:lnTo>
                  <a:pt x="2258" y="153"/>
                </a:lnTo>
                <a:lnTo>
                  <a:pt x="2221" y="153"/>
                </a:lnTo>
                <a:lnTo>
                  <a:pt x="2187" y="153"/>
                </a:lnTo>
                <a:lnTo>
                  <a:pt x="2154" y="155"/>
                </a:lnTo>
                <a:lnTo>
                  <a:pt x="2122" y="155"/>
                </a:lnTo>
                <a:lnTo>
                  <a:pt x="2091" y="157"/>
                </a:lnTo>
                <a:lnTo>
                  <a:pt x="2060" y="157"/>
                </a:lnTo>
                <a:lnTo>
                  <a:pt x="2031" y="159"/>
                </a:lnTo>
                <a:lnTo>
                  <a:pt x="2003" y="161"/>
                </a:lnTo>
                <a:lnTo>
                  <a:pt x="1978" y="163"/>
                </a:lnTo>
                <a:lnTo>
                  <a:pt x="1964" y="165"/>
                </a:lnTo>
                <a:lnTo>
                  <a:pt x="1949" y="167"/>
                </a:lnTo>
                <a:lnTo>
                  <a:pt x="1935" y="167"/>
                </a:lnTo>
                <a:lnTo>
                  <a:pt x="1920" y="169"/>
                </a:lnTo>
                <a:lnTo>
                  <a:pt x="1905" y="171"/>
                </a:lnTo>
                <a:lnTo>
                  <a:pt x="1889" y="171"/>
                </a:lnTo>
                <a:lnTo>
                  <a:pt x="1872" y="172"/>
                </a:lnTo>
                <a:lnTo>
                  <a:pt x="1857" y="174"/>
                </a:lnTo>
                <a:lnTo>
                  <a:pt x="1839" y="176"/>
                </a:lnTo>
                <a:lnTo>
                  <a:pt x="1820" y="178"/>
                </a:lnTo>
                <a:lnTo>
                  <a:pt x="1784" y="182"/>
                </a:lnTo>
                <a:lnTo>
                  <a:pt x="1745" y="186"/>
                </a:lnTo>
                <a:lnTo>
                  <a:pt x="1705" y="190"/>
                </a:lnTo>
                <a:lnTo>
                  <a:pt x="1661" y="194"/>
                </a:lnTo>
                <a:lnTo>
                  <a:pt x="1617" y="199"/>
                </a:lnTo>
                <a:lnTo>
                  <a:pt x="1572" y="203"/>
                </a:lnTo>
                <a:lnTo>
                  <a:pt x="1524" y="209"/>
                </a:lnTo>
                <a:lnTo>
                  <a:pt x="1475" y="215"/>
                </a:lnTo>
                <a:lnTo>
                  <a:pt x="1425" y="220"/>
                </a:lnTo>
                <a:lnTo>
                  <a:pt x="1371" y="226"/>
                </a:lnTo>
                <a:lnTo>
                  <a:pt x="1317" y="234"/>
                </a:lnTo>
                <a:lnTo>
                  <a:pt x="1263" y="240"/>
                </a:lnTo>
                <a:lnTo>
                  <a:pt x="1210" y="245"/>
                </a:lnTo>
                <a:lnTo>
                  <a:pt x="1158" y="253"/>
                </a:lnTo>
                <a:lnTo>
                  <a:pt x="1106" y="259"/>
                </a:lnTo>
                <a:lnTo>
                  <a:pt x="1056" y="263"/>
                </a:lnTo>
                <a:lnTo>
                  <a:pt x="1006" y="268"/>
                </a:lnTo>
                <a:lnTo>
                  <a:pt x="956" y="274"/>
                </a:lnTo>
                <a:lnTo>
                  <a:pt x="908" y="280"/>
                </a:lnTo>
                <a:lnTo>
                  <a:pt x="862" y="286"/>
                </a:lnTo>
                <a:lnTo>
                  <a:pt x="816" y="291"/>
                </a:lnTo>
                <a:lnTo>
                  <a:pt x="770" y="297"/>
                </a:lnTo>
                <a:lnTo>
                  <a:pt x="726" y="301"/>
                </a:lnTo>
                <a:lnTo>
                  <a:pt x="682" y="309"/>
                </a:lnTo>
                <a:lnTo>
                  <a:pt x="639" y="314"/>
                </a:lnTo>
                <a:lnTo>
                  <a:pt x="597" y="320"/>
                </a:lnTo>
                <a:lnTo>
                  <a:pt x="557" y="326"/>
                </a:lnTo>
                <a:lnTo>
                  <a:pt x="538" y="330"/>
                </a:lnTo>
                <a:lnTo>
                  <a:pt x="518" y="334"/>
                </a:lnTo>
                <a:lnTo>
                  <a:pt x="499" y="336"/>
                </a:lnTo>
                <a:lnTo>
                  <a:pt x="480" y="339"/>
                </a:lnTo>
                <a:lnTo>
                  <a:pt x="463" y="341"/>
                </a:lnTo>
                <a:lnTo>
                  <a:pt x="446" y="343"/>
                </a:lnTo>
                <a:lnTo>
                  <a:pt x="430" y="347"/>
                </a:lnTo>
                <a:lnTo>
                  <a:pt x="415" y="349"/>
                </a:lnTo>
                <a:lnTo>
                  <a:pt x="399" y="351"/>
                </a:lnTo>
                <a:lnTo>
                  <a:pt x="384" y="353"/>
                </a:lnTo>
                <a:lnTo>
                  <a:pt x="371" y="355"/>
                </a:lnTo>
                <a:lnTo>
                  <a:pt x="355" y="357"/>
                </a:lnTo>
                <a:lnTo>
                  <a:pt x="344" y="359"/>
                </a:lnTo>
                <a:lnTo>
                  <a:pt x="330" y="359"/>
                </a:lnTo>
                <a:lnTo>
                  <a:pt x="319" y="361"/>
                </a:lnTo>
                <a:lnTo>
                  <a:pt x="307" y="362"/>
                </a:lnTo>
                <a:lnTo>
                  <a:pt x="296" y="362"/>
                </a:lnTo>
                <a:lnTo>
                  <a:pt x="286" y="364"/>
                </a:lnTo>
                <a:lnTo>
                  <a:pt x="275" y="364"/>
                </a:lnTo>
                <a:lnTo>
                  <a:pt x="265" y="364"/>
                </a:lnTo>
                <a:lnTo>
                  <a:pt x="257" y="366"/>
                </a:lnTo>
                <a:lnTo>
                  <a:pt x="248" y="366"/>
                </a:lnTo>
                <a:lnTo>
                  <a:pt x="240" y="366"/>
                </a:lnTo>
                <a:lnTo>
                  <a:pt x="232" y="366"/>
                </a:lnTo>
                <a:lnTo>
                  <a:pt x="227" y="366"/>
                </a:lnTo>
                <a:lnTo>
                  <a:pt x="219" y="366"/>
                </a:lnTo>
                <a:lnTo>
                  <a:pt x="207" y="364"/>
                </a:lnTo>
                <a:lnTo>
                  <a:pt x="198" y="364"/>
                </a:lnTo>
                <a:lnTo>
                  <a:pt x="190" y="362"/>
                </a:lnTo>
                <a:lnTo>
                  <a:pt x="183" y="361"/>
                </a:lnTo>
                <a:lnTo>
                  <a:pt x="175" y="361"/>
                </a:lnTo>
                <a:lnTo>
                  <a:pt x="165" y="359"/>
                </a:lnTo>
                <a:lnTo>
                  <a:pt x="156" y="355"/>
                </a:lnTo>
                <a:lnTo>
                  <a:pt x="146" y="351"/>
                </a:lnTo>
                <a:lnTo>
                  <a:pt x="136" y="347"/>
                </a:lnTo>
                <a:lnTo>
                  <a:pt x="125" y="341"/>
                </a:lnTo>
                <a:lnTo>
                  <a:pt x="113" y="334"/>
                </a:lnTo>
                <a:lnTo>
                  <a:pt x="102" y="326"/>
                </a:lnTo>
                <a:lnTo>
                  <a:pt x="88" y="318"/>
                </a:lnTo>
                <a:lnTo>
                  <a:pt x="75" y="309"/>
                </a:lnTo>
                <a:lnTo>
                  <a:pt x="62" y="297"/>
                </a:lnTo>
                <a:lnTo>
                  <a:pt x="46" y="286"/>
                </a:lnTo>
                <a:lnTo>
                  <a:pt x="31" y="274"/>
                </a:lnTo>
                <a:lnTo>
                  <a:pt x="15" y="261"/>
                </a:lnTo>
                <a:lnTo>
                  <a:pt x="0" y="2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115"/>
          <p:cNvSpPr/>
          <p:nvPr/>
        </p:nvSpPr>
        <p:spPr>
          <a:xfrm>
            <a:off x="6022800" y="3290760"/>
            <a:ext cx="1208160" cy="536760"/>
          </a:xfrm>
          <a:custGeom>
            <a:avLst/>
            <a:gdLst/>
            <a:ahLst/>
            <a:rect l="l" t="t" r="r" b="b"/>
            <a:pathLst>
              <a:path w="1520" h="676">
                <a:moveTo>
                  <a:pt x="1255" y="676"/>
                </a:moveTo>
                <a:lnTo>
                  <a:pt x="1178" y="676"/>
                </a:lnTo>
                <a:lnTo>
                  <a:pt x="1182" y="645"/>
                </a:lnTo>
                <a:lnTo>
                  <a:pt x="1188" y="614"/>
                </a:lnTo>
                <a:lnTo>
                  <a:pt x="1192" y="585"/>
                </a:lnTo>
                <a:lnTo>
                  <a:pt x="1196" y="557"/>
                </a:lnTo>
                <a:lnTo>
                  <a:pt x="1199" y="530"/>
                </a:lnTo>
                <a:lnTo>
                  <a:pt x="1203" y="503"/>
                </a:lnTo>
                <a:lnTo>
                  <a:pt x="1207" y="478"/>
                </a:lnTo>
                <a:lnTo>
                  <a:pt x="1211" y="455"/>
                </a:lnTo>
                <a:lnTo>
                  <a:pt x="1215" y="432"/>
                </a:lnTo>
                <a:lnTo>
                  <a:pt x="1219" y="409"/>
                </a:lnTo>
                <a:lnTo>
                  <a:pt x="1221" y="388"/>
                </a:lnTo>
                <a:lnTo>
                  <a:pt x="1224" y="368"/>
                </a:lnTo>
                <a:lnTo>
                  <a:pt x="1226" y="349"/>
                </a:lnTo>
                <a:lnTo>
                  <a:pt x="1228" y="330"/>
                </a:lnTo>
                <a:lnTo>
                  <a:pt x="1232" y="313"/>
                </a:lnTo>
                <a:lnTo>
                  <a:pt x="1234" y="297"/>
                </a:lnTo>
                <a:lnTo>
                  <a:pt x="1236" y="282"/>
                </a:lnTo>
                <a:lnTo>
                  <a:pt x="1238" y="267"/>
                </a:lnTo>
                <a:lnTo>
                  <a:pt x="1240" y="253"/>
                </a:lnTo>
                <a:lnTo>
                  <a:pt x="1240" y="240"/>
                </a:lnTo>
                <a:lnTo>
                  <a:pt x="1242" y="228"/>
                </a:lnTo>
                <a:lnTo>
                  <a:pt x="1242" y="219"/>
                </a:lnTo>
                <a:lnTo>
                  <a:pt x="1244" y="209"/>
                </a:lnTo>
                <a:lnTo>
                  <a:pt x="1244" y="199"/>
                </a:lnTo>
                <a:lnTo>
                  <a:pt x="1244" y="192"/>
                </a:lnTo>
                <a:lnTo>
                  <a:pt x="1246" y="186"/>
                </a:lnTo>
                <a:lnTo>
                  <a:pt x="1246" y="178"/>
                </a:lnTo>
                <a:lnTo>
                  <a:pt x="1246" y="175"/>
                </a:lnTo>
                <a:lnTo>
                  <a:pt x="1244" y="171"/>
                </a:lnTo>
                <a:lnTo>
                  <a:pt x="1244" y="167"/>
                </a:lnTo>
                <a:lnTo>
                  <a:pt x="1244" y="165"/>
                </a:lnTo>
                <a:lnTo>
                  <a:pt x="1242" y="163"/>
                </a:lnTo>
                <a:lnTo>
                  <a:pt x="1240" y="161"/>
                </a:lnTo>
                <a:lnTo>
                  <a:pt x="1236" y="159"/>
                </a:lnTo>
                <a:lnTo>
                  <a:pt x="1232" y="157"/>
                </a:lnTo>
                <a:lnTo>
                  <a:pt x="1228" y="155"/>
                </a:lnTo>
                <a:lnTo>
                  <a:pt x="1219" y="153"/>
                </a:lnTo>
                <a:lnTo>
                  <a:pt x="1207" y="152"/>
                </a:lnTo>
                <a:lnTo>
                  <a:pt x="1194" y="152"/>
                </a:lnTo>
                <a:lnTo>
                  <a:pt x="1182" y="152"/>
                </a:lnTo>
                <a:lnTo>
                  <a:pt x="1167" y="152"/>
                </a:lnTo>
                <a:lnTo>
                  <a:pt x="1153" y="152"/>
                </a:lnTo>
                <a:lnTo>
                  <a:pt x="1144" y="152"/>
                </a:lnTo>
                <a:lnTo>
                  <a:pt x="1132" y="152"/>
                </a:lnTo>
                <a:lnTo>
                  <a:pt x="1119" y="152"/>
                </a:lnTo>
                <a:lnTo>
                  <a:pt x="1105" y="153"/>
                </a:lnTo>
                <a:lnTo>
                  <a:pt x="1092" y="153"/>
                </a:lnTo>
                <a:lnTo>
                  <a:pt x="1075" y="155"/>
                </a:lnTo>
                <a:lnTo>
                  <a:pt x="1059" y="157"/>
                </a:lnTo>
                <a:lnTo>
                  <a:pt x="1040" y="159"/>
                </a:lnTo>
                <a:lnTo>
                  <a:pt x="1021" y="161"/>
                </a:lnTo>
                <a:lnTo>
                  <a:pt x="1002" y="165"/>
                </a:lnTo>
                <a:lnTo>
                  <a:pt x="981" y="167"/>
                </a:lnTo>
                <a:lnTo>
                  <a:pt x="960" y="171"/>
                </a:lnTo>
                <a:lnTo>
                  <a:pt x="936" y="175"/>
                </a:lnTo>
                <a:lnTo>
                  <a:pt x="912" y="176"/>
                </a:lnTo>
                <a:lnTo>
                  <a:pt x="887" y="182"/>
                </a:lnTo>
                <a:lnTo>
                  <a:pt x="862" y="186"/>
                </a:lnTo>
                <a:lnTo>
                  <a:pt x="835" y="190"/>
                </a:lnTo>
                <a:lnTo>
                  <a:pt x="808" y="194"/>
                </a:lnTo>
                <a:lnTo>
                  <a:pt x="781" y="199"/>
                </a:lnTo>
                <a:lnTo>
                  <a:pt x="752" y="203"/>
                </a:lnTo>
                <a:lnTo>
                  <a:pt x="695" y="211"/>
                </a:lnTo>
                <a:lnTo>
                  <a:pt x="637" y="219"/>
                </a:lnTo>
                <a:lnTo>
                  <a:pt x="577" y="226"/>
                </a:lnTo>
                <a:lnTo>
                  <a:pt x="516" y="234"/>
                </a:lnTo>
                <a:lnTo>
                  <a:pt x="455" y="240"/>
                </a:lnTo>
                <a:lnTo>
                  <a:pt x="393" y="244"/>
                </a:lnTo>
                <a:lnTo>
                  <a:pt x="362" y="247"/>
                </a:lnTo>
                <a:lnTo>
                  <a:pt x="334" y="251"/>
                </a:lnTo>
                <a:lnTo>
                  <a:pt x="305" y="255"/>
                </a:lnTo>
                <a:lnTo>
                  <a:pt x="280" y="257"/>
                </a:lnTo>
                <a:lnTo>
                  <a:pt x="253" y="259"/>
                </a:lnTo>
                <a:lnTo>
                  <a:pt x="230" y="261"/>
                </a:lnTo>
                <a:lnTo>
                  <a:pt x="207" y="261"/>
                </a:lnTo>
                <a:lnTo>
                  <a:pt x="188" y="261"/>
                </a:lnTo>
                <a:lnTo>
                  <a:pt x="167" y="261"/>
                </a:lnTo>
                <a:lnTo>
                  <a:pt x="149" y="261"/>
                </a:lnTo>
                <a:lnTo>
                  <a:pt x="134" y="259"/>
                </a:lnTo>
                <a:lnTo>
                  <a:pt x="119" y="257"/>
                </a:lnTo>
                <a:lnTo>
                  <a:pt x="105" y="255"/>
                </a:lnTo>
                <a:lnTo>
                  <a:pt x="94" y="251"/>
                </a:lnTo>
                <a:lnTo>
                  <a:pt x="84" y="247"/>
                </a:lnTo>
                <a:lnTo>
                  <a:pt x="76" y="244"/>
                </a:lnTo>
                <a:lnTo>
                  <a:pt x="67" y="242"/>
                </a:lnTo>
                <a:lnTo>
                  <a:pt x="57" y="240"/>
                </a:lnTo>
                <a:lnTo>
                  <a:pt x="49" y="236"/>
                </a:lnTo>
                <a:lnTo>
                  <a:pt x="42" y="232"/>
                </a:lnTo>
                <a:lnTo>
                  <a:pt x="36" y="230"/>
                </a:lnTo>
                <a:lnTo>
                  <a:pt x="30" y="226"/>
                </a:lnTo>
                <a:lnTo>
                  <a:pt x="25" y="223"/>
                </a:lnTo>
                <a:lnTo>
                  <a:pt x="19" y="219"/>
                </a:lnTo>
                <a:lnTo>
                  <a:pt x="15" y="213"/>
                </a:lnTo>
                <a:lnTo>
                  <a:pt x="11" y="209"/>
                </a:lnTo>
                <a:lnTo>
                  <a:pt x="7" y="203"/>
                </a:lnTo>
                <a:lnTo>
                  <a:pt x="5" y="198"/>
                </a:lnTo>
                <a:lnTo>
                  <a:pt x="2" y="192"/>
                </a:lnTo>
                <a:lnTo>
                  <a:pt x="2" y="186"/>
                </a:lnTo>
                <a:lnTo>
                  <a:pt x="0" y="180"/>
                </a:lnTo>
                <a:lnTo>
                  <a:pt x="0" y="175"/>
                </a:lnTo>
                <a:lnTo>
                  <a:pt x="59" y="171"/>
                </a:lnTo>
                <a:lnTo>
                  <a:pt x="117" y="169"/>
                </a:lnTo>
                <a:lnTo>
                  <a:pt x="174" y="165"/>
                </a:lnTo>
                <a:lnTo>
                  <a:pt x="230" y="161"/>
                </a:lnTo>
                <a:lnTo>
                  <a:pt x="286" y="157"/>
                </a:lnTo>
                <a:lnTo>
                  <a:pt x="339" y="152"/>
                </a:lnTo>
                <a:lnTo>
                  <a:pt x="393" y="148"/>
                </a:lnTo>
                <a:lnTo>
                  <a:pt x="447" y="142"/>
                </a:lnTo>
                <a:lnTo>
                  <a:pt x="499" y="136"/>
                </a:lnTo>
                <a:lnTo>
                  <a:pt x="549" y="130"/>
                </a:lnTo>
                <a:lnTo>
                  <a:pt x="599" y="125"/>
                </a:lnTo>
                <a:lnTo>
                  <a:pt x="648" y="119"/>
                </a:lnTo>
                <a:lnTo>
                  <a:pt x="696" y="113"/>
                </a:lnTo>
                <a:lnTo>
                  <a:pt x="744" y="105"/>
                </a:lnTo>
                <a:lnTo>
                  <a:pt x="791" y="100"/>
                </a:lnTo>
                <a:lnTo>
                  <a:pt x="837" y="92"/>
                </a:lnTo>
                <a:lnTo>
                  <a:pt x="858" y="90"/>
                </a:lnTo>
                <a:lnTo>
                  <a:pt x="881" y="86"/>
                </a:lnTo>
                <a:lnTo>
                  <a:pt x="902" y="82"/>
                </a:lnTo>
                <a:lnTo>
                  <a:pt x="921" y="80"/>
                </a:lnTo>
                <a:lnTo>
                  <a:pt x="940" y="77"/>
                </a:lnTo>
                <a:lnTo>
                  <a:pt x="960" y="75"/>
                </a:lnTo>
                <a:lnTo>
                  <a:pt x="979" y="71"/>
                </a:lnTo>
                <a:lnTo>
                  <a:pt x="996" y="69"/>
                </a:lnTo>
                <a:lnTo>
                  <a:pt x="1013" y="65"/>
                </a:lnTo>
                <a:lnTo>
                  <a:pt x="1029" y="63"/>
                </a:lnTo>
                <a:lnTo>
                  <a:pt x="1044" y="61"/>
                </a:lnTo>
                <a:lnTo>
                  <a:pt x="1059" y="57"/>
                </a:lnTo>
                <a:lnTo>
                  <a:pt x="1075" y="56"/>
                </a:lnTo>
                <a:lnTo>
                  <a:pt x="1088" y="54"/>
                </a:lnTo>
                <a:lnTo>
                  <a:pt x="1102" y="52"/>
                </a:lnTo>
                <a:lnTo>
                  <a:pt x="1113" y="48"/>
                </a:lnTo>
                <a:lnTo>
                  <a:pt x="1125" y="46"/>
                </a:lnTo>
                <a:lnTo>
                  <a:pt x="1136" y="44"/>
                </a:lnTo>
                <a:lnTo>
                  <a:pt x="1148" y="42"/>
                </a:lnTo>
                <a:lnTo>
                  <a:pt x="1157" y="40"/>
                </a:lnTo>
                <a:lnTo>
                  <a:pt x="1167" y="38"/>
                </a:lnTo>
                <a:lnTo>
                  <a:pt x="1175" y="36"/>
                </a:lnTo>
                <a:lnTo>
                  <a:pt x="1184" y="34"/>
                </a:lnTo>
                <a:lnTo>
                  <a:pt x="1192" y="34"/>
                </a:lnTo>
                <a:lnTo>
                  <a:pt x="1198" y="33"/>
                </a:lnTo>
                <a:lnTo>
                  <a:pt x="1203" y="31"/>
                </a:lnTo>
                <a:lnTo>
                  <a:pt x="1209" y="29"/>
                </a:lnTo>
                <a:lnTo>
                  <a:pt x="1215" y="27"/>
                </a:lnTo>
                <a:lnTo>
                  <a:pt x="1219" y="27"/>
                </a:lnTo>
                <a:lnTo>
                  <a:pt x="1223" y="25"/>
                </a:lnTo>
                <a:lnTo>
                  <a:pt x="1226" y="23"/>
                </a:lnTo>
                <a:lnTo>
                  <a:pt x="1230" y="23"/>
                </a:lnTo>
                <a:lnTo>
                  <a:pt x="1234" y="19"/>
                </a:lnTo>
                <a:lnTo>
                  <a:pt x="1242" y="13"/>
                </a:lnTo>
                <a:lnTo>
                  <a:pt x="1247" y="9"/>
                </a:lnTo>
                <a:lnTo>
                  <a:pt x="1255" y="8"/>
                </a:lnTo>
                <a:lnTo>
                  <a:pt x="1265" y="4"/>
                </a:lnTo>
                <a:lnTo>
                  <a:pt x="1274" y="2"/>
                </a:lnTo>
                <a:lnTo>
                  <a:pt x="1284" y="0"/>
                </a:lnTo>
                <a:lnTo>
                  <a:pt x="1294" y="0"/>
                </a:lnTo>
                <a:lnTo>
                  <a:pt x="1295" y="0"/>
                </a:lnTo>
                <a:lnTo>
                  <a:pt x="1299" y="0"/>
                </a:lnTo>
                <a:lnTo>
                  <a:pt x="1303" y="2"/>
                </a:lnTo>
                <a:lnTo>
                  <a:pt x="1309" y="4"/>
                </a:lnTo>
                <a:lnTo>
                  <a:pt x="1315" y="6"/>
                </a:lnTo>
                <a:lnTo>
                  <a:pt x="1322" y="8"/>
                </a:lnTo>
                <a:lnTo>
                  <a:pt x="1328" y="11"/>
                </a:lnTo>
                <a:lnTo>
                  <a:pt x="1338" y="15"/>
                </a:lnTo>
                <a:lnTo>
                  <a:pt x="1345" y="19"/>
                </a:lnTo>
                <a:lnTo>
                  <a:pt x="1355" y="23"/>
                </a:lnTo>
                <a:lnTo>
                  <a:pt x="1365" y="29"/>
                </a:lnTo>
                <a:lnTo>
                  <a:pt x="1374" y="33"/>
                </a:lnTo>
                <a:lnTo>
                  <a:pt x="1397" y="44"/>
                </a:lnTo>
                <a:lnTo>
                  <a:pt x="1420" y="57"/>
                </a:lnTo>
                <a:lnTo>
                  <a:pt x="1432" y="63"/>
                </a:lnTo>
                <a:lnTo>
                  <a:pt x="1441" y="71"/>
                </a:lnTo>
                <a:lnTo>
                  <a:pt x="1453" y="77"/>
                </a:lnTo>
                <a:lnTo>
                  <a:pt x="1463" y="84"/>
                </a:lnTo>
                <a:lnTo>
                  <a:pt x="1470" y="90"/>
                </a:lnTo>
                <a:lnTo>
                  <a:pt x="1480" y="96"/>
                </a:lnTo>
                <a:lnTo>
                  <a:pt x="1487" y="104"/>
                </a:lnTo>
                <a:lnTo>
                  <a:pt x="1493" y="109"/>
                </a:lnTo>
                <a:lnTo>
                  <a:pt x="1499" y="115"/>
                </a:lnTo>
                <a:lnTo>
                  <a:pt x="1505" y="121"/>
                </a:lnTo>
                <a:lnTo>
                  <a:pt x="1510" y="127"/>
                </a:lnTo>
                <a:lnTo>
                  <a:pt x="1514" y="130"/>
                </a:lnTo>
                <a:lnTo>
                  <a:pt x="1516" y="136"/>
                </a:lnTo>
                <a:lnTo>
                  <a:pt x="1518" y="142"/>
                </a:lnTo>
                <a:lnTo>
                  <a:pt x="1520" y="146"/>
                </a:lnTo>
                <a:lnTo>
                  <a:pt x="1520" y="152"/>
                </a:lnTo>
                <a:lnTo>
                  <a:pt x="1520" y="159"/>
                </a:lnTo>
                <a:lnTo>
                  <a:pt x="1518" y="169"/>
                </a:lnTo>
                <a:lnTo>
                  <a:pt x="1516" y="176"/>
                </a:lnTo>
                <a:lnTo>
                  <a:pt x="1510" y="184"/>
                </a:lnTo>
                <a:lnTo>
                  <a:pt x="1507" y="192"/>
                </a:lnTo>
                <a:lnTo>
                  <a:pt x="1499" y="198"/>
                </a:lnTo>
                <a:lnTo>
                  <a:pt x="1491" y="203"/>
                </a:lnTo>
                <a:lnTo>
                  <a:pt x="1484" y="209"/>
                </a:lnTo>
                <a:lnTo>
                  <a:pt x="1480" y="211"/>
                </a:lnTo>
                <a:lnTo>
                  <a:pt x="1476" y="213"/>
                </a:lnTo>
                <a:lnTo>
                  <a:pt x="1470" y="217"/>
                </a:lnTo>
                <a:lnTo>
                  <a:pt x="1466" y="221"/>
                </a:lnTo>
                <a:lnTo>
                  <a:pt x="1463" y="226"/>
                </a:lnTo>
                <a:lnTo>
                  <a:pt x="1457" y="232"/>
                </a:lnTo>
                <a:lnTo>
                  <a:pt x="1453" y="238"/>
                </a:lnTo>
                <a:lnTo>
                  <a:pt x="1447" y="246"/>
                </a:lnTo>
                <a:lnTo>
                  <a:pt x="1441" y="255"/>
                </a:lnTo>
                <a:lnTo>
                  <a:pt x="1436" y="263"/>
                </a:lnTo>
                <a:lnTo>
                  <a:pt x="1430" y="274"/>
                </a:lnTo>
                <a:lnTo>
                  <a:pt x="1424" y="284"/>
                </a:lnTo>
                <a:lnTo>
                  <a:pt x="1416" y="297"/>
                </a:lnTo>
                <a:lnTo>
                  <a:pt x="1411" y="309"/>
                </a:lnTo>
                <a:lnTo>
                  <a:pt x="1403" y="322"/>
                </a:lnTo>
                <a:lnTo>
                  <a:pt x="1397" y="338"/>
                </a:lnTo>
                <a:lnTo>
                  <a:pt x="1390" y="353"/>
                </a:lnTo>
                <a:lnTo>
                  <a:pt x="1382" y="368"/>
                </a:lnTo>
                <a:lnTo>
                  <a:pt x="1374" y="386"/>
                </a:lnTo>
                <a:lnTo>
                  <a:pt x="1367" y="403"/>
                </a:lnTo>
                <a:lnTo>
                  <a:pt x="1357" y="420"/>
                </a:lnTo>
                <a:lnTo>
                  <a:pt x="1349" y="439"/>
                </a:lnTo>
                <a:lnTo>
                  <a:pt x="1342" y="461"/>
                </a:lnTo>
                <a:lnTo>
                  <a:pt x="1332" y="480"/>
                </a:lnTo>
                <a:lnTo>
                  <a:pt x="1322" y="503"/>
                </a:lnTo>
                <a:lnTo>
                  <a:pt x="1315" y="524"/>
                </a:lnTo>
                <a:lnTo>
                  <a:pt x="1305" y="547"/>
                </a:lnTo>
                <a:lnTo>
                  <a:pt x="1295" y="572"/>
                </a:lnTo>
                <a:lnTo>
                  <a:pt x="1286" y="597"/>
                </a:lnTo>
                <a:lnTo>
                  <a:pt x="1274" y="622"/>
                </a:lnTo>
                <a:lnTo>
                  <a:pt x="1265" y="649"/>
                </a:lnTo>
                <a:lnTo>
                  <a:pt x="1255" y="6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16"/>
          <p:cNvSpPr/>
          <p:nvPr/>
        </p:nvSpPr>
        <p:spPr>
          <a:xfrm>
            <a:off x="5672160" y="2940120"/>
            <a:ext cx="1843200" cy="249120"/>
          </a:xfrm>
          <a:custGeom>
            <a:avLst/>
            <a:gdLst/>
            <a:ahLst/>
            <a:rect l="l" t="t" r="r" b="b"/>
            <a:pathLst>
              <a:path w="2323" h="315">
                <a:moveTo>
                  <a:pt x="457" y="281"/>
                </a:moveTo>
                <a:lnTo>
                  <a:pt x="426" y="285"/>
                </a:lnTo>
                <a:lnTo>
                  <a:pt x="398" y="288"/>
                </a:lnTo>
                <a:lnTo>
                  <a:pt x="371" y="292"/>
                </a:lnTo>
                <a:lnTo>
                  <a:pt x="346" y="296"/>
                </a:lnTo>
                <a:lnTo>
                  <a:pt x="321" y="298"/>
                </a:lnTo>
                <a:lnTo>
                  <a:pt x="300" y="302"/>
                </a:lnTo>
                <a:lnTo>
                  <a:pt x="278" y="304"/>
                </a:lnTo>
                <a:lnTo>
                  <a:pt x="259" y="306"/>
                </a:lnTo>
                <a:lnTo>
                  <a:pt x="244" y="310"/>
                </a:lnTo>
                <a:lnTo>
                  <a:pt x="229" y="310"/>
                </a:lnTo>
                <a:lnTo>
                  <a:pt x="215" y="311"/>
                </a:lnTo>
                <a:lnTo>
                  <a:pt x="209" y="313"/>
                </a:lnTo>
                <a:lnTo>
                  <a:pt x="204" y="313"/>
                </a:lnTo>
                <a:lnTo>
                  <a:pt x="198" y="313"/>
                </a:lnTo>
                <a:lnTo>
                  <a:pt x="194" y="313"/>
                </a:lnTo>
                <a:lnTo>
                  <a:pt x="190" y="315"/>
                </a:lnTo>
                <a:lnTo>
                  <a:pt x="186" y="315"/>
                </a:lnTo>
                <a:lnTo>
                  <a:pt x="184" y="315"/>
                </a:lnTo>
                <a:lnTo>
                  <a:pt x="181" y="315"/>
                </a:lnTo>
                <a:lnTo>
                  <a:pt x="179" y="315"/>
                </a:lnTo>
                <a:lnTo>
                  <a:pt x="173" y="315"/>
                </a:lnTo>
                <a:lnTo>
                  <a:pt x="167" y="313"/>
                </a:lnTo>
                <a:lnTo>
                  <a:pt x="159" y="311"/>
                </a:lnTo>
                <a:lnTo>
                  <a:pt x="152" y="310"/>
                </a:lnTo>
                <a:lnTo>
                  <a:pt x="142" y="306"/>
                </a:lnTo>
                <a:lnTo>
                  <a:pt x="134" y="302"/>
                </a:lnTo>
                <a:lnTo>
                  <a:pt x="123" y="296"/>
                </a:lnTo>
                <a:lnTo>
                  <a:pt x="113" y="290"/>
                </a:lnTo>
                <a:lnTo>
                  <a:pt x="100" y="285"/>
                </a:lnTo>
                <a:lnTo>
                  <a:pt x="88" y="277"/>
                </a:lnTo>
                <a:lnTo>
                  <a:pt x="75" y="269"/>
                </a:lnTo>
                <a:lnTo>
                  <a:pt x="62" y="262"/>
                </a:lnTo>
                <a:lnTo>
                  <a:pt x="48" y="252"/>
                </a:lnTo>
                <a:lnTo>
                  <a:pt x="33" y="242"/>
                </a:lnTo>
                <a:lnTo>
                  <a:pt x="15" y="233"/>
                </a:lnTo>
                <a:lnTo>
                  <a:pt x="0" y="223"/>
                </a:lnTo>
                <a:lnTo>
                  <a:pt x="27" y="217"/>
                </a:lnTo>
                <a:lnTo>
                  <a:pt x="56" y="214"/>
                </a:lnTo>
                <a:lnTo>
                  <a:pt x="86" y="210"/>
                </a:lnTo>
                <a:lnTo>
                  <a:pt x="119" y="204"/>
                </a:lnTo>
                <a:lnTo>
                  <a:pt x="154" y="200"/>
                </a:lnTo>
                <a:lnTo>
                  <a:pt x="190" y="194"/>
                </a:lnTo>
                <a:lnTo>
                  <a:pt x="229" y="190"/>
                </a:lnTo>
                <a:lnTo>
                  <a:pt x="248" y="189"/>
                </a:lnTo>
                <a:lnTo>
                  <a:pt x="267" y="187"/>
                </a:lnTo>
                <a:lnTo>
                  <a:pt x="288" y="183"/>
                </a:lnTo>
                <a:lnTo>
                  <a:pt x="309" y="181"/>
                </a:lnTo>
                <a:lnTo>
                  <a:pt x="332" y="179"/>
                </a:lnTo>
                <a:lnTo>
                  <a:pt x="353" y="175"/>
                </a:lnTo>
                <a:lnTo>
                  <a:pt x="376" y="173"/>
                </a:lnTo>
                <a:lnTo>
                  <a:pt x="399" y="171"/>
                </a:lnTo>
                <a:lnTo>
                  <a:pt x="422" y="167"/>
                </a:lnTo>
                <a:lnTo>
                  <a:pt x="447" y="166"/>
                </a:lnTo>
                <a:lnTo>
                  <a:pt x="472" y="162"/>
                </a:lnTo>
                <a:lnTo>
                  <a:pt x="497" y="160"/>
                </a:lnTo>
                <a:lnTo>
                  <a:pt x="522" y="156"/>
                </a:lnTo>
                <a:lnTo>
                  <a:pt x="549" y="154"/>
                </a:lnTo>
                <a:lnTo>
                  <a:pt x="576" y="150"/>
                </a:lnTo>
                <a:lnTo>
                  <a:pt x="603" y="146"/>
                </a:lnTo>
                <a:lnTo>
                  <a:pt x="632" y="144"/>
                </a:lnTo>
                <a:lnTo>
                  <a:pt x="659" y="141"/>
                </a:lnTo>
                <a:lnTo>
                  <a:pt x="716" y="135"/>
                </a:lnTo>
                <a:lnTo>
                  <a:pt x="772" y="127"/>
                </a:lnTo>
                <a:lnTo>
                  <a:pt x="826" y="121"/>
                </a:lnTo>
                <a:lnTo>
                  <a:pt x="881" y="116"/>
                </a:lnTo>
                <a:lnTo>
                  <a:pt x="933" y="110"/>
                </a:lnTo>
                <a:lnTo>
                  <a:pt x="987" y="104"/>
                </a:lnTo>
                <a:lnTo>
                  <a:pt x="1037" y="98"/>
                </a:lnTo>
                <a:lnTo>
                  <a:pt x="1089" y="95"/>
                </a:lnTo>
                <a:lnTo>
                  <a:pt x="1139" y="89"/>
                </a:lnTo>
                <a:lnTo>
                  <a:pt x="1188" y="83"/>
                </a:lnTo>
                <a:lnTo>
                  <a:pt x="1236" y="77"/>
                </a:lnTo>
                <a:lnTo>
                  <a:pt x="1284" y="71"/>
                </a:lnTo>
                <a:lnTo>
                  <a:pt x="1332" y="66"/>
                </a:lnTo>
                <a:lnTo>
                  <a:pt x="1379" y="60"/>
                </a:lnTo>
                <a:lnTo>
                  <a:pt x="1425" y="54"/>
                </a:lnTo>
                <a:lnTo>
                  <a:pt x="1471" y="47"/>
                </a:lnTo>
                <a:lnTo>
                  <a:pt x="1515" y="41"/>
                </a:lnTo>
                <a:lnTo>
                  <a:pt x="1557" y="35"/>
                </a:lnTo>
                <a:lnTo>
                  <a:pt x="1599" y="29"/>
                </a:lnTo>
                <a:lnTo>
                  <a:pt x="1640" y="25"/>
                </a:lnTo>
                <a:lnTo>
                  <a:pt x="1678" y="20"/>
                </a:lnTo>
                <a:lnTo>
                  <a:pt x="1715" y="16"/>
                </a:lnTo>
                <a:lnTo>
                  <a:pt x="1751" y="14"/>
                </a:lnTo>
                <a:lnTo>
                  <a:pt x="1786" y="10"/>
                </a:lnTo>
                <a:lnTo>
                  <a:pt x="1818" y="8"/>
                </a:lnTo>
                <a:lnTo>
                  <a:pt x="1851" y="6"/>
                </a:lnTo>
                <a:lnTo>
                  <a:pt x="1882" y="4"/>
                </a:lnTo>
                <a:lnTo>
                  <a:pt x="1910" y="2"/>
                </a:lnTo>
                <a:lnTo>
                  <a:pt x="1939" y="2"/>
                </a:lnTo>
                <a:lnTo>
                  <a:pt x="1966" y="0"/>
                </a:lnTo>
                <a:lnTo>
                  <a:pt x="1991" y="0"/>
                </a:lnTo>
                <a:lnTo>
                  <a:pt x="2016" y="0"/>
                </a:lnTo>
                <a:lnTo>
                  <a:pt x="2037" y="0"/>
                </a:lnTo>
                <a:lnTo>
                  <a:pt x="2056" y="0"/>
                </a:lnTo>
                <a:lnTo>
                  <a:pt x="2077" y="2"/>
                </a:lnTo>
                <a:lnTo>
                  <a:pt x="2097" y="2"/>
                </a:lnTo>
                <a:lnTo>
                  <a:pt x="2114" y="4"/>
                </a:lnTo>
                <a:lnTo>
                  <a:pt x="2133" y="6"/>
                </a:lnTo>
                <a:lnTo>
                  <a:pt x="2150" y="8"/>
                </a:lnTo>
                <a:lnTo>
                  <a:pt x="2166" y="10"/>
                </a:lnTo>
                <a:lnTo>
                  <a:pt x="2181" y="14"/>
                </a:lnTo>
                <a:lnTo>
                  <a:pt x="2196" y="18"/>
                </a:lnTo>
                <a:lnTo>
                  <a:pt x="2212" y="22"/>
                </a:lnTo>
                <a:lnTo>
                  <a:pt x="2223" y="25"/>
                </a:lnTo>
                <a:lnTo>
                  <a:pt x="2237" y="29"/>
                </a:lnTo>
                <a:lnTo>
                  <a:pt x="2248" y="35"/>
                </a:lnTo>
                <a:lnTo>
                  <a:pt x="2260" y="41"/>
                </a:lnTo>
                <a:lnTo>
                  <a:pt x="2269" y="47"/>
                </a:lnTo>
                <a:lnTo>
                  <a:pt x="2283" y="60"/>
                </a:lnTo>
                <a:lnTo>
                  <a:pt x="2294" y="73"/>
                </a:lnTo>
                <a:lnTo>
                  <a:pt x="2300" y="79"/>
                </a:lnTo>
                <a:lnTo>
                  <a:pt x="2306" y="85"/>
                </a:lnTo>
                <a:lnTo>
                  <a:pt x="2310" y="91"/>
                </a:lnTo>
                <a:lnTo>
                  <a:pt x="2314" y="96"/>
                </a:lnTo>
                <a:lnTo>
                  <a:pt x="2317" y="102"/>
                </a:lnTo>
                <a:lnTo>
                  <a:pt x="2319" y="108"/>
                </a:lnTo>
                <a:lnTo>
                  <a:pt x="2321" y="112"/>
                </a:lnTo>
                <a:lnTo>
                  <a:pt x="2323" y="116"/>
                </a:lnTo>
                <a:lnTo>
                  <a:pt x="2323" y="119"/>
                </a:lnTo>
                <a:lnTo>
                  <a:pt x="2323" y="123"/>
                </a:lnTo>
                <a:lnTo>
                  <a:pt x="2321" y="127"/>
                </a:lnTo>
                <a:lnTo>
                  <a:pt x="2319" y="129"/>
                </a:lnTo>
                <a:lnTo>
                  <a:pt x="2317" y="129"/>
                </a:lnTo>
                <a:lnTo>
                  <a:pt x="2315" y="131"/>
                </a:lnTo>
                <a:lnTo>
                  <a:pt x="2312" y="133"/>
                </a:lnTo>
                <a:lnTo>
                  <a:pt x="2308" y="133"/>
                </a:lnTo>
                <a:lnTo>
                  <a:pt x="2304" y="135"/>
                </a:lnTo>
                <a:lnTo>
                  <a:pt x="2298" y="135"/>
                </a:lnTo>
                <a:lnTo>
                  <a:pt x="2292" y="137"/>
                </a:lnTo>
                <a:lnTo>
                  <a:pt x="2285" y="137"/>
                </a:lnTo>
                <a:lnTo>
                  <a:pt x="2277" y="139"/>
                </a:lnTo>
                <a:lnTo>
                  <a:pt x="2267" y="139"/>
                </a:lnTo>
                <a:lnTo>
                  <a:pt x="2258" y="141"/>
                </a:lnTo>
                <a:lnTo>
                  <a:pt x="2246" y="141"/>
                </a:lnTo>
                <a:lnTo>
                  <a:pt x="2237" y="143"/>
                </a:lnTo>
                <a:lnTo>
                  <a:pt x="2223" y="143"/>
                </a:lnTo>
                <a:lnTo>
                  <a:pt x="2212" y="144"/>
                </a:lnTo>
                <a:lnTo>
                  <a:pt x="2198" y="144"/>
                </a:lnTo>
                <a:lnTo>
                  <a:pt x="2183" y="146"/>
                </a:lnTo>
                <a:lnTo>
                  <a:pt x="2168" y="146"/>
                </a:lnTo>
                <a:lnTo>
                  <a:pt x="2152" y="146"/>
                </a:lnTo>
                <a:lnTo>
                  <a:pt x="2135" y="148"/>
                </a:lnTo>
                <a:lnTo>
                  <a:pt x="2118" y="148"/>
                </a:lnTo>
                <a:lnTo>
                  <a:pt x="2100" y="148"/>
                </a:lnTo>
                <a:lnTo>
                  <a:pt x="2081" y="150"/>
                </a:lnTo>
                <a:lnTo>
                  <a:pt x="2060" y="150"/>
                </a:lnTo>
                <a:lnTo>
                  <a:pt x="2041" y="150"/>
                </a:lnTo>
                <a:lnTo>
                  <a:pt x="2020" y="150"/>
                </a:lnTo>
                <a:lnTo>
                  <a:pt x="1997" y="152"/>
                </a:lnTo>
                <a:lnTo>
                  <a:pt x="1974" y="152"/>
                </a:lnTo>
                <a:lnTo>
                  <a:pt x="1951" y="152"/>
                </a:lnTo>
                <a:lnTo>
                  <a:pt x="1926" y="152"/>
                </a:lnTo>
                <a:lnTo>
                  <a:pt x="1901" y="152"/>
                </a:lnTo>
                <a:lnTo>
                  <a:pt x="1876" y="152"/>
                </a:lnTo>
                <a:lnTo>
                  <a:pt x="1772" y="152"/>
                </a:lnTo>
                <a:lnTo>
                  <a:pt x="1668" y="154"/>
                </a:lnTo>
                <a:lnTo>
                  <a:pt x="1569" y="156"/>
                </a:lnTo>
                <a:lnTo>
                  <a:pt x="1469" y="160"/>
                </a:lnTo>
                <a:lnTo>
                  <a:pt x="1371" y="166"/>
                </a:lnTo>
                <a:lnTo>
                  <a:pt x="1323" y="167"/>
                </a:lnTo>
                <a:lnTo>
                  <a:pt x="1275" y="171"/>
                </a:lnTo>
                <a:lnTo>
                  <a:pt x="1229" y="175"/>
                </a:lnTo>
                <a:lnTo>
                  <a:pt x="1181" y="179"/>
                </a:lnTo>
                <a:lnTo>
                  <a:pt x="1135" y="183"/>
                </a:lnTo>
                <a:lnTo>
                  <a:pt x="1091" y="187"/>
                </a:lnTo>
                <a:lnTo>
                  <a:pt x="1044" y="194"/>
                </a:lnTo>
                <a:lnTo>
                  <a:pt x="1000" y="200"/>
                </a:lnTo>
                <a:lnTo>
                  <a:pt x="958" y="206"/>
                </a:lnTo>
                <a:lnTo>
                  <a:pt x="914" y="212"/>
                </a:lnTo>
                <a:lnTo>
                  <a:pt x="872" y="217"/>
                </a:lnTo>
                <a:lnTo>
                  <a:pt x="831" y="223"/>
                </a:lnTo>
                <a:lnTo>
                  <a:pt x="789" y="229"/>
                </a:lnTo>
                <a:lnTo>
                  <a:pt x="749" y="235"/>
                </a:lnTo>
                <a:lnTo>
                  <a:pt x="710" y="238"/>
                </a:lnTo>
                <a:lnTo>
                  <a:pt x="672" y="244"/>
                </a:lnTo>
                <a:lnTo>
                  <a:pt x="634" y="250"/>
                </a:lnTo>
                <a:lnTo>
                  <a:pt x="597" y="256"/>
                </a:lnTo>
                <a:lnTo>
                  <a:pt x="561" y="262"/>
                </a:lnTo>
                <a:lnTo>
                  <a:pt x="524" y="267"/>
                </a:lnTo>
                <a:lnTo>
                  <a:pt x="490" y="273"/>
                </a:lnTo>
                <a:lnTo>
                  <a:pt x="457" y="2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17"/>
          <p:cNvSpPr/>
          <p:nvPr/>
        </p:nvSpPr>
        <p:spPr>
          <a:xfrm>
            <a:off x="6808680" y="2747880"/>
            <a:ext cx="273240" cy="534960"/>
          </a:xfrm>
          <a:custGeom>
            <a:avLst/>
            <a:gdLst/>
            <a:ahLst/>
            <a:rect l="l" t="t" r="r" b="b"/>
            <a:pathLst>
              <a:path w="346" h="673">
                <a:moveTo>
                  <a:pt x="115" y="172"/>
                </a:moveTo>
                <a:lnTo>
                  <a:pt x="117" y="161"/>
                </a:lnTo>
                <a:lnTo>
                  <a:pt x="117" y="151"/>
                </a:lnTo>
                <a:lnTo>
                  <a:pt x="119" y="142"/>
                </a:lnTo>
                <a:lnTo>
                  <a:pt x="119" y="132"/>
                </a:lnTo>
                <a:lnTo>
                  <a:pt x="119" y="124"/>
                </a:lnTo>
                <a:lnTo>
                  <a:pt x="119" y="117"/>
                </a:lnTo>
                <a:lnTo>
                  <a:pt x="117" y="109"/>
                </a:lnTo>
                <a:lnTo>
                  <a:pt x="115" y="101"/>
                </a:lnTo>
                <a:lnTo>
                  <a:pt x="114" y="96"/>
                </a:lnTo>
                <a:lnTo>
                  <a:pt x="112" y="90"/>
                </a:lnTo>
                <a:lnTo>
                  <a:pt x="110" y="84"/>
                </a:lnTo>
                <a:lnTo>
                  <a:pt x="106" y="80"/>
                </a:lnTo>
                <a:lnTo>
                  <a:pt x="102" y="76"/>
                </a:lnTo>
                <a:lnTo>
                  <a:pt x="98" y="73"/>
                </a:lnTo>
                <a:lnTo>
                  <a:pt x="94" y="69"/>
                </a:lnTo>
                <a:lnTo>
                  <a:pt x="89" y="67"/>
                </a:lnTo>
                <a:lnTo>
                  <a:pt x="85" y="65"/>
                </a:lnTo>
                <a:lnTo>
                  <a:pt x="81" y="61"/>
                </a:lnTo>
                <a:lnTo>
                  <a:pt x="77" y="59"/>
                </a:lnTo>
                <a:lnTo>
                  <a:pt x="75" y="55"/>
                </a:lnTo>
                <a:lnTo>
                  <a:pt x="73" y="53"/>
                </a:lnTo>
                <a:lnTo>
                  <a:pt x="71" y="50"/>
                </a:lnTo>
                <a:lnTo>
                  <a:pt x="69" y="46"/>
                </a:lnTo>
                <a:lnTo>
                  <a:pt x="69" y="42"/>
                </a:lnTo>
                <a:lnTo>
                  <a:pt x="67" y="34"/>
                </a:lnTo>
                <a:lnTo>
                  <a:pt x="69" y="26"/>
                </a:lnTo>
                <a:lnTo>
                  <a:pt x="73" y="17"/>
                </a:lnTo>
                <a:lnTo>
                  <a:pt x="77" y="9"/>
                </a:lnTo>
                <a:lnTo>
                  <a:pt x="79" y="7"/>
                </a:lnTo>
                <a:lnTo>
                  <a:pt x="83" y="5"/>
                </a:lnTo>
                <a:lnTo>
                  <a:pt x="87" y="3"/>
                </a:lnTo>
                <a:lnTo>
                  <a:pt x="91" y="2"/>
                </a:lnTo>
                <a:lnTo>
                  <a:pt x="96" y="2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25" y="0"/>
                </a:lnTo>
                <a:lnTo>
                  <a:pt x="133" y="0"/>
                </a:lnTo>
                <a:lnTo>
                  <a:pt x="142" y="2"/>
                </a:lnTo>
                <a:lnTo>
                  <a:pt x="154" y="2"/>
                </a:lnTo>
                <a:lnTo>
                  <a:pt x="163" y="3"/>
                </a:lnTo>
                <a:lnTo>
                  <a:pt x="177" y="5"/>
                </a:lnTo>
                <a:lnTo>
                  <a:pt x="190" y="7"/>
                </a:lnTo>
                <a:lnTo>
                  <a:pt x="204" y="9"/>
                </a:lnTo>
                <a:lnTo>
                  <a:pt x="217" y="11"/>
                </a:lnTo>
                <a:lnTo>
                  <a:pt x="231" y="13"/>
                </a:lnTo>
                <a:lnTo>
                  <a:pt x="244" y="17"/>
                </a:lnTo>
                <a:lnTo>
                  <a:pt x="256" y="19"/>
                </a:lnTo>
                <a:lnTo>
                  <a:pt x="267" y="23"/>
                </a:lnTo>
                <a:lnTo>
                  <a:pt x="277" y="26"/>
                </a:lnTo>
                <a:lnTo>
                  <a:pt x="288" y="30"/>
                </a:lnTo>
                <a:lnTo>
                  <a:pt x="296" y="34"/>
                </a:lnTo>
                <a:lnTo>
                  <a:pt x="306" y="38"/>
                </a:lnTo>
                <a:lnTo>
                  <a:pt x="313" y="42"/>
                </a:lnTo>
                <a:lnTo>
                  <a:pt x="321" y="46"/>
                </a:lnTo>
                <a:lnTo>
                  <a:pt x="327" y="50"/>
                </a:lnTo>
                <a:lnTo>
                  <a:pt x="332" y="53"/>
                </a:lnTo>
                <a:lnTo>
                  <a:pt x="336" y="57"/>
                </a:lnTo>
                <a:lnTo>
                  <a:pt x="340" y="63"/>
                </a:lnTo>
                <a:lnTo>
                  <a:pt x="342" y="67"/>
                </a:lnTo>
                <a:lnTo>
                  <a:pt x="344" y="73"/>
                </a:lnTo>
                <a:lnTo>
                  <a:pt x="346" y="76"/>
                </a:lnTo>
                <a:lnTo>
                  <a:pt x="346" y="84"/>
                </a:lnTo>
                <a:lnTo>
                  <a:pt x="346" y="92"/>
                </a:lnTo>
                <a:lnTo>
                  <a:pt x="344" y="99"/>
                </a:lnTo>
                <a:lnTo>
                  <a:pt x="342" y="109"/>
                </a:lnTo>
                <a:lnTo>
                  <a:pt x="338" y="119"/>
                </a:lnTo>
                <a:lnTo>
                  <a:pt x="336" y="130"/>
                </a:lnTo>
                <a:lnTo>
                  <a:pt x="332" y="142"/>
                </a:lnTo>
                <a:lnTo>
                  <a:pt x="327" y="155"/>
                </a:lnTo>
                <a:lnTo>
                  <a:pt x="323" y="169"/>
                </a:lnTo>
                <a:lnTo>
                  <a:pt x="317" y="184"/>
                </a:lnTo>
                <a:lnTo>
                  <a:pt x="311" y="199"/>
                </a:lnTo>
                <a:lnTo>
                  <a:pt x="306" y="217"/>
                </a:lnTo>
                <a:lnTo>
                  <a:pt x="298" y="234"/>
                </a:lnTo>
                <a:lnTo>
                  <a:pt x="292" y="253"/>
                </a:lnTo>
                <a:lnTo>
                  <a:pt x="277" y="293"/>
                </a:lnTo>
                <a:lnTo>
                  <a:pt x="261" y="332"/>
                </a:lnTo>
                <a:lnTo>
                  <a:pt x="244" y="370"/>
                </a:lnTo>
                <a:lnTo>
                  <a:pt x="225" y="408"/>
                </a:lnTo>
                <a:lnTo>
                  <a:pt x="206" y="445"/>
                </a:lnTo>
                <a:lnTo>
                  <a:pt x="185" y="479"/>
                </a:lnTo>
                <a:lnTo>
                  <a:pt x="163" y="512"/>
                </a:lnTo>
                <a:lnTo>
                  <a:pt x="152" y="529"/>
                </a:lnTo>
                <a:lnTo>
                  <a:pt x="140" y="545"/>
                </a:lnTo>
                <a:lnTo>
                  <a:pt x="129" y="562"/>
                </a:lnTo>
                <a:lnTo>
                  <a:pt x="117" y="577"/>
                </a:lnTo>
                <a:lnTo>
                  <a:pt x="106" y="593"/>
                </a:lnTo>
                <a:lnTo>
                  <a:pt x="96" y="606"/>
                </a:lnTo>
                <a:lnTo>
                  <a:pt x="85" y="618"/>
                </a:lnTo>
                <a:lnTo>
                  <a:pt x="75" y="629"/>
                </a:lnTo>
                <a:lnTo>
                  <a:pt x="66" y="639"/>
                </a:lnTo>
                <a:lnTo>
                  <a:pt x="58" y="648"/>
                </a:lnTo>
                <a:lnTo>
                  <a:pt x="50" y="656"/>
                </a:lnTo>
                <a:lnTo>
                  <a:pt x="43" y="662"/>
                </a:lnTo>
                <a:lnTo>
                  <a:pt x="35" y="668"/>
                </a:lnTo>
                <a:lnTo>
                  <a:pt x="29" y="671"/>
                </a:lnTo>
                <a:lnTo>
                  <a:pt x="23" y="673"/>
                </a:lnTo>
                <a:lnTo>
                  <a:pt x="19" y="673"/>
                </a:lnTo>
                <a:lnTo>
                  <a:pt x="16" y="673"/>
                </a:lnTo>
                <a:lnTo>
                  <a:pt x="14" y="673"/>
                </a:lnTo>
                <a:lnTo>
                  <a:pt x="10" y="671"/>
                </a:lnTo>
                <a:lnTo>
                  <a:pt x="6" y="670"/>
                </a:lnTo>
                <a:lnTo>
                  <a:pt x="2" y="666"/>
                </a:lnTo>
                <a:lnTo>
                  <a:pt x="2" y="660"/>
                </a:lnTo>
                <a:lnTo>
                  <a:pt x="0" y="652"/>
                </a:lnTo>
                <a:lnTo>
                  <a:pt x="0" y="643"/>
                </a:lnTo>
                <a:lnTo>
                  <a:pt x="2" y="633"/>
                </a:lnTo>
                <a:lnTo>
                  <a:pt x="4" y="620"/>
                </a:lnTo>
                <a:lnTo>
                  <a:pt x="6" y="606"/>
                </a:lnTo>
                <a:lnTo>
                  <a:pt x="10" y="591"/>
                </a:lnTo>
                <a:lnTo>
                  <a:pt x="16" y="574"/>
                </a:lnTo>
                <a:lnTo>
                  <a:pt x="21" y="554"/>
                </a:lnTo>
                <a:lnTo>
                  <a:pt x="27" y="535"/>
                </a:lnTo>
                <a:lnTo>
                  <a:pt x="35" y="512"/>
                </a:lnTo>
                <a:lnTo>
                  <a:pt x="43" y="489"/>
                </a:lnTo>
                <a:lnTo>
                  <a:pt x="52" y="464"/>
                </a:lnTo>
                <a:lnTo>
                  <a:pt x="58" y="437"/>
                </a:lnTo>
                <a:lnTo>
                  <a:pt x="66" y="412"/>
                </a:lnTo>
                <a:lnTo>
                  <a:pt x="71" y="389"/>
                </a:lnTo>
                <a:lnTo>
                  <a:pt x="77" y="366"/>
                </a:lnTo>
                <a:lnTo>
                  <a:pt x="83" y="345"/>
                </a:lnTo>
                <a:lnTo>
                  <a:pt x="89" y="324"/>
                </a:lnTo>
                <a:lnTo>
                  <a:pt x="92" y="305"/>
                </a:lnTo>
                <a:lnTo>
                  <a:pt x="96" y="288"/>
                </a:lnTo>
                <a:lnTo>
                  <a:pt x="100" y="268"/>
                </a:lnTo>
                <a:lnTo>
                  <a:pt x="104" y="253"/>
                </a:lnTo>
                <a:lnTo>
                  <a:pt x="108" y="238"/>
                </a:lnTo>
                <a:lnTo>
                  <a:pt x="110" y="222"/>
                </a:lnTo>
                <a:lnTo>
                  <a:pt x="112" y="209"/>
                </a:lnTo>
                <a:lnTo>
                  <a:pt x="114" y="195"/>
                </a:lnTo>
                <a:lnTo>
                  <a:pt x="114" y="184"/>
                </a:lnTo>
                <a:lnTo>
                  <a:pt x="115" y="1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118"/>
          <p:cNvSpPr/>
          <p:nvPr/>
        </p:nvSpPr>
        <p:spPr>
          <a:xfrm>
            <a:off x="6099120" y="2862360"/>
            <a:ext cx="254160" cy="449280"/>
          </a:xfrm>
          <a:custGeom>
            <a:avLst/>
            <a:gdLst/>
            <a:ahLst/>
            <a:rect l="l" t="t" r="r" b="b"/>
            <a:pathLst>
              <a:path w="318" h="566">
                <a:moveTo>
                  <a:pt x="30" y="74"/>
                </a:moveTo>
                <a:lnTo>
                  <a:pt x="23" y="69"/>
                </a:lnTo>
                <a:lnTo>
                  <a:pt x="15" y="63"/>
                </a:lnTo>
                <a:lnTo>
                  <a:pt x="9" y="57"/>
                </a:lnTo>
                <a:lnTo>
                  <a:pt x="3" y="49"/>
                </a:lnTo>
                <a:lnTo>
                  <a:pt x="1" y="42"/>
                </a:lnTo>
                <a:lnTo>
                  <a:pt x="1" y="38"/>
                </a:lnTo>
                <a:lnTo>
                  <a:pt x="0" y="34"/>
                </a:lnTo>
                <a:lnTo>
                  <a:pt x="1" y="28"/>
                </a:lnTo>
                <a:lnTo>
                  <a:pt x="1" y="25"/>
                </a:lnTo>
                <a:lnTo>
                  <a:pt x="3" y="21"/>
                </a:lnTo>
                <a:lnTo>
                  <a:pt x="5" y="17"/>
                </a:lnTo>
                <a:lnTo>
                  <a:pt x="11" y="11"/>
                </a:lnTo>
                <a:lnTo>
                  <a:pt x="17" y="7"/>
                </a:lnTo>
                <a:lnTo>
                  <a:pt x="21" y="5"/>
                </a:lnTo>
                <a:lnTo>
                  <a:pt x="26" y="3"/>
                </a:lnTo>
                <a:lnTo>
                  <a:pt x="32" y="3"/>
                </a:lnTo>
                <a:lnTo>
                  <a:pt x="36" y="1"/>
                </a:lnTo>
                <a:lnTo>
                  <a:pt x="44" y="0"/>
                </a:lnTo>
                <a:lnTo>
                  <a:pt x="49" y="0"/>
                </a:lnTo>
                <a:lnTo>
                  <a:pt x="57" y="0"/>
                </a:lnTo>
                <a:lnTo>
                  <a:pt x="67" y="0"/>
                </a:lnTo>
                <a:lnTo>
                  <a:pt x="74" y="0"/>
                </a:lnTo>
                <a:lnTo>
                  <a:pt x="84" y="1"/>
                </a:lnTo>
                <a:lnTo>
                  <a:pt x="96" y="1"/>
                </a:lnTo>
                <a:lnTo>
                  <a:pt x="107" y="5"/>
                </a:lnTo>
                <a:lnTo>
                  <a:pt x="119" y="7"/>
                </a:lnTo>
                <a:lnTo>
                  <a:pt x="130" y="9"/>
                </a:lnTo>
                <a:lnTo>
                  <a:pt x="140" y="11"/>
                </a:lnTo>
                <a:lnTo>
                  <a:pt x="149" y="13"/>
                </a:lnTo>
                <a:lnTo>
                  <a:pt x="169" y="17"/>
                </a:lnTo>
                <a:lnTo>
                  <a:pt x="186" y="23"/>
                </a:lnTo>
                <a:lnTo>
                  <a:pt x="201" y="26"/>
                </a:lnTo>
                <a:lnTo>
                  <a:pt x="217" y="30"/>
                </a:lnTo>
                <a:lnTo>
                  <a:pt x="232" y="34"/>
                </a:lnTo>
                <a:lnTo>
                  <a:pt x="245" y="40"/>
                </a:lnTo>
                <a:lnTo>
                  <a:pt x="253" y="42"/>
                </a:lnTo>
                <a:lnTo>
                  <a:pt x="259" y="44"/>
                </a:lnTo>
                <a:lnTo>
                  <a:pt x="265" y="48"/>
                </a:lnTo>
                <a:lnTo>
                  <a:pt x="270" y="49"/>
                </a:lnTo>
                <a:lnTo>
                  <a:pt x="280" y="57"/>
                </a:lnTo>
                <a:lnTo>
                  <a:pt x="288" y="63"/>
                </a:lnTo>
                <a:lnTo>
                  <a:pt x="293" y="69"/>
                </a:lnTo>
                <a:lnTo>
                  <a:pt x="299" y="74"/>
                </a:lnTo>
                <a:lnTo>
                  <a:pt x="305" y="80"/>
                </a:lnTo>
                <a:lnTo>
                  <a:pt x="309" y="86"/>
                </a:lnTo>
                <a:lnTo>
                  <a:pt x="311" y="90"/>
                </a:lnTo>
                <a:lnTo>
                  <a:pt x="313" y="94"/>
                </a:lnTo>
                <a:lnTo>
                  <a:pt x="314" y="99"/>
                </a:lnTo>
                <a:lnTo>
                  <a:pt x="316" y="107"/>
                </a:lnTo>
                <a:lnTo>
                  <a:pt x="318" y="117"/>
                </a:lnTo>
                <a:lnTo>
                  <a:pt x="318" y="128"/>
                </a:lnTo>
                <a:lnTo>
                  <a:pt x="318" y="142"/>
                </a:lnTo>
                <a:lnTo>
                  <a:pt x="318" y="155"/>
                </a:lnTo>
                <a:lnTo>
                  <a:pt x="318" y="172"/>
                </a:lnTo>
                <a:lnTo>
                  <a:pt x="318" y="190"/>
                </a:lnTo>
                <a:lnTo>
                  <a:pt x="318" y="209"/>
                </a:lnTo>
                <a:lnTo>
                  <a:pt x="316" y="230"/>
                </a:lnTo>
                <a:lnTo>
                  <a:pt x="314" y="253"/>
                </a:lnTo>
                <a:lnTo>
                  <a:pt x="313" y="278"/>
                </a:lnTo>
                <a:lnTo>
                  <a:pt x="311" y="303"/>
                </a:lnTo>
                <a:lnTo>
                  <a:pt x="309" y="332"/>
                </a:lnTo>
                <a:lnTo>
                  <a:pt x="307" y="359"/>
                </a:lnTo>
                <a:lnTo>
                  <a:pt x="305" y="383"/>
                </a:lnTo>
                <a:lnTo>
                  <a:pt x="303" y="408"/>
                </a:lnTo>
                <a:lnTo>
                  <a:pt x="299" y="431"/>
                </a:lnTo>
                <a:lnTo>
                  <a:pt x="297" y="453"/>
                </a:lnTo>
                <a:lnTo>
                  <a:pt x="295" y="470"/>
                </a:lnTo>
                <a:lnTo>
                  <a:pt x="293" y="489"/>
                </a:lnTo>
                <a:lnTo>
                  <a:pt x="291" y="504"/>
                </a:lnTo>
                <a:lnTo>
                  <a:pt x="288" y="518"/>
                </a:lnTo>
                <a:lnTo>
                  <a:pt x="286" y="529"/>
                </a:lnTo>
                <a:lnTo>
                  <a:pt x="284" y="541"/>
                </a:lnTo>
                <a:lnTo>
                  <a:pt x="282" y="549"/>
                </a:lnTo>
                <a:lnTo>
                  <a:pt x="278" y="554"/>
                </a:lnTo>
                <a:lnTo>
                  <a:pt x="276" y="560"/>
                </a:lnTo>
                <a:lnTo>
                  <a:pt x="274" y="562"/>
                </a:lnTo>
                <a:lnTo>
                  <a:pt x="272" y="564"/>
                </a:lnTo>
                <a:lnTo>
                  <a:pt x="266" y="566"/>
                </a:lnTo>
                <a:lnTo>
                  <a:pt x="263" y="564"/>
                </a:lnTo>
                <a:lnTo>
                  <a:pt x="257" y="564"/>
                </a:lnTo>
                <a:lnTo>
                  <a:pt x="253" y="560"/>
                </a:lnTo>
                <a:lnTo>
                  <a:pt x="247" y="554"/>
                </a:lnTo>
                <a:lnTo>
                  <a:pt x="243" y="549"/>
                </a:lnTo>
                <a:lnTo>
                  <a:pt x="238" y="541"/>
                </a:lnTo>
                <a:lnTo>
                  <a:pt x="234" y="531"/>
                </a:lnTo>
                <a:lnTo>
                  <a:pt x="228" y="522"/>
                </a:lnTo>
                <a:lnTo>
                  <a:pt x="224" y="510"/>
                </a:lnTo>
                <a:lnTo>
                  <a:pt x="218" y="497"/>
                </a:lnTo>
                <a:lnTo>
                  <a:pt x="215" y="481"/>
                </a:lnTo>
                <a:lnTo>
                  <a:pt x="209" y="466"/>
                </a:lnTo>
                <a:lnTo>
                  <a:pt x="205" y="449"/>
                </a:lnTo>
                <a:lnTo>
                  <a:pt x="199" y="431"/>
                </a:lnTo>
                <a:lnTo>
                  <a:pt x="195" y="412"/>
                </a:lnTo>
                <a:lnTo>
                  <a:pt x="188" y="393"/>
                </a:lnTo>
                <a:lnTo>
                  <a:pt x="182" y="374"/>
                </a:lnTo>
                <a:lnTo>
                  <a:pt x="176" y="357"/>
                </a:lnTo>
                <a:lnTo>
                  <a:pt x="169" y="337"/>
                </a:lnTo>
                <a:lnTo>
                  <a:pt x="163" y="320"/>
                </a:lnTo>
                <a:lnTo>
                  <a:pt x="159" y="305"/>
                </a:lnTo>
                <a:lnTo>
                  <a:pt x="153" y="287"/>
                </a:lnTo>
                <a:lnTo>
                  <a:pt x="147" y="272"/>
                </a:lnTo>
                <a:lnTo>
                  <a:pt x="144" y="257"/>
                </a:lnTo>
                <a:lnTo>
                  <a:pt x="140" y="243"/>
                </a:lnTo>
                <a:lnTo>
                  <a:pt x="134" y="228"/>
                </a:lnTo>
                <a:lnTo>
                  <a:pt x="130" y="216"/>
                </a:lnTo>
                <a:lnTo>
                  <a:pt x="128" y="203"/>
                </a:lnTo>
                <a:lnTo>
                  <a:pt x="124" y="190"/>
                </a:lnTo>
                <a:lnTo>
                  <a:pt x="122" y="178"/>
                </a:lnTo>
                <a:lnTo>
                  <a:pt x="119" y="168"/>
                </a:lnTo>
                <a:lnTo>
                  <a:pt x="109" y="151"/>
                </a:lnTo>
                <a:lnTo>
                  <a:pt x="99" y="134"/>
                </a:lnTo>
                <a:lnTo>
                  <a:pt x="90" y="120"/>
                </a:lnTo>
                <a:lnTo>
                  <a:pt x="80" y="107"/>
                </a:lnTo>
                <a:lnTo>
                  <a:pt x="69" y="97"/>
                </a:lnTo>
                <a:lnTo>
                  <a:pt x="57" y="88"/>
                </a:lnTo>
                <a:lnTo>
                  <a:pt x="51" y="84"/>
                </a:lnTo>
                <a:lnTo>
                  <a:pt x="44" y="80"/>
                </a:lnTo>
                <a:lnTo>
                  <a:pt x="38" y="76"/>
                </a:lnTo>
                <a:lnTo>
                  <a:pt x="30" y="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2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两个“王”字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33"/>
          <p:cNvSpPr/>
          <p:nvPr/>
        </p:nvSpPr>
        <p:spPr>
          <a:xfrm>
            <a:off x="7229520" y="4073400"/>
            <a:ext cx="517320" cy="400320"/>
          </a:xfrm>
          <a:custGeom>
            <a:avLst/>
            <a:gdLst/>
            <a:ahLst/>
            <a:rect l="l" t="t" r="r" b="b"/>
            <a:pathLst>
              <a:path w="650" h="505">
                <a:moveTo>
                  <a:pt x="641" y="450"/>
                </a:moveTo>
                <a:lnTo>
                  <a:pt x="639" y="457"/>
                </a:lnTo>
                <a:lnTo>
                  <a:pt x="637" y="465"/>
                </a:lnTo>
                <a:lnTo>
                  <a:pt x="633" y="471"/>
                </a:lnTo>
                <a:lnTo>
                  <a:pt x="631" y="476"/>
                </a:lnTo>
                <a:lnTo>
                  <a:pt x="627" y="480"/>
                </a:lnTo>
                <a:lnTo>
                  <a:pt x="625" y="486"/>
                </a:lnTo>
                <a:lnTo>
                  <a:pt x="623" y="490"/>
                </a:lnTo>
                <a:lnTo>
                  <a:pt x="619" y="492"/>
                </a:lnTo>
                <a:lnTo>
                  <a:pt x="616" y="498"/>
                </a:lnTo>
                <a:lnTo>
                  <a:pt x="610" y="501"/>
                </a:lnTo>
                <a:lnTo>
                  <a:pt x="604" y="503"/>
                </a:lnTo>
                <a:lnTo>
                  <a:pt x="600" y="505"/>
                </a:lnTo>
                <a:lnTo>
                  <a:pt x="596" y="503"/>
                </a:lnTo>
                <a:lnTo>
                  <a:pt x="593" y="503"/>
                </a:lnTo>
                <a:lnTo>
                  <a:pt x="589" y="501"/>
                </a:lnTo>
                <a:lnTo>
                  <a:pt x="585" y="501"/>
                </a:lnTo>
                <a:lnTo>
                  <a:pt x="581" y="498"/>
                </a:lnTo>
                <a:lnTo>
                  <a:pt x="575" y="496"/>
                </a:lnTo>
                <a:lnTo>
                  <a:pt x="570" y="494"/>
                </a:lnTo>
                <a:lnTo>
                  <a:pt x="562" y="490"/>
                </a:lnTo>
                <a:lnTo>
                  <a:pt x="548" y="480"/>
                </a:lnTo>
                <a:lnTo>
                  <a:pt x="533" y="471"/>
                </a:lnTo>
                <a:lnTo>
                  <a:pt x="516" y="459"/>
                </a:lnTo>
                <a:lnTo>
                  <a:pt x="497" y="446"/>
                </a:lnTo>
                <a:lnTo>
                  <a:pt x="476" y="430"/>
                </a:lnTo>
                <a:lnTo>
                  <a:pt x="453" y="413"/>
                </a:lnTo>
                <a:lnTo>
                  <a:pt x="428" y="394"/>
                </a:lnTo>
                <a:lnTo>
                  <a:pt x="401" y="373"/>
                </a:lnTo>
                <a:lnTo>
                  <a:pt x="372" y="350"/>
                </a:lnTo>
                <a:lnTo>
                  <a:pt x="343" y="327"/>
                </a:lnTo>
                <a:lnTo>
                  <a:pt x="310" y="300"/>
                </a:lnTo>
                <a:lnTo>
                  <a:pt x="278" y="273"/>
                </a:lnTo>
                <a:lnTo>
                  <a:pt x="245" y="246"/>
                </a:lnTo>
                <a:lnTo>
                  <a:pt x="230" y="233"/>
                </a:lnTo>
                <a:lnTo>
                  <a:pt x="215" y="219"/>
                </a:lnTo>
                <a:lnTo>
                  <a:pt x="199" y="206"/>
                </a:lnTo>
                <a:lnTo>
                  <a:pt x="186" y="194"/>
                </a:lnTo>
                <a:lnTo>
                  <a:pt x="172" y="183"/>
                </a:lnTo>
                <a:lnTo>
                  <a:pt x="159" y="169"/>
                </a:lnTo>
                <a:lnTo>
                  <a:pt x="145" y="160"/>
                </a:lnTo>
                <a:lnTo>
                  <a:pt x="134" y="148"/>
                </a:lnTo>
                <a:lnTo>
                  <a:pt x="122" y="139"/>
                </a:lnTo>
                <a:lnTo>
                  <a:pt x="111" y="127"/>
                </a:lnTo>
                <a:lnTo>
                  <a:pt x="99" y="117"/>
                </a:lnTo>
                <a:lnTo>
                  <a:pt x="90" y="108"/>
                </a:lnTo>
                <a:lnTo>
                  <a:pt x="80" y="100"/>
                </a:lnTo>
                <a:lnTo>
                  <a:pt x="71" y="91"/>
                </a:lnTo>
                <a:lnTo>
                  <a:pt x="63" y="83"/>
                </a:lnTo>
                <a:lnTo>
                  <a:pt x="55" y="75"/>
                </a:lnTo>
                <a:lnTo>
                  <a:pt x="48" y="68"/>
                </a:lnTo>
                <a:lnTo>
                  <a:pt x="40" y="62"/>
                </a:lnTo>
                <a:lnTo>
                  <a:pt x="34" y="56"/>
                </a:lnTo>
                <a:lnTo>
                  <a:pt x="28" y="48"/>
                </a:lnTo>
                <a:lnTo>
                  <a:pt x="23" y="45"/>
                </a:lnTo>
                <a:lnTo>
                  <a:pt x="17" y="39"/>
                </a:lnTo>
                <a:lnTo>
                  <a:pt x="13" y="33"/>
                </a:lnTo>
                <a:lnTo>
                  <a:pt x="9" y="29"/>
                </a:lnTo>
                <a:lnTo>
                  <a:pt x="7" y="25"/>
                </a:lnTo>
                <a:lnTo>
                  <a:pt x="3" y="23"/>
                </a:lnTo>
                <a:lnTo>
                  <a:pt x="1" y="20"/>
                </a:lnTo>
                <a:lnTo>
                  <a:pt x="0" y="18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1" y="8"/>
                </a:lnTo>
                <a:lnTo>
                  <a:pt x="3" y="6"/>
                </a:lnTo>
                <a:lnTo>
                  <a:pt x="7" y="4"/>
                </a:lnTo>
                <a:lnTo>
                  <a:pt x="11" y="4"/>
                </a:lnTo>
                <a:lnTo>
                  <a:pt x="15" y="2"/>
                </a:lnTo>
                <a:lnTo>
                  <a:pt x="19" y="2"/>
                </a:lnTo>
                <a:lnTo>
                  <a:pt x="23" y="2"/>
                </a:lnTo>
                <a:lnTo>
                  <a:pt x="28" y="0"/>
                </a:lnTo>
                <a:lnTo>
                  <a:pt x="40" y="0"/>
                </a:lnTo>
                <a:lnTo>
                  <a:pt x="53" y="0"/>
                </a:lnTo>
                <a:lnTo>
                  <a:pt x="69" y="0"/>
                </a:lnTo>
                <a:lnTo>
                  <a:pt x="78" y="0"/>
                </a:lnTo>
                <a:lnTo>
                  <a:pt x="88" y="2"/>
                </a:lnTo>
                <a:lnTo>
                  <a:pt x="99" y="2"/>
                </a:lnTo>
                <a:lnTo>
                  <a:pt x="111" y="6"/>
                </a:lnTo>
                <a:lnTo>
                  <a:pt x="124" y="8"/>
                </a:lnTo>
                <a:lnTo>
                  <a:pt x="140" y="12"/>
                </a:lnTo>
                <a:lnTo>
                  <a:pt x="155" y="16"/>
                </a:lnTo>
                <a:lnTo>
                  <a:pt x="172" y="20"/>
                </a:lnTo>
                <a:lnTo>
                  <a:pt x="190" y="25"/>
                </a:lnTo>
                <a:lnTo>
                  <a:pt x="209" y="31"/>
                </a:lnTo>
                <a:lnTo>
                  <a:pt x="230" y="39"/>
                </a:lnTo>
                <a:lnTo>
                  <a:pt x="251" y="46"/>
                </a:lnTo>
                <a:lnTo>
                  <a:pt x="274" y="54"/>
                </a:lnTo>
                <a:lnTo>
                  <a:pt x="297" y="62"/>
                </a:lnTo>
                <a:lnTo>
                  <a:pt x="322" y="71"/>
                </a:lnTo>
                <a:lnTo>
                  <a:pt x="349" y="83"/>
                </a:lnTo>
                <a:lnTo>
                  <a:pt x="374" y="94"/>
                </a:lnTo>
                <a:lnTo>
                  <a:pt x="397" y="108"/>
                </a:lnTo>
                <a:lnTo>
                  <a:pt x="420" y="119"/>
                </a:lnTo>
                <a:lnTo>
                  <a:pt x="443" y="131"/>
                </a:lnTo>
                <a:lnTo>
                  <a:pt x="462" y="142"/>
                </a:lnTo>
                <a:lnTo>
                  <a:pt x="481" y="154"/>
                </a:lnTo>
                <a:lnTo>
                  <a:pt x="500" y="165"/>
                </a:lnTo>
                <a:lnTo>
                  <a:pt x="518" y="177"/>
                </a:lnTo>
                <a:lnTo>
                  <a:pt x="533" y="188"/>
                </a:lnTo>
                <a:lnTo>
                  <a:pt x="548" y="200"/>
                </a:lnTo>
                <a:lnTo>
                  <a:pt x="562" y="212"/>
                </a:lnTo>
                <a:lnTo>
                  <a:pt x="573" y="223"/>
                </a:lnTo>
                <a:lnTo>
                  <a:pt x="585" y="236"/>
                </a:lnTo>
                <a:lnTo>
                  <a:pt x="596" y="248"/>
                </a:lnTo>
                <a:lnTo>
                  <a:pt x="604" y="260"/>
                </a:lnTo>
                <a:lnTo>
                  <a:pt x="614" y="273"/>
                </a:lnTo>
                <a:lnTo>
                  <a:pt x="621" y="286"/>
                </a:lnTo>
                <a:lnTo>
                  <a:pt x="627" y="298"/>
                </a:lnTo>
                <a:lnTo>
                  <a:pt x="633" y="311"/>
                </a:lnTo>
                <a:lnTo>
                  <a:pt x="637" y="323"/>
                </a:lnTo>
                <a:lnTo>
                  <a:pt x="641" y="336"/>
                </a:lnTo>
                <a:lnTo>
                  <a:pt x="644" y="348"/>
                </a:lnTo>
                <a:lnTo>
                  <a:pt x="646" y="359"/>
                </a:lnTo>
                <a:lnTo>
                  <a:pt x="648" y="371"/>
                </a:lnTo>
                <a:lnTo>
                  <a:pt x="648" y="382"/>
                </a:lnTo>
                <a:lnTo>
                  <a:pt x="650" y="394"/>
                </a:lnTo>
                <a:lnTo>
                  <a:pt x="648" y="403"/>
                </a:lnTo>
                <a:lnTo>
                  <a:pt x="648" y="415"/>
                </a:lnTo>
                <a:lnTo>
                  <a:pt x="646" y="425"/>
                </a:lnTo>
                <a:lnTo>
                  <a:pt x="646" y="434"/>
                </a:lnTo>
                <a:lnTo>
                  <a:pt x="644" y="442"/>
                </a:lnTo>
                <a:lnTo>
                  <a:pt x="641" y="4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34"/>
          <p:cNvSpPr/>
          <p:nvPr/>
        </p:nvSpPr>
        <p:spPr>
          <a:xfrm>
            <a:off x="6254640" y="3986280"/>
            <a:ext cx="298440" cy="287280"/>
          </a:xfrm>
          <a:custGeom>
            <a:avLst/>
            <a:gdLst/>
            <a:ahLst/>
            <a:rect l="l" t="t" r="r" b="b"/>
            <a:pathLst>
              <a:path w="376" h="363">
                <a:moveTo>
                  <a:pt x="376" y="246"/>
                </a:moveTo>
                <a:lnTo>
                  <a:pt x="376" y="265"/>
                </a:lnTo>
                <a:lnTo>
                  <a:pt x="374" y="284"/>
                </a:lnTo>
                <a:lnTo>
                  <a:pt x="371" y="299"/>
                </a:lnTo>
                <a:lnTo>
                  <a:pt x="367" y="315"/>
                </a:lnTo>
                <a:lnTo>
                  <a:pt x="363" y="322"/>
                </a:lnTo>
                <a:lnTo>
                  <a:pt x="361" y="328"/>
                </a:lnTo>
                <a:lnTo>
                  <a:pt x="357" y="334"/>
                </a:lnTo>
                <a:lnTo>
                  <a:pt x="353" y="340"/>
                </a:lnTo>
                <a:lnTo>
                  <a:pt x="349" y="344"/>
                </a:lnTo>
                <a:lnTo>
                  <a:pt x="346" y="347"/>
                </a:lnTo>
                <a:lnTo>
                  <a:pt x="340" y="351"/>
                </a:lnTo>
                <a:lnTo>
                  <a:pt x="336" y="355"/>
                </a:lnTo>
                <a:lnTo>
                  <a:pt x="330" y="359"/>
                </a:lnTo>
                <a:lnTo>
                  <a:pt x="323" y="361"/>
                </a:lnTo>
                <a:lnTo>
                  <a:pt x="317" y="363"/>
                </a:lnTo>
                <a:lnTo>
                  <a:pt x="309" y="363"/>
                </a:lnTo>
                <a:lnTo>
                  <a:pt x="300" y="361"/>
                </a:lnTo>
                <a:lnTo>
                  <a:pt x="290" y="357"/>
                </a:lnTo>
                <a:lnTo>
                  <a:pt x="280" y="351"/>
                </a:lnTo>
                <a:lnTo>
                  <a:pt x="271" y="344"/>
                </a:lnTo>
                <a:lnTo>
                  <a:pt x="259" y="334"/>
                </a:lnTo>
                <a:lnTo>
                  <a:pt x="246" y="322"/>
                </a:lnTo>
                <a:lnTo>
                  <a:pt x="232" y="311"/>
                </a:lnTo>
                <a:lnTo>
                  <a:pt x="219" y="296"/>
                </a:lnTo>
                <a:lnTo>
                  <a:pt x="204" y="278"/>
                </a:lnTo>
                <a:lnTo>
                  <a:pt x="188" y="261"/>
                </a:lnTo>
                <a:lnTo>
                  <a:pt x="181" y="251"/>
                </a:lnTo>
                <a:lnTo>
                  <a:pt x="171" y="240"/>
                </a:lnTo>
                <a:lnTo>
                  <a:pt x="163" y="230"/>
                </a:lnTo>
                <a:lnTo>
                  <a:pt x="154" y="219"/>
                </a:lnTo>
                <a:lnTo>
                  <a:pt x="136" y="198"/>
                </a:lnTo>
                <a:lnTo>
                  <a:pt x="119" y="178"/>
                </a:lnTo>
                <a:lnTo>
                  <a:pt x="104" y="161"/>
                </a:lnTo>
                <a:lnTo>
                  <a:pt x="88" y="144"/>
                </a:lnTo>
                <a:lnTo>
                  <a:pt x="75" y="129"/>
                </a:lnTo>
                <a:lnTo>
                  <a:pt x="63" y="113"/>
                </a:lnTo>
                <a:lnTo>
                  <a:pt x="52" y="100"/>
                </a:lnTo>
                <a:lnTo>
                  <a:pt x="40" y="86"/>
                </a:lnTo>
                <a:lnTo>
                  <a:pt x="31" y="75"/>
                </a:lnTo>
                <a:lnTo>
                  <a:pt x="23" y="65"/>
                </a:lnTo>
                <a:lnTo>
                  <a:pt x="16" y="56"/>
                </a:lnTo>
                <a:lnTo>
                  <a:pt x="10" y="48"/>
                </a:lnTo>
                <a:lnTo>
                  <a:pt x="6" y="40"/>
                </a:lnTo>
                <a:lnTo>
                  <a:pt x="2" y="35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lnTo>
                  <a:pt x="2" y="23"/>
                </a:lnTo>
                <a:lnTo>
                  <a:pt x="4" y="19"/>
                </a:lnTo>
                <a:lnTo>
                  <a:pt x="6" y="17"/>
                </a:lnTo>
                <a:lnTo>
                  <a:pt x="8" y="15"/>
                </a:lnTo>
                <a:lnTo>
                  <a:pt x="12" y="13"/>
                </a:lnTo>
                <a:lnTo>
                  <a:pt x="16" y="11"/>
                </a:lnTo>
                <a:lnTo>
                  <a:pt x="21" y="10"/>
                </a:lnTo>
                <a:lnTo>
                  <a:pt x="27" y="8"/>
                </a:lnTo>
                <a:lnTo>
                  <a:pt x="33" y="6"/>
                </a:lnTo>
                <a:lnTo>
                  <a:pt x="40" y="4"/>
                </a:lnTo>
                <a:lnTo>
                  <a:pt x="46" y="2"/>
                </a:lnTo>
                <a:lnTo>
                  <a:pt x="56" y="2"/>
                </a:lnTo>
                <a:lnTo>
                  <a:pt x="63" y="0"/>
                </a:lnTo>
                <a:lnTo>
                  <a:pt x="73" y="0"/>
                </a:lnTo>
                <a:lnTo>
                  <a:pt x="85" y="0"/>
                </a:lnTo>
                <a:lnTo>
                  <a:pt x="92" y="0"/>
                </a:lnTo>
                <a:lnTo>
                  <a:pt x="100" y="2"/>
                </a:lnTo>
                <a:lnTo>
                  <a:pt x="110" y="2"/>
                </a:lnTo>
                <a:lnTo>
                  <a:pt x="119" y="6"/>
                </a:lnTo>
                <a:lnTo>
                  <a:pt x="131" y="8"/>
                </a:lnTo>
                <a:lnTo>
                  <a:pt x="140" y="11"/>
                </a:lnTo>
                <a:lnTo>
                  <a:pt x="152" y="15"/>
                </a:lnTo>
                <a:lnTo>
                  <a:pt x="163" y="19"/>
                </a:lnTo>
                <a:lnTo>
                  <a:pt x="177" y="23"/>
                </a:lnTo>
                <a:lnTo>
                  <a:pt x="188" y="29"/>
                </a:lnTo>
                <a:lnTo>
                  <a:pt x="213" y="40"/>
                </a:lnTo>
                <a:lnTo>
                  <a:pt x="240" y="54"/>
                </a:lnTo>
                <a:lnTo>
                  <a:pt x="265" y="69"/>
                </a:lnTo>
                <a:lnTo>
                  <a:pt x="278" y="79"/>
                </a:lnTo>
                <a:lnTo>
                  <a:pt x="290" y="88"/>
                </a:lnTo>
                <a:lnTo>
                  <a:pt x="301" y="100"/>
                </a:lnTo>
                <a:lnTo>
                  <a:pt x="311" y="109"/>
                </a:lnTo>
                <a:lnTo>
                  <a:pt x="321" y="121"/>
                </a:lnTo>
                <a:lnTo>
                  <a:pt x="330" y="130"/>
                </a:lnTo>
                <a:lnTo>
                  <a:pt x="340" y="142"/>
                </a:lnTo>
                <a:lnTo>
                  <a:pt x="348" y="152"/>
                </a:lnTo>
                <a:lnTo>
                  <a:pt x="353" y="163"/>
                </a:lnTo>
                <a:lnTo>
                  <a:pt x="359" y="175"/>
                </a:lnTo>
                <a:lnTo>
                  <a:pt x="365" y="186"/>
                </a:lnTo>
                <a:lnTo>
                  <a:pt x="369" y="198"/>
                </a:lnTo>
                <a:lnTo>
                  <a:pt x="373" y="209"/>
                </a:lnTo>
                <a:lnTo>
                  <a:pt x="374" y="221"/>
                </a:lnTo>
                <a:lnTo>
                  <a:pt x="376" y="232"/>
                </a:lnTo>
                <a:lnTo>
                  <a:pt x="376" y="2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35"/>
          <p:cNvSpPr/>
          <p:nvPr/>
        </p:nvSpPr>
        <p:spPr>
          <a:xfrm>
            <a:off x="5578560" y="3895560"/>
            <a:ext cx="1487520" cy="1121040"/>
          </a:xfrm>
          <a:custGeom>
            <a:avLst/>
            <a:gdLst/>
            <a:ahLst/>
            <a:rect l="l" t="t" r="r" b="b"/>
            <a:pathLst>
              <a:path w="1873" h="1411">
                <a:moveTo>
                  <a:pt x="1731" y="428"/>
                </a:moveTo>
                <a:lnTo>
                  <a:pt x="1695" y="474"/>
                </a:lnTo>
                <a:lnTo>
                  <a:pt x="1658" y="518"/>
                </a:lnTo>
                <a:lnTo>
                  <a:pt x="1620" y="564"/>
                </a:lnTo>
                <a:lnTo>
                  <a:pt x="1582" y="608"/>
                </a:lnTo>
                <a:lnTo>
                  <a:pt x="1541" y="652"/>
                </a:lnTo>
                <a:lnTo>
                  <a:pt x="1499" y="696"/>
                </a:lnTo>
                <a:lnTo>
                  <a:pt x="1478" y="718"/>
                </a:lnTo>
                <a:lnTo>
                  <a:pt x="1455" y="739"/>
                </a:lnTo>
                <a:lnTo>
                  <a:pt x="1434" y="760"/>
                </a:lnTo>
                <a:lnTo>
                  <a:pt x="1411" y="781"/>
                </a:lnTo>
                <a:lnTo>
                  <a:pt x="1386" y="802"/>
                </a:lnTo>
                <a:lnTo>
                  <a:pt x="1363" y="821"/>
                </a:lnTo>
                <a:lnTo>
                  <a:pt x="1338" y="842"/>
                </a:lnTo>
                <a:lnTo>
                  <a:pt x="1311" y="863"/>
                </a:lnTo>
                <a:lnTo>
                  <a:pt x="1284" y="883"/>
                </a:lnTo>
                <a:lnTo>
                  <a:pt x="1257" y="904"/>
                </a:lnTo>
                <a:lnTo>
                  <a:pt x="1228" y="925"/>
                </a:lnTo>
                <a:lnTo>
                  <a:pt x="1200" y="944"/>
                </a:lnTo>
                <a:lnTo>
                  <a:pt x="1169" y="965"/>
                </a:lnTo>
                <a:lnTo>
                  <a:pt x="1138" y="984"/>
                </a:lnTo>
                <a:lnTo>
                  <a:pt x="1107" y="1006"/>
                </a:lnTo>
                <a:lnTo>
                  <a:pt x="1075" y="1027"/>
                </a:lnTo>
                <a:lnTo>
                  <a:pt x="1040" y="1046"/>
                </a:lnTo>
                <a:lnTo>
                  <a:pt x="1008" y="1067"/>
                </a:lnTo>
                <a:lnTo>
                  <a:pt x="971" y="1088"/>
                </a:lnTo>
                <a:lnTo>
                  <a:pt x="937" y="1109"/>
                </a:lnTo>
                <a:lnTo>
                  <a:pt x="896" y="1128"/>
                </a:lnTo>
                <a:lnTo>
                  <a:pt x="858" y="1148"/>
                </a:lnTo>
                <a:lnTo>
                  <a:pt x="820" y="1167"/>
                </a:lnTo>
                <a:lnTo>
                  <a:pt x="781" y="1186"/>
                </a:lnTo>
                <a:lnTo>
                  <a:pt x="743" y="1203"/>
                </a:lnTo>
                <a:lnTo>
                  <a:pt x="704" y="1221"/>
                </a:lnTo>
                <a:lnTo>
                  <a:pt x="668" y="1236"/>
                </a:lnTo>
                <a:lnTo>
                  <a:pt x="630" y="1251"/>
                </a:lnTo>
                <a:lnTo>
                  <a:pt x="591" y="1267"/>
                </a:lnTo>
                <a:lnTo>
                  <a:pt x="553" y="1280"/>
                </a:lnTo>
                <a:lnTo>
                  <a:pt x="514" y="1293"/>
                </a:lnTo>
                <a:lnTo>
                  <a:pt x="476" y="1307"/>
                </a:lnTo>
                <a:lnTo>
                  <a:pt x="438" y="1320"/>
                </a:lnTo>
                <a:lnTo>
                  <a:pt x="399" y="1332"/>
                </a:lnTo>
                <a:lnTo>
                  <a:pt x="361" y="1343"/>
                </a:lnTo>
                <a:lnTo>
                  <a:pt x="322" y="1353"/>
                </a:lnTo>
                <a:lnTo>
                  <a:pt x="301" y="1357"/>
                </a:lnTo>
                <a:lnTo>
                  <a:pt x="284" y="1361"/>
                </a:lnTo>
                <a:lnTo>
                  <a:pt x="265" y="1364"/>
                </a:lnTo>
                <a:lnTo>
                  <a:pt x="248" y="1368"/>
                </a:lnTo>
                <a:lnTo>
                  <a:pt x="230" y="1372"/>
                </a:lnTo>
                <a:lnTo>
                  <a:pt x="215" y="1376"/>
                </a:lnTo>
                <a:lnTo>
                  <a:pt x="198" y="1378"/>
                </a:lnTo>
                <a:lnTo>
                  <a:pt x="182" y="1382"/>
                </a:lnTo>
                <a:lnTo>
                  <a:pt x="169" y="1384"/>
                </a:lnTo>
                <a:lnTo>
                  <a:pt x="154" y="1387"/>
                </a:lnTo>
                <a:lnTo>
                  <a:pt x="140" y="1389"/>
                </a:lnTo>
                <a:lnTo>
                  <a:pt x="129" y="1393"/>
                </a:lnTo>
                <a:lnTo>
                  <a:pt x="115" y="1395"/>
                </a:lnTo>
                <a:lnTo>
                  <a:pt x="104" y="1397"/>
                </a:lnTo>
                <a:lnTo>
                  <a:pt x="92" y="1399"/>
                </a:lnTo>
                <a:lnTo>
                  <a:pt x="82" y="1401"/>
                </a:lnTo>
                <a:lnTo>
                  <a:pt x="73" y="1403"/>
                </a:lnTo>
                <a:lnTo>
                  <a:pt x="63" y="1405"/>
                </a:lnTo>
                <a:lnTo>
                  <a:pt x="56" y="1407"/>
                </a:lnTo>
                <a:lnTo>
                  <a:pt x="46" y="1409"/>
                </a:lnTo>
                <a:lnTo>
                  <a:pt x="40" y="1409"/>
                </a:lnTo>
                <a:lnTo>
                  <a:pt x="33" y="1411"/>
                </a:lnTo>
                <a:lnTo>
                  <a:pt x="27" y="1411"/>
                </a:lnTo>
                <a:lnTo>
                  <a:pt x="21" y="1411"/>
                </a:lnTo>
                <a:lnTo>
                  <a:pt x="17" y="1411"/>
                </a:lnTo>
                <a:lnTo>
                  <a:pt x="11" y="1411"/>
                </a:lnTo>
                <a:lnTo>
                  <a:pt x="10" y="1411"/>
                </a:lnTo>
                <a:lnTo>
                  <a:pt x="6" y="1411"/>
                </a:lnTo>
                <a:lnTo>
                  <a:pt x="4" y="1411"/>
                </a:lnTo>
                <a:lnTo>
                  <a:pt x="2" y="1411"/>
                </a:lnTo>
                <a:lnTo>
                  <a:pt x="0" y="1409"/>
                </a:lnTo>
                <a:lnTo>
                  <a:pt x="0" y="1407"/>
                </a:lnTo>
                <a:lnTo>
                  <a:pt x="2" y="1405"/>
                </a:lnTo>
                <a:lnTo>
                  <a:pt x="2" y="1403"/>
                </a:lnTo>
                <a:lnTo>
                  <a:pt x="4" y="1401"/>
                </a:lnTo>
                <a:lnTo>
                  <a:pt x="6" y="1399"/>
                </a:lnTo>
                <a:lnTo>
                  <a:pt x="10" y="1397"/>
                </a:lnTo>
                <a:lnTo>
                  <a:pt x="13" y="1395"/>
                </a:lnTo>
                <a:lnTo>
                  <a:pt x="17" y="1393"/>
                </a:lnTo>
                <a:lnTo>
                  <a:pt x="21" y="1389"/>
                </a:lnTo>
                <a:lnTo>
                  <a:pt x="25" y="1387"/>
                </a:lnTo>
                <a:lnTo>
                  <a:pt x="31" y="1384"/>
                </a:lnTo>
                <a:lnTo>
                  <a:pt x="36" y="1382"/>
                </a:lnTo>
                <a:lnTo>
                  <a:pt x="42" y="1378"/>
                </a:lnTo>
                <a:lnTo>
                  <a:pt x="48" y="1374"/>
                </a:lnTo>
                <a:lnTo>
                  <a:pt x="56" y="1370"/>
                </a:lnTo>
                <a:lnTo>
                  <a:pt x="63" y="1368"/>
                </a:lnTo>
                <a:lnTo>
                  <a:pt x="71" y="1363"/>
                </a:lnTo>
                <a:lnTo>
                  <a:pt x="81" y="1359"/>
                </a:lnTo>
                <a:lnTo>
                  <a:pt x="90" y="1355"/>
                </a:lnTo>
                <a:lnTo>
                  <a:pt x="100" y="1351"/>
                </a:lnTo>
                <a:lnTo>
                  <a:pt x="109" y="1347"/>
                </a:lnTo>
                <a:lnTo>
                  <a:pt x="119" y="1341"/>
                </a:lnTo>
                <a:lnTo>
                  <a:pt x="130" y="1338"/>
                </a:lnTo>
                <a:lnTo>
                  <a:pt x="142" y="1332"/>
                </a:lnTo>
                <a:lnTo>
                  <a:pt x="154" y="1326"/>
                </a:lnTo>
                <a:lnTo>
                  <a:pt x="167" y="1320"/>
                </a:lnTo>
                <a:lnTo>
                  <a:pt x="180" y="1316"/>
                </a:lnTo>
                <a:lnTo>
                  <a:pt x="194" y="1311"/>
                </a:lnTo>
                <a:lnTo>
                  <a:pt x="207" y="1303"/>
                </a:lnTo>
                <a:lnTo>
                  <a:pt x="221" y="1297"/>
                </a:lnTo>
                <a:lnTo>
                  <a:pt x="236" y="1292"/>
                </a:lnTo>
                <a:lnTo>
                  <a:pt x="251" y="1286"/>
                </a:lnTo>
                <a:lnTo>
                  <a:pt x="378" y="1234"/>
                </a:lnTo>
                <a:lnTo>
                  <a:pt x="439" y="1207"/>
                </a:lnTo>
                <a:lnTo>
                  <a:pt x="503" y="1180"/>
                </a:lnTo>
                <a:lnTo>
                  <a:pt x="566" y="1151"/>
                </a:lnTo>
                <a:lnTo>
                  <a:pt x="597" y="1136"/>
                </a:lnTo>
                <a:lnTo>
                  <a:pt x="630" y="1121"/>
                </a:lnTo>
                <a:lnTo>
                  <a:pt x="660" y="1105"/>
                </a:lnTo>
                <a:lnTo>
                  <a:pt x="691" y="1088"/>
                </a:lnTo>
                <a:lnTo>
                  <a:pt x="724" y="1071"/>
                </a:lnTo>
                <a:lnTo>
                  <a:pt x="754" y="1054"/>
                </a:lnTo>
                <a:lnTo>
                  <a:pt x="785" y="1036"/>
                </a:lnTo>
                <a:lnTo>
                  <a:pt x="816" y="1017"/>
                </a:lnTo>
                <a:lnTo>
                  <a:pt x="844" y="1000"/>
                </a:lnTo>
                <a:lnTo>
                  <a:pt x="875" y="982"/>
                </a:lnTo>
                <a:lnTo>
                  <a:pt x="902" y="963"/>
                </a:lnTo>
                <a:lnTo>
                  <a:pt x="931" y="946"/>
                </a:lnTo>
                <a:lnTo>
                  <a:pt x="958" y="929"/>
                </a:lnTo>
                <a:lnTo>
                  <a:pt x="985" y="910"/>
                </a:lnTo>
                <a:lnTo>
                  <a:pt x="1011" y="892"/>
                </a:lnTo>
                <a:lnTo>
                  <a:pt x="1036" y="875"/>
                </a:lnTo>
                <a:lnTo>
                  <a:pt x="1061" y="858"/>
                </a:lnTo>
                <a:lnTo>
                  <a:pt x="1084" y="839"/>
                </a:lnTo>
                <a:lnTo>
                  <a:pt x="1107" y="821"/>
                </a:lnTo>
                <a:lnTo>
                  <a:pt x="1130" y="804"/>
                </a:lnTo>
                <a:lnTo>
                  <a:pt x="1152" y="785"/>
                </a:lnTo>
                <a:lnTo>
                  <a:pt x="1173" y="768"/>
                </a:lnTo>
                <a:lnTo>
                  <a:pt x="1194" y="748"/>
                </a:lnTo>
                <a:lnTo>
                  <a:pt x="1215" y="731"/>
                </a:lnTo>
                <a:lnTo>
                  <a:pt x="1236" y="710"/>
                </a:lnTo>
                <a:lnTo>
                  <a:pt x="1257" y="691"/>
                </a:lnTo>
                <a:lnTo>
                  <a:pt x="1278" y="670"/>
                </a:lnTo>
                <a:lnTo>
                  <a:pt x="1299" y="647"/>
                </a:lnTo>
                <a:lnTo>
                  <a:pt x="1320" y="624"/>
                </a:lnTo>
                <a:lnTo>
                  <a:pt x="1342" y="601"/>
                </a:lnTo>
                <a:lnTo>
                  <a:pt x="1361" y="576"/>
                </a:lnTo>
                <a:lnTo>
                  <a:pt x="1382" y="551"/>
                </a:lnTo>
                <a:lnTo>
                  <a:pt x="1403" y="524"/>
                </a:lnTo>
                <a:lnTo>
                  <a:pt x="1424" y="495"/>
                </a:lnTo>
                <a:lnTo>
                  <a:pt x="1445" y="466"/>
                </a:lnTo>
                <a:lnTo>
                  <a:pt x="1466" y="435"/>
                </a:lnTo>
                <a:lnTo>
                  <a:pt x="1487" y="405"/>
                </a:lnTo>
                <a:lnTo>
                  <a:pt x="1509" y="372"/>
                </a:lnTo>
                <a:lnTo>
                  <a:pt x="1528" y="341"/>
                </a:lnTo>
                <a:lnTo>
                  <a:pt x="1547" y="315"/>
                </a:lnTo>
                <a:lnTo>
                  <a:pt x="1562" y="288"/>
                </a:lnTo>
                <a:lnTo>
                  <a:pt x="1578" y="261"/>
                </a:lnTo>
                <a:lnTo>
                  <a:pt x="1591" y="238"/>
                </a:lnTo>
                <a:lnTo>
                  <a:pt x="1605" y="217"/>
                </a:lnTo>
                <a:lnTo>
                  <a:pt x="1614" y="196"/>
                </a:lnTo>
                <a:lnTo>
                  <a:pt x="1624" y="176"/>
                </a:lnTo>
                <a:lnTo>
                  <a:pt x="1631" y="159"/>
                </a:lnTo>
                <a:lnTo>
                  <a:pt x="1639" y="142"/>
                </a:lnTo>
                <a:lnTo>
                  <a:pt x="1643" y="126"/>
                </a:lnTo>
                <a:lnTo>
                  <a:pt x="1647" y="113"/>
                </a:lnTo>
                <a:lnTo>
                  <a:pt x="1649" y="101"/>
                </a:lnTo>
                <a:lnTo>
                  <a:pt x="1651" y="90"/>
                </a:lnTo>
                <a:lnTo>
                  <a:pt x="1649" y="80"/>
                </a:lnTo>
                <a:lnTo>
                  <a:pt x="1647" y="73"/>
                </a:lnTo>
                <a:lnTo>
                  <a:pt x="1643" y="67"/>
                </a:lnTo>
                <a:lnTo>
                  <a:pt x="1639" y="61"/>
                </a:lnTo>
                <a:lnTo>
                  <a:pt x="1635" y="57"/>
                </a:lnTo>
                <a:lnTo>
                  <a:pt x="1631" y="52"/>
                </a:lnTo>
                <a:lnTo>
                  <a:pt x="1629" y="48"/>
                </a:lnTo>
                <a:lnTo>
                  <a:pt x="1628" y="42"/>
                </a:lnTo>
                <a:lnTo>
                  <a:pt x="1628" y="38"/>
                </a:lnTo>
                <a:lnTo>
                  <a:pt x="1626" y="32"/>
                </a:lnTo>
                <a:lnTo>
                  <a:pt x="1628" y="29"/>
                </a:lnTo>
                <a:lnTo>
                  <a:pt x="1628" y="25"/>
                </a:lnTo>
                <a:lnTo>
                  <a:pt x="1629" y="21"/>
                </a:lnTo>
                <a:lnTo>
                  <a:pt x="1631" y="17"/>
                </a:lnTo>
                <a:lnTo>
                  <a:pt x="1635" y="13"/>
                </a:lnTo>
                <a:lnTo>
                  <a:pt x="1639" y="9"/>
                </a:lnTo>
                <a:lnTo>
                  <a:pt x="1643" y="7"/>
                </a:lnTo>
                <a:lnTo>
                  <a:pt x="1647" y="4"/>
                </a:lnTo>
                <a:lnTo>
                  <a:pt x="1651" y="2"/>
                </a:lnTo>
                <a:lnTo>
                  <a:pt x="1654" y="0"/>
                </a:lnTo>
                <a:lnTo>
                  <a:pt x="1658" y="0"/>
                </a:lnTo>
                <a:lnTo>
                  <a:pt x="1664" y="0"/>
                </a:lnTo>
                <a:lnTo>
                  <a:pt x="1668" y="0"/>
                </a:lnTo>
                <a:lnTo>
                  <a:pt x="1676" y="0"/>
                </a:lnTo>
                <a:lnTo>
                  <a:pt x="1681" y="2"/>
                </a:lnTo>
                <a:lnTo>
                  <a:pt x="1689" y="4"/>
                </a:lnTo>
                <a:lnTo>
                  <a:pt x="1699" y="7"/>
                </a:lnTo>
                <a:lnTo>
                  <a:pt x="1706" y="11"/>
                </a:lnTo>
                <a:lnTo>
                  <a:pt x="1716" y="15"/>
                </a:lnTo>
                <a:lnTo>
                  <a:pt x="1725" y="19"/>
                </a:lnTo>
                <a:lnTo>
                  <a:pt x="1737" y="25"/>
                </a:lnTo>
                <a:lnTo>
                  <a:pt x="1748" y="30"/>
                </a:lnTo>
                <a:lnTo>
                  <a:pt x="1760" y="38"/>
                </a:lnTo>
                <a:lnTo>
                  <a:pt x="1773" y="46"/>
                </a:lnTo>
                <a:lnTo>
                  <a:pt x="1783" y="53"/>
                </a:lnTo>
                <a:lnTo>
                  <a:pt x="1793" y="61"/>
                </a:lnTo>
                <a:lnTo>
                  <a:pt x="1802" y="69"/>
                </a:lnTo>
                <a:lnTo>
                  <a:pt x="1810" y="76"/>
                </a:lnTo>
                <a:lnTo>
                  <a:pt x="1818" y="84"/>
                </a:lnTo>
                <a:lnTo>
                  <a:pt x="1825" y="92"/>
                </a:lnTo>
                <a:lnTo>
                  <a:pt x="1831" y="100"/>
                </a:lnTo>
                <a:lnTo>
                  <a:pt x="1837" y="107"/>
                </a:lnTo>
                <a:lnTo>
                  <a:pt x="1843" y="115"/>
                </a:lnTo>
                <a:lnTo>
                  <a:pt x="1848" y="123"/>
                </a:lnTo>
                <a:lnTo>
                  <a:pt x="1858" y="138"/>
                </a:lnTo>
                <a:lnTo>
                  <a:pt x="1866" y="153"/>
                </a:lnTo>
                <a:lnTo>
                  <a:pt x="1871" y="169"/>
                </a:lnTo>
                <a:lnTo>
                  <a:pt x="1873" y="176"/>
                </a:lnTo>
                <a:lnTo>
                  <a:pt x="1873" y="186"/>
                </a:lnTo>
                <a:lnTo>
                  <a:pt x="1871" y="196"/>
                </a:lnTo>
                <a:lnTo>
                  <a:pt x="1867" y="209"/>
                </a:lnTo>
                <a:lnTo>
                  <a:pt x="1864" y="220"/>
                </a:lnTo>
                <a:lnTo>
                  <a:pt x="1858" y="236"/>
                </a:lnTo>
                <a:lnTo>
                  <a:pt x="1850" y="249"/>
                </a:lnTo>
                <a:lnTo>
                  <a:pt x="1843" y="267"/>
                </a:lnTo>
                <a:lnTo>
                  <a:pt x="1833" y="284"/>
                </a:lnTo>
                <a:lnTo>
                  <a:pt x="1821" y="301"/>
                </a:lnTo>
                <a:lnTo>
                  <a:pt x="1810" y="320"/>
                </a:lnTo>
                <a:lnTo>
                  <a:pt x="1796" y="339"/>
                </a:lnTo>
                <a:lnTo>
                  <a:pt x="1781" y="361"/>
                </a:lnTo>
                <a:lnTo>
                  <a:pt x="1766" y="382"/>
                </a:lnTo>
                <a:lnTo>
                  <a:pt x="1748" y="405"/>
                </a:lnTo>
                <a:lnTo>
                  <a:pt x="1731" y="4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36"/>
          <p:cNvSpPr/>
          <p:nvPr/>
        </p:nvSpPr>
        <p:spPr>
          <a:xfrm>
            <a:off x="5973840" y="4179960"/>
            <a:ext cx="1520640" cy="758880"/>
          </a:xfrm>
          <a:custGeom>
            <a:avLst/>
            <a:gdLst/>
            <a:ahLst/>
            <a:rect l="l" t="t" r="r" b="b"/>
            <a:pathLst>
              <a:path w="1916" h="956">
                <a:moveTo>
                  <a:pt x="353" y="616"/>
                </a:moveTo>
                <a:lnTo>
                  <a:pt x="330" y="591"/>
                </a:lnTo>
                <a:lnTo>
                  <a:pt x="307" y="568"/>
                </a:lnTo>
                <a:lnTo>
                  <a:pt x="286" y="545"/>
                </a:lnTo>
                <a:lnTo>
                  <a:pt x="265" y="522"/>
                </a:lnTo>
                <a:lnTo>
                  <a:pt x="244" y="499"/>
                </a:lnTo>
                <a:lnTo>
                  <a:pt x="225" y="476"/>
                </a:lnTo>
                <a:lnTo>
                  <a:pt x="205" y="451"/>
                </a:lnTo>
                <a:lnTo>
                  <a:pt x="188" y="428"/>
                </a:lnTo>
                <a:lnTo>
                  <a:pt x="171" y="403"/>
                </a:lnTo>
                <a:lnTo>
                  <a:pt x="154" y="378"/>
                </a:lnTo>
                <a:lnTo>
                  <a:pt x="138" y="353"/>
                </a:lnTo>
                <a:lnTo>
                  <a:pt x="123" y="328"/>
                </a:lnTo>
                <a:lnTo>
                  <a:pt x="109" y="301"/>
                </a:lnTo>
                <a:lnTo>
                  <a:pt x="96" y="274"/>
                </a:lnTo>
                <a:lnTo>
                  <a:pt x="84" y="247"/>
                </a:lnTo>
                <a:lnTo>
                  <a:pt x="75" y="220"/>
                </a:lnTo>
                <a:lnTo>
                  <a:pt x="61" y="196"/>
                </a:lnTo>
                <a:lnTo>
                  <a:pt x="50" y="171"/>
                </a:lnTo>
                <a:lnTo>
                  <a:pt x="40" y="149"/>
                </a:lnTo>
                <a:lnTo>
                  <a:pt x="33" y="130"/>
                </a:lnTo>
                <a:lnTo>
                  <a:pt x="25" y="111"/>
                </a:lnTo>
                <a:lnTo>
                  <a:pt x="17" y="94"/>
                </a:lnTo>
                <a:lnTo>
                  <a:pt x="13" y="78"/>
                </a:lnTo>
                <a:lnTo>
                  <a:pt x="8" y="65"/>
                </a:lnTo>
                <a:lnTo>
                  <a:pt x="4" y="52"/>
                </a:lnTo>
                <a:lnTo>
                  <a:pt x="2" y="40"/>
                </a:lnTo>
                <a:lnTo>
                  <a:pt x="0" y="30"/>
                </a:lnTo>
                <a:lnTo>
                  <a:pt x="0" y="23"/>
                </a:lnTo>
                <a:lnTo>
                  <a:pt x="0" y="15"/>
                </a:lnTo>
                <a:lnTo>
                  <a:pt x="0" y="9"/>
                </a:lnTo>
                <a:lnTo>
                  <a:pt x="2" y="5"/>
                </a:lnTo>
                <a:lnTo>
                  <a:pt x="4" y="2"/>
                </a:lnTo>
                <a:lnTo>
                  <a:pt x="8" y="0"/>
                </a:lnTo>
                <a:lnTo>
                  <a:pt x="12" y="0"/>
                </a:lnTo>
                <a:lnTo>
                  <a:pt x="15" y="2"/>
                </a:lnTo>
                <a:lnTo>
                  <a:pt x="23" y="4"/>
                </a:lnTo>
                <a:lnTo>
                  <a:pt x="29" y="9"/>
                </a:lnTo>
                <a:lnTo>
                  <a:pt x="36" y="15"/>
                </a:lnTo>
                <a:lnTo>
                  <a:pt x="46" y="23"/>
                </a:lnTo>
                <a:lnTo>
                  <a:pt x="56" y="32"/>
                </a:lnTo>
                <a:lnTo>
                  <a:pt x="65" y="42"/>
                </a:lnTo>
                <a:lnTo>
                  <a:pt x="77" y="55"/>
                </a:lnTo>
                <a:lnTo>
                  <a:pt x="88" y="69"/>
                </a:lnTo>
                <a:lnTo>
                  <a:pt x="100" y="86"/>
                </a:lnTo>
                <a:lnTo>
                  <a:pt x="113" y="103"/>
                </a:lnTo>
                <a:lnTo>
                  <a:pt x="129" y="123"/>
                </a:lnTo>
                <a:lnTo>
                  <a:pt x="142" y="142"/>
                </a:lnTo>
                <a:lnTo>
                  <a:pt x="157" y="165"/>
                </a:lnTo>
                <a:lnTo>
                  <a:pt x="171" y="188"/>
                </a:lnTo>
                <a:lnTo>
                  <a:pt x="184" y="209"/>
                </a:lnTo>
                <a:lnTo>
                  <a:pt x="200" y="232"/>
                </a:lnTo>
                <a:lnTo>
                  <a:pt x="215" y="251"/>
                </a:lnTo>
                <a:lnTo>
                  <a:pt x="230" y="272"/>
                </a:lnTo>
                <a:lnTo>
                  <a:pt x="248" y="291"/>
                </a:lnTo>
                <a:lnTo>
                  <a:pt x="265" y="311"/>
                </a:lnTo>
                <a:lnTo>
                  <a:pt x="284" y="330"/>
                </a:lnTo>
                <a:lnTo>
                  <a:pt x="301" y="349"/>
                </a:lnTo>
                <a:lnTo>
                  <a:pt x="321" y="366"/>
                </a:lnTo>
                <a:lnTo>
                  <a:pt x="342" y="384"/>
                </a:lnTo>
                <a:lnTo>
                  <a:pt x="363" y="401"/>
                </a:lnTo>
                <a:lnTo>
                  <a:pt x="384" y="416"/>
                </a:lnTo>
                <a:lnTo>
                  <a:pt x="405" y="434"/>
                </a:lnTo>
                <a:lnTo>
                  <a:pt x="428" y="449"/>
                </a:lnTo>
                <a:lnTo>
                  <a:pt x="451" y="464"/>
                </a:lnTo>
                <a:lnTo>
                  <a:pt x="472" y="483"/>
                </a:lnTo>
                <a:lnTo>
                  <a:pt x="493" y="499"/>
                </a:lnTo>
                <a:lnTo>
                  <a:pt x="516" y="516"/>
                </a:lnTo>
                <a:lnTo>
                  <a:pt x="539" y="531"/>
                </a:lnTo>
                <a:lnTo>
                  <a:pt x="562" y="547"/>
                </a:lnTo>
                <a:lnTo>
                  <a:pt x="587" y="560"/>
                </a:lnTo>
                <a:lnTo>
                  <a:pt x="612" y="574"/>
                </a:lnTo>
                <a:lnTo>
                  <a:pt x="639" y="587"/>
                </a:lnTo>
                <a:lnTo>
                  <a:pt x="666" y="601"/>
                </a:lnTo>
                <a:lnTo>
                  <a:pt x="693" y="612"/>
                </a:lnTo>
                <a:lnTo>
                  <a:pt x="720" y="624"/>
                </a:lnTo>
                <a:lnTo>
                  <a:pt x="749" y="633"/>
                </a:lnTo>
                <a:lnTo>
                  <a:pt x="777" y="643"/>
                </a:lnTo>
                <a:lnTo>
                  <a:pt x="808" y="652"/>
                </a:lnTo>
                <a:lnTo>
                  <a:pt x="839" y="662"/>
                </a:lnTo>
                <a:lnTo>
                  <a:pt x="869" y="670"/>
                </a:lnTo>
                <a:lnTo>
                  <a:pt x="927" y="685"/>
                </a:lnTo>
                <a:lnTo>
                  <a:pt x="956" y="691"/>
                </a:lnTo>
                <a:lnTo>
                  <a:pt x="985" y="697"/>
                </a:lnTo>
                <a:lnTo>
                  <a:pt x="1011" y="702"/>
                </a:lnTo>
                <a:lnTo>
                  <a:pt x="1040" y="708"/>
                </a:lnTo>
                <a:lnTo>
                  <a:pt x="1069" y="714"/>
                </a:lnTo>
                <a:lnTo>
                  <a:pt x="1096" y="718"/>
                </a:lnTo>
                <a:lnTo>
                  <a:pt x="1123" y="721"/>
                </a:lnTo>
                <a:lnTo>
                  <a:pt x="1150" y="723"/>
                </a:lnTo>
                <a:lnTo>
                  <a:pt x="1177" y="725"/>
                </a:lnTo>
                <a:lnTo>
                  <a:pt x="1203" y="727"/>
                </a:lnTo>
                <a:lnTo>
                  <a:pt x="1228" y="727"/>
                </a:lnTo>
                <a:lnTo>
                  <a:pt x="1253" y="727"/>
                </a:lnTo>
                <a:lnTo>
                  <a:pt x="1278" y="725"/>
                </a:lnTo>
                <a:lnTo>
                  <a:pt x="1301" y="723"/>
                </a:lnTo>
                <a:lnTo>
                  <a:pt x="1324" y="723"/>
                </a:lnTo>
                <a:lnTo>
                  <a:pt x="1347" y="723"/>
                </a:lnTo>
                <a:lnTo>
                  <a:pt x="1368" y="723"/>
                </a:lnTo>
                <a:lnTo>
                  <a:pt x="1388" y="721"/>
                </a:lnTo>
                <a:lnTo>
                  <a:pt x="1407" y="720"/>
                </a:lnTo>
                <a:lnTo>
                  <a:pt x="1424" y="718"/>
                </a:lnTo>
                <a:lnTo>
                  <a:pt x="1441" y="716"/>
                </a:lnTo>
                <a:lnTo>
                  <a:pt x="1455" y="714"/>
                </a:lnTo>
                <a:lnTo>
                  <a:pt x="1470" y="712"/>
                </a:lnTo>
                <a:lnTo>
                  <a:pt x="1482" y="708"/>
                </a:lnTo>
                <a:lnTo>
                  <a:pt x="1493" y="704"/>
                </a:lnTo>
                <a:lnTo>
                  <a:pt x="1503" y="700"/>
                </a:lnTo>
                <a:lnTo>
                  <a:pt x="1511" y="697"/>
                </a:lnTo>
                <a:lnTo>
                  <a:pt x="1516" y="693"/>
                </a:lnTo>
                <a:lnTo>
                  <a:pt x="1522" y="689"/>
                </a:lnTo>
                <a:lnTo>
                  <a:pt x="1526" y="683"/>
                </a:lnTo>
                <a:lnTo>
                  <a:pt x="1528" y="679"/>
                </a:lnTo>
                <a:lnTo>
                  <a:pt x="1528" y="675"/>
                </a:lnTo>
                <a:lnTo>
                  <a:pt x="1530" y="670"/>
                </a:lnTo>
                <a:lnTo>
                  <a:pt x="1528" y="662"/>
                </a:lnTo>
                <a:lnTo>
                  <a:pt x="1528" y="654"/>
                </a:lnTo>
                <a:lnTo>
                  <a:pt x="1524" y="645"/>
                </a:lnTo>
                <a:lnTo>
                  <a:pt x="1522" y="633"/>
                </a:lnTo>
                <a:lnTo>
                  <a:pt x="1518" y="622"/>
                </a:lnTo>
                <a:lnTo>
                  <a:pt x="1514" y="608"/>
                </a:lnTo>
                <a:lnTo>
                  <a:pt x="1509" y="593"/>
                </a:lnTo>
                <a:lnTo>
                  <a:pt x="1503" y="578"/>
                </a:lnTo>
                <a:lnTo>
                  <a:pt x="1497" y="560"/>
                </a:lnTo>
                <a:lnTo>
                  <a:pt x="1491" y="541"/>
                </a:lnTo>
                <a:lnTo>
                  <a:pt x="1484" y="522"/>
                </a:lnTo>
                <a:lnTo>
                  <a:pt x="1476" y="501"/>
                </a:lnTo>
                <a:lnTo>
                  <a:pt x="1470" y="480"/>
                </a:lnTo>
                <a:lnTo>
                  <a:pt x="1459" y="458"/>
                </a:lnTo>
                <a:lnTo>
                  <a:pt x="1451" y="439"/>
                </a:lnTo>
                <a:lnTo>
                  <a:pt x="1443" y="422"/>
                </a:lnTo>
                <a:lnTo>
                  <a:pt x="1436" y="407"/>
                </a:lnTo>
                <a:lnTo>
                  <a:pt x="1430" y="391"/>
                </a:lnTo>
                <a:lnTo>
                  <a:pt x="1424" y="378"/>
                </a:lnTo>
                <a:lnTo>
                  <a:pt x="1420" y="364"/>
                </a:lnTo>
                <a:lnTo>
                  <a:pt x="1416" y="355"/>
                </a:lnTo>
                <a:lnTo>
                  <a:pt x="1413" y="343"/>
                </a:lnTo>
                <a:lnTo>
                  <a:pt x="1411" y="334"/>
                </a:lnTo>
                <a:lnTo>
                  <a:pt x="1409" y="326"/>
                </a:lnTo>
                <a:lnTo>
                  <a:pt x="1409" y="318"/>
                </a:lnTo>
                <a:lnTo>
                  <a:pt x="1409" y="313"/>
                </a:lnTo>
                <a:lnTo>
                  <a:pt x="1411" y="309"/>
                </a:lnTo>
                <a:lnTo>
                  <a:pt x="1411" y="305"/>
                </a:lnTo>
                <a:lnTo>
                  <a:pt x="1415" y="301"/>
                </a:lnTo>
                <a:lnTo>
                  <a:pt x="1416" y="301"/>
                </a:lnTo>
                <a:lnTo>
                  <a:pt x="1422" y="303"/>
                </a:lnTo>
                <a:lnTo>
                  <a:pt x="1428" y="307"/>
                </a:lnTo>
                <a:lnTo>
                  <a:pt x="1434" y="311"/>
                </a:lnTo>
                <a:lnTo>
                  <a:pt x="1443" y="316"/>
                </a:lnTo>
                <a:lnTo>
                  <a:pt x="1453" y="324"/>
                </a:lnTo>
                <a:lnTo>
                  <a:pt x="1463" y="334"/>
                </a:lnTo>
                <a:lnTo>
                  <a:pt x="1476" y="343"/>
                </a:lnTo>
                <a:lnTo>
                  <a:pt x="1487" y="355"/>
                </a:lnTo>
                <a:lnTo>
                  <a:pt x="1503" y="368"/>
                </a:lnTo>
                <a:lnTo>
                  <a:pt x="1518" y="382"/>
                </a:lnTo>
                <a:lnTo>
                  <a:pt x="1534" y="399"/>
                </a:lnTo>
                <a:lnTo>
                  <a:pt x="1551" y="416"/>
                </a:lnTo>
                <a:lnTo>
                  <a:pt x="1570" y="435"/>
                </a:lnTo>
                <a:lnTo>
                  <a:pt x="1589" y="457"/>
                </a:lnTo>
                <a:lnTo>
                  <a:pt x="1608" y="480"/>
                </a:lnTo>
                <a:lnTo>
                  <a:pt x="1628" y="501"/>
                </a:lnTo>
                <a:lnTo>
                  <a:pt x="1645" y="522"/>
                </a:lnTo>
                <a:lnTo>
                  <a:pt x="1662" y="543"/>
                </a:lnTo>
                <a:lnTo>
                  <a:pt x="1679" y="560"/>
                </a:lnTo>
                <a:lnTo>
                  <a:pt x="1695" y="578"/>
                </a:lnTo>
                <a:lnTo>
                  <a:pt x="1712" y="595"/>
                </a:lnTo>
                <a:lnTo>
                  <a:pt x="1727" y="610"/>
                </a:lnTo>
                <a:lnTo>
                  <a:pt x="1743" y="624"/>
                </a:lnTo>
                <a:lnTo>
                  <a:pt x="1758" y="637"/>
                </a:lnTo>
                <a:lnTo>
                  <a:pt x="1772" y="649"/>
                </a:lnTo>
                <a:lnTo>
                  <a:pt x="1787" y="658"/>
                </a:lnTo>
                <a:lnTo>
                  <a:pt x="1800" y="668"/>
                </a:lnTo>
                <a:lnTo>
                  <a:pt x="1812" y="677"/>
                </a:lnTo>
                <a:lnTo>
                  <a:pt x="1823" y="685"/>
                </a:lnTo>
                <a:lnTo>
                  <a:pt x="1835" y="691"/>
                </a:lnTo>
                <a:lnTo>
                  <a:pt x="1846" y="697"/>
                </a:lnTo>
                <a:lnTo>
                  <a:pt x="1862" y="712"/>
                </a:lnTo>
                <a:lnTo>
                  <a:pt x="1875" y="725"/>
                </a:lnTo>
                <a:lnTo>
                  <a:pt x="1887" y="739"/>
                </a:lnTo>
                <a:lnTo>
                  <a:pt x="1892" y="744"/>
                </a:lnTo>
                <a:lnTo>
                  <a:pt x="1896" y="750"/>
                </a:lnTo>
                <a:lnTo>
                  <a:pt x="1900" y="758"/>
                </a:lnTo>
                <a:lnTo>
                  <a:pt x="1904" y="764"/>
                </a:lnTo>
                <a:lnTo>
                  <a:pt x="1908" y="771"/>
                </a:lnTo>
                <a:lnTo>
                  <a:pt x="1912" y="777"/>
                </a:lnTo>
                <a:lnTo>
                  <a:pt x="1914" y="783"/>
                </a:lnTo>
                <a:lnTo>
                  <a:pt x="1916" y="791"/>
                </a:lnTo>
                <a:lnTo>
                  <a:pt x="1916" y="798"/>
                </a:lnTo>
                <a:lnTo>
                  <a:pt x="1916" y="806"/>
                </a:lnTo>
                <a:lnTo>
                  <a:pt x="1916" y="814"/>
                </a:lnTo>
                <a:lnTo>
                  <a:pt x="1914" y="819"/>
                </a:lnTo>
                <a:lnTo>
                  <a:pt x="1908" y="827"/>
                </a:lnTo>
                <a:lnTo>
                  <a:pt x="1902" y="835"/>
                </a:lnTo>
                <a:lnTo>
                  <a:pt x="1896" y="840"/>
                </a:lnTo>
                <a:lnTo>
                  <a:pt x="1887" y="846"/>
                </a:lnTo>
                <a:lnTo>
                  <a:pt x="1875" y="854"/>
                </a:lnTo>
                <a:lnTo>
                  <a:pt x="1864" y="860"/>
                </a:lnTo>
                <a:lnTo>
                  <a:pt x="1850" y="865"/>
                </a:lnTo>
                <a:lnTo>
                  <a:pt x="1835" y="873"/>
                </a:lnTo>
                <a:lnTo>
                  <a:pt x="1818" y="879"/>
                </a:lnTo>
                <a:lnTo>
                  <a:pt x="1798" y="887"/>
                </a:lnTo>
                <a:lnTo>
                  <a:pt x="1777" y="892"/>
                </a:lnTo>
                <a:lnTo>
                  <a:pt x="1756" y="900"/>
                </a:lnTo>
                <a:lnTo>
                  <a:pt x="1731" y="908"/>
                </a:lnTo>
                <a:lnTo>
                  <a:pt x="1706" y="915"/>
                </a:lnTo>
                <a:lnTo>
                  <a:pt x="1654" y="925"/>
                </a:lnTo>
                <a:lnTo>
                  <a:pt x="1603" y="933"/>
                </a:lnTo>
                <a:lnTo>
                  <a:pt x="1551" y="940"/>
                </a:lnTo>
                <a:lnTo>
                  <a:pt x="1499" y="946"/>
                </a:lnTo>
                <a:lnTo>
                  <a:pt x="1449" y="950"/>
                </a:lnTo>
                <a:lnTo>
                  <a:pt x="1399" y="954"/>
                </a:lnTo>
                <a:lnTo>
                  <a:pt x="1349" y="956"/>
                </a:lnTo>
                <a:lnTo>
                  <a:pt x="1301" y="956"/>
                </a:lnTo>
                <a:lnTo>
                  <a:pt x="1249" y="950"/>
                </a:lnTo>
                <a:lnTo>
                  <a:pt x="1194" y="942"/>
                </a:lnTo>
                <a:lnTo>
                  <a:pt x="1138" y="935"/>
                </a:lnTo>
                <a:lnTo>
                  <a:pt x="1109" y="929"/>
                </a:lnTo>
                <a:lnTo>
                  <a:pt x="1081" y="923"/>
                </a:lnTo>
                <a:lnTo>
                  <a:pt x="1050" y="917"/>
                </a:lnTo>
                <a:lnTo>
                  <a:pt x="1021" y="911"/>
                </a:lnTo>
                <a:lnTo>
                  <a:pt x="990" y="904"/>
                </a:lnTo>
                <a:lnTo>
                  <a:pt x="958" y="896"/>
                </a:lnTo>
                <a:lnTo>
                  <a:pt x="927" y="888"/>
                </a:lnTo>
                <a:lnTo>
                  <a:pt x="894" y="879"/>
                </a:lnTo>
                <a:lnTo>
                  <a:pt x="862" y="871"/>
                </a:lnTo>
                <a:lnTo>
                  <a:pt x="827" y="860"/>
                </a:lnTo>
                <a:lnTo>
                  <a:pt x="795" y="852"/>
                </a:lnTo>
                <a:lnTo>
                  <a:pt x="760" y="842"/>
                </a:lnTo>
                <a:lnTo>
                  <a:pt x="727" y="833"/>
                </a:lnTo>
                <a:lnTo>
                  <a:pt x="697" y="821"/>
                </a:lnTo>
                <a:lnTo>
                  <a:pt x="664" y="810"/>
                </a:lnTo>
                <a:lnTo>
                  <a:pt x="633" y="796"/>
                </a:lnTo>
                <a:lnTo>
                  <a:pt x="605" y="783"/>
                </a:lnTo>
                <a:lnTo>
                  <a:pt x="574" y="768"/>
                </a:lnTo>
                <a:lnTo>
                  <a:pt x="545" y="752"/>
                </a:lnTo>
                <a:lnTo>
                  <a:pt x="516" y="737"/>
                </a:lnTo>
                <a:lnTo>
                  <a:pt x="488" y="718"/>
                </a:lnTo>
                <a:lnTo>
                  <a:pt x="461" y="700"/>
                </a:lnTo>
                <a:lnTo>
                  <a:pt x="432" y="679"/>
                </a:lnTo>
                <a:lnTo>
                  <a:pt x="405" y="660"/>
                </a:lnTo>
                <a:lnTo>
                  <a:pt x="380" y="637"/>
                </a:lnTo>
                <a:lnTo>
                  <a:pt x="353" y="6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37"/>
          <p:cNvSpPr/>
          <p:nvPr/>
        </p:nvSpPr>
        <p:spPr>
          <a:xfrm>
            <a:off x="5468760" y="4159080"/>
            <a:ext cx="287640" cy="573120"/>
          </a:xfrm>
          <a:custGeom>
            <a:avLst/>
            <a:gdLst/>
            <a:ahLst/>
            <a:rect l="l" t="t" r="r" b="b"/>
            <a:pathLst>
              <a:path w="363" h="722">
                <a:moveTo>
                  <a:pt x="0" y="558"/>
                </a:moveTo>
                <a:lnTo>
                  <a:pt x="0" y="553"/>
                </a:lnTo>
                <a:lnTo>
                  <a:pt x="0" y="547"/>
                </a:lnTo>
                <a:lnTo>
                  <a:pt x="2" y="541"/>
                </a:lnTo>
                <a:lnTo>
                  <a:pt x="4" y="535"/>
                </a:lnTo>
                <a:lnTo>
                  <a:pt x="7" y="528"/>
                </a:lnTo>
                <a:lnTo>
                  <a:pt x="11" y="522"/>
                </a:lnTo>
                <a:lnTo>
                  <a:pt x="17" y="514"/>
                </a:lnTo>
                <a:lnTo>
                  <a:pt x="23" y="505"/>
                </a:lnTo>
                <a:lnTo>
                  <a:pt x="29" y="497"/>
                </a:lnTo>
                <a:lnTo>
                  <a:pt x="36" y="487"/>
                </a:lnTo>
                <a:lnTo>
                  <a:pt x="44" y="478"/>
                </a:lnTo>
                <a:lnTo>
                  <a:pt x="52" y="468"/>
                </a:lnTo>
                <a:lnTo>
                  <a:pt x="61" y="457"/>
                </a:lnTo>
                <a:lnTo>
                  <a:pt x="73" y="447"/>
                </a:lnTo>
                <a:lnTo>
                  <a:pt x="84" y="434"/>
                </a:lnTo>
                <a:lnTo>
                  <a:pt x="98" y="422"/>
                </a:lnTo>
                <a:lnTo>
                  <a:pt x="107" y="409"/>
                </a:lnTo>
                <a:lnTo>
                  <a:pt x="119" y="393"/>
                </a:lnTo>
                <a:lnTo>
                  <a:pt x="130" y="376"/>
                </a:lnTo>
                <a:lnTo>
                  <a:pt x="142" y="357"/>
                </a:lnTo>
                <a:lnTo>
                  <a:pt x="153" y="338"/>
                </a:lnTo>
                <a:lnTo>
                  <a:pt x="165" y="315"/>
                </a:lnTo>
                <a:lnTo>
                  <a:pt x="176" y="292"/>
                </a:lnTo>
                <a:lnTo>
                  <a:pt x="190" y="267"/>
                </a:lnTo>
                <a:lnTo>
                  <a:pt x="201" y="240"/>
                </a:lnTo>
                <a:lnTo>
                  <a:pt x="215" y="211"/>
                </a:lnTo>
                <a:lnTo>
                  <a:pt x="228" y="180"/>
                </a:lnTo>
                <a:lnTo>
                  <a:pt x="240" y="148"/>
                </a:lnTo>
                <a:lnTo>
                  <a:pt x="253" y="113"/>
                </a:lnTo>
                <a:lnTo>
                  <a:pt x="267" y="77"/>
                </a:lnTo>
                <a:lnTo>
                  <a:pt x="272" y="59"/>
                </a:lnTo>
                <a:lnTo>
                  <a:pt x="280" y="40"/>
                </a:lnTo>
                <a:lnTo>
                  <a:pt x="286" y="19"/>
                </a:lnTo>
                <a:lnTo>
                  <a:pt x="292" y="0"/>
                </a:lnTo>
                <a:lnTo>
                  <a:pt x="299" y="6"/>
                </a:lnTo>
                <a:lnTo>
                  <a:pt x="307" y="11"/>
                </a:lnTo>
                <a:lnTo>
                  <a:pt x="315" y="19"/>
                </a:lnTo>
                <a:lnTo>
                  <a:pt x="320" y="29"/>
                </a:lnTo>
                <a:lnTo>
                  <a:pt x="326" y="38"/>
                </a:lnTo>
                <a:lnTo>
                  <a:pt x="332" y="48"/>
                </a:lnTo>
                <a:lnTo>
                  <a:pt x="338" y="59"/>
                </a:lnTo>
                <a:lnTo>
                  <a:pt x="343" y="73"/>
                </a:lnTo>
                <a:lnTo>
                  <a:pt x="347" y="86"/>
                </a:lnTo>
                <a:lnTo>
                  <a:pt x="351" y="102"/>
                </a:lnTo>
                <a:lnTo>
                  <a:pt x="355" y="119"/>
                </a:lnTo>
                <a:lnTo>
                  <a:pt x="357" y="136"/>
                </a:lnTo>
                <a:lnTo>
                  <a:pt x="359" y="153"/>
                </a:lnTo>
                <a:lnTo>
                  <a:pt x="361" y="174"/>
                </a:lnTo>
                <a:lnTo>
                  <a:pt x="363" y="196"/>
                </a:lnTo>
                <a:lnTo>
                  <a:pt x="363" y="217"/>
                </a:lnTo>
                <a:lnTo>
                  <a:pt x="363" y="240"/>
                </a:lnTo>
                <a:lnTo>
                  <a:pt x="361" y="263"/>
                </a:lnTo>
                <a:lnTo>
                  <a:pt x="359" y="286"/>
                </a:lnTo>
                <a:lnTo>
                  <a:pt x="357" y="307"/>
                </a:lnTo>
                <a:lnTo>
                  <a:pt x="353" y="328"/>
                </a:lnTo>
                <a:lnTo>
                  <a:pt x="349" y="351"/>
                </a:lnTo>
                <a:lnTo>
                  <a:pt x="345" y="372"/>
                </a:lnTo>
                <a:lnTo>
                  <a:pt x="339" y="393"/>
                </a:lnTo>
                <a:lnTo>
                  <a:pt x="332" y="414"/>
                </a:lnTo>
                <a:lnTo>
                  <a:pt x="326" y="434"/>
                </a:lnTo>
                <a:lnTo>
                  <a:pt x="316" y="455"/>
                </a:lnTo>
                <a:lnTo>
                  <a:pt x="309" y="476"/>
                </a:lnTo>
                <a:lnTo>
                  <a:pt x="299" y="497"/>
                </a:lnTo>
                <a:lnTo>
                  <a:pt x="288" y="516"/>
                </a:lnTo>
                <a:lnTo>
                  <a:pt x="276" y="537"/>
                </a:lnTo>
                <a:lnTo>
                  <a:pt x="265" y="558"/>
                </a:lnTo>
                <a:lnTo>
                  <a:pt x="251" y="578"/>
                </a:lnTo>
                <a:lnTo>
                  <a:pt x="240" y="597"/>
                </a:lnTo>
                <a:lnTo>
                  <a:pt x="228" y="614"/>
                </a:lnTo>
                <a:lnTo>
                  <a:pt x="217" y="629"/>
                </a:lnTo>
                <a:lnTo>
                  <a:pt x="207" y="645"/>
                </a:lnTo>
                <a:lnTo>
                  <a:pt x="197" y="658"/>
                </a:lnTo>
                <a:lnTo>
                  <a:pt x="190" y="670"/>
                </a:lnTo>
                <a:lnTo>
                  <a:pt x="180" y="681"/>
                </a:lnTo>
                <a:lnTo>
                  <a:pt x="173" y="691"/>
                </a:lnTo>
                <a:lnTo>
                  <a:pt x="167" y="698"/>
                </a:lnTo>
                <a:lnTo>
                  <a:pt x="159" y="706"/>
                </a:lnTo>
                <a:lnTo>
                  <a:pt x="155" y="712"/>
                </a:lnTo>
                <a:lnTo>
                  <a:pt x="149" y="716"/>
                </a:lnTo>
                <a:lnTo>
                  <a:pt x="146" y="720"/>
                </a:lnTo>
                <a:lnTo>
                  <a:pt x="142" y="722"/>
                </a:lnTo>
                <a:lnTo>
                  <a:pt x="138" y="722"/>
                </a:lnTo>
                <a:lnTo>
                  <a:pt x="136" y="722"/>
                </a:lnTo>
                <a:lnTo>
                  <a:pt x="132" y="720"/>
                </a:lnTo>
                <a:lnTo>
                  <a:pt x="128" y="720"/>
                </a:lnTo>
                <a:lnTo>
                  <a:pt x="126" y="716"/>
                </a:lnTo>
                <a:lnTo>
                  <a:pt x="123" y="714"/>
                </a:lnTo>
                <a:lnTo>
                  <a:pt x="117" y="710"/>
                </a:lnTo>
                <a:lnTo>
                  <a:pt x="113" y="708"/>
                </a:lnTo>
                <a:lnTo>
                  <a:pt x="109" y="702"/>
                </a:lnTo>
                <a:lnTo>
                  <a:pt x="103" y="698"/>
                </a:lnTo>
                <a:lnTo>
                  <a:pt x="100" y="693"/>
                </a:lnTo>
                <a:lnTo>
                  <a:pt x="90" y="681"/>
                </a:lnTo>
                <a:lnTo>
                  <a:pt x="78" y="668"/>
                </a:lnTo>
                <a:lnTo>
                  <a:pt x="69" y="654"/>
                </a:lnTo>
                <a:lnTo>
                  <a:pt x="61" y="645"/>
                </a:lnTo>
                <a:lnTo>
                  <a:pt x="55" y="639"/>
                </a:lnTo>
                <a:lnTo>
                  <a:pt x="48" y="631"/>
                </a:lnTo>
                <a:lnTo>
                  <a:pt x="42" y="624"/>
                </a:lnTo>
                <a:lnTo>
                  <a:pt x="36" y="616"/>
                </a:lnTo>
                <a:lnTo>
                  <a:pt x="32" y="608"/>
                </a:lnTo>
                <a:lnTo>
                  <a:pt x="23" y="595"/>
                </a:lnTo>
                <a:lnTo>
                  <a:pt x="17" y="583"/>
                </a:lnTo>
                <a:lnTo>
                  <a:pt x="9" y="574"/>
                </a:lnTo>
                <a:lnTo>
                  <a:pt x="7" y="568"/>
                </a:lnTo>
                <a:lnTo>
                  <a:pt x="4" y="564"/>
                </a:lnTo>
                <a:lnTo>
                  <a:pt x="2" y="560"/>
                </a:lnTo>
                <a:lnTo>
                  <a:pt x="0" y="5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38"/>
          <p:cNvSpPr/>
          <p:nvPr/>
        </p:nvSpPr>
        <p:spPr>
          <a:xfrm>
            <a:off x="6962760" y="2830680"/>
            <a:ext cx="155520" cy="865080"/>
          </a:xfrm>
          <a:custGeom>
            <a:avLst/>
            <a:gdLst/>
            <a:ahLst/>
            <a:rect l="l" t="t" r="r" b="b"/>
            <a:pathLst>
              <a:path w="195" h="1090">
                <a:moveTo>
                  <a:pt x="0" y="1090"/>
                </a:moveTo>
                <a:lnTo>
                  <a:pt x="2" y="1046"/>
                </a:lnTo>
                <a:lnTo>
                  <a:pt x="3" y="1004"/>
                </a:lnTo>
                <a:lnTo>
                  <a:pt x="3" y="962"/>
                </a:lnTo>
                <a:lnTo>
                  <a:pt x="5" y="920"/>
                </a:lnTo>
                <a:lnTo>
                  <a:pt x="5" y="879"/>
                </a:lnTo>
                <a:lnTo>
                  <a:pt x="7" y="839"/>
                </a:lnTo>
                <a:lnTo>
                  <a:pt x="7" y="799"/>
                </a:lnTo>
                <a:lnTo>
                  <a:pt x="7" y="760"/>
                </a:lnTo>
                <a:lnTo>
                  <a:pt x="9" y="722"/>
                </a:lnTo>
                <a:lnTo>
                  <a:pt x="9" y="683"/>
                </a:lnTo>
                <a:lnTo>
                  <a:pt x="9" y="645"/>
                </a:lnTo>
                <a:lnTo>
                  <a:pt x="11" y="609"/>
                </a:lnTo>
                <a:lnTo>
                  <a:pt x="11" y="572"/>
                </a:lnTo>
                <a:lnTo>
                  <a:pt x="11" y="538"/>
                </a:lnTo>
                <a:lnTo>
                  <a:pt x="11" y="501"/>
                </a:lnTo>
                <a:lnTo>
                  <a:pt x="13" y="467"/>
                </a:lnTo>
                <a:lnTo>
                  <a:pt x="13" y="434"/>
                </a:lnTo>
                <a:lnTo>
                  <a:pt x="13" y="401"/>
                </a:lnTo>
                <a:lnTo>
                  <a:pt x="13" y="367"/>
                </a:lnTo>
                <a:lnTo>
                  <a:pt x="13" y="336"/>
                </a:lnTo>
                <a:lnTo>
                  <a:pt x="13" y="303"/>
                </a:lnTo>
                <a:lnTo>
                  <a:pt x="13" y="273"/>
                </a:lnTo>
                <a:lnTo>
                  <a:pt x="13" y="244"/>
                </a:lnTo>
                <a:lnTo>
                  <a:pt x="13" y="213"/>
                </a:lnTo>
                <a:lnTo>
                  <a:pt x="13" y="184"/>
                </a:lnTo>
                <a:lnTo>
                  <a:pt x="13" y="156"/>
                </a:lnTo>
                <a:lnTo>
                  <a:pt x="13" y="129"/>
                </a:lnTo>
                <a:lnTo>
                  <a:pt x="15" y="102"/>
                </a:lnTo>
                <a:lnTo>
                  <a:pt x="15" y="75"/>
                </a:lnTo>
                <a:lnTo>
                  <a:pt x="15" y="48"/>
                </a:lnTo>
                <a:lnTo>
                  <a:pt x="15" y="23"/>
                </a:lnTo>
                <a:lnTo>
                  <a:pt x="15" y="0"/>
                </a:lnTo>
                <a:lnTo>
                  <a:pt x="195" y="0"/>
                </a:lnTo>
                <a:lnTo>
                  <a:pt x="194" y="10"/>
                </a:lnTo>
                <a:lnTo>
                  <a:pt x="194" y="19"/>
                </a:lnTo>
                <a:lnTo>
                  <a:pt x="192" y="33"/>
                </a:lnTo>
                <a:lnTo>
                  <a:pt x="190" y="48"/>
                </a:lnTo>
                <a:lnTo>
                  <a:pt x="190" y="63"/>
                </a:lnTo>
                <a:lnTo>
                  <a:pt x="188" y="81"/>
                </a:lnTo>
                <a:lnTo>
                  <a:pt x="186" y="100"/>
                </a:lnTo>
                <a:lnTo>
                  <a:pt x="186" y="121"/>
                </a:lnTo>
                <a:lnTo>
                  <a:pt x="184" y="144"/>
                </a:lnTo>
                <a:lnTo>
                  <a:pt x="182" y="167"/>
                </a:lnTo>
                <a:lnTo>
                  <a:pt x="182" y="194"/>
                </a:lnTo>
                <a:lnTo>
                  <a:pt x="180" y="221"/>
                </a:lnTo>
                <a:lnTo>
                  <a:pt x="178" y="250"/>
                </a:lnTo>
                <a:lnTo>
                  <a:pt x="178" y="280"/>
                </a:lnTo>
                <a:lnTo>
                  <a:pt x="176" y="311"/>
                </a:lnTo>
                <a:lnTo>
                  <a:pt x="174" y="346"/>
                </a:lnTo>
                <a:lnTo>
                  <a:pt x="172" y="380"/>
                </a:lnTo>
                <a:lnTo>
                  <a:pt x="172" y="417"/>
                </a:lnTo>
                <a:lnTo>
                  <a:pt x="170" y="455"/>
                </a:lnTo>
                <a:lnTo>
                  <a:pt x="169" y="493"/>
                </a:lnTo>
                <a:lnTo>
                  <a:pt x="169" y="536"/>
                </a:lnTo>
                <a:lnTo>
                  <a:pt x="167" y="578"/>
                </a:lnTo>
                <a:lnTo>
                  <a:pt x="165" y="622"/>
                </a:lnTo>
                <a:lnTo>
                  <a:pt x="165" y="668"/>
                </a:lnTo>
                <a:lnTo>
                  <a:pt x="163" y="716"/>
                </a:lnTo>
                <a:lnTo>
                  <a:pt x="161" y="764"/>
                </a:lnTo>
                <a:lnTo>
                  <a:pt x="161" y="814"/>
                </a:lnTo>
                <a:lnTo>
                  <a:pt x="159" y="866"/>
                </a:lnTo>
                <a:lnTo>
                  <a:pt x="157" y="920"/>
                </a:lnTo>
                <a:lnTo>
                  <a:pt x="157" y="975"/>
                </a:lnTo>
                <a:lnTo>
                  <a:pt x="155" y="1031"/>
                </a:lnTo>
                <a:lnTo>
                  <a:pt x="153" y="1090"/>
                </a:lnTo>
                <a:lnTo>
                  <a:pt x="76" y="1090"/>
                </a:lnTo>
                <a:lnTo>
                  <a:pt x="0" y="10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39"/>
          <p:cNvSpPr/>
          <p:nvPr/>
        </p:nvSpPr>
        <p:spPr>
          <a:xfrm>
            <a:off x="6521400" y="3608280"/>
            <a:ext cx="1022400" cy="182520"/>
          </a:xfrm>
          <a:custGeom>
            <a:avLst/>
            <a:gdLst/>
            <a:ahLst/>
            <a:rect l="l" t="t" r="r" b="b"/>
            <a:pathLst>
              <a:path w="1288" h="230">
                <a:moveTo>
                  <a:pt x="56" y="203"/>
                </a:moveTo>
                <a:lnTo>
                  <a:pt x="48" y="201"/>
                </a:lnTo>
                <a:lnTo>
                  <a:pt x="40" y="198"/>
                </a:lnTo>
                <a:lnTo>
                  <a:pt x="35" y="196"/>
                </a:lnTo>
                <a:lnTo>
                  <a:pt x="29" y="194"/>
                </a:lnTo>
                <a:lnTo>
                  <a:pt x="23" y="190"/>
                </a:lnTo>
                <a:lnTo>
                  <a:pt x="19" y="188"/>
                </a:lnTo>
                <a:lnTo>
                  <a:pt x="15" y="186"/>
                </a:lnTo>
                <a:lnTo>
                  <a:pt x="12" y="182"/>
                </a:lnTo>
                <a:lnTo>
                  <a:pt x="8" y="180"/>
                </a:lnTo>
                <a:lnTo>
                  <a:pt x="6" y="178"/>
                </a:lnTo>
                <a:lnTo>
                  <a:pt x="2" y="173"/>
                </a:lnTo>
                <a:lnTo>
                  <a:pt x="0" y="167"/>
                </a:lnTo>
                <a:lnTo>
                  <a:pt x="0" y="163"/>
                </a:lnTo>
                <a:lnTo>
                  <a:pt x="0" y="159"/>
                </a:lnTo>
                <a:lnTo>
                  <a:pt x="0" y="157"/>
                </a:lnTo>
                <a:lnTo>
                  <a:pt x="2" y="155"/>
                </a:lnTo>
                <a:lnTo>
                  <a:pt x="4" y="153"/>
                </a:lnTo>
                <a:lnTo>
                  <a:pt x="8" y="150"/>
                </a:lnTo>
                <a:lnTo>
                  <a:pt x="12" y="148"/>
                </a:lnTo>
                <a:lnTo>
                  <a:pt x="15" y="146"/>
                </a:lnTo>
                <a:lnTo>
                  <a:pt x="21" y="142"/>
                </a:lnTo>
                <a:lnTo>
                  <a:pt x="29" y="140"/>
                </a:lnTo>
                <a:lnTo>
                  <a:pt x="35" y="138"/>
                </a:lnTo>
                <a:lnTo>
                  <a:pt x="42" y="134"/>
                </a:lnTo>
                <a:lnTo>
                  <a:pt x="52" y="132"/>
                </a:lnTo>
                <a:lnTo>
                  <a:pt x="61" y="130"/>
                </a:lnTo>
                <a:lnTo>
                  <a:pt x="73" y="127"/>
                </a:lnTo>
                <a:lnTo>
                  <a:pt x="84" y="125"/>
                </a:lnTo>
                <a:lnTo>
                  <a:pt x="96" y="123"/>
                </a:lnTo>
                <a:lnTo>
                  <a:pt x="102" y="121"/>
                </a:lnTo>
                <a:lnTo>
                  <a:pt x="108" y="119"/>
                </a:lnTo>
                <a:lnTo>
                  <a:pt x="115" y="117"/>
                </a:lnTo>
                <a:lnTo>
                  <a:pt x="123" y="117"/>
                </a:lnTo>
                <a:lnTo>
                  <a:pt x="131" y="115"/>
                </a:lnTo>
                <a:lnTo>
                  <a:pt x="138" y="113"/>
                </a:lnTo>
                <a:lnTo>
                  <a:pt x="148" y="113"/>
                </a:lnTo>
                <a:lnTo>
                  <a:pt x="157" y="111"/>
                </a:lnTo>
                <a:lnTo>
                  <a:pt x="167" y="109"/>
                </a:lnTo>
                <a:lnTo>
                  <a:pt x="177" y="107"/>
                </a:lnTo>
                <a:lnTo>
                  <a:pt x="188" y="107"/>
                </a:lnTo>
                <a:lnTo>
                  <a:pt x="200" y="106"/>
                </a:lnTo>
                <a:lnTo>
                  <a:pt x="211" y="104"/>
                </a:lnTo>
                <a:lnTo>
                  <a:pt x="225" y="102"/>
                </a:lnTo>
                <a:lnTo>
                  <a:pt x="238" y="100"/>
                </a:lnTo>
                <a:lnTo>
                  <a:pt x="251" y="98"/>
                </a:lnTo>
                <a:lnTo>
                  <a:pt x="267" y="96"/>
                </a:lnTo>
                <a:lnTo>
                  <a:pt x="280" y="94"/>
                </a:lnTo>
                <a:lnTo>
                  <a:pt x="296" y="92"/>
                </a:lnTo>
                <a:lnTo>
                  <a:pt x="313" y="90"/>
                </a:lnTo>
                <a:lnTo>
                  <a:pt x="328" y="88"/>
                </a:lnTo>
                <a:lnTo>
                  <a:pt x="346" y="84"/>
                </a:lnTo>
                <a:lnTo>
                  <a:pt x="363" y="82"/>
                </a:lnTo>
                <a:lnTo>
                  <a:pt x="382" y="81"/>
                </a:lnTo>
                <a:lnTo>
                  <a:pt x="399" y="77"/>
                </a:lnTo>
                <a:lnTo>
                  <a:pt x="418" y="75"/>
                </a:lnTo>
                <a:lnTo>
                  <a:pt x="438" y="71"/>
                </a:lnTo>
                <a:lnTo>
                  <a:pt x="459" y="67"/>
                </a:lnTo>
                <a:lnTo>
                  <a:pt x="478" y="65"/>
                </a:lnTo>
                <a:lnTo>
                  <a:pt x="499" y="61"/>
                </a:lnTo>
                <a:lnTo>
                  <a:pt x="522" y="58"/>
                </a:lnTo>
                <a:lnTo>
                  <a:pt x="543" y="54"/>
                </a:lnTo>
                <a:lnTo>
                  <a:pt x="564" y="50"/>
                </a:lnTo>
                <a:lnTo>
                  <a:pt x="587" y="46"/>
                </a:lnTo>
                <a:lnTo>
                  <a:pt x="628" y="40"/>
                </a:lnTo>
                <a:lnTo>
                  <a:pt x="668" y="33"/>
                </a:lnTo>
                <a:lnTo>
                  <a:pt x="706" y="27"/>
                </a:lnTo>
                <a:lnTo>
                  <a:pt x="743" y="23"/>
                </a:lnTo>
                <a:lnTo>
                  <a:pt x="775" y="17"/>
                </a:lnTo>
                <a:lnTo>
                  <a:pt x="808" y="13"/>
                </a:lnTo>
                <a:lnTo>
                  <a:pt x="839" y="11"/>
                </a:lnTo>
                <a:lnTo>
                  <a:pt x="870" y="8"/>
                </a:lnTo>
                <a:lnTo>
                  <a:pt x="896" y="6"/>
                </a:lnTo>
                <a:lnTo>
                  <a:pt x="923" y="4"/>
                </a:lnTo>
                <a:lnTo>
                  <a:pt x="948" y="2"/>
                </a:lnTo>
                <a:lnTo>
                  <a:pt x="971" y="0"/>
                </a:lnTo>
                <a:lnTo>
                  <a:pt x="992" y="0"/>
                </a:lnTo>
                <a:lnTo>
                  <a:pt x="1013" y="0"/>
                </a:lnTo>
                <a:lnTo>
                  <a:pt x="1033" y="0"/>
                </a:lnTo>
                <a:lnTo>
                  <a:pt x="1050" y="0"/>
                </a:lnTo>
                <a:lnTo>
                  <a:pt x="1067" y="0"/>
                </a:lnTo>
                <a:lnTo>
                  <a:pt x="1083" y="0"/>
                </a:lnTo>
                <a:lnTo>
                  <a:pt x="1098" y="2"/>
                </a:lnTo>
                <a:lnTo>
                  <a:pt x="1111" y="2"/>
                </a:lnTo>
                <a:lnTo>
                  <a:pt x="1125" y="4"/>
                </a:lnTo>
                <a:lnTo>
                  <a:pt x="1136" y="6"/>
                </a:lnTo>
                <a:lnTo>
                  <a:pt x="1148" y="8"/>
                </a:lnTo>
                <a:lnTo>
                  <a:pt x="1159" y="10"/>
                </a:lnTo>
                <a:lnTo>
                  <a:pt x="1169" y="11"/>
                </a:lnTo>
                <a:lnTo>
                  <a:pt x="1179" y="13"/>
                </a:lnTo>
                <a:lnTo>
                  <a:pt x="1186" y="15"/>
                </a:lnTo>
                <a:lnTo>
                  <a:pt x="1194" y="19"/>
                </a:lnTo>
                <a:lnTo>
                  <a:pt x="1202" y="21"/>
                </a:lnTo>
                <a:lnTo>
                  <a:pt x="1207" y="23"/>
                </a:lnTo>
                <a:lnTo>
                  <a:pt x="1213" y="27"/>
                </a:lnTo>
                <a:lnTo>
                  <a:pt x="1234" y="48"/>
                </a:lnTo>
                <a:lnTo>
                  <a:pt x="1244" y="58"/>
                </a:lnTo>
                <a:lnTo>
                  <a:pt x="1253" y="67"/>
                </a:lnTo>
                <a:lnTo>
                  <a:pt x="1263" y="79"/>
                </a:lnTo>
                <a:lnTo>
                  <a:pt x="1271" y="88"/>
                </a:lnTo>
                <a:lnTo>
                  <a:pt x="1276" y="98"/>
                </a:lnTo>
                <a:lnTo>
                  <a:pt x="1284" y="109"/>
                </a:lnTo>
                <a:lnTo>
                  <a:pt x="1286" y="113"/>
                </a:lnTo>
                <a:lnTo>
                  <a:pt x="1286" y="119"/>
                </a:lnTo>
                <a:lnTo>
                  <a:pt x="1288" y="123"/>
                </a:lnTo>
                <a:lnTo>
                  <a:pt x="1288" y="127"/>
                </a:lnTo>
                <a:lnTo>
                  <a:pt x="1288" y="130"/>
                </a:lnTo>
                <a:lnTo>
                  <a:pt x="1286" y="134"/>
                </a:lnTo>
                <a:lnTo>
                  <a:pt x="1286" y="138"/>
                </a:lnTo>
                <a:lnTo>
                  <a:pt x="1282" y="140"/>
                </a:lnTo>
                <a:lnTo>
                  <a:pt x="1280" y="144"/>
                </a:lnTo>
                <a:lnTo>
                  <a:pt x="1276" y="146"/>
                </a:lnTo>
                <a:lnTo>
                  <a:pt x="1273" y="150"/>
                </a:lnTo>
                <a:lnTo>
                  <a:pt x="1267" y="152"/>
                </a:lnTo>
                <a:lnTo>
                  <a:pt x="1261" y="155"/>
                </a:lnTo>
                <a:lnTo>
                  <a:pt x="1255" y="157"/>
                </a:lnTo>
                <a:lnTo>
                  <a:pt x="1248" y="159"/>
                </a:lnTo>
                <a:lnTo>
                  <a:pt x="1242" y="163"/>
                </a:lnTo>
                <a:lnTo>
                  <a:pt x="1225" y="167"/>
                </a:lnTo>
                <a:lnTo>
                  <a:pt x="1215" y="169"/>
                </a:lnTo>
                <a:lnTo>
                  <a:pt x="1207" y="171"/>
                </a:lnTo>
                <a:lnTo>
                  <a:pt x="1198" y="171"/>
                </a:lnTo>
                <a:lnTo>
                  <a:pt x="1186" y="173"/>
                </a:lnTo>
                <a:lnTo>
                  <a:pt x="1177" y="173"/>
                </a:lnTo>
                <a:lnTo>
                  <a:pt x="1165" y="173"/>
                </a:lnTo>
                <a:lnTo>
                  <a:pt x="1152" y="173"/>
                </a:lnTo>
                <a:lnTo>
                  <a:pt x="1140" y="173"/>
                </a:lnTo>
                <a:lnTo>
                  <a:pt x="1127" y="171"/>
                </a:lnTo>
                <a:lnTo>
                  <a:pt x="1111" y="171"/>
                </a:lnTo>
                <a:lnTo>
                  <a:pt x="1096" y="169"/>
                </a:lnTo>
                <a:lnTo>
                  <a:pt x="1081" y="167"/>
                </a:lnTo>
                <a:lnTo>
                  <a:pt x="1063" y="165"/>
                </a:lnTo>
                <a:lnTo>
                  <a:pt x="1046" y="163"/>
                </a:lnTo>
                <a:lnTo>
                  <a:pt x="1027" y="161"/>
                </a:lnTo>
                <a:lnTo>
                  <a:pt x="1006" y="159"/>
                </a:lnTo>
                <a:lnTo>
                  <a:pt x="983" y="157"/>
                </a:lnTo>
                <a:lnTo>
                  <a:pt x="960" y="157"/>
                </a:lnTo>
                <a:lnTo>
                  <a:pt x="935" y="157"/>
                </a:lnTo>
                <a:lnTo>
                  <a:pt x="908" y="157"/>
                </a:lnTo>
                <a:lnTo>
                  <a:pt x="879" y="159"/>
                </a:lnTo>
                <a:lnTo>
                  <a:pt x="848" y="161"/>
                </a:lnTo>
                <a:lnTo>
                  <a:pt x="818" y="163"/>
                </a:lnTo>
                <a:lnTo>
                  <a:pt x="785" y="165"/>
                </a:lnTo>
                <a:lnTo>
                  <a:pt x="751" y="169"/>
                </a:lnTo>
                <a:lnTo>
                  <a:pt x="714" y="173"/>
                </a:lnTo>
                <a:lnTo>
                  <a:pt x="678" y="177"/>
                </a:lnTo>
                <a:lnTo>
                  <a:pt x="639" y="180"/>
                </a:lnTo>
                <a:lnTo>
                  <a:pt x="599" y="184"/>
                </a:lnTo>
                <a:lnTo>
                  <a:pt x="557" y="190"/>
                </a:lnTo>
                <a:lnTo>
                  <a:pt x="537" y="192"/>
                </a:lnTo>
                <a:lnTo>
                  <a:pt x="516" y="196"/>
                </a:lnTo>
                <a:lnTo>
                  <a:pt x="497" y="198"/>
                </a:lnTo>
                <a:lnTo>
                  <a:pt x="478" y="200"/>
                </a:lnTo>
                <a:lnTo>
                  <a:pt x="459" y="201"/>
                </a:lnTo>
                <a:lnTo>
                  <a:pt x="441" y="203"/>
                </a:lnTo>
                <a:lnTo>
                  <a:pt x="424" y="205"/>
                </a:lnTo>
                <a:lnTo>
                  <a:pt x="407" y="207"/>
                </a:lnTo>
                <a:lnTo>
                  <a:pt x="392" y="209"/>
                </a:lnTo>
                <a:lnTo>
                  <a:pt x="376" y="211"/>
                </a:lnTo>
                <a:lnTo>
                  <a:pt x="361" y="213"/>
                </a:lnTo>
                <a:lnTo>
                  <a:pt x="347" y="215"/>
                </a:lnTo>
                <a:lnTo>
                  <a:pt x="332" y="217"/>
                </a:lnTo>
                <a:lnTo>
                  <a:pt x="319" y="219"/>
                </a:lnTo>
                <a:lnTo>
                  <a:pt x="307" y="219"/>
                </a:lnTo>
                <a:lnTo>
                  <a:pt x="294" y="221"/>
                </a:lnTo>
                <a:lnTo>
                  <a:pt x="282" y="223"/>
                </a:lnTo>
                <a:lnTo>
                  <a:pt x="271" y="223"/>
                </a:lnTo>
                <a:lnTo>
                  <a:pt x="259" y="225"/>
                </a:lnTo>
                <a:lnTo>
                  <a:pt x="250" y="225"/>
                </a:lnTo>
                <a:lnTo>
                  <a:pt x="240" y="226"/>
                </a:lnTo>
                <a:lnTo>
                  <a:pt x="230" y="226"/>
                </a:lnTo>
                <a:lnTo>
                  <a:pt x="223" y="228"/>
                </a:lnTo>
                <a:lnTo>
                  <a:pt x="213" y="228"/>
                </a:lnTo>
                <a:lnTo>
                  <a:pt x="205" y="228"/>
                </a:lnTo>
                <a:lnTo>
                  <a:pt x="200" y="230"/>
                </a:lnTo>
                <a:lnTo>
                  <a:pt x="192" y="230"/>
                </a:lnTo>
                <a:lnTo>
                  <a:pt x="186" y="230"/>
                </a:lnTo>
                <a:lnTo>
                  <a:pt x="180" y="230"/>
                </a:lnTo>
                <a:lnTo>
                  <a:pt x="175" y="230"/>
                </a:lnTo>
                <a:lnTo>
                  <a:pt x="171" y="230"/>
                </a:lnTo>
                <a:lnTo>
                  <a:pt x="167" y="230"/>
                </a:lnTo>
                <a:lnTo>
                  <a:pt x="152" y="230"/>
                </a:lnTo>
                <a:lnTo>
                  <a:pt x="136" y="228"/>
                </a:lnTo>
                <a:lnTo>
                  <a:pt x="123" y="226"/>
                </a:lnTo>
                <a:lnTo>
                  <a:pt x="111" y="223"/>
                </a:lnTo>
                <a:lnTo>
                  <a:pt x="98" y="219"/>
                </a:lnTo>
                <a:lnTo>
                  <a:pt x="84" y="213"/>
                </a:lnTo>
                <a:lnTo>
                  <a:pt x="69" y="209"/>
                </a:lnTo>
                <a:lnTo>
                  <a:pt x="56" y="2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40"/>
          <p:cNvSpPr/>
          <p:nvPr/>
        </p:nvSpPr>
        <p:spPr>
          <a:xfrm>
            <a:off x="6675480" y="3174840"/>
            <a:ext cx="731880" cy="173160"/>
          </a:xfrm>
          <a:custGeom>
            <a:avLst/>
            <a:gdLst/>
            <a:ahLst/>
            <a:rect l="l" t="t" r="r" b="b"/>
            <a:pathLst>
              <a:path w="921" h="217">
                <a:moveTo>
                  <a:pt x="741" y="136"/>
                </a:moveTo>
                <a:lnTo>
                  <a:pt x="720" y="138"/>
                </a:lnTo>
                <a:lnTo>
                  <a:pt x="699" y="140"/>
                </a:lnTo>
                <a:lnTo>
                  <a:pt x="679" y="142"/>
                </a:lnTo>
                <a:lnTo>
                  <a:pt x="662" y="144"/>
                </a:lnTo>
                <a:lnTo>
                  <a:pt x="643" y="146"/>
                </a:lnTo>
                <a:lnTo>
                  <a:pt x="626" y="146"/>
                </a:lnTo>
                <a:lnTo>
                  <a:pt x="610" y="148"/>
                </a:lnTo>
                <a:lnTo>
                  <a:pt x="593" y="150"/>
                </a:lnTo>
                <a:lnTo>
                  <a:pt x="578" y="150"/>
                </a:lnTo>
                <a:lnTo>
                  <a:pt x="564" y="151"/>
                </a:lnTo>
                <a:lnTo>
                  <a:pt x="549" y="153"/>
                </a:lnTo>
                <a:lnTo>
                  <a:pt x="535" y="155"/>
                </a:lnTo>
                <a:lnTo>
                  <a:pt x="524" y="155"/>
                </a:lnTo>
                <a:lnTo>
                  <a:pt x="510" y="157"/>
                </a:lnTo>
                <a:lnTo>
                  <a:pt x="499" y="159"/>
                </a:lnTo>
                <a:lnTo>
                  <a:pt x="489" y="163"/>
                </a:lnTo>
                <a:lnTo>
                  <a:pt x="462" y="167"/>
                </a:lnTo>
                <a:lnTo>
                  <a:pt x="438" y="171"/>
                </a:lnTo>
                <a:lnTo>
                  <a:pt x="411" y="174"/>
                </a:lnTo>
                <a:lnTo>
                  <a:pt x="384" y="176"/>
                </a:lnTo>
                <a:lnTo>
                  <a:pt x="359" y="178"/>
                </a:lnTo>
                <a:lnTo>
                  <a:pt x="332" y="182"/>
                </a:lnTo>
                <a:lnTo>
                  <a:pt x="305" y="186"/>
                </a:lnTo>
                <a:lnTo>
                  <a:pt x="280" y="190"/>
                </a:lnTo>
                <a:lnTo>
                  <a:pt x="253" y="196"/>
                </a:lnTo>
                <a:lnTo>
                  <a:pt x="242" y="198"/>
                </a:lnTo>
                <a:lnTo>
                  <a:pt x="230" y="199"/>
                </a:lnTo>
                <a:lnTo>
                  <a:pt x="219" y="203"/>
                </a:lnTo>
                <a:lnTo>
                  <a:pt x="209" y="205"/>
                </a:lnTo>
                <a:lnTo>
                  <a:pt x="198" y="207"/>
                </a:lnTo>
                <a:lnTo>
                  <a:pt x="188" y="209"/>
                </a:lnTo>
                <a:lnTo>
                  <a:pt x="180" y="211"/>
                </a:lnTo>
                <a:lnTo>
                  <a:pt x="173" y="213"/>
                </a:lnTo>
                <a:lnTo>
                  <a:pt x="165" y="213"/>
                </a:lnTo>
                <a:lnTo>
                  <a:pt x="157" y="215"/>
                </a:lnTo>
                <a:lnTo>
                  <a:pt x="152" y="217"/>
                </a:lnTo>
                <a:lnTo>
                  <a:pt x="148" y="217"/>
                </a:lnTo>
                <a:lnTo>
                  <a:pt x="144" y="217"/>
                </a:lnTo>
                <a:lnTo>
                  <a:pt x="140" y="217"/>
                </a:lnTo>
                <a:lnTo>
                  <a:pt x="130" y="217"/>
                </a:lnTo>
                <a:lnTo>
                  <a:pt x="119" y="215"/>
                </a:lnTo>
                <a:lnTo>
                  <a:pt x="109" y="213"/>
                </a:lnTo>
                <a:lnTo>
                  <a:pt x="98" y="209"/>
                </a:lnTo>
                <a:lnTo>
                  <a:pt x="88" y="205"/>
                </a:lnTo>
                <a:lnTo>
                  <a:pt x="77" y="199"/>
                </a:lnTo>
                <a:lnTo>
                  <a:pt x="56" y="190"/>
                </a:lnTo>
                <a:lnTo>
                  <a:pt x="48" y="188"/>
                </a:lnTo>
                <a:lnTo>
                  <a:pt x="42" y="184"/>
                </a:lnTo>
                <a:lnTo>
                  <a:pt x="36" y="180"/>
                </a:lnTo>
                <a:lnTo>
                  <a:pt x="31" y="178"/>
                </a:lnTo>
                <a:lnTo>
                  <a:pt x="25" y="174"/>
                </a:lnTo>
                <a:lnTo>
                  <a:pt x="21" y="171"/>
                </a:lnTo>
                <a:lnTo>
                  <a:pt x="15" y="167"/>
                </a:lnTo>
                <a:lnTo>
                  <a:pt x="13" y="163"/>
                </a:lnTo>
                <a:lnTo>
                  <a:pt x="9" y="159"/>
                </a:lnTo>
                <a:lnTo>
                  <a:pt x="8" y="155"/>
                </a:lnTo>
                <a:lnTo>
                  <a:pt x="4" y="148"/>
                </a:lnTo>
                <a:lnTo>
                  <a:pt x="2" y="142"/>
                </a:lnTo>
                <a:lnTo>
                  <a:pt x="0" y="136"/>
                </a:lnTo>
                <a:lnTo>
                  <a:pt x="0" y="134"/>
                </a:lnTo>
                <a:lnTo>
                  <a:pt x="0" y="132"/>
                </a:lnTo>
                <a:lnTo>
                  <a:pt x="0" y="130"/>
                </a:lnTo>
                <a:lnTo>
                  <a:pt x="2" y="130"/>
                </a:lnTo>
                <a:lnTo>
                  <a:pt x="4" y="128"/>
                </a:lnTo>
                <a:lnTo>
                  <a:pt x="6" y="126"/>
                </a:lnTo>
                <a:lnTo>
                  <a:pt x="9" y="125"/>
                </a:lnTo>
                <a:lnTo>
                  <a:pt x="13" y="123"/>
                </a:lnTo>
                <a:lnTo>
                  <a:pt x="19" y="121"/>
                </a:lnTo>
                <a:lnTo>
                  <a:pt x="23" y="119"/>
                </a:lnTo>
                <a:lnTo>
                  <a:pt x="31" y="117"/>
                </a:lnTo>
                <a:lnTo>
                  <a:pt x="36" y="115"/>
                </a:lnTo>
                <a:lnTo>
                  <a:pt x="44" y="113"/>
                </a:lnTo>
                <a:lnTo>
                  <a:pt x="54" y="109"/>
                </a:lnTo>
                <a:lnTo>
                  <a:pt x="61" y="107"/>
                </a:lnTo>
                <a:lnTo>
                  <a:pt x="73" y="105"/>
                </a:lnTo>
                <a:lnTo>
                  <a:pt x="82" y="102"/>
                </a:lnTo>
                <a:lnTo>
                  <a:pt x="94" y="100"/>
                </a:lnTo>
                <a:lnTo>
                  <a:pt x="105" y="98"/>
                </a:lnTo>
                <a:lnTo>
                  <a:pt x="119" y="94"/>
                </a:lnTo>
                <a:lnTo>
                  <a:pt x="132" y="92"/>
                </a:lnTo>
                <a:lnTo>
                  <a:pt x="146" y="88"/>
                </a:lnTo>
                <a:lnTo>
                  <a:pt x="159" y="86"/>
                </a:lnTo>
                <a:lnTo>
                  <a:pt x="175" y="82"/>
                </a:lnTo>
                <a:lnTo>
                  <a:pt x="192" y="79"/>
                </a:lnTo>
                <a:lnTo>
                  <a:pt x="207" y="75"/>
                </a:lnTo>
                <a:lnTo>
                  <a:pt x="224" y="73"/>
                </a:lnTo>
                <a:lnTo>
                  <a:pt x="244" y="69"/>
                </a:lnTo>
                <a:lnTo>
                  <a:pt x="261" y="65"/>
                </a:lnTo>
                <a:lnTo>
                  <a:pt x="280" y="61"/>
                </a:lnTo>
                <a:lnTo>
                  <a:pt x="301" y="57"/>
                </a:lnTo>
                <a:lnTo>
                  <a:pt x="322" y="54"/>
                </a:lnTo>
                <a:lnTo>
                  <a:pt x="342" y="50"/>
                </a:lnTo>
                <a:lnTo>
                  <a:pt x="363" y="46"/>
                </a:lnTo>
                <a:lnTo>
                  <a:pt x="382" y="42"/>
                </a:lnTo>
                <a:lnTo>
                  <a:pt x="401" y="40"/>
                </a:lnTo>
                <a:lnTo>
                  <a:pt x="420" y="36"/>
                </a:lnTo>
                <a:lnTo>
                  <a:pt x="438" y="32"/>
                </a:lnTo>
                <a:lnTo>
                  <a:pt x="457" y="31"/>
                </a:lnTo>
                <a:lnTo>
                  <a:pt x="474" y="27"/>
                </a:lnTo>
                <a:lnTo>
                  <a:pt x="489" y="25"/>
                </a:lnTo>
                <a:lnTo>
                  <a:pt x="507" y="23"/>
                </a:lnTo>
                <a:lnTo>
                  <a:pt x="522" y="21"/>
                </a:lnTo>
                <a:lnTo>
                  <a:pt x="537" y="17"/>
                </a:lnTo>
                <a:lnTo>
                  <a:pt x="553" y="15"/>
                </a:lnTo>
                <a:lnTo>
                  <a:pt x="566" y="13"/>
                </a:lnTo>
                <a:lnTo>
                  <a:pt x="580" y="11"/>
                </a:lnTo>
                <a:lnTo>
                  <a:pt x="593" y="11"/>
                </a:lnTo>
                <a:lnTo>
                  <a:pt x="606" y="9"/>
                </a:lnTo>
                <a:lnTo>
                  <a:pt x="618" y="7"/>
                </a:lnTo>
                <a:lnTo>
                  <a:pt x="631" y="6"/>
                </a:lnTo>
                <a:lnTo>
                  <a:pt x="641" y="6"/>
                </a:lnTo>
                <a:lnTo>
                  <a:pt x="652" y="4"/>
                </a:lnTo>
                <a:lnTo>
                  <a:pt x="664" y="4"/>
                </a:lnTo>
                <a:lnTo>
                  <a:pt x="674" y="2"/>
                </a:lnTo>
                <a:lnTo>
                  <a:pt x="683" y="2"/>
                </a:lnTo>
                <a:lnTo>
                  <a:pt x="691" y="2"/>
                </a:lnTo>
                <a:lnTo>
                  <a:pt x="700" y="0"/>
                </a:lnTo>
                <a:lnTo>
                  <a:pt x="708" y="0"/>
                </a:lnTo>
                <a:lnTo>
                  <a:pt x="716" y="0"/>
                </a:lnTo>
                <a:lnTo>
                  <a:pt x="722" y="0"/>
                </a:lnTo>
                <a:lnTo>
                  <a:pt x="729" y="0"/>
                </a:lnTo>
                <a:lnTo>
                  <a:pt x="735" y="0"/>
                </a:lnTo>
                <a:lnTo>
                  <a:pt x="741" y="0"/>
                </a:lnTo>
                <a:lnTo>
                  <a:pt x="756" y="0"/>
                </a:lnTo>
                <a:lnTo>
                  <a:pt x="771" y="2"/>
                </a:lnTo>
                <a:lnTo>
                  <a:pt x="787" y="4"/>
                </a:lnTo>
                <a:lnTo>
                  <a:pt x="802" y="7"/>
                </a:lnTo>
                <a:lnTo>
                  <a:pt x="819" y="11"/>
                </a:lnTo>
                <a:lnTo>
                  <a:pt x="835" y="15"/>
                </a:lnTo>
                <a:lnTo>
                  <a:pt x="866" y="27"/>
                </a:lnTo>
                <a:lnTo>
                  <a:pt x="873" y="29"/>
                </a:lnTo>
                <a:lnTo>
                  <a:pt x="881" y="32"/>
                </a:lnTo>
                <a:lnTo>
                  <a:pt x="887" y="34"/>
                </a:lnTo>
                <a:lnTo>
                  <a:pt x="892" y="38"/>
                </a:lnTo>
                <a:lnTo>
                  <a:pt x="896" y="42"/>
                </a:lnTo>
                <a:lnTo>
                  <a:pt x="902" y="46"/>
                </a:lnTo>
                <a:lnTo>
                  <a:pt x="906" y="50"/>
                </a:lnTo>
                <a:lnTo>
                  <a:pt x="910" y="54"/>
                </a:lnTo>
                <a:lnTo>
                  <a:pt x="912" y="57"/>
                </a:lnTo>
                <a:lnTo>
                  <a:pt x="915" y="61"/>
                </a:lnTo>
                <a:lnTo>
                  <a:pt x="919" y="69"/>
                </a:lnTo>
                <a:lnTo>
                  <a:pt x="921" y="75"/>
                </a:lnTo>
                <a:lnTo>
                  <a:pt x="921" y="80"/>
                </a:lnTo>
                <a:lnTo>
                  <a:pt x="921" y="86"/>
                </a:lnTo>
                <a:lnTo>
                  <a:pt x="919" y="90"/>
                </a:lnTo>
                <a:lnTo>
                  <a:pt x="915" y="96"/>
                </a:lnTo>
                <a:lnTo>
                  <a:pt x="910" y="100"/>
                </a:lnTo>
                <a:lnTo>
                  <a:pt x="904" y="103"/>
                </a:lnTo>
                <a:lnTo>
                  <a:pt x="896" y="107"/>
                </a:lnTo>
                <a:lnTo>
                  <a:pt x="889" y="109"/>
                </a:lnTo>
                <a:lnTo>
                  <a:pt x="877" y="113"/>
                </a:lnTo>
                <a:lnTo>
                  <a:pt x="866" y="117"/>
                </a:lnTo>
                <a:lnTo>
                  <a:pt x="852" y="119"/>
                </a:lnTo>
                <a:lnTo>
                  <a:pt x="837" y="123"/>
                </a:lnTo>
                <a:lnTo>
                  <a:pt x="821" y="125"/>
                </a:lnTo>
                <a:lnTo>
                  <a:pt x="804" y="126"/>
                </a:lnTo>
                <a:lnTo>
                  <a:pt x="783" y="130"/>
                </a:lnTo>
                <a:lnTo>
                  <a:pt x="762" y="132"/>
                </a:lnTo>
                <a:lnTo>
                  <a:pt x="741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41"/>
          <p:cNvSpPr/>
          <p:nvPr/>
        </p:nvSpPr>
        <p:spPr>
          <a:xfrm>
            <a:off x="6715080" y="2743200"/>
            <a:ext cx="747720" cy="162000"/>
          </a:xfrm>
          <a:custGeom>
            <a:avLst/>
            <a:gdLst/>
            <a:ahLst/>
            <a:rect l="l" t="t" r="r" b="b"/>
            <a:pathLst>
              <a:path w="942" h="203">
                <a:moveTo>
                  <a:pt x="21" y="163"/>
                </a:moveTo>
                <a:lnTo>
                  <a:pt x="15" y="155"/>
                </a:lnTo>
                <a:lnTo>
                  <a:pt x="11" y="147"/>
                </a:lnTo>
                <a:lnTo>
                  <a:pt x="7" y="142"/>
                </a:lnTo>
                <a:lnTo>
                  <a:pt x="4" y="136"/>
                </a:lnTo>
                <a:lnTo>
                  <a:pt x="2" y="132"/>
                </a:lnTo>
                <a:lnTo>
                  <a:pt x="0" y="126"/>
                </a:lnTo>
                <a:lnTo>
                  <a:pt x="0" y="123"/>
                </a:lnTo>
                <a:lnTo>
                  <a:pt x="0" y="121"/>
                </a:lnTo>
                <a:lnTo>
                  <a:pt x="0" y="117"/>
                </a:lnTo>
                <a:lnTo>
                  <a:pt x="0" y="115"/>
                </a:lnTo>
                <a:lnTo>
                  <a:pt x="2" y="113"/>
                </a:lnTo>
                <a:lnTo>
                  <a:pt x="4" y="111"/>
                </a:lnTo>
                <a:lnTo>
                  <a:pt x="7" y="109"/>
                </a:lnTo>
                <a:lnTo>
                  <a:pt x="11" y="109"/>
                </a:lnTo>
                <a:lnTo>
                  <a:pt x="15" y="109"/>
                </a:lnTo>
                <a:lnTo>
                  <a:pt x="21" y="109"/>
                </a:lnTo>
                <a:lnTo>
                  <a:pt x="23" y="107"/>
                </a:lnTo>
                <a:lnTo>
                  <a:pt x="27" y="107"/>
                </a:lnTo>
                <a:lnTo>
                  <a:pt x="31" y="107"/>
                </a:lnTo>
                <a:lnTo>
                  <a:pt x="34" y="107"/>
                </a:lnTo>
                <a:lnTo>
                  <a:pt x="38" y="107"/>
                </a:lnTo>
                <a:lnTo>
                  <a:pt x="44" y="105"/>
                </a:lnTo>
                <a:lnTo>
                  <a:pt x="50" y="105"/>
                </a:lnTo>
                <a:lnTo>
                  <a:pt x="55" y="105"/>
                </a:lnTo>
                <a:lnTo>
                  <a:pt x="61" y="103"/>
                </a:lnTo>
                <a:lnTo>
                  <a:pt x="69" y="103"/>
                </a:lnTo>
                <a:lnTo>
                  <a:pt x="77" y="101"/>
                </a:lnTo>
                <a:lnTo>
                  <a:pt x="86" y="101"/>
                </a:lnTo>
                <a:lnTo>
                  <a:pt x="94" y="99"/>
                </a:lnTo>
                <a:lnTo>
                  <a:pt x="103" y="98"/>
                </a:lnTo>
                <a:lnTo>
                  <a:pt x="115" y="96"/>
                </a:lnTo>
                <a:lnTo>
                  <a:pt x="125" y="96"/>
                </a:lnTo>
                <a:lnTo>
                  <a:pt x="136" y="94"/>
                </a:lnTo>
                <a:lnTo>
                  <a:pt x="148" y="92"/>
                </a:lnTo>
                <a:lnTo>
                  <a:pt x="161" y="90"/>
                </a:lnTo>
                <a:lnTo>
                  <a:pt x="174" y="86"/>
                </a:lnTo>
                <a:lnTo>
                  <a:pt x="188" y="84"/>
                </a:lnTo>
                <a:lnTo>
                  <a:pt x="201" y="82"/>
                </a:lnTo>
                <a:lnTo>
                  <a:pt x="217" y="80"/>
                </a:lnTo>
                <a:lnTo>
                  <a:pt x="232" y="76"/>
                </a:lnTo>
                <a:lnTo>
                  <a:pt x="247" y="75"/>
                </a:lnTo>
                <a:lnTo>
                  <a:pt x="265" y="71"/>
                </a:lnTo>
                <a:lnTo>
                  <a:pt x="282" y="67"/>
                </a:lnTo>
                <a:lnTo>
                  <a:pt x="299" y="65"/>
                </a:lnTo>
                <a:lnTo>
                  <a:pt x="316" y="61"/>
                </a:lnTo>
                <a:lnTo>
                  <a:pt x="336" y="57"/>
                </a:lnTo>
                <a:lnTo>
                  <a:pt x="355" y="53"/>
                </a:lnTo>
                <a:lnTo>
                  <a:pt x="391" y="46"/>
                </a:lnTo>
                <a:lnTo>
                  <a:pt x="424" y="40"/>
                </a:lnTo>
                <a:lnTo>
                  <a:pt x="457" y="32"/>
                </a:lnTo>
                <a:lnTo>
                  <a:pt x="489" y="27"/>
                </a:lnTo>
                <a:lnTo>
                  <a:pt x="518" y="23"/>
                </a:lnTo>
                <a:lnTo>
                  <a:pt x="547" y="17"/>
                </a:lnTo>
                <a:lnTo>
                  <a:pt x="572" y="13"/>
                </a:lnTo>
                <a:lnTo>
                  <a:pt x="597" y="11"/>
                </a:lnTo>
                <a:lnTo>
                  <a:pt x="622" y="7"/>
                </a:lnTo>
                <a:lnTo>
                  <a:pt x="643" y="5"/>
                </a:lnTo>
                <a:lnTo>
                  <a:pt x="664" y="4"/>
                </a:lnTo>
                <a:lnTo>
                  <a:pt x="683" y="2"/>
                </a:lnTo>
                <a:lnTo>
                  <a:pt x="700" y="0"/>
                </a:lnTo>
                <a:lnTo>
                  <a:pt x="718" y="0"/>
                </a:lnTo>
                <a:lnTo>
                  <a:pt x="733" y="0"/>
                </a:lnTo>
                <a:lnTo>
                  <a:pt x="746" y="0"/>
                </a:lnTo>
                <a:lnTo>
                  <a:pt x="766" y="0"/>
                </a:lnTo>
                <a:lnTo>
                  <a:pt x="785" y="0"/>
                </a:lnTo>
                <a:lnTo>
                  <a:pt x="804" y="0"/>
                </a:lnTo>
                <a:lnTo>
                  <a:pt x="821" y="0"/>
                </a:lnTo>
                <a:lnTo>
                  <a:pt x="837" y="2"/>
                </a:lnTo>
                <a:lnTo>
                  <a:pt x="854" y="5"/>
                </a:lnTo>
                <a:lnTo>
                  <a:pt x="869" y="7"/>
                </a:lnTo>
                <a:lnTo>
                  <a:pt x="887" y="13"/>
                </a:lnTo>
                <a:lnTo>
                  <a:pt x="892" y="15"/>
                </a:lnTo>
                <a:lnTo>
                  <a:pt x="900" y="19"/>
                </a:lnTo>
                <a:lnTo>
                  <a:pt x="906" y="21"/>
                </a:lnTo>
                <a:lnTo>
                  <a:pt x="911" y="25"/>
                </a:lnTo>
                <a:lnTo>
                  <a:pt x="917" y="28"/>
                </a:lnTo>
                <a:lnTo>
                  <a:pt x="921" y="32"/>
                </a:lnTo>
                <a:lnTo>
                  <a:pt x="925" y="36"/>
                </a:lnTo>
                <a:lnTo>
                  <a:pt x="929" y="40"/>
                </a:lnTo>
                <a:lnTo>
                  <a:pt x="933" y="44"/>
                </a:lnTo>
                <a:lnTo>
                  <a:pt x="935" y="48"/>
                </a:lnTo>
                <a:lnTo>
                  <a:pt x="938" y="55"/>
                </a:lnTo>
                <a:lnTo>
                  <a:pt x="940" y="61"/>
                </a:lnTo>
                <a:lnTo>
                  <a:pt x="942" y="67"/>
                </a:lnTo>
                <a:lnTo>
                  <a:pt x="940" y="76"/>
                </a:lnTo>
                <a:lnTo>
                  <a:pt x="938" y="84"/>
                </a:lnTo>
                <a:lnTo>
                  <a:pt x="935" y="92"/>
                </a:lnTo>
                <a:lnTo>
                  <a:pt x="933" y="96"/>
                </a:lnTo>
                <a:lnTo>
                  <a:pt x="929" y="99"/>
                </a:lnTo>
                <a:lnTo>
                  <a:pt x="925" y="103"/>
                </a:lnTo>
                <a:lnTo>
                  <a:pt x="921" y="105"/>
                </a:lnTo>
                <a:lnTo>
                  <a:pt x="917" y="109"/>
                </a:lnTo>
                <a:lnTo>
                  <a:pt x="911" y="111"/>
                </a:lnTo>
                <a:lnTo>
                  <a:pt x="906" y="113"/>
                </a:lnTo>
                <a:lnTo>
                  <a:pt x="900" y="117"/>
                </a:lnTo>
                <a:lnTo>
                  <a:pt x="892" y="119"/>
                </a:lnTo>
                <a:lnTo>
                  <a:pt x="887" y="123"/>
                </a:lnTo>
                <a:lnTo>
                  <a:pt x="881" y="123"/>
                </a:lnTo>
                <a:lnTo>
                  <a:pt x="877" y="124"/>
                </a:lnTo>
                <a:lnTo>
                  <a:pt x="871" y="126"/>
                </a:lnTo>
                <a:lnTo>
                  <a:pt x="865" y="128"/>
                </a:lnTo>
                <a:lnTo>
                  <a:pt x="860" y="128"/>
                </a:lnTo>
                <a:lnTo>
                  <a:pt x="854" y="130"/>
                </a:lnTo>
                <a:lnTo>
                  <a:pt x="846" y="132"/>
                </a:lnTo>
                <a:lnTo>
                  <a:pt x="839" y="134"/>
                </a:lnTo>
                <a:lnTo>
                  <a:pt x="831" y="136"/>
                </a:lnTo>
                <a:lnTo>
                  <a:pt x="821" y="138"/>
                </a:lnTo>
                <a:lnTo>
                  <a:pt x="812" y="140"/>
                </a:lnTo>
                <a:lnTo>
                  <a:pt x="802" y="142"/>
                </a:lnTo>
                <a:lnTo>
                  <a:pt x="792" y="144"/>
                </a:lnTo>
                <a:lnTo>
                  <a:pt x="783" y="146"/>
                </a:lnTo>
                <a:lnTo>
                  <a:pt x="771" y="147"/>
                </a:lnTo>
                <a:lnTo>
                  <a:pt x="760" y="149"/>
                </a:lnTo>
                <a:lnTo>
                  <a:pt x="748" y="151"/>
                </a:lnTo>
                <a:lnTo>
                  <a:pt x="735" y="153"/>
                </a:lnTo>
                <a:lnTo>
                  <a:pt x="721" y="155"/>
                </a:lnTo>
                <a:lnTo>
                  <a:pt x="708" y="157"/>
                </a:lnTo>
                <a:lnTo>
                  <a:pt x="695" y="159"/>
                </a:lnTo>
                <a:lnTo>
                  <a:pt x="679" y="161"/>
                </a:lnTo>
                <a:lnTo>
                  <a:pt x="666" y="163"/>
                </a:lnTo>
                <a:lnTo>
                  <a:pt x="650" y="165"/>
                </a:lnTo>
                <a:lnTo>
                  <a:pt x="633" y="165"/>
                </a:lnTo>
                <a:lnTo>
                  <a:pt x="618" y="167"/>
                </a:lnTo>
                <a:lnTo>
                  <a:pt x="601" y="169"/>
                </a:lnTo>
                <a:lnTo>
                  <a:pt x="583" y="171"/>
                </a:lnTo>
                <a:lnTo>
                  <a:pt x="566" y="172"/>
                </a:lnTo>
                <a:lnTo>
                  <a:pt x="547" y="174"/>
                </a:lnTo>
                <a:lnTo>
                  <a:pt x="528" y="174"/>
                </a:lnTo>
                <a:lnTo>
                  <a:pt x="508" y="176"/>
                </a:lnTo>
                <a:lnTo>
                  <a:pt x="489" y="178"/>
                </a:lnTo>
                <a:lnTo>
                  <a:pt x="470" y="178"/>
                </a:lnTo>
                <a:lnTo>
                  <a:pt x="453" y="180"/>
                </a:lnTo>
                <a:lnTo>
                  <a:pt x="434" y="182"/>
                </a:lnTo>
                <a:lnTo>
                  <a:pt x="416" y="182"/>
                </a:lnTo>
                <a:lnTo>
                  <a:pt x="399" y="184"/>
                </a:lnTo>
                <a:lnTo>
                  <a:pt x="384" y="186"/>
                </a:lnTo>
                <a:lnTo>
                  <a:pt x="366" y="186"/>
                </a:lnTo>
                <a:lnTo>
                  <a:pt x="351" y="188"/>
                </a:lnTo>
                <a:lnTo>
                  <a:pt x="338" y="188"/>
                </a:lnTo>
                <a:lnTo>
                  <a:pt x="322" y="190"/>
                </a:lnTo>
                <a:lnTo>
                  <a:pt x="309" y="192"/>
                </a:lnTo>
                <a:lnTo>
                  <a:pt x="295" y="192"/>
                </a:lnTo>
                <a:lnTo>
                  <a:pt x="282" y="194"/>
                </a:lnTo>
                <a:lnTo>
                  <a:pt x="269" y="194"/>
                </a:lnTo>
                <a:lnTo>
                  <a:pt x="257" y="195"/>
                </a:lnTo>
                <a:lnTo>
                  <a:pt x="245" y="195"/>
                </a:lnTo>
                <a:lnTo>
                  <a:pt x="234" y="197"/>
                </a:lnTo>
                <a:lnTo>
                  <a:pt x="224" y="197"/>
                </a:lnTo>
                <a:lnTo>
                  <a:pt x="215" y="199"/>
                </a:lnTo>
                <a:lnTo>
                  <a:pt x="205" y="199"/>
                </a:lnTo>
                <a:lnTo>
                  <a:pt x="196" y="199"/>
                </a:lnTo>
                <a:lnTo>
                  <a:pt x="186" y="201"/>
                </a:lnTo>
                <a:lnTo>
                  <a:pt x="178" y="201"/>
                </a:lnTo>
                <a:lnTo>
                  <a:pt x="171" y="201"/>
                </a:lnTo>
                <a:lnTo>
                  <a:pt x="165" y="201"/>
                </a:lnTo>
                <a:lnTo>
                  <a:pt x="157" y="203"/>
                </a:lnTo>
                <a:lnTo>
                  <a:pt x="151" y="203"/>
                </a:lnTo>
                <a:lnTo>
                  <a:pt x="146" y="203"/>
                </a:lnTo>
                <a:lnTo>
                  <a:pt x="140" y="203"/>
                </a:lnTo>
                <a:lnTo>
                  <a:pt x="136" y="203"/>
                </a:lnTo>
                <a:lnTo>
                  <a:pt x="132" y="203"/>
                </a:lnTo>
                <a:lnTo>
                  <a:pt x="117" y="203"/>
                </a:lnTo>
                <a:lnTo>
                  <a:pt x="102" y="201"/>
                </a:lnTo>
                <a:lnTo>
                  <a:pt x="86" y="197"/>
                </a:lnTo>
                <a:lnTo>
                  <a:pt x="71" y="194"/>
                </a:lnTo>
                <a:lnTo>
                  <a:pt x="57" y="188"/>
                </a:lnTo>
                <a:lnTo>
                  <a:pt x="44" y="180"/>
                </a:lnTo>
                <a:lnTo>
                  <a:pt x="31" y="172"/>
                </a:lnTo>
                <a:lnTo>
                  <a:pt x="21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42"/>
          <p:cNvSpPr/>
          <p:nvPr/>
        </p:nvSpPr>
        <p:spPr>
          <a:xfrm>
            <a:off x="6099120" y="2894040"/>
            <a:ext cx="155520" cy="833400"/>
          </a:xfrm>
          <a:custGeom>
            <a:avLst/>
            <a:gdLst/>
            <a:ahLst/>
            <a:rect l="l" t="t" r="r" b="b"/>
            <a:pathLst>
              <a:path w="196" h="1050">
                <a:moveTo>
                  <a:pt x="0" y="1050"/>
                </a:moveTo>
                <a:lnTo>
                  <a:pt x="0" y="0"/>
                </a:lnTo>
                <a:lnTo>
                  <a:pt x="196" y="0"/>
                </a:lnTo>
                <a:lnTo>
                  <a:pt x="190" y="76"/>
                </a:lnTo>
                <a:lnTo>
                  <a:pt x="187" y="149"/>
                </a:lnTo>
                <a:lnTo>
                  <a:pt x="183" y="222"/>
                </a:lnTo>
                <a:lnTo>
                  <a:pt x="177" y="293"/>
                </a:lnTo>
                <a:lnTo>
                  <a:pt x="173" y="362"/>
                </a:lnTo>
                <a:lnTo>
                  <a:pt x="171" y="432"/>
                </a:lnTo>
                <a:lnTo>
                  <a:pt x="167" y="497"/>
                </a:lnTo>
                <a:lnTo>
                  <a:pt x="165" y="562"/>
                </a:lnTo>
                <a:lnTo>
                  <a:pt x="162" y="625"/>
                </a:lnTo>
                <a:lnTo>
                  <a:pt x="160" y="687"/>
                </a:lnTo>
                <a:lnTo>
                  <a:pt x="158" y="746"/>
                </a:lnTo>
                <a:lnTo>
                  <a:pt x="156" y="804"/>
                </a:lnTo>
                <a:lnTo>
                  <a:pt x="156" y="862"/>
                </a:lnTo>
                <a:lnTo>
                  <a:pt x="154" y="917"/>
                </a:lnTo>
                <a:lnTo>
                  <a:pt x="154" y="969"/>
                </a:lnTo>
                <a:lnTo>
                  <a:pt x="154" y="1023"/>
                </a:lnTo>
                <a:lnTo>
                  <a:pt x="77" y="1036"/>
                </a:lnTo>
                <a:lnTo>
                  <a:pt x="0" y="10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43"/>
          <p:cNvSpPr/>
          <p:nvPr/>
        </p:nvSpPr>
        <p:spPr>
          <a:xfrm>
            <a:off x="5619600" y="3562200"/>
            <a:ext cx="935280" cy="435240"/>
          </a:xfrm>
          <a:custGeom>
            <a:avLst/>
            <a:gdLst/>
            <a:ahLst/>
            <a:rect l="l" t="t" r="r" b="b"/>
            <a:pathLst>
              <a:path w="1178" h="547">
                <a:moveTo>
                  <a:pt x="716" y="288"/>
                </a:moveTo>
                <a:lnTo>
                  <a:pt x="687" y="306"/>
                </a:lnTo>
                <a:lnTo>
                  <a:pt x="658" y="321"/>
                </a:lnTo>
                <a:lnTo>
                  <a:pt x="631" y="336"/>
                </a:lnTo>
                <a:lnTo>
                  <a:pt x="602" y="352"/>
                </a:lnTo>
                <a:lnTo>
                  <a:pt x="578" y="365"/>
                </a:lnTo>
                <a:lnTo>
                  <a:pt x="553" y="380"/>
                </a:lnTo>
                <a:lnTo>
                  <a:pt x="528" y="392"/>
                </a:lnTo>
                <a:lnTo>
                  <a:pt x="505" y="405"/>
                </a:lnTo>
                <a:lnTo>
                  <a:pt x="482" y="417"/>
                </a:lnTo>
                <a:lnTo>
                  <a:pt x="460" y="428"/>
                </a:lnTo>
                <a:lnTo>
                  <a:pt x="439" y="440"/>
                </a:lnTo>
                <a:lnTo>
                  <a:pt x="418" y="450"/>
                </a:lnTo>
                <a:lnTo>
                  <a:pt x="399" y="459"/>
                </a:lnTo>
                <a:lnTo>
                  <a:pt x="382" y="469"/>
                </a:lnTo>
                <a:lnTo>
                  <a:pt x="364" y="478"/>
                </a:lnTo>
                <a:lnTo>
                  <a:pt x="347" y="486"/>
                </a:lnTo>
                <a:lnTo>
                  <a:pt x="332" y="494"/>
                </a:lnTo>
                <a:lnTo>
                  <a:pt x="316" y="501"/>
                </a:lnTo>
                <a:lnTo>
                  <a:pt x="301" y="507"/>
                </a:lnTo>
                <a:lnTo>
                  <a:pt x="288" y="513"/>
                </a:lnTo>
                <a:lnTo>
                  <a:pt x="274" y="519"/>
                </a:lnTo>
                <a:lnTo>
                  <a:pt x="263" y="524"/>
                </a:lnTo>
                <a:lnTo>
                  <a:pt x="251" y="528"/>
                </a:lnTo>
                <a:lnTo>
                  <a:pt x="242" y="532"/>
                </a:lnTo>
                <a:lnTo>
                  <a:pt x="232" y="536"/>
                </a:lnTo>
                <a:lnTo>
                  <a:pt x="222" y="540"/>
                </a:lnTo>
                <a:lnTo>
                  <a:pt x="215" y="542"/>
                </a:lnTo>
                <a:lnTo>
                  <a:pt x="207" y="544"/>
                </a:lnTo>
                <a:lnTo>
                  <a:pt x="201" y="545"/>
                </a:lnTo>
                <a:lnTo>
                  <a:pt x="196" y="547"/>
                </a:lnTo>
                <a:lnTo>
                  <a:pt x="190" y="547"/>
                </a:lnTo>
                <a:lnTo>
                  <a:pt x="186" y="547"/>
                </a:lnTo>
                <a:lnTo>
                  <a:pt x="178" y="547"/>
                </a:lnTo>
                <a:lnTo>
                  <a:pt x="171" y="547"/>
                </a:lnTo>
                <a:lnTo>
                  <a:pt x="163" y="545"/>
                </a:lnTo>
                <a:lnTo>
                  <a:pt x="155" y="544"/>
                </a:lnTo>
                <a:lnTo>
                  <a:pt x="148" y="540"/>
                </a:lnTo>
                <a:lnTo>
                  <a:pt x="138" y="536"/>
                </a:lnTo>
                <a:lnTo>
                  <a:pt x="130" y="532"/>
                </a:lnTo>
                <a:lnTo>
                  <a:pt x="123" y="526"/>
                </a:lnTo>
                <a:lnTo>
                  <a:pt x="115" y="521"/>
                </a:lnTo>
                <a:lnTo>
                  <a:pt x="107" y="513"/>
                </a:lnTo>
                <a:lnTo>
                  <a:pt x="100" y="505"/>
                </a:lnTo>
                <a:lnTo>
                  <a:pt x="92" y="496"/>
                </a:lnTo>
                <a:lnTo>
                  <a:pt x="84" y="486"/>
                </a:lnTo>
                <a:lnTo>
                  <a:pt x="77" y="476"/>
                </a:lnTo>
                <a:lnTo>
                  <a:pt x="69" y="465"/>
                </a:lnTo>
                <a:lnTo>
                  <a:pt x="61" y="453"/>
                </a:lnTo>
                <a:lnTo>
                  <a:pt x="50" y="442"/>
                </a:lnTo>
                <a:lnTo>
                  <a:pt x="42" y="432"/>
                </a:lnTo>
                <a:lnTo>
                  <a:pt x="34" y="423"/>
                </a:lnTo>
                <a:lnTo>
                  <a:pt x="27" y="413"/>
                </a:lnTo>
                <a:lnTo>
                  <a:pt x="21" y="405"/>
                </a:lnTo>
                <a:lnTo>
                  <a:pt x="15" y="396"/>
                </a:lnTo>
                <a:lnTo>
                  <a:pt x="9" y="388"/>
                </a:lnTo>
                <a:lnTo>
                  <a:pt x="7" y="378"/>
                </a:lnTo>
                <a:lnTo>
                  <a:pt x="4" y="371"/>
                </a:lnTo>
                <a:lnTo>
                  <a:pt x="2" y="363"/>
                </a:lnTo>
                <a:lnTo>
                  <a:pt x="0" y="355"/>
                </a:lnTo>
                <a:lnTo>
                  <a:pt x="0" y="348"/>
                </a:lnTo>
                <a:lnTo>
                  <a:pt x="0" y="340"/>
                </a:lnTo>
                <a:lnTo>
                  <a:pt x="2" y="331"/>
                </a:lnTo>
                <a:lnTo>
                  <a:pt x="2" y="325"/>
                </a:lnTo>
                <a:lnTo>
                  <a:pt x="6" y="317"/>
                </a:lnTo>
                <a:lnTo>
                  <a:pt x="7" y="311"/>
                </a:lnTo>
                <a:lnTo>
                  <a:pt x="11" y="307"/>
                </a:lnTo>
                <a:lnTo>
                  <a:pt x="13" y="304"/>
                </a:lnTo>
                <a:lnTo>
                  <a:pt x="17" y="300"/>
                </a:lnTo>
                <a:lnTo>
                  <a:pt x="21" y="298"/>
                </a:lnTo>
                <a:lnTo>
                  <a:pt x="27" y="296"/>
                </a:lnTo>
                <a:lnTo>
                  <a:pt x="30" y="294"/>
                </a:lnTo>
                <a:lnTo>
                  <a:pt x="36" y="294"/>
                </a:lnTo>
                <a:lnTo>
                  <a:pt x="42" y="294"/>
                </a:lnTo>
                <a:lnTo>
                  <a:pt x="48" y="294"/>
                </a:lnTo>
                <a:lnTo>
                  <a:pt x="59" y="296"/>
                </a:lnTo>
                <a:lnTo>
                  <a:pt x="73" y="298"/>
                </a:lnTo>
                <a:lnTo>
                  <a:pt x="88" y="304"/>
                </a:lnTo>
                <a:lnTo>
                  <a:pt x="100" y="307"/>
                </a:lnTo>
                <a:lnTo>
                  <a:pt x="111" y="313"/>
                </a:lnTo>
                <a:lnTo>
                  <a:pt x="125" y="317"/>
                </a:lnTo>
                <a:lnTo>
                  <a:pt x="138" y="319"/>
                </a:lnTo>
                <a:lnTo>
                  <a:pt x="153" y="321"/>
                </a:lnTo>
                <a:lnTo>
                  <a:pt x="161" y="323"/>
                </a:lnTo>
                <a:lnTo>
                  <a:pt x="169" y="323"/>
                </a:lnTo>
                <a:lnTo>
                  <a:pt x="176" y="321"/>
                </a:lnTo>
                <a:lnTo>
                  <a:pt x="184" y="321"/>
                </a:lnTo>
                <a:lnTo>
                  <a:pt x="192" y="319"/>
                </a:lnTo>
                <a:lnTo>
                  <a:pt x="199" y="317"/>
                </a:lnTo>
                <a:lnTo>
                  <a:pt x="205" y="315"/>
                </a:lnTo>
                <a:lnTo>
                  <a:pt x="209" y="313"/>
                </a:lnTo>
                <a:lnTo>
                  <a:pt x="215" y="311"/>
                </a:lnTo>
                <a:lnTo>
                  <a:pt x="222" y="309"/>
                </a:lnTo>
                <a:lnTo>
                  <a:pt x="228" y="307"/>
                </a:lnTo>
                <a:lnTo>
                  <a:pt x="236" y="304"/>
                </a:lnTo>
                <a:lnTo>
                  <a:pt x="245" y="302"/>
                </a:lnTo>
                <a:lnTo>
                  <a:pt x="255" y="298"/>
                </a:lnTo>
                <a:lnTo>
                  <a:pt x="265" y="294"/>
                </a:lnTo>
                <a:lnTo>
                  <a:pt x="276" y="292"/>
                </a:lnTo>
                <a:lnTo>
                  <a:pt x="288" y="288"/>
                </a:lnTo>
                <a:lnTo>
                  <a:pt x="301" y="283"/>
                </a:lnTo>
                <a:lnTo>
                  <a:pt x="313" y="279"/>
                </a:lnTo>
                <a:lnTo>
                  <a:pt x="328" y="275"/>
                </a:lnTo>
                <a:lnTo>
                  <a:pt x="341" y="269"/>
                </a:lnTo>
                <a:lnTo>
                  <a:pt x="357" y="263"/>
                </a:lnTo>
                <a:lnTo>
                  <a:pt x="374" y="258"/>
                </a:lnTo>
                <a:lnTo>
                  <a:pt x="389" y="252"/>
                </a:lnTo>
                <a:lnTo>
                  <a:pt x="409" y="246"/>
                </a:lnTo>
                <a:lnTo>
                  <a:pt x="426" y="240"/>
                </a:lnTo>
                <a:lnTo>
                  <a:pt x="445" y="233"/>
                </a:lnTo>
                <a:lnTo>
                  <a:pt x="464" y="227"/>
                </a:lnTo>
                <a:lnTo>
                  <a:pt x="485" y="219"/>
                </a:lnTo>
                <a:lnTo>
                  <a:pt x="506" y="211"/>
                </a:lnTo>
                <a:lnTo>
                  <a:pt x="528" y="204"/>
                </a:lnTo>
                <a:lnTo>
                  <a:pt x="551" y="196"/>
                </a:lnTo>
                <a:lnTo>
                  <a:pt x="574" y="187"/>
                </a:lnTo>
                <a:lnTo>
                  <a:pt x="599" y="179"/>
                </a:lnTo>
                <a:lnTo>
                  <a:pt x="624" y="169"/>
                </a:lnTo>
                <a:lnTo>
                  <a:pt x="649" y="160"/>
                </a:lnTo>
                <a:lnTo>
                  <a:pt x="675" y="150"/>
                </a:lnTo>
                <a:lnTo>
                  <a:pt x="702" y="139"/>
                </a:lnTo>
                <a:lnTo>
                  <a:pt x="729" y="131"/>
                </a:lnTo>
                <a:lnTo>
                  <a:pt x="756" y="121"/>
                </a:lnTo>
                <a:lnTo>
                  <a:pt x="781" y="114"/>
                </a:lnTo>
                <a:lnTo>
                  <a:pt x="806" y="104"/>
                </a:lnTo>
                <a:lnTo>
                  <a:pt x="829" y="96"/>
                </a:lnTo>
                <a:lnTo>
                  <a:pt x="852" y="89"/>
                </a:lnTo>
                <a:lnTo>
                  <a:pt x="875" y="81"/>
                </a:lnTo>
                <a:lnTo>
                  <a:pt x="896" y="75"/>
                </a:lnTo>
                <a:lnTo>
                  <a:pt x="917" y="68"/>
                </a:lnTo>
                <a:lnTo>
                  <a:pt x="936" y="62"/>
                </a:lnTo>
                <a:lnTo>
                  <a:pt x="956" y="56"/>
                </a:lnTo>
                <a:lnTo>
                  <a:pt x="973" y="50"/>
                </a:lnTo>
                <a:lnTo>
                  <a:pt x="992" y="45"/>
                </a:lnTo>
                <a:lnTo>
                  <a:pt x="1007" y="39"/>
                </a:lnTo>
                <a:lnTo>
                  <a:pt x="1025" y="33"/>
                </a:lnTo>
                <a:lnTo>
                  <a:pt x="1038" y="29"/>
                </a:lnTo>
                <a:lnTo>
                  <a:pt x="1054" y="25"/>
                </a:lnTo>
                <a:lnTo>
                  <a:pt x="1067" y="21"/>
                </a:lnTo>
                <a:lnTo>
                  <a:pt x="1080" y="18"/>
                </a:lnTo>
                <a:lnTo>
                  <a:pt x="1092" y="14"/>
                </a:lnTo>
                <a:lnTo>
                  <a:pt x="1103" y="12"/>
                </a:lnTo>
                <a:lnTo>
                  <a:pt x="1113" y="8"/>
                </a:lnTo>
                <a:lnTo>
                  <a:pt x="1123" y="6"/>
                </a:lnTo>
                <a:lnTo>
                  <a:pt x="1132" y="4"/>
                </a:lnTo>
                <a:lnTo>
                  <a:pt x="1140" y="2"/>
                </a:lnTo>
                <a:lnTo>
                  <a:pt x="1148" y="2"/>
                </a:lnTo>
                <a:lnTo>
                  <a:pt x="1155" y="0"/>
                </a:lnTo>
                <a:lnTo>
                  <a:pt x="1161" y="0"/>
                </a:lnTo>
                <a:lnTo>
                  <a:pt x="1165" y="0"/>
                </a:lnTo>
                <a:lnTo>
                  <a:pt x="1171" y="0"/>
                </a:lnTo>
                <a:lnTo>
                  <a:pt x="1174" y="2"/>
                </a:lnTo>
                <a:lnTo>
                  <a:pt x="1176" y="2"/>
                </a:lnTo>
                <a:lnTo>
                  <a:pt x="1178" y="4"/>
                </a:lnTo>
                <a:lnTo>
                  <a:pt x="1178" y="6"/>
                </a:lnTo>
                <a:lnTo>
                  <a:pt x="1176" y="8"/>
                </a:lnTo>
                <a:lnTo>
                  <a:pt x="1174" y="12"/>
                </a:lnTo>
                <a:lnTo>
                  <a:pt x="1171" y="16"/>
                </a:lnTo>
                <a:lnTo>
                  <a:pt x="1167" y="20"/>
                </a:lnTo>
                <a:lnTo>
                  <a:pt x="1161" y="23"/>
                </a:lnTo>
                <a:lnTo>
                  <a:pt x="1155" y="27"/>
                </a:lnTo>
                <a:lnTo>
                  <a:pt x="1149" y="33"/>
                </a:lnTo>
                <a:lnTo>
                  <a:pt x="1140" y="39"/>
                </a:lnTo>
                <a:lnTo>
                  <a:pt x="1132" y="45"/>
                </a:lnTo>
                <a:lnTo>
                  <a:pt x="1121" y="52"/>
                </a:lnTo>
                <a:lnTo>
                  <a:pt x="1111" y="60"/>
                </a:lnTo>
                <a:lnTo>
                  <a:pt x="1098" y="68"/>
                </a:lnTo>
                <a:lnTo>
                  <a:pt x="1086" y="75"/>
                </a:lnTo>
                <a:lnTo>
                  <a:pt x="1071" y="83"/>
                </a:lnTo>
                <a:lnTo>
                  <a:pt x="1057" y="92"/>
                </a:lnTo>
                <a:lnTo>
                  <a:pt x="1040" y="102"/>
                </a:lnTo>
                <a:lnTo>
                  <a:pt x="1025" y="112"/>
                </a:lnTo>
                <a:lnTo>
                  <a:pt x="1006" y="123"/>
                </a:lnTo>
                <a:lnTo>
                  <a:pt x="986" y="135"/>
                </a:lnTo>
                <a:lnTo>
                  <a:pt x="967" y="146"/>
                </a:lnTo>
                <a:lnTo>
                  <a:pt x="946" y="158"/>
                </a:lnTo>
                <a:lnTo>
                  <a:pt x="925" y="169"/>
                </a:lnTo>
                <a:lnTo>
                  <a:pt x="902" y="183"/>
                </a:lnTo>
                <a:lnTo>
                  <a:pt x="879" y="196"/>
                </a:lnTo>
                <a:lnTo>
                  <a:pt x="854" y="211"/>
                </a:lnTo>
                <a:lnTo>
                  <a:pt x="829" y="225"/>
                </a:lnTo>
                <a:lnTo>
                  <a:pt x="802" y="240"/>
                </a:lnTo>
                <a:lnTo>
                  <a:pt x="773" y="256"/>
                </a:lnTo>
                <a:lnTo>
                  <a:pt x="746" y="273"/>
                </a:lnTo>
                <a:lnTo>
                  <a:pt x="716" y="2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44"/>
          <p:cNvSpPr/>
          <p:nvPr/>
        </p:nvSpPr>
        <p:spPr>
          <a:xfrm>
            <a:off x="5823000" y="3228840"/>
            <a:ext cx="698400" cy="184320"/>
          </a:xfrm>
          <a:custGeom>
            <a:avLst/>
            <a:gdLst/>
            <a:ahLst/>
            <a:rect l="l" t="t" r="r" b="b"/>
            <a:pathLst>
              <a:path w="881" h="232">
                <a:moveTo>
                  <a:pt x="42" y="205"/>
                </a:moveTo>
                <a:lnTo>
                  <a:pt x="33" y="200"/>
                </a:lnTo>
                <a:lnTo>
                  <a:pt x="25" y="192"/>
                </a:lnTo>
                <a:lnTo>
                  <a:pt x="17" y="184"/>
                </a:lnTo>
                <a:lnTo>
                  <a:pt x="12" y="177"/>
                </a:lnTo>
                <a:lnTo>
                  <a:pt x="6" y="169"/>
                </a:lnTo>
                <a:lnTo>
                  <a:pt x="4" y="163"/>
                </a:lnTo>
                <a:lnTo>
                  <a:pt x="2" y="155"/>
                </a:lnTo>
                <a:lnTo>
                  <a:pt x="0" y="150"/>
                </a:lnTo>
                <a:lnTo>
                  <a:pt x="0" y="148"/>
                </a:lnTo>
                <a:lnTo>
                  <a:pt x="0" y="146"/>
                </a:lnTo>
                <a:lnTo>
                  <a:pt x="2" y="144"/>
                </a:lnTo>
                <a:lnTo>
                  <a:pt x="4" y="142"/>
                </a:lnTo>
                <a:lnTo>
                  <a:pt x="6" y="140"/>
                </a:lnTo>
                <a:lnTo>
                  <a:pt x="10" y="140"/>
                </a:lnTo>
                <a:lnTo>
                  <a:pt x="13" y="138"/>
                </a:lnTo>
                <a:lnTo>
                  <a:pt x="19" y="136"/>
                </a:lnTo>
                <a:lnTo>
                  <a:pt x="23" y="134"/>
                </a:lnTo>
                <a:lnTo>
                  <a:pt x="31" y="131"/>
                </a:lnTo>
                <a:lnTo>
                  <a:pt x="37" y="129"/>
                </a:lnTo>
                <a:lnTo>
                  <a:pt x="44" y="127"/>
                </a:lnTo>
                <a:lnTo>
                  <a:pt x="54" y="125"/>
                </a:lnTo>
                <a:lnTo>
                  <a:pt x="61" y="123"/>
                </a:lnTo>
                <a:lnTo>
                  <a:pt x="73" y="119"/>
                </a:lnTo>
                <a:lnTo>
                  <a:pt x="83" y="117"/>
                </a:lnTo>
                <a:lnTo>
                  <a:pt x="94" y="115"/>
                </a:lnTo>
                <a:lnTo>
                  <a:pt x="106" y="111"/>
                </a:lnTo>
                <a:lnTo>
                  <a:pt x="119" y="109"/>
                </a:lnTo>
                <a:lnTo>
                  <a:pt x="132" y="106"/>
                </a:lnTo>
                <a:lnTo>
                  <a:pt x="146" y="104"/>
                </a:lnTo>
                <a:lnTo>
                  <a:pt x="159" y="100"/>
                </a:lnTo>
                <a:lnTo>
                  <a:pt x="175" y="96"/>
                </a:lnTo>
                <a:lnTo>
                  <a:pt x="192" y="94"/>
                </a:lnTo>
                <a:lnTo>
                  <a:pt x="207" y="90"/>
                </a:lnTo>
                <a:lnTo>
                  <a:pt x="225" y="86"/>
                </a:lnTo>
                <a:lnTo>
                  <a:pt x="244" y="83"/>
                </a:lnTo>
                <a:lnTo>
                  <a:pt x="261" y="79"/>
                </a:lnTo>
                <a:lnTo>
                  <a:pt x="280" y="77"/>
                </a:lnTo>
                <a:lnTo>
                  <a:pt x="301" y="73"/>
                </a:lnTo>
                <a:lnTo>
                  <a:pt x="323" y="69"/>
                </a:lnTo>
                <a:lnTo>
                  <a:pt x="363" y="61"/>
                </a:lnTo>
                <a:lnTo>
                  <a:pt x="401" y="54"/>
                </a:lnTo>
                <a:lnTo>
                  <a:pt x="440" y="46"/>
                </a:lnTo>
                <a:lnTo>
                  <a:pt x="476" y="40"/>
                </a:lnTo>
                <a:lnTo>
                  <a:pt x="511" y="35"/>
                </a:lnTo>
                <a:lnTo>
                  <a:pt x="543" y="29"/>
                </a:lnTo>
                <a:lnTo>
                  <a:pt x="574" y="23"/>
                </a:lnTo>
                <a:lnTo>
                  <a:pt x="603" y="19"/>
                </a:lnTo>
                <a:lnTo>
                  <a:pt x="630" y="15"/>
                </a:lnTo>
                <a:lnTo>
                  <a:pt x="655" y="12"/>
                </a:lnTo>
                <a:lnTo>
                  <a:pt x="680" y="8"/>
                </a:lnTo>
                <a:lnTo>
                  <a:pt x="701" y="6"/>
                </a:lnTo>
                <a:lnTo>
                  <a:pt x="720" y="2"/>
                </a:lnTo>
                <a:lnTo>
                  <a:pt x="729" y="2"/>
                </a:lnTo>
                <a:lnTo>
                  <a:pt x="739" y="2"/>
                </a:lnTo>
                <a:lnTo>
                  <a:pt x="747" y="0"/>
                </a:lnTo>
                <a:lnTo>
                  <a:pt x="754" y="0"/>
                </a:lnTo>
                <a:lnTo>
                  <a:pt x="762" y="0"/>
                </a:lnTo>
                <a:lnTo>
                  <a:pt x="768" y="0"/>
                </a:lnTo>
                <a:lnTo>
                  <a:pt x="781" y="0"/>
                </a:lnTo>
                <a:lnTo>
                  <a:pt x="793" y="0"/>
                </a:lnTo>
                <a:lnTo>
                  <a:pt x="804" y="2"/>
                </a:lnTo>
                <a:lnTo>
                  <a:pt x="816" y="2"/>
                </a:lnTo>
                <a:lnTo>
                  <a:pt x="825" y="4"/>
                </a:lnTo>
                <a:lnTo>
                  <a:pt x="835" y="6"/>
                </a:lnTo>
                <a:lnTo>
                  <a:pt x="843" y="8"/>
                </a:lnTo>
                <a:lnTo>
                  <a:pt x="850" y="10"/>
                </a:lnTo>
                <a:lnTo>
                  <a:pt x="858" y="13"/>
                </a:lnTo>
                <a:lnTo>
                  <a:pt x="864" y="15"/>
                </a:lnTo>
                <a:lnTo>
                  <a:pt x="868" y="19"/>
                </a:lnTo>
                <a:lnTo>
                  <a:pt x="873" y="23"/>
                </a:lnTo>
                <a:lnTo>
                  <a:pt x="875" y="27"/>
                </a:lnTo>
                <a:lnTo>
                  <a:pt x="879" y="33"/>
                </a:lnTo>
                <a:lnTo>
                  <a:pt x="879" y="36"/>
                </a:lnTo>
                <a:lnTo>
                  <a:pt x="881" y="42"/>
                </a:lnTo>
                <a:lnTo>
                  <a:pt x="879" y="46"/>
                </a:lnTo>
                <a:lnTo>
                  <a:pt x="879" y="48"/>
                </a:lnTo>
                <a:lnTo>
                  <a:pt x="877" y="52"/>
                </a:lnTo>
                <a:lnTo>
                  <a:pt x="875" y="56"/>
                </a:lnTo>
                <a:lnTo>
                  <a:pt x="871" y="59"/>
                </a:lnTo>
                <a:lnTo>
                  <a:pt x="868" y="63"/>
                </a:lnTo>
                <a:lnTo>
                  <a:pt x="864" y="67"/>
                </a:lnTo>
                <a:lnTo>
                  <a:pt x="860" y="71"/>
                </a:lnTo>
                <a:lnTo>
                  <a:pt x="854" y="75"/>
                </a:lnTo>
                <a:lnTo>
                  <a:pt x="846" y="79"/>
                </a:lnTo>
                <a:lnTo>
                  <a:pt x="841" y="83"/>
                </a:lnTo>
                <a:lnTo>
                  <a:pt x="833" y="86"/>
                </a:lnTo>
                <a:lnTo>
                  <a:pt x="825" y="90"/>
                </a:lnTo>
                <a:lnTo>
                  <a:pt x="816" y="94"/>
                </a:lnTo>
                <a:lnTo>
                  <a:pt x="806" y="98"/>
                </a:lnTo>
                <a:lnTo>
                  <a:pt x="797" y="102"/>
                </a:lnTo>
                <a:lnTo>
                  <a:pt x="785" y="106"/>
                </a:lnTo>
                <a:lnTo>
                  <a:pt x="774" y="109"/>
                </a:lnTo>
                <a:lnTo>
                  <a:pt x="762" y="113"/>
                </a:lnTo>
                <a:lnTo>
                  <a:pt x="749" y="117"/>
                </a:lnTo>
                <a:lnTo>
                  <a:pt x="735" y="121"/>
                </a:lnTo>
                <a:lnTo>
                  <a:pt x="722" y="125"/>
                </a:lnTo>
                <a:lnTo>
                  <a:pt x="706" y="129"/>
                </a:lnTo>
                <a:lnTo>
                  <a:pt x="691" y="132"/>
                </a:lnTo>
                <a:lnTo>
                  <a:pt x="676" y="136"/>
                </a:lnTo>
                <a:lnTo>
                  <a:pt x="658" y="140"/>
                </a:lnTo>
                <a:lnTo>
                  <a:pt x="641" y="144"/>
                </a:lnTo>
                <a:lnTo>
                  <a:pt x="624" y="148"/>
                </a:lnTo>
                <a:lnTo>
                  <a:pt x="605" y="152"/>
                </a:lnTo>
                <a:lnTo>
                  <a:pt x="585" y="155"/>
                </a:lnTo>
                <a:lnTo>
                  <a:pt x="566" y="159"/>
                </a:lnTo>
                <a:lnTo>
                  <a:pt x="545" y="163"/>
                </a:lnTo>
                <a:lnTo>
                  <a:pt x="524" y="167"/>
                </a:lnTo>
                <a:lnTo>
                  <a:pt x="501" y="171"/>
                </a:lnTo>
                <a:lnTo>
                  <a:pt x="482" y="175"/>
                </a:lnTo>
                <a:lnTo>
                  <a:pt x="461" y="179"/>
                </a:lnTo>
                <a:lnTo>
                  <a:pt x="442" y="182"/>
                </a:lnTo>
                <a:lnTo>
                  <a:pt x="422" y="186"/>
                </a:lnTo>
                <a:lnTo>
                  <a:pt x="405" y="188"/>
                </a:lnTo>
                <a:lnTo>
                  <a:pt x="388" y="192"/>
                </a:lnTo>
                <a:lnTo>
                  <a:pt x="370" y="196"/>
                </a:lnTo>
                <a:lnTo>
                  <a:pt x="355" y="198"/>
                </a:lnTo>
                <a:lnTo>
                  <a:pt x="338" y="202"/>
                </a:lnTo>
                <a:lnTo>
                  <a:pt x="324" y="203"/>
                </a:lnTo>
                <a:lnTo>
                  <a:pt x="309" y="205"/>
                </a:lnTo>
                <a:lnTo>
                  <a:pt x="296" y="209"/>
                </a:lnTo>
                <a:lnTo>
                  <a:pt x="282" y="211"/>
                </a:lnTo>
                <a:lnTo>
                  <a:pt x="269" y="213"/>
                </a:lnTo>
                <a:lnTo>
                  <a:pt x="257" y="215"/>
                </a:lnTo>
                <a:lnTo>
                  <a:pt x="246" y="217"/>
                </a:lnTo>
                <a:lnTo>
                  <a:pt x="234" y="219"/>
                </a:lnTo>
                <a:lnTo>
                  <a:pt x="225" y="221"/>
                </a:lnTo>
                <a:lnTo>
                  <a:pt x="215" y="223"/>
                </a:lnTo>
                <a:lnTo>
                  <a:pt x="205" y="225"/>
                </a:lnTo>
                <a:lnTo>
                  <a:pt x="196" y="226"/>
                </a:lnTo>
                <a:lnTo>
                  <a:pt x="188" y="226"/>
                </a:lnTo>
                <a:lnTo>
                  <a:pt x="180" y="228"/>
                </a:lnTo>
                <a:lnTo>
                  <a:pt x="173" y="228"/>
                </a:lnTo>
                <a:lnTo>
                  <a:pt x="165" y="230"/>
                </a:lnTo>
                <a:lnTo>
                  <a:pt x="159" y="230"/>
                </a:lnTo>
                <a:lnTo>
                  <a:pt x="154" y="230"/>
                </a:lnTo>
                <a:lnTo>
                  <a:pt x="150" y="232"/>
                </a:lnTo>
                <a:lnTo>
                  <a:pt x="144" y="232"/>
                </a:lnTo>
                <a:lnTo>
                  <a:pt x="140" y="232"/>
                </a:lnTo>
                <a:lnTo>
                  <a:pt x="125" y="230"/>
                </a:lnTo>
                <a:lnTo>
                  <a:pt x="111" y="230"/>
                </a:lnTo>
                <a:lnTo>
                  <a:pt x="98" y="226"/>
                </a:lnTo>
                <a:lnTo>
                  <a:pt x="86" y="223"/>
                </a:lnTo>
                <a:lnTo>
                  <a:pt x="75" y="219"/>
                </a:lnTo>
                <a:lnTo>
                  <a:pt x="63" y="215"/>
                </a:lnTo>
                <a:lnTo>
                  <a:pt x="42" y="2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45"/>
          <p:cNvSpPr/>
          <p:nvPr/>
        </p:nvSpPr>
        <p:spPr>
          <a:xfrm>
            <a:off x="5792760" y="2806560"/>
            <a:ext cx="784080" cy="184320"/>
          </a:xfrm>
          <a:custGeom>
            <a:avLst/>
            <a:gdLst/>
            <a:ahLst/>
            <a:rect l="l" t="t" r="r" b="b"/>
            <a:pathLst>
              <a:path w="986" h="233">
                <a:moveTo>
                  <a:pt x="23" y="192"/>
                </a:moveTo>
                <a:lnTo>
                  <a:pt x="15" y="186"/>
                </a:lnTo>
                <a:lnTo>
                  <a:pt x="9" y="181"/>
                </a:lnTo>
                <a:lnTo>
                  <a:pt x="5" y="177"/>
                </a:lnTo>
                <a:lnTo>
                  <a:pt x="2" y="171"/>
                </a:lnTo>
                <a:lnTo>
                  <a:pt x="0" y="165"/>
                </a:lnTo>
                <a:lnTo>
                  <a:pt x="0" y="162"/>
                </a:lnTo>
                <a:lnTo>
                  <a:pt x="0" y="158"/>
                </a:lnTo>
                <a:lnTo>
                  <a:pt x="2" y="152"/>
                </a:lnTo>
                <a:lnTo>
                  <a:pt x="5" y="148"/>
                </a:lnTo>
                <a:lnTo>
                  <a:pt x="9" y="144"/>
                </a:lnTo>
                <a:lnTo>
                  <a:pt x="15" y="140"/>
                </a:lnTo>
                <a:lnTo>
                  <a:pt x="23" y="137"/>
                </a:lnTo>
                <a:lnTo>
                  <a:pt x="30" y="133"/>
                </a:lnTo>
                <a:lnTo>
                  <a:pt x="42" y="129"/>
                </a:lnTo>
                <a:lnTo>
                  <a:pt x="51" y="125"/>
                </a:lnTo>
                <a:lnTo>
                  <a:pt x="65" y="123"/>
                </a:lnTo>
                <a:lnTo>
                  <a:pt x="78" y="121"/>
                </a:lnTo>
                <a:lnTo>
                  <a:pt x="94" y="117"/>
                </a:lnTo>
                <a:lnTo>
                  <a:pt x="109" y="115"/>
                </a:lnTo>
                <a:lnTo>
                  <a:pt x="128" y="112"/>
                </a:lnTo>
                <a:lnTo>
                  <a:pt x="145" y="110"/>
                </a:lnTo>
                <a:lnTo>
                  <a:pt x="167" y="106"/>
                </a:lnTo>
                <a:lnTo>
                  <a:pt x="188" y="104"/>
                </a:lnTo>
                <a:lnTo>
                  <a:pt x="211" y="100"/>
                </a:lnTo>
                <a:lnTo>
                  <a:pt x="236" y="96"/>
                </a:lnTo>
                <a:lnTo>
                  <a:pt x="261" y="91"/>
                </a:lnTo>
                <a:lnTo>
                  <a:pt x="287" y="87"/>
                </a:lnTo>
                <a:lnTo>
                  <a:pt x="316" y="81"/>
                </a:lnTo>
                <a:lnTo>
                  <a:pt x="345" y="75"/>
                </a:lnTo>
                <a:lnTo>
                  <a:pt x="376" y="69"/>
                </a:lnTo>
                <a:lnTo>
                  <a:pt x="408" y="62"/>
                </a:lnTo>
                <a:lnTo>
                  <a:pt x="441" y="56"/>
                </a:lnTo>
                <a:lnTo>
                  <a:pt x="472" y="48"/>
                </a:lnTo>
                <a:lnTo>
                  <a:pt x="502" y="41"/>
                </a:lnTo>
                <a:lnTo>
                  <a:pt x="529" y="35"/>
                </a:lnTo>
                <a:lnTo>
                  <a:pt x="556" y="29"/>
                </a:lnTo>
                <a:lnTo>
                  <a:pt x="583" y="23"/>
                </a:lnTo>
                <a:lnTo>
                  <a:pt x="606" y="19"/>
                </a:lnTo>
                <a:lnTo>
                  <a:pt x="631" y="16"/>
                </a:lnTo>
                <a:lnTo>
                  <a:pt x="652" y="12"/>
                </a:lnTo>
                <a:lnTo>
                  <a:pt x="673" y="10"/>
                </a:lnTo>
                <a:lnTo>
                  <a:pt x="692" y="8"/>
                </a:lnTo>
                <a:lnTo>
                  <a:pt x="712" y="4"/>
                </a:lnTo>
                <a:lnTo>
                  <a:pt x="729" y="4"/>
                </a:lnTo>
                <a:lnTo>
                  <a:pt x="746" y="2"/>
                </a:lnTo>
                <a:lnTo>
                  <a:pt x="762" y="2"/>
                </a:lnTo>
                <a:lnTo>
                  <a:pt x="777" y="0"/>
                </a:lnTo>
                <a:lnTo>
                  <a:pt x="790" y="0"/>
                </a:lnTo>
                <a:lnTo>
                  <a:pt x="811" y="0"/>
                </a:lnTo>
                <a:lnTo>
                  <a:pt x="831" y="0"/>
                </a:lnTo>
                <a:lnTo>
                  <a:pt x="848" y="2"/>
                </a:lnTo>
                <a:lnTo>
                  <a:pt x="865" y="2"/>
                </a:lnTo>
                <a:lnTo>
                  <a:pt x="882" y="4"/>
                </a:lnTo>
                <a:lnTo>
                  <a:pt x="898" y="6"/>
                </a:lnTo>
                <a:lnTo>
                  <a:pt x="915" y="10"/>
                </a:lnTo>
                <a:lnTo>
                  <a:pt x="930" y="14"/>
                </a:lnTo>
                <a:lnTo>
                  <a:pt x="938" y="18"/>
                </a:lnTo>
                <a:lnTo>
                  <a:pt x="944" y="19"/>
                </a:lnTo>
                <a:lnTo>
                  <a:pt x="952" y="21"/>
                </a:lnTo>
                <a:lnTo>
                  <a:pt x="955" y="25"/>
                </a:lnTo>
                <a:lnTo>
                  <a:pt x="961" y="27"/>
                </a:lnTo>
                <a:lnTo>
                  <a:pt x="967" y="29"/>
                </a:lnTo>
                <a:lnTo>
                  <a:pt x="971" y="33"/>
                </a:lnTo>
                <a:lnTo>
                  <a:pt x="973" y="35"/>
                </a:lnTo>
                <a:lnTo>
                  <a:pt x="977" y="37"/>
                </a:lnTo>
                <a:lnTo>
                  <a:pt x="978" y="41"/>
                </a:lnTo>
                <a:lnTo>
                  <a:pt x="982" y="44"/>
                </a:lnTo>
                <a:lnTo>
                  <a:pt x="984" y="50"/>
                </a:lnTo>
                <a:lnTo>
                  <a:pt x="986" y="56"/>
                </a:lnTo>
                <a:lnTo>
                  <a:pt x="984" y="60"/>
                </a:lnTo>
                <a:lnTo>
                  <a:pt x="984" y="66"/>
                </a:lnTo>
                <a:lnTo>
                  <a:pt x="980" y="71"/>
                </a:lnTo>
                <a:lnTo>
                  <a:pt x="977" y="75"/>
                </a:lnTo>
                <a:lnTo>
                  <a:pt x="973" y="81"/>
                </a:lnTo>
                <a:lnTo>
                  <a:pt x="969" y="87"/>
                </a:lnTo>
                <a:lnTo>
                  <a:pt x="957" y="96"/>
                </a:lnTo>
                <a:lnTo>
                  <a:pt x="955" y="98"/>
                </a:lnTo>
                <a:lnTo>
                  <a:pt x="952" y="98"/>
                </a:lnTo>
                <a:lnTo>
                  <a:pt x="948" y="100"/>
                </a:lnTo>
                <a:lnTo>
                  <a:pt x="942" y="102"/>
                </a:lnTo>
                <a:lnTo>
                  <a:pt x="938" y="104"/>
                </a:lnTo>
                <a:lnTo>
                  <a:pt x="932" y="106"/>
                </a:lnTo>
                <a:lnTo>
                  <a:pt x="925" y="108"/>
                </a:lnTo>
                <a:lnTo>
                  <a:pt x="919" y="110"/>
                </a:lnTo>
                <a:lnTo>
                  <a:pt x="911" y="112"/>
                </a:lnTo>
                <a:lnTo>
                  <a:pt x="904" y="114"/>
                </a:lnTo>
                <a:lnTo>
                  <a:pt x="894" y="115"/>
                </a:lnTo>
                <a:lnTo>
                  <a:pt x="884" y="117"/>
                </a:lnTo>
                <a:lnTo>
                  <a:pt x="875" y="119"/>
                </a:lnTo>
                <a:lnTo>
                  <a:pt x="863" y="121"/>
                </a:lnTo>
                <a:lnTo>
                  <a:pt x="854" y="123"/>
                </a:lnTo>
                <a:lnTo>
                  <a:pt x="840" y="127"/>
                </a:lnTo>
                <a:lnTo>
                  <a:pt x="829" y="129"/>
                </a:lnTo>
                <a:lnTo>
                  <a:pt x="815" y="131"/>
                </a:lnTo>
                <a:lnTo>
                  <a:pt x="802" y="135"/>
                </a:lnTo>
                <a:lnTo>
                  <a:pt x="788" y="137"/>
                </a:lnTo>
                <a:lnTo>
                  <a:pt x="773" y="140"/>
                </a:lnTo>
                <a:lnTo>
                  <a:pt x="758" y="142"/>
                </a:lnTo>
                <a:lnTo>
                  <a:pt x="740" y="146"/>
                </a:lnTo>
                <a:lnTo>
                  <a:pt x="725" y="150"/>
                </a:lnTo>
                <a:lnTo>
                  <a:pt x="706" y="152"/>
                </a:lnTo>
                <a:lnTo>
                  <a:pt x="689" y="156"/>
                </a:lnTo>
                <a:lnTo>
                  <a:pt x="669" y="160"/>
                </a:lnTo>
                <a:lnTo>
                  <a:pt x="650" y="163"/>
                </a:lnTo>
                <a:lnTo>
                  <a:pt x="631" y="167"/>
                </a:lnTo>
                <a:lnTo>
                  <a:pt x="610" y="171"/>
                </a:lnTo>
                <a:lnTo>
                  <a:pt x="589" y="175"/>
                </a:lnTo>
                <a:lnTo>
                  <a:pt x="568" y="179"/>
                </a:lnTo>
                <a:lnTo>
                  <a:pt x="545" y="183"/>
                </a:lnTo>
                <a:lnTo>
                  <a:pt x="524" y="185"/>
                </a:lnTo>
                <a:lnTo>
                  <a:pt x="502" y="188"/>
                </a:lnTo>
                <a:lnTo>
                  <a:pt x="483" y="192"/>
                </a:lnTo>
                <a:lnTo>
                  <a:pt x="464" y="196"/>
                </a:lnTo>
                <a:lnTo>
                  <a:pt x="445" y="198"/>
                </a:lnTo>
                <a:lnTo>
                  <a:pt x="428" y="202"/>
                </a:lnTo>
                <a:lnTo>
                  <a:pt x="410" y="204"/>
                </a:lnTo>
                <a:lnTo>
                  <a:pt x="393" y="206"/>
                </a:lnTo>
                <a:lnTo>
                  <a:pt x="376" y="210"/>
                </a:lnTo>
                <a:lnTo>
                  <a:pt x="360" y="211"/>
                </a:lnTo>
                <a:lnTo>
                  <a:pt x="345" y="213"/>
                </a:lnTo>
                <a:lnTo>
                  <a:pt x="332" y="215"/>
                </a:lnTo>
                <a:lnTo>
                  <a:pt x="318" y="217"/>
                </a:lnTo>
                <a:lnTo>
                  <a:pt x="305" y="219"/>
                </a:lnTo>
                <a:lnTo>
                  <a:pt x="291" y="221"/>
                </a:lnTo>
                <a:lnTo>
                  <a:pt x="280" y="223"/>
                </a:lnTo>
                <a:lnTo>
                  <a:pt x="268" y="223"/>
                </a:lnTo>
                <a:lnTo>
                  <a:pt x="257" y="225"/>
                </a:lnTo>
                <a:lnTo>
                  <a:pt x="245" y="227"/>
                </a:lnTo>
                <a:lnTo>
                  <a:pt x="236" y="227"/>
                </a:lnTo>
                <a:lnTo>
                  <a:pt x="226" y="229"/>
                </a:lnTo>
                <a:lnTo>
                  <a:pt x="218" y="229"/>
                </a:lnTo>
                <a:lnTo>
                  <a:pt x="211" y="231"/>
                </a:lnTo>
                <a:lnTo>
                  <a:pt x="201" y="231"/>
                </a:lnTo>
                <a:lnTo>
                  <a:pt x="195" y="231"/>
                </a:lnTo>
                <a:lnTo>
                  <a:pt x="188" y="231"/>
                </a:lnTo>
                <a:lnTo>
                  <a:pt x="182" y="233"/>
                </a:lnTo>
                <a:lnTo>
                  <a:pt x="176" y="233"/>
                </a:lnTo>
                <a:lnTo>
                  <a:pt x="170" y="233"/>
                </a:lnTo>
                <a:lnTo>
                  <a:pt x="167" y="233"/>
                </a:lnTo>
                <a:lnTo>
                  <a:pt x="163" y="233"/>
                </a:lnTo>
                <a:lnTo>
                  <a:pt x="147" y="233"/>
                </a:lnTo>
                <a:lnTo>
                  <a:pt x="130" y="231"/>
                </a:lnTo>
                <a:lnTo>
                  <a:pt x="115" y="227"/>
                </a:lnTo>
                <a:lnTo>
                  <a:pt x="97" y="223"/>
                </a:lnTo>
                <a:lnTo>
                  <a:pt x="80" y="217"/>
                </a:lnTo>
                <a:lnTo>
                  <a:pt x="63" y="210"/>
                </a:lnTo>
                <a:lnTo>
                  <a:pt x="44" y="202"/>
                </a:lnTo>
                <a:lnTo>
                  <a:pt x="23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上窄下宽，右下略向左取斜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52"/>
          <p:cNvSpPr/>
          <p:nvPr/>
        </p:nvSpPr>
        <p:spPr>
          <a:xfrm>
            <a:off x="6413400" y="4019400"/>
            <a:ext cx="887400" cy="623880"/>
          </a:xfrm>
          <a:custGeom>
            <a:avLst/>
            <a:gdLst/>
            <a:ahLst/>
            <a:rect l="l" t="t" r="r" b="b"/>
            <a:pathLst>
              <a:path w="1119" h="787">
                <a:moveTo>
                  <a:pt x="198" y="359"/>
                </a:moveTo>
                <a:lnTo>
                  <a:pt x="194" y="382"/>
                </a:lnTo>
                <a:lnTo>
                  <a:pt x="190" y="403"/>
                </a:lnTo>
                <a:lnTo>
                  <a:pt x="186" y="425"/>
                </a:lnTo>
                <a:lnTo>
                  <a:pt x="184" y="444"/>
                </a:lnTo>
                <a:lnTo>
                  <a:pt x="181" y="461"/>
                </a:lnTo>
                <a:lnTo>
                  <a:pt x="181" y="476"/>
                </a:lnTo>
                <a:lnTo>
                  <a:pt x="179" y="492"/>
                </a:lnTo>
                <a:lnTo>
                  <a:pt x="179" y="505"/>
                </a:lnTo>
                <a:lnTo>
                  <a:pt x="177" y="517"/>
                </a:lnTo>
                <a:lnTo>
                  <a:pt x="177" y="528"/>
                </a:lnTo>
                <a:lnTo>
                  <a:pt x="179" y="536"/>
                </a:lnTo>
                <a:lnTo>
                  <a:pt x="179" y="546"/>
                </a:lnTo>
                <a:lnTo>
                  <a:pt x="181" y="551"/>
                </a:lnTo>
                <a:lnTo>
                  <a:pt x="181" y="557"/>
                </a:lnTo>
                <a:lnTo>
                  <a:pt x="183" y="561"/>
                </a:lnTo>
                <a:lnTo>
                  <a:pt x="186" y="565"/>
                </a:lnTo>
                <a:lnTo>
                  <a:pt x="188" y="567"/>
                </a:lnTo>
                <a:lnTo>
                  <a:pt x="192" y="567"/>
                </a:lnTo>
                <a:lnTo>
                  <a:pt x="194" y="567"/>
                </a:lnTo>
                <a:lnTo>
                  <a:pt x="198" y="569"/>
                </a:lnTo>
                <a:lnTo>
                  <a:pt x="204" y="569"/>
                </a:lnTo>
                <a:lnTo>
                  <a:pt x="208" y="567"/>
                </a:lnTo>
                <a:lnTo>
                  <a:pt x="213" y="567"/>
                </a:lnTo>
                <a:lnTo>
                  <a:pt x="219" y="567"/>
                </a:lnTo>
                <a:lnTo>
                  <a:pt x="227" y="567"/>
                </a:lnTo>
                <a:lnTo>
                  <a:pt x="234" y="565"/>
                </a:lnTo>
                <a:lnTo>
                  <a:pt x="242" y="563"/>
                </a:lnTo>
                <a:lnTo>
                  <a:pt x="250" y="563"/>
                </a:lnTo>
                <a:lnTo>
                  <a:pt x="259" y="561"/>
                </a:lnTo>
                <a:lnTo>
                  <a:pt x="271" y="559"/>
                </a:lnTo>
                <a:lnTo>
                  <a:pt x="280" y="557"/>
                </a:lnTo>
                <a:lnTo>
                  <a:pt x="292" y="555"/>
                </a:lnTo>
                <a:lnTo>
                  <a:pt x="304" y="551"/>
                </a:lnTo>
                <a:lnTo>
                  <a:pt x="317" y="549"/>
                </a:lnTo>
                <a:lnTo>
                  <a:pt x="330" y="547"/>
                </a:lnTo>
                <a:lnTo>
                  <a:pt x="344" y="544"/>
                </a:lnTo>
                <a:lnTo>
                  <a:pt x="357" y="542"/>
                </a:lnTo>
                <a:lnTo>
                  <a:pt x="373" y="538"/>
                </a:lnTo>
                <a:lnTo>
                  <a:pt x="390" y="534"/>
                </a:lnTo>
                <a:lnTo>
                  <a:pt x="405" y="530"/>
                </a:lnTo>
                <a:lnTo>
                  <a:pt x="423" y="526"/>
                </a:lnTo>
                <a:lnTo>
                  <a:pt x="442" y="522"/>
                </a:lnTo>
                <a:lnTo>
                  <a:pt x="461" y="519"/>
                </a:lnTo>
                <a:lnTo>
                  <a:pt x="480" y="515"/>
                </a:lnTo>
                <a:lnTo>
                  <a:pt x="499" y="509"/>
                </a:lnTo>
                <a:lnTo>
                  <a:pt x="520" y="505"/>
                </a:lnTo>
                <a:lnTo>
                  <a:pt x="542" y="499"/>
                </a:lnTo>
                <a:lnTo>
                  <a:pt x="565" y="496"/>
                </a:lnTo>
                <a:lnTo>
                  <a:pt x="584" y="494"/>
                </a:lnTo>
                <a:lnTo>
                  <a:pt x="605" y="490"/>
                </a:lnTo>
                <a:lnTo>
                  <a:pt x="624" y="486"/>
                </a:lnTo>
                <a:lnTo>
                  <a:pt x="645" y="482"/>
                </a:lnTo>
                <a:lnTo>
                  <a:pt x="662" y="480"/>
                </a:lnTo>
                <a:lnTo>
                  <a:pt x="682" y="476"/>
                </a:lnTo>
                <a:lnTo>
                  <a:pt x="699" y="475"/>
                </a:lnTo>
                <a:lnTo>
                  <a:pt x="716" y="471"/>
                </a:lnTo>
                <a:lnTo>
                  <a:pt x="732" y="469"/>
                </a:lnTo>
                <a:lnTo>
                  <a:pt x="749" y="465"/>
                </a:lnTo>
                <a:lnTo>
                  <a:pt x="764" y="463"/>
                </a:lnTo>
                <a:lnTo>
                  <a:pt x="780" y="461"/>
                </a:lnTo>
                <a:lnTo>
                  <a:pt x="793" y="457"/>
                </a:lnTo>
                <a:lnTo>
                  <a:pt x="806" y="455"/>
                </a:lnTo>
                <a:lnTo>
                  <a:pt x="820" y="453"/>
                </a:lnTo>
                <a:lnTo>
                  <a:pt x="833" y="451"/>
                </a:lnTo>
                <a:lnTo>
                  <a:pt x="845" y="450"/>
                </a:lnTo>
                <a:lnTo>
                  <a:pt x="856" y="448"/>
                </a:lnTo>
                <a:lnTo>
                  <a:pt x="868" y="446"/>
                </a:lnTo>
                <a:lnTo>
                  <a:pt x="877" y="444"/>
                </a:lnTo>
                <a:lnTo>
                  <a:pt x="889" y="444"/>
                </a:lnTo>
                <a:lnTo>
                  <a:pt x="899" y="442"/>
                </a:lnTo>
                <a:lnTo>
                  <a:pt x="906" y="440"/>
                </a:lnTo>
                <a:lnTo>
                  <a:pt x="916" y="440"/>
                </a:lnTo>
                <a:lnTo>
                  <a:pt x="923" y="438"/>
                </a:lnTo>
                <a:lnTo>
                  <a:pt x="931" y="438"/>
                </a:lnTo>
                <a:lnTo>
                  <a:pt x="937" y="438"/>
                </a:lnTo>
                <a:lnTo>
                  <a:pt x="945" y="436"/>
                </a:lnTo>
                <a:lnTo>
                  <a:pt x="950" y="436"/>
                </a:lnTo>
                <a:lnTo>
                  <a:pt x="954" y="436"/>
                </a:lnTo>
                <a:lnTo>
                  <a:pt x="960" y="436"/>
                </a:lnTo>
                <a:lnTo>
                  <a:pt x="973" y="436"/>
                </a:lnTo>
                <a:lnTo>
                  <a:pt x="987" y="438"/>
                </a:lnTo>
                <a:lnTo>
                  <a:pt x="1002" y="440"/>
                </a:lnTo>
                <a:lnTo>
                  <a:pt x="1016" y="444"/>
                </a:lnTo>
                <a:lnTo>
                  <a:pt x="1029" y="448"/>
                </a:lnTo>
                <a:lnTo>
                  <a:pt x="1042" y="451"/>
                </a:lnTo>
                <a:lnTo>
                  <a:pt x="1071" y="461"/>
                </a:lnTo>
                <a:lnTo>
                  <a:pt x="1077" y="467"/>
                </a:lnTo>
                <a:lnTo>
                  <a:pt x="1083" y="471"/>
                </a:lnTo>
                <a:lnTo>
                  <a:pt x="1089" y="476"/>
                </a:lnTo>
                <a:lnTo>
                  <a:pt x="1094" y="480"/>
                </a:lnTo>
                <a:lnTo>
                  <a:pt x="1098" y="486"/>
                </a:lnTo>
                <a:lnTo>
                  <a:pt x="1102" y="490"/>
                </a:lnTo>
                <a:lnTo>
                  <a:pt x="1110" y="499"/>
                </a:lnTo>
                <a:lnTo>
                  <a:pt x="1113" y="509"/>
                </a:lnTo>
                <a:lnTo>
                  <a:pt x="1117" y="519"/>
                </a:lnTo>
                <a:lnTo>
                  <a:pt x="1119" y="528"/>
                </a:lnTo>
                <a:lnTo>
                  <a:pt x="1119" y="540"/>
                </a:lnTo>
                <a:lnTo>
                  <a:pt x="1119" y="544"/>
                </a:lnTo>
                <a:lnTo>
                  <a:pt x="1117" y="547"/>
                </a:lnTo>
                <a:lnTo>
                  <a:pt x="1113" y="551"/>
                </a:lnTo>
                <a:lnTo>
                  <a:pt x="1108" y="555"/>
                </a:lnTo>
                <a:lnTo>
                  <a:pt x="1102" y="559"/>
                </a:lnTo>
                <a:lnTo>
                  <a:pt x="1094" y="563"/>
                </a:lnTo>
                <a:lnTo>
                  <a:pt x="1085" y="565"/>
                </a:lnTo>
                <a:lnTo>
                  <a:pt x="1073" y="567"/>
                </a:lnTo>
                <a:lnTo>
                  <a:pt x="1062" y="570"/>
                </a:lnTo>
                <a:lnTo>
                  <a:pt x="1048" y="572"/>
                </a:lnTo>
                <a:lnTo>
                  <a:pt x="1033" y="574"/>
                </a:lnTo>
                <a:lnTo>
                  <a:pt x="1016" y="574"/>
                </a:lnTo>
                <a:lnTo>
                  <a:pt x="998" y="576"/>
                </a:lnTo>
                <a:lnTo>
                  <a:pt x="979" y="576"/>
                </a:lnTo>
                <a:lnTo>
                  <a:pt x="958" y="576"/>
                </a:lnTo>
                <a:lnTo>
                  <a:pt x="935" y="578"/>
                </a:lnTo>
                <a:lnTo>
                  <a:pt x="889" y="578"/>
                </a:lnTo>
                <a:lnTo>
                  <a:pt x="841" y="580"/>
                </a:lnTo>
                <a:lnTo>
                  <a:pt x="791" y="582"/>
                </a:lnTo>
                <a:lnTo>
                  <a:pt x="741" y="586"/>
                </a:lnTo>
                <a:lnTo>
                  <a:pt x="689" y="592"/>
                </a:lnTo>
                <a:lnTo>
                  <a:pt x="637" y="599"/>
                </a:lnTo>
                <a:lnTo>
                  <a:pt x="584" y="607"/>
                </a:lnTo>
                <a:lnTo>
                  <a:pt x="530" y="617"/>
                </a:lnTo>
                <a:lnTo>
                  <a:pt x="503" y="622"/>
                </a:lnTo>
                <a:lnTo>
                  <a:pt x="476" y="630"/>
                </a:lnTo>
                <a:lnTo>
                  <a:pt x="451" y="636"/>
                </a:lnTo>
                <a:lnTo>
                  <a:pt x="428" y="643"/>
                </a:lnTo>
                <a:lnTo>
                  <a:pt x="405" y="649"/>
                </a:lnTo>
                <a:lnTo>
                  <a:pt x="384" y="655"/>
                </a:lnTo>
                <a:lnTo>
                  <a:pt x="363" y="661"/>
                </a:lnTo>
                <a:lnTo>
                  <a:pt x="344" y="666"/>
                </a:lnTo>
                <a:lnTo>
                  <a:pt x="325" y="672"/>
                </a:lnTo>
                <a:lnTo>
                  <a:pt x="307" y="680"/>
                </a:lnTo>
                <a:lnTo>
                  <a:pt x="290" y="686"/>
                </a:lnTo>
                <a:lnTo>
                  <a:pt x="275" y="691"/>
                </a:lnTo>
                <a:lnTo>
                  <a:pt x="261" y="697"/>
                </a:lnTo>
                <a:lnTo>
                  <a:pt x="246" y="705"/>
                </a:lnTo>
                <a:lnTo>
                  <a:pt x="234" y="711"/>
                </a:lnTo>
                <a:lnTo>
                  <a:pt x="223" y="718"/>
                </a:lnTo>
                <a:lnTo>
                  <a:pt x="211" y="726"/>
                </a:lnTo>
                <a:lnTo>
                  <a:pt x="200" y="732"/>
                </a:lnTo>
                <a:lnTo>
                  <a:pt x="192" y="739"/>
                </a:lnTo>
                <a:lnTo>
                  <a:pt x="183" y="745"/>
                </a:lnTo>
                <a:lnTo>
                  <a:pt x="175" y="751"/>
                </a:lnTo>
                <a:lnTo>
                  <a:pt x="167" y="757"/>
                </a:lnTo>
                <a:lnTo>
                  <a:pt x="161" y="761"/>
                </a:lnTo>
                <a:lnTo>
                  <a:pt x="154" y="764"/>
                </a:lnTo>
                <a:lnTo>
                  <a:pt x="150" y="770"/>
                </a:lnTo>
                <a:lnTo>
                  <a:pt x="144" y="772"/>
                </a:lnTo>
                <a:lnTo>
                  <a:pt x="140" y="776"/>
                </a:lnTo>
                <a:lnTo>
                  <a:pt x="137" y="778"/>
                </a:lnTo>
                <a:lnTo>
                  <a:pt x="133" y="780"/>
                </a:lnTo>
                <a:lnTo>
                  <a:pt x="129" y="782"/>
                </a:lnTo>
                <a:lnTo>
                  <a:pt x="127" y="782"/>
                </a:lnTo>
                <a:lnTo>
                  <a:pt x="123" y="784"/>
                </a:lnTo>
                <a:lnTo>
                  <a:pt x="121" y="785"/>
                </a:lnTo>
                <a:lnTo>
                  <a:pt x="119" y="785"/>
                </a:lnTo>
                <a:lnTo>
                  <a:pt x="115" y="787"/>
                </a:lnTo>
                <a:lnTo>
                  <a:pt x="112" y="787"/>
                </a:lnTo>
                <a:lnTo>
                  <a:pt x="108" y="787"/>
                </a:lnTo>
                <a:lnTo>
                  <a:pt x="104" y="785"/>
                </a:lnTo>
                <a:lnTo>
                  <a:pt x="100" y="785"/>
                </a:lnTo>
                <a:lnTo>
                  <a:pt x="96" y="784"/>
                </a:lnTo>
                <a:lnTo>
                  <a:pt x="90" y="780"/>
                </a:lnTo>
                <a:lnTo>
                  <a:pt x="87" y="778"/>
                </a:lnTo>
                <a:lnTo>
                  <a:pt x="81" y="772"/>
                </a:lnTo>
                <a:lnTo>
                  <a:pt x="75" y="768"/>
                </a:lnTo>
                <a:lnTo>
                  <a:pt x="69" y="762"/>
                </a:lnTo>
                <a:lnTo>
                  <a:pt x="64" y="757"/>
                </a:lnTo>
                <a:lnTo>
                  <a:pt x="58" y="751"/>
                </a:lnTo>
                <a:lnTo>
                  <a:pt x="50" y="745"/>
                </a:lnTo>
                <a:lnTo>
                  <a:pt x="44" y="737"/>
                </a:lnTo>
                <a:lnTo>
                  <a:pt x="37" y="730"/>
                </a:lnTo>
                <a:lnTo>
                  <a:pt x="33" y="724"/>
                </a:lnTo>
                <a:lnTo>
                  <a:pt x="27" y="718"/>
                </a:lnTo>
                <a:lnTo>
                  <a:pt x="23" y="711"/>
                </a:lnTo>
                <a:lnTo>
                  <a:pt x="19" y="705"/>
                </a:lnTo>
                <a:lnTo>
                  <a:pt x="12" y="695"/>
                </a:lnTo>
                <a:lnTo>
                  <a:pt x="6" y="684"/>
                </a:lnTo>
                <a:lnTo>
                  <a:pt x="4" y="674"/>
                </a:lnTo>
                <a:lnTo>
                  <a:pt x="2" y="665"/>
                </a:lnTo>
                <a:lnTo>
                  <a:pt x="0" y="655"/>
                </a:lnTo>
                <a:lnTo>
                  <a:pt x="2" y="649"/>
                </a:lnTo>
                <a:lnTo>
                  <a:pt x="4" y="643"/>
                </a:lnTo>
                <a:lnTo>
                  <a:pt x="6" y="636"/>
                </a:lnTo>
                <a:lnTo>
                  <a:pt x="12" y="628"/>
                </a:lnTo>
                <a:lnTo>
                  <a:pt x="18" y="618"/>
                </a:lnTo>
                <a:lnTo>
                  <a:pt x="23" y="615"/>
                </a:lnTo>
                <a:lnTo>
                  <a:pt x="27" y="609"/>
                </a:lnTo>
                <a:lnTo>
                  <a:pt x="31" y="605"/>
                </a:lnTo>
                <a:lnTo>
                  <a:pt x="37" y="599"/>
                </a:lnTo>
                <a:lnTo>
                  <a:pt x="44" y="595"/>
                </a:lnTo>
                <a:lnTo>
                  <a:pt x="50" y="590"/>
                </a:lnTo>
                <a:lnTo>
                  <a:pt x="54" y="584"/>
                </a:lnTo>
                <a:lnTo>
                  <a:pt x="58" y="578"/>
                </a:lnTo>
                <a:lnTo>
                  <a:pt x="62" y="569"/>
                </a:lnTo>
                <a:lnTo>
                  <a:pt x="65" y="559"/>
                </a:lnTo>
                <a:lnTo>
                  <a:pt x="69" y="547"/>
                </a:lnTo>
                <a:lnTo>
                  <a:pt x="73" y="534"/>
                </a:lnTo>
                <a:lnTo>
                  <a:pt x="77" y="521"/>
                </a:lnTo>
                <a:lnTo>
                  <a:pt x="79" y="505"/>
                </a:lnTo>
                <a:lnTo>
                  <a:pt x="83" y="488"/>
                </a:lnTo>
                <a:lnTo>
                  <a:pt x="85" y="471"/>
                </a:lnTo>
                <a:lnTo>
                  <a:pt x="87" y="450"/>
                </a:lnTo>
                <a:lnTo>
                  <a:pt x="90" y="430"/>
                </a:lnTo>
                <a:lnTo>
                  <a:pt x="92" y="407"/>
                </a:lnTo>
                <a:lnTo>
                  <a:pt x="94" y="384"/>
                </a:lnTo>
                <a:lnTo>
                  <a:pt x="96" y="359"/>
                </a:lnTo>
                <a:lnTo>
                  <a:pt x="100" y="334"/>
                </a:lnTo>
                <a:lnTo>
                  <a:pt x="98" y="308"/>
                </a:lnTo>
                <a:lnTo>
                  <a:pt x="98" y="283"/>
                </a:lnTo>
                <a:lnTo>
                  <a:pt x="98" y="260"/>
                </a:lnTo>
                <a:lnTo>
                  <a:pt x="96" y="236"/>
                </a:lnTo>
                <a:lnTo>
                  <a:pt x="96" y="215"/>
                </a:lnTo>
                <a:lnTo>
                  <a:pt x="94" y="196"/>
                </a:lnTo>
                <a:lnTo>
                  <a:pt x="92" y="179"/>
                </a:lnTo>
                <a:lnTo>
                  <a:pt x="90" y="162"/>
                </a:lnTo>
                <a:lnTo>
                  <a:pt x="87" y="146"/>
                </a:lnTo>
                <a:lnTo>
                  <a:pt x="85" y="131"/>
                </a:lnTo>
                <a:lnTo>
                  <a:pt x="81" y="119"/>
                </a:lnTo>
                <a:lnTo>
                  <a:pt x="79" y="108"/>
                </a:lnTo>
                <a:lnTo>
                  <a:pt x="75" y="98"/>
                </a:lnTo>
                <a:lnTo>
                  <a:pt x="71" y="89"/>
                </a:lnTo>
                <a:lnTo>
                  <a:pt x="67" y="81"/>
                </a:lnTo>
                <a:lnTo>
                  <a:pt x="62" y="77"/>
                </a:lnTo>
                <a:lnTo>
                  <a:pt x="58" y="73"/>
                </a:lnTo>
                <a:lnTo>
                  <a:pt x="54" y="71"/>
                </a:lnTo>
                <a:lnTo>
                  <a:pt x="50" y="68"/>
                </a:lnTo>
                <a:lnTo>
                  <a:pt x="48" y="64"/>
                </a:lnTo>
                <a:lnTo>
                  <a:pt x="46" y="62"/>
                </a:lnTo>
                <a:lnTo>
                  <a:pt x="44" y="58"/>
                </a:lnTo>
                <a:lnTo>
                  <a:pt x="42" y="50"/>
                </a:lnTo>
                <a:lnTo>
                  <a:pt x="42" y="43"/>
                </a:lnTo>
                <a:lnTo>
                  <a:pt x="42" y="37"/>
                </a:lnTo>
                <a:lnTo>
                  <a:pt x="46" y="31"/>
                </a:lnTo>
                <a:lnTo>
                  <a:pt x="50" y="25"/>
                </a:lnTo>
                <a:lnTo>
                  <a:pt x="60" y="16"/>
                </a:lnTo>
                <a:lnTo>
                  <a:pt x="64" y="12"/>
                </a:lnTo>
                <a:lnTo>
                  <a:pt x="69" y="8"/>
                </a:lnTo>
                <a:lnTo>
                  <a:pt x="75" y="4"/>
                </a:lnTo>
                <a:lnTo>
                  <a:pt x="83" y="2"/>
                </a:lnTo>
                <a:lnTo>
                  <a:pt x="90" y="0"/>
                </a:lnTo>
                <a:lnTo>
                  <a:pt x="100" y="0"/>
                </a:lnTo>
                <a:lnTo>
                  <a:pt x="117" y="0"/>
                </a:lnTo>
                <a:lnTo>
                  <a:pt x="127" y="0"/>
                </a:lnTo>
                <a:lnTo>
                  <a:pt x="138" y="0"/>
                </a:lnTo>
                <a:lnTo>
                  <a:pt x="148" y="2"/>
                </a:lnTo>
                <a:lnTo>
                  <a:pt x="160" y="4"/>
                </a:lnTo>
                <a:lnTo>
                  <a:pt x="173" y="8"/>
                </a:lnTo>
                <a:lnTo>
                  <a:pt x="186" y="12"/>
                </a:lnTo>
                <a:lnTo>
                  <a:pt x="192" y="16"/>
                </a:lnTo>
                <a:lnTo>
                  <a:pt x="198" y="18"/>
                </a:lnTo>
                <a:lnTo>
                  <a:pt x="204" y="22"/>
                </a:lnTo>
                <a:lnTo>
                  <a:pt x="209" y="27"/>
                </a:lnTo>
                <a:lnTo>
                  <a:pt x="217" y="37"/>
                </a:lnTo>
                <a:lnTo>
                  <a:pt x="225" y="48"/>
                </a:lnTo>
                <a:lnTo>
                  <a:pt x="232" y="60"/>
                </a:lnTo>
                <a:lnTo>
                  <a:pt x="236" y="73"/>
                </a:lnTo>
                <a:lnTo>
                  <a:pt x="242" y="87"/>
                </a:lnTo>
                <a:lnTo>
                  <a:pt x="248" y="102"/>
                </a:lnTo>
                <a:lnTo>
                  <a:pt x="246" y="110"/>
                </a:lnTo>
                <a:lnTo>
                  <a:pt x="246" y="119"/>
                </a:lnTo>
                <a:lnTo>
                  <a:pt x="246" y="129"/>
                </a:lnTo>
                <a:lnTo>
                  <a:pt x="244" y="141"/>
                </a:lnTo>
                <a:lnTo>
                  <a:pt x="242" y="152"/>
                </a:lnTo>
                <a:lnTo>
                  <a:pt x="240" y="165"/>
                </a:lnTo>
                <a:lnTo>
                  <a:pt x="238" y="181"/>
                </a:lnTo>
                <a:lnTo>
                  <a:pt x="236" y="196"/>
                </a:lnTo>
                <a:lnTo>
                  <a:pt x="232" y="213"/>
                </a:lnTo>
                <a:lnTo>
                  <a:pt x="229" y="231"/>
                </a:lnTo>
                <a:lnTo>
                  <a:pt x="225" y="250"/>
                </a:lnTo>
                <a:lnTo>
                  <a:pt x="221" y="269"/>
                </a:lnTo>
                <a:lnTo>
                  <a:pt x="215" y="290"/>
                </a:lnTo>
                <a:lnTo>
                  <a:pt x="209" y="313"/>
                </a:lnTo>
                <a:lnTo>
                  <a:pt x="204" y="334"/>
                </a:lnTo>
                <a:lnTo>
                  <a:pt x="198" y="3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53"/>
          <p:cNvSpPr/>
          <p:nvPr/>
        </p:nvSpPr>
        <p:spPr>
          <a:xfrm>
            <a:off x="6637320" y="3808440"/>
            <a:ext cx="450720" cy="519120"/>
          </a:xfrm>
          <a:custGeom>
            <a:avLst/>
            <a:gdLst/>
            <a:ahLst/>
            <a:rect l="l" t="t" r="r" b="b"/>
            <a:pathLst>
              <a:path w="569" h="652">
                <a:moveTo>
                  <a:pt x="321" y="199"/>
                </a:moveTo>
                <a:lnTo>
                  <a:pt x="329" y="188"/>
                </a:lnTo>
                <a:lnTo>
                  <a:pt x="334" y="176"/>
                </a:lnTo>
                <a:lnTo>
                  <a:pt x="340" y="165"/>
                </a:lnTo>
                <a:lnTo>
                  <a:pt x="344" y="153"/>
                </a:lnTo>
                <a:lnTo>
                  <a:pt x="348" y="143"/>
                </a:lnTo>
                <a:lnTo>
                  <a:pt x="352" y="134"/>
                </a:lnTo>
                <a:lnTo>
                  <a:pt x="355" y="122"/>
                </a:lnTo>
                <a:lnTo>
                  <a:pt x="357" y="115"/>
                </a:lnTo>
                <a:lnTo>
                  <a:pt x="359" y="105"/>
                </a:lnTo>
                <a:lnTo>
                  <a:pt x="361" y="97"/>
                </a:lnTo>
                <a:lnTo>
                  <a:pt x="363" y="90"/>
                </a:lnTo>
                <a:lnTo>
                  <a:pt x="363" y="82"/>
                </a:lnTo>
                <a:lnTo>
                  <a:pt x="363" y="74"/>
                </a:lnTo>
                <a:lnTo>
                  <a:pt x="361" y="69"/>
                </a:lnTo>
                <a:lnTo>
                  <a:pt x="361" y="63"/>
                </a:lnTo>
                <a:lnTo>
                  <a:pt x="359" y="59"/>
                </a:lnTo>
                <a:lnTo>
                  <a:pt x="354" y="53"/>
                </a:lnTo>
                <a:lnTo>
                  <a:pt x="352" y="46"/>
                </a:lnTo>
                <a:lnTo>
                  <a:pt x="350" y="40"/>
                </a:lnTo>
                <a:lnTo>
                  <a:pt x="350" y="32"/>
                </a:lnTo>
                <a:lnTo>
                  <a:pt x="350" y="24"/>
                </a:lnTo>
                <a:lnTo>
                  <a:pt x="352" y="19"/>
                </a:lnTo>
                <a:lnTo>
                  <a:pt x="354" y="13"/>
                </a:lnTo>
                <a:lnTo>
                  <a:pt x="359" y="7"/>
                </a:lnTo>
                <a:lnTo>
                  <a:pt x="361" y="5"/>
                </a:lnTo>
                <a:lnTo>
                  <a:pt x="363" y="3"/>
                </a:lnTo>
                <a:lnTo>
                  <a:pt x="367" y="1"/>
                </a:lnTo>
                <a:lnTo>
                  <a:pt x="373" y="0"/>
                </a:lnTo>
                <a:lnTo>
                  <a:pt x="377" y="0"/>
                </a:lnTo>
                <a:lnTo>
                  <a:pt x="382" y="0"/>
                </a:lnTo>
                <a:lnTo>
                  <a:pt x="390" y="0"/>
                </a:lnTo>
                <a:lnTo>
                  <a:pt x="398" y="0"/>
                </a:lnTo>
                <a:lnTo>
                  <a:pt x="405" y="1"/>
                </a:lnTo>
                <a:lnTo>
                  <a:pt x="413" y="3"/>
                </a:lnTo>
                <a:lnTo>
                  <a:pt x="423" y="7"/>
                </a:lnTo>
                <a:lnTo>
                  <a:pt x="432" y="9"/>
                </a:lnTo>
                <a:lnTo>
                  <a:pt x="444" y="15"/>
                </a:lnTo>
                <a:lnTo>
                  <a:pt x="455" y="19"/>
                </a:lnTo>
                <a:lnTo>
                  <a:pt x="469" y="24"/>
                </a:lnTo>
                <a:lnTo>
                  <a:pt x="482" y="32"/>
                </a:lnTo>
                <a:lnTo>
                  <a:pt x="492" y="40"/>
                </a:lnTo>
                <a:lnTo>
                  <a:pt x="503" y="48"/>
                </a:lnTo>
                <a:lnTo>
                  <a:pt x="513" y="53"/>
                </a:lnTo>
                <a:lnTo>
                  <a:pt x="522" y="61"/>
                </a:lnTo>
                <a:lnTo>
                  <a:pt x="530" y="69"/>
                </a:lnTo>
                <a:lnTo>
                  <a:pt x="538" y="74"/>
                </a:lnTo>
                <a:lnTo>
                  <a:pt x="546" y="82"/>
                </a:lnTo>
                <a:lnTo>
                  <a:pt x="551" y="88"/>
                </a:lnTo>
                <a:lnTo>
                  <a:pt x="557" y="95"/>
                </a:lnTo>
                <a:lnTo>
                  <a:pt x="561" y="101"/>
                </a:lnTo>
                <a:lnTo>
                  <a:pt x="565" y="107"/>
                </a:lnTo>
                <a:lnTo>
                  <a:pt x="567" y="113"/>
                </a:lnTo>
                <a:lnTo>
                  <a:pt x="569" y="119"/>
                </a:lnTo>
                <a:lnTo>
                  <a:pt x="569" y="124"/>
                </a:lnTo>
                <a:lnTo>
                  <a:pt x="569" y="130"/>
                </a:lnTo>
                <a:lnTo>
                  <a:pt x="567" y="136"/>
                </a:lnTo>
                <a:lnTo>
                  <a:pt x="565" y="142"/>
                </a:lnTo>
                <a:lnTo>
                  <a:pt x="561" y="149"/>
                </a:lnTo>
                <a:lnTo>
                  <a:pt x="557" y="159"/>
                </a:lnTo>
                <a:lnTo>
                  <a:pt x="551" y="167"/>
                </a:lnTo>
                <a:lnTo>
                  <a:pt x="546" y="176"/>
                </a:lnTo>
                <a:lnTo>
                  <a:pt x="540" y="184"/>
                </a:lnTo>
                <a:lnTo>
                  <a:pt x="532" y="193"/>
                </a:lnTo>
                <a:lnTo>
                  <a:pt x="524" y="203"/>
                </a:lnTo>
                <a:lnTo>
                  <a:pt x="515" y="214"/>
                </a:lnTo>
                <a:lnTo>
                  <a:pt x="507" y="226"/>
                </a:lnTo>
                <a:lnTo>
                  <a:pt x="498" y="236"/>
                </a:lnTo>
                <a:lnTo>
                  <a:pt x="488" y="249"/>
                </a:lnTo>
                <a:lnTo>
                  <a:pt x="476" y="261"/>
                </a:lnTo>
                <a:lnTo>
                  <a:pt x="467" y="274"/>
                </a:lnTo>
                <a:lnTo>
                  <a:pt x="455" y="287"/>
                </a:lnTo>
                <a:lnTo>
                  <a:pt x="444" y="303"/>
                </a:lnTo>
                <a:lnTo>
                  <a:pt x="417" y="335"/>
                </a:lnTo>
                <a:lnTo>
                  <a:pt x="386" y="368"/>
                </a:lnTo>
                <a:lnTo>
                  <a:pt x="355" y="399"/>
                </a:lnTo>
                <a:lnTo>
                  <a:pt x="323" y="429"/>
                </a:lnTo>
                <a:lnTo>
                  <a:pt x="288" y="458"/>
                </a:lnTo>
                <a:lnTo>
                  <a:pt x="252" y="487"/>
                </a:lnTo>
                <a:lnTo>
                  <a:pt x="233" y="502"/>
                </a:lnTo>
                <a:lnTo>
                  <a:pt x="213" y="518"/>
                </a:lnTo>
                <a:lnTo>
                  <a:pt x="194" y="531"/>
                </a:lnTo>
                <a:lnTo>
                  <a:pt x="173" y="547"/>
                </a:lnTo>
                <a:lnTo>
                  <a:pt x="154" y="560"/>
                </a:lnTo>
                <a:lnTo>
                  <a:pt x="135" y="573"/>
                </a:lnTo>
                <a:lnTo>
                  <a:pt x="117" y="585"/>
                </a:lnTo>
                <a:lnTo>
                  <a:pt x="102" y="596"/>
                </a:lnTo>
                <a:lnTo>
                  <a:pt x="87" y="606"/>
                </a:lnTo>
                <a:lnTo>
                  <a:pt x="73" y="616"/>
                </a:lnTo>
                <a:lnTo>
                  <a:pt x="62" y="625"/>
                </a:lnTo>
                <a:lnTo>
                  <a:pt x="50" y="631"/>
                </a:lnTo>
                <a:lnTo>
                  <a:pt x="41" y="637"/>
                </a:lnTo>
                <a:lnTo>
                  <a:pt x="33" y="643"/>
                </a:lnTo>
                <a:lnTo>
                  <a:pt x="25" y="646"/>
                </a:lnTo>
                <a:lnTo>
                  <a:pt x="18" y="648"/>
                </a:lnTo>
                <a:lnTo>
                  <a:pt x="12" y="650"/>
                </a:lnTo>
                <a:lnTo>
                  <a:pt x="8" y="652"/>
                </a:lnTo>
                <a:lnTo>
                  <a:pt x="4" y="650"/>
                </a:lnTo>
                <a:lnTo>
                  <a:pt x="2" y="648"/>
                </a:lnTo>
                <a:lnTo>
                  <a:pt x="0" y="646"/>
                </a:lnTo>
                <a:lnTo>
                  <a:pt x="0" y="643"/>
                </a:lnTo>
                <a:lnTo>
                  <a:pt x="2" y="637"/>
                </a:lnTo>
                <a:lnTo>
                  <a:pt x="4" y="631"/>
                </a:lnTo>
                <a:lnTo>
                  <a:pt x="8" y="625"/>
                </a:lnTo>
                <a:lnTo>
                  <a:pt x="14" y="618"/>
                </a:lnTo>
                <a:lnTo>
                  <a:pt x="20" y="608"/>
                </a:lnTo>
                <a:lnTo>
                  <a:pt x="29" y="598"/>
                </a:lnTo>
                <a:lnTo>
                  <a:pt x="37" y="587"/>
                </a:lnTo>
                <a:lnTo>
                  <a:pt x="48" y="573"/>
                </a:lnTo>
                <a:lnTo>
                  <a:pt x="60" y="560"/>
                </a:lnTo>
                <a:lnTo>
                  <a:pt x="73" y="545"/>
                </a:lnTo>
                <a:lnTo>
                  <a:pt x="87" y="527"/>
                </a:lnTo>
                <a:lnTo>
                  <a:pt x="102" y="510"/>
                </a:lnTo>
                <a:lnTo>
                  <a:pt x="119" y="491"/>
                </a:lnTo>
                <a:lnTo>
                  <a:pt x="137" y="470"/>
                </a:lnTo>
                <a:lnTo>
                  <a:pt x="154" y="447"/>
                </a:lnTo>
                <a:lnTo>
                  <a:pt x="171" y="426"/>
                </a:lnTo>
                <a:lnTo>
                  <a:pt x="188" y="406"/>
                </a:lnTo>
                <a:lnTo>
                  <a:pt x="204" y="387"/>
                </a:lnTo>
                <a:lnTo>
                  <a:pt x="217" y="368"/>
                </a:lnTo>
                <a:lnTo>
                  <a:pt x="231" y="349"/>
                </a:lnTo>
                <a:lnTo>
                  <a:pt x="244" y="332"/>
                </a:lnTo>
                <a:lnTo>
                  <a:pt x="256" y="314"/>
                </a:lnTo>
                <a:lnTo>
                  <a:pt x="267" y="297"/>
                </a:lnTo>
                <a:lnTo>
                  <a:pt x="279" y="282"/>
                </a:lnTo>
                <a:lnTo>
                  <a:pt x="288" y="266"/>
                </a:lnTo>
                <a:lnTo>
                  <a:pt x="296" y="253"/>
                </a:lnTo>
                <a:lnTo>
                  <a:pt x="304" y="238"/>
                </a:lnTo>
                <a:lnTo>
                  <a:pt x="311" y="224"/>
                </a:lnTo>
                <a:lnTo>
                  <a:pt x="317" y="211"/>
                </a:lnTo>
                <a:lnTo>
                  <a:pt x="321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54"/>
          <p:cNvSpPr/>
          <p:nvPr/>
        </p:nvSpPr>
        <p:spPr>
          <a:xfrm>
            <a:off x="6959520" y="4019400"/>
            <a:ext cx="384120" cy="257400"/>
          </a:xfrm>
          <a:custGeom>
            <a:avLst/>
            <a:gdLst/>
            <a:ahLst/>
            <a:rect l="l" t="t" r="r" b="b"/>
            <a:pathLst>
              <a:path w="484" h="325">
                <a:moveTo>
                  <a:pt x="0" y="25"/>
                </a:moveTo>
                <a:lnTo>
                  <a:pt x="0" y="23"/>
                </a:lnTo>
                <a:lnTo>
                  <a:pt x="2" y="20"/>
                </a:lnTo>
                <a:lnTo>
                  <a:pt x="2" y="18"/>
                </a:lnTo>
                <a:lnTo>
                  <a:pt x="4" y="16"/>
                </a:lnTo>
                <a:lnTo>
                  <a:pt x="8" y="14"/>
                </a:lnTo>
                <a:lnTo>
                  <a:pt x="10" y="12"/>
                </a:lnTo>
                <a:lnTo>
                  <a:pt x="14" y="10"/>
                </a:lnTo>
                <a:lnTo>
                  <a:pt x="19" y="8"/>
                </a:lnTo>
                <a:lnTo>
                  <a:pt x="23" y="6"/>
                </a:lnTo>
                <a:lnTo>
                  <a:pt x="29" y="4"/>
                </a:lnTo>
                <a:lnTo>
                  <a:pt x="35" y="2"/>
                </a:lnTo>
                <a:lnTo>
                  <a:pt x="43" y="2"/>
                </a:lnTo>
                <a:lnTo>
                  <a:pt x="48" y="0"/>
                </a:lnTo>
                <a:lnTo>
                  <a:pt x="56" y="0"/>
                </a:lnTo>
                <a:lnTo>
                  <a:pt x="66" y="0"/>
                </a:lnTo>
                <a:lnTo>
                  <a:pt x="75" y="0"/>
                </a:lnTo>
                <a:lnTo>
                  <a:pt x="81" y="0"/>
                </a:lnTo>
                <a:lnTo>
                  <a:pt x="91" y="0"/>
                </a:lnTo>
                <a:lnTo>
                  <a:pt x="98" y="0"/>
                </a:lnTo>
                <a:lnTo>
                  <a:pt x="108" y="2"/>
                </a:lnTo>
                <a:lnTo>
                  <a:pt x="119" y="4"/>
                </a:lnTo>
                <a:lnTo>
                  <a:pt x="131" y="6"/>
                </a:lnTo>
                <a:lnTo>
                  <a:pt x="142" y="8"/>
                </a:lnTo>
                <a:lnTo>
                  <a:pt x="156" y="10"/>
                </a:lnTo>
                <a:lnTo>
                  <a:pt x="169" y="14"/>
                </a:lnTo>
                <a:lnTo>
                  <a:pt x="185" y="18"/>
                </a:lnTo>
                <a:lnTo>
                  <a:pt x="198" y="22"/>
                </a:lnTo>
                <a:lnTo>
                  <a:pt x="213" y="25"/>
                </a:lnTo>
                <a:lnTo>
                  <a:pt x="231" y="31"/>
                </a:lnTo>
                <a:lnTo>
                  <a:pt x="248" y="37"/>
                </a:lnTo>
                <a:lnTo>
                  <a:pt x="265" y="45"/>
                </a:lnTo>
                <a:lnTo>
                  <a:pt x="282" y="50"/>
                </a:lnTo>
                <a:lnTo>
                  <a:pt x="302" y="58"/>
                </a:lnTo>
                <a:lnTo>
                  <a:pt x="319" y="66"/>
                </a:lnTo>
                <a:lnTo>
                  <a:pt x="334" y="73"/>
                </a:lnTo>
                <a:lnTo>
                  <a:pt x="350" y="83"/>
                </a:lnTo>
                <a:lnTo>
                  <a:pt x="365" y="91"/>
                </a:lnTo>
                <a:lnTo>
                  <a:pt x="378" y="100"/>
                </a:lnTo>
                <a:lnTo>
                  <a:pt x="392" y="110"/>
                </a:lnTo>
                <a:lnTo>
                  <a:pt x="403" y="119"/>
                </a:lnTo>
                <a:lnTo>
                  <a:pt x="415" y="129"/>
                </a:lnTo>
                <a:lnTo>
                  <a:pt x="424" y="139"/>
                </a:lnTo>
                <a:lnTo>
                  <a:pt x="434" y="148"/>
                </a:lnTo>
                <a:lnTo>
                  <a:pt x="442" y="160"/>
                </a:lnTo>
                <a:lnTo>
                  <a:pt x="449" y="169"/>
                </a:lnTo>
                <a:lnTo>
                  <a:pt x="457" y="181"/>
                </a:lnTo>
                <a:lnTo>
                  <a:pt x="463" y="192"/>
                </a:lnTo>
                <a:lnTo>
                  <a:pt x="469" y="206"/>
                </a:lnTo>
                <a:lnTo>
                  <a:pt x="471" y="217"/>
                </a:lnTo>
                <a:lnTo>
                  <a:pt x="472" y="227"/>
                </a:lnTo>
                <a:lnTo>
                  <a:pt x="474" y="238"/>
                </a:lnTo>
                <a:lnTo>
                  <a:pt x="476" y="248"/>
                </a:lnTo>
                <a:lnTo>
                  <a:pt x="478" y="258"/>
                </a:lnTo>
                <a:lnTo>
                  <a:pt x="480" y="267"/>
                </a:lnTo>
                <a:lnTo>
                  <a:pt x="482" y="275"/>
                </a:lnTo>
                <a:lnTo>
                  <a:pt x="482" y="283"/>
                </a:lnTo>
                <a:lnTo>
                  <a:pt x="484" y="288"/>
                </a:lnTo>
                <a:lnTo>
                  <a:pt x="484" y="296"/>
                </a:lnTo>
                <a:lnTo>
                  <a:pt x="484" y="302"/>
                </a:lnTo>
                <a:lnTo>
                  <a:pt x="484" y="306"/>
                </a:lnTo>
                <a:lnTo>
                  <a:pt x="484" y="311"/>
                </a:lnTo>
                <a:lnTo>
                  <a:pt x="484" y="315"/>
                </a:lnTo>
                <a:lnTo>
                  <a:pt x="482" y="317"/>
                </a:lnTo>
                <a:lnTo>
                  <a:pt x="480" y="321"/>
                </a:lnTo>
                <a:lnTo>
                  <a:pt x="476" y="323"/>
                </a:lnTo>
                <a:lnTo>
                  <a:pt x="472" y="325"/>
                </a:lnTo>
                <a:lnTo>
                  <a:pt x="469" y="325"/>
                </a:lnTo>
                <a:lnTo>
                  <a:pt x="461" y="325"/>
                </a:lnTo>
                <a:lnTo>
                  <a:pt x="455" y="325"/>
                </a:lnTo>
                <a:lnTo>
                  <a:pt x="446" y="323"/>
                </a:lnTo>
                <a:lnTo>
                  <a:pt x="438" y="321"/>
                </a:lnTo>
                <a:lnTo>
                  <a:pt x="428" y="319"/>
                </a:lnTo>
                <a:lnTo>
                  <a:pt x="417" y="315"/>
                </a:lnTo>
                <a:lnTo>
                  <a:pt x="405" y="311"/>
                </a:lnTo>
                <a:lnTo>
                  <a:pt x="392" y="308"/>
                </a:lnTo>
                <a:lnTo>
                  <a:pt x="380" y="302"/>
                </a:lnTo>
                <a:lnTo>
                  <a:pt x="365" y="294"/>
                </a:lnTo>
                <a:lnTo>
                  <a:pt x="352" y="286"/>
                </a:lnTo>
                <a:lnTo>
                  <a:pt x="336" y="279"/>
                </a:lnTo>
                <a:lnTo>
                  <a:pt x="321" y="269"/>
                </a:lnTo>
                <a:lnTo>
                  <a:pt x="302" y="260"/>
                </a:lnTo>
                <a:lnTo>
                  <a:pt x="284" y="250"/>
                </a:lnTo>
                <a:lnTo>
                  <a:pt x="267" y="240"/>
                </a:lnTo>
                <a:lnTo>
                  <a:pt x="250" y="231"/>
                </a:lnTo>
                <a:lnTo>
                  <a:pt x="234" y="221"/>
                </a:lnTo>
                <a:lnTo>
                  <a:pt x="219" y="212"/>
                </a:lnTo>
                <a:lnTo>
                  <a:pt x="188" y="192"/>
                </a:lnTo>
                <a:lnTo>
                  <a:pt x="162" y="173"/>
                </a:lnTo>
                <a:lnTo>
                  <a:pt x="135" y="154"/>
                </a:lnTo>
                <a:lnTo>
                  <a:pt x="110" y="135"/>
                </a:lnTo>
                <a:lnTo>
                  <a:pt x="87" y="116"/>
                </a:lnTo>
                <a:lnTo>
                  <a:pt x="75" y="106"/>
                </a:lnTo>
                <a:lnTo>
                  <a:pt x="66" y="96"/>
                </a:lnTo>
                <a:lnTo>
                  <a:pt x="56" y="89"/>
                </a:lnTo>
                <a:lnTo>
                  <a:pt x="46" y="81"/>
                </a:lnTo>
                <a:lnTo>
                  <a:pt x="39" y="73"/>
                </a:lnTo>
                <a:lnTo>
                  <a:pt x="33" y="68"/>
                </a:lnTo>
                <a:lnTo>
                  <a:pt x="25" y="62"/>
                </a:lnTo>
                <a:lnTo>
                  <a:pt x="19" y="56"/>
                </a:lnTo>
                <a:lnTo>
                  <a:pt x="16" y="50"/>
                </a:lnTo>
                <a:lnTo>
                  <a:pt x="12" y="45"/>
                </a:lnTo>
                <a:lnTo>
                  <a:pt x="8" y="41"/>
                </a:lnTo>
                <a:lnTo>
                  <a:pt x="6" y="37"/>
                </a:lnTo>
                <a:lnTo>
                  <a:pt x="2" y="33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55"/>
          <p:cNvSpPr/>
          <p:nvPr/>
        </p:nvSpPr>
        <p:spPr>
          <a:xfrm>
            <a:off x="6638760" y="3616200"/>
            <a:ext cx="1101960" cy="1432080"/>
          </a:xfrm>
          <a:custGeom>
            <a:avLst/>
            <a:gdLst/>
            <a:ahLst/>
            <a:rect l="l" t="t" r="r" b="b"/>
            <a:pathLst>
              <a:path w="1390" h="1802">
                <a:moveTo>
                  <a:pt x="799" y="1430"/>
                </a:moveTo>
                <a:lnTo>
                  <a:pt x="816" y="1437"/>
                </a:lnTo>
                <a:lnTo>
                  <a:pt x="833" y="1441"/>
                </a:lnTo>
                <a:lnTo>
                  <a:pt x="851" y="1447"/>
                </a:lnTo>
                <a:lnTo>
                  <a:pt x="866" y="1449"/>
                </a:lnTo>
                <a:lnTo>
                  <a:pt x="881" y="1451"/>
                </a:lnTo>
                <a:lnTo>
                  <a:pt x="895" y="1453"/>
                </a:lnTo>
                <a:lnTo>
                  <a:pt x="908" y="1453"/>
                </a:lnTo>
                <a:lnTo>
                  <a:pt x="920" y="1451"/>
                </a:lnTo>
                <a:lnTo>
                  <a:pt x="931" y="1449"/>
                </a:lnTo>
                <a:lnTo>
                  <a:pt x="943" y="1445"/>
                </a:lnTo>
                <a:lnTo>
                  <a:pt x="954" y="1441"/>
                </a:lnTo>
                <a:lnTo>
                  <a:pt x="964" y="1435"/>
                </a:lnTo>
                <a:lnTo>
                  <a:pt x="972" y="1430"/>
                </a:lnTo>
                <a:lnTo>
                  <a:pt x="981" y="1422"/>
                </a:lnTo>
                <a:lnTo>
                  <a:pt x="989" y="1414"/>
                </a:lnTo>
                <a:lnTo>
                  <a:pt x="996" y="1405"/>
                </a:lnTo>
                <a:lnTo>
                  <a:pt x="998" y="1399"/>
                </a:lnTo>
                <a:lnTo>
                  <a:pt x="1000" y="1393"/>
                </a:lnTo>
                <a:lnTo>
                  <a:pt x="1002" y="1387"/>
                </a:lnTo>
                <a:lnTo>
                  <a:pt x="1004" y="1380"/>
                </a:lnTo>
                <a:lnTo>
                  <a:pt x="1006" y="1372"/>
                </a:lnTo>
                <a:lnTo>
                  <a:pt x="1010" y="1364"/>
                </a:lnTo>
                <a:lnTo>
                  <a:pt x="1012" y="1355"/>
                </a:lnTo>
                <a:lnTo>
                  <a:pt x="1014" y="1345"/>
                </a:lnTo>
                <a:lnTo>
                  <a:pt x="1016" y="1336"/>
                </a:lnTo>
                <a:lnTo>
                  <a:pt x="1020" y="1326"/>
                </a:lnTo>
                <a:lnTo>
                  <a:pt x="1021" y="1315"/>
                </a:lnTo>
                <a:lnTo>
                  <a:pt x="1023" y="1303"/>
                </a:lnTo>
                <a:lnTo>
                  <a:pt x="1027" y="1290"/>
                </a:lnTo>
                <a:lnTo>
                  <a:pt x="1029" y="1276"/>
                </a:lnTo>
                <a:lnTo>
                  <a:pt x="1031" y="1263"/>
                </a:lnTo>
                <a:lnTo>
                  <a:pt x="1035" y="1249"/>
                </a:lnTo>
                <a:lnTo>
                  <a:pt x="1037" y="1234"/>
                </a:lnTo>
                <a:lnTo>
                  <a:pt x="1039" y="1219"/>
                </a:lnTo>
                <a:lnTo>
                  <a:pt x="1043" y="1201"/>
                </a:lnTo>
                <a:lnTo>
                  <a:pt x="1044" y="1184"/>
                </a:lnTo>
                <a:lnTo>
                  <a:pt x="1048" y="1167"/>
                </a:lnTo>
                <a:lnTo>
                  <a:pt x="1050" y="1148"/>
                </a:lnTo>
                <a:lnTo>
                  <a:pt x="1054" y="1130"/>
                </a:lnTo>
                <a:lnTo>
                  <a:pt x="1056" y="1109"/>
                </a:lnTo>
                <a:lnTo>
                  <a:pt x="1060" y="1090"/>
                </a:lnTo>
                <a:lnTo>
                  <a:pt x="1062" y="1069"/>
                </a:lnTo>
                <a:lnTo>
                  <a:pt x="1066" y="1048"/>
                </a:lnTo>
                <a:lnTo>
                  <a:pt x="1068" y="1025"/>
                </a:lnTo>
                <a:lnTo>
                  <a:pt x="1071" y="1002"/>
                </a:lnTo>
                <a:lnTo>
                  <a:pt x="1075" y="979"/>
                </a:lnTo>
                <a:lnTo>
                  <a:pt x="1079" y="954"/>
                </a:lnTo>
                <a:lnTo>
                  <a:pt x="1081" y="929"/>
                </a:lnTo>
                <a:lnTo>
                  <a:pt x="1085" y="906"/>
                </a:lnTo>
                <a:lnTo>
                  <a:pt x="1089" y="883"/>
                </a:lnTo>
                <a:lnTo>
                  <a:pt x="1091" y="860"/>
                </a:lnTo>
                <a:lnTo>
                  <a:pt x="1094" y="837"/>
                </a:lnTo>
                <a:lnTo>
                  <a:pt x="1096" y="815"/>
                </a:lnTo>
                <a:lnTo>
                  <a:pt x="1100" y="794"/>
                </a:lnTo>
                <a:lnTo>
                  <a:pt x="1102" y="773"/>
                </a:lnTo>
                <a:lnTo>
                  <a:pt x="1104" y="754"/>
                </a:lnTo>
                <a:lnTo>
                  <a:pt x="1106" y="733"/>
                </a:lnTo>
                <a:lnTo>
                  <a:pt x="1110" y="714"/>
                </a:lnTo>
                <a:lnTo>
                  <a:pt x="1112" y="696"/>
                </a:lnTo>
                <a:lnTo>
                  <a:pt x="1114" y="677"/>
                </a:lnTo>
                <a:lnTo>
                  <a:pt x="1115" y="660"/>
                </a:lnTo>
                <a:lnTo>
                  <a:pt x="1117" y="643"/>
                </a:lnTo>
                <a:lnTo>
                  <a:pt x="1117" y="625"/>
                </a:lnTo>
                <a:lnTo>
                  <a:pt x="1119" y="610"/>
                </a:lnTo>
                <a:lnTo>
                  <a:pt x="1121" y="595"/>
                </a:lnTo>
                <a:lnTo>
                  <a:pt x="1123" y="579"/>
                </a:lnTo>
                <a:lnTo>
                  <a:pt x="1123" y="564"/>
                </a:lnTo>
                <a:lnTo>
                  <a:pt x="1125" y="551"/>
                </a:lnTo>
                <a:lnTo>
                  <a:pt x="1125" y="535"/>
                </a:lnTo>
                <a:lnTo>
                  <a:pt x="1127" y="524"/>
                </a:lnTo>
                <a:lnTo>
                  <a:pt x="1129" y="497"/>
                </a:lnTo>
                <a:lnTo>
                  <a:pt x="1129" y="474"/>
                </a:lnTo>
                <a:lnTo>
                  <a:pt x="1131" y="453"/>
                </a:lnTo>
                <a:lnTo>
                  <a:pt x="1131" y="433"/>
                </a:lnTo>
                <a:lnTo>
                  <a:pt x="1131" y="416"/>
                </a:lnTo>
                <a:lnTo>
                  <a:pt x="1131" y="401"/>
                </a:lnTo>
                <a:lnTo>
                  <a:pt x="1131" y="387"/>
                </a:lnTo>
                <a:lnTo>
                  <a:pt x="1129" y="376"/>
                </a:lnTo>
                <a:lnTo>
                  <a:pt x="1129" y="362"/>
                </a:lnTo>
                <a:lnTo>
                  <a:pt x="1127" y="351"/>
                </a:lnTo>
                <a:lnTo>
                  <a:pt x="1127" y="339"/>
                </a:lnTo>
                <a:lnTo>
                  <a:pt x="1125" y="328"/>
                </a:lnTo>
                <a:lnTo>
                  <a:pt x="1123" y="318"/>
                </a:lnTo>
                <a:lnTo>
                  <a:pt x="1119" y="297"/>
                </a:lnTo>
                <a:lnTo>
                  <a:pt x="1115" y="280"/>
                </a:lnTo>
                <a:lnTo>
                  <a:pt x="1110" y="265"/>
                </a:lnTo>
                <a:lnTo>
                  <a:pt x="1106" y="249"/>
                </a:lnTo>
                <a:lnTo>
                  <a:pt x="1102" y="242"/>
                </a:lnTo>
                <a:lnTo>
                  <a:pt x="1096" y="236"/>
                </a:lnTo>
                <a:lnTo>
                  <a:pt x="1091" y="230"/>
                </a:lnTo>
                <a:lnTo>
                  <a:pt x="1085" y="224"/>
                </a:lnTo>
                <a:lnTo>
                  <a:pt x="1079" y="220"/>
                </a:lnTo>
                <a:lnTo>
                  <a:pt x="1073" y="215"/>
                </a:lnTo>
                <a:lnTo>
                  <a:pt x="1068" y="211"/>
                </a:lnTo>
                <a:lnTo>
                  <a:pt x="1062" y="209"/>
                </a:lnTo>
                <a:lnTo>
                  <a:pt x="1048" y="203"/>
                </a:lnTo>
                <a:lnTo>
                  <a:pt x="1035" y="199"/>
                </a:lnTo>
                <a:lnTo>
                  <a:pt x="1021" y="197"/>
                </a:lnTo>
                <a:lnTo>
                  <a:pt x="1008" y="197"/>
                </a:lnTo>
                <a:lnTo>
                  <a:pt x="1002" y="197"/>
                </a:lnTo>
                <a:lnTo>
                  <a:pt x="996" y="197"/>
                </a:lnTo>
                <a:lnTo>
                  <a:pt x="991" y="197"/>
                </a:lnTo>
                <a:lnTo>
                  <a:pt x="985" y="197"/>
                </a:lnTo>
                <a:lnTo>
                  <a:pt x="977" y="199"/>
                </a:lnTo>
                <a:lnTo>
                  <a:pt x="968" y="199"/>
                </a:lnTo>
                <a:lnTo>
                  <a:pt x="960" y="199"/>
                </a:lnTo>
                <a:lnTo>
                  <a:pt x="950" y="199"/>
                </a:lnTo>
                <a:lnTo>
                  <a:pt x="941" y="201"/>
                </a:lnTo>
                <a:lnTo>
                  <a:pt x="929" y="201"/>
                </a:lnTo>
                <a:lnTo>
                  <a:pt x="918" y="203"/>
                </a:lnTo>
                <a:lnTo>
                  <a:pt x="906" y="203"/>
                </a:lnTo>
                <a:lnTo>
                  <a:pt x="895" y="205"/>
                </a:lnTo>
                <a:lnTo>
                  <a:pt x="881" y="205"/>
                </a:lnTo>
                <a:lnTo>
                  <a:pt x="868" y="207"/>
                </a:lnTo>
                <a:lnTo>
                  <a:pt x="853" y="209"/>
                </a:lnTo>
                <a:lnTo>
                  <a:pt x="837" y="211"/>
                </a:lnTo>
                <a:lnTo>
                  <a:pt x="822" y="211"/>
                </a:lnTo>
                <a:lnTo>
                  <a:pt x="806" y="213"/>
                </a:lnTo>
                <a:lnTo>
                  <a:pt x="789" y="215"/>
                </a:lnTo>
                <a:lnTo>
                  <a:pt x="772" y="217"/>
                </a:lnTo>
                <a:lnTo>
                  <a:pt x="753" y="218"/>
                </a:lnTo>
                <a:lnTo>
                  <a:pt x="735" y="222"/>
                </a:lnTo>
                <a:lnTo>
                  <a:pt x="716" y="224"/>
                </a:lnTo>
                <a:lnTo>
                  <a:pt x="695" y="226"/>
                </a:lnTo>
                <a:lnTo>
                  <a:pt x="676" y="230"/>
                </a:lnTo>
                <a:lnTo>
                  <a:pt x="655" y="232"/>
                </a:lnTo>
                <a:lnTo>
                  <a:pt x="634" y="236"/>
                </a:lnTo>
                <a:lnTo>
                  <a:pt x="611" y="238"/>
                </a:lnTo>
                <a:lnTo>
                  <a:pt x="588" y="242"/>
                </a:lnTo>
                <a:lnTo>
                  <a:pt x="565" y="245"/>
                </a:lnTo>
                <a:lnTo>
                  <a:pt x="542" y="249"/>
                </a:lnTo>
                <a:lnTo>
                  <a:pt x="517" y="253"/>
                </a:lnTo>
                <a:lnTo>
                  <a:pt x="494" y="255"/>
                </a:lnTo>
                <a:lnTo>
                  <a:pt x="471" y="259"/>
                </a:lnTo>
                <a:lnTo>
                  <a:pt x="449" y="263"/>
                </a:lnTo>
                <a:lnTo>
                  <a:pt x="428" y="265"/>
                </a:lnTo>
                <a:lnTo>
                  <a:pt x="407" y="266"/>
                </a:lnTo>
                <a:lnTo>
                  <a:pt x="388" y="268"/>
                </a:lnTo>
                <a:lnTo>
                  <a:pt x="367" y="270"/>
                </a:lnTo>
                <a:lnTo>
                  <a:pt x="350" y="272"/>
                </a:lnTo>
                <a:lnTo>
                  <a:pt x="330" y="274"/>
                </a:lnTo>
                <a:lnTo>
                  <a:pt x="313" y="276"/>
                </a:lnTo>
                <a:lnTo>
                  <a:pt x="296" y="278"/>
                </a:lnTo>
                <a:lnTo>
                  <a:pt x="281" y="278"/>
                </a:lnTo>
                <a:lnTo>
                  <a:pt x="265" y="280"/>
                </a:lnTo>
                <a:lnTo>
                  <a:pt x="250" y="280"/>
                </a:lnTo>
                <a:lnTo>
                  <a:pt x="236" y="282"/>
                </a:lnTo>
                <a:lnTo>
                  <a:pt x="223" y="282"/>
                </a:lnTo>
                <a:lnTo>
                  <a:pt x="210" y="282"/>
                </a:lnTo>
                <a:lnTo>
                  <a:pt x="198" y="282"/>
                </a:lnTo>
                <a:lnTo>
                  <a:pt x="186" y="282"/>
                </a:lnTo>
                <a:lnTo>
                  <a:pt x="175" y="282"/>
                </a:lnTo>
                <a:lnTo>
                  <a:pt x="165" y="282"/>
                </a:lnTo>
                <a:lnTo>
                  <a:pt x="156" y="282"/>
                </a:lnTo>
                <a:lnTo>
                  <a:pt x="146" y="282"/>
                </a:lnTo>
                <a:lnTo>
                  <a:pt x="139" y="280"/>
                </a:lnTo>
                <a:lnTo>
                  <a:pt x="131" y="280"/>
                </a:lnTo>
                <a:lnTo>
                  <a:pt x="123" y="280"/>
                </a:lnTo>
                <a:lnTo>
                  <a:pt x="117" y="278"/>
                </a:lnTo>
                <a:lnTo>
                  <a:pt x="112" y="278"/>
                </a:lnTo>
                <a:lnTo>
                  <a:pt x="106" y="276"/>
                </a:lnTo>
                <a:lnTo>
                  <a:pt x="102" y="276"/>
                </a:lnTo>
                <a:lnTo>
                  <a:pt x="98" y="274"/>
                </a:lnTo>
                <a:lnTo>
                  <a:pt x="91" y="272"/>
                </a:lnTo>
                <a:lnTo>
                  <a:pt x="85" y="268"/>
                </a:lnTo>
                <a:lnTo>
                  <a:pt x="77" y="265"/>
                </a:lnTo>
                <a:lnTo>
                  <a:pt x="71" y="261"/>
                </a:lnTo>
                <a:lnTo>
                  <a:pt x="58" y="251"/>
                </a:lnTo>
                <a:lnTo>
                  <a:pt x="44" y="240"/>
                </a:lnTo>
                <a:lnTo>
                  <a:pt x="31" y="226"/>
                </a:lnTo>
                <a:lnTo>
                  <a:pt x="20" y="213"/>
                </a:lnTo>
                <a:lnTo>
                  <a:pt x="10" y="199"/>
                </a:lnTo>
                <a:lnTo>
                  <a:pt x="0" y="184"/>
                </a:lnTo>
                <a:lnTo>
                  <a:pt x="43" y="184"/>
                </a:lnTo>
                <a:lnTo>
                  <a:pt x="85" y="182"/>
                </a:lnTo>
                <a:lnTo>
                  <a:pt x="129" y="180"/>
                </a:lnTo>
                <a:lnTo>
                  <a:pt x="175" y="176"/>
                </a:lnTo>
                <a:lnTo>
                  <a:pt x="221" y="172"/>
                </a:lnTo>
                <a:lnTo>
                  <a:pt x="269" y="169"/>
                </a:lnTo>
                <a:lnTo>
                  <a:pt x="319" y="163"/>
                </a:lnTo>
                <a:lnTo>
                  <a:pt x="369" y="159"/>
                </a:lnTo>
                <a:lnTo>
                  <a:pt x="419" y="153"/>
                </a:lnTo>
                <a:lnTo>
                  <a:pt x="471" y="147"/>
                </a:lnTo>
                <a:lnTo>
                  <a:pt x="520" y="140"/>
                </a:lnTo>
                <a:lnTo>
                  <a:pt x="572" y="132"/>
                </a:lnTo>
                <a:lnTo>
                  <a:pt x="622" y="123"/>
                </a:lnTo>
                <a:lnTo>
                  <a:pt x="672" y="113"/>
                </a:lnTo>
                <a:lnTo>
                  <a:pt x="774" y="96"/>
                </a:lnTo>
                <a:lnTo>
                  <a:pt x="799" y="90"/>
                </a:lnTo>
                <a:lnTo>
                  <a:pt x="822" y="84"/>
                </a:lnTo>
                <a:lnTo>
                  <a:pt x="845" y="80"/>
                </a:lnTo>
                <a:lnTo>
                  <a:pt x="866" y="75"/>
                </a:lnTo>
                <a:lnTo>
                  <a:pt x="887" y="71"/>
                </a:lnTo>
                <a:lnTo>
                  <a:pt x="906" y="65"/>
                </a:lnTo>
                <a:lnTo>
                  <a:pt x="924" y="61"/>
                </a:lnTo>
                <a:lnTo>
                  <a:pt x="941" y="55"/>
                </a:lnTo>
                <a:lnTo>
                  <a:pt x="956" y="51"/>
                </a:lnTo>
                <a:lnTo>
                  <a:pt x="970" y="46"/>
                </a:lnTo>
                <a:lnTo>
                  <a:pt x="983" y="42"/>
                </a:lnTo>
                <a:lnTo>
                  <a:pt x="996" y="36"/>
                </a:lnTo>
                <a:lnTo>
                  <a:pt x="1006" y="32"/>
                </a:lnTo>
                <a:lnTo>
                  <a:pt x="1016" y="27"/>
                </a:lnTo>
                <a:lnTo>
                  <a:pt x="1025" y="23"/>
                </a:lnTo>
                <a:lnTo>
                  <a:pt x="1033" y="17"/>
                </a:lnTo>
                <a:lnTo>
                  <a:pt x="1043" y="13"/>
                </a:lnTo>
                <a:lnTo>
                  <a:pt x="1050" y="7"/>
                </a:lnTo>
                <a:lnTo>
                  <a:pt x="1060" y="4"/>
                </a:lnTo>
                <a:lnTo>
                  <a:pt x="1069" y="2"/>
                </a:lnTo>
                <a:lnTo>
                  <a:pt x="1079" y="0"/>
                </a:lnTo>
                <a:lnTo>
                  <a:pt x="1087" y="0"/>
                </a:lnTo>
                <a:lnTo>
                  <a:pt x="1092" y="0"/>
                </a:lnTo>
                <a:lnTo>
                  <a:pt x="1096" y="2"/>
                </a:lnTo>
                <a:lnTo>
                  <a:pt x="1102" y="2"/>
                </a:lnTo>
                <a:lnTo>
                  <a:pt x="1106" y="5"/>
                </a:lnTo>
                <a:lnTo>
                  <a:pt x="1112" y="7"/>
                </a:lnTo>
                <a:lnTo>
                  <a:pt x="1115" y="9"/>
                </a:lnTo>
                <a:lnTo>
                  <a:pt x="1123" y="13"/>
                </a:lnTo>
                <a:lnTo>
                  <a:pt x="1129" y="17"/>
                </a:lnTo>
                <a:lnTo>
                  <a:pt x="1137" y="21"/>
                </a:lnTo>
                <a:lnTo>
                  <a:pt x="1144" y="25"/>
                </a:lnTo>
                <a:lnTo>
                  <a:pt x="1154" y="28"/>
                </a:lnTo>
                <a:lnTo>
                  <a:pt x="1163" y="32"/>
                </a:lnTo>
                <a:lnTo>
                  <a:pt x="1173" y="38"/>
                </a:lnTo>
                <a:lnTo>
                  <a:pt x="1185" y="44"/>
                </a:lnTo>
                <a:lnTo>
                  <a:pt x="1196" y="50"/>
                </a:lnTo>
                <a:lnTo>
                  <a:pt x="1208" y="55"/>
                </a:lnTo>
                <a:lnTo>
                  <a:pt x="1221" y="61"/>
                </a:lnTo>
                <a:lnTo>
                  <a:pt x="1234" y="67"/>
                </a:lnTo>
                <a:lnTo>
                  <a:pt x="1250" y="75"/>
                </a:lnTo>
                <a:lnTo>
                  <a:pt x="1265" y="82"/>
                </a:lnTo>
                <a:lnTo>
                  <a:pt x="1281" y="92"/>
                </a:lnTo>
                <a:lnTo>
                  <a:pt x="1296" y="101"/>
                </a:lnTo>
                <a:lnTo>
                  <a:pt x="1309" y="109"/>
                </a:lnTo>
                <a:lnTo>
                  <a:pt x="1321" y="119"/>
                </a:lnTo>
                <a:lnTo>
                  <a:pt x="1332" y="126"/>
                </a:lnTo>
                <a:lnTo>
                  <a:pt x="1342" y="134"/>
                </a:lnTo>
                <a:lnTo>
                  <a:pt x="1352" y="142"/>
                </a:lnTo>
                <a:lnTo>
                  <a:pt x="1359" y="149"/>
                </a:lnTo>
                <a:lnTo>
                  <a:pt x="1367" y="157"/>
                </a:lnTo>
                <a:lnTo>
                  <a:pt x="1373" y="163"/>
                </a:lnTo>
                <a:lnTo>
                  <a:pt x="1378" y="170"/>
                </a:lnTo>
                <a:lnTo>
                  <a:pt x="1382" y="176"/>
                </a:lnTo>
                <a:lnTo>
                  <a:pt x="1384" y="182"/>
                </a:lnTo>
                <a:lnTo>
                  <a:pt x="1388" y="188"/>
                </a:lnTo>
                <a:lnTo>
                  <a:pt x="1388" y="192"/>
                </a:lnTo>
                <a:lnTo>
                  <a:pt x="1390" y="197"/>
                </a:lnTo>
                <a:lnTo>
                  <a:pt x="1388" y="207"/>
                </a:lnTo>
                <a:lnTo>
                  <a:pt x="1386" y="217"/>
                </a:lnTo>
                <a:lnTo>
                  <a:pt x="1384" y="226"/>
                </a:lnTo>
                <a:lnTo>
                  <a:pt x="1380" y="234"/>
                </a:lnTo>
                <a:lnTo>
                  <a:pt x="1377" y="242"/>
                </a:lnTo>
                <a:lnTo>
                  <a:pt x="1373" y="249"/>
                </a:lnTo>
                <a:lnTo>
                  <a:pt x="1369" y="255"/>
                </a:lnTo>
                <a:lnTo>
                  <a:pt x="1365" y="261"/>
                </a:lnTo>
                <a:lnTo>
                  <a:pt x="1359" y="266"/>
                </a:lnTo>
                <a:lnTo>
                  <a:pt x="1355" y="272"/>
                </a:lnTo>
                <a:lnTo>
                  <a:pt x="1352" y="278"/>
                </a:lnTo>
                <a:lnTo>
                  <a:pt x="1348" y="286"/>
                </a:lnTo>
                <a:lnTo>
                  <a:pt x="1346" y="293"/>
                </a:lnTo>
                <a:lnTo>
                  <a:pt x="1342" y="301"/>
                </a:lnTo>
                <a:lnTo>
                  <a:pt x="1340" y="309"/>
                </a:lnTo>
                <a:lnTo>
                  <a:pt x="1336" y="318"/>
                </a:lnTo>
                <a:lnTo>
                  <a:pt x="1332" y="337"/>
                </a:lnTo>
                <a:lnTo>
                  <a:pt x="1330" y="357"/>
                </a:lnTo>
                <a:lnTo>
                  <a:pt x="1329" y="380"/>
                </a:lnTo>
                <a:lnTo>
                  <a:pt x="1329" y="403"/>
                </a:lnTo>
                <a:lnTo>
                  <a:pt x="1323" y="432"/>
                </a:lnTo>
                <a:lnTo>
                  <a:pt x="1321" y="460"/>
                </a:lnTo>
                <a:lnTo>
                  <a:pt x="1319" y="489"/>
                </a:lnTo>
                <a:lnTo>
                  <a:pt x="1317" y="520"/>
                </a:lnTo>
                <a:lnTo>
                  <a:pt x="1315" y="551"/>
                </a:lnTo>
                <a:lnTo>
                  <a:pt x="1315" y="581"/>
                </a:lnTo>
                <a:lnTo>
                  <a:pt x="1315" y="614"/>
                </a:lnTo>
                <a:lnTo>
                  <a:pt x="1315" y="647"/>
                </a:lnTo>
                <a:lnTo>
                  <a:pt x="1313" y="664"/>
                </a:lnTo>
                <a:lnTo>
                  <a:pt x="1311" y="683"/>
                </a:lnTo>
                <a:lnTo>
                  <a:pt x="1307" y="702"/>
                </a:lnTo>
                <a:lnTo>
                  <a:pt x="1306" y="723"/>
                </a:lnTo>
                <a:lnTo>
                  <a:pt x="1304" y="746"/>
                </a:lnTo>
                <a:lnTo>
                  <a:pt x="1300" y="771"/>
                </a:lnTo>
                <a:lnTo>
                  <a:pt x="1296" y="796"/>
                </a:lnTo>
                <a:lnTo>
                  <a:pt x="1294" y="823"/>
                </a:lnTo>
                <a:lnTo>
                  <a:pt x="1290" y="852"/>
                </a:lnTo>
                <a:lnTo>
                  <a:pt x="1286" y="883"/>
                </a:lnTo>
                <a:lnTo>
                  <a:pt x="1281" y="913"/>
                </a:lnTo>
                <a:lnTo>
                  <a:pt x="1277" y="946"/>
                </a:lnTo>
                <a:lnTo>
                  <a:pt x="1271" y="981"/>
                </a:lnTo>
                <a:lnTo>
                  <a:pt x="1267" y="1017"/>
                </a:lnTo>
                <a:lnTo>
                  <a:pt x="1259" y="1055"/>
                </a:lnTo>
                <a:lnTo>
                  <a:pt x="1254" y="1096"/>
                </a:lnTo>
                <a:lnTo>
                  <a:pt x="1248" y="1136"/>
                </a:lnTo>
                <a:lnTo>
                  <a:pt x="1240" y="1174"/>
                </a:lnTo>
                <a:lnTo>
                  <a:pt x="1234" y="1213"/>
                </a:lnTo>
                <a:lnTo>
                  <a:pt x="1229" y="1247"/>
                </a:lnTo>
                <a:lnTo>
                  <a:pt x="1221" y="1282"/>
                </a:lnTo>
                <a:lnTo>
                  <a:pt x="1215" y="1315"/>
                </a:lnTo>
                <a:lnTo>
                  <a:pt x="1210" y="1345"/>
                </a:lnTo>
                <a:lnTo>
                  <a:pt x="1204" y="1376"/>
                </a:lnTo>
                <a:lnTo>
                  <a:pt x="1198" y="1403"/>
                </a:lnTo>
                <a:lnTo>
                  <a:pt x="1192" y="1430"/>
                </a:lnTo>
                <a:lnTo>
                  <a:pt x="1187" y="1455"/>
                </a:lnTo>
                <a:lnTo>
                  <a:pt x="1181" y="1480"/>
                </a:lnTo>
                <a:lnTo>
                  <a:pt x="1175" y="1501"/>
                </a:lnTo>
                <a:lnTo>
                  <a:pt x="1169" y="1522"/>
                </a:lnTo>
                <a:lnTo>
                  <a:pt x="1162" y="1541"/>
                </a:lnTo>
                <a:lnTo>
                  <a:pt x="1156" y="1558"/>
                </a:lnTo>
                <a:lnTo>
                  <a:pt x="1148" y="1576"/>
                </a:lnTo>
                <a:lnTo>
                  <a:pt x="1140" y="1591"/>
                </a:lnTo>
                <a:lnTo>
                  <a:pt x="1133" y="1606"/>
                </a:lnTo>
                <a:lnTo>
                  <a:pt x="1125" y="1622"/>
                </a:lnTo>
                <a:lnTo>
                  <a:pt x="1117" y="1635"/>
                </a:lnTo>
                <a:lnTo>
                  <a:pt x="1110" y="1648"/>
                </a:lnTo>
                <a:lnTo>
                  <a:pt x="1102" y="1662"/>
                </a:lnTo>
                <a:lnTo>
                  <a:pt x="1094" y="1673"/>
                </a:lnTo>
                <a:lnTo>
                  <a:pt x="1087" y="1685"/>
                </a:lnTo>
                <a:lnTo>
                  <a:pt x="1077" y="1696"/>
                </a:lnTo>
                <a:lnTo>
                  <a:pt x="1069" y="1708"/>
                </a:lnTo>
                <a:lnTo>
                  <a:pt x="1062" y="1718"/>
                </a:lnTo>
                <a:lnTo>
                  <a:pt x="1054" y="1727"/>
                </a:lnTo>
                <a:lnTo>
                  <a:pt x="1046" y="1735"/>
                </a:lnTo>
                <a:lnTo>
                  <a:pt x="1039" y="1743"/>
                </a:lnTo>
                <a:lnTo>
                  <a:pt x="1033" y="1750"/>
                </a:lnTo>
                <a:lnTo>
                  <a:pt x="1025" y="1758"/>
                </a:lnTo>
                <a:lnTo>
                  <a:pt x="1020" y="1764"/>
                </a:lnTo>
                <a:lnTo>
                  <a:pt x="1012" y="1769"/>
                </a:lnTo>
                <a:lnTo>
                  <a:pt x="1006" y="1775"/>
                </a:lnTo>
                <a:lnTo>
                  <a:pt x="998" y="1779"/>
                </a:lnTo>
                <a:lnTo>
                  <a:pt x="993" y="1785"/>
                </a:lnTo>
                <a:lnTo>
                  <a:pt x="987" y="1789"/>
                </a:lnTo>
                <a:lnTo>
                  <a:pt x="981" y="1791"/>
                </a:lnTo>
                <a:lnTo>
                  <a:pt x="970" y="1796"/>
                </a:lnTo>
                <a:lnTo>
                  <a:pt x="960" y="1800"/>
                </a:lnTo>
                <a:lnTo>
                  <a:pt x="956" y="1800"/>
                </a:lnTo>
                <a:lnTo>
                  <a:pt x="952" y="1802"/>
                </a:lnTo>
                <a:lnTo>
                  <a:pt x="949" y="1802"/>
                </a:lnTo>
                <a:lnTo>
                  <a:pt x="947" y="1802"/>
                </a:lnTo>
                <a:lnTo>
                  <a:pt x="941" y="1802"/>
                </a:lnTo>
                <a:lnTo>
                  <a:pt x="937" y="1800"/>
                </a:lnTo>
                <a:lnTo>
                  <a:pt x="933" y="1800"/>
                </a:lnTo>
                <a:lnTo>
                  <a:pt x="927" y="1798"/>
                </a:lnTo>
                <a:lnTo>
                  <a:pt x="924" y="1794"/>
                </a:lnTo>
                <a:lnTo>
                  <a:pt x="920" y="1791"/>
                </a:lnTo>
                <a:lnTo>
                  <a:pt x="914" y="1787"/>
                </a:lnTo>
                <a:lnTo>
                  <a:pt x="910" y="1783"/>
                </a:lnTo>
                <a:lnTo>
                  <a:pt x="906" y="1777"/>
                </a:lnTo>
                <a:lnTo>
                  <a:pt x="902" y="1771"/>
                </a:lnTo>
                <a:lnTo>
                  <a:pt x="899" y="1766"/>
                </a:lnTo>
                <a:lnTo>
                  <a:pt x="897" y="1760"/>
                </a:lnTo>
                <a:lnTo>
                  <a:pt x="893" y="1752"/>
                </a:lnTo>
                <a:lnTo>
                  <a:pt x="889" y="1743"/>
                </a:lnTo>
                <a:lnTo>
                  <a:pt x="887" y="1735"/>
                </a:lnTo>
                <a:lnTo>
                  <a:pt x="885" y="1725"/>
                </a:lnTo>
                <a:lnTo>
                  <a:pt x="881" y="1714"/>
                </a:lnTo>
                <a:lnTo>
                  <a:pt x="879" y="1700"/>
                </a:lnTo>
                <a:lnTo>
                  <a:pt x="874" y="1689"/>
                </a:lnTo>
                <a:lnTo>
                  <a:pt x="868" y="1677"/>
                </a:lnTo>
                <a:lnTo>
                  <a:pt x="862" y="1666"/>
                </a:lnTo>
                <a:lnTo>
                  <a:pt x="856" y="1652"/>
                </a:lnTo>
                <a:lnTo>
                  <a:pt x="849" y="1641"/>
                </a:lnTo>
                <a:lnTo>
                  <a:pt x="841" y="1629"/>
                </a:lnTo>
                <a:lnTo>
                  <a:pt x="831" y="1618"/>
                </a:lnTo>
                <a:lnTo>
                  <a:pt x="822" y="1604"/>
                </a:lnTo>
                <a:lnTo>
                  <a:pt x="810" y="1593"/>
                </a:lnTo>
                <a:lnTo>
                  <a:pt x="801" y="1581"/>
                </a:lnTo>
                <a:lnTo>
                  <a:pt x="787" y="1570"/>
                </a:lnTo>
                <a:lnTo>
                  <a:pt x="776" y="1556"/>
                </a:lnTo>
                <a:lnTo>
                  <a:pt x="762" y="1545"/>
                </a:lnTo>
                <a:lnTo>
                  <a:pt x="749" y="1533"/>
                </a:lnTo>
                <a:lnTo>
                  <a:pt x="735" y="1520"/>
                </a:lnTo>
                <a:lnTo>
                  <a:pt x="724" y="1508"/>
                </a:lnTo>
                <a:lnTo>
                  <a:pt x="712" y="1499"/>
                </a:lnTo>
                <a:lnTo>
                  <a:pt x="701" y="1487"/>
                </a:lnTo>
                <a:lnTo>
                  <a:pt x="691" y="1478"/>
                </a:lnTo>
                <a:lnTo>
                  <a:pt x="684" y="1466"/>
                </a:lnTo>
                <a:lnTo>
                  <a:pt x="676" y="1458"/>
                </a:lnTo>
                <a:lnTo>
                  <a:pt x="668" y="1449"/>
                </a:lnTo>
                <a:lnTo>
                  <a:pt x="663" y="1441"/>
                </a:lnTo>
                <a:lnTo>
                  <a:pt x="657" y="1434"/>
                </a:lnTo>
                <a:lnTo>
                  <a:pt x="653" y="1426"/>
                </a:lnTo>
                <a:lnTo>
                  <a:pt x="651" y="1420"/>
                </a:lnTo>
                <a:lnTo>
                  <a:pt x="649" y="1416"/>
                </a:lnTo>
                <a:lnTo>
                  <a:pt x="649" y="1410"/>
                </a:lnTo>
                <a:lnTo>
                  <a:pt x="649" y="1407"/>
                </a:lnTo>
                <a:lnTo>
                  <a:pt x="651" y="1405"/>
                </a:lnTo>
                <a:lnTo>
                  <a:pt x="651" y="1403"/>
                </a:lnTo>
                <a:lnTo>
                  <a:pt x="653" y="1401"/>
                </a:lnTo>
                <a:lnTo>
                  <a:pt x="657" y="1399"/>
                </a:lnTo>
                <a:lnTo>
                  <a:pt x="661" y="1397"/>
                </a:lnTo>
                <a:lnTo>
                  <a:pt x="666" y="1397"/>
                </a:lnTo>
                <a:lnTo>
                  <a:pt x="672" y="1397"/>
                </a:lnTo>
                <a:lnTo>
                  <a:pt x="680" y="1397"/>
                </a:lnTo>
                <a:lnTo>
                  <a:pt x="687" y="1397"/>
                </a:lnTo>
                <a:lnTo>
                  <a:pt x="697" y="1399"/>
                </a:lnTo>
                <a:lnTo>
                  <a:pt x="709" y="1401"/>
                </a:lnTo>
                <a:lnTo>
                  <a:pt x="720" y="1405"/>
                </a:lnTo>
                <a:lnTo>
                  <a:pt x="734" y="1407"/>
                </a:lnTo>
                <a:lnTo>
                  <a:pt x="749" y="1412"/>
                </a:lnTo>
                <a:lnTo>
                  <a:pt x="764" y="1416"/>
                </a:lnTo>
                <a:lnTo>
                  <a:pt x="782" y="1422"/>
                </a:lnTo>
                <a:lnTo>
                  <a:pt x="799" y="14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56"/>
          <p:cNvSpPr/>
          <p:nvPr/>
        </p:nvSpPr>
        <p:spPr>
          <a:xfrm>
            <a:off x="6413400" y="3529080"/>
            <a:ext cx="430200" cy="407880"/>
          </a:xfrm>
          <a:custGeom>
            <a:avLst/>
            <a:gdLst/>
            <a:ahLst/>
            <a:rect l="l" t="t" r="r" b="b"/>
            <a:pathLst>
              <a:path w="543" h="515">
                <a:moveTo>
                  <a:pt x="432" y="284"/>
                </a:moveTo>
                <a:lnTo>
                  <a:pt x="409" y="307"/>
                </a:lnTo>
                <a:lnTo>
                  <a:pt x="384" y="329"/>
                </a:lnTo>
                <a:lnTo>
                  <a:pt x="361" y="350"/>
                </a:lnTo>
                <a:lnTo>
                  <a:pt x="336" y="371"/>
                </a:lnTo>
                <a:lnTo>
                  <a:pt x="309" y="388"/>
                </a:lnTo>
                <a:lnTo>
                  <a:pt x="282" y="405"/>
                </a:lnTo>
                <a:lnTo>
                  <a:pt x="267" y="415"/>
                </a:lnTo>
                <a:lnTo>
                  <a:pt x="254" y="423"/>
                </a:lnTo>
                <a:lnTo>
                  <a:pt x="238" y="430"/>
                </a:lnTo>
                <a:lnTo>
                  <a:pt x="223" y="438"/>
                </a:lnTo>
                <a:lnTo>
                  <a:pt x="206" y="448"/>
                </a:lnTo>
                <a:lnTo>
                  <a:pt x="190" y="455"/>
                </a:lnTo>
                <a:lnTo>
                  <a:pt x="175" y="465"/>
                </a:lnTo>
                <a:lnTo>
                  <a:pt x="160" y="473"/>
                </a:lnTo>
                <a:lnTo>
                  <a:pt x="146" y="478"/>
                </a:lnTo>
                <a:lnTo>
                  <a:pt x="131" y="484"/>
                </a:lnTo>
                <a:lnTo>
                  <a:pt x="117" y="490"/>
                </a:lnTo>
                <a:lnTo>
                  <a:pt x="102" y="496"/>
                </a:lnTo>
                <a:lnTo>
                  <a:pt x="89" y="499"/>
                </a:lnTo>
                <a:lnTo>
                  <a:pt x="75" y="503"/>
                </a:lnTo>
                <a:lnTo>
                  <a:pt x="62" y="507"/>
                </a:lnTo>
                <a:lnTo>
                  <a:pt x="50" y="511"/>
                </a:lnTo>
                <a:lnTo>
                  <a:pt x="37" y="513"/>
                </a:lnTo>
                <a:lnTo>
                  <a:pt x="25" y="513"/>
                </a:lnTo>
                <a:lnTo>
                  <a:pt x="12" y="515"/>
                </a:lnTo>
                <a:lnTo>
                  <a:pt x="0" y="515"/>
                </a:lnTo>
                <a:lnTo>
                  <a:pt x="35" y="482"/>
                </a:lnTo>
                <a:lnTo>
                  <a:pt x="67" y="451"/>
                </a:lnTo>
                <a:lnTo>
                  <a:pt x="100" y="419"/>
                </a:lnTo>
                <a:lnTo>
                  <a:pt x="133" y="386"/>
                </a:lnTo>
                <a:lnTo>
                  <a:pt x="163" y="355"/>
                </a:lnTo>
                <a:lnTo>
                  <a:pt x="192" y="323"/>
                </a:lnTo>
                <a:lnTo>
                  <a:pt x="223" y="290"/>
                </a:lnTo>
                <a:lnTo>
                  <a:pt x="252" y="258"/>
                </a:lnTo>
                <a:lnTo>
                  <a:pt x="279" y="225"/>
                </a:lnTo>
                <a:lnTo>
                  <a:pt x="307" y="192"/>
                </a:lnTo>
                <a:lnTo>
                  <a:pt x="332" y="162"/>
                </a:lnTo>
                <a:lnTo>
                  <a:pt x="359" y="129"/>
                </a:lnTo>
                <a:lnTo>
                  <a:pt x="384" y="96"/>
                </a:lnTo>
                <a:lnTo>
                  <a:pt x="409" y="64"/>
                </a:lnTo>
                <a:lnTo>
                  <a:pt x="432" y="33"/>
                </a:lnTo>
                <a:lnTo>
                  <a:pt x="455" y="0"/>
                </a:lnTo>
                <a:lnTo>
                  <a:pt x="467" y="18"/>
                </a:lnTo>
                <a:lnTo>
                  <a:pt x="478" y="33"/>
                </a:lnTo>
                <a:lnTo>
                  <a:pt x="488" y="48"/>
                </a:lnTo>
                <a:lnTo>
                  <a:pt x="497" y="64"/>
                </a:lnTo>
                <a:lnTo>
                  <a:pt x="505" y="77"/>
                </a:lnTo>
                <a:lnTo>
                  <a:pt x="513" y="91"/>
                </a:lnTo>
                <a:lnTo>
                  <a:pt x="520" y="102"/>
                </a:lnTo>
                <a:lnTo>
                  <a:pt x="526" y="114"/>
                </a:lnTo>
                <a:lnTo>
                  <a:pt x="532" y="123"/>
                </a:lnTo>
                <a:lnTo>
                  <a:pt x="536" y="133"/>
                </a:lnTo>
                <a:lnTo>
                  <a:pt x="540" y="142"/>
                </a:lnTo>
                <a:lnTo>
                  <a:pt x="542" y="148"/>
                </a:lnTo>
                <a:lnTo>
                  <a:pt x="543" y="156"/>
                </a:lnTo>
                <a:lnTo>
                  <a:pt x="543" y="162"/>
                </a:lnTo>
                <a:lnTo>
                  <a:pt x="543" y="165"/>
                </a:lnTo>
                <a:lnTo>
                  <a:pt x="542" y="167"/>
                </a:lnTo>
                <a:lnTo>
                  <a:pt x="540" y="171"/>
                </a:lnTo>
                <a:lnTo>
                  <a:pt x="536" y="173"/>
                </a:lnTo>
                <a:lnTo>
                  <a:pt x="532" y="177"/>
                </a:lnTo>
                <a:lnTo>
                  <a:pt x="528" y="183"/>
                </a:lnTo>
                <a:lnTo>
                  <a:pt x="522" y="187"/>
                </a:lnTo>
                <a:lnTo>
                  <a:pt x="518" y="192"/>
                </a:lnTo>
                <a:lnTo>
                  <a:pt x="511" y="200"/>
                </a:lnTo>
                <a:lnTo>
                  <a:pt x="505" y="206"/>
                </a:lnTo>
                <a:lnTo>
                  <a:pt x="497" y="213"/>
                </a:lnTo>
                <a:lnTo>
                  <a:pt x="490" y="221"/>
                </a:lnTo>
                <a:lnTo>
                  <a:pt x="482" y="231"/>
                </a:lnTo>
                <a:lnTo>
                  <a:pt x="472" y="240"/>
                </a:lnTo>
                <a:lnTo>
                  <a:pt x="463" y="250"/>
                </a:lnTo>
                <a:lnTo>
                  <a:pt x="453" y="261"/>
                </a:lnTo>
                <a:lnTo>
                  <a:pt x="442" y="271"/>
                </a:lnTo>
                <a:lnTo>
                  <a:pt x="432" y="2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7"/>
          <p:cNvSpPr/>
          <p:nvPr/>
        </p:nvSpPr>
        <p:spPr>
          <a:xfrm>
            <a:off x="6756480" y="3379680"/>
            <a:ext cx="515880" cy="128520"/>
          </a:xfrm>
          <a:custGeom>
            <a:avLst/>
            <a:gdLst/>
            <a:ahLst/>
            <a:rect l="l" t="t" r="r" b="b"/>
            <a:pathLst>
              <a:path w="651" h="163">
                <a:moveTo>
                  <a:pt x="651" y="10"/>
                </a:moveTo>
                <a:lnTo>
                  <a:pt x="651" y="48"/>
                </a:lnTo>
                <a:lnTo>
                  <a:pt x="651" y="87"/>
                </a:lnTo>
                <a:lnTo>
                  <a:pt x="568" y="96"/>
                </a:lnTo>
                <a:lnTo>
                  <a:pt x="486" y="106"/>
                </a:lnTo>
                <a:lnTo>
                  <a:pt x="401" y="115"/>
                </a:lnTo>
                <a:lnTo>
                  <a:pt x="319" y="125"/>
                </a:lnTo>
                <a:lnTo>
                  <a:pt x="278" y="135"/>
                </a:lnTo>
                <a:lnTo>
                  <a:pt x="238" y="142"/>
                </a:lnTo>
                <a:lnTo>
                  <a:pt x="198" y="148"/>
                </a:lnTo>
                <a:lnTo>
                  <a:pt x="159" y="154"/>
                </a:lnTo>
                <a:lnTo>
                  <a:pt x="119" y="158"/>
                </a:lnTo>
                <a:lnTo>
                  <a:pt x="81" y="161"/>
                </a:lnTo>
                <a:lnTo>
                  <a:pt x="40" y="163"/>
                </a:lnTo>
                <a:lnTo>
                  <a:pt x="0" y="163"/>
                </a:lnTo>
                <a:lnTo>
                  <a:pt x="0" y="119"/>
                </a:lnTo>
                <a:lnTo>
                  <a:pt x="0" y="73"/>
                </a:lnTo>
                <a:lnTo>
                  <a:pt x="12" y="73"/>
                </a:lnTo>
                <a:lnTo>
                  <a:pt x="23" y="73"/>
                </a:lnTo>
                <a:lnTo>
                  <a:pt x="37" y="71"/>
                </a:lnTo>
                <a:lnTo>
                  <a:pt x="50" y="71"/>
                </a:lnTo>
                <a:lnTo>
                  <a:pt x="77" y="67"/>
                </a:lnTo>
                <a:lnTo>
                  <a:pt x="108" y="62"/>
                </a:lnTo>
                <a:lnTo>
                  <a:pt x="123" y="60"/>
                </a:lnTo>
                <a:lnTo>
                  <a:pt x="138" y="56"/>
                </a:lnTo>
                <a:lnTo>
                  <a:pt x="154" y="52"/>
                </a:lnTo>
                <a:lnTo>
                  <a:pt x="169" y="46"/>
                </a:lnTo>
                <a:lnTo>
                  <a:pt x="184" y="41"/>
                </a:lnTo>
                <a:lnTo>
                  <a:pt x="202" y="35"/>
                </a:lnTo>
                <a:lnTo>
                  <a:pt x="217" y="29"/>
                </a:lnTo>
                <a:lnTo>
                  <a:pt x="232" y="21"/>
                </a:lnTo>
                <a:lnTo>
                  <a:pt x="250" y="18"/>
                </a:lnTo>
                <a:lnTo>
                  <a:pt x="269" y="14"/>
                </a:lnTo>
                <a:lnTo>
                  <a:pt x="288" y="10"/>
                </a:lnTo>
                <a:lnTo>
                  <a:pt x="309" y="8"/>
                </a:lnTo>
                <a:lnTo>
                  <a:pt x="330" y="4"/>
                </a:lnTo>
                <a:lnTo>
                  <a:pt x="355" y="2"/>
                </a:lnTo>
                <a:lnTo>
                  <a:pt x="378" y="2"/>
                </a:lnTo>
                <a:lnTo>
                  <a:pt x="405" y="0"/>
                </a:lnTo>
                <a:lnTo>
                  <a:pt x="432" y="0"/>
                </a:lnTo>
                <a:lnTo>
                  <a:pt x="461" y="0"/>
                </a:lnTo>
                <a:lnTo>
                  <a:pt x="490" y="0"/>
                </a:lnTo>
                <a:lnTo>
                  <a:pt x="520" y="2"/>
                </a:lnTo>
                <a:lnTo>
                  <a:pt x="551" y="4"/>
                </a:lnTo>
                <a:lnTo>
                  <a:pt x="584" y="4"/>
                </a:lnTo>
                <a:lnTo>
                  <a:pt x="616" y="8"/>
                </a:lnTo>
                <a:lnTo>
                  <a:pt x="651" y="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58"/>
          <p:cNvSpPr/>
          <p:nvPr/>
        </p:nvSpPr>
        <p:spPr>
          <a:xfrm>
            <a:off x="6647040" y="2805120"/>
            <a:ext cx="907920" cy="687240"/>
          </a:xfrm>
          <a:custGeom>
            <a:avLst/>
            <a:gdLst/>
            <a:ahLst/>
            <a:rect l="l" t="t" r="r" b="b"/>
            <a:pathLst>
              <a:path w="1144" h="865">
                <a:moveTo>
                  <a:pt x="898" y="604"/>
                </a:moveTo>
                <a:lnTo>
                  <a:pt x="890" y="621"/>
                </a:lnTo>
                <a:lnTo>
                  <a:pt x="885" y="639"/>
                </a:lnTo>
                <a:lnTo>
                  <a:pt x="877" y="656"/>
                </a:lnTo>
                <a:lnTo>
                  <a:pt x="871" y="671"/>
                </a:lnTo>
                <a:lnTo>
                  <a:pt x="865" y="687"/>
                </a:lnTo>
                <a:lnTo>
                  <a:pt x="860" y="702"/>
                </a:lnTo>
                <a:lnTo>
                  <a:pt x="852" y="716"/>
                </a:lnTo>
                <a:lnTo>
                  <a:pt x="846" y="729"/>
                </a:lnTo>
                <a:lnTo>
                  <a:pt x="842" y="742"/>
                </a:lnTo>
                <a:lnTo>
                  <a:pt x="837" y="754"/>
                </a:lnTo>
                <a:lnTo>
                  <a:pt x="831" y="765"/>
                </a:lnTo>
                <a:lnTo>
                  <a:pt x="825" y="777"/>
                </a:lnTo>
                <a:lnTo>
                  <a:pt x="821" y="787"/>
                </a:lnTo>
                <a:lnTo>
                  <a:pt x="816" y="796"/>
                </a:lnTo>
                <a:lnTo>
                  <a:pt x="812" y="806"/>
                </a:lnTo>
                <a:lnTo>
                  <a:pt x="808" y="813"/>
                </a:lnTo>
                <a:lnTo>
                  <a:pt x="802" y="823"/>
                </a:lnTo>
                <a:lnTo>
                  <a:pt x="798" y="829"/>
                </a:lnTo>
                <a:lnTo>
                  <a:pt x="794" y="836"/>
                </a:lnTo>
                <a:lnTo>
                  <a:pt x="791" y="842"/>
                </a:lnTo>
                <a:lnTo>
                  <a:pt x="787" y="846"/>
                </a:lnTo>
                <a:lnTo>
                  <a:pt x="785" y="852"/>
                </a:lnTo>
                <a:lnTo>
                  <a:pt x="781" y="856"/>
                </a:lnTo>
                <a:lnTo>
                  <a:pt x="779" y="858"/>
                </a:lnTo>
                <a:lnTo>
                  <a:pt x="775" y="861"/>
                </a:lnTo>
                <a:lnTo>
                  <a:pt x="773" y="863"/>
                </a:lnTo>
                <a:lnTo>
                  <a:pt x="771" y="863"/>
                </a:lnTo>
                <a:lnTo>
                  <a:pt x="770" y="865"/>
                </a:lnTo>
                <a:lnTo>
                  <a:pt x="768" y="865"/>
                </a:lnTo>
                <a:lnTo>
                  <a:pt x="766" y="863"/>
                </a:lnTo>
                <a:lnTo>
                  <a:pt x="764" y="863"/>
                </a:lnTo>
                <a:lnTo>
                  <a:pt x="762" y="861"/>
                </a:lnTo>
                <a:lnTo>
                  <a:pt x="754" y="856"/>
                </a:lnTo>
                <a:lnTo>
                  <a:pt x="746" y="848"/>
                </a:lnTo>
                <a:lnTo>
                  <a:pt x="741" y="840"/>
                </a:lnTo>
                <a:lnTo>
                  <a:pt x="735" y="831"/>
                </a:lnTo>
                <a:lnTo>
                  <a:pt x="731" y="821"/>
                </a:lnTo>
                <a:lnTo>
                  <a:pt x="727" y="810"/>
                </a:lnTo>
                <a:lnTo>
                  <a:pt x="725" y="798"/>
                </a:lnTo>
                <a:lnTo>
                  <a:pt x="725" y="785"/>
                </a:lnTo>
                <a:lnTo>
                  <a:pt x="725" y="775"/>
                </a:lnTo>
                <a:lnTo>
                  <a:pt x="725" y="767"/>
                </a:lnTo>
                <a:lnTo>
                  <a:pt x="727" y="758"/>
                </a:lnTo>
                <a:lnTo>
                  <a:pt x="727" y="748"/>
                </a:lnTo>
                <a:lnTo>
                  <a:pt x="729" y="737"/>
                </a:lnTo>
                <a:lnTo>
                  <a:pt x="731" y="723"/>
                </a:lnTo>
                <a:lnTo>
                  <a:pt x="733" y="712"/>
                </a:lnTo>
                <a:lnTo>
                  <a:pt x="737" y="696"/>
                </a:lnTo>
                <a:lnTo>
                  <a:pt x="739" y="683"/>
                </a:lnTo>
                <a:lnTo>
                  <a:pt x="743" y="666"/>
                </a:lnTo>
                <a:lnTo>
                  <a:pt x="746" y="650"/>
                </a:lnTo>
                <a:lnTo>
                  <a:pt x="752" y="631"/>
                </a:lnTo>
                <a:lnTo>
                  <a:pt x="756" y="614"/>
                </a:lnTo>
                <a:lnTo>
                  <a:pt x="762" y="595"/>
                </a:lnTo>
                <a:lnTo>
                  <a:pt x="768" y="574"/>
                </a:lnTo>
                <a:lnTo>
                  <a:pt x="775" y="552"/>
                </a:lnTo>
                <a:lnTo>
                  <a:pt x="781" y="531"/>
                </a:lnTo>
                <a:lnTo>
                  <a:pt x="787" y="510"/>
                </a:lnTo>
                <a:lnTo>
                  <a:pt x="793" y="491"/>
                </a:lnTo>
                <a:lnTo>
                  <a:pt x="798" y="470"/>
                </a:lnTo>
                <a:lnTo>
                  <a:pt x="802" y="451"/>
                </a:lnTo>
                <a:lnTo>
                  <a:pt x="806" y="433"/>
                </a:lnTo>
                <a:lnTo>
                  <a:pt x="810" y="416"/>
                </a:lnTo>
                <a:lnTo>
                  <a:pt x="814" y="399"/>
                </a:lnTo>
                <a:lnTo>
                  <a:pt x="816" y="382"/>
                </a:lnTo>
                <a:lnTo>
                  <a:pt x="817" y="366"/>
                </a:lnTo>
                <a:lnTo>
                  <a:pt x="819" y="351"/>
                </a:lnTo>
                <a:lnTo>
                  <a:pt x="821" y="335"/>
                </a:lnTo>
                <a:lnTo>
                  <a:pt x="823" y="322"/>
                </a:lnTo>
                <a:lnTo>
                  <a:pt x="823" y="309"/>
                </a:lnTo>
                <a:lnTo>
                  <a:pt x="823" y="295"/>
                </a:lnTo>
                <a:lnTo>
                  <a:pt x="823" y="284"/>
                </a:lnTo>
                <a:lnTo>
                  <a:pt x="823" y="270"/>
                </a:lnTo>
                <a:lnTo>
                  <a:pt x="823" y="261"/>
                </a:lnTo>
                <a:lnTo>
                  <a:pt x="823" y="249"/>
                </a:lnTo>
                <a:lnTo>
                  <a:pt x="823" y="240"/>
                </a:lnTo>
                <a:lnTo>
                  <a:pt x="823" y="230"/>
                </a:lnTo>
                <a:lnTo>
                  <a:pt x="823" y="222"/>
                </a:lnTo>
                <a:lnTo>
                  <a:pt x="823" y="213"/>
                </a:lnTo>
                <a:lnTo>
                  <a:pt x="821" y="205"/>
                </a:lnTo>
                <a:lnTo>
                  <a:pt x="821" y="199"/>
                </a:lnTo>
                <a:lnTo>
                  <a:pt x="821" y="192"/>
                </a:lnTo>
                <a:lnTo>
                  <a:pt x="819" y="186"/>
                </a:lnTo>
                <a:lnTo>
                  <a:pt x="817" y="182"/>
                </a:lnTo>
                <a:lnTo>
                  <a:pt x="817" y="176"/>
                </a:lnTo>
                <a:lnTo>
                  <a:pt x="816" y="172"/>
                </a:lnTo>
                <a:lnTo>
                  <a:pt x="814" y="170"/>
                </a:lnTo>
                <a:lnTo>
                  <a:pt x="812" y="167"/>
                </a:lnTo>
                <a:lnTo>
                  <a:pt x="806" y="163"/>
                </a:lnTo>
                <a:lnTo>
                  <a:pt x="800" y="159"/>
                </a:lnTo>
                <a:lnTo>
                  <a:pt x="794" y="157"/>
                </a:lnTo>
                <a:lnTo>
                  <a:pt x="787" y="155"/>
                </a:lnTo>
                <a:lnTo>
                  <a:pt x="779" y="155"/>
                </a:lnTo>
                <a:lnTo>
                  <a:pt x="773" y="155"/>
                </a:lnTo>
                <a:lnTo>
                  <a:pt x="768" y="155"/>
                </a:lnTo>
                <a:lnTo>
                  <a:pt x="762" y="155"/>
                </a:lnTo>
                <a:lnTo>
                  <a:pt x="756" y="155"/>
                </a:lnTo>
                <a:lnTo>
                  <a:pt x="750" y="155"/>
                </a:lnTo>
                <a:lnTo>
                  <a:pt x="741" y="155"/>
                </a:lnTo>
                <a:lnTo>
                  <a:pt x="729" y="157"/>
                </a:lnTo>
                <a:lnTo>
                  <a:pt x="718" y="159"/>
                </a:lnTo>
                <a:lnTo>
                  <a:pt x="704" y="161"/>
                </a:lnTo>
                <a:lnTo>
                  <a:pt x="687" y="163"/>
                </a:lnTo>
                <a:lnTo>
                  <a:pt x="670" y="165"/>
                </a:lnTo>
                <a:lnTo>
                  <a:pt x="651" y="168"/>
                </a:lnTo>
                <a:lnTo>
                  <a:pt x="629" y="172"/>
                </a:lnTo>
                <a:lnTo>
                  <a:pt x="606" y="176"/>
                </a:lnTo>
                <a:lnTo>
                  <a:pt x="581" y="182"/>
                </a:lnTo>
                <a:lnTo>
                  <a:pt x="556" y="186"/>
                </a:lnTo>
                <a:lnTo>
                  <a:pt x="528" y="192"/>
                </a:lnTo>
                <a:lnTo>
                  <a:pt x="499" y="199"/>
                </a:lnTo>
                <a:lnTo>
                  <a:pt x="468" y="207"/>
                </a:lnTo>
                <a:lnTo>
                  <a:pt x="434" y="213"/>
                </a:lnTo>
                <a:lnTo>
                  <a:pt x="399" y="218"/>
                </a:lnTo>
                <a:lnTo>
                  <a:pt x="366" y="224"/>
                </a:lnTo>
                <a:lnTo>
                  <a:pt x="336" y="228"/>
                </a:lnTo>
                <a:lnTo>
                  <a:pt x="305" y="232"/>
                </a:lnTo>
                <a:lnTo>
                  <a:pt x="274" y="234"/>
                </a:lnTo>
                <a:lnTo>
                  <a:pt x="244" y="236"/>
                </a:lnTo>
                <a:lnTo>
                  <a:pt x="215" y="238"/>
                </a:lnTo>
                <a:lnTo>
                  <a:pt x="186" y="238"/>
                </a:lnTo>
                <a:lnTo>
                  <a:pt x="159" y="236"/>
                </a:lnTo>
                <a:lnTo>
                  <a:pt x="130" y="236"/>
                </a:lnTo>
                <a:lnTo>
                  <a:pt x="103" y="234"/>
                </a:lnTo>
                <a:lnTo>
                  <a:pt x="77" y="230"/>
                </a:lnTo>
                <a:lnTo>
                  <a:pt x="52" y="228"/>
                </a:lnTo>
                <a:lnTo>
                  <a:pt x="25" y="222"/>
                </a:lnTo>
                <a:lnTo>
                  <a:pt x="0" y="218"/>
                </a:lnTo>
                <a:lnTo>
                  <a:pt x="0" y="186"/>
                </a:lnTo>
                <a:lnTo>
                  <a:pt x="0" y="155"/>
                </a:lnTo>
                <a:lnTo>
                  <a:pt x="21" y="155"/>
                </a:lnTo>
                <a:lnTo>
                  <a:pt x="42" y="153"/>
                </a:lnTo>
                <a:lnTo>
                  <a:pt x="65" y="153"/>
                </a:lnTo>
                <a:lnTo>
                  <a:pt x="88" y="151"/>
                </a:lnTo>
                <a:lnTo>
                  <a:pt x="111" y="151"/>
                </a:lnTo>
                <a:lnTo>
                  <a:pt x="134" y="149"/>
                </a:lnTo>
                <a:lnTo>
                  <a:pt x="159" y="145"/>
                </a:lnTo>
                <a:lnTo>
                  <a:pt x="184" y="144"/>
                </a:lnTo>
                <a:lnTo>
                  <a:pt x="211" y="140"/>
                </a:lnTo>
                <a:lnTo>
                  <a:pt x="236" y="136"/>
                </a:lnTo>
                <a:lnTo>
                  <a:pt x="263" y="132"/>
                </a:lnTo>
                <a:lnTo>
                  <a:pt x="290" y="128"/>
                </a:lnTo>
                <a:lnTo>
                  <a:pt x="318" y="122"/>
                </a:lnTo>
                <a:lnTo>
                  <a:pt x="347" y="117"/>
                </a:lnTo>
                <a:lnTo>
                  <a:pt x="376" y="111"/>
                </a:lnTo>
                <a:lnTo>
                  <a:pt x="407" y="103"/>
                </a:lnTo>
                <a:lnTo>
                  <a:pt x="436" y="97"/>
                </a:lnTo>
                <a:lnTo>
                  <a:pt x="462" y="94"/>
                </a:lnTo>
                <a:lnTo>
                  <a:pt x="489" y="88"/>
                </a:lnTo>
                <a:lnTo>
                  <a:pt x="514" y="84"/>
                </a:lnTo>
                <a:lnTo>
                  <a:pt x="539" y="78"/>
                </a:lnTo>
                <a:lnTo>
                  <a:pt x="560" y="74"/>
                </a:lnTo>
                <a:lnTo>
                  <a:pt x="581" y="69"/>
                </a:lnTo>
                <a:lnTo>
                  <a:pt x="603" y="65"/>
                </a:lnTo>
                <a:lnTo>
                  <a:pt x="622" y="59"/>
                </a:lnTo>
                <a:lnTo>
                  <a:pt x="639" y="55"/>
                </a:lnTo>
                <a:lnTo>
                  <a:pt x="656" y="49"/>
                </a:lnTo>
                <a:lnTo>
                  <a:pt x="672" y="46"/>
                </a:lnTo>
                <a:lnTo>
                  <a:pt x="687" y="40"/>
                </a:lnTo>
                <a:lnTo>
                  <a:pt x="700" y="36"/>
                </a:lnTo>
                <a:lnTo>
                  <a:pt x="714" y="30"/>
                </a:lnTo>
                <a:lnTo>
                  <a:pt x="725" y="26"/>
                </a:lnTo>
                <a:lnTo>
                  <a:pt x="743" y="21"/>
                </a:lnTo>
                <a:lnTo>
                  <a:pt x="760" y="17"/>
                </a:lnTo>
                <a:lnTo>
                  <a:pt x="775" y="13"/>
                </a:lnTo>
                <a:lnTo>
                  <a:pt x="791" y="7"/>
                </a:lnTo>
                <a:lnTo>
                  <a:pt x="806" y="5"/>
                </a:lnTo>
                <a:lnTo>
                  <a:pt x="819" y="2"/>
                </a:lnTo>
                <a:lnTo>
                  <a:pt x="835" y="2"/>
                </a:lnTo>
                <a:lnTo>
                  <a:pt x="848" y="0"/>
                </a:lnTo>
                <a:lnTo>
                  <a:pt x="854" y="3"/>
                </a:lnTo>
                <a:lnTo>
                  <a:pt x="860" y="5"/>
                </a:lnTo>
                <a:lnTo>
                  <a:pt x="865" y="9"/>
                </a:lnTo>
                <a:lnTo>
                  <a:pt x="873" y="13"/>
                </a:lnTo>
                <a:lnTo>
                  <a:pt x="881" y="17"/>
                </a:lnTo>
                <a:lnTo>
                  <a:pt x="890" y="21"/>
                </a:lnTo>
                <a:lnTo>
                  <a:pt x="900" y="25"/>
                </a:lnTo>
                <a:lnTo>
                  <a:pt x="912" y="30"/>
                </a:lnTo>
                <a:lnTo>
                  <a:pt x="923" y="36"/>
                </a:lnTo>
                <a:lnTo>
                  <a:pt x="935" y="42"/>
                </a:lnTo>
                <a:lnTo>
                  <a:pt x="948" y="49"/>
                </a:lnTo>
                <a:lnTo>
                  <a:pt x="961" y="55"/>
                </a:lnTo>
                <a:lnTo>
                  <a:pt x="975" y="63"/>
                </a:lnTo>
                <a:lnTo>
                  <a:pt x="990" y="73"/>
                </a:lnTo>
                <a:lnTo>
                  <a:pt x="1006" y="80"/>
                </a:lnTo>
                <a:lnTo>
                  <a:pt x="1021" y="90"/>
                </a:lnTo>
                <a:lnTo>
                  <a:pt x="1036" y="101"/>
                </a:lnTo>
                <a:lnTo>
                  <a:pt x="1050" y="113"/>
                </a:lnTo>
                <a:lnTo>
                  <a:pt x="1063" y="124"/>
                </a:lnTo>
                <a:lnTo>
                  <a:pt x="1077" y="134"/>
                </a:lnTo>
                <a:lnTo>
                  <a:pt x="1086" y="144"/>
                </a:lnTo>
                <a:lnTo>
                  <a:pt x="1098" y="153"/>
                </a:lnTo>
                <a:lnTo>
                  <a:pt x="1105" y="161"/>
                </a:lnTo>
                <a:lnTo>
                  <a:pt x="1113" y="168"/>
                </a:lnTo>
                <a:lnTo>
                  <a:pt x="1121" y="176"/>
                </a:lnTo>
                <a:lnTo>
                  <a:pt x="1127" y="184"/>
                </a:lnTo>
                <a:lnTo>
                  <a:pt x="1132" y="190"/>
                </a:lnTo>
                <a:lnTo>
                  <a:pt x="1136" y="197"/>
                </a:lnTo>
                <a:lnTo>
                  <a:pt x="1140" y="203"/>
                </a:lnTo>
                <a:lnTo>
                  <a:pt x="1142" y="209"/>
                </a:lnTo>
                <a:lnTo>
                  <a:pt x="1144" y="213"/>
                </a:lnTo>
                <a:lnTo>
                  <a:pt x="1144" y="218"/>
                </a:lnTo>
                <a:lnTo>
                  <a:pt x="1144" y="224"/>
                </a:lnTo>
                <a:lnTo>
                  <a:pt x="1142" y="228"/>
                </a:lnTo>
                <a:lnTo>
                  <a:pt x="1140" y="234"/>
                </a:lnTo>
                <a:lnTo>
                  <a:pt x="1138" y="238"/>
                </a:lnTo>
                <a:lnTo>
                  <a:pt x="1136" y="241"/>
                </a:lnTo>
                <a:lnTo>
                  <a:pt x="1134" y="247"/>
                </a:lnTo>
                <a:lnTo>
                  <a:pt x="1127" y="255"/>
                </a:lnTo>
                <a:lnTo>
                  <a:pt x="1117" y="264"/>
                </a:lnTo>
                <a:lnTo>
                  <a:pt x="1107" y="270"/>
                </a:lnTo>
                <a:lnTo>
                  <a:pt x="1096" y="278"/>
                </a:lnTo>
                <a:lnTo>
                  <a:pt x="1082" y="284"/>
                </a:lnTo>
                <a:lnTo>
                  <a:pt x="1079" y="284"/>
                </a:lnTo>
                <a:lnTo>
                  <a:pt x="1075" y="286"/>
                </a:lnTo>
                <a:lnTo>
                  <a:pt x="1071" y="289"/>
                </a:lnTo>
                <a:lnTo>
                  <a:pt x="1067" y="293"/>
                </a:lnTo>
                <a:lnTo>
                  <a:pt x="1063" y="297"/>
                </a:lnTo>
                <a:lnTo>
                  <a:pt x="1059" y="301"/>
                </a:lnTo>
                <a:lnTo>
                  <a:pt x="1054" y="305"/>
                </a:lnTo>
                <a:lnTo>
                  <a:pt x="1050" y="311"/>
                </a:lnTo>
                <a:lnTo>
                  <a:pt x="1044" y="318"/>
                </a:lnTo>
                <a:lnTo>
                  <a:pt x="1040" y="324"/>
                </a:lnTo>
                <a:lnTo>
                  <a:pt x="1034" y="332"/>
                </a:lnTo>
                <a:lnTo>
                  <a:pt x="1031" y="339"/>
                </a:lnTo>
                <a:lnTo>
                  <a:pt x="1025" y="347"/>
                </a:lnTo>
                <a:lnTo>
                  <a:pt x="1019" y="357"/>
                </a:lnTo>
                <a:lnTo>
                  <a:pt x="1013" y="366"/>
                </a:lnTo>
                <a:lnTo>
                  <a:pt x="1008" y="376"/>
                </a:lnTo>
                <a:lnTo>
                  <a:pt x="1002" y="385"/>
                </a:lnTo>
                <a:lnTo>
                  <a:pt x="996" y="397"/>
                </a:lnTo>
                <a:lnTo>
                  <a:pt x="990" y="408"/>
                </a:lnTo>
                <a:lnTo>
                  <a:pt x="983" y="420"/>
                </a:lnTo>
                <a:lnTo>
                  <a:pt x="977" y="433"/>
                </a:lnTo>
                <a:lnTo>
                  <a:pt x="971" y="447"/>
                </a:lnTo>
                <a:lnTo>
                  <a:pt x="963" y="460"/>
                </a:lnTo>
                <a:lnTo>
                  <a:pt x="958" y="474"/>
                </a:lnTo>
                <a:lnTo>
                  <a:pt x="950" y="489"/>
                </a:lnTo>
                <a:lnTo>
                  <a:pt x="942" y="504"/>
                </a:lnTo>
                <a:lnTo>
                  <a:pt x="935" y="520"/>
                </a:lnTo>
                <a:lnTo>
                  <a:pt x="929" y="535"/>
                </a:lnTo>
                <a:lnTo>
                  <a:pt x="913" y="568"/>
                </a:lnTo>
                <a:lnTo>
                  <a:pt x="898" y="6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59"/>
          <p:cNvSpPr/>
          <p:nvPr/>
        </p:nvSpPr>
        <p:spPr>
          <a:xfrm>
            <a:off x="6707160" y="3121200"/>
            <a:ext cx="466920" cy="144360"/>
          </a:xfrm>
          <a:custGeom>
            <a:avLst/>
            <a:gdLst/>
            <a:ahLst/>
            <a:rect l="l" t="t" r="r" b="b"/>
            <a:pathLst>
              <a:path w="589" h="180">
                <a:moveTo>
                  <a:pt x="0" y="102"/>
                </a:moveTo>
                <a:lnTo>
                  <a:pt x="5" y="102"/>
                </a:lnTo>
                <a:lnTo>
                  <a:pt x="15" y="102"/>
                </a:lnTo>
                <a:lnTo>
                  <a:pt x="23" y="102"/>
                </a:lnTo>
                <a:lnTo>
                  <a:pt x="32" y="100"/>
                </a:lnTo>
                <a:lnTo>
                  <a:pt x="44" y="98"/>
                </a:lnTo>
                <a:lnTo>
                  <a:pt x="55" y="96"/>
                </a:lnTo>
                <a:lnTo>
                  <a:pt x="67" y="94"/>
                </a:lnTo>
                <a:lnTo>
                  <a:pt x="80" y="92"/>
                </a:lnTo>
                <a:lnTo>
                  <a:pt x="94" y="88"/>
                </a:lnTo>
                <a:lnTo>
                  <a:pt x="109" y="84"/>
                </a:lnTo>
                <a:lnTo>
                  <a:pt x="123" y="80"/>
                </a:lnTo>
                <a:lnTo>
                  <a:pt x="138" y="75"/>
                </a:lnTo>
                <a:lnTo>
                  <a:pt x="155" y="71"/>
                </a:lnTo>
                <a:lnTo>
                  <a:pt x="172" y="65"/>
                </a:lnTo>
                <a:lnTo>
                  <a:pt x="190" y="57"/>
                </a:lnTo>
                <a:lnTo>
                  <a:pt x="207" y="52"/>
                </a:lnTo>
                <a:lnTo>
                  <a:pt x="226" y="44"/>
                </a:lnTo>
                <a:lnTo>
                  <a:pt x="243" y="36"/>
                </a:lnTo>
                <a:lnTo>
                  <a:pt x="261" y="31"/>
                </a:lnTo>
                <a:lnTo>
                  <a:pt x="280" y="27"/>
                </a:lnTo>
                <a:lnTo>
                  <a:pt x="297" y="21"/>
                </a:lnTo>
                <a:lnTo>
                  <a:pt x="314" y="17"/>
                </a:lnTo>
                <a:lnTo>
                  <a:pt x="330" y="13"/>
                </a:lnTo>
                <a:lnTo>
                  <a:pt x="347" y="9"/>
                </a:lnTo>
                <a:lnTo>
                  <a:pt x="382" y="6"/>
                </a:lnTo>
                <a:lnTo>
                  <a:pt x="414" y="2"/>
                </a:lnTo>
                <a:lnTo>
                  <a:pt x="445" y="0"/>
                </a:lnTo>
                <a:lnTo>
                  <a:pt x="478" y="0"/>
                </a:lnTo>
                <a:lnTo>
                  <a:pt x="491" y="0"/>
                </a:lnTo>
                <a:lnTo>
                  <a:pt x="504" y="0"/>
                </a:lnTo>
                <a:lnTo>
                  <a:pt x="516" y="0"/>
                </a:lnTo>
                <a:lnTo>
                  <a:pt x="528" y="2"/>
                </a:lnTo>
                <a:lnTo>
                  <a:pt x="537" y="4"/>
                </a:lnTo>
                <a:lnTo>
                  <a:pt x="545" y="6"/>
                </a:lnTo>
                <a:lnTo>
                  <a:pt x="554" y="8"/>
                </a:lnTo>
                <a:lnTo>
                  <a:pt x="562" y="9"/>
                </a:lnTo>
                <a:lnTo>
                  <a:pt x="568" y="11"/>
                </a:lnTo>
                <a:lnTo>
                  <a:pt x="574" y="15"/>
                </a:lnTo>
                <a:lnTo>
                  <a:pt x="577" y="17"/>
                </a:lnTo>
                <a:lnTo>
                  <a:pt x="581" y="21"/>
                </a:lnTo>
                <a:lnTo>
                  <a:pt x="585" y="25"/>
                </a:lnTo>
                <a:lnTo>
                  <a:pt x="587" y="29"/>
                </a:lnTo>
                <a:lnTo>
                  <a:pt x="589" y="32"/>
                </a:lnTo>
                <a:lnTo>
                  <a:pt x="589" y="38"/>
                </a:lnTo>
                <a:lnTo>
                  <a:pt x="589" y="40"/>
                </a:lnTo>
                <a:lnTo>
                  <a:pt x="587" y="42"/>
                </a:lnTo>
                <a:lnTo>
                  <a:pt x="587" y="46"/>
                </a:lnTo>
                <a:lnTo>
                  <a:pt x="585" y="48"/>
                </a:lnTo>
                <a:lnTo>
                  <a:pt x="583" y="50"/>
                </a:lnTo>
                <a:lnTo>
                  <a:pt x="579" y="52"/>
                </a:lnTo>
                <a:lnTo>
                  <a:pt x="577" y="55"/>
                </a:lnTo>
                <a:lnTo>
                  <a:pt x="574" y="57"/>
                </a:lnTo>
                <a:lnTo>
                  <a:pt x="568" y="59"/>
                </a:lnTo>
                <a:lnTo>
                  <a:pt x="564" y="63"/>
                </a:lnTo>
                <a:lnTo>
                  <a:pt x="558" y="65"/>
                </a:lnTo>
                <a:lnTo>
                  <a:pt x="552" y="67"/>
                </a:lnTo>
                <a:lnTo>
                  <a:pt x="541" y="73"/>
                </a:lnTo>
                <a:lnTo>
                  <a:pt x="526" y="79"/>
                </a:lnTo>
                <a:lnTo>
                  <a:pt x="510" y="84"/>
                </a:lnTo>
                <a:lnTo>
                  <a:pt x="491" y="88"/>
                </a:lnTo>
                <a:lnTo>
                  <a:pt x="470" y="96"/>
                </a:lnTo>
                <a:lnTo>
                  <a:pt x="449" y="102"/>
                </a:lnTo>
                <a:lnTo>
                  <a:pt x="426" y="107"/>
                </a:lnTo>
                <a:lnTo>
                  <a:pt x="399" y="113"/>
                </a:lnTo>
                <a:lnTo>
                  <a:pt x="372" y="121"/>
                </a:lnTo>
                <a:lnTo>
                  <a:pt x="343" y="128"/>
                </a:lnTo>
                <a:lnTo>
                  <a:pt x="313" y="134"/>
                </a:lnTo>
                <a:lnTo>
                  <a:pt x="286" y="142"/>
                </a:lnTo>
                <a:lnTo>
                  <a:pt x="257" y="148"/>
                </a:lnTo>
                <a:lnTo>
                  <a:pt x="230" y="151"/>
                </a:lnTo>
                <a:lnTo>
                  <a:pt x="205" y="157"/>
                </a:lnTo>
                <a:lnTo>
                  <a:pt x="180" y="161"/>
                </a:lnTo>
                <a:lnTo>
                  <a:pt x="157" y="165"/>
                </a:lnTo>
                <a:lnTo>
                  <a:pt x="134" y="169"/>
                </a:lnTo>
                <a:lnTo>
                  <a:pt x="113" y="171"/>
                </a:lnTo>
                <a:lnTo>
                  <a:pt x="92" y="173"/>
                </a:lnTo>
                <a:lnTo>
                  <a:pt x="75" y="175"/>
                </a:lnTo>
                <a:lnTo>
                  <a:pt x="55" y="176"/>
                </a:lnTo>
                <a:lnTo>
                  <a:pt x="40" y="178"/>
                </a:lnTo>
                <a:lnTo>
                  <a:pt x="25" y="178"/>
                </a:lnTo>
                <a:lnTo>
                  <a:pt x="11" y="178"/>
                </a:lnTo>
                <a:lnTo>
                  <a:pt x="0" y="180"/>
                </a:lnTo>
                <a:lnTo>
                  <a:pt x="0" y="140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60"/>
          <p:cNvSpPr/>
          <p:nvPr/>
        </p:nvSpPr>
        <p:spPr>
          <a:xfrm>
            <a:off x="6550200" y="2911320"/>
            <a:ext cx="263520" cy="668520"/>
          </a:xfrm>
          <a:custGeom>
            <a:avLst/>
            <a:gdLst/>
            <a:ahLst/>
            <a:rect l="l" t="t" r="r" b="b"/>
            <a:pathLst>
              <a:path w="332" h="843">
                <a:moveTo>
                  <a:pt x="50" y="123"/>
                </a:moveTo>
                <a:lnTo>
                  <a:pt x="42" y="113"/>
                </a:lnTo>
                <a:lnTo>
                  <a:pt x="36" y="104"/>
                </a:lnTo>
                <a:lnTo>
                  <a:pt x="31" y="96"/>
                </a:lnTo>
                <a:lnTo>
                  <a:pt x="27" y="86"/>
                </a:lnTo>
                <a:lnTo>
                  <a:pt x="21" y="79"/>
                </a:lnTo>
                <a:lnTo>
                  <a:pt x="17" y="71"/>
                </a:lnTo>
                <a:lnTo>
                  <a:pt x="11" y="56"/>
                </a:lnTo>
                <a:lnTo>
                  <a:pt x="6" y="42"/>
                </a:lnTo>
                <a:lnTo>
                  <a:pt x="2" y="29"/>
                </a:lnTo>
                <a:lnTo>
                  <a:pt x="0" y="17"/>
                </a:lnTo>
                <a:lnTo>
                  <a:pt x="0" y="8"/>
                </a:lnTo>
                <a:lnTo>
                  <a:pt x="0" y="6"/>
                </a:lnTo>
                <a:lnTo>
                  <a:pt x="4" y="4"/>
                </a:lnTo>
                <a:lnTo>
                  <a:pt x="8" y="2"/>
                </a:lnTo>
                <a:lnTo>
                  <a:pt x="13" y="0"/>
                </a:lnTo>
                <a:lnTo>
                  <a:pt x="21" y="0"/>
                </a:lnTo>
                <a:lnTo>
                  <a:pt x="33" y="0"/>
                </a:lnTo>
                <a:lnTo>
                  <a:pt x="44" y="0"/>
                </a:lnTo>
                <a:lnTo>
                  <a:pt x="58" y="0"/>
                </a:lnTo>
                <a:lnTo>
                  <a:pt x="73" y="0"/>
                </a:lnTo>
                <a:lnTo>
                  <a:pt x="90" y="2"/>
                </a:lnTo>
                <a:lnTo>
                  <a:pt x="100" y="2"/>
                </a:lnTo>
                <a:lnTo>
                  <a:pt x="109" y="4"/>
                </a:lnTo>
                <a:lnTo>
                  <a:pt x="119" y="4"/>
                </a:lnTo>
                <a:lnTo>
                  <a:pt x="131" y="6"/>
                </a:lnTo>
                <a:lnTo>
                  <a:pt x="140" y="8"/>
                </a:lnTo>
                <a:lnTo>
                  <a:pt x="154" y="8"/>
                </a:lnTo>
                <a:lnTo>
                  <a:pt x="165" y="10"/>
                </a:lnTo>
                <a:lnTo>
                  <a:pt x="178" y="11"/>
                </a:lnTo>
                <a:lnTo>
                  <a:pt x="192" y="13"/>
                </a:lnTo>
                <a:lnTo>
                  <a:pt x="205" y="15"/>
                </a:lnTo>
                <a:lnTo>
                  <a:pt x="219" y="19"/>
                </a:lnTo>
                <a:lnTo>
                  <a:pt x="234" y="21"/>
                </a:lnTo>
                <a:lnTo>
                  <a:pt x="257" y="226"/>
                </a:lnTo>
                <a:lnTo>
                  <a:pt x="282" y="432"/>
                </a:lnTo>
                <a:lnTo>
                  <a:pt x="307" y="637"/>
                </a:lnTo>
                <a:lnTo>
                  <a:pt x="332" y="843"/>
                </a:lnTo>
                <a:lnTo>
                  <a:pt x="282" y="843"/>
                </a:lnTo>
                <a:lnTo>
                  <a:pt x="234" y="843"/>
                </a:lnTo>
                <a:lnTo>
                  <a:pt x="226" y="802"/>
                </a:lnTo>
                <a:lnTo>
                  <a:pt x="219" y="762"/>
                </a:lnTo>
                <a:lnTo>
                  <a:pt x="211" y="724"/>
                </a:lnTo>
                <a:lnTo>
                  <a:pt x="203" y="687"/>
                </a:lnTo>
                <a:lnTo>
                  <a:pt x="196" y="653"/>
                </a:lnTo>
                <a:lnTo>
                  <a:pt x="188" y="616"/>
                </a:lnTo>
                <a:lnTo>
                  <a:pt x="180" y="583"/>
                </a:lnTo>
                <a:lnTo>
                  <a:pt x="175" y="551"/>
                </a:lnTo>
                <a:lnTo>
                  <a:pt x="167" y="520"/>
                </a:lnTo>
                <a:lnTo>
                  <a:pt x="161" y="489"/>
                </a:lnTo>
                <a:lnTo>
                  <a:pt x="154" y="461"/>
                </a:lnTo>
                <a:lnTo>
                  <a:pt x="148" y="434"/>
                </a:lnTo>
                <a:lnTo>
                  <a:pt x="142" y="407"/>
                </a:lnTo>
                <a:lnTo>
                  <a:pt x="134" y="382"/>
                </a:lnTo>
                <a:lnTo>
                  <a:pt x="129" y="357"/>
                </a:lnTo>
                <a:lnTo>
                  <a:pt x="123" y="334"/>
                </a:lnTo>
                <a:lnTo>
                  <a:pt x="117" y="311"/>
                </a:lnTo>
                <a:lnTo>
                  <a:pt x="111" y="292"/>
                </a:lnTo>
                <a:lnTo>
                  <a:pt x="106" y="271"/>
                </a:lnTo>
                <a:lnTo>
                  <a:pt x="102" y="253"/>
                </a:lnTo>
                <a:lnTo>
                  <a:pt x="96" y="236"/>
                </a:lnTo>
                <a:lnTo>
                  <a:pt x="90" y="219"/>
                </a:lnTo>
                <a:lnTo>
                  <a:pt x="86" y="205"/>
                </a:lnTo>
                <a:lnTo>
                  <a:pt x="81" y="190"/>
                </a:lnTo>
                <a:lnTo>
                  <a:pt x="77" y="178"/>
                </a:lnTo>
                <a:lnTo>
                  <a:pt x="73" y="167"/>
                </a:lnTo>
                <a:lnTo>
                  <a:pt x="67" y="157"/>
                </a:lnTo>
                <a:lnTo>
                  <a:pt x="63" y="148"/>
                </a:lnTo>
                <a:lnTo>
                  <a:pt x="59" y="140"/>
                </a:lnTo>
                <a:lnTo>
                  <a:pt x="56" y="132"/>
                </a:lnTo>
                <a:lnTo>
                  <a:pt x="52" y="127"/>
                </a:lnTo>
                <a:lnTo>
                  <a:pt x="50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61"/>
          <p:cNvSpPr/>
          <p:nvPr/>
        </p:nvSpPr>
        <p:spPr>
          <a:xfrm>
            <a:off x="6180120" y="3570120"/>
            <a:ext cx="281160" cy="368640"/>
          </a:xfrm>
          <a:custGeom>
            <a:avLst/>
            <a:gdLst/>
            <a:ahLst/>
            <a:rect l="l" t="t" r="r" b="b"/>
            <a:pathLst>
              <a:path w="355" h="465">
                <a:moveTo>
                  <a:pt x="209" y="334"/>
                </a:moveTo>
                <a:lnTo>
                  <a:pt x="190" y="353"/>
                </a:lnTo>
                <a:lnTo>
                  <a:pt x="172" y="371"/>
                </a:lnTo>
                <a:lnTo>
                  <a:pt x="155" y="386"/>
                </a:lnTo>
                <a:lnTo>
                  <a:pt x="140" y="399"/>
                </a:lnTo>
                <a:lnTo>
                  <a:pt x="124" y="413"/>
                </a:lnTo>
                <a:lnTo>
                  <a:pt x="109" y="424"/>
                </a:lnTo>
                <a:lnTo>
                  <a:pt x="94" y="434"/>
                </a:lnTo>
                <a:lnTo>
                  <a:pt x="80" y="442"/>
                </a:lnTo>
                <a:lnTo>
                  <a:pt x="67" y="449"/>
                </a:lnTo>
                <a:lnTo>
                  <a:pt x="55" y="455"/>
                </a:lnTo>
                <a:lnTo>
                  <a:pt x="44" y="459"/>
                </a:lnTo>
                <a:lnTo>
                  <a:pt x="34" y="463"/>
                </a:lnTo>
                <a:lnTo>
                  <a:pt x="23" y="465"/>
                </a:lnTo>
                <a:lnTo>
                  <a:pt x="15" y="465"/>
                </a:lnTo>
                <a:lnTo>
                  <a:pt x="5" y="465"/>
                </a:lnTo>
                <a:lnTo>
                  <a:pt x="0" y="463"/>
                </a:lnTo>
                <a:lnTo>
                  <a:pt x="13" y="436"/>
                </a:lnTo>
                <a:lnTo>
                  <a:pt x="25" y="413"/>
                </a:lnTo>
                <a:lnTo>
                  <a:pt x="38" y="388"/>
                </a:lnTo>
                <a:lnTo>
                  <a:pt x="49" y="367"/>
                </a:lnTo>
                <a:lnTo>
                  <a:pt x="61" y="344"/>
                </a:lnTo>
                <a:lnTo>
                  <a:pt x="71" y="325"/>
                </a:lnTo>
                <a:lnTo>
                  <a:pt x="82" y="305"/>
                </a:lnTo>
                <a:lnTo>
                  <a:pt x="90" y="288"/>
                </a:lnTo>
                <a:lnTo>
                  <a:pt x="99" y="271"/>
                </a:lnTo>
                <a:lnTo>
                  <a:pt x="109" y="255"/>
                </a:lnTo>
                <a:lnTo>
                  <a:pt x="117" y="240"/>
                </a:lnTo>
                <a:lnTo>
                  <a:pt x="122" y="227"/>
                </a:lnTo>
                <a:lnTo>
                  <a:pt x="130" y="213"/>
                </a:lnTo>
                <a:lnTo>
                  <a:pt x="136" y="202"/>
                </a:lnTo>
                <a:lnTo>
                  <a:pt x="142" y="190"/>
                </a:lnTo>
                <a:lnTo>
                  <a:pt x="147" y="181"/>
                </a:lnTo>
                <a:lnTo>
                  <a:pt x="151" y="171"/>
                </a:lnTo>
                <a:lnTo>
                  <a:pt x="155" y="161"/>
                </a:lnTo>
                <a:lnTo>
                  <a:pt x="157" y="152"/>
                </a:lnTo>
                <a:lnTo>
                  <a:pt x="161" y="144"/>
                </a:lnTo>
                <a:lnTo>
                  <a:pt x="163" y="135"/>
                </a:lnTo>
                <a:lnTo>
                  <a:pt x="165" y="127"/>
                </a:lnTo>
                <a:lnTo>
                  <a:pt x="167" y="111"/>
                </a:lnTo>
                <a:lnTo>
                  <a:pt x="167" y="96"/>
                </a:lnTo>
                <a:lnTo>
                  <a:pt x="165" y="81"/>
                </a:lnTo>
                <a:lnTo>
                  <a:pt x="163" y="65"/>
                </a:lnTo>
                <a:lnTo>
                  <a:pt x="159" y="52"/>
                </a:lnTo>
                <a:lnTo>
                  <a:pt x="155" y="42"/>
                </a:lnTo>
                <a:lnTo>
                  <a:pt x="151" y="35"/>
                </a:lnTo>
                <a:lnTo>
                  <a:pt x="151" y="27"/>
                </a:lnTo>
                <a:lnTo>
                  <a:pt x="151" y="21"/>
                </a:lnTo>
                <a:lnTo>
                  <a:pt x="153" y="16"/>
                </a:lnTo>
                <a:lnTo>
                  <a:pt x="155" y="14"/>
                </a:lnTo>
                <a:lnTo>
                  <a:pt x="157" y="10"/>
                </a:lnTo>
                <a:lnTo>
                  <a:pt x="159" y="8"/>
                </a:lnTo>
                <a:lnTo>
                  <a:pt x="163" y="6"/>
                </a:lnTo>
                <a:lnTo>
                  <a:pt x="167" y="2"/>
                </a:lnTo>
                <a:lnTo>
                  <a:pt x="170" y="0"/>
                </a:lnTo>
                <a:lnTo>
                  <a:pt x="180" y="0"/>
                </a:lnTo>
                <a:lnTo>
                  <a:pt x="192" y="2"/>
                </a:lnTo>
                <a:lnTo>
                  <a:pt x="203" y="6"/>
                </a:lnTo>
                <a:lnTo>
                  <a:pt x="216" y="10"/>
                </a:lnTo>
                <a:lnTo>
                  <a:pt x="232" y="16"/>
                </a:lnTo>
                <a:lnTo>
                  <a:pt x="247" y="21"/>
                </a:lnTo>
                <a:lnTo>
                  <a:pt x="264" y="29"/>
                </a:lnTo>
                <a:lnTo>
                  <a:pt x="282" y="39"/>
                </a:lnTo>
                <a:lnTo>
                  <a:pt x="291" y="44"/>
                </a:lnTo>
                <a:lnTo>
                  <a:pt x="299" y="48"/>
                </a:lnTo>
                <a:lnTo>
                  <a:pt x="307" y="54"/>
                </a:lnTo>
                <a:lnTo>
                  <a:pt x="314" y="58"/>
                </a:lnTo>
                <a:lnTo>
                  <a:pt x="320" y="64"/>
                </a:lnTo>
                <a:lnTo>
                  <a:pt x="326" y="69"/>
                </a:lnTo>
                <a:lnTo>
                  <a:pt x="332" y="73"/>
                </a:lnTo>
                <a:lnTo>
                  <a:pt x="337" y="79"/>
                </a:lnTo>
                <a:lnTo>
                  <a:pt x="341" y="85"/>
                </a:lnTo>
                <a:lnTo>
                  <a:pt x="345" y="90"/>
                </a:lnTo>
                <a:lnTo>
                  <a:pt x="349" y="96"/>
                </a:lnTo>
                <a:lnTo>
                  <a:pt x="351" y="102"/>
                </a:lnTo>
                <a:lnTo>
                  <a:pt x="353" y="108"/>
                </a:lnTo>
                <a:lnTo>
                  <a:pt x="355" y="115"/>
                </a:lnTo>
                <a:lnTo>
                  <a:pt x="355" y="121"/>
                </a:lnTo>
                <a:lnTo>
                  <a:pt x="355" y="129"/>
                </a:lnTo>
                <a:lnTo>
                  <a:pt x="355" y="136"/>
                </a:lnTo>
                <a:lnTo>
                  <a:pt x="353" y="144"/>
                </a:lnTo>
                <a:lnTo>
                  <a:pt x="351" y="154"/>
                </a:lnTo>
                <a:lnTo>
                  <a:pt x="345" y="163"/>
                </a:lnTo>
                <a:lnTo>
                  <a:pt x="341" y="173"/>
                </a:lnTo>
                <a:lnTo>
                  <a:pt x="334" y="183"/>
                </a:lnTo>
                <a:lnTo>
                  <a:pt x="326" y="194"/>
                </a:lnTo>
                <a:lnTo>
                  <a:pt x="318" y="207"/>
                </a:lnTo>
                <a:lnTo>
                  <a:pt x="309" y="221"/>
                </a:lnTo>
                <a:lnTo>
                  <a:pt x="297" y="234"/>
                </a:lnTo>
                <a:lnTo>
                  <a:pt x="286" y="248"/>
                </a:lnTo>
                <a:lnTo>
                  <a:pt x="272" y="263"/>
                </a:lnTo>
                <a:lnTo>
                  <a:pt x="257" y="280"/>
                </a:lnTo>
                <a:lnTo>
                  <a:pt x="241" y="298"/>
                </a:lnTo>
                <a:lnTo>
                  <a:pt x="226" y="315"/>
                </a:lnTo>
                <a:lnTo>
                  <a:pt x="209" y="3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62"/>
          <p:cNvSpPr/>
          <p:nvPr/>
        </p:nvSpPr>
        <p:spPr>
          <a:xfrm>
            <a:off x="6078600" y="3906720"/>
            <a:ext cx="315720" cy="193680"/>
          </a:xfrm>
          <a:custGeom>
            <a:avLst/>
            <a:gdLst/>
            <a:ahLst/>
            <a:rect l="l" t="t" r="r" b="b"/>
            <a:pathLst>
              <a:path w="397" h="244">
                <a:moveTo>
                  <a:pt x="4" y="0"/>
                </a:moveTo>
                <a:lnTo>
                  <a:pt x="34" y="0"/>
                </a:lnTo>
                <a:lnTo>
                  <a:pt x="65" y="0"/>
                </a:lnTo>
                <a:lnTo>
                  <a:pt x="94" y="2"/>
                </a:lnTo>
                <a:lnTo>
                  <a:pt x="121" y="4"/>
                </a:lnTo>
                <a:lnTo>
                  <a:pt x="146" y="6"/>
                </a:lnTo>
                <a:lnTo>
                  <a:pt x="171" y="10"/>
                </a:lnTo>
                <a:lnTo>
                  <a:pt x="194" y="14"/>
                </a:lnTo>
                <a:lnTo>
                  <a:pt x="215" y="18"/>
                </a:lnTo>
                <a:lnTo>
                  <a:pt x="236" y="21"/>
                </a:lnTo>
                <a:lnTo>
                  <a:pt x="253" y="27"/>
                </a:lnTo>
                <a:lnTo>
                  <a:pt x="271" y="33"/>
                </a:lnTo>
                <a:lnTo>
                  <a:pt x="286" y="37"/>
                </a:lnTo>
                <a:lnTo>
                  <a:pt x="301" y="45"/>
                </a:lnTo>
                <a:lnTo>
                  <a:pt x="313" y="50"/>
                </a:lnTo>
                <a:lnTo>
                  <a:pt x="324" y="58"/>
                </a:lnTo>
                <a:lnTo>
                  <a:pt x="336" y="64"/>
                </a:lnTo>
                <a:lnTo>
                  <a:pt x="347" y="83"/>
                </a:lnTo>
                <a:lnTo>
                  <a:pt x="361" y="100"/>
                </a:lnTo>
                <a:lnTo>
                  <a:pt x="370" y="117"/>
                </a:lnTo>
                <a:lnTo>
                  <a:pt x="380" y="133"/>
                </a:lnTo>
                <a:lnTo>
                  <a:pt x="386" y="148"/>
                </a:lnTo>
                <a:lnTo>
                  <a:pt x="390" y="156"/>
                </a:lnTo>
                <a:lnTo>
                  <a:pt x="391" y="164"/>
                </a:lnTo>
                <a:lnTo>
                  <a:pt x="393" y="171"/>
                </a:lnTo>
                <a:lnTo>
                  <a:pt x="395" y="179"/>
                </a:lnTo>
                <a:lnTo>
                  <a:pt x="395" y="187"/>
                </a:lnTo>
                <a:lnTo>
                  <a:pt x="397" y="192"/>
                </a:lnTo>
                <a:lnTo>
                  <a:pt x="395" y="200"/>
                </a:lnTo>
                <a:lnTo>
                  <a:pt x="395" y="206"/>
                </a:lnTo>
                <a:lnTo>
                  <a:pt x="395" y="212"/>
                </a:lnTo>
                <a:lnTo>
                  <a:pt x="393" y="217"/>
                </a:lnTo>
                <a:lnTo>
                  <a:pt x="391" y="221"/>
                </a:lnTo>
                <a:lnTo>
                  <a:pt x="390" y="227"/>
                </a:lnTo>
                <a:lnTo>
                  <a:pt x="388" y="229"/>
                </a:lnTo>
                <a:lnTo>
                  <a:pt x="386" y="233"/>
                </a:lnTo>
                <a:lnTo>
                  <a:pt x="378" y="238"/>
                </a:lnTo>
                <a:lnTo>
                  <a:pt x="374" y="240"/>
                </a:lnTo>
                <a:lnTo>
                  <a:pt x="370" y="242"/>
                </a:lnTo>
                <a:lnTo>
                  <a:pt x="365" y="242"/>
                </a:lnTo>
                <a:lnTo>
                  <a:pt x="361" y="244"/>
                </a:lnTo>
                <a:lnTo>
                  <a:pt x="353" y="244"/>
                </a:lnTo>
                <a:lnTo>
                  <a:pt x="347" y="244"/>
                </a:lnTo>
                <a:lnTo>
                  <a:pt x="340" y="244"/>
                </a:lnTo>
                <a:lnTo>
                  <a:pt x="332" y="242"/>
                </a:lnTo>
                <a:lnTo>
                  <a:pt x="324" y="240"/>
                </a:lnTo>
                <a:lnTo>
                  <a:pt x="315" y="236"/>
                </a:lnTo>
                <a:lnTo>
                  <a:pt x="305" y="233"/>
                </a:lnTo>
                <a:lnTo>
                  <a:pt x="294" y="229"/>
                </a:lnTo>
                <a:lnTo>
                  <a:pt x="282" y="223"/>
                </a:lnTo>
                <a:lnTo>
                  <a:pt x="271" y="217"/>
                </a:lnTo>
                <a:lnTo>
                  <a:pt x="257" y="210"/>
                </a:lnTo>
                <a:lnTo>
                  <a:pt x="244" y="202"/>
                </a:lnTo>
                <a:lnTo>
                  <a:pt x="228" y="194"/>
                </a:lnTo>
                <a:lnTo>
                  <a:pt x="211" y="185"/>
                </a:lnTo>
                <a:lnTo>
                  <a:pt x="196" y="175"/>
                </a:lnTo>
                <a:lnTo>
                  <a:pt x="176" y="165"/>
                </a:lnTo>
                <a:lnTo>
                  <a:pt x="157" y="154"/>
                </a:lnTo>
                <a:lnTo>
                  <a:pt x="138" y="142"/>
                </a:lnTo>
                <a:lnTo>
                  <a:pt x="119" y="129"/>
                </a:lnTo>
                <a:lnTo>
                  <a:pt x="100" y="117"/>
                </a:lnTo>
                <a:lnTo>
                  <a:pt x="84" y="108"/>
                </a:lnTo>
                <a:lnTo>
                  <a:pt x="69" y="98"/>
                </a:lnTo>
                <a:lnTo>
                  <a:pt x="56" y="87"/>
                </a:lnTo>
                <a:lnTo>
                  <a:pt x="44" y="79"/>
                </a:lnTo>
                <a:lnTo>
                  <a:pt x="34" y="69"/>
                </a:lnTo>
                <a:lnTo>
                  <a:pt x="25" y="60"/>
                </a:lnTo>
                <a:lnTo>
                  <a:pt x="17" y="52"/>
                </a:lnTo>
                <a:lnTo>
                  <a:pt x="11" y="45"/>
                </a:lnTo>
                <a:lnTo>
                  <a:pt x="8" y="37"/>
                </a:lnTo>
                <a:lnTo>
                  <a:pt x="4" y="29"/>
                </a:lnTo>
                <a:lnTo>
                  <a:pt x="2" y="21"/>
                </a:lnTo>
                <a:lnTo>
                  <a:pt x="0" y="14"/>
                </a:lnTo>
                <a:lnTo>
                  <a:pt x="2" y="8"/>
                </a:lnTo>
                <a:lnTo>
                  <a:pt x="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3"/>
          <p:cNvSpPr/>
          <p:nvPr/>
        </p:nvSpPr>
        <p:spPr>
          <a:xfrm>
            <a:off x="5961240" y="3660840"/>
            <a:ext cx="142560" cy="1255680"/>
          </a:xfrm>
          <a:custGeom>
            <a:avLst/>
            <a:gdLst/>
            <a:ahLst/>
            <a:rect l="l" t="t" r="r" b="b"/>
            <a:pathLst>
              <a:path w="181" h="1582">
                <a:moveTo>
                  <a:pt x="177" y="271"/>
                </a:moveTo>
                <a:lnTo>
                  <a:pt x="177" y="288"/>
                </a:lnTo>
                <a:lnTo>
                  <a:pt x="177" y="307"/>
                </a:lnTo>
                <a:lnTo>
                  <a:pt x="177" y="329"/>
                </a:lnTo>
                <a:lnTo>
                  <a:pt x="177" y="350"/>
                </a:lnTo>
                <a:lnTo>
                  <a:pt x="177" y="373"/>
                </a:lnTo>
                <a:lnTo>
                  <a:pt x="177" y="398"/>
                </a:lnTo>
                <a:lnTo>
                  <a:pt x="177" y="425"/>
                </a:lnTo>
                <a:lnTo>
                  <a:pt x="177" y="451"/>
                </a:lnTo>
                <a:lnTo>
                  <a:pt x="177" y="480"/>
                </a:lnTo>
                <a:lnTo>
                  <a:pt x="177" y="511"/>
                </a:lnTo>
                <a:lnTo>
                  <a:pt x="177" y="544"/>
                </a:lnTo>
                <a:lnTo>
                  <a:pt x="177" y="576"/>
                </a:lnTo>
                <a:lnTo>
                  <a:pt x="177" y="611"/>
                </a:lnTo>
                <a:lnTo>
                  <a:pt x="177" y="645"/>
                </a:lnTo>
                <a:lnTo>
                  <a:pt x="177" y="682"/>
                </a:lnTo>
                <a:lnTo>
                  <a:pt x="177" y="720"/>
                </a:lnTo>
                <a:lnTo>
                  <a:pt x="177" y="797"/>
                </a:lnTo>
                <a:lnTo>
                  <a:pt x="175" y="872"/>
                </a:lnTo>
                <a:lnTo>
                  <a:pt x="173" y="947"/>
                </a:lnTo>
                <a:lnTo>
                  <a:pt x="169" y="1020"/>
                </a:lnTo>
                <a:lnTo>
                  <a:pt x="165" y="1093"/>
                </a:lnTo>
                <a:lnTo>
                  <a:pt x="161" y="1165"/>
                </a:lnTo>
                <a:lnTo>
                  <a:pt x="154" y="1311"/>
                </a:lnTo>
                <a:lnTo>
                  <a:pt x="150" y="1331"/>
                </a:lnTo>
                <a:lnTo>
                  <a:pt x="148" y="1348"/>
                </a:lnTo>
                <a:lnTo>
                  <a:pt x="146" y="1365"/>
                </a:lnTo>
                <a:lnTo>
                  <a:pt x="144" y="1382"/>
                </a:lnTo>
                <a:lnTo>
                  <a:pt x="142" y="1398"/>
                </a:lnTo>
                <a:lnTo>
                  <a:pt x="138" y="1413"/>
                </a:lnTo>
                <a:lnTo>
                  <a:pt x="136" y="1428"/>
                </a:lnTo>
                <a:lnTo>
                  <a:pt x="135" y="1442"/>
                </a:lnTo>
                <a:lnTo>
                  <a:pt x="133" y="1455"/>
                </a:lnTo>
                <a:lnTo>
                  <a:pt x="131" y="1467"/>
                </a:lnTo>
                <a:lnTo>
                  <a:pt x="127" y="1478"/>
                </a:lnTo>
                <a:lnTo>
                  <a:pt x="125" y="1490"/>
                </a:lnTo>
                <a:lnTo>
                  <a:pt x="123" y="1499"/>
                </a:lnTo>
                <a:lnTo>
                  <a:pt x="121" y="1511"/>
                </a:lnTo>
                <a:lnTo>
                  <a:pt x="119" y="1519"/>
                </a:lnTo>
                <a:lnTo>
                  <a:pt x="115" y="1528"/>
                </a:lnTo>
                <a:lnTo>
                  <a:pt x="113" y="1536"/>
                </a:lnTo>
                <a:lnTo>
                  <a:pt x="111" y="1542"/>
                </a:lnTo>
                <a:lnTo>
                  <a:pt x="110" y="1549"/>
                </a:lnTo>
                <a:lnTo>
                  <a:pt x="108" y="1555"/>
                </a:lnTo>
                <a:lnTo>
                  <a:pt x="104" y="1561"/>
                </a:lnTo>
                <a:lnTo>
                  <a:pt x="102" y="1565"/>
                </a:lnTo>
                <a:lnTo>
                  <a:pt x="100" y="1569"/>
                </a:lnTo>
                <a:lnTo>
                  <a:pt x="98" y="1572"/>
                </a:lnTo>
                <a:lnTo>
                  <a:pt x="94" y="1576"/>
                </a:lnTo>
                <a:lnTo>
                  <a:pt x="92" y="1578"/>
                </a:lnTo>
                <a:lnTo>
                  <a:pt x="90" y="1580"/>
                </a:lnTo>
                <a:lnTo>
                  <a:pt x="88" y="1582"/>
                </a:lnTo>
                <a:lnTo>
                  <a:pt x="87" y="1582"/>
                </a:lnTo>
                <a:lnTo>
                  <a:pt x="83" y="1582"/>
                </a:lnTo>
                <a:lnTo>
                  <a:pt x="81" y="1582"/>
                </a:lnTo>
                <a:lnTo>
                  <a:pt x="79" y="1580"/>
                </a:lnTo>
                <a:lnTo>
                  <a:pt x="71" y="1570"/>
                </a:lnTo>
                <a:lnTo>
                  <a:pt x="64" y="1559"/>
                </a:lnTo>
                <a:lnTo>
                  <a:pt x="56" y="1546"/>
                </a:lnTo>
                <a:lnTo>
                  <a:pt x="50" y="1532"/>
                </a:lnTo>
                <a:lnTo>
                  <a:pt x="44" y="1517"/>
                </a:lnTo>
                <a:lnTo>
                  <a:pt x="39" y="1501"/>
                </a:lnTo>
                <a:lnTo>
                  <a:pt x="35" y="1484"/>
                </a:lnTo>
                <a:lnTo>
                  <a:pt x="31" y="1465"/>
                </a:lnTo>
                <a:lnTo>
                  <a:pt x="25" y="1450"/>
                </a:lnTo>
                <a:lnTo>
                  <a:pt x="21" y="1436"/>
                </a:lnTo>
                <a:lnTo>
                  <a:pt x="17" y="1423"/>
                </a:lnTo>
                <a:lnTo>
                  <a:pt x="14" y="1409"/>
                </a:lnTo>
                <a:lnTo>
                  <a:pt x="10" y="1400"/>
                </a:lnTo>
                <a:lnTo>
                  <a:pt x="8" y="1388"/>
                </a:lnTo>
                <a:lnTo>
                  <a:pt x="6" y="1384"/>
                </a:lnTo>
                <a:lnTo>
                  <a:pt x="6" y="1380"/>
                </a:lnTo>
                <a:lnTo>
                  <a:pt x="6" y="1377"/>
                </a:lnTo>
                <a:lnTo>
                  <a:pt x="6" y="1375"/>
                </a:lnTo>
                <a:lnTo>
                  <a:pt x="4" y="1371"/>
                </a:lnTo>
                <a:lnTo>
                  <a:pt x="2" y="1367"/>
                </a:lnTo>
                <a:lnTo>
                  <a:pt x="0" y="1361"/>
                </a:lnTo>
                <a:lnTo>
                  <a:pt x="0" y="1355"/>
                </a:lnTo>
                <a:lnTo>
                  <a:pt x="0" y="1348"/>
                </a:lnTo>
                <a:lnTo>
                  <a:pt x="0" y="1338"/>
                </a:lnTo>
                <a:lnTo>
                  <a:pt x="2" y="1329"/>
                </a:lnTo>
                <a:lnTo>
                  <a:pt x="2" y="1317"/>
                </a:lnTo>
                <a:lnTo>
                  <a:pt x="4" y="1304"/>
                </a:lnTo>
                <a:lnTo>
                  <a:pt x="6" y="1290"/>
                </a:lnTo>
                <a:lnTo>
                  <a:pt x="6" y="1275"/>
                </a:lnTo>
                <a:lnTo>
                  <a:pt x="8" y="1260"/>
                </a:lnTo>
                <a:lnTo>
                  <a:pt x="12" y="1242"/>
                </a:lnTo>
                <a:lnTo>
                  <a:pt x="14" y="1223"/>
                </a:lnTo>
                <a:lnTo>
                  <a:pt x="16" y="1204"/>
                </a:lnTo>
                <a:lnTo>
                  <a:pt x="17" y="1183"/>
                </a:lnTo>
                <a:lnTo>
                  <a:pt x="19" y="1160"/>
                </a:lnTo>
                <a:lnTo>
                  <a:pt x="21" y="1137"/>
                </a:lnTo>
                <a:lnTo>
                  <a:pt x="25" y="1112"/>
                </a:lnTo>
                <a:lnTo>
                  <a:pt x="27" y="1087"/>
                </a:lnTo>
                <a:lnTo>
                  <a:pt x="29" y="1058"/>
                </a:lnTo>
                <a:lnTo>
                  <a:pt x="31" y="1031"/>
                </a:lnTo>
                <a:lnTo>
                  <a:pt x="33" y="1000"/>
                </a:lnTo>
                <a:lnTo>
                  <a:pt x="37" y="970"/>
                </a:lnTo>
                <a:lnTo>
                  <a:pt x="39" y="939"/>
                </a:lnTo>
                <a:lnTo>
                  <a:pt x="40" y="906"/>
                </a:lnTo>
                <a:lnTo>
                  <a:pt x="42" y="872"/>
                </a:lnTo>
                <a:lnTo>
                  <a:pt x="46" y="835"/>
                </a:lnTo>
                <a:lnTo>
                  <a:pt x="48" y="799"/>
                </a:lnTo>
                <a:lnTo>
                  <a:pt x="50" y="760"/>
                </a:lnTo>
                <a:lnTo>
                  <a:pt x="52" y="722"/>
                </a:lnTo>
                <a:lnTo>
                  <a:pt x="54" y="682"/>
                </a:lnTo>
                <a:lnTo>
                  <a:pt x="56" y="641"/>
                </a:lnTo>
                <a:lnTo>
                  <a:pt x="58" y="603"/>
                </a:lnTo>
                <a:lnTo>
                  <a:pt x="60" y="567"/>
                </a:lnTo>
                <a:lnTo>
                  <a:pt x="62" y="530"/>
                </a:lnTo>
                <a:lnTo>
                  <a:pt x="62" y="496"/>
                </a:lnTo>
                <a:lnTo>
                  <a:pt x="64" y="463"/>
                </a:lnTo>
                <a:lnTo>
                  <a:pt x="64" y="432"/>
                </a:lnTo>
                <a:lnTo>
                  <a:pt x="64" y="401"/>
                </a:lnTo>
                <a:lnTo>
                  <a:pt x="64" y="375"/>
                </a:lnTo>
                <a:lnTo>
                  <a:pt x="64" y="348"/>
                </a:lnTo>
                <a:lnTo>
                  <a:pt x="62" y="323"/>
                </a:lnTo>
                <a:lnTo>
                  <a:pt x="62" y="300"/>
                </a:lnTo>
                <a:lnTo>
                  <a:pt x="60" y="277"/>
                </a:lnTo>
                <a:lnTo>
                  <a:pt x="58" y="256"/>
                </a:lnTo>
                <a:lnTo>
                  <a:pt x="56" y="236"/>
                </a:lnTo>
                <a:lnTo>
                  <a:pt x="54" y="219"/>
                </a:lnTo>
                <a:lnTo>
                  <a:pt x="52" y="204"/>
                </a:lnTo>
                <a:lnTo>
                  <a:pt x="52" y="190"/>
                </a:lnTo>
                <a:lnTo>
                  <a:pt x="52" y="175"/>
                </a:lnTo>
                <a:lnTo>
                  <a:pt x="52" y="162"/>
                </a:lnTo>
                <a:lnTo>
                  <a:pt x="54" y="148"/>
                </a:lnTo>
                <a:lnTo>
                  <a:pt x="56" y="133"/>
                </a:lnTo>
                <a:lnTo>
                  <a:pt x="60" y="119"/>
                </a:lnTo>
                <a:lnTo>
                  <a:pt x="64" y="106"/>
                </a:lnTo>
                <a:lnTo>
                  <a:pt x="69" y="92"/>
                </a:lnTo>
                <a:lnTo>
                  <a:pt x="75" y="77"/>
                </a:lnTo>
                <a:lnTo>
                  <a:pt x="83" y="66"/>
                </a:lnTo>
                <a:lnTo>
                  <a:pt x="88" y="52"/>
                </a:lnTo>
                <a:lnTo>
                  <a:pt x="98" y="39"/>
                </a:lnTo>
                <a:lnTo>
                  <a:pt x="108" y="25"/>
                </a:lnTo>
                <a:lnTo>
                  <a:pt x="117" y="14"/>
                </a:lnTo>
                <a:lnTo>
                  <a:pt x="129" y="0"/>
                </a:lnTo>
                <a:lnTo>
                  <a:pt x="142" y="35"/>
                </a:lnTo>
                <a:lnTo>
                  <a:pt x="154" y="68"/>
                </a:lnTo>
                <a:lnTo>
                  <a:pt x="158" y="85"/>
                </a:lnTo>
                <a:lnTo>
                  <a:pt x="163" y="102"/>
                </a:lnTo>
                <a:lnTo>
                  <a:pt x="167" y="119"/>
                </a:lnTo>
                <a:lnTo>
                  <a:pt x="171" y="137"/>
                </a:lnTo>
                <a:lnTo>
                  <a:pt x="175" y="152"/>
                </a:lnTo>
                <a:lnTo>
                  <a:pt x="177" y="169"/>
                </a:lnTo>
                <a:lnTo>
                  <a:pt x="179" y="187"/>
                </a:lnTo>
                <a:lnTo>
                  <a:pt x="181" y="204"/>
                </a:lnTo>
                <a:lnTo>
                  <a:pt x="181" y="219"/>
                </a:lnTo>
                <a:lnTo>
                  <a:pt x="181" y="236"/>
                </a:lnTo>
                <a:lnTo>
                  <a:pt x="179" y="254"/>
                </a:lnTo>
                <a:lnTo>
                  <a:pt x="177" y="2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64"/>
          <p:cNvSpPr/>
          <p:nvPr/>
        </p:nvSpPr>
        <p:spPr>
          <a:xfrm>
            <a:off x="5465880" y="3254400"/>
            <a:ext cx="898560" cy="1133280"/>
          </a:xfrm>
          <a:custGeom>
            <a:avLst/>
            <a:gdLst/>
            <a:ahLst/>
            <a:rect l="l" t="t" r="r" b="b"/>
            <a:pathLst>
              <a:path w="1133" h="1428">
                <a:moveTo>
                  <a:pt x="211" y="1309"/>
                </a:moveTo>
                <a:lnTo>
                  <a:pt x="187" y="1326"/>
                </a:lnTo>
                <a:lnTo>
                  <a:pt x="164" y="1342"/>
                </a:lnTo>
                <a:lnTo>
                  <a:pt x="144" y="1355"/>
                </a:lnTo>
                <a:lnTo>
                  <a:pt x="123" y="1366"/>
                </a:lnTo>
                <a:lnTo>
                  <a:pt x="106" y="1378"/>
                </a:lnTo>
                <a:lnTo>
                  <a:pt x="89" y="1390"/>
                </a:lnTo>
                <a:lnTo>
                  <a:pt x="75" y="1397"/>
                </a:lnTo>
                <a:lnTo>
                  <a:pt x="62" y="1405"/>
                </a:lnTo>
                <a:lnTo>
                  <a:pt x="48" y="1413"/>
                </a:lnTo>
                <a:lnTo>
                  <a:pt x="39" y="1418"/>
                </a:lnTo>
                <a:lnTo>
                  <a:pt x="29" y="1422"/>
                </a:lnTo>
                <a:lnTo>
                  <a:pt x="21" y="1424"/>
                </a:lnTo>
                <a:lnTo>
                  <a:pt x="14" y="1426"/>
                </a:lnTo>
                <a:lnTo>
                  <a:pt x="10" y="1428"/>
                </a:lnTo>
                <a:lnTo>
                  <a:pt x="6" y="1426"/>
                </a:lnTo>
                <a:lnTo>
                  <a:pt x="2" y="1424"/>
                </a:lnTo>
                <a:lnTo>
                  <a:pt x="0" y="1422"/>
                </a:lnTo>
                <a:lnTo>
                  <a:pt x="0" y="1418"/>
                </a:lnTo>
                <a:lnTo>
                  <a:pt x="2" y="1413"/>
                </a:lnTo>
                <a:lnTo>
                  <a:pt x="4" y="1405"/>
                </a:lnTo>
                <a:lnTo>
                  <a:pt x="10" y="1397"/>
                </a:lnTo>
                <a:lnTo>
                  <a:pt x="16" y="1390"/>
                </a:lnTo>
                <a:lnTo>
                  <a:pt x="21" y="1378"/>
                </a:lnTo>
                <a:lnTo>
                  <a:pt x="31" y="1366"/>
                </a:lnTo>
                <a:lnTo>
                  <a:pt x="41" y="1355"/>
                </a:lnTo>
                <a:lnTo>
                  <a:pt x="52" y="1342"/>
                </a:lnTo>
                <a:lnTo>
                  <a:pt x="66" y="1326"/>
                </a:lnTo>
                <a:lnTo>
                  <a:pt x="79" y="1309"/>
                </a:lnTo>
                <a:lnTo>
                  <a:pt x="94" y="1292"/>
                </a:lnTo>
                <a:lnTo>
                  <a:pt x="112" y="1272"/>
                </a:lnTo>
                <a:lnTo>
                  <a:pt x="131" y="1253"/>
                </a:lnTo>
                <a:lnTo>
                  <a:pt x="150" y="1232"/>
                </a:lnTo>
                <a:lnTo>
                  <a:pt x="171" y="1209"/>
                </a:lnTo>
                <a:lnTo>
                  <a:pt x="190" y="1188"/>
                </a:lnTo>
                <a:lnTo>
                  <a:pt x="211" y="1165"/>
                </a:lnTo>
                <a:lnTo>
                  <a:pt x="233" y="1140"/>
                </a:lnTo>
                <a:lnTo>
                  <a:pt x="254" y="1117"/>
                </a:lnTo>
                <a:lnTo>
                  <a:pt x="275" y="1092"/>
                </a:lnTo>
                <a:lnTo>
                  <a:pt x="296" y="1065"/>
                </a:lnTo>
                <a:lnTo>
                  <a:pt x="315" y="1040"/>
                </a:lnTo>
                <a:lnTo>
                  <a:pt x="336" y="1013"/>
                </a:lnTo>
                <a:lnTo>
                  <a:pt x="357" y="986"/>
                </a:lnTo>
                <a:lnTo>
                  <a:pt x="378" y="958"/>
                </a:lnTo>
                <a:lnTo>
                  <a:pt x="400" y="929"/>
                </a:lnTo>
                <a:lnTo>
                  <a:pt x="421" y="900"/>
                </a:lnTo>
                <a:lnTo>
                  <a:pt x="440" y="869"/>
                </a:lnTo>
                <a:lnTo>
                  <a:pt x="461" y="841"/>
                </a:lnTo>
                <a:lnTo>
                  <a:pt x="482" y="808"/>
                </a:lnTo>
                <a:lnTo>
                  <a:pt x="501" y="777"/>
                </a:lnTo>
                <a:lnTo>
                  <a:pt x="522" y="747"/>
                </a:lnTo>
                <a:lnTo>
                  <a:pt x="542" y="718"/>
                </a:lnTo>
                <a:lnTo>
                  <a:pt x="559" y="689"/>
                </a:lnTo>
                <a:lnTo>
                  <a:pt x="578" y="662"/>
                </a:lnTo>
                <a:lnTo>
                  <a:pt x="595" y="635"/>
                </a:lnTo>
                <a:lnTo>
                  <a:pt x="611" y="608"/>
                </a:lnTo>
                <a:lnTo>
                  <a:pt x="628" y="583"/>
                </a:lnTo>
                <a:lnTo>
                  <a:pt x="643" y="558"/>
                </a:lnTo>
                <a:lnTo>
                  <a:pt x="657" y="533"/>
                </a:lnTo>
                <a:lnTo>
                  <a:pt x="672" y="510"/>
                </a:lnTo>
                <a:lnTo>
                  <a:pt x="684" y="487"/>
                </a:lnTo>
                <a:lnTo>
                  <a:pt x="697" y="464"/>
                </a:lnTo>
                <a:lnTo>
                  <a:pt x="709" y="441"/>
                </a:lnTo>
                <a:lnTo>
                  <a:pt x="718" y="418"/>
                </a:lnTo>
                <a:lnTo>
                  <a:pt x="728" y="397"/>
                </a:lnTo>
                <a:lnTo>
                  <a:pt x="737" y="378"/>
                </a:lnTo>
                <a:lnTo>
                  <a:pt x="745" y="361"/>
                </a:lnTo>
                <a:lnTo>
                  <a:pt x="753" y="343"/>
                </a:lnTo>
                <a:lnTo>
                  <a:pt x="759" y="328"/>
                </a:lnTo>
                <a:lnTo>
                  <a:pt x="766" y="313"/>
                </a:lnTo>
                <a:lnTo>
                  <a:pt x="772" y="299"/>
                </a:lnTo>
                <a:lnTo>
                  <a:pt x="776" y="286"/>
                </a:lnTo>
                <a:lnTo>
                  <a:pt x="782" y="274"/>
                </a:lnTo>
                <a:lnTo>
                  <a:pt x="785" y="263"/>
                </a:lnTo>
                <a:lnTo>
                  <a:pt x="787" y="253"/>
                </a:lnTo>
                <a:lnTo>
                  <a:pt x="789" y="244"/>
                </a:lnTo>
                <a:lnTo>
                  <a:pt x="791" y="236"/>
                </a:lnTo>
                <a:lnTo>
                  <a:pt x="793" y="230"/>
                </a:lnTo>
                <a:lnTo>
                  <a:pt x="791" y="224"/>
                </a:lnTo>
                <a:lnTo>
                  <a:pt x="791" y="221"/>
                </a:lnTo>
                <a:lnTo>
                  <a:pt x="789" y="219"/>
                </a:lnTo>
                <a:lnTo>
                  <a:pt x="787" y="217"/>
                </a:lnTo>
                <a:lnTo>
                  <a:pt x="785" y="217"/>
                </a:lnTo>
                <a:lnTo>
                  <a:pt x="783" y="215"/>
                </a:lnTo>
                <a:lnTo>
                  <a:pt x="782" y="215"/>
                </a:lnTo>
                <a:lnTo>
                  <a:pt x="778" y="215"/>
                </a:lnTo>
                <a:lnTo>
                  <a:pt x="774" y="215"/>
                </a:lnTo>
                <a:lnTo>
                  <a:pt x="764" y="217"/>
                </a:lnTo>
                <a:lnTo>
                  <a:pt x="753" y="221"/>
                </a:lnTo>
                <a:lnTo>
                  <a:pt x="739" y="222"/>
                </a:lnTo>
                <a:lnTo>
                  <a:pt x="726" y="228"/>
                </a:lnTo>
                <a:lnTo>
                  <a:pt x="709" y="234"/>
                </a:lnTo>
                <a:lnTo>
                  <a:pt x="691" y="240"/>
                </a:lnTo>
                <a:lnTo>
                  <a:pt x="670" y="247"/>
                </a:lnTo>
                <a:lnTo>
                  <a:pt x="649" y="255"/>
                </a:lnTo>
                <a:lnTo>
                  <a:pt x="626" y="265"/>
                </a:lnTo>
                <a:lnTo>
                  <a:pt x="601" y="274"/>
                </a:lnTo>
                <a:lnTo>
                  <a:pt x="576" y="284"/>
                </a:lnTo>
                <a:lnTo>
                  <a:pt x="547" y="295"/>
                </a:lnTo>
                <a:lnTo>
                  <a:pt x="519" y="307"/>
                </a:lnTo>
                <a:lnTo>
                  <a:pt x="490" y="318"/>
                </a:lnTo>
                <a:lnTo>
                  <a:pt x="461" y="330"/>
                </a:lnTo>
                <a:lnTo>
                  <a:pt x="436" y="341"/>
                </a:lnTo>
                <a:lnTo>
                  <a:pt x="411" y="351"/>
                </a:lnTo>
                <a:lnTo>
                  <a:pt x="388" y="361"/>
                </a:lnTo>
                <a:lnTo>
                  <a:pt x="365" y="368"/>
                </a:lnTo>
                <a:lnTo>
                  <a:pt x="346" y="376"/>
                </a:lnTo>
                <a:lnTo>
                  <a:pt x="327" y="384"/>
                </a:lnTo>
                <a:lnTo>
                  <a:pt x="309" y="389"/>
                </a:lnTo>
                <a:lnTo>
                  <a:pt x="294" y="395"/>
                </a:lnTo>
                <a:lnTo>
                  <a:pt x="281" y="399"/>
                </a:lnTo>
                <a:lnTo>
                  <a:pt x="267" y="403"/>
                </a:lnTo>
                <a:lnTo>
                  <a:pt x="258" y="407"/>
                </a:lnTo>
                <a:lnTo>
                  <a:pt x="248" y="409"/>
                </a:lnTo>
                <a:lnTo>
                  <a:pt x="242" y="411"/>
                </a:lnTo>
                <a:lnTo>
                  <a:pt x="236" y="411"/>
                </a:lnTo>
                <a:lnTo>
                  <a:pt x="223" y="409"/>
                </a:lnTo>
                <a:lnTo>
                  <a:pt x="208" y="409"/>
                </a:lnTo>
                <a:lnTo>
                  <a:pt x="194" y="405"/>
                </a:lnTo>
                <a:lnTo>
                  <a:pt x="179" y="401"/>
                </a:lnTo>
                <a:lnTo>
                  <a:pt x="164" y="395"/>
                </a:lnTo>
                <a:lnTo>
                  <a:pt x="148" y="389"/>
                </a:lnTo>
                <a:lnTo>
                  <a:pt x="131" y="382"/>
                </a:lnTo>
                <a:lnTo>
                  <a:pt x="114" y="372"/>
                </a:lnTo>
                <a:lnTo>
                  <a:pt x="102" y="368"/>
                </a:lnTo>
                <a:lnTo>
                  <a:pt x="92" y="366"/>
                </a:lnTo>
                <a:lnTo>
                  <a:pt x="83" y="363"/>
                </a:lnTo>
                <a:lnTo>
                  <a:pt x="73" y="361"/>
                </a:lnTo>
                <a:lnTo>
                  <a:pt x="66" y="357"/>
                </a:lnTo>
                <a:lnTo>
                  <a:pt x="58" y="353"/>
                </a:lnTo>
                <a:lnTo>
                  <a:pt x="52" y="349"/>
                </a:lnTo>
                <a:lnTo>
                  <a:pt x="46" y="345"/>
                </a:lnTo>
                <a:lnTo>
                  <a:pt x="43" y="343"/>
                </a:lnTo>
                <a:lnTo>
                  <a:pt x="39" y="340"/>
                </a:lnTo>
                <a:lnTo>
                  <a:pt x="35" y="336"/>
                </a:lnTo>
                <a:lnTo>
                  <a:pt x="31" y="332"/>
                </a:lnTo>
                <a:lnTo>
                  <a:pt x="29" y="328"/>
                </a:lnTo>
                <a:lnTo>
                  <a:pt x="27" y="326"/>
                </a:lnTo>
                <a:lnTo>
                  <a:pt x="27" y="322"/>
                </a:lnTo>
                <a:lnTo>
                  <a:pt x="27" y="320"/>
                </a:lnTo>
                <a:lnTo>
                  <a:pt x="25" y="318"/>
                </a:lnTo>
                <a:lnTo>
                  <a:pt x="23" y="317"/>
                </a:lnTo>
                <a:lnTo>
                  <a:pt x="23" y="313"/>
                </a:lnTo>
                <a:lnTo>
                  <a:pt x="25" y="311"/>
                </a:lnTo>
                <a:lnTo>
                  <a:pt x="25" y="309"/>
                </a:lnTo>
                <a:lnTo>
                  <a:pt x="29" y="307"/>
                </a:lnTo>
                <a:lnTo>
                  <a:pt x="31" y="303"/>
                </a:lnTo>
                <a:lnTo>
                  <a:pt x="37" y="301"/>
                </a:lnTo>
                <a:lnTo>
                  <a:pt x="41" y="299"/>
                </a:lnTo>
                <a:lnTo>
                  <a:pt x="46" y="297"/>
                </a:lnTo>
                <a:lnTo>
                  <a:pt x="54" y="294"/>
                </a:lnTo>
                <a:lnTo>
                  <a:pt x="62" y="292"/>
                </a:lnTo>
                <a:lnTo>
                  <a:pt x="69" y="290"/>
                </a:lnTo>
                <a:lnTo>
                  <a:pt x="79" y="288"/>
                </a:lnTo>
                <a:lnTo>
                  <a:pt x="89" y="284"/>
                </a:lnTo>
                <a:lnTo>
                  <a:pt x="100" y="282"/>
                </a:lnTo>
                <a:lnTo>
                  <a:pt x="119" y="278"/>
                </a:lnTo>
                <a:lnTo>
                  <a:pt x="140" y="274"/>
                </a:lnTo>
                <a:lnTo>
                  <a:pt x="160" y="270"/>
                </a:lnTo>
                <a:lnTo>
                  <a:pt x="183" y="269"/>
                </a:lnTo>
                <a:lnTo>
                  <a:pt x="204" y="267"/>
                </a:lnTo>
                <a:lnTo>
                  <a:pt x="227" y="263"/>
                </a:lnTo>
                <a:lnTo>
                  <a:pt x="250" y="261"/>
                </a:lnTo>
                <a:lnTo>
                  <a:pt x="273" y="257"/>
                </a:lnTo>
                <a:lnTo>
                  <a:pt x="284" y="253"/>
                </a:lnTo>
                <a:lnTo>
                  <a:pt x="298" y="251"/>
                </a:lnTo>
                <a:lnTo>
                  <a:pt x="311" y="247"/>
                </a:lnTo>
                <a:lnTo>
                  <a:pt x="325" y="244"/>
                </a:lnTo>
                <a:lnTo>
                  <a:pt x="340" y="240"/>
                </a:lnTo>
                <a:lnTo>
                  <a:pt x="355" y="236"/>
                </a:lnTo>
                <a:lnTo>
                  <a:pt x="373" y="232"/>
                </a:lnTo>
                <a:lnTo>
                  <a:pt x="390" y="228"/>
                </a:lnTo>
                <a:lnTo>
                  <a:pt x="407" y="222"/>
                </a:lnTo>
                <a:lnTo>
                  <a:pt x="425" y="217"/>
                </a:lnTo>
                <a:lnTo>
                  <a:pt x="444" y="211"/>
                </a:lnTo>
                <a:lnTo>
                  <a:pt x="463" y="205"/>
                </a:lnTo>
                <a:lnTo>
                  <a:pt x="503" y="194"/>
                </a:lnTo>
                <a:lnTo>
                  <a:pt x="544" y="178"/>
                </a:lnTo>
                <a:lnTo>
                  <a:pt x="563" y="171"/>
                </a:lnTo>
                <a:lnTo>
                  <a:pt x="582" y="165"/>
                </a:lnTo>
                <a:lnTo>
                  <a:pt x="601" y="157"/>
                </a:lnTo>
                <a:lnTo>
                  <a:pt x="618" y="150"/>
                </a:lnTo>
                <a:lnTo>
                  <a:pt x="636" y="142"/>
                </a:lnTo>
                <a:lnTo>
                  <a:pt x="653" y="136"/>
                </a:lnTo>
                <a:lnTo>
                  <a:pt x="666" y="128"/>
                </a:lnTo>
                <a:lnTo>
                  <a:pt x="682" y="121"/>
                </a:lnTo>
                <a:lnTo>
                  <a:pt x="695" y="115"/>
                </a:lnTo>
                <a:lnTo>
                  <a:pt x="707" y="107"/>
                </a:lnTo>
                <a:lnTo>
                  <a:pt x="720" y="100"/>
                </a:lnTo>
                <a:lnTo>
                  <a:pt x="730" y="92"/>
                </a:lnTo>
                <a:lnTo>
                  <a:pt x="739" y="86"/>
                </a:lnTo>
                <a:lnTo>
                  <a:pt x="749" y="79"/>
                </a:lnTo>
                <a:lnTo>
                  <a:pt x="757" y="71"/>
                </a:lnTo>
                <a:lnTo>
                  <a:pt x="764" y="63"/>
                </a:lnTo>
                <a:lnTo>
                  <a:pt x="772" y="57"/>
                </a:lnTo>
                <a:lnTo>
                  <a:pt x="778" y="50"/>
                </a:lnTo>
                <a:lnTo>
                  <a:pt x="785" y="44"/>
                </a:lnTo>
                <a:lnTo>
                  <a:pt x="791" y="38"/>
                </a:lnTo>
                <a:lnTo>
                  <a:pt x="805" y="31"/>
                </a:lnTo>
                <a:lnTo>
                  <a:pt x="818" y="21"/>
                </a:lnTo>
                <a:lnTo>
                  <a:pt x="831" y="15"/>
                </a:lnTo>
                <a:lnTo>
                  <a:pt x="843" y="9"/>
                </a:lnTo>
                <a:lnTo>
                  <a:pt x="853" y="4"/>
                </a:lnTo>
                <a:lnTo>
                  <a:pt x="864" y="0"/>
                </a:lnTo>
                <a:lnTo>
                  <a:pt x="868" y="0"/>
                </a:lnTo>
                <a:lnTo>
                  <a:pt x="874" y="0"/>
                </a:lnTo>
                <a:lnTo>
                  <a:pt x="879" y="0"/>
                </a:lnTo>
                <a:lnTo>
                  <a:pt x="887" y="2"/>
                </a:lnTo>
                <a:lnTo>
                  <a:pt x="893" y="4"/>
                </a:lnTo>
                <a:lnTo>
                  <a:pt x="902" y="6"/>
                </a:lnTo>
                <a:lnTo>
                  <a:pt x="910" y="8"/>
                </a:lnTo>
                <a:lnTo>
                  <a:pt x="920" y="9"/>
                </a:lnTo>
                <a:lnTo>
                  <a:pt x="929" y="13"/>
                </a:lnTo>
                <a:lnTo>
                  <a:pt x="941" y="17"/>
                </a:lnTo>
                <a:lnTo>
                  <a:pt x="952" y="21"/>
                </a:lnTo>
                <a:lnTo>
                  <a:pt x="966" y="27"/>
                </a:lnTo>
                <a:lnTo>
                  <a:pt x="979" y="31"/>
                </a:lnTo>
                <a:lnTo>
                  <a:pt x="993" y="36"/>
                </a:lnTo>
                <a:lnTo>
                  <a:pt x="1008" y="44"/>
                </a:lnTo>
                <a:lnTo>
                  <a:pt x="1023" y="52"/>
                </a:lnTo>
                <a:lnTo>
                  <a:pt x="1037" y="57"/>
                </a:lnTo>
                <a:lnTo>
                  <a:pt x="1048" y="65"/>
                </a:lnTo>
                <a:lnTo>
                  <a:pt x="1060" y="71"/>
                </a:lnTo>
                <a:lnTo>
                  <a:pt x="1071" y="79"/>
                </a:lnTo>
                <a:lnTo>
                  <a:pt x="1081" y="84"/>
                </a:lnTo>
                <a:lnTo>
                  <a:pt x="1091" y="90"/>
                </a:lnTo>
                <a:lnTo>
                  <a:pt x="1098" y="96"/>
                </a:lnTo>
                <a:lnTo>
                  <a:pt x="1106" y="102"/>
                </a:lnTo>
                <a:lnTo>
                  <a:pt x="1112" y="105"/>
                </a:lnTo>
                <a:lnTo>
                  <a:pt x="1117" y="111"/>
                </a:lnTo>
                <a:lnTo>
                  <a:pt x="1123" y="117"/>
                </a:lnTo>
                <a:lnTo>
                  <a:pt x="1127" y="121"/>
                </a:lnTo>
                <a:lnTo>
                  <a:pt x="1129" y="127"/>
                </a:lnTo>
                <a:lnTo>
                  <a:pt x="1131" y="130"/>
                </a:lnTo>
                <a:lnTo>
                  <a:pt x="1133" y="136"/>
                </a:lnTo>
                <a:lnTo>
                  <a:pt x="1133" y="140"/>
                </a:lnTo>
                <a:lnTo>
                  <a:pt x="1129" y="150"/>
                </a:lnTo>
                <a:lnTo>
                  <a:pt x="1123" y="159"/>
                </a:lnTo>
                <a:lnTo>
                  <a:pt x="1117" y="169"/>
                </a:lnTo>
                <a:lnTo>
                  <a:pt x="1112" y="178"/>
                </a:lnTo>
                <a:lnTo>
                  <a:pt x="1104" y="186"/>
                </a:lnTo>
                <a:lnTo>
                  <a:pt x="1096" y="194"/>
                </a:lnTo>
                <a:lnTo>
                  <a:pt x="1091" y="196"/>
                </a:lnTo>
                <a:lnTo>
                  <a:pt x="1085" y="199"/>
                </a:lnTo>
                <a:lnTo>
                  <a:pt x="1079" y="201"/>
                </a:lnTo>
                <a:lnTo>
                  <a:pt x="1071" y="205"/>
                </a:lnTo>
                <a:lnTo>
                  <a:pt x="1066" y="209"/>
                </a:lnTo>
                <a:lnTo>
                  <a:pt x="1056" y="213"/>
                </a:lnTo>
                <a:lnTo>
                  <a:pt x="1048" y="221"/>
                </a:lnTo>
                <a:lnTo>
                  <a:pt x="1039" y="228"/>
                </a:lnTo>
                <a:lnTo>
                  <a:pt x="1029" y="240"/>
                </a:lnTo>
                <a:lnTo>
                  <a:pt x="1020" y="251"/>
                </a:lnTo>
                <a:lnTo>
                  <a:pt x="1008" y="265"/>
                </a:lnTo>
                <a:lnTo>
                  <a:pt x="998" y="280"/>
                </a:lnTo>
                <a:lnTo>
                  <a:pt x="985" y="297"/>
                </a:lnTo>
                <a:lnTo>
                  <a:pt x="974" y="317"/>
                </a:lnTo>
                <a:lnTo>
                  <a:pt x="960" y="336"/>
                </a:lnTo>
                <a:lnTo>
                  <a:pt x="947" y="359"/>
                </a:lnTo>
                <a:lnTo>
                  <a:pt x="933" y="382"/>
                </a:lnTo>
                <a:lnTo>
                  <a:pt x="918" y="407"/>
                </a:lnTo>
                <a:lnTo>
                  <a:pt x="902" y="434"/>
                </a:lnTo>
                <a:lnTo>
                  <a:pt x="887" y="462"/>
                </a:lnTo>
                <a:lnTo>
                  <a:pt x="872" y="491"/>
                </a:lnTo>
                <a:lnTo>
                  <a:pt x="854" y="520"/>
                </a:lnTo>
                <a:lnTo>
                  <a:pt x="837" y="549"/>
                </a:lnTo>
                <a:lnTo>
                  <a:pt x="820" y="578"/>
                </a:lnTo>
                <a:lnTo>
                  <a:pt x="782" y="635"/>
                </a:lnTo>
                <a:lnTo>
                  <a:pt x="743" y="693"/>
                </a:lnTo>
                <a:lnTo>
                  <a:pt x="703" y="750"/>
                </a:lnTo>
                <a:lnTo>
                  <a:pt x="663" y="808"/>
                </a:lnTo>
                <a:lnTo>
                  <a:pt x="580" y="925"/>
                </a:lnTo>
                <a:lnTo>
                  <a:pt x="559" y="952"/>
                </a:lnTo>
                <a:lnTo>
                  <a:pt x="538" y="981"/>
                </a:lnTo>
                <a:lnTo>
                  <a:pt x="517" y="1008"/>
                </a:lnTo>
                <a:lnTo>
                  <a:pt x="496" y="1034"/>
                </a:lnTo>
                <a:lnTo>
                  <a:pt x="473" y="1061"/>
                </a:lnTo>
                <a:lnTo>
                  <a:pt x="451" y="1086"/>
                </a:lnTo>
                <a:lnTo>
                  <a:pt x="428" y="1111"/>
                </a:lnTo>
                <a:lnTo>
                  <a:pt x="405" y="1136"/>
                </a:lnTo>
                <a:lnTo>
                  <a:pt x="382" y="1159"/>
                </a:lnTo>
                <a:lnTo>
                  <a:pt x="357" y="1182"/>
                </a:lnTo>
                <a:lnTo>
                  <a:pt x="334" y="1205"/>
                </a:lnTo>
                <a:lnTo>
                  <a:pt x="309" y="1226"/>
                </a:lnTo>
                <a:lnTo>
                  <a:pt x="286" y="1247"/>
                </a:lnTo>
                <a:lnTo>
                  <a:pt x="261" y="1269"/>
                </a:lnTo>
                <a:lnTo>
                  <a:pt x="236" y="1290"/>
                </a:lnTo>
                <a:lnTo>
                  <a:pt x="211" y="13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65"/>
          <p:cNvSpPr/>
          <p:nvPr/>
        </p:nvSpPr>
        <p:spPr>
          <a:xfrm>
            <a:off x="6021360" y="2765520"/>
            <a:ext cx="293760" cy="295200"/>
          </a:xfrm>
          <a:custGeom>
            <a:avLst/>
            <a:gdLst/>
            <a:ahLst/>
            <a:rect l="l" t="t" r="r" b="b"/>
            <a:pathLst>
              <a:path w="370" h="372">
                <a:moveTo>
                  <a:pt x="273" y="76"/>
                </a:moveTo>
                <a:lnTo>
                  <a:pt x="284" y="84"/>
                </a:lnTo>
                <a:lnTo>
                  <a:pt x="294" y="92"/>
                </a:lnTo>
                <a:lnTo>
                  <a:pt x="305" y="99"/>
                </a:lnTo>
                <a:lnTo>
                  <a:pt x="313" y="109"/>
                </a:lnTo>
                <a:lnTo>
                  <a:pt x="322" y="119"/>
                </a:lnTo>
                <a:lnTo>
                  <a:pt x="330" y="128"/>
                </a:lnTo>
                <a:lnTo>
                  <a:pt x="338" y="140"/>
                </a:lnTo>
                <a:lnTo>
                  <a:pt x="345" y="149"/>
                </a:lnTo>
                <a:lnTo>
                  <a:pt x="351" y="161"/>
                </a:lnTo>
                <a:lnTo>
                  <a:pt x="355" y="172"/>
                </a:lnTo>
                <a:lnTo>
                  <a:pt x="361" y="184"/>
                </a:lnTo>
                <a:lnTo>
                  <a:pt x="365" y="195"/>
                </a:lnTo>
                <a:lnTo>
                  <a:pt x="367" y="207"/>
                </a:lnTo>
                <a:lnTo>
                  <a:pt x="368" y="218"/>
                </a:lnTo>
                <a:lnTo>
                  <a:pt x="370" y="230"/>
                </a:lnTo>
                <a:lnTo>
                  <a:pt x="370" y="243"/>
                </a:lnTo>
                <a:lnTo>
                  <a:pt x="370" y="255"/>
                </a:lnTo>
                <a:lnTo>
                  <a:pt x="370" y="266"/>
                </a:lnTo>
                <a:lnTo>
                  <a:pt x="370" y="276"/>
                </a:lnTo>
                <a:lnTo>
                  <a:pt x="370" y="286"/>
                </a:lnTo>
                <a:lnTo>
                  <a:pt x="370" y="295"/>
                </a:lnTo>
                <a:lnTo>
                  <a:pt x="370" y="305"/>
                </a:lnTo>
                <a:lnTo>
                  <a:pt x="370" y="313"/>
                </a:lnTo>
                <a:lnTo>
                  <a:pt x="368" y="320"/>
                </a:lnTo>
                <a:lnTo>
                  <a:pt x="368" y="328"/>
                </a:lnTo>
                <a:lnTo>
                  <a:pt x="368" y="334"/>
                </a:lnTo>
                <a:lnTo>
                  <a:pt x="367" y="339"/>
                </a:lnTo>
                <a:lnTo>
                  <a:pt x="367" y="343"/>
                </a:lnTo>
                <a:lnTo>
                  <a:pt x="365" y="349"/>
                </a:lnTo>
                <a:lnTo>
                  <a:pt x="363" y="353"/>
                </a:lnTo>
                <a:lnTo>
                  <a:pt x="361" y="357"/>
                </a:lnTo>
                <a:lnTo>
                  <a:pt x="359" y="359"/>
                </a:lnTo>
                <a:lnTo>
                  <a:pt x="353" y="362"/>
                </a:lnTo>
                <a:lnTo>
                  <a:pt x="347" y="366"/>
                </a:lnTo>
                <a:lnTo>
                  <a:pt x="342" y="368"/>
                </a:lnTo>
                <a:lnTo>
                  <a:pt x="334" y="370"/>
                </a:lnTo>
                <a:lnTo>
                  <a:pt x="328" y="370"/>
                </a:lnTo>
                <a:lnTo>
                  <a:pt x="320" y="370"/>
                </a:lnTo>
                <a:lnTo>
                  <a:pt x="315" y="372"/>
                </a:lnTo>
                <a:lnTo>
                  <a:pt x="309" y="372"/>
                </a:lnTo>
                <a:lnTo>
                  <a:pt x="305" y="370"/>
                </a:lnTo>
                <a:lnTo>
                  <a:pt x="299" y="368"/>
                </a:lnTo>
                <a:lnTo>
                  <a:pt x="292" y="366"/>
                </a:lnTo>
                <a:lnTo>
                  <a:pt x="284" y="361"/>
                </a:lnTo>
                <a:lnTo>
                  <a:pt x="276" y="357"/>
                </a:lnTo>
                <a:lnTo>
                  <a:pt x="267" y="349"/>
                </a:lnTo>
                <a:lnTo>
                  <a:pt x="255" y="341"/>
                </a:lnTo>
                <a:lnTo>
                  <a:pt x="244" y="332"/>
                </a:lnTo>
                <a:lnTo>
                  <a:pt x="232" y="320"/>
                </a:lnTo>
                <a:lnTo>
                  <a:pt x="219" y="309"/>
                </a:lnTo>
                <a:lnTo>
                  <a:pt x="205" y="295"/>
                </a:lnTo>
                <a:lnTo>
                  <a:pt x="192" y="280"/>
                </a:lnTo>
                <a:lnTo>
                  <a:pt x="177" y="263"/>
                </a:lnTo>
                <a:lnTo>
                  <a:pt x="159" y="245"/>
                </a:lnTo>
                <a:lnTo>
                  <a:pt x="144" y="226"/>
                </a:lnTo>
                <a:lnTo>
                  <a:pt x="125" y="205"/>
                </a:lnTo>
                <a:lnTo>
                  <a:pt x="107" y="184"/>
                </a:lnTo>
                <a:lnTo>
                  <a:pt x="92" y="163"/>
                </a:lnTo>
                <a:lnTo>
                  <a:pt x="77" y="146"/>
                </a:lnTo>
                <a:lnTo>
                  <a:pt x="63" y="126"/>
                </a:lnTo>
                <a:lnTo>
                  <a:pt x="52" y="111"/>
                </a:lnTo>
                <a:lnTo>
                  <a:pt x="40" y="96"/>
                </a:lnTo>
                <a:lnTo>
                  <a:pt x="31" y="82"/>
                </a:lnTo>
                <a:lnTo>
                  <a:pt x="23" y="69"/>
                </a:lnTo>
                <a:lnTo>
                  <a:pt x="15" y="57"/>
                </a:lnTo>
                <a:lnTo>
                  <a:pt x="10" y="48"/>
                </a:lnTo>
                <a:lnTo>
                  <a:pt x="6" y="38"/>
                </a:lnTo>
                <a:lnTo>
                  <a:pt x="2" y="30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2" y="11"/>
                </a:lnTo>
                <a:lnTo>
                  <a:pt x="8" y="7"/>
                </a:lnTo>
                <a:lnTo>
                  <a:pt x="13" y="4"/>
                </a:lnTo>
                <a:lnTo>
                  <a:pt x="17" y="4"/>
                </a:lnTo>
                <a:lnTo>
                  <a:pt x="23" y="2"/>
                </a:lnTo>
                <a:lnTo>
                  <a:pt x="27" y="2"/>
                </a:lnTo>
                <a:lnTo>
                  <a:pt x="33" y="0"/>
                </a:lnTo>
                <a:lnTo>
                  <a:pt x="38" y="0"/>
                </a:lnTo>
                <a:lnTo>
                  <a:pt x="46" y="0"/>
                </a:lnTo>
                <a:lnTo>
                  <a:pt x="54" y="0"/>
                </a:lnTo>
                <a:lnTo>
                  <a:pt x="61" y="0"/>
                </a:lnTo>
                <a:lnTo>
                  <a:pt x="69" y="0"/>
                </a:lnTo>
                <a:lnTo>
                  <a:pt x="79" y="0"/>
                </a:lnTo>
                <a:lnTo>
                  <a:pt x="88" y="0"/>
                </a:lnTo>
                <a:lnTo>
                  <a:pt x="100" y="0"/>
                </a:lnTo>
                <a:lnTo>
                  <a:pt x="123" y="4"/>
                </a:lnTo>
                <a:lnTo>
                  <a:pt x="144" y="11"/>
                </a:lnTo>
                <a:lnTo>
                  <a:pt x="165" y="19"/>
                </a:lnTo>
                <a:lnTo>
                  <a:pt x="186" y="28"/>
                </a:lnTo>
                <a:lnTo>
                  <a:pt x="207" y="38"/>
                </a:lnTo>
                <a:lnTo>
                  <a:pt x="228" y="50"/>
                </a:lnTo>
                <a:lnTo>
                  <a:pt x="249" y="63"/>
                </a:lnTo>
                <a:lnTo>
                  <a:pt x="273" y="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宽窄相当，顶部左右平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矩形 3"/>
          <p:cNvSpPr/>
          <p:nvPr/>
        </p:nvSpPr>
        <p:spPr>
          <a:xfrm>
            <a:off x="207648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94"/>
          <p:cNvSpPr/>
          <p:nvPr/>
        </p:nvSpPr>
        <p:spPr>
          <a:xfrm>
            <a:off x="6566040" y="3772080"/>
            <a:ext cx="1170000" cy="1207800"/>
          </a:xfrm>
          <a:custGeom>
            <a:avLst/>
            <a:gdLst/>
            <a:ahLst/>
            <a:rect l="l" t="t" r="r" b="b"/>
            <a:pathLst>
              <a:path w="1474" h="1522">
                <a:moveTo>
                  <a:pt x="1458" y="1240"/>
                </a:moveTo>
                <a:lnTo>
                  <a:pt x="1464" y="1250"/>
                </a:lnTo>
                <a:lnTo>
                  <a:pt x="1468" y="1261"/>
                </a:lnTo>
                <a:lnTo>
                  <a:pt x="1472" y="1271"/>
                </a:lnTo>
                <a:lnTo>
                  <a:pt x="1474" y="1281"/>
                </a:lnTo>
                <a:lnTo>
                  <a:pt x="1474" y="1290"/>
                </a:lnTo>
                <a:lnTo>
                  <a:pt x="1474" y="1300"/>
                </a:lnTo>
                <a:lnTo>
                  <a:pt x="1470" y="1309"/>
                </a:lnTo>
                <a:lnTo>
                  <a:pt x="1466" y="1319"/>
                </a:lnTo>
                <a:lnTo>
                  <a:pt x="1462" y="1329"/>
                </a:lnTo>
                <a:lnTo>
                  <a:pt x="1455" y="1338"/>
                </a:lnTo>
                <a:lnTo>
                  <a:pt x="1447" y="1348"/>
                </a:lnTo>
                <a:lnTo>
                  <a:pt x="1437" y="1359"/>
                </a:lnTo>
                <a:lnTo>
                  <a:pt x="1426" y="1369"/>
                </a:lnTo>
                <a:lnTo>
                  <a:pt x="1414" y="1378"/>
                </a:lnTo>
                <a:lnTo>
                  <a:pt x="1401" y="1388"/>
                </a:lnTo>
                <a:lnTo>
                  <a:pt x="1386" y="1398"/>
                </a:lnTo>
                <a:lnTo>
                  <a:pt x="1370" y="1407"/>
                </a:lnTo>
                <a:lnTo>
                  <a:pt x="1353" y="1417"/>
                </a:lnTo>
                <a:lnTo>
                  <a:pt x="1338" y="1426"/>
                </a:lnTo>
                <a:lnTo>
                  <a:pt x="1318" y="1436"/>
                </a:lnTo>
                <a:lnTo>
                  <a:pt x="1301" y="1444"/>
                </a:lnTo>
                <a:lnTo>
                  <a:pt x="1282" y="1451"/>
                </a:lnTo>
                <a:lnTo>
                  <a:pt x="1263" y="1459"/>
                </a:lnTo>
                <a:lnTo>
                  <a:pt x="1243" y="1465"/>
                </a:lnTo>
                <a:lnTo>
                  <a:pt x="1222" y="1473"/>
                </a:lnTo>
                <a:lnTo>
                  <a:pt x="1201" y="1478"/>
                </a:lnTo>
                <a:lnTo>
                  <a:pt x="1180" y="1484"/>
                </a:lnTo>
                <a:lnTo>
                  <a:pt x="1157" y="1488"/>
                </a:lnTo>
                <a:lnTo>
                  <a:pt x="1134" y="1494"/>
                </a:lnTo>
                <a:lnTo>
                  <a:pt x="1111" y="1497"/>
                </a:lnTo>
                <a:lnTo>
                  <a:pt x="1088" y="1501"/>
                </a:lnTo>
                <a:lnTo>
                  <a:pt x="1063" y="1503"/>
                </a:lnTo>
                <a:lnTo>
                  <a:pt x="1013" y="1509"/>
                </a:lnTo>
                <a:lnTo>
                  <a:pt x="961" y="1513"/>
                </a:lnTo>
                <a:lnTo>
                  <a:pt x="909" y="1517"/>
                </a:lnTo>
                <a:lnTo>
                  <a:pt x="856" y="1520"/>
                </a:lnTo>
                <a:lnTo>
                  <a:pt x="802" y="1522"/>
                </a:lnTo>
                <a:lnTo>
                  <a:pt x="746" y="1522"/>
                </a:lnTo>
                <a:lnTo>
                  <a:pt x="718" y="1520"/>
                </a:lnTo>
                <a:lnTo>
                  <a:pt x="689" y="1520"/>
                </a:lnTo>
                <a:lnTo>
                  <a:pt x="660" y="1519"/>
                </a:lnTo>
                <a:lnTo>
                  <a:pt x="631" y="1517"/>
                </a:lnTo>
                <a:lnTo>
                  <a:pt x="602" y="1513"/>
                </a:lnTo>
                <a:lnTo>
                  <a:pt x="575" y="1511"/>
                </a:lnTo>
                <a:lnTo>
                  <a:pt x="549" y="1507"/>
                </a:lnTo>
                <a:lnTo>
                  <a:pt x="522" y="1501"/>
                </a:lnTo>
                <a:lnTo>
                  <a:pt x="499" y="1497"/>
                </a:lnTo>
                <a:lnTo>
                  <a:pt x="474" y="1492"/>
                </a:lnTo>
                <a:lnTo>
                  <a:pt x="453" y="1486"/>
                </a:lnTo>
                <a:lnTo>
                  <a:pt x="430" y="1478"/>
                </a:lnTo>
                <a:lnTo>
                  <a:pt x="408" y="1473"/>
                </a:lnTo>
                <a:lnTo>
                  <a:pt x="389" y="1465"/>
                </a:lnTo>
                <a:lnTo>
                  <a:pt x="370" y="1457"/>
                </a:lnTo>
                <a:lnTo>
                  <a:pt x="351" y="1449"/>
                </a:lnTo>
                <a:lnTo>
                  <a:pt x="334" y="1440"/>
                </a:lnTo>
                <a:lnTo>
                  <a:pt x="316" y="1430"/>
                </a:lnTo>
                <a:lnTo>
                  <a:pt x="299" y="1421"/>
                </a:lnTo>
                <a:lnTo>
                  <a:pt x="284" y="1411"/>
                </a:lnTo>
                <a:lnTo>
                  <a:pt x="268" y="1401"/>
                </a:lnTo>
                <a:lnTo>
                  <a:pt x="253" y="1390"/>
                </a:lnTo>
                <a:lnTo>
                  <a:pt x="240" y="1380"/>
                </a:lnTo>
                <a:lnTo>
                  <a:pt x="226" y="1369"/>
                </a:lnTo>
                <a:lnTo>
                  <a:pt x="215" y="1357"/>
                </a:lnTo>
                <a:lnTo>
                  <a:pt x="203" y="1346"/>
                </a:lnTo>
                <a:lnTo>
                  <a:pt x="192" y="1334"/>
                </a:lnTo>
                <a:lnTo>
                  <a:pt x="182" y="1321"/>
                </a:lnTo>
                <a:lnTo>
                  <a:pt x="170" y="1307"/>
                </a:lnTo>
                <a:lnTo>
                  <a:pt x="163" y="1294"/>
                </a:lnTo>
                <a:lnTo>
                  <a:pt x="153" y="1281"/>
                </a:lnTo>
                <a:lnTo>
                  <a:pt x="145" y="1265"/>
                </a:lnTo>
                <a:lnTo>
                  <a:pt x="136" y="1250"/>
                </a:lnTo>
                <a:lnTo>
                  <a:pt x="130" y="1234"/>
                </a:lnTo>
                <a:lnTo>
                  <a:pt x="122" y="1219"/>
                </a:lnTo>
                <a:lnTo>
                  <a:pt x="115" y="1202"/>
                </a:lnTo>
                <a:lnTo>
                  <a:pt x="113" y="1194"/>
                </a:lnTo>
                <a:lnTo>
                  <a:pt x="109" y="1185"/>
                </a:lnTo>
                <a:lnTo>
                  <a:pt x="105" y="1177"/>
                </a:lnTo>
                <a:lnTo>
                  <a:pt x="103" y="1167"/>
                </a:lnTo>
                <a:lnTo>
                  <a:pt x="99" y="1156"/>
                </a:lnTo>
                <a:lnTo>
                  <a:pt x="97" y="1146"/>
                </a:lnTo>
                <a:lnTo>
                  <a:pt x="94" y="1135"/>
                </a:lnTo>
                <a:lnTo>
                  <a:pt x="92" y="1123"/>
                </a:lnTo>
                <a:lnTo>
                  <a:pt x="88" y="1110"/>
                </a:lnTo>
                <a:lnTo>
                  <a:pt x="86" y="1096"/>
                </a:lnTo>
                <a:lnTo>
                  <a:pt x="84" y="1083"/>
                </a:lnTo>
                <a:lnTo>
                  <a:pt x="80" y="1067"/>
                </a:lnTo>
                <a:lnTo>
                  <a:pt x="78" y="1052"/>
                </a:lnTo>
                <a:lnTo>
                  <a:pt x="76" y="1037"/>
                </a:lnTo>
                <a:lnTo>
                  <a:pt x="74" y="1021"/>
                </a:lnTo>
                <a:lnTo>
                  <a:pt x="73" y="1004"/>
                </a:lnTo>
                <a:lnTo>
                  <a:pt x="71" y="987"/>
                </a:lnTo>
                <a:lnTo>
                  <a:pt x="69" y="968"/>
                </a:lnTo>
                <a:lnTo>
                  <a:pt x="67" y="950"/>
                </a:lnTo>
                <a:lnTo>
                  <a:pt x="65" y="929"/>
                </a:lnTo>
                <a:lnTo>
                  <a:pt x="63" y="910"/>
                </a:lnTo>
                <a:lnTo>
                  <a:pt x="63" y="889"/>
                </a:lnTo>
                <a:lnTo>
                  <a:pt x="61" y="868"/>
                </a:lnTo>
                <a:lnTo>
                  <a:pt x="59" y="847"/>
                </a:lnTo>
                <a:lnTo>
                  <a:pt x="59" y="824"/>
                </a:lnTo>
                <a:lnTo>
                  <a:pt x="57" y="801"/>
                </a:lnTo>
                <a:lnTo>
                  <a:pt x="57" y="778"/>
                </a:lnTo>
                <a:lnTo>
                  <a:pt x="57" y="753"/>
                </a:lnTo>
                <a:lnTo>
                  <a:pt x="55" y="728"/>
                </a:lnTo>
                <a:lnTo>
                  <a:pt x="55" y="703"/>
                </a:lnTo>
                <a:lnTo>
                  <a:pt x="55" y="676"/>
                </a:lnTo>
                <a:lnTo>
                  <a:pt x="55" y="649"/>
                </a:lnTo>
                <a:lnTo>
                  <a:pt x="55" y="622"/>
                </a:lnTo>
                <a:lnTo>
                  <a:pt x="55" y="597"/>
                </a:lnTo>
                <a:lnTo>
                  <a:pt x="55" y="572"/>
                </a:lnTo>
                <a:lnTo>
                  <a:pt x="55" y="547"/>
                </a:lnTo>
                <a:lnTo>
                  <a:pt x="55" y="522"/>
                </a:lnTo>
                <a:lnTo>
                  <a:pt x="53" y="499"/>
                </a:lnTo>
                <a:lnTo>
                  <a:pt x="53" y="476"/>
                </a:lnTo>
                <a:lnTo>
                  <a:pt x="53" y="455"/>
                </a:lnTo>
                <a:lnTo>
                  <a:pt x="51" y="434"/>
                </a:lnTo>
                <a:lnTo>
                  <a:pt x="51" y="413"/>
                </a:lnTo>
                <a:lnTo>
                  <a:pt x="51" y="394"/>
                </a:lnTo>
                <a:lnTo>
                  <a:pt x="49" y="375"/>
                </a:lnTo>
                <a:lnTo>
                  <a:pt x="49" y="355"/>
                </a:lnTo>
                <a:lnTo>
                  <a:pt x="48" y="338"/>
                </a:lnTo>
                <a:lnTo>
                  <a:pt x="48" y="321"/>
                </a:lnTo>
                <a:lnTo>
                  <a:pt x="46" y="304"/>
                </a:lnTo>
                <a:lnTo>
                  <a:pt x="46" y="288"/>
                </a:lnTo>
                <a:lnTo>
                  <a:pt x="44" y="273"/>
                </a:lnTo>
                <a:lnTo>
                  <a:pt x="42" y="257"/>
                </a:lnTo>
                <a:lnTo>
                  <a:pt x="42" y="244"/>
                </a:lnTo>
                <a:lnTo>
                  <a:pt x="40" y="231"/>
                </a:lnTo>
                <a:lnTo>
                  <a:pt x="38" y="217"/>
                </a:lnTo>
                <a:lnTo>
                  <a:pt x="36" y="206"/>
                </a:lnTo>
                <a:lnTo>
                  <a:pt x="34" y="194"/>
                </a:lnTo>
                <a:lnTo>
                  <a:pt x="32" y="183"/>
                </a:lnTo>
                <a:lnTo>
                  <a:pt x="32" y="173"/>
                </a:lnTo>
                <a:lnTo>
                  <a:pt x="30" y="163"/>
                </a:lnTo>
                <a:lnTo>
                  <a:pt x="28" y="154"/>
                </a:lnTo>
                <a:lnTo>
                  <a:pt x="26" y="146"/>
                </a:lnTo>
                <a:lnTo>
                  <a:pt x="23" y="138"/>
                </a:lnTo>
                <a:lnTo>
                  <a:pt x="21" y="131"/>
                </a:lnTo>
                <a:lnTo>
                  <a:pt x="19" y="125"/>
                </a:lnTo>
                <a:lnTo>
                  <a:pt x="15" y="114"/>
                </a:lnTo>
                <a:lnTo>
                  <a:pt x="11" y="106"/>
                </a:lnTo>
                <a:lnTo>
                  <a:pt x="9" y="96"/>
                </a:lnTo>
                <a:lnTo>
                  <a:pt x="5" y="87"/>
                </a:lnTo>
                <a:lnTo>
                  <a:pt x="3" y="79"/>
                </a:lnTo>
                <a:lnTo>
                  <a:pt x="1" y="71"/>
                </a:lnTo>
                <a:lnTo>
                  <a:pt x="0" y="58"/>
                </a:lnTo>
                <a:lnTo>
                  <a:pt x="0" y="50"/>
                </a:lnTo>
                <a:lnTo>
                  <a:pt x="0" y="44"/>
                </a:lnTo>
                <a:lnTo>
                  <a:pt x="0" y="39"/>
                </a:lnTo>
                <a:lnTo>
                  <a:pt x="1" y="35"/>
                </a:lnTo>
                <a:lnTo>
                  <a:pt x="1" y="29"/>
                </a:lnTo>
                <a:lnTo>
                  <a:pt x="3" y="25"/>
                </a:lnTo>
                <a:lnTo>
                  <a:pt x="5" y="21"/>
                </a:lnTo>
                <a:lnTo>
                  <a:pt x="7" y="19"/>
                </a:lnTo>
                <a:lnTo>
                  <a:pt x="11" y="14"/>
                </a:lnTo>
                <a:lnTo>
                  <a:pt x="17" y="10"/>
                </a:lnTo>
                <a:lnTo>
                  <a:pt x="23" y="6"/>
                </a:lnTo>
                <a:lnTo>
                  <a:pt x="28" y="2"/>
                </a:lnTo>
                <a:lnTo>
                  <a:pt x="36" y="0"/>
                </a:lnTo>
                <a:lnTo>
                  <a:pt x="44" y="0"/>
                </a:lnTo>
                <a:lnTo>
                  <a:pt x="49" y="0"/>
                </a:lnTo>
                <a:lnTo>
                  <a:pt x="55" y="2"/>
                </a:lnTo>
                <a:lnTo>
                  <a:pt x="61" y="4"/>
                </a:lnTo>
                <a:lnTo>
                  <a:pt x="67" y="6"/>
                </a:lnTo>
                <a:lnTo>
                  <a:pt x="94" y="16"/>
                </a:lnTo>
                <a:lnTo>
                  <a:pt x="107" y="19"/>
                </a:lnTo>
                <a:lnTo>
                  <a:pt x="121" y="25"/>
                </a:lnTo>
                <a:lnTo>
                  <a:pt x="134" y="27"/>
                </a:lnTo>
                <a:lnTo>
                  <a:pt x="147" y="31"/>
                </a:lnTo>
                <a:lnTo>
                  <a:pt x="161" y="31"/>
                </a:lnTo>
                <a:lnTo>
                  <a:pt x="176" y="33"/>
                </a:lnTo>
                <a:lnTo>
                  <a:pt x="176" y="94"/>
                </a:lnTo>
                <a:lnTo>
                  <a:pt x="176" y="154"/>
                </a:lnTo>
                <a:lnTo>
                  <a:pt x="176" y="213"/>
                </a:lnTo>
                <a:lnTo>
                  <a:pt x="176" y="269"/>
                </a:lnTo>
                <a:lnTo>
                  <a:pt x="176" y="325"/>
                </a:lnTo>
                <a:lnTo>
                  <a:pt x="176" y="376"/>
                </a:lnTo>
                <a:lnTo>
                  <a:pt x="178" y="428"/>
                </a:lnTo>
                <a:lnTo>
                  <a:pt x="178" y="478"/>
                </a:lnTo>
                <a:lnTo>
                  <a:pt x="178" y="526"/>
                </a:lnTo>
                <a:lnTo>
                  <a:pt x="180" y="572"/>
                </a:lnTo>
                <a:lnTo>
                  <a:pt x="180" y="616"/>
                </a:lnTo>
                <a:lnTo>
                  <a:pt x="182" y="659"/>
                </a:lnTo>
                <a:lnTo>
                  <a:pt x="182" y="699"/>
                </a:lnTo>
                <a:lnTo>
                  <a:pt x="184" y="737"/>
                </a:lnTo>
                <a:lnTo>
                  <a:pt x="184" y="774"/>
                </a:lnTo>
                <a:lnTo>
                  <a:pt x="186" y="808"/>
                </a:lnTo>
                <a:lnTo>
                  <a:pt x="188" y="843"/>
                </a:lnTo>
                <a:lnTo>
                  <a:pt x="190" y="874"/>
                </a:lnTo>
                <a:lnTo>
                  <a:pt x="192" y="902"/>
                </a:lnTo>
                <a:lnTo>
                  <a:pt x="192" y="931"/>
                </a:lnTo>
                <a:lnTo>
                  <a:pt x="193" y="956"/>
                </a:lnTo>
                <a:lnTo>
                  <a:pt x="197" y="981"/>
                </a:lnTo>
                <a:lnTo>
                  <a:pt x="199" y="1004"/>
                </a:lnTo>
                <a:lnTo>
                  <a:pt x="201" y="1023"/>
                </a:lnTo>
                <a:lnTo>
                  <a:pt x="203" y="1043"/>
                </a:lnTo>
                <a:lnTo>
                  <a:pt x="205" y="1060"/>
                </a:lnTo>
                <a:lnTo>
                  <a:pt x="209" y="1075"/>
                </a:lnTo>
                <a:lnTo>
                  <a:pt x="211" y="1089"/>
                </a:lnTo>
                <a:lnTo>
                  <a:pt x="215" y="1098"/>
                </a:lnTo>
                <a:lnTo>
                  <a:pt x="216" y="1108"/>
                </a:lnTo>
                <a:lnTo>
                  <a:pt x="220" y="1115"/>
                </a:lnTo>
                <a:lnTo>
                  <a:pt x="224" y="1123"/>
                </a:lnTo>
                <a:lnTo>
                  <a:pt x="228" y="1135"/>
                </a:lnTo>
                <a:lnTo>
                  <a:pt x="234" y="1146"/>
                </a:lnTo>
                <a:lnTo>
                  <a:pt x="240" y="1156"/>
                </a:lnTo>
                <a:lnTo>
                  <a:pt x="245" y="1167"/>
                </a:lnTo>
                <a:lnTo>
                  <a:pt x="253" y="1177"/>
                </a:lnTo>
                <a:lnTo>
                  <a:pt x="261" y="1187"/>
                </a:lnTo>
                <a:lnTo>
                  <a:pt x="270" y="1196"/>
                </a:lnTo>
                <a:lnTo>
                  <a:pt x="278" y="1204"/>
                </a:lnTo>
                <a:lnTo>
                  <a:pt x="289" y="1213"/>
                </a:lnTo>
                <a:lnTo>
                  <a:pt x="299" y="1221"/>
                </a:lnTo>
                <a:lnTo>
                  <a:pt x="311" y="1229"/>
                </a:lnTo>
                <a:lnTo>
                  <a:pt x="322" y="1236"/>
                </a:lnTo>
                <a:lnTo>
                  <a:pt x="336" y="1244"/>
                </a:lnTo>
                <a:lnTo>
                  <a:pt x="349" y="1252"/>
                </a:lnTo>
                <a:lnTo>
                  <a:pt x="364" y="1259"/>
                </a:lnTo>
                <a:lnTo>
                  <a:pt x="380" y="1267"/>
                </a:lnTo>
                <a:lnTo>
                  <a:pt x="395" y="1275"/>
                </a:lnTo>
                <a:lnTo>
                  <a:pt x="410" y="1281"/>
                </a:lnTo>
                <a:lnTo>
                  <a:pt x="428" y="1286"/>
                </a:lnTo>
                <a:lnTo>
                  <a:pt x="445" y="1292"/>
                </a:lnTo>
                <a:lnTo>
                  <a:pt x="460" y="1298"/>
                </a:lnTo>
                <a:lnTo>
                  <a:pt x="479" y="1302"/>
                </a:lnTo>
                <a:lnTo>
                  <a:pt x="497" y="1306"/>
                </a:lnTo>
                <a:lnTo>
                  <a:pt x="514" y="1307"/>
                </a:lnTo>
                <a:lnTo>
                  <a:pt x="551" y="1313"/>
                </a:lnTo>
                <a:lnTo>
                  <a:pt x="589" y="1317"/>
                </a:lnTo>
                <a:lnTo>
                  <a:pt x="627" y="1319"/>
                </a:lnTo>
                <a:lnTo>
                  <a:pt x="668" y="1319"/>
                </a:lnTo>
                <a:lnTo>
                  <a:pt x="687" y="1319"/>
                </a:lnTo>
                <a:lnTo>
                  <a:pt x="706" y="1319"/>
                </a:lnTo>
                <a:lnTo>
                  <a:pt x="725" y="1319"/>
                </a:lnTo>
                <a:lnTo>
                  <a:pt x="744" y="1319"/>
                </a:lnTo>
                <a:lnTo>
                  <a:pt x="779" y="1319"/>
                </a:lnTo>
                <a:lnTo>
                  <a:pt x="813" y="1317"/>
                </a:lnTo>
                <a:lnTo>
                  <a:pt x="846" y="1317"/>
                </a:lnTo>
                <a:lnTo>
                  <a:pt x="879" y="1313"/>
                </a:lnTo>
                <a:lnTo>
                  <a:pt x="911" y="1311"/>
                </a:lnTo>
                <a:lnTo>
                  <a:pt x="942" y="1307"/>
                </a:lnTo>
                <a:lnTo>
                  <a:pt x="973" y="1302"/>
                </a:lnTo>
                <a:lnTo>
                  <a:pt x="1004" y="1296"/>
                </a:lnTo>
                <a:lnTo>
                  <a:pt x="1032" y="1290"/>
                </a:lnTo>
                <a:lnTo>
                  <a:pt x="1059" y="1284"/>
                </a:lnTo>
                <a:lnTo>
                  <a:pt x="1086" y="1275"/>
                </a:lnTo>
                <a:lnTo>
                  <a:pt x="1111" y="1265"/>
                </a:lnTo>
                <a:lnTo>
                  <a:pt x="1124" y="1261"/>
                </a:lnTo>
                <a:lnTo>
                  <a:pt x="1136" y="1254"/>
                </a:lnTo>
                <a:lnTo>
                  <a:pt x="1148" y="1248"/>
                </a:lnTo>
                <a:lnTo>
                  <a:pt x="1159" y="1240"/>
                </a:lnTo>
                <a:lnTo>
                  <a:pt x="1169" y="1234"/>
                </a:lnTo>
                <a:lnTo>
                  <a:pt x="1180" y="1227"/>
                </a:lnTo>
                <a:lnTo>
                  <a:pt x="1190" y="1217"/>
                </a:lnTo>
                <a:lnTo>
                  <a:pt x="1199" y="1206"/>
                </a:lnTo>
                <a:lnTo>
                  <a:pt x="1209" y="1192"/>
                </a:lnTo>
                <a:lnTo>
                  <a:pt x="1217" y="1177"/>
                </a:lnTo>
                <a:lnTo>
                  <a:pt x="1224" y="1162"/>
                </a:lnTo>
                <a:lnTo>
                  <a:pt x="1232" y="1142"/>
                </a:lnTo>
                <a:lnTo>
                  <a:pt x="1240" y="1121"/>
                </a:lnTo>
                <a:lnTo>
                  <a:pt x="1245" y="1098"/>
                </a:lnTo>
                <a:lnTo>
                  <a:pt x="1253" y="1075"/>
                </a:lnTo>
                <a:lnTo>
                  <a:pt x="1259" y="1048"/>
                </a:lnTo>
                <a:lnTo>
                  <a:pt x="1265" y="1021"/>
                </a:lnTo>
                <a:lnTo>
                  <a:pt x="1268" y="991"/>
                </a:lnTo>
                <a:lnTo>
                  <a:pt x="1274" y="958"/>
                </a:lnTo>
                <a:lnTo>
                  <a:pt x="1278" y="925"/>
                </a:lnTo>
                <a:lnTo>
                  <a:pt x="1280" y="895"/>
                </a:lnTo>
                <a:lnTo>
                  <a:pt x="1284" y="866"/>
                </a:lnTo>
                <a:lnTo>
                  <a:pt x="1286" y="837"/>
                </a:lnTo>
                <a:lnTo>
                  <a:pt x="1288" y="826"/>
                </a:lnTo>
                <a:lnTo>
                  <a:pt x="1290" y="812"/>
                </a:lnTo>
                <a:lnTo>
                  <a:pt x="1291" y="801"/>
                </a:lnTo>
                <a:lnTo>
                  <a:pt x="1291" y="789"/>
                </a:lnTo>
                <a:lnTo>
                  <a:pt x="1293" y="778"/>
                </a:lnTo>
                <a:lnTo>
                  <a:pt x="1295" y="768"/>
                </a:lnTo>
                <a:lnTo>
                  <a:pt x="1297" y="757"/>
                </a:lnTo>
                <a:lnTo>
                  <a:pt x="1299" y="747"/>
                </a:lnTo>
                <a:lnTo>
                  <a:pt x="1301" y="739"/>
                </a:lnTo>
                <a:lnTo>
                  <a:pt x="1303" y="730"/>
                </a:lnTo>
                <a:lnTo>
                  <a:pt x="1305" y="722"/>
                </a:lnTo>
                <a:lnTo>
                  <a:pt x="1305" y="714"/>
                </a:lnTo>
                <a:lnTo>
                  <a:pt x="1307" y="707"/>
                </a:lnTo>
                <a:lnTo>
                  <a:pt x="1309" y="701"/>
                </a:lnTo>
                <a:lnTo>
                  <a:pt x="1311" y="695"/>
                </a:lnTo>
                <a:lnTo>
                  <a:pt x="1313" y="689"/>
                </a:lnTo>
                <a:lnTo>
                  <a:pt x="1315" y="684"/>
                </a:lnTo>
                <a:lnTo>
                  <a:pt x="1315" y="680"/>
                </a:lnTo>
                <a:lnTo>
                  <a:pt x="1316" y="676"/>
                </a:lnTo>
                <a:lnTo>
                  <a:pt x="1318" y="672"/>
                </a:lnTo>
                <a:lnTo>
                  <a:pt x="1320" y="670"/>
                </a:lnTo>
                <a:lnTo>
                  <a:pt x="1320" y="666"/>
                </a:lnTo>
                <a:lnTo>
                  <a:pt x="1322" y="666"/>
                </a:lnTo>
                <a:lnTo>
                  <a:pt x="1324" y="664"/>
                </a:lnTo>
                <a:lnTo>
                  <a:pt x="1324" y="662"/>
                </a:lnTo>
                <a:lnTo>
                  <a:pt x="1326" y="662"/>
                </a:lnTo>
                <a:lnTo>
                  <a:pt x="1328" y="664"/>
                </a:lnTo>
                <a:lnTo>
                  <a:pt x="1332" y="666"/>
                </a:lnTo>
                <a:lnTo>
                  <a:pt x="1334" y="672"/>
                </a:lnTo>
                <a:lnTo>
                  <a:pt x="1336" y="674"/>
                </a:lnTo>
                <a:lnTo>
                  <a:pt x="1338" y="678"/>
                </a:lnTo>
                <a:lnTo>
                  <a:pt x="1339" y="682"/>
                </a:lnTo>
                <a:lnTo>
                  <a:pt x="1341" y="686"/>
                </a:lnTo>
                <a:lnTo>
                  <a:pt x="1341" y="691"/>
                </a:lnTo>
                <a:lnTo>
                  <a:pt x="1343" y="697"/>
                </a:lnTo>
                <a:lnTo>
                  <a:pt x="1345" y="703"/>
                </a:lnTo>
                <a:lnTo>
                  <a:pt x="1347" y="709"/>
                </a:lnTo>
                <a:lnTo>
                  <a:pt x="1349" y="716"/>
                </a:lnTo>
                <a:lnTo>
                  <a:pt x="1351" y="724"/>
                </a:lnTo>
                <a:lnTo>
                  <a:pt x="1353" y="732"/>
                </a:lnTo>
                <a:lnTo>
                  <a:pt x="1355" y="739"/>
                </a:lnTo>
                <a:lnTo>
                  <a:pt x="1359" y="749"/>
                </a:lnTo>
                <a:lnTo>
                  <a:pt x="1361" y="758"/>
                </a:lnTo>
                <a:lnTo>
                  <a:pt x="1363" y="768"/>
                </a:lnTo>
                <a:lnTo>
                  <a:pt x="1364" y="780"/>
                </a:lnTo>
                <a:lnTo>
                  <a:pt x="1366" y="789"/>
                </a:lnTo>
                <a:lnTo>
                  <a:pt x="1368" y="801"/>
                </a:lnTo>
                <a:lnTo>
                  <a:pt x="1370" y="814"/>
                </a:lnTo>
                <a:lnTo>
                  <a:pt x="1372" y="826"/>
                </a:lnTo>
                <a:lnTo>
                  <a:pt x="1376" y="839"/>
                </a:lnTo>
                <a:lnTo>
                  <a:pt x="1378" y="853"/>
                </a:lnTo>
                <a:lnTo>
                  <a:pt x="1380" y="866"/>
                </a:lnTo>
                <a:lnTo>
                  <a:pt x="1382" y="881"/>
                </a:lnTo>
                <a:lnTo>
                  <a:pt x="1384" y="897"/>
                </a:lnTo>
                <a:lnTo>
                  <a:pt x="1386" y="912"/>
                </a:lnTo>
                <a:lnTo>
                  <a:pt x="1391" y="945"/>
                </a:lnTo>
                <a:lnTo>
                  <a:pt x="1395" y="973"/>
                </a:lnTo>
                <a:lnTo>
                  <a:pt x="1399" y="1002"/>
                </a:lnTo>
                <a:lnTo>
                  <a:pt x="1405" y="1029"/>
                </a:lnTo>
                <a:lnTo>
                  <a:pt x="1409" y="1054"/>
                </a:lnTo>
                <a:lnTo>
                  <a:pt x="1412" y="1077"/>
                </a:lnTo>
                <a:lnTo>
                  <a:pt x="1418" y="1100"/>
                </a:lnTo>
                <a:lnTo>
                  <a:pt x="1422" y="1121"/>
                </a:lnTo>
                <a:lnTo>
                  <a:pt x="1426" y="1140"/>
                </a:lnTo>
                <a:lnTo>
                  <a:pt x="1432" y="1158"/>
                </a:lnTo>
                <a:lnTo>
                  <a:pt x="1435" y="1175"/>
                </a:lnTo>
                <a:lnTo>
                  <a:pt x="1439" y="1190"/>
                </a:lnTo>
                <a:lnTo>
                  <a:pt x="1445" y="1206"/>
                </a:lnTo>
                <a:lnTo>
                  <a:pt x="1449" y="1219"/>
                </a:lnTo>
                <a:lnTo>
                  <a:pt x="1453" y="1231"/>
                </a:lnTo>
                <a:lnTo>
                  <a:pt x="1458" y="12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5"/>
          <p:cNvSpPr/>
          <p:nvPr/>
        </p:nvSpPr>
        <p:spPr>
          <a:xfrm>
            <a:off x="6656400" y="4075200"/>
            <a:ext cx="733320" cy="201600"/>
          </a:xfrm>
          <a:custGeom>
            <a:avLst/>
            <a:gdLst/>
            <a:ahLst/>
            <a:rect l="l" t="t" r="r" b="b"/>
            <a:pathLst>
              <a:path w="923" h="256">
                <a:moveTo>
                  <a:pt x="0" y="256"/>
                </a:moveTo>
                <a:lnTo>
                  <a:pt x="0" y="163"/>
                </a:lnTo>
                <a:lnTo>
                  <a:pt x="42" y="154"/>
                </a:lnTo>
                <a:lnTo>
                  <a:pt x="80" y="146"/>
                </a:lnTo>
                <a:lnTo>
                  <a:pt x="121" y="137"/>
                </a:lnTo>
                <a:lnTo>
                  <a:pt x="157" y="129"/>
                </a:lnTo>
                <a:lnTo>
                  <a:pt x="194" y="121"/>
                </a:lnTo>
                <a:lnTo>
                  <a:pt x="230" y="113"/>
                </a:lnTo>
                <a:lnTo>
                  <a:pt x="265" y="108"/>
                </a:lnTo>
                <a:lnTo>
                  <a:pt x="297" y="100"/>
                </a:lnTo>
                <a:lnTo>
                  <a:pt x="330" y="94"/>
                </a:lnTo>
                <a:lnTo>
                  <a:pt x="361" y="87"/>
                </a:lnTo>
                <a:lnTo>
                  <a:pt x="389" y="81"/>
                </a:lnTo>
                <a:lnTo>
                  <a:pt x="418" y="75"/>
                </a:lnTo>
                <a:lnTo>
                  <a:pt x="445" y="69"/>
                </a:lnTo>
                <a:lnTo>
                  <a:pt x="472" y="64"/>
                </a:lnTo>
                <a:lnTo>
                  <a:pt x="497" y="58"/>
                </a:lnTo>
                <a:lnTo>
                  <a:pt x="522" y="54"/>
                </a:lnTo>
                <a:lnTo>
                  <a:pt x="545" y="48"/>
                </a:lnTo>
                <a:lnTo>
                  <a:pt x="566" y="44"/>
                </a:lnTo>
                <a:lnTo>
                  <a:pt x="587" y="41"/>
                </a:lnTo>
                <a:lnTo>
                  <a:pt x="606" y="37"/>
                </a:lnTo>
                <a:lnTo>
                  <a:pt x="626" y="33"/>
                </a:lnTo>
                <a:lnTo>
                  <a:pt x="643" y="29"/>
                </a:lnTo>
                <a:lnTo>
                  <a:pt x="660" y="25"/>
                </a:lnTo>
                <a:lnTo>
                  <a:pt x="675" y="21"/>
                </a:lnTo>
                <a:lnTo>
                  <a:pt x="689" y="19"/>
                </a:lnTo>
                <a:lnTo>
                  <a:pt x="702" y="18"/>
                </a:lnTo>
                <a:lnTo>
                  <a:pt x="714" y="14"/>
                </a:lnTo>
                <a:lnTo>
                  <a:pt x="723" y="12"/>
                </a:lnTo>
                <a:lnTo>
                  <a:pt x="733" y="10"/>
                </a:lnTo>
                <a:lnTo>
                  <a:pt x="743" y="8"/>
                </a:lnTo>
                <a:lnTo>
                  <a:pt x="750" y="6"/>
                </a:lnTo>
                <a:lnTo>
                  <a:pt x="756" y="6"/>
                </a:lnTo>
                <a:lnTo>
                  <a:pt x="766" y="2"/>
                </a:lnTo>
                <a:lnTo>
                  <a:pt x="777" y="2"/>
                </a:lnTo>
                <a:lnTo>
                  <a:pt x="787" y="0"/>
                </a:lnTo>
                <a:lnTo>
                  <a:pt x="796" y="0"/>
                </a:lnTo>
                <a:lnTo>
                  <a:pt x="814" y="0"/>
                </a:lnTo>
                <a:lnTo>
                  <a:pt x="831" y="2"/>
                </a:lnTo>
                <a:lnTo>
                  <a:pt x="846" y="4"/>
                </a:lnTo>
                <a:lnTo>
                  <a:pt x="860" y="8"/>
                </a:lnTo>
                <a:lnTo>
                  <a:pt x="873" y="14"/>
                </a:lnTo>
                <a:lnTo>
                  <a:pt x="889" y="18"/>
                </a:lnTo>
                <a:lnTo>
                  <a:pt x="896" y="23"/>
                </a:lnTo>
                <a:lnTo>
                  <a:pt x="904" y="31"/>
                </a:lnTo>
                <a:lnTo>
                  <a:pt x="910" y="37"/>
                </a:lnTo>
                <a:lnTo>
                  <a:pt x="915" y="44"/>
                </a:lnTo>
                <a:lnTo>
                  <a:pt x="919" y="52"/>
                </a:lnTo>
                <a:lnTo>
                  <a:pt x="921" y="60"/>
                </a:lnTo>
                <a:lnTo>
                  <a:pt x="923" y="66"/>
                </a:lnTo>
                <a:lnTo>
                  <a:pt x="923" y="71"/>
                </a:lnTo>
                <a:lnTo>
                  <a:pt x="923" y="75"/>
                </a:lnTo>
                <a:lnTo>
                  <a:pt x="923" y="81"/>
                </a:lnTo>
                <a:lnTo>
                  <a:pt x="921" y="85"/>
                </a:lnTo>
                <a:lnTo>
                  <a:pt x="919" y="89"/>
                </a:lnTo>
                <a:lnTo>
                  <a:pt x="917" y="92"/>
                </a:lnTo>
                <a:lnTo>
                  <a:pt x="913" y="94"/>
                </a:lnTo>
                <a:lnTo>
                  <a:pt x="908" y="102"/>
                </a:lnTo>
                <a:lnTo>
                  <a:pt x="898" y="108"/>
                </a:lnTo>
                <a:lnTo>
                  <a:pt x="889" y="113"/>
                </a:lnTo>
                <a:lnTo>
                  <a:pt x="877" y="117"/>
                </a:lnTo>
                <a:lnTo>
                  <a:pt x="864" y="123"/>
                </a:lnTo>
                <a:lnTo>
                  <a:pt x="860" y="125"/>
                </a:lnTo>
                <a:lnTo>
                  <a:pt x="856" y="125"/>
                </a:lnTo>
                <a:lnTo>
                  <a:pt x="852" y="127"/>
                </a:lnTo>
                <a:lnTo>
                  <a:pt x="846" y="129"/>
                </a:lnTo>
                <a:lnTo>
                  <a:pt x="841" y="129"/>
                </a:lnTo>
                <a:lnTo>
                  <a:pt x="835" y="131"/>
                </a:lnTo>
                <a:lnTo>
                  <a:pt x="827" y="133"/>
                </a:lnTo>
                <a:lnTo>
                  <a:pt x="821" y="133"/>
                </a:lnTo>
                <a:lnTo>
                  <a:pt x="814" y="135"/>
                </a:lnTo>
                <a:lnTo>
                  <a:pt x="806" y="137"/>
                </a:lnTo>
                <a:lnTo>
                  <a:pt x="796" y="137"/>
                </a:lnTo>
                <a:lnTo>
                  <a:pt x="787" y="138"/>
                </a:lnTo>
                <a:lnTo>
                  <a:pt x="779" y="140"/>
                </a:lnTo>
                <a:lnTo>
                  <a:pt x="768" y="142"/>
                </a:lnTo>
                <a:lnTo>
                  <a:pt x="758" y="142"/>
                </a:lnTo>
                <a:lnTo>
                  <a:pt x="746" y="144"/>
                </a:lnTo>
                <a:lnTo>
                  <a:pt x="735" y="146"/>
                </a:lnTo>
                <a:lnTo>
                  <a:pt x="723" y="148"/>
                </a:lnTo>
                <a:lnTo>
                  <a:pt x="710" y="150"/>
                </a:lnTo>
                <a:lnTo>
                  <a:pt x="698" y="152"/>
                </a:lnTo>
                <a:lnTo>
                  <a:pt x="685" y="152"/>
                </a:lnTo>
                <a:lnTo>
                  <a:pt x="670" y="154"/>
                </a:lnTo>
                <a:lnTo>
                  <a:pt x="656" y="156"/>
                </a:lnTo>
                <a:lnTo>
                  <a:pt x="641" y="158"/>
                </a:lnTo>
                <a:lnTo>
                  <a:pt x="626" y="160"/>
                </a:lnTo>
                <a:lnTo>
                  <a:pt x="610" y="161"/>
                </a:lnTo>
                <a:lnTo>
                  <a:pt x="593" y="163"/>
                </a:lnTo>
                <a:lnTo>
                  <a:pt x="576" y="167"/>
                </a:lnTo>
                <a:lnTo>
                  <a:pt x="558" y="169"/>
                </a:lnTo>
                <a:lnTo>
                  <a:pt x="541" y="171"/>
                </a:lnTo>
                <a:lnTo>
                  <a:pt x="522" y="173"/>
                </a:lnTo>
                <a:lnTo>
                  <a:pt x="505" y="177"/>
                </a:lnTo>
                <a:lnTo>
                  <a:pt x="466" y="183"/>
                </a:lnTo>
                <a:lnTo>
                  <a:pt x="430" y="190"/>
                </a:lnTo>
                <a:lnTo>
                  <a:pt x="393" y="196"/>
                </a:lnTo>
                <a:lnTo>
                  <a:pt x="357" y="204"/>
                </a:lnTo>
                <a:lnTo>
                  <a:pt x="324" y="209"/>
                </a:lnTo>
                <a:lnTo>
                  <a:pt x="290" y="215"/>
                </a:lnTo>
                <a:lnTo>
                  <a:pt x="257" y="221"/>
                </a:lnTo>
                <a:lnTo>
                  <a:pt x="224" y="225"/>
                </a:lnTo>
                <a:lnTo>
                  <a:pt x="194" y="231"/>
                </a:lnTo>
                <a:lnTo>
                  <a:pt x="165" y="234"/>
                </a:lnTo>
                <a:lnTo>
                  <a:pt x="134" y="238"/>
                </a:lnTo>
                <a:lnTo>
                  <a:pt x="105" y="242"/>
                </a:lnTo>
                <a:lnTo>
                  <a:pt x="78" y="246"/>
                </a:lnTo>
                <a:lnTo>
                  <a:pt x="52" y="250"/>
                </a:lnTo>
                <a:lnTo>
                  <a:pt x="25" y="252"/>
                </a:lnTo>
                <a:lnTo>
                  <a:pt x="0" y="2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96"/>
          <p:cNvSpPr/>
          <p:nvPr/>
        </p:nvSpPr>
        <p:spPr>
          <a:xfrm>
            <a:off x="6915240" y="3765600"/>
            <a:ext cx="104760" cy="417600"/>
          </a:xfrm>
          <a:custGeom>
            <a:avLst/>
            <a:gdLst/>
            <a:ahLst/>
            <a:rect l="l" t="t" r="r" b="b"/>
            <a:pathLst>
              <a:path w="133" h="526">
                <a:moveTo>
                  <a:pt x="0" y="0"/>
                </a:moveTo>
                <a:lnTo>
                  <a:pt x="6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9"/>
                </a:lnTo>
                <a:lnTo>
                  <a:pt x="133" y="28"/>
                </a:lnTo>
                <a:lnTo>
                  <a:pt x="131" y="38"/>
                </a:lnTo>
                <a:lnTo>
                  <a:pt x="131" y="49"/>
                </a:lnTo>
                <a:lnTo>
                  <a:pt x="131" y="61"/>
                </a:lnTo>
                <a:lnTo>
                  <a:pt x="131" y="73"/>
                </a:lnTo>
                <a:lnTo>
                  <a:pt x="131" y="86"/>
                </a:lnTo>
                <a:lnTo>
                  <a:pt x="129" y="99"/>
                </a:lnTo>
                <a:lnTo>
                  <a:pt x="129" y="113"/>
                </a:lnTo>
                <a:lnTo>
                  <a:pt x="127" y="126"/>
                </a:lnTo>
                <a:lnTo>
                  <a:pt x="127" y="142"/>
                </a:lnTo>
                <a:lnTo>
                  <a:pt x="127" y="155"/>
                </a:lnTo>
                <a:lnTo>
                  <a:pt x="125" y="170"/>
                </a:lnTo>
                <a:lnTo>
                  <a:pt x="123" y="203"/>
                </a:lnTo>
                <a:lnTo>
                  <a:pt x="121" y="238"/>
                </a:lnTo>
                <a:lnTo>
                  <a:pt x="117" y="274"/>
                </a:lnTo>
                <a:lnTo>
                  <a:pt x="115" y="311"/>
                </a:lnTo>
                <a:lnTo>
                  <a:pt x="112" y="351"/>
                </a:lnTo>
                <a:lnTo>
                  <a:pt x="108" y="391"/>
                </a:lnTo>
                <a:lnTo>
                  <a:pt x="104" y="435"/>
                </a:lnTo>
                <a:lnTo>
                  <a:pt x="100" y="479"/>
                </a:lnTo>
                <a:lnTo>
                  <a:pt x="96" y="526"/>
                </a:lnTo>
                <a:lnTo>
                  <a:pt x="48" y="526"/>
                </a:lnTo>
                <a:lnTo>
                  <a:pt x="0" y="5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97"/>
          <p:cNvSpPr/>
          <p:nvPr/>
        </p:nvSpPr>
        <p:spPr>
          <a:xfrm>
            <a:off x="6656400" y="3629160"/>
            <a:ext cx="858960" cy="512640"/>
          </a:xfrm>
          <a:custGeom>
            <a:avLst/>
            <a:gdLst/>
            <a:ahLst/>
            <a:rect l="l" t="t" r="r" b="b"/>
            <a:pathLst>
              <a:path w="1081" h="645">
                <a:moveTo>
                  <a:pt x="745" y="618"/>
                </a:moveTo>
                <a:lnTo>
                  <a:pt x="748" y="591"/>
                </a:lnTo>
                <a:lnTo>
                  <a:pt x="754" y="568"/>
                </a:lnTo>
                <a:lnTo>
                  <a:pt x="760" y="543"/>
                </a:lnTo>
                <a:lnTo>
                  <a:pt x="764" y="520"/>
                </a:lnTo>
                <a:lnTo>
                  <a:pt x="768" y="497"/>
                </a:lnTo>
                <a:lnTo>
                  <a:pt x="771" y="476"/>
                </a:lnTo>
                <a:lnTo>
                  <a:pt x="775" y="453"/>
                </a:lnTo>
                <a:lnTo>
                  <a:pt x="779" y="434"/>
                </a:lnTo>
                <a:lnTo>
                  <a:pt x="783" y="412"/>
                </a:lnTo>
                <a:lnTo>
                  <a:pt x="785" y="395"/>
                </a:lnTo>
                <a:lnTo>
                  <a:pt x="789" y="376"/>
                </a:lnTo>
                <a:lnTo>
                  <a:pt x="791" y="359"/>
                </a:lnTo>
                <a:lnTo>
                  <a:pt x="793" y="341"/>
                </a:lnTo>
                <a:lnTo>
                  <a:pt x="794" y="326"/>
                </a:lnTo>
                <a:lnTo>
                  <a:pt x="796" y="311"/>
                </a:lnTo>
                <a:lnTo>
                  <a:pt x="798" y="295"/>
                </a:lnTo>
                <a:lnTo>
                  <a:pt x="800" y="282"/>
                </a:lnTo>
                <a:lnTo>
                  <a:pt x="800" y="268"/>
                </a:lnTo>
                <a:lnTo>
                  <a:pt x="802" y="257"/>
                </a:lnTo>
                <a:lnTo>
                  <a:pt x="802" y="245"/>
                </a:lnTo>
                <a:lnTo>
                  <a:pt x="802" y="234"/>
                </a:lnTo>
                <a:lnTo>
                  <a:pt x="802" y="224"/>
                </a:lnTo>
                <a:lnTo>
                  <a:pt x="802" y="217"/>
                </a:lnTo>
                <a:lnTo>
                  <a:pt x="802" y="207"/>
                </a:lnTo>
                <a:lnTo>
                  <a:pt x="802" y="199"/>
                </a:lnTo>
                <a:lnTo>
                  <a:pt x="800" y="194"/>
                </a:lnTo>
                <a:lnTo>
                  <a:pt x="800" y="188"/>
                </a:lnTo>
                <a:lnTo>
                  <a:pt x="798" y="182"/>
                </a:lnTo>
                <a:lnTo>
                  <a:pt x="798" y="178"/>
                </a:lnTo>
                <a:lnTo>
                  <a:pt x="796" y="174"/>
                </a:lnTo>
                <a:lnTo>
                  <a:pt x="794" y="173"/>
                </a:lnTo>
                <a:lnTo>
                  <a:pt x="793" y="171"/>
                </a:lnTo>
                <a:lnTo>
                  <a:pt x="783" y="167"/>
                </a:lnTo>
                <a:lnTo>
                  <a:pt x="771" y="161"/>
                </a:lnTo>
                <a:lnTo>
                  <a:pt x="760" y="157"/>
                </a:lnTo>
                <a:lnTo>
                  <a:pt x="748" y="155"/>
                </a:lnTo>
                <a:lnTo>
                  <a:pt x="735" y="153"/>
                </a:lnTo>
                <a:lnTo>
                  <a:pt x="722" y="153"/>
                </a:lnTo>
                <a:lnTo>
                  <a:pt x="716" y="153"/>
                </a:lnTo>
                <a:lnTo>
                  <a:pt x="710" y="155"/>
                </a:lnTo>
                <a:lnTo>
                  <a:pt x="702" y="155"/>
                </a:lnTo>
                <a:lnTo>
                  <a:pt x="697" y="159"/>
                </a:lnTo>
                <a:lnTo>
                  <a:pt x="691" y="159"/>
                </a:lnTo>
                <a:lnTo>
                  <a:pt x="687" y="161"/>
                </a:lnTo>
                <a:lnTo>
                  <a:pt x="681" y="163"/>
                </a:lnTo>
                <a:lnTo>
                  <a:pt x="674" y="165"/>
                </a:lnTo>
                <a:lnTo>
                  <a:pt x="664" y="167"/>
                </a:lnTo>
                <a:lnTo>
                  <a:pt x="654" y="169"/>
                </a:lnTo>
                <a:lnTo>
                  <a:pt x="643" y="173"/>
                </a:lnTo>
                <a:lnTo>
                  <a:pt x="631" y="174"/>
                </a:lnTo>
                <a:lnTo>
                  <a:pt x="618" y="178"/>
                </a:lnTo>
                <a:lnTo>
                  <a:pt x="603" y="182"/>
                </a:lnTo>
                <a:lnTo>
                  <a:pt x="587" y="186"/>
                </a:lnTo>
                <a:lnTo>
                  <a:pt x="570" y="190"/>
                </a:lnTo>
                <a:lnTo>
                  <a:pt x="553" y="194"/>
                </a:lnTo>
                <a:lnTo>
                  <a:pt x="533" y="197"/>
                </a:lnTo>
                <a:lnTo>
                  <a:pt x="514" y="201"/>
                </a:lnTo>
                <a:lnTo>
                  <a:pt x="491" y="207"/>
                </a:lnTo>
                <a:lnTo>
                  <a:pt x="470" y="211"/>
                </a:lnTo>
                <a:lnTo>
                  <a:pt x="445" y="217"/>
                </a:lnTo>
                <a:lnTo>
                  <a:pt x="420" y="222"/>
                </a:lnTo>
                <a:lnTo>
                  <a:pt x="395" y="228"/>
                </a:lnTo>
                <a:lnTo>
                  <a:pt x="368" y="234"/>
                </a:lnTo>
                <a:lnTo>
                  <a:pt x="340" y="240"/>
                </a:lnTo>
                <a:lnTo>
                  <a:pt x="311" y="247"/>
                </a:lnTo>
                <a:lnTo>
                  <a:pt x="280" y="253"/>
                </a:lnTo>
                <a:lnTo>
                  <a:pt x="249" y="261"/>
                </a:lnTo>
                <a:lnTo>
                  <a:pt x="217" y="267"/>
                </a:lnTo>
                <a:lnTo>
                  <a:pt x="184" y="274"/>
                </a:lnTo>
                <a:lnTo>
                  <a:pt x="149" y="282"/>
                </a:lnTo>
                <a:lnTo>
                  <a:pt x="113" y="290"/>
                </a:lnTo>
                <a:lnTo>
                  <a:pt x="77" y="299"/>
                </a:lnTo>
                <a:lnTo>
                  <a:pt x="38" y="307"/>
                </a:lnTo>
                <a:lnTo>
                  <a:pt x="0" y="316"/>
                </a:lnTo>
                <a:lnTo>
                  <a:pt x="0" y="211"/>
                </a:lnTo>
                <a:lnTo>
                  <a:pt x="44" y="201"/>
                </a:lnTo>
                <a:lnTo>
                  <a:pt x="86" y="192"/>
                </a:lnTo>
                <a:lnTo>
                  <a:pt x="126" y="182"/>
                </a:lnTo>
                <a:lnTo>
                  <a:pt x="165" y="173"/>
                </a:lnTo>
                <a:lnTo>
                  <a:pt x="203" y="163"/>
                </a:lnTo>
                <a:lnTo>
                  <a:pt x="240" y="155"/>
                </a:lnTo>
                <a:lnTo>
                  <a:pt x="276" y="146"/>
                </a:lnTo>
                <a:lnTo>
                  <a:pt x="311" y="138"/>
                </a:lnTo>
                <a:lnTo>
                  <a:pt x="343" y="130"/>
                </a:lnTo>
                <a:lnTo>
                  <a:pt x="374" y="123"/>
                </a:lnTo>
                <a:lnTo>
                  <a:pt x="405" y="115"/>
                </a:lnTo>
                <a:lnTo>
                  <a:pt x="434" y="109"/>
                </a:lnTo>
                <a:lnTo>
                  <a:pt x="462" y="101"/>
                </a:lnTo>
                <a:lnTo>
                  <a:pt x="487" y="96"/>
                </a:lnTo>
                <a:lnTo>
                  <a:pt x="512" y="90"/>
                </a:lnTo>
                <a:lnTo>
                  <a:pt x="537" y="84"/>
                </a:lnTo>
                <a:lnTo>
                  <a:pt x="558" y="78"/>
                </a:lnTo>
                <a:lnTo>
                  <a:pt x="579" y="73"/>
                </a:lnTo>
                <a:lnTo>
                  <a:pt x="601" y="67"/>
                </a:lnTo>
                <a:lnTo>
                  <a:pt x="618" y="63"/>
                </a:lnTo>
                <a:lnTo>
                  <a:pt x="635" y="57"/>
                </a:lnTo>
                <a:lnTo>
                  <a:pt x="651" y="54"/>
                </a:lnTo>
                <a:lnTo>
                  <a:pt x="666" y="50"/>
                </a:lnTo>
                <a:lnTo>
                  <a:pt x="677" y="46"/>
                </a:lnTo>
                <a:lnTo>
                  <a:pt x="689" y="42"/>
                </a:lnTo>
                <a:lnTo>
                  <a:pt x="700" y="40"/>
                </a:lnTo>
                <a:lnTo>
                  <a:pt x="708" y="36"/>
                </a:lnTo>
                <a:lnTo>
                  <a:pt x="716" y="34"/>
                </a:lnTo>
                <a:lnTo>
                  <a:pt x="722" y="32"/>
                </a:lnTo>
                <a:lnTo>
                  <a:pt x="727" y="30"/>
                </a:lnTo>
                <a:lnTo>
                  <a:pt x="729" y="29"/>
                </a:lnTo>
                <a:lnTo>
                  <a:pt x="731" y="27"/>
                </a:lnTo>
                <a:lnTo>
                  <a:pt x="735" y="25"/>
                </a:lnTo>
                <a:lnTo>
                  <a:pt x="737" y="21"/>
                </a:lnTo>
                <a:lnTo>
                  <a:pt x="741" y="19"/>
                </a:lnTo>
                <a:lnTo>
                  <a:pt x="745" y="17"/>
                </a:lnTo>
                <a:lnTo>
                  <a:pt x="754" y="13"/>
                </a:lnTo>
                <a:lnTo>
                  <a:pt x="764" y="9"/>
                </a:lnTo>
                <a:lnTo>
                  <a:pt x="777" y="6"/>
                </a:lnTo>
                <a:lnTo>
                  <a:pt x="789" y="2"/>
                </a:lnTo>
                <a:lnTo>
                  <a:pt x="802" y="2"/>
                </a:lnTo>
                <a:lnTo>
                  <a:pt x="816" y="0"/>
                </a:lnTo>
                <a:lnTo>
                  <a:pt x="823" y="4"/>
                </a:lnTo>
                <a:lnTo>
                  <a:pt x="831" y="6"/>
                </a:lnTo>
                <a:lnTo>
                  <a:pt x="839" y="7"/>
                </a:lnTo>
                <a:lnTo>
                  <a:pt x="846" y="11"/>
                </a:lnTo>
                <a:lnTo>
                  <a:pt x="856" y="13"/>
                </a:lnTo>
                <a:lnTo>
                  <a:pt x="866" y="17"/>
                </a:lnTo>
                <a:lnTo>
                  <a:pt x="887" y="23"/>
                </a:lnTo>
                <a:lnTo>
                  <a:pt x="908" y="30"/>
                </a:lnTo>
                <a:lnTo>
                  <a:pt x="933" y="40"/>
                </a:lnTo>
                <a:lnTo>
                  <a:pt x="944" y="46"/>
                </a:lnTo>
                <a:lnTo>
                  <a:pt x="958" y="52"/>
                </a:lnTo>
                <a:lnTo>
                  <a:pt x="971" y="59"/>
                </a:lnTo>
                <a:lnTo>
                  <a:pt x="985" y="67"/>
                </a:lnTo>
                <a:lnTo>
                  <a:pt x="994" y="73"/>
                </a:lnTo>
                <a:lnTo>
                  <a:pt x="1006" y="80"/>
                </a:lnTo>
                <a:lnTo>
                  <a:pt x="1015" y="88"/>
                </a:lnTo>
                <a:lnTo>
                  <a:pt x="1023" y="96"/>
                </a:lnTo>
                <a:lnTo>
                  <a:pt x="1033" y="101"/>
                </a:lnTo>
                <a:lnTo>
                  <a:pt x="1040" y="109"/>
                </a:lnTo>
                <a:lnTo>
                  <a:pt x="1048" y="115"/>
                </a:lnTo>
                <a:lnTo>
                  <a:pt x="1054" y="123"/>
                </a:lnTo>
                <a:lnTo>
                  <a:pt x="1059" y="128"/>
                </a:lnTo>
                <a:lnTo>
                  <a:pt x="1065" y="134"/>
                </a:lnTo>
                <a:lnTo>
                  <a:pt x="1069" y="138"/>
                </a:lnTo>
                <a:lnTo>
                  <a:pt x="1073" y="144"/>
                </a:lnTo>
                <a:lnTo>
                  <a:pt x="1077" y="148"/>
                </a:lnTo>
                <a:lnTo>
                  <a:pt x="1079" y="151"/>
                </a:lnTo>
                <a:lnTo>
                  <a:pt x="1079" y="155"/>
                </a:lnTo>
                <a:lnTo>
                  <a:pt x="1081" y="159"/>
                </a:lnTo>
                <a:lnTo>
                  <a:pt x="1079" y="169"/>
                </a:lnTo>
                <a:lnTo>
                  <a:pt x="1077" y="178"/>
                </a:lnTo>
                <a:lnTo>
                  <a:pt x="1075" y="188"/>
                </a:lnTo>
                <a:lnTo>
                  <a:pt x="1071" y="197"/>
                </a:lnTo>
                <a:lnTo>
                  <a:pt x="1065" y="207"/>
                </a:lnTo>
                <a:lnTo>
                  <a:pt x="1059" y="217"/>
                </a:lnTo>
                <a:lnTo>
                  <a:pt x="1052" y="226"/>
                </a:lnTo>
                <a:lnTo>
                  <a:pt x="1044" y="238"/>
                </a:lnTo>
                <a:lnTo>
                  <a:pt x="1040" y="240"/>
                </a:lnTo>
                <a:lnTo>
                  <a:pt x="1036" y="244"/>
                </a:lnTo>
                <a:lnTo>
                  <a:pt x="1033" y="247"/>
                </a:lnTo>
                <a:lnTo>
                  <a:pt x="1029" y="251"/>
                </a:lnTo>
                <a:lnTo>
                  <a:pt x="1025" y="257"/>
                </a:lnTo>
                <a:lnTo>
                  <a:pt x="1021" y="263"/>
                </a:lnTo>
                <a:lnTo>
                  <a:pt x="1015" y="268"/>
                </a:lnTo>
                <a:lnTo>
                  <a:pt x="1011" y="276"/>
                </a:lnTo>
                <a:lnTo>
                  <a:pt x="1008" y="284"/>
                </a:lnTo>
                <a:lnTo>
                  <a:pt x="1002" y="292"/>
                </a:lnTo>
                <a:lnTo>
                  <a:pt x="996" y="301"/>
                </a:lnTo>
                <a:lnTo>
                  <a:pt x="990" y="311"/>
                </a:lnTo>
                <a:lnTo>
                  <a:pt x="986" y="322"/>
                </a:lnTo>
                <a:lnTo>
                  <a:pt x="981" y="332"/>
                </a:lnTo>
                <a:lnTo>
                  <a:pt x="975" y="343"/>
                </a:lnTo>
                <a:lnTo>
                  <a:pt x="967" y="357"/>
                </a:lnTo>
                <a:lnTo>
                  <a:pt x="961" y="368"/>
                </a:lnTo>
                <a:lnTo>
                  <a:pt x="956" y="384"/>
                </a:lnTo>
                <a:lnTo>
                  <a:pt x="948" y="397"/>
                </a:lnTo>
                <a:lnTo>
                  <a:pt x="940" y="412"/>
                </a:lnTo>
                <a:lnTo>
                  <a:pt x="935" y="428"/>
                </a:lnTo>
                <a:lnTo>
                  <a:pt x="927" y="443"/>
                </a:lnTo>
                <a:lnTo>
                  <a:pt x="919" y="460"/>
                </a:lnTo>
                <a:lnTo>
                  <a:pt x="912" y="478"/>
                </a:lnTo>
                <a:lnTo>
                  <a:pt x="904" y="497"/>
                </a:lnTo>
                <a:lnTo>
                  <a:pt x="894" y="516"/>
                </a:lnTo>
                <a:lnTo>
                  <a:pt x="887" y="535"/>
                </a:lnTo>
                <a:lnTo>
                  <a:pt x="877" y="556"/>
                </a:lnTo>
                <a:lnTo>
                  <a:pt x="867" y="576"/>
                </a:lnTo>
                <a:lnTo>
                  <a:pt x="860" y="599"/>
                </a:lnTo>
                <a:lnTo>
                  <a:pt x="850" y="620"/>
                </a:lnTo>
                <a:lnTo>
                  <a:pt x="841" y="645"/>
                </a:lnTo>
                <a:lnTo>
                  <a:pt x="793" y="631"/>
                </a:lnTo>
                <a:lnTo>
                  <a:pt x="745" y="6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98"/>
          <p:cNvSpPr/>
          <p:nvPr/>
        </p:nvSpPr>
        <p:spPr>
          <a:xfrm>
            <a:off x="6800760" y="3181320"/>
            <a:ext cx="600120" cy="615960"/>
          </a:xfrm>
          <a:custGeom>
            <a:avLst/>
            <a:gdLst/>
            <a:ahLst/>
            <a:rect l="l" t="t" r="r" b="b"/>
            <a:pathLst>
              <a:path w="757" h="776">
                <a:moveTo>
                  <a:pt x="60" y="776"/>
                </a:moveTo>
                <a:lnTo>
                  <a:pt x="83" y="741"/>
                </a:lnTo>
                <a:lnTo>
                  <a:pt x="106" y="709"/>
                </a:lnTo>
                <a:lnTo>
                  <a:pt x="127" y="676"/>
                </a:lnTo>
                <a:lnTo>
                  <a:pt x="146" y="645"/>
                </a:lnTo>
                <a:lnTo>
                  <a:pt x="167" y="615"/>
                </a:lnTo>
                <a:lnTo>
                  <a:pt x="184" y="586"/>
                </a:lnTo>
                <a:lnTo>
                  <a:pt x="204" y="557"/>
                </a:lnTo>
                <a:lnTo>
                  <a:pt x="221" y="530"/>
                </a:lnTo>
                <a:lnTo>
                  <a:pt x="236" y="505"/>
                </a:lnTo>
                <a:lnTo>
                  <a:pt x="254" y="480"/>
                </a:lnTo>
                <a:lnTo>
                  <a:pt x="267" y="457"/>
                </a:lnTo>
                <a:lnTo>
                  <a:pt x="282" y="434"/>
                </a:lnTo>
                <a:lnTo>
                  <a:pt x="296" y="411"/>
                </a:lnTo>
                <a:lnTo>
                  <a:pt x="307" y="392"/>
                </a:lnTo>
                <a:lnTo>
                  <a:pt x="319" y="371"/>
                </a:lnTo>
                <a:lnTo>
                  <a:pt x="330" y="354"/>
                </a:lnTo>
                <a:lnTo>
                  <a:pt x="340" y="334"/>
                </a:lnTo>
                <a:lnTo>
                  <a:pt x="350" y="319"/>
                </a:lnTo>
                <a:lnTo>
                  <a:pt x="357" y="304"/>
                </a:lnTo>
                <a:lnTo>
                  <a:pt x="365" y="288"/>
                </a:lnTo>
                <a:lnTo>
                  <a:pt x="373" y="275"/>
                </a:lnTo>
                <a:lnTo>
                  <a:pt x="378" y="263"/>
                </a:lnTo>
                <a:lnTo>
                  <a:pt x="384" y="252"/>
                </a:lnTo>
                <a:lnTo>
                  <a:pt x="388" y="242"/>
                </a:lnTo>
                <a:lnTo>
                  <a:pt x="392" y="233"/>
                </a:lnTo>
                <a:lnTo>
                  <a:pt x="396" y="225"/>
                </a:lnTo>
                <a:lnTo>
                  <a:pt x="398" y="217"/>
                </a:lnTo>
                <a:lnTo>
                  <a:pt x="398" y="212"/>
                </a:lnTo>
                <a:lnTo>
                  <a:pt x="399" y="206"/>
                </a:lnTo>
                <a:lnTo>
                  <a:pt x="399" y="202"/>
                </a:lnTo>
                <a:lnTo>
                  <a:pt x="398" y="200"/>
                </a:lnTo>
                <a:lnTo>
                  <a:pt x="396" y="198"/>
                </a:lnTo>
                <a:lnTo>
                  <a:pt x="392" y="196"/>
                </a:lnTo>
                <a:lnTo>
                  <a:pt x="386" y="194"/>
                </a:lnTo>
                <a:lnTo>
                  <a:pt x="380" y="192"/>
                </a:lnTo>
                <a:lnTo>
                  <a:pt x="373" y="192"/>
                </a:lnTo>
                <a:lnTo>
                  <a:pt x="367" y="192"/>
                </a:lnTo>
                <a:lnTo>
                  <a:pt x="357" y="192"/>
                </a:lnTo>
                <a:lnTo>
                  <a:pt x="350" y="194"/>
                </a:lnTo>
                <a:lnTo>
                  <a:pt x="340" y="196"/>
                </a:lnTo>
                <a:lnTo>
                  <a:pt x="330" y="198"/>
                </a:lnTo>
                <a:lnTo>
                  <a:pt x="321" y="200"/>
                </a:lnTo>
                <a:lnTo>
                  <a:pt x="309" y="204"/>
                </a:lnTo>
                <a:lnTo>
                  <a:pt x="296" y="206"/>
                </a:lnTo>
                <a:lnTo>
                  <a:pt x="284" y="210"/>
                </a:lnTo>
                <a:lnTo>
                  <a:pt x="269" y="215"/>
                </a:lnTo>
                <a:lnTo>
                  <a:pt x="256" y="219"/>
                </a:lnTo>
                <a:lnTo>
                  <a:pt x="240" y="225"/>
                </a:lnTo>
                <a:lnTo>
                  <a:pt x="209" y="233"/>
                </a:lnTo>
                <a:lnTo>
                  <a:pt x="177" y="242"/>
                </a:lnTo>
                <a:lnTo>
                  <a:pt x="146" y="248"/>
                </a:lnTo>
                <a:lnTo>
                  <a:pt x="115" y="254"/>
                </a:lnTo>
                <a:lnTo>
                  <a:pt x="87" y="258"/>
                </a:lnTo>
                <a:lnTo>
                  <a:pt x="56" y="261"/>
                </a:lnTo>
                <a:lnTo>
                  <a:pt x="27" y="263"/>
                </a:lnTo>
                <a:lnTo>
                  <a:pt x="0" y="263"/>
                </a:lnTo>
                <a:lnTo>
                  <a:pt x="6" y="204"/>
                </a:lnTo>
                <a:lnTo>
                  <a:pt x="12" y="144"/>
                </a:lnTo>
                <a:lnTo>
                  <a:pt x="52" y="141"/>
                </a:lnTo>
                <a:lnTo>
                  <a:pt x="90" y="135"/>
                </a:lnTo>
                <a:lnTo>
                  <a:pt x="129" y="129"/>
                </a:lnTo>
                <a:lnTo>
                  <a:pt x="165" y="123"/>
                </a:lnTo>
                <a:lnTo>
                  <a:pt x="200" y="118"/>
                </a:lnTo>
                <a:lnTo>
                  <a:pt x="234" y="110"/>
                </a:lnTo>
                <a:lnTo>
                  <a:pt x="269" y="102"/>
                </a:lnTo>
                <a:lnTo>
                  <a:pt x="300" y="93"/>
                </a:lnTo>
                <a:lnTo>
                  <a:pt x="315" y="87"/>
                </a:lnTo>
                <a:lnTo>
                  <a:pt x="330" y="83"/>
                </a:lnTo>
                <a:lnTo>
                  <a:pt x="344" y="77"/>
                </a:lnTo>
                <a:lnTo>
                  <a:pt x="359" y="73"/>
                </a:lnTo>
                <a:lnTo>
                  <a:pt x="371" y="68"/>
                </a:lnTo>
                <a:lnTo>
                  <a:pt x="384" y="64"/>
                </a:lnTo>
                <a:lnTo>
                  <a:pt x="396" y="60"/>
                </a:lnTo>
                <a:lnTo>
                  <a:pt x="407" y="54"/>
                </a:lnTo>
                <a:lnTo>
                  <a:pt x="417" y="50"/>
                </a:lnTo>
                <a:lnTo>
                  <a:pt x="426" y="46"/>
                </a:lnTo>
                <a:lnTo>
                  <a:pt x="436" y="43"/>
                </a:lnTo>
                <a:lnTo>
                  <a:pt x="444" y="39"/>
                </a:lnTo>
                <a:lnTo>
                  <a:pt x="451" y="35"/>
                </a:lnTo>
                <a:lnTo>
                  <a:pt x="457" y="33"/>
                </a:lnTo>
                <a:lnTo>
                  <a:pt x="463" y="29"/>
                </a:lnTo>
                <a:lnTo>
                  <a:pt x="469" y="27"/>
                </a:lnTo>
                <a:lnTo>
                  <a:pt x="472" y="22"/>
                </a:lnTo>
                <a:lnTo>
                  <a:pt x="478" y="18"/>
                </a:lnTo>
                <a:lnTo>
                  <a:pt x="486" y="12"/>
                </a:lnTo>
                <a:lnTo>
                  <a:pt x="495" y="8"/>
                </a:lnTo>
                <a:lnTo>
                  <a:pt x="505" y="6"/>
                </a:lnTo>
                <a:lnTo>
                  <a:pt x="515" y="2"/>
                </a:lnTo>
                <a:lnTo>
                  <a:pt x="526" y="0"/>
                </a:lnTo>
                <a:lnTo>
                  <a:pt x="540" y="0"/>
                </a:lnTo>
                <a:lnTo>
                  <a:pt x="545" y="0"/>
                </a:lnTo>
                <a:lnTo>
                  <a:pt x="549" y="0"/>
                </a:lnTo>
                <a:lnTo>
                  <a:pt x="555" y="2"/>
                </a:lnTo>
                <a:lnTo>
                  <a:pt x="563" y="2"/>
                </a:lnTo>
                <a:lnTo>
                  <a:pt x="568" y="4"/>
                </a:lnTo>
                <a:lnTo>
                  <a:pt x="576" y="6"/>
                </a:lnTo>
                <a:lnTo>
                  <a:pt x="591" y="12"/>
                </a:lnTo>
                <a:lnTo>
                  <a:pt x="601" y="16"/>
                </a:lnTo>
                <a:lnTo>
                  <a:pt x="611" y="20"/>
                </a:lnTo>
                <a:lnTo>
                  <a:pt x="620" y="23"/>
                </a:lnTo>
                <a:lnTo>
                  <a:pt x="630" y="27"/>
                </a:lnTo>
                <a:lnTo>
                  <a:pt x="639" y="33"/>
                </a:lnTo>
                <a:lnTo>
                  <a:pt x="649" y="39"/>
                </a:lnTo>
                <a:lnTo>
                  <a:pt x="661" y="46"/>
                </a:lnTo>
                <a:lnTo>
                  <a:pt x="672" y="54"/>
                </a:lnTo>
                <a:lnTo>
                  <a:pt x="682" y="60"/>
                </a:lnTo>
                <a:lnTo>
                  <a:pt x="693" y="68"/>
                </a:lnTo>
                <a:lnTo>
                  <a:pt x="701" y="75"/>
                </a:lnTo>
                <a:lnTo>
                  <a:pt x="710" y="83"/>
                </a:lnTo>
                <a:lnTo>
                  <a:pt x="718" y="89"/>
                </a:lnTo>
                <a:lnTo>
                  <a:pt x="724" y="96"/>
                </a:lnTo>
                <a:lnTo>
                  <a:pt x="730" y="102"/>
                </a:lnTo>
                <a:lnTo>
                  <a:pt x="735" y="110"/>
                </a:lnTo>
                <a:lnTo>
                  <a:pt x="741" y="116"/>
                </a:lnTo>
                <a:lnTo>
                  <a:pt x="745" y="121"/>
                </a:lnTo>
                <a:lnTo>
                  <a:pt x="749" y="125"/>
                </a:lnTo>
                <a:lnTo>
                  <a:pt x="751" y="131"/>
                </a:lnTo>
                <a:lnTo>
                  <a:pt x="753" y="135"/>
                </a:lnTo>
                <a:lnTo>
                  <a:pt x="755" y="139"/>
                </a:lnTo>
                <a:lnTo>
                  <a:pt x="755" y="142"/>
                </a:lnTo>
                <a:lnTo>
                  <a:pt x="757" y="144"/>
                </a:lnTo>
                <a:lnTo>
                  <a:pt x="755" y="150"/>
                </a:lnTo>
                <a:lnTo>
                  <a:pt x="755" y="154"/>
                </a:lnTo>
                <a:lnTo>
                  <a:pt x="753" y="160"/>
                </a:lnTo>
                <a:lnTo>
                  <a:pt x="751" y="164"/>
                </a:lnTo>
                <a:lnTo>
                  <a:pt x="749" y="169"/>
                </a:lnTo>
                <a:lnTo>
                  <a:pt x="747" y="173"/>
                </a:lnTo>
                <a:lnTo>
                  <a:pt x="739" y="183"/>
                </a:lnTo>
                <a:lnTo>
                  <a:pt x="730" y="190"/>
                </a:lnTo>
                <a:lnTo>
                  <a:pt x="720" y="198"/>
                </a:lnTo>
                <a:lnTo>
                  <a:pt x="709" y="206"/>
                </a:lnTo>
                <a:lnTo>
                  <a:pt x="695" y="212"/>
                </a:lnTo>
                <a:lnTo>
                  <a:pt x="691" y="213"/>
                </a:lnTo>
                <a:lnTo>
                  <a:pt x="686" y="217"/>
                </a:lnTo>
                <a:lnTo>
                  <a:pt x="678" y="223"/>
                </a:lnTo>
                <a:lnTo>
                  <a:pt x="672" y="229"/>
                </a:lnTo>
                <a:lnTo>
                  <a:pt x="664" y="235"/>
                </a:lnTo>
                <a:lnTo>
                  <a:pt x="655" y="242"/>
                </a:lnTo>
                <a:lnTo>
                  <a:pt x="645" y="250"/>
                </a:lnTo>
                <a:lnTo>
                  <a:pt x="636" y="260"/>
                </a:lnTo>
                <a:lnTo>
                  <a:pt x="624" y="271"/>
                </a:lnTo>
                <a:lnTo>
                  <a:pt x="613" y="281"/>
                </a:lnTo>
                <a:lnTo>
                  <a:pt x="599" y="294"/>
                </a:lnTo>
                <a:lnTo>
                  <a:pt x="586" y="308"/>
                </a:lnTo>
                <a:lnTo>
                  <a:pt x="572" y="321"/>
                </a:lnTo>
                <a:lnTo>
                  <a:pt x="557" y="336"/>
                </a:lnTo>
                <a:lnTo>
                  <a:pt x="542" y="352"/>
                </a:lnTo>
                <a:lnTo>
                  <a:pt x="524" y="369"/>
                </a:lnTo>
                <a:lnTo>
                  <a:pt x="509" y="386"/>
                </a:lnTo>
                <a:lnTo>
                  <a:pt x="490" y="405"/>
                </a:lnTo>
                <a:lnTo>
                  <a:pt x="472" y="427"/>
                </a:lnTo>
                <a:lnTo>
                  <a:pt x="453" y="448"/>
                </a:lnTo>
                <a:lnTo>
                  <a:pt x="432" y="469"/>
                </a:lnTo>
                <a:lnTo>
                  <a:pt x="413" y="492"/>
                </a:lnTo>
                <a:lnTo>
                  <a:pt x="392" y="515"/>
                </a:lnTo>
                <a:lnTo>
                  <a:pt x="369" y="540"/>
                </a:lnTo>
                <a:lnTo>
                  <a:pt x="346" y="567"/>
                </a:lnTo>
                <a:lnTo>
                  <a:pt x="323" y="594"/>
                </a:lnTo>
                <a:lnTo>
                  <a:pt x="298" y="620"/>
                </a:lnTo>
                <a:lnTo>
                  <a:pt x="275" y="649"/>
                </a:lnTo>
                <a:lnTo>
                  <a:pt x="248" y="680"/>
                </a:lnTo>
                <a:lnTo>
                  <a:pt x="223" y="711"/>
                </a:lnTo>
                <a:lnTo>
                  <a:pt x="196" y="743"/>
                </a:lnTo>
                <a:lnTo>
                  <a:pt x="169" y="776"/>
                </a:lnTo>
                <a:lnTo>
                  <a:pt x="60" y="7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99"/>
          <p:cNvSpPr/>
          <p:nvPr/>
        </p:nvSpPr>
        <p:spPr>
          <a:xfrm>
            <a:off x="6502320" y="2854440"/>
            <a:ext cx="593640" cy="799920"/>
          </a:xfrm>
          <a:custGeom>
            <a:avLst/>
            <a:gdLst/>
            <a:ahLst/>
            <a:rect l="l" t="t" r="r" b="b"/>
            <a:pathLst>
              <a:path w="747" h="1007">
                <a:moveTo>
                  <a:pt x="4" y="1004"/>
                </a:moveTo>
                <a:lnTo>
                  <a:pt x="2" y="998"/>
                </a:lnTo>
                <a:lnTo>
                  <a:pt x="0" y="992"/>
                </a:lnTo>
                <a:lnTo>
                  <a:pt x="2" y="986"/>
                </a:lnTo>
                <a:lnTo>
                  <a:pt x="4" y="979"/>
                </a:lnTo>
                <a:lnTo>
                  <a:pt x="6" y="971"/>
                </a:lnTo>
                <a:lnTo>
                  <a:pt x="9" y="963"/>
                </a:lnTo>
                <a:lnTo>
                  <a:pt x="15" y="954"/>
                </a:lnTo>
                <a:lnTo>
                  <a:pt x="21" y="942"/>
                </a:lnTo>
                <a:lnTo>
                  <a:pt x="29" y="933"/>
                </a:lnTo>
                <a:lnTo>
                  <a:pt x="36" y="921"/>
                </a:lnTo>
                <a:lnTo>
                  <a:pt x="46" y="908"/>
                </a:lnTo>
                <a:lnTo>
                  <a:pt x="57" y="894"/>
                </a:lnTo>
                <a:lnTo>
                  <a:pt x="69" y="881"/>
                </a:lnTo>
                <a:lnTo>
                  <a:pt x="80" y="865"/>
                </a:lnTo>
                <a:lnTo>
                  <a:pt x="96" y="850"/>
                </a:lnTo>
                <a:lnTo>
                  <a:pt x="111" y="833"/>
                </a:lnTo>
                <a:lnTo>
                  <a:pt x="125" y="817"/>
                </a:lnTo>
                <a:lnTo>
                  <a:pt x="138" y="802"/>
                </a:lnTo>
                <a:lnTo>
                  <a:pt x="152" y="785"/>
                </a:lnTo>
                <a:lnTo>
                  <a:pt x="165" y="769"/>
                </a:lnTo>
                <a:lnTo>
                  <a:pt x="178" y="752"/>
                </a:lnTo>
                <a:lnTo>
                  <a:pt x="192" y="733"/>
                </a:lnTo>
                <a:lnTo>
                  <a:pt x="205" y="716"/>
                </a:lnTo>
                <a:lnTo>
                  <a:pt x="219" y="697"/>
                </a:lnTo>
                <a:lnTo>
                  <a:pt x="246" y="658"/>
                </a:lnTo>
                <a:lnTo>
                  <a:pt x="272" y="618"/>
                </a:lnTo>
                <a:lnTo>
                  <a:pt x="299" y="576"/>
                </a:lnTo>
                <a:lnTo>
                  <a:pt x="326" y="531"/>
                </a:lnTo>
                <a:lnTo>
                  <a:pt x="340" y="508"/>
                </a:lnTo>
                <a:lnTo>
                  <a:pt x="353" y="487"/>
                </a:lnTo>
                <a:lnTo>
                  <a:pt x="365" y="466"/>
                </a:lnTo>
                <a:lnTo>
                  <a:pt x="378" y="447"/>
                </a:lnTo>
                <a:lnTo>
                  <a:pt x="390" y="428"/>
                </a:lnTo>
                <a:lnTo>
                  <a:pt x="401" y="409"/>
                </a:lnTo>
                <a:lnTo>
                  <a:pt x="413" y="389"/>
                </a:lnTo>
                <a:lnTo>
                  <a:pt x="424" y="372"/>
                </a:lnTo>
                <a:lnTo>
                  <a:pt x="443" y="336"/>
                </a:lnTo>
                <a:lnTo>
                  <a:pt x="453" y="320"/>
                </a:lnTo>
                <a:lnTo>
                  <a:pt x="462" y="303"/>
                </a:lnTo>
                <a:lnTo>
                  <a:pt x="472" y="288"/>
                </a:lnTo>
                <a:lnTo>
                  <a:pt x="480" y="272"/>
                </a:lnTo>
                <a:lnTo>
                  <a:pt x="487" y="257"/>
                </a:lnTo>
                <a:lnTo>
                  <a:pt x="495" y="242"/>
                </a:lnTo>
                <a:lnTo>
                  <a:pt x="501" y="226"/>
                </a:lnTo>
                <a:lnTo>
                  <a:pt x="507" y="213"/>
                </a:lnTo>
                <a:lnTo>
                  <a:pt x="510" y="199"/>
                </a:lnTo>
                <a:lnTo>
                  <a:pt x="514" y="188"/>
                </a:lnTo>
                <a:lnTo>
                  <a:pt x="518" y="176"/>
                </a:lnTo>
                <a:lnTo>
                  <a:pt x="520" y="165"/>
                </a:lnTo>
                <a:lnTo>
                  <a:pt x="522" y="153"/>
                </a:lnTo>
                <a:lnTo>
                  <a:pt x="524" y="144"/>
                </a:lnTo>
                <a:lnTo>
                  <a:pt x="524" y="134"/>
                </a:lnTo>
                <a:lnTo>
                  <a:pt x="526" y="125"/>
                </a:lnTo>
                <a:lnTo>
                  <a:pt x="526" y="117"/>
                </a:lnTo>
                <a:lnTo>
                  <a:pt x="524" y="109"/>
                </a:lnTo>
                <a:lnTo>
                  <a:pt x="524" y="101"/>
                </a:lnTo>
                <a:lnTo>
                  <a:pt x="522" y="96"/>
                </a:lnTo>
                <a:lnTo>
                  <a:pt x="520" y="90"/>
                </a:lnTo>
                <a:lnTo>
                  <a:pt x="518" y="84"/>
                </a:lnTo>
                <a:lnTo>
                  <a:pt x="514" y="78"/>
                </a:lnTo>
                <a:lnTo>
                  <a:pt x="510" y="75"/>
                </a:lnTo>
                <a:lnTo>
                  <a:pt x="507" y="69"/>
                </a:lnTo>
                <a:lnTo>
                  <a:pt x="505" y="65"/>
                </a:lnTo>
                <a:lnTo>
                  <a:pt x="503" y="59"/>
                </a:lnTo>
                <a:lnTo>
                  <a:pt x="501" y="55"/>
                </a:lnTo>
                <a:lnTo>
                  <a:pt x="499" y="46"/>
                </a:lnTo>
                <a:lnTo>
                  <a:pt x="499" y="38"/>
                </a:lnTo>
                <a:lnTo>
                  <a:pt x="499" y="30"/>
                </a:lnTo>
                <a:lnTo>
                  <a:pt x="503" y="25"/>
                </a:lnTo>
                <a:lnTo>
                  <a:pt x="507" y="19"/>
                </a:lnTo>
                <a:lnTo>
                  <a:pt x="510" y="13"/>
                </a:lnTo>
                <a:lnTo>
                  <a:pt x="518" y="9"/>
                </a:lnTo>
                <a:lnTo>
                  <a:pt x="524" y="6"/>
                </a:lnTo>
                <a:lnTo>
                  <a:pt x="534" y="2"/>
                </a:lnTo>
                <a:lnTo>
                  <a:pt x="543" y="0"/>
                </a:lnTo>
                <a:lnTo>
                  <a:pt x="553" y="0"/>
                </a:lnTo>
                <a:lnTo>
                  <a:pt x="558" y="0"/>
                </a:lnTo>
                <a:lnTo>
                  <a:pt x="566" y="2"/>
                </a:lnTo>
                <a:lnTo>
                  <a:pt x="572" y="4"/>
                </a:lnTo>
                <a:lnTo>
                  <a:pt x="578" y="6"/>
                </a:lnTo>
                <a:lnTo>
                  <a:pt x="591" y="11"/>
                </a:lnTo>
                <a:lnTo>
                  <a:pt x="606" y="17"/>
                </a:lnTo>
                <a:lnTo>
                  <a:pt x="622" y="25"/>
                </a:lnTo>
                <a:lnTo>
                  <a:pt x="637" y="34"/>
                </a:lnTo>
                <a:lnTo>
                  <a:pt x="654" y="42"/>
                </a:lnTo>
                <a:lnTo>
                  <a:pt x="670" y="52"/>
                </a:lnTo>
                <a:lnTo>
                  <a:pt x="683" y="61"/>
                </a:lnTo>
                <a:lnTo>
                  <a:pt x="699" y="71"/>
                </a:lnTo>
                <a:lnTo>
                  <a:pt x="704" y="78"/>
                </a:lnTo>
                <a:lnTo>
                  <a:pt x="710" y="86"/>
                </a:lnTo>
                <a:lnTo>
                  <a:pt x="716" y="92"/>
                </a:lnTo>
                <a:lnTo>
                  <a:pt x="720" y="98"/>
                </a:lnTo>
                <a:lnTo>
                  <a:pt x="725" y="105"/>
                </a:lnTo>
                <a:lnTo>
                  <a:pt x="729" y="111"/>
                </a:lnTo>
                <a:lnTo>
                  <a:pt x="735" y="121"/>
                </a:lnTo>
                <a:lnTo>
                  <a:pt x="741" y="130"/>
                </a:lnTo>
                <a:lnTo>
                  <a:pt x="743" y="138"/>
                </a:lnTo>
                <a:lnTo>
                  <a:pt x="745" y="144"/>
                </a:lnTo>
                <a:lnTo>
                  <a:pt x="747" y="149"/>
                </a:lnTo>
                <a:lnTo>
                  <a:pt x="745" y="153"/>
                </a:lnTo>
                <a:lnTo>
                  <a:pt x="745" y="157"/>
                </a:lnTo>
                <a:lnTo>
                  <a:pt x="743" y="161"/>
                </a:lnTo>
                <a:lnTo>
                  <a:pt x="741" y="167"/>
                </a:lnTo>
                <a:lnTo>
                  <a:pt x="739" y="172"/>
                </a:lnTo>
                <a:lnTo>
                  <a:pt x="737" y="180"/>
                </a:lnTo>
                <a:lnTo>
                  <a:pt x="733" y="188"/>
                </a:lnTo>
                <a:lnTo>
                  <a:pt x="729" y="196"/>
                </a:lnTo>
                <a:lnTo>
                  <a:pt x="725" y="205"/>
                </a:lnTo>
                <a:lnTo>
                  <a:pt x="720" y="215"/>
                </a:lnTo>
                <a:lnTo>
                  <a:pt x="716" y="224"/>
                </a:lnTo>
                <a:lnTo>
                  <a:pt x="710" y="234"/>
                </a:lnTo>
                <a:lnTo>
                  <a:pt x="699" y="257"/>
                </a:lnTo>
                <a:lnTo>
                  <a:pt x="687" y="282"/>
                </a:lnTo>
                <a:lnTo>
                  <a:pt x="677" y="297"/>
                </a:lnTo>
                <a:lnTo>
                  <a:pt x="668" y="313"/>
                </a:lnTo>
                <a:lnTo>
                  <a:pt x="656" y="328"/>
                </a:lnTo>
                <a:lnTo>
                  <a:pt x="647" y="345"/>
                </a:lnTo>
                <a:lnTo>
                  <a:pt x="635" y="363"/>
                </a:lnTo>
                <a:lnTo>
                  <a:pt x="622" y="380"/>
                </a:lnTo>
                <a:lnTo>
                  <a:pt x="610" y="399"/>
                </a:lnTo>
                <a:lnTo>
                  <a:pt x="597" y="418"/>
                </a:lnTo>
                <a:lnTo>
                  <a:pt x="570" y="457"/>
                </a:lnTo>
                <a:lnTo>
                  <a:pt x="543" y="497"/>
                </a:lnTo>
                <a:lnTo>
                  <a:pt x="512" y="539"/>
                </a:lnTo>
                <a:lnTo>
                  <a:pt x="482" y="583"/>
                </a:lnTo>
                <a:lnTo>
                  <a:pt x="447" y="627"/>
                </a:lnTo>
                <a:lnTo>
                  <a:pt x="411" y="670"/>
                </a:lnTo>
                <a:lnTo>
                  <a:pt x="374" y="710"/>
                </a:lnTo>
                <a:lnTo>
                  <a:pt x="336" y="750"/>
                </a:lnTo>
                <a:lnTo>
                  <a:pt x="299" y="789"/>
                </a:lnTo>
                <a:lnTo>
                  <a:pt x="261" y="827"/>
                </a:lnTo>
                <a:lnTo>
                  <a:pt x="223" y="864"/>
                </a:lnTo>
                <a:lnTo>
                  <a:pt x="182" y="898"/>
                </a:lnTo>
                <a:lnTo>
                  <a:pt x="163" y="915"/>
                </a:lnTo>
                <a:lnTo>
                  <a:pt x="144" y="931"/>
                </a:lnTo>
                <a:lnTo>
                  <a:pt x="127" y="944"/>
                </a:lnTo>
                <a:lnTo>
                  <a:pt x="111" y="956"/>
                </a:lnTo>
                <a:lnTo>
                  <a:pt x="96" y="967"/>
                </a:lnTo>
                <a:lnTo>
                  <a:pt x="82" y="977"/>
                </a:lnTo>
                <a:lnTo>
                  <a:pt x="69" y="984"/>
                </a:lnTo>
                <a:lnTo>
                  <a:pt x="57" y="990"/>
                </a:lnTo>
                <a:lnTo>
                  <a:pt x="46" y="996"/>
                </a:lnTo>
                <a:lnTo>
                  <a:pt x="36" y="1000"/>
                </a:lnTo>
                <a:lnTo>
                  <a:pt x="29" y="1004"/>
                </a:lnTo>
                <a:lnTo>
                  <a:pt x="21" y="1006"/>
                </a:lnTo>
                <a:lnTo>
                  <a:pt x="15" y="1007"/>
                </a:lnTo>
                <a:lnTo>
                  <a:pt x="9" y="1007"/>
                </a:lnTo>
                <a:lnTo>
                  <a:pt x="6" y="1006"/>
                </a:lnTo>
                <a:lnTo>
                  <a:pt x="4" y="10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00"/>
          <p:cNvSpPr/>
          <p:nvPr/>
        </p:nvSpPr>
        <p:spPr>
          <a:xfrm>
            <a:off x="5972040" y="2825640"/>
            <a:ext cx="228600" cy="2274840"/>
          </a:xfrm>
          <a:custGeom>
            <a:avLst/>
            <a:gdLst/>
            <a:ahLst/>
            <a:rect l="l" t="t" r="r" b="b"/>
            <a:pathLst>
              <a:path w="288" h="2866">
                <a:moveTo>
                  <a:pt x="0" y="29"/>
                </a:moveTo>
                <a:lnTo>
                  <a:pt x="2" y="23"/>
                </a:lnTo>
                <a:lnTo>
                  <a:pt x="6" y="16"/>
                </a:lnTo>
                <a:lnTo>
                  <a:pt x="9" y="12"/>
                </a:lnTo>
                <a:lnTo>
                  <a:pt x="15" y="8"/>
                </a:lnTo>
                <a:lnTo>
                  <a:pt x="21" y="4"/>
                </a:lnTo>
                <a:lnTo>
                  <a:pt x="29" y="2"/>
                </a:lnTo>
                <a:lnTo>
                  <a:pt x="36" y="0"/>
                </a:lnTo>
                <a:lnTo>
                  <a:pt x="44" y="0"/>
                </a:lnTo>
                <a:lnTo>
                  <a:pt x="54" y="0"/>
                </a:lnTo>
                <a:lnTo>
                  <a:pt x="63" y="2"/>
                </a:lnTo>
                <a:lnTo>
                  <a:pt x="75" y="4"/>
                </a:lnTo>
                <a:lnTo>
                  <a:pt x="86" y="6"/>
                </a:lnTo>
                <a:lnTo>
                  <a:pt x="100" y="12"/>
                </a:lnTo>
                <a:lnTo>
                  <a:pt x="113" y="16"/>
                </a:lnTo>
                <a:lnTo>
                  <a:pt x="128" y="23"/>
                </a:lnTo>
                <a:lnTo>
                  <a:pt x="144" y="29"/>
                </a:lnTo>
                <a:lnTo>
                  <a:pt x="159" y="37"/>
                </a:lnTo>
                <a:lnTo>
                  <a:pt x="173" y="44"/>
                </a:lnTo>
                <a:lnTo>
                  <a:pt x="186" y="50"/>
                </a:lnTo>
                <a:lnTo>
                  <a:pt x="199" y="58"/>
                </a:lnTo>
                <a:lnTo>
                  <a:pt x="211" y="64"/>
                </a:lnTo>
                <a:lnTo>
                  <a:pt x="223" y="69"/>
                </a:lnTo>
                <a:lnTo>
                  <a:pt x="232" y="75"/>
                </a:lnTo>
                <a:lnTo>
                  <a:pt x="242" y="81"/>
                </a:lnTo>
                <a:lnTo>
                  <a:pt x="251" y="87"/>
                </a:lnTo>
                <a:lnTo>
                  <a:pt x="259" y="90"/>
                </a:lnTo>
                <a:lnTo>
                  <a:pt x="265" y="96"/>
                </a:lnTo>
                <a:lnTo>
                  <a:pt x="271" y="102"/>
                </a:lnTo>
                <a:lnTo>
                  <a:pt x="276" y="106"/>
                </a:lnTo>
                <a:lnTo>
                  <a:pt x="280" y="112"/>
                </a:lnTo>
                <a:lnTo>
                  <a:pt x="284" y="115"/>
                </a:lnTo>
                <a:lnTo>
                  <a:pt x="288" y="121"/>
                </a:lnTo>
                <a:lnTo>
                  <a:pt x="286" y="131"/>
                </a:lnTo>
                <a:lnTo>
                  <a:pt x="284" y="140"/>
                </a:lnTo>
                <a:lnTo>
                  <a:pt x="282" y="152"/>
                </a:lnTo>
                <a:lnTo>
                  <a:pt x="280" y="162"/>
                </a:lnTo>
                <a:lnTo>
                  <a:pt x="276" y="173"/>
                </a:lnTo>
                <a:lnTo>
                  <a:pt x="272" y="186"/>
                </a:lnTo>
                <a:lnTo>
                  <a:pt x="267" y="200"/>
                </a:lnTo>
                <a:lnTo>
                  <a:pt x="263" y="213"/>
                </a:lnTo>
                <a:lnTo>
                  <a:pt x="261" y="221"/>
                </a:lnTo>
                <a:lnTo>
                  <a:pt x="259" y="231"/>
                </a:lnTo>
                <a:lnTo>
                  <a:pt x="257" y="242"/>
                </a:lnTo>
                <a:lnTo>
                  <a:pt x="255" y="256"/>
                </a:lnTo>
                <a:lnTo>
                  <a:pt x="251" y="269"/>
                </a:lnTo>
                <a:lnTo>
                  <a:pt x="249" y="286"/>
                </a:lnTo>
                <a:lnTo>
                  <a:pt x="247" y="304"/>
                </a:lnTo>
                <a:lnTo>
                  <a:pt x="247" y="321"/>
                </a:lnTo>
                <a:lnTo>
                  <a:pt x="246" y="342"/>
                </a:lnTo>
                <a:lnTo>
                  <a:pt x="244" y="365"/>
                </a:lnTo>
                <a:lnTo>
                  <a:pt x="242" y="388"/>
                </a:lnTo>
                <a:lnTo>
                  <a:pt x="242" y="413"/>
                </a:lnTo>
                <a:lnTo>
                  <a:pt x="240" y="440"/>
                </a:lnTo>
                <a:lnTo>
                  <a:pt x="240" y="467"/>
                </a:lnTo>
                <a:lnTo>
                  <a:pt x="240" y="497"/>
                </a:lnTo>
                <a:lnTo>
                  <a:pt x="240" y="528"/>
                </a:lnTo>
                <a:lnTo>
                  <a:pt x="240" y="545"/>
                </a:lnTo>
                <a:lnTo>
                  <a:pt x="240" y="563"/>
                </a:lnTo>
                <a:lnTo>
                  <a:pt x="240" y="582"/>
                </a:lnTo>
                <a:lnTo>
                  <a:pt x="240" y="601"/>
                </a:lnTo>
                <a:lnTo>
                  <a:pt x="238" y="622"/>
                </a:lnTo>
                <a:lnTo>
                  <a:pt x="238" y="645"/>
                </a:lnTo>
                <a:lnTo>
                  <a:pt x="238" y="668"/>
                </a:lnTo>
                <a:lnTo>
                  <a:pt x="238" y="693"/>
                </a:lnTo>
                <a:lnTo>
                  <a:pt x="238" y="718"/>
                </a:lnTo>
                <a:lnTo>
                  <a:pt x="238" y="747"/>
                </a:lnTo>
                <a:lnTo>
                  <a:pt x="238" y="774"/>
                </a:lnTo>
                <a:lnTo>
                  <a:pt x="238" y="803"/>
                </a:lnTo>
                <a:lnTo>
                  <a:pt x="238" y="833"/>
                </a:lnTo>
                <a:lnTo>
                  <a:pt x="238" y="866"/>
                </a:lnTo>
                <a:lnTo>
                  <a:pt x="238" y="899"/>
                </a:lnTo>
                <a:lnTo>
                  <a:pt x="238" y="933"/>
                </a:lnTo>
                <a:lnTo>
                  <a:pt x="238" y="968"/>
                </a:lnTo>
                <a:lnTo>
                  <a:pt x="236" y="1004"/>
                </a:lnTo>
                <a:lnTo>
                  <a:pt x="236" y="1041"/>
                </a:lnTo>
                <a:lnTo>
                  <a:pt x="236" y="1079"/>
                </a:lnTo>
                <a:lnTo>
                  <a:pt x="236" y="1119"/>
                </a:lnTo>
                <a:lnTo>
                  <a:pt x="234" y="1160"/>
                </a:lnTo>
                <a:lnTo>
                  <a:pt x="234" y="1202"/>
                </a:lnTo>
                <a:lnTo>
                  <a:pt x="234" y="1244"/>
                </a:lnTo>
                <a:lnTo>
                  <a:pt x="234" y="1290"/>
                </a:lnTo>
                <a:lnTo>
                  <a:pt x="232" y="1334"/>
                </a:lnTo>
                <a:lnTo>
                  <a:pt x="232" y="1380"/>
                </a:lnTo>
                <a:lnTo>
                  <a:pt x="230" y="1428"/>
                </a:lnTo>
                <a:lnTo>
                  <a:pt x="230" y="1478"/>
                </a:lnTo>
                <a:lnTo>
                  <a:pt x="228" y="1528"/>
                </a:lnTo>
                <a:lnTo>
                  <a:pt x="228" y="1580"/>
                </a:lnTo>
                <a:lnTo>
                  <a:pt x="226" y="1632"/>
                </a:lnTo>
                <a:lnTo>
                  <a:pt x="226" y="1684"/>
                </a:lnTo>
                <a:lnTo>
                  <a:pt x="224" y="1735"/>
                </a:lnTo>
                <a:lnTo>
                  <a:pt x="223" y="1783"/>
                </a:lnTo>
                <a:lnTo>
                  <a:pt x="223" y="1833"/>
                </a:lnTo>
                <a:lnTo>
                  <a:pt x="221" y="1879"/>
                </a:lnTo>
                <a:lnTo>
                  <a:pt x="219" y="1926"/>
                </a:lnTo>
                <a:lnTo>
                  <a:pt x="219" y="1970"/>
                </a:lnTo>
                <a:lnTo>
                  <a:pt x="217" y="2014"/>
                </a:lnTo>
                <a:lnTo>
                  <a:pt x="215" y="2056"/>
                </a:lnTo>
                <a:lnTo>
                  <a:pt x="213" y="2096"/>
                </a:lnTo>
                <a:lnTo>
                  <a:pt x="211" y="2135"/>
                </a:lnTo>
                <a:lnTo>
                  <a:pt x="209" y="2173"/>
                </a:lnTo>
                <a:lnTo>
                  <a:pt x="209" y="2210"/>
                </a:lnTo>
                <a:lnTo>
                  <a:pt x="207" y="2246"/>
                </a:lnTo>
                <a:lnTo>
                  <a:pt x="205" y="2281"/>
                </a:lnTo>
                <a:lnTo>
                  <a:pt x="203" y="2313"/>
                </a:lnTo>
                <a:lnTo>
                  <a:pt x="201" y="2344"/>
                </a:lnTo>
                <a:lnTo>
                  <a:pt x="199" y="2375"/>
                </a:lnTo>
                <a:lnTo>
                  <a:pt x="198" y="2403"/>
                </a:lnTo>
                <a:lnTo>
                  <a:pt x="196" y="2432"/>
                </a:lnTo>
                <a:lnTo>
                  <a:pt x="194" y="2459"/>
                </a:lnTo>
                <a:lnTo>
                  <a:pt x="194" y="2484"/>
                </a:lnTo>
                <a:lnTo>
                  <a:pt x="192" y="2507"/>
                </a:lnTo>
                <a:lnTo>
                  <a:pt x="190" y="2530"/>
                </a:lnTo>
                <a:lnTo>
                  <a:pt x="188" y="2553"/>
                </a:lnTo>
                <a:lnTo>
                  <a:pt x="186" y="2572"/>
                </a:lnTo>
                <a:lnTo>
                  <a:pt x="186" y="2592"/>
                </a:lnTo>
                <a:lnTo>
                  <a:pt x="184" y="2611"/>
                </a:lnTo>
                <a:lnTo>
                  <a:pt x="182" y="2626"/>
                </a:lnTo>
                <a:lnTo>
                  <a:pt x="182" y="2641"/>
                </a:lnTo>
                <a:lnTo>
                  <a:pt x="180" y="2657"/>
                </a:lnTo>
                <a:lnTo>
                  <a:pt x="178" y="2668"/>
                </a:lnTo>
                <a:lnTo>
                  <a:pt x="176" y="2691"/>
                </a:lnTo>
                <a:lnTo>
                  <a:pt x="175" y="2711"/>
                </a:lnTo>
                <a:lnTo>
                  <a:pt x="171" y="2730"/>
                </a:lnTo>
                <a:lnTo>
                  <a:pt x="169" y="2747"/>
                </a:lnTo>
                <a:lnTo>
                  <a:pt x="165" y="2764"/>
                </a:lnTo>
                <a:lnTo>
                  <a:pt x="161" y="2780"/>
                </a:lnTo>
                <a:lnTo>
                  <a:pt x="159" y="2793"/>
                </a:lnTo>
                <a:lnTo>
                  <a:pt x="155" y="2807"/>
                </a:lnTo>
                <a:lnTo>
                  <a:pt x="151" y="2818"/>
                </a:lnTo>
                <a:lnTo>
                  <a:pt x="148" y="2830"/>
                </a:lnTo>
                <a:lnTo>
                  <a:pt x="146" y="2839"/>
                </a:lnTo>
                <a:lnTo>
                  <a:pt x="142" y="2847"/>
                </a:lnTo>
                <a:lnTo>
                  <a:pt x="138" y="2853"/>
                </a:lnTo>
                <a:lnTo>
                  <a:pt x="136" y="2858"/>
                </a:lnTo>
                <a:lnTo>
                  <a:pt x="134" y="2862"/>
                </a:lnTo>
                <a:lnTo>
                  <a:pt x="130" y="2866"/>
                </a:lnTo>
                <a:lnTo>
                  <a:pt x="127" y="2866"/>
                </a:lnTo>
                <a:lnTo>
                  <a:pt x="123" y="2864"/>
                </a:lnTo>
                <a:lnTo>
                  <a:pt x="117" y="2860"/>
                </a:lnTo>
                <a:lnTo>
                  <a:pt x="113" y="2856"/>
                </a:lnTo>
                <a:lnTo>
                  <a:pt x="107" y="2851"/>
                </a:lnTo>
                <a:lnTo>
                  <a:pt x="103" y="2845"/>
                </a:lnTo>
                <a:lnTo>
                  <a:pt x="98" y="2837"/>
                </a:lnTo>
                <a:lnTo>
                  <a:pt x="94" y="2828"/>
                </a:lnTo>
                <a:lnTo>
                  <a:pt x="88" y="2818"/>
                </a:lnTo>
                <a:lnTo>
                  <a:pt x="82" y="2808"/>
                </a:lnTo>
                <a:lnTo>
                  <a:pt x="77" y="2795"/>
                </a:lnTo>
                <a:lnTo>
                  <a:pt x="71" y="2784"/>
                </a:lnTo>
                <a:lnTo>
                  <a:pt x="65" y="2770"/>
                </a:lnTo>
                <a:lnTo>
                  <a:pt x="59" y="2755"/>
                </a:lnTo>
                <a:lnTo>
                  <a:pt x="54" y="2739"/>
                </a:lnTo>
                <a:lnTo>
                  <a:pt x="48" y="2722"/>
                </a:lnTo>
                <a:lnTo>
                  <a:pt x="40" y="2705"/>
                </a:lnTo>
                <a:lnTo>
                  <a:pt x="36" y="2686"/>
                </a:lnTo>
                <a:lnTo>
                  <a:pt x="31" y="2668"/>
                </a:lnTo>
                <a:lnTo>
                  <a:pt x="27" y="2651"/>
                </a:lnTo>
                <a:lnTo>
                  <a:pt x="25" y="2632"/>
                </a:lnTo>
                <a:lnTo>
                  <a:pt x="23" y="2613"/>
                </a:lnTo>
                <a:lnTo>
                  <a:pt x="21" y="2593"/>
                </a:lnTo>
                <a:lnTo>
                  <a:pt x="21" y="2574"/>
                </a:lnTo>
                <a:lnTo>
                  <a:pt x="21" y="2553"/>
                </a:lnTo>
                <a:lnTo>
                  <a:pt x="23" y="2534"/>
                </a:lnTo>
                <a:lnTo>
                  <a:pt x="25" y="2513"/>
                </a:lnTo>
                <a:lnTo>
                  <a:pt x="27" y="2492"/>
                </a:lnTo>
                <a:lnTo>
                  <a:pt x="31" y="2471"/>
                </a:lnTo>
                <a:lnTo>
                  <a:pt x="36" y="2450"/>
                </a:lnTo>
                <a:lnTo>
                  <a:pt x="40" y="2428"/>
                </a:lnTo>
                <a:lnTo>
                  <a:pt x="48" y="2407"/>
                </a:lnTo>
                <a:lnTo>
                  <a:pt x="50" y="2396"/>
                </a:lnTo>
                <a:lnTo>
                  <a:pt x="52" y="2382"/>
                </a:lnTo>
                <a:lnTo>
                  <a:pt x="54" y="2369"/>
                </a:lnTo>
                <a:lnTo>
                  <a:pt x="56" y="2354"/>
                </a:lnTo>
                <a:lnTo>
                  <a:pt x="57" y="2334"/>
                </a:lnTo>
                <a:lnTo>
                  <a:pt x="59" y="2315"/>
                </a:lnTo>
                <a:lnTo>
                  <a:pt x="61" y="2294"/>
                </a:lnTo>
                <a:lnTo>
                  <a:pt x="63" y="2271"/>
                </a:lnTo>
                <a:lnTo>
                  <a:pt x="65" y="2246"/>
                </a:lnTo>
                <a:lnTo>
                  <a:pt x="67" y="2219"/>
                </a:lnTo>
                <a:lnTo>
                  <a:pt x="67" y="2192"/>
                </a:lnTo>
                <a:lnTo>
                  <a:pt x="69" y="2162"/>
                </a:lnTo>
                <a:lnTo>
                  <a:pt x="71" y="2129"/>
                </a:lnTo>
                <a:lnTo>
                  <a:pt x="73" y="2096"/>
                </a:lnTo>
                <a:lnTo>
                  <a:pt x="75" y="2062"/>
                </a:lnTo>
                <a:lnTo>
                  <a:pt x="75" y="2023"/>
                </a:lnTo>
                <a:lnTo>
                  <a:pt x="77" y="1985"/>
                </a:lnTo>
                <a:lnTo>
                  <a:pt x="79" y="1945"/>
                </a:lnTo>
                <a:lnTo>
                  <a:pt x="80" y="1902"/>
                </a:lnTo>
                <a:lnTo>
                  <a:pt x="80" y="1858"/>
                </a:lnTo>
                <a:lnTo>
                  <a:pt x="82" y="1812"/>
                </a:lnTo>
                <a:lnTo>
                  <a:pt x="84" y="1766"/>
                </a:lnTo>
                <a:lnTo>
                  <a:pt x="84" y="1716"/>
                </a:lnTo>
                <a:lnTo>
                  <a:pt x="86" y="1666"/>
                </a:lnTo>
                <a:lnTo>
                  <a:pt x="86" y="1613"/>
                </a:lnTo>
                <a:lnTo>
                  <a:pt x="88" y="1559"/>
                </a:lnTo>
                <a:lnTo>
                  <a:pt x="90" y="1503"/>
                </a:lnTo>
                <a:lnTo>
                  <a:pt x="90" y="1446"/>
                </a:lnTo>
                <a:lnTo>
                  <a:pt x="92" y="1386"/>
                </a:lnTo>
                <a:lnTo>
                  <a:pt x="92" y="1325"/>
                </a:lnTo>
                <a:lnTo>
                  <a:pt x="94" y="1263"/>
                </a:lnTo>
                <a:lnTo>
                  <a:pt x="96" y="1198"/>
                </a:lnTo>
                <a:lnTo>
                  <a:pt x="96" y="1165"/>
                </a:lnTo>
                <a:lnTo>
                  <a:pt x="96" y="1135"/>
                </a:lnTo>
                <a:lnTo>
                  <a:pt x="94" y="1102"/>
                </a:lnTo>
                <a:lnTo>
                  <a:pt x="94" y="1071"/>
                </a:lnTo>
                <a:lnTo>
                  <a:pt x="94" y="1041"/>
                </a:lnTo>
                <a:lnTo>
                  <a:pt x="94" y="1012"/>
                </a:lnTo>
                <a:lnTo>
                  <a:pt x="94" y="981"/>
                </a:lnTo>
                <a:lnTo>
                  <a:pt x="94" y="952"/>
                </a:lnTo>
                <a:lnTo>
                  <a:pt x="94" y="925"/>
                </a:lnTo>
                <a:lnTo>
                  <a:pt x="94" y="897"/>
                </a:lnTo>
                <a:lnTo>
                  <a:pt x="94" y="870"/>
                </a:lnTo>
                <a:lnTo>
                  <a:pt x="94" y="843"/>
                </a:lnTo>
                <a:lnTo>
                  <a:pt x="94" y="816"/>
                </a:lnTo>
                <a:lnTo>
                  <a:pt x="94" y="791"/>
                </a:lnTo>
                <a:lnTo>
                  <a:pt x="92" y="764"/>
                </a:lnTo>
                <a:lnTo>
                  <a:pt x="92" y="739"/>
                </a:lnTo>
                <a:lnTo>
                  <a:pt x="92" y="716"/>
                </a:lnTo>
                <a:lnTo>
                  <a:pt x="92" y="691"/>
                </a:lnTo>
                <a:lnTo>
                  <a:pt x="92" y="668"/>
                </a:lnTo>
                <a:lnTo>
                  <a:pt x="90" y="645"/>
                </a:lnTo>
                <a:lnTo>
                  <a:pt x="90" y="622"/>
                </a:lnTo>
                <a:lnTo>
                  <a:pt x="90" y="601"/>
                </a:lnTo>
                <a:lnTo>
                  <a:pt x="90" y="578"/>
                </a:lnTo>
                <a:lnTo>
                  <a:pt x="90" y="559"/>
                </a:lnTo>
                <a:lnTo>
                  <a:pt x="88" y="538"/>
                </a:lnTo>
                <a:lnTo>
                  <a:pt x="88" y="517"/>
                </a:lnTo>
                <a:lnTo>
                  <a:pt x="88" y="497"/>
                </a:lnTo>
                <a:lnTo>
                  <a:pt x="86" y="478"/>
                </a:lnTo>
                <a:lnTo>
                  <a:pt x="86" y="461"/>
                </a:lnTo>
                <a:lnTo>
                  <a:pt x="86" y="442"/>
                </a:lnTo>
                <a:lnTo>
                  <a:pt x="84" y="424"/>
                </a:lnTo>
                <a:lnTo>
                  <a:pt x="84" y="407"/>
                </a:lnTo>
                <a:lnTo>
                  <a:pt x="84" y="390"/>
                </a:lnTo>
                <a:lnTo>
                  <a:pt x="82" y="375"/>
                </a:lnTo>
                <a:lnTo>
                  <a:pt x="80" y="344"/>
                </a:lnTo>
                <a:lnTo>
                  <a:pt x="80" y="315"/>
                </a:lnTo>
                <a:lnTo>
                  <a:pt x="79" y="286"/>
                </a:lnTo>
                <a:lnTo>
                  <a:pt x="77" y="261"/>
                </a:lnTo>
                <a:lnTo>
                  <a:pt x="75" y="238"/>
                </a:lnTo>
                <a:lnTo>
                  <a:pt x="71" y="217"/>
                </a:lnTo>
                <a:lnTo>
                  <a:pt x="69" y="198"/>
                </a:lnTo>
                <a:lnTo>
                  <a:pt x="67" y="179"/>
                </a:lnTo>
                <a:lnTo>
                  <a:pt x="65" y="163"/>
                </a:lnTo>
                <a:lnTo>
                  <a:pt x="61" y="150"/>
                </a:lnTo>
                <a:lnTo>
                  <a:pt x="59" y="138"/>
                </a:lnTo>
                <a:lnTo>
                  <a:pt x="56" y="127"/>
                </a:lnTo>
                <a:lnTo>
                  <a:pt x="54" y="119"/>
                </a:lnTo>
                <a:lnTo>
                  <a:pt x="50" y="114"/>
                </a:lnTo>
                <a:lnTo>
                  <a:pt x="46" y="108"/>
                </a:lnTo>
                <a:lnTo>
                  <a:pt x="40" y="104"/>
                </a:lnTo>
                <a:lnTo>
                  <a:pt x="34" y="98"/>
                </a:lnTo>
                <a:lnTo>
                  <a:pt x="29" y="92"/>
                </a:lnTo>
                <a:lnTo>
                  <a:pt x="25" y="89"/>
                </a:lnTo>
                <a:lnTo>
                  <a:pt x="21" y="83"/>
                </a:lnTo>
                <a:lnTo>
                  <a:pt x="17" y="79"/>
                </a:lnTo>
                <a:lnTo>
                  <a:pt x="9" y="69"/>
                </a:lnTo>
                <a:lnTo>
                  <a:pt x="6" y="58"/>
                </a:lnTo>
                <a:lnTo>
                  <a:pt x="2" y="48"/>
                </a:lnTo>
                <a:lnTo>
                  <a:pt x="0" y="39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01"/>
          <p:cNvSpPr/>
          <p:nvPr/>
        </p:nvSpPr>
        <p:spPr>
          <a:xfrm>
            <a:off x="5468760" y="4033800"/>
            <a:ext cx="1111320" cy="309600"/>
          </a:xfrm>
          <a:custGeom>
            <a:avLst/>
            <a:gdLst/>
            <a:ahLst/>
            <a:rect l="l" t="t" r="r" b="b"/>
            <a:pathLst>
              <a:path w="1402" h="390">
                <a:moveTo>
                  <a:pt x="0" y="229"/>
                </a:moveTo>
                <a:lnTo>
                  <a:pt x="10" y="227"/>
                </a:lnTo>
                <a:lnTo>
                  <a:pt x="22" y="227"/>
                </a:lnTo>
                <a:lnTo>
                  <a:pt x="33" y="227"/>
                </a:lnTo>
                <a:lnTo>
                  <a:pt x="47" y="227"/>
                </a:lnTo>
                <a:lnTo>
                  <a:pt x="60" y="225"/>
                </a:lnTo>
                <a:lnTo>
                  <a:pt x="73" y="223"/>
                </a:lnTo>
                <a:lnTo>
                  <a:pt x="89" y="223"/>
                </a:lnTo>
                <a:lnTo>
                  <a:pt x="106" y="221"/>
                </a:lnTo>
                <a:lnTo>
                  <a:pt x="121" y="219"/>
                </a:lnTo>
                <a:lnTo>
                  <a:pt x="139" y="215"/>
                </a:lnTo>
                <a:lnTo>
                  <a:pt x="158" y="213"/>
                </a:lnTo>
                <a:lnTo>
                  <a:pt x="177" y="212"/>
                </a:lnTo>
                <a:lnTo>
                  <a:pt x="196" y="208"/>
                </a:lnTo>
                <a:lnTo>
                  <a:pt x="217" y="204"/>
                </a:lnTo>
                <a:lnTo>
                  <a:pt x="238" y="202"/>
                </a:lnTo>
                <a:lnTo>
                  <a:pt x="262" y="198"/>
                </a:lnTo>
                <a:lnTo>
                  <a:pt x="283" y="192"/>
                </a:lnTo>
                <a:lnTo>
                  <a:pt x="308" y="189"/>
                </a:lnTo>
                <a:lnTo>
                  <a:pt x="331" y="185"/>
                </a:lnTo>
                <a:lnTo>
                  <a:pt x="357" y="179"/>
                </a:lnTo>
                <a:lnTo>
                  <a:pt x="382" y="173"/>
                </a:lnTo>
                <a:lnTo>
                  <a:pt x="409" y="169"/>
                </a:lnTo>
                <a:lnTo>
                  <a:pt x="436" y="162"/>
                </a:lnTo>
                <a:lnTo>
                  <a:pt x="465" y="156"/>
                </a:lnTo>
                <a:lnTo>
                  <a:pt x="494" y="150"/>
                </a:lnTo>
                <a:lnTo>
                  <a:pt x="524" y="142"/>
                </a:lnTo>
                <a:lnTo>
                  <a:pt x="555" y="137"/>
                </a:lnTo>
                <a:lnTo>
                  <a:pt x="586" y="129"/>
                </a:lnTo>
                <a:lnTo>
                  <a:pt x="619" y="121"/>
                </a:lnTo>
                <a:lnTo>
                  <a:pt x="651" y="114"/>
                </a:lnTo>
                <a:lnTo>
                  <a:pt x="684" y="106"/>
                </a:lnTo>
                <a:lnTo>
                  <a:pt x="718" y="96"/>
                </a:lnTo>
                <a:lnTo>
                  <a:pt x="753" y="89"/>
                </a:lnTo>
                <a:lnTo>
                  <a:pt x="787" y="83"/>
                </a:lnTo>
                <a:lnTo>
                  <a:pt x="820" y="75"/>
                </a:lnTo>
                <a:lnTo>
                  <a:pt x="851" y="70"/>
                </a:lnTo>
                <a:lnTo>
                  <a:pt x="882" y="64"/>
                </a:lnTo>
                <a:lnTo>
                  <a:pt x="912" y="58"/>
                </a:lnTo>
                <a:lnTo>
                  <a:pt x="941" y="52"/>
                </a:lnTo>
                <a:lnTo>
                  <a:pt x="968" y="46"/>
                </a:lnTo>
                <a:lnTo>
                  <a:pt x="995" y="41"/>
                </a:lnTo>
                <a:lnTo>
                  <a:pt x="1022" y="37"/>
                </a:lnTo>
                <a:lnTo>
                  <a:pt x="1047" y="33"/>
                </a:lnTo>
                <a:lnTo>
                  <a:pt x="1070" y="29"/>
                </a:lnTo>
                <a:lnTo>
                  <a:pt x="1093" y="25"/>
                </a:lnTo>
                <a:lnTo>
                  <a:pt x="1116" y="22"/>
                </a:lnTo>
                <a:lnTo>
                  <a:pt x="1137" y="18"/>
                </a:lnTo>
                <a:lnTo>
                  <a:pt x="1156" y="16"/>
                </a:lnTo>
                <a:lnTo>
                  <a:pt x="1175" y="12"/>
                </a:lnTo>
                <a:lnTo>
                  <a:pt x="1194" y="10"/>
                </a:lnTo>
                <a:lnTo>
                  <a:pt x="1212" y="8"/>
                </a:lnTo>
                <a:lnTo>
                  <a:pt x="1227" y="6"/>
                </a:lnTo>
                <a:lnTo>
                  <a:pt x="1242" y="4"/>
                </a:lnTo>
                <a:lnTo>
                  <a:pt x="1256" y="4"/>
                </a:lnTo>
                <a:lnTo>
                  <a:pt x="1269" y="2"/>
                </a:lnTo>
                <a:lnTo>
                  <a:pt x="1283" y="2"/>
                </a:lnTo>
                <a:lnTo>
                  <a:pt x="1292" y="2"/>
                </a:lnTo>
                <a:lnTo>
                  <a:pt x="1304" y="0"/>
                </a:lnTo>
                <a:lnTo>
                  <a:pt x="1312" y="0"/>
                </a:lnTo>
                <a:lnTo>
                  <a:pt x="1321" y="0"/>
                </a:lnTo>
                <a:lnTo>
                  <a:pt x="1327" y="2"/>
                </a:lnTo>
                <a:lnTo>
                  <a:pt x="1333" y="2"/>
                </a:lnTo>
                <a:lnTo>
                  <a:pt x="1338" y="2"/>
                </a:lnTo>
                <a:lnTo>
                  <a:pt x="1342" y="4"/>
                </a:lnTo>
                <a:lnTo>
                  <a:pt x="1356" y="14"/>
                </a:lnTo>
                <a:lnTo>
                  <a:pt x="1367" y="22"/>
                </a:lnTo>
                <a:lnTo>
                  <a:pt x="1377" y="29"/>
                </a:lnTo>
                <a:lnTo>
                  <a:pt x="1386" y="35"/>
                </a:lnTo>
                <a:lnTo>
                  <a:pt x="1392" y="41"/>
                </a:lnTo>
                <a:lnTo>
                  <a:pt x="1396" y="45"/>
                </a:lnTo>
                <a:lnTo>
                  <a:pt x="1398" y="46"/>
                </a:lnTo>
                <a:lnTo>
                  <a:pt x="1400" y="50"/>
                </a:lnTo>
                <a:lnTo>
                  <a:pt x="1402" y="52"/>
                </a:lnTo>
                <a:lnTo>
                  <a:pt x="1402" y="54"/>
                </a:lnTo>
                <a:lnTo>
                  <a:pt x="1402" y="58"/>
                </a:lnTo>
                <a:lnTo>
                  <a:pt x="1402" y="60"/>
                </a:lnTo>
                <a:lnTo>
                  <a:pt x="1400" y="62"/>
                </a:lnTo>
                <a:lnTo>
                  <a:pt x="1398" y="62"/>
                </a:lnTo>
                <a:lnTo>
                  <a:pt x="1396" y="64"/>
                </a:lnTo>
                <a:lnTo>
                  <a:pt x="1394" y="66"/>
                </a:lnTo>
                <a:lnTo>
                  <a:pt x="1390" y="68"/>
                </a:lnTo>
                <a:lnTo>
                  <a:pt x="1386" y="70"/>
                </a:lnTo>
                <a:lnTo>
                  <a:pt x="1383" y="71"/>
                </a:lnTo>
                <a:lnTo>
                  <a:pt x="1377" y="73"/>
                </a:lnTo>
                <a:lnTo>
                  <a:pt x="1373" y="75"/>
                </a:lnTo>
                <a:lnTo>
                  <a:pt x="1367" y="77"/>
                </a:lnTo>
                <a:lnTo>
                  <a:pt x="1361" y="79"/>
                </a:lnTo>
                <a:lnTo>
                  <a:pt x="1354" y="81"/>
                </a:lnTo>
                <a:lnTo>
                  <a:pt x="1346" y="83"/>
                </a:lnTo>
                <a:lnTo>
                  <a:pt x="1338" y="87"/>
                </a:lnTo>
                <a:lnTo>
                  <a:pt x="1331" y="89"/>
                </a:lnTo>
                <a:lnTo>
                  <a:pt x="1323" y="91"/>
                </a:lnTo>
                <a:lnTo>
                  <a:pt x="1313" y="94"/>
                </a:lnTo>
                <a:lnTo>
                  <a:pt x="1304" y="96"/>
                </a:lnTo>
                <a:lnTo>
                  <a:pt x="1294" y="100"/>
                </a:lnTo>
                <a:lnTo>
                  <a:pt x="1283" y="102"/>
                </a:lnTo>
                <a:lnTo>
                  <a:pt x="1273" y="106"/>
                </a:lnTo>
                <a:lnTo>
                  <a:pt x="1262" y="108"/>
                </a:lnTo>
                <a:lnTo>
                  <a:pt x="1248" y="112"/>
                </a:lnTo>
                <a:lnTo>
                  <a:pt x="1237" y="116"/>
                </a:lnTo>
                <a:lnTo>
                  <a:pt x="1223" y="118"/>
                </a:lnTo>
                <a:lnTo>
                  <a:pt x="1210" y="121"/>
                </a:lnTo>
                <a:lnTo>
                  <a:pt x="1196" y="125"/>
                </a:lnTo>
                <a:lnTo>
                  <a:pt x="1181" y="129"/>
                </a:lnTo>
                <a:lnTo>
                  <a:pt x="1166" y="133"/>
                </a:lnTo>
                <a:lnTo>
                  <a:pt x="1150" y="137"/>
                </a:lnTo>
                <a:lnTo>
                  <a:pt x="1026" y="165"/>
                </a:lnTo>
                <a:lnTo>
                  <a:pt x="962" y="181"/>
                </a:lnTo>
                <a:lnTo>
                  <a:pt x="901" y="194"/>
                </a:lnTo>
                <a:lnTo>
                  <a:pt x="839" y="210"/>
                </a:lnTo>
                <a:lnTo>
                  <a:pt x="778" y="225"/>
                </a:lnTo>
                <a:lnTo>
                  <a:pt x="718" y="238"/>
                </a:lnTo>
                <a:lnTo>
                  <a:pt x="659" y="254"/>
                </a:lnTo>
                <a:lnTo>
                  <a:pt x="630" y="263"/>
                </a:lnTo>
                <a:lnTo>
                  <a:pt x="603" y="273"/>
                </a:lnTo>
                <a:lnTo>
                  <a:pt x="574" y="283"/>
                </a:lnTo>
                <a:lnTo>
                  <a:pt x="549" y="292"/>
                </a:lnTo>
                <a:lnTo>
                  <a:pt x="524" y="300"/>
                </a:lnTo>
                <a:lnTo>
                  <a:pt x="500" y="308"/>
                </a:lnTo>
                <a:lnTo>
                  <a:pt x="475" y="315"/>
                </a:lnTo>
                <a:lnTo>
                  <a:pt x="452" y="323"/>
                </a:lnTo>
                <a:lnTo>
                  <a:pt x="430" y="331"/>
                </a:lnTo>
                <a:lnTo>
                  <a:pt x="409" y="336"/>
                </a:lnTo>
                <a:lnTo>
                  <a:pt x="388" y="344"/>
                </a:lnTo>
                <a:lnTo>
                  <a:pt x="369" y="350"/>
                </a:lnTo>
                <a:lnTo>
                  <a:pt x="350" y="356"/>
                </a:lnTo>
                <a:lnTo>
                  <a:pt x="333" y="361"/>
                </a:lnTo>
                <a:lnTo>
                  <a:pt x="315" y="367"/>
                </a:lnTo>
                <a:lnTo>
                  <a:pt x="300" y="373"/>
                </a:lnTo>
                <a:lnTo>
                  <a:pt x="285" y="377"/>
                </a:lnTo>
                <a:lnTo>
                  <a:pt x="269" y="380"/>
                </a:lnTo>
                <a:lnTo>
                  <a:pt x="254" y="384"/>
                </a:lnTo>
                <a:lnTo>
                  <a:pt x="238" y="386"/>
                </a:lnTo>
                <a:lnTo>
                  <a:pt x="225" y="388"/>
                </a:lnTo>
                <a:lnTo>
                  <a:pt x="210" y="390"/>
                </a:lnTo>
                <a:lnTo>
                  <a:pt x="196" y="390"/>
                </a:lnTo>
                <a:lnTo>
                  <a:pt x="185" y="390"/>
                </a:lnTo>
                <a:lnTo>
                  <a:pt x="171" y="390"/>
                </a:lnTo>
                <a:lnTo>
                  <a:pt x="158" y="388"/>
                </a:lnTo>
                <a:lnTo>
                  <a:pt x="146" y="384"/>
                </a:lnTo>
                <a:lnTo>
                  <a:pt x="135" y="382"/>
                </a:lnTo>
                <a:lnTo>
                  <a:pt x="125" y="377"/>
                </a:lnTo>
                <a:lnTo>
                  <a:pt x="114" y="373"/>
                </a:lnTo>
                <a:lnTo>
                  <a:pt x="104" y="365"/>
                </a:lnTo>
                <a:lnTo>
                  <a:pt x="96" y="359"/>
                </a:lnTo>
                <a:lnTo>
                  <a:pt x="85" y="352"/>
                </a:lnTo>
                <a:lnTo>
                  <a:pt x="75" y="344"/>
                </a:lnTo>
                <a:lnTo>
                  <a:pt x="66" y="336"/>
                </a:lnTo>
                <a:lnTo>
                  <a:pt x="58" y="329"/>
                </a:lnTo>
                <a:lnTo>
                  <a:pt x="48" y="321"/>
                </a:lnTo>
                <a:lnTo>
                  <a:pt x="43" y="313"/>
                </a:lnTo>
                <a:lnTo>
                  <a:pt x="35" y="306"/>
                </a:lnTo>
                <a:lnTo>
                  <a:pt x="29" y="298"/>
                </a:lnTo>
                <a:lnTo>
                  <a:pt x="23" y="290"/>
                </a:lnTo>
                <a:lnTo>
                  <a:pt x="20" y="283"/>
                </a:lnTo>
                <a:lnTo>
                  <a:pt x="16" y="273"/>
                </a:lnTo>
                <a:lnTo>
                  <a:pt x="12" y="265"/>
                </a:lnTo>
                <a:lnTo>
                  <a:pt x="4" y="246"/>
                </a:lnTo>
                <a:lnTo>
                  <a:pt x="0" y="2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02"/>
          <p:cNvSpPr/>
          <p:nvPr/>
        </p:nvSpPr>
        <p:spPr>
          <a:xfrm>
            <a:off x="5773680" y="3651120"/>
            <a:ext cx="674640" cy="208080"/>
          </a:xfrm>
          <a:custGeom>
            <a:avLst/>
            <a:gdLst/>
            <a:ahLst/>
            <a:rect l="l" t="t" r="r" b="b"/>
            <a:pathLst>
              <a:path w="851" h="263">
                <a:moveTo>
                  <a:pt x="526" y="184"/>
                </a:moveTo>
                <a:lnTo>
                  <a:pt x="505" y="188"/>
                </a:lnTo>
                <a:lnTo>
                  <a:pt x="486" y="193"/>
                </a:lnTo>
                <a:lnTo>
                  <a:pt x="465" y="197"/>
                </a:lnTo>
                <a:lnTo>
                  <a:pt x="446" y="203"/>
                </a:lnTo>
                <a:lnTo>
                  <a:pt x="428" y="207"/>
                </a:lnTo>
                <a:lnTo>
                  <a:pt x="409" y="211"/>
                </a:lnTo>
                <a:lnTo>
                  <a:pt x="392" y="215"/>
                </a:lnTo>
                <a:lnTo>
                  <a:pt x="377" y="218"/>
                </a:lnTo>
                <a:lnTo>
                  <a:pt x="359" y="222"/>
                </a:lnTo>
                <a:lnTo>
                  <a:pt x="344" y="226"/>
                </a:lnTo>
                <a:lnTo>
                  <a:pt x="329" y="228"/>
                </a:lnTo>
                <a:lnTo>
                  <a:pt x="315" y="232"/>
                </a:lnTo>
                <a:lnTo>
                  <a:pt x="302" y="236"/>
                </a:lnTo>
                <a:lnTo>
                  <a:pt x="288" y="238"/>
                </a:lnTo>
                <a:lnTo>
                  <a:pt x="275" y="240"/>
                </a:lnTo>
                <a:lnTo>
                  <a:pt x="263" y="243"/>
                </a:lnTo>
                <a:lnTo>
                  <a:pt x="252" y="245"/>
                </a:lnTo>
                <a:lnTo>
                  <a:pt x="240" y="247"/>
                </a:lnTo>
                <a:lnTo>
                  <a:pt x="231" y="249"/>
                </a:lnTo>
                <a:lnTo>
                  <a:pt x="221" y="251"/>
                </a:lnTo>
                <a:lnTo>
                  <a:pt x="212" y="253"/>
                </a:lnTo>
                <a:lnTo>
                  <a:pt x="202" y="255"/>
                </a:lnTo>
                <a:lnTo>
                  <a:pt x="194" y="257"/>
                </a:lnTo>
                <a:lnTo>
                  <a:pt x="187" y="257"/>
                </a:lnTo>
                <a:lnTo>
                  <a:pt x="179" y="259"/>
                </a:lnTo>
                <a:lnTo>
                  <a:pt x="173" y="259"/>
                </a:lnTo>
                <a:lnTo>
                  <a:pt x="167" y="261"/>
                </a:lnTo>
                <a:lnTo>
                  <a:pt x="162" y="261"/>
                </a:lnTo>
                <a:lnTo>
                  <a:pt x="156" y="261"/>
                </a:lnTo>
                <a:lnTo>
                  <a:pt x="152" y="263"/>
                </a:lnTo>
                <a:lnTo>
                  <a:pt x="146" y="263"/>
                </a:lnTo>
                <a:lnTo>
                  <a:pt x="144" y="263"/>
                </a:lnTo>
                <a:lnTo>
                  <a:pt x="137" y="263"/>
                </a:lnTo>
                <a:lnTo>
                  <a:pt x="129" y="261"/>
                </a:lnTo>
                <a:lnTo>
                  <a:pt x="121" y="259"/>
                </a:lnTo>
                <a:lnTo>
                  <a:pt x="114" y="257"/>
                </a:lnTo>
                <a:lnTo>
                  <a:pt x="106" y="255"/>
                </a:lnTo>
                <a:lnTo>
                  <a:pt x="98" y="251"/>
                </a:lnTo>
                <a:lnTo>
                  <a:pt x="89" y="245"/>
                </a:lnTo>
                <a:lnTo>
                  <a:pt x="81" y="241"/>
                </a:lnTo>
                <a:lnTo>
                  <a:pt x="71" y="236"/>
                </a:lnTo>
                <a:lnTo>
                  <a:pt x="62" y="228"/>
                </a:lnTo>
                <a:lnTo>
                  <a:pt x="52" y="220"/>
                </a:lnTo>
                <a:lnTo>
                  <a:pt x="43" y="213"/>
                </a:lnTo>
                <a:lnTo>
                  <a:pt x="31" y="203"/>
                </a:lnTo>
                <a:lnTo>
                  <a:pt x="21" y="193"/>
                </a:lnTo>
                <a:lnTo>
                  <a:pt x="10" y="182"/>
                </a:lnTo>
                <a:lnTo>
                  <a:pt x="0" y="170"/>
                </a:lnTo>
                <a:lnTo>
                  <a:pt x="23" y="169"/>
                </a:lnTo>
                <a:lnTo>
                  <a:pt x="48" y="165"/>
                </a:lnTo>
                <a:lnTo>
                  <a:pt x="73" y="161"/>
                </a:lnTo>
                <a:lnTo>
                  <a:pt x="98" y="155"/>
                </a:lnTo>
                <a:lnTo>
                  <a:pt x="123" y="151"/>
                </a:lnTo>
                <a:lnTo>
                  <a:pt x="150" y="146"/>
                </a:lnTo>
                <a:lnTo>
                  <a:pt x="175" y="140"/>
                </a:lnTo>
                <a:lnTo>
                  <a:pt x="200" y="132"/>
                </a:lnTo>
                <a:lnTo>
                  <a:pt x="252" y="119"/>
                </a:lnTo>
                <a:lnTo>
                  <a:pt x="306" y="103"/>
                </a:lnTo>
                <a:lnTo>
                  <a:pt x="334" y="94"/>
                </a:lnTo>
                <a:lnTo>
                  <a:pt x="361" y="84"/>
                </a:lnTo>
                <a:lnTo>
                  <a:pt x="390" y="74"/>
                </a:lnTo>
                <a:lnTo>
                  <a:pt x="419" y="65"/>
                </a:lnTo>
                <a:lnTo>
                  <a:pt x="446" y="57"/>
                </a:lnTo>
                <a:lnTo>
                  <a:pt x="471" y="51"/>
                </a:lnTo>
                <a:lnTo>
                  <a:pt x="496" y="44"/>
                </a:lnTo>
                <a:lnTo>
                  <a:pt x="521" y="38"/>
                </a:lnTo>
                <a:lnTo>
                  <a:pt x="544" y="32"/>
                </a:lnTo>
                <a:lnTo>
                  <a:pt x="565" y="27"/>
                </a:lnTo>
                <a:lnTo>
                  <a:pt x="586" y="23"/>
                </a:lnTo>
                <a:lnTo>
                  <a:pt x="607" y="17"/>
                </a:lnTo>
                <a:lnTo>
                  <a:pt x="626" y="13"/>
                </a:lnTo>
                <a:lnTo>
                  <a:pt x="643" y="9"/>
                </a:lnTo>
                <a:lnTo>
                  <a:pt x="661" y="7"/>
                </a:lnTo>
                <a:lnTo>
                  <a:pt x="676" y="3"/>
                </a:lnTo>
                <a:lnTo>
                  <a:pt x="691" y="2"/>
                </a:lnTo>
                <a:lnTo>
                  <a:pt x="707" y="2"/>
                </a:lnTo>
                <a:lnTo>
                  <a:pt x="718" y="0"/>
                </a:lnTo>
                <a:lnTo>
                  <a:pt x="732" y="0"/>
                </a:lnTo>
                <a:lnTo>
                  <a:pt x="753" y="0"/>
                </a:lnTo>
                <a:lnTo>
                  <a:pt x="774" y="2"/>
                </a:lnTo>
                <a:lnTo>
                  <a:pt x="784" y="3"/>
                </a:lnTo>
                <a:lnTo>
                  <a:pt x="791" y="5"/>
                </a:lnTo>
                <a:lnTo>
                  <a:pt x="801" y="7"/>
                </a:lnTo>
                <a:lnTo>
                  <a:pt x="809" y="9"/>
                </a:lnTo>
                <a:lnTo>
                  <a:pt x="816" y="11"/>
                </a:lnTo>
                <a:lnTo>
                  <a:pt x="824" y="15"/>
                </a:lnTo>
                <a:lnTo>
                  <a:pt x="830" y="19"/>
                </a:lnTo>
                <a:lnTo>
                  <a:pt x="835" y="23"/>
                </a:lnTo>
                <a:lnTo>
                  <a:pt x="841" y="27"/>
                </a:lnTo>
                <a:lnTo>
                  <a:pt x="845" y="30"/>
                </a:lnTo>
                <a:lnTo>
                  <a:pt x="849" y="34"/>
                </a:lnTo>
                <a:lnTo>
                  <a:pt x="851" y="40"/>
                </a:lnTo>
                <a:lnTo>
                  <a:pt x="851" y="42"/>
                </a:lnTo>
                <a:lnTo>
                  <a:pt x="851" y="46"/>
                </a:lnTo>
                <a:lnTo>
                  <a:pt x="851" y="50"/>
                </a:lnTo>
                <a:lnTo>
                  <a:pt x="849" y="53"/>
                </a:lnTo>
                <a:lnTo>
                  <a:pt x="847" y="57"/>
                </a:lnTo>
                <a:lnTo>
                  <a:pt x="845" y="61"/>
                </a:lnTo>
                <a:lnTo>
                  <a:pt x="841" y="65"/>
                </a:lnTo>
                <a:lnTo>
                  <a:pt x="837" y="69"/>
                </a:lnTo>
                <a:lnTo>
                  <a:pt x="832" y="73"/>
                </a:lnTo>
                <a:lnTo>
                  <a:pt x="826" y="76"/>
                </a:lnTo>
                <a:lnTo>
                  <a:pt x="820" y="80"/>
                </a:lnTo>
                <a:lnTo>
                  <a:pt x="814" y="84"/>
                </a:lnTo>
                <a:lnTo>
                  <a:pt x="807" y="88"/>
                </a:lnTo>
                <a:lnTo>
                  <a:pt x="797" y="92"/>
                </a:lnTo>
                <a:lnTo>
                  <a:pt x="787" y="98"/>
                </a:lnTo>
                <a:lnTo>
                  <a:pt x="778" y="101"/>
                </a:lnTo>
                <a:lnTo>
                  <a:pt x="768" y="105"/>
                </a:lnTo>
                <a:lnTo>
                  <a:pt x="757" y="109"/>
                </a:lnTo>
                <a:lnTo>
                  <a:pt x="745" y="115"/>
                </a:lnTo>
                <a:lnTo>
                  <a:pt x="732" y="119"/>
                </a:lnTo>
                <a:lnTo>
                  <a:pt x="718" y="124"/>
                </a:lnTo>
                <a:lnTo>
                  <a:pt x="705" y="128"/>
                </a:lnTo>
                <a:lnTo>
                  <a:pt x="690" y="134"/>
                </a:lnTo>
                <a:lnTo>
                  <a:pt x="674" y="138"/>
                </a:lnTo>
                <a:lnTo>
                  <a:pt x="659" y="144"/>
                </a:lnTo>
                <a:lnTo>
                  <a:pt x="642" y="149"/>
                </a:lnTo>
                <a:lnTo>
                  <a:pt x="624" y="155"/>
                </a:lnTo>
                <a:lnTo>
                  <a:pt x="607" y="159"/>
                </a:lnTo>
                <a:lnTo>
                  <a:pt x="588" y="165"/>
                </a:lnTo>
                <a:lnTo>
                  <a:pt x="569" y="170"/>
                </a:lnTo>
                <a:lnTo>
                  <a:pt x="547" y="178"/>
                </a:lnTo>
                <a:lnTo>
                  <a:pt x="526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03"/>
          <p:cNvSpPr/>
          <p:nvPr/>
        </p:nvSpPr>
        <p:spPr>
          <a:xfrm>
            <a:off x="5697360" y="3265560"/>
            <a:ext cx="789120" cy="228600"/>
          </a:xfrm>
          <a:custGeom>
            <a:avLst/>
            <a:gdLst/>
            <a:ahLst/>
            <a:rect l="l" t="t" r="r" b="b"/>
            <a:pathLst>
              <a:path w="995" h="288">
                <a:moveTo>
                  <a:pt x="876" y="131"/>
                </a:moveTo>
                <a:lnTo>
                  <a:pt x="860" y="138"/>
                </a:lnTo>
                <a:lnTo>
                  <a:pt x="845" y="146"/>
                </a:lnTo>
                <a:lnTo>
                  <a:pt x="830" y="152"/>
                </a:lnTo>
                <a:lnTo>
                  <a:pt x="812" y="159"/>
                </a:lnTo>
                <a:lnTo>
                  <a:pt x="793" y="165"/>
                </a:lnTo>
                <a:lnTo>
                  <a:pt x="774" y="171"/>
                </a:lnTo>
                <a:lnTo>
                  <a:pt x="755" y="177"/>
                </a:lnTo>
                <a:lnTo>
                  <a:pt x="732" y="184"/>
                </a:lnTo>
                <a:lnTo>
                  <a:pt x="711" y="190"/>
                </a:lnTo>
                <a:lnTo>
                  <a:pt x="688" y="196"/>
                </a:lnTo>
                <a:lnTo>
                  <a:pt x="663" y="202"/>
                </a:lnTo>
                <a:lnTo>
                  <a:pt x="638" y="209"/>
                </a:lnTo>
                <a:lnTo>
                  <a:pt x="611" y="215"/>
                </a:lnTo>
                <a:lnTo>
                  <a:pt x="584" y="221"/>
                </a:lnTo>
                <a:lnTo>
                  <a:pt x="555" y="228"/>
                </a:lnTo>
                <a:lnTo>
                  <a:pt x="526" y="236"/>
                </a:lnTo>
                <a:lnTo>
                  <a:pt x="496" y="244"/>
                </a:lnTo>
                <a:lnTo>
                  <a:pt x="467" y="250"/>
                </a:lnTo>
                <a:lnTo>
                  <a:pt x="438" y="255"/>
                </a:lnTo>
                <a:lnTo>
                  <a:pt x="413" y="261"/>
                </a:lnTo>
                <a:lnTo>
                  <a:pt x="386" y="267"/>
                </a:lnTo>
                <a:lnTo>
                  <a:pt x="363" y="271"/>
                </a:lnTo>
                <a:lnTo>
                  <a:pt x="340" y="274"/>
                </a:lnTo>
                <a:lnTo>
                  <a:pt x="319" y="278"/>
                </a:lnTo>
                <a:lnTo>
                  <a:pt x="298" y="280"/>
                </a:lnTo>
                <a:lnTo>
                  <a:pt x="281" y="282"/>
                </a:lnTo>
                <a:lnTo>
                  <a:pt x="261" y="284"/>
                </a:lnTo>
                <a:lnTo>
                  <a:pt x="246" y="286"/>
                </a:lnTo>
                <a:lnTo>
                  <a:pt x="231" y="288"/>
                </a:lnTo>
                <a:lnTo>
                  <a:pt x="215" y="288"/>
                </a:lnTo>
                <a:lnTo>
                  <a:pt x="204" y="288"/>
                </a:lnTo>
                <a:lnTo>
                  <a:pt x="192" y="288"/>
                </a:lnTo>
                <a:lnTo>
                  <a:pt x="181" y="288"/>
                </a:lnTo>
                <a:lnTo>
                  <a:pt x="169" y="288"/>
                </a:lnTo>
                <a:lnTo>
                  <a:pt x="158" y="286"/>
                </a:lnTo>
                <a:lnTo>
                  <a:pt x="146" y="284"/>
                </a:lnTo>
                <a:lnTo>
                  <a:pt x="135" y="280"/>
                </a:lnTo>
                <a:lnTo>
                  <a:pt x="123" y="278"/>
                </a:lnTo>
                <a:lnTo>
                  <a:pt x="112" y="274"/>
                </a:lnTo>
                <a:lnTo>
                  <a:pt x="100" y="269"/>
                </a:lnTo>
                <a:lnTo>
                  <a:pt x="89" y="263"/>
                </a:lnTo>
                <a:lnTo>
                  <a:pt x="75" y="257"/>
                </a:lnTo>
                <a:lnTo>
                  <a:pt x="64" y="251"/>
                </a:lnTo>
                <a:lnTo>
                  <a:pt x="50" y="244"/>
                </a:lnTo>
                <a:lnTo>
                  <a:pt x="39" y="236"/>
                </a:lnTo>
                <a:lnTo>
                  <a:pt x="25" y="228"/>
                </a:lnTo>
                <a:lnTo>
                  <a:pt x="12" y="219"/>
                </a:lnTo>
                <a:lnTo>
                  <a:pt x="0" y="209"/>
                </a:lnTo>
                <a:lnTo>
                  <a:pt x="46" y="198"/>
                </a:lnTo>
                <a:lnTo>
                  <a:pt x="91" y="186"/>
                </a:lnTo>
                <a:lnTo>
                  <a:pt x="135" y="175"/>
                </a:lnTo>
                <a:lnTo>
                  <a:pt x="177" y="163"/>
                </a:lnTo>
                <a:lnTo>
                  <a:pt x="217" y="152"/>
                </a:lnTo>
                <a:lnTo>
                  <a:pt x="258" y="142"/>
                </a:lnTo>
                <a:lnTo>
                  <a:pt x="294" y="131"/>
                </a:lnTo>
                <a:lnTo>
                  <a:pt x="331" y="121"/>
                </a:lnTo>
                <a:lnTo>
                  <a:pt x="365" y="111"/>
                </a:lnTo>
                <a:lnTo>
                  <a:pt x="398" y="102"/>
                </a:lnTo>
                <a:lnTo>
                  <a:pt x="430" y="92"/>
                </a:lnTo>
                <a:lnTo>
                  <a:pt x="459" y="84"/>
                </a:lnTo>
                <a:lnTo>
                  <a:pt x="488" y="77"/>
                </a:lnTo>
                <a:lnTo>
                  <a:pt x="515" y="67"/>
                </a:lnTo>
                <a:lnTo>
                  <a:pt x="540" y="60"/>
                </a:lnTo>
                <a:lnTo>
                  <a:pt x="563" y="52"/>
                </a:lnTo>
                <a:lnTo>
                  <a:pt x="584" y="46"/>
                </a:lnTo>
                <a:lnTo>
                  <a:pt x="603" y="38"/>
                </a:lnTo>
                <a:lnTo>
                  <a:pt x="622" y="33"/>
                </a:lnTo>
                <a:lnTo>
                  <a:pt x="643" y="27"/>
                </a:lnTo>
                <a:lnTo>
                  <a:pt x="663" y="23"/>
                </a:lnTo>
                <a:lnTo>
                  <a:pt x="684" y="17"/>
                </a:lnTo>
                <a:lnTo>
                  <a:pt x="703" y="13"/>
                </a:lnTo>
                <a:lnTo>
                  <a:pt x="722" y="12"/>
                </a:lnTo>
                <a:lnTo>
                  <a:pt x="759" y="6"/>
                </a:lnTo>
                <a:lnTo>
                  <a:pt x="795" y="2"/>
                </a:lnTo>
                <a:lnTo>
                  <a:pt x="812" y="2"/>
                </a:lnTo>
                <a:lnTo>
                  <a:pt x="830" y="0"/>
                </a:lnTo>
                <a:lnTo>
                  <a:pt x="847" y="0"/>
                </a:lnTo>
                <a:lnTo>
                  <a:pt x="862" y="0"/>
                </a:lnTo>
                <a:lnTo>
                  <a:pt x="878" y="0"/>
                </a:lnTo>
                <a:lnTo>
                  <a:pt x="893" y="0"/>
                </a:lnTo>
                <a:lnTo>
                  <a:pt x="906" y="2"/>
                </a:lnTo>
                <a:lnTo>
                  <a:pt x="918" y="2"/>
                </a:lnTo>
                <a:lnTo>
                  <a:pt x="931" y="4"/>
                </a:lnTo>
                <a:lnTo>
                  <a:pt x="941" y="6"/>
                </a:lnTo>
                <a:lnTo>
                  <a:pt x="951" y="8"/>
                </a:lnTo>
                <a:lnTo>
                  <a:pt x="960" y="10"/>
                </a:lnTo>
                <a:lnTo>
                  <a:pt x="968" y="12"/>
                </a:lnTo>
                <a:lnTo>
                  <a:pt x="976" y="15"/>
                </a:lnTo>
                <a:lnTo>
                  <a:pt x="981" y="19"/>
                </a:lnTo>
                <a:lnTo>
                  <a:pt x="985" y="21"/>
                </a:lnTo>
                <a:lnTo>
                  <a:pt x="989" y="25"/>
                </a:lnTo>
                <a:lnTo>
                  <a:pt x="993" y="31"/>
                </a:lnTo>
                <a:lnTo>
                  <a:pt x="995" y="35"/>
                </a:lnTo>
                <a:lnTo>
                  <a:pt x="995" y="38"/>
                </a:lnTo>
                <a:lnTo>
                  <a:pt x="995" y="44"/>
                </a:lnTo>
                <a:lnTo>
                  <a:pt x="993" y="48"/>
                </a:lnTo>
                <a:lnTo>
                  <a:pt x="991" y="54"/>
                </a:lnTo>
                <a:lnTo>
                  <a:pt x="987" y="60"/>
                </a:lnTo>
                <a:lnTo>
                  <a:pt x="983" y="63"/>
                </a:lnTo>
                <a:lnTo>
                  <a:pt x="979" y="69"/>
                </a:lnTo>
                <a:lnTo>
                  <a:pt x="974" y="75"/>
                </a:lnTo>
                <a:lnTo>
                  <a:pt x="966" y="81"/>
                </a:lnTo>
                <a:lnTo>
                  <a:pt x="958" y="84"/>
                </a:lnTo>
                <a:lnTo>
                  <a:pt x="949" y="90"/>
                </a:lnTo>
                <a:lnTo>
                  <a:pt x="939" y="98"/>
                </a:lnTo>
                <a:lnTo>
                  <a:pt x="929" y="104"/>
                </a:lnTo>
                <a:lnTo>
                  <a:pt x="916" y="109"/>
                </a:lnTo>
                <a:lnTo>
                  <a:pt x="905" y="117"/>
                </a:lnTo>
                <a:lnTo>
                  <a:pt x="889" y="123"/>
                </a:lnTo>
                <a:lnTo>
                  <a:pt x="876" y="1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窄下宽。注意“族”要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99"/>
          <p:cNvSpPr/>
          <p:nvPr/>
        </p:nvSpPr>
        <p:spPr>
          <a:xfrm>
            <a:off x="6858000" y="4336920"/>
            <a:ext cx="847800" cy="649440"/>
          </a:xfrm>
          <a:custGeom>
            <a:avLst/>
            <a:gdLst/>
            <a:ahLst/>
            <a:rect l="l" t="t" r="r" b="b"/>
            <a:pathLst>
              <a:path w="1067" h="817">
                <a:moveTo>
                  <a:pt x="839" y="808"/>
                </a:moveTo>
                <a:lnTo>
                  <a:pt x="810" y="810"/>
                </a:lnTo>
                <a:lnTo>
                  <a:pt x="783" y="811"/>
                </a:lnTo>
                <a:lnTo>
                  <a:pt x="758" y="813"/>
                </a:lnTo>
                <a:lnTo>
                  <a:pt x="733" y="815"/>
                </a:lnTo>
                <a:lnTo>
                  <a:pt x="710" y="815"/>
                </a:lnTo>
                <a:lnTo>
                  <a:pt x="689" y="817"/>
                </a:lnTo>
                <a:lnTo>
                  <a:pt x="668" y="817"/>
                </a:lnTo>
                <a:lnTo>
                  <a:pt x="651" y="817"/>
                </a:lnTo>
                <a:lnTo>
                  <a:pt x="633" y="817"/>
                </a:lnTo>
                <a:lnTo>
                  <a:pt x="616" y="817"/>
                </a:lnTo>
                <a:lnTo>
                  <a:pt x="603" y="815"/>
                </a:lnTo>
                <a:lnTo>
                  <a:pt x="589" y="815"/>
                </a:lnTo>
                <a:lnTo>
                  <a:pt x="578" y="813"/>
                </a:lnTo>
                <a:lnTo>
                  <a:pt x="568" y="811"/>
                </a:lnTo>
                <a:lnTo>
                  <a:pt x="558" y="810"/>
                </a:lnTo>
                <a:lnTo>
                  <a:pt x="551" y="808"/>
                </a:lnTo>
                <a:lnTo>
                  <a:pt x="547" y="806"/>
                </a:lnTo>
                <a:lnTo>
                  <a:pt x="543" y="804"/>
                </a:lnTo>
                <a:lnTo>
                  <a:pt x="539" y="802"/>
                </a:lnTo>
                <a:lnTo>
                  <a:pt x="535" y="798"/>
                </a:lnTo>
                <a:lnTo>
                  <a:pt x="530" y="796"/>
                </a:lnTo>
                <a:lnTo>
                  <a:pt x="526" y="790"/>
                </a:lnTo>
                <a:lnTo>
                  <a:pt x="520" y="787"/>
                </a:lnTo>
                <a:lnTo>
                  <a:pt x="514" y="781"/>
                </a:lnTo>
                <a:lnTo>
                  <a:pt x="508" y="777"/>
                </a:lnTo>
                <a:lnTo>
                  <a:pt x="503" y="769"/>
                </a:lnTo>
                <a:lnTo>
                  <a:pt x="497" y="764"/>
                </a:lnTo>
                <a:lnTo>
                  <a:pt x="489" y="756"/>
                </a:lnTo>
                <a:lnTo>
                  <a:pt x="484" y="748"/>
                </a:lnTo>
                <a:lnTo>
                  <a:pt x="476" y="740"/>
                </a:lnTo>
                <a:lnTo>
                  <a:pt x="468" y="733"/>
                </a:lnTo>
                <a:lnTo>
                  <a:pt x="460" y="723"/>
                </a:lnTo>
                <a:lnTo>
                  <a:pt x="453" y="714"/>
                </a:lnTo>
                <a:lnTo>
                  <a:pt x="443" y="704"/>
                </a:lnTo>
                <a:lnTo>
                  <a:pt x="436" y="692"/>
                </a:lnTo>
                <a:lnTo>
                  <a:pt x="426" y="683"/>
                </a:lnTo>
                <a:lnTo>
                  <a:pt x="416" y="671"/>
                </a:lnTo>
                <a:lnTo>
                  <a:pt x="409" y="658"/>
                </a:lnTo>
                <a:lnTo>
                  <a:pt x="399" y="646"/>
                </a:lnTo>
                <a:lnTo>
                  <a:pt x="388" y="633"/>
                </a:lnTo>
                <a:lnTo>
                  <a:pt x="368" y="606"/>
                </a:lnTo>
                <a:lnTo>
                  <a:pt x="345" y="577"/>
                </a:lnTo>
                <a:lnTo>
                  <a:pt x="322" y="545"/>
                </a:lnTo>
                <a:lnTo>
                  <a:pt x="299" y="512"/>
                </a:lnTo>
                <a:lnTo>
                  <a:pt x="274" y="479"/>
                </a:lnTo>
                <a:lnTo>
                  <a:pt x="251" y="449"/>
                </a:lnTo>
                <a:lnTo>
                  <a:pt x="230" y="418"/>
                </a:lnTo>
                <a:lnTo>
                  <a:pt x="209" y="389"/>
                </a:lnTo>
                <a:lnTo>
                  <a:pt x="190" y="362"/>
                </a:lnTo>
                <a:lnTo>
                  <a:pt x="171" y="335"/>
                </a:lnTo>
                <a:lnTo>
                  <a:pt x="153" y="312"/>
                </a:lnTo>
                <a:lnTo>
                  <a:pt x="138" y="289"/>
                </a:lnTo>
                <a:lnTo>
                  <a:pt x="123" y="268"/>
                </a:lnTo>
                <a:lnTo>
                  <a:pt x="107" y="247"/>
                </a:lnTo>
                <a:lnTo>
                  <a:pt x="96" y="228"/>
                </a:lnTo>
                <a:lnTo>
                  <a:pt x="84" y="211"/>
                </a:lnTo>
                <a:lnTo>
                  <a:pt x="73" y="195"/>
                </a:lnTo>
                <a:lnTo>
                  <a:pt x="63" y="180"/>
                </a:lnTo>
                <a:lnTo>
                  <a:pt x="55" y="167"/>
                </a:lnTo>
                <a:lnTo>
                  <a:pt x="48" y="153"/>
                </a:lnTo>
                <a:lnTo>
                  <a:pt x="38" y="142"/>
                </a:lnTo>
                <a:lnTo>
                  <a:pt x="31" y="130"/>
                </a:lnTo>
                <a:lnTo>
                  <a:pt x="25" y="119"/>
                </a:lnTo>
                <a:lnTo>
                  <a:pt x="19" y="107"/>
                </a:lnTo>
                <a:lnTo>
                  <a:pt x="13" y="96"/>
                </a:lnTo>
                <a:lnTo>
                  <a:pt x="9" y="86"/>
                </a:lnTo>
                <a:lnTo>
                  <a:pt x="6" y="76"/>
                </a:lnTo>
                <a:lnTo>
                  <a:pt x="4" y="67"/>
                </a:lnTo>
                <a:lnTo>
                  <a:pt x="2" y="57"/>
                </a:lnTo>
                <a:lnTo>
                  <a:pt x="0" y="48"/>
                </a:lnTo>
                <a:lnTo>
                  <a:pt x="0" y="38"/>
                </a:lnTo>
                <a:lnTo>
                  <a:pt x="0" y="30"/>
                </a:lnTo>
                <a:lnTo>
                  <a:pt x="2" y="23"/>
                </a:lnTo>
                <a:lnTo>
                  <a:pt x="4" y="13"/>
                </a:lnTo>
                <a:lnTo>
                  <a:pt x="7" y="5"/>
                </a:lnTo>
                <a:lnTo>
                  <a:pt x="11" y="0"/>
                </a:lnTo>
                <a:lnTo>
                  <a:pt x="46" y="34"/>
                </a:lnTo>
                <a:lnTo>
                  <a:pt x="80" y="67"/>
                </a:lnTo>
                <a:lnTo>
                  <a:pt x="115" y="99"/>
                </a:lnTo>
                <a:lnTo>
                  <a:pt x="150" y="132"/>
                </a:lnTo>
                <a:lnTo>
                  <a:pt x="182" y="163"/>
                </a:lnTo>
                <a:lnTo>
                  <a:pt x="215" y="192"/>
                </a:lnTo>
                <a:lnTo>
                  <a:pt x="246" y="220"/>
                </a:lnTo>
                <a:lnTo>
                  <a:pt x="276" y="249"/>
                </a:lnTo>
                <a:lnTo>
                  <a:pt x="307" y="276"/>
                </a:lnTo>
                <a:lnTo>
                  <a:pt x="338" y="301"/>
                </a:lnTo>
                <a:lnTo>
                  <a:pt x="366" y="326"/>
                </a:lnTo>
                <a:lnTo>
                  <a:pt x="395" y="351"/>
                </a:lnTo>
                <a:lnTo>
                  <a:pt x="424" y="374"/>
                </a:lnTo>
                <a:lnTo>
                  <a:pt x="451" y="395"/>
                </a:lnTo>
                <a:lnTo>
                  <a:pt x="478" y="416"/>
                </a:lnTo>
                <a:lnTo>
                  <a:pt x="503" y="437"/>
                </a:lnTo>
                <a:lnTo>
                  <a:pt x="528" y="456"/>
                </a:lnTo>
                <a:lnTo>
                  <a:pt x="553" y="474"/>
                </a:lnTo>
                <a:lnTo>
                  <a:pt x="578" y="491"/>
                </a:lnTo>
                <a:lnTo>
                  <a:pt x="601" y="508"/>
                </a:lnTo>
                <a:lnTo>
                  <a:pt x="624" y="524"/>
                </a:lnTo>
                <a:lnTo>
                  <a:pt x="645" y="539"/>
                </a:lnTo>
                <a:lnTo>
                  <a:pt x="666" y="552"/>
                </a:lnTo>
                <a:lnTo>
                  <a:pt x="687" y="566"/>
                </a:lnTo>
                <a:lnTo>
                  <a:pt x="706" y="577"/>
                </a:lnTo>
                <a:lnTo>
                  <a:pt x="725" y="589"/>
                </a:lnTo>
                <a:lnTo>
                  <a:pt x="745" y="600"/>
                </a:lnTo>
                <a:lnTo>
                  <a:pt x="762" y="610"/>
                </a:lnTo>
                <a:lnTo>
                  <a:pt x="779" y="620"/>
                </a:lnTo>
                <a:lnTo>
                  <a:pt x="796" y="627"/>
                </a:lnTo>
                <a:lnTo>
                  <a:pt x="812" y="635"/>
                </a:lnTo>
                <a:lnTo>
                  <a:pt x="827" y="641"/>
                </a:lnTo>
                <a:lnTo>
                  <a:pt x="854" y="652"/>
                </a:lnTo>
                <a:lnTo>
                  <a:pt x="881" y="664"/>
                </a:lnTo>
                <a:lnTo>
                  <a:pt x="906" y="675"/>
                </a:lnTo>
                <a:lnTo>
                  <a:pt x="929" y="685"/>
                </a:lnTo>
                <a:lnTo>
                  <a:pt x="950" y="694"/>
                </a:lnTo>
                <a:lnTo>
                  <a:pt x="971" y="704"/>
                </a:lnTo>
                <a:lnTo>
                  <a:pt x="988" y="712"/>
                </a:lnTo>
                <a:lnTo>
                  <a:pt x="1004" y="719"/>
                </a:lnTo>
                <a:lnTo>
                  <a:pt x="1019" y="727"/>
                </a:lnTo>
                <a:lnTo>
                  <a:pt x="1031" y="735"/>
                </a:lnTo>
                <a:lnTo>
                  <a:pt x="1042" y="740"/>
                </a:lnTo>
                <a:lnTo>
                  <a:pt x="1050" y="748"/>
                </a:lnTo>
                <a:lnTo>
                  <a:pt x="1057" y="754"/>
                </a:lnTo>
                <a:lnTo>
                  <a:pt x="1059" y="756"/>
                </a:lnTo>
                <a:lnTo>
                  <a:pt x="1061" y="760"/>
                </a:lnTo>
                <a:lnTo>
                  <a:pt x="1063" y="762"/>
                </a:lnTo>
                <a:lnTo>
                  <a:pt x="1065" y="764"/>
                </a:lnTo>
                <a:lnTo>
                  <a:pt x="1065" y="767"/>
                </a:lnTo>
                <a:lnTo>
                  <a:pt x="1067" y="769"/>
                </a:lnTo>
                <a:lnTo>
                  <a:pt x="1065" y="771"/>
                </a:lnTo>
                <a:lnTo>
                  <a:pt x="1063" y="775"/>
                </a:lnTo>
                <a:lnTo>
                  <a:pt x="1059" y="777"/>
                </a:lnTo>
                <a:lnTo>
                  <a:pt x="1052" y="779"/>
                </a:lnTo>
                <a:lnTo>
                  <a:pt x="1044" y="781"/>
                </a:lnTo>
                <a:lnTo>
                  <a:pt x="1034" y="785"/>
                </a:lnTo>
                <a:lnTo>
                  <a:pt x="1023" y="787"/>
                </a:lnTo>
                <a:lnTo>
                  <a:pt x="1011" y="788"/>
                </a:lnTo>
                <a:lnTo>
                  <a:pt x="996" y="790"/>
                </a:lnTo>
                <a:lnTo>
                  <a:pt x="979" y="794"/>
                </a:lnTo>
                <a:lnTo>
                  <a:pt x="960" y="796"/>
                </a:lnTo>
                <a:lnTo>
                  <a:pt x="940" y="798"/>
                </a:lnTo>
                <a:lnTo>
                  <a:pt x="917" y="800"/>
                </a:lnTo>
                <a:lnTo>
                  <a:pt x="906" y="802"/>
                </a:lnTo>
                <a:lnTo>
                  <a:pt x="892" y="804"/>
                </a:lnTo>
                <a:lnTo>
                  <a:pt x="881" y="804"/>
                </a:lnTo>
                <a:lnTo>
                  <a:pt x="867" y="806"/>
                </a:lnTo>
                <a:lnTo>
                  <a:pt x="852" y="806"/>
                </a:lnTo>
                <a:lnTo>
                  <a:pt x="839" y="8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200"/>
          <p:cNvSpPr/>
          <p:nvPr/>
        </p:nvSpPr>
        <p:spPr>
          <a:xfrm>
            <a:off x="6334200" y="4011480"/>
            <a:ext cx="609480" cy="984240"/>
          </a:xfrm>
          <a:custGeom>
            <a:avLst/>
            <a:gdLst/>
            <a:ahLst/>
            <a:rect l="l" t="t" r="r" b="b"/>
            <a:pathLst>
              <a:path w="767" h="1240">
                <a:moveTo>
                  <a:pt x="600" y="0"/>
                </a:moveTo>
                <a:lnTo>
                  <a:pt x="620" y="11"/>
                </a:lnTo>
                <a:lnTo>
                  <a:pt x="637" y="23"/>
                </a:lnTo>
                <a:lnTo>
                  <a:pt x="654" y="34"/>
                </a:lnTo>
                <a:lnTo>
                  <a:pt x="671" y="44"/>
                </a:lnTo>
                <a:lnTo>
                  <a:pt x="687" y="55"/>
                </a:lnTo>
                <a:lnTo>
                  <a:pt x="700" y="65"/>
                </a:lnTo>
                <a:lnTo>
                  <a:pt x="712" y="75"/>
                </a:lnTo>
                <a:lnTo>
                  <a:pt x="723" y="82"/>
                </a:lnTo>
                <a:lnTo>
                  <a:pt x="735" y="90"/>
                </a:lnTo>
                <a:lnTo>
                  <a:pt x="742" y="98"/>
                </a:lnTo>
                <a:lnTo>
                  <a:pt x="750" y="105"/>
                </a:lnTo>
                <a:lnTo>
                  <a:pt x="756" y="111"/>
                </a:lnTo>
                <a:lnTo>
                  <a:pt x="762" y="117"/>
                </a:lnTo>
                <a:lnTo>
                  <a:pt x="765" y="121"/>
                </a:lnTo>
                <a:lnTo>
                  <a:pt x="767" y="125"/>
                </a:lnTo>
                <a:lnTo>
                  <a:pt x="767" y="128"/>
                </a:lnTo>
                <a:lnTo>
                  <a:pt x="767" y="132"/>
                </a:lnTo>
                <a:lnTo>
                  <a:pt x="767" y="138"/>
                </a:lnTo>
                <a:lnTo>
                  <a:pt x="765" y="144"/>
                </a:lnTo>
                <a:lnTo>
                  <a:pt x="765" y="151"/>
                </a:lnTo>
                <a:lnTo>
                  <a:pt x="763" y="159"/>
                </a:lnTo>
                <a:lnTo>
                  <a:pt x="763" y="167"/>
                </a:lnTo>
                <a:lnTo>
                  <a:pt x="762" y="176"/>
                </a:lnTo>
                <a:lnTo>
                  <a:pt x="760" y="186"/>
                </a:lnTo>
                <a:lnTo>
                  <a:pt x="758" y="197"/>
                </a:lnTo>
                <a:lnTo>
                  <a:pt x="756" y="209"/>
                </a:lnTo>
                <a:lnTo>
                  <a:pt x="754" y="221"/>
                </a:lnTo>
                <a:lnTo>
                  <a:pt x="752" y="234"/>
                </a:lnTo>
                <a:lnTo>
                  <a:pt x="750" y="247"/>
                </a:lnTo>
                <a:lnTo>
                  <a:pt x="748" y="263"/>
                </a:lnTo>
                <a:lnTo>
                  <a:pt x="746" y="278"/>
                </a:lnTo>
                <a:lnTo>
                  <a:pt x="744" y="295"/>
                </a:lnTo>
                <a:lnTo>
                  <a:pt x="739" y="313"/>
                </a:lnTo>
                <a:lnTo>
                  <a:pt x="735" y="330"/>
                </a:lnTo>
                <a:lnTo>
                  <a:pt x="729" y="349"/>
                </a:lnTo>
                <a:lnTo>
                  <a:pt x="723" y="368"/>
                </a:lnTo>
                <a:lnTo>
                  <a:pt x="717" y="389"/>
                </a:lnTo>
                <a:lnTo>
                  <a:pt x="710" y="411"/>
                </a:lnTo>
                <a:lnTo>
                  <a:pt x="704" y="434"/>
                </a:lnTo>
                <a:lnTo>
                  <a:pt x="696" y="457"/>
                </a:lnTo>
                <a:lnTo>
                  <a:pt x="689" y="480"/>
                </a:lnTo>
                <a:lnTo>
                  <a:pt x="681" y="505"/>
                </a:lnTo>
                <a:lnTo>
                  <a:pt x="673" y="530"/>
                </a:lnTo>
                <a:lnTo>
                  <a:pt x="664" y="556"/>
                </a:lnTo>
                <a:lnTo>
                  <a:pt x="654" y="583"/>
                </a:lnTo>
                <a:lnTo>
                  <a:pt x="644" y="610"/>
                </a:lnTo>
                <a:lnTo>
                  <a:pt x="635" y="639"/>
                </a:lnTo>
                <a:lnTo>
                  <a:pt x="623" y="668"/>
                </a:lnTo>
                <a:lnTo>
                  <a:pt x="612" y="695"/>
                </a:lnTo>
                <a:lnTo>
                  <a:pt x="600" y="723"/>
                </a:lnTo>
                <a:lnTo>
                  <a:pt x="587" y="750"/>
                </a:lnTo>
                <a:lnTo>
                  <a:pt x="573" y="775"/>
                </a:lnTo>
                <a:lnTo>
                  <a:pt x="560" y="800"/>
                </a:lnTo>
                <a:lnTo>
                  <a:pt x="547" y="825"/>
                </a:lnTo>
                <a:lnTo>
                  <a:pt x="531" y="848"/>
                </a:lnTo>
                <a:lnTo>
                  <a:pt x="518" y="871"/>
                </a:lnTo>
                <a:lnTo>
                  <a:pt x="501" y="892"/>
                </a:lnTo>
                <a:lnTo>
                  <a:pt x="485" y="913"/>
                </a:lnTo>
                <a:lnTo>
                  <a:pt x="470" y="935"/>
                </a:lnTo>
                <a:lnTo>
                  <a:pt x="453" y="954"/>
                </a:lnTo>
                <a:lnTo>
                  <a:pt x="435" y="973"/>
                </a:lnTo>
                <a:lnTo>
                  <a:pt x="418" y="990"/>
                </a:lnTo>
                <a:lnTo>
                  <a:pt x="401" y="1009"/>
                </a:lnTo>
                <a:lnTo>
                  <a:pt x="383" y="1027"/>
                </a:lnTo>
                <a:lnTo>
                  <a:pt x="364" y="1042"/>
                </a:lnTo>
                <a:lnTo>
                  <a:pt x="345" y="1059"/>
                </a:lnTo>
                <a:lnTo>
                  <a:pt x="326" y="1073"/>
                </a:lnTo>
                <a:lnTo>
                  <a:pt x="307" y="1086"/>
                </a:lnTo>
                <a:lnTo>
                  <a:pt x="289" y="1100"/>
                </a:lnTo>
                <a:lnTo>
                  <a:pt x="272" y="1113"/>
                </a:lnTo>
                <a:lnTo>
                  <a:pt x="255" y="1125"/>
                </a:lnTo>
                <a:lnTo>
                  <a:pt x="238" y="1136"/>
                </a:lnTo>
                <a:lnTo>
                  <a:pt x="222" y="1146"/>
                </a:lnTo>
                <a:lnTo>
                  <a:pt x="207" y="1155"/>
                </a:lnTo>
                <a:lnTo>
                  <a:pt x="191" y="1165"/>
                </a:lnTo>
                <a:lnTo>
                  <a:pt x="176" y="1175"/>
                </a:lnTo>
                <a:lnTo>
                  <a:pt x="147" y="1190"/>
                </a:lnTo>
                <a:lnTo>
                  <a:pt x="120" y="1205"/>
                </a:lnTo>
                <a:lnTo>
                  <a:pt x="105" y="1213"/>
                </a:lnTo>
                <a:lnTo>
                  <a:pt x="92" y="1219"/>
                </a:lnTo>
                <a:lnTo>
                  <a:pt x="78" y="1224"/>
                </a:lnTo>
                <a:lnTo>
                  <a:pt x="67" y="1228"/>
                </a:lnTo>
                <a:lnTo>
                  <a:pt x="55" y="1232"/>
                </a:lnTo>
                <a:lnTo>
                  <a:pt x="46" y="1234"/>
                </a:lnTo>
                <a:lnTo>
                  <a:pt x="36" y="1236"/>
                </a:lnTo>
                <a:lnTo>
                  <a:pt x="28" y="1238"/>
                </a:lnTo>
                <a:lnTo>
                  <a:pt x="23" y="1240"/>
                </a:lnTo>
                <a:lnTo>
                  <a:pt x="17" y="1240"/>
                </a:lnTo>
                <a:lnTo>
                  <a:pt x="11" y="1240"/>
                </a:lnTo>
                <a:lnTo>
                  <a:pt x="7" y="1238"/>
                </a:lnTo>
                <a:lnTo>
                  <a:pt x="3" y="1238"/>
                </a:lnTo>
                <a:lnTo>
                  <a:pt x="1" y="1236"/>
                </a:lnTo>
                <a:lnTo>
                  <a:pt x="0" y="1234"/>
                </a:lnTo>
                <a:lnTo>
                  <a:pt x="0" y="1232"/>
                </a:lnTo>
                <a:lnTo>
                  <a:pt x="1" y="1226"/>
                </a:lnTo>
                <a:lnTo>
                  <a:pt x="3" y="1221"/>
                </a:lnTo>
                <a:lnTo>
                  <a:pt x="7" y="1213"/>
                </a:lnTo>
                <a:lnTo>
                  <a:pt x="11" y="1205"/>
                </a:lnTo>
                <a:lnTo>
                  <a:pt x="19" y="1198"/>
                </a:lnTo>
                <a:lnTo>
                  <a:pt x="26" y="1188"/>
                </a:lnTo>
                <a:lnTo>
                  <a:pt x="34" y="1176"/>
                </a:lnTo>
                <a:lnTo>
                  <a:pt x="46" y="1167"/>
                </a:lnTo>
                <a:lnTo>
                  <a:pt x="57" y="1155"/>
                </a:lnTo>
                <a:lnTo>
                  <a:pt x="71" y="1142"/>
                </a:lnTo>
                <a:lnTo>
                  <a:pt x="86" y="1128"/>
                </a:lnTo>
                <a:lnTo>
                  <a:pt x="101" y="1115"/>
                </a:lnTo>
                <a:lnTo>
                  <a:pt x="119" y="1100"/>
                </a:lnTo>
                <a:lnTo>
                  <a:pt x="138" y="1084"/>
                </a:lnTo>
                <a:lnTo>
                  <a:pt x="159" y="1069"/>
                </a:lnTo>
                <a:lnTo>
                  <a:pt x="180" y="1052"/>
                </a:lnTo>
                <a:lnTo>
                  <a:pt x="199" y="1034"/>
                </a:lnTo>
                <a:lnTo>
                  <a:pt x="218" y="1015"/>
                </a:lnTo>
                <a:lnTo>
                  <a:pt x="239" y="996"/>
                </a:lnTo>
                <a:lnTo>
                  <a:pt x="259" y="977"/>
                </a:lnTo>
                <a:lnTo>
                  <a:pt x="276" y="956"/>
                </a:lnTo>
                <a:lnTo>
                  <a:pt x="295" y="935"/>
                </a:lnTo>
                <a:lnTo>
                  <a:pt x="314" y="913"/>
                </a:lnTo>
                <a:lnTo>
                  <a:pt x="332" y="890"/>
                </a:lnTo>
                <a:lnTo>
                  <a:pt x="349" y="865"/>
                </a:lnTo>
                <a:lnTo>
                  <a:pt x="366" y="841"/>
                </a:lnTo>
                <a:lnTo>
                  <a:pt x="381" y="816"/>
                </a:lnTo>
                <a:lnTo>
                  <a:pt x="397" y="791"/>
                </a:lnTo>
                <a:lnTo>
                  <a:pt x="412" y="764"/>
                </a:lnTo>
                <a:lnTo>
                  <a:pt x="428" y="737"/>
                </a:lnTo>
                <a:lnTo>
                  <a:pt x="441" y="708"/>
                </a:lnTo>
                <a:lnTo>
                  <a:pt x="456" y="679"/>
                </a:lnTo>
                <a:lnTo>
                  <a:pt x="468" y="650"/>
                </a:lnTo>
                <a:lnTo>
                  <a:pt x="481" y="622"/>
                </a:lnTo>
                <a:lnTo>
                  <a:pt x="491" y="595"/>
                </a:lnTo>
                <a:lnTo>
                  <a:pt x="502" y="568"/>
                </a:lnTo>
                <a:lnTo>
                  <a:pt x="512" y="543"/>
                </a:lnTo>
                <a:lnTo>
                  <a:pt x="522" y="516"/>
                </a:lnTo>
                <a:lnTo>
                  <a:pt x="529" y="491"/>
                </a:lnTo>
                <a:lnTo>
                  <a:pt x="537" y="468"/>
                </a:lnTo>
                <a:lnTo>
                  <a:pt x="545" y="443"/>
                </a:lnTo>
                <a:lnTo>
                  <a:pt x="550" y="420"/>
                </a:lnTo>
                <a:lnTo>
                  <a:pt x="556" y="399"/>
                </a:lnTo>
                <a:lnTo>
                  <a:pt x="562" y="376"/>
                </a:lnTo>
                <a:lnTo>
                  <a:pt x="566" y="355"/>
                </a:lnTo>
                <a:lnTo>
                  <a:pt x="570" y="334"/>
                </a:lnTo>
                <a:lnTo>
                  <a:pt x="573" y="315"/>
                </a:lnTo>
                <a:lnTo>
                  <a:pt x="575" y="295"/>
                </a:lnTo>
                <a:lnTo>
                  <a:pt x="579" y="255"/>
                </a:lnTo>
                <a:lnTo>
                  <a:pt x="583" y="217"/>
                </a:lnTo>
                <a:lnTo>
                  <a:pt x="585" y="180"/>
                </a:lnTo>
                <a:lnTo>
                  <a:pt x="587" y="142"/>
                </a:lnTo>
                <a:lnTo>
                  <a:pt x="589" y="105"/>
                </a:lnTo>
                <a:lnTo>
                  <a:pt x="593" y="69"/>
                </a:lnTo>
                <a:lnTo>
                  <a:pt x="595" y="32"/>
                </a:lnTo>
                <a:lnTo>
                  <a:pt x="6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201"/>
          <p:cNvSpPr/>
          <p:nvPr/>
        </p:nvSpPr>
        <p:spPr>
          <a:xfrm>
            <a:off x="6410160" y="4179960"/>
            <a:ext cx="1181160" cy="268200"/>
          </a:xfrm>
          <a:custGeom>
            <a:avLst/>
            <a:gdLst/>
            <a:ahLst/>
            <a:rect l="l" t="t" r="r" b="b"/>
            <a:pathLst>
              <a:path w="1488" h="338">
                <a:moveTo>
                  <a:pt x="1248" y="4"/>
                </a:moveTo>
                <a:lnTo>
                  <a:pt x="1254" y="2"/>
                </a:lnTo>
                <a:lnTo>
                  <a:pt x="1262" y="0"/>
                </a:lnTo>
                <a:lnTo>
                  <a:pt x="1271" y="0"/>
                </a:lnTo>
                <a:lnTo>
                  <a:pt x="1279" y="0"/>
                </a:lnTo>
                <a:lnTo>
                  <a:pt x="1288" y="0"/>
                </a:lnTo>
                <a:lnTo>
                  <a:pt x="1296" y="0"/>
                </a:lnTo>
                <a:lnTo>
                  <a:pt x="1308" y="2"/>
                </a:lnTo>
                <a:lnTo>
                  <a:pt x="1317" y="4"/>
                </a:lnTo>
                <a:lnTo>
                  <a:pt x="1327" y="8"/>
                </a:lnTo>
                <a:lnTo>
                  <a:pt x="1338" y="9"/>
                </a:lnTo>
                <a:lnTo>
                  <a:pt x="1348" y="13"/>
                </a:lnTo>
                <a:lnTo>
                  <a:pt x="1359" y="19"/>
                </a:lnTo>
                <a:lnTo>
                  <a:pt x="1371" y="23"/>
                </a:lnTo>
                <a:lnTo>
                  <a:pt x="1381" y="29"/>
                </a:lnTo>
                <a:lnTo>
                  <a:pt x="1392" y="36"/>
                </a:lnTo>
                <a:lnTo>
                  <a:pt x="1404" y="42"/>
                </a:lnTo>
                <a:lnTo>
                  <a:pt x="1415" y="50"/>
                </a:lnTo>
                <a:lnTo>
                  <a:pt x="1425" y="57"/>
                </a:lnTo>
                <a:lnTo>
                  <a:pt x="1434" y="63"/>
                </a:lnTo>
                <a:lnTo>
                  <a:pt x="1442" y="69"/>
                </a:lnTo>
                <a:lnTo>
                  <a:pt x="1450" y="75"/>
                </a:lnTo>
                <a:lnTo>
                  <a:pt x="1455" y="80"/>
                </a:lnTo>
                <a:lnTo>
                  <a:pt x="1463" y="86"/>
                </a:lnTo>
                <a:lnTo>
                  <a:pt x="1467" y="92"/>
                </a:lnTo>
                <a:lnTo>
                  <a:pt x="1473" y="96"/>
                </a:lnTo>
                <a:lnTo>
                  <a:pt x="1477" y="100"/>
                </a:lnTo>
                <a:lnTo>
                  <a:pt x="1480" y="104"/>
                </a:lnTo>
                <a:lnTo>
                  <a:pt x="1482" y="107"/>
                </a:lnTo>
                <a:lnTo>
                  <a:pt x="1484" y="111"/>
                </a:lnTo>
                <a:lnTo>
                  <a:pt x="1486" y="115"/>
                </a:lnTo>
                <a:lnTo>
                  <a:pt x="1486" y="117"/>
                </a:lnTo>
                <a:lnTo>
                  <a:pt x="1488" y="121"/>
                </a:lnTo>
                <a:lnTo>
                  <a:pt x="1486" y="125"/>
                </a:lnTo>
                <a:lnTo>
                  <a:pt x="1486" y="128"/>
                </a:lnTo>
                <a:lnTo>
                  <a:pt x="1484" y="132"/>
                </a:lnTo>
                <a:lnTo>
                  <a:pt x="1482" y="136"/>
                </a:lnTo>
                <a:lnTo>
                  <a:pt x="1480" y="140"/>
                </a:lnTo>
                <a:lnTo>
                  <a:pt x="1477" y="144"/>
                </a:lnTo>
                <a:lnTo>
                  <a:pt x="1473" y="146"/>
                </a:lnTo>
                <a:lnTo>
                  <a:pt x="1469" y="148"/>
                </a:lnTo>
                <a:lnTo>
                  <a:pt x="1465" y="151"/>
                </a:lnTo>
                <a:lnTo>
                  <a:pt x="1459" y="153"/>
                </a:lnTo>
                <a:lnTo>
                  <a:pt x="1454" y="155"/>
                </a:lnTo>
                <a:lnTo>
                  <a:pt x="1448" y="155"/>
                </a:lnTo>
                <a:lnTo>
                  <a:pt x="1440" y="157"/>
                </a:lnTo>
                <a:lnTo>
                  <a:pt x="1432" y="157"/>
                </a:lnTo>
                <a:lnTo>
                  <a:pt x="1425" y="157"/>
                </a:lnTo>
                <a:lnTo>
                  <a:pt x="1415" y="159"/>
                </a:lnTo>
                <a:lnTo>
                  <a:pt x="1398" y="159"/>
                </a:lnTo>
                <a:lnTo>
                  <a:pt x="1377" y="159"/>
                </a:lnTo>
                <a:lnTo>
                  <a:pt x="1356" y="159"/>
                </a:lnTo>
                <a:lnTo>
                  <a:pt x="1333" y="159"/>
                </a:lnTo>
                <a:lnTo>
                  <a:pt x="1310" y="161"/>
                </a:lnTo>
                <a:lnTo>
                  <a:pt x="1296" y="163"/>
                </a:lnTo>
                <a:lnTo>
                  <a:pt x="1283" y="163"/>
                </a:lnTo>
                <a:lnTo>
                  <a:pt x="1269" y="165"/>
                </a:lnTo>
                <a:lnTo>
                  <a:pt x="1254" y="167"/>
                </a:lnTo>
                <a:lnTo>
                  <a:pt x="1239" y="169"/>
                </a:lnTo>
                <a:lnTo>
                  <a:pt x="1223" y="171"/>
                </a:lnTo>
                <a:lnTo>
                  <a:pt x="1216" y="173"/>
                </a:lnTo>
                <a:lnTo>
                  <a:pt x="1206" y="175"/>
                </a:lnTo>
                <a:lnTo>
                  <a:pt x="1196" y="175"/>
                </a:lnTo>
                <a:lnTo>
                  <a:pt x="1187" y="176"/>
                </a:lnTo>
                <a:lnTo>
                  <a:pt x="1175" y="178"/>
                </a:lnTo>
                <a:lnTo>
                  <a:pt x="1164" y="180"/>
                </a:lnTo>
                <a:lnTo>
                  <a:pt x="1152" y="182"/>
                </a:lnTo>
                <a:lnTo>
                  <a:pt x="1139" y="186"/>
                </a:lnTo>
                <a:lnTo>
                  <a:pt x="1125" y="188"/>
                </a:lnTo>
                <a:lnTo>
                  <a:pt x="1110" y="190"/>
                </a:lnTo>
                <a:lnTo>
                  <a:pt x="1095" y="192"/>
                </a:lnTo>
                <a:lnTo>
                  <a:pt x="1079" y="196"/>
                </a:lnTo>
                <a:lnTo>
                  <a:pt x="1062" y="198"/>
                </a:lnTo>
                <a:lnTo>
                  <a:pt x="1047" y="199"/>
                </a:lnTo>
                <a:lnTo>
                  <a:pt x="1027" y="203"/>
                </a:lnTo>
                <a:lnTo>
                  <a:pt x="1010" y="205"/>
                </a:lnTo>
                <a:lnTo>
                  <a:pt x="991" y="209"/>
                </a:lnTo>
                <a:lnTo>
                  <a:pt x="970" y="213"/>
                </a:lnTo>
                <a:lnTo>
                  <a:pt x="951" y="215"/>
                </a:lnTo>
                <a:lnTo>
                  <a:pt x="930" y="219"/>
                </a:lnTo>
                <a:lnTo>
                  <a:pt x="906" y="223"/>
                </a:lnTo>
                <a:lnTo>
                  <a:pt x="885" y="224"/>
                </a:lnTo>
                <a:lnTo>
                  <a:pt x="860" y="228"/>
                </a:lnTo>
                <a:lnTo>
                  <a:pt x="837" y="232"/>
                </a:lnTo>
                <a:lnTo>
                  <a:pt x="812" y="236"/>
                </a:lnTo>
                <a:lnTo>
                  <a:pt x="787" y="240"/>
                </a:lnTo>
                <a:lnTo>
                  <a:pt x="763" y="244"/>
                </a:lnTo>
                <a:lnTo>
                  <a:pt x="736" y="246"/>
                </a:lnTo>
                <a:lnTo>
                  <a:pt x="709" y="249"/>
                </a:lnTo>
                <a:lnTo>
                  <a:pt x="682" y="253"/>
                </a:lnTo>
                <a:lnTo>
                  <a:pt x="653" y="257"/>
                </a:lnTo>
                <a:lnTo>
                  <a:pt x="624" y="261"/>
                </a:lnTo>
                <a:lnTo>
                  <a:pt x="596" y="267"/>
                </a:lnTo>
                <a:lnTo>
                  <a:pt x="567" y="270"/>
                </a:lnTo>
                <a:lnTo>
                  <a:pt x="540" y="274"/>
                </a:lnTo>
                <a:lnTo>
                  <a:pt x="515" y="280"/>
                </a:lnTo>
                <a:lnTo>
                  <a:pt x="488" y="284"/>
                </a:lnTo>
                <a:lnTo>
                  <a:pt x="465" y="288"/>
                </a:lnTo>
                <a:lnTo>
                  <a:pt x="440" y="292"/>
                </a:lnTo>
                <a:lnTo>
                  <a:pt x="417" y="295"/>
                </a:lnTo>
                <a:lnTo>
                  <a:pt x="396" y="299"/>
                </a:lnTo>
                <a:lnTo>
                  <a:pt x="375" y="301"/>
                </a:lnTo>
                <a:lnTo>
                  <a:pt x="354" y="305"/>
                </a:lnTo>
                <a:lnTo>
                  <a:pt x="334" y="309"/>
                </a:lnTo>
                <a:lnTo>
                  <a:pt x="317" y="311"/>
                </a:lnTo>
                <a:lnTo>
                  <a:pt x="298" y="315"/>
                </a:lnTo>
                <a:lnTo>
                  <a:pt x="283" y="317"/>
                </a:lnTo>
                <a:lnTo>
                  <a:pt x="265" y="318"/>
                </a:lnTo>
                <a:lnTo>
                  <a:pt x="252" y="322"/>
                </a:lnTo>
                <a:lnTo>
                  <a:pt x="237" y="324"/>
                </a:lnTo>
                <a:lnTo>
                  <a:pt x="223" y="326"/>
                </a:lnTo>
                <a:lnTo>
                  <a:pt x="212" y="328"/>
                </a:lnTo>
                <a:lnTo>
                  <a:pt x="200" y="330"/>
                </a:lnTo>
                <a:lnTo>
                  <a:pt x="189" y="330"/>
                </a:lnTo>
                <a:lnTo>
                  <a:pt x="179" y="332"/>
                </a:lnTo>
                <a:lnTo>
                  <a:pt x="171" y="334"/>
                </a:lnTo>
                <a:lnTo>
                  <a:pt x="162" y="334"/>
                </a:lnTo>
                <a:lnTo>
                  <a:pt x="156" y="336"/>
                </a:lnTo>
                <a:lnTo>
                  <a:pt x="150" y="336"/>
                </a:lnTo>
                <a:lnTo>
                  <a:pt x="144" y="338"/>
                </a:lnTo>
                <a:lnTo>
                  <a:pt x="141" y="338"/>
                </a:lnTo>
                <a:lnTo>
                  <a:pt x="137" y="338"/>
                </a:lnTo>
                <a:lnTo>
                  <a:pt x="135" y="338"/>
                </a:lnTo>
                <a:lnTo>
                  <a:pt x="133" y="338"/>
                </a:lnTo>
                <a:lnTo>
                  <a:pt x="123" y="338"/>
                </a:lnTo>
                <a:lnTo>
                  <a:pt x="114" y="336"/>
                </a:lnTo>
                <a:lnTo>
                  <a:pt x="104" y="334"/>
                </a:lnTo>
                <a:lnTo>
                  <a:pt x="95" y="330"/>
                </a:lnTo>
                <a:lnTo>
                  <a:pt x="85" y="326"/>
                </a:lnTo>
                <a:lnTo>
                  <a:pt x="73" y="322"/>
                </a:lnTo>
                <a:lnTo>
                  <a:pt x="62" y="317"/>
                </a:lnTo>
                <a:lnTo>
                  <a:pt x="48" y="313"/>
                </a:lnTo>
                <a:lnTo>
                  <a:pt x="43" y="311"/>
                </a:lnTo>
                <a:lnTo>
                  <a:pt x="37" y="307"/>
                </a:lnTo>
                <a:lnTo>
                  <a:pt x="31" y="305"/>
                </a:lnTo>
                <a:lnTo>
                  <a:pt x="25" y="303"/>
                </a:lnTo>
                <a:lnTo>
                  <a:pt x="22" y="301"/>
                </a:lnTo>
                <a:lnTo>
                  <a:pt x="18" y="297"/>
                </a:lnTo>
                <a:lnTo>
                  <a:pt x="12" y="294"/>
                </a:lnTo>
                <a:lnTo>
                  <a:pt x="6" y="288"/>
                </a:lnTo>
                <a:lnTo>
                  <a:pt x="4" y="284"/>
                </a:lnTo>
                <a:lnTo>
                  <a:pt x="2" y="278"/>
                </a:lnTo>
                <a:lnTo>
                  <a:pt x="0" y="274"/>
                </a:lnTo>
                <a:lnTo>
                  <a:pt x="0" y="272"/>
                </a:lnTo>
                <a:lnTo>
                  <a:pt x="2" y="270"/>
                </a:lnTo>
                <a:lnTo>
                  <a:pt x="4" y="269"/>
                </a:lnTo>
                <a:lnTo>
                  <a:pt x="6" y="267"/>
                </a:lnTo>
                <a:lnTo>
                  <a:pt x="8" y="265"/>
                </a:lnTo>
                <a:lnTo>
                  <a:pt x="12" y="263"/>
                </a:lnTo>
                <a:lnTo>
                  <a:pt x="14" y="263"/>
                </a:lnTo>
                <a:lnTo>
                  <a:pt x="20" y="261"/>
                </a:lnTo>
                <a:lnTo>
                  <a:pt x="24" y="259"/>
                </a:lnTo>
                <a:lnTo>
                  <a:pt x="29" y="259"/>
                </a:lnTo>
                <a:lnTo>
                  <a:pt x="35" y="257"/>
                </a:lnTo>
                <a:lnTo>
                  <a:pt x="41" y="255"/>
                </a:lnTo>
                <a:lnTo>
                  <a:pt x="48" y="255"/>
                </a:lnTo>
                <a:lnTo>
                  <a:pt x="56" y="253"/>
                </a:lnTo>
                <a:lnTo>
                  <a:pt x="64" y="251"/>
                </a:lnTo>
                <a:lnTo>
                  <a:pt x="73" y="247"/>
                </a:lnTo>
                <a:lnTo>
                  <a:pt x="77" y="247"/>
                </a:lnTo>
                <a:lnTo>
                  <a:pt x="81" y="246"/>
                </a:lnTo>
                <a:lnTo>
                  <a:pt x="87" y="244"/>
                </a:lnTo>
                <a:lnTo>
                  <a:pt x="95" y="242"/>
                </a:lnTo>
                <a:lnTo>
                  <a:pt x="102" y="240"/>
                </a:lnTo>
                <a:lnTo>
                  <a:pt x="110" y="238"/>
                </a:lnTo>
                <a:lnTo>
                  <a:pt x="120" y="236"/>
                </a:lnTo>
                <a:lnTo>
                  <a:pt x="131" y="234"/>
                </a:lnTo>
                <a:lnTo>
                  <a:pt x="143" y="230"/>
                </a:lnTo>
                <a:lnTo>
                  <a:pt x="154" y="228"/>
                </a:lnTo>
                <a:lnTo>
                  <a:pt x="167" y="226"/>
                </a:lnTo>
                <a:lnTo>
                  <a:pt x="183" y="223"/>
                </a:lnTo>
                <a:lnTo>
                  <a:pt x="198" y="219"/>
                </a:lnTo>
                <a:lnTo>
                  <a:pt x="214" y="215"/>
                </a:lnTo>
                <a:lnTo>
                  <a:pt x="231" y="213"/>
                </a:lnTo>
                <a:lnTo>
                  <a:pt x="250" y="209"/>
                </a:lnTo>
                <a:lnTo>
                  <a:pt x="269" y="205"/>
                </a:lnTo>
                <a:lnTo>
                  <a:pt x="288" y="199"/>
                </a:lnTo>
                <a:lnTo>
                  <a:pt x="310" y="196"/>
                </a:lnTo>
                <a:lnTo>
                  <a:pt x="331" y="192"/>
                </a:lnTo>
                <a:lnTo>
                  <a:pt x="354" y="186"/>
                </a:lnTo>
                <a:lnTo>
                  <a:pt x="377" y="182"/>
                </a:lnTo>
                <a:lnTo>
                  <a:pt x="402" y="176"/>
                </a:lnTo>
                <a:lnTo>
                  <a:pt x="427" y="171"/>
                </a:lnTo>
                <a:lnTo>
                  <a:pt x="453" y="165"/>
                </a:lnTo>
                <a:lnTo>
                  <a:pt x="480" y="159"/>
                </a:lnTo>
                <a:lnTo>
                  <a:pt x="507" y="153"/>
                </a:lnTo>
                <a:lnTo>
                  <a:pt x="536" y="148"/>
                </a:lnTo>
                <a:lnTo>
                  <a:pt x="567" y="140"/>
                </a:lnTo>
                <a:lnTo>
                  <a:pt x="597" y="134"/>
                </a:lnTo>
                <a:lnTo>
                  <a:pt x="628" y="127"/>
                </a:lnTo>
                <a:lnTo>
                  <a:pt x="661" y="121"/>
                </a:lnTo>
                <a:lnTo>
                  <a:pt x="693" y="113"/>
                </a:lnTo>
                <a:lnTo>
                  <a:pt x="724" y="107"/>
                </a:lnTo>
                <a:lnTo>
                  <a:pt x="755" y="102"/>
                </a:lnTo>
                <a:lnTo>
                  <a:pt x="784" y="96"/>
                </a:lnTo>
                <a:lnTo>
                  <a:pt x="812" y="92"/>
                </a:lnTo>
                <a:lnTo>
                  <a:pt x="841" y="86"/>
                </a:lnTo>
                <a:lnTo>
                  <a:pt x="868" y="80"/>
                </a:lnTo>
                <a:lnTo>
                  <a:pt x="893" y="77"/>
                </a:lnTo>
                <a:lnTo>
                  <a:pt x="918" y="71"/>
                </a:lnTo>
                <a:lnTo>
                  <a:pt x="943" y="67"/>
                </a:lnTo>
                <a:lnTo>
                  <a:pt x="966" y="61"/>
                </a:lnTo>
                <a:lnTo>
                  <a:pt x="989" y="57"/>
                </a:lnTo>
                <a:lnTo>
                  <a:pt x="1010" y="54"/>
                </a:lnTo>
                <a:lnTo>
                  <a:pt x="1031" y="50"/>
                </a:lnTo>
                <a:lnTo>
                  <a:pt x="1052" y="46"/>
                </a:lnTo>
                <a:lnTo>
                  <a:pt x="1072" y="42"/>
                </a:lnTo>
                <a:lnTo>
                  <a:pt x="1089" y="38"/>
                </a:lnTo>
                <a:lnTo>
                  <a:pt x="1106" y="36"/>
                </a:lnTo>
                <a:lnTo>
                  <a:pt x="1121" y="32"/>
                </a:lnTo>
                <a:lnTo>
                  <a:pt x="1137" y="29"/>
                </a:lnTo>
                <a:lnTo>
                  <a:pt x="1152" y="27"/>
                </a:lnTo>
                <a:lnTo>
                  <a:pt x="1166" y="23"/>
                </a:lnTo>
                <a:lnTo>
                  <a:pt x="1177" y="21"/>
                </a:lnTo>
                <a:lnTo>
                  <a:pt x="1191" y="19"/>
                </a:lnTo>
                <a:lnTo>
                  <a:pt x="1200" y="17"/>
                </a:lnTo>
                <a:lnTo>
                  <a:pt x="1210" y="13"/>
                </a:lnTo>
                <a:lnTo>
                  <a:pt x="1219" y="11"/>
                </a:lnTo>
                <a:lnTo>
                  <a:pt x="1227" y="9"/>
                </a:lnTo>
                <a:lnTo>
                  <a:pt x="1233" y="9"/>
                </a:lnTo>
                <a:lnTo>
                  <a:pt x="1239" y="8"/>
                </a:lnTo>
                <a:lnTo>
                  <a:pt x="1244" y="6"/>
                </a:lnTo>
                <a:lnTo>
                  <a:pt x="1248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202"/>
          <p:cNvSpPr/>
          <p:nvPr/>
        </p:nvSpPr>
        <p:spPr>
          <a:xfrm>
            <a:off x="6445080" y="3819600"/>
            <a:ext cx="304920" cy="417600"/>
          </a:xfrm>
          <a:custGeom>
            <a:avLst/>
            <a:gdLst/>
            <a:ahLst/>
            <a:rect l="l" t="t" r="r" b="b"/>
            <a:pathLst>
              <a:path w="384" h="526">
                <a:moveTo>
                  <a:pt x="3" y="524"/>
                </a:moveTo>
                <a:lnTo>
                  <a:pt x="2" y="520"/>
                </a:lnTo>
                <a:lnTo>
                  <a:pt x="2" y="518"/>
                </a:lnTo>
                <a:lnTo>
                  <a:pt x="0" y="514"/>
                </a:lnTo>
                <a:lnTo>
                  <a:pt x="0" y="509"/>
                </a:lnTo>
                <a:lnTo>
                  <a:pt x="0" y="503"/>
                </a:lnTo>
                <a:lnTo>
                  <a:pt x="2" y="497"/>
                </a:lnTo>
                <a:lnTo>
                  <a:pt x="3" y="491"/>
                </a:lnTo>
                <a:lnTo>
                  <a:pt x="7" y="484"/>
                </a:lnTo>
                <a:lnTo>
                  <a:pt x="11" y="476"/>
                </a:lnTo>
                <a:lnTo>
                  <a:pt x="15" y="466"/>
                </a:lnTo>
                <a:lnTo>
                  <a:pt x="21" y="457"/>
                </a:lnTo>
                <a:lnTo>
                  <a:pt x="28" y="445"/>
                </a:lnTo>
                <a:lnTo>
                  <a:pt x="34" y="434"/>
                </a:lnTo>
                <a:lnTo>
                  <a:pt x="44" y="422"/>
                </a:lnTo>
                <a:lnTo>
                  <a:pt x="53" y="409"/>
                </a:lnTo>
                <a:lnTo>
                  <a:pt x="63" y="395"/>
                </a:lnTo>
                <a:lnTo>
                  <a:pt x="80" y="367"/>
                </a:lnTo>
                <a:lnTo>
                  <a:pt x="98" y="340"/>
                </a:lnTo>
                <a:lnTo>
                  <a:pt x="113" y="313"/>
                </a:lnTo>
                <a:lnTo>
                  <a:pt x="126" y="288"/>
                </a:lnTo>
                <a:lnTo>
                  <a:pt x="140" y="263"/>
                </a:lnTo>
                <a:lnTo>
                  <a:pt x="151" y="238"/>
                </a:lnTo>
                <a:lnTo>
                  <a:pt x="163" y="213"/>
                </a:lnTo>
                <a:lnTo>
                  <a:pt x="172" y="190"/>
                </a:lnTo>
                <a:lnTo>
                  <a:pt x="176" y="178"/>
                </a:lnTo>
                <a:lnTo>
                  <a:pt x="180" y="167"/>
                </a:lnTo>
                <a:lnTo>
                  <a:pt x="182" y="155"/>
                </a:lnTo>
                <a:lnTo>
                  <a:pt x="186" y="146"/>
                </a:lnTo>
                <a:lnTo>
                  <a:pt x="188" y="136"/>
                </a:lnTo>
                <a:lnTo>
                  <a:pt x="190" y="127"/>
                </a:lnTo>
                <a:lnTo>
                  <a:pt x="190" y="119"/>
                </a:lnTo>
                <a:lnTo>
                  <a:pt x="192" y="111"/>
                </a:lnTo>
                <a:lnTo>
                  <a:pt x="192" y="96"/>
                </a:lnTo>
                <a:lnTo>
                  <a:pt x="190" y="82"/>
                </a:lnTo>
                <a:lnTo>
                  <a:pt x="188" y="71"/>
                </a:lnTo>
                <a:lnTo>
                  <a:pt x="184" y="61"/>
                </a:lnTo>
                <a:lnTo>
                  <a:pt x="180" y="56"/>
                </a:lnTo>
                <a:lnTo>
                  <a:pt x="176" y="50"/>
                </a:lnTo>
                <a:lnTo>
                  <a:pt x="176" y="42"/>
                </a:lnTo>
                <a:lnTo>
                  <a:pt x="174" y="34"/>
                </a:lnTo>
                <a:lnTo>
                  <a:pt x="176" y="29"/>
                </a:lnTo>
                <a:lnTo>
                  <a:pt x="176" y="21"/>
                </a:lnTo>
                <a:lnTo>
                  <a:pt x="180" y="15"/>
                </a:lnTo>
                <a:lnTo>
                  <a:pt x="184" y="10"/>
                </a:lnTo>
                <a:lnTo>
                  <a:pt x="186" y="8"/>
                </a:lnTo>
                <a:lnTo>
                  <a:pt x="190" y="6"/>
                </a:lnTo>
                <a:lnTo>
                  <a:pt x="194" y="4"/>
                </a:lnTo>
                <a:lnTo>
                  <a:pt x="197" y="2"/>
                </a:lnTo>
                <a:lnTo>
                  <a:pt x="205" y="0"/>
                </a:lnTo>
                <a:lnTo>
                  <a:pt x="217" y="0"/>
                </a:lnTo>
                <a:lnTo>
                  <a:pt x="228" y="0"/>
                </a:lnTo>
                <a:lnTo>
                  <a:pt x="241" y="2"/>
                </a:lnTo>
                <a:lnTo>
                  <a:pt x="255" y="6"/>
                </a:lnTo>
                <a:lnTo>
                  <a:pt x="268" y="10"/>
                </a:lnTo>
                <a:lnTo>
                  <a:pt x="282" y="15"/>
                </a:lnTo>
                <a:lnTo>
                  <a:pt x="295" y="21"/>
                </a:lnTo>
                <a:lnTo>
                  <a:pt x="309" y="29"/>
                </a:lnTo>
                <a:lnTo>
                  <a:pt x="322" y="36"/>
                </a:lnTo>
                <a:lnTo>
                  <a:pt x="336" y="46"/>
                </a:lnTo>
                <a:lnTo>
                  <a:pt x="349" y="56"/>
                </a:lnTo>
                <a:lnTo>
                  <a:pt x="376" y="75"/>
                </a:lnTo>
                <a:lnTo>
                  <a:pt x="380" y="81"/>
                </a:lnTo>
                <a:lnTo>
                  <a:pt x="382" y="88"/>
                </a:lnTo>
                <a:lnTo>
                  <a:pt x="384" y="98"/>
                </a:lnTo>
                <a:lnTo>
                  <a:pt x="384" y="106"/>
                </a:lnTo>
                <a:lnTo>
                  <a:pt x="384" y="115"/>
                </a:lnTo>
                <a:lnTo>
                  <a:pt x="382" y="123"/>
                </a:lnTo>
                <a:lnTo>
                  <a:pt x="380" y="132"/>
                </a:lnTo>
                <a:lnTo>
                  <a:pt x="376" y="142"/>
                </a:lnTo>
                <a:lnTo>
                  <a:pt x="372" y="153"/>
                </a:lnTo>
                <a:lnTo>
                  <a:pt x="366" y="165"/>
                </a:lnTo>
                <a:lnTo>
                  <a:pt x="361" y="175"/>
                </a:lnTo>
                <a:lnTo>
                  <a:pt x="353" y="188"/>
                </a:lnTo>
                <a:lnTo>
                  <a:pt x="345" y="200"/>
                </a:lnTo>
                <a:lnTo>
                  <a:pt x="336" y="213"/>
                </a:lnTo>
                <a:lnTo>
                  <a:pt x="326" y="226"/>
                </a:lnTo>
                <a:lnTo>
                  <a:pt x="316" y="242"/>
                </a:lnTo>
                <a:lnTo>
                  <a:pt x="305" y="257"/>
                </a:lnTo>
                <a:lnTo>
                  <a:pt x="293" y="274"/>
                </a:lnTo>
                <a:lnTo>
                  <a:pt x="282" y="290"/>
                </a:lnTo>
                <a:lnTo>
                  <a:pt x="270" y="303"/>
                </a:lnTo>
                <a:lnTo>
                  <a:pt x="259" y="319"/>
                </a:lnTo>
                <a:lnTo>
                  <a:pt x="249" y="332"/>
                </a:lnTo>
                <a:lnTo>
                  <a:pt x="238" y="345"/>
                </a:lnTo>
                <a:lnTo>
                  <a:pt x="226" y="359"/>
                </a:lnTo>
                <a:lnTo>
                  <a:pt x="203" y="382"/>
                </a:lnTo>
                <a:lnTo>
                  <a:pt x="180" y="405"/>
                </a:lnTo>
                <a:lnTo>
                  <a:pt x="157" y="426"/>
                </a:lnTo>
                <a:lnTo>
                  <a:pt x="136" y="447"/>
                </a:lnTo>
                <a:lnTo>
                  <a:pt x="124" y="459"/>
                </a:lnTo>
                <a:lnTo>
                  <a:pt x="115" y="468"/>
                </a:lnTo>
                <a:lnTo>
                  <a:pt x="103" y="478"/>
                </a:lnTo>
                <a:lnTo>
                  <a:pt x="94" y="487"/>
                </a:lnTo>
                <a:lnTo>
                  <a:pt x="84" y="495"/>
                </a:lnTo>
                <a:lnTo>
                  <a:pt x="75" y="503"/>
                </a:lnTo>
                <a:lnTo>
                  <a:pt x="65" y="509"/>
                </a:lnTo>
                <a:lnTo>
                  <a:pt x="57" y="514"/>
                </a:lnTo>
                <a:lnTo>
                  <a:pt x="48" y="518"/>
                </a:lnTo>
                <a:lnTo>
                  <a:pt x="40" y="522"/>
                </a:lnTo>
                <a:lnTo>
                  <a:pt x="32" y="524"/>
                </a:lnTo>
                <a:lnTo>
                  <a:pt x="27" y="526"/>
                </a:lnTo>
                <a:lnTo>
                  <a:pt x="21" y="526"/>
                </a:lnTo>
                <a:lnTo>
                  <a:pt x="13" y="526"/>
                </a:lnTo>
                <a:lnTo>
                  <a:pt x="9" y="526"/>
                </a:lnTo>
                <a:lnTo>
                  <a:pt x="3" y="5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203"/>
          <p:cNvSpPr/>
          <p:nvPr/>
        </p:nvSpPr>
        <p:spPr>
          <a:xfrm>
            <a:off x="6608880" y="3875040"/>
            <a:ext cx="653760" cy="187200"/>
          </a:xfrm>
          <a:custGeom>
            <a:avLst/>
            <a:gdLst/>
            <a:ahLst/>
            <a:rect l="l" t="t" r="r" b="b"/>
            <a:pathLst>
              <a:path w="823" h="236">
                <a:moveTo>
                  <a:pt x="708" y="159"/>
                </a:moveTo>
                <a:lnTo>
                  <a:pt x="699" y="161"/>
                </a:lnTo>
                <a:lnTo>
                  <a:pt x="687" y="163"/>
                </a:lnTo>
                <a:lnTo>
                  <a:pt x="676" y="167"/>
                </a:lnTo>
                <a:lnTo>
                  <a:pt x="662" y="169"/>
                </a:lnTo>
                <a:lnTo>
                  <a:pt x="649" y="171"/>
                </a:lnTo>
                <a:lnTo>
                  <a:pt x="633" y="173"/>
                </a:lnTo>
                <a:lnTo>
                  <a:pt x="618" y="177"/>
                </a:lnTo>
                <a:lnTo>
                  <a:pt x="601" y="179"/>
                </a:lnTo>
                <a:lnTo>
                  <a:pt x="583" y="180"/>
                </a:lnTo>
                <a:lnTo>
                  <a:pt x="564" y="182"/>
                </a:lnTo>
                <a:lnTo>
                  <a:pt x="545" y="186"/>
                </a:lnTo>
                <a:lnTo>
                  <a:pt x="524" y="188"/>
                </a:lnTo>
                <a:lnTo>
                  <a:pt x="503" y="190"/>
                </a:lnTo>
                <a:lnTo>
                  <a:pt x="480" y="192"/>
                </a:lnTo>
                <a:lnTo>
                  <a:pt x="457" y="196"/>
                </a:lnTo>
                <a:lnTo>
                  <a:pt x="432" y="198"/>
                </a:lnTo>
                <a:lnTo>
                  <a:pt x="409" y="202"/>
                </a:lnTo>
                <a:lnTo>
                  <a:pt x="386" y="207"/>
                </a:lnTo>
                <a:lnTo>
                  <a:pt x="363" y="211"/>
                </a:lnTo>
                <a:lnTo>
                  <a:pt x="342" y="215"/>
                </a:lnTo>
                <a:lnTo>
                  <a:pt x="322" y="219"/>
                </a:lnTo>
                <a:lnTo>
                  <a:pt x="303" y="221"/>
                </a:lnTo>
                <a:lnTo>
                  <a:pt x="286" y="225"/>
                </a:lnTo>
                <a:lnTo>
                  <a:pt x="271" y="227"/>
                </a:lnTo>
                <a:lnTo>
                  <a:pt x="255" y="228"/>
                </a:lnTo>
                <a:lnTo>
                  <a:pt x="242" y="230"/>
                </a:lnTo>
                <a:lnTo>
                  <a:pt x="228" y="232"/>
                </a:lnTo>
                <a:lnTo>
                  <a:pt x="217" y="234"/>
                </a:lnTo>
                <a:lnTo>
                  <a:pt x="205" y="234"/>
                </a:lnTo>
                <a:lnTo>
                  <a:pt x="196" y="236"/>
                </a:lnTo>
                <a:lnTo>
                  <a:pt x="188" y="236"/>
                </a:lnTo>
                <a:lnTo>
                  <a:pt x="180" y="236"/>
                </a:lnTo>
                <a:lnTo>
                  <a:pt x="173" y="236"/>
                </a:lnTo>
                <a:lnTo>
                  <a:pt x="165" y="234"/>
                </a:lnTo>
                <a:lnTo>
                  <a:pt x="157" y="234"/>
                </a:lnTo>
                <a:lnTo>
                  <a:pt x="150" y="232"/>
                </a:lnTo>
                <a:lnTo>
                  <a:pt x="140" y="228"/>
                </a:lnTo>
                <a:lnTo>
                  <a:pt x="130" y="225"/>
                </a:lnTo>
                <a:lnTo>
                  <a:pt x="119" y="221"/>
                </a:lnTo>
                <a:lnTo>
                  <a:pt x="107" y="217"/>
                </a:lnTo>
                <a:lnTo>
                  <a:pt x="96" y="211"/>
                </a:lnTo>
                <a:lnTo>
                  <a:pt x="84" y="205"/>
                </a:lnTo>
                <a:lnTo>
                  <a:pt x="73" y="200"/>
                </a:lnTo>
                <a:lnTo>
                  <a:pt x="59" y="194"/>
                </a:lnTo>
                <a:lnTo>
                  <a:pt x="44" y="186"/>
                </a:lnTo>
                <a:lnTo>
                  <a:pt x="31" y="177"/>
                </a:lnTo>
                <a:lnTo>
                  <a:pt x="15" y="169"/>
                </a:lnTo>
                <a:lnTo>
                  <a:pt x="0" y="159"/>
                </a:lnTo>
                <a:lnTo>
                  <a:pt x="21" y="154"/>
                </a:lnTo>
                <a:lnTo>
                  <a:pt x="42" y="150"/>
                </a:lnTo>
                <a:lnTo>
                  <a:pt x="63" y="144"/>
                </a:lnTo>
                <a:lnTo>
                  <a:pt x="86" y="140"/>
                </a:lnTo>
                <a:lnTo>
                  <a:pt x="130" y="129"/>
                </a:lnTo>
                <a:lnTo>
                  <a:pt x="177" y="119"/>
                </a:lnTo>
                <a:lnTo>
                  <a:pt x="225" y="108"/>
                </a:lnTo>
                <a:lnTo>
                  <a:pt x="274" y="96"/>
                </a:lnTo>
                <a:lnTo>
                  <a:pt x="322" y="83"/>
                </a:lnTo>
                <a:lnTo>
                  <a:pt x="372" y="69"/>
                </a:lnTo>
                <a:lnTo>
                  <a:pt x="397" y="63"/>
                </a:lnTo>
                <a:lnTo>
                  <a:pt x="420" y="60"/>
                </a:lnTo>
                <a:lnTo>
                  <a:pt x="443" y="54"/>
                </a:lnTo>
                <a:lnTo>
                  <a:pt x="464" y="50"/>
                </a:lnTo>
                <a:lnTo>
                  <a:pt x="486" y="46"/>
                </a:lnTo>
                <a:lnTo>
                  <a:pt x="505" y="40"/>
                </a:lnTo>
                <a:lnTo>
                  <a:pt x="524" y="37"/>
                </a:lnTo>
                <a:lnTo>
                  <a:pt x="543" y="33"/>
                </a:lnTo>
                <a:lnTo>
                  <a:pt x="560" y="29"/>
                </a:lnTo>
                <a:lnTo>
                  <a:pt x="578" y="23"/>
                </a:lnTo>
                <a:lnTo>
                  <a:pt x="593" y="21"/>
                </a:lnTo>
                <a:lnTo>
                  <a:pt x="608" y="17"/>
                </a:lnTo>
                <a:lnTo>
                  <a:pt x="622" y="13"/>
                </a:lnTo>
                <a:lnTo>
                  <a:pt x="635" y="10"/>
                </a:lnTo>
                <a:lnTo>
                  <a:pt x="649" y="8"/>
                </a:lnTo>
                <a:lnTo>
                  <a:pt x="660" y="6"/>
                </a:lnTo>
                <a:lnTo>
                  <a:pt x="670" y="2"/>
                </a:lnTo>
                <a:lnTo>
                  <a:pt x="681" y="2"/>
                </a:lnTo>
                <a:lnTo>
                  <a:pt x="691" y="0"/>
                </a:lnTo>
                <a:lnTo>
                  <a:pt x="701" y="0"/>
                </a:lnTo>
                <a:lnTo>
                  <a:pt x="710" y="0"/>
                </a:lnTo>
                <a:lnTo>
                  <a:pt x="718" y="0"/>
                </a:lnTo>
                <a:lnTo>
                  <a:pt x="727" y="2"/>
                </a:lnTo>
                <a:lnTo>
                  <a:pt x="735" y="4"/>
                </a:lnTo>
                <a:lnTo>
                  <a:pt x="750" y="8"/>
                </a:lnTo>
                <a:lnTo>
                  <a:pt x="764" y="13"/>
                </a:lnTo>
                <a:lnTo>
                  <a:pt x="779" y="21"/>
                </a:lnTo>
                <a:lnTo>
                  <a:pt x="793" y="31"/>
                </a:lnTo>
                <a:lnTo>
                  <a:pt x="798" y="38"/>
                </a:lnTo>
                <a:lnTo>
                  <a:pt x="804" y="44"/>
                </a:lnTo>
                <a:lnTo>
                  <a:pt x="808" y="52"/>
                </a:lnTo>
                <a:lnTo>
                  <a:pt x="812" y="58"/>
                </a:lnTo>
                <a:lnTo>
                  <a:pt x="816" y="63"/>
                </a:lnTo>
                <a:lnTo>
                  <a:pt x="818" y="69"/>
                </a:lnTo>
                <a:lnTo>
                  <a:pt x="820" y="75"/>
                </a:lnTo>
                <a:lnTo>
                  <a:pt x="821" y="79"/>
                </a:lnTo>
                <a:lnTo>
                  <a:pt x="823" y="83"/>
                </a:lnTo>
                <a:lnTo>
                  <a:pt x="823" y="88"/>
                </a:lnTo>
                <a:lnTo>
                  <a:pt x="823" y="92"/>
                </a:lnTo>
                <a:lnTo>
                  <a:pt x="821" y="96"/>
                </a:lnTo>
                <a:lnTo>
                  <a:pt x="820" y="102"/>
                </a:lnTo>
                <a:lnTo>
                  <a:pt x="816" y="108"/>
                </a:lnTo>
                <a:lnTo>
                  <a:pt x="806" y="113"/>
                </a:lnTo>
                <a:lnTo>
                  <a:pt x="795" y="119"/>
                </a:lnTo>
                <a:lnTo>
                  <a:pt x="783" y="127"/>
                </a:lnTo>
                <a:lnTo>
                  <a:pt x="772" y="132"/>
                </a:lnTo>
                <a:lnTo>
                  <a:pt x="756" y="140"/>
                </a:lnTo>
                <a:lnTo>
                  <a:pt x="741" y="148"/>
                </a:lnTo>
                <a:lnTo>
                  <a:pt x="726" y="154"/>
                </a:lnTo>
                <a:lnTo>
                  <a:pt x="708" y="1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204"/>
          <p:cNvSpPr/>
          <p:nvPr/>
        </p:nvSpPr>
        <p:spPr>
          <a:xfrm>
            <a:off x="6581880" y="3522600"/>
            <a:ext cx="696960" cy="212760"/>
          </a:xfrm>
          <a:custGeom>
            <a:avLst/>
            <a:gdLst/>
            <a:ahLst/>
            <a:rect l="l" t="t" r="r" b="b"/>
            <a:pathLst>
              <a:path w="878" h="268">
                <a:moveTo>
                  <a:pt x="492" y="205"/>
                </a:moveTo>
                <a:lnTo>
                  <a:pt x="453" y="211"/>
                </a:lnTo>
                <a:lnTo>
                  <a:pt x="417" y="218"/>
                </a:lnTo>
                <a:lnTo>
                  <a:pt x="382" y="224"/>
                </a:lnTo>
                <a:lnTo>
                  <a:pt x="348" y="230"/>
                </a:lnTo>
                <a:lnTo>
                  <a:pt x="313" y="236"/>
                </a:lnTo>
                <a:lnTo>
                  <a:pt x="281" y="241"/>
                </a:lnTo>
                <a:lnTo>
                  <a:pt x="250" y="247"/>
                </a:lnTo>
                <a:lnTo>
                  <a:pt x="219" y="251"/>
                </a:lnTo>
                <a:lnTo>
                  <a:pt x="189" y="255"/>
                </a:lnTo>
                <a:lnTo>
                  <a:pt x="160" y="259"/>
                </a:lnTo>
                <a:lnTo>
                  <a:pt x="131" y="261"/>
                </a:lnTo>
                <a:lnTo>
                  <a:pt x="104" y="265"/>
                </a:lnTo>
                <a:lnTo>
                  <a:pt x="77" y="266"/>
                </a:lnTo>
                <a:lnTo>
                  <a:pt x="50" y="266"/>
                </a:lnTo>
                <a:lnTo>
                  <a:pt x="25" y="268"/>
                </a:lnTo>
                <a:lnTo>
                  <a:pt x="0" y="268"/>
                </a:lnTo>
                <a:lnTo>
                  <a:pt x="0" y="263"/>
                </a:lnTo>
                <a:lnTo>
                  <a:pt x="2" y="257"/>
                </a:lnTo>
                <a:lnTo>
                  <a:pt x="4" y="249"/>
                </a:lnTo>
                <a:lnTo>
                  <a:pt x="8" y="241"/>
                </a:lnTo>
                <a:lnTo>
                  <a:pt x="14" y="232"/>
                </a:lnTo>
                <a:lnTo>
                  <a:pt x="20" y="224"/>
                </a:lnTo>
                <a:lnTo>
                  <a:pt x="27" y="215"/>
                </a:lnTo>
                <a:lnTo>
                  <a:pt x="35" y="205"/>
                </a:lnTo>
                <a:lnTo>
                  <a:pt x="41" y="195"/>
                </a:lnTo>
                <a:lnTo>
                  <a:pt x="46" y="188"/>
                </a:lnTo>
                <a:lnTo>
                  <a:pt x="54" y="180"/>
                </a:lnTo>
                <a:lnTo>
                  <a:pt x="62" y="174"/>
                </a:lnTo>
                <a:lnTo>
                  <a:pt x="71" y="170"/>
                </a:lnTo>
                <a:lnTo>
                  <a:pt x="83" y="169"/>
                </a:lnTo>
                <a:lnTo>
                  <a:pt x="94" y="167"/>
                </a:lnTo>
                <a:lnTo>
                  <a:pt x="108" y="167"/>
                </a:lnTo>
                <a:lnTo>
                  <a:pt x="116" y="165"/>
                </a:lnTo>
                <a:lnTo>
                  <a:pt x="123" y="165"/>
                </a:lnTo>
                <a:lnTo>
                  <a:pt x="135" y="163"/>
                </a:lnTo>
                <a:lnTo>
                  <a:pt x="146" y="161"/>
                </a:lnTo>
                <a:lnTo>
                  <a:pt x="160" y="157"/>
                </a:lnTo>
                <a:lnTo>
                  <a:pt x="175" y="155"/>
                </a:lnTo>
                <a:lnTo>
                  <a:pt x="190" y="149"/>
                </a:lnTo>
                <a:lnTo>
                  <a:pt x="210" y="146"/>
                </a:lnTo>
                <a:lnTo>
                  <a:pt x="229" y="140"/>
                </a:lnTo>
                <a:lnTo>
                  <a:pt x="252" y="132"/>
                </a:lnTo>
                <a:lnTo>
                  <a:pt x="275" y="124"/>
                </a:lnTo>
                <a:lnTo>
                  <a:pt x="300" y="117"/>
                </a:lnTo>
                <a:lnTo>
                  <a:pt x="327" y="107"/>
                </a:lnTo>
                <a:lnTo>
                  <a:pt x="355" y="98"/>
                </a:lnTo>
                <a:lnTo>
                  <a:pt x="386" y="88"/>
                </a:lnTo>
                <a:lnTo>
                  <a:pt x="403" y="82"/>
                </a:lnTo>
                <a:lnTo>
                  <a:pt x="419" y="76"/>
                </a:lnTo>
                <a:lnTo>
                  <a:pt x="450" y="67"/>
                </a:lnTo>
                <a:lnTo>
                  <a:pt x="480" y="57"/>
                </a:lnTo>
                <a:lnTo>
                  <a:pt x="507" y="50"/>
                </a:lnTo>
                <a:lnTo>
                  <a:pt x="534" y="42"/>
                </a:lnTo>
                <a:lnTo>
                  <a:pt x="559" y="34"/>
                </a:lnTo>
                <a:lnTo>
                  <a:pt x="582" y="28"/>
                </a:lnTo>
                <a:lnTo>
                  <a:pt x="605" y="23"/>
                </a:lnTo>
                <a:lnTo>
                  <a:pt x="626" y="17"/>
                </a:lnTo>
                <a:lnTo>
                  <a:pt x="645" y="13"/>
                </a:lnTo>
                <a:lnTo>
                  <a:pt x="663" y="9"/>
                </a:lnTo>
                <a:lnTo>
                  <a:pt x="680" y="5"/>
                </a:lnTo>
                <a:lnTo>
                  <a:pt x="695" y="3"/>
                </a:lnTo>
                <a:lnTo>
                  <a:pt x="709" y="2"/>
                </a:lnTo>
                <a:lnTo>
                  <a:pt x="722" y="0"/>
                </a:lnTo>
                <a:lnTo>
                  <a:pt x="734" y="0"/>
                </a:lnTo>
                <a:lnTo>
                  <a:pt x="743" y="0"/>
                </a:lnTo>
                <a:lnTo>
                  <a:pt x="797" y="19"/>
                </a:lnTo>
                <a:lnTo>
                  <a:pt x="851" y="38"/>
                </a:lnTo>
                <a:lnTo>
                  <a:pt x="856" y="42"/>
                </a:lnTo>
                <a:lnTo>
                  <a:pt x="862" y="48"/>
                </a:lnTo>
                <a:lnTo>
                  <a:pt x="868" y="51"/>
                </a:lnTo>
                <a:lnTo>
                  <a:pt x="872" y="55"/>
                </a:lnTo>
                <a:lnTo>
                  <a:pt x="874" y="61"/>
                </a:lnTo>
                <a:lnTo>
                  <a:pt x="876" y="65"/>
                </a:lnTo>
                <a:lnTo>
                  <a:pt x="878" y="69"/>
                </a:lnTo>
                <a:lnTo>
                  <a:pt x="878" y="75"/>
                </a:lnTo>
                <a:lnTo>
                  <a:pt x="878" y="78"/>
                </a:lnTo>
                <a:lnTo>
                  <a:pt x="876" y="82"/>
                </a:lnTo>
                <a:lnTo>
                  <a:pt x="874" y="86"/>
                </a:lnTo>
                <a:lnTo>
                  <a:pt x="872" y="90"/>
                </a:lnTo>
                <a:lnTo>
                  <a:pt x="868" y="92"/>
                </a:lnTo>
                <a:lnTo>
                  <a:pt x="862" y="96"/>
                </a:lnTo>
                <a:lnTo>
                  <a:pt x="856" y="99"/>
                </a:lnTo>
                <a:lnTo>
                  <a:pt x="851" y="101"/>
                </a:lnTo>
                <a:lnTo>
                  <a:pt x="847" y="103"/>
                </a:lnTo>
                <a:lnTo>
                  <a:pt x="843" y="103"/>
                </a:lnTo>
                <a:lnTo>
                  <a:pt x="839" y="105"/>
                </a:lnTo>
                <a:lnTo>
                  <a:pt x="833" y="107"/>
                </a:lnTo>
                <a:lnTo>
                  <a:pt x="828" y="109"/>
                </a:lnTo>
                <a:lnTo>
                  <a:pt x="822" y="111"/>
                </a:lnTo>
                <a:lnTo>
                  <a:pt x="814" y="113"/>
                </a:lnTo>
                <a:lnTo>
                  <a:pt x="808" y="115"/>
                </a:lnTo>
                <a:lnTo>
                  <a:pt x="801" y="119"/>
                </a:lnTo>
                <a:lnTo>
                  <a:pt x="793" y="121"/>
                </a:lnTo>
                <a:lnTo>
                  <a:pt x="784" y="122"/>
                </a:lnTo>
                <a:lnTo>
                  <a:pt x="774" y="126"/>
                </a:lnTo>
                <a:lnTo>
                  <a:pt x="766" y="128"/>
                </a:lnTo>
                <a:lnTo>
                  <a:pt x="755" y="132"/>
                </a:lnTo>
                <a:lnTo>
                  <a:pt x="745" y="134"/>
                </a:lnTo>
                <a:lnTo>
                  <a:pt x="734" y="138"/>
                </a:lnTo>
                <a:lnTo>
                  <a:pt x="722" y="142"/>
                </a:lnTo>
                <a:lnTo>
                  <a:pt x="711" y="146"/>
                </a:lnTo>
                <a:lnTo>
                  <a:pt x="697" y="147"/>
                </a:lnTo>
                <a:lnTo>
                  <a:pt x="686" y="151"/>
                </a:lnTo>
                <a:lnTo>
                  <a:pt x="672" y="155"/>
                </a:lnTo>
                <a:lnTo>
                  <a:pt x="657" y="159"/>
                </a:lnTo>
                <a:lnTo>
                  <a:pt x="643" y="163"/>
                </a:lnTo>
                <a:lnTo>
                  <a:pt x="628" y="169"/>
                </a:lnTo>
                <a:lnTo>
                  <a:pt x="613" y="172"/>
                </a:lnTo>
                <a:lnTo>
                  <a:pt x="597" y="176"/>
                </a:lnTo>
                <a:lnTo>
                  <a:pt x="580" y="180"/>
                </a:lnTo>
                <a:lnTo>
                  <a:pt x="563" y="186"/>
                </a:lnTo>
                <a:lnTo>
                  <a:pt x="546" y="190"/>
                </a:lnTo>
                <a:lnTo>
                  <a:pt x="528" y="195"/>
                </a:lnTo>
                <a:lnTo>
                  <a:pt x="511" y="199"/>
                </a:lnTo>
                <a:lnTo>
                  <a:pt x="492" y="2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205"/>
          <p:cNvSpPr/>
          <p:nvPr/>
        </p:nvSpPr>
        <p:spPr>
          <a:xfrm>
            <a:off x="6458040" y="3405240"/>
            <a:ext cx="325440" cy="473040"/>
          </a:xfrm>
          <a:custGeom>
            <a:avLst/>
            <a:gdLst/>
            <a:ahLst/>
            <a:rect l="l" t="t" r="r" b="b"/>
            <a:pathLst>
              <a:path w="409" h="597">
                <a:moveTo>
                  <a:pt x="238" y="6"/>
                </a:moveTo>
                <a:lnTo>
                  <a:pt x="246" y="4"/>
                </a:lnTo>
                <a:lnTo>
                  <a:pt x="251" y="2"/>
                </a:lnTo>
                <a:lnTo>
                  <a:pt x="259" y="0"/>
                </a:lnTo>
                <a:lnTo>
                  <a:pt x="265" y="0"/>
                </a:lnTo>
                <a:lnTo>
                  <a:pt x="272" y="0"/>
                </a:lnTo>
                <a:lnTo>
                  <a:pt x="280" y="2"/>
                </a:lnTo>
                <a:lnTo>
                  <a:pt x="286" y="4"/>
                </a:lnTo>
                <a:lnTo>
                  <a:pt x="294" y="6"/>
                </a:lnTo>
                <a:lnTo>
                  <a:pt x="301" y="8"/>
                </a:lnTo>
                <a:lnTo>
                  <a:pt x="309" y="11"/>
                </a:lnTo>
                <a:lnTo>
                  <a:pt x="317" y="15"/>
                </a:lnTo>
                <a:lnTo>
                  <a:pt x="324" y="19"/>
                </a:lnTo>
                <a:lnTo>
                  <a:pt x="332" y="25"/>
                </a:lnTo>
                <a:lnTo>
                  <a:pt x="342" y="31"/>
                </a:lnTo>
                <a:lnTo>
                  <a:pt x="349" y="36"/>
                </a:lnTo>
                <a:lnTo>
                  <a:pt x="359" y="44"/>
                </a:lnTo>
                <a:lnTo>
                  <a:pt x="370" y="59"/>
                </a:lnTo>
                <a:lnTo>
                  <a:pt x="382" y="73"/>
                </a:lnTo>
                <a:lnTo>
                  <a:pt x="388" y="80"/>
                </a:lnTo>
                <a:lnTo>
                  <a:pt x="391" y="88"/>
                </a:lnTo>
                <a:lnTo>
                  <a:pt x="397" y="94"/>
                </a:lnTo>
                <a:lnTo>
                  <a:pt x="399" y="102"/>
                </a:lnTo>
                <a:lnTo>
                  <a:pt x="403" y="109"/>
                </a:lnTo>
                <a:lnTo>
                  <a:pt x="405" y="117"/>
                </a:lnTo>
                <a:lnTo>
                  <a:pt x="407" y="123"/>
                </a:lnTo>
                <a:lnTo>
                  <a:pt x="409" y="130"/>
                </a:lnTo>
                <a:lnTo>
                  <a:pt x="409" y="138"/>
                </a:lnTo>
                <a:lnTo>
                  <a:pt x="409" y="146"/>
                </a:lnTo>
                <a:lnTo>
                  <a:pt x="409" y="151"/>
                </a:lnTo>
                <a:lnTo>
                  <a:pt x="407" y="159"/>
                </a:lnTo>
                <a:lnTo>
                  <a:pt x="403" y="167"/>
                </a:lnTo>
                <a:lnTo>
                  <a:pt x="399" y="176"/>
                </a:lnTo>
                <a:lnTo>
                  <a:pt x="393" y="186"/>
                </a:lnTo>
                <a:lnTo>
                  <a:pt x="386" y="198"/>
                </a:lnTo>
                <a:lnTo>
                  <a:pt x="378" y="209"/>
                </a:lnTo>
                <a:lnTo>
                  <a:pt x="368" y="224"/>
                </a:lnTo>
                <a:lnTo>
                  <a:pt x="357" y="238"/>
                </a:lnTo>
                <a:lnTo>
                  <a:pt x="345" y="253"/>
                </a:lnTo>
                <a:lnTo>
                  <a:pt x="332" y="270"/>
                </a:lnTo>
                <a:lnTo>
                  <a:pt x="319" y="288"/>
                </a:lnTo>
                <a:lnTo>
                  <a:pt x="303" y="307"/>
                </a:lnTo>
                <a:lnTo>
                  <a:pt x="288" y="326"/>
                </a:lnTo>
                <a:lnTo>
                  <a:pt x="271" y="347"/>
                </a:lnTo>
                <a:lnTo>
                  <a:pt x="253" y="370"/>
                </a:lnTo>
                <a:lnTo>
                  <a:pt x="234" y="393"/>
                </a:lnTo>
                <a:lnTo>
                  <a:pt x="215" y="416"/>
                </a:lnTo>
                <a:lnTo>
                  <a:pt x="203" y="430"/>
                </a:lnTo>
                <a:lnTo>
                  <a:pt x="192" y="441"/>
                </a:lnTo>
                <a:lnTo>
                  <a:pt x="182" y="455"/>
                </a:lnTo>
                <a:lnTo>
                  <a:pt x="173" y="466"/>
                </a:lnTo>
                <a:lnTo>
                  <a:pt x="163" y="476"/>
                </a:lnTo>
                <a:lnTo>
                  <a:pt x="153" y="487"/>
                </a:lnTo>
                <a:lnTo>
                  <a:pt x="144" y="497"/>
                </a:lnTo>
                <a:lnTo>
                  <a:pt x="134" y="507"/>
                </a:lnTo>
                <a:lnTo>
                  <a:pt x="125" y="514"/>
                </a:lnTo>
                <a:lnTo>
                  <a:pt x="117" y="524"/>
                </a:lnTo>
                <a:lnTo>
                  <a:pt x="109" y="532"/>
                </a:lnTo>
                <a:lnTo>
                  <a:pt x="102" y="539"/>
                </a:lnTo>
                <a:lnTo>
                  <a:pt x="86" y="553"/>
                </a:lnTo>
                <a:lnTo>
                  <a:pt x="73" y="564"/>
                </a:lnTo>
                <a:lnTo>
                  <a:pt x="59" y="574"/>
                </a:lnTo>
                <a:lnTo>
                  <a:pt x="50" y="581"/>
                </a:lnTo>
                <a:lnTo>
                  <a:pt x="40" y="589"/>
                </a:lnTo>
                <a:lnTo>
                  <a:pt x="31" y="593"/>
                </a:lnTo>
                <a:lnTo>
                  <a:pt x="23" y="597"/>
                </a:lnTo>
                <a:lnTo>
                  <a:pt x="19" y="597"/>
                </a:lnTo>
                <a:lnTo>
                  <a:pt x="13" y="597"/>
                </a:lnTo>
                <a:lnTo>
                  <a:pt x="11" y="597"/>
                </a:lnTo>
                <a:lnTo>
                  <a:pt x="8" y="593"/>
                </a:lnTo>
                <a:lnTo>
                  <a:pt x="4" y="589"/>
                </a:lnTo>
                <a:lnTo>
                  <a:pt x="2" y="585"/>
                </a:lnTo>
                <a:lnTo>
                  <a:pt x="0" y="581"/>
                </a:lnTo>
                <a:lnTo>
                  <a:pt x="0" y="576"/>
                </a:lnTo>
                <a:lnTo>
                  <a:pt x="0" y="570"/>
                </a:lnTo>
                <a:lnTo>
                  <a:pt x="2" y="562"/>
                </a:lnTo>
                <a:lnTo>
                  <a:pt x="4" y="555"/>
                </a:lnTo>
                <a:lnTo>
                  <a:pt x="8" y="545"/>
                </a:lnTo>
                <a:lnTo>
                  <a:pt x="11" y="535"/>
                </a:lnTo>
                <a:lnTo>
                  <a:pt x="17" y="526"/>
                </a:lnTo>
                <a:lnTo>
                  <a:pt x="23" y="512"/>
                </a:lnTo>
                <a:lnTo>
                  <a:pt x="31" y="501"/>
                </a:lnTo>
                <a:lnTo>
                  <a:pt x="38" y="485"/>
                </a:lnTo>
                <a:lnTo>
                  <a:pt x="48" y="472"/>
                </a:lnTo>
                <a:lnTo>
                  <a:pt x="59" y="455"/>
                </a:lnTo>
                <a:lnTo>
                  <a:pt x="69" y="441"/>
                </a:lnTo>
                <a:lnTo>
                  <a:pt x="81" y="426"/>
                </a:lnTo>
                <a:lnTo>
                  <a:pt x="100" y="399"/>
                </a:lnTo>
                <a:lnTo>
                  <a:pt x="117" y="372"/>
                </a:lnTo>
                <a:lnTo>
                  <a:pt x="134" y="347"/>
                </a:lnTo>
                <a:lnTo>
                  <a:pt x="150" y="322"/>
                </a:lnTo>
                <a:lnTo>
                  <a:pt x="163" y="297"/>
                </a:lnTo>
                <a:lnTo>
                  <a:pt x="177" y="274"/>
                </a:lnTo>
                <a:lnTo>
                  <a:pt x="190" y="249"/>
                </a:lnTo>
                <a:lnTo>
                  <a:pt x="200" y="230"/>
                </a:lnTo>
                <a:lnTo>
                  <a:pt x="207" y="213"/>
                </a:lnTo>
                <a:lnTo>
                  <a:pt x="213" y="196"/>
                </a:lnTo>
                <a:lnTo>
                  <a:pt x="219" y="180"/>
                </a:lnTo>
                <a:lnTo>
                  <a:pt x="224" y="165"/>
                </a:lnTo>
                <a:lnTo>
                  <a:pt x="230" y="150"/>
                </a:lnTo>
                <a:lnTo>
                  <a:pt x="238" y="121"/>
                </a:lnTo>
                <a:lnTo>
                  <a:pt x="238" y="111"/>
                </a:lnTo>
                <a:lnTo>
                  <a:pt x="236" y="102"/>
                </a:lnTo>
                <a:lnTo>
                  <a:pt x="234" y="92"/>
                </a:lnTo>
                <a:lnTo>
                  <a:pt x="230" y="82"/>
                </a:lnTo>
                <a:lnTo>
                  <a:pt x="226" y="73"/>
                </a:lnTo>
                <a:lnTo>
                  <a:pt x="223" y="63"/>
                </a:lnTo>
                <a:lnTo>
                  <a:pt x="215" y="44"/>
                </a:lnTo>
                <a:lnTo>
                  <a:pt x="211" y="38"/>
                </a:lnTo>
                <a:lnTo>
                  <a:pt x="209" y="34"/>
                </a:lnTo>
                <a:lnTo>
                  <a:pt x="207" y="32"/>
                </a:lnTo>
                <a:lnTo>
                  <a:pt x="207" y="29"/>
                </a:lnTo>
                <a:lnTo>
                  <a:pt x="207" y="27"/>
                </a:lnTo>
                <a:lnTo>
                  <a:pt x="209" y="25"/>
                </a:lnTo>
                <a:lnTo>
                  <a:pt x="209" y="23"/>
                </a:lnTo>
                <a:lnTo>
                  <a:pt x="211" y="19"/>
                </a:lnTo>
                <a:lnTo>
                  <a:pt x="215" y="17"/>
                </a:lnTo>
                <a:lnTo>
                  <a:pt x="219" y="15"/>
                </a:lnTo>
                <a:lnTo>
                  <a:pt x="223" y="13"/>
                </a:lnTo>
                <a:lnTo>
                  <a:pt x="226" y="9"/>
                </a:lnTo>
                <a:lnTo>
                  <a:pt x="232" y="8"/>
                </a:lnTo>
                <a:lnTo>
                  <a:pt x="238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06"/>
          <p:cNvSpPr/>
          <p:nvPr/>
        </p:nvSpPr>
        <p:spPr>
          <a:xfrm>
            <a:off x="5892840" y="4143240"/>
            <a:ext cx="498600" cy="866880"/>
          </a:xfrm>
          <a:custGeom>
            <a:avLst/>
            <a:gdLst/>
            <a:ahLst/>
            <a:rect l="l" t="t" r="r" b="b"/>
            <a:pathLst>
              <a:path w="627" h="1090">
                <a:moveTo>
                  <a:pt x="232" y="63"/>
                </a:moveTo>
                <a:lnTo>
                  <a:pt x="244" y="30"/>
                </a:lnTo>
                <a:lnTo>
                  <a:pt x="255" y="0"/>
                </a:lnTo>
                <a:lnTo>
                  <a:pt x="278" y="9"/>
                </a:lnTo>
                <a:lnTo>
                  <a:pt x="299" y="21"/>
                </a:lnTo>
                <a:lnTo>
                  <a:pt x="318" y="30"/>
                </a:lnTo>
                <a:lnTo>
                  <a:pt x="340" y="40"/>
                </a:lnTo>
                <a:lnTo>
                  <a:pt x="359" y="50"/>
                </a:lnTo>
                <a:lnTo>
                  <a:pt x="378" y="59"/>
                </a:lnTo>
                <a:lnTo>
                  <a:pt x="395" y="69"/>
                </a:lnTo>
                <a:lnTo>
                  <a:pt x="412" y="77"/>
                </a:lnTo>
                <a:lnTo>
                  <a:pt x="430" y="86"/>
                </a:lnTo>
                <a:lnTo>
                  <a:pt x="445" y="94"/>
                </a:lnTo>
                <a:lnTo>
                  <a:pt x="460" y="102"/>
                </a:lnTo>
                <a:lnTo>
                  <a:pt x="474" y="109"/>
                </a:lnTo>
                <a:lnTo>
                  <a:pt x="489" y="117"/>
                </a:lnTo>
                <a:lnTo>
                  <a:pt x="503" y="125"/>
                </a:lnTo>
                <a:lnTo>
                  <a:pt x="514" y="130"/>
                </a:lnTo>
                <a:lnTo>
                  <a:pt x="526" y="138"/>
                </a:lnTo>
                <a:lnTo>
                  <a:pt x="537" y="144"/>
                </a:lnTo>
                <a:lnTo>
                  <a:pt x="549" y="150"/>
                </a:lnTo>
                <a:lnTo>
                  <a:pt x="558" y="157"/>
                </a:lnTo>
                <a:lnTo>
                  <a:pt x="568" y="163"/>
                </a:lnTo>
                <a:lnTo>
                  <a:pt x="576" y="167"/>
                </a:lnTo>
                <a:lnTo>
                  <a:pt x="583" y="173"/>
                </a:lnTo>
                <a:lnTo>
                  <a:pt x="591" y="178"/>
                </a:lnTo>
                <a:lnTo>
                  <a:pt x="597" y="184"/>
                </a:lnTo>
                <a:lnTo>
                  <a:pt x="603" y="188"/>
                </a:lnTo>
                <a:lnTo>
                  <a:pt x="608" y="194"/>
                </a:lnTo>
                <a:lnTo>
                  <a:pt x="614" y="197"/>
                </a:lnTo>
                <a:lnTo>
                  <a:pt x="618" y="201"/>
                </a:lnTo>
                <a:lnTo>
                  <a:pt x="622" y="205"/>
                </a:lnTo>
                <a:lnTo>
                  <a:pt x="624" y="209"/>
                </a:lnTo>
                <a:lnTo>
                  <a:pt x="626" y="213"/>
                </a:lnTo>
                <a:lnTo>
                  <a:pt x="627" y="217"/>
                </a:lnTo>
                <a:lnTo>
                  <a:pt x="627" y="224"/>
                </a:lnTo>
                <a:lnTo>
                  <a:pt x="626" y="234"/>
                </a:lnTo>
                <a:lnTo>
                  <a:pt x="624" y="245"/>
                </a:lnTo>
                <a:lnTo>
                  <a:pt x="620" y="259"/>
                </a:lnTo>
                <a:lnTo>
                  <a:pt x="616" y="272"/>
                </a:lnTo>
                <a:lnTo>
                  <a:pt x="612" y="288"/>
                </a:lnTo>
                <a:lnTo>
                  <a:pt x="606" y="305"/>
                </a:lnTo>
                <a:lnTo>
                  <a:pt x="601" y="324"/>
                </a:lnTo>
                <a:lnTo>
                  <a:pt x="595" y="345"/>
                </a:lnTo>
                <a:lnTo>
                  <a:pt x="587" y="368"/>
                </a:lnTo>
                <a:lnTo>
                  <a:pt x="579" y="391"/>
                </a:lnTo>
                <a:lnTo>
                  <a:pt x="570" y="418"/>
                </a:lnTo>
                <a:lnTo>
                  <a:pt x="562" y="445"/>
                </a:lnTo>
                <a:lnTo>
                  <a:pt x="553" y="474"/>
                </a:lnTo>
                <a:lnTo>
                  <a:pt x="541" y="505"/>
                </a:lnTo>
                <a:lnTo>
                  <a:pt x="531" y="539"/>
                </a:lnTo>
                <a:lnTo>
                  <a:pt x="518" y="574"/>
                </a:lnTo>
                <a:lnTo>
                  <a:pt x="505" y="608"/>
                </a:lnTo>
                <a:lnTo>
                  <a:pt x="491" y="641"/>
                </a:lnTo>
                <a:lnTo>
                  <a:pt x="478" y="672"/>
                </a:lnTo>
                <a:lnTo>
                  <a:pt x="464" y="700"/>
                </a:lnTo>
                <a:lnTo>
                  <a:pt x="449" y="729"/>
                </a:lnTo>
                <a:lnTo>
                  <a:pt x="436" y="758"/>
                </a:lnTo>
                <a:lnTo>
                  <a:pt x="422" y="783"/>
                </a:lnTo>
                <a:lnTo>
                  <a:pt x="407" y="810"/>
                </a:lnTo>
                <a:lnTo>
                  <a:pt x="393" y="833"/>
                </a:lnTo>
                <a:lnTo>
                  <a:pt x="378" y="856"/>
                </a:lnTo>
                <a:lnTo>
                  <a:pt x="364" y="879"/>
                </a:lnTo>
                <a:lnTo>
                  <a:pt x="349" y="900"/>
                </a:lnTo>
                <a:lnTo>
                  <a:pt x="334" y="921"/>
                </a:lnTo>
                <a:lnTo>
                  <a:pt x="318" y="942"/>
                </a:lnTo>
                <a:lnTo>
                  <a:pt x="303" y="961"/>
                </a:lnTo>
                <a:lnTo>
                  <a:pt x="288" y="979"/>
                </a:lnTo>
                <a:lnTo>
                  <a:pt x="274" y="994"/>
                </a:lnTo>
                <a:lnTo>
                  <a:pt x="261" y="1008"/>
                </a:lnTo>
                <a:lnTo>
                  <a:pt x="247" y="1021"/>
                </a:lnTo>
                <a:lnTo>
                  <a:pt x="236" y="1032"/>
                </a:lnTo>
                <a:lnTo>
                  <a:pt x="224" y="1042"/>
                </a:lnTo>
                <a:lnTo>
                  <a:pt x="213" y="1052"/>
                </a:lnTo>
                <a:lnTo>
                  <a:pt x="203" y="1059"/>
                </a:lnTo>
                <a:lnTo>
                  <a:pt x="194" y="1067"/>
                </a:lnTo>
                <a:lnTo>
                  <a:pt x="186" y="1073"/>
                </a:lnTo>
                <a:lnTo>
                  <a:pt x="176" y="1079"/>
                </a:lnTo>
                <a:lnTo>
                  <a:pt x="171" y="1082"/>
                </a:lnTo>
                <a:lnTo>
                  <a:pt x="163" y="1086"/>
                </a:lnTo>
                <a:lnTo>
                  <a:pt x="157" y="1088"/>
                </a:lnTo>
                <a:lnTo>
                  <a:pt x="151" y="1090"/>
                </a:lnTo>
                <a:lnTo>
                  <a:pt x="148" y="1090"/>
                </a:lnTo>
                <a:lnTo>
                  <a:pt x="138" y="1084"/>
                </a:lnTo>
                <a:lnTo>
                  <a:pt x="132" y="1079"/>
                </a:lnTo>
                <a:lnTo>
                  <a:pt x="126" y="1069"/>
                </a:lnTo>
                <a:lnTo>
                  <a:pt x="123" y="1059"/>
                </a:lnTo>
                <a:lnTo>
                  <a:pt x="121" y="1054"/>
                </a:lnTo>
                <a:lnTo>
                  <a:pt x="119" y="1048"/>
                </a:lnTo>
                <a:lnTo>
                  <a:pt x="119" y="1042"/>
                </a:lnTo>
                <a:lnTo>
                  <a:pt x="119" y="1034"/>
                </a:lnTo>
                <a:lnTo>
                  <a:pt x="119" y="1027"/>
                </a:lnTo>
                <a:lnTo>
                  <a:pt x="121" y="1019"/>
                </a:lnTo>
                <a:lnTo>
                  <a:pt x="121" y="1009"/>
                </a:lnTo>
                <a:lnTo>
                  <a:pt x="123" y="1000"/>
                </a:lnTo>
                <a:lnTo>
                  <a:pt x="125" y="988"/>
                </a:lnTo>
                <a:lnTo>
                  <a:pt x="126" y="977"/>
                </a:lnTo>
                <a:lnTo>
                  <a:pt x="126" y="963"/>
                </a:lnTo>
                <a:lnTo>
                  <a:pt x="126" y="952"/>
                </a:lnTo>
                <a:lnTo>
                  <a:pt x="125" y="940"/>
                </a:lnTo>
                <a:lnTo>
                  <a:pt x="123" y="929"/>
                </a:lnTo>
                <a:lnTo>
                  <a:pt x="119" y="915"/>
                </a:lnTo>
                <a:lnTo>
                  <a:pt x="115" y="904"/>
                </a:lnTo>
                <a:lnTo>
                  <a:pt x="111" y="892"/>
                </a:lnTo>
                <a:lnTo>
                  <a:pt x="105" y="881"/>
                </a:lnTo>
                <a:lnTo>
                  <a:pt x="100" y="867"/>
                </a:lnTo>
                <a:lnTo>
                  <a:pt x="94" y="856"/>
                </a:lnTo>
                <a:lnTo>
                  <a:pt x="88" y="844"/>
                </a:lnTo>
                <a:lnTo>
                  <a:pt x="80" y="833"/>
                </a:lnTo>
                <a:lnTo>
                  <a:pt x="73" y="819"/>
                </a:lnTo>
                <a:lnTo>
                  <a:pt x="63" y="808"/>
                </a:lnTo>
                <a:lnTo>
                  <a:pt x="55" y="796"/>
                </a:lnTo>
                <a:lnTo>
                  <a:pt x="46" y="785"/>
                </a:lnTo>
                <a:lnTo>
                  <a:pt x="40" y="775"/>
                </a:lnTo>
                <a:lnTo>
                  <a:pt x="32" y="764"/>
                </a:lnTo>
                <a:lnTo>
                  <a:pt x="27" y="754"/>
                </a:lnTo>
                <a:lnTo>
                  <a:pt x="21" y="746"/>
                </a:lnTo>
                <a:lnTo>
                  <a:pt x="15" y="739"/>
                </a:lnTo>
                <a:lnTo>
                  <a:pt x="11" y="731"/>
                </a:lnTo>
                <a:lnTo>
                  <a:pt x="7" y="723"/>
                </a:lnTo>
                <a:lnTo>
                  <a:pt x="6" y="718"/>
                </a:lnTo>
                <a:lnTo>
                  <a:pt x="4" y="712"/>
                </a:lnTo>
                <a:lnTo>
                  <a:pt x="2" y="706"/>
                </a:lnTo>
                <a:lnTo>
                  <a:pt x="0" y="702"/>
                </a:lnTo>
                <a:lnTo>
                  <a:pt x="2" y="698"/>
                </a:lnTo>
                <a:lnTo>
                  <a:pt x="2" y="695"/>
                </a:lnTo>
                <a:lnTo>
                  <a:pt x="4" y="693"/>
                </a:lnTo>
                <a:lnTo>
                  <a:pt x="6" y="691"/>
                </a:lnTo>
                <a:lnTo>
                  <a:pt x="9" y="689"/>
                </a:lnTo>
                <a:lnTo>
                  <a:pt x="13" y="687"/>
                </a:lnTo>
                <a:lnTo>
                  <a:pt x="17" y="685"/>
                </a:lnTo>
                <a:lnTo>
                  <a:pt x="21" y="685"/>
                </a:lnTo>
                <a:lnTo>
                  <a:pt x="27" y="685"/>
                </a:lnTo>
                <a:lnTo>
                  <a:pt x="32" y="685"/>
                </a:lnTo>
                <a:lnTo>
                  <a:pt x="40" y="685"/>
                </a:lnTo>
                <a:lnTo>
                  <a:pt x="46" y="687"/>
                </a:lnTo>
                <a:lnTo>
                  <a:pt x="54" y="689"/>
                </a:lnTo>
                <a:lnTo>
                  <a:pt x="63" y="693"/>
                </a:lnTo>
                <a:lnTo>
                  <a:pt x="71" y="695"/>
                </a:lnTo>
                <a:lnTo>
                  <a:pt x="80" y="700"/>
                </a:lnTo>
                <a:lnTo>
                  <a:pt x="90" y="704"/>
                </a:lnTo>
                <a:lnTo>
                  <a:pt x="100" y="710"/>
                </a:lnTo>
                <a:lnTo>
                  <a:pt x="111" y="718"/>
                </a:lnTo>
                <a:lnTo>
                  <a:pt x="123" y="725"/>
                </a:lnTo>
                <a:lnTo>
                  <a:pt x="132" y="731"/>
                </a:lnTo>
                <a:lnTo>
                  <a:pt x="142" y="739"/>
                </a:lnTo>
                <a:lnTo>
                  <a:pt x="151" y="745"/>
                </a:lnTo>
                <a:lnTo>
                  <a:pt x="161" y="750"/>
                </a:lnTo>
                <a:lnTo>
                  <a:pt x="169" y="754"/>
                </a:lnTo>
                <a:lnTo>
                  <a:pt x="176" y="760"/>
                </a:lnTo>
                <a:lnTo>
                  <a:pt x="184" y="764"/>
                </a:lnTo>
                <a:lnTo>
                  <a:pt x="192" y="766"/>
                </a:lnTo>
                <a:lnTo>
                  <a:pt x="199" y="769"/>
                </a:lnTo>
                <a:lnTo>
                  <a:pt x="205" y="771"/>
                </a:lnTo>
                <a:lnTo>
                  <a:pt x="211" y="771"/>
                </a:lnTo>
                <a:lnTo>
                  <a:pt x="217" y="773"/>
                </a:lnTo>
                <a:lnTo>
                  <a:pt x="222" y="771"/>
                </a:lnTo>
                <a:lnTo>
                  <a:pt x="226" y="771"/>
                </a:lnTo>
                <a:lnTo>
                  <a:pt x="232" y="769"/>
                </a:lnTo>
                <a:lnTo>
                  <a:pt x="234" y="766"/>
                </a:lnTo>
                <a:lnTo>
                  <a:pt x="236" y="762"/>
                </a:lnTo>
                <a:lnTo>
                  <a:pt x="240" y="756"/>
                </a:lnTo>
                <a:lnTo>
                  <a:pt x="245" y="750"/>
                </a:lnTo>
                <a:lnTo>
                  <a:pt x="249" y="743"/>
                </a:lnTo>
                <a:lnTo>
                  <a:pt x="255" y="733"/>
                </a:lnTo>
                <a:lnTo>
                  <a:pt x="261" y="722"/>
                </a:lnTo>
                <a:lnTo>
                  <a:pt x="267" y="710"/>
                </a:lnTo>
                <a:lnTo>
                  <a:pt x="274" y="697"/>
                </a:lnTo>
                <a:lnTo>
                  <a:pt x="282" y="681"/>
                </a:lnTo>
                <a:lnTo>
                  <a:pt x="290" y="666"/>
                </a:lnTo>
                <a:lnTo>
                  <a:pt x="299" y="649"/>
                </a:lnTo>
                <a:lnTo>
                  <a:pt x="309" y="629"/>
                </a:lnTo>
                <a:lnTo>
                  <a:pt x="318" y="608"/>
                </a:lnTo>
                <a:lnTo>
                  <a:pt x="328" y="587"/>
                </a:lnTo>
                <a:lnTo>
                  <a:pt x="340" y="564"/>
                </a:lnTo>
                <a:lnTo>
                  <a:pt x="349" y="543"/>
                </a:lnTo>
                <a:lnTo>
                  <a:pt x="359" y="522"/>
                </a:lnTo>
                <a:lnTo>
                  <a:pt x="368" y="501"/>
                </a:lnTo>
                <a:lnTo>
                  <a:pt x="378" y="482"/>
                </a:lnTo>
                <a:lnTo>
                  <a:pt x="386" y="462"/>
                </a:lnTo>
                <a:lnTo>
                  <a:pt x="391" y="445"/>
                </a:lnTo>
                <a:lnTo>
                  <a:pt x="399" y="428"/>
                </a:lnTo>
                <a:lnTo>
                  <a:pt x="405" y="411"/>
                </a:lnTo>
                <a:lnTo>
                  <a:pt x="411" y="395"/>
                </a:lnTo>
                <a:lnTo>
                  <a:pt x="414" y="380"/>
                </a:lnTo>
                <a:lnTo>
                  <a:pt x="420" y="366"/>
                </a:lnTo>
                <a:lnTo>
                  <a:pt x="424" y="353"/>
                </a:lnTo>
                <a:lnTo>
                  <a:pt x="426" y="340"/>
                </a:lnTo>
                <a:lnTo>
                  <a:pt x="430" y="328"/>
                </a:lnTo>
                <a:lnTo>
                  <a:pt x="434" y="316"/>
                </a:lnTo>
                <a:lnTo>
                  <a:pt x="436" y="307"/>
                </a:lnTo>
                <a:lnTo>
                  <a:pt x="436" y="301"/>
                </a:lnTo>
                <a:lnTo>
                  <a:pt x="436" y="297"/>
                </a:lnTo>
                <a:lnTo>
                  <a:pt x="436" y="292"/>
                </a:lnTo>
                <a:lnTo>
                  <a:pt x="436" y="286"/>
                </a:lnTo>
                <a:lnTo>
                  <a:pt x="434" y="282"/>
                </a:lnTo>
                <a:lnTo>
                  <a:pt x="434" y="276"/>
                </a:lnTo>
                <a:lnTo>
                  <a:pt x="428" y="263"/>
                </a:lnTo>
                <a:lnTo>
                  <a:pt x="422" y="251"/>
                </a:lnTo>
                <a:lnTo>
                  <a:pt x="412" y="238"/>
                </a:lnTo>
                <a:lnTo>
                  <a:pt x="403" y="224"/>
                </a:lnTo>
                <a:lnTo>
                  <a:pt x="391" y="209"/>
                </a:lnTo>
                <a:lnTo>
                  <a:pt x="378" y="194"/>
                </a:lnTo>
                <a:lnTo>
                  <a:pt x="361" y="178"/>
                </a:lnTo>
                <a:lnTo>
                  <a:pt x="343" y="161"/>
                </a:lnTo>
                <a:lnTo>
                  <a:pt x="324" y="144"/>
                </a:lnTo>
                <a:lnTo>
                  <a:pt x="305" y="125"/>
                </a:lnTo>
                <a:lnTo>
                  <a:pt x="282" y="105"/>
                </a:lnTo>
                <a:lnTo>
                  <a:pt x="257" y="84"/>
                </a:lnTo>
                <a:lnTo>
                  <a:pt x="232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07"/>
          <p:cNvSpPr/>
          <p:nvPr/>
        </p:nvSpPr>
        <p:spPr>
          <a:xfrm>
            <a:off x="5421240" y="4011480"/>
            <a:ext cx="733320" cy="889200"/>
          </a:xfrm>
          <a:custGeom>
            <a:avLst/>
            <a:gdLst/>
            <a:ahLst/>
            <a:rect l="l" t="t" r="r" b="b"/>
            <a:pathLst>
              <a:path w="923" h="1121">
                <a:moveTo>
                  <a:pt x="0" y="1117"/>
                </a:moveTo>
                <a:lnTo>
                  <a:pt x="0" y="1113"/>
                </a:lnTo>
                <a:lnTo>
                  <a:pt x="0" y="1109"/>
                </a:lnTo>
                <a:lnTo>
                  <a:pt x="2" y="1105"/>
                </a:lnTo>
                <a:lnTo>
                  <a:pt x="4" y="1102"/>
                </a:lnTo>
                <a:lnTo>
                  <a:pt x="6" y="1098"/>
                </a:lnTo>
                <a:lnTo>
                  <a:pt x="9" y="1092"/>
                </a:lnTo>
                <a:lnTo>
                  <a:pt x="13" y="1086"/>
                </a:lnTo>
                <a:lnTo>
                  <a:pt x="19" y="1080"/>
                </a:lnTo>
                <a:lnTo>
                  <a:pt x="25" y="1075"/>
                </a:lnTo>
                <a:lnTo>
                  <a:pt x="30" y="1069"/>
                </a:lnTo>
                <a:lnTo>
                  <a:pt x="36" y="1061"/>
                </a:lnTo>
                <a:lnTo>
                  <a:pt x="44" y="1056"/>
                </a:lnTo>
                <a:lnTo>
                  <a:pt x="54" y="1048"/>
                </a:lnTo>
                <a:lnTo>
                  <a:pt x="61" y="1040"/>
                </a:lnTo>
                <a:lnTo>
                  <a:pt x="73" y="1034"/>
                </a:lnTo>
                <a:lnTo>
                  <a:pt x="82" y="1027"/>
                </a:lnTo>
                <a:lnTo>
                  <a:pt x="94" y="1019"/>
                </a:lnTo>
                <a:lnTo>
                  <a:pt x="105" y="1009"/>
                </a:lnTo>
                <a:lnTo>
                  <a:pt x="119" y="1000"/>
                </a:lnTo>
                <a:lnTo>
                  <a:pt x="130" y="990"/>
                </a:lnTo>
                <a:lnTo>
                  <a:pt x="144" y="979"/>
                </a:lnTo>
                <a:lnTo>
                  <a:pt x="157" y="967"/>
                </a:lnTo>
                <a:lnTo>
                  <a:pt x="171" y="956"/>
                </a:lnTo>
                <a:lnTo>
                  <a:pt x="186" y="942"/>
                </a:lnTo>
                <a:lnTo>
                  <a:pt x="199" y="929"/>
                </a:lnTo>
                <a:lnTo>
                  <a:pt x="215" y="915"/>
                </a:lnTo>
                <a:lnTo>
                  <a:pt x="232" y="900"/>
                </a:lnTo>
                <a:lnTo>
                  <a:pt x="249" y="887"/>
                </a:lnTo>
                <a:lnTo>
                  <a:pt x="267" y="869"/>
                </a:lnTo>
                <a:lnTo>
                  <a:pt x="284" y="854"/>
                </a:lnTo>
                <a:lnTo>
                  <a:pt x="303" y="839"/>
                </a:lnTo>
                <a:lnTo>
                  <a:pt x="322" y="821"/>
                </a:lnTo>
                <a:lnTo>
                  <a:pt x="343" y="804"/>
                </a:lnTo>
                <a:lnTo>
                  <a:pt x="363" y="785"/>
                </a:lnTo>
                <a:lnTo>
                  <a:pt x="382" y="768"/>
                </a:lnTo>
                <a:lnTo>
                  <a:pt x="399" y="748"/>
                </a:lnTo>
                <a:lnTo>
                  <a:pt x="418" y="729"/>
                </a:lnTo>
                <a:lnTo>
                  <a:pt x="435" y="710"/>
                </a:lnTo>
                <a:lnTo>
                  <a:pt x="470" y="668"/>
                </a:lnTo>
                <a:lnTo>
                  <a:pt x="503" y="626"/>
                </a:lnTo>
                <a:lnTo>
                  <a:pt x="535" y="581"/>
                </a:lnTo>
                <a:lnTo>
                  <a:pt x="568" y="535"/>
                </a:lnTo>
                <a:lnTo>
                  <a:pt x="599" y="487"/>
                </a:lnTo>
                <a:lnTo>
                  <a:pt x="612" y="462"/>
                </a:lnTo>
                <a:lnTo>
                  <a:pt x="626" y="437"/>
                </a:lnTo>
                <a:lnTo>
                  <a:pt x="639" y="411"/>
                </a:lnTo>
                <a:lnTo>
                  <a:pt x="652" y="384"/>
                </a:lnTo>
                <a:lnTo>
                  <a:pt x="666" y="355"/>
                </a:lnTo>
                <a:lnTo>
                  <a:pt x="679" y="326"/>
                </a:lnTo>
                <a:lnTo>
                  <a:pt x="693" y="297"/>
                </a:lnTo>
                <a:lnTo>
                  <a:pt x="704" y="267"/>
                </a:lnTo>
                <a:lnTo>
                  <a:pt x="718" y="236"/>
                </a:lnTo>
                <a:lnTo>
                  <a:pt x="731" y="203"/>
                </a:lnTo>
                <a:lnTo>
                  <a:pt x="743" y="171"/>
                </a:lnTo>
                <a:lnTo>
                  <a:pt x="756" y="138"/>
                </a:lnTo>
                <a:lnTo>
                  <a:pt x="768" y="105"/>
                </a:lnTo>
                <a:lnTo>
                  <a:pt x="779" y="71"/>
                </a:lnTo>
                <a:lnTo>
                  <a:pt x="791" y="34"/>
                </a:lnTo>
                <a:lnTo>
                  <a:pt x="802" y="0"/>
                </a:lnTo>
                <a:lnTo>
                  <a:pt x="817" y="15"/>
                </a:lnTo>
                <a:lnTo>
                  <a:pt x="831" y="32"/>
                </a:lnTo>
                <a:lnTo>
                  <a:pt x="844" y="48"/>
                </a:lnTo>
                <a:lnTo>
                  <a:pt x="856" y="61"/>
                </a:lnTo>
                <a:lnTo>
                  <a:pt x="867" y="75"/>
                </a:lnTo>
                <a:lnTo>
                  <a:pt x="877" y="88"/>
                </a:lnTo>
                <a:lnTo>
                  <a:pt x="885" y="100"/>
                </a:lnTo>
                <a:lnTo>
                  <a:pt x="892" y="111"/>
                </a:lnTo>
                <a:lnTo>
                  <a:pt x="900" y="123"/>
                </a:lnTo>
                <a:lnTo>
                  <a:pt x="906" y="130"/>
                </a:lnTo>
                <a:lnTo>
                  <a:pt x="912" y="140"/>
                </a:lnTo>
                <a:lnTo>
                  <a:pt x="915" y="148"/>
                </a:lnTo>
                <a:lnTo>
                  <a:pt x="917" y="153"/>
                </a:lnTo>
                <a:lnTo>
                  <a:pt x="921" y="159"/>
                </a:lnTo>
                <a:lnTo>
                  <a:pt x="921" y="163"/>
                </a:lnTo>
                <a:lnTo>
                  <a:pt x="923" y="167"/>
                </a:lnTo>
                <a:lnTo>
                  <a:pt x="921" y="171"/>
                </a:lnTo>
                <a:lnTo>
                  <a:pt x="919" y="178"/>
                </a:lnTo>
                <a:lnTo>
                  <a:pt x="917" y="188"/>
                </a:lnTo>
                <a:lnTo>
                  <a:pt x="913" y="197"/>
                </a:lnTo>
                <a:lnTo>
                  <a:pt x="908" y="209"/>
                </a:lnTo>
                <a:lnTo>
                  <a:pt x="902" y="222"/>
                </a:lnTo>
                <a:lnTo>
                  <a:pt x="894" y="236"/>
                </a:lnTo>
                <a:lnTo>
                  <a:pt x="887" y="253"/>
                </a:lnTo>
                <a:lnTo>
                  <a:pt x="879" y="270"/>
                </a:lnTo>
                <a:lnTo>
                  <a:pt x="867" y="290"/>
                </a:lnTo>
                <a:lnTo>
                  <a:pt x="858" y="309"/>
                </a:lnTo>
                <a:lnTo>
                  <a:pt x="846" y="332"/>
                </a:lnTo>
                <a:lnTo>
                  <a:pt x="833" y="355"/>
                </a:lnTo>
                <a:lnTo>
                  <a:pt x="819" y="380"/>
                </a:lnTo>
                <a:lnTo>
                  <a:pt x="806" y="407"/>
                </a:lnTo>
                <a:lnTo>
                  <a:pt x="791" y="436"/>
                </a:lnTo>
                <a:lnTo>
                  <a:pt x="775" y="466"/>
                </a:lnTo>
                <a:lnTo>
                  <a:pt x="758" y="497"/>
                </a:lnTo>
                <a:lnTo>
                  <a:pt x="741" y="526"/>
                </a:lnTo>
                <a:lnTo>
                  <a:pt x="723" y="555"/>
                </a:lnTo>
                <a:lnTo>
                  <a:pt x="706" y="581"/>
                </a:lnTo>
                <a:lnTo>
                  <a:pt x="687" y="608"/>
                </a:lnTo>
                <a:lnTo>
                  <a:pt x="668" y="633"/>
                </a:lnTo>
                <a:lnTo>
                  <a:pt x="649" y="658"/>
                </a:lnTo>
                <a:lnTo>
                  <a:pt x="629" y="683"/>
                </a:lnTo>
                <a:lnTo>
                  <a:pt x="610" y="706"/>
                </a:lnTo>
                <a:lnTo>
                  <a:pt x="591" y="729"/>
                </a:lnTo>
                <a:lnTo>
                  <a:pt x="572" y="750"/>
                </a:lnTo>
                <a:lnTo>
                  <a:pt x="551" y="773"/>
                </a:lnTo>
                <a:lnTo>
                  <a:pt x="531" y="793"/>
                </a:lnTo>
                <a:lnTo>
                  <a:pt x="510" y="814"/>
                </a:lnTo>
                <a:lnTo>
                  <a:pt x="491" y="833"/>
                </a:lnTo>
                <a:lnTo>
                  <a:pt x="468" y="852"/>
                </a:lnTo>
                <a:lnTo>
                  <a:pt x="447" y="871"/>
                </a:lnTo>
                <a:lnTo>
                  <a:pt x="424" y="889"/>
                </a:lnTo>
                <a:lnTo>
                  <a:pt x="403" y="906"/>
                </a:lnTo>
                <a:lnTo>
                  <a:pt x="382" y="923"/>
                </a:lnTo>
                <a:lnTo>
                  <a:pt x="361" y="938"/>
                </a:lnTo>
                <a:lnTo>
                  <a:pt x="340" y="954"/>
                </a:lnTo>
                <a:lnTo>
                  <a:pt x="318" y="969"/>
                </a:lnTo>
                <a:lnTo>
                  <a:pt x="297" y="983"/>
                </a:lnTo>
                <a:lnTo>
                  <a:pt x="276" y="996"/>
                </a:lnTo>
                <a:lnTo>
                  <a:pt x="257" y="1009"/>
                </a:lnTo>
                <a:lnTo>
                  <a:pt x="236" y="1021"/>
                </a:lnTo>
                <a:lnTo>
                  <a:pt x="215" y="1032"/>
                </a:lnTo>
                <a:lnTo>
                  <a:pt x="196" y="1044"/>
                </a:lnTo>
                <a:lnTo>
                  <a:pt x="174" y="1056"/>
                </a:lnTo>
                <a:lnTo>
                  <a:pt x="155" y="1065"/>
                </a:lnTo>
                <a:lnTo>
                  <a:pt x="136" y="1075"/>
                </a:lnTo>
                <a:lnTo>
                  <a:pt x="117" y="1082"/>
                </a:lnTo>
                <a:lnTo>
                  <a:pt x="100" y="1090"/>
                </a:lnTo>
                <a:lnTo>
                  <a:pt x="84" y="1096"/>
                </a:lnTo>
                <a:lnTo>
                  <a:pt x="71" y="1102"/>
                </a:lnTo>
                <a:lnTo>
                  <a:pt x="57" y="1107"/>
                </a:lnTo>
                <a:lnTo>
                  <a:pt x="46" y="1111"/>
                </a:lnTo>
                <a:lnTo>
                  <a:pt x="36" y="1115"/>
                </a:lnTo>
                <a:lnTo>
                  <a:pt x="27" y="1117"/>
                </a:lnTo>
                <a:lnTo>
                  <a:pt x="19" y="1119"/>
                </a:lnTo>
                <a:lnTo>
                  <a:pt x="13" y="1121"/>
                </a:lnTo>
                <a:lnTo>
                  <a:pt x="7" y="1121"/>
                </a:lnTo>
                <a:lnTo>
                  <a:pt x="4" y="1121"/>
                </a:lnTo>
                <a:lnTo>
                  <a:pt x="2" y="1119"/>
                </a:lnTo>
                <a:lnTo>
                  <a:pt x="0" y="1119"/>
                </a:lnTo>
                <a:lnTo>
                  <a:pt x="0" y="11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08"/>
          <p:cNvSpPr/>
          <p:nvPr/>
        </p:nvSpPr>
        <p:spPr>
          <a:xfrm>
            <a:off x="5514840" y="3898800"/>
            <a:ext cx="908280" cy="244440"/>
          </a:xfrm>
          <a:custGeom>
            <a:avLst/>
            <a:gdLst/>
            <a:ahLst/>
            <a:rect l="l" t="t" r="r" b="b"/>
            <a:pathLst>
              <a:path w="1144" h="309">
                <a:moveTo>
                  <a:pt x="1140" y="77"/>
                </a:moveTo>
                <a:lnTo>
                  <a:pt x="1142" y="78"/>
                </a:lnTo>
                <a:lnTo>
                  <a:pt x="1142" y="82"/>
                </a:lnTo>
                <a:lnTo>
                  <a:pt x="1144" y="84"/>
                </a:lnTo>
                <a:lnTo>
                  <a:pt x="1144" y="86"/>
                </a:lnTo>
                <a:lnTo>
                  <a:pt x="1144" y="88"/>
                </a:lnTo>
                <a:lnTo>
                  <a:pt x="1142" y="92"/>
                </a:lnTo>
                <a:lnTo>
                  <a:pt x="1140" y="94"/>
                </a:lnTo>
                <a:lnTo>
                  <a:pt x="1138" y="96"/>
                </a:lnTo>
                <a:lnTo>
                  <a:pt x="1136" y="98"/>
                </a:lnTo>
                <a:lnTo>
                  <a:pt x="1132" y="101"/>
                </a:lnTo>
                <a:lnTo>
                  <a:pt x="1130" y="103"/>
                </a:lnTo>
                <a:lnTo>
                  <a:pt x="1125" y="105"/>
                </a:lnTo>
                <a:lnTo>
                  <a:pt x="1121" y="107"/>
                </a:lnTo>
                <a:lnTo>
                  <a:pt x="1115" y="111"/>
                </a:lnTo>
                <a:lnTo>
                  <a:pt x="1109" y="113"/>
                </a:lnTo>
                <a:lnTo>
                  <a:pt x="1103" y="115"/>
                </a:lnTo>
                <a:lnTo>
                  <a:pt x="1100" y="117"/>
                </a:lnTo>
                <a:lnTo>
                  <a:pt x="1096" y="119"/>
                </a:lnTo>
                <a:lnTo>
                  <a:pt x="1090" y="119"/>
                </a:lnTo>
                <a:lnTo>
                  <a:pt x="1084" y="121"/>
                </a:lnTo>
                <a:lnTo>
                  <a:pt x="1079" y="123"/>
                </a:lnTo>
                <a:lnTo>
                  <a:pt x="1071" y="125"/>
                </a:lnTo>
                <a:lnTo>
                  <a:pt x="1063" y="126"/>
                </a:lnTo>
                <a:lnTo>
                  <a:pt x="1055" y="130"/>
                </a:lnTo>
                <a:lnTo>
                  <a:pt x="1046" y="132"/>
                </a:lnTo>
                <a:lnTo>
                  <a:pt x="1036" y="134"/>
                </a:lnTo>
                <a:lnTo>
                  <a:pt x="1027" y="136"/>
                </a:lnTo>
                <a:lnTo>
                  <a:pt x="1017" y="140"/>
                </a:lnTo>
                <a:lnTo>
                  <a:pt x="1006" y="142"/>
                </a:lnTo>
                <a:lnTo>
                  <a:pt x="992" y="146"/>
                </a:lnTo>
                <a:lnTo>
                  <a:pt x="981" y="149"/>
                </a:lnTo>
                <a:lnTo>
                  <a:pt x="967" y="151"/>
                </a:lnTo>
                <a:lnTo>
                  <a:pt x="952" y="155"/>
                </a:lnTo>
                <a:lnTo>
                  <a:pt x="938" y="159"/>
                </a:lnTo>
                <a:lnTo>
                  <a:pt x="921" y="163"/>
                </a:lnTo>
                <a:lnTo>
                  <a:pt x="906" y="167"/>
                </a:lnTo>
                <a:lnTo>
                  <a:pt x="888" y="171"/>
                </a:lnTo>
                <a:lnTo>
                  <a:pt x="871" y="174"/>
                </a:lnTo>
                <a:lnTo>
                  <a:pt x="854" y="178"/>
                </a:lnTo>
                <a:lnTo>
                  <a:pt x="835" y="182"/>
                </a:lnTo>
                <a:lnTo>
                  <a:pt x="816" y="186"/>
                </a:lnTo>
                <a:lnTo>
                  <a:pt x="794" y="190"/>
                </a:lnTo>
                <a:lnTo>
                  <a:pt x="773" y="196"/>
                </a:lnTo>
                <a:lnTo>
                  <a:pt x="752" y="199"/>
                </a:lnTo>
                <a:lnTo>
                  <a:pt x="729" y="203"/>
                </a:lnTo>
                <a:lnTo>
                  <a:pt x="708" y="209"/>
                </a:lnTo>
                <a:lnTo>
                  <a:pt x="683" y="213"/>
                </a:lnTo>
                <a:lnTo>
                  <a:pt x="660" y="219"/>
                </a:lnTo>
                <a:lnTo>
                  <a:pt x="633" y="224"/>
                </a:lnTo>
                <a:lnTo>
                  <a:pt x="608" y="230"/>
                </a:lnTo>
                <a:lnTo>
                  <a:pt x="585" y="236"/>
                </a:lnTo>
                <a:lnTo>
                  <a:pt x="562" y="242"/>
                </a:lnTo>
                <a:lnTo>
                  <a:pt x="539" y="245"/>
                </a:lnTo>
                <a:lnTo>
                  <a:pt x="516" y="251"/>
                </a:lnTo>
                <a:lnTo>
                  <a:pt x="495" y="255"/>
                </a:lnTo>
                <a:lnTo>
                  <a:pt x="476" y="259"/>
                </a:lnTo>
                <a:lnTo>
                  <a:pt x="455" y="265"/>
                </a:lnTo>
                <a:lnTo>
                  <a:pt x="435" y="268"/>
                </a:lnTo>
                <a:lnTo>
                  <a:pt x="418" y="272"/>
                </a:lnTo>
                <a:lnTo>
                  <a:pt x="399" y="276"/>
                </a:lnTo>
                <a:lnTo>
                  <a:pt x="382" y="278"/>
                </a:lnTo>
                <a:lnTo>
                  <a:pt x="366" y="282"/>
                </a:lnTo>
                <a:lnTo>
                  <a:pt x="351" y="284"/>
                </a:lnTo>
                <a:lnTo>
                  <a:pt x="336" y="288"/>
                </a:lnTo>
                <a:lnTo>
                  <a:pt x="322" y="290"/>
                </a:lnTo>
                <a:lnTo>
                  <a:pt x="307" y="292"/>
                </a:lnTo>
                <a:lnTo>
                  <a:pt x="295" y="295"/>
                </a:lnTo>
                <a:lnTo>
                  <a:pt x="282" y="297"/>
                </a:lnTo>
                <a:lnTo>
                  <a:pt x="272" y="299"/>
                </a:lnTo>
                <a:lnTo>
                  <a:pt x="261" y="301"/>
                </a:lnTo>
                <a:lnTo>
                  <a:pt x="251" y="301"/>
                </a:lnTo>
                <a:lnTo>
                  <a:pt x="242" y="303"/>
                </a:lnTo>
                <a:lnTo>
                  <a:pt x="232" y="305"/>
                </a:lnTo>
                <a:lnTo>
                  <a:pt x="224" y="305"/>
                </a:lnTo>
                <a:lnTo>
                  <a:pt x="217" y="307"/>
                </a:lnTo>
                <a:lnTo>
                  <a:pt x="211" y="307"/>
                </a:lnTo>
                <a:lnTo>
                  <a:pt x="205" y="307"/>
                </a:lnTo>
                <a:lnTo>
                  <a:pt x="199" y="307"/>
                </a:lnTo>
                <a:lnTo>
                  <a:pt x="196" y="307"/>
                </a:lnTo>
                <a:lnTo>
                  <a:pt x="192" y="309"/>
                </a:lnTo>
                <a:lnTo>
                  <a:pt x="182" y="307"/>
                </a:lnTo>
                <a:lnTo>
                  <a:pt x="173" y="307"/>
                </a:lnTo>
                <a:lnTo>
                  <a:pt x="163" y="305"/>
                </a:lnTo>
                <a:lnTo>
                  <a:pt x="153" y="303"/>
                </a:lnTo>
                <a:lnTo>
                  <a:pt x="144" y="301"/>
                </a:lnTo>
                <a:lnTo>
                  <a:pt x="132" y="297"/>
                </a:lnTo>
                <a:lnTo>
                  <a:pt x="121" y="295"/>
                </a:lnTo>
                <a:lnTo>
                  <a:pt x="109" y="290"/>
                </a:lnTo>
                <a:lnTo>
                  <a:pt x="84" y="282"/>
                </a:lnTo>
                <a:lnTo>
                  <a:pt x="73" y="276"/>
                </a:lnTo>
                <a:lnTo>
                  <a:pt x="59" y="270"/>
                </a:lnTo>
                <a:lnTo>
                  <a:pt x="44" y="265"/>
                </a:lnTo>
                <a:lnTo>
                  <a:pt x="30" y="257"/>
                </a:lnTo>
                <a:lnTo>
                  <a:pt x="15" y="251"/>
                </a:lnTo>
                <a:lnTo>
                  <a:pt x="0" y="244"/>
                </a:lnTo>
                <a:lnTo>
                  <a:pt x="25" y="238"/>
                </a:lnTo>
                <a:lnTo>
                  <a:pt x="52" y="232"/>
                </a:lnTo>
                <a:lnTo>
                  <a:pt x="80" y="226"/>
                </a:lnTo>
                <a:lnTo>
                  <a:pt x="111" y="220"/>
                </a:lnTo>
                <a:lnTo>
                  <a:pt x="142" y="213"/>
                </a:lnTo>
                <a:lnTo>
                  <a:pt x="174" y="205"/>
                </a:lnTo>
                <a:lnTo>
                  <a:pt x="209" y="197"/>
                </a:lnTo>
                <a:lnTo>
                  <a:pt x="245" y="188"/>
                </a:lnTo>
                <a:lnTo>
                  <a:pt x="284" y="178"/>
                </a:lnTo>
                <a:lnTo>
                  <a:pt x="324" y="169"/>
                </a:lnTo>
                <a:lnTo>
                  <a:pt x="364" y="159"/>
                </a:lnTo>
                <a:lnTo>
                  <a:pt x="409" y="148"/>
                </a:lnTo>
                <a:lnTo>
                  <a:pt x="453" y="138"/>
                </a:lnTo>
                <a:lnTo>
                  <a:pt x="499" y="126"/>
                </a:lnTo>
                <a:lnTo>
                  <a:pt x="524" y="121"/>
                </a:lnTo>
                <a:lnTo>
                  <a:pt x="549" y="115"/>
                </a:lnTo>
                <a:lnTo>
                  <a:pt x="574" y="109"/>
                </a:lnTo>
                <a:lnTo>
                  <a:pt x="599" y="103"/>
                </a:lnTo>
                <a:lnTo>
                  <a:pt x="624" y="96"/>
                </a:lnTo>
                <a:lnTo>
                  <a:pt x="647" y="90"/>
                </a:lnTo>
                <a:lnTo>
                  <a:pt x="670" y="84"/>
                </a:lnTo>
                <a:lnTo>
                  <a:pt x="693" y="78"/>
                </a:lnTo>
                <a:lnTo>
                  <a:pt x="714" y="75"/>
                </a:lnTo>
                <a:lnTo>
                  <a:pt x="735" y="69"/>
                </a:lnTo>
                <a:lnTo>
                  <a:pt x="754" y="63"/>
                </a:lnTo>
                <a:lnTo>
                  <a:pt x="775" y="59"/>
                </a:lnTo>
                <a:lnTo>
                  <a:pt x="793" y="53"/>
                </a:lnTo>
                <a:lnTo>
                  <a:pt x="812" y="50"/>
                </a:lnTo>
                <a:lnTo>
                  <a:pt x="829" y="46"/>
                </a:lnTo>
                <a:lnTo>
                  <a:pt x="844" y="42"/>
                </a:lnTo>
                <a:lnTo>
                  <a:pt x="862" y="36"/>
                </a:lnTo>
                <a:lnTo>
                  <a:pt x="877" y="34"/>
                </a:lnTo>
                <a:lnTo>
                  <a:pt x="890" y="30"/>
                </a:lnTo>
                <a:lnTo>
                  <a:pt x="906" y="27"/>
                </a:lnTo>
                <a:lnTo>
                  <a:pt x="917" y="23"/>
                </a:lnTo>
                <a:lnTo>
                  <a:pt x="931" y="21"/>
                </a:lnTo>
                <a:lnTo>
                  <a:pt x="942" y="17"/>
                </a:lnTo>
                <a:lnTo>
                  <a:pt x="954" y="15"/>
                </a:lnTo>
                <a:lnTo>
                  <a:pt x="963" y="13"/>
                </a:lnTo>
                <a:lnTo>
                  <a:pt x="973" y="11"/>
                </a:lnTo>
                <a:lnTo>
                  <a:pt x="983" y="7"/>
                </a:lnTo>
                <a:lnTo>
                  <a:pt x="990" y="7"/>
                </a:lnTo>
                <a:lnTo>
                  <a:pt x="998" y="6"/>
                </a:lnTo>
                <a:lnTo>
                  <a:pt x="1006" y="4"/>
                </a:lnTo>
                <a:lnTo>
                  <a:pt x="1011" y="2"/>
                </a:lnTo>
                <a:lnTo>
                  <a:pt x="1017" y="2"/>
                </a:lnTo>
                <a:lnTo>
                  <a:pt x="1021" y="2"/>
                </a:lnTo>
                <a:lnTo>
                  <a:pt x="1025" y="0"/>
                </a:lnTo>
                <a:lnTo>
                  <a:pt x="1029" y="0"/>
                </a:lnTo>
                <a:lnTo>
                  <a:pt x="1031" y="0"/>
                </a:lnTo>
                <a:lnTo>
                  <a:pt x="1036" y="0"/>
                </a:lnTo>
                <a:lnTo>
                  <a:pt x="1042" y="0"/>
                </a:lnTo>
                <a:lnTo>
                  <a:pt x="1050" y="0"/>
                </a:lnTo>
                <a:lnTo>
                  <a:pt x="1057" y="2"/>
                </a:lnTo>
                <a:lnTo>
                  <a:pt x="1067" y="4"/>
                </a:lnTo>
                <a:lnTo>
                  <a:pt x="1079" y="6"/>
                </a:lnTo>
                <a:lnTo>
                  <a:pt x="1090" y="7"/>
                </a:lnTo>
                <a:lnTo>
                  <a:pt x="1103" y="13"/>
                </a:lnTo>
                <a:lnTo>
                  <a:pt x="1111" y="19"/>
                </a:lnTo>
                <a:lnTo>
                  <a:pt x="1119" y="25"/>
                </a:lnTo>
                <a:lnTo>
                  <a:pt x="1125" y="32"/>
                </a:lnTo>
                <a:lnTo>
                  <a:pt x="1130" y="40"/>
                </a:lnTo>
                <a:lnTo>
                  <a:pt x="1134" y="48"/>
                </a:lnTo>
                <a:lnTo>
                  <a:pt x="1136" y="57"/>
                </a:lnTo>
                <a:lnTo>
                  <a:pt x="1138" y="67"/>
                </a:lnTo>
                <a:lnTo>
                  <a:pt x="1140" y="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09"/>
          <p:cNvSpPr/>
          <p:nvPr/>
        </p:nvSpPr>
        <p:spPr>
          <a:xfrm>
            <a:off x="5985000" y="3603600"/>
            <a:ext cx="218880" cy="284040"/>
          </a:xfrm>
          <a:custGeom>
            <a:avLst/>
            <a:gdLst/>
            <a:ahLst/>
            <a:rect l="l" t="t" r="r" b="b"/>
            <a:pathLst>
              <a:path w="276" h="359">
                <a:moveTo>
                  <a:pt x="248" y="167"/>
                </a:moveTo>
                <a:lnTo>
                  <a:pt x="255" y="179"/>
                </a:lnTo>
                <a:lnTo>
                  <a:pt x="259" y="190"/>
                </a:lnTo>
                <a:lnTo>
                  <a:pt x="265" y="202"/>
                </a:lnTo>
                <a:lnTo>
                  <a:pt x="269" y="212"/>
                </a:lnTo>
                <a:lnTo>
                  <a:pt x="271" y="221"/>
                </a:lnTo>
                <a:lnTo>
                  <a:pt x="274" y="231"/>
                </a:lnTo>
                <a:lnTo>
                  <a:pt x="274" y="238"/>
                </a:lnTo>
                <a:lnTo>
                  <a:pt x="276" y="248"/>
                </a:lnTo>
                <a:lnTo>
                  <a:pt x="276" y="256"/>
                </a:lnTo>
                <a:lnTo>
                  <a:pt x="276" y="263"/>
                </a:lnTo>
                <a:lnTo>
                  <a:pt x="274" y="271"/>
                </a:lnTo>
                <a:lnTo>
                  <a:pt x="273" y="279"/>
                </a:lnTo>
                <a:lnTo>
                  <a:pt x="271" y="286"/>
                </a:lnTo>
                <a:lnTo>
                  <a:pt x="269" y="294"/>
                </a:lnTo>
                <a:lnTo>
                  <a:pt x="265" y="302"/>
                </a:lnTo>
                <a:lnTo>
                  <a:pt x="261" y="309"/>
                </a:lnTo>
                <a:lnTo>
                  <a:pt x="253" y="315"/>
                </a:lnTo>
                <a:lnTo>
                  <a:pt x="248" y="321"/>
                </a:lnTo>
                <a:lnTo>
                  <a:pt x="242" y="329"/>
                </a:lnTo>
                <a:lnTo>
                  <a:pt x="236" y="332"/>
                </a:lnTo>
                <a:lnTo>
                  <a:pt x="230" y="338"/>
                </a:lnTo>
                <a:lnTo>
                  <a:pt x="225" y="342"/>
                </a:lnTo>
                <a:lnTo>
                  <a:pt x="221" y="346"/>
                </a:lnTo>
                <a:lnTo>
                  <a:pt x="215" y="348"/>
                </a:lnTo>
                <a:lnTo>
                  <a:pt x="207" y="354"/>
                </a:lnTo>
                <a:lnTo>
                  <a:pt x="200" y="357"/>
                </a:lnTo>
                <a:lnTo>
                  <a:pt x="194" y="359"/>
                </a:lnTo>
                <a:lnTo>
                  <a:pt x="188" y="359"/>
                </a:lnTo>
                <a:lnTo>
                  <a:pt x="184" y="359"/>
                </a:lnTo>
                <a:lnTo>
                  <a:pt x="178" y="357"/>
                </a:lnTo>
                <a:lnTo>
                  <a:pt x="173" y="355"/>
                </a:lnTo>
                <a:lnTo>
                  <a:pt x="169" y="354"/>
                </a:lnTo>
                <a:lnTo>
                  <a:pt x="163" y="350"/>
                </a:lnTo>
                <a:lnTo>
                  <a:pt x="157" y="344"/>
                </a:lnTo>
                <a:lnTo>
                  <a:pt x="150" y="338"/>
                </a:lnTo>
                <a:lnTo>
                  <a:pt x="144" y="332"/>
                </a:lnTo>
                <a:lnTo>
                  <a:pt x="138" y="325"/>
                </a:lnTo>
                <a:lnTo>
                  <a:pt x="132" y="317"/>
                </a:lnTo>
                <a:lnTo>
                  <a:pt x="125" y="309"/>
                </a:lnTo>
                <a:lnTo>
                  <a:pt x="119" y="300"/>
                </a:lnTo>
                <a:lnTo>
                  <a:pt x="111" y="290"/>
                </a:lnTo>
                <a:lnTo>
                  <a:pt x="106" y="281"/>
                </a:lnTo>
                <a:lnTo>
                  <a:pt x="98" y="269"/>
                </a:lnTo>
                <a:lnTo>
                  <a:pt x="92" y="258"/>
                </a:lnTo>
                <a:lnTo>
                  <a:pt x="84" y="246"/>
                </a:lnTo>
                <a:lnTo>
                  <a:pt x="75" y="233"/>
                </a:lnTo>
                <a:lnTo>
                  <a:pt x="67" y="221"/>
                </a:lnTo>
                <a:lnTo>
                  <a:pt x="61" y="212"/>
                </a:lnTo>
                <a:lnTo>
                  <a:pt x="48" y="188"/>
                </a:lnTo>
                <a:lnTo>
                  <a:pt x="36" y="167"/>
                </a:lnTo>
                <a:lnTo>
                  <a:pt x="27" y="146"/>
                </a:lnTo>
                <a:lnTo>
                  <a:pt x="19" y="123"/>
                </a:lnTo>
                <a:lnTo>
                  <a:pt x="13" y="100"/>
                </a:lnTo>
                <a:lnTo>
                  <a:pt x="8" y="77"/>
                </a:lnTo>
                <a:lnTo>
                  <a:pt x="6" y="68"/>
                </a:lnTo>
                <a:lnTo>
                  <a:pt x="4" y="60"/>
                </a:lnTo>
                <a:lnTo>
                  <a:pt x="4" y="50"/>
                </a:lnTo>
                <a:lnTo>
                  <a:pt x="2" y="43"/>
                </a:lnTo>
                <a:lnTo>
                  <a:pt x="0" y="37"/>
                </a:lnTo>
                <a:lnTo>
                  <a:pt x="0" y="31"/>
                </a:lnTo>
                <a:lnTo>
                  <a:pt x="0" y="25"/>
                </a:lnTo>
                <a:lnTo>
                  <a:pt x="0" y="20"/>
                </a:lnTo>
                <a:lnTo>
                  <a:pt x="0" y="16"/>
                </a:lnTo>
                <a:lnTo>
                  <a:pt x="0" y="12"/>
                </a:lnTo>
                <a:lnTo>
                  <a:pt x="0" y="8"/>
                </a:lnTo>
                <a:lnTo>
                  <a:pt x="2" y="6"/>
                </a:lnTo>
                <a:lnTo>
                  <a:pt x="2" y="2"/>
                </a:lnTo>
                <a:lnTo>
                  <a:pt x="4" y="2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17" y="2"/>
                </a:lnTo>
                <a:lnTo>
                  <a:pt x="21" y="2"/>
                </a:lnTo>
                <a:lnTo>
                  <a:pt x="27" y="4"/>
                </a:lnTo>
                <a:lnTo>
                  <a:pt x="33" y="4"/>
                </a:lnTo>
                <a:lnTo>
                  <a:pt x="38" y="6"/>
                </a:lnTo>
                <a:lnTo>
                  <a:pt x="44" y="8"/>
                </a:lnTo>
                <a:lnTo>
                  <a:pt x="52" y="10"/>
                </a:lnTo>
                <a:lnTo>
                  <a:pt x="59" y="12"/>
                </a:lnTo>
                <a:lnTo>
                  <a:pt x="67" y="14"/>
                </a:lnTo>
                <a:lnTo>
                  <a:pt x="75" y="16"/>
                </a:lnTo>
                <a:lnTo>
                  <a:pt x="84" y="20"/>
                </a:lnTo>
                <a:lnTo>
                  <a:pt x="94" y="21"/>
                </a:lnTo>
                <a:lnTo>
                  <a:pt x="106" y="23"/>
                </a:lnTo>
                <a:lnTo>
                  <a:pt x="117" y="25"/>
                </a:lnTo>
                <a:lnTo>
                  <a:pt x="127" y="31"/>
                </a:lnTo>
                <a:lnTo>
                  <a:pt x="138" y="37"/>
                </a:lnTo>
                <a:lnTo>
                  <a:pt x="148" y="43"/>
                </a:lnTo>
                <a:lnTo>
                  <a:pt x="159" y="50"/>
                </a:lnTo>
                <a:lnTo>
                  <a:pt x="169" y="58"/>
                </a:lnTo>
                <a:lnTo>
                  <a:pt x="178" y="66"/>
                </a:lnTo>
                <a:lnTo>
                  <a:pt x="196" y="83"/>
                </a:lnTo>
                <a:lnTo>
                  <a:pt x="211" y="100"/>
                </a:lnTo>
                <a:lnTo>
                  <a:pt x="219" y="112"/>
                </a:lnTo>
                <a:lnTo>
                  <a:pt x="226" y="121"/>
                </a:lnTo>
                <a:lnTo>
                  <a:pt x="232" y="133"/>
                </a:lnTo>
                <a:lnTo>
                  <a:pt x="238" y="144"/>
                </a:lnTo>
                <a:lnTo>
                  <a:pt x="244" y="156"/>
                </a:lnTo>
                <a:lnTo>
                  <a:pt x="248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10"/>
          <p:cNvSpPr/>
          <p:nvPr/>
        </p:nvSpPr>
        <p:spPr>
          <a:xfrm>
            <a:off x="6886440" y="3193920"/>
            <a:ext cx="227160" cy="195480"/>
          </a:xfrm>
          <a:custGeom>
            <a:avLst/>
            <a:gdLst/>
            <a:ahLst/>
            <a:rect l="l" t="t" r="r" b="b"/>
            <a:pathLst>
              <a:path w="286" h="246">
                <a:moveTo>
                  <a:pt x="0" y="0"/>
                </a:moveTo>
                <a:lnTo>
                  <a:pt x="19" y="0"/>
                </a:lnTo>
                <a:lnTo>
                  <a:pt x="39" y="2"/>
                </a:lnTo>
                <a:lnTo>
                  <a:pt x="56" y="2"/>
                </a:lnTo>
                <a:lnTo>
                  <a:pt x="73" y="4"/>
                </a:lnTo>
                <a:lnTo>
                  <a:pt x="91" y="4"/>
                </a:lnTo>
                <a:lnTo>
                  <a:pt x="106" y="6"/>
                </a:lnTo>
                <a:lnTo>
                  <a:pt x="121" y="10"/>
                </a:lnTo>
                <a:lnTo>
                  <a:pt x="137" y="11"/>
                </a:lnTo>
                <a:lnTo>
                  <a:pt x="150" y="15"/>
                </a:lnTo>
                <a:lnTo>
                  <a:pt x="162" y="19"/>
                </a:lnTo>
                <a:lnTo>
                  <a:pt x="175" y="23"/>
                </a:lnTo>
                <a:lnTo>
                  <a:pt x="186" y="27"/>
                </a:lnTo>
                <a:lnTo>
                  <a:pt x="198" y="33"/>
                </a:lnTo>
                <a:lnTo>
                  <a:pt x="208" y="38"/>
                </a:lnTo>
                <a:lnTo>
                  <a:pt x="217" y="44"/>
                </a:lnTo>
                <a:lnTo>
                  <a:pt x="227" y="52"/>
                </a:lnTo>
                <a:lnTo>
                  <a:pt x="240" y="67"/>
                </a:lnTo>
                <a:lnTo>
                  <a:pt x="252" y="81"/>
                </a:lnTo>
                <a:lnTo>
                  <a:pt x="261" y="96"/>
                </a:lnTo>
                <a:lnTo>
                  <a:pt x="271" y="109"/>
                </a:lnTo>
                <a:lnTo>
                  <a:pt x="277" y="125"/>
                </a:lnTo>
                <a:lnTo>
                  <a:pt x="281" y="132"/>
                </a:lnTo>
                <a:lnTo>
                  <a:pt x="282" y="138"/>
                </a:lnTo>
                <a:lnTo>
                  <a:pt x="284" y="146"/>
                </a:lnTo>
                <a:lnTo>
                  <a:pt x="286" y="154"/>
                </a:lnTo>
                <a:lnTo>
                  <a:pt x="286" y="161"/>
                </a:lnTo>
                <a:lnTo>
                  <a:pt x="286" y="167"/>
                </a:lnTo>
                <a:lnTo>
                  <a:pt x="286" y="177"/>
                </a:lnTo>
                <a:lnTo>
                  <a:pt x="286" y="186"/>
                </a:lnTo>
                <a:lnTo>
                  <a:pt x="286" y="194"/>
                </a:lnTo>
                <a:lnTo>
                  <a:pt x="284" y="202"/>
                </a:lnTo>
                <a:lnTo>
                  <a:pt x="282" y="207"/>
                </a:lnTo>
                <a:lnTo>
                  <a:pt x="281" y="215"/>
                </a:lnTo>
                <a:lnTo>
                  <a:pt x="279" y="221"/>
                </a:lnTo>
                <a:lnTo>
                  <a:pt x="277" y="225"/>
                </a:lnTo>
                <a:lnTo>
                  <a:pt x="273" y="230"/>
                </a:lnTo>
                <a:lnTo>
                  <a:pt x="269" y="234"/>
                </a:lnTo>
                <a:lnTo>
                  <a:pt x="265" y="238"/>
                </a:lnTo>
                <a:lnTo>
                  <a:pt x="261" y="240"/>
                </a:lnTo>
                <a:lnTo>
                  <a:pt x="257" y="242"/>
                </a:lnTo>
                <a:lnTo>
                  <a:pt x="252" y="244"/>
                </a:lnTo>
                <a:lnTo>
                  <a:pt x="246" y="244"/>
                </a:lnTo>
                <a:lnTo>
                  <a:pt x="238" y="246"/>
                </a:lnTo>
                <a:lnTo>
                  <a:pt x="233" y="244"/>
                </a:lnTo>
                <a:lnTo>
                  <a:pt x="225" y="244"/>
                </a:lnTo>
                <a:lnTo>
                  <a:pt x="217" y="240"/>
                </a:lnTo>
                <a:lnTo>
                  <a:pt x="210" y="238"/>
                </a:lnTo>
                <a:lnTo>
                  <a:pt x="202" y="234"/>
                </a:lnTo>
                <a:lnTo>
                  <a:pt x="192" y="228"/>
                </a:lnTo>
                <a:lnTo>
                  <a:pt x="185" y="225"/>
                </a:lnTo>
                <a:lnTo>
                  <a:pt x="175" y="217"/>
                </a:lnTo>
                <a:lnTo>
                  <a:pt x="167" y="211"/>
                </a:lnTo>
                <a:lnTo>
                  <a:pt x="158" y="203"/>
                </a:lnTo>
                <a:lnTo>
                  <a:pt x="148" y="194"/>
                </a:lnTo>
                <a:lnTo>
                  <a:pt x="138" y="186"/>
                </a:lnTo>
                <a:lnTo>
                  <a:pt x="127" y="175"/>
                </a:lnTo>
                <a:lnTo>
                  <a:pt x="117" y="165"/>
                </a:lnTo>
                <a:lnTo>
                  <a:pt x="106" y="154"/>
                </a:lnTo>
                <a:lnTo>
                  <a:pt x="96" y="142"/>
                </a:lnTo>
                <a:lnTo>
                  <a:pt x="85" y="130"/>
                </a:lnTo>
                <a:lnTo>
                  <a:pt x="73" y="119"/>
                </a:lnTo>
                <a:lnTo>
                  <a:pt x="64" y="107"/>
                </a:lnTo>
                <a:lnTo>
                  <a:pt x="56" y="96"/>
                </a:lnTo>
                <a:lnTo>
                  <a:pt x="46" y="86"/>
                </a:lnTo>
                <a:lnTo>
                  <a:pt x="39" y="75"/>
                </a:lnTo>
                <a:lnTo>
                  <a:pt x="31" y="65"/>
                </a:lnTo>
                <a:lnTo>
                  <a:pt x="25" y="58"/>
                </a:lnTo>
                <a:lnTo>
                  <a:pt x="19" y="48"/>
                </a:lnTo>
                <a:lnTo>
                  <a:pt x="14" y="40"/>
                </a:lnTo>
                <a:lnTo>
                  <a:pt x="10" y="33"/>
                </a:lnTo>
                <a:lnTo>
                  <a:pt x="6" y="25"/>
                </a:lnTo>
                <a:lnTo>
                  <a:pt x="2" y="17"/>
                </a:lnTo>
                <a:lnTo>
                  <a:pt x="0" y="11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11"/>
          <p:cNvSpPr/>
          <p:nvPr/>
        </p:nvSpPr>
        <p:spPr>
          <a:xfrm>
            <a:off x="6867360" y="2890800"/>
            <a:ext cx="562320" cy="171360"/>
          </a:xfrm>
          <a:custGeom>
            <a:avLst/>
            <a:gdLst/>
            <a:ahLst/>
            <a:rect l="l" t="t" r="r" b="b"/>
            <a:pathLst>
              <a:path w="709" h="217">
                <a:moveTo>
                  <a:pt x="661" y="52"/>
                </a:moveTo>
                <a:lnTo>
                  <a:pt x="666" y="54"/>
                </a:lnTo>
                <a:lnTo>
                  <a:pt x="672" y="56"/>
                </a:lnTo>
                <a:lnTo>
                  <a:pt x="678" y="58"/>
                </a:lnTo>
                <a:lnTo>
                  <a:pt x="682" y="61"/>
                </a:lnTo>
                <a:lnTo>
                  <a:pt x="688" y="63"/>
                </a:lnTo>
                <a:lnTo>
                  <a:pt x="691" y="65"/>
                </a:lnTo>
                <a:lnTo>
                  <a:pt x="697" y="71"/>
                </a:lnTo>
                <a:lnTo>
                  <a:pt x="703" y="75"/>
                </a:lnTo>
                <a:lnTo>
                  <a:pt x="705" y="79"/>
                </a:lnTo>
                <a:lnTo>
                  <a:pt x="707" y="85"/>
                </a:lnTo>
                <a:lnTo>
                  <a:pt x="709" y="90"/>
                </a:lnTo>
                <a:lnTo>
                  <a:pt x="707" y="92"/>
                </a:lnTo>
                <a:lnTo>
                  <a:pt x="707" y="94"/>
                </a:lnTo>
                <a:lnTo>
                  <a:pt x="705" y="98"/>
                </a:lnTo>
                <a:lnTo>
                  <a:pt x="703" y="102"/>
                </a:lnTo>
                <a:lnTo>
                  <a:pt x="701" y="104"/>
                </a:lnTo>
                <a:lnTo>
                  <a:pt x="697" y="108"/>
                </a:lnTo>
                <a:lnTo>
                  <a:pt x="693" y="111"/>
                </a:lnTo>
                <a:lnTo>
                  <a:pt x="688" y="115"/>
                </a:lnTo>
                <a:lnTo>
                  <a:pt x="684" y="119"/>
                </a:lnTo>
                <a:lnTo>
                  <a:pt x="676" y="123"/>
                </a:lnTo>
                <a:lnTo>
                  <a:pt x="670" y="125"/>
                </a:lnTo>
                <a:lnTo>
                  <a:pt x="663" y="129"/>
                </a:lnTo>
                <a:lnTo>
                  <a:pt x="653" y="133"/>
                </a:lnTo>
                <a:lnTo>
                  <a:pt x="645" y="134"/>
                </a:lnTo>
                <a:lnTo>
                  <a:pt x="634" y="138"/>
                </a:lnTo>
                <a:lnTo>
                  <a:pt x="624" y="140"/>
                </a:lnTo>
                <a:lnTo>
                  <a:pt x="601" y="150"/>
                </a:lnTo>
                <a:lnTo>
                  <a:pt x="578" y="157"/>
                </a:lnTo>
                <a:lnTo>
                  <a:pt x="555" y="165"/>
                </a:lnTo>
                <a:lnTo>
                  <a:pt x="530" y="171"/>
                </a:lnTo>
                <a:lnTo>
                  <a:pt x="505" y="177"/>
                </a:lnTo>
                <a:lnTo>
                  <a:pt x="478" y="182"/>
                </a:lnTo>
                <a:lnTo>
                  <a:pt x="465" y="184"/>
                </a:lnTo>
                <a:lnTo>
                  <a:pt x="449" y="186"/>
                </a:lnTo>
                <a:lnTo>
                  <a:pt x="436" y="190"/>
                </a:lnTo>
                <a:lnTo>
                  <a:pt x="421" y="192"/>
                </a:lnTo>
                <a:lnTo>
                  <a:pt x="403" y="194"/>
                </a:lnTo>
                <a:lnTo>
                  <a:pt x="386" y="198"/>
                </a:lnTo>
                <a:lnTo>
                  <a:pt x="367" y="200"/>
                </a:lnTo>
                <a:lnTo>
                  <a:pt x="346" y="202"/>
                </a:lnTo>
                <a:lnTo>
                  <a:pt x="325" y="204"/>
                </a:lnTo>
                <a:lnTo>
                  <a:pt x="300" y="205"/>
                </a:lnTo>
                <a:lnTo>
                  <a:pt x="277" y="207"/>
                </a:lnTo>
                <a:lnTo>
                  <a:pt x="250" y="209"/>
                </a:lnTo>
                <a:lnTo>
                  <a:pt x="223" y="211"/>
                </a:lnTo>
                <a:lnTo>
                  <a:pt x="194" y="213"/>
                </a:lnTo>
                <a:lnTo>
                  <a:pt x="165" y="215"/>
                </a:lnTo>
                <a:lnTo>
                  <a:pt x="135" y="215"/>
                </a:lnTo>
                <a:lnTo>
                  <a:pt x="102" y="217"/>
                </a:lnTo>
                <a:lnTo>
                  <a:pt x="69" y="217"/>
                </a:lnTo>
                <a:lnTo>
                  <a:pt x="35" y="217"/>
                </a:lnTo>
                <a:lnTo>
                  <a:pt x="0" y="217"/>
                </a:lnTo>
                <a:lnTo>
                  <a:pt x="0" y="186"/>
                </a:lnTo>
                <a:lnTo>
                  <a:pt x="0" y="154"/>
                </a:lnTo>
                <a:lnTo>
                  <a:pt x="12" y="148"/>
                </a:lnTo>
                <a:lnTo>
                  <a:pt x="25" y="144"/>
                </a:lnTo>
                <a:lnTo>
                  <a:pt x="39" y="138"/>
                </a:lnTo>
                <a:lnTo>
                  <a:pt x="54" y="133"/>
                </a:lnTo>
                <a:lnTo>
                  <a:pt x="71" y="127"/>
                </a:lnTo>
                <a:lnTo>
                  <a:pt x="89" y="119"/>
                </a:lnTo>
                <a:lnTo>
                  <a:pt x="106" y="113"/>
                </a:lnTo>
                <a:lnTo>
                  <a:pt x="127" y="108"/>
                </a:lnTo>
                <a:lnTo>
                  <a:pt x="146" y="100"/>
                </a:lnTo>
                <a:lnTo>
                  <a:pt x="169" y="94"/>
                </a:lnTo>
                <a:lnTo>
                  <a:pt x="192" y="86"/>
                </a:lnTo>
                <a:lnTo>
                  <a:pt x="215" y="79"/>
                </a:lnTo>
                <a:lnTo>
                  <a:pt x="242" y="73"/>
                </a:lnTo>
                <a:lnTo>
                  <a:pt x="267" y="65"/>
                </a:lnTo>
                <a:lnTo>
                  <a:pt x="296" y="58"/>
                </a:lnTo>
                <a:lnTo>
                  <a:pt x="325" y="52"/>
                </a:lnTo>
                <a:lnTo>
                  <a:pt x="350" y="44"/>
                </a:lnTo>
                <a:lnTo>
                  <a:pt x="375" y="37"/>
                </a:lnTo>
                <a:lnTo>
                  <a:pt x="398" y="31"/>
                </a:lnTo>
                <a:lnTo>
                  <a:pt x="421" y="27"/>
                </a:lnTo>
                <a:lnTo>
                  <a:pt x="442" y="21"/>
                </a:lnTo>
                <a:lnTo>
                  <a:pt x="461" y="17"/>
                </a:lnTo>
                <a:lnTo>
                  <a:pt x="480" y="13"/>
                </a:lnTo>
                <a:lnTo>
                  <a:pt x="496" y="10"/>
                </a:lnTo>
                <a:lnTo>
                  <a:pt x="513" y="8"/>
                </a:lnTo>
                <a:lnTo>
                  <a:pt x="526" y="6"/>
                </a:lnTo>
                <a:lnTo>
                  <a:pt x="540" y="4"/>
                </a:lnTo>
                <a:lnTo>
                  <a:pt x="551" y="2"/>
                </a:lnTo>
                <a:lnTo>
                  <a:pt x="563" y="0"/>
                </a:lnTo>
                <a:lnTo>
                  <a:pt x="572" y="0"/>
                </a:lnTo>
                <a:lnTo>
                  <a:pt x="580" y="0"/>
                </a:lnTo>
                <a:lnTo>
                  <a:pt x="588" y="0"/>
                </a:lnTo>
                <a:lnTo>
                  <a:pt x="605" y="10"/>
                </a:lnTo>
                <a:lnTo>
                  <a:pt x="615" y="15"/>
                </a:lnTo>
                <a:lnTo>
                  <a:pt x="624" y="21"/>
                </a:lnTo>
                <a:lnTo>
                  <a:pt x="632" y="27"/>
                </a:lnTo>
                <a:lnTo>
                  <a:pt x="641" y="35"/>
                </a:lnTo>
                <a:lnTo>
                  <a:pt x="651" y="42"/>
                </a:lnTo>
                <a:lnTo>
                  <a:pt x="661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12"/>
          <p:cNvSpPr/>
          <p:nvPr/>
        </p:nvSpPr>
        <p:spPr>
          <a:xfrm>
            <a:off x="6550200" y="2733840"/>
            <a:ext cx="460080" cy="647640"/>
          </a:xfrm>
          <a:custGeom>
            <a:avLst/>
            <a:gdLst/>
            <a:ahLst/>
            <a:rect l="l" t="t" r="r" b="b"/>
            <a:pathLst>
              <a:path w="580" h="816">
                <a:moveTo>
                  <a:pt x="436" y="377"/>
                </a:moveTo>
                <a:lnTo>
                  <a:pt x="420" y="403"/>
                </a:lnTo>
                <a:lnTo>
                  <a:pt x="403" y="428"/>
                </a:lnTo>
                <a:lnTo>
                  <a:pt x="388" y="453"/>
                </a:lnTo>
                <a:lnTo>
                  <a:pt x="371" y="476"/>
                </a:lnTo>
                <a:lnTo>
                  <a:pt x="353" y="499"/>
                </a:lnTo>
                <a:lnTo>
                  <a:pt x="338" y="521"/>
                </a:lnTo>
                <a:lnTo>
                  <a:pt x="321" y="542"/>
                </a:lnTo>
                <a:lnTo>
                  <a:pt x="303" y="561"/>
                </a:lnTo>
                <a:lnTo>
                  <a:pt x="286" y="582"/>
                </a:lnTo>
                <a:lnTo>
                  <a:pt x="269" y="599"/>
                </a:lnTo>
                <a:lnTo>
                  <a:pt x="253" y="618"/>
                </a:lnTo>
                <a:lnTo>
                  <a:pt x="236" y="636"/>
                </a:lnTo>
                <a:lnTo>
                  <a:pt x="219" y="651"/>
                </a:lnTo>
                <a:lnTo>
                  <a:pt x="204" y="668"/>
                </a:lnTo>
                <a:lnTo>
                  <a:pt x="186" y="684"/>
                </a:lnTo>
                <a:lnTo>
                  <a:pt x="171" y="699"/>
                </a:lnTo>
                <a:lnTo>
                  <a:pt x="154" y="714"/>
                </a:lnTo>
                <a:lnTo>
                  <a:pt x="138" y="730"/>
                </a:lnTo>
                <a:lnTo>
                  <a:pt x="121" y="743"/>
                </a:lnTo>
                <a:lnTo>
                  <a:pt x="108" y="757"/>
                </a:lnTo>
                <a:lnTo>
                  <a:pt x="92" y="768"/>
                </a:lnTo>
                <a:lnTo>
                  <a:pt x="79" y="778"/>
                </a:lnTo>
                <a:lnTo>
                  <a:pt x="67" y="787"/>
                </a:lnTo>
                <a:lnTo>
                  <a:pt x="56" y="795"/>
                </a:lnTo>
                <a:lnTo>
                  <a:pt x="46" y="801"/>
                </a:lnTo>
                <a:lnTo>
                  <a:pt x="37" y="807"/>
                </a:lnTo>
                <a:lnTo>
                  <a:pt x="29" y="810"/>
                </a:lnTo>
                <a:lnTo>
                  <a:pt x="21" y="814"/>
                </a:lnTo>
                <a:lnTo>
                  <a:pt x="15" y="816"/>
                </a:lnTo>
                <a:lnTo>
                  <a:pt x="10" y="816"/>
                </a:lnTo>
                <a:lnTo>
                  <a:pt x="6" y="816"/>
                </a:lnTo>
                <a:lnTo>
                  <a:pt x="4" y="814"/>
                </a:lnTo>
                <a:lnTo>
                  <a:pt x="2" y="814"/>
                </a:lnTo>
                <a:lnTo>
                  <a:pt x="0" y="812"/>
                </a:lnTo>
                <a:lnTo>
                  <a:pt x="0" y="810"/>
                </a:lnTo>
                <a:lnTo>
                  <a:pt x="0" y="807"/>
                </a:lnTo>
                <a:lnTo>
                  <a:pt x="0" y="803"/>
                </a:lnTo>
                <a:lnTo>
                  <a:pt x="2" y="797"/>
                </a:lnTo>
                <a:lnTo>
                  <a:pt x="4" y="791"/>
                </a:lnTo>
                <a:lnTo>
                  <a:pt x="8" y="785"/>
                </a:lnTo>
                <a:lnTo>
                  <a:pt x="12" y="778"/>
                </a:lnTo>
                <a:lnTo>
                  <a:pt x="15" y="768"/>
                </a:lnTo>
                <a:lnTo>
                  <a:pt x="21" y="759"/>
                </a:lnTo>
                <a:lnTo>
                  <a:pt x="27" y="749"/>
                </a:lnTo>
                <a:lnTo>
                  <a:pt x="35" y="737"/>
                </a:lnTo>
                <a:lnTo>
                  <a:pt x="44" y="726"/>
                </a:lnTo>
                <a:lnTo>
                  <a:pt x="54" y="712"/>
                </a:lnTo>
                <a:lnTo>
                  <a:pt x="63" y="699"/>
                </a:lnTo>
                <a:lnTo>
                  <a:pt x="85" y="668"/>
                </a:lnTo>
                <a:lnTo>
                  <a:pt x="106" y="638"/>
                </a:lnTo>
                <a:lnTo>
                  <a:pt x="127" y="607"/>
                </a:lnTo>
                <a:lnTo>
                  <a:pt x="148" y="574"/>
                </a:lnTo>
                <a:lnTo>
                  <a:pt x="167" y="542"/>
                </a:lnTo>
                <a:lnTo>
                  <a:pt x="188" y="509"/>
                </a:lnTo>
                <a:lnTo>
                  <a:pt x="209" y="474"/>
                </a:lnTo>
                <a:lnTo>
                  <a:pt x="232" y="442"/>
                </a:lnTo>
                <a:lnTo>
                  <a:pt x="248" y="407"/>
                </a:lnTo>
                <a:lnTo>
                  <a:pt x="265" y="377"/>
                </a:lnTo>
                <a:lnTo>
                  <a:pt x="280" y="346"/>
                </a:lnTo>
                <a:lnTo>
                  <a:pt x="294" y="315"/>
                </a:lnTo>
                <a:lnTo>
                  <a:pt x="307" y="288"/>
                </a:lnTo>
                <a:lnTo>
                  <a:pt x="319" y="261"/>
                </a:lnTo>
                <a:lnTo>
                  <a:pt x="330" y="235"/>
                </a:lnTo>
                <a:lnTo>
                  <a:pt x="340" y="210"/>
                </a:lnTo>
                <a:lnTo>
                  <a:pt x="344" y="198"/>
                </a:lnTo>
                <a:lnTo>
                  <a:pt x="348" y="187"/>
                </a:lnTo>
                <a:lnTo>
                  <a:pt x="349" y="175"/>
                </a:lnTo>
                <a:lnTo>
                  <a:pt x="353" y="165"/>
                </a:lnTo>
                <a:lnTo>
                  <a:pt x="355" y="154"/>
                </a:lnTo>
                <a:lnTo>
                  <a:pt x="357" y="144"/>
                </a:lnTo>
                <a:lnTo>
                  <a:pt x="359" y="125"/>
                </a:lnTo>
                <a:lnTo>
                  <a:pt x="359" y="116"/>
                </a:lnTo>
                <a:lnTo>
                  <a:pt x="359" y="108"/>
                </a:lnTo>
                <a:lnTo>
                  <a:pt x="359" y="100"/>
                </a:lnTo>
                <a:lnTo>
                  <a:pt x="357" y="92"/>
                </a:lnTo>
                <a:lnTo>
                  <a:pt x="357" y="87"/>
                </a:lnTo>
                <a:lnTo>
                  <a:pt x="355" y="79"/>
                </a:lnTo>
                <a:lnTo>
                  <a:pt x="353" y="73"/>
                </a:lnTo>
                <a:lnTo>
                  <a:pt x="351" y="69"/>
                </a:lnTo>
                <a:lnTo>
                  <a:pt x="348" y="60"/>
                </a:lnTo>
                <a:lnTo>
                  <a:pt x="346" y="50"/>
                </a:lnTo>
                <a:lnTo>
                  <a:pt x="344" y="41"/>
                </a:lnTo>
                <a:lnTo>
                  <a:pt x="344" y="31"/>
                </a:lnTo>
                <a:lnTo>
                  <a:pt x="346" y="23"/>
                </a:lnTo>
                <a:lnTo>
                  <a:pt x="348" y="20"/>
                </a:lnTo>
                <a:lnTo>
                  <a:pt x="349" y="16"/>
                </a:lnTo>
                <a:lnTo>
                  <a:pt x="353" y="14"/>
                </a:lnTo>
                <a:lnTo>
                  <a:pt x="355" y="10"/>
                </a:lnTo>
                <a:lnTo>
                  <a:pt x="359" y="8"/>
                </a:lnTo>
                <a:lnTo>
                  <a:pt x="363" y="4"/>
                </a:lnTo>
                <a:lnTo>
                  <a:pt x="367" y="2"/>
                </a:lnTo>
                <a:lnTo>
                  <a:pt x="369" y="0"/>
                </a:lnTo>
                <a:lnTo>
                  <a:pt x="374" y="0"/>
                </a:lnTo>
                <a:lnTo>
                  <a:pt x="378" y="0"/>
                </a:lnTo>
                <a:lnTo>
                  <a:pt x="384" y="0"/>
                </a:lnTo>
                <a:lnTo>
                  <a:pt x="392" y="0"/>
                </a:lnTo>
                <a:lnTo>
                  <a:pt x="397" y="2"/>
                </a:lnTo>
                <a:lnTo>
                  <a:pt x="405" y="2"/>
                </a:lnTo>
                <a:lnTo>
                  <a:pt x="413" y="4"/>
                </a:lnTo>
                <a:lnTo>
                  <a:pt x="422" y="8"/>
                </a:lnTo>
                <a:lnTo>
                  <a:pt x="432" y="10"/>
                </a:lnTo>
                <a:lnTo>
                  <a:pt x="442" y="14"/>
                </a:lnTo>
                <a:lnTo>
                  <a:pt x="461" y="21"/>
                </a:lnTo>
                <a:lnTo>
                  <a:pt x="484" y="31"/>
                </a:lnTo>
                <a:lnTo>
                  <a:pt x="493" y="37"/>
                </a:lnTo>
                <a:lnTo>
                  <a:pt x="505" y="45"/>
                </a:lnTo>
                <a:lnTo>
                  <a:pt x="515" y="50"/>
                </a:lnTo>
                <a:lnTo>
                  <a:pt x="524" y="58"/>
                </a:lnTo>
                <a:lnTo>
                  <a:pt x="532" y="64"/>
                </a:lnTo>
                <a:lnTo>
                  <a:pt x="539" y="69"/>
                </a:lnTo>
                <a:lnTo>
                  <a:pt x="547" y="75"/>
                </a:lnTo>
                <a:lnTo>
                  <a:pt x="553" y="81"/>
                </a:lnTo>
                <a:lnTo>
                  <a:pt x="559" y="87"/>
                </a:lnTo>
                <a:lnTo>
                  <a:pt x="564" y="91"/>
                </a:lnTo>
                <a:lnTo>
                  <a:pt x="568" y="96"/>
                </a:lnTo>
                <a:lnTo>
                  <a:pt x="572" y="100"/>
                </a:lnTo>
                <a:lnTo>
                  <a:pt x="576" y="106"/>
                </a:lnTo>
                <a:lnTo>
                  <a:pt x="578" y="112"/>
                </a:lnTo>
                <a:lnTo>
                  <a:pt x="578" y="116"/>
                </a:lnTo>
                <a:lnTo>
                  <a:pt x="580" y="121"/>
                </a:lnTo>
                <a:lnTo>
                  <a:pt x="578" y="125"/>
                </a:lnTo>
                <a:lnTo>
                  <a:pt x="576" y="133"/>
                </a:lnTo>
                <a:lnTo>
                  <a:pt x="574" y="142"/>
                </a:lnTo>
                <a:lnTo>
                  <a:pt x="570" y="152"/>
                </a:lnTo>
                <a:lnTo>
                  <a:pt x="564" y="164"/>
                </a:lnTo>
                <a:lnTo>
                  <a:pt x="559" y="175"/>
                </a:lnTo>
                <a:lnTo>
                  <a:pt x="551" y="190"/>
                </a:lnTo>
                <a:lnTo>
                  <a:pt x="543" y="206"/>
                </a:lnTo>
                <a:lnTo>
                  <a:pt x="534" y="221"/>
                </a:lnTo>
                <a:lnTo>
                  <a:pt x="522" y="240"/>
                </a:lnTo>
                <a:lnTo>
                  <a:pt x="511" y="259"/>
                </a:lnTo>
                <a:lnTo>
                  <a:pt x="497" y="281"/>
                </a:lnTo>
                <a:lnTo>
                  <a:pt x="484" y="304"/>
                </a:lnTo>
                <a:lnTo>
                  <a:pt x="468" y="327"/>
                </a:lnTo>
                <a:lnTo>
                  <a:pt x="453" y="352"/>
                </a:lnTo>
                <a:lnTo>
                  <a:pt x="436" y="3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13"/>
          <p:cNvSpPr/>
          <p:nvPr/>
        </p:nvSpPr>
        <p:spPr>
          <a:xfrm>
            <a:off x="6124680" y="3262320"/>
            <a:ext cx="222120" cy="212760"/>
          </a:xfrm>
          <a:custGeom>
            <a:avLst/>
            <a:gdLst/>
            <a:ahLst/>
            <a:rect l="l" t="t" r="r" b="b"/>
            <a:pathLst>
              <a:path w="280" h="269">
                <a:moveTo>
                  <a:pt x="263" y="135"/>
                </a:moveTo>
                <a:lnTo>
                  <a:pt x="268" y="148"/>
                </a:lnTo>
                <a:lnTo>
                  <a:pt x="272" y="162"/>
                </a:lnTo>
                <a:lnTo>
                  <a:pt x="274" y="175"/>
                </a:lnTo>
                <a:lnTo>
                  <a:pt x="278" y="187"/>
                </a:lnTo>
                <a:lnTo>
                  <a:pt x="280" y="198"/>
                </a:lnTo>
                <a:lnTo>
                  <a:pt x="280" y="212"/>
                </a:lnTo>
                <a:lnTo>
                  <a:pt x="280" y="217"/>
                </a:lnTo>
                <a:lnTo>
                  <a:pt x="278" y="223"/>
                </a:lnTo>
                <a:lnTo>
                  <a:pt x="278" y="231"/>
                </a:lnTo>
                <a:lnTo>
                  <a:pt x="276" y="238"/>
                </a:lnTo>
                <a:lnTo>
                  <a:pt x="272" y="244"/>
                </a:lnTo>
                <a:lnTo>
                  <a:pt x="270" y="250"/>
                </a:lnTo>
                <a:lnTo>
                  <a:pt x="266" y="256"/>
                </a:lnTo>
                <a:lnTo>
                  <a:pt x="263" y="260"/>
                </a:lnTo>
                <a:lnTo>
                  <a:pt x="257" y="263"/>
                </a:lnTo>
                <a:lnTo>
                  <a:pt x="253" y="265"/>
                </a:lnTo>
                <a:lnTo>
                  <a:pt x="247" y="267"/>
                </a:lnTo>
                <a:lnTo>
                  <a:pt x="241" y="269"/>
                </a:lnTo>
                <a:lnTo>
                  <a:pt x="236" y="269"/>
                </a:lnTo>
                <a:lnTo>
                  <a:pt x="230" y="267"/>
                </a:lnTo>
                <a:lnTo>
                  <a:pt x="224" y="267"/>
                </a:lnTo>
                <a:lnTo>
                  <a:pt x="218" y="265"/>
                </a:lnTo>
                <a:lnTo>
                  <a:pt x="211" y="261"/>
                </a:lnTo>
                <a:lnTo>
                  <a:pt x="205" y="260"/>
                </a:lnTo>
                <a:lnTo>
                  <a:pt x="197" y="256"/>
                </a:lnTo>
                <a:lnTo>
                  <a:pt x="192" y="250"/>
                </a:lnTo>
                <a:lnTo>
                  <a:pt x="184" y="248"/>
                </a:lnTo>
                <a:lnTo>
                  <a:pt x="176" y="242"/>
                </a:lnTo>
                <a:lnTo>
                  <a:pt x="167" y="237"/>
                </a:lnTo>
                <a:lnTo>
                  <a:pt x="157" y="229"/>
                </a:lnTo>
                <a:lnTo>
                  <a:pt x="147" y="219"/>
                </a:lnTo>
                <a:lnTo>
                  <a:pt x="136" y="210"/>
                </a:lnTo>
                <a:lnTo>
                  <a:pt x="124" y="196"/>
                </a:lnTo>
                <a:lnTo>
                  <a:pt x="113" y="183"/>
                </a:lnTo>
                <a:lnTo>
                  <a:pt x="99" y="167"/>
                </a:lnTo>
                <a:lnTo>
                  <a:pt x="86" y="152"/>
                </a:lnTo>
                <a:lnTo>
                  <a:pt x="72" y="133"/>
                </a:lnTo>
                <a:lnTo>
                  <a:pt x="59" y="114"/>
                </a:lnTo>
                <a:lnTo>
                  <a:pt x="44" y="93"/>
                </a:lnTo>
                <a:lnTo>
                  <a:pt x="30" y="70"/>
                </a:lnTo>
                <a:lnTo>
                  <a:pt x="15" y="45"/>
                </a:lnTo>
                <a:lnTo>
                  <a:pt x="0" y="20"/>
                </a:lnTo>
                <a:lnTo>
                  <a:pt x="3" y="14"/>
                </a:lnTo>
                <a:lnTo>
                  <a:pt x="9" y="10"/>
                </a:lnTo>
                <a:lnTo>
                  <a:pt x="15" y="8"/>
                </a:lnTo>
                <a:lnTo>
                  <a:pt x="21" y="4"/>
                </a:lnTo>
                <a:lnTo>
                  <a:pt x="28" y="2"/>
                </a:lnTo>
                <a:lnTo>
                  <a:pt x="36" y="0"/>
                </a:lnTo>
                <a:lnTo>
                  <a:pt x="44" y="0"/>
                </a:lnTo>
                <a:lnTo>
                  <a:pt x="53" y="0"/>
                </a:lnTo>
                <a:lnTo>
                  <a:pt x="63" y="0"/>
                </a:lnTo>
                <a:lnTo>
                  <a:pt x="72" y="0"/>
                </a:lnTo>
                <a:lnTo>
                  <a:pt x="82" y="2"/>
                </a:lnTo>
                <a:lnTo>
                  <a:pt x="94" y="4"/>
                </a:lnTo>
                <a:lnTo>
                  <a:pt x="105" y="8"/>
                </a:lnTo>
                <a:lnTo>
                  <a:pt x="117" y="10"/>
                </a:lnTo>
                <a:lnTo>
                  <a:pt x="130" y="14"/>
                </a:lnTo>
                <a:lnTo>
                  <a:pt x="144" y="20"/>
                </a:lnTo>
                <a:lnTo>
                  <a:pt x="157" y="27"/>
                </a:lnTo>
                <a:lnTo>
                  <a:pt x="168" y="33"/>
                </a:lnTo>
                <a:lnTo>
                  <a:pt x="180" y="41"/>
                </a:lnTo>
                <a:lnTo>
                  <a:pt x="190" y="48"/>
                </a:lnTo>
                <a:lnTo>
                  <a:pt x="201" y="56"/>
                </a:lnTo>
                <a:lnTo>
                  <a:pt x="209" y="64"/>
                </a:lnTo>
                <a:lnTo>
                  <a:pt x="218" y="70"/>
                </a:lnTo>
                <a:lnTo>
                  <a:pt x="226" y="77"/>
                </a:lnTo>
                <a:lnTo>
                  <a:pt x="232" y="85"/>
                </a:lnTo>
                <a:lnTo>
                  <a:pt x="239" y="93"/>
                </a:lnTo>
                <a:lnTo>
                  <a:pt x="245" y="98"/>
                </a:lnTo>
                <a:lnTo>
                  <a:pt x="249" y="106"/>
                </a:lnTo>
                <a:lnTo>
                  <a:pt x="253" y="114"/>
                </a:lnTo>
                <a:lnTo>
                  <a:pt x="257" y="121"/>
                </a:lnTo>
                <a:lnTo>
                  <a:pt x="261" y="127"/>
                </a:lnTo>
                <a:lnTo>
                  <a:pt x="263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14"/>
          <p:cNvSpPr/>
          <p:nvPr/>
        </p:nvSpPr>
        <p:spPr>
          <a:xfrm>
            <a:off x="6105600" y="3005280"/>
            <a:ext cx="503280" cy="158760"/>
          </a:xfrm>
          <a:custGeom>
            <a:avLst/>
            <a:gdLst/>
            <a:ahLst/>
            <a:rect l="l" t="t" r="r" b="b"/>
            <a:pathLst>
              <a:path w="635" h="200">
                <a:moveTo>
                  <a:pt x="575" y="8"/>
                </a:moveTo>
                <a:lnTo>
                  <a:pt x="589" y="13"/>
                </a:lnTo>
                <a:lnTo>
                  <a:pt x="600" y="19"/>
                </a:lnTo>
                <a:lnTo>
                  <a:pt x="610" y="27"/>
                </a:lnTo>
                <a:lnTo>
                  <a:pt x="620" y="33"/>
                </a:lnTo>
                <a:lnTo>
                  <a:pt x="625" y="40"/>
                </a:lnTo>
                <a:lnTo>
                  <a:pt x="629" y="44"/>
                </a:lnTo>
                <a:lnTo>
                  <a:pt x="631" y="48"/>
                </a:lnTo>
                <a:lnTo>
                  <a:pt x="633" y="50"/>
                </a:lnTo>
                <a:lnTo>
                  <a:pt x="635" y="54"/>
                </a:lnTo>
                <a:lnTo>
                  <a:pt x="635" y="56"/>
                </a:lnTo>
                <a:lnTo>
                  <a:pt x="635" y="59"/>
                </a:lnTo>
                <a:lnTo>
                  <a:pt x="635" y="63"/>
                </a:lnTo>
                <a:lnTo>
                  <a:pt x="633" y="69"/>
                </a:lnTo>
                <a:lnTo>
                  <a:pt x="627" y="73"/>
                </a:lnTo>
                <a:lnTo>
                  <a:pt x="622" y="79"/>
                </a:lnTo>
                <a:lnTo>
                  <a:pt x="614" y="82"/>
                </a:lnTo>
                <a:lnTo>
                  <a:pt x="606" y="88"/>
                </a:lnTo>
                <a:lnTo>
                  <a:pt x="595" y="94"/>
                </a:lnTo>
                <a:lnTo>
                  <a:pt x="583" y="98"/>
                </a:lnTo>
                <a:lnTo>
                  <a:pt x="570" y="104"/>
                </a:lnTo>
                <a:lnTo>
                  <a:pt x="554" y="109"/>
                </a:lnTo>
                <a:lnTo>
                  <a:pt x="537" y="115"/>
                </a:lnTo>
                <a:lnTo>
                  <a:pt x="520" y="121"/>
                </a:lnTo>
                <a:lnTo>
                  <a:pt x="499" y="129"/>
                </a:lnTo>
                <a:lnTo>
                  <a:pt x="478" y="134"/>
                </a:lnTo>
                <a:lnTo>
                  <a:pt x="456" y="142"/>
                </a:lnTo>
                <a:lnTo>
                  <a:pt x="431" y="150"/>
                </a:lnTo>
                <a:lnTo>
                  <a:pt x="407" y="155"/>
                </a:lnTo>
                <a:lnTo>
                  <a:pt x="382" y="163"/>
                </a:lnTo>
                <a:lnTo>
                  <a:pt x="357" y="169"/>
                </a:lnTo>
                <a:lnTo>
                  <a:pt x="332" y="173"/>
                </a:lnTo>
                <a:lnTo>
                  <a:pt x="305" y="178"/>
                </a:lnTo>
                <a:lnTo>
                  <a:pt x="278" y="182"/>
                </a:lnTo>
                <a:lnTo>
                  <a:pt x="251" y="186"/>
                </a:lnTo>
                <a:lnTo>
                  <a:pt x="224" y="190"/>
                </a:lnTo>
                <a:lnTo>
                  <a:pt x="170" y="194"/>
                </a:lnTo>
                <a:lnTo>
                  <a:pt x="115" y="198"/>
                </a:lnTo>
                <a:lnTo>
                  <a:pt x="57" y="200"/>
                </a:lnTo>
                <a:lnTo>
                  <a:pt x="0" y="200"/>
                </a:lnTo>
                <a:lnTo>
                  <a:pt x="0" y="155"/>
                </a:lnTo>
                <a:lnTo>
                  <a:pt x="0" y="111"/>
                </a:lnTo>
                <a:lnTo>
                  <a:pt x="32" y="102"/>
                </a:lnTo>
                <a:lnTo>
                  <a:pt x="63" y="94"/>
                </a:lnTo>
                <a:lnTo>
                  <a:pt x="94" y="86"/>
                </a:lnTo>
                <a:lnTo>
                  <a:pt x="122" y="79"/>
                </a:lnTo>
                <a:lnTo>
                  <a:pt x="151" y="71"/>
                </a:lnTo>
                <a:lnTo>
                  <a:pt x="180" y="65"/>
                </a:lnTo>
                <a:lnTo>
                  <a:pt x="205" y="58"/>
                </a:lnTo>
                <a:lnTo>
                  <a:pt x="232" y="52"/>
                </a:lnTo>
                <a:lnTo>
                  <a:pt x="257" y="46"/>
                </a:lnTo>
                <a:lnTo>
                  <a:pt x="280" y="40"/>
                </a:lnTo>
                <a:lnTo>
                  <a:pt x="303" y="34"/>
                </a:lnTo>
                <a:lnTo>
                  <a:pt x="326" y="31"/>
                </a:lnTo>
                <a:lnTo>
                  <a:pt x="347" y="27"/>
                </a:lnTo>
                <a:lnTo>
                  <a:pt x="366" y="21"/>
                </a:lnTo>
                <a:lnTo>
                  <a:pt x="385" y="19"/>
                </a:lnTo>
                <a:lnTo>
                  <a:pt x="405" y="15"/>
                </a:lnTo>
                <a:lnTo>
                  <a:pt x="422" y="11"/>
                </a:lnTo>
                <a:lnTo>
                  <a:pt x="439" y="10"/>
                </a:lnTo>
                <a:lnTo>
                  <a:pt x="455" y="6"/>
                </a:lnTo>
                <a:lnTo>
                  <a:pt x="470" y="4"/>
                </a:lnTo>
                <a:lnTo>
                  <a:pt x="483" y="2"/>
                </a:lnTo>
                <a:lnTo>
                  <a:pt x="497" y="2"/>
                </a:lnTo>
                <a:lnTo>
                  <a:pt x="508" y="0"/>
                </a:lnTo>
                <a:lnTo>
                  <a:pt x="520" y="0"/>
                </a:lnTo>
                <a:lnTo>
                  <a:pt x="529" y="0"/>
                </a:lnTo>
                <a:lnTo>
                  <a:pt x="539" y="0"/>
                </a:lnTo>
                <a:lnTo>
                  <a:pt x="547" y="0"/>
                </a:lnTo>
                <a:lnTo>
                  <a:pt x="554" y="0"/>
                </a:lnTo>
                <a:lnTo>
                  <a:pt x="562" y="2"/>
                </a:lnTo>
                <a:lnTo>
                  <a:pt x="568" y="4"/>
                </a:lnTo>
                <a:lnTo>
                  <a:pt x="572" y="6"/>
                </a:lnTo>
                <a:lnTo>
                  <a:pt x="575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15"/>
          <p:cNvSpPr/>
          <p:nvPr/>
        </p:nvSpPr>
        <p:spPr>
          <a:xfrm>
            <a:off x="5703840" y="2814480"/>
            <a:ext cx="573120" cy="739800"/>
          </a:xfrm>
          <a:custGeom>
            <a:avLst/>
            <a:gdLst/>
            <a:ahLst/>
            <a:rect l="l" t="t" r="r" b="b"/>
            <a:pathLst>
              <a:path w="722" h="933">
                <a:moveTo>
                  <a:pt x="2" y="931"/>
                </a:moveTo>
                <a:lnTo>
                  <a:pt x="0" y="927"/>
                </a:lnTo>
                <a:lnTo>
                  <a:pt x="0" y="923"/>
                </a:lnTo>
                <a:lnTo>
                  <a:pt x="2" y="920"/>
                </a:lnTo>
                <a:lnTo>
                  <a:pt x="4" y="914"/>
                </a:lnTo>
                <a:lnTo>
                  <a:pt x="7" y="906"/>
                </a:lnTo>
                <a:lnTo>
                  <a:pt x="13" y="898"/>
                </a:lnTo>
                <a:lnTo>
                  <a:pt x="19" y="889"/>
                </a:lnTo>
                <a:lnTo>
                  <a:pt x="27" y="879"/>
                </a:lnTo>
                <a:lnTo>
                  <a:pt x="36" y="868"/>
                </a:lnTo>
                <a:lnTo>
                  <a:pt x="48" y="854"/>
                </a:lnTo>
                <a:lnTo>
                  <a:pt x="59" y="841"/>
                </a:lnTo>
                <a:lnTo>
                  <a:pt x="71" y="825"/>
                </a:lnTo>
                <a:lnTo>
                  <a:pt x="86" y="808"/>
                </a:lnTo>
                <a:lnTo>
                  <a:pt x="100" y="791"/>
                </a:lnTo>
                <a:lnTo>
                  <a:pt x="117" y="772"/>
                </a:lnTo>
                <a:lnTo>
                  <a:pt x="134" y="751"/>
                </a:lnTo>
                <a:lnTo>
                  <a:pt x="165" y="706"/>
                </a:lnTo>
                <a:lnTo>
                  <a:pt x="194" y="666"/>
                </a:lnTo>
                <a:lnTo>
                  <a:pt x="222" y="626"/>
                </a:lnTo>
                <a:lnTo>
                  <a:pt x="249" y="587"/>
                </a:lnTo>
                <a:lnTo>
                  <a:pt x="276" y="549"/>
                </a:lnTo>
                <a:lnTo>
                  <a:pt x="303" y="513"/>
                </a:lnTo>
                <a:lnTo>
                  <a:pt x="326" y="476"/>
                </a:lnTo>
                <a:lnTo>
                  <a:pt x="349" y="442"/>
                </a:lnTo>
                <a:lnTo>
                  <a:pt x="366" y="409"/>
                </a:lnTo>
                <a:lnTo>
                  <a:pt x="384" y="376"/>
                </a:lnTo>
                <a:lnTo>
                  <a:pt x="399" y="346"/>
                </a:lnTo>
                <a:lnTo>
                  <a:pt x="414" y="317"/>
                </a:lnTo>
                <a:lnTo>
                  <a:pt x="428" y="288"/>
                </a:lnTo>
                <a:lnTo>
                  <a:pt x="441" y="261"/>
                </a:lnTo>
                <a:lnTo>
                  <a:pt x="457" y="236"/>
                </a:lnTo>
                <a:lnTo>
                  <a:pt x="470" y="211"/>
                </a:lnTo>
                <a:lnTo>
                  <a:pt x="474" y="200"/>
                </a:lnTo>
                <a:lnTo>
                  <a:pt x="478" y="188"/>
                </a:lnTo>
                <a:lnTo>
                  <a:pt x="480" y="177"/>
                </a:lnTo>
                <a:lnTo>
                  <a:pt x="483" y="165"/>
                </a:lnTo>
                <a:lnTo>
                  <a:pt x="487" y="144"/>
                </a:lnTo>
                <a:lnTo>
                  <a:pt x="489" y="125"/>
                </a:lnTo>
                <a:lnTo>
                  <a:pt x="489" y="106"/>
                </a:lnTo>
                <a:lnTo>
                  <a:pt x="487" y="88"/>
                </a:lnTo>
                <a:lnTo>
                  <a:pt x="485" y="71"/>
                </a:lnTo>
                <a:lnTo>
                  <a:pt x="482" y="58"/>
                </a:lnTo>
                <a:lnTo>
                  <a:pt x="478" y="48"/>
                </a:lnTo>
                <a:lnTo>
                  <a:pt x="474" y="40"/>
                </a:lnTo>
                <a:lnTo>
                  <a:pt x="474" y="33"/>
                </a:lnTo>
                <a:lnTo>
                  <a:pt x="474" y="27"/>
                </a:lnTo>
                <a:lnTo>
                  <a:pt x="476" y="21"/>
                </a:lnTo>
                <a:lnTo>
                  <a:pt x="478" y="17"/>
                </a:lnTo>
                <a:lnTo>
                  <a:pt x="480" y="15"/>
                </a:lnTo>
                <a:lnTo>
                  <a:pt x="482" y="14"/>
                </a:lnTo>
                <a:lnTo>
                  <a:pt x="485" y="10"/>
                </a:lnTo>
                <a:lnTo>
                  <a:pt x="489" y="8"/>
                </a:lnTo>
                <a:lnTo>
                  <a:pt x="493" y="6"/>
                </a:lnTo>
                <a:lnTo>
                  <a:pt x="499" y="4"/>
                </a:lnTo>
                <a:lnTo>
                  <a:pt x="503" y="2"/>
                </a:lnTo>
                <a:lnTo>
                  <a:pt x="508" y="0"/>
                </a:lnTo>
                <a:lnTo>
                  <a:pt x="516" y="0"/>
                </a:lnTo>
                <a:lnTo>
                  <a:pt x="522" y="0"/>
                </a:lnTo>
                <a:lnTo>
                  <a:pt x="530" y="0"/>
                </a:lnTo>
                <a:lnTo>
                  <a:pt x="537" y="2"/>
                </a:lnTo>
                <a:lnTo>
                  <a:pt x="545" y="4"/>
                </a:lnTo>
                <a:lnTo>
                  <a:pt x="564" y="8"/>
                </a:lnTo>
                <a:lnTo>
                  <a:pt x="583" y="14"/>
                </a:lnTo>
                <a:lnTo>
                  <a:pt x="602" y="21"/>
                </a:lnTo>
                <a:lnTo>
                  <a:pt x="626" y="31"/>
                </a:lnTo>
                <a:lnTo>
                  <a:pt x="635" y="37"/>
                </a:lnTo>
                <a:lnTo>
                  <a:pt x="647" y="40"/>
                </a:lnTo>
                <a:lnTo>
                  <a:pt x="656" y="46"/>
                </a:lnTo>
                <a:lnTo>
                  <a:pt x="666" y="50"/>
                </a:lnTo>
                <a:lnTo>
                  <a:pt x="674" y="56"/>
                </a:lnTo>
                <a:lnTo>
                  <a:pt x="681" y="60"/>
                </a:lnTo>
                <a:lnTo>
                  <a:pt x="689" y="65"/>
                </a:lnTo>
                <a:lnTo>
                  <a:pt x="695" y="69"/>
                </a:lnTo>
                <a:lnTo>
                  <a:pt x="700" y="75"/>
                </a:lnTo>
                <a:lnTo>
                  <a:pt x="706" y="79"/>
                </a:lnTo>
                <a:lnTo>
                  <a:pt x="710" y="85"/>
                </a:lnTo>
                <a:lnTo>
                  <a:pt x="714" y="88"/>
                </a:lnTo>
                <a:lnTo>
                  <a:pt x="718" y="94"/>
                </a:lnTo>
                <a:lnTo>
                  <a:pt x="720" y="98"/>
                </a:lnTo>
                <a:lnTo>
                  <a:pt x="722" y="104"/>
                </a:lnTo>
                <a:lnTo>
                  <a:pt x="722" y="108"/>
                </a:lnTo>
                <a:lnTo>
                  <a:pt x="722" y="113"/>
                </a:lnTo>
                <a:lnTo>
                  <a:pt x="720" y="119"/>
                </a:lnTo>
                <a:lnTo>
                  <a:pt x="718" y="125"/>
                </a:lnTo>
                <a:lnTo>
                  <a:pt x="716" y="133"/>
                </a:lnTo>
                <a:lnTo>
                  <a:pt x="714" y="140"/>
                </a:lnTo>
                <a:lnTo>
                  <a:pt x="710" y="148"/>
                </a:lnTo>
                <a:lnTo>
                  <a:pt x="706" y="157"/>
                </a:lnTo>
                <a:lnTo>
                  <a:pt x="702" y="165"/>
                </a:lnTo>
                <a:lnTo>
                  <a:pt x="698" y="177"/>
                </a:lnTo>
                <a:lnTo>
                  <a:pt x="693" y="186"/>
                </a:lnTo>
                <a:lnTo>
                  <a:pt x="687" y="198"/>
                </a:lnTo>
                <a:lnTo>
                  <a:pt x="679" y="209"/>
                </a:lnTo>
                <a:lnTo>
                  <a:pt x="674" y="221"/>
                </a:lnTo>
                <a:lnTo>
                  <a:pt x="666" y="234"/>
                </a:lnTo>
                <a:lnTo>
                  <a:pt x="658" y="248"/>
                </a:lnTo>
                <a:lnTo>
                  <a:pt x="649" y="263"/>
                </a:lnTo>
                <a:lnTo>
                  <a:pt x="631" y="296"/>
                </a:lnTo>
                <a:lnTo>
                  <a:pt x="610" y="330"/>
                </a:lnTo>
                <a:lnTo>
                  <a:pt x="589" y="365"/>
                </a:lnTo>
                <a:lnTo>
                  <a:pt x="566" y="399"/>
                </a:lnTo>
                <a:lnTo>
                  <a:pt x="541" y="434"/>
                </a:lnTo>
                <a:lnTo>
                  <a:pt x="516" y="470"/>
                </a:lnTo>
                <a:lnTo>
                  <a:pt x="487" y="507"/>
                </a:lnTo>
                <a:lnTo>
                  <a:pt x="472" y="526"/>
                </a:lnTo>
                <a:lnTo>
                  <a:pt x="457" y="545"/>
                </a:lnTo>
                <a:lnTo>
                  <a:pt x="441" y="566"/>
                </a:lnTo>
                <a:lnTo>
                  <a:pt x="426" y="587"/>
                </a:lnTo>
                <a:lnTo>
                  <a:pt x="409" y="607"/>
                </a:lnTo>
                <a:lnTo>
                  <a:pt x="393" y="628"/>
                </a:lnTo>
                <a:lnTo>
                  <a:pt x="376" y="647"/>
                </a:lnTo>
                <a:lnTo>
                  <a:pt x="359" y="664"/>
                </a:lnTo>
                <a:lnTo>
                  <a:pt x="341" y="683"/>
                </a:lnTo>
                <a:lnTo>
                  <a:pt x="324" y="701"/>
                </a:lnTo>
                <a:lnTo>
                  <a:pt x="290" y="735"/>
                </a:lnTo>
                <a:lnTo>
                  <a:pt x="253" y="766"/>
                </a:lnTo>
                <a:lnTo>
                  <a:pt x="217" y="797"/>
                </a:lnTo>
                <a:lnTo>
                  <a:pt x="182" y="827"/>
                </a:lnTo>
                <a:lnTo>
                  <a:pt x="163" y="841"/>
                </a:lnTo>
                <a:lnTo>
                  <a:pt x="144" y="854"/>
                </a:lnTo>
                <a:lnTo>
                  <a:pt x="126" y="868"/>
                </a:lnTo>
                <a:lnTo>
                  <a:pt x="109" y="879"/>
                </a:lnTo>
                <a:lnTo>
                  <a:pt x="94" y="889"/>
                </a:lnTo>
                <a:lnTo>
                  <a:pt x="80" y="898"/>
                </a:lnTo>
                <a:lnTo>
                  <a:pt x="67" y="906"/>
                </a:lnTo>
                <a:lnTo>
                  <a:pt x="55" y="914"/>
                </a:lnTo>
                <a:lnTo>
                  <a:pt x="46" y="920"/>
                </a:lnTo>
                <a:lnTo>
                  <a:pt x="36" y="923"/>
                </a:lnTo>
                <a:lnTo>
                  <a:pt x="27" y="927"/>
                </a:lnTo>
                <a:lnTo>
                  <a:pt x="19" y="931"/>
                </a:lnTo>
                <a:lnTo>
                  <a:pt x="13" y="933"/>
                </a:lnTo>
                <a:lnTo>
                  <a:pt x="9" y="933"/>
                </a:lnTo>
                <a:lnTo>
                  <a:pt x="4" y="931"/>
                </a:lnTo>
                <a:lnTo>
                  <a:pt x="2" y="9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6:31:17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