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applause.wav" ContentType="audio/x-wav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1AF6E-9751-4314-A4DA-A22ED87AD0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6559B-F834-4274-8BE0-365A32AEE3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A12B8-6141-4793-97BA-8CB28E4727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D3A10-0B76-4D9D-8934-ADAD2FFB3A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E9C11-FD57-474D-AB15-1DE1BEE1E7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D09E5-EBE3-434B-8AED-5BA66140C1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DF183-A49E-405C-828E-65E4C2D105F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C2270-AFC2-4295-AEDF-7B436DA089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5B108-6506-4A50-A8CD-185CE87937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95547-E8D7-4417-AA59-54B3994D14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09C31-C594-49EB-B75B-DAB7293552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083EB-45F5-453E-95D5-C00EBE1661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FFDBA-03D0-41C7-BC41-8F9DA5172C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D9ED4-C17D-49A7-B991-FDEA856692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FFB-161E-4945-8D23-0F2D37C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2E-E843-445F-B95C-54BB4057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67E-9E61-40A1-906E-F0ADFB24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690-A8ED-48DB-9A3C-850E33FE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ABD-8B2C-4FC0-84F5-3DF30CB6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129-F1AC-4F54-8757-472514B4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FC7-B409-4EA4-ABC7-647DB9B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34F-B425-4D6A-B73C-45A43DD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E00-CC93-439F-A906-025F4DD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506-A02A-481A-88AE-35057F4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D3D-30B3-4A53-B7BF-97951EF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295-A761-4CA9-8374-A1BEAF8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0C3A0-7E97-4AC6-932E-7C4F557A1AC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425680" y="2322360"/>
            <a:ext cx="4292640" cy="29386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2979720" y="3159000"/>
            <a:ext cx="3186000" cy="1150920"/>
            <a:chOff x="297972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20400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88548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297972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714760" y="905040"/>
            <a:ext cx="4819680" cy="1180800"/>
            <a:chOff x="27147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9736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夹竹桃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714760" y="905040"/>
              <a:ext cx="1180800" cy="1180800"/>
              <a:chOff x="27147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7147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9376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横画书写紧凑，撇、捺舒展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矩形 3"/>
          <p:cNvSpPr/>
          <p:nvPr/>
        </p:nvSpPr>
        <p:spPr>
          <a:xfrm>
            <a:off x="1971720" y="1868400"/>
            <a:ext cx="154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è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73"/>
          <p:cNvSpPr/>
          <p:nvPr/>
        </p:nvSpPr>
        <p:spPr>
          <a:xfrm>
            <a:off x="6515280" y="3862440"/>
            <a:ext cx="199800" cy="1244520"/>
          </a:xfrm>
          <a:custGeom>
            <a:avLst/>
            <a:gdLst/>
            <a:ahLst/>
            <a:rect l="l" t="t" r="r" b="b"/>
            <a:pathLst>
              <a:path w="251" h="1566">
                <a:moveTo>
                  <a:pt x="19" y="76"/>
                </a:moveTo>
                <a:lnTo>
                  <a:pt x="15" y="71"/>
                </a:lnTo>
                <a:lnTo>
                  <a:pt x="11" y="67"/>
                </a:lnTo>
                <a:lnTo>
                  <a:pt x="7" y="63"/>
                </a:lnTo>
                <a:lnTo>
                  <a:pt x="5" y="59"/>
                </a:lnTo>
                <a:lnTo>
                  <a:pt x="2" y="50"/>
                </a:lnTo>
                <a:lnTo>
                  <a:pt x="0" y="42"/>
                </a:lnTo>
                <a:lnTo>
                  <a:pt x="0" y="32"/>
                </a:lnTo>
                <a:lnTo>
                  <a:pt x="0" y="25"/>
                </a:lnTo>
                <a:lnTo>
                  <a:pt x="4" y="15"/>
                </a:lnTo>
                <a:lnTo>
                  <a:pt x="7" y="7"/>
                </a:lnTo>
                <a:lnTo>
                  <a:pt x="9" y="5"/>
                </a:lnTo>
                <a:lnTo>
                  <a:pt x="11" y="4"/>
                </a:lnTo>
                <a:lnTo>
                  <a:pt x="15" y="2"/>
                </a:lnTo>
                <a:lnTo>
                  <a:pt x="21" y="2"/>
                </a:lnTo>
                <a:lnTo>
                  <a:pt x="25" y="0"/>
                </a:lnTo>
                <a:lnTo>
                  <a:pt x="30" y="0"/>
                </a:lnTo>
                <a:lnTo>
                  <a:pt x="38" y="0"/>
                </a:lnTo>
                <a:lnTo>
                  <a:pt x="44" y="0"/>
                </a:lnTo>
                <a:lnTo>
                  <a:pt x="53" y="0"/>
                </a:lnTo>
                <a:lnTo>
                  <a:pt x="61" y="0"/>
                </a:lnTo>
                <a:lnTo>
                  <a:pt x="71" y="0"/>
                </a:lnTo>
                <a:lnTo>
                  <a:pt x="82" y="2"/>
                </a:lnTo>
                <a:lnTo>
                  <a:pt x="94" y="2"/>
                </a:lnTo>
                <a:lnTo>
                  <a:pt x="107" y="4"/>
                </a:lnTo>
                <a:lnTo>
                  <a:pt x="121" y="5"/>
                </a:lnTo>
                <a:lnTo>
                  <a:pt x="134" y="7"/>
                </a:lnTo>
                <a:lnTo>
                  <a:pt x="148" y="11"/>
                </a:lnTo>
                <a:lnTo>
                  <a:pt x="159" y="17"/>
                </a:lnTo>
                <a:lnTo>
                  <a:pt x="171" y="21"/>
                </a:lnTo>
                <a:lnTo>
                  <a:pt x="180" y="25"/>
                </a:lnTo>
                <a:lnTo>
                  <a:pt x="190" y="29"/>
                </a:lnTo>
                <a:lnTo>
                  <a:pt x="199" y="32"/>
                </a:lnTo>
                <a:lnTo>
                  <a:pt x="207" y="38"/>
                </a:lnTo>
                <a:lnTo>
                  <a:pt x="215" y="42"/>
                </a:lnTo>
                <a:lnTo>
                  <a:pt x="222" y="46"/>
                </a:lnTo>
                <a:lnTo>
                  <a:pt x="228" y="50"/>
                </a:lnTo>
                <a:lnTo>
                  <a:pt x="234" y="53"/>
                </a:lnTo>
                <a:lnTo>
                  <a:pt x="238" y="59"/>
                </a:lnTo>
                <a:lnTo>
                  <a:pt x="242" y="63"/>
                </a:lnTo>
                <a:lnTo>
                  <a:pt x="245" y="67"/>
                </a:lnTo>
                <a:lnTo>
                  <a:pt x="249" y="71"/>
                </a:lnTo>
                <a:lnTo>
                  <a:pt x="251" y="76"/>
                </a:lnTo>
                <a:lnTo>
                  <a:pt x="251" y="80"/>
                </a:lnTo>
                <a:lnTo>
                  <a:pt x="251" y="86"/>
                </a:lnTo>
                <a:lnTo>
                  <a:pt x="249" y="92"/>
                </a:lnTo>
                <a:lnTo>
                  <a:pt x="249" y="100"/>
                </a:lnTo>
                <a:lnTo>
                  <a:pt x="247" y="107"/>
                </a:lnTo>
                <a:lnTo>
                  <a:pt x="247" y="115"/>
                </a:lnTo>
                <a:lnTo>
                  <a:pt x="245" y="124"/>
                </a:lnTo>
                <a:lnTo>
                  <a:pt x="243" y="136"/>
                </a:lnTo>
                <a:lnTo>
                  <a:pt x="242" y="146"/>
                </a:lnTo>
                <a:lnTo>
                  <a:pt x="240" y="159"/>
                </a:lnTo>
                <a:lnTo>
                  <a:pt x="238" y="171"/>
                </a:lnTo>
                <a:lnTo>
                  <a:pt x="236" y="184"/>
                </a:lnTo>
                <a:lnTo>
                  <a:pt x="234" y="199"/>
                </a:lnTo>
                <a:lnTo>
                  <a:pt x="232" y="215"/>
                </a:lnTo>
                <a:lnTo>
                  <a:pt x="230" y="230"/>
                </a:lnTo>
                <a:lnTo>
                  <a:pt x="228" y="247"/>
                </a:lnTo>
                <a:lnTo>
                  <a:pt x="226" y="265"/>
                </a:lnTo>
                <a:lnTo>
                  <a:pt x="224" y="284"/>
                </a:lnTo>
                <a:lnTo>
                  <a:pt x="222" y="307"/>
                </a:lnTo>
                <a:lnTo>
                  <a:pt x="220" y="318"/>
                </a:lnTo>
                <a:lnTo>
                  <a:pt x="220" y="330"/>
                </a:lnTo>
                <a:lnTo>
                  <a:pt x="219" y="343"/>
                </a:lnTo>
                <a:lnTo>
                  <a:pt x="219" y="355"/>
                </a:lnTo>
                <a:lnTo>
                  <a:pt x="217" y="368"/>
                </a:lnTo>
                <a:lnTo>
                  <a:pt x="217" y="384"/>
                </a:lnTo>
                <a:lnTo>
                  <a:pt x="215" y="397"/>
                </a:lnTo>
                <a:lnTo>
                  <a:pt x="215" y="412"/>
                </a:lnTo>
                <a:lnTo>
                  <a:pt x="213" y="428"/>
                </a:lnTo>
                <a:lnTo>
                  <a:pt x="213" y="443"/>
                </a:lnTo>
                <a:lnTo>
                  <a:pt x="211" y="460"/>
                </a:lnTo>
                <a:lnTo>
                  <a:pt x="211" y="478"/>
                </a:lnTo>
                <a:lnTo>
                  <a:pt x="209" y="495"/>
                </a:lnTo>
                <a:lnTo>
                  <a:pt x="209" y="512"/>
                </a:lnTo>
                <a:lnTo>
                  <a:pt x="209" y="531"/>
                </a:lnTo>
                <a:lnTo>
                  <a:pt x="207" y="551"/>
                </a:lnTo>
                <a:lnTo>
                  <a:pt x="207" y="570"/>
                </a:lnTo>
                <a:lnTo>
                  <a:pt x="207" y="591"/>
                </a:lnTo>
                <a:lnTo>
                  <a:pt x="207" y="610"/>
                </a:lnTo>
                <a:lnTo>
                  <a:pt x="205" y="631"/>
                </a:lnTo>
                <a:lnTo>
                  <a:pt x="205" y="654"/>
                </a:lnTo>
                <a:lnTo>
                  <a:pt x="205" y="675"/>
                </a:lnTo>
                <a:lnTo>
                  <a:pt x="205" y="698"/>
                </a:lnTo>
                <a:lnTo>
                  <a:pt x="205" y="721"/>
                </a:lnTo>
                <a:lnTo>
                  <a:pt x="205" y="744"/>
                </a:lnTo>
                <a:lnTo>
                  <a:pt x="205" y="769"/>
                </a:lnTo>
                <a:lnTo>
                  <a:pt x="205" y="817"/>
                </a:lnTo>
                <a:lnTo>
                  <a:pt x="203" y="865"/>
                </a:lnTo>
                <a:lnTo>
                  <a:pt x="203" y="911"/>
                </a:lnTo>
                <a:lnTo>
                  <a:pt x="203" y="956"/>
                </a:lnTo>
                <a:lnTo>
                  <a:pt x="201" y="998"/>
                </a:lnTo>
                <a:lnTo>
                  <a:pt x="199" y="1040"/>
                </a:lnTo>
                <a:lnTo>
                  <a:pt x="199" y="1078"/>
                </a:lnTo>
                <a:lnTo>
                  <a:pt x="197" y="1119"/>
                </a:lnTo>
                <a:lnTo>
                  <a:pt x="196" y="1155"/>
                </a:lnTo>
                <a:lnTo>
                  <a:pt x="194" y="1190"/>
                </a:lnTo>
                <a:lnTo>
                  <a:pt x="192" y="1224"/>
                </a:lnTo>
                <a:lnTo>
                  <a:pt x="190" y="1257"/>
                </a:lnTo>
                <a:lnTo>
                  <a:pt x="188" y="1288"/>
                </a:lnTo>
                <a:lnTo>
                  <a:pt x="186" y="1318"/>
                </a:lnTo>
                <a:lnTo>
                  <a:pt x="184" y="1345"/>
                </a:lnTo>
                <a:lnTo>
                  <a:pt x="182" y="1372"/>
                </a:lnTo>
                <a:lnTo>
                  <a:pt x="180" y="1395"/>
                </a:lnTo>
                <a:lnTo>
                  <a:pt x="176" y="1416"/>
                </a:lnTo>
                <a:lnTo>
                  <a:pt x="174" y="1437"/>
                </a:lnTo>
                <a:lnTo>
                  <a:pt x="171" y="1455"/>
                </a:lnTo>
                <a:lnTo>
                  <a:pt x="169" y="1472"/>
                </a:lnTo>
                <a:lnTo>
                  <a:pt x="165" y="1489"/>
                </a:lnTo>
                <a:lnTo>
                  <a:pt x="161" y="1503"/>
                </a:lnTo>
                <a:lnTo>
                  <a:pt x="159" y="1516"/>
                </a:lnTo>
                <a:lnTo>
                  <a:pt x="155" y="1528"/>
                </a:lnTo>
                <a:lnTo>
                  <a:pt x="151" y="1537"/>
                </a:lnTo>
                <a:lnTo>
                  <a:pt x="149" y="1547"/>
                </a:lnTo>
                <a:lnTo>
                  <a:pt x="146" y="1553"/>
                </a:lnTo>
                <a:lnTo>
                  <a:pt x="142" y="1558"/>
                </a:lnTo>
                <a:lnTo>
                  <a:pt x="140" y="1562"/>
                </a:lnTo>
                <a:lnTo>
                  <a:pt x="138" y="1566"/>
                </a:lnTo>
                <a:lnTo>
                  <a:pt x="134" y="1566"/>
                </a:lnTo>
                <a:lnTo>
                  <a:pt x="130" y="1566"/>
                </a:lnTo>
                <a:lnTo>
                  <a:pt x="126" y="1564"/>
                </a:lnTo>
                <a:lnTo>
                  <a:pt x="123" y="1560"/>
                </a:lnTo>
                <a:lnTo>
                  <a:pt x="117" y="1555"/>
                </a:lnTo>
                <a:lnTo>
                  <a:pt x="113" y="1549"/>
                </a:lnTo>
                <a:lnTo>
                  <a:pt x="109" y="1541"/>
                </a:lnTo>
                <a:lnTo>
                  <a:pt x="105" y="1531"/>
                </a:lnTo>
                <a:lnTo>
                  <a:pt x="101" y="1522"/>
                </a:lnTo>
                <a:lnTo>
                  <a:pt x="98" y="1510"/>
                </a:lnTo>
                <a:lnTo>
                  <a:pt x="94" y="1497"/>
                </a:lnTo>
                <a:lnTo>
                  <a:pt x="90" y="1482"/>
                </a:lnTo>
                <a:lnTo>
                  <a:pt x="88" y="1464"/>
                </a:lnTo>
                <a:lnTo>
                  <a:pt x="84" y="1447"/>
                </a:lnTo>
                <a:lnTo>
                  <a:pt x="82" y="1428"/>
                </a:lnTo>
                <a:lnTo>
                  <a:pt x="78" y="1407"/>
                </a:lnTo>
                <a:lnTo>
                  <a:pt x="76" y="1384"/>
                </a:lnTo>
                <a:lnTo>
                  <a:pt x="75" y="1372"/>
                </a:lnTo>
                <a:lnTo>
                  <a:pt x="75" y="1359"/>
                </a:lnTo>
                <a:lnTo>
                  <a:pt x="73" y="1345"/>
                </a:lnTo>
                <a:lnTo>
                  <a:pt x="73" y="1332"/>
                </a:lnTo>
                <a:lnTo>
                  <a:pt x="71" y="1317"/>
                </a:lnTo>
                <a:lnTo>
                  <a:pt x="71" y="1301"/>
                </a:lnTo>
                <a:lnTo>
                  <a:pt x="69" y="1286"/>
                </a:lnTo>
                <a:lnTo>
                  <a:pt x="69" y="1269"/>
                </a:lnTo>
                <a:lnTo>
                  <a:pt x="67" y="1251"/>
                </a:lnTo>
                <a:lnTo>
                  <a:pt x="67" y="1232"/>
                </a:lnTo>
                <a:lnTo>
                  <a:pt x="65" y="1215"/>
                </a:lnTo>
                <a:lnTo>
                  <a:pt x="65" y="1194"/>
                </a:lnTo>
                <a:lnTo>
                  <a:pt x="65" y="1174"/>
                </a:lnTo>
                <a:lnTo>
                  <a:pt x="63" y="1153"/>
                </a:lnTo>
                <a:lnTo>
                  <a:pt x="63" y="1132"/>
                </a:lnTo>
                <a:lnTo>
                  <a:pt x="63" y="1109"/>
                </a:lnTo>
                <a:lnTo>
                  <a:pt x="61" y="1086"/>
                </a:lnTo>
                <a:lnTo>
                  <a:pt x="61" y="1063"/>
                </a:lnTo>
                <a:lnTo>
                  <a:pt x="61" y="1038"/>
                </a:lnTo>
                <a:lnTo>
                  <a:pt x="61" y="1013"/>
                </a:lnTo>
                <a:lnTo>
                  <a:pt x="61" y="988"/>
                </a:lnTo>
                <a:lnTo>
                  <a:pt x="61" y="961"/>
                </a:lnTo>
                <a:lnTo>
                  <a:pt x="61" y="935"/>
                </a:lnTo>
                <a:lnTo>
                  <a:pt x="61" y="906"/>
                </a:lnTo>
                <a:lnTo>
                  <a:pt x="61" y="877"/>
                </a:lnTo>
                <a:lnTo>
                  <a:pt x="61" y="848"/>
                </a:lnTo>
                <a:lnTo>
                  <a:pt x="61" y="817"/>
                </a:lnTo>
                <a:lnTo>
                  <a:pt x="61" y="787"/>
                </a:lnTo>
                <a:lnTo>
                  <a:pt x="63" y="754"/>
                </a:lnTo>
                <a:lnTo>
                  <a:pt x="63" y="723"/>
                </a:lnTo>
                <a:lnTo>
                  <a:pt x="63" y="689"/>
                </a:lnTo>
                <a:lnTo>
                  <a:pt x="65" y="656"/>
                </a:lnTo>
                <a:lnTo>
                  <a:pt x="65" y="622"/>
                </a:lnTo>
                <a:lnTo>
                  <a:pt x="65" y="589"/>
                </a:lnTo>
                <a:lnTo>
                  <a:pt x="65" y="558"/>
                </a:lnTo>
                <a:lnTo>
                  <a:pt x="65" y="528"/>
                </a:lnTo>
                <a:lnTo>
                  <a:pt x="65" y="497"/>
                </a:lnTo>
                <a:lnTo>
                  <a:pt x="63" y="470"/>
                </a:lnTo>
                <a:lnTo>
                  <a:pt x="63" y="441"/>
                </a:lnTo>
                <a:lnTo>
                  <a:pt x="63" y="414"/>
                </a:lnTo>
                <a:lnTo>
                  <a:pt x="61" y="389"/>
                </a:lnTo>
                <a:lnTo>
                  <a:pt x="61" y="364"/>
                </a:lnTo>
                <a:lnTo>
                  <a:pt x="61" y="341"/>
                </a:lnTo>
                <a:lnTo>
                  <a:pt x="59" y="318"/>
                </a:lnTo>
                <a:lnTo>
                  <a:pt x="59" y="297"/>
                </a:lnTo>
                <a:lnTo>
                  <a:pt x="57" y="276"/>
                </a:lnTo>
                <a:lnTo>
                  <a:pt x="55" y="257"/>
                </a:lnTo>
                <a:lnTo>
                  <a:pt x="55" y="238"/>
                </a:lnTo>
                <a:lnTo>
                  <a:pt x="53" y="220"/>
                </a:lnTo>
                <a:lnTo>
                  <a:pt x="52" y="203"/>
                </a:lnTo>
                <a:lnTo>
                  <a:pt x="50" y="188"/>
                </a:lnTo>
                <a:lnTo>
                  <a:pt x="48" y="172"/>
                </a:lnTo>
                <a:lnTo>
                  <a:pt x="46" y="159"/>
                </a:lnTo>
                <a:lnTo>
                  <a:pt x="44" y="148"/>
                </a:lnTo>
                <a:lnTo>
                  <a:pt x="42" y="136"/>
                </a:lnTo>
                <a:lnTo>
                  <a:pt x="40" y="124"/>
                </a:lnTo>
                <a:lnTo>
                  <a:pt x="38" y="115"/>
                </a:lnTo>
                <a:lnTo>
                  <a:pt x="36" y="107"/>
                </a:lnTo>
                <a:lnTo>
                  <a:pt x="32" y="100"/>
                </a:lnTo>
                <a:lnTo>
                  <a:pt x="30" y="92"/>
                </a:lnTo>
                <a:lnTo>
                  <a:pt x="29" y="86"/>
                </a:lnTo>
                <a:lnTo>
                  <a:pt x="25" y="82"/>
                </a:lnTo>
                <a:lnTo>
                  <a:pt x="21" y="78"/>
                </a:lnTo>
                <a:lnTo>
                  <a:pt x="19" y="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74"/>
          <p:cNvSpPr/>
          <p:nvPr/>
        </p:nvSpPr>
        <p:spPr>
          <a:xfrm>
            <a:off x="6040440" y="4294080"/>
            <a:ext cx="1228680" cy="216000"/>
          </a:xfrm>
          <a:custGeom>
            <a:avLst/>
            <a:gdLst/>
            <a:ahLst/>
            <a:rect l="l" t="t" r="r" b="b"/>
            <a:pathLst>
              <a:path w="1549" h="273">
                <a:moveTo>
                  <a:pt x="432" y="249"/>
                </a:moveTo>
                <a:lnTo>
                  <a:pt x="403" y="251"/>
                </a:lnTo>
                <a:lnTo>
                  <a:pt x="376" y="253"/>
                </a:lnTo>
                <a:lnTo>
                  <a:pt x="351" y="255"/>
                </a:lnTo>
                <a:lnTo>
                  <a:pt x="328" y="257"/>
                </a:lnTo>
                <a:lnTo>
                  <a:pt x="307" y="259"/>
                </a:lnTo>
                <a:lnTo>
                  <a:pt x="286" y="261"/>
                </a:lnTo>
                <a:lnTo>
                  <a:pt x="267" y="263"/>
                </a:lnTo>
                <a:lnTo>
                  <a:pt x="249" y="265"/>
                </a:lnTo>
                <a:lnTo>
                  <a:pt x="234" y="267"/>
                </a:lnTo>
                <a:lnTo>
                  <a:pt x="221" y="269"/>
                </a:lnTo>
                <a:lnTo>
                  <a:pt x="209" y="269"/>
                </a:lnTo>
                <a:lnTo>
                  <a:pt x="198" y="271"/>
                </a:lnTo>
                <a:lnTo>
                  <a:pt x="190" y="271"/>
                </a:lnTo>
                <a:lnTo>
                  <a:pt x="182" y="273"/>
                </a:lnTo>
                <a:lnTo>
                  <a:pt x="178" y="273"/>
                </a:lnTo>
                <a:lnTo>
                  <a:pt x="176" y="273"/>
                </a:lnTo>
                <a:lnTo>
                  <a:pt x="175" y="273"/>
                </a:lnTo>
                <a:lnTo>
                  <a:pt x="173" y="273"/>
                </a:lnTo>
                <a:lnTo>
                  <a:pt x="169" y="271"/>
                </a:lnTo>
                <a:lnTo>
                  <a:pt x="165" y="271"/>
                </a:lnTo>
                <a:lnTo>
                  <a:pt x="161" y="271"/>
                </a:lnTo>
                <a:lnTo>
                  <a:pt x="157" y="269"/>
                </a:lnTo>
                <a:lnTo>
                  <a:pt x="151" y="267"/>
                </a:lnTo>
                <a:lnTo>
                  <a:pt x="142" y="263"/>
                </a:lnTo>
                <a:lnTo>
                  <a:pt x="128" y="255"/>
                </a:lnTo>
                <a:lnTo>
                  <a:pt x="113" y="248"/>
                </a:lnTo>
                <a:lnTo>
                  <a:pt x="105" y="244"/>
                </a:lnTo>
                <a:lnTo>
                  <a:pt x="98" y="238"/>
                </a:lnTo>
                <a:lnTo>
                  <a:pt x="90" y="232"/>
                </a:lnTo>
                <a:lnTo>
                  <a:pt x="82" y="226"/>
                </a:lnTo>
                <a:lnTo>
                  <a:pt x="71" y="223"/>
                </a:lnTo>
                <a:lnTo>
                  <a:pt x="61" y="219"/>
                </a:lnTo>
                <a:lnTo>
                  <a:pt x="52" y="213"/>
                </a:lnTo>
                <a:lnTo>
                  <a:pt x="44" y="209"/>
                </a:lnTo>
                <a:lnTo>
                  <a:pt x="36" y="205"/>
                </a:lnTo>
                <a:lnTo>
                  <a:pt x="31" y="201"/>
                </a:lnTo>
                <a:lnTo>
                  <a:pt x="25" y="198"/>
                </a:lnTo>
                <a:lnTo>
                  <a:pt x="19" y="194"/>
                </a:lnTo>
                <a:lnTo>
                  <a:pt x="15" y="190"/>
                </a:lnTo>
                <a:lnTo>
                  <a:pt x="9" y="186"/>
                </a:lnTo>
                <a:lnTo>
                  <a:pt x="8" y="182"/>
                </a:lnTo>
                <a:lnTo>
                  <a:pt x="4" y="180"/>
                </a:lnTo>
                <a:lnTo>
                  <a:pt x="2" y="177"/>
                </a:lnTo>
                <a:lnTo>
                  <a:pt x="2" y="175"/>
                </a:lnTo>
                <a:lnTo>
                  <a:pt x="0" y="173"/>
                </a:lnTo>
                <a:lnTo>
                  <a:pt x="0" y="171"/>
                </a:lnTo>
                <a:lnTo>
                  <a:pt x="0" y="169"/>
                </a:lnTo>
                <a:lnTo>
                  <a:pt x="2" y="167"/>
                </a:lnTo>
                <a:lnTo>
                  <a:pt x="6" y="167"/>
                </a:lnTo>
                <a:lnTo>
                  <a:pt x="9" y="165"/>
                </a:lnTo>
                <a:lnTo>
                  <a:pt x="15" y="163"/>
                </a:lnTo>
                <a:lnTo>
                  <a:pt x="23" y="163"/>
                </a:lnTo>
                <a:lnTo>
                  <a:pt x="31" y="161"/>
                </a:lnTo>
                <a:lnTo>
                  <a:pt x="40" y="159"/>
                </a:lnTo>
                <a:lnTo>
                  <a:pt x="50" y="157"/>
                </a:lnTo>
                <a:lnTo>
                  <a:pt x="61" y="155"/>
                </a:lnTo>
                <a:lnTo>
                  <a:pt x="75" y="154"/>
                </a:lnTo>
                <a:lnTo>
                  <a:pt x="88" y="152"/>
                </a:lnTo>
                <a:lnTo>
                  <a:pt x="103" y="150"/>
                </a:lnTo>
                <a:lnTo>
                  <a:pt x="121" y="146"/>
                </a:lnTo>
                <a:lnTo>
                  <a:pt x="138" y="144"/>
                </a:lnTo>
                <a:lnTo>
                  <a:pt x="157" y="142"/>
                </a:lnTo>
                <a:lnTo>
                  <a:pt x="178" y="138"/>
                </a:lnTo>
                <a:lnTo>
                  <a:pt x="199" y="136"/>
                </a:lnTo>
                <a:lnTo>
                  <a:pt x="223" y="132"/>
                </a:lnTo>
                <a:lnTo>
                  <a:pt x="246" y="130"/>
                </a:lnTo>
                <a:lnTo>
                  <a:pt x="270" y="127"/>
                </a:lnTo>
                <a:lnTo>
                  <a:pt x="297" y="123"/>
                </a:lnTo>
                <a:lnTo>
                  <a:pt x="324" y="119"/>
                </a:lnTo>
                <a:lnTo>
                  <a:pt x="353" y="115"/>
                </a:lnTo>
                <a:lnTo>
                  <a:pt x="384" y="111"/>
                </a:lnTo>
                <a:lnTo>
                  <a:pt x="414" y="107"/>
                </a:lnTo>
                <a:lnTo>
                  <a:pt x="447" y="104"/>
                </a:lnTo>
                <a:lnTo>
                  <a:pt x="482" y="100"/>
                </a:lnTo>
                <a:lnTo>
                  <a:pt x="516" y="94"/>
                </a:lnTo>
                <a:lnTo>
                  <a:pt x="553" y="88"/>
                </a:lnTo>
                <a:lnTo>
                  <a:pt x="591" y="84"/>
                </a:lnTo>
                <a:lnTo>
                  <a:pt x="629" y="79"/>
                </a:lnTo>
                <a:lnTo>
                  <a:pt x="666" y="73"/>
                </a:lnTo>
                <a:lnTo>
                  <a:pt x="704" y="69"/>
                </a:lnTo>
                <a:lnTo>
                  <a:pt x="739" y="63"/>
                </a:lnTo>
                <a:lnTo>
                  <a:pt x="773" y="59"/>
                </a:lnTo>
                <a:lnTo>
                  <a:pt x="808" y="54"/>
                </a:lnTo>
                <a:lnTo>
                  <a:pt x="841" y="50"/>
                </a:lnTo>
                <a:lnTo>
                  <a:pt x="871" y="46"/>
                </a:lnTo>
                <a:lnTo>
                  <a:pt x="902" y="42"/>
                </a:lnTo>
                <a:lnTo>
                  <a:pt x="931" y="38"/>
                </a:lnTo>
                <a:lnTo>
                  <a:pt x="960" y="34"/>
                </a:lnTo>
                <a:lnTo>
                  <a:pt x="986" y="31"/>
                </a:lnTo>
                <a:lnTo>
                  <a:pt x="1013" y="29"/>
                </a:lnTo>
                <a:lnTo>
                  <a:pt x="1038" y="25"/>
                </a:lnTo>
                <a:lnTo>
                  <a:pt x="1061" y="23"/>
                </a:lnTo>
                <a:lnTo>
                  <a:pt x="1084" y="19"/>
                </a:lnTo>
                <a:lnTo>
                  <a:pt x="1107" y="17"/>
                </a:lnTo>
                <a:lnTo>
                  <a:pt x="1127" y="15"/>
                </a:lnTo>
                <a:lnTo>
                  <a:pt x="1148" y="13"/>
                </a:lnTo>
                <a:lnTo>
                  <a:pt x="1165" y="11"/>
                </a:lnTo>
                <a:lnTo>
                  <a:pt x="1182" y="10"/>
                </a:lnTo>
                <a:lnTo>
                  <a:pt x="1200" y="8"/>
                </a:lnTo>
                <a:lnTo>
                  <a:pt x="1215" y="6"/>
                </a:lnTo>
                <a:lnTo>
                  <a:pt x="1228" y="4"/>
                </a:lnTo>
                <a:lnTo>
                  <a:pt x="1242" y="4"/>
                </a:lnTo>
                <a:lnTo>
                  <a:pt x="1253" y="2"/>
                </a:lnTo>
                <a:lnTo>
                  <a:pt x="1265" y="2"/>
                </a:lnTo>
                <a:lnTo>
                  <a:pt x="1274" y="0"/>
                </a:lnTo>
                <a:lnTo>
                  <a:pt x="1282" y="0"/>
                </a:lnTo>
                <a:lnTo>
                  <a:pt x="1290" y="0"/>
                </a:lnTo>
                <a:lnTo>
                  <a:pt x="1295" y="0"/>
                </a:lnTo>
                <a:lnTo>
                  <a:pt x="1301" y="0"/>
                </a:lnTo>
                <a:lnTo>
                  <a:pt x="1305" y="0"/>
                </a:lnTo>
                <a:lnTo>
                  <a:pt x="1311" y="0"/>
                </a:lnTo>
                <a:lnTo>
                  <a:pt x="1319" y="0"/>
                </a:lnTo>
                <a:lnTo>
                  <a:pt x="1326" y="0"/>
                </a:lnTo>
                <a:lnTo>
                  <a:pt x="1336" y="2"/>
                </a:lnTo>
                <a:lnTo>
                  <a:pt x="1353" y="4"/>
                </a:lnTo>
                <a:lnTo>
                  <a:pt x="1372" y="10"/>
                </a:lnTo>
                <a:lnTo>
                  <a:pt x="1391" y="15"/>
                </a:lnTo>
                <a:lnTo>
                  <a:pt x="1413" y="23"/>
                </a:lnTo>
                <a:lnTo>
                  <a:pt x="1424" y="27"/>
                </a:lnTo>
                <a:lnTo>
                  <a:pt x="1434" y="33"/>
                </a:lnTo>
                <a:lnTo>
                  <a:pt x="1445" y="38"/>
                </a:lnTo>
                <a:lnTo>
                  <a:pt x="1457" y="44"/>
                </a:lnTo>
                <a:lnTo>
                  <a:pt x="1466" y="52"/>
                </a:lnTo>
                <a:lnTo>
                  <a:pt x="1476" y="58"/>
                </a:lnTo>
                <a:lnTo>
                  <a:pt x="1486" y="63"/>
                </a:lnTo>
                <a:lnTo>
                  <a:pt x="1495" y="69"/>
                </a:lnTo>
                <a:lnTo>
                  <a:pt x="1503" y="73"/>
                </a:lnTo>
                <a:lnTo>
                  <a:pt x="1510" y="79"/>
                </a:lnTo>
                <a:lnTo>
                  <a:pt x="1518" y="82"/>
                </a:lnTo>
                <a:lnTo>
                  <a:pt x="1524" y="88"/>
                </a:lnTo>
                <a:lnTo>
                  <a:pt x="1530" y="92"/>
                </a:lnTo>
                <a:lnTo>
                  <a:pt x="1535" y="96"/>
                </a:lnTo>
                <a:lnTo>
                  <a:pt x="1539" y="100"/>
                </a:lnTo>
                <a:lnTo>
                  <a:pt x="1543" y="102"/>
                </a:lnTo>
                <a:lnTo>
                  <a:pt x="1545" y="106"/>
                </a:lnTo>
                <a:lnTo>
                  <a:pt x="1547" y="107"/>
                </a:lnTo>
                <a:lnTo>
                  <a:pt x="1549" y="111"/>
                </a:lnTo>
                <a:lnTo>
                  <a:pt x="1549" y="113"/>
                </a:lnTo>
                <a:lnTo>
                  <a:pt x="1549" y="121"/>
                </a:lnTo>
                <a:lnTo>
                  <a:pt x="1549" y="125"/>
                </a:lnTo>
                <a:lnTo>
                  <a:pt x="1549" y="130"/>
                </a:lnTo>
                <a:lnTo>
                  <a:pt x="1547" y="134"/>
                </a:lnTo>
                <a:lnTo>
                  <a:pt x="1545" y="138"/>
                </a:lnTo>
                <a:lnTo>
                  <a:pt x="1541" y="142"/>
                </a:lnTo>
                <a:lnTo>
                  <a:pt x="1537" y="148"/>
                </a:lnTo>
                <a:lnTo>
                  <a:pt x="1535" y="150"/>
                </a:lnTo>
                <a:lnTo>
                  <a:pt x="1532" y="150"/>
                </a:lnTo>
                <a:lnTo>
                  <a:pt x="1530" y="152"/>
                </a:lnTo>
                <a:lnTo>
                  <a:pt x="1526" y="152"/>
                </a:lnTo>
                <a:lnTo>
                  <a:pt x="1522" y="152"/>
                </a:lnTo>
                <a:lnTo>
                  <a:pt x="1516" y="154"/>
                </a:lnTo>
                <a:lnTo>
                  <a:pt x="1512" y="154"/>
                </a:lnTo>
                <a:lnTo>
                  <a:pt x="1507" y="154"/>
                </a:lnTo>
                <a:lnTo>
                  <a:pt x="1499" y="155"/>
                </a:lnTo>
                <a:lnTo>
                  <a:pt x="1493" y="155"/>
                </a:lnTo>
                <a:lnTo>
                  <a:pt x="1486" y="155"/>
                </a:lnTo>
                <a:lnTo>
                  <a:pt x="1476" y="155"/>
                </a:lnTo>
                <a:lnTo>
                  <a:pt x="1468" y="155"/>
                </a:lnTo>
                <a:lnTo>
                  <a:pt x="1459" y="157"/>
                </a:lnTo>
                <a:lnTo>
                  <a:pt x="1449" y="157"/>
                </a:lnTo>
                <a:lnTo>
                  <a:pt x="1439" y="157"/>
                </a:lnTo>
                <a:lnTo>
                  <a:pt x="1428" y="157"/>
                </a:lnTo>
                <a:lnTo>
                  <a:pt x="1416" y="157"/>
                </a:lnTo>
                <a:lnTo>
                  <a:pt x="1403" y="157"/>
                </a:lnTo>
                <a:lnTo>
                  <a:pt x="1391" y="157"/>
                </a:lnTo>
                <a:lnTo>
                  <a:pt x="1378" y="157"/>
                </a:lnTo>
                <a:lnTo>
                  <a:pt x="1365" y="157"/>
                </a:lnTo>
                <a:lnTo>
                  <a:pt x="1349" y="157"/>
                </a:lnTo>
                <a:lnTo>
                  <a:pt x="1334" y="157"/>
                </a:lnTo>
                <a:lnTo>
                  <a:pt x="1319" y="157"/>
                </a:lnTo>
                <a:lnTo>
                  <a:pt x="1303" y="157"/>
                </a:lnTo>
                <a:lnTo>
                  <a:pt x="1286" y="159"/>
                </a:lnTo>
                <a:lnTo>
                  <a:pt x="1269" y="159"/>
                </a:lnTo>
                <a:lnTo>
                  <a:pt x="1249" y="159"/>
                </a:lnTo>
                <a:lnTo>
                  <a:pt x="1230" y="159"/>
                </a:lnTo>
                <a:lnTo>
                  <a:pt x="1211" y="159"/>
                </a:lnTo>
                <a:lnTo>
                  <a:pt x="1171" y="159"/>
                </a:lnTo>
                <a:lnTo>
                  <a:pt x="1132" y="159"/>
                </a:lnTo>
                <a:lnTo>
                  <a:pt x="1096" y="159"/>
                </a:lnTo>
                <a:lnTo>
                  <a:pt x="1061" y="161"/>
                </a:lnTo>
                <a:lnTo>
                  <a:pt x="1027" y="161"/>
                </a:lnTo>
                <a:lnTo>
                  <a:pt x="996" y="163"/>
                </a:lnTo>
                <a:lnTo>
                  <a:pt x="967" y="165"/>
                </a:lnTo>
                <a:lnTo>
                  <a:pt x="938" y="167"/>
                </a:lnTo>
                <a:lnTo>
                  <a:pt x="914" y="169"/>
                </a:lnTo>
                <a:lnTo>
                  <a:pt x="889" y="171"/>
                </a:lnTo>
                <a:lnTo>
                  <a:pt x="867" y="175"/>
                </a:lnTo>
                <a:lnTo>
                  <a:pt x="846" y="177"/>
                </a:lnTo>
                <a:lnTo>
                  <a:pt x="827" y="180"/>
                </a:lnTo>
                <a:lnTo>
                  <a:pt x="810" y="184"/>
                </a:lnTo>
                <a:lnTo>
                  <a:pt x="795" y="188"/>
                </a:lnTo>
                <a:lnTo>
                  <a:pt x="781" y="192"/>
                </a:lnTo>
                <a:lnTo>
                  <a:pt x="766" y="198"/>
                </a:lnTo>
                <a:lnTo>
                  <a:pt x="748" y="201"/>
                </a:lnTo>
                <a:lnTo>
                  <a:pt x="731" y="205"/>
                </a:lnTo>
                <a:lnTo>
                  <a:pt x="712" y="209"/>
                </a:lnTo>
                <a:lnTo>
                  <a:pt x="695" y="213"/>
                </a:lnTo>
                <a:lnTo>
                  <a:pt x="674" y="217"/>
                </a:lnTo>
                <a:lnTo>
                  <a:pt x="654" y="221"/>
                </a:lnTo>
                <a:lnTo>
                  <a:pt x="631" y="225"/>
                </a:lnTo>
                <a:lnTo>
                  <a:pt x="610" y="228"/>
                </a:lnTo>
                <a:lnTo>
                  <a:pt x="587" y="232"/>
                </a:lnTo>
                <a:lnTo>
                  <a:pt x="562" y="236"/>
                </a:lnTo>
                <a:lnTo>
                  <a:pt x="537" y="238"/>
                </a:lnTo>
                <a:lnTo>
                  <a:pt x="512" y="242"/>
                </a:lnTo>
                <a:lnTo>
                  <a:pt x="485" y="244"/>
                </a:lnTo>
                <a:lnTo>
                  <a:pt x="459" y="248"/>
                </a:lnTo>
                <a:lnTo>
                  <a:pt x="432" y="2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75"/>
          <p:cNvSpPr/>
          <p:nvPr/>
        </p:nvSpPr>
        <p:spPr>
          <a:xfrm>
            <a:off x="6350040" y="4059360"/>
            <a:ext cx="623880" cy="156960"/>
          </a:xfrm>
          <a:custGeom>
            <a:avLst/>
            <a:gdLst/>
            <a:ahLst/>
            <a:rect l="l" t="t" r="r" b="b"/>
            <a:pathLst>
              <a:path w="787" h="198">
                <a:moveTo>
                  <a:pt x="730" y="125"/>
                </a:moveTo>
                <a:lnTo>
                  <a:pt x="722" y="127"/>
                </a:lnTo>
                <a:lnTo>
                  <a:pt x="713" y="129"/>
                </a:lnTo>
                <a:lnTo>
                  <a:pt x="701" y="131"/>
                </a:lnTo>
                <a:lnTo>
                  <a:pt x="688" y="133"/>
                </a:lnTo>
                <a:lnTo>
                  <a:pt x="674" y="135"/>
                </a:lnTo>
                <a:lnTo>
                  <a:pt x="657" y="139"/>
                </a:lnTo>
                <a:lnTo>
                  <a:pt x="638" y="140"/>
                </a:lnTo>
                <a:lnTo>
                  <a:pt x="619" y="142"/>
                </a:lnTo>
                <a:lnTo>
                  <a:pt x="597" y="146"/>
                </a:lnTo>
                <a:lnTo>
                  <a:pt x="574" y="148"/>
                </a:lnTo>
                <a:lnTo>
                  <a:pt x="549" y="152"/>
                </a:lnTo>
                <a:lnTo>
                  <a:pt x="523" y="154"/>
                </a:lnTo>
                <a:lnTo>
                  <a:pt x="496" y="158"/>
                </a:lnTo>
                <a:lnTo>
                  <a:pt x="465" y="162"/>
                </a:lnTo>
                <a:lnTo>
                  <a:pt x="434" y="165"/>
                </a:lnTo>
                <a:lnTo>
                  <a:pt x="404" y="169"/>
                </a:lnTo>
                <a:lnTo>
                  <a:pt x="371" y="173"/>
                </a:lnTo>
                <a:lnTo>
                  <a:pt x="340" y="179"/>
                </a:lnTo>
                <a:lnTo>
                  <a:pt x="311" y="181"/>
                </a:lnTo>
                <a:lnTo>
                  <a:pt x="285" y="185"/>
                </a:lnTo>
                <a:lnTo>
                  <a:pt x="260" y="188"/>
                </a:lnTo>
                <a:lnTo>
                  <a:pt x="237" y="190"/>
                </a:lnTo>
                <a:lnTo>
                  <a:pt x="215" y="192"/>
                </a:lnTo>
                <a:lnTo>
                  <a:pt x="194" y="194"/>
                </a:lnTo>
                <a:lnTo>
                  <a:pt x="177" y="196"/>
                </a:lnTo>
                <a:lnTo>
                  <a:pt x="160" y="196"/>
                </a:lnTo>
                <a:lnTo>
                  <a:pt x="146" y="198"/>
                </a:lnTo>
                <a:lnTo>
                  <a:pt x="133" y="198"/>
                </a:lnTo>
                <a:lnTo>
                  <a:pt x="121" y="196"/>
                </a:lnTo>
                <a:lnTo>
                  <a:pt x="114" y="196"/>
                </a:lnTo>
                <a:lnTo>
                  <a:pt x="106" y="194"/>
                </a:lnTo>
                <a:lnTo>
                  <a:pt x="102" y="194"/>
                </a:lnTo>
                <a:lnTo>
                  <a:pt x="100" y="192"/>
                </a:lnTo>
                <a:lnTo>
                  <a:pt x="87" y="192"/>
                </a:lnTo>
                <a:lnTo>
                  <a:pt x="75" y="190"/>
                </a:lnTo>
                <a:lnTo>
                  <a:pt x="66" y="188"/>
                </a:lnTo>
                <a:lnTo>
                  <a:pt x="54" y="185"/>
                </a:lnTo>
                <a:lnTo>
                  <a:pt x="45" y="179"/>
                </a:lnTo>
                <a:lnTo>
                  <a:pt x="37" y="173"/>
                </a:lnTo>
                <a:lnTo>
                  <a:pt x="27" y="167"/>
                </a:lnTo>
                <a:lnTo>
                  <a:pt x="20" y="160"/>
                </a:lnTo>
                <a:lnTo>
                  <a:pt x="14" y="154"/>
                </a:lnTo>
                <a:lnTo>
                  <a:pt x="12" y="150"/>
                </a:lnTo>
                <a:lnTo>
                  <a:pt x="8" y="146"/>
                </a:lnTo>
                <a:lnTo>
                  <a:pt x="6" y="144"/>
                </a:lnTo>
                <a:lnTo>
                  <a:pt x="4" y="140"/>
                </a:lnTo>
                <a:lnTo>
                  <a:pt x="2" y="137"/>
                </a:lnTo>
                <a:lnTo>
                  <a:pt x="2" y="135"/>
                </a:lnTo>
                <a:lnTo>
                  <a:pt x="0" y="131"/>
                </a:lnTo>
                <a:lnTo>
                  <a:pt x="2" y="129"/>
                </a:lnTo>
                <a:lnTo>
                  <a:pt x="2" y="127"/>
                </a:lnTo>
                <a:lnTo>
                  <a:pt x="4" y="125"/>
                </a:lnTo>
                <a:lnTo>
                  <a:pt x="6" y="121"/>
                </a:lnTo>
                <a:lnTo>
                  <a:pt x="8" y="119"/>
                </a:lnTo>
                <a:lnTo>
                  <a:pt x="12" y="117"/>
                </a:lnTo>
                <a:lnTo>
                  <a:pt x="14" y="116"/>
                </a:lnTo>
                <a:lnTo>
                  <a:pt x="20" y="114"/>
                </a:lnTo>
                <a:lnTo>
                  <a:pt x="22" y="114"/>
                </a:lnTo>
                <a:lnTo>
                  <a:pt x="25" y="112"/>
                </a:lnTo>
                <a:lnTo>
                  <a:pt x="27" y="112"/>
                </a:lnTo>
                <a:lnTo>
                  <a:pt x="31" y="112"/>
                </a:lnTo>
                <a:lnTo>
                  <a:pt x="37" y="112"/>
                </a:lnTo>
                <a:lnTo>
                  <a:pt x="41" y="110"/>
                </a:lnTo>
                <a:lnTo>
                  <a:pt x="47" y="110"/>
                </a:lnTo>
                <a:lnTo>
                  <a:pt x="52" y="108"/>
                </a:lnTo>
                <a:lnTo>
                  <a:pt x="60" y="108"/>
                </a:lnTo>
                <a:lnTo>
                  <a:pt x="68" y="106"/>
                </a:lnTo>
                <a:lnTo>
                  <a:pt x="75" y="104"/>
                </a:lnTo>
                <a:lnTo>
                  <a:pt x="83" y="102"/>
                </a:lnTo>
                <a:lnTo>
                  <a:pt x="93" y="102"/>
                </a:lnTo>
                <a:lnTo>
                  <a:pt x="102" y="100"/>
                </a:lnTo>
                <a:lnTo>
                  <a:pt x="112" y="98"/>
                </a:lnTo>
                <a:lnTo>
                  <a:pt x="123" y="96"/>
                </a:lnTo>
                <a:lnTo>
                  <a:pt x="133" y="94"/>
                </a:lnTo>
                <a:lnTo>
                  <a:pt x="144" y="92"/>
                </a:lnTo>
                <a:lnTo>
                  <a:pt x="158" y="89"/>
                </a:lnTo>
                <a:lnTo>
                  <a:pt x="171" y="87"/>
                </a:lnTo>
                <a:lnTo>
                  <a:pt x="183" y="85"/>
                </a:lnTo>
                <a:lnTo>
                  <a:pt x="198" y="83"/>
                </a:lnTo>
                <a:lnTo>
                  <a:pt x="212" y="79"/>
                </a:lnTo>
                <a:lnTo>
                  <a:pt x="227" y="77"/>
                </a:lnTo>
                <a:lnTo>
                  <a:pt x="242" y="75"/>
                </a:lnTo>
                <a:lnTo>
                  <a:pt x="258" y="71"/>
                </a:lnTo>
                <a:lnTo>
                  <a:pt x="275" y="69"/>
                </a:lnTo>
                <a:lnTo>
                  <a:pt x="290" y="66"/>
                </a:lnTo>
                <a:lnTo>
                  <a:pt x="308" y="62"/>
                </a:lnTo>
                <a:lnTo>
                  <a:pt x="327" y="60"/>
                </a:lnTo>
                <a:lnTo>
                  <a:pt x="344" y="56"/>
                </a:lnTo>
                <a:lnTo>
                  <a:pt x="363" y="52"/>
                </a:lnTo>
                <a:lnTo>
                  <a:pt x="381" y="50"/>
                </a:lnTo>
                <a:lnTo>
                  <a:pt x="398" y="46"/>
                </a:lnTo>
                <a:lnTo>
                  <a:pt x="415" y="44"/>
                </a:lnTo>
                <a:lnTo>
                  <a:pt x="430" y="41"/>
                </a:lnTo>
                <a:lnTo>
                  <a:pt x="446" y="39"/>
                </a:lnTo>
                <a:lnTo>
                  <a:pt x="461" y="35"/>
                </a:lnTo>
                <a:lnTo>
                  <a:pt x="477" y="33"/>
                </a:lnTo>
                <a:lnTo>
                  <a:pt x="490" y="29"/>
                </a:lnTo>
                <a:lnTo>
                  <a:pt x="503" y="27"/>
                </a:lnTo>
                <a:lnTo>
                  <a:pt x="517" y="25"/>
                </a:lnTo>
                <a:lnTo>
                  <a:pt x="528" y="23"/>
                </a:lnTo>
                <a:lnTo>
                  <a:pt x="540" y="21"/>
                </a:lnTo>
                <a:lnTo>
                  <a:pt x="551" y="20"/>
                </a:lnTo>
                <a:lnTo>
                  <a:pt x="563" y="18"/>
                </a:lnTo>
                <a:lnTo>
                  <a:pt x="572" y="16"/>
                </a:lnTo>
                <a:lnTo>
                  <a:pt x="584" y="14"/>
                </a:lnTo>
                <a:lnTo>
                  <a:pt x="592" y="12"/>
                </a:lnTo>
                <a:lnTo>
                  <a:pt x="601" y="10"/>
                </a:lnTo>
                <a:lnTo>
                  <a:pt x="609" y="8"/>
                </a:lnTo>
                <a:lnTo>
                  <a:pt x="619" y="6"/>
                </a:lnTo>
                <a:lnTo>
                  <a:pt x="624" y="6"/>
                </a:lnTo>
                <a:lnTo>
                  <a:pt x="632" y="4"/>
                </a:lnTo>
                <a:lnTo>
                  <a:pt x="638" y="4"/>
                </a:lnTo>
                <a:lnTo>
                  <a:pt x="644" y="2"/>
                </a:lnTo>
                <a:lnTo>
                  <a:pt x="649" y="2"/>
                </a:lnTo>
                <a:lnTo>
                  <a:pt x="653" y="0"/>
                </a:lnTo>
                <a:lnTo>
                  <a:pt x="659" y="0"/>
                </a:lnTo>
                <a:lnTo>
                  <a:pt x="663" y="0"/>
                </a:lnTo>
                <a:lnTo>
                  <a:pt x="667" y="0"/>
                </a:lnTo>
                <a:lnTo>
                  <a:pt x="668" y="0"/>
                </a:lnTo>
                <a:lnTo>
                  <a:pt x="670" y="0"/>
                </a:lnTo>
                <a:lnTo>
                  <a:pt x="676" y="0"/>
                </a:lnTo>
                <a:lnTo>
                  <a:pt x="682" y="2"/>
                </a:lnTo>
                <a:lnTo>
                  <a:pt x="690" y="4"/>
                </a:lnTo>
                <a:lnTo>
                  <a:pt x="697" y="6"/>
                </a:lnTo>
                <a:lnTo>
                  <a:pt x="707" y="10"/>
                </a:lnTo>
                <a:lnTo>
                  <a:pt x="716" y="14"/>
                </a:lnTo>
                <a:lnTo>
                  <a:pt x="728" y="18"/>
                </a:lnTo>
                <a:lnTo>
                  <a:pt x="741" y="21"/>
                </a:lnTo>
                <a:lnTo>
                  <a:pt x="747" y="23"/>
                </a:lnTo>
                <a:lnTo>
                  <a:pt x="753" y="27"/>
                </a:lnTo>
                <a:lnTo>
                  <a:pt x="759" y="29"/>
                </a:lnTo>
                <a:lnTo>
                  <a:pt x="763" y="33"/>
                </a:lnTo>
                <a:lnTo>
                  <a:pt x="766" y="35"/>
                </a:lnTo>
                <a:lnTo>
                  <a:pt x="770" y="39"/>
                </a:lnTo>
                <a:lnTo>
                  <a:pt x="778" y="44"/>
                </a:lnTo>
                <a:lnTo>
                  <a:pt x="782" y="50"/>
                </a:lnTo>
                <a:lnTo>
                  <a:pt x="786" y="58"/>
                </a:lnTo>
                <a:lnTo>
                  <a:pt x="787" y="64"/>
                </a:lnTo>
                <a:lnTo>
                  <a:pt x="787" y="68"/>
                </a:lnTo>
                <a:lnTo>
                  <a:pt x="787" y="71"/>
                </a:lnTo>
                <a:lnTo>
                  <a:pt x="786" y="75"/>
                </a:lnTo>
                <a:lnTo>
                  <a:pt x="786" y="81"/>
                </a:lnTo>
                <a:lnTo>
                  <a:pt x="784" y="85"/>
                </a:lnTo>
                <a:lnTo>
                  <a:pt x="778" y="92"/>
                </a:lnTo>
                <a:lnTo>
                  <a:pt x="772" y="100"/>
                </a:lnTo>
                <a:lnTo>
                  <a:pt x="763" y="108"/>
                </a:lnTo>
                <a:lnTo>
                  <a:pt x="753" y="114"/>
                </a:lnTo>
                <a:lnTo>
                  <a:pt x="741" y="119"/>
                </a:lnTo>
                <a:lnTo>
                  <a:pt x="730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6"/>
          <p:cNvSpPr/>
          <p:nvPr/>
        </p:nvSpPr>
        <p:spPr>
          <a:xfrm>
            <a:off x="6742080" y="3679920"/>
            <a:ext cx="1130400" cy="674640"/>
          </a:xfrm>
          <a:custGeom>
            <a:avLst/>
            <a:gdLst/>
            <a:ahLst/>
            <a:rect l="l" t="t" r="r" b="b"/>
            <a:pathLst>
              <a:path w="1422" h="851">
                <a:moveTo>
                  <a:pt x="0" y="23"/>
                </a:moveTo>
                <a:lnTo>
                  <a:pt x="117" y="0"/>
                </a:lnTo>
                <a:lnTo>
                  <a:pt x="178" y="60"/>
                </a:lnTo>
                <a:lnTo>
                  <a:pt x="209" y="89"/>
                </a:lnTo>
                <a:lnTo>
                  <a:pt x="240" y="117"/>
                </a:lnTo>
                <a:lnTo>
                  <a:pt x="270" y="146"/>
                </a:lnTo>
                <a:lnTo>
                  <a:pt x="301" y="173"/>
                </a:lnTo>
                <a:lnTo>
                  <a:pt x="332" y="200"/>
                </a:lnTo>
                <a:lnTo>
                  <a:pt x="362" y="227"/>
                </a:lnTo>
                <a:lnTo>
                  <a:pt x="378" y="240"/>
                </a:lnTo>
                <a:lnTo>
                  <a:pt x="393" y="254"/>
                </a:lnTo>
                <a:lnTo>
                  <a:pt x="410" y="267"/>
                </a:lnTo>
                <a:lnTo>
                  <a:pt x="428" y="281"/>
                </a:lnTo>
                <a:lnTo>
                  <a:pt x="445" y="294"/>
                </a:lnTo>
                <a:lnTo>
                  <a:pt x="462" y="307"/>
                </a:lnTo>
                <a:lnTo>
                  <a:pt x="482" y="323"/>
                </a:lnTo>
                <a:lnTo>
                  <a:pt x="501" y="336"/>
                </a:lnTo>
                <a:lnTo>
                  <a:pt x="522" y="352"/>
                </a:lnTo>
                <a:lnTo>
                  <a:pt x="541" y="365"/>
                </a:lnTo>
                <a:lnTo>
                  <a:pt x="562" y="380"/>
                </a:lnTo>
                <a:lnTo>
                  <a:pt x="585" y="394"/>
                </a:lnTo>
                <a:lnTo>
                  <a:pt x="606" y="409"/>
                </a:lnTo>
                <a:lnTo>
                  <a:pt x="629" y="425"/>
                </a:lnTo>
                <a:lnTo>
                  <a:pt x="652" y="440"/>
                </a:lnTo>
                <a:lnTo>
                  <a:pt x="675" y="455"/>
                </a:lnTo>
                <a:lnTo>
                  <a:pt x="700" y="473"/>
                </a:lnTo>
                <a:lnTo>
                  <a:pt x="725" y="488"/>
                </a:lnTo>
                <a:lnTo>
                  <a:pt x="750" y="503"/>
                </a:lnTo>
                <a:lnTo>
                  <a:pt x="777" y="519"/>
                </a:lnTo>
                <a:lnTo>
                  <a:pt x="802" y="534"/>
                </a:lnTo>
                <a:lnTo>
                  <a:pt x="831" y="547"/>
                </a:lnTo>
                <a:lnTo>
                  <a:pt x="858" y="563"/>
                </a:lnTo>
                <a:lnTo>
                  <a:pt x="887" y="576"/>
                </a:lnTo>
                <a:lnTo>
                  <a:pt x="917" y="588"/>
                </a:lnTo>
                <a:lnTo>
                  <a:pt x="946" y="601"/>
                </a:lnTo>
                <a:lnTo>
                  <a:pt x="977" y="613"/>
                </a:lnTo>
                <a:lnTo>
                  <a:pt x="1009" y="626"/>
                </a:lnTo>
                <a:lnTo>
                  <a:pt x="1040" y="638"/>
                </a:lnTo>
                <a:lnTo>
                  <a:pt x="1075" y="649"/>
                </a:lnTo>
                <a:lnTo>
                  <a:pt x="1107" y="661"/>
                </a:lnTo>
                <a:lnTo>
                  <a:pt x="1142" y="670"/>
                </a:lnTo>
                <a:lnTo>
                  <a:pt x="1159" y="676"/>
                </a:lnTo>
                <a:lnTo>
                  <a:pt x="1176" y="682"/>
                </a:lnTo>
                <a:lnTo>
                  <a:pt x="1192" y="688"/>
                </a:lnTo>
                <a:lnTo>
                  <a:pt x="1207" y="691"/>
                </a:lnTo>
                <a:lnTo>
                  <a:pt x="1222" y="697"/>
                </a:lnTo>
                <a:lnTo>
                  <a:pt x="1236" y="701"/>
                </a:lnTo>
                <a:lnTo>
                  <a:pt x="1251" y="707"/>
                </a:lnTo>
                <a:lnTo>
                  <a:pt x="1265" y="713"/>
                </a:lnTo>
                <a:lnTo>
                  <a:pt x="1276" y="716"/>
                </a:lnTo>
                <a:lnTo>
                  <a:pt x="1290" y="720"/>
                </a:lnTo>
                <a:lnTo>
                  <a:pt x="1301" y="726"/>
                </a:lnTo>
                <a:lnTo>
                  <a:pt x="1313" y="730"/>
                </a:lnTo>
                <a:lnTo>
                  <a:pt x="1322" y="734"/>
                </a:lnTo>
                <a:lnTo>
                  <a:pt x="1334" y="737"/>
                </a:lnTo>
                <a:lnTo>
                  <a:pt x="1343" y="743"/>
                </a:lnTo>
                <a:lnTo>
                  <a:pt x="1351" y="747"/>
                </a:lnTo>
                <a:lnTo>
                  <a:pt x="1361" y="751"/>
                </a:lnTo>
                <a:lnTo>
                  <a:pt x="1368" y="755"/>
                </a:lnTo>
                <a:lnTo>
                  <a:pt x="1376" y="759"/>
                </a:lnTo>
                <a:lnTo>
                  <a:pt x="1382" y="762"/>
                </a:lnTo>
                <a:lnTo>
                  <a:pt x="1389" y="764"/>
                </a:lnTo>
                <a:lnTo>
                  <a:pt x="1395" y="768"/>
                </a:lnTo>
                <a:lnTo>
                  <a:pt x="1399" y="772"/>
                </a:lnTo>
                <a:lnTo>
                  <a:pt x="1405" y="776"/>
                </a:lnTo>
                <a:lnTo>
                  <a:pt x="1409" y="778"/>
                </a:lnTo>
                <a:lnTo>
                  <a:pt x="1412" y="782"/>
                </a:lnTo>
                <a:lnTo>
                  <a:pt x="1414" y="784"/>
                </a:lnTo>
                <a:lnTo>
                  <a:pt x="1416" y="787"/>
                </a:lnTo>
                <a:lnTo>
                  <a:pt x="1418" y="789"/>
                </a:lnTo>
                <a:lnTo>
                  <a:pt x="1420" y="791"/>
                </a:lnTo>
                <a:lnTo>
                  <a:pt x="1422" y="793"/>
                </a:lnTo>
                <a:lnTo>
                  <a:pt x="1422" y="797"/>
                </a:lnTo>
                <a:lnTo>
                  <a:pt x="1420" y="801"/>
                </a:lnTo>
                <a:lnTo>
                  <a:pt x="1418" y="805"/>
                </a:lnTo>
                <a:lnTo>
                  <a:pt x="1412" y="808"/>
                </a:lnTo>
                <a:lnTo>
                  <a:pt x="1407" y="810"/>
                </a:lnTo>
                <a:lnTo>
                  <a:pt x="1399" y="814"/>
                </a:lnTo>
                <a:lnTo>
                  <a:pt x="1387" y="818"/>
                </a:lnTo>
                <a:lnTo>
                  <a:pt x="1376" y="820"/>
                </a:lnTo>
                <a:lnTo>
                  <a:pt x="1363" y="822"/>
                </a:lnTo>
                <a:lnTo>
                  <a:pt x="1345" y="826"/>
                </a:lnTo>
                <a:lnTo>
                  <a:pt x="1328" y="828"/>
                </a:lnTo>
                <a:lnTo>
                  <a:pt x="1309" y="830"/>
                </a:lnTo>
                <a:lnTo>
                  <a:pt x="1290" y="832"/>
                </a:lnTo>
                <a:lnTo>
                  <a:pt x="1267" y="835"/>
                </a:lnTo>
                <a:lnTo>
                  <a:pt x="1242" y="837"/>
                </a:lnTo>
                <a:lnTo>
                  <a:pt x="1217" y="839"/>
                </a:lnTo>
                <a:lnTo>
                  <a:pt x="1188" y="841"/>
                </a:lnTo>
                <a:lnTo>
                  <a:pt x="1159" y="843"/>
                </a:lnTo>
                <a:lnTo>
                  <a:pt x="1130" y="845"/>
                </a:lnTo>
                <a:lnTo>
                  <a:pt x="1103" y="847"/>
                </a:lnTo>
                <a:lnTo>
                  <a:pt x="1077" y="849"/>
                </a:lnTo>
                <a:lnTo>
                  <a:pt x="1054" y="849"/>
                </a:lnTo>
                <a:lnTo>
                  <a:pt x="1030" y="849"/>
                </a:lnTo>
                <a:lnTo>
                  <a:pt x="1007" y="851"/>
                </a:lnTo>
                <a:lnTo>
                  <a:pt x="988" y="851"/>
                </a:lnTo>
                <a:lnTo>
                  <a:pt x="969" y="851"/>
                </a:lnTo>
                <a:lnTo>
                  <a:pt x="952" y="849"/>
                </a:lnTo>
                <a:lnTo>
                  <a:pt x="935" y="849"/>
                </a:lnTo>
                <a:lnTo>
                  <a:pt x="919" y="849"/>
                </a:lnTo>
                <a:lnTo>
                  <a:pt x="906" y="847"/>
                </a:lnTo>
                <a:lnTo>
                  <a:pt x="894" y="845"/>
                </a:lnTo>
                <a:lnTo>
                  <a:pt x="883" y="843"/>
                </a:lnTo>
                <a:lnTo>
                  <a:pt x="875" y="841"/>
                </a:lnTo>
                <a:lnTo>
                  <a:pt x="865" y="839"/>
                </a:lnTo>
                <a:lnTo>
                  <a:pt x="856" y="835"/>
                </a:lnTo>
                <a:lnTo>
                  <a:pt x="844" y="830"/>
                </a:lnTo>
                <a:lnTo>
                  <a:pt x="833" y="824"/>
                </a:lnTo>
                <a:lnTo>
                  <a:pt x="821" y="818"/>
                </a:lnTo>
                <a:lnTo>
                  <a:pt x="808" y="808"/>
                </a:lnTo>
                <a:lnTo>
                  <a:pt x="794" y="801"/>
                </a:lnTo>
                <a:lnTo>
                  <a:pt x="779" y="791"/>
                </a:lnTo>
                <a:lnTo>
                  <a:pt x="764" y="780"/>
                </a:lnTo>
                <a:lnTo>
                  <a:pt x="748" y="766"/>
                </a:lnTo>
                <a:lnTo>
                  <a:pt x="731" y="753"/>
                </a:lnTo>
                <a:lnTo>
                  <a:pt x="714" y="739"/>
                </a:lnTo>
                <a:lnTo>
                  <a:pt x="696" y="724"/>
                </a:lnTo>
                <a:lnTo>
                  <a:pt x="679" y="707"/>
                </a:lnTo>
                <a:lnTo>
                  <a:pt x="660" y="689"/>
                </a:lnTo>
                <a:lnTo>
                  <a:pt x="641" y="670"/>
                </a:lnTo>
                <a:lnTo>
                  <a:pt x="631" y="661"/>
                </a:lnTo>
                <a:lnTo>
                  <a:pt x="620" y="649"/>
                </a:lnTo>
                <a:lnTo>
                  <a:pt x="608" y="640"/>
                </a:lnTo>
                <a:lnTo>
                  <a:pt x="597" y="626"/>
                </a:lnTo>
                <a:lnTo>
                  <a:pt x="583" y="615"/>
                </a:lnTo>
                <a:lnTo>
                  <a:pt x="570" y="601"/>
                </a:lnTo>
                <a:lnTo>
                  <a:pt x="556" y="588"/>
                </a:lnTo>
                <a:lnTo>
                  <a:pt x="541" y="572"/>
                </a:lnTo>
                <a:lnTo>
                  <a:pt x="526" y="557"/>
                </a:lnTo>
                <a:lnTo>
                  <a:pt x="508" y="542"/>
                </a:lnTo>
                <a:lnTo>
                  <a:pt x="493" y="524"/>
                </a:lnTo>
                <a:lnTo>
                  <a:pt x="474" y="507"/>
                </a:lnTo>
                <a:lnTo>
                  <a:pt x="457" y="490"/>
                </a:lnTo>
                <a:lnTo>
                  <a:pt x="437" y="473"/>
                </a:lnTo>
                <a:lnTo>
                  <a:pt x="418" y="453"/>
                </a:lnTo>
                <a:lnTo>
                  <a:pt x="399" y="432"/>
                </a:lnTo>
                <a:lnTo>
                  <a:pt x="378" y="413"/>
                </a:lnTo>
                <a:lnTo>
                  <a:pt x="357" y="392"/>
                </a:lnTo>
                <a:lnTo>
                  <a:pt x="336" y="369"/>
                </a:lnTo>
                <a:lnTo>
                  <a:pt x="313" y="346"/>
                </a:lnTo>
                <a:lnTo>
                  <a:pt x="290" y="323"/>
                </a:lnTo>
                <a:lnTo>
                  <a:pt x="267" y="300"/>
                </a:lnTo>
                <a:lnTo>
                  <a:pt x="242" y="275"/>
                </a:lnTo>
                <a:lnTo>
                  <a:pt x="217" y="250"/>
                </a:lnTo>
                <a:lnTo>
                  <a:pt x="192" y="223"/>
                </a:lnTo>
                <a:lnTo>
                  <a:pt x="167" y="196"/>
                </a:lnTo>
                <a:lnTo>
                  <a:pt x="140" y="169"/>
                </a:lnTo>
                <a:lnTo>
                  <a:pt x="113" y="142"/>
                </a:lnTo>
                <a:lnTo>
                  <a:pt x="86" y="114"/>
                </a:lnTo>
                <a:lnTo>
                  <a:pt x="57" y="83"/>
                </a:lnTo>
                <a:lnTo>
                  <a:pt x="29" y="54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77"/>
          <p:cNvSpPr/>
          <p:nvPr/>
        </p:nvSpPr>
        <p:spPr>
          <a:xfrm>
            <a:off x="5595840" y="2827440"/>
            <a:ext cx="1109880" cy="1711080"/>
          </a:xfrm>
          <a:custGeom>
            <a:avLst/>
            <a:gdLst/>
            <a:ahLst/>
            <a:rect l="l" t="t" r="r" b="b"/>
            <a:pathLst>
              <a:path w="1400" h="2158">
                <a:moveTo>
                  <a:pt x="1331" y="427"/>
                </a:moveTo>
                <a:lnTo>
                  <a:pt x="1323" y="459"/>
                </a:lnTo>
                <a:lnTo>
                  <a:pt x="1315" y="490"/>
                </a:lnTo>
                <a:lnTo>
                  <a:pt x="1308" y="523"/>
                </a:lnTo>
                <a:lnTo>
                  <a:pt x="1300" y="555"/>
                </a:lnTo>
                <a:lnTo>
                  <a:pt x="1283" y="622"/>
                </a:lnTo>
                <a:lnTo>
                  <a:pt x="1263" y="690"/>
                </a:lnTo>
                <a:lnTo>
                  <a:pt x="1242" y="757"/>
                </a:lnTo>
                <a:lnTo>
                  <a:pt x="1221" y="824"/>
                </a:lnTo>
                <a:lnTo>
                  <a:pt x="1179" y="960"/>
                </a:lnTo>
                <a:lnTo>
                  <a:pt x="1165" y="997"/>
                </a:lnTo>
                <a:lnTo>
                  <a:pt x="1152" y="1033"/>
                </a:lnTo>
                <a:lnTo>
                  <a:pt x="1137" y="1068"/>
                </a:lnTo>
                <a:lnTo>
                  <a:pt x="1121" y="1102"/>
                </a:lnTo>
                <a:lnTo>
                  <a:pt x="1106" y="1135"/>
                </a:lnTo>
                <a:lnTo>
                  <a:pt x="1091" y="1169"/>
                </a:lnTo>
                <a:lnTo>
                  <a:pt x="1075" y="1202"/>
                </a:lnTo>
                <a:lnTo>
                  <a:pt x="1058" y="1233"/>
                </a:lnTo>
                <a:lnTo>
                  <a:pt x="1041" y="1265"/>
                </a:lnTo>
                <a:lnTo>
                  <a:pt x="1023" y="1296"/>
                </a:lnTo>
                <a:lnTo>
                  <a:pt x="1004" y="1327"/>
                </a:lnTo>
                <a:lnTo>
                  <a:pt x="987" y="1358"/>
                </a:lnTo>
                <a:lnTo>
                  <a:pt x="968" y="1386"/>
                </a:lnTo>
                <a:lnTo>
                  <a:pt x="949" y="1415"/>
                </a:lnTo>
                <a:lnTo>
                  <a:pt x="929" y="1444"/>
                </a:lnTo>
                <a:lnTo>
                  <a:pt x="910" y="1473"/>
                </a:lnTo>
                <a:lnTo>
                  <a:pt x="891" y="1502"/>
                </a:lnTo>
                <a:lnTo>
                  <a:pt x="870" y="1530"/>
                </a:lnTo>
                <a:lnTo>
                  <a:pt x="851" y="1559"/>
                </a:lnTo>
                <a:lnTo>
                  <a:pt x="830" y="1586"/>
                </a:lnTo>
                <a:lnTo>
                  <a:pt x="808" y="1613"/>
                </a:lnTo>
                <a:lnTo>
                  <a:pt x="787" y="1638"/>
                </a:lnTo>
                <a:lnTo>
                  <a:pt x="766" y="1663"/>
                </a:lnTo>
                <a:lnTo>
                  <a:pt x="745" y="1688"/>
                </a:lnTo>
                <a:lnTo>
                  <a:pt x="722" y="1711"/>
                </a:lnTo>
                <a:lnTo>
                  <a:pt x="701" y="1734"/>
                </a:lnTo>
                <a:lnTo>
                  <a:pt x="678" y="1757"/>
                </a:lnTo>
                <a:lnTo>
                  <a:pt x="655" y="1778"/>
                </a:lnTo>
                <a:lnTo>
                  <a:pt x="632" y="1799"/>
                </a:lnTo>
                <a:lnTo>
                  <a:pt x="609" y="1820"/>
                </a:lnTo>
                <a:lnTo>
                  <a:pt x="584" y="1839"/>
                </a:lnTo>
                <a:lnTo>
                  <a:pt x="561" y="1860"/>
                </a:lnTo>
                <a:lnTo>
                  <a:pt x="538" y="1878"/>
                </a:lnTo>
                <a:lnTo>
                  <a:pt x="513" y="1897"/>
                </a:lnTo>
                <a:lnTo>
                  <a:pt x="490" y="1914"/>
                </a:lnTo>
                <a:lnTo>
                  <a:pt x="465" y="1931"/>
                </a:lnTo>
                <a:lnTo>
                  <a:pt x="442" y="1947"/>
                </a:lnTo>
                <a:lnTo>
                  <a:pt x="417" y="1962"/>
                </a:lnTo>
                <a:lnTo>
                  <a:pt x="394" y="1976"/>
                </a:lnTo>
                <a:lnTo>
                  <a:pt x="371" y="1991"/>
                </a:lnTo>
                <a:lnTo>
                  <a:pt x="348" y="2004"/>
                </a:lnTo>
                <a:lnTo>
                  <a:pt x="323" y="2016"/>
                </a:lnTo>
                <a:lnTo>
                  <a:pt x="277" y="2041"/>
                </a:lnTo>
                <a:lnTo>
                  <a:pt x="233" y="2064"/>
                </a:lnTo>
                <a:lnTo>
                  <a:pt x="188" y="2087"/>
                </a:lnTo>
                <a:lnTo>
                  <a:pt x="167" y="2097"/>
                </a:lnTo>
                <a:lnTo>
                  <a:pt x="146" y="2106"/>
                </a:lnTo>
                <a:lnTo>
                  <a:pt x="129" y="2116"/>
                </a:lnTo>
                <a:lnTo>
                  <a:pt x="112" y="2123"/>
                </a:lnTo>
                <a:lnTo>
                  <a:pt x="96" y="2131"/>
                </a:lnTo>
                <a:lnTo>
                  <a:pt x="81" y="2137"/>
                </a:lnTo>
                <a:lnTo>
                  <a:pt x="68" y="2143"/>
                </a:lnTo>
                <a:lnTo>
                  <a:pt x="56" y="2146"/>
                </a:lnTo>
                <a:lnTo>
                  <a:pt x="45" y="2150"/>
                </a:lnTo>
                <a:lnTo>
                  <a:pt x="35" y="2154"/>
                </a:lnTo>
                <a:lnTo>
                  <a:pt x="27" y="2156"/>
                </a:lnTo>
                <a:lnTo>
                  <a:pt x="20" y="2158"/>
                </a:lnTo>
                <a:lnTo>
                  <a:pt x="14" y="2158"/>
                </a:lnTo>
                <a:lnTo>
                  <a:pt x="8" y="2158"/>
                </a:lnTo>
                <a:lnTo>
                  <a:pt x="4" y="2156"/>
                </a:lnTo>
                <a:lnTo>
                  <a:pt x="2" y="2156"/>
                </a:lnTo>
                <a:lnTo>
                  <a:pt x="0" y="2154"/>
                </a:lnTo>
                <a:lnTo>
                  <a:pt x="0" y="2152"/>
                </a:lnTo>
                <a:lnTo>
                  <a:pt x="2" y="2148"/>
                </a:lnTo>
                <a:lnTo>
                  <a:pt x="4" y="2145"/>
                </a:lnTo>
                <a:lnTo>
                  <a:pt x="8" y="2141"/>
                </a:lnTo>
                <a:lnTo>
                  <a:pt x="14" y="2133"/>
                </a:lnTo>
                <a:lnTo>
                  <a:pt x="23" y="2127"/>
                </a:lnTo>
                <a:lnTo>
                  <a:pt x="33" y="2120"/>
                </a:lnTo>
                <a:lnTo>
                  <a:pt x="45" y="2110"/>
                </a:lnTo>
                <a:lnTo>
                  <a:pt x="58" y="2100"/>
                </a:lnTo>
                <a:lnTo>
                  <a:pt x="73" y="2089"/>
                </a:lnTo>
                <a:lnTo>
                  <a:pt x="91" y="2075"/>
                </a:lnTo>
                <a:lnTo>
                  <a:pt x="108" y="2062"/>
                </a:lnTo>
                <a:lnTo>
                  <a:pt x="129" y="2049"/>
                </a:lnTo>
                <a:lnTo>
                  <a:pt x="150" y="2031"/>
                </a:lnTo>
                <a:lnTo>
                  <a:pt x="175" y="2014"/>
                </a:lnTo>
                <a:lnTo>
                  <a:pt x="200" y="1997"/>
                </a:lnTo>
                <a:lnTo>
                  <a:pt x="225" y="1978"/>
                </a:lnTo>
                <a:lnTo>
                  <a:pt x="252" y="1960"/>
                </a:lnTo>
                <a:lnTo>
                  <a:pt x="279" y="1941"/>
                </a:lnTo>
                <a:lnTo>
                  <a:pt x="306" y="1920"/>
                </a:lnTo>
                <a:lnTo>
                  <a:pt x="331" y="1901"/>
                </a:lnTo>
                <a:lnTo>
                  <a:pt x="357" y="1878"/>
                </a:lnTo>
                <a:lnTo>
                  <a:pt x="384" y="1857"/>
                </a:lnTo>
                <a:lnTo>
                  <a:pt x="411" y="1832"/>
                </a:lnTo>
                <a:lnTo>
                  <a:pt x="438" y="1809"/>
                </a:lnTo>
                <a:lnTo>
                  <a:pt x="465" y="1784"/>
                </a:lnTo>
                <a:lnTo>
                  <a:pt x="492" y="1757"/>
                </a:lnTo>
                <a:lnTo>
                  <a:pt x="521" y="1730"/>
                </a:lnTo>
                <a:lnTo>
                  <a:pt x="547" y="1701"/>
                </a:lnTo>
                <a:lnTo>
                  <a:pt x="574" y="1670"/>
                </a:lnTo>
                <a:lnTo>
                  <a:pt x="603" y="1642"/>
                </a:lnTo>
                <a:lnTo>
                  <a:pt x="632" y="1609"/>
                </a:lnTo>
                <a:lnTo>
                  <a:pt x="659" y="1576"/>
                </a:lnTo>
                <a:lnTo>
                  <a:pt x="686" y="1544"/>
                </a:lnTo>
                <a:lnTo>
                  <a:pt x="712" y="1509"/>
                </a:lnTo>
                <a:lnTo>
                  <a:pt x="737" y="1477"/>
                </a:lnTo>
                <a:lnTo>
                  <a:pt x="762" y="1442"/>
                </a:lnTo>
                <a:lnTo>
                  <a:pt x="785" y="1406"/>
                </a:lnTo>
                <a:lnTo>
                  <a:pt x="808" y="1369"/>
                </a:lnTo>
                <a:lnTo>
                  <a:pt x="831" y="1333"/>
                </a:lnTo>
                <a:lnTo>
                  <a:pt x="853" y="1296"/>
                </a:lnTo>
                <a:lnTo>
                  <a:pt x="874" y="1258"/>
                </a:lnTo>
                <a:lnTo>
                  <a:pt x="895" y="1217"/>
                </a:lnTo>
                <a:lnTo>
                  <a:pt x="912" y="1177"/>
                </a:lnTo>
                <a:lnTo>
                  <a:pt x="931" y="1137"/>
                </a:lnTo>
                <a:lnTo>
                  <a:pt x="949" y="1095"/>
                </a:lnTo>
                <a:lnTo>
                  <a:pt x="964" y="1050"/>
                </a:lnTo>
                <a:lnTo>
                  <a:pt x="981" y="1006"/>
                </a:lnTo>
                <a:lnTo>
                  <a:pt x="995" y="964"/>
                </a:lnTo>
                <a:lnTo>
                  <a:pt x="1010" y="922"/>
                </a:lnTo>
                <a:lnTo>
                  <a:pt x="1023" y="881"/>
                </a:lnTo>
                <a:lnTo>
                  <a:pt x="1037" y="839"/>
                </a:lnTo>
                <a:lnTo>
                  <a:pt x="1050" y="799"/>
                </a:lnTo>
                <a:lnTo>
                  <a:pt x="1062" y="761"/>
                </a:lnTo>
                <a:lnTo>
                  <a:pt x="1073" y="722"/>
                </a:lnTo>
                <a:lnTo>
                  <a:pt x="1085" y="684"/>
                </a:lnTo>
                <a:lnTo>
                  <a:pt x="1096" y="645"/>
                </a:lnTo>
                <a:lnTo>
                  <a:pt x="1106" y="609"/>
                </a:lnTo>
                <a:lnTo>
                  <a:pt x="1116" y="572"/>
                </a:lnTo>
                <a:lnTo>
                  <a:pt x="1125" y="538"/>
                </a:lnTo>
                <a:lnTo>
                  <a:pt x="1133" y="503"/>
                </a:lnTo>
                <a:lnTo>
                  <a:pt x="1141" y="469"/>
                </a:lnTo>
                <a:lnTo>
                  <a:pt x="1148" y="436"/>
                </a:lnTo>
                <a:lnTo>
                  <a:pt x="1156" y="404"/>
                </a:lnTo>
                <a:lnTo>
                  <a:pt x="1160" y="373"/>
                </a:lnTo>
                <a:lnTo>
                  <a:pt x="1162" y="342"/>
                </a:lnTo>
                <a:lnTo>
                  <a:pt x="1165" y="313"/>
                </a:lnTo>
                <a:lnTo>
                  <a:pt x="1167" y="286"/>
                </a:lnTo>
                <a:lnTo>
                  <a:pt x="1169" y="261"/>
                </a:lnTo>
                <a:lnTo>
                  <a:pt x="1171" y="237"/>
                </a:lnTo>
                <a:lnTo>
                  <a:pt x="1171" y="214"/>
                </a:lnTo>
                <a:lnTo>
                  <a:pt x="1173" y="192"/>
                </a:lnTo>
                <a:lnTo>
                  <a:pt x="1171" y="171"/>
                </a:lnTo>
                <a:lnTo>
                  <a:pt x="1171" y="154"/>
                </a:lnTo>
                <a:lnTo>
                  <a:pt x="1169" y="137"/>
                </a:lnTo>
                <a:lnTo>
                  <a:pt x="1167" y="121"/>
                </a:lnTo>
                <a:lnTo>
                  <a:pt x="1165" y="106"/>
                </a:lnTo>
                <a:lnTo>
                  <a:pt x="1162" y="94"/>
                </a:lnTo>
                <a:lnTo>
                  <a:pt x="1160" y="83"/>
                </a:lnTo>
                <a:lnTo>
                  <a:pt x="1156" y="73"/>
                </a:lnTo>
                <a:lnTo>
                  <a:pt x="1150" y="68"/>
                </a:lnTo>
                <a:lnTo>
                  <a:pt x="1148" y="62"/>
                </a:lnTo>
                <a:lnTo>
                  <a:pt x="1144" y="56"/>
                </a:lnTo>
                <a:lnTo>
                  <a:pt x="1142" y="50"/>
                </a:lnTo>
                <a:lnTo>
                  <a:pt x="1141" y="45"/>
                </a:lnTo>
                <a:lnTo>
                  <a:pt x="1139" y="41"/>
                </a:lnTo>
                <a:lnTo>
                  <a:pt x="1139" y="35"/>
                </a:lnTo>
                <a:lnTo>
                  <a:pt x="1139" y="31"/>
                </a:lnTo>
                <a:lnTo>
                  <a:pt x="1141" y="27"/>
                </a:lnTo>
                <a:lnTo>
                  <a:pt x="1142" y="23"/>
                </a:lnTo>
                <a:lnTo>
                  <a:pt x="1144" y="20"/>
                </a:lnTo>
                <a:lnTo>
                  <a:pt x="1146" y="16"/>
                </a:lnTo>
                <a:lnTo>
                  <a:pt x="1150" y="14"/>
                </a:lnTo>
                <a:lnTo>
                  <a:pt x="1156" y="10"/>
                </a:lnTo>
                <a:lnTo>
                  <a:pt x="1160" y="8"/>
                </a:lnTo>
                <a:lnTo>
                  <a:pt x="1167" y="6"/>
                </a:lnTo>
                <a:lnTo>
                  <a:pt x="1173" y="4"/>
                </a:lnTo>
                <a:lnTo>
                  <a:pt x="1181" y="2"/>
                </a:lnTo>
                <a:lnTo>
                  <a:pt x="1187" y="0"/>
                </a:lnTo>
                <a:lnTo>
                  <a:pt x="1194" y="0"/>
                </a:lnTo>
                <a:lnTo>
                  <a:pt x="1202" y="0"/>
                </a:lnTo>
                <a:lnTo>
                  <a:pt x="1212" y="2"/>
                </a:lnTo>
                <a:lnTo>
                  <a:pt x="1219" y="2"/>
                </a:lnTo>
                <a:lnTo>
                  <a:pt x="1229" y="4"/>
                </a:lnTo>
                <a:lnTo>
                  <a:pt x="1236" y="8"/>
                </a:lnTo>
                <a:lnTo>
                  <a:pt x="1246" y="10"/>
                </a:lnTo>
                <a:lnTo>
                  <a:pt x="1256" y="14"/>
                </a:lnTo>
                <a:lnTo>
                  <a:pt x="1265" y="18"/>
                </a:lnTo>
                <a:lnTo>
                  <a:pt x="1275" y="22"/>
                </a:lnTo>
                <a:lnTo>
                  <a:pt x="1284" y="27"/>
                </a:lnTo>
                <a:lnTo>
                  <a:pt x="1296" y="33"/>
                </a:lnTo>
                <a:lnTo>
                  <a:pt x="1308" y="39"/>
                </a:lnTo>
                <a:lnTo>
                  <a:pt x="1317" y="47"/>
                </a:lnTo>
                <a:lnTo>
                  <a:pt x="1327" y="52"/>
                </a:lnTo>
                <a:lnTo>
                  <a:pt x="1336" y="58"/>
                </a:lnTo>
                <a:lnTo>
                  <a:pt x="1344" y="64"/>
                </a:lnTo>
                <a:lnTo>
                  <a:pt x="1352" y="70"/>
                </a:lnTo>
                <a:lnTo>
                  <a:pt x="1359" y="73"/>
                </a:lnTo>
                <a:lnTo>
                  <a:pt x="1365" y="79"/>
                </a:lnTo>
                <a:lnTo>
                  <a:pt x="1371" y="83"/>
                </a:lnTo>
                <a:lnTo>
                  <a:pt x="1377" y="89"/>
                </a:lnTo>
                <a:lnTo>
                  <a:pt x="1380" y="93"/>
                </a:lnTo>
                <a:lnTo>
                  <a:pt x="1388" y="102"/>
                </a:lnTo>
                <a:lnTo>
                  <a:pt x="1394" y="110"/>
                </a:lnTo>
                <a:lnTo>
                  <a:pt x="1400" y="119"/>
                </a:lnTo>
                <a:lnTo>
                  <a:pt x="1400" y="125"/>
                </a:lnTo>
                <a:lnTo>
                  <a:pt x="1398" y="131"/>
                </a:lnTo>
                <a:lnTo>
                  <a:pt x="1398" y="141"/>
                </a:lnTo>
                <a:lnTo>
                  <a:pt x="1396" y="150"/>
                </a:lnTo>
                <a:lnTo>
                  <a:pt x="1392" y="164"/>
                </a:lnTo>
                <a:lnTo>
                  <a:pt x="1390" y="179"/>
                </a:lnTo>
                <a:lnTo>
                  <a:pt x="1386" y="194"/>
                </a:lnTo>
                <a:lnTo>
                  <a:pt x="1382" y="214"/>
                </a:lnTo>
                <a:lnTo>
                  <a:pt x="1377" y="233"/>
                </a:lnTo>
                <a:lnTo>
                  <a:pt x="1373" y="256"/>
                </a:lnTo>
                <a:lnTo>
                  <a:pt x="1367" y="279"/>
                </a:lnTo>
                <a:lnTo>
                  <a:pt x="1359" y="304"/>
                </a:lnTo>
                <a:lnTo>
                  <a:pt x="1354" y="333"/>
                </a:lnTo>
                <a:lnTo>
                  <a:pt x="1346" y="361"/>
                </a:lnTo>
                <a:lnTo>
                  <a:pt x="1338" y="392"/>
                </a:lnTo>
                <a:lnTo>
                  <a:pt x="1331" y="4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78"/>
          <p:cNvSpPr/>
          <p:nvPr/>
        </p:nvSpPr>
        <p:spPr>
          <a:xfrm>
            <a:off x="5824440" y="3571920"/>
            <a:ext cx="1575000" cy="270000"/>
          </a:xfrm>
          <a:custGeom>
            <a:avLst/>
            <a:gdLst/>
            <a:ahLst/>
            <a:rect l="l" t="t" r="r" b="b"/>
            <a:pathLst>
              <a:path w="1985" h="340">
                <a:moveTo>
                  <a:pt x="1904" y="33"/>
                </a:moveTo>
                <a:lnTo>
                  <a:pt x="1914" y="35"/>
                </a:lnTo>
                <a:lnTo>
                  <a:pt x="1924" y="38"/>
                </a:lnTo>
                <a:lnTo>
                  <a:pt x="1933" y="40"/>
                </a:lnTo>
                <a:lnTo>
                  <a:pt x="1941" y="44"/>
                </a:lnTo>
                <a:lnTo>
                  <a:pt x="1949" y="46"/>
                </a:lnTo>
                <a:lnTo>
                  <a:pt x="1956" y="50"/>
                </a:lnTo>
                <a:lnTo>
                  <a:pt x="1962" y="52"/>
                </a:lnTo>
                <a:lnTo>
                  <a:pt x="1966" y="56"/>
                </a:lnTo>
                <a:lnTo>
                  <a:pt x="1972" y="60"/>
                </a:lnTo>
                <a:lnTo>
                  <a:pt x="1975" y="62"/>
                </a:lnTo>
                <a:lnTo>
                  <a:pt x="1979" y="65"/>
                </a:lnTo>
                <a:lnTo>
                  <a:pt x="1981" y="69"/>
                </a:lnTo>
                <a:lnTo>
                  <a:pt x="1983" y="71"/>
                </a:lnTo>
                <a:lnTo>
                  <a:pt x="1985" y="75"/>
                </a:lnTo>
                <a:lnTo>
                  <a:pt x="1985" y="77"/>
                </a:lnTo>
                <a:lnTo>
                  <a:pt x="1985" y="79"/>
                </a:lnTo>
                <a:lnTo>
                  <a:pt x="1985" y="83"/>
                </a:lnTo>
                <a:lnTo>
                  <a:pt x="1983" y="86"/>
                </a:lnTo>
                <a:lnTo>
                  <a:pt x="1979" y="92"/>
                </a:lnTo>
                <a:lnTo>
                  <a:pt x="1975" y="96"/>
                </a:lnTo>
                <a:lnTo>
                  <a:pt x="1970" y="100"/>
                </a:lnTo>
                <a:lnTo>
                  <a:pt x="1960" y="104"/>
                </a:lnTo>
                <a:lnTo>
                  <a:pt x="1956" y="106"/>
                </a:lnTo>
                <a:lnTo>
                  <a:pt x="1950" y="109"/>
                </a:lnTo>
                <a:lnTo>
                  <a:pt x="1945" y="111"/>
                </a:lnTo>
                <a:lnTo>
                  <a:pt x="1939" y="113"/>
                </a:lnTo>
                <a:lnTo>
                  <a:pt x="1931" y="115"/>
                </a:lnTo>
                <a:lnTo>
                  <a:pt x="1926" y="117"/>
                </a:lnTo>
                <a:lnTo>
                  <a:pt x="1916" y="119"/>
                </a:lnTo>
                <a:lnTo>
                  <a:pt x="1908" y="121"/>
                </a:lnTo>
                <a:lnTo>
                  <a:pt x="1899" y="123"/>
                </a:lnTo>
                <a:lnTo>
                  <a:pt x="1889" y="125"/>
                </a:lnTo>
                <a:lnTo>
                  <a:pt x="1878" y="127"/>
                </a:lnTo>
                <a:lnTo>
                  <a:pt x="1866" y="129"/>
                </a:lnTo>
                <a:lnTo>
                  <a:pt x="1854" y="131"/>
                </a:lnTo>
                <a:lnTo>
                  <a:pt x="1841" y="131"/>
                </a:lnTo>
                <a:lnTo>
                  <a:pt x="1826" y="133"/>
                </a:lnTo>
                <a:lnTo>
                  <a:pt x="1810" y="134"/>
                </a:lnTo>
                <a:lnTo>
                  <a:pt x="1795" y="134"/>
                </a:lnTo>
                <a:lnTo>
                  <a:pt x="1778" y="134"/>
                </a:lnTo>
                <a:lnTo>
                  <a:pt x="1760" y="134"/>
                </a:lnTo>
                <a:lnTo>
                  <a:pt x="1741" y="136"/>
                </a:lnTo>
                <a:lnTo>
                  <a:pt x="1703" y="136"/>
                </a:lnTo>
                <a:lnTo>
                  <a:pt x="1664" y="136"/>
                </a:lnTo>
                <a:lnTo>
                  <a:pt x="1628" y="136"/>
                </a:lnTo>
                <a:lnTo>
                  <a:pt x="1593" y="136"/>
                </a:lnTo>
                <a:lnTo>
                  <a:pt x="1561" y="138"/>
                </a:lnTo>
                <a:lnTo>
                  <a:pt x="1545" y="138"/>
                </a:lnTo>
                <a:lnTo>
                  <a:pt x="1530" y="140"/>
                </a:lnTo>
                <a:lnTo>
                  <a:pt x="1515" y="142"/>
                </a:lnTo>
                <a:lnTo>
                  <a:pt x="1499" y="144"/>
                </a:lnTo>
                <a:lnTo>
                  <a:pt x="1486" y="144"/>
                </a:lnTo>
                <a:lnTo>
                  <a:pt x="1473" y="148"/>
                </a:lnTo>
                <a:lnTo>
                  <a:pt x="1465" y="148"/>
                </a:lnTo>
                <a:lnTo>
                  <a:pt x="1455" y="150"/>
                </a:lnTo>
                <a:lnTo>
                  <a:pt x="1446" y="152"/>
                </a:lnTo>
                <a:lnTo>
                  <a:pt x="1436" y="152"/>
                </a:lnTo>
                <a:lnTo>
                  <a:pt x="1425" y="154"/>
                </a:lnTo>
                <a:lnTo>
                  <a:pt x="1411" y="156"/>
                </a:lnTo>
                <a:lnTo>
                  <a:pt x="1398" y="157"/>
                </a:lnTo>
                <a:lnTo>
                  <a:pt x="1384" y="159"/>
                </a:lnTo>
                <a:lnTo>
                  <a:pt x="1369" y="161"/>
                </a:lnTo>
                <a:lnTo>
                  <a:pt x="1352" y="163"/>
                </a:lnTo>
                <a:lnTo>
                  <a:pt x="1334" y="167"/>
                </a:lnTo>
                <a:lnTo>
                  <a:pt x="1317" y="169"/>
                </a:lnTo>
                <a:lnTo>
                  <a:pt x="1298" y="171"/>
                </a:lnTo>
                <a:lnTo>
                  <a:pt x="1279" y="175"/>
                </a:lnTo>
                <a:lnTo>
                  <a:pt x="1258" y="177"/>
                </a:lnTo>
                <a:lnTo>
                  <a:pt x="1236" y="181"/>
                </a:lnTo>
                <a:lnTo>
                  <a:pt x="1215" y="184"/>
                </a:lnTo>
                <a:lnTo>
                  <a:pt x="1192" y="186"/>
                </a:lnTo>
                <a:lnTo>
                  <a:pt x="1167" y="190"/>
                </a:lnTo>
                <a:lnTo>
                  <a:pt x="1142" y="194"/>
                </a:lnTo>
                <a:lnTo>
                  <a:pt x="1117" y="198"/>
                </a:lnTo>
                <a:lnTo>
                  <a:pt x="1091" y="202"/>
                </a:lnTo>
                <a:lnTo>
                  <a:pt x="1062" y="205"/>
                </a:lnTo>
                <a:lnTo>
                  <a:pt x="1033" y="211"/>
                </a:lnTo>
                <a:lnTo>
                  <a:pt x="1004" y="215"/>
                </a:lnTo>
                <a:lnTo>
                  <a:pt x="973" y="219"/>
                </a:lnTo>
                <a:lnTo>
                  <a:pt x="943" y="225"/>
                </a:lnTo>
                <a:lnTo>
                  <a:pt x="910" y="229"/>
                </a:lnTo>
                <a:lnTo>
                  <a:pt x="877" y="234"/>
                </a:lnTo>
                <a:lnTo>
                  <a:pt x="845" y="238"/>
                </a:lnTo>
                <a:lnTo>
                  <a:pt x="810" y="244"/>
                </a:lnTo>
                <a:lnTo>
                  <a:pt x="774" y="250"/>
                </a:lnTo>
                <a:lnTo>
                  <a:pt x="737" y="255"/>
                </a:lnTo>
                <a:lnTo>
                  <a:pt x="701" y="259"/>
                </a:lnTo>
                <a:lnTo>
                  <a:pt x="668" y="265"/>
                </a:lnTo>
                <a:lnTo>
                  <a:pt x="634" y="269"/>
                </a:lnTo>
                <a:lnTo>
                  <a:pt x="601" y="275"/>
                </a:lnTo>
                <a:lnTo>
                  <a:pt x="570" y="278"/>
                </a:lnTo>
                <a:lnTo>
                  <a:pt x="542" y="284"/>
                </a:lnTo>
                <a:lnTo>
                  <a:pt x="511" y="288"/>
                </a:lnTo>
                <a:lnTo>
                  <a:pt x="484" y="292"/>
                </a:lnTo>
                <a:lnTo>
                  <a:pt x="457" y="296"/>
                </a:lnTo>
                <a:lnTo>
                  <a:pt x="430" y="300"/>
                </a:lnTo>
                <a:lnTo>
                  <a:pt x="407" y="303"/>
                </a:lnTo>
                <a:lnTo>
                  <a:pt x="382" y="307"/>
                </a:lnTo>
                <a:lnTo>
                  <a:pt x="361" y="311"/>
                </a:lnTo>
                <a:lnTo>
                  <a:pt x="338" y="313"/>
                </a:lnTo>
                <a:lnTo>
                  <a:pt x="319" y="317"/>
                </a:lnTo>
                <a:lnTo>
                  <a:pt x="300" y="319"/>
                </a:lnTo>
                <a:lnTo>
                  <a:pt x="281" y="323"/>
                </a:lnTo>
                <a:lnTo>
                  <a:pt x="263" y="324"/>
                </a:lnTo>
                <a:lnTo>
                  <a:pt x="248" y="326"/>
                </a:lnTo>
                <a:lnTo>
                  <a:pt x="233" y="328"/>
                </a:lnTo>
                <a:lnTo>
                  <a:pt x="217" y="330"/>
                </a:lnTo>
                <a:lnTo>
                  <a:pt x="204" y="332"/>
                </a:lnTo>
                <a:lnTo>
                  <a:pt x="192" y="334"/>
                </a:lnTo>
                <a:lnTo>
                  <a:pt x="181" y="336"/>
                </a:lnTo>
                <a:lnTo>
                  <a:pt x="171" y="336"/>
                </a:lnTo>
                <a:lnTo>
                  <a:pt x="163" y="338"/>
                </a:lnTo>
                <a:lnTo>
                  <a:pt x="154" y="338"/>
                </a:lnTo>
                <a:lnTo>
                  <a:pt x="148" y="340"/>
                </a:lnTo>
                <a:lnTo>
                  <a:pt x="142" y="340"/>
                </a:lnTo>
                <a:lnTo>
                  <a:pt x="137" y="340"/>
                </a:lnTo>
                <a:lnTo>
                  <a:pt x="133" y="340"/>
                </a:lnTo>
                <a:lnTo>
                  <a:pt x="121" y="340"/>
                </a:lnTo>
                <a:lnTo>
                  <a:pt x="110" y="338"/>
                </a:lnTo>
                <a:lnTo>
                  <a:pt x="98" y="336"/>
                </a:lnTo>
                <a:lnTo>
                  <a:pt x="87" y="332"/>
                </a:lnTo>
                <a:lnTo>
                  <a:pt x="75" y="326"/>
                </a:lnTo>
                <a:lnTo>
                  <a:pt x="64" y="321"/>
                </a:lnTo>
                <a:lnTo>
                  <a:pt x="52" y="315"/>
                </a:lnTo>
                <a:lnTo>
                  <a:pt x="41" y="307"/>
                </a:lnTo>
                <a:lnTo>
                  <a:pt x="33" y="301"/>
                </a:lnTo>
                <a:lnTo>
                  <a:pt x="27" y="298"/>
                </a:lnTo>
                <a:lnTo>
                  <a:pt x="23" y="294"/>
                </a:lnTo>
                <a:lnTo>
                  <a:pt x="18" y="292"/>
                </a:lnTo>
                <a:lnTo>
                  <a:pt x="14" y="288"/>
                </a:lnTo>
                <a:lnTo>
                  <a:pt x="10" y="286"/>
                </a:lnTo>
                <a:lnTo>
                  <a:pt x="8" y="284"/>
                </a:lnTo>
                <a:lnTo>
                  <a:pt x="6" y="282"/>
                </a:lnTo>
                <a:lnTo>
                  <a:pt x="4" y="280"/>
                </a:lnTo>
                <a:lnTo>
                  <a:pt x="2" y="280"/>
                </a:lnTo>
                <a:lnTo>
                  <a:pt x="0" y="278"/>
                </a:lnTo>
                <a:lnTo>
                  <a:pt x="2" y="280"/>
                </a:lnTo>
                <a:lnTo>
                  <a:pt x="4" y="282"/>
                </a:lnTo>
                <a:lnTo>
                  <a:pt x="6" y="284"/>
                </a:lnTo>
                <a:lnTo>
                  <a:pt x="6" y="286"/>
                </a:lnTo>
                <a:lnTo>
                  <a:pt x="6" y="288"/>
                </a:lnTo>
                <a:lnTo>
                  <a:pt x="8" y="288"/>
                </a:lnTo>
                <a:lnTo>
                  <a:pt x="10" y="288"/>
                </a:lnTo>
                <a:lnTo>
                  <a:pt x="16" y="284"/>
                </a:lnTo>
                <a:lnTo>
                  <a:pt x="21" y="280"/>
                </a:lnTo>
                <a:lnTo>
                  <a:pt x="25" y="278"/>
                </a:lnTo>
                <a:lnTo>
                  <a:pt x="29" y="276"/>
                </a:lnTo>
                <a:lnTo>
                  <a:pt x="35" y="273"/>
                </a:lnTo>
                <a:lnTo>
                  <a:pt x="39" y="269"/>
                </a:lnTo>
                <a:lnTo>
                  <a:pt x="44" y="265"/>
                </a:lnTo>
                <a:lnTo>
                  <a:pt x="52" y="261"/>
                </a:lnTo>
                <a:lnTo>
                  <a:pt x="54" y="259"/>
                </a:lnTo>
                <a:lnTo>
                  <a:pt x="60" y="257"/>
                </a:lnTo>
                <a:lnTo>
                  <a:pt x="66" y="255"/>
                </a:lnTo>
                <a:lnTo>
                  <a:pt x="73" y="253"/>
                </a:lnTo>
                <a:lnTo>
                  <a:pt x="81" y="252"/>
                </a:lnTo>
                <a:lnTo>
                  <a:pt x="92" y="250"/>
                </a:lnTo>
                <a:lnTo>
                  <a:pt x="104" y="248"/>
                </a:lnTo>
                <a:lnTo>
                  <a:pt x="117" y="244"/>
                </a:lnTo>
                <a:lnTo>
                  <a:pt x="131" y="242"/>
                </a:lnTo>
                <a:lnTo>
                  <a:pt x="148" y="238"/>
                </a:lnTo>
                <a:lnTo>
                  <a:pt x="165" y="234"/>
                </a:lnTo>
                <a:lnTo>
                  <a:pt x="185" y="230"/>
                </a:lnTo>
                <a:lnTo>
                  <a:pt x="206" y="227"/>
                </a:lnTo>
                <a:lnTo>
                  <a:pt x="229" y="223"/>
                </a:lnTo>
                <a:lnTo>
                  <a:pt x="252" y="217"/>
                </a:lnTo>
                <a:lnTo>
                  <a:pt x="277" y="213"/>
                </a:lnTo>
                <a:lnTo>
                  <a:pt x="304" y="207"/>
                </a:lnTo>
                <a:lnTo>
                  <a:pt x="332" y="204"/>
                </a:lnTo>
                <a:lnTo>
                  <a:pt x="361" y="198"/>
                </a:lnTo>
                <a:lnTo>
                  <a:pt x="392" y="192"/>
                </a:lnTo>
                <a:lnTo>
                  <a:pt x="424" y="186"/>
                </a:lnTo>
                <a:lnTo>
                  <a:pt x="459" y="181"/>
                </a:lnTo>
                <a:lnTo>
                  <a:pt x="496" y="175"/>
                </a:lnTo>
                <a:lnTo>
                  <a:pt x="532" y="169"/>
                </a:lnTo>
                <a:lnTo>
                  <a:pt x="570" y="161"/>
                </a:lnTo>
                <a:lnTo>
                  <a:pt x="609" y="156"/>
                </a:lnTo>
                <a:lnTo>
                  <a:pt x="651" y="150"/>
                </a:lnTo>
                <a:lnTo>
                  <a:pt x="693" y="142"/>
                </a:lnTo>
                <a:lnTo>
                  <a:pt x="737" y="134"/>
                </a:lnTo>
                <a:lnTo>
                  <a:pt x="783" y="129"/>
                </a:lnTo>
                <a:lnTo>
                  <a:pt x="829" y="121"/>
                </a:lnTo>
                <a:lnTo>
                  <a:pt x="879" y="113"/>
                </a:lnTo>
                <a:lnTo>
                  <a:pt x="927" y="106"/>
                </a:lnTo>
                <a:lnTo>
                  <a:pt x="973" y="98"/>
                </a:lnTo>
                <a:lnTo>
                  <a:pt x="1020" y="92"/>
                </a:lnTo>
                <a:lnTo>
                  <a:pt x="1064" y="85"/>
                </a:lnTo>
                <a:lnTo>
                  <a:pt x="1108" y="79"/>
                </a:lnTo>
                <a:lnTo>
                  <a:pt x="1148" y="73"/>
                </a:lnTo>
                <a:lnTo>
                  <a:pt x="1188" y="67"/>
                </a:lnTo>
                <a:lnTo>
                  <a:pt x="1229" y="62"/>
                </a:lnTo>
                <a:lnTo>
                  <a:pt x="1265" y="56"/>
                </a:lnTo>
                <a:lnTo>
                  <a:pt x="1302" y="50"/>
                </a:lnTo>
                <a:lnTo>
                  <a:pt x="1336" y="46"/>
                </a:lnTo>
                <a:lnTo>
                  <a:pt x="1371" y="40"/>
                </a:lnTo>
                <a:lnTo>
                  <a:pt x="1401" y="37"/>
                </a:lnTo>
                <a:lnTo>
                  <a:pt x="1432" y="33"/>
                </a:lnTo>
                <a:lnTo>
                  <a:pt x="1463" y="29"/>
                </a:lnTo>
                <a:lnTo>
                  <a:pt x="1490" y="25"/>
                </a:lnTo>
                <a:lnTo>
                  <a:pt x="1517" y="23"/>
                </a:lnTo>
                <a:lnTo>
                  <a:pt x="1542" y="19"/>
                </a:lnTo>
                <a:lnTo>
                  <a:pt x="1567" y="15"/>
                </a:lnTo>
                <a:lnTo>
                  <a:pt x="1588" y="14"/>
                </a:lnTo>
                <a:lnTo>
                  <a:pt x="1609" y="12"/>
                </a:lnTo>
                <a:lnTo>
                  <a:pt x="1630" y="10"/>
                </a:lnTo>
                <a:lnTo>
                  <a:pt x="1647" y="8"/>
                </a:lnTo>
                <a:lnTo>
                  <a:pt x="1664" y="6"/>
                </a:lnTo>
                <a:lnTo>
                  <a:pt x="1680" y="4"/>
                </a:lnTo>
                <a:lnTo>
                  <a:pt x="1695" y="2"/>
                </a:lnTo>
                <a:lnTo>
                  <a:pt x="1709" y="2"/>
                </a:lnTo>
                <a:lnTo>
                  <a:pt x="1720" y="0"/>
                </a:lnTo>
                <a:lnTo>
                  <a:pt x="1730" y="0"/>
                </a:lnTo>
                <a:lnTo>
                  <a:pt x="1739" y="0"/>
                </a:lnTo>
                <a:lnTo>
                  <a:pt x="1747" y="0"/>
                </a:lnTo>
                <a:lnTo>
                  <a:pt x="1753" y="0"/>
                </a:lnTo>
                <a:lnTo>
                  <a:pt x="1770" y="0"/>
                </a:lnTo>
                <a:lnTo>
                  <a:pt x="1787" y="2"/>
                </a:lnTo>
                <a:lnTo>
                  <a:pt x="1805" y="4"/>
                </a:lnTo>
                <a:lnTo>
                  <a:pt x="1824" y="8"/>
                </a:lnTo>
                <a:lnTo>
                  <a:pt x="1843" y="12"/>
                </a:lnTo>
                <a:lnTo>
                  <a:pt x="1862" y="17"/>
                </a:lnTo>
                <a:lnTo>
                  <a:pt x="1883" y="25"/>
                </a:lnTo>
                <a:lnTo>
                  <a:pt x="1904" y="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79"/>
          <p:cNvSpPr/>
          <p:nvPr/>
        </p:nvSpPr>
        <p:spPr>
          <a:xfrm>
            <a:off x="6161040" y="3336840"/>
            <a:ext cx="943200" cy="214560"/>
          </a:xfrm>
          <a:custGeom>
            <a:avLst/>
            <a:gdLst/>
            <a:ahLst/>
            <a:rect l="l" t="t" r="r" b="b"/>
            <a:pathLst>
              <a:path w="1189" h="269">
                <a:moveTo>
                  <a:pt x="1143" y="22"/>
                </a:moveTo>
                <a:lnTo>
                  <a:pt x="1148" y="24"/>
                </a:lnTo>
                <a:lnTo>
                  <a:pt x="1154" y="27"/>
                </a:lnTo>
                <a:lnTo>
                  <a:pt x="1160" y="29"/>
                </a:lnTo>
                <a:lnTo>
                  <a:pt x="1164" y="33"/>
                </a:lnTo>
                <a:lnTo>
                  <a:pt x="1168" y="35"/>
                </a:lnTo>
                <a:lnTo>
                  <a:pt x="1171" y="39"/>
                </a:lnTo>
                <a:lnTo>
                  <a:pt x="1179" y="45"/>
                </a:lnTo>
                <a:lnTo>
                  <a:pt x="1183" y="50"/>
                </a:lnTo>
                <a:lnTo>
                  <a:pt x="1187" y="58"/>
                </a:lnTo>
                <a:lnTo>
                  <a:pt x="1189" y="64"/>
                </a:lnTo>
                <a:lnTo>
                  <a:pt x="1189" y="68"/>
                </a:lnTo>
                <a:lnTo>
                  <a:pt x="1187" y="70"/>
                </a:lnTo>
                <a:lnTo>
                  <a:pt x="1183" y="73"/>
                </a:lnTo>
                <a:lnTo>
                  <a:pt x="1179" y="75"/>
                </a:lnTo>
                <a:lnTo>
                  <a:pt x="1173" y="77"/>
                </a:lnTo>
                <a:lnTo>
                  <a:pt x="1168" y="81"/>
                </a:lnTo>
                <a:lnTo>
                  <a:pt x="1162" y="85"/>
                </a:lnTo>
                <a:lnTo>
                  <a:pt x="1154" y="89"/>
                </a:lnTo>
                <a:lnTo>
                  <a:pt x="1144" y="93"/>
                </a:lnTo>
                <a:lnTo>
                  <a:pt x="1135" y="95"/>
                </a:lnTo>
                <a:lnTo>
                  <a:pt x="1125" y="98"/>
                </a:lnTo>
                <a:lnTo>
                  <a:pt x="1116" y="104"/>
                </a:lnTo>
                <a:lnTo>
                  <a:pt x="1104" y="108"/>
                </a:lnTo>
                <a:lnTo>
                  <a:pt x="1091" y="112"/>
                </a:lnTo>
                <a:lnTo>
                  <a:pt x="1077" y="116"/>
                </a:lnTo>
                <a:lnTo>
                  <a:pt x="1064" y="119"/>
                </a:lnTo>
                <a:lnTo>
                  <a:pt x="1049" y="125"/>
                </a:lnTo>
                <a:lnTo>
                  <a:pt x="1031" y="129"/>
                </a:lnTo>
                <a:lnTo>
                  <a:pt x="1012" y="133"/>
                </a:lnTo>
                <a:lnTo>
                  <a:pt x="993" y="137"/>
                </a:lnTo>
                <a:lnTo>
                  <a:pt x="972" y="143"/>
                </a:lnTo>
                <a:lnTo>
                  <a:pt x="951" y="146"/>
                </a:lnTo>
                <a:lnTo>
                  <a:pt x="930" y="150"/>
                </a:lnTo>
                <a:lnTo>
                  <a:pt x="906" y="156"/>
                </a:lnTo>
                <a:lnTo>
                  <a:pt x="883" y="160"/>
                </a:lnTo>
                <a:lnTo>
                  <a:pt x="858" y="166"/>
                </a:lnTo>
                <a:lnTo>
                  <a:pt x="834" y="169"/>
                </a:lnTo>
                <a:lnTo>
                  <a:pt x="807" y="175"/>
                </a:lnTo>
                <a:lnTo>
                  <a:pt x="780" y="181"/>
                </a:lnTo>
                <a:lnTo>
                  <a:pt x="753" y="187"/>
                </a:lnTo>
                <a:lnTo>
                  <a:pt x="724" y="192"/>
                </a:lnTo>
                <a:lnTo>
                  <a:pt x="693" y="198"/>
                </a:lnTo>
                <a:lnTo>
                  <a:pt x="665" y="204"/>
                </a:lnTo>
                <a:lnTo>
                  <a:pt x="632" y="210"/>
                </a:lnTo>
                <a:lnTo>
                  <a:pt x="601" y="215"/>
                </a:lnTo>
                <a:lnTo>
                  <a:pt x="574" y="221"/>
                </a:lnTo>
                <a:lnTo>
                  <a:pt x="546" y="225"/>
                </a:lnTo>
                <a:lnTo>
                  <a:pt x="521" y="231"/>
                </a:lnTo>
                <a:lnTo>
                  <a:pt x="498" y="235"/>
                </a:lnTo>
                <a:lnTo>
                  <a:pt x="475" y="237"/>
                </a:lnTo>
                <a:lnTo>
                  <a:pt x="455" y="240"/>
                </a:lnTo>
                <a:lnTo>
                  <a:pt x="436" y="242"/>
                </a:lnTo>
                <a:lnTo>
                  <a:pt x="419" y="244"/>
                </a:lnTo>
                <a:lnTo>
                  <a:pt x="404" y="246"/>
                </a:lnTo>
                <a:lnTo>
                  <a:pt x="390" y="248"/>
                </a:lnTo>
                <a:lnTo>
                  <a:pt x="377" y="248"/>
                </a:lnTo>
                <a:lnTo>
                  <a:pt x="367" y="248"/>
                </a:lnTo>
                <a:lnTo>
                  <a:pt x="358" y="250"/>
                </a:lnTo>
                <a:lnTo>
                  <a:pt x="350" y="250"/>
                </a:lnTo>
                <a:lnTo>
                  <a:pt x="342" y="250"/>
                </a:lnTo>
                <a:lnTo>
                  <a:pt x="336" y="250"/>
                </a:lnTo>
                <a:lnTo>
                  <a:pt x="319" y="250"/>
                </a:lnTo>
                <a:lnTo>
                  <a:pt x="302" y="250"/>
                </a:lnTo>
                <a:lnTo>
                  <a:pt x="283" y="252"/>
                </a:lnTo>
                <a:lnTo>
                  <a:pt x="263" y="252"/>
                </a:lnTo>
                <a:lnTo>
                  <a:pt x="242" y="254"/>
                </a:lnTo>
                <a:lnTo>
                  <a:pt x="219" y="258"/>
                </a:lnTo>
                <a:lnTo>
                  <a:pt x="198" y="262"/>
                </a:lnTo>
                <a:lnTo>
                  <a:pt x="177" y="265"/>
                </a:lnTo>
                <a:lnTo>
                  <a:pt x="154" y="267"/>
                </a:lnTo>
                <a:lnTo>
                  <a:pt x="135" y="269"/>
                </a:lnTo>
                <a:lnTo>
                  <a:pt x="114" y="269"/>
                </a:lnTo>
                <a:lnTo>
                  <a:pt x="95" y="267"/>
                </a:lnTo>
                <a:lnTo>
                  <a:pt x="77" y="263"/>
                </a:lnTo>
                <a:lnTo>
                  <a:pt x="70" y="260"/>
                </a:lnTo>
                <a:lnTo>
                  <a:pt x="62" y="258"/>
                </a:lnTo>
                <a:lnTo>
                  <a:pt x="54" y="254"/>
                </a:lnTo>
                <a:lnTo>
                  <a:pt x="47" y="250"/>
                </a:lnTo>
                <a:lnTo>
                  <a:pt x="39" y="246"/>
                </a:lnTo>
                <a:lnTo>
                  <a:pt x="31" y="240"/>
                </a:lnTo>
                <a:lnTo>
                  <a:pt x="25" y="237"/>
                </a:lnTo>
                <a:lnTo>
                  <a:pt x="20" y="233"/>
                </a:lnTo>
                <a:lnTo>
                  <a:pt x="14" y="229"/>
                </a:lnTo>
                <a:lnTo>
                  <a:pt x="10" y="225"/>
                </a:lnTo>
                <a:lnTo>
                  <a:pt x="6" y="221"/>
                </a:lnTo>
                <a:lnTo>
                  <a:pt x="4" y="217"/>
                </a:lnTo>
                <a:lnTo>
                  <a:pt x="2" y="214"/>
                </a:lnTo>
                <a:lnTo>
                  <a:pt x="0" y="210"/>
                </a:lnTo>
                <a:lnTo>
                  <a:pt x="0" y="206"/>
                </a:lnTo>
                <a:lnTo>
                  <a:pt x="0" y="204"/>
                </a:lnTo>
                <a:lnTo>
                  <a:pt x="2" y="200"/>
                </a:lnTo>
                <a:lnTo>
                  <a:pt x="4" y="198"/>
                </a:lnTo>
                <a:lnTo>
                  <a:pt x="8" y="194"/>
                </a:lnTo>
                <a:lnTo>
                  <a:pt x="12" y="192"/>
                </a:lnTo>
                <a:lnTo>
                  <a:pt x="16" y="191"/>
                </a:lnTo>
                <a:lnTo>
                  <a:pt x="20" y="189"/>
                </a:lnTo>
                <a:lnTo>
                  <a:pt x="25" y="187"/>
                </a:lnTo>
                <a:lnTo>
                  <a:pt x="33" y="185"/>
                </a:lnTo>
                <a:lnTo>
                  <a:pt x="43" y="183"/>
                </a:lnTo>
                <a:lnTo>
                  <a:pt x="54" y="181"/>
                </a:lnTo>
                <a:lnTo>
                  <a:pt x="66" y="177"/>
                </a:lnTo>
                <a:lnTo>
                  <a:pt x="81" y="175"/>
                </a:lnTo>
                <a:lnTo>
                  <a:pt x="96" y="173"/>
                </a:lnTo>
                <a:lnTo>
                  <a:pt x="114" y="171"/>
                </a:lnTo>
                <a:lnTo>
                  <a:pt x="131" y="169"/>
                </a:lnTo>
                <a:lnTo>
                  <a:pt x="150" y="167"/>
                </a:lnTo>
                <a:lnTo>
                  <a:pt x="173" y="166"/>
                </a:lnTo>
                <a:lnTo>
                  <a:pt x="194" y="164"/>
                </a:lnTo>
                <a:lnTo>
                  <a:pt x="219" y="160"/>
                </a:lnTo>
                <a:lnTo>
                  <a:pt x="244" y="158"/>
                </a:lnTo>
                <a:lnTo>
                  <a:pt x="271" y="156"/>
                </a:lnTo>
                <a:lnTo>
                  <a:pt x="298" y="154"/>
                </a:lnTo>
                <a:lnTo>
                  <a:pt x="325" y="150"/>
                </a:lnTo>
                <a:lnTo>
                  <a:pt x="352" y="146"/>
                </a:lnTo>
                <a:lnTo>
                  <a:pt x="407" y="137"/>
                </a:lnTo>
                <a:lnTo>
                  <a:pt x="465" y="125"/>
                </a:lnTo>
                <a:lnTo>
                  <a:pt x="524" y="114"/>
                </a:lnTo>
                <a:lnTo>
                  <a:pt x="584" y="100"/>
                </a:lnTo>
                <a:lnTo>
                  <a:pt x="615" y="93"/>
                </a:lnTo>
                <a:lnTo>
                  <a:pt x="647" y="85"/>
                </a:lnTo>
                <a:lnTo>
                  <a:pt x="678" y="75"/>
                </a:lnTo>
                <a:lnTo>
                  <a:pt x="711" y="68"/>
                </a:lnTo>
                <a:lnTo>
                  <a:pt x="743" y="60"/>
                </a:lnTo>
                <a:lnTo>
                  <a:pt x="774" y="52"/>
                </a:lnTo>
                <a:lnTo>
                  <a:pt x="803" y="45"/>
                </a:lnTo>
                <a:lnTo>
                  <a:pt x="830" y="37"/>
                </a:lnTo>
                <a:lnTo>
                  <a:pt x="855" y="31"/>
                </a:lnTo>
                <a:lnTo>
                  <a:pt x="878" y="25"/>
                </a:lnTo>
                <a:lnTo>
                  <a:pt x="901" y="22"/>
                </a:lnTo>
                <a:lnTo>
                  <a:pt x="922" y="16"/>
                </a:lnTo>
                <a:lnTo>
                  <a:pt x="941" y="12"/>
                </a:lnTo>
                <a:lnTo>
                  <a:pt x="960" y="8"/>
                </a:lnTo>
                <a:lnTo>
                  <a:pt x="976" y="6"/>
                </a:lnTo>
                <a:lnTo>
                  <a:pt x="991" y="4"/>
                </a:lnTo>
                <a:lnTo>
                  <a:pt x="1004" y="2"/>
                </a:lnTo>
                <a:lnTo>
                  <a:pt x="1016" y="0"/>
                </a:lnTo>
                <a:lnTo>
                  <a:pt x="1027" y="0"/>
                </a:lnTo>
                <a:lnTo>
                  <a:pt x="1037" y="0"/>
                </a:lnTo>
                <a:lnTo>
                  <a:pt x="1050" y="0"/>
                </a:lnTo>
                <a:lnTo>
                  <a:pt x="1064" y="2"/>
                </a:lnTo>
                <a:lnTo>
                  <a:pt x="1077" y="4"/>
                </a:lnTo>
                <a:lnTo>
                  <a:pt x="1089" y="6"/>
                </a:lnTo>
                <a:lnTo>
                  <a:pt x="1102" y="10"/>
                </a:lnTo>
                <a:lnTo>
                  <a:pt x="1116" y="14"/>
                </a:lnTo>
                <a:lnTo>
                  <a:pt x="1143" y="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80"/>
          <p:cNvSpPr/>
          <p:nvPr/>
        </p:nvSpPr>
        <p:spPr>
          <a:xfrm>
            <a:off x="6086520" y="3057480"/>
            <a:ext cx="1138320" cy="252360"/>
          </a:xfrm>
          <a:custGeom>
            <a:avLst/>
            <a:gdLst/>
            <a:ahLst/>
            <a:rect l="l" t="t" r="r" b="b"/>
            <a:pathLst>
              <a:path w="1434" h="319">
                <a:moveTo>
                  <a:pt x="71" y="296"/>
                </a:moveTo>
                <a:lnTo>
                  <a:pt x="62" y="294"/>
                </a:lnTo>
                <a:lnTo>
                  <a:pt x="54" y="290"/>
                </a:lnTo>
                <a:lnTo>
                  <a:pt x="46" y="288"/>
                </a:lnTo>
                <a:lnTo>
                  <a:pt x="41" y="284"/>
                </a:lnTo>
                <a:lnTo>
                  <a:pt x="35" y="282"/>
                </a:lnTo>
                <a:lnTo>
                  <a:pt x="29" y="279"/>
                </a:lnTo>
                <a:lnTo>
                  <a:pt x="23" y="277"/>
                </a:lnTo>
                <a:lnTo>
                  <a:pt x="18" y="273"/>
                </a:lnTo>
                <a:lnTo>
                  <a:pt x="14" y="269"/>
                </a:lnTo>
                <a:lnTo>
                  <a:pt x="10" y="267"/>
                </a:lnTo>
                <a:lnTo>
                  <a:pt x="8" y="263"/>
                </a:lnTo>
                <a:lnTo>
                  <a:pt x="6" y="259"/>
                </a:lnTo>
                <a:lnTo>
                  <a:pt x="4" y="258"/>
                </a:lnTo>
                <a:lnTo>
                  <a:pt x="2" y="256"/>
                </a:lnTo>
                <a:lnTo>
                  <a:pt x="0" y="252"/>
                </a:lnTo>
                <a:lnTo>
                  <a:pt x="0" y="250"/>
                </a:lnTo>
                <a:lnTo>
                  <a:pt x="2" y="248"/>
                </a:lnTo>
                <a:lnTo>
                  <a:pt x="4" y="246"/>
                </a:lnTo>
                <a:lnTo>
                  <a:pt x="8" y="244"/>
                </a:lnTo>
                <a:lnTo>
                  <a:pt x="14" y="242"/>
                </a:lnTo>
                <a:lnTo>
                  <a:pt x="22" y="238"/>
                </a:lnTo>
                <a:lnTo>
                  <a:pt x="29" y="236"/>
                </a:lnTo>
                <a:lnTo>
                  <a:pt x="41" y="234"/>
                </a:lnTo>
                <a:lnTo>
                  <a:pt x="52" y="231"/>
                </a:lnTo>
                <a:lnTo>
                  <a:pt x="66" y="229"/>
                </a:lnTo>
                <a:lnTo>
                  <a:pt x="81" y="227"/>
                </a:lnTo>
                <a:lnTo>
                  <a:pt x="96" y="223"/>
                </a:lnTo>
                <a:lnTo>
                  <a:pt x="114" y="219"/>
                </a:lnTo>
                <a:lnTo>
                  <a:pt x="133" y="215"/>
                </a:lnTo>
                <a:lnTo>
                  <a:pt x="154" y="213"/>
                </a:lnTo>
                <a:lnTo>
                  <a:pt x="175" y="208"/>
                </a:lnTo>
                <a:lnTo>
                  <a:pt x="200" y="204"/>
                </a:lnTo>
                <a:lnTo>
                  <a:pt x="223" y="202"/>
                </a:lnTo>
                <a:lnTo>
                  <a:pt x="250" y="198"/>
                </a:lnTo>
                <a:lnTo>
                  <a:pt x="279" y="194"/>
                </a:lnTo>
                <a:lnTo>
                  <a:pt x="308" y="190"/>
                </a:lnTo>
                <a:lnTo>
                  <a:pt x="340" y="185"/>
                </a:lnTo>
                <a:lnTo>
                  <a:pt x="373" y="179"/>
                </a:lnTo>
                <a:lnTo>
                  <a:pt x="407" y="171"/>
                </a:lnTo>
                <a:lnTo>
                  <a:pt x="444" y="165"/>
                </a:lnTo>
                <a:lnTo>
                  <a:pt x="482" y="158"/>
                </a:lnTo>
                <a:lnTo>
                  <a:pt x="521" y="148"/>
                </a:lnTo>
                <a:lnTo>
                  <a:pt x="563" y="140"/>
                </a:lnTo>
                <a:lnTo>
                  <a:pt x="605" y="131"/>
                </a:lnTo>
                <a:lnTo>
                  <a:pt x="649" y="121"/>
                </a:lnTo>
                <a:lnTo>
                  <a:pt x="695" y="112"/>
                </a:lnTo>
                <a:lnTo>
                  <a:pt x="743" y="102"/>
                </a:lnTo>
                <a:lnTo>
                  <a:pt x="793" y="91"/>
                </a:lnTo>
                <a:lnTo>
                  <a:pt x="816" y="85"/>
                </a:lnTo>
                <a:lnTo>
                  <a:pt x="839" y="81"/>
                </a:lnTo>
                <a:lnTo>
                  <a:pt x="862" y="75"/>
                </a:lnTo>
                <a:lnTo>
                  <a:pt x="885" y="69"/>
                </a:lnTo>
                <a:lnTo>
                  <a:pt x="906" y="66"/>
                </a:lnTo>
                <a:lnTo>
                  <a:pt x="926" y="62"/>
                </a:lnTo>
                <a:lnTo>
                  <a:pt x="947" y="56"/>
                </a:lnTo>
                <a:lnTo>
                  <a:pt x="966" y="52"/>
                </a:lnTo>
                <a:lnTo>
                  <a:pt x="985" y="48"/>
                </a:lnTo>
                <a:lnTo>
                  <a:pt x="1002" y="44"/>
                </a:lnTo>
                <a:lnTo>
                  <a:pt x="1022" y="41"/>
                </a:lnTo>
                <a:lnTo>
                  <a:pt x="1039" y="37"/>
                </a:lnTo>
                <a:lnTo>
                  <a:pt x="1054" y="33"/>
                </a:lnTo>
                <a:lnTo>
                  <a:pt x="1070" y="29"/>
                </a:lnTo>
                <a:lnTo>
                  <a:pt x="1085" y="27"/>
                </a:lnTo>
                <a:lnTo>
                  <a:pt x="1100" y="23"/>
                </a:lnTo>
                <a:lnTo>
                  <a:pt x="1116" y="21"/>
                </a:lnTo>
                <a:lnTo>
                  <a:pt x="1129" y="18"/>
                </a:lnTo>
                <a:lnTo>
                  <a:pt x="1141" y="16"/>
                </a:lnTo>
                <a:lnTo>
                  <a:pt x="1154" y="14"/>
                </a:lnTo>
                <a:lnTo>
                  <a:pt x="1166" y="12"/>
                </a:lnTo>
                <a:lnTo>
                  <a:pt x="1177" y="10"/>
                </a:lnTo>
                <a:lnTo>
                  <a:pt x="1189" y="8"/>
                </a:lnTo>
                <a:lnTo>
                  <a:pt x="1198" y="6"/>
                </a:lnTo>
                <a:lnTo>
                  <a:pt x="1208" y="4"/>
                </a:lnTo>
                <a:lnTo>
                  <a:pt x="1217" y="4"/>
                </a:lnTo>
                <a:lnTo>
                  <a:pt x="1225" y="2"/>
                </a:lnTo>
                <a:lnTo>
                  <a:pt x="1233" y="2"/>
                </a:lnTo>
                <a:lnTo>
                  <a:pt x="1240" y="0"/>
                </a:lnTo>
                <a:lnTo>
                  <a:pt x="1248" y="0"/>
                </a:lnTo>
                <a:lnTo>
                  <a:pt x="1254" y="0"/>
                </a:lnTo>
                <a:lnTo>
                  <a:pt x="1260" y="0"/>
                </a:lnTo>
                <a:lnTo>
                  <a:pt x="1269" y="0"/>
                </a:lnTo>
                <a:lnTo>
                  <a:pt x="1281" y="0"/>
                </a:lnTo>
                <a:lnTo>
                  <a:pt x="1290" y="0"/>
                </a:lnTo>
                <a:lnTo>
                  <a:pt x="1300" y="0"/>
                </a:lnTo>
                <a:lnTo>
                  <a:pt x="1317" y="0"/>
                </a:lnTo>
                <a:lnTo>
                  <a:pt x="1333" y="0"/>
                </a:lnTo>
                <a:lnTo>
                  <a:pt x="1348" y="2"/>
                </a:lnTo>
                <a:lnTo>
                  <a:pt x="1361" y="4"/>
                </a:lnTo>
                <a:lnTo>
                  <a:pt x="1375" y="8"/>
                </a:lnTo>
                <a:lnTo>
                  <a:pt x="1388" y="12"/>
                </a:lnTo>
                <a:lnTo>
                  <a:pt x="1394" y="14"/>
                </a:lnTo>
                <a:lnTo>
                  <a:pt x="1400" y="16"/>
                </a:lnTo>
                <a:lnTo>
                  <a:pt x="1405" y="19"/>
                </a:lnTo>
                <a:lnTo>
                  <a:pt x="1409" y="21"/>
                </a:lnTo>
                <a:lnTo>
                  <a:pt x="1417" y="27"/>
                </a:lnTo>
                <a:lnTo>
                  <a:pt x="1425" y="35"/>
                </a:lnTo>
                <a:lnTo>
                  <a:pt x="1429" y="41"/>
                </a:lnTo>
                <a:lnTo>
                  <a:pt x="1432" y="46"/>
                </a:lnTo>
                <a:lnTo>
                  <a:pt x="1434" y="52"/>
                </a:lnTo>
                <a:lnTo>
                  <a:pt x="1434" y="56"/>
                </a:lnTo>
                <a:lnTo>
                  <a:pt x="1434" y="62"/>
                </a:lnTo>
                <a:lnTo>
                  <a:pt x="1432" y="66"/>
                </a:lnTo>
                <a:lnTo>
                  <a:pt x="1430" y="69"/>
                </a:lnTo>
                <a:lnTo>
                  <a:pt x="1429" y="73"/>
                </a:lnTo>
                <a:lnTo>
                  <a:pt x="1425" y="77"/>
                </a:lnTo>
                <a:lnTo>
                  <a:pt x="1421" y="81"/>
                </a:lnTo>
                <a:lnTo>
                  <a:pt x="1415" y="85"/>
                </a:lnTo>
                <a:lnTo>
                  <a:pt x="1409" y="89"/>
                </a:lnTo>
                <a:lnTo>
                  <a:pt x="1404" y="92"/>
                </a:lnTo>
                <a:lnTo>
                  <a:pt x="1396" y="96"/>
                </a:lnTo>
                <a:lnTo>
                  <a:pt x="1388" y="100"/>
                </a:lnTo>
                <a:lnTo>
                  <a:pt x="1381" y="104"/>
                </a:lnTo>
                <a:lnTo>
                  <a:pt x="1371" y="106"/>
                </a:lnTo>
                <a:lnTo>
                  <a:pt x="1361" y="110"/>
                </a:lnTo>
                <a:lnTo>
                  <a:pt x="1352" y="112"/>
                </a:lnTo>
                <a:lnTo>
                  <a:pt x="1340" y="114"/>
                </a:lnTo>
                <a:lnTo>
                  <a:pt x="1329" y="117"/>
                </a:lnTo>
                <a:lnTo>
                  <a:pt x="1315" y="123"/>
                </a:lnTo>
                <a:lnTo>
                  <a:pt x="1300" y="127"/>
                </a:lnTo>
                <a:lnTo>
                  <a:pt x="1285" y="131"/>
                </a:lnTo>
                <a:lnTo>
                  <a:pt x="1265" y="135"/>
                </a:lnTo>
                <a:lnTo>
                  <a:pt x="1246" y="140"/>
                </a:lnTo>
                <a:lnTo>
                  <a:pt x="1225" y="144"/>
                </a:lnTo>
                <a:lnTo>
                  <a:pt x="1202" y="148"/>
                </a:lnTo>
                <a:lnTo>
                  <a:pt x="1179" y="154"/>
                </a:lnTo>
                <a:lnTo>
                  <a:pt x="1152" y="160"/>
                </a:lnTo>
                <a:lnTo>
                  <a:pt x="1125" y="163"/>
                </a:lnTo>
                <a:lnTo>
                  <a:pt x="1096" y="169"/>
                </a:lnTo>
                <a:lnTo>
                  <a:pt x="1066" y="175"/>
                </a:lnTo>
                <a:lnTo>
                  <a:pt x="1035" y="181"/>
                </a:lnTo>
                <a:lnTo>
                  <a:pt x="1002" y="186"/>
                </a:lnTo>
                <a:lnTo>
                  <a:pt x="968" y="194"/>
                </a:lnTo>
                <a:lnTo>
                  <a:pt x="899" y="206"/>
                </a:lnTo>
                <a:lnTo>
                  <a:pt x="830" y="217"/>
                </a:lnTo>
                <a:lnTo>
                  <a:pt x="764" y="227"/>
                </a:lnTo>
                <a:lnTo>
                  <a:pt x="699" y="236"/>
                </a:lnTo>
                <a:lnTo>
                  <a:pt x="636" y="246"/>
                </a:lnTo>
                <a:lnTo>
                  <a:pt x="572" y="256"/>
                </a:lnTo>
                <a:lnTo>
                  <a:pt x="544" y="259"/>
                </a:lnTo>
                <a:lnTo>
                  <a:pt x="513" y="263"/>
                </a:lnTo>
                <a:lnTo>
                  <a:pt x="484" y="269"/>
                </a:lnTo>
                <a:lnTo>
                  <a:pt x="455" y="273"/>
                </a:lnTo>
                <a:lnTo>
                  <a:pt x="428" y="279"/>
                </a:lnTo>
                <a:lnTo>
                  <a:pt x="402" y="284"/>
                </a:lnTo>
                <a:lnTo>
                  <a:pt x="377" y="290"/>
                </a:lnTo>
                <a:lnTo>
                  <a:pt x="354" y="294"/>
                </a:lnTo>
                <a:lnTo>
                  <a:pt x="331" y="298"/>
                </a:lnTo>
                <a:lnTo>
                  <a:pt x="309" y="302"/>
                </a:lnTo>
                <a:lnTo>
                  <a:pt x="290" y="305"/>
                </a:lnTo>
                <a:lnTo>
                  <a:pt x="273" y="309"/>
                </a:lnTo>
                <a:lnTo>
                  <a:pt x="258" y="311"/>
                </a:lnTo>
                <a:lnTo>
                  <a:pt x="242" y="313"/>
                </a:lnTo>
                <a:lnTo>
                  <a:pt x="229" y="315"/>
                </a:lnTo>
                <a:lnTo>
                  <a:pt x="217" y="315"/>
                </a:lnTo>
                <a:lnTo>
                  <a:pt x="208" y="317"/>
                </a:lnTo>
                <a:lnTo>
                  <a:pt x="200" y="317"/>
                </a:lnTo>
                <a:lnTo>
                  <a:pt x="192" y="317"/>
                </a:lnTo>
                <a:lnTo>
                  <a:pt x="189" y="319"/>
                </a:lnTo>
                <a:lnTo>
                  <a:pt x="179" y="317"/>
                </a:lnTo>
                <a:lnTo>
                  <a:pt x="167" y="317"/>
                </a:lnTo>
                <a:lnTo>
                  <a:pt x="156" y="313"/>
                </a:lnTo>
                <a:lnTo>
                  <a:pt x="142" y="311"/>
                </a:lnTo>
                <a:lnTo>
                  <a:pt x="127" y="307"/>
                </a:lnTo>
                <a:lnTo>
                  <a:pt x="110" y="304"/>
                </a:lnTo>
                <a:lnTo>
                  <a:pt x="102" y="302"/>
                </a:lnTo>
                <a:lnTo>
                  <a:pt x="93" y="300"/>
                </a:lnTo>
                <a:lnTo>
                  <a:pt x="81" y="298"/>
                </a:lnTo>
                <a:lnTo>
                  <a:pt x="71" y="2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广”的横不宜长，撇宜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矩形 3"/>
          <p:cNvSpPr/>
          <p:nvPr/>
        </p:nvSpPr>
        <p:spPr>
          <a:xfrm>
            <a:off x="2003400" y="1868400"/>
            <a:ext cx="165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í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83"/>
          <p:cNvSpPr/>
          <p:nvPr/>
        </p:nvSpPr>
        <p:spPr>
          <a:xfrm>
            <a:off x="6637320" y="4278240"/>
            <a:ext cx="709560" cy="198360"/>
          </a:xfrm>
          <a:custGeom>
            <a:avLst/>
            <a:gdLst/>
            <a:ahLst/>
            <a:rect l="l" t="t" r="r" b="b"/>
            <a:pathLst>
              <a:path w="895" h="250">
                <a:moveTo>
                  <a:pt x="0" y="171"/>
                </a:moveTo>
                <a:lnTo>
                  <a:pt x="0" y="169"/>
                </a:lnTo>
                <a:lnTo>
                  <a:pt x="2" y="167"/>
                </a:lnTo>
                <a:lnTo>
                  <a:pt x="4" y="167"/>
                </a:lnTo>
                <a:lnTo>
                  <a:pt x="6" y="165"/>
                </a:lnTo>
                <a:lnTo>
                  <a:pt x="8" y="164"/>
                </a:lnTo>
                <a:lnTo>
                  <a:pt x="12" y="162"/>
                </a:lnTo>
                <a:lnTo>
                  <a:pt x="18" y="158"/>
                </a:lnTo>
                <a:lnTo>
                  <a:pt x="21" y="156"/>
                </a:lnTo>
                <a:lnTo>
                  <a:pt x="29" y="154"/>
                </a:lnTo>
                <a:lnTo>
                  <a:pt x="35" y="152"/>
                </a:lnTo>
                <a:lnTo>
                  <a:pt x="43" y="148"/>
                </a:lnTo>
                <a:lnTo>
                  <a:pt x="50" y="146"/>
                </a:lnTo>
                <a:lnTo>
                  <a:pt x="58" y="142"/>
                </a:lnTo>
                <a:lnTo>
                  <a:pt x="68" y="141"/>
                </a:lnTo>
                <a:lnTo>
                  <a:pt x="79" y="137"/>
                </a:lnTo>
                <a:lnTo>
                  <a:pt x="89" y="133"/>
                </a:lnTo>
                <a:lnTo>
                  <a:pt x="100" y="131"/>
                </a:lnTo>
                <a:lnTo>
                  <a:pt x="114" y="127"/>
                </a:lnTo>
                <a:lnTo>
                  <a:pt x="125" y="123"/>
                </a:lnTo>
                <a:lnTo>
                  <a:pt x="139" y="119"/>
                </a:lnTo>
                <a:lnTo>
                  <a:pt x="154" y="116"/>
                </a:lnTo>
                <a:lnTo>
                  <a:pt x="169" y="112"/>
                </a:lnTo>
                <a:lnTo>
                  <a:pt x="185" y="108"/>
                </a:lnTo>
                <a:lnTo>
                  <a:pt x="202" y="102"/>
                </a:lnTo>
                <a:lnTo>
                  <a:pt x="219" y="98"/>
                </a:lnTo>
                <a:lnTo>
                  <a:pt x="236" y="94"/>
                </a:lnTo>
                <a:lnTo>
                  <a:pt x="256" y="91"/>
                </a:lnTo>
                <a:lnTo>
                  <a:pt x="275" y="85"/>
                </a:lnTo>
                <a:lnTo>
                  <a:pt x="296" y="81"/>
                </a:lnTo>
                <a:lnTo>
                  <a:pt x="315" y="75"/>
                </a:lnTo>
                <a:lnTo>
                  <a:pt x="338" y="71"/>
                </a:lnTo>
                <a:lnTo>
                  <a:pt x="361" y="66"/>
                </a:lnTo>
                <a:lnTo>
                  <a:pt x="382" y="62"/>
                </a:lnTo>
                <a:lnTo>
                  <a:pt x="403" y="58"/>
                </a:lnTo>
                <a:lnTo>
                  <a:pt x="423" y="54"/>
                </a:lnTo>
                <a:lnTo>
                  <a:pt x="442" y="52"/>
                </a:lnTo>
                <a:lnTo>
                  <a:pt x="461" y="48"/>
                </a:lnTo>
                <a:lnTo>
                  <a:pt x="480" y="45"/>
                </a:lnTo>
                <a:lnTo>
                  <a:pt x="498" y="41"/>
                </a:lnTo>
                <a:lnTo>
                  <a:pt x="515" y="39"/>
                </a:lnTo>
                <a:lnTo>
                  <a:pt x="532" y="35"/>
                </a:lnTo>
                <a:lnTo>
                  <a:pt x="547" y="33"/>
                </a:lnTo>
                <a:lnTo>
                  <a:pt x="563" y="29"/>
                </a:lnTo>
                <a:lnTo>
                  <a:pt x="578" y="27"/>
                </a:lnTo>
                <a:lnTo>
                  <a:pt x="592" y="25"/>
                </a:lnTo>
                <a:lnTo>
                  <a:pt x="605" y="21"/>
                </a:lnTo>
                <a:lnTo>
                  <a:pt x="618" y="20"/>
                </a:lnTo>
                <a:lnTo>
                  <a:pt x="632" y="18"/>
                </a:lnTo>
                <a:lnTo>
                  <a:pt x="643" y="16"/>
                </a:lnTo>
                <a:lnTo>
                  <a:pt x="655" y="14"/>
                </a:lnTo>
                <a:lnTo>
                  <a:pt x="665" y="12"/>
                </a:lnTo>
                <a:lnTo>
                  <a:pt x="676" y="10"/>
                </a:lnTo>
                <a:lnTo>
                  <a:pt x="686" y="8"/>
                </a:lnTo>
                <a:lnTo>
                  <a:pt x="695" y="6"/>
                </a:lnTo>
                <a:lnTo>
                  <a:pt x="703" y="6"/>
                </a:lnTo>
                <a:lnTo>
                  <a:pt x="711" y="4"/>
                </a:lnTo>
                <a:lnTo>
                  <a:pt x="718" y="4"/>
                </a:lnTo>
                <a:lnTo>
                  <a:pt x="726" y="2"/>
                </a:lnTo>
                <a:lnTo>
                  <a:pt x="732" y="2"/>
                </a:lnTo>
                <a:lnTo>
                  <a:pt x="737" y="0"/>
                </a:lnTo>
                <a:lnTo>
                  <a:pt x="743" y="0"/>
                </a:lnTo>
                <a:lnTo>
                  <a:pt x="747" y="0"/>
                </a:lnTo>
                <a:lnTo>
                  <a:pt x="751" y="0"/>
                </a:lnTo>
                <a:lnTo>
                  <a:pt x="755" y="0"/>
                </a:lnTo>
                <a:lnTo>
                  <a:pt x="768" y="0"/>
                </a:lnTo>
                <a:lnTo>
                  <a:pt x="780" y="2"/>
                </a:lnTo>
                <a:lnTo>
                  <a:pt x="789" y="6"/>
                </a:lnTo>
                <a:lnTo>
                  <a:pt x="801" y="12"/>
                </a:lnTo>
                <a:lnTo>
                  <a:pt x="807" y="14"/>
                </a:lnTo>
                <a:lnTo>
                  <a:pt x="812" y="18"/>
                </a:lnTo>
                <a:lnTo>
                  <a:pt x="818" y="23"/>
                </a:lnTo>
                <a:lnTo>
                  <a:pt x="824" y="27"/>
                </a:lnTo>
                <a:lnTo>
                  <a:pt x="830" y="33"/>
                </a:lnTo>
                <a:lnTo>
                  <a:pt x="835" y="39"/>
                </a:lnTo>
                <a:lnTo>
                  <a:pt x="841" y="46"/>
                </a:lnTo>
                <a:lnTo>
                  <a:pt x="847" y="52"/>
                </a:lnTo>
                <a:lnTo>
                  <a:pt x="855" y="60"/>
                </a:lnTo>
                <a:lnTo>
                  <a:pt x="858" y="66"/>
                </a:lnTo>
                <a:lnTo>
                  <a:pt x="864" y="73"/>
                </a:lnTo>
                <a:lnTo>
                  <a:pt x="870" y="77"/>
                </a:lnTo>
                <a:lnTo>
                  <a:pt x="878" y="87"/>
                </a:lnTo>
                <a:lnTo>
                  <a:pt x="883" y="96"/>
                </a:lnTo>
                <a:lnTo>
                  <a:pt x="889" y="102"/>
                </a:lnTo>
                <a:lnTo>
                  <a:pt x="891" y="108"/>
                </a:lnTo>
                <a:lnTo>
                  <a:pt x="893" y="114"/>
                </a:lnTo>
                <a:lnTo>
                  <a:pt x="895" y="119"/>
                </a:lnTo>
                <a:lnTo>
                  <a:pt x="893" y="123"/>
                </a:lnTo>
                <a:lnTo>
                  <a:pt x="891" y="129"/>
                </a:lnTo>
                <a:lnTo>
                  <a:pt x="889" y="133"/>
                </a:lnTo>
                <a:lnTo>
                  <a:pt x="883" y="139"/>
                </a:lnTo>
                <a:lnTo>
                  <a:pt x="878" y="142"/>
                </a:lnTo>
                <a:lnTo>
                  <a:pt x="874" y="146"/>
                </a:lnTo>
                <a:lnTo>
                  <a:pt x="870" y="148"/>
                </a:lnTo>
                <a:lnTo>
                  <a:pt x="864" y="150"/>
                </a:lnTo>
                <a:lnTo>
                  <a:pt x="860" y="152"/>
                </a:lnTo>
                <a:lnTo>
                  <a:pt x="855" y="156"/>
                </a:lnTo>
                <a:lnTo>
                  <a:pt x="847" y="158"/>
                </a:lnTo>
                <a:lnTo>
                  <a:pt x="833" y="162"/>
                </a:lnTo>
                <a:lnTo>
                  <a:pt x="820" y="165"/>
                </a:lnTo>
                <a:lnTo>
                  <a:pt x="803" y="167"/>
                </a:lnTo>
                <a:lnTo>
                  <a:pt x="787" y="169"/>
                </a:lnTo>
                <a:lnTo>
                  <a:pt x="768" y="169"/>
                </a:lnTo>
                <a:lnTo>
                  <a:pt x="749" y="171"/>
                </a:lnTo>
                <a:lnTo>
                  <a:pt x="730" y="171"/>
                </a:lnTo>
                <a:lnTo>
                  <a:pt x="709" y="171"/>
                </a:lnTo>
                <a:lnTo>
                  <a:pt x="695" y="171"/>
                </a:lnTo>
                <a:lnTo>
                  <a:pt x="680" y="171"/>
                </a:lnTo>
                <a:lnTo>
                  <a:pt x="665" y="171"/>
                </a:lnTo>
                <a:lnTo>
                  <a:pt x="649" y="173"/>
                </a:lnTo>
                <a:lnTo>
                  <a:pt x="634" y="175"/>
                </a:lnTo>
                <a:lnTo>
                  <a:pt x="617" y="177"/>
                </a:lnTo>
                <a:lnTo>
                  <a:pt x="597" y="179"/>
                </a:lnTo>
                <a:lnTo>
                  <a:pt x="578" y="181"/>
                </a:lnTo>
                <a:lnTo>
                  <a:pt x="559" y="183"/>
                </a:lnTo>
                <a:lnTo>
                  <a:pt x="540" y="187"/>
                </a:lnTo>
                <a:lnTo>
                  <a:pt x="519" y="188"/>
                </a:lnTo>
                <a:lnTo>
                  <a:pt x="498" y="192"/>
                </a:lnTo>
                <a:lnTo>
                  <a:pt x="476" y="196"/>
                </a:lnTo>
                <a:lnTo>
                  <a:pt x="453" y="200"/>
                </a:lnTo>
                <a:lnTo>
                  <a:pt x="430" y="206"/>
                </a:lnTo>
                <a:lnTo>
                  <a:pt x="407" y="210"/>
                </a:lnTo>
                <a:lnTo>
                  <a:pt x="380" y="215"/>
                </a:lnTo>
                <a:lnTo>
                  <a:pt x="357" y="219"/>
                </a:lnTo>
                <a:lnTo>
                  <a:pt x="334" y="223"/>
                </a:lnTo>
                <a:lnTo>
                  <a:pt x="313" y="227"/>
                </a:lnTo>
                <a:lnTo>
                  <a:pt x="294" y="231"/>
                </a:lnTo>
                <a:lnTo>
                  <a:pt x="275" y="235"/>
                </a:lnTo>
                <a:lnTo>
                  <a:pt x="258" y="236"/>
                </a:lnTo>
                <a:lnTo>
                  <a:pt x="242" y="240"/>
                </a:lnTo>
                <a:lnTo>
                  <a:pt x="229" y="242"/>
                </a:lnTo>
                <a:lnTo>
                  <a:pt x="215" y="244"/>
                </a:lnTo>
                <a:lnTo>
                  <a:pt x="206" y="246"/>
                </a:lnTo>
                <a:lnTo>
                  <a:pt x="196" y="248"/>
                </a:lnTo>
                <a:lnTo>
                  <a:pt x="188" y="248"/>
                </a:lnTo>
                <a:lnTo>
                  <a:pt x="183" y="248"/>
                </a:lnTo>
                <a:lnTo>
                  <a:pt x="177" y="250"/>
                </a:lnTo>
                <a:lnTo>
                  <a:pt x="175" y="250"/>
                </a:lnTo>
                <a:lnTo>
                  <a:pt x="173" y="250"/>
                </a:lnTo>
                <a:lnTo>
                  <a:pt x="169" y="248"/>
                </a:lnTo>
                <a:lnTo>
                  <a:pt x="165" y="248"/>
                </a:lnTo>
                <a:lnTo>
                  <a:pt x="162" y="248"/>
                </a:lnTo>
                <a:lnTo>
                  <a:pt x="158" y="246"/>
                </a:lnTo>
                <a:lnTo>
                  <a:pt x="152" y="244"/>
                </a:lnTo>
                <a:lnTo>
                  <a:pt x="140" y="240"/>
                </a:lnTo>
                <a:lnTo>
                  <a:pt x="129" y="235"/>
                </a:lnTo>
                <a:lnTo>
                  <a:pt x="114" y="227"/>
                </a:lnTo>
                <a:lnTo>
                  <a:pt x="98" y="219"/>
                </a:lnTo>
                <a:lnTo>
                  <a:pt x="81" y="210"/>
                </a:lnTo>
                <a:lnTo>
                  <a:pt x="73" y="208"/>
                </a:lnTo>
                <a:lnTo>
                  <a:pt x="66" y="206"/>
                </a:lnTo>
                <a:lnTo>
                  <a:pt x="58" y="202"/>
                </a:lnTo>
                <a:lnTo>
                  <a:pt x="50" y="200"/>
                </a:lnTo>
                <a:lnTo>
                  <a:pt x="39" y="196"/>
                </a:lnTo>
                <a:lnTo>
                  <a:pt x="27" y="190"/>
                </a:lnTo>
                <a:lnTo>
                  <a:pt x="20" y="185"/>
                </a:lnTo>
                <a:lnTo>
                  <a:pt x="12" y="181"/>
                </a:lnTo>
                <a:lnTo>
                  <a:pt x="6" y="175"/>
                </a:lnTo>
                <a:lnTo>
                  <a:pt x="0" y="1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84"/>
          <p:cNvSpPr/>
          <p:nvPr/>
        </p:nvSpPr>
        <p:spPr>
          <a:xfrm>
            <a:off x="6932520" y="3632040"/>
            <a:ext cx="127080" cy="719280"/>
          </a:xfrm>
          <a:custGeom>
            <a:avLst/>
            <a:gdLst/>
            <a:ahLst/>
            <a:rect l="l" t="t" r="r" b="b"/>
            <a:pathLst>
              <a:path w="161" h="906">
                <a:moveTo>
                  <a:pt x="0" y="0"/>
                </a:moveTo>
                <a:lnTo>
                  <a:pt x="17" y="11"/>
                </a:lnTo>
                <a:lnTo>
                  <a:pt x="34" y="23"/>
                </a:lnTo>
                <a:lnTo>
                  <a:pt x="52" y="34"/>
                </a:lnTo>
                <a:lnTo>
                  <a:pt x="67" y="46"/>
                </a:lnTo>
                <a:lnTo>
                  <a:pt x="80" y="57"/>
                </a:lnTo>
                <a:lnTo>
                  <a:pt x="92" y="67"/>
                </a:lnTo>
                <a:lnTo>
                  <a:pt x="103" y="76"/>
                </a:lnTo>
                <a:lnTo>
                  <a:pt x="115" y="86"/>
                </a:lnTo>
                <a:lnTo>
                  <a:pt x="125" y="96"/>
                </a:lnTo>
                <a:lnTo>
                  <a:pt x="132" y="103"/>
                </a:lnTo>
                <a:lnTo>
                  <a:pt x="140" y="111"/>
                </a:lnTo>
                <a:lnTo>
                  <a:pt x="146" y="119"/>
                </a:lnTo>
                <a:lnTo>
                  <a:pt x="151" y="126"/>
                </a:lnTo>
                <a:lnTo>
                  <a:pt x="155" y="132"/>
                </a:lnTo>
                <a:lnTo>
                  <a:pt x="159" y="138"/>
                </a:lnTo>
                <a:lnTo>
                  <a:pt x="161" y="144"/>
                </a:lnTo>
                <a:lnTo>
                  <a:pt x="161" y="163"/>
                </a:lnTo>
                <a:lnTo>
                  <a:pt x="161" y="172"/>
                </a:lnTo>
                <a:lnTo>
                  <a:pt x="159" y="182"/>
                </a:lnTo>
                <a:lnTo>
                  <a:pt x="159" y="193"/>
                </a:lnTo>
                <a:lnTo>
                  <a:pt x="155" y="203"/>
                </a:lnTo>
                <a:lnTo>
                  <a:pt x="153" y="213"/>
                </a:lnTo>
                <a:lnTo>
                  <a:pt x="149" y="222"/>
                </a:lnTo>
                <a:lnTo>
                  <a:pt x="148" y="226"/>
                </a:lnTo>
                <a:lnTo>
                  <a:pt x="148" y="232"/>
                </a:lnTo>
                <a:lnTo>
                  <a:pt x="146" y="238"/>
                </a:lnTo>
                <a:lnTo>
                  <a:pt x="146" y="245"/>
                </a:lnTo>
                <a:lnTo>
                  <a:pt x="144" y="255"/>
                </a:lnTo>
                <a:lnTo>
                  <a:pt x="144" y="264"/>
                </a:lnTo>
                <a:lnTo>
                  <a:pt x="142" y="274"/>
                </a:lnTo>
                <a:lnTo>
                  <a:pt x="142" y="286"/>
                </a:lnTo>
                <a:lnTo>
                  <a:pt x="140" y="299"/>
                </a:lnTo>
                <a:lnTo>
                  <a:pt x="140" y="314"/>
                </a:lnTo>
                <a:lnTo>
                  <a:pt x="138" y="328"/>
                </a:lnTo>
                <a:lnTo>
                  <a:pt x="138" y="345"/>
                </a:lnTo>
                <a:lnTo>
                  <a:pt x="136" y="362"/>
                </a:lnTo>
                <a:lnTo>
                  <a:pt x="136" y="380"/>
                </a:lnTo>
                <a:lnTo>
                  <a:pt x="134" y="401"/>
                </a:lnTo>
                <a:lnTo>
                  <a:pt x="134" y="420"/>
                </a:lnTo>
                <a:lnTo>
                  <a:pt x="132" y="443"/>
                </a:lnTo>
                <a:lnTo>
                  <a:pt x="132" y="466"/>
                </a:lnTo>
                <a:lnTo>
                  <a:pt x="132" y="489"/>
                </a:lnTo>
                <a:lnTo>
                  <a:pt x="130" y="514"/>
                </a:lnTo>
                <a:lnTo>
                  <a:pt x="130" y="541"/>
                </a:lnTo>
                <a:lnTo>
                  <a:pt x="130" y="568"/>
                </a:lnTo>
                <a:lnTo>
                  <a:pt x="128" y="596"/>
                </a:lnTo>
                <a:lnTo>
                  <a:pt x="128" y="627"/>
                </a:lnTo>
                <a:lnTo>
                  <a:pt x="128" y="658"/>
                </a:lnTo>
                <a:lnTo>
                  <a:pt x="128" y="689"/>
                </a:lnTo>
                <a:lnTo>
                  <a:pt x="126" y="723"/>
                </a:lnTo>
                <a:lnTo>
                  <a:pt x="126" y="756"/>
                </a:lnTo>
                <a:lnTo>
                  <a:pt x="126" y="792"/>
                </a:lnTo>
                <a:lnTo>
                  <a:pt x="126" y="829"/>
                </a:lnTo>
                <a:lnTo>
                  <a:pt x="126" y="867"/>
                </a:lnTo>
                <a:lnTo>
                  <a:pt x="126" y="906"/>
                </a:lnTo>
                <a:lnTo>
                  <a:pt x="63" y="906"/>
                </a:lnTo>
                <a:lnTo>
                  <a:pt x="0" y="906"/>
                </a:lnTo>
                <a:lnTo>
                  <a:pt x="0" y="45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5"/>
          <p:cNvSpPr/>
          <p:nvPr/>
        </p:nvSpPr>
        <p:spPr>
          <a:xfrm>
            <a:off x="6637320" y="3860640"/>
            <a:ext cx="853920" cy="219240"/>
          </a:xfrm>
          <a:custGeom>
            <a:avLst/>
            <a:gdLst/>
            <a:ahLst/>
            <a:rect l="l" t="t" r="r" b="b"/>
            <a:pathLst>
              <a:path w="1077" h="277">
                <a:moveTo>
                  <a:pt x="1068" y="119"/>
                </a:moveTo>
                <a:lnTo>
                  <a:pt x="1071" y="123"/>
                </a:lnTo>
                <a:lnTo>
                  <a:pt x="1075" y="129"/>
                </a:lnTo>
                <a:lnTo>
                  <a:pt x="1075" y="133"/>
                </a:lnTo>
                <a:lnTo>
                  <a:pt x="1077" y="139"/>
                </a:lnTo>
                <a:lnTo>
                  <a:pt x="1075" y="144"/>
                </a:lnTo>
                <a:lnTo>
                  <a:pt x="1075" y="148"/>
                </a:lnTo>
                <a:lnTo>
                  <a:pt x="1071" y="154"/>
                </a:lnTo>
                <a:lnTo>
                  <a:pt x="1068" y="158"/>
                </a:lnTo>
                <a:lnTo>
                  <a:pt x="1066" y="162"/>
                </a:lnTo>
                <a:lnTo>
                  <a:pt x="1062" y="164"/>
                </a:lnTo>
                <a:lnTo>
                  <a:pt x="1056" y="164"/>
                </a:lnTo>
                <a:lnTo>
                  <a:pt x="1050" y="166"/>
                </a:lnTo>
                <a:lnTo>
                  <a:pt x="1043" y="167"/>
                </a:lnTo>
                <a:lnTo>
                  <a:pt x="1035" y="167"/>
                </a:lnTo>
                <a:lnTo>
                  <a:pt x="1025" y="169"/>
                </a:lnTo>
                <a:lnTo>
                  <a:pt x="1014" y="169"/>
                </a:lnTo>
                <a:lnTo>
                  <a:pt x="1002" y="171"/>
                </a:lnTo>
                <a:lnTo>
                  <a:pt x="989" y="171"/>
                </a:lnTo>
                <a:lnTo>
                  <a:pt x="975" y="171"/>
                </a:lnTo>
                <a:lnTo>
                  <a:pt x="958" y="171"/>
                </a:lnTo>
                <a:lnTo>
                  <a:pt x="941" y="171"/>
                </a:lnTo>
                <a:lnTo>
                  <a:pt x="924" y="171"/>
                </a:lnTo>
                <a:lnTo>
                  <a:pt x="904" y="171"/>
                </a:lnTo>
                <a:lnTo>
                  <a:pt x="883" y="171"/>
                </a:lnTo>
                <a:lnTo>
                  <a:pt x="860" y="171"/>
                </a:lnTo>
                <a:lnTo>
                  <a:pt x="837" y="171"/>
                </a:lnTo>
                <a:lnTo>
                  <a:pt x="814" y="173"/>
                </a:lnTo>
                <a:lnTo>
                  <a:pt x="789" y="173"/>
                </a:lnTo>
                <a:lnTo>
                  <a:pt x="762" y="175"/>
                </a:lnTo>
                <a:lnTo>
                  <a:pt x="737" y="177"/>
                </a:lnTo>
                <a:lnTo>
                  <a:pt x="711" y="179"/>
                </a:lnTo>
                <a:lnTo>
                  <a:pt x="682" y="183"/>
                </a:lnTo>
                <a:lnTo>
                  <a:pt x="653" y="187"/>
                </a:lnTo>
                <a:lnTo>
                  <a:pt x="624" y="190"/>
                </a:lnTo>
                <a:lnTo>
                  <a:pt x="593" y="194"/>
                </a:lnTo>
                <a:lnTo>
                  <a:pt x="563" y="198"/>
                </a:lnTo>
                <a:lnTo>
                  <a:pt x="530" y="204"/>
                </a:lnTo>
                <a:lnTo>
                  <a:pt x="498" y="210"/>
                </a:lnTo>
                <a:lnTo>
                  <a:pt x="465" y="217"/>
                </a:lnTo>
                <a:lnTo>
                  <a:pt x="430" y="225"/>
                </a:lnTo>
                <a:lnTo>
                  <a:pt x="396" y="231"/>
                </a:lnTo>
                <a:lnTo>
                  <a:pt x="380" y="235"/>
                </a:lnTo>
                <a:lnTo>
                  <a:pt x="363" y="238"/>
                </a:lnTo>
                <a:lnTo>
                  <a:pt x="350" y="240"/>
                </a:lnTo>
                <a:lnTo>
                  <a:pt x="334" y="244"/>
                </a:lnTo>
                <a:lnTo>
                  <a:pt x="319" y="246"/>
                </a:lnTo>
                <a:lnTo>
                  <a:pt x="306" y="250"/>
                </a:lnTo>
                <a:lnTo>
                  <a:pt x="292" y="252"/>
                </a:lnTo>
                <a:lnTo>
                  <a:pt x="281" y="254"/>
                </a:lnTo>
                <a:lnTo>
                  <a:pt x="267" y="256"/>
                </a:lnTo>
                <a:lnTo>
                  <a:pt x="256" y="258"/>
                </a:lnTo>
                <a:lnTo>
                  <a:pt x="244" y="260"/>
                </a:lnTo>
                <a:lnTo>
                  <a:pt x="235" y="262"/>
                </a:lnTo>
                <a:lnTo>
                  <a:pt x="223" y="263"/>
                </a:lnTo>
                <a:lnTo>
                  <a:pt x="213" y="265"/>
                </a:lnTo>
                <a:lnTo>
                  <a:pt x="204" y="267"/>
                </a:lnTo>
                <a:lnTo>
                  <a:pt x="196" y="267"/>
                </a:lnTo>
                <a:lnTo>
                  <a:pt x="187" y="269"/>
                </a:lnTo>
                <a:lnTo>
                  <a:pt x="179" y="271"/>
                </a:lnTo>
                <a:lnTo>
                  <a:pt x="173" y="271"/>
                </a:lnTo>
                <a:lnTo>
                  <a:pt x="165" y="273"/>
                </a:lnTo>
                <a:lnTo>
                  <a:pt x="160" y="273"/>
                </a:lnTo>
                <a:lnTo>
                  <a:pt x="154" y="273"/>
                </a:lnTo>
                <a:lnTo>
                  <a:pt x="148" y="275"/>
                </a:lnTo>
                <a:lnTo>
                  <a:pt x="144" y="275"/>
                </a:lnTo>
                <a:lnTo>
                  <a:pt x="140" y="275"/>
                </a:lnTo>
                <a:lnTo>
                  <a:pt x="137" y="275"/>
                </a:lnTo>
                <a:lnTo>
                  <a:pt x="133" y="277"/>
                </a:lnTo>
                <a:lnTo>
                  <a:pt x="131" y="277"/>
                </a:lnTo>
                <a:lnTo>
                  <a:pt x="129" y="277"/>
                </a:lnTo>
                <a:lnTo>
                  <a:pt x="110" y="277"/>
                </a:lnTo>
                <a:lnTo>
                  <a:pt x="102" y="275"/>
                </a:lnTo>
                <a:lnTo>
                  <a:pt x="93" y="275"/>
                </a:lnTo>
                <a:lnTo>
                  <a:pt x="81" y="273"/>
                </a:lnTo>
                <a:lnTo>
                  <a:pt x="71" y="271"/>
                </a:lnTo>
                <a:lnTo>
                  <a:pt x="60" y="267"/>
                </a:lnTo>
                <a:lnTo>
                  <a:pt x="46" y="263"/>
                </a:lnTo>
                <a:lnTo>
                  <a:pt x="41" y="262"/>
                </a:lnTo>
                <a:lnTo>
                  <a:pt x="35" y="258"/>
                </a:lnTo>
                <a:lnTo>
                  <a:pt x="29" y="256"/>
                </a:lnTo>
                <a:lnTo>
                  <a:pt x="25" y="254"/>
                </a:lnTo>
                <a:lnTo>
                  <a:pt x="21" y="252"/>
                </a:lnTo>
                <a:lnTo>
                  <a:pt x="18" y="248"/>
                </a:lnTo>
                <a:lnTo>
                  <a:pt x="10" y="244"/>
                </a:lnTo>
                <a:lnTo>
                  <a:pt x="6" y="238"/>
                </a:lnTo>
                <a:lnTo>
                  <a:pt x="2" y="235"/>
                </a:lnTo>
                <a:lnTo>
                  <a:pt x="0" y="229"/>
                </a:lnTo>
                <a:lnTo>
                  <a:pt x="0" y="225"/>
                </a:lnTo>
                <a:lnTo>
                  <a:pt x="0" y="223"/>
                </a:lnTo>
                <a:lnTo>
                  <a:pt x="2" y="221"/>
                </a:lnTo>
                <a:lnTo>
                  <a:pt x="4" y="219"/>
                </a:lnTo>
                <a:lnTo>
                  <a:pt x="6" y="217"/>
                </a:lnTo>
                <a:lnTo>
                  <a:pt x="10" y="215"/>
                </a:lnTo>
                <a:lnTo>
                  <a:pt x="16" y="214"/>
                </a:lnTo>
                <a:lnTo>
                  <a:pt x="20" y="212"/>
                </a:lnTo>
                <a:lnTo>
                  <a:pt x="27" y="210"/>
                </a:lnTo>
                <a:lnTo>
                  <a:pt x="33" y="208"/>
                </a:lnTo>
                <a:lnTo>
                  <a:pt x="41" y="204"/>
                </a:lnTo>
                <a:lnTo>
                  <a:pt x="50" y="202"/>
                </a:lnTo>
                <a:lnTo>
                  <a:pt x="60" y="198"/>
                </a:lnTo>
                <a:lnTo>
                  <a:pt x="69" y="196"/>
                </a:lnTo>
                <a:lnTo>
                  <a:pt x="81" y="192"/>
                </a:lnTo>
                <a:lnTo>
                  <a:pt x="93" y="189"/>
                </a:lnTo>
                <a:lnTo>
                  <a:pt x="104" y="185"/>
                </a:lnTo>
                <a:lnTo>
                  <a:pt x="119" y="181"/>
                </a:lnTo>
                <a:lnTo>
                  <a:pt x="133" y="177"/>
                </a:lnTo>
                <a:lnTo>
                  <a:pt x="148" y="173"/>
                </a:lnTo>
                <a:lnTo>
                  <a:pt x="164" y="169"/>
                </a:lnTo>
                <a:lnTo>
                  <a:pt x="181" y="166"/>
                </a:lnTo>
                <a:lnTo>
                  <a:pt x="198" y="160"/>
                </a:lnTo>
                <a:lnTo>
                  <a:pt x="215" y="156"/>
                </a:lnTo>
                <a:lnTo>
                  <a:pt x="235" y="150"/>
                </a:lnTo>
                <a:lnTo>
                  <a:pt x="256" y="146"/>
                </a:lnTo>
                <a:lnTo>
                  <a:pt x="277" y="141"/>
                </a:lnTo>
                <a:lnTo>
                  <a:pt x="298" y="135"/>
                </a:lnTo>
                <a:lnTo>
                  <a:pt x="321" y="129"/>
                </a:lnTo>
                <a:lnTo>
                  <a:pt x="344" y="123"/>
                </a:lnTo>
                <a:lnTo>
                  <a:pt x="367" y="118"/>
                </a:lnTo>
                <a:lnTo>
                  <a:pt x="392" y="112"/>
                </a:lnTo>
                <a:lnTo>
                  <a:pt x="419" y="106"/>
                </a:lnTo>
                <a:lnTo>
                  <a:pt x="444" y="100"/>
                </a:lnTo>
                <a:lnTo>
                  <a:pt x="469" y="95"/>
                </a:lnTo>
                <a:lnTo>
                  <a:pt x="494" y="89"/>
                </a:lnTo>
                <a:lnTo>
                  <a:pt x="517" y="83"/>
                </a:lnTo>
                <a:lnTo>
                  <a:pt x="540" y="77"/>
                </a:lnTo>
                <a:lnTo>
                  <a:pt x="561" y="71"/>
                </a:lnTo>
                <a:lnTo>
                  <a:pt x="582" y="66"/>
                </a:lnTo>
                <a:lnTo>
                  <a:pt x="603" y="62"/>
                </a:lnTo>
                <a:lnTo>
                  <a:pt x="622" y="56"/>
                </a:lnTo>
                <a:lnTo>
                  <a:pt x="641" y="52"/>
                </a:lnTo>
                <a:lnTo>
                  <a:pt x="661" y="48"/>
                </a:lnTo>
                <a:lnTo>
                  <a:pt x="678" y="43"/>
                </a:lnTo>
                <a:lnTo>
                  <a:pt x="693" y="39"/>
                </a:lnTo>
                <a:lnTo>
                  <a:pt x="711" y="35"/>
                </a:lnTo>
                <a:lnTo>
                  <a:pt x="726" y="31"/>
                </a:lnTo>
                <a:lnTo>
                  <a:pt x="739" y="29"/>
                </a:lnTo>
                <a:lnTo>
                  <a:pt x="753" y="25"/>
                </a:lnTo>
                <a:lnTo>
                  <a:pt x="766" y="22"/>
                </a:lnTo>
                <a:lnTo>
                  <a:pt x="780" y="20"/>
                </a:lnTo>
                <a:lnTo>
                  <a:pt x="791" y="16"/>
                </a:lnTo>
                <a:lnTo>
                  <a:pt x="801" y="14"/>
                </a:lnTo>
                <a:lnTo>
                  <a:pt x="812" y="12"/>
                </a:lnTo>
                <a:lnTo>
                  <a:pt x="820" y="10"/>
                </a:lnTo>
                <a:lnTo>
                  <a:pt x="830" y="8"/>
                </a:lnTo>
                <a:lnTo>
                  <a:pt x="837" y="6"/>
                </a:lnTo>
                <a:lnTo>
                  <a:pt x="845" y="4"/>
                </a:lnTo>
                <a:lnTo>
                  <a:pt x="851" y="4"/>
                </a:lnTo>
                <a:lnTo>
                  <a:pt x="856" y="2"/>
                </a:lnTo>
                <a:lnTo>
                  <a:pt x="860" y="2"/>
                </a:lnTo>
                <a:lnTo>
                  <a:pt x="864" y="2"/>
                </a:lnTo>
                <a:lnTo>
                  <a:pt x="868" y="0"/>
                </a:lnTo>
                <a:lnTo>
                  <a:pt x="872" y="0"/>
                </a:lnTo>
                <a:lnTo>
                  <a:pt x="874" y="0"/>
                </a:lnTo>
                <a:lnTo>
                  <a:pt x="876" y="2"/>
                </a:lnTo>
                <a:lnTo>
                  <a:pt x="879" y="2"/>
                </a:lnTo>
                <a:lnTo>
                  <a:pt x="883" y="4"/>
                </a:lnTo>
                <a:lnTo>
                  <a:pt x="889" y="4"/>
                </a:lnTo>
                <a:lnTo>
                  <a:pt x="893" y="6"/>
                </a:lnTo>
                <a:lnTo>
                  <a:pt x="899" y="8"/>
                </a:lnTo>
                <a:lnTo>
                  <a:pt x="906" y="10"/>
                </a:lnTo>
                <a:lnTo>
                  <a:pt x="912" y="14"/>
                </a:lnTo>
                <a:lnTo>
                  <a:pt x="920" y="16"/>
                </a:lnTo>
                <a:lnTo>
                  <a:pt x="927" y="20"/>
                </a:lnTo>
                <a:lnTo>
                  <a:pt x="935" y="23"/>
                </a:lnTo>
                <a:lnTo>
                  <a:pt x="945" y="27"/>
                </a:lnTo>
                <a:lnTo>
                  <a:pt x="954" y="31"/>
                </a:lnTo>
                <a:lnTo>
                  <a:pt x="964" y="35"/>
                </a:lnTo>
                <a:lnTo>
                  <a:pt x="975" y="41"/>
                </a:lnTo>
                <a:lnTo>
                  <a:pt x="985" y="45"/>
                </a:lnTo>
                <a:lnTo>
                  <a:pt x="995" y="50"/>
                </a:lnTo>
                <a:lnTo>
                  <a:pt x="1004" y="54"/>
                </a:lnTo>
                <a:lnTo>
                  <a:pt x="1012" y="60"/>
                </a:lnTo>
                <a:lnTo>
                  <a:pt x="1020" y="66"/>
                </a:lnTo>
                <a:lnTo>
                  <a:pt x="1027" y="70"/>
                </a:lnTo>
                <a:lnTo>
                  <a:pt x="1033" y="75"/>
                </a:lnTo>
                <a:lnTo>
                  <a:pt x="1039" y="79"/>
                </a:lnTo>
                <a:lnTo>
                  <a:pt x="1045" y="85"/>
                </a:lnTo>
                <a:lnTo>
                  <a:pt x="1048" y="89"/>
                </a:lnTo>
                <a:lnTo>
                  <a:pt x="1056" y="98"/>
                </a:lnTo>
                <a:lnTo>
                  <a:pt x="1064" y="110"/>
                </a:lnTo>
                <a:lnTo>
                  <a:pt x="1068" y="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86"/>
          <p:cNvSpPr/>
          <p:nvPr/>
        </p:nvSpPr>
        <p:spPr>
          <a:xfrm>
            <a:off x="6737400" y="3382920"/>
            <a:ext cx="552240" cy="339840"/>
          </a:xfrm>
          <a:custGeom>
            <a:avLst/>
            <a:gdLst/>
            <a:ahLst/>
            <a:rect l="l" t="t" r="r" b="b"/>
            <a:pathLst>
              <a:path w="697" h="428">
                <a:moveTo>
                  <a:pt x="163" y="315"/>
                </a:moveTo>
                <a:lnTo>
                  <a:pt x="186" y="301"/>
                </a:lnTo>
                <a:lnTo>
                  <a:pt x="209" y="290"/>
                </a:lnTo>
                <a:lnTo>
                  <a:pt x="232" y="278"/>
                </a:lnTo>
                <a:lnTo>
                  <a:pt x="253" y="267"/>
                </a:lnTo>
                <a:lnTo>
                  <a:pt x="273" y="255"/>
                </a:lnTo>
                <a:lnTo>
                  <a:pt x="292" y="245"/>
                </a:lnTo>
                <a:lnTo>
                  <a:pt x="311" y="234"/>
                </a:lnTo>
                <a:lnTo>
                  <a:pt x="328" y="224"/>
                </a:lnTo>
                <a:lnTo>
                  <a:pt x="346" y="213"/>
                </a:lnTo>
                <a:lnTo>
                  <a:pt x="363" y="203"/>
                </a:lnTo>
                <a:lnTo>
                  <a:pt x="378" y="194"/>
                </a:lnTo>
                <a:lnTo>
                  <a:pt x="392" y="182"/>
                </a:lnTo>
                <a:lnTo>
                  <a:pt x="405" y="173"/>
                </a:lnTo>
                <a:lnTo>
                  <a:pt x="419" y="163"/>
                </a:lnTo>
                <a:lnTo>
                  <a:pt x="430" y="153"/>
                </a:lnTo>
                <a:lnTo>
                  <a:pt x="442" y="144"/>
                </a:lnTo>
                <a:lnTo>
                  <a:pt x="453" y="136"/>
                </a:lnTo>
                <a:lnTo>
                  <a:pt x="463" y="128"/>
                </a:lnTo>
                <a:lnTo>
                  <a:pt x="472" y="121"/>
                </a:lnTo>
                <a:lnTo>
                  <a:pt x="480" y="113"/>
                </a:lnTo>
                <a:lnTo>
                  <a:pt x="490" y="107"/>
                </a:lnTo>
                <a:lnTo>
                  <a:pt x="495" y="100"/>
                </a:lnTo>
                <a:lnTo>
                  <a:pt x="503" y="92"/>
                </a:lnTo>
                <a:lnTo>
                  <a:pt x="509" y="86"/>
                </a:lnTo>
                <a:lnTo>
                  <a:pt x="514" y="78"/>
                </a:lnTo>
                <a:lnTo>
                  <a:pt x="518" y="73"/>
                </a:lnTo>
                <a:lnTo>
                  <a:pt x="520" y="67"/>
                </a:lnTo>
                <a:lnTo>
                  <a:pt x="524" y="59"/>
                </a:lnTo>
                <a:lnTo>
                  <a:pt x="524" y="54"/>
                </a:lnTo>
                <a:lnTo>
                  <a:pt x="526" y="48"/>
                </a:lnTo>
                <a:lnTo>
                  <a:pt x="524" y="44"/>
                </a:lnTo>
                <a:lnTo>
                  <a:pt x="524" y="38"/>
                </a:lnTo>
                <a:lnTo>
                  <a:pt x="520" y="32"/>
                </a:lnTo>
                <a:lnTo>
                  <a:pt x="516" y="29"/>
                </a:lnTo>
                <a:lnTo>
                  <a:pt x="516" y="23"/>
                </a:lnTo>
                <a:lnTo>
                  <a:pt x="516" y="19"/>
                </a:lnTo>
                <a:lnTo>
                  <a:pt x="518" y="13"/>
                </a:lnTo>
                <a:lnTo>
                  <a:pt x="522" y="9"/>
                </a:lnTo>
                <a:lnTo>
                  <a:pt x="524" y="6"/>
                </a:lnTo>
                <a:lnTo>
                  <a:pt x="528" y="4"/>
                </a:lnTo>
                <a:lnTo>
                  <a:pt x="530" y="2"/>
                </a:lnTo>
                <a:lnTo>
                  <a:pt x="536" y="0"/>
                </a:lnTo>
                <a:lnTo>
                  <a:pt x="538" y="0"/>
                </a:lnTo>
                <a:lnTo>
                  <a:pt x="539" y="0"/>
                </a:lnTo>
                <a:lnTo>
                  <a:pt x="543" y="0"/>
                </a:lnTo>
                <a:lnTo>
                  <a:pt x="547" y="2"/>
                </a:lnTo>
                <a:lnTo>
                  <a:pt x="557" y="4"/>
                </a:lnTo>
                <a:lnTo>
                  <a:pt x="568" y="9"/>
                </a:lnTo>
                <a:lnTo>
                  <a:pt x="582" y="13"/>
                </a:lnTo>
                <a:lnTo>
                  <a:pt x="595" y="21"/>
                </a:lnTo>
                <a:lnTo>
                  <a:pt x="610" y="29"/>
                </a:lnTo>
                <a:lnTo>
                  <a:pt x="628" y="38"/>
                </a:lnTo>
                <a:lnTo>
                  <a:pt x="639" y="52"/>
                </a:lnTo>
                <a:lnTo>
                  <a:pt x="651" y="65"/>
                </a:lnTo>
                <a:lnTo>
                  <a:pt x="662" y="78"/>
                </a:lnTo>
                <a:lnTo>
                  <a:pt x="672" y="90"/>
                </a:lnTo>
                <a:lnTo>
                  <a:pt x="680" y="103"/>
                </a:lnTo>
                <a:lnTo>
                  <a:pt x="687" y="115"/>
                </a:lnTo>
                <a:lnTo>
                  <a:pt x="693" y="128"/>
                </a:lnTo>
                <a:lnTo>
                  <a:pt x="697" y="144"/>
                </a:lnTo>
                <a:lnTo>
                  <a:pt x="697" y="151"/>
                </a:lnTo>
                <a:lnTo>
                  <a:pt x="695" y="157"/>
                </a:lnTo>
                <a:lnTo>
                  <a:pt x="693" y="165"/>
                </a:lnTo>
                <a:lnTo>
                  <a:pt x="689" y="173"/>
                </a:lnTo>
                <a:lnTo>
                  <a:pt x="683" y="180"/>
                </a:lnTo>
                <a:lnTo>
                  <a:pt x="678" y="188"/>
                </a:lnTo>
                <a:lnTo>
                  <a:pt x="670" y="196"/>
                </a:lnTo>
                <a:lnTo>
                  <a:pt x="660" y="201"/>
                </a:lnTo>
                <a:lnTo>
                  <a:pt x="651" y="209"/>
                </a:lnTo>
                <a:lnTo>
                  <a:pt x="639" y="217"/>
                </a:lnTo>
                <a:lnTo>
                  <a:pt x="628" y="224"/>
                </a:lnTo>
                <a:lnTo>
                  <a:pt x="614" y="232"/>
                </a:lnTo>
                <a:lnTo>
                  <a:pt x="599" y="240"/>
                </a:lnTo>
                <a:lnTo>
                  <a:pt x="584" y="245"/>
                </a:lnTo>
                <a:lnTo>
                  <a:pt x="566" y="253"/>
                </a:lnTo>
                <a:lnTo>
                  <a:pt x="547" y="261"/>
                </a:lnTo>
                <a:lnTo>
                  <a:pt x="507" y="280"/>
                </a:lnTo>
                <a:lnTo>
                  <a:pt x="466" y="299"/>
                </a:lnTo>
                <a:lnTo>
                  <a:pt x="424" y="316"/>
                </a:lnTo>
                <a:lnTo>
                  <a:pt x="382" y="332"/>
                </a:lnTo>
                <a:lnTo>
                  <a:pt x="338" y="347"/>
                </a:lnTo>
                <a:lnTo>
                  <a:pt x="292" y="363"/>
                </a:lnTo>
                <a:lnTo>
                  <a:pt x="246" y="378"/>
                </a:lnTo>
                <a:lnTo>
                  <a:pt x="198" y="393"/>
                </a:lnTo>
                <a:lnTo>
                  <a:pt x="175" y="399"/>
                </a:lnTo>
                <a:lnTo>
                  <a:pt x="154" y="407"/>
                </a:lnTo>
                <a:lnTo>
                  <a:pt x="133" y="411"/>
                </a:lnTo>
                <a:lnTo>
                  <a:pt x="113" y="416"/>
                </a:lnTo>
                <a:lnTo>
                  <a:pt x="96" y="420"/>
                </a:lnTo>
                <a:lnTo>
                  <a:pt x="81" y="422"/>
                </a:lnTo>
                <a:lnTo>
                  <a:pt x="65" y="424"/>
                </a:lnTo>
                <a:lnTo>
                  <a:pt x="52" y="426"/>
                </a:lnTo>
                <a:lnTo>
                  <a:pt x="40" y="426"/>
                </a:lnTo>
                <a:lnTo>
                  <a:pt x="31" y="428"/>
                </a:lnTo>
                <a:lnTo>
                  <a:pt x="21" y="428"/>
                </a:lnTo>
                <a:lnTo>
                  <a:pt x="13" y="426"/>
                </a:lnTo>
                <a:lnTo>
                  <a:pt x="8" y="426"/>
                </a:lnTo>
                <a:lnTo>
                  <a:pt x="4" y="424"/>
                </a:lnTo>
                <a:lnTo>
                  <a:pt x="2" y="422"/>
                </a:lnTo>
                <a:lnTo>
                  <a:pt x="2" y="420"/>
                </a:lnTo>
                <a:lnTo>
                  <a:pt x="0" y="416"/>
                </a:lnTo>
                <a:lnTo>
                  <a:pt x="0" y="412"/>
                </a:lnTo>
                <a:lnTo>
                  <a:pt x="2" y="409"/>
                </a:lnTo>
                <a:lnTo>
                  <a:pt x="6" y="405"/>
                </a:lnTo>
                <a:lnTo>
                  <a:pt x="10" y="399"/>
                </a:lnTo>
                <a:lnTo>
                  <a:pt x="17" y="393"/>
                </a:lnTo>
                <a:lnTo>
                  <a:pt x="25" y="387"/>
                </a:lnTo>
                <a:lnTo>
                  <a:pt x="35" y="382"/>
                </a:lnTo>
                <a:lnTo>
                  <a:pt x="46" y="374"/>
                </a:lnTo>
                <a:lnTo>
                  <a:pt x="58" y="366"/>
                </a:lnTo>
                <a:lnTo>
                  <a:pt x="73" y="359"/>
                </a:lnTo>
                <a:lnTo>
                  <a:pt x="88" y="351"/>
                </a:lnTo>
                <a:lnTo>
                  <a:pt x="106" y="343"/>
                </a:lnTo>
                <a:lnTo>
                  <a:pt x="123" y="334"/>
                </a:lnTo>
                <a:lnTo>
                  <a:pt x="142" y="324"/>
                </a:lnTo>
                <a:lnTo>
                  <a:pt x="163" y="3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87"/>
          <p:cNvSpPr/>
          <p:nvPr/>
        </p:nvSpPr>
        <p:spPr>
          <a:xfrm>
            <a:off x="6100920" y="4330800"/>
            <a:ext cx="1715760" cy="726840"/>
          </a:xfrm>
          <a:custGeom>
            <a:avLst/>
            <a:gdLst/>
            <a:ahLst/>
            <a:rect l="l" t="t" r="r" b="b"/>
            <a:pathLst>
              <a:path w="2161" h="915">
                <a:moveTo>
                  <a:pt x="4" y="53"/>
                </a:moveTo>
                <a:lnTo>
                  <a:pt x="5" y="46"/>
                </a:lnTo>
                <a:lnTo>
                  <a:pt x="7" y="38"/>
                </a:lnTo>
                <a:lnTo>
                  <a:pt x="11" y="32"/>
                </a:lnTo>
                <a:lnTo>
                  <a:pt x="15" y="27"/>
                </a:lnTo>
                <a:lnTo>
                  <a:pt x="21" y="23"/>
                </a:lnTo>
                <a:lnTo>
                  <a:pt x="25" y="19"/>
                </a:lnTo>
                <a:lnTo>
                  <a:pt x="30" y="15"/>
                </a:lnTo>
                <a:lnTo>
                  <a:pt x="36" y="11"/>
                </a:lnTo>
                <a:lnTo>
                  <a:pt x="44" y="9"/>
                </a:lnTo>
                <a:lnTo>
                  <a:pt x="52" y="5"/>
                </a:lnTo>
                <a:lnTo>
                  <a:pt x="59" y="3"/>
                </a:lnTo>
                <a:lnTo>
                  <a:pt x="67" y="2"/>
                </a:lnTo>
                <a:lnTo>
                  <a:pt x="77" y="2"/>
                </a:lnTo>
                <a:lnTo>
                  <a:pt x="86" y="0"/>
                </a:lnTo>
                <a:lnTo>
                  <a:pt x="96" y="0"/>
                </a:lnTo>
                <a:lnTo>
                  <a:pt x="107" y="0"/>
                </a:lnTo>
                <a:lnTo>
                  <a:pt x="117" y="0"/>
                </a:lnTo>
                <a:lnTo>
                  <a:pt x="126" y="2"/>
                </a:lnTo>
                <a:lnTo>
                  <a:pt x="138" y="3"/>
                </a:lnTo>
                <a:lnTo>
                  <a:pt x="151" y="7"/>
                </a:lnTo>
                <a:lnTo>
                  <a:pt x="165" y="11"/>
                </a:lnTo>
                <a:lnTo>
                  <a:pt x="180" y="15"/>
                </a:lnTo>
                <a:lnTo>
                  <a:pt x="196" y="21"/>
                </a:lnTo>
                <a:lnTo>
                  <a:pt x="213" y="27"/>
                </a:lnTo>
                <a:lnTo>
                  <a:pt x="232" y="34"/>
                </a:lnTo>
                <a:lnTo>
                  <a:pt x="251" y="42"/>
                </a:lnTo>
                <a:lnTo>
                  <a:pt x="272" y="51"/>
                </a:lnTo>
                <a:lnTo>
                  <a:pt x="295" y="61"/>
                </a:lnTo>
                <a:lnTo>
                  <a:pt x="318" y="71"/>
                </a:lnTo>
                <a:lnTo>
                  <a:pt x="343" y="80"/>
                </a:lnTo>
                <a:lnTo>
                  <a:pt x="370" y="92"/>
                </a:lnTo>
                <a:lnTo>
                  <a:pt x="397" y="105"/>
                </a:lnTo>
                <a:lnTo>
                  <a:pt x="449" y="134"/>
                </a:lnTo>
                <a:lnTo>
                  <a:pt x="503" y="165"/>
                </a:lnTo>
                <a:lnTo>
                  <a:pt x="558" y="194"/>
                </a:lnTo>
                <a:lnTo>
                  <a:pt x="616" y="222"/>
                </a:lnTo>
                <a:lnTo>
                  <a:pt x="673" y="253"/>
                </a:lnTo>
                <a:lnTo>
                  <a:pt x="735" y="282"/>
                </a:lnTo>
                <a:lnTo>
                  <a:pt x="766" y="297"/>
                </a:lnTo>
                <a:lnTo>
                  <a:pt x="796" y="311"/>
                </a:lnTo>
                <a:lnTo>
                  <a:pt x="829" y="326"/>
                </a:lnTo>
                <a:lnTo>
                  <a:pt x="862" y="341"/>
                </a:lnTo>
                <a:lnTo>
                  <a:pt x="894" y="359"/>
                </a:lnTo>
                <a:lnTo>
                  <a:pt x="925" y="376"/>
                </a:lnTo>
                <a:lnTo>
                  <a:pt x="958" y="391"/>
                </a:lnTo>
                <a:lnTo>
                  <a:pt x="990" y="407"/>
                </a:lnTo>
                <a:lnTo>
                  <a:pt x="1021" y="420"/>
                </a:lnTo>
                <a:lnTo>
                  <a:pt x="1052" y="435"/>
                </a:lnTo>
                <a:lnTo>
                  <a:pt x="1084" y="449"/>
                </a:lnTo>
                <a:lnTo>
                  <a:pt x="1115" y="460"/>
                </a:lnTo>
                <a:lnTo>
                  <a:pt x="1176" y="485"/>
                </a:lnTo>
                <a:lnTo>
                  <a:pt x="1238" y="508"/>
                </a:lnTo>
                <a:lnTo>
                  <a:pt x="1299" y="531"/>
                </a:lnTo>
                <a:lnTo>
                  <a:pt x="1361" y="552"/>
                </a:lnTo>
                <a:lnTo>
                  <a:pt x="1389" y="562"/>
                </a:lnTo>
                <a:lnTo>
                  <a:pt x="1418" y="572"/>
                </a:lnTo>
                <a:lnTo>
                  <a:pt x="1447" y="579"/>
                </a:lnTo>
                <a:lnTo>
                  <a:pt x="1478" y="589"/>
                </a:lnTo>
                <a:lnTo>
                  <a:pt x="1508" y="597"/>
                </a:lnTo>
                <a:lnTo>
                  <a:pt x="1539" y="604"/>
                </a:lnTo>
                <a:lnTo>
                  <a:pt x="1572" y="612"/>
                </a:lnTo>
                <a:lnTo>
                  <a:pt x="1604" y="620"/>
                </a:lnTo>
                <a:lnTo>
                  <a:pt x="1637" y="625"/>
                </a:lnTo>
                <a:lnTo>
                  <a:pt x="1670" y="631"/>
                </a:lnTo>
                <a:lnTo>
                  <a:pt x="1704" y="637"/>
                </a:lnTo>
                <a:lnTo>
                  <a:pt x="1739" y="643"/>
                </a:lnTo>
                <a:lnTo>
                  <a:pt x="1773" y="646"/>
                </a:lnTo>
                <a:lnTo>
                  <a:pt x="1810" y="650"/>
                </a:lnTo>
                <a:lnTo>
                  <a:pt x="1846" y="654"/>
                </a:lnTo>
                <a:lnTo>
                  <a:pt x="1883" y="656"/>
                </a:lnTo>
                <a:lnTo>
                  <a:pt x="1900" y="658"/>
                </a:lnTo>
                <a:lnTo>
                  <a:pt x="1915" y="660"/>
                </a:lnTo>
                <a:lnTo>
                  <a:pt x="1933" y="660"/>
                </a:lnTo>
                <a:lnTo>
                  <a:pt x="1948" y="662"/>
                </a:lnTo>
                <a:lnTo>
                  <a:pt x="1963" y="664"/>
                </a:lnTo>
                <a:lnTo>
                  <a:pt x="1977" y="666"/>
                </a:lnTo>
                <a:lnTo>
                  <a:pt x="1990" y="668"/>
                </a:lnTo>
                <a:lnTo>
                  <a:pt x="2004" y="668"/>
                </a:lnTo>
                <a:lnTo>
                  <a:pt x="2017" y="670"/>
                </a:lnTo>
                <a:lnTo>
                  <a:pt x="2029" y="671"/>
                </a:lnTo>
                <a:lnTo>
                  <a:pt x="2040" y="673"/>
                </a:lnTo>
                <a:lnTo>
                  <a:pt x="2052" y="675"/>
                </a:lnTo>
                <a:lnTo>
                  <a:pt x="2063" y="677"/>
                </a:lnTo>
                <a:lnTo>
                  <a:pt x="2073" y="679"/>
                </a:lnTo>
                <a:lnTo>
                  <a:pt x="2082" y="681"/>
                </a:lnTo>
                <a:lnTo>
                  <a:pt x="2092" y="683"/>
                </a:lnTo>
                <a:lnTo>
                  <a:pt x="2100" y="685"/>
                </a:lnTo>
                <a:lnTo>
                  <a:pt x="2107" y="687"/>
                </a:lnTo>
                <a:lnTo>
                  <a:pt x="2115" y="689"/>
                </a:lnTo>
                <a:lnTo>
                  <a:pt x="2121" y="691"/>
                </a:lnTo>
                <a:lnTo>
                  <a:pt x="2128" y="693"/>
                </a:lnTo>
                <a:lnTo>
                  <a:pt x="2134" y="694"/>
                </a:lnTo>
                <a:lnTo>
                  <a:pt x="2138" y="694"/>
                </a:lnTo>
                <a:lnTo>
                  <a:pt x="2144" y="696"/>
                </a:lnTo>
                <a:lnTo>
                  <a:pt x="2148" y="698"/>
                </a:lnTo>
                <a:lnTo>
                  <a:pt x="2151" y="700"/>
                </a:lnTo>
                <a:lnTo>
                  <a:pt x="2153" y="702"/>
                </a:lnTo>
                <a:lnTo>
                  <a:pt x="2157" y="704"/>
                </a:lnTo>
                <a:lnTo>
                  <a:pt x="2159" y="706"/>
                </a:lnTo>
                <a:lnTo>
                  <a:pt x="2161" y="708"/>
                </a:lnTo>
                <a:lnTo>
                  <a:pt x="2161" y="710"/>
                </a:lnTo>
                <a:lnTo>
                  <a:pt x="2159" y="714"/>
                </a:lnTo>
                <a:lnTo>
                  <a:pt x="2157" y="719"/>
                </a:lnTo>
                <a:lnTo>
                  <a:pt x="2155" y="725"/>
                </a:lnTo>
                <a:lnTo>
                  <a:pt x="2150" y="731"/>
                </a:lnTo>
                <a:lnTo>
                  <a:pt x="2144" y="737"/>
                </a:lnTo>
                <a:lnTo>
                  <a:pt x="2136" y="742"/>
                </a:lnTo>
                <a:lnTo>
                  <a:pt x="2126" y="750"/>
                </a:lnTo>
                <a:lnTo>
                  <a:pt x="2115" y="756"/>
                </a:lnTo>
                <a:lnTo>
                  <a:pt x="2103" y="764"/>
                </a:lnTo>
                <a:lnTo>
                  <a:pt x="2090" y="769"/>
                </a:lnTo>
                <a:lnTo>
                  <a:pt x="2075" y="777"/>
                </a:lnTo>
                <a:lnTo>
                  <a:pt x="2057" y="785"/>
                </a:lnTo>
                <a:lnTo>
                  <a:pt x="2040" y="792"/>
                </a:lnTo>
                <a:lnTo>
                  <a:pt x="2019" y="798"/>
                </a:lnTo>
                <a:lnTo>
                  <a:pt x="1998" y="806"/>
                </a:lnTo>
                <a:lnTo>
                  <a:pt x="1975" y="813"/>
                </a:lnTo>
                <a:lnTo>
                  <a:pt x="1952" y="821"/>
                </a:lnTo>
                <a:lnTo>
                  <a:pt x="1929" y="829"/>
                </a:lnTo>
                <a:lnTo>
                  <a:pt x="1883" y="844"/>
                </a:lnTo>
                <a:lnTo>
                  <a:pt x="1840" y="858"/>
                </a:lnTo>
                <a:lnTo>
                  <a:pt x="1798" y="871"/>
                </a:lnTo>
                <a:lnTo>
                  <a:pt x="1758" y="883"/>
                </a:lnTo>
                <a:lnTo>
                  <a:pt x="1718" y="892"/>
                </a:lnTo>
                <a:lnTo>
                  <a:pt x="1697" y="896"/>
                </a:lnTo>
                <a:lnTo>
                  <a:pt x="1677" y="900"/>
                </a:lnTo>
                <a:lnTo>
                  <a:pt x="1658" y="904"/>
                </a:lnTo>
                <a:lnTo>
                  <a:pt x="1639" y="906"/>
                </a:lnTo>
                <a:lnTo>
                  <a:pt x="1620" y="908"/>
                </a:lnTo>
                <a:lnTo>
                  <a:pt x="1601" y="909"/>
                </a:lnTo>
                <a:lnTo>
                  <a:pt x="1585" y="911"/>
                </a:lnTo>
                <a:lnTo>
                  <a:pt x="1568" y="913"/>
                </a:lnTo>
                <a:lnTo>
                  <a:pt x="1554" y="915"/>
                </a:lnTo>
                <a:lnTo>
                  <a:pt x="1539" y="915"/>
                </a:lnTo>
                <a:lnTo>
                  <a:pt x="1528" y="915"/>
                </a:lnTo>
                <a:lnTo>
                  <a:pt x="1514" y="915"/>
                </a:lnTo>
                <a:lnTo>
                  <a:pt x="1505" y="915"/>
                </a:lnTo>
                <a:lnTo>
                  <a:pt x="1495" y="915"/>
                </a:lnTo>
                <a:lnTo>
                  <a:pt x="1485" y="915"/>
                </a:lnTo>
                <a:lnTo>
                  <a:pt x="1478" y="913"/>
                </a:lnTo>
                <a:lnTo>
                  <a:pt x="1470" y="911"/>
                </a:lnTo>
                <a:lnTo>
                  <a:pt x="1462" y="909"/>
                </a:lnTo>
                <a:lnTo>
                  <a:pt x="1457" y="908"/>
                </a:lnTo>
                <a:lnTo>
                  <a:pt x="1453" y="906"/>
                </a:lnTo>
                <a:lnTo>
                  <a:pt x="1451" y="904"/>
                </a:lnTo>
                <a:lnTo>
                  <a:pt x="1447" y="902"/>
                </a:lnTo>
                <a:lnTo>
                  <a:pt x="1441" y="900"/>
                </a:lnTo>
                <a:lnTo>
                  <a:pt x="1435" y="896"/>
                </a:lnTo>
                <a:lnTo>
                  <a:pt x="1430" y="892"/>
                </a:lnTo>
                <a:lnTo>
                  <a:pt x="1422" y="886"/>
                </a:lnTo>
                <a:lnTo>
                  <a:pt x="1414" y="881"/>
                </a:lnTo>
                <a:lnTo>
                  <a:pt x="1405" y="875"/>
                </a:lnTo>
                <a:lnTo>
                  <a:pt x="1395" y="867"/>
                </a:lnTo>
                <a:lnTo>
                  <a:pt x="1384" y="860"/>
                </a:lnTo>
                <a:lnTo>
                  <a:pt x="1370" y="852"/>
                </a:lnTo>
                <a:lnTo>
                  <a:pt x="1357" y="842"/>
                </a:lnTo>
                <a:lnTo>
                  <a:pt x="1343" y="833"/>
                </a:lnTo>
                <a:lnTo>
                  <a:pt x="1328" y="823"/>
                </a:lnTo>
                <a:lnTo>
                  <a:pt x="1313" y="812"/>
                </a:lnTo>
                <a:lnTo>
                  <a:pt x="1295" y="800"/>
                </a:lnTo>
                <a:lnTo>
                  <a:pt x="1278" y="789"/>
                </a:lnTo>
                <a:lnTo>
                  <a:pt x="1259" y="775"/>
                </a:lnTo>
                <a:lnTo>
                  <a:pt x="1238" y="762"/>
                </a:lnTo>
                <a:lnTo>
                  <a:pt x="1219" y="748"/>
                </a:lnTo>
                <a:lnTo>
                  <a:pt x="1196" y="733"/>
                </a:lnTo>
                <a:lnTo>
                  <a:pt x="1174" y="718"/>
                </a:lnTo>
                <a:lnTo>
                  <a:pt x="1149" y="700"/>
                </a:lnTo>
                <a:lnTo>
                  <a:pt x="1125" y="683"/>
                </a:lnTo>
                <a:lnTo>
                  <a:pt x="1100" y="666"/>
                </a:lnTo>
                <a:lnTo>
                  <a:pt x="1073" y="648"/>
                </a:lnTo>
                <a:lnTo>
                  <a:pt x="1046" y="629"/>
                </a:lnTo>
                <a:lnTo>
                  <a:pt x="1019" y="610"/>
                </a:lnTo>
                <a:lnTo>
                  <a:pt x="988" y="589"/>
                </a:lnTo>
                <a:lnTo>
                  <a:pt x="959" y="568"/>
                </a:lnTo>
                <a:lnTo>
                  <a:pt x="927" y="547"/>
                </a:lnTo>
                <a:lnTo>
                  <a:pt x="896" y="526"/>
                </a:lnTo>
                <a:lnTo>
                  <a:pt x="863" y="504"/>
                </a:lnTo>
                <a:lnTo>
                  <a:pt x="831" y="483"/>
                </a:lnTo>
                <a:lnTo>
                  <a:pt x="798" y="464"/>
                </a:lnTo>
                <a:lnTo>
                  <a:pt x="769" y="445"/>
                </a:lnTo>
                <a:lnTo>
                  <a:pt x="739" y="426"/>
                </a:lnTo>
                <a:lnTo>
                  <a:pt x="710" y="408"/>
                </a:lnTo>
                <a:lnTo>
                  <a:pt x="683" y="391"/>
                </a:lnTo>
                <a:lnTo>
                  <a:pt x="654" y="374"/>
                </a:lnTo>
                <a:lnTo>
                  <a:pt x="629" y="357"/>
                </a:lnTo>
                <a:lnTo>
                  <a:pt x="604" y="341"/>
                </a:lnTo>
                <a:lnTo>
                  <a:pt x="579" y="326"/>
                </a:lnTo>
                <a:lnTo>
                  <a:pt x="556" y="313"/>
                </a:lnTo>
                <a:lnTo>
                  <a:pt x="533" y="299"/>
                </a:lnTo>
                <a:lnTo>
                  <a:pt x="510" y="286"/>
                </a:lnTo>
                <a:lnTo>
                  <a:pt x="491" y="272"/>
                </a:lnTo>
                <a:lnTo>
                  <a:pt x="470" y="261"/>
                </a:lnTo>
                <a:lnTo>
                  <a:pt x="451" y="247"/>
                </a:lnTo>
                <a:lnTo>
                  <a:pt x="434" y="238"/>
                </a:lnTo>
                <a:lnTo>
                  <a:pt x="414" y="226"/>
                </a:lnTo>
                <a:lnTo>
                  <a:pt x="399" y="217"/>
                </a:lnTo>
                <a:lnTo>
                  <a:pt x="384" y="207"/>
                </a:lnTo>
                <a:lnTo>
                  <a:pt x="368" y="199"/>
                </a:lnTo>
                <a:lnTo>
                  <a:pt x="355" y="192"/>
                </a:lnTo>
                <a:lnTo>
                  <a:pt x="341" y="184"/>
                </a:lnTo>
                <a:lnTo>
                  <a:pt x="330" y="176"/>
                </a:lnTo>
                <a:lnTo>
                  <a:pt x="318" y="170"/>
                </a:lnTo>
                <a:lnTo>
                  <a:pt x="307" y="165"/>
                </a:lnTo>
                <a:lnTo>
                  <a:pt x="299" y="159"/>
                </a:lnTo>
                <a:lnTo>
                  <a:pt x="290" y="155"/>
                </a:lnTo>
                <a:lnTo>
                  <a:pt x="282" y="151"/>
                </a:lnTo>
                <a:lnTo>
                  <a:pt x="276" y="147"/>
                </a:lnTo>
                <a:lnTo>
                  <a:pt x="270" y="144"/>
                </a:lnTo>
                <a:lnTo>
                  <a:pt x="247" y="134"/>
                </a:lnTo>
                <a:lnTo>
                  <a:pt x="224" y="126"/>
                </a:lnTo>
                <a:lnTo>
                  <a:pt x="201" y="121"/>
                </a:lnTo>
                <a:lnTo>
                  <a:pt x="176" y="115"/>
                </a:lnTo>
                <a:lnTo>
                  <a:pt x="153" y="111"/>
                </a:lnTo>
                <a:lnTo>
                  <a:pt x="128" y="107"/>
                </a:lnTo>
                <a:lnTo>
                  <a:pt x="105" y="105"/>
                </a:lnTo>
                <a:lnTo>
                  <a:pt x="84" y="105"/>
                </a:lnTo>
                <a:lnTo>
                  <a:pt x="71" y="105"/>
                </a:lnTo>
                <a:lnTo>
                  <a:pt x="59" y="103"/>
                </a:lnTo>
                <a:lnTo>
                  <a:pt x="50" y="103"/>
                </a:lnTo>
                <a:lnTo>
                  <a:pt x="40" y="101"/>
                </a:lnTo>
                <a:lnTo>
                  <a:pt x="32" y="101"/>
                </a:lnTo>
                <a:lnTo>
                  <a:pt x="25" y="99"/>
                </a:lnTo>
                <a:lnTo>
                  <a:pt x="19" y="96"/>
                </a:lnTo>
                <a:lnTo>
                  <a:pt x="13" y="94"/>
                </a:lnTo>
                <a:lnTo>
                  <a:pt x="9" y="90"/>
                </a:lnTo>
                <a:lnTo>
                  <a:pt x="5" y="86"/>
                </a:lnTo>
                <a:lnTo>
                  <a:pt x="2" y="82"/>
                </a:lnTo>
                <a:lnTo>
                  <a:pt x="0" y="76"/>
                </a:lnTo>
                <a:lnTo>
                  <a:pt x="0" y="73"/>
                </a:lnTo>
                <a:lnTo>
                  <a:pt x="0" y="67"/>
                </a:lnTo>
                <a:lnTo>
                  <a:pt x="2" y="59"/>
                </a:lnTo>
                <a:lnTo>
                  <a:pt x="4" y="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88"/>
          <p:cNvSpPr/>
          <p:nvPr/>
        </p:nvSpPr>
        <p:spPr>
          <a:xfrm>
            <a:off x="5991120" y="3548160"/>
            <a:ext cx="646200" cy="1368360"/>
          </a:xfrm>
          <a:custGeom>
            <a:avLst/>
            <a:gdLst/>
            <a:ahLst/>
            <a:rect l="l" t="t" r="r" b="b"/>
            <a:pathLst>
              <a:path w="813" h="1724">
                <a:moveTo>
                  <a:pt x="153" y="1549"/>
                </a:moveTo>
                <a:lnTo>
                  <a:pt x="190" y="1511"/>
                </a:lnTo>
                <a:lnTo>
                  <a:pt x="228" y="1470"/>
                </a:lnTo>
                <a:lnTo>
                  <a:pt x="264" y="1430"/>
                </a:lnTo>
                <a:lnTo>
                  <a:pt x="301" y="1390"/>
                </a:lnTo>
                <a:lnTo>
                  <a:pt x="334" y="1349"/>
                </a:lnTo>
                <a:lnTo>
                  <a:pt x="368" y="1307"/>
                </a:lnTo>
                <a:lnTo>
                  <a:pt x="401" y="1265"/>
                </a:lnTo>
                <a:lnTo>
                  <a:pt x="431" y="1221"/>
                </a:lnTo>
                <a:lnTo>
                  <a:pt x="443" y="1200"/>
                </a:lnTo>
                <a:lnTo>
                  <a:pt x="454" y="1177"/>
                </a:lnTo>
                <a:lnTo>
                  <a:pt x="477" y="1134"/>
                </a:lnTo>
                <a:lnTo>
                  <a:pt x="499" y="1092"/>
                </a:lnTo>
                <a:lnTo>
                  <a:pt x="520" y="1052"/>
                </a:lnTo>
                <a:lnTo>
                  <a:pt x="537" y="1012"/>
                </a:lnTo>
                <a:lnTo>
                  <a:pt x="552" y="971"/>
                </a:lnTo>
                <a:lnTo>
                  <a:pt x="568" y="933"/>
                </a:lnTo>
                <a:lnTo>
                  <a:pt x="581" y="893"/>
                </a:lnTo>
                <a:lnTo>
                  <a:pt x="587" y="873"/>
                </a:lnTo>
                <a:lnTo>
                  <a:pt x="593" y="856"/>
                </a:lnTo>
                <a:lnTo>
                  <a:pt x="596" y="839"/>
                </a:lnTo>
                <a:lnTo>
                  <a:pt x="600" y="821"/>
                </a:lnTo>
                <a:lnTo>
                  <a:pt x="604" y="806"/>
                </a:lnTo>
                <a:lnTo>
                  <a:pt x="606" y="791"/>
                </a:lnTo>
                <a:lnTo>
                  <a:pt x="608" y="777"/>
                </a:lnTo>
                <a:lnTo>
                  <a:pt x="610" y="764"/>
                </a:lnTo>
                <a:lnTo>
                  <a:pt x="612" y="752"/>
                </a:lnTo>
                <a:lnTo>
                  <a:pt x="612" y="743"/>
                </a:lnTo>
                <a:lnTo>
                  <a:pt x="612" y="731"/>
                </a:lnTo>
                <a:lnTo>
                  <a:pt x="610" y="724"/>
                </a:lnTo>
                <a:lnTo>
                  <a:pt x="610" y="714"/>
                </a:lnTo>
                <a:lnTo>
                  <a:pt x="608" y="708"/>
                </a:lnTo>
                <a:lnTo>
                  <a:pt x="606" y="701"/>
                </a:lnTo>
                <a:lnTo>
                  <a:pt x="604" y="697"/>
                </a:lnTo>
                <a:lnTo>
                  <a:pt x="596" y="691"/>
                </a:lnTo>
                <a:lnTo>
                  <a:pt x="587" y="689"/>
                </a:lnTo>
                <a:lnTo>
                  <a:pt x="577" y="687"/>
                </a:lnTo>
                <a:lnTo>
                  <a:pt x="568" y="687"/>
                </a:lnTo>
                <a:lnTo>
                  <a:pt x="564" y="689"/>
                </a:lnTo>
                <a:lnTo>
                  <a:pt x="558" y="689"/>
                </a:lnTo>
                <a:lnTo>
                  <a:pt x="552" y="691"/>
                </a:lnTo>
                <a:lnTo>
                  <a:pt x="548" y="693"/>
                </a:lnTo>
                <a:lnTo>
                  <a:pt x="543" y="697"/>
                </a:lnTo>
                <a:lnTo>
                  <a:pt x="537" y="701"/>
                </a:lnTo>
                <a:lnTo>
                  <a:pt x="529" y="704"/>
                </a:lnTo>
                <a:lnTo>
                  <a:pt x="524" y="708"/>
                </a:lnTo>
                <a:lnTo>
                  <a:pt x="518" y="716"/>
                </a:lnTo>
                <a:lnTo>
                  <a:pt x="510" y="722"/>
                </a:lnTo>
                <a:lnTo>
                  <a:pt x="504" y="729"/>
                </a:lnTo>
                <a:lnTo>
                  <a:pt x="499" y="733"/>
                </a:lnTo>
                <a:lnTo>
                  <a:pt x="491" y="739"/>
                </a:lnTo>
                <a:lnTo>
                  <a:pt x="485" y="743"/>
                </a:lnTo>
                <a:lnTo>
                  <a:pt x="479" y="747"/>
                </a:lnTo>
                <a:lnTo>
                  <a:pt x="474" y="750"/>
                </a:lnTo>
                <a:lnTo>
                  <a:pt x="464" y="756"/>
                </a:lnTo>
                <a:lnTo>
                  <a:pt x="454" y="758"/>
                </a:lnTo>
                <a:lnTo>
                  <a:pt x="451" y="760"/>
                </a:lnTo>
                <a:lnTo>
                  <a:pt x="447" y="760"/>
                </a:lnTo>
                <a:lnTo>
                  <a:pt x="445" y="762"/>
                </a:lnTo>
                <a:lnTo>
                  <a:pt x="443" y="762"/>
                </a:lnTo>
                <a:lnTo>
                  <a:pt x="433" y="760"/>
                </a:lnTo>
                <a:lnTo>
                  <a:pt x="426" y="758"/>
                </a:lnTo>
                <a:lnTo>
                  <a:pt x="416" y="756"/>
                </a:lnTo>
                <a:lnTo>
                  <a:pt x="408" y="750"/>
                </a:lnTo>
                <a:lnTo>
                  <a:pt x="405" y="747"/>
                </a:lnTo>
                <a:lnTo>
                  <a:pt x="401" y="743"/>
                </a:lnTo>
                <a:lnTo>
                  <a:pt x="399" y="739"/>
                </a:lnTo>
                <a:lnTo>
                  <a:pt x="395" y="733"/>
                </a:lnTo>
                <a:lnTo>
                  <a:pt x="391" y="729"/>
                </a:lnTo>
                <a:lnTo>
                  <a:pt x="389" y="722"/>
                </a:lnTo>
                <a:lnTo>
                  <a:pt x="385" y="716"/>
                </a:lnTo>
                <a:lnTo>
                  <a:pt x="383" y="708"/>
                </a:lnTo>
                <a:lnTo>
                  <a:pt x="376" y="699"/>
                </a:lnTo>
                <a:lnTo>
                  <a:pt x="370" y="689"/>
                </a:lnTo>
                <a:lnTo>
                  <a:pt x="362" y="679"/>
                </a:lnTo>
                <a:lnTo>
                  <a:pt x="358" y="672"/>
                </a:lnTo>
                <a:lnTo>
                  <a:pt x="355" y="662"/>
                </a:lnTo>
                <a:lnTo>
                  <a:pt x="351" y="655"/>
                </a:lnTo>
                <a:lnTo>
                  <a:pt x="351" y="649"/>
                </a:lnTo>
                <a:lnTo>
                  <a:pt x="349" y="643"/>
                </a:lnTo>
                <a:lnTo>
                  <a:pt x="351" y="639"/>
                </a:lnTo>
                <a:lnTo>
                  <a:pt x="351" y="633"/>
                </a:lnTo>
                <a:lnTo>
                  <a:pt x="355" y="628"/>
                </a:lnTo>
                <a:lnTo>
                  <a:pt x="358" y="624"/>
                </a:lnTo>
                <a:lnTo>
                  <a:pt x="362" y="618"/>
                </a:lnTo>
                <a:lnTo>
                  <a:pt x="368" y="614"/>
                </a:lnTo>
                <a:lnTo>
                  <a:pt x="376" y="608"/>
                </a:lnTo>
                <a:lnTo>
                  <a:pt x="383" y="605"/>
                </a:lnTo>
                <a:lnTo>
                  <a:pt x="387" y="601"/>
                </a:lnTo>
                <a:lnTo>
                  <a:pt x="389" y="595"/>
                </a:lnTo>
                <a:lnTo>
                  <a:pt x="393" y="589"/>
                </a:lnTo>
                <a:lnTo>
                  <a:pt x="397" y="582"/>
                </a:lnTo>
                <a:lnTo>
                  <a:pt x="403" y="574"/>
                </a:lnTo>
                <a:lnTo>
                  <a:pt x="406" y="562"/>
                </a:lnTo>
                <a:lnTo>
                  <a:pt x="412" y="551"/>
                </a:lnTo>
                <a:lnTo>
                  <a:pt x="420" y="539"/>
                </a:lnTo>
                <a:lnTo>
                  <a:pt x="426" y="524"/>
                </a:lnTo>
                <a:lnTo>
                  <a:pt x="433" y="509"/>
                </a:lnTo>
                <a:lnTo>
                  <a:pt x="441" y="493"/>
                </a:lnTo>
                <a:lnTo>
                  <a:pt x="451" y="474"/>
                </a:lnTo>
                <a:lnTo>
                  <a:pt x="458" y="457"/>
                </a:lnTo>
                <a:lnTo>
                  <a:pt x="468" y="436"/>
                </a:lnTo>
                <a:lnTo>
                  <a:pt x="477" y="416"/>
                </a:lnTo>
                <a:lnTo>
                  <a:pt x="489" y="393"/>
                </a:lnTo>
                <a:lnTo>
                  <a:pt x="499" y="372"/>
                </a:lnTo>
                <a:lnTo>
                  <a:pt x="508" y="351"/>
                </a:lnTo>
                <a:lnTo>
                  <a:pt x="518" y="332"/>
                </a:lnTo>
                <a:lnTo>
                  <a:pt x="525" y="313"/>
                </a:lnTo>
                <a:lnTo>
                  <a:pt x="533" y="296"/>
                </a:lnTo>
                <a:lnTo>
                  <a:pt x="539" y="278"/>
                </a:lnTo>
                <a:lnTo>
                  <a:pt x="545" y="263"/>
                </a:lnTo>
                <a:lnTo>
                  <a:pt x="548" y="250"/>
                </a:lnTo>
                <a:lnTo>
                  <a:pt x="552" y="236"/>
                </a:lnTo>
                <a:lnTo>
                  <a:pt x="556" y="225"/>
                </a:lnTo>
                <a:lnTo>
                  <a:pt x="558" y="215"/>
                </a:lnTo>
                <a:lnTo>
                  <a:pt x="560" y="205"/>
                </a:lnTo>
                <a:lnTo>
                  <a:pt x="560" y="198"/>
                </a:lnTo>
                <a:lnTo>
                  <a:pt x="560" y="192"/>
                </a:lnTo>
                <a:lnTo>
                  <a:pt x="560" y="186"/>
                </a:lnTo>
                <a:lnTo>
                  <a:pt x="558" y="184"/>
                </a:lnTo>
                <a:lnTo>
                  <a:pt x="556" y="182"/>
                </a:lnTo>
                <a:lnTo>
                  <a:pt x="552" y="180"/>
                </a:lnTo>
                <a:lnTo>
                  <a:pt x="548" y="178"/>
                </a:lnTo>
                <a:lnTo>
                  <a:pt x="545" y="178"/>
                </a:lnTo>
                <a:lnTo>
                  <a:pt x="541" y="178"/>
                </a:lnTo>
                <a:lnTo>
                  <a:pt x="537" y="178"/>
                </a:lnTo>
                <a:lnTo>
                  <a:pt x="531" y="180"/>
                </a:lnTo>
                <a:lnTo>
                  <a:pt x="525" y="182"/>
                </a:lnTo>
                <a:lnTo>
                  <a:pt x="514" y="186"/>
                </a:lnTo>
                <a:lnTo>
                  <a:pt x="502" y="192"/>
                </a:lnTo>
                <a:lnTo>
                  <a:pt x="491" y="202"/>
                </a:lnTo>
                <a:lnTo>
                  <a:pt x="477" y="211"/>
                </a:lnTo>
                <a:lnTo>
                  <a:pt x="468" y="215"/>
                </a:lnTo>
                <a:lnTo>
                  <a:pt x="460" y="219"/>
                </a:lnTo>
                <a:lnTo>
                  <a:pt x="453" y="223"/>
                </a:lnTo>
                <a:lnTo>
                  <a:pt x="445" y="225"/>
                </a:lnTo>
                <a:lnTo>
                  <a:pt x="437" y="228"/>
                </a:lnTo>
                <a:lnTo>
                  <a:pt x="429" y="230"/>
                </a:lnTo>
                <a:lnTo>
                  <a:pt x="422" y="230"/>
                </a:lnTo>
                <a:lnTo>
                  <a:pt x="414" y="232"/>
                </a:lnTo>
                <a:lnTo>
                  <a:pt x="401" y="232"/>
                </a:lnTo>
                <a:lnTo>
                  <a:pt x="387" y="230"/>
                </a:lnTo>
                <a:lnTo>
                  <a:pt x="374" y="228"/>
                </a:lnTo>
                <a:lnTo>
                  <a:pt x="360" y="223"/>
                </a:lnTo>
                <a:lnTo>
                  <a:pt x="355" y="221"/>
                </a:lnTo>
                <a:lnTo>
                  <a:pt x="349" y="219"/>
                </a:lnTo>
                <a:lnTo>
                  <a:pt x="343" y="215"/>
                </a:lnTo>
                <a:lnTo>
                  <a:pt x="339" y="213"/>
                </a:lnTo>
                <a:lnTo>
                  <a:pt x="332" y="207"/>
                </a:lnTo>
                <a:lnTo>
                  <a:pt x="324" y="202"/>
                </a:lnTo>
                <a:lnTo>
                  <a:pt x="320" y="196"/>
                </a:lnTo>
                <a:lnTo>
                  <a:pt x="316" y="188"/>
                </a:lnTo>
                <a:lnTo>
                  <a:pt x="314" y="180"/>
                </a:lnTo>
                <a:lnTo>
                  <a:pt x="314" y="171"/>
                </a:lnTo>
                <a:lnTo>
                  <a:pt x="349" y="157"/>
                </a:lnTo>
                <a:lnTo>
                  <a:pt x="380" y="146"/>
                </a:lnTo>
                <a:lnTo>
                  <a:pt x="410" y="136"/>
                </a:lnTo>
                <a:lnTo>
                  <a:pt x="439" y="125"/>
                </a:lnTo>
                <a:lnTo>
                  <a:pt x="464" y="115"/>
                </a:lnTo>
                <a:lnTo>
                  <a:pt x="489" y="107"/>
                </a:lnTo>
                <a:lnTo>
                  <a:pt x="512" y="98"/>
                </a:lnTo>
                <a:lnTo>
                  <a:pt x="531" y="90"/>
                </a:lnTo>
                <a:lnTo>
                  <a:pt x="550" y="83"/>
                </a:lnTo>
                <a:lnTo>
                  <a:pt x="568" y="75"/>
                </a:lnTo>
                <a:lnTo>
                  <a:pt x="583" y="67"/>
                </a:lnTo>
                <a:lnTo>
                  <a:pt x="595" y="61"/>
                </a:lnTo>
                <a:lnTo>
                  <a:pt x="606" y="56"/>
                </a:lnTo>
                <a:lnTo>
                  <a:pt x="616" y="50"/>
                </a:lnTo>
                <a:lnTo>
                  <a:pt x="620" y="48"/>
                </a:lnTo>
                <a:lnTo>
                  <a:pt x="623" y="44"/>
                </a:lnTo>
                <a:lnTo>
                  <a:pt x="625" y="42"/>
                </a:lnTo>
                <a:lnTo>
                  <a:pt x="627" y="40"/>
                </a:lnTo>
                <a:lnTo>
                  <a:pt x="637" y="31"/>
                </a:lnTo>
                <a:lnTo>
                  <a:pt x="644" y="21"/>
                </a:lnTo>
                <a:lnTo>
                  <a:pt x="654" y="15"/>
                </a:lnTo>
                <a:lnTo>
                  <a:pt x="662" y="10"/>
                </a:lnTo>
                <a:lnTo>
                  <a:pt x="671" y="6"/>
                </a:lnTo>
                <a:lnTo>
                  <a:pt x="679" y="2"/>
                </a:lnTo>
                <a:lnTo>
                  <a:pt x="689" y="0"/>
                </a:lnTo>
                <a:lnTo>
                  <a:pt x="698" y="0"/>
                </a:lnTo>
                <a:lnTo>
                  <a:pt x="702" y="6"/>
                </a:lnTo>
                <a:lnTo>
                  <a:pt x="708" y="10"/>
                </a:lnTo>
                <a:lnTo>
                  <a:pt x="715" y="15"/>
                </a:lnTo>
                <a:lnTo>
                  <a:pt x="723" y="23"/>
                </a:lnTo>
                <a:lnTo>
                  <a:pt x="733" y="31"/>
                </a:lnTo>
                <a:lnTo>
                  <a:pt x="742" y="40"/>
                </a:lnTo>
                <a:lnTo>
                  <a:pt x="748" y="46"/>
                </a:lnTo>
                <a:lnTo>
                  <a:pt x="754" y="52"/>
                </a:lnTo>
                <a:lnTo>
                  <a:pt x="762" y="58"/>
                </a:lnTo>
                <a:lnTo>
                  <a:pt x="767" y="65"/>
                </a:lnTo>
                <a:lnTo>
                  <a:pt x="773" y="73"/>
                </a:lnTo>
                <a:lnTo>
                  <a:pt x="779" y="79"/>
                </a:lnTo>
                <a:lnTo>
                  <a:pt x="785" y="86"/>
                </a:lnTo>
                <a:lnTo>
                  <a:pt x="788" y="92"/>
                </a:lnTo>
                <a:lnTo>
                  <a:pt x="796" y="104"/>
                </a:lnTo>
                <a:lnTo>
                  <a:pt x="804" y="115"/>
                </a:lnTo>
                <a:lnTo>
                  <a:pt x="808" y="125"/>
                </a:lnTo>
                <a:lnTo>
                  <a:pt x="811" y="132"/>
                </a:lnTo>
                <a:lnTo>
                  <a:pt x="813" y="138"/>
                </a:lnTo>
                <a:lnTo>
                  <a:pt x="813" y="144"/>
                </a:lnTo>
                <a:lnTo>
                  <a:pt x="813" y="150"/>
                </a:lnTo>
                <a:lnTo>
                  <a:pt x="811" y="154"/>
                </a:lnTo>
                <a:lnTo>
                  <a:pt x="808" y="159"/>
                </a:lnTo>
                <a:lnTo>
                  <a:pt x="804" y="163"/>
                </a:lnTo>
                <a:lnTo>
                  <a:pt x="796" y="169"/>
                </a:lnTo>
                <a:lnTo>
                  <a:pt x="792" y="171"/>
                </a:lnTo>
                <a:lnTo>
                  <a:pt x="788" y="175"/>
                </a:lnTo>
                <a:lnTo>
                  <a:pt x="785" y="177"/>
                </a:lnTo>
                <a:lnTo>
                  <a:pt x="779" y="178"/>
                </a:lnTo>
                <a:lnTo>
                  <a:pt x="773" y="180"/>
                </a:lnTo>
                <a:lnTo>
                  <a:pt x="767" y="184"/>
                </a:lnTo>
                <a:lnTo>
                  <a:pt x="760" y="186"/>
                </a:lnTo>
                <a:lnTo>
                  <a:pt x="752" y="192"/>
                </a:lnTo>
                <a:lnTo>
                  <a:pt x="744" y="198"/>
                </a:lnTo>
                <a:lnTo>
                  <a:pt x="737" y="205"/>
                </a:lnTo>
                <a:lnTo>
                  <a:pt x="727" y="215"/>
                </a:lnTo>
                <a:lnTo>
                  <a:pt x="717" y="225"/>
                </a:lnTo>
                <a:lnTo>
                  <a:pt x="708" y="236"/>
                </a:lnTo>
                <a:lnTo>
                  <a:pt x="696" y="250"/>
                </a:lnTo>
                <a:lnTo>
                  <a:pt x="687" y="263"/>
                </a:lnTo>
                <a:lnTo>
                  <a:pt x="675" y="278"/>
                </a:lnTo>
                <a:lnTo>
                  <a:pt x="662" y="296"/>
                </a:lnTo>
                <a:lnTo>
                  <a:pt x="648" y="313"/>
                </a:lnTo>
                <a:lnTo>
                  <a:pt x="637" y="332"/>
                </a:lnTo>
                <a:lnTo>
                  <a:pt x="621" y="351"/>
                </a:lnTo>
                <a:lnTo>
                  <a:pt x="608" y="372"/>
                </a:lnTo>
                <a:lnTo>
                  <a:pt x="593" y="393"/>
                </a:lnTo>
                <a:lnTo>
                  <a:pt x="579" y="418"/>
                </a:lnTo>
                <a:lnTo>
                  <a:pt x="566" y="440"/>
                </a:lnTo>
                <a:lnTo>
                  <a:pt x="552" y="461"/>
                </a:lnTo>
                <a:lnTo>
                  <a:pt x="541" y="480"/>
                </a:lnTo>
                <a:lnTo>
                  <a:pt x="531" y="499"/>
                </a:lnTo>
                <a:lnTo>
                  <a:pt x="522" y="514"/>
                </a:lnTo>
                <a:lnTo>
                  <a:pt x="514" y="530"/>
                </a:lnTo>
                <a:lnTo>
                  <a:pt x="506" y="543"/>
                </a:lnTo>
                <a:lnTo>
                  <a:pt x="501" y="555"/>
                </a:lnTo>
                <a:lnTo>
                  <a:pt x="495" y="566"/>
                </a:lnTo>
                <a:lnTo>
                  <a:pt x="491" y="576"/>
                </a:lnTo>
                <a:lnTo>
                  <a:pt x="489" y="583"/>
                </a:lnTo>
                <a:lnTo>
                  <a:pt x="487" y="591"/>
                </a:lnTo>
                <a:lnTo>
                  <a:pt x="487" y="597"/>
                </a:lnTo>
                <a:lnTo>
                  <a:pt x="487" y="601"/>
                </a:lnTo>
                <a:lnTo>
                  <a:pt x="489" y="605"/>
                </a:lnTo>
                <a:lnTo>
                  <a:pt x="491" y="607"/>
                </a:lnTo>
                <a:lnTo>
                  <a:pt x="495" y="608"/>
                </a:lnTo>
                <a:lnTo>
                  <a:pt x="497" y="610"/>
                </a:lnTo>
                <a:lnTo>
                  <a:pt x="502" y="610"/>
                </a:lnTo>
                <a:lnTo>
                  <a:pt x="506" y="612"/>
                </a:lnTo>
                <a:lnTo>
                  <a:pt x="512" y="612"/>
                </a:lnTo>
                <a:lnTo>
                  <a:pt x="518" y="612"/>
                </a:lnTo>
                <a:lnTo>
                  <a:pt x="524" y="612"/>
                </a:lnTo>
                <a:lnTo>
                  <a:pt x="529" y="612"/>
                </a:lnTo>
                <a:lnTo>
                  <a:pt x="537" y="610"/>
                </a:lnTo>
                <a:lnTo>
                  <a:pt x="545" y="608"/>
                </a:lnTo>
                <a:lnTo>
                  <a:pt x="554" y="607"/>
                </a:lnTo>
                <a:lnTo>
                  <a:pt x="564" y="603"/>
                </a:lnTo>
                <a:lnTo>
                  <a:pt x="572" y="599"/>
                </a:lnTo>
                <a:lnTo>
                  <a:pt x="583" y="595"/>
                </a:lnTo>
                <a:lnTo>
                  <a:pt x="593" y="591"/>
                </a:lnTo>
                <a:lnTo>
                  <a:pt x="616" y="587"/>
                </a:lnTo>
                <a:lnTo>
                  <a:pt x="637" y="583"/>
                </a:lnTo>
                <a:lnTo>
                  <a:pt x="646" y="583"/>
                </a:lnTo>
                <a:lnTo>
                  <a:pt x="658" y="583"/>
                </a:lnTo>
                <a:lnTo>
                  <a:pt x="667" y="583"/>
                </a:lnTo>
                <a:lnTo>
                  <a:pt x="677" y="583"/>
                </a:lnTo>
                <a:lnTo>
                  <a:pt x="687" y="585"/>
                </a:lnTo>
                <a:lnTo>
                  <a:pt x="696" y="587"/>
                </a:lnTo>
                <a:lnTo>
                  <a:pt x="706" y="591"/>
                </a:lnTo>
                <a:lnTo>
                  <a:pt x="714" y="595"/>
                </a:lnTo>
                <a:lnTo>
                  <a:pt x="721" y="599"/>
                </a:lnTo>
                <a:lnTo>
                  <a:pt x="729" y="605"/>
                </a:lnTo>
                <a:lnTo>
                  <a:pt x="737" y="610"/>
                </a:lnTo>
                <a:lnTo>
                  <a:pt x="744" y="618"/>
                </a:lnTo>
                <a:lnTo>
                  <a:pt x="750" y="624"/>
                </a:lnTo>
                <a:lnTo>
                  <a:pt x="756" y="631"/>
                </a:lnTo>
                <a:lnTo>
                  <a:pt x="762" y="637"/>
                </a:lnTo>
                <a:lnTo>
                  <a:pt x="765" y="645"/>
                </a:lnTo>
                <a:lnTo>
                  <a:pt x="773" y="656"/>
                </a:lnTo>
                <a:lnTo>
                  <a:pt x="781" y="666"/>
                </a:lnTo>
                <a:lnTo>
                  <a:pt x="785" y="676"/>
                </a:lnTo>
                <a:lnTo>
                  <a:pt x="788" y="683"/>
                </a:lnTo>
                <a:lnTo>
                  <a:pt x="790" y="691"/>
                </a:lnTo>
                <a:lnTo>
                  <a:pt x="790" y="697"/>
                </a:lnTo>
                <a:lnTo>
                  <a:pt x="790" y="704"/>
                </a:lnTo>
                <a:lnTo>
                  <a:pt x="788" y="714"/>
                </a:lnTo>
                <a:lnTo>
                  <a:pt x="787" y="720"/>
                </a:lnTo>
                <a:lnTo>
                  <a:pt x="783" y="727"/>
                </a:lnTo>
                <a:lnTo>
                  <a:pt x="779" y="733"/>
                </a:lnTo>
                <a:lnTo>
                  <a:pt x="775" y="739"/>
                </a:lnTo>
                <a:lnTo>
                  <a:pt x="767" y="749"/>
                </a:lnTo>
                <a:lnTo>
                  <a:pt x="765" y="752"/>
                </a:lnTo>
                <a:lnTo>
                  <a:pt x="762" y="756"/>
                </a:lnTo>
                <a:lnTo>
                  <a:pt x="760" y="762"/>
                </a:lnTo>
                <a:lnTo>
                  <a:pt x="756" y="768"/>
                </a:lnTo>
                <a:lnTo>
                  <a:pt x="754" y="775"/>
                </a:lnTo>
                <a:lnTo>
                  <a:pt x="750" y="785"/>
                </a:lnTo>
                <a:lnTo>
                  <a:pt x="746" y="797"/>
                </a:lnTo>
                <a:lnTo>
                  <a:pt x="742" y="808"/>
                </a:lnTo>
                <a:lnTo>
                  <a:pt x="739" y="820"/>
                </a:lnTo>
                <a:lnTo>
                  <a:pt x="735" y="835"/>
                </a:lnTo>
                <a:lnTo>
                  <a:pt x="731" y="850"/>
                </a:lnTo>
                <a:lnTo>
                  <a:pt x="725" y="868"/>
                </a:lnTo>
                <a:lnTo>
                  <a:pt x="721" y="885"/>
                </a:lnTo>
                <a:lnTo>
                  <a:pt x="717" y="904"/>
                </a:lnTo>
                <a:lnTo>
                  <a:pt x="714" y="923"/>
                </a:lnTo>
                <a:lnTo>
                  <a:pt x="710" y="946"/>
                </a:lnTo>
                <a:lnTo>
                  <a:pt x="702" y="967"/>
                </a:lnTo>
                <a:lnTo>
                  <a:pt x="694" y="990"/>
                </a:lnTo>
                <a:lnTo>
                  <a:pt x="687" y="1012"/>
                </a:lnTo>
                <a:lnTo>
                  <a:pt x="679" y="1035"/>
                </a:lnTo>
                <a:lnTo>
                  <a:pt x="669" y="1056"/>
                </a:lnTo>
                <a:lnTo>
                  <a:pt x="658" y="1079"/>
                </a:lnTo>
                <a:lnTo>
                  <a:pt x="648" y="1102"/>
                </a:lnTo>
                <a:lnTo>
                  <a:pt x="637" y="1125"/>
                </a:lnTo>
                <a:lnTo>
                  <a:pt x="623" y="1148"/>
                </a:lnTo>
                <a:lnTo>
                  <a:pt x="610" y="1169"/>
                </a:lnTo>
                <a:lnTo>
                  <a:pt x="596" y="1194"/>
                </a:lnTo>
                <a:lnTo>
                  <a:pt x="581" y="1217"/>
                </a:lnTo>
                <a:lnTo>
                  <a:pt x="566" y="1240"/>
                </a:lnTo>
                <a:lnTo>
                  <a:pt x="548" y="1265"/>
                </a:lnTo>
                <a:lnTo>
                  <a:pt x="531" y="1288"/>
                </a:lnTo>
                <a:lnTo>
                  <a:pt x="512" y="1313"/>
                </a:lnTo>
                <a:lnTo>
                  <a:pt x="493" y="1340"/>
                </a:lnTo>
                <a:lnTo>
                  <a:pt x="472" y="1365"/>
                </a:lnTo>
                <a:lnTo>
                  <a:pt x="453" y="1390"/>
                </a:lnTo>
                <a:lnTo>
                  <a:pt x="431" y="1415"/>
                </a:lnTo>
                <a:lnTo>
                  <a:pt x="412" y="1438"/>
                </a:lnTo>
                <a:lnTo>
                  <a:pt x="391" y="1459"/>
                </a:lnTo>
                <a:lnTo>
                  <a:pt x="370" y="1480"/>
                </a:lnTo>
                <a:lnTo>
                  <a:pt x="349" y="1501"/>
                </a:lnTo>
                <a:lnTo>
                  <a:pt x="330" y="1520"/>
                </a:lnTo>
                <a:lnTo>
                  <a:pt x="309" y="1537"/>
                </a:lnTo>
                <a:lnTo>
                  <a:pt x="287" y="1555"/>
                </a:lnTo>
                <a:lnTo>
                  <a:pt x="266" y="1572"/>
                </a:lnTo>
                <a:lnTo>
                  <a:pt x="247" y="1587"/>
                </a:lnTo>
                <a:lnTo>
                  <a:pt x="226" y="1601"/>
                </a:lnTo>
                <a:lnTo>
                  <a:pt x="207" y="1616"/>
                </a:lnTo>
                <a:lnTo>
                  <a:pt x="188" y="1628"/>
                </a:lnTo>
                <a:lnTo>
                  <a:pt x="167" y="1643"/>
                </a:lnTo>
                <a:lnTo>
                  <a:pt x="145" y="1656"/>
                </a:lnTo>
                <a:lnTo>
                  <a:pt x="128" y="1668"/>
                </a:lnTo>
                <a:lnTo>
                  <a:pt x="111" y="1678"/>
                </a:lnTo>
                <a:lnTo>
                  <a:pt x="95" y="1687"/>
                </a:lnTo>
                <a:lnTo>
                  <a:pt x="80" y="1697"/>
                </a:lnTo>
                <a:lnTo>
                  <a:pt x="67" y="1703"/>
                </a:lnTo>
                <a:lnTo>
                  <a:pt x="55" y="1708"/>
                </a:lnTo>
                <a:lnTo>
                  <a:pt x="44" y="1714"/>
                </a:lnTo>
                <a:lnTo>
                  <a:pt x="34" y="1718"/>
                </a:lnTo>
                <a:lnTo>
                  <a:pt x="26" y="1722"/>
                </a:lnTo>
                <a:lnTo>
                  <a:pt x="19" y="1722"/>
                </a:lnTo>
                <a:lnTo>
                  <a:pt x="13" y="1724"/>
                </a:lnTo>
                <a:lnTo>
                  <a:pt x="7" y="1724"/>
                </a:lnTo>
                <a:lnTo>
                  <a:pt x="3" y="1722"/>
                </a:lnTo>
                <a:lnTo>
                  <a:pt x="1" y="1720"/>
                </a:lnTo>
                <a:lnTo>
                  <a:pt x="0" y="1718"/>
                </a:lnTo>
                <a:lnTo>
                  <a:pt x="0" y="1714"/>
                </a:lnTo>
                <a:lnTo>
                  <a:pt x="1" y="1708"/>
                </a:lnTo>
                <a:lnTo>
                  <a:pt x="5" y="1703"/>
                </a:lnTo>
                <a:lnTo>
                  <a:pt x="11" y="1697"/>
                </a:lnTo>
                <a:lnTo>
                  <a:pt x="17" y="1689"/>
                </a:lnTo>
                <a:lnTo>
                  <a:pt x="24" y="1679"/>
                </a:lnTo>
                <a:lnTo>
                  <a:pt x="34" y="1670"/>
                </a:lnTo>
                <a:lnTo>
                  <a:pt x="44" y="1658"/>
                </a:lnTo>
                <a:lnTo>
                  <a:pt x="55" y="1647"/>
                </a:lnTo>
                <a:lnTo>
                  <a:pt x="69" y="1633"/>
                </a:lnTo>
                <a:lnTo>
                  <a:pt x="84" y="1620"/>
                </a:lnTo>
                <a:lnTo>
                  <a:pt x="99" y="1603"/>
                </a:lnTo>
                <a:lnTo>
                  <a:pt x="115" y="1587"/>
                </a:lnTo>
                <a:lnTo>
                  <a:pt x="134" y="1568"/>
                </a:lnTo>
                <a:lnTo>
                  <a:pt x="153" y="15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89"/>
          <p:cNvSpPr/>
          <p:nvPr/>
        </p:nvSpPr>
        <p:spPr>
          <a:xfrm>
            <a:off x="5540400" y="3201840"/>
            <a:ext cx="673200" cy="1808280"/>
          </a:xfrm>
          <a:custGeom>
            <a:avLst/>
            <a:gdLst/>
            <a:ahLst/>
            <a:rect l="l" t="t" r="r" b="b"/>
            <a:pathLst>
              <a:path w="849" h="2279">
                <a:moveTo>
                  <a:pt x="617" y="1409"/>
                </a:moveTo>
                <a:lnTo>
                  <a:pt x="605" y="1442"/>
                </a:lnTo>
                <a:lnTo>
                  <a:pt x="595" y="1473"/>
                </a:lnTo>
                <a:lnTo>
                  <a:pt x="584" y="1501"/>
                </a:lnTo>
                <a:lnTo>
                  <a:pt x="572" y="1530"/>
                </a:lnTo>
                <a:lnTo>
                  <a:pt x="561" y="1559"/>
                </a:lnTo>
                <a:lnTo>
                  <a:pt x="549" y="1586"/>
                </a:lnTo>
                <a:lnTo>
                  <a:pt x="538" y="1613"/>
                </a:lnTo>
                <a:lnTo>
                  <a:pt x="526" y="1640"/>
                </a:lnTo>
                <a:lnTo>
                  <a:pt x="515" y="1664"/>
                </a:lnTo>
                <a:lnTo>
                  <a:pt x="501" y="1689"/>
                </a:lnTo>
                <a:lnTo>
                  <a:pt x="490" y="1714"/>
                </a:lnTo>
                <a:lnTo>
                  <a:pt x="476" y="1737"/>
                </a:lnTo>
                <a:lnTo>
                  <a:pt x="448" y="1785"/>
                </a:lnTo>
                <a:lnTo>
                  <a:pt x="419" y="1830"/>
                </a:lnTo>
                <a:lnTo>
                  <a:pt x="390" y="1874"/>
                </a:lnTo>
                <a:lnTo>
                  <a:pt x="359" y="1916"/>
                </a:lnTo>
                <a:lnTo>
                  <a:pt x="327" y="1958"/>
                </a:lnTo>
                <a:lnTo>
                  <a:pt x="296" y="1997"/>
                </a:lnTo>
                <a:lnTo>
                  <a:pt x="263" y="2035"/>
                </a:lnTo>
                <a:lnTo>
                  <a:pt x="231" y="2073"/>
                </a:lnTo>
                <a:lnTo>
                  <a:pt x="198" y="2110"/>
                </a:lnTo>
                <a:lnTo>
                  <a:pt x="164" y="2144"/>
                </a:lnTo>
                <a:lnTo>
                  <a:pt x="148" y="2164"/>
                </a:lnTo>
                <a:lnTo>
                  <a:pt x="131" y="2181"/>
                </a:lnTo>
                <a:lnTo>
                  <a:pt x="116" y="2198"/>
                </a:lnTo>
                <a:lnTo>
                  <a:pt x="102" y="2212"/>
                </a:lnTo>
                <a:lnTo>
                  <a:pt x="89" y="2225"/>
                </a:lnTo>
                <a:lnTo>
                  <a:pt x="75" y="2236"/>
                </a:lnTo>
                <a:lnTo>
                  <a:pt x="64" y="2246"/>
                </a:lnTo>
                <a:lnTo>
                  <a:pt x="52" y="2256"/>
                </a:lnTo>
                <a:lnTo>
                  <a:pt x="43" y="2263"/>
                </a:lnTo>
                <a:lnTo>
                  <a:pt x="35" y="2269"/>
                </a:lnTo>
                <a:lnTo>
                  <a:pt x="25" y="2273"/>
                </a:lnTo>
                <a:lnTo>
                  <a:pt x="20" y="2277"/>
                </a:lnTo>
                <a:lnTo>
                  <a:pt x="14" y="2279"/>
                </a:lnTo>
                <a:lnTo>
                  <a:pt x="8" y="2279"/>
                </a:lnTo>
                <a:lnTo>
                  <a:pt x="4" y="2279"/>
                </a:lnTo>
                <a:lnTo>
                  <a:pt x="2" y="2277"/>
                </a:lnTo>
                <a:lnTo>
                  <a:pt x="0" y="2273"/>
                </a:lnTo>
                <a:lnTo>
                  <a:pt x="0" y="2269"/>
                </a:lnTo>
                <a:lnTo>
                  <a:pt x="0" y="2261"/>
                </a:lnTo>
                <a:lnTo>
                  <a:pt x="2" y="2254"/>
                </a:lnTo>
                <a:lnTo>
                  <a:pt x="6" y="2246"/>
                </a:lnTo>
                <a:lnTo>
                  <a:pt x="10" y="2235"/>
                </a:lnTo>
                <a:lnTo>
                  <a:pt x="16" y="2223"/>
                </a:lnTo>
                <a:lnTo>
                  <a:pt x="23" y="2212"/>
                </a:lnTo>
                <a:lnTo>
                  <a:pt x="31" y="2196"/>
                </a:lnTo>
                <a:lnTo>
                  <a:pt x="41" y="2181"/>
                </a:lnTo>
                <a:lnTo>
                  <a:pt x="52" y="2165"/>
                </a:lnTo>
                <a:lnTo>
                  <a:pt x="64" y="2148"/>
                </a:lnTo>
                <a:lnTo>
                  <a:pt x="79" y="2129"/>
                </a:lnTo>
                <a:lnTo>
                  <a:pt x="94" y="2110"/>
                </a:lnTo>
                <a:lnTo>
                  <a:pt x="112" y="2089"/>
                </a:lnTo>
                <a:lnTo>
                  <a:pt x="129" y="2066"/>
                </a:lnTo>
                <a:lnTo>
                  <a:pt x="146" y="2043"/>
                </a:lnTo>
                <a:lnTo>
                  <a:pt x="164" y="2020"/>
                </a:lnTo>
                <a:lnTo>
                  <a:pt x="181" y="1995"/>
                </a:lnTo>
                <a:lnTo>
                  <a:pt x="198" y="1968"/>
                </a:lnTo>
                <a:lnTo>
                  <a:pt x="215" y="1941"/>
                </a:lnTo>
                <a:lnTo>
                  <a:pt x="233" y="1912"/>
                </a:lnTo>
                <a:lnTo>
                  <a:pt x="250" y="1883"/>
                </a:lnTo>
                <a:lnTo>
                  <a:pt x="267" y="1853"/>
                </a:lnTo>
                <a:lnTo>
                  <a:pt x="284" y="1822"/>
                </a:lnTo>
                <a:lnTo>
                  <a:pt x="302" y="1789"/>
                </a:lnTo>
                <a:lnTo>
                  <a:pt x="317" y="1757"/>
                </a:lnTo>
                <a:lnTo>
                  <a:pt x="334" y="1722"/>
                </a:lnTo>
                <a:lnTo>
                  <a:pt x="350" y="1688"/>
                </a:lnTo>
                <a:lnTo>
                  <a:pt x="365" y="1653"/>
                </a:lnTo>
                <a:lnTo>
                  <a:pt x="380" y="1617"/>
                </a:lnTo>
                <a:lnTo>
                  <a:pt x="396" y="1580"/>
                </a:lnTo>
                <a:lnTo>
                  <a:pt x="426" y="1507"/>
                </a:lnTo>
                <a:lnTo>
                  <a:pt x="453" y="1432"/>
                </a:lnTo>
                <a:lnTo>
                  <a:pt x="480" y="1359"/>
                </a:lnTo>
                <a:lnTo>
                  <a:pt x="494" y="1325"/>
                </a:lnTo>
                <a:lnTo>
                  <a:pt x="505" y="1288"/>
                </a:lnTo>
                <a:lnTo>
                  <a:pt x="519" y="1252"/>
                </a:lnTo>
                <a:lnTo>
                  <a:pt x="528" y="1217"/>
                </a:lnTo>
                <a:lnTo>
                  <a:pt x="540" y="1183"/>
                </a:lnTo>
                <a:lnTo>
                  <a:pt x="549" y="1148"/>
                </a:lnTo>
                <a:lnTo>
                  <a:pt x="559" y="1114"/>
                </a:lnTo>
                <a:lnTo>
                  <a:pt x="567" y="1081"/>
                </a:lnTo>
                <a:lnTo>
                  <a:pt x="574" y="1048"/>
                </a:lnTo>
                <a:lnTo>
                  <a:pt x="582" y="1016"/>
                </a:lnTo>
                <a:lnTo>
                  <a:pt x="593" y="952"/>
                </a:lnTo>
                <a:lnTo>
                  <a:pt x="605" y="891"/>
                </a:lnTo>
                <a:lnTo>
                  <a:pt x="617" y="830"/>
                </a:lnTo>
                <a:lnTo>
                  <a:pt x="626" y="770"/>
                </a:lnTo>
                <a:lnTo>
                  <a:pt x="634" y="711"/>
                </a:lnTo>
                <a:lnTo>
                  <a:pt x="641" y="653"/>
                </a:lnTo>
                <a:lnTo>
                  <a:pt x="647" y="597"/>
                </a:lnTo>
                <a:lnTo>
                  <a:pt x="651" y="544"/>
                </a:lnTo>
                <a:lnTo>
                  <a:pt x="653" y="517"/>
                </a:lnTo>
                <a:lnTo>
                  <a:pt x="655" y="490"/>
                </a:lnTo>
                <a:lnTo>
                  <a:pt x="655" y="465"/>
                </a:lnTo>
                <a:lnTo>
                  <a:pt x="657" y="440"/>
                </a:lnTo>
                <a:lnTo>
                  <a:pt x="657" y="415"/>
                </a:lnTo>
                <a:lnTo>
                  <a:pt x="655" y="390"/>
                </a:lnTo>
                <a:lnTo>
                  <a:pt x="655" y="367"/>
                </a:lnTo>
                <a:lnTo>
                  <a:pt x="655" y="344"/>
                </a:lnTo>
                <a:lnTo>
                  <a:pt x="651" y="300"/>
                </a:lnTo>
                <a:lnTo>
                  <a:pt x="647" y="256"/>
                </a:lnTo>
                <a:lnTo>
                  <a:pt x="643" y="215"/>
                </a:lnTo>
                <a:lnTo>
                  <a:pt x="640" y="175"/>
                </a:lnTo>
                <a:lnTo>
                  <a:pt x="638" y="156"/>
                </a:lnTo>
                <a:lnTo>
                  <a:pt x="636" y="139"/>
                </a:lnTo>
                <a:lnTo>
                  <a:pt x="636" y="121"/>
                </a:lnTo>
                <a:lnTo>
                  <a:pt x="634" y="106"/>
                </a:lnTo>
                <a:lnTo>
                  <a:pt x="632" y="92"/>
                </a:lnTo>
                <a:lnTo>
                  <a:pt x="632" y="79"/>
                </a:lnTo>
                <a:lnTo>
                  <a:pt x="632" y="66"/>
                </a:lnTo>
                <a:lnTo>
                  <a:pt x="632" y="56"/>
                </a:lnTo>
                <a:lnTo>
                  <a:pt x="632" y="45"/>
                </a:lnTo>
                <a:lnTo>
                  <a:pt x="632" y="37"/>
                </a:lnTo>
                <a:lnTo>
                  <a:pt x="632" y="29"/>
                </a:lnTo>
                <a:lnTo>
                  <a:pt x="634" y="21"/>
                </a:lnTo>
                <a:lnTo>
                  <a:pt x="636" y="16"/>
                </a:lnTo>
                <a:lnTo>
                  <a:pt x="636" y="12"/>
                </a:lnTo>
                <a:lnTo>
                  <a:pt x="638" y="8"/>
                </a:lnTo>
                <a:lnTo>
                  <a:pt x="640" y="4"/>
                </a:lnTo>
                <a:lnTo>
                  <a:pt x="643" y="2"/>
                </a:lnTo>
                <a:lnTo>
                  <a:pt x="647" y="0"/>
                </a:lnTo>
                <a:lnTo>
                  <a:pt x="653" y="0"/>
                </a:lnTo>
                <a:lnTo>
                  <a:pt x="659" y="2"/>
                </a:lnTo>
                <a:lnTo>
                  <a:pt x="668" y="4"/>
                </a:lnTo>
                <a:lnTo>
                  <a:pt x="678" y="6"/>
                </a:lnTo>
                <a:lnTo>
                  <a:pt x="688" y="10"/>
                </a:lnTo>
                <a:lnTo>
                  <a:pt x="701" y="14"/>
                </a:lnTo>
                <a:lnTo>
                  <a:pt x="714" y="20"/>
                </a:lnTo>
                <a:lnTo>
                  <a:pt x="730" y="25"/>
                </a:lnTo>
                <a:lnTo>
                  <a:pt x="747" y="33"/>
                </a:lnTo>
                <a:lnTo>
                  <a:pt x="764" y="41"/>
                </a:lnTo>
                <a:lnTo>
                  <a:pt x="784" y="50"/>
                </a:lnTo>
                <a:lnTo>
                  <a:pt x="805" y="60"/>
                </a:lnTo>
                <a:lnTo>
                  <a:pt x="826" y="71"/>
                </a:lnTo>
                <a:lnTo>
                  <a:pt x="849" y="83"/>
                </a:lnTo>
                <a:lnTo>
                  <a:pt x="831" y="261"/>
                </a:lnTo>
                <a:lnTo>
                  <a:pt x="814" y="438"/>
                </a:lnTo>
                <a:lnTo>
                  <a:pt x="812" y="461"/>
                </a:lnTo>
                <a:lnTo>
                  <a:pt x="808" y="484"/>
                </a:lnTo>
                <a:lnTo>
                  <a:pt x="807" y="507"/>
                </a:lnTo>
                <a:lnTo>
                  <a:pt x="805" y="532"/>
                </a:lnTo>
                <a:lnTo>
                  <a:pt x="803" y="557"/>
                </a:lnTo>
                <a:lnTo>
                  <a:pt x="799" y="582"/>
                </a:lnTo>
                <a:lnTo>
                  <a:pt x="797" y="609"/>
                </a:lnTo>
                <a:lnTo>
                  <a:pt x="793" y="636"/>
                </a:lnTo>
                <a:lnTo>
                  <a:pt x="789" y="664"/>
                </a:lnTo>
                <a:lnTo>
                  <a:pt x="785" y="693"/>
                </a:lnTo>
                <a:lnTo>
                  <a:pt x="782" y="724"/>
                </a:lnTo>
                <a:lnTo>
                  <a:pt x="778" y="753"/>
                </a:lnTo>
                <a:lnTo>
                  <a:pt x="772" y="785"/>
                </a:lnTo>
                <a:lnTo>
                  <a:pt x="768" y="818"/>
                </a:lnTo>
                <a:lnTo>
                  <a:pt x="762" y="851"/>
                </a:lnTo>
                <a:lnTo>
                  <a:pt x="757" y="885"/>
                </a:lnTo>
                <a:lnTo>
                  <a:pt x="743" y="952"/>
                </a:lnTo>
                <a:lnTo>
                  <a:pt x="728" y="1020"/>
                </a:lnTo>
                <a:lnTo>
                  <a:pt x="712" y="1087"/>
                </a:lnTo>
                <a:lnTo>
                  <a:pt x="695" y="1152"/>
                </a:lnTo>
                <a:lnTo>
                  <a:pt x="676" y="1217"/>
                </a:lnTo>
                <a:lnTo>
                  <a:pt x="657" y="1281"/>
                </a:lnTo>
                <a:lnTo>
                  <a:pt x="638" y="1346"/>
                </a:lnTo>
                <a:lnTo>
                  <a:pt x="617" y="14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90"/>
          <p:cNvSpPr/>
          <p:nvPr/>
        </p:nvSpPr>
        <p:spPr>
          <a:xfrm>
            <a:off x="6121440" y="3049560"/>
            <a:ext cx="1206360" cy="287280"/>
          </a:xfrm>
          <a:custGeom>
            <a:avLst/>
            <a:gdLst/>
            <a:ahLst/>
            <a:rect l="l" t="t" r="r" b="b"/>
            <a:pathLst>
              <a:path w="1520" h="363">
                <a:moveTo>
                  <a:pt x="973" y="93"/>
                </a:moveTo>
                <a:lnTo>
                  <a:pt x="992" y="85"/>
                </a:lnTo>
                <a:lnTo>
                  <a:pt x="1009" y="79"/>
                </a:lnTo>
                <a:lnTo>
                  <a:pt x="1027" y="73"/>
                </a:lnTo>
                <a:lnTo>
                  <a:pt x="1042" y="68"/>
                </a:lnTo>
                <a:lnTo>
                  <a:pt x="1059" y="64"/>
                </a:lnTo>
                <a:lnTo>
                  <a:pt x="1074" y="58"/>
                </a:lnTo>
                <a:lnTo>
                  <a:pt x="1090" y="54"/>
                </a:lnTo>
                <a:lnTo>
                  <a:pt x="1103" y="48"/>
                </a:lnTo>
                <a:lnTo>
                  <a:pt x="1119" y="45"/>
                </a:lnTo>
                <a:lnTo>
                  <a:pt x="1132" y="41"/>
                </a:lnTo>
                <a:lnTo>
                  <a:pt x="1144" y="37"/>
                </a:lnTo>
                <a:lnTo>
                  <a:pt x="1157" y="33"/>
                </a:lnTo>
                <a:lnTo>
                  <a:pt x="1169" y="29"/>
                </a:lnTo>
                <a:lnTo>
                  <a:pt x="1180" y="25"/>
                </a:lnTo>
                <a:lnTo>
                  <a:pt x="1190" y="23"/>
                </a:lnTo>
                <a:lnTo>
                  <a:pt x="1201" y="20"/>
                </a:lnTo>
                <a:lnTo>
                  <a:pt x="1211" y="18"/>
                </a:lnTo>
                <a:lnTo>
                  <a:pt x="1220" y="16"/>
                </a:lnTo>
                <a:lnTo>
                  <a:pt x="1228" y="14"/>
                </a:lnTo>
                <a:lnTo>
                  <a:pt x="1238" y="10"/>
                </a:lnTo>
                <a:lnTo>
                  <a:pt x="1245" y="8"/>
                </a:lnTo>
                <a:lnTo>
                  <a:pt x="1253" y="8"/>
                </a:lnTo>
                <a:lnTo>
                  <a:pt x="1259" y="6"/>
                </a:lnTo>
                <a:lnTo>
                  <a:pt x="1265" y="4"/>
                </a:lnTo>
                <a:lnTo>
                  <a:pt x="1270" y="2"/>
                </a:lnTo>
                <a:lnTo>
                  <a:pt x="1276" y="2"/>
                </a:lnTo>
                <a:lnTo>
                  <a:pt x="1282" y="2"/>
                </a:lnTo>
                <a:lnTo>
                  <a:pt x="1286" y="0"/>
                </a:lnTo>
                <a:lnTo>
                  <a:pt x="1289" y="0"/>
                </a:lnTo>
                <a:lnTo>
                  <a:pt x="1293" y="0"/>
                </a:lnTo>
                <a:lnTo>
                  <a:pt x="1295" y="0"/>
                </a:lnTo>
                <a:lnTo>
                  <a:pt x="1299" y="0"/>
                </a:lnTo>
                <a:lnTo>
                  <a:pt x="1303" y="0"/>
                </a:lnTo>
                <a:lnTo>
                  <a:pt x="1309" y="0"/>
                </a:lnTo>
                <a:lnTo>
                  <a:pt x="1314" y="0"/>
                </a:lnTo>
                <a:lnTo>
                  <a:pt x="1320" y="2"/>
                </a:lnTo>
                <a:lnTo>
                  <a:pt x="1334" y="4"/>
                </a:lnTo>
                <a:lnTo>
                  <a:pt x="1349" y="8"/>
                </a:lnTo>
                <a:lnTo>
                  <a:pt x="1366" y="12"/>
                </a:lnTo>
                <a:lnTo>
                  <a:pt x="1385" y="16"/>
                </a:lnTo>
                <a:lnTo>
                  <a:pt x="1405" y="22"/>
                </a:lnTo>
                <a:lnTo>
                  <a:pt x="1426" y="25"/>
                </a:lnTo>
                <a:lnTo>
                  <a:pt x="1437" y="31"/>
                </a:lnTo>
                <a:lnTo>
                  <a:pt x="1447" y="35"/>
                </a:lnTo>
                <a:lnTo>
                  <a:pt x="1456" y="41"/>
                </a:lnTo>
                <a:lnTo>
                  <a:pt x="1464" y="46"/>
                </a:lnTo>
                <a:lnTo>
                  <a:pt x="1474" y="50"/>
                </a:lnTo>
                <a:lnTo>
                  <a:pt x="1481" y="56"/>
                </a:lnTo>
                <a:lnTo>
                  <a:pt x="1487" y="60"/>
                </a:lnTo>
                <a:lnTo>
                  <a:pt x="1495" y="66"/>
                </a:lnTo>
                <a:lnTo>
                  <a:pt x="1501" y="70"/>
                </a:lnTo>
                <a:lnTo>
                  <a:pt x="1504" y="75"/>
                </a:lnTo>
                <a:lnTo>
                  <a:pt x="1508" y="79"/>
                </a:lnTo>
                <a:lnTo>
                  <a:pt x="1512" y="85"/>
                </a:lnTo>
                <a:lnTo>
                  <a:pt x="1516" y="91"/>
                </a:lnTo>
                <a:lnTo>
                  <a:pt x="1518" y="94"/>
                </a:lnTo>
                <a:lnTo>
                  <a:pt x="1518" y="100"/>
                </a:lnTo>
                <a:lnTo>
                  <a:pt x="1520" y="104"/>
                </a:lnTo>
                <a:lnTo>
                  <a:pt x="1518" y="110"/>
                </a:lnTo>
                <a:lnTo>
                  <a:pt x="1516" y="114"/>
                </a:lnTo>
                <a:lnTo>
                  <a:pt x="1512" y="119"/>
                </a:lnTo>
                <a:lnTo>
                  <a:pt x="1506" y="125"/>
                </a:lnTo>
                <a:lnTo>
                  <a:pt x="1499" y="129"/>
                </a:lnTo>
                <a:lnTo>
                  <a:pt x="1489" y="135"/>
                </a:lnTo>
                <a:lnTo>
                  <a:pt x="1480" y="141"/>
                </a:lnTo>
                <a:lnTo>
                  <a:pt x="1468" y="146"/>
                </a:lnTo>
                <a:lnTo>
                  <a:pt x="1455" y="150"/>
                </a:lnTo>
                <a:lnTo>
                  <a:pt x="1439" y="156"/>
                </a:lnTo>
                <a:lnTo>
                  <a:pt x="1424" y="164"/>
                </a:lnTo>
                <a:lnTo>
                  <a:pt x="1407" y="169"/>
                </a:lnTo>
                <a:lnTo>
                  <a:pt x="1387" y="175"/>
                </a:lnTo>
                <a:lnTo>
                  <a:pt x="1366" y="183"/>
                </a:lnTo>
                <a:lnTo>
                  <a:pt x="1345" y="189"/>
                </a:lnTo>
                <a:lnTo>
                  <a:pt x="1322" y="196"/>
                </a:lnTo>
                <a:lnTo>
                  <a:pt x="1270" y="212"/>
                </a:lnTo>
                <a:lnTo>
                  <a:pt x="1218" y="223"/>
                </a:lnTo>
                <a:lnTo>
                  <a:pt x="1169" y="235"/>
                </a:lnTo>
                <a:lnTo>
                  <a:pt x="1121" y="246"/>
                </a:lnTo>
                <a:lnTo>
                  <a:pt x="1071" y="256"/>
                </a:lnTo>
                <a:lnTo>
                  <a:pt x="1023" y="263"/>
                </a:lnTo>
                <a:lnTo>
                  <a:pt x="975" y="269"/>
                </a:lnTo>
                <a:lnTo>
                  <a:pt x="927" y="275"/>
                </a:lnTo>
                <a:lnTo>
                  <a:pt x="879" y="284"/>
                </a:lnTo>
                <a:lnTo>
                  <a:pt x="829" y="296"/>
                </a:lnTo>
                <a:lnTo>
                  <a:pt x="779" y="304"/>
                </a:lnTo>
                <a:lnTo>
                  <a:pt x="727" y="313"/>
                </a:lnTo>
                <a:lnTo>
                  <a:pt x="673" y="321"/>
                </a:lnTo>
                <a:lnTo>
                  <a:pt x="620" y="329"/>
                </a:lnTo>
                <a:lnTo>
                  <a:pt x="566" y="336"/>
                </a:lnTo>
                <a:lnTo>
                  <a:pt x="510" y="342"/>
                </a:lnTo>
                <a:lnTo>
                  <a:pt x="481" y="346"/>
                </a:lnTo>
                <a:lnTo>
                  <a:pt x="453" y="350"/>
                </a:lnTo>
                <a:lnTo>
                  <a:pt x="422" y="354"/>
                </a:lnTo>
                <a:lnTo>
                  <a:pt x="391" y="356"/>
                </a:lnTo>
                <a:lnTo>
                  <a:pt x="362" y="359"/>
                </a:lnTo>
                <a:lnTo>
                  <a:pt x="330" y="361"/>
                </a:lnTo>
                <a:lnTo>
                  <a:pt x="299" y="361"/>
                </a:lnTo>
                <a:lnTo>
                  <a:pt x="266" y="363"/>
                </a:lnTo>
                <a:lnTo>
                  <a:pt x="203" y="363"/>
                </a:lnTo>
                <a:lnTo>
                  <a:pt x="136" y="361"/>
                </a:lnTo>
                <a:lnTo>
                  <a:pt x="69" y="359"/>
                </a:lnTo>
                <a:lnTo>
                  <a:pt x="0" y="354"/>
                </a:lnTo>
                <a:lnTo>
                  <a:pt x="0" y="315"/>
                </a:lnTo>
                <a:lnTo>
                  <a:pt x="0" y="275"/>
                </a:lnTo>
                <a:lnTo>
                  <a:pt x="19" y="275"/>
                </a:lnTo>
                <a:lnTo>
                  <a:pt x="40" y="275"/>
                </a:lnTo>
                <a:lnTo>
                  <a:pt x="61" y="275"/>
                </a:lnTo>
                <a:lnTo>
                  <a:pt x="84" y="273"/>
                </a:lnTo>
                <a:lnTo>
                  <a:pt x="107" y="271"/>
                </a:lnTo>
                <a:lnTo>
                  <a:pt x="130" y="269"/>
                </a:lnTo>
                <a:lnTo>
                  <a:pt x="155" y="267"/>
                </a:lnTo>
                <a:lnTo>
                  <a:pt x="182" y="263"/>
                </a:lnTo>
                <a:lnTo>
                  <a:pt x="209" y="261"/>
                </a:lnTo>
                <a:lnTo>
                  <a:pt x="236" y="258"/>
                </a:lnTo>
                <a:lnTo>
                  <a:pt x="263" y="252"/>
                </a:lnTo>
                <a:lnTo>
                  <a:pt x="293" y="248"/>
                </a:lnTo>
                <a:lnTo>
                  <a:pt x="322" y="242"/>
                </a:lnTo>
                <a:lnTo>
                  <a:pt x="353" y="237"/>
                </a:lnTo>
                <a:lnTo>
                  <a:pt x="383" y="231"/>
                </a:lnTo>
                <a:lnTo>
                  <a:pt x="416" y="223"/>
                </a:lnTo>
                <a:lnTo>
                  <a:pt x="481" y="208"/>
                </a:lnTo>
                <a:lnTo>
                  <a:pt x="549" y="192"/>
                </a:lnTo>
                <a:lnTo>
                  <a:pt x="618" y="177"/>
                </a:lnTo>
                <a:lnTo>
                  <a:pt x="687" y="162"/>
                </a:lnTo>
                <a:lnTo>
                  <a:pt x="756" y="146"/>
                </a:lnTo>
                <a:lnTo>
                  <a:pt x="827" y="129"/>
                </a:lnTo>
                <a:lnTo>
                  <a:pt x="900" y="112"/>
                </a:lnTo>
                <a:lnTo>
                  <a:pt x="973" y="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91"/>
          <p:cNvSpPr/>
          <p:nvPr/>
        </p:nvSpPr>
        <p:spPr>
          <a:xfrm>
            <a:off x="6581880" y="2778120"/>
            <a:ext cx="315720" cy="279360"/>
          </a:xfrm>
          <a:custGeom>
            <a:avLst/>
            <a:gdLst/>
            <a:ahLst/>
            <a:rect l="l" t="t" r="r" b="b"/>
            <a:pathLst>
              <a:path w="398" h="353">
                <a:moveTo>
                  <a:pt x="0" y="0"/>
                </a:moveTo>
                <a:lnTo>
                  <a:pt x="23" y="0"/>
                </a:lnTo>
                <a:lnTo>
                  <a:pt x="46" y="0"/>
                </a:lnTo>
                <a:lnTo>
                  <a:pt x="67" y="0"/>
                </a:lnTo>
                <a:lnTo>
                  <a:pt x="87" y="2"/>
                </a:lnTo>
                <a:lnTo>
                  <a:pt x="106" y="2"/>
                </a:lnTo>
                <a:lnTo>
                  <a:pt x="125" y="4"/>
                </a:lnTo>
                <a:lnTo>
                  <a:pt x="142" y="6"/>
                </a:lnTo>
                <a:lnTo>
                  <a:pt x="158" y="7"/>
                </a:lnTo>
                <a:lnTo>
                  <a:pt x="173" y="9"/>
                </a:lnTo>
                <a:lnTo>
                  <a:pt x="188" y="11"/>
                </a:lnTo>
                <a:lnTo>
                  <a:pt x="202" y="13"/>
                </a:lnTo>
                <a:lnTo>
                  <a:pt x="213" y="15"/>
                </a:lnTo>
                <a:lnTo>
                  <a:pt x="225" y="17"/>
                </a:lnTo>
                <a:lnTo>
                  <a:pt x="236" y="21"/>
                </a:lnTo>
                <a:lnTo>
                  <a:pt x="246" y="23"/>
                </a:lnTo>
                <a:lnTo>
                  <a:pt x="256" y="25"/>
                </a:lnTo>
                <a:lnTo>
                  <a:pt x="269" y="36"/>
                </a:lnTo>
                <a:lnTo>
                  <a:pt x="281" y="48"/>
                </a:lnTo>
                <a:lnTo>
                  <a:pt x="294" y="61"/>
                </a:lnTo>
                <a:lnTo>
                  <a:pt x="307" y="77"/>
                </a:lnTo>
                <a:lnTo>
                  <a:pt x="313" y="84"/>
                </a:lnTo>
                <a:lnTo>
                  <a:pt x="321" y="94"/>
                </a:lnTo>
                <a:lnTo>
                  <a:pt x="327" y="101"/>
                </a:lnTo>
                <a:lnTo>
                  <a:pt x="334" y="111"/>
                </a:lnTo>
                <a:lnTo>
                  <a:pt x="340" y="123"/>
                </a:lnTo>
                <a:lnTo>
                  <a:pt x="346" y="132"/>
                </a:lnTo>
                <a:lnTo>
                  <a:pt x="353" y="144"/>
                </a:lnTo>
                <a:lnTo>
                  <a:pt x="359" y="157"/>
                </a:lnTo>
                <a:lnTo>
                  <a:pt x="365" y="169"/>
                </a:lnTo>
                <a:lnTo>
                  <a:pt x="371" y="180"/>
                </a:lnTo>
                <a:lnTo>
                  <a:pt x="376" y="192"/>
                </a:lnTo>
                <a:lnTo>
                  <a:pt x="380" y="201"/>
                </a:lnTo>
                <a:lnTo>
                  <a:pt x="386" y="211"/>
                </a:lnTo>
                <a:lnTo>
                  <a:pt x="388" y="220"/>
                </a:lnTo>
                <a:lnTo>
                  <a:pt x="392" y="230"/>
                </a:lnTo>
                <a:lnTo>
                  <a:pt x="394" y="240"/>
                </a:lnTo>
                <a:lnTo>
                  <a:pt x="396" y="247"/>
                </a:lnTo>
                <a:lnTo>
                  <a:pt x="398" y="255"/>
                </a:lnTo>
                <a:lnTo>
                  <a:pt x="398" y="263"/>
                </a:lnTo>
                <a:lnTo>
                  <a:pt x="398" y="270"/>
                </a:lnTo>
                <a:lnTo>
                  <a:pt x="398" y="278"/>
                </a:lnTo>
                <a:lnTo>
                  <a:pt x="398" y="286"/>
                </a:lnTo>
                <a:lnTo>
                  <a:pt x="396" y="293"/>
                </a:lnTo>
                <a:lnTo>
                  <a:pt x="394" y="301"/>
                </a:lnTo>
                <a:lnTo>
                  <a:pt x="392" y="309"/>
                </a:lnTo>
                <a:lnTo>
                  <a:pt x="390" y="315"/>
                </a:lnTo>
                <a:lnTo>
                  <a:pt x="386" y="320"/>
                </a:lnTo>
                <a:lnTo>
                  <a:pt x="384" y="326"/>
                </a:lnTo>
                <a:lnTo>
                  <a:pt x="380" y="330"/>
                </a:lnTo>
                <a:lnTo>
                  <a:pt x="376" y="336"/>
                </a:lnTo>
                <a:lnTo>
                  <a:pt x="373" y="339"/>
                </a:lnTo>
                <a:lnTo>
                  <a:pt x="369" y="341"/>
                </a:lnTo>
                <a:lnTo>
                  <a:pt x="359" y="347"/>
                </a:lnTo>
                <a:lnTo>
                  <a:pt x="350" y="351"/>
                </a:lnTo>
                <a:lnTo>
                  <a:pt x="338" y="353"/>
                </a:lnTo>
                <a:lnTo>
                  <a:pt x="325" y="353"/>
                </a:lnTo>
                <a:lnTo>
                  <a:pt x="317" y="353"/>
                </a:lnTo>
                <a:lnTo>
                  <a:pt x="311" y="351"/>
                </a:lnTo>
                <a:lnTo>
                  <a:pt x="302" y="347"/>
                </a:lnTo>
                <a:lnTo>
                  <a:pt x="294" y="343"/>
                </a:lnTo>
                <a:lnTo>
                  <a:pt x="284" y="339"/>
                </a:lnTo>
                <a:lnTo>
                  <a:pt x="275" y="332"/>
                </a:lnTo>
                <a:lnTo>
                  <a:pt x="265" y="324"/>
                </a:lnTo>
                <a:lnTo>
                  <a:pt x="254" y="316"/>
                </a:lnTo>
                <a:lnTo>
                  <a:pt x="242" y="307"/>
                </a:lnTo>
                <a:lnTo>
                  <a:pt x="229" y="295"/>
                </a:lnTo>
                <a:lnTo>
                  <a:pt x="215" y="284"/>
                </a:lnTo>
                <a:lnTo>
                  <a:pt x="202" y="270"/>
                </a:lnTo>
                <a:lnTo>
                  <a:pt x="186" y="257"/>
                </a:lnTo>
                <a:lnTo>
                  <a:pt x="171" y="242"/>
                </a:lnTo>
                <a:lnTo>
                  <a:pt x="156" y="226"/>
                </a:lnTo>
                <a:lnTo>
                  <a:pt x="138" y="209"/>
                </a:lnTo>
                <a:lnTo>
                  <a:pt x="123" y="192"/>
                </a:lnTo>
                <a:lnTo>
                  <a:pt x="106" y="174"/>
                </a:lnTo>
                <a:lnTo>
                  <a:pt x="92" y="159"/>
                </a:lnTo>
                <a:lnTo>
                  <a:pt x="79" y="142"/>
                </a:lnTo>
                <a:lnTo>
                  <a:pt x="66" y="126"/>
                </a:lnTo>
                <a:lnTo>
                  <a:pt x="54" y="113"/>
                </a:lnTo>
                <a:lnTo>
                  <a:pt x="44" y="98"/>
                </a:lnTo>
                <a:lnTo>
                  <a:pt x="35" y="84"/>
                </a:lnTo>
                <a:lnTo>
                  <a:pt x="27" y="71"/>
                </a:lnTo>
                <a:lnTo>
                  <a:pt x="19" y="59"/>
                </a:lnTo>
                <a:lnTo>
                  <a:pt x="14" y="46"/>
                </a:lnTo>
                <a:lnTo>
                  <a:pt x="8" y="36"/>
                </a:lnTo>
                <a:lnTo>
                  <a:pt x="4" y="25"/>
                </a:lnTo>
                <a:lnTo>
                  <a:pt x="2" y="15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州”中间竖短，后两点向右倾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 3"/>
          <p:cNvSpPr/>
          <p:nvPr/>
        </p:nvSpPr>
        <p:spPr>
          <a:xfrm>
            <a:off x="1927080" y="1868400"/>
            <a:ext cx="17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ō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83"/>
          <p:cNvSpPr/>
          <p:nvPr/>
        </p:nvSpPr>
        <p:spPr>
          <a:xfrm>
            <a:off x="7377120" y="2712960"/>
            <a:ext cx="276120" cy="2276640"/>
          </a:xfrm>
          <a:custGeom>
            <a:avLst/>
            <a:gdLst/>
            <a:ahLst/>
            <a:rect l="l" t="t" r="r" b="b"/>
            <a:pathLst>
              <a:path w="347" h="2868">
                <a:moveTo>
                  <a:pt x="108" y="499"/>
                </a:moveTo>
                <a:lnTo>
                  <a:pt x="108" y="474"/>
                </a:lnTo>
                <a:lnTo>
                  <a:pt x="106" y="450"/>
                </a:lnTo>
                <a:lnTo>
                  <a:pt x="104" y="426"/>
                </a:lnTo>
                <a:lnTo>
                  <a:pt x="102" y="403"/>
                </a:lnTo>
                <a:lnTo>
                  <a:pt x="102" y="382"/>
                </a:lnTo>
                <a:lnTo>
                  <a:pt x="100" y="361"/>
                </a:lnTo>
                <a:lnTo>
                  <a:pt x="98" y="340"/>
                </a:lnTo>
                <a:lnTo>
                  <a:pt x="96" y="321"/>
                </a:lnTo>
                <a:lnTo>
                  <a:pt x="96" y="302"/>
                </a:lnTo>
                <a:lnTo>
                  <a:pt x="94" y="284"/>
                </a:lnTo>
                <a:lnTo>
                  <a:pt x="92" y="267"/>
                </a:lnTo>
                <a:lnTo>
                  <a:pt x="90" y="252"/>
                </a:lnTo>
                <a:lnTo>
                  <a:pt x="90" y="236"/>
                </a:lnTo>
                <a:lnTo>
                  <a:pt x="88" y="221"/>
                </a:lnTo>
                <a:lnTo>
                  <a:pt x="86" y="208"/>
                </a:lnTo>
                <a:lnTo>
                  <a:pt x="84" y="194"/>
                </a:lnTo>
                <a:lnTo>
                  <a:pt x="83" y="181"/>
                </a:lnTo>
                <a:lnTo>
                  <a:pt x="81" y="169"/>
                </a:lnTo>
                <a:lnTo>
                  <a:pt x="79" y="160"/>
                </a:lnTo>
                <a:lnTo>
                  <a:pt x="77" y="148"/>
                </a:lnTo>
                <a:lnTo>
                  <a:pt x="75" y="139"/>
                </a:lnTo>
                <a:lnTo>
                  <a:pt x="73" y="131"/>
                </a:lnTo>
                <a:lnTo>
                  <a:pt x="71" y="123"/>
                </a:lnTo>
                <a:lnTo>
                  <a:pt x="69" y="116"/>
                </a:lnTo>
                <a:lnTo>
                  <a:pt x="67" y="108"/>
                </a:lnTo>
                <a:lnTo>
                  <a:pt x="65" y="102"/>
                </a:lnTo>
                <a:lnTo>
                  <a:pt x="61" y="98"/>
                </a:lnTo>
                <a:lnTo>
                  <a:pt x="60" y="94"/>
                </a:lnTo>
                <a:lnTo>
                  <a:pt x="58" y="91"/>
                </a:lnTo>
                <a:lnTo>
                  <a:pt x="56" y="87"/>
                </a:lnTo>
                <a:lnTo>
                  <a:pt x="52" y="85"/>
                </a:lnTo>
                <a:lnTo>
                  <a:pt x="50" y="83"/>
                </a:lnTo>
                <a:lnTo>
                  <a:pt x="42" y="83"/>
                </a:lnTo>
                <a:lnTo>
                  <a:pt x="35" y="83"/>
                </a:lnTo>
                <a:lnTo>
                  <a:pt x="27" y="81"/>
                </a:lnTo>
                <a:lnTo>
                  <a:pt x="21" y="81"/>
                </a:lnTo>
                <a:lnTo>
                  <a:pt x="17" y="79"/>
                </a:lnTo>
                <a:lnTo>
                  <a:pt x="12" y="77"/>
                </a:lnTo>
                <a:lnTo>
                  <a:pt x="8" y="75"/>
                </a:lnTo>
                <a:lnTo>
                  <a:pt x="6" y="71"/>
                </a:lnTo>
                <a:lnTo>
                  <a:pt x="4" y="68"/>
                </a:lnTo>
                <a:lnTo>
                  <a:pt x="2" y="64"/>
                </a:lnTo>
                <a:lnTo>
                  <a:pt x="0" y="60"/>
                </a:lnTo>
                <a:lnTo>
                  <a:pt x="0" y="56"/>
                </a:lnTo>
                <a:lnTo>
                  <a:pt x="0" y="50"/>
                </a:lnTo>
                <a:lnTo>
                  <a:pt x="2" y="45"/>
                </a:lnTo>
                <a:lnTo>
                  <a:pt x="4" y="39"/>
                </a:lnTo>
                <a:lnTo>
                  <a:pt x="6" y="31"/>
                </a:lnTo>
                <a:lnTo>
                  <a:pt x="6" y="27"/>
                </a:lnTo>
                <a:lnTo>
                  <a:pt x="8" y="21"/>
                </a:lnTo>
                <a:lnTo>
                  <a:pt x="10" y="18"/>
                </a:lnTo>
                <a:lnTo>
                  <a:pt x="13" y="14"/>
                </a:lnTo>
                <a:lnTo>
                  <a:pt x="17" y="10"/>
                </a:lnTo>
                <a:lnTo>
                  <a:pt x="23" y="8"/>
                </a:lnTo>
                <a:lnTo>
                  <a:pt x="29" y="6"/>
                </a:lnTo>
                <a:lnTo>
                  <a:pt x="37" y="4"/>
                </a:lnTo>
                <a:lnTo>
                  <a:pt x="44" y="2"/>
                </a:lnTo>
                <a:lnTo>
                  <a:pt x="54" y="0"/>
                </a:lnTo>
                <a:lnTo>
                  <a:pt x="63" y="0"/>
                </a:lnTo>
                <a:lnTo>
                  <a:pt x="73" y="0"/>
                </a:lnTo>
                <a:lnTo>
                  <a:pt x="84" y="0"/>
                </a:lnTo>
                <a:lnTo>
                  <a:pt x="96" y="2"/>
                </a:lnTo>
                <a:lnTo>
                  <a:pt x="109" y="2"/>
                </a:lnTo>
                <a:lnTo>
                  <a:pt x="123" y="6"/>
                </a:lnTo>
                <a:lnTo>
                  <a:pt x="150" y="10"/>
                </a:lnTo>
                <a:lnTo>
                  <a:pt x="175" y="16"/>
                </a:lnTo>
                <a:lnTo>
                  <a:pt x="200" y="21"/>
                </a:lnTo>
                <a:lnTo>
                  <a:pt x="223" y="27"/>
                </a:lnTo>
                <a:lnTo>
                  <a:pt x="244" y="35"/>
                </a:lnTo>
                <a:lnTo>
                  <a:pt x="263" y="45"/>
                </a:lnTo>
                <a:lnTo>
                  <a:pt x="273" y="50"/>
                </a:lnTo>
                <a:lnTo>
                  <a:pt x="282" y="56"/>
                </a:lnTo>
                <a:lnTo>
                  <a:pt x="290" y="64"/>
                </a:lnTo>
                <a:lnTo>
                  <a:pt x="299" y="69"/>
                </a:lnTo>
                <a:lnTo>
                  <a:pt x="307" y="77"/>
                </a:lnTo>
                <a:lnTo>
                  <a:pt x="313" y="85"/>
                </a:lnTo>
                <a:lnTo>
                  <a:pt x="321" y="91"/>
                </a:lnTo>
                <a:lnTo>
                  <a:pt x="326" y="98"/>
                </a:lnTo>
                <a:lnTo>
                  <a:pt x="330" y="104"/>
                </a:lnTo>
                <a:lnTo>
                  <a:pt x="336" y="110"/>
                </a:lnTo>
                <a:lnTo>
                  <a:pt x="340" y="116"/>
                </a:lnTo>
                <a:lnTo>
                  <a:pt x="342" y="121"/>
                </a:lnTo>
                <a:lnTo>
                  <a:pt x="346" y="129"/>
                </a:lnTo>
                <a:lnTo>
                  <a:pt x="347" y="135"/>
                </a:lnTo>
                <a:lnTo>
                  <a:pt x="347" y="140"/>
                </a:lnTo>
                <a:lnTo>
                  <a:pt x="347" y="146"/>
                </a:lnTo>
                <a:lnTo>
                  <a:pt x="347" y="154"/>
                </a:lnTo>
                <a:lnTo>
                  <a:pt x="347" y="160"/>
                </a:lnTo>
                <a:lnTo>
                  <a:pt x="346" y="167"/>
                </a:lnTo>
                <a:lnTo>
                  <a:pt x="344" y="175"/>
                </a:lnTo>
                <a:lnTo>
                  <a:pt x="342" y="177"/>
                </a:lnTo>
                <a:lnTo>
                  <a:pt x="342" y="179"/>
                </a:lnTo>
                <a:lnTo>
                  <a:pt x="340" y="183"/>
                </a:lnTo>
                <a:lnTo>
                  <a:pt x="340" y="187"/>
                </a:lnTo>
                <a:lnTo>
                  <a:pt x="340" y="190"/>
                </a:lnTo>
                <a:lnTo>
                  <a:pt x="338" y="194"/>
                </a:lnTo>
                <a:lnTo>
                  <a:pt x="338" y="200"/>
                </a:lnTo>
                <a:lnTo>
                  <a:pt x="338" y="206"/>
                </a:lnTo>
                <a:lnTo>
                  <a:pt x="336" y="213"/>
                </a:lnTo>
                <a:lnTo>
                  <a:pt x="336" y="221"/>
                </a:lnTo>
                <a:lnTo>
                  <a:pt x="336" y="229"/>
                </a:lnTo>
                <a:lnTo>
                  <a:pt x="334" y="236"/>
                </a:lnTo>
                <a:lnTo>
                  <a:pt x="334" y="244"/>
                </a:lnTo>
                <a:lnTo>
                  <a:pt x="334" y="254"/>
                </a:lnTo>
                <a:lnTo>
                  <a:pt x="332" y="263"/>
                </a:lnTo>
                <a:lnTo>
                  <a:pt x="332" y="275"/>
                </a:lnTo>
                <a:lnTo>
                  <a:pt x="332" y="286"/>
                </a:lnTo>
                <a:lnTo>
                  <a:pt x="332" y="298"/>
                </a:lnTo>
                <a:lnTo>
                  <a:pt x="330" y="309"/>
                </a:lnTo>
                <a:lnTo>
                  <a:pt x="330" y="321"/>
                </a:lnTo>
                <a:lnTo>
                  <a:pt x="330" y="334"/>
                </a:lnTo>
                <a:lnTo>
                  <a:pt x="328" y="350"/>
                </a:lnTo>
                <a:lnTo>
                  <a:pt x="328" y="363"/>
                </a:lnTo>
                <a:lnTo>
                  <a:pt x="328" y="378"/>
                </a:lnTo>
                <a:lnTo>
                  <a:pt x="328" y="394"/>
                </a:lnTo>
                <a:lnTo>
                  <a:pt x="326" y="409"/>
                </a:lnTo>
                <a:lnTo>
                  <a:pt x="326" y="426"/>
                </a:lnTo>
                <a:lnTo>
                  <a:pt x="326" y="444"/>
                </a:lnTo>
                <a:lnTo>
                  <a:pt x="326" y="461"/>
                </a:lnTo>
                <a:lnTo>
                  <a:pt x="326" y="478"/>
                </a:lnTo>
                <a:lnTo>
                  <a:pt x="324" y="497"/>
                </a:lnTo>
                <a:lnTo>
                  <a:pt x="324" y="517"/>
                </a:lnTo>
                <a:lnTo>
                  <a:pt x="324" y="538"/>
                </a:lnTo>
                <a:lnTo>
                  <a:pt x="324" y="557"/>
                </a:lnTo>
                <a:lnTo>
                  <a:pt x="324" y="578"/>
                </a:lnTo>
                <a:lnTo>
                  <a:pt x="324" y="601"/>
                </a:lnTo>
                <a:lnTo>
                  <a:pt x="322" y="622"/>
                </a:lnTo>
                <a:lnTo>
                  <a:pt x="322" y="645"/>
                </a:lnTo>
                <a:lnTo>
                  <a:pt x="322" y="668"/>
                </a:lnTo>
                <a:lnTo>
                  <a:pt x="322" y="693"/>
                </a:lnTo>
                <a:lnTo>
                  <a:pt x="322" y="716"/>
                </a:lnTo>
                <a:lnTo>
                  <a:pt x="322" y="743"/>
                </a:lnTo>
                <a:lnTo>
                  <a:pt x="322" y="768"/>
                </a:lnTo>
                <a:lnTo>
                  <a:pt x="322" y="793"/>
                </a:lnTo>
                <a:lnTo>
                  <a:pt x="322" y="820"/>
                </a:lnTo>
                <a:lnTo>
                  <a:pt x="322" y="849"/>
                </a:lnTo>
                <a:lnTo>
                  <a:pt x="322" y="876"/>
                </a:lnTo>
                <a:lnTo>
                  <a:pt x="322" y="904"/>
                </a:lnTo>
                <a:lnTo>
                  <a:pt x="322" y="933"/>
                </a:lnTo>
                <a:lnTo>
                  <a:pt x="322" y="962"/>
                </a:lnTo>
                <a:lnTo>
                  <a:pt x="322" y="993"/>
                </a:lnTo>
                <a:lnTo>
                  <a:pt x="322" y="1023"/>
                </a:lnTo>
                <a:lnTo>
                  <a:pt x="322" y="1054"/>
                </a:lnTo>
                <a:lnTo>
                  <a:pt x="322" y="1087"/>
                </a:lnTo>
                <a:lnTo>
                  <a:pt x="324" y="1119"/>
                </a:lnTo>
                <a:lnTo>
                  <a:pt x="324" y="1152"/>
                </a:lnTo>
                <a:lnTo>
                  <a:pt x="324" y="1185"/>
                </a:lnTo>
                <a:lnTo>
                  <a:pt x="324" y="1219"/>
                </a:lnTo>
                <a:lnTo>
                  <a:pt x="324" y="1254"/>
                </a:lnTo>
                <a:lnTo>
                  <a:pt x="326" y="1290"/>
                </a:lnTo>
                <a:lnTo>
                  <a:pt x="326" y="1325"/>
                </a:lnTo>
                <a:lnTo>
                  <a:pt x="326" y="1361"/>
                </a:lnTo>
                <a:lnTo>
                  <a:pt x="328" y="1400"/>
                </a:lnTo>
                <a:lnTo>
                  <a:pt x="328" y="1436"/>
                </a:lnTo>
                <a:lnTo>
                  <a:pt x="328" y="1513"/>
                </a:lnTo>
                <a:lnTo>
                  <a:pt x="328" y="1586"/>
                </a:lnTo>
                <a:lnTo>
                  <a:pt x="328" y="1657"/>
                </a:lnTo>
                <a:lnTo>
                  <a:pt x="328" y="1726"/>
                </a:lnTo>
                <a:lnTo>
                  <a:pt x="326" y="1793"/>
                </a:lnTo>
                <a:lnTo>
                  <a:pt x="326" y="1858"/>
                </a:lnTo>
                <a:lnTo>
                  <a:pt x="326" y="1920"/>
                </a:lnTo>
                <a:lnTo>
                  <a:pt x="326" y="1981"/>
                </a:lnTo>
                <a:lnTo>
                  <a:pt x="324" y="2039"/>
                </a:lnTo>
                <a:lnTo>
                  <a:pt x="324" y="2094"/>
                </a:lnTo>
                <a:lnTo>
                  <a:pt x="324" y="2148"/>
                </a:lnTo>
                <a:lnTo>
                  <a:pt x="322" y="2200"/>
                </a:lnTo>
                <a:lnTo>
                  <a:pt x="322" y="2248"/>
                </a:lnTo>
                <a:lnTo>
                  <a:pt x="321" y="2296"/>
                </a:lnTo>
                <a:lnTo>
                  <a:pt x="321" y="2340"/>
                </a:lnTo>
                <a:lnTo>
                  <a:pt x="319" y="2382"/>
                </a:lnTo>
                <a:lnTo>
                  <a:pt x="319" y="2423"/>
                </a:lnTo>
                <a:lnTo>
                  <a:pt x="317" y="2461"/>
                </a:lnTo>
                <a:lnTo>
                  <a:pt x="315" y="2498"/>
                </a:lnTo>
                <a:lnTo>
                  <a:pt x="315" y="2532"/>
                </a:lnTo>
                <a:lnTo>
                  <a:pt x="313" y="2563"/>
                </a:lnTo>
                <a:lnTo>
                  <a:pt x="311" y="2592"/>
                </a:lnTo>
                <a:lnTo>
                  <a:pt x="311" y="2619"/>
                </a:lnTo>
                <a:lnTo>
                  <a:pt x="309" y="2643"/>
                </a:lnTo>
                <a:lnTo>
                  <a:pt x="307" y="2667"/>
                </a:lnTo>
                <a:lnTo>
                  <a:pt x="307" y="2688"/>
                </a:lnTo>
                <a:lnTo>
                  <a:pt x="305" y="2705"/>
                </a:lnTo>
                <a:lnTo>
                  <a:pt x="303" y="2722"/>
                </a:lnTo>
                <a:lnTo>
                  <a:pt x="303" y="2736"/>
                </a:lnTo>
                <a:lnTo>
                  <a:pt x="301" y="2747"/>
                </a:lnTo>
                <a:lnTo>
                  <a:pt x="299" y="2757"/>
                </a:lnTo>
                <a:lnTo>
                  <a:pt x="299" y="2764"/>
                </a:lnTo>
                <a:lnTo>
                  <a:pt x="294" y="2776"/>
                </a:lnTo>
                <a:lnTo>
                  <a:pt x="288" y="2787"/>
                </a:lnTo>
                <a:lnTo>
                  <a:pt x="282" y="2797"/>
                </a:lnTo>
                <a:lnTo>
                  <a:pt x="276" y="2809"/>
                </a:lnTo>
                <a:lnTo>
                  <a:pt x="271" y="2816"/>
                </a:lnTo>
                <a:lnTo>
                  <a:pt x="265" y="2826"/>
                </a:lnTo>
                <a:lnTo>
                  <a:pt x="261" y="2833"/>
                </a:lnTo>
                <a:lnTo>
                  <a:pt x="255" y="2841"/>
                </a:lnTo>
                <a:lnTo>
                  <a:pt x="250" y="2847"/>
                </a:lnTo>
                <a:lnTo>
                  <a:pt x="244" y="2853"/>
                </a:lnTo>
                <a:lnTo>
                  <a:pt x="238" y="2857"/>
                </a:lnTo>
                <a:lnTo>
                  <a:pt x="232" y="2860"/>
                </a:lnTo>
                <a:lnTo>
                  <a:pt x="227" y="2864"/>
                </a:lnTo>
                <a:lnTo>
                  <a:pt x="221" y="2866"/>
                </a:lnTo>
                <a:lnTo>
                  <a:pt x="217" y="2868"/>
                </a:lnTo>
                <a:lnTo>
                  <a:pt x="211" y="2868"/>
                </a:lnTo>
                <a:lnTo>
                  <a:pt x="205" y="2868"/>
                </a:lnTo>
                <a:lnTo>
                  <a:pt x="200" y="2866"/>
                </a:lnTo>
                <a:lnTo>
                  <a:pt x="194" y="2864"/>
                </a:lnTo>
                <a:lnTo>
                  <a:pt x="188" y="2860"/>
                </a:lnTo>
                <a:lnTo>
                  <a:pt x="184" y="2857"/>
                </a:lnTo>
                <a:lnTo>
                  <a:pt x="179" y="2853"/>
                </a:lnTo>
                <a:lnTo>
                  <a:pt x="173" y="2847"/>
                </a:lnTo>
                <a:lnTo>
                  <a:pt x="169" y="2841"/>
                </a:lnTo>
                <a:lnTo>
                  <a:pt x="163" y="2833"/>
                </a:lnTo>
                <a:lnTo>
                  <a:pt x="159" y="2826"/>
                </a:lnTo>
                <a:lnTo>
                  <a:pt x="156" y="2816"/>
                </a:lnTo>
                <a:lnTo>
                  <a:pt x="152" y="2809"/>
                </a:lnTo>
                <a:lnTo>
                  <a:pt x="148" y="2797"/>
                </a:lnTo>
                <a:lnTo>
                  <a:pt x="144" y="2787"/>
                </a:lnTo>
                <a:lnTo>
                  <a:pt x="140" y="2776"/>
                </a:lnTo>
                <a:lnTo>
                  <a:pt x="138" y="2764"/>
                </a:lnTo>
                <a:lnTo>
                  <a:pt x="127" y="2736"/>
                </a:lnTo>
                <a:lnTo>
                  <a:pt x="119" y="2709"/>
                </a:lnTo>
                <a:lnTo>
                  <a:pt x="111" y="2682"/>
                </a:lnTo>
                <a:lnTo>
                  <a:pt x="106" y="2659"/>
                </a:lnTo>
                <a:lnTo>
                  <a:pt x="102" y="2647"/>
                </a:lnTo>
                <a:lnTo>
                  <a:pt x="100" y="2636"/>
                </a:lnTo>
                <a:lnTo>
                  <a:pt x="98" y="2626"/>
                </a:lnTo>
                <a:lnTo>
                  <a:pt x="96" y="2617"/>
                </a:lnTo>
                <a:lnTo>
                  <a:pt x="96" y="2607"/>
                </a:lnTo>
                <a:lnTo>
                  <a:pt x="94" y="2597"/>
                </a:lnTo>
                <a:lnTo>
                  <a:pt x="94" y="2590"/>
                </a:lnTo>
                <a:lnTo>
                  <a:pt x="94" y="2582"/>
                </a:lnTo>
                <a:lnTo>
                  <a:pt x="94" y="2578"/>
                </a:lnTo>
                <a:lnTo>
                  <a:pt x="94" y="2572"/>
                </a:lnTo>
                <a:lnTo>
                  <a:pt x="94" y="2569"/>
                </a:lnTo>
                <a:lnTo>
                  <a:pt x="94" y="2561"/>
                </a:lnTo>
                <a:lnTo>
                  <a:pt x="94" y="2555"/>
                </a:lnTo>
                <a:lnTo>
                  <a:pt x="96" y="2547"/>
                </a:lnTo>
                <a:lnTo>
                  <a:pt x="96" y="2540"/>
                </a:lnTo>
                <a:lnTo>
                  <a:pt x="96" y="2530"/>
                </a:lnTo>
                <a:lnTo>
                  <a:pt x="96" y="2521"/>
                </a:lnTo>
                <a:lnTo>
                  <a:pt x="98" y="2511"/>
                </a:lnTo>
                <a:lnTo>
                  <a:pt x="98" y="2501"/>
                </a:lnTo>
                <a:lnTo>
                  <a:pt x="100" y="2490"/>
                </a:lnTo>
                <a:lnTo>
                  <a:pt x="100" y="2476"/>
                </a:lnTo>
                <a:lnTo>
                  <a:pt x="102" y="2465"/>
                </a:lnTo>
                <a:lnTo>
                  <a:pt x="102" y="2452"/>
                </a:lnTo>
                <a:lnTo>
                  <a:pt x="104" y="2436"/>
                </a:lnTo>
                <a:lnTo>
                  <a:pt x="104" y="2423"/>
                </a:lnTo>
                <a:lnTo>
                  <a:pt x="106" y="2407"/>
                </a:lnTo>
                <a:lnTo>
                  <a:pt x="106" y="2392"/>
                </a:lnTo>
                <a:lnTo>
                  <a:pt x="108" y="2375"/>
                </a:lnTo>
                <a:lnTo>
                  <a:pt x="109" y="2357"/>
                </a:lnTo>
                <a:lnTo>
                  <a:pt x="109" y="2340"/>
                </a:lnTo>
                <a:lnTo>
                  <a:pt x="111" y="2321"/>
                </a:lnTo>
                <a:lnTo>
                  <a:pt x="111" y="2302"/>
                </a:lnTo>
                <a:lnTo>
                  <a:pt x="113" y="2283"/>
                </a:lnTo>
                <a:lnTo>
                  <a:pt x="115" y="2261"/>
                </a:lnTo>
                <a:lnTo>
                  <a:pt x="117" y="2240"/>
                </a:lnTo>
                <a:lnTo>
                  <a:pt x="117" y="2219"/>
                </a:lnTo>
                <a:lnTo>
                  <a:pt x="119" y="2196"/>
                </a:lnTo>
                <a:lnTo>
                  <a:pt x="121" y="2173"/>
                </a:lnTo>
                <a:lnTo>
                  <a:pt x="121" y="2150"/>
                </a:lnTo>
                <a:lnTo>
                  <a:pt x="123" y="2127"/>
                </a:lnTo>
                <a:lnTo>
                  <a:pt x="129" y="2027"/>
                </a:lnTo>
                <a:lnTo>
                  <a:pt x="134" y="1929"/>
                </a:lnTo>
                <a:lnTo>
                  <a:pt x="138" y="1828"/>
                </a:lnTo>
                <a:lnTo>
                  <a:pt x="142" y="1726"/>
                </a:lnTo>
                <a:lnTo>
                  <a:pt x="146" y="1622"/>
                </a:lnTo>
                <a:lnTo>
                  <a:pt x="150" y="1519"/>
                </a:lnTo>
                <a:lnTo>
                  <a:pt x="152" y="1413"/>
                </a:lnTo>
                <a:lnTo>
                  <a:pt x="152" y="1308"/>
                </a:lnTo>
                <a:lnTo>
                  <a:pt x="142" y="1102"/>
                </a:lnTo>
                <a:lnTo>
                  <a:pt x="136" y="1000"/>
                </a:lnTo>
                <a:lnTo>
                  <a:pt x="131" y="899"/>
                </a:lnTo>
                <a:lnTo>
                  <a:pt x="125" y="797"/>
                </a:lnTo>
                <a:lnTo>
                  <a:pt x="119" y="697"/>
                </a:lnTo>
                <a:lnTo>
                  <a:pt x="113" y="597"/>
                </a:lnTo>
                <a:lnTo>
                  <a:pt x="108" y="4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84"/>
          <p:cNvSpPr/>
          <p:nvPr/>
        </p:nvSpPr>
        <p:spPr>
          <a:xfrm>
            <a:off x="7113600" y="3521160"/>
            <a:ext cx="282600" cy="322200"/>
          </a:xfrm>
          <a:custGeom>
            <a:avLst/>
            <a:gdLst/>
            <a:ahLst/>
            <a:rect l="l" t="t" r="r" b="b"/>
            <a:pathLst>
              <a:path w="355" h="405">
                <a:moveTo>
                  <a:pt x="132" y="234"/>
                </a:moveTo>
                <a:lnTo>
                  <a:pt x="117" y="213"/>
                </a:lnTo>
                <a:lnTo>
                  <a:pt x="102" y="192"/>
                </a:lnTo>
                <a:lnTo>
                  <a:pt x="88" y="172"/>
                </a:lnTo>
                <a:lnTo>
                  <a:pt x="75" y="153"/>
                </a:lnTo>
                <a:lnTo>
                  <a:pt x="63" y="136"/>
                </a:lnTo>
                <a:lnTo>
                  <a:pt x="52" y="121"/>
                </a:lnTo>
                <a:lnTo>
                  <a:pt x="42" y="105"/>
                </a:lnTo>
                <a:lnTo>
                  <a:pt x="33" y="90"/>
                </a:lnTo>
                <a:lnTo>
                  <a:pt x="25" y="78"/>
                </a:lnTo>
                <a:lnTo>
                  <a:pt x="19" y="67"/>
                </a:lnTo>
                <a:lnTo>
                  <a:pt x="13" y="57"/>
                </a:lnTo>
                <a:lnTo>
                  <a:pt x="8" y="48"/>
                </a:lnTo>
                <a:lnTo>
                  <a:pt x="4" y="40"/>
                </a:lnTo>
                <a:lnTo>
                  <a:pt x="2" y="34"/>
                </a:lnTo>
                <a:lnTo>
                  <a:pt x="0" y="28"/>
                </a:lnTo>
                <a:lnTo>
                  <a:pt x="0" y="26"/>
                </a:lnTo>
                <a:lnTo>
                  <a:pt x="0" y="25"/>
                </a:lnTo>
                <a:lnTo>
                  <a:pt x="2" y="21"/>
                </a:lnTo>
                <a:lnTo>
                  <a:pt x="4" y="19"/>
                </a:lnTo>
                <a:lnTo>
                  <a:pt x="6" y="17"/>
                </a:lnTo>
                <a:lnTo>
                  <a:pt x="8" y="15"/>
                </a:lnTo>
                <a:lnTo>
                  <a:pt x="12" y="13"/>
                </a:lnTo>
                <a:lnTo>
                  <a:pt x="17" y="9"/>
                </a:lnTo>
                <a:lnTo>
                  <a:pt x="21" y="7"/>
                </a:lnTo>
                <a:lnTo>
                  <a:pt x="29" y="7"/>
                </a:lnTo>
                <a:lnTo>
                  <a:pt x="35" y="5"/>
                </a:lnTo>
                <a:lnTo>
                  <a:pt x="42" y="3"/>
                </a:lnTo>
                <a:lnTo>
                  <a:pt x="50" y="2"/>
                </a:lnTo>
                <a:lnTo>
                  <a:pt x="58" y="2"/>
                </a:lnTo>
                <a:lnTo>
                  <a:pt x="67" y="2"/>
                </a:lnTo>
                <a:lnTo>
                  <a:pt x="77" y="0"/>
                </a:lnTo>
                <a:lnTo>
                  <a:pt x="88" y="0"/>
                </a:lnTo>
                <a:lnTo>
                  <a:pt x="100" y="0"/>
                </a:lnTo>
                <a:lnTo>
                  <a:pt x="109" y="2"/>
                </a:lnTo>
                <a:lnTo>
                  <a:pt x="121" y="3"/>
                </a:lnTo>
                <a:lnTo>
                  <a:pt x="132" y="5"/>
                </a:lnTo>
                <a:lnTo>
                  <a:pt x="144" y="7"/>
                </a:lnTo>
                <a:lnTo>
                  <a:pt x="155" y="11"/>
                </a:lnTo>
                <a:lnTo>
                  <a:pt x="167" y="17"/>
                </a:lnTo>
                <a:lnTo>
                  <a:pt x="178" y="21"/>
                </a:lnTo>
                <a:lnTo>
                  <a:pt x="190" y="26"/>
                </a:lnTo>
                <a:lnTo>
                  <a:pt x="202" y="34"/>
                </a:lnTo>
                <a:lnTo>
                  <a:pt x="215" y="42"/>
                </a:lnTo>
                <a:lnTo>
                  <a:pt x="226" y="50"/>
                </a:lnTo>
                <a:lnTo>
                  <a:pt x="240" y="59"/>
                </a:lnTo>
                <a:lnTo>
                  <a:pt x="251" y="69"/>
                </a:lnTo>
                <a:lnTo>
                  <a:pt x="265" y="80"/>
                </a:lnTo>
                <a:lnTo>
                  <a:pt x="278" y="92"/>
                </a:lnTo>
                <a:lnTo>
                  <a:pt x="290" y="103"/>
                </a:lnTo>
                <a:lnTo>
                  <a:pt x="299" y="117"/>
                </a:lnTo>
                <a:lnTo>
                  <a:pt x="309" y="130"/>
                </a:lnTo>
                <a:lnTo>
                  <a:pt x="317" y="142"/>
                </a:lnTo>
                <a:lnTo>
                  <a:pt x="324" y="155"/>
                </a:lnTo>
                <a:lnTo>
                  <a:pt x="332" y="169"/>
                </a:lnTo>
                <a:lnTo>
                  <a:pt x="338" y="182"/>
                </a:lnTo>
                <a:lnTo>
                  <a:pt x="344" y="195"/>
                </a:lnTo>
                <a:lnTo>
                  <a:pt x="347" y="209"/>
                </a:lnTo>
                <a:lnTo>
                  <a:pt x="351" y="222"/>
                </a:lnTo>
                <a:lnTo>
                  <a:pt x="353" y="236"/>
                </a:lnTo>
                <a:lnTo>
                  <a:pt x="355" y="249"/>
                </a:lnTo>
                <a:lnTo>
                  <a:pt x="355" y="263"/>
                </a:lnTo>
                <a:lnTo>
                  <a:pt x="355" y="274"/>
                </a:lnTo>
                <a:lnTo>
                  <a:pt x="355" y="288"/>
                </a:lnTo>
                <a:lnTo>
                  <a:pt x="353" y="299"/>
                </a:lnTo>
                <a:lnTo>
                  <a:pt x="349" y="311"/>
                </a:lnTo>
                <a:lnTo>
                  <a:pt x="347" y="322"/>
                </a:lnTo>
                <a:lnTo>
                  <a:pt x="344" y="334"/>
                </a:lnTo>
                <a:lnTo>
                  <a:pt x="342" y="343"/>
                </a:lnTo>
                <a:lnTo>
                  <a:pt x="338" y="353"/>
                </a:lnTo>
                <a:lnTo>
                  <a:pt x="336" y="360"/>
                </a:lnTo>
                <a:lnTo>
                  <a:pt x="334" y="368"/>
                </a:lnTo>
                <a:lnTo>
                  <a:pt x="330" y="376"/>
                </a:lnTo>
                <a:lnTo>
                  <a:pt x="328" y="382"/>
                </a:lnTo>
                <a:lnTo>
                  <a:pt x="324" y="387"/>
                </a:lnTo>
                <a:lnTo>
                  <a:pt x="322" y="393"/>
                </a:lnTo>
                <a:lnTo>
                  <a:pt x="319" y="397"/>
                </a:lnTo>
                <a:lnTo>
                  <a:pt x="317" y="399"/>
                </a:lnTo>
                <a:lnTo>
                  <a:pt x="313" y="403"/>
                </a:lnTo>
                <a:lnTo>
                  <a:pt x="311" y="403"/>
                </a:lnTo>
                <a:lnTo>
                  <a:pt x="309" y="405"/>
                </a:lnTo>
                <a:lnTo>
                  <a:pt x="301" y="403"/>
                </a:lnTo>
                <a:lnTo>
                  <a:pt x="296" y="401"/>
                </a:lnTo>
                <a:lnTo>
                  <a:pt x="288" y="399"/>
                </a:lnTo>
                <a:lnTo>
                  <a:pt x="280" y="393"/>
                </a:lnTo>
                <a:lnTo>
                  <a:pt x="273" y="387"/>
                </a:lnTo>
                <a:lnTo>
                  <a:pt x="263" y="382"/>
                </a:lnTo>
                <a:lnTo>
                  <a:pt x="251" y="372"/>
                </a:lnTo>
                <a:lnTo>
                  <a:pt x="242" y="362"/>
                </a:lnTo>
                <a:lnTo>
                  <a:pt x="230" y="353"/>
                </a:lnTo>
                <a:lnTo>
                  <a:pt x="219" y="339"/>
                </a:lnTo>
                <a:lnTo>
                  <a:pt x="205" y="326"/>
                </a:lnTo>
                <a:lnTo>
                  <a:pt x="192" y="311"/>
                </a:lnTo>
                <a:lnTo>
                  <a:pt x="178" y="293"/>
                </a:lnTo>
                <a:lnTo>
                  <a:pt x="163" y="276"/>
                </a:lnTo>
                <a:lnTo>
                  <a:pt x="148" y="255"/>
                </a:lnTo>
                <a:lnTo>
                  <a:pt x="132" y="2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5"/>
          <p:cNvSpPr/>
          <p:nvPr/>
        </p:nvSpPr>
        <p:spPr>
          <a:xfrm>
            <a:off x="6864480" y="3022560"/>
            <a:ext cx="237960" cy="1411200"/>
          </a:xfrm>
          <a:custGeom>
            <a:avLst/>
            <a:gdLst/>
            <a:ahLst/>
            <a:rect l="l" t="t" r="r" b="b"/>
            <a:pathLst>
              <a:path w="302" h="1779">
                <a:moveTo>
                  <a:pt x="227" y="1138"/>
                </a:moveTo>
                <a:lnTo>
                  <a:pt x="227" y="1171"/>
                </a:lnTo>
                <a:lnTo>
                  <a:pt x="227" y="1204"/>
                </a:lnTo>
                <a:lnTo>
                  <a:pt x="227" y="1236"/>
                </a:lnTo>
                <a:lnTo>
                  <a:pt x="227" y="1267"/>
                </a:lnTo>
                <a:lnTo>
                  <a:pt x="227" y="1298"/>
                </a:lnTo>
                <a:lnTo>
                  <a:pt x="227" y="1326"/>
                </a:lnTo>
                <a:lnTo>
                  <a:pt x="227" y="1355"/>
                </a:lnTo>
                <a:lnTo>
                  <a:pt x="225" y="1384"/>
                </a:lnTo>
                <a:lnTo>
                  <a:pt x="225" y="1411"/>
                </a:lnTo>
                <a:lnTo>
                  <a:pt x="223" y="1438"/>
                </a:lnTo>
                <a:lnTo>
                  <a:pt x="223" y="1463"/>
                </a:lnTo>
                <a:lnTo>
                  <a:pt x="221" y="1488"/>
                </a:lnTo>
                <a:lnTo>
                  <a:pt x="219" y="1511"/>
                </a:lnTo>
                <a:lnTo>
                  <a:pt x="217" y="1536"/>
                </a:lnTo>
                <a:lnTo>
                  <a:pt x="215" y="1559"/>
                </a:lnTo>
                <a:lnTo>
                  <a:pt x="213" y="1580"/>
                </a:lnTo>
                <a:lnTo>
                  <a:pt x="209" y="1601"/>
                </a:lnTo>
                <a:lnTo>
                  <a:pt x="206" y="1622"/>
                </a:lnTo>
                <a:lnTo>
                  <a:pt x="204" y="1641"/>
                </a:lnTo>
                <a:lnTo>
                  <a:pt x="200" y="1658"/>
                </a:lnTo>
                <a:lnTo>
                  <a:pt x="196" y="1674"/>
                </a:lnTo>
                <a:lnTo>
                  <a:pt x="192" y="1689"/>
                </a:lnTo>
                <a:lnTo>
                  <a:pt x="186" y="1704"/>
                </a:lnTo>
                <a:lnTo>
                  <a:pt x="183" y="1716"/>
                </a:lnTo>
                <a:lnTo>
                  <a:pt x="179" y="1728"/>
                </a:lnTo>
                <a:lnTo>
                  <a:pt x="175" y="1739"/>
                </a:lnTo>
                <a:lnTo>
                  <a:pt x="171" y="1749"/>
                </a:lnTo>
                <a:lnTo>
                  <a:pt x="167" y="1756"/>
                </a:lnTo>
                <a:lnTo>
                  <a:pt x="163" y="1762"/>
                </a:lnTo>
                <a:lnTo>
                  <a:pt x="160" y="1768"/>
                </a:lnTo>
                <a:lnTo>
                  <a:pt x="158" y="1772"/>
                </a:lnTo>
                <a:lnTo>
                  <a:pt x="154" y="1776"/>
                </a:lnTo>
                <a:lnTo>
                  <a:pt x="148" y="1777"/>
                </a:lnTo>
                <a:lnTo>
                  <a:pt x="142" y="1779"/>
                </a:lnTo>
                <a:lnTo>
                  <a:pt x="136" y="1779"/>
                </a:lnTo>
                <a:lnTo>
                  <a:pt x="133" y="1779"/>
                </a:lnTo>
                <a:lnTo>
                  <a:pt x="127" y="1779"/>
                </a:lnTo>
                <a:lnTo>
                  <a:pt x="121" y="1779"/>
                </a:lnTo>
                <a:lnTo>
                  <a:pt x="117" y="1777"/>
                </a:lnTo>
                <a:lnTo>
                  <a:pt x="112" y="1774"/>
                </a:lnTo>
                <a:lnTo>
                  <a:pt x="108" y="1770"/>
                </a:lnTo>
                <a:lnTo>
                  <a:pt x="102" y="1766"/>
                </a:lnTo>
                <a:lnTo>
                  <a:pt x="98" y="1762"/>
                </a:lnTo>
                <a:lnTo>
                  <a:pt x="94" y="1754"/>
                </a:lnTo>
                <a:lnTo>
                  <a:pt x="90" y="1749"/>
                </a:lnTo>
                <a:lnTo>
                  <a:pt x="87" y="1741"/>
                </a:lnTo>
                <a:lnTo>
                  <a:pt x="83" y="1733"/>
                </a:lnTo>
                <a:lnTo>
                  <a:pt x="81" y="1724"/>
                </a:lnTo>
                <a:lnTo>
                  <a:pt x="69" y="1708"/>
                </a:lnTo>
                <a:lnTo>
                  <a:pt x="62" y="1695"/>
                </a:lnTo>
                <a:lnTo>
                  <a:pt x="54" y="1681"/>
                </a:lnTo>
                <a:lnTo>
                  <a:pt x="48" y="1668"/>
                </a:lnTo>
                <a:lnTo>
                  <a:pt x="42" y="1657"/>
                </a:lnTo>
                <a:lnTo>
                  <a:pt x="39" y="1647"/>
                </a:lnTo>
                <a:lnTo>
                  <a:pt x="39" y="1641"/>
                </a:lnTo>
                <a:lnTo>
                  <a:pt x="37" y="1637"/>
                </a:lnTo>
                <a:lnTo>
                  <a:pt x="37" y="1635"/>
                </a:lnTo>
                <a:lnTo>
                  <a:pt x="37" y="1632"/>
                </a:lnTo>
                <a:lnTo>
                  <a:pt x="37" y="1630"/>
                </a:lnTo>
                <a:lnTo>
                  <a:pt x="37" y="1628"/>
                </a:lnTo>
                <a:lnTo>
                  <a:pt x="37" y="1626"/>
                </a:lnTo>
                <a:lnTo>
                  <a:pt x="37" y="1622"/>
                </a:lnTo>
                <a:lnTo>
                  <a:pt x="39" y="1620"/>
                </a:lnTo>
                <a:lnTo>
                  <a:pt x="39" y="1614"/>
                </a:lnTo>
                <a:lnTo>
                  <a:pt x="39" y="1610"/>
                </a:lnTo>
                <a:lnTo>
                  <a:pt x="39" y="1605"/>
                </a:lnTo>
                <a:lnTo>
                  <a:pt x="41" y="1599"/>
                </a:lnTo>
                <a:lnTo>
                  <a:pt x="41" y="1593"/>
                </a:lnTo>
                <a:lnTo>
                  <a:pt x="41" y="1585"/>
                </a:lnTo>
                <a:lnTo>
                  <a:pt x="42" y="1578"/>
                </a:lnTo>
                <a:lnTo>
                  <a:pt x="42" y="1570"/>
                </a:lnTo>
                <a:lnTo>
                  <a:pt x="44" y="1561"/>
                </a:lnTo>
                <a:lnTo>
                  <a:pt x="44" y="1551"/>
                </a:lnTo>
                <a:lnTo>
                  <a:pt x="46" y="1541"/>
                </a:lnTo>
                <a:lnTo>
                  <a:pt x="46" y="1530"/>
                </a:lnTo>
                <a:lnTo>
                  <a:pt x="48" y="1518"/>
                </a:lnTo>
                <a:lnTo>
                  <a:pt x="50" y="1507"/>
                </a:lnTo>
                <a:lnTo>
                  <a:pt x="50" y="1495"/>
                </a:lnTo>
                <a:lnTo>
                  <a:pt x="52" y="1482"/>
                </a:lnTo>
                <a:lnTo>
                  <a:pt x="52" y="1468"/>
                </a:lnTo>
                <a:lnTo>
                  <a:pt x="54" y="1453"/>
                </a:lnTo>
                <a:lnTo>
                  <a:pt x="56" y="1438"/>
                </a:lnTo>
                <a:lnTo>
                  <a:pt x="56" y="1422"/>
                </a:lnTo>
                <a:lnTo>
                  <a:pt x="58" y="1407"/>
                </a:lnTo>
                <a:lnTo>
                  <a:pt x="60" y="1390"/>
                </a:lnTo>
                <a:lnTo>
                  <a:pt x="60" y="1371"/>
                </a:lnTo>
                <a:lnTo>
                  <a:pt x="62" y="1353"/>
                </a:lnTo>
                <a:lnTo>
                  <a:pt x="64" y="1334"/>
                </a:lnTo>
                <a:lnTo>
                  <a:pt x="65" y="1315"/>
                </a:lnTo>
                <a:lnTo>
                  <a:pt x="65" y="1294"/>
                </a:lnTo>
                <a:lnTo>
                  <a:pt x="69" y="1253"/>
                </a:lnTo>
                <a:lnTo>
                  <a:pt x="71" y="1211"/>
                </a:lnTo>
                <a:lnTo>
                  <a:pt x="73" y="1173"/>
                </a:lnTo>
                <a:lnTo>
                  <a:pt x="77" y="1132"/>
                </a:lnTo>
                <a:lnTo>
                  <a:pt x="81" y="1054"/>
                </a:lnTo>
                <a:lnTo>
                  <a:pt x="87" y="979"/>
                </a:lnTo>
                <a:lnTo>
                  <a:pt x="90" y="902"/>
                </a:lnTo>
                <a:lnTo>
                  <a:pt x="92" y="829"/>
                </a:lnTo>
                <a:lnTo>
                  <a:pt x="94" y="754"/>
                </a:lnTo>
                <a:lnTo>
                  <a:pt x="96" y="681"/>
                </a:lnTo>
                <a:lnTo>
                  <a:pt x="92" y="649"/>
                </a:lnTo>
                <a:lnTo>
                  <a:pt x="90" y="616"/>
                </a:lnTo>
                <a:lnTo>
                  <a:pt x="89" y="584"/>
                </a:lnTo>
                <a:lnTo>
                  <a:pt x="87" y="553"/>
                </a:lnTo>
                <a:lnTo>
                  <a:pt x="85" y="524"/>
                </a:lnTo>
                <a:lnTo>
                  <a:pt x="85" y="495"/>
                </a:lnTo>
                <a:lnTo>
                  <a:pt x="83" y="466"/>
                </a:lnTo>
                <a:lnTo>
                  <a:pt x="83" y="440"/>
                </a:lnTo>
                <a:lnTo>
                  <a:pt x="83" y="415"/>
                </a:lnTo>
                <a:lnTo>
                  <a:pt x="81" y="390"/>
                </a:lnTo>
                <a:lnTo>
                  <a:pt x="81" y="367"/>
                </a:lnTo>
                <a:lnTo>
                  <a:pt x="81" y="344"/>
                </a:lnTo>
                <a:lnTo>
                  <a:pt x="81" y="322"/>
                </a:lnTo>
                <a:lnTo>
                  <a:pt x="81" y="303"/>
                </a:lnTo>
                <a:lnTo>
                  <a:pt x="81" y="284"/>
                </a:lnTo>
                <a:lnTo>
                  <a:pt x="81" y="267"/>
                </a:lnTo>
                <a:lnTo>
                  <a:pt x="77" y="250"/>
                </a:lnTo>
                <a:lnTo>
                  <a:pt x="75" y="232"/>
                </a:lnTo>
                <a:lnTo>
                  <a:pt x="71" y="217"/>
                </a:lnTo>
                <a:lnTo>
                  <a:pt x="69" y="202"/>
                </a:lnTo>
                <a:lnTo>
                  <a:pt x="65" y="188"/>
                </a:lnTo>
                <a:lnTo>
                  <a:pt x="64" y="175"/>
                </a:lnTo>
                <a:lnTo>
                  <a:pt x="60" y="161"/>
                </a:lnTo>
                <a:lnTo>
                  <a:pt x="56" y="150"/>
                </a:lnTo>
                <a:lnTo>
                  <a:pt x="52" y="136"/>
                </a:lnTo>
                <a:lnTo>
                  <a:pt x="50" y="125"/>
                </a:lnTo>
                <a:lnTo>
                  <a:pt x="44" y="115"/>
                </a:lnTo>
                <a:lnTo>
                  <a:pt x="41" y="106"/>
                </a:lnTo>
                <a:lnTo>
                  <a:pt x="37" y="96"/>
                </a:lnTo>
                <a:lnTo>
                  <a:pt x="33" y="86"/>
                </a:lnTo>
                <a:lnTo>
                  <a:pt x="27" y="79"/>
                </a:lnTo>
                <a:lnTo>
                  <a:pt x="21" y="71"/>
                </a:lnTo>
                <a:lnTo>
                  <a:pt x="17" y="65"/>
                </a:lnTo>
                <a:lnTo>
                  <a:pt x="12" y="61"/>
                </a:lnTo>
                <a:lnTo>
                  <a:pt x="8" y="56"/>
                </a:lnTo>
                <a:lnTo>
                  <a:pt x="6" y="52"/>
                </a:lnTo>
                <a:lnTo>
                  <a:pt x="2" y="46"/>
                </a:lnTo>
                <a:lnTo>
                  <a:pt x="2" y="42"/>
                </a:lnTo>
                <a:lnTo>
                  <a:pt x="0" y="36"/>
                </a:lnTo>
                <a:lnTo>
                  <a:pt x="0" y="33"/>
                </a:lnTo>
                <a:lnTo>
                  <a:pt x="0" y="29"/>
                </a:lnTo>
                <a:lnTo>
                  <a:pt x="2" y="25"/>
                </a:lnTo>
                <a:lnTo>
                  <a:pt x="2" y="21"/>
                </a:lnTo>
                <a:lnTo>
                  <a:pt x="6" y="17"/>
                </a:lnTo>
                <a:lnTo>
                  <a:pt x="8" y="13"/>
                </a:lnTo>
                <a:lnTo>
                  <a:pt x="12" y="12"/>
                </a:lnTo>
                <a:lnTo>
                  <a:pt x="17" y="8"/>
                </a:lnTo>
                <a:lnTo>
                  <a:pt x="21" y="6"/>
                </a:lnTo>
                <a:lnTo>
                  <a:pt x="27" y="4"/>
                </a:lnTo>
                <a:lnTo>
                  <a:pt x="35" y="2"/>
                </a:lnTo>
                <a:lnTo>
                  <a:pt x="41" y="0"/>
                </a:lnTo>
                <a:lnTo>
                  <a:pt x="48" y="0"/>
                </a:lnTo>
                <a:lnTo>
                  <a:pt x="58" y="0"/>
                </a:lnTo>
                <a:lnTo>
                  <a:pt x="67" y="2"/>
                </a:lnTo>
                <a:lnTo>
                  <a:pt x="75" y="4"/>
                </a:lnTo>
                <a:lnTo>
                  <a:pt x="87" y="6"/>
                </a:lnTo>
                <a:lnTo>
                  <a:pt x="96" y="8"/>
                </a:lnTo>
                <a:lnTo>
                  <a:pt x="108" y="12"/>
                </a:lnTo>
                <a:lnTo>
                  <a:pt x="119" y="15"/>
                </a:lnTo>
                <a:lnTo>
                  <a:pt x="131" y="19"/>
                </a:lnTo>
                <a:lnTo>
                  <a:pt x="144" y="25"/>
                </a:lnTo>
                <a:lnTo>
                  <a:pt x="156" y="31"/>
                </a:lnTo>
                <a:lnTo>
                  <a:pt x="169" y="38"/>
                </a:lnTo>
                <a:lnTo>
                  <a:pt x="183" y="44"/>
                </a:lnTo>
                <a:lnTo>
                  <a:pt x="196" y="52"/>
                </a:lnTo>
                <a:lnTo>
                  <a:pt x="209" y="60"/>
                </a:lnTo>
                <a:lnTo>
                  <a:pt x="221" y="67"/>
                </a:lnTo>
                <a:lnTo>
                  <a:pt x="232" y="73"/>
                </a:lnTo>
                <a:lnTo>
                  <a:pt x="242" y="81"/>
                </a:lnTo>
                <a:lnTo>
                  <a:pt x="252" y="88"/>
                </a:lnTo>
                <a:lnTo>
                  <a:pt x="261" y="94"/>
                </a:lnTo>
                <a:lnTo>
                  <a:pt x="269" y="102"/>
                </a:lnTo>
                <a:lnTo>
                  <a:pt x="277" y="107"/>
                </a:lnTo>
                <a:lnTo>
                  <a:pt x="282" y="115"/>
                </a:lnTo>
                <a:lnTo>
                  <a:pt x="288" y="121"/>
                </a:lnTo>
                <a:lnTo>
                  <a:pt x="292" y="127"/>
                </a:lnTo>
                <a:lnTo>
                  <a:pt x="296" y="132"/>
                </a:lnTo>
                <a:lnTo>
                  <a:pt x="298" y="138"/>
                </a:lnTo>
                <a:lnTo>
                  <a:pt x="300" y="144"/>
                </a:lnTo>
                <a:lnTo>
                  <a:pt x="302" y="148"/>
                </a:lnTo>
                <a:lnTo>
                  <a:pt x="300" y="179"/>
                </a:lnTo>
                <a:lnTo>
                  <a:pt x="300" y="192"/>
                </a:lnTo>
                <a:lnTo>
                  <a:pt x="298" y="207"/>
                </a:lnTo>
                <a:lnTo>
                  <a:pt x="298" y="223"/>
                </a:lnTo>
                <a:lnTo>
                  <a:pt x="294" y="236"/>
                </a:lnTo>
                <a:lnTo>
                  <a:pt x="290" y="251"/>
                </a:lnTo>
                <a:lnTo>
                  <a:pt x="286" y="267"/>
                </a:lnTo>
                <a:lnTo>
                  <a:pt x="282" y="274"/>
                </a:lnTo>
                <a:lnTo>
                  <a:pt x="280" y="284"/>
                </a:lnTo>
                <a:lnTo>
                  <a:pt x="279" y="296"/>
                </a:lnTo>
                <a:lnTo>
                  <a:pt x="277" y="309"/>
                </a:lnTo>
                <a:lnTo>
                  <a:pt x="275" y="324"/>
                </a:lnTo>
                <a:lnTo>
                  <a:pt x="275" y="342"/>
                </a:lnTo>
                <a:lnTo>
                  <a:pt x="273" y="359"/>
                </a:lnTo>
                <a:lnTo>
                  <a:pt x="271" y="380"/>
                </a:lnTo>
                <a:lnTo>
                  <a:pt x="269" y="401"/>
                </a:lnTo>
                <a:lnTo>
                  <a:pt x="269" y="424"/>
                </a:lnTo>
                <a:lnTo>
                  <a:pt x="267" y="449"/>
                </a:lnTo>
                <a:lnTo>
                  <a:pt x="265" y="474"/>
                </a:lnTo>
                <a:lnTo>
                  <a:pt x="263" y="501"/>
                </a:lnTo>
                <a:lnTo>
                  <a:pt x="261" y="530"/>
                </a:lnTo>
                <a:lnTo>
                  <a:pt x="259" y="560"/>
                </a:lnTo>
                <a:lnTo>
                  <a:pt x="257" y="591"/>
                </a:lnTo>
                <a:lnTo>
                  <a:pt x="252" y="660"/>
                </a:lnTo>
                <a:lnTo>
                  <a:pt x="248" y="727"/>
                </a:lnTo>
                <a:lnTo>
                  <a:pt x="244" y="797"/>
                </a:lnTo>
                <a:lnTo>
                  <a:pt x="242" y="864"/>
                </a:lnTo>
                <a:lnTo>
                  <a:pt x="238" y="933"/>
                </a:lnTo>
                <a:lnTo>
                  <a:pt x="236" y="1002"/>
                </a:lnTo>
                <a:lnTo>
                  <a:pt x="232" y="1069"/>
                </a:lnTo>
                <a:lnTo>
                  <a:pt x="227" y="1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86"/>
          <p:cNvSpPr/>
          <p:nvPr/>
        </p:nvSpPr>
        <p:spPr>
          <a:xfrm>
            <a:off x="6575400" y="3594240"/>
            <a:ext cx="255600" cy="249120"/>
          </a:xfrm>
          <a:custGeom>
            <a:avLst/>
            <a:gdLst/>
            <a:ahLst/>
            <a:rect l="l" t="t" r="r" b="b"/>
            <a:pathLst>
              <a:path w="323" h="313">
                <a:moveTo>
                  <a:pt x="311" y="272"/>
                </a:moveTo>
                <a:lnTo>
                  <a:pt x="306" y="282"/>
                </a:lnTo>
                <a:lnTo>
                  <a:pt x="298" y="290"/>
                </a:lnTo>
                <a:lnTo>
                  <a:pt x="290" y="297"/>
                </a:lnTo>
                <a:lnTo>
                  <a:pt x="281" y="301"/>
                </a:lnTo>
                <a:lnTo>
                  <a:pt x="271" y="307"/>
                </a:lnTo>
                <a:lnTo>
                  <a:pt x="260" y="309"/>
                </a:lnTo>
                <a:lnTo>
                  <a:pt x="250" y="311"/>
                </a:lnTo>
                <a:lnTo>
                  <a:pt x="238" y="313"/>
                </a:lnTo>
                <a:lnTo>
                  <a:pt x="233" y="311"/>
                </a:lnTo>
                <a:lnTo>
                  <a:pt x="227" y="311"/>
                </a:lnTo>
                <a:lnTo>
                  <a:pt x="219" y="307"/>
                </a:lnTo>
                <a:lnTo>
                  <a:pt x="214" y="305"/>
                </a:lnTo>
                <a:lnTo>
                  <a:pt x="206" y="299"/>
                </a:lnTo>
                <a:lnTo>
                  <a:pt x="198" y="295"/>
                </a:lnTo>
                <a:lnTo>
                  <a:pt x="190" y="288"/>
                </a:lnTo>
                <a:lnTo>
                  <a:pt x="181" y="282"/>
                </a:lnTo>
                <a:lnTo>
                  <a:pt x="171" y="272"/>
                </a:lnTo>
                <a:lnTo>
                  <a:pt x="162" y="263"/>
                </a:lnTo>
                <a:lnTo>
                  <a:pt x="152" y="253"/>
                </a:lnTo>
                <a:lnTo>
                  <a:pt x="141" y="240"/>
                </a:lnTo>
                <a:lnTo>
                  <a:pt x="129" y="228"/>
                </a:lnTo>
                <a:lnTo>
                  <a:pt x="118" y="213"/>
                </a:lnTo>
                <a:lnTo>
                  <a:pt x="104" y="197"/>
                </a:lnTo>
                <a:lnTo>
                  <a:pt x="93" y="182"/>
                </a:lnTo>
                <a:lnTo>
                  <a:pt x="79" y="165"/>
                </a:lnTo>
                <a:lnTo>
                  <a:pt x="66" y="149"/>
                </a:lnTo>
                <a:lnTo>
                  <a:pt x="56" y="134"/>
                </a:lnTo>
                <a:lnTo>
                  <a:pt x="45" y="121"/>
                </a:lnTo>
                <a:lnTo>
                  <a:pt x="37" y="107"/>
                </a:lnTo>
                <a:lnTo>
                  <a:pt x="27" y="96"/>
                </a:lnTo>
                <a:lnTo>
                  <a:pt x="22" y="84"/>
                </a:lnTo>
                <a:lnTo>
                  <a:pt x="16" y="75"/>
                </a:lnTo>
                <a:lnTo>
                  <a:pt x="10" y="65"/>
                </a:lnTo>
                <a:lnTo>
                  <a:pt x="6" y="55"/>
                </a:lnTo>
                <a:lnTo>
                  <a:pt x="2" y="48"/>
                </a:lnTo>
                <a:lnTo>
                  <a:pt x="0" y="42"/>
                </a:lnTo>
                <a:lnTo>
                  <a:pt x="0" y="36"/>
                </a:lnTo>
                <a:lnTo>
                  <a:pt x="0" y="32"/>
                </a:lnTo>
                <a:lnTo>
                  <a:pt x="0" y="29"/>
                </a:lnTo>
                <a:lnTo>
                  <a:pt x="4" y="25"/>
                </a:lnTo>
                <a:lnTo>
                  <a:pt x="4" y="21"/>
                </a:lnTo>
                <a:lnTo>
                  <a:pt x="6" y="15"/>
                </a:lnTo>
                <a:lnTo>
                  <a:pt x="10" y="11"/>
                </a:lnTo>
                <a:lnTo>
                  <a:pt x="14" y="9"/>
                </a:lnTo>
                <a:lnTo>
                  <a:pt x="16" y="7"/>
                </a:lnTo>
                <a:lnTo>
                  <a:pt x="20" y="5"/>
                </a:lnTo>
                <a:lnTo>
                  <a:pt x="23" y="4"/>
                </a:lnTo>
                <a:lnTo>
                  <a:pt x="29" y="4"/>
                </a:lnTo>
                <a:lnTo>
                  <a:pt x="35" y="2"/>
                </a:lnTo>
                <a:lnTo>
                  <a:pt x="41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73" y="0"/>
                </a:lnTo>
                <a:lnTo>
                  <a:pt x="87" y="2"/>
                </a:lnTo>
                <a:lnTo>
                  <a:pt x="102" y="5"/>
                </a:lnTo>
                <a:lnTo>
                  <a:pt x="118" y="9"/>
                </a:lnTo>
                <a:lnTo>
                  <a:pt x="135" y="15"/>
                </a:lnTo>
                <a:lnTo>
                  <a:pt x="154" y="21"/>
                </a:lnTo>
                <a:lnTo>
                  <a:pt x="173" y="29"/>
                </a:lnTo>
                <a:lnTo>
                  <a:pt x="194" y="38"/>
                </a:lnTo>
                <a:lnTo>
                  <a:pt x="215" y="53"/>
                </a:lnTo>
                <a:lnTo>
                  <a:pt x="235" y="67"/>
                </a:lnTo>
                <a:lnTo>
                  <a:pt x="254" y="82"/>
                </a:lnTo>
                <a:lnTo>
                  <a:pt x="261" y="90"/>
                </a:lnTo>
                <a:lnTo>
                  <a:pt x="269" y="98"/>
                </a:lnTo>
                <a:lnTo>
                  <a:pt x="277" y="105"/>
                </a:lnTo>
                <a:lnTo>
                  <a:pt x="283" y="111"/>
                </a:lnTo>
                <a:lnTo>
                  <a:pt x="290" y="119"/>
                </a:lnTo>
                <a:lnTo>
                  <a:pt x="296" y="126"/>
                </a:lnTo>
                <a:lnTo>
                  <a:pt x="300" y="134"/>
                </a:lnTo>
                <a:lnTo>
                  <a:pt x="304" y="140"/>
                </a:lnTo>
                <a:lnTo>
                  <a:pt x="308" y="148"/>
                </a:lnTo>
                <a:lnTo>
                  <a:pt x="311" y="155"/>
                </a:lnTo>
                <a:lnTo>
                  <a:pt x="315" y="171"/>
                </a:lnTo>
                <a:lnTo>
                  <a:pt x="319" y="184"/>
                </a:lnTo>
                <a:lnTo>
                  <a:pt x="321" y="199"/>
                </a:lnTo>
                <a:lnTo>
                  <a:pt x="323" y="215"/>
                </a:lnTo>
                <a:lnTo>
                  <a:pt x="321" y="228"/>
                </a:lnTo>
                <a:lnTo>
                  <a:pt x="319" y="244"/>
                </a:lnTo>
                <a:lnTo>
                  <a:pt x="315" y="257"/>
                </a:lnTo>
                <a:lnTo>
                  <a:pt x="311" y="2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87"/>
          <p:cNvSpPr/>
          <p:nvPr/>
        </p:nvSpPr>
        <p:spPr>
          <a:xfrm>
            <a:off x="5913360" y="3043080"/>
            <a:ext cx="650880" cy="1689120"/>
          </a:xfrm>
          <a:custGeom>
            <a:avLst/>
            <a:gdLst/>
            <a:ahLst/>
            <a:rect l="l" t="t" r="r" b="b"/>
            <a:pathLst>
              <a:path w="819" h="2129">
                <a:moveTo>
                  <a:pt x="207" y="2035"/>
                </a:moveTo>
                <a:lnTo>
                  <a:pt x="184" y="2048"/>
                </a:lnTo>
                <a:lnTo>
                  <a:pt x="161" y="2061"/>
                </a:lnTo>
                <a:lnTo>
                  <a:pt x="140" y="2073"/>
                </a:lnTo>
                <a:lnTo>
                  <a:pt x="122" y="2084"/>
                </a:lnTo>
                <a:lnTo>
                  <a:pt x="105" y="2094"/>
                </a:lnTo>
                <a:lnTo>
                  <a:pt x="88" y="2102"/>
                </a:lnTo>
                <a:lnTo>
                  <a:pt x="74" y="2109"/>
                </a:lnTo>
                <a:lnTo>
                  <a:pt x="61" y="2115"/>
                </a:lnTo>
                <a:lnTo>
                  <a:pt x="49" y="2119"/>
                </a:lnTo>
                <a:lnTo>
                  <a:pt x="38" y="2123"/>
                </a:lnTo>
                <a:lnTo>
                  <a:pt x="30" y="2127"/>
                </a:lnTo>
                <a:lnTo>
                  <a:pt x="21" y="2129"/>
                </a:lnTo>
                <a:lnTo>
                  <a:pt x="15" y="2129"/>
                </a:lnTo>
                <a:lnTo>
                  <a:pt x="9" y="2129"/>
                </a:lnTo>
                <a:lnTo>
                  <a:pt x="5" y="2129"/>
                </a:lnTo>
                <a:lnTo>
                  <a:pt x="1" y="2127"/>
                </a:lnTo>
                <a:lnTo>
                  <a:pt x="0" y="2123"/>
                </a:lnTo>
                <a:lnTo>
                  <a:pt x="0" y="2119"/>
                </a:lnTo>
                <a:lnTo>
                  <a:pt x="0" y="2115"/>
                </a:lnTo>
                <a:lnTo>
                  <a:pt x="1" y="2109"/>
                </a:lnTo>
                <a:lnTo>
                  <a:pt x="5" y="2102"/>
                </a:lnTo>
                <a:lnTo>
                  <a:pt x="11" y="2094"/>
                </a:lnTo>
                <a:lnTo>
                  <a:pt x="17" y="2086"/>
                </a:lnTo>
                <a:lnTo>
                  <a:pt x="24" y="2077"/>
                </a:lnTo>
                <a:lnTo>
                  <a:pt x="32" y="2065"/>
                </a:lnTo>
                <a:lnTo>
                  <a:pt x="44" y="2054"/>
                </a:lnTo>
                <a:lnTo>
                  <a:pt x="55" y="2040"/>
                </a:lnTo>
                <a:lnTo>
                  <a:pt x="69" y="2025"/>
                </a:lnTo>
                <a:lnTo>
                  <a:pt x="82" y="2010"/>
                </a:lnTo>
                <a:lnTo>
                  <a:pt x="97" y="1994"/>
                </a:lnTo>
                <a:lnTo>
                  <a:pt x="115" y="1975"/>
                </a:lnTo>
                <a:lnTo>
                  <a:pt x="134" y="1958"/>
                </a:lnTo>
                <a:lnTo>
                  <a:pt x="153" y="1937"/>
                </a:lnTo>
                <a:lnTo>
                  <a:pt x="170" y="1916"/>
                </a:lnTo>
                <a:lnTo>
                  <a:pt x="190" y="1894"/>
                </a:lnTo>
                <a:lnTo>
                  <a:pt x="207" y="1873"/>
                </a:lnTo>
                <a:lnTo>
                  <a:pt x="226" y="1850"/>
                </a:lnTo>
                <a:lnTo>
                  <a:pt x="243" y="1827"/>
                </a:lnTo>
                <a:lnTo>
                  <a:pt x="261" y="1804"/>
                </a:lnTo>
                <a:lnTo>
                  <a:pt x="276" y="1779"/>
                </a:lnTo>
                <a:lnTo>
                  <a:pt x="293" y="1754"/>
                </a:lnTo>
                <a:lnTo>
                  <a:pt x="309" y="1727"/>
                </a:lnTo>
                <a:lnTo>
                  <a:pt x="324" y="1701"/>
                </a:lnTo>
                <a:lnTo>
                  <a:pt x="339" y="1674"/>
                </a:lnTo>
                <a:lnTo>
                  <a:pt x="355" y="1645"/>
                </a:lnTo>
                <a:lnTo>
                  <a:pt x="370" y="1614"/>
                </a:lnTo>
                <a:lnTo>
                  <a:pt x="383" y="1585"/>
                </a:lnTo>
                <a:lnTo>
                  <a:pt x="397" y="1553"/>
                </a:lnTo>
                <a:lnTo>
                  <a:pt x="410" y="1524"/>
                </a:lnTo>
                <a:lnTo>
                  <a:pt x="424" y="1493"/>
                </a:lnTo>
                <a:lnTo>
                  <a:pt x="437" y="1463"/>
                </a:lnTo>
                <a:lnTo>
                  <a:pt x="449" y="1432"/>
                </a:lnTo>
                <a:lnTo>
                  <a:pt x="462" y="1399"/>
                </a:lnTo>
                <a:lnTo>
                  <a:pt x="474" y="1367"/>
                </a:lnTo>
                <a:lnTo>
                  <a:pt x="483" y="1334"/>
                </a:lnTo>
                <a:lnTo>
                  <a:pt x="495" y="1301"/>
                </a:lnTo>
                <a:lnTo>
                  <a:pt x="504" y="1267"/>
                </a:lnTo>
                <a:lnTo>
                  <a:pt x="514" y="1232"/>
                </a:lnTo>
                <a:lnTo>
                  <a:pt x="524" y="1198"/>
                </a:lnTo>
                <a:lnTo>
                  <a:pt x="531" y="1163"/>
                </a:lnTo>
                <a:lnTo>
                  <a:pt x="539" y="1129"/>
                </a:lnTo>
                <a:lnTo>
                  <a:pt x="547" y="1092"/>
                </a:lnTo>
                <a:lnTo>
                  <a:pt x="554" y="1056"/>
                </a:lnTo>
                <a:lnTo>
                  <a:pt x="560" y="1019"/>
                </a:lnTo>
                <a:lnTo>
                  <a:pt x="570" y="946"/>
                </a:lnTo>
                <a:lnTo>
                  <a:pt x="577" y="871"/>
                </a:lnTo>
                <a:lnTo>
                  <a:pt x="585" y="796"/>
                </a:lnTo>
                <a:lnTo>
                  <a:pt x="587" y="758"/>
                </a:lnTo>
                <a:lnTo>
                  <a:pt x="591" y="720"/>
                </a:lnTo>
                <a:lnTo>
                  <a:pt x="593" y="683"/>
                </a:lnTo>
                <a:lnTo>
                  <a:pt x="593" y="645"/>
                </a:lnTo>
                <a:lnTo>
                  <a:pt x="595" y="606"/>
                </a:lnTo>
                <a:lnTo>
                  <a:pt x="595" y="570"/>
                </a:lnTo>
                <a:lnTo>
                  <a:pt x="593" y="532"/>
                </a:lnTo>
                <a:lnTo>
                  <a:pt x="593" y="495"/>
                </a:lnTo>
                <a:lnTo>
                  <a:pt x="591" y="457"/>
                </a:lnTo>
                <a:lnTo>
                  <a:pt x="589" y="420"/>
                </a:lnTo>
                <a:lnTo>
                  <a:pt x="585" y="386"/>
                </a:lnTo>
                <a:lnTo>
                  <a:pt x="583" y="351"/>
                </a:lnTo>
                <a:lnTo>
                  <a:pt x="579" y="319"/>
                </a:lnTo>
                <a:lnTo>
                  <a:pt x="577" y="290"/>
                </a:lnTo>
                <a:lnTo>
                  <a:pt x="573" y="261"/>
                </a:lnTo>
                <a:lnTo>
                  <a:pt x="570" y="234"/>
                </a:lnTo>
                <a:lnTo>
                  <a:pt x="566" y="209"/>
                </a:lnTo>
                <a:lnTo>
                  <a:pt x="562" y="186"/>
                </a:lnTo>
                <a:lnTo>
                  <a:pt x="558" y="165"/>
                </a:lnTo>
                <a:lnTo>
                  <a:pt x="554" y="146"/>
                </a:lnTo>
                <a:lnTo>
                  <a:pt x="548" y="128"/>
                </a:lnTo>
                <a:lnTo>
                  <a:pt x="543" y="113"/>
                </a:lnTo>
                <a:lnTo>
                  <a:pt x="537" y="100"/>
                </a:lnTo>
                <a:lnTo>
                  <a:pt x="529" y="88"/>
                </a:lnTo>
                <a:lnTo>
                  <a:pt x="524" y="79"/>
                </a:lnTo>
                <a:lnTo>
                  <a:pt x="516" y="69"/>
                </a:lnTo>
                <a:lnTo>
                  <a:pt x="508" y="65"/>
                </a:lnTo>
                <a:lnTo>
                  <a:pt x="500" y="59"/>
                </a:lnTo>
                <a:lnTo>
                  <a:pt x="495" y="56"/>
                </a:lnTo>
                <a:lnTo>
                  <a:pt x="491" y="50"/>
                </a:lnTo>
                <a:lnTo>
                  <a:pt x="487" y="46"/>
                </a:lnTo>
                <a:lnTo>
                  <a:pt x="483" y="40"/>
                </a:lnTo>
                <a:lnTo>
                  <a:pt x="483" y="36"/>
                </a:lnTo>
                <a:lnTo>
                  <a:pt x="481" y="33"/>
                </a:lnTo>
                <a:lnTo>
                  <a:pt x="483" y="29"/>
                </a:lnTo>
                <a:lnTo>
                  <a:pt x="483" y="23"/>
                </a:lnTo>
                <a:lnTo>
                  <a:pt x="487" y="19"/>
                </a:lnTo>
                <a:lnTo>
                  <a:pt x="491" y="17"/>
                </a:lnTo>
                <a:lnTo>
                  <a:pt x="495" y="13"/>
                </a:lnTo>
                <a:lnTo>
                  <a:pt x="500" y="9"/>
                </a:lnTo>
                <a:lnTo>
                  <a:pt x="506" y="8"/>
                </a:lnTo>
                <a:lnTo>
                  <a:pt x="516" y="4"/>
                </a:lnTo>
                <a:lnTo>
                  <a:pt x="522" y="2"/>
                </a:lnTo>
                <a:lnTo>
                  <a:pt x="527" y="0"/>
                </a:lnTo>
                <a:lnTo>
                  <a:pt x="535" y="0"/>
                </a:lnTo>
                <a:lnTo>
                  <a:pt x="543" y="0"/>
                </a:lnTo>
                <a:lnTo>
                  <a:pt x="550" y="0"/>
                </a:lnTo>
                <a:lnTo>
                  <a:pt x="560" y="0"/>
                </a:lnTo>
                <a:lnTo>
                  <a:pt x="570" y="2"/>
                </a:lnTo>
                <a:lnTo>
                  <a:pt x="579" y="2"/>
                </a:lnTo>
                <a:lnTo>
                  <a:pt x="589" y="4"/>
                </a:lnTo>
                <a:lnTo>
                  <a:pt x="600" y="8"/>
                </a:lnTo>
                <a:lnTo>
                  <a:pt x="625" y="13"/>
                </a:lnTo>
                <a:lnTo>
                  <a:pt x="650" y="21"/>
                </a:lnTo>
                <a:lnTo>
                  <a:pt x="677" y="31"/>
                </a:lnTo>
                <a:lnTo>
                  <a:pt x="689" y="38"/>
                </a:lnTo>
                <a:lnTo>
                  <a:pt x="702" y="44"/>
                </a:lnTo>
                <a:lnTo>
                  <a:pt x="714" y="52"/>
                </a:lnTo>
                <a:lnTo>
                  <a:pt x="725" y="57"/>
                </a:lnTo>
                <a:lnTo>
                  <a:pt x="737" y="63"/>
                </a:lnTo>
                <a:lnTo>
                  <a:pt x="746" y="69"/>
                </a:lnTo>
                <a:lnTo>
                  <a:pt x="756" y="75"/>
                </a:lnTo>
                <a:lnTo>
                  <a:pt x="763" y="79"/>
                </a:lnTo>
                <a:lnTo>
                  <a:pt x="771" y="84"/>
                </a:lnTo>
                <a:lnTo>
                  <a:pt x="779" y="88"/>
                </a:lnTo>
                <a:lnTo>
                  <a:pt x="786" y="92"/>
                </a:lnTo>
                <a:lnTo>
                  <a:pt x="792" y="96"/>
                </a:lnTo>
                <a:lnTo>
                  <a:pt x="796" y="100"/>
                </a:lnTo>
                <a:lnTo>
                  <a:pt x="802" y="104"/>
                </a:lnTo>
                <a:lnTo>
                  <a:pt x="806" y="105"/>
                </a:lnTo>
                <a:lnTo>
                  <a:pt x="808" y="109"/>
                </a:lnTo>
                <a:lnTo>
                  <a:pt x="813" y="113"/>
                </a:lnTo>
                <a:lnTo>
                  <a:pt x="817" y="121"/>
                </a:lnTo>
                <a:lnTo>
                  <a:pt x="819" y="128"/>
                </a:lnTo>
                <a:lnTo>
                  <a:pt x="819" y="138"/>
                </a:lnTo>
                <a:lnTo>
                  <a:pt x="819" y="148"/>
                </a:lnTo>
                <a:lnTo>
                  <a:pt x="817" y="159"/>
                </a:lnTo>
                <a:lnTo>
                  <a:pt x="813" y="173"/>
                </a:lnTo>
                <a:lnTo>
                  <a:pt x="808" y="186"/>
                </a:lnTo>
                <a:lnTo>
                  <a:pt x="806" y="194"/>
                </a:lnTo>
                <a:lnTo>
                  <a:pt x="804" y="203"/>
                </a:lnTo>
                <a:lnTo>
                  <a:pt x="802" y="215"/>
                </a:lnTo>
                <a:lnTo>
                  <a:pt x="800" y="226"/>
                </a:lnTo>
                <a:lnTo>
                  <a:pt x="798" y="238"/>
                </a:lnTo>
                <a:lnTo>
                  <a:pt x="798" y="251"/>
                </a:lnTo>
                <a:lnTo>
                  <a:pt x="796" y="267"/>
                </a:lnTo>
                <a:lnTo>
                  <a:pt x="796" y="282"/>
                </a:lnTo>
                <a:lnTo>
                  <a:pt x="794" y="299"/>
                </a:lnTo>
                <a:lnTo>
                  <a:pt x="794" y="319"/>
                </a:lnTo>
                <a:lnTo>
                  <a:pt x="794" y="336"/>
                </a:lnTo>
                <a:lnTo>
                  <a:pt x="794" y="357"/>
                </a:lnTo>
                <a:lnTo>
                  <a:pt x="794" y="378"/>
                </a:lnTo>
                <a:lnTo>
                  <a:pt x="794" y="399"/>
                </a:lnTo>
                <a:lnTo>
                  <a:pt x="794" y="422"/>
                </a:lnTo>
                <a:lnTo>
                  <a:pt x="794" y="447"/>
                </a:lnTo>
                <a:lnTo>
                  <a:pt x="794" y="474"/>
                </a:lnTo>
                <a:lnTo>
                  <a:pt x="792" y="503"/>
                </a:lnTo>
                <a:lnTo>
                  <a:pt x="792" y="532"/>
                </a:lnTo>
                <a:lnTo>
                  <a:pt x="790" y="562"/>
                </a:lnTo>
                <a:lnTo>
                  <a:pt x="788" y="593"/>
                </a:lnTo>
                <a:lnTo>
                  <a:pt x="786" y="626"/>
                </a:lnTo>
                <a:lnTo>
                  <a:pt x="785" y="658"/>
                </a:lnTo>
                <a:lnTo>
                  <a:pt x="783" y="693"/>
                </a:lnTo>
                <a:lnTo>
                  <a:pt x="779" y="727"/>
                </a:lnTo>
                <a:lnTo>
                  <a:pt x="777" y="764"/>
                </a:lnTo>
                <a:lnTo>
                  <a:pt x="773" y="802"/>
                </a:lnTo>
                <a:lnTo>
                  <a:pt x="769" y="841"/>
                </a:lnTo>
                <a:lnTo>
                  <a:pt x="763" y="881"/>
                </a:lnTo>
                <a:lnTo>
                  <a:pt x="760" y="921"/>
                </a:lnTo>
                <a:lnTo>
                  <a:pt x="756" y="963"/>
                </a:lnTo>
                <a:lnTo>
                  <a:pt x="750" y="1008"/>
                </a:lnTo>
                <a:lnTo>
                  <a:pt x="744" y="1052"/>
                </a:lnTo>
                <a:lnTo>
                  <a:pt x="737" y="1098"/>
                </a:lnTo>
                <a:lnTo>
                  <a:pt x="731" y="1142"/>
                </a:lnTo>
                <a:lnTo>
                  <a:pt x="721" y="1184"/>
                </a:lnTo>
                <a:lnTo>
                  <a:pt x="714" y="1226"/>
                </a:lnTo>
                <a:lnTo>
                  <a:pt x="704" y="1269"/>
                </a:lnTo>
                <a:lnTo>
                  <a:pt x="692" y="1309"/>
                </a:lnTo>
                <a:lnTo>
                  <a:pt x="681" y="1347"/>
                </a:lnTo>
                <a:lnTo>
                  <a:pt x="669" y="1386"/>
                </a:lnTo>
                <a:lnTo>
                  <a:pt x="656" y="1424"/>
                </a:lnTo>
                <a:lnTo>
                  <a:pt x="643" y="1461"/>
                </a:lnTo>
                <a:lnTo>
                  <a:pt x="627" y="1497"/>
                </a:lnTo>
                <a:lnTo>
                  <a:pt x="612" y="1532"/>
                </a:lnTo>
                <a:lnTo>
                  <a:pt x="595" y="1566"/>
                </a:lnTo>
                <a:lnTo>
                  <a:pt x="577" y="1599"/>
                </a:lnTo>
                <a:lnTo>
                  <a:pt x="560" y="1631"/>
                </a:lnTo>
                <a:lnTo>
                  <a:pt x="541" y="1664"/>
                </a:lnTo>
                <a:lnTo>
                  <a:pt x="520" y="1697"/>
                </a:lnTo>
                <a:lnTo>
                  <a:pt x="500" y="1729"/>
                </a:lnTo>
                <a:lnTo>
                  <a:pt x="479" y="1758"/>
                </a:lnTo>
                <a:lnTo>
                  <a:pt x="458" y="1787"/>
                </a:lnTo>
                <a:lnTo>
                  <a:pt x="437" y="1816"/>
                </a:lnTo>
                <a:lnTo>
                  <a:pt x="416" y="1841"/>
                </a:lnTo>
                <a:lnTo>
                  <a:pt x="395" y="1868"/>
                </a:lnTo>
                <a:lnTo>
                  <a:pt x="372" y="1891"/>
                </a:lnTo>
                <a:lnTo>
                  <a:pt x="349" y="1916"/>
                </a:lnTo>
                <a:lnTo>
                  <a:pt x="326" y="1937"/>
                </a:lnTo>
                <a:lnTo>
                  <a:pt x="303" y="1958"/>
                </a:lnTo>
                <a:lnTo>
                  <a:pt x="280" y="1979"/>
                </a:lnTo>
                <a:lnTo>
                  <a:pt x="255" y="1998"/>
                </a:lnTo>
                <a:lnTo>
                  <a:pt x="232" y="2017"/>
                </a:lnTo>
                <a:lnTo>
                  <a:pt x="207" y="20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8"/>
          <p:cNvSpPr/>
          <p:nvPr/>
        </p:nvSpPr>
        <p:spPr>
          <a:xfrm>
            <a:off x="5972040" y="3562200"/>
            <a:ext cx="238320" cy="457200"/>
          </a:xfrm>
          <a:custGeom>
            <a:avLst/>
            <a:gdLst/>
            <a:ahLst/>
            <a:rect l="l" t="t" r="r" b="b"/>
            <a:pathLst>
              <a:path w="300" h="576">
                <a:moveTo>
                  <a:pt x="0" y="405"/>
                </a:moveTo>
                <a:lnTo>
                  <a:pt x="2" y="394"/>
                </a:lnTo>
                <a:lnTo>
                  <a:pt x="4" y="382"/>
                </a:lnTo>
                <a:lnTo>
                  <a:pt x="8" y="371"/>
                </a:lnTo>
                <a:lnTo>
                  <a:pt x="10" y="365"/>
                </a:lnTo>
                <a:lnTo>
                  <a:pt x="14" y="357"/>
                </a:lnTo>
                <a:lnTo>
                  <a:pt x="18" y="352"/>
                </a:lnTo>
                <a:lnTo>
                  <a:pt x="22" y="344"/>
                </a:lnTo>
                <a:lnTo>
                  <a:pt x="27" y="336"/>
                </a:lnTo>
                <a:lnTo>
                  <a:pt x="31" y="331"/>
                </a:lnTo>
                <a:lnTo>
                  <a:pt x="39" y="323"/>
                </a:lnTo>
                <a:lnTo>
                  <a:pt x="45" y="315"/>
                </a:lnTo>
                <a:lnTo>
                  <a:pt x="52" y="308"/>
                </a:lnTo>
                <a:lnTo>
                  <a:pt x="60" y="300"/>
                </a:lnTo>
                <a:lnTo>
                  <a:pt x="66" y="292"/>
                </a:lnTo>
                <a:lnTo>
                  <a:pt x="71" y="285"/>
                </a:lnTo>
                <a:lnTo>
                  <a:pt x="75" y="275"/>
                </a:lnTo>
                <a:lnTo>
                  <a:pt x="81" y="267"/>
                </a:lnTo>
                <a:lnTo>
                  <a:pt x="87" y="256"/>
                </a:lnTo>
                <a:lnTo>
                  <a:pt x="93" y="246"/>
                </a:lnTo>
                <a:lnTo>
                  <a:pt x="98" y="235"/>
                </a:lnTo>
                <a:lnTo>
                  <a:pt x="104" y="223"/>
                </a:lnTo>
                <a:lnTo>
                  <a:pt x="116" y="200"/>
                </a:lnTo>
                <a:lnTo>
                  <a:pt x="125" y="175"/>
                </a:lnTo>
                <a:lnTo>
                  <a:pt x="137" y="146"/>
                </a:lnTo>
                <a:lnTo>
                  <a:pt x="148" y="119"/>
                </a:lnTo>
                <a:lnTo>
                  <a:pt x="154" y="104"/>
                </a:lnTo>
                <a:lnTo>
                  <a:pt x="158" y="91"/>
                </a:lnTo>
                <a:lnTo>
                  <a:pt x="164" y="79"/>
                </a:lnTo>
                <a:lnTo>
                  <a:pt x="169" y="68"/>
                </a:lnTo>
                <a:lnTo>
                  <a:pt x="175" y="56"/>
                </a:lnTo>
                <a:lnTo>
                  <a:pt x="179" y="46"/>
                </a:lnTo>
                <a:lnTo>
                  <a:pt x="185" y="39"/>
                </a:lnTo>
                <a:lnTo>
                  <a:pt x="190" y="31"/>
                </a:lnTo>
                <a:lnTo>
                  <a:pt x="194" y="23"/>
                </a:lnTo>
                <a:lnTo>
                  <a:pt x="198" y="18"/>
                </a:lnTo>
                <a:lnTo>
                  <a:pt x="204" y="12"/>
                </a:lnTo>
                <a:lnTo>
                  <a:pt x="208" y="8"/>
                </a:lnTo>
                <a:lnTo>
                  <a:pt x="212" y="4"/>
                </a:lnTo>
                <a:lnTo>
                  <a:pt x="215" y="2"/>
                </a:lnTo>
                <a:lnTo>
                  <a:pt x="217" y="2"/>
                </a:lnTo>
                <a:lnTo>
                  <a:pt x="221" y="0"/>
                </a:lnTo>
                <a:lnTo>
                  <a:pt x="225" y="2"/>
                </a:lnTo>
                <a:lnTo>
                  <a:pt x="227" y="2"/>
                </a:lnTo>
                <a:lnTo>
                  <a:pt x="231" y="4"/>
                </a:lnTo>
                <a:lnTo>
                  <a:pt x="235" y="8"/>
                </a:lnTo>
                <a:lnTo>
                  <a:pt x="238" y="12"/>
                </a:lnTo>
                <a:lnTo>
                  <a:pt x="242" y="16"/>
                </a:lnTo>
                <a:lnTo>
                  <a:pt x="248" y="22"/>
                </a:lnTo>
                <a:lnTo>
                  <a:pt x="252" y="29"/>
                </a:lnTo>
                <a:lnTo>
                  <a:pt x="258" y="35"/>
                </a:lnTo>
                <a:lnTo>
                  <a:pt x="261" y="43"/>
                </a:lnTo>
                <a:lnTo>
                  <a:pt x="267" y="52"/>
                </a:lnTo>
                <a:lnTo>
                  <a:pt x="273" y="62"/>
                </a:lnTo>
                <a:lnTo>
                  <a:pt x="279" y="71"/>
                </a:lnTo>
                <a:lnTo>
                  <a:pt x="283" y="81"/>
                </a:lnTo>
                <a:lnTo>
                  <a:pt x="288" y="93"/>
                </a:lnTo>
                <a:lnTo>
                  <a:pt x="294" y="106"/>
                </a:lnTo>
                <a:lnTo>
                  <a:pt x="296" y="118"/>
                </a:lnTo>
                <a:lnTo>
                  <a:pt x="298" y="131"/>
                </a:lnTo>
                <a:lnTo>
                  <a:pt x="300" y="146"/>
                </a:lnTo>
                <a:lnTo>
                  <a:pt x="300" y="162"/>
                </a:lnTo>
                <a:lnTo>
                  <a:pt x="300" y="177"/>
                </a:lnTo>
                <a:lnTo>
                  <a:pt x="298" y="194"/>
                </a:lnTo>
                <a:lnTo>
                  <a:pt x="296" y="212"/>
                </a:lnTo>
                <a:lnTo>
                  <a:pt x="294" y="229"/>
                </a:lnTo>
                <a:lnTo>
                  <a:pt x="290" y="248"/>
                </a:lnTo>
                <a:lnTo>
                  <a:pt x="286" y="267"/>
                </a:lnTo>
                <a:lnTo>
                  <a:pt x="283" y="286"/>
                </a:lnTo>
                <a:lnTo>
                  <a:pt x="277" y="306"/>
                </a:lnTo>
                <a:lnTo>
                  <a:pt x="271" y="327"/>
                </a:lnTo>
                <a:lnTo>
                  <a:pt x="265" y="348"/>
                </a:lnTo>
                <a:lnTo>
                  <a:pt x="258" y="369"/>
                </a:lnTo>
                <a:lnTo>
                  <a:pt x="250" y="392"/>
                </a:lnTo>
                <a:lnTo>
                  <a:pt x="240" y="413"/>
                </a:lnTo>
                <a:lnTo>
                  <a:pt x="229" y="432"/>
                </a:lnTo>
                <a:lnTo>
                  <a:pt x="219" y="451"/>
                </a:lnTo>
                <a:lnTo>
                  <a:pt x="210" y="469"/>
                </a:lnTo>
                <a:lnTo>
                  <a:pt x="200" y="486"/>
                </a:lnTo>
                <a:lnTo>
                  <a:pt x="190" y="501"/>
                </a:lnTo>
                <a:lnTo>
                  <a:pt x="183" y="515"/>
                </a:lnTo>
                <a:lnTo>
                  <a:pt x="173" y="526"/>
                </a:lnTo>
                <a:lnTo>
                  <a:pt x="165" y="538"/>
                </a:lnTo>
                <a:lnTo>
                  <a:pt x="158" y="547"/>
                </a:lnTo>
                <a:lnTo>
                  <a:pt x="150" y="555"/>
                </a:lnTo>
                <a:lnTo>
                  <a:pt x="142" y="563"/>
                </a:lnTo>
                <a:lnTo>
                  <a:pt x="137" y="567"/>
                </a:lnTo>
                <a:lnTo>
                  <a:pt x="131" y="571"/>
                </a:lnTo>
                <a:lnTo>
                  <a:pt x="123" y="572"/>
                </a:lnTo>
                <a:lnTo>
                  <a:pt x="119" y="574"/>
                </a:lnTo>
                <a:lnTo>
                  <a:pt x="114" y="576"/>
                </a:lnTo>
                <a:lnTo>
                  <a:pt x="108" y="576"/>
                </a:lnTo>
                <a:lnTo>
                  <a:pt x="102" y="576"/>
                </a:lnTo>
                <a:lnTo>
                  <a:pt x="96" y="576"/>
                </a:lnTo>
                <a:lnTo>
                  <a:pt x="91" y="574"/>
                </a:lnTo>
                <a:lnTo>
                  <a:pt x="87" y="572"/>
                </a:lnTo>
                <a:lnTo>
                  <a:pt x="81" y="571"/>
                </a:lnTo>
                <a:lnTo>
                  <a:pt x="75" y="567"/>
                </a:lnTo>
                <a:lnTo>
                  <a:pt x="71" y="561"/>
                </a:lnTo>
                <a:lnTo>
                  <a:pt x="68" y="555"/>
                </a:lnTo>
                <a:lnTo>
                  <a:pt x="62" y="549"/>
                </a:lnTo>
                <a:lnTo>
                  <a:pt x="58" y="544"/>
                </a:lnTo>
                <a:lnTo>
                  <a:pt x="54" y="536"/>
                </a:lnTo>
                <a:lnTo>
                  <a:pt x="50" y="526"/>
                </a:lnTo>
                <a:lnTo>
                  <a:pt x="48" y="519"/>
                </a:lnTo>
                <a:lnTo>
                  <a:pt x="45" y="509"/>
                </a:lnTo>
                <a:lnTo>
                  <a:pt x="35" y="490"/>
                </a:lnTo>
                <a:lnTo>
                  <a:pt x="25" y="473"/>
                </a:lnTo>
                <a:lnTo>
                  <a:pt x="18" y="455"/>
                </a:lnTo>
                <a:lnTo>
                  <a:pt x="12" y="442"/>
                </a:lnTo>
                <a:lnTo>
                  <a:pt x="10" y="436"/>
                </a:lnTo>
                <a:lnTo>
                  <a:pt x="8" y="428"/>
                </a:lnTo>
                <a:lnTo>
                  <a:pt x="6" y="425"/>
                </a:lnTo>
                <a:lnTo>
                  <a:pt x="4" y="419"/>
                </a:lnTo>
                <a:lnTo>
                  <a:pt x="2" y="415"/>
                </a:lnTo>
                <a:lnTo>
                  <a:pt x="2" y="411"/>
                </a:lnTo>
                <a:lnTo>
                  <a:pt x="0" y="407"/>
                </a:lnTo>
                <a:lnTo>
                  <a:pt x="0" y="4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89"/>
          <p:cNvSpPr/>
          <p:nvPr/>
        </p:nvSpPr>
        <p:spPr>
          <a:xfrm>
            <a:off x="5450040" y="3852720"/>
            <a:ext cx="441000" cy="846360"/>
          </a:xfrm>
          <a:custGeom>
            <a:avLst/>
            <a:gdLst/>
            <a:ahLst/>
            <a:rect l="l" t="t" r="r" b="b"/>
            <a:pathLst>
              <a:path w="557" h="1067">
                <a:moveTo>
                  <a:pt x="234" y="1067"/>
                </a:moveTo>
                <a:lnTo>
                  <a:pt x="225" y="1067"/>
                </a:lnTo>
                <a:lnTo>
                  <a:pt x="217" y="1065"/>
                </a:lnTo>
                <a:lnTo>
                  <a:pt x="209" y="1062"/>
                </a:lnTo>
                <a:lnTo>
                  <a:pt x="200" y="1058"/>
                </a:lnTo>
                <a:lnTo>
                  <a:pt x="192" y="1054"/>
                </a:lnTo>
                <a:lnTo>
                  <a:pt x="182" y="1046"/>
                </a:lnTo>
                <a:lnTo>
                  <a:pt x="175" y="1039"/>
                </a:lnTo>
                <a:lnTo>
                  <a:pt x="165" y="1031"/>
                </a:lnTo>
                <a:lnTo>
                  <a:pt x="157" y="1021"/>
                </a:lnTo>
                <a:lnTo>
                  <a:pt x="148" y="1010"/>
                </a:lnTo>
                <a:lnTo>
                  <a:pt x="138" y="998"/>
                </a:lnTo>
                <a:lnTo>
                  <a:pt x="129" y="985"/>
                </a:lnTo>
                <a:lnTo>
                  <a:pt x="119" y="971"/>
                </a:lnTo>
                <a:lnTo>
                  <a:pt x="108" y="956"/>
                </a:lnTo>
                <a:lnTo>
                  <a:pt x="98" y="941"/>
                </a:lnTo>
                <a:lnTo>
                  <a:pt x="86" y="925"/>
                </a:lnTo>
                <a:lnTo>
                  <a:pt x="77" y="908"/>
                </a:lnTo>
                <a:lnTo>
                  <a:pt x="67" y="893"/>
                </a:lnTo>
                <a:lnTo>
                  <a:pt x="58" y="877"/>
                </a:lnTo>
                <a:lnTo>
                  <a:pt x="48" y="864"/>
                </a:lnTo>
                <a:lnTo>
                  <a:pt x="40" y="850"/>
                </a:lnTo>
                <a:lnTo>
                  <a:pt x="35" y="837"/>
                </a:lnTo>
                <a:lnTo>
                  <a:pt x="27" y="825"/>
                </a:lnTo>
                <a:lnTo>
                  <a:pt x="21" y="816"/>
                </a:lnTo>
                <a:lnTo>
                  <a:pt x="15" y="804"/>
                </a:lnTo>
                <a:lnTo>
                  <a:pt x="12" y="797"/>
                </a:lnTo>
                <a:lnTo>
                  <a:pt x="8" y="787"/>
                </a:lnTo>
                <a:lnTo>
                  <a:pt x="4" y="779"/>
                </a:lnTo>
                <a:lnTo>
                  <a:pt x="2" y="774"/>
                </a:lnTo>
                <a:lnTo>
                  <a:pt x="0" y="766"/>
                </a:lnTo>
                <a:lnTo>
                  <a:pt x="0" y="760"/>
                </a:lnTo>
                <a:lnTo>
                  <a:pt x="0" y="756"/>
                </a:lnTo>
                <a:lnTo>
                  <a:pt x="0" y="751"/>
                </a:lnTo>
                <a:lnTo>
                  <a:pt x="2" y="745"/>
                </a:lnTo>
                <a:lnTo>
                  <a:pt x="6" y="741"/>
                </a:lnTo>
                <a:lnTo>
                  <a:pt x="10" y="739"/>
                </a:lnTo>
                <a:lnTo>
                  <a:pt x="12" y="735"/>
                </a:lnTo>
                <a:lnTo>
                  <a:pt x="15" y="733"/>
                </a:lnTo>
                <a:lnTo>
                  <a:pt x="19" y="731"/>
                </a:lnTo>
                <a:lnTo>
                  <a:pt x="25" y="730"/>
                </a:lnTo>
                <a:lnTo>
                  <a:pt x="31" y="726"/>
                </a:lnTo>
                <a:lnTo>
                  <a:pt x="37" y="724"/>
                </a:lnTo>
                <a:lnTo>
                  <a:pt x="42" y="722"/>
                </a:lnTo>
                <a:lnTo>
                  <a:pt x="50" y="718"/>
                </a:lnTo>
                <a:lnTo>
                  <a:pt x="58" y="716"/>
                </a:lnTo>
                <a:lnTo>
                  <a:pt x="69" y="716"/>
                </a:lnTo>
                <a:lnTo>
                  <a:pt x="79" y="714"/>
                </a:lnTo>
                <a:lnTo>
                  <a:pt x="90" y="712"/>
                </a:lnTo>
                <a:lnTo>
                  <a:pt x="100" y="708"/>
                </a:lnTo>
                <a:lnTo>
                  <a:pt x="109" y="705"/>
                </a:lnTo>
                <a:lnTo>
                  <a:pt x="117" y="701"/>
                </a:lnTo>
                <a:lnTo>
                  <a:pt x="125" y="695"/>
                </a:lnTo>
                <a:lnTo>
                  <a:pt x="131" y="691"/>
                </a:lnTo>
                <a:lnTo>
                  <a:pt x="132" y="689"/>
                </a:lnTo>
                <a:lnTo>
                  <a:pt x="134" y="687"/>
                </a:lnTo>
                <a:lnTo>
                  <a:pt x="136" y="683"/>
                </a:lnTo>
                <a:lnTo>
                  <a:pt x="138" y="680"/>
                </a:lnTo>
                <a:lnTo>
                  <a:pt x="142" y="676"/>
                </a:lnTo>
                <a:lnTo>
                  <a:pt x="144" y="672"/>
                </a:lnTo>
                <a:lnTo>
                  <a:pt x="148" y="666"/>
                </a:lnTo>
                <a:lnTo>
                  <a:pt x="152" y="660"/>
                </a:lnTo>
                <a:lnTo>
                  <a:pt x="154" y="655"/>
                </a:lnTo>
                <a:lnTo>
                  <a:pt x="159" y="647"/>
                </a:lnTo>
                <a:lnTo>
                  <a:pt x="163" y="639"/>
                </a:lnTo>
                <a:lnTo>
                  <a:pt x="167" y="632"/>
                </a:lnTo>
                <a:lnTo>
                  <a:pt x="173" y="622"/>
                </a:lnTo>
                <a:lnTo>
                  <a:pt x="177" y="612"/>
                </a:lnTo>
                <a:lnTo>
                  <a:pt x="182" y="603"/>
                </a:lnTo>
                <a:lnTo>
                  <a:pt x="188" y="591"/>
                </a:lnTo>
                <a:lnTo>
                  <a:pt x="194" y="580"/>
                </a:lnTo>
                <a:lnTo>
                  <a:pt x="202" y="568"/>
                </a:lnTo>
                <a:lnTo>
                  <a:pt x="207" y="555"/>
                </a:lnTo>
                <a:lnTo>
                  <a:pt x="215" y="541"/>
                </a:lnTo>
                <a:lnTo>
                  <a:pt x="221" y="526"/>
                </a:lnTo>
                <a:lnTo>
                  <a:pt x="228" y="513"/>
                </a:lnTo>
                <a:lnTo>
                  <a:pt x="238" y="497"/>
                </a:lnTo>
                <a:lnTo>
                  <a:pt x="246" y="480"/>
                </a:lnTo>
                <a:lnTo>
                  <a:pt x="253" y="463"/>
                </a:lnTo>
                <a:lnTo>
                  <a:pt x="263" y="445"/>
                </a:lnTo>
                <a:lnTo>
                  <a:pt x="271" y="428"/>
                </a:lnTo>
                <a:lnTo>
                  <a:pt x="280" y="409"/>
                </a:lnTo>
                <a:lnTo>
                  <a:pt x="290" y="390"/>
                </a:lnTo>
                <a:lnTo>
                  <a:pt x="301" y="369"/>
                </a:lnTo>
                <a:lnTo>
                  <a:pt x="311" y="348"/>
                </a:lnTo>
                <a:lnTo>
                  <a:pt x="323" y="326"/>
                </a:lnTo>
                <a:lnTo>
                  <a:pt x="332" y="305"/>
                </a:lnTo>
                <a:lnTo>
                  <a:pt x="344" y="286"/>
                </a:lnTo>
                <a:lnTo>
                  <a:pt x="353" y="267"/>
                </a:lnTo>
                <a:lnTo>
                  <a:pt x="363" y="248"/>
                </a:lnTo>
                <a:lnTo>
                  <a:pt x="372" y="230"/>
                </a:lnTo>
                <a:lnTo>
                  <a:pt x="382" y="213"/>
                </a:lnTo>
                <a:lnTo>
                  <a:pt x="392" y="196"/>
                </a:lnTo>
                <a:lnTo>
                  <a:pt x="401" y="179"/>
                </a:lnTo>
                <a:lnTo>
                  <a:pt x="409" y="163"/>
                </a:lnTo>
                <a:lnTo>
                  <a:pt x="418" y="150"/>
                </a:lnTo>
                <a:lnTo>
                  <a:pt x="426" y="134"/>
                </a:lnTo>
                <a:lnTo>
                  <a:pt x="434" y="121"/>
                </a:lnTo>
                <a:lnTo>
                  <a:pt x="442" y="110"/>
                </a:lnTo>
                <a:lnTo>
                  <a:pt x="449" y="96"/>
                </a:lnTo>
                <a:lnTo>
                  <a:pt x="457" y="86"/>
                </a:lnTo>
                <a:lnTo>
                  <a:pt x="465" y="75"/>
                </a:lnTo>
                <a:lnTo>
                  <a:pt x="470" y="65"/>
                </a:lnTo>
                <a:lnTo>
                  <a:pt x="478" y="56"/>
                </a:lnTo>
                <a:lnTo>
                  <a:pt x="484" y="46"/>
                </a:lnTo>
                <a:lnTo>
                  <a:pt x="489" y="39"/>
                </a:lnTo>
                <a:lnTo>
                  <a:pt x="495" y="33"/>
                </a:lnTo>
                <a:lnTo>
                  <a:pt x="501" y="25"/>
                </a:lnTo>
                <a:lnTo>
                  <a:pt x="507" y="19"/>
                </a:lnTo>
                <a:lnTo>
                  <a:pt x="511" y="15"/>
                </a:lnTo>
                <a:lnTo>
                  <a:pt x="516" y="10"/>
                </a:lnTo>
                <a:lnTo>
                  <a:pt x="520" y="6"/>
                </a:lnTo>
                <a:lnTo>
                  <a:pt x="524" y="4"/>
                </a:lnTo>
                <a:lnTo>
                  <a:pt x="528" y="2"/>
                </a:lnTo>
                <a:lnTo>
                  <a:pt x="532" y="0"/>
                </a:lnTo>
                <a:lnTo>
                  <a:pt x="536" y="0"/>
                </a:lnTo>
                <a:lnTo>
                  <a:pt x="539" y="0"/>
                </a:lnTo>
                <a:lnTo>
                  <a:pt x="541" y="0"/>
                </a:lnTo>
                <a:lnTo>
                  <a:pt x="547" y="4"/>
                </a:lnTo>
                <a:lnTo>
                  <a:pt x="551" y="10"/>
                </a:lnTo>
                <a:lnTo>
                  <a:pt x="553" y="12"/>
                </a:lnTo>
                <a:lnTo>
                  <a:pt x="553" y="15"/>
                </a:lnTo>
                <a:lnTo>
                  <a:pt x="555" y="21"/>
                </a:lnTo>
                <a:lnTo>
                  <a:pt x="555" y="25"/>
                </a:lnTo>
                <a:lnTo>
                  <a:pt x="557" y="31"/>
                </a:lnTo>
                <a:lnTo>
                  <a:pt x="557" y="37"/>
                </a:lnTo>
                <a:lnTo>
                  <a:pt x="557" y="42"/>
                </a:lnTo>
                <a:lnTo>
                  <a:pt x="557" y="50"/>
                </a:lnTo>
                <a:lnTo>
                  <a:pt x="557" y="58"/>
                </a:lnTo>
                <a:lnTo>
                  <a:pt x="555" y="65"/>
                </a:lnTo>
                <a:lnTo>
                  <a:pt x="555" y="73"/>
                </a:lnTo>
                <a:lnTo>
                  <a:pt x="555" y="83"/>
                </a:lnTo>
                <a:lnTo>
                  <a:pt x="553" y="90"/>
                </a:lnTo>
                <a:lnTo>
                  <a:pt x="551" y="102"/>
                </a:lnTo>
                <a:lnTo>
                  <a:pt x="549" y="111"/>
                </a:lnTo>
                <a:lnTo>
                  <a:pt x="549" y="123"/>
                </a:lnTo>
                <a:lnTo>
                  <a:pt x="545" y="134"/>
                </a:lnTo>
                <a:lnTo>
                  <a:pt x="543" y="146"/>
                </a:lnTo>
                <a:lnTo>
                  <a:pt x="541" y="159"/>
                </a:lnTo>
                <a:lnTo>
                  <a:pt x="539" y="173"/>
                </a:lnTo>
                <a:lnTo>
                  <a:pt x="536" y="186"/>
                </a:lnTo>
                <a:lnTo>
                  <a:pt x="534" y="202"/>
                </a:lnTo>
                <a:lnTo>
                  <a:pt x="530" y="215"/>
                </a:lnTo>
                <a:lnTo>
                  <a:pt x="528" y="232"/>
                </a:lnTo>
                <a:lnTo>
                  <a:pt x="524" y="248"/>
                </a:lnTo>
                <a:lnTo>
                  <a:pt x="520" y="265"/>
                </a:lnTo>
                <a:lnTo>
                  <a:pt x="516" y="282"/>
                </a:lnTo>
                <a:lnTo>
                  <a:pt x="513" y="300"/>
                </a:lnTo>
                <a:lnTo>
                  <a:pt x="491" y="372"/>
                </a:lnTo>
                <a:lnTo>
                  <a:pt x="470" y="444"/>
                </a:lnTo>
                <a:lnTo>
                  <a:pt x="453" y="513"/>
                </a:lnTo>
                <a:lnTo>
                  <a:pt x="434" y="582"/>
                </a:lnTo>
                <a:lnTo>
                  <a:pt x="424" y="614"/>
                </a:lnTo>
                <a:lnTo>
                  <a:pt x="417" y="647"/>
                </a:lnTo>
                <a:lnTo>
                  <a:pt x="407" y="680"/>
                </a:lnTo>
                <a:lnTo>
                  <a:pt x="399" y="712"/>
                </a:lnTo>
                <a:lnTo>
                  <a:pt x="390" y="743"/>
                </a:lnTo>
                <a:lnTo>
                  <a:pt x="382" y="774"/>
                </a:lnTo>
                <a:lnTo>
                  <a:pt x="374" y="804"/>
                </a:lnTo>
                <a:lnTo>
                  <a:pt x="367" y="833"/>
                </a:lnTo>
                <a:lnTo>
                  <a:pt x="357" y="862"/>
                </a:lnTo>
                <a:lnTo>
                  <a:pt x="349" y="889"/>
                </a:lnTo>
                <a:lnTo>
                  <a:pt x="342" y="914"/>
                </a:lnTo>
                <a:lnTo>
                  <a:pt x="332" y="937"/>
                </a:lnTo>
                <a:lnTo>
                  <a:pt x="324" y="958"/>
                </a:lnTo>
                <a:lnTo>
                  <a:pt x="317" y="977"/>
                </a:lnTo>
                <a:lnTo>
                  <a:pt x="309" y="994"/>
                </a:lnTo>
                <a:lnTo>
                  <a:pt x="299" y="1010"/>
                </a:lnTo>
                <a:lnTo>
                  <a:pt x="292" y="1023"/>
                </a:lnTo>
                <a:lnTo>
                  <a:pt x="284" y="1035"/>
                </a:lnTo>
                <a:lnTo>
                  <a:pt x="275" y="1044"/>
                </a:lnTo>
                <a:lnTo>
                  <a:pt x="267" y="1054"/>
                </a:lnTo>
                <a:lnTo>
                  <a:pt x="259" y="1060"/>
                </a:lnTo>
                <a:lnTo>
                  <a:pt x="250" y="1064"/>
                </a:lnTo>
                <a:lnTo>
                  <a:pt x="242" y="1067"/>
                </a:lnTo>
                <a:lnTo>
                  <a:pt x="234" y="10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0"/>
          <p:cNvSpPr/>
          <p:nvPr/>
        </p:nvSpPr>
        <p:spPr>
          <a:xfrm>
            <a:off x="5389560" y="3398760"/>
            <a:ext cx="318960" cy="277920"/>
          </a:xfrm>
          <a:custGeom>
            <a:avLst/>
            <a:gdLst/>
            <a:ahLst/>
            <a:rect l="l" t="t" r="r" b="b"/>
            <a:pathLst>
              <a:path w="403" h="351">
                <a:moveTo>
                  <a:pt x="325" y="104"/>
                </a:moveTo>
                <a:lnTo>
                  <a:pt x="338" y="113"/>
                </a:lnTo>
                <a:lnTo>
                  <a:pt x="350" y="123"/>
                </a:lnTo>
                <a:lnTo>
                  <a:pt x="361" y="133"/>
                </a:lnTo>
                <a:lnTo>
                  <a:pt x="369" y="144"/>
                </a:lnTo>
                <a:lnTo>
                  <a:pt x="376" y="154"/>
                </a:lnTo>
                <a:lnTo>
                  <a:pt x="384" y="163"/>
                </a:lnTo>
                <a:lnTo>
                  <a:pt x="390" y="173"/>
                </a:lnTo>
                <a:lnTo>
                  <a:pt x="394" y="182"/>
                </a:lnTo>
                <a:lnTo>
                  <a:pt x="398" y="192"/>
                </a:lnTo>
                <a:lnTo>
                  <a:pt x="401" y="202"/>
                </a:lnTo>
                <a:lnTo>
                  <a:pt x="403" y="211"/>
                </a:lnTo>
                <a:lnTo>
                  <a:pt x="403" y="221"/>
                </a:lnTo>
                <a:lnTo>
                  <a:pt x="403" y="230"/>
                </a:lnTo>
                <a:lnTo>
                  <a:pt x="403" y="240"/>
                </a:lnTo>
                <a:lnTo>
                  <a:pt x="401" y="250"/>
                </a:lnTo>
                <a:lnTo>
                  <a:pt x="400" y="261"/>
                </a:lnTo>
                <a:lnTo>
                  <a:pt x="396" y="273"/>
                </a:lnTo>
                <a:lnTo>
                  <a:pt x="392" y="282"/>
                </a:lnTo>
                <a:lnTo>
                  <a:pt x="390" y="294"/>
                </a:lnTo>
                <a:lnTo>
                  <a:pt x="386" y="301"/>
                </a:lnTo>
                <a:lnTo>
                  <a:pt x="380" y="311"/>
                </a:lnTo>
                <a:lnTo>
                  <a:pt x="376" y="317"/>
                </a:lnTo>
                <a:lnTo>
                  <a:pt x="373" y="325"/>
                </a:lnTo>
                <a:lnTo>
                  <a:pt x="367" y="330"/>
                </a:lnTo>
                <a:lnTo>
                  <a:pt x="363" y="336"/>
                </a:lnTo>
                <a:lnTo>
                  <a:pt x="357" y="340"/>
                </a:lnTo>
                <a:lnTo>
                  <a:pt x="352" y="344"/>
                </a:lnTo>
                <a:lnTo>
                  <a:pt x="348" y="346"/>
                </a:lnTo>
                <a:lnTo>
                  <a:pt x="342" y="349"/>
                </a:lnTo>
                <a:lnTo>
                  <a:pt x="336" y="349"/>
                </a:lnTo>
                <a:lnTo>
                  <a:pt x="330" y="351"/>
                </a:lnTo>
                <a:lnTo>
                  <a:pt x="325" y="351"/>
                </a:lnTo>
                <a:lnTo>
                  <a:pt x="319" y="351"/>
                </a:lnTo>
                <a:lnTo>
                  <a:pt x="313" y="349"/>
                </a:lnTo>
                <a:lnTo>
                  <a:pt x="305" y="346"/>
                </a:lnTo>
                <a:lnTo>
                  <a:pt x="298" y="342"/>
                </a:lnTo>
                <a:lnTo>
                  <a:pt x="288" y="336"/>
                </a:lnTo>
                <a:lnTo>
                  <a:pt x="279" y="330"/>
                </a:lnTo>
                <a:lnTo>
                  <a:pt x="269" y="323"/>
                </a:lnTo>
                <a:lnTo>
                  <a:pt x="257" y="313"/>
                </a:lnTo>
                <a:lnTo>
                  <a:pt x="244" y="301"/>
                </a:lnTo>
                <a:lnTo>
                  <a:pt x="233" y="290"/>
                </a:lnTo>
                <a:lnTo>
                  <a:pt x="217" y="278"/>
                </a:lnTo>
                <a:lnTo>
                  <a:pt x="204" y="263"/>
                </a:lnTo>
                <a:lnTo>
                  <a:pt x="188" y="248"/>
                </a:lnTo>
                <a:lnTo>
                  <a:pt x="171" y="232"/>
                </a:lnTo>
                <a:lnTo>
                  <a:pt x="154" y="213"/>
                </a:lnTo>
                <a:lnTo>
                  <a:pt x="135" y="196"/>
                </a:lnTo>
                <a:lnTo>
                  <a:pt x="115" y="177"/>
                </a:lnTo>
                <a:lnTo>
                  <a:pt x="100" y="158"/>
                </a:lnTo>
                <a:lnTo>
                  <a:pt x="83" y="140"/>
                </a:lnTo>
                <a:lnTo>
                  <a:pt x="69" y="125"/>
                </a:lnTo>
                <a:lnTo>
                  <a:pt x="56" y="110"/>
                </a:lnTo>
                <a:lnTo>
                  <a:pt x="44" y="94"/>
                </a:lnTo>
                <a:lnTo>
                  <a:pt x="35" y="81"/>
                </a:lnTo>
                <a:lnTo>
                  <a:pt x="25" y="69"/>
                </a:lnTo>
                <a:lnTo>
                  <a:pt x="18" y="58"/>
                </a:lnTo>
                <a:lnTo>
                  <a:pt x="12" y="48"/>
                </a:lnTo>
                <a:lnTo>
                  <a:pt x="6" y="40"/>
                </a:lnTo>
                <a:lnTo>
                  <a:pt x="2" y="33"/>
                </a:lnTo>
                <a:lnTo>
                  <a:pt x="0" y="25"/>
                </a:lnTo>
                <a:lnTo>
                  <a:pt x="0" y="21"/>
                </a:lnTo>
                <a:lnTo>
                  <a:pt x="0" y="15"/>
                </a:lnTo>
                <a:lnTo>
                  <a:pt x="2" y="14"/>
                </a:lnTo>
                <a:lnTo>
                  <a:pt x="6" y="12"/>
                </a:lnTo>
                <a:lnTo>
                  <a:pt x="10" y="8"/>
                </a:lnTo>
                <a:lnTo>
                  <a:pt x="14" y="8"/>
                </a:lnTo>
                <a:lnTo>
                  <a:pt x="19" y="6"/>
                </a:lnTo>
                <a:lnTo>
                  <a:pt x="25" y="4"/>
                </a:lnTo>
                <a:lnTo>
                  <a:pt x="31" y="2"/>
                </a:lnTo>
                <a:lnTo>
                  <a:pt x="39" y="2"/>
                </a:lnTo>
                <a:lnTo>
                  <a:pt x="46" y="2"/>
                </a:lnTo>
                <a:lnTo>
                  <a:pt x="56" y="0"/>
                </a:lnTo>
                <a:lnTo>
                  <a:pt x="64" y="0"/>
                </a:lnTo>
                <a:lnTo>
                  <a:pt x="75" y="0"/>
                </a:lnTo>
                <a:lnTo>
                  <a:pt x="85" y="0"/>
                </a:lnTo>
                <a:lnTo>
                  <a:pt x="96" y="0"/>
                </a:lnTo>
                <a:lnTo>
                  <a:pt x="108" y="0"/>
                </a:lnTo>
                <a:lnTo>
                  <a:pt x="121" y="0"/>
                </a:lnTo>
                <a:lnTo>
                  <a:pt x="135" y="0"/>
                </a:lnTo>
                <a:lnTo>
                  <a:pt x="162" y="6"/>
                </a:lnTo>
                <a:lnTo>
                  <a:pt x="186" y="12"/>
                </a:lnTo>
                <a:lnTo>
                  <a:pt x="200" y="17"/>
                </a:lnTo>
                <a:lnTo>
                  <a:pt x="211" y="21"/>
                </a:lnTo>
                <a:lnTo>
                  <a:pt x="225" y="27"/>
                </a:lnTo>
                <a:lnTo>
                  <a:pt x="236" y="33"/>
                </a:lnTo>
                <a:lnTo>
                  <a:pt x="248" y="39"/>
                </a:lnTo>
                <a:lnTo>
                  <a:pt x="259" y="46"/>
                </a:lnTo>
                <a:lnTo>
                  <a:pt x="271" y="54"/>
                </a:lnTo>
                <a:lnTo>
                  <a:pt x="281" y="62"/>
                </a:lnTo>
                <a:lnTo>
                  <a:pt x="292" y="71"/>
                </a:lnTo>
                <a:lnTo>
                  <a:pt x="304" y="81"/>
                </a:lnTo>
                <a:lnTo>
                  <a:pt x="315" y="92"/>
                </a:lnTo>
                <a:lnTo>
                  <a:pt x="325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1"/>
          <p:cNvSpPr/>
          <p:nvPr/>
        </p:nvSpPr>
        <p:spPr>
          <a:xfrm>
            <a:off x="5678640" y="2860560"/>
            <a:ext cx="368280" cy="322200"/>
          </a:xfrm>
          <a:custGeom>
            <a:avLst/>
            <a:gdLst/>
            <a:ahLst/>
            <a:rect l="l" t="t" r="r" b="b"/>
            <a:pathLst>
              <a:path w="464" h="406">
                <a:moveTo>
                  <a:pt x="430" y="405"/>
                </a:moveTo>
                <a:lnTo>
                  <a:pt x="424" y="406"/>
                </a:lnTo>
                <a:lnTo>
                  <a:pt x="416" y="406"/>
                </a:lnTo>
                <a:lnTo>
                  <a:pt x="411" y="406"/>
                </a:lnTo>
                <a:lnTo>
                  <a:pt x="401" y="406"/>
                </a:lnTo>
                <a:lnTo>
                  <a:pt x="393" y="405"/>
                </a:lnTo>
                <a:lnTo>
                  <a:pt x="384" y="403"/>
                </a:lnTo>
                <a:lnTo>
                  <a:pt x="374" y="399"/>
                </a:lnTo>
                <a:lnTo>
                  <a:pt x="363" y="395"/>
                </a:lnTo>
                <a:lnTo>
                  <a:pt x="351" y="389"/>
                </a:lnTo>
                <a:lnTo>
                  <a:pt x="340" y="383"/>
                </a:lnTo>
                <a:lnTo>
                  <a:pt x="328" y="376"/>
                </a:lnTo>
                <a:lnTo>
                  <a:pt x="315" y="368"/>
                </a:lnTo>
                <a:lnTo>
                  <a:pt x="299" y="358"/>
                </a:lnTo>
                <a:lnTo>
                  <a:pt x="286" y="349"/>
                </a:lnTo>
                <a:lnTo>
                  <a:pt x="271" y="337"/>
                </a:lnTo>
                <a:lnTo>
                  <a:pt x="253" y="326"/>
                </a:lnTo>
                <a:lnTo>
                  <a:pt x="236" y="312"/>
                </a:lnTo>
                <a:lnTo>
                  <a:pt x="217" y="301"/>
                </a:lnTo>
                <a:lnTo>
                  <a:pt x="201" y="289"/>
                </a:lnTo>
                <a:lnTo>
                  <a:pt x="184" y="276"/>
                </a:lnTo>
                <a:lnTo>
                  <a:pt x="169" y="264"/>
                </a:lnTo>
                <a:lnTo>
                  <a:pt x="155" y="253"/>
                </a:lnTo>
                <a:lnTo>
                  <a:pt x="142" y="241"/>
                </a:lnTo>
                <a:lnTo>
                  <a:pt x="129" y="230"/>
                </a:lnTo>
                <a:lnTo>
                  <a:pt x="117" y="218"/>
                </a:lnTo>
                <a:lnTo>
                  <a:pt x="106" y="207"/>
                </a:lnTo>
                <a:lnTo>
                  <a:pt x="94" y="195"/>
                </a:lnTo>
                <a:lnTo>
                  <a:pt x="84" y="186"/>
                </a:lnTo>
                <a:lnTo>
                  <a:pt x="75" y="174"/>
                </a:lnTo>
                <a:lnTo>
                  <a:pt x="65" y="165"/>
                </a:lnTo>
                <a:lnTo>
                  <a:pt x="48" y="144"/>
                </a:lnTo>
                <a:lnTo>
                  <a:pt x="40" y="134"/>
                </a:lnTo>
                <a:lnTo>
                  <a:pt x="33" y="124"/>
                </a:lnTo>
                <a:lnTo>
                  <a:pt x="27" y="115"/>
                </a:lnTo>
                <a:lnTo>
                  <a:pt x="21" y="107"/>
                </a:lnTo>
                <a:lnTo>
                  <a:pt x="15" y="99"/>
                </a:lnTo>
                <a:lnTo>
                  <a:pt x="11" y="92"/>
                </a:lnTo>
                <a:lnTo>
                  <a:pt x="8" y="84"/>
                </a:lnTo>
                <a:lnTo>
                  <a:pt x="4" y="76"/>
                </a:lnTo>
                <a:lnTo>
                  <a:pt x="2" y="71"/>
                </a:lnTo>
                <a:lnTo>
                  <a:pt x="0" y="65"/>
                </a:lnTo>
                <a:lnTo>
                  <a:pt x="0" y="59"/>
                </a:lnTo>
                <a:lnTo>
                  <a:pt x="0" y="53"/>
                </a:lnTo>
                <a:lnTo>
                  <a:pt x="0" y="49"/>
                </a:lnTo>
                <a:lnTo>
                  <a:pt x="0" y="46"/>
                </a:lnTo>
                <a:lnTo>
                  <a:pt x="2" y="42"/>
                </a:lnTo>
                <a:lnTo>
                  <a:pt x="4" y="40"/>
                </a:lnTo>
                <a:lnTo>
                  <a:pt x="4" y="36"/>
                </a:lnTo>
                <a:lnTo>
                  <a:pt x="6" y="34"/>
                </a:lnTo>
                <a:lnTo>
                  <a:pt x="8" y="32"/>
                </a:lnTo>
                <a:lnTo>
                  <a:pt x="10" y="30"/>
                </a:lnTo>
                <a:lnTo>
                  <a:pt x="13" y="26"/>
                </a:lnTo>
                <a:lnTo>
                  <a:pt x="15" y="24"/>
                </a:lnTo>
                <a:lnTo>
                  <a:pt x="19" y="23"/>
                </a:lnTo>
                <a:lnTo>
                  <a:pt x="25" y="21"/>
                </a:lnTo>
                <a:lnTo>
                  <a:pt x="29" y="17"/>
                </a:lnTo>
                <a:lnTo>
                  <a:pt x="35" y="15"/>
                </a:lnTo>
                <a:lnTo>
                  <a:pt x="48" y="9"/>
                </a:lnTo>
                <a:lnTo>
                  <a:pt x="61" y="5"/>
                </a:lnTo>
                <a:lnTo>
                  <a:pt x="79" y="0"/>
                </a:lnTo>
                <a:lnTo>
                  <a:pt x="86" y="0"/>
                </a:lnTo>
                <a:lnTo>
                  <a:pt x="96" y="1"/>
                </a:lnTo>
                <a:lnTo>
                  <a:pt x="106" y="3"/>
                </a:lnTo>
                <a:lnTo>
                  <a:pt x="117" y="5"/>
                </a:lnTo>
                <a:lnTo>
                  <a:pt x="129" y="7"/>
                </a:lnTo>
                <a:lnTo>
                  <a:pt x="140" y="11"/>
                </a:lnTo>
                <a:lnTo>
                  <a:pt x="152" y="13"/>
                </a:lnTo>
                <a:lnTo>
                  <a:pt x="165" y="17"/>
                </a:lnTo>
                <a:lnTo>
                  <a:pt x="180" y="23"/>
                </a:lnTo>
                <a:lnTo>
                  <a:pt x="194" y="26"/>
                </a:lnTo>
                <a:lnTo>
                  <a:pt x="211" y="32"/>
                </a:lnTo>
                <a:lnTo>
                  <a:pt x="226" y="38"/>
                </a:lnTo>
                <a:lnTo>
                  <a:pt x="244" y="44"/>
                </a:lnTo>
                <a:lnTo>
                  <a:pt x="261" y="51"/>
                </a:lnTo>
                <a:lnTo>
                  <a:pt x="278" y="57"/>
                </a:lnTo>
                <a:lnTo>
                  <a:pt x="297" y="65"/>
                </a:lnTo>
                <a:lnTo>
                  <a:pt x="313" y="74"/>
                </a:lnTo>
                <a:lnTo>
                  <a:pt x="328" y="86"/>
                </a:lnTo>
                <a:lnTo>
                  <a:pt x="344" y="96"/>
                </a:lnTo>
                <a:lnTo>
                  <a:pt x="357" y="107"/>
                </a:lnTo>
                <a:lnTo>
                  <a:pt x="370" y="119"/>
                </a:lnTo>
                <a:lnTo>
                  <a:pt x="384" y="128"/>
                </a:lnTo>
                <a:lnTo>
                  <a:pt x="395" y="140"/>
                </a:lnTo>
                <a:lnTo>
                  <a:pt x="405" y="151"/>
                </a:lnTo>
                <a:lnTo>
                  <a:pt x="416" y="163"/>
                </a:lnTo>
                <a:lnTo>
                  <a:pt x="424" y="176"/>
                </a:lnTo>
                <a:lnTo>
                  <a:pt x="434" y="188"/>
                </a:lnTo>
                <a:lnTo>
                  <a:pt x="439" y="199"/>
                </a:lnTo>
                <a:lnTo>
                  <a:pt x="447" y="211"/>
                </a:lnTo>
                <a:lnTo>
                  <a:pt x="451" y="224"/>
                </a:lnTo>
                <a:lnTo>
                  <a:pt x="457" y="236"/>
                </a:lnTo>
                <a:lnTo>
                  <a:pt x="459" y="247"/>
                </a:lnTo>
                <a:lnTo>
                  <a:pt x="461" y="263"/>
                </a:lnTo>
                <a:lnTo>
                  <a:pt x="463" y="276"/>
                </a:lnTo>
                <a:lnTo>
                  <a:pt x="464" y="289"/>
                </a:lnTo>
                <a:lnTo>
                  <a:pt x="464" y="301"/>
                </a:lnTo>
                <a:lnTo>
                  <a:pt x="464" y="312"/>
                </a:lnTo>
                <a:lnTo>
                  <a:pt x="464" y="324"/>
                </a:lnTo>
                <a:lnTo>
                  <a:pt x="463" y="335"/>
                </a:lnTo>
                <a:lnTo>
                  <a:pt x="461" y="345"/>
                </a:lnTo>
                <a:lnTo>
                  <a:pt x="459" y="355"/>
                </a:lnTo>
                <a:lnTo>
                  <a:pt x="455" y="362"/>
                </a:lnTo>
                <a:lnTo>
                  <a:pt x="453" y="372"/>
                </a:lnTo>
                <a:lnTo>
                  <a:pt x="449" y="380"/>
                </a:lnTo>
                <a:lnTo>
                  <a:pt x="443" y="385"/>
                </a:lnTo>
                <a:lnTo>
                  <a:pt x="439" y="393"/>
                </a:lnTo>
                <a:lnTo>
                  <a:pt x="436" y="399"/>
                </a:lnTo>
                <a:lnTo>
                  <a:pt x="430" y="4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8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2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我”斜钩斜度适宜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矩形 3"/>
          <p:cNvSpPr/>
          <p:nvPr/>
        </p:nvSpPr>
        <p:spPr>
          <a:xfrm>
            <a:off x="226692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46"/>
          <p:cNvSpPr/>
          <p:nvPr/>
        </p:nvSpPr>
        <p:spPr>
          <a:xfrm>
            <a:off x="7139160" y="3146400"/>
            <a:ext cx="306360" cy="214200"/>
          </a:xfrm>
          <a:custGeom>
            <a:avLst/>
            <a:gdLst/>
            <a:ahLst/>
            <a:rect l="l" t="t" r="r" b="b"/>
            <a:pathLst>
              <a:path w="386" h="269">
                <a:moveTo>
                  <a:pt x="265" y="62"/>
                </a:moveTo>
                <a:lnTo>
                  <a:pt x="281" y="68"/>
                </a:lnTo>
                <a:lnTo>
                  <a:pt x="294" y="75"/>
                </a:lnTo>
                <a:lnTo>
                  <a:pt x="307" y="83"/>
                </a:lnTo>
                <a:lnTo>
                  <a:pt x="319" y="89"/>
                </a:lnTo>
                <a:lnTo>
                  <a:pt x="330" y="96"/>
                </a:lnTo>
                <a:lnTo>
                  <a:pt x="340" y="104"/>
                </a:lnTo>
                <a:lnTo>
                  <a:pt x="348" y="110"/>
                </a:lnTo>
                <a:lnTo>
                  <a:pt x="357" y="117"/>
                </a:lnTo>
                <a:lnTo>
                  <a:pt x="363" y="125"/>
                </a:lnTo>
                <a:lnTo>
                  <a:pt x="369" y="133"/>
                </a:lnTo>
                <a:lnTo>
                  <a:pt x="375" y="140"/>
                </a:lnTo>
                <a:lnTo>
                  <a:pt x="378" y="148"/>
                </a:lnTo>
                <a:lnTo>
                  <a:pt x="380" y="156"/>
                </a:lnTo>
                <a:lnTo>
                  <a:pt x="384" y="165"/>
                </a:lnTo>
                <a:lnTo>
                  <a:pt x="384" y="173"/>
                </a:lnTo>
                <a:lnTo>
                  <a:pt x="386" y="183"/>
                </a:lnTo>
                <a:lnTo>
                  <a:pt x="384" y="194"/>
                </a:lnTo>
                <a:lnTo>
                  <a:pt x="384" y="204"/>
                </a:lnTo>
                <a:lnTo>
                  <a:pt x="384" y="213"/>
                </a:lnTo>
                <a:lnTo>
                  <a:pt x="382" y="221"/>
                </a:lnTo>
                <a:lnTo>
                  <a:pt x="380" y="229"/>
                </a:lnTo>
                <a:lnTo>
                  <a:pt x="378" y="236"/>
                </a:lnTo>
                <a:lnTo>
                  <a:pt x="377" y="242"/>
                </a:lnTo>
                <a:lnTo>
                  <a:pt x="375" y="248"/>
                </a:lnTo>
                <a:lnTo>
                  <a:pt x="371" y="254"/>
                </a:lnTo>
                <a:lnTo>
                  <a:pt x="367" y="258"/>
                </a:lnTo>
                <a:lnTo>
                  <a:pt x="363" y="261"/>
                </a:lnTo>
                <a:lnTo>
                  <a:pt x="359" y="263"/>
                </a:lnTo>
                <a:lnTo>
                  <a:pt x="355" y="265"/>
                </a:lnTo>
                <a:lnTo>
                  <a:pt x="350" y="267"/>
                </a:lnTo>
                <a:lnTo>
                  <a:pt x="344" y="267"/>
                </a:lnTo>
                <a:lnTo>
                  <a:pt x="336" y="269"/>
                </a:lnTo>
                <a:lnTo>
                  <a:pt x="330" y="267"/>
                </a:lnTo>
                <a:lnTo>
                  <a:pt x="323" y="267"/>
                </a:lnTo>
                <a:lnTo>
                  <a:pt x="313" y="265"/>
                </a:lnTo>
                <a:lnTo>
                  <a:pt x="306" y="261"/>
                </a:lnTo>
                <a:lnTo>
                  <a:pt x="296" y="258"/>
                </a:lnTo>
                <a:lnTo>
                  <a:pt x="284" y="254"/>
                </a:lnTo>
                <a:lnTo>
                  <a:pt x="275" y="248"/>
                </a:lnTo>
                <a:lnTo>
                  <a:pt x="263" y="242"/>
                </a:lnTo>
                <a:lnTo>
                  <a:pt x="250" y="236"/>
                </a:lnTo>
                <a:lnTo>
                  <a:pt x="238" y="229"/>
                </a:lnTo>
                <a:lnTo>
                  <a:pt x="225" y="221"/>
                </a:lnTo>
                <a:lnTo>
                  <a:pt x="210" y="211"/>
                </a:lnTo>
                <a:lnTo>
                  <a:pt x="194" y="202"/>
                </a:lnTo>
                <a:lnTo>
                  <a:pt x="179" y="192"/>
                </a:lnTo>
                <a:lnTo>
                  <a:pt x="162" y="183"/>
                </a:lnTo>
                <a:lnTo>
                  <a:pt x="144" y="171"/>
                </a:lnTo>
                <a:lnTo>
                  <a:pt x="127" y="160"/>
                </a:lnTo>
                <a:lnTo>
                  <a:pt x="110" y="148"/>
                </a:lnTo>
                <a:lnTo>
                  <a:pt x="96" y="139"/>
                </a:lnTo>
                <a:lnTo>
                  <a:pt x="81" y="127"/>
                </a:lnTo>
                <a:lnTo>
                  <a:pt x="67" y="117"/>
                </a:lnTo>
                <a:lnTo>
                  <a:pt x="56" y="108"/>
                </a:lnTo>
                <a:lnTo>
                  <a:pt x="46" y="98"/>
                </a:lnTo>
                <a:lnTo>
                  <a:pt x="37" y="91"/>
                </a:lnTo>
                <a:lnTo>
                  <a:pt x="27" y="81"/>
                </a:lnTo>
                <a:lnTo>
                  <a:pt x="20" y="73"/>
                </a:lnTo>
                <a:lnTo>
                  <a:pt x="14" y="66"/>
                </a:lnTo>
                <a:lnTo>
                  <a:pt x="8" y="60"/>
                </a:lnTo>
                <a:lnTo>
                  <a:pt x="4" y="54"/>
                </a:lnTo>
                <a:lnTo>
                  <a:pt x="2" y="48"/>
                </a:lnTo>
                <a:lnTo>
                  <a:pt x="0" y="43"/>
                </a:lnTo>
                <a:lnTo>
                  <a:pt x="0" y="37"/>
                </a:lnTo>
                <a:lnTo>
                  <a:pt x="0" y="35"/>
                </a:lnTo>
                <a:lnTo>
                  <a:pt x="0" y="33"/>
                </a:lnTo>
                <a:lnTo>
                  <a:pt x="2" y="31"/>
                </a:lnTo>
                <a:lnTo>
                  <a:pt x="4" y="27"/>
                </a:lnTo>
                <a:lnTo>
                  <a:pt x="8" y="25"/>
                </a:lnTo>
                <a:lnTo>
                  <a:pt x="10" y="23"/>
                </a:lnTo>
                <a:lnTo>
                  <a:pt x="14" y="21"/>
                </a:lnTo>
                <a:lnTo>
                  <a:pt x="20" y="20"/>
                </a:lnTo>
                <a:lnTo>
                  <a:pt x="25" y="18"/>
                </a:lnTo>
                <a:lnTo>
                  <a:pt x="31" y="14"/>
                </a:lnTo>
                <a:lnTo>
                  <a:pt x="39" y="12"/>
                </a:lnTo>
                <a:lnTo>
                  <a:pt x="46" y="10"/>
                </a:lnTo>
                <a:lnTo>
                  <a:pt x="54" y="8"/>
                </a:lnTo>
                <a:lnTo>
                  <a:pt x="64" y="6"/>
                </a:lnTo>
                <a:lnTo>
                  <a:pt x="73" y="2"/>
                </a:lnTo>
                <a:lnTo>
                  <a:pt x="85" y="0"/>
                </a:lnTo>
                <a:lnTo>
                  <a:pt x="92" y="0"/>
                </a:lnTo>
                <a:lnTo>
                  <a:pt x="102" y="2"/>
                </a:lnTo>
                <a:lnTo>
                  <a:pt x="112" y="4"/>
                </a:lnTo>
                <a:lnTo>
                  <a:pt x="123" y="4"/>
                </a:lnTo>
                <a:lnTo>
                  <a:pt x="133" y="8"/>
                </a:lnTo>
                <a:lnTo>
                  <a:pt x="144" y="10"/>
                </a:lnTo>
                <a:lnTo>
                  <a:pt x="165" y="18"/>
                </a:lnTo>
                <a:lnTo>
                  <a:pt x="188" y="25"/>
                </a:lnTo>
                <a:lnTo>
                  <a:pt x="213" y="37"/>
                </a:lnTo>
                <a:lnTo>
                  <a:pt x="238" y="48"/>
                </a:lnTo>
                <a:lnTo>
                  <a:pt x="265" y="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47"/>
          <p:cNvSpPr/>
          <p:nvPr/>
        </p:nvSpPr>
        <p:spPr>
          <a:xfrm>
            <a:off x="6775560" y="3749760"/>
            <a:ext cx="728640" cy="747720"/>
          </a:xfrm>
          <a:custGeom>
            <a:avLst/>
            <a:gdLst/>
            <a:ahLst/>
            <a:rect l="l" t="t" r="r" b="b"/>
            <a:pathLst>
              <a:path w="919" h="943">
                <a:moveTo>
                  <a:pt x="495" y="467"/>
                </a:moveTo>
                <a:lnTo>
                  <a:pt x="512" y="444"/>
                </a:lnTo>
                <a:lnTo>
                  <a:pt x="527" y="423"/>
                </a:lnTo>
                <a:lnTo>
                  <a:pt x="545" y="402"/>
                </a:lnTo>
                <a:lnTo>
                  <a:pt x="558" y="382"/>
                </a:lnTo>
                <a:lnTo>
                  <a:pt x="573" y="363"/>
                </a:lnTo>
                <a:lnTo>
                  <a:pt x="587" y="344"/>
                </a:lnTo>
                <a:lnTo>
                  <a:pt x="598" y="327"/>
                </a:lnTo>
                <a:lnTo>
                  <a:pt x="610" y="309"/>
                </a:lnTo>
                <a:lnTo>
                  <a:pt x="621" y="294"/>
                </a:lnTo>
                <a:lnTo>
                  <a:pt x="631" y="279"/>
                </a:lnTo>
                <a:lnTo>
                  <a:pt x="641" y="263"/>
                </a:lnTo>
                <a:lnTo>
                  <a:pt x="650" y="250"/>
                </a:lnTo>
                <a:lnTo>
                  <a:pt x="658" y="237"/>
                </a:lnTo>
                <a:lnTo>
                  <a:pt x="664" y="223"/>
                </a:lnTo>
                <a:lnTo>
                  <a:pt x="669" y="212"/>
                </a:lnTo>
                <a:lnTo>
                  <a:pt x="675" y="200"/>
                </a:lnTo>
                <a:lnTo>
                  <a:pt x="683" y="183"/>
                </a:lnTo>
                <a:lnTo>
                  <a:pt x="691" y="166"/>
                </a:lnTo>
                <a:lnTo>
                  <a:pt x="696" y="150"/>
                </a:lnTo>
                <a:lnTo>
                  <a:pt x="700" y="135"/>
                </a:lnTo>
                <a:lnTo>
                  <a:pt x="702" y="119"/>
                </a:lnTo>
                <a:lnTo>
                  <a:pt x="702" y="114"/>
                </a:lnTo>
                <a:lnTo>
                  <a:pt x="704" y="106"/>
                </a:lnTo>
                <a:lnTo>
                  <a:pt x="702" y="98"/>
                </a:lnTo>
                <a:lnTo>
                  <a:pt x="702" y="93"/>
                </a:lnTo>
                <a:lnTo>
                  <a:pt x="700" y="85"/>
                </a:lnTo>
                <a:lnTo>
                  <a:pt x="698" y="79"/>
                </a:lnTo>
                <a:lnTo>
                  <a:pt x="694" y="66"/>
                </a:lnTo>
                <a:lnTo>
                  <a:pt x="692" y="52"/>
                </a:lnTo>
                <a:lnTo>
                  <a:pt x="691" y="43"/>
                </a:lnTo>
                <a:lnTo>
                  <a:pt x="691" y="33"/>
                </a:lnTo>
                <a:lnTo>
                  <a:pt x="692" y="23"/>
                </a:lnTo>
                <a:lnTo>
                  <a:pt x="694" y="20"/>
                </a:lnTo>
                <a:lnTo>
                  <a:pt x="696" y="18"/>
                </a:lnTo>
                <a:lnTo>
                  <a:pt x="700" y="14"/>
                </a:lnTo>
                <a:lnTo>
                  <a:pt x="702" y="10"/>
                </a:lnTo>
                <a:lnTo>
                  <a:pt x="706" y="8"/>
                </a:lnTo>
                <a:lnTo>
                  <a:pt x="712" y="6"/>
                </a:lnTo>
                <a:lnTo>
                  <a:pt x="716" y="4"/>
                </a:lnTo>
                <a:lnTo>
                  <a:pt x="721" y="2"/>
                </a:lnTo>
                <a:lnTo>
                  <a:pt x="725" y="0"/>
                </a:lnTo>
                <a:lnTo>
                  <a:pt x="731" y="0"/>
                </a:lnTo>
                <a:lnTo>
                  <a:pt x="737" y="0"/>
                </a:lnTo>
                <a:lnTo>
                  <a:pt x="744" y="2"/>
                </a:lnTo>
                <a:lnTo>
                  <a:pt x="750" y="4"/>
                </a:lnTo>
                <a:lnTo>
                  <a:pt x="758" y="6"/>
                </a:lnTo>
                <a:lnTo>
                  <a:pt x="765" y="8"/>
                </a:lnTo>
                <a:lnTo>
                  <a:pt x="773" y="12"/>
                </a:lnTo>
                <a:lnTo>
                  <a:pt x="781" y="16"/>
                </a:lnTo>
                <a:lnTo>
                  <a:pt x="790" y="20"/>
                </a:lnTo>
                <a:lnTo>
                  <a:pt x="800" y="23"/>
                </a:lnTo>
                <a:lnTo>
                  <a:pt x="810" y="29"/>
                </a:lnTo>
                <a:lnTo>
                  <a:pt x="819" y="35"/>
                </a:lnTo>
                <a:lnTo>
                  <a:pt x="831" y="43"/>
                </a:lnTo>
                <a:lnTo>
                  <a:pt x="840" y="48"/>
                </a:lnTo>
                <a:lnTo>
                  <a:pt x="848" y="56"/>
                </a:lnTo>
                <a:lnTo>
                  <a:pt x="856" y="62"/>
                </a:lnTo>
                <a:lnTo>
                  <a:pt x="863" y="68"/>
                </a:lnTo>
                <a:lnTo>
                  <a:pt x="869" y="73"/>
                </a:lnTo>
                <a:lnTo>
                  <a:pt x="875" y="79"/>
                </a:lnTo>
                <a:lnTo>
                  <a:pt x="886" y="89"/>
                </a:lnTo>
                <a:lnTo>
                  <a:pt x="896" y="98"/>
                </a:lnTo>
                <a:lnTo>
                  <a:pt x="904" y="108"/>
                </a:lnTo>
                <a:lnTo>
                  <a:pt x="909" y="118"/>
                </a:lnTo>
                <a:lnTo>
                  <a:pt x="915" y="127"/>
                </a:lnTo>
                <a:lnTo>
                  <a:pt x="917" y="135"/>
                </a:lnTo>
                <a:lnTo>
                  <a:pt x="917" y="141"/>
                </a:lnTo>
                <a:lnTo>
                  <a:pt x="919" y="148"/>
                </a:lnTo>
                <a:lnTo>
                  <a:pt x="917" y="154"/>
                </a:lnTo>
                <a:lnTo>
                  <a:pt x="917" y="162"/>
                </a:lnTo>
                <a:lnTo>
                  <a:pt x="915" y="169"/>
                </a:lnTo>
                <a:lnTo>
                  <a:pt x="911" y="175"/>
                </a:lnTo>
                <a:lnTo>
                  <a:pt x="909" y="183"/>
                </a:lnTo>
                <a:lnTo>
                  <a:pt x="906" y="190"/>
                </a:lnTo>
                <a:lnTo>
                  <a:pt x="902" y="198"/>
                </a:lnTo>
                <a:lnTo>
                  <a:pt x="896" y="206"/>
                </a:lnTo>
                <a:lnTo>
                  <a:pt x="892" y="214"/>
                </a:lnTo>
                <a:lnTo>
                  <a:pt x="881" y="231"/>
                </a:lnTo>
                <a:lnTo>
                  <a:pt x="867" y="248"/>
                </a:lnTo>
                <a:lnTo>
                  <a:pt x="859" y="260"/>
                </a:lnTo>
                <a:lnTo>
                  <a:pt x="852" y="273"/>
                </a:lnTo>
                <a:lnTo>
                  <a:pt x="842" y="285"/>
                </a:lnTo>
                <a:lnTo>
                  <a:pt x="831" y="300"/>
                </a:lnTo>
                <a:lnTo>
                  <a:pt x="819" y="313"/>
                </a:lnTo>
                <a:lnTo>
                  <a:pt x="808" y="329"/>
                </a:lnTo>
                <a:lnTo>
                  <a:pt x="794" y="344"/>
                </a:lnTo>
                <a:lnTo>
                  <a:pt x="779" y="361"/>
                </a:lnTo>
                <a:lnTo>
                  <a:pt x="764" y="379"/>
                </a:lnTo>
                <a:lnTo>
                  <a:pt x="748" y="396"/>
                </a:lnTo>
                <a:lnTo>
                  <a:pt x="731" y="415"/>
                </a:lnTo>
                <a:lnTo>
                  <a:pt x="714" y="436"/>
                </a:lnTo>
                <a:lnTo>
                  <a:pt x="696" y="457"/>
                </a:lnTo>
                <a:lnTo>
                  <a:pt x="677" y="478"/>
                </a:lnTo>
                <a:lnTo>
                  <a:pt x="658" y="503"/>
                </a:lnTo>
                <a:lnTo>
                  <a:pt x="639" y="528"/>
                </a:lnTo>
                <a:lnTo>
                  <a:pt x="616" y="551"/>
                </a:lnTo>
                <a:lnTo>
                  <a:pt x="593" y="576"/>
                </a:lnTo>
                <a:lnTo>
                  <a:pt x="570" y="599"/>
                </a:lnTo>
                <a:lnTo>
                  <a:pt x="547" y="622"/>
                </a:lnTo>
                <a:lnTo>
                  <a:pt x="522" y="643"/>
                </a:lnTo>
                <a:lnTo>
                  <a:pt x="497" y="665"/>
                </a:lnTo>
                <a:lnTo>
                  <a:pt x="474" y="684"/>
                </a:lnTo>
                <a:lnTo>
                  <a:pt x="447" y="703"/>
                </a:lnTo>
                <a:lnTo>
                  <a:pt x="422" y="722"/>
                </a:lnTo>
                <a:lnTo>
                  <a:pt x="395" y="741"/>
                </a:lnTo>
                <a:lnTo>
                  <a:pt x="341" y="776"/>
                </a:lnTo>
                <a:lnTo>
                  <a:pt x="314" y="793"/>
                </a:lnTo>
                <a:lnTo>
                  <a:pt x="286" y="810"/>
                </a:lnTo>
                <a:lnTo>
                  <a:pt x="259" y="828"/>
                </a:lnTo>
                <a:lnTo>
                  <a:pt x="230" y="843"/>
                </a:lnTo>
                <a:lnTo>
                  <a:pt x="215" y="851"/>
                </a:lnTo>
                <a:lnTo>
                  <a:pt x="201" y="858"/>
                </a:lnTo>
                <a:lnTo>
                  <a:pt x="188" y="866"/>
                </a:lnTo>
                <a:lnTo>
                  <a:pt x="174" y="872"/>
                </a:lnTo>
                <a:lnTo>
                  <a:pt x="149" y="885"/>
                </a:lnTo>
                <a:lnTo>
                  <a:pt x="128" y="897"/>
                </a:lnTo>
                <a:lnTo>
                  <a:pt x="107" y="906"/>
                </a:lnTo>
                <a:lnTo>
                  <a:pt x="88" y="916"/>
                </a:lnTo>
                <a:lnTo>
                  <a:pt x="71" y="922"/>
                </a:lnTo>
                <a:lnTo>
                  <a:pt x="57" y="929"/>
                </a:lnTo>
                <a:lnTo>
                  <a:pt x="44" y="933"/>
                </a:lnTo>
                <a:lnTo>
                  <a:pt x="32" y="937"/>
                </a:lnTo>
                <a:lnTo>
                  <a:pt x="23" y="941"/>
                </a:lnTo>
                <a:lnTo>
                  <a:pt x="15" y="943"/>
                </a:lnTo>
                <a:lnTo>
                  <a:pt x="9" y="943"/>
                </a:lnTo>
                <a:lnTo>
                  <a:pt x="3" y="943"/>
                </a:lnTo>
                <a:lnTo>
                  <a:pt x="1" y="943"/>
                </a:lnTo>
                <a:lnTo>
                  <a:pt x="1" y="941"/>
                </a:lnTo>
                <a:lnTo>
                  <a:pt x="0" y="937"/>
                </a:lnTo>
                <a:lnTo>
                  <a:pt x="0" y="933"/>
                </a:lnTo>
                <a:lnTo>
                  <a:pt x="1" y="929"/>
                </a:lnTo>
                <a:lnTo>
                  <a:pt x="5" y="924"/>
                </a:lnTo>
                <a:lnTo>
                  <a:pt x="11" y="918"/>
                </a:lnTo>
                <a:lnTo>
                  <a:pt x="17" y="910"/>
                </a:lnTo>
                <a:lnTo>
                  <a:pt x="26" y="903"/>
                </a:lnTo>
                <a:lnTo>
                  <a:pt x="36" y="893"/>
                </a:lnTo>
                <a:lnTo>
                  <a:pt x="48" y="883"/>
                </a:lnTo>
                <a:lnTo>
                  <a:pt x="61" y="872"/>
                </a:lnTo>
                <a:lnTo>
                  <a:pt x="74" y="860"/>
                </a:lnTo>
                <a:lnTo>
                  <a:pt x="90" y="847"/>
                </a:lnTo>
                <a:lnTo>
                  <a:pt x="109" y="833"/>
                </a:lnTo>
                <a:lnTo>
                  <a:pt x="126" y="818"/>
                </a:lnTo>
                <a:lnTo>
                  <a:pt x="147" y="801"/>
                </a:lnTo>
                <a:lnTo>
                  <a:pt x="168" y="784"/>
                </a:lnTo>
                <a:lnTo>
                  <a:pt x="192" y="766"/>
                </a:lnTo>
                <a:lnTo>
                  <a:pt x="213" y="749"/>
                </a:lnTo>
                <a:lnTo>
                  <a:pt x="257" y="714"/>
                </a:lnTo>
                <a:lnTo>
                  <a:pt x="299" y="678"/>
                </a:lnTo>
                <a:lnTo>
                  <a:pt x="341" y="638"/>
                </a:lnTo>
                <a:lnTo>
                  <a:pt x="382" y="597"/>
                </a:lnTo>
                <a:lnTo>
                  <a:pt x="420" y="555"/>
                </a:lnTo>
                <a:lnTo>
                  <a:pt x="458" y="513"/>
                </a:lnTo>
                <a:lnTo>
                  <a:pt x="495" y="4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48"/>
          <p:cNvSpPr/>
          <p:nvPr/>
        </p:nvSpPr>
        <p:spPr>
          <a:xfrm>
            <a:off x="6865920" y="2747880"/>
            <a:ext cx="865080" cy="2273400"/>
          </a:xfrm>
          <a:custGeom>
            <a:avLst/>
            <a:gdLst/>
            <a:ahLst/>
            <a:rect l="l" t="t" r="r" b="b"/>
            <a:pathLst>
              <a:path w="1090" h="2864">
                <a:moveTo>
                  <a:pt x="896" y="2482"/>
                </a:moveTo>
                <a:lnTo>
                  <a:pt x="904" y="2480"/>
                </a:lnTo>
                <a:lnTo>
                  <a:pt x="910" y="2477"/>
                </a:lnTo>
                <a:lnTo>
                  <a:pt x="915" y="2471"/>
                </a:lnTo>
                <a:lnTo>
                  <a:pt x="921" y="2465"/>
                </a:lnTo>
                <a:lnTo>
                  <a:pt x="929" y="2457"/>
                </a:lnTo>
                <a:lnTo>
                  <a:pt x="934" y="2450"/>
                </a:lnTo>
                <a:lnTo>
                  <a:pt x="938" y="2440"/>
                </a:lnTo>
                <a:lnTo>
                  <a:pt x="944" y="2430"/>
                </a:lnTo>
                <a:lnTo>
                  <a:pt x="950" y="2421"/>
                </a:lnTo>
                <a:lnTo>
                  <a:pt x="956" y="2409"/>
                </a:lnTo>
                <a:lnTo>
                  <a:pt x="961" y="2396"/>
                </a:lnTo>
                <a:lnTo>
                  <a:pt x="967" y="2384"/>
                </a:lnTo>
                <a:lnTo>
                  <a:pt x="973" y="2369"/>
                </a:lnTo>
                <a:lnTo>
                  <a:pt x="981" y="2356"/>
                </a:lnTo>
                <a:lnTo>
                  <a:pt x="986" y="2340"/>
                </a:lnTo>
                <a:lnTo>
                  <a:pt x="992" y="2325"/>
                </a:lnTo>
                <a:lnTo>
                  <a:pt x="998" y="2310"/>
                </a:lnTo>
                <a:lnTo>
                  <a:pt x="1002" y="2294"/>
                </a:lnTo>
                <a:lnTo>
                  <a:pt x="1006" y="2281"/>
                </a:lnTo>
                <a:lnTo>
                  <a:pt x="1011" y="2267"/>
                </a:lnTo>
                <a:lnTo>
                  <a:pt x="1015" y="2256"/>
                </a:lnTo>
                <a:lnTo>
                  <a:pt x="1019" y="2246"/>
                </a:lnTo>
                <a:lnTo>
                  <a:pt x="1025" y="2237"/>
                </a:lnTo>
                <a:lnTo>
                  <a:pt x="1029" y="2227"/>
                </a:lnTo>
                <a:lnTo>
                  <a:pt x="1034" y="2219"/>
                </a:lnTo>
                <a:lnTo>
                  <a:pt x="1038" y="2214"/>
                </a:lnTo>
                <a:lnTo>
                  <a:pt x="1042" y="2210"/>
                </a:lnTo>
                <a:lnTo>
                  <a:pt x="1048" y="2206"/>
                </a:lnTo>
                <a:lnTo>
                  <a:pt x="1052" y="2202"/>
                </a:lnTo>
                <a:lnTo>
                  <a:pt x="1055" y="2202"/>
                </a:lnTo>
                <a:lnTo>
                  <a:pt x="1061" y="2202"/>
                </a:lnTo>
                <a:lnTo>
                  <a:pt x="1065" y="2204"/>
                </a:lnTo>
                <a:lnTo>
                  <a:pt x="1067" y="2206"/>
                </a:lnTo>
                <a:lnTo>
                  <a:pt x="1069" y="2210"/>
                </a:lnTo>
                <a:lnTo>
                  <a:pt x="1071" y="2216"/>
                </a:lnTo>
                <a:lnTo>
                  <a:pt x="1075" y="2221"/>
                </a:lnTo>
                <a:lnTo>
                  <a:pt x="1077" y="2229"/>
                </a:lnTo>
                <a:lnTo>
                  <a:pt x="1078" y="2237"/>
                </a:lnTo>
                <a:lnTo>
                  <a:pt x="1080" y="2246"/>
                </a:lnTo>
                <a:lnTo>
                  <a:pt x="1082" y="2256"/>
                </a:lnTo>
                <a:lnTo>
                  <a:pt x="1082" y="2267"/>
                </a:lnTo>
                <a:lnTo>
                  <a:pt x="1084" y="2281"/>
                </a:lnTo>
                <a:lnTo>
                  <a:pt x="1086" y="2294"/>
                </a:lnTo>
                <a:lnTo>
                  <a:pt x="1086" y="2308"/>
                </a:lnTo>
                <a:lnTo>
                  <a:pt x="1088" y="2323"/>
                </a:lnTo>
                <a:lnTo>
                  <a:pt x="1088" y="2338"/>
                </a:lnTo>
                <a:lnTo>
                  <a:pt x="1088" y="2356"/>
                </a:lnTo>
                <a:lnTo>
                  <a:pt x="1090" y="2373"/>
                </a:lnTo>
                <a:lnTo>
                  <a:pt x="1086" y="2413"/>
                </a:lnTo>
                <a:lnTo>
                  <a:pt x="1082" y="2454"/>
                </a:lnTo>
                <a:lnTo>
                  <a:pt x="1080" y="2492"/>
                </a:lnTo>
                <a:lnTo>
                  <a:pt x="1080" y="2530"/>
                </a:lnTo>
                <a:lnTo>
                  <a:pt x="1080" y="2571"/>
                </a:lnTo>
                <a:lnTo>
                  <a:pt x="1082" y="2609"/>
                </a:lnTo>
                <a:lnTo>
                  <a:pt x="1086" y="2649"/>
                </a:lnTo>
                <a:lnTo>
                  <a:pt x="1090" y="2690"/>
                </a:lnTo>
                <a:lnTo>
                  <a:pt x="1090" y="2707"/>
                </a:lnTo>
                <a:lnTo>
                  <a:pt x="1090" y="2724"/>
                </a:lnTo>
                <a:lnTo>
                  <a:pt x="1088" y="2740"/>
                </a:lnTo>
                <a:lnTo>
                  <a:pt x="1088" y="2755"/>
                </a:lnTo>
                <a:lnTo>
                  <a:pt x="1088" y="2768"/>
                </a:lnTo>
                <a:lnTo>
                  <a:pt x="1088" y="2782"/>
                </a:lnTo>
                <a:lnTo>
                  <a:pt x="1088" y="2795"/>
                </a:lnTo>
                <a:lnTo>
                  <a:pt x="1088" y="2807"/>
                </a:lnTo>
                <a:lnTo>
                  <a:pt x="1086" y="2816"/>
                </a:lnTo>
                <a:lnTo>
                  <a:pt x="1086" y="2826"/>
                </a:lnTo>
                <a:lnTo>
                  <a:pt x="1084" y="2834"/>
                </a:lnTo>
                <a:lnTo>
                  <a:pt x="1084" y="2841"/>
                </a:lnTo>
                <a:lnTo>
                  <a:pt x="1082" y="2847"/>
                </a:lnTo>
                <a:lnTo>
                  <a:pt x="1080" y="2853"/>
                </a:lnTo>
                <a:lnTo>
                  <a:pt x="1078" y="2857"/>
                </a:lnTo>
                <a:lnTo>
                  <a:pt x="1077" y="2859"/>
                </a:lnTo>
                <a:lnTo>
                  <a:pt x="1075" y="2860"/>
                </a:lnTo>
                <a:lnTo>
                  <a:pt x="1071" y="2862"/>
                </a:lnTo>
                <a:lnTo>
                  <a:pt x="1067" y="2862"/>
                </a:lnTo>
                <a:lnTo>
                  <a:pt x="1061" y="2864"/>
                </a:lnTo>
                <a:lnTo>
                  <a:pt x="1055" y="2864"/>
                </a:lnTo>
                <a:lnTo>
                  <a:pt x="1050" y="2862"/>
                </a:lnTo>
                <a:lnTo>
                  <a:pt x="1042" y="2860"/>
                </a:lnTo>
                <a:lnTo>
                  <a:pt x="1034" y="2859"/>
                </a:lnTo>
                <a:lnTo>
                  <a:pt x="1027" y="2857"/>
                </a:lnTo>
                <a:lnTo>
                  <a:pt x="1017" y="2853"/>
                </a:lnTo>
                <a:lnTo>
                  <a:pt x="1009" y="2849"/>
                </a:lnTo>
                <a:lnTo>
                  <a:pt x="1000" y="2845"/>
                </a:lnTo>
                <a:lnTo>
                  <a:pt x="988" y="2841"/>
                </a:lnTo>
                <a:lnTo>
                  <a:pt x="979" y="2835"/>
                </a:lnTo>
                <a:lnTo>
                  <a:pt x="967" y="2830"/>
                </a:lnTo>
                <a:lnTo>
                  <a:pt x="958" y="2822"/>
                </a:lnTo>
                <a:lnTo>
                  <a:pt x="946" y="2816"/>
                </a:lnTo>
                <a:lnTo>
                  <a:pt x="933" y="2807"/>
                </a:lnTo>
                <a:lnTo>
                  <a:pt x="921" y="2799"/>
                </a:lnTo>
                <a:lnTo>
                  <a:pt x="908" y="2789"/>
                </a:lnTo>
                <a:lnTo>
                  <a:pt x="894" y="2780"/>
                </a:lnTo>
                <a:lnTo>
                  <a:pt x="879" y="2770"/>
                </a:lnTo>
                <a:lnTo>
                  <a:pt x="865" y="2759"/>
                </a:lnTo>
                <a:lnTo>
                  <a:pt x="850" y="2747"/>
                </a:lnTo>
                <a:lnTo>
                  <a:pt x="835" y="2734"/>
                </a:lnTo>
                <a:lnTo>
                  <a:pt x="817" y="2720"/>
                </a:lnTo>
                <a:lnTo>
                  <a:pt x="802" y="2705"/>
                </a:lnTo>
                <a:lnTo>
                  <a:pt x="785" y="2690"/>
                </a:lnTo>
                <a:lnTo>
                  <a:pt x="768" y="2672"/>
                </a:lnTo>
                <a:lnTo>
                  <a:pt x="750" y="2655"/>
                </a:lnTo>
                <a:lnTo>
                  <a:pt x="733" y="2636"/>
                </a:lnTo>
                <a:lnTo>
                  <a:pt x="716" y="2617"/>
                </a:lnTo>
                <a:lnTo>
                  <a:pt x="698" y="2596"/>
                </a:lnTo>
                <a:lnTo>
                  <a:pt x="681" y="2573"/>
                </a:lnTo>
                <a:lnTo>
                  <a:pt x="664" y="2551"/>
                </a:lnTo>
                <a:lnTo>
                  <a:pt x="647" y="2528"/>
                </a:lnTo>
                <a:lnTo>
                  <a:pt x="629" y="2503"/>
                </a:lnTo>
                <a:lnTo>
                  <a:pt x="612" y="2478"/>
                </a:lnTo>
                <a:lnTo>
                  <a:pt x="595" y="2454"/>
                </a:lnTo>
                <a:lnTo>
                  <a:pt x="579" y="2429"/>
                </a:lnTo>
                <a:lnTo>
                  <a:pt x="562" y="2402"/>
                </a:lnTo>
                <a:lnTo>
                  <a:pt x="547" y="2375"/>
                </a:lnTo>
                <a:lnTo>
                  <a:pt x="529" y="2348"/>
                </a:lnTo>
                <a:lnTo>
                  <a:pt x="514" y="2319"/>
                </a:lnTo>
                <a:lnTo>
                  <a:pt x="483" y="2262"/>
                </a:lnTo>
                <a:lnTo>
                  <a:pt x="451" y="2204"/>
                </a:lnTo>
                <a:lnTo>
                  <a:pt x="435" y="2173"/>
                </a:lnTo>
                <a:lnTo>
                  <a:pt x="420" y="2141"/>
                </a:lnTo>
                <a:lnTo>
                  <a:pt x="405" y="2106"/>
                </a:lnTo>
                <a:lnTo>
                  <a:pt x="389" y="2072"/>
                </a:lnTo>
                <a:lnTo>
                  <a:pt x="374" y="2033"/>
                </a:lnTo>
                <a:lnTo>
                  <a:pt x="359" y="1995"/>
                </a:lnTo>
                <a:lnTo>
                  <a:pt x="343" y="1954"/>
                </a:lnTo>
                <a:lnTo>
                  <a:pt x="328" y="1912"/>
                </a:lnTo>
                <a:lnTo>
                  <a:pt x="313" y="1868"/>
                </a:lnTo>
                <a:lnTo>
                  <a:pt x="299" y="1822"/>
                </a:lnTo>
                <a:lnTo>
                  <a:pt x="286" y="1774"/>
                </a:lnTo>
                <a:lnTo>
                  <a:pt x="272" y="1726"/>
                </a:lnTo>
                <a:lnTo>
                  <a:pt x="259" y="1674"/>
                </a:lnTo>
                <a:lnTo>
                  <a:pt x="245" y="1622"/>
                </a:lnTo>
                <a:lnTo>
                  <a:pt x="234" y="1567"/>
                </a:lnTo>
                <a:lnTo>
                  <a:pt x="222" y="1511"/>
                </a:lnTo>
                <a:lnTo>
                  <a:pt x="211" y="1455"/>
                </a:lnTo>
                <a:lnTo>
                  <a:pt x="201" y="1400"/>
                </a:lnTo>
                <a:lnTo>
                  <a:pt x="190" y="1346"/>
                </a:lnTo>
                <a:lnTo>
                  <a:pt x="180" y="1292"/>
                </a:lnTo>
                <a:lnTo>
                  <a:pt x="171" y="1240"/>
                </a:lnTo>
                <a:lnTo>
                  <a:pt x="161" y="1191"/>
                </a:lnTo>
                <a:lnTo>
                  <a:pt x="151" y="1141"/>
                </a:lnTo>
                <a:lnTo>
                  <a:pt x="144" y="1091"/>
                </a:lnTo>
                <a:lnTo>
                  <a:pt x="134" y="1043"/>
                </a:lnTo>
                <a:lnTo>
                  <a:pt x="126" y="997"/>
                </a:lnTo>
                <a:lnTo>
                  <a:pt x="119" y="951"/>
                </a:lnTo>
                <a:lnTo>
                  <a:pt x="113" y="905"/>
                </a:lnTo>
                <a:lnTo>
                  <a:pt x="105" y="862"/>
                </a:lnTo>
                <a:lnTo>
                  <a:pt x="100" y="818"/>
                </a:lnTo>
                <a:lnTo>
                  <a:pt x="94" y="776"/>
                </a:lnTo>
                <a:lnTo>
                  <a:pt x="90" y="736"/>
                </a:lnTo>
                <a:lnTo>
                  <a:pt x="86" y="697"/>
                </a:lnTo>
                <a:lnTo>
                  <a:pt x="82" y="659"/>
                </a:lnTo>
                <a:lnTo>
                  <a:pt x="78" y="624"/>
                </a:lnTo>
                <a:lnTo>
                  <a:pt x="75" y="590"/>
                </a:lnTo>
                <a:lnTo>
                  <a:pt x="71" y="555"/>
                </a:lnTo>
                <a:lnTo>
                  <a:pt x="69" y="524"/>
                </a:lnTo>
                <a:lnTo>
                  <a:pt x="65" y="494"/>
                </a:lnTo>
                <a:lnTo>
                  <a:pt x="63" y="465"/>
                </a:lnTo>
                <a:lnTo>
                  <a:pt x="61" y="436"/>
                </a:lnTo>
                <a:lnTo>
                  <a:pt x="59" y="411"/>
                </a:lnTo>
                <a:lnTo>
                  <a:pt x="57" y="386"/>
                </a:lnTo>
                <a:lnTo>
                  <a:pt x="55" y="363"/>
                </a:lnTo>
                <a:lnTo>
                  <a:pt x="55" y="340"/>
                </a:lnTo>
                <a:lnTo>
                  <a:pt x="55" y="321"/>
                </a:lnTo>
                <a:lnTo>
                  <a:pt x="53" y="302"/>
                </a:lnTo>
                <a:lnTo>
                  <a:pt x="53" y="286"/>
                </a:lnTo>
                <a:lnTo>
                  <a:pt x="50" y="254"/>
                </a:lnTo>
                <a:lnTo>
                  <a:pt x="46" y="225"/>
                </a:lnTo>
                <a:lnTo>
                  <a:pt x="42" y="210"/>
                </a:lnTo>
                <a:lnTo>
                  <a:pt x="40" y="196"/>
                </a:lnTo>
                <a:lnTo>
                  <a:pt x="38" y="183"/>
                </a:lnTo>
                <a:lnTo>
                  <a:pt x="36" y="169"/>
                </a:lnTo>
                <a:lnTo>
                  <a:pt x="34" y="158"/>
                </a:lnTo>
                <a:lnTo>
                  <a:pt x="30" y="146"/>
                </a:lnTo>
                <a:lnTo>
                  <a:pt x="29" y="135"/>
                </a:lnTo>
                <a:lnTo>
                  <a:pt x="27" y="125"/>
                </a:lnTo>
                <a:lnTo>
                  <a:pt x="25" y="116"/>
                </a:lnTo>
                <a:lnTo>
                  <a:pt x="23" y="106"/>
                </a:lnTo>
                <a:lnTo>
                  <a:pt x="19" y="98"/>
                </a:lnTo>
                <a:lnTo>
                  <a:pt x="17" y="91"/>
                </a:lnTo>
                <a:lnTo>
                  <a:pt x="13" y="85"/>
                </a:lnTo>
                <a:lnTo>
                  <a:pt x="9" y="77"/>
                </a:lnTo>
                <a:lnTo>
                  <a:pt x="7" y="71"/>
                </a:lnTo>
                <a:lnTo>
                  <a:pt x="4" y="64"/>
                </a:lnTo>
                <a:lnTo>
                  <a:pt x="2" y="58"/>
                </a:lnTo>
                <a:lnTo>
                  <a:pt x="2" y="50"/>
                </a:lnTo>
                <a:lnTo>
                  <a:pt x="0" y="45"/>
                </a:lnTo>
                <a:lnTo>
                  <a:pt x="0" y="39"/>
                </a:lnTo>
                <a:lnTo>
                  <a:pt x="0" y="33"/>
                </a:lnTo>
                <a:lnTo>
                  <a:pt x="2" y="29"/>
                </a:lnTo>
                <a:lnTo>
                  <a:pt x="2" y="23"/>
                </a:lnTo>
                <a:lnTo>
                  <a:pt x="4" y="20"/>
                </a:lnTo>
                <a:lnTo>
                  <a:pt x="7" y="16"/>
                </a:lnTo>
                <a:lnTo>
                  <a:pt x="9" y="12"/>
                </a:lnTo>
                <a:lnTo>
                  <a:pt x="13" y="8"/>
                </a:lnTo>
                <a:lnTo>
                  <a:pt x="17" y="6"/>
                </a:lnTo>
                <a:lnTo>
                  <a:pt x="21" y="4"/>
                </a:lnTo>
                <a:lnTo>
                  <a:pt x="23" y="2"/>
                </a:lnTo>
                <a:lnTo>
                  <a:pt x="29" y="2"/>
                </a:lnTo>
                <a:lnTo>
                  <a:pt x="32" y="0"/>
                </a:lnTo>
                <a:lnTo>
                  <a:pt x="38" y="0"/>
                </a:lnTo>
                <a:lnTo>
                  <a:pt x="46" y="2"/>
                </a:lnTo>
                <a:lnTo>
                  <a:pt x="53" y="2"/>
                </a:lnTo>
                <a:lnTo>
                  <a:pt x="61" y="4"/>
                </a:lnTo>
                <a:lnTo>
                  <a:pt x="71" y="6"/>
                </a:lnTo>
                <a:lnTo>
                  <a:pt x="80" y="8"/>
                </a:lnTo>
                <a:lnTo>
                  <a:pt x="90" y="12"/>
                </a:lnTo>
                <a:lnTo>
                  <a:pt x="101" y="14"/>
                </a:lnTo>
                <a:lnTo>
                  <a:pt x="113" y="18"/>
                </a:lnTo>
                <a:lnTo>
                  <a:pt x="124" y="22"/>
                </a:lnTo>
                <a:lnTo>
                  <a:pt x="136" y="25"/>
                </a:lnTo>
                <a:lnTo>
                  <a:pt x="149" y="31"/>
                </a:lnTo>
                <a:lnTo>
                  <a:pt x="161" y="35"/>
                </a:lnTo>
                <a:lnTo>
                  <a:pt x="171" y="39"/>
                </a:lnTo>
                <a:lnTo>
                  <a:pt x="182" y="45"/>
                </a:lnTo>
                <a:lnTo>
                  <a:pt x="190" y="48"/>
                </a:lnTo>
                <a:lnTo>
                  <a:pt x="199" y="54"/>
                </a:lnTo>
                <a:lnTo>
                  <a:pt x="207" y="58"/>
                </a:lnTo>
                <a:lnTo>
                  <a:pt x="215" y="62"/>
                </a:lnTo>
                <a:lnTo>
                  <a:pt x="220" y="68"/>
                </a:lnTo>
                <a:lnTo>
                  <a:pt x="226" y="71"/>
                </a:lnTo>
                <a:lnTo>
                  <a:pt x="232" y="75"/>
                </a:lnTo>
                <a:lnTo>
                  <a:pt x="236" y="81"/>
                </a:lnTo>
                <a:lnTo>
                  <a:pt x="240" y="85"/>
                </a:lnTo>
                <a:lnTo>
                  <a:pt x="244" y="89"/>
                </a:lnTo>
                <a:lnTo>
                  <a:pt x="245" y="94"/>
                </a:lnTo>
                <a:lnTo>
                  <a:pt x="245" y="98"/>
                </a:lnTo>
                <a:lnTo>
                  <a:pt x="247" y="104"/>
                </a:lnTo>
                <a:lnTo>
                  <a:pt x="247" y="108"/>
                </a:lnTo>
                <a:lnTo>
                  <a:pt x="247" y="114"/>
                </a:lnTo>
                <a:lnTo>
                  <a:pt x="245" y="119"/>
                </a:lnTo>
                <a:lnTo>
                  <a:pt x="245" y="125"/>
                </a:lnTo>
                <a:lnTo>
                  <a:pt x="245" y="133"/>
                </a:lnTo>
                <a:lnTo>
                  <a:pt x="245" y="141"/>
                </a:lnTo>
                <a:lnTo>
                  <a:pt x="245" y="156"/>
                </a:lnTo>
                <a:lnTo>
                  <a:pt x="244" y="175"/>
                </a:lnTo>
                <a:lnTo>
                  <a:pt x="242" y="194"/>
                </a:lnTo>
                <a:lnTo>
                  <a:pt x="238" y="215"/>
                </a:lnTo>
                <a:lnTo>
                  <a:pt x="234" y="237"/>
                </a:lnTo>
                <a:lnTo>
                  <a:pt x="232" y="248"/>
                </a:lnTo>
                <a:lnTo>
                  <a:pt x="230" y="261"/>
                </a:lnTo>
                <a:lnTo>
                  <a:pt x="228" y="273"/>
                </a:lnTo>
                <a:lnTo>
                  <a:pt x="226" y="286"/>
                </a:lnTo>
                <a:lnTo>
                  <a:pt x="224" y="300"/>
                </a:lnTo>
                <a:lnTo>
                  <a:pt x="222" y="315"/>
                </a:lnTo>
                <a:lnTo>
                  <a:pt x="220" y="331"/>
                </a:lnTo>
                <a:lnTo>
                  <a:pt x="219" y="346"/>
                </a:lnTo>
                <a:lnTo>
                  <a:pt x="219" y="363"/>
                </a:lnTo>
                <a:lnTo>
                  <a:pt x="219" y="379"/>
                </a:lnTo>
                <a:lnTo>
                  <a:pt x="217" y="396"/>
                </a:lnTo>
                <a:lnTo>
                  <a:pt x="217" y="415"/>
                </a:lnTo>
                <a:lnTo>
                  <a:pt x="219" y="432"/>
                </a:lnTo>
                <a:lnTo>
                  <a:pt x="219" y="452"/>
                </a:lnTo>
                <a:lnTo>
                  <a:pt x="220" y="471"/>
                </a:lnTo>
                <a:lnTo>
                  <a:pt x="222" y="492"/>
                </a:lnTo>
                <a:lnTo>
                  <a:pt x="226" y="534"/>
                </a:lnTo>
                <a:lnTo>
                  <a:pt x="232" y="576"/>
                </a:lnTo>
                <a:lnTo>
                  <a:pt x="236" y="619"/>
                </a:lnTo>
                <a:lnTo>
                  <a:pt x="240" y="663"/>
                </a:lnTo>
                <a:lnTo>
                  <a:pt x="245" y="707"/>
                </a:lnTo>
                <a:lnTo>
                  <a:pt x="249" y="753"/>
                </a:lnTo>
                <a:lnTo>
                  <a:pt x="259" y="843"/>
                </a:lnTo>
                <a:lnTo>
                  <a:pt x="261" y="866"/>
                </a:lnTo>
                <a:lnTo>
                  <a:pt x="263" y="891"/>
                </a:lnTo>
                <a:lnTo>
                  <a:pt x="267" y="918"/>
                </a:lnTo>
                <a:lnTo>
                  <a:pt x="270" y="947"/>
                </a:lnTo>
                <a:lnTo>
                  <a:pt x="274" y="976"/>
                </a:lnTo>
                <a:lnTo>
                  <a:pt x="278" y="1004"/>
                </a:lnTo>
                <a:lnTo>
                  <a:pt x="282" y="1037"/>
                </a:lnTo>
                <a:lnTo>
                  <a:pt x="288" y="1070"/>
                </a:lnTo>
                <a:lnTo>
                  <a:pt x="293" y="1104"/>
                </a:lnTo>
                <a:lnTo>
                  <a:pt x="299" y="1139"/>
                </a:lnTo>
                <a:lnTo>
                  <a:pt x="305" y="1175"/>
                </a:lnTo>
                <a:lnTo>
                  <a:pt x="311" y="1214"/>
                </a:lnTo>
                <a:lnTo>
                  <a:pt x="318" y="1254"/>
                </a:lnTo>
                <a:lnTo>
                  <a:pt x="326" y="1294"/>
                </a:lnTo>
                <a:lnTo>
                  <a:pt x="334" y="1334"/>
                </a:lnTo>
                <a:lnTo>
                  <a:pt x="343" y="1379"/>
                </a:lnTo>
                <a:lnTo>
                  <a:pt x="349" y="1421"/>
                </a:lnTo>
                <a:lnTo>
                  <a:pt x="357" y="1461"/>
                </a:lnTo>
                <a:lnTo>
                  <a:pt x="364" y="1501"/>
                </a:lnTo>
                <a:lnTo>
                  <a:pt x="372" y="1542"/>
                </a:lnTo>
                <a:lnTo>
                  <a:pt x="380" y="1580"/>
                </a:lnTo>
                <a:lnTo>
                  <a:pt x="389" y="1617"/>
                </a:lnTo>
                <a:lnTo>
                  <a:pt x="397" y="1651"/>
                </a:lnTo>
                <a:lnTo>
                  <a:pt x="407" y="1686"/>
                </a:lnTo>
                <a:lnTo>
                  <a:pt x="416" y="1718"/>
                </a:lnTo>
                <a:lnTo>
                  <a:pt x="424" y="1751"/>
                </a:lnTo>
                <a:lnTo>
                  <a:pt x="435" y="1780"/>
                </a:lnTo>
                <a:lnTo>
                  <a:pt x="445" y="1809"/>
                </a:lnTo>
                <a:lnTo>
                  <a:pt x="455" y="1837"/>
                </a:lnTo>
                <a:lnTo>
                  <a:pt x="466" y="1864"/>
                </a:lnTo>
                <a:lnTo>
                  <a:pt x="476" y="1889"/>
                </a:lnTo>
                <a:lnTo>
                  <a:pt x="487" y="1912"/>
                </a:lnTo>
                <a:lnTo>
                  <a:pt x="497" y="1935"/>
                </a:lnTo>
                <a:lnTo>
                  <a:pt x="506" y="1958"/>
                </a:lnTo>
                <a:lnTo>
                  <a:pt x="516" y="1981"/>
                </a:lnTo>
                <a:lnTo>
                  <a:pt x="528" y="2004"/>
                </a:lnTo>
                <a:lnTo>
                  <a:pt x="539" y="2029"/>
                </a:lnTo>
                <a:lnTo>
                  <a:pt x="553" y="2052"/>
                </a:lnTo>
                <a:lnTo>
                  <a:pt x="566" y="2077"/>
                </a:lnTo>
                <a:lnTo>
                  <a:pt x="579" y="2100"/>
                </a:lnTo>
                <a:lnTo>
                  <a:pt x="593" y="2125"/>
                </a:lnTo>
                <a:lnTo>
                  <a:pt x="608" y="2150"/>
                </a:lnTo>
                <a:lnTo>
                  <a:pt x="625" y="2175"/>
                </a:lnTo>
                <a:lnTo>
                  <a:pt x="641" y="2200"/>
                </a:lnTo>
                <a:lnTo>
                  <a:pt x="658" y="2225"/>
                </a:lnTo>
                <a:lnTo>
                  <a:pt x="677" y="2250"/>
                </a:lnTo>
                <a:lnTo>
                  <a:pt x="696" y="2275"/>
                </a:lnTo>
                <a:lnTo>
                  <a:pt x="716" y="2300"/>
                </a:lnTo>
                <a:lnTo>
                  <a:pt x="733" y="2325"/>
                </a:lnTo>
                <a:lnTo>
                  <a:pt x="750" y="2348"/>
                </a:lnTo>
                <a:lnTo>
                  <a:pt x="766" y="2369"/>
                </a:lnTo>
                <a:lnTo>
                  <a:pt x="781" y="2388"/>
                </a:lnTo>
                <a:lnTo>
                  <a:pt x="794" y="2406"/>
                </a:lnTo>
                <a:lnTo>
                  <a:pt x="808" y="2421"/>
                </a:lnTo>
                <a:lnTo>
                  <a:pt x="821" y="2434"/>
                </a:lnTo>
                <a:lnTo>
                  <a:pt x="833" y="2446"/>
                </a:lnTo>
                <a:lnTo>
                  <a:pt x="844" y="2457"/>
                </a:lnTo>
                <a:lnTo>
                  <a:pt x="854" y="2465"/>
                </a:lnTo>
                <a:lnTo>
                  <a:pt x="863" y="2473"/>
                </a:lnTo>
                <a:lnTo>
                  <a:pt x="871" y="2478"/>
                </a:lnTo>
                <a:lnTo>
                  <a:pt x="879" y="2482"/>
                </a:lnTo>
                <a:lnTo>
                  <a:pt x="887" y="2484"/>
                </a:lnTo>
                <a:lnTo>
                  <a:pt x="892" y="2484"/>
                </a:lnTo>
                <a:lnTo>
                  <a:pt x="896" y="24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49"/>
          <p:cNvSpPr/>
          <p:nvPr/>
        </p:nvSpPr>
        <p:spPr>
          <a:xfrm>
            <a:off x="6381720" y="3571920"/>
            <a:ext cx="345960" cy="1368360"/>
          </a:xfrm>
          <a:custGeom>
            <a:avLst/>
            <a:gdLst/>
            <a:ahLst/>
            <a:rect l="l" t="t" r="r" b="b"/>
            <a:pathLst>
              <a:path w="436" h="1724">
                <a:moveTo>
                  <a:pt x="100" y="1468"/>
                </a:moveTo>
                <a:lnTo>
                  <a:pt x="87" y="1455"/>
                </a:lnTo>
                <a:lnTo>
                  <a:pt x="73" y="1441"/>
                </a:lnTo>
                <a:lnTo>
                  <a:pt x="64" y="1430"/>
                </a:lnTo>
                <a:lnTo>
                  <a:pt x="52" y="1418"/>
                </a:lnTo>
                <a:lnTo>
                  <a:pt x="43" y="1407"/>
                </a:lnTo>
                <a:lnTo>
                  <a:pt x="35" y="1397"/>
                </a:lnTo>
                <a:lnTo>
                  <a:pt x="27" y="1388"/>
                </a:lnTo>
                <a:lnTo>
                  <a:pt x="20" y="1378"/>
                </a:lnTo>
                <a:lnTo>
                  <a:pt x="14" y="1370"/>
                </a:lnTo>
                <a:lnTo>
                  <a:pt x="10" y="1363"/>
                </a:lnTo>
                <a:lnTo>
                  <a:pt x="6" y="1355"/>
                </a:lnTo>
                <a:lnTo>
                  <a:pt x="2" y="1349"/>
                </a:lnTo>
                <a:lnTo>
                  <a:pt x="0" y="1345"/>
                </a:lnTo>
                <a:lnTo>
                  <a:pt x="0" y="1340"/>
                </a:lnTo>
                <a:lnTo>
                  <a:pt x="0" y="1338"/>
                </a:lnTo>
                <a:lnTo>
                  <a:pt x="2" y="1334"/>
                </a:lnTo>
                <a:lnTo>
                  <a:pt x="6" y="1332"/>
                </a:lnTo>
                <a:lnTo>
                  <a:pt x="8" y="1330"/>
                </a:lnTo>
                <a:lnTo>
                  <a:pt x="12" y="1330"/>
                </a:lnTo>
                <a:lnTo>
                  <a:pt x="18" y="1330"/>
                </a:lnTo>
                <a:lnTo>
                  <a:pt x="21" y="1330"/>
                </a:lnTo>
                <a:lnTo>
                  <a:pt x="27" y="1330"/>
                </a:lnTo>
                <a:lnTo>
                  <a:pt x="35" y="1332"/>
                </a:lnTo>
                <a:lnTo>
                  <a:pt x="43" y="1332"/>
                </a:lnTo>
                <a:lnTo>
                  <a:pt x="50" y="1334"/>
                </a:lnTo>
                <a:lnTo>
                  <a:pt x="60" y="1336"/>
                </a:lnTo>
                <a:lnTo>
                  <a:pt x="69" y="1340"/>
                </a:lnTo>
                <a:lnTo>
                  <a:pt x="81" y="1344"/>
                </a:lnTo>
                <a:lnTo>
                  <a:pt x="92" y="1345"/>
                </a:lnTo>
                <a:lnTo>
                  <a:pt x="106" y="1349"/>
                </a:lnTo>
                <a:lnTo>
                  <a:pt x="119" y="1353"/>
                </a:lnTo>
                <a:lnTo>
                  <a:pt x="135" y="1359"/>
                </a:lnTo>
                <a:lnTo>
                  <a:pt x="148" y="1363"/>
                </a:lnTo>
                <a:lnTo>
                  <a:pt x="162" y="1367"/>
                </a:lnTo>
                <a:lnTo>
                  <a:pt x="173" y="1370"/>
                </a:lnTo>
                <a:lnTo>
                  <a:pt x="185" y="1372"/>
                </a:lnTo>
                <a:lnTo>
                  <a:pt x="196" y="1374"/>
                </a:lnTo>
                <a:lnTo>
                  <a:pt x="206" y="1376"/>
                </a:lnTo>
                <a:lnTo>
                  <a:pt x="215" y="1376"/>
                </a:lnTo>
                <a:lnTo>
                  <a:pt x="225" y="1376"/>
                </a:lnTo>
                <a:lnTo>
                  <a:pt x="235" y="1376"/>
                </a:lnTo>
                <a:lnTo>
                  <a:pt x="242" y="1376"/>
                </a:lnTo>
                <a:lnTo>
                  <a:pt x="250" y="1374"/>
                </a:lnTo>
                <a:lnTo>
                  <a:pt x="258" y="1372"/>
                </a:lnTo>
                <a:lnTo>
                  <a:pt x="263" y="1370"/>
                </a:lnTo>
                <a:lnTo>
                  <a:pt x="269" y="1367"/>
                </a:lnTo>
                <a:lnTo>
                  <a:pt x="275" y="1363"/>
                </a:lnTo>
                <a:lnTo>
                  <a:pt x="281" y="1359"/>
                </a:lnTo>
                <a:lnTo>
                  <a:pt x="283" y="1355"/>
                </a:lnTo>
                <a:lnTo>
                  <a:pt x="284" y="1351"/>
                </a:lnTo>
                <a:lnTo>
                  <a:pt x="286" y="1347"/>
                </a:lnTo>
                <a:lnTo>
                  <a:pt x="288" y="1342"/>
                </a:lnTo>
                <a:lnTo>
                  <a:pt x="290" y="1336"/>
                </a:lnTo>
                <a:lnTo>
                  <a:pt x="292" y="1328"/>
                </a:lnTo>
                <a:lnTo>
                  <a:pt x="294" y="1320"/>
                </a:lnTo>
                <a:lnTo>
                  <a:pt x="296" y="1311"/>
                </a:lnTo>
                <a:lnTo>
                  <a:pt x="298" y="1299"/>
                </a:lnTo>
                <a:lnTo>
                  <a:pt x="298" y="1290"/>
                </a:lnTo>
                <a:lnTo>
                  <a:pt x="300" y="1276"/>
                </a:lnTo>
                <a:lnTo>
                  <a:pt x="302" y="1263"/>
                </a:lnTo>
                <a:lnTo>
                  <a:pt x="304" y="1249"/>
                </a:lnTo>
                <a:lnTo>
                  <a:pt x="304" y="1234"/>
                </a:lnTo>
                <a:lnTo>
                  <a:pt x="306" y="1219"/>
                </a:lnTo>
                <a:lnTo>
                  <a:pt x="307" y="1201"/>
                </a:lnTo>
                <a:lnTo>
                  <a:pt x="307" y="1184"/>
                </a:lnTo>
                <a:lnTo>
                  <a:pt x="309" y="1165"/>
                </a:lnTo>
                <a:lnTo>
                  <a:pt x="309" y="1146"/>
                </a:lnTo>
                <a:lnTo>
                  <a:pt x="311" y="1125"/>
                </a:lnTo>
                <a:lnTo>
                  <a:pt x="311" y="1104"/>
                </a:lnTo>
                <a:lnTo>
                  <a:pt x="311" y="1081"/>
                </a:lnTo>
                <a:lnTo>
                  <a:pt x="313" y="1057"/>
                </a:lnTo>
                <a:lnTo>
                  <a:pt x="313" y="1033"/>
                </a:lnTo>
                <a:lnTo>
                  <a:pt x="313" y="1008"/>
                </a:lnTo>
                <a:lnTo>
                  <a:pt x="315" y="981"/>
                </a:lnTo>
                <a:lnTo>
                  <a:pt x="315" y="952"/>
                </a:lnTo>
                <a:lnTo>
                  <a:pt x="315" y="925"/>
                </a:lnTo>
                <a:lnTo>
                  <a:pt x="315" y="894"/>
                </a:lnTo>
                <a:lnTo>
                  <a:pt x="315" y="864"/>
                </a:lnTo>
                <a:lnTo>
                  <a:pt x="315" y="833"/>
                </a:lnTo>
                <a:lnTo>
                  <a:pt x="315" y="800"/>
                </a:lnTo>
                <a:lnTo>
                  <a:pt x="315" y="737"/>
                </a:lnTo>
                <a:lnTo>
                  <a:pt x="313" y="676"/>
                </a:lnTo>
                <a:lnTo>
                  <a:pt x="311" y="616"/>
                </a:lnTo>
                <a:lnTo>
                  <a:pt x="307" y="558"/>
                </a:lnTo>
                <a:lnTo>
                  <a:pt x="302" y="503"/>
                </a:lnTo>
                <a:lnTo>
                  <a:pt x="296" y="449"/>
                </a:lnTo>
                <a:lnTo>
                  <a:pt x="288" y="395"/>
                </a:lnTo>
                <a:lnTo>
                  <a:pt x="281" y="345"/>
                </a:lnTo>
                <a:lnTo>
                  <a:pt x="271" y="295"/>
                </a:lnTo>
                <a:lnTo>
                  <a:pt x="261" y="247"/>
                </a:lnTo>
                <a:lnTo>
                  <a:pt x="250" y="203"/>
                </a:lnTo>
                <a:lnTo>
                  <a:pt x="238" y="159"/>
                </a:lnTo>
                <a:lnTo>
                  <a:pt x="227" y="117"/>
                </a:lnTo>
                <a:lnTo>
                  <a:pt x="213" y="75"/>
                </a:lnTo>
                <a:lnTo>
                  <a:pt x="198" y="36"/>
                </a:lnTo>
                <a:lnTo>
                  <a:pt x="183" y="0"/>
                </a:lnTo>
                <a:lnTo>
                  <a:pt x="208" y="6"/>
                </a:lnTo>
                <a:lnTo>
                  <a:pt x="231" y="11"/>
                </a:lnTo>
                <a:lnTo>
                  <a:pt x="252" y="19"/>
                </a:lnTo>
                <a:lnTo>
                  <a:pt x="271" y="25"/>
                </a:lnTo>
                <a:lnTo>
                  <a:pt x="290" y="31"/>
                </a:lnTo>
                <a:lnTo>
                  <a:pt x="307" y="34"/>
                </a:lnTo>
                <a:lnTo>
                  <a:pt x="323" y="40"/>
                </a:lnTo>
                <a:lnTo>
                  <a:pt x="336" y="44"/>
                </a:lnTo>
                <a:lnTo>
                  <a:pt x="350" y="50"/>
                </a:lnTo>
                <a:lnTo>
                  <a:pt x="361" y="54"/>
                </a:lnTo>
                <a:lnTo>
                  <a:pt x="371" y="57"/>
                </a:lnTo>
                <a:lnTo>
                  <a:pt x="380" y="61"/>
                </a:lnTo>
                <a:lnTo>
                  <a:pt x="386" y="63"/>
                </a:lnTo>
                <a:lnTo>
                  <a:pt x="392" y="67"/>
                </a:lnTo>
                <a:lnTo>
                  <a:pt x="398" y="69"/>
                </a:lnTo>
                <a:lnTo>
                  <a:pt x="400" y="73"/>
                </a:lnTo>
                <a:lnTo>
                  <a:pt x="402" y="73"/>
                </a:lnTo>
                <a:lnTo>
                  <a:pt x="402" y="75"/>
                </a:lnTo>
                <a:lnTo>
                  <a:pt x="403" y="77"/>
                </a:lnTo>
                <a:lnTo>
                  <a:pt x="403" y="80"/>
                </a:lnTo>
                <a:lnTo>
                  <a:pt x="405" y="84"/>
                </a:lnTo>
                <a:lnTo>
                  <a:pt x="405" y="88"/>
                </a:lnTo>
                <a:lnTo>
                  <a:pt x="407" y="92"/>
                </a:lnTo>
                <a:lnTo>
                  <a:pt x="407" y="96"/>
                </a:lnTo>
                <a:lnTo>
                  <a:pt x="407" y="102"/>
                </a:lnTo>
                <a:lnTo>
                  <a:pt x="409" y="107"/>
                </a:lnTo>
                <a:lnTo>
                  <a:pt x="409" y="121"/>
                </a:lnTo>
                <a:lnTo>
                  <a:pt x="411" y="136"/>
                </a:lnTo>
                <a:lnTo>
                  <a:pt x="413" y="152"/>
                </a:lnTo>
                <a:lnTo>
                  <a:pt x="413" y="171"/>
                </a:lnTo>
                <a:lnTo>
                  <a:pt x="415" y="192"/>
                </a:lnTo>
                <a:lnTo>
                  <a:pt x="415" y="213"/>
                </a:lnTo>
                <a:lnTo>
                  <a:pt x="417" y="238"/>
                </a:lnTo>
                <a:lnTo>
                  <a:pt x="419" y="263"/>
                </a:lnTo>
                <a:lnTo>
                  <a:pt x="421" y="292"/>
                </a:lnTo>
                <a:lnTo>
                  <a:pt x="423" y="320"/>
                </a:lnTo>
                <a:lnTo>
                  <a:pt x="425" y="351"/>
                </a:lnTo>
                <a:lnTo>
                  <a:pt x="428" y="418"/>
                </a:lnTo>
                <a:lnTo>
                  <a:pt x="430" y="485"/>
                </a:lnTo>
                <a:lnTo>
                  <a:pt x="432" y="551"/>
                </a:lnTo>
                <a:lnTo>
                  <a:pt x="434" y="614"/>
                </a:lnTo>
                <a:lnTo>
                  <a:pt x="436" y="677"/>
                </a:lnTo>
                <a:lnTo>
                  <a:pt x="436" y="741"/>
                </a:lnTo>
                <a:lnTo>
                  <a:pt x="436" y="800"/>
                </a:lnTo>
                <a:lnTo>
                  <a:pt x="436" y="862"/>
                </a:lnTo>
                <a:lnTo>
                  <a:pt x="436" y="979"/>
                </a:lnTo>
                <a:lnTo>
                  <a:pt x="436" y="1038"/>
                </a:lnTo>
                <a:lnTo>
                  <a:pt x="434" y="1096"/>
                </a:lnTo>
                <a:lnTo>
                  <a:pt x="432" y="1153"/>
                </a:lnTo>
                <a:lnTo>
                  <a:pt x="430" y="1211"/>
                </a:lnTo>
                <a:lnTo>
                  <a:pt x="428" y="1267"/>
                </a:lnTo>
                <a:lnTo>
                  <a:pt x="425" y="1322"/>
                </a:lnTo>
                <a:lnTo>
                  <a:pt x="423" y="1351"/>
                </a:lnTo>
                <a:lnTo>
                  <a:pt x="419" y="1378"/>
                </a:lnTo>
                <a:lnTo>
                  <a:pt x="417" y="1405"/>
                </a:lnTo>
                <a:lnTo>
                  <a:pt x="413" y="1430"/>
                </a:lnTo>
                <a:lnTo>
                  <a:pt x="409" y="1453"/>
                </a:lnTo>
                <a:lnTo>
                  <a:pt x="405" y="1476"/>
                </a:lnTo>
                <a:lnTo>
                  <a:pt x="402" y="1497"/>
                </a:lnTo>
                <a:lnTo>
                  <a:pt x="398" y="1516"/>
                </a:lnTo>
                <a:lnTo>
                  <a:pt x="392" y="1535"/>
                </a:lnTo>
                <a:lnTo>
                  <a:pt x="388" y="1553"/>
                </a:lnTo>
                <a:lnTo>
                  <a:pt x="382" y="1570"/>
                </a:lnTo>
                <a:lnTo>
                  <a:pt x="377" y="1585"/>
                </a:lnTo>
                <a:lnTo>
                  <a:pt x="371" y="1599"/>
                </a:lnTo>
                <a:lnTo>
                  <a:pt x="365" y="1612"/>
                </a:lnTo>
                <a:lnTo>
                  <a:pt x="357" y="1626"/>
                </a:lnTo>
                <a:lnTo>
                  <a:pt x="352" y="1637"/>
                </a:lnTo>
                <a:lnTo>
                  <a:pt x="346" y="1649"/>
                </a:lnTo>
                <a:lnTo>
                  <a:pt x="338" y="1658"/>
                </a:lnTo>
                <a:lnTo>
                  <a:pt x="332" y="1668"/>
                </a:lnTo>
                <a:lnTo>
                  <a:pt x="325" y="1677"/>
                </a:lnTo>
                <a:lnTo>
                  <a:pt x="319" y="1685"/>
                </a:lnTo>
                <a:lnTo>
                  <a:pt x="313" y="1691"/>
                </a:lnTo>
                <a:lnTo>
                  <a:pt x="307" y="1697"/>
                </a:lnTo>
                <a:lnTo>
                  <a:pt x="302" y="1702"/>
                </a:lnTo>
                <a:lnTo>
                  <a:pt x="296" y="1708"/>
                </a:lnTo>
                <a:lnTo>
                  <a:pt x="290" y="1712"/>
                </a:lnTo>
                <a:lnTo>
                  <a:pt x="284" y="1716"/>
                </a:lnTo>
                <a:lnTo>
                  <a:pt x="281" y="1718"/>
                </a:lnTo>
                <a:lnTo>
                  <a:pt x="277" y="1720"/>
                </a:lnTo>
                <a:lnTo>
                  <a:pt x="273" y="1722"/>
                </a:lnTo>
                <a:lnTo>
                  <a:pt x="271" y="1722"/>
                </a:lnTo>
                <a:lnTo>
                  <a:pt x="267" y="1724"/>
                </a:lnTo>
                <a:lnTo>
                  <a:pt x="259" y="1718"/>
                </a:lnTo>
                <a:lnTo>
                  <a:pt x="252" y="1712"/>
                </a:lnTo>
                <a:lnTo>
                  <a:pt x="244" y="1702"/>
                </a:lnTo>
                <a:lnTo>
                  <a:pt x="238" y="1695"/>
                </a:lnTo>
                <a:lnTo>
                  <a:pt x="233" y="1683"/>
                </a:lnTo>
                <a:lnTo>
                  <a:pt x="231" y="1676"/>
                </a:lnTo>
                <a:lnTo>
                  <a:pt x="229" y="1670"/>
                </a:lnTo>
                <a:lnTo>
                  <a:pt x="227" y="1662"/>
                </a:lnTo>
                <a:lnTo>
                  <a:pt x="223" y="1654"/>
                </a:lnTo>
                <a:lnTo>
                  <a:pt x="221" y="1647"/>
                </a:lnTo>
                <a:lnTo>
                  <a:pt x="219" y="1637"/>
                </a:lnTo>
                <a:lnTo>
                  <a:pt x="217" y="1628"/>
                </a:lnTo>
                <a:lnTo>
                  <a:pt x="213" y="1620"/>
                </a:lnTo>
                <a:lnTo>
                  <a:pt x="210" y="1608"/>
                </a:lnTo>
                <a:lnTo>
                  <a:pt x="206" y="1599"/>
                </a:lnTo>
                <a:lnTo>
                  <a:pt x="200" y="1589"/>
                </a:lnTo>
                <a:lnTo>
                  <a:pt x="194" y="1580"/>
                </a:lnTo>
                <a:lnTo>
                  <a:pt x="188" y="1568"/>
                </a:lnTo>
                <a:lnTo>
                  <a:pt x="181" y="1558"/>
                </a:lnTo>
                <a:lnTo>
                  <a:pt x="173" y="1547"/>
                </a:lnTo>
                <a:lnTo>
                  <a:pt x="165" y="1535"/>
                </a:lnTo>
                <a:lnTo>
                  <a:pt x="156" y="1524"/>
                </a:lnTo>
                <a:lnTo>
                  <a:pt x="146" y="1514"/>
                </a:lnTo>
                <a:lnTo>
                  <a:pt x="137" y="1503"/>
                </a:lnTo>
                <a:lnTo>
                  <a:pt x="125" y="1491"/>
                </a:lnTo>
                <a:lnTo>
                  <a:pt x="112" y="1480"/>
                </a:lnTo>
                <a:lnTo>
                  <a:pt x="100" y="14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50"/>
          <p:cNvSpPr/>
          <p:nvPr/>
        </p:nvSpPr>
        <p:spPr>
          <a:xfrm>
            <a:off x="6316560" y="4005360"/>
            <a:ext cx="641520" cy="384120"/>
          </a:xfrm>
          <a:custGeom>
            <a:avLst/>
            <a:gdLst/>
            <a:ahLst/>
            <a:rect l="l" t="t" r="r" b="b"/>
            <a:pathLst>
              <a:path w="808" h="486">
                <a:moveTo>
                  <a:pt x="84" y="303"/>
                </a:moveTo>
                <a:lnTo>
                  <a:pt x="98" y="303"/>
                </a:lnTo>
                <a:lnTo>
                  <a:pt x="109" y="301"/>
                </a:lnTo>
                <a:lnTo>
                  <a:pt x="125" y="299"/>
                </a:lnTo>
                <a:lnTo>
                  <a:pt x="142" y="296"/>
                </a:lnTo>
                <a:lnTo>
                  <a:pt x="159" y="290"/>
                </a:lnTo>
                <a:lnTo>
                  <a:pt x="178" y="282"/>
                </a:lnTo>
                <a:lnTo>
                  <a:pt x="199" y="274"/>
                </a:lnTo>
                <a:lnTo>
                  <a:pt x="221" y="267"/>
                </a:lnTo>
                <a:lnTo>
                  <a:pt x="244" y="255"/>
                </a:lnTo>
                <a:lnTo>
                  <a:pt x="269" y="244"/>
                </a:lnTo>
                <a:lnTo>
                  <a:pt x="295" y="232"/>
                </a:lnTo>
                <a:lnTo>
                  <a:pt x="322" y="217"/>
                </a:lnTo>
                <a:lnTo>
                  <a:pt x="351" y="202"/>
                </a:lnTo>
                <a:lnTo>
                  <a:pt x="382" y="184"/>
                </a:lnTo>
                <a:lnTo>
                  <a:pt x="413" y="165"/>
                </a:lnTo>
                <a:lnTo>
                  <a:pt x="447" y="146"/>
                </a:lnTo>
                <a:lnTo>
                  <a:pt x="462" y="136"/>
                </a:lnTo>
                <a:lnTo>
                  <a:pt x="480" y="129"/>
                </a:lnTo>
                <a:lnTo>
                  <a:pt x="510" y="111"/>
                </a:lnTo>
                <a:lnTo>
                  <a:pt x="539" y="96"/>
                </a:lnTo>
                <a:lnTo>
                  <a:pt x="566" y="81"/>
                </a:lnTo>
                <a:lnTo>
                  <a:pt x="591" y="69"/>
                </a:lnTo>
                <a:lnTo>
                  <a:pt x="614" y="56"/>
                </a:lnTo>
                <a:lnTo>
                  <a:pt x="637" y="46"/>
                </a:lnTo>
                <a:lnTo>
                  <a:pt x="656" y="36"/>
                </a:lnTo>
                <a:lnTo>
                  <a:pt x="675" y="27"/>
                </a:lnTo>
                <a:lnTo>
                  <a:pt x="691" y="19"/>
                </a:lnTo>
                <a:lnTo>
                  <a:pt x="706" y="13"/>
                </a:lnTo>
                <a:lnTo>
                  <a:pt x="720" y="10"/>
                </a:lnTo>
                <a:lnTo>
                  <a:pt x="733" y="6"/>
                </a:lnTo>
                <a:lnTo>
                  <a:pt x="743" y="2"/>
                </a:lnTo>
                <a:lnTo>
                  <a:pt x="752" y="0"/>
                </a:lnTo>
                <a:lnTo>
                  <a:pt x="760" y="0"/>
                </a:lnTo>
                <a:lnTo>
                  <a:pt x="766" y="0"/>
                </a:lnTo>
                <a:lnTo>
                  <a:pt x="771" y="0"/>
                </a:lnTo>
                <a:lnTo>
                  <a:pt x="777" y="2"/>
                </a:lnTo>
                <a:lnTo>
                  <a:pt x="781" y="2"/>
                </a:lnTo>
                <a:lnTo>
                  <a:pt x="787" y="4"/>
                </a:lnTo>
                <a:lnTo>
                  <a:pt x="791" y="4"/>
                </a:lnTo>
                <a:lnTo>
                  <a:pt x="796" y="8"/>
                </a:lnTo>
                <a:lnTo>
                  <a:pt x="802" y="12"/>
                </a:lnTo>
                <a:lnTo>
                  <a:pt x="804" y="15"/>
                </a:lnTo>
                <a:lnTo>
                  <a:pt x="806" y="19"/>
                </a:lnTo>
                <a:lnTo>
                  <a:pt x="808" y="25"/>
                </a:lnTo>
                <a:lnTo>
                  <a:pt x="804" y="27"/>
                </a:lnTo>
                <a:lnTo>
                  <a:pt x="800" y="31"/>
                </a:lnTo>
                <a:lnTo>
                  <a:pt x="794" y="36"/>
                </a:lnTo>
                <a:lnTo>
                  <a:pt x="787" y="42"/>
                </a:lnTo>
                <a:lnTo>
                  <a:pt x="777" y="50"/>
                </a:lnTo>
                <a:lnTo>
                  <a:pt x="768" y="58"/>
                </a:lnTo>
                <a:lnTo>
                  <a:pt x="756" y="67"/>
                </a:lnTo>
                <a:lnTo>
                  <a:pt x="743" y="77"/>
                </a:lnTo>
                <a:lnTo>
                  <a:pt x="727" y="88"/>
                </a:lnTo>
                <a:lnTo>
                  <a:pt x="710" y="100"/>
                </a:lnTo>
                <a:lnTo>
                  <a:pt x="693" y="113"/>
                </a:lnTo>
                <a:lnTo>
                  <a:pt x="674" y="129"/>
                </a:lnTo>
                <a:lnTo>
                  <a:pt x="652" y="144"/>
                </a:lnTo>
                <a:lnTo>
                  <a:pt x="629" y="159"/>
                </a:lnTo>
                <a:lnTo>
                  <a:pt x="604" y="177"/>
                </a:lnTo>
                <a:lnTo>
                  <a:pt x="579" y="194"/>
                </a:lnTo>
                <a:lnTo>
                  <a:pt x="553" y="215"/>
                </a:lnTo>
                <a:lnTo>
                  <a:pt x="528" y="234"/>
                </a:lnTo>
                <a:lnTo>
                  <a:pt x="503" y="253"/>
                </a:lnTo>
                <a:lnTo>
                  <a:pt x="480" y="271"/>
                </a:lnTo>
                <a:lnTo>
                  <a:pt x="457" y="286"/>
                </a:lnTo>
                <a:lnTo>
                  <a:pt x="436" y="303"/>
                </a:lnTo>
                <a:lnTo>
                  <a:pt x="416" y="317"/>
                </a:lnTo>
                <a:lnTo>
                  <a:pt x="397" y="332"/>
                </a:lnTo>
                <a:lnTo>
                  <a:pt x="378" y="346"/>
                </a:lnTo>
                <a:lnTo>
                  <a:pt x="361" y="357"/>
                </a:lnTo>
                <a:lnTo>
                  <a:pt x="345" y="369"/>
                </a:lnTo>
                <a:lnTo>
                  <a:pt x="330" y="378"/>
                </a:lnTo>
                <a:lnTo>
                  <a:pt x="315" y="390"/>
                </a:lnTo>
                <a:lnTo>
                  <a:pt x="301" y="397"/>
                </a:lnTo>
                <a:lnTo>
                  <a:pt x="290" y="405"/>
                </a:lnTo>
                <a:lnTo>
                  <a:pt x="278" y="413"/>
                </a:lnTo>
                <a:lnTo>
                  <a:pt x="267" y="422"/>
                </a:lnTo>
                <a:lnTo>
                  <a:pt x="255" y="430"/>
                </a:lnTo>
                <a:lnTo>
                  <a:pt x="246" y="438"/>
                </a:lnTo>
                <a:lnTo>
                  <a:pt x="238" y="445"/>
                </a:lnTo>
                <a:lnTo>
                  <a:pt x="228" y="451"/>
                </a:lnTo>
                <a:lnTo>
                  <a:pt x="221" y="457"/>
                </a:lnTo>
                <a:lnTo>
                  <a:pt x="213" y="463"/>
                </a:lnTo>
                <a:lnTo>
                  <a:pt x="205" y="468"/>
                </a:lnTo>
                <a:lnTo>
                  <a:pt x="199" y="472"/>
                </a:lnTo>
                <a:lnTo>
                  <a:pt x="194" y="476"/>
                </a:lnTo>
                <a:lnTo>
                  <a:pt x="188" y="478"/>
                </a:lnTo>
                <a:lnTo>
                  <a:pt x="182" y="482"/>
                </a:lnTo>
                <a:lnTo>
                  <a:pt x="178" y="484"/>
                </a:lnTo>
                <a:lnTo>
                  <a:pt x="174" y="484"/>
                </a:lnTo>
                <a:lnTo>
                  <a:pt x="171" y="486"/>
                </a:lnTo>
                <a:lnTo>
                  <a:pt x="169" y="486"/>
                </a:lnTo>
                <a:lnTo>
                  <a:pt x="159" y="486"/>
                </a:lnTo>
                <a:lnTo>
                  <a:pt x="150" y="484"/>
                </a:lnTo>
                <a:lnTo>
                  <a:pt x="138" y="480"/>
                </a:lnTo>
                <a:lnTo>
                  <a:pt x="125" y="476"/>
                </a:lnTo>
                <a:lnTo>
                  <a:pt x="113" y="468"/>
                </a:lnTo>
                <a:lnTo>
                  <a:pt x="105" y="465"/>
                </a:lnTo>
                <a:lnTo>
                  <a:pt x="100" y="461"/>
                </a:lnTo>
                <a:lnTo>
                  <a:pt x="92" y="455"/>
                </a:lnTo>
                <a:lnTo>
                  <a:pt x="86" y="449"/>
                </a:lnTo>
                <a:lnTo>
                  <a:pt x="79" y="443"/>
                </a:lnTo>
                <a:lnTo>
                  <a:pt x="73" y="438"/>
                </a:lnTo>
                <a:lnTo>
                  <a:pt x="63" y="430"/>
                </a:lnTo>
                <a:lnTo>
                  <a:pt x="55" y="424"/>
                </a:lnTo>
                <a:lnTo>
                  <a:pt x="48" y="418"/>
                </a:lnTo>
                <a:lnTo>
                  <a:pt x="42" y="411"/>
                </a:lnTo>
                <a:lnTo>
                  <a:pt x="34" y="405"/>
                </a:lnTo>
                <a:lnTo>
                  <a:pt x="29" y="399"/>
                </a:lnTo>
                <a:lnTo>
                  <a:pt x="23" y="393"/>
                </a:lnTo>
                <a:lnTo>
                  <a:pt x="19" y="388"/>
                </a:lnTo>
                <a:lnTo>
                  <a:pt x="15" y="382"/>
                </a:lnTo>
                <a:lnTo>
                  <a:pt x="11" y="378"/>
                </a:lnTo>
                <a:lnTo>
                  <a:pt x="8" y="372"/>
                </a:lnTo>
                <a:lnTo>
                  <a:pt x="6" y="365"/>
                </a:lnTo>
                <a:lnTo>
                  <a:pt x="4" y="359"/>
                </a:lnTo>
                <a:lnTo>
                  <a:pt x="2" y="353"/>
                </a:lnTo>
                <a:lnTo>
                  <a:pt x="0" y="347"/>
                </a:lnTo>
                <a:lnTo>
                  <a:pt x="0" y="340"/>
                </a:lnTo>
                <a:lnTo>
                  <a:pt x="0" y="336"/>
                </a:lnTo>
                <a:lnTo>
                  <a:pt x="2" y="332"/>
                </a:lnTo>
                <a:lnTo>
                  <a:pt x="4" y="328"/>
                </a:lnTo>
                <a:lnTo>
                  <a:pt x="6" y="324"/>
                </a:lnTo>
                <a:lnTo>
                  <a:pt x="8" y="321"/>
                </a:lnTo>
                <a:lnTo>
                  <a:pt x="11" y="319"/>
                </a:lnTo>
                <a:lnTo>
                  <a:pt x="15" y="315"/>
                </a:lnTo>
                <a:lnTo>
                  <a:pt x="21" y="313"/>
                </a:lnTo>
                <a:lnTo>
                  <a:pt x="25" y="311"/>
                </a:lnTo>
                <a:lnTo>
                  <a:pt x="32" y="309"/>
                </a:lnTo>
                <a:lnTo>
                  <a:pt x="38" y="307"/>
                </a:lnTo>
                <a:lnTo>
                  <a:pt x="46" y="305"/>
                </a:lnTo>
                <a:lnTo>
                  <a:pt x="55" y="305"/>
                </a:lnTo>
                <a:lnTo>
                  <a:pt x="63" y="305"/>
                </a:lnTo>
                <a:lnTo>
                  <a:pt x="75" y="303"/>
                </a:lnTo>
                <a:lnTo>
                  <a:pt x="84" y="3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51"/>
          <p:cNvSpPr/>
          <p:nvPr/>
        </p:nvSpPr>
        <p:spPr>
          <a:xfrm>
            <a:off x="6348240" y="3529080"/>
            <a:ext cx="1144800" cy="409680"/>
          </a:xfrm>
          <a:custGeom>
            <a:avLst/>
            <a:gdLst/>
            <a:ahLst/>
            <a:rect l="l" t="t" r="r" b="b"/>
            <a:pathLst>
              <a:path w="1442" h="516">
                <a:moveTo>
                  <a:pt x="1298" y="4"/>
                </a:moveTo>
                <a:lnTo>
                  <a:pt x="1309" y="6"/>
                </a:lnTo>
                <a:lnTo>
                  <a:pt x="1323" y="6"/>
                </a:lnTo>
                <a:lnTo>
                  <a:pt x="1334" y="10"/>
                </a:lnTo>
                <a:lnTo>
                  <a:pt x="1346" y="12"/>
                </a:lnTo>
                <a:lnTo>
                  <a:pt x="1357" y="15"/>
                </a:lnTo>
                <a:lnTo>
                  <a:pt x="1369" y="19"/>
                </a:lnTo>
                <a:lnTo>
                  <a:pt x="1380" y="23"/>
                </a:lnTo>
                <a:lnTo>
                  <a:pt x="1394" y="29"/>
                </a:lnTo>
                <a:lnTo>
                  <a:pt x="1399" y="31"/>
                </a:lnTo>
                <a:lnTo>
                  <a:pt x="1405" y="33"/>
                </a:lnTo>
                <a:lnTo>
                  <a:pt x="1411" y="37"/>
                </a:lnTo>
                <a:lnTo>
                  <a:pt x="1417" y="40"/>
                </a:lnTo>
                <a:lnTo>
                  <a:pt x="1421" y="42"/>
                </a:lnTo>
                <a:lnTo>
                  <a:pt x="1424" y="46"/>
                </a:lnTo>
                <a:lnTo>
                  <a:pt x="1430" y="54"/>
                </a:lnTo>
                <a:lnTo>
                  <a:pt x="1436" y="60"/>
                </a:lnTo>
                <a:lnTo>
                  <a:pt x="1440" y="65"/>
                </a:lnTo>
                <a:lnTo>
                  <a:pt x="1440" y="73"/>
                </a:lnTo>
                <a:lnTo>
                  <a:pt x="1442" y="77"/>
                </a:lnTo>
                <a:lnTo>
                  <a:pt x="1440" y="81"/>
                </a:lnTo>
                <a:lnTo>
                  <a:pt x="1440" y="83"/>
                </a:lnTo>
                <a:lnTo>
                  <a:pt x="1436" y="85"/>
                </a:lnTo>
                <a:lnTo>
                  <a:pt x="1432" y="88"/>
                </a:lnTo>
                <a:lnTo>
                  <a:pt x="1426" y="92"/>
                </a:lnTo>
                <a:lnTo>
                  <a:pt x="1421" y="96"/>
                </a:lnTo>
                <a:lnTo>
                  <a:pt x="1413" y="100"/>
                </a:lnTo>
                <a:lnTo>
                  <a:pt x="1403" y="104"/>
                </a:lnTo>
                <a:lnTo>
                  <a:pt x="1394" y="110"/>
                </a:lnTo>
                <a:lnTo>
                  <a:pt x="1382" y="113"/>
                </a:lnTo>
                <a:lnTo>
                  <a:pt x="1369" y="119"/>
                </a:lnTo>
                <a:lnTo>
                  <a:pt x="1355" y="125"/>
                </a:lnTo>
                <a:lnTo>
                  <a:pt x="1340" y="131"/>
                </a:lnTo>
                <a:lnTo>
                  <a:pt x="1323" y="136"/>
                </a:lnTo>
                <a:lnTo>
                  <a:pt x="1303" y="142"/>
                </a:lnTo>
                <a:lnTo>
                  <a:pt x="1284" y="150"/>
                </a:lnTo>
                <a:lnTo>
                  <a:pt x="1275" y="154"/>
                </a:lnTo>
                <a:lnTo>
                  <a:pt x="1263" y="158"/>
                </a:lnTo>
                <a:lnTo>
                  <a:pt x="1252" y="161"/>
                </a:lnTo>
                <a:lnTo>
                  <a:pt x="1238" y="165"/>
                </a:lnTo>
                <a:lnTo>
                  <a:pt x="1225" y="169"/>
                </a:lnTo>
                <a:lnTo>
                  <a:pt x="1211" y="173"/>
                </a:lnTo>
                <a:lnTo>
                  <a:pt x="1196" y="179"/>
                </a:lnTo>
                <a:lnTo>
                  <a:pt x="1181" y="182"/>
                </a:lnTo>
                <a:lnTo>
                  <a:pt x="1165" y="186"/>
                </a:lnTo>
                <a:lnTo>
                  <a:pt x="1148" y="192"/>
                </a:lnTo>
                <a:lnTo>
                  <a:pt x="1131" y="198"/>
                </a:lnTo>
                <a:lnTo>
                  <a:pt x="1113" y="202"/>
                </a:lnTo>
                <a:lnTo>
                  <a:pt x="1094" y="207"/>
                </a:lnTo>
                <a:lnTo>
                  <a:pt x="1075" y="213"/>
                </a:lnTo>
                <a:lnTo>
                  <a:pt x="1056" y="219"/>
                </a:lnTo>
                <a:lnTo>
                  <a:pt x="1035" y="225"/>
                </a:lnTo>
                <a:lnTo>
                  <a:pt x="1014" y="232"/>
                </a:lnTo>
                <a:lnTo>
                  <a:pt x="992" y="238"/>
                </a:lnTo>
                <a:lnTo>
                  <a:pt x="969" y="246"/>
                </a:lnTo>
                <a:lnTo>
                  <a:pt x="946" y="252"/>
                </a:lnTo>
                <a:lnTo>
                  <a:pt x="923" y="259"/>
                </a:lnTo>
                <a:lnTo>
                  <a:pt x="898" y="267"/>
                </a:lnTo>
                <a:lnTo>
                  <a:pt x="873" y="275"/>
                </a:lnTo>
                <a:lnTo>
                  <a:pt x="849" y="282"/>
                </a:lnTo>
                <a:lnTo>
                  <a:pt x="822" y="290"/>
                </a:lnTo>
                <a:lnTo>
                  <a:pt x="795" y="300"/>
                </a:lnTo>
                <a:lnTo>
                  <a:pt x="768" y="307"/>
                </a:lnTo>
                <a:lnTo>
                  <a:pt x="739" y="317"/>
                </a:lnTo>
                <a:lnTo>
                  <a:pt x="710" y="326"/>
                </a:lnTo>
                <a:lnTo>
                  <a:pt x="682" y="336"/>
                </a:lnTo>
                <a:lnTo>
                  <a:pt x="653" y="346"/>
                </a:lnTo>
                <a:lnTo>
                  <a:pt x="622" y="357"/>
                </a:lnTo>
                <a:lnTo>
                  <a:pt x="591" y="367"/>
                </a:lnTo>
                <a:lnTo>
                  <a:pt x="561" y="376"/>
                </a:lnTo>
                <a:lnTo>
                  <a:pt x="532" y="386"/>
                </a:lnTo>
                <a:lnTo>
                  <a:pt x="503" y="396"/>
                </a:lnTo>
                <a:lnTo>
                  <a:pt x="476" y="405"/>
                </a:lnTo>
                <a:lnTo>
                  <a:pt x="449" y="413"/>
                </a:lnTo>
                <a:lnTo>
                  <a:pt x="424" y="422"/>
                </a:lnTo>
                <a:lnTo>
                  <a:pt x="399" y="430"/>
                </a:lnTo>
                <a:lnTo>
                  <a:pt x="376" y="438"/>
                </a:lnTo>
                <a:lnTo>
                  <a:pt x="353" y="445"/>
                </a:lnTo>
                <a:lnTo>
                  <a:pt x="330" y="451"/>
                </a:lnTo>
                <a:lnTo>
                  <a:pt x="309" y="459"/>
                </a:lnTo>
                <a:lnTo>
                  <a:pt x="290" y="465"/>
                </a:lnTo>
                <a:lnTo>
                  <a:pt x="271" y="470"/>
                </a:lnTo>
                <a:lnTo>
                  <a:pt x="252" y="476"/>
                </a:lnTo>
                <a:lnTo>
                  <a:pt x="234" y="482"/>
                </a:lnTo>
                <a:lnTo>
                  <a:pt x="219" y="486"/>
                </a:lnTo>
                <a:lnTo>
                  <a:pt x="202" y="492"/>
                </a:lnTo>
                <a:lnTo>
                  <a:pt x="188" y="495"/>
                </a:lnTo>
                <a:lnTo>
                  <a:pt x="175" y="499"/>
                </a:lnTo>
                <a:lnTo>
                  <a:pt x="161" y="503"/>
                </a:lnTo>
                <a:lnTo>
                  <a:pt x="150" y="505"/>
                </a:lnTo>
                <a:lnTo>
                  <a:pt x="138" y="509"/>
                </a:lnTo>
                <a:lnTo>
                  <a:pt x="129" y="511"/>
                </a:lnTo>
                <a:lnTo>
                  <a:pt x="119" y="513"/>
                </a:lnTo>
                <a:lnTo>
                  <a:pt x="111" y="515"/>
                </a:lnTo>
                <a:lnTo>
                  <a:pt x="104" y="515"/>
                </a:lnTo>
                <a:lnTo>
                  <a:pt x="98" y="515"/>
                </a:lnTo>
                <a:lnTo>
                  <a:pt x="92" y="516"/>
                </a:lnTo>
                <a:lnTo>
                  <a:pt x="87" y="516"/>
                </a:lnTo>
                <a:lnTo>
                  <a:pt x="83" y="515"/>
                </a:lnTo>
                <a:lnTo>
                  <a:pt x="81" y="515"/>
                </a:lnTo>
                <a:lnTo>
                  <a:pt x="67" y="509"/>
                </a:lnTo>
                <a:lnTo>
                  <a:pt x="56" y="505"/>
                </a:lnTo>
                <a:lnTo>
                  <a:pt x="44" y="499"/>
                </a:lnTo>
                <a:lnTo>
                  <a:pt x="35" y="495"/>
                </a:lnTo>
                <a:lnTo>
                  <a:pt x="27" y="488"/>
                </a:lnTo>
                <a:lnTo>
                  <a:pt x="19" y="482"/>
                </a:lnTo>
                <a:lnTo>
                  <a:pt x="14" y="474"/>
                </a:lnTo>
                <a:lnTo>
                  <a:pt x="10" y="467"/>
                </a:lnTo>
                <a:lnTo>
                  <a:pt x="4" y="461"/>
                </a:lnTo>
                <a:lnTo>
                  <a:pt x="2" y="457"/>
                </a:lnTo>
                <a:lnTo>
                  <a:pt x="0" y="451"/>
                </a:lnTo>
                <a:lnTo>
                  <a:pt x="2" y="447"/>
                </a:lnTo>
                <a:lnTo>
                  <a:pt x="4" y="444"/>
                </a:lnTo>
                <a:lnTo>
                  <a:pt x="6" y="442"/>
                </a:lnTo>
                <a:lnTo>
                  <a:pt x="8" y="438"/>
                </a:lnTo>
                <a:lnTo>
                  <a:pt x="10" y="436"/>
                </a:lnTo>
                <a:lnTo>
                  <a:pt x="14" y="434"/>
                </a:lnTo>
                <a:lnTo>
                  <a:pt x="17" y="432"/>
                </a:lnTo>
                <a:lnTo>
                  <a:pt x="21" y="430"/>
                </a:lnTo>
                <a:lnTo>
                  <a:pt x="23" y="428"/>
                </a:lnTo>
                <a:lnTo>
                  <a:pt x="25" y="428"/>
                </a:lnTo>
                <a:lnTo>
                  <a:pt x="29" y="428"/>
                </a:lnTo>
                <a:lnTo>
                  <a:pt x="33" y="426"/>
                </a:lnTo>
                <a:lnTo>
                  <a:pt x="39" y="424"/>
                </a:lnTo>
                <a:lnTo>
                  <a:pt x="44" y="422"/>
                </a:lnTo>
                <a:lnTo>
                  <a:pt x="52" y="420"/>
                </a:lnTo>
                <a:lnTo>
                  <a:pt x="60" y="419"/>
                </a:lnTo>
                <a:lnTo>
                  <a:pt x="67" y="415"/>
                </a:lnTo>
                <a:lnTo>
                  <a:pt x="77" y="413"/>
                </a:lnTo>
                <a:lnTo>
                  <a:pt x="88" y="409"/>
                </a:lnTo>
                <a:lnTo>
                  <a:pt x="100" y="405"/>
                </a:lnTo>
                <a:lnTo>
                  <a:pt x="111" y="401"/>
                </a:lnTo>
                <a:lnTo>
                  <a:pt x="125" y="396"/>
                </a:lnTo>
                <a:lnTo>
                  <a:pt x="140" y="392"/>
                </a:lnTo>
                <a:lnTo>
                  <a:pt x="156" y="386"/>
                </a:lnTo>
                <a:lnTo>
                  <a:pt x="171" y="380"/>
                </a:lnTo>
                <a:lnTo>
                  <a:pt x="188" y="374"/>
                </a:lnTo>
                <a:lnTo>
                  <a:pt x="206" y="369"/>
                </a:lnTo>
                <a:lnTo>
                  <a:pt x="225" y="363"/>
                </a:lnTo>
                <a:lnTo>
                  <a:pt x="244" y="355"/>
                </a:lnTo>
                <a:lnTo>
                  <a:pt x="263" y="348"/>
                </a:lnTo>
                <a:lnTo>
                  <a:pt x="284" y="340"/>
                </a:lnTo>
                <a:lnTo>
                  <a:pt x="307" y="332"/>
                </a:lnTo>
                <a:lnTo>
                  <a:pt x="330" y="325"/>
                </a:lnTo>
                <a:lnTo>
                  <a:pt x="353" y="317"/>
                </a:lnTo>
                <a:lnTo>
                  <a:pt x="378" y="307"/>
                </a:lnTo>
                <a:lnTo>
                  <a:pt x="403" y="298"/>
                </a:lnTo>
                <a:lnTo>
                  <a:pt x="430" y="290"/>
                </a:lnTo>
                <a:lnTo>
                  <a:pt x="457" y="280"/>
                </a:lnTo>
                <a:lnTo>
                  <a:pt x="486" y="269"/>
                </a:lnTo>
                <a:lnTo>
                  <a:pt x="515" y="259"/>
                </a:lnTo>
                <a:lnTo>
                  <a:pt x="543" y="250"/>
                </a:lnTo>
                <a:lnTo>
                  <a:pt x="572" y="238"/>
                </a:lnTo>
                <a:lnTo>
                  <a:pt x="599" y="229"/>
                </a:lnTo>
                <a:lnTo>
                  <a:pt x="626" y="219"/>
                </a:lnTo>
                <a:lnTo>
                  <a:pt x="653" y="209"/>
                </a:lnTo>
                <a:lnTo>
                  <a:pt x="678" y="202"/>
                </a:lnTo>
                <a:lnTo>
                  <a:pt x="705" y="192"/>
                </a:lnTo>
                <a:lnTo>
                  <a:pt x="728" y="182"/>
                </a:lnTo>
                <a:lnTo>
                  <a:pt x="753" y="175"/>
                </a:lnTo>
                <a:lnTo>
                  <a:pt x="776" y="167"/>
                </a:lnTo>
                <a:lnTo>
                  <a:pt x="799" y="159"/>
                </a:lnTo>
                <a:lnTo>
                  <a:pt x="820" y="152"/>
                </a:lnTo>
                <a:lnTo>
                  <a:pt x="843" y="144"/>
                </a:lnTo>
                <a:lnTo>
                  <a:pt x="862" y="136"/>
                </a:lnTo>
                <a:lnTo>
                  <a:pt x="883" y="129"/>
                </a:lnTo>
                <a:lnTo>
                  <a:pt x="902" y="123"/>
                </a:lnTo>
                <a:lnTo>
                  <a:pt x="921" y="115"/>
                </a:lnTo>
                <a:lnTo>
                  <a:pt x="939" y="110"/>
                </a:lnTo>
                <a:lnTo>
                  <a:pt x="958" y="104"/>
                </a:lnTo>
                <a:lnTo>
                  <a:pt x="973" y="96"/>
                </a:lnTo>
                <a:lnTo>
                  <a:pt x="991" y="90"/>
                </a:lnTo>
                <a:lnTo>
                  <a:pt x="1006" y="87"/>
                </a:lnTo>
                <a:lnTo>
                  <a:pt x="1021" y="81"/>
                </a:lnTo>
                <a:lnTo>
                  <a:pt x="1037" y="75"/>
                </a:lnTo>
                <a:lnTo>
                  <a:pt x="1050" y="69"/>
                </a:lnTo>
                <a:lnTo>
                  <a:pt x="1063" y="65"/>
                </a:lnTo>
                <a:lnTo>
                  <a:pt x="1075" y="62"/>
                </a:lnTo>
                <a:lnTo>
                  <a:pt x="1087" y="56"/>
                </a:lnTo>
                <a:lnTo>
                  <a:pt x="1098" y="52"/>
                </a:lnTo>
                <a:lnTo>
                  <a:pt x="1110" y="48"/>
                </a:lnTo>
                <a:lnTo>
                  <a:pt x="1119" y="44"/>
                </a:lnTo>
                <a:lnTo>
                  <a:pt x="1129" y="40"/>
                </a:lnTo>
                <a:lnTo>
                  <a:pt x="1144" y="35"/>
                </a:lnTo>
                <a:lnTo>
                  <a:pt x="1159" y="29"/>
                </a:lnTo>
                <a:lnTo>
                  <a:pt x="1173" y="23"/>
                </a:lnTo>
                <a:lnTo>
                  <a:pt x="1186" y="17"/>
                </a:lnTo>
                <a:lnTo>
                  <a:pt x="1200" y="14"/>
                </a:lnTo>
                <a:lnTo>
                  <a:pt x="1211" y="10"/>
                </a:lnTo>
                <a:lnTo>
                  <a:pt x="1225" y="6"/>
                </a:lnTo>
                <a:lnTo>
                  <a:pt x="1234" y="4"/>
                </a:lnTo>
                <a:lnTo>
                  <a:pt x="1246" y="2"/>
                </a:lnTo>
                <a:lnTo>
                  <a:pt x="1255" y="0"/>
                </a:lnTo>
                <a:lnTo>
                  <a:pt x="1263" y="0"/>
                </a:lnTo>
                <a:lnTo>
                  <a:pt x="1273" y="0"/>
                </a:lnTo>
                <a:lnTo>
                  <a:pt x="1280" y="0"/>
                </a:lnTo>
                <a:lnTo>
                  <a:pt x="1286" y="0"/>
                </a:lnTo>
                <a:lnTo>
                  <a:pt x="1292" y="2"/>
                </a:lnTo>
                <a:lnTo>
                  <a:pt x="1298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152"/>
          <p:cNvSpPr/>
          <p:nvPr/>
        </p:nvSpPr>
        <p:spPr>
          <a:xfrm>
            <a:off x="6431040" y="3236760"/>
            <a:ext cx="422280" cy="385920"/>
          </a:xfrm>
          <a:custGeom>
            <a:avLst/>
            <a:gdLst/>
            <a:ahLst/>
            <a:rect l="l" t="t" r="r" b="b"/>
            <a:pathLst>
              <a:path w="531" h="485">
                <a:moveTo>
                  <a:pt x="399" y="276"/>
                </a:moveTo>
                <a:lnTo>
                  <a:pt x="366" y="299"/>
                </a:lnTo>
                <a:lnTo>
                  <a:pt x="336" y="320"/>
                </a:lnTo>
                <a:lnTo>
                  <a:pt x="303" y="343"/>
                </a:lnTo>
                <a:lnTo>
                  <a:pt x="272" y="364"/>
                </a:lnTo>
                <a:lnTo>
                  <a:pt x="240" y="383"/>
                </a:lnTo>
                <a:lnTo>
                  <a:pt x="209" y="401"/>
                </a:lnTo>
                <a:lnTo>
                  <a:pt x="176" y="418"/>
                </a:lnTo>
                <a:lnTo>
                  <a:pt x="161" y="426"/>
                </a:lnTo>
                <a:lnTo>
                  <a:pt x="146" y="433"/>
                </a:lnTo>
                <a:lnTo>
                  <a:pt x="130" y="441"/>
                </a:lnTo>
                <a:lnTo>
                  <a:pt x="115" y="451"/>
                </a:lnTo>
                <a:lnTo>
                  <a:pt x="102" y="456"/>
                </a:lnTo>
                <a:lnTo>
                  <a:pt x="90" y="462"/>
                </a:lnTo>
                <a:lnTo>
                  <a:pt x="77" y="468"/>
                </a:lnTo>
                <a:lnTo>
                  <a:pt x="65" y="474"/>
                </a:lnTo>
                <a:lnTo>
                  <a:pt x="55" y="478"/>
                </a:lnTo>
                <a:lnTo>
                  <a:pt x="46" y="479"/>
                </a:lnTo>
                <a:lnTo>
                  <a:pt x="38" y="483"/>
                </a:lnTo>
                <a:lnTo>
                  <a:pt x="30" y="485"/>
                </a:lnTo>
                <a:lnTo>
                  <a:pt x="23" y="485"/>
                </a:lnTo>
                <a:lnTo>
                  <a:pt x="17" y="485"/>
                </a:lnTo>
                <a:lnTo>
                  <a:pt x="11" y="485"/>
                </a:lnTo>
                <a:lnTo>
                  <a:pt x="7" y="485"/>
                </a:lnTo>
                <a:lnTo>
                  <a:pt x="4" y="483"/>
                </a:lnTo>
                <a:lnTo>
                  <a:pt x="2" y="481"/>
                </a:lnTo>
                <a:lnTo>
                  <a:pt x="0" y="479"/>
                </a:lnTo>
                <a:lnTo>
                  <a:pt x="0" y="476"/>
                </a:lnTo>
                <a:lnTo>
                  <a:pt x="0" y="470"/>
                </a:lnTo>
                <a:lnTo>
                  <a:pt x="4" y="464"/>
                </a:lnTo>
                <a:lnTo>
                  <a:pt x="7" y="456"/>
                </a:lnTo>
                <a:lnTo>
                  <a:pt x="13" y="447"/>
                </a:lnTo>
                <a:lnTo>
                  <a:pt x="21" y="437"/>
                </a:lnTo>
                <a:lnTo>
                  <a:pt x="29" y="428"/>
                </a:lnTo>
                <a:lnTo>
                  <a:pt x="38" y="416"/>
                </a:lnTo>
                <a:lnTo>
                  <a:pt x="50" y="403"/>
                </a:lnTo>
                <a:lnTo>
                  <a:pt x="61" y="387"/>
                </a:lnTo>
                <a:lnTo>
                  <a:pt x="77" y="372"/>
                </a:lnTo>
                <a:lnTo>
                  <a:pt x="92" y="357"/>
                </a:lnTo>
                <a:lnTo>
                  <a:pt x="107" y="339"/>
                </a:lnTo>
                <a:lnTo>
                  <a:pt x="126" y="320"/>
                </a:lnTo>
                <a:lnTo>
                  <a:pt x="146" y="299"/>
                </a:lnTo>
                <a:lnTo>
                  <a:pt x="165" y="280"/>
                </a:lnTo>
                <a:lnTo>
                  <a:pt x="184" y="259"/>
                </a:lnTo>
                <a:lnTo>
                  <a:pt x="201" y="240"/>
                </a:lnTo>
                <a:lnTo>
                  <a:pt x="217" y="222"/>
                </a:lnTo>
                <a:lnTo>
                  <a:pt x="232" y="205"/>
                </a:lnTo>
                <a:lnTo>
                  <a:pt x="245" y="188"/>
                </a:lnTo>
                <a:lnTo>
                  <a:pt x="259" y="172"/>
                </a:lnTo>
                <a:lnTo>
                  <a:pt x="270" y="157"/>
                </a:lnTo>
                <a:lnTo>
                  <a:pt x="280" y="142"/>
                </a:lnTo>
                <a:lnTo>
                  <a:pt x="290" y="128"/>
                </a:lnTo>
                <a:lnTo>
                  <a:pt x="297" y="117"/>
                </a:lnTo>
                <a:lnTo>
                  <a:pt x="303" y="105"/>
                </a:lnTo>
                <a:lnTo>
                  <a:pt x="307" y="94"/>
                </a:lnTo>
                <a:lnTo>
                  <a:pt x="311" y="84"/>
                </a:lnTo>
                <a:lnTo>
                  <a:pt x="313" y="76"/>
                </a:lnTo>
                <a:lnTo>
                  <a:pt x="315" y="69"/>
                </a:lnTo>
                <a:lnTo>
                  <a:pt x="315" y="63"/>
                </a:lnTo>
                <a:lnTo>
                  <a:pt x="315" y="55"/>
                </a:lnTo>
                <a:lnTo>
                  <a:pt x="315" y="51"/>
                </a:lnTo>
                <a:lnTo>
                  <a:pt x="315" y="46"/>
                </a:lnTo>
                <a:lnTo>
                  <a:pt x="315" y="36"/>
                </a:lnTo>
                <a:lnTo>
                  <a:pt x="316" y="28"/>
                </a:lnTo>
                <a:lnTo>
                  <a:pt x="316" y="23"/>
                </a:lnTo>
                <a:lnTo>
                  <a:pt x="318" y="17"/>
                </a:lnTo>
                <a:lnTo>
                  <a:pt x="322" y="13"/>
                </a:lnTo>
                <a:lnTo>
                  <a:pt x="326" y="9"/>
                </a:lnTo>
                <a:lnTo>
                  <a:pt x="330" y="3"/>
                </a:lnTo>
                <a:lnTo>
                  <a:pt x="336" y="2"/>
                </a:lnTo>
                <a:lnTo>
                  <a:pt x="341" y="0"/>
                </a:lnTo>
                <a:lnTo>
                  <a:pt x="347" y="0"/>
                </a:lnTo>
                <a:lnTo>
                  <a:pt x="355" y="0"/>
                </a:lnTo>
                <a:lnTo>
                  <a:pt x="363" y="2"/>
                </a:lnTo>
                <a:lnTo>
                  <a:pt x="368" y="3"/>
                </a:lnTo>
                <a:lnTo>
                  <a:pt x="374" y="3"/>
                </a:lnTo>
                <a:lnTo>
                  <a:pt x="380" y="5"/>
                </a:lnTo>
                <a:lnTo>
                  <a:pt x="386" y="9"/>
                </a:lnTo>
                <a:lnTo>
                  <a:pt x="399" y="13"/>
                </a:lnTo>
                <a:lnTo>
                  <a:pt x="411" y="19"/>
                </a:lnTo>
                <a:lnTo>
                  <a:pt x="422" y="26"/>
                </a:lnTo>
                <a:lnTo>
                  <a:pt x="434" y="36"/>
                </a:lnTo>
                <a:lnTo>
                  <a:pt x="445" y="46"/>
                </a:lnTo>
                <a:lnTo>
                  <a:pt x="457" y="55"/>
                </a:lnTo>
                <a:lnTo>
                  <a:pt x="470" y="69"/>
                </a:lnTo>
                <a:lnTo>
                  <a:pt x="483" y="82"/>
                </a:lnTo>
                <a:lnTo>
                  <a:pt x="489" y="88"/>
                </a:lnTo>
                <a:lnTo>
                  <a:pt x="495" y="94"/>
                </a:lnTo>
                <a:lnTo>
                  <a:pt x="501" y="99"/>
                </a:lnTo>
                <a:lnTo>
                  <a:pt x="505" y="105"/>
                </a:lnTo>
                <a:lnTo>
                  <a:pt x="514" y="113"/>
                </a:lnTo>
                <a:lnTo>
                  <a:pt x="520" y="121"/>
                </a:lnTo>
                <a:lnTo>
                  <a:pt x="524" y="126"/>
                </a:lnTo>
                <a:lnTo>
                  <a:pt x="528" y="132"/>
                </a:lnTo>
                <a:lnTo>
                  <a:pt x="530" y="138"/>
                </a:lnTo>
                <a:lnTo>
                  <a:pt x="531" y="142"/>
                </a:lnTo>
                <a:lnTo>
                  <a:pt x="530" y="144"/>
                </a:lnTo>
                <a:lnTo>
                  <a:pt x="528" y="147"/>
                </a:lnTo>
                <a:lnTo>
                  <a:pt x="526" y="153"/>
                </a:lnTo>
                <a:lnTo>
                  <a:pt x="522" y="157"/>
                </a:lnTo>
                <a:lnTo>
                  <a:pt x="516" y="163"/>
                </a:lnTo>
                <a:lnTo>
                  <a:pt x="510" y="170"/>
                </a:lnTo>
                <a:lnTo>
                  <a:pt x="505" y="178"/>
                </a:lnTo>
                <a:lnTo>
                  <a:pt x="495" y="186"/>
                </a:lnTo>
                <a:lnTo>
                  <a:pt x="487" y="193"/>
                </a:lnTo>
                <a:lnTo>
                  <a:pt x="476" y="203"/>
                </a:lnTo>
                <a:lnTo>
                  <a:pt x="466" y="215"/>
                </a:lnTo>
                <a:lnTo>
                  <a:pt x="455" y="224"/>
                </a:lnTo>
                <a:lnTo>
                  <a:pt x="441" y="236"/>
                </a:lnTo>
                <a:lnTo>
                  <a:pt x="428" y="249"/>
                </a:lnTo>
                <a:lnTo>
                  <a:pt x="412" y="263"/>
                </a:lnTo>
                <a:lnTo>
                  <a:pt x="399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53"/>
          <p:cNvSpPr/>
          <p:nvPr/>
        </p:nvSpPr>
        <p:spPr>
          <a:xfrm>
            <a:off x="6070680" y="4116240"/>
            <a:ext cx="226800" cy="360360"/>
          </a:xfrm>
          <a:custGeom>
            <a:avLst/>
            <a:gdLst/>
            <a:ahLst/>
            <a:rect l="l" t="t" r="r" b="b"/>
            <a:pathLst>
              <a:path w="286" h="455">
                <a:moveTo>
                  <a:pt x="9" y="6"/>
                </a:moveTo>
                <a:lnTo>
                  <a:pt x="11" y="4"/>
                </a:lnTo>
                <a:lnTo>
                  <a:pt x="13" y="2"/>
                </a:lnTo>
                <a:lnTo>
                  <a:pt x="17" y="2"/>
                </a:lnTo>
                <a:lnTo>
                  <a:pt x="21" y="0"/>
                </a:lnTo>
                <a:lnTo>
                  <a:pt x="31" y="0"/>
                </a:lnTo>
                <a:lnTo>
                  <a:pt x="42" y="2"/>
                </a:lnTo>
                <a:lnTo>
                  <a:pt x="54" y="6"/>
                </a:lnTo>
                <a:lnTo>
                  <a:pt x="67" y="10"/>
                </a:lnTo>
                <a:lnTo>
                  <a:pt x="80" y="14"/>
                </a:lnTo>
                <a:lnTo>
                  <a:pt x="94" y="17"/>
                </a:lnTo>
                <a:lnTo>
                  <a:pt x="100" y="23"/>
                </a:lnTo>
                <a:lnTo>
                  <a:pt x="107" y="29"/>
                </a:lnTo>
                <a:lnTo>
                  <a:pt x="115" y="35"/>
                </a:lnTo>
                <a:lnTo>
                  <a:pt x="123" y="40"/>
                </a:lnTo>
                <a:lnTo>
                  <a:pt x="138" y="56"/>
                </a:lnTo>
                <a:lnTo>
                  <a:pt x="155" y="71"/>
                </a:lnTo>
                <a:lnTo>
                  <a:pt x="173" y="88"/>
                </a:lnTo>
                <a:lnTo>
                  <a:pt x="190" y="108"/>
                </a:lnTo>
                <a:lnTo>
                  <a:pt x="207" y="129"/>
                </a:lnTo>
                <a:lnTo>
                  <a:pt x="226" y="152"/>
                </a:lnTo>
                <a:lnTo>
                  <a:pt x="238" y="175"/>
                </a:lnTo>
                <a:lnTo>
                  <a:pt x="249" y="198"/>
                </a:lnTo>
                <a:lnTo>
                  <a:pt x="261" y="221"/>
                </a:lnTo>
                <a:lnTo>
                  <a:pt x="269" y="242"/>
                </a:lnTo>
                <a:lnTo>
                  <a:pt x="276" y="265"/>
                </a:lnTo>
                <a:lnTo>
                  <a:pt x="278" y="277"/>
                </a:lnTo>
                <a:lnTo>
                  <a:pt x="280" y="288"/>
                </a:lnTo>
                <a:lnTo>
                  <a:pt x="282" y="300"/>
                </a:lnTo>
                <a:lnTo>
                  <a:pt x="284" y="311"/>
                </a:lnTo>
                <a:lnTo>
                  <a:pt x="286" y="323"/>
                </a:lnTo>
                <a:lnTo>
                  <a:pt x="286" y="334"/>
                </a:lnTo>
                <a:lnTo>
                  <a:pt x="286" y="346"/>
                </a:lnTo>
                <a:lnTo>
                  <a:pt x="284" y="355"/>
                </a:lnTo>
                <a:lnTo>
                  <a:pt x="284" y="365"/>
                </a:lnTo>
                <a:lnTo>
                  <a:pt x="284" y="374"/>
                </a:lnTo>
                <a:lnTo>
                  <a:pt x="282" y="384"/>
                </a:lnTo>
                <a:lnTo>
                  <a:pt x="280" y="392"/>
                </a:lnTo>
                <a:lnTo>
                  <a:pt x="280" y="399"/>
                </a:lnTo>
                <a:lnTo>
                  <a:pt x="278" y="407"/>
                </a:lnTo>
                <a:lnTo>
                  <a:pt x="276" y="413"/>
                </a:lnTo>
                <a:lnTo>
                  <a:pt x="274" y="419"/>
                </a:lnTo>
                <a:lnTo>
                  <a:pt x="272" y="424"/>
                </a:lnTo>
                <a:lnTo>
                  <a:pt x="270" y="430"/>
                </a:lnTo>
                <a:lnTo>
                  <a:pt x="269" y="434"/>
                </a:lnTo>
                <a:lnTo>
                  <a:pt x="267" y="438"/>
                </a:lnTo>
                <a:lnTo>
                  <a:pt x="263" y="440"/>
                </a:lnTo>
                <a:lnTo>
                  <a:pt x="261" y="444"/>
                </a:lnTo>
                <a:lnTo>
                  <a:pt x="257" y="447"/>
                </a:lnTo>
                <a:lnTo>
                  <a:pt x="251" y="451"/>
                </a:lnTo>
                <a:lnTo>
                  <a:pt x="247" y="453"/>
                </a:lnTo>
                <a:lnTo>
                  <a:pt x="242" y="455"/>
                </a:lnTo>
                <a:lnTo>
                  <a:pt x="236" y="455"/>
                </a:lnTo>
                <a:lnTo>
                  <a:pt x="230" y="455"/>
                </a:lnTo>
                <a:lnTo>
                  <a:pt x="224" y="455"/>
                </a:lnTo>
                <a:lnTo>
                  <a:pt x="217" y="453"/>
                </a:lnTo>
                <a:lnTo>
                  <a:pt x="211" y="451"/>
                </a:lnTo>
                <a:lnTo>
                  <a:pt x="205" y="449"/>
                </a:lnTo>
                <a:lnTo>
                  <a:pt x="198" y="445"/>
                </a:lnTo>
                <a:lnTo>
                  <a:pt x="192" y="442"/>
                </a:lnTo>
                <a:lnTo>
                  <a:pt x="186" y="436"/>
                </a:lnTo>
                <a:lnTo>
                  <a:pt x="178" y="432"/>
                </a:lnTo>
                <a:lnTo>
                  <a:pt x="173" y="424"/>
                </a:lnTo>
                <a:lnTo>
                  <a:pt x="165" y="419"/>
                </a:lnTo>
                <a:lnTo>
                  <a:pt x="151" y="405"/>
                </a:lnTo>
                <a:lnTo>
                  <a:pt x="138" y="390"/>
                </a:lnTo>
                <a:lnTo>
                  <a:pt x="125" y="372"/>
                </a:lnTo>
                <a:lnTo>
                  <a:pt x="113" y="357"/>
                </a:lnTo>
                <a:lnTo>
                  <a:pt x="100" y="340"/>
                </a:lnTo>
                <a:lnTo>
                  <a:pt x="88" y="321"/>
                </a:lnTo>
                <a:lnTo>
                  <a:pt x="78" y="303"/>
                </a:lnTo>
                <a:lnTo>
                  <a:pt x="69" y="286"/>
                </a:lnTo>
                <a:lnTo>
                  <a:pt x="65" y="278"/>
                </a:lnTo>
                <a:lnTo>
                  <a:pt x="59" y="271"/>
                </a:lnTo>
                <a:lnTo>
                  <a:pt x="55" y="261"/>
                </a:lnTo>
                <a:lnTo>
                  <a:pt x="52" y="253"/>
                </a:lnTo>
                <a:lnTo>
                  <a:pt x="46" y="244"/>
                </a:lnTo>
                <a:lnTo>
                  <a:pt x="42" y="234"/>
                </a:lnTo>
                <a:lnTo>
                  <a:pt x="34" y="213"/>
                </a:lnTo>
                <a:lnTo>
                  <a:pt x="27" y="192"/>
                </a:lnTo>
                <a:lnTo>
                  <a:pt x="19" y="167"/>
                </a:lnTo>
                <a:lnTo>
                  <a:pt x="13" y="142"/>
                </a:lnTo>
                <a:lnTo>
                  <a:pt x="9" y="115"/>
                </a:lnTo>
                <a:lnTo>
                  <a:pt x="6" y="102"/>
                </a:lnTo>
                <a:lnTo>
                  <a:pt x="6" y="90"/>
                </a:lnTo>
                <a:lnTo>
                  <a:pt x="4" y="79"/>
                </a:lnTo>
                <a:lnTo>
                  <a:pt x="2" y="67"/>
                </a:lnTo>
                <a:lnTo>
                  <a:pt x="2" y="58"/>
                </a:lnTo>
                <a:lnTo>
                  <a:pt x="0" y="48"/>
                </a:lnTo>
                <a:lnTo>
                  <a:pt x="0" y="40"/>
                </a:lnTo>
                <a:lnTo>
                  <a:pt x="0" y="33"/>
                </a:lnTo>
                <a:lnTo>
                  <a:pt x="0" y="27"/>
                </a:lnTo>
                <a:lnTo>
                  <a:pt x="0" y="21"/>
                </a:lnTo>
                <a:lnTo>
                  <a:pt x="2" y="17"/>
                </a:lnTo>
                <a:lnTo>
                  <a:pt x="2" y="14"/>
                </a:lnTo>
                <a:lnTo>
                  <a:pt x="4" y="10"/>
                </a:lnTo>
                <a:lnTo>
                  <a:pt x="4" y="8"/>
                </a:lnTo>
                <a:lnTo>
                  <a:pt x="6" y="6"/>
                </a:lnTo>
                <a:lnTo>
                  <a:pt x="9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154"/>
          <p:cNvSpPr/>
          <p:nvPr/>
        </p:nvSpPr>
        <p:spPr>
          <a:xfrm>
            <a:off x="5454720" y="4235400"/>
            <a:ext cx="738000" cy="425520"/>
          </a:xfrm>
          <a:custGeom>
            <a:avLst/>
            <a:gdLst/>
            <a:ahLst/>
            <a:rect l="l" t="t" r="r" b="b"/>
            <a:pathLst>
              <a:path w="931" h="535">
                <a:moveTo>
                  <a:pt x="931" y="84"/>
                </a:moveTo>
                <a:lnTo>
                  <a:pt x="887" y="113"/>
                </a:lnTo>
                <a:lnTo>
                  <a:pt x="843" y="140"/>
                </a:lnTo>
                <a:lnTo>
                  <a:pt x="803" y="167"/>
                </a:lnTo>
                <a:lnTo>
                  <a:pt x="762" y="194"/>
                </a:lnTo>
                <a:lnTo>
                  <a:pt x="722" y="217"/>
                </a:lnTo>
                <a:lnTo>
                  <a:pt x="686" y="242"/>
                </a:lnTo>
                <a:lnTo>
                  <a:pt x="649" y="265"/>
                </a:lnTo>
                <a:lnTo>
                  <a:pt x="615" y="286"/>
                </a:lnTo>
                <a:lnTo>
                  <a:pt x="580" y="307"/>
                </a:lnTo>
                <a:lnTo>
                  <a:pt x="547" y="328"/>
                </a:lnTo>
                <a:lnTo>
                  <a:pt x="517" y="347"/>
                </a:lnTo>
                <a:lnTo>
                  <a:pt x="486" y="364"/>
                </a:lnTo>
                <a:lnTo>
                  <a:pt x="457" y="382"/>
                </a:lnTo>
                <a:lnTo>
                  <a:pt x="430" y="399"/>
                </a:lnTo>
                <a:lnTo>
                  <a:pt x="405" y="414"/>
                </a:lnTo>
                <a:lnTo>
                  <a:pt x="380" y="430"/>
                </a:lnTo>
                <a:lnTo>
                  <a:pt x="357" y="443"/>
                </a:lnTo>
                <a:lnTo>
                  <a:pt x="334" y="455"/>
                </a:lnTo>
                <a:lnTo>
                  <a:pt x="313" y="468"/>
                </a:lnTo>
                <a:lnTo>
                  <a:pt x="294" y="478"/>
                </a:lnTo>
                <a:lnTo>
                  <a:pt x="277" y="487"/>
                </a:lnTo>
                <a:lnTo>
                  <a:pt x="260" y="497"/>
                </a:lnTo>
                <a:lnTo>
                  <a:pt x="244" y="505"/>
                </a:lnTo>
                <a:lnTo>
                  <a:pt x="229" y="512"/>
                </a:lnTo>
                <a:lnTo>
                  <a:pt x="215" y="518"/>
                </a:lnTo>
                <a:lnTo>
                  <a:pt x="204" y="524"/>
                </a:lnTo>
                <a:lnTo>
                  <a:pt x="194" y="528"/>
                </a:lnTo>
                <a:lnTo>
                  <a:pt x="185" y="531"/>
                </a:lnTo>
                <a:lnTo>
                  <a:pt x="177" y="533"/>
                </a:lnTo>
                <a:lnTo>
                  <a:pt x="169" y="533"/>
                </a:lnTo>
                <a:lnTo>
                  <a:pt x="166" y="535"/>
                </a:lnTo>
                <a:lnTo>
                  <a:pt x="162" y="533"/>
                </a:lnTo>
                <a:lnTo>
                  <a:pt x="154" y="533"/>
                </a:lnTo>
                <a:lnTo>
                  <a:pt x="146" y="533"/>
                </a:lnTo>
                <a:lnTo>
                  <a:pt x="141" y="531"/>
                </a:lnTo>
                <a:lnTo>
                  <a:pt x="133" y="530"/>
                </a:lnTo>
                <a:lnTo>
                  <a:pt x="127" y="526"/>
                </a:lnTo>
                <a:lnTo>
                  <a:pt x="119" y="524"/>
                </a:lnTo>
                <a:lnTo>
                  <a:pt x="114" y="520"/>
                </a:lnTo>
                <a:lnTo>
                  <a:pt x="106" y="514"/>
                </a:lnTo>
                <a:lnTo>
                  <a:pt x="100" y="508"/>
                </a:lnTo>
                <a:lnTo>
                  <a:pt x="93" y="503"/>
                </a:lnTo>
                <a:lnTo>
                  <a:pt x="85" y="495"/>
                </a:lnTo>
                <a:lnTo>
                  <a:pt x="79" y="487"/>
                </a:lnTo>
                <a:lnTo>
                  <a:pt x="71" y="480"/>
                </a:lnTo>
                <a:lnTo>
                  <a:pt x="66" y="470"/>
                </a:lnTo>
                <a:lnTo>
                  <a:pt x="58" y="460"/>
                </a:lnTo>
                <a:lnTo>
                  <a:pt x="52" y="449"/>
                </a:lnTo>
                <a:lnTo>
                  <a:pt x="45" y="439"/>
                </a:lnTo>
                <a:lnTo>
                  <a:pt x="37" y="432"/>
                </a:lnTo>
                <a:lnTo>
                  <a:pt x="29" y="422"/>
                </a:lnTo>
                <a:lnTo>
                  <a:pt x="23" y="414"/>
                </a:lnTo>
                <a:lnTo>
                  <a:pt x="18" y="407"/>
                </a:lnTo>
                <a:lnTo>
                  <a:pt x="14" y="399"/>
                </a:lnTo>
                <a:lnTo>
                  <a:pt x="10" y="391"/>
                </a:lnTo>
                <a:lnTo>
                  <a:pt x="6" y="386"/>
                </a:lnTo>
                <a:lnTo>
                  <a:pt x="4" y="378"/>
                </a:lnTo>
                <a:lnTo>
                  <a:pt x="2" y="372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0" y="349"/>
                </a:lnTo>
                <a:lnTo>
                  <a:pt x="2" y="343"/>
                </a:lnTo>
                <a:lnTo>
                  <a:pt x="4" y="340"/>
                </a:lnTo>
                <a:lnTo>
                  <a:pt x="6" y="338"/>
                </a:lnTo>
                <a:lnTo>
                  <a:pt x="10" y="336"/>
                </a:lnTo>
                <a:lnTo>
                  <a:pt x="14" y="332"/>
                </a:lnTo>
                <a:lnTo>
                  <a:pt x="18" y="330"/>
                </a:lnTo>
                <a:lnTo>
                  <a:pt x="22" y="328"/>
                </a:lnTo>
                <a:lnTo>
                  <a:pt x="27" y="326"/>
                </a:lnTo>
                <a:lnTo>
                  <a:pt x="39" y="322"/>
                </a:lnTo>
                <a:lnTo>
                  <a:pt x="52" y="320"/>
                </a:lnTo>
                <a:lnTo>
                  <a:pt x="68" y="316"/>
                </a:lnTo>
                <a:lnTo>
                  <a:pt x="83" y="316"/>
                </a:lnTo>
                <a:lnTo>
                  <a:pt x="100" y="315"/>
                </a:lnTo>
                <a:lnTo>
                  <a:pt x="127" y="315"/>
                </a:lnTo>
                <a:lnTo>
                  <a:pt x="141" y="315"/>
                </a:lnTo>
                <a:lnTo>
                  <a:pt x="152" y="315"/>
                </a:lnTo>
                <a:lnTo>
                  <a:pt x="166" y="315"/>
                </a:lnTo>
                <a:lnTo>
                  <a:pt x="177" y="315"/>
                </a:lnTo>
                <a:lnTo>
                  <a:pt x="187" y="315"/>
                </a:lnTo>
                <a:lnTo>
                  <a:pt x="196" y="315"/>
                </a:lnTo>
                <a:lnTo>
                  <a:pt x="198" y="315"/>
                </a:lnTo>
                <a:lnTo>
                  <a:pt x="202" y="315"/>
                </a:lnTo>
                <a:lnTo>
                  <a:pt x="206" y="313"/>
                </a:lnTo>
                <a:lnTo>
                  <a:pt x="213" y="311"/>
                </a:lnTo>
                <a:lnTo>
                  <a:pt x="219" y="307"/>
                </a:lnTo>
                <a:lnTo>
                  <a:pt x="229" y="303"/>
                </a:lnTo>
                <a:lnTo>
                  <a:pt x="238" y="299"/>
                </a:lnTo>
                <a:lnTo>
                  <a:pt x="250" y="295"/>
                </a:lnTo>
                <a:lnTo>
                  <a:pt x="263" y="290"/>
                </a:lnTo>
                <a:lnTo>
                  <a:pt x="279" y="284"/>
                </a:lnTo>
                <a:lnTo>
                  <a:pt x="294" y="278"/>
                </a:lnTo>
                <a:lnTo>
                  <a:pt x="311" y="270"/>
                </a:lnTo>
                <a:lnTo>
                  <a:pt x="329" y="263"/>
                </a:lnTo>
                <a:lnTo>
                  <a:pt x="350" y="255"/>
                </a:lnTo>
                <a:lnTo>
                  <a:pt x="371" y="245"/>
                </a:lnTo>
                <a:lnTo>
                  <a:pt x="392" y="236"/>
                </a:lnTo>
                <a:lnTo>
                  <a:pt x="417" y="226"/>
                </a:lnTo>
                <a:lnTo>
                  <a:pt x="442" y="215"/>
                </a:lnTo>
                <a:lnTo>
                  <a:pt x="469" y="203"/>
                </a:lnTo>
                <a:lnTo>
                  <a:pt x="496" y="192"/>
                </a:lnTo>
                <a:lnTo>
                  <a:pt x="524" y="178"/>
                </a:lnTo>
                <a:lnTo>
                  <a:pt x="555" y="167"/>
                </a:lnTo>
                <a:lnTo>
                  <a:pt x="588" y="151"/>
                </a:lnTo>
                <a:lnTo>
                  <a:pt x="620" y="138"/>
                </a:lnTo>
                <a:lnTo>
                  <a:pt x="655" y="123"/>
                </a:lnTo>
                <a:lnTo>
                  <a:pt x="690" y="107"/>
                </a:lnTo>
                <a:lnTo>
                  <a:pt x="728" y="90"/>
                </a:lnTo>
                <a:lnTo>
                  <a:pt x="766" y="73"/>
                </a:lnTo>
                <a:lnTo>
                  <a:pt x="805" y="55"/>
                </a:lnTo>
                <a:lnTo>
                  <a:pt x="845" y="38"/>
                </a:lnTo>
                <a:lnTo>
                  <a:pt x="887" y="19"/>
                </a:lnTo>
                <a:lnTo>
                  <a:pt x="931" y="0"/>
                </a:lnTo>
                <a:lnTo>
                  <a:pt x="931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55"/>
          <p:cNvSpPr/>
          <p:nvPr/>
        </p:nvSpPr>
        <p:spPr>
          <a:xfrm>
            <a:off x="5775480" y="3044880"/>
            <a:ext cx="239400" cy="1374840"/>
          </a:xfrm>
          <a:custGeom>
            <a:avLst/>
            <a:gdLst/>
            <a:ahLst/>
            <a:rect l="l" t="t" r="r" b="b"/>
            <a:pathLst>
              <a:path w="302" h="1731">
                <a:moveTo>
                  <a:pt x="22" y="92"/>
                </a:moveTo>
                <a:lnTo>
                  <a:pt x="16" y="86"/>
                </a:lnTo>
                <a:lnTo>
                  <a:pt x="12" y="78"/>
                </a:lnTo>
                <a:lnTo>
                  <a:pt x="10" y="73"/>
                </a:lnTo>
                <a:lnTo>
                  <a:pt x="6" y="67"/>
                </a:lnTo>
                <a:lnTo>
                  <a:pt x="4" y="61"/>
                </a:lnTo>
                <a:lnTo>
                  <a:pt x="2" y="55"/>
                </a:lnTo>
                <a:lnTo>
                  <a:pt x="0" y="46"/>
                </a:lnTo>
                <a:lnTo>
                  <a:pt x="0" y="36"/>
                </a:lnTo>
                <a:lnTo>
                  <a:pt x="2" y="27"/>
                </a:lnTo>
                <a:lnTo>
                  <a:pt x="4" y="17"/>
                </a:lnTo>
                <a:lnTo>
                  <a:pt x="8" y="7"/>
                </a:lnTo>
                <a:lnTo>
                  <a:pt x="10" y="5"/>
                </a:lnTo>
                <a:lnTo>
                  <a:pt x="14" y="4"/>
                </a:lnTo>
                <a:lnTo>
                  <a:pt x="18" y="2"/>
                </a:lnTo>
                <a:lnTo>
                  <a:pt x="22" y="0"/>
                </a:lnTo>
                <a:lnTo>
                  <a:pt x="27" y="0"/>
                </a:lnTo>
                <a:lnTo>
                  <a:pt x="33" y="0"/>
                </a:lnTo>
                <a:lnTo>
                  <a:pt x="41" y="0"/>
                </a:lnTo>
                <a:lnTo>
                  <a:pt x="46" y="0"/>
                </a:lnTo>
                <a:lnTo>
                  <a:pt x="56" y="0"/>
                </a:lnTo>
                <a:lnTo>
                  <a:pt x="66" y="2"/>
                </a:lnTo>
                <a:lnTo>
                  <a:pt x="75" y="4"/>
                </a:lnTo>
                <a:lnTo>
                  <a:pt x="87" y="5"/>
                </a:lnTo>
                <a:lnTo>
                  <a:pt x="98" y="7"/>
                </a:lnTo>
                <a:lnTo>
                  <a:pt x="112" y="11"/>
                </a:lnTo>
                <a:lnTo>
                  <a:pt x="125" y="15"/>
                </a:lnTo>
                <a:lnTo>
                  <a:pt x="141" y="19"/>
                </a:lnTo>
                <a:lnTo>
                  <a:pt x="154" y="25"/>
                </a:lnTo>
                <a:lnTo>
                  <a:pt x="167" y="29"/>
                </a:lnTo>
                <a:lnTo>
                  <a:pt x="179" y="32"/>
                </a:lnTo>
                <a:lnTo>
                  <a:pt x="190" y="38"/>
                </a:lnTo>
                <a:lnTo>
                  <a:pt x="202" y="42"/>
                </a:lnTo>
                <a:lnTo>
                  <a:pt x="212" y="46"/>
                </a:lnTo>
                <a:lnTo>
                  <a:pt x="221" y="50"/>
                </a:lnTo>
                <a:lnTo>
                  <a:pt x="231" y="55"/>
                </a:lnTo>
                <a:lnTo>
                  <a:pt x="240" y="59"/>
                </a:lnTo>
                <a:lnTo>
                  <a:pt x="248" y="63"/>
                </a:lnTo>
                <a:lnTo>
                  <a:pt x="256" y="65"/>
                </a:lnTo>
                <a:lnTo>
                  <a:pt x="263" y="69"/>
                </a:lnTo>
                <a:lnTo>
                  <a:pt x="269" y="73"/>
                </a:lnTo>
                <a:lnTo>
                  <a:pt x="275" y="75"/>
                </a:lnTo>
                <a:lnTo>
                  <a:pt x="281" y="78"/>
                </a:lnTo>
                <a:lnTo>
                  <a:pt x="285" y="80"/>
                </a:lnTo>
                <a:lnTo>
                  <a:pt x="290" y="90"/>
                </a:lnTo>
                <a:lnTo>
                  <a:pt x="294" y="101"/>
                </a:lnTo>
                <a:lnTo>
                  <a:pt x="298" y="113"/>
                </a:lnTo>
                <a:lnTo>
                  <a:pt x="300" y="124"/>
                </a:lnTo>
                <a:lnTo>
                  <a:pt x="302" y="138"/>
                </a:lnTo>
                <a:lnTo>
                  <a:pt x="302" y="149"/>
                </a:lnTo>
                <a:lnTo>
                  <a:pt x="302" y="157"/>
                </a:lnTo>
                <a:lnTo>
                  <a:pt x="300" y="163"/>
                </a:lnTo>
                <a:lnTo>
                  <a:pt x="300" y="171"/>
                </a:lnTo>
                <a:lnTo>
                  <a:pt x="298" y="178"/>
                </a:lnTo>
                <a:lnTo>
                  <a:pt x="296" y="184"/>
                </a:lnTo>
                <a:lnTo>
                  <a:pt x="292" y="194"/>
                </a:lnTo>
                <a:lnTo>
                  <a:pt x="290" y="201"/>
                </a:lnTo>
                <a:lnTo>
                  <a:pt x="288" y="211"/>
                </a:lnTo>
                <a:lnTo>
                  <a:pt x="286" y="222"/>
                </a:lnTo>
                <a:lnTo>
                  <a:pt x="285" y="232"/>
                </a:lnTo>
                <a:lnTo>
                  <a:pt x="281" y="244"/>
                </a:lnTo>
                <a:lnTo>
                  <a:pt x="279" y="257"/>
                </a:lnTo>
                <a:lnTo>
                  <a:pt x="277" y="268"/>
                </a:lnTo>
                <a:lnTo>
                  <a:pt x="275" y="282"/>
                </a:lnTo>
                <a:lnTo>
                  <a:pt x="273" y="297"/>
                </a:lnTo>
                <a:lnTo>
                  <a:pt x="269" y="311"/>
                </a:lnTo>
                <a:lnTo>
                  <a:pt x="265" y="339"/>
                </a:lnTo>
                <a:lnTo>
                  <a:pt x="261" y="372"/>
                </a:lnTo>
                <a:lnTo>
                  <a:pt x="260" y="380"/>
                </a:lnTo>
                <a:lnTo>
                  <a:pt x="260" y="391"/>
                </a:lnTo>
                <a:lnTo>
                  <a:pt x="258" y="405"/>
                </a:lnTo>
                <a:lnTo>
                  <a:pt x="258" y="420"/>
                </a:lnTo>
                <a:lnTo>
                  <a:pt x="256" y="437"/>
                </a:lnTo>
                <a:lnTo>
                  <a:pt x="254" y="458"/>
                </a:lnTo>
                <a:lnTo>
                  <a:pt x="254" y="480"/>
                </a:lnTo>
                <a:lnTo>
                  <a:pt x="252" y="503"/>
                </a:lnTo>
                <a:lnTo>
                  <a:pt x="252" y="530"/>
                </a:lnTo>
                <a:lnTo>
                  <a:pt x="250" y="556"/>
                </a:lnTo>
                <a:lnTo>
                  <a:pt x="250" y="587"/>
                </a:lnTo>
                <a:lnTo>
                  <a:pt x="248" y="620"/>
                </a:lnTo>
                <a:lnTo>
                  <a:pt x="248" y="654"/>
                </a:lnTo>
                <a:lnTo>
                  <a:pt x="246" y="691"/>
                </a:lnTo>
                <a:lnTo>
                  <a:pt x="246" y="729"/>
                </a:lnTo>
                <a:lnTo>
                  <a:pt x="244" y="769"/>
                </a:lnTo>
                <a:lnTo>
                  <a:pt x="244" y="812"/>
                </a:lnTo>
                <a:lnTo>
                  <a:pt x="242" y="856"/>
                </a:lnTo>
                <a:lnTo>
                  <a:pt x="242" y="904"/>
                </a:lnTo>
                <a:lnTo>
                  <a:pt x="242" y="952"/>
                </a:lnTo>
                <a:lnTo>
                  <a:pt x="240" y="1002"/>
                </a:lnTo>
                <a:lnTo>
                  <a:pt x="240" y="1055"/>
                </a:lnTo>
                <a:lnTo>
                  <a:pt x="240" y="1111"/>
                </a:lnTo>
                <a:lnTo>
                  <a:pt x="238" y="1167"/>
                </a:lnTo>
                <a:lnTo>
                  <a:pt x="238" y="1226"/>
                </a:lnTo>
                <a:lnTo>
                  <a:pt x="238" y="1288"/>
                </a:lnTo>
                <a:lnTo>
                  <a:pt x="238" y="1349"/>
                </a:lnTo>
                <a:lnTo>
                  <a:pt x="238" y="1414"/>
                </a:lnTo>
                <a:lnTo>
                  <a:pt x="237" y="1482"/>
                </a:lnTo>
                <a:lnTo>
                  <a:pt x="237" y="1551"/>
                </a:lnTo>
                <a:lnTo>
                  <a:pt x="237" y="1622"/>
                </a:lnTo>
                <a:lnTo>
                  <a:pt x="237" y="1695"/>
                </a:lnTo>
                <a:lnTo>
                  <a:pt x="177" y="1714"/>
                </a:lnTo>
                <a:lnTo>
                  <a:pt x="118" y="1731"/>
                </a:lnTo>
                <a:lnTo>
                  <a:pt x="118" y="1652"/>
                </a:lnTo>
                <a:lnTo>
                  <a:pt x="116" y="1574"/>
                </a:lnTo>
                <a:lnTo>
                  <a:pt x="116" y="1499"/>
                </a:lnTo>
                <a:lnTo>
                  <a:pt x="116" y="1426"/>
                </a:lnTo>
                <a:lnTo>
                  <a:pt x="116" y="1355"/>
                </a:lnTo>
                <a:lnTo>
                  <a:pt x="116" y="1286"/>
                </a:lnTo>
                <a:lnTo>
                  <a:pt x="116" y="1221"/>
                </a:lnTo>
                <a:lnTo>
                  <a:pt x="114" y="1155"/>
                </a:lnTo>
                <a:lnTo>
                  <a:pt x="114" y="1094"/>
                </a:lnTo>
                <a:lnTo>
                  <a:pt x="114" y="1034"/>
                </a:lnTo>
                <a:lnTo>
                  <a:pt x="114" y="977"/>
                </a:lnTo>
                <a:lnTo>
                  <a:pt x="112" y="921"/>
                </a:lnTo>
                <a:lnTo>
                  <a:pt x="112" y="867"/>
                </a:lnTo>
                <a:lnTo>
                  <a:pt x="110" y="817"/>
                </a:lnTo>
                <a:lnTo>
                  <a:pt x="110" y="768"/>
                </a:lnTo>
                <a:lnTo>
                  <a:pt x="110" y="721"/>
                </a:lnTo>
                <a:lnTo>
                  <a:pt x="108" y="677"/>
                </a:lnTo>
                <a:lnTo>
                  <a:pt x="108" y="637"/>
                </a:lnTo>
                <a:lnTo>
                  <a:pt x="106" y="597"/>
                </a:lnTo>
                <a:lnTo>
                  <a:pt x="106" y="558"/>
                </a:lnTo>
                <a:lnTo>
                  <a:pt x="104" y="524"/>
                </a:lnTo>
                <a:lnTo>
                  <a:pt x="104" y="491"/>
                </a:lnTo>
                <a:lnTo>
                  <a:pt x="102" y="460"/>
                </a:lnTo>
                <a:lnTo>
                  <a:pt x="102" y="432"/>
                </a:lnTo>
                <a:lnTo>
                  <a:pt x="100" y="407"/>
                </a:lnTo>
                <a:lnTo>
                  <a:pt x="98" y="382"/>
                </a:lnTo>
                <a:lnTo>
                  <a:pt x="98" y="361"/>
                </a:lnTo>
                <a:lnTo>
                  <a:pt x="96" y="341"/>
                </a:lnTo>
                <a:lnTo>
                  <a:pt x="96" y="324"/>
                </a:lnTo>
                <a:lnTo>
                  <a:pt x="94" y="309"/>
                </a:lnTo>
                <a:lnTo>
                  <a:pt x="94" y="297"/>
                </a:lnTo>
                <a:lnTo>
                  <a:pt x="93" y="288"/>
                </a:lnTo>
                <a:lnTo>
                  <a:pt x="91" y="268"/>
                </a:lnTo>
                <a:lnTo>
                  <a:pt x="87" y="251"/>
                </a:lnTo>
                <a:lnTo>
                  <a:pt x="85" y="236"/>
                </a:lnTo>
                <a:lnTo>
                  <a:pt x="81" y="220"/>
                </a:lnTo>
                <a:lnTo>
                  <a:pt x="77" y="205"/>
                </a:lnTo>
                <a:lnTo>
                  <a:pt x="73" y="192"/>
                </a:lnTo>
                <a:lnTo>
                  <a:pt x="70" y="178"/>
                </a:lnTo>
                <a:lnTo>
                  <a:pt x="66" y="167"/>
                </a:lnTo>
                <a:lnTo>
                  <a:pt x="62" y="155"/>
                </a:lnTo>
                <a:lnTo>
                  <a:pt x="56" y="144"/>
                </a:lnTo>
                <a:lnTo>
                  <a:pt x="50" y="134"/>
                </a:lnTo>
                <a:lnTo>
                  <a:pt x="45" y="124"/>
                </a:lnTo>
                <a:lnTo>
                  <a:pt x="39" y="115"/>
                </a:lnTo>
                <a:lnTo>
                  <a:pt x="33" y="107"/>
                </a:lnTo>
                <a:lnTo>
                  <a:pt x="27" y="100"/>
                </a:lnTo>
                <a:lnTo>
                  <a:pt x="22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56"/>
          <p:cNvSpPr/>
          <p:nvPr/>
        </p:nvSpPr>
        <p:spPr>
          <a:xfrm>
            <a:off x="5657760" y="3841920"/>
            <a:ext cx="611280" cy="239400"/>
          </a:xfrm>
          <a:custGeom>
            <a:avLst/>
            <a:gdLst/>
            <a:ahLst/>
            <a:rect l="l" t="t" r="r" b="b"/>
            <a:pathLst>
              <a:path w="769" h="303">
                <a:moveTo>
                  <a:pt x="769" y="36"/>
                </a:moveTo>
                <a:lnTo>
                  <a:pt x="769" y="44"/>
                </a:lnTo>
                <a:lnTo>
                  <a:pt x="769" y="51"/>
                </a:lnTo>
                <a:lnTo>
                  <a:pt x="769" y="57"/>
                </a:lnTo>
                <a:lnTo>
                  <a:pt x="767" y="65"/>
                </a:lnTo>
                <a:lnTo>
                  <a:pt x="765" y="69"/>
                </a:lnTo>
                <a:lnTo>
                  <a:pt x="764" y="74"/>
                </a:lnTo>
                <a:lnTo>
                  <a:pt x="762" y="78"/>
                </a:lnTo>
                <a:lnTo>
                  <a:pt x="758" y="84"/>
                </a:lnTo>
                <a:lnTo>
                  <a:pt x="756" y="84"/>
                </a:lnTo>
                <a:lnTo>
                  <a:pt x="752" y="86"/>
                </a:lnTo>
                <a:lnTo>
                  <a:pt x="748" y="88"/>
                </a:lnTo>
                <a:lnTo>
                  <a:pt x="742" y="92"/>
                </a:lnTo>
                <a:lnTo>
                  <a:pt x="735" y="94"/>
                </a:lnTo>
                <a:lnTo>
                  <a:pt x="727" y="98"/>
                </a:lnTo>
                <a:lnTo>
                  <a:pt x="718" y="99"/>
                </a:lnTo>
                <a:lnTo>
                  <a:pt x="706" y="103"/>
                </a:lnTo>
                <a:lnTo>
                  <a:pt x="693" y="107"/>
                </a:lnTo>
                <a:lnTo>
                  <a:pt x="679" y="113"/>
                </a:lnTo>
                <a:lnTo>
                  <a:pt x="664" y="117"/>
                </a:lnTo>
                <a:lnTo>
                  <a:pt x="648" y="122"/>
                </a:lnTo>
                <a:lnTo>
                  <a:pt x="631" y="128"/>
                </a:lnTo>
                <a:lnTo>
                  <a:pt x="612" y="134"/>
                </a:lnTo>
                <a:lnTo>
                  <a:pt x="593" y="140"/>
                </a:lnTo>
                <a:lnTo>
                  <a:pt x="570" y="147"/>
                </a:lnTo>
                <a:lnTo>
                  <a:pt x="549" y="153"/>
                </a:lnTo>
                <a:lnTo>
                  <a:pt x="524" y="161"/>
                </a:lnTo>
                <a:lnTo>
                  <a:pt x="499" y="169"/>
                </a:lnTo>
                <a:lnTo>
                  <a:pt x="472" y="176"/>
                </a:lnTo>
                <a:lnTo>
                  <a:pt x="445" y="186"/>
                </a:lnTo>
                <a:lnTo>
                  <a:pt x="416" y="193"/>
                </a:lnTo>
                <a:lnTo>
                  <a:pt x="385" y="203"/>
                </a:lnTo>
                <a:lnTo>
                  <a:pt x="355" y="213"/>
                </a:lnTo>
                <a:lnTo>
                  <a:pt x="322" y="222"/>
                </a:lnTo>
                <a:lnTo>
                  <a:pt x="288" y="232"/>
                </a:lnTo>
                <a:lnTo>
                  <a:pt x="253" y="243"/>
                </a:lnTo>
                <a:lnTo>
                  <a:pt x="217" y="255"/>
                </a:lnTo>
                <a:lnTo>
                  <a:pt x="178" y="266"/>
                </a:lnTo>
                <a:lnTo>
                  <a:pt x="140" y="278"/>
                </a:lnTo>
                <a:lnTo>
                  <a:pt x="99" y="289"/>
                </a:lnTo>
                <a:lnTo>
                  <a:pt x="59" y="303"/>
                </a:lnTo>
                <a:lnTo>
                  <a:pt x="44" y="276"/>
                </a:lnTo>
                <a:lnTo>
                  <a:pt x="28" y="247"/>
                </a:lnTo>
                <a:lnTo>
                  <a:pt x="13" y="220"/>
                </a:lnTo>
                <a:lnTo>
                  <a:pt x="0" y="193"/>
                </a:lnTo>
                <a:lnTo>
                  <a:pt x="19" y="190"/>
                </a:lnTo>
                <a:lnTo>
                  <a:pt x="42" y="188"/>
                </a:lnTo>
                <a:lnTo>
                  <a:pt x="63" y="184"/>
                </a:lnTo>
                <a:lnTo>
                  <a:pt x="86" y="180"/>
                </a:lnTo>
                <a:lnTo>
                  <a:pt x="111" y="174"/>
                </a:lnTo>
                <a:lnTo>
                  <a:pt x="136" y="169"/>
                </a:lnTo>
                <a:lnTo>
                  <a:pt x="163" y="163"/>
                </a:lnTo>
                <a:lnTo>
                  <a:pt x="188" y="157"/>
                </a:lnTo>
                <a:lnTo>
                  <a:pt x="217" y="149"/>
                </a:lnTo>
                <a:lnTo>
                  <a:pt x="245" y="142"/>
                </a:lnTo>
                <a:lnTo>
                  <a:pt x="274" y="134"/>
                </a:lnTo>
                <a:lnTo>
                  <a:pt x="303" y="124"/>
                </a:lnTo>
                <a:lnTo>
                  <a:pt x="334" y="115"/>
                </a:lnTo>
                <a:lnTo>
                  <a:pt x="366" y="105"/>
                </a:lnTo>
                <a:lnTo>
                  <a:pt x="399" y="96"/>
                </a:lnTo>
                <a:lnTo>
                  <a:pt x="432" y="84"/>
                </a:lnTo>
                <a:lnTo>
                  <a:pt x="464" y="73"/>
                </a:lnTo>
                <a:lnTo>
                  <a:pt x="497" y="63"/>
                </a:lnTo>
                <a:lnTo>
                  <a:pt x="526" y="53"/>
                </a:lnTo>
                <a:lnTo>
                  <a:pt x="554" y="44"/>
                </a:lnTo>
                <a:lnTo>
                  <a:pt x="579" y="36"/>
                </a:lnTo>
                <a:lnTo>
                  <a:pt x="604" y="30"/>
                </a:lnTo>
                <a:lnTo>
                  <a:pt x="627" y="23"/>
                </a:lnTo>
                <a:lnTo>
                  <a:pt x="646" y="19"/>
                </a:lnTo>
                <a:lnTo>
                  <a:pt x="666" y="13"/>
                </a:lnTo>
                <a:lnTo>
                  <a:pt x="683" y="9"/>
                </a:lnTo>
                <a:lnTo>
                  <a:pt x="698" y="5"/>
                </a:lnTo>
                <a:lnTo>
                  <a:pt x="712" y="3"/>
                </a:lnTo>
                <a:lnTo>
                  <a:pt x="718" y="2"/>
                </a:lnTo>
                <a:lnTo>
                  <a:pt x="723" y="2"/>
                </a:lnTo>
                <a:lnTo>
                  <a:pt x="727" y="0"/>
                </a:lnTo>
                <a:lnTo>
                  <a:pt x="733" y="0"/>
                </a:lnTo>
                <a:lnTo>
                  <a:pt x="737" y="0"/>
                </a:lnTo>
                <a:lnTo>
                  <a:pt x="741" y="0"/>
                </a:lnTo>
                <a:lnTo>
                  <a:pt x="742" y="0"/>
                </a:lnTo>
                <a:lnTo>
                  <a:pt x="746" y="0"/>
                </a:lnTo>
                <a:lnTo>
                  <a:pt x="750" y="0"/>
                </a:lnTo>
                <a:lnTo>
                  <a:pt x="754" y="2"/>
                </a:lnTo>
                <a:lnTo>
                  <a:pt x="758" y="3"/>
                </a:lnTo>
                <a:lnTo>
                  <a:pt x="762" y="7"/>
                </a:lnTo>
                <a:lnTo>
                  <a:pt x="765" y="13"/>
                </a:lnTo>
                <a:lnTo>
                  <a:pt x="767" y="19"/>
                </a:lnTo>
                <a:lnTo>
                  <a:pt x="769" y="26"/>
                </a:lnTo>
                <a:lnTo>
                  <a:pt x="769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57"/>
          <p:cNvSpPr/>
          <p:nvPr/>
        </p:nvSpPr>
        <p:spPr>
          <a:xfrm>
            <a:off x="5581800" y="3494160"/>
            <a:ext cx="792000" cy="414360"/>
          </a:xfrm>
          <a:custGeom>
            <a:avLst/>
            <a:gdLst/>
            <a:ahLst/>
            <a:rect l="l" t="t" r="r" b="b"/>
            <a:pathLst>
              <a:path w="998" h="522">
                <a:moveTo>
                  <a:pt x="829" y="486"/>
                </a:moveTo>
                <a:lnTo>
                  <a:pt x="827" y="486"/>
                </a:lnTo>
                <a:lnTo>
                  <a:pt x="823" y="486"/>
                </a:lnTo>
                <a:lnTo>
                  <a:pt x="819" y="488"/>
                </a:lnTo>
                <a:lnTo>
                  <a:pt x="814" y="488"/>
                </a:lnTo>
                <a:lnTo>
                  <a:pt x="808" y="489"/>
                </a:lnTo>
                <a:lnTo>
                  <a:pt x="802" y="491"/>
                </a:lnTo>
                <a:lnTo>
                  <a:pt x="794" y="493"/>
                </a:lnTo>
                <a:lnTo>
                  <a:pt x="787" y="495"/>
                </a:lnTo>
                <a:lnTo>
                  <a:pt x="779" y="497"/>
                </a:lnTo>
                <a:lnTo>
                  <a:pt x="769" y="499"/>
                </a:lnTo>
                <a:lnTo>
                  <a:pt x="762" y="503"/>
                </a:lnTo>
                <a:lnTo>
                  <a:pt x="752" y="505"/>
                </a:lnTo>
                <a:lnTo>
                  <a:pt x="731" y="512"/>
                </a:lnTo>
                <a:lnTo>
                  <a:pt x="710" y="522"/>
                </a:lnTo>
                <a:lnTo>
                  <a:pt x="710" y="503"/>
                </a:lnTo>
                <a:lnTo>
                  <a:pt x="712" y="486"/>
                </a:lnTo>
                <a:lnTo>
                  <a:pt x="712" y="470"/>
                </a:lnTo>
                <a:lnTo>
                  <a:pt x="714" y="453"/>
                </a:lnTo>
                <a:lnTo>
                  <a:pt x="714" y="438"/>
                </a:lnTo>
                <a:lnTo>
                  <a:pt x="716" y="422"/>
                </a:lnTo>
                <a:lnTo>
                  <a:pt x="716" y="407"/>
                </a:lnTo>
                <a:lnTo>
                  <a:pt x="718" y="392"/>
                </a:lnTo>
                <a:lnTo>
                  <a:pt x="719" y="378"/>
                </a:lnTo>
                <a:lnTo>
                  <a:pt x="719" y="365"/>
                </a:lnTo>
                <a:lnTo>
                  <a:pt x="721" y="351"/>
                </a:lnTo>
                <a:lnTo>
                  <a:pt x="721" y="340"/>
                </a:lnTo>
                <a:lnTo>
                  <a:pt x="723" y="326"/>
                </a:lnTo>
                <a:lnTo>
                  <a:pt x="723" y="315"/>
                </a:lnTo>
                <a:lnTo>
                  <a:pt x="725" y="305"/>
                </a:lnTo>
                <a:lnTo>
                  <a:pt x="725" y="294"/>
                </a:lnTo>
                <a:lnTo>
                  <a:pt x="725" y="284"/>
                </a:lnTo>
                <a:lnTo>
                  <a:pt x="727" y="274"/>
                </a:lnTo>
                <a:lnTo>
                  <a:pt x="727" y="265"/>
                </a:lnTo>
                <a:lnTo>
                  <a:pt x="729" y="257"/>
                </a:lnTo>
                <a:lnTo>
                  <a:pt x="729" y="250"/>
                </a:lnTo>
                <a:lnTo>
                  <a:pt x="729" y="242"/>
                </a:lnTo>
                <a:lnTo>
                  <a:pt x="731" y="234"/>
                </a:lnTo>
                <a:lnTo>
                  <a:pt x="731" y="228"/>
                </a:lnTo>
                <a:lnTo>
                  <a:pt x="731" y="223"/>
                </a:lnTo>
                <a:lnTo>
                  <a:pt x="731" y="217"/>
                </a:lnTo>
                <a:lnTo>
                  <a:pt x="733" y="211"/>
                </a:lnTo>
                <a:lnTo>
                  <a:pt x="733" y="207"/>
                </a:lnTo>
                <a:lnTo>
                  <a:pt x="733" y="203"/>
                </a:lnTo>
                <a:lnTo>
                  <a:pt x="733" y="200"/>
                </a:lnTo>
                <a:lnTo>
                  <a:pt x="733" y="196"/>
                </a:lnTo>
                <a:lnTo>
                  <a:pt x="733" y="194"/>
                </a:lnTo>
                <a:lnTo>
                  <a:pt x="733" y="186"/>
                </a:lnTo>
                <a:lnTo>
                  <a:pt x="733" y="178"/>
                </a:lnTo>
                <a:lnTo>
                  <a:pt x="733" y="171"/>
                </a:lnTo>
                <a:lnTo>
                  <a:pt x="731" y="165"/>
                </a:lnTo>
                <a:lnTo>
                  <a:pt x="729" y="159"/>
                </a:lnTo>
                <a:lnTo>
                  <a:pt x="727" y="155"/>
                </a:lnTo>
                <a:lnTo>
                  <a:pt x="725" y="150"/>
                </a:lnTo>
                <a:lnTo>
                  <a:pt x="721" y="146"/>
                </a:lnTo>
                <a:lnTo>
                  <a:pt x="719" y="144"/>
                </a:lnTo>
                <a:lnTo>
                  <a:pt x="716" y="144"/>
                </a:lnTo>
                <a:lnTo>
                  <a:pt x="712" y="144"/>
                </a:lnTo>
                <a:lnTo>
                  <a:pt x="706" y="144"/>
                </a:lnTo>
                <a:lnTo>
                  <a:pt x="698" y="146"/>
                </a:lnTo>
                <a:lnTo>
                  <a:pt x="691" y="146"/>
                </a:lnTo>
                <a:lnTo>
                  <a:pt x="681" y="148"/>
                </a:lnTo>
                <a:lnTo>
                  <a:pt x="670" y="150"/>
                </a:lnTo>
                <a:lnTo>
                  <a:pt x="656" y="152"/>
                </a:lnTo>
                <a:lnTo>
                  <a:pt x="643" y="155"/>
                </a:lnTo>
                <a:lnTo>
                  <a:pt x="627" y="157"/>
                </a:lnTo>
                <a:lnTo>
                  <a:pt x="610" y="161"/>
                </a:lnTo>
                <a:lnTo>
                  <a:pt x="593" y="167"/>
                </a:lnTo>
                <a:lnTo>
                  <a:pt x="574" y="171"/>
                </a:lnTo>
                <a:lnTo>
                  <a:pt x="552" y="175"/>
                </a:lnTo>
                <a:lnTo>
                  <a:pt x="531" y="180"/>
                </a:lnTo>
                <a:lnTo>
                  <a:pt x="508" y="186"/>
                </a:lnTo>
                <a:lnTo>
                  <a:pt x="483" y="194"/>
                </a:lnTo>
                <a:lnTo>
                  <a:pt x="456" y="200"/>
                </a:lnTo>
                <a:lnTo>
                  <a:pt x="430" y="207"/>
                </a:lnTo>
                <a:lnTo>
                  <a:pt x="401" y="215"/>
                </a:lnTo>
                <a:lnTo>
                  <a:pt x="372" y="223"/>
                </a:lnTo>
                <a:lnTo>
                  <a:pt x="339" y="230"/>
                </a:lnTo>
                <a:lnTo>
                  <a:pt x="307" y="240"/>
                </a:lnTo>
                <a:lnTo>
                  <a:pt x="274" y="250"/>
                </a:lnTo>
                <a:lnTo>
                  <a:pt x="238" y="259"/>
                </a:lnTo>
                <a:lnTo>
                  <a:pt x="201" y="269"/>
                </a:lnTo>
                <a:lnTo>
                  <a:pt x="165" y="280"/>
                </a:lnTo>
                <a:lnTo>
                  <a:pt x="124" y="292"/>
                </a:lnTo>
                <a:lnTo>
                  <a:pt x="84" y="303"/>
                </a:lnTo>
                <a:lnTo>
                  <a:pt x="42" y="315"/>
                </a:lnTo>
                <a:lnTo>
                  <a:pt x="0" y="328"/>
                </a:lnTo>
                <a:lnTo>
                  <a:pt x="0" y="278"/>
                </a:lnTo>
                <a:lnTo>
                  <a:pt x="0" y="230"/>
                </a:lnTo>
                <a:lnTo>
                  <a:pt x="61" y="213"/>
                </a:lnTo>
                <a:lnTo>
                  <a:pt x="123" y="196"/>
                </a:lnTo>
                <a:lnTo>
                  <a:pt x="182" y="180"/>
                </a:lnTo>
                <a:lnTo>
                  <a:pt x="242" y="165"/>
                </a:lnTo>
                <a:lnTo>
                  <a:pt x="297" y="152"/>
                </a:lnTo>
                <a:lnTo>
                  <a:pt x="326" y="144"/>
                </a:lnTo>
                <a:lnTo>
                  <a:pt x="353" y="136"/>
                </a:lnTo>
                <a:lnTo>
                  <a:pt x="380" y="131"/>
                </a:lnTo>
                <a:lnTo>
                  <a:pt x="405" y="123"/>
                </a:lnTo>
                <a:lnTo>
                  <a:pt x="432" y="115"/>
                </a:lnTo>
                <a:lnTo>
                  <a:pt x="456" y="109"/>
                </a:lnTo>
                <a:lnTo>
                  <a:pt x="480" y="102"/>
                </a:lnTo>
                <a:lnTo>
                  <a:pt x="503" y="96"/>
                </a:lnTo>
                <a:lnTo>
                  <a:pt x="524" y="90"/>
                </a:lnTo>
                <a:lnTo>
                  <a:pt x="545" y="84"/>
                </a:lnTo>
                <a:lnTo>
                  <a:pt x="562" y="79"/>
                </a:lnTo>
                <a:lnTo>
                  <a:pt x="579" y="73"/>
                </a:lnTo>
                <a:lnTo>
                  <a:pt x="597" y="67"/>
                </a:lnTo>
                <a:lnTo>
                  <a:pt x="610" y="61"/>
                </a:lnTo>
                <a:lnTo>
                  <a:pt x="625" y="58"/>
                </a:lnTo>
                <a:lnTo>
                  <a:pt x="637" y="52"/>
                </a:lnTo>
                <a:lnTo>
                  <a:pt x="648" y="48"/>
                </a:lnTo>
                <a:lnTo>
                  <a:pt x="658" y="42"/>
                </a:lnTo>
                <a:lnTo>
                  <a:pt x="666" y="38"/>
                </a:lnTo>
                <a:lnTo>
                  <a:pt x="673" y="33"/>
                </a:lnTo>
                <a:lnTo>
                  <a:pt x="679" y="29"/>
                </a:lnTo>
                <a:lnTo>
                  <a:pt x="685" y="25"/>
                </a:lnTo>
                <a:lnTo>
                  <a:pt x="702" y="15"/>
                </a:lnTo>
                <a:lnTo>
                  <a:pt x="712" y="11"/>
                </a:lnTo>
                <a:lnTo>
                  <a:pt x="723" y="8"/>
                </a:lnTo>
                <a:lnTo>
                  <a:pt x="733" y="4"/>
                </a:lnTo>
                <a:lnTo>
                  <a:pt x="744" y="2"/>
                </a:lnTo>
                <a:lnTo>
                  <a:pt x="756" y="0"/>
                </a:lnTo>
                <a:lnTo>
                  <a:pt x="769" y="0"/>
                </a:lnTo>
                <a:lnTo>
                  <a:pt x="773" y="0"/>
                </a:lnTo>
                <a:lnTo>
                  <a:pt x="779" y="0"/>
                </a:lnTo>
                <a:lnTo>
                  <a:pt x="785" y="2"/>
                </a:lnTo>
                <a:lnTo>
                  <a:pt x="790" y="2"/>
                </a:lnTo>
                <a:lnTo>
                  <a:pt x="798" y="4"/>
                </a:lnTo>
                <a:lnTo>
                  <a:pt x="806" y="4"/>
                </a:lnTo>
                <a:lnTo>
                  <a:pt x="821" y="8"/>
                </a:lnTo>
                <a:lnTo>
                  <a:pt x="840" y="11"/>
                </a:lnTo>
                <a:lnTo>
                  <a:pt x="860" y="15"/>
                </a:lnTo>
                <a:lnTo>
                  <a:pt x="879" y="19"/>
                </a:lnTo>
                <a:lnTo>
                  <a:pt x="902" y="25"/>
                </a:lnTo>
                <a:lnTo>
                  <a:pt x="911" y="29"/>
                </a:lnTo>
                <a:lnTo>
                  <a:pt x="923" y="33"/>
                </a:lnTo>
                <a:lnTo>
                  <a:pt x="933" y="38"/>
                </a:lnTo>
                <a:lnTo>
                  <a:pt x="942" y="42"/>
                </a:lnTo>
                <a:lnTo>
                  <a:pt x="950" y="48"/>
                </a:lnTo>
                <a:lnTo>
                  <a:pt x="957" y="52"/>
                </a:lnTo>
                <a:lnTo>
                  <a:pt x="965" y="56"/>
                </a:lnTo>
                <a:lnTo>
                  <a:pt x="973" y="61"/>
                </a:lnTo>
                <a:lnTo>
                  <a:pt x="979" y="65"/>
                </a:lnTo>
                <a:lnTo>
                  <a:pt x="982" y="69"/>
                </a:lnTo>
                <a:lnTo>
                  <a:pt x="988" y="75"/>
                </a:lnTo>
                <a:lnTo>
                  <a:pt x="992" y="79"/>
                </a:lnTo>
                <a:lnTo>
                  <a:pt x="994" y="83"/>
                </a:lnTo>
                <a:lnTo>
                  <a:pt x="996" y="88"/>
                </a:lnTo>
                <a:lnTo>
                  <a:pt x="998" y="92"/>
                </a:lnTo>
                <a:lnTo>
                  <a:pt x="998" y="98"/>
                </a:lnTo>
                <a:lnTo>
                  <a:pt x="998" y="102"/>
                </a:lnTo>
                <a:lnTo>
                  <a:pt x="996" y="106"/>
                </a:lnTo>
                <a:lnTo>
                  <a:pt x="996" y="111"/>
                </a:lnTo>
                <a:lnTo>
                  <a:pt x="994" y="115"/>
                </a:lnTo>
                <a:lnTo>
                  <a:pt x="990" y="121"/>
                </a:lnTo>
                <a:lnTo>
                  <a:pt x="988" y="125"/>
                </a:lnTo>
                <a:lnTo>
                  <a:pt x="980" y="134"/>
                </a:lnTo>
                <a:lnTo>
                  <a:pt x="973" y="146"/>
                </a:lnTo>
                <a:lnTo>
                  <a:pt x="961" y="157"/>
                </a:lnTo>
                <a:lnTo>
                  <a:pt x="950" y="169"/>
                </a:lnTo>
                <a:lnTo>
                  <a:pt x="938" y="182"/>
                </a:lnTo>
                <a:lnTo>
                  <a:pt x="929" y="190"/>
                </a:lnTo>
                <a:lnTo>
                  <a:pt x="921" y="198"/>
                </a:lnTo>
                <a:lnTo>
                  <a:pt x="911" y="209"/>
                </a:lnTo>
                <a:lnTo>
                  <a:pt x="904" y="221"/>
                </a:lnTo>
                <a:lnTo>
                  <a:pt x="896" y="234"/>
                </a:lnTo>
                <a:lnTo>
                  <a:pt x="888" y="250"/>
                </a:lnTo>
                <a:lnTo>
                  <a:pt x="881" y="265"/>
                </a:lnTo>
                <a:lnTo>
                  <a:pt x="875" y="284"/>
                </a:lnTo>
                <a:lnTo>
                  <a:pt x="867" y="303"/>
                </a:lnTo>
                <a:lnTo>
                  <a:pt x="861" y="324"/>
                </a:lnTo>
                <a:lnTo>
                  <a:pt x="856" y="347"/>
                </a:lnTo>
                <a:lnTo>
                  <a:pt x="850" y="372"/>
                </a:lnTo>
                <a:lnTo>
                  <a:pt x="844" y="397"/>
                </a:lnTo>
                <a:lnTo>
                  <a:pt x="838" y="426"/>
                </a:lnTo>
                <a:lnTo>
                  <a:pt x="835" y="455"/>
                </a:lnTo>
                <a:lnTo>
                  <a:pt x="829" y="4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58"/>
          <p:cNvSpPr/>
          <p:nvPr/>
        </p:nvSpPr>
        <p:spPr>
          <a:xfrm>
            <a:off x="5465880" y="3660840"/>
            <a:ext cx="268200" cy="468360"/>
          </a:xfrm>
          <a:custGeom>
            <a:avLst/>
            <a:gdLst/>
            <a:ahLst/>
            <a:rect l="l" t="t" r="r" b="b"/>
            <a:pathLst>
              <a:path w="338" h="591">
                <a:moveTo>
                  <a:pt x="36" y="106"/>
                </a:moveTo>
                <a:lnTo>
                  <a:pt x="31" y="100"/>
                </a:lnTo>
                <a:lnTo>
                  <a:pt x="25" y="92"/>
                </a:lnTo>
                <a:lnTo>
                  <a:pt x="19" y="87"/>
                </a:lnTo>
                <a:lnTo>
                  <a:pt x="13" y="79"/>
                </a:lnTo>
                <a:lnTo>
                  <a:pt x="9" y="73"/>
                </a:lnTo>
                <a:lnTo>
                  <a:pt x="7" y="65"/>
                </a:lnTo>
                <a:lnTo>
                  <a:pt x="4" y="60"/>
                </a:lnTo>
                <a:lnTo>
                  <a:pt x="2" y="54"/>
                </a:lnTo>
                <a:lnTo>
                  <a:pt x="0" y="46"/>
                </a:lnTo>
                <a:lnTo>
                  <a:pt x="0" y="41"/>
                </a:lnTo>
                <a:lnTo>
                  <a:pt x="0" y="35"/>
                </a:lnTo>
                <a:lnTo>
                  <a:pt x="2" y="29"/>
                </a:lnTo>
                <a:lnTo>
                  <a:pt x="2" y="25"/>
                </a:lnTo>
                <a:lnTo>
                  <a:pt x="6" y="19"/>
                </a:lnTo>
                <a:lnTo>
                  <a:pt x="7" y="14"/>
                </a:lnTo>
                <a:lnTo>
                  <a:pt x="13" y="10"/>
                </a:lnTo>
                <a:lnTo>
                  <a:pt x="15" y="8"/>
                </a:lnTo>
                <a:lnTo>
                  <a:pt x="19" y="6"/>
                </a:lnTo>
                <a:lnTo>
                  <a:pt x="25" y="4"/>
                </a:lnTo>
                <a:lnTo>
                  <a:pt x="32" y="2"/>
                </a:lnTo>
                <a:lnTo>
                  <a:pt x="40" y="2"/>
                </a:lnTo>
                <a:lnTo>
                  <a:pt x="50" y="0"/>
                </a:lnTo>
                <a:lnTo>
                  <a:pt x="61" y="0"/>
                </a:lnTo>
                <a:lnTo>
                  <a:pt x="75" y="0"/>
                </a:lnTo>
                <a:lnTo>
                  <a:pt x="88" y="0"/>
                </a:lnTo>
                <a:lnTo>
                  <a:pt x="102" y="0"/>
                </a:lnTo>
                <a:lnTo>
                  <a:pt x="119" y="2"/>
                </a:lnTo>
                <a:lnTo>
                  <a:pt x="136" y="2"/>
                </a:lnTo>
                <a:lnTo>
                  <a:pt x="153" y="4"/>
                </a:lnTo>
                <a:lnTo>
                  <a:pt x="174" y="6"/>
                </a:lnTo>
                <a:lnTo>
                  <a:pt x="196" y="8"/>
                </a:lnTo>
                <a:lnTo>
                  <a:pt x="217" y="10"/>
                </a:lnTo>
                <a:lnTo>
                  <a:pt x="224" y="41"/>
                </a:lnTo>
                <a:lnTo>
                  <a:pt x="232" y="69"/>
                </a:lnTo>
                <a:lnTo>
                  <a:pt x="240" y="98"/>
                </a:lnTo>
                <a:lnTo>
                  <a:pt x="245" y="125"/>
                </a:lnTo>
                <a:lnTo>
                  <a:pt x="251" y="152"/>
                </a:lnTo>
                <a:lnTo>
                  <a:pt x="259" y="179"/>
                </a:lnTo>
                <a:lnTo>
                  <a:pt x="265" y="204"/>
                </a:lnTo>
                <a:lnTo>
                  <a:pt x="270" y="229"/>
                </a:lnTo>
                <a:lnTo>
                  <a:pt x="276" y="252"/>
                </a:lnTo>
                <a:lnTo>
                  <a:pt x="282" y="275"/>
                </a:lnTo>
                <a:lnTo>
                  <a:pt x="286" y="296"/>
                </a:lnTo>
                <a:lnTo>
                  <a:pt x="292" y="317"/>
                </a:lnTo>
                <a:lnTo>
                  <a:pt x="295" y="336"/>
                </a:lnTo>
                <a:lnTo>
                  <a:pt x="299" y="355"/>
                </a:lnTo>
                <a:lnTo>
                  <a:pt x="305" y="373"/>
                </a:lnTo>
                <a:lnTo>
                  <a:pt x="309" y="390"/>
                </a:lnTo>
                <a:lnTo>
                  <a:pt x="311" y="407"/>
                </a:lnTo>
                <a:lnTo>
                  <a:pt x="315" y="422"/>
                </a:lnTo>
                <a:lnTo>
                  <a:pt x="318" y="436"/>
                </a:lnTo>
                <a:lnTo>
                  <a:pt x="320" y="449"/>
                </a:lnTo>
                <a:lnTo>
                  <a:pt x="324" y="463"/>
                </a:lnTo>
                <a:lnTo>
                  <a:pt x="326" y="474"/>
                </a:lnTo>
                <a:lnTo>
                  <a:pt x="328" y="486"/>
                </a:lnTo>
                <a:lnTo>
                  <a:pt x="330" y="495"/>
                </a:lnTo>
                <a:lnTo>
                  <a:pt x="332" y="505"/>
                </a:lnTo>
                <a:lnTo>
                  <a:pt x="334" y="513"/>
                </a:lnTo>
                <a:lnTo>
                  <a:pt x="334" y="520"/>
                </a:lnTo>
                <a:lnTo>
                  <a:pt x="336" y="526"/>
                </a:lnTo>
                <a:lnTo>
                  <a:pt x="336" y="532"/>
                </a:lnTo>
                <a:lnTo>
                  <a:pt x="338" y="538"/>
                </a:lnTo>
                <a:lnTo>
                  <a:pt x="338" y="541"/>
                </a:lnTo>
                <a:lnTo>
                  <a:pt x="338" y="543"/>
                </a:lnTo>
                <a:lnTo>
                  <a:pt x="336" y="549"/>
                </a:lnTo>
                <a:lnTo>
                  <a:pt x="332" y="557"/>
                </a:lnTo>
                <a:lnTo>
                  <a:pt x="330" y="561"/>
                </a:lnTo>
                <a:lnTo>
                  <a:pt x="328" y="566"/>
                </a:lnTo>
                <a:lnTo>
                  <a:pt x="326" y="570"/>
                </a:lnTo>
                <a:lnTo>
                  <a:pt x="324" y="574"/>
                </a:lnTo>
                <a:lnTo>
                  <a:pt x="318" y="582"/>
                </a:lnTo>
                <a:lnTo>
                  <a:pt x="315" y="586"/>
                </a:lnTo>
                <a:lnTo>
                  <a:pt x="311" y="589"/>
                </a:lnTo>
                <a:lnTo>
                  <a:pt x="305" y="591"/>
                </a:lnTo>
                <a:lnTo>
                  <a:pt x="301" y="591"/>
                </a:lnTo>
                <a:lnTo>
                  <a:pt x="297" y="591"/>
                </a:lnTo>
                <a:lnTo>
                  <a:pt x="292" y="589"/>
                </a:lnTo>
                <a:lnTo>
                  <a:pt x="286" y="584"/>
                </a:lnTo>
                <a:lnTo>
                  <a:pt x="280" y="578"/>
                </a:lnTo>
                <a:lnTo>
                  <a:pt x="274" y="570"/>
                </a:lnTo>
                <a:lnTo>
                  <a:pt x="269" y="561"/>
                </a:lnTo>
                <a:lnTo>
                  <a:pt x="263" y="551"/>
                </a:lnTo>
                <a:lnTo>
                  <a:pt x="255" y="538"/>
                </a:lnTo>
                <a:lnTo>
                  <a:pt x="249" y="522"/>
                </a:lnTo>
                <a:lnTo>
                  <a:pt x="242" y="507"/>
                </a:lnTo>
                <a:lnTo>
                  <a:pt x="234" y="490"/>
                </a:lnTo>
                <a:lnTo>
                  <a:pt x="226" y="469"/>
                </a:lnTo>
                <a:lnTo>
                  <a:pt x="219" y="447"/>
                </a:lnTo>
                <a:lnTo>
                  <a:pt x="209" y="424"/>
                </a:lnTo>
                <a:lnTo>
                  <a:pt x="201" y="399"/>
                </a:lnTo>
                <a:lnTo>
                  <a:pt x="194" y="374"/>
                </a:lnTo>
                <a:lnTo>
                  <a:pt x="182" y="350"/>
                </a:lnTo>
                <a:lnTo>
                  <a:pt x="171" y="325"/>
                </a:lnTo>
                <a:lnTo>
                  <a:pt x="161" y="302"/>
                </a:lnTo>
                <a:lnTo>
                  <a:pt x="150" y="280"/>
                </a:lnTo>
                <a:lnTo>
                  <a:pt x="140" y="259"/>
                </a:lnTo>
                <a:lnTo>
                  <a:pt x="130" y="240"/>
                </a:lnTo>
                <a:lnTo>
                  <a:pt x="121" y="221"/>
                </a:lnTo>
                <a:lnTo>
                  <a:pt x="111" y="204"/>
                </a:lnTo>
                <a:lnTo>
                  <a:pt x="102" y="186"/>
                </a:lnTo>
                <a:lnTo>
                  <a:pt x="92" y="171"/>
                </a:lnTo>
                <a:lnTo>
                  <a:pt x="82" y="158"/>
                </a:lnTo>
                <a:lnTo>
                  <a:pt x="73" y="144"/>
                </a:lnTo>
                <a:lnTo>
                  <a:pt x="63" y="133"/>
                </a:lnTo>
                <a:lnTo>
                  <a:pt x="54" y="123"/>
                </a:lnTo>
                <a:lnTo>
                  <a:pt x="46" y="113"/>
                </a:lnTo>
                <a:lnTo>
                  <a:pt x="36" y="10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4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为短撇，上横长，竖要写在竖中线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3"/>
          <p:cNvSpPr/>
          <p:nvPr/>
        </p:nvSpPr>
        <p:spPr>
          <a:xfrm>
            <a:off x="2139840" y="186840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47"/>
          <p:cNvSpPr/>
          <p:nvPr/>
        </p:nvSpPr>
        <p:spPr>
          <a:xfrm>
            <a:off x="6691320" y="3659040"/>
            <a:ext cx="843120" cy="181080"/>
          </a:xfrm>
          <a:custGeom>
            <a:avLst/>
            <a:gdLst/>
            <a:ahLst/>
            <a:rect l="l" t="t" r="r" b="b"/>
            <a:pathLst>
              <a:path w="1063" h="229">
                <a:moveTo>
                  <a:pt x="1063" y="110"/>
                </a:moveTo>
                <a:lnTo>
                  <a:pt x="1062" y="110"/>
                </a:lnTo>
                <a:lnTo>
                  <a:pt x="1062" y="112"/>
                </a:lnTo>
                <a:lnTo>
                  <a:pt x="1060" y="112"/>
                </a:lnTo>
                <a:lnTo>
                  <a:pt x="1056" y="114"/>
                </a:lnTo>
                <a:lnTo>
                  <a:pt x="1054" y="116"/>
                </a:lnTo>
                <a:lnTo>
                  <a:pt x="1050" y="118"/>
                </a:lnTo>
                <a:lnTo>
                  <a:pt x="1044" y="118"/>
                </a:lnTo>
                <a:lnTo>
                  <a:pt x="1038" y="119"/>
                </a:lnTo>
                <a:lnTo>
                  <a:pt x="1033" y="121"/>
                </a:lnTo>
                <a:lnTo>
                  <a:pt x="1025" y="123"/>
                </a:lnTo>
                <a:lnTo>
                  <a:pt x="1017" y="125"/>
                </a:lnTo>
                <a:lnTo>
                  <a:pt x="1010" y="127"/>
                </a:lnTo>
                <a:lnTo>
                  <a:pt x="1000" y="129"/>
                </a:lnTo>
                <a:lnTo>
                  <a:pt x="989" y="131"/>
                </a:lnTo>
                <a:lnTo>
                  <a:pt x="979" y="133"/>
                </a:lnTo>
                <a:lnTo>
                  <a:pt x="967" y="135"/>
                </a:lnTo>
                <a:lnTo>
                  <a:pt x="954" y="139"/>
                </a:lnTo>
                <a:lnTo>
                  <a:pt x="943" y="141"/>
                </a:lnTo>
                <a:lnTo>
                  <a:pt x="927" y="143"/>
                </a:lnTo>
                <a:lnTo>
                  <a:pt x="914" y="144"/>
                </a:lnTo>
                <a:lnTo>
                  <a:pt x="898" y="148"/>
                </a:lnTo>
                <a:lnTo>
                  <a:pt x="881" y="150"/>
                </a:lnTo>
                <a:lnTo>
                  <a:pt x="866" y="152"/>
                </a:lnTo>
                <a:lnTo>
                  <a:pt x="848" y="156"/>
                </a:lnTo>
                <a:lnTo>
                  <a:pt x="829" y="158"/>
                </a:lnTo>
                <a:lnTo>
                  <a:pt x="810" y="162"/>
                </a:lnTo>
                <a:lnTo>
                  <a:pt x="791" y="164"/>
                </a:lnTo>
                <a:lnTo>
                  <a:pt x="770" y="167"/>
                </a:lnTo>
                <a:lnTo>
                  <a:pt x="749" y="171"/>
                </a:lnTo>
                <a:lnTo>
                  <a:pt x="728" y="173"/>
                </a:lnTo>
                <a:lnTo>
                  <a:pt x="705" y="177"/>
                </a:lnTo>
                <a:lnTo>
                  <a:pt x="681" y="181"/>
                </a:lnTo>
                <a:lnTo>
                  <a:pt x="634" y="187"/>
                </a:lnTo>
                <a:lnTo>
                  <a:pt x="586" y="192"/>
                </a:lnTo>
                <a:lnTo>
                  <a:pt x="539" y="198"/>
                </a:lnTo>
                <a:lnTo>
                  <a:pt x="495" y="204"/>
                </a:lnTo>
                <a:lnTo>
                  <a:pt x="449" y="208"/>
                </a:lnTo>
                <a:lnTo>
                  <a:pt x="405" y="212"/>
                </a:lnTo>
                <a:lnTo>
                  <a:pt x="363" y="215"/>
                </a:lnTo>
                <a:lnTo>
                  <a:pt x="319" y="217"/>
                </a:lnTo>
                <a:lnTo>
                  <a:pt x="277" y="221"/>
                </a:lnTo>
                <a:lnTo>
                  <a:pt x="236" y="223"/>
                </a:lnTo>
                <a:lnTo>
                  <a:pt x="194" y="225"/>
                </a:lnTo>
                <a:lnTo>
                  <a:pt x="154" y="227"/>
                </a:lnTo>
                <a:lnTo>
                  <a:pt x="115" y="227"/>
                </a:lnTo>
                <a:lnTo>
                  <a:pt x="77" y="227"/>
                </a:lnTo>
                <a:lnTo>
                  <a:pt x="39" y="229"/>
                </a:lnTo>
                <a:lnTo>
                  <a:pt x="0" y="229"/>
                </a:lnTo>
                <a:lnTo>
                  <a:pt x="0" y="181"/>
                </a:lnTo>
                <a:lnTo>
                  <a:pt x="0" y="133"/>
                </a:lnTo>
                <a:lnTo>
                  <a:pt x="25" y="131"/>
                </a:lnTo>
                <a:lnTo>
                  <a:pt x="50" y="127"/>
                </a:lnTo>
                <a:lnTo>
                  <a:pt x="75" y="123"/>
                </a:lnTo>
                <a:lnTo>
                  <a:pt x="102" y="119"/>
                </a:lnTo>
                <a:lnTo>
                  <a:pt x="129" y="116"/>
                </a:lnTo>
                <a:lnTo>
                  <a:pt x="156" y="110"/>
                </a:lnTo>
                <a:lnTo>
                  <a:pt x="184" y="106"/>
                </a:lnTo>
                <a:lnTo>
                  <a:pt x="213" y="100"/>
                </a:lnTo>
                <a:lnTo>
                  <a:pt x="242" y="95"/>
                </a:lnTo>
                <a:lnTo>
                  <a:pt x="273" y="89"/>
                </a:lnTo>
                <a:lnTo>
                  <a:pt x="303" y="83"/>
                </a:lnTo>
                <a:lnTo>
                  <a:pt x="336" y="75"/>
                </a:lnTo>
                <a:lnTo>
                  <a:pt x="367" y="70"/>
                </a:lnTo>
                <a:lnTo>
                  <a:pt x="399" y="62"/>
                </a:lnTo>
                <a:lnTo>
                  <a:pt x="434" y="56"/>
                </a:lnTo>
                <a:lnTo>
                  <a:pt x="468" y="48"/>
                </a:lnTo>
                <a:lnTo>
                  <a:pt x="499" y="43"/>
                </a:lnTo>
                <a:lnTo>
                  <a:pt x="530" y="37"/>
                </a:lnTo>
                <a:lnTo>
                  <a:pt x="559" y="31"/>
                </a:lnTo>
                <a:lnTo>
                  <a:pt x="587" y="25"/>
                </a:lnTo>
                <a:lnTo>
                  <a:pt x="614" y="22"/>
                </a:lnTo>
                <a:lnTo>
                  <a:pt x="641" y="18"/>
                </a:lnTo>
                <a:lnTo>
                  <a:pt x="666" y="14"/>
                </a:lnTo>
                <a:lnTo>
                  <a:pt x="689" y="12"/>
                </a:lnTo>
                <a:lnTo>
                  <a:pt x="712" y="8"/>
                </a:lnTo>
                <a:lnTo>
                  <a:pt x="733" y="6"/>
                </a:lnTo>
                <a:lnTo>
                  <a:pt x="754" y="4"/>
                </a:lnTo>
                <a:lnTo>
                  <a:pt x="774" y="2"/>
                </a:lnTo>
                <a:lnTo>
                  <a:pt x="791" y="2"/>
                </a:lnTo>
                <a:lnTo>
                  <a:pt x="806" y="2"/>
                </a:lnTo>
                <a:lnTo>
                  <a:pt x="822" y="0"/>
                </a:lnTo>
                <a:lnTo>
                  <a:pt x="837" y="0"/>
                </a:lnTo>
                <a:lnTo>
                  <a:pt x="862" y="2"/>
                </a:lnTo>
                <a:lnTo>
                  <a:pt x="887" y="2"/>
                </a:lnTo>
                <a:lnTo>
                  <a:pt x="910" y="6"/>
                </a:lnTo>
                <a:lnTo>
                  <a:pt x="931" y="10"/>
                </a:lnTo>
                <a:lnTo>
                  <a:pt x="952" y="14"/>
                </a:lnTo>
                <a:lnTo>
                  <a:pt x="971" y="22"/>
                </a:lnTo>
                <a:lnTo>
                  <a:pt x="989" y="29"/>
                </a:lnTo>
                <a:lnTo>
                  <a:pt x="1006" y="37"/>
                </a:lnTo>
                <a:lnTo>
                  <a:pt x="1014" y="41"/>
                </a:lnTo>
                <a:lnTo>
                  <a:pt x="1021" y="47"/>
                </a:lnTo>
                <a:lnTo>
                  <a:pt x="1027" y="50"/>
                </a:lnTo>
                <a:lnTo>
                  <a:pt x="1033" y="54"/>
                </a:lnTo>
                <a:lnTo>
                  <a:pt x="1038" y="60"/>
                </a:lnTo>
                <a:lnTo>
                  <a:pt x="1042" y="64"/>
                </a:lnTo>
                <a:lnTo>
                  <a:pt x="1046" y="68"/>
                </a:lnTo>
                <a:lnTo>
                  <a:pt x="1050" y="73"/>
                </a:lnTo>
                <a:lnTo>
                  <a:pt x="1054" y="77"/>
                </a:lnTo>
                <a:lnTo>
                  <a:pt x="1056" y="81"/>
                </a:lnTo>
                <a:lnTo>
                  <a:pt x="1060" y="91"/>
                </a:lnTo>
                <a:lnTo>
                  <a:pt x="1062" y="100"/>
                </a:lnTo>
                <a:lnTo>
                  <a:pt x="10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48"/>
          <p:cNvSpPr/>
          <p:nvPr/>
        </p:nvSpPr>
        <p:spPr>
          <a:xfrm>
            <a:off x="6713640" y="4046400"/>
            <a:ext cx="898560" cy="174600"/>
          </a:xfrm>
          <a:custGeom>
            <a:avLst/>
            <a:gdLst/>
            <a:ahLst/>
            <a:rect l="l" t="t" r="r" b="b"/>
            <a:pathLst>
              <a:path w="1132" h="221">
                <a:moveTo>
                  <a:pt x="879" y="4"/>
                </a:moveTo>
                <a:lnTo>
                  <a:pt x="894" y="6"/>
                </a:lnTo>
                <a:lnTo>
                  <a:pt x="912" y="6"/>
                </a:lnTo>
                <a:lnTo>
                  <a:pt x="933" y="10"/>
                </a:lnTo>
                <a:lnTo>
                  <a:pt x="952" y="13"/>
                </a:lnTo>
                <a:lnTo>
                  <a:pt x="975" y="17"/>
                </a:lnTo>
                <a:lnTo>
                  <a:pt x="998" y="25"/>
                </a:lnTo>
                <a:lnTo>
                  <a:pt x="1023" y="33"/>
                </a:lnTo>
                <a:lnTo>
                  <a:pt x="1048" y="40"/>
                </a:lnTo>
                <a:lnTo>
                  <a:pt x="1057" y="48"/>
                </a:lnTo>
                <a:lnTo>
                  <a:pt x="1067" y="54"/>
                </a:lnTo>
                <a:lnTo>
                  <a:pt x="1077" y="60"/>
                </a:lnTo>
                <a:lnTo>
                  <a:pt x="1084" y="65"/>
                </a:lnTo>
                <a:lnTo>
                  <a:pt x="1092" y="71"/>
                </a:lnTo>
                <a:lnTo>
                  <a:pt x="1100" y="77"/>
                </a:lnTo>
                <a:lnTo>
                  <a:pt x="1105" y="81"/>
                </a:lnTo>
                <a:lnTo>
                  <a:pt x="1111" y="86"/>
                </a:lnTo>
                <a:lnTo>
                  <a:pt x="1117" y="90"/>
                </a:lnTo>
                <a:lnTo>
                  <a:pt x="1121" y="94"/>
                </a:lnTo>
                <a:lnTo>
                  <a:pt x="1125" y="98"/>
                </a:lnTo>
                <a:lnTo>
                  <a:pt x="1127" y="102"/>
                </a:lnTo>
                <a:lnTo>
                  <a:pt x="1130" y="104"/>
                </a:lnTo>
                <a:lnTo>
                  <a:pt x="1132" y="108"/>
                </a:lnTo>
                <a:lnTo>
                  <a:pt x="1132" y="109"/>
                </a:lnTo>
                <a:lnTo>
                  <a:pt x="1132" y="113"/>
                </a:lnTo>
                <a:lnTo>
                  <a:pt x="1132" y="115"/>
                </a:lnTo>
                <a:lnTo>
                  <a:pt x="1130" y="117"/>
                </a:lnTo>
                <a:lnTo>
                  <a:pt x="1128" y="119"/>
                </a:lnTo>
                <a:lnTo>
                  <a:pt x="1125" y="121"/>
                </a:lnTo>
                <a:lnTo>
                  <a:pt x="1121" y="123"/>
                </a:lnTo>
                <a:lnTo>
                  <a:pt x="1117" y="127"/>
                </a:lnTo>
                <a:lnTo>
                  <a:pt x="1111" y="129"/>
                </a:lnTo>
                <a:lnTo>
                  <a:pt x="1104" y="131"/>
                </a:lnTo>
                <a:lnTo>
                  <a:pt x="1096" y="132"/>
                </a:lnTo>
                <a:lnTo>
                  <a:pt x="1086" y="134"/>
                </a:lnTo>
                <a:lnTo>
                  <a:pt x="1077" y="136"/>
                </a:lnTo>
                <a:lnTo>
                  <a:pt x="1067" y="140"/>
                </a:lnTo>
                <a:lnTo>
                  <a:pt x="1056" y="142"/>
                </a:lnTo>
                <a:lnTo>
                  <a:pt x="1042" y="144"/>
                </a:lnTo>
                <a:lnTo>
                  <a:pt x="1029" y="146"/>
                </a:lnTo>
                <a:lnTo>
                  <a:pt x="1013" y="148"/>
                </a:lnTo>
                <a:lnTo>
                  <a:pt x="998" y="150"/>
                </a:lnTo>
                <a:lnTo>
                  <a:pt x="983" y="154"/>
                </a:lnTo>
                <a:lnTo>
                  <a:pt x="965" y="156"/>
                </a:lnTo>
                <a:lnTo>
                  <a:pt x="946" y="157"/>
                </a:lnTo>
                <a:lnTo>
                  <a:pt x="927" y="159"/>
                </a:lnTo>
                <a:lnTo>
                  <a:pt x="908" y="161"/>
                </a:lnTo>
                <a:lnTo>
                  <a:pt x="887" y="163"/>
                </a:lnTo>
                <a:lnTo>
                  <a:pt x="864" y="167"/>
                </a:lnTo>
                <a:lnTo>
                  <a:pt x="841" y="169"/>
                </a:lnTo>
                <a:lnTo>
                  <a:pt x="818" y="171"/>
                </a:lnTo>
                <a:lnTo>
                  <a:pt x="793" y="173"/>
                </a:lnTo>
                <a:lnTo>
                  <a:pt x="766" y="175"/>
                </a:lnTo>
                <a:lnTo>
                  <a:pt x="739" y="177"/>
                </a:lnTo>
                <a:lnTo>
                  <a:pt x="710" y="180"/>
                </a:lnTo>
                <a:lnTo>
                  <a:pt x="681" y="182"/>
                </a:lnTo>
                <a:lnTo>
                  <a:pt x="652" y="184"/>
                </a:lnTo>
                <a:lnTo>
                  <a:pt x="622" y="186"/>
                </a:lnTo>
                <a:lnTo>
                  <a:pt x="591" y="188"/>
                </a:lnTo>
                <a:lnTo>
                  <a:pt x="562" y="190"/>
                </a:lnTo>
                <a:lnTo>
                  <a:pt x="533" y="192"/>
                </a:lnTo>
                <a:lnTo>
                  <a:pt x="507" y="196"/>
                </a:lnTo>
                <a:lnTo>
                  <a:pt x="480" y="196"/>
                </a:lnTo>
                <a:lnTo>
                  <a:pt x="453" y="198"/>
                </a:lnTo>
                <a:lnTo>
                  <a:pt x="426" y="200"/>
                </a:lnTo>
                <a:lnTo>
                  <a:pt x="401" y="202"/>
                </a:lnTo>
                <a:lnTo>
                  <a:pt x="376" y="204"/>
                </a:lnTo>
                <a:lnTo>
                  <a:pt x="351" y="205"/>
                </a:lnTo>
                <a:lnTo>
                  <a:pt x="328" y="207"/>
                </a:lnTo>
                <a:lnTo>
                  <a:pt x="305" y="207"/>
                </a:lnTo>
                <a:lnTo>
                  <a:pt x="284" y="209"/>
                </a:lnTo>
                <a:lnTo>
                  <a:pt x="261" y="211"/>
                </a:lnTo>
                <a:lnTo>
                  <a:pt x="240" y="211"/>
                </a:lnTo>
                <a:lnTo>
                  <a:pt x="221" y="213"/>
                </a:lnTo>
                <a:lnTo>
                  <a:pt x="201" y="213"/>
                </a:lnTo>
                <a:lnTo>
                  <a:pt x="182" y="215"/>
                </a:lnTo>
                <a:lnTo>
                  <a:pt x="163" y="215"/>
                </a:lnTo>
                <a:lnTo>
                  <a:pt x="146" y="217"/>
                </a:lnTo>
                <a:lnTo>
                  <a:pt x="129" y="217"/>
                </a:lnTo>
                <a:lnTo>
                  <a:pt x="113" y="217"/>
                </a:lnTo>
                <a:lnTo>
                  <a:pt x="98" y="219"/>
                </a:lnTo>
                <a:lnTo>
                  <a:pt x="82" y="219"/>
                </a:lnTo>
                <a:lnTo>
                  <a:pt x="69" y="219"/>
                </a:lnTo>
                <a:lnTo>
                  <a:pt x="56" y="219"/>
                </a:lnTo>
                <a:lnTo>
                  <a:pt x="42" y="219"/>
                </a:lnTo>
                <a:lnTo>
                  <a:pt x="31" y="221"/>
                </a:lnTo>
                <a:lnTo>
                  <a:pt x="19" y="221"/>
                </a:lnTo>
                <a:lnTo>
                  <a:pt x="10" y="221"/>
                </a:lnTo>
                <a:lnTo>
                  <a:pt x="0" y="221"/>
                </a:lnTo>
                <a:lnTo>
                  <a:pt x="0" y="113"/>
                </a:lnTo>
                <a:lnTo>
                  <a:pt x="29" y="109"/>
                </a:lnTo>
                <a:lnTo>
                  <a:pt x="59" y="108"/>
                </a:lnTo>
                <a:lnTo>
                  <a:pt x="90" y="104"/>
                </a:lnTo>
                <a:lnTo>
                  <a:pt x="121" y="102"/>
                </a:lnTo>
                <a:lnTo>
                  <a:pt x="153" y="98"/>
                </a:lnTo>
                <a:lnTo>
                  <a:pt x="186" y="94"/>
                </a:lnTo>
                <a:lnTo>
                  <a:pt x="251" y="84"/>
                </a:lnTo>
                <a:lnTo>
                  <a:pt x="319" y="77"/>
                </a:lnTo>
                <a:lnTo>
                  <a:pt x="386" y="65"/>
                </a:lnTo>
                <a:lnTo>
                  <a:pt x="455" y="54"/>
                </a:lnTo>
                <a:lnTo>
                  <a:pt x="524" y="40"/>
                </a:lnTo>
                <a:lnTo>
                  <a:pt x="558" y="35"/>
                </a:lnTo>
                <a:lnTo>
                  <a:pt x="591" y="29"/>
                </a:lnTo>
                <a:lnTo>
                  <a:pt x="622" y="23"/>
                </a:lnTo>
                <a:lnTo>
                  <a:pt x="651" y="17"/>
                </a:lnTo>
                <a:lnTo>
                  <a:pt x="679" y="13"/>
                </a:lnTo>
                <a:lnTo>
                  <a:pt x="706" y="10"/>
                </a:lnTo>
                <a:lnTo>
                  <a:pt x="731" y="6"/>
                </a:lnTo>
                <a:lnTo>
                  <a:pt x="754" y="4"/>
                </a:lnTo>
                <a:lnTo>
                  <a:pt x="775" y="2"/>
                </a:lnTo>
                <a:lnTo>
                  <a:pt x="796" y="0"/>
                </a:lnTo>
                <a:lnTo>
                  <a:pt x="814" y="0"/>
                </a:lnTo>
                <a:lnTo>
                  <a:pt x="831" y="0"/>
                </a:lnTo>
                <a:lnTo>
                  <a:pt x="844" y="0"/>
                </a:lnTo>
                <a:lnTo>
                  <a:pt x="858" y="2"/>
                </a:lnTo>
                <a:lnTo>
                  <a:pt x="864" y="2"/>
                </a:lnTo>
                <a:lnTo>
                  <a:pt x="869" y="2"/>
                </a:lnTo>
                <a:lnTo>
                  <a:pt x="873" y="4"/>
                </a:lnTo>
                <a:lnTo>
                  <a:pt x="879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49"/>
          <p:cNvSpPr/>
          <p:nvPr/>
        </p:nvSpPr>
        <p:spPr>
          <a:xfrm>
            <a:off x="6184800" y="3127320"/>
            <a:ext cx="1641600" cy="308160"/>
          </a:xfrm>
          <a:custGeom>
            <a:avLst/>
            <a:gdLst/>
            <a:ahLst/>
            <a:rect l="l" t="t" r="r" b="b"/>
            <a:pathLst>
              <a:path w="2069" h="387">
                <a:moveTo>
                  <a:pt x="652" y="347"/>
                </a:moveTo>
                <a:lnTo>
                  <a:pt x="626" y="349"/>
                </a:lnTo>
                <a:lnTo>
                  <a:pt x="601" y="353"/>
                </a:lnTo>
                <a:lnTo>
                  <a:pt x="576" y="357"/>
                </a:lnTo>
                <a:lnTo>
                  <a:pt x="551" y="359"/>
                </a:lnTo>
                <a:lnTo>
                  <a:pt x="528" y="362"/>
                </a:lnTo>
                <a:lnTo>
                  <a:pt x="505" y="364"/>
                </a:lnTo>
                <a:lnTo>
                  <a:pt x="484" y="366"/>
                </a:lnTo>
                <a:lnTo>
                  <a:pt x="462" y="368"/>
                </a:lnTo>
                <a:lnTo>
                  <a:pt x="443" y="372"/>
                </a:lnTo>
                <a:lnTo>
                  <a:pt x="422" y="374"/>
                </a:lnTo>
                <a:lnTo>
                  <a:pt x="405" y="376"/>
                </a:lnTo>
                <a:lnTo>
                  <a:pt x="386" y="378"/>
                </a:lnTo>
                <a:lnTo>
                  <a:pt x="368" y="378"/>
                </a:lnTo>
                <a:lnTo>
                  <a:pt x="351" y="380"/>
                </a:lnTo>
                <a:lnTo>
                  <a:pt x="336" y="382"/>
                </a:lnTo>
                <a:lnTo>
                  <a:pt x="320" y="383"/>
                </a:lnTo>
                <a:lnTo>
                  <a:pt x="305" y="383"/>
                </a:lnTo>
                <a:lnTo>
                  <a:pt x="292" y="385"/>
                </a:lnTo>
                <a:lnTo>
                  <a:pt x="278" y="385"/>
                </a:lnTo>
                <a:lnTo>
                  <a:pt x="267" y="385"/>
                </a:lnTo>
                <a:lnTo>
                  <a:pt x="255" y="387"/>
                </a:lnTo>
                <a:lnTo>
                  <a:pt x="244" y="387"/>
                </a:lnTo>
                <a:lnTo>
                  <a:pt x="234" y="387"/>
                </a:lnTo>
                <a:lnTo>
                  <a:pt x="223" y="387"/>
                </a:lnTo>
                <a:lnTo>
                  <a:pt x="215" y="387"/>
                </a:lnTo>
                <a:lnTo>
                  <a:pt x="205" y="387"/>
                </a:lnTo>
                <a:lnTo>
                  <a:pt x="198" y="385"/>
                </a:lnTo>
                <a:lnTo>
                  <a:pt x="192" y="385"/>
                </a:lnTo>
                <a:lnTo>
                  <a:pt x="186" y="385"/>
                </a:lnTo>
                <a:lnTo>
                  <a:pt x="180" y="383"/>
                </a:lnTo>
                <a:lnTo>
                  <a:pt x="175" y="383"/>
                </a:lnTo>
                <a:lnTo>
                  <a:pt x="171" y="382"/>
                </a:lnTo>
                <a:lnTo>
                  <a:pt x="163" y="382"/>
                </a:lnTo>
                <a:lnTo>
                  <a:pt x="153" y="380"/>
                </a:lnTo>
                <a:lnTo>
                  <a:pt x="144" y="378"/>
                </a:lnTo>
                <a:lnTo>
                  <a:pt x="136" y="374"/>
                </a:lnTo>
                <a:lnTo>
                  <a:pt x="127" y="368"/>
                </a:lnTo>
                <a:lnTo>
                  <a:pt x="117" y="362"/>
                </a:lnTo>
                <a:lnTo>
                  <a:pt x="105" y="357"/>
                </a:lnTo>
                <a:lnTo>
                  <a:pt x="96" y="347"/>
                </a:lnTo>
                <a:lnTo>
                  <a:pt x="84" y="339"/>
                </a:lnTo>
                <a:lnTo>
                  <a:pt x="73" y="330"/>
                </a:lnTo>
                <a:lnTo>
                  <a:pt x="61" y="318"/>
                </a:lnTo>
                <a:lnTo>
                  <a:pt x="50" y="307"/>
                </a:lnTo>
                <a:lnTo>
                  <a:pt x="38" y="293"/>
                </a:lnTo>
                <a:lnTo>
                  <a:pt x="27" y="280"/>
                </a:lnTo>
                <a:lnTo>
                  <a:pt x="13" y="266"/>
                </a:lnTo>
                <a:lnTo>
                  <a:pt x="0" y="251"/>
                </a:lnTo>
                <a:lnTo>
                  <a:pt x="71" y="249"/>
                </a:lnTo>
                <a:lnTo>
                  <a:pt x="105" y="249"/>
                </a:lnTo>
                <a:lnTo>
                  <a:pt x="142" y="247"/>
                </a:lnTo>
                <a:lnTo>
                  <a:pt x="178" y="247"/>
                </a:lnTo>
                <a:lnTo>
                  <a:pt x="215" y="245"/>
                </a:lnTo>
                <a:lnTo>
                  <a:pt x="253" y="243"/>
                </a:lnTo>
                <a:lnTo>
                  <a:pt x="290" y="240"/>
                </a:lnTo>
                <a:lnTo>
                  <a:pt x="330" y="238"/>
                </a:lnTo>
                <a:lnTo>
                  <a:pt x="368" y="234"/>
                </a:lnTo>
                <a:lnTo>
                  <a:pt x="409" y="230"/>
                </a:lnTo>
                <a:lnTo>
                  <a:pt x="451" y="226"/>
                </a:lnTo>
                <a:lnTo>
                  <a:pt x="493" y="220"/>
                </a:lnTo>
                <a:lnTo>
                  <a:pt x="535" y="215"/>
                </a:lnTo>
                <a:lnTo>
                  <a:pt x="580" y="209"/>
                </a:lnTo>
                <a:lnTo>
                  <a:pt x="624" y="203"/>
                </a:lnTo>
                <a:lnTo>
                  <a:pt x="708" y="188"/>
                </a:lnTo>
                <a:lnTo>
                  <a:pt x="796" y="174"/>
                </a:lnTo>
                <a:lnTo>
                  <a:pt x="885" y="161"/>
                </a:lnTo>
                <a:lnTo>
                  <a:pt x="973" y="145"/>
                </a:lnTo>
                <a:lnTo>
                  <a:pt x="1065" y="130"/>
                </a:lnTo>
                <a:lnTo>
                  <a:pt x="1157" y="111"/>
                </a:lnTo>
                <a:lnTo>
                  <a:pt x="1203" y="103"/>
                </a:lnTo>
                <a:lnTo>
                  <a:pt x="1251" y="92"/>
                </a:lnTo>
                <a:lnTo>
                  <a:pt x="1297" y="82"/>
                </a:lnTo>
                <a:lnTo>
                  <a:pt x="1345" y="71"/>
                </a:lnTo>
                <a:lnTo>
                  <a:pt x="1370" y="67"/>
                </a:lnTo>
                <a:lnTo>
                  <a:pt x="1391" y="61"/>
                </a:lnTo>
                <a:lnTo>
                  <a:pt x="1414" y="57"/>
                </a:lnTo>
                <a:lnTo>
                  <a:pt x="1436" y="53"/>
                </a:lnTo>
                <a:lnTo>
                  <a:pt x="1457" y="49"/>
                </a:lnTo>
                <a:lnTo>
                  <a:pt x="1478" y="46"/>
                </a:lnTo>
                <a:lnTo>
                  <a:pt x="1497" y="42"/>
                </a:lnTo>
                <a:lnTo>
                  <a:pt x="1516" y="38"/>
                </a:lnTo>
                <a:lnTo>
                  <a:pt x="1533" y="36"/>
                </a:lnTo>
                <a:lnTo>
                  <a:pt x="1551" y="32"/>
                </a:lnTo>
                <a:lnTo>
                  <a:pt x="1568" y="28"/>
                </a:lnTo>
                <a:lnTo>
                  <a:pt x="1585" y="26"/>
                </a:lnTo>
                <a:lnTo>
                  <a:pt x="1601" y="25"/>
                </a:lnTo>
                <a:lnTo>
                  <a:pt x="1616" y="21"/>
                </a:lnTo>
                <a:lnTo>
                  <a:pt x="1629" y="19"/>
                </a:lnTo>
                <a:lnTo>
                  <a:pt x="1643" y="17"/>
                </a:lnTo>
                <a:lnTo>
                  <a:pt x="1656" y="15"/>
                </a:lnTo>
                <a:lnTo>
                  <a:pt x="1668" y="13"/>
                </a:lnTo>
                <a:lnTo>
                  <a:pt x="1679" y="11"/>
                </a:lnTo>
                <a:lnTo>
                  <a:pt x="1691" y="9"/>
                </a:lnTo>
                <a:lnTo>
                  <a:pt x="1700" y="7"/>
                </a:lnTo>
                <a:lnTo>
                  <a:pt x="1710" y="5"/>
                </a:lnTo>
                <a:lnTo>
                  <a:pt x="1720" y="3"/>
                </a:lnTo>
                <a:lnTo>
                  <a:pt x="1727" y="3"/>
                </a:lnTo>
                <a:lnTo>
                  <a:pt x="1735" y="1"/>
                </a:lnTo>
                <a:lnTo>
                  <a:pt x="1743" y="1"/>
                </a:lnTo>
                <a:lnTo>
                  <a:pt x="1748" y="0"/>
                </a:lnTo>
                <a:lnTo>
                  <a:pt x="1754" y="0"/>
                </a:lnTo>
                <a:lnTo>
                  <a:pt x="1760" y="0"/>
                </a:lnTo>
                <a:lnTo>
                  <a:pt x="1764" y="0"/>
                </a:lnTo>
                <a:lnTo>
                  <a:pt x="1768" y="0"/>
                </a:lnTo>
                <a:lnTo>
                  <a:pt x="1771" y="0"/>
                </a:lnTo>
                <a:lnTo>
                  <a:pt x="1773" y="0"/>
                </a:lnTo>
                <a:lnTo>
                  <a:pt x="1777" y="0"/>
                </a:lnTo>
                <a:lnTo>
                  <a:pt x="1783" y="0"/>
                </a:lnTo>
                <a:lnTo>
                  <a:pt x="1789" y="1"/>
                </a:lnTo>
                <a:lnTo>
                  <a:pt x="1796" y="1"/>
                </a:lnTo>
                <a:lnTo>
                  <a:pt x="1804" y="3"/>
                </a:lnTo>
                <a:lnTo>
                  <a:pt x="1814" y="5"/>
                </a:lnTo>
                <a:lnTo>
                  <a:pt x="1823" y="5"/>
                </a:lnTo>
                <a:lnTo>
                  <a:pt x="1835" y="7"/>
                </a:lnTo>
                <a:lnTo>
                  <a:pt x="1846" y="9"/>
                </a:lnTo>
                <a:lnTo>
                  <a:pt x="1860" y="11"/>
                </a:lnTo>
                <a:lnTo>
                  <a:pt x="1873" y="13"/>
                </a:lnTo>
                <a:lnTo>
                  <a:pt x="1889" y="15"/>
                </a:lnTo>
                <a:lnTo>
                  <a:pt x="1906" y="19"/>
                </a:lnTo>
                <a:lnTo>
                  <a:pt x="1923" y="21"/>
                </a:lnTo>
                <a:lnTo>
                  <a:pt x="1940" y="23"/>
                </a:lnTo>
                <a:lnTo>
                  <a:pt x="1956" y="26"/>
                </a:lnTo>
                <a:lnTo>
                  <a:pt x="1971" y="32"/>
                </a:lnTo>
                <a:lnTo>
                  <a:pt x="1985" y="36"/>
                </a:lnTo>
                <a:lnTo>
                  <a:pt x="1996" y="42"/>
                </a:lnTo>
                <a:lnTo>
                  <a:pt x="2008" y="46"/>
                </a:lnTo>
                <a:lnTo>
                  <a:pt x="2019" y="49"/>
                </a:lnTo>
                <a:lnTo>
                  <a:pt x="2027" y="55"/>
                </a:lnTo>
                <a:lnTo>
                  <a:pt x="2036" y="59"/>
                </a:lnTo>
                <a:lnTo>
                  <a:pt x="2044" y="63"/>
                </a:lnTo>
                <a:lnTo>
                  <a:pt x="2050" y="69"/>
                </a:lnTo>
                <a:lnTo>
                  <a:pt x="2056" y="73"/>
                </a:lnTo>
                <a:lnTo>
                  <a:pt x="2059" y="76"/>
                </a:lnTo>
                <a:lnTo>
                  <a:pt x="2063" y="82"/>
                </a:lnTo>
                <a:lnTo>
                  <a:pt x="2065" y="86"/>
                </a:lnTo>
                <a:lnTo>
                  <a:pt x="2067" y="90"/>
                </a:lnTo>
                <a:lnTo>
                  <a:pt x="2069" y="96"/>
                </a:lnTo>
                <a:lnTo>
                  <a:pt x="2067" y="97"/>
                </a:lnTo>
                <a:lnTo>
                  <a:pt x="2065" y="101"/>
                </a:lnTo>
                <a:lnTo>
                  <a:pt x="2063" y="105"/>
                </a:lnTo>
                <a:lnTo>
                  <a:pt x="2059" y="109"/>
                </a:lnTo>
                <a:lnTo>
                  <a:pt x="2056" y="111"/>
                </a:lnTo>
                <a:lnTo>
                  <a:pt x="2050" y="115"/>
                </a:lnTo>
                <a:lnTo>
                  <a:pt x="2044" y="119"/>
                </a:lnTo>
                <a:lnTo>
                  <a:pt x="2036" y="122"/>
                </a:lnTo>
                <a:lnTo>
                  <a:pt x="2029" y="124"/>
                </a:lnTo>
                <a:lnTo>
                  <a:pt x="2019" y="128"/>
                </a:lnTo>
                <a:lnTo>
                  <a:pt x="2008" y="132"/>
                </a:lnTo>
                <a:lnTo>
                  <a:pt x="1998" y="136"/>
                </a:lnTo>
                <a:lnTo>
                  <a:pt x="1985" y="140"/>
                </a:lnTo>
                <a:lnTo>
                  <a:pt x="1971" y="142"/>
                </a:lnTo>
                <a:lnTo>
                  <a:pt x="1958" y="145"/>
                </a:lnTo>
                <a:lnTo>
                  <a:pt x="1942" y="149"/>
                </a:lnTo>
                <a:lnTo>
                  <a:pt x="1927" y="153"/>
                </a:lnTo>
                <a:lnTo>
                  <a:pt x="1910" y="157"/>
                </a:lnTo>
                <a:lnTo>
                  <a:pt x="1890" y="161"/>
                </a:lnTo>
                <a:lnTo>
                  <a:pt x="1871" y="165"/>
                </a:lnTo>
                <a:lnTo>
                  <a:pt x="1852" y="168"/>
                </a:lnTo>
                <a:lnTo>
                  <a:pt x="1831" y="172"/>
                </a:lnTo>
                <a:lnTo>
                  <a:pt x="1810" y="176"/>
                </a:lnTo>
                <a:lnTo>
                  <a:pt x="1787" y="180"/>
                </a:lnTo>
                <a:lnTo>
                  <a:pt x="1764" y="184"/>
                </a:lnTo>
                <a:lnTo>
                  <a:pt x="1739" y="188"/>
                </a:lnTo>
                <a:lnTo>
                  <a:pt x="1714" y="192"/>
                </a:lnTo>
                <a:lnTo>
                  <a:pt x="1687" y="197"/>
                </a:lnTo>
                <a:lnTo>
                  <a:pt x="1660" y="201"/>
                </a:lnTo>
                <a:lnTo>
                  <a:pt x="1631" y="205"/>
                </a:lnTo>
                <a:lnTo>
                  <a:pt x="1603" y="209"/>
                </a:lnTo>
                <a:lnTo>
                  <a:pt x="1572" y="215"/>
                </a:lnTo>
                <a:lnTo>
                  <a:pt x="1512" y="226"/>
                </a:lnTo>
                <a:lnTo>
                  <a:pt x="1451" y="236"/>
                </a:lnTo>
                <a:lnTo>
                  <a:pt x="1391" y="245"/>
                </a:lnTo>
                <a:lnTo>
                  <a:pt x="1330" y="255"/>
                </a:lnTo>
                <a:lnTo>
                  <a:pt x="1213" y="274"/>
                </a:lnTo>
                <a:lnTo>
                  <a:pt x="1153" y="282"/>
                </a:lnTo>
                <a:lnTo>
                  <a:pt x="1096" y="289"/>
                </a:lnTo>
                <a:lnTo>
                  <a:pt x="1038" y="297"/>
                </a:lnTo>
                <a:lnTo>
                  <a:pt x="981" y="305"/>
                </a:lnTo>
                <a:lnTo>
                  <a:pt x="925" y="312"/>
                </a:lnTo>
                <a:lnTo>
                  <a:pt x="869" y="318"/>
                </a:lnTo>
                <a:lnTo>
                  <a:pt x="814" y="326"/>
                </a:lnTo>
                <a:lnTo>
                  <a:pt x="760" y="332"/>
                </a:lnTo>
                <a:lnTo>
                  <a:pt x="704" y="339"/>
                </a:lnTo>
                <a:lnTo>
                  <a:pt x="652" y="3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50"/>
          <p:cNvSpPr/>
          <p:nvPr/>
        </p:nvSpPr>
        <p:spPr>
          <a:xfrm>
            <a:off x="6589800" y="3354480"/>
            <a:ext cx="214200" cy="1676160"/>
          </a:xfrm>
          <a:custGeom>
            <a:avLst/>
            <a:gdLst/>
            <a:ahLst/>
            <a:rect l="l" t="t" r="r" b="b"/>
            <a:pathLst>
              <a:path w="269" h="2111">
                <a:moveTo>
                  <a:pt x="142" y="2111"/>
                </a:moveTo>
                <a:lnTo>
                  <a:pt x="137" y="2109"/>
                </a:lnTo>
                <a:lnTo>
                  <a:pt x="131" y="2109"/>
                </a:lnTo>
                <a:lnTo>
                  <a:pt x="125" y="2107"/>
                </a:lnTo>
                <a:lnTo>
                  <a:pt x="119" y="2103"/>
                </a:lnTo>
                <a:lnTo>
                  <a:pt x="116" y="2100"/>
                </a:lnTo>
                <a:lnTo>
                  <a:pt x="110" y="2096"/>
                </a:lnTo>
                <a:lnTo>
                  <a:pt x="104" y="2090"/>
                </a:lnTo>
                <a:lnTo>
                  <a:pt x="98" y="2084"/>
                </a:lnTo>
                <a:lnTo>
                  <a:pt x="94" y="2076"/>
                </a:lnTo>
                <a:lnTo>
                  <a:pt x="89" y="2069"/>
                </a:lnTo>
                <a:lnTo>
                  <a:pt x="83" y="2059"/>
                </a:lnTo>
                <a:lnTo>
                  <a:pt x="77" y="2050"/>
                </a:lnTo>
                <a:lnTo>
                  <a:pt x="71" y="2038"/>
                </a:lnTo>
                <a:lnTo>
                  <a:pt x="68" y="2029"/>
                </a:lnTo>
                <a:lnTo>
                  <a:pt x="62" y="2015"/>
                </a:lnTo>
                <a:lnTo>
                  <a:pt x="56" y="2002"/>
                </a:lnTo>
                <a:lnTo>
                  <a:pt x="48" y="1988"/>
                </a:lnTo>
                <a:lnTo>
                  <a:pt x="43" y="1977"/>
                </a:lnTo>
                <a:lnTo>
                  <a:pt x="35" y="1965"/>
                </a:lnTo>
                <a:lnTo>
                  <a:pt x="29" y="1954"/>
                </a:lnTo>
                <a:lnTo>
                  <a:pt x="25" y="1942"/>
                </a:lnTo>
                <a:lnTo>
                  <a:pt x="20" y="1931"/>
                </a:lnTo>
                <a:lnTo>
                  <a:pt x="16" y="1921"/>
                </a:lnTo>
                <a:lnTo>
                  <a:pt x="12" y="1913"/>
                </a:lnTo>
                <a:lnTo>
                  <a:pt x="10" y="1904"/>
                </a:lnTo>
                <a:lnTo>
                  <a:pt x="6" y="1896"/>
                </a:lnTo>
                <a:lnTo>
                  <a:pt x="4" y="1888"/>
                </a:lnTo>
                <a:lnTo>
                  <a:pt x="2" y="1881"/>
                </a:lnTo>
                <a:lnTo>
                  <a:pt x="2" y="1875"/>
                </a:lnTo>
                <a:lnTo>
                  <a:pt x="0" y="1869"/>
                </a:lnTo>
                <a:lnTo>
                  <a:pt x="0" y="1863"/>
                </a:lnTo>
                <a:lnTo>
                  <a:pt x="0" y="1860"/>
                </a:lnTo>
                <a:lnTo>
                  <a:pt x="0" y="1854"/>
                </a:lnTo>
                <a:lnTo>
                  <a:pt x="0" y="1848"/>
                </a:lnTo>
                <a:lnTo>
                  <a:pt x="2" y="1840"/>
                </a:lnTo>
                <a:lnTo>
                  <a:pt x="2" y="1835"/>
                </a:lnTo>
                <a:lnTo>
                  <a:pt x="4" y="1825"/>
                </a:lnTo>
                <a:lnTo>
                  <a:pt x="6" y="1815"/>
                </a:lnTo>
                <a:lnTo>
                  <a:pt x="6" y="1806"/>
                </a:lnTo>
                <a:lnTo>
                  <a:pt x="8" y="1794"/>
                </a:lnTo>
                <a:lnTo>
                  <a:pt x="12" y="1783"/>
                </a:lnTo>
                <a:lnTo>
                  <a:pt x="14" y="1769"/>
                </a:lnTo>
                <a:lnTo>
                  <a:pt x="16" y="1754"/>
                </a:lnTo>
                <a:lnTo>
                  <a:pt x="18" y="1739"/>
                </a:lnTo>
                <a:lnTo>
                  <a:pt x="20" y="1723"/>
                </a:lnTo>
                <a:lnTo>
                  <a:pt x="23" y="1704"/>
                </a:lnTo>
                <a:lnTo>
                  <a:pt x="25" y="1687"/>
                </a:lnTo>
                <a:lnTo>
                  <a:pt x="29" y="1668"/>
                </a:lnTo>
                <a:lnTo>
                  <a:pt x="31" y="1648"/>
                </a:lnTo>
                <a:lnTo>
                  <a:pt x="33" y="1627"/>
                </a:lnTo>
                <a:lnTo>
                  <a:pt x="35" y="1606"/>
                </a:lnTo>
                <a:lnTo>
                  <a:pt x="37" y="1583"/>
                </a:lnTo>
                <a:lnTo>
                  <a:pt x="39" y="1558"/>
                </a:lnTo>
                <a:lnTo>
                  <a:pt x="39" y="1533"/>
                </a:lnTo>
                <a:lnTo>
                  <a:pt x="41" y="1504"/>
                </a:lnTo>
                <a:lnTo>
                  <a:pt x="43" y="1476"/>
                </a:lnTo>
                <a:lnTo>
                  <a:pt x="45" y="1445"/>
                </a:lnTo>
                <a:lnTo>
                  <a:pt x="45" y="1414"/>
                </a:lnTo>
                <a:lnTo>
                  <a:pt x="47" y="1380"/>
                </a:lnTo>
                <a:lnTo>
                  <a:pt x="48" y="1345"/>
                </a:lnTo>
                <a:lnTo>
                  <a:pt x="50" y="1309"/>
                </a:lnTo>
                <a:lnTo>
                  <a:pt x="52" y="1268"/>
                </a:lnTo>
                <a:lnTo>
                  <a:pt x="54" y="1230"/>
                </a:lnTo>
                <a:lnTo>
                  <a:pt x="56" y="1188"/>
                </a:lnTo>
                <a:lnTo>
                  <a:pt x="60" y="1147"/>
                </a:lnTo>
                <a:lnTo>
                  <a:pt x="62" y="1109"/>
                </a:lnTo>
                <a:lnTo>
                  <a:pt x="64" y="1071"/>
                </a:lnTo>
                <a:lnTo>
                  <a:pt x="66" y="1034"/>
                </a:lnTo>
                <a:lnTo>
                  <a:pt x="66" y="998"/>
                </a:lnTo>
                <a:lnTo>
                  <a:pt x="68" y="963"/>
                </a:lnTo>
                <a:lnTo>
                  <a:pt x="68" y="931"/>
                </a:lnTo>
                <a:lnTo>
                  <a:pt x="70" y="898"/>
                </a:lnTo>
                <a:lnTo>
                  <a:pt x="70" y="867"/>
                </a:lnTo>
                <a:lnTo>
                  <a:pt x="70" y="836"/>
                </a:lnTo>
                <a:lnTo>
                  <a:pt x="70" y="806"/>
                </a:lnTo>
                <a:lnTo>
                  <a:pt x="71" y="777"/>
                </a:lnTo>
                <a:lnTo>
                  <a:pt x="71" y="750"/>
                </a:lnTo>
                <a:lnTo>
                  <a:pt x="71" y="723"/>
                </a:lnTo>
                <a:lnTo>
                  <a:pt x="71" y="696"/>
                </a:lnTo>
                <a:lnTo>
                  <a:pt x="71" y="671"/>
                </a:lnTo>
                <a:lnTo>
                  <a:pt x="71" y="660"/>
                </a:lnTo>
                <a:lnTo>
                  <a:pt x="71" y="648"/>
                </a:lnTo>
                <a:lnTo>
                  <a:pt x="71" y="635"/>
                </a:lnTo>
                <a:lnTo>
                  <a:pt x="70" y="621"/>
                </a:lnTo>
                <a:lnTo>
                  <a:pt x="70" y="608"/>
                </a:lnTo>
                <a:lnTo>
                  <a:pt x="70" y="593"/>
                </a:lnTo>
                <a:lnTo>
                  <a:pt x="70" y="577"/>
                </a:lnTo>
                <a:lnTo>
                  <a:pt x="68" y="562"/>
                </a:lnTo>
                <a:lnTo>
                  <a:pt x="68" y="545"/>
                </a:lnTo>
                <a:lnTo>
                  <a:pt x="66" y="527"/>
                </a:lnTo>
                <a:lnTo>
                  <a:pt x="66" y="510"/>
                </a:lnTo>
                <a:lnTo>
                  <a:pt x="64" y="491"/>
                </a:lnTo>
                <a:lnTo>
                  <a:pt x="64" y="474"/>
                </a:lnTo>
                <a:lnTo>
                  <a:pt x="62" y="453"/>
                </a:lnTo>
                <a:lnTo>
                  <a:pt x="60" y="433"/>
                </a:lnTo>
                <a:lnTo>
                  <a:pt x="58" y="412"/>
                </a:lnTo>
                <a:lnTo>
                  <a:pt x="56" y="391"/>
                </a:lnTo>
                <a:lnTo>
                  <a:pt x="54" y="370"/>
                </a:lnTo>
                <a:lnTo>
                  <a:pt x="52" y="347"/>
                </a:lnTo>
                <a:lnTo>
                  <a:pt x="50" y="324"/>
                </a:lnTo>
                <a:lnTo>
                  <a:pt x="48" y="299"/>
                </a:lnTo>
                <a:lnTo>
                  <a:pt x="47" y="276"/>
                </a:lnTo>
                <a:lnTo>
                  <a:pt x="43" y="251"/>
                </a:lnTo>
                <a:lnTo>
                  <a:pt x="41" y="224"/>
                </a:lnTo>
                <a:lnTo>
                  <a:pt x="39" y="199"/>
                </a:lnTo>
                <a:lnTo>
                  <a:pt x="35" y="172"/>
                </a:lnTo>
                <a:lnTo>
                  <a:pt x="31" y="145"/>
                </a:lnTo>
                <a:lnTo>
                  <a:pt x="29" y="117"/>
                </a:lnTo>
                <a:lnTo>
                  <a:pt x="25" y="88"/>
                </a:lnTo>
                <a:lnTo>
                  <a:pt x="22" y="59"/>
                </a:lnTo>
                <a:lnTo>
                  <a:pt x="18" y="30"/>
                </a:lnTo>
                <a:lnTo>
                  <a:pt x="14" y="0"/>
                </a:lnTo>
                <a:lnTo>
                  <a:pt x="29" y="7"/>
                </a:lnTo>
                <a:lnTo>
                  <a:pt x="45" y="15"/>
                </a:lnTo>
                <a:lnTo>
                  <a:pt x="60" y="23"/>
                </a:lnTo>
                <a:lnTo>
                  <a:pt x="73" y="30"/>
                </a:lnTo>
                <a:lnTo>
                  <a:pt x="87" y="38"/>
                </a:lnTo>
                <a:lnTo>
                  <a:pt x="100" y="46"/>
                </a:lnTo>
                <a:lnTo>
                  <a:pt x="114" y="51"/>
                </a:lnTo>
                <a:lnTo>
                  <a:pt x="125" y="59"/>
                </a:lnTo>
                <a:lnTo>
                  <a:pt x="137" y="65"/>
                </a:lnTo>
                <a:lnTo>
                  <a:pt x="148" y="73"/>
                </a:lnTo>
                <a:lnTo>
                  <a:pt x="160" y="78"/>
                </a:lnTo>
                <a:lnTo>
                  <a:pt x="169" y="84"/>
                </a:lnTo>
                <a:lnTo>
                  <a:pt x="179" y="90"/>
                </a:lnTo>
                <a:lnTo>
                  <a:pt x="189" y="96"/>
                </a:lnTo>
                <a:lnTo>
                  <a:pt x="196" y="101"/>
                </a:lnTo>
                <a:lnTo>
                  <a:pt x="206" y="105"/>
                </a:lnTo>
                <a:lnTo>
                  <a:pt x="213" y="111"/>
                </a:lnTo>
                <a:lnTo>
                  <a:pt x="219" y="115"/>
                </a:lnTo>
                <a:lnTo>
                  <a:pt x="227" y="120"/>
                </a:lnTo>
                <a:lnTo>
                  <a:pt x="233" y="124"/>
                </a:lnTo>
                <a:lnTo>
                  <a:pt x="238" y="128"/>
                </a:lnTo>
                <a:lnTo>
                  <a:pt x="244" y="132"/>
                </a:lnTo>
                <a:lnTo>
                  <a:pt x="248" y="136"/>
                </a:lnTo>
                <a:lnTo>
                  <a:pt x="254" y="138"/>
                </a:lnTo>
                <a:lnTo>
                  <a:pt x="258" y="142"/>
                </a:lnTo>
                <a:lnTo>
                  <a:pt x="260" y="145"/>
                </a:lnTo>
                <a:lnTo>
                  <a:pt x="263" y="147"/>
                </a:lnTo>
                <a:lnTo>
                  <a:pt x="265" y="149"/>
                </a:lnTo>
                <a:lnTo>
                  <a:pt x="267" y="151"/>
                </a:lnTo>
                <a:lnTo>
                  <a:pt x="267" y="153"/>
                </a:lnTo>
                <a:lnTo>
                  <a:pt x="269" y="155"/>
                </a:lnTo>
                <a:lnTo>
                  <a:pt x="269" y="157"/>
                </a:lnTo>
                <a:lnTo>
                  <a:pt x="267" y="159"/>
                </a:lnTo>
                <a:lnTo>
                  <a:pt x="265" y="163"/>
                </a:lnTo>
                <a:lnTo>
                  <a:pt x="263" y="168"/>
                </a:lnTo>
                <a:lnTo>
                  <a:pt x="261" y="176"/>
                </a:lnTo>
                <a:lnTo>
                  <a:pt x="260" y="186"/>
                </a:lnTo>
                <a:lnTo>
                  <a:pt x="258" y="195"/>
                </a:lnTo>
                <a:lnTo>
                  <a:pt x="258" y="207"/>
                </a:lnTo>
                <a:lnTo>
                  <a:pt x="258" y="218"/>
                </a:lnTo>
                <a:lnTo>
                  <a:pt x="256" y="234"/>
                </a:lnTo>
                <a:lnTo>
                  <a:pt x="256" y="249"/>
                </a:lnTo>
                <a:lnTo>
                  <a:pt x="256" y="266"/>
                </a:lnTo>
                <a:lnTo>
                  <a:pt x="256" y="284"/>
                </a:lnTo>
                <a:lnTo>
                  <a:pt x="256" y="305"/>
                </a:lnTo>
                <a:lnTo>
                  <a:pt x="256" y="326"/>
                </a:lnTo>
                <a:lnTo>
                  <a:pt x="256" y="347"/>
                </a:lnTo>
                <a:lnTo>
                  <a:pt x="256" y="372"/>
                </a:lnTo>
                <a:lnTo>
                  <a:pt x="254" y="385"/>
                </a:lnTo>
                <a:lnTo>
                  <a:pt x="252" y="399"/>
                </a:lnTo>
                <a:lnTo>
                  <a:pt x="252" y="412"/>
                </a:lnTo>
                <a:lnTo>
                  <a:pt x="250" y="428"/>
                </a:lnTo>
                <a:lnTo>
                  <a:pt x="250" y="443"/>
                </a:lnTo>
                <a:lnTo>
                  <a:pt x="248" y="458"/>
                </a:lnTo>
                <a:lnTo>
                  <a:pt x="248" y="476"/>
                </a:lnTo>
                <a:lnTo>
                  <a:pt x="246" y="493"/>
                </a:lnTo>
                <a:lnTo>
                  <a:pt x="246" y="512"/>
                </a:lnTo>
                <a:lnTo>
                  <a:pt x="246" y="531"/>
                </a:lnTo>
                <a:lnTo>
                  <a:pt x="244" y="550"/>
                </a:lnTo>
                <a:lnTo>
                  <a:pt x="244" y="572"/>
                </a:lnTo>
                <a:lnTo>
                  <a:pt x="244" y="593"/>
                </a:lnTo>
                <a:lnTo>
                  <a:pt x="244" y="614"/>
                </a:lnTo>
                <a:lnTo>
                  <a:pt x="242" y="637"/>
                </a:lnTo>
                <a:lnTo>
                  <a:pt x="242" y="660"/>
                </a:lnTo>
                <a:lnTo>
                  <a:pt x="242" y="683"/>
                </a:lnTo>
                <a:lnTo>
                  <a:pt x="242" y="708"/>
                </a:lnTo>
                <a:lnTo>
                  <a:pt x="242" y="733"/>
                </a:lnTo>
                <a:lnTo>
                  <a:pt x="242" y="760"/>
                </a:lnTo>
                <a:lnTo>
                  <a:pt x="242" y="787"/>
                </a:lnTo>
                <a:lnTo>
                  <a:pt x="242" y="813"/>
                </a:lnTo>
                <a:lnTo>
                  <a:pt x="240" y="842"/>
                </a:lnTo>
                <a:lnTo>
                  <a:pt x="240" y="871"/>
                </a:lnTo>
                <a:lnTo>
                  <a:pt x="240" y="900"/>
                </a:lnTo>
                <a:lnTo>
                  <a:pt x="240" y="931"/>
                </a:lnTo>
                <a:lnTo>
                  <a:pt x="240" y="961"/>
                </a:lnTo>
                <a:lnTo>
                  <a:pt x="240" y="994"/>
                </a:lnTo>
                <a:lnTo>
                  <a:pt x="240" y="1027"/>
                </a:lnTo>
                <a:lnTo>
                  <a:pt x="240" y="1059"/>
                </a:lnTo>
                <a:lnTo>
                  <a:pt x="240" y="1094"/>
                </a:lnTo>
                <a:lnTo>
                  <a:pt x="240" y="1128"/>
                </a:lnTo>
                <a:lnTo>
                  <a:pt x="240" y="1161"/>
                </a:lnTo>
                <a:lnTo>
                  <a:pt x="240" y="1195"/>
                </a:lnTo>
                <a:lnTo>
                  <a:pt x="240" y="1228"/>
                </a:lnTo>
                <a:lnTo>
                  <a:pt x="240" y="1261"/>
                </a:lnTo>
                <a:lnTo>
                  <a:pt x="240" y="1293"/>
                </a:lnTo>
                <a:lnTo>
                  <a:pt x="240" y="1324"/>
                </a:lnTo>
                <a:lnTo>
                  <a:pt x="238" y="1355"/>
                </a:lnTo>
                <a:lnTo>
                  <a:pt x="238" y="1385"/>
                </a:lnTo>
                <a:lnTo>
                  <a:pt x="238" y="1414"/>
                </a:lnTo>
                <a:lnTo>
                  <a:pt x="237" y="1443"/>
                </a:lnTo>
                <a:lnTo>
                  <a:pt x="237" y="1472"/>
                </a:lnTo>
                <a:lnTo>
                  <a:pt x="237" y="1499"/>
                </a:lnTo>
                <a:lnTo>
                  <a:pt x="235" y="1526"/>
                </a:lnTo>
                <a:lnTo>
                  <a:pt x="235" y="1552"/>
                </a:lnTo>
                <a:lnTo>
                  <a:pt x="233" y="1577"/>
                </a:lnTo>
                <a:lnTo>
                  <a:pt x="233" y="1602"/>
                </a:lnTo>
                <a:lnTo>
                  <a:pt x="231" y="1627"/>
                </a:lnTo>
                <a:lnTo>
                  <a:pt x="231" y="1650"/>
                </a:lnTo>
                <a:lnTo>
                  <a:pt x="229" y="1673"/>
                </a:lnTo>
                <a:lnTo>
                  <a:pt x="227" y="1695"/>
                </a:lnTo>
                <a:lnTo>
                  <a:pt x="227" y="1716"/>
                </a:lnTo>
                <a:lnTo>
                  <a:pt x="225" y="1737"/>
                </a:lnTo>
                <a:lnTo>
                  <a:pt x="225" y="1758"/>
                </a:lnTo>
                <a:lnTo>
                  <a:pt x="223" y="1777"/>
                </a:lnTo>
                <a:lnTo>
                  <a:pt x="221" y="1794"/>
                </a:lnTo>
                <a:lnTo>
                  <a:pt x="221" y="1814"/>
                </a:lnTo>
                <a:lnTo>
                  <a:pt x="219" y="1831"/>
                </a:lnTo>
                <a:lnTo>
                  <a:pt x="217" y="1846"/>
                </a:lnTo>
                <a:lnTo>
                  <a:pt x="217" y="1863"/>
                </a:lnTo>
                <a:lnTo>
                  <a:pt x="215" y="1879"/>
                </a:lnTo>
                <a:lnTo>
                  <a:pt x="213" y="1892"/>
                </a:lnTo>
                <a:lnTo>
                  <a:pt x="213" y="1908"/>
                </a:lnTo>
                <a:lnTo>
                  <a:pt x="210" y="1931"/>
                </a:lnTo>
                <a:lnTo>
                  <a:pt x="206" y="1954"/>
                </a:lnTo>
                <a:lnTo>
                  <a:pt x="204" y="1975"/>
                </a:lnTo>
                <a:lnTo>
                  <a:pt x="200" y="1994"/>
                </a:lnTo>
                <a:lnTo>
                  <a:pt x="196" y="2011"/>
                </a:lnTo>
                <a:lnTo>
                  <a:pt x="192" y="2029"/>
                </a:lnTo>
                <a:lnTo>
                  <a:pt x="187" y="2044"/>
                </a:lnTo>
                <a:lnTo>
                  <a:pt x="183" y="2057"/>
                </a:lnTo>
                <a:lnTo>
                  <a:pt x="177" y="2071"/>
                </a:lnTo>
                <a:lnTo>
                  <a:pt x="173" y="2080"/>
                </a:lnTo>
                <a:lnTo>
                  <a:pt x="167" y="2090"/>
                </a:lnTo>
                <a:lnTo>
                  <a:pt x="164" y="2098"/>
                </a:lnTo>
                <a:lnTo>
                  <a:pt x="158" y="2103"/>
                </a:lnTo>
                <a:lnTo>
                  <a:pt x="152" y="2107"/>
                </a:lnTo>
                <a:lnTo>
                  <a:pt x="146" y="2109"/>
                </a:lnTo>
                <a:lnTo>
                  <a:pt x="142" y="2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51"/>
          <p:cNvSpPr/>
          <p:nvPr/>
        </p:nvSpPr>
        <p:spPr>
          <a:xfrm>
            <a:off x="5554800" y="2752560"/>
            <a:ext cx="1082520" cy="1203480"/>
          </a:xfrm>
          <a:custGeom>
            <a:avLst/>
            <a:gdLst/>
            <a:ahLst/>
            <a:rect l="l" t="t" r="r" b="b"/>
            <a:pathLst>
              <a:path w="1365" h="1517">
                <a:moveTo>
                  <a:pt x="1361" y="196"/>
                </a:moveTo>
                <a:lnTo>
                  <a:pt x="1361" y="200"/>
                </a:lnTo>
                <a:lnTo>
                  <a:pt x="1361" y="204"/>
                </a:lnTo>
                <a:lnTo>
                  <a:pt x="1359" y="208"/>
                </a:lnTo>
                <a:lnTo>
                  <a:pt x="1357" y="213"/>
                </a:lnTo>
                <a:lnTo>
                  <a:pt x="1353" y="219"/>
                </a:lnTo>
                <a:lnTo>
                  <a:pt x="1352" y="227"/>
                </a:lnTo>
                <a:lnTo>
                  <a:pt x="1348" y="233"/>
                </a:lnTo>
                <a:lnTo>
                  <a:pt x="1344" y="240"/>
                </a:lnTo>
                <a:lnTo>
                  <a:pt x="1338" y="248"/>
                </a:lnTo>
                <a:lnTo>
                  <a:pt x="1332" y="258"/>
                </a:lnTo>
                <a:lnTo>
                  <a:pt x="1327" y="267"/>
                </a:lnTo>
                <a:lnTo>
                  <a:pt x="1321" y="277"/>
                </a:lnTo>
                <a:lnTo>
                  <a:pt x="1313" y="288"/>
                </a:lnTo>
                <a:lnTo>
                  <a:pt x="1305" y="298"/>
                </a:lnTo>
                <a:lnTo>
                  <a:pt x="1298" y="309"/>
                </a:lnTo>
                <a:lnTo>
                  <a:pt x="1288" y="323"/>
                </a:lnTo>
                <a:lnTo>
                  <a:pt x="1279" y="336"/>
                </a:lnTo>
                <a:lnTo>
                  <a:pt x="1269" y="350"/>
                </a:lnTo>
                <a:lnTo>
                  <a:pt x="1259" y="363"/>
                </a:lnTo>
                <a:lnTo>
                  <a:pt x="1248" y="379"/>
                </a:lnTo>
                <a:lnTo>
                  <a:pt x="1236" y="394"/>
                </a:lnTo>
                <a:lnTo>
                  <a:pt x="1225" y="409"/>
                </a:lnTo>
                <a:lnTo>
                  <a:pt x="1213" y="426"/>
                </a:lnTo>
                <a:lnTo>
                  <a:pt x="1200" y="444"/>
                </a:lnTo>
                <a:lnTo>
                  <a:pt x="1186" y="461"/>
                </a:lnTo>
                <a:lnTo>
                  <a:pt x="1173" y="478"/>
                </a:lnTo>
                <a:lnTo>
                  <a:pt x="1158" y="498"/>
                </a:lnTo>
                <a:lnTo>
                  <a:pt x="1142" y="519"/>
                </a:lnTo>
                <a:lnTo>
                  <a:pt x="1127" y="538"/>
                </a:lnTo>
                <a:lnTo>
                  <a:pt x="1112" y="559"/>
                </a:lnTo>
                <a:lnTo>
                  <a:pt x="1096" y="582"/>
                </a:lnTo>
                <a:lnTo>
                  <a:pt x="1079" y="603"/>
                </a:lnTo>
                <a:lnTo>
                  <a:pt x="1060" y="628"/>
                </a:lnTo>
                <a:lnTo>
                  <a:pt x="1042" y="649"/>
                </a:lnTo>
                <a:lnTo>
                  <a:pt x="1023" y="672"/>
                </a:lnTo>
                <a:lnTo>
                  <a:pt x="1006" y="695"/>
                </a:lnTo>
                <a:lnTo>
                  <a:pt x="989" y="716"/>
                </a:lnTo>
                <a:lnTo>
                  <a:pt x="971" y="737"/>
                </a:lnTo>
                <a:lnTo>
                  <a:pt x="954" y="757"/>
                </a:lnTo>
                <a:lnTo>
                  <a:pt x="937" y="778"/>
                </a:lnTo>
                <a:lnTo>
                  <a:pt x="902" y="816"/>
                </a:lnTo>
                <a:lnTo>
                  <a:pt x="870" y="853"/>
                </a:lnTo>
                <a:lnTo>
                  <a:pt x="837" y="887"/>
                </a:lnTo>
                <a:lnTo>
                  <a:pt x="804" y="922"/>
                </a:lnTo>
                <a:lnTo>
                  <a:pt x="774" y="952"/>
                </a:lnTo>
                <a:lnTo>
                  <a:pt x="743" y="983"/>
                </a:lnTo>
                <a:lnTo>
                  <a:pt x="714" y="1012"/>
                </a:lnTo>
                <a:lnTo>
                  <a:pt x="685" y="1039"/>
                </a:lnTo>
                <a:lnTo>
                  <a:pt x="659" y="1064"/>
                </a:lnTo>
                <a:lnTo>
                  <a:pt x="632" y="1087"/>
                </a:lnTo>
                <a:lnTo>
                  <a:pt x="607" y="1110"/>
                </a:lnTo>
                <a:lnTo>
                  <a:pt x="584" y="1131"/>
                </a:lnTo>
                <a:lnTo>
                  <a:pt x="559" y="1150"/>
                </a:lnTo>
                <a:lnTo>
                  <a:pt x="536" y="1171"/>
                </a:lnTo>
                <a:lnTo>
                  <a:pt x="511" y="1190"/>
                </a:lnTo>
                <a:lnTo>
                  <a:pt x="488" y="1208"/>
                </a:lnTo>
                <a:lnTo>
                  <a:pt x="440" y="1244"/>
                </a:lnTo>
                <a:lnTo>
                  <a:pt x="394" y="1277"/>
                </a:lnTo>
                <a:lnTo>
                  <a:pt x="348" y="1311"/>
                </a:lnTo>
                <a:lnTo>
                  <a:pt x="302" y="1342"/>
                </a:lnTo>
                <a:lnTo>
                  <a:pt x="257" y="1375"/>
                </a:lnTo>
                <a:lnTo>
                  <a:pt x="215" y="1407"/>
                </a:lnTo>
                <a:lnTo>
                  <a:pt x="192" y="1423"/>
                </a:lnTo>
                <a:lnTo>
                  <a:pt x="169" y="1436"/>
                </a:lnTo>
                <a:lnTo>
                  <a:pt x="150" y="1450"/>
                </a:lnTo>
                <a:lnTo>
                  <a:pt x="131" y="1461"/>
                </a:lnTo>
                <a:lnTo>
                  <a:pt x="112" y="1473"/>
                </a:lnTo>
                <a:lnTo>
                  <a:pt x="96" y="1482"/>
                </a:lnTo>
                <a:lnTo>
                  <a:pt x="81" y="1490"/>
                </a:lnTo>
                <a:lnTo>
                  <a:pt x="66" y="1498"/>
                </a:lnTo>
                <a:lnTo>
                  <a:pt x="54" y="1503"/>
                </a:lnTo>
                <a:lnTo>
                  <a:pt x="43" y="1507"/>
                </a:lnTo>
                <a:lnTo>
                  <a:pt x="33" y="1511"/>
                </a:lnTo>
                <a:lnTo>
                  <a:pt x="23" y="1515"/>
                </a:lnTo>
                <a:lnTo>
                  <a:pt x="16" y="1517"/>
                </a:lnTo>
                <a:lnTo>
                  <a:pt x="10" y="1517"/>
                </a:lnTo>
                <a:lnTo>
                  <a:pt x="6" y="1517"/>
                </a:lnTo>
                <a:lnTo>
                  <a:pt x="2" y="1515"/>
                </a:lnTo>
                <a:lnTo>
                  <a:pt x="0" y="1513"/>
                </a:lnTo>
                <a:lnTo>
                  <a:pt x="0" y="1511"/>
                </a:lnTo>
                <a:lnTo>
                  <a:pt x="0" y="1509"/>
                </a:lnTo>
                <a:lnTo>
                  <a:pt x="2" y="1505"/>
                </a:lnTo>
                <a:lnTo>
                  <a:pt x="2" y="1503"/>
                </a:lnTo>
                <a:lnTo>
                  <a:pt x="4" y="1500"/>
                </a:lnTo>
                <a:lnTo>
                  <a:pt x="8" y="1496"/>
                </a:lnTo>
                <a:lnTo>
                  <a:pt x="10" y="1490"/>
                </a:lnTo>
                <a:lnTo>
                  <a:pt x="14" y="1484"/>
                </a:lnTo>
                <a:lnTo>
                  <a:pt x="18" y="1478"/>
                </a:lnTo>
                <a:lnTo>
                  <a:pt x="23" y="1473"/>
                </a:lnTo>
                <a:lnTo>
                  <a:pt x="29" y="1467"/>
                </a:lnTo>
                <a:lnTo>
                  <a:pt x="35" y="1459"/>
                </a:lnTo>
                <a:lnTo>
                  <a:pt x="41" y="1452"/>
                </a:lnTo>
                <a:lnTo>
                  <a:pt x="48" y="1444"/>
                </a:lnTo>
                <a:lnTo>
                  <a:pt x="56" y="1436"/>
                </a:lnTo>
                <a:lnTo>
                  <a:pt x="64" y="1427"/>
                </a:lnTo>
                <a:lnTo>
                  <a:pt x="73" y="1417"/>
                </a:lnTo>
                <a:lnTo>
                  <a:pt x="83" y="1407"/>
                </a:lnTo>
                <a:lnTo>
                  <a:pt x="92" y="1398"/>
                </a:lnTo>
                <a:lnTo>
                  <a:pt x="104" y="1386"/>
                </a:lnTo>
                <a:lnTo>
                  <a:pt x="114" y="1375"/>
                </a:lnTo>
                <a:lnTo>
                  <a:pt x="127" y="1363"/>
                </a:lnTo>
                <a:lnTo>
                  <a:pt x="138" y="1352"/>
                </a:lnTo>
                <a:lnTo>
                  <a:pt x="152" y="1340"/>
                </a:lnTo>
                <a:lnTo>
                  <a:pt x="165" y="1327"/>
                </a:lnTo>
                <a:lnTo>
                  <a:pt x="179" y="1313"/>
                </a:lnTo>
                <a:lnTo>
                  <a:pt x="192" y="1300"/>
                </a:lnTo>
                <a:lnTo>
                  <a:pt x="208" y="1285"/>
                </a:lnTo>
                <a:lnTo>
                  <a:pt x="225" y="1269"/>
                </a:lnTo>
                <a:lnTo>
                  <a:pt x="240" y="1254"/>
                </a:lnTo>
                <a:lnTo>
                  <a:pt x="257" y="1238"/>
                </a:lnTo>
                <a:lnTo>
                  <a:pt x="290" y="1210"/>
                </a:lnTo>
                <a:lnTo>
                  <a:pt x="325" y="1179"/>
                </a:lnTo>
                <a:lnTo>
                  <a:pt x="357" y="1148"/>
                </a:lnTo>
                <a:lnTo>
                  <a:pt x="390" y="1118"/>
                </a:lnTo>
                <a:lnTo>
                  <a:pt x="421" y="1087"/>
                </a:lnTo>
                <a:lnTo>
                  <a:pt x="453" y="1054"/>
                </a:lnTo>
                <a:lnTo>
                  <a:pt x="484" y="1022"/>
                </a:lnTo>
                <a:lnTo>
                  <a:pt x="515" y="989"/>
                </a:lnTo>
                <a:lnTo>
                  <a:pt x="543" y="958"/>
                </a:lnTo>
                <a:lnTo>
                  <a:pt x="572" y="924"/>
                </a:lnTo>
                <a:lnTo>
                  <a:pt x="601" y="891"/>
                </a:lnTo>
                <a:lnTo>
                  <a:pt x="630" y="858"/>
                </a:lnTo>
                <a:lnTo>
                  <a:pt x="685" y="791"/>
                </a:lnTo>
                <a:lnTo>
                  <a:pt x="739" y="724"/>
                </a:lnTo>
                <a:lnTo>
                  <a:pt x="762" y="689"/>
                </a:lnTo>
                <a:lnTo>
                  <a:pt x="785" y="657"/>
                </a:lnTo>
                <a:lnTo>
                  <a:pt x="806" y="626"/>
                </a:lnTo>
                <a:lnTo>
                  <a:pt x="828" y="595"/>
                </a:lnTo>
                <a:lnTo>
                  <a:pt x="849" y="565"/>
                </a:lnTo>
                <a:lnTo>
                  <a:pt x="870" y="536"/>
                </a:lnTo>
                <a:lnTo>
                  <a:pt x="889" y="507"/>
                </a:lnTo>
                <a:lnTo>
                  <a:pt x="908" y="480"/>
                </a:lnTo>
                <a:lnTo>
                  <a:pt x="927" y="453"/>
                </a:lnTo>
                <a:lnTo>
                  <a:pt x="945" y="428"/>
                </a:lnTo>
                <a:lnTo>
                  <a:pt x="962" y="403"/>
                </a:lnTo>
                <a:lnTo>
                  <a:pt x="977" y="379"/>
                </a:lnTo>
                <a:lnTo>
                  <a:pt x="993" y="355"/>
                </a:lnTo>
                <a:lnTo>
                  <a:pt x="1008" y="334"/>
                </a:lnTo>
                <a:lnTo>
                  <a:pt x="1023" y="313"/>
                </a:lnTo>
                <a:lnTo>
                  <a:pt x="1037" y="292"/>
                </a:lnTo>
                <a:lnTo>
                  <a:pt x="1046" y="271"/>
                </a:lnTo>
                <a:lnTo>
                  <a:pt x="1054" y="252"/>
                </a:lnTo>
                <a:lnTo>
                  <a:pt x="1064" y="235"/>
                </a:lnTo>
                <a:lnTo>
                  <a:pt x="1069" y="217"/>
                </a:lnTo>
                <a:lnTo>
                  <a:pt x="1077" y="200"/>
                </a:lnTo>
                <a:lnTo>
                  <a:pt x="1081" y="185"/>
                </a:lnTo>
                <a:lnTo>
                  <a:pt x="1085" y="171"/>
                </a:lnTo>
                <a:lnTo>
                  <a:pt x="1089" y="156"/>
                </a:lnTo>
                <a:lnTo>
                  <a:pt x="1090" y="144"/>
                </a:lnTo>
                <a:lnTo>
                  <a:pt x="1092" y="131"/>
                </a:lnTo>
                <a:lnTo>
                  <a:pt x="1092" y="119"/>
                </a:lnTo>
                <a:lnTo>
                  <a:pt x="1092" y="110"/>
                </a:lnTo>
                <a:lnTo>
                  <a:pt x="1090" y="100"/>
                </a:lnTo>
                <a:lnTo>
                  <a:pt x="1087" y="91"/>
                </a:lnTo>
                <a:lnTo>
                  <a:pt x="1083" y="83"/>
                </a:lnTo>
                <a:lnTo>
                  <a:pt x="1079" y="75"/>
                </a:lnTo>
                <a:lnTo>
                  <a:pt x="1073" y="69"/>
                </a:lnTo>
                <a:lnTo>
                  <a:pt x="1069" y="64"/>
                </a:lnTo>
                <a:lnTo>
                  <a:pt x="1066" y="56"/>
                </a:lnTo>
                <a:lnTo>
                  <a:pt x="1064" y="50"/>
                </a:lnTo>
                <a:lnTo>
                  <a:pt x="1060" y="46"/>
                </a:lnTo>
                <a:lnTo>
                  <a:pt x="1060" y="41"/>
                </a:lnTo>
                <a:lnTo>
                  <a:pt x="1058" y="35"/>
                </a:lnTo>
                <a:lnTo>
                  <a:pt x="1058" y="31"/>
                </a:lnTo>
                <a:lnTo>
                  <a:pt x="1058" y="27"/>
                </a:lnTo>
                <a:lnTo>
                  <a:pt x="1058" y="23"/>
                </a:lnTo>
                <a:lnTo>
                  <a:pt x="1060" y="20"/>
                </a:lnTo>
                <a:lnTo>
                  <a:pt x="1064" y="16"/>
                </a:lnTo>
                <a:lnTo>
                  <a:pt x="1066" y="12"/>
                </a:lnTo>
                <a:lnTo>
                  <a:pt x="1069" y="8"/>
                </a:lnTo>
                <a:lnTo>
                  <a:pt x="1073" y="6"/>
                </a:lnTo>
                <a:lnTo>
                  <a:pt x="1079" y="4"/>
                </a:lnTo>
                <a:lnTo>
                  <a:pt x="1085" y="2"/>
                </a:lnTo>
                <a:lnTo>
                  <a:pt x="1090" y="0"/>
                </a:lnTo>
                <a:lnTo>
                  <a:pt x="1098" y="0"/>
                </a:lnTo>
                <a:lnTo>
                  <a:pt x="1106" y="0"/>
                </a:lnTo>
                <a:lnTo>
                  <a:pt x="1114" y="2"/>
                </a:lnTo>
                <a:lnTo>
                  <a:pt x="1123" y="4"/>
                </a:lnTo>
                <a:lnTo>
                  <a:pt x="1133" y="8"/>
                </a:lnTo>
                <a:lnTo>
                  <a:pt x="1142" y="12"/>
                </a:lnTo>
                <a:lnTo>
                  <a:pt x="1154" y="16"/>
                </a:lnTo>
                <a:lnTo>
                  <a:pt x="1165" y="20"/>
                </a:lnTo>
                <a:lnTo>
                  <a:pt x="1177" y="25"/>
                </a:lnTo>
                <a:lnTo>
                  <a:pt x="1190" y="33"/>
                </a:lnTo>
                <a:lnTo>
                  <a:pt x="1204" y="39"/>
                </a:lnTo>
                <a:lnTo>
                  <a:pt x="1217" y="46"/>
                </a:lnTo>
                <a:lnTo>
                  <a:pt x="1233" y="54"/>
                </a:lnTo>
                <a:lnTo>
                  <a:pt x="1248" y="64"/>
                </a:lnTo>
                <a:lnTo>
                  <a:pt x="1263" y="73"/>
                </a:lnTo>
                <a:lnTo>
                  <a:pt x="1279" y="83"/>
                </a:lnTo>
                <a:lnTo>
                  <a:pt x="1292" y="91"/>
                </a:lnTo>
                <a:lnTo>
                  <a:pt x="1304" y="100"/>
                </a:lnTo>
                <a:lnTo>
                  <a:pt x="1315" y="108"/>
                </a:lnTo>
                <a:lnTo>
                  <a:pt x="1325" y="117"/>
                </a:lnTo>
                <a:lnTo>
                  <a:pt x="1334" y="127"/>
                </a:lnTo>
                <a:lnTo>
                  <a:pt x="1342" y="135"/>
                </a:lnTo>
                <a:lnTo>
                  <a:pt x="1348" y="142"/>
                </a:lnTo>
                <a:lnTo>
                  <a:pt x="1353" y="152"/>
                </a:lnTo>
                <a:lnTo>
                  <a:pt x="1359" y="160"/>
                </a:lnTo>
                <a:lnTo>
                  <a:pt x="1361" y="167"/>
                </a:lnTo>
                <a:lnTo>
                  <a:pt x="1363" y="175"/>
                </a:lnTo>
                <a:lnTo>
                  <a:pt x="1365" y="181"/>
                </a:lnTo>
                <a:lnTo>
                  <a:pt x="1363" y="188"/>
                </a:lnTo>
                <a:lnTo>
                  <a:pt x="1361" y="1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韧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5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韦”横画平行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2"/>
          <p:cNvSpPr/>
          <p:nvPr/>
        </p:nvSpPr>
        <p:spPr>
          <a:xfrm>
            <a:off x="2192400" y="1825560"/>
            <a:ext cx="12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è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67"/>
          <p:cNvSpPr/>
          <p:nvPr/>
        </p:nvSpPr>
        <p:spPr>
          <a:xfrm>
            <a:off x="5985000" y="2746440"/>
            <a:ext cx="220680" cy="2414520"/>
          </a:xfrm>
          <a:custGeom>
            <a:avLst/>
            <a:gdLst/>
            <a:ahLst/>
            <a:rect l="l" t="t" r="r" b="b"/>
            <a:pathLst>
              <a:path w="417" h="4563">
                <a:moveTo>
                  <a:pt x="410" y="163"/>
                </a:moveTo>
                <a:lnTo>
                  <a:pt x="413" y="174"/>
                </a:lnTo>
                <a:lnTo>
                  <a:pt x="416" y="186"/>
                </a:lnTo>
                <a:lnTo>
                  <a:pt x="417" y="196"/>
                </a:lnTo>
                <a:lnTo>
                  <a:pt x="417" y="207"/>
                </a:lnTo>
                <a:lnTo>
                  <a:pt x="417" y="217"/>
                </a:lnTo>
                <a:lnTo>
                  <a:pt x="417" y="227"/>
                </a:lnTo>
                <a:lnTo>
                  <a:pt x="416" y="237"/>
                </a:lnTo>
                <a:lnTo>
                  <a:pt x="414" y="246"/>
                </a:lnTo>
                <a:lnTo>
                  <a:pt x="413" y="256"/>
                </a:lnTo>
                <a:lnTo>
                  <a:pt x="410" y="266"/>
                </a:lnTo>
                <a:lnTo>
                  <a:pt x="404" y="286"/>
                </a:lnTo>
                <a:lnTo>
                  <a:pt x="401" y="296"/>
                </a:lnTo>
                <a:lnTo>
                  <a:pt x="397" y="308"/>
                </a:lnTo>
                <a:lnTo>
                  <a:pt x="394" y="319"/>
                </a:lnTo>
                <a:lnTo>
                  <a:pt x="391" y="331"/>
                </a:lnTo>
                <a:lnTo>
                  <a:pt x="388" y="338"/>
                </a:lnTo>
                <a:lnTo>
                  <a:pt x="387" y="348"/>
                </a:lnTo>
                <a:lnTo>
                  <a:pt x="384" y="363"/>
                </a:lnTo>
                <a:lnTo>
                  <a:pt x="383" y="380"/>
                </a:lnTo>
                <a:lnTo>
                  <a:pt x="380" y="400"/>
                </a:lnTo>
                <a:lnTo>
                  <a:pt x="378" y="423"/>
                </a:lnTo>
                <a:lnTo>
                  <a:pt x="376" y="450"/>
                </a:lnTo>
                <a:lnTo>
                  <a:pt x="373" y="479"/>
                </a:lnTo>
                <a:lnTo>
                  <a:pt x="370" y="512"/>
                </a:lnTo>
                <a:lnTo>
                  <a:pt x="368" y="550"/>
                </a:lnTo>
                <a:lnTo>
                  <a:pt x="365" y="589"/>
                </a:lnTo>
                <a:lnTo>
                  <a:pt x="363" y="632"/>
                </a:lnTo>
                <a:lnTo>
                  <a:pt x="360" y="676"/>
                </a:lnTo>
                <a:lnTo>
                  <a:pt x="357" y="725"/>
                </a:lnTo>
                <a:lnTo>
                  <a:pt x="354" y="779"/>
                </a:lnTo>
                <a:lnTo>
                  <a:pt x="351" y="833"/>
                </a:lnTo>
                <a:lnTo>
                  <a:pt x="348" y="892"/>
                </a:lnTo>
                <a:lnTo>
                  <a:pt x="345" y="954"/>
                </a:lnTo>
                <a:lnTo>
                  <a:pt x="344" y="1019"/>
                </a:lnTo>
                <a:lnTo>
                  <a:pt x="341" y="1087"/>
                </a:lnTo>
                <a:lnTo>
                  <a:pt x="338" y="1159"/>
                </a:lnTo>
                <a:lnTo>
                  <a:pt x="335" y="1232"/>
                </a:lnTo>
                <a:lnTo>
                  <a:pt x="332" y="1310"/>
                </a:lnTo>
                <a:lnTo>
                  <a:pt x="329" y="1392"/>
                </a:lnTo>
                <a:lnTo>
                  <a:pt x="328" y="1475"/>
                </a:lnTo>
                <a:lnTo>
                  <a:pt x="325" y="1563"/>
                </a:lnTo>
                <a:lnTo>
                  <a:pt x="322" y="1654"/>
                </a:lnTo>
                <a:lnTo>
                  <a:pt x="321" y="1748"/>
                </a:lnTo>
                <a:lnTo>
                  <a:pt x="318" y="1844"/>
                </a:lnTo>
                <a:lnTo>
                  <a:pt x="316" y="1943"/>
                </a:lnTo>
                <a:lnTo>
                  <a:pt x="314" y="2047"/>
                </a:lnTo>
                <a:lnTo>
                  <a:pt x="312" y="2154"/>
                </a:lnTo>
                <a:lnTo>
                  <a:pt x="309" y="2260"/>
                </a:lnTo>
                <a:lnTo>
                  <a:pt x="305" y="2364"/>
                </a:lnTo>
                <a:lnTo>
                  <a:pt x="302" y="2466"/>
                </a:lnTo>
                <a:lnTo>
                  <a:pt x="299" y="2564"/>
                </a:lnTo>
                <a:lnTo>
                  <a:pt x="295" y="2660"/>
                </a:lnTo>
                <a:lnTo>
                  <a:pt x="292" y="2754"/>
                </a:lnTo>
                <a:lnTo>
                  <a:pt x="289" y="2843"/>
                </a:lnTo>
                <a:lnTo>
                  <a:pt x="286" y="2931"/>
                </a:lnTo>
                <a:lnTo>
                  <a:pt x="283" y="3016"/>
                </a:lnTo>
                <a:lnTo>
                  <a:pt x="281" y="3099"/>
                </a:lnTo>
                <a:lnTo>
                  <a:pt x="279" y="3179"/>
                </a:lnTo>
                <a:lnTo>
                  <a:pt x="276" y="3255"/>
                </a:lnTo>
                <a:lnTo>
                  <a:pt x="273" y="3330"/>
                </a:lnTo>
                <a:lnTo>
                  <a:pt x="270" y="3402"/>
                </a:lnTo>
                <a:lnTo>
                  <a:pt x="269" y="3471"/>
                </a:lnTo>
                <a:lnTo>
                  <a:pt x="266" y="3537"/>
                </a:lnTo>
                <a:lnTo>
                  <a:pt x="263" y="3600"/>
                </a:lnTo>
                <a:lnTo>
                  <a:pt x="262" y="3661"/>
                </a:lnTo>
                <a:lnTo>
                  <a:pt x="259" y="3718"/>
                </a:lnTo>
                <a:lnTo>
                  <a:pt x="257" y="3775"/>
                </a:lnTo>
                <a:lnTo>
                  <a:pt x="255" y="3826"/>
                </a:lnTo>
                <a:lnTo>
                  <a:pt x="253" y="3877"/>
                </a:lnTo>
                <a:lnTo>
                  <a:pt x="252" y="3924"/>
                </a:lnTo>
                <a:lnTo>
                  <a:pt x="249" y="3969"/>
                </a:lnTo>
                <a:lnTo>
                  <a:pt x="247" y="4011"/>
                </a:lnTo>
                <a:lnTo>
                  <a:pt x="246" y="4050"/>
                </a:lnTo>
                <a:lnTo>
                  <a:pt x="243" y="4085"/>
                </a:lnTo>
                <a:lnTo>
                  <a:pt x="242" y="4120"/>
                </a:lnTo>
                <a:lnTo>
                  <a:pt x="240" y="4150"/>
                </a:lnTo>
                <a:lnTo>
                  <a:pt x="237" y="4179"/>
                </a:lnTo>
                <a:lnTo>
                  <a:pt x="236" y="4205"/>
                </a:lnTo>
                <a:lnTo>
                  <a:pt x="234" y="4228"/>
                </a:lnTo>
                <a:lnTo>
                  <a:pt x="233" y="4250"/>
                </a:lnTo>
                <a:lnTo>
                  <a:pt x="230" y="4270"/>
                </a:lnTo>
                <a:lnTo>
                  <a:pt x="229" y="4290"/>
                </a:lnTo>
                <a:lnTo>
                  <a:pt x="227" y="4309"/>
                </a:lnTo>
                <a:lnTo>
                  <a:pt x="226" y="4327"/>
                </a:lnTo>
                <a:lnTo>
                  <a:pt x="223" y="4345"/>
                </a:lnTo>
                <a:lnTo>
                  <a:pt x="221" y="4362"/>
                </a:lnTo>
                <a:lnTo>
                  <a:pt x="220" y="4378"/>
                </a:lnTo>
                <a:lnTo>
                  <a:pt x="219" y="4394"/>
                </a:lnTo>
                <a:lnTo>
                  <a:pt x="216" y="4408"/>
                </a:lnTo>
                <a:lnTo>
                  <a:pt x="214" y="4422"/>
                </a:lnTo>
                <a:lnTo>
                  <a:pt x="213" y="4435"/>
                </a:lnTo>
                <a:lnTo>
                  <a:pt x="211" y="4448"/>
                </a:lnTo>
                <a:lnTo>
                  <a:pt x="209" y="4460"/>
                </a:lnTo>
                <a:lnTo>
                  <a:pt x="207" y="4471"/>
                </a:lnTo>
                <a:lnTo>
                  <a:pt x="206" y="4481"/>
                </a:lnTo>
                <a:lnTo>
                  <a:pt x="203" y="4491"/>
                </a:lnTo>
                <a:lnTo>
                  <a:pt x="201" y="4502"/>
                </a:lnTo>
                <a:lnTo>
                  <a:pt x="200" y="4510"/>
                </a:lnTo>
                <a:lnTo>
                  <a:pt x="198" y="4517"/>
                </a:lnTo>
                <a:lnTo>
                  <a:pt x="196" y="4525"/>
                </a:lnTo>
                <a:lnTo>
                  <a:pt x="194" y="4532"/>
                </a:lnTo>
                <a:lnTo>
                  <a:pt x="193" y="4538"/>
                </a:lnTo>
                <a:lnTo>
                  <a:pt x="190" y="4543"/>
                </a:lnTo>
                <a:lnTo>
                  <a:pt x="188" y="4548"/>
                </a:lnTo>
                <a:lnTo>
                  <a:pt x="187" y="4552"/>
                </a:lnTo>
                <a:lnTo>
                  <a:pt x="185" y="4555"/>
                </a:lnTo>
                <a:lnTo>
                  <a:pt x="183" y="4558"/>
                </a:lnTo>
                <a:lnTo>
                  <a:pt x="181" y="4561"/>
                </a:lnTo>
                <a:lnTo>
                  <a:pt x="180" y="4562"/>
                </a:lnTo>
                <a:lnTo>
                  <a:pt x="177" y="4562"/>
                </a:lnTo>
                <a:lnTo>
                  <a:pt x="175" y="4563"/>
                </a:lnTo>
                <a:lnTo>
                  <a:pt x="174" y="4562"/>
                </a:lnTo>
                <a:lnTo>
                  <a:pt x="171" y="4562"/>
                </a:lnTo>
                <a:lnTo>
                  <a:pt x="170" y="4561"/>
                </a:lnTo>
                <a:lnTo>
                  <a:pt x="167" y="4559"/>
                </a:lnTo>
                <a:lnTo>
                  <a:pt x="165" y="4558"/>
                </a:lnTo>
                <a:lnTo>
                  <a:pt x="162" y="4556"/>
                </a:lnTo>
                <a:lnTo>
                  <a:pt x="160" y="4553"/>
                </a:lnTo>
                <a:lnTo>
                  <a:pt x="158" y="4550"/>
                </a:lnTo>
                <a:lnTo>
                  <a:pt x="155" y="4548"/>
                </a:lnTo>
                <a:lnTo>
                  <a:pt x="152" y="4543"/>
                </a:lnTo>
                <a:lnTo>
                  <a:pt x="150" y="4539"/>
                </a:lnTo>
                <a:lnTo>
                  <a:pt x="147" y="4535"/>
                </a:lnTo>
                <a:lnTo>
                  <a:pt x="144" y="4530"/>
                </a:lnTo>
                <a:lnTo>
                  <a:pt x="141" y="4525"/>
                </a:lnTo>
                <a:lnTo>
                  <a:pt x="137" y="4519"/>
                </a:lnTo>
                <a:lnTo>
                  <a:pt x="134" y="4513"/>
                </a:lnTo>
                <a:lnTo>
                  <a:pt x="131" y="4506"/>
                </a:lnTo>
                <a:lnTo>
                  <a:pt x="128" y="4500"/>
                </a:lnTo>
                <a:lnTo>
                  <a:pt x="124" y="4491"/>
                </a:lnTo>
                <a:lnTo>
                  <a:pt x="121" y="4484"/>
                </a:lnTo>
                <a:lnTo>
                  <a:pt x="118" y="4476"/>
                </a:lnTo>
                <a:lnTo>
                  <a:pt x="114" y="4467"/>
                </a:lnTo>
                <a:lnTo>
                  <a:pt x="111" y="4458"/>
                </a:lnTo>
                <a:lnTo>
                  <a:pt x="106" y="4448"/>
                </a:lnTo>
                <a:lnTo>
                  <a:pt x="103" y="4438"/>
                </a:lnTo>
                <a:lnTo>
                  <a:pt x="99" y="4427"/>
                </a:lnTo>
                <a:lnTo>
                  <a:pt x="96" y="4417"/>
                </a:lnTo>
                <a:lnTo>
                  <a:pt x="92" y="4405"/>
                </a:lnTo>
                <a:lnTo>
                  <a:pt x="89" y="4392"/>
                </a:lnTo>
                <a:lnTo>
                  <a:pt x="85" y="4379"/>
                </a:lnTo>
                <a:lnTo>
                  <a:pt x="82" y="4366"/>
                </a:lnTo>
                <a:lnTo>
                  <a:pt x="79" y="4353"/>
                </a:lnTo>
                <a:lnTo>
                  <a:pt x="67" y="4330"/>
                </a:lnTo>
                <a:lnTo>
                  <a:pt x="59" y="4309"/>
                </a:lnTo>
                <a:lnTo>
                  <a:pt x="50" y="4287"/>
                </a:lnTo>
                <a:lnTo>
                  <a:pt x="42" y="4267"/>
                </a:lnTo>
                <a:lnTo>
                  <a:pt x="34" y="4247"/>
                </a:lnTo>
                <a:lnTo>
                  <a:pt x="29" y="4228"/>
                </a:lnTo>
                <a:lnTo>
                  <a:pt x="23" y="4211"/>
                </a:lnTo>
                <a:lnTo>
                  <a:pt x="17" y="4193"/>
                </a:lnTo>
                <a:lnTo>
                  <a:pt x="13" y="4178"/>
                </a:lnTo>
                <a:lnTo>
                  <a:pt x="10" y="4162"/>
                </a:lnTo>
                <a:lnTo>
                  <a:pt x="7" y="4147"/>
                </a:lnTo>
                <a:lnTo>
                  <a:pt x="4" y="4133"/>
                </a:lnTo>
                <a:lnTo>
                  <a:pt x="3" y="4119"/>
                </a:lnTo>
                <a:lnTo>
                  <a:pt x="1" y="4106"/>
                </a:lnTo>
                <a:lnTo>
                  <a:pt x="0" y="4093"/>
                </a:lnTo>
                <a:lnTo>
                  <a:pt x="0" y="4081"/>
                </a:lnTo>
                <a:lnTo>
                  <a:pt x="0" y="4080"/>
                </a:lnTo>
                <a:lnTo>
                  <a:pt x="0" y="4077"/>
                </a:lnTo>
                <a:lnTo>
                  <a:pt x="0" y="4074"/>
                </a:lnTo>
                <a:lnTo>
                  <a:pt x="0" y="4070"/>
                </a:lnTo>
                <a:lnTo>
                  <a:pt x="0" y="4067"/>
                </a:lnTo>
                <a:lnTo>
                  <a:pt x="0" y="4062"/>
                </a:lnTo>
                <a:lnTo>
                  <a:pt x="1" y="4058"/>
                </a:lnTo>
                <a:lnTo>
                  <a:pt x="1" y="4052"/>
                </a:lnTo>
                <a:lnTo>
                  <a:pt x="1" y="4048"/>
                </a:lnTo>
                <a:lnTo>
                  <a:pt x="1" y="4042"/>
                </a:lnTo>
                <a:lnTo>
                  <a:pt x="1" y="4035"/>
                </a:lnTo>
                <a:lnTo>
                  <a:pt x="3" y="4029"/>
                </a:lnTo>
                <a:lnTo>
                  <a:pt x="3" y="4022"/>
                </a:lnTo>
                <a:lnTo>
                  <a:pt x="3" y="4015"/>
                </a:lnTo>
                <a:lnTo>
                  <a:pt x="3" y="4008"/>
                </a:lnTo>
                <a:lnTo>
                  <a:pt x="4" y="3999"/>
                </a:lnTo>
                <a:lnTo>
                  <a:pt x="4" y="3990"/>
                </a:lnTo>
                <a:lnTo>
                  <a:pt x="4" y="3982"/>
                </a:lnTo>
                <a:lnTo>
                  <a:pt x="6" y="3972"/>
                </a:lnTo>
                <a:lnTo>
                  <a:pt x="6" y="3963"/>
                </a:lnTo>
                <a:lnTo>
                  <a:pt x="7" y="3953"/>
                </a:lnTo>
                <a:lnTo>
                  <a:pt x="7" y="3943"/>
                </a:lnTo>
                <a:lnTo>
                  <a:pt x="8" y="3931"/>
                </a:lnTo>
                <a:lnTo>
                  <a:pt x="8" y="3920"/>
                </a:lnTo>
                <a:lnTo>
                  <a:pt x="8" y="3908"/>
                </a:lnTo>
                <a:lnTo>
                  <a:pt x="10" y="3897"/>
                </a:lnTo>
                <a:lnTo>
                  <a:pt x="11" y="3884"/>
                </a:lnTo>
                <a:lnTo>
                  <a:pt x="11" y="3871"/>
                </a:lnTo>
                <a:lnTo>
                  <a:pt x="13" y="3858"/>
                </a:lnTo>
                <a:lnTo>
                  <a:pt x="13" y="3845"/>
                </a:lnTo>
                <a:lnTo>
                  <a:pt x="14" y="3831"/>
                </a:lnTo>
                <a:lnTo>
                  <a:pt x="16" y="3816"/>
                </a:lnTo>
                <a:lnTo>
                  <a:pt x="16" y="3802"/>
                </a:lnTo>
                <a:lnTo>
                  <a:pt x="17" y="3787"/>
                </a:lnTo>
                <a:lnTo>
                  <a:pt x="19" y="3772"/>
                </a:lnTo>
                <a:lnTo>
                  <a:pt x="19" y="3756"/>
                </a:lnTo>
                <a:lnTo>
                  <a:pt x="20" y="3740"/>
                </a:lnTo>
                <a:lnTo>
                  <a:pt x="21" y="3723"/>
                </a:lnTo>
                <a:lnTo>
                  <a:pt x="23" y="3705"/>
                </a:lnTo>
                <a:lnTo>
                  <a:pt x="23" y="3688"/>
                </a:lnTo>
                <a:lnTo>
                  <a:pt x="24" y="3671"/>
                </a:lnTo>
                <a:lnTo>
                  <a:pt x="26" y="3652"/>
                </a:lnTo>
                <a:lnTo>
                  <a:pt x="27" y="3633"/>
                </a:lnTo>
                <a:lnTo>
                  <a:pt x="29" y="3615"/>
                </a:lnTo>
                <a:lnTo>
                  <a:pt x="30" y="3596"/>
                </a:lnTo>
                <a:lnTo>
                  <a:pt x="31" y="3576"/>
                </a:lnTo>
                <a:lnTo>
                  <a:pt x="31" y="3556"/>
                </a:lnTo>
                <a:lnTo>
                  <a:pt x="33" y="3536"/>
                </a:lnTo>
                <a:lnTo>
                  <a:pt x="34" y="3515"/>
                </a:lnTo>
                <a:lnTo>
                  <a:pt x="36" y="3494"/>
                </a:lnTo>
                <a:lnTo>
                  <a:pt x="37" y="3472"/>
                </a:lnTo>
                <a:lnTo>
                  <a:pt x="39" y="3451"/>
                </a:lnTo>
                <a:lnTo>
                  <a:pt x="40" y="3429"/>
                </a:lnTo>
                <a:lnTo>
                  <a:pt x="42" y="3406"/>
                </a:lnTo>
                <a:lnTo>
                  <a:pt x="43" y="3383"/>
                </a:lnTo>
                <a:lnTo>
                  <a:pt x="46" y="3360"/>
                </a:lnTo>
                <a:lnTo>
                  <a:pt x="47" y="3335"/>
                </a:lnTo>
                <a:lnTo>
                  <a:pt x="49" y="3311"/>
                </a:lnTo>
                <a:lnTo>
                  <a:pt x="50" y="3287"/>
                </a:lnTo>
                <a:lnTo>
                  <a:pt x="52" y="3262"/>
                </a:lnTo>
                <a:lnTo>
                  <a:pt x="53" y="3238"/>
                </a:lnTo>
                <a:lnTo>
                  <a:pt x="55" y="3212"/>
                </a:lnTo>
                <a:lnTo>
                  <a:pt x="57" y="3186"/>
                </a:lnTo>
                <a:lnTo>
                  <a:pt x="59" y="3158"/>
                </a:lnTo>
                <a:lnTo>
                  <a:pt x="66" y="3052"/>
                </a:lnTo>
                <a:lnTo>
                  <a:pt x="72" y="2944"/>
                </a:lnTo>
                <a:lnTo>
                  <a:pt x="79" y="2834"/>
                </a:lnTo>
                <a:lnTo>
                  <a:pt x="85" y="2722"/>
                </a:lnTo>
                <a:lnTo>
                  <a:pt x="89" y="2610"/>
                </a:lnTo>
                <a:lnTo>
                  <a:pt x="93" y="2495"/>
                </a:lnTo>
                <a:lnTo>
                  <a:pt x="98" y="2378"/>
                </a:lnTo>
                <a:lnTo>
                  <a:pt x="102" y="2261"/>
                </a:lnTo>
                <a:lnTo>
                  <a:pt x="106" y="2141"/>
                </a:lnTo>
                <a:lnTo>
                  <a:pt x="109" y="2020"/>
                </a:lnTo>
                <a:lnTo>
                  <a:pt x="111" y="1896"/>
                </a:lnTo>
                <a:lnTo>
                  <a:pt x="114" y="1772"/>
                </a:lnTo>
                <a:lnTo>
                  <a:pt x="115" y="1644"/>
                </a:lnTo>
                <a:lnTo>
                  <a:pt x="116" y="1516"/>
                </a:lnTo>
                <a:lnTo>
                  <a:pt x="116" y="1385"/>
                </a:lnTo>
                <a:lnTo>
                  <a:pt x="118" y="1252"/>
                </a:lnTo>
                <a:lnTo>
                  <a:pt x="116" y="1189"/>
                </a:lnTo>
                <a:lnTo>
                  <a:pt x="116" y="1126"/>
                </a:lnTo>
                <a:lnTo>
                  <a:pt x="116" y="1067"/>
                </a:lnTo>
                <a:lnTo>
                  <a:pt x="116" y="1008"/>
                </a:lnTo>
                <a:lnTo>
                  <a:pt x="116" y="951"/>
                </a:lnTo>
                <a:lnTo>
                  <a:pt x="115" y="897"/>
                </a:lnTo>
                <a:lnTo>
                  <a:pt x="115" y="843"/>
                </a:lnTo>
                <a:lnTo>
                  <a:pt x="114" y="793"/>
                </a:lnTo>
                <a:lnTo>
                  <a:pt x="112" y="744"/>
                </a:lnTo>
                <a:lnTo>
                  <a:pt x="111" y="697"/>
                </a:lnTo>
                <a:lnTo>
                  <a:pt x="111" y="652"/>
                </a:lnTo>
                <a:lnTo>
                  <a:pt x="109" y="609"/>
                </a:lnTo>
                <a:lnTo>
                  <a:pt x="108" y="567"/>
                </a:lnTo>
                <a:lnTo>
                  <a:pt x="106" y="527"/>
                </a:lnTo>
                <a:lnTo>
                  <a:pt x="103" y="489"/>
                </a:lnTo>
                <a:lnTo>
                  <a:pt x="102" y="453"/>
                </a:lnTo>
                <a:lnTo>
                  <a:pt x="101" y="420"/>
                </a:lnTo>
                <a:lnTo>
                  <a:pt x="98" y="387"/>
                </a:lnTo>
                <a:lnTo>
                  <a:pt x="96" y="357"/>
                </a:lnTo>
                <a:lnTo>
                  <a:pt x="93" y="330"/>
                </a:lnTo>
                <a:lnTo>
                  <a:pt x="92" y="304"/>
                </a:lnTo>
                <a:lnTo>
                  <a:pt x="89" y="279"/>
                </a:lnTo>
                <a:lnTo>
                  <a:pt x="86" y="256"/>
                </a:lnTo>
                <a:lnTo>
                  <a:pt x="85" y="236"/>
                </a:lnTo>
                <a:lnTo>
                  <a:pt x="82" y="217"/>
                </a:lnTo>
                <a:lnTo>
                  <a:pt x="79" y="200"/>
                </a:lnTo>
                <a:lnTo>
                  <a:pt x="76" y="186"/>
                </a:lnTo>
                <a:lnTo>
                  <a:pt x="72" y="173"/>
                </a:lnTo>
                <a:lnTo>
                  <a:pt x="69" y="163"/>
                </a:lnTo>
                <a:lnTo>
                  <a:pt x="66" y="154"/>
                </a:lnTo>
                <a:lnTo>
                  <a:pt x="62" y="147"/>
                </a:lnTo>
                <a:lnTo>
                  <a:pt x="59" y="142"/>
                </a:lnTo>
                <a:lnTo>
                  <a:pt x="49" y="134"/>
                </a:lnTo>
                <a:lnTo>
                  <a:pt x="40" y="127"/>
                </a:lnTo>
                <a:lnTo>
                  <a:pt x="31" y="118"/>
                </a:lnTo>
                <a:lnTo>
                  <a:pt x="26" y="111"/>
                </a:lnTo>
                <a:lnTo>
                  <a:pt x="20" y="102"/>
                </a:lnTo>
                <a:lnTo>
                  <a:pt x="16" y="95"/>
                </a:lnTo>
                <a:lnTo>
                  <a:pt x="13" y="86"/>
                </a:lnTo>
                <a:lnTo>
                  <a:pt x="10" y="79"/>
                </a:lnTo>
                <a:lnTo>
                  <a:pt x="8" y="70"/>
                </a:lnTo>
                <a:lnTo>
                  <a:pt x="8" y="63"/>
                </a:lnTo>
                <a:lnTo>
                  <a:pt x="8" y="56"/>
                </a:lnTo>
                <a:lnTo>
                  <a:pt x="10" y="47"/>
                </a:lnTo>
                <a:lnTo>
                  <a:pt x="11" y="40"/>
                </a:lnTo>
                <a:lnTo>
                  <a:pt x="13" y="32"/>
                </a:lnTo>
                <a:lnTo>
                  <a:pt x="16" y="24"/>
                </a:lnTo>
                <a:lnTo>
                  <a:pt x="20" y="17"/>
                </a:lnTo>
                <a:lnTo>
                  <a:pt x="23" y="13"/>
                </a:lnTo>
                <a:lnTo>
                  <a:pt x="29" y="10"/>
                </a:lnTo>
                <a:lnTo>
                  <a:pt x="34" y="7"/>
                </a:lnTo>
                <a:lnTo>
                  <a:pt x="42" y="4"/>
                </a:lnTo>
                <a:lnTo>
                  <a:pt x="50" y="3"/>
                </a:lnTo>
                <a:lnTo>
                  <a:pt x="59" y="1"/>
                </a:lnTo>
                <a:lnTo>
                  <a:pt x="69" y="0"/>
                </a:lnTo>
                <a:lnTo>
                  <a:pt x="80" y="0"/>
                </a:lnTo>
                <a:lnTo>
                  <a:pt x="93" y="0"/>
                </a:lnTo>
                <a:lnTo>
                  <a:pt x="106" y="1"/>
                </a:lnTo>
                <a:lnTo>
                  <a:pt x="122" y="3"/>
                </a:lnTo>
                <a:lnTo>
                  <a:pt x="138" y="4"/>
                </a:lnTo>
                <a:lnTo>
                  <a:pt x="155" y="7"/>
                </a:lnTo>
                <a:lnTo>
                  <a:pt x="174" y="10"/>
                </a:lnTo>
                <a:lnTo>
                  <a:pt x="194" y="13"/>
                </a:lnTo>
                <a:lnTo>
                  <a:pt x="216" y="17"/>
                </a:lnTo>
                <a:lnTo>
                  <a:pt x="236" y="24"/>
                </a:lnTo>
                <a:lnTo>
                  <a:pt x="256" y="33"/>
                </a:lnTo>
                <a:lnTo>
                  <a:pt x="275" y="40"/>
                </a:lnTo>
                <a:lnTo>
                  <a:pt x="292" y="49"/>
                </a:lnTo>
                <a:lnTo>
                  <a:pt x="308" y="56"/>
                </a:lnTo>
                <a:lnTo>
                  <a:pt x="322" y="65"/>
                </a:lnTo>
                <a:lnTo>
                  <a:pt x="337" y="73"/>
                </a:lnTo>
                <a:lnTo>
                  <a:pt x="350" y="82"/>
                </a:lnTo>
                <a:lnTo>
                  <a:pt x="360" y="91"/>
                </a:lnTo>
                <a:lnTo>
                  <a:pt x="371" y="101"/>
                </a:lnTo>
                <a:lnTo>
                  <a:pt x="380" y="109"/>
                </a:lnTo>
                <a:lnTo>
                  <a:pt x="388" y="119"/>
                </a:lnTo>
                <a:lnTo>
                  <a:pt x="394" y="129"/>
                </a:lnTo>
                <a:lnTo>
                  <a:pt x="401" y="139"/>
                </a:lnTo>
                <a:lnTo>
                  <a:pt x="406" y="151"/>
                </a:lnTo>
                <a:lnTo>
                  <a:pt x="410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68"/>
          <p:cNvSpPr/>
          <p:nvPr/>
        </p:nvSpPr>
        <p:spPr>
          <a:xfrm>
            <a:off x="5624640" y="3274920"/>
            <a:ext cx="939600" cy="268560"/>
          </a:xfrm>
          <a:custGeom>
            <a:avLst/>
            <a:gdLst/>
            <a:ahLst/>
            <a:rect l="l" t="t" r="r" b="b"/>
            <a:pathLst>
              <a:path w="1777" h="505">
                <a:moveTo>
                  <a:pt x="0" y="422"/>
                </a:moveTo>
                <a:lnTo>
                  <a:pt x="90" y="393"/>
                </a:lnTo>
                <a:lnTo>
                  <a:pt x="178" y="367"/>
                </a:lnTo>
                <a:lnTo>
                  <a:pt x="262" y="341"/>
                </a:lnTo>
                <a:lnTo>
                  <a:pt x="345" y="317"/>
                </a:lnTo>
                <a:lnTo>
                  <a:pt x="425" y="292"/>
                </a:lnTo>
                <a:lnTo>
                  <a:pt x="503" y="269"/>
                </a:lnTo>
                <a:lnTo>
                  <a:pt x="578" y="248"/>
                </a:lnTo>
                <a:lnTo>
                  <a:pt x="650" y="226"/>
                </a:lnTo>
                <a:lnTo>
                  <a:pt x="720" y="206"/>
                </a:lnTo>
                <a:lnTo>
                  <a:pt x="788" y="187"/>
                </a:lnTo>
                <a:lnTo>
                  <a:pt x="853" y="168"/>
                </a:lnTo>
                <a:lnTo>
                  <a:pt x="915" y="151"/>
                </a:lnTo>
                <a:lnTo>
                  <a:pt x="975" y="135"/>
                </a:lnTo>
                <a:lnTo>
                  <a:pt x="1033" y="119"/>
                </a:lnTo>
                <a:lnTo>
                  <a:pt x="1087" y="105"/>
                </a:lnTo>
                <a:lnTo>
                  <a:pt x="1139" y="92"/>
                </a:lnTo>
                <a:lnTo>
                  <a:pt x="1188" y="79"/>
                </a:lnTo>
                <a:lnTo>
                  <a:pt x="1236" y="68"/>
                </a:lnTo>
                <a:lnTo>
                  <a:pt x="1280" y="56"/>
                </a:lnTo>
                <a:lnTo>
                  <a:pt x="1322" y="46"/>
                </a:lnTo>
                <a:lnTo>
                  <a:pt x="1361" y="37"/>
                </a:lnTo>
                <a:lnTo>
                  <a:pt x="1397" y="30"/>
                </a:lnTo>
                <a:lnTo>
                  <a:pt x="1431" y="23"/>
                </a:lnTo>
                <a:lnTo>
                  <a:pt x="1463" y="16"/>
                </a:lnTo>
                <a:lnTo>
                  <a:pt x="1492" y="11"/>
                </a:lnTo>
                <a:lnTo>
                  <a:pt x="1518" y="7"/>
                </a:lnTo>
                <a:lnTo>
                  <a:pt x="1541" y="4"/>
                </a:lnTo>
                <a:lnTo>
                  <a:pt x="1562" y="1"/>
                </a:lnTo>
                <a:lnTo>
                  <a:pt x="1581" y="0"/>
                </a:lnTo>
                <a:lnTo>
                  <a:pt x="1597" y="0"/>
                </a:lnTo>
                <a:lnTo>
                  <a:pt x="1610" y="0"/>
                </a:lnTo>
                <a:lnTo>
                  <a:pt x="1620" y="3"/>
                </a:lnTo>
                <a:lnTo>
                  <a:pt x="1637" y="6"/>
                </a:lnTo>
                <a:lnTo>
                  <a:pt x="1654" y="11"/>
                </a:lnTo>
                <a:lnTo>
                  <a:pt x="1670" y="16"/>
                </a:lnTo>
                <a:lnTo>
                  <a:pt x="1686" y="22"/>
                </a:lnTo>
                <a:lnTo>
                  <a:pt x="1699" y="27"/>
                </a:lnTo>
                <a:lnTo>
                  <a:pt x="1712" y="33"/>
                </a:lnTo>
                <a:lnTo>
                  <a:pt x="1724" y="40"/>
                </a:lnTo>
                <a:lnTo>
                  <a:pt x="1735" y="46"/>
                </a:lnTo>
                <a:lnTo>
                  <a:pt x="1744" y="53"/>
                </a:lnTo>
                <a:lnTo>
                  <a:pt x="1752" y="60"/>
                </a:lnTo>
                <a:lnTo>
                  <a:pt x="1760" y="68"/>
                </a:lnTo>
                <a:lnTo>
                  <a:pt x="1765" y="75"/>
                </a:lnTo>
                <a:lnTo>
                  <a:pt x="1770" y="83"/>
                </a:lnTo>
                <a:lnTo>
                  <a:pt x="1774" y="91"/>
                </a:lnTo>
                <a:lnTo>
                  <a:pt x="1775" y="99"/>
                </a:lnTo>
                <a:lnTo>
                  <a:pt x="1777" y="106"/>
                </a:lnTo>
                <a:lnTo>
                  <a:pt x="1775" y="111"/>
                </a:lnTo>
                <a:lnTo>
                  <a:pt x="1774" y="115"/>
                </a:lnTo>
                <a:lnTo>
                  <a:pt x="1771" y="119"/>
                </a:lnTo>
                <a:lnTo>
                  <a:pt x="1767" y="124"/>
                </a:lnTo>
                <a:lnTo>
                  <a:pt x="1761" y="130"/>
                </a:lnTo>
                <a:lnTo>
                  <a:pt x="1754" y="134"/>
                </a:lnTo>
                <a:lnTo>
                  <a:pt x="1745" y="140"/>
                </a:lnTo>
                <a:lnTo>
                  <a:pt x="1737" y="145"/>
                </a:lnTo>
                <a:lnTo>
                  <a:pt x="1725" y="151"/>
                </a:lnTo>
                <a:lnTo>
                  <a:pt x="1713" y="157"/>
                </a:lnTo>
                <a:lnTo>
                  <a:pt x="1701" y="163"/>
                </a:lnTo>
                <a:lnTo>
                  <a:pt x="1686" y="170"/>
                </a:lnTo>
                <a:lnTo>
                  <a:pt x="1670" y="176"/>
                </a:lnTo>
                <a:lnTo>
                  <a:pt x="1653" y="183"/>
                </a:lnTo>
                <a:lnTo>
                  <a:pt x="1634" y="190"/>
                </a:lnTo>
                <a:lnTo>
                  <a:pt x="1616" y="197"/>
                </a:lnTo>
                <a:lnTo>
                  <a:pt x="1594" y="204"/>
                </a:lnTo>
                <a:lnTo>
                  <a:pt x="1572" y="213"/>
                </a:lnTo>
                <a:lnTo>
                  <a:pt x="1549" y="220"/>
                </a:lnTo>
                <a:lnTo>
                  <a:pt x="1525" y="229"/>
                </a:lnTo>
                <a:lnTo>
                  <a:pt x="1499" y="236"/>
                </a:lnTo>
                <a:lnTo>
                  <a:pt x="1472" y="245"/>
                </a:lnTo>
                <a:lnTo>
                  <a:pt x="1443" y="253"/>
                </a:lnTo>
                <a:lnTo>
                  <a:pt x="1414" y="262"/>
                </a:lnTo>
                <a:lnTo>
                  <a:pt x="1382" y="271"/>
                </a:lnTo>
                <a:lnTo>
                  <a:pt x="1351" y="279"/>
                </a:lnTo>
                <a:lnTo>
                  <a:pt x="1318" y="289"/>
                </a:lnTo>
                <a:lnTo>
                  <a:pt x="1283" y="298"/>
                </a:lnTo>
                <a:lnTo>
                  <a:pt x="1247" y="308"/>
                </a:lnTo>
                <a:lnTo>
                  <a:pt x="1210" y="317"/>
                </a:lnTo>
                <a:lnTo>
                  <a:pt x="1172" y="327"/>
                </a:lnTo>
                <a:lnTo>
                  <a:pt x="1132" y="337"/>
                </a:lnTo>
                <a:lnTo>
                  <a:pt x="1090" y="347"/>
                </a:lnTo>
                <a:lnTo>
                  <a:pt x="1050" y="357"/>
                </a:lnTo>
                <a:lnTo>
                  <a:pt x="1011" y="366"/>
                </a:lnTo>
                <a:lnTo>
                  <a:pt x="972" y="374"/>
                </a:lnTo>
                <a:lnTo>
                  <a:pt x="935" y="384"/>
                </a:lnTo>
                <a:lnTo>
                  <a:pt x="897" y="392"/>
                </a:lnTo>
                <a:lnTo>
                  <a:pt x="863" y="400"/>
                </a:lnTo>
                <a:lnTo>
                  <a:pt x="828" y="409"/>
                </a:lnTo>
                <a:lnTo>
                  <a:pt x="794" y="416"/>
                </a:lnTo>
                <a:lnTo>
                  <a:pt x="762" y="423"/>
                </a:lnTo>
                <a:lnTo>
                  <a:pt x="730" y="430"/>
                </a:lnTo>
                <a:lnTo>
                  <a:pt x="699" y="438"/>
                </a:lnTo>
                <a:lnTo>
                  <a:pt x="670" y="443"/>
                </a:lnTo>
                <a:lnTo>
                  <a:pt x="641" y="449"/>
                </a:lnTo>
                <a:lnTo>
                  <a:pt x="612" y="455"/>
                </a:lnTo>
                <a:lnTo>
                  <a:pt x="586" y="461"/>
                </a:lnTo>
                <a:lnTo>
                  <a:pt x="559" y="466"/>
                </a:lnTo>
                <a:lnTo>
                  <a:pt x="535" y="471"/>
                </a:lnTo>
                <a:lnTo>
                  <a:pt x="510" y="475"/>
                </a:lnTo>
                <a:lnTo>
                  <a:pt x="487" y="479"/>
                </a:lnTo>
                <a:lnTo>
                  <a:pt x="464" y="484"/>
                </a:lnTo>
                <a:lnTo>
                  <a:pt x="442" y="488"/>
                </a:lnTo>
                <a:lnTo>
                  <a:pt x="422" y="491"/>
                </a:lnTo>
                <a:lnTo>
                  <a:pt x="402" y="494"/>
                </a:lnTo>
                <a:lnTo>
                  <a:pt x="383" y="497"/>
                </a:lnTo>
                <a:lnTo>
                  <a:pt x="365" y="498"/>
                </a:lnTo>
                <a:lnTo>
                  <a:pt x="347" y="499"/>
                </a:lnTo>
                <a:lnTo>
                  <a:pt x="332" y="502"/>
                </a:lnTo>
                <a:lnTo>
                  <a:pt x="316" y="502"/>
                </a:lnTo>
                <a:lnTo>
                  <a:pt x="300" y="504"/>
                </a:lnTo>
                <a:lnTo>
                  <a:pt x="287" y="504"/>
                </a:lnTo>
                <a:lnTo>
                  <a:pt x="274" y="505"/>
                </a:lnTo>
                <a:lnTo>
                  <a:pt x="248" y="504"/>
                </a:lnTo>
                <a:lnTo>
                  <a:pt x="224" y="504"/>
                </a:lnTo>
                <a:lnTo>
                  <a:pt x="201" y="502"/>
                </a:lnTo>
                <a:lnTo>
                  <a:pt x="178" y="501"/>
                </a:lnTo>
                <a:lnTo>
                  <a:pt x="157" y="498"/>
                </a:lnTo>
                <a:lnTo>
                  <a:pt x="137" y="495"/>
                </a:lnTo>
                <a:lnTo>
                  <a:pt x="117" y="491"/>
                </a:lnTo>
                <a:lnTo>
                  <a:pt x="100" y="487"/>
                </a:lnTo>
                <a:lnTo>
                  <a:pt x="83" y="481"/>
                </a:lnTo>
                <a:lnTo>
                  <a:pt x="67" y="475"/>
                </a:lnTo>
                <a:lnTo>
                  <a:pt x="52" y="468"/>
                </a:lnTo>
                <a:lnTo>
                  <a:pt x="39" y="461"/>
                </a:lnTo>
                <a:lnTo>
                  <a:pt x="28" y="452"/>
                </a:lnTo>
                <a:lnTo>
                  <a:pt x="16" y="443"/>
                </a:lnTo>
                <a:lnTo>
                  <a:pt x="8" y="432"/>
                </a:lnTo>
                <a:lnTo>
                  <a:pt x="0" y="4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69"/>
          <p:cNvSpPr/>
          <p:nvPr/>
        </p:nvSpPr>
        <p:spPr>
          <a:xfrm>
            <a:off x="5707080" y="3608280"/>
            <a:ext cx="774720" cy="255600"/>
          </a:xfrm>
          <a:custGeom>
            <a:avLst/>
            <a:gdLst/>
            <a:ahLst/>
            <a:rect l="l" t="t" r="r" b="b"/>
            <a:pathLst>
              <a:path w="1464" h="483">
                <a:moveTo>
                  <a:pt x="78" y="441"/>
                </a:moveTo>
                <a:lnTo>
                  <a:pt x="68" y="437"/>
                </a:lnTo>
                <a:lnTo>
                  <a:pt x="58" y="431"/>
                </a:lnTo>
                <a:lnTo>
                  <a:pt x="49" y="427"/>
                </a:lnTo>
                <a:lnTo>
                  <a:pt x="40" y="421"/>
                </a:lnTo>
                <a:lnTo>
                  <a:pt x="35" y="415"/>
                </a:lnTo>
                <a:lnTo>
                  <a:pt x="27" y="409"/>
                </a:lnTo>
                <a:lnTo>
                  <a:pt x="22" y="402"/>
                </a:lnTo>
                <a:lnTo>
                  <a:pt x="17" y="396"/>
                </a:lnTo>
                <a:lnTo>
                  <a:pt x="13" y="389"/>
                </a:lnTo>
                <a:lnTo>
                  <a:pt x="9" y="382"/>
                </a:lnTo>
                <a:lnTo>
                  <a:pt x="6" y="375"/>
                </a:lnTo>
                <a:lnTo>
                  <a:pt x="4" y="368"/>
                </a:lnTo>
                <a:lnTo>
                  <a:pt x="3" y="359"/>
                </a:lnTo>
                <a:lnTo>
                  <a:pt x="1" y="352"/>
                </a:lnTo>
                <a:lnTo>
                  <a:pt x="0" y="343"/>
                </a:lnTo>
                <a:lnTo>
                  <a:pt x="0" y="336"/>
                </a:lnTo>
                <a:lnTo>
                  <a:pt x="78" y="314"/>
                </a:lnTo>
                <a:lnTo>
                  <a:pt x="153" y="293"/>
                </a:lnTo>
                <a:lnTo>
                  <a:pt x="226" y="273"/>
                </a:lnTo>
                <a:lnTo>
                  <a:pt x="296" y="254"/>
                </a:lnTo>
                <a:lnTo>
                  <a:pt x="364" y="235"/>
                </a:lnTo>
                <a:lnTo>
                  <a:pt x="430" y="218"/>
                </a:lnTo>
                <a:lnTo>
                  <a:pt x="495" y="201"/>
                </a:lnTo>
                <a:lnTo>
                  <a:pt x="556" y="185"/>
                </a:lnTo>
                <a:lnTo>
                  <a:pt x="616" y="169"/>
                </a:lnTo>
                <a:lnTo>
                  <a:pt x="672" y="155"/>
                </a:lnTo>
                <a:lnTo>
                  <a:pt x="727" y="140"/>
                </a:lnTo>
                <a:lnTo>
                  <a:pt x="780" y="126"/>
                </a:lnTo>
                <a:lnTo>
                  <a:pt x="831" y="114"/>
                </a:lnTo>
                <a:lnTo>
                  <a:pt x="879" y="101"/>
                </a:lnTo>
                <a:lnTo>
                  <a:pt x="924" y="91"/>
                </a:lnTo>
                <a:lnTo>
                  <a:pt x="969" y="80"/>
                </a:lnTo>
                <a:lnTo>
                  <a:pt x="1010" y="70"/>
                </a:lnTo>
                <a:lnTo>
                  <a:pt x="1049" y="61"/>
                </a:lnTo>
                <a:lnTo>
                  <a:pt x="1087" y="52"/>
                </a:lnTo>
                <a:lnTo>
                  <a:pt x="1121" y="45"/>
                </a:lnTo>
                <a:lnTo>
                  <a:pt x="1153" y="38"/>
                </a:lnTo>
                <a:lnTo>
                  <a:pt x="1183" y="31"/>
                </a:lnTo>
                <a:lnTo>
                  <a:pt x="1212" y="25"/>
                </a:lnTo>
                <a:lnTo>
                  <a:pt x="1238" y="19"/>
                </a:lnTo>
                <a:lnTo>
                  <a:pt x="1262" y="15"/>
                </a:lnTo>
                <a:lnTo>
                  <a:pt x="1284" y="12"/>
                </a:lnTo>
                <a:lnTo>
                  <a:pt x="1303" y="8"/>
                </a:lnTo>
                <a:lnTo>
                  <a:pt x="1320" y="5"/>
                </a:lnTo>
                <a:lnTo>
                  <a:pt x="1334" y="3"/>
                </a:lnTo>
                <a:lnTo>
                  <a:pt x="1347" y="2"/>
                </a:lnTo>
                <a:lnTo>
                  <a:pt x="1359" y="0"/>
                </a:lnTo>
                <a:lnTo>
                  <a:pt x="1367" y="0"/>
                </a:lnTo>
                <a:lnTo>
                  <a:pt x="1378" y="0"/>
                </a:lnTo>
                <a:lnTo>
                  <a:pt x="1388" y="2"/>
                </a:lnTo>
                <a:lnTo>
                  <a:pt x="1398" y="3"/>
                </a:lnTo>
                <a:lnTo>
                  <a:pt x="1406" y="5"/>
                </a:lnTo>
                <a:lnTo>
                  <a:pt x="1415" y="6"/>
                </a:lnTo>
                <a:lnTo>
                  <a:pt x="1424" y="9"/>
                </a:lnTo>
                <a:lnTo>
                  <a:pt x="1431" y="12"/>
                </a:lnTo>
                <a:lnTo>
                  <a:pt x="1437" y="16"/>
                </a:lnTo>
                <a:lnTo>
                  <a:pt x="1444" y="21"/>
                </a:lnTo>
                <a:lnTo>
                  <a:pt x="1448" y="25"/>
                </a:lnTo>
                <a:lnTo>
                  <a:pt x="1454" y="31"/>
                </a:lnTo>
                <a:lnTo>
                  <a:pt x="1457" y="35"/>
                </a:lnTo>
                <a:lnTo>
                  <a:pt x="1460" y="42"/>
                </a:lnTo>
                <a:lnTo>
                  <a:pt x="1462" y="48"/>
                </a:lnTo>
                <a:lnTo>
                  <a:pt x="1464" y="55"/>
                </a:lnTo>
                <a:lnTo>
                  <a:pt x="1464" y="64"/>
                </a:lnTo>
                <a:lnTo>
                  <a:pt x="1464" y="70"/>
                </a:lnTo>
                <a:lnTo>
                  <a:pt x="1461" y="75"/>
                </a:lnTo>
                <a:lnTo>
                  <a:pt x="1458" y="81"/>
                </a:lnTo>
                <a:lnTo>
                  <a:pt x="1455" y="88"/>
                </a:lnTo>
                <a:lnTo>
                  <a:pt x="1450" y="94"/>
                </a:lnTo>
                <a:lnTo>
                  <a:pt x="1444" y="101"/>
                </a:lnTo>
                <a:lnTo>
                  <a:pt x="1435" y="107"/>
                </a:lnTo>
                <a:lnTo>
                  <a:pt x="1426" y="114"/>
                </a:lnTo>
                <a:lnTo>
                  <a:pt x="1416" y="121"/>
                </a:lnTo>
                <a:lnTo>
                  <a:pt x="1406" y="129"/>
                </a:lnTo>
                <a:lnTo>
                  <a:pt x="1393" y="136"/>
                </a:lnTo>
                <a:lnTo>
                  <a:pt x="1380" y="143"/>
                </a:lnTo>
                <a:lnTo>
                  <a:pt x="1366" y="150"/>
                </a:lnTo>
                <a:lnTo>
                  <a:pt x="1350" y="157"/>
                </a:lnTo>
                <a:lnTo>
                  <a:pt x="1333" y="165"/>
                </a:lnTo>
                <a:lnTo>
                  <a:pt x="1316" y="173"/>
                </a:lnTo>
                <a:lnTo>
                  <a:pt x="1295" y="180"/>
                </a:lnTo>
                <a:lnTo>
                  <a:pt x="1275" y="189"/>
                </a:lnTo>
                <a:lnTo>
                  <a:pt x="1254" y="196"/>
                </a:lnTo>
                <a:lnTo>
                  <a:pt x="1231" y="205"/>
                </a:lnTo>
                <a:lnTo>
                  <a:pt x="1206" y="214"/>
                </a:lnTo>
                <a:lnTo>
                  <a:pt x="1180" y="222"/>
                </a:lnTo>
                <a:lnTo>
                  <a:pt x="1154" y="231"/>
                </a:lnTo>
                <a:lnTo>
                  <a:pt x="1126" y="239"/>
                </a:lnTo>
                <a:lnTo>
                  <a:pt x="1097" y="248"/>
                </a:lnTo>
                <a:lnTo>
                  <a:pt x="1067" y="257"/>
                </a:lnTo>
                <a:lnTo>
                  <a:pt x="1035" y="267"/>
                </a:lnTo>
                <a:lnTo>
                  <a:pt x="1003" y="275"/>
                </a:lnTo>
                <a:lnTo>
                  <a:pt x="969" y="286"/>
                </a:lnTo>
                <a:lnTo>
                  <a:pt x="934" y="296"/>
                </a:lnTo>
                <a:lnTo>
                  <a:pt x="897" y="306"/>
                </a:lnTo>
                <a:lnTo>
                  <a:pt x="859" y="316"/>
                </a:lnTo>
                <a:lnTo>
                  <a:pt x="822" y="324"/>
                </a:lnTo>
                <a:lnTo>
                  <a:pt x="784" y="334"/>
                </a:lnTo>
                <a:lnTo>
                  <a:pt x="750" y="343"/>
                </a:lnTo>
                <a:lnTo>
                  <a:pt x="715" y="353"/>
                </a:lnTo>
                <a:lnTo>
                  <a:pt x="682" y="362"/>
                </a:lnTo>
                <a:lnTo>
                  <a:pt x="649" y="370"/>
                </a:lnTo>
                <a:lnTo>
                  <a:pt x="619" y="378"/>
                </a:lnTo>
                <a:lnTo>
                  <a:pt x="589" y="386"/>
                </a:lnTo>
                <a:lnTo>
                  <a:pt x="560" y="394"/>
                </a:lnTo>
                <a:lnTo>
                  <a:pt x="533" y="401"/>
                </a:lnTo>
                <a:lnTo>
                  <a:pt x="505" y="408"/>
                </a:lnTo>
                <a:lnTo>
                  <a:pt x="481" y="415"/>
                </a:lnTo>
                <a:lnTo>
                  <a:pt x="456" y="421"/>
                </a:lnTo>
                <a:lnTo>
                  <a:pt x="433" y="428"/>
                </a:lnTo>
                <a:lnTo>
                  <a:pt x="412" y="434"/>
                </a:lnTo>
                <a:lnTo>
                  <a:pt x="390" y="440"/>
                </a:lnTo>
                <a:lnTo>
                  <a:pt x="371" y="444"/>
                </a:lnTo>
                <a:lnTo>
                  <a:pt x="353" y="450"/>
                </a:lnTo>
                <a:lnTo>
                  <a:pt x="335" y="454"/>
                </a:lnTo>
                <a:lnTo>
                  <a:pt x="320" y="458"/>
                </a:lnTo>
                <a:lnTo>
                  <a:pt x="304" y="461"/>
                </a:lnTo>
                <a:lnTo>
                  <a:pt x="291" y="465"/>
                </a:lnTo>
                <a:lnTo>
                  <a:pt x="278" y="468"/>
                </a:lnTo>
                <a:lnTo>
                  <a:pt x="266" y="471"/>
                </a:lnTo>
                <a:lnTo>
                  <a:pt x="255" y="474"/>
                </a:lnTo>
                <a:lnTo>
                  <a:pt x="246" y="477"/>
                </a:lnTo>
                <a:lnTo>
                  <a:pt x="237" y="478"/>
                </a:lnTo>
                <a:lnTo>
                  <a:pt x="230" y="480"/>
                </a:lnTo>
                <a:lnTo>
                  <a:pt x="225" y="481"/>
                </a:lnTo>
                <a:lnTo>
                  <a:pt x="220" y="483"/>
                </a:lnTo>
                <a:lnTo>
                  <a:pt x="217" y="483"/>
                </a:lnTo>
                <a:lnTo>
                  <a:pt x="214" y="483"/>
                </a:lnTo>
                <a:lnTo>
                  <a:pt x="207" y="483"/>
                </a:lnTo>
                <a:lnTo>
                  <a:pt x="200" y="481"/>
                </a:lnTo>
                <a:lnTo>
                  <a:pt x="193" y="481"/>
                </a:lnTo>
                <a:lnTo>
                  <a:pt x="186" y="480"/>
                </a:lnTo>
                <a:lnTo>
                  <a:pt x="177" y="477"/>
                </a:lnTo>
                <a:lnTo>
                  <a:pt x="170" y="476"/>
                </a:lnTo>
                <a:lnTo>
                  <a:pt x="154" y="470"/>
                </a:lnTo>
                <a:lnTo>
                  <a:pt x="137" y="463"/>
                </a:lnTo>
                <a:lnTo>
                  <a:pt x="118" y="455"/>
                </a:lnTo>
                <a:lnTo>
                  <a:pt x="109" y="453"/>
                </a:lnTo>
                <a:lnTo>
                  <a:pt x="99" y="448"/>
                </a:lnTo>
                <a:lnTo>
                  <a:pt x="89" y="444"/>
                </a:lnTo>
                <a:lnTo>
                  <a:pt x="78" y="4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70"/>
          <p:cNvSpPr/>
          <p:nvPr/>
        </p:nvSpPr>
        <p:spPr>
          <a:xfrm>
            <a:off x="5427720" y="3897360"/>
            <a:ext cx="1209600" cy="779400"/>
          </a:xfrm>
          <a:custGeom>
            <a:avLst/>
            <a:gdLst/>
            <a:ahLst/>
            <a:rect l="l" t="t" r="r" b="b"/>
            <a:pathLst>
              <a:path w="2285" h="1471">
                <a:moveTo>
                  <a:pt x="1699" y="1362"/>
                </a:moveTo>
                <a:lnTo>
                  <a:pt x="1702" y="1346"/>
                </a:lnTo>
                <a:lnTo>
                  <a:pt x="1703" y="1330"/>
                </a:lnTo>
                <a:lnTo>
                  <a:pt x="1703" y="1314"/>
                </a:lnTo>
                <a:lnTo>
                  <a:pt x="1702" y="1299"/>
                </a:lnTo>
                <a:lnTo>
                  <a:pt x="1700" y="1283"/>
                </a:lnTo>
                <a:lnTo>
                  <a:pt x="1696" y="1268"/>
                </a:lnTo>
                <a:lnTo>
                  <a:pt x="1691" y="1253"/>
                </a:lnTo>
                <a:lnTo>
                  <a:pt x="1686" y="1238"/>
                </a:lnTo>
                <a:lnTo>
                  <a:pt x="1679" y="1224"/>
                </a:lnTo>
                <a:lnTo>
                  <a:pt x="1671" y="1209"/>
                </a:lnTo>
                <a:lnTo>
                  <a:pt x="1661" y="1195"/>
                </a:lnTo>
                <a:lnTo>
                  <a:pt x="1651" y="1182"/>
                </a:lnTo>
                <a:lnTo>
                  <a:pt x="1640" y="1169"/>
                </a:lnTo>
                <a:lnTo>
                  <a:pt x="1628" y="1156"/>
                </a:lnTo>
                <a:lnTo>
                  <a:pt x="1615" y="1143"/>
                </a:lnTo>
                <a:lnTo>
                  <a:pt x="1601" y="1132"/>
                </a:lnTo>
                <a:lnTo>
                  <a:pt x="1584" y="1119"/>
                </a:lnTo>
                <a:lnTo>
                  <a:pt x="1568" y="1107"/>
                </a:lnTo>
                <a:lnTo>
                  <a:pt x="1552" y="1096"/>
                </a:lnTo>
                <a:lnTo>
                  <a:pt x="1539" y="1084"/>
                </a:lnTo>
                <a:lnTo>
                  <a:pt x="1526" y="1073"/>
                </a:lnTo>
                <a:lnTo>
                  <a:pt x="1516" y="1063"/>
                </a:lnTo>
                <a:lnTo>
                  <a:pt x="1506" y="1051"/>
                </a:lnTo>
                <a:lnTo>
                  <a:pt x="1499" y="1041"/>
                </a:lnTo>
                <a:lnTo>
                  <a:pt x="1491" y="1032"/>
                </a:lnTo>
                <a:lnTo>
                  <a:pt x="1487" y="1022"/>
                </a:lnTo>
                <a:lnTo>
                  <a:pt x="1483" y="1015"/>
                </a:lnTo>
                <a:lnTo>
                  <a:pt x="1480" y="1006"/>
                </a:lnTo>
                <a:lnTo>
                  <a:pt x="1478" y="1001"/>
                </a:lnTo>
                <a:lnTo>
                  <a:pt x="1478" y="993"/>
                </a:lnTo>
                <a:lnTo>
                  <a:pt x="1480" y="989"/>
                </a:lnTo>
                <a:lnTo>
                  <a:pt x="1484" y="985"/>
                </a:lnTo>
                <a:lnTo>
                  <a:pt x="1484" y="980"/>
                </a:lnTo>
                <a:lnTo>
                  <a:pt x="1486" y="978"/>
                </a:lnTo>
                <a:lnTo>
                  <a:pt x="1490" y="975"/>
                </a:lnTo>
                <a:lnTo>
                  <a:pt x="1494" y="972"/>
                </a:lnTo>
                <a:lnTo>
                  <a:pt x="1500" y="970"/>
                </a:lnTo>
                <a:lnTo>
                  <a:pt x="1507" y="969"/>
                </a:lnTo>
                <a:lnTo>
                  <a:pt x="1516" y="969"/>
                </a:lnTo>
                <a:lnTo>
                  <a:pt x="1525" y="968"/>
                </a:lnTo>
                <a:lnTo>
                  <a:pt x="1536" y="969"/>
                </a:lnTo>
                <a:lnTo>
                  <a:pt x="1548" y="969"/>
                </a:lnTo>
                <a:lnTo>
                  <a:pt x="1561" y="970"/>
                </a:lnTo>
                <a:lnTo>
                  <a:pt x="1575" y="972"/>
                </a:lnTo>
                <a:lnTo>
                  <a:pt x="1589" y="975"/>
                </a:lnTo>
                <a:lnTo>
                  <a:pt x="1605" y="978"/>
                </a:lnTo>
                <a:lnTo>
                  <a:pt x="1622" y="980"/>
                </a:lnTo>
                <a:lnTo>
                  <a:pt x="1640" y="985"/>
                </a:lnTo>
                <a:lnTo>
                  <a:pt x="1657" y="992"/>
                </a:lnTo>
                <a:lnTo>
                  <a:pt x="1674" y="998"/>
                </a:lnTo>
                <a:lnTo>
                  <a:pt x="1690" y="1004"/>
                </a:lnTo>
                <a:lnTo>
                  <a:pt x="1706" y="1008"/>
                </a:lnTo>
                <a:lnTo>
                  <a:pt x="1720" y="1012"/>
                </a:lnTo>
                <a:lnTo>
                  <a:pt x="1735" y="1014"/>
                </a:lnTo>
                <a:lnTo>
                  <a:pt x="1748" y="1015"/>
                </a:lnTo>
                <a:lnTo>
                  <a:pt x="1759" y="1016"/>
                </a:lnTo>
                <a:lnTo>
                  <a:pt x="1771" y="1015"/>
                </a:lnTo>
                <a:lnTo>
                  <a:pt x="1782" y="1014"/>
                </a:lnTo>
                <a:lnTo>
                  <a:pt x="1792" y="1012"/>
                </a:lnTo>
                <a:lnTo>
                  <a:pt x="1802" y="1008"/>
                </a:lnTo>
                <a:lnTo>
                  <a:pt x="1811" y="1004"/>
                </a:lnTo>
                <a:lnTo>
                  <a:pt x="1820" y="998"/>
                </a:lnTo>
                <a:lnTo>
                  <a:pt x="1827" y="992"/>
                </a:lnTo>
                <a:lnTo>
                  <a:pt x="1835" y="985"/>
                </a:lnTo>
                <a:lnTo>
                  <a:pt x="1837" y="982"/>
                </a:lnTo>
                <a:lnTo>
                  <a:pt x="1838" y="979"/>
                </a:lnTo>
                <a:lnTo>
                  <a:pt x="1841" y="976"/>
                </a:lnTo>
                <a:lnTo>
                  <a:pt x="1843" y="972"/>
                </a:lnTo>
                <a:lnTo>
                  <a:pt x="1846" y="966"/>
                </a:lnTo>
                <a:lnTo>
                  <a:pt x="1847" y="962"/>
                </a:lnTo>
                <a:lnTo>
                  <a:pt x="1850" y="956"/>
                </a:lnTo>
                <a:lnTo>
                  <a:pt x="1853" y="949"/>
                </a:lnTo>
                <a:lnTo>
                  <a:pt x="1856" y="942"/>
                </a:lnTo>
                <a:lnTo>
                  <a:pt x="1857" y="934"/>
                </a:lnTo>
                <a:lnTo>
                  <a:pt x="1860" y="926"/>
                </a:lnTo>
                <a:lnTo>
                  <a:pt x="1863" y="917"/>
                </a:lnTo>
                <a:lnTo>
                  <a:pt x="1866" y="909"/>
                </a:lnTo>
                <a:lnTo>
                  <a:pt x="1869" y="898"/>
                </a:lnTo>
                <a:lnTo>
                  <a:pt x="1871" y="888"/>
                </a:lnTo>
                <a:lnTo>
                  <a:pt x="1874" y="877"/>
                </a:lnTo>
                <a:lnTo>
                  <a:pt x="1877" y="865"/>
                </a:lnTo>
                <a:lnTo>
                  <a:pt x="1880" y="852"/>
                </a:lnTo>
                <a:lnTo>
                  <a:pt x="1883" y="841"/>
                </a:lnTo>
                <a:lnTo>
                  <a:pt x="1884" y="826"/>
                </a:lnTo>
                <a:lnTo>
                  <a:pt x="1887" y="813"/>
                </a:lnTo>
                <a:lnTo>
                  <a:pt x="1890" y="799"/>
                </a:lnTo>
                <a:lnTo>
                  <a:pt x="1893" y="785"/>
                </a:lnTo>
                <a:lnTo>
                  <a:pt x="1896" y="769"/>
                </a:lnTo>
                <a:lnTo>
                  <a:pt x="1897" y="753"/>
                </a:lnTo>
                <a:lnTo>
                  <a:pt x="1900" y="737"/>
                </a:lnTo>
                <a:lnTo>
                  <a:pt x="1903" y="720"/>
                </a:lnTo>
                <a:lnTo>
                  <a:pt x="1905" y="703"/>
                </a:lnTo>
                <a:lnTo>
                  <a:pt x="1907" y="684"/>
                </a:lnTo>
                <a:lnTo>
                  <a:pt x="1909" y="667"/>
                </a:lnTo>
                <a:lnTo>
                  <a:pt x="1912" y="647"/>
                </a:lnTo>
                <a:lnTo>
                  <a:pt x="1913" y="628"/>
                </a:lnTo>
                <a:lnTo>
                  <a:pt x="1915" y="609"/>
                </a:lnTo>
                <a:lnTo>
                  <a:pt x="1916" y="590"/>
                </a:lnTo>
                <a:lnTo>
                  <a:pt x="1917" y="572"/>
                </a:lnTo>
                <a:lnTo>
                  <a:pt x="1919" y="554"/>
                </a:lnTo>
                <a:lnTo>
                  <a:pt x="1920" y="537"/>
                </a:lnTo>
                <a:lnTo>
                  <a:pt x="1922" y="521"/>
                </a:lnTo>
                <a:lnTo>
                  <a:pt x="1923" y="505"/>
                </a:lnTo>
                <a:lnTo>
                  <a:pt x="1925" y="490"/>
                </a:lnTo>
                <a:lnTo>
                  <a:pt x="1925" y="475"/>
                </a:lnTo>
                <a:lnTo>
                  <a:pt x="1926" y="462"/>
                </a:lnTo>
                <a:lnTo>
                  <a:pt x="1926" y="448"/>
                </a:lnTo>
                <a:lnTo>
                  <a:pt x="1928" y="435"/>
                </a:lnTo>
                <a:lnTo>
                  <a:pt x="1928" y="423"/>
                </a:lnTo>
                <a:lnTo>
                  <a:pt x="1928" y="412"/>
                </a:lnTo>
                <a:lnTo>
                  <a:pt x="1928" y="400"/>
                </a:lnTo>
                <a:lnTo>
                  <a:pt x="1928" y="390"/>
                </a:lnTo>
                <a:lnTo>
                  <a:pt x="1928" y="380"/>
                </a:lnTo>
                <a:lnTo>
                  <a:pt x="1928" y="370"/>
                </a:lnTo>
                <a:lnTo>
                  <a:pt x="1928" y="361"/>
                </a:lnTo>
                <a:lnTo>
                  <a:pt x="1928" y="353"/>
                </a:lnTo>
                <a:lnTo>
                  <a:pt x="1926" y="346"/>
                </a:lnTo>
                <a:lnTo>
                  <a:pt x="1926" y="337"/>
                </a:lnTo>
                <a:lnTo>
                  <a:pt x="1925" y="331"/>
                </a:lnTo>
                <a:lnTo>
                  <a:pt x="1925" y="324"/>
                </a:lnTo>
                <a:lnTo>
                  <a:pt x="1923" y="318"/>
                </a:lnTo>
                <a:lnTo>
                  <a:pt x="1922" y="314"/>
                </a:lnTo>
                <a:lnTo>
                  <a:pt x="1920" y="308"/>
                </a:lnTo>
                <a:lnTo>
                  <a:pt x="1919" y="304"/>
                </a:lnTo>
                <a:lnTo>
                  <a:pt x="1917" y="301"/>
                </a:lnTo>
                <a:lnTo>
                  <a:pt x="1916" y="298"/>
                </a:lnTo>
                <a:lnTo>
                  <a:pt x="1915" y="295"/>
                </a:lnTo>
                <a:lnTo>
                  <a:pt x="1913" y="292"/>
                </a:lnTo>
                <a:lnTo>
                  <a:pt x="1909" y="288"/>
                </a:lnTo>
                <a:lnTo>
                  <a:pt x="1903" y="285"/>
                </a:lnTo>
                <a:lnTo>
                  <a:pt x="1896" y="282"/>
                </a:lnTo>
                <a:lnTo>
                  <a:pt x="1887" y="281"/>
                </a:lnTo>
                <a:lnTo>
                  <a:pt x="1877" y="279"/>
                </a:lnTo>
                <a:lnTo>
                  <a:pt x="1867" y="278"/>
                </a:lnTo>
                <a:lnTo>
                  <a:pt x="1854" y="277"/>
                </a:lnTo>
                <a:lnTo>
                  <a:pt x="1840" y="277"/>
                </a:lnTo>
                <a:lnTo>
                  <a:pt x="1824" y="277"/>
                </a:lnTo>
                <a:lnTo>
                  <a:pt x="1808" y="278"/>
                </a:lnTo>
                <a:lnTo>
                  <a:pt x="1789" y="279"/>
                </a:lnTo>
                <a:lnTo>
                  <a:pt x="1771" y="281"/>
                </a:lnTo>
                <a:lnTo>
                  <a:pt x="1749" y="282"/>
                </a:lnTo>
                <a:lnTo>
                  <a:pt x="1727" y="285"/>
                </a:lnTo>
                <a:lnTo>
                  <a:pt x="1703" y="288"/>
                </a:lnTo>
                <a:lnTo>
                  <a:pt x="1679" y="292"/>
                </a:lnTo>
                <a:lnTo>
                  <a:pt x="1666" y="295"/>
                </a:lnTo>
                <a:lnTo>
                  <a:pt x="1651" y="297"/>
                </a:lnTo>
                <a:lnTo>
                  <a:pt x="1637" y="300"/>
                </a:lnTo>
                <a:lnTo>
                  <a:pt x="1621" y="302"/>
                </a:lnTo>
                <a:lnTo>
                  <a:pt x="1605" y="305"/>
                </a:lnTo>
                <a:lnTo>
                  <a:pt x="1588" y="308"/>
                </a:lnTo>
                <a:lnTo>
                  <a:pt x="1571" y="313"/>
                </a:lnTo>
                <a:lnTo>
                  <a:pt x="1552" y="315"/>
                </a:lnTo>
                <a:lnTo>
                  <a:pt x="1532" y="320"/>
                </a:lnTo>
                <a:lnTo>
                  <a:pt x="1512" y="324"/>
                </a:lnTo>
                <a:lnTo>
                  <a:pt x="1491" y="328"/>
                </a:lnTo>
                <a:lnTo>
                  <a:pt x="1470" y="334"/>
                </a:lnTo>
                <a:lnTo>
                  <a:pt x="1447" y="338"/>
                </a:lnTo>
                <a:lnTo>
                  <a:pt x="1424" y="344"/>
                </a:lnTo>
                <a:lnTo>
                  <a:pt x="1401" y="348"/>
                </a:lnTo>
                <a:lnTo>
                  <a:pt x="1376" y="354"/>
                </a:lnTo>
                <a:lnTo>
                  <a:pt x="1350" y="361"/>
                </a:lnTo>
                <a:lnTo>
                  <a:pt x="1326" y="367"/>
                </a:lnTo>
                <a:lnTo>
                  <a:pt x="1299" y="373"/>
                </a:lnTo>
                <a:lnTo>
                  <a:pt x="1271" y="380"/>
                </a:lnTo>
                <a:lnTo>
                  <a:pt x="1244" y="387"/>
                </a:lnTo>
                <a:lnTo>
                  <a:pt x="1215" y="395"/>
                </a:lnTo>
                <a:lnTo>
                  <a:pt x="1186" y="402"/>
                </a:lnTo>
                <a:lnTo>
                  <a:pt x="1157" y="409"/>
                </a:lnTo>
                <a:lnTo>
                  <a:pt x="1127" y="418"/>
                </a:lnTo>
                <a:lnTo>
                  <a:pt x="1096" y="426"/>
                </a:lnTo>
                <a:lnTo>
                  <a:pt x="1064" y="435"/>
                </a:lnTo>
                <a:lnTo>
                  <a:pt x="1032" y="444"/>
                </a:lnTo>
                <a:lnTo>
                  <a:pt x="999" y="452"/>
                </a:lnTo>
                <a:lnTo>
                  <a:pt x="966" y="462"/>
                </a:lnTo>
                <a:lnTo>
                  <a:pt x="931" y="471"/>
                </a:lnTo>
                <a:lnTo>
                  <a:pt x="898" y="481"/>
                </a:lnTo>
                <a:lnTo>
                  <a:pt x="861" y="491"/>
                </a:lnTo>
                <a:lnTo>
                  <a:pt x="826" y="501"/>
                </a:lnTo>
                <a:lnTo>
                  <a:pt x="793" y="510"/>
                </a:lnTo>
                <a:lnTo>
                  <a:pt x="760" y="518"/>
                </a:lnTo>
                <a:lnTo>
                  <a:pt x="727" y="528"/>
                </a:lnTo>
                <a:lnTo>
                  <a:pt x="697" y="536"/>
                </a:lnTo>
                <a:lnTo>
                  <a:pt x="667" y="544"/>
                </a:lnTo>
                <a:lnTo>
                  <a:pt x="638" y="553"/>
                </a:lnTo>
                <a:lnTo>
                  <a:pt x="610" y="560"/>
                </a:lnTo>
                <a:lnTo>
                  <a:pt x="583" y="567"/>
                </a:lnTo>
                <a:lnTo>
                  <a:pt x="559" y="575"/>
                </a:lnTo>
                <a:lnTo>
                  <a:pt x="534" y="582"/>
                </a:lnTo>
                <a:lnTo>
                  <a:pt x="510" y="587"/>
                </a:lnTo>
                <a:lnTo>
                  <a:pt x="488" y="593"/>
                </a:lnTo>
                <a:lnTo>
                  <a:pt x="466" y="599"/>
                </a:lnTo>
                <a:lnTo>
                  <a:pt x="446" y="605"/>
                </a:lnTo>
                <a:lnTo>
                  <a:pt x="428" y="611"/>
                </a:lnTo>
                <a:lnTo>
                  <a:pt x="409" y="615"/>
                </a:lnTo>
                <a:lnTo>
                  <a:pt x="392" y="619"/>
                </a:lnTo>
                <a:lnTo>
                  <a:pt x="376" y="623"/>
                </a:lnTo>
                <a:lnTo>
                  <a:pt x="361" y="628"/>
                </a:lnTo>
                <a:lnTo>
                  <a:pt x="348" y="632"/>
                </a:lnTo>
                <a:lnTo>
                  <a:pt x="336" y="635"/>
                </a:lnTo>
                <a:lnTo>
                  <a:pt x="324" y="638"/>
                </a:lnTo>
                <a:lnTo>
                  <a:pt x="314" y="641"/>
                </a:lnTo>
                <a:lnTo>
                  <a:pt x="304" y="642"/>
                </a:lnTo>
                <a:lnTo>
                  <a:pt x="297" y="644"/>
                </a:lnTo>
                <a:lnTo>
                  <a:pt x="289" y="647"/>
                </a:lnTo>
                <a:lnTo>
                  <a:pt x="284" y="647"/>
                </a:lnTo>
                <a:lnTo>
                  <a:pt x="279" y="648"/>
                </a:lnTo>
                <a:lnTo>
                  <a:pt x="275" y="648"/>
                </a:lnTo>
                <a:lnTo>
                  <a:pt x="274" y="649"/>
                </a:lnTo>
                <a:lnTo>
                  <a:pt x="265" y="648"/>
                </a:lnTo>
                <a:lnTo>
                  <a:pt x="255" y="647"/>
                </a:lnTo>
                <a:lnTo>
                  <a:pt x="245" y="642"/>
                </a:lnTo>
                <a:lnTo>
                  <a:pt x="233" y="638"/>
                </a:lnTo>
                <a:lnTo>
                  <a:pt x="220" y="631"/>
                </a:lnTo>
                <a:lnTo>
                  <a:pt x="205" y="623"/>
                </a:lnTo>
                <a:lnTo>
                  <a:pt x="190" y="615"/>
                </a:lnTo>
                <a:lnTo>
                  <a:pt x="173" y="605"/>
                </a:lnTo>
                <a:lnTo>
                  <a:pt x="154" y="593"/>
                </a:lnTo>
                <a:lnTo>
                  <a:pt x="135" y="580"/>
                </a:lnTo>
                <a:lnTo>
                  <a:pt x="115" y="567"/>
                </a:lnTo>
                <a:lnTo>
                  <a:pt x="94" y="551"/>
                </a:lnTo>
                <a:lnTo>
                  <a:pt x="72" y="536"/>
                </a:lnTo>
                <a:lnTo>
                  <a:pt x="49" y="518"/>
                </a:lnTo>
                <a:lnTo>
                  <a:pt x="25" y="501"/>
                </a:lnTo>
                <a:lnTo>
                  <a:pt x="0" y="481"/>
                </a:lnTo>
                <a:lnTo>
                  <a:pt x="46" y="474"/>
                </a:lnTo>
                <a:lnTo>
                  <a:pt x="92" y="465"/>
                </a:lnTo>
                <a:lnTo>
                  <a:pt x="138" y="458"/>
                </a:lnTo>
                <a:lnTo>
                  <a:pt x="183" y="449"/>
                </a:lnTo>
                <a:lnTo>
                  <a:pt x="228" y="441"/>
                </a:lnTo>
                <a:lnTo>
                  <a:pt x="271" y="433"/>
                </a:lnTo>
                <a:lnTo>
                  <a:pt x="314" y="425"/>
                </a:lnTo>
                <a:lnTo>
                  <a:pt x="356" y="416"/>
                </a:lnTo>
                <a:lnTo>
                  <a:pt x="397" y="408"/>
                </a:lnTo>
                <a:lnTo>
                  <a:pt x="439" y="397"/>
                </a:lnTo>
                <a:lnTo>
                  <a:pt x="481" y="389"/>
                </a:lnTo>
                <a:lnTo>
                  <a:pt x="521" y="379"/>
                </a:lnTo>
                <a:lnTo>
                  <a:pt x="562" y="369"/>
                </a:lnTo>
                <a:lnTo>
                  <a:pt x="603" y="357"/>
                </a:lnTo>
                <a:lnTo>
                  <a:pt x="644" y="347"/>
                </a:lnTo>
                <a:lnTo>
                  <a:pt x="684" y="336"/>
                </a:lnTo>
                <a:lnTo>
                  <a:pt x="724" y="327"/>
                </a:lnTo>
                <a:lnTo>
                  <a:pt x="764" y="318"/>
                </a:lnTo>
                <a:lnTo>
                  <a:pt x="806" y="308"/>
                </a:lnTo>
                <a:lnTo>
                  <a:pt x="848" y="300"/>
                </a:lnTo>
                <a:lnTo>
                  <a:pt x="890" y="289"/>
                </a:lnTo>
                <a:lnTo>
                  <a:pt x="933" y="279"/>
                </a:lnTo>
                <a:lnTo>
                  <a:pt x="976" y="269"/>
                </a:lnTo>
                <a:lnTo>
                  <a:pt x="1019" y="259"/>
                </a:lnTo>
                <a:lnTo>
                  <a:pt x="1064" y="248"/>
                </a:lnTo>
                <a:lnTo>
                  <a:pt x="1109" y="238"/>
                </a:lnTo>
                <a:lnTo>
                  <a:pt x="1155" y="226"/>
                </a:lnTo>
                <a:lnTo>
                  <a:pt x="1199" y="215"/>
                </a:lnTo>
                <a:lnTo>
                  <a:pt x="1245" y="203"/>
                </a:lnTo>
                <a:lnTo>
                  <a:pt x="1291" y="192"/>
                </a:lnTo>
                <a:lnTo>
                  <a:pt x="1339" y="179"/>
                </a:lnTo>
                <a:lnTo>
                  <a:pt x="1386" y="167"/>
                </a:lnTo>
                <a:lnTo>
                  <a:pt x="1409" y="161"/>
                </a:lnTo>
                <a:lnTo>
                  <a:pt x="1432" y="156"/>
                </a:lnTo>
                <a:lnTo>
                  <a:pt x="1455" y="150"/>
                </a:lnTo>
                <a:lnTo>
                  <a:pt x="1477" y="144"/>
                </a:lnTo>
                <a:lnTo>
                  <a:pt x="1497" y="138"/>
                </a:lnTo>
                <a:lnTo>
                  <a:pt x="1519" y="134"/>
                </a:lnTo>
                <a:lnTo>
                  <a:pt x="1539" y="128"/>
                </a:lnTo>
                <a:lnTo>
                  <a:pt x="1558" y="124"/>
                </a:lnTo>
                <a:lnTo>
                  <a:pt x="1576" y="118"/>
                </a:lnTo>
                <a:lnTo>
                  <a:pt x="1594" y="114"/>
                </a:lnTo>
                <a:lnTo>
                  <a:pt x="1611" y="110"/>
                </a:lnTo>
                <a:lnTo>
                  <a:pt x="1628" y="105"/>
                </a:lnTo>
                <a:lnTo>
                  <a:pt x="1644" y="101"/>
                </a:lnTo>
                <a:lnTo>
                  <a:pt x="1660" y="97"/>
                </a:lnTo>
                <a:lnTo>
                  <a:pt x="1674" y="92"/>
                </a:lnTo>
                <a:lnTo>
                  <a:pt x="1689" y="88"/>
                </a:lnTo>
                <a:lnTo>
                  <a:pt x="1702" y="84"/>
                </a:lnTo>
                <a:lnTo>
                  <a:pt x="1715" y="81"/>
                </a:lnTo>
                <a:lnTo>
                  <a:pt x="1726" y="76"/>
                </a:lnTo>
                <a:lnTo>
                  <a:pt x="1738" y="74"/>
                </a:lnTo>
                <a:lnTo>
                  <a:pt x="1749" y="71"/>
                </a:lnTo>
                <a:lnTo>
                  <a:pt x="1758" y="66"/>
                </a:lnTo>
                <a:lnTo>
                  <a:pt x="1768" y="63"/>
                </a:lnTo>
                <a:lnTo>
                  <a:pt x="1776" y="61"/>
                </a:lnTo>
                <a:lnTo>
                  <a:pt x="1784" y="58"/>
                </a:lnTo>
                <a:lnTo>
                  <a:pt x="1791" y="55"/>
                </a:lnTo>
                <a:lnTo>
                  <a:pt x="1797" y="52"/>
                </a:lnTo>
                <a:lnTo>
                  <a:pt x="1802" y="50"/>
                </a:lnTo>
                <a:lnTo>
                  <a:pt x="1807" y="48"/>
                </a:lnTo>
                <a:lnTo>
                  <a:pt x="1810" y="45"/>
                </a:lnTo>
                <a:lnTo>
                  <a:pt x="1812" y="43"/>
                </a:lnTo>
                <a:lnTo>
                  <a:pt x="1815" y="42"/>
                </a:lnTo>
                <a:lnTo>
                  <a:pt x="1822" y="33"/>
                </a:lnTo>
                <a:lnTo>
                  <a:pt x="1831" y="26"/>
                </a:lnTo>
                <a:lnTo>
                  <a:pt x="1840" y="19"/>
                </a:lnTo>
                <a:lnTo>
                  <a:pt x="1844" y="16"/>
                </a:lnTo>
                <a:lnTo>
                  <a:pt x="1850" y="13"/>
                </a:lnTo>
                <a:lnTo>
                  <a:pt x="1856" y="10"/>
                </a:lnTo>
                <a:lnTo>
                  <a:pt x="1861" y="7"/>
                </a:lnTo>
                <a:lnTo>
                  <a:pt x="1869" y="4"/>
                </a:lnTo>
                <a:lnTo>
                  <a:pt x="1876" y="3"/>
                </a:lnTo>
                <a:lnTo>
                  <a:pt x="1884" y="2"/>
                </a:lnTo>
                <a:lnTo>
                  <a:pt x="1893" y="0"/>
                </a:lnTo>
                <a:lnTo>
                  <a:pt x="1903" y="0"/>
                </a:lnTo>
                <a:lnTo>
                  <a:pt x="1913" y="0"/>
                </a:lnTo>
                <a:lnTo>
                  <a:pt x="1920" y="0"/>
                </a:lnTo>
                <a:lnTo>
                  <a:pt x="1929" y="2"/>
                </a:lnTo>
                <a:lnTo>
                  <a:pt x="1939" y="3"/>
                </a:lnTo>
                <a:lnTo>
                  <a:pt x="1949" y="7"/>
                </a:lnTo>
                <a:lnTo>
                  <a:pt x="1961" y="10"/>
                </a:lnTo>
                <a:lnTo>
                  <a:pt x="1972" y="16"/>
                </a:lnTo>
                <a:lnTo>
                  <a:pt x="1985" y="22"/>
                </a:lnTo>
                <a:lnTo>
                  <a:pt x="2000" y="27"/>
                </a:lnTo>
                <a:lnTo>
                  <a:pt x="2012" y="35"/>
                </a:lnTo>
                <a:lnTo>
                  <a:pt x="2028" y="43"/>
                </a:lnTo>
                <a:lnTo>
                  <a:pt x="2043" y="52"/>
                </a:lnTo>
                <a:lnTo>
                  <a:pt x="2059" y="61"/>
                </a:lnTo>
                <a:lnTo>
                  <a:pt x="2076" y="71"/>
                </a:lnTo>
                <a:lnTo>
                  <a:pt x="2092" y="81"/>
                </a:lnTo>
                <a:lnTo>
                  <a:pt x="2110" y="92"/>
                </a:lnTo>
                <a:lnTo>
                  <a:pt x="2128" y="104"/>
                </a:lnTo>
                <a:lnTo>
                  <a:pt x="2145" y="120"/>
                </a:lnTo>
                <a:lnTo>
                  <a:pt x="2162" y="134"/>
                </a:lnTo>
                <a:lnTo>
                  <a:pt x="2178" y="148"/>
                </a:lnTo>
                <a:lnTo>
                  <a:pt x="2192" y="163"/>
                </a:lnTo>
                <a:lnTo>
                  <a:pt x="2207" y="176"/>
                </a:lnTo>
                <a:lnTo>
                  <a:pt x="2220" y="189"/>
                </a:lnTo>
                <a:lnTo>
                  <a:pt x="2231" y="200"/>
                </a:lnTo>
                <a:lnTo>
                  <a:pt x="2243" y="212"/>
                </a:lnTo>
                <a:lnTo>
                  <a:pt x="2251" y="222"/>
                </a:lnTo>
                <a:lnTo>
                  <a:pt x="2260" y="232"/>
                </a:lnTo>
                <a:lnTo>
                  <a:pt x="2267" y="241"/>
                </a:lnTo>
                <a:lnTo>
                  <a:pt x="2273" y="248"/>
                </a:lnTo>
                <a:lnTo>
                  <a:pt x="2277" y="255"/>
                </a:lnTo>
                <a:lnTo>
                  <a:pt x="2282" y="262"/>
                </a:lnTo>
                <a:lnTo>
                  <a:pt x="2283" y="266"/>
                </a:lnTo>
                <a:lnTo>
                  <a:pt x="2285" y="272"/>
                </a:lnTo>
                <a:lnTo>
                  <a:pt x="2283" y="279"/>
                </a:lnTo>
                <a:lnTo>
                  <a:pt x="2283" y="287"/>
                </a:lnTo>
                <a:lnTo>
                  <a:pt x="2282" y="292"/>
                </a:lnTo>
                <a:lnTo>
                  <a:pt x="2280" y="300"/>
                </a:lnTo>
                <a:lnTo>
                  <a:pt x="2279" y="305"/>
                </a:lnTo>
                <a:lnTo>
                  <a:pt x="2277" y="311"/>
                </a:lnTo>
                <a:lnTo>
                  <a:pt x="2272" y="321"/>
                </a:lnTo>
                <a:lnTo>
                  <a:pt x="2266" y="331"/>
                </a:lnTo>
                <a:lnTo>
                  <a:pt x="2259" y="340"/>
                </a:lnTo>
                <a:lnTo>
                  <a:pt x="2253" y="347"/>
                </a:lnTo>
                <a:lnTo>
                  <a:pt x="2246" y="356"/>
                </a:lnTo>
                <a:lnTo>
                  <a:pt x="2241" y="359"/>
                </a:lnTo>
                <a:lnTo>
                  <a:pt x="2238" y="360"/>
                </a:lnTo>
                <a:lnTo>
                  <a:pt x="2234" y="363"/>
                </a:lnTo>
                <a:lnTo>
                  <a:pt x="2231" y="367"/>
                </a:lnTo>
                <a:lnTo>
                  <a:pt x="2228" y="370"/>
                </a:lnTo>
                <a:lnTo>
                  <a:pt x="2226" y="374"/>
                </a:lnTo>
                <a:lnTo>
                  <a:pt x="2223" y="379"/>
                </a:lnTo>
                <a:lnTo>
                  <a:pt x="2220" y="383"/>
                </a:lnTo>
                <a:lnTo>
                  <a:pt x="2217" y="389"/>
                </a:lnTo>
                <a:lnTo>
                  <a:pt x="2214" y="395"/>
                </a:lnTo>
                <a:lnTo>
                  <a:pt x="2211" y="400"/>
                </a:lnTo>
                <a:lnTo>
                  <a:pt x="2208" y="406"/>
                </a:lnTo>
                <a:lnTo>
                  <a:pt x="2205" y="413"/>
                </a:lnTo>
                <a:lnTo>
                  <a:pt x="2204" y="420"/>
                </a:lnTo>
                <a:lnTo>
                  <a:pt x="2201" y="429"/>
                </a:lnTo>
                <a:lnTo>
                  <a:pt x="2198" y="436"/>
                </a:lnTo>
                <a:lnTo>
                  <a:pt x="2197" y="445"/>
                </a:lnTo>
                <a:lnTo>
                  <a:pt x="2194" y="454"/>
                </a:lnTo>
                <a:lnTo>
                  <a:pt x="2192" y="464"/>
                </a:lnTo>
                <a:lnTo>
                  <a:pt x="2190" y="474"/>
                </a:lnTo>
                <a:lnTo>
                  <a:pt x="2188" y="484"/>
                </a:lnTo>
                <a:lnTo>
                  <a:pt x="2185" y="494"/>
                </a:lnTo>
                <a:lnTo>
                  <a:pt x="2184" y="505"/>
                </a:lnTo>
                <a:lnTo>
                  <a:pt x="2182" y="517"/>
                </a:lnTo>
                <a:lnTo>
                  <a:pt x="2179" y="530"/>
                </a:lnTo>
                <a:lnTo>
                  <a:pt x="2178" y="543"/>
                </a:lnTo>
                <a:lnTo>
                  <a:pt x="2177" y="556"/>
                </a:lnTo>
                <a:lnTo>
                  <a:pt x="2174" y="569"/>
                </a:lnTo>
                <a:lnTo>
                  <a:pt x="2172" y="583"/>
                </a:lnTo>
                <a:lnTo>
                  <a:pt x="2171" y="598"/>
                </a:lnTo>
                <a:lnTo>
                  <a:pt x="2169" y="612"/>
                </a:lnTo>
                <a:lnTo>
                  <a:pt x="2168" y="628"/>
                </a:lnTo>
                <a:lnTo>
                  <a:pt x="2164" y="659"/>
                </a:lnTo>
                <a:lnTo>
                  <a:pt x="2159" y="690"/>
                </a:lnTo>
                <a:lnTo>
                  <a:pt x="2156" y="720"/>
                </a:lnTo>
                <a:lnTo>
                  <a:pt x="2152" y="750"/>
                </a:lnTo>
                <a:lnTo>
                  <a:pt x="2148" y="779"/>
                </a:lnTo>
                <a:lnTo>
                  <a:pt x="2143" y="809"/>
                </a:lnTo>
                <a:lnTo>
                  <a:pt x="2135" y="867"/>
                </a:lnTo>
                <a:lnTo>
                  <a:pt x="2125" y="923"/>
                </a:lnTo>
                <a:lnTo>
                  <a:pt x="2115" y="979"/>
                </a:lnTo>
                <a:lnTo>
                  <a:pt x="2102" y="1034"/>
                </a:lnTo>
                <a:lnTo>
                  <a:pt x="2096" y="1061"/>
                </a:lnTo>
                <a:lnTo>
                  <a:pt x="2089" y="1090"/>
                </a:lnTo>
                <a:lnTo>
                  <a:pt x="2084" y="1103"/>
                </a:lnTo>
                <a:lnTo>
                  <a:pt x="2082" y="1116"/>
                </a:lnTo>
                <a:lnTo>
                  <a:pt x="2073" y="1142"/>
                </a:lnTo>
                <a:lnTo>
                  <a:pt x="2066" y="1165"/>
                </a:lnTo>
                <a:lnTo>
                  <a:pt x="2057" y="1188"/>
                </a:lnTo>
                <a:lnTo>
                  <a:pt x="2047" y="1209"/>
                </a:lnTo>
                <a:lnTo>
                  <a:pt x="2038" y="1230"/>
                </a:lnTo>
                <a:lnTo>
                  <a:pt x="2028" y="1248"/>
                </a:lnTo>
                <a:lnTo>
                  <a:pt x="2018" y="1267"/>
                </a:lnTo>
                <a:lnTo>
                  <a:pt x="2008" y="1284"/>
                </a:lnTo>
                <a:lnTo>
                  <a:pt x="1998" y="1300"/>
                </a:lnTo>
                <a:lnTo>
                  <a:pt x="1987" y="1316"/>
                </a:lnTo>
                <a:lnTo>
                  <a:pt x="1977" y="1330"/>
                </a:lnTo>
                <a:lnTo>
                  <a:pt x="1965" y="1345"/>
                </a:lnTo>
                <a:lnTo>
                  <a:pt x="1955" y="1358"/>
                </a:lnTo>
                <a:lnTo>
                  <a:pt x="1943" y="1371"/>
                </a:lnTo>
                <a:lnTo>
                  <a:pt x="1933" y="1382"/>
                </a:lnTo>
                <a:lnTo>
                  <a:pt x="1919" y="1394"/>
                </a:lnTo>
                <a:lnTo>
                  <a:pt x="1905" y="1405"/>
                </a:lnTo>
                <a:lnTo>
                  <a:pt x="1892" y="1415"/>
                </a:lnTo>
                <a:lnTo>
                  <a:pt x="1877" y="1425"/>
                </a:lnTo>
                <a:lnTo>
                  <a:pt x="1866" y="1434"/>
                </a:lnTo>
                <a:lnTo>
                  <a:pt x="1853" y="1443"/>
                </a:lnTo>
                <a:lnTo>
                  <a:pt x="1841" y="1450"/>
                </a:lnTo>
                <a:lnTo>
                  <a:pt x="1830" y="1456"/>
                </a:lnTo>
                <a:lnTo>
                  <a:pt x="1820" y="1461"/>
                </a:lnTo>
                <a:lnTo>
                  <a:pt x="1810" y="1466"/>
                </a:lnTo>
                <a:lnTo>
                  <a:pt x="1799" y="1469"/>
                </a:lnTo>
                <a:lnTo>
                  <a:pt x="1789" y="1470"/>
                </a:lnTo>
                <a:lnTo>
                  <a:pt x="1781" y="1471"/>
                </a:lnTo>
                <a:lnTo>
                  <a:pt x="1772" y="1471"/>
                </a:lnTo>
                <a:lnTo>
                  <a:pt x="1765" y="1469"/>
                </a:lnTo>
                <a:lnTo>
                  <a:pt x="1761" y="1467"/>
                </a:lnTo>
                <a:lnTo>
                  <a:pt x="1758" y="1466"/>
                </a:lnTo>
                <a:lnTo>
                  <a:pt x="1751" y="1466"/>
                </a:lnTo>
                <a:lnTo>
                  <a:pt x="1743" y="1464"/>
                </a:lnTo>
                <a:lnTo>
                  <a:pt x="1738" y="1461"/>
                </a:lnTo>
                <a:lnTo>
                  <a:pt x="1732" y="1458"/>
                </a:lnTo>
                <a:lnTo>
                  <a:pt x="1726" y="1454"/>
                </a:lnTo>
                <a:lnTo>
                  <a:pt x="1722" y="1450"/>
                </a:lnTo>
                <a:lnTo>
                  <a:pt x="1717" y="1444"/>
                </a:lnTo>
                <a:lnTo>
                  <a:pt x="1713" y="1437"/>
                </a:lnTo>
                <a:lnTo>
                  <a:pt x="1710" y="1430"/>
                </a:lnTo>
                <a:lnTo>
                  <a:pt x="1707" y="1422"/>
                </a:lnTo>
                <a:lnTo>
                  <a:pt x="1704" y="1414"/>
                </a:lnTo>
                <a:lnTo>
                  <a:pt x="1703" y="1404"/>
                </a:lnTo>
                <a:lnTo>
                  <a:pt x="1700" y="1394"/>
                </a:lnTo>
                <a:lnTo>
                  <a:pt x="1700" y="1384"/>
                </a:lnTo>
                <a:lnTo>
                  <a:pt x="1699" y="1374"/>
                </a:lnTo>
                <a:lnTo>
                  <a:pt x="1699" y="13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71"/>
          <p:cNvSpPr/>
          <p:nvPr/>
        </p:nvSpPr>
        <p:spPr>
          <a:xfrm>
            <a:off x="6697800" y="3852720"/>
            <a:ext cx="222120" cy="498600"/>
          </a:xfrm>
          <a:custGeom>
            <a:avLst/>
            <a:gdLst/>
            <a:ahLst/>
            <a:rect l="l" t="t" r="r" b="b"/>
            <a:pathLst>
              <a:path w="418" h="943">
                <a:moveTo>
                  <a:pt x="274" y="818"/>
                </a:moveTo>
                <a:lnTo>
                  <a:pt x="264" y="834"/>
                </a:lnTo>
                <a:lnTo>
                  <a:pt x="254" y="848"/>
                </a:lnTo>
                <a:lnTo>
                  <a:pt x="243" y="861"/>
                </a:lnTo>
                <a:lnTo>
                  <a:pt x="233" y="873"/>
                </a:lnTo>
                <a:lnTo>
                  <a:pt x="225" y="884"/>
                </a:lnTo>
                <a:lnTo>
                  <a:pt x="216" y="894"/>
                </a:lnTo>
                <a:lnTo>
                  <a:pt x="209" y="904"/>
                </a:lnTo>
                <a:lnTo>
                  <a:pt x="200" y="911"/>
                </a:lnTo>
                <a:lnTo>
                  <a:pt x="193" y="920"/>
                </a:lnTo>
                <a:lnTo>
                  <a:pt x="187" y="926"/>
                </a:lnTo>
                <a:lnTo>
                  <a:pt x="180" y="932"/>
                </a:lnTo>
                <a:lnTo>
                  <a:pt x="174" y="936"/>
                </a:lnTo>
                <a:lnTo>
                  <a:pt x="170" y="939"/>
                </a:lnTo>
                <a:lnTo>
                  <a:pt x="164" y="942"/>
                </a:lnTo>
                <a:lnTo>
                  <a:pt x="160" y="943"/>
                </a:lnTo>
                <a:lnTo>
                  <a:pt x="157" y="943"/>
                </a:lnTo>
                <a:lnTo>
                  <a:pt x="153" y="943"/>
                </a:lnTo>
                <a:lnTo>
                  <a:pt x="148" y="942"/>
                </a:lnTo>
                <a:lnTo>
                  <a:pt x="144" y="939"/>
                </a:lnTo>
                <a:lnTo>
                  <a:pt x="138" y="936"/>
                </a:lnTo>
                <a:lnTo>
                  <a:pt x="133" y="932"/>
                </a:lnTo>
                <a:lnTo>
                  <a:pt x="127" y="927"/>
                </a:lnTo>
                <a:lnTo>
                  <a:pt x="121" y="922"/>
                </a:lnTo>
                <a:lnTo>
                  <a:pt x="115" y="914"/>
                </a:lnTo>
                <a:lnTo>
                  <a:pt x="108" y="907"/>
                </a:lnTo>
                <a:lnTo>
                  <a:pt x="101" y="900"/>
                </a:lnTo>
                <a:lnTo>
                  <a:pt x="95" y="891"/>
                </a:lnTo>
                <a:lnTo>
                  <a:pt x="88" y="881"/>
                </a:lnTo>
                <a:lnTo>
                  <a:pt x="81" y="873"/>
                </a:lnTo>
                <a:lnTo>
                  <a:pt x="74" y="861"/>
                </a:lnTo>
                <a:lnTo>
                  <a:pt x="66" y="851"/>
                </a:lnTo>
                <a:lnTo>
                  <a:pt x="59" y="839"/>
                </a:lnTo>
                <a:lnTo>
                  <a:pt x="52" y="827"/>
                </a:lnTo>
                <a:lnTo>
                  <a:pt x="46" y="816"/>
                </a:lnTo>
                <a:lnTo>
                  <a:pt x="39" y="805"/>
                </a:lnTo>
                <a:lnTo>
                  <a:pt x="33" y="795"/>
                </a:lnTo>
                <a:lnTo>
                  <a:pt x="29" y="786"/>
                </a:lnTo>
                <a:lnTo>
                  <a:pt x="23" y="776"/>
                </a:lnTo>
                <a:lnTo>
                  <a:pt x="19" y="767"/>
                </a:lnTo>
                <a:lnTo>
                  <a:pt x="15" y="760"/>
                </a:lnTo>
                <a:lnTo>
                  <a:pt x="12" y="752"/>
                </a:lnTo>
                <a:lnTo>
                  <a:pt x="9" y="744"/>
                </a:lnTo>
                <a:lnTo>
                  <a:pt x="6" y="739"/>
                </a:lnTo>
                <a:lnTo>
                  <a:pt x="4" y="733"/>
                </a:lnTo>
                <a:lnTo>
                  <a:pt x="2" y="727"/>
                </a:lnTo>
                <a:lnTo>
                  <a:pt x="2" y="721"/>
                </a:lnTo>
                <a:lnTo>
                  <a:pt x="0" y="717"/>
                </a:lnTo>
                <a:lnTo>
                  <a:pt x="0" y="713"/>
                </a:lnTo>
                <a:lnTo>
                  <a:pt x="0" y="708"/>
                </a:lnTo>
                <a:lnTo>
                  <a:pt x="2" y="704"/>
                </a:lnTo>
                <a:lnTo>
                  <a:pt x="3" y="698"/>
                </a:lnTo>
                <a:lnTo>
                  <a:pt x="4" y="693"/>
                </a:lnTo>
                <a:lnTo>
                  <a:pt x="7" y="687"/>
                </a:lnTo>
                <a:lnTo>
                  <a:pt x="10" y="680"/>
                </a:lnTo>
                <a:lnTo>
                  <a:pt x="13" y="672"/>
                </a:lnTo>
                <a:lnTo>
                  <a:pt x="17" y="664"/>
                </a:lnTo>
                <a:lnTo>
                  <a:pt x="23" y="654"/>
                </a:lnTo>
                <a:lnTo>
                  <a:pt x="28" y="644"/>
                </a:lnTo>
                <a:lnTo>
                  <a:pt x="35" y="634"/>
                </a:lnTo>
                <a:lnTo>
                  <a:pt x="42" y="622"/>
                </a:lnTo>
                <a:lnTo>
                  <a:pt x="49" y="609"/>
                </a:lnTo>
                <a:lnTo>
                  <a:pt x="59" y="596"/>
                </a:lnTo>
                <a:lnTo>
                  <a:pt x="68" y="582"/>
                </a:lnTo>
                <a:lnTo>
                  <a:pt x="79" y="566"/>
                </a:lnTo>
                <a:lnTo>
                  <a:pt x="84" y="560"/>
                </a:lnTo>
                <a:lnTo>
                  <a:pt x="89" y="553"/>
                </a:lnTo>
                <a:lnTo>
                  <a:pt x="95" y="544"/>
                </a:lnTo>
                <a:lnTo>
                  <a:pt x="101" y="536"/>
                </a:lnTo>
                <a:lnTo>
                  <a:pt x="105" y="527"/>
                </a:lnTo>
                <a:lnTo>
                  <a:pt x="111" y="517"/>
                </a:lnTo>
                <a:lnTo>
                  <a:pt x="117" y="507"/>
                </a:lnTo>
                <a:lnTo>
                  <a:pt x="123" y="495"/>
                </a:lnTo>
                <a:lnTo>
                  <a:pt x="128" y="482"/>
                </a:lnTo>
                <a:lnTo>
                  <a:pt x="134" y="469"/>
                </a:lnTo>
                <a:lnTo>
                  <a:pt x="140" y="457"/>
                </a:lnTo>
                <a:lnTo>
                  <a:pt x="146" y="442"/>
                </a:lnTo>
                <a:lnTo>
                  <a:pt x="151" y="428"/>
                </a:lnTo>
                <a:lnTo>
                  <a:pt x="157" y="412"/>
                </a:lnTo>
                <a:lnTo>
                  <a:pt x="163" y="395"/>
                </a:lnTo>
                <a:lnTo>
                  <a:pt x="169" y="377"/>
                </a:lnTo>
                <a:lnTo>
                  <a:pt x="174" y="360"/>
                </a:lnTo>
                <a:lnTo>
                  <a:pt x="182" y="341"/>
                </a:lnTo>
                <a:lnTo>
                  <a:pt x="187" y="321"/>
                </a:lnTo>
                <a:lnTo>
                  <a:pt x="193" y="301"/>
                </a:lnTo>
                <a:lnTo>
                  <a:pt x="200" y="279"/>
                </a:lnTo>
                <a:lnTo>
                  <a:pt x="206" y="258"/>
                </a:lnTo>
                <a:lnTo>
                  <a:pt x="212" y="236"/>
                </a:lnTo>
                <a:lnTo>
                  <a:pt x="219" y="213"/>
                </a:lnTo>
                <a:lnTo>
                  <a:pt x="225" y="189"/>
                </a:lnTo>
                <a:lnTo>
                  <a:pt x="232" y="164"/>
                </a:lnTo>
                <a:lnTo>
                  <a:pt x="239" y="138"/>
                </a:lnTo>
                <a:lnTo>
                  <a:pt x="245" y="112"/>
                </a:lnTo>
                <a:lnTo>
                  <a:pt x="252" y="85"/>
                </a:lnTo>
                <a:lnTo>
                  <a:pt x="259" y="58"/>
                </a:lnTo>
                <a:lnTo>
                  <a:pt x="266" y="29"/>
                </a:lnTo>
                <a:lnTo>
                  <a:pt x="274" y="0"/>
                </a:lnTo>
                <a:lnTo>
                  <a:pt x="278" y="0"/>
                </a:lnTo>
                <a:lnTo>
                  <a:pt x="282" y="2"/>
                </a:lnTo>
                <a:lnTo>
                  <a:pt x="287" y="4"/>
                </a:lnTo>
                <a:lnTo>
                  <a:pt x="292" y="7"/>
                </a:lnTo>
                <a:lnTo>
                  <a:pt x="297" y="13"/>
                </a:lnTo>
                <a:lnTo>
                  <a:pt x="302" y="17"/>
                </a:lnTo>
                <a:lnTo>
                  <a:pt x="310" y="25"/>
                </a:lnTo>
                <a:lnTo>
                  <a:pt x="315" y="32"/>
                </a:lnTo>
                <a:lnTo>
                  <a:pt x="323" y="40"/>
                </a:lnTo>
                <a:lnTo>
                  <a:pt x="328" y="49"/>
                </a:lnTo>
                <a:lnTo>
                  <a:pt x="336" y="59"/>
                </a:lnTo>
                <a:lnTo>
                  <a:pt x="343" y="71"/>
                </a:lnTo>
                <a:lnTo>
                  <a:pt x="350" y="84"/>
                </a:lnTo>
                <a:lnTo>
                  <a:pt x="357" y="97"/>
                </a:lnTo>
                <a:lnTo>
                  <a:pt x="364" y="111"/>
                </a:lnTo>
                <a:lnTo>
                  <a:pt x="372" y="127"/>
                </a:lnTo>
                <a:lnTo>
                  <a:pt x="379" y="143"/>
                </a:lnTo>
                <a:lnTo>
                  <a:pt x="384" y="159"/>
                </a:lnTo>
                <a:lnTo>
                  <a:pt x="390" y="176"/>
                </a:lnTo>
                <a:lnTo>
                  <a:pt x="396" y="193"/>
                </a:lnTo>
                <a:lnTo>
                  <a:pt x="402" y="212"/>
                </a:lnTo>
                <a:lnTo>
                  <a:pt x="406" y="231"/>
                </a:lnTo>
                <a:lnTo>
                  <a:pt x="409" y="251"/>
                </a:lnTo>
                <a:lnTo>
                  <a:pt x="412" y="271"/>
                </a:lnTo>
                <a:lnTo>
                  <a:pt x="415" y="291"/>
                </a:lnTo>
                <a:lnTo>
                  <a:pt x="416" y="313"/>
                </a:lnTo>
                <a:lnTo>
                  <a:pt x="418" y="336"/>
                </a:lnTo>
                <a:lnTo>
                  <a:pt x="418" y="359"/>
                </a:lnTo>
                <a:lnTo>
                  <a:pt x="418" y="383"/>
                </a:lnTo>
                <a:lnTo>
                  <a:pt x="416" y="409"/>
                </a:lnTo>
                <a:lnTo>
                  <a:pt x="413" y="435"/>
                </a:lnTo>
                <a:lnTo>
                  <a:pt x="410" y="462"/>
                </a:lnTo>
                <a:lnTo>
                  <a:pt x="406" y="488"/>
                </a:lnTo>
                <a:lnTo>
                  <a:pt x="402" y="516"/>
                </a:lnTo>
                <a:lnTo>
                  <a:pt x="396" y="541"/>
                </a:lnTo>
                <a:lnTo>
                  <a:pt x="389" y="567"/>
                </a:lnTo>
                <a:lnTo>
                  <a:pt x="382" y="592"/>
                </a:lnTo>
                <a:lnTo>
                  <a:pt x="374" y="616"/>
                </a:lnTo>
                <a:lnTo>
                  <a:pt x="366" y="639"/>
                </a:lnTo>
                <a:lnTo>
                  <a:pt x="356" y="662"/>
                </a:lnTo>
                <a:lnTo>
                  <a:pt x="347" y="685"/>
                </a:lnTo>
                <a:lnTo>
                  <a:pt x="337" y="707"/>
                </a:lnTo>
                <a:lnTo>
                  <a:pt x="327" y="727"/>
                </a:lnTo>
                <a:lnTo>
                  <a:pt x="317" y="747"/>
                </a:lnTo>
                <a:lnTo>
                  <a:pt x="305" y="766"/>
                </a:lnTo>
                <a:lnTo>
                  <a:pt x="295" y="785"/>
                </a:lnTo>
                <a:lnTo>
                  <a:pt x="285" y="802"/>
                </a:lnTo>
                <a:lnTo>
                  <a:pt x="274" y="8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72"/>
          <p:cNvSpPr/>
          <p:nvPr/>
        </p:nvSpPr>
        <p:spPr>
          <a:xfrm>
            <a:off x="6750000" y="3298680"/>
            <a:ext cx="1095480" cy="1806840"/>
          </a:xfrm>
          <a:custGeom>
            <a:avLst/>
            <a:gdLst/>
            <a:ahLst/>
            <a:rect l="l" t="t" r="r" b="b"/>
            <a:pathLst>
              <a:path w="2070" h="3414">
                <a:moveTo>
                  <a:pt x="1582" y="355"/>
                </a:moveTo>
                <a:lnTo>
                  <a:pt x="1578" y="348"/>
                </a:lnTo>
                <a:lnTo>
                  <a:pt x="1572" y="341"/>
                </a:lnTo>
                <a:lnTo>
                  <a:pt x="1566" y="334"/>
                </a:lnTo>
                <a:lnTo>
                  <a:pt x="1560" y="328"/>
                </a:lnTo>
                <a:lnTo>
                  <a:pt x="1553" y="322"/>
                </a:lnTo>
                <a:lnTo>
                  <a:pt x="1545" y="316"/>
                </a:lnTo>
                <a:lnTo>
                  <a:pt x="1537" y="312"/>
                </a:lnTo>
                <a:lnTo>
                  <a:pt x="1527" y="308"/>
                </a:lnTo>
                <a:lnTo>
                  <a:pt x="1519" y="303"/>
                </a:lnTo>
                <a:lnTo>
                  <a:pt x="1509" y="300"/>
                </a:lnTo>
                <a:lnTo>
                  <a:pt x="1499" y="298"/>
                </a:lnTo>
                <a:lnTo>
                  <a:pt x="1488" y="296"/>
                </a:lnTo>
                <a:lnTo>
                  <a:pt x="1477" y="295"/>
                </a:lnTo>
                <a:lnTo>
                  <a:pt x="1467" y="293"/>
                </a:lnTo>
                <a:lnTo>
                  <a:pt x="1455" y="292"/>
                </a:lnTo>
                <a:lnTo>
                  <a:pt x="1445" y="292"/>
                </a:lnTo>
                <a:lnTo>
                  <a:pt x="1440" y="292"/>
                </a:lnTo>
                <a:lnTo>
                  <a:pt x="1432" y="292"/>
                </a:lnTo>
                <a:lnTo>
                  <a:pt x="1427" y="292"/>
                </a:lnTo>
                <a:lnTo>
                  <a:pt x="1419" y="293"/>
                </a:lnTo>
                <a:lnTo>
                  <a:pt x="1412" y="293"/>
                </a:lnTo>
                <a:lnTo>
                  <a:pt x="1404" y="295"/>
                </a:lnTo>
                <a:lnTo>
                  <a:pt x="1395" y="295"/>
                </a:lnTo>
                <a:lnTo>
                  <a:pt x="1386" y="296"/>
                </a:lnTo>
                <a:lnTo>
                  <a:pt x="1376" y="296"/>
                </a:lnTo>
                <a:lnTo>
                  <a:pt x="1368" y="298"/>
                </a:lnTo>
                <a:lnTo>
                  <a:pt x="1356" y="299"/>
                </a:lnTo>
                <a:lnTo>
                  <a:pt x="1346" y="300"/>
                </a:lnTo>
                <a:lnTo>
                  <a:pt x="1334" y="302"/>
                </a:lnTo>
                <a:lnTo>
                  <a:pt x="1323" y="303"/>
                </a:lnTo>
                <a:lnTo>
                  <a:pt x="1311" y="305"/>
                </a:lnTo>
                <a:lnTo>
                  <a:pt x="1298" y="308"/>
                </a:lnTo>
                <a:lnTo>
                  <a:pt x="1285" y="309"/>
                </a:lnTo>
                <a:lnTo>
                  <a:pt x="1273" y="312"/>
                </a:lnTo>
                <a:lnTo>
                  <a:pt x="1258" y="313"/>
                </a:lnTo>
                <a:lnTo>
                  <a:pt x="1244" y="316"/>
                </a:lnTo>
                <a:lnTo>
                  <a:pt x="1229" y="319"/>
                </a:lnTo>
                <a:lnTo>
                  <a:pt x="1214" y="322"/>
                </a:lnTo>
                <a:lnTo>
                  <a:pt x="1198" y="323"/>
                </a:lnTo>
                <a:lnTo>
                  <a:pt x="1182" y="326"/>
                </a:lnTo>
                <a:lnTo>
                  <a:pt x="1165" y="331"/>
                </a:lnTo>
                <a:lnTo>
                  <a:pt x="1147" y="334"/>
                </a:lnTo>
                <a:lnTo>
                  <a:pt x="1130" y="336"/>
                </a:lnTo>
                <a:lnTo>
                  <a:pt x="1111" y="341"/>
                </a:lnTo>
                <a:lnTo>
                  <a:pt x="1094" y="344"/>
                </a:lnTo>
                <a:lnTo>
                  <a:pt x="1074" y="348"/>
                </a:lnTo>
                <a:lnTo>
                  <a:pt x="1055" y="351"/>
                </a:lnTo>
                <a:lnTo>
                  <a:pt x="1035" y="355"/>
                </a:lnTo>
                <a:lnTo>
                  <a:pt x="995" y="364"/>
                </a:lnTo>
                <a:lnTo>
                  <a:pt x="957" y="371"/>
                </a:lnTo>
                <a:lnTo>
                  <a:pt x="920" y="378"/>
                </a:lnTo>
                <a:lnTo>
                  <a:pt x="884" y="387"/>
                </a:lnTo>
                <a:lnTo>
                  <a:pt x="849" y="394"/>
                </a:lnTo>
                <a:lnTo>
                  <a:pt x="816" y="403"/>
                </a:lnTo>
                <a:lnTo>
                  <a:pt x="785" y="410"/>
                </a:lnTo>
                <a:lnTo>
                  <a:pt x="754" y="418"/>
                </a:lnTo>
                <a:lnTo>
                  <a:pt x="724" y="426"/>
                </a:lnTo>
                <a:lnTo>
                  <a:pt x="695" y="433"/>
                </a:lnTo>
                <a:lnTo>
                  <a:pt x="668" y="442"/>
                </a:lnTo>
                <a:lnTo>
                  <a:pt x="642" y="449"/>
                </a:lnTo>
                <a:lnTo>
                  <a:pt x="616" y="457"/>
                </a:lnTo>
                <a:lnTo>
                  <a:pt x="592" y="465"/>
                </a:lnTo>
                <a:lnTo>
                  <a:pt x="569" y="473"/>
                </a:lnTo>
                <a:lnTo>
                  <a:pt x="547" y="480"/>
                </a:lnTo>
                <a:lnTo>
                  <a:pt x="521" y="488"/>
                </a:lnTo>
                <a:lnTo>
                  <a:pt x="498" y="496"/>
                </a:lnTo>
                <a:lnTo>
                  <a:pt x="477" y="502"/>
                </a:lnTo>
                <a:lnTo>
                  <a:pt x="455" y="509"/>
                </a:lnTo>
                <a:lnTo>
                  <a:pt x="435" y="515"/>
                </a:lnTo>
                <a:lnTo>
                  <a:pt x="416" y="519"/>
                </a:lnTo>
                <a:lnTo>
                  <a:pt x="399" y="524"/>
                </a:lnTo>
                <a:lnTo>
                  <a:pt x="383" y="528"/>
                </a:lnTo>
                <a:lnTo>
                  <a:pt x="369" y="532"/>
                </a:lnTo>
                <a:lnTo>
                  <a:pt x="354" y="535"/>
                </a:lnTo>
                <a:lnTo>
                  <a:pt x="341" y="538"/>
                </a:lnTo>
                <a:lnTo>
                  <a:pt x="330" y="539"/>
                </a:lnTo>
                <a:lnTo>
                  <a:pt x="320" y="542"/>
                </a:lnTo>
                <a:lnTo>
                  <a:pt x="310" y="542"/>
                </a:lnTo>
                <a:lnTo>
                  <a:pt x="301" y="544"/>
                </a:lnTo>
                <a:lnTo>
                  <a:pt x="294" y="544"/>
                </a:lnTo>
                <a:lnTo>
                  <a:pt x="288" y="545"/>
                </a:lnTo>
                <a:lnTo>
                  <a:pt x="282" y="547"/>
                </a:lnTo>
                <a:lnTo>
                  <a:pt x="275" y="548"/>
                </a:lnTo>
                <a:lnTo>
                  <a:pt x="269" y="548"/>
                </a:lnTo>
                <a:lnTo>
                  <a:pt x="262" y="548"/>
                </a:lnTo>
                <a:lnTo>
                  <a:pt x="256" y="547"/>
                </a:lnTo>
                <a:lnTo>
                  <a:pt x="249" y="547"/>
                </a:lnTo>
                <a:lnTo>
                  <a:pt x="242" y="545"/>
                </a:lnTo>
                <a:lnTo>
                  <a:pt x="233" y="542"/>
                </a:lnTo>
                <a:lnTo>
                  <a:pt x="226" y="541"/>
                </a:lnTo>
                <a:lnTo>
                  <a:pt x="219" y="538"/>
                </a:lnTo>
                <a:lnTo>
                  <a:pt x="210" y="534"/>
                </a:lnTo>
                <a:lnTo>
                  <a:pt x="202" y="531"/>
                </a:lnTo>
                <a:lnTo>
                  <a:pt x="193" y="526"/>
                </a:lnTo>
                <a:lnTo>
                  <a:pt x="184" y="522"/>
                </a:lnTo>
                <a:lnTo>
                  <a:pt x="176" y="518"/>
                </a:lnTo>
                <a:lnTo>
                  <a:pt x="166" y="512"/>
                </a:lnTo>
                <a:lnTo>
                  <a:pt x="157" y="508"/>
                </a:lnTo>
                <a:lnTo>
                  <a:pt x="137" y="495"/>
                </a:lnTo>
                <a:lnTo>
                  <a:pt x="117" y="482"/>
                </a:lnTo>
                <a:lnTo>
                  <a:pt x="95" y="467"/>
                </a:lnTo>
                <a:lnTo>
                  <a:pt x="72" y="452"/>
                </a:lnTo>
                <a:lnTo>
                  <a:pt x="49" y="434"/>
                </a:lnTo>
                <a:lnTo>
                  <a:pt x="25" y="416"/>
                </a:lnTo>
                <a:lnTo>
                  <a:pt x="0" y="397"/>
                </a:lnTo>
                <a:lnTo>
                  <a:pt x="66" y="381"/>
                </a:lnTo>
                <a:lnTo>
                  <a:pt x="131" y="365"/>
                </a:lnTo>
                <a:lnTo>
                  <a:pt x="196" y="349"/>
                </a:lnTo>
                <a:lnTo>
                  <a:pt x="259" y="334"/>
                </a:lnTo>
                <a:lnTo>
                  <a:pt x="324" y="319"/>
                </a:lnTo>
                <a:lnTo>
                  <a:pt x="386" y="303"/>
                </a:lnTo>
                <a:lnTo>
                  <a:pt x="449" y="289"/>
                </a:lnTo>
                <a:lnTo>
                  <a:pt x="510" y="273"/>
                </a:lnTo>
                <a:lnTo>
                  <a:pt x="572" y="259"/>
                </a:lnTo>
                <a:lnTo>
                  <a:pt x="632" y="246"/>
                </a:lnTo>
                <a:lnTo>
                  <a:pt x="691" y="231"/>
                </a:lnTo>
                <a:lnTo>
                  <a:pt x="750" y="217"/>
                </a:lnTo>
                <a:lnTo>
                  <a:pt x="808" y="204"/>
                </a:lnTo>
                <a:lnTo>
                  <a:pt x="865" y="191"/>
                </a:lnTo>
                <a:lnTo>
                  <a:pt x="921" y="178"/>
                </a:lnTo>
                <a:lnTo>
                  <a:pt x="976" y="167"/>
                </a:lnTo>
                <a:lnTo>
                  <a:pt x="1003" y="161"/>
                </a:lnTo>
                <a:lnTo>
                  <a:pt x="1029" y="155"/>
                </a:lnTo>
                <a:lnTo>
                  <a:pt x="1055" y="149"/>
                </a:lnTo>
                <a:lnTo>
                  <a:pt x="1080" y="144"/>
                </a:lnTo>
                <a:lnTo>
                  <a:pt x="1104" y="138"/>
                </a:lnTo>
                <a:lnTo>
                  <a:pt x="1129" y="133"/>
                </a:lnTo>
                <a:lnTo>
                  <a:pt x="1152" y="128"/>
                </a:lnTo>
                <a:lnTo>
                  <a:pt x="1173" y="123"/>
                </a:lnTo>
                <a:lnTo>
                  <a:pt x="1195" y="118"/>
                </a:lnTo>
                <a:lnTo>
                  <a:pt x="1215" y="113"/>
                </a:lnTo>
                <a:lnTo>
                  <a:pt x="1235" y="109"/>
                </a:lnTo>
                <a:lnTo>
                  <a:pt x="1254" y="105"/>
                </a:lnTo>
                <a:lnTo>
                  <a:pt x="1273" y="100"/>
                </a:lnTo>
                <a:lnTo>
                  <a:pt x="1290" y="96"/>
                </a:lnTo>
                <a:lnTo>
                  <a:pt x="1307" y="92"/>
                </a:lnTo>
                <a:lnTo>
                  <a:pt x="1323" y="87"/>
                </a:lnTo>
                <a:lnTo>
                  <a:pt x="1337" y="85"/>
                </a:lnTo>
                <a:lnTo>
                  <a:pt x="1352" y="80"/>
                </a:lnTo>
                <a:lnTo>
                  <a:pt x="1366" y="76"/>
                </a:lnTo>
                <a:lnTo>
                  <a:pt x="1379" y="73"/>
                </a:lnTo>
                <a:lnTo>
                  <a:pt x="1391" y="70"/>
                </a:lnTo>
                <a:lnTo>
                  <a:pt x="1402" y="66"/>
                </a:lnTo>
                <a:lnTo>
                  <a:pt x="1412" y="63"/>
                </a:lnTo>
                <a:lnTo>
                  <a:pt x="1421" y="60"/>
                </a:lnTo>
                <a:lnTo>
                  <a:pt x="1429" y="57"/>
                </a:lnTo>
                <a:lnTo>
                  <a:pt x="1437" y="54"/>
                </a:lnTo>
                <a:lnTo>
                  <a:pt x="1444" y="53"/>
                </a:lnTo>
                <a:lnTo>
                  <a:pt x="1450" y="50"/>
                </a:lnTo>
                <a:lnTo>
                  <a:pt x="1455" y="47"/>
                </a:lnTo>
                <a:lnTo>
                  <a:pt x="1458" y="44"/>
                </a:lnTo>
                <a:lnTo>
                  <a:pt x="1461" y="43"/>
                </a:lnTo>
                <a:lnTo>
                  <a:pt x="1464" y="41"/>
                </a:lnTo>
                <a:lnTo>
                  <a:pt x="1468" y="37"/>
                </a:lnTo>
                <a:lnTo>
                  <a:pt x="1473" y="33"/>
                </a:lnTo>
                <a:lnTo>
                  <a:pt x="1477" y="28"/>
                </a:lnTo>
                <a:lnTo>
                  <a:pt x="1483" y="25"/>
                </a:lnTo>
                <a:lnTo>
                  <a:pt x="1493" y="18"/>
                </a:lnTo>
                <a:lnTo>
                  <a:pt x="1506" y="13"/>
                </a:lnTo>
                <a:lnTo>
                  <a:pt x="1519" y="7"/>
                </a:lnTo>
                <a:lnTo>
                  <a:pt x="1526" y="4"/>
                </a:lnTo>
                <a:lnTo>
                  <a:pt x="1533" y="2"/>
                </a:lnTo>
                <a:lnTo>
                  <a:pt x="1540" y="1"/>
                </a:lnTo>
                <a:lnTo>
                  <a:pt x="1547" y="0"/>
                </a:lnTo>
                <a:lnTo>
                  <a:pt x="1555" y="0"/>
                </a:lnTo>
                <a:lnTo>
                  <a:pt x="1562" y="0"/>
                </a:lnTo>
                <a:lnTo>
                  <a:pt x="1571" y="0"/>
                </a:lnTo>
                <a:lnTo>
                  <a:pt x="1579" y="1"/>
                </a:lnTo>
                <a:lnTo>
                  <a:pt x="1591" y="5"/>
                </a:lnTo>
                <a:lnTo>
                  <a:pt x="1602" y="10"/>
                </a:lnTo>
                <a:lnTo>
                  <a:pt x="1615" y="17"/>
                </a:lnTo>
                <a:lnTo>
                  <a:pt x="1631" y="24"/>
                </a:lnTo>
                <a:lnTo>
                  <a:pt x="1647" y="33"/>
                </a:lnTo>
                <a:lnTo>
                  <a:pt x="1664" y="43"/>
                </a:lnTo>
                <a:lnTo>
                  <a:pt x="1684" y="54"/>
                </a:lnTo>
                <a:lnTo>
                  <a:pt x="1704" y="67"/>
                </a:lnTo>
                <a:lnTo>
                  <a:pt x="1726" y="80"/>
                </a:lnTo>
                <a:lnTo>
                  <a:pt x="1749" y="96"/>
                </a:lnTo>
                <a:lnTo>
                  <a:pt x="1773" y="112"/>
                </a:lnTo>
                <a:lnTo>
                  <a:pt x="1799" y="129"/>
                </a:lnTo>
                <a:lnTo>
                  <a:pt x="1827" y="148"/>
                </a:lnTo>
                <a:lnTo>
                  <a:pt x="1856" y="167"/>
                </a:lnTo>
                <a:lnTo>
                  <a:pt x="1880" y="190"/>
                </a:lnTo>
                <a:lnTo>
                  <a:pt x="1903" y="213"/>
                </a:lnTo>
                <a:lnTo>
                  <a:pt x="1925" y="233"/>
                </a:lnTo>
                <a:lnTo>
                  <a:pt x="1935" y="243"/>
                </a:lnTo>
                <a:lnTo>
                  <a:pt x="1945" y="253"/>
                </a:lnTo>
                <a:lnTo>
                  <a:pt x="1955" y="263"/>
                </a:lnTo>
                <a:lnTo>
                  <a:pt x="1965" y="272"/>
                </a:lnTo>
                <a:lnTo>
                  <a:pt x="1974" y="280"/>
                </a:lnTo>
                <a:lnTo>
                  <a:pt x="1982" y="289"/>
                </a:lnTo>
                <a:lnTo>
                  <a:pt x="1991" y="298"/>
                </a:lnTo>
                <a:lnTo>
                  <a:pt x="1998" y="306"/>
                </a:lnTo>
                <a:lnTo>
                  <a:pt x="2005" y="313"/>
                </a:lnTo>
                <a:lnTo>
                  <a:pt x="2012" y="322"/>
                </a:lnTo>
                <a:lnTo>
                  <a:pt x="2020" y="329"/>
                </a:lnTo>
                <a:lnTo>
                  <a:pt x="2025" y="335"/>
                </a:lnTo>
                <a:lnTo>
                  <a:pt x="2031" y="342"/>
                </a:lnTo>
                <a:lnTo>
                  <a:pt x="2037" y="348"/>
                </a:lnTo>
                <a:lnTo>
                  <a:pt x="2043" y="354"/>
                </a:lnTo>
                <a:lnTo>
                  <a:pt x="2047" y="359"/>
                </a:lnTo>
                <a:lnTo>
                  <a:pt x="2051" y="365"/>
                </a:lnTo>
                <a:lnTo>
                  <a:pt x="2054" y="370"/>
                </a:lnTo>
                <a:lnTo>
                  <a:pt x="2058" y="374"/>
                </a:lnTo>
                <a:lnTo>
                  <a:pt x="2061" y="378"/>
                </a:lnTo>
                <a:lnTo>
                  <a:pt x="2064" y="383"/>
                </a:lnTo>
                <a:lnTo>
                  <a:pt x="2066" y="387"/>
                </a:lnTo>
                <a:lnTo>
                  <a:pt x="2067" y="390"/>
                </a:lnTo>
                <a:lnTo>
                  <a:pt x="2069" y="393"/>
                </a:lnTo>
                <a:lnTo>
                  <a:pt x="2069" y="395"/>
                </a:lnTo>
                <a:lnTo>
                  <a:pt x="2070" y="397"/>
                </a:lnTo>
                <a:lnTo>
                  <a:pt x="2011" y="460"/>
                </a:lnTo>
                <a:lnTo>
                  <a:pt x="2007" y="462"/>
                </a:lnTo>
                <a:lnTo>
                  <a:pt x="2004" y="466"/>
                </a:lnTo>
                <a:lnTo>
                  <a:pt x="1999" y="472"/>
                </a:lnTo>
                <a:lnTo>
                  <a:pt x="1997" y="478"/>
                </a:lnTo>
                <a:lnTo>
                  <a:pt x="1992" y="485"/>
                </a:lnTo>
                <a:lnTo>
                  <a:pt x="1989" y="493"/>
                </a:lnTo>
                <a:lnTo>
                  <a:pt x="1985" y="503"/>
                </a:lnTo>
                <a:lnTo>
                  <a:pt x="1982" y="515"/>
                </a:lnTo>
                <a:lnTo>
                  <a:pt x="1978" y="526"/>
                </a:lnTo>
                <a:lnTo>
                  <a:pt x="1974" y="539"/>
                </a:lnTo>
                <a:lnTo>
                  <a:pt x="1971" y="554"/>
                </a:lnTo>
                <a:lnTo>
                  <a:pt x="1966" y="570"/>
                </a:lnTo>
                <a:lnTo>
                  <a:pt x="1963" y="587"/>
                </a:lnTo>
                <a:lnTo>
                  <a:pt x="1959" y="604"/>
                </a:lnTo>
                <a:lnTo>
                  <a:pt x="1956" y="623"/>
                </a:lnTo>
                <a:lnTo>
                  <a:pt x="1952" y="643"/>
                </a:lnTo>
                <a:lnTo>
                  <a:pt x="1949" y="665"/>
                </a:lnTo>
                <a:lnTo>
                  <a:pt x="1945" y="686"/>
                </a:lnTo>
                <a:lnTo>
                  <a:pt x="1940" y="711"/>
                </a:lnTo>
                <a:lnTo>
                  <a:pt x="1938" y="735"/>
                </a:lnTo>
                <a:lnTo>
                  <a:pt x="1933" y="760"/>
                </a:lnTo>
                <a:lnTo>
                  <a:pt x="1930" y="787"/>
                </a:lnTo>
                <a:lnTo>
                  <a:pt x="1926" y="814"/>
                </a:lnTo>
                <a:lnTo>
                  <a:pt x="1923" y="843"/>
                </a:lnTo>
                <a:lnTo>
                  <a:pt x="1919" y="873"/>
                </a:lnTo>
                <a:lnTo>
                  <a:pt x="1916" y="904"/>
                </a:lnTo>
                <a:lnTo>
                  <a:pt x="1912" y="935"/>
                </a:lnTo>
                <a:lnTo>
                  <a:pt x="1909" y="968"/>
                </a:lnTo>
                <a:lnTo>
                  <a:pt x="1904" y="1002"/>
                </a:lnTo>
                <a:lnTo>
                  <a:pt x="1902" y="1038"/>
                </a:lnTo>
                <a:lnTo>
                  <a:pt x="1897" y="1072"/>
                </a:lnTo>
                <a:lnTo>
                  <a:pt x="1894" y="1110"/>
                </a:lnTo>
                <a:lnTo>
                  <a:pt x="1887" y="1184"/>
                </a:lnTo>
                <a:lnTo>
                  <a:pt x="1879" y="1256"/>
                </a:lnTo>
                <a:lnTo>
                  <a:pt x="1871" y="1328"/>
                </a:lnTo>
                <a:lnTo>
                  <a:pt x="1864" y="1400"/>
                </a:lnTo>
                <a:lnTo>
                  <a:pt x="1857" y="1471"/>
                </a:lnTo>
                <a:lnTo>
                  <a:pt x="1848" y="1540"/>
                </a:lnTo>
                <a:lnTo>
                  <a:pt x="1841" y="1608"/>
                </a:lnTo>
                <a:lnTo>
                  <a:pt x="1832" y="1675"/>
                </a:lnTo>
                <a:lnTo>
                  <a:pt x="1824" y="1742"/>
                </a:lnTo>
                <a:lnTo>
                  <a:pt x="1815" y="1806"/>
                </a:lnTo>
                <a:lnTo>
                  <a:pt x="1807" y="1871"/>
                </a:lnTo>
                <a:lnTo>
                  <a:pt x="1798" y="1934"/>
                </a:lnTo>
                <a:lnTo>
                  <a:pt x="1788" y="1996"/>
                </a:lnTo>
                <a:lnTo>
                  <a:pt x="1778" y="2058"/>
                </a:lnTo>
                <a:lnTo>
                  <a:pt x="1768" y="2119"/>
                </a:lnTo>
                <a:lnTo>
                  <a:pt x="1758" y="2178"/>
                </a:lnTo>
                <a:lnTo>
                  <a:pt x="1746" y="2237"/>
                </a:lnTo>
                <a:lnTo>
                  <a:pt x="1733" y="2294"/>
                </a:lnTo>
                <a:lnTo>
                  <a:pt x="1720" y="2352"/>
                </a:lnTo>
                <a:lnTo>
                  <a:pt x="1706" y="2409"/>
                </a:lnTo>
                <a:lnTo>
                  <a:pt x="1691" y="2466"/>
                </a:lnTo>
                <a:lnTo>
                  <a:pt x="1676" y="2520"/>
                </a:lnTo>
                <a:lnTo>
                  <a:pt x="1660" y="2575"/>
                </a:lnTo>
                <a:lnTo>
                  <a:pt x="1642" y="2628"/>
                </a:lnTo>
                <a:lnTo>
                  <a:pt x="1624" y="2680"/>
                </a:lnTo>
                <a:lnTo>
                  <a:pt x="1605" y="2732"/>
                </a:lnTo>
                <a:lnTo>
                  <a:pt x="1586" y="2782"/>
                </a:lnTo>
                <a:lnTo>
                  <a:pt x="1568" y="2831"/>
                </a:lnTo>
                <a:lnTo>
                  <a:pt x="1547" y="2880"/>
                </a:lnTo>
                <a:lnTo>
                  <a:pt x="1526" y="2926"/>
                </a:lnTo>
                <a:lnTo>
                  <a:pt x="1504" y="2972"/>
                </a:lnTo>
                <a:lnTo>
                  <a:pt x="1484" y="3017"/>
                </a:lnTo>
                <a:lnTo>
                  <a:pt x="1473" y="3040"/>
                </a:lnTo>
                <a:lnTo>
                  <a:pt x="1463" y="3062"/>
                </a:lnTo>
                <a:lnTo>
                  <a:pt x="1451" y="3083"/>
                </a:lnTo>
                <a:lnTo>
                  <a:pt x="1441" y="3105"/>
                </a:lnTo>
                <a:lnTo>
                  <a:pt x="1431" y="3125"/>
                </a:lnTo>
                <a:lnTo>
                  <a:pt x="1421" y="3145"/>
                </a:lnTo>
                <a:lnTo>
                  <a:pt x="1411" y="3164"/>
                </a:lnTo>
                <a:lnTo>
                  <a:pt x="1401" y="3181"/>
                </a:lnTo>
                <a:lnTo>
                  <a:pt x="1391" y="3200"/>
                </a:lnTo>
                <a:lnTo>
                  <a:pt x="1381" y="3216"/>
                </a:lnTo>
                <a:lnTo>
                  <a:pt x="1372" y="3232"/>
                </a:lnTo>
                <a:lnTo>
                  <a:pt x="1362" y="3247"/>
                </a:lnTo>
                <a:lnTo>
                  <a:pt x="1353" y="3262"/>
                </a:lnTo>
                <a:lnTo>
                  <a:pt x="1343" y="3276"/>
                </a:lnTo>
                <a:lnTo>
                  <a:pt x="1334" y="3289"/>
                </a:lnTo>
                <a:lnTo>
                  <a:pt x="1326" y="3302"/>
                </a:lnTo>
                <a:lnTo>
                  <a:pt x="1317" y="3314"/>
                </a:lnTo>
                <a:lnTo>
                  <a:pt x="1309" y="3325"/>
                </a:lnTo>
                <a:lnTo>
                  <a:pt x="1300" y="3335"/>
                </a:lnTo>
                <a:lnTo>
                  <a:pt x="1293" y="3345"/>
                </a:lnTo>
                <a:lnTo>
                  <a:pt x="1284" y="3355"/>
                </a:lnTo>
                <a:lnTo>
                  <a:pt x="1277" y="3363"/>
                </a:lnTo>
                <a:lnTo>
                  <a:pt x="1270" y="3371"/>
                </a:lnTo>
                <a:lnTo>
                  <a:pt x="1261" y="3378"/>
                </a:lnTo>
                <a:lnTo>
                  <a:pt x="1255" y="3386"/>
                </a:lnTo>
                <a:lnTo>
                  <a:pt x="1248" y="3391"/>
                </a:lnTo>
                <a:lnTo>
                  <a:pt x="1241" y="3397"/>
                </a:lnTo>
                <a:lnTo>
                  <a:pt x="1235" y="3401"/>
                </a:lnTo>
                <a:lnTo>
                  <a:pt x="1228" y="3406"/>
                </a:lnTo>
                <a:lnTo>
                  <a:pt x="1222" y="3409"/>
                </a:lnTo>
                <a:lnTo>
                  <a:pt x="1216" y="3411"/>
                </a:lnTo>
                <a:lnTo>
                  <a:pt x="1211" y="3414"/>
                </a:lnTo>
                <a:lnTo>
                  <a:pt x="1196" y="3414"/>
                </a:lnTo>
                <a:lnTo>
                  <a:pt x="1183" y="3413"/>
                </a:lnTo>
                <a:lnTo>
                  <a:pt x="1170" y="3410"/>
                </a:lnTo>
                <a:lnTo>
                  <a:pt x="1160" y="3406"/>
                </a:lnTo>
                <a:lnTo>
                  <a:pt x="1149" y="3401"/>
                </a:lnTo>
                <a:lnTo>
                  <a:pt x="1140" y="3394"/>
                </a:lnTo>
                <a:lnTo>
                  <a:pt x="1131" y="3387"/>
                </a:lnTo>
                <a:lnTo>
                  <a:pt x="1129" y="3383"/>
                </a:lnTo>
                <a:lnTo>
                  <a:pt x="1126" y="3378"/>
                </a:lnTo>
                <a:lnTo>
                  <a:pt x="1121" y="3373"/>
                </a:lnTo>
                <a:lnTo>
                  <a:pt x="1119" y="3367"/>
                </a:lnTo>
                <a:lnTo>
                  <a:pt x="1117" y="3361"/>
                </a:lnTo>
                <a:lnTo>
                  <a:pt x="1114" y="3355"/>
                </a:lnTo>
                <a:lnTo>
                  <a:pt x="1113" y="3348"/>
                </a:lnTo>
                <a:lnTo>
                  <a:pt x="1111" y="3341"/>
                </a:lnTo>
                <a:lnTo>
                  <a:pt x="1110" y="3334"/>
                </a:lnTo>
                <a:lnTo>
                  <a:pt x="1108" y="3327"/>
                </a:lnTo>
                <a:lnTo>
                  <a:pt x="1108" y="3318"/>
                </a:lnTo>
                <a:lnTo>
                  <a:pt x="1108" y="3309"/>
                </a:lnTo>
                <a:lnTo>
                  <a:pt x="1108" y="3299"/>
                </a:lnTo>
                <a:lnTo>
                  <a:pt x="1108" y="3291"/>
                </a:lnTo>
                <a:lnTo>
                  <a:pt x="1108" y="3280"/>
                </a:lnTo>
                <a:lnTo>
                  <a:pt x="1110" y="3269"/>
                </a:lnTo>
                <a:lnTo>
                  <a:pt x="1111" y="3259"/>
                </a:lnTo>
                <a:lnTo>
                  <a:pt x="1113" y="3247"/>
                </a:lnTo>
                <a:lnTo>
                  <a:pt x="1114" y="3237"/>
                </a:lnTo>
                <a:lnTo>
                  <a:pt x="1116" y="3227"/>
                </a:lnTo>
                <a:lnTo>
                  <a:pt x="1116" y="3217"/>
                </a:lnTo>
                <a:lnTo>
                  <a:pt x="1117" y="3206"/>
                </a:lnTo>
                <a:lnTo>
                  <a:pt x="1116" y="3196"/>
                </a:lnTo>
                <a:lnTo>
                  <a:pt x="1116" y="3185"/>
                </a:lnTo>
                <a:lnTo>
                  <a:pt x="1114" y="3174"/>
                </a:lnTo>
                <a:lnTo>
                  <a:pt x="1113" y="3164"/>
                </a:lnTo>
                <a:lnTo>
                  <a:pt x="1111" y="3152"/>
                </a:lnTo>
                <a:lnTo>
                  <a:pt x="1108" y="3142"/>
                </a:lnTo>
                <a:lnTo>
                  <a:pt x="1106" y="3131"/>
                </a:lnTo>
                <a:lnTo>
                  <a:pt x="1103" y="3119"/>
                </a:lnTo>
                <a:lnTo>
                  <a:pt x="1098" y="3108"/>
                </a:lnTo>
                <a:lnTo>
                  <a:pt x="1094" y="3096"/>
                </a:lnTo>
                <a:lnTo>
                  <a:pt x="1090" y="3083"/>
                </a:lnTo>
                <a:lnTo>
                  <a:pt x="1085" y="3072"/>
                </a:lnTo>
                <a:lnTo>
                  <a:pt x="1080" y="3059"/>
                </a:lnTo>
                <a:lnTo>
                  <a:pt x="1074" y="3046"/>
                </a:lnTo>
                <a:lnTo>
                  <a:pt x="1068" y="3034"/>
                </a:lnTo>
                <a:lnTo>
                  <a:pt x="1062" y="3021"/>
                </a:lnTo>
                <a:lnTo>
                  <a:pt x="1055" y="3008"/>
                </a:lnTo>
                <a:lnTo>
                  <a:pt x="1048" y="2994"/>
                </a:lnTo>
                <a:lnTo>
                  <a:pt x="1041" y="2981"/>
                </a:lnTo>
                <a:lnTo>
                  <a:pt x="1032" y="2967"/>
                </a:lnTo>
                <a:lnTo>
                  <a:pt x="1025" y="2954"/>
                </a:lnTo>
                <a:lnTo>
                  <a:pt x="1016" y="2939"/>
                </a:lnTo>
                <a:lnTo>
                  <a:pt x="998" y="2909"/>
                </a:lnTo>
                <a:lnTo>
                  <a:pt x="977" y="2880"/>
                </a:lnTo>
                <a:lnTo>
                  <a:pt x="957" y="2849"/>
                </a:lnTo>
                <a:lnTo>
                  <a:pt x="946" y="2834"/>
                </a:lnTo>
                <a:lnTo>
                  <a:pt x="936" y="2821"/>
                </a:lnTo>
                <a:lnTo>
                  <a:pt x="926" y="2808"/>
                </a:lnTo>
                <a:lnTo>
                  <a:pt x="917" y="2797"/>
                </a:lnTo>
                <a:lnTo>
                  <a:pt x="908" y="2784"/>
                </a:lnTo>
                <a:lnTo>
                  <a:pt x="900" y="2772"/>
                </a:lnTo>
                <a:lnTo>
                  <a:pt x="891" y="2761"/>
                </a:lnTo>
                <a:lnTo>
                  <a:pt x="884" y="2749"/>
                </a:lnTo>
                <a:lnTo>
                  <a:pt x="877" y="2739"/>
                </a:lnTo>
                <a:lnTo>
                  <a:pt x="869" y="2729"/>
                </a:lnTo>
                <a:lnTo>
                  <a:pt x="864" y="2719"/>
                </a:lnTo>
                <a:lnTo>
                  <a:pt x="858" y="2709"/>
                </a:lnTo>
                <a:lnTo>
                  <a:pt x="852" y="2700"/>
                </a:lnTo>
                <a:lnTo>
                  <a:pt x="846" y="2692"/>
                </a:lnTo>
                <a:lnTo>
                  <a:pt x="842" y="2683"/>
                </a:lnTo>
                <a:lnTo>
                  <a:pt x="838" y="2676"/>
                </a:lnTo>
                <a:lnTo>
                  <a:pt x="834" y="2667"/>
                </a:lnTo>
                <a:lnTo>
                  <a:pt x="831" y="2660"/>
                </a:lnTo>
                <a:lnTo>
                  <a:pt x="826" y="2653"/>
                </a:lnTo>
                <a:lnTo>
                  <a:pt x="823" y="2647"/>
                </a:lnTo>
                <a:lnTo>
                  <a:pt x="822" y="2641"/>
                </a:lnTo>
                <a:lnTo>
                  <a:pt x="819" y="2636"/>
                </a:lnTo>
                <a:lnTo>
                  <a:pt x="818" y="2630"/>
                </a:lnTo>
                <a:lnTo>
                  <a:pt x="816" y="2624"/>
                </a:lnTo>
                <a:lnTo>
                  <a:pt x="816" y="2620"/>
                </a:lnTo>
                <a:lnTo>
                  <a:pt x="815" y="2615"/>
                </a:lnTo>
                <a:lnTo>
                  <a:pt x="815" y="2611"/>
                </a:lnTo>
                <a:lnTo>
                  <a:pt x="815" y="2608"/>
                </a:lnTo>
                <a:lnTo>
                  <a:pt x="816" y="2604"/>
                </a:lnTo>
                <a:lnTo>
                  <a:pt x="816" y="2601"/>
                </a:lnTo>
                <a:lnTo>
                  <a:pt x="821" y="2597"/>
                </a:lnTo>
                <a:lnTo>
                  <a:pt x="823" y="2594"/>
                </a:lnTo>
                <a:lnTo>
                  <a:pt x="829" y="2591"/>
                </a:lnTo>
                <a:lnTo>
                  <a:pt x="835" y="2589"/>
                </a:lnTo>
                <a:lnTo>
                  <a:pt x="842" y="2588"/>
                </a:lnTo>
                <a:lnTo>
                  <a:pt x="849" y="2588"/>
                </a:lnTo>
                <a:lnTo>
                  <a:pt x="858" y="2589"/>
                </a:lnTo>
                <a:lnTo>
                  <a:pt x="868" y="2591"/>
                </a:lnTo>
                <a:lnTo>
                  <a:pt x="878" y="2594"/>
                </a:lnTo>
                <a:lnTo>
                  <a:pt x="890" y="2597"/>
                </a:lnTo>
                <a:lnTo>
                  <a:pt x="903" y="2601"/>
                </a:lnTo>
                <a:lnTo>
                  <a:pt x="916" y="2605"/>
                </a:lnTo>
                <a:lnTo>
                  <a:pt x="930" y="2611"/>
                </a:lnTo>
                <a:lnTo>
                  <a:pt x="944" y="2617"/>
                </a:lnTo>
                <a:lnTo>
                  <a:pt x="960" y="2624"/>
                </a:lnTo>
                <a:lnTo>
                  <a:pt x="977" y="2631"/>
                </a:lnTo>
                <a:lnTo>
                  <a:pt x="996" y="2640"/>
                </a:lnTo>
                <a:lnTo>
                  <a:pt x="1013" y="2650"/>
                </a:lnTo>
                <a:lnTo>
                  <a:pt x="1031" y="2661"/>
                </a:lnTo>
                <a:lnTo>
                  <a:pt x="1048" y="2670"/>
                </a:lnTo>
                <a:lnTo>
                  <a:pt x="1064" y="2679"/>
                </a:lnTo>
                <a:lnTo>
                  <a:pt x="1081" y="2686"/>
                </a:lnTo>
                <a:lnTo>
                  <a:pt x="1095" y="2693"/>
                </a:lnTo>
                <a:lnTo>
                  <a:pt x="1110" y="2699"/>
                </a:lnTo>
                <a:lnTo>
                  <a:pt x="1124" y="2705"/>
                </a:lnTo>
                <a:lnTo>
                  <a:pt x="1139" y="2709"/>
                </a:lnTo>
                <a:lnTo>
                  <a:pt x="1150" y="2713"/>
                </a:lnTo>
                <a:lnTo>
                  <a:pt x="1163" y="2716"/>
                </a:lnTo>
                <a:lnTo>
                  <a:pt x="1175" y="2719"/>
                </a:lnTo>
                <a:lnTo>
                  <a:pt x="1185" y="2720"/>
                </a:lnTo>
                <a:lnTo>
                  <a:pt x="1193" y="2722"/>
                </a:lnTo>
                <a:lnTo>
                  <a:pt x="1203" y="2722"/>
                </a:lnTo>
                <a:lnTo>
                  <a:pt x="1211" y="2723"/>
                </a:lnTo>
                <a:lnTo>
                  <a:pt x="1212" y="2722"/>
                </a:lnTo>
                <a:lnTo>
                  <a:pt x="1215" y="2722"/>
                </a:lnTo>
                <a:lnTo>
                  <a:pt x="1218" y="2720"/>
                </a:lnTo>
                <a:lnTo>
                  <a:pt x="1219" y="2719"/>
                </a:lnTo>
                <a:lnTo>
                  <a:pt x="1222" y="2718"/>
                </a:lnTo>
                <a:lnTo>
                  <a:pt x="1225" y="2716"/>
                </a:lnTo>
                <a:lnTo>
                  <a:pt x="1229" y="2713"/>
                </a:lnTo>
                <a:lnTo>
                  <a:pt x="1232" y="2710"/>
                </a:lnTo>
                <a:lnTo>
                  <a:pt x="1235" y="2708"/>
                </a:lnTo>
                <a:lnTo>
                  <a:pt x="1239" y="2703"/>
                </a:lnTo>
                <a:lnTo>
                  <a:pt x="1244" y="2699"/>
                </a:lnTo>
                <a:lnTo>
                  <a:pt x="1247" y="2695"/>
                </a:lnTo>
                <a:lnTo>
                  <a:pt x="1251" y="2690"/>
                </a:lnTo>
                <a:lnTo>
                  <a:pt x="1255" y="2684"/>
                </a:lnTo>
                <a:lnTo>
                  <a:pt x="1260" y="2679"/>
                </a:lnTo>
                <a:lnTo>
                  <a:pt x="1265" y="2673"/>
                </a:lnTo>
                <a:lnTo>
                  <a:pt x="1270" y="2666"/>
                </a:lnTo>
                <a:lnTo>
                  <a:pt x="1274" y="2660"/>
                </a:lnTo>
                <a:lnTo>
                  <a:pt x="1280" y="2651"/>
                </a:lnTo>
                <a:lnTo>
                  <a:pt x="1284" y="2644"/>
                </a:lnTo>
                <a:lnTo>
                  <a:pt x="1288" y="2636"/>
                </a:lnTo>
                <a:lnTo>
                  <a:pt x="1294" y="2627"/>
                </a:lnTo>
                <a:lnTo>
                  <a:pt x="1300" y="2618"/>
                </a:lnTo>
                <a:lnTo>
                  <a:pt x="1304" y="2608"/>
                </a:lnTo>
                <a:lnTo>
                  <a:pt x="1310" y="2598"/>
                </a:lnTo>
                <a:lnTo>
                  <a:pt x="1316" y="2587"/>
                </a:lnTo>
                <a:lnTo>
                  <a:pt x="1320" y="2576"/>
                </a:lnTo>
                <a:lnTo>
                  <a:pt x="1326" y="2565"/>
                </a:lnTo>
                <a:lnTo>
                  <a:pt x="1332" y="2552"/>
                </a:lnTo>
                <a:lnTo>
                  <a:pt x="1337" y="2539"/>
                </a:lnTo>
                <a:lnTo>
                  <a:pt x="1342" y="2526"/>
                </a:lnTo>
                <a:lnTo>
                  <a:pt x="1347" y="2513"/>
                </a:lnTo>
                <a:lnTo>
                  <a:pt x="1353" y="2499"/>
                </a:lnTo>
                <a:lnTo>
                  <a:pt x="1359" y="2484"/>
                </a:lnTo>
                <a:lnTo>
                  <a:pt x="1363" y="2467"/>
                </a:lnTo>
                <a:lnTo>
                  <a:pt x="1369" y="2450"/>
                </a:lnTo>
                <a:lnTo>
                  <a:pt x="1375" y="2433"/>
                </a:lnTo>
                <a:lnTo>
                  <a:pt x="1381" y="2412"/>
                </a:lnTo>
                <a:lnTo>
                  <a:pt x="1386" y="2392"/>
                </a:lnTo>
                <a:lnTo>
                  <a:pt x="1391" y="2371"/>
                </a:lnTo>
                <a:lnTo>
                  <a:pt x="1396" y="2349"/>
                </a:lnTo>
                <a:lnTo>
                  <a:pt x="1402" y="2325"/>
                </a:lnTo>
                <a:lnTo>
                  <a:pt x="1408" y="2300"/>
                </a:lnTo>
                <a:lnTo>
                  <a:pt x="1414" y="2276"/>
                </a:lnTo>
                <a:lnTo>
                  <a:pt x="1418" y="2248"/>
                </a:lnTo>
                <a:lnTo>
                  <a:pt x="1424" y="2221"/>
                </a:lnTo>
                <a:lnTo>
                  <a:pt x="1429" y="2192"/>
                </a:lnTo>
                <a:lnTo>
                  <a:pt x="1435" y="2162"/>
                </a:lnTo>
                <a:lnTo>
                  <a:pt x="1441" y="2132"/>
                </a:lnTo>
                <a:lnTo>
                  <a:pt x="1447" y="2099"/>
                </a:lnTo>
                <a:lnTo>
                  <a:pt x="1452" y="2065"/>
                </a:lnTo>
                <a:lnTo>
                  <a:pt x="1457" y="2032"/>
                </a:lnTo>
                <a:lnTo>
                  <a:pt x="1463" y="1996"/>
                </a:lnTo>
                <a:lnTo>
                  <a:pt x="1468" y="1959"/>
                </a:lnTo>
                <a:lnTo>
                  <a:pt x="1474" y="1921"/>
                </a:lnTo>
                <a:lnTo>
                  <a:pt x="1480" y="1883"/>
                </a:lnTo>
                <a:lnTo>
                  <a:pt x="1486" y="1842"/>
                </a:lnTo>
                <a:lnTo>
                  <a:pt x="1490" y="1802"/>
                </a:lnTo>
                <a:lnTo>
                  <a:pt x="1496" y="1759"/>
                </a:lnTo>
                <a:lnTo>
                  <a:pt x="1501" y="1716"/>
                </a:lnTo>
                <a:lnTo>
                  <a:pt x="1507" y="1671"/>
                </a:lnTo>
                <a:lnTo>
                  <a:pt x="1511" y="1625"/>
                </a:lnTo>
                <a:lnTo>
                  <a:pt x="1517" y="1577"/>
                </a:lnTo>
                <a:lnTo>
                  <a:pt x="1523" y="1528"/>
                </a:lnTo>
                <a:lnTo>
                  <a:pt x="1529" y="1482"/>
                </a:lnTo>
                <a:lnTo>
                  <a:pt x="1533" y="1436"/>
                </a:lnTo>
                <a:lnTo>
                  <a:pt x="1539" y="1392"/>
                </a:lnTo>
                <a:lnTo>
                  <a:pt x="1543" y="1348"/>
                </a:lnTo>
                <a:lnTo>
                  <a:pt x="1549" y="1307"/>
                </a:lnTo>
                <a:lnTo>
                  <a:pt x="1553" y="1265"/>
                </a:lnTo>
                <a:lnTo>
                  <a:pt x="1558" y="1226"/>
                </a:lnTo>
                <a:lnTo>
                  <a:pt x="1562" y="1187"/>
                </a:lnTo>
                <a:lnTo>
                  <a:pt x="1566" y="1148"/>
                </a:lnTo>
                <a:lnTo>
                  <a:pt x="1571" y="1112"/>
                </a:lnTo>
                <a:lnTo>
                  <a:pt x="1575" y="1076"/>
                </a:lnTo>
                <a:lnTo>
                  <a:pt x="1579" y="1042"/>
                </a:lnTo>
                <a:lnTo>
                  <a:pt x="1582" y="1009"/>
                </a:lnTo>
                <a:lnTo>
                  <a:pt x="1586" y="977"/>
                </a:lnTo>
                <a:lnTo>
                  <a:pt x="1589" y="945"/>
                </a:lnTo>
                <a:lnTo>
                  <a:pt x="1594" y="915"/>
                </a:lnTo>
                <a:lnTo>
                  <a:pt x="1596" y="886"/>
                </a:lnTo>
                <a:lnTo>
                  <a:pt x="1599" y="859"/>
                </a:lnTo>
                <a:lnTo>
                  <a:pt x="1602" y="832"/>
                </a:lnTo>
                <a:lnTo>
                  <a:pt x="1605" y="807"/>
                </a:lnTo>
                <a:lnTo>
                  <a:pt x="1607" y="783"/>
                </a:lnTo>
                <a:lnTo>
                  <a:pt x="1609" y="758"/>
                </a:lnTo>
                <a:lnTo>
                  <a:pt x="1611" y="737"/>
                </a:lnTo>
                <a:lnTo>
                  <a:pt x="1614" y="715"/>
                </a:lnTo>
                <a:lnTo>
                  <a:pt x="1615" y="695"/>
                </a:lnTo>
                <a:lnTo>
                  <a:pt x="1617" y="676"/>
                </a:lnTo>
                <a:lnTo>
                  <a:pt x="1618" y="659"/>
                </a:lnTo>
                <a:lnTo>
                  <a:pt x="1618" y="642"/>
                </a:lnTo>
                <a:lnTo>
                  <a:pt x="1619" y="626"/>
                </a:lnTo>
                <a:lnTo>
                  <a:pt x="1619" y="611"/>
                </a:lnTo>
                <a:lnTo>
                  <a:pt x="1619" y="598"/>
                </a:lnTo>
                <a:lnTo>
                  <a:pt x="1621" y="585"/>
                </a:lnTo>
                <a:lnTo>
                  <a:pt x="1619" y="562"/>
                </a:lnTo>
                <a:lnTo>
                  <a:pt x="1619" y="541"/>
                </a:lnTo>
                <a:lnTo>
                  <a:pt x="1618" y="519"/>
                </a:lnTo>
                <a:lnTo>
                  <a:pt x="1617" y="499"/>
                </a:lnTo>
                <a:lnTo>
                  <a:pt x="1615" y="480"/>
                </a:lnTo>
                <a:lnTo>
                  <a:pt x="1614" y="463"/>
                </a:lnTo>
                <a:lnTo>
                  <a:pt x="1611" y="446"/>
                </a:lnTo>
                <a:lnTo>
                  <a:pt x="1608" y="431"/>
                </a:lnTo>
                <a:lnTo>
                  <a:pt x="1605" y="417"/>
                </a:lnTo>
                <a:lnTo>
                  <a:pt x="1602" y="404"/>
                </a:lnTo>
                <a:lnTo>
                  <a:pt x="1599" y="393"/>
                </a:lnTo>
                <a:lnTo>
                  <a:pt x="1595" y="383"/>
                </a:lnTo>
                <a:lnTo>
                  <a:pt x="1592" y="374"/>
                </a:lnTo>
                <a:lnTo>
                  <a:pt x="1589" y="365"/>
                </a:lnTo>
                <a:lnTo>
                  <a:pt x="1585" y="359"/>
                </a:lnTo>
                <a:lnTo>
                  <a:pt x="1583" y="358"/>
                </a:lnTo>
                <a:lnTo>
                  <a:pt x="1582" y="3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reeform 73"/>
          <p:cNvSpPr/>
          <p:nvPr/>
        </p:nvSpPr>
        <p:spPr>
          <a:xfrm>
            <a:off x="6438960" y="3476520"/>
            <a:ext cx="890640" cy="1652760"/>
          </a:xfrm>
          <a:custGeom>
            <a:avLst/>
            <a:gdLst/>
            <a:ahLst/>
            <a:rect l="l" t="t" r="r" b="b"/>
            <a:pathLst>
              <a:path w="1683" h="3124">
                <a:moveTo>
                  <a:pt x="1214" y="1068"/>
                </a:moveTo>
                <a:lnTo>
                  <a:pt x="1231" y="989"/>
                </a:lnTo>
                <a:lnTo>
                  <a:pt x="1248" y="913"/>
                </a:lnTo>
                <a:lnTo>
                  <a:pt x="1264" y="838"/>
                </a:lnTo>
                <a:lnTo>
                  <a:pt x="1279" y="764"/>
                </a:lnTo>
                <a:lnTo>
                  <a:pt x="1293" y="692"/>
                </a:lnTo>
                <a:lnTo>
                  <a:pt x="1306" y="622"/>
                </a:lnTo>
                <a:lnTo>
                  <a:pt x="1317" y="553"/>
                </a:lnTo>
                <a:lnTo>
                  <a:pt x="1327" y="487"/>
                </a:lnTo>
                <a:lnTo>
                  <a:pt x="1338" y="420"/>
                </a:lnTo>
                <a:lnTo>
                  <a:pt x="1346" y="356"/>
                </a:lnTo>
                <a:lnTo>
                  <a:pt x="1353" y="292"/>
                </a:lnTo>
                <a:lnTo>
                  <a:pt x="1359" y="230"/>
                </a:lnTo>
                <a:lnTo>
                  <a:pt x="1363" y="171"/>
                </a:lnTo>
                <a:lnTo>
                  <a:pt x="1368" y="112"/>
                </a:lnTo>
                <a:lnTo>
                  <a:pt x="1369" y="55"/>
                </a:lnTo>
                <a:lnTo>
                  <a:pt x="1371" y="0"/>
                </a:lnTo>
                <a:lnTo>
                  <a:pt x="1389" y="17"/>
                </a:lnTo>
                <a:lnTo>
                  <a:pt x="1408" y="35"/>
                </a:lnTo>
                <a:lnTo>
                  <a:pt x="1427" y="50"/>
                </a:lnTo>
                <a:lnTo>
                  <a:pt x="1444" y="66"/>
                </a:lnTo>
                <a:lnTo>
                  <a:pt x="1461" y="82"/>
                </a:lnTo>
                <a:lnTo>
                  <a:pt x="1479" y="98"/>
                </a:lnTo>
                <a:lnTo>
                  <a:pt x="1493" y="112"/>
                </a:lnTo>
                <a:lnTo>
                  <a:pt x="1509" y="127"/>
                </a:lnTo>
                <a:lnTo>
                  <a:pt x="1523" y="140"/>
                </a:lnTo>
                <a:lnTo>
                  <a:pt x="1536" y="154"/>
                </a:lnTo>
                <a:lnTo>
                  <a:pt x="1551" y="167"/>
                </a:lnTo>
                <a:lnTo>
                  <a:pt x="1562" y="179"/>
                </a:lnTo>
                <a:lnTo>
                  <a:pt x="1574" y="191"/>
                </a:lnTo>
                <a:lnTo>
                  <a:pt x="1585" y="203"/>
                </a:lnTo>
                <a:lnTo>
                  <a:pt x="1597" y="215"/>
                </a:lnTo>
                <a:lnTo>
                  <a:pt x="1607" y="225"/>
                </a:lnTo>
                <a:lnTo>
                  <a:pt x="1615" y="236"/>
                </a:lnTo>
                <a:lnTo>
                  <a:pt x="1624" y="246"/>
                </a:lnTo>
                <a:lnTo>
                  <a:pt x="1633" y="256"/>
                </a:lnTo>
                <a:lnTo>
                  <a:pt x="1640" y="265"/>
                </a:lnTo>
                <a:lnTo>
                  <a:pt x="1647" y="275"/>
                </a:lnTo>
                <a:lnTo>
                  <a:pt x="1653" y="284"/>
                </a:lnTo>
                <a:lnTo>
                  <a:pt x="1659" y="292"/>
                </a:lnTo>
                <a:lnTo>
                  <a:pt x="1663" y="299"/>
                </a:lnTo>
                <a:lnTo>
                  <a:pt x="1669" y="308"/>
                </a:lnTo>
                <a:lnTo>
                  <a:pt x="1672" y="315"/>
                </a:lnTo>
                <a:lnTo>
                  <a:pt x="1674" y="322"/>
                </a:lnTo>
                <a:lnTo>
                  <a:pt x="1677" y="330"/>
                </a:lnTo>
                <a:lnTo>
                  <a:pt x="1680" y="337"/>
                </a:lnTo>
                <a:lnTo>
                  <a:pt x="1682" y="343"/>
                </a:lnTo>
                <a:lnTo>
                  <a:pt x="1682" y="348"/>
                </a:lnTo>
                <a:lnTo>
                  <a:pt x="1683" y="356"/>
                </a:lnTo>
                <a:lnTo>
                  <a:pt x="1680" y="361"/>
                </a:lnTo>
                <a:lnTo>
                  <a:pt x="1679" y="369"/>
                </a:lnTo>
                <a:lnTo>
                  <a:pt x="1676" y="377"/>
                </a:lnTo>
                <a:lnTo>
                  <a:pt x="1674" y="386"/>
                </a:lnTo>
                <a:lnTo>
                  <a:pt x="1672" y="396"/>
                </a:lnTo>
                <a:lnTo>
                  <a:pt x="1669" y="406"/>
                </a:lnTo>
                <a:lnTo>
                  <a:pt x="1666" y="417"/>
                </a:lnTo>
                <a:lnTo>
                  <a:pt x="1663" y="430"/>
                </a:lnTo>
                <a:lnTo>
                  <a:pt x="1660" y="443"/>
                </a:lnTo>
                <a:lnTo>
                  <a:pt x="1657" y="458"/>
                </a:lnTo>
                <a:lnTo>
                  <a:pt x="1653" y="474"/>
                </a:lnTo>
                <a:lnTo>
                  <a:pt x="1650" y="489"/>
                </a:lnTo>
                <a:lnTo>
                  <a:pt x="1646" y="507"/>
                </a:lnTo>
                <a:lnTo>
                  <a:pt x="1641" y="525"/>
                </a:lnTo>
                <a:lnTo>
                  <a:pt x="1637" y="544"/>
                </a:lnTo>
                <a:lnTo>
                  <a:pt x="1633" y="564"/>
                </a:lnTo>
                <a:lnTo>
                  <a:pt x="1628" y="586"/>
                </a:lnTo>
                <a:lnTo>
                  <a:pt x="1623" y="608"/>
                </a:lnTo>
                <a:lnTo>
                  <a:pt x="1618" y="631"/>
                </a:lnTo>
                <a:lnTo>
                  <a:pt x="1613" y="655"/>
                </a:lnTo>
                <a:lnTo>
                  <a:pt x="1607" y="680"/>
                </a:lnTo>
                <a:lnTo>
                  <a:pt x="1601" y="707"/>
                </a:lnTo>
                <a:lnTo>
                  <a:pt x="1595" y="733"/>
                </a:lnTo>
                <a:lnTo>
                  <a:pt x="1588" y="762"/>
                </a:lnTo>
                <a:lnTo>
                  <a:pt x="1581" y="790"/>
                </a:lnTo>
                <a:lnTo>
                  <a:pt x="1575" y="821"/>
                </a:lnTo>
                <a:lnTo>
                  <a:pt x="1566" y="852"/>
                </a:lnTo>
                <a:lnTo>
                  <a:pt x="1559" y="885"/>
                </a:lnTo>
                <a:lnTo>
                  <a:pt x="1552" y="918"/>
                </a:lnTo>
                <a:lnTo>
                  <a:pt x="1543" y="953"/>
                </a:lnTo>
                <a:lnTo>
                  <a:pt x="1535" y="989"/>
                </a:lnTo>
                <a:lnTo>
                  <a:pt x="1526" y="1026"/>
                </a:lnTo>
                <a:lnTo>
                  <a:pt x="1507" y="1100"/>
                </a:lnTo>
                <a:lnTo>
                  <a:pt x="1487" y="1173"/>
                </a:lnTo>
                <a:lnTo>
                  <a:pt x="1466" y="1245"/>
                </a:lnTo>
                <a:lnTo>
                  <a:pt x="1443" y="1316"/>
                </a:lnTo>
                <a:lnTo>
                  <a:pt x="1418" y="1386"/>
                </a:lnTo>
                <a:lnTo>
                  <a:pt x="1392" y="1455"/>
                </a:lnTo>
                <a:lnTo>
                  <a:pt x="1366" y="1523"/>
                </a:lnTo>
                <a:lnTo>
                  <a:pt x="1338" y="1591"/>
                </a:lnTo>
                <a:lnTo>
                  <a:pt x="1309" y="1657"/>
                </a:lnTo>
                <a:lnTo>
                  <a:pt x="1279" y="1722"/>
                </a:lnTo>
                <a:lnTo>
                  <a:pt x="1247" y="1787"/>
                </a:lnTo>
                <a:lnTo>
                  <a:pt x="1215" y="1850"/>
                </a:lnTo>
                <a:lnTo>
                  <a:pt x="1148" y="1974"/>
                </a:lnTo>
                <a:lnTo>
                  <a:pt x="1077" y="2095"/>
                </a:lnTo>
                <a:lnTo>
                  <a:pt x="1037" y="2154"/>
                </a:lnTo>
                <a:lnTo>
                  <a:pt x="998" y="2211"/>
                </a:lnTo>
                <a:lnTo>
                  <a:pt x="958" y="2267"/>
                </a:lnTo>
                <a:lnTo>
                  <a:pt x="916" y="2322"/>
                </a:lnTo>
                <a:lnTo>
                  <a:pt x="875" y="2375"/>
                </a:lnTo>
                <a:lnTo>
                  <a:pt x="834" y="2429"/>
                </a:lnTo>
                <a:lnTo>
                  <a:pt x="792" y="2479"/>
                </a:lnTo>
                <a:lnTo>
                  <a:pt x="772" y="2505"/>
                </a:lnTo>
                <a:lnTo>
                  <a:pt x="750" y="2529"/>
                </a:lnTo>
                <a:lnTo>
                  <a:pt x="729" y="2554"/>
                </a:lnTo>
                <a:lnTo>
                  <a:pt x="709" y="2577"/>
                </a:lnTo>
                <a:lnTo>
                  <a:pt x="687" y="2600"/>
                </a:lnTo>
                <a:lnTo>
                  <a:pt x="665" y="2624"/>
                </a:lnTo>
                <a:lnTo>
                  <a:pt x="644" y="2646"/>
                </a:lnTo>
                <a:lnTo>
                  <a:pt x="621" y="2669"/>
                </a:lnTo>
                <a:lnTo>
                  <a:pt x="599" y="2691"/>
                </a:lnTo>
                <a:lnTo>
                  <a:pt x="578" y="2712"/>
                </a:lnTo>
                <a:lnTo>
                  <a:pt x="554" y="2734"/>
                </a:lnTo>
                <a:lnTo>
                  <a:pt x="531" y="2754"/>
                </a:lnTo>
                <a:lnTo>
                  <a:pt x="510" y="2774"/>
                </a:lnTo>
                <a:lnTo>
                  <a:pt x="487" y="2794"/>
                </a:lnTo>
                <a:lnTo>
                  <a:pt x="464" y="2814"/>
                </a:lnTo>
                <a:lnTo>
                  <a:pt x="441" y="2833"/>
                </a:lnTo>
                <a:lnTo>
                  <a:pt x="416" y="2852"/>
                </a:lnTo>
                <a:lnTo>
                  <a:pt x="393" y="2871"/>
                </a:lnTo>
                <a:lnTo>
                  <a:pt x="370" y="2888"/>
                </a:lnTo>
                <a:lnTo>
                  <a:pt x="347" y="2904"/>
                </a:lnTo>
                <a:lnTo>
                  <a:pt x="326" y="2921"/>
                </a:lnTo>
                <a:lnTo>
                  <a:pt x="305" y="2937"/>
                </a:lnTo>
                <a:lnTo>
                  <a:pt x="285" y="2951"/>
                </a:lnTo>
                <a:lnTo>
                  <a:pt x="265" y="2966"/>
                </a:lnTo>
                <a:lnTo>
                  <a:pt x="246" y="2980"/>
                </a:lnTo>
                <a:lnTo>
                  <a:pt x="229" y="2993"/>
                </a:lnTo>
                <a:lnTo>
                  <a:pt x="212" y="3004"/>
                </a:lnTo>
                <a:lnTo>
                  <a:pt x="195" y="3017"/>
                </a:lnTo>
                <a:lnTo>
                  <a:pt x="179" y="3028"/>
                </a:lnTo>
                <a:lnTo>
                  <a:pt x="164" y="3039"/>
                </a:lnTo>
                <a:lnTo>
                  <a:pt x="150" y="3049"/>
                </a:lnTo>
                <a:lnTo>
                  <a:pt x="136" y="3058"/>
                </a:lnTo>
                <a:lnTo>
                  <a:pt x="123" y="3066"/>
                </a:lnTo>
                <a:lnTo>
                  <a:pt x="111" y="3075"/>
                </a:lnTo>
                <a:lnTo>
                  <a:pt x="100" y="3082"/>
                </a:lnTo>
                <a:lnTo>
                  <a:pt x="88" y="3089"/>
                </a:lnTo>
                <a:lnTo>
                  <a:pt x="78" y="3095"/>
                </a:lnTo>
                <a:lnTo>
                  <a:pt x="69" y="3101"/>
                </a:lnTo>
                <a:lnTo>
                  <a:pt x="59" y="3107"/>
                </a:lnTo>
                <a:lnTo>
                  <a:pt x="52" y="3111"/>
                </a:lnTo>
                <a:lnTo>
                  <a:pt x="43" y="3114"/>
                </a:lnTo>
                <a:lnTo>
                  <a:pt x="36" y="3118"/>
                </a:lnTo>
                <a:lnTo>
                  <a:pt x="31" y="3120"/>
                </a:lnTo>
                <a:lnTo>
                  <a:pt x="25" y="3123"/>
                </a:lnTo>
                <a:lnTo>
                  <a:pt x="19" y="3124"/>
                </a:lnTo>
                <a:lnTo>
                  <a:pt x="15" y="3124"/>
                </a:lnTo>
                <a:lnTo>
                  <a:pt x="12" y="3124"/>
                </a:lnTo>
                <a:lnTo>
                  <a:pt x="7" y="3124"/>
                </a:lnTo>
                <a:lnTo>
                  <a:pt x="5" y="3123"/>
                </a:lnTo>
                <a:lnTo>
                  <a:pt x="3" y="3121"/>
                </a:lnTo>
                <a:lnTo>
                  <a:pt x="2" y="3120"/>
                </a:lnTo>
                <a:lnTo>
                  <a:pt x="0" y="3117"/>
                </a:lnTo>
                <a:lnTo>
                  <a:pt x="0" y="3114"/>
                </a:lnTo>
                <a:lnTo>
                  <a:pt x="0" y="3111"/>
                </a:lnTo>
                <a:lnTo>
                  <a:pt x="0" y="3107"/>
                </a:lnTo>
                <a:lnTo>
                  <a:pt x="0" y="3102"/>
                </a:lnTo>
                <a:lnTo>
                  <a:pt x="2" y="3098"/>
                </a:lnTo>
                <a:lnTo>
                  <a:pt x="3" y="3094"/>
                </a:lnTo>
                <a:lnTo>
                  <a:pt x="6" y="3088"/>
                </a:lnTo>
                <a:lnTo>
                  <a:pt x="9" y="3082"/>
                </a:lnTo>
                <a:lnTo>
                  <a:pt x="12" y="3076"/>
                </a:lnTo>
                <a:lnTo>
                  <a:pt x="16" y="3071"/>
                </a:lnTo>
                <a:lnTo>
                  <a:pt x="20" y="3064"/>
                </a:lnTo>
                <a:lnTo>
                  <a:pt x="25" y="3056"/>
                </a:lnTo>
                <a:lnTo>
                  <a:pt x="31" y="3049"/>
                </a:lnTo>
                <a:lnTo>
                  <a:pt x="36" y="3040"/>
                </a:lnTo>
                <a:lnTo>
                  <a:pt x="42" y="3032"/>
                </a:lnTo>
                <a:lnTo>
                  <a:pt x="49" y="3023"/>
                </a:lnTo>
                <a:lnTo>
                  <a:pt x="56" y="3013"/>
                </a:lnTo>
                <a:lnTo>
                  <a:pt x="64" y="3004"/>
                </a:lnTo>
                <a:lnTo>
                  <a:pt x="72" y="2993"/>
                </a:lnTo>
                <a:lnTo>
                  <a:pt x="81" y="2983"/>
                </a:lnTo>
                <a:lnTo>
                  <a:pt x="90" y="2971"/>
                </a:lnTo>
                <a:lnTo>
                  <a:pt x="100" y="2960"/>
                </a:lnTo>
                <a:lnTo>
                  <a:pt x="111" y="2948"/>
                </a:lnTo>
                <a:lnTo>
                  <a:pt x="121" y="2935"/>
                </a:lnTo>
                <a:lnTo>
                  <a:pt x="133" y="2922"/>
                </a:lnTo>
                <a:lnTo>
                  <a:pt x="144" y="2908"/>
                </a:lnTo>
                <a:lnTo>
                  <a:pt x="157" y="2894"/>
                </a:lnTo>
                <a:lnTo>
                  <a:pt x="170" y="2879"/>
                </a:lnTo>
                <a:lnTo>
                  <a:pt x="185" y="2865"/>
                </a:lnTo>
                <a:lnTo>
                  <a:pt x="199" y="2849"/>
                </a:lnTo>
                <a:lnTo>
                  <a:pt x="210" y="2835"/>
                </a:lnTo>
                <a:lnTo>
                  <a:pt x="225" y="2820"/>
                </a:lnTo>
                <a:lnTo>
                  <a:pt x="238" y="2806"/>
                </a:lnTo>
                <a:lnTo>
                  <a:pt x="252" y="2790"/>
                </a:lnTo>
                <a:lnTo>
                  <a:pt x="267" y="2774"/>
                </a:lnTo>
                <a:lnTo>
                  <a:pt x="281" y="2757"/>
                </a:lnTo>
                <a:lnTo>
                  <a:pt x="295" y="2740"/>
                </a:lnTo>
                <a:lnTo>
                  <a:pt x="311" y="2722"/>
                </a:lnTo>
                <a:lnTo>
                  <a:pt x="327" y="2705"/>
                </a:lnTo>
                <a:lnTo>
                  <a:pt x="343" y="2686"/>
                </a:lnTo>
                <a:lnTo>
                  <a:pt x="359" y="2668"/>
                </a:lnTo>
                <a:lnTo>
                  <a:pt x="375" y="2649"/>
                </a:lnTo>
                <a:lnTo>
                  <a:pt x="392" y="2629"/>
                </a:lnTo>
                <a:lnTo>
                  <a:pt x="408" y="2609"/>
                </a:lnTo>
                <a:lnTo>
                  <a:pt x="425" y="2587"/>
                </a:lnTo>
                <a:lnTo>
                  <a:pt x="442" y="2565"/>
                </a:lnTo>
                <a:lnTo>
                  <a:pt x="461" y="2544"/>
                </a:lnTo>
                <a:lnTo>
                  <a:pt x="478" y="2522"/>
                </a:lnTo>
                <a:lnTo>
                  <a:pt x="497" y="2499"/>
                </a:lnTo>
                <a:lnTo>
                  <a:pt x="514" y="2476"/>
                </a:lnTo>
                <a:lnTo>
                  <a:pt x="533" y="2452"/>
                </a:lnTo>
                <a:lnTo>
                  <a:pt x="552" y="2427"/>
                </a:lnTo>
                <a:lnTo>
                  <a:pt x="570" y="2403"/>
                </a:lnTo>
                <a:lnTo>
                  <a:pt x="589" y="2378"/>
                </a:lnTo>
                <a:lnTo>
                  <a:pt x="608" y="2352"/>
                </a:lnTo>
                <a:lnTo>
                  <a:pt x="628" y="2326"/>
                </a:lnTo>
                <a:lnTo>
                  <a:pt x="647" y="2299"/>
                </a:lnTo>
                <a:lnTo>
                  <a:pt x="667" y="2272"/>
                </a:lnTo>
                <a:lnTo>
                  <a:pt x="685" y="2244"/>
                </a:lnTo>
                <a:lnTo>
                  <a:pt x="706" y="2216"/>
                </a:lnTo>
                <a:lnTo>
                  <a:pt x="726" y="2187"/>
                </a:lnTo>
                <a:lnTo>
                  <a:pt x="746" y="2158"/>
                </a:lnTo>
                <a:lnTo>
                  <a:pt x="785" y="2098"/>
                </a:lnTo>
                <a:lnTo>
                  <a:pt x="822" y="2036"/>
                </a:lnTo>
                <a:lnTo>
                  <a:pt x="858" y="1974"/>
                </a:lnTo>
                <a:lnTo>
                  <a:pt x="894" y="1910"/>
                </a:lnTo>
                <a:lnTo>
                  <a:pt x="929" y="1844"/>
                </a:lnTo>
                <a:lnTo>
                  <a:pt x="962" y="1779"/>
                </a:lnTo>
                <a:lnTo>
                  <a:pt x="992" y="1712"/>
                </a:lnTo>
                <a:lnTo>
                  <a:pt x="1022" y="1644"/>
                </a:lnTo>
                <a:lnTo>
                  <a:pt x="1051" y="1575"/>
                </a:lnTo>
                <a:lnTo>
                  <a:pt x="1080" y="1504"/>
                </a:lnTo>
                <a:lnTo>
                  <a:pt x="1106" y="1434"/>
                </a:lnTo>
                <a:lnTo>
                  <a:pt x="1130" y="1362"/>
                </a:lnTo>
                <a:lnTo>
                  <a:pt x="1153" y="1288"/>
                </a:lnTo>
                <a:lnTo>
                  <a:pt x="1175" y="1216"/>
                </a:lnTo>
                <a:lnTo>
                  <a:pt x="1195" y="1142"/>
                </a:lnTo>
                <a:lnTo>
                  <a:pt x="1214" y="10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7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三笔是提。左部略靠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矩形 2"/>
          <p:cNvSpPr/>
          <p:nvPr/>
        </p:nvSpPr>
        <p:spPr>
          <a:xfrm>
            <a:off x="2192400" y="1825560"/>
            <a:ext cx="145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85"/>
          <p:cNvSpPr/>
          <p:nvPr/>
        </p:nvSpPr>
        <p:spPr>
          <a:xfrm>
            <a:off x="5873760" y="2852640"/>
            <a:ext cx="247680" cy="1401840"/>
          </a:xfrm>
          <a:custGeom>
            <a:avLst/>
            <a:gdLst/>
            <a:ahLst/>
            <a:rect l="l" t="t" r="r" b="b"/>
            <a:pathLst>
              <a:path w="469" h="2648">
                <a:moveTo>
                  <a:pt x="276" y="71"/>
                </a:moveTo>
                <a:lnTo>
                  <a:pt x="296" y="79"/>
                </a:lnTo>
                <a:lnTo>
                  <a:pt x="316" y="86"/>
                </a:lnTo>
                <a:lnTo>
                  <a:pt x="335" y="95"/>
                </a:lnTo>
                <a:lnTo>
                  <a:pt x="352" y="102"/>
                </a:lnTo>
                <a:lnTo>
                  <a:pt x="368" y="110"/>
                </a:lnTo>
                <a:lnTo>
                  <a:pt x="383" y="118"/>
                </a:lnTo>
                <a:lnTo>
                  <a:pt x="396" y="125"/>
                </a:lnTo>
                <a:lnTo>
                  <a:pt x="409" y="134"/>
                </a:lnTo>
                <a:lnTo>
                  <a:pt x="420" y="141"/>
                </a:lnTo>
                <a:lnTo>
                  <a:pt x="430" y="150"/>
                </a:lnTo>
                <a:lnTo>
                  <a:pt x="439" y="157"/>
                </a:lnTo>
                <a:lnTo>
                  <a:pt x="447" y="164"/>
                </a:lnTo>
                <a:lnTo>
                  <a:pt x="455" y="173"/>
                </a:lnTo>
                <a:lnTo>
                  <a:pt x="460" y="180"/>
                </a:lnTo>
                <a:lnTo>
                  <a:pt x="465" y="189"/>
                </a:lnTo>
                <a:lnTo>
                  <a:pt x="469" y="196"/>
                </a:lnTo>
                <a:lnTo>
                  <a:pt x="469" y="212"/>
                </a:lnTo>
                <a:lnTo>
                  <a:pt x="469" y="226"/>
                </a:lnTo>
                <a:lnTo>
                  <a:pt x="468" y="242"/>
                </a:lnTo>
                <a:lnTo>
                  <a:pt x="466" y="258"/>
                </a:lnTo>
                <a:lnTo>
                  <a:pt x="465" y="274"/>
                </a:lnTo>
                <a:lnTo>
                  <a:pt x="460" y="290"/>
                </a:lnTo>
                <a:lnTo>
                  <a:pt x="459" y="297"/>
                </a:lnTo>
                <a:lnTo>
                  <a:pt x="456" y="305"/>
                </a:lnTo>
                <a:lnTo>
                  <a:pt x="453" y="313"/>
                </a:lnTo>
                <a:lnTo>
                  <a:pt x="450" y="321"/>
                </a:lnTo>
                <a:lnTo>
                  <a:pt x="449" y="323"/>
                </a:lnTo>
                <a:lnTo>
                  <a:pt x="447" y="326"/>
                </a:lnTo>
                <a:lnTo>
                  <a:pt x="447" y="328"/>
                </a:lnTo>
                <a:lnTo>
                  <a:pt x="446" y="331"/>
                </a:lnTo>
                <a:lnTo>
                  <a:pt x="445" y="334"/>
                </a:lnTo>
                <a:lnTo>
                  <a:pt x="445" y="338"/>
                </a:lnTo>
                <a:lnTo>
                  <a:pt x="443" y="343"/>
                </a:lnTo>
                <a:lnTo>
                  <a:pt x="442" y="347"/>
                </a:lnTo>
                <a:lnTo>
                  <a:pt x="440" y="353"/>
                </a:lnTo>
                <a:lnTo>
                  <a:pt x="439" y="359"/>
                </a:lnTo>
                <a:lnTo>
                  <a:pt x="439" y="364"/>
                </a:lnTo>
                <a:lnTo>
                  <a:pt x="437" y="370"/>
                </a:lnTo>
                <a:lnTo>
                  <a:pt x="435" y="383"/>
                </a:lnTo>
                <a:lnTo>
                  <a:pt x="433" y="397"/>
                </a:lnTo>
                <a:lnTo>
                  <a:pt x="430" y="415"/>
                </a:lnTo>
                <a:lnTo>
                  <a:pt x="427" y="432"/>
                </a:lnTo>
                <a:lnTo>
                  <a:pt x="424" y="451"/>
                </a:lnTo>
                <a:lnTo>
                  <a:pt x="422" y="471"/>
                </a:lnTo>
                <a:lnTo>
                  <a:pt x="419" y="494"/>
                </a:lnTo>
                <a:lnTo>
                  <a:pt x="417" y="517"/>
                </a:lnTo>
                <a:lnTo>
                  <a:pt x="414" y="541"/>
                </a:lnTo>
                <a:lnTo>
                  <a:pt x="411" y="567"/>
                </a:lnTo>
                <a:lnTo>
                  <a:pt x="409" y="595"/>
                </a:lnTo>
                <a:lnTo>
                  <a:pt x="406" y="624"/>
                </a:lnTo>
                <a:lnTo>
                  <a:pt x="403" y="654"/>
                </a:lnTo>
                <a:lnTo>
                  <a:pt x="400" y="685"/>
                </a:lnTo>
                <a:lnTo>
                  <a:pt x="397" y="719"/>
                </a:lnTo>
                <a:lnTo>
                  <a:pt x="396" y="753"/>
                </a:lnTo>
                <a:lnTo>
                  <a:pt x="393" y="789"/>
                </a:lnTo>
                <a:lnTo>
                  <a:pt x="390" y="827"/>
                </a:lnTo>
                <a:lnTo>
                  <a:pt x="387" y="864"/>
                </a:lnTo>
                <a:lnTo>
                  <a:pt x="386" y="904"/>
                </a:lnTo>
                <a:lnTo>
                  <a:pt x="383" y="946"/>
                </a:lnTo>
                <a:lnTo>
                  <a:pt x="380" y="988"/>
                </a:lnTo>
                <a:lnTo>
                  <a:pt x="378" y="1032"/>
                </a:lnTo>
                <a:lnTo>
                  <a:pt x="377" y="1077"/>
                </a:lnTo>
                <a:lnTo>
                  <a:pt x="374" y="1125"/>
                </a:lnTo>
                <a:lnTo>
                  <a:pt x="373" y="1172"/>
                </a:lnTo>
                <a:lnTo>
                  <a:pt x="368" y="1273"/>
                </a:lnTo>
                <a:lnTo>
                  <a:pt x="365" y="1372"/>
                </a:lnTo>
                <a:lnTo>
                  <a:pt x="363" y="1472"/>
                </a:lnTo>
                <a:lnTo>
                  <a:pt x="358" y="1570"/>
                </a:lnTo>
                <a:lnTo>
                  <a:pt x="355" y="1666"/>
                </a:lnTo>
                <a:lnTo>
                  <a:pt x="352" y="1761"/>
                </a:lnTo>
                <a:lnTo>
                  <a:pt x="348" y="1856"/>
                </a:lnTo>
                <a:lnTo>
                  <a:pt x="345" y="1948"/>
                </a:lnTo>
                <a:lnTo>
                  <a:pt x="344" y="2040"/>
                </a:lnTo>
                <a:lnTo>
                  <a:pt x="341" y="2131"/>
                </a:lnTo>
                <a:lnTo>
                  <a:pt x="339" y="2220"/>
                </a:lnTo>
                <a:lnTo>
                  <a:pt x="337" y="2308"/>
                </a:lnTo>
                <a:lnTo>
                  <a:pt x="335" y="2396"/>
                </a:lnTo>
                <a:lnTo>
                  <a:pt x="335" y="2481"/>
                </a:lnTo>
                <a:lnTo>
                  <a:pt x="334" y="2564"/>
                </a:lnTo>
                <a:lnTo>
                  <a:pt x="334" y="2648"/>
                </a:lnTo>
                <a:lnTo>
                  <a:pt x="217" y="2648"/>
                </a:lnTo>
                <a:lnTo>
                  <a:pt x="102" y="2648"/>
                </a:lnTo>
                <a:lnTo>
                  <a:pt x="103" y="2589"/>
                </a:lnTo>
                <a:lnTo>
                  <a:pt x="105" y="2533"/>
                </a:lnTo>
                <a:lnTo>
                  <a:pt x="106" y="2478"/>
                </a:lnTo>
                <a:lnTo>
                  <a:pt x="108" y="2423"/>
                </a:lnTo>
                <a:lnTo>
                  <a:pt x="109" y="2370"/>
                </a:lnTo>
                <a:lnTo>
                  <a:pt x="111" y="2318"/>
                </a:lnTo>
                <a:lnTo>
                  <a:pt x="112" y="2268"/>
                </a:lnTo>
                <a:lnTo>
                  <a:pt x="112" y="2219"/>
                </a:lnTo>
                <a:lnTo>
                  <a:pt x="113" y="2171"/>
                </a:lnTo>
                <a:lnTo>
                  <a:pt x="115" y="2124"/>
                </a:lnTo>
                <a:lnTo>
                  <a:pt x="115" y="2079"/>
                </a:lnTo>
                <a:lnTo>
                  <a:pt x="116" y="2035"/>
                </a:lnTo>
                <a:lnTo>
                  <a:pt x="116" y="1991"/>
                </a:lnTo>
                <a:lnTo>
                  <a:pt x="118" y="1950"/>
                </a:lnTo>
                <a:lnTo>
                  <a:pt x="118" y="1909"/>
                </a:lnTo>
                <a:lnTo>
                  <a:pt x="118" y="1870"/>
                </a:lnTo>
                <a:lnTo>
                  <a:pt x="119" y="1833"/>
                </a:lnTo>
                <a:lnTo>
                  <a:pt x="119" y="1797"/>
                </a:lnTo>
                <a:lnTo>
                  <a:pt x="119" y="1761"/>
                </a:lnTo>
                <a:lnTo>
                  <a:pt x="119" y="1728"/>
                </a:lnTo>
                <a:lnTo>
                  <a:pt x="119" y="1695"/>
                </a:lnTo>
                <a:lnTo>
                  <a:pt x="121" y="1663"/>
                </a:lnTo>
                <a:lnTo>
                  <a:pt x="121" y="1633"/>
                </a:lnTo>
                <a:lnTo>
                  <a:pt x="121" y="1604"/>
                </a:lnTo>
                <a:lnTo>
                  <a:pt x="121" y="1577"/>
                </a:lnTo>
                <a:lnTo>
                  <a:pt x="121" y="1551"/>
                </a:lnTo>
                <a:lnTo>
                  <a:pt x="121" y="1526"/>
                </a:lnTo>
                <a:lnTo>
                  <a:pt x="121" y="1503"/>
                </a:lnTo>
                <a:lnTo>
                  <a:pt x="121" y="1480"/>
                </a:lnTo>
                <a:lnTo>
                  <a:pt x="121" y="1460"/>
                </a:lnTo>
                <a:lnTo>
                  <a:pt x="121" y="1440"/>
                </a:lnTo>
                <a:lnTo>
                  <a:pt x="121" y="1423"/>
                </a:lnTo>
                <a:lnTo>
                  <a:pt x="121" y="1404"/>
                </a:lnTo>
                <a:lnTo>
                  <a:pt x="121" y="1387"/>
                </a:lnTo>
                <a:lnTo>
                  <a:pt x="121" y="1368"/>
                </a:lnTo>
                <a:lnTo>
                  <a:pt x="121" y="1349"/>
                </a:lnTo>
                <a:lnTo>
                  <a:pt x="121" y="1329"/>
                </a:lnTo>
                <a:lnTo>
                  <a:pt x="121" y="1310"/>
                </a:lnTo>
                <a:lnTo>
                  <a:pt x="121" y="1290"/>
                </a:lnTo>
                <a:lnTo>
                  <a:pt x="121" y="1270"/>
                </a:lnTo>
                <a:lnTo>
                  <a:pt x="121" y="1248"/>
                </a:lnTo>
                <a:lnTo>
                  <a:pt x="121" y="1227"/>
                </a:lnTo>
                <a:lnTo>
                  <a:pt x="121" y="1205"/>
                </a:lnTo>
                <a:lnTo>
                  <a:pt x="121" y="1184"/>
                </a:lnTo>
                <a:lnTo>
                  <a:pt x="121" y="1162"/>
                </a:lnTo>
                <a:lnTo>
                  <a:pt x="121" y="1139"/>
                </a:lnTo>
                <a:lnTo>
                  <a:pt x="121" y="1116"/>
                </a:lnTo>
                <a:lnTo>
                  <a:pt x="121" y="1092"/>
                </a:lnTo>
                <a:lnTo>
                  <a:pt x="121" y="1067"/>
                </a:lnTo>
                <a:lnTo>
                  <a:pt x="121" y="1043"/>
                </a:lnTo>
                <a:lnTo>
                  <a:pt x="121" y="1018"/>
                </a:lnTo>
                <a:lnTo>
                  <a:pt x="121" y="992"/>
                </a:lnTo>
                <a:lnTo>
                  <a:pt x="121" y="968"/>
                </a:lnTo>
                <a:lnTo>
                  <a:pt x="121" y="940"/>
                </a:lnTo>
                <a:lnTo>
                  <a:pt x="121" y="914"/>
                </a:lnTo>
                <a:lnTo>
                  <a:pt x="121" y="887"/>
                </a:lnTo>
                <a:lnTo>
                  <a:pt x="121" y="860"/>
                </a:lnTo>
                <a:lnTo>
                  <a:pt x="121" y="831"/>
                </a:lnTo>
                <a:lnTo>
                  <a:pt x="121" y="802"/>
                </a:lnTo>
                <a:lnTo>
                  <a:pt x="121" y="773"/>
                </a:lnTo>
                <a:lnTo>
                  <a:pt x="121" y="744"/>
                </a:lnTo>
                <a:lnTo>
                  <a:pt x="121" y="714"/>
                </a:lnTo>
                <a:lnTo>
                  <a:pt x="121" y="684"/>
                </a:lnTo>
                <a:lnTo>
                  <a:pt x="121" y="654"/>
                </a:lnTo>
                <a:lnTo>
                  <a:pt x="119" y="624"/>
                </a:lnTo>
                <a:lnTo>
                  <a:pt x="118" y="596"/>
                </a:lnTo>
                <a:lnTo>
                  <a:pt x="115" y="569"/>
                </a:lnTo>
                <a:lnTo>
                  <a:pt x="113" y="541"/>
                </a:lnTo>
                <a:lnTo>
                  <a:pt x="112" y="516"/>
                </a:lnTo>
                <a:lnTo>
                  <a:pt x="109" y="491"/>
                </a:lnTo>
                <a:lnTo>
                  <a:pt x="108" y="467"/>
                </a:lnTo>
                <a:lnTo>
                  <a:pt x="106" y="442"/>
                </a:lnTo>
                <a:lnTo>
                  <a:pt x="103" y="419"/>
                </a:lnTo>
                <a:lnTo>
                  <a:pt x="102" y="397"/>
                </a:lnTo>
                <a:lnTo>
                  <a:pt x="100" y="376"/>
                </a:lnTo>
                <a:lnTo>
                  <a:pt x="98" y="354"/>
                </a:lnTo>
                <a:lnTo>
                  <a:pt x="96" y="334"/>
                </a:lnTo>
                <a:lnTo>
                  <a:pt x="93" y="315"/>
                </a:lnTo>
                <a:lnTo>
                  <a:pt x="92" y="297"/>
                </a:lnTo>
                <a:lnTo>
                  <a:pt x="89" y="279"/>
                </a:lnTo>
                <a:lnTo>
                  <a:pt x="86" y="262"/>
                </a:lnTo>
                <a:lnTo>
                  <a:pt x="85" y="245"/>
                </a:lnTo>
                <a:lnTo>
                  <a:pt x="82" y="229"/>
                </a:lnTo>
                <a:lnTo>
                  <a:pt x="79" y="215"/>
                </a:lnTo>
                <a:lnTo>
                  <a:pt x="77" y="200"/>
                </a:lnTo>
                <a:lnTo>
                  <a:pt x="75" y="187"/>
                </a:lnTo>
                <a:lnTo>
                  <a:pt x="72" y="174"/>
                </a:lnTo>
                <a:lnTo>
                  <a:pt x="69" y="161"/>
                </a:lnTo>
                <a:lnTo>
                  <a:pt x="66" y="150"/>
                </a:lnTo>
                <a:lnTo>
                  <a:pt x="63" y="140"/>
                </a:lnTo>
                <a:lnTo>
                  <a:pt x="60" y="130"/>
                </a:lnTo>
                <a:lnTo>
                  <a:pt x="56" y="121"/>
                </a:lnTo>
                <a:lnTo>
                  <a:pt x="53" y="112"/>
                </a:lnTo>
                <a:lnTo>
                  <a:pt x="50" y="105"/>
                </a:lnTo>
                <a:lnTo>
                  <a:pt x="46" y="98"/>
                </a:lnTo>
                <a:lnTo>
                  <a:pt x="43" y="92"/>
                </a:lnTo>
                <a:lnTo>
                  <a:pt x="33" y="84"/>
                </a:lnTo>
                <a:lnTo>
                  <a:pt x="24" y="76"/>
                </a:lnTo>
                <a:lnTo>
                  <a:pt x="17" y="71"/>
                </a:lnTo>
                <a:lnTo>
                  <a:pt x="11" y="63"/>
                </a:lnTo>
                <a:lnTo>
                  <a:pt x="5" y="58"/>
                </a:lnTo>
                <a:lnTo>
                  <a:pt x="3" y="52"/>
                </a:lnTo>
                <a:lnTo>
                  <a:pt x="0" y="48"/>
                </a:lnTo>
                <a:lnTo>
                  <a:pt x="0" y="42"/>
                </a:lnTo>
                <a:lnTo>
                  <a:pt x="0" y="38"/>
                </a:lnTo>
                <a:lnTo>
                  <a:pt x="3" y="33"/>
                </a:lnTo>
                <a:lnTo>
                  <a:pt x="5" y="29"/>
                </a:lnTo>
                <a:lnTo>
                  <a:pt x="11" y="25"/>
                </a:lnTo>
                <a:lnTo>
                  <a:pt x="17" y="20"/>
                </a:lnTo>
                <a:lnTo>
                  <a:pt x="24" y="16"/>
                </a:lnTo>
                <a:lnTo>
                  <a:pt x="33" y="13"/>
                </a:lnTo>
                <a:lnTo>
                  <a:pt x="43" y="9"/>
                </a:lnTo>
                <a:lnTo>
                  <a:pt x="54" y="6"/>
                </a:lnTo>
                <a:lnTo>
                  <a:pt x="66" y="3"/>
                </a:lnTo>
                <a:lnTo>
                  <a:pt x="77" y="2"/>
                </a:lnTo>
                <a:lnTo>
                  <a:pt x="90" y="0"/>
                </a:lnTo>
                <a:lnTo>
                  <a:pt x="103" y="2"/>
                </a:lnTo>
                <a:lnTo>
                  <a:pt x="116" y="3"/>
                </a:lnTo>
                <a:lnTo>
                  <a:pt x="131" y="4"/>
                </a:lnTo>
                <a:lnTo>
                  <a:pt x="145" y="9"/>
                </a:lnTo>
                <a:lnTo>
                  <a:pt x="160" y="13"/>
                </a:lnTo>
                <a:lnTo>
                  <a:pt x="175" y="17"/>
                </a:lnTo>
                <a:lnTo>
                  <a:pt x="191" y="25"/>
                </a:lnTo>
                <a:lnTo>
                  <a:pt x="207" y="32"/>
                </a:lnTo>
                <a:lnTo>
                  <a:pt x="223" y="40"/>
                </a:lnTo>
                <a:lnTo>
                  <a:pt x="240" y="49"/>
                </a:lnTo>
                <a:lnTo>
                  <a:pt x="257" y="59"/>
                </a:lnTo>
                <a:lnTo>
                  <a:pt x="276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86"/>
          <p:cNvSpPr/>
          <p:nvPr/>
        </p:nvSpPr>
        <p:spPr>
          <a:xfrm>
            <a:off x="5589720" y="3529080"/>
            <a:ext cx="768240" cy="255600"/>
          </a:xfrm>
          <a:custGeom>
            <a:avLst/>
            <a:gdLst/>
            <a:ahLst/>
            <a:rect l="l" t="t" r="r" b="b"/>
            <a:pathLst>
              <a:path w="1452" h="485">
                <a:moveTo>
                  <a:pt x="1297" y="249"/>
                </a:moveTo>
                <a:lnTo>
                  <a:pt x="1268" y="257"/>
                </a:lnTo>
                <a:lnTo>
                  <a:pt x="1239" y="264"/>
                </a:lnTo>
                <a:lnTo>
                  <a:pt x="1211" y="271"/>
                </a:lnTo>
                <a:lnTo>
                  <a:pt x="1183" y="277"/>
                </a:lnTo>
                <a:lnTo>
                  <a:pt x="1156" y="282"/>
                </a:lnTo>
                <a:lnTo>
                  <a:pt x="1143" y="285"/>
                </a:lnTo>
                <a:lnTo>
                  <a:pt x="1131" y="287"/>
                </a:lnTo>
                <a:lnTo>
                  <a:pt x="1118" y="288"/>
                </a:lnTo>
                <a:lnTo>
                  <a:pt x="1107" y="290"/>
                </a:lnTo>
                <a:lnTo>
                  <a:pt x="1095" y="290"/>
                </a:lnTo>
                <a:lnTo>
                  <a:pt x="1084" y="291"/>
                </a:lnTo>
                <a:lnTo>
                  <a:pt x="1072" y="294"/>
                </a:lnTo>
                <a:lnTo>
                  <a:pt x="1059" y="298"/>
                </a:lnTo>
                <a:lnTo>
                  <a:pt x="1045" y="303"/>
                </a:lnTo>
                <a:lnTo>
                  <a:pt x="1029" y="305"/>
                </a:lnTo>
                <a:lnTo>
                  <a:pt x="1013" y="310"/>
                </a:lnTo>
                <a:lnTo>
                  <a:pt x="995" y="314"/>
                </a:lnTo>
                <a:lnTo>
                  <a:pt x="976" y="317"/>
                </a:lnTo>
                <a:lnTo>
                  <a:pt x="956" y="321"/>
                </a:lnTo>
                <a:lnTo>
                  <a:pt x="934" y="326"/>
                </a:lnTo>
                <a:lnTo>
                  <a:pt x="911" y="329"/>
                </a:lnTo>
                <a:lnTo>
                  <a:pt x="888" y="333"/>
                </a:lnTo>
                <a:lnTo>
                  <a:pt x="864" y="337"/>
                </a:lnTo>
                <a:lnTo>
                  <a:pt x="838" y="340"/>
                </a:lnTo>
                <a:lnTo>
                  <a:pt x="812" y="344"/>
                </a:lnTo>
                <a:lnTo>
                  <a:pt x="783" y="349"/>
                </a:lnTo>
                <a:lnTo>
                  <a:pt x="756" y="353"/>
                </a:lnTo>
                <a:lnTo>
                  <a:pt x="727" y="360"/>
                </a:lnTo>
                <a:lnTo>
                  <a:pt x="699" y="367"/>
                </a:lnTo>
                <a:lnTo>
                  <a:pt x="673" y="376"/>
                </a:lnTo>
                <a:lnTo>
                  <a:pt x="649" y="383"/>
                </a:lnTo>
                <a:lnTo>
                  <a:pt x="626" y="390"/>
                </a:lnTo>
                <a:lnTo>
                  <a:pt x="604" y="398"/>
                </a:lnTo>
                <a:lnTo>
                  <a:pt x="583" y="405"/>
                </a:lnTo>
                <a:lnTo>
                  <a:pt x="564" y="412"/>
                </a:lnTo>
                <a:lnTo>
                  <a:pt x="545" y="419"/>
                </a:lnTo>
                <a:lnTo>
                  <a:pt x="528" y="425"/>
                </a:lnTo>
                <a:lnTo>
                  <a:pt x="511" y="431"/>
                </a:lnTo>
                <a:lnTo>
                  <a:pt x="496" y="437"/>
                </a:lnTo>
                <a:lnTo>
                  <a:pt x="482" y="442"/>
                </a:lnTo>
                <a:lnTo>
                  <a:pt x="468" y="447"/>
                </a:lnTo>
                <a:lnTo>
                  <a:pt x="456" y="452"/>
                </a:lnTo>
                <a:lnTo>
                  <a:pt x="445" y="457"/>
                </a:lnTo>
                <a:lnTo>
                  <a:pt x="433" y="460"/>
                </a:lnTo>
                <a:lnTo>
                  <a:pt x="421" y="464"/>
                </a:lnTo>
                <a:lnTo>
                  <a:pt x="398" y="471"/>
                </a:lnTo>
                <a:lnTo>
                  <a:pt x="385" y="475"/>
                </a:lnTo>
                <a:lnTo>
                  <a:pt x="373" y="478"/>
                </a:lnTo>
                <a:lnTo>
                  <a:pt x="361" y="480"/>
                </a:lnTo>
                <a:lnTo>
                  <a:pt x="348" y="483"/>
                </a:lnTo>
                <a:lnTo>
                  <a:pt x="335" y="484"/>
                </a:lnTo>
                <a:lnTo>
                  <a:pt x="322" y="485"/>
                </a:lnTo>
                <a:lnTo>
                  <a:pt x="311" y="485"/>
                </a:lnTo>
                <a:lnTo>
                  <a:pt x="298" y="485"/>
                </a:lnTo>
                <a:lnTo>
                  <a:pt x="286" y="485"/>
                </a:lnTo>
                <a:lnTo>
                  <a:pt x="273" y="483"/>
                </a:lnTo>
                <a:lnTo>
                  <a:pt x="262" y="480"/>
                </a:lnTo>
                <a:lnTo>
                  <a:pt x="252" y="477"/>
                </a:lnTo>
                <a:lnTo>
                  <a:pt x="240" y="477"/>
                </a:lnTo>
                <a:lnTo>
                  <a:pt x="227" y="474"/>
                </a:lnTo>
                <a:lnTo>
                  <a:pt x="214" y="471"/>
                </a:lnTo>
                <a:lnTo>
                  <a:pt x="200" y="465"/>
                </a:lnTo>
                <a:lnTo>
                  <a:pt x="185" y="460"/>
                </a:lnTo>
                <a:lnTo>
                  <a:pt x="171" y="452"/>
                </a:lnTo>
                <a:lnTo>
                  <a:pt x="155" y="444"/>
                </a:lnTo>
                <a:lnTo>
                  <a:pt x="139" y="434"/>
                </a:lnTo>
                <a:lnTo>
                  <a:pt x="122" y="422"/>
                </a:lnTo>
                <a:lnTo>
                  <a:pt x="105" y="409"/>
                </a:lnTo>
                <a:lnTo>
                  <a:pt x="87" y="396"/>
                </a:lnTo>
                <a:lnTo>
                  <a:pt x="70" y="380"/>
                </a:lnTo>
                <a:lnTo>
                  <a:pt x="53" y="365"/>
                </a:lnTo>
                <a:lnTo>
                  <a:pt x="34" y="347"/>
                </a:lnTo>
                <a:lnTo>
                  <a:pt x="17" y="330"/>
                </a:lnTo>
                <a:lnTo>
                  <a:pt x="0" y="311"/>
                </a:lnTo>
                <a:lnTo>
                  <a:pt x="62" y="295"/>
                </a:lnTo>
                <a:lnTo>
                  <a:pt x="122" y="280"/>
                </a:lnTo>
                <a:lnTo>
                  <a:pt x="181" y="265"/>
                </a:lnTo>
                <a:lnTo>
                  <a:pt x="237" y="251"/>
                </a:lnTo>
                <a:lnTo>
                  <a:pt x="292" y="236"/>
                </a:lnTo>
                <a:lnTo>
                  <a:pt x="345" y="223"/>
                </a:lnTo>
                <a:lnTo>
                  <a:pt x="397" y="209"/>
                </a:lnTo>
                <a:lnTo>
                  <a:pt x="446" y="196"/>
                </a:lnTo>
                <a:lnTo>
                  <a:pt x="493" y="185"/>
                </a:lnTo>
                <a:lnTo>
                  <a:pt x="540" y="173"/>
                </a:lnTo>
                <a:lnTo>
                  <a:pt x="583" y="162"/>
                </a:lnTo>
                <a:lnTo>
                  <a:pt x="625" y="150"/>
                </a:lnTo>
                <a:lnTo>
                  <a:pt x="665" y="140"/>
                </a:lnTo>
                <a:lnTo>
                  <a:pt x="702" y="128"/>
                </a:lnTo>
                <a:lnTo>
                  <a:pt x="740" y="120"/>
                </a:lnTo>
                <a:lnTo>
                  <a:pt x="774" y="110"/>
                </a:lnTo>
                <a:lnTo>
                  <a:pt x="806" y="101"/>
                </a:lnTo>
                <a:lnTo>
                  <a:pt x="838" y="92"/>
                </a:lnTo>
                <a:lnTo>
                  <a:pt x="866" y="84"/>
                </a:lnTo>
                <a:lnTo>
                  <a:pt x="894" y="77"/>
                </a:lnTo>
                <a:lnTo>
                  <a:pt x="920" y="69"/>
                </a:lnTo>
                <a:lnTo>
                  <a:pt x="943" y="62"/>
                </a:lnTo>
                <a:lnTo>
                  <a:pt x="964" y="56"/>
                </a:lnTo>
                <a:lnTo>
                  <a:pt x="984" y="51"/>
                </a:lnTo>
                <a:lnTo>
                  <a:pt x="1003" y="45"/>
                </a:lnTo>
                <a:lnTo>
                  <a:pt x="1020" y="41"/>
                </a:lnTo>
                <a:lnTo>
                  <a:pt x="1035" y="36"/>
                </a:lnTo>
                <a:lnTo>
                  <a:pt x="1048" y="32"/>
                </a:lnTo>
                <a:lnTo>
                  <a:pt x="1059" y="28"/>
                </a:lnTo>
                <a:lnTo>
                  <a:pt x="1069" y="25"/>
                </a:lnTo>
                <a:lnTo>
                  <a:pt x="1078" y="22"/>
                </a:lnTo>
                <a:lnTo>
                  <a:pt x="1084" y="20"/>
                </a:lnTo>
                <a:lnTo>
                  <a:pt x="1094" y="16"/>
                </a:lnTo>
                <a:lnTo>
                  <a:pt x="1105" y="13"/>
                </a:lnTo>
                <a:lnTo>
                  <a:pt x="1115" y="10"/>
                </a:lnTo>
                <a:lnTo>
                  <a:pt x="1124" y="7"/>
                </a:lnTo>
                <a:lnTo>
                  <a:pt x="1134" y="6"/>
                </a:lnTo>
                <a:lnTo>
                  <a:pt x="1143" y="5"/>
                </a:lnTo>
                <a:lnTo>
                  <a:pt x="1162" y="2"/>
                </a:lnTo>
                <a:lnTo>
                  <a:pt x="1180" y="0"/>
                </a:lnTo>
                <a:lnTo>
                  <a:pt x="1199" y="0"/>
                </a:lnTo>
                <a:lnTo>
                  <a:pt x="1218" y="0"/>
                </a:lnTo>
                <a:lnTo>
                  <a:pt x="1228" y="0"/>
                </a:lnTo>
                <a:lnTo>
                  <a:pt x="1239" y="0"/>
                </a:lnTo>
                <a:lnTo>
                  <a:pt x="1249" y="3"/>
                </a:lnTo>
                <a:lnTo>
                  <a:pt x="1259" y="7"/>
                </a:lnTo>
                <a:lnTo>
                  <a:pt x="1280" y="15"/>
                </a:lnTo>
                <a:lnTo>
                  <a:pt x="1298" y="23"/>
                </a:lnTo>
                <a:lnTo>
                  <a:pt x="1317" y="30"/>
                </a:lnTo>
                <a:lnTo>
                  <a:pt x="1334" y="38"/>
                </a:lnTo>
                <a:lnTo>
                  <a:pt x="1353" y="46"/>
                </a:lnTo>
                <a:lnTo>
                  <a:pt x="1373" y="54"/>
                </a:lnTo>
                <a:lnTo>
                  <a:pt x="1383" y="58"/>
                </a:lnTo>
                <a:lnTo>
                  <a:pt x="1395" y="62"/>
                </a:lnTo>
                <a:lnTo>
                  <a:pt x="1401" y="65"/>
                </a:lnTo>
                <a:lnTo>
                  <a:pt x="1408" y="71"/>
                </a:lnTo>
                <a:lnTo>
                  <a:pt x="1414" y="75"/>
                </a:lnTo>
                <a:lnTo>
                  <a:pt x="1419" y="81"/>
                </a:lnTo>
                <a:lnTo>
                  <a:pt x="1425" y="85"/>
                </a:lnTo>
                <a:lnTo>
                  <a:pt x="1429" y="91"/>
                </a:lnTo>
                <a:lnTo>
                  <a:pt x="1434" y="97"/>
                </a:lnTo>
                <a:lnTo>
                  <a:pt x="1437" y="104"/>
                </a:lnTo>
                <a:lnTo>
                  <a:pt x="1441" y="110"/>
                </a:lnTo>
                <a:lnTo>
                  <a:pt x="1444" y="115"/>
                </a:lnTo>
                <a:lnTo>
                  <a:pt x="1447" y="121"/>
                </a:lnTo>
                <a:lnTo>
                  <a:pt x="1448" y="126"/>
                </a:lnTo>
                <a:lnTo>
                  <a:pt x="1450" y="131"/>
                </a:lnTo>
                <a:lnTo>
                  <a:pt x="1451" y="136"/>
                </a:lnTo>
                <a:lnTo>
                  <a:pt x="1451" y="141"/>
                </a:lnTo>
                <a:lnTo>
                  <a:pt x="1452" y="146"/>
                </a:lnTo>
                <a:lnTo>
                  <a:pt x="1448" y="153"/>
                </a:lnTo>
                <a:lnTo>
                  <a:pt x="1444" y="160"/>
                </a:lnTo>
                <a:lnTo>
                  <a:pt x="1439" y="167"/>
                </a:lnTo>
                <a:lnTo>
                  <a:pt x="1434" y="176"/>
                </a:lnTo>
                <a:lnTo>
                  <a:pt x="1427" y="183"/>
                </a:lnTo>
                <a:lnTo>
                  <a:pt x="1419" y="190"/>
                </a:lnTo>
                <a:lnTo>
                  <a:pt x="1412" y="198"/>
                </a:lnTo>
                <a:lnTo>
                  <a:pt x="1403" y="205"/>
                </a:lnTo>
                <a:lnTo>
                  <a:pt x="1393" y="210"/>
                </a:lnTo>
                <a:lnTo>
                  <a:pt x="1383" y="218"/>
                </a:lnTo>
                <a:lnTo>
                  <a:pt x="1372" y="223"/>
                </a:lnTo>
                <a:lnTo>
                  <a:pt x="1359" y="229"/>
                </a:lnTo>
                <a:lnTo>
                  <a:pt x="1346" y="235"/>
                </a:lnTo>
                <a:lnTo>
                  <a:pt x="1330" y="239"/>
                </a:lnTo>
                <a:lnTo>
                  <a:pt x="1314" y="245"/>
                </a:lnTo>
                <a:lnTo>
                  <a:pt x="1297" y="2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87"/>
          <p:cNvSpPr/>
          <p:nvPr/>
        </p:nvSpPr>
        <p:spPr>
          <a:xfrm>
            <a:off x="5925960" y="3182760"/>
            <a:ext cx="708120" cy="1886040"/>
          </a:xfrm>
          <a:custGeom>
            <a:avLst/>
            <a:gdLst/>
            <a:ahLst/>
            <a:rect l="l" t="t" r="r" b="b"/>
            <a:pathLst>
              <a:path w="1339" h="3565">
                <a:moveTo>
                  <a:pt x="1339" y="92"/>
                </a:moveTo>
                <a:lnTo>
                  <a:pt x="1339" y="154"/>
                </a:lnTo>
                <a:lnTo>
                  <a:pt x="1338" y="214"/>
                </a:lnTo>
                <a:lnTo>
                  <a:pt x="1338" y="276"/>
                </a:lnTo>
                <a:lnTo>
                  <a:pt x="1336" y="336"/>
                </a:lnTo>
                <a:lnTo>
                  <a:pt x="1333" y="397"/>
                </a:lnTo>
                <a:lnTo>
                  <a:pt x="1332" y="457"/>
                </a:lnTo>
                <a:lnTo>
                  <a:pt x="1326" y="577"/>
                </a:lnTo>
                <a:lnTo>
                  <a:pt x="1320" y="695"/>
                </a:lnTo>
                <a:lnTo>
                  <a:pt x="1315" y="813"/>
                </a:lnTo>
                <a:lnTo>
                  <a:pt x="1307" y="930"/>
                </a:lnTo>
                <a:lnTo>
                  <a:pt x="1300" y="1048"/>
                </a:lnTo>
                <a:lnTo>
                  <a:pt x="1293" y="1105"/>
                </a:lnTo>
                <a:lnTo>
                  <a:pt x="1284" y="1164"/>
                </a:lnTo>
                <a:lnTo>
                  <a:pt x="1274" y="1225"/>
                </a:lnTo>
                <a:lnTo>
                  <a:pt x="1264" y="1284"/>
                </a:lnTo>
                <a:lnTo>
                  <a:pt x="1253" y="1344"/>
                </a:lnTo>
                <a:lnTo>
                  <a:pt x="1241" y="1405"/>
                </a:lnTo>
                <a:lnTo>
                  <a:pt x="1228" y="1464"/>
                </a:lnTo>
                <a:lnTo>
                  <a:pt x="1215" y="1524"/>
                </a:lnTo>
                <a:lnTo>
                  <a:pt x="1201" y="1585"/>
                </a:lnTo>
                <a:lnTo>
                  <a:pt x="1186" y="1645"/>
                </a:lnTo>
                <a:lnTo>
                  <a:pt x="1171" y="1706"/>
                </a:lnTo>
                <a:lnTo>
                  <a:pt x="1155" y="1766"/>
                </a:lnTo>
                <a:lnTo>
                  <a:pt x="1139" y="1825"/>
                </a:lnTo>
                <a:lnTo>
                  <a:pt x="1122" y="1886"/>
                </a:lnTo>
                <a:lnTo>
                  <a:pt x="1104" y="1945"/>
                </a:lnTo>
                <a:lnTo>
                  <a:pt x="1087" y="2004"/>
                </a:lnTo>
                <a:lnTo>
                  <a:pt x="1068" y="2061"/>
                </a:lnTo>
                <a:lnTo>
                  <a:pt x="1050" y="2119"/>
                </a:lnTo>
                <a:lnTo>
                  <a:pt x="1030" y="2175"/>
                </a:lnTo>
                <a:lnTo>
                  <a:pt x="1008" y="2233"/>
                </a:lnTo>
                <a:lnTo>
                  <a:pt x="986" y="2287"/>
                </a:lnTo>
                <a:lnTo>
                  <a:pt x="963" y="2342"/>
                </a:lnTo>
                <a:lnTo>
                  <a:pt x="939" y="2397"/>
                </a:lnTo>
                <a:lnTo>
                  <a:pt x="916" y="2449"/>
                </a:lnTo>
                <a:lnTo>
                  <a:pt x="890" y="2502"/>
                </a:lnTo>
                <a:lnTo>
                  <a:pt x="864" y="2552"/>
                </a:lnTo>
                <a:lnTo>
                  <a:pt x="838" y="2603"/>
                </a:lnTo>
                <a:lnTo>
                  <a:pt x="811" y="2652"/>
                </a:lnTo>
                <a:lnTo>
                  <a:pt x="785" y="2699"/>
                </a:lnTo>
                <a:lnTo>
                  <a:pt x="756" y="2745"/>
                </a:lnTo>
                <a:lnTo>
                  <a:pt x="729" y="2790"/>
                </a:lnTo>
                <a:lnTo>
                  <a:pt x="700" y="2835"/>
                </a:lnTo>
                <a:lnTo>
                  <a:pt x="668" y="2876"/>
                </a:lnTo>
                <a:lnTo>
                  <a:pt x="636" y="2918"/>
                </a:lnTo>
                <a:lnTo>
                  <a:pt x="605" y="2958"/>
                </a:lnTo>
                <a:lnTo>
                  <a:pt x="573" y="2997"/>
                </a:lnTo>
                <a:lnTo>
                  <a:pt x="543" y="3036"/>
                </a:lnTo>
                <a:lnTo>
                  <a:pt x="513" y="3072"/>
                </a:lnTo>
                <a:lnTo>
                  <a:pt x="482" y="3108"/>
                </a:lnTo>
                <a:lnTo>
                  <a:pt x="454" y="3143"/>
                </a:lnTo>
                <a:lnTo>
                  <a:pt x="425" y="3176"/>
                </a:lnTo>
                <a:lnTo>
                  <a:pt x="396" y="3209"/>
                </a:lnTo>
                <a:lnTo>
                  <a:pt x="367" y="3239"/>
                </a:lnTo>
                <a:lnTo>
                  <a:pt x="340" y="3269"/>
                </a:lnTo>
                <a:lnTo>
                  <a:pt x="312" y="3297"/>
                </a:lnTo>
                <a:lnTo>
                  <a:pt x="287" y="3324"/>
                </a:lnTo>
                <a:lnTo>
                  <a:pt x="261" y="3350"/>
                </a:lnTo>
                <a:lnTo>
                  <a:pt x="235" y="3375"/>
                </a:lnTo>
                <a:lnTo>
                  <a:pt x="222" y="3388"/>
                </a:lnTo>
                <a:lnTo>
                  <a:pt x="210" y="3400"/>
                </a:lnTo>
                <a:lnTo>
                  <a:pt x="199" y="3413"/>
                </a:lnTo>
                <a:lnTo>
                  <a:pt x="187" y="3425"/>
                </a:lnTo>
                <a:lnTo>
                  <a:pt x="176" y="3436"/>
                </a:lnTo>
                <a:lnTo>
                  <a:pt x="166" y="3448"/>
                </a:lnTo>
                <a:lnTo>
                  <a:pt x="154" y="3458"/>
                </a:lnTo>
                <a:lnTo>
                  <a:pt x="144" y="3468"/>
                </a:lnTo>
                <a:lnTo>
                  <a:pt x="135" y="3478"/>
                </a:lnTo>
                <a:lnTo>
                  <a:pt x="125" y="3487"/>
                </a:lnTo>
                <a:lnTo>
                  <a:pt x="117" y="3496"/>
                </a:lnTo>
                <a:lnTo>
                  <a:pt x="108" y="3504"/>
                </a:lnTo>
                <a:lnTo>
                  <a:pt x="99" y="3511"/>
                </a:lnTo>
                <a:lnTo>
                  <a:pt x="91" y="3519"/>
                </a:lnTo>
                <a:lnTo>
                  <a:pt x="84" y="3524"/>
                </a:lnTo>
                <a:lnTo>
                  <a:pt x="75" y="3532"/>
                </a:lnTo>
                <a:lnTo>
                  <a:pt x="69" y="3537"/>
                </a:lnTo>
                <a:lnTo>
                  <a:pt x="62" y="3542"/>
                </a:lnTo>
                <a:lnTo>
                  <a:pt x="55" y="3546"/>
                </a:lnTo>
                <a:lnTo>
                  <a:pt x="49" y="3550"/>
                </a:lnTo>
                <a:lnTo>
                  <a:pt x="43" y="3555"/>
                </a:lnTo>
                <a:lnTo>
                  <a:pt x="37" y="3557"/>
                </a:lnTo>
                <a:lnTo>
                  <a:pt x="33" y="3559"/>
                </a:lnTo>
                <a:lnTo>
                  <a:pt x="27" y="3562"/>
                </a:lnTo>
                <a:lnTo>
                  <a:pt x="23" y="3563"/>
                </a:lnTo>
                <a:lnTo>
                  <a:pt x="19" y="3565"/>
                </a:lnTo>
                <a:lnTo>
                  <a:pt x="16" y="3565"/>
                </a:lnTo>
                <a:lnTo>
                  <a:pt x="13" y="3565"/>
                </a:lnTo>
                <a:lnTo>
                  <a:pt x="9" y="3565"/>
                </a:lnTo>
                <a:lnTo>
                  <a:pt x="7" y="3565"/>
                </a:lnTo>
                <a:lnTo>
                  <a:pt x="4" y="3563"/>
                </a:lnTo>
                <a:lnTo>
                  <a:pt x="3" y="3562"/>
                </a:lnTo>
                <a:lnTo>
                  <a:pt x="1" y="3559"/>
                </a:lnTo>
                <a:lnTo>
                  <a:pt x="0" y="3555"/>
                </a:lnTo>
                <a:lnTo>
                  <a:pt x="0" y="3550"/>
                </a:lnTo>
                <a:lnTo>
                  <a:pt x="1" y="3546"/>
                </a:lnTo>
                <a:lnTo>
                  <a:pt x="3" y="3539"/>
                </a:lnTo>
                <a:lnTo>
                  <a:pt x="4" y="3532"/>
                </a:lnTo>
                <a:lnTo>
                  <a:pt x="7" y="3524"/>
                </a:lnTo>
                <a:lnTo>
                  <a:pt x="10" y="3514"/>
                </a:lnTo>
                <a:lnTo>
                  <a:pt x="16" y="3504"/>
                </a:lnTo>
                <a:lnTo>
                  <a:pt x="20" y="3494"/>
                </a:lnTo>
                <a:lnTo>
                  <a:pt x="26" y="3481"/>
                </a:lnTo>
                <a:lnTo>
                  <a:pt x="33" y="3468"/>
                </a:lnTo>
                <a:lnTo>
                  <a:pt x="40" y="3454"/>
                </a:lnTo>
                <a:lnTo>
                  <a:pt x="48" y="3439"/>
                </a:lnTo>
                <a:lnTo>
                  <a:pt x="58" y="3424"/>
                </a:lnTo>
                <a:lnTo>
                  <a:pt x="66" y="3406"/>
                </a:lnTo>
                <a:lnTo>
                  <a:pt x="78" y="3388"/>
                </a:lnTo>
                <a:lnTo>
                  <a:pt x="88" y="3369"/>
                </a:lnTo>
                <a:lnTo>
                  <a:pt x="101" y="3350"/>
                </a:lnTo>
                <a:lnTo>
                  <a:pt x="114" y="3328"/>
                </a:lnTo>
                <a:lnTo>
                  <a:pt x="127" y="3307"/>
                </a:lnTo>
                <a:lnTo>
                  <a:pt x="141" y="3284"/>
                </a:lnTo>
                <a:lnTo>
                  <a:pt x="157" y="3259"/>
                </a:lnTo>
                <a:lnTo>
                  <a:pt x="173" y="3235"/>
                </a:lnTo>
                <a:lnTo>
                  <a:pt x="190" y="3209"/>
                </a:lnTo>
                <a:lnTo>
                  <a:pt x="207" y="3182"/>
                </a:lnTo>
                <a:lnTo>
                  <a:pt x="226" y="3154"/>
                </a:lnTo>
                <a:lnTo>
                  <a:pt x="245" y="3125"/>
                </a:lnTo>
                <a:lnTo>
                  <a:pt x="266" y="3095"/>
                </a:lnTo>
                <a:lnTo>
                  <a:pt x="287" y="3065"/>
                </a:lnTo>
                <a:lnTo>
                  <a:pt x="310" y="3033"/>
                </a:lnTo>
                <a:lnTo>
                  <a:pt x="333" y="3000"/>
                </a:lnTo>
                <a:lnTo>
                  <a:pt x="377" y="2937"/>
                </a:lnTo>
                <a:lnTo>
                  <a:pt x="422" y="2873"/>
                </a:lnTo>
                <a:lnTo>
                  <a:pt x="465" y="2810"/>
                </a:lnTo>
                <a:lnTo>
                  <a:pt x="505" y="2745"/>
                </a:lnTo>
                <a:lnTo>
                  <a:pt x="544" y="2681"/>
                </a:lnTo>
                <a:lnTo>
                  <a:pt x="582" y="2616"/>
                </a:lnTo>
                <a:lnTo>
                  <a:pt x="619" y="2550"/>
                </a:lnTo>
                <a:lnTo>
                  <a:pt x="654" y="2483"/>
                </a:lnTo>
                <a:lnTo>
                  <a:pt x="687" y="2416"/>
                </a:lnTo>
                <a:lnTo>
                  <a:pt x="717" y="2347"/>
                </a:lnTo>
                <a:lnTo>
                  <a:pt x="747" y="2277"/>
                </a:lnTo>
                <a:lnTo>
                  <a:pt x="776" y="2208"/>
                </a:lnTo>
                <a:lnTo>
                  <a:pt x="803" y="2138"/>
                </a:lnTo>
                <a:lnTo>
                  <a:pt x="828" y="2066"/>
                </a:lnTo>
                <a:lnTo>
                  <a:pt x="852" y="1994"/>
                </a:lnTo>
                <a:lnTo>
                  <a:pt x="874" y="1920"/>
                </a:lnTo>
                <a:lnTo>
                  <a:pt x="894" y="1847"/>
                </a:lnTo>
                <a:lnTo>
                  <a:pt x="914" y="1775"/>
                </a:lnTo>
                <a:lnTo>
                  <a:pt x="933" y="1704"/>
                </a:lnTo>
                <a:lnTo>
                  <a:pt x="950" y="1635"/>
                </a:lnTo>
                <a:lnTo>
                  <a:pt x="966" y="1568"/>
                </a:lnTo>
                <a:lnTo>
                  <a:pt x="981" y="1501"/>
                </a:lnTo>
                <a:lnTo>
                  <a:pt x="994" y="1437"/>
                </a:lnTo>
                <a:lnTo>
                  <a:pt x="1006" y="1375"/>
                </a:lnTo>
                <a:lnTo>
                  <a:pt x="1018" y="1313"/>
                </a:lnTo>
                <a:lnTo>
                  <a:pt x="1028" y="1252"/>
                </a:lnTo>
                <a:lnTo>
                  <a:pt x="1037" y="1193"/>
                </a:lnTo>
                <a:lnTo>
                  <a:pt x="1045" y="1137"/>
                </a:lnTo>
                <a:lnTo>
                  <a:pt x="1053" y="1081"/>
                </a:lnTo>
                <a:lnTo>
                  <a:pt x="1058" y="1026"/>
                </a:lnTo>
                <a:lnTo>
                  <a:pt x="1064" y="974"/>
                </a:lnTo>
                <a:lnTo>
                  <a:pt x="1068" y="922"/>
                </a:lnTo>
                <a:lnTo>
                  <a:pt x="1070" y="898"/>
                </a:lnTo>
                <a:lnTo>
                  <a:pt x="1071" y="872"/>
                </a:lnTo>
                <a:lnTo>
                  <a:pt x="1073" y="848"/>
                </a:lnTo>
                <a:lnTo>
                  <a:pt x="1073" y="825"/>
                </a:lnTo>
                <a:lnTo>
                  <a:pt x="1074" y="777"/>
                </a:lnTo>
                <a:lnTo>
                  <a:pt x="1076" y="731"/>
                </a:lnTo>
                <a:lnTo>
                  <a:pt x="1076" y="686"/>
                </a:lnTo>
                <a:lnTo>
                  <a:pt x="1074" y="643"/>
                </a:lnTo>
                <a:lnTo>
                  <a:pt x="1074" y="601"/>
                </a:lnTo>
                <a:lnTo>
                  <a:pt x="1073" y="561"/>
                </a:lnTo>
                <a:lnTo>
                  <a:pt x="1070" y="522"/>
                </a:lnTo>
                <a:lnTo>
                  <a:pt x="1067" y="483"/>
                </a:lnTo>
                <a:lnTo>
                  <a:pt x="1066" y="447"/>
                </a:lnTo>
                <a:lnTo>
                  <a:pt x="1061" y="411"/>
                </a:lnTo>
                <a:lnTo>
                  <a:pt x="1058" y="377"/>
                </a:lnTo>
                <a:lnTo>
                  <a:pt x="1055" y="342"/>
                </a:lnTo>
                <a:lnTo>
                  <a:pt x="1051" y="311"/>
                </a:lnTo>
                <a:lnTo>
                  <a:pt x="1048" y="279"/>
                </a:lnTo>
                <a:lnTo>
                  <a:pt x="1041" y="252"/>
                </a:lnTo>
                <a:lnTo>
                  <a:pt x="1035" y="226"/>
                </a:lnTo>
                <a:lnTo>
                  <a:pt x="1031" y="201"/>
                </a:lnTo>
                <a:lnTo>
                  <a:pt x="1027" y="178"/>
                </a:lnTo>
                <a:lnTo>
                  <a:pt x="1024" y="155"/>
                </a:lnTo>
                <a:lnTo>
                  <a:pt x="1021" y="135"/>
                </a:lnTo>
                <a:lnTo>
                  <a:pt x="1019" y="115"/>
                </a:lnTo>
                <a:lnTo>
                  <a:pt x="1019" y="106"/>
                </a:lnTo>
                <a:lnTo>
                  <a:pt x="1019" y="96"/>
                </a:lnTo>
                <a:lnTo>
                  <a:pt x="1019" y="87"/>
                </a:lnTo>
                <a:lnTo>
                  <a:pt x="1019" y="80"/>
                </a:lnTo>
                <a:lnTo>
                  <a:pt x="1021" y="72"/>
                </a:lnTo>
                <a:lnTo>
                  <a:pt x="1021" y="64"/>
                </a:lnTo>
                <a:lnTo>
                  <a:pt x="1022" y="57"/>
                </a:lnTo>
                <a:lnTo>
                  <a:pt x="1024" y="51"/>
                </a:lnTo>
                <a:lnTo>
                  <a:pt x="1025" y="44"/>
                </a:lnTo>
                <a:lnTo>
                  <a:pt x="1027" y="38"/>
                </a:lnTo>
                <a:lnTo>
                  <a:pt x="1028" y="33"/>
                </a:lnTo>
                <a:lnTo>
                  <a:pt x="1031" y="28"/>
                </a:lnTo>
                <a:lnTo>
                  <a:pt x="1034" y="24"/>
                </a:lnTo>
                <a:lnTo>
                  <a:pt x="1035" y="20"/>
                </a:lnTo>
                <a:lnTo>
                  <a:pt x="1038" y="17"/>
                </a:lnTo>
                <a:lnTo>
                  <a:pt x="1041" y="13"/>
                </a:lnTo>
                <a:lnTo>
                  <a:pt x="1045" y="11"/>
                </a:lnTo>
                <a:lnTo>
                  <a:pt x="1048" y="8"/>
                </a:lnTo>
                <a:lnTo>
                  <a:pt x="1057" y="5"/>
                </a:lnTo>
                <a:lnTo>
                  <a:pt x="1066" y="2"/>
                </a:lnTo>
                <a:lnTo>
                  <a:pt x="1076" y="1"/>
                </a:lnTo>
                <a:lnTo>
                  <a:pt x="1089" y="0"/>
                </a:lnTo>
                <a:lnTo>
                  <a:pt x="1102" y="1"/>
                </a:lnTo>
                <a:lnTo>
                  <a:pt x="1116" y="2"/>
                </a:lnTo>
                <a:lnTo>
                  <a:pt x="1133" y="5"/>
                </a:lnTo>
                <a:lnTo>
                  <a:pt x="1150" y="10"/>
                </a:lnTo>
                <a:lnTo>
                  <a:pt x="1169" y="15"/>
                </a:lnTo>
                <a:lnTo>
                  <a:pt x="1189" y="23"/>
                </a:lnTo>
                <a:lnTo>
                  <a:pt x="1211" y="30"/>
                </a:lnTo>
                <a:lnTo>
                  <a:pt x="1234" y="40"/>
                </a:lnTo>
                <a:lnTo>
                  <a:pt x="1258" y="50"/>
                </a:lnTo>
                <a:lnTo>
                  <a:pt x="1284" y="63"/>
                </a:lnTo>
                <a:lnTo>
                  <a:pt x="1297" y="69"/>
                </a:lnTo>
                <a:lnTo>
                  <a:pt x="1310" y="76"/>
                </a:lnTo>
                <a:lnTo>
                  <a:pt x="1325" y="83"/>
                </a:lnTo>
                <a:lnTo>
                  <a:pt x="1339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88"/>
          <p:cNvSpPr/>
          <p:nvPr/>
        </p:nvSpPr>
        <p:spPr>
          <a:xfrm>
            <a:off x="6572160" y="3078000"/>
            <a:ext cx="954000" cy="241560"/>
          </a:xfrm>
          <a:custGeom>
            <a:avLst/>
            <a:gdLst/>
            <a:ahLst/>
            <a:rect l="l" t="t" r="r" b="b"/>
            <a:pathLst>
              <a:path w="1803" h="456">
                <a:moveTo>
                  <a:pt x="1105" y="332"/>
                </a:moveTo>
                <a:lnTo>
                  <a:pt x="1018" y="347"/>
                </a:lnTo>
                <a:lnTo>
                  <a:pt x="935" y="361"/>
                </a:lnTo>
                <a:lnTo>
                  <a:pt x="854" y="374"/>
                </a:lnTo>
                <a:lnTo>
                  <a:pt x="775" y="387"/>
                </a:lnTo>
                <a:lnTo>
                  <a:pt x="697" y="399"/>
                </a:lnTo>
                <a:lnTo>
                  <a:pt x="622" y="409"/>
                </a:lnTo>
                <a:lnTo>
                  <a:pt x="550" y="417"/>
                </a:lnTo>
                <a:lnTo>
                  <a:pt x="480" y="426"/>
                </a:lnTo>
                <a:lnTo>
                  <a:pt x="412" y="433"/>
                </a:lnTo>
                <a:lnTo>
                  <a:pt x="347" y="439"/>
                </a:lnTo>
                <a:lnTo>
                  <a:pt x="283" y="445"/>
                </a:lnTo>
                <a:lnTo>
                  <a:pt x="222" y="449"/>
                </a:lnTo>
                <a:lnTo>
                  <a:pt x="163" y="452"/>
                </a:lnTo>
                <a:lnTo>
                  <a:pt x="107" y="455"/>
                </a:lnTo>
                <a:lnTo>
                  <a:pt x="52" y="456"/>
                </a:lnTo>
                <a:lnTo>
                  <a:pt x="0" y="456"/>
                </a:lnTo>
                <a:lnTo>
                  <a:pt x="0" y="363"/>
                </a:lnTo>
                <a:lnTo>
                  <a:pt x="0" y="269"/>
                </a:lnTo>
                <a:lnTo>
                  <a:pt x="21" y="269"/>
                </a:lnTo>
                <a:lnTo>
                  <a:pt x="41" y="269"/>
                </a:lnTo>
                <a:lnTo>
                  <a:pt x="62" y="268"/>
                </a:lnTo>
                <a:lnTo>
                  <a:pt x="84" y="268"/>
                </a:lnTo>
                <a:lnTo>
                  <a:pt x="106" y="266"/>
                </a:lnTo>
                <a:lnTo>
                  <a:pt x="129" y="265"/>
                </a:lnTo>
                <a:lnTo>
                  <a:pt x="152" y="263"/>
                </a:lnTo>
                <a:lnTo>
                  <a:pt x="175" y="262"/>
                </a:lnTo>
                <a:lnTo>
                  <a:pt x="199" y="259"/>
                </a:lnTo>
                <a:lnTo>
                  <a:pt x="224" y="256"/>
                </a:lnTo>
                <a:lnTo>
                  <a:pt x="248" y="255"/>
                </a:lnTo>
                <a:lnTo>
                  <a:pt x="274" y="250"/>
                </a:lnTo>
                <a:lnTo>
                  <a:pt x="300" y="248"/>
                </a:lnTo>
                <a:lnTo>
                  <a:pt x="327" y="245"/>
                </a:lnTo>
                <a:lnTo>
                  <a:pt x="353" y="240"/>
                </a:lnTo>
                <a:lnTo>
                  <a:pt x="381" y="236"/>
                </a:lnTo>
                <a:lnTo>
                  <a:pt x="409" y="232"/>
                </a:lnTo>
                <a:lnTo>
                  <a:pt x="438" y="227"/>
                </a:lnTo>
                <a:lnTo>
                  <a:pt x="467" y="222"/>
                </a:lnTo>
                <a:lnTo>
                  <a:pt x="496" y="216"/>
                </a:lnTo>
                <a:lnTo>
                  <a:pt x="526" y="210"/>
                </a:lnTo>
                <a:lnTo>
                  <a:pt x="556" y="204"/>
                </a:lnTo>
                <a:lnTo>
                  <a:pt x="588" y="199"/>
                </a:lnTo>
                <a:lnTo>
                  <a:pt x="620" y="191"/>
                </a:lnTo>
                <a:lnTo>
                  <a:pt x="651" y="184"/>
                </a:lnTo>
                <a:lnTo>
                  <a:pt x="684" y="177"/>
                </a:lnTo>
                <a:lnTo>
                  <a:pt x="718" y="168"/>
                </a:lnTo>
                <a:lnTo>
                  <a:pt x="751" y="160"/>
                </a:lnTo>
                <a:lnTo>
                  <a:pt x="785" y="151"/>
                </a:lnTo>
                <a:lnTo>
                  <a:pt x="820" y="142"/>
                </a:lnTo>
                <a:lnTo>
                  <a:pt x="856" y="134"/>
                </a:lnTo>
                <a:lnTo>
                  <a:pt x="892" y="124"/>
                </a:lnTo>
                <a:lnTo>
                  <a:pt x="926" y="116"/>
                </a:lnTo>
                <a:lnTo>
                  <a:pt x="959" y="108"/>
                </a:lnTo>
                <a:lnTo>
                  <a:pt x="991" y="101"/>
                </a:lnTo>
                <a:lnTo>
                  <a:pt x="1023" y="95"/>
                </a:lnTo>
                <a:lnTo>
                  <a:pt x="1054" y="88"/>
                </a:lnTo>
                <a:lnTo>
                  <a:pt x="1085" y="80"/>
                </a:lnTo>
                <a:lnTo>
                  <a:pt x="1113" y="75"/>
                </a:lnTo>
                <a:lnTo>
                  <a:pt x="1142" y="69"/>
                </a:lnTo>
                <a:lnTo>
                  <a:pt x="1170" y="63"/>
                </a:lnTo>
                <a:lnTo>
                  <a:pt x="1196" y="57"/>
                </a:lnTo>
                <a:lnTo>
                  <a:pt x="1221" y="52"/>
                </a:lnTo>
                <a:lnTo>
                  <a:pt x="1246" y="47"/>
                </a:lnTo>
                <a:lnTo>
                  <a:pt x="1270" y="43"/>
                </a:lnTo>
                <a:lnTo>
                  <a:pt x="1293" y="39"/>
                </a:lnTo>
                <a:lnTo>
                  <a:pt x="1316" y="34"/>
                </a:lnTo>
                <a:lnTo>
                  <a:pt x="1337" y="30"/>
                </a:lnTo>
                <a:lnTo>
                  <a:pt x="1358" y="26"/>
                </a:lnTo>
                <a:lnTo>
                  <a:pt x="1377" y="23"/>
                </a:lnTo>
                <a:lnTo>
                  <a:pt x="1396" y="20"/>
                </a:lnTo>
                <a:lnTo>
                  <a:pt x="1413" y="16"/>
                </a:lnTo>
                <a:lnTo>
                  <a:pt x="1430" y="14"/>
                </a:lnTo>
                <a:lnTo>
                  <a:pt x="1446" y="11"/>
                </a:lnTo>
                <a:lnTo>
                  <a:pt x="1460" y="8"/>
                </a:lnTo>
                <a:lnTo>
                  <a:pt x="1475" y="7"/>
                </a:lnTo>
                <a:lnTo>
                  <a:pt x="1488" y="6"/>
                </a:lnTo>
                <a:lnTo>
                  <a:pt x="1499" y="3"/>
                </a:lnTo>
                <a:lnTo>
                  <a:pt x="1511" y="3"/>
                </a:lnTo>
                <a:lnTo>
                  <a:pt x="1521" y="1"/>
                </a:lnTo>
                <a:lnTo>
                  <a:pt x="1530" y="0"/>
                </a:lnTo>
                <a:lnTo>
                  <a:pt x="1538" y="0"/>
                </a:lnTo>
                <a:lnTo>
                  <a:pt x="1544" y="0"/>
                </a:lnTo>
                <a:lnTo>
                  <a:pt x="1551" y="0"/>
                </a:lnTo>
                <a:lnTo>
                  <a:pt x="1561" y="0"/>
                </a:lnTo>
                <a:lnTo>
                  <a:pt x="1573" y="0"/>
                </a:lnTo>
                <a:lnTo>
                  <a:pt x="1583" y="1"/>
                </a:lnTo>
                <a:lnTo>
                  <a:pt x="1594" y="3"/>
                </a:lnTo>
                <a:lnTo>
                  <a:pt x="1604" y="4"/>
                </a:lnTo>
                <a:lnTo>
                  <a:pt x="1616" y="7"/>
                </a:lnTo>
                <a:lnTo>
                  <a:pt x="1638" y="11"/>
                </a:lnTo>
                <a:lnTo>
                  <a:pt x="1659" y="19"/>
                </a:lnTo>
                <a:lnTo>
                  <a:pt x="1681" y="26"/>
                </a:lnTo>
                <a:lnTo>
                  <a:pt x="1702" y="33"/>
                </a:lnTo>
                <a:lnTo>
                  <a:pt x="1725" y="42"/>
                </a:lnTo>
                <a:lnTo>
                  <a:pt x="1735" y="49"/>
                </a:lnTo>
                <a:lnTo>
                  <a:pt x="1744" y="56"/>
                </a:lnTo>
                <a:lnTo>
                  <a:pt x="1753" y="65"/>
                </a:lnTo>
                <a:lnTo>
                  <a:pt x="1761" y="72"/>
                </a:lnTo>
                <a:lnTo>
                  <a:pt x="1769" y="79"/>
                </a:lnTo>
                <a:lnTo>
                  <a:pt x="1774" y="86"/>
                </a:lnTo>
                <a:lnTo>
                  <a:pt x="1780" y="93"/>
                </a:lnTo>
                <a:lnTo>
                  <a:pt x="1786" y="101"/>
                </a:lnTo>
                <a:lnTo>
                  <a:pt x="1789" y="108"/>
                </a:lnTo>
                <a:lnTo>
                  <a:pt x="1793" y="114"/>
                </a:lnTo>
                <a:lnTo>
                  <a:pt x="1796" y="119"/>
                </a:lnTo>
                <a:lnTo>
                  <a:pt x="1799" y="125"/>
                </a:lnTo>
                <a:lnTo>
                  <a:pt x="1800" y="131"/>
                </a:lnTo>
                <a:lnTo>
                  <a:pt x="1802" y="135"/>
                </a:lnTo>
                <a:lnTo>
                  <a:pt x="1802" y="141"/>
                </a:lnTo>
                <a:lnTo>
                  <a:pt x="1803" y="145"/>
                </a:lnTo>
                <a:lnTo>
                  <a:pt x="1802" y="148"/>
                </a:lnTo>
                <a:lnTo>
                  <a:pt x="1800" y="152"/>
                </a:lnTo>
                <a:lnTo>
                  <a:pt x="1796" y="157"/>
                </a:lnTo>
                <a:lnTo>
                  <a:pt x="1792" y="161"/>
                </a:lnTo>
                <a:lnTo>
                  <a:pt x="1786" y="165"/>
                </a:lnTo>
                <a:lnTo>
                  <a:pt x="1777" y="170"/>
                </a:lnTo>
                <a:lnTo>
                  <a:pt x="1769" y="174"/>
                </a:lnTo>
                <a:lnTo>
                  <a:pt x="1759" y="180"/>
                </a:lnTo>
                <a:lnTo>
                  <a:pt x="1747" y="184"/>
                </a:lnTo>
                <a:lnTo>
                  <a:pt x="1734" y="190"/>
                </a:lnTo>
                <a:lnTo>
                  <a:pt x="1720" y="194"/>
                </a:lnTo>
                <a:lnTo>
                  <a:pt x="1704" y="200"/>
                </a:lnTo>
                <a:lnTo>
                  <a:pt x="1687" y="206"/>
                </a:lnTo>
                <a:lnTo>
                  <a:pt x="1669" y="210"/>
                </a:lnTo>
                <a:lnTo>
                  <a:pt x="1649" y="216"/>
                </a:lnTo>
                <a:lnTo>
                  <a:pt x="1627" y="222"/>
                </a:lnTo>
                <a:lnTo>
                  <a:pt x="1606" y="227"/>
                </a:lnTo>
                <a:lnTo>
                  <a:pt x="1581" y="235"/>
                </a:lnTo>
                <a:lnTo>
                  <a:pt x="1557" y="240"/>
                </a:lnTo>
                <a:lnTo>
                  <a:pt x="1530" y="246"/>
                </a:lnTo>
                <a:lnTo>
                  <a:pt x="1502" y="253"/>
                </a:lnTo>
                <a:lnTo>
                  <a:pt x="1472" y="259"/>
                </a:lnTo>
                <a:lnTo>
                  <a:pt x="1442" y="266"/>
                </a:lnTo>
                <a:lnTo>
                  <a:pt x="1410" y="272"/>
                </a:lnTo>
                <a:lnTo>
                  <a:pt x="1377" y="279"/>
                </a:lnTo>
                <a:lnTo>
                  <a:pt x="1341" y="286"/>
                </a:lnTo>
                <a:lnTo>
                  <a:pt x="1305" y="294"/>
                </a:lnTo>
                <a:lnTo>
                  <a:pt x="1268" y="301"/>
                </a:lnTo>
                <a:lnTo>
                  <a:pt x="1229" y="308"/>
                </a:lnTo>
                <a:lnTo>
                  <a:pt x="1190" y="317"/>
                </a:lnTo>
                <a:lnTo>
                  <a:pt x="1148" y="324"/>
                </a:lnTo>
                <a:lnTo>
                  <a:pt x="1105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89"/>
          <p:cNvSpPr/>
          <p:nvPr/>
        </p:nvSpPr>
        <p:spPr>
          <a:xfrm>
            <a:off x="6799320" y="2725560"/>
            <a:ext cx="358560" cy="246240"/>
          </a:xfrm>
          <a:custGeom>
            <a:avLst/>
            <a:gdLst/>
            <a:ahLst/>
            <a:rect l="l" t="t" r="r" b="b"/>
            <a:pathLst>
              <a:path w="678" h="465">
                <a:moveTo>
                  <a:pt x="0" y="62"/>
                </a:moveTo>
                <a:lnTo>
                  <a:pt x="7" y="54"/>
                </a:lnTo>
                <a:lnTo>
                  <a:pt x="17" y="47"/>
                </a:lnTo>
                <a:lnTo>
                  <a:pt x="27" y="40"/>
                </a:lnTo>
                <a:lnTo>
                  <a:pt x="39" y="34"/>
                </a:lnTo>
                <a:lnTo>
                  <a:pt x="53" y="28"/>
                </a:lnTo>
                <a:lnTo>
                  <a:pt x="67" y="24"/>
                </a:lnTo>
                <a:lnTo>
                  <a:pt x="82" y="18"/>
                </a:lnTo>
                <a:lnTo>
                  <a:pt x="99" y="14"/>
                </a:lnTo>
                <a:lnTo>
                  <a:pt x="116" y="11"/>
                </a:lnTo>
                <a:lnTo>
                  <a:pt x="136" y="8"/>
                </a:lnTo>
                <a:lnTo>
                  <a:pt x="155" y="5"/>
                </a:lnTo>
                <a:lnTo>
                  <a:pt x="177" y="3"/>
                </a:lnTo>
                <a:lnTo>
                  <a:pt x="198" y="1"/>
                </a:lnTo>
                <a:lnTo>
                  <a:pt x="223" y="0"/>
                </a:lnTo>
                <a:lnTo>
                  <a:pt x="246" y="0"/>
                </a:lnTo>
                <a:lnTo>
                  <a:pt x="272" y="0"/>
                </a:lnTo>
                <a:lnTo>
                  <a:pt x="296" y="0"/>
                </a:lnTo>
                <a:lnTo>
                  <a:pt x="321" y="0"/>
                </a:lnTo>
                <a:lnTo>
                  <a:pt x="344" y="1"/>
                </a:lnTo>
                <a:lnTo>
                  <a:pt x="365" y="3"/>
                </a:lnTo>
                <a:lnTo>
                  <a:pt x="387" y="5"/>
                </a:lnTo>
                <a:lnTo>
                  <a:pt x="409" y="8"/>
                </a:lnTo>
                <a:lnTo>
                  <a:pt x="429" y="13"/>
                </a:lnTo>
                <a:lnTo>
                  <a:pt x="447" y="17"/>
                </a:lnTo>
                <a:lnTo>
                  <a:pt x="466" y="23"/>
                </a:lnTo>
                <a:lnTo>
                  <a:pt x="485" y="28"/>
                </a:lnTo>
                <a:lnTo>
                  <a:pt x="502" y="36"/>
                </a:lnTo>
                <a:lnTo>
                  <a:pt x="519" y="43"/>
                </a:lnTo>
                <a:lnTo>
                  <a:pt x="535" y="51"/>
                </a:lnTo>
                <a:lnTo>
                  <a:pt x="551" y="60"/>
                </a:lnTo>
                <a:lnTo>
                  <a:pt x="566" y="72"/>
                </a:lnTo>
                <a:lnTo>
                  <a:pt x="581" y="83"/>
                </a:lnTo>
                <a:lnTo>
                  <a:pt x="591" y="95"/>
                </a:lnTo>
                <a:lnTo>
                  <a:pt x="602" y="106"/>
                </a:lnTo>
                <a:lnTo>
                  <a:pt x="612" y="118"/>
                </a:lnTo>
                <a:lnTo>
                  <a:pt x="620" y="129"/>
                </a:lnTo>
                <a:lnTo>
                  <a:pt x="629" y="142"/>
                </a:lnTo>
                <a:lnTo>
                  <a:pt x="636" y="154"/>
                </a:lnTo>
                <a:lnTo>
                  <a:pt x="645" y="167"/>
                </a:lnTo>
                <a:lnTo>
                  <a:pt x="650" y="178"/>
                </a:lnTo>
                <a:lnTo>
                  <a:pt x="656" y="191"/>
                </a:lnTo>
                <a:lnTo>
                  <a:pt x="662" y="204"/>
                </a:lnTo>
                <a:lnTo>
                  <a:pt x="666" y="218"/>
                </a:lnTo>
                <a:lnTo>
                  <a:pt x="671" y="231"/>
                </a:lnTo>
                <a:lnTo>
                  <a:pt x="674" y="246"/>
                </a:lnTo>
                <a:lnTo>
                  <a:pt x="676" y="260"/>
                </a:lnTo>
                <a:lnTo>
                  <a:pt x="678" y="275"/>
                </a:lnTo>
                <a:lnTo>
                  <a:pt x="678" y="290"/>
                </a:lnTo>
                <a:lnTo>
                  <a:pt x="678" y="301"/>
                </a:lnTo>
                <a:lnTo>
                  <a:pt x="678" y="309"/>
                </a:lnTo>
                <a:lnTo>
                  <a:pt x="678" y="326"/>
                </a:lnTo>
                <a:lnTo>
                  <a:pt x="678" y="342"/>
                </a:lnTo>
                <a:lnTo>
                  <a:pt x="678" y="357"/>
                </a:lnTo>
                <a:lnTo>
                  <a:pt x="678" y="371"/>
                </a:lnTo>
                <a:lnTo>
                  <a:pt x="676" y="383"/>
                </a:lnTo>
                <a:lnTo>
                  <a:pt x="676" y="394"/>
                </a:lnTo>
                <a:lnTo>
                  <a:pt x="675" y="404"/>
                </a:lnTo>
                <a:lnTo>
                  <a:pt x="675" y="413"/>
                </a:lnTo>
                <a:lnTo>
                  <a:pt x="674" y="422"/>
                </a:lnTo>
                <a:lnTo>
                  <a:pt x="672" y="429"/>
                </a:lnTo>
                <a:lnTo>
                  <a:pt x="669" y="436"/>
                </a:lnTo>
                <a:lnTo>
                  <a:pt x="668" y="442"/>
                </a:lnTo>
                <a:lnTo>
                  <a:pt x="665" y="447"/>
                </a:lnTo>
                <a:lnTo>
                  <a:pt x="662" y="452"/>
                </a:lnTo>
                <a:lnTo>
                  <a:pt x="659" y="456"/>
                </a:lnTo>
                <a:lnTo>
                  <a:pt x="656" y="458"/>
                </a:lnTo>
                <a:lnTo>
                  <a:pt x="653" y="459"/>
                </a:lnTo>
                <a:lnTo>
                  <a:pt x="650" y="460"/>
                </a:lnTo>
                <a:lnTo>
                  <a:pt x="648" y="462"/>
                </a:lnTo>
                <a:lnTo>
                  <a:pt x="643" y="463"/>
                </a:lnTo>
                <a:lnTo>
                  <a:pt x="639" y="463"/>
                </a:lnTo>
                <a:lnTo>
                  <a:pt x="635" y="465"/>
                </a:lnTo>
                <a:lnTo>
                  <a:pt x="629" y="465"/>
                </a:lnTo>
                <a:lnTo>
                  <a:pt x="625" y="463"/>
                </a:lnTo>
                <a:lnTo>
                  <a:pt x="617" y="463"/>
                </a:lnTo>
                <a:lnTo>
                  <a:pt x="612" y="463"/>
                </a:lnTo>
                <a:lnTo>
                  <a:pt x="604" y="462"/>
                </a:lnTo>
                <a:lnTo>
                  <a:pt x="597" y="460"/>
                </a:lnTo>
                <a:lnTo>
                  <a:pt x="590" y="459"/>
                </a:lnTo>
                <a:lnTo>
                  <a:pt x="581" y="456"/>
                </a:lnTo>
                <a:lnTo>
                  <a:pt x="574" y="455"/>
                </a:lnTo>
                <a:lnTo>
                  <a:pt x="564" y="452"/>
                </a:lnTo>
                <a:lnTo>
                  <a:pt x="555" y="449"/>
                </a:lnTo>
                <a:lnTo>
                  <a:pt x="545" y="446"/>
                </a:lnTo>
                <a:lnTo>
                  <a:pt x="535" y="442"/>
                </a:lnTo>
                <a:lnTo>
                  <a:pt x="525" y="439"/>
                </a:lnTo>
                <a:lnTo>
                  <a:pt x="515" y="434"/>
                </a:lnTo>
                <a:lnTo>
                  <a:pt x="504" y="430"/>
                </a:lnTo>
                <a:lnTo>
                  <a:pt x="492" y="424"/>
                </a:lnTo>
                <a:lnTo>
                  <a:pt x="481" y="420"/>
                </a:lnTo>
                <a:lnTo>
                  <a:pt x="468" y="414"/>
                </a:lnTo>
                <a:lnTo>
                  <a:pt x="442" y="401"/>
                </a:lnTo>
                <a:lnTo>
                  <a:pt x="429" y="396"/>
                </a:lnTo>
                <a:lnTo>
                  <a:pt x="416" y="388"/>
                </a:lnTo>
                <a:lnTo>
                  <a:pt x="401" y="381"/>
                </a:lnTo>
                <a:lnTo>
                  <a:pt x="387" y="374"/>
                </a:lnTo>
                <a:lnTo>
                  <a:pt x="355" y="357"/>
                </a:lnTo>
                <a:lnTo>
                  <a:pt x="325" y="341"/>
                </a:lnTo>
                <a:lnTo>
                  <a:pt x="295" y="324"/>
                </a:lnTo>
                <a:lnTo>
                  <a:pt x="267" y="306"/>
                </a:lnTo>
                <a:lnTo>
                  <a:pt x="240" y="289"/>
                </a:lnTo>
                <a:lnTo>
                  <a:pt x="213" y="270"/>
                </a:lnTo>
                <a:lnTo>
                  <a:pt x="188" y="252"/>
                </a:lnTo>
                <a:lnTo>
                  <a:pt x="164" y="233"/>
                </a:lnTo>
                <a:lnTo>
                  <a:pt x="141" y="213"/>
                </a:lnTo>
                <a:lnTo>
                  <a:pt x="119" y="193"/>
                </a:lnTo>
                <a:lnTo>
                  <a:pt x="98" y="172"/>
                </a:lnTo>
                <a:lnTo>
                  <a:pt x="76" y="151"/>
                </a:lnTo>
                <a:lnTo>
                  <a:pt x="56" y="129"/>
                </a:lnTo>
                <a:lnTo>
                  <a:pt x="37" y="108"/>
                </a:lnTo>
                <a:lnTo>
                  <a:pt x="18" y="85"/>
                </a:lnTo>
                <a:lnTo>
                  <a:pt x="0" y="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90"/>
          <p:cNvSpPr/>
          <p:nvPr/>
        </p:nvSpPr>
        <p:spPr>
          <a:xfrm>
            <a:off x="6873840" y="3343320"/>
            <a:ext cx="195120" cy="1122480"/>
          </a:xfrm>
          <a:custGeom>
            <a:avLst/>
            <a:gdLst/>
            <a:ahLst/>
            <a:rect l="l" t="t" r="r" b="b"/>
            <a:pathLst>
              <a:path w="369" h="2121">
                <a:moveTo>
                  <a:pt x="284" y="1159"/>
                </a:moveTo>
                <a:lnTo>
                  <a:pt x="282" y="1204"/>
                </a:lnTo>
                <a:lnTo>
                  <a:pt x="281" y="1247"/>
                </a:lnTo>
                <a:lnTo>
                  <a:pt x="280" y="1289"/>
                </a:lnTo>
                <a:lnTo>
                  <a:pt x="278" y="1329"/>
                </a:lnTo>
                <a:lnTo>
                  <a:pt x="277" y="1370"/>
                </a:lnTo>
                <a:lnTo>
                  <a:pt x="275" y="1409"/>
                </a:lnTo>
                <a:lnTo>
                  <a:pt x="274" y="1446"/>
                </a:lnTo>
                <a:lnTo>
                  <a:pt x="272" y="1482"/>
                </a:lnTo>
                <a:lnTo>
                  <a:pt x="271" y="1518"/>
                </a:lnTo>
                <a:lnTo>
                  <a:pt x="271" y="1553"/>
                </a:lnTo>
                <a:lnTo>
                  <a:pt x="269" y="1586"/>
                </a:lnTo>
                <a:lnTo>
                  <a:pt x="268" y="1617"/>
                </a:lnTo>
                <a:lnTo>
                  <a:pt x="268" y="1648"/>
                </a:lnTo>
                <a:lnTo>
                  <a:pt x="267" y="1678"/>
                </a:lnTo>
                <a:lnTo>
                  <a:pt x="265" y="1707"/>
                </a:lnTo>
                <a:lnTo>
                  <a:pt x="265" y="1734"/>
                </a:lnTo>
                <a:lnTo>
                  <a:pt x="264" y="1760"/>
                </a:lnTo>
                <a:lnTo>
                  <a:pt x="262" y="1784"/>
                </a:lnTo>
                <a:lnTo>
                  <a:pt x="262" y="1809"/>
                </a:lnTo>
                <a:lnTo>
                  <a:pt x="261" y="1832"/>
                </a:lnTo>
                <a:lnTo>
                  <a:pt x="259" y="1853"/>
                </a:lnTo>
                <a:lnTo>
                  <a:pt x="259" y="1874"/>
                </a:lnTo>
                <a:lnTo>
                  <a:pt x="258" y="1892"/>
                </a:lnTo>
                <a:lnTo>
                  <a:pt x="256" y="1911"/>
                </a:lnTo>
                <a:lnTo>
                  <a:pt x="255" y="1927"/>
                </a:lnTo>
                <a:lnTo>
                  <a:pt x="254" y="1943"/>
                </a:lnTo>
                <a:lnTo>
                  <a:pt x="252" y="1957"/>
                </a:lnTo>
                <a:lnTo>
                  <a:pt x="252" y="1972"/>
                </a:lnTo>
                <a:lnTo>
                  <a:pt x="249" y="1983"/>
                </a:lnTo>
                <a:lnTo>
                  <a:pt x="248" y="1993"/>
                </a:lnTo>
                <a:lnTo>
                  <a:pt x="246" y="2003"/>
                </a:lnTo>
                <a:lnTo>
                  <a:pt x="245" y="2012"/>
                </a:lnTo>
                <a:lnTo>
                  <a:pt x="242" y="2026"/>
                </a:lnTo>
                <a:lnTo>
                  <a:pt x="238" y="2041"/>
                </a:lnTo>
                <a:lnTo>
                  <a:pt x="235" y="2054"/>
                </a:lnTo>
                <a:lnTo>
                  <a:pt x="231" y="2067"/>
                </a:lnTo>
                <a:lnTo>
                  <a:pt x="226" y="2077"/>
                </a:lnTo>
                <a:lnTo>
                  <a:pt x="222" y="2087"/>
                </a:lnTo>
                <a:lnTo>
                  <a:pt x="218" y="2095"/>
                </a:lnTo>
                <a:lnTo>
                  <a:pt x="213" y="2103"/>
                </a:lnTo>
                <a:lnTo>
                  <a:pt x="209" y="2108"/>
                </a:lnTo>
                <a:lnTo>
                  <a:pt x="205" y="2114"/>
                </a:lnTo>
                <a:lnTo>
                  <a:pt x="199" y="2117"/>
                </a:lnTo>
                <a:lnTo>
                  <a:pt x="193" y="2120"/>
                </a:lnTo>
                <a:lnTo>
                  <a:pt x="187" y="2121"/>
                </a:lnTo>
                <a:lnTo>
                  <a:pt x="182" y="2120"/>
                </a:lnTo>
                <a:lnTo>
                  <a:pt x="174" y="2118"/>
                </a:lnTo>
                <a:lnTo>
                  <a:pt x="172" y="2117"/>
                </a:lnTo>
                <a:lnTo>
                  <a:pt x="169" y="2115"/>
                </a:lnTo>
                <a:lnTo>
                  <a:pt x="166" y="2115"/>
                </a:lnTo>
                <a:lnTo>
                  <a:pt x="163" y="2114"/>
                </a:lnTo>
                <a:lnTo>
                  <a:pt x="160" y="2113"/>
                </a:lnTo>
                <a:lnTo>
                  <a:pt x="157" y="2111"/>
                </a:lnTo>
                <a:lnTo>
                  <a:pt x="156" y="2110"/>
                </a:lnTo>
                <a:lnTo>
                  <a:pt x="153" y="2107"/>
                </a:lnTo>
                <a:lnTo>
                  <a:pt x="150" y="2104"/>
                </a:lnTo>
                <a:lnTo>
                  <a:pt x="149" y="2100"/>
                </a:lnTo>
                <a:lnTo>
                  <a:pt x="146" y="2095"/>
                </a:lnTo>
                <a:lnTo>
                  <a:pt x="143" y="2091"/>
                </a:lnTo>
                <a:lnTo>
                  <a:pt x="141" y="2087"/>
                </a:lnTo>
                <a:lnTo>
                  <a:pt x="138" y="2081"/>
                </a:lnTo>
                <a:lnTo>
                  <a:pt x="137" y="2075"/>
                </a:lnTo>
                <a:lnTo>
                  <a:pt x="136" y="2068"/>
                </a:lnTo>
                <a:lnTo>
                  <a:pt x="133" y="2061"/>
                </a:lnTo>
                <a:lnTo>
                  <a:pt x="131" y="2054"/>
                </a:lnTo>
                <a:lnTo>
                  <a:pt x="130" y="2045"/>
                </a:lnTo>
                <a:lnTo>
                  <a:pt x="127" y="2038"/>
                </a:lnTo>
                <a:lnTo>
                  <a:pt x="125" y="2028"/>
                </a:lnTo>
                <a:lnTo>
                  <a:pt x="124" y="2019"/>
                </a:lnTo>
                <a:lnTo>
                  <a:pt x="123" y="2009"/>
                </a:lnTo>
                <a:lnTo>
                  <a:pt x="121" y="1999"/>
                </a:lnTo>
                <a:lnTo>
                  <a:pt x="120" y="1987"/>
                </a:lnTo>
                <a:lnTo>
                  <a:pt x="118" y="1976"/>
                </a:lnTo>
                <a:lnTo>
                  <a:pt x="117" y="1964"/>
                </a:lnTo>
                <a:lnTo>
                  <a:pt x="115" y="1953"/>
                </a:lnTo>
                <a:lnTo>
                  <a:pt x="114" y="1940"/>
                </a:lnTo>
                <a:lnTo>
                  <a:pt x="113" y="1927"/>
                </a:lnTo>
                <a:lnTo>
                  <a:pt x="111" y="1912"/>
                </a:lnTo>
                <a:lnTo>
                  <a:pt x="110" y="1898"/>
                </a:lnTo>
                <a:lnTo>
                  <a:pt x="108" y="1884"/>
                </a:lnTo>
                <a:lnTo>
                  <a:pt x="107" y="1869"/>
                </a:lnTo>
                <a:lnTo>
                  <a:pt x="107" y="1853"/>
                </a:lnTo>
                <a:lnTo>
                  <a:pt x="105" y="1838"/>
                </a:lnTo>
                <a:lnTo>
                  <a:pt x="104" y="1820"/>
                </a:lnTo>
                <a:lnTo>
                  <a:pt x="102" y="1803"/>
                </a:lnTo>
                <a:lnTo>
                  <a:pt x="102" y="1786"/>
                </a:lnTo>
                <a:lnTo>
                  <a:pt x="101" y="1768"/>
                </a:lnTo>
                <a:lnTo>
                  <a:pt x="100" y="1750"/>
                </a:lnTo>
                <a:lnTo>
                  <a:pt x="100" y="1731"/>
                </a:lnTo>
                <a:lnTo>
                  <a:pt x="98" y="1711"/>
                </a:lnTo>
                <a:lnTo>
                  <a:pt x="98" y="1692"/>
                </a:lnTo>
                <a:lnTo>
                  <a:pt x="97" y="1672"/>
                </a:lnTo>
                <a:lnTo>
                  <a:pt x="97" y="1650"/>
                </a:lnTo>
                <a:lnTo>
                  <a:pt x="95" y="1629"/>
                </a:lnTo>
                <a:lnTo>
                  <a:pt x="95" y="1607"/>
                </a:lnTo>
                <a:lnTo>
                  <a:pt x="95" y="1586"/>
                </a:lnTo>
                <a:lnTo>
                  <a:pt x="94" y="1563"/>
                </a:lnTo>
                <a:lnTo>
                  <a:pt x="94" y="1540"/>
                </a:lnTo>
                <a:lnTo>
                  <a:pt x="94" y="1517"/>
                </a:lnTo>
                <a:lnTo>
                  <a:pt x="92" y="1492"/>
                </a:lnTo>
                <a:lnTo>
                  <a:pt x="92" y="1468"/>
                </a:lnTo>
                <a:lnTo>
                  <a:pt x="92" y="1443"/>
                </a:lnTo>
                <a:lnTo>
                  <a:pt x="92" y="1417"/>
                </a:lnTo>
                <a:lnTo>
                  <a:pt x="91" y="1391"/>
                </a:lnTo>
                <a:lnTo>
                  <a:pt x="91" y="1365"/>
                </a:lnTo>
                <a:lnTo>
                  <a:pt x="91" y="1339"/>
                </a:lnTo>
                <a:lnTo>
                  <a:pt x="91" y="1312"/>
                </a:lnTo>
                <a:lnTo>
                  <a:pt x="91" y="1283"/>
                </a:lnTo>
                <a:lnTo>
                  <a:pt x="91" y="1256"/>
                </a:lnTo>
                <a:lnTo>
                  <a:pt x="91" y="1227"/>
                </a:lnTo>
                <a:lnTo>
                  <a:pt x="91" y="1198"/>
                </a:lnTo>
                <a:lnTo>
                  <a:pt x="89" y="1168"/>
                </a:lnTo>
                <a:lnTo>
                  <a:pt x="89" y="1138"/>
                </a:lnTo>
                <a:lnTo>
                  <a:pt x="89" y="1079"/>
                </a:lnTo>
                <a:lnTo>
                  <a:pt x="89" y="1021"/>
                </a:lnTo>
                <a:lnTo>
                  <a:pt x="89" y="965"/>
                </a:lnTo>
                <a:lnTo>
                  <a:pt x="89" y="912"/>
                </a:lnTo>
                <a:lnTo>
                  <a:pt x="89" y="860"/>
                </a:lnTo>
                <a:lnTo>
                  <a:pt x="88" y="810"/>
                </a:lnTo>
                <a:lnTo>
                  <a:pt x="88" y="761"/>
                </a:lnTo>
                <a:lnTo>
                  <a:pt x="87" y="715"/>
                </a:lnTo>
                <a:lnTo>
                  <a:pt x="85" y="668"/>
                </a:lnTo>
                <a:lnTo>
                  <a:pt x="85" y="625"/>
                </a:lnTo>
                <a:lnTo>
                  <a:pt x="84" y="585"/>
                </a:lnTo>
                <a:lnTo>
                  <a:pt x="82" y="545"/>
                </a:lnTo>
                <a:lnTo>
                  <a:pt x="81" y="507"/>
                </a:lnTo>
                <a:lnTo>
                  <a:pt x="79" y="471"/>
                </a:lnTo>
                <a:lnTo>
                  <a:pt x="78" y="437"/>
                </a:lnTo>
                <a:lnTo>
                  <a:pt x="75" y="404"/>
                </a:lnTo>
                <a:lnTo>
                  <a:pt x="74" y="373"/>
                </a:lnTo>
                <a:lnTo>
                  <a:pt x="72" y="344"/>
                </a:lnTo>
                <a:lnTo>
                  <a:pt x="69" y="317"/>
                </a:lnTo>
                <a:lnTo>
                  <a:pt x="68" y="291"/>
                </a:lnTo>
                <a:lnTo>
                  <a:pt x="65" y="268"/>
                </a:lnTo>
                <a:lnTo>
                  <a:pt x="62" y="245"/>
                </a:lnTo>
                <a:lnTo>
                  <a:pt x="61" y="225"/>
                </a:lnTo>
                <a:lnTo>
                  <a:pt x="58" y="206"/>
                </a:lnTo>
                <a:lnTo>
                  <a:pt x="55" y="190"/>
                </a:lnTo>
                <a:lnTo>
                  <a:pt x="52" y="175"/>
                </a:lnTo>
                <a:lnTo>
                  <a:pt x="49" y="162"/>
                </a:lnTo>
                <a:lnTo>
                  <a:pt x="46" y="150"/>
                </a:lnTo>
                <a:lnTo>
                  <a:pt x="42" y="140"/>
                </a:lnTo>
                <a:lnTo>
                  <a:pt x="39" y="131"/>
                </a:lnTo>
                <a:lnTo>
                  <a:pt x="36" y="126"/>
                </a:lnTo>
                <a:lnTo>
                  <a:pt x="32" y="121"/>
                </a:lnTo>
                <a:lnTo>
                  <a:pt x="25" y="113"/>
                </a:lnTo>
                <a:lnTo>
                  <a:pt x="19" y="105"/>
                </a:lnTo>
                <a:lnTo>
                  <a:pt x="15" y="97"/>
                </a:lnTo>
                <a:lnTo>
                  <a:pt x="10" y="90"/>
                </a:lnTo>
                <a:lnTo>
                  <a:pt x="7" y="82"/>
                </a:lnTo>
                <a:lnTo>
                  <a:pt x="5" y="75"/>
                </a:lnTo>
                <a:lnTo>
                  <a:pt x="2" y="68"/>
                </a:lnTo>
                <a:lnTo>
                  <a:pt x="0" y="61"/>
                </a:lnTo>
                <a:lnTo>
                  <a:pt x="0" y="54"/>
                </a:lnTo>
                <a:lnTo>
                  <a:pt x="0" y="48"/>
                </a:lnTo>
                <a:lnTo>
                  <a:pt x="2" y="42"/>
                </a:lnTo>
                <a:lnTo>
                  <a:pt x="2" y="36"/>
                </a:lnTo>
                <a:lnTo>
                  <a:pt x="5" y="31"/>
                </a:lnTo>
                <a:lnTo>
                  <a:pt x="6" y="26"/>
                </a:lnTo>
                <a:lnTo>
                  <a:pt x="9" y="21"/>
                </a:lnTo>
                <a:lnTo>
                  <a:pt x="13" y="18"/>
                </a:lnTo>
                <a:lnTo>
                  <a:pt x="16" y="13"/>
                </a:lnTo>
                <a:lnTo>
                  <a:pt x="22" y="10"/>
                </a:lnTo>
                <a:lnTo>
                  <a:pt x="28" y="8"/>
                </a:lnTo>
                <a:lnTo>
                  <a:pt x="35" y="5"/>
                </a:lnTo>
                <a:lnTo>
                  <a:pt x="42" y="3"/>
                </a:lnTo>
                <a:lnTo>
                  <a:pt x="51" y="2"/>
                </a:lnTo>
                <a:lnTo>
                  <a:pt x="61" y="2"/>
                </a:lnTo>
                <a:lnTo>
                  <a:pt x="71" y="0"/>
                </a:lnTo>
                <a:lnTo>
                  <a:pt x="82" y="2"/>
                </a:lnTo>
                <a:lnTo>
                  <a:pt x="94" y="2"/>
                </a:lnTo>
                <a:lnTo>
                  <a:pt x="108" y="3"/>
                </a:lnTo>
                <a:lnTo>
                  <a:pt x="121" y="5"/>
                </a:lnTo>
                <a:lnTo>
                  <a:pt x="137" y="8"/>
                </a:lnTo>
                <a:lnTo>
                  <a:pt x="153" y="10"/>
                </a:lnTo>
                <a:lnTo>
                  <a:pt x="170" y="13"/>
                </a:lnTo>
                <a:lnTo>
                  <a:pt x="187" y="18"/>
                </a:lnTo>
                <a:lnTo>
                  <a:pt x="205" y="21"/>
                </a:lnTo>
                <a:lnTo>
                  <a:pt x="222" y="26"/>
                </a:lnTo>
                <a:lnTo>
                  <a:pt x="238" y="31"/>
                </a:lnTo>
                <a:lnTo>
                  <a:pt x="252" y="36"/>
                </a:lnTo>
                <a:lnTo>
                  <a:pt x="267" y="41"/>
                </a:lnTo>
                <a:lnTo>
                  <a:pt x="280" y="46"/>
                </a:lnTo>
                <a:lnTo>
                  <a:pt x="292" y="52"/>
                </a:lnTo>
                <a:lnTo>
                  <a:pt x="304" y="58"/>
                </a:lnTo>
                <a:lnTo>
                  <a:pt x="314" y="64"/>
                </a:lnTo>
                <a:lnTo>
                  <a:pt x="323" y="69"/>
                </a:lnTo>
                <a:lnTo>
                  <a:pt x="331" y="75"/>
                </a:lnTo>
                <a:lnTo>
                  <a:pt x="340" y="81"/>
                </a:lnTo>
                <a:lnTo>
                  <a:pt x="347" y="87"/>
                </a:lnTo>
                <a:lnTo>
                  <a:pt x="353" y="91"/>
                </a:lnTo>
                <a:lnTo>
                  <a:pt x="357" y="95"/>
                </a:lnTo>
                <a:lnTo>
                  <a:pt x="362" y="100"/>
                </a:lnTo>
                <a:lnTo>
                  <a:pt x="364" y="104"/>
                </a:lnTo>
                <a:lnTo>
                  <a:pt x="367" y="110"/>
                </a:lnTo>
                <a:lnTo>
                  <a:pt x="369" y="116"/>
                </a:lnTo>
                <a:lnTo>
                  <a:pt x="369" y="123"/>
                </a:lnTo>
                <a:lnTo>
                  <a:pt x="369" y="131"/>
                </a:lnTo>
                <a:lnTo>
                  <a:pt x="369" y="140"/>
                </a:lnTo>
                <a:lnTo>
                  <a:pt x="367" y="149"/>
                </a:lnTo>
                <a:lnTo>
                  <a:pt x="366" y="159"/>
                </a:lnTo>
                <a:lnTo>
                  <a:pt x="364" y="170"/>
                </a:lnTo>
                <a:lnTo>
                  <a:pt x="362" y="182"/>
                </a:lnTo>
                <a:lnTo>
                  <a:pt x="359" y="195"/>
                </a:lnTo>
                <a:lnTo>
                  <a:pt x="356" y="208"/>
                </a:lnTo>
                <a:lnTo>
                  <a:pt x="353" y="222"/>
                </a:lnTo>
                <a:lnTo>
                  <a:pt x="349" y="236"/>
                </a:lnTo>
                <a:lnTo>
                  <a:pt x="346" y="251"/>
                </a:lnTo>
                <a:lnTo>
                  <a:pt x="343" y="267"/>
                </a:lnTo>
                <a:lnTo>
                  <a:pt x="340" y="277"/>
                </a:lnTo>
                <a:lnTo>
                  <a:pt x="339" y="288"/>
                </a:lnTo>
                <a:lnTo>
                  <a:pt x="337" y="300"/>
                </a:lnTo>
                <a:lnTo>
                  <a:pt x="336" y="314"/>
                </a:lnTo>
                <a:lnTo>
                  <a:pt x="333" y="329"/>
                </a:lnTo>
                <a:lnTo>
                  <a:pt x="331" y="344"/>
                </a:lnTo>
                <a:lnTo>
                  <a:pt x="330" y="362"/>
                </a:lnTo>
                <a:lnTo>
                  <a:pt x="328" y="379"/>
                </a:lnTo>
                <a:lnTo>
                  <a:pt x="326" y="398"/>
                </a:lnTo>
                <a:lnTo>
                  <a:pt x="324" y="419"/>
                </a:lnTo>
                <a:lnTo>
                  <a:pt x="323" y="440"/>
                </a:lnTo>
                <a:lnTo>
                  <a:pt x="321" y="463"/>
                </a:lnTo>
                <a:lnTo>
                  <a:pt x="318" y="487"/>
                </a:lnTo>
                <a:lnTo>
                  <a:pt x="317" y="512"/>
                </a:lnTo>
                <a:lnTo>
                  <a:pt x="316" y="537"/>
                </a:lnTo>
                <a:lnTo>
                  <a:pt x="313" y="565"/>
                </a:lnTo>
                <a:lnTo>
                  <a:pt x="311" y="594"/>
                </a:lnTo>
                <a:lnTo>
                  <a:pt x="310" y="622"/>
                </a:lnTo>
                <a:lnTo>
                  <a:pt x="308" y="653"/>
                </a:lnTo>
                <a:lnTo>
                  <a:pt x="305" y="684"/>
                </a:lnTo>
                <a:lnTo>
                  <a:pt x="304" y="717"/>
                </a:lnTo>
                <a:lnTo>
                  <a:pt x="303" y="752"/>
                </a:lnTo>
                <a:lnTo>
                  <a:pt x="300" y="788"/>
                </a:lnTo>
                <a:lnTo>
                  <a:pt x="298" y="824"/>
                </a:lnTo>
                <a:lnTo>
                  <a:pt x="297" y="861"/>
                </a:lnTo>
                <a:lnTo>
                  <a:pt x="295" y="900"/>
                </a:lnTo>
                <a:lnTo>
                  <a:pt x="292" y="941"/>
                </a:lnTo>
                <a:lnTo>
                  <a:pt x="291" y="982"/>
                </a:lnTo>
                <a:lnTo>
                  <a:pt x="290" y="1024"/>
                </a:lnTo>
                <a:lnTo>
                  <a:pt x="288" y="1069"/>
                </a:lnTo>
                <a:lnTo>
                  <a:pt x="285" y="1113"/>
                </a:lnTo>
                <a:lnTo>
                  <a:pt x="284" y="1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91"/>
          <p:cNvSpPr/>
          <p:nvPr/>
        </p:nvSpPr>
        <p:spPr>
          <a:xfrm>
            <a:off x="5464080" y="4070520"/>
            <a:ext cx="935280" cy="473040"/>
          </a:xfrm>
          <a:custGeom>
            <a:avLst/>
            <a:gdLst/>
            <a:ahLst/>
            <a:rect l="l" t="t" r="r" b="b"/>
            <a:pathLst>
              <a:path w="1768" h="892">
                <a:moveTo>
                  <a:pt x="295" y="886"/>
                </a:moveTo>
                <a:lnTo>
                  <a:pt x="291" y="887"/>
                </a:lnTo>
                <a:lnTo>
                  <a:pt x="288" y="889"/>
                </a:lnTo>
                <a:lnTo>
                  <a:pt x="284" y="890"/>
                </a:lnTo>
                <a:lnTo>
                  <a:pt x="279" y="890"/>
                </a:lnTo>
                <a:lnTo>
                  <a:pt x="275" y="892"/>
                </a:lnTo>
                <a:lnTo>
                  <a:pt x="271" y="892"/>
                </a:lnTo>
                <a:lnTo>
                  <a:pt x="266" y="890"/>
                </a:lnTo>
                <a:lnTo>
                  <a:pt x="262" y="890"/>
                </a:lnTo>
                <a:lnTo>
                  <a:pt x="258" y="889"/>
                </a:lnTo>
                <a:lnTo>
                  <a:pt x="253" y="887"/>
                </a:lnTo>
                <a:lnTo>
                  <a:pt x="248" y="886"/>
                </a:lnTo>
                <a:lnTo>
                  <a:pt x="243" y="883"/>
                </a:lnTo>
                <a:lnTo>
                  <a:pt x="238" y="880"/>
                </a:lnTo>
                <a:lnTo>
                  <a:pt x="233" y="877"/>
                </a:lnTo>
                <a:lnTo>
                  <a:pt x="228" y="874"/>
                </a:lnTo>
                <a:lnTo>
                  <a:pt x="222" y="870"/>
                </a:lnTo>
                <a:lnTo>
                  <a:pt x="216" y="867"/>
                </a:lnTo>
                <a:lnTo>
                  <a:pt x="212" y="861"/>
                </a:lnTo>
                <a:lnTo>
                  <a:pt x="206" y="857"/>
                </a:lnTo>
                <a:lnTo>
                  <a:pt x="199" y="853"/>
                </a:lnTo>
                <a:lnTo>
                  <a:pt x="193" y="847"/>
                </a:lnTo>
                <a:lnTo>
                  <a:pt x="187" y="841"/>
                </a:lnTo>
                <a:lnTo>
                  <a:pt x="181" y="834"/>
                </a:lnTo>
                <a:lnTo>
                  <a:pt x="174" y="828"/>
                </a:lnTo>
                <a:lnTo>
                  <a:pt x="169" y="821"/>
                </a:lnTo>
                <a:lnTo>
                  <a:pt x="163" y="814"/>
                </a:lnTo>
                <a:lnTo>
                  <a:pt x="156" y="805"/>
                </a:lnTo>
                <a:lnTo>
                  <a:pt x="148" y="798"/>
                </a:lnTo>
                <a:lnTo>
                  <a:pt x="143" y="789"/>
                </a:lnTo>
                <a:lnTo>
                  <a:pt x="135" y="781"/>
                </a:lnTo>
                <a:lnTo>
                  <a:pt x="128" y="771"/>
                </a:lnTo>
                <a:lnTo>
                  <a:pt x="121" y="762"/>
                </a:lnTo>
                <a:lnTo>
                  <a:pt x="104" y="742"/>
                </a:lnTo>
                <a:lnTo>
                  <a:pt x="88" y="725"/>
                </a:lnTo>
                <a:lnTo>
                  <a:pt x="73" y="707"/>
                </a:lnTo>
                <a:lnTo>
                  <a:pt x="59" y="690"/>
                </a:lnTo>
                <a:lnTo>
                  <a:pt x="48" y="676"/>
                </a:lnTo>
                <a:lnTo>
                  <a:pt x="37" y="660"/>
                </a:lnTo>
                <a:lnTo>
                  <a:pt x="27" y="647"/>
                </a:lnTo>
                <a:lnTo>
                  <a:pt x="20" y="634"/>
                </a:lnTo>
                <a:lnTo>
                  <a:pt x="13" y="621"/>
                </a:lnTo>
                <a:lnTo>
                  <a:pt x="7" y="609"/>
                </a:lnTo>
                <a:lnTo>
                  <a:pt x="4" y="599"/>
                </a:lnTo>
                <a:lnTo>
                  <a:pt x="1" y="589"/>
                </a:lnTo>
                <a:lnTo>
                  <a:pt x="0" y="579"/>
                </a:lnTo>
                <a:lnTo>
                  <a:pt x="0" y="571"/>
                </a:lnTo>
                <a:lnTo>
                  <a:pt x="1" y="562"/>
                </a:lnTo>
                <a:lnTo>
                  <a:pt x="4" y="553"/>
                </a:lnTo>
                <a:lnTo>
                  <a:pt x="4" y="546"/>
                </a:lnTo>
                <a:lnTo>
                  <a:pt x="6" y="539"/>
                </a:lnTo>
                <a:lnTo>
                  <a:pt x="9" y="532"/>
                </a:lnTo>
                <a:lnTo>
                  <a:pt x="12" y="526"/>
                </a:lnTo>
                <a:lnTo>
                  <a:pt x="16" y="522"/>
                </a:lnTo>
                <a:lnTo>
                  <a:pt x="20" y="516"/>
                </a:lnTo>
                <a:lnTo>
                  <a:pt x="25" y="512"/>
                </a:lnTo>
                <a:lnTo>
                  <a:pt x="32" y="509"/>
                </a:lnTo>
                <a:lnTo>
                  <a:pt x="37" y="506"/>
                </a:lnTo>
                <a:lnTo>
                  <a:pt x="45" y="504"/>
                </a:lnTo>
                <a:lnTo>
                  <a:pt x="53" y="503"/>
                </a:lnTo>
                <a:lnTo>
                  <a:pt x="62" y="503"/>
                </a:lnTo>
                <a:lnTo>
                  <a:pt x="71" y="504"/>
                </a:lnTo>
                <a:lnTo>
                  <a:pt x="81" y="506"/>
                </a:lnTo>
                <a:lnTo>
                  <a:pt x="91" y="509"/>
                </a:lnTo>
                <a:lnTo>
                  <a:pt x="102" y="512"/>
                </a:lnTo>
                <a:lnTo>
                  <a:pt x="112" y="516"/>
                </a:lnTo>
                <a:lnTo>
                  <a:pt x="122" y="520"/>
                </a:lnTo>
                <a:lnTo>
                  <a:pt x="143" y="527"/>
                </a:lnTo>
                <a:lnTo>
                  <a:pt x="151" y="530"/>
                </a:lnTo>
                <a:lnTo>
                  <a:pt x="161" y="533"/>
                </a:lnTo>
                <a:lnTo>
                  <a:pt x="170" y="536"/>
                </a:lnTo>
                <a:lnTo>
                  <a:pt x="179" y="539"/>
                </a:lnTo>
                <a:lnTo>
                  <a:pt x="189" y="540"/>
                </a:lnTo>
                <a:lnTo>
                  <a:pt x="197" y="540"/>
                </a:lnTo>
                <a:lnTo>
                  <a:pt x="206" y="542"/>
                </a:lnTo>
                <a:lnTo>
                  <a:pt x="216" y="542"/>
                </a:lnTo>
                <a:lnTo>
                  <a:pt x="226" y="540"/>
                </a:lnTo>
                <a:lnTo>
                  <a:pt x="236" y="539"/>
                </a:lnTo>
                <a:lnTo>
                  <a:pt x="246" y="536"/>
                </a:lnTo>
                <a:lnTo>
                  <a:pt x="256" y="533"/>
                </a:lnTo>
                <a:lnTo>
                  <a:pt x="261" y="530"/>
                </a:lnTo>
                <a:lnTo>
                  <a:pt x="266" y="527"/>
                </a:lnTo>
                <a:lnTo>
                  <a:pt x="274" y="525"/>
                </a:lnTo>
                <a:lnTo>
                  <a:pt x="281" y="520"/>
                </a:lnTo>
                <a:lnTo>
                  <a:pt x="291" y="517"/>
                </a:lnTo>
                <a:lnTo>
                  <a:pt x="301" y="513"/>
                </a:lnTo>
                <a:lnTo>
                  <a:pt x="312" y="507"/>
                </a:lnTo>
                <a:lnTo>
                  <a:pt x="325" y="501"/>
                </a:lnTo>
                <a:lnTo>
                  <a:pt x="340" y="496"/>
                </a:lnTo>
                <a:lnTo>
                  <a:pt x="356" y="490"/>
                </a:lnTo>
                <a:lnTo>
                  <a:pt x="373" y="483"/>
                </a:lnTo>
                <a:lnTo>
                  <a:pt x="392" y="476"/>
                </a:lnTo>
                <a:lnTo>
                  <a:pt x="410" y="467"/>
                </a:lnTo>
                <a:lnTo>
                  <a:pt x="432" y="458"/>
                </a:lnTo>
                <a:lnTo>
                  <a:pt x="454" y="450"/>
                </a:lnTo>
                <a:lnTo>
                  <a:pt x="477" y="441"/>
                </a:lnTo>
                <a:lnTo>
                  <a:pt x="503" y="431"/>
                </a:lnTo>
                <a:lnTo>
                  <a:pt x="528" y="419"/>
                </a:lnTo>
                <a:lnTo>
                  <a:pt x="556" y="409"/>
                </a:lnTo>
                <a:lnTo>
                  <a:pt x="583" y="398"/>
                </a:lnTo>
                <a:lnTo>
                  <a:pt x="613" y="386"/>
                </a:lnTo>
                <a:lnTo>
                  <a:pt x="645" y="373"/>
                </a:lnTo>
                <a:lnTo>
                  <a:pt x="678" y="360"/>
                </a:lnTo>
                <a:lnTo>
                  <a:pt x="711" y="347"/>
                </a:lnTo>
                <a:lnTo>
                  <a:pt x="747" y="333"/>
                </a:lnTo>
                <a:lnTo>
                  <a:pt x="783" y="319"/>
                </a:lnTo>
                <a:lnTo>
                  <a:pt x="821" y="304"/>
                </a:lnTo>
                <a:lnTo>
                  <a:pt x="861" y="288"/>
                </a:lnTo>
                <a:lnTo>
                  <a:pt x="901" y="273"/>
                </a:lnTo>
                <a:lnTo>
                  <a:pt x="943" y="255"/>
                </a:lnTo>
                <a:lnTo>
                  <a:pt x="986" y="238"/>
                </a:lnTo>
                <a:lnTo>
                  <a:pt x="1031" y="221"/>
                </a:lnTo>
                <a:lnTo>
                  <a:pt x="1054" y="212"/>
                </a:lnTo>
                <a:lnTo>
                  <a:pt x="1076" y="203"/>
                </a:lnTo>
                <a:lnTo>
                  <a:pt x="1097" y="195"/>
                </a:lnTo>
                <a:lnTo>
                  <a:pt x="1119" y="186"/>
                </a:lnTo>
                <a:lnTo>
                  <a:pt x="1139" y="179"/>
                </a:lnTo>
                <a:lnTo>
                  <a:pt x="1161" y="170"/>
                </a:lnTo>
                <a:lnTo>
                  <a:pt x="1181" y="163"/>
                </a:lnTo>
                <a:lnTo>
                  <a:pt x="1201" y="156"/>
                </a:lnTo>
                <a:lnTo>
                  <a:pt x="1240" y="142"/>
                </a:lnTo>
                <a:lnTo>
                  <a:pt x="1277" y="127"/>
                </a:lnTo>
                <a:lnTo>
                  <a:pt x="1313" y="114"/>
                </a:lnTo>
                <a:lnTo>
                  <a:pt x="1348" y="103"/>
                </a:lnTo>
                <a:lnTo>
                  <a:pt x="1381" y="91"/>
                </a:lnTo>
                <a:lnTo>
                  <a:pt x="1413" y="80"/>
                </a:lnTo>
                <a:lnTo>
                  <a:pt x="1443" y="70"/>
                </a:lnTo>
                <a:lnTo>
                  <a:pt x="1472" y="61"/>
                </a:lnTo>
                <a:lnTo>
                  <a:pt x="1499" y="52"/>
                </a:lnTo>
                <a:lnTo>
                  <a:pt x="1525" y="44"/>
                </a:lnTo>
                <a:lnTo>
                  <a:pt x="1549" y="36"/>
                </a:lnTo>
                <a:lnTo>
                  <a:pt x="1574" y="31"/>
                </a:lnTo>
                <a:lnTo>
                  <a:pt x="1595" y="25"/>
                </a:lnTo>
                <a:lnTo>
                  <a:pt x="1616" y="19"/>
                </a:lnTo>
                <a:lnTo>
                  <a:pt x="1636" y="15"/>
                </a:lnTo>
                <a:lnTo>
                  <a:pt x="1653" y="10"/>
                </a:lnTo>
                <a:lnTo>
                  <a:pt x="1670" y="8"/>
                </a:lnTo>
                <a:lnTo>
                  <a:pt x="1685" y="5"/>
                </a:lnTo>
                <a:lnTo>
                  <a:pt x="1699" y="3"/>
                </a:lnTo>
                <a:lnTo>
                  <a:pt x="1712" y="2"/>
                </a:lnTo>
                <a:lnTo>
                  <a:pt x="1724" y="0"/>
                </a:lnTo>
                <a:lnTo>
                  <a:pt x="1734" y="0"/>
                </a:lnTo>
                <a:lnTo>
                  <a:pt x="1742" y="2"/>
                </a:lnTo>
                <a:lnTo>
                  <a:pt x="1749" y="2"/>
                </a:lnTo>
                <a:lnTo>
                  <a:pt x="1757" y="5"/>
                </a:lnTo>
                <a:lnTo>
                  <a:pt x="1761" y="6"/>
                </a:lnTo>
                <a:lnTo>
                  <a:pt x="1765" y="9"/>
                </a:lnTo>
                <a:lnTo>
                  <a:pt x="1768" y="13"/>
                </a:lnTo>
                <a:lnTo>
                  <a:pt x="1767" y="18"/>
                </a:lnTo>
                <a:lnTo>
                  <a:pt x="1765" y="22"/>
                </a:lnTo>
                <a:lnTo>
                  <a:pt x="1761" y="28"/>
                </a:lnTo>
                <a:lnTo>
                  <a:pt x="1757" y="34"/>
                </a:lnTo>
                <a:lnTo>
                  <a:pt x="1751" y="41"/>
                </a:lnTo>
                <a:lnTo>
                  <a:pt x="1742" y="48"/>
                </a:lnTo>
                <a:lnTo>
                  <a:pt x="1734" y="55"/>
                </a:lnTo>
                <a:lnTo>
                  <a:pt x="1724" y="64"/>
                </a:lnTo>
                <a:lnTo>
                  <a:pt x="1712" y="72"/>
                </a:lnTo>
                <a:lnTo>
                  <a:pt x="1699" y="82"/>
                </a:lnTo>
                <a:lnTo>
                  <a:pt x="1685" y="93"/>
                </a:lnTo>
                <a:lnTo>
                  <a:pt x="1669" y="104"/>
                </a:lnTo>
                <a:lnTo>
                  <a:pt x="1652" y="116"/>
                </a:lnTo>
                <a:lnTo>
                  <a:pt x="1633" y="127"/>
                </a:lnTo>
                <a:lnTo>
                  <a:pt x="1614" y="142"/>
                </a:lnTo>
                <a:lnTo>
                  <a:pt x="1593" y="154"/>
                </a:lnTo>
                <a:lnTo>
                  <a:pt x="1569" y="169"/>
                </a:lnTo>
                <a:lnTo>
                  <a:pt x="1546" y="183"/>
                </a:lnTo>
                <a:lnTo>
                  <a:pt x="1521" y="199"/>
                </a:lnTo>
                <a:lnTo>
                  <a:pt x="1495" y="216"/>
                </a:lnTo>
                <a:lnTo>
                  <a:pt x="1466" y="234"/>
                </a:lnTo>
                <a:lnTo>
                  <a:pt x="1437" y="251"/>
                </a:lnTo>
                <a:lnTo>
                  <a:pt x="1407" y="270"/>
                </a:lnTo>
                <a:lnTo>
                  <a:pt x="1374" y="290"/>
                </a:lnTo>
                <a:lnTo>
                  <a:pt x="1341" y="309"/>
                </a:lnTo>
                <a:lnTo>
                  <a:pt x="1306" y="330"/>
                </a:lnTo>
                <a:lnTo>
                  <a:pt x="1270" y="352"/>
                </a:lnTo>
                <a:lnTo>
                  <a:pt x="1233" y="373"/>
                </a:lnTo>
                <a:lnTo>
                  <a:pt x="1194" y="396"/>
                </a:lnTo>
                <a:lnTo>
                  <a:pt x="1153" y="421"/>
                </a:lnTo>
                <a:lnTo>
                  <a:pt x="1113" y="445"/>
                </a:lnTo>
                <a:lnTo>
                  <a:pt x="1070" y="471"/>
                </a:lnTo>
                <a:lnTo>
                  <a:pt x="1027" y="496"/>
                </a:lnTo>
                <a:lnTo>
                  <a:pt x="986" y="520"/>
                </a:lnTo>
                <a:lnTo>
                  <a:pt x="946" y="543"/>
                </a:lnTo>
                <a:lnTo>
                  <a:pt x="906" y="566"/>
                </a:lnTo>
                <a:lnTo>
                  <a:pt x="868" y="588"/>
                </a:lnTo>
                <a:lnTo>
                  <a:pt x="832" y="609"/>
                </a:lnTo>
                <a:lnTo>
                  <a:pt x="796" y="630"/>
                </a:lnTo>
                <a:lnTo>
                  <a:pt x="762" y="648"/>
                </a:lnTo>
                <a:lnTo>
                  <a:pt x="729" y="667"/>
                </a:lnTo>
                <a:lnTo>
                  <a:pt x="697" y="684"/>
                </a:lnTo>
                <a:lnTo>
                  <a:pt x="667" y="702"/>
                </a:lnTo>
                <a:lnTo>
                  <a:pt x="636" y="717"/>
                </a:lnTo>
                <a:lnTo>
                  <a:pt x="609" y="732"/>
                </a:lnTo>
                <a:lnTo>
                  <a:pt x="582" y="746"/>
                </a:lnTo>
                <a:lnTo>
                  <a:pt x="556" y="761"/>
                </a:lnTo>
                <a:lnTo>
                  <a:pt x="531" y="774"/>
                </a:lnTo>
                <a:lnTo>
                  <a:pt x="507" y="785"/>
                </a:lnTo>
                <a:lnTo>
                  <a:pt x="485" y="797"/>
                </a:lnTo>
                <a:lnTo>
                  <a:pt x="464" y="808"/>
                </a:lnTo>
                <a:lnTo>
                  <a:pt x="444" y="818"/>
                </a:lnTo>
                <a:lnTo>
                  <a:pt x="425" y="827"/>
                </a:lnTo>
                <a:lnTo>
                  <a:pt x="408" y="836"/>
                </a:lnTo>
                <a:lnTo>
                  <a:pt x="390" y="844"/>
                </a:lnTo>
                <a:lnTo>
                  <a:pt x="376" y="851"/>
                </a:lnTo>
                <a:lnTo>
                  <a:pt x="361" y="857"/>
                </a:lnTo>
                <a:lnTo>
                  <a:pt x="348" y="863"/>
                </a:lnTo>
                <a:lnTo>
                  <a:pt x="337" y="869"/>
                </a:lnTo>
                <a:lnTo>
                  <a:pt x="325" y="873"/>
                </a:lnTo>
                <a:lnTo>
                  <a:pt x="317" y="877"/>
                </a:lnTo>
                <a:lnTo>
                  <a:pt x="308" y="880"/>
                </a:lnTo>
                <a:lnTo>
                  <a:pt x="301" y="883"/>
                </a:lnTo>
                <a:lnTo>
                  <a:pt x="295" y="8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92"/>
          <p:cNvSpPr/>
          <p:nvPr/>
        </p:nvSpPr>
        <p:spPr>
          <a:xfrm>
            <a:off x="6521400" y="4132440"/>
            <a:ext cx="903240" cy="209520"/>
          </a:xfrm>
          <a:custGeom>
            <a:avLst/>
            <a:gdLst/>
            <a:ahLst/>
            <a:rect l="l" t="t" r="r" b="b"/>
            <a:pathLst>
              <a:path w="1705" h="395">
                <a:moveTo>
                  <a:pt x="1705" y="84"/>
                </a:moveTo>
                <a:lnTo>
                  <a:pt x="1705" y="91"/>
                </a:lnTo>
                <a:lnTo>
                  <a:pt x="1702" y="98"/>
                </a:lnTo>
                <a:lnTo>
                  <a:pt x="1700" y="102"/>
                </a:lnTo>
                <a:lnTo>
                  <a:pt x="1699" y="107"/>
                </a:lnTo>
                <a:lnTo>
                  <a:pt x="1696" y="109"/>
                </a:lnTo>
                <a:lnTo>
                  <a:pt x="1693" y="114"/>
                </a:lnTo>
                <a:lnTo>
                  <a:pt x="1690" y="118"/>
                </a:lnTo>
                <a:lnTo>
                  <a:pt x="1687" y="121"/>
                </a:lnTo>
                <a:lnTo>
                  <a:pt x="1683" y="125"/>
                </a:lnTo>
                <a:lnTo>
                  <a:pt x="1679" y="128"/>
                </a:lnTo>
                <a:lnTo>
                  <a:pt x="1675" y="133"/>
                </a:lnTo>
                <a:lnTo>
                  <a:pt x="1670" y="135"/>
                </a:lnTo>
                <a:lnTo>
                  <a:pt x="1664" y="140"/>
                </a:lnTo>
                <a:lnTo>
                  <a:pt x="1659" y="143"/>
                </a:lnTo>
                <a:lnTo>
                  <a:pt x="1653" y="145"/>
                </a:lnTo>
                <a:lnTo>
                  <a:pt x="1646" y="150"/>
                </a:lnTo>
                <a:lnTo>
                  <a:pt x="1639" y="153"/>
                </a:lnTo>
                <a:lnTo>
                  <a:pt x="1631" y="156"/>
                </a:lnTo>
                <a:lnTo>
                  <a:pt x="1624" y="158"/>
                </a:lnTo>
                <a:lnTo>
                  <a:pt x="1616" y="161"/>
                </a:lnTo>
                <a:lnTo>
                  <a:pt x="1607" y="164"/>
                </a:lnTo>
                <a:lnTo>
                  <a:pt x="1598" y="167"/>
                </a:lnTo>
                <a:lnTo>
                  <a:pt x="1588" y="170"/>
                </a:lnTo>
                <a:lnTo>
                  <a:pt x="1580" y="173"/>
                </a:lnTo>
                <a:lnTo>
                  <a:pt x="1568" y="176"/>
                </a:lnTo>
                <a:lnTo>
                  <a:pt x="1558" y="179"/>
                </a:lnTo>
                <a:lnTo>
                  <a:pt x="1546" y="180"/>
                </a:lnTo>
                <a:lnTo>
                  <a:pt x="1535" y="183"/>
                </a:lnTo>
                <a:lnTo>
                  <a:pt x="1523" y="186"/>
                </a:lnTo>
                <a:lnTo>
                  <a:pt x="1510" y="187"/>
                </a:lnTo>
                <a:lnTo>
                  <a:pt x="1497" y="189"/>
                </a:lnTo>
                <a:lnTo>
                  <a:pt x="1484" y="192"/>
                </a:lnTo>
                <a:lnTo>
                  <a:pt x="1470" y="193"/>
                </a:lnTo>
                <a:lnTo>
                  <a:pt x="1456" y="196"/>
                </a:lnTo>
                <a:lnTo>
                  <a:pt x="1440" y="199"/>
                </a:lnTo>
                <a:lnTo>
                  <a:pt x="1424" y="202"/>
                </a:lnTo>
                <a:lnTo>
                  <a:pt x="1408" y="205"/>
                </a:lnTo>
                <a:lnTo>
                  <a:pt x="1391" y="206"/>
                </a:lnTo>
                <a:lnTo>
                  <a:pt x="1374" y="210"/>
                </a:lnTo>
                <a:lnTo>
                  <a:pt x="1355" y="213"/>
                </a:lnTo>
                <a:lnTo>
                  <a:pt x="1336" y="216"/>
                </a:lnTo>
                <a:lnTo>
                  <a:pt x="1317" y="219"/>
                </a:lnTo>
                <a:lnTo>
                  <a:pt x="1297" y="223"/>
                </a:lnTo>
                <a:lnTo>
                  <a:pt x="1277" y="226"/>
                </a:lnTo>
                <a:lnTo>
                  <a:pt x="1256" y="230"/>
                </a:lnTo>
                <a:lnTo>
                  <a:pt x="1234" y="233"/>
                </a:lnTo>
                <a:lnTo>
                  <a:pt x="1212" y="238"/>
                </a:lnTo>
                <a:lnTo>
                  <a:pt x="1189" y="242"/>
                </a:lnTo>
                <a:lnTo>
                  <a:pt x="1166" y="246"/>
                </a:lnTo>
                <a:lnTo>
                  <a:pt x="1143" y="251"/>
                </a:lnTo>
                <a:lnTo>
                  <a:pt x="1119" y="255"/>
                </a:lnTo>
                <a:lnTo>
                  <a:pt x="1094" y="259"/>
                </a:lnTo>
                <a:lnTo>
                  <a:pt x="1068" y="264"/>
                </a:lnTo>
                <a:lnTo>
                  <a:pt x="1042" y="268"/>
                </a:lnTo>
                <a:lnTo>
                  <a:pt x="1015" y="274"/>
                </a:lnTo>
                <a:lnTo>
                  <a:pt x="988" y="278"/>
                </a:lnTo>
                <a:lnTo>
                  <a:pt x="960" y="284"/>
                </a:lnTo>
                <a:lnTo>
                  <a:pt x="933" y="289"/>
                </a:lnTo>
                <a:lnTo>
                  <a:pt x="904" y="295"/>
                </a:lnTo>
                <a:lnTo>
                  <a:pt x="874" y="300"/>
                </a:lnTo>
                <a:lnTo>
                  <a:pt x="844" y="305"/>
                </a:lnTo>
                <a:lnTo>
                  <a:pt x="814" y="312"/>
                </a:lnTo>
                <a:lnTo>
                  <a:pt x="783" y="318"/>
                </a:lnTo>
                <a:lnTo>
                  <a:pt x="753" y="323"/>
                </a:lnTo>
                <a:lnTo>
                  <a:pt x="724" y="328"/>
                </a:lnTo>
                <a:lnTo>
                  <a:pt x="697" y="334"/>
                </a:lnTo>
                <a:lnTo>
                  <a:pt x="670" y="338"/>
                </a:lnTo>
                <a:lnTo>
                  <a:pt x="642" y="343"/>
                </a:lnTo>
                <a:lnTo>
                  <a:pt x="618" y="347"/>
                </a:lnTo>
                <a:lnTo>
                  <a:pt x="592" y="351"/>
                </a:lnTo>
                <a:lnTo>
                  <a:pt x="567" y="356"/>
                </a:lnTo>
                <a:lnTo>
                  <a:pt x="544" y="359"/>
                </a:lnTo>
                <a:lnTo>
                  <a:pt x="523" y="363"/>
                </a:lnTo>
                <a:lnTo>
                  <a:pt x="500" y="366"/>
                </a:lnTo>
                <a:lnTo>
                  <a:pt x="479" y="369"/>
                </a:lnTo>
                <a:lnTo>
                  <a:pt x="459" y="372"/>
                </a:lnTo>
                <a:lnTo>
                  <a:pt x="439" y="374"/>
                </a:lnTo>
                <a:lnTo>
                  <a:pt x="422" y="377"/>
                </a:lnTo>
                <a:lnTo>
                  <a:pt x="403" y="379"/>
                </a:lnTo>
                <a:lnTo>
                  <a:pt x="386" y="382"/>
                </a:lnTo>
                <a:lnTo>
                  <a:pt x="370" y="383"/>
                </a:lnTo>
                <a:lnTo>
                  <a:pt x="356" y="384"/>
                </a:lnTo>
                <a:lnTo>
                  <a:pt x="340" y="387"/>
                </a:lnTo>
                <a:lnTo>
                  <a:pt x="327" y="389"/>
                </a:lnTo>
                <a:lnTo>
                  <a:pt x="314" y="389"/>
                </a:lnTo>
                <a:lnTo>
                  <a:pt x="301" y="390"/>
                </a:lnTo>
                <a:lnTo>
                  <a:pt x="289" y="392"/>
                </a:lnTo>
                <a:lnTo>
                  <a:pt x="279" y="392"/>
                </a:lnTo>
                <a:lnTo>
                  <a:pt x="269" y="393"/>
                </a:lnTo>
                <a:lnTo>
                  <a:pt x="261" y="393"/>
                </a:lnTo>
                <a:lnTo>
                  <a:pt x="252" y="395"/>
                </a:lnTo>
                <a:lnTo>
                  <a:pt x="245" y="395"/>
                </a:lnTo>
                <a:lnTo>
                  <a:pt x="239" y="395"/>
                </a:lnTo>
                <a:lnTo>
                  <a:pt x="233" y="395"/>
                </a:lnTo>
                <a:lnTo>
                  <a:pt x="222" y="395"/>
                </a:lnTo>
                <a:lnTo>
                  <a:pt x="212" y="393"/>
                </a:lnTo>
                <a:lnTo>
                  <a:pt x="202" y="393"/>
                </a:lnTo>
                <a:lnTo>
                  <a:pt x="191" y="392"/>
                </a:lnTo>
                <a:lnTo>
                  <a:pt x="173" y="387"/>
                </a:lnTo>
                <a:lnTo>
                  <a:pt x="155" y="382"/>
                </a:lnTo>
                <a:lnTo>
                  <a:pt x="137" y="376"/>
                </a:lnTo>
                <a:lnTo>
                  <a:pt x="118" y="369"/>
                </a:lnTo>
                <a:lnTo>
                  <a:pt x="98" y="361"/>
                </a:lnTo>
                <a:lnTo>
                  <a:pt x="88" y="357"/>
                </a:lnTo>
                <a:lnTo>
                  <a:pt x="78" y="354"/>
                </a:lnTo>
                <a:lnTo>
                  <a:pt x="66" y="350"/>
                </a:lnTo>
                <a:lnTo>
                  <a:pt x="58" y="346"/>
                </a:lnTo>
                <a:lnTo>
                  <a:pt x="49" y="341"/>
                </a:lnTo>
                <a:lnTo>
                  <a:pt x="40" y="337"/>
                </a:lnTo>
                <a:lnTo>
                  <a:pt x="33" y="333"/>
                </a:lnTo>
                <a:lnTo>
                  <a:pt x="27" y="328"/>
                </a:lnTo>
                <a:lnTo>
                  <a:pt x="22" y="324"/>
                </a:lnTo>
                <a:lnTo>
                  <a:pt x="17" y="320"/>
                </a:lnTo>
                <a:lnTo>
                  <a:pt x="13" y="314"/>
                </a:lnTo>
                <a:lnTo>
                  <a:pt x="9" y="310"/>
                </a:lnTo>
                <a:lnTo>
                  <a:pt x="6" y="304"/>
                </a:lnTo>
                <a:lnTo>
                  <a:pt x="4" y="298"/>
                </a:lnTo>
                <a:lnTo>
                  <a:pt x="3" y="291"/>
                </a:lnTo>
                <a:lnTo>
                  <a:pt x="1" y="285"/>
                </a:lnTo>
                <a:lnTo>
                  <a:pt x="0" y="278"/>
                </a:lnTo>
                <a:lnTo>
                  <a:pt x="0" y="271"/>
                </a:lnTo>
                <a:lnTo>
                  <a:pt x="91" y="252"/>
                </a:lnTo>
                <a:lnTo>
                  <a:pt x="180" y="236"/>
                </a:lnTo>
                <a:lnTo>
                  <a:pt x="266" y="219"/>
                </a:lnTo>
                <a:lnTo>
                  <a:pt x="350" y="203"/>
                </a:lnTo>
                <a:lnTo>
                  <a:pt x="431" y="189"/>
                </a:lnTo>
                <a:lnTo>
                  <a:pt x="508" y="174"/>
                </a:lnTo>
                <a:lnTo>
                  <a:pt x="583" y="160"/>
                </a:lnTo>
                <a:lnTo>
                  <a:pt x="657" y="147"/>
                </a:lnTo>
                <a:lnTo>
                  <a:pt x="727" y="135"/>
                </a:lnTo>
                <a:lnTo>
                  <a:pt x="795" y="122"/>
                </a:lnTo>
                <a:lnTo>
                  <a:pt x="860" y="111"/>
                </a:lnTo>
                <a:lnTo>
                  <a:pt x="921" y="101"/>
                </a:lnTo>
                <a:lnTo>
                  <a:pt x="982" y="91"/>
                </a:lnTo>
                <a:lnTo>
                  <a:pt x="1038" y="81"/>
                </a:lnTo>
                <a:lnTo>
                  <a:pt x="1093" y="72"/>
                </a:lnTo>
                <a:lnTo>
                  <a:pt x="1145" y="63"/>
                </a:lnTo>
                <a:lnTo>
                  <a:pt x="1194" y="56"/>
                </a:lnTo>
                <a:lnTo>
                  <a:pt x="1240" y="48"/>
                </a:lnTo>
                <a:lnTo>
                  <a:pt x="1284" y="42"/>
                </a:lnTo>
                <a:lnTo>
                  <a:pt x="1325" y="35"/>
                </a:lnTo>
                <a:lnTo>
                  <a:pt x="1364" y="29"/>
                </a:lnTo>
                <a:lnTo>
                  <a:pt x="1400" y="25"/>
                </a:lnTo>
                <a:lnTo>
                  <a:pt x="1433" y="20"/>
                </a:lnTo>
                <a:lnTo>
                  <a:pt x="1463" y="16"/>
                </a:lnTo>
                <a:lnTo>
                  <a:pt x="1490" y="12"/>
                </a:lnTo>
                <a:lnTo>
                  <a:pt x="1515" y="9"/>
                </a:lnTo>
                <a:lnTo>
                  <a:pt x="1538" y="6"/>
                </a:lnTo>
                <a:lnTo>
                  <a:pt x="1556" y="4"/>
                </a:lnTo>
                <a:lnTo>
                  <a:pt x="1574" y="1"/>
                </a:lnTo>
                <a:lnTo>
                  <a:pt x="1588" y="1"/>
                </a:lnTo>
                <a:lnTo>
                  <a:pt x="1600" y="0"/>
                </a:lnTo>
                <a:lnTo>
                  <a:pt x="1608" y="0"/>
                </a:lnTo>
                <a:lnTo>
                  <a:pt x="1618" y="4"/>
                </a:lnTo>
                <a:lnTo>
                  <a:pt x="1628" y="7"/>
                </a:lnTo>
                <a:lnTo>
                  <a:pt x="1639" y="12"/>
                </a:lnTo>
                <a:lnTo>
                  <a:pt x="1647" y="16"/>
                </a:lnTo>
                <a:lnTo>
                  <a:pt x="1656" y="20"/>
                </a:lnTo>
                <a:lnTo>
                  <a:pt x="1664" y="25"/>
                </a:lnTo>
                <a:lnTo>
                  <a:pt x="1672" y="29"/>
                </a:lnTo>
                <a:lnTo>
                  <a:pt x="1677" y="35"/>
                </a:lnTo>
                <a:lnTo>
                  <a:pt x="1685" y="39"/>
                </a:lnTo>
                <a:lnTo>
                  <a:pt x="1689" y="45"/>
                </a:lnTo>
                <a:lnTo>
                  <a:pt x="1695" y="49"/>
                </a:lnTo>
                <a:lnTo>
                  <a:pt x="1698" y="56"/>
                </a:lnTo>
                <a:lnTo>
                  <a:pt x="1700" y="62"/>
                </a:lnTo>
                <a:lnTo>
                  <a:pt x="1703" y="68"/>
                </a:lnTo>
                <a:lnTo>
                  <a:pt x="1705" y="75"/>
                </a:lnTo>
                <a:lnTo>
                  <a:pt x="1705" y="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3"/>
          <p:cNvSpPr/>
          <p:nvPr/>
        </p:nvSpPr>
        <p:spPr>
          <a:xfrm>
            <a:off x="6568920" y="4535640"/>
            <a:ext cx="212760" cy="590400"/>
          </a:xfrm>
          <a:custGeom>
            <a:avLst/>
            <a:gdLst/>
            <a:ahLst/>
            <a:rect l="l" t="t" r="r" b="b"/>
            <a:pathLst>
              <a:path w="402" h="1116">
                <a:moveTo>
                  <a:pt x="357" y="1110"/>
                </a:moveTo>
                <a:lnTo>
                  <a:pt x="352" y="1112"/>
                </a:lnTo>
                <a:lnTo>
                  <a:pt x="346" y="1113"/>
                </a:lnTo>
                <a:lnTo>
                  <a:pt x="337" y="1115"/>
                </a:lnTo>
                <a:lnTo>
                  <a:pt x="327" y="1116"/>
                </a:lnTo>
                <a:lnTo>
                  <a:pt x="320" y="1115"/>
                </a:lnTo>
                <a:lnTo>
                  <a:pt x="313" y="1113"/>
                </a:lnTo>
                <a:lnTo>
                  <a:pt x="306" y="1110"/>
                </a:lnTo>
                <a:lnTo>
                  <a:pt x="298" y="1106"/>
                </a:lnTo>
                <a:lnTo>
                  <a:pt x="293" y="1100"/>
                </a:lnTo>
                <a:lnTo>
                  <a:pt x="288" y="1093"/>
                </a:lnTo>
                <a:lnTo>
                  <a:pt x="282" y="1086"/>
                </a:lnTo>
                <a:lnTo>
                  <a:pt x="278" y="1079"/>
                </a:lnTo>
                <a:lnTo>
                  <a:pt x="274" y="1069"/>
                </a:lnTo>
                <a:lnTo>
                  <a:pt x="271" y="1060"/>
                </a:lnTo>
                <a:lnTo>
                  <a:pt x="267" y="1050"/>
                </a:lnTo>
                <a:lnTo>
                  <a:pt x="262" y="1038"/>
                </a:lnTo>
                <a:lnTo>
                  <a:pt x="259" y="1027"/>
                </a:lnTo>
                <a:lnTo>
                  <a:pt x="258" y="1020"/>
                </a:lnTo>
                <a:lnTo>
                  <a:pt x="255" y="1011"/>
                </a:lnTo>
                <a:lnTo>
                  <a:pt x="254" y="1002"/>
                </a:lnTo>
                <a:lnTo>
                  <a:pt x="252" y="992"/>
                </a:lnTo>
                <a:lnTo>
                  <a:pt x="249" y="984"/>
                </a:lnTo>
                <a:lnTo>
                  <a:pt x="246" y="974"/>
                </a:lnTo>
                <a:lnTo>
                  <a:pt x="245" y="964"/>
                </a:lnTo>
                <a:lnTo>
                  <a:pt x="242" y="953"/>
                </a:lnTo>
                <a:lnTo>
                  <a:pt x="239" y="942"/>
                </a:lnTo>
                <a:lnTo>
                  <a:pt x="236" y="930"/>
                </a:lnTo>
                <a:lnTo>
                  <a:pt x="235" y="919"/>
                </a:lnTo>
                <a:lnTo>
                  <a:pt x="232" y="907"/>
                </a:lnTo>
                <a:lnTo>
                  <a:pt x="229" y="894"/>
                </a:lnTo>
                <a:lnTo>
                  <a:pt x="226" y="883"/>
                </a:lnTo>
                <a:lnTo>
                  <a:pt x="223" y="869"/>
                </a:lnTo>
                <a:lnTo>
                  <a:pt x="221" y="856"/>
                </a:lnTo>
                <a:lnTo>
                  <a:pt x="218" y="843"/>
                </a:lnTo>
                <a:lnTo>
                  <a:pt x="215" y="828"/>
                </a:lnTo>
                <a:lnTo>
                  <a:pt x="212" y="814"/>
                </a:lnTo>
                <a:lnTo>
                  <a:pt x="210" y="798"/>
                </a:lnTo>
                <a:lnTo>
                  <a:pt x="208" y="784"/>
                </a:lnTo>
                <a:lnTo>
                  <a:pt x="205" y="768"/>
                </a:lnTo>
                <a:lnTo>
                  <a:pt x="202" y="752"/>
                </a:lnTo>
                <a:lnTo>
                  <a:pt x="199" y="735"/>
                </a:lnTo>
                <a:lnTo>
                  <a:pt x="198" y="719"/>
                </a:lnTo>
                <a:lnTo>
                  <a:pt x="195" y="701"/>
                </a:lnTo>
                <a:lnTo>
                  <a:pt x="192" y="684"/>
                </a:lnTo>
                <a:lnTo>
                  <a:pt x="190" y="665"/>
                </a:lnTo>
                <a:lnTo>
                  <a:pt x="187" y="648"/>
                </a:lnTo>
                <a:lnTo>
                  <a:pt x="186" y="629"/>
                </a:lnTo>
                <a:lnTo>
                  <a:pt x="183" y="609"/>
                </a:lnTo>
                <a:lnTo>
                  <a:pt x="182" y="591"/>
                </a:lnTo>
                <a:lnTo>
                  <a:pt x="174" y="556"/>
                </a:lnTo>
                <a:lnTo>
                  <a:pt x="167" y="523"/>
                </a:lnTo>
                <a:lnTo>
                  <a:pt x="160" y="490"/>
                </a:lnTo>
                <a:lnTo>
                  <a:pt x="153" y="458"/>
                </a:lnTo>
                <a:lnTo>
                  <a:pt x="146" y="428"/>
                </a:lnTo>
                <a:lnTo>
                  <a:pt x="137" y="399"/>
                </a:lnTo>
                <a:lnTo>
                  <a:pt x="130" y="370"/>
                </a:lnTo>
                <a:lnTo>
                  <a:pt x="121" y="344"/>
                </a:lnTo>
                <a:lnTo>
                  <a:pt x="113" y="318"/>
                </a:lnTo>
                <a:lnTo>
                  <a:pt x="104" y="294"/>
                </a:lnTo>
                <a:lnTo>
                  <a:pt x="95" y="271"/>
                </a:lnTo>
                <a:lnTo>
                  <a:pt x="87" y="249"/>
                </a:lnTo>
                <a:lnTo>
                  <a:pt x="77" y="229"/>
                </a:lnTo>
                <a:lnTo>
                  <a:pt x="66" y="209"/>
                </a:lnTo>
                <a:lnTo>
                  <a:pt x="56" y="192"/>
                </a:lnTo>
                <a:lnTo>
                  <a:pt x="46" y="176"/>
                </a:lnTo>
                <a:lnTo>
                  <a:pt x="36" y="163"/>
                </a:lnTo>
                <a:lnTo>
                  <a:pt x="28" y="151"/>
                </a:lnTo>
                <a:lnTo>
                  <a:pt x="20" y="140"/>
                </a:lnTo>
                <a:lnTo>
                  <a:pt x="13" y="128"/>
                </a:lnTo>
                <a:lnTo>
                  <a:pt x="9" y="117"/>
                </a:lnTo>
                <a:lnTo>
                  <a:pt x="5" y="105"/>
                </a:lnTo>
                <a:lnTo>
                  <a:pt x="2" y="95"/>
                </a:lnTo>
                <a:lnTo>
                  <a:pt x="0" y="84"/>
                </a:lnTo>
                <a:lnTo>
                  <a:pt x="0" y="74"/>
                </a:lnTo>
                <a:lnTo>
                  <a:pt x="2" y="64"/>
                </a:lnTo>
                <a:lnTo>
                  <a:pt x="3" y="54"/>
                </a:lnTo>
                <a:lnTo>
                  <a:pt x="6" y="43"/>
                </a:lnTo>
                <a:lnTo>
                  <a:pt x="9" y="35"/>
                </a:lnTo>
                <a:lnTo>
                  <a:pt x="15" y="26"/>
                </a:lnTo>
                <a:lnTo>
                  <a:pt x="20" y="18"/>
                </a:lnTo>
                <a:lnTo>
                  <a:pt x="28" y="9"/>
                </a:lnTo>
                <a:lnTo>
                  <a:pt x="29" y="7"/>
                </a:lnTo>
                <a:lnTo>
                  <a:pt x="32" y="6"/>
                </a:lnTo>
                <a:lnTo>
                  <a:pt x="35" y="5"/>
                </a:lnTo>
                <a:lnTo>
                  <a:pt x="39" y="3"/>
                </a:lnTo>
                <a:lnTo>
                  <a:pt x="43" y="2"/>
                </a:lnTo>
                <a:lnTo>
                  <a:pt x="48" y="2"/>
                </a:lnTo>
                <a:lnTo>
                  <a:pt x="54" y="2"/>
                </a:lnTo>
                <a:lnTo>
                  <a:pt x="59" y="0"/>
                </a:lnTo>
                <a:lnTo>
                  <a:pt x="66" y="0"/>
                </a:lnTo>
                <a:lnTo>
                  <a:pt x="74" y="2"/>
                </a:lnTo>
                <a:lnTo>
                  <a:pt x="81" y="2"/>
                </a:lnTo>
                <a:lnTo>
                  <a:pt x="90" y="3"/>
                </a:lnTo>
                <a:lnTo>
                  <a:pt x="98" y="3"/>
                </a:lnTo>
                <a:lnTo>
                  <a:pt x="108" y="5"/>
                </a:lnTo>
                <a:lnTo>
                  <a:pt x="118" y="6"/>
                </a:lnTo>
                <a:lnTo>
                  <a:pt x="128" y="9"/>
                </a:lnTo>
                <a:lnTo>
                  <a:pt x="140" y="10"/>
                </a:lnTo>
                <a:lnTo>
                  <a:pt x="151" y="13"/>
                </a:lnTo>
                <a:lnTo>
                  <a:pt x="164" y="15"/>
                </a:lnTo>
                <a:lnTo>
                  <a:pt x="177" y="18"/>
                </a:lnTo>
                <a:lnTo>
                  <a:pt x="190" y="20"/>
                </a:lnTo>
                <a:lnTo>
                  <a:pt x="205" y="25"/>
                </a:lnTo>
                <a:lnTo>
                  <a:pt x="219" y="28"/>
                </a:lnTo>
                <a:lnTo>
                  <a:pt x="234" y="32"/>
                </a:lnTo>
                <a:lnTo>
                  <a:pt x="249" y="35"/>
                </a:lnTo>
                <a:lnTo>
                  <a:pt x="267" y="39"/>
                </a:lnTo>
                <a:lnTo>
                  <a:pt x="282" y="45"/>
                </a:lnTo>
                <a:lnTo>
                  <a:pt x="300" y="49"/>
                </a:lnTo>
                <a:lnTo>
                  <a:pt x="318" y="54"/>
                </a:lnTo>
                <a:lnTo>
                  <a:pt x="337" y="59"/>
                </a:lnTo>
                <a:lnTo>
                  <a:pt x="356" y="65"/>
                </a:lnTo>
                <a:lnTo>
                  <a:pt x="376" y="71"/>
                </a:lnTo>
                <a:lnTo>
                  <a:pt x="379" y="133"/>
                </a:lnTo>
                <a:lnTo>
                  <a:pt x="382" y="192"/>
                </a:lnTo>
                <a:lnTo>
                  <a:pt x="385" y="249"/>
                </a:lnTo>
                <a:lnTo>
                  <a:pt x="388" y="306"/>
                </a:lnTo>
                <a:lnTo>
                  <a:pt x="390" y="360"/>
                </a:lnTo>
                <a:lnTo>
                  <a:pt x="393" y="412"/>
                </a:lnTo>
                <a:lnTo>
                  <a:pt x="395" y="462"/>
                </a:lnTo>
                <a:lnTo>
                  <a:pt x="396" y="511"/>
                </a:lnTo>
                <a:lnTo>
                  <a:pt x="398" y="558"/>
                </a:lnTo>
                <a:lnTo>
                  <a:pt x="399" y="602"/>
                </a:lnTo>
                <a:lnTo>
                  <a:pt x="401" y="645"/>
                </a:lnTo>
                <a:lnTo>
                  <a:pt x="402" y="687"/>
                </a:lnTo>
                <a:lnTo>
                  <a:pt x="402" y="726"/>
                </a:lnTo>
                <a:lnTo>
                  <a:pt x="402" y="763"/>
                </a:lnTo>
                <a:lnTo>
                  <a:pt x="402" y="798"/>
                </a:lnTo>
                <a:lnTo>
                  <a:pt x="402" y="833"/>
                </a:lnTo>
                <a:lnTo>
                  <a:pt x="402" y="864"/>
                </a:lnTo>
                <a:lnTo>
                  <a:pt x="401" y="893"/>
                </a:lnTo>
                <a:lnTo>
                  <a:pt x="399" y="922"/>
                </a:lnTo>
                <a:lnTo>
                  <a:pt x="398" y="948"/>
                </a:lnTo>
                <a:lnTo>
                  <a:pt x="396" y="972"/>
                </a:lnTo>
                <a:lnTo>
                  <a:pt x="395" y="994"/>
                </a:lnTo>
                <a:lnTo>
                  <a:pt x="392" y="1014"/>
                </a:lnTo>
                <a:lnTo>
                  <a:pt x="389" y="1033"/>
                </a:lnTo>
                <a:lnTo>
                  <a:pt x="386" y="1048"/>
                </a:lnTo>
                <a:lnTo>
                  <a:pt x="383" y="1063"/>
                </a:lnTo>
                <a:lnTo>
                  <a:pt x="379" y="1076"/>
                </a:lnTo>
                <a:lnTo>
                  <a:pt x="376" y="1087"/>
                </a:lnTo>
                <a:lnTo>
                  <a:pt x="372" y="1096"/>
                </a:lnTo>
                <a:lnTo>
                  <a:pt x="367" y="1103"/>
                </a:lnTo>
                <a:lnTo>
                  <a:pt x="362" y="1108"/>
                </a:lnTo>
                <a:lnTo>
                  <a:pt x="357" y="1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94"/>
          <p:cNvSpPr/>
          <p:nvPr/>
        </p:nvSpPr>
        <p:spPr>
          <a:xfrm>
            <a:off x="6654960" y="4430880"/>
            <a:ext cx="933120" cy="493560"/>
          </a:xfrm>
          <a:custGeom>
            <a:avLst/>
            <a:gdLst/>
            <a:ahLst/>
            <a:rect l="l" t="t" r="r" b="b"/>
            <a:pathLst>
              <a:path w="1762" h="934">
                <a:moveTo>
                  <a:pt x="1162" y="41"/>
                </a:moveTo>
                <a:lnTo>
                  <a:pt x="1176" y="33"/>
                </a:lnTo>
                <a:lnTo>
                  <a:pt x="1191" y="26"/>
                </a:lnTo>
                <a:lnTo>
                  <a:pt x="1205" y="18"/>
                </a:lnTo>
                <a:lnTo>
                  <a:pt x="1220" y="13"/>
                </a:lnTo>
                <a:lnTo>
                  <a:pt x="1234" y="7"/>
                </a:lnTo>
                <a:lnTo>
                  <a:pt x="1241" y="4"/>
                </a:lnTo>
                <a:lnTo>
                  <a:pt x="1248" y="2"/>
                </a:lnTo>
                <a:lnTo>
                  <a:pt x="1257" y="1"/>
                </a:lnTo>
                <a:lnTo>
                  <a:pt x="1264" y="0"/>
                </a:lnTo>
                <a:lnTo>
                  <a:pt x="1271" y="0"/>
                </a:lnTo>
                <a:lnTo>
                  <a:pt x="1279" y="0"/>
                </a:lnTo>
                <a:lnTo>
                  <a:pt x="1286" y="0"/>
                </a:lnTo>
                <a:lnTo>
                  <a:pt x="1296" y="1"/>
                </a:lnTo>
                <a:lnTo>
                  <a:pt x="1306" y="2"/>
                </a:lnTo>
                <a:lnTo>
                  <a:pt x="1317" y="7"/>
                </a:lnTo>
                <a:lnTo>
                  <a:pt x="1330" y="11"/>
                </a:lnTo>
                <a:lnTo>
                  <a:pt x="1345" y="15"/>
                </a:lnTo>
                <a:lnTo>
                  <a:pt x="1361" y="23"/>
                </a:lnTo>
                <a:lnTo>
                  <a:pt x="1378" y="30"/>
                </a:lnTo>
                <a:lnTo>
                  <a:pt x="1395" y="38"/>
                </a:lnTo>
                <a:lnTo>
                  <a:pt x="1414" y="47"/>
                </a:lnTo>
                <a:lnTo>
                  <a:pt x="1434" y="57"/>
                </a:lnTo>
                <a:lnTo>
                  <a:pt x="1456" y="69"/>
                </a:lnTo>
                <a:lnTo>
                  <a:pt x="1477" y="80"/>
                </a:lnTo>
                <a:lnTo>
                  <a:pt x="1500" y="95"/>
                </a:lnTo>
                <a:lnTo>
                  <a:pt x="1525" y="108"/>
                </a:lnTo>
                <a:lnTo>
                  <a:pt x="1549" y="123"/>
                </a:lnTo>
                <a:lnTo>
                  <a:pt x="1574" y="139"/>
                </a:lnTo>
                <a:lnTo>
                  <a:pt x="1597" y="154"/>
                </a:lnTo>
                <a:lnTo>
                  <a:pt x="1618" y="168"/>
                </a:lnTo>
                <a:lnTo>
                  <a:pt x="1630" y="175"/>
                </a:lnTo>
                <a:lnTo>
                  <a:pt x="1640" y="182"/>
                </a:lnTo>
                <a:lnTo>
                  <a:pt x="1649" y="190"/>
                </a:lnTo>
                <a:lnTo>
                  <a:pt x="1659" y="195"/>
                </a:lnTo>
                <a:lnTo>
                  <a:pt x="1667" y="203"/>
                </a:lnTo>
                <a:lnTo>
                  <a:pt x="1676" y="208"/>
                </a:lnTo>
                <a:lnTo>
                  <a:pt x="1685" y="216"/>
                </a:lnTo>
                <a:lnTo>
                  <a:pt x="1692" y="221"/>
                </a:lnTo>
                <a:lnTo>
                  <a:pt x="1699" y="227"/>
                </a:lnTo>
                <a:lnTo>
                  <a:pt x="1706" y="233"/>
                </a:lnTo>
                <a:lnTo>
                  <a:pt x="1713" y="239"/>
                </a:lnTo>
                <a:lnTo>
                  <a:pt x="1719" y="244"/>
                </a:lnTo>
                <a:lnTo>
                  <a:pt x="1725" y="250"/>
                </a:lnTo>
                <a:lnTo>
                  <a:pt x="1731" y="256"/>
                </a:lnTo>
                <a:lnTo>
                  <a:pt x="1735" y="260"/>
                </a:lnTo>
                <a:lnTo>
                  <a:pt x="1741" y="266"/>
                </a:lnTo>
                <a:lnTo>
                  <a:pt x="1744" y="270"/>
                </a:lnTo>
                <a:lnTo>
                  <a:pt x="1748" y="276"/>
                </a:lnTo>
                <a:lnTo>
                  <a:pt x="1751" y="280"/>
                </a:lnTo>
                <a:lnTo>
                  <a:pt x="1754" y="285"/>
                </a:lnTo>
                <a:lnTo>
                  <a:pt x="1757" y="289"/>
                </a:lnTo>
                <a:lnTo>
                  <a:pt x="1758" y="295"/>
                </a:lnTo>
                <a:lnTo>
                  <a:pt x="1761" y="299"/>
                </a:lnTo>
                <a:lnTo>
                  <a:pt x="1761" y="302"/>
                </a:lnTo>
                <a:lnTo>
                  <a:pt x="1762" y="306"/>
                </a:lnTo>
                <a:lnTo>
                  <a:pt x="1762" y="311"/>
                </a:lnTo>
                <a:lnTo>
                  <a:pt x="1758" y="318"/>
                </a:lnTo>
                <a:lnTo>
                  <a:pt x="1754" y="325"/>
                </a:lnTo>
                <a:lnTo>
                  <a:pt x="1749" y="332"/>
                </a:lnTo>
                <a:lnTo>
                  <a:pt x="1745" y="338"/>
                </a:lnTo>
                <a:lnTo>
                  <a:pt x="1739" y="344"/>
                </a:lnTo>
                <a:lnTo>
                  <a:pt x="1732" y="349"/>
                </a:lnTo>
                <a:lnTo>
                  <a:pt x="1726" y="355"/>
                </a:lnTo>
                <a:lnTo>
                  <a:pt x="1719" y="360"/>
                </a:lnTo>
                <a:lnTo>
                  <a:pt x="1712" y="365"/>
                </a:lnTo>
                <a:lnTo>
                  <a:pt x="1703" y="370"/>
                </a:lnTo>
                <a:lnTo>
                  <a:pt x="1695" y="374"/>
                </a:lnTo>
                <a:lnTo>
                  <a:pt x="1686" y="378"/>
                </a:lnTo>
                <a:lnTo>
                  <a:pt x="1677" y="383"/>
                </a:lnTo>
                <a:lnTo>
                  <a:pt x="1667" y="385"/>
                </a:lnTo>
                <a:lnTo>
                  <a:pt x="1657" y="390"/>
                </a:lnTo>
                <a:lnTo>
                  <a:pt x="1647" y="394"/>
                </a:lnTo>
                <a:lnTo>
                  <a:pt x="1641" y="397"/>
                </a:lnTo>
                <a:lnTo>
                  <a:pt x="1634" y="400"/>
                </a:lnTo>
                <a:lnTo>
                  <a:pt x="1628" y="404"/>
                </a:lnTo>
                <a:lnTo>
                  <a:pt x="1621" y="410"/>
                </a:lnTo>
                <a:lnTo>
                  <a:pt x="1614" y="416"/>
                </a:lnTo>
                <a:lnTo>
                  <a:pt x="1607" y="423"/>
                </a:lnTo>
                <a:lnTo>
                  <a:pt x="1600" y="432"/>
                </a:lnTo>
                <a:lnTo>
                  <a:pt x="1591" y="440"/>
                </a:lnTo>
                <a:lnTo>
                  <a:pt x="1582" y="450"/>
                </a:lnTo>
                <a:lnTo>
                  <a:pt x="1574" y="462"/>
                </a:lnTo>
                <a:lnTo>
                  <a:pt x="1565" y="473"/>
                </a:lnTo>
                <a:lnTo>
                  <a:pt x="1556" y="486"/>
                </a:lnTo>
                <a:lnTo>
                  <a:pt x="1546" y="499"/>
                </a:lnTo>
                <a:lnTo>
                  <a:pt x="1536" y="515"/>
                </a:lnTo>
                <a:lnTo>
                  <a:pt x="1525" y="529"/>
                </a:lnTo>
                <a:lnTo>
                  <a:pt x="1515" y="547"/>
                </a:lnTo>
                <a:lnTo>
                  <a:pt x="1503" y="564"/>
                </a:lnTo>
                <a:lnTo>
                  <a:pt x="1492" y="583"/>
                </a:lnTo>
                <a:lnTo>
                  <a:pt x="1480" y="601"/>
                </a:lnTo>
                <a:lnTo>
                  <a:pt x="1469" y="622"/>
                </a:lnTo>
                <a:lnTo>
                  <a:pt x="1456" y="643"/>
                </a:lnTo>
                <a:lnTo>
                  <a:pt x="1443" y="665"/>
                </a:lnTo>
                <a:lnTo>
                  <a:pt x="1430" y="688"/>
                </a:lnTo>
                <a:lnTo>
                  <a:pt x="1417" y="712"/>
                </a:lnTo>
                <a:lnTo>
                  <a:pt x="1402" y="737"/>
                </a:lnTo>
                <a:lnTo>
                  <a:pt x="1388" y="763"/>
                </a:lnTo>
                <a:lnTo>
                  <a:pt x="1374" y="789"/>
                </a:lnTo>
                <a:lnTo>
                  <a:pt x="1359" y="816"/>
                </a:lnTo>
                <a:lnTo>
                  <a:pt x="1345" y="845"/>
                </a:lnTo>
                <a:lnTo>
                  <a:pt x="1329" y="874"/>
                </a:lnTo>
                <a:lnTo>
                  <a:pt x="1313" y="904"/>
                </a:lnTo>
                <a:lnTo>
                  <a:pt x="1297" y="934"/>
                </a:lnTo>
                <a:lnTo>
                  <a:pt x="1220" y="934"/>
                </a:lnTo>
                <a:lnTo>
                  <a:pt x="1143" y="934"/>
                </a:lnTo>
                <a:lnTo>
                  <a:pt x="1148" y="898"/>
                </a:lnTo>
                <a:lnTo>
                  <a:pt x="1153" y="862"/>
                </a:lnTo>
                <a:lnTo>
                  <a:pt x="1158" y="827"/>
                </a:lnTo>
                <a:lnTo>
                  <a:pt x="1163" y="794"/>
                </a:lnTo>
                <a:lnTo>
                  <a:pt x="1168" y="761"/>
                </a:lnTo>
                <a:lnTo>
                  <a:pt x="1172" y="730"/>
                </a:lnTo>
                <a:lnTo>
                  <a:pt x="1176" y="699"/>
                </a:lnTo>
                <a:lnTo>
                  <a:pt x="1181" y="669"/>
                </a:lnTo>
                <a:lnTo>
                  <a:pt x="1185" y="642"/>
                </a:lnTo>
                <a:lnTo>
                  <a:pt x="1189" y="614"/>
                </a:lnTo>
                <a:lnTo>
                  <a:pt x="1194" y="587"/>
                </a:lnTo>
                <a:lnTo>
                  <a:pt x="1196" y="563"/>
                </a:lnTo>
                <a:lnTo>
                  <a:pt x="1201" y="538"/>
                </a:lnTo>
                <a:lnTo>
                  <a:pt x="1204" y="515"/>
                </a:lnTo>
                <a:lnTo>
                  <a:pt x="1207" y="493"/>
                </a:lnTo>
                <a:lnTo>
                  <a:pt x="1209" y="472"/>
                </a:lnTo>
                <a:lnTo>
                  <a:pt x="1212" y="452"/>
                </a:lnTo>
                <a:lnTo>
                  <a:pt x="1215" y="433"/>
                </a:lnTo>
                <a:lnTo>
                  <a:pt x="1217" y="416"/>
                </a:lnTo>
                <a:lnTo>
                  <a:pt x="1220" y="398"/>
                </a:lnTo>
                <a:lnTo>
                  <a:pt x="1221" y="384"/>
                </a:lnTo>
                <a:lnTo>
                  <a:pt x="1222" y="370"/>
                </a:lnTo>
                <a:lnTo>
                  <a:pt x="1224" y="357"/>
                </a:lnTo>
                <a:lnTo>
                  <a:pt x="1224" y="344"/>
                </a:lnTo>
                <a:lnTo>
                  <a:pt x="1225" y="334"/>
                </a:lnTo>
                <a:lnTo>
                  <a:pt x="1225" y="324"/>
                </a:lnTo>
                <a:lnTo>
                  <a:pt x="1225" y="315"/>
                </a:lnTo>
                <a:lnTo>
                  <a:pt x="1225" y="308"/>
                </a:lnTo>
                <a:lnTo>
                  <a:pt x="1224" y="301"/>
                </a:lnTo>
                <a:lnTo>
                  <a:pt x="1222" y="296"/>
                </a:lnTo>
                <a:lnTo>
                  <a:pt x="1222" y="292"/>
                </a:lnTo>
                <a:lnTo>
                  <a:pt x="1221" y="290"/>
                </a:lnTo>
                <a:lnTo>
                  <a:pt x="1217" y="286"/>
                </a:lnTo>
                <a:lnTo>
                  <a:pt x="1212" y="283"/>
                </a:lnTo>
                <a:lnTo>
                  <a:pt x="1208" y="280"/>
                </a:lnTo>
                <a:lnTo>
                  <a:pt x="1202" y="277"/>
                </a:lnTo>
                <a:lnTo>
                  <a:pt x="1198" y="276"/>
                </a:lnTo>
                <a:lnTo>
                  <a:pt x="1192" y="275"/>
                </a:lnTo>
                <a:lnTo>
                  <a:pt x="1182" y="272"/>
                </a:lnTo>
                <a:lnTo>
                  <a:pt x="1171" y="270"/>
                </a:lnTo>
                <a:lnTo>
                  <a:pt x="1160" y="269"/>
                </a:lnTo>
                <a:lnTo>
                  <a:pt x="1150" y="269"/>
                </a:lnTo>
                <a:lnTo>
                  <a:pt x="1146" y="269"/>
                </a:lnTo>
                <a:lnTo>
                  <a:pt x="1143" y="269"/>
                </a:lnTo>
                <a:lnTo>
                  <a:pt x="1139" y="269"/>
                </a:lnTo>
                <a:lnTo>
                  <a:pt x="1135" y="269"/>
                </a:lnTo>
                <a:lnTo>
                  <a:pt x="1129" y="269"/>
                </a:lnTo>
                <a:lnTo>
                  <a:pt x="1123" y="270"/>
                </a:lnTo>
                <a:lnTo>
                  <a:pt x="1116" y="270"/>
                </a:lnTo>
                <a:lnTo>
                  <a:pt x="1109" y="272"/>
                </a:lnTo>
                <a:lnTo>
                  <a:pt x="1100" y="272"/>
                </a:lnTo>
                <a:lnTo>
                  <a:pt x="1091" y="273"/>
                </a:lnTo>
                <a:lnTo>
                  <a:pt x="1083" y="273"/>
                </a:lnTo>
                <a:lnTo>
                  <a:pt x="1073" y="275"/>
                </a:lnTo>
                <a:lnTo>
                  <a:pt x="1061" y="276"/>
                </a:lnTo>
                <a:lnTo>
                  <a:pt x="1050" y="277"/>
                </a:lnTo>
                <a:lnTo>
                  <a:pt x="1038" y="279"/>
                </a:lnTo>
                <a:lnTo>
                  <a:pt x="1025" y="280"/>
                </a:lnTo>
                <a:lnTo>
                  <a:pt x="1011" y="282"/>
                </a:lnTo>
                <a:lnTo>
                  <a:pt x="998" y="285"/>
                </a:lnTo>
                <a:lnTo>
                  <a:pt x="982" y="286"/>
                </a:lnTo>
                <a:lnTo>
                  <a:pt x="966" y="289"/>
                </a:lnTo>
                <a:lnTo>
                  <a:pt x="950" y="290"/>
                </a:lnTo>
                <a:lnTo>
                  <a:pt x="933" y="293"/>
                </a:lnTo>
                <a:lnTo>
                  <a:pt x="916" y="296"/>
                </a:lnTo>
                <a:lnTo>
                  <a:pt x="898" y="298"/>
                </a:lnTo>
                <a:lnTo>
                  <a:pt x="878" y="301"/>
                </a:lnTo>
                <a:lnTo>
                  <a:pt x="860" y="303"/>
                </a:lnTo>
                <a:lnTo>
                  <a:pt x="839" y="306"/>
                </a:lnTo>
                <a:lnTo>
                  <a:pt x="818" y="311"/>
                </a:lnTo>
                <a:lnTo>
                  <a:pt x="796" y="313"/>
                </a:lnTo>
                <a:lnTo>
                  <a:pt x="773" y="316"/>
                </a:lnTo>
                <a:lnTo>
                  <a:pt x="750" y="321"/>
                </a:lnTo>
                <a:lnTo>
                  <a:pt x="727" y="324"/>
                </a:lnTo>
                <a:lnTo>
                  <a:pt x="703" y="328"/>
                </a:lnTo>
                <a:lnTo>
                  <a:pt x="678" y="332"/>
                </a:lnTo>
                <a:lnTo>
                  <a:pt x="651" y="338"/>
                </a:lnTo>
                <a:lnTo>
                  <a:pt x="623" y="342"/>
                </a:lnTo>
                <a:lnTo>
                  <a:pt x="598" y="348"/>
                </a:lnTo>
                <a:lnTo>
                  <a:pt x="572" y="354"/>
                </a:lnTo>
                <a:lnTo>
                  <a:pt x="547" y="358"/>
                </a:lnTo>
                <a:lnTo>
                  <a:pt x="523" y="362"/>
                </a:lnTo>
                <a:lnTo>
                  <a:pt x="498" y="367"/>
                </a:lnTo>
                <a:lnTo>
                  <a:pt x="474" y="371"/>
                </a:lnTo>
                <a:lnTo>
                  <a:pt x="451" y="375"/>
                </a:lnTo>
                <a:lnTo>
                  <a:pt x="426" y="378"/>
                </a:lnTo>
                <a:lnTo>
                  <a:pt x="405" y="383"/>
                </a:lnTo>
                <a:lnTo>
                  <a:pt x="382" y="385"/>
                </a:lnTo>
                <a:lnTo>
                  <a:pt x="360" y="388"/>
                </a:lnTo>
                <a:lnTo>
                  <a:pt x="338" y="391"/>
                </a:lnTo>
                <a:lnTo>
                  <a:pt x="295" y="397"/>
                </a:lnTo>
                <a:lnTo>
                  <a:pt x="255" y="401"/>
                </a:lnTo>
                <a:lnTo>
                  <a:pt x="215" y="406"/>
                </a:lnTo>
                <a:lnTo>
                  <a:pt x="176" y="409"/>
                </a:lnTo>
                <a:lnTo>
                  <a:pt x="138" y="411"/>
                </a:lnTo>
                <a:lnTo>
                  <a:pt x="102" y="413"/>
                </a:lnTo>
                <a:lnTo>
                  <a:pt x="68" y="414"/>
                </a:lnTo>
                <a:lnTo>
                  <a:pt x="33" y="414"/>
                </a:lnTo>
                <a:lnTo>
                  <a:pt x="0" y="416"/>
                </a:lnTo>
                <a:lnTo>
                  <a:pt x="0" y="342"/>
                </a:lnTo>
                <a:lnTo>
                  <a:pt x="0" y="269"/>
                </a:lnTo>
                <a:lnTo>
                  <a:pt x="94" y="262"/>
                </a:lnTo>
                <a:lnTo>
                  <a:pt x="189" y="253"/>
                </a:lnTo>
                <a:lnTo>
                  <a:pt x="236" y="249"/>
                </a:lnTo>
                <a:lnTo>
                  <a:pt x="284" y="243"/>
                </a:lnTo>
                <a:lnTo>
                  <a:pt x="330" y="239"/>
                </a:lnTo>
                <a:lnTo>
                  <a:pt x="377" y="233"/>
                </a:lnTo>
                <a:lnTo>
                  <a:pt x="425" y="227"/>
                </a:lnTo>
                <a:lnTo>
                  <a:pt x="472" y="220"/>
                </a:lnTo>
                <a:lnTo>
                  <a:pt x="518" y="213"/>
                </a:lnTo>
                <a:lnTo>
                  <a:pt x="566" y="205"/>
                </a:lnTo>
                <a:lnTo>
                  <a:pt x="613" y="197"/>
                </a:lnTo>
                <a:lnTo>
                  <a:pt x="661" y="187"/>
                </a:lnTo>
                <a:lnTo>
                  <a:pt x="708" y="177"/>
                </a:lnTo>
                <a:lnTo>
                  <a:pt x="756" y="165"/>
                </a:lnTo>
                <a:lnTo>
                  <a:pt x="779" y="159"/>
                </a:lnTo>
                <a:lnTo>
                  <a:pt x="801" y="154"/>
                </a:lnTo>
                <a:lnTo>
                  <a:pt x="822" y="148"/>
                </a:lnTo>
                <a:lnTo>
                  <a:pt x="844" y="142"/>
                </a:lnTo>
                <a:lnTo>
                  <a:pt x="864" y="138"/>
                </a:lnTo>
                <a:lnTo>
                  <a:pt x="884" y="132"/>
                </a:lnTo>
                <a:lnTo>
                  <a:pt x="904" y="126"/>
                </a:lnTo>
                <a:lnTo>
                  <a:pt x="921" y="122"/>
                </a:lnTo>
                <a:lnTo>
                  <a:pt x="940" y="118"/>
                </a:lnTo>
                <a:lnTo>
                  <a:pt x="957" y="112"/>
                </a:lnTo>
                <a:lnTo>
                  <a:pt x="973" y="108"/>
                </a:lnTo>
                <a:lnTo>
                  <a:pt x="989" y="103"/>
                </a:lnTo>
                <a:lnTo>
                  <a:pt x="1005" y="99"/>
                </a:lnTo>
                <a:lnTo>
                  <a:pt x="1019" y="95"/>
                </a:lnTo>
                <a:lnTo>
                  <a:pt x="1032" y="90"/>
                </a:lnTo>
                <a:lnTo>
                  <a:pt x="1045" y="87"/>
                </a:lnTo>
                <a:lnTo>
                  <a:pt x="1058" y="83"/>
                </a:lnTo>
                <a:lnTo>
                  <a:pt x="1070" y="80"/>
                </a:lnTo>
                <a:lnTo>
                  <a:pt x="1081" y="76"/>
                </a:lnTo>
                <a:lnTo>
                  <a:pt x="1091" y="73"/>
                </a:lnTo>
                <a:lnTo>
                  <a:pt x="1100" y="69"/>
                </a:lnTo>
                <a:lnTo>
                  <a:pt x="1110" y="66"/>
                </a:lnTo>
                <a:lnTo>
                  <a:pt x="1117" y="63"/>
                </a:lnTo>
                <a:lnTo>
                  <a:pt x="1126" y="60"/>
                </a:lnTo>
                <a:lnTo>
                  <a:pt x="1133" y="57"/>
                </a:lnTo>
                <a:lnTo>
                  <a:pt x="1139" y="54"/>
                </a:lnTo>
                <a:lnTo>
                  <a:pt x="1145" y="51"/>
                </a:lnTo>
                <a:lnTo>
                  <a:pt x="1149" y="50"/>
                </a:lnTo>
                <a:lnTo>
                  <a:pt x="1153" y="47"/>
                </a:lnTo>
                <a:lnTo>
                  <a:pt x="1158" y="44"/>
                </a:lnTo>
                <a:lnTo>
                  <a:pt x="1160" y="43"/>
                </a:lnTo>
                <a:lnTo>
                  <a:pt x="1162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95"/>
          <p:cNvSpPr/>
          <p:nvPr/>
        </p:nvSpPr>
        <p:spPr>
          <a:xfrm>
            <a:off x="6737400" y="4859280"/>
            <a:ext cx="701640" cy="154080"/>
          </a:xfrm>
          <a:custGeom>
            <a:avLst/>
            <a:gdLst/>
            <a:ahLst/>
            <a:rect l="l" t="t" r="r" b="b"/>
            <a:pathLst>
              <a:path w="1325" h="291">
                <a:moveTo>
                  <a:pt x="1316" y="104"/>
                </a:moveTo>
                <a:lnTo>
                  <a:pt x="1319" y="114"/>
                </a:lnTo>
                <a:lnTo>
                  <a:pt x="1322" y="125"/>
                </a:lnTo>
                <a:lnTo>
                  <a:pt x="1324" y="134"/>
                </a:lnTo>
                <a:lnTo>
                  <a:pt x="1325" y="143"/>
                </a:lnTo>
                <a:lnTo>
                  <a:pt x="1325" y="150"/>
                </a:lnTo>
                <a:lnTo>
                  <a:pt x="1324" y="157"/>
                </a:lnTo>
                <a:lnTo>
                  <a:pt x="1324" y="163"/>
                </a:lnTo>
                <a:lnTo>
                  <a:pt x="1321" y="169"/>
                </a:lnTo>
                <a:lnTo>
                  <a:pt x="1319" y="173"/>
                </a:lnTo>
                <a:lnTo>
                  <a:pt x="1316" y="177"/>
                </a:lnTo>
                <a:lnTo>
                  <a:pt x="1315" y="180"/>
                </a:lnTo>
                <a:lnTo>
                  <a:pt x="1311" y="183"/>
                </a:lnTo>
                <a:lnTo>
                  <a:pt x="1308" y="185"/>
                </a:lnTo>
                <a:lnTo>
                  <a:pt x="1305" y="186"/>
                </a:lnTo>
                <a:lnTo>
                  <a:pt x="1301" y="186"/>
                </a:lnTo>
                <a:lnTo>
                  <a:pt x="1298" y="187"/>
                </a:lnTo>
                <a:lnTo>
                  <a:pt x="1293" y="189"/>
                </a:lnTo>
                <a:lnTo>
                  <a:pt x="1286" y="190"/>
                </a:lnTo>
                <a:lnTo>
                  <a:pt x="1276" y="193"/>
                </a:lnTo>
                <a:lnTo>
                  <a:pt x="1265" y="195"/>
                </a:lnTo>
                <a:lnTo>
                  <a:pt x="1252" y="196"/>
                </a:lnTo>
                <a:lnTo>
                  <a:pt x="1234" y="199"/>
                </a:lnTo>
                <a:lnTo>
                  <a:pt x="1217" y="200"/>
                </a:lnTo>
                <a:lnTo>
                  <a:pt x="1196" y="203"/>
                </a:lnTo>
                <a:lnTo>
                  <a:pt x="1173" y="205"/>
                </a:lnTo>
                <a:lnTo>
                  <a:pt x="1147" y="208"/>
                </a:lnTo>
                <a:lnTo>
                  <a:pt x="1119" y="209"/>
                </a:lnTo>
                <a:lnTo>
                  <a:pt x="1089" y="212"/>
                </a:lnTo>
                <a:lnTo>
                  <a:pt x="1057" y="215"/>
                </a:lnTo>
                <a:lnTo>
                  <a:pt x="1023" y="218"/>
                </a:lnTo>
                <a:lnTo>
                  <a:pt x="985" y="219"/>
                </a:lnTo>
                <a:lnTo>
                  <a:pt x="946" y="222"/>
                </a:lnTo>
                <a:lnTo>
                  <a:pt x="905" y="226"/>
                </a:lnTo>
                <a:lnTo>
                  <a:pt x="861" y="229"/>
                </a:lnTo>
                <a:lnTo>
                  <a:pt x="815" y="232"/>
                </a:lnTo>
                <a:lnTo>
                  <a:pt x="766" y="235"/>
                </a:lnTo>
                <a:lnTo>
                  <a:pt x="716" y="239"/>
                </a:lnTo>
                <a:lnTo>
                  <a:pt x="663" y="242"/>
                </a:lnTo>
                <a:lnTo>
                  <a:pt x="607" y="246"/>
                </a:lnTo>
                <a:lnTo>
                  <a:pt x="549" y="251"/>
                </a:lnTo>
                <a:lnTo>
                  <a:pt x="489" y="255"/>
                </a:lnTo>
                <a:lnTo>
                  <a:pt x="425" y="259"/>
                </a:lnTo>
                <a:lnTo>
                  <a:pt x="360" y="264"/>
                </a:lnTo>
                <a:lnTo>
                  <a:pt x="293" y="268"/>
                </a:lnTo>
                <a:lnTo>
                  <a:pt x="224" y="274"/>
                </a:lnTo>
                <a:lnTo>
                  <a:pt x="152" y="280"/>
                </a:lnTo>
                <a:lnTo>
                  <a:pt x="77" y="284"/>
                </a:lnTo>
                <a:lnTo>
                  <a:pt x="0" y="291"/>
                </a:lnTo>
                <a:lnTo>
                  <a:pt x="0" y="197"/>
                </a:lnTo>
                <a:lnTo>
                  <a:pt x="0" y="104"/>
                </a:lnTo>
                <a:lnTo>
                  <a:pt x="39" y="102"/>
                </a:lnTo>
                <a:lnTo>
                  <a:pt x="80" y="102"/>
                </a:lnTo>
                <a:lnTo>
                  <a:pt x="120" y="101"/>
                </a:lnTo>
                <a:lnTo>
                  <a:pt x="160" y="100"/>
                </a:lnTo>
                <a:lnTo>
                  <a:pt x="201" y="97"/>
                </a:lnTo>
                <a:lnTo>
                  <a:pt x="241" y="95"/>
                </a:lnTo>
                <a:lnTo>
                  <a:pt x="283" y="92"/>
                </a:lnTo>
                <a:lnTo>
                  <a:pt x="324" y="88"/>
                </a:lnTo>
                <a:lnTo>
                  <a:pt x="366" y="84"/>
                </a:lnTo>
                <a:lnTo>
                  <a:pt x="409" y="79"/>
                </a:lnTo>
                <a:lnTo>
                  <a:pt x="453" y="75"/>
                </a:lnTo>
                <a:lnTo>
                  <a:pt x="496" y="69"/>
                </a:lnTo>
                <a:lnTo>
                  <a:pt x="540" y="62"/>
                </a:lnTo>
                <a:lnTo>
                  <a:pt x="585" y="56"/>
                </a:lnTo>
                <a:lnTo>
                  <a:pt x="631" y="49"/>
                </a:lnTo>
                <a:lnTo>
                  <a:pt x="679" y="42"/>
                </a:lnTo>
                <a:lnTo>
                  <a:pt x="699" y="39"/>
                </a:lnTo>
                <a:lnTo>
                  <a:pt x="720" y="38"/>
                </a:lnTo>
                <a:lnTo>
                  <a:pt x="741" y="35"/>
                </a:lnTo>
                <a:lnTo>
                  <a:pt x="761" y="33"/>
                </a:lnTo>
                <a:lnTo>
                  <a:pt x="781" y="32"/>
                </a:lnTo>
                <a:lnTo>
                  <a:pt x="801" y="29"/>
                </a:lnTo>
                <a:lnTo>
                  <a:pt x="820" y="28"/>
                </a:lnTo>
                <a:lnTo>
                  <a:pt x="838" y="26"/>
                </a:lnTo>
                <a:lnTo>
                  <a:pt x="856" y="23"/>
                </a:lnTo>
                <a:lnTo>
                  <a:pt x="873" y="22"/>
                </a:lnTo>
                <a:lnTo>
                  <a:pt x="890" y="20"/>
                </a:lnTo>
                <a:lnTo>
                  <a:pt x="908" y="19"/>
                </a:lnTo>
                <a:lnTo>
                  <a:pt x="923" y="17"/>
                </a:lnTo>
                <a:lnTo>
                  <a:pt x="939" y="15"/>
                </a:lnTo>
                <a:lnTo>
                  <a:pt x="955" y="13"/>
                </a:lnTo>
                <a:lnTo>
                  <a:pt x="971" y="12"/>
                </a:lnTo>
                <a:lnTo>
                  <a:pt x="985" y="10"/>
                </a:lnTo>
                <a:lnTo>
                  <a:pt x="1000" y="9"/>
                </a:lnTo>
                <a:lnTo>
                  <a:pt x="1014" y="9"/>
                </a:lnTo>
                <a:lnTo>
                  <a:pt x="1027" y="7"/>
                </a:lnTo>
                <a:lnTo>
                  <a:pt x="1040" y="6"/>
                </a:lnTo>
                <a:lnTo>
                  <a:pt x="1053" y="5"/>
                </a:lnTo>
                <a:lnTo>
                  <a:pt x="1066" y="5"/>
                </a:lnTo>
                <a:lnTo>
                  <a:pt x="1077" y="3"/>
                </a:lnTo>
                <a:lnTo>
                  <a:pt x="1090" y="2"/>
                </a:lnTo>
                <a:lnTo>
                  <a:pt x="1101" y="2"/>
                </a:lnTo>
                <a:lnTo>
                  <a:pt x="1112" y="0"/>
                </a:lnTo>
                <a:lnTo>
                  <a:pt x="1122" y="0"/>
                </a:lnTo>
                <a:lnTo>
                  <a:pt x="1142" y="0"/>
                </a:lnTo>
                <a:lnTo>
                  <a:pt x="1162" y="0"/>
                </a:lnTo>
                <a:lnTo>
                  <a:pt x="1180" y="0"/>
                </a:lnTo>
                <a:lnTo>
                  <a:pt x="1196" y="2"/>
                </a:lnTo>
                <a:lnTo>
                  <a:pt x="1210" y="3"/>
                </a:lnTo>
                <a:lnTo>
                  <a:pt x="1224" y="7"/>
                </a:lnTo>
                <a:lnTo>
                  <a:pt x="1237" y="12"/>
                </a:lnTo>
                <a:lnTo>
                  <a:pt x="1249" y="16"/>
                </a:lnTo>
                <a:lnTo>
                  <a:pt x="1259" y="22"/>
                </a:lnTo>
                <a:lnTo>
                  <a:pt x="1269" y="28"/>
                </a:lnTo>
                <a:lnTo>
                  <a:pt x="1278" y="35"/>
                </a:lnTo>
                <a:lnTo>
                  <a:pt x="1285" y="43"/>
                </a:lnTo>
                <a:lnTo>
                  <a:pt x="1292" y="52"/>
                </a:lnTo>
                <a:lnTo>
                  <a:pt x="1298" y="61"/>
                </a:lnTo>
                <a:lnTo>
                  <a:pt x="1304" y="71"/>
                </a:lnTo>
                <a:lnTo>
                  <a:pt x="1308" y="81"/>
                </a:lnTo>
                <a:lnTo>
                  <a:pt x="1312" y="92"/>
                </a:lnTo>
                <a:lnTo>
                  <a:pt x="1316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6654960" y="3495600"/>
            <a:ext cx="903240" cy="703440"/>
          </a:xfrm>
          <a:custGeom>
            <a:avLst/>
            <a:gdLst/>
            <a:ahLst/>
            <a:rect l="l" t="t" r="r" b="b"/>
            <a:pathLst>
              <a:path w="1705" h="1330">
                <a:moveTo>
                  <a:pt x="1608" y="332"/>
                </a:moveTo>
                <a:lnTo>
                  <a:pt x="1605" y="335"/>
                </a:lnTo>
                <a:lnTo>
                  <a:pt x="1604" y="337"/>
                </a:lnTo>
                <a:lnTo>
                  <a:pt x="1603" y="340"/>
                </a:lnTo>
                <a:lnTo>
                  <a:pt x="1600" y="344"/>
                </a:lnTo>
                <a:lnTo>
                  <a:pt x="1598" y="347"/>
                </a:lnTo>
                <a:lnTo>
                  <a:pt x="1595" y="351"/>
                </a:lnTo>
                <a:lnTo>
                  <a:pt x="1594" y="357"/>
                </a:lnTo>
                <a:lnTo>
                  <a:pt x="1591" y="361"/>
                </a:lnTo>
                <a:lnTo>
                  <a:pt x="1590" y="367"/>
                </a:lnTo>
                <a:lnTo>
                  <a:pt x="1587" y="373"/>
                </a:lnTo>
                <a:lnTo>
                  <a:pt x="1584" y="380"/>
                </a:lnTo>
                <a:lnTo>
                  <a:pt x="1581" y="386"/>
                </a:lnTo>
                <a:lnTo>
                  <a:pt x="1579" y="393"/>
                </a:lnTo>
                <a:lnTo>
                  <a:pt x="1577" y="402"/>
                </a:lnTo>
                <a:lnTo>
                  <a:pt x="1574" y="409"/>
                </a:lnTo>
                <a:lnTo>
                  <a:pt x="1571" y="417"/>
                </a:lnTo>
                <a:lnTo>
                  <a:pt x="1568" y="426"/>
                </a:lnTo>
                <a:lnTo>
                  <a:pt x="1565" y="436"/>
                </a:lnTo>
                <a:lnTo>
                  <a:pt x="1562" y="446"/>
                </a:lnTo>
                <a:lnTo>
                  <a:pt x="1559" y="456"/>
                </a:lnTo>
                <a:lnTo>
                  <a:pt x="1556" y="466"/>
                </a:lnTo>
                <a:lnTo>
                  <a:pt x="1552" y="478"/>
                </a:lnTo>
                <a:lnTo>
                  <a:pt x="1549" y="489"/>
                </a:lnTo>
                <a:lnTo>
                  <a:pt x="1546" y="501"/>
                </a:lnTo>
                <a:lnTo>
                  <a:pt x="1543" y="512"/>
                </a:lnTo>
                <a:lnTo>
                  <a:pt x="1539" y="525"/>
                </a:lnTo>
                <a:lnTo>
                  <a:pt x="1536" y="538"/>
                </a:lnTo>
                <a:lnTo>
                  <a:pt x="1532" y="551"/>
                </a:lnTo>
                <a:lnTo>
                  <a:pt x="1529" y="566"/>
                </a:lnTo>
                <a:lnTo>
                  <a:pt x="1525" y="580"/>
                </a:lnTo>
                <a:lnTo>
                  <a:pt x="1520" y="595"/>
                </a:lnTo>
                <a:lnTo>
                  <a:pt x="1518" y="610"/>
                </a:lnTo>
                <a:lnTo>
                  <a:pt x="1513" y="626"/>
                </a:lnTo>
                <a:lnTo>
                  <a:pt x="1509" y="642"/>
                </a:lnTo>
                <a:lnTo>
                  <a:pt x="1505" y="658"/>
                </a:lnTo>
                <a:lnTo>
                  <a:pt x="1502" y="675"/>
                </a:lnTo>
                <a:lnTo>
                  <a:pt x="1497" y="692"/>
                </a:lnTo>
                <a:lnTo>
                  <a:pt x="1493" y="710"/>
                </a:lnTo>
                <a:lnTo>
                  <a:pt x="1489" y="727"/>
                </a:lnTo>
                <a:lnTo>
                  <a:pt x="1484" y="746"/>
                </a:lnTo>
                <a:lnTo>
                  <a:pt x="1479" y="764"/>
                </a:lnTo>
                <a:lnTo>
                  <a:pt x="1474" y="783"/>
                </a:lnTo>
                <a:lnTo>
                  <a:pt x="1470" y="803"/>
                </a:lnTo>
                <a:lnTo>
                  <a:pt x="1466" y="823"/>
                </a:lnTo>
                <a:lnTo>
                  <a:pt x="1460" y="844"/>
                </a:lnTo>
                <a:lnTo>
                  <a:pt x="1456" y="865"/>
                </a:lnTo>
                <a:lnTo>
                  <a:pt x="1451" y="885"/>
                </a:lnTo>
                <a:lnTo>
                  <a:pt x="1446" y="907"/>
                </a:lnTo>
                <a:lnTo>
                  <a:pt x="1441" y="930"/>
                </a:lnTo>
                <a:lnTo>
                  <a:pt x="1435" y="952"/>
                </a:lnTo>
                <a:lnTo>
                  <a:pt x="1430" y="975"/>
                </a:lnTo>
                <a:lnTo>
                  <a:pt x="1425" y="998"/>
                </a:lnTo>
                <a:lnTo>
                  <a:pt x="1420" y="1022"/>
                </a:lnTo>
                <a:lnTo>
                  <a:pt x="1414" y="1047"/>
                </a:lnTo>
                <a:lnTo>
                  <a:pt x="1408" y="1071"/>
                </a:lnTo>
                <a:lnTo>
                  <a:pt x="1402" y="1096"/>
                </a:lnTo>
                <a:lnTo>
                  <a:pt x="1397" y="1120"/>
                </a:lnTo>
                <a:lnTo>
                  <a:pt x="1391" y="1146"/>
                </a:lnTo>
                <a:lnTo>
                  <a:pt x="1385" y="1172"/>
                </a:lnTo>
                <a:lnTo>
                  <a:pt x="1379" y="1199"/>
                </a:lnTo>
                <a:lnTo>
                  <a:pt x="1374" y="1225"/>
                </a:lnTo>
                <a:lnTo>
                  <a:pt x="1368" y="1253"/>
                </a:lnTo>
                <a:lnTo>
                  <a:pt x="1362" y="1281"/>
                </a:lnTo>
                <a:lnTo>
                  <a:pt x="1355" y="1309"/>
                </a:lnTo>
                <a:lnTo>
                  <a:pt x="1258" y="1319"/>
                </a:lnTo>
                <a:lnTo>
                  <a:pt x="1162" y="1330"/>
                </a:lnTo>
                <a:lnTo>
                  <a:pt x="1171" y="1268"/>
                </a:lnTo>
                <a:lnTo>
                  <a:pt x="1179" y="1208"/>
                </a:lnTo>
                <a:lnTo>
                  <a:pt x="1188" y="1150"/>
                </a:lnTo>
                <a:lnTo>
                  <a:pt x="1195" y="1094"/>
                </a:lnTo>
                <a:lnTo>
                  <a:pt x="1202" y="1041"/>
                </a:lnTo>
                <a:lnTo>
                  <a:pt x="1209" y="989"/>
                </a:lnTo>
                <a:lnTo>
                  <a:pt x="1217" y="937"/>
                </a:lnTo>
                <a:lnTo>
                  <a:pt x="1222" y="890"/>
                </a:lnTo>
                <a:lnTo>
                  <a:pt x="1228" y="842"/>
                </a:lnTo>
                <a:lnTo>
                  <a:pt x="1234" y="798"/>
                </a:lnTo>
                <a:lnTo>
                  <a:pt x="1240" y="754"/>
                </a:lnTo>
                <a:lnTo>
                  <a:pt x="1244" y="713"/>
                </a:lnTo>
                <a:lnTo>
                  <a:pt x="1250" y="674"/>
                </a:lnTo>
                <a:lnTo>
                  <a:pt x="1253" y="636"/>
                </a:lnTo>
                <a:lnTo>
                  <a:pt x="1257" y="600"/>
                </a:lnTo>
                <a:lnTo>
                  <a:pt x="1260" y="566"/>
                </a:lnTo>
                <a:lnTo>
                  <a:pt x="1263" y="534"/>
                </a:lnTo>
                <a:lnTo>
                  <a:pt x="1266" y="504"/>
                </a:lnTo>
                <a:lnTo>
                  <a:pt x="1268" y="475"/>
                </a:lnTo>
                <a:lnTo>
                  <a:pt x="1270" y="448"/>
                </a:lnTo>
                <a:lnTo>
                  <a:pt x="1271" y="423"/>
                </a:lnTo>
                <a:lnTo>
                  <a:pt x="1273" y="400"/>
                </a:lnTo>
                <a:lnTo>
                  <a:pt x="1273" y="379"/>
                </a:lnTo>
                <a:lnTo>
                  <a:pt x="1273" y="360"/>
                </a:lnTo>
                <a:lnTo>
                  <a:pt x="1273" y="343"/>
                </a:lnTo>
                <a:lnTo>
                  <a:pt x="1273" y="327"/>
                </a:lnTo>
                <a:lnTo>
                  <a:pt x="1271" y="312"/>
                </a:lnTo>
                <a:lnTo>
                  <a:pt x="1270" y="301"/>
                </a:lnTo>
                <a:lnTo>
                  <a:pt x="1267" y="289"/>
                </a:lnTo>
                <a:lnTo>
                  <a:pt x="1264" y="281"/>
                </a:lnTo>
                <a:lnTo>
                  <a:pt x="1261" y="275"/>
                </a:lnTo>
                <a:lnTo>
                  <a:pt x="1258" y="271"/>
                </a:lnTo>
                <a:lnTo>
                  <a:pt x="1254" y="268"/>
                </a:lnTo>
                <a:lnTo>
                  <a:pt x="1250" y="266"/>
                </a:lnTo>
                <a:lnTo>
                  <a:pt x="1244" y="265"/>
                </a:lnTo>
                <a:lnTo>
                  <a:pt x="1238" y="263"/>
                </a:lnTo>
                <a:lnTo>
                  <a:pt x="1231" y="263"/>
                </a:lnTo>
                <a:lnTo>
                  <a:pt x="1222" y="262"/>
                </a:lnTo>
                <a:lnTo>
                  <a:pt x="1214" y="262"/>
                </a:lnTo>
                <a:lnTo>
                  <a:pt x="1204" y="262"/>
                </a:lnTo>
                <a:lnTo>
                  <a:pt x="1194" y="262"/>
                </a:lnTo>
                <a:lnTo>
                  <a:pt x="1182" y="262"/>
                </a:lnTo>
                <a:lnTo>
                  <a:pt x="1171" y="263"/>
                </a:lnTo>
                <a:lnTo>
                  <a:pt x="1156" y="263"/>
                </a:lnTo>
                <a:lnTo>
                  <a:pt x="1143" y="265"/>
                </a:lnTo>
                <a:lnTo>
                  <a:pt x="1129" y="266"/>
                </a:lnTo>
                <a:lnTo>
                  <a:pt x="1113" y="268"/>
                </a:lnTo>
                <a:lnTo>
                  <a:pt x="1097" y="269"/>
                </a:lnTo>
                <a:lnTo>
                  <a:pt x="1080" y="272"/>
                </a:lnTo>
                <a:lnTo>
                  <a:pt x="1061" y="273"/>
                </a:lnTo>
                <a:lnTo>
                  <a:pt x="1042" y="276"/>
                </a:lnTo>
                <a:lnTo>
                  <a:pt x="1022" y="279"/>
                </a:lnTo>
                <a:lnTo>
                  <a:pt x="1002" y="282"/>
                </a:lnTo>
                <a:lnTo>
                  <a:pt x="981" y="285"/>
                </a:lnTo>
                <a:lnTo>
                  <a:pt x="957" y="289"/>
                </a:lnTo>
                <a:lnTo>
                  <a:pt x="934" y="292"/>
                </a:lnTo>
                <a:lnTo>
                  <a:pt x="910" y="296"/>
                </a:lnTo>
                <a:lnTo>
                  <a:pt x="885" y="301"/>
                </a:lnTo>
                <a:lnTo>
                  <a:pt x="860" y="305"/>
                </a:lnTo>
                <a:lnTo>
                  <a:pt x="832" y="311"/>
                </a:lnTo>
                <a:lnTo>
                  <a:pt x="805" y="315"/>
                </a:lnTo>
                <a:lnTo>
                  <a:pt x="776" y="321"/>
                </a:lnTo>
                <a:lnTo>
                  <a:pt x="747" y="327"/>
                </a:lnTo>
                <a:lnTo>
                  <a:pt x="717" y="332"/>
                </a:lnTo>
                <a:lnTo>
                  <a:pt x="685" y="340"/>
                </a:lnTo>
                <a:lnTo>
                  <a:pt x="657" y="348"/>
                </a:lnTo>
                <a:lnTo>
                  <a:pt x="628" y="356"/>
                </a:lnTo>
                <a:lnTo>
                  <a:pt x="599" y="363"/>
                </a:lnTo>
                <a:lnTo>
                  <a:pt x="572" y="368"/>
                </a:lnTo>
                <a:lnTo>
                  <a:pt x="546" y="376"/>
                </a:lnTo>
                <a:lnTo>
                  <a:pt x="520" y="381"/>
                </a:lnTo>
                <a:lnTo>
                  <a:pt x="495" y="387"/>
                </a:lnTo>
                <a:lnTo>
                  <a:pt x="472" y="393"/>
                </a:lnTo>
                <a:lnTo>
                  <a:pt x="449" y="399"/>
                </a:lnTo>
                <a:lnTo>
                  <a:pt x="426" y="403"/>
                </a:lnTo>
                <a:lnTo>
                  <a:pt x="405" y="407"/>
                </a:lnTo>
                <a:lnTo>
                  <a:pt x="384" y="412"/>
                </a:lnTo>
                <a:lnTo>
                  <a:pt x="366" y="416"/>
                </a:lnTo>
                <a:lnTo>
                  <a:pt x="347" y="420"/>
                </a:lnTo>
                <a:lnTo>
                  <a:pt x="328" y="423"/>
                </a:lnTo>
                <a:lnTo>
                  <a:pt x="312" y="428"/>
                </a:lnTo>
                <a:lnTo>
                  <a:pt x="297" y="430"/>
                </a:lnTo>
                <a:lnTo>
                  <a:pt x="281" y="432"/>
                </a:lnTo>
                <a:lnTo>
                  <a:pt x="268" y="435"/>
                </a:lnTo>
                <a:lnTo>
                  <a:pt x="255" y="436"/>
                </a:lnTo>
                <a:lnTo>
                  <a:pt x="242" y="439"/>
                </a:lnTo>
                <a:lnTo>
                  <a:pt x="230" y="439"/>
                </a:lnTo>
                <a:lnTo>
                  <a:pt x="220" y="440"/>
                </a:lnTo>
                <a:lnTo>
                  <a:pt x="212" y="442"/>
                </a:lnTo>
                <a:lnTo>
                  <a:pt x="203" y="442"/>
                </a:lnTo>
                <a:lnTo>
                  <a:pt x="196" y="442"/>
                </a:lnTo>
                <a:lnTo>
                  <a:pt x="190" y="440"/>
                </a:lnTo>
                <a:lnTo>
                  <a:pt x="184" y="440"/>
                </a:lnTo>
                <a:lnTo>
                  <a:pt x="180" y="439"/>
                </a:lnTo>
                <a:lnTo>
                  <a:pt x="177" y="438"/>
                </a:lnTo>
                <a:lnTo>
                  <a:pt x="174" y="436"/>
                </a:lnTo>
                <a:lnTo>
                  <a:pt x="170" y="436"/>
                </a:lnTo>
                <a:lnTo>
                  <a:pt x="166" y="435"/>
                </a:lnTo>
                <a:lnTo>
                  <a:pt x="161" y="435"/>
                </a:lnTo>
                <a:lnTo>
                  <a:pt x="157" y="432"/>
                </a:lnTo>
                <a:lnTo>
                  <a:pt x="151" y="430"/>
                </a:lnTo>
                <a:lnTo>
                  <a:pt x="145" y="428"/>
                </a:lnTo>
                <a:lnTo>
                  <a:pt x="140" y="425"/>
                </a:lnTo>
                <a:lnTo>
                  <a:pt x="132" y="420"/>
                </a:lnTo>
                <a:lnTo>
                  <a:pt x="127" y="416"/>
                </a:lnTo>
                <a:lnTo>
                  <a:pt x="119" y="412"/>
                </a:lnTo>
                <a:lnTo>
                  <a:pt x="112" y="407"/>
                </a:lnTo>
                <a:lnTo>
                  <a:pt x="105" y="402"/>
                </a:lnTo>
                <a:lnTo>
                  <a:pt x="98" y="394"/>
                </a:lnTo>
                <a:lnTo>
                  <a:pt x="91" y="389"/>
                </a:lnTo>
                <a:lnTo>
                  <a:pt x="83" y="381"/>
                </a:lnTo>
                <a:lnTo>
                  <a:pt x="78" y="374"/>
                </a:lnTo>
                <a:lnTo>
                  <a:pt x="66" y="370"/>
                </a:lnTo>
                <a:lnTo>
                  <a:pt x="58" y="364"/>
                </a:lnTo>
                <a:lnTo>
                  <a:pt x="49" y="360"/>
                </a:lnTo>
                <a:lnTo>
                  <a:pt x="40" y="354"/>
                </a:lnTo>
                <a:lnTo>
                  <a:pt x="33" y="350"/>
                </a:lnTo>
                <a:lnTo>
                  <a:pt x="27" y="344"/>
                </a:lnTo>
                <a:lnTo>
                  <a:pt x="22" y="338"/>
                </a:lnTo>
                <a:lnTo>
                  <a:pt x="17" y="332"/>
                </a:lnTo>
                <a:lnTo>
                  <a:pt x="13" y="327"/>
                </a:lnTo>
                <a:lnTo>
                  <a:pt x="9" y="321"/>
                </a:lnTo>
                <a:lnTo>
                  <a:pt x="6" y="315"/>
                </a:lnTo>
                <a:lnTo>
                  <a:pt x="4" y="309"/>
                </a:lnTo>
                <a:lnTo>
                  <a:pt x="3" y="304"/>
                </a:lnTo>
                <a:lnTo>
                  <a:pt x="1" y="299"/>
                </a:lnTo>
                <a:lnTo>
                  <a:pt x="0" y="295"/>
                </a:lnTo>
                <a:lnTo>
                  <a:pt x="0" y="291"/>
                </a:lnTo>
                <a:lnTo>
                  <a:pt x="0" y="286"/>
                </a:lnTo>
                <a:lnTo>
                  <a:pt x="1" y="284"/>
                </a:lnTo>
                <a:lnTo>
                  <a:pt x="4" y="281"/>
                </a:lnTo>
                <a:lnTo>
                  <a:pt x="7" y="279"/>
                </a:lnTo>
                <a:lnTo>
                  <a:pt x="11" y="276"/>
                </a:lnTo>
                <a:lnTo>
                  <a:pt x="16" y="275"/>
                </a:lnTo>
                <a:lnTo>
                  <a:pt x="22" y="273"/>
                </a:lnTo>
                <a:lnTo>
                  <a:pt x="29" y="272"/>
                </a:lnTo>
                <a:lnTo>
                  <a:pt x="36" y="272"/>
                </a:lnTo>
                <a:lnTo>
                  <a:pt x="45" y="271"/>
                </a:lnTo>
                <a:lnTo>
                  <a:pt x="55" y="271"/>
                </a:lnTo>
                <a:lnTo>
                  <a:pt x="65" y="271"/>
                </a:lnTo>
                <a:lnTo>
                  <a:pt x="76" y="271"/>
                </a:lnTo>
                <a:lnTo>
                  <a:pt x="89" y="271"/>
                </a:lnTo>
                <a:lnTo>
                  <a:pt x="102" y="271"/>
                </a:lnTo>
                <a:lnTo>
                  <a:pt x="117" y="271"/>
                </a:lnTo>
                <a:lnTo>
                  <a:pt x="124" y="269"/>
                </a:lnTo>
                <a:lnTo>
                  <a:pt x="131" y="269"/>
                </a:lnTo>
                <a:lnTo>
                  <a:pt x="140" y="269"/>
                </a:lnTo>
                <a:lnTo>
                  <a:pt x="148" y="269"/>
                </a:lnTo>
                <a:lnTo>
                  <a:pt x="158" y="268"/>
                </a:lnTo>
                <a:lnTo>
                  <a:pt x="168" y="268"/>
                </a:lnTo>
                <a:lnTo>
                  <a:pt x="179" y="266"/>
                </a:lnTo>
                <a:lnTo>
                  <a:pt x="189" y="266"/>
                </a:lnTo>
                <a:lnTo>
                  <a:pt x="200" y="265"/>
                </a:lnTo>
                <a:lnTo>
                  <a:pt x="212" y="263"/>
                </a:lnTo>
                <a:lnTo>
                  <a:pt x="225" y="262"/>
                </a:lnTo>
                <a:lnTo>
                  <a:pt x="238" y="261"/>
                </a:lnTo>
                <a:lnTo>
                  <a:pt x="250" y="259"/>
                </a:lnTo>
                <a:lnTo>
                  <a:pt x="263" y="256"/>
                </a:lnTo>
                <a:lnTo>
                  <a:pt x="278" y="255"/>
                </a:lnTo>
                <a:lnTo>
                  <a:pt x="292" y="252"/>
                </a:lnTo>
                <a:lnTo>
                  <a:pt x="308" y="250"/>
                </a:lnTo>
                <a:lnTo>
                  <a:pt x="324" y="248"/>
                </a:lnTo>
                <a:lnTo>
                  <a:pt x="340" y="245"/>
                </a:lnTo>
                <a:lnTo>
                  <a:pt x="357" y="242"/>
                </a:lnTo>
                <a:lnTo>
                  <a:pt x="374" y="237"/>
                </a:lnTo>
                <a:lnTo>
                  <a:pt x="392" y="235"/>
                </a:lnTo>
                <a:lnTo>
                  <a:pt x="410" y="230"/>
                </a:lnTo>
                <a:lnTo>
                  <a:pt x="429" y="227"/>
                </a:lnTo>
                <a:lnTo>
                  <a:pt x="449" y="223"/>
                </a:lnTo>
                <a:lnTo>
                  <a:pt x="469" y="219"/>
                </a:lnTo>
                <a:lnTo>
                  <a:pt x="490" y="213"/>
                </a:lnTo>
                <a:lnTo>
                  <a:pt x="511" y="209"/>
                </a:lnTo>
                <a:lnTo>
                  <a:pt x="533" y="204"/>
                </a:lnTo>
                <a:lnTo>
                  <a:pt x="554" y="199"/>
                </a:lnTo>
                <a:lnTo>
                  <a:pt x="577" y="193"/>
                </a:lnTo>
                <a:lnTo>
                  <a:pt x="600" y="187"/>
                </a:lnTo>
                <a:lnTo>
                  <a:pt x="644" y="180"/>
                </a:lnTo>
                <a:lnTo>
                  <a:pt x="685" y="171"/>
                </a:lnTo>
                <a:lnTo>
                  <a:pt x="724" y="164"/>
                </a:lnTo>
                <a:lnTo>
                  <a:pt x="763" y="155"/>
                </a:lnTo>
                <a:lnTo>
                  <a:pt x="801" y="148"/>
                </a:lnTo>
                <a:lnTo>
                  <a:pt x="837" y="140"/>
                </a:lnTo>
                <a:lnTo>
                  <a:pt x="873" y="132"/>
                </a:lnTo>
                <a:lnTo>
                  <a:pt x="906" y="125"/>
                </a:lnTo>
                <a:lnTo>
                  <a:pt x="937" y="117"/>
                </a:lnTo>
                <a:lnTo>
                  <a:pt x="968" y="109"/>
                </a:lnTo>
                <a:lnTo>
                  <a:pt x="998" y="101"/>
                </a:lnTo>
                <a:lnTo>
                  <a:pt x="1025" y="93"/>
                </a:lnTo>
                <a:lnTo>
                  <a:pt x="1051" y="86"/>
                </a:lnTo>
                <a:lnTo>
                  <a:pt x="1077" y="78"/>
                </a:lnTo>
                <a:lnTo>
                  <a:pt x="1100" y="70"/>
                </a:lnTo>
                <a:lnTo>
                  <a:pt x="1123" y="63"/>
                </a:lnTo>
                <a:lnTo>
                  <a:pt x="1145" y="55"/>
                </a:lnTo>
                <a:lnTo>
                  <a:pt x="1165" y="47"/>
                </a:lnTo>
                <a:lnTo>
                  <a:pt x="1185" y="42"/>
                </a:lnTo>
                <a:lnTo>
                  <a:pt x="1204" y="34"/>
                </a:lnTo>
                <a:lnTo>
                  <a:pt x="1221" y="29"/>
                </a:lnTo>
                <a:lnTo>
                  <a:pt x="1238" y="24"/>
                </a:lnTo>
                <a:lnTo>
                  <a:pt x="1256" y="20"/>
                </a:lnTo>
                <a:lnTo>
                  <a:pt x="1271" y="16"/>
                </a:lnTo>
                <a:lnTo>
                  <a:pt x="1286" y="11"/>
                </a:lnTo>
                <a:lnTo>
                  <a:pt x="1300" y="9"/>
                </a:lnTo>
                <a:lnTo>
                  <a:pt x="1315" y="6"/>
                </a:lnTo>
                <a:lnTo>
                  <a:pt x="1328" y="4"/>
                </a:lnTo>
                <a:lnTo>
                  <a:pt x="1340" y="3"/>
                </a:lnTo>
                <a:lnTo>
                  <a:pt x="1352" y="1"/>
                </a:lnTo>
                <a:lnTo>
                  <a:pt x="1364" y="0"/>
                </a:lnTo>
                <a:lnTo>
                  <a:pt x="1375" y="0"/>
                </a:lnTo>
                <a:lnTo>
                  <a:pt x="1387" y="0"/>
                </a:lnTo>
                <a:lnTo>
                  <a:pt x="1397" y="1"/>
                </a:lnTo>
                <a:lnTo>
                  <a:pt x="1408" y="3"/>
                </a:lnTo>
                <a:lnTo>
                  <a:pt x="1420" y="4"/>
                </a:lnTo>
                <a:lnTo>
                  <a:pt x="1431" y="7"/>
                </a:lnTo>
                <a:lnTo>
                  <a:pt x="1443" y="10"/>
                </a:lnTo>
                <a:lnTo>
                  <a:pt x="1454" y="13"/>
                </a:lnTo>
                <a:lnTo>
                  <a:pt x="1467" y="17"/>
                </a:lnTo>
                <a:lnTo>
                  <a:pt x="1480" y="23"/>
                </a:lnTo>
                <a:lnTo>
                  <a:pt x="1493" y="29"/>
                </a:lnTo>
                <a:lnTo>
                  <a:pt x="1507" y="36"/>
                </a:lnTo>
                <a:lnTo>
                  <a:pt x="1522" y="43"/>
                </a:lnTo>
                <a:lnTo>
                  <a:pt x="1538" y="52"/>
                </a:lnTo>
                <a:lnTo>
                  <a:pt x="1554" y="62"/>
                </a:lnTo>
                <a:lnTo>
                  <a:pt x="1571" y="72"/>
                </a:lnTo>
                <a:lnTo>
                  <a:pt x="1588" y="83"/>
                </a:lnTo>
                <a:lnTo>
                  <a:pt x="1603" y="95"/>
                </a:lnTo>
                <a:lnTo>
                  <a:pt x="1615" y="105"/>
                </a:lnTo>
                <a:lnTo>
                  <a:pt x="1627" y="117"/>
                </a:lnTo>
                <a:lnTo>
                  <a:pt x="1639" y="127"/>
                </a:lnTo>
                <a:lnTo>
                  <a:pt x="1649" y="135"/>
                </a:lnTo>
                <a:lnTo>
                  <a:pt x="1659" y="145"/>
                </a:lnTo>
                <a:lnTo>
                  <a:pt x="1667" y="153"/>
                </a:lnTo>
                <a:lnTo>
                  <a:pt x="1675" y="161"/>
                </a:lnTo>
                <a:lnTo>
                  <a:pt x="1682" y="168"/>
                </a:lnTo>
                <a:lnTo>
                  <a:pt x="1687" y="176"/>
                </a:lnTo>
                <a:lnTo>
                  <a:pt x="1693" y="183"/>
                </a:lnTo>
                <a:lnTo>
                  <a:pt x="1696" y="189"/>
                </a:lnTo>
                <a:lnTo>
                  <a:pt x="1700" y="194"/>
                </a:lnTo>
                <a:lnTo>
                  <a:pt x="1702" y="199"/>
                </a:lnTo>
                <a:lnTo>
                  <a:pt x="1703" y="204"/>
                </a:lnTo>
                <a:lnTo>
                  <a:pt x="1705" y="209"/>
                </a:lnTo>
                <a:lnTo>
                  <a:pt x="1698" y="223"/>
                </a:lnTo>
                <a:lnTo>
                  <a:pt x="1689" y="239"/>
                </a:lnTo>
                <a:lnTo>
                  <a:pt x="1680" y="255"/>
                </a:lnTo>
                <a:lnTo>
                  <a:pt x="1676" y="262"/>
                </a:lnTo>
                <a:lnTo>
                  <a:pt x="1670" y="269"/>
                </a:lnTo>
                <a:lnTo>
                  <a:pt x="1664" y="278"/>
                </a:lnTo>
                <a:lnTo>
                  <a:pt x="1659" y="285"/>
                </a:lnTo>
                <a:lnTo>
                  <a:pt x="1651" y="294"/>
                </a:lnTo>
                <a:lnTo>
                  <a:pt x="1644" y="301"/>
                </a:lnTo>
                <a:lnTo>
                  <a:pt x="1636" y="309"/>
                </a:lnTo>
                <a:lnTo>
                  <a:pt x="1627" y="317"/>
                </a:lnTo>
                <a:lnTo>
                  <a:pt x="1618" y="325"/>
                </a:lnTo>
                <a:lnTo>
                  <a:pt x="1608" y="3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97"/>
          <p:cNvSpPr/>
          <p:nvPr/>
        </p:nvSpPr>
        <p:spPr>
          <a:xfrm>
            <a:off x="6521400" y="3747960"/>
            <a:ext cx="1343160" cy="297000"/>
          </a:xfrm>
          <a:custGeom>
            <a:avLst/>
            <a:gdLst/>
            <a:ahLst/>
            <a:rect l="l" t="t" r="r" b="b"/>
            <a:pathLst>
              <a:path w="2538" h="561">
                <a:moveTo>
                  <a:pt x="2461" y="104"/>
                </a:moveTo>
                <a:lnTo>
                  <a:pt x="2471" y="115"/>
                </a:lnTo>
                <a:lnTo>
                  <a:pt x="2479" y="127"/>
                </a:lnTo>
                <a:lnTo>
                  <a:pt x="2488" y="137"/>
                </a:lnTo>
                <a:lnTo>
                  <a:pt x="2497" y="147"/>
                </a:lnTo>
                <a:lnTo>
                  <a:pt x="2504" y="155"/>
                </a:lnTo>
                <a:lnTo>
                  <a:pt x="2510" y="166"/>
                </a:lnTo>
                <a:lnTo>
                  <a:pt x="2515" y="174"/>
                </a:lnTo>
                <a:lnTo>
                  <a:pt x="2521" y="181"/>
                </a:lnTo>
                <a:lnTo>
                  <a:pt x="2524" y="189"/>
                </a:lnTo>
                <a:lnTo>
                  <a:pt x="2528" y="196"/>
                </a:lnTo>
                <a:lnTo>
                  <a:pt x="2531" y="203"/>
                </a:lnTo>
                <a:lnTo>
                  <a:pt x="2534" y="209"/>
                </a:lnTo>
                <a:lnTo>
                  <a:pt x="2536" y="214"/>
                </a:lnTo>
                <a:lnTo>
                  <a:pt x="2537" y="219"/>
                </a:lnTo>
                <a:lnTo>
                  <a:pt x="2537" y="225"/>
                </a:lnTo>
                <a:lnTo>
                  <a:pt x="2538" y="229"/>
                </a:lnTo>
                <a:lnTo>
                  <a:pt x="2537" y="236"/>
                </a:lnTo>
                <a:lnTo>
                  <a:pt x="2536" y="243"/>
                </a:lnTo>
                <a:lnTo>
                  <a:pt x="2534" y="246"/>
                </a:lnTo>
                <a:lnTo>
                  <a:pt x="2531" y="249"/>
                </a:lnTo>
                <a:lnTo>
                  <a:pt x="2530" y="252"/>
                </a:lnTo>
                <a:lnTo>
                  <a:pt x="2527" y="255"/>
                </a:lnTo>
                <a:lnTo>
                  <a:pt x="2524" y="258"/>
                </a:lnTo>
                <a:lnTo>
                  <a:pt x="2520" y="261"/>
                </a:lnTo>
                <a:lnTo>
                  <a:pt x="2517" y="263"/>
                </a:lnTo>
                <a:lnTo>
                  <a:pt x="2513" y="265"/>
                </a:lnTo>
                <a:lnTo>
                  <a:pt x="2508" y="268"/>
                </a:lnTo>
                <a:lnTo>
                  <a:pt x="2502" y="269"/>
                </a:lnTo>
                <a:lnTo>
                  <a:pt x="2497" y="271"/>
                </a:lnTo>
                <a:lnTo>
                  <a:pt x="2491" y="272"/>
                </a:lnTo>
                <a:lnTo>
                  <a:pt x="2485" y="273"/>
                </a:lnTo>
                <a:lnTo>
                  <a:pt x="2479" y="275"/>
                </a:lnTo>
                <a:lnTo>
                  <a:pt x="2472" y="276"/>
                </a:lnTo>
                <a:lnTo>
                  <a:pt x="2465" y="276"/>
                </a:lnTo>
                <a:lnTo>
                  <a:pt x="2456" y="278"/>
                </a:lnTo>
                <a:lnTo>
                  <a:pt x="2449" y="278"/>
                </a:lnTo>
                <a:lnTo>
                  <a:pt x="2441" y="278"/>
                </a:lnTo>
                <a:lnTo>
                  <a:pt x="2430" y="278"/>
                </a:lnTo>
                <a:lnTo>
                  <a:pt x="2422" y="278"/>
                </a:lnTo>
                <a:lnTo>
                  <a:pt x="2412" y="278"/>
                </a:lnTo>
                <a:lnTo>
                  <a:pt x="2402" y="276"/>
                </a:lnTo>
                <a:lnTo>
                  <a:pt x="2390" y="276"/>
                </a:lnTo>
                <a:lnTo>
                  <a:pt x="2380" y="275"/>
                </a:lnTo>
                <a:lnTo>
                  <a:pt x="2369" y="273"/>
                </a:lnTo>
                <a:lnTo>
                  <a:pt x="2356" y="272"/>
                </a:lnTo>
                <a:lnTo>
                  <a:pt x="2344" y="271"/>
                </a:lnTo>
                <a:lnTo>
                  <a:pt x="2318" y="271"/>
                </a:lnTo>
                <a:lnTo>
                  <a:pt x="2292" y="271"/>
                </a:lnTo>
                <a:lnTo>
                  <a:pt x="2265" y="271"/>
                </a:lnTo>
                <a:lnTo>
                  <a:pt x="2239" y="271"/>
                </a:lnTo>
                <a:lnTo>
                  <a:pt x="2184" y="271"/>
                </a:lnTo>
                <a:lnTo>
                  <a:pt x="2128" y="271"/>
                </a:lnTo>
                <a:lnTo>
                  <a:pt x="2072" y="271"/>
                </a:lnTo>
                <a:lnTo>
                  <a:pt x="2014" y="271"/>
                </a:lnTo>
                <a:lnTo>
                  <a:pt x="1957" y="271"/>
                </a:lnTo>
                <a:lnTo>
                  <a:pt x="1899" y="271"/>
                </a:lnTo>
                <a:lnTo>
                  <a:pt x="1833" y="278"/>
                </a:lnTo>
                <a:lnTo>
                  <a:pt x="1767" y="285"/>
                </a:lnTo>
                <a:lnTo>
                  <a:pt x="1700" y="294"/>
                </a:lnTo>
                <a:lnTo>
                  <a:pt x="1634" y="301"/>
                </a:lnTo>
                <a:lnTo>
                  <a:pt x="1567" y="308"/>
                </a:lnTo>
                <a:lnTo>
                  <a:pt x="1497" y="317"/>
                </a:lnTo>
                <a:lnTo>
                  <a:pt x="1463" y="321"/>
                </a:lnTo>
                <a:lnTo>
                  <a:pt x="1427" y="324"/>
                </a:lnTo>
                <a:lnTo>
                  <a:pt x="1392" y="328"/>
                </a:lnTo>
                <a:lnTo>
                  <a:pt x="1356" y="333"/>
                </a:lnTo>
                <a:lnTo>
                  <a:pt x="1316" y="337"/>
                </a:lnTo>
                <a:lnTo>
                  <a:pt x="1274" y="341"/>
                </a:lnTo>
                <a:lnTo>
                  <a:pt x="1234" y="347"/>
                </a:lnTo>
                <a:lnTo>
                  <a:pt x="1192" y="351"/>
                </a:lnTo>
                <a:lnTo>
                  <a:pt x="1150" y="358"/>
                </a:lnTo>
                <a:lnTo>
                  <a:pt x="1107" y="364"/>
                </a:lnTo>
                <a:lnTo>
                  <a:pt x="1065" y="371"/>
                </a:lnTo>
                <a:lnTo>
                  <a:pt x="1021" y="379"/>
                </a:lnTo>
                <a:lnTo>
                  <a:pt x="978" y="387"/>
                </a:lnTo>
                <a:lnTo>
                  <a:pt x="933" y="394"/>
                </a:lnTo>
                <a:lnTo>
                  <a:pt x="888" y="405"/>
                </a:lnTo>
                <a:lnTo>
                  <a:pt x="844" y="413"/>
                </a:lnTo>
                <a:lnTo>
                  <a:pt x="798" y="423"/>
                </a:lnTo>
                <a:lnTo>
                  <a:pt x="752" y="435"/>
                </a:lnTo>
                <a:lnTo>
                  <a:pt x="706" y="445"/>
                </a:lnTo>
                <a:lnTo>
                  <a:pt x="659" y="458"/>
                </a:lnTo>
                <a:lnTo>
                  <a:pt x="634" y="464"/>
                </a:lnTo>
                <a:lnTo>
                  <a:pt x="609" y="469"/>
                </a:lnTo>
                <a:lnTo>
                  <a:pt x="586" y="474"/>
                </a:lnTo>
                <a:lnTo>
                  <a:pt x="563" y="479"/>
                </a:lnTo>
                <a:lnTo>
                  <a:pt x="540" y="485"/>
                </a:lnTo>
                <a:lnTo>
                  <a:pt x="518" y="491"/>
                </a:lnTo>
                <a:lnTo>
                  <a:pt x="497" y="495"/>
                </a:lnTo>
                <a:lnTo>
                  <a:pt x="477" y="500"/>
                </a:lnTo>
                <a:lnTo>
                  <a:pt x="458" y="505"/>
                </a:lnTo>
                <a:lnTo>
                  <a:pt x="439" y="510"/>
                </a:lnTo>
                <a:lnTo>
                  <a:pt x="420" y="514"/>
                </a:lnTo>
                <a:lnTo>
                  <a:pt x="403" y="518"/>
                </a:lnTo>
                <a:lnTo>
                  <a:pt x="386" y="521"/>
                </a:lnTo>
                <a:lnTo>
                  <a:pt x="370" y="525"/>
                </a:lnTo>
                <a:lnTo>
                  <a:pt x="354" y="530"/>
                </a:lnTo>
                <a:lnTo>
                  <a:pt x="338" y="533"/>
                </a:lnTo>
                <a:lnTo>
                  <a:pt x="325" y="536"/>
                </a:lnTo>
                <a:lnTo>
                  <a:pt x="311" y="538"/>
                </a:lnTo>
                <a:lnTo>
                  <a:pt x="298" y="541"/>
                </a:lnTo>
                <a:lnTo>
                  <a:pt x="287" y="544"/>
                </a:lnTo>
                <a:lnTo>
                  <a:pt x="275" y="547"/>
                </a:lnTo>
                <a:lnTo>
                  <a:pt x="263" y="550"/>
                </a:lnTo>
                <a:lnTo>
                  <a:pt x="253" y="551"/>
                </a:lnTo>
                <a:lnTo>
                  <a:pt x="245" y="553"/>
                </a:lnTo>
                <a:lnTo>
                  <a:pt x="236" y="556"/>
                </a:lnTo>
                <a:lnTo>
                  <a:pt x="227" y="557"/>
                </a:lnTo>
                <a:lnTo>
                  <a:pt x="220" y="559"/>
                </a:lnTo>
                <a:lnTo>
                  <a:pt x="213" y="559"/>
                </a:lnTo>
                <a:lnTo>
                  <a:pt x="207" y="560"/>
                </a:lnTo>
                <a:lnTo>
                  <a:pt x="203" y="560"/>
                </a:lnTo>
                <a:lnTo>
                  <a:pt x="197" y="560"/>
                </a:lnTo>
                <a:lnTo>
                  <a:pt x="194" y="561"/>
                </a:lnTo>
                <a:lnTo>
                  <a:pt x="186" y="560"/>
                </a:lnTo>
                <a:lnTo>
                  <a:pt x="179" y="559"/>
                </a:lnTo>
                <a:lnTo>
                  <a:pt x="170" y="556"/>
                </a:lnTo>
                <a:lnTo>
                  <a:pt x="160" y="553"/>
                </a:lnTo>
                <a:lnTo>
                  <a:pt x="151" y="549"/>
                </a:lnTo>
                <a:lnTo>
                  <a:pt x="141" y="543"/>
                </a:lnTo>
                <a:lnTo>
                  <a:pt x="130" y="536"/>
                </a:lnTo>
                <a:lnTo>
                  <a:pt x="118" y="527"/>
                </a:lnTo>
                <a:lnTo>
                  <a:pt x="107" y="518"/>
                </a:lnTo>
                <a:lnTo>
                  <a:pt x="94" y="508"/>
                </a:lnTo>
                <a:lnTo>
                  <a:pt x="79" y="495"/>
                </a:lnTo>
                <a:lnTo>
                  <a:pt x="65" y="482"/>
                </a:lnTo>
                <a:lnTo>
                  <a:pt x="50" y="468"/>
                </a:lnTo>
                <a:lnTo>
                  <a:pt x="42" y="461"/>
                </a:lnTo>
                <a:lnTo>
                  <a:pt x="35" y="452"/>
                </a:lnTo>
                <a:lnTo>
                  <a:pt x="26" y="443"/>
                </a:lnTo>
                <a:lnTo>
                  <a:pt x="17" y="435"/>
                </a:lnTo>
                <a:lnTo>
                  <a:pt x="9" y="425"/>
                </a:lnTo>
                <a:lnTo>
                  <a:pt x="0" y="416"/>
                </a:lnTo>
                <a:lnTo>
                  <a:pt x="66" y="403"/>
                </a:lnTo>
                <a:lnTo>
                  <a:pt x="131" y="390"/>
                </a:lnTo>
                <a:lnTo>
                  <a:pt x="194" y="377"/>
                </a:lnTo>
                <a:lnTo>
                  <a:pt x="258" y="366"/>
                </a:lnTo>
                <a:lnTo>
                  <a:pt x="318" y="353"/>
                </a:lnTo>
                <a:lnTo>
                  <a:pt x="380" y="341"/>
                </a:lnTo>
                <a:lnTo>
                  <a:pt x="439" y="330"/>
                </a:lnTo>
                <a:lnTo>
                  <a:pt x="498" y="318"/>
                </a:lnTo>
                <a:lnTo>
                  <a:pt x="556" y="307"/>
                </a:lnTo>
                <a:lnTo>
                  <a:pt x="613" y="297"/>
                </a:lnTo>
                <a:lnTo>
                  <a:pt x="670" y="285"/>
                </a:lnTo>
                <a:lnTo>
                  <a:pt x="724" y="275"/>
                </a:lnTo>
                <a:lnTo>
                  <a:pt x="778" y="265"/>
                </a:lnTo>
                <a:lnTo>
                  <a:pt x="831" y="253"/>
                </a:lnTo>
                <a:lnTo>
                  <a:pt x="883" y="243"/>
                </a:lnTo>
                <a:lnTo>
                  <a:pt x="933" y="235"/>
                </a:lnTo>
                <a:lnTo>
                  <a:pt x="983" y="225"/>
                </a:lnTo>
                <a:lnTo>
                  <a:pt x="1032" y="214"/>
                </a:lnTo>
                <a:lnTo>
                  <a:pt x="1081" y="206"/>
                </a:lnTo>
                <a:lnTo>
                  <a:pt x="1127" y="197"/>
                </a:lnTo>
                <a:lnTo>
                  <a:pt x="1173" y="189"/>
                </a:lnTo>
                <a:lnTo>
                  <a:pt x="1220" y="180"/>
                </a:lnTo>
                <a:lnTo>
                  <a:pt x="1263" y="171"/>
                </a:lnTo>
                <a:lnTo>
                  <a:pt x="1306" y="163"/>
                </a:lnTo>
                <a:lnTo>
                  <a:pt x="1349" y="155"/>
                </a:lnTo>
                <a:lnTo>
                  <a:pt x="1389" y="147"/>
                </a:lnTo>
                <a:lnTo>
                  <a:pt x="1430" y="140"/>
                </a:lnTo>
                <a:lnTo>
                  <a:pt x="1470" y="132"/>
                </a:lnTo>
                <a:lnTo>
                  <a:pt x="1508" y="125"/>
                </a:lnTo>
                <a:lnTo>
                  <a:pt x="1545" y="118"/>
                </a:lnTo>
                <a:lnTo>
                  <a:pt x="1581" y="111"/>
                </a:lnTo>
                <a:lnTo>
                  <a:pt x="1617" y="104"/>
                </a:lnTo>
                <a:lnTo>
                  <a:pt x="1651" y="98"/>
                </a:lnTo>
                <a:lnTo>
                  <a:pt x="1685" y="92"/>
                </a:lnTo>
                <a:lnTo>
                  <a:pt x="1718" y="86"/>
                </a:lnTo>
                <a:lnTo>
                  <a:pt x="1749" y="81"/>
                </a:lnTo>
                <a:lnTo>
                  <a:pt x="1780" y="75"/>
                </a:lnTo>
                <a:lnTo>
                  <a:pt x="1810" y="69"/>
                </a:lnTo>
                <a:lnTo>
                  <a:pt x="1866" y="59"/>
                </a:lnTo>
                <a:lnTo>
                  <a:pt x="1918" y="49"/>
                </a:lnTo>
                <a:lnTo>
                  <a:pt x="1967" y="40"/>
                </a:lnTo>
                <a:lnTo>
                  <a:pt x="2013" y="33"/>
                </a:lnTo>
                <a:lnTo>
                  <a:pt x="2053" y="26"/>
                </a:lnTo>
                <a:lnTo>
                  <a:pt x="2091" y="20"/>
                </a:lnTo>
                <a:lnTo>
                  <a:pt x="2125" y="14"/>
                </a:lnTo>
                <a:lnTo>
                  <a:pt x="2154" y="10"/>
                </a:lnTo>
                <a:lnTo>
                  <a:pt x="2180" y="7"/>
                </a:lnTo>
                <a:lnTo>
                  <a:pt x="2203" y="4"/>
                </a:lnTo>
                <a:lnTo>
                  <a:pt x="2222" y="1"/>
                </a:lnTo>
                <a:lnTo>
                  <a:pt x="2236" y="0"/>
                </a:lnTo>
                <a:lnTo>
                  <a:pt x="2248" y="0"/>
                </a:lnTo>
                <a:lnTo>
                  <a:pt x="2265" y="0"/>
                </a:lnTo>
                <a:lnTo>
                  <a:pt x="2281" y="1"/>
                </a:lnTo>
                <a:lnTo>
                  <a:pt x="2298" y="4"/>
                </a:lnTo>
                <a:lnTo>
                  <a:pt x="2312" y="7"/>
                </a:lnTo>
                <a:lnTo>
                  <a:pt x="2327" y="11"/>
                </a:lnTo>
                <a:lnTo>
                  <a:pt x="2341" y="16"/>
                </a:lnTo>
                <a:lnTo>
                  <a:pt x="2356" y="22"/>
                </a:lnTo>
                <a:lnTo>
                  <a:pt x="2369" y="29"/>
                </a:lnTo>
                <a:lnTo>
                  <a:pt x="2380" y="36"/>
                </a:lnTo>
                <a:lnTo>
                  <a:pt x="2393" y="43"/>
                </a:lnTo>
                <a:lnTo>
                  <a:pt x="2405" y="52"/>
                </a:lnTo>
                <a:lnTo>
                  <a:pt x="2416" y="60"/>
                </a:lnTo>
                <a:lnTo>
                  <a:pt x="2428" y="70"/>
                </a:lnTo>
                <a:lnTo>
                  <a:pt x="2438" y="81"/>
                </a:lnTo>
                <a:lnTo>
                  <a:pt x="2449" y="92"/>
                </a:lnTo>
                <a:lnTo>
                  <a:pt x="2461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任意多边形 8"/>
          <p:cNvSpPr/>
          <p:nvPr/>
        </p:nvSpPr>
        <p:spPr>
          <a:xfrm>
            <a:off x="1706400" y="3009960"/>
            <a:ext cx="6337440" cy="132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棠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煦　韧　参  差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1522440" y="271152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3075840" y="275112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9"/>
          <p:cNvSpPr/>
          <p:nvPr/>
        </p:nvSpPr>
        <p:spPr>
          <a:xfrm>
            <a:off x="4194720" y="275760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è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0"/>
          <p:cNvSpPr/>
          <p:nvPr/>
        </p:nvSpPr>
        <p:spPr>
          <a:xfrm>
            <a:off x="5371560" y="276228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ē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1"/>
          <p:cNvSpPr/>
          <p:nvPr/>
        </p:nvSpPr>
        <p:spPr>
          <a:xfrm>
            <a:off x="6798600" y="278280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95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1"/>
          <p:cNvSpPr/>
          <p:nvPr/>
        </p:nvSpPr>
        <p:spPr>
          <a:xfrm>
            <a:off x="1671480" y="2817720"/>
            <a:ext cx="7047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融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葳蕤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  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簪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性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参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2"/>
          <p:cNvSpPr/>
          <p:nvPr/>
        </p:nvSpPr>
        <p:spPr>
          <a:xfrm>
            <a:off x="2053080" y="243540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4"/>
          <p:cNvSpPr/>
          <p:nvPr/>
        </p:nvSpPr>
        <p:spPr>
          <a:xfrm>
            <a:off x="3284640" y="243684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 ru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30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矩形 9"/>
          <p:cNvSpPr/>
          <p:nvPr/>
        </p:nvSpPr>
        <p:spPr>
          <a:xfrm>
            <a:off x="5952960" y="243540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0"/>
          <p:cNvSpPr/>
          <p:nvPr/>
        </p:nvSpPr>
        <p:spPr>
          <a:xfrm>
            <a:off x="2144520" y="35989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2"/>
          <p:cNvSpPr/>
          <p:nvPr/>
        </p:nvSpPr>
        <p:spPr>
          <a:xfrm>
            <a:off x="3421080" y="35989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è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4"/>
          <p:cNvSpPr/>
          <p:nvPr/>
        </p:nvSpPr>
        <p:spPr>
          <a:xfrm>
            <a:off x="5460120" y="361008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ēn c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1557360" y="2949480"/>
            <a:ext cx="56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合 4"/>
          <p:cNvGrpSpPr/>
          <p:nvPr/>
        </p:nvGrpSpPr>
        <p:grpSpPr>
          <a:xfrm>
            <a:off x="2082960" y="2517840"/>
            <a:ext cx="3114360" cy="1373400"/>
            <a:chOff x="2082960" y="2517840"/>
            <a:chExt cx="3114360" cy="1373400"/>
          </a:xfrm>
        </p:grpSpPr>
        <p:sp>
          <p:nvSpPr>
            <p:cNvPr id="312" name="左大括号 2"/>
            <p:cNvSpPr/>
            <p:nvPr/>
          </p:nvSpPr>
          <p:spPr>
            <a:xfrm>
              <a:off x="2082960" y="276048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TextBox 3"/>
            <p:cNvSpPr/>
            <p:nvPr/>
          </p:nvSpPr>
          <p:spPr>
            <a:xfrm>
              <a:off x="2249640" y="2517840"/>
              <a:ext cx="29476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á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夹袄   夹被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iā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夹着　 夹带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Box 13"/>
          <p:cNvSpPr/>
          <p:nvPr/>
        </p:nvSpPr>
        <p:spPr>
          <a:xfrm>
            <a:off x="1647720" y="4273560"/>
            <a:ext cx="569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合 5"/>
          <p:cNvGrpSpPr/>
          <p:nvPr/>
        </p:nvGrpSpPr>
        <p:grpSpPr>
          <a:xfrm>
            <a:off x="2109960" y="3833640"/>
            <a:ext cx="3581280" cy="1373400"/>
            <a:chOff x="2109960" y="3833640"/>
            <a:chExt cx="3581280" cy="1373400"/>
          </a:xfrm>
        </p:grpSpPr>
        <p:sp>
          <p:nvSpPr>
            <p:cNvPr id="316" name="左大括号 14"/>
            <p:cNvSpPr/>
            <p:nvPr/>
          </p:nvSpPr>
          <p:spPr>
            <a:xfrm>
              <a:off x="2109960" y="405252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15"/>
            <p:cNvSpPr/>
            <p:nvPr/>
          </p:nvSpPr>
          <p:spPr>
            <a:xfrm>
              <a:off x="2244600" y="3833640"/>
              <a:ext cx="34466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ā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鸡冠   王冠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guà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冠军　 夺冠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31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071720" y="2506680"/>
            <a:ext cx="72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感情地朗读课文，背诵课文最后两个自然段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"/>
          <p:cNvSpPr/>
          <p:nvPr/>
        </p:nvSpPr>
        <p:spPr>
          <a:xfrm>
            <a:off x="1101600" y="1824120"/>
            <a:ext cx="762948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融洽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韧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宾至如归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2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矩形 1"/>
          <p:cNvSpPr/>
          <p:nvPr/>
        </p:nvSpPr>
        <p:spPr>
          <a:xfrm>
            <a:off x="1846440" y="1843200"/>
            <a:ext cx="68846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彼此感情好，没有抵触。文中指两盆花搭配起来好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我们和邻居的关系特别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融洽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物体受外力作用时，产生变形而不易折断的性质或顽强持久的精神。文中指夹竹桃顽强持久的精神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客人到了这里就像回到自己的家一样，形容旅馆、饭馆等招待周到。文中指夹竹桃给人一种美好的感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造句：这个山村的乡亲们待人非常热情，给人一种</a:t>
            </a:r>
            <a:r>
              <a:rPr b="1" lang="zh-CN" sz="2200" spc="-1" strike="noStrike" u="sng">
                <a:solidFill>
                  <a:srgbClr val="1a210d"/>
                </a:solidFill>
                <a:uFillTx/>
                <a:latin typeface="宋体"/>
              </a:rPr>
              <a:t>宾至如归</a:t>
            </a:r>
            <a:r>
              <a:rPr b="1" lang="zh-CN" sz="2200" spc="-1" strike="noStrike">
                <a:solidFill>
                  <a:srgbClr val="1a210d"/>
                </a:solidFill>
                <a:latin typeface="宋体"/>
              </a:rPr>
              <a:t>的感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127476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有尽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花团锦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3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矩形 1"/>
          <p:cNvSpPr/>
          <p:nvPr/>
        </p:nvSpPr>
        <p:spPr>
          <a:xfrm>
            <a:off x="2703600" y="1847880"/>
            <a:ext cx="59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该有的全都有了，表示一切齐备。文中指“我们”家里常见的花都有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这个超市里的商品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应有尽有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五彩缤纷、十分华丽的形象。文中指院子里的花开得很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花园里面百花盛开，花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团锦簇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，十分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"/>
          <p:cNvSpPr/>
          <p:nvPr/>
        </p:nvSpPr>
        <p:spPr>
          <a:xfrm>
            <a:off x="127476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彩缤纷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不胜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3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矩形 1"/>
          <p:cNvSpPr/>
          <p:nvPr/>
        </p:nvSpPr>
        <p:spPr>
          <a:xfrm>
            <a:off x="2687760" y="1825560"/>
            <a:ext cx="599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形容颜色繁多复杂，非常好看。文中指院子里的花品种很多，开得夺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花园里的花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五彩缤纷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，满园芬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好的东西太多，一时接受不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不过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文中指花多而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造句：这里的艺术品琳琅满目，</a:t>
            </a:r>
            <a:r>
              <a:rPr b="1" lang="zh-CN" sz="2400" spc="-1" strike="noStrike" u="sng">
                <a:solidFill>
                  <a:srgbClr val="1a210d"/>
                </a:solidFill>
                <a:uFillTx/>
                <a:latin typeface="宋体"/>
              </a:rPr>
              <a:t>美不胜收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衰败　衰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2"/>
          <p:cNvSpPr/>
          <p:nvPr/>
        </p:nvSpPr>
        <p:spPr>
          <a:xfrm>
            <a:off x="2162160" y="2522520"/>
            <a:ext cx="649296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两个词语都有由盛到衰的意思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侧重点不同，“衰败”侧重于由兴盛转到没落破败；“衰竭”侧重于由旺盛或正常转到衰弱。对象不同，“衰败”多用在政治、经济、文化等的实力、生机方面；“衰竭”多用在人的生理机能方面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在这深秋的傍晚，更是处处显出零落</a:t>
            </a:r>
            <a:r>
              <a:rPr b="1" lang="zh-CN" sz="2100" spc="-1" strike="noStrike">
                <a:solidFill>
                  <a:srgbClr val="ff33cc"/>
                </a:solidFill>
                <a:latin typeface="宋体"/>
              </a:rPr>
              <a:t>衰败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样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极度</a:t>
            </a:r>
            <a:r>
              <a:rPr b="1" lang="zh-CN" sz="2100" spc="-1" strike="noStrike">
                <a:solidFill>
                  <a:srgbClr val="ff33cc"/>
                </a:solidFill>
                <a:latin typeface="宋体"/>
              </a:rPr>
              <a:t>衰竭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的他，正从床上挣扎着起来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43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4"/>
          <p:cNvGrpSpPr/>
          <p:nvPr/>
        </p:nvGrpSpPr>
        <p:grpSpPr>
          <a:xfrm>
            <a:off x="681120" y="2556000"/>
            <a:ext cx="1670040" cy="459720"/>
            <a:chOff x="681120" y="2556000"/>
            <a:chExt cx="1670040" cy="459720"/>
          </a:xfrm>
        </p:grpSpPr>
        <p:pic>
          <p:nvPicPr>
            <p:cNvPr id="347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10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3"/>
            <p:cNvSpPr/>
            <p:nvPr/>
          </p:nvSpPr>
          <p:spPr>
            <a:xfrm>
              <a:off x="1024200" y="25560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20"/>
          <p:cNvGrpSpPr/>
          <p:nvPr/>
        </p:nvGrpSpPr>
        <p:grpSpPr>
          <a:xfrm>
            <a:off x="681120" y="3122640"/>
            <a:ext cx="1670040" cy="459720"/>
            <a:chOff x="681120" y="3122640"/>
            <a:chExt cx="1670040" cy="459720"/>
          </a:xfrm>
        </p:grpSpPr>
        <p:pic>
          <p:nvPicPr>
            <p:cNvPr id="350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1770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22"/>
            <p:cNvSpPr/>
            <p:nvPr/>
          </p:nvSpPr>
          <p:spPr>
            <a:xfrm>
              <a:off x="1024200" y="31226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81120" y="5111640"/>
            <a:ext cx="1670040" cy="459720"/>
            <a:chOff x="681120" y="5111640"/>
            <a:chExt cx="1670040" cy="459720"/>
          </a:xfrm>
        </p:grpSpPr>
        <p:pic>
          <p:nvPicPr>
            <p:cNvPr id="353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51660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25"/>
            <p:cNvSpPr/>
            <p:nvPr/>
          </p:nvSpPr>
          <p:spPr>
            <a:xfrm>
              <a:off x="1024200" y="51116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"/>
          <p:cNvSpPr/>
          <p:nvPr/>
        </p:nvSpPr>
        <p:spPr>
          <a:xfrm>
            <a:off x="887400" y="19605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最爱夹竹桃。</a:t>
            </a:r>
            <a:r>
              <a:rPr b="1" lang="zh-CN" sz="2400" spc="-1" strike="noStrike">
                <a:solidFill>
                  <a:srgbClr val="1a210d"/>
                </a:solidFill>
                <a:latin typeface="宋体"/>
              </a:rPr>
              <a:t>写夹竹桃是“我”最喜爱的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美丽坚韧。</a:t>
            </a:r>
            <a:r>
              <a:rPr b="1" lang="zh-CN" sz="2400" spc="-1" strike="noStrike">
                <a:solidFill>
                  <a:srgbClr val="1a210d"/>
                </a:solidFill>
                <a:latin typeface="Calibri"/>
              </a:rPr>
              <a:t>写夹竹桃之美和充满韧性的品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爱上夹竹桃。</a:t>
            </a:r>
            <a:r>
              <a:rPr b="1" lang="zh-CN" sz="2400" spc="-1" strike="noStrike">
                <a:solidFill>
                  <a:srgbClr val="1a210d"/>
                </a:solidFill>
                <a:latin typeface="Calibri"/>
              </a:rPr>
              <a:t>“我”喜爱夹竹桃的原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7"/>
          <p:cNvSpPr/>
          <p:nvPr/>
        </p:nvSpPr>
        <p:spPr>
          <a:xfrm>
            <a:off x="1565280" y="2720880"/>
            <a:ext cx="3621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赞美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长江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是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无穷的源泉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</a:t>
            </a:r>
            <a:r>
              <a:rPr b="1" lang="zh-CN" sz="2800" spc="-1" strike="noStrike">
                <a:solidFill>
                  <a:srgbClr val="0070c0"/>
                </a:solidFill>
                <a:latin typeface="黑体"/>
                <a:ea typeface="黑体"/>
              </a:rPr>
              <a:t>依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长江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有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母亲的情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5"/>
          <p:cNvSpPr/>
          <p:nvPr/>
        </p:nvSpPr>
        <p:spPr>
          <a:xfrm>
            <a:off x="882720" y="128268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这首诗歌中哪句话最能体现作者对长江的情感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60" name="矩形 11"/>
          <p:cNvSpPr/>
          <p:nvPr/>
        </p:nvSpPr>
        <p:spPr>
          <a:xfrm>
            <a:off x="938160" y="245268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共有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自然段，可分为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部分。第一部分总起，写作者的爱花之情。第二部分主要写夹竹桃之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白相衬，奇妙有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夹竹桃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默默无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富有韧性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品质。最后一部分是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总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写爱花之因。全文表达了作者对夹竹桃的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喜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赞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7167"/>
          <p:cNvSpPr/>
          <p:nvPr/>
        </p:nvSpPr>
        <p:spPr>
          <a:xfrm>
            <a:off x="1450800" y="2344680"/>
            <a:ext cx="741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  　　）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　）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1"/>
          <p:cNvSpPr/>
          <p:nvPr/>
        </p:nvSpPr>
        <p:spPr>
          <a:xfrm>
            <a:off x="1409400" y="3611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4641120" y="3611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左大括号 3"/>
          <p:cNvSpPr/>
          <p:nvPr/>
        </p:nvSpPr>
        <p:spPr>
          <a:xfrm>
            <a:off x="1809720" y="3197160"/>
            <a:ext cx="155520" cy="130824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308240"/>
              <a:gd name="textAreaBottom" fmla="*/ 1304280 h 13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左大括号 17"/>
          <p:cNvSpPr/>
          <p:nvPr/>
        </p:nvSpPr>
        <p:spPr>
          <a:xfrm>
            <a:off x="5003640" y="3197160"/>
            <a:ext cx="155880" cy="1308240"/>
          </a:xfrm>
          <a:custGeom>
            <a:avLst/>
            <a:gdLst>
              <a:gd name="textAreaLeft" fmla="*/ 99720 w 155880"/>
              <a:gd name="textAreaRight" fmla="*/ 156240 w 155880"/>
              <a:gd name="textAreaTop" fmla="*/ 3960 h 1308240"/>
              <a:gd name="textAreaBottom" fmla="*/ 1304280 h 13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2085120" y="30099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ā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参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2179800" y="35575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ē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参差不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954080" y="408636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hē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人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5279760" y="29908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差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10"/>
          <p:cNvSpPr/>
          <p:nvPr/>
        </p:nvSpPr>
        <p:spPr>
          <a:xfrm>
            <a:off x="5258880" y="354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āi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出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11"/>
          <p:cNvSpPr/>
          <p:nvPr/>
        </p:nvSpPr>
        <p:spPr>
          <a:xfrm>
            <a:off x="5470200" y="4068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  参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525840" y="267984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1887480" y="267984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5181480" y="26956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525840" y="380196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889280" y="38019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181480" y="3817800"/>
          <a:ext cx="288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矩形 3"/>
          <p:cNvSpPr/>
          <p:nvPr/>
        </p:nvSpPr>
        <p:spPr>
          <a:xfrm>
            <a:off x="1544760" y="1833480"/>
            <a:ext cx="7273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g qià         wǎn  rú         yú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shù       fè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é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íng yuàn         yà  zhōu       wēi    fēng   zhà   q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38920" y="26956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2"/>
          <p:cNvSpPr/>
          <p:nvPr/>
        </p:nvSpPr>
        <p:spPr>
          <a:xfrm>
            <a:off x="-1384200" y="156672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　　　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7"/>
          <p:cNvSpPr/>
          <p:nvPr/>
        </p:nvSpPr>
        <p:spPr>
          <a:xfrm>
            <a:off x="2075760" y="2697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融 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8"/>
          <p:cNvSpPr/>
          <p:nvPr/>
        </p:nvSpPr>
        <p:spPr>
          <a:xfrm>
            <a:off x="3677400" y="2682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宛 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9"/>
          <p:cNvSpPr/>
          <p:nvPr/>
        </p:nvSpPr>
        <p:spPr>
          <a:xfrm>
            <a:off x="5361840" y="270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榆 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1"/>
          <p:cNvSpPr/>
          <p:nvPr/>
        </p:nvSpPr>
        <p:spPr>
          <a:xfrm>
            <a:off x="6976440" y="270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奉 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矩形 12"/>
          <p:cNvSpPr/>
          <p:nvPr/>
        </p:nvSpPr>
        <p:spPr>
          <a:xfrm>
            <a:off x="2069280" y="3803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庭 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3715560" y="3803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亚 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2"/>
          <p:cNvGrpSpPr/>
          <p:nvPr/>
        </p:nvGrpSpPr>
        <p:grpSpPr>
          <a:xfrm>
            <a:off x="5178600" y="3830760"/>
            <a:ext cx="2742120" cy="714600"/>
            <a:chOff x="5178600" y="3830760"/>
            <a:chExt cx="2742120" cy="714600"/>
          </a:xfrm>
        </p:grpSpPr>
        <p:sp>
          <p:nvSpPr>
            <p:cNvPr id="389" name="矩形 15"/>
            <p:cNvSpPr/>
            <p:nvPr/>
          </p:nvSpPr>
          <p:spPr>
            <a:xfrm>
              <a:off x="5178600" y="3830760"/>
              <a:ext cx="16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微 风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1"/>
            <p:cNvSpPr/>
            <p:nvPr/>
          </p:nvSpPr>
          <p:spPr>
            <a:xfrm>
              <a:off x="6825600" y="38419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乍 起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2"/>
          <p:cNvSpPr/>
          <p:nvPr/>
        </p:nvSpPr>
        <p:spPr>
          <a:xfrm>
            <a:off x="1295280" y="16812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补充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归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胜收       一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含糊       微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"/>
          <p:cNvSpPr/>
          <p:nvPr/>
        </p:nvSpPr>
        <p:spPr>
          <a:xfrm>
            <a:off x="1812960" y="236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3"/>
          <p:cNvSpPr/>
          <p:nvPr/>
        </p:nvSpPr>
        <p:spPr>
          <a:xfrm>
            <a:off x="2737440" y="2365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7"/>
          <p:cNvSpPr/>
          <p:nvPr/>
        </p:nvSpPr>
        <p:spPr>
          <a:xfrm>
            <a:off x="5360760" y="235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8"/>
          <p:cNvSpPr/>
          <p:nvPr/>
        </p:nvSpPr>
        <p:spPr>
          <a:xfrm>
            <a:off x="6599880" y="23400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尽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9"/>
          <p:cNvSpPr/>
          <p:nvPr/>
        </p:nvSpPr>
        <p:spPr>
          <a:xfrm>
            <a:off x="2433600" y="2908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3340800" y="2919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1"/>
          <p:cNvSpPr/>
          <p:nvPr/>
        </p:nvSpPr>
        <p:spPr>
          <a:xfrm>
            <a:off x="5937120" y="29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2"/>
          <p:cNvSpPr/>
          <p:nvPr/>
        </p:nvSpPr>
        <p:spPr>
          <a:xfrm>
            <a:off x="6908760" y="293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3"/>
          <p:cNvSpPr/>
          <p:nvPr/>
        </p:nvSpPr>
        <p:spPr>
          <a:xfrm>
            <a:off x="1788840" y="344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4"/>
          <p:cNvSpPr/>
          <p:nvPr/>
        </p:nvSpPr>
        <p:spPr>
          <a:xfrm>
            <a:off x="2747880" y="346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5"/>
          <p:cNvSpPr/>
          <p:nvPr/>
        </p:nvSpPr>
        <p:spPr>
          <a:xfrm>
            <a:off x="5950800" y="34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16"/>
          <p:cNvSpPr/>
          <p:nvPr/>
        </p:nvSpPr>
        <p:spPr>
          <a:xfrm>
            <a:off x="6918120" y="3448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7"/>
          <p:cNvSpPr/>
          <p:nvPr/>
        </p:nvSpPr>
        <p:spPr>
          <a:xfrm>
            <a:off x="1774080" y="399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2759040" y="39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19"/>
          <p:cNvSpPr/>
          <p:nvPr/>
        </p:nvSpPr>
        <p:spPr>
          <a:xfrm>
            <a:off x="5664960" y="40194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0"/>
          <p:cNvSpPr/>
          <p:nvPr/>
        </p:nvSpPr>
        <p:spPr>
          <a:xfrm>
            <a:off x="6908760" y="3992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21"/>
          <p:cNvSpPr/>
          <p:nvPr/>
        </p:nvSpPr>
        <p:spPr>
          <a:xfrm>
            <a:off x="2450880" y="453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22"/>
          <p:cNvSpPr/>
          <p:nvPr/>
        </p:nvSpPr>
        <p:spPr>
          <a:xfrm>
            <a:off x="3051720" y="453564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3859200" y="1933560"/>
            <a:ext cx="446580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季羡林：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(1911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</a:rPr>
              <a:t>2009)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，山东临清人。语言学家、文学家、国学家、教育家和社会活动家，是北京大学的终身教授。精通多种语言和文字，尤精于吐火罗文。被称为国学大师、学界泰斗、国宝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天竺心影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朗润集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季羡林散文集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牛棚杂忆</a:t>
            </a:r>
            <a:r>
              <a:rPr b="1" lang="en-US" sz="21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3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4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1047600" y="2176560"/>
            <a:ext cx="236556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1"/>
          <p:cNvSpPr/>
          <p:nvPr/>
        </p:nvSpPr>
        <p:spPr>
          <a:xfrm>
            <a:off x="814320" y="1916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课文内容填空，并用带点的词造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直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直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无不奉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造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7652880" y="265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5"/>
          <p:cNvSpPr/>
          <p:nvPr/>
        </p:nvSpPr>
        <p:spPr>
          <a:xfrm>
            <a:off x="3111120" y="266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6"/>
          <p:cNvSpPr/>
          <p:nvPr/>
        </p:nvSpPr>
        <p:spPr>
          <a:xfrm>
            <a:off x="1404000" y="265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7"/>
          <p:cNvSpPr/>
          <p:nvPr/>
        </p:nvSpPr>
        <p:spPr>
          <a:xfrm>
            <a:off x="5460840" y="2660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9"/>
          <p:cNvSpPr/>
          <p:nvPr/>
        </p:nvSpPr>
        <p:spPr>
          <a:xfrm>
            <a:off x="1417680" y="321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11"/>
          <p:cNvSpPr/>
          <p:nvPr/>
        </p:nvSpPr>
        <p:spPr>
          <a:xfrm>
            <a:off x="1989000" y="25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2"/>
          <p:cNvSpPr/>
          <p:nvPr/>
        </p:nvSpPr>
        <p:spPr>
          <a:xfrm>
            <a:off x="4215960" y="254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13"/>
          <p:cNvSpPr/>
          <p:nvPr/>
        </p:nvSpPr>
        <p:spPr>
          <a:xfrm>
            <a:off x="6189120" y="255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迎春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矩形 14"/>
          <p:cNvSpPr/>
          <p:nvPr/>
        </p:nvSpPr>
        <p:spPr>
          <a:xfrm>
            <a:off x="2405520" y="3098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玉簪花和菊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15"/>
          <p:cNvSpPr/>
          <p:nvPr/>
        </p:nvSpPr>
        <p:spPr>
          <a:xfrm>
            <a:off x="1273320" y="3543480"/>
            <a:ext cx="71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清晨一直到日落，从暖春一直到盛夏，他就这样坚持着，终于迎来了属于自己的辉煌时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矩形 1"/>
          <p:cNvSpPr/>
          <p:nvPr/>
        </p:nvSpPr>
        <p:spPr>
          <a:xfrm>
            <a:off x="814320" y="1484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夹竹桃一声不响地在那里开放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迎春花开放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写成拟人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夏季的庭院是一年中最美丽的季节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矩形 3"/>
          <p:cNvSpPr/>
          <p:nvPr/>
        </p:nvSpPr>
        <p:spPr>
          <a:xfrm>
            <a:off x="2333520" y="26780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夹竹桃开放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矩形 8"/>
          <p:cNvSpPr/>
          <p:nvPr/>
        </p:nvSpPr>
        <p:spPr>
          <a:xfrm>
            <a:off x="1298520" y="3751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迎春花报告春的消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1271520" y="4838760"/>
            <a:ext cx="57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夏季的庭院是一年中最美丽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2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86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“人”撇、捺伸展，“口”上宽下窄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3"/>
          <p:cNvSpPr/>
          <p:nvPr/>
        </p:nvSpPr>
        <p:spPr>
          <a:xfrm>
            <a:off x="2171880" y="1868400"/>
            <a:ext cx="111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15"/>
          <p:cNvSpPr/>
          <p:nvPr/>
        </p:nvSpPr>
        <p:spPr>
          <a:xfrm>
            <a:off x="6442200" y="4697280"/>
            <a:ext cx="733320" cy="201600"/>
          </a:xfrm>
          <a:custGeom>
            <a:avLst/>
            <a:gdLst/>
            <a:ahLst/>
            <a:rect l="l" t="t" r="r" b="b"/>
            <a:pathLst>
              <a:path w="924" h="255">
                <a:moveTo>
                  <a:pt x="588" y="32"/>
                </a:moveTo>
                <a:lnTo>
                  <a:pt x="617" y="25"/>
                </a:lnTo>
                <a:lnTo>
                  <a:pt x="643" y="17"/>
                </a:lnTo>
                <a:lnTo>
                  <a:pt x="668" y="11"/>
                </a:lnTo>
                <a:lnTo>
                  <a:pt x="693" y="7"/>
                </a:lnTo>
                <a:lnTo>
                  <a:pt x="716" y="3"/>
                </a:lnTo>
                <a:lnTo>
                  <a:pt x="737" y="2"/>
                </a:lnTo>
                <a:lnTo>
                  <a:pt x="757" y="0"/>
                </a:lnTo>
                <a:lnTo>
                  <a:pt x="776" y="0"/>
                </a:lnTo>
                <a:lnTo>
                  <a:pt x="793" y="0"/>
                </a:lnTo>
                <a:lnTo>
                  <a:pt x="808" y="2"/>
                </a:lnTo>
                <a:lnTo>
                  <a:pt x="824" y="3"/>
                </a:lnTo>
                <a:lnTo>
                  <a:pt x="837" y="7"/>
                </a:lnTo>
                <a:lnTo>
                  <a:pt x="849" y="11"/>
                </a:lnTo>
                <a:lnTo>
                  <a:pt x="858" y="17"/>
                </a:lnTo>
                <a:lnTo>
                  <a:pt x="868" y="25"/>
                </a:lnTo>
                <a:lnTo>
                  <a:pt x="876" y="32"/>
                </a:lnTo>
                <a:lnTo>
                  <a:pt x="881" y="40"/>
                </a:lnTo>
                <a:lnTo>
                  <a:pt x="887" y="46"/>
                </a:lnTo>
                <a:lnTo>
                  <a:pt x="893" y="53"/>
                </a:lnTo>
                <a:lnTo>
                  <a:pt x="897" y="61"/>
                </a:lnTo>
                <a:lnTo>
                  <a:pt x="903" y="67"/>
                </a:lnTo>
                <a:lnTo>
                  <a:pt x="906" y="73"/>
                </a:lnTo>
                <a:lnTo>
                  <a:pt x="912" y="84"/>
                </a:lnTo>
                <a:lnTo>
                  <a:pt x="918" y="94"/>
                </a:lnTo>
                <a:lnTo>
                  <a:pt x="920" y="101"/>
                </a:lnTo>
                <a:lnTo>
                  <a:pt x="922" y="109"/>
                </a:lnTo>
                <a:lnTo>
                  <a:pt x="924" y="115"/>
                </a:lnTo>
                <a:lnTo>
                  <a:pt x="922" y="117"/>
                </a:lnTo>
                <a:lnTo>
                  <a:pt x="920" y="119"/>
                </a:lnTo>
                <a:lnTo>
                  <a:pt x="914" y="121"/>
                </a:lnTo>
                <a:lnTo>
                  <a:pt x="908" y="122"/>
                </a:lnTo>
                <a:lnTo>
                  <a:pt x="901" y="124"/>
                </a:lnTo>
                <a:lnTo>
                  <a:pt x="889" y="126"/>
                </a:lnTo>
                <a:lnTo>
                  <a:pt x="878" y="130"/>
                </a:lnTo>
                <a:lnTo>
                  <a:pt x="864" y="132"/>
                </a:lnTo>
                <a:lnTo>
                  <a:pt x="849" y="136"/>
                </a:lnTo>
                <a:lnTo>
                  <a:pt x="832" y="140"/>
                </a:lnTo>
                <a:lnTo>
                  <a:pt x="812" y="144"/>
                </a:lnTo>
                <a:lnTo>
                  <a:pt x="791" y="147"/>
                </a:lnTo>
                <a:lnTo>
                  <a:pt x="770" y="151"/>
                </a:lnTo>
                <a:lnTo>
                  <a:pt x="745" y="155"/>
                </a:lnTo>
                <a:lnTo>
                  <a:pt x="718" y="159"/>
                </a:lnTo>
                <a:lnTo>
                  <a:pt x="691" y="163"/>
                </a:lnTo>
                <a:lnTo>
                  <a:pt x="661" y="169"/>
                </a:lnTo>
                <a:lnTo>
                  <a:pt x="630" y="172"/>
                </a:lnTo>
                <a:lnTo>
                  <a:pt x="595" y="178"/>
                </a:lnTo>
                <a:lnTo>
                  <a:pt x="561" y="182"/>
                </a:lnTo>
                <a:lnTo>
                  <a:pt x="524" y="188"/>
                </a:lnTo>
                <a:lnTo>
                  <a:pt x="484" y="194"/>
                </a:lnTo>
                <a:lnTo>
                  <a:pt x="444" y="199"/>
                </a:lnTo>
                <a:lnTo>
                  <a:pt x="402" y="205"/>
                </a:lnTo>
                <a:lnTo>
                  <a:pt x="357" y="211"/>
                </a:lnTo>
                <a:lnTo>
                  <a:pt x="311" y="217"/>
                </a:lnTo>
                <a:lnTo>
                  <a:pt x="265" y="222"/>
                </a:lnTo>
                <a:lnTo>
                  <a:pt x="215" y="228"/>
                </a:lnTo>
                <a:lnTo>
                  <a:pt x="163" y="236"/>
                </a:lnTo>
                <a:lnTo>
                  <a:pt x="112" y="241"/>
                </a:lnTo>
                <a:lnTo>
                  <a:pt x="56" y="247"/>
                </a:lnTo>
                <a:lnTo>
                  <a:pt x="0" y="255"/>
                </a:lnTo>
                <a:lnTo>
                  <a:pt x="0" y="178"/>
                </a:lnTo>
                <a:lnTo>
                  <a:pt x="0" y="101"/>
                </a:lnTo>
                <a:lnTo>
                  <a:pt x="43" y="98"/>
                </a:lnTo>
                <a:lnTo>
                  <a:pt x="85" y="96"/>
                </a:lnTo>
                <a:lnTo>
                  <a:pt x="125" y="94"/>
                </a:lnTo>
                <a:lnTo>
                  <a:pt x="165" y="90"/>
                </a:lnTo>
                <a:lnTo>
                  <a:pt x="206" y="88"/>
                </a:lnTo>
                <a:lnTo>
                  <a:pt x="244" y="84"/>
                </a:lnTo>
                <a:lnTo>
                  <a:pt x="282" y="80"/>
                </a:lnTo>
                <a:lnTo>
                  <a:pt x="321" y="76"/>
                </a:lnTo>
                <a:lnTo>
                  <a:pt x="357" y="73"/>
                </a:lnTo>
                <a:lnTo>
                  <a:pt x="394" y="69"/>
                </a:lnTo>
                <a:lnTo>
                  <a:pt x="428" y="63"/>
                </a:lnTo>
                <a:lnTo>
                  <a:pt x="461" y="59"/>
                </a:lnTo>
                <a:lnTo>
                  <a:pt x="496" y="53"/>
                </a:lnTo>
                <a:lnTo>
                  <a:pt x="526" y="46"/>
                </a:lnTo>
                <a:lnTo>
                  <a:pt x="557" y="40"/>
                </a:lnTo>
                <a:lnTo>
                  <a:pt x="588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16"/>
          <p:cNvSpPr/>
          <p:nvPr/>
        </p:nvSpPr>
        <p:spPr>
          <a:xfrm>
            <a:off x="6384960" y="4191120"/>
            <a:ext cx="914400" cy="60948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768" y="726"/>
                </a:moveTo>
                <a:lnTo>
                  <a:pt x="690" y="747"/>
                </a:lnTo>
                <a:lnTo>
                  <a:pt x="613" y="768"/>
                </a:lnTo>
                <a:lnTo>
                  <a:pt x="624" y="737"/>
                </a:lnTo>
                <a:lnTo>
                  <a:pt x="636" y="709"/>
                </a:lnTo>
                <a:lnTo>
                  <a:pt x="647" y="680"/>
                </a:lnTo>
                <a:lnTo>
                  <a:pt x="657" y="653"/>
                </a:lnTo>
                <a:lnTo>
                  <a:pt x="668" y="628"/>
                </a:lnTo>
                <a:lnTo>
                  <a:pt x="678" y="603"/>
                </a:lnTo>
                <a:lnTo>
                  <a:pt x="688" y="578"/>
                </a:lnTo>
                <a:lnTo>
                  <a:pt x="697" y="555"/>
                </a:lnTo>
                <a:lnTo>
                  <a:pt x="705" y="532"/>
                </a:lnTo>
                <a:lnTo>
                  <a:pt x="714" y="511"/>
                </a:lnTo>
                <a:lnTo>
                  <a:pt x="722" y="490"/>
                </a:lnTo>
                <a:lnTo>
                  <a:pt x="730" y="469"/>
                </a:lnTo>
                <a:lnTo>
                  <a:pt x="736" y="451"/>
                </a:lnTo>
                <a:lnTo>
                  <a:pt x="743" y="432"/>
                </a:lnTo>
                <a:lnTo>
                  <a:pt x="749" y="415"/>
                </a:lnTo>
                <a:lnTo>
                  <a:pt x="755" y="400"/>
                </a:lnTo>
                <a:lnTo>
                  <a:pt x="761" y="382"/>
                </a:lnTo>
                <a:lnTo>
                  <a:pt x="766" y="369"/>
                </a:lnTo>
                <a:lnTo>
                  <a:pt x="770" y="354"/>
                </a:lnTo>
                <a:lnTo>
                  <a:pt x="774" y="342"/>
                </a:lnTo>
                <a:lnTo>
                  <a:pt x="778" y="329"/>
                </a:lnTo>
                <a:lnTo>
                  <a:pt x="782" y="317"/>
                </a:lnTo>
                <a:lnTo>
                  <a:pt x="785" y="307"/>
                </a:lnTo>
                <a:lnTo>
                  <a:pt x="787" y="298"/>
                </a:lnTo>
                <a:lnTo>
                  <a:pt x="789" y="288"/>
                </a:lnTo>
                <a:lnTo>
                  <a:pt x="791" y="281"/>
                </a:lnTo>
                <a:lnTo>
                  <a:pt x="793" y="273"/>
                </a:lnTo>
                <a:lnTo>
                  <a:pt x="793" y="267"/>
                </a:lnTo>
                <a:lnTo>
                  <a:pt x="793" y="261"/>
                </a:lnTo>
                <a:lnTo>
                  <a:pt x="793" y="258"/>
                </a:lnTo>
                <a:lnTo>
                  <a:pt x="793" y="254"/>
                </a:lnTo>
                <a:lnTo>
                  <a:pt x="793" y="250"/>
                </a:lnTo>
                <a:lnTo>
                  <a:pt x="787" y="246"/>
                </a:lnTo>
                <a:lnTo>
                  <a:pt x="782" y="240"/>
                </a:lnTo>
                <a:lnTo>
                  <a:pt x="774" y="235"/>
                </a:lnTo>
                <a:lnTo>
                  <a:pt x="766" y="229"/>
                </a:lnTo>
                <a:lnTo>
                  <a:pt x="759" y="225"/>
                </a:lnTo>
                <a:lnTo>
                  <a:pt x="751" y="219"/>
                </a:lnTo>
                <a:lnTo>
                  <a:pt x="732" y="210"/>
                </a:lnTo>
                <a:lnTo>
                  <a:pt x="730" y="208"/>
                </a:lnTo>
                <a:lnTo>
                  <a:pt x="726" y="206"/>
                </a:lnTo>
                <a:lnTo>
                  <a:pt x="724" y="206"/>
                </a:lnTo>
                <a:lnTo>
                  <a:pt x="720" y="204"/>
                </a:lnTo>
                <a:lnTo>
                  <a:pt x="714" y="204"/>
                </a:lnTo>
                <a:lnTo>
                  <a:pt x="711" y="204"/>
                </a:lnTo>
                <a:lnTo>
                  <a:pt x="699" y="204"/>
                </a:lnTo>
                <a:lnTo>
                  <a:pt x="686" y="204"/>
                </a:lnTo>
                <a:lnTo>
                  <a:pt x="670" y="204"/>
                </a:lnTo>
                <a:lnTo>
                  <a:pt x="653" y="206"/>
                </a:lnTo>
                <a:lnTo>
                  <a:pt x="634" y="208"/>
                </a:lnTo>
                <a:lnTo>
                  <a:pt x="615" y="210"/>
                </a:lnTo>
                <a:lnTo>
                  <a:pt x="592" y="212"/>
                </a:lnTo>
                <a:lnTo>
                  <a:pt x="567" y="215"/>
                </a:lnTo>
                <a:lnTo>
                  <a:pt x="542" y="219"/>
                </a:lnTo>
                <a:lnTo>
                  <a:pt x="515" y="223"/>
                </a:lnTo>
                <a:lnTo>
                  <a:pt x="484" y="227"/>
                </a:lnTo>
                <a:lnTo>
                  <a:pt x="453" y="231"/>
                </a:lnTo>
                <a:lnTo>
                  <a:pt x="421" y="236"/>
                </a:lnTo>
                <a:lnTo>
                  <a:pt x="384" y="242"/>
                </a:lnTo>
                <a:lnTo>
                  <a:pt x="352" y="246"/>
                </a:lnTo>
                <a:lnTo>
                  <a:pt x="317" y="252"/>
                </a:lnTo>
                <a:lnTo>
                  <a:pt x="286" y="256"/>
                </a:lnTo>
                <a:lnTo>
                  <a:pt x="256" y="259"/>
                </a:lnTo>
                <a:lnTo>
                  <a:pt x="225" y="263"/>
                </a:lnTo>
                <a:lnTo>
                  <a:pt x="198" y="265"/>
                </a:lnTo>
                <a:lnTo>
                  <a:pt x="171" y="269"/>
                </a:lnTo>
                <a:lnTo>
                  <a:pt x="144" y="271"/>
                </a:lnTo>
                <a:lnTo>
                  <a:pt x="119" y="273"/>
                </a:lnTo>
                <a:lnTo>
                  <a:pt x="96" y="275"/>
                </a:lnTo>
                <a:lnTo>
                  <a:pt x="75" y="277"/>
                </a:lnTo>
                <a:lnTo>
                  <a:pt x="54" y="277"/>
                </a:lnTo>
                <a:lnTo>
                  <a:pt x="35" y="279"/>
                </a:lnTo>
                <a:lnTo>
                  <a:pt x="18" y="279"/>
                </a:lnTo>
                <a:lnTo>
                  <a:pt x="0" y="279"/>
                </a:lnTo>
                <a:lnTo>
                  <a:pt x="0" y="223"/>
                </a:lnTo>
                <a:lnTo>
                  <a:pt x="0" y="167"/>
                </a:lnTo>
                <a:lnTo>
                  <a:pt x="25" y="167"/>
                </a:lnTo>
                <a:lnTo>
                  <a:pt x="52" y="165"/>
                </a:lnTo>
                <a:lnTo>
                  <a:pt x="77" y="165"/>
                </a:lnTo>
                <a:lnTo>
                  <a:pt x="104" y="164"/>
                </a:lnTo>
                <a:lnTo>
                  <a:pt x="133" y="162"/>
                </a:lnTo>
                <a:lnTo>
                  <a:pt x="160" y="160"/>
                </a:lnTo>
                <a:lnTo>
                  <a:pt x="188" y="158"/>
                </a:lnTo>
                <a:lnTo>
                  <a:pt x="219" y="154"/>
                </a:lnTo>
                <a:lnTo>
                  <a:pt x="248" y="152"/>
                </a:lnTo>
                <a:lnTo>
                  <a:pt x="279" y="148"/>
                </a:lnTo>
                <a:lnTo>
                  <a:pt x="311" y="142"/>
                </a:lnTo>
                <a:lnTo>
                  <a:pt x="344" y="137"/>
                </a:lnTo>
                <a:lnTo>
                  <a:pt x="377" y="131"/>
                </a:lnTo>
                <a:lnTo>
                  <a:pt x="409" y="125"/>
                </a:lnTo>
                <a:lnTo>
                  <a:pt x="446" y="119"/>
                </a:lnTo>
                <a:lnTo>
                  <a:pt x="480" y="112"/>
                </a:lnTo>
                <a:lnTo>
                  <a:pt x="513" y="106"/>
                </a:lnTo>
                <a:lnTo>
                  <a:pt x="544" y="100"/>
                </a:lnTo>
                <a:lnTo>
                  <a:pt x="574" y="94"/>
                </a:lnTo>
                <a:lnTo>
                  <a:pt x="601" y="91"/>
                </a:lnTo>
                <a:lnTo>
                  <a:pt x="628" y="85"/>
                </a:lnTo>
                <a:lnTo>
                  <a:pt x="651" y="79"/>
                </a:lnTo>
                <a:lnTo>
                  <a:pt x="674" y="73"/>
                </a:lnTo>
                <a:lnTo>
                  <a:pt x="695" y="69"/>
                </a:lnTo>
                <a:lnTo>
                  <a:pt x="714" y="64"/>
                </a:lnTo>
                <a:lnTo>
                  <a:pt x="730" y="58"/>
                </a:lnTo>
                <a:lnTo>
                  <a:pt x="745" y="54"/>
                </a:lnTo>
                <a:lnTo>
                  <a:pt x="759" y="48"/>
                </a:lnTo>
                <a:lnTo>
                  <a:pt x="770" y="43"/>
                </a:lnTo>
                <a:lnTo>
                  <a:pt x="774" y="41"/>
                </a:lnTo>
                <a:lnTo>
                  <a:pt x="780" y="39"/>
                </a:lnTo>
                <a:lnTo>
                  <a:pt x="784" y="35"/>
                </a:lnTo>
                <a:lnTo>
                  <a:pt x="787" y="33"/>
                </a:lnTo>
                <a:lnTo>
                  <a:pt x="789" y="29"/>
                </a:lnTo>
                <a:lnTo>
                  <a:pt x="793" y="27"/>
                </a:lnTo>
                <a:lnTo>
                  <a:pt x="797" y="21"/>
                </a:lnTo>
                <a:lnTo>
                  <a:pt x="803" y="18"/>
                </a:lnTo>
                <a:lnTo>
                  <a:pt x="810" y="12"/>
                </a:lnTo>
                <a:lnTo>
                  <a:pt x="818" y="8"/>
                </a:lnTo>
                <a:lnTo>
                  <a:pt x="826" y="4"/>
                </a:lnTo>
                <a:lnTo>
                  <a:pt x="833" y="2"/>
                </a:lnTo>
                <a:lnTo>
                  <a:pt x="843" y="0"/>
                </a:lnTo>
                <a:lnTo>
                  <a:pt x="853" y="0"/>
                </a:lnTo>
                <a:lnTo>
                  <a:pt x="855" y="0"/>
                </a:lnTo>
                <a:lnTo>
                  <a:pt x="858" y="0"/>
                </a:lnTo>
                <a:lnTo>
                  <a:pt x="864" y="2"/>
                </a:lnTo>
                <a:lnTo>
                  <a:pt x="870" y="4"/>
                </a:lnTo>
                <a:lnTo>
                  <a:pt x="878" y="8"/>
                </a:lnTo>
                <a:lnTo>
                  <a:pt x="885" y="12"/>
                </a:lnTo>
                <a:lnTo>
                  <a:pt x="893" y="16"/>
                </a:lnTo>
                <a:lnTo>
                  <a:pt x="903" y="20"/>
                </a:lnTo>
                <a:lnTo>
                  <a:pt x="914" y="25"/>
                </a:lnTo>
                <a:lnTo>
                  <a:pt x="926" y="31"/>
                </a:lnTo>
                <a:lnTo>
                  <a:pt x="937" y="39"/>
                </a:lnTo>
                <a:lnTo>
                  <a:pt x="951" y="46"/>
                </a:lnTo>
                <a:lnTo>
                  <a:pt x="964" y="54"/>
                </a:lnTo>
                <a:lnTo>
                  <a:pt x="977" y="64"/>
                </a:lnTo>
                <a:lnTo>
                  <a:pt x="993" y="73"/>
                </a:lnTo>
                <a:lnTo>
                  <a:pt x="1008" y="83"/>
                </a:lnTo>
                <a:lnTo>
                  <a:pt x="1024" y="96"/>
                </a:lnTo>
                <a:lnTo>
                  <a:pt x="1037" y="108"/>
                </a:lnTo>
                <a:lnTo>
                  <a:pt x="1050" y="119"/>
                </a:lnTo>
                <a:lnTo>
                  <a:pt x="1064" y="131"/>
                </a:lnTo>
                <a:lnTo>
                  <a:pt x="1075" y="140"/>
                </a:lnTo>
                <a:lnTo>
                  <a:pt x="1087" y="150"/>
                </a:lnTo>
                <a:lnTo>
                  <a:pt x="1096" y="160"/>
                </a:lnTo>
                <a:lnTo>
                  <a:pt x="1106" y="167"/>
                </a:lnTo>
                <a:lnTo>
                  <a:pt x="1116" y="175"/>
                </a:lnTo>
                <a:lnTo>
                  <a:pt x="1123" y="181"/>
                </a:lnTo>
                <a:lnTo>
                  <a:pt x="1129" y="188"/>
                </a:lnTo>
                <a:lnTo>
                  <a:pt x="1137" y="192"/>
                </a:lnTo>
                <a:lnTo>
                  <a:pt x="1141" y="198"/>
                </a:lnTo>
                <a:lnTo>
                  <a:pt x="1146" y="202"/>
                </a:lnTo>
                <a:lnTo>
                  <a:pt x="1148" y="206"/>
                </a:lnTo>
                <a:lnTo>
                  <a:pt x="1152" y="210"/>
                </a:lnTo>
                <a:lnTo>
                  <a:pt x="1152" y="213"/>
                </a:lnTo>
                <a:lnTo>
                  <a:pt x="1150" y="219"/>
                </a:lnTo>
                <a:lnTo>
                  <a:pt x="1148" y="225"/>
                </a:lnTo>
                <a:lnTo>
                  <a:pt x="1146" y="229"/>
                </a:lnTo>
                <a:lnTo>
                  <a:pt x="1144" y="235"/>
                </a:lnTo>
                <a:lnTo>
                  <a:pt x="1141" y="238"/>
                </a:lnTo>
                <a:lnTo>
                  <a:pt x="1139" y="244"/>
                </a:lnTo>
                <a:lnTo>
                  <a:pt x="1133" y="248"/>
                </a:lnTo>
                <a:lnTo>
                  <a:pt x="1129" y="254"/>
                </a:lnTo>
                <a:lnTo>
                  <a:pt x="1123" y="258"/>
                </a:lnTo>
                <a:lnTo>
                  <a:pt x="1118" y="261"/>
                </a:lnTo>
                <a:lnTo>
                  <a:pt x="1112" y="265"/>
                </a:lnTo>
                <a:lnTo>
                  <a:pt x="1104" y="269"/>
                </a:lnTo>
                <a:lnTo>
                  <a:pt x="1096" y="273"/>
                </a:lnTo>
                <a:lnTo>
                  <a:pt x="1089" y="277"/>
                </a:lnTo>
                <a:lnTo>
                  <a:pt x="1079" y="279"/>
                </a:lnTo>
                <a:lnTo>
                  <a:pt x="1075" y="281"/>
                </a:lnTo>
                <a:lnTo>
                  <a:pt x="1070" y="283"/>
                </a:lnTo>
                <a:lnTo>
                  <a:pt x="1064" y="286"/>
                </a:lnTo>
                <a:lnTo>
                  <a:pt x="1058" y="290"/>
                </a:lnTo>
                <a:lnTo>
                  <a:pt x="1052" y="296"/>
                </a:lnTo>
                <a:lnTo>
                  <a:pt x="1047" y="302"/>
                </a:lnTo>
                <a:lnTo>
                  <a:pt x="1039" y="307"/>
                </a:lnTo>
                <a:lnTo>
                  <a:pt x="1033" y="315"/>
                </a:lnTo>
                <a:lnTo>
                  <a:pt x="1025" y="323"/>
                </a:lnTo>
                <a:lnTo>
                  <a:pt x="1018" y="332"/>
                </a:lnTo>
                <a:lnTo>
                  <a:pt x="1010" y="342"/>
                </a:lnTo>
                <a:lnTo>
                  <a:pt x="1000" y="352"/>
                </a:lnTo>
                <a:lnTo>
                  <a:pt x="993" y="363"/>
                </a:lnTo>
                <a:lnTo>
                  <a:pt x="983" y="375"/>
                </a:lnTo>
                <a:lnTo>
                  <a:pt x="974" y="388"/>
                </a:lnTo>
                <a:lnTo>
                  <a:pt x="964" y="402"/>
                </a:lnTo>
                <a:lnTo>
                  <a:pt x="954" y="417"/>
                </a:lnTo>
                <a:lnTo>
                  <a:pt x="943" y="432"/>
                </a:lnTo>
                <a:lnTo>
                  <a:pt x="933" y="448"/>
                </a:lnTo>
                <a:lnTo>
                  <a:pt x="922" y="465"/>
                </a:lnTo>
                <a:lnTo>
                  <a:pt x="910" y="482"/>
                </a:lnTo>
                <a:lnTo>
                  <a:pt x="899" y="499"/>
                </a:lnTo>
                <a:lnTo>
                  <a:pt x="887" y="519"/>
                </a:lnTo>
                <a:lnTo>
                  <a:pt x="876" y="540"/>
                </a:lnTo>
                <a:lnTo>
                  <a:pt x="862" y="559"/>
                </a:lnTo>
                <a:lnTo>
                  <a:pt x="851" y="580"/>
                </a:lnTo>
                <a:lnTo>
                  <a:pt x="837" y="603"/>
                </a:lnTo>
                <a:lnTo>
                  <a:pt x="824" y="626"/>
                </a:lnTo>
                <a:lnTo>
                  <a:pt x="810" y="649"/>
                </a:lnTo>
                <a:lnTo>
                  <a:pt x="797" y="674"/>
                </a:lnTo>
                <a:lnTo>
                  <a:pt x="782" y="699"/>
                </a:lnTo>
                <a:lnTo>
                  <a:pt x="768" y="7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17"/>
          <p:cNvSpPr/>
          <p:nvPr/>
        </p:nvSpPr>
        <p:spPr>
          <a:xfrm>
            <a:off x="6261120" y="4286160"/>
            <a:ext cx="228600" cy="725400"/>
          </a:xfrm>
          <a:custGeom>
            <a:avLst/>
            <a:gdLst/>
            <a:ahLst/>
            <a:rect l="l" t="t" r="r" b="b"/>
            <a:pathLst>
              <a:path w="288" h="914">
                <a:moveTo>
                  <a:pt x="251" y="62"/>
                </a:moveTo>
                <a:lnTo>
                  <a:pt x="253" y="100"/>
                </a:lnTo>
                <a:lnTo>
                  <a:pt x="257" y="139"/>
                </a:lnTo>
                <a:lnTo>
                  <a:pt x="259" y="175"/>
                </a:lnTo>
                <a:lnTo>
                  <a:pt x="261" y="212"/>
                </a:lnTo>
                <a:lnTo>
                  <a:pt x="263" y="246"/>
                </a:lnTo>
                <a:lnTo>
                  <a:pt x="265" y="281"/>
                </a:lnTo>
                <a:lnTo>
                  <a:pt x="265" y="313"/>
                </a:lnTo>
                <a:lnTo>
                  <a:pt x="267" y="344"/>
                </a:lnTo>
                <a:lnTo>
                  <a:pt x="269" y="375"/>
                </a:lnTo>
                <a:lnTo>
                  <a:pt x="271" y="405"/>
                </a:lnTo>
                <a:lnTo>
                  <a:pt x="272" y="434"/>
                </a:lnTo>
                <a:lnTo>
                  <a:pt x="274" y="461"/>
                </a:lnTo>
                <a:lnTo>
                  <a:pt x="274" y="488"/>
                </a:lnTo>
                <a:lnTo>
                  <a:pt x="276" y="515"/>
                </a:lnTo>
                <a:lnTo>
                  <a:pt x="278" y="540"/>
                </a:lnTo>
                <a:lnTo>
                  <a:pt x="278" y="563"/>
                </a:lnTo>
                <a:lnTo>
                  <a:pt x="280" y="586"/>
                </a:lnTo>
                <a:lnTo>
                  <a:pt x="280" y="607"/>
                </a:lnTo>
                <a:lnTo>
                  <a:pt x="282" y="628"/>
                </a:lnTo>
                <a:lnTo>
                  <a:pt x="282" y="647"/>
                </a:lnTo>
                <a:lnTo>
                  <a:pt x="284" y="666"/>
                </a:lnTo>
                <a:lnTo>
                  <a:pt x="284" y="684"/>
                </a:lnTo>
                <a:lnTo>
                  <a:pt x="284" y="699"/>
                </a:lnTo>
                <a:lnTo>
                  <a:pt x="286" y="714"/>
                </a:lnTo>
                <a:lnTo>
                  <a:pt x="286" y="730"/>
                </a:lnTo>
                <a:lnTo>
                  <a:pt x="286" y="743"/>
                </a:lnTo>
                <a:lnTo>
                  <a:pt x="288" y="755"/>
                </a:lnTo>
                <a:lnTo>
                  <a:pt x="288" y="766"/>
                </a:lnTo>
                <a:lnTo>
                  <a:pt x="288" y="778"/>
                </a:lnTo>
                <a:lnTo>
                  <a:pt x="288" y="785"/>
                </a:lnTo>
                <a:lnTo>
                  <a:pt x="288" y="795"/>
                </a:lnTo>
                <a:lnTo>
                  <a:pt x="288" y="801"/>
                </a:lnTo>
                <a:lnTo>
                  <a:pt x="288" y="814"/>
                </a:lnTo>
                <a:lnTo>
                  <a:pt x="288" y="826"/>
                </a:lnTo>
                <a:lnTo>
                  <a:pt x="286" y="837"/>
                </a:lnTo>
                <a:lnTo>
                  <a:pt x="286" y="849"/>
                </a:lnTo>
                <a:lnTo>
                  <a:pt x="284" y="858"/>
                </a:lnTo>
                <a:lnTo>
                  <a:pt x="282" y="868"/>
                </a:lnTo>
                <a:lnTo>
                  <a:pt x="280" y="876"/>
                </a:lnTo>
                <a:lnTo>
                  <a:pt x="278" y="883"/>
                </a:lnTo>
                <a:lnTo>
                  <a:pt x="276" y="891"/>
                </a:lnTo>
                <a:lnTo>
                  <a:pt x="274" y="897"/>
                </a:lnTo>
                <a:lnTo>
                  <a:pt x="271" y="901"/>
                </a:lnTo>
                <a:lnTo>
                  <a:pt x="267" y="906"/>
                </a:lnTo>
                <a:lnTo>
                  <a:pt x="265" y="908"/>
                </a:lnTo>
                <a:lnTo>
                  <a:pt x="261" y="912"/>
                </a:lnTo>
                <a:lnTo>
                  <a:pt x="257" y="912"/>
                </a:lnTo>
                <a:lnTo>
                  <a:pt x="251" y="914"/>
                </a:lnTo>
                <a:lnTo>
                  <a:pt x="247" y="912"/>
                </a:lnTo>
                <a:lnTo>
                  <a:pt x="244" y="910"/>
                </a:lnTo>
                <a:lnTo>
                  <a:pt x="238" y="908"/>
                </a:lnTo>
                <a:lnTo>
                  <a:pt x="234" y="904"/>
                </a:lnTo>
                <a:lnTo>
                  <a:pt x="230" y="901"/>
                </a:lnTo>
                <a:lnTo>
                  <a:pt x="224" y="895"/>
                </a:lnTo>
                <a:lnTo>
                  <a:pt x="221" y="887"/>
                </a:lnTo>
                <a:lnTo>
                  <a:pt x="217" y="879"/>
                </a:lnTo>
                <a:lnTo>
                  <a:pt x="213" y="872"/>
                </a:lnTo>
                <a:lnTo>
                  <a:pt x="209" y="860"/>
                </a:lnTo>
                <a:lnTo>
                  <a:pt x="205" y="849"/>
                </a:lnTo>
                <a:lnTo>
                  <a:pt x="203" y="837"/>
                </a:lnTo>
                <a:lnTo>
                  <a:pt x="199" y="822"/>
                </a:lnTo>
                <a:lnTo>
                  <a:pt x="198" y="808"/>
                </a:lnTo>
                <a:lnTo>
                  <a:pt x="194" y="791"/>
                </a:lnTo>
                <a:lnTo>
                  <a:pt x="192" y="774"/>
                </a:lnTo>
                <a:lnTo>
                  <a:pt x="188" y="757"/>
                </a:lnTo>
                <a:lnTo>
                  <a:pt x="182" y="739"/>
                </a:lnTo>
                <a:lnTo>
                  <a:pt x="178" y="722"/>
                </a:lnTo>
                <a:lnTo>
                  <a:pt x="175" y="703"/>
                </a:lnTo>
                <a:lnTo>
                  <a:pt x="169" y="684"/>
                </a:lnTo>
                <a:lnTo>
                  <a:pt x="165" y="663"/>
                </a:lnTo>
                <a:lnTo>
                  <a:pt x="161" y="641"/>
                </a:lnTo>
                <a:lnTo>
                  <a:pt x="155" y="618"/>
                </a:lnTo>
                <a:lnTo>
                  <a:pt x="152" y="595"/>
                </a:lnTo>
                <a:lnTo>
                  <a:pt x="148" y="570"/>
                </a:lnTo>
                <a:lnTo>
                  <a:pt x="142" y="546"/>
                </a:lnTo>
                <a:lnTo>
                  <a:pt x="138" y="521"/>
                </a:lnTo>
                <a:lnTo>
                  <a:pt x="132" y="494"/>
                </a:lnTo>
                <a:lnTo>
                  <a:pt x="128" y="467"/>
                </a:lnTo>
                <a:lnTo>
                  <a:pt x="125" y="440"/>
                </a:lnTo>
                <a:lnTo>
                  <a:pt x="121" y="411"/>
                </a:lnTo>
                <a:lnTo>
                  <a:pt x="115" y="382"/>
                </a:lnTo>
                <a:lnTo>
                  <a:pt x="111" y="355"/>
                </a:lnTo>
                <a:lnTo>
                  <a:pt x="107" y="331"/>
                </a:lnTo>
                <a:lnTo>
                  <a:pt x="102" y="306"/>
                </a:lnTo>
                <a:lnTo>
                  <a:pt x="98" y="283"/>
                </a:lnTo>
                <a:lnTo>
                  <a:pt x="92" y="261"/>
                </a:lnTo>
                <a:lnTo>
                  <a:pt x="88" y="240"/>
                </a:lnTo>
                <a:lnTo>
                  <a:pt x="82" y="221"/>
                </a:lnTo>
                <a:lnTo>
                  <a:pt x="77" y="202"/>
                </a:lnTo>
                <a:lnTo>
                  <a:pt x="73" y="185"/>
                </a:lnTo>
                <a:lnTo>
                  <a:pt x="67" y="169"/>
                </a:lnTo>
                <a:lnTo>
                  <a:pt x="61" y="154"/>
                </a:lnTo>
                <a:lnTo>
                  <a:pt x="56" y="140"/>
                </a:lnTo>
                <a:lnTo>
                  <a:pt x="48" y="127"/>
                </a:lnTo>
                <a:lnTo>
                  <a:pt x="42" y="116"/>
                </a:lnTo>
                <a:lnTo>
                  <a:pt x="36" y="104"/>
                </a:lnTo>
                <a:lnTo>
                  <a:pt x="29" y="96"/>
                </a:lnTo>
                <a:lnTo>
                  <a:pt x="23" y="89"/>
                </a:lnTo>
                <a:lnTo>
                  <a:pt x="19" y="81"/>
                </a:lnTo>
                <a:lnTo>
                  <a:pt x="13" y="73"/>
                </a:lnTo>
                <a:lnTo>
                  <a:pt x="9" y="66"/>
                </a:lnTo>
                <a:lnTo>
                  <a:pt x="6" y="58"/>
                </a:lnTo>
                <a:lnTo>
                  <a:pt x="4" y="50"/>
                </a:lnTo>
                <a:lnTo>
                  <a:pt x="2" y="45"/>
                </a:lnTo>
                <a:lnTo>
                  <a:pt x="0" y="39"/>
                </a:lnTo>
                <a:lnTo>
                  <a:pt x="0" y="31"/>
                </a:lnTo>
                <a:lnTo>
                  <a:pt x="0" y="27"/>
                </a:lnTo>
                <a:lnTo>
                  <a:pt x="0" y="21"/>
                </a:lnTo>
                <a:lnTo>
                  <a:pt x="2" y="18"/>
                </a:lnTo>
                <a:lnTo>
                  <a:pt x="4" y="12"/>
                </a:lnTo>
                <a:lnTo>
                  <a:pt x="8" y="10"/>
                </a:lnTo>
                <a:lnTo>
                  <a:pt x="11" y="6"/>
                </a:lnTo>
                <a:lnTo>
                  <a:pt x="17" y="4"/>
                </a:lnTo>
                <a:lnTo>
                  <a:pt x="23" y="2"/>
                </a:lnTo>
                <a:lnTo>
                  <a:pt x="32" y="0"/>
                </a:lnTo>
                <a:lnTo>
                  <a:pt x="40" y="0"/>
                </a:lnTo>
                <a:lnTo>
                  <a:pt x="52" y="0"/>
                </a:lnTo>
                <a:lnTo>
                  <a:pt x="63" y="2"/>
                </a:lnTo>
                <a:lnTo>
                  <a:pt x="77" y="4"/>
                </a:lnTo>
                <a:lnTo>
                  <a:pt x="92" y="8"/>
                </a:lnTo>
                <a:lnTo>
                  <a:pt x="107" y="12"/>
                </a:lnTo>
                <a:lnTo>
                  <a:pt x="125" y="16"/>
                </a:lnTo>
                <a:lnTo>
                  <a:pt x="142" y="21"/>
                </a:lnTo>
                <a:lnTo>
                  <a:pt x="163" y="27"/>
                </a:lnTo>
                <a:lnTo>
                  <a:pt x="182" y="35"/>
                </a:lnTo>
                <a:lnTo>
                  <a:pt x="205" y="43"/>
                </a:lnTo>
                <a:lnTo>
                  <a:pt x="228" y="52"/>
                </a:lnTo>
                <a:lnTo>
                  <a:pt x="251" y="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18"/>
          <p:cNvSpPr/>
          <p:nvPr/>
        </p:nvSpPr>
        <p:spPr>
          <a:xfrm>
            <a:off x="6413400" y="3801960"/>
            <a:ext cx="638280" cy="195480"/>
          </a:xfrm>
          <a:custGeom>
            <a:avLst/>
            <a:gdLst/>
            <a:ahLst/>
            <a:rect l="l" t="t" r="r" b="b"/>
            <a:pathLst>
              <a:path w="804" h="246">
                <a:moveTo>
                  <a:pt x="587" y="182"/>
                </a:moveTo>
                <a:lnTo>
                  <a:pt x="562" y="186"/>
                </a:lnTo>
                <a:lnTo>
                  <a:pt x="541" y="192"/>
                </a:lnTo>
                <a:lnTo>
                  <a:pt x="520" y="196"/>
                </a:lnTo>
                <a:lnTo>
                  <a:pt x="499" y="200"/>
                </a:lnTo>
                <a:lnTo>
                  <a:pt x="482" y="203"/>
                </a:lnTo>
                <a:lnTo>
                  <a:pt x="464" y="207"/>
                </a:lnTo>
                <a:lnTo>
                  <a:pt x="449" y="209"/>
                </a:lnTo>
                <a:lnTo>
                  <a:pt x="434" y="213"/>
                </a:lnTo>
                <a:lnTo>
                  <a:pt x="422" y="215"/>
                </a:lnTo>
                <a:lnTo>
                  <a:pt x="411" y="217"/>
                </a:lnTo>
                <a:lnTo>
                  <a:pt x="401" y="219"/>
                </a:lnTo>
                <a:lnTo>
                  <a:pt x="391" y="221"/>
                </a:lnTo>
                <a:lnTo>
                  <a:pt x="384" y="223"/>
                </a:lnTo>
                <a:lnTo>
                  <a:pt x="378" y="223"/>
                </a:lnTo>
                <a:lnTo>
                  <a:pt x="374" y="223"/>
                </a:lnTo>
                <a:lnTo>
                  <a:pt x="372" y="223"/>
                </a:lnTo>
                <a:lnTo>
                  <a:pt x="368" y="223"/>
                </a:lnTo>
                <a:lnTo>
                  <a:pt x="365" y="223"/>
                </a:lnTo>
                <a:lnTo>
                  <a:pt x="361" y="223"/>
                </a:lnTo>
                <a:lnTo>
                  <a:pt x="355" y="223"/>
                </a:lnTo>
                <a:lnTo>
                  <a:pt x="349" y="223"/>
                </a:lnTo>
                <a:lnTo>
                  <a:pt x="343" y="224"/>
                </a:lnTo>
                <a:lnTo>
                  <a:pt x="336" y="224"/>
                </a:lnTo>
                <a:lnTo>
                  <a:pt x="328" y="224"/>
                </a:lnTo>
                <a:lnTo>
                  <a:pt x="318" y="226"/>
                </a:lnTo>
                <a:lnTo>
                  <a:pt x="309" y="226"/>
                </a:lnTo>
                <a:lnTo>
                  <a:pt x="299" y="228"/>
                </a:lnTo>
                <a:lnTo>
                  <a:pt x="288" y="228"/>
                </a:lnTo>
                <a:lnTo>
                  <a:pt x="278" y="230"/>
                </a:lnTo>
                <a:lnTo>
                  <a:pt x="265" y="232"/>
                </a:lnTo>
                <a:lnTo>
                  <a:pt x="253" y="234"/>
                </a:lnTo>
                <a:lnTo>
                  <a:pt x="240" y="238"/>
                </a:lnTo>
                <a:lnTo>
                  <a:pt x="213" y="242"/>
                </a:lnTo>
                <a:lnTo>
                  <a:pt x="188" y="246"/>
                </a:lnTo>
                <a:lnTo>
                  <a:pt x="165" y="246"/>
                </a:lnTo>
                <a:lnTo>
                  <a:pt x="153" y="246"/>
                </a:lnTo>
                <a:lnTo>
                  <a:pt x="142" y="246"/>
                </a:lnTo>
                <a:lnTo>
                  <a:pt x="132" y="246"/>
                </a:lnTo>
                <a:lnTo>
                  <a:pt x="121" y="244"/>
                </a:lnTo>
                <a:lnTo>
                  <a:pt x="111" y="242"/>
                </a:lnTo>
                <a:lnTo>
                  <a:pt x="103" y="240"/>
                </a:lnTo>
                <a:lnTo>
                  <a:pt x="94" y="236"/>
                </a:lnTo>
                <a:lnTo>
                  <a:pt x="86" y="232"/>
                </a:lnTo>
                <a:lnTo>
                  <a:pt x="79" y="228"/>
                </a:lnTo>
                <a:lnTo>
                  <a:pt x="73" y="223"/>
                </a:lnTo>
                <a:lnTo>
                  <a:pt x="63" y="219"/>
                </a:lnTo>
                <a:lnTo>
                  <a:pt x="55" y="213"/>
                </a:lnTo>
                <a:lnTo>
                  <a:pt x="48" y="207"/>
                </a:lnTo>
                <a:lnTo>
                  <a:pt x="40" y="201"/>
                </a:lnTo>
                <a:lnTo>
                  <a:pt x="34" y="198"/>
                </a:lnTo>
                <a:lnTo>
                  <a:pt x="29" y="192"/>
                </a:lnTo>
                <a:lnTo>
                  <a:pt x="23" y="188"/>
                </a:lnTo>
                <a:lnTo>
                  <a:pt x="17" y="182"/>
                </a:lnTo>
                <a:lnTo>
                  <a:pt x="13" y="178"/>
                </a:lnTo>
                <a:lnTo>
                  <a:pt x="9" y="175"/>
                </a:lnTo>
                <a:lnTo>
                  <a:pt x="7" y="171"/>
                </a:lnTo>
                <a:lnTo>
                  <a:pt x="4" y="167"/>
                </a:lnTo>
                <a:lnTo>
                  <a:pt x="2" y="163"/>
                </a:lnTo>
                <a:lnTo>
                  <a:pt x="2" y="159"/>
                </a:lnTo>
                <a:lnTo>
                  <a:pt x="0" y="155"/>
                </a:lnTo>
                <a:lnTo>
                  <a:pt x="0" y="153"/>
                </a:lnTo>
                <a:lnTo>
                  <a:pt x="0" y="152"/>
                </a:lnTo>
                <a:lnTo>
                  <a:pt x="4" y="148"/>
                </a:lnTo>
                <a:lnTo>
                  <a:pt x="7" y="144"/>
                </a:lnTo>
                <a:lnTo>
                  <a:pt x="13" y="140"/>
                </a:lnTo>
                <a:lnTo>
                  <a:pt x="21" y="136"/>
                </a:lnTo>
                <a:lnTo>
                  <a:pt x="31" y="132"/>
                </a:lnTo>
                <a:lnTo>
                  <a:pt x="42" y="127"/>
                </a:lnTo>
                <a:lnTo>
                  <a:pt x="54" y="123"/>
                </a:lnTo>
                <a:lnTo>
                  <a:pt x="69" y="117"/>
                </a:lnTo>
                <a:lnTo>
                  <a:pt x="84" y="111"/>
                </a:lnTo>
                <a:lnTo>
                  <a:pt x="102" y="105"/>
                </a:lnTo>
                <a:lnTo>
                  <a:pt x="121" y="98"/>
                </a:lnTo>
                <a:lnTo>
                  <a:pt x="142" y="92"/>
                </a:lnTo>
                <a:lnTo>
                  <a:pt x="165" y="84"/>
                </a:lnTo>
                <a:lnTo>
                  <a:pt x="190" y="77"/>
                </a:lnTo>
                <a:lnTo>
                  <a:pt x="217" y="69"/>
                </a:lnTo>
                <a:lnTo>
                  <a:pt x="265" y="54"/>
                </a:lnTo>
                <a:lnTo>
                  <a:pt x="313" y="40"/>
                </a:lnTo>
                <a:lnTo>
                  <a:pt x="359" y="29"/>
                </a:lnTo>
                <a:lnTo>
                  <a:pt x="382" y="23"/>
                </a:lnTo>
                <a:lnTo>
                  <a:pt x="405" y="19"/>
                </a:lnTo>
                <a:lnTo>
                  <a:pt x="426" y="15"/>
                </a:lnTo>
                <a:lnTo>
                  <a:pt x="449" y="11"/>
                </a:lnTo>
                <a:lnTo>
                  <a:pt x="470" y="8"/>
                </a:lnTo>
                <a:lnTo>
                  <a:pt x="491" y="6"/>
                </a:lnTo>
                <a:lnTo>
                  <a:pt x="512" y="2"/>
                </a:lnTo>
                <a:lnTo>
                  <a:pt x="533" y="2"/>
                </a:lnTo>
                <a:lnTo>
                  <a:pt x="555" y="0"/>
                </a:lnTo>
                <a:lnTo>
                  <a:pt x="576" y="0"/>
                </a:lnTo>
                <a:lnTo>
                  <a:pt x="595" y="0"/>
                </a:lnTo>
                <a:lnTo>
                  <a:pt x="614" y="0"/>
                </a:lnTo>
                <a:lnTo>
                  <a:pt x="631" y="2"/>
                </a:lnTo>
                <a:lnTo>
                  <a:pt x="647" y="2"/>
                </a:lnTo>
                <a:lnTo>
                  <a:pt x="662" y="4"/>
                </a:lnTo>
                <a:lnTo>
                  <a:pt x="677" y="6"/>
                </a:lnTo>
                <a:lnTo>
                  <a:pt x="691" y="6"/>
                </a:lnTo>
                <a:lnTo>
                  <a:pt x="702" y="8"/>
                </a:lnTo>
                <a:lnTo>
                  <a:pt x="714" y="11"/>
                </a:lnTo>
                <a:lnTo>
                  <a:pt x="724" y="13"/>
                </a:lnTo>
                <a:lnTo>
                  <a:pt x="733" y="15"/>
                </a:lnTo>
                <a:lnTo>
                  <a:pt x="743" y="17"/>
                </a:lnTo>
                <a:lnTo>
                  <a:pt x="750" y="19"/>
                </a:lnTo>
                <a:lnTo>
                  <a:pt x="756" y="23"/>
                </a:lnTo>
                <a:lnTo>
                  <a:pt x="762" y="25"/>
                </a:lnTo>
                <a:lnTo>
                  <a:pt x="768" y="29"/>
                </a:lnTo>
                <a:lnTo>
                  <a:pt x="775" y="38"/>
                </a:lnTo>
                <a:lnTo>
                  <a:pt x="783" y="48"/>
                </a:lnTo>
                <a:lnTo>
                  <a:pt x="789" y="59"/>
                </a:lnTo>
                <a:lnTo>
                  <a:pt x="795" y="67"/>
                </a:lnTo>
                <a:lnTo>
                  <a:pt x="798" y="77"/>
                </a:lnTo>
                <a:lnTo>
                  <a:pt x="800" y="84"/>
                </a:lnTo>
                <a:lnTo>
                  <a:pt x="802" y="92"/>
                </a:lnTo>
                <a:lnTo>
                  <a:pt x="804" y="98"/>
                </a:lnTo>
                <a:lnTo>
                  <a:pt x="800" y="100"/>
                </a:lnTo>
                <a:lnTo>
                  <a:pt x="796" y="104"/>
                </a:lnTo>
                <a:lnTo>
                  <a:pt x="791" y="107"/>
                </a:lnTo>
                <a:lnTo>
                  <a:pt x="783" y="111"/>
                </a:lnTo>
                <a:lnTo>
                  <a:pt x="773" y="115"/>
                </a:lnTo>
                <a:lnTo>
                  <a:pt x="764" y="119"/>
                </a:lnTo>
                <a:lnTo>
                  <a:pt x="752" y="123"/>
                </a:lnTo>
                <a:lnTo>
                  <a:pt x="741" y="129"/>
                </a:lnTo>
                <a:lnTo>
                  <a:pt x="725" y="134"/>
                </a:lnTo>
                <a:lnTo>
                  <a:pt x="710" y="140"/>
                </a:lnTo>
                <a:lnTo>
                  <a:pt x="693" y="146"/>
                </a:lnTo>
                <a:lnTo>
                  <a:pt x="676" y="152"/>
                </a:lnTo>
                <a:lnTo>
                  <a:pt x="654" y="159"/>
                </a:lnTo>
                <a:lnTo>
                  <a:pt x="633" y="167"/>
                </a:lnTo>
                <a:lnTo>
                  <a:pt x="612" y="173"/>
                </a:lnTo>
                <a:lnTo>
                  <a:pt x="587" y="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19"/>
          <p:cNvSpPr/>
          <p:nvPr/>
        </p:nvSpPr>
        <p:spPr>
          <a:xfrm>
            <a:off x="6689880" y="3016080"/>
            <a:ext cx="1143000" cy="949320"/>
          </a:xfrm>
          <a:custGeom>
            <a:avLst/>
            <a:gdLst/>
            <a:ahLst/>
            <a:rect l="l" t="t" r="r" b="b"/>
            <a:pathLst>
              <a:path w="1440" h="1196">
                <a:moveTo>
                  <a:pt x="409" y="377"/>
                </a:moveTo>
                <a:lnTo>
                  <a:pt x="442" y="411"/>
                </a:lnTo>
                <a:lnTo>
                  <a:pt x="474" y="444"/>
                </a:lnTo>
                <a:lnTo>
                  <a:pt x="507" y="475"/>
                </a:lnTo>
                <a:lnTo>
                  <a:pt x="538" y="505"/>
                </a:lnTo>
                <a:lnTo>
                  <a:pt x="570" y="536"/>
                </a:lnTo>
                <a:lnTo>
                  <a:pt x="601" y="563"/>
                </a:lnTo>
                <a:lnTo>
                  <a:pt x="632" y="592"/>
                </a:lnTo>
                <a:lnTo>
                  <a:pt x="663" y="619"/>
                </a:lnTo>
                <a:lnTo>
                  <a:pt x="693" y="643"/>
                </a:lnTo>
                <a:lnTo>
                  <a:pt x="722" y="668"/>
                </a:lnTo>
                <a:lnTo>
                  <a:pt x="753" y="691"/>
                </a:lnTo>
                <a:lnTo>
                  <a:pt x="782" y="715"/>
                </a:lnTo>
                <a:lnTo>
                  <a:pt x="812" y="736"/>
                </a:lnTo>
                <a:lnTo>
                  <a:pt x="841" y="757"/>
                </a:lnTo>
                <a:lnTo>
                  <a:pt x="870" y="776"/>
                </a:lnTo>
                <a:lnTo>
                  <a:pt x="901" y="795"/>
                </a:lnTo>
                <a:lnTo>
                  <a:pt x="926" y="814"/>
                </a:lnTo>
                <a:lnTo>
                  <a:pt x="952" y="832"/>
                </a:lnTo>
                <a:lnTo>
                  <a:pt x="979" y="849"/>
                </a:lnTo>
                <a:lnTo>
                  <a:pt x="1004" y="864"/>
                </a:lnTo>
                <a:lnTo>
                  <a:pt x="1031" y="880"/>
                </a:lnTo>
                <a:lnTo>
                  <a:pt x="1056" y="895"/>
                </a:lnTo>
                <a:lnTo>
                  <a:pt x="1081" y="908"/>
                </a:lnTo>
                <a:lnTo>
                  <a:pt x="1104" y="922"/>
                </a:lnTo>
                <a:lnTo>
                  <a:pt x="1129" y="933"/>
                </a:lnTo>
                <a:lnTo>
                  <a:pt x="1152" y="947"/>
                </a:lnTo>
                <a:lnTo>
                  <a:pt x="1175" y="958"/>
                </a:lnTo>
                <a:lnTo>
                  <a:pt x="1198" y="968"/>
                </a:lnTo>
                <a:lnTo>
                  <a:pt x="1219" y="977"/>
                </a:lnTo>
                <a:lnTo>
                  <a:pt x="1242" y="987"/>
                </a:lnTo>
                <a:lnTo>
                  <a:pt x="1263" y="997"/>
                </a:lnTo>
                <a:lnTo>
                  <a:pt x="1283" y="1004"/>
                </a:lnTo>
                <a:lnTo>
                  <a:pt x="1302" y="1012"/>
                </a:lnTo>
                <a:lnTo>
                  <a:pt x="1321" y="1022"/>
                </a:lnTo>
                <a:lnTo>
                  <a:pt x="1338" y="1029"/>
                </a:lnTo>
                <a:lnTo>
                  <a:pt x="1354" y="1037"/>
                </a:lnTo>
                <a:lnTo>
                  <a:pt x="1367" y="1043"/>
                </a:lnTo>
                <a:lnTo>
                  <a:pt x="1381" y="1050"/>
                </a:lnTo>
                <a:lnTo>
                  <a:pt x="1392" y="1058"/>
                </a:lnTo>
                <a:lnTo>
                  <a:pt x="1402" y="1064"/>
                </a:lnTo>
                <a:lnTo>
                  <a:pt x="1411" y="1072"/>
                </a:lnTo>
                <a:lnTo>
                  <a:pt x="1419" y="1077"/>
                </a:lnTo>
                <a:lnTo>
                  <a:pt x="1425" y="1083"/>
                </a:lnTo>
                <a:lnTo>
                  <a:pt x="1430" y="1087"/>
                </a:lnTo>
                <a:lnTo>
                  <a:pt x="1434" y="1093"/>
                </a:lnTo>
                <a:lnTo>
                  <a:pt x="1436" y="1096"/>
                </a:lnTo>
                <a:lnTo>
                  <a:pt x="1438" y="1100"/>
                </a:lnTo>
                <a:lnTo>
                  <a:pt x="1440" y="1102"/>
                </a:lnTo>
                <a:lnTo>
                  <a:pt x="1438" y="1108"/>
                </a:lnTo>
                <a:lnTo>
                  <a:pt x="1436" y="1114"/>
                </a:lnTo>
                <a:lnTo>
                  <a:pt x="1432" y="1118"/>
                </a:lnTo>
                <a:lnTo>
                  <a:pt x="1425" y="1123"/>
                </a:lnTo>
                <a:lnTo>
                  <a:pt x="1417" y="1129"/>
                </a:lnTo>
                <a:lnTo>
                  <a:pt x="1407" y="1133"/>
                </a:lnTo>
                <a:lnTo>
                  <a:pt x="1396" y="1139"/>
                </a:lnTo>
                <a:lnTo>
                  <a:pt x="1384" y="1143"/>
                </a:lnTo>
                <a:lnTo>
                  <a:pt x="1369" y="1146"/>
                </a:lnTo>
                <a:lnTo>
                  <a:pt x="1352" y="1152"/>
                </a:lnTo>
                <a:lnTo>
                  <a:pt x="1333" y="1156"/>
                </a:lnTo>
                <a:lnTo>
                  <a:pt x="1313" y="1160"/>
                </a:lnTo>
                <a:lnTo>
                  <a:pt x="1290" y="1164"/>
                </a:lnTo>
                <a:lnTo>
                  <a:pt x="1279" y="1166"/>
                </a:lnTo>
                <a:lnTo>
                  <a:pt x="1265" y="1166"/>
                </a:lnTo>
                <a:lnTo>
                  <a:pt x="1254" y="1167"/>
                </a:lnTo>
                <a:lnTo>
                  <a:pt x="1240" y="1169"/>
                </a:lnTo>
                <a:lnTo>
                  <a:pt x="1225" y="1171"/>
                </a:lnTo>
                <a:lnTo>
                  <a:pt x="1212" y="1173"/>
                </a:lnTo>
                <a:lnTo>
                  <a:pt x="1183" y="1177"/>
                </a:lnTo>
                <a:lnTo>
                  <a:pt x="1156" y="1181"/>
                </a:lnTo>
                <a:lnTo>
                  <a:pt x="1131" y="1185"/>
                </a:lnTo>
                <a:lnTo>
                  <a:pt x="1106" y="1189"/>
                </a:lnTo>
                <a:lnTo>
                  <a:pt x="1083" y="1191"/>
                </a:lnTo>
                <a:lnTo>
                  <a:pt x="1062" y="1192"/>
                </a:lnTo>
                <a:lnTo>
                  <a:pt x="1041" y="1194"/>
                </a:lnTo>
                <a:lnTo>
                  <a:pt x="1023" y="1194"/>
                </a:lnTo>
                <a:lnTo>
                  <a:pt x="1006" y="1196"/>
                </a:lnTo>
                <a:lnTo>
                  <a:pt x="989" y="1196"/>
                </a:lnTo>
                <a:lnTo>
                  <a:pt x="975" y="1194"/>
                </a:lnTo>
                <a:lnTo>
                  <a:pt x="962" y="1194"/>
                </a:lnTo>
                <a:lnTo>
                  <a:pt x="951" y="1192"/>
                </a:lnTo>
                <a:lnTo>
                  <a:pt x="941" y="1191"/>
                </a:lnTo>
                <a:lnTo>
                  <a:pt x="931" y="1189"/>
                </a:lnTo>
                <a:lnTo>
                  <a:pt x="924" y="1187"/>
                </a:lnTo>
                <a:lnTo>
                  <a:pt x="914" y="1183"/>
                </a:lnTo>
                <a:lnTo>
                  <a:pt x="904" y="1177"/>
                </a:lnTo>
                <a:lnTo>
                  <a:pt x="895" y="1171"/>
                </a:lnTo>
                <a:lnTo>
                  <a:pt x="883" y="1164"/>
                </a:lnTo>
                <a:lnTo>
                  <a:pt x="872" y="1154"/>
                </a:lnTo>
                <a:lnTo>
                  <a:pt x="858" y="1143"/>
                </a:lnTo>
                <a:lnTo>
                  <a:pt x="845" y="1131"/>
                </a:lnTo>
                <a:lnTo>
                  <a:pt x="832" y="1118"/>
                </a:lnTo>
                <a:lnTo>
                  <a:pt x="818" y="1102"/>
                </a:lnTo>
                <a:lnTo>
                  <a:pt x="803" y="1085"/>
                </a:lnTo>
                <a:lnTo>
                  <a:pt x="785" y="1068"/>
                </a:lnTo>
                <a:lnTo>
                  <a:pt x="770" y="1048"/>
                </a:lnTo>
                <a:lnTo>
                  <a:pt x="753" y="1029"/>
                </a:lnTo>
                <a:lnTo>
                  <a:pt x="734" y="1008"/>
                </a:lnTo>
                <a:lnTo>
                  <a:pt x="716" y="987"/>
                </a:lnTo>
                <a:lnTo>
                  <a:pt x="695" y="964"/>
                </a:lnTo>
                <a:lnTo>
                  <a:pt x="686" y="951"/>
                </a:lnTo>
                <a:lnTo>
                  <a:pt x="674" y="937"/>
                </a:lnTo>
                <a:lnTo>
                  <a:pt x="663" y="924"/>
                </a:lnTo>
                <a:lnTo>
                  <a:pt x="649" y="906"/>
                </a:lnTo>
                <a:lnTo>
                  <a:pt x="636" y="891"/>
                </a:lnTo>
                <a:lnTo>
                  <a:pt x="622" y="874"/>
                </a:lnTo>
                <a:lnTo>
                  <a:pt x="607" y="855"/>
                </a:lnTo>
                <a:lnTo>
                  <a:pt x="592" y="835"/>
                </a:lnTo>
                <a:lnTo>
                  <a:pt x="576" y="814"/>
                </a:lnTo>
                <a:lnTo>
                  <a:pt x="559" y="793"/>
                </a:lnTo>
                <a:lnTo>
                  <a:pt x="542" y="770"/>
                </a:lnTo>
                <a:lnTo>
                  <a:pt x="522" y="747"/>
                </a:lnTo>
                <a:lnTo>
                  <a:pt x="503" y="722"/>
                </a:lnTo>
                <a:lnTo>
                  <a:pt x="484" y="697"/>
                </a:lnTo>
                <a:lnTo>
                  <a:pt x="463" y="670"/>
                </a:lnTo>
                <a:lnTo>
                  <a:pt x="442" y="643"/>
                </a:lnTo>
                <a:lnTo>
                  <a:pt x="419" y="615"/>
                </a:lnTo>
                <a:lnTo>
                  <a:pt x="396" y="584"/>
                </a:lnTo>
                <a:lnTo>
                  <a:pt x="373" y="555"/>
                </a:lnTo>
                <a:lnTo>
                  <a:pt x="348" y="523"/>
                </a:lnTo>
                <a:lnTo>
                  <a:pt x="323" y="490"/>
                </a:lnTo>
                <a:lnTo>
                  <a:pt x="298" y="457"/>
                </a:lnTo>
                <a:lnTo>
                  <a:pt x="271" y="423"/>
                </a:lnTo>
                <a:lnTo>
                  <a:pt x="244" y="386"/>
                </a:lnTo>
                <a:lnTo>
                  <a:pt x="215" y="352"/>
                </a:lnTo>
                <a:lnTo>
                  <a:pt x="186" y="313"/>
                </a:lnTo>
                <a:lnTo>
                  <a:pt x="158" y="275"/>
                </a:lnTo>
                <a:lnTo>
                  <a:pt x="127" y="237"/>
                </a:lnTo>
                <a:lnTo>
                  <a:pt x="96" y="196"/>
                </a:lnTo>
                <a:lnTo>
                  <a:pt x="66" y="154"/>
                </a:lnTo>
                <a:lnTo>
                  <a:pt x="33" y="112"/>
                </a:lnTo>
                <a:lnTo>
                  <a:pt x="0" y="70"/>
                </a:lnTo>
                <a:lnTo>
                  <a:pt x="31" y="35"/>
                </a:lnTo>
                <a:lnTo>
                  <a:pt x="60" y="0"/>
                </a:lnTo>
                <a:lnTo>
                  <a:pt x="71" y="14"/>
                </a:lnTo>
                <a:lnTo>
                  <a:pt x="85" y="29"/>
                </a:lnTo>
                <a:lnTo>
                  <a:pt x="100" y="45"/>
                </a:lnTo>
                <a:lnTo>
                  <a:pt x="117" y="62"/>
                </a:lnTo>
                <a:lnTo>
                  <a:pt x="135" y="81"/>
                </a:lnTo>
                <a:lnTo>
                  <a:pt x="152" y="102"/>
                </a:lnTo>
                <a:lnTo>
                  <a:pt x="173" y="123"/>
                </a:lnTo>
                <a:lnTo>
                  <a:pt x="194" y="146"/>
                </a:lnTo>
                <a:lnTo>
                  <a:pt x="217" y="169"/>
                </a:lnTo>
                <a:lnTo>
                  <a:pt x="240" y="196"/>
                </a:lnTo>
                <a:lnTo>
                  <a:pt x="265" y="223"/>
                </a:lnTo>
                <a:lnTo>
                  <a:pt x="292" y="250"/>
                </a:lnTo>
                <a:lnTo>
                  <a:pt x="319" y="281"/>
                </a:lnTo>
                <a:lnTo>
                  <a:pt x="348" y="311"/>
                </a:lnTo>
                <a:lnTo>
                  <a:pt x="378" y="342"/>
                </a:lnTo>
                <a:lnTo>
                  <a:pt x="409" y="3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20"/>
          <p:cNvSpPr/>
          <p:nvPr/>
        </p:nvSpPr>
        <p:spPr>
          <a:xfrm>
            <a:off x="5969160" y="2728800"/>
            <a:ext cx="866520" cy="1363680"/>
          </a:xfrm>
          <a:custGeom>
            <a:avLst/>
            <a:gdLst/>
            <a:ahLst/>
            <a:rect l="l" t="t" r="r" b="b"/>
            <a:pathLst>
              <a:path w="1092" h="1718">
                <a:moveTo>
                  <a:pt x="816" y="767"/>
                </a:moveTo>
                <a:lnTo>
                  <a:pt x="798" y="798"/>
                </a:lnTo>
                <a:lnTo>
                  <a:pt x="781" y="829"/>
                </a:lnTo>
                <a:lnTo>
                  <a:pt x="766" y="860"/>
                </a:lnTo>
                <a:lnTo>
                  <a:pt x="749" y="888"/>
                </a:lnTo>
                <a:lnTo>
                  <a:pt x="731" y="917"/>
                </a:lnTo>
                <a:lnTo>
                  <a:pt x="716" y="946"/>
                </a:lnTo>
                <a:lnTo>
                  <a:pt x="699" y="975"/>
                </a:lnTo>
                <a:lnTo>
                  <a:pt x="681" y="1002"/>
                </a:lnTo>
                <a:lnTo>
                  <a:pt x="664" y="1029"/>
                </a:lnTo>
                <a:lnTo>
                  <a:pt x="647" y="1055"/>
                </a:lnTo>
                <a:lnTo>
                  <a:pt x="631" y="1082"/>
                </a:lnTo>
                <a:lnTo>
                  <a:pt x="614" y="1107"/>
                </a:lnTo>
                <a:lnTo>
                  <a:pt x="597" y="1132"/>
                </a:lnTo>
                <a:lnTo>
                  <a:pt x="580" y="1157"/>
                </a:lnTo>
                <a:lnTo>
                  <a:pt x="562" y="1180"/>
                </a:lnTo>
                <a:lnTo>
                  <a:pt x="547" y="1205"/>
                </a:lnTo>
                <a:lnTo>
                  <a:pt x="530" y="1228"/>
                </a:lnTo>
                <a:lnTo>
                  <a:pt x="512" y="1249"/>
                </a:lnTo>
                <a:lnTo>
                  <a:pt x="495" y="1272"/>
                </a:lnTo>
                <a:lnTo>
                  <a:pt x="478" y="1293"/>
                </a:lnTo>
                <a:lnTo>
                  <a:pt x="461" y="1313"/>
                </a:lnTo>
                <a:lnTo>
                  <a:pt x="445" y="1334"/>
                </a:lnTo>
                <a:lnTo>
                  <a:pt x="428" y="1353"/>
                </a:lnTo>
                <a:lnTo>
                  <a:pt x="411" y="1372"/>
                </a:lnTo>
                <a:lnTo>
                  <a:pt x="393" y="1391"/>
                </a:lnTo>
                <a:lnTo>
                  <a:pt x="376" y="1409"/>
                </a:lnTo>
                <a:lnTo>
                  <a:pt x="361" y="1428"/>
                </a:lnTo>
                <a:lnTo>
                  <a:pt x="344" y="1443"/>
                </a:lnTo>
                <a:lnTo>
                  <a:pt x="326" y="1460"/>
                </a:lnTo>
                <a:lnTo>
                  <a:pt x="309" y="1476"/>
                </a:lnTo>
                <a:lnTo>
                  <a:pt x="292" y="1491"/>
                </a:lnTo>
                <a:lnTo>
                  <a:pt x="276" y="1506"/>
                </a:lnTo>
                <a:lnTo>
                  <a:pt x="259" y="1520"/>
                </a:lnTo>
                <a:lnTo>
                  <a:pt x="244" y="1535"/>
                </a:lnTo>
                <a:lnTo>
                  <a:pt x="228" y="1549"/>
                </a:lnTo>
                <a:lnTo>
                  <a:pt x="213" y="1560"/>
                </a:lnTo>
                <a:lnTo>
                  <a:pt x="200" y="1574"/>
                </a:lnTo>
                <a:lnTo>
                  <a:pt x="186" y="1585"/>
                </a:lnTo>
                <a:lnTo>
                  <a:pt x="173" y="1597"/>
                </a:lnTo>
                <a:lnTo>
                  <a:pt x="159" y="1606"/>
                </a:lnTo>
                <a:lnTo>
                  <a:pt x="148" y="1616"/>
                </a:lnTo>
                <a:lnTo>
                  <a:pt x="136" y="1627"/>
                </a:lnTo>
                <a:lnTo>
                  <a:pt x="125" y="1635"/>
                </a:lnTo>
                <a:lnTo>
                  <a:pt x="113" y="1645"/>
                </a:lnTo>
                <a:lnTo>
                  <a:pt x="104" y="1652"/>
                </a:lnTo>
                <a:lnTo>
                  <a:pt x="94" y="1660"/>
                </a:lnTo>
                <a:lnTo>
                  <a:pt x="84" y="1668"/>
                </a:lnTo>
                <a:lnTo>
                  <a:pt x="75" y="1675"/>
                </a:lnTo>
                <a:lnTo>
                  <a:pt x="67" y="1681"/>
                </a:lnTo>
                <a:lnTo>
                  <a:pt x="59" y="1687"/>
                </a:lnTo>
                <a:lnTo>
                  <a:pt x="52" y="1693"/>
                </a:lnTo>
                <a:lnTo>
                  <a:pt x="46" y="1696"/>
                </a:lnTo>
                <a:lnTo>
                  <a:pt x="40" y="1700"/>
                </a:lnTo>
                <a:lnTo>
                  <a:pt x="34" y="1704"/>
                </a:lnTo>
                <a:lnTo>
                  <a:pt x="29" y="1708"/>
                </a:lnTo>
                <a:lnTo>
                  <a:pt x="23" y="1710"/>
                </a:lnTo>
                <a:lnTo>
                  <a:pt x="19" y="1714"/>
                </a:lnTo>
                <a:lnTo>
                  <a:pt x="15" y="1716"/>
                </a:lnTo>
                <a:lnTo>
                  <a:pt x="11" y="1716"/>
                </a:lnTo>
                <a:lnTo>
                  <a:pt x="8" y="1718"/>
                </a:lnTo>
                <a:lnTo>
                  <a:pt x="6" y="1718"/>
                </a:lnTo>
                <a:lnTo>
                  <a:pt x="4" y="1718"/>
                </a:lnTo>
                <a:lnTo>
                  <a:pt x="2" y="1718"/>
                </a:lnTo>
                <a:lnTo>
                  <a:pt x="0" y="1716"/>
                </a:lnTo>
                <a:lnTo>
                  <a:pt x="0" y="1714"/>
                </a:lnTo>
                <a:lnTo>
                  <a:pt x="0" y="1712"/>
                </a:lnTo>
                <a:lnTo>
                  <a:pt x="0" y="1710"/>
                </a:lnTo>
                <a:lnTo>
                  <a:pt x="0" y="1706"/>
                </a:lnTo>
                <a:lnTo>
                  <a:pt x="2" y="1702"/>
                </a:lnTo>
                <a:lnTo>
                  <a:pt x="4" y="1698"/>
                </a:lnTo>
                <a:lnTo>
                  <a:pt x="6" y="1695"/>
                </a:lnTo>
                <a:lnTo>
                  <a:pt x="9" y="1689"/>
                </a:lnTo>
                <a:lnTo>
                  <a:pt x="13" y="1683"/>
                </a:lnTo>
                <a:lnTo>
                  <a:pt x="17" y="1677"/>
                </a:lnTo>
                <a:lnTo>
                  <a:pt x="21" y="1672"/>
                </a:lnTo>
                <a:lnTo>
                  <a:pt x="27" y="1664"/>
                </a:lnTo>
                <a:lnTo>
                  <a:pt x="33" y="1656"/>
                </a:lnTo>
                <a:lnTo>
                  <a:pt x="38" y="1647"/>
                </a:lnTo>
                <a:lnTo>
                  <a:pt x="44" y="1639"/>
                </a:lnTo>
                <a:lnTo>
                  <a:pt x="52" y="1629"/>
                </a:lnTo>
                <a:lnTo>
                  <a:pt x="59" y="1620"/>
                </a:lnTo>
                <a:lnTo>
                  <a:pt x="67" y="1608"/>
                </a:lnTo>
                <a:lnTo>
                  <a:pt x="77" y="1597"/>
                </a:lnTo>
                <a:lnTo>
                  <a:pt x="84" y="1585"/>
                </a:lnTo>
                <a:lnTo>
                  <a:pt x="94" y="1574"/>
                </a:lnTo>
                <a:lnTo>
                  <a:pt x="105" y="1560"/>
                </a:lnTo>
                <a:lnTo>
                  <a:pt x="115" y="1547"/>
                </a:lnTo>
                <a:lnTo>
                  <a:pt x="127" y="1531"/>
                </a:lnTo>
                <a:lnTo>
                  <a:pt x="136" y="1516"/>
                </a:lnTo>
                <a:lnTo>
                  <a:pt x="150" y="1501"/>
                </a:lnTo>
                <a:lnTo>
                  <a:pt x="161" y="1485"/>
                </a:lnTo>
                <a:lnTo>
                  <a:pt x="173" y="1468"/>
                </a:lnTo>
                <a:lnTo>
                  <a:pt x="186" y="1451"/>
                </a:lnTo>
                <a:lnTo>
                  <a:pt x="200" y="1434"/>
                </a:lnTo>
                <a:lnTo>
                  <a:pt x="213" y="1414"/>
                </a:lnTo>
                <a:lnTo>
                  <a:pt x="228" y="1395"/>
                </a:lnTo>
                <a:lnTo>
                  <a:pt x="257" y="1359"/>
                </a:lnTo>
                <a:lnTo>
                  <a:pt x="284" y="1320"/>
                </a:lnTo>
                <a:lnTo>
                  <a:pt x="313" y="1284"/>
                </a:lnTo>
                <a:lnTo>
                  <a:pt x="340" y="1247"/>
                </a:lnTo>
                <a:lnTo>
                  <a:pt x="367" y="1211"/>
                </a:lnTo>
                <a:lnTo>
                  <a:pt x="392" y="1174"/>
                </a:lnTo>
                <a:lnTo>
                  <a:pt x="418" y="1136"/>
                </a:lnTo>
                <a:lnTo>
                  <a:pt x="441" y="1100"/>
                </a:lnTo>
                <a:lnTo>
                  <a:pt x="466" y="1063"/>
                </a:lnTo>
                <a:lnTo>
                  <a:pt x="489" y="1025"/>
                </a:lnTo>
                <a:lnTo>
                  <a:pt x="512" y="986"/>
                </a:lnTo>
                <a:lnTo>
                  <a:pt x="534" y="950"/>
                </a:lnTo>
                <a:lnTo>
                  <a:pt x="555" y="911"/>
                </a:lnTo>
                <a:lnTo>
                  <a:pt x="574" y="873"/>
                </a:lnTo>
                <a:lnTo>
                  <a:pt x="593" y="833"/>
                </a:lnTo>
                <a:lnTo>
                  <a:pt x="612" y="794"/>
                </a:lnTo>
                <a:lnTo>
                  <a:pt x="630" y="758"/>
                </a:lnTo>
                <a:lnTo>
                  <a:pt x="647" y="723"/>
                </a:lnTo>
                <a:lnTo>
                  <a:pt x="662" y="689"/>
                </a:lnTo>
                <a:lnTo>
                  <a:pt x="678" y="656"/>
                </a:lnTo>
                <a:lnTo>
                  <a:pt x="693" y="624"/>
                </a:lnTo>
                <a:lnTo>
                  <a:pt x="708" y="591"/>
                </a:lnTo>
                <a:lnTo>
                  <a:pt x="722" y="560"/>
                </a:lnTo>
                <a:lnTo>
                  <a:pt x="735" y="531"/>
                </a:lnTo>
                <a:lnTo>
                  <a:pt x="749" y="503"/>
                </a:lnTo>
                <a:lnTo>
                  <a:pt x="760" y="474"/>
                </a:lnTo>
                <a:lnTo>
                  <a:pt x="772" y="447"/>
                </a:lnTo>
                <a:lnTo>
                  <a:pt x="781" y="420"/>
                </a:lnTo>
                <a:lnTo>
                  <a:pt x="791" y="393"/>
                </a:lnTo>
                <a:lnTo>
                  <a:pt x="800" y="368"/>
                </a:lnTo>
                <a:lnTo>
                  <a:pt x="808" y="343"/>
                </a:lnTo>
                <a:lnTo>
                  <a:pt x="816" y="320"/>
                </a:lnTo>
                <a:lnTo>
                  <a:pt x="822" y="297"/>
                </a:lnTo>
                <a:lnTo>
                  <a:pt x="827" y="274"/>
                </a:lnTo>
                <a:lnTo>
                  <a:pt x="833" y="253"/>
                </a:lnTo>
                <a:lnTo>
                  <a:pt x="837" y="234"/>
                </a:lnTo>
                <a:lnTo>
                  <a:pt x="843" y="215"/>
                </a:lnTo>
                <a:lnTo>
                  <a:pt x="845" y="195"/>
                </a:lnTo>
                <a:lnTo>
                  <a:pt x="848" y="178"/>
                </a:lnTo>
                <a:lnTo>
                  <a:pt x="850" y="163"/>
                </a:lnTo>
                <a:lnTo>
                  <a:pt x="852" y="147"/>
                </a:lnTo>
                <a:lnTo>
                  <a:pt x="854" y="134"/>
                </a:lnTo>
                <a:lnTo>
                  <a:pt x="856" y="121"/>
                </a:lnTo>
                <a:lnTo>
                  <a:pt x="856" y="107"/>
                </a:lnTo>
                <a:lnTo>
                  <a:pt x="856" y="98"/>
                </a:lnTo>
                <a:lnTo>
                  <a:pt x="854" y="86"/>
                </a:lnTo>
                <a:lnTo>
                  <a:pt x="854" y="76"/>
                </a:lnTo>
                <a:lnTo>
                  <a:pt x="852" y="69"/>
                </a:lnTo>
                <a:lnTo>
                  <a:pt x="846" y="61"/>
                </a:lnTo>
                <a:lnTo>
                  <a:pt x="845" y="53"/>
                </a:lnTo>
                <a:lnTo>
                  <a:pt x="841" y="48"/>
                </a:lnTo>
                <a:lnTo>
                  <a:pt x="839" y="42"/>
                </a:lnTo>
                <a:lnTo>
                  <a:pt x="837" y="36"/>
                </a:lnTo>
                <a:lnTo>
                  <a:pt x="835" y="32"/>
                </a:lnTo>
                <a:lnTo>
                  <a:pt x="835" y="27"/>
                </a:lnTo>
                <a:lnTo>
                  <a:pt x="835" y="23"/>
                </a:lnTo>
                <a:lnTo>
                  <a:pt x="837" y="19"/>
                </a:lnTo>
                <a:lnTo>
                  <a:pt x="837" y="17"/>
                </a:lnTo>
                <a:lnTo>
                  <a:pt x="841" y="13"/>
                </a:lnTo>
                <a:lnTo>
                  <a:pt x="843" y="9"/>
                </a:lnTo>
                <a:lnTo>
                  <a:pt x="846" y="7"/>
                </a:lnTo>
                <a:lnTo>
                  <a:pt x="852" y="4"/>
                </a:lnTo>
                <a:lnTo>
                  <a:pt x="858" y="2"/>
                </a:lnTo>
                <a:lnTo>
                  <a:pt x="864" y="0"/>
                </a:lnTo>
                <a:lnTo>
                  <a:pt x="870" y="0"/>
                </a:lnTo>
                <a:lnTo>
                  <a:pt x="877" y="0"/>
                </a:lnTo>
                <a:lnTo>
                  <a:pt x="885" y="2"/>
                </a:lnTo>
                <a:lnTo>
                  <a:pt x="893" y="4"/>
                </a:lnTo>
                <a:lnTo>
                  <a:pt x="900" y="7"/>
                </a:lnTo>
                <a:lnTo>
                  <a:pt x="910" y="9"/>
                </a:lnTo>
                <a:lnTo>
                  <a:pt x="918" y="13"/>
                </a:lnTo>
                <a:lnTo>
                  <a:pt x="927" y="17"/>
                </a:lnTo>
                <a:lnTo>
                  <a:pt x="935" y="23"/>
                </a:lnTo>
                <a:lnTo>
                  <a:pt x="944" y="28"/>
                </a:lnTo>
                <a:lnTo>
                  <a:pt x="965" y="40"/>
                </a:lnTo>
                <a:lnTo>
                  <a:pt x="985" y="53"/>
                </a:lnTo>
                <a:lnTo>
                  <a:pt x="1008" y="69"/>
                </a:lnTo>
                <a:lnTo>
                  <a:pt x="1017" y="76"/>
                </a:lnTo>
                <a:lnTo>
                  <a:pt x="1029" y="84"/>
                </a:lnTo>
                <a:lnTo>
                  <a:pt x="1037" y="92"/>
                </a:lnTo>
                <a:lnTo>
                  <a:pt x="1046" y="99"/>
                </a:lnTo>
                <a:lnTo>
                  <a:pt x="1054" y="109"/>
                </a:lnTo>
                <a:lnTo>
                  <a:pt x="1060" y="117"/>
                </a:lnTo>
                <a:lnTo>
                  <a:pt x="1065" y="124"/>
                </a:lnTo>
                <a:lnTo>
                  <a:pt x="1071" y="132"/>
                </a:lnTo>
                <a:lnTo>
                  <a:pt x="1077" y="140"/>
                </a:lnTo>
                <a:lnTo>
                  <a:pt x="1081" y="147"/>
                </a:lnTo>
                <a:lnTo>
                  <a:pt x="1085" y="155"/>
                </a:lnTo>
                <a:lnTo>
                  <a:pt x="1086" y="163"/>
                </a:lnTo>
                <a:lnTo>
                  <a:pt x="1088" y="171"/>
                </a:lnTo>
                <a:lnTo>
                  <a:pt x="1090" y="178"/>
                </a:lnTo>
                <a:lnTo>
                  <a:pt x="1090" y="186"/>
                </a:lnTo>
                <a:lnTo>
                  <a:pt x="1092" y="195"/>
                </a:lnTo>
                <a:lnTo>
                  <a:pt x="1090" y="199"/>
                </a:lnTo>
                <a:lnTo>
                  <a:pt x="1090" y="203"/>
                </a:lnTo>
                <a:lnTo>
                  <a:pt x="1088" y="211"/>
                </a:lnTo>
                <a:lnTo>
                  <a:pt x="1086" y="217"/>
                </a:lnTo>
                <a:lnTo>
                  <a:pt x="1085" y="224"/>
                </a:lnTo>
                <a:lnTo>
                  <a:pt x="1081" y="232"/>
                </a:lnTo>
                <a:lnTo>
                  <a:pt x="1077" y="242"/>
                </a:lnTo>
                <a:lnTo>
                  <a:pt x="1073" y="253"/>
                </a:lnTo>
                <a:lnTo>
                  <a:pt x="1069" y="263"/>
                </a:lnTo>
                <a:lnTo>
                  <a:pt x="1063" y="276"/>
                </a:lnTo>
                <a:lnTo>
                  <a:pt x="1058" y="288"/>
                </a:lnTo>
                <a:lnTo>
                  <a:pt x="1050" y="301"/>
                </a:lnTo>
                <a:lnTo>
                  <a:pt x="1044" y="316"/>
                </a:lnTo>
                <a:lnTo>
                  <a:pt x="1037" y="332"/>
                </a:lnTo>
                <a:lnTo>
                  <a:pt x="1029" y="347"/>
                </a:lnTo>
                <a:lnTo>
                  <a:pt x="1019" y="364"/>
                </a:lnTo>
                <a:lnTo>
                  <a:pt x="1012" y="384"/>
                </a:lnTo>
                <a:lnTo>
                  <a:pt x="1002" y="403"/>
                </a:lnTo>
                <a:lnTo>
                  <a:pt x="990" y="422"/>
                </a:lnTo>
                <a:lnTo>
                  <a:pt x="981" y="443"/>
                </a:lnTo>
                <a:lnTo>
                  <a:pt x="969" y="464"/>
                </a:lnTo>
                <a:lnTo>
                  <a:pt x="958" y="487"/>
                </a:lnTo>
                <a:lnTo>
                  <a:pt x="946" y="510"/>
                </a:lnTo>
                <a:lnTo>
                  <a:pt x="933" y="535"/>
                </a:lnTo>
                <a:lnTo>
                  <a:pt x="919" y="560"/>
                </a:lnTo>
                <a:lnTo>
                  <a:pt x="906" y="587"/>
                </a:lnTo>
                <a:lnTo>
                  <a:pt x="893" y="614"/>
                </a:lnTo>
                <a:lnTo>
                  <a:pt x="877" y="643"/>
                </a:lnTo>
                <a:lnTo>
                  <a:pt x="864" y="673"/>
                </a:lnTo>
                <a:lnTo>
                  <a:pt x="848" y="702"/>
                </a:lnTo>
                <a:lnTo>
                  <a:pt x="831" y="735"/>
                </a:lnTo>
                <a:lnTo>
                  <a:pt x="816" y="7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21"/>
          <p:cNvSpPr/>
          <p:nvPr/>
        </p:nvSpPr>
        <p:spPr>
          <a:xfrm>
            <a:off x="5556240" y="3890880"/>
            <a:ext cx="484200" cy="1020960"/>
          </a:xfrm>
          <a:custGeom>
            <a:avLst/>
            <a:gdLst/>
            <a:ahLst/>
            <a:rect l="l" t="t" r="r" b="b"/>
            <a:pathLst>
              <a:path w="608" h="1286">
                <a:moveTo>
                  <a:pt x="599" y="98"/>
                </a:moveTo>
                <a:lnTo>
                  <a:pt x="599" y="102"/>
                </a:lnTo>
                <a:lnTo>
                  <a:pt x="597" y="108"/>
                </a:lnTo>
                <a:lnTo>
                  <a:pt x="595" y="113"/>
                </a:lnTo>
                <a:lnTo>
                  <a:pt x="593" y="121"/>
                </a:lnTo>
                <a:lnTo>
                  <a:pt x="589" y="131"/>
                </a:lnTo>
                <a:lnTo>
                  <a:pt x="587" y="138"/>
                </a:lnTo>
                <a:lnTo>
                  <a:pt x="584" y="150"/>
                </a:lnTo>
                <a:lnTo>
                  <a:pt x="582" y="161"/>
                </a:lnTo>
                <a:lnTo>
                  <a:pt x="578" y="173"/>
                </a:lnTo>
                <a:lnTo>
                  <a:pt x="574" y="186"/>
                </a:lnTo>
                <a:lnTo>
                  <a:pt x="570" y="200"/>
                </a:lnTo>
                <a:lnTo>
                  <a:pt x="564" y="215"/>
                </a:lnTo>
                <a:lnTo>
                  <a:pt x="561" y="231"/>
                </a:lnTo>
                <a:lnTo>
                  <a:pt x="555" y="248"/>
                </a:lnTo>
                <a:lnTo>
                  <a:pt x="551" y="265"/>
                </a:lnTo>
                <a:lnTo>
                  <a:pt x="545" y="284"/>
                </a:lnTo>
                <a:lnTo>
                  <a:pt x="539" y="304"/>
                </a:lnTo>
                <a:lnTo>
                  <a:pt x="532" y="325"/>
                </a:lnTo>
                <a:lnTo>
                  <a:pt x="526" y="346"/>
                </a:lnTo>
                <a:lnTo>
                  <a:pt x="520" y="369"/>
                </a:lnTo>
                <a:lnTo>
                  <a:pt x="513" y="392"/>
                </a:lnTo>
                <a:lnTo>
                  <a:pt x="505" y="417"/>
                </a:lnTo>
                <a:lnTo>
                  <a:pt x="499" y="442"/>
                </a:lnTo>
                <a:lnTo>
                  <a:pt x="489" y="469"/>
                </a:lnTo>
                <a:lnTo>
                  <a:pt x="482" y="495"/>
                </a:lnTo>
                <a:lnTo>
                  <a:pt x="474" y="524"/>
                </a:lnTo>
                <a:lnTo>
                  <a:pt x="466" y="553"/>
                </a:lnTo>
                <a:lnTo>
                  <a:pt x="457" y="584"/>
                </a:lnTo>
                <a:lnTo>
                  <a:pt x="447" y="614"/>
                </a:lnTo>
                <a:lnTo>
                  <a:pt x="440" y="645"/>
                </a:lnTo>
                <a:lnTo>
                  <a:pt x="430" y="678"/>
                </a:lnTo>
                <a:lnTo>
                  <a:pt x="420" y="712"/>
                </a:lnTo>
                <a:lnTo>
                  <a:pt x="409" y="747"/>
                </a:lnTo>
                <a:lnTo>
                  <a:pt x="397" y="781"/>
                </a:lnTo>
                <a:lnTo>
                  <a:pt x="388" y="814"/>
                </a:lnTo>
                <a:lnTo>
                  <a:pt x="378" y="845"/>
                </a:lnTo>
                <a:lnTo>
                  <a:pt x="367" y="876"/>
                </a:lnTo>
                <a:lnTo>
                  <a:pt x="357" y="904"/>
                </a:lnTo>
                <a:lnTo>
                  <a:pt x="347" y="933"/>
                </a:lnTo>
                <a:lnTo>
                  <a:pt x="340" y="960"/>
                </a:lnTo>
                <a:lnTo>
                  <a:pt x="330" y="985"/>
                </a:lnTo>
                <a:lnTo>
                  <a:pt x="322" y="1010"/>
                </a:lnTo>
                <a:lnTo>
                  <a:pt x="313" y="1033"/>
                </a:lnTo>
                <a:lnTo>
                  <a:pt x="305" y="1056"/>
                </a:lnTo>
                <a:lnTo>
                  <a:pt x="298" y="1077"/>
                </a:lnTo>
                <a:lnTo>
                  <a:pt x="290" y="1098"/>
                </a:lnTo>
                <a:lnTo>
                  <a:pt x="284" y="1117"/>
                </a:lnTo>
                <a:lnTo>
                  <a:pt x="276" y="1135"/>
                </a:lnTo>
                <a:lnTo>
                  <a:pt x="269" y="1152"/>
                </a:lnTo>
                <a:lnTo>
                  <a:pt x="263" y="1167"/>
                </a:lnTo>
                <a:lnTo>
                  <a:pt x="257" y="1183"/>
                </a:lnTo>
                <a:lnTo>
                  <a:pt x="251" y="1196"/>
                </a:lnTo>
                <a:lnTo>
                  <a:pt x="246" y="1210"/>
                </a:lnTo>
                <a:lnTo>
                  <a:pt x="240" y="1221"/>
                </a:lnTo>
                <a:lnTo>
                  <a:pt x="236" y="1233"/>
                </a:lnTo>
                <a:lnTo>
                  <a:pt x="230" y="1242"/>
                </a:lnTo>
                <a:lnTo>
                  <a:pt x="226" y="1252"/>
                </a:lnTo>
                <a:lnTo>
                  <a:pt x="223" y="1259"/>
                </a:lnTo>
                <a:lnTo>
                  <a:pt x="219" y="1265"/>
                </a:lnTo>
                <a:lnTo>
                  <a:pt x="215" y="1271"/>
                </a:lnTo>
                <a:lnTo>
                  <a:pt x="211" y="1277"/>
                </a:lnTo>
                <a:lnTo>
                  <a:pt x="209" y="1281"/>
                </a:lnTo>
                <a:lnTo>
                  <a:pt x="205" y="1282"/>
                </a:lnTo>
                <a:lnTo>
                  <a:pt x="203" y="1284"/>
                </a:lnTo>
                <a:lnTo>
                  <a:pt x="198" y="1286"/>
                </a:lnTo>
                <a:lnTo>
                  <a:pt x="190" y="1286"/>
                </a:lnTo>
                <a:lnTo>
                  <a:pt x="182" y="1284"/>
                </a:lnTo>
                <a:lnTo>
                  <a:pt x="177" y="1282"/>
                </a:lnTo>
                <a:lnTo>
                  <a:pt x="169" y="1279"/>
                </a:lnTo>
                <a:lnTo>
                  <a:pt x="163" y="1273"/>
                </a:lnTo>
                <a:lnTo>
                  <a:pt x="155" y="1265"/>
                </a:lnTo>
                <a:lnTo>
                  <a:pt x="148" y="1257"/>
                </a:lnTo>
                <a:lnTo>
                  <a:pt x="140" y="1248"/>
                </a:lnTo>
                <a:lnTo>
                  <a:pt x="132" y="1236"/>
                </a:lnTo>
                <a:lnTo>
                  <a:pt x="125" y="1223"/>
                </a:lnTo>
                <a:lnTo>
                  <a:pt x="117" y="1210"/>
                </a:lnTo>
                <a:lnTo>
                  <a:pt x="109" y="1196"/>
                </a:lnTo>
                <a:lnTo>
                  <a:pt x="102" y="1181"/>
                </a:lnTo>
                <a:lnTo>
                  <a:pt x="92" y="1163"/>
                </a:lnTo>
                <a:lnTo>
                  <a:pt x="84" y="1146"/>
                </a:lnTo>
                <a:lnTo>
                  <a:pt x="73" y="1127"/>
                </a:lnTo>
                <a:lnTo>
                  <a:pt x="63" y="1110"/>
                </a:lnTo>
                <a:lnTo>
                  <a:pt x="54" y="1092"/>
                </a:lnTo>
                <a:lnTo>
                  <a:pt x="46" y="1077"/>
                </a:lnTo>
                <a:lnTo>
                  <a:pt x="38" y="1062"/>
                </a:lnTo>
                <a:lnTo>
                  <a:pt x="31" y="1046"/>
                </a:lnTo>
                <a:lnTo>
                  <a:pt x="25" y="1033"/>
                </a:lnTo>
                <a:lnTo>
                  <a:pt x="19" y="1019"/>
                </a:lnTo>
                <a:lnTo>
                  <a:pt x="15" y="1006"/>
                </a:lnTo>
                <a:lnTo>
                  <a:pt x="11" y="995"/>
                </a:lnTo>
                <a:lnTo>
                  <a:pt x="8" y="983"/>
                </a:lnTo>
                <a:lnTo>
                  <a:pt x="4" y="971"/>
                </a:lnTo>
                <a:lnTo>
                  <a:pt x="2" y="962"/>
                </a:lnTo>
                <a:lnTo>
                  <a:pt x="0" y="952"/>
                </a:lnTo>
                <a:lnTo>
                  <a:pt x="0" y="945"/>
                </a:lnTo>
                <a:lnTo>
                  <a:pt x="0" y="935"/>
                </a:lnTo>
                <a:lnTo>
                  <a:pt x="0" y="927"/>
                </a:lnTo>
                <a:lnTo>
                  <a:pt x="0" y="922"/>
                </a:lnTo>
                <a:lnTo>
                  <a:pt x="0" y="916"/>
                </a:lnTo>
                <a:lnTo>
                  <a:pt x="2" y="910"/>
                </a:lnTo>
                <a:lnTo>
                  <a:pt x="4" y="904"/>
                </a:lnTo>
                <a:lnTo>
                  <a:pt x="6" y="900"/>
                </a:lnTo>
                <a:lnTo>
                  <a:pt x="8" y="897"/>
                </a:lnTo>
                <a:lnTo>
                  <a:pt x="10" y="893"/>
                </a:lnTo>
                <a:lnTo>
                  <a:pt x="13" y="891"/>
                </a:lnTo>
                <a:lnTo>
                  <a:pt x="17" y="889"/>
                </a:lnTo>
                <a:lnTo>
                  <a:pt x="21" y="889"/>
                </a:lnTo>
                <a:lnTo>
                  <a:pt x="25" y="889"/>
                </a:lnTo>
                <a:lnTo>
                  <a:pt x="31" y="889"/>
                </a:lnTo>
                <a:lnTo>
                  <a:pt x="35" y="889"/>
                </a:lnTo>
                <a:lnTo>
                  <a:pt x="40" y="891"/>
                </a:lnTo>
                <a:lnTo>
                  <a:pt x="48" y="895"/>
                </a:lnTo>
                <a:lnTo>
                  <a:pt x="56" y="899"/>
                </a:lnTo>
                <a:lnTo>
                  <a:pt x="65" y="902"/>
                </a:lnTo>
                <a:lnTo>
                  <a:pt x="75" y="904"/>
                </a:lnTo>
                <a:lnTo>
                  <a:pt x="83" y="904"/>
                </a:lnTo>
                <a:lnTo>
                  <a:pt x="90" y="904"/>
                </a:lnTo>
                <a:lnTo>
                  <a:pt x="96" y="902"/>
                </a:lnTo>
                <a:lnTo>
                  <a:pt x="102" y="899"/>
                </a:lnTo>
                <a:lnTo>
                  <a:pt x="107" y="895"/>
                </a:lnTo>
                <a:lnTo>
                  <a:pt x="109" y="893"/>
                </a:lnTo>
                <a:lnTo>
                  <a:pt x="111" y="893"/>
                </a:lnTo>
                <a:lnTo>
                  <a:pt x="113" y="889"/>
                </a:lnTo>
                <a:lnTo>
                  <a:pt x="115" y="887"/>
                </a:lnTo>
                <a:lnTo>
                  <a:pt x="117" y="883"/>
                </a:lnTo>
                <a:lnTo>
                  <a:pt x="121" y="877"/>
                </a:lnTo>
                <a:lnTo>
                  <a:pt x="125" y="872"/>
                </a:lnTo>
                <a:lnTo>
                  <a:pt x="129" y="866"/>
                </a:lnTo>
                <a:lnTo>
                  <a:pt x="132" y="858"/>
                </a:lnTo>
                <a:lnTo>
                  <a:pt x="138" y="849"/>
                </a:lnTo>
                <a:lnTo>
                  <a:pt x="142" y="841"/>
                </a:lnTo>
                <a:lnTo>
                  <a:pt x="148" y="829"/>
                </a:lnTo>
                <a:lnTo>
                  <a:pt x="154" y="820"/>
                </a:lnTo>
                <a:lnTo>
                  <a:pt x="161" y="806"/>
                </a:lnTo>
                <a:lnTo>
                  <a:pt x="167" y="795"/>
                </a:lnTo>
                <a:lnTo>
                  <a:pt x="175" y="781"/>
                </a:lnTo>
                <a:lnTo>
                  <a:pt x="182" y="766"/>
                </a:lnTo>
                <a:lnTo>
                  <a:pt x="190" y="751"/>
                </a:lnTo>
                <a:lnTo>
                  <a:pt x="198" y="735"/>
                </a:lnTo>
                <a:lnTo>
                  <a:pt x="207" y="718"/>
                </a:lnTo>
                <a:lnTo>
                  <a:pt x="217" y="701"/>
                </a:lnTo>
                <a:lnTo>
                  <a:pt x="226" y="682"/>
                </a:lnTo>
                <a:lnTo>
                  <a:pt x="236" y="662"/>
                </a:lnTo>
                <a:lnTo>
                  <a:pt x="248" y="641"/>
                </a:lnTo>
                <a:lnTo>
                  <a:pt x="257" y="620"/>
                </a:lnTo>
                <a:lnTo>
                  <a:pt x="269" y="597"/>
                </a:lnTo>
                <a:lnTo>
                  <a:pt x="282" y="574"/>
                </a:lnTo>
                <a:lnTo>
                  <a:pt x="294" y="551"/>
                </a:lnTo>
                <a:lnTo>
                  <a:pt x="307" y="526"/>
                </a:lnTo>
                <a:lnTo>
                  <a:pt x="321" y="501"/>
                </a:lnTo>
                <a:lnTo>
                  <a:pt x="334" y="474"/>
                </a:lnTo>
                <a:lnTo>
                  <a:pt x="347" y="447"/>
                </a:lnTo>
                <a:lnTo>
                  <a:pt x="361" y="421"/>
                </a:lnTo>
                <a:lnTo>
                  <a:pt x="374" y="394"/>
                </a:lnTo>
                <a:lnTo>
                  <a:pt x="386" y="369"/>
                </a:lnTo>
                <a:lnTo>
                  <a:pt x="397" y="344"/>
                </a:lnTo>
                <a:lnTo>
                  <a:pt x="409" y="319"/>
                </a:lnTo>
                <a:lnTo>
                  <a:pt x="420" y="296"/>
                </a:lnTo>
                <a:lnTo>
                  <a:pt x="432" y="275"/>
                </a:lnTo>
                <a:lnTo>
                  <a:pt x="443" y="254"/>
                </a:lnTo>
                <a:lnTo>
                  <a:pt x="453" y="232"/>
                </a:lnTo>
                <a:lnTo>
                  <a:pt x="465" y="213"/>
                </a:lnTo>
                <a:lnTo>
                  <a:pt x="474" y="194"/>
                </a:lnTo>
                <a:lnTo>
                  <a:pt x="484" y="177"/>
                </a:lnTo>
                <a:lnTo>
                  <a:pt x="491" y="160"/>
                </a:lnTo>
                <a:lnTo>
                  <a:pt x="501" y="142"/>
                </a:lnTo>
                <a:lnTo>
                  <a:pt x="509" y="127"/>
                </a:lnTo>
                <a:lnTo>
                  <a:pt x="518" y="113"/>
                </a:lnTo>
                <a:lnTo>
                  <a:pt x="526" y="100"/>
                </a:lnTo>
                <a:lnTo>
                  <a:pt x="534" y="87"/>
                </a:lnTo>
                <a:lnTo>
                  <a:pt x="539" y="75"/>
                </a:lnTo>
                <a:lnTo>
                  <a:pt x="547" y="64"/>
                </a:lnTo>
                <a:lnTo>
                  <a:pt x="553" y="54"/>
                </a:lnTo>
                <a:lnTo>
                  <a:pt x="559" y="44"/>
                </a:lnTo>
                <a:lnTo>
                  <a:pt x="564" y="37"/>
                </a:lnTo>
                <a:lnTo>
                  <a:pt x="570" y="29"/>
                </a:lnTo>
                <a:lnTo>
                  <a:pt x="574" y="21"/>
                </a:lnTo>
                <a:lnTo>
                  <a:pt x="580" y="16"/>
                </a:lnTo>
                <a:lnTo>
                  <a:pt x="584" y="12"/>
                </a:lnTo>
                <a:lnTo>
                  <a:pt x="587" y="8"/>
                </a:lnTo>
                <a:lnTo>
                  <a:pt x="591" y="4"/>
                </a:lnTo>
                <a:lnTo>
                  <a:pt x="595" y="2"/>
                </a:lnTo>
                <a:lnTo>
                  <a:pt x="597" y="0"/>
                </a:lnTo>
                <a:lnTo>
                  <a:pt x="599" y="0"/>
                </a:lnTo>
                <a:lnTo>
                  <a:pt x="603" y="6"/>
                </a:lnTo>
                <a:lnTo>
                  <a:pt x="607" y="14"/>
                </a:lnTo>
                <a:lnTo>
                  <a:pt x="607" y="23"/>
                </a:lnTo>
                <a:lnTo>
                  <a:pt x="608" y="29"/>
                </a:lnTo>
                <a:lnTo>
                  <a:pt x="608" y="33"/>
                </a:lnTo>
                <a:lnTo>
                  <a:pt x="608" y="41"/>
                </a:lnTo>
                <a:lnTo>
                  <a:pt x="607" y="46"/>
                </a:lnTo>
                <a:lnTo>
                  <a:pt x="607" y="54"/>
                </a:lnTo>
                <a:lnTo>
                  <a:pt x="607" y="62"/>
                </a:lnTo>
                <a:lnTo>
                  <a:pt x="605" y="69"/>
                </a:lnTo>
                <a:lnTo>
                  <a:pt x="603" y="79"/>
                </a:lnTo>
                <a:lnTo>
                  <a:pt x="601" y="89"/>
                </a:lnTo>
                <a:lnTo>
                  <a:pt x="599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2"/>
          <p:cNvSpPr/>
          <p:nvPr/>
        </p:nvSpPr>
        <p:spPr>
          <a:xfrm>
            <a:off x="5548320" y="3632040"/>
            <a:ext cx="309600" cy="292320"/>
          </a:xfrm>
          <a:custGeom>
            <a:avLst/>
            <a:gdLst/>
            <a:ahLst/>
            <a:rect l="l" t="t" r="r" b="b"/>
            <a:pathLst>
              <a:path w="390" h="368">
                <a:moveTo>
                  <a:pt x="371" y="299"/>
                </a:moveTo>
                <a:lnTo>
                  <a:pt x="367" y="313"/>
                </a:lnTo>
                <a:lnTo>
                  <a:pt x="361" y="328"/>
                </a:lnTo>
                <a:lnTo>
                  <a:pt x="354" y="340"/>
                </a:lnTo>
                <a:lnTo>
                  <a:pt x="352" y="345"/>
                </a:lnTo>
                <a:lnTo>
                  <a:pt x="348" y="349"/>
                </a:lnTo>
                <a:lnTo>
                  <a:pt x="344" y="353"/>
                </a:lnTo>
                <a:lnTo>
                  <a:pt x="340" y="357"/>
                </a:lnTo>
                <a:lnTo>
                  <a:pt x="338" y="361"/>
                </a:lnTo>
                <a:lnTo>
                  <a:pt x="334" y="363"/>
                </a:lnTo>
                <a:lnTo>
                  <a:pt x="331" y="367"/>
                </a:lnTo>
                <a:lnTo>
                  <a:pt x="329" y="367"/>
                </a:lnTo>
                <a:lnTo>
                  <a:pt x="327" y="368"/>
                </a:lnTo>
                <a:lnTo>
                  <a:pt x="323" y="368"/>
                </a:lnTo>
                <a:lnTo>
                  <a:pt x="319" y="368"/>
                </a:lnTo>
                <a:lnTo>
                  <a:pt x="313" y="367"/>
                </a:lnTo>
                <a:lnTo>
                  <a:pt x="308" y="367"/>
                </a:lnTo>
                <a:lnTo>
                  <a:pt x="302" y="363"/>
                </a:lnTo>
                <a:lnTo>
                  <a:pt x="294" y="361"/>
                </a:lnTo>
                <a:lnTo>
                  <a:pt x="286" y="357"/>
                </a:lnTo>
                <a:lnTo>
                  <a:pt x="279" y="353"/>
                </a:lnTo>
                <a:lnTo>
                  <a:pt x="271" y="347"/>
                </a:lnTo>
                <a:lnTo>
                  <a:pt x="262" y="342"/>
                </a:lnTo>
                <a:lnTo>
                  <a:pt x="254" y="336"/>
                </a:lnTo>
                <a:lnTo>
                  <a:pt x="244" y="328"/>
                </a:lnTo>
                <a:lnTo>
                  <a:pt x="235" y="322"/>
                </a:lnTo>
                <a:lnTo>
                  <a:pt x="223" y="313"/>
                </a:lnTo>
                <a:lnTo>
                  <a:pt x="214" y="305"/>
                </a:lnTo>
                <a:lnTo>
                  <a:pt x="202" y="296"/>
                </a:lnTo>
                <a:lnTo>
                  <a:pt x="192" y="284"/>
                </a:lnTo>
                <a:lnTo>
                  <a:pt x="181" y="276"/>
                </a:lnTo>
                <a:lnTo>
                  <a:pt x="169" y="267"/>
                </a:lnTo>
                <a:lnTo>
                  <a:pt x="156" y="257"/>
                </a:lnTo>
                <a:lnTo>
                  <a:pt x="144" y="246"/>
                </a:lnTo>
                <a:lnTo>
                  <a:pt x="133" y="232"/>
                </a:lnTo>
                <a:lnTo>
                  <a:pt x="119" y="221"/>
                </a:lnTo>
                <a:lnTo>
                  <a:pt x="108" y="205"/>
                </a:lnTo>
                <a:lnTo>
                  <a:pt x="95" y="190"/>
                </a:lnTo>
                <a:lnTo>
                  <a:pt x="83" y="175"/>
                </a:lnTo>
                <a:lnTo>
                  <a:pt x="71" y="157"/>
                </a:lnTo>
                <a:lnTo>
                  <a:pt x="58" y="138"/>
                </a:lnTo>
                <a:lnTo>
                  <a:pt x="47" y="119"/>
                </a:lnTo>
                <a:lnTo>
                  <a:pt x="35" y="100"/>
                </a:lnTo>
                <a:lnTo>
                  <a:pt x="22" y="79"/>
                </a:lnTo>
                <a:lnTo>
                  <a:pt x="10" y="58"/>
                </a:lnTo>
                <a:lnTo>
                  <a:pt x="0" y="34"/>
                </a:lnTo>
                <a:lnTo>
                  <a:pt x="4" y="29"/>
                </a:lnTo>
                <a:lnTo>
                  <a:pt x="10" y="23"/>
                </a:lnTo>
                <a:lnTo>
                  <a:pt x="16" y="19"/>
                </a:lnTo>
                <a:lnTo>
                  <a:pt x="22" y="15"/>
                </a:lnTo>
                <a:lnTo>
                  <a:pt x="29" y="11"/>
                </a:lnTo>
                <a:lnTo>
                  <a:pt x="37" y="8"/>
                </a:lnTo>
                <a:lnTo>
                  <a:pt x="45" y="6"/>
                </a:lnTo>
                <a:lnTo>
                  <a:pt x="52" y="4"/>
                </a:lnTo>
                <a:lnTo>
                  <a:pt x="60" y="2"/>
                </a:lnTo>
                <a:lnTo>
                  <a:pt x="70" y="0"/>
                </a:lnTo>
                <a:lnTo>
                  <a:pt x="79" y="0"/>
                </a:lnTo>
                <a:lnTo>
                  <a:pt x="89" y="0"/>
                </a:lnTo>
                <a:lnTo>
                  <a:pt x="98" y="0"/>
                </a:lnTo>
                <a:lnTo>
                  <a:pt x="110" y="2"/>
                </a:lnTo>
                <a:lnTo>
                  <a:pt x="119" y="4"/>
                </a:lnTo>
                <a:lnTo>
                  <a:pt x="131" y="6"/>
                </a:lnTo>
                <a:lnTo>
                  <a:pt x="154" y="11"/>
                </a:lnTo>
                <a:lnTo>
                  <a:pt x="177" y="19"/>
                </a:lnTo>
                <a:lnTo>
                  <a:pt x="198" y="25"/>
                </a:lnTo>
                <a:lnTo>
                  <a:pt x="219" y="33"/>
                </a:lnTo>
                <a:lnTo>
                  <a:pt x="238" y="40"/>
                </a:lnTo>
                <a:lnTo>
                  <a:pt x="256" y="48"/>
                </a:lnTo>
                <a:lnTo>
                  <a:pt x="265" y="52"/>
                </a:lnTo>
                <a:lnTo>
                  <a:pt x="273" y="56"/>
                </a:lnTo>
                <a:lnTo>
                  <a:pt x="281" y="59"/>
                </a:lnTo>
                <a:lnTo>
                  <a:pt x="288" y="61"/>
                </a:lnTo>
                <a:lnTo>
                  <a:pt x="313" y="82"/>
                </a:lnTo>
                <a:lnTo>
                  <a:pt x="327" y="94"/>
                </a:lnTo>
                <a:lnTo>
                  <a:pt x="340" y="105"/>
                </a:lnTo>
                <a:lnTo>
                  <a:pt x="352" y="117"/>
                </a:lnTo>
                <a:lnTo>
                  <a:pt x="363" y="130"/>
                </a:lnTo>
                <a:lnTo>
                  <a:pt x="375" y="144"/>
                </a:lnTo>
                <a:lnTo>
                  <a:pt x="384" y="159"/>
                </a:lnTo>
                <a:lnTo>
                  <a:pt x="386" y="175"/>
                </a:lnTo>
                <a:lnTo>
                  <a:pt x="390" y="192"/>
                </a:lnTo>
                <a:lnTo>
                  <a:pt x="390" y="211"/>
                </a:lnTo>
                <a:lnTo>
                  <a:pt x="390" y="228"/>
                </a:lnTo>
                <a:lnTo>
                  <a:pt x="388" y="248"/>
                </a:lnTo>
                <a:lnTo>
                  <a:pt x="386" y="255"/>
                </a:lnTo>
                <a:lnTo>
                  <a:pt x="384" y="265"/>
                </a:lnTo>
                <a:lnTo>
                  <a:pt x="382" y="274"/>
                </a:lnTo>
                <a:lnTo>
                  <a:pt x="379" y="282"/>
                </a:lnTo>
                <a:lnTo>
                  <a:pt x="375" y="290"/>
                </a:lnTo>
                <a:lnTo>
                  <a:pt x="371" y="2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23"/>
          <p:cNvSpPr/>
          <p:nvPr/>
        </p:nvSpPr>
        <p:spPr>
          <a:xfrm>
            <a:off x="5786280" y="2986200"/>
            <a:ext cx="306720" cy="352440"/>
          </a:xfrm>
          <a:custGeom>
            <a:avLst/>
            <a:gdLst/>
            <a:ahLst/>
            <a:rect l="l" t="t" r="r" b="b"/>
            <a:pathLst>
              <a:path w="386" h="443">
                <a:moveTo>
                  <a:pt x="142" y="317"/>
                </a:moveTo>
                <a:lnTo>
                  <a:pt x="127" y="300"/>
                </a:lnTo>
                <a:lnTo>
                  <a:pt x="113" y="282"/>
                </a:lnTo>
                <a:lnTo>
                  <a:pt x="100" y="265"/>
                </a:lnTo>
                <a:lnTo>
                  <a:pt x="88" y="248"/>
                </a:lnTo>
                <a:lnTo>
                  <a:pt x="77" y="232"/>
                </a:lnTo>
                <a:lnTo>
                  <a:pt x="67" y="217"/>
                </a:lnTo>
                <a:lnTo>
                  <a:pt x="57" y="204"/>
                </a:lnTo>
                <a:lnTo>
                  <a:pt x="50" y="190"/>
                </a:lnTo>
                <a:lnTo>
                  <a:pt x="42" y="177"/>
                </a:lnTo>
                <a:lnTo>
                  <a:pt x="34" y="163"/>
                </a:lnTo>
                <a:lnTo>
                  <a:pt x="29" y="150"/>
                </a:lnTo>
                <a:lnTo>
                  <a:pt x="23" y="138"/>
                </a:lnTo>
                <a:lnTo>
                  <a:pt x="19" y="127"/>
                </a:lnTo>
                <a:lnTo>
                  <a:pt x="15" y="115"/>
                </a:lnTo>
                <a:lnTo>
                  <a:pt x="11" y="104"/>
                </a:lnTo>
                <a:lnTo>
                  <a:pt x="9" y="94"/>
                </a:lnTo>
                <a:lnTo>
                  <a:pt x="6" y="79"/>
                </a:lnTo>
                <a:lnTo>
                  <a:pt x="4" y="65"/>
                </a:lnTo>
                <a:lnTo>
                  <a:pt x="2" y="52"/>
                </a:lnTo>
                <a:lnTo>
                  <a:pt x="0" y="42"/>
                </a:lnTo>
                <a:lnTo>
                  <a:pt x="2" y="31"/>
                </a:lnTo>
                <a:lnTo>
                  <a:pt x="4" y="23"/>
                </a:lnTo>
                <a:lnTo>
                  <a:pt x="6" y="15"/>
                </a:lnTo>
                <a:lnTo>
                  <a:pt x="9" y="10"/>
                </a:lnTo>
                <a:lnTo>
                  <a:pt x="15" y="6"/>
                </a:lnTo>
                <a:lnTo>
                  <a:pt x="21" y="2"/>
                </a:lnTo>
                <a:lnTo>
                  <a:pt x="29" y="0"/>
                </a:lnTo>
                <a:lnTo>
                  <a:pt x="38" y="0"/>
                </a:lnTo>
                <a:lnTo>
                  <a:pt x="50" y="0"/>
                </a:lnTo>
                <a:lnTo>
                  <a:pt x="55" y="0"/>
                </a:lnTo>
                <a:lnTo>
                  <a:pt x="61" y="2"/>
                </a:lnTo>
                <a:lnTo>
                  <a:pt x="69" y="4"/>
                </a:lnTo>
                <a:lnTo>
                  <a:pt x="77" y="6"/>
                </a:lnTo>
                <a:lnTo>
                  <a:pt x="84" y="8"/>
                </a:lnTo>
                <a:lnTo>
                  <a:pt x="94" y="10"/>
                </a:lnTo>
                <a:lnTo>
                  <a:pt x="111" y="15"/>
                </a:lnTo>
                <a:lnTo>
                  <a:pt x="132" y="23"/>
                </a:lnTo>
                <a:lnTo>
                  <a:pt x="153" y="31"/>
                </a:lnTo>
                <a:lnTo>
                  <a:pt x="175" y="40"/>
                </a:lnTo>
                <a:lnTo>
                  <a:pt x="198" y="52"/>
                </a:lnTo>
                <a:lnTo>
                  <a:pt x="223" y="65"/>
                </a:lnTo>
                <a:lnTo>
                  <a:pt x="247" y="79"/>
                </a:lnTo>
                <a:lnTo>
                  <a:pt x="274" y="94"/>
                </a:lnTo>
                <a:lnTo>
                  <a:pt x="284" y="102"/>
                </a:lnTo>
                <a:lnTo>
                  <a:pt x="295" y="109"/>
                </a:lnTo>
                <a:lnTo>
                  <a:pt x="305" y="119"/>
                </a:lnTo>
                <a:lnTo>
                  <a:pt x="315" y="129"/>
                </a:lnTo>
                <a:lnTo>
                  <a:pt x="322" y="136"/>
                </a:lnTo>
                <a:lnTo>
                  <a:pt x="330" y="146"/>
                </a:lnTo>
                <a:lnTo>
                  <a:pt x="338" y="157"/>
                </a:lnTo>
                <a:lnTo>
                  <a:pt x="345" y="167"/>
                </a:lnTo>
                <a:lnTo>
                  <a:pt x="351" y="179"/>
                </a:lnTo>
                <a:lnTo>
                  <a:pt x="357" y="188"/>
                </a:lnTo>
                <a:lnTo>
                  <a:pt x="363" y="200"/>
                </a:lnTo>
                <a:lnTo>
                  <a:pt x="368" y="211"/>
                </a:lnTo>
                <a:lnTo>
                  <a:pt x="372" y="223"/>
                </a:lnTo>
                <a:lnTo>
                  <a:pt x="376" y="236"/>
                </a:lnTo>
                <a:lnTo>
                  <a:pt x="378" y="248"/>
                </a:lnTo>
                <a:lnTo>
                  <a:pt x="382" y="261"/>
                </a:lnTo>
                <a:lnTo>
                  <a:pt x="384" y="275"/>
                </a:lnTo>
                <a:lnTo>
                  <a:pt x="384" y="286"/>
                </a:lnTo>
                <a:lnTo>
                  <a:pt x="386" y="298"/>
                </a:lnTo>
                <a:lnTo>
                  <a:pt x="386" y="309"/>
                </a:lnTo>
                <a:lnTo>
                  <a:pt x="386" y="319"/>
                </a:lnTo>
                <a:lnTo>
                  <a:pt x="386" y="328"/>
                </a:lnTo>
                <a:lnTo>
                  <a:pt x="384" y="338"/>
                </a:lnTo>
                <a:lnTo>
                  <a:pt x="382" y="347"/>
                </a:lnTo>
                <a:lnTo>
                  <a:pt x="380" y="355"/>
                </a:lnTo>
                <a:lnTo>
                  <a:pt x="378" y="363"/>
                </a:lnTo>
                <a:lnTo>
                  <a:pt x="372" y="376"/>
                </a:lnTo>
                <a:lnTo>
                  <a:pt x="365" y="390"/>
                </a:lnTo>
                <a:lnTo>
                  <a:pt x="357" y="401"/>
                </a:lnTo>
                <a:lnTo>
                  <a:pt x="351" y="405"/>
                </a:lnTo>
                <a:lnTo>
                  <a:pt x="345" y="411"/>
                </a:lnTo>
                <a:lnTo>
                  <a:pt x="340" y="415"/>
                </a:lnTo>
                <a:lnTo>
                  <a:pt x="334" y="419"/>
                </a:lnTo>
                <a:lnTo>
                  <a:pt x="326" y="426"/>
                </a:lnTo>
                <a:lnTo>
                  <a:pt x="318" y="432"/>
                </a:lnTo>
                <a:lnTo>
                  <a:pt x="313" y="438"/>
                </a:lnTo>
                <a:lnTo>
                  <a:pt x="307" y="440"/>
                </a:lnTo>
                <a:lnTo>
                  <a:pt x="301" y="442"/>
                </a:lnTo>
                <a:lnTo>
                  <a:pt x="297" y="443"/>
                </a:lnTo>
                <a:lnTo>
                  <a:pt x="295" y="442"/>
                </a:lnTo>
                <a:lnTo>
                  <a:pt x="292" y="442"/>
                </a:lnTo>
                <a:lnTo>
                  <a:pt x="286" y="438"/>
                </a:lnTo>
                <a:lnTo>
                  <a:pt x="280" y="436"/>
                </a:lnTo>
                <a:lnTo>
                  <a:pt x="272" y="430"/>
                </a:lnTo>
                <a:lnTo>
                  <a:pt x="265" y="424"/>
                </a:lnTo>
                <a:lnTo>
                  <a:pt x="255" y="419"/>
                </a:lnTo>
                <a:lnTo>
                  <a:pt x="246" y="411"/>
                </a:lnTo>
                <a:lnTo>
                  <a:pt x="236" y="403"/>
                </a:lnTo>
                <a:lnTo>
                  <a:pt x="224" y="394"/>
                </a:lnTo>
                <a:lnTo>
                  <a:pt x="213" y="384"/>
                </a:lnTo>
                <a:lnTo>
                  <a:pt x="199" y="372"/>
                </a:lnTo>
                <a:lnTo>
                  <a:pt x="186" y="359"/>
                </a:lnTo>
                <a:lnTo>
                  <a:pt x="171" y="347"/>
                </a:lnTo>
                <a:lnTo>
                  <a:pt x="157" y="332"/>
                </a:lnTo>
                <a:lnTo>
                  <a:pt x="142" y="3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下呼应。竖弯钩圆润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矩形 3"/>
          <p:cNvSpPr/>
          <p:nvPr/>
        </p:nvSpPr>
        <p:spPr>
          <a:xfrm>
            <a:off x="1998720" y="1868400"/>
            <a:ext cx="13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88"/>
          <p:cNvSpPr/>
          <p:nvPr/>
        </p:nvSpPr>
        <p:spPr>
          <a:xfrm>
            <a:off x="6567480" y="3687840"/>
            <a:ext cx="1209600" cy="1197000"/>
          </a:xfrm>
          <a:custGeom>
            <a:avLst/>
            <a:gdLst/>
            <a:ahLst/>
            <a:rect l="l" t="t" r="r" b="b"/>
            <a:pathLst>
              <a:path w="1524" h="1506">
                <a:moveTo>
                  <a:pt x="1403" y="637"/>
                </a:moveTo>
                <a:lnTo>
                  <a:pt x="1405" y="637"/>
                </a:lnTo>
                <a:lnTo>
                  <a:pt x="1409" y="639"/>
                </a:lnTo>
                <a:lnTo>
                  <a:pt x="1411" y="639"/>
                </a:lnTo>
                <a:lnTo>
                  <a:pt x="1413" y="641"/>
                </a:lnTo>
                <a:lnTo>
                  <a:pt x="1415" y="643"/>
                </a:lnTo>
                <a:lnTo>
                  <a:pt x="1417" y="646"/>
                </a:lnTo>
                <a:lnTo>
                  <a:pt x="1421" y="648"/>
                </a:lnTo>
                <a:lnTo>
                  <a:pt x="1423" y="652"/>
                </a:lnTo>
                <a:lnTo>
                  <a:pt x="1425" y="656"/>
                </a:lnTo>
                <a:lnTo>
                  <a:pt x="1426" y="662"/>
                </a:lnTo>
                <a:lnTo>
                  <a:pt x="1430" y="667"/>
                </a:lnTo>
                <a:lnTo>
                  <a:pt x="1432" y="671"/>
                </a:lnTo>
                <a:lnTo>
                  <a:pt x="1434" y="679"/>
                </a:lnTo>
                <a:lnTo>
                  <a:pt x="1436" y="685"/>
                </a:lnTo>
                <a:lnTo>
                  <a:pt x="1438" y="692"/>
                </a:lnTo>
                <a:lnTo>
                  <a:pt x="1440" y="700"/>
                </a:lnTo>
                <a:lnTo>
                  <a:pt x="1442" y="708"/>
                </a:lnTo>
                <a:lnTo>
                  <a:pt x="1444" y="717"/>
                </a:lnTo>
                <a:lnTo>
                  <a:pt x="1448" y="727"/>
                </a:lnTo>
                <a:lnTo>
                  <a:pt x="1450" y="737"/>
                </a:lnTo>
                <a:lnTo>
                  <a:pt x="1451" y="746"/>
                </a:lnTo>
                <a:lnTo>
                  <a:pt x="1453" y="758"/>
                </a:lnTo>
                <a:lnTo>
                  <a:pt x="1453" y="769"/>
                </a:lnTo>
                <a:lnTo>
                  <a:pt x="1455" y="781"/>
                </a:lnTo>
                <a:lnTo>
                  <a:pt x="1457" y="792"/>
                </a:lnTo>
                <a:lnTo>
                  <a:pt x="1459" y="806"/>
                </a:lnTo>
                <a:lnTo>
                  <a:pt x="1461" y="819"/>
                </a:lnTo>
                <a:lnTo>
                  <a:pt x="1463" y="833"/>
                </a:lnTo>
                <a:lnTo>
                  <a:pt x="1465" y="848"/>
                </a:lnTo>
                <a:lnTo>
                  <a:pt x="1465" y="863"/>
                </a:lnTo>
                <a:lnTo>
                  <a:pt x="1467" y="879"/>
                </a:lnTo>
                <a:lnTo>
                  <a:pt x="1469" y="896"/>
                </a:lnTo>
                <a:lnTo>
                  <a:pt x="1471" y="927"/>
                </a:lnTo>
                <a:lnTo>
                  <a:pt x="1473" y="959"/>
                </a:lnTo>
                <a:lnTo>
                  <a:pt x="1474" y="988"/>
                </a:lnTo>
                <a:lnTo>
                  <a:pt x="1478" y="1017"/>
                </a:lnTo>
                <a:lnTo>
                  <a:pt x="1480" y="1044"/>
                </a:lnTo>
                <a:lnTo>
                  <a:pt x="1482" y="1069"/>
                </a:lnTo>
                <a:lnTo>
                  <a:pt x="1486" y="1094"/>
                </a:lnTo>
                <a:lnTo>
                  <a:pt x="1488" y="1115"/>
                </a:lnTo>
                <a:lnTo>
                  <a:pt x="1492" y="1136"/>
                </a:lnTo>
                <a:lnTo>
                  <a:pt x="1496" y="1155"/>
                </a:lnTo>
                <a:lnTo>
                  <a:pt x="1499" y="1172"/>
                </a:lnTo>
                <a:lnTo>
                  <a:pt x="1503" y="1188"/>
                </a:lnTo>
                <a:lnTo>
                  <a:pt x="1507" y="1203"/>
                </a:lnTo>
                <a:lnTo>
                  <a:pt x="1511" y="1215"/>
                </a:lnTo>
                <a:lnTo>
                  <a:pt x="1515" y="1226"/>
                </a:lnTo>
                <a:lnTo>
                  <a:pt x="1519" y="1234"/>
                </a:lnTo>
                <a:lnTo>
                  <a:pt x="1521" y="1241"/>
                </a:lnTo>
                <a:lnTo>
                  <a:pt x="1522" y="1249"/>
                </a:lnTo>
                <a:lnTo>
                  <a:pt x="1524" y="1257"/>
                </a:lnTo>
                <a:lnTo>
                  <a:pt x="1524" y="1264"/>
                </a:lnTo>
                <a:lnTo>
                  <a:pt x="1522" y="1272"/>
                </a:lnTo>
                <a:lnTo>
                  <a:pt x="1522" y="1280"/>
                </a:lnTo>
                <a:lnTo>
                  <a:pt x="1521" y="1287"/>
                </a:lnTo>
                <a:lnTo>
                  <a:pt x="1517" y="1295"/>
                </a:lnTo>
                <a:lnTo>
                  <a:pt x="1515" y="1303"/>
                </a:lnTo>
                <a:lnTo>
                  <a:pt x="1511" y="1311"/>
                </a:lnTo>
                <a:lnTo>
                  <a:pt x="1505" y="1318"/>
                </a:lnTo>
                <a:lnTo>
                  <a:pt x="1499" y="1326"/>
                </a:lnTo>
                <a:lnTo>
                  <a:pt x="1494" y="1334"/>
                </a:lnTo>
                <a:lnTo>
                  <a:pt x="1486" y="1341"/>
                </a:lnTo>
                <a:lnTo>
                  <a:pt x="1476" y="1349"/>
                </a:lnTo>
                <a:lnTo>
                  <a:pt x="1469" y="1357"/>
                </a:lnTo>
                <a:lnTo>
                  <a:pt x="1444" y="1370"/>
                </a:lnTo>
                <a:lnTo>
                  <a:pt x="1419" y="1385"/>
                </a:lnTo>
                <a:lnTo>
                  <a:pt x="1394" y="1397"/>
                </a:lnTo>
                <a:lnTo>
                  <a:pt x="1367" y="1408"/>
                </a:lnTo>
                <a:lnTo>
                  <a:pt x="1340" y="1420"/>
                </a:lnTo>
                <a:lnTo>
                  <a:pt x="1311" y="1430"/>
                </a:lnTo>
                <a:lnTo>
                  <a:pt x="1296" y="1435"/>
                </a:lnTo>
                <a:lnTo>
                  <a:pt x="1281" y="1441"/>
                </a:lnTo>
                <a:lnTo>
                  <a:pt x="1265" y="1447"/>
                </a:lnTo>
                <a:lnTo>
                  <a:pt x="1248" y="1451"/>
                </a:lnTo>
                <a:lnTo>
                  <a:pt x="1231" y="1456"/>
                </a:lnTo>
                <a:lnTo>
                  <a:pt x="1212" y="1460"/>
                </a:lnTo>
                <a:lnTo>
                  <a:pt x="1190" y="1466"/>
                </a:lnTo>
                <a:lnTo>
                  <a:pt x="1167" y="1470"/>
                </a:lnTo>
                <a:lnTo>
                  <a:pt x="1142" y="1474"/>
                </a:lnTo>
                <a:lnTo>
                  <a:pt x="1116" y="1478"/>
                </a:lnTo>
                <a:lnTo>
                  <a:pt x="1087" y="1479"/>
                </a:lnTo>
                <a:lnTo>
                  <a:pt x="1056" y="1483"/>
                </a:lnTo>
                <a:lnTo>
                  <a:pt x="1025" y="1487"/>
                </a:lnTo>
                <a:lnTo>
                  <a:pt x="991" y="1489"/>
                </a:lnTo>
                <a:lnTo>
                  <a:pt x="956" y="1493"/>
                </a:lnTo>
                <a:lnTo>
                  <a:pt x="920" y="1495"/>
                </a:lnTo>
                <a:lnTo>
                  <a:pt x="881" y="1497"/>
                </a:lnTo>
                <a:lnTo>
                  <a:pt x="843" y="1501"/>
                </a:lnTo>
                <a:lnTo>
                  <a:pt x="801" y="1502"/>
                </a:lnTo>
                <a:lnTo>
                  <a:pt x="759" y="1506"/>
                </a:lnTo>
                <a:lnTo>
                  <a:pt x="714" y="1504"/>
                </a:lnTo>
                <a:lnTo>
                  <a:pt x="670" y="1504"/>
                </a:lnTo>
                <a:lnTo>
                  <a:pt x="628" y="1502"/>
                </a:lnTo>
                <a:lnTo>
                  <a:pt x="590" y="1501"/>
                </a:lnTo>
                <a:lnTo>
                  <a:pt x="551" y="1499"/>
                </a:lnTo>
                <a:lnTo>
                  <a:pt x="515" y="1495"/>
                </a:lnTo>
                <a:lnTo>
                  <a:pt x="480" y="1491"/>
                </a:lnTo>
                <a:lnTo>
                  <a:pt x="448" y="1487"/>
                </a:lnTo>
                <a:lnTo>
                  <a:pt x="417" y="1483"/>
                </a:lnTo>
                <a:lnTo>
                  <a:pt x="386" y="1478"/>
                </a:lnTo>
                <a:lnTo>
                  <a:pt x="359" y="1472"/>
                </a:lnTo>
                <a:lnTo>
                  <a:pt x="332" y="1466"/>
                </a:lnTo>
                <a:lnTo>
                  <a:pt x="307" y="1460"/>
                </a:lnTo>
                <a:lnTo>
                  <a:pt x="284" y="1453"/>
                </a:lnTo>
                <a:lnTo>
                  <a:pt x="263" y="1445"/>
                </a:lnTo>
                <a:lnTo>
                  <a:pt x="242" y="1437"/>
                </a:lnTo>
                <a:lnTo>
                  <a:pt x="223" y="1430"/>
                </a:lnTo>
                <a:lnTo>
                  <a:pt x="206" y="1422"/>
                </a:lnTo>
                <a:lnTo>
                  <a:pt x="188" y="1412"/>
                </a:lnTo>
                <a:lnTo>
                  <a:pt x="173" y="1401"/>
                </a:lnTo>
                <a:lnTo>
                  <a:pt x="156" y="1391"/>
                </a:lnTo>
                <a:lnTo>
                  <a:pt x="142" y="1380"/>
                </a:lnTo>
                <a:lnTo>
                  <a:pt x="129" y="1368"/>
                </a:lnTo>
                <a:lnTo>
                  <a:pt x="116" y="1357"/>
                </a:lnTo>
                <a:lnTo>
                  <a:pt x="102" y="1343"/>
                </a:lnTo>
                <a:lnTo>
                  <a:pt x="91" y="1330"/>
                </a:lnTo>
                <a:lnTo>
                  <a:pt x="81" y="1314"/>
                </a:lnTo>
                <a:lnTo>
                  <a:pt x="69" y="1301"/>
                </a:lnTo>
                <a:lnTo>
                  <a:pt x="60" y="1286"/>
                </a:lnTo>
                <a:lnTo>
                  <a:pt x="52" y="1268"/>
                </a:lnTo>
                <a:lnTo>
                  <a:pt x="43" y="1251"/>
                </a:lnTo>
                <a:lnTo>
                  <a:pt x="37" y="1234"/>
                </a:lnTo>
                <a:lnTo>
                  <a:pt x="33" y="1226"/>
                </a:lnTo>
                <a:lnTo>
                  <a:pt x="29" y="1218"/>
                </a:lnTo>
                <a:lnTo>
                  <a:pt x="25" y="1209"/>
                </a:lnTo>
                <a:lnTo>
                  <a:pt x="23" y="1199"/>
                </a:lnTo>
                <a:lnTo>
                  <a:pt x="21" y="1188"/>
                </a:lnTo>
                <a:lnTo>
                  <a:pt x="18" y="1176"/>
                </a:lnTo>
                <a:lnTo>
                  <a:pt x="16" y="1165"/>
                </a:lnTo>
                <a:lnTo>
                  <a:pt x="14" y="1153"/>
                </a:lnTo>
                <a:lnTo>
                  <a:pt x="12" y="1140"/>
                </a:lnTo>
                <a:lnTo>
                  <a:pt x="10" y="1126"/>
                </a:lnTo>
                <a:lnTo>
                  <a:pt x="10" y="1113"/>
                </a:lnTo>
                <a:lnTo>
                  <a:pt x="8" y="1097"/>
                </a:lnTo>
                <a:lnTo>
                  <a:pt x="6" y="1082"/>
                </a:lnTo>
                <a:lnTo>
                  <a:pt x="6" y="1067"/>
                </a:lnTo>
                <a:lnTo>
                  <a:pt x="4" y="1049"/>
                </a:lnTo>
                <a:lnTo>
                  <a:pt x="4" y="1032"/>
                </a:lnTo>
                <a:lnTo>
                  <a:pt x="4" y="1015"/>
                </a:lnTo>
                <a:lnTo>
                  <a:pt x="2" y="996"/>
                </a:lnTo>
                <a:lnTo>
                  <a:pt x="2" y="977"/>
                </a:lnTo>
                <a:lnTo>
                  <a:pt x="2" y="957"/>
                </a:lnTo>
                <a:lnTo>
                  <a:pt x="2" y="938"/>
                </a:lnTo>
                <a:lnTo>
                  <a:pt x="2" y="917"/>
                </a:lnTo>
                <a:lnTo>
                  <a:pt x="4" y="896"/>
                </a:lnTo>
                <a:lnTo>
                  <a:pt x="4" y="873"/>
                </a:lnTo>
                <a:lnTo>
                  <a:pt x="4" y="852"/>
                </a:lnTo>
                <a:lnTo>
                  <a:pt x="4" y="829"/>
                </a:lnTo>
                <a:lnTo>
                  <a:pt x="6" y="804"/>
                </a:lnTo>
                <a:lnTo>
                  <a:pt x="6" y="781"/>
                </a:lnTo>
                <a:lnTo>
                  <a:pt x="8" y="756"/>
                </a:lnTo>
                <a:lnTo>
                  <a:pt x="8" y="731"/>
                </a:lnTo>
                <a:lnTo>
                  <a:pt x="10" y="704"/>
                </a:lnTo>
                <a:lnTo>
                  <a:pt x="10" y="679"/>
                </a:lnTo>
                <a:lnTo>
                  <a:pt x="12" y="652"/>
                </a:lnTo>
                <a:lnTo>
                  <a:pt x="12" y="625"/>
                </a:lnTo>
                <a:lnTo>
                  <a:pt x="14" y="600"/>
                </a:lnTo>
                <a:lnTo>
                  <a:pt x="14" y="575"/>
                </a:lnTo>
                <a:lnTo>
                  <a:pt x="16" y="552"/>
                </a:lnTo>
                <a:lnTo>
                  <a:pt x="16" y="527"/>
                </a:lnTo>
                <a:lnTo>
                  <a:pt x="18" y="504"/>
                </a:lnTo>
                <a:lnTo>
                  <a:pt x="18" y="483"/>
                </a:lnTo>
                <a:lnTo>
                  <a:pt x="18" y="460"/>
                </a:lnTo>
                <a:lnTo>
                  <a:pt x="18" y="439"/>
                </a:lnTo>
                <a:lnTo>
                  <a:pt x="20" y="418"/>
                </a:lnTo>
                <a:lnTo>
                  <a:pt x="20" y="399"/>
                </a:lnTo>
                <a:lnTo>
                  <a:pt x="20" y="380"/>
                </a:lnTo>
                <a:lnTo>
                  <a:pt x="20" y="360"/>
                </a:lnTo>
                <a:lnTo>
                  <a:pt x="20" y="341"/>
                </a:lnTo>
                <a:lnTo>
                  <a:pt x="20" y="324"/>
                </a:lnTo>
                <a:lnTo>
                  <a:pt x="20" y="307"/>
                </a:lnTo>
                <a:lnTo>
                  <a:pt x="20" y="289"/>
                </a:lnTo>
                <a:lnTo>
                  <a:pt x="20" y="274"/>
                </a:lnTo>
                <a:lnTo>
                  <a:pt x="20" y="259"/>
                </a:lnTo>
                <a:lnTo>
                  <a:pt x="20" y="243"/>
                </a:lnTo>
                <a:lnTo>
                  <a:pt x="18" y="230"/>
                </a:lnTo>
                <a:lnTo>
                  <a:pt x="18" y="216"/>
                </a:lnTo>
                <a:lnTo>
                  <a:pt x="18" y="203"/>
                </a:lnTo>
                <a:lnTo>
                  <a:pt x="18" y="191"/>
                </a:lnTo>
                <a:lnTo>
                  <a:pt x="16" y="178"/>
                </a:lnTo>
                <a:lnTo>
                  <a:pt x="16" y="168"/>
                </a:lnTo>
                <a:lnTo>
                  <a:pt x="14" y="157"/>
                </a:lnTo>
                <a:lnTo>
                  <a:pt x="14" y="147"/>
                </a:lnTo>
                <a:lnTo>
                  <a:pt x="12" y="138"/>
                </a:lnTo>
                <a:lnTo>
                  <a:pt x="12" y="130"/>
                </a:lnTo>
                <a:lnTo>
                  <a:pt x="10" y="122"/>
                </a:lnTo>
                <a:lnTo>
                  <a:pt x="8" y="109"/>
                </a:lnTo>
                <a:lnTo>
                  <a:pt x="6" y="97"/>
                </a:lnTo>
                <a:lnTo>
                  <a:pt x="4" y="86"/>
                </a:lnTo>
                <a:lnTo>
                  <a:pt x="2" y="76"/>
                </a:lnTo>
                <a:lnTo>
                  <a:pt x="2" y="67"/>
                </a:lnTo>
                <a:lnTo>
                  <a:pt x="2" y="57"/>
                </a:lnTo>
                <a:lnTo>
                  <a:pt x="0" y="48"/>
                </a:lnTo>
                <a:lnTo>
                  <a:pt x="0" y="40"/>
                </a:lnTo>
                <a:lnTo>
                  <a:pt x="0" y="32"/>
                </a:lnTo>
                <a:lnTo>
                  <a:pt x="2" y="26"/>
                </a:lnTo>
                <a:lnTo>
                  <a:pt x="2" y="21"/>
                </a:lnTo>
                <a:lnTo>
                  <a:pt x="2" y="15"/>
                </a:lnTo>
                <a:lnTo>
                  <a:pt x="4" y="11"/>
                </a:lnTo>
                <a:lnTo>
                  <a:pt x="6" y="5"/>
                </a:lnTo>
                <a:lnTo>
                  <a:pt x="8" y="3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1"/>
                </a:lnTo>
                <a:lnTo>
                  <a:pt x="27" y="1"/>
                </a:lnTo>
                <a:lnTo>
                  <a:pt x="33" y="3"/>
                </a:lnTo>
                <a:lnTo>
                  <a:pt x="41" y="5"/>
                </a:lnTo>
                <a:lnTo>
                  <a:pt x="48" y="5"/>
                </a:lnTo>
                <a:lnTo>
                  <a:pt x="58" y="7"/>
                </a:lnTo>
                <a:lnTo>
                  <a:pt x="66" y="9"/>
                </a:lnTo>
                <a:lnTo>
                  <a:pt x="77" y="13"/>
                </a:lnTo>
                <a:lnTo>
                  <a:pt x="87" y="15"/>
                </a:lnTo>
                <a:lnTo>
                  <a:pt x="98" y="17"/>
                </a:lnTo>
                <a:lnTo>
                  <a:pt x="112" y="19"/>
                </a:lnTo>
                <a:lnTo>
                  <a:pt x="125" y="23"/>
                </a:lnTo>
                <a:lnTo>
                  <a:pt x="139" y="24"/>
                </a:lnTo>
                <a:lnTo>
                  <a:pt x="152" y="26"/>
                </a:lnTo>
                <a:lnTo>
                  <a:pt x="154" y="30"/>
                </a:lnTo>
                <a:lnTo>
                  <a:pt x="154" y="36"/>
                </a:lnTo>
                <a:lnTo>
                  <a:pt x="156" y="40"/>
                </a:lnTo>
                <a:lnTo>
                  <a:pt x="156" y="46"/>
                </a:lnTo>
                <a:lnTo>
                  <a:pt x="156" y="51"/>
                </a:lnTo>
                <a:lnTo>
                  <a:pt x="156" y="59"/>
                </a:lnTo>
                <a:lnTo>
                  <a:pt x="158" y="65"/>
                </a:lnTo>
                <a:lnTo>
                  <a:pt x="158" y="72"/>
                </a:lnTo>
                <a:lnTo>
                  <a:pt x="158" y="82"/>
                </a:lnTo>
                <a:lnTo>
                  <a:pt x="158" y="90"/>
                </a:lnTo>
                <a:lnTo>
                  <a:pt x="158" y="99"/>
                </a:lnTo>
                <a:lnTo>
                  <a:pt x="158" y="109"/>
                </a:lnTo>
                <a:lnTo>
                  <a:pt x="156" y="119"/>
                </a:lnTo>
                <a:lnTo>
                  <a:pt x="156" y="130"/>
                </a:lnTo>
                <a:lnTo>
                  <a:pt x="156" y="140"/>
                </a:lnTo>
                <a:lnTo>
                  <a:pt x="156" y="153"/>
                </a:lnTo>
                <a:lnTo>
                  <a:pt x="154" y="165"/>
                </a:lnTo>
                <a:lnTo>
                  <a:pt x="154" y="178"/>
                </a:lnTo>
                <a:lnTo>
                  <a:pt x="154" y="191"/>
                </a:lnTo>
                <a:lnTo>
                  <a:pt x="152" y="205"/>
                </a:lnTo>
                <a:lnTo>
                  <a:pt x="152" y="220"/>
                </a:lnTo>
                <a:lnTo>
                  <a:pt x="150" y="236"/>
                </a:lnTo>
                <a:lnTo>
                  <a:pt x="150" y="251"/>
                </a:lnTo>
                <a:lnTo>
                  <a:pt x="148" y="266"/>
                </a:lnTo>
                <a:lnTo>
                  <a:pt x="148" y="284"/>
                </a:lnTo>
                <a:lnTo>
                  <a:pt x="146" y="303"/>
                </a:lnTo>
                <a:lnTo>
                  <a:pt x="144" y="320"/>
                </a:lnTo>
                <a:lnTo>
                  <a:pt x="144" y="339"/>
                </a:lnTo>
                <a:lnTo>
                  <a:pt x="142" y="358"/>
                </a:lnTo>
                <a:lnTo>
                  <a:pt x="142" y="378"/>
                </a:lnTo>
                <a:lnTo>
                  <a:pt x="140" y="399"/>
                </a:lnTo>
                <a:lnTo>
                  <a:pt x="139" y="420"/>
                </a:lnTo>
                <a:lnTo>
                  <a:pt x="137" y="462"/>
                </a:lnTo>
                <a:lnTo>
                  <a:pt x="135" y="502"/>
                </a:lnTo>
                <a:lnTo>
                  <a:pt x="133" y="541"/>
                </a:lnTo>
                <a:lnTo>
                  <a:pt x="131" y="577"/>
                </a:lnTo>
                <a:lnTo>
                  <a:pt x="129" y="614"/>
                </a:lnTo>
                <a:lnTo>
                  <a:pt x="127" y="646"/>
                </a:lnTo>
                <a:lnTo>
                  <a:pt x="125" y="677"/>
                </a:lnTo>
                <a:lnTo>
                  <a:pt x="123" y="706"/>
                </a:lnTo>
                <a:lnTo>
                  <a:pt x="123" y="735"/>
                </a:lnTo>
                <a:lnTo>
                  <a:pt x="121" y="760"/>
                </a:lnTo>
                <a:lnTo>
                  <a:pt x="121" y="785"/>
                </a:lnTo>
                <a:lnTo>
                  <a:pt x="121" y="808"/>
                </a:lnTo>
                <a:lnTo>
                  <a:pt x="121" y="829"/>
                </a:lnTo>
                <a:lnTo>
                  <a:pt x="123" y="848"/>
                </a:lnTo>
                <a:lnTo>
                  <a:pt x="125" y="865"/>
                </a:lnTo>
                <a:lnTo>
                  <a:pt x="127" y="882"/>
                </a:lnTo>
                <a:lnTo>
                  <a:pt x="127" y="911"/>
                </a:lnTo>
                <a:lnTo>
                  <a:pt x="129" y="940"/>
                </a:lnTo>
                <a:lnTo>
                  <a:pt x="131" y="967"/>
                </a:lnTo>
                <a:lnTo>
                  <a:pt x="135" y="994"/>
                </a:lnTo>
                <a:lnTo>
                  <a:pt x="139" y="1019"/>
                </a:lnTo>
                <a:lnTo>
                  <a:pt x="142" y="1042"/>
                </a:lnTo>
                <a:lnTo>
                  <a:pt x="148" y="1065"/>
                </a:lnTo>
                <a:lnTo>
                  <a:pt x="152" y="1086"/>
                </a:lnTo>
                <a:lnTo>
                  <a:pt x="154" y="1097"/>
                </a:lnTo>
                <a:lnTo>
                  <a:pt x="158" y="1109"/>
                </a:lnTo>
                <a:lnTo>
                  <a:pt x="162" y="1120"/>
                </a:lnTo>
                <a:lnTo>
                  <a:pt x="167" y="1132"/>
                </a:lnTo>
                <a:lnTo>
                  <a:pt x="171" y="1142"/>
                </a:lnTo>
                <a:lnTo>
                  <a:pt x="177" y="1151"/>
                </a:lnTo>
                <a:lnTo>
                  <a:pt x="185" y="1161"/>
                </a:lnTo>
                <a:lnTo>
                  <a:pt x="190" y="1170"/>
                </a:lnTo>
                <a:lnTo>
                  <a:pt x="198" y="1178"/>
                </a:lnTo>
                <a:lnTo>
                  <a:pt x="208" y="1188"/>
                </a:lnTo>
                <a:lnTo>
                  <a:pt x="215" y="1195"/>
                </a:lnTo>
                <a:lnTo>
                  <a:pt x="225" y="1203"/>
                </a:lnTo>
                <a:lnTo>
                  <a:pt x="235" y="1211"/>
                </a:lnTo>
                <a:lnTo>
                  <a:pt x="246" y="1218"/>
                </a:lnTo>
                <a:lnTo>
                  <a:pt x="256" y="1226"/>
                </a:lnTo>
                <a:lnTo>
                  <a:pt x="269" y="1234"/>
                </a:lnTo>
                <a:lnTo>
                  <a:pt x="281" y="1241"/>
                </a:lnTo>
                <a:lnTo>
                  <a:pt x="294" y="1249"/>
                </a:lnTo>
                <a:lnTo>
                  <a:pt x="309" y="1255"/>
                </a:lnTo>
                <a:lnTo>
                  <a:pt x="325" y="1261"/>
                </a:lnTo>
                <a:lnTo>
                  <a:pt x="340" y="1264"/>
                </a:lnTo>
                <a:lnTo>
                  <a:pt x="357" y="1270"/>
                </a:lnTo>
                <a:lnTo>
                  <a:pt x="377" y="1274"/>
                </a:lnTo>
                <a:lnTo>
                  <a:pt x="396" y="1276"/>
                </a:lnTo>
                <a:lnTo>
                  <a:pt x="417" y="1280"/>
                </a:lnTo>
                <a:lnTo>
                  <a:pt x="438" y="1282"/>
                </a:lnTo>
                <a:lnTo>
                  <a:pt x="461" y="1284"/>
                </a:lnTo>
                <a:lnTo>
                  <a:pt x="484" y="1286"/>
                </a:lnTo>
                <a:lnTo>
                  <a:pt x="509" y="1287"/>
                </a:lnTo>
                <a:lnTo>
                  <a:pt x="536" y="1287"/>
                </a:lnTo>
                <a:lnTo>
                  <a:pt x="563" y="1287"/>
                </a:lnTo>
                <a:lnTo>
                  <a:pt x="592" y="1289"/>
                </a:lnTo>
                <a:lnTo>
                  <a:pt x="643" y="1287"/>
                </a:lnTo>
                <a:lnTo>
                  <a:pt x="695" y="1286"/>
                </a:lnTo>
                <a:lnTo>
                  <a:pt x="745" y="1284"/>
                </a:lnTo>
                <a:lnTo>
                  <a:pt x="793" y="1280"/>
                </a:lnTo>
                <a:lnTo>
                  <a:pt x="841" y="1276"/>
                </a:lnTo>
                <a:lnTo>
                  <a:pt x="889" y="1272"/>
                </a:lnTo>
                <a:lnTo>
                  <a:pt x="933" y="1266"/>
                </a:lnTo>
                <a:lnTo>
                  <a:pt x="977" y="1261"/>
                </a:lnTo>
                <a:lnTo>
                  <a:pt x="997" y="1259"/>
                </a:lnTo>
                <a:lnTo>
                  <a:pt x="1016" y="1257"/>
                </a:lnTo>
                <a:lnTo>
                  <a:pt x="1033" y="1253"/>
                </a:lnTo>
                <a:lnTo>
                  <a:pt x="1050" y="1251"/>
                </a:lnTo>
                <a:lnTo>
                  <a:pt x="1068" y="1247"/>
                </a:lnTo>
                <a:lnTo>
                  <a:pt x="1083" y="1245"/>
                </a:lnTo>
                <a:lnTo>
                  <a:pt x="1098" y="1241"/>
                </a:lnTo>
                <a:lnTo>
                  <a:pt x="1114" y="1238"/>
                </a:lnTo>
                <a:lnTo>
                  <a:pt x="1127" y="1234"/>
                </a:lnTo>
                <a:lnTo>
                  <a:pt x="1140" y="1230"/>
                </a:lnTo>
                <a:lnTo>
                  <a:pt x="1154" y="1224"/>
                </a:lnTo>
                <a:lnTo>
                  <a:pt x="1167" y="1220"/>
                </a:lnTo>
                <a:lnTo>
                  <a:pt x="1179" y="1215"/>
                </a:lnTo>
                <a:lnTo>
                  <a:pt x="1188" y="1207"/>
                </a:lnTo>
                <a:lnTo>
                  <a:pt x="1200" y="1201"/>
                </a:lnTo>
                <a:lnTo>
                  <a:pt x="1210" y="1193"/>
                </a:lnTo>
                <a:lnTo>
                  <a:pt x="1219" y="1186"/>
                </a:lnTo>
                <a:lnTo>
                  <a:pt x="1229" y="1176"/>
                </a:lnTo>
                <a:lnTo>
                  <a:pt x="1236" y="1165"/>
                </a:lnTo>
                <a:lnTo>
                  <a:pt x="1246" y="1151"/>
                </a:lnTo>
                <a:lnTo>
                  <a:pt x="1254" y="1138"/>
                </a:lnTo>
                <a:lnTo>
                  <a:pt x="1263" y="1122"/>
                </a:lnTo>
                <a:lnTo>
                  <a:pt x="1271" y="1107"/>
                </a:lnTo>
                <a:lnTo>
                  <a:pt x="1279" y="1088"/>
                </a:lnTo>
                <a:lnTo>
                  <a:pt x="1286" y="1069"/>
                </a:lnTo>
                <a:lnTo>
                  <a:pt x="1294" y="1048"/>
                </a:lnTo>
                <a:lnTo>
                  <a:pt x="1302" y="1025"/>
                </a:lnTo>
                <a:lnTo>
                  <a:pt x="1309" y="1000"/>
                </a:lnTo>
                <a:lnTo>
                  <a:pt x="1317" y="973"/>
                </a:lnTo>
                <a:lnTo>
                  <a:pt x="1325" y="944"/>
                </a:lnTo>
                <a:lnTo>
                  <a:pt x="1332" y="913"/>
                </a:lnTo>
                <a:lnTo>
                  <a:pt x="1338" y="882"/>
                </a:lnTo>
                <a:lnTo>
                  <a:pt x="1342" y="867"/>
                </a:lnTo>
                <a:lnTo>
                  <a:pt x="1344" y="852"/>
                </a:lnTo>
                <a:lnTo>
                  <a:pt x="1346" y="838"/>
                </a:lnTo>
                <a:lnTo>
                  <a:pt x="1348" y="825"/>
                </a:lnTo>
                <a:lnTo>
                  <a:pt x="1350" y="811"/>
                </a:lnTo>
                <a:lnTo>
                  <a:pt x="1354" y="798"/>
                </a:lnTo>
                <a:lnTo>
                  <a:pt x="1357" y="775"/>
                </a:lnTo>
                <a:lnTo>
                  <a:pt x="1363" y="752"/>
                </a:lnTo>
                <a:lnTo>
                  <a:pt x="1367" y="733"/>
                </a:lnTo>
                <a:lnTo>
                  <a:pt x="1371" y="714"/>
                </a:lnTo>
                <a:lnTo>
                  <a:pt x="1377" y="698"/>
                </a:lnTo>
                <a:lnTo>
                  <a:pt x="1380" y="685"/>
                </a:lnTo>
                <a:lnTo>
                  <a:pt x="1384" y="671"/>
                </a:lnTo>
                <a:lnTo>
                  <a:pt x="1388" y="662"/>
                </a:lnTo>
                <a:lnTo>
                  <a:pt x="1392" y="652"/>
                </a:lnTo>
                <a:lnTo>
                  <a:pt x="1396" y="646"/>
                </a:lnTo>
                <a:lnTo>
                  <a:pt x="1398" y="641"/>
                </a:lnTo>
                <a:lnTo>
                  <a:pt x="1402" y="639"/>
                </a:lnTo>
                <a:lnTo>
                  <a:pt x="1403" y="6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89"/>
          <p:cNvSpPr/>
          <p:nvPr/>
        </p:nvSpPr>
        <p:spPr>
          <a:xfrm>
            <a:off x="6637320" y="3635280"/>
            <a:ext cx="573120" cy="677880"/>
          </a:xfrm>
          <a:custGeom>
            <a:avLst/>
            <a:gdLst/>
            <a:ahLst/>
            <a:rect l="l" t="t" r="r" b="b"/>
            <a:pathLst>
              <a:path w="721" h="854">
                <a:moveTo>
                  <a:pt x="424" y="27"/>
                </a:moveTo>
                <a:lnTo>
                  <a:pt x="430" y="21"/>
                </a:lnTo>
                <a:lnTo>
                  <a:pt x="435" y="18"/>
                </a:lnTo>
                <a:lnTo>
                  <a:pt x="443" y="12"/>
                </a:lnTo>
                <a:lnTo>
                  <a:pt x="453" y="8"/>
                </a:lnTo>
                <a:lnTo>
                  <a:pt x="460" y="4"/>
                </a:lnTo>
                <a:lnTo>
                  <a:pt x="470" y="2"/>
                </a:lnTo>
                <a:lnTo>
                  <a:pt x="479" y="0"/>
                </a:lnTo>
                <a:lnTo>
                  <a:pt x="489" y="0"/>
                </a:lnTo>
                <a:lnTo>
                  <a:pt x="491" y="0"/>
                </a:lnTo>
                <a:lnTo>
                  <a:pt x="495" y="0"/>
                </a:lnTo>
                <a:lnTo>
                  <a:pt x="501" y="2"/>
                </a:lnTo>
                <a:lnTo>
                  <a:pt x="504" y="4"/>
                </a:lnTo>
                <a:lnTo>
                  <a:pt x="512" y="8"/>
                </a:lnTo>
                <a:lnTo>
                  <a:pt x="518" y="10"/>
                </a:lnTo>
                <a:lnTo>
                  <a:pt x="526" y="14"/>
                </a:lnTo>
                <a:lnTo>
                  <a:pt x="533" y="18"/>
                </a:lnTo>
                <a:lnTo>
                  <a:pt x="543" y="23"/>
                </a:lnTo>
                <a:lnTo>
                  <a:pt x="552" y="27"/>
                </a:lnTo>
                <a:lnTo>
                  <a:pt x="562" y="33"/>
                </a:lnTo>
                <a:lnTo>
                  <a:pt x="572" y="39"/>
                </a:lnTo>
                <a:lnTo>
                  <a:pt x="595" y="52"/>
                </a:lnTo>
                <a:lnTo>
                  <a:pt x="618" y="68"/>
                </a:lnTo>
                <a:lnTo>
                  <a:pt x="629" y="75"/>
                </a:lnTo>
                <a:lnTo>
                  <a:pt x="641" y="83"/>
                </a:lnTo>
                <a:lnTo>
                  <a:pt x="650" y="91"/>
                </a:lnTo>
                <a:lnTo>
                  <a:pt x="660" y="98"/>
                </a:lnTo>
                <a:lnTo>
                  <a:pt x="668" y="106"/>
                </a:lnTo>
                <a:lnTo>
                  <a:pt x="675" y="112"/>
                </a:lnTo>
                <a:lnTo>
                  <a:pt x="683" y="119"/>
                </a:lnTo>
                <a:lnTo>
                  <a:pt x="689" y="125"/>
                </a:lnTo>
                <a:lnTo>
                  <a:pt x="694" y="131"/>
                </a:lnTo>
                <a:lnTo>
                  <a:pt x="700" y="137"/>
                </a:lnTo>
                <a:lnTo>
                  <a:pt x="704" y="142"/>
                </a:lnTo>
                <a:lnTo>
                  <a:pt x="708" y="148"/>
                </a:lnTo>
                <a:lnTo>
                  <a:pt x="712" y="152"/>
                </a:lnTo>
                <a:lnTo>
                  <a:pt x="716" y="156"/>
                </a:lnTo>
                <a:lnTo>
                  <a:pt x="718" y="160"/>
                </a:lnTo>
                <a:lnTo>
                  <a:pt x="721" y="163"/>
                </a:lnTo>
                <a:lnTo>
                  <a:pt x="719" y="167"/>
                </a:lnTo>
                <a:lnTo>
                  <a:pt x="719" y="173"/>
                </a:lnTo>
                <a:lnTo>
                  <a:pt x="716" y="177"/>
                </a:lnTo>
                <a:lnTo>
                  <a:pt x="712" y="183"/>
                </a:lnTo>
                <a:lnTo>
                  <a:pt x="706" y="188"/>
                </a:lnTo>
                <a:lnTo>
                  <a:pt x="698" y="192"/>
                </a:lnTo>
                <a:lnTo>
                  <a:pt x="691" y="198"/>
                </a:lnTo>
                <a:lnTo>
                  <a:pt x="683" y="204"/>
                </a:lnTo>
                <a:lnTo>
                  <a:pt x="677" y="208"/>
                </a:lnTo>
                <a:lnTo>
                  <a:pt x="673" y="211"/>
                </a:lnTo>
                <a:lnTo>
                  <a:pt x="668" y="217"/>
                </a:lnTo>
                <a:lnTo>
                  <a:pt x="664" y="227"/>
                </a:lnTo>
                <a:lnTo>
                  <a:pt x="658" y="236"/>
                </a:lnTo>
                <a:lnTo>
                  <a:pt x="654" y="246"/>
                </a:lnTo>
                <a:lnTo>
                  <a:pt x="648" y="259"/>
                </a:lnTo>
                <a:lnTo>
                  <a:pt x="643" y="273"/>
                </a:lnTo>
                <a:lnTo>
                  <a:pt x="639" y="288"/>
                </a:lnTo>
                <a:lnTo>
                  <a:pt x="633" y="306"/>
                </a:lnTo>
                <a:lnTo>
                  <a:pt x="629" y="323"/>
                </a:lnTo>
                <a:lnTo>
                  <a:pt x="623" y="342"/>
                </a:lnTo>
                <a:lnTo>
                  <a:pt x="620" y="363"/>
                </a:lnTo>
                <a:lnTo>
                  <a:pt x="614" y="386"/>
                </a:lnTo>
                <a:lnTo>
                  <a:pt x="610" y="409"/>
                </a:lnTo>
                <a:lnTo>
                  <a:pt x="604" y="434"/>
                </a:lnTo>
                <a:lnTo>
                  <a:pt x="599" y="461"/>
                </a:lnTo>
                <a:lnTo>
                  <a:pt x="591" y="488"/>
                </a:lnTo>
                <a:lnTo>
                  <a:pt x="583" y="513"/>
                </a:lnTo>
                <a:lnTo>
                  <a:pt x="575" y="536"/>
                </a:lnTo>
                <a:lnTo>
                  <a:pt x="568" y="559"/>
                </a:lnTo>
                <a:lnTo>
                  <a:pt x="560" y="580"/>
                </a:lnTo>
                <a:lnTo>
                  <a:pt x="552" y="601"/>
                </a:lnTo>
                <a:lnTo>
                  <a:pt x="543" y="620"/>
                </a:lnTo>
                <a:lnTo>
                  <a:pt x="535" y="640"/>
                </a:lnTo>
                <a:lnTo>
                  <a:pt x="526" y="657"/>
                </a:lnTo>
                <a:lnTo>
                  <a:pt x="516" y="674"/>
                </a:lnTo>
                <a:lnTo>
                  <a:pt x="506" y="689"/>
                </a:lnTo>
                <a:lnTo>
                  <a:pt x="497" y="705"/>
                </a:lnTo>
                <a:lnTo>
                  <a:pt x="485" y="718"/>
                </a:lnTo>
                <a:lnTo>
                  <a:pt x="476" y="734"/>
                </a:lnTo>
                <a:lnTo>
                  <a:pt x="464" y="747"/>
                </a:lnTo>
                <a:lnTo>
                  <a:pt x="451" y="759"/>
                </a:lnTo>
                <a:lnTo>
                  <a:pt x="441" y="770"/>
                </a:lnTo>
                <a:lnTo>
                  <a:pt x="430" y="782"/>
                </a:lnTo>
                <a:lnTo>
                  <a:pt x="420" y="791"/>
                </a:lnTo>
                <a:lnTo>
                  <a:pt x="410" y="801"/>
                </a:lnTo>
                <a:lnTo>
                  <a:pt x="401" y="810"/>
                </a:lnTo>
                <a:lnTo>
                  <a:pt x="393" y="818"/>
                </a:lnTo>
                <a:lnTo>
                  <a:pt x="384" y="826"/>
                </a:lnTo>
                <a:lnTo>
                  <a:pt x="376" y="833"/>
                </a:lnTo>
                <a:lnTo>
                  <a:pt x="370" y="839"/>
                </a:lnTo>
                <a:lnTo>
                  <a:pt x="362" y="843"/>
                </a:lnTo>
                <a:lnTo>
                  <a:pt x="357" y="847"/>
                </a:lnTo>
                <a:lnTo>
                  <a:pt x="351" y="851"/>
                </a:lnTo>
                <a:lnTo>
                  <a:pt x="345" y="853"/>
                </a:lnTo>
                <a:lnTo>
                  <a:pt x="339" y="854"/>
                </a:lnTo>
                <a:lnTo>
                  <a:pt x="334" y="854"/>
                </a:lnTo>
                <a:lnTo>
                  <a:pt x="328" y="854"/>
                </a:lnTo>
                <a:lnTo>
                  <a:pt x="320" y="853"/>
                </a:lnTo>
                <a:lnTo>
                  <a:pt x="314" y="853"/>
                </a:lnTo>
                <a:lnTo>
                  <a:pt x="311" y="849"/>
                </a:lnTo>
                <a:lnTo>
                  <a:pt x="305" y="847"/>
                </a:lnTo>
                <a:lnTo>
                  <a:pt x="301" y="843"/>
                </a:lnTo>
                <a:lnTo>
                  <a:pt x="299" y="839"/>
                </a:lnTo>
                <a:lnTo>
                  <a:pt x="295" y="835"/>
                </a:lnTo>
                <a:lnTo>
                  <a:pt x="293" y="831"/>
                </a:lnTo>
                <a:lnTo>
                  <a:pt x="291" y="826"/>
                </a:lnTo>
                <a:lnTo>
                  <a:pt x="291" y="820"/>
                </a:lnTo>
                <a:lnTo>
                  <a:pt x="291" y="814"/>
                </a:lnTo>
                <a:lnTo>
                  <a:pt x="291" y="808"/>
                </a:lnTo>
                <a:lnTo>
                  <a:pt x="291" y="801"/>
                </a:lnTo>
                <a:lnTo>
                  <a:pt x="293" y="793"/>
                </a:lnTo>
                <a:lnTo>
                  <a:pt x="295" y="787"/>
                </a:lnTo>
                <a:lnTo>
                  <a:pt x="295" y="780"/>
                </a:lnTo>
                <a:lnTo>
                  <a:pt x="293" y="772"/>
                </a:lnTo>
                <a:lnTo>
                  <a:pt x="293" y="764"/>
                </a:lnTo>
                <a:lnTo>
                  <a:pt x="289" y="757"/>
                </a:lnTo>
                <a:lnTo>
                  <a:pt x="288" y="749"/>
                </a:lnTo>
                <a:lnTo>
                  <a:pt x="284" y="741"/>
                </a:lnTo>
                <a:lnTo>
                  <a:pt x="280" y="732"/>
                </a:lnTo>
                <a:lnTo>
                  <a:pt x="276" y="724"/>
                </a:lnTo>
                <a:lnTo>
                  <a:pt x="270" y="716"/>
                </a:lnTo>
                <a:lnTo>
                  <a:pt x="265" y="707"/>
                </a:lnTo>
                <a:lnTo>
                  <a:pt x="259" y="699"/>
                </a:lnTo>
                <a:lnTo>
                  <a:pt x="251" y="689"/>
                </a:lnTo>
                <a:lnTo>
                  <a:pt x="243" y="680"/>
                </a:lnTo>
                <a:lnTo>
                  <a:pt x="236" y="670"/>
                </a:lnTo>
                <a:lnTo>
                  <a:pt x="228" y="661"/>
                </a:lnTo>
                <a:lnTo>
                  <a:pt x="218" y="651"/>
                </a:lnTo>
                <a:lnTo>
                  <a:pt x="209" y="641"/>
                </a:lnTo>
                <a:lnTo>
                  <a:pt x="201" y="632"/>
                </a:lnTo>
                <a:lnTo>
                  <a:pt x="194" y="622"/>
                </a:lnTo>
                <a:lnTo>
                  <a:pt x="186" y="613"/>
                </a:lnTo>
                <a:lnTo>
                  <a:pt x="180" y="605"/>
                </a:lnTo>
                <a:lnTo>
                  <a:pt x="176" y="595"/>
                </a:lnTo>
                <a:lnTo>
                  <a:pt x="172" y="588"/>
                </a:lnTo>
                <a:lnTo>
                  <a:pt x="169" y="582"/>
                </a:lnTo>
                <a:lnTo>
                  <a:pt x="165" y="574"/>
                </a:lnTo>
                <a:lnTo>
                  <a:pt x="163" y="568"/>
                </a:lnTo>
                <a:lnTo>
                  <a:pt x="163" y="563"/>
                </a:lnTo>
                <a:lnTo>
                  <a:pt x="163" y="557"/>
                </a:lnTo>
                <a:lnTo>
                  <a:pt x="163" y="553"/>
                </a:lnTo>
                <a:lnTo>
                  <a:pt x="163" y="549"/>
                </a:lnTo>
                <a:lnTo>
                  <a:pt x="165" y="545"/>
                </a:lnTo>
                <a:lnTo>
                  <a:pt x="167" y="544"/>
                </a:lnTo>
                <a:lnTo>
                  <a:pt x="169" y="540"/>
                </a:lnTo>
                <a:lnTo>
                  <a:pt x="172" y="538"/>
                </a:lnTo>
                <a:lnTo>
                  <a:pt x="174" y="538"/>
                </a:lnTo>
                <a:lnTo>
                  <a:pt x="178" y="538"/>
                </a:lnTo>
                <a:lnTo>
                  <a:pt x="182" y="538"/>
                </a:lnTo>
                <a:lnTo>
                  <a:pt x="188" y="538"/>
                </a:lnTo>
                <a:lnTo>
                  <a:pt x="192" y="540"/>
                </a:lnTo>
                <a:lnTo>
                  <a:pt x="197" y="540"/>
                </a:lnTo>
                <a:lnTo>
                  <a:pt x="203" y="544"/>
                </a:lnTo>
                <a:lnTo>
                  <a:pt x="209" y="545"/>
                </a:lnTo>
                <a:lnTo>
                  <a:pt x="215" y="547"/>
                </a:lnTo>
                <a:lnTo>
                  <a:pt x="222" y="551"/>
                </a:lnTo>
                <a:lnTo>
                  <a:pt x="230" y="555"/>
                </a:lnTo>
                <a:lnTo>
                  <a:pt x="240" y="561"/>
                </a:lnTo>
                <a:lnTo>
                  <a:pt x="247" y="565"/>
                </a:lnTo>
                <a:lnTo>
                  <a:pt x="257" y="570"/>
                </a:lnTo>
                <a:lnTo>
                  <a:pt x="266" y="574"/>
                </a:lnTo>
                <a:lnTo>
                  <a:pt x="276" y="578"/>
                </a:lnTo>
                <a:lnTo>
                  <a:pt x="284" y="582"/>
                </a:lnTo>
                <a:lnTo>
                  <a:pt x="293" y="586"/>
                </a:lnTo>
                <a:lnTo>
                  <a:pt x="301" y="588"/>
                </a:lnTo>
                <a:lnTo>
                  <a:pt x="309" y="588"/>
                </a:lnTo>
                <a:lnTo>
                  <a:pt x="316" y="590"/>
                </a:lnTo>
                <a:lnTo>
                  <a:pt x="324" y="588"/>
                </a:lnTo>
                <a:lnTo>
                  <a:pt x="332" y="588"/>
                </a:lnTo>
                <a:lnTo>
                  <a:pt x="337" y="586"/>
                </a:lnTo>
                <a:lnTo>
                  <a:pt x="345" y="582"/>
                </a:lnTo>
                <a:lnTo>
                  <a:pt x="351" y="580"/>
                </a:lnTo>
                <a:lnTo>
                  <a:pt x="357" y="574"/>
                </a:lnTo>
                <a:lnTo>
                  <a:pt x="362" y="570"/>
                </a:lnTo>
                <a:lnTo>
                  <a:pt x="368" y="563"/>
                </a:lnTo>
                <a:lnTo>
                  <a:pt x="372" y="557"/>
                </a:lnTo>
                <a:lnTo>
                  <a:pt x="376" y="551"/>
                </a:lnTo>
                <a:lnTo>
                  <a:pt x="378" y="544"/>
                </a:lnTo>
                <a:lnTo>
                  <a:pt x="382" y="536"/>
                </a:lnTo>
                <a:lnTo>
                  <a:pt x="385" y="528"/>
                </a:lnTo>
                <a:lnTo>
                  <a:pt x="387" y="519"/>
                </a:lnTo>
                <a:lnTo>
                  <a:pt x="391" y="509"/>
                </a:lnTo>
                <a:lnTo>
                  <a:pt x="397" y="497"/>
                </a:lnTo>
                <a:lnTo>
                  <a:pt x="401" y="484"/>
                </a:lnTo>
                <a:lnTo>
                  <a:pt x="405" y="471"/>
                </a:lnTo>
                <a:lnTo>
                  <a:pt x="408" y="457"/>
                </a:lnTo>
                <a:lnTo>
                  <a:pt x="414" y="442"/>
                </a:lnTo>
                <a:lnTo>
                  <a:pt x="418" y="426"/>
                </a:lnTo>
                <a:lnTo>
                  <a:pt x="424" y="409"/>
                </a:lnTo>
                <a:lnTo>
                  <a:pt x="428" y="392"/>
                </a:lnTo>
                <a:lnTo>
                  <a:pt x="433" y="373"/>
                </a:lnTo>
                <a:lnTo>
                  <a:pt x="437" y="354"/>
                </a:lnTo>
                <a:lnTo>
                  <a:pt x="439" y="334"/>
                </a:lnTo>
                <a:lnTo>
                  <a:pt x="441" y="319"/>
                </a:lnTo>
                <a:lnTo>
                  <a:pt x="443" y="302"/>
                </a:lnTo>
                <a:lnTo>
                  <a:pt x="445" y="286"/>
                </a:lnTo>
                <a:lnTo>
                  <a:pt x="445" y="273"/>
                </a:lnTo>
                <a:lnTo>
                  <a:pt x="447" y="259"/>
                </a:lnTo>
                <a:lnTo>
                  <a:pt x="447" y="246"/>
                </a:lnTo>
                <a:lnTo>
                  <a:pt x="447" y="235"/>
                </a:lnTo>
                <a:lnTo>
                  <a:pt x="447" y="223"/>
                </a:lnTo>
                <a:lnTo>
                  <a:pt x="447" y="213"/>
                </a:lnTo>
                <a:lnTo>
                  <a:pt x="445" y="204"/>
                </a:lnTo>
                <a:lnTo>
                  <a:pt x="445" y="196"/>
                </a:lnTo>
                <a:lnTo>
                  <a:pt x="443" y="188"/>
                </a:lnTo>
                <a:lnTo>
                  <a:pt x="441" y="185"/>
                </a:lnTo>
                <a:lnTo>
                  <a:pt x="439" y="179"/>
                </a:lnTo>
                <a:lnTo>
                  <a:pt x="437" y="177"/>
                </a:lnTo>
                <a:lnTo>
                  <a:pt x="435" y="173"/>
                </a:lnTo>
                <a:lnTo>
                  <a:pt x="432" y="171"/>
                </a:lnTo>
                <a:lnTo>
                  <a:pt x="426" y="169"/>
                </a:lnTo>
                <a:lnTo>
                  <a:pt x="420" y="169"/>
                </a:lnTo>
                <a:lnTo>
                  <a:pt x="414" y="167"/>
                </a:lnTo>
                <a:lnTo>
                  <a:pt x="407" y="167"/>
                </a:lnTo>
                <a:lnTo>
                  <a:pt x="399" y="165"/>
                </a:lnTo>
                <a:lnTo>
                  <a:pt x="391" y="165"/>
                </a:lnTo>
                <a:lnTo>
                  <a:pt x="382" y="165"/>
                </a:lnTo>
                <a:lnTo>
                  <a:pt x="370" y="167"/>
                </a:lnTo>
                <a:lnTo>
                  <a:pt x="360" y="167"/>
                </a:lnTo>
                <a:lnTo>
                  <a:pt x="349" y="169"/>
                </a:lnTo>
                <a:lnTo>
                  <a:pt x="336" y="169"/>
                </a:lnTo>
                <a:lnTo>
                  <a:pt x="322" y="171"/>
                </a:lnTo>
                <a:lnTo>
                  <a:pt x="309" y="173"/>
                </a:lnTo>
                <a:lnTo>
                  <a:pt x="295" y="177"/>
                </a:lnTo>
                <a:lnTo>
                  <a:pt x="261" y="181"/>
                </a:lnTo>
                <a:lnTo>
                  <a:pt x="228" y="187"/>
                </a:lnTo>
                <a:lnTo>
                  <a:pt x="192" y="190"/>
                </a:lnTo>
                <a:lnTo>
                  <a:pt x="157" y="194"/>
                </a:lnTo>
                <a:lnTo>
                  <a:pt x="121" y="198"/>
                </a:lnTo>
                <a:lnTo>
                  <a:pt x="82" y="202"/>
                </a:lnTo>
                <a:lnTo>
                  <a:pt x="61" y="202"/>
                </a:lnTo>
                <a:lnTo>
                  <a:pt x="42" y="202"/>
                </a:lnTo>
                <a:lnTo>
                  <a:pt x="21" y="204"/>
                </a:lnTo>
                <a:lnTo>
                  <a:pt x="0" y="204"/>
                </a:lnTo>
                <a:lnTo>
                  <a:pt x="0" y="150"/>
                </a:lnTo>
                <a:lnTo>
                  <a:pt x="0" y="94"/>
                </a:lnTo>
                <a:lnTo>
                  <a:pt x="25" y="94"/>
                </a:lnTo>
                <a:lnTo>
                  <a:pt x="50" y="94"/>
                </a:lnTo>
                <a:lnTo>
                  <a:pt x="75" y="94"/>
                </a:lnTo>
                <a:lnTo>
                  <a:pt x="98" y="92"/>
                </a:lnTo>
                <a:lnTo>
                  <a:pt x="121" y="91"/>
                </a:lnTo>
                <a:lnTo>
                  <a:pt x="142" y="91"/>
                </a:lnTo>
                <a:lnTo>
                  <a:pt x="163" y="89"/>
                </a:lnTo>
                <a:lnTo>
                  <a:pt x="182" y="87"/>
                </a:lnTo>
                <a:lnTo>
                  <a:pt x="201" y="85"/>
                </a:lnTo>
                <a:lnTo>
                  <a:pt x="220" y="83"/>
                </a:lnTo>
                <a:lnTo>
                  <a:pt x="236" y="81"/>
                </a:lnTo>
                <a:lnTo>
                  <a:pt x="253" y="77"/>
                </a:lnTo>
                <a:lnTo>
                  <a:pt x="268" y="75"/>
                </a:lnTo>
                <a:lnTo>
                  <a:pt x="282" y="73"/>
                </a:lnTo>
                <a:lnTo>
                  <a:pt x="295" y="69"/>
                </a:lnTo>
                <a:lnTo>
                  <a:pt x="309" y="68"/>
                </a:lnTo>
                <a:lnTo>
                  <a:pt x="320" y="66"/>
                </a:lnTo>
                <a:lnTo>
                  <a:pt x="332" y="62"/>
                </a:lnTo>
                <a:lnTo>
                  <a:pt x="341" y="60"/>
                </a:lnTo>
                <a:lnTo>
                  <a:pt x="351" y="58"/>
                </a:lnTo>
                <a:lnTo>
                  <a:pt x="360" y="54"/>
                </a:lnTo>
                <a:lnTo>
                  <a:pt x="370" y="52"/>
                </a:lnTo>
                <a:lnTo>
                  <a:pt x="378" y="50"/>
                </a:lnTo>
                <a:lnTo>
                  <a:pt x="385" y="46"/>
                </a:lnTo>
                <a:lnTo>
                  <a:pt x="393" y="44"/>
                </a:lnTo>
                <a:lnTo>
                  <a:pt x="399" y="43"/>
                </a:lnTo>
                <a:lnTo>
                  <a:pt x="405" y="41"/>
                </a:lnTo>
                <a:lnTo>
                  <a:pt x="410" y="37"/>
                </a:lnTo>
                <a:lnTo>
                  <a:pt x="414" y="35"/>
                </a:lnTo>
                <a:lnTo>
                  <a:pt x="418" y="31"/>
                </a:lnTo>
                <a:lnTo>
                  <a:pt x="422" y="29"/>
                </a:lnTo>
                <a:lnTo>
                  <a:pt x="424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90"/>
          <p:cNvSpPr/>
          <p:nvPr/>
        </p:nvSpPr>
        <p:spPr>
          <a:xfrm>
            <a:off x="5510160" y="3710160"/>
            <a:ext cx="961920" cy="1207800"/>
          </a:xfrm>
          <a:custGeom>
            <a:avLst/>
            <a:gdLst/>
            <a:ahLst/>
            <a:rect l="l" t="t" r="r" b="b"/>
            <a:pathLst>
              <a:path w="1213" h="1523">
                <a:moveTo>
                  <a:pt x="634" y="69"/>
                </a:moveTo>
                <a:lnTo>
                  <a:pt x="666" y="69"/>
                </a:lnTo>
                <a:lnTo>
                  <a:pt x="699" y="68"/>
                </a:lnTo>
                <a:lnTo>
                  <a:pt x="728" y="68"/>
                </a:lnTo>
                <a:lnTo>
                  <a:pt x="757" y="68"/>
                </a:lnTo>
                <a:lnTo>
                  <a:pt x="770" y="66"/>
                </a:lnTo>
                <a:lnTo>
                  <a:pt x="783" y="66"/>
                </a:lnTo>
                <a:lnTo>
                  <a:pt x="797" y="64"/>
                </a:lnTo>
                <a:lnTo>
                  <a:pt x="808" y="64"/>
                </a:lnTo>
                <a:lnTo>
                  <a:pt x="820" y="62"/>
                </a:lnTo>
                <a:lnTo>
                  <a:pt x="831" y="60"/>
                </a:lnTo>
                <a:lnTo>
                  <a:pt x="843" y="58"/>
                </a:lnTo>
                <a:lnTo>
                  <a:pt x="852" y="56"/>
                </a:lnTo>
                <a:lnTo>
                  <a:pt x="866" y="54"/>
                </a:lnTo>
                <a:lnTo>
                  <a:pt x="881" y="52"/>
                </a:lnTo>
                <a:lnTo>
                  <a:pt x="895" y="50"/>
                </a:lnTo>
                <a:lnTo>
                  <a:pt x="908" y="46"/>
                </a:lnTo>
                <a:lnTo>
                  <a:pt x="922" y="43"/>
                </a:lnTo>
                <a:lnTo>
                  <a:pt x="933" y="39"/>
                </a:lnTo>
                <a:lnTo>
                  <a:pt x="945" y="33"/>
                </a:lnTo>
                <a:lnTo>
                  <a:pt x="956" y="27"/>
                </a:lnTo>
                <a:lnTo>
                  <a:pt x="960" y="23"/>
                </a:lnTo>
                <a:lnTo>
                  <a:pt x="968" y="18"/>
                </a:lnTo>
                <a:lnTo>
                  <a:pt x="975" y="14"/>
                </a:lnTo>
                <a:lnTo>
                  <a:pt x="983" y="10"/>
                </a:lnTo>
                <a:lnTo>
                  <a:pt x="991" y="6"/>
                </a:lnTo>
                <a:lnTo>
                  <a:pt x="1000" y="2"/>
                </a:lnTo>
                <a:lnTo>
                  <a:pt x="1010" y="2"/>
                </a:lnTo>
                <a:lnTo>
                  <a:pt x="1019" y="0"/>
                </a:lnTo>
                <a:lnTo>
                  <a:pt x="1025" y="0"/>
                </a:lnTo>
                <a:lnTo>
                  <a:pt x="1031" y="2"/>
                </a:lnTo>
                <a:lnTo>
                  <a:pt x="1035" y="4"/>
                </a:lnTo>
                <a:lnTo>
                  <a:pt x="1043" y="6"/>
                </a:lnTo>
                <a:lnTo>
                  <a:pt x="1048" y="8"/>
                </a:lnTo>
                <a:lnTo>
                  <a:pt x="1054" y="12"/>
                </a:lnTo>
                <a:lnTo>
                  <a:pt x="1062" y="16"/>
                </a:lnTo>
                <a:lnTo>
                  <a:pt x="1067" y="20"/>
                </a:lnTo>
                <a:lnTo>
                  <a:pt x="1075" y="23"/>
                </a:lnTo>
                <a:lnTo>
                  <a:pt x="1083" y="29"/>
                </a:lnTo>
                <a:lnTo>
                  <a:pt x="1100" y="41"/>
                </a:lnTo>
                <a:lnTo>
                  <a:pt x="1117" y="54"/>
                </a:lnTo>
                <a:lnTo>
                  <a:pt x="1137" y="69"/>
                </a:lnTo>
                <a:lnTo>
                  <a:pt x="1146" y="79"/>
                </a:lnTo>
                <a:lnTo>
                  <a:pt x="1154" y="89"/>
                </a:lnTo>
                <a:lnTo>
                  <a:pt x="1162" y="98"/>
                </a:lnTo>
                <a:lnTo>
                  <a:pt x="1169" y="106"/>
                </a:lnTo>
                <a:lnTo>
                  <a:pt x="1177" y="116"/>
                </a:lnTo>
                <a:lnTo>
                  <a:pt x="1183" y="123"/>
                </a:lnTo>
                <a:lnTo>
                  <a:pt x="1188" y="131"/>
                </a:lnTo>
                <a:lnTo>
                  <a:pt x="1194" y="139"/>
                </a:lnTo>
                <a:lnTo>
                  <a:pt x="1198" y="144"/>
                </a:lnTo>
                <a:lnTo>
                  <a:pt x="1202" y="152"/>
                </a:lnTo>
                <a:lnTo>
                  <a:pt x="1206" y="158"/>
                </a:lnTo>
                <a:lnTo>
                  <a:pt x="1208" y="162"/>
                </a:lnTo>
                <a:lnTo>
                  <a:pt x="1211" y="167"/>
                </a:lnTo>
                <a:lnTo>
                  <a:pt x="1211" y="171"/>
                </a:lnTo>
                <a:lnTo>
                  <a:pt x="1213" y="175"/>
                </a:lnTo>
                <a:lnTo>
                  <a:pt x="1213" y="177"/>
                </a:lnTo>
                <a:lnTo>
                  <a:pt x="1213" y="187"/>
                </a:lnTo>
                <a:lnTo>
                  <a:pt x="1211" y="198"/>
                </a:lnTo>
                <a:lnTo>
                  <a:pt x="1208" y="208"/>
                </a:lnTo>
                <a:lnTo>
                  <a:pt x="1204" y="215"/>
                </a:lnTo>
                <a:lnTo>
                  <a:pt x="1198" y="225"/>
                </a:lnTo>
                <a:lnTo>
                  <a:pt x="1192" y="233"/>
                </a:lnTo>
                <a:lnTo>
                  <a:pt x="1185" y="238"/>
                </a:lnTo>
                <a:lnTo>
                  <a:pt x="1175" y="246"/>
                </a:lnTo>
                <a:lnTo>
                  <a:pt x="1171" y="246"/>
                </a:lnTo>
                <a:lnTo>
                  <a:pt x="1167" y="248"/>
                </a:lnTo>
                <a:lnTo>
                  <a:pt x="1163" y="252"/>
                </a:lnTo>
                <a:lnTo>
                  <a:pt x="1160" y="254"/>
                </a:lnTo>
                <a:lnTo>
                  <a:pt x="1156" y="258"/>
                </a:lnTo>
                <a:lnTo>
                  <a:pt x="1152" y="263"/>
                </a:lnTo>
                <a:lnTo>
                  <a:pt x="1148" y="267"/>
                </a:lnTo>
                <a:lnTo>
                  <a:pt x="1142" y="273"/>
                </a:lnTo>
                <a:lnTo>
                  <a:pt x="1138" y="279"/>
                </a:lnTo>
                <a:lnTo>
                  <a:pt x="1135" y="284"/>
                </a:lnTo>
                <a:lnTo>
                  <a:pt x="1131" y="292"/>
                </a:lnTo>
                <a:lnTo>
                  <a:pt x="1125" y="298"/>
                </a:lnTo>
                <a:lnTo>
                  <a:pt x="1121" y="308"/>
                </a:lnTo>
                <a:lnTo>
                  <a:pt x="1115" y="315"/>
                </a:lnTo>
                <a:lnTo>
                  <a:pt x="1112" y="323"/>
                </a:lnTo>
                <a:lnTo>
                  <a:pt x="1106" y="332"/>
                </a:lnTo>
                <a:lnTo>
                  <a:pt x="1096" y="354"/>
                </a:lnTo>
                <a:lnTo>
                  <a:pt x="1087" y="375"/>
                </a:lnTo>
                <a:lnTo>
                  <a:pt x="1077" y="398"/>
                </a:lnTo>
                <a:lnTo>
                  <a:pt x="1066" y="425"/>
                </a:lnTo>
                <a:lnTo>
                  <a:pt x="1054" y="451"/>
                </a:lnTo>
                <a:lnTo>
                  <a:pt x="1043" y="480"/>
                </a:lnTo>
                <a:lnTo>
                  <a:pt x="1031" y="511"/>
                </a:lnTo>
                <a:lnTo>
                  <a:pt x="1019" y="544"/>
                </a:lnTo>
                <a:lnTo>
                  <a:pt x="1008" y="576"/>
                </a:lnTo>
                <a:lnTo>
                  <a:pt x="995" y="609"/>
                </a:lnTo>
                <a:lnTo>
                  <a:pt x="979" y="641"/>
                </a:lnTo>
                <a:lnTo>
                  <a:pt x="966" y="674"/>
                </a:lnTo>
                <a:lnTo>
                  <a:pt x="948" y="705"/>
                </a:lnTo>
                <a:lnTo>
                  <a:pt x="933" y="736"/>
                </a:lnTo>
                <a:lnTo>
                  <a:pt x="916" y="766"/>
                </a:lnTo>
                <a:lnTo>
                  <a:pt x="897" y="797"/>
                </a:lnTo>
                <a:lnTo>
                  <a:pt x="879" y="828"/>
                </a:lnTo>
                <a:lnTo>
                  <a:pt x="860" y="858"/>
                </a:lnTo>
                <a:lnTo>
                  <a:pt x="839" y="887"/>
                </a:lnTo>
                <a:lnTo>
                  <a:pt x="820" y="916"/>
                </a:lnTo>
                <a:lnTo>
                  <a:pt x="778" y="975"/>
                </a:lnTo>
                <a:lnTo>
                  <a:pt x="735" y="1031"/>
                </a:lnTo>
                <a:lnTo>
                  <a:pt x="712" y="1060"/>
                </a:lnTo>
                <a:lnTo>
                  <a:pt x="687" y="1087"/>
                </a:lnTo>
                <a:lnTo>
                  <a:pt x="661" y="1114"/>
                </a:lnTo>
                <a:lnTo>
                  <a:pt x="636" y="1139"/>
                </a:lnTo>
                <a:lnTo>
                  <a:pt x="609" y="1164"/>
                </a:lnTo>
                <a:lnTo>
                  <a:pt x="582" y="1189"/>
                </a:lnTo>
                <a:lnTo>
                  <a:pt x="553" y="1212"/>
                </a:lnTo>
                <a:lnTo>
                  <a:pt x="524" y="1235"/>
                </a:lnTo>
                <a:lnTo>
                  <a:pt x="495" y="1258"/>
                </a:lnTo>
                <a:lnTo>
                  <a:pt x="467" y="1279"/>
                </a:lnTo>
                <a:lnTo>
                  <a:pt x="438" y="1300"/>
                </a:lnTo>
                <a:lnTo>
                  <a:pt x="407" y="1321"/>
                </a:lnTo>
                <a:lnTo>
                  <a:pt x="376" y="1340"/>
                </a:lnTo>
                <a:lnTo>
                  <a:pt x="348" y="1361"/>
                </a:lnTo>
                <a:lnTo>
                  <a:pt x="315" y="1379"/>
                </a:lnTo>
                <a:lnTo>
                  <a:pt x="284" y="1398"/>
                </a:lnTo>
                <a:lnTo>
                  <a:pt x="269" y="1407"/>
                </a:lnTo>
                <a:lnTo>
                  <a:pt x="252" y="1415"/>
                </a:lnTo>
                <a:lnTo>
                  <a:pt x="236" y="1423"/>
                </a:lnTo>
                <a:lnTo>
                  <a:pt x="221" y="1430"/>
                </a:lnTo>
                <a:lnTo>
                  <a:pt x="208" y="1438"/>
                </a:lnTo>
                <a:lnTo>
                  <a:pt x="192" y="1446"/>
                </a:lnTo>
                <a:lnTo>
                  <a:pt x="179" y="1453"/>
                </a:lnTo>
                <a:lnTo>
                  <a:pt x="167" y="1459"/>
                </a:lnTo>
                <a:lnTo>
                  <a:pt x="154" y="1465"/>
                </a:lnTo>
                <a:lnTo>
                  <a:pt x="142" y="1471"/>
                </a:lnTo>
                <a:lnTo>
                  <a:pt x="131" y="1476"/>
                </a:lnTo>
                <a:lnTo>
                  <a:pt x="119" y="1482"/>
                </a:lnTo>
                <a:lnTo>
                  <a:pt x="110" y="1488"/>
                </a:lnTo>
                <a:lnTo>
                  <a:pt x="98" y="1492"/>
                </a:lnTo>
                <a:lnTo>
                  <a:pt x="89" y="1496"/>
                </a:lnTo>
                <a:lnTo>
                  <a:pt x="81" y="1499"/>
                </a:lnTo>
                <a:lnTo>
                  <a:pt x="71" y="1503"/>
                </a:lnTo>
                <a:lnTo>
                  <a:pt x="64" y="1507"/>
                </a:lnTo>
                <a:lnTo>
                  <a:pt x="56" y="1511"/>
                </a:lnTo>
                <a:lnTo>
                  <a:pt x="48" y="1513"/>
                </a:lnTo>
                <a:lnTo>
                  <a:pt x="43" y="1515"/>
                </a:lnTo>
                <a:lnTo>
                  <a:pt x="37" y="1517"/>
                </a:lnTo>
                <a:lnTo>
                  <a:pt x="25" y="1521"/>
                </a:lnTo>
                <a:lnTo>
                  <a:pt x="16" y="1523"/>
                </a:lnTo>
                <a:lnTo>
                  <a:pt x="10" y="1523"/>
                </a:lnTo>
                <a:lnTo>
                  <a:pt x="4" y="1523"/>
                </a:lnTo>
                <a:lnTo>
                  <a:pt x="0" y="1521"/>
                </a:lnTo>
                <a:lnTo>
                  <a:pt x="0" y="1517"/>
                </a:lnTo>
                <a:lnTo>
                  <a:pt x="0" y="1515"/>
                </a:lnTo>
                <a:lnTo>
                  <a:pt x="0" y="1511"/>
                </a:lnTo>
                <a:lnTo>
                  <a:pt x="0" y="1507"/>
                </a:lnTo>
                <a:lnTo>
                  <a:pt x="2" y="1503"/>
                </a:lnTo>
                <a:lnTo>
                  <a:pt x="4" y="1499"/>
                </a:lnTo>
                <a:lnTo>
                  <a:pt x="8" y="1494"/>
                </a:lnTo>
                <a:lnTo>
                  <a:pt x="10" y="1490"/>
                </a:lnTo>
                <a:lnTo>
                  <a:pt x="14" y="1484"/>
                </a:lnTo>
                <a:lnTo>
                  <a:pt x="19" y="1478"/>
                </a:lnTo>
                <a:lnTo>
                  <a:pt x="23" y="1473"/>
                </a:lnTo>
                <a:lnTo>
                  <a:pt x="29" y="1467"/>
                </a:lnTo>
                <a:lnTo>
                  <a:pt x="37" y="1461"/>
                </a:lnTo>
                <a:lnTo>
                  <a:pt x="43" y="1453"/>
                </a:lnTo>
                <a:lnTo>
                  <a:pt x="50" y="1446"/>
                </a:lnTo>
                <a:lnTo>
                  <a:pt x="58" y="1440"/>
                </a:lnTo>
                <a:lnTo>
                  <a:pt x="66" y="1432"/>
                </a:lnTo>
                <a:lnTo>
                  <a:pt x="75" y="1423"/>
                </a:lnTo>
                <a:lnTo>
                  <a:pt x="85" y="1415"/>
                </a:lnTo>
                <a:lnTo>
                  <a:pt x="94" y="1405"/>
                </a:lnTo>
                <a:lnTo>
                  <a:pt x="106" y="1398"/>
                </a:lnTo>
                <a:lnTo>
                  <a:pt x="117" y="1388"/>
                </a:lnTo>
                <a:lnTo>
                  <a:pt x="129" y="1379"/>
                </a:lnTo>
                <a:lnTo>
                  <a:pt x="140" y="1369"/>
                </a:lnTo>
                <a:lnTo>
                  <a:pt x="154" y="1357"/>
                </a:lnTo>
                <a:lnTo>
                  <a:pt x="167" y="1348"/>
                </a:lnTo>
                <a:lnTo>
                  <a:pt x="181" y="1336"/>
                </a:lnTo>
                <a:lnTo>
                  <a:pt x="196" y="1325"/>
                </a:lnTo>
                <a:lnTo>
                  <a:pt x="211" y="1313"/>
                </a:lnTo>
                <a:lnTo>
                  <a:pt x="227" y="1302"/>
                </a:lnTo>
                <a:lnTo>
                  <a:pt x="242" y="1288"/>
                </a:lnTo>
                <a:lnTo>
                  <a:pt x="259" y="1277"/>
                </a:lnTo>
                <a:lnTo>
                  <a:pt x="292" y="1250"/>
                </a:lnTo>
                <a:lnTo>
                  <a:pt x="325" y="1223"/>
                </a:lnTo>
                <a:lnTo>
                  <a:pt x="355" y="1198"/>
                </a:lnTo>
                <a:lnTo>
                  <a:pt x="386" y="1171"/>
                </a:lnTo>
                <a:lnTo>
                  <a:pt x="417" y="1144"/>
                </a:lnTo>
                <a:lnTo>
                  <a:pt x="446" y="1118"/>
                </a:lnTo>
                <a:lnTo>
                  <a:pt x="474" y="1091"/>
                </a:lnTo>
                <a:lnTo>
                  <a:pt x="501" y="1064"/>
                </a:lnTo>
                <a:lnTo>
                  <a:pt x="526" y="1037"/>
                </a:lnTo>
                <a:lnTo>
                  <a:pt x="553" y="1008"/>
                </a:lnTo>
                <a:lnTo>
                  <a:pt x="576" y="981"/>
                </a:lnTo>
                <a:lnTo>
                  <a:pt x="601" y="954"/>
                </a:lnTo>
                <a:lnTo>
                  <a:pt x="622" y="926"/>
                </a:lnTo>
                <a:lnTo>
                  <a:pt x="645" y="899"/>
                </a:lnTo>
                <a:lnTo>
                  <a:pt x="664" y="870"/>
                </a:lnTo>
                <a:lnTo>
                  <a:pt x="686" y="841"/>
                </a:lnTo>
                <a:lnTo>
                  <a:pt x="703" y="814"/>
                </a:lnTo>
                <a:lnTo>
                  <a:pt x="722" y="785"/>
                </a:lnTo>
                <a:lnTo>
                  <a:pt x="739" y="759"/>
                </a:lnTo>
                <a:lnTo>
                  <a:pt x="757" y="732"/>
                </a:lnTo>
                <a:lnTo>
                  <a:pt x="774" y="705"/>
                </a:lnTo>
                <a:lnTo>
                  <a:pt x="789" y="678"/>
                </a:lnTo>
                <a:lnTo>
                  <a:pt x="805" y="651"/>
                </a:lnTo>
                <a:lnTo>
                  <a:pt x="818" y="624"/>
                </a:lnTo>
                <a:lnTo>
                  <a:pt x="831" y="597"/>
                </a:lnTo>
                <a:lnTo>
                  <a:pt x="845" y="570"/>
                </a:lnTo>
                <a:lnTo>
                  <a:pt x="856" y="544"/>
                </a:lnTo>
                <a:lnTo>
                  <a:pt x="868" y="517"/>
                </a:lnTo>
                <a:lnTo>
                  <a:pt x="877" y="490"/>
                </a:lnTo>
                <a:lnTo>
                  <a:pt x="887" y="463"/>
                </a:lnTo>
                <a:lnTo>
                  <a:pt x="897" y="436"/>
                </a:lnTo>
                <a:lnTo>
                  <a:pt x="904" y="407"/>
                </a:lnTo>
                <a:lnTo>
                  <a:pt x="910" y="382"/>
                </a:lnTo>
                <a:lnTo>
                  <a:pt x="918" y="359"/>
                </a:lnTo>
                <a:lnTo>
                  <a:pt x="924" y="338"/>
                </a:lnTo>
                <a:lnTo>
                  <a:pt x="927" y="317"/>
                </a:lnTo>
                <a:lnTo>
                  <a:pt x="933" y="296"/>
                </a:lnTo>
                <a:lnTo>
                  <a:pt x="937" y="279"/>
                </a:lnTo>
                <a:lnTo>
                  <a:pt x="941" y="261"/>
                </a:lnTo>
                <a:lnTo>
                  <a:pt x="945" y="246"/>
                </a:lnTo>
                <a:lnTo>
                  <a:pt x="947" y="233"/>
                </a:lnTo>
                <a:lnTo>
                  <a:pt x="948" y="221"/>
                </a:lnTo>
                <a:lnTo>
                  <a:pt x="950" y="210"/>
                </a:lnTo>
                <a:lnTo>
                  <a:pt x="952" y="200"/>
                </a:lnTo>
                <a:lnTo>
                  <a:pt x="954" y="192"/>
                </a:lnTo>
                <a:lnTo>
                  <a:pt x="954" y="185"/>
                </a:lnTo>
                <a:lnTo>
                  <a:pt x="954" y="181"/>
                </a:lnTo>
                <a:lnTo>
                  <a:pt x="956" y="177"/>
                </a:lnTo>
                <a:lnTo>
                  <a:pt x="954" y="175"/>
                </a:lnTo>
                <a:lnTo>
                  <a:pt x="952" y="175"/>
                </a:lnTo>
                <a:lnTo>
                  <a:pt x="948" y="173"/>
                </a:lnTo>
                <a:lnTo>
                  <a:pt x="947" y="173"/>
                </a:lnTo>
                <a:lnTo>
                  <a:pt x="941" y="171"/>
                </a:lnTo>
                <a:lnTo>
                  <a:pt x="937" y="171"/>
                </a:lnTo>
                <a:lnTo>
                  <a:pt x="931" y="169"/>
                </a:lnTo>
                <a:lnTo>
                  <a:pt x="925" y="169"/>
                </a:lnTo>
                <a:lnTo>
                  <a:pt x="920" y="169"/>
                </a:lnTo>
                <a:lnTo>
                  <a:pt x="912" y="167"/>
                </a:lnTo>
                <a:lnTo>
                  <a:pt x="904" y="167"/>
                </a:lnTo>
                <a:lnTo>
                  <a:pt x="897" y="167"/>
                </a:lnTo>
                <a:lnTo>
                  <a:pt x="887" y="165"/>
                </a:lnTo>
                <a:lnTo>
                  <a:pt x="877" y="165"/>
                </a:lnTo>
                <a:lnTo>
                  <a:pt x="868" y="165"/>
                </a:lnTo>
                <a:lnTo>
                  <a:pt x="856" y="165"/>
                </a:lnTo>
                <a:lnTo>
                  <a:pt x="845" y="165"/>
                </a:lnTo>
                <a:lnTo>
                  <a:pt x="833" y="165"/>
                </a:lnTo>
                <a:lnTo>
                  <a:pt x="820" y="164"/>
                </a:lnTo>
                <a:lnTo>
                  <a:pt x="806" y="164"/>
                </a:lnTo>
                <a:lnTo>
                  <a:pt x="793" y="164"/>
                </a:lnTo>
                <a:lnTo>
                  <a:pt x="778" y="164"/>
                </a:lnTo>
                <a:lnTo>
                  <a:pt x="762" y="164"/>
                </a:lnTo>
                <a:lnTo>
                  <a:pt x="747" y="164"/>
                </a:lnTo>
                <a:lnTo>
                  <a:pt x="730" y="164"/>
                </a:lnTo>
                <a:lnTo>
                  <a:pt x="712" y="164"/>
                </a:lnTo>
                <a:lnTo>
                  <a:pt x="695" y="164"/>
                </a:lnTo>
                <a:lnTo>
                  <a:pt x="676" y="164"/>
                </a:lnTo>
                <a:lnTo>
                  <a:pt x="657" y="164"/>
                </a:lnTo>
                <a:lnTo>
                  <a:pt x="638" y="164"/>
                </a:lnTo>
                <a:lnTo>
                  <a:pt x="616" y="164"/>
                </a:lnTo>
                <a:lnTo>
                  <a:pt x="595" y="164"/>
                </a:lnTo>
                <a:lnTo>
                  <a:pt x="614" y="116"/>
                </a:lnTo>
                <a:lnTo>
                  <a:pt x="634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91"/>
          <p:cNvSpPr/>
          <p:nvPr/>
        </p:nvSpPr>
        <p:spPr>
          <a:xfrm>
            <a:off x="5869080" y="4054320"/>
            <a:ext cx="214200" cy="241560"/>
          </a:xfrm>
          <a:custGeom>
            <a:avLst/>
            <a:gdLst/>
            <a:ahLst/>
            <a:rect l="l" t="t" r="r" b="b"/>
            <a:pathLst>
              <a:path w="271" h="305">
                <a:moveTo>
                  <a:pt x="0" y="0"/>
                </a:moveTo>
                <a:lnTo>
                  <a:pt x="12" y="0"/>
                </a:lnTo>
                <a:lnTo>
                  <a:pt x="23" y="2"/>
                </a:lnTo>
                <a:lnTo>
                  <a:pt x="35" y="4"/>
                </a:lnTo>
                <a:lnTo>
                  <a:pt x="48" y="6"/>
                </a:lnTo>
                <a:lnTo>
                  <a:pt x="60" y="8"/>
                </a:lnTo>
                <a:lnTo>
                  <a:pt x="71" y="12"/>
                </a:lnTo>
                <a:lnTo>
                  <a:pt x="85" y="16"/>
                </a:lnTo>
                <a:lnTo>
                  <a:pt x="96" y="19"/>
                </a:lnTo>
                <a:lnTo>
                  <a:pt x="108" y="23"/>
                </a:lnTo>
                <a:lnTo>
                  <a:pt x="121" y="29"/>
                </a:lnTo>
                <a:lnTo>
                  <a:pt x="144" y="40"/>
                </a:lnTo>
                <a:lnTo>
                  <a:pt x="169" y="54"/>
                </a:lnTo>
                <a:lnTo>
                  <a:pt x="192" y="69"/>
                </a:lnTo>
                <a:lnTo>
                  <a:pt x="202" y="79"/>
                </a:lnTo>
                <a:lnTo>
                  <a:pt x="211" y="88"/>
                </a:lnTo>
                <a:lnTo>
                  <a:pt x="219" y="98"/>
                </a:lnTo>
                <a:lnTo>
                  <a:pt x="227" y="108"/>
                </a:lnTo>
                <a:lnTo>
                  <a:pt x="234" y="117"/>
                </a:lnTo>
                <a:lnTo>
                  <a:pt x="240" y="125"/>
                </a:lnTo>
                <a:lnTo>
                  <a:pt x="246" y="133"/>
                </a:lnTo>
                <a:lnTo>
                  <a:pt x="252" y="142"/>
                </a:lnTo>
                <a:lnTo>
                  <a:pt x="256" y="150"/>
                </a:lnTo>
                <a:lnTo>
                  <a:pt x="259" y="158"/>
                </a:lnTo>
                <a:lnTo>
                  <a:pt x="263" y="165"/>
                </a:lnTo>
                <a:lnTo>
                  <a:pt x="265" y="173"/>
                </a:lnTo>
                <a:lnTo>
                  <a:pt x="267" y="181"/>
                </a:lnTo>
                <a:lnTo>
                  <a:pt x="269" y="188"/>
                </a:lnTo>
                <a:lnTo>
                  <a:pt x="271" y="196"/>
                </a:lnTo>
                <a:lnTo>
                  <a:pt x="271" y="204"/>
                </a:lnTo>
                <a:lnTo>
                  <a:pt x="269" y="219"/>
                </a:lnTo>
                <a:lnTo>
                  <a:pt x="267" y="232"/>
                </a:lnTo>
                <a:lnTo>
                  <a:pt x="265" y="244"/>
                </a:lnTo>
                <a:lnTo>
                  <a:pt x="259" y="255"/>
                </a:lnTo>
                <a:lnTo>
                  <a:pt x="256" y="259"/>
                </a:lnTo>
                <a:lnTo>
                  <a:pt x="252" y="265"/>
                </a:lnTo>
                <a:lnTo>
                  <a:pt x="248" y="269"/>
                </a:lnTo>
                <a:lnTo>
                  <a:pt x="242" y="273"/>
                </a:lnTo>
                <a:lnTo>
                  <a:pt x="238" y="277"/>
                </a:lnTo>
                <a:lnTo>
                  <a:pt x="233" y="280"/>
                </a:lnTo>
                <a:lnTo>
                  <a:pt x="225" y="282"/>
                </a:lnTo>
                <a:lnTo>
                  <a:pt x="219" y="286"/>
                </a:lnTo>
                <a:lnTo>
                  <a:pt x="211" y="290"/>
                </a:lnTo>
                <a:lnTo>
                  <a:pt x="206" y="294"/>
                </a:lnTo>
                <a:lnTo>
                  <a:pt x="200" y="298"/>
                </a:lnTo>
                <a:lnTo>
                  <a:pt x="194" y="302"/>
                </a:lnTo>
                <a:lnTo>
                  <a:pt x="188" y="303"/>
                </a:lnTo>
                <a:lnTo>
                  <a:pt x="185" y="305"/>
                </a:lnTo>
                <a:lnTo>
                  <a:pt x="181" y="305"/>
                </a:lnTo>
                <a:lnTo>
                  <a:pt x="177" y="305"/>
                </a:lnTo>
                <a:lnTo>
                  <a:pt x="173" y="305"/>
                </a:lnTo>
                <a:lnTo>
                  <a:pt x="169" y="305"/>
                </a:lnTo>
                <a:lnTo>
                  <a:pt x="167" y="303"/>
                </a:lnTo>
                <a:lnTo>
                  <a:pt x="163" y="302"/>
                </a:lnTo>
                <a:lnTo>
                  <a:pt x="161" y="298"/>
                </a:lnTo>
                <a:lnTo>
                  <a:pt x="160" y="294"/>
                </a:lnTo>
                <a:lnTo>
                  <a:pt x="156" y="290"/>
                </a:lnTo>
                <a:lnTo>
                  <a:pt x="154" y="286"/>
                </a:lnTo>
                <a:lnTo>
                  <a:pt x="152" y="280"/>
                </a:lnTo>
                <a:lnTo>
                  <a:pt x="148" y="273"/>
                </a:lnTo>
                <a:lnTo>
                  <a:pt x="142" y="263"/>
                </a:lnTo>
                <a:lnTo>
                  <a:pt x="137" y="254"/>
                </a:lnTo>
                <a:lnTo>
                  <a:pt x="131" y="240"/>
                </a:lnTo>
                <a:lnTo>
                  <a:pt x="123" y="227"/>
                </a:lnTo>
                <a:lnTo>
                  <a:pt x="115" y="211"/>
                </a:lnTo>
                <a:lnTo>
                  <a:pt x="106" y="194"/>
                </a:lnTo>
                <a:lnTo>
                  <a:pt x="94" y="175"/>
                </a:lnTo>
                <a:lnTo>
                  <a:pt x="85" y="156"/>
                </a:lnTo>
                <a:lnTo>
                  <a:pt x="71" y="135"/>
                </a:lnTo>
                <a:lnTo>
                  <a:pt x="60" y="110"/>
                </a:lnTo>
                <a:lnTo>
                  <a:pt x="46" y="85"/>
                </a:lnTo>
                <a:lnTo>
                  <a:pt x="31" y="60"/>
                </a:lnTo>
                <a:lnTo>
                  <a:pt x="16" y="3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92"/>
          <p:cNvSpPr/>
          <p:nvPr/>
        </p:nvSpPr>
        <p:spPr>
          <a:xfrm>
            <a:off x="5653080" y="3405240"/>
            <a:ext cx="574560" cy="792000"/>
          </a:xfrm>
          <a:custGeom>
            <a:avLst/>
            <a:gdLst/>
            <a:ahLst/>
            <a:rect l="l" t="t" r="r" b="b"/>
            <a:pathLst>
              <a:path w="723" h="999">
                <a:moveTo>
                  <a:pt x="2" y="995"/>
                </a:moveTo>
                <a:lnTo>
                  <a:pt x="0" y="991"/>
                </a:lnTo>
                <a:lnTo>
                  <a:pt x="0" y="987"/>
                </a:lnTo>
                <a:lnTo>
                  <a:pt x="2" y="979"/>
                </a:lnTo>
                <a:lnTo>
                  <a:pt x="5" y="970"/>
                </a:lnTo>
                <a:lnTo>
                  <a:pt x="11" y="958"/>
                </a:lnTo>
                <a:lnTo>
                  <a:pt x="19" y="947"/>
                </a:lnTo>
                <a:lnTo>
                  <a:pt x="27" y="931"/>
                </a:lnTo>
                <a:lnTo>
                  <a:pt x="38" y="916"/>
                </a:lnTo>
                <a:lnTo>
                  <a:pt x="50" y="899"/>
                </a:lnTo>
                <a:lnTo>
                  <a:pt x="65" y="878"/>
                </a:lnTo>
                <a:lnTo>
                  <a:pt x="80" y="857"/>
                </a:lnTo>
                <a:lnTo>
                  <a:pt x="98" y="834"/>
                </a:lnTo>
                <a:lnTo>
                  <a:pt x="117" y="809"/>
                </a:lnTo>
                <a:lnTo>
                  <a:pt x="136" y="782"/>
                </a:lnTo>
                <a:lnTo>
                  <a:pt x="157" y="755"/>
                </a:lnTo>
                <a:lnTo>
                  <a:pt x="182" y="724"/>
                </a:lnTo>
                <a:lnTo>
                  <a:pt x="203" y="693"/>
                </a:lnTo>
                <a:lnTo>
                  <a:pt x="222" y="663"/>
                </a:lnTo>
                <a:lnTo>
                  <a:pt x="243" y="634"/>
                </a:lnTo>
                <a:lnTo>
                  <a:pt x="263" y="605"/>
                </a:lnTo>
                <a:lnTo>
                  <a:pt x="282" y="574"/>
                </a:lnTo>
                <a:lnTo>
                  <a:pt x="301" y="548"/>
                </a:lnTo>
                <a:lnTo>
                  <a:pt x="318" y="519"/>
                </a:lnTo>
                <a:lnTo>
                  <a:pt x="336" y="492"/>
                </a:lnTo>
                <a:lnTo>
                  <a:pt x="353" y="465"/>
                </a:lnTo>
                <a:lnTo>
                  <a:pt x="368" y="438"/>
                </a:lnTo>
                <a:lnTo>
                  <a:pt x="384" y="411"/>
                </a:lnTo>
                <a:lnTo>
                  <a:pt x="399" y="386"/>
                </a:lnTo>
                <a:lnTo>
                  <a:pt x="412" y="361"/>
                </a:lnTo>
                <a:lnTo>
                  <a:pt x="426" y="336"/>
                </a:lnTo>
                <a:lnTo>
                  <a:pt x="439" y="313"/>
                </a:lnTo>
                <a:lnTo>
                  <a:pt x="453" y="290"/>
                </a:lnTo>
                <a:lnTo>
                  <a:pt x="460" y="267"/>
                </a:lnTo>
                <a:lnTo>
                  <a:pt x="470" y="246"/>
                </a:lnTo>
                <a:lnTo>
                  <a:pt x="476" y="225"/>
                </a:lnTo>
                <a:lnTo>
                  <a:pt x="483" y="206"/>
                </a:lnTo>
                <a:lnTo>
                  <a:pt x="489" y="189"/>
                </a:lnTo>
                <a:lnTo>
                  <a:pt x="493" y="169"/>
                </a:lnTo>
                <a:lnTo>
                  <a:pt x="499" y="154"/>
                </a:lnTo>
                <a:lnTo>
                  <a:pt x="501" y="139"/>
                </a:lnTo>
                <a:lnTo>
                  <a:pt x="505" y="125"/>
                </a:lnTo>
                <a:lnTo>
                  <a:pt x="506" y="112"/>
                </a:lnTo>
                <a:lnTo>
                  <a:pt x="506" y="100"/>
                </a:lnTo>
                <a:lnTo>
                  <a:pt x="508" y="89"/>
                </a:lnTo>
                <a:lnTo>
                  <a:pt x="508" y="79"/>
                </a:lnTo>
                <a:lnTo>
                  <a:pt x="506" y="72"/>
                </a:lnTo>
                <a:lnTo>
                  <a:pt x="506" y="66"/>
                </a:lnTo>
                <a:lnTo>
                  <a:pt x="505" y="60"/>
                </a:lnTo>
                <a:lnTo>
                  <a:pt x="499" y="56"/>
                </a:lnTo>
                <a:lnTo>
                  <a:pt x="495" y="54"/>
                </a:lnTo>
                <a:lnTo>
                  <a:pt x="491" y="50"/>
                </a:lnTo>
                <a:lnTo>
                  <a:pt x="489" y="47"/>
                </a:lnTo>
                <a:lnTo>
                  <a:pt x="487" y="43"/>
                </a:lnTo>
                <a:lnTo>
                  <a:pt x="485" y="39"/>
                </a:lnTo>
                <a:lnTo>
                  <a:pt x="485" y="35"/>
                </a:lnTo>
                <a:lnTo>
                  <a:pt x="485" y="31"/>
                </a:lnTo>
                <a:lnTo>
                  <a:pt x="487" y="29"/>
                </a:lnTo>
                <a:lnTo>
                  <a:pt x="489" y="25"/>
                </a:lnTo>
                <a:lnTo>
                  <a:pt x="491" y="22"/>
                </a:lnTo>
                <a:lnTo>
                  <a:pt x="495" y="18"/>
                </a:lnTo>
                <a:lnTo>
                  <a:pt x="499" y="14"/>
                </a:lnTo>
                <a:lnTo>
                  <a:pt x="505" y="10"/>
                </a:lnTo>
                <a:lnTo>
                  <a:pt x="510" y="8"/>
                </a:lnTo>
                <a:lnTo>
                  <a:pt x="516" y="4"/>
                </a:lnTo>
                <a:lnTo>
                  <a:pt x="522" y="2"/>
                </a:lnTo>
                <a:lnTo>
                  <a:pt x="528" y="0"/>
                </a:lnTo>
                <a:lnTo>
                  <a:pt x="533" y="0"/>
                </a:lnTo>
                <a:lnTo>
                  <a:pt x="539" y="0"/>
                </a:lnTo>
                <a:lnTo>
                  <a:pt x="545" y="0"/>
                </a:lnTo>
                <a:lnTo>
                  <a:pt x="552" y="0"/>
                </a:lnTo>
                <a:lnTo>
                  <a:pt x="558" y="2"/>
                </a:lnTo>
                <a:lnTo>
                  <a:pt x="566" y="4"/>
                </a:lnTo>
                <a:lnTo>
                  <a:pt x="576" y="8"/>
                </a:lnTo>
                <a:lnTo>
                  <a:pt x="583" y="12"/>
                </a:lnTo>
                <a:lnTo>
                  <a:pt x="593" y="16"/>
                </a:lnTo>
                <a:lnTo>
                  <a:pt x="602" y="20"/>
                </a:lnTo>
                <a:lnTo>
                  <a:pt x="612" y="25"/>
                </a:lnTo>
                <a:lnTo>
                  <a:pt x="624" y="31"/>
                </a:lnTo>
                <a:lnTo>
                  <a:pt x="633" y="39"/>
                </a:lnTo>
                <a:lnTo>
                  <a:pt x="647" y="47"/>
                </a:lnTo>
                <a:lnTo>
                  <a:pt x="654" y="54"/>
                </a:lnTo>
                <a:lnTo>
                  <a:pt x="664" y="62"/>
                </a:lnTo>
                <a:lnTo>
                  <a:pt x="671" y="70"/>
                </a:lnTo>
                <a:lnTo>
                  <a:pt x="679" y="75"/>
                </a:lnTo>
                <a:lnTo>
                  <a:pt x="687" y="83"/>
                </a:lnTo>
                <a:lnTo>
                  <a:pt x="693" y="91"/>
                </a:lnTo>
                <a:lnTo>
                  <a:pt x="698" y="98"/>
                </a:lnTo>
                <a:lnTo>
                  <a:pt x="704" y="106"/>
                </a:lnTo>
                <a:lnTo>
                  <a:pt x="708" y="112"/>
                </a:lnTo>
                <a:lnTo>
                  <a:pt x="712" y="120"/>
                </a:lnTo>
                <a:lnTo>
                  <a:pt x="716" y="125"/>
                </a:lnTo>
                <a:lnTo>
                  <a:pt x="718" y="131"/>
                </a:lnTo>
                <a:lnTo>
                  <a:pt x="719" y="137"/>
                </a:lnTo>
                <a:lnTo>
                  <a:pt x="721" y="143"/>
                </a:lnTo>
                <a:lnTo>
                  <a:pt x="723" y="148"/>
                </a:lnTo>
                <a:lnTo>
                  <a:pt x="723" y="154"/>
                </a:lnTo>
                <a:lnTo>
                  <a:pt x="723" y="160"/>
                </a:lnTo>
                <a:lnTo>
                  <a:pt x="721" y="167"/>
                </a:lnTo>
                <a:lnTo>
                  <a:pt x="719" y="175"/>
                </a:lnTo>
                <a:lnTo>
                  <a:pt x="716" y="185"/>
                </a:lnTo>
                <a:lnTo>
                  <a:pt x="712" y="194"/>
                </a:lnTo>
                <a:lnTo>
                  <a:pt x="706" y="206"/>
                </a:lnTo>
                <a:lnTo>
                  <a:pt x="698" y="219"/>
                </a:lnTo>
                <a:lnTo>
                  <a:pt x="693" y="233"/>
                </a:lnTo>
                <a:lnTo>
                  <a:pt x="683" y="248"/>
                </a:lnTo>
                <a:lnTo>
                  <a:pt x="673" y="265"/>
                </a:lnTo>
                <a:lnTo>
                  <a:pt x="664" y="283"/>
                </a:lnTo>
                <a:lnTo>
                  <a:pt x="652" y="300"/>
                </a:lnTo>
                <a:lnTo>
                  <a:pt x="639" y="321"/>
                </a:lnTo>
                <a:lnTo>
                  <a:pt x="625" y="340"/>
                </a:lnTo>
                <a:lnTo>
                  <a:pt x="610" y="363"/>
                </a:lnTo>
                <a:lnTo>
                  <a:pt x="595" y="384"/>
                </a:lnTo>
                <a:lnTo>
                  <a:pt x="577" y="409"/>
                </a:lnTo>
                <a:lnTo>
                  <a:pt x="560" y="434"/>
                </a:lnTo>
                <a:lnTo>
                  <a:pt x="545" y="459"/>
                </a:lnTo>
                <a:lnTo>
                  <a:pt x="529" y="482"/>
                </a:lnTo>
                <a:lnTo>
                  <a:pt x="514" y="503"/>
                </a:lnTo>
                <a:lnTo>
                  <a:pt x="499" y="525"/>
                </a:lnTo>
                <a:lnTo>
                  <a:pt x="483" y="546"/>
                </a:lnTo>
                <a:lnTo>
                  <a:pt x="468" y="567"/>
                </a:lnTo>
                <a:lnTo>
                  <a:pt x="455" y="586"/>
                </a:lnTo>
                <a:lnTo>
                  <a:pt x="439" y="603"/>
                </a:lnTo>
                <a:lnTo>
                  <a:pt x="426" y="622"/>
                </a:lnTo>
                <a:lnTo>
                  <a:pt x="412" y="638"/>
                </a:lnTo>
                <a:lnTo>
                  <a:pt x="399" y="655"/>
                </a:lnTo>
                <a:lnTo>
                  <a:pt x="386" y="668"/>
                </a:lnTo>
                <a:lnTo>
                  <a:pt x="374" y="684"/>
                </a:lnTo>
                <a:lnTo>
                  <a:pt x="362" y="697"/>
                </a:lnTo>
                <a:lnTo>
                  <a:pt x="338" y="726"/>
                </a:lnTo>
                <a:lnTo>
                  <a:pt x="311" y="755"/>
                </a:lnTo>
                <a:lnTo>
                  <a:pt x="284" y="784"/>
                </a:lnTo>
                <a:lnTo>
                  <a:pt x="257" y="811"/>
                </a:lnTo>
                <a:lnTo>
                  <a:pt x="228" y="837"/>
                </a:lnTo>
                <a:lnTo>
                  <a:pt x="199" y="862"/>
                </a:lnTo>
                <a:lnTo>
                  <a:pt x="142" y="914"/>
                </a:lnTo>
                <a:lnTo>
                  <a:pt x="126" y="926"/>
                </a:lnTo>
                <a:lnTo>
                  <a:pt x="111" y="937"/>
                </a:lnTo>
                <a:lnTo>
                  <a:pt x="98" y="949"/>
                </a:lnTo>
                <a:lnTo>
                  <a:pt x="84" y="956"/>
                </a:lnTo>
                <a:lnTo>
                  <a:pt x="73" y="966"/>
                </a:lnTo>
                <a:lnTo>
                  <a:pt x="61" y="974"/>
                </a:lnTo>
                <a:lnTo>
                  <a:pt x="52" y="979"/>
                </a:lnTo>
                <a:lnTo>
                  <a:pt x="42" y="985"/>
                </a:lnTo>
                <a:lnTo>
                  <a:pt x="34" y="989"/>
                </a:lnTo>
                <a:lnTo>
                  <a:pt x="27" y="993"/>
                </a:lnTo>
                <a:lnTo>
                  <a:pt x="21" y="997"/>
                </a:lnTo>
                <a:lnTo>
                  <a:pt x="15" y="999"/>
                </a:lnTo>
                <a:lnTo>
                  <a:pt x="11" y="999"/>
                </a:lnTo>
                <a:lnTo>
                  <a:pt x="7" y="999"/>
                </a:lnTo>
                <a:lnTo>
                  <a:pt x="4" y="997"/>
                </a:lnTo>
                <a:lnTo>
                  <a:pt x="2" y="9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93"/>
          <p:cNvSpPr/>
          <p:nvPr/>
        </p:nvSpPr>
        <p:spPr>
          <a:xfrm>
            <a:off x="5622840" y="2998800"/>
            <a:ext cx="317520" cy="625320"/>
          </a:xfrm>
          <a:custGeom>
            <a:avLst/>
            <a:gdLst/>
            <a:ahLst/>
            <a:rect l="l" t="t" r="r" b="b"/>
            <a:pathLst>
              <a:path w="401" h="787">
                <a:moveTo>
                  <a:pt x="117" y="787"/>
                </a:moveTo>
                <a:lnTo>
                  <a:pt x="112" y="787"/>
                </a:lnTo>
                <a:lnTo>
                  <a:pt x="108" y="785"/>
                </a:lnTo>
                <a:lnTo>
                  <a:pt x="102" y="783"/>
                </a:lnTo>
                <a:lnTo>
                  <a:pt x="98" y="781"/>
                </a:lnTo>
                <a:lnTo>
                  <a:pt x="92" y="777"/>
                </a:lnTo>
                <a:lnTo>
                  <a:pt x="89" y="773"/>
                </a:lnTo>
                <a:lnTo>
                  <a:pt x="83" y="770"/>
                </a:lnTo>
                <a:lnTo>
                  <a:pt x="77" y="764"/>
                </a:lnTo>
                <a:lnTo>
                  <a:pt x="73" y="758"/>
                </a:lnTo>
                <a:lnTo>
                  <a:pt x="67" y="752"/>
                </a:lnTo>
                <a:lnTo>
                  <a:pt x="64" y="743"/>
                </a:lnTo>
                <a:lnTo>
                  <a:pt x="58" y="735"/>
                </a:lnTo>
                <a:lnTo>
                  <a:pt x="54" y="725"/>
                </a:lnTo>
                <a:lnTo>
                  <a:pt x="48" y="716"/>
                </a:lnTo>
                <a:lnTo>
                  <a:pt x="44" y="704"/>
                </a:lnTo>
                <a:lnTo>
                  <a:pt x="41" y="691"/>
                </a:lnTo>
                <a:lnTo>
                  <a:pt x="35" y="679"/>
                </a:lnTo>
                <a:lnTo>
                  <a:pt x="31" y="668"/>
                </a:lnTo>
                <a:lnTo>
                  <a:pt x="27" y="656"/>
                </a:lnTo>
                <a:lnTo>
                  <a:pt x="23" y="645"/>
                </a:lnTo>
                <a:lnTo>
                  <a:pt x="20" y="635"/>
                </a:lnTo>
                <a:lnTo>
                  <a:pt x="16" y="626"/>
                </a:lnTo>
                <a:lnTo>
                  <a:pt x="14" y="616"/>
                </a:lnTo>
                <a:lnTo>
                  <a:pt x="10" y="608"/>
                </a:lnTo>
                <a:lnTo>
                  <a:pt x="6" y="593"/>
                </a:lnTo>
                <a:lnTo>
                  <a:pt x="4" y="580"/>
                </a:lnTo>
                <a:lnTo>
                  <a:pt x="2" y="566"/>
                </a:lnTo>
                <a:lnTo>
                  <a:pt x="0" y="557"/>
                </a:lnTo>
                <a:lnTo>
                  <a:pt x="0" y="551"/>
                </a:lnTo>
                <a:lnTo>
                  <a:pt x="2" y="545"/>
                </a:lnTo>
                <a:lnTo>
                  <a:pt x="4" y="539"/>
                </a:lnTo>
                <a:lnTo>
                  <a:pt x="6" y="534"/>
                </a:lnTo>
                <a:lnTo>
                  <a:pt x="8" y="528"/>
                </a:lnTo>
                <a:lnTo>
                  <a:pt x="12" y="520"/>
                </a:lnTo>
                <a:lnTo>
                  <a:pt x="18" y="514"/>
                </a:lnTo>
                <a:lnTo>
                  <a:pt x="21" y="507"/>
                </a:lnTo>
                <a:lnTo>
                  <a:pt x="27" y="499"/>
                </a:lnTo>
                <a:lnTo>
                  <a:pt x="35" y="493"/>
                </a:lnTo>
                <a:lnTo>
                  <a:pt x="43" y="486"/>
                </a:lnTo>
                <a:lnTo>
                  <a:pt x="50" y="478"/>
                </a:lnTo>
                <a:lnTo>
                  <a:pt x="60" y="470"/>
                </a:lnTo>
                <a:lnTo>
                  <a:pt x="69" y="463"/>
                </a:lnTo>
                <a:lnTo>
                  <a:pt x="79" y="455"/>
                </a:lnTo>
                <a:lnTo>
                  <a:pt x="91" y="447"/>
                </a:lnTo>
                <a:lnTo>
                  <a:pt x="96" y="443"/>
                </a:lnTo>
                <a:lnTo>
                  <a:pt x="100" y="438"/>
                </a:lnTo>
                <a:lnTo>
                  <a:pt x="106" y="434"/>
                </a:lnTo>
                <a:lnTo>
                  <a:pt x="112" y="426"/>
                </a:lnTo>
                <a:lnTo>
                  <a:pt x="117" y="420"/>
                </a:lnTo>
                <a:lnTo>
                  <a:pt x="123" y="413"/>
                </a:lnTo>
                <a:lnTo>
                  <a:pt x="129" y="405"/>
                </a:lnTo>
                <a:lnTo>
                  <a:pt x="135" y="395"/>
                </a:lnTo>
                <a:lnTo>
                  <a:pt x="140" y="388"/>
                </a:lnTo>
                <a:lnTo>
                  <a:pt x="148" y="378"/>
                </a:lnTo>
                <a:lnTo>
                  <a:pt x="154" y="367"/>
                </a:lnTo>
                <a:lnTo>
                  <a:pt x="160" y="355"/>
                </a:lnTo>
                <a:lnTo>
                  <a:pt x="167" y="344"/>
                </a:lnTo>
                <a:lnTo>
                  <a:pt x="175" y="332"/>
                </a:lnTo>
                <a:lnTo>
                  <a:pt x="181" y="319"/>
                </a:lnTo>
                <a:lnTo>
                  <a:pt x="188" y="305"/>
                </a:lnTo>
                <a:lnTo>
                  <a:pt x="196" y="290"/>
                </a:lnTo>
                <a:lnTo>
                  <a:pt x="204" y="276"/>
                </a:lnTo>
                <a:lnTo>
                  <a:pt x="211" y="261"/>
                </a:lnTo>
                <a:lnTo>
                  <a:pt x="219" y="244"/>
                </a:lnTo>
                <a:lnTo>
                  <a:pt x="227" y="226"/>
                </a:lnTo>
                <a:lnTo>
                  <a:pt x="234" y="209"/>
                </a:lnTo>
                <a:lnTo>
                  <a:pt x="244" y="192"/>
                </a:lnTo>
                <a:lnTo>
                  <a:pt x="252" y="173"/>
                </a:lnTo>
                <a:lnTo>
                  <a:pt x="259" y="153"/>
                </a:lnTo>
                <a:lnTo>
                  <a:pt x="269" y="132"/>
                </a:lnTo>
                <a:lnTo>
                  <a:pt x="277" y="113"/>
                </a:lnTo>
                <a:lnTo>
                  <a:pt x="286" y="92"/>
                </a:lnTo>
                <a:lnTo>
                  <a:pt x="296" y="69"/>
                </a:lnTo>
                <a:lnTo>
                  <a:pt x="305" y="46"/>
                </a:lnTo>
                <a:lnTo>
                  <a:pt x="313" y="23"/>
                </a:lnTo>
                <a:lnTo>
                  <a:pt x="323" y="0"/>
                </a:lnTo>
                <a:lnTo>
                  <a:pt x="330" y="2"/>
                </a:lnTo>
                <a:lnTo>
                  <a:pt x="336" y="6"/>
                </a:lnTo>
                <a:lnTo>
                  <a:pt x="344" y="11"/>
                </a:lnTo>
                <a:lnTo>
                  <a:pt x="350" y="17"/>
                </a:lnTo>
                <a:lnTo>
                  <a:pt x="355" y="25"/>
                </a:lnTo>
                <a:lnTo>
                  <a:pt x="361" y="33"/>
                </a:lnTo>
                <a:lnTo>
                  <a:pt x="367" y="40"/>
                </a:lnTo>
                <a:lnTo>
                  <a:pt x="371" y="50"/>
                </a:lnTo>
                <a:lnTo>
                  <a:pt x="377" y="61"/>
                </a:lnTo>
                <a:lnTo>
                  <a:pt x="380" y="73"/>
                </a:lnTo>
                <a:lnTo>
                  <a:pt x="384" y="86"/>
                </a:lnTo>
                <a:lnTo>
                  <a:pt x="388" y="100"/>
                </a:lnTo>
                <a:lnTo>
                  <a:pt x="392" y="113"/>
                </a:lnTo>
                <a:lnTo>
                  <a:pt x="396" y="129"/>
                </a:lnTo>
                <a:lnTo>
                  <a:pt x="398" y="146"/>
                </a:lnTo>
                <a:lnTo>
                  <a:pt x="401" y="163"/>
                </a:lnTo>
                <a:lnTo>
                  <a:pt x="400" y="198"/>
                </a:lnTo>
                <a:lnTo>
                  <a:pt x="398" y="232"/>
                </a:lnTo>
                <a:lnTo>
                  <a:pt x="394" y="265"/>
                </a:lnTo>
                <a:lnTo>
                  <a:pt x="390" y="297"/>
                </a:lnTo>
                <a:lnTo>
                  <a:pt x="382" y="330"/>
                </a:lnTo>
                <a:lnTo>
                  <a:pt x="378" y="347"/>
                </a:lnTo>
                <a:lnTo>
                  <a:pt x="373" y="365"/>
                </a:lnTo>
                <a:lnTo>
                  <a:pt x="369" y="382"/>
                </a:lnTo>
                <a:lnTo>
                  <a:pt x="363" y="399"/>
                </a:lnTo>
                <a:lnTo>
                  <a:pt x="355" y="416"/>
                </a:lnTo>
                <a:lnTo>
                  <a:pt x="350" y="434"/>
                </a:lnTo>
                <a:lnTo>
                  <a:pt x="334" y="468"/>
                </a:lnTo>
                <a:lnTo>
                  <a:pt x="321" y="503"/>
                </a:lnTo>
                <a:lnTo>
                  <a:pt x="305" y="535"/>
                </a:lnTo>
                <a:lnTo>
                  <a:pt x="290" y="566"/>
                </a:lnTo>
                <a:lnTo>
                  <a:pt x="277" y="595"/>
                </a:lnTo>
                <a:lnTo>
                  <a:pt x="261" y="624"/>
                </a:lnTo>
                <a:lnTo>
                  <a:pt x="248" y="653"/>
                </a:lnTo>
                <a:lnTo>
                  <a:pt x="233" y="677"/>
                </a:lnTo>
                <a:lnTo>
                  <a:pt x="223" y="691"/>
                </a:lnTo>
                <a:lnTo>
                  <a:pt x="215" y="702"/>
                </a:lnTo>
                <a:lnTo>
                  <a:pt x="206" y="714"/>
                </a:lnTo>
                <a:lnTo>
                  <a:pt x="198" y="724"/>
                </a:lnTo>
                <a:lnTo>
                  <a:pt x="188" y="733"/>
                </a:lnTo>
                <a:lnTo>
                  <a:pt x="181" y="743"/>
                </a:lnTo>
                <a:lnTo>
                  <a:pt x="173" y="750"/>
                </a:lnTo>
                <a:lnTo>
                  <a:pt x="165" y="758"/>
                </a:lnTo>
                <a:lnTo>
                  <a:pt x="158" y="764"/>
                </a:lnTo>
                <a:lnTo>
                  <a:pt x="152" y="770"/>
                </a:lnTo>
                <a:lnTo>
                  <a:pt x="144" y="775"/>
                </a:lnTo>
                <a:lnTo>
                  <a:pt x="139" y="779"/>
                </a:lnTo>
                <a:lnTo>
                  <a:pt x="133" y="783"/>
                </a:lnTo>
                <a:lnTo>
                  <a:pt x="127" y="785"/>
                </a:lnTo>
                <a:lnTo>
                  <a:pt x="121" y="787"/>
                </a:lnTo>
                <a:lnTo>
                  <a:pt x="117" y="7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94"/>
          <p:cNvSpPr/>
          <p:nvPr/>
        </p:nvSpPr>
        <p:spPr>
          <a:xfrm>
            <a:off x="5848200" y="2946240"/>
            <a:ext cx="1700280" cy="454320"/>
          </a:xfrm>
          <a:custGeom>
            <a:avLst/>
            <a:gdLst/>
            <a:ahLst/>
            <a:rect l="l" t="t" r="r" b="b"/>
            <a:pathLst>
              <a:path w="2142" h="572">
                <a:moveTo>
                  <a:pt x="1703" y="40"/>
                </a:moveTo>
                <a:lnTo>
                  <a:pt x="1713" y="30"/>
                </a:lnTo>
                <a:lnTo>
                  <a:pt x="1722" y="21"/>
                </a:lnTo>
                <a:lnTo>
                  <a:pt x="1732" y="15"/>
                </a:lnTo>
                <a:lnTo>
                  <a:pt x="1743" y="9"/>
                </a:lnTo>
                <a:lnTo>
                  <a:pt x="1755" y="4"/>
                </a:lnTo>
                <a:lnTo>
                  <a:pt x="1766" y="2"/>
                </a:lnTo>
                <a:lnTo>
                  <a:pt x="1780" y="0"/>
                </a:lnTo>
                <a:lnTo>
                  <a:pt x="1793" y="0"/>
                </a:lnTo>
                <a:lnTo>
                  <a:pt x="1801" y="2"/>
                </a:lnTo>
                <a:lnTo>
                  <a:pt x="1808" y="5"/>
                </a:lnTo>
                <a:lnTo>
                  <a:pt x="1818" y="9"/>
                </a:lnTo>
                <a:lnTo>
                  <a:pt x="1828" y="15"/>
                </a:lnTo>
                <a:lnTo>
                  <a:pt x="1837" y="19"/>
                </a:lnTo>
                <a:lnTo>
                  <a:pt x="1849" y="27"/>
                </a:lnTo>
                <a:lnTo>
                  <a:pt x="1860" y="32"/>
                </a:lnTo>
                <a:lnTo>
                  <a:pt x="1872" y="40"/>
                </a:lnTo>
                <a:lnTo>
                  <a:pt x="1885" y="50"/>
                </a:lnTo>
                <a:lnTo>
                  <a:pt x="1899" y="59"/>
                </a:lnTo>
                <a:lnTo>
                  <a:pt x="1914" y="69"/>
                </a:lnTo>
                <a:lnTo>
                  <a:pt x="1929" y="80"/>
                </a:lnTo>
                <a:lnTo>
                  <a:pt x="1947" y="92"/>
                </a:lnTo>
                <a:lnTo>
                  <a:pt x="1962" y="105"/>
                </a:lnTo>
                <a:lnTo>
                  <a:pt x="1981" y="119"/>
                </a:lnTo>
                <a:lnTo>
                  <a:pt x="2000" y="134"/>
                </a:lnTo>
                <a:lnTo>
                  <a:pt x="2016" y="151"/>
                </a:lnTo>
                <a:lnTo>
                  <a:pt x="2031" y="169"/>
                </a:lnTo>
                <a:lnTo>
                  <a:pt x="2046" y="184"/>
                </a:lnTo>
                <a:lnTo>
                  <a:pt x="2060" y="199"/>
                </a:lnTo>
                <a:lnTo>
                  <a:pt x="2071" y="213"/>
                </a:lnTo>
                <a:lnTo>
                  <a:pt x="2083" y="226"/>
                </a:lnTo>
                <a:lnTo>
                  <a:pt x="2094" y="238"/>
                </a:lnTo>
                <a:lnTo>
                  <a:pt x="2104" y="249"/>
                </a:lnTo>
                <a:lnTo>
                  <a:pt x="2114" y="261"/>
                </a:lnTo>
                <a:lnTo>
                  <a:pt x="2119" y="272"/>
                </a:lnTo>
                <a:lnTo>
                  <a:pt x="2127" y="282"/>
                </a:lnTo>
                <a:lnTo>
                  <a:pt x="2133" y="291"/>
                </a:lnTo>
                <a:lnTo>
                  <a:pt x="2137" y="299"/>
                </a:lnTo>
                <a:lnTo>
                  <a:pt x="2139" y="309"/>
                </a:lnTo>
                <a:lnTo>
                  <a:pt x="2141" y="316"/>
                </a:lnTo>
                <a:lnTo>
                  <a:pt x="2142" y="324"/>
                </a:lnTo>
                <a:lnTo>
                  <a:pt x="2141" y="332"/>
                </a:lnTo>
                <a:lnTo>
                  <a:pt x="2141" y="338"/>
                </a:lnTo>
                <a:lnTo>
                  <a:pt x="2137" y="343"/>
                </a:lnTo>
                <a:lnTo>
                  <a:pt x="2135" y="349"/>
                </a:lnTo>
                <a:lnTo>
                  <a:pt x="2129" y="355"/>
                </a:lnTo>
                <a:lnTo>
                  <a:pt x="2125" y="359"/>
                </a:lnTo>
                <a:lnTo>
                  <a:pt x="2118" y="363"/>
                </a:lnTo>
                <a:lnTo>
                  <a:pt x="2112" y="364"/>
                </a:lnTo>
                <a:lnTo>
                  <a:pt x="2102" y="368"/>
                </a:lnTo>
                <a:lnTo>
                  <a:pt x="2093" y="368"/>
                </a:lnTo>
                <a:lnTo>
                  <a:pt x="2083" y="370"/>
                </a:lnTo>
                <a:lnTo>
                  <a:pt x="2071" y="370"/>
                </a:lnTo>
                <a:lnTo>
                  <a:pt x="2058" y="370"/>
                </a:lnTo>
                <a:lnTo>
                  <a:pt x="2045" y="368"/>
                </a:lnTo>
                <a:lnTo>
                  <a:pt x="2029" y="366"/>
                </a:lnTo>
                <a:lnTo>
                  <a:pt x="2012" y="364"/>
                </a:lnTo>
                <a:lnTo>
                  <a:pt x="1995" y="363"/>
                </a:lnTo>
                <a:lnTo>
                  <a:pt x="1979" y="363"/>
                </a:lnTo>
                <a:lnTo>
                  <a:pt x="1962" y="363"/>
                </a:lnTo>
                <a:lnTo>
                  <a:pt x="1945" y="364"/>
                </a:lnTo>
                <a:lnTo>
                  <a:pt x="1927" y="366"/>
                </a:lnTo>
                <a:lnTo>
                  <a:pt x="1910" y="370"/>
                </a:lnTo>
                <a:lnTo>
                  <a:pt x="1891" y="376"/>
                </a:lnTo>
                <a:lnTo>
                  <a:pt x="1874" y="382"/>
                </a:lnTo>
                <a:lnTo>
                  <a:pt x="1855" y="387"/>
                </a:lnTo>
                <a:lnTo>
                  <a:pt x="1837" y="395"/>
                </a:lnTo>
                <a:lnTo>
                  <a:pt x="1818" y="405"/>
                </a:lnTo>
                <a:lnTo>
                  <a:pt x="1799" y="414"/>
                </a:lnTo>
                <a:lnTo>
                  <a:pt x="1778" y="424"/>
                </a:lnTo>
                <a:lnTo>
                  <a:pt x="1759" y="435"/>
                </a:lnTo>
                <a:lnTo>
                  <a:pt x="1737" y="447"/>
                </a:lnTo>
                <a:lnTo>
                  <a:pt x="1716" y="460"/>
                </a:lnTo>
                <a:lnTo>
                  <a:pt x="1695" y="476"/>
                </a:lnTo>
                <a:lnTo>
                  <a:pt x="1676" y="489"/>
                </a:lnTo>
                <a:lnTo>
                  <a:pt x="1657" y="503"/>
                </a:lnTo>
                <a:lnTo>
                  <a:pt x="1641" y="514"/>
                </a:lnTo>
                <a:lnTo>
                  <a:pt x="1626" y="524"/>
                </a:lnTo>
                <a:lnTo>
                  <a:pt x="1611" y="533"/>
                </a:lnTo>
                <a:lnTo>
                  <a:pt x="1599" y="543"/>
                </a:lnTo>
                <a:lnTo>
                  <a:pt x="1588" y="551"/>
                </a:lnTo>
                <a:lnTo>
                  <a:pt x="1576" y="556"/>
                </a:lnTo>
                <a:lnTo>
                  <a:pt x="1569" y="562"/>
                </a:lnTo>
                <a:lnTo>
                  <a:pt x="1559" y="566"/>
                </a:lnTo>
                <a:lnTo>
                  <a:pt x="1553" y="570"/>
                </a:lnTo>
                <a:lnTo>
                  <a:pt x="1547" y="570"/>
                </a:lnTo>
                <a:lnTo>
                  <a:pt x="1542" y="572"/>
                </a:lnTo>
                <a:lnTo>
                  <a:pt x="1538" y="570"/>
                </a:lnTo>
                <a:lnTo>
                  <a:pt x="1536" y="568"/>
                </a:lnTo>
                <a:lnTo>
                  <a:pt x="1534" y="568"/>
                </a:lnTo>
                <a:lnTo>
                  <a:pt x="1532" y="566"/>
                </a:lnTo>
                <a:lnTo>
                  <a:pt x="1532" y="562"/>
                </a:lnTo>
                <a:lnTo>
                  <a:pt x="1534" y="558"/>
                </a:lnTo>
                <a:lnTo>
                  <a:pt x="1534" y="553"/>
                </a:lnTo>
                <a:lnTo>
                  <a:pt x="1538" y="545"/>
                </a:lnTo>
                <a:lnTo>
                  <a:pt x="1542" y="537"/>
                </a:lnTo>
                <a:lnTo>
                  <a:pt x="1546" y="528"/>
                </a:lnTo>
                <a:lnTo>
                  <a:pt x="1551" y="518"/>
                </a:lnTo>
                <a:lnTo>
                  <a:pt x="1557" y="505"/>
                </a:lnTo>
                <a:lnTo>
                  <a:pt x="1565" y="491"/>
                </a:lnTo>
                <a:lnTo>
                  <a:pt x="1572" y="478"/>
                </a:lnTo>
                <a:lnTo>
                  <a:pt x="1580" y="460"/>
                </a:lnTo>
                <a:lnTo>
                  <a:pt x="1592" y="443"/>
                </a:lnTo>
                <a:lnTo>
                  <a:pt x="1601" y="426"/>
                </a:lnTo>
                <a:lnTo>
                  <a:pt x="1613" y="407"/>
                </a:lnTo>
                <a:lnTo>
                  <a:pt x="1624" y="387"/>
                </a:lnTo>
                <a:lnTo>
                  <a:pt x="1634" y="372"/>
                </a:lnTo>
                <a:lnTo>
                  <a:pt x="1643" y="355"/>
                </a:lnTo>
                <a:lnTo>
                  <a:pt x="1651" y="339"/>
                </a:lnTo>
                <a:lnTo>
                  <a:pt x="1659" y="326"/>
                </a:lnTo>
                <a:lnTo>
                  <a:pt x="1665" y="311"/>
                </a:lnTo>
                <a:lnTo>
                  <a:pt x="1670" y="299"/>
                </a:lnTo>
                <a:lnTo>
                  <a:pt x="1674" y="288"/>
                </a:lnTo>
                <a:lnTo>
                  <a:pt x="1676" y="276"/>
                </a:lnTo>
                <a:lnTo>
                  <a:pt x="1680" y="267"/>
                </a:lnTo>
                <a:lnTo>
                  <a:pt x="1682" y="257"/>
                </a:lnTo>
                <a:lnTo>
                  <a:pt x="1682" y="249"/>
                </a:lnTo>
                <a:lnTo>
                  <a:pt x="1682" y="242"/>
                </a:lnTo>
                <a:lnTo>
                  <a:pt x="1682" y="238"/>
                </a:lnTo>
                <a:lnTo>
                  <a:pt x="1680" y="232"/>
                </a:lnTo>
                <a:lnTo>
                  <a:pt x="1678" y="230"/>
                </a:lnTo>
                <a:lnTo>
                  <a:pt x="1672" y="224"/>
                </a:lnTo>
                <a:lnTo>
                  <a:pt x="1665" y="219"/>
                </a:lnTo>
                <a:lnTo>
                  <a:pt x="1657" y="215"/>
                </a:lnTo>
                <a:lnTo>
                  <a:pt x="1649" y="211"/>
                </a:lnTo>
                <a:lnTo>
                  <a:pt x="1638" y="207"/>
                </a:lnTo>
                <a:lnTo>
                  <a:pt x="1626" y="205"/>
                </a:lnTo>
                <a:lnTo>
                  <a:pt x="1615" y="203"/>
                </a:lnTo>
                <a:lnTo>
                  <a:pt x="1599" y="203"/>
                </a:lnTo>
                <a:lnTo>
                  <a:pt x="1595" y="203"/>
                </a:lnTo>
                <a:lnTo>
                  <a:pt x="1590" y="203"/>
                </a:lnTo>
                <a:lnTo>
                  <a:pt x="1584" y="203"/>
                </a:lnTo>
                <a:lnTo>
                  <a:pt x="1576" y="203"/>
                </a:lnTo>
                <a:lnTo>
                  <a:pt x="1567" y="205"/>
                </a:lnTo>
                <a:lnTo>
                  <a:pt x="1557" y="207"/>
                </a:lnTo>
                <a:lnTo>
                  <a:pt x="1546" y="207"/>
                </a:lnTo>
                <a:lnTo>
                  <a:pt x="1534" y="209"/>
                </a:lnTo>
                <a:lnTo>
                  <a:pt x="1521" y="211"/>
                </a:lnTo>
                <a:lnTo>
                  <a:pt x="1505" y="213"/>
                </a:lnTo>
                <a:lnTo>
                  <a:pt x="1490" y="217"/>
                </a:lnTo>
                <a:lnTo>
                  <a:pt x="1473" y="219"/>
                </a:lnTo>
                <a:lnTo>
                  <a:pt x="1455" y="220"/>
                </a:lnTo>
                <a:lnTo>
                  <a:pt x="1436" y="224"/>
                </a:lnTo>
                <a:lnTo>
                  <a:pt x="1415" y="228"/>
                </a:lnTo>
                <a:lnTo>
                  <a:pt x="1394" y="230"/>
                </a:lnTo>
                <a:lnTo>
                  <a:pt x="1371" y="234"/>
                </a:lnTo>
                <a:lnTo>
                  <a:pt x="1346" y="238"/>
                </a:lnTo>
                <a:lnTo>
                  <a:pt x="1321" y="242"/>
                </a:lnTo>
                <a:lnTo>
                  <a:pt x="1294" y="245"/>
                </a:lnTo>
                <a:lnTo>
                  <a:pt x="1267" y="251"/>
                </a:lnTo>
                <a:lnTo>
                  <a:pt x="1236" y="255"/>
                </a:lnTo>
                <a:lnTo>
                  <a:pt x="1208" y="259"/>
                </a:lnTo>
                <a:lnTo>
                  <a:pt x="1175" y="265"/>
                </a:lnTo>
                <a:lnTo>
                  <a:pt x="1142" y="270"/>
                </a:lnTo>
                <a:lnTo>
                  <a:pt x="1108" y="274"/>
                </a:lnTo>
                <a:lnTo>
                  <a:pt x="1073" y="280"/>
                </a:lnTo>
                <a:lnTo>
                  <a:pt x="1037" y="286"/>
                </a:lnTo>
                <a:lnTo>
                  <a:pt x="998" y="291"/>
                </a:lnTo>
                <a:lnTo>
                  <a:pt x="960" y="297"/>
                </a:lnTo>
                <a:lnTo>
                  <a:pt x="920" y="305"/>
                </a:lnTo>
                <a:lnTo>
                  <a:pt x="878" y="311"/>
                </a:lnTo>
                <a:lnTo>
                  <a:pt x="835" y="316"/>
                </a:lnTo>
                <a:lnTo>
                  <a:pt x="795" y="324"/>
                </a:lnTo>
                <a:lnTo>
                  <a:pt x="755" y="330"/>
                </a:lnTo>
                <a:lnTo>
                  <a:pt x="716" y="336"/>
                </a:lnTo>
                <a:lnTo>
                  <a:pt x="678" y="341"/>
                </a:lnTo>
                <a:lnTo>
                  <a:pt x="641" y="347"/>
                </a:lnTo>
                <a:lnTo>
                  <a:pt x="605" y="351"/>
                </a:lnTo>
                <a:lnTo>
                  <a:pt x="570" y="357"/>
                </a:lnTo>
                <a:lnTo>
                  <a:pt x="536" y="363"/>
                </a:lnTo>
                <a:lnTo>
                  <a:pt x="503" y="366"/>
                </a:lnTo>
                <a:lnTo>
                  <a:pt x="471" y="370"/>
                </a:lnTo>
                <a:lnTo>
                  <a:pt x="440" y="376"/>
                </a:lnTo>
                <a:lnTo>
                  <a:pt x="409" y="380"/>
                </a:lnTo>
                <a:lnTo>
                  <a:pt x="379" y="384"/>
                </a:lnTo>
                <a:lnTo>
                  <a:pt x="352" y="387"/>
                </a:lnTo>
                <a:lnTo>
                  <a:pt x="323" y="391"/>
                </a:lnTo>
                <a:lnTo>
                  <a:pt x="296" y="395"/>
                </a:lnTo>
                <a:lnTo>
                  <a:pt x="271" y="397"/>
                </a:lnTo>
                <a:lnTo>
                  <a:pt x="246" y="401"/>
                </a:lnTo>
                <a:lnTo>
                  <a:pt x="221" y="403"/>
                </a:lnTo>
                <a:lnTo>
                  <a:pt x="198" y="405"/>
                </a:lnTo>
                <a:lnTo>
                  <a:pt x="175" y="409"/>
                </a:lnTo>
                <a:lnTo>
                  <a:pt x="154" y="411"/>
                </a:lnTo>
                <a:lnTo>
                  <a:pt x="135" y="412"/>
                </a:lnTo>
                <a:lnTo>
                  <a:pt x="114" y="414"/>
                </a:lnTo>
                <a:lnTo>
                  <a:pt x="96" y="414"/>
                </a:lnTo>
                <a:lnTo>
                  <a:pt x="77" y="416"/>
                </a:lnTo>
                <a:lnTo>
                  <a:pt x="60" y="418"/>
                </a:lnTo>
                <a:lnTo>
                  <a:pt x="45" y="418"/>
                </a:lnTo>
                <a:lnTo>
                  <a:pt x="29" y="418"/>
                </a:lnTo>
                <a:lnTo>
                  <a:pt x="14" y="418"/>
                </a:lnTo>
                <a:lnTo>
                  <a:pt x="0" y="420"/>
                </a:lnTo>
                <a:lnTo>
                  <a:pt x="0" y="359"/>
                </a:lnTo>
                <a:lnTo>
                  <a:pt x="0" y="297"/>
                </a:lnTo>
                <a:lnTo>
                  <a:pt x="45" y="297"/>
                </a:lnTo>
                <a:lnTo>
                  <a:pt x="89" y="295"/>
                </a:lnTo>
                <a:lnTo>
                  <a:pt x="133" y="295"/>
                </a:lnTo>
                <a:lnTo>
                  <a:pt x="179" y="291"/>
                </a:lnTo>
                <a:lnTo>
                  <a:pt x="225" y="290"/>
                </a:lnTo>
                <a:lnTo>
                  <a:pt x="271" y="286"/>
                </a:lnTo>
                <a:lnTo>
                  <a:pt x="319" y="282"/>
                </a:lnTo>
                <a:lnTo>
                  <a:pt x="367" y="278"/>
                </a:lnTo>
                <a:lnTo>
                  <a:pt x="415" y="272"/>
                </a:lnTo>
                <a:lnTo>
                  <a:pt x="463" y="267"/>
                </a:lnTo>
                <a:lnTo>
                  <a:pt x="511" y="259"/>
                </a:lnTo>
                <a:lnTo>
                  <a:pt x="561" y="251"/>
                </a:lnTo>
                <a:lnTo>
                  <a:pt x="611" y="244"/>
                </a:lnTo>
                <a:lnTo>
                  <a:pt x="661" y="236"/>
                </a:lnTo>
                <a:lnTo>
                  <a:pt x="711" y="226"/>
                </a:lnTo>
                <a:lnTo>
                  <a:pt x="762" y="217"/>
                </a:lnTo>
                <a:lnTo>
                  <a:pt x="812" y="205"/>
                </a:lnTo>
                <a:lnTo>
                  <a:pt x="860" y="196"/>
                </a:lnTo>
                <a:lnTo>
                  <a:pt x="908" y="186"/>
                </a:lnTo>
                <a:lnTo>
                  <a:pt x="954" y="176"/>
                </a:lnTo>
                <a:lnTo>
                  <a:pt x="1000" y="169"/>
                </a:lnTo>
                <a:lnTo>
                  <a:pt x="1045" y="161"/>
                </a:lnTo>
                <a:lnTo>
                  <a:pt x="1087" y="151"/>
                </a:lnTo>
                <a:lnTo>
                  <a:pt x="1129" y="144"/>
                </a:lnTo>
                <a:lnTo>
                  <a:pt x="1169" y="136"/>
                </a:lnTo>
                <a:lnTo>
                  <a:pt x="1210" y="130"/>
                </a:lnTo>
                <a:lnTo>
                  <a:pt x="1248" y="123"/>
                </a:lnTo>
                <a:lnTo>
                  <a:pt x="1284" y="117"/>
                </a:lnTo>
                <a:lnTo>
                  <a:pt x="1319" y="111"/>
                </a:lnTo>
                <a:lnTo>
                  <a:pt x="1354" y="105"/>
                </a:lnTo>
                <a:lnTo>
                  <a:pt x="1388" y="100"/>
                </a:lnTo>
                <a:lnTo>
                  <a:pt x="1419" y="94"/>
                </a:lnTo>
                <a:lnTo>
                  <a:pt x="1450" y="92"/>
                </a:lnTo>
                <a:lnTo>
                  <a:pt x="1478" y="88"/>
                </a:lnTo>
                <a:lnTo>
                  <a:pt x="1505" y="84"/>
                </a:lnTo>
                <a:lnTo>
                  <a:pt x="1530" y="82"/>
                </a:lnTo>
                <a:lnTo>
                  <a:pt x="1555" y="78"/>
                </a:lnTo>
                <a:lnTo>
                  <a:pt x="1576" y="75"/>
                </a:lnTo>
                <a:lnTo>
                  <a:pt x="1595" y="71"/>
                </a:lnTo>
                <a:lnTo>
                  <a:pt x="1615" y="67"/>
                </a:lnTo>
                <a:lnTo>
                  <a:pt x="1632" y="63"/>
                </a:lnTo>
                <a:lnTo>
                  <a:pt x="1645" y="59"/>
                </a:lnTo>
                <a:lnTo>
                  <a:pt x="1659" y="55"/>
                </a:lnTo>
                <a:lnTo>
                  <a:pt x="1672" y="52"/>
                </a:lnTo>
                <a:lnTo>
                  <a:pt x="1682" y="48"/>
                </a:lnTo>
                <a:lnTo>
                  <a:pt x="1689" y="46"/>
                </a:lnTo>
                <a:lnTo>
                  <a:pt x="1697" y="42"/>
                </a:lnTo>
                <a:lnTo>
                  <a:pt x="1703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95"/>
          <p:cNvSpPr/>
          <p:nvPr/>
        </p:nvSpPr>
        <p:spPr>
          <a:xfrm>
            <a:off x="6359400" y="2651040"/>
            <a:ext cx="358920" cy="338400"/>
          </a:xfrm>
          <a:custGeom>
            <a:avLst/>
            <a:gdLst/>
            <a:ahLst/>
            <a:rect l="l" t="t" r="r" b="b"/>
            <a:pathLst>
              <a:path w="451" h="426">
                <a:moveTo>
                  <a:pt x="440" y="331"/>
                </a:moveTo>
                <a:lnTo>
                  <a:pt x="436" y="344"/>
                </a:lnTo>
                <a:lnTo>
                  <a:pt x="434" y="355"/>
                </a:lnTo>
                <a:lnTo>
                  <a:pt x="430" y="365"/>
                </a:lnTo>
                <a:lnTo>
                  <a:pt x="428" y="375"/>
                </a:lnTo>
                <a:lnTo>
                  <a:pt x="425" y="382"/>
                </a:lnTo>
                <a:lnTo>
                  <a:pt x="421" y="392"/>
                </a:lnTo>
                <a:lnTo>
                  <a:pt x="417" y="398"/>
                </a:lnTo>
                <a:lnTo>
                  <a:pt x="413" y="403"/>
                </a:lnTo>
                <a:lnTo>
                  <a:pt x="409" y="409"/>
                </a:lnTo>
                <a:lnTo>
                  <a:pt x="405" y="413"/>
                </a:lnTo>
                <a:lnTo>
                  <a:pt x="403" y="417"/>
                </a:lnTo>
                <a:lnTo>
                  <a:pt x="400" y="421"/>
                </a:lnTo>
                <a:lnTo>
                  <a:pt x="396" y="423"/>
                </a:lnTo>
                <a:lnTo>
                  <a:pt x="394" y="425"/>
                </a:lnTo>
                <a:lnTo>
                  <a:pt x="390" y="426"/>
                </a:lnTo>
                <a:lnTo>
                  <a:pt x="388" y="426"/>
                </a:lnTo>
                <a:lnTo>
                  <a:pt x="377" y="425"/>
                </a:lnTo>
                <a:lnTo>
                  <a:pt x="365" y="423"/>
                </a:lnTo>
                <a:lnTo>
                  <a:pt x="353" y="419"/>
                </a:lnTo>
                <a:lnTo>
                  <a:pt x="340" y="415"/>
                </a:lnTo>
                <a:lnTo>
                  <a:pt x="334" y="411"/>
                </a:lnTo>
                <a:lnTo>
                  <a:pt x="327" y="407"/>
                </a:lnTo>
                <a:lnTo>
                  <a:pt x="321" y="402"/>
                </a:lnTo>
                <a:lnTo>
                  <a:pt x="313" y="398"/>
                </a:lnTo>
                <a:lnTo>
                  <a:pt x="305" y="392"/>
                </a:lnTo>
                <a:lnTo>
                  <a:pt x="298" y="386"/>
                </a:lnTo>
                <a:lnTo>
                  <a:pt x="292" y="378"/>
                </a:lnTo>
                <a:lnTo>
                  <a:pt x="284" y="373"/>
                </a:lnTo>
                <a:lnTo>
                  <a:pt x="275" y="363"/>
                </a:lnTo>
                <a:lnTo>
                  <a:pt x="263" y="354"/>
                </a:lnTo>
                <a:lnTo>
                  <a:pt x="252" y="342"/>
                </a:lnTo>
                <a:lnTo>
                  <a:pt x="238" y="329"/>
                </a:lnTo>
                <a:lnTo>
                  <a:pt x="225" y="313"/>
                </a:lnTo>
                <a:lnTo>
                  <a:pt x="210" y="296"/>
                </a:lnTo>
                <a:lnTo>
                  <a:pt x="192" y="279"/>
                </a:lnTo>
                <a:lnTo>
                  <a:pt x="175" y="258"/>
                </a:lnTo>
                <a:lnTo>
                  <a:pt x="158" y="236"/>
                </a:lnTo>
                <a:lnTo>
                  <a:pt x="139" y="213"/>
                </a:lnTo>
                <a:lnTo>
                  <a:pt x="117" y="188"/>
                </a:lnTo>
                <a:lnTo>
                  <a:pt x="96" y="160"/>
                </a:lnTo>
                <a:lnTo>
                  <a:pt x="73" y="131"/>
                </a:lnTo>
                <a:lnTo>
                  <a:pt x="62" y="116"/>
                </a:lnTo>
                <a:lnTo>
                  <a:pt x="50" y="100"/>
                </a:lnTo>
                <a:lnTo>
                  <a:pt x="39" y="85"/>
                </a:lnTo>
                <a:lnTo>
                  <a:pt x="25" y="68"/>
                </a:lnTo>
                <a:lnTo>
                  <a:pt x="14" y="50"/>
                </a:lnTo>
                <a:lnTo>
                  <a:pt x="0" y="33"/>
                </a:lnTo>
                <a:lnTo>
                  <a:pt x="6" y="27"/>
                </a:lnTo>
                <a:lnTo>
                  <a:pt x="12" y="23"/>
                </a:lnTo>
                <a:lnTo>
                  <a:pt x="18" y="20"/>
                </a:lnTo>
                <a:lnTo>
                  <a:pt x="25" y="16"/>
                </a:lnTo>
                <a:lnTo>
                  <a:pt x="33" y="12"/>
                </a:lnTo>
                <a:lnTo>
                  <a:pt x="41" y="8"/>
                </a:lnTo>
                <a:lnTo>
                  <a:pt x="50" y="6"/>
                </a:lnTo>
                <a:lnTo>
                  <a:pt x="60" y="4"/>
                </a:lnTo>
                <a:lnTo>
                  <a:pt x="71" y="2"/>
                </a:lnTo>
                <a:lnTo>
                  <a:pt x="83" y="0"/>
                </a:lnTo>
                <a:lnTo>
                  <a:pt x="94" y="0"/>
                </a:lnTo>
                <a:lnTo>
                  <a:pt x="108" y="0"/>
                </a:lnTo>
                <a:lnTo>
                  <a:pt x="121" y="0"/>
                </a:lnTo>
                <a:lnTo>
                  <a:pt x="137" y="2"/>
                </a:lnTo>
                <a:lnTo>
                  <a:pt x="152" y="4"/>
                </a:lnTo>
                <a:lnTo>
                  <a:pt x="169" y="6"/>
                </a:lnTo>
                <a:lnTo>
                  <a:pt x="183" y="8"/>
                </a:lnTo>
                <a:lnTo>
                  <a:pt x="198" y="12"/>
                </a:lnTo>
                <a:lnTo>
                  <a:pt x="211" y="16"/>
                </a:lnTo>
                <a:lnTo>
                  <a:pt x="227" y="21"/>
                </a:lnTo>
                <a:lnTo>
                  <a:pt x="240" y="27"/>
                </a:lnTo>
                <a:lnTo>
                  <a:pt x="256" y="33"/>
                </a:lnTo>
                <a:lnTo>
                  <a:pt x="269" y="39"/>
                </a:lnTo>
                <a:lnTo>
                  <a:pt x="282" y="46"/>
                </a:lnTo>
                <a:lnTo>
                  <a:pt x="296" y="54"/>
                </a:lnTo>
                <a:lnTo>
                  <a:pt x="311" y="62"/>
                </a:lnTo>
                <a:lnTo>
                  <a:pt x="325" y="71"/>
                </a:lnTo>
                <a:lnTo>
                  <a:pt x="338" y="81"/>
                </a:lnTo>
                <a:lnTo>
                  <a:pt x="350" y="92"/>
                </a:lnTo>
                <a:lnTo>
                  <a:pt x="363" y="104"/>
                </a:lnTo>
                <a:lnTo>
                  <a:pt x="375" y="116"/>
                </a:lnTo>
                <a:lnTo>
                  <a:pt x="388" y="127"/>
                </a:lnTo>
                <a:lnTo>
                  <a:pt x="400" y="140"/>
                </a:lnTo>
                <a:lnTo>
                  <a:pt x="409" y="154"/>
                </a:lnTo>
                <a:lnTo>
                  <a:pt x="419" y="165"/>
                </a:lnTo>
                <a:lnTo>
                  <a:pt x="426" y="179"/>
                </a:lnTo>
                <a:lnTo>
                  <a:pt x="432" y="192"/>
                </a:lnTo>
                <a:lnTo>
                  <a:pt x="438" y="204"/>
                </a:lnTo>
                <a:lnTo>
                  <a:pt x="444" y="217"/>
                </a:lnTo>
                <a:lnTo>
                  <a:pt x="448" y="229"/>
                </a:lnTo>
                <a:lnTo>
                  <a:pt x="449" y="242"/>
                </a:lnTo>
                <a:lnTo>
                  <a:pt x="451" y="256"/>
                </a:lnTo>
                <a:lnTo>
                  <a:pt x="451" y="267"/>
                </a:lnTo>
                <a:lnTo>
                  <a:pt x="451" y="281"/>
                </a:lnTo>
                <a:lnTo>
                  <a:pt x="449" y="292"/>
                </a:lnTo>
                <a:lnTo>
                  <a:pt x="448" y="306"/>
                </a:lnTo>
                <a:lnTo>
                  <a:pt x="444" y="319"/>
                </a:lnTo>
                <a:lnTo>
                  <a:pt x="440" y="3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木”捺变点，“俞”撇、捺不宜过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133"/>
          <p:cNvSpPr/>
          <p:nvPr/>
        </p:nvSpPr>
        <p:spPr>
          <a:xfrm>
            <a:off x="7053120" y="3759120"/>
            <a:ext cx="330480" cy="1308240"/>
          </a:xfrm>
          <a:custGeom>
            <a:avLst/>
            <a:gdLst/>
            <a:ahLst/>
            <a:rect l="l" t="t" r="r" b="b"/>
            <a:pathLst>
              <a:path w="417" h="1647">
                <a:moveTo>
                  <a:pt x="401" y="1386"/>
                </a:moveTo>
                <a:lnTo>
                  <a:pt x="399" y="1401"/>
                </a:lnTo>
                <a:lnTo>
                  <a:pt x="397" y="1417"/>
                </a:lnTo>
                <a:lnTo>
                  <a:pt x="394" y="1432"/>
                </a:lnTo>
                <a:lnTo>
                  <a:pt x="392" y="1446"/>
                </a:lnTo>
                <a:lnTo>
                  <a:pt x="390" y="1461"/>
                </a:lnTo>
                <a:lnTo>
                  <a:pt x="388" y="1474"/>
                </a:lnTo>
                <a:lnTo>
                  <a:pt x="380" y="1499"/>
                </a:lnTo>
                <a:lnTo>
                  <a:pt x="374" y="1522"/>
                </a:lnTo>
                <a:lnTo>
                  <a:pt x="365" y="1545"/>
                </a:lnTo>
                <a:lnTo>
                  <a:pt x="355" y="1566"/>
                </a:lnTo>
                <a:lnTo>
                  <a:pt x="350" y="1576"/>
                </a:lnTo>
                <a:lnTo>
                  <a:pt x="344" y="1586"/>
                </a:lnTo>
                <a:lnTo>
                  <a:pt x="332" y="1599"/>
                </a:lnTo>
                <a:lnTo>
                  <a:pt x="321" y="1611"/>
                </a:lnTo>
                <a:lnTo>
                  <a:pt x="311" y="1622"/>
                </a:lnTo>
                <a:lnTo>
                  <a:pt x="302" y="1630"/>
                </a:lnTo>
                <a:lnTo>
                  <a:pt x="294" y="1637"/>
                </a:lnTo>
                <a:lnTo>
                  <a:pt x="290" y="1641"/>
                </a:lnTo>
                <a:lnTo>
                  <a:pt x="286" y="1643"/>
                </a:lnTo>
                <a:lnTo>
                  <a:pt x="284" y="1645"/>
                </a:lnTo>
                <a:lnTo>
                  <a:pt x="280" y="1647"/>
                </a:lnTo>
                <a:lnTo>
                  <a:pt x="278" y="1647"/>
                </a:lnTo>
                <a:lnTo>
                  <a:pt x="277" y="1647"/>
                </a:lnTo>
                <a:lnTo>
                  <a:pt x="271" y="1647"/>
                </a:lnTo>
                <a:lnTo>
                  <a:pt x="267" y="1647"/>
                </a:lnTo>
                <a:lnTo>
                  <a:pt x="263" y="1645"/>
                </a:lnTo>
                <a:lnTo>
                  <a:pt x="261" y="1643"/>
                </a:lnTo>
                <a:lnTo>
                  <a:pt x="257" y="1641"/>
                </a:lnTo>
                <a:lnTo>
                  <a:pt x="254" y="1637"/>
                </a:lnTo>
                <a:lnTo>
                  <a:pt x="250" y="1630"/>
                </a:lnTo>
                <a:lnTo>
                  <a:pt x="244" y="1622"/>
                </a:lnTo>
                <a:lnTo>
                  <a:pt x="238" y="1611"/>
                </a:lnTo>
                <a:lnTo>
                  <a:pt x="234" y="1599"/>
                </a:lnTo>
                <a:lnTo>
                  <a:pt x="230" y="1586"/>
                </a:lnTo>
                <a:lnTo>
                  <a:pt x="229" y="1576"/>
                </a:lnTo>
                <a:lnTo>
                  <a:pt x="225" y="1566"/>
                </a:lnTo>
                <a:lnTo>
                  <a:pt x="221" y="1557"/>
                </a:lnTo>
                <a:lnTo>
                  <a:pt x="215" y="1547"/>
                </a:lnTo>
                <a:lnTo>
                  <a:pt x="209" y="1538"/>
                </a:lnTo>
                <a:lnTo>
                  <a:pt x="204" y="1528"/>
                </a:lnTo>
                <a:lnTo>
                  <a:pt x="196" y="1518"/>
                </a:lnTo>
                <a:lnTo>
                  <a:pt x="188" y="1509"/>
                </a:lnTo>
                <a:lnTo>
                  <a:pt x="181" y="1499"/>
                </a:lnTo>
                <a:lnTo>
                  <a:pt x="171" y="1488"/>
                </a:lnTo>
                <a:lnTo>
                  <a:pt x="161" y="1478"/>
                </a:lnTo>
                <a:lnTo>
                  <a:pt x="152" y="1467"/>
                </a:lnTo>
                <a:lnTo>
                  <a:pt x="140" y="1457"/>
                </a:lnTo>
                <a:lnTo>
                  <a:pt x="129" y="1446"/>
                </a:lnTo>
                <a:lnTo>
                  <a:pt x="117" y="1434"/>
                </a:lnTo>
                <a:lnTo>
                  <a:pt x="106" y="1422"/>
                </a:lnTo>
                <a:lnTo>
                  <a:pt x="90" y="1411"/>
                </a:lnTo>
                <a:lnTo>
                  <a:pt x="77" y="1399"/>
                </a:lnTo>
                <a:lnTo>
                  <a:pt x="65" y="1390"/>
                </a:lnTo>
                <a:lnTo>
                  <a:pt x="54" y="1380"/>
                </a:lnTo>
                <a:lnTo>
                  <a:pt x="44" y="1371"/>
                </a:lnTo>
                <a:lnTo>
                  <a:pt x="35" y="1363"/>
                </a:lnTo>
                <a:lnTo>
                  <a:pt x="27" y="1355"/>
                </a:lnTo>
                <a:lnTo>
                  <a:pt x="19" y="1348"/>
                </a:lnTo>
                <a:lnTo>
                  <a:pt x="14" y="1340"/>
                </a:lnTo>
                <a:lnTo>
                  <a:pt x="10" y="1334"/>
                </a:lnTo>
                <a:lnTo>
                  <a:pt x="6" y="1328"/>
                </a:lnTo>
                <a:lnTo>
                  <a:pt x="4" y="1325"/>
                </a:lnTo>
                <a:lnTo>
                  <a:pt x="2" y="1319"/>
                </a:lnTo>
                <a:lnTo>
                  <a:pt x="0" y="1315"/>
                </a:lnTo>
                <a:lnTo>
                  <a:pt x="2" y="1313"/>
                </a:lnTo>
                <a:lnTo>
                  <a:pt x="4" y="1309"/>
                </a:lnTo>
                <a:lnTo>
                  <a:pt x="4" y="1307"/>
                </a:lnTo>
                <a:lnTo>
                  <a:pt x="4" y="1305"/>
                </a:lnTo>
                <a:lnTo>
                  <a:pt x="6" y="1303"/>
                </a:lnTo>
                <a:lnTo>
                  <a:pt x="10" y="1303"/>
                </a:lnTo>
                <a:lnTo>
                  <a:pt x="14" y="1302"/>
                </a:lnTo>
                <a:lnTo>
                  <a:pt x="17" y="1302"/>
                </a:lnTo>
                <a:lnTo>
                  <a:pt x="23" y="1302"/>
                </a:lnTo>
                <a:lnTo>
                  <a:pt x="29" y="1302"/>
                </a:lnTo>
                <a:lnTo>
                  <a:pt x="35" y="1303"/>
                </a:lnTo>
                <a:lnTo>
                  <a:pt x="42" y="1303"/>
                </a:lnTo>
                <a:lnTo>
                  <a:pt x="52" y="1305"/>
                </a:lnTo>
                <a:lnTo>
                  <a:pt x="60" y="1307"/>
                </a:lnTo>
                <a:lnTo>
                  <a:pt x="71" y="1311"/>
                </a:lnTo>
                <a:lnTo>
                  <a:pt x="81" y="1313"/>
                </a:lnTo>
                <a:lnTo>
                  <a:pt x="92" y="1317"/>
                </a:lnTo>
                <a:lnTo>
                  <a:pt x="106" y="1323"/>
                </a:lnTo>
                <a:lnTo>
                  <a:pt x="117" y="1325"/>
                </a:lnTo>
                <a:lnTo>
                  <a:pt x="131" y="1326"/>
                </a:lnTo>
                <a:lnTo>
                  <a:pt x="140" y="1328"/>
                </a:lnTo>
                <a:lnTo>
                  <a:pt x="152" y="1332"/>
                </a:lnTo>
                <a:lnTo>
                  <a:pt x="163" y="1334"/>
                </a:lnTo>
                <a:lnTo>
                  <a:pt x="173" y="1336"/>
                </a:lnTo>
                <a:lnTo>
                  <a:pt x="183" y="1336"/>
                </a:lnTo>
                <a:lnTo>
                  <a:pt x="190" y="1338"/>
                </a:lnTo>
                <a:lnTo>
                  <a:pt x="198" y="1340"/>
                </a:lnTo>
                <a:lnTo>
                  <a:pt x="207" y="1340"/>
                </a:lnTo>
                <a:lnTo>
                  <a:pt x="213" y="1340"/>
                </a:lnTo>
                <a:lnTo>
                  <a:pt x="221" y="1340"/>
                </a:lnTo>
                <a:lnTo>
                  <a:pt x="227" y="1340"/>
                </a:lnTo>
                <a:lnTo>
                  <a:pt x="232" y="1338"/>
                </a:lnTo>
                <a:lnTo>
                  <a:pt x="236" y="1338"/>
                </a:lnTo>
                <a:lnTo>
                  <a:pt x="242" y="1336"/>
                </a:lnTo>
                <a:lnTo>
                  <a:pt x="246" y="1332"/>
                </a:lnTo>
                <a:lnTo>
                  <a:pt x="250" y="1328"/>
                </a:lnTo>
                <a:lnTo>
                  <a:pt x="254" y="1325"/>
                </a:lnTo>
                <a:lnTo>
                  <a:pt x="257" y="1319"/>
                </a:lnTo>
                <a:lnTo>
                  <a:pt x="259" y="1313"/>
                </a:lnTo>
                <a:lnTo>
                  <a:pt x="263" y="1305"/>
                </a:lnTo>
                <a:lnTo>
                  <a:pt x="267" y="1298"/>
                </a:lnTo>
                <a:lnTo>
                  <a:pt x="269" y="1290"/>
                </a:lnTo>
                <a:lnTo>
                  <a:pt x="271" y="1280"/>
                </a:lnTo>
                <a:lnTo>
                  <a:pt x="275" y="1271"/>
                </a:lnTo>
                <a:lnTo>
                  <a:pt x="277" y="1259"/>
                </a:lnTo>
                <a:lnTo>
                  <a:pt x="278" y="1248"/>
                </a:lnTo>
                <a:lnTo>
                  <a:pt x="280" y="1236"/>
                </a:lnTo>
                <a:lnTo>
                  <a:pt x="282" y="1225"/>
                </a:lnTo>
                <a:lnTo>
                  <a:pt x="284" y="1211"/>
                </a:lnTo>
                <a:lnTo>
                  <a:pt x="288" y="1198"/>
                </a:lnTo>
                <a:lnTo>
                  <a:pt x="290" y="1183"/>
                </a:lnTo>
                <a:lnTo>
                  <a:pt x="290" y="1165"/>
                </a:lnTo>
                <a:lnTo>
                  <a:pt x="292" y="1148"/>
                </a:lnTo>
                <a:lnTo>
                  <a:pt x="294" y="1127"/>
                </a:lnTo>
                <a:lnTo>
                  <a:pt x="294" y="1106"/>
                </a:lnTo>
                <a:lnTo>
                  <a:pt x="296" y="1083"/>
                </a:lnTo>
                <a:lnTo>
                  <a:pt x="296" y="1058"/>
                </a:lnTo>
                <a:lnTo>
                  <a:pt x="296" y="1031"/>
                </a:lnTo>
                <a:lnTo>
                  <a:pt x="296" y="1002"/>
                </a:lnTo>
                <a:lnTo>
                  <a:pt x="296" y="971"/>
                </a:lnTo>
                <a:lnTo>
                  <a:pt x="294" y="941"/>
                </a:lnTo>
                <a:lnTo>
                  <a:pt x="294" y="908"/>
                </a:lnTo>
                <a:lnTo>
                  <a:pt x="292" y="873"/>
                </a:lnTo>
                <a:lnTo>
                  <a:pt x="290" y="837"/>
                </a:lnTo>
                <a:lnTo>
                  <a:pt x="290" y="799"/>
                </a:lnTo>
                <a:lnTo>
                  <a:pt x="288" y="760"/>
                </a:lnTo>
                <a:lnTo>
                  <a:pt x="284" y="720"/>
                </a:lnTo>
                <a:lnTo>
                  <a:pt x="282" y="682"/>
                </a:lnTo>
                <a:lnTo>
                  <a:pt x="280" y="645"/>
                </a:lnTo>
                <a:lnTo>
                  <a:pt x="277" y="609"/>
                </a:lnTo>
                <a:lnTo>
                  <a:pt x="275" y="574"/>
                </a:lnTo>
                <a:lnTo>
                  <a:pt x="271" y="541"/>
                </a:lnTo>
                <a:lnTo>
                  <a:pt x="267" y="509"/>
                </a:lnTo>
                <a:lnTo>
                  <a:pt x="265" y="478"/>
                </a:lnTo>
                <a:lnTo>
                  <a:pt x="261" y="447"/>
                </a:lnTo>
                <a:lnTo>
                  <a:pt x="257" y="421"/>
                </a:lnTo>
                <a:lnTo>
                  <a:pt x="255" y="392"/>
                </a:lnTo>
                <a:lnTo>
                  <a:pt x="252" y="365"/>
                </a:lnTo>
                <a:lnTo>
                  <a:pt x="250" y="340"/>
                </a:lnTo>
                <a:lnTo>
                  <a:pt x="246" y="317"/>
                </a:lnTo>
                <a:lnTo>
                  <a:pt x="244" y="294"/>
                </a:lnTo>
                <a:lnTo>
                  <a:pt x="242" y="273"/>
                </a:lnTo>
                <a:lnTo>
                  <a:pt x="240" y="252"/>
                </a:lnTo>
                <a:lnTo>
                  <a:pt x="236" y="232"/>
                </a:lnTo>
                <a:lnTo>
                  <a:pt x="234" y="213"/>
                </a:lnTo>
                <a:lnTo>
                  <a:pt x="230" y="196"/>
                </a:lnTo>
                <a:lnTo>
                  <a:pt x="229" y="181"/>
                </a:lnTo>
                <a:lnTo>
                  <a:pt x="225" y="167"/>
                </a:lnTo>
                <a:lnTo>
                  <a:pt x="221" y="154"/>
                </a:lnTo>
                <a:lnTo>
                  <a:pt x="217" y="140"/>
                </a:lnTo>
                <a:lnTo>
                  <a:pt x="213" y="129"/>
                </a:lnTo>
                <a:lnTo>
                  <a:pt x="209" y="119"/>
                </a:lnTo>
                <a:lnTo>
                  <a:pt x="206" y="111"/>
                </a:lnTo>
                <a:lnTo>
                  <a:pt x="202" y="104"/>
                </a:lnTo>
                <a:lnTo>
                  <a:pt x="198" y="96"/>
                </a:lnTo>
                <a:lnTo>
                  <a:pt x="194" y="90"/>
                </a:lnTo>
                <a:lnTo>
                  <a:pt x="188" y="87"/>
                </a:lnTo>
                <a:lnTo>
                  <a:pt x="184" y="85"/>
                </a:lnTo>
                <a:lnTo>
                  <a:pt x="177" y="79"/>
                </a:lnTo>
                <a:lnTo>
                  <a:pt x="171" y="73"/>
                </a:lnTo>
                <a:lnTo>
                  <a:pt x="165" y="65"/>
                </a:lnTo>
                <a:lnTo>
                  <a:pt x="161" y="58"/>
                </a:lnTo>
                <a:lnTo>
                  <a:pt x="158" y="50"/>
                </a:lnTo>
                <a:lnTo>
                  <a:pt x="158" y="40"/>
                </a:lnTo>
                <a:lnTo>
                  <a:pt x="158" y="37"/>
                </a:lnTo>
                <a:lnTo>
                  <a:pt x="159" y="31"/>
                </a:lnTo>
                <a:lnTo>
                  <a:pt x="159" y="27"/>
                </a:lnTo>
                <a:lnTo>
                  <a:pt x="161" y="21"/>
                </a:lnTo>
                <a:lnTo>
                  <a:pt x="161" y="17"/>
                </a:lnTo>
                <a:lnTo>
                  <a:pt x="163" y="14"/>
                </a:lnTo>
                <a:lnTo>
                  <a:pt x="165" y="10"/>
                </a:lnTo>
                <a:lnTo>
                  <a:pt x="169" y="8"/>
                </a:lnTo>
                <a:lnTo>
                  <a:pt x="171" y="6"/>
                </a:lnTo>
                <a:lnTo>
                  <a:pt x="177" y="4"/>
                </a:lnTo>
                <a:lnTo>
                  <a:pt x="181" y="2"/>
                </a:lnTo>
                <a:lnTo>
                  <a:pt x="186" y="2"/>
                </a:lnTo>
                <a:lnTo>
                  <a:pt x="192" y="0"/>
                </a:lnTo>
                <a:lnTo>
                  <a:pt x="200" y="0"/>
                </a:lnTo>
                <a:lnTo>
                  <a:pt x="207" y="2"/>
                </a:lnTo>
                <a:lnTo>
                  <a:pt x="215" y="2"/>
                </a:lnTo>
                <a:lnTo>
                  <a:pt x="223" y="4"/>
                </a:lnTo>
                <a:lnTo>
                  <a:pt x="232" y="6"/>
                </a:lnTo>
                <a:lnTo>
                  <a:pt x="242" y="8"/>
                </a:lnTo>
                <a:lnTo>
                  <a:pt x="254" y="10"/>
                </a:lnTo>
                <a:lnTo>
                  <a:pt x="263" y="12"/>
                </a:lnTo>
                <a:lnTo>
                  <a:pt x="273" y="14"/>
                </a:lnTo>
                <a:lnTo>
                  <a:pt x="282" y="17"/>
                </a:lnTo>
                <a:lnTo>
                  <a:pt x="292" y="21"/>
                </a:lnTo>
                <a:lnTo>
                  <a:pt x="300" y="23"/>
                </a:lnTo>
                <a:lnTo>
                  <a:pt x="307" y="27"/>
                </a:lnTo>
                <a:lnTo>
                  <a:pt x="315" y="31"/>
                </a:lnTo>
                <a:lnTo>
                  <a:pt x="321" y="35"/>
                </a:lnTo>
                <a:lnTo>
                  <a:pt x="328" y="39"/>
                </a:lnTo>
                <a:lnTo>
                  <a:pt x="332" y="40"/>
                </a:lnTo>
                <a:lnTo>
                  <a:pt x="338" y="44"/>
                </a:lnTo>
                <a:lnTo>
                  <a:pt x="342" y="48"/>
                </a:lnTo>
                <a:lnTo>
                  <a:pt x="346" y="52"/>
                </a:lnTo>
                <a:lnTo>
                  <a:pt x="350" y="54"/>
                </a:lnTo>
                <a:lnTo>
                  <a:pt x="353" y="56"/>
                </a:lnTo>
                <a:lnTo>
                  <a:pt x="355" y="60"/>
                </a:lnTo>
                <a:lnTo>
                  <a:pt x="359" y="65"/>
                </a:lnTo>
                <a:lnTo>
                  <a:pt x="363" y="71"/>
                </a:lnTo>
                <a:lnTo>
                  <a:pt x="367" y="77"/>
                </a:lnTo>
                <a:lnTo>
                  <a:pt x="369" y="87"/>
                </a:lnTo>
                <a:lnTo>
                  <a:pt x="371" y="94"/>
                </a:lnTo>
                <a:lnTo>
                  <a:pt x="371" y="104"/>
                </a:lnTo>
                <a:lnTo>
                  <a:pt x="371" y="111"/>
                </a:lnTo>
                <a:lnTo>
                  <a:pt x="369" y="117"/>
                </a:lnTo>
                <a:lnTo>
                  <a:pt x="367" y="121"/>
                </a:lnTo>
                <a:lnTo>
                  <a:pt x="365" y="129"/>
                </a:lnTo>
                <a:lnTo>
                  <a:pt x="363" y="138"/>
                </a:lnTo>
                <a:lnTo>
                  <a:pt x="363" y="146"/>
                </a:lnTo>
                <a:lnTo>
                  <a:pt x="363" y="158"/>
                </a:lnTo>
                <a:lnTo>
                  <a:pt x="363" y="167"/>
                </a:lnTo>
                <a:lnTo>
                  <a:pt x="363" y="181"/>
                </a:lnTo>
                <a:lnTo>
                  <a:pt x="363" y="192"/>
                </a:lnTo>
                <a:lnTo>
                  <a:pt x="365" y="206"/>
                </a:lnTo>
                <a:lnTo>
                  <a:pt x="365" y="221"/>
                </a:lnTo>
                <a:lnTo>
                  <a:pt x="367" y="236"/>
                </a:lnTo>
                <a:lnTo>
                  <a:pt x="369" y="252"/>
                </a:lnTo>
                <a:lnTo>
                  <a:pt x="371" y="269"/>
                </a:lnTo>
                <a:lnTo>
                  <a:pt x="373" y="288"/>
                </a:lnTo>
                <a:lnTo>
                  <a:pt x="374" y="305"/>
                </a:lnTo>
                <a:lnTo>
                  <a:pt x="376" y="326"/>
                </a:lnTo>
                <a:lnTo>
                  <a:pt x="378" y="348"/>
                </a:lnTo>
                <a:lnTo>
                  <a:pt x="380" y="369"/>
                </a:lnTo>
                <a:lnTo>
                  <a:pt x="382" y="392"/>
                </a:lnTo>
                <a:lnTo>
                  <a:pt x="384" y="419"/>
                </a:lnTo>
                <a:lnTo>
                  <a:pt x="386" y="445"/>
                </a:lnTo>
                <a:lnTo>
                  <a:pt x="390" y="474"/>
                </a:lnTo>
                <a:lnTo>
                  <a:pt x="392" y="503"/>
                </a:lnTo>
                <a:lnTo>
                  <a:pt x="394" y="536"/>
                </a:lnTo>
                <a:lnTo>
                  <a:pt x="396" y="568"/>
                </a:lnTo>
                <a:lnTo>
                  <a:pt x="397" y="603"/>
                </a:lnTo>
                <a:lnTo>
                  <a:pt x="399" y="639"/>
                </a:lnTo>
                <a:lnTo>
                  <a:pt x="401" y="678"/>
                </a:lnTo>
                <a:lnTo>
                  <a:pt x="403" y="716"/>
                </a:lnTo>
                <a:lnTo>
                  <a:pt x="405" y="756"/>
                </a:lnTo>
                <a:lnTo>
                  <a:pt x="409" y="799"/>
                </a:lnTo>
                <a:lnTo>
                  <a:pt x="411" y="841"/>
                </a:lnTo>
                <a:lnTo>
                  <a:pt x="413" y="885"/>
                </a:lnTo>
                <a:lnTo>
                  <a:pt x="415" y="929"/>
                </a:lnTo>
                <a:lnTo>
                  <a:pt x="415" y="971"/>
                </a:lnTo>
                <a:lnTo>
                  <a:pt x="417" y="1012"/>
                </a:lnTo>
                <a:lnTo>
                  <a:pt x="417" y="1050"/>
                </a:lnTo>
                <a:lnTo>
                  <a:pt x="417" y="1088"/>
                </a:lnTo>
                <a:lnTo>
                  <a:pt x="417" y="1125"/>
                </a:lnTo>
                <a:lnTo>
                  <a:pt x="417" y="1158"/>
                </a:lnTo>
                <a:lnTo>
                  <a:pt x="415" y="1190"/>
                </a:lnTo>
                <a:lnTo>
                  <a:pt x="415" y="1221"/>
                </a:lnTo>
                <a:lnTo>
                  <a:pt x="413" y="1252"/>
                </a:lnTo>
                <a:lnTo>
                  <a:pt x="411" y="1279"/>
                </a:lnTo>
                <a:lnTo>
                  <a:pt x="409" y="1303"/>
                </a:lnTo>
                <a:lnTo>
                  <a:pt x="409" y="1315"/>
                </a:lnTo>
                <a:lnTo>
                  <a:pt x="407" y="1326"/>
                </a:lnTo>
                <a:lnTo>
                  <a:pt x="407" y="1338"/>
                </a:lnTo>
                <a:lnTo>
                  <a:pt x="405" y="1348"/>
                </a:lnTo>
                <a:lnTo>
                  <a:pt x="403" y="1357"/>
                </a:lnTo>
                <a:lnTo>
                  <a:pt x="403" y="1367"/>
                </a:lnTo>
                <a:lnTo>
                  <a:pt x="401" y="1376"/>
                </a:lnTo>
                <a:lnTo>
                  <a:pt x="401" y="13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34"/>
          <p:cNvSpPr/>
          <p:nvPr/>
        </p:nvSpPr>
        <p:spPr>
          <a:xfrm>
            <a:off x="6942240" y="3935520"/>
            <a:ext cx="120600" cy="636480"/>
          </a:xfrm>
          <a:custGeom>
            <a:avLst/>
            <a:gdLst/>
            <a:ahLst/>
            <a:rect l="l" t="t" r="r" b="b"/>
            <a:pathLst>
              <a:path w="152" h="800">
                <a:moveTo>
                  <a:pt x="142" y="449"/>
                </a:moveTo>
                <a:lnTo>
                  <a:pt x="142" y="468"/>
                </a:lnTo>
                <a:lnTo>
                  <a:pt x="142" y="487"/>
                </a:lnTo>
                <a:lnTo>
                  <a:pt x="142" y="507"/>
                </a:lnTo>
                <a:lnTo>
                  <a:pt x="140" y="524"/>
                </a:lnTo>
                <a:lnTo>
                  <a:pt x="140" y="541"/>
                </a:lnTo>
                <a:lnTo>
                  <a:pt x="140" y="556"/>
                </a:lnTo>
                <a:lnTo>
                  <a:pt x="140" y="572"/>
                </a:lnTo>
                <a:lnTo>
                  <a:pt x="140" y="587"/>
                </a:lnTo>
                <a:lnTo>
                  <a:pt x="140" y="603"/>
                </a:lnTo>
                <a:lnTo>
                  <a:pt x="140" y="616"/>
                </a:lnTo>
                <a:lnTo>
                  <a:pt x="140" y="629"/>
                </a:lnTo>
                <a:lnTo>
                  <a:pt x="140" y="643"/>
                </a:lnTo>
                <a:lnTo>
                  <a:pt x="140" y="654"/>
                </a:lnTo>
                <a:lnTo>
                  <a:pt x="140" y="666"/>
                </a:lnTo>
                <a:lnTo>
                  <a:pt x="140" y="677"/>
                </a:lnTo>
                <a:lnTo>
                  <a:pt x="140" y="687"/>
                </a:lnTo>
                <a:lnTo>
                  <a:pt x="140" y="697"/>
                </a:lnTo>
                <a:lnTo>
                  <a:pt x="138" y="706"/>
                </a:lnTo>
                <a:lnTo>
                  <a:pt x="138" y="714"/>
                </a:lnTo>
                <a:lnTo>
                  <a:pt x="138" y="722"/>
                </a:lnTo>
                <a:lnTo>
                  <a:pt x="138" y="729"/>
                </a:lnTo>
                <a:lnTo>
                  <a:pt x="136" y="737"/>
                </a:lnTo>
                <a:lnTo>
                  <a:pt x="136" y="743"/>
                </a:lnTo>
                <a:lnTo>
                  <a:pt x="136" y="748"/>
                </a:lnTo>
                <a:lnTo>
                  <a:pt x="136" y="754"/>
                </a:lnTo>
                <a:lnTo>
                  <a:pt x="134" y="758"/>
                </a:lnTo>
                <a:lnTo>
                  <a:pt x="134" y="762"/>
                </a:lnTo>
                <a:lnTo>
                  <a:pt x="132" y="766"/>
                </a:lnTo>
                <a:lnTo>
                  <a:pt x="132" y="768"/>
                </a:lnTo>
                <a:lnTo>
                  <a:pt x="132" y="771"/>
                </a:lnTo>
                <a:lnTo>
                  <a:pt x="130" y="773"/>
                </a:lnTo>
                <a:lnTo>
                  <a:pt x="130" y="775"/>
                </a:lnTo>
                <a:lnTo>
                  <a:pt x="121" y="783"/>
                </a:lnTo>
                <a:lnTo>
                  <a:pt x="117" y="787"/>
                </a:lnTo>
                <a:lnTo>
                  <a:pt x="113" y="791"/>
                </a:lnTo>
                <a:lnTo>
                  <a:pt x="107" y="794"/>
                </a:lnTo>
                <a:lnTo>
                  <a:pt x="104" y="796"/>
                </a:lnTo>
                <a:lnTo>
                  <a:pt x="100" y="798"/>
                </a:lnTo>
                <a:lnTo>
                  <a:pt x="96" y="800"/>
                </a:lnTo>
                <a:lnTo>
                  <a:pt x="92" y="798"/>
                </a:lnTo>
                <a:lnTo>
                  <a:pt x="86" y="796"/>
                </a:lnTo>
                <a:lnTo>
                  <a:pt x="82" y="793"/>
                </a:lnTo>
                <a:lnTo>
                  <a:pt x="79" y="789"/>
                </a:lnTo>
                <a:lnTo>
                  <a:pt x="75" y="781"/>
                </a:lnTo>
                <a:lnTo>
                  <a:pt x="71" y="777"/>
                </a:lnTo>
                <a:lnTo>
                  <a:pt x="69" y="773"/>
                </a:lnTo>
                <a:lnTo>
                  <a:pt x="67" y="768"/>
                </a:lnTo>
                <a:lnTo>
                  <a:pt x="65" y="762"/>
                </a:lnTo>
                <a:lnTo>
                  <a:pt x="63" y="756"/>
                </a:lnTo>
                <a:lnTo>
                  <a:pt x="61" y="750"/>
                </a:lnTo>
                <a:lnTo>
                  <a:pt x="59" y="743"/>
                </a:lnTo>
                <a:lnTo>
                  <a:pt x="58" y="733"/>
                </a:lnTo>
                <a:lnTo>
                  <a:pt x="56" y="723"/>
                </a:lnTo>
                <a:lnTo>
                  <a:pt x="56" y="714"/>
                </a:lnTo>
                <a:lnTo>
                  <a:pt x="54" y="702"/>
                </a:lnTo>
                <a:lnTo>
                  <a:pt x="52" y="691"/>
                </a:lnTo>
                <a:lnTo>
                  <a:pt x="52" y="677"/>
                </a:lnTo>
                <a:lnTo>
                  <a:pt x="52" y="664"/>
                </a:lnTo>
                <a:lnTo>
                  <a:pt x="52" y="649"/>
                </a:lnTo>
                <a:lnTo>
                  <a:pt x="50" y="631"/>
                </a:lnTo>
                <a:lnTo>
                  <a:pt x="50" y="614"/>
                </a:lnTo>
                <a:lnTo>
                  <a:pt x="50" y="597"/>
                </a:lnTo>
                <a:lnTo>
                  <a:pt x="50" y="578"/>
                </a:lnTo>
                <a:lnTo>
                  <a:pt x="50" y="556"/>
                </a:lnTo>
                <a:lnTo>
                  <a:pt x="50" y="533"/>
                </a:lnTo>
                <a:lnTo>
                  <a:pt x="50" y="512"/>
                </a:lnTo>
                <a:lnTo>
                  <a:pt x="50" y="470"/>
                </a:lnTo>
                <a:lnTo>
                  <a:pt x="50" y="430"/>
                </a:lnTo>
                <a:lnTo>
                  <a:pt x="50" y="389"/>
                </a:lnTo>
                <a:lnTo>
                  <a:pt x="50" y="353"/>
                </a:lnTo>
                <a:lnTo>
                  <a:pt x="50" y="315"/>
                </a:lnTo>
                <a:lnTo>
                  <a:pt x="50" y="280"/>
                </a:lnTo>
                <a:lnTo>
                  <a:pt x="50" y="245"/>
                </a:lnTo>
                <a:lnTo>
                  <a:pt x="50" y="211"/>
                </a:lnTo>
                <a:lnTo>
                  <a:pt x="48" y="198"/>
                </a:lnTo>
                <a:lnTo>
                  <a:pt x="46" y="184"/>
                </a:lnTo>
                <a:lnTo>
                  <a:pt x="44" y="173"/>
                </a:lnTo>
                <a:lnTo>
                  <a:pt x="42" y="159"/>
                </a:lnTo>
                <a:lnTo>
                  <a:pt x="40" y="150"/>
                </a:lnTo>
                <a:lnTo>
                  <a:pt x="36" y="138"/>
                </a:lnTo>
                <a:lnTo>
                  <a:pt x="35" y="128"/>
                </a:lnTo>
                <a:lnTo>
                  <a:pt x="33" y="119"/>
                </a:lnTo>
                <a:lnTo>
                  <a:pt x="31" y="111"/>
                </a:lnTo>
                <a:lnTo>
                  <a:pt x="29" y="103"/>
                </a:lnTo>
                <a:lnTo>
                  <a:pt x="27" y="96"/>
                </a:lnTo>
                <a:lnTo>
                  <a:pt x="25" y="90"/>
                </a:lnTo>
                <a:lnTo>
                  <a:pt x="23" y="84"/>
                </a:lnTo>
                <a:lnTo>
                  <a:pt x="19" y="80"/>
                </a:lnTo>
                <a:lnTo>
                  <a:pt x="17" y="77"/>
                </a:lnTo>
                <a:lnTo>
                  <a:pt x="15" y="75"/>
                </a:lnTo>
                <a:lnTo>
                  <a:pt x="11" y="69"/>
                </a:lnTo>
                <a:lnTo>
                  <a:pt x="8" y="63"/>
                </a:lnTo>
                <a:lnTo>
                  <a:pt x="4" y="55"/>
                </a:lnTo>
                <a:lnTo>
                  <a:pt x="2" y="50"/>
                </a:lnTo>
                <a:lnTo>
                  <a:pt x="0" y="42"/>
                </a:lnTo>
                <a:lnTo>
                  <a:pt x="0" y="34"/>
                </a:lnTo>
                <a:lnTo>
                  <a:pt x="2" y="29"/>
                </a:lnTo>
                <a:lnTo>
                  <a:pt x="2" y="27"/>
                </a:lnTo>
                <a:lnTo>
                  <a:pt x="4" y="25"/>
                </a:lnTo>
                <a:lnTo>
                  <a:pt x="6" y="19"/>
                </a:lnTo>
                <a:lnTo>
                  <a:pt x="6" y="15"/>
                </a:lnTo>
                <a:lnTo>
                  <a:pt x="10" y="11"/>
                </a:lnTo>
                <a:lnTo>
                  <a:pt x="13" y="7"/>
                </a:lnTo>
                <a:lnTo>
                  <a:pt x="17" y="4"/>
                </a:lnTo>
                <a:lnTo>
                  <a:pt x="23" y="2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6" y="2"/>
                </a:lnTo>
                <a:lnTo>
                  <a:pt x="65" y="4"/>
                </a:lnTo>
                <a:lnTo>
                  <a:pt x="75" y="6"/>
                </a:lnTo>
                <a:lnTo>
                  <a:pt x="84" y="9"/>
                </a:lnTo>
                <a:lnTo>
                  <a:pt x="94" y="15"/>
                </a:lnTo>
                <a:lnTo>
                  <a:pt x="106" y="19"/>
                </a:lnTo>
                <a:lnTo>
                  <a:pt x="119" y="25"/>
                </a:lnTo>
                <a:lnTo>
                  <a:pt x="127" y="32"/>
                </a:lnTo>
                <a:lnTo>
                  <a:pt x="132" y="42"/>
                </a:lnTo>
                <a:lnTo>
                  <a:pt x="138" y="52"/>
                </a:lnTo>
                <a:lnTo>
                  <a:pt x="144" y="59"/>
                </a:lnTo>
                <a:lnTo>
                  <a:pt x="148" y="67"/>
                </a:lnTo>
                <a:lnTo>
                  <a:pt x="150" y="75"/>
                </a:lnTo>
                <a:lnTo>
                  <a:pt x="152" y="80"/>
                </a:lnTo>
                <a:lnTo>
                  <a:pt x="152" y="86"/>
                </a:lnTo>
                <a:lnTo>
                  <a:pt x="152" y="88"/>
                </a:lnTo>
                <a:lnTo>
                  <a:pt x="152" y="92"/>
                </a:lnTo>
                <a:lnTo>
                  <a:pt x="152" y="96"/>
                </a:lnTo>
                <a:lnTo>
                  <a:pt x="152" y="100"/>
                </a:lnTo>
                <a:lnTo>
                  <a:pt x="152" y="105"/>
                </a:lnTo>
                <a:lnTo>
                  <a:pt x="152" y="111"/>
                </a:lnTo>
                <a:lnTo>
                  <a:pt x="152" y="117"/>
                </a:lnTo>
                <a:lnTo>
                  <a:pt x="152" y="123"/>
                </a:lnTo>
                <a:lnTo>
                  <a:pt x="152" y="130"/>
                </a:lnTo>
                <a:lnTo>
                  <a:pt x="152" y="138"/>
                </a:lnTo>
                <a:lnTo>
                  <a:pt x="152" y="148"/>
                </a:lnTo>
                <a:lnTo>
                  <a:pt x="152" y="155"/>
                </a:lnTo>
                <a:lnTo>
                  <a:pt x="152" y="165"/>
                </a:lnTo>
                <a:lnTo>
                  <a:pt x="152" y="176"/>
                </a:lnTo>
                <a:lnTo>
                  <a:pt x="152" y="186"/>
                </a:lnTo>
                <a:lnTo>
                  <a:pt x="152" y="198"/>
                </a:lnTo>
                <a:lnTo>
                  <a:pt x="150" y="209"/>
                </a:lnTo>
                <a:lnTo>
                  <a:pt x="150" y="221"/>
                </a:lnTo>
                <a:lnTo>
                  <a:pt x="150" y="234"/>
                </a:lnTo>
                <a:lnTo>
                  <a:pt x="150" y="247"/>
                </a:lnTo>
                <a:lnTo>
                  <a:pt x="150" y="261"/>
                </a:lnTo>
                <a:lnTo>
                  <a:pt x="148" y="276"/>
                </a:lnTo>
                <a:lnTo>
                  <a:pt x="148" y="292"/>
                </a:lnTo>
                <a:lnTo>
                  <a:pt x="148" y="307"/>
                </a:lnTo>
                <a:lnTo>
                  <a:pt x="148" y="322"/>
                </a:lnTo>
                <a:lnTo>
                  <a:pt x="146" y="340"/>
                </a:lnTo>
                <a:lnTo>
                  <a:pt x="146" y="355"/>
                </a:lnTo>
                <a:lnTo>
                  <a:pt x="144" y="374"/>
                </a:lnTo>
                <a:lnTo>
                  <a:pt x="144" y="391"/>
                </a:lnTo>
                <a:lnTo>
                  <a:pt x="144" y="411"/>
                </a:lnTo>
                <a:lnTo>
                  <a:pt x="142" y="430"/>
                </a:lnTo>
                <a:lnTo>
                  <a:pt x="142" y="4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35"/>
          <p:cNvSpPr/>
          <p:nvPr/>
        </p:nvSpPr>
        <p:spPr>
          <a:xfrm>
            <a:off x="6450120" y="3905280"/>
            <a:ext cx="409320" cy="1062000"/>
          </a:xfrm>
          <a:custGeom>
            <a:avLst/>
            <a:gdLst/>
            <a:ahLst/>
            <a:rect l="l" t="t" r="r" b="b"/>
            <a:pathLst>
              <a:path w="516" h="1338">
                <a:moveTo>
                  <a:pt x="228" y="1164"/>
                </a:moveTo>
                <a:lnTo>
                  <a:pt x="217" y="1156"/>
                </a:lnTo>
                <a:lnTo>
                  <a:pt x="209" y="1150"/>
                </a:lnTo>
                <a:lnTo>
                  <a:pt x="200" y="1142"/>
                </a:lnTo>
                <a:lnTo>
                  <a:pt x="192" y="1137"/>
                </a:lnTo>
                <a:lnTo>
                  <a:pt x="184" y="1131"/>
                </a:lnTo>
                <a:lnTo>
                  <a:pt x="179" y="1125"/>
                </a:lnTo>
                <a:lnTo>
                  <a:pt x="173" y="1119"/>
                </a:lnTo>
                <a:lnTo>
                  <a:pt x="169" y="1116"/>
                </a:lnTo>
                <a:lnTo>
                  <a:pt x="165" y="1110"/>
                </a:lnTo>
                <a:lnTo>
                  <a:pt x="161" y="1104"/>
                </a:lnTo>
                <a:lnTo>
                  <a:pt x="159" y="1100"/>
                </a:lnTo>
                <a:lnTo>
                  <a:pt x="157" y="1095"/>
                </a:lnTo>
                <a:lnTo>
                  <a:pt x="157" y="1091"/>
                </a:lnTo>
                <a:lnTo>
                  <a:pt x="157" y="1085"/>
                </a:lnTo>
                <a:lnTo>
                  <a:pt x="157" y="1081"/>
                </a:lnTo>
                <a:lnTo>
                  <a:pt x="159" y="1075"/>
                </a:lnTo>
                <a:lnTo>
                  <a:pt x="159" y="1073"/>
                </a:lnTo>
                <a:lnTo>
                  <a:pt x="161" y="1071"/>
                </a:lnTo>
                <a:lnTo>
                  <a:pt x="163" y="1070"/>
                </a:lnTo>
                <a:lnTo>
                  <a:pt x="165" y="1070"/>
                </a:lnTo>
                <a:lnTo>
                  <a:pt x="167" y="1068"/>
                </a:lnTo>
                <a:lnTo>
                  <a:pt x="171" y="1068"/>
                </a:lnTo>
                <a:lnTo>
                  <a:pt x="175" y="1066"/>
                </a:lnTo>
                <a:lnTo>
                  <a:pt x="179" y="1066"/>
                </a:lnTo>
                <a:lnTo>
                  <a:pt x="184" y="1066"/>
                </a:lnTo>
                <a:lnTo>
                  <a:pt x="190" y="1068"/>
                </a:lnTo>
                <a:lnTo>
                  <a:pt x="196" y="1068"/>
                </a:lnTo>
                <a:lnTo>
                  <a:pt x="204" y="1070"/>
                </a:lnTo>
                <a:lnTo>
                  <a:pt x="211" y="1070"/>
                </a:lnTo>
                <a:lnTo>
                  <a:pt x="221" y="1071"/>
                </a:lnTo>
                <a:lnTo>
                  <a:pt x="228" y="1073"/>
                </a:lnTo>
                <a:lnTo>
                  <a:pt x="240" y="1075"/>
                </a:lnTo>
                <a:lnTo>
                  <a:pt x="255" y="1079"/>
                </a:lnTo>
                <a:lnTo>
                  <a:pt x="271" y="1083"/>
                </a:lnTo>
                <a:lnTo>
                  <a:pt x="286" y="1085"/>
                </a:lnTo>
                <a:lnTo>
                  <a:pt x="299" y="1085"/>
                </a:lnTo>
                <a:lnTo>
                  <a:pt x="311" y="1085"/>
                </a:lnTo>
                <a:lnTo>
                  <a:pt x="323" y="1083"/>
                </a:lnTo>
                <a:lnTo>
                  <a:pt x="334" y="1079"/>
                </a:lnTo>
                <a:lnTo>
                  <a:pt x="342" y="1075"/>
                </a:lnTo>
                <a:lnTo>
                  <a:pt x="344" y="1073"/>
                </a:lnTo>
                <a:lnTo>
                  <a:pt x="344" y="1071"/>
                </a:lnTo>
                <a:lnTo>
                  <a:pt x="346" y="1070"/>
                </a:lnTo>
                <a:lnTo>
                  <a:pt x="346" y="1064"/>
                </a:lnTo>
                <a:lnTo>
                  <a:pt x="347" y="1060"/>
                </a:lnTo>
                <a:lnTo>
                  <a:pt x="347" y="1054"/>
                </a:lnTo>
                <a:lnTo>
                  <a:pt x="349" y="1048"/>
                </a:lnTo>
                <a:lnTo>
                  <a:pt x="351" y="1041"/>
                </a:lnTo>
                <a:lnTo>
                  <a:pt x="351" y="1033"/>
                </a:lnTo>
                <a:lnTo>
                  <a:pt x="353" y="1023"/>
                </a:lnTo>
                <a:lnTo>
                  <a:pt x="353" y="1014"/>
                </a:lnTo>
                <a:lnTo>
                  <a:pt x="355" y="1004"/>
                </a:lnTo>
                <a:lnTo>
                  <a:pt x="355" y="993"/>
                </a:lnTo>
                <a:lnTo>
                  <a:pt x="355" y="981"/>
                </a:lnTo>
                <a:lnTo>
                  <a:pt x="357" y="968"/>
                </a:lnTo>
                <a:lnTo>
                  <a:pt x="357" y="954"/>
                </a:lnTo>
                <a:lnTo>
                  <a:pt x="359" y="939"/>
                </a:lnTo>
                <a:lnTo>
                  <a:pt x="359" y="924"/>
                </a:lnTo>
                <a:lnTo>
                  <a:pt x="359" y="908"/>
                </a:lnTo>
                <a:lnTo>
                  <a:pt x="361" y="891"/>
                </a:lnTo>
                <a:lnTo>
                  <a:pt x="361" y="874"/>
                </a:lnTo>
                <a:lnTo>
                  <a:pt x="361" y="855"/>
                </a:lnTo>
                <a:lnTo>
                  <a:pt x="363" y="835"/>
                </a:lnTo>
                <a:lnTo>
                  <a:pt x="363" y="816"/>
                </a:lnTo>
                <a:lnTo>
                  <a:pt x="363" y="795"/>
                </a:lnTo>
                <a:lnTo>
                  <a:pt x="363" y="772"/>
                </a:lnTo>
                <a:lnTo>
                  <a:pt x="365" y="751"/>
                </a:lnTo>
                <a:lnTo>
                  <a:pt x="365" y="728"/>
                </a:lnTo>
                <a:lnTo>
                  <a:pt x="365" y="703"/>
                </a:lnTo>
                <a:lnTo>
                  <a:pt x="365" y="678"/>
                </a:lnTo>
                <a:lnTo>
                  <a:pt x="365" y="653"/>
                </a:lnTo>
                <a:lnTo>
                  <a:pt x="365" y="626"/>
                </a:lnTo>
                <a:lnTo>
                  <a:pt x="365" y="599"/>
                </a:lnTo>
                <a:lnTo>
                  <a:pt x="365" y="572"/>
                </a:lnTo>
                <a:lnTo>
                  <a:pt x="365" y="547"/>
                </a:lnTo>
                <a:lnTo>
                  <a:pt x="365" y="524"/>
                </a:lnTo>
                <a:lnTo>
                  <a:pt x="365" y="499"/>
                </a:lnTo>
                <a:lnTo>
                  <a:pt x="363" y="476"/>
                </a:lnTo>
                <a:lnTo>
                  <a:pt x="363" y="455"/>
                </a:lnTo>
                <a:lnTo>
                  <a:pt x="363" y="434"/>
                </a:lnTo>
                <a:lnTo>
                  <a:pt x="363" y="413"/>
                </a:lnTo>
                <a:lnTo>
                  <a:pt x="361" y="392"/>
                </a:lnTo>
                <a:lnTo>
                  <a:pt x="361" y="373"/>
                </a:lnTo>
                <a:lnTo>
                  <a:pt x="361" y="356"/>
                </a:lnTo>
                <a:lnTo>
                  <a:pt x="359" y="336"/>
                </a:lnTo>
                <a:lnTo>
                  <a:pt x="359" y="319"/>
                </a:lnTo>
                <a:lnTo>
                  <a:pt x="357" y="304"/>
                </a:lnTo>
                <a:lnTo>
                  <a:pt x="357" y="288"/>
                </a:lnTo>
                <a:lnTo>
                  <a:pt x="355" y="273"/>
                </a:lnTo>
                <a:lnTo>
                  <a:pt x="353" y="260"/>
                </a:lnTo>
                <a:lnTo>
                  <a:pt x="353" y="246"/>
                </a:lnTo>
                <a:lnTo>
                  <a:pt x="351" y="233"/>
                </a:lnTo>
                <a:lnTo>
                  <a:pt x="349" y="221"/>
                </a:lnTo>
                <a:lnTo>
                  <a:pt x="349" y="210"/>
                </a:lnTo>
                <a:lnTo>
                  <a:pt x="347" y="200"/>
                </a:lnTo>
                <a:lnTo>
                  <a:pt x="346" y="189"/>
                </a:lnTo>
                <a:lnTo>
                  <a:pt x="344" y="181"/>
                </a:lnTo>
                <a:lnTo>
                  <a:pt x="342" y="171"/>
                </a:lnTo>
                <a:lnTo>
                  <a:pt x="340" y="165"/>
                </a:lnTo>
                <a:lnTo>
                  <a:pt x="338" y="158"/>
                </a:lnTo>
                <a:lnTo>
                  <a:pt x="336" y="152"/>
                </a:lnTo>
                <a:lnTo>
                  <a:pt x="334" y="146"/>
                </a:lnTo>
                <a:lnTo>
                  <a:pt x="332" y="142"/>
                </a:lnTo>
                <a:lnTo>
                  <a:pt x="330" y="139"/>
                </a:lnTo>
                <a:lnTo>
                  <a:pt x="324" y="133"/>
                </a:lnTo>
                <a:lnTo>
                  <a:pt x="315" y="131"/>
                </a:lnTo>
                <a:lnTo>
                  <a:pt x="303" y="127"/>
                </a:lnTo>
                <a:lnTo>
                  <a:pt x="292" y="125"/>
                </a:lnTo>
                <a:lnTo>
                  <a:pt x="278" y="125"/>
                </a:lnTo>
                <a:lnTo>
                  <a:pt x="263" y="125"/>
                </a:lnTo>
                <a:lnTo>
                  <a:pt x="246" y="125"/>
                </a:lnTo>
                <a:lnTo>
                  <a:pt x="227" y="127"/>
                </a:lnTo>
                <a:lnTo>
                  <a:pt x="205" y="129"/>
                </a:lnTo>
                <a:lnTo>
                  <a:pt x="184" y="131"/>
                </a:lnTo>
                <a:lnTo>
                  <a:pt x="159" y="135"/>
                </a:lnTo>
                <a:lnTo>
                  <a:pt x="134" y="139"/>
                </a:lnTo>
                <a:lnTo>
                  <a:pt x="106" y="144"/>
                </a:lnTo>
                <a:lnTo>
                  <a:pt x="77" y="150"/>
                </a:lnTo>
                <a:lnTo>
                  <a:pt x="46" y="156"/>
                </a:lnTo>
                <a:lnTo>
                  <a:pt x="12" y="164"/>
                </a:lnTo>
                <a:lnTo>
                  <a:pt x="6" y="114"/>
                </a:lnTo>
                <a:lnTo>
                  <a:pt x="0" y="64"/>
                </a:lnTo>
                <a:lnTo>
                  <a:pt x="19" y="64"/>
                </a:lnTo>
                <a:lnTo>
                  <a:pt x="38" y="64"/>
                </a:lnTo>
                <a:lnTo>
                  <a:pt x="56" y="62"/>
                </a:lnTo>
                <a:lnTo>
                  <a:pt x="71" y="62"/>
                </a:lnTo>
                <a:lnTo>
                  <a:pt x="86" y="62"/>
                </a:lnTo>
                <a:lnTo>
                  <a:pt x="102" y="62"/>
                </a:lnTo>
                <a:lnTo>
                  <a:pt x="117" y="62"/>
                </a:lnTo>
                <a:lnTo>
                  <a:pt x="131" y="62"/>
                </a:lnTo>
                <a:lnTo>
                  <a:pt x="144" y="60"/>
                </a:lnTo>
                <a:lnTo>
                  <a:pt x="156" y="60"/>
                </a:lnTo>
                <a:lnTo>
                  <a:pt x="167" y="58"/>
                </a:lnTo>
                <a:lnTo>
                  <a:pt x="179" y="58"/>
                </a:lnTo>
                <a:lnTo>
                  <a:pt x="188" y="56"/>
                </a:lnTo>
                <a:lnTo>
                  <a:pt x="200" y="54"/>
                </a:lnTo>
                <a:lnTo>
                  <a:pt x="207" y="52"/>
                </a:lnTo>
                <a:lnTo>
                  <a:pt x="217" y="50"/>
                </a:lnTo>
                <a:lnTo>
                  <a:pt x="230" y="46"/>
                </a:lnTo>
                <a:lnTo>
                  <a:pt x="242" y="41"/>
                </a:lnTo>
                <a:lnTo>
                  <a:pt x="253" y="37"/>
                </a:lnTo>
                <a:lnTo>
                  <a:pt x="265" y="31"/>
                </a:lnTo>
                <a:lnTo>
                  <a:pt x="275" y="27"/>
                </a:lnTo>
                <a:lnTo>
                  <a:pt x="284" y="22"/>
                </a:lnTo>
                <a:lnTo>
                  <a:pt x="292" y="18"/>
                </a:lnTo>
                <a:lnTo>
                  <a:pt x="294" y="16"/>
                </a:lnTo>
                <a:lnTo>
                  <a:pt x="298" y="14"/>
                </a:lnTo>
                <a:lnTo>
                  <a:pt x="301" y="8"/>
                </a:lnTo>
                <a:lnTo>
                  <a:pt x="305" y="6"/>
                </a:lnTo>
                <a:lnTo>
                  <a:pt x="309" y="2"/>
                </a:lnTo>
                <a:lnTo>
                  <a:pt x="313" y="2"/>
                </a:lnTo>
                <a:lnTo>
                  <a:pt x="319" y="0"/>
                </a:lnTo>
                <a:lnTo>
                  <a:pt x="323" y="0"/>
                </a:lnTo>
                <a:lnTo>
                  <a:pt x="330" y="0"/>
                </a:lnTo>
                <a:lnTo>
                  <a:pt x="334" y="0"/>
                </a:lnTo>
                <a:lnTo>
                  <a:pt x="336" y="0"/>
                </a:lnTo>
                <a:lnTo>
                  <a:pt x="340" y="2"/>
                </a:lnTo>
                <a:lnTo>
                  <a:pt x="344" y="2"/>
                </a:lnTo>
                <a:lnTo>
                  <a:pt x="347" y="4"/>
                </a:lnTo>
                <a:lnTo>
                  <a:pt x="353" y="6"/>
                </a:lnTo>
                <a:lnTo>
                  <a:pt x="359" y="8"/>
                </a:lnTo>
                <a:lnTo>
                  <a:pt x="365" y="10"/>
                </a:lnTo>
                <a:lnTo>
                  <a:pt x="372" y="12"/>
                </a:lnTo>
                <a:lnTo>
                  <a:pt x="378" y="16"/>
                </a:lnTo>
                <a:lnTo>
                  <a:pt x="386" y="18"/>
                </a:lnTo>
                <a:lnTo>
                  <a:pt x="395" y="22"/>
                </a:lnTo>
                <a:lnTo>
                  <a:pt x="403" y="25"/>
                </a:lnTo>
                <a:lnTo>
                  <a:pt x="413" y="29"/>
                </a:lnTo>
                <a:lnTo>
                  <a:pt x="422" y="33"/>
                </a:lnTo>
                <a:lnTo>
                  <a:pt x="434" y="39"/>
                </a:lnTo>
                <a:lnTo>
                  <a:pt x="442" y="43"/>
                </a:lnTo>
                <a:lnTo>
                  <a:pt x="449" y="46"/>
                </a:lnTo>
                <a:lnTo>
                  <a:pt x="457" y="52"/>
                </a:lnTo>
                <a:lnTo>
                  <a:pt x="463" y="56"/>
                </a:lnTo>
                <a:lnTo>
                  <a:pt x="476" y="66"/>
                </a:lnTo>
                <a:lnTo>
                  <a:pt x="486" y="73"/>
                </a:lnTo>
                <a:lnTo>
                  <a:pt x="495" y="81"/>
                </a:lnTo>
                <a:lnTo>
                  <a:pt x="501" y="89"/>
                </a:lnTo>
                <a:lnTo>
                  <a:pt x="509" y="94"/>
                </a:lnTo>
                <a:lnTo>
                  <a:pt x="513" y="100"/>
                </a:lnTo>
                <a:lnTo>
                  <a:pt x="514" y="104"/>
                </a:lnTo>
                <a:lnTo>
                  <a:pt x="516" y="110"/>
                </a:lnTo>
                <a:lnTo>
                  <a:pt x="516" y="119"/>
                </a:lnTo>
                <a:lnTo>
                  <a:pt x="516" y="127"/>
                </a:lnTo>
                <a:lnTo>
                  <a:pt x="514" y="137"/>
                </a:lnTo>
                <a:lnTo>
                  <a:pt x="513" y="144"/>
                </a:lnTo>
                <a:lnTo>
                  <a:pt x="509" y="152"/>
                </a:lnTo>
                <a:lnTo>
                  <a:pt x="505" y="158"/>
                </a:lnTo>
                <a:lnTo>
                  <a:pt x="501" y="164"/>
                </a:lnTo>
                <a:lnTo>
                  <a:pt x="499" y="167"/>
                </a:lnTo>
                <a:lnTo>
                  <a:pt x="497" y="173"/>
                </a:lnTo>
                <a:lnTo>
                  <a:pt x="495" y="181"/>
                </a:lnTo>
                <a:lnTo>
                  <a:pt x="493" y="189"/>
                </a:lnTo>
                <a:lnTo>
                  <a:pt x="491" y="198"/>
                </a:lnTo>
                <a:lnTo>
                  <a:pt x="490" y="208"/>
                </a:lnTo>
                <a:lnTo>
                  <a:pt x="488" y="217"/>
                </a:lnTo>
                <a:lnTo>
                  <a:pt x="488" y="229"/>
                </a:lnTo>
                <a:lnTo>
                  <a:pt x="486" y="240"/>
                </a:lnTo>
                <a:lnTo>
                  <a:pt x="486" y="254"/>
                </a:lnTo>
                <a:lnTo>
                  <a:pt x="486" y="267"/>
                </a:lnTo>
                <a:lnTo>
                  <a:pt x="486" y="283"/>
                </a:lnTo>
                <a:lnTo>
                  <a:pt x="486" y="298"/>
                </a:lnTo>
                <a:lnTo>
                  <a:pt x="488" y="315"/>
                </a:lnTo>
                <a:lnTo>
                  <a:pt x="488" y="332"/>
                </a:lnTo>
                <a:lnTo>
                  <a:pt x="490" y="350"/>
                </a:lnTo>
                <a:lnTo>
                  <a:pt x="490" y="369"/>
                </a:lnTo>
                <a:lnTo>
                  <a:pt x="490" y="390"/>
                </a:lnTo>
                <a:lnTo>
                  <a:pt x="490" y="413"/>
                </a:lnTo>
                <a:lnTo>
                  <a:pt x="490" y="438"/>
                </a:lnTo>
                <a:lnTo>
                  <a:pt x="490" y="463"/>
                </a:lnTo>
                <a:lnTo>
                  <a:pt x="490" y="490"/>
                </a:lnTo>
                <a:lnTo>
                  <a:pt x="490" y="519"/>
                </a:lnTo>
                <a:lnTo>
                  <a:pt x="490" y="547"/>
                </a:lnTo>
                <a:lnTo>
                  <a:pt x="490" y="578"/>
                </a:lnTo>
                <a:lnTo>
                  <a:pt x="490" y="611"/>
                </a:lnTo>
                <a:lnTo>
                  <a:pt x="490" y="645"/>
                </a:lnTo>
                <a:lnTo>
                  <a:pt x="490" y="682"/>
                </a:lnTo>
                <a:lnTo>
                  <a:pt x="490" y="718"/>
                </a:lnTo>
                <a:lnTo>
                  <a:pt x="490" y="757"/>
                </a:lnTo>
                <a:lnTo>
                  <a:pt x="490" y="797"/>
                </a:lnTo>
                <a:lnTo>
                  <a:pt x="490" y="839"/>
                </a:lnTo>
                <a:lnTo>
                  <a:pt x="490" y="860"/>
                </a:lnTo>
                <a:lnTo>
                  <a:pt x="490" y="881"/>
                </a:lnTo>
                <a:lnTo>
                  <a:pt x="490" y="903"/>
                </a:lnTo>
                <a:lnTo>
                  <a:pt x="490" y="922"/>
                </a:lnTo>
                <a:lnTo>
                  <a:pt x="488" y="943"/>
                </a:lnTo>
                <a:lnTo>
                  <a:pt x="488" y="962"/>
                </a:lnTo>
                <a:lnTo>
                  <a:pt x="488" y="979"/>
                </a:lnTo>
                <a:lnTo>
                  <a:pt x="486" y="999"/>
                </a:lnTo>
                <a:lnTo>
                  <a:pt x="486" y="1016"/>
                </a:lnTo>
                <a:lnTo>
                  <a:pt x="484" y="1031"/>
                </a:lnTo>
                <a:lnTo>
                  <a:pt x="482" y="1048"/>
                </a:lnTo>
                <a:lnTo>
                  <a:pt x="480" y="1064"/>
                </a:lnTo>
                <a:lnTo>
                  <a:pt x="480" y="1079"/>
                </a:lnTo>
                <a:lnTo>
                  <a:pt x="478" y="1095"/>
                </a:lnTo>
                <a:lnTo>
                  <a:pt x="476" y="1108"/>
                </a:lnTo>
                <a:lnTo>
                  <a:pt x="474" y="1121"/>
                </a:lnTo>
                <a:lnTo>
                  <a:pt x="472" y="1135"/>
                </a:lnTo>
                <a:lnTo>
                  <a:pt x="470" y="1146"/>
                </a:lnTo>
                <a:lnTo>
                  <a:pt x="468" y="1158"/>
                </a:lnTo>
                <a:lnTo>
                  <a:pt x="466" y="1169"/>
                </a:lnTo>
                <a:lnTo>
                  <a:pt x="463" y="1181"/>
                </a:lnTo>
                <a:lnTo>
                  <a:pt x="461" y="1190"/>
                </a:lnTo>
                <a:lnTo>
                  <a:pt x="459" y="1200"/>
                </a:lnTo>
                <a:lnTo>
                  <a:pt x="457" y="1210"/>
                </a:lnTo>
                <a:lnTo>
                  <a:pt x="453" y="1217"/>
                </a:lnTo>
                <a:lnTo>
                  <a:pt x="451" y="1225"/>
                </a:lnTo>
                <a:lnTo>
                  <a:pt x="447" y="1233"/>
                </a:lnTo>
                <a:lnTo>
                  <a:pt x="445" y="1240"/>
                </a:lnTo>
                <a:lnTo>
                  <a:pt x="442" y="1246"/>
                </a:lnTo>
                <a:lnTo>
                  <a:pt x="440" y="1254"/>
                </a:lnTo>
                <a:lnTo>
                  <a:pt x="436" y="1258"/>
                </a:lnTo>
                <a:lnTo>
                  <a:pt x="434" y="1263"/>
                </a:lnTo>
                <a:lnTo>
                  <a:pt x="426" y="1273"/>
                </a:lnTo>
                <a:lnTo>
                  <a:pt x="420" y="1281"/>
                </a:lnTo>
                <a:lnTo>
                  <a:pt x="415" y="1288"/>
                </a:lnTo>
                <a:lnTo>
                  <a:pt x="407" y="1296"/>
                </a:lnTo>
                <a:lnTo>
                  <a:pt x="401" y="1304"/>
                </a:lnTo>
                <a:lnTo>
                  <a:pt x="395" y="1309"/>
                </a:lnTo>
                <a:lnTo>
                  <a:pt x="390" y="1315"/>
                </a:lnTo>
                <a:lnTo>
                  <a:pt x="384" y="1319"/>
                </a:lnTo>
                <a:lnTo>
                  <a:pt x="378" y="1325"/>
                </a:lnTo>
                <a:lnTo>
                  <a:pt x="372" y="1329"/>
                </a:lnTo>
                <a:lnTo>
                  <a:pt x="367" y="1331"/>
                </a:lnTo>
                <a:lnTo>
                  <a:pt x="361" y="1334"/>
                </a:lnTo>
                <a:lnTo>
                  <a:pt x="355" y="1336"/>
                </a:lnTo>
                <a:lnTo>
                  <a:pt x="351" y="1338"/>
                </a:lnTo>
                <a:lnTo>
                  <a:pt x="347" y="1338"/>
                </a:lnTo>
                <a:lnTo>
                  <a:pt x="342" y="1338"/>
                </a:lnTo>
                <a:lnTo>
                  <a:pt x="338" y="1338"/>
                </a:lnTo>
                <a:lnTo>
                  <a:pt x="334" y="1338"/>
                </a:lnTo>
                <a:lnTo>
                  <a:pt x="330" y="1336"/>
                </a:lnTo>
                <a:lnTo>
                  <a:pt x="326" y="1334"/>
                </a:lnTo>
                <a:lnTo>
                  <a:pt x="324" y="1333"/>
                </a:lnTo>
                <a:lnTo>
                  <a:pt x="321" y="1329"/>
                </a:lnTo>
                <a:lnTo>
                  <a:pt x="317" y="1321"/>
                </a:lnTo>
                <a:lnTo>
                  <a:pt x="313" y="1311"/>
                </a:lnTo>
                <a:lnTo>
                  <a:pt x="309" y="1302"/>
                </a:lnTo>
                <a:lnTo>
                  <a:pt x="309" y="1290"/>
                </a:lnTo>
                <a:lnTo>
                  <a:pt x="307" y="1277"/>
                </a:lnTo>
                <a:lnTo>
                  <a:pt x="307" y="1269"/>
                </a:lnTo>
                <a:lnTo>
                  <a:pt x="307" y="1262"/>
                </a:lnTo>
                <a:lnTo>
                  <a:pt x="305" y="1256"/>
                </a:lnTo>
                <a:lnTo>
                  <a:pt x="303" y="1248"/>
                </a:lnTo>
                <a:lnTo>
                  <a:pt x="301" y="1240"/>
                </a:lnTo>
                <a:lnTo>
                  <a:pt x="298" y="1235"/>
                </a:lnTo>
                <a:lnTo>
                  <a:pt x="294" y="1227"/>
                </a:lnTo>
                <a:lnTo>
                  <a:pt x="290" y="1219"/>
                </a:lnTo>
                <a:lnTo>
                  <a:pt x="284" y="1214"/>
                </a:lnTo>
                <a:lnTo>
                  <a:pt x="278" y="1206"/>
                </a:lnTo>
                <a:lnTo>
                  <a:pt x="271" y="1198"/>
                </a:lnTo>
                <a:lnTo>
                  <a:pt x="265" y="1192"/>
                </a:lnTo>
                <a:lnTo>
                  <a:pt x="257" y="1185"/>
                </a:lnTo>
                <a:lnTo>
                  <a:pt x="248" y="1177"/>
                </a:lnTo>
                <a:lnTo>
                  <a:pt x="238" y="1171"/>
                </a:lnTo>
                <a:lnTo>
                  <a:pt x="228" y="1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36"/>
          <p:cNvSpPr/>
          <p:nvPr/>
        </p:nvSpPr>
        <p:spPr>
          <a:xfrm>
            <a:off x="6386400" y="3935520"/>
            <a:ext cx="127080" cy="952560"/>
          </a:xfrm>
          <a:custGeom>
            <a:avLst/>
            <a:gdLst/>
            <a:ahLst/>
            <a:rect l="l" t="t" r="r" b="b"/>
            <a:pathLst>
              <a:path w="160" h="1199">
                <a:moveTo>
                  <a:pt x="35" y="86"/>
                </a:moveTo>
                <a:lnTo>
                  <a:pt x="33" y="77"/>
                </a:lnTo>
                <a:lnTo>
                  <a:pt x="31" y="69"/>
                </a:lnTo>
                <a:lnTo>
                  <a:pt x="31" y="61"/>
                </a:lnTo>
                <a:lnTo>
                  <a:pt x="29" y="54"/>
                </a:lnTo>
                <a:lnTo>
                  <a:pt x="29" y="46"/>
                </a:lnTo>
                <a:lnTo>
                  <a:pt x="29" y="40"/>
                </a:lnTo>
                <a:lnTo>
                  <a:pt x="31" y="29"/>
                </a:lnTo>
                <a:lnTo>
                  <a:pt x="35" y="19"/>
                </a:lnTo>
                <a:lnTo>
                  <a:pt x="37" y="11"/>
                </a:lnTo>
                <a:lnTo>
                  <a:pt x="41" y="4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4" y="0"/>
                </a:lnTo>
                <a:lnTo>
                  <a:pt x="58" y="2"/>
                </a:lnTo>
                <a:lnTo>
                  <a:pt x="64" y="2"/>
                </a:lnTo>
                <a:lnTo>
                  <a:pt x="69" y="4"/>
                </a:lnTo>
                <a:lnTo>
                  <a:pt x="75" y="6"/>
                </a:lnTo>
                <a:lnTo>
                  <a:pt x="81" y="7"/>
                </a:lnTo>
                <a:lnTo>
                  <a:pt x="89" y="11"/>
                </a:lnTo>
                <a:lnTo>
                  <a:pt x="96" y="13"/>
                </a:lnTo>
                <a:lnTo>
                  <a:pt x="106" y="17"/>
                </a:lnTo>
                <a:lnTo>
                  <a:pt x="114" y="19"/>
                </a:lnTo>
                <a:lnTo>
                  <a:pt x="125" y="23"/>
                </a:lnTo>
                <a:lnTo>
                  <a:pt x="135" y="27"/>
                </a:lnTo>
                <a:lnTo>
                  <a:pt x="146" y="32"/>
                </a:lnTo>
                <a:lnTo>
                  <a:pt x="160" y="36"/>
                </a:lnTo>
                <a:lnTo>
                  <a:pt x="160" y="84"/>
                </a:lnTo>
                <a:lnTo>
                  <a:pt x="160" y="132"/>
                </a:lnTo>
                <a:lnTo>
                  <a:pt x="160" y="178"/>
                </a:lnTo>
                <a:lnTo>
                  <a:pt x="160" y="224"/>
                </a:lnTo>
                <a:lnTo>
                  <a:pt x="160" y="269"/>
                </a:lnTo>
                <a:lnTo>
                  <a:pt x="158" y="311"/>
                </a:lnTo>
                <a:lnTo>
                  <a:pt x="158" y="353"/>
                </a:lnTo>
                <a:lnTo>
                  <a:pt x="158" y="393"/>
                </a:lnTo>
                <a:lnTo>
                  <a:pt x="158" y="432"/>
                </a:lnTo>
                <a:lnTo>
                  <a:pt x="156" y="470"/>
                </a:lnTo>
                <a:lnTo>
                  <a:pt x="156" y="507"/>
                </a:lnTo>
                <a:lnTo>
                  <a:pt x="154" y="543"/>
                </a:lnTo>
                <a:lnTo>
                  <a:pt x="154" y="578"/>
                </a:lnTo>
                <a:lnTo>
                  <a:pt x="152" y="610"/>
                </a:lnTo>
                <a:lnTo>
                  <a:pt x="150" y="643"/>
                </a:lnTo>
                <a:lnTo>
                  <a:pt x="148" y="674"/>
                </a:lnTo>
                <a:lnTo>
                  <a:pt x="146" y="704"/>
                </a:lnTo>
                <a:lnTo>
                  <a:pt x="144" y="733"/>
                </a:lnTo>
                <a:lnTo>
                  <a:pt x="142" y="762"/>
                </a:lnTo>
                <a:lnTo>
                  <a:pt x="140" y="789"/>
                </a:lnTo>
                <a:lnTo>
                  <a:pt x="140" y="816"/>
                </a:lnTo>
                <a:lnTo>
                  <a:pt x="139" y="842"/>
                </a:lnTo>
                <a:lnTo>
                  <a:pt x="139" y="867"/>
                </a:lnTo>
                <a:lnTo>
                  <a:pt x="137" y="892"/>
                </a:lnTo>
                <a:lnTo>
                  <a:pt x="135" y="915"/>
                </a:lnTo>
                <a:lnTo>
                  <a:pt x="135" y="938"/>
                </a:lnTo>
                <a:lnTo>
                  <a:pt x="133" y="960"/>
                </a:lnTo>
                <a:lnTo>
                  <a:pt x="131" y="983"/>
                </a:lnTo>
                <a:lnTo>
                  <a:pt x="131" y="1004"/>
                </a:lnTo>
                <a:lnTo>
                  <a:pt x="129" y="1023"/>
                </a:lnTo>
                <a:lnTo>
                  <a:pt x="127" y="1042"/>
                </a:lnTo>
                <a:lnTo>
                  <a:pt x="125" y="1061"/>
                </a:lnTo>
                <a:lnTo>
                  <a:pt x="123" y="1079"/>
                </a:lnTo>
                <a:lnTo>
                  <a:pt x="121" y="1092"/>
                </a:lnTo>
                <a:lnTo>
                  <a:pt x="119" y="1107"/>
                </a:lnTo>
                <a:lnTo>
                  <a:pt x="117" y="1121"/>
                </a:lnTo>
                <a:lnTo>
                  <a:pt x="116" y="1132"/>
                </a:lnTo>
                <a:lnTo>
                  <a:pt x="112" y="1144"/>
                </a:lnTo>
                <a:lnTo>
                  <a:pt x="110" y="1153"/>
                </a:lnTo>
                <a:lnTo>
                  <a:pt x="108" y="1163"/>
                </a:lnTo>
                <a:lnTo>
                  <a:pt x="106" y="1173"/>
                </a:lnTo>
                <a:lnTo>
                  <a:pt x="104" y="1178"/>
                </a:lnTo>
                <a:lnTo>
                  <a:pt x="102" y="1186"/>
                </a:lnTo>
                <a:lnTo>
                  <a:pt x="100" y="1190"/>
                </a:lnTo>
                <a:lnTo>
                  <a:pt x="98" y="1194"/>
                </a:lnTo>
                <a:lnTo>
                  <a:pt x="96" y="1198"/>
                </a:lnTo>
                <a:lnTo>
                  <a:pt x="92" y="1199"/>
                </a:lnTo>
                <a:lnTo>
                  <a:pt x="91" y="1199"/>
                </a:lnTo>
                <a:lnTo>
                  <a:pt x="89" y="1199"/>
                </a:lnTo>
                <a:lnTo>
                  <a:pt x="87" y="1198"/>
                </a:lnTo>
                <a:lnTo>
                  <a:pt x="83" y="1198"/>
                </a:lnTo>
                <a:lnTo>
                  <a:pt x="81" y="1194"/>
                </a:lnTo>
                <a:lnTo>
                  <a:pt x="77" y="1192"/>
                </a:lnTo>
                <a:lnTo>
                  <a:pt x="73" y="1188"/>
                </a:lnTo>
                <a:lnTo>
                  <a:pt x="69" y="1184"/>
                </a:lnTo>
                <a:lnTo>
                  <a:pt x="68" y="1178"/>
                </a:lnTo>
                <a:lnTo>
                  <a:pt x="64" y="1175"/>
                </a:lnTo>
                <a:lnTo>
                  <a:pt x="60" y="1167"/>
                </a:lnTo>
                <a:lnTo>
                  <a:pt x="56" y="1159"/>
                </a:lnTo>
                <a:lnTo>
                  <a:pt x="50" y="1151"/>
                </a:lnTo>
                <a:lnTo>
                  <a:pt x="46" y="1144"/>
                </a:lnTo>
                <a:lnTo>
                  <a:pt x="43" y="1134"/>
                </a:lnTo>
                <a:lnTo>
                  <a:pt x="39" y="1123"/>
                </a:lnTo>
                <a:lnTo>
                  <a:pt x="35" y="1113"/>
                </a:lnTo>
                <a:lnTo>
                  <a:pt x="31" y="1098"/>
                </a:lnTo>
                <a:lnTo>
                  <a:pt x="27" y="1086"/>
                </a:lnTo>
                <a:lnTo>
                  <a:pt x="23" y="1073"/>
                </a:lnTo>
                <a:lnTo>
                  <a:pt x="20" y="1063"/>
                </a:lnTo>
                <a:lnTo>
                  <a:pt x="16" y="1052"/>
                </a:lnTo>
                <a:lnTo>
                  <a:pt x="14" y="1042"/>
                </a:lnTo>
                <a:lnTo>
                  <a:pt x="12" y="1032"/>
                </a:lnTo>
                <a:lnTo>
                  <a:pt x="8" y="1025"/>
                </a:lnTo>
                <a:lnTo>
                  <a:pt x="6" y="1017"/>
                </a:lnTo>
                <a:lnTo>
                  <a:pt x="4" y="1009"/>
                </a:lnTo>
                <a:lnTo>
                  <a:pt x="4" y="1002"/>
                </a:lnTo>
                <a:lnTo>
                  <a:pt x="2" y="996"/>
                </a:lnTo>
                <a:lnTo>
                  <a:pt x="0" y="984"/>
                </a:lnTo>
                <a:lnTo>
                  <a:pt x="0" y="975"/>
                </a:lnTo>
                <a:lnTo>
                  <a:pt x="0" y="971"/>
                </a:lnTo>
                <a:lnTo>
                  <a:pt x="0" y="967"/>
                </a:lnTo>
                <a:lnTo>
                  <a:pt x="0" y="963"/>
                </a:lnTo>
                <a:lnTo>
                  <a:pt x="2" y="958"/>
                </a:lnTo>
                <a:lnTo>
                  <a:pt x="2" y="952"/>
                </a:lnTo>
                <a:lnTo>
                  <a:pt x="4" y="946"/>
                </a:lnTo>
                <a:lnTo>
                  <a:pt x="6" y="938"/>
                </a:lnTo>
                <a:lnTo>
                  <a:pt x="8" y="929"/>
                </a:lnTo>
                <a:lnTo>
                  <a:pt x="10" y="919"/>
                </a:lnTo>
                <a:lnTo>
                  <a:pt x="10" y="910"/>
                </a:lnTo>
                <a:lnTo>
                  <a:pt x="12" y="900"/>
                </a:lnTo>
                <a:lnTo>
                  <a:pt x="14" y="889"/>
                </a:lnTo>
                <a:lnTo>
                  <a:pt x="18" y="877"/>
                </a:lnTo>
                <a:lnTo>
                  <a:pt x="20" y="864"/>
                </a:lnTo>
                <a:lnTo>
                  <a:pt x="21" y="850"/>
                </a:lnTo>
                <a:lnTo>
                  <a:pt x="23" y="837"/>
                </a:lnTo>
                <a:lnTo>
                  <a:pt x="25" y="821"/>
                </a:lnTo>
                <a:lnTo>
                  <a:pt x="27" y="806"/>
                </a:lnTo>
                <a:lnTo>
                  <a:pt x="29" y="789"/>
                </a:lnTo>
                <a:lnTo>
                  <a:pt x="31" y="770"/>
                </a:lnTo>
                <a:lnTo>
                  <a:pt x="33" y="748"/>
                </a:lnTo>
                <a:lnTo>
                  <a:pt x="35" y="727"/>
                </a:lnTo>
                <a:lnTo>
                  <a:pt x="39" y="704"/>
                </a:lnTo>
                <a:lnTo>
                  <a:pt x="41" y="679"/>
                </a:lnTo>
                <a:lnTo>
                  <a:pt x="43" y="652"/>
                </a:lnTo>
                <a:lnTo>
                  <a:pt x="45" y="626"/>
                </a:lnTo>
                <a:lnTo>
                  <a:pt x="46" y="597"/>
                </a:lnTo>
                <a:lnTo>
                  <a:pt x="48" y="568"/>
                </a:lnTo>
                <a:lnTo>
                  <a:pt x="50" y="537"/>
                </a:lnTo>
                <a:lnTo>
                  <a:pt x="52" y="505"/>
                </a:lnTo>
                <a:lnTo>
                  <a:pt x="54" y="472"/>
                </a:lnTo>
                <a:lnTo>
                  <a:pt x="58" y="437"/>
                </a:lnTo>
                <a:lnTo>
                  <a:pt x="56" y="403"/>
                </a:lnTo>
                <a:lnTo>
                  <a:pt x="56" y="370"/>
                </a:lnTo>
                <a:lnTo>
                  <a:pt x="56" y="340"/>
                </a:lnTo>
                <a:lnTo>
                  <a:pt x="54" y="309"/>
                </a:lnTo>
                <a:lnTo>
                  <a:pt x="54" y="282"/>
                </a:lnTo>
                <a:lnTo>
                  <a:pt x="52" y="257"/>
                </a:lnTo>
                <a:lnTo>
                  <a:pt x="52" y="232"/>
                </a:lnTo>
                <a:lnTo>
                  <a:pt x="50" y="209"/>
                </a:lnTo>
                <a:lnTo>
                  <a:pt x="48" y="190"/>
                </a:lnTo>
                <a:lnTo>
                  <a:pt x="46" y="171"/>
                </a:lnTo>
                <a:lnTo>
                  <a:pt x="45" y="151"/>
                </a:lnTo>
                <a:lnTo>
                  <a:pt x="43" y="136"/>
                </a:lnTo>
                <a:lnTo>
                  <a:pt x="41" y="121"/>
                </a:lnTo>
                <a:lnTo>
                  <a:pt x="39" y="107"/>
                </a:lnTo>
                <a:lnTo>
                  <a:pt x="37" y="96"/>
                </a:lnTo>
                <a:lnTo>
                  <a:pt x="35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37"/>
          <p:cNvSpPr/>
          <p:nvPr/>
        </p:nvSpPr>
        <p:spPr>
          <a:xfrm>
            <a:off x="6467400" y="4408560"/>
            <a:ext cx="200160" cy="82440"/>
          </a:xfrm>
          <a:custGeom>
            <a:avLst/>
            <a:gdLst/>
            <a:ahLst/>
            <a:rect l="l" t="t" r="r" b="b"/>
            <a:pathLst>
              <a:path w="252" h="103">
                <a:moveTo>
                  <a:pt x="252" y="42"/>
                </a:moveTo>
                <a:lnTo>
                  <a:pt x="250" y="48"/>
                </a:lnTo>
                <a:lnTo>
                  <a:pt x="250" y="54"/>
                </a:lnTo>
                <a:lnTo>
                  <a:pt x="248" y="59"/>
                </a:lnTo>
                <a:lnTo>
                  <a:pt x="246" y="65"/>
                </a:lnTo>
                <a:lnTo>
                  <a:pt x="244" y="69"/>
                </a:lnTo>
                <a:lnTo>
                  <a:pt x="242" y="75"/>
                </a:lnTo>
                <a:lnTo>
                  <a:pt x="238" y="77"/>
                </a:lnTo>
                <a:lnTo>
                  <a:pt x="234" y="80"/>
                </a:lnTo>
                <a:lnTo>
                  <a:pt x="229" y="82"/>
                </a:lnTo>
                <a:lnTo>
                  <a:pt x="225" y="86"/>
                </a:lnTo>
                <a:lnTo>
                  <a:pt x="219" y="88"/>
                </a:lnTo>
                <a:lnTo>
                  <a:pt x="213" y="88"/>
                </a:lnTo>
                <a:lnTo>
                  <a:pt x="205" y="90"/>
                </a:lnTo>
                <a:lnTo>
                  <a:pt x="198" y="90"/>
                </a:lnTo>
                <a:lnTo>
                  <a:pt x="190" y="92"/>
                </a:lnTo>
                <a:lnTo>
                  <a:pt x="182" y="92"/>
                </a:lnTo>
                <a:lnTo>
                  <a:pt x="161" y="96"/>
                </a:lnTo>
                <a:lnTo>
                  <a:pt x="140" y="100"/>
                </a:lnTo>
                <a:lnTo>
                  <a:pt x="117" y="102"/>
                </a:lnTo>
                <a:lnTo>
                  <a:pt x="96" y="103"/>
                </a:lnTo>
                <a:lnTo>
                  <a:pt x="73" y="103"/>
                </a:lnTo>
                <a:lnTo>
                  <a:pt x="50" y="103"/>
                </a:lnTo>
                <a:lnTo>
                  <a:pt x="25" y="103"/>
                </a:lnTo>
                <a:lnTo>
                  <a:pt x="0" y="103"/>
                </a:lnTo>
                <a:lnTo>
                  <a:pt x="0" y="54"/>
                </a:lnTo>
                <a:lnTo>
                  <a:pt x="0" y="4"/>
                </a:lnTo>
                <a:lnTo>
                  <a:pt x="15" y="4"/>
                </a:lnTo>
                <a:lnTo>
                  <a:pt x="31" y="2"/>
                </a:lnTo>
                <a:lnTo>
                  <a:pt x="46" y="2"/>
                </a:lnTo>
                <a:lnTo>
                  <a:pt x="60" y="0"/>
                </a:lnTo>
                <a:lnTo>
                  <a:pt x="73" y="0"/>
                </a:lnTo>
                <a:lnTo>
                  <a:pt x="86" y="0"/>
                </a:lnTo>
                <a:lnTo>
                  <a:pt x="100" y="0"/>
                </a:lnTo>
                <a:lnTo>
                  <a:pt x="111" y="0"/>
                </a:lnTo>
                <a:lnTo>
                  <a:pt x="123" y="0"/>
                </a:lnTo>
                <a:lnTo>
                  <a:pt x="134" y="0"/>
                </a:lnTo>
                <a:lnTo>
                  <a:pt x="144" y="0"/>
                </a:lnTo>
                <a:lnTo>
                  <a:pt x="154" y="0"/>
                </a:lnTo>
                <a:lnTo>
                  <a:pt x="163" y="2"/>
                </a:lnTo>
                <a:lnTo>
                  <a:pt x="173" y="2"/>
                </a:lnTo>
                <a:lnTo>
                  <a:pt x="182" y="4"/>
                </a:lnTo>
                <a:lnTo>
                  <a:pt x="190" y="4"/>
                </a:lnTo>
                <a:lnTo>
                  <a:pt x="198" y="6"/>
                </a:lnTo>
                <a:lnTo>
                  <a:pt x="204" y="8"/>
                </a:lnTo>
                <a:lnTo>
                  <a:pt x="211" y="8"/>
                </a:lnTo>
                <a:lnTo>
                  <a:pt x="217" y="9"/>
                </a:lnTo>
                <a:lnTo>
                  <a:pt x="223" y="11"/>
                </a:lnTo>
                <a:lnTo>
                  <a:pt x="227" y="13"/>
                </a:lnTo>
                <a:lnTo>
                  <a:pt x="232" y="15"/>
                </a:lnTo>
                <a:lnTo>
                  <a:pt x="236" y="19"/>
                </a:lnTo>
                <a:lnTo>
                  <a:pt x="240" y="21"/>
                </a:lnTo>
                <a:lnTo>
                  <a:pt x="242" y="23"/>
                </a:lnTo>
                <a:lnTo>
                  <a:pt x="248" y="29"/>
                </a:lnTo>
                <a:lnTo>
                  <a:pt x="250" y="34"/>
                </a:lnTo>
                <a:lnTo>
                  <a:pt x="252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38"/>
          <p:cNvSpPr/>
          <p:nvPr/>
        </p:nvSpPr>
        <p:spPr>
          <a:xfrm>
            <a:off x="6467400" y="4179960"/>
            <a:ext cx="200160" cy="102960"/>
          </a:xfrm>
          <a:custGeom>
            <a:avLst/>
            <a:gdLst/>
            <a:ahLst/>
            <a:rect l="l" t="t" r="r" b="b"/>
            <a:pathLst>
              <a:path w="252" h="130">
                <a:moveTo>
                  <a:pt x="252" y="67"/>
                </a:moveTo>
                <a:lnTo>
                  <a:pt x="250" y="69"/>
                </a:lnTo>
                <a:lnTo>
                  <a:pt x="248" y="73"/>
                </a:lnTo>
                <a:lnTo>
                  <a:pt x="242" y="75"/>
                </a:lnTo>
                <a:lnTo>
                  <a:pt x="240" y="77"/>
                </a:lnTo>
                <a:lnTo>
                  <a:pt x="236" y="79"/>
                </a:lnTo>
                <a:lnTo>
                  <a:pt x="232" y="81"/>
                </a:lnTo>
                <a:lnTo>
                  <a:pt x="227" y="82"/>
                </a:lnTo>
                <a:lnTo>
                  <a:pt x="223" y="84"/>
                </a:lnTo>
                <a:lnTo>
                  <a:pt x="217" y="86"/>
                </a:lnTo>
                <a:lnTo>
                  <a:pt x="211" y="88"/>
                </a:lnTo>
                <a:lnTo>
                  <a:pt x="204" y="90"/>
                </a:lnTo>
                <a:lnTo>
                  <a:pt x="198" y="92"/>
                </a:lnTo>
                <a:lnTo>
                  <a:pt x="190" y="94"/>
                </a:lnTo>
                <a:lnTo>
                  <a:pt x="182" y="96"/>
                </a:lnTo>
                <a:lnTo>
                  <a:pt x="173" y="98"/>
                </a:lnTo>
                <a:lnTo>
                  <a:pt x="163" y="100"/>
                </a:lnTo>
                <a:lnTo>
                  <a:pt x="154" y="102"/>
                </a:lnTo>
                <a:lnTo>
                  <a:pt x="144" y="104"/>
                </a:lnTo>
                <a:lnTo>
                  <a:pt x="134" y="105"/>
                </a:lnTo>
                <a:lnTo>
                  <a:pt x="123" y="109"/>
                </a:lnTo>
                <a:lnTo>
                  <a:pt x="111" y="111"/>
                </a:lnTo>
                <a:lnTo>
                  <a:pt x="100" y="113"/>
                </a:lnTo>
                <a:lnTo>
                  <a:pt x="86" y="115"/>
                </a:lnTo>
                <a:lnTo>
                  <a:pt x="73" y="117"/>
                </a:lnTo>
                <a:lnTo>
                  <a:pt x="60" y="121"/>
                </a:lnTo>
                <a:lnTo>
                  <a:pt x="46" y="123"/>
                </a:lnTo>
                <a:lnTo>
                  <a:pt x="31" y="125"/>
                </a:lnTo>
                <a:lnTo>
                  <a:pt x="15" y="127"/>
                </a:lnTo>
                <a:lnTo>
                  <a:pt x="0" y="130"/>
                </a:lnTo>
                <a:lnTo>
                  <a:pt x="0" y="81"/>
                </a:lnTo>
                <a:lnTo>
                  <a:pt x="0" y="31"/>
                </a:lnTo>
                <a:lnTo>
                  <a:pt x="17" y="29"/>
                </a:lnTo>
                <a:lnTo>
                  <a:pt x="33" y="27"/>
                </a:lnTo>
                <a:lnTo>
                  <a:pt x="48" y="25"/>
                </a:lnTo>
                <a:lnTo>
                  <a:pt x="62" y="21"/>
                </a:lnTo>
                <a:lnTo>
                  <a:pt x="75" y="17"/>
                </a:lnTo>
                <a:lnTo>
                  <a:pt x="88" y="13"/>
                </a:lnTo>
                <a:lnTo>
                  <a:pt x="115" y="4"/>
                </a:lnTo>
                <a:lnTo>
                  <a:pt x="121" y="2"/>
                </a:lnTo>
                <a:lnTo>
                  <a:pt x="127" y="0"/>
                </a:lnTo>
                <a:lnTo>
                  <a:pt x="133" y="0"/>
                </a:lnTo>
                <a:lnTo>
                  <a:pt x="138" y="0"/>
                </a:lnTo>
                <a:lnTo>
                  <a:pt x="150" y="0"/>
                </a:lnTo>
                <a:lnTo>
                  <a:pt x="159" y="2"/>
                </a:lnTo>
                <a:lnTo>
                  <a:pt x="171" y="4"/>
                </a:lnTo>
                <a:lnTo>
                  <a:pt x="182" y="8"/>
                </a:lnTo>
                <a:lnTo>
                  <a:pt x="192" y="13"/>
                </a:lnTo>
                <a:lnTo>
                  <a:pt x="205" y="17"/>
                </a:lnTo>
                <a:lnTo>
                  <a:pt x="211" y="19"/>
                </a:lnTo>
                <a:lnTo>
                  <a:pt x="217" y="23"/>
                </a:lnTo>
                <a:lnTo>
                  <a:pt x="223" y="25"/>
                </a:lnTo>
                <a:lnTo>
                  <a:pt x="227" y="29"/>
                </a:lnTo>
                <a:lnTo>
                  <a:pt x="234" y="34"/>
                </a:lnTo>
                <a:lnTo>
                  <a:pt x="240" y="42"/>
                </a:lnTo>
                <a:lnTo>
                  <a:pt x="246" y="50"/>
                </a:lnTo>
                <a:lnTo>
                  <a:pt x="248" y="56"/>
                </a:lnTo>
                <a:lnTo>
                  <a:pt x="250" y="61"/>
                </a:lnTo>
                <a:lnTo>
                  <a:pt x="252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39"/>
          <p:cNvSpPr/>
          <p:nvPr/>
        </p:nvSpPr>
        <p:spPr>
          <a:xfrm>
            <a:off x="6594480" y="3538440"/>
            <a:ext cx="477720" cy="174600"/>
          </a:xfrm>
          <a:custGeom>
            <a:avLst/>
            <a:gdLst/>
            <a:ahLst/>
            <a:rect l="l" t="t" r="r" b="b"/>
            <a:pathLst>
              <a:path w="603" h="221">
                <a:moveTo>
                  <a:pt x="570" y="113"/>
                </a:moveTo>
                <a:lnTo>
                  <a:pt x="567" y="115"/>
                </a:lnTo>
                <a:lnTo>
                  <a:pt x="563" y="117"/>
                </a:lnTo>
                <a:lnTo>
                  <a:pt x="555" y="121"/>
                </a:lnTo>
                <a:lnTo>
                  <a:pt x="547" y="125"/>
                </a:lnTo>
                <a:lnTo>
                  <a:pt x="540" y="127"/>
                </a:lnTo>
                <a:lnTo>
                  <a:pt x="528" y="132"/>
                </a:lnTo>
                <a:lnTo>
                  <a:pt x="517" y="136"/>
                </a:lnTo>
                <a:lnTo>
                  <a:pt x="503" y="140"/>
                </a:lnTo>
                <a:lnTo>
                  <a:pt x="488" y="146"/>
                </a:lnTo>
                <a:lnTo>
                  <a:pt x="471" y="150"/>
                </a:lnTo>
                <a:lnTo>
                  <a:pt x="453" y="155"/>
                </a:lnTo>
                <a:lnTo>
                  <a:pt x="434" y="161"/>
                </a:lnTo>
                <a:lnTo>
                  <a:pt x="413" y="167"/>
                </a:lnTo>
                <a:lnTo>
                  <a:pt x="390" y="173"/>
                </a:lnTo>
                <a:lnTo>
                  <a:pt x="367" y="180"/>
                </a:lnTo>
                <a:lnTo>
                  <a:pt x="342" y="188"/>
                </a:lnTo>
                <a:lnTo>
                  <a:pt x="315" y="194"/>
                </a:lnTo>
                <a:lnTo>
                  <a:pt x="290" y="199"/>
                </a:lnTo>
                <a:lnTo>
                  <a:pt x="265" y="205"/>
                </a:lnTo>
                <a:lnTo>
                  <a:pt x="242" y="209"/>
                </a:lnTo>
                <a:lnTo>
                  <a:pt x="219" y="213"/>
                </a:lnTo>
                <a:lnTo>
                  <a:pt x="200" y="215"/>
                </a:lnTo>
                <a:lnTo>
                  <a:pt x="181" y="217"/>
                </a:lnTo>
                <a:lnTo>
                  <a:pt x="164" y="219"/>
                </a:lnTo>
                <a:lnTo>
                  <a:pt x="146" y="219"/>
                </a:lnTo>
                <a:lnTo>
                  <a:pt x="131" y="221"/>
                </a:lnTo>
                <a:lnTo>
                  <a:pt x="117" y="221"/>
                </a:lnTo>
                <a:lnTo>
                  <a:pt x="106" y="219"/>
                </a:lnTo>
                <a:lnTo>
                  <a:pt x="94" y="219"/>
                </a:lnTo>
                <a:lnTo>
                  <a:pt x="85" y="217"/>
                </a:lnTo>
                <a:lnTo>
                  <a:pt x="75" y="215"/>
                </a:lnTo>
                <a:lnTo>
                  <a:pt x="70" y="213"/>
                </a:lnTo>
                <a:lnTo>
                  <a:pt x="60" y="209"/>
                </a:lnTo>
                <a:lnTo>
                  <a:pt x="52" y="207"/>
                </a:lnTo>
                <a:lnTo>
                  <a:pt x="46" y="205"/>
                </a:lnTo>
                <a:lnTo>
                  <a:pt x="39" y="203"/>
                </a:lnTo>
                <a:lnTo>
                  <a:pt x="33" y="199"/>
                </a:lnTo>
                <a:lnTo>
                  <a:pt x="27" y="198"/>
                </a:lnTo>
                <a:lnTo>
                  <a:pt x="22" y="196"/>
                </a:lnTo>
                <a:lnTo>
                  <a:pt x="18" y="194"/>
                </a:lnTo>
                <a:lnTo>
                  <a:pt x="14" y="192"/>
                </a:lnTo>
                <a:lnTo>
                  <a:pt x="10" y="188"/>
                </a:lnTo>
                <a:lnTo>
                  <a:pt x="8" y="186"/>
                </a:lnTo>
                <a:lnTo>
                  <a:pt x="4" y="184"/>
                </a:lnTo>
                <a:lnTo>
                  <a:pt x="4" y="182"/>
                </a:lnTo>
                <a:lnTo>
                  <a:pt x="2" y="178"/>
                </a:lnTo>
                <a:lnTo>
                  <a:pt x="0" y="176"/>
                </a:lnTo>
                <a:lnTo>
                  <a:pt x="0" y="174"/>
                </a:lnTo>
                <a:lnTo>
                  <a:pt x="2" y="173"/>
                </a:lnTo>
                <a:lnTo>
                  <a:pt x="4" y="169"/>
                </a:lnTo>
                <a:lnTo>
                  <a:pt x="8" y="167"/>
                </a:lnTo>
                <a:lnTo>
                  <a:pt x="14" y="163"/>
                </a:lnTo>
                <a:lnTo>
                  <a:pt x="22" y="159"/>
                </a:lnTo>
                <a:lnTo>
                  <a:pt x="31" y="153"/>
                </a:lnTo>
                <a:lnTo>
                  <a:pt x="41" y="150"/>
                </a:lnTo>
                <a:lnTo>
                  <a:pt x="54" y="144"/>
                </a:lnTo>
                <a:lnTo>
                  <a:pt x="68" y="138"/>
                </a:lnTo>
                <a:lnTo>
                  <a:pt x="83" y="130"/>
                </a:lnTo>
                <a:lnTo>
                  <a:pt x="102" y="123"/>
                </a:lnTo>
                <a:lnTo>
                  <a:pt x="121" y="115"/>
                </a:lnTo>
                <a:lnTo>
                  <a:pt x="142" y="107"/>
                </a:lnTo>
                <a:lnTo>
                  <a:pt x="165" y="96"/>
                </a:lnTo>
                <a:lnTo>
                  <a:pt x="190" y="86"/>
                </a:lnTo>
                <a:lnTo>
                  <a:pt x="217" y="75"/>
                </a:lnTo>
                <a:lnTo>
                  <a:pt x="242" y="65"/>
                </a:lnTo>
                <a:lnTo>
                  <a:pt x="265" y="57"/>
                </a:lnTo>
                <a:lnTo>
                  <a:pt x="288" y="50"/>
                </a:lnTo>
                <a:lnTo>
                  <a:pt x="309" y="42"/>
                </a:lnTo>
                <a:lnTo>
                  <a:pt x="329" y="34"/>
                </a:lnTo>
                <a:lnTo>
                  <a:pt x="348" y="29"/>
                </a:lnTo>
                <a:lnTo>
                  <a:pt x="365" y="23"/>
                </a:lnTo>
                <a:lnTo>
                  <a:pt x="380" y="17"/>
                </a:lnTo>
                <a:lnTo>
                  <a:pt x="396" y="13"/>
                </a:lnTo>
                <a:lnTo>
                  <a:pt x="409" y="9"/>
                </a:lnTo>
                <a:lnTo>
                  <a:pt x="421" y="7"/>
                </a:lnTo>
                <a:lnTo>
                  <a:pt x="432" y="4"/>
                </a:lnTo>
                <a:lnTo>
                  <a:pt x="444" y="2"/>
                </a:lnTo>
                <a:lnTo>
                  <a:pt x="451" y="0"/>
                </a:lnTo>
                <a:lnTo>
                  <a:pt x="461" y="0"/>
                </a:lnTo>
                <a:lnTo>
                  <a:pt x="467" y="0"/>
                </a:lnTo>
                <a:lnTo>
                  <a:pt x="480" y="0"/>
                </a:lnTo>
                <a:lnTo>
                  <a:pt x="492" y="0"/>
                </a:lnTo>
                <a:lnTo>
                  <a:pt x="501" y="0"/>
                </a:lnTo>
                <a:lnTo>
                  <a:pt x="513" y="2"/>
                </a:lnTo>
                <a:lnTo>
                  <a:pt x="522" y="2"/>
                </a:lnTo>
                <a:lnTo>
                  <a:pt x="534" y="6"/>
                </a:lnTo>
                <a:lnTo>
                  <a:pt x="546" y="7"/>
                </a:lnTo>
                <a:lnTo>
                  <a:pt x="559" y="11"/>
                </a:lnTo>
                <a:lnTo>
                  <a:pt x="565" y="15"/>
                </a:lnTo>
                <a:lnTo>
                  <a:pt x="570" y="17"/>
                </a:lnTo>
                <a:lnTo>
                  <a:pt x="574" y="21"/>
                </a:lnTo>
                <a:lnTo>
                  <a:pt x="580" y="23"/>
                </a:lnTo>
                <a:lnTo>
                  <a:pt x="588" y="31"/>
                </a:lnTo>
                <a:lnTo>
                  <a:pt x="594" y="36"/>
                </a:lnTo>
                <a:lnTo>
                  <a:pt x="597" y="44"/>
                </a:lnTo>
                <a:lnTo>
                  <a:pt x="601" y="52"/>
                </a:lnTo>
                <a:lnTo>
                  <a:pt x="603" y="57"/>
                </a:lnTo>
                <a:lnTo>
                  <a:pt x="603" y="63"/>
                </a:lnTo>
                <a:lnTo>
                  <a:pt x="603" y="67"/>
                </a:lnTo>
                <a:lnTo>
                  <a:pt x="601" y="73"/>
                </a:lnTo>
                <a:lnTo>
                  <a:pt x="599" y="80"/>
                </a:lnTo>
                <a:lnTo>
                  <a:pt x="595" y="86"/>
                </a:lnTo>
                <a:lnTo>
                  <a:pt x="590" y="94"/>
                </a:lnTo>
                <a:lnTo>
                  <a:pt x="584" y="102"/>
                </a:lnTo>
                <a:lnTo>
                  <a:pt x="578" y="107"/>
                </a:lnTo>
                <a:lnTo>
                  <a:pt x="570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40"/>
          <p:cNvSpPr/>
          <p:nvPr/>
        </p:nvSpPr>
        <p:spPr>
          <a:xfrm>
            <a:off x="6792840" y="2982960"/>
            <a:ext cx="1057320" cy="744480"/>
          </a:xfrm>
          <a:custGeom>
            <a:avLst/>
            <a:gdLst/>
            <a:ahLst/>
            <a:rect l="l" t="t" r="r" b="b"/>
            <a:pathLst>
              <a:path w="1330" h="939">
                <a:moveTo>
                  <a:pt x="1330" y="839"/>
                </a:moveTo>
                <a:lnTo>
                  <a:pt x="1330" y="843"/>
                </a:lnTo>
                <a:lnTo>
                  <a:pt x="1328" y="847"/>
                </a:lnTo>
                <a:lnTo>
                  <a:pt x="1326" y="852"/>
                </a:lnTo>
                <a:lnTo>
                  <a:pt x="1322" y="856"/>
                </a:lnTo>
                <a:lnTo>
                  <a:pt x="1317" y="862"/>
                </a:lnTo>
                <a:lnTo>
                  <a:pt x="1311" y="866"/>
                </a:lnTo>
                <a:lnTo>
                  <a:pt x="1305" y="870"/>
                </a:lnTo>
                <a:lnTo>
                  <a:pt x="1297" y="874"/>
                </a:lnTo>
                <a:lnTo>
                  <a:pt x="1290" y="877"/>
                </a:lnTo>
                <a:lnTo>
                  <a:pt x="1280" y="881"/>
                </a:lnTo>
                <a:lnTo>
                  <a:pt x="1269" y="885"/>
                </a:lnTo>
                <a:lnTo>
                  <a:pt x="1257" y="889"/>
                </a:lnTo>
                <a:lnTo>
                  <a:pt x="1246" y="893"/>
                </a:lnTo>
                <a:lnTo>
                  <a:pt x="1232" y="895"/>
                </a:lnTo>
                <a:lnTo>
                  <a:pt x="1219" y="899"/>
                </a:lnTo>
                <a:lnTo>
                  <a:pt x="1205" y="900"/>
                </a:lnTo>
                <a:lnTo>
                  <a:pt x="1188" y="902"/>
                </a:lnTo>
                <a:lnTo>
                  <a:pt x="1173" y="906"/>
                </a:lnTo>
                <a:lnTo>
                  <a:pt x="1155" y="908"/>
                </a:lnTo>
                <a:lnTo>
                  <a:pt x="1140" y="910"/>
                </a:lnTo>
                <a:lnTo>
                  <a:pt x="1111" y="914"/>
                </a:lnTo>
                <a:lnTo>
                  <a:pt x="1084" y="918"/>
                </a:lnTo>
                <a:lnTo>
                  <a:pt x="1057" y="922"/>
                </a:lnTo>
                <a:lnTo>
                  <a:pt x="1034" y="923"/>
                </a:lnTo>
                <a:lnTo>
                  <a:pt x="1009" y="925"/>
                </a:lnTo>
                <a:lnTo>
                  <a:pt x="988" y="925"/>
                </a:lnTo>
                <a:lnTo>
                  <a:pt x="967" y="929"/>
                </a:lnTo>
                <a:lnTo>
                  <a:pt x="948" y="933"/>
                </a:lnTo>
                <a:lnTo>
                  <a:pt x="929" y="935"/>
                </a:lnTo>
                <a:lnTo>
                  <a:pt x="912" y="937"/>
                </a:lnTo>
                <a:lnTo>
                  <a:pt x="896" y="937"/>
                </a:lnTo>
                <a:lnTo>
                  <a:pt x="879" y="939"/>
                </a:lnTo>
                <a:lnTo>
                  <a:pt x="866" y="939"/>
                </a:lnTo>
                <a:lnTo>
                  <a:pt x="852" y="939"/>
                </a:lnTo>
                <a:lnTo>
                  <a:pt x="846" y="937"/>
                </a:lnTo>
                <a:lnTo>
                  <a:pt x="839" y="937"/>
                </a:lnTo>
                <a:lnTo>
                  <a:pt x="831" y="933"/>
                </a:lnTo>
                <a:lnTo>
                  <a:pt x="821" y="929"/>
                </a:lnTo>
                <a:lnTo>
                  <a:pt x="814" y="923"/>
                </a:lnTo>
                <a:lnTo>
                  <a:pt x="804" y="918"/>
                </a:lnTo>
                <a:lnTo>
                  <a:pt x="793" y="910"/>
                </a:lnTo>
                <a:lnTo>
                  <a:pt x="783" y="900"/>
                </a:lnTo>
                <a:lnTo>
                  <a:pt x="770" y="891"/>
                </a:lnTo>
                <a:lnTo>
                  <a:pt x="758" y="879"/>
                </a:lnTo>
                <a:lnTo>
                  <a:pt x="745" y="868"/>
                </a:lnTo>
                <a:lnTo>
                  <a:pt x="731" y="854"/>
                </a:lnTo>
                <a:lnTo>
                  <a:pt x="718" y="839"/>
                </a:lnTo>
                <a:lnTo>
                  <a:pt x="702" y="824"/>
                </a:lnTo>
                <a:lnTo>
                  <a:pt x="687" y="806"/>
                </a:lnTo>
                <a:lnTo>
                  <a:pt x="670" y="789"/>
                </a:lnTo>
                <a:lnTo>
                  <a:pt x="660" y="778"/>
                </a:lnTo>
                <a:lnTo>
                  <a:pt x="651" y="768"/>
                </a:lnTo>
                <a:lnTo>
                  <a:pt x="639" y="756"/>
                </a:lnTo>
                <a:lnTo>
                  <a:pt x="626" y="745"/>
                </a:lnTo>
                <a:lnTo>
                  <a:pt x="614" y="732"/>
                </a:lnTo>
                <a:lnTo>
                  <a:pt x="601" y="718"/>
                </a:lnTo>
                <a:lnTo>
                  <a:pt x="587" y="703"/>
                </a:lnTo>
                <a:lnTo>
                  <a:pt x="572" y="687"/>
                </a:lnTo>
                <a:lnTo>
                  <a:pt x="556" y="672"/>
                </a:lnTo>
                <a:lnTo>
                  <a:pt x="539" y="655"/>
                </a:lnTo>
                <a:lnTo>
                  <a:pt x="522" y="636"/>
                </a:lnTo>
                <a:lnTo>
                  <a:pt x="505" y="618"/>
                </a:lnTo>
                <a:lnTo>
                  <a:pt x="487" y="599"/>
                </a:lnTo>
                <a:lnTo>
                  <a:pt x="468" y="578"/>
                </a:lnTo>
                <a:lnTo>
                  <a:pt x="447" y="557"/>
                </a:lnTo>
                <a:lnTo>
                  <a:pt x="428" y="536"/>
                </a:lnTo>
                <a:lnTo>
                  <a:pt x="407" y="513"/>
                </a:lnTo>
                <a:lnTo>
                  <a:pt x="384" y="490"/>
                </a:lnTo>
                <a:lnTo>
                  <a:pt x="361" y="465"/>
                </a:lnTo>
                <a:lnTo>
                  <a:pt x="338" y="440"/>
                </a:lnTo>
                <a:lnTo>
                  <a:pt x="313" y="415"/>
                </a:lnTo>
                <a:lnTo>
                  <a:pt x="290" y="388"/>
                </a:lnTo>
                <a:lnTo>
                  <a:pt x="263" y="361"/>
                </a:lnTo>
                <a:lnTo>
                  <a:pt x="236" y="332"/>
                </a:lnTo>
                <a:lnTo>
                  <a:pt x="209" y="303"/>
                </a:lnTo>
                <a:lnTo>
                  <a:pt x="182" y="273"/>
                </a:lnTo>
                <a:lnTo>
                  <a:pt x="153" y="242"/>
                </a:lnTo>
                <a:lnTo>
                  <a:pt x="125" y="209"/>
                </a:lnTo>
                <a:lnTo>
                  <a:pt x="94" y="179"/>
                </a:lnTo>
                <a:lnTo>
                  <a:pt x="63" y="144"/>
                </a:lnTo>
                <a:lnTo>
                  <a:pt x="31" y="110"/>
                </a:lnTo>
                <a:lnTo>
                  <a:pt x="0" y="75"/>
                </a:lnTo>
                <a:lnTo>
                  <a:pt x="23" y="0"/>
                </a:lnTo>
                <a:lnTo>
                  <a:pt x="25" y="4"/>
                </a:lnTo>
                <a:lnTo>
                  <a:pt x="29" y="8"/>
                </a:lnTo>
                <a:lnTo>
                  <a:pt x="34" y="14"/>
                </a:lnTo>
                <a:lnTo>
                  <a:pt x="40" y="17"/>
                </a:lnTo>
                <a:lnTo>
                  <a:pt x="46" y="23"/>
                </a:lnTo>
                <a:lnTo>
                  <a:pt x="52" y="29"/>
                </a:lnTo>
                <a:lnTo>
                  <a:pt x="59" y="35"/>
                </a:lnTo>
                <a:lnTo>
                  <a:pt x="67" y="42"/>
                </a:lnTo>
                <a:lnTo>
                  <a:pt x="75" y="50"/>
                </a:lnTo>
                <a:lnTo>
                  <a:pt x="84" y="56"/>
                </a:lnTo>
                <a:lnTo>
                  <a:pt x="94" y="65"/>
                </a:lnTo>
                <a:lnTo>
                  <a:pt x="104" y="73"/>
                </a:lnTo>
                <a:lnTo>
                  <a:pt x="113" y="81"/>
                </a:lnTo>
                <a:lnTo>
                  <a:pt x="125" y="90"/>
                </a:lnTo>
                <a:lnTo>
                  <a:pt x="136" y="100"/>
                </a:lnTo>
                <a:lnTo>
                  <a:pt x="150" y="110"/>
                </a:lnTo>
                <a:lnTo>
                  <a:pt x="161" y="121"/>
                </a:lnTo>
                <a:lnTo>
                  <a:pt x="175" y="131"/>
                </a:lnTo>
                <a:lnTo>
                  <a:pt x="190" y="142"/>
                </a:lnTo>
                <a:lnTo>
                  <a:pt x="203" y="154"/>
                </a:lnTo>
                <a:lnTo>
                  <a:pt x="219" y="167"/>
                </a:lnTo>
                <a:lnTo>
                  <a:pt x="234" y="179"/>
                </a:lnTo>
                <a:lnTo>
                  <a:pt x="251" y="192"/>
                </a:lnTo>
                <a:lnTo>
                  <a:pt x="267" y="206"/>
                </a:lnTo>
                <a:lnTo>
                  <a:pt x="284" y="219"/>
                </a:lnTo>
                <a:lnTo>
                  <a:pt x="303" y="232"/>
                </a:lnTo>
                <a:lnTo>
                  <a:pt x="320" y="248"/>
                </a:lnTo>
                <a:lnTo>
                  <a:pt x="340" y="261"/>
                </a:lnTo>
                <a:lnTo>
                  <a:pt x="359" y="277"/>
                </a:lnTo>
                <a:lnTo>
                  <a:pt x="378" y="292"/>
                </a:lnTo>
                <a:lnTo>
                  <a:pt x="399" y="309"/>
                </a:lnTo>
                <a:lnTo>
                  <a:pt x="420" y="325"/>
                </a:lnTo>
                <a:lnTo>
                  <a:pt x="461" y="359"/>
                </a:lnTo>
                <a:lnTo>
                  <a:pt x="501" y="394"/>
                </a:lnTo>
                <a:lnTo>
                  <a:pt x="541" y="424"/>
                </a:lnTo>
                <a:lnTo>
                  <a:pt x="581" y="455"/>
                </a:lnTo>
                <a:lnTo>
                  <a:pt x="622" y="484"/>
                </a:lnTo>
                <a:lnTo>
                  <a:pt x="662" y="511"/>
                </a:lnTo>
                <a:lnTo>
                  <a:pt x="700" y="536"/>
                </a:lnTo>
                <a:lnTo>
                  <a:pt x="741" y="561"/>
                </a:lnTo>
                <a:lnTo>
                  <a:pt x="781" y="584"/>
                </a:lnTo>
                <a:lnTo>
                  <a:pt x="819" y="605"/>
                </a:lnTo>
                <a:lnTo>
                  <a:pt x="858" y="624"/>
                </a:lnTo>
                <a:lnTo>
                  <a:pt x="896" y="641"/>
                </a:lnTo>
                <a:lnTo>
                  <a:pt x="935" y="659"/>
                </a:lnTo>
                <a:lnTo>
                  <a:pt x="971" y="674"/>
                </a:lnTo>
                <a:lnTo>
                  <a:pt x="1009" y="687"/>
                </a:lnTo>
                <a:lnTo>
                  <a:pt x="1046" y="701"/>
                </a:lnTo>
                <a:lnTo>
                  <a:pt x="1063" y="707"/>
                </a:lnTo>
                <a:lnTo>
                  <a:pt x="1081" y="712"/>
                </a:lnTo>
                <a:lnTo>
                  <a:pt x="1098" y="718"/>
                </a:lnTo>
                <a:lnTo>
                  <a:pt x="1113" y="724"/>
                </a:lnTo>
                <a:lnTo>
                  <a:pt x="1129" y="730"/>
                </a:lnTo>
                <a:lnTo>
                  <a:pt x="1144" y="735"/>
                </a:lnTo>
                <a:lnTo>
                  <a:pt x="1157" y="739"/>
                </a:lnTo>
                <a:lnTo>
                  <a:pt x="1171" y="745"/>
                </a:lnTo>
                <a:lnTo>
                  <a:pt x="1184" y="751"/>
                </a:lnTo>
                <a:lnTo>
                  <a:pt x="1198" y="756"/>
                </a:lnTo>
                <a:lnTo>
                  <a:pt x="1209" y="760"/>
                </a:lnTo>
                <a:lnTo>
                  <a:pt x="1221" y="766"/>
                </a:lnTo>
                <a:lnTo>
                  <a:pt x="1230" y="770"/>
                </a:lnTo>
                <a:lnTo>
                  <a:pt x="1242" y="776"/>
                </a:lnTo>
                <a:lnTo>
                  <a:pt x="1251" y="780"/>
                </a:lnTo>
                <a:lnTo>
                  <a:pt x="1261" y="783"/>
                </a:lnTo>
                <a:lnTo>
                  <a:pt x="1269" y="787"/>
                </a:lnTo>
                <a:lnTo>
                  <a:pt x="1276" y="793"/>
                </a:lnTo>
                <a:lnTo>
                  <a:pt x="1284" y="797"/>
                </a:lnTo>
                <a:lnTo>
                  <a:pt x="1292" y="801"/>
                </a:lnTo>
                <a:lnTo>
                  <a:pt x="1297" y="804"/>
                </a:lnTo>
                <a:lnTo>
                  <a:pt x="1303" y="808"/>
                </a:lnTo>
                <a:lnTo>
                  <a:pt x="1309" y="812"/>
                </a:lnTo>
                <a:lnTo>
                  <a:pt x="1313" y="816"/>
                </a:lnTo>
                <a:lnTo>
                  <a:pt x="1317" y="818"/>
                </a:lnTo>
                <a:lnTo>
                  <a:pt x="1320" y="822"/>
                </a:lnTo>
                <a:lnTo>
                  <a:pt x="1324" y="826"/>
                </a:lnTo>
                <a:lnTo>
                  <a:pt x="1326" y="828"/>
                </a:lnTo>
                <a:lnTo>
                  <a:pt x="1328" y="831"/>
                </a:lnTo>
                <a:lnTo>
                  <a:pt x="1328" y="833"/>
                </a:lnTo>
                <a:lnTo>
                  <a:pt x="1330" y="835"/>
                </a:lnTo>
                <a:lnTo>
                  <a:pt x="1330" y="83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41"/>
          <p:cNvSpPr/>
          <p:nvPr/>
        </p:nvSpPr>
        <p:spPr>
          <a:xfrm>
            <a:off x="6240600" y="2790720"/>
            <a:ext cx="688680" cy="1127160"/>
          </a:xfrm>
          <a:custGeom>
            <a:avLst/>
            <a:gdLst/>
            <a:ahLst/>
            <a:rect l="l" t="t" r="r" b="b"/>
            <a:pathLst>
              <a:path w="868" h="1421">
                <a:moveTo>
                  <a:pt x="2" y="1419"/>
                </a:moveTo>
                <a:lnTo>
                  <a:pt x="0" y="1415"/>
                </a:lnTo>
                <a:lnTo>
                  <a:pt x="2" y="1409"/>
                </a:lnTo>
                <a:lnTo>
                  <a:pt x="2" y="1403"/>
                </a:lnTo>
                <a:lnTo>
                  <a:pt x="6" y="1394"/>
                </a:lnTo>
                <a:lnTo>
                  <a:pt x="12" y="1384"/>
                </a:lnTo>
                <a:lnTo>
                  <a:pt x="17" y="1373"/>
                </a:lnTo>
                <a:lnTo>
                  <a:pt x="25" y="1361"/>
                </a:lnTo>
                <a:lnTo>
                  <a:pt x="35" y="1346"/>
                </a:lnTo>
                <a:lnTo>
                  <a:pt x="44" y="1331"/>
                </a:lnTo>
                <a:lnTo>
                  <a:pt x="56" y="1313"/>
                </a:lnTo>
                <a:lnTo>
                  <a:pt x="69" y="1294"/>
                </a:lnTo>
                <a:lnTo>
                  <a:pt x="83" y="1275"/>
                </a:lnTo>
                <a:lnTo>
                  <a:pt x="98" y="1252"/>
                </a:lnTo>
                <a:lnTo>
                  <a:pt x="113" y="1229"/>
                </a:lnTo>
                <a:lnTo>
                  <a:pt x="131" y="1206"/>
                </a:lnTo>
                <a:lnTo>
                  <a:pt x="150" y="1181"/>
                </a:lnTo>
                <a:lnTo>
                  <a:pt x="186" y="1127"/>
                </a:lnTo>
                <a:lnTo>
                  <a:pt x="223" y="1075"/>
                </a:lnTo>
                <a:lnTo>
                  <a:pt x="257" y="1020"/>
                </a:lnTo>
                <a:lnTo>
                  <a:pt x="290" y="966"/>
                </a:lnTo>
                <a:lnTo>
                  <a:pt x="321" y="910"/>
                </a:lnTo>
                <a:lnTo>
                  <a:pt x="351" y="855"/>
                </a:lnTo>
                <a:lnTo>
                  <a:pt x="382" y="799"/>
                </a:lnTo>
                <a:lnTo>
                  <a:pt x="413" y="743"/>
                </a:lnTo>
                <a:lnTo>
                  <a:pt x="440" y="691"/>
                </a:lnTo>
                <a:lnTo>
                  <a:pt x="467" y="640"/>
                </a:lnTo>
                <a:lnTo>
                  <a:pt x="491" y="588"/>
                </a:lnTo>
                <a:lnTo>
                  <a:pt x="515" y="536"/>
                </a:lnTo>
                <a:lnTo>
                  <a:pt x="538" y="484"/>
                </a:lnTo>
                <a:lnTo>
                  <a:pt x="557" y="432"/>
                </a:lnTo>
                <a:lnTo>
                  <a:pt x="576" y="380"/>
                </a:lnTo>
                <a:lnTo>
                  <a:pt x="593" y="331"/>
                </a:lnTo>
                <a:lnTo>
                  <a:pt x="601" y="304"/>
                </a:lnTo>
                <a:lnTo>
                  <a:pt x="609" y="281"/>
                </a:lnTo>
                <a:lnTo>
                  <a:pt x="616" y="259"/>
                </a:lnTo>
                <a:lnTo>
                  <a:pt x="622" y="238"/>
                </a:lnTo>
                <a:lnTo>
                  <a:pt x="626" y="217"/>
                </a:lnTo>
                <a:lnTo>
                  <a:pt x="632" y="200"/>
                </a:lnTo>
                <a:lnTo>
                  <a:pt x="634" y="183"/>
                </a:lnTo>
                <a:lnTo>
                  <a:pt x="637" y="167"/>
                </a:lnTo>
                <a:lnTo>
                  <a:pt x="639" y="152"/>
                </a:lnTo>
                <a:lnTo>
                  <a:pt x="641" y="139"/>
                </a:lnTo>
                <a:lnTo>
                  <a:pt x="643" y="127"/>
                </a:lnTo>
                <a:lnTo>
                  <a:pt x="643" y="116"/>
                </a:lnTo>
                <a:lnTo>
                  <a:pt x="643" y="104"/>
                </a:lnTo>
                <a:lnTo>
                  <a:pt x="643" y="96"/>
                </a:lnTo>
                <a:lnTo>
                  <a:pt x="641" y="87"/>
                </a:lnTo>
                <a:lnTo>
                  <a:pt x="639" y="79"/>
                </a:lnTo>
                <a:lnTo>
                  <a:pt x="635" y="73"/>
                </a:lnTo>
                <a:lnTo>
                  <a:pt x="632" y="66"/>
                </a:lnTo>
                <a:lnTo>
                  <a:pt x="630" y="60"/>
                </a:lnTo>
                <a:lnTo>
                  <a:pt x="626" y="54"/>
                </a:lnTo>
                <a:lnTo>
                  <a:pt x="624" y="48"/>
                </a:lnTo>
                <a:lnTo>
                  <a:pt x="624" y="43"/>
                </a:lnTo>
                <a:lnTo>
                  <a:pt x="622" y="37"/>
                </a:lnTo>
                <a:lnTo>
                  <a:pt x="622" y="33"/>
                </a:lnTo>
                <a:lnTo>
                  <a:pt x="622" y="27"/>
                </a:lnTo>
                <a:lnTo>
                  <a:pt x="624" y="23"/>
                </a:lnTo>
                <a:lnTo>
                  <a:pt x="624" y="20"/>
                </a:lnTo>
                <a:lnTo>
                  <a:pt x="626" y="16"/>
                </a:lnTo>
                <a:lnTo>
                  <a:pt x="630" y="12"/>
                </a:lnTo>
                <a:lnTo>
                  <a:pt x="632" y="10"/>
                </a:lnTo>
                <a:lnTo>
                  <a:pt x="635" y="6"/>
                </a:lnTo>
                <a:lnTo>
                  <a:pt x="639" y="4"/>
                </a:lnTo>
                <a:lnTo>
                  <a:pt x="643" y="2"/>
                </a:lnTo>
                <a:lnTo>
                  <a:pt x="649" y="0"/>
                </a:lnTo>
                <a:lnTo>
                  <a:pt x="655" y="0"/>
                </a:lnTo>
                <a:lnTo>
                  <a:pt x="660" y="0"/>
                </a:lnTo>
                <a:lnTo>
                  <a:pt x="666" y="0"/>
                </a:lnTo>
                <a:lnTo>
                  <a:pt x="674" y="0"/>
                </a:lnTo>
                <a:lnTo>
                  <a:pt x="681" y="2"/>
                </a:lnTo>
                <a:lnTo>
                  <a:pt x="689" y="4"/>
                </a:lnTo>
                <a:lnTo>
                  <a:pt x="697" y="6"/>
                </a:lnTo>
                <a:lnTo>
                  <a:pt x="706" y="10"/>
                </a:lnTo>
                <a:lnTo>
                  <a:pt x="714" y="14"/>
                </a:lnTo>
                <a:lnTo>
                  <a:pt x="724" y="18"/>
                </a:lnTo>
                <a:lnTo>
                  <a:pt x="733" y="23"/>
                </a:lnTo>
                <a:lnTo>
                  <a:pt x="743" y="29"/>
                </a:lnTo>
                <a:lnTo>
                  <a:pt x="754" y="35"/>
                </a:lnTo>
                <a:lnTo>
                  <a:pt x="764" y="43"/>
                </a:lnTo>
                <a:lnTo>
                  <a:pt x="774" y="48"/>
                </a:lnTo>
                <a:lnTo>
                  <a:pt x="785" y="56"/>
                </a:lnTo>
                <a:lnTo>
                  <a:pt x="793" y="64"/>
                </a:lnTo>
                <a:lnTo>
                  <a:pt x="802" y="69"/>
                </a:lnTo>
                <a:lnTo>
                  <a:pt x="810" y="77"/>
                </a:lnTo>
                <a:lnTo>
                  <a:pt x="818" y="83"/>
                </a:lnTo>
                <a:lnTo>
                  <a:pt x="825" y="91"/>
                </a:lnTo>
                <a:lnTo>
                  <a:pt x="833" y="96"/>
                </a:lnTo>
                <a:lnTo>
                  <a:pt x="839" y="104"/>
                </a:lnTo>
                <a:lnTo>
                  <a:pt x="845" y="110"/>
                </a:lnTo>
                <a:lnTo>
                  <a:pt x="848" y="116"/>
                </a:lnTo>
                <a:lnTo>
                  <a:pt x="854" y="121"/>
                </a:lnTo>
                <a:lnTo>
                  <a:pt x="858" y="127"/>
                </a:lnTo>
                <a:lnTo>
                  <a:pt x="862" y="133"/>
                </a:lnTo>
                <a:lnTo>
                  <a:pt x="864" y="137"/>
                </a:lnTo>
                <a:lnTo>
                  <a:pt x="868" y="142"/>
                </a:lnTo>
                <a:lnTo>
                  <a:pt x="866" y="150"/>
                </a:lnTo>
                <a:lnTo>
                  <a:pt x="864" y="160"/>
                </a:lnTo>
                <a:lnTo>
                  <a:pt x="862" y="171"/>
                </a:lnTo>
                <a:lnTo>
                  <a:pt x="858" y="185"/>
                </a:lnTo>
                <a:lnTo>
                  <a:pt x="852" y="198"/>
                </a:lnTo>
                <a:lnTo>
                  <a:pt x="847" y="215"/>
                </a:lnTo>
                <a:lnTo>
                  <a:pt x="839" y="235"/>
                </a:lnTo>
                <a:lnTo>
                  <a:pt x="831" y="254"/>
                </a:lnTo>
                <a:lnTo>
                  <a:pt x="822" y="277"/>
                </a:lnTo>
                <a:lnTo>
                  <a:pt x="810" y="300"/>
                </a:lnTo>
                <a:lnTo>
                  <a:pt x="799" y="325"/>
                </a:lnTo>
                <a:lnTo>
                  <a:pt x="785" y="354"/>
                </a:lnTo>
                <a:lnTo>
                  <a:pt x="770" y="382"/>
                </a:lnTo>
                <a:lnTo>
                  <a:pt x="754" y="413"/>
                </a:lnTo>
                <a:lnTo>
                  <a:pt x="737" y="446"/>
                </a:lnTo>
                <a:lnTo>
                  <a:pt x="720" y="480"/>
                </a:lnTo>
                <a:lnTo>
                  <a:pt x="701" y="517"/>
                </a:lnTo>
                <a:lnTo>
                  <a:pt x="681" y="553"/>
                </a:lnTo>
                <a:lnTo>
                  <a:pt x="662" y="590"/>
                </a:lnTo>
                <a:lnTo>
                  <a:pt x="645" y="626"/>
                </a:lnTo>
                <a:lnTo>
                  <a:pt x="626" y="661"/>
                </a:lnTo>
                <a:lnTo>
                  <a:pt x="609" y="693"/>
                </a:lnTo>
                <a:lnTo>
                  <a:pt x="589" y="728"/>
                </a:lnTo>
                <a:lnTo>
                  <a:pt x="570" y="760"/>
                </a:lnTo>
                <a:lnTo>
                  <a:pt x="553" y="791"/>
                </a:lnTo>
                <a:lnTo>
                  <a:pt x="534" y="822"/>
                </a:lnTo>
                <a:lnTo>
                  <a:pt x="516" y="853"/>
                </a:lnTo>
                <a:lnTo>
                  <a:pt x="497" y="883"/>
                </a:lnTo>
                <a:lnTo>
                  <a:pt x="480" y="912"/>
                </a:lnTo>
                <a:lnTo>
                  <a:pt x="461" y="939"/>
                </a:lnTo>
                <a:lnTo>
                  <a:pt x="442" y="966"/>
                </a:lnTo>
                <a:lnTo>
                  <a:pt x="422" y="993"/>
                </a:lnTo>
                <a:lnTo>
                  <a:pt x="403" y="1018"/>
                </a:lnTo>
                <a:lnTo>
                  <a:pt x="386" y="1043"/>
                </a:lnTo>
                <a:lnTo>
                  <a:pt x="367" y="1068"/>
                </a:lnTo>
                <a:lnTo>
                  <a:pt x="349" y="1091"/>
                </a:lnTo>
                <a:lnTo>
                  <a:pt x="330" y="1114"/>
                </a:lnTo>
                <a:lnTo>
                  <a:pt x="313" y="1137"/>
                </a:lnTo>
                <a:lnTo>
                  <a:pt x="296" y="1158"/>
                </a:lnTo>
                <a:lnTo>
                  <a:pt x="278" y="1179"/>
                </a:lnTo>
                <a:lnTo>
                  <a:pt x="261" y="1198"/>
                </a:lnTo>
                <a:lnTo>
                  <a:pt x="244" y="1217"/>
                </a:lnTo>
                <a:lnTo>
                  <a:pt x="229" y="1236"/>
                </a:lnTo>
                <a:lnTo>
                  <a:pt x="211" y="1254"/>
                </a:lnTo>
                <a:lnTo>
                  <a:pt x="196" y="1271"/>
                </a:lnTo>
                <a:lnTo>
                  <a:pt x="181" y="1288"/>
                </a:lnTo>
                <a:lnTo>
                  <a:pt x="165" y="1304"/>
                </a:lnTo>
                <a:lnTo>
                  <a:pt x="150" y="1317"/>
                </a:lnTo>
                <a:lnTo>
                  <a:pt x="134" y="1331"/>
                </a:lnTo>
                <a:lnTo>
                  <a:pt x="121" y="1344"/>
                </a:lnTo>
                <a:lnTo>
                  <a:pt x="108" y="1356"/>
                </a:lnTo>
                <a:lnTo>
                  <a:pt x="96" y="1367"/>
                </a:lnTo>
                <a:lnTo>
                  <a:pt x="83" y="1377"/>
                </a:lnTo>
                <a:lnTo>
                  <a:pt x="71" y="1386"/>
                </a:lnTo>
                <a:lnTo>
                  <a:pt x="62" y="1394"/>
                </a:lnTo>
                <a:lnTo>
                  <a:pt x="50" y="1402"/>
                </a:lnTo>
                <a:lnTo>
                  <a:pt x="42" y="1407"/>
                </a:lnTo>
                <a:lnTo>
                  <a:pt x="33" y="1411"/>
                </a:lnTo>
                <a:lnTo>
                  <a:pt x="25" y="1415"/>
                </a:lnTo>
                <a:lnTo>
                  <a:pt x="19" y="1419"/>
                </a:lnTo>
                <a:lnTo>
                  <a:pt x="14" y="1419"/>
                </a:lnTo>
                <a:lnTo>
                  <a:pt x="8" y="1421"/>
                </a:lnTo>
                <a:lnTo>
                  <a:pt x="4" y="1419"/>
                </a:lnTo>
                <a:lnTo>
                  <a:pt x="2" y="14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42"/>
          <p:cNvSpPr/>
          <p:nvPr/>
        </p:nvSpPr>
        <p:spPr>
          <a:xfrm>
            <a:off x="6072120" y="3990960"/>
            <a:ext cx="246240" cy="192240"/>
          </a:xfrm>
          <a:custGeom>
            <a:avLst/>
            <a:gdLst/>
            <a:ahLst/>
            <a:rect l="l" t="t" r="r" b="b"/>
            <a:pathLst>
              <a:path w="311" h="242">
                <a:moveTo>
                  <a:pt x="261" y="56"/>
                </a:moveTo>
                <a:lnTo>
                  <a:pt x="269" y="61"/>
                </a:lnTo>
                <a:lnTo>
                  <a:pt x="276" y="69"/>
                </a:lnTo>
                <a:lnTo>
                  <a:pt x="282" y="77"/>
                </a:lnTo>
                <a:lnTo>
                  <a:pt x="288" y="84"/>
                </a:lnTo>
                <a:lnTo>
                  <a:pt x="294" y="94"/>
                </a:lnTo>
                <a:lnTo>
                  <a:pt x="298" y="102"/>
                </a:lnTo>
                <a:lnTo>
                  <a:pt x="301" y="109"/>
                </a:lnTo>
                <a:lnTo>
                  <a:pt x="305" y="117"/>
                </a:lnTo>
                <a:lnTo>
                  <a:pt x="307" y="127"/>
                </a:lnTo>
                <a:lnTo>
                  <a:pt x="309" y="134"/>
                </a:lnTo>
                <a:lnTo>
                  <a:pt x="309" y="142"/>
                </a:lnTo>
                <a:lnTo>
                  <a:pt x="311" y="150"/>
                </a:lnTo>
                <a:lnTo>
                  <a:pt x="309" y="157"/>
                </a:lnTo>
                <a:lnTo>
                  <a:pt x="309" y="165"/>
                </a:lnTo>
                <a:lnTo>
                  <a:pt x="307" y="173"/>
                </a:lnTo>
                <a:lnTo>
                  <a:pt x="307" y="180"/>
                </a:lnTo>
                <a:lnTo>
                  <a:pt x="301" y="194"/>
                </a:lnTo>
                <a:lnTo>
                  <a:pt x="296" y="205"/>
                </a:lnTo>
                <a:lnTo>
                  <a:pt x="290" y="217"/>
                </a:lnTo>
                <a:lnTo>
                  <a:pt x="284" y="224"/>
                </a:lnTo>
                <a:lnTo>
                  <a:pt x="276" y="232"/>
                </a:lnTo>
                <a:lnTo>
                  <a:pt x="275" y="236"/>
                </a:lnTo>
                <a:lnTo>
                  <a:pt x="271" y="238"/>
                </a:lnTo>
                <a:lnTo>
                  <a:pt x="269" y="240"/>
                </a:lnTo>
                <a:lnTo>
                  <a:pt x="265" y="242"/>
                </a:lnTo>
                <a:lnTo>
                  <a:pt x="263" y="242"/>
                </a:lnTo>
                <a:lnTo>
                  <a:pt x="261" y="242"/>
                </a:lnTo>
                <a:lnTo>
                  <a:pt x="257" y="242"/>
                </a:lnTo>
                <a:lnTo>
                  <a:pt x="253" y="238"/>
                </a:lnTo>
                <a:lnTo>
                  <a:pt x="246" y="234"/>
                </a:lnTo>
                <a:lnTo>
                  <a:pt x="236" y="228"/>
                </a:lnTo>
                <a:lnTo>
                  <a:pt x="227" y="221"/>
                </a:lnTo>
                <a:lnTo>
                  <a:pt x="215" y="211"/>
                </a:lnTo>
                <a:lnTo>
                  <a:pt x="200" y="200"/>
                </a:lnTo>
                <a:lnTo>
                  <a:pt x="192" y="192"/>
                </a:lnTo>
                <a:lnTo>
                  <a:pt x="184" y="184"/>
                </a:lnTo>
                <a:lnTo>
                  <a:pt x="177" y="178"/>
                </a:lnTo>
                <a:lnTo>
                  <a:pt x="167" y="169"/>
                </a:lnTo>
                <a:lnTo>
                  <a:pt x="157" y="161"/>
                </a:lnTo>
                <a:lnTo>
                  <a:pt x="148" y="152"/>
                </a:lnTo>
                <a:lnTo>
                  <a:pt x="138" y="142"/>
                </a:lnTo>
                <a:lnTo>
                  <a:pt x="127" y="132"/>
                </a:lnTo>
                <a:lnTo>
                  <a:pt x="117" y="123"/>
                </a:lnTo>
                <a:lnTo>
                  <a:pt x="106" y="111"/>
                </a:lnTo>
                <a:lnTo>
                  <a:pt x="92" y="100"/>
                </a:lnTo>
                <a:lnTo>
                  <a:pt x="81" y="88"/>
                </a:lnTo>
                <a:lnTo>
                  <a:pt x="67" y="75"/>
                </a:lnTo>
                <a:lnTo>
                  <a:pt x="56" y="61"/>
                </a:lnTo>
                <a:lnTo>
                  <a:pt x="42" y="48"/>
                </a:lnTo>
                <a:lnTo>
                  <a:pt x="27" y="34"/>
                </a:lnTo>
                <a:lnTo>
                  <a:pt x="13" y="19"/>
                </a:lnTo>
                <a:lnTo>
                  <a:pt x="0" y="6"/>
                </a:lnTo>
                <a:lnTo>
                  <a:pt x="25" y="2"/>
                </a:lnTo>
                <a:lnTo>
                  <a:pt x="48" y="2"/>
                </a:lnTo>
                <a:lnTo>
                  <a:pt x="71" y="0"/>
                </a:lnTo>
                <a:lnTo>
                  <a:pt x="92" y="0"/>
                </a:lnTo>
                <a:lnTo>
                  <a:pt x="113" y="0"/>
                </a:lnTo>
                <a:lnTo>
                  <a:pt x="132" y="2"/>
                </a:lnTo>
                <a:lnTo>
                  <a:pt x="152" y="4"/>
                </a:lnTo>
                <a:lnTo>
                  <a:pt x="169" y="6"/>
                </a:lnTo>
                <a:lnTo>
                  <a:pt x="184" y="9"/>
                </a:lnTo>
                <a:lnTo>
                  <a:pt x="200" y="13"/>
                </a:lnTo>
                <a:lnTo>
                  <a:pt x="213" y="19"/>
                </a:lnTo>
                <a:lnTo>
                  <a:pt x="225" y="25"/>
                </a:lnTo>
                <a:lnTo>
                  <a:pt x="236" y="31"/>
                </a:lnTo>
                <a:lnTo>
                  <a:pt x="246" y="38"/>
                </a:lnTo>
                <a:lnTo>
                  <a:pt x="253" y="46"/>
                </a:lnTo>
                <a:lnTo>
                  <a:pt x="261" y="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43"/>
          <p:cNvSpPr/>
          <p:nvPr/>
        </p:nvSpPr>
        <p:spPr>
          <a:xfrm>
            <a:off x="5572080" y="3589200"/>
            <a:ext cx="515880" cy="912960"/>
          </a:xfrm>
          <a:custGeom>
            <a:avLst/>
            <a:gdLst/>
            <a:ahLst/>
            <a:rect l="l" t="t" r="r" b="b"/>
            <a:pathLst>
              <a:path w="651" h="1152">
                <a:moveTo>
                  <a:pt x="4" y="1150"/>
                </a:moveTo>
                <a:lnTo>
                  <a:pt x="2" y="1148"/>
                </a:lnTo>
                <a:lnTo>
                  <a:pt x="0" y="1144"/>
                </a:lnTo>
                <a:lnTo>
                  <a:pt x="2" y="1140"/>
                </a:lnTo>
                <a:lnTo>
                  <a:pt x="2" y="1135"/>
                </a:lnTo>
                <a:lnTo>
                  <a:pt x="6" y="1131"/>
                </a:lnTo>
                <a:lnTo>
                  <a:pt x="8" y="1123"/>
                </a:lnTo>
                <a:lnTo>
                  <a:pt x="14" y="1117"/>
                </a:lnTo>
                <a:lnTo>
                  <a:pt x="18" y="1110"/>
                </a:lnTo>
                <a:lnTo>
                  <a:pt x="23" y="1100"/>
                </a:lnTo>
                <a:lnTo>
                  <a:pt x="31" y="1090"/>
                </a:lnTo>
                <a:lnTo>
                  <a:pt x="37" y="1081"/>
                </a:lnTo>
                <a:lnTo>
                  <a:pt x="45" y="1069"/>
                </a:lnTo>
                <a:lnTo>
                  <a:pt x="54" y="1056"/>
                </a:lnTo>
                <a:lnTo>
                  <a:pt x="64" y="1042"/>
                </a:lnTo>
                <a:lnTo>
                  <a:pt x="73" y="1029"/>
                </a:lnTo>
                <a:lnTo>
                  <a:pt x="83" y="1012"/>
                </a:lnTo>
                <a:lnTo>
                  <a:pt x="94" y="998"/>
                </a:lnTo>
                <a:lnTo>
                  <a:pt x="104" y="983"/>
                </a:lnTo>
                <a:lnTo>
                  <a:pt x="116" y="966"/>
                </a:lnTo>
                <a:lnTo>
                  <a:pt x="127" y="948"/>
                </a:lnTo>
                <a:lnTo>
                  <a:pt x="139" y="931"/>
                </a:lnTo>
                <a:lnTo>
                  <a:pt x="152" y="912"/>
                </a:lnTo>
                <a:lnTo>
                  <a:pt x="164" y="893"/>
                </a:lnTo>
                <a:lnTo>
                  <a:pt x="177" y="874"/>
                </a:lnTo>
                <a:lnTo>
                  <a:pt x="190" y="852"/>
                </a:lnTo>
                <a:lnTo>
                  <a:pt x="204" y="831"/>
                </a:lnTo>
                <a:lnTo>
                  <a:pt x="217" y="808"/>
                </a:lnTo>
                <a:lnTo>
                  <a:pt x="231" y="785"/>
                </a:lnTo>
                <a:lnTo>
                  <a:pt x="244" y="762"/>
                </a:lnTo>
                <a:lnTo>
                  <a:pt x="260" y="737"/>
                </a:lnTo>
                <a:lnTo>
                  <a:pt x="273" y="712"/>
                </a:lnTo>
                <a:lnTo>
                  <a:pt x="288" y="687"/>
                </a:lnTo>
                <a:lnTo>
                  <a:pt x="296" y="674"/>
                </a:lnTo>
                <a:lnTo>
                  <a:pt x="304" y="660"/>
                </a:lnTo>
                <a:lnTo>
                  <a:pt x="309" y="645"/>
                </a:lnTo>
                <a:lnTo>
                  <a:pt x="317" y="632"/>
                </a:lnTo>
                <a:lnTo>
                  <a:pt x="327" y="616"/>
                </a:lnTo>
                <a:lnTo>
                  <a:pt x="334" y="601"/>
                </a:lnTo>
                <a:lnTo>
                  <a:pt x="342" y="584"/>
                </a:lnTo>
                <a:lnTo>
                  <a:pt x="350" y="566"/>
                </a:lnTo>
                <a:lnTo>
                  <a:pt x="357" y="549"/>
                </a:lnTo>
                <a:lnTo>
                  <a:pt x="367" y="532"/>
                </a:lnTo>
                <a:lnTo>
                  <a:pt x="375" y="513"/>
                </a:lnTo>
                <a:lnTo>
                  <a:pt x="384" y="495"/>
                </a:lnTo>
                <a:lnTo>
                  <a:pt x="392" y="474"/>
                </a:lnTo>
                <a:lnTo>
                  <a:pt x="402" y="455"/>
                </a:lnTo>
                <a:lnTo>
                  <a:pt x="409" y="434"/>
                </a:lnTo>
                <a:lnTo>
                  <a:pt x="419" y="413"/>
                </a:lnTo>
                <a:lnTo>
                  <a:pt x="428" y="392"/>
                </a:lnTo>
                <a:lnTo>
                  <a:pt x="438" y="369"/>
                </a:lnTo>
                <a:lnTo>
                  <a:pt x="448" y="348"/>
                </a:lnTo>
                <a:lnTo>
                  <a:pt x="457" y="323"/>
                </a:lnTo>
                <a:lnTo>
                  <a:pt x="467" y="300"/>
                </a:lnTo>
                <a:lnTo>
                  <a:pt x="476" y="275"/>
                </a:lnTo>
                <a:lnTo>
                  <a:pt x="486" y="250"/>
                </a:lnTo>
                <a:lnTo>
                  <a:pt x="496" y="225"/>
                </a:lnTo>
                <a:lnTo>
                  <a:pt x="507" y="198"/>
                </a:lnTo>
                <a:lnTo>
                  <a:pt x="517" y="171"/>
                </a:lnTo>
                <a:lnTo>
                  <a:pt x="528" y="144"/>
                </a:lnTo>
                <a:lnTo>
                  <a:pt x="538" y="117"/>
                </a:lnTo>
                <a:lnTo>
                  <a:pt x="549" y="88"/>
                </a:lnTo>
                <a:lnTo>
                  <a:pt x="561" y="60"/>
                </a:lnTo>
                <a:lnTo>
                  <a:pt x="572" y="29"/>
                </a:lnTo>
                <a:lnTo>
                  <a:pt x="584" y="0"/>
                </a:lnTo>
                <a:lnTo>
                  <a:pt x="584" y="4"/>
                </a:lnTo>
                <a:lnTo>
                  <a:pt x="584" y="12"/>
                </a:lnTo>
                <a:lnTo>
                  <a:pt x="586" y="19"/>
                </a:lnTo>
                <a:lnTo>
                  <a:pt x="588" y="27"/>
                </a:lnTo>
                <a:lnTo>
                  <a:pt x="590" y="37"/>
                </a:lnTo>
                <a:lnTo>
                  <a:pt x="594" y="48"/>
                </a:lnTo>
                <a:lnTo>
                  <a:pt x="597" y="62"/>
                </a:lnTo>
                <a:lnTo>
                  <a:pt x="601" y="75"/>
                </a:lnTo>
                <a:lnTo>
                  <a:pt x="605" y="88"/>
                </a:lnTo>
                <a:lnTo>
                  <a:pt x="611" y="104"/>
                </a:lnTo>
                <a:lnTo>
                  <a:pt x="617" y="121"/>
                </a:lnTo>
                <a:lnTo>
                  <a:pt x="622" y="140"/>
                </a:lnTo>
                <a:lnTo>
                  <a:pt x="628" y="159"/>
                </a:lnTo>
                <a:lnTo>
                  <a:pt x="636" y="181"/>
                </a:lnTo>
                <a:lnTo>
                  <a:pt x="643" y="202"/>
                </a:lnTo>
                <a:lnTo>
                  <a:pt x="651" y="225"/>
                </a:lnTo>
                <a:lnTo>
                  <a:pt x="638" y="259"/>
                </a:lnTo>
                <a:lnTo>
                  <a:pt x="622" y="294"/>
                </a:lnTo>
                <a:lnTo>
                  <a:pt x="607" y="326"/>
                </a:lnTo>
                <a:lnTo>
                  <a:pt x="594" y="359"/>
                </a:lnTo>
                <a:lnTo>
                  <a:pt x="578" y="392"/>
                </a:lnTo>
                <a:lnTo>
                  <a:pt x="565" y="422"/>
                </a:lnTo>
                <a:lnTo>
                  <a:pt x="549" y="453"/>
                </a:lnTo>
                <a:lnTo>
                  <a:pt x="536" y="482"/>
                </a:lnTo>
                <a:lnTo>
                  <a:pt x="521" y="511"/>
                </a:lnTo>
                <a:lnTo>
                  <a:pt x="507" y="540"/>
                </a:lnTo>
                <a:lnTo>
                  <a:pt x="494" y="566"/>
                </a:lnTo>
                <a:lnTo>
                  <a:pt x="478" y="593"/>
                </a:lnTo>
                <a:lnTo>
                  <a:pt x="465" y="620"/>
                </a:lnTo>
                <a:lnTo>
                  <a:pt x="452" y="645"/>
                </a:lnTo>
                <a:lnTo>
                  <a:pt x="438" y="670"/>
                </a:lnTo>
                <a:lnTo>
                  <a:pt x="423" y="693"/>
                </a:lnTo>
                <a:lnTo>
                  <a:pt x="409" y="716"/>
                </a:lnTo>
                <a:lnTo>
                  <a:pt x="396" y="739"/>
                </a:lnTo>
                <a:lnTo>
                  <a:pt x="382" y="760"/>
                </a:lnTo>
                <a:lnTo>
                  <a:pt x="369" y="781"/>
                </a:lnTo>
                <a:lnTo>
                  <a:pt x="356" y="801"/>
                </a:lnTo>
                <a:lnTo>
                  <a:pt x="344" y="820"/>
                </a:lnTo>
                <a:lnTo>
                  <a:pt x="331" y="839"/>
                </a:lnTo>
                <a:lnTo>
                  <a:pt x="317" y="856"/>
                </a:lnTo>
                <a:lnTo>
                  <a:pt x="306" y="874"/>
                </a:lnTo>
                <a:lnTo>
                  <a:pt x="292" y="891"/>
                </a:lnTo>
                <a:lnTo>
                  <a:pt x="281" y="906"/>
                </a:lnTo>
                <a:lnTo>
                  <a:pt x="267" y="922"/>
                </a:lnTo>
                <a:lnTo>
                  <a:pt x="256" y="937"/>
                </a:lnTo>
                <a:lnTo>
                  <a:pt x="244" y="950"/>
                </a:lnTo>
                <a:lnTo>
                  <a:pt x="231" y="962"/>
                </a:lnTo>
                <a:lnTo>
                  <a:pt x="219" y="975"/>
                </a:lnTo>
                <a:lnTo>
                  <a:pt x="196" y="998"/>
                </a:lnTo>
                <a:lnTo>
                  <a:pt x="175" y="1019"/>
                </a:lnTo>
                <a:lnTo>
                  <a:pt x="154" y="1039"/>
                </a:lnTo>
                <a:lnTo>
                  <a:pt x="135" y="1058"/>
                </a:lnTo>
                <a:lnTo>
                  <a:pt x="118" y="1073"/>
                </a:lnTo>
                <a:lnTo>
                  <a:pt x="100" y="1088"/>
                </a:lnTo>
                <a:lnTo>
                  <a:pt x="83" y="1102"/>
                </a:lnTo>
                <a:lnTo>
                  <a:pt x="70" y="1113"/>
                </a:lnTo>
                <a:lnTo>
                  <a:pt x="56" y="1125"/>
                </a:lnTo>
                <a:lnTo>
                  <a:pt x="45" y="1133"/>
                </a:lnTo>
                <a:lnTo>
                  <a:pt x="33" y="1140"/>
                </a:lnTo>
                <a:lnTo>
                  <a:pt x="25" y="1146"/>
                </a:lnTo>
                <a:lnTo>
                  <a:pt x="18" y="1150"/>
                </a:lnTo>
                <a:lnTo>
                  <a:pt x="10" y="1152"/>
                </a:lnTo>
                <a:lnTo>
                  <a:pt x="6" y="1152"/>
                </a:lnTo>
                <a:lnTo>
                  <a:pt x="4" y="11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44"/>
          <p:cNvSpPr/>
          <p:nvPr/>
        </p:nvSpPr>
        <p:spPr>
          <a:xfrm>
            <a:off x="5965920" y="2874960"/>
            <a:ext cx="207720" cy="2092320"/>
          </a:xfrm>
          <a:custGeom>
            <a:avLst/>
            <a:gdLst/>
            <a:ahLst/>
            <a:rect l="l" t="t" r="r" b="b"/>
            <a:pathLst>
              <a:path w="261" h="2635">
                <a:moveTo>
                  <a:pt x="17" y="71"/>
                </a:moveTo>
                <a:lnTo>
                  <a:pt x="13" y="67"/>
                </a:lnTo>
                <a:lnTo>
                  <a:pt x="9" y="61"/>
                </a:lnTo>
                <a:lnTo>
                  <a:pt x="7" y="57"/>
                </a:lnTo>
                <a:lnTo>
                  <a:pt x="5" y="54"/>
                </a:lnTo>
                <a:lnTo>
                  <a:pt x="3" y="48"/>
                </a:lnTo>
                <a:lnTo>
                  <a:pt x="1" y="44"/>
                </a:lnTo>
                <a:lnTo>
                  <a:pt x="1" y="40"/>
                </a:lnTo>
                <a:lnTo>
                  <a:pt x="0" y="36"/>
                </a:lnTo>
                <a:lnTo>
                  <a:pt x="1" y="32"/>
                </a:lnTo>
                <a:lnTo>
                  <a:pt x="1" y="29"/>
                </a:lnTo>
                <a:lnTo>
                  <a:pt x="3" y="25"/>
                </a:lnTo>
                <a:lnTo>
                  <a:pt x="5" y="21"/>
                </a:lnTo>
                <a:lnTo>
                  <a:pt x="7" y="17"/>
                </a:lnTo>
                <a:lnTo>
                  <a:pt x="9" y="15"/>
                </a:lnTo>
                <a:lnTo>
                  <a:pt x="13" y="11"/>
                </a:lnTo>
                <a:lnTo>
                  <a:pt x="17" y="9"/>
                </a:lnTo>
                <a:lnTo>
                  <a:pt x="21" y="8"/>
                </a:lnTo>
                <a:lnTo>
                  <a:pt x="23" y="6"/>
                </a:lnTo>
                <a:lnTo>
                  <a:pt x="26" y="4"/>
                </a:lnTo>
                <a:lnTo>
                  <a:pt x="32" y="2"/>
                </a:lnTo>
                <a:lnTo>
                  <a:pt x="38" y="2"/>
                </a:lnTo>
                <a:lnTo>
                  <a:pt x="44" y="0"/>
                </a:lnTo>
                <a:lnTo>
                  <a:pt x="51" y="0"/>
                </a:lnTo>
                <a:lnTo>
                  <a:pt x="59" y="2"/>
                </a:lnTo>
                <a:lnTo>
                  <a:pt x="67" y="2"/>
                </a:lnTo>
                <a:lnTo>
                  <a:pt x="76" y="4"/>
                </a:lnTo>
                <a:lnTo>
                  <a:pt x="86" y="6"/>
                </a:lnTo>
                <a:lnTo>
                  <a:pt x="96" y="8"/>
                </a:lnTo>
                <a:lnTo>
                  <a:pt x="107" y="9"/>
                </a:lnTo>
                <a:lnTo>
                  <a:pt x="119" y="13"/>
                </a:lnTo>
                <a:lnTo>
                  <a:pt x="130" y="17"/>
                </a:lnTo>
                <a:lnTo>
                  <a:pt x="144" y="21"/>
                </a:lnTo>
                <a:lnTo>
                  <a:pt x="155" y="29"/>
                </a:lnTo>
                <a:lnTo>
                  <a:pt x="167" y="34"/>
                </a:lnTo>
                <a:lnTo>
                  <a:pt x="178" y="42"/>
                </a:lnTo>
                <a:lnTo>
                  <a:pt x="188" y="48"/>
                </a:lnTo>
                <a:lnTo>
                  <a:pt x="197" y="54"/>
                </a:lnTo>
                <a:lnTo>
                  <a:pt x="205" y="59"/>
                </a:lnTo>
                <a:lnTo>
                  <a:pt x="213" y="65"/>
                </a:lnTo>
                <a:lnTo>
                  <a:pt x="220" y="71"/>
                </a:lnTo>
                <a:lnTo>
                  <a:pt x="228" y="75"/>
                </a:lnTo>
                <a:lnTo>
                  <a:pt x="234" y="80"/>
                </a:lnTo>
                <a:lnTo>
                  <a:pt x="238" y="86"/>
                </a:lnTo>
                <a:lnTo>
                  <a:pt x="243" y="90"/>
                </a:lnTo>
                <a:lnTo>
                  <a:pt x="247" y="96"/>
                </a:lnTo>
                <a:lnTo>
                  <a:pt x="251" y="100"/>
                </a:lnTo>
                <a:lnTo>
                  <a:pt x="255" y="105"/>
                </a:lnTo>
                <a:lnTo>
                  <a:pt x="257" y="109"/>
                </a:lnTo>
                <a:lnTo>
                  <a:pt x="259" y="113"/>
                </a:lnTo>
                <a:lnTo>
                  <a:pt x="259" y="119"/>
                </a:lnTo>
                <a:lnTo>
                  <a:pt x="261" y="128"/>
                </a:lnTo>
                <a:lnTo>
                  <a:pt x="261" y="138"/>
                </a:lnTo>
                <a:lnTo>
                  <a:pt x="259" y="148"/>
                </a:lnTo>
                <a:lnTo>
                  <a:pt x="257" y="159"/>
                </a:lnTo>
                <a:lnTo>
                  <a:pt x="253" y="171"/>
                </a:lnTo>
                <a:lnTo>
                  <a:pt x="249" y="184"/>
                </a:lnTo>
                <a:lnTo>
                  <a:pt x="245" y="198"/>
                </a:lnTo>
                <a:lnTo>
                  <a:pt x="243" y="203"/>
                </a:lnTo>
                <a:lnTo>
                  <a:pt x="240" y="213"/>
                </a:lnTo>
                <a:lnTo>
                  <a:pt x="238" y="223"/>
                </a:lnTo>
                <a:lnTo>
                  <a:pt x="234" y="234"/>
                </a:lnTo>
                <a:lnTo>
                  <a:pt x="232" y="247"/>
                </a:lnTo>
                <a:lnTo>
                  <a:pt x="228" y="261"/>
                </a:lnTo>
                <a:lnTo>
                  <a:pt x="226" y="276"/>
                </a:lnTo>
                <a:lnTo>
                  <a:pt x="222" y="294"/>
                </a:lnTo>
                <a:lnTo>
                  <a:pt x="218" y="313"/>
                </a:lnTo>
                <a:lnTo>
                  <a:pt x="216" y="332"/>
                </a:lnTo>
                <a:lnTo>
                  <a:pt x="213" y="353"/>
                </a:lnTo>
                <a:lnTo>
                  <a:pt x="209" y="376"/>
                </a:lnTo>
                <a:lnTo>
                  <a:pt x="207" y="401"/>
                </a:lnTo>
                <a:lnTo>
                  <a:pt x="203" y="426"/>
                </a:lnTo>
                <a:lnTo>
                  <a:pt x="201" y="455"/>
                </a:lnTo>
                <a:lnTo>
                  <a:pt x="199" y="484"/>
                </a:lnTo>
                <a:lnTo>
                  <a:pt x="197" y="501"/>
                </a:lnTo>
                <a:lnTo>
                  <a:pt x="197" y="516"/>
                </a:lnTo>
                <a:lnTo>
                  <a:pt x="195" y="535"/>
                </a:lnTo>
                <a:lnTo>
                  <a:pt x="195" y="555"/>
                </a:lnTo>
                <a:lnTo>
                  <a:pt x="193" y="574"/>
                </a:lnTo>
                <a:lnTo>
                  <a:pt x="193" y="595"/>
                </a:lnTo>
                <a:lnTo>
                  <a:pt x="192" y="618"/>
                </a:lnTo>
                <a:lnTo>
                  <a:pt x="192" y="641"/>
                </a:lnTo>
                <a:lnTo>
                  <a:pt x="190" y="666"/>
                </a:lnTo>
                <a:lnTo>
                  <a:pt x="190" y="691"/>
                </a:lnTo>
                <a:lnTo>
                  <a:pt x="188" y="718"/>
                </a:lnTo>
                <a:lnTo>
                  <a:pt x="188" y="745"/>
                </a:lnTo>
                <a:lnTo>
                  <a:pt x="186" y="773"/>
                </a:lnTo>
                <a:lnTo>
                  <a:pt x="186" y="804"/>
                </a:lnTo>
                <a:lnTo>
                  <a:pt x="184" y="835"/>
                </a:lnTo>
                <a:lnTo>
                  <a:pt x="184" y="866"/>
                </a:lnTo>
                <a:lnTo>
                  <a:pt x="184" y="898"/>
                </a:lnTo>
                <a:lnTo>
                  <a:pt x="182" y="933"/>
                </a:lnTo>
                <a:lnTo>
                  <a:pt x="182" y="967"/>
                </a:lnTo>
                <a:lnTo>
                  <a:pt x="180" y="1004"/>
                </a:lnTo>
                <a:lnTo>
                  <a:pt x="180" y="1040"/>
                </a:lnTo>
                <a:lnTo>
                  <a:pt x="180" y="1077"/>
                </a:lnTo>
                <a:lnTo>
                  <a:pt x="180" y="1117"/>
                </a:lnTo>
                <a:lnTo>
                  <a:pt x="178" y="1155"/>
                </a:lnTo>
                <a:lnTo>
                  <a:pt x="178" y="1198"/>
                </a:lnTo>
                <a:lnTo>
                  <a:pt x="178" y="1238"/>
                </a:lnTo>
                <a:lnTo>
                  <a:pt x="178" y="1282"/>
                </a:lnTo>
                <a:lnTo>
                  <a:pt x="178" y="1326"/>
                </a:lnTo>
                <a:lnTo>
                  <a:pt x="176" y="1370"/>
                </a:lnTo>
                <a:lnTo>
                  <a:pt x="176" y="1416"/>
                </a:lnTo>
                <a:lnTo>
                  <a:pt x="176" y="1462"/>
                </a:lnTo>
                <a:lnTo>
                  <a:pt x="176" y="1510"/>
                </a:lnTo>
                <a:lnTo>
                  <a:pt x="176" y="1558"/>
                </a:lnTo>
                <a:lnTo>
                  <a:pt x="176" y="1606"/>
                </a:lnTo>
                <a:lnTo>
                  <a:pt x="176" y="1653"/>
                </a:lnTo>
                <a:lnTo>
                  <a:pt x="176" y="1697"/>
                </a:lnTo>
                <a:lnTo>
                  <a:pt x="176" y="1741"/>
                </a:lnTo>
                <a:lnTo>
                  <a:pt x="176" y="1783"/>
                </a:lnTo>
                <a:lnTo>
                  <a:pt x="176" y="1825"/>
                </a:lnTo>
                <a:lnTo>
                  <a:pt x="176" y="1864"/>
                </a:lnTo>
                <a:lnTo>
                  <a:pt x="176" y="1904"/>
                </a:lnTo>
                <a:lnTo>
                  <a:pt x="176" y="1940"/>
                </a:lnTo>
                <a:lnTo>
                  <a:pt x="176" y="1977"/>
                </a:lnTo>
                <a:lnTo>
                  <a:pt x="176" y="2013"/>
                </a:lnTo>
                <a:lnTo>
                  <a:pt x="176" y="2046"/>
                </a:lnTo>
                <a:lnTo>
                  <a:pt x="176" y="2079"/>
                </a:lnTo>
                <a:lnTo>
                  <a:pt x="176" y="2111"/>
                </a:lnTo>
                <a:lnTo>
                  <a:pt x="174" y="2142"/>
                </a:lnTo>
                <a:lnTo>
                  <a:pt x="174" y="2171"/>
                </a:lnTo>
                <a:lnTo>
                  <a:pt x="174" y="2200"/>
                </a:lnTo>
                <a:lnTo>
                  <a:pt x="174" y="2226"/>
                </a:lnTo>
                <a:lnTo>
                  <a:pt x="174" y="2251"/>
                </a:lnTo>
                <a:lnTo>
                  <a:pt x="172" y="2276"/>
                </a:lnTo>
                <a:lnTo>
                  <a:pt x="172" y="2299"/>
                </a:lnTo>
                <a:lnTo>
                  <a:pt x="172" y="2322"/>
                </a:lnTo>
                <a:lnTo>
                  <a:pt x="172" y="2344"/>
                </a:lnTo>
                <a:lnTo>
                  <a:pt x="170" y="2365"/>
                </a:lnTo>
                <a:lnTo>
                  <a:pt x="170" y="2382"/>
                </a:lnTo>
                <a:lnTo>
                  <a:pt x="170" y="2401"/>
                </a:lnTo>
                <a:lnTo>
                  <a:pt x="168" y="2416"/>
                </a:lnTo>
                <a:lnTo>
                  <a:pt x="168" y="2434"/>
                </a:lnTo>
                <a:lnTo>
                  <a:pt x="167" y="2447"/>
                </a:lnTo>
                <a:lnTo>
                  <a:pt x="167" y="2461"/>
                </a:lnTo>
                <a:lnTo>
                  <a:pt x="165" y="2474"/>
                </a:lnTo>
                <a:lnTo>
                  <a:pt x="163" y="2493"/>
                </a:lnTo>
                <a:lnTo>
                  <a:pt x="161" y="2512"/>
                </a:lnTo>
                <a:lnTo>
                  <a:pt x="157" y="2530"/>
                </a:lnTo>
                <a:lnTo>
                  <a:pt x="155" y="2545"/>
                </a:lnTo>
                <a:lnTo>
                  <a:pt x="151" y="2560"/>
                </a:lnTo>
                <a:lnTo>
                  <a:pt x="149" y="2574"/>
                </a:lnTo>
                <a:lnTo>
                  <a:pt x="145" y="2585"/>
                </a:lnTo>
                <a:lnTo>
                  <a:pt x="142" y="2597"/>
                </a:lnTo>
                <a:lnTo>
                  <a:pt x="140" y="2606"/>
                </a:lnTo>
                <a:lnTo>
                  <a:pt x="136" y="2614"/>
                </a:lnTo>
                <a:lnTo>
                  <a:pt x="134" y="2620"/>
                </a:lnTo>
                <a:lnTo>
                  <a:pt x="130" y="2626"/>
                </a:lnTo>
                <a:lnTo>
                  <a:pt x="126" y="2630"/>
                </a:lnTo>
                <a:lnTo>
                  <a:pt x="124" y="2633"/>
                </a:lnTo>
                <a:lnTo>
                  <a:pt x="122" y="2635"/>
                </a:lnTo>
                <a:lnTo>
                  <a:pt x="121" y="2635"/>
                </a:lnTo>
                <a:lnTo>
                  <a:pt x="115" y="2635"/>
                </a:lnTo>
                <a:lnTo>
                  <a:pt x="111" y="2633"/>
                </a:lnTo>
                <a:lnTo>
                  <a:pt x="107" y="2631"/>
                </a:lnTo>
                <a:lnTo>
                  <a:pt x="103" y="2630"/>
                </a:lnTo>
                <a:lnTo>
                  <a:pt x="97" y="2624"/>
                </a:lnTo>
                <a:lnTo>
                  <a:pt x="94" y="2620"/>
                </a:lnTo>
                <a:lnTo>
                  <a:pt x="90" y="2614"/>
                </a:lnTo>
                <a:lnTo>
                  <a:pt x="86" y="2606"/>
                </a:lnTo>
                <a:lnTo>
                  <a:pt x="80" y="2599"/>
                </a:lnTo>
                <a:lnTo>
                  <a:pt x="76" y="2589"/>
                </a:lnTo>
                <a:lnTo>
                  <a:pt x="73" y="2578"/>
                </a:lnTo>
                <a:lnTo>
                  <a:pt x="69" y="2568"/>
                </a:lnTo>
                <a:lnTo>
                  <a:pt x="65" y="2555"/>
                </a:lnTo>
                <a:lnTo>
                  <a:pt x="59" y="2541"/>
                </a:lnTo>
                <a:lnTo>
                  <a:pt x="55" y="2526"/>
                </a:lnTo>
                <a:lnTo>
                  <a:pt x="51" y="2511"/>
                </a:lnTo>
                <a:lnTo>
                  <a:pt x="46" y="2495"/>
                </a:lnTo>
                <a:lnTo>
                  <a:pt x="40" y="2480"/>
                </a:lnTo>
                <a:lnTo>
                  <a:pt x="34" y="2464"/>
                </a:lnTo>
                <a:lnTo>
                  <a:pt x="30" y="2451"/>
                </a:lnTo>
                <a:lnTo>
                  <a:pt x="26" y="2439"/>
                </a:lnTo>
                <a:lnTo>
                  <a:pt x="23" y="2428"/>
                </a:lnTo>
                <a:lnTo>
                  <a:pt x="19" y="2416"/>
                </a:lnTo>
                <a:lnTo>
                  <a:pt x="17" y="2405"/>
                </a:lnTo>
                <a:lnTo>
                  <a:pt x="13" y="2395"/>
                </a:lnTo>
                <a:lnTo>
                  <a:pt x="11" y="2388"/>
                </a:lnTo>
                <a:lnTo>
                  <a:pt x="9" y="2378"/>
                </a:lnTo>
                <a:lnTo>
                  <a:pt x="9" y="2372"/>
                </a:lnTo>
                <a:lnTo>
                  <a:pt x="7" y="2365"/>
                </a:lnTo>
                <a:lnTo>
                  <a:pt x="7" y="2359"/>
                </a:lnTo>
                <a:lnTo>
                  <a:pt x="5" y="2353"/>
                </a:lnTo>
                <a:lnTo>
                  <a:pt x="5" y="2347"/>
                </a:lnTo>
                <a:lnTo>
                  <a:pt x="5" y="2345"/>
                </a:lnTo>
                <a:lnTo>
                  <a:pt x="7" y="2340"/>
                </a:lnTo>
                <a:lnTo>
                  <a:pt x="7" y="2332"/>
                </a:lnTo>
                <a:lnTo>
                  <a:pt x="7" y="2324"/>
                </a:lnTo>
                <a:lnTo>
                  <a:pt x="9" y="2315"/>
                </a:lnTo>
                <a:lnTo>
                  <a:pt x="11" y="2301"/>
                </a:lnTo>
                <a:lnTo>
                  <a:pt x="13" y="2288"/>
                </a:lnTo>
                <a:lnTo>
                  <a:pt x="15" y="2273"/>
                </a:lnTo>
                <a:lnTo>
                  <a:pt x="17" y="2255"/>
                </a:lnTo>
                <a:lnTo>
                  <a:pt x="19" y="2236"/>
                </a:lnTo>
                <a:lnTo>
                  <a:pt x="23" y="2215"/>
                </a:lnTo>
                <a:lnTo>
                  <a:pt x="25" y="2194"/>
                </a:lnTo>
                <a:lnTo>
                  <a:pt x="28" y="2169"/>
                </a:lnTo>
                <a:lnTo>
                  <a:pt x="32" y="2142"/>
                </a:lnTo>
                <a:lnTo>
                  <a:pt x="36" y="2115"/>
                </a:lnTo>
                <a:lnTo>
                  <a:pt x="40" y="2086"/>
                </a:lnTo>
                <a:lnTo>
                  <a:pt x="42" y="2071"/>
                </a:lnTo>
                <a:lnTo>
                  <a:pt x="42" y="2056"/>
                </a:lnTo>
                <a:lnTo>
                  <a:pt x="44" y="2040"/>
                </a:lnTo>
                <a:lnTo>
                  <a:pt x="44" y="2023"/>
                </a:lnTo>
                <a:lnTo>
                  <a:pt x="46" y="2006"/>
                </a:lnTo>
                <a:lnTo>
                  <a:pt x="46" y="1988"/>
                </a:lnTo>
                <a:lnTo>
                  <a:pt x="48" y="1969"/>
                </a:lnTo>
                <a:lnTo>
                  <a:pt x="48" y="1950"/>
                </a:lnTo>
                <a:lnTo>
                  <a:pt x="49" y="1929"/>
                </a:lnTo>
                <a:lnTo>
                  <a:pt x="51" y="1908"/>
                </a:lnTo>
                <a:lnTo>
                  <a:pt x="51" y="1887"/>
                </a:lnTo>
                <a:lnTo>
                  <a:pt x="53" y="1864"/>
                </a:lnTo>
                <a:lnTo>
                  <a:pt x="53" y="1841"/>
                </a:lnTo>
                <a:lnTo>
                  <a:pt x="55" y="1816"/>
                </a:lnTo>
                <a:lnTo>
                  <a:pt x="55" y="1793"/>
                </a:lnTo>
                <a:lnTo>
                  <a:pt x="57" y="1766"/>
                </a:lnTo>
                <a:lnTo>
                  <a:pt x="57" y="1741"/>
                </a:lnTo>
                <a:lnTo>
                  <a:pt x="59" y="1714"/>
                </a:lnTo>
                <a:lnTo>
                  <a:pt x="61" y="1685"/>
                </a:lnTo>
                <a:lnTo>
                  <a:pt x="61" y="1658"/>
                </a:lnTo>
                <a:lnTo>
                  <a:pt x="63" y="1628"/>
                </a:lnTo>
                <a:lnTo>
                  <a:pt x="63" y="1599"/>
                </a:lnTo>
                <a:lnTo>
                  <a:pt x="65" y="1568"/>
                </a:lnTo>
                <a:lnTo>
                  <a:pt x="65" y="1537"/>
                </a:lnTo>
                <a:lnTo>
                  <a:pt x="67" y="1505"/>
                </a:lnTo>
                <a:lnTo>
                  <a:pt x="67" y="1472"/>
                </a:lnTo>
                <a:lnTo>
                  <a:pt x="69" y="1438"/>
                </a:lnTo>
                <a:lnTo>
                  <a:pt x="71" y="1403"/>
                </a:lnTo>
                <a:lnTo>
                  <a:pt x="71" y="1368"/>
                </a:lnTo>
                <a:lnTo>
                  <a:pt x="73" y="1334"/>
                </a:lnTo>
                <a:lnTo>
                  <a:pt x="73" y="1297"/>
                </a:lnTo>
                <a:lnTo>
                  <a:pt x="74" y="1259"/>
                </a:lnTo>
                <a:lnTo>
                  <a:pt x="74" y="1223"/>
                </a:lnTo>
                <a:lnTo>
                  <a:pt x="74" y="1188"/>
                </a:lnTo>
                <a:lnTo>
                  <a:pt x="74" y="1153"/>
                </a:lnTo>
                <a:lnTo>
                  <a:pt x="74" y="1119"/>
                </a:lnTo>
                <a:lnTo>
                  <a:pt x="74" y="1084"/>
                </a:lnTo>
                <a:lnTo>
                  <a:pt x="74" y="1052"/>
                </a:lnTo>
                <a:lnTo>
                  <a:pt x="74" y="1017"/>
                </a:lnTo>
                <a:lnTo>
                  <a:pt x="74" y="986"/>
                </a:lnTo>
                <a:lnTo>
                  <a:pt x="74" y="954"/>
                </a:lnTo>
                <a:lnTo>
                  <a:pt x="74" y="923"/>
                </a:lnTo>
                <a:lnTo>
                  <a:pt x="74" y="892"/>
                </a:lnTo>
                <a:lnTo>
                  <a:pt x="73" y="862"/>
                </a:lnTo>
                <a:lnTo>
                  <a:pt x="73" y="833"/>
                </a:lnTo>
                <a:lnTo>
                  <a:pt x="73" y="802"/>
                </a:lnTo>
                <a:lnTo>
                  <a:pt x="73" y="775"/>
                </a:lnTo>
                <a:lnTo>
                  <a:pt x="73" y="747"/>
                </a:lnTo>
                <a:lnTo>
                  <a:pt x="73" y="720"/>
                </a:lnTo>
                <a:lnTo>
                  <a:pt x="73" y="693"/>
                </a:lnTo>
                <a:lnTo>
                  <a:pt x="73" y="668"/>
                </a:lnTo>
                <a:lnTo>
                  <a:pt x="71" y="641"/>
                </a:lnTo>
                <a:lnTo>
                  <a:pt x="71" y="616"/>
                </a:lnTo>
                <a:lnTo>
                  <a:pt x="71" y="593"/>
                </a:lnTo>
                <a:lnTo>
                  <a:pt x="71" y="568"/>
                </a:lnTo>
                <a:lnTo>
                  <a:pt x="69" y="545"/>
                </a:lnTo>
                <a:lnTo>
                  <a:pt x="69" y="524"/>
                </a:lnTo>
                <a:lnTo>
                  <a:pt x="69" y="501"/>
                </a:lnTo>
                <a:lnTo>
                  <a:pt x="67" y="480"/>
                </a:lnTo>
                <a:lnTo>
                  <a:pt x="67" y="461"/>
                </a:lnTo>
                <a:lnTo>
                  <a:pt x="65" y="439"/>
                </a:lnTo>
                <a:lnTo>
                  <a:pt x="65" y="420"/>
                </a:lnTo>
                <a:lnTo>
                  <a:pt x="65" y="403"/>
                </a:lnTo>
                <a:lnTo>
                  <a:pt x="63" y="384"/>
                </a:lnTo>
                <a:lnTo>
                  <a:pt x="61" y="349"/>
                </a:lnTo>
                <a:lnTo>
                  <a:pt x="59" y="317"/>
                </a:lnTo>
                <a:lnTo>
                  <a:pt x="57" y="288"/>
                </a:lnTo>
                <a:lnTo>
                  <a:pt x="53" y="259"/>
                </a:lnTo>
                <a:lnTo>
                  <a:pt x="53" y="244"/>
                </a:lnTo>
                <a:lnTo>
                  <a:pt x="51" y="232"/>
                </a:lnTo>
                <a:lnTo>
                  <a:pt x="51" y="219"/>
                </a:lnTo>
                <a:lnTo>
                  <a:pt x="49" y="207"/>
                </a:lnTo>
                <a:lnTo>
                  <a:pt x="48" y="194"/>
                </a:lnTo>
                <a:lnTo>
                  <a:pt x="48" y="184"/>
                </a:lnTo>
                <a:lnTo>
                  <a:pt x="46" y="173"/>
                </a:lnTo>
                <a:lnTo>
                  <a:pt x="44" y="163"/>
                </a:lnTo>
                <a:lnTo>
                  <a:pt x="44" y="153"/>
                </a:lnTo>
                <a:lnTo>
                  <a:pt x="42" y="144"/>
                </a:lnTo>
                <a:lnTo>
                  <a:pt x="40" y="134"/>
                </a:lnTo>
                <a:lnTo>
                  <a:pt x="38" y="127"/>
                </a:lnTo>
                <a:lnTo>
                  <a:pt x="38" y="119"/>
                </a:lnTo>
                <a:lnTo>
                  <a:pt x="36" y="111"/>
                </a:lnTo>
                <a:lnTo>
                  <a:pt x="34" y="105"/>
                </a:lnTo>
                <a:lnTo>
                  <a:pt x="32" y="100"/>
                </a:lnTo>
                <a:lnTo>
                  <a:pt x="30" y="94"/>
                </a:lnTo>
                <a:lnTo>
                  <a:pt x="28" y="88"/>
                </a:lnTo>
                <a:lnTo>
                  <a:pt x="26" y="84"/>
                </a:lnTo>
                <a:lnTo>
                  <a:pt x="25" y="80"/>
                </a:lnTo>
                <a:lnTo>
                  <a:pt x="23" y="79"/>
                </a:lnTo>
                <a:lnTo>
                  <a:pt x="21" y="75"/>
                </a:lnTo>
                <a:lnTo>
                  <a:pt x="19" y="73"/>
                </a:lnTo>
                <a:lnTo>
                  <a:pt x="17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45"/>
          <p:cNvSpPr/>
          <p:nvPr/>
        </p:nvSpPr>
        <p:spPr>
          <a:xfrm>
            <a:off x="5627520" y="3538440"/>
            <a:ext cx="696960" cy="217440"/>
          </a:xfrm>
          <a:custGeom>
            <a:avLst/>
            <a:gdLst/>
            <a:ahLst/>
            <a:rect l="l" t="t" r="r" b="b"/>
            <a:pathLst>
              <a:path w="878" h="274">
                <a:moveTo>
                  <a:pt x="12" y="263"/>
                </a:moveTo>
                <a:lnTo>
                  <a:pt x="8" y="257"/>
                </a:lnTo>
                <a:lnTo>
                  <a:pt x="6" y="251"/>
                </a:lnTo>
                <a:lnTo>
                  <a:pt x="4" y="244"/>
                </a:lnTo>
                <a:lnTo>
                  <a:pt x="2" y="238"/>
                </a:lnTo>
                <a:lnTo>
                  <a:pt x="0" y="230"/>
                </a:lnTo>
                <a:lnTo>
                  <a:pt x="0" y="222"/>
                </a:lnTo>
                <a:lnTo>
                  <a:pt x="0" y="217"/>
                </a:lnTo>
                <a:lnTo>
                  <a:pt x="0" y="213"/>
                </a:lnTo>
                <a:lnTo>
                  <a:pt x="0" y="211"/>
                </a:lnTo>
                <a:lnTo>
                  <a:pt x="2" y="209"/>
                </a:lnTo>
                <a:lnTo>
                  <a:pt x="4" y="207"/>
                </a:lnTo>
                <a:lnTo>
                  <a:pt x="6" y="207"/>
                </a:lnTo>
                <a:lnTo>
                  <a:pt x="10" y="205"/>
                </a:lnTo>
                <a:lnTo>
                  <a:pt x="14" y="203"/>
                </a:lnTo>
                <a:lnTo>
                  <a:pt x="18" y="199"/>
                </a:lnTo>
                <a:lnTo>
                  <a:pt x="23" y="198"/>
                </a:lnTo>
                <a:lnTo>
                  <a:pt x="29" y="196"/>
                </a:lnTo>
                <a:lnTo>
                  <a:pt x="37" y="194"/>
                </a:lnTo>
                <a:lnTo>
                  <a:pt x="45" y="190"/>
                </a:lnTo>
                <a:lnTo>
                  <a:pt x="52" y="188"/>
                </a:lnTo>
                <a:lnTo>
                  <a:pt x="62" y="184"/>
                </a:lnTo>
                <a:lnTo>
                  <a:pt x="71" y="182"/>
                </a:lnTo>
                <a:lnTo>
                  <a:pt x="83" y="178"/>
                </a:lnTo>
                <a:lnTo>
                  <a:pt x="93" y="174"/>
                </a:lnTo>
                <a:lnTo>
                  <a:pt x="104" y="171"/>
                </a:lnTo>
                <a:lnTo>
                  <a:pt x="118" y="169"/>
                </a:lnTo>
                <a:lnTo>
                  <a:pt x="131" y="165"/>
                </a:lnTo>
                <a:lnTo>
                  <a:pt x="144" y="159"/>
                </a:lnTo>
                <a:lnTo>
                  <a:pt x="160" y="155"/>
                </a:lnTo>
                <a:lnTo>
                  <a:pt x="175" y="151"/>
                </a:lnTo>
                <a:lnTo>
                  <a:pt x="190" y="148"/>
                </a:lnTo>
                <a:lnTo>
                  <a:pt x="208" y="142"/>
                </a:lnTo>
                <a:lnTo>
                  <a:pt x="225" y="138"/>
                </a:lnTo>
                <a:lnTo>
                  <a:pt x="242" y="132"/>
                </a:lnTo>
                <a:lnTo>
                  <a:pt x="262" y="128"/>
                </a:lnTo>
                <a:lnTo>
                  <a:pt x="281" y="123"/>
                </a:lnTo>
                <a:lnTo>
                  <a:pt x="300" y="117"/>
                </a:lnTo>
                <a:lnTo>
                  <a:pt x="321" y="111"/>
                </a:lnTo>
                <a:lnTo>
                  <a:pt x="342" y="105"/>
                </a:lnTo>
                <a:lnTo>
                  <a:pt x="365" y="100"/>
                </a:lnTo>
                <a:lnTo>
                  <a:pt x="386" y="94"/>
                </a:lnTo>
                <a:lnTo>
                  <a:pt x="407" y="88"/>
                </a:lnTo>
                <a:lnTo>
                  <a:pt x="428" y="82"/>
                </a:lnTo>
                <a:lnTo>
                  <a:pt x="450" y="77"/>
                </a:lnTo>
                <a:lnTo>
                  <a:pt x="469" y="71"/>
                </a:lnTo>
                <a:lnTo>
                  <a:pt x="488" y="67"/>
                </a:lnTo>
                <a:lnTo>
                  <a:pt x="507" y="61"/>
                </a:lnTo>
                <a:lnTo>
                  <a:pt x="524" y="57"/>
                </a:lnTo>
                <a:lnTo>
                  <a:pt x="542" y="52"/>
                </a:lnTo>
                <a:lnTo>
                  <a:pt x="559" y="48"/>
                </a:lnTo>
                <a:lnTo>
                  <a:pt x="574" y="44"/>
                </a:lnTo>
                <a:lnTo>
                  <a:pt x="590" y="40"/>
                </a:lnTo>
                <a:lnTo>
                  <a:pt x="605" y="36"/>
                </a:lnTo>
                <a:lnTo>
                  <a:pt x="619" y="32"/>
                </a:lnTo>
                <a:lnTo>
                  <a:pt x="632" y="29"/>
                </a:lnTo>
                <a:lnTo>
                  <a:pt x="645" y="25"/>
                </a:lnTo>
                <a:lnTo>
                  <a:pt x="657" y="23"/>
                </a:lnTo>
                <a:lnTo>
                  <a:pt x="668" y="19"/>
                </a:lnTo>
                <a:lnTo>
                  <a:pt x="680" y="17"/>
                </a:lnTo>
                <a:lnTo>
                  <a:pt x="690" y="15"/>
                </a:lnTo>
                <a:lnTo>
                  <a:pt x="699" y="11"/>
                </a:lnTo>
                <a:lnTo>
                  <a:pt x="709" y="9"/>
                </a:lnTo>
                <a:lnTo>
                  <a:pt x="716" y="7"/>
                </a:lnTo>
                <a:lnTo>
                  <a:pt x="724" y="6"/>
                </a:lnTo>
                <a:lnTo>
                  <a:pt x="732" y="4"/>
                </a:lnTo>
                <a:lnTo>
                  <a:pt x="738" y="4"/>
                </a:lnTo>
                <a:lnTo>
                  <a:pt x="743" y="2"/>
                </a:lnTo>
                <a:lnTo>
                  <a:pt x="749" y="2"/>
                </a:lnTo>
                <a:lnTo>
                  <a:pt x="753" y="0"/>
                </a:lnTo>
                <a:lnTo>
                  <a:pt x="757" y="0"/>
                </a:lnTo>
                <a:lnTo>
                  <a:pt x="761" y="0"/>
                </a:lnTo>
                <a:lnTo>
                  <a:pt x="762" y="0"/>
                </a:lnTo>
                <a:lnTo>
                  <a:pt x="768" y="0"/>
                </a:lnTo>
                <a:lnTo>
                  <a:pt x="774" y="0"/>
                </a:lnTo>
                <a:lnTo>
                  <a:pt x="780" y="0"/>
                </a:lnTo>
                <a:lnTo>
                  <a:pt x="789" y="2"/>
                </a:lnTo>
                <a:lnTo>
                  <a:pt x="797" y="2"/>
                </a:lnTo>
                <a:lnTo>
                  <a:pt x="809" y="6"/>
                </a:lnTo>
                <a:lnTo>
                  <a:pt x="818" y="7"/>
                </a:lnTo>
                <a:lnTo>
                  <a:pt x="832" y="11"/>
                </a:lnTo>
                <a:lnTo>
                  <a:pt x="837" y="15"/>
                </a:lnTo>
                <a:lnTo>
                  <a:pt x="843" y="17"/>
                </a:lnTo>
                <a:lnTo>
                  <a:pt x="849" y="19"/>
                </a:lnTo>
                <a:lnTo>
                  <a:pt x="853" y="21"/>
                </a:lnTo>
                <a:lnTo>
                  <a:pt x="860" y="27"/>
                </a:lnTo>
                <a:lnTo>
                  <a:pt x="866" y="31"/>
                </a:lnTo>
                <a:lnTo>
                  <a:pt x="872" y="36"/>
                </a:lnTo>
                <a:lnTo>
                  <a:pt x="874" y="40"/>
                </a:lnTo>
                <a:lnTo>
                  <a:pt x="876" y="46"/>
                </a:lnTo>
                <a:lnTo>
                  <a:pt x="878" y="50"/>
                </a:lnTo>
                <a:lnTo>
                  <a:pt x="876" y="55"/>
                </a:lnTo>
                <a:lnTo>
                  <a:pt x="874" y="61"/>
                </a:lnTo>
                <a:lnTo>
                  <a:pt x="872" y="69"/>
                </a:lnTo>
                <a:lnTo>
                  <a:pt x="870" y="77"/>
                </a:lnTo>
                <a:lnTo>
                  <a:pt x="866" y="84"/>
                </a:lnTo>
                <a:lnTo>
                  <a:pt x="862" y="94"/>
                </a:lnTo>
                <a:lnTo>
                  <a:pt x="855" y="113"/>
                </a:lnTo>
                <a:lnTo>
                  <a:pt x="849" y="117"/>
                </a:lnTo>
                <a:lnTo>
                  <a:pt x="841" y="123"/>
                </a:lnTo>
                <a:lnTo>
                  <a:pt x="837" y="125"/>
                </a:lnTo>
                <a:lnTo>
                  <a:pt x="832" y="127"/>
                </a:lnTo>
                <a:lnTo>
                  <a:pt x="828" y="130"/>
                </a:lnTo>
                <a:lnTo>
                  <a:pt x="822" y="132"/>
                </a:lnTo>
                <a:lnTo>
                  <a:pt x="816" y="136"/>
                </a:lnTo>
                <a:lnTo>
                  <a:pt x="809" y="138"/>
                </a:lnTo>
                <a:lnTo>
                  <a:pt x="801" y="142"/>
                </a:lnTo>
                <a:lnTo>
                  <a:pt x="793" y="144"/>
                </a:lnTo>
                <a:lnTo>
                  <a:pt x="786" y="148"/>
                </a:lnTo>
                <a:lnTo>
                  <a:pt x="778" y="151"/>
                </a:lnTo>
                <a:lnTo>
                  <a:pt x="768" y="153"/>
                </a:lnTo>
                <a:lnTo>
                  <a:pt x="759" y="157"/>
                </a:lnTo>
                <a:lnTo>
                  <a:pt x="749" y="161"/>
                </a:lnTo>
                <a:lnTo>
                  <a:pt x="738" y="163"/>
                </a:lnTo>
                <a:lnTo>
                  <a:pt x="726" y="167"/>
                </a:lnTo>
                <a:lnTo>
                  <a:pt x="715" y="171"/>
                </a:lnTo>
                <a:lnTo>
                  <a:pt x="703" y="174"/>
                </a:lnTo>
                <a:lnTo>
                  <a:pt x="690" y="176"/>
                </a:lnTo>
                <a:lnTo>
                  <a:pt x="676" y="180"/>
                </a:lnTo>
                <a:lnTo>
                  <a:pt x="663" y="184"/>
                </a:lnTo>
                <a:lnTo>
                  <a:pt x="649" y="188"/>
                </a:lnTo>
                <a:lnTo>
                  <a:pt x="634" y="192"/>
                </a:lnTo>
                <a:lnTo>
                  <a:pt x="619" y="194"/>
                </a:lnTo>
                <a:lnTo>
                  <a:pt x="603" y="198"/>
                </a:lnTo>
                <a:lnTo>
                  <a:pt x="588" y="201"/>
                </a:lnTo>
                <a:lnTo>
                  <a:pt x="571" y="205"/>
                </a:lnTo>
                <a:lnTo>
                  <a:pt x="553" y="209"/>
                </a:lnTo>
                <a:lnTo>
                  <a:pt x="536" y="213"/>
                </a:lnTo>
                <a:lnTo>
                  <a:pt x="500" y="219"/>
                </a:lnTo>
                <a:lnTo>
                  <a:pt x="465" y="226"/>
                </a:lnTo>
                <a:lnTo>
                  <a:pt x="432" y="232"/>
                </a:lnTo>
                <a:lnTo>
                  <a:pt x="402" y="238"/>
                </a:lnTo>
                <a:lnTo>
                  <a:pt x="371" y="244"/>
                </a:lnTo>
                <a:lnTo>
                  <a:pt x="342" y="249"/>
                </a:lnTo>
                <a:lnTo>
                  <a:pt x="315" y="253"/>
                </a:lnTo>
                <a:lnTo>
                  <a:pt x="290" y="257"/>
                </a:lnTo>
                <a:lnTo>
                  <a:pt x="265" y="261"/>
                </a:lnTo>
                <a:lnTo>
                  <a:pt x="242" y="265"/>
                </a:lnTo>
                <a:lnTo>
                  <a:pt x="221" y="269"/>
                </a:lnTo>
                <a:lnTo>
                  <a:pt x="200" y="270"/>
                </a:lnTo>
                <a:lnTo>
                  <a:pt x="183" y="272"/>
                </a:lnTo>
                <a:lnTo>
                  <a:pt x="166" y="274"/>
                </a:lnTo>
                <a:lnTo>
                  <a:pt x="150" y="274"/>
                </a:lnTo>
                <a:lnTo>
                  <a:pt x="137" y="274"/>
                </a:lnTo>
                <a:lnTo>
                  <a:pt x="125" y="274"/>
                </a:lnTo>
                <a:lnTo>
                  <a:pt x="114" y="274"/>
                </a:lnTo>
                <a:lnTo>
                  <a:pt x="102" y="274"/>
                </a:lnTo>
                <a:lnTo>
                  <a:pt x="91" y="274"/>
                </a:lnTo>
                <a:lnTo>
                  <a:pt x="81" y="274"/>
                </a:lnTo>
                <a:lnTo>
                  <a:pt x="71" y="274"/>
                </a:lnTo>
                <a:lnTo>
                  <a:pt x="62" y="274"/>
                </a:lnTo>
                <a:lnTo>
                  <a:pt x="54" y="272"/>
                </a:lnTo>
                <a:lnTo>
                  <a:pt x="47" y="272"/>
                </a:lnTo>
                <a:lnTo>
                  <a:pt x="39" y="272"/>
                </a:lnTo>
                <a:lnTo>
                  <a:pt x="33" y="270"/>
                </a:lnTo>
                <a:lnTo>
                  <a:pt x="27" y="270"/>
                </a:lnTo>
                <a:lnTo>
                  <a:pt x="22" y="269"/>
                </a:lnTo>
                <a:lnTo>
                  <a:pt x="18" y="267"/>
                </a:lnTo>
                <a:lnTo>
                  <a:pt x="14" y="265"/>
                </a:lnTo>
                <a:lnTo>
                  <a:pt x="12" y="2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缤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兵”第二横宜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矩形 3"/>
          <p:cNvSpPr/>
          <p:nvPr/>
        </p:nvSpPr>
        <p:spPr>
          <a:xfrm>
            <a:off x="212400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45"/>
          <p:cNvSpPr/>
          <p:nvPr/>
        </p:nvSpPr>
        <p:spPr>
          <a:xfrm>
            <a:off x="6161040" y="4373640"/>
            <a:ext cx="674640" cy="619200"/>
          </a:xfrm>
          <a:custGeom>
            <a:avLst/>
            <a:gdLst/>
            <a:ahLst/>
            <a:rect l="l" t="t" r="r" b="b"/>
            <a:pathLst>
              <a:path w="850" h="779">
                <a:moveTo>
                  <a:pt x="2" y="776"/>
                </a:moveTo>
                <a:lnTo>
                  <a:pt x="0" y="770"/>
                </a:lnTo>
                <a:lnTo>
                  <a:pt x="0" y="764"/>
                </a:lnTo>
                <a:lnTo>
                  <a:pt x="0" y="758"/>
                </a:lnTo>
                <a:lnTo>
                  <a:pt x="4" y="751"/>
                </a:lnTo>
                <a:lnTo>
                  <a:pt x="8" y="745"/>
                </a:lnTo>
                <a:lnTo>
                  <a:pt x="13" y="737"/>
                </a:lnTo>
                <a:lnTo>
                  <a:pt x="19" y="730"/>
                </a:lnTo>
                <a:lnTo>
                  <a:pt x="27" y="722"/>
                </a:lnTo>
                <a:lnTo>
                  <a:pt x="36" y="712"/>
                </a:lnTo>
                <a:lnTo>
                  <a:pt x="48" y="703"/>
                </a:lnTo>
                <a:lnTo>
                  <a:pt x="59" y="693"/>
                </a:lnTo>
                <a:lnTo>
                  <a:pt x="71" y="683"/>
                </a:lnTo>
                <a:lnTo>
                  <a:pt x="84" y="672"/>
                </a:lnTo>
                <a:lnTo>
                  <a:pt x="100" y="660"/>
                </a:lnTo>
                <a:lnTo>
                  <a:pt x="115" y="649"/>
                </a:lnTo>
                <a:lnTo>
                  <a:pt x="132" y="637"/>
                </a:lnTo>
                <a:lnTo>
                  <a:pt x="167" y="611"/>
                </a:lnTo>
                <a:lnTo>
                  <a:pt x="200" y="584"/>
                </a:lnTo>
                <a:lnTo>
                  <a:pt x="234" y="557"/>
                </a:lnTo>
                <a:lnTo>
                  <a:pt x="267" y="530"/>
                </a:lnTo>
                <a:lnTo>
                  <a:pt x="301" y="499"/>
                </a:lnTo>
                <a:lnTo>
                  <a:pt x="317" y="486"/>
                </a:lnTo>
                <a:lnTo>
                  <a:pt x="332" y="468"/>
                </a:lnTo>
                <a:lnTo>
                  <a:pt x="347" y="453"/>
                </a:lnTo>
                <a:lnTo>
                  <a:pt x="363" y="436"/>
                </a:lnTo>
                <a:lnTo>
                  <a:pt x="378" y="419"/>
                </a:lnTo>
                <a:lnTo>
                  <a:pt x="393" y="401"/>
                </a:lnTo>
                <a:lnTo>
                  <a:pt x="422" y="371"/>
                </a:lnTo>
                <a:lnTo>
                  <a:pt x="449" y="342"/>
                </a:lnTo>
                <a:lnTo>
                  <a:pt x="476" y="313"/>
                </a:lnTo>
                <a:lnTo>
                  <a:pt x="499" y="286"/>
                </a:lnTo>
                <a:lnTo>
                  <a:pt x="511" y="273"/>
                </a:lnTo>
                <a:lnTo>
                  <a:pt x="522" y="259"/>
                </a:lnTo>
                <a:lnTo>
                  <a:pt x="532" y="246"/>
                </a:lnTo>
                <a:lnTo>
                  <a:pt x="543" y="232"/>
                </a:lnTo>
                <a:lnTo>
                  <a:pt x="551" y="219"/>
                </a:lnTo>
                <a:lnTo>
                  <a:pt x="560" y="206"/>
                </a:lnTo>
                <a:lnTo>
                  <a:pt x="568" y="194"/>
                </a:lnTo>
                <a:lnTo>
                  <a:pt x="576" y="181"/>
                </a:lnTo>
                <a:lnTo>
                  <a:pt x="583" y="169"/>
                </a:lnTo>
                <a:lnTo>
                  <a:pt x="589" y="159"/>
                </a:lnTo>
                <a:lnTo>
                  <a:pt x="595" y="150"/>
                </a:lnTo>
                <a:lnTo>
                  <a:pt x="601" y="140"/>
                </a:lnTo>
                <a:lnTo>
                  <a:pt x="605" y="133"/>
                </a:lnTo>
                <a:lnTo>
                  <a:pt x="608" y="123"/>
                </a:lnTo>
                <a:lnTo>
                  <a:pt x="612" y="115"/>
                </a:lnTo>
                <a:lnTo>
                  <a:pt x="616" y="108"/>
                </a:lnTo>
                <a:lnTo>
                  <a:pt x="618" y="100"/>
                </a:lnTo>
                <a:lnTo>
                  <a:pt x="618" y="92"/>
                </a:lnTo>
                <a:lnTo>
                  <a:pt x="620" y="87"/>
                </a:lnTo>
                <a:lnTo>
                  <a:pt x="620" y="79"/>
                </a:lnTo>
                <a:lnTo>
                  <a:pt x="620" y="73"/>
                </a:lnTo>
                <a:lnTo>
                  <a:pt x="620" y="67"/>
                </a:lnTo>
                <a:lnTo>
                  <a:pt x="618" y="62"/>
                </a:lnTo>
                <a:lnTo>
                  <a:pt x="616" y="56"/>
                </a:lnTo>
                <a:lnTo>
                  <a:pt x="612" y="46"/>
                </a:lnTo>
                <a:lnTo>
                  <a:pt x="608" y="37"/>
                </a:lnTo>
                <a:lnTo>
                  <a:pt x="607" y="29"/>
                </a:lnTo>
                <a:lnTo>
                  <a:pt x="608" y="23"/>
                </a:lnTo>
                <a:lnTo>
                  <a:pt x="608" y="19"/>
                </a:lnTo>
                <a:lnTo>
                  <a:pt x="610" y="17"/>
                </a:lnTo>
                <a:lnTo>
                  <a:pt x="612" y="14"/>
                </a:lnTo>
                <a:lnTo>
                  <a:pt x="614" y="12"/>
                </a:lnTo>
                <a:lnTo>
                  <a:pt x="616" y="8"/>
                </a:lnTo>
                <a:lnTo>
                  <a:pt x="620" y="6"/>
                </a:lnTo>
                <a:lnTo>
                  <a:pt x="624" y="2"/>
                </a:lnTo>
                <a:lnTo>
                  <a:pt x="630" y="0"/>
                </a:lnTo>
                <a:lnTo>
                  <a:pt x="633" y="0"/>
                </a:lnTo>
                <a:lnTo>
                  <a:pt x="639" y="2"/>
                </a:lnTo>
                <a:lnTo>
                  <a:pt x="645" y="2"/>
                </a:lnTo>
                <a:lnTo>
                  <a:pt x="651" y="6"/>
                </a:lnTo>
                <a:lnTo>
                  <a:pt x="656" y="8"/>
                </a:lnTo>
                <a:lnTo>
                  <a:pt x="664" y="12"/>
                </a:lnTo>
                <a:lnTo>
                  <a:pt x="672" y="15"/>
                </a:lnTo>
                <a:lnTo>
                  <a:pt x="679" y="19"/>
                </a:lnTo>
                <a:lnTo>
                  <a:pt x="687" y="23"/>
                </a:lnTo>
                <a:lnTo>
                  <a:pt x="697" y="29"/>
                </a:lnTo>
                <a:lnTo>
                  <a:pt x="706" y="35"/>
                </a:lnTo>
                <a:lnTo>
                  <a:pt x="716" y="40"/>
                </a:lnTo>
                <a:lnTo>
                  <a:pt x="726" y="48"/>
                </a:lnTo>
                <a:lnTo>
                  <a:pt x="735" y="54"/>
                </a:lnTo>
                <a:lnTo>
                  <a:pt x="747" y="62"/>
                </a:lnTo>
                <a:lnTo>
                  <a:pt x="760" y="69"/>
                </a:lnTo>
                <a:lnTo>
                  <a:pt x="772" y="77"/>
                </a:lnTo>
                <a:lnTo>
                  <a:pt x="781" y="85"/>
                </a:lnTo>
                <a:lnTo>
                  <a:pt x="793" y="92"/>
                </a:lnTo>
                <a:lnTo>
                  <a:pt x="800" y="100"/>
                </a:lnTo>
                <a:lnTo>
                  <a:pt x="810" y="108"/>
                </a:lnTo>
                <a:lnTo>
                  <a:pt x="818" y="117"/>
                </a:lnTo>
                <a:lnTo>
                  <a:pt x="823" y="125"/>
                </a:lnTo>
                <a:lnTo>
                  <a:pt x="829" y="133"/>
                </a:lnTo>
                <a:lnTo>
                  <a:pt x="835" y="140"/>
                </a:lnTo>
                <a:lnTo>
                  <a:pt x="839" y="148"/>
                </a:lnTo>
                <a:lnTo>
                  <a:pt x="843" y="156"/>
                </a:lnTo>
                <a:lnTo>
                  <a:pt x="846" y="163"/>
                </a:lnTo>
                <a:lnTo>
                  <a:pt x="848" y="171"/>
                </a:lnTo>
                <a:lnTo>
                  <a:pt x="850" y="179"/>
                </a:lnTo>
                <a:lnTo>
                  <a:pt x="850" y="186"/>
                </a:lnTo>
                <a:lnTo>
                  <a:pt x="850" y="194"/>
                </a:lnTo>
                <a:lnTo>
                  <a:pt x="845" y="209"/>
                </a:lnTo>
                <a:lnTo>
                  <a:pt x="839" y="225"/>
                </a:lnTo>
                <a:lnTo>
                  <a:pt x="833" y="232"/>
                </a:lnTo>
                <a:lnTo>
                  <a:pt x="829" y="242"/>
                </a:lnTo>
                <a:lnTo>
                  <a:pt x="823" y="250"/>
                </a:lnTo>
                <a:lnTo>
                  <a:pt x="818" y="257"/>
                </a:lnTo>
                <a:lnTo>
                  <a:pt x="812" y="267"/>
                </a:lnTo>
                <a:lnTo>
                  <a:pt x="804" y="275"/>
                </a:lnTo>
                <a:lnTo>
                  <a:pt x="797" y="284"/>
                </a:lnTo>
                <a:lnTo>
                  <a:pt x="789" y="292"/>
                </a:lnTo>
                <a:lnTo>
                  <a:pt x="779" y="302"/>
                </a:lnTo>
                <a:lnTo>
                  <a:pt x="770" y="311"/>
                </a:lnTo>
                <a:lnTo>
                  <a:pt x="758" y="323"/>
                </a:lnTo>
                <a:lnTo>
                  <a:pt x="747" y="332"/>
                </a:lnTo>
                <a:lnTo>
                  <a:pt x="722" y="359"/>
                </a:lnTo>
                <a:lnTo>
                  <a:pt x="695" y="384"/>
                </a:lnTo>
                <a:lnTo>
                  <a:pt x="666" y="409"/>
                </a:lnTo>
                <a:lnTo>
                  <a:pt x="637" y="436"/>
                </a:lnTo>
                <a:lnTo>
                  <a:pt x="622" y="449"/>
                </a:lnTo>
                <a:lnTo>
                  <a:pt x="605" y="461"/>
                </a:lnTo>
                <a:lnTo>
                  <a:pt x="589" y="474"/>
                </a:lnTo>
                <a:lnTo>
                  <a:pt x="572" y="488"/>
                </a:lnTo>
                <a:lnTo>
                  <a:pt x="555" y="501"/>
                </a:lnTo>
                <a:lnTo>
                  <a:pt x="535" y="513"/>
                </a:lnTo>
                <a:lnTo>
                  <a:pt x="518" y="526"/>
                </a:lnTo>
                <a:lnTo>
                  <a:pt x="499" y="540"/>
                </a:lnTo>
                <a:lnTo>
                  <a:pt x="420" y="591"/>
                </a:lnTo>
                <a:lnTo>
                  <a:pt x="380" y="616"/>
                </a:lnTo>
                <a:lnTo>
                  <a:pt x="342" y="641"/>
                </a:lnTo>
                <a:lnTo>
                  <a:pt x="301" y="666"/>
                </a:lnTo>
                <a:lnTo>
                  <a:pt x="263" y="689"/>
                </a:lnTo>
                <a:lnTo>
                  <a:pt x="223" y="712"/>
                </a:lnTo>
                <a:lnTo>
                  <a:pt x="184" y="733"/>
                </a:lnTo>
                <a:lnTo>
                  <a:pt x="163" y="741"/>
                </a:lnTo>
                <a:lnTo>
                  <a:pt x="144" y="747"/>
                </a:lnTo>
                <a:lnTo>
                  <a:pt x="125" y="754"/>
                </a:lnTo>
                <a:lnTo>
                  <a:pt x="107" y="758"/>
                </a:lnTo>
                <a:lnTo>
                  <a:pt x="92" y="764"/>
                </a:lnTo>
                <a:lnTo>
                  <a:pt x="79" y="768"/>
                </a:lnTo>
                <a:lnTo>
                  <a:pt x="65" y="772"/>
                </a:lnTo>
                <a:lnTo>
                  <a:pt x="54" y="776"/>
                </a:lnTo>
                <a:lnTo>
                  <a:pt x="42" y="778"/>
                </a:lnTo>
                <a:lnTo>
                  <a:pt x="35" y="779"/>
                </a:lnTo>
                <a:lnTo>
                  <a:pt x="25" y="779"/>
                </a:lnTo>
                <a:lnTo>
                  <a:pt x="19" y="779"/>
                </a:lnTo>
                <a:lnTo>
                  <a:pt x="13" y="779"/>
                </a:lnTo>
                <a:lnTo>
                  <a:pt x="8" y="779"/>
                </a:lnTo>
                <a:lnTo>
                  <a:pt x="4" y="778"/>
                </a:lnTo>
                <a:lnTo>
                  <a:pt x="2" y="7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46"/>
          <p:cNvSpPr/>
          <p:nvPr/>
        </p:nvSpPr>
        <p:spPr>
          <a:xfrm>
            <a:off x="7045200" y="4413240"/>
            <a:ext cx="522360" cy="552600"/>
          </a:xfrm>
          <a:custGeom>
            <a:avLst/>
            <a:gdLst/>
            <a:ahLst/>
            <a:rect l="l" t="t" r="r" b="b"/>
            <a:pathLst>
              <a:path w="659" h="697">
                <a:moveTo>
                  <a:pt x="131" y="200"/>
                </a:moveTo>
                <a:lnTo>
                  <a:pt x="113" y="180"/>
                </a:lnTo>
                <a:lnTo>
                  <a:pt x="98" y="165"/>
                </a:lnTo>
                <a:lnTo>
                  <a:pt x="85" y="148"/>
                </a:lnTo>
                <a:lnTo>
                  <a:pt x="71" y="134"/>
                </a:lnTo>
                <a:lnTo>
                  <a:pt x="60" y="119"/>
                </a:lnTo>
                <a:lnTo>
                  <a:pt x="48" y="108"/>
                </a:lnTo>
                <a:lnTo>
                  <a:pt x="39" y="94"/>
                </a:lnTo>
                <a:lnTo>
                  <a:pt x="31" y="83"/>
                </a:lnTo>
                <a:lnTo>
                  <a:pt x="23" y="73"/>
                </a:lnTo>
                <a:lnTo>
                  <a:pt x="18" y="63"/>
                </a:lnTo>
                <a:lnTo>
                  <a:pt x="12" y="54"/>
                </a:lnTo>
                <a:lnTo>
                  <a:pt x="8" y="46"/>
                </a:lnTo>
                <a:lnTo>
                  <a:pt x="4" y="38"/>
                </a:lnTo>
                <a:lnTo>
                  <a:pt x="2" y="31"/>
                </a:lnTo>
                <a:lnTo>
                  <a:pt x="0" y="25"/>
                </a:ln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4" y="12"/>
                </a:lnTo>
                <a:lnTo>
                  <a:pt x="6" y="10"/>
                </a:lnTo>
                <a:lnTo>
                  <a:pt x="12" y="8"/>
                </a:lnTo>
                <a:lnTo>
                  <a:pt x="16" y="6"/>
                </a:lnTo>
                <a:lnTo>
                  <a:pt x="21" y="4"/>
                </a:lnTo>
                <a:lnTo>
                  <a:pt x="29" y="2"/>
                </a:lnTo>
                <a:lnTo>
                  <a:pt x="37" y="0"/>
                </a:lnTo>
                <a:lnTo>
                  <a:pt x="44" y="0"/>
                </a:lnTo>
                <a:lnTo>
                  <a:pt x="56" y="0"/>
                </a:lnTo>
                <a:lnTo>
                  <a:pt x="65" y="0"/>
                </a:lnTo>
                <a:lnTo>
                  <a:pt x="77" y="0"/>
                </a:lnTo>
                <a:lnTo>
                  <a:pt x="89" y="2"/>
                </a:lnTo>
                <a:lnTo>
                  <a:pt x="102" y="4"/>
                </a:lnTo>
                <a:lnTo>
                  <a:pt x="117" y="6"/>
                </a:lnTo>
                <a:lnTo>
                  <a:pt x="131" y="10"/>
                </a:lnTo>
                <a:lnTo>
                  <a:pt x="146" y="13"/>
                </a:lnTo>
                <a:lnTo>
                  <a:pt x="161" y="17"/>
                </a:lnTo>
                <a:lnTo>
                  <a:pt x="179" y="23"/>
                </a:lnTo>
                <a:lnTo>
                  <a:pt x="194" y="31"/>
                </a:lnTo>
                <a:lnTo>
                  <a:pt x="211" y="37"/>
                </a:lnTo>
                <a:lnTo>
                  <a:pt x="227" y="46"/>
                </a:lnTo>
                <a:lnTo>
                  <a:pt x="244" y="54"/>
                </a:lnTo>
                <a:lnTo>
                  <a:pt x="261" y="63"/>
                </a:lnTo>
                <a:lnTo>
                  <a:pt x="280" y="73"/>
                </a:lnTo>
                <a:lnTo>
                  <a:pt x="298" y="85"/>
                </a:lnTo>
                <a:lnTo>
                  <a:pt x="315" y="94"/>
                </a:lnTo>
                <a:lnTo>
                  <a:pt x="334" y="106"/>
                </a:lnTo>
                <a:lnTo>
                  <a:pt x="353" y="119"/>
                </a:lnTo>
                <a:lnTo>
                  <a:pt x="392" y="144"/>
                </a:lnTo>
                <a:lnTo>
                  <a:pt x="411" y="157"/>
                </a:lnTo>
                <a:lnTo>
                  <a:pt x="428" y="171"/>
                </a:lnTo>
                <a:lnTo>
                  <a:pt x="447" y="184"/>
                </a:lnTo>
                <a:lnTo>
                  <a:pt x="465" y="198"/>
                </a:lnTo>
                <a:lnTo>
                  <a:pt x="482" y="213"/>
                </a:lnTo>
                <a:lnTo>
                  <a:pt x="497" y="227"/>
                </a:lnTo>
                <a:lnTo>
                  <a:pt x="513" y="242"/>
                </a:lnTo>
                <a:lnTo>
                  <a:pt x="526" y="257"/>
                </a:lnTo>
                <a:lnTo>
                  <a:pt x="542" y="271"/>
                </a:lnTo>
                <a:lnTo>
                  <a:pt x="553" y="286"/>
                </a:lnTo>
                <a:lnTo>
                  <a:pt x="566" y="301"/>
                </a:lnTo>
                <a:lnTo>
                  <a:pt x="578" y="317"/>
                </a:lnTo>
                <a:lnTo>
                  <a:pt x="588" y="332"/>
                </a:lnTo>
                <a:lnTo>
                  <a:pt x="597" y="347"/>
                </a:lnTo>
                <a:lnTo>
                  <a:pt x="607" y="363"/>
                </a:lnTo>
                <a:lnTo>
                  <a:pt x="614" y="378"/>
                </a:lnTo>
                <a:lnTo>
                  <a:pt x="620" y="394"/>
                </a:lnTo>
                <a:lnTo>
                  <a:pt x="626" y="409"/>
                </a:lnTo>
                <a:lnTo>
                  <a:pt x="634" y="424"/>
                </a:lnTo>
                <a:lnTo>
                  <a:pt x="637" y="438"/>
                </a:lnTo>
                <a:lnTo>
                  <a:pt x="643" y="453"/>
                </a:lnTo>
                <a:lnTo>
                  <a:pt x="647" y="466"/>
                </a:lnTo>
                <a:lnTo>
                  <a:pt x="649" y="480"/>
                </a:lnTo>
                <a:lnTo>
                  <a:pt x="653" y="493"/>
                </a:lnTo>
                <a:lnTo>
                  <a:pt x="655" y="505"/>
                </a:lnTo>
                <a:lnTo>
                  <a:pt x="657" y="518"/>
                </a:lnTo>
                <a:lnTo>
                  <a:pt x="657" y="530"/>
                </a:lnTo>
                <a:lnTo>
                  <a:pt x="659" y="541"/>
                </a:lnTo>
                <a:lnTo>
                  <a:pt x="657" y="553"/>
                </a:lnTo>
                <a:lnTo>
                  <a:pt x="657" y="564"/>
                </a:lnTo>
                <a:lnTo>
                  <a:pt x="655" y="576"/>
                </a:lnTo>
                <a:lnTo>
                  <a:pt x="653" y="587"/>
                </a:lnTo>
                <a:lnTo>
                  <a:pt x="651" y="599"/>
                </a:lnTo>
                <a:lnTo>
                  <a:pt x="647" y="610"/>
                </a:lnTo>
                <a:lnTo>
                  <a:pt x="645" y="622"/>
                </a:lnTo>
                <a:lnTo>
                  <a:pt x="643" y="632"/>
                </a:lnTo>
                <a:lnTo>
                  <a:pt x="641" y="639"/>
                </a:lnTo>
                <a:lnTo>
                  <a:pt x="637" y="649"/>
                </a:lnTo>
                <a:lnTo>
                  <a:pt x="636" y="657"/>
                </a:lnTo>
                <a:lnTo>
                  <a:pt x="634" y="662"/>
                </a:lnTo>
                <a:lnTo>
                  <a:pt x="630" y="668"/>
                </a:lnTo>
                <a:lnTo>
                  <a:pt x="628" y="674"/>
                </a:lnTo>
                <a:lnTo>
                  <a:pt x="626" y="680"/>
                </a:lnTo>
                <a:lnTo>
                  <a:pt x="624" y="683"/>
                </a:lnTo>
                <a:lnTo>
                  <a:pt x="620" y="687"/>
                </a:lnTo>
                <a:lnTo>
                  <a:pt x="618" y="691"/>
                </a:lnTo>
                <a:lnTo>
                  <a:pt x="614" y="697"/>
                </a:lnTo>
                <a:lnTo>
                  <a:pt x="609" y="697"/>
                </a:lnTo>
                <a:lnTo>
                  <a:pt x="601" y="695"/>
                </a:lnTo>
                <a:lnTo>
                  <a:pt x="595" y="691"/>
                </a:lnTo>
                <a:lnTo>
                  <a:pt x="586" y="687"/>
                </a:lnTo>
                <a:lnTo>
                  <a:pt x="578" y="680"/>
                </a:lnTo>
                <a:lnTo>
                  <a:pt x="566" y="674"/>
                </a:lnTo>
                <a:lnTo>
                  <a:pt x="557" y="664"/>
                </a:lnTo>
                <a:lnTo>
                  <a:pt x="545" y="655"/>
                </a:lnTo>
                <a:lnTo>
                  <a:pt x="532" y="643"/>
                </a:lnTo>
                <a:lnTo>
                  <a:pt x="518" y="630"/>
                </a:lnTo>
                <a:lnTo>
                  <a:pt x="503" y="614"/>
                </a:lnTo>
                <a:lnTo>
                  <a:pt x="488" y="599"/>
                </a:lnTo>
                <a:lnTo>
                  <a:pt x="472" y="580"/>
                </a:lnTo>
                <a:lnTo>
                  <a:pt x="455" y="561"/>
                </a:lnTo>
                <a:lnTo>
                  <a:pt x="436" y="539"/>
                </a:lnTo>
                <a:lnTo>
                  <a:pt x="419" y="518"/>
                </a:lnTo>
                <a:lnTo>
                  <a:pt x="398" y="493"/>
                </a:lnTo>
                <a:lnTo>
                  <a:pt x="380" y="472"/>
                </a:lnTo>
                <a:lnTo>
                  <a:pt x="361" y="449"/>
                </a:lnTo>
                <a:lnTo>
                  <a:pt x="342" y="428"/>
                </a:lnTo>
                <a:lnTo>
                  <a:pt x="323" y="407"/>
                </a:lnTo>
                <a:lnTo>
                  <a:pt x="305" y="388"/>
                </a:lnTo>
                <a:lnTo>
                  <a:pt x="269" y="347"/>
                </a:lnTo>
                <a:lnTo>
                  <a:pt x="234" y="309"/>
                </a:lnTo>
                <a:lnTo>
                  <a:pt x="198" y="273"/>
                </a:lnTo>
                <a:lnTo>
                  <a:pt x="163" y="236"/>
                </a:lnTo>
                <a:lnTo>
                  <a:pt x="131" y="2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7"/>
          <p:cNvSpPr/>
          <p:nvPr/>
        </p:nvSpPr>
        <p:spPr>
          <a:xfrm>
            <a:off x="6276960" y="4098960"/>
            <a:ext cx="1449360" cy="253800"/>
          </a:xfrm>
          <a:custGeom>
            <a:avLst/>
            <a:gdLst/>
            <a:ahLst/>
            <a:rect l="l" t="t" r="r" b="b"/>
            <a:pathLst>
              <a:path w="1825" h="318">
                <a:moveTo>
                  <a:pt x="52" y="276"/>
                </a:moveTo>
                <a:lnTo>
                  <a:pt x="44" y="270"/>
                </a:lnTo>
                <a:lnTo>
                  <a:pt x="38" y="266"/>
                </a:lnTo>
                <a:lnTo>
                  <a:pt x="32" y="261"/>
                </a:lnTo>
                <a:lnTo>
                  <a:pt x="27" y="255"/>
                </a:lnTo>
                <a:lnTo>
                  <a:pt x="21" y="249"/>
                </a:lnTo>
                <a:lnTo>
                  <a:pt x="17" y="245"/>
                </a:lnTo>
                <a:lnTo>
                  <a:pt x="13" y="240"/>
                </a:lnTo>
                <a:lnTo>
                  <a:pt x="11" y="234"/>
                </a:lnTo>
                <a:lnTo>
                  <a:pt x="6" y="224"/>
                </a:lnTo>
                <a:lnTo>
                  <a:pt x="2" y="215"/>
                </a:lnTo>
                <a:lnTo>
                  <a:pt x="0" y="203"/>
                </a:lnTo>
                <a:lnTo>
                  <a:pt x="0" y="194"/>
                </a:lnTo>
                <a:lnTo>
                  <a:pt x="92" y="182"/>
                </a:lnTo>
                <a:lnTo>
                  <a:pt x="182" y="172"/>
                </a:lnTo>
                <a:lnTo>
                  <a:pt x="272" y="163"/>
                </a:lnTo>
                <a:lnTo>
                  <a:pt x="361" y="151"/>
                </a:lnTo>
                <a:lnTo>
                  <a:pt x="449" y="142"/>
                </a:lnTo>
                <a:lnTo>
                  <a:pt x="535" y="132"/>
                </a:lnTo>
                <a:lnTo>
                  <a:pt x="622" y="121"/>
                </a:lnTo>
                <a:lnTo>
                  <a:pt x="704" y="111"/>
                </a:lnTo>
                <a:lnTo>
                  <a:pt x="745" y="105"/>
                </a:lnTo>
                <a:lnTo>
                  <a:pt x="783" y="99"/>
                </a:lnTo>
                <a:lnTo>
                  <a:pt x="819" y="96"/>
                </a:lnTo>
                <a:lnTo>
                  <a:pt x="858" y="90"/>
                </a:lnTo>
                <a:lnTo>
                  <a:pt x="894" y="84"/>
                </a:lnTo>
                <a:lnTo>
                  <a:pt x="931" y="78"/>
                </a:lnTo>
                <a:lnTo>
                  <a:pt x="965" y="74"/>
                </a:lnTo>
                <a:lnTo>
                  <a:pt x="1000" y="69"/>
                </a:lnTo>
                <a:lnTo>
                  <a:pt x="1069" y="59"/>
                </a:lnTo>
                <a:lnTo>
                  <a:pt x="1136" y="48"/>
                </a:lnTo>
                <a:lnTo>
                  <a:pt x="1203" y="38"/>
                </a:lnTo>
                <a:lnTo>
                  <a:pt x="1267" y="28"/>
                </a:lnTo>
                <a:lnTo>
                  <a:pt x="1297" y="25"/>
                </a:lnTo>
                <a:lnTo>
                  <a:pt x="1328" y="23"/>
                </a:lnTo>
                <a:lnTo>
                  <a:pt x="1355" y="19"/>
                </a:lnTo>
                <a:lnTo>
                  <a:pt x="1380" y="17"/>
                </a:lnTo>
                <a:lnTo>
                  <a:pt x="1403" y="15"/>
                </a:lnTo>
                <a:lnTo>
                  <a:pt x="1426" y="13"/>
                </a:lnTo>
                <a:lnTo>
                  <a:pt x="1445" y="11"/>
                </a:lnTo>
                <a:lnTo>
                  <a:pt x="1464" y="7"/>
                </a:lnTo>
                <a:lnTo>
                  <a:pt x="1482" y="5"/>
                </a:lnTo>
                <a:lnTo>
                  <a:pt x="1497" y="5"/>
                </a:lnTo>
                <a:lnTo>
                  <a:pt x="1510" y="3"/>
                </a:lnTo>
                <a:lnTo>
                  <a:pt x="1522" y="2"/>
                </a:lnTo>
                <a:lnTo>
                  <a:pt x="1533" y="2"/>
                </a:lnTo>
                <a:lnTo>
                  <a:pt x="1541" y="0"/>
                </a:lnTo>
                <a:lnTo>
                  <a:pt x="1549" y="0"/>
                </a:lnTo>
                <a:lnTo>
                  <a:pt x="1555" y="0"/>
                </a:lnTo>
                <a:lnTo>
                  <a:pt x="1558" y="0"/>
                </a:lnTo>
                <a:lnTo>
                  <a:pt x="1560" y="0"/>
                </a:lnTo>
                <a:lnTo>
                  <a:pt x="1566" y="2"/>
                </a:lnTo>
                <a:lnTo>
                  <a:pt x="1572" y="2"/>
                </a:lnTo>
                <a:lnTo>
                  <a:pt x="1578" y="3"/>
                </a:lnTo>
                <a:lnTo>
                  <a:pt x="1585" y="5"/>
                </a:lnTo>
                <a:lnTo>
                  <a:pt x="1593" y="7"/>
                </a:lnTo>
                <a:lnTo>
                  <a:pt x="1601" y="9"/>
                </a:lnTo>
                <a:lnTo>
                  <a:pt x="1610" y="13"/>
                </a:lnTo>
                <a:lnTo>
                  <a:pt x="1618" y="15"/>
                </a:lnTo>
                <a:lnTo>
                  <a:pt x="1629" y="19"/>
                </a:lnTo>
                <a:lnTo>
                  <a:pt x="1639" y="23"/>
                </a:lnTo>
                <a:lnTo>
                  <a:pt x="1662" y="32"/>
                </a:lnTo>
                <a:lnTo>
                  <a:pt x="1685" y="42"/>
                </a:lnTo>
                <a:lnTo>
                  <a:pt x="1697" y="46"/>
                </a:lnTo>
                <a:lnTo>
                  <a:pt x="1708" y="51"/>
                </a:lnTo>
                <a:lnTo>
                  <a:pt x="1720" y="57"/>
                </a:lnTo>
                <a:lnTo>
                  <a:pt x="1729" y="63"/>
                </a:lnTo>
                <a:lnTo>
                  <a:pt x="1739" y="67"/>
                </a:lnTo>
                <a:lnTo>
                  <a:pt x="1748" y="73"/>
                </a:lnTo>
                <a:lnTo>
                  <a:pt x="1758" y="78"/>
                </a:lnTo>
                <a:lnTo>
                  <a:pt x="1766" y="82"/>
                </a:lnTo>
                <a:lnTo>
                  <a:pt x="1781" y="94"/>
                </a:lnTo>
                <a:lnTo>
                  <a:pt x="1794" y="103"/>
                </a:lnTo>
                <a:lnTo>
                  <a:pt x="1806" y="113"/>
                </a:lnTo>
                <a:lnTo>
                  <a:pt x="1816" y="124"/>
                </a:lnTo>
                <a:lnTo>
                  <a:pt x="1818" y="132"/>
                </a:lnTo>
                <a:lnTo>
                  <a:pt x="1819" y="138"/>
                </a:lnTo>
                <a:lnTo>
                  <a:pt x="1821" y="146"/>
                </a:lnTo>
                <a:lnTo>
                  <a:pt x="1823" y="151"/>
                </a:lnTo>
                <a:lnTo>
                  <a:pt x="1825" y="155"/>
                </a:lnTo>
                <a:lnTo>
                  <a:pt x="1825" y="161"/>
                </a:lnTo>
                <a:lnTo>
                  <a:pt x="1825" y="169"/>
                </a:lnTo>
                <a:lnTo>
                  <a:pt x="1825" y="176"/>
                </a:lnTo>
                <a:lnTo>
                  <a:pt x="1823" y="182"/>
                </a:lnTo>
                <a:lnTo>
                  <a:pt x="1819" y="188"/>
                </a:lnTo>
                <a:lnTo>
                  <a:pt x="1816" y="194"/>
                </a:lnTo>
                <a:lnTo>
                  <a:pt x="1812" y="195"/>
                </a:lnTo>
                <a:lnTo>
                  <a:pt x="1806" y="197"/>
                </a:lnTo>
                <a:lnTo>
                  <a:pt x="1798" y="199"/>
                </a:lnTo>
                <a:lnTo>
                  <a:pt x="1791" y="201"/>
                </a:lnTo>
                <a:lnTo>
                  <a:pt x="1783" y="203"/>
                </a:lnTo>
                <a:lnTo>
                  <a:pt x="1775" y="203"/>
                </a:lnTo>
                <a:lnTo>
                  <a:pt x="1766" y="203"/>
                </a:lnTo>
                <a:lnTo>
                  <a:pt x="1756" y="203"/>
                </a:lnTo>
                <a:lnTo>
                  <a:pt x="1745" y="203"/>
                </a:lnTo>
                <a:lnTo>
                  <a:pt x="1733" y="203"/>
                </a:lnTo>
                <a:lnTo>
                  <a:pt x="1722" y="203"/>
                </a:lnTo>
                <a:lnTo>
                  <a:pt x="1708" y="201"/>
                </a:lnTo>
                <a:lnTo>
                  <a:pt x="1693" y="199"/>
                </a:lnTo>
                <a:lnTo>
                  <a:pt x="1679" y="197"/>
                </a:lnTo>
                <a:lnTo>
                  <a:pt x="1662" y="195"/>
                </a:lnTo>
                <a:lnTo>
                  <a:pt x="1647" y="194"/>
                </a:lnTo>
                <a:lnTo>
                  <a:pt x="1612" y="188"/>
                </a:lnTo>
                <a:lnTo>
                  <a:pt x="1578" y="186"/>
                </a:lnTo>
                <a:lnTo>
                  <a:pt x="1545" y="182"/>
                </a:lnTo>
                <a:lnTo>
                  <a:pt x="1512" y="182"/>
                </a:lnTo>
                <a:lnTo>
                  <a:pt x="1482" y="180"/>
                </a:lnTo>
                <a:lnTo>
                  <a:pt x="1451" y="180"/>
                </a:lnTo>
                <a:lnTo>
                  <a:pt x="1437" y="180"/>
                </a:lnTo>
                <a:lnTo>
                  <a:pt x="1424" y="180"/>
                </a:lnTo>
                <a:lnTo>
                  <a:pt x="1411" y="180"/>
                </a:lnTo>
                <a:lnTo>
                  <a:pt x="1397" y="180"/>
                </a:lnTo>
                <a:lnTo>
                  <a:pt x="1391" y="180"/>
                </a:lnTo>
                <a:lnTo>
                  <a:pt x="1384" y="180"/>
                </a:lnTo>
                <a:lnTo>
                  <a:pt x="1376" y="180"/>
                </a:lnTo>
                <a:lnTo>
                  <a:pt x="1368" y="180"/>
                </a:lnTo>
                <a:lnTo>
                  <a:pt x="1361" y="180"/>
                </a:lnTo>
                <a:lnTo>
                  <a:pt x="1351" y="180"/>
                </a:lnTo>
                <a:lnTo>
                  <a:pt x="1342" y="182"/>
                </a:lnTo>
                <a:lnTo>
                  <a:pt x="1332" y="182"/>
                </a:lnTo>
                <a:lnTo>
                  <a:pt x="1320" y="182"/>
                </a:lnTo>
                <a:lnTo>
                  <a:pt x="1311" y="184"/>
                </a:lnTo>
                <a:lnTo>
                  <a:pt x="1299" y="184"/>
                </a:lnTo>
                <a:lnTo>
                  <a:pt x="1286" y="186"/>
                </a:lnTo>
                <a:lnTo>
                  <a:pt x="1274" y="186"/>
                </a:lnTo>
                <a:lnTo>
                  <a:pt x="1261" y="188"/>
                </a:lnTo>
                <a:lnTo>
                  <a:pt x="1247" y="188"/>
                </a:lnTo>
                <a:lnTo>
                  <a:pt x="1232" y="190"/>
                </a:lnTo>
                <a:lnTo>
                  <a:pt x="1219" y="192"/>
                </a:lnTo>
                <a:lnTo>
                  <a:pt x="1203" y="192"/>
                </a:lnTo>
                <a:lnTo>
                  <a:pt x="1188" y="194"/>
                </a:lnTo>
                <a:lnTo>
                  <a:pt x="1171" y="195"/>
                </a:lnTo>
                <a:lnTo>
                  <a:pt x="1155" y="197"/>
                </a:lnTo>
                <a:lnTo>
                  <a:pt x="1138" y="199"/>
                </a:lnTo>
                <a:lnTo>
                  <a:pt x="1119" y="201"/>
                </a:lnTo>
                <a:lnTo>
                  <a:pt x="1102" y="203"/>
                </a:lnTo>
                <a:lnTo>
                  <a:pt x="1082" y="205"/>
                </a:lnTo>
                <a:lnTo>
                  <a:pt x="1063" y="207"/>
                </a:lnTo>
                <a:lnTo>
                  <a:pt x="1025" y="211"/>
                </a:lnTo>
                <a:lnTo>
                  <a:pt x="983" y="217"/>
                </a:lnTo>
                <a:lnTo>
                  <a:pt x="940" y="220"/>
                </a:lnTo>
                <a:lnTo>
                  <a:pt x="896" y="226"/>
                </a:lnTo>
                <a:lnTo>
                  <a:pt x="854" y="232"/>
                </a:lnTo>
                <a:lnTo>
                  <a:pt x="814" y="236"/>
                </a:lnTo>
                <a:lnTo>
                  <a:pt x="773" y="241"/>
                </a:lnTo>
                <a:lnTo>
                  <a:pt x="735" y="247"/>
                </a:lnTo>
                <a:lnTo>
                  <a:pt x="697" y="251"/>
                </a:lnTo>
                <a:lnTo>
                  <a:pt x="662" y="257"/>
                </a:lnTo>
                <a:lnTo>
                  <a:pt x="626" y="261"/>
                </a:lnTo>
                <a:lnTo>
                  <a:pt x="593" y="265"/>
                </a:lnTo>
                <a:lnTo>
                  <a:pt x="560" y="270"/>
                </a:lnTo>
                <a:lnTo>
                  <a:pt x="530" y="274"/>
                </a:lnTo>
                <a:lnTo>
                  <a:pt x="499" y="278"/>
                </a:lnTo>
                <a:lnTo>
                  <a:pt x="470" y="282"/>
                </a:lnTo>
                <a:lnTo>
                  <a:pt x="443" y="284"/>
                </a:lnTo>
                <a:lnTo>
                  <a:pt x="416" y="288"/>
                </a:lnTo>
                <a:lnTo>
                  <a:pt x="391" y="289"/>
                </a:lnTo>
                <a:lnTo>
                  <a:pt x="366" y="293"/>
                </a:lnTo>
                <a:lnTo>
                  <a:pt x="345" y="295"/>
                </a:lnTo>
                <a:lnTo>
                  <a:pt x="322" y="297"/>
                </a:lnTo>
                <a:lnTo>
                  <a:pt x="303" y="301"/>
                </a:lnTo>
                <a:lnTo>
                  <a:pt x="284" y="303"/>
                </a:lnTo>
                <a:lnTo>
                  <a:pt x="267" y="305"/>
                </a:lnTo>
                <a:lnTo>
                  <a:pt x="249" y="307"/>
                </a:lnTo>
                <a:lnTo>
                  <a:pt x="234" y="309"/>
                </a:lnTo>
                <a:lnTo>
                  <a:pt x="221" y="311"/>
                </a:lnTo>
                <a:lnTo>
                  <a:pt x="207" y="313"/>
                </a:lnTo>
                <a:lnTo>
                  <a:pt x="196" y="314"/>
                </a:lnTo>
                <a:lnTo>
                  <a:pt x="186" y="316"/>
                </a:lnTo>
                <a:lnTo>
                  <a:pt x="176" y="316"/>
                </a:lnTo>
                <a:lnTo>
                  <a:pt x="169" y="316"/>
                </a:lnTo>
                <a:lnTo>
                  <a:pt x="161" y="318"/>
                </a:lnTo>
                <a:lnTo>
                  <a:pt x="155" y="318"/>
                </a:lnTo>
                <a:lnTo>
                  <a:pt x="146" y="316"/>
                </a:lnTo>
                <a:lnTo>
                  <a:pt x="134" y="314"/>
                </a:lnTo>
                <a:lnTo>
                  <a:pt x="121" y="313"/>
                </a:lnTo>
                <a:lnTo>
                  <a:pt x="107" y="307"/>
                </a:lnTo>
                <a:lnTo>
                  <a:pt x="94" y="301"/>
                </a:lnTo>
                <a:lnTo>
                  <a:pt x="80" y="295"/>
                </a:lnTo>
                <a:lnTo>
                  <a:pt x="65" y="286"/>
                </a:lnTo>
                <a:lnTo>
                  <a:pt x="52" y="2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8"/>
          <p:cNvSpPr/>
          <p:nvPr/>
        </p:nvSpPr>
        <p:spPr>
          <a:xfrm>
            <a:off x="6481800" y="3568680"/>
            <a:ext cx="198360" cy="706320"/>
          </a:xfrm>
          <a:custGeom>
            <a:avLst/>
            <a:gdLst/>
            <a:ahLst/>
            <a:rect l="l" t="t" r="r" b="b"/>
            <a:pathLst>
              <a:path w="251" h="888">
                <a:moveTo>
                  <a:pt x="227" y="46"/>
                </a:moveTo>
                <a:lnTo>
                  <a:pt x="227" y="57"/>
                </a:lnTo>
                <a:lnTo>
                  <a:pt x="227" y="71"/>
                </a:lnTo>
                <a:lnTo>
                  <a:pt x="227" y="84"/>
                </a:lnTo>
                <a:lnTo>
                  <a:pt x="227" y="99"/>
                </a:lnTo>
                <a:lnTo>
                  <a:pt x="227" y="115"/>
                </a:lnTo>
                <a:lnTo>
                  <a:pt x="227" y="132"/>
                </a:lnTo>
                <a:lnTo>
                  <a:pt x="227" y="149"/>
                </a:lnTo>
                <a:lnTo>
                  <a:pt x="228" y="167"/>
                </a:lnTo>
                <a:lnTo>
                  <a:pt x="228" y="186"/>
                </a:lnTo>
                <a:lnTo>
                  <a:pt x="228" y="207"/>
                </a:lnTo>
                <a:lnTo>
                  <a:pt x="230" y="228"/>
                </a:lnTo>
                <a:lnTo>
                  <a:pt x="230" y="249"/>
                </a:lnTo>
                <a:lnTo>
                  <a:pt x="230" y="272"/>
                </a:lnTo>
                <a:lnTo>
                  <a:pt x="232" y="297"/>
                </a:lnTo>
                <a:lnTo>
                  <a:pt x="232" y="320"/>
                </a:lnTo>
                <a:lnTo>
                  <a:pt x="234" y="347"/>
                </a:lnTo>
                <a:lnTo>
                  <a:pt x="234" y="372"/>
                </a:lnTo>
                <a:lnTo>
                  <a:pt x="236" y="401"/>
                </a:lnTo>
                <a:lnTo>
                  <a:pt x="236" y="428"/>
                </a:lnTo>
                <a:lnTo>
                  <a:pt x="238" y="456"/>
                </a:lnTo>
                <a:lnTo>
                  <a:pt x="238" y="487"/>
                </a:lnTo>
                <a:lnTo>
                  <a:pt x="240" y="518"/>
                </a:lnTo>
                <a:lnTo>
                  <a:pt x="242" y="549"/>
                </a:lnTo>
                <a:lnTo>
                  <a:pt x="242" y="581"/>
                </a:lnTo>
                <a:lnTo>
                  <a:pt x="244" y="616"/>
                </a:lnTo>
                <a:lnTo>
                  <a:pt x="244" y="650"/>
                </a:lnTo>
                <a:lnTo>
                  <a:pt x="246" y="685"/>
                </a:lnTo>
                <a:lnTo>
                  <a:pt x="248" y="721"/>
                </a:lnTo>
                <a:lnTo>
                  <a:pt x="248" y="758"/>
                </a:lnTo>
                <a:lnTo>
                  <a:pt x="250" y="796"/>
                </a:lnTo>
                <a:lnTo>
                  <a:pt x="250" y="835"/>
                </a:lnTo>
                <a:lnTo>
                  <a:pt x="251" y="875"/>
                </a:lnTo>
                <a:lnTo>
                  <a:pt x="192" y="883"/>
                </a:lnTo>
                <a:lnTo>
                  <a:pt x="134" y="888"/>
                </a:lnTo>
                <a:lnTo>
                  <a:pt x="131" y="846"/>
                </a:lnTo>
                <a:lnTo>
                  <a:pt x="127" y="806"/>
                </a:lnTo>
                <a:lnTo>
                  <a:pt x="123" y="766"/>
                </a:lnTo>
                <a:lnTo>
                  <a:pt x="121" y="727"/>
                </a:lnTo>
                <a:lnTo>
                  <a:pt x="117" y="691"/>
                </a:lnTo>
                <a:lnTo>
                  <a:pt x="113" y="654"/>
                </a:lnTo>
                <a:lnTo>
                  <a:pt x="109" y="620"/>
                </a:lnTo>
                <a:lnTo>
                  <a:pt x="108" y="585"/>
                </a:lnTo>
                <a:lnTo>
                  <a:pt x="104" y="552"/>
                </a:lnTo>
                <a:lnTo>
                  <a:pt x="100" y="522"/>
                </a:lnTo>
                <a:lnTo>
                  <a:pt x="98" y="491"/>
                </a:lnTo>
                <a:lnTo>
                  <a:pt x="94" y="462"/>
                </a:lnTo>
                <a:lnTo>
                  <a:pt x="90" y="433"/>
                </a:lnTo>
                <a:lnTo>
                  <a:pt x="88" y="407"/>
                </a:lnTo>
                <a:lnTo>
                  <a:pt x="84" y="382"/>
                </a:lnTo>
                <a:lnTo>
                  <a:pt x="83" y="357"/>
                </a:lnTo>
                <a:lnTo>
                  <a:pt x="79" y="334"/>
                </a:lnTo>
                <a:lnTo>
                  <a:pt x="75" y="311"/>
                </a:lnTo>
                <a:lnTo>
                  <a:pt x="73" y="290"/>
                </a:lnTo>
                <a:lnTo>
                  <a:pt x="69" y="270"/>
                </a:lnTo>
                <a:lnTo>
                  <a:pt x="67" y="251"/>
                </a:lnTo>
                <a:lnTo>
                  <a:pt x="63" y="234"/>
                </a:lnTo>
                <a:lnTo>
                  <a:pt x="60" y="217"/>
                </a:lnTo>
                <a:lnTo>
                  <a:pt x="58" y="201"/>
                </a:lnTo>
                <a:lnTo>
                  <a:pt x="54" y="186"/>
                </a:lnTo>
                <a:lnTo>
                  <a:pt x="50" y="172"/>
                </a:lnTo>
                <a:lnTo>
                  <a:pt x="46" y="161"/>
                </a:lnTo>
                <a:lnTo>
                  <a:pt x="44" y="149"/>
                </a:lnTo>
                <a:lnTo>
                  <a:pt x="40" y="140"/>
                </a:lnTo>
                <a:lnTo>
                  <a:pt x="37" y="130"/>
                </a:lnTo>
                <a:lnTo>
                  <a:pt x="33" y="123"/>
                </a:lnTo>
                <a:lnTo>
                  <a:pt x="29" y="115"/>
                </a:lnTo>
                <a:lnTo>
                  <a:pt x="23" y="101"/>
                </a:lnTo>
                <a:lnTo>
                  <a:pt x="17" y="90"/>
                </a:lnTo>
                <a:lnTo>
                  <a:pt x="12" y="80"/>
                </a:lnTo>
                <a:lnTo>
                  <a:pt x="8" y="71"/>
                </a:lnTo>
                <a:lnTo>
                  <a:pt x="4" y="61"/>
                </a:lnTo>
                <a:lnTo>
                  <a:pt x="2" y="53"/>
                </a:lnTo>
                <a:lnTo>
                  <a:pt x="0" y="46"/>
                </a:lnTo>
                <a:lnTo>
                  <a:pt x="0" y="38"/>
                </a:lnTo>
                <a:lnTo>
                  <a:pt x="0" y="32"/>
                </a:lnTo>
                <a:lnTo>
                  <a:pt x="2" y="27"/>
                </a:lnTo>
                <a:lnTo>
                  <a:pt x="4" y="23"/>
                </a:lnTo>
                <a:lnTo>
                  <a:pt x="8" y="17"/>
                </a:lnTo>
                <a:lnTo>
                  <a:pt x="12" y="13"/>
                </a:lnTo>
                <a:lnTo>
                  <a:pt x="17" y="9"/>
                </a:lnTo>
                <a:lnTo>
                  <a:pt x="23" y="7"/>
                </a:lnTo>
                <a:lnTo>
                  <a:pt x="29" y="4"/>
                </a:lnTo>
                <a:lnTo>
                  <a:pt x="35" y="2"/>
                </a:lnTo>
                <a:lnTo>
                  <a:pt x="40" y="0"/>
                </a:lnTo>
                <a:lnTo>
                  <a:pt x="48" y="0"/>
                </a:lnTo>
                <a:lnTo>
                  <a:pt x="56" y="0"/>
                </a:lnTo>
                <a:lnTo>
                  <a:pt x="65" y="0"/>
                </a:lnTo>
                <a:lnTo>
                  <a:pt x="75" y="0"/>
                </a:lnTo>
                <a:lnTo>
                  <a:pt x="86" y="2"/>
                </a:lnTo>
                <a:lnTo>
                  <a:pt x="98" y="4"/>
                </a:lnTo>
                <a:lnTo>
                  <a:pt x="111" y="7"/>
                </a:lnTo>
                <a:lnTo>
                  <a:pt x="125" y="11"/>
                </a:lnTo>
                <a:lnTo>
                  <a:pt x="138" y="15"/>
                </a:lnTo>
                <a:lnTo>
                  <a:pt x="156" y="19"/>
                </a:lnTo>
                <a:lnTo>
                  <a:pt x="171" y="25"/>
                </a:lnTo>
                <a:lnTo>
                  <a:pt x="188" y="30"/>
                </a:lnTo>
                <a:lnTo>
                  <a:pt x="207" y="38"/>
                </a:lnTo>
                <a:lnTo>
                  <a:pt x="227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49"/>
          <p:cNvSpPr/>
          <p:nvPr/>
        </p:nvSpPr>
        <p:spPr>
          <a:xfrm>
            <a:off x="7012080" y="3792600"/>
            <a:ext cx="136440" cy="406440"/>
          </a:xfrm>
          <a:custGeom>
            <a:avLst/>
            <a:gdLst/>
            <a:ahLst/>
            <a:rect l="l" t="t" r="r" b="b"/>
            <a:pathLst>
              <a:path w="171" h="510">
                <a:moveTo>
                  <a:pt x="0" y="510"/>
                </a:moveTo>
                <a:lnTo>
                  <a:pt x="0" y="0"/>
                </a:lnTo>
                <a:lnTo>
                  <a:pt x="171" y="0"/>
                </a:lnTo>
                <a:lnTo>
                  <a:pt x="171" y="6"/>
                </a:lnTo>
                <a:lnTo>
                  <a:pt x="169" y="13"/>
                </a:lnTo>
                <a:lnTo>
                  <a:pt x="169" y="21"/>
                </a:lnTo>
                <a:lnTo>
                  <a:pt x="169" y="31"/>
                </a:lnTo>
                <a:lnTo>
                  <a:pt x="169" y="40"/>
                </a:lnTo>
                <a:lnTo>
                  <a:pt x="169" y="50"/>
                </a:lnTo>
                <a:lnTo>
                  <a:pt x="169" y="59"/>
                </a:lnTo>
                <a:lnTo>
                  <a:pt x="167" y="71"/>
                </a:lnTo>
                <a:lnTo>
                  <a:pt x="167" y="82"/>
                </a:lnTo>
                <a:lnTo>
                  <a:pt x="165" y="96"/>
                </a:lnTo>
                <a:lnTo>
                  <a:pt x="165" y="107"/>
                </a:lnTo>
                <a:lnTo>
                  <a:pt x="165" y="123"/>
                </a:lnTo>
                <a:lnTo>
                  <a:pt x="163" y="136"/>
                </a:lnTo>
                <a:lnTo>
                  <a:pt x="163" y="151"/>
                </a:lnTo>
                <a:lnTo>
                  <a:pt x="161" y="167"/>
                </a:lnTo>
                <a:lnTo>
                  <a:pt x="159" y="182"/>
                </a:lnTo>
                <a:lnTo>
                  <a:pt x="159" y="198"/>
                </a:lnTo>
                <a:lnTo>
                  <a:pt x="157" y="215"/>
                </a:lnTo>
                <a:lnTo>
                  <a:pt x="155" y="232"/>
                </a:lnTo>
                <a:lnTo>
                  <a:pt x="155" y="251"/>
                </a:lnTo>
                <a:lnTo>
                  <a:pt x="153" y="270"/>
                </a:lnTo>
                <a:lnTo>
                  <a:pt x="152" y="290"/>
                </a:lnTo>
                <a:lnTo>
                  <a:pt x="150" y="309"/>
                </a:lnTo>
                <a:lnTo>
                  <a:pt x="148" y="330"/>
                </a:lnTo>
                <a:lnTo>
                  <a:pt x="146" y="349"/>
                </a:lnTo>
                <a:lnTo>
                  <a:pt x="144" y="372"/>
                </a:lnTo>
                <a:lnTo>
                  <a:pt x="142" y="393"/>
                </a:lnTo>
                <a:lnTo>
                  <a:pt x="140" y="416"/>
                </a:lnTo>
                <a:lnTo>
                  <a:pt x="138" y="437"/>
                </a:lnTo>
                <a:lnTo>
                  <a:pt x="136" y="462"/>
                </a:lnTo>
                <a:lnTo>
                  <a:pt x="132" y="485"/>
                </a:lnTo>
                <a:lnTo>
                  <a:pt x="130" y="510"/>
                </a:lnTo>
                <a:lnTo>
                  <a:pt x="0" y="5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50"/>
          <p:cNvSpPr/>
          <p:nvPr/>
        </p:nvSpPr>
        <p:spPr>
          <a:xfrm>
            <a:off x="6608880" y="3705120"/>
            <a:ext cx="798480" cy="230400"/>
          </a:xfrm>
          <a:custGeom>
            <a:avLst/>
            <a:gdLst/>
            <a:ahLst/>
            <a:rect l="l" t="t" r="r" b="b"/>
            <a:pathLst>
              <a:path w="1006" h="290">
                <a:moveTo>
                  <a:pt x="457" y="235"/>
                </a:moveTo>
                <a:lnTo>
                  <a:pt x="419" y="242"/>
                </a:lnTo>
                <a:lnTo>
                  <a:pt x="380" y="250"/>
                </a:lnTo>
                <a:lnTo>
                  <a:pt x="344" y="256"/>
                </a:lnTo>
                <a:lnTo>
                  <a:pt x="309" y="262"/>
                </a:lnTo>
                <a:lnTo>
                  <a:pt x="277" y="267"/>
                </a:lnTo>
                <a:lnTo>
                  <a:pt x="244" y="271"/>
                </a:lnTo>
                <a:lnTo>
                  <a:pt x="213" y="275"/>
                </a:lnTo>
                <a:lnTo>
                  <a:pt x="185" y="279"/>
                </a:lnTo>
                <a:lnTo>
                  <a:pt x="156" y="281"/>
                </a:lnTo>
                <a:lnTo>
                  <a:pt x="129" y="285"/>
                </a:lnTo>
                <a:lnTo>
                  <a:pt x="104" y="286"/>
                </a:lnTo>
                <a:lnTo>
                  <a:pt x="79" y="288"/>
                </a:lnTo>
                <a:lnTo>
                  <a:pt x="58" y="288"/>
                </a:lnTo>
                <a:lnTo>
                  <a:pt x="37" y="290"/>
                </a:lnTo>
                <a:lnTo>
                  <a:pt x="18" y="290"/>
                </a:lnTo>
                <a:lnTo>
                  <a:pt x="0" y="290"/>
                </a:lnTo>
                <a:lnTo>
                  <a:pt x="0" y="235"/>
                </a:lnTo>
                <a:lnTo>
                  <a:pt x="0" y="181"/>
                </a:lnTo>
                <a:lnTo>
                  <a:pt x="6" y="179"/>
                </a:lnTo>
                <a:lnTo>
                  <a:pt x="12" y="179"/>
                </a:lnTo>
                <a:lnTo>
                  <a:pt x="19" y="179"/>
                </a:lnTo>
                <a:lnTo>
                  <a:pt x="27" y="179"/>
                </a:lnTo>
                <a:lnTo>
                  <a:pt x="37" y="177"/>
                </a:lnTo>
                <a:lnTo>
                  <a:pt x="46" y="177"/>
                </a:lnTo>
                <a:lnTo>
                  <a:pt x="56" y="175"/>
                </a:lnTo>
                <a:lnTo>
                  <a:pt x="66" y="175"/>
                </a:lnTo>
                <a:lnTo>
                  <a:pt x="75" y="173"/>
                </a:lnTo>
                <a:lnTo>
                  <a:pt x="87" y="171"/>
                </a:lnTo>
                <a:lnTo>
                  <a:pt x="98" y="169"/>
                </a:lnTo>
                <a:lnTo>
                  <a:pt x="110" y="167"/>
                </a:lnTo>
                <a:lnTo>
                  <a:pt x="135" y="164"/>
                </a:lnTo>
                <a:lnTo>
                  <a:pt x="163" y="158"/>
                </a:lnTo>
                <a:lnTo>
                  <a:pt x="192" y="152"/>
                </a:lnTo>
                <a:lnTo>
                  <a:pt x="223" y="144"/>
                </a:lnTo>
                <a:lnTo>
                  <a:pt x="256" y="137"/>
                </a:lnTo>
                <a:lnTo>
                  <a:pt x="290" y="127"/>
                </a:lnTo>
                <a:lnTo>
                  <a:pt x="327" y="118"/>
                </a:lnTo>
                <a:lnTo>
                  <a:pt x="363" y="108"/>
                </a:lnTo>
                <a:lnTo>
                  <a:pt x="403" y="96"/>
                </a:lnTo>
                <a:lnTo>
                  <a:pt x="444" y="83"/>
                </a:lnTo>
                <a:lnTo>
                  <a:pt x="465" y="77"/>
                </a:lnTo>
                <a:lnTo>
                  <a:pt x="484" y="73"/>
                </a:lnTo>
                <a:lnTo>
                  <a:pt x="503" y="68"/>
                </a:lnTo>
                <a:lnTo>
                  <a:pt x="522" y="64"/>
                </a:lnTo>
                <a:lnTo>
                  <a:pt x="542" y="58"/>
                </a:lnTo>
                <a:lnTo>
                  <a:pt x="559" y="54"/>
                </a:lnTo>
                <a:lnTo>
                  <a:pt x="576" y="50"/>
                </a:lnTo>
                <a:lnTo>
                  <a:pt x="593" y="47"/>
                </a:lnTo>
                <a:lnTo>
                  <a:pt x="609" y="43"/>
                </a:lnTo>
                <a:lnTo>
                  <a:pt x="626" y="39"/>
                </a:lnTo>
                <a:lnTo>
                  <a:pt x="641" y="35"/>
                </a:lnTo>
                <a:lnTo>
                  <a:pt x="655" y="31"/>
                </a:lnTo>
                <a:lnTo>
                  <a:pt x="670" y="29"/>
                </a:lnTo>
                <a:lnTo>
                  <a:pt x="684" y="25"/>
                </a:lnTo>
                <a:lnTo>
                  <a:pt x="695" y="24"/>
                </a:lnTo>
                <a:lnTo>
                  <a:pt x="709" y="20"/>
                </a:lnTo>
                <a:lnTo>
                  <a:pt x="720" y="18"/>
                </a:lnTo>
                <a:lnTo>
                  <a:pt x="732" y="16"/>
                </a:lnTo>
                <a:lnTo>
                  <a:pt x="743" y="14"/>
                </a:lnTo>
                <a:lnTo>
                  <a:pt x="753" y="12"/>
                </a:lnTo>
                <a:lnTo>
                  <a:pt x="762" y="10"/>
                </a:lnTo>
                <a:lnTo>
                  <a:pt x="772" y="8"/>
                </a:lnTo>
                <a:lnTo>
                  <a:pt x="781" y="6"/>
                </a:lnTo>
                <a:lnTo>
                  <a:pt x="789" y="4"/>
                </a:lnTo>
                <a:lnTo>
                  <a:pt x="797" y="4"/>
                </a:lnTo>
                <a:lnTo>
                  <a:pt x="805" y="2"/>
                </a:lnTo>
                <a:lnTo>
                  <a:pt x="810" y="2"/>
                </a:lnTo>
                <a:lnTo>
                  <a:pt x="816" y="0"/>
                </a:lnTo>
                <a:lnTo>
                  <a:pt x="822" y="0"/>
                </a:lnTo>
                <a:lnTo>
                  <a:pt x="828" y="0"/>
                </a:lnTo>
                <a:lnTo>
                  <a:pt x="831" y="0"/>
                </a:lnTo>
                <a:lnTo>
                  <a:pt x="835" y="0"/>
                </a:lnTo>
                <a:lnTo>
                  <a:pt x="851" y="0"/>
                </a:lnTo>
                <a:lnTo>
                  <a:pt x="866" y="2"/>
                </a:lnTo>
                <a:lnTo>
                  <a:pt x="879" y="6"/>
                </a:lnTo>
                <a:lnTo>
                  <a:pt x="895" y="10"/>
                </a:lnTo>
                <a:lnTo>
                  <a:pt x="910" y="16"/>
                </a:lnTo>
                <a:lnTo>
                  <a:pt x="924" y="24"/>
                </a:lnTo>
                <a:lnTo>
                  <a:pt x="939" y="31"/>
                </a:lnTo>
                <a:lnTo>
                  <a:pt x="954" y="43"/>
                </a:lnTo>
                <a:lnTo>
                  <a:pt x="960" y="47"/>
                </a:lnTo>
                <a:lnTo>
                  <a:pt x="968" y="52"/>
                </a:lnTo>
                <a:lnTo>
                  <a:pt x="973" y="58"/>
                </a:lnTo>
                <a:lnTo>
                  <a:pt x="977" y="62"/>
                </a:lnTo>
                <a:lnTo>
                  <a:pt x="983" y="68"/>
                </a:lnTo>
                <a:lnTo>
                  <a:pt x="987" y="72"/>
                </a:lnTo>
                <a:lnTo>
                  <a:pt x="991" y="77"/>
                </a:lnTo>
                <a:lnTo>
                  <a:pt x="995" y="81"/>
                </a:lnTo>
                <a:lnTo>
                  <a:pt x="1000" y="91"/>
                </a:lnTo>
                <a:lnTo>
                  <a:pt x="1002" y="98"/>
                </a:lnTo>
                <a:lnTo>
                  <a:pt x="1004" y="104"/>
                </a:lnTo>
                <a:lnTo>
                  <a:pt x="1006" y="112"/>
                </a:lnTo>
                <a:lnTo>
                  <a:pt x="1006" y="114"/>
                </a:lnTo>
                <a:lnTo>
                  <a:pt x="1004" y="116"/>
                </a:lnTo>
                <a:lnTo>
                  <a:pt x="1002" y="118"/>
                </a:lnTo>
                <a:lnTo>
                  <a:pt x="998" y="121"/>
                </a:lnTo>
                <a:lnTo>
                  <a:pt x="995" y="123"/>
                </a:lnTo>
                <a:lnTo>
                  <a:pt x="991" y="125"/>
                </a:lnTo>
                <a:lnTo>
                  <a:pt x="985" y="129"/>
                </a:lnTo>
                <a:lnTo>
                  <a:pt x="977" y="131"/>
                </a:lnTo>
                <a:lnTo>
                  <a:pt x="972" y="135"/>
                </a:lnTo>
                <a:lnTo>
                  <a:pt x="964" y="137"/>
                </a:lnTo>
                <a:lnTo>
                  <a:pt x="954" y="139"/>
                </a:lnTo>
                <a:lnTo>
                  <a:pt x="945" y="143"/>
                </a:lnTo>
                <a:lnTo>
                  <a:pt x="935" y="144"/>
                </a:lnTo>
                <a:lnTo>
                  <a:pt x="925" y="146"/>
                </a:lnTo>
                <a:lnTo>
                  <a:pt x="914" y="150"/>
                </a:lnTo>
                <a:lnTo>
                  <a:pt x="902" y="152"/>
                </a:lnTo>
                <a:lnTo>
                  <a:pt x="885" y="154"/>
                </a:lnTo>
                <a:lnTo>
                  <a:pt x="870" y="158"/>
                </a:lnTo>
                <a:lnTo>
                  <a:pt x="851" y="162"/>
                </a:lnTo>
                <a:lnTo>
                  <a:pt x="829" y="166"/>
                </a:lnTo>
                <a:lnTo>
                  <a:pt x="808" y="169"/>
                </a:lnTo>
                <a:lnTo>
                  <a:pt x="785" y="173"/>
                </a:lnTo>
                <a:lnTo>
                  <a:pt x="760" y="179"/>
                </a:lnTo>
                <a:lnTo>
                  <a:pt x="733" y="183"/>
                </a:lnTo>
                <a:lnTo>
                  <a:pt x="705" y="189"/>
                </a:lnTo>
                <a:lnTo>
                  <a:pt x="674" y="194"/>
                </a:lnTo>
                <a:lnTo>
                  <a:pt x="643" y="200"/>
                </a:lnTo>
                <a:lnTo>
                  <a:pt x="609" y="206"/>
                </a:lnTo>
                <a:lnTo>
                  <a:pt x="574" y="214"/>
                </a:lnTo>
                <a:lnTo>
                  <a:pt x="536" y="219"/>
                </a:lnTo>
                <a:lnTo>
                  <a:pt x="497" y="227"/>
                </a:lnTo>
                <a:lnTo>
                  <a:pt x="457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51"/>
          <p:cNvSpPr/>
          <p:nvPr/>
        </p:nvSpPr>
        <p:spPr>
          <a:xfrm>
            <a:off x="6629400" y="3265560"/>
            <a:ext cx="611280" cy="417600"/>
          </a:xfrm>
          <a:custGeom>
            <a:avLst/>
            <a:gdLst/>
            <a:ahLst/>
            <a:rect l="l" t="t" r="r" b="b"/>
            <a:pathLst>
              <a:path w="772" h="526">
                <a:moveTo>
                  <a:pt x="0" y="526"/>
                </a:moveTo>
                <a:lnTo>
                  <a:pt x="0" y="483"/>
                </a:lnTo>
                <a:lnTo>
                  <a:pt x="0" y="441"/>
                </a:lnTo>
                <a:lnTo>
                  <a:pt x="23" y="430"/>
                </a:lnTo>
                <a:lnTo>
                  <a:pt x="46" y="418"/>
                </a:lnTo>
                <a:lnTo>
                  <a:pt x="67" y="407"/>
                </a:lnTo>
                <a:lnTo>
                  <a:pt x="89" y="395"/>
                </a:lnTo>
                <a:lnTo>
                  <a:pt x="110" y="386"/>
                </a:lnTo>
                <a:lnTo>
                  <a:pt x="131" y="374"/>
                </a:lnTo>
                <a:lnTo>
                  <a:pt x="150" y="362"/>
                </a:lnTo>
                <a:lnTo>
                  <a:pt x="169" y="353"/>
                </a:lnTo>
                <a:lnTo>
                  <a:pt x="188" y="343"/>
                </a:lnTo>
                <a:lnTo>
                  <a:pt x="206" y="332"/>
                </a:lnTo>
                <a:lnTo>
                  <a:pt x="223" y="322"/>
                </a:lnTo>
                <a:lnTo>
                  <a:pt x="240" y="313"/>
                </a:lnTo>
                <a:lnTo>
                  <a:pt x="257" y="303"/>
                </a:lnTo>
                <a:lnTo>
                  <a:pt x="273" y="295"/>
                </a:lnTo>
                <a:lnTo>
                  <a:pt x="290" y="286"/>
                </a:lnTo>
                <a:lnTo>
                  <a:pt x="303" y="276"/>
                </a:lnTo>
                <a:lnTo>
                  <a:pt x="319" y="268"/>
                </a:lnTo>
                <a:lnTo>
                  <a:pt x="332" y="261"/>
                </a:lnTo>
                <a:lnTo>
                  <a:pt x="346" y="251"/>
                </a:lnTo>
                <a:lnTo>
                  <a:pt x="359" y="243"/>
                </a:lnTo>
                <a:lnTo>
                  <a:pt x="371" y="236"/>
                </a:lnTo>
                <a:lnTo>
                  <a:pt x="382" y="228"/>
                </a:lnTo>
                <a:lnTo>
                  <a:pt x="394" y="220"/>
                </a:lnTo>
                <a:lnTo>
                  <a:pt x="405" y="215"/>
                </a:lnTo>
                <a:lnTo>
                  <a:pt x="415" y="207"/>
                </a:lnTo>
                <a:lnTo>
                  <a:pt x="424" y="201"/>
                </a:lnTo>
                <a:lnTo>
                  <a:pt x="434" y="194"/>
                </a:lnTo>
                <a:lnTo>
                  <a:pt x="442" y="188"/>
                </a:lnTo>
                <a:lnTo>
                  <a:pt x="449" y="182"/>
                </a:lnTo>
                <a:lnTo>
                  <a:pt x="457" y="176"/>
                </a:lnTo>
                <a:lnTo>
                  <a:pt x="465" y="171"/>
                </a:lnTo>
                <a:lnTo>
                  <a:pt x="470" y="165"/>
                </a:lnTo>
                <a:lnTo>
                  <a:pt x="482" y="157"/>
                </a:lnTo>
                <a:lnTo>
                  <a:pt x="494" y="149"/>
                </a:lnTo>
                <a:lnTo>
                  <a:pt x="503" y="142"/>
                </a:lnTo>
                <a:lnTo>
                  <a:pt x="511" y="134"/>
                </a:lnTo>
                <a:lnTo>
                  <a:pt x="517" y="126"/>
                </a:lnTo>
                <a:lnTo>
                  <a:pt x="524" y="119"/>
                </a:lnTo>
                <a:lnTo>
                  <a:pt x="528" y="111"/>
                </a:lnTo>
                <a:lnTo>
                  <a:pt x="532" y="105"/>
                </a:lnTo>
                <a:lnTo>
                  <a:pt x="536" y="98"/>
                </a:lnTo>
                <a:lnTo>
                  <a:pt x="538" y="90"/>
                </a:lnTo>
                <a:lnTo>
                  <a:pt x="540" y="84"/>
                </a:lnTo>
                <a:lnTo>
                  <a:pt x="542" y="78"/>
                </a:lnTo>
                <a:lnTo>
                  <a:pt x="542" y="71"/>
                </a:lnTo>
                <a:lnTo>
                  <a:pt x="540" y="65"/>
                </a:lnTo>
                <a:lnTo>
                  <a:pt x="538" y="59"/>
                </a:lnTo>
                <a:lnTo>
                  <a:pt x="536" y="55"/>
                </a:lnTo>
                <a:lnTo>
                  <a:pt x="532" y="44"/>
                </a:lnTo>
                <a:lnTo>
                  <a:pt x="530" y="36"/>
                </a:lnTo>
                <a:lnTo>
                  <a:pt x="528" y="28"/>
                </a:lnTo>
                <a:lnTo>
                  <a:pt x="528" y="21"/>
                </a:lnTo>
                <a:lnTo>
                  <a:pt x="528" y="19"/>
                </a:lnTo>
                <a:lnTo>
                  <a:pt x="530" y="15"/>
                </a:lnTo>
                <a:lnTo>
                  <a:pt x="532" y="13"/>
                </a:lnTo>
                <a:lnTo>
                  <a:pt x="534" y="9"/>
                </a:lnTo>
                <a:lnTo>
                  <a:pt x="538" y="7"/>
                </a:lnTo>
                <a:lnTo>
                  <a:pt x="542" y="4"/>
                </a:lnTo>
                <a:lnTo>
                  <a:pt x="545" y="2"/>
                </a:lnTo>
                <a:lnTo>
                  <a:pt x="549" y="0"/>
                </a:lnTo>
                <a:lnTo>
                  <a:pt x="561" y="0"/>
                </a:lnTo>
                <a:lnTo>
                  <a:pt x="572" y="2"/>
                </a:lnTo>
                <a:lnTo>
                  <a:pt x="586" y="5"/>
                </a:lnTo>
                <a:lnTo>
                  <a:pt x="593" y="7"/>
                </a:lnTo>
                <a:lnTo>
                  <a:pt x="601" y="11"/>
                </a:lnTo>
                <a:lnTo>
                  <a:pt x="609" y="15"/>
                </a:lnTo>
                <a:lnTo>
                  <a:pt x="616" y="19"/>
                </a:lnTo>
                <a:lnTo>
                  <a:pt x="626" y="23"/>
                </a:lnTo>
                <a:lnTo>
                  <a:pt x="636" y="28"/>
                </a:lnTo>
                <a:lnTo>
                  <a:pt x="647" y="34"/>
                </a:lnTo>
                <a:lnTo>
                  <a:pt x="657" y="40"/>
                </a:lnTo>
                <a:lnTo>
                  <a:pt x="668" y="48"/>
                </a:lnTo>
                <a:lnTo>
                  <a:pt x="680" y="55"/>
                </a:lnTo>
                <a:lnTo>
                  <a:pt x="691" y="63"/>
                </a:lnTo>
                <a:lnTo>
                  <a:pt x="703" y="71"/>
                </a:lnTo>
                <a:lnTo>
                  <a:pt x="712" y="78"/>
                </a:lnTo>
                <a:lnTo>
                  <a:pt x="722" y="86"/>
                </a:lnTo>
                <a:lnTo>
                  <a:pt x="730" y="94"/>
                </a:lnTo>
                <a:lnTo>
                  <a:pt x="737" y="101"/>
                </a:lnTo>
                <a:lnTo>
                  <a:pt x="745" y="107"/>
                </a:lnTo>
                <a:lnTo>
                  <a:pt x="751" y="115"/>
                </a:lnTo>
                <a:lnTo>
                  <a:pt x="756" y="123"/>
                </a:lnTo>
                <a:lnTo>
                  <a:pt x="760" y="128"/>
                </a:lnTo>
                <a:lnTo>
                  <a:pt x="764" y="136"/>
                </a:lnTo>
                <a:lnTo>
                  <a:pt x="766" y="142"/>
                </a:lnTo>
                <a:lnTo>
                  <a:pt x="770" y="147"/>
                </a:lnTo>
                <a:lnTo>
                  <a:pt x="770" y="155"/>
                </a:lnTo>
                <a:lnTo>
                  <a:pt x="772" y="159"/>
                </a:lnTo>
                <a:lnTo>
                  <a:pt x="772" y="165"/>
                </a:lnTo>
                <a:lnTo>
                  <a:pt x="772" y="172"/>
                </a:lnTo>
                <a:lnTo>
                  <a:pt x="770" y="180"/>
                </a:lnTo>
                <a:lnTo>
                  <a:pt x="766" y="188"/>
                </a:lnTo>
                <a:lnTo>
                  <a:pt x="762" y="195"/>
                </a:lnTo>
                <a:lnTo>
                  <a:pt x="756" y="205"/>
                </a:lnTo>
                <a:lnTo>
                  <a:pt x="749" y="213"/>
                </a:lnTo>
                <a:lnTo>
                  <a:pt x="741" y="220"/>
                </a:lnTo>
                <a:lnTo>
                  <a:pt x="732" y="228"/>
                </a:lnTo>
                <a:lnTo>
                  <a:pt x="720" y="238"/>
                </a:lnTo>
                <a:lnTo>
                  <a:pt x="707" y="245"/>
                </a:lnTo>
                <a:lnTo>
                  <a:pt x="693" y="255"/>
                </a:lnTo>
                <a:lnTo>
                  <a:pt x="678" y="265"/>
                </a:lnTo>
                <a:lnTo>
                  <a:pt x="661" y="274"/>
                </a:lnTo>
                <a:lnTo>
                  <a:pt x="643" y="284"/>
                </a:lnTo>
                <a:lnTo>
                  <a:pt x="622" y="293"/>
                </a:lnTo>
                <a:lnTo>
                  <a:pt x="601" y="303"/>
                </a:lnTo>
                <a:lnTo>
                  <a:pt x="578" y="316"/>
                </a:lnTo>
                <a:lnTo>
                  <a:pt x="553" y="330"/>
                </a:lnTo>
                <a:lnTo>
                  <a:pt x="528" y="343"/>
                </a:lnTo>
                <a:lnTo>
                  <a:pt x="513" y="349"/>
                </a:lnTo>
                <a:lnTo>
                  <a:pt x="499" y="355"/>
                </a:lnTo>
                <a:lnTo>
                  <a:pt x="484" y="362"/>
                </a:lnTo>
                <a:lnTo>
                  <a:pt x="469" y="368"/>
                </a:lnTo>
                <a:lnTo>
                  <a:pt x="451" y="376"/>
                </a:lnTo>
                <a:lnTo>
                  <a:pt x="436" y="382"/>
                </a:lnTo>
                <a:lnTo>
                  <a:pt x="419" y="389"/>
                </a:lnTo>
                <a:lnTo>
                  <a:pt x="401" y="395"/>
                </a:lnTo>
                <a:lnTo>
                  <a:pt x="384" y="401"/>
                </a:lnTo>
                <a:lnTo>
                  <a:pt x="365" y="409"/>
                </a:lnTo>
                <a:lnTo>
                  <a:pt x="346" y="416"/>
                </a:lnTo>
                <a:lnTo>
                  <a:pt x="327" y="422"/>
                </a:lnTo>
                <a:lnTo>
                  <a:pt x="307" y="430"/>
                </a:lnTo>
                <a:lnTo>
                  <a:pt x="286" y="435"/>
                </a:lnTo>
                <a:lnTo>
                  <a:pt x="265" y="443"/>
                </a:lnTo>
                <a:lnTo>
                  <a:pt x="244" y="451"/>
                </a:lnTo>
                <a:lnTo>
                  <a:pt x="221" y="457"/>
                </a:lnTo>
                <a:lnTo>
                  <a:pt x="200" y="464"/>
                </a:lnTo>
                <a:lnTo>
                  <a:pt x="177" y="472"/>
                </a:lnTo>
                <a:lnTo>
                  <a:pt x="152" y="480"/>
                </a:lnTo>
                <a:lnTo>
                  <a:pt x="129" y="485"/>
                </a:lnTo>
                <a:lnTo>
                  <a:pt x="104" y="493"/>
                </a:lnTo>
                <a:lnTo>
                  <a:pt x="79" y="501"/>
                </a:lnTo>
                <a:lnTo>
                  <a:pt x="54" y="508"/>
                </a:lnTo>
                <a:lnTo>
                  <a:pt x="27" y="516"/>
                </a:lnTo>
                <a:lnTo>
                  <a:pt x="0" y="5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52"/>
          <p:cNvSpPr/>
          <p:nvPr/>
        </p:nvSpPr>
        <p:spPr>
          <a:xfrm>
            <a:off x="6494400" y="3002040"/>
            <a:ext cx="1214640" cy="366480"/>
          </a:xfrm>
          <a:custGeom>
            <a:avLst/>
            <a:gdLst/>
            <a:ahLst/>
            <a:rect l="l" t="t" r="r" b="b"/>
            <a:pathLst>
              <a:path w="1530" h="460">
                <a:moveTo>
                  <a:pt x="1438" y="318"/>
                </a:moveTo>
                <a:lnTo>
                  <a:pt x="1428" y="318"/>
                </a:lnTo>
                <a:lnTo>
                  <a:pt x="1417" y="318"/>
                </a:lnTo>
                <a:lnTo>
                  <a:pt x="1407" y="320"/>
                </a:lnTo>
                <a:lnTo>
                  <a:pt x="1396" y="322"/>
                </a:lnTo>
                <a:lnTo>
                  <a:pt x="1384" y="326"/>
                </a:lnTo>
                <a:lnTo>
                  <a:pt x="1373" y="328"/>
                </a:lnTo>
                <a:lnTo>
                  <a:pt x="1359" y="334"/>
                </a:lnTo>
                <a:lnTo>
                  <a:pt x="1348" y="337"/>
                </a:lnTo>
                <a:lnTo>
                  <a:pt x="1334" y="343"/>
                </a:lnTo>
                <a:lnTo>
                  <a:pt x="1321" y="349"/>
                </a:lnTo>
                <a:lnTo>
                  <a:pt x="1307" y="357"/>
                </a:lnTo>
                <a:lnTo>
                  <a:pt x="1292" y="364"/>
                </a:lnTo>
                <a:lnTo>
                  <a:pt x="1277" y="372"/>
                </a:lnTo>
                <a:lnTo>
                  <a:pt x="1261" y="382"/>
                </a:lnTo>
                <a:lnTo>
                  <a:pt x="1246" y="389"/>
                </a:lnTo>
                <a:lnTo>
                  <a:pt x="1229" y="401"/>
                </a:lnTo>
                <a:lnTo>
                  <a:pt x="1211" y="410"/>
                </a:lnTo>
                <a:lnTo>
                  <a:pt x="1196" y="420"/>
                </a:lnTo>
                <a:lnTo>
                  <a:pt x="1181" y="428"/>
                </a:lnTo>
                <a:lnTo>
                  <a:pt x="1167" y="435"/>
                </a:lnTo>
                <a:lnTo>
                  <a:pt x="1154" y="441"/>
                </a:lnTo>
                <a:lnTo>
                  <a:pt x="1142" y="447"/>
                </a:lnTo>
                <a:lnTo>
                  <a:pt x="1133" y="451"/>
                </a:lnTo>
                <a:lnTo>
                  <a:pt x="1121" y="455"/>
                </a:lnTo>
                <a:lnTo>
                  <a:pt x="1114" y="456"/>
                </a:lnTo>
                <a:lnTo>
                  <a:pt x="1106" y="458"/>
                </a:lnTo>
                <a:lnTo>
                  <a:pt x="1100" y="460"/>
                </a:lnTo>
                <a:lnTo>
                  <a:pt x="1094" y="460"/>
                </a:lnTo>
                <a:lnTo>
                  <a:pt x="1091" y="460"/>
                </a:lnTo>
                <a:lnTo>
                  <a:pt x="1087" y="460"/>
                </a:lnTo>
                <a:lnTo>
                  <a:pt x="1085" y="458"/>
                </a:lnTo>
                <a:lnTo>
                  <a:pt x="1085" y="456"/>
                </a:lnTo>
                <a:lnTo>
                  <a:pt x="1083" y="453"/>
                </a:lnTo>
                <a:lnTo>
                  <a:pt x="1081" y="449"/>
                </a:lnTo>
                <a:lnTo>
                  <a:pt x="1081" y="445"/>
                </a:lnTo>
                <a:lnTo>
                  <a:pt x="1081" y="439"/>
                </a:lnTo>
                <a:lnTo>
                  <a:pt x="1083" y="435"/>
                </a:lnTo>
                <a:lnTo>
                  <a:pt x="1085" y="428"/>
                </a:lnTo>
                <a:lnTo>
                  <a:pt x="1089" y="422"/>
                </a:lnTo>
                <a:lnTo>
                  <a:pt x="1091" y="414"/>
                </a:lnTo>
                <a:lnTo>
                  <a:pt x="1094" y="407"/>
                </a:lnTo>
                <a:lnTo>
                  <a:pt x="1100" y="397"/>
                </a:lnTo>
                <a:lnTo>
                  <a:pt x="1104" y="387"/>
                </a:lnTo>
                <a:lnTo>
                  <a:pt x="1110" y="378"/>
                </a:lnTo>
                <a:lnTo>
                  <a:pt x="1117" y="368"/>
                </a:lnTo>
                <a:lnTo>
                  <a:pt x="1123" y="357"/>
                </a:lnTo>
                <a:lnTo>
                  <a:pt x="1129" y="343"/>
                </a:lnTo>
                <a:lnTo>
                  <a:pt x="1137" y="332"/>
                </a:lnTo>
                <a:lnTo>
                  <a:pt x="1144" y="318"/>
                </a:lnTo>
                <a:lnTo>
                  <a:pt x="1150" y="307"/>
                </a:lnTo>
                <a:lnTo>
                  <a:pt x="1156" y="293"/>
                </a:lnTo>
                <a:lnTo>
                  <a:pt x="1162" y="282"/>
                </a:lnTo>
                <a:lnTo>
                  <a:pt x="1165" y="270"/>
                </a:lnTo>
                <a:lnTo>
                  <a:pt x="1169" y="261"/>
                </a:lnTo>
                <a:lnTo>
                  <a:pt x="1173" y="251"/>
                </a:lnTo>
                <a:lnTo>
                  <a:pt x="1175" y="241"/>
                </a:lnTo>
                <a:lnTo>
                  <a:pt x="1179" y="232"/>
                </a:lnTo>
                <a:lnTo>
                  <a:pt x="1179" y="224"/>
                </a:lnTo>
                <a:lnTo>
                  <a:pt x="1181" y="217"/>
                </a:lnTo>
                <a:lnTo>
                  <a:pt x="1181" y="211"/>
                </a:lnTo>
                <a:lnTo>
                  <a:pt x="1181" y="205"/>
                </a:lnTo>
                <a:lnTo>
                  <a:pt x="1179" y="199"/>
                </a:lnTo>
                <a:lnTo>
                  <a:pt x="1179" y="195"/>
                </a:lnTo>
                <a:lnTo>
                  <a:pt x="1177" y="193"/>
                </a:lnTo>
                <a:lnTo>
                  <a:pt x="1171" y="188"/>
                </a:lnTo>
                <a:lnTo>
                  <a:pt x="1163" y="186"/>
                </a:lnTo>
                <a:lnTo>
                  <a:pt x="1156" y="182"/>
                </a:lnTo>
                <a:lnTo>
                  <a:pt x="1146" y="180"/>
                </a:lnTo>
                <a:lnTo>
                  <a:pt x="1137" y="180"/>
                </a:lnTo>
                <a:lnTo>
                  <a:pt x="1125" y="180"/>
                </a:lnTo>
                <a:lnTo>
                  <a:pt x="1112" y="180"/>
                </a:lnTo>
                <a:lnTo>
                  <a:pt x="1098" y="180"/>
                </a:lnTo>
                <a:lnTo>
                  <a:pt x="1092" y="180"/>
                </a:lnTo>
                <a:lnTo>
                  <a:pt x="1089" y="180"/>
                </a:lnTo>
                <a:lnTo>
                  <a:pt x="1083" y="180"/>
                </a:lnTo>
                <a:lnTo>
                  <a:pt x="1077" y="180"/>
                </a:lnTo>
                <a:lnTo>
                  <a:pt x="1069" y="180"/>
                </a:lnTo>
                <a:lnTo>
                  <a:pt x="1064" y="180"/>
                </a:lnTo>
                <a:lnTo>
                  <a:pt x="1054" y="182"/>
                </a:lnTo>
                <a:lnTo>
                  <a:pt x="1046" y="182"/>
                </a:lnTo>
                <a:lnTo>
                  <a:pt x="1037" y="182"/>
                </a:lnTo>
                <a:lnTo>
                  <a:pt x="1025" y="184"/>
                </a:lnTo>
                <a:lnTo>
                  <a:pt x="1016" y="184"/>
                </a:lnTo>
                <a:lnTo>
                  <a:pt x="1002" y="186"/>
                </a:lnTo>
                <a:lnTo>
                  <a:pt x="991" y="186"/>
                </a:lnTo>
                <a:lnTo>
                  <a:pt x="977" y="188"/>
                </a:lnTo>
                <a:lnTo>
                  <a:pt x="964" y="190"/>
                </a:lnTo>
                <a:lnTo>
                  <a:pt x="949" y="192"/>
                </a:lnTo>
                <a:lnTo>
                  <a:pt x="933" y="193"/>
                </a:lnTo>
                <a:lnTo>
                  <a:pt x="918" y="193"/>
                </a:lnTo>
                <a:lnTo>
                  <a:pt x="901" y="195"/>
                </a:lnTo>
                <a:lnTo>
                  <a:pt x="883" y="199"/>
                </a:lnTo>
                <a:lnTo>
                  <a:pt x="864" y="201"/>
                </a:lnTo>
                <a:lnTo>
                  <a:pt x="845" y="203"/>
                </a:lnTo>
                <a:lnTo>
                  <a:pt x="826" y="205"/>
                </a:lnTo>
                <a:lnTo>
                  <a:pt x="805" y="207"/>
                </a:lnTo>
                <a:lnTo>
                  <a:pt x="783" y="211"/>
                </a:lnTo>
                <a:lnTo>
                  <a:pt x="762" y="213"/>
                </a:lnTo>
                <a:lnTo>
                  <a:pt x="739" y="217"/>
                </a:lnTo>
                <a:lnTo>
                  <a:pt x="716" y="220"/>
                </a:lnTo>
                <a:lnTo>
                  <a:pt x="691" y="222"/>
                </a:lnTo>
                <a:lnTo>
                  <a:pt x="666" y="226"/>
                </a:lnTo>
                <a:lnTo>
                  <a:pt x="639" y="230"/>
                </a:lnTo>
                <a:lnTo>
                  <a:pt x="615" y="234"/>
                </a:lnTo>
                <a:lnTo>
                  <a:pt x="586" y="238"/>
                </a:lnTo>
                <a:lnTo>
                  <a:pt x="559" y="241"/>
                </a:lnTo>
                <a:lnTo>
                  <a:pt x="532" y="245"/>
                </a:lnTo>
                <a:lnTo>
                  <a:pt x="505" y="249"/>
                </a:lnTo>
                <a:lnTo>
                  <a:pt x="480" y="251"/>
                </a:lnTo>
                <a:lnTo>
                  <a:pt x="455" y="255"/>
                </a:lnTo>
                <a:lnTo>
                  <a:pt x="430" y="259"/>
                </a:lnTo>
                <a:lnTo>
                  <a:pt x="407" y="261"/>
                </a:lnTo>
                <a:lnTo>
                  <a:pt x="384" y="263"/>
                </a:lnTo>
                <a:lnTo>
                  <a:pt x="361" y="266"/>
                </a:lnTo>
                <a:lnTo>
                  <a:pt x="340" y="268"/>
                </a:lnTo>
                <a:lnTo>
                  <a:pt x="319" y="270"/>
                </a:lnTo>
                <a:lnTo>
                  <a:pt x="298" y="272"/>
                </a:lnTo>
                <a:lnTo>
                  <a:pt x="277" y="274"/>
                </a:lnTo>
                <a:lnTo>
                  <a:pt x="258" y="276"/>
                </a:lnTo>
                <a:lnTo>
                  <a:pt x="238" y="278"/>
                </a:lnTo>
                <a:lnTo>
                  <a:pt x="219" y="280"/>
                </a:lnTo>
                <a:lnTo>
                  <a:pt x="202" y="280"/>
                </a:lnTo>
                <a:lnTo>
                  <a:pt x="183" y="282"/>
                </a:lnTo>
                <a:lnTo>
                  <a:pt x="165" y="284"/>
                </a:lnTo>
                <a:lnTo>
                  <a:pt x="150" y="284"/>
                </a:lnTo>
                <a:lnTo>
                  <a:pt x="133" y="286"/>
                </a:lnTo>
                <a:lnTo>
                  <a:pt x="117" y="286"/>
                </a:lnTo>
                <a:lnTo>
                  <a:pt x="102" y="288"/>
                </a:lnTo>
                <a:lnTo>
                  <a:pt x="89" y="288"/>
                </a:lnTo>
                <a:lnTo>
                  <a:pt x="73" y="288"/>
                </a:lnTo>
                <a:lnTo>
                  <a:pt x="60" y="288"/>
                </a:lnTo>
                <a:lnTo>
                  <a:pt x="46" y="289"/>
                </a:lnTo>
                <a:lnTo>
                  <a:pt x="21" y="289"/>
                </a:lnTo>
                <a:lnTo>
                  <a:pt x="0" y="289"/>
                </a:lnTo>
                <a:lnTo>
                  <a:pt x="0" y="234"/>
                </a:lnTo>
                <a:lnTo>
                  <a:pt x="0" y="180"/>
                </a:lnTo>
                <a:lnTo>
                  <a:pt x="46" y="176"/>
                </a:lnTo>
                <a:lnTo>
                  <a:pt x="91" y="172"/>
                </a:lnTo>
                <a:lnTo>
                  <a:pt x="135" y="170"/>
                </a:lnTo>
                <a:lnTo>
                  <a:pt x="179" y="167"/>
                </a:lnTo>
                <a:lnTo>
                  <a:pt x="221" y="163"/>
                </a:lnTo>
                <a:lnTo>
                  <a:pt x="261" y="159"/>
                </a:lnTo>
                <a:lnTo>
                  <a:pt x="302" y="155"/>
                </a:lnTo>
                <a:lnTo>
                  <a:pt x="340" y="149"/>
                </a:lnTo>
                <a:lnTo>
                  <a:pt x="377" y="145"/>
                </a:lnTo>
                <a:lnTo>
                  <a:pt x="413" y="140"/>
                </a:lnTo>
                <a:lnTo>
                  <a:pt x="448" y="136"/>
                </a:lnTo>
                <a:lnTo>
                  <a:pt x="482" y="130"/>
                </a:lnTo>
                <a:lnTo>
                  <a:pt x="513" y="126"/>
                </a:lnTo>
                <a:lnTo>
                  <a:pt x="544" y="121"/>
                </a:lnTo>
                <a:lnTo>
                  <a:pt x="572" y="115"/>
                </a:lnTo>
                <a:lnTo>
                  <a:pt x="601" y="111"/>
                </a:lnTo>
                <a:lnTo>
                  <a:pt x="655" y="105"/>
                </a:lnTo>
                <a:lnTo>
                  <a:pt x="707" y="99"/>
                </a:lnTo>
                <a:lnTo>
                  <a:pt x="757" y="94"/>
                </a:lnTo>
                <a:lnTo>
                  <a:pt x="805" y="90"/>
                </a:lnTo>
                <a:lnTo>
                  <a:pt x="830" y="86"/>
                </a:lnTo>
                <a:lnTo>
                  <a:pt x="853" y="84"/>
                </a:lnTo>
                <a:lnTo>
                  <a:pt x="874" y="82"/>
                </a:lnTo>
                <a:lnTo>
                  <a:pt x="897" y="78"/>
                </a:lnTo>
                <a:lnTo>
                  <a:pt x="918" y="76"/>
                </a:lnTo>
                <a:lnTo>
                  <a:pt x="939" y="74"/>
                </a:lnTo>
                <a:lnTo>
                  <a:pt x="960" y="71"/>
                </a:lnTo>
                <a:lnTo>
                  <a:pt x="979" y="69"/>
                </a:lnTo>
                <a:lnTo>
                  <a:pt x="998" y="65"/>
                </a:lnTo>
                <a:lnTo>
                  <a:pt x="1018" y="63"/>
                </a:lnTo>
                <a:lnTo>
                  <a:pt x="1035" y="61"/>
                </a:lnTo>
                <a:lnTo>
                  <a:pt x="1050" y="57"/>
                </a:lnTo>
                <a:lnTo>
                  <a:pt x="1066" y="55"/>
                </a:lnTo>
                <a:lnTo>
                  <a:pt x="1081" y="53"/>
                </a:lnTo>
                <a:lnTo>
                  <a:pt x="1094" y="50"/>
                </a:lnTo>
                <a:lnTo>
                  <a:pt x="1106" y="48"/>
                </a:lnTo>
                <a:lnTo>
                  <a:pt x="1117" y="46"/>
                </a:lnTo>
                <a:lnTo>
                  <a:pt x="1127" y="42"/>
                </a:lnTo>
                <a:lnTo>
                  <a:pt x="1137" y="40"/>
                </a:lnTo>
                <a:lnTo>
                  <a:pt x="1144" y="38"/>
                </a:lnTo>
                <a:lnTo>
                  <a:pt x="1150" y="34"/>
                </a:lnTo>
                <a:lnTo>
                  <a:pt x="1156" y="32"/>
                </a:lnTo>
                <a:lnTo>
                  <a:pt x="1160" y="30"/>
                </a:lnTo>
                <a:lnTo>
                  <a:pt x="1163" y="26"/>
                </a:lnTo>
                <a:lnTo>
                  <a:pt x="1169" y="23"/>
                </a:lnTo>
                <a:lnTo>
                  <a:pt x="1175" y="17"/>
                </a:lnTo>
                <a:lnTo>
                  <a:pt x="1183" y="11"/>
                </a:lnTo>
                <a:lnTo>
                  <a:pt x="1190" y="7"/>
                </a:lnTo>
                <a:lnTo>
                  <a:pt x="1200" y="3"/>
                </a:lnTo>
                <a:lnTo>
                  <a:pt x="1210" y="2"/>
                </a:lnTo>
                <a:lnTo>
                  <a:pt x="1219" y="0"/>
                </a:lnTo>
                <a:lnTo>
                  <a:pt x="1229" y="0"/>
                </a:lnTo>
                <a:lnTo>
                  <a:pt x="1231" y="0"/>
                </a:lnTo>
                <a:lnTo>
                  <a:pt x="1236" y="2"/>
                </a:lnTo>
                <a:lnTo>
                  <a:pt x="1240" y="3"/>
                </a:lnTo>
                <a:lnTo>
                  <a:pt x="1248" y="7"/>
                </a:lnTo>
                <a:lnTo>
                  <a:pt x="1256" y="11"/>
                </a:lnTo>
                <a:lnTo>
                  <a:pt x="1263" y="15"/>
                </a:lnTo>
                <a:lnTo>
                  <a:pt x="1273" y="21"/>
                </a:lnTo>
                <a:lnTo>
                  <a:pt x="1284" y="28"/>
                </a:lnTo>
                <a:lnTo>
                  <a:pt x="1296" y="36"/>
                </a:lnTo>
                <a:lnTo>
                  <a:pt x="1307" y="44"/>
                </a:lnTo>
                <a:lnTo>
                  <a:pt x="1321" y="53"/>
                </a:lnTo>
                <a:lnTo>
                  <a:pt x="1334" y="63"/>
                </a:lnTo>
                <a:lnTo>
                  <a:pt x="1350" y="74"/>
                </a:lnTo>
                <a:lnTo>
                  <a:pt x="1365" y="86"/>
                </a:lnTo>
                <a:lnTo>
                  <a:pt x="1382" y="98"/>
                </a:lnTo>
                <a:lnTo>
                  <a:pt x="1398" y="111"/>
                </a:lnTo>
                <a:lnTo>
                  <a:pt x="1415" y="122"/>
                </a:lnTo>
                <a:lnTo>
                  <a:pt x="1430" y="136"/>
                </a:lnTo>
                <a:lnTo>
                  <a:pt x="1444" y="147"/>
                </a:lnTo>
                <a:lnTo>
                  <a:pt x="1457" y="159"/>
                </a:lnTo>
                <a:lnTo>
                  <a:pt x="1469" y="170"/>
                </a:lnTo>
                <a:lnTo>
                  <a:pt x="1480" y="182"/>
                </a:lnTo>
                <a:lnTo>
                  <a:pt x="1490" y="192"/>
                </a:lnTo>
                <a:lnTo>
                  <a:pt x="1497" y="201"/>
                </a:lnTo>
                <a:lnTo>
                  <a:pt x="1505" y="211"/>
                </a:lnTo>
                <a:lnTo>
                  <a:pt x="1511" y="220"/>
                </a:lnTo>
                <a:lnTo>
                  <a:pt x="1517" y="228"/>
                </a:lnTo>
                <a:lnTo>
                  <a:pt x="1522" y="236"/>
                </a:lnTo>
                <a:lnTo>
                  <a:pt x="1524" y="243"/>
                </a:lnTo>
                <a:lnTo>
                  <a:pt x="1528" y="251"/>
                </a:lnTo>
                <a:lnTo>
                  <a:pt x="1528" y="257"/>
                </a:lnTo>
                <a:lnTo>
                  <a:pt x="1530" y="263"/>
                </a:lnTo>
                <a:lnTo>
                  <a:pt x="1528" y="266"/>
                </a:lnTo>
                <a:lnTo>
                  <a:pt x="1528" y="272"/>
                </a:lnTo>
                <a:lnTo>
                  <a:pt x="1526" y="276"/>
                </a:lnTo>
                <a:lnTo>
                  <a:pt x="1524" y="280"/>
                </a:lnTo>
                <a:lnTo>
                  <a:pt x="1520" y="284"/>
                </a:lnTo>
                <a:lnTo>
                  <a:pt x="1517" y="288"/>
                </a:lnTo>
                <a:lnTo>
                  <a:pt x="1513" y="291"/>
                </a:lnTo>
                <a:lnTo>
                  <a:pt x="1507" y="295"/>
                </a:lnTo>
                <a:lnTo>
                  <a:pt x="1501" y="297"/>
                </a:lnTo>
                <a:lnTo>
                  <a:pt x="1496" y="301"/>
                </a:lnTo>
                <a:lnTo>
                  <a:pt x="1488" y="305"/>
                </a:lnTo>
                <a:lnTo>
                  <a:pt x="1480" y="307"/>
                </a:lnTo>
                <a:lnTo>
                  <a:pt x="1471" y="309"/>
                </a:lnTo>
                <a:lnTo>
                  <a:pt x="1461" y="312"/>
                </a:lnTo>
                <a:lnTo>
                  <a:pt x="1449" y="314"/>
                </a:lnTo>
                <a:lnTo>
                  <a:pt x="1438" y="3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53"/>
          <p:cNvSpPr/>
          <p:nvPr/>
        </p:nvSpPr>
        <p:spPr>
          <a:xfrm>
            <a:off x="6329520" y="3057480"/>
            <a:ext cx="233280" cy="471600"/>
          </a:xfrm>
          <a:custGeom>
            <a:avLst/>
            <a:gdLst/>
            <a:ahLst/>
            <a:rect l="l" t="t" r="r" b="b"/>
            <a:pathLst>
              <a:path w="296" h="595">
                <a:moveTo>
                  <a:pt x="0" y="401"/>
                </a:moveTo>
                <a:lnTo>
                  <a:pt x="0" y="395"/>
                </a:lnTo>
                <a:lnTo>
                  <a:pt x="2" y="387"/>
                </a:lnTo>
                <a:lnTo>
                  <a:pt x="6" y="380"/>
                </a:lnTo>
                <a:lnTo>
                  <a:pt x="12" y="370"/>
                </a:lnTo>
                <a:lnTo>
                  <a:pt x="14" y="364"/>
                </a:lnTo>
                <a:lnTo>
                  <a:pt x="17" y="359"/>
                </a:lnTo>
                <a:lnTo>
                  <a:pt x="21" y="353"/>
                </a:lnTo>
                <a:lnTo>
                  <a:pt x="27" y="345"/>
                </a:lnTo>
                <a:lnTo>
                  <a:pt x="33" y="339"/>
                </a:lnTo>
                <a:lnTo>
                  <a:pt x="38" y="332"/>
                </a:lnTo>
                <a:lnTo>
                  <a:pt x="44" y="326"/>
                </a:lnTo>
                <a:lnTo>
                  <a:pt x="52" y="318"/>
                </a:lnTo>
                <a:lnTo>
                  <a:pt x="65" y="301"/>
                </a:lnTo>
                <a:lnTo>
                  <a:pt x="79" y="284"/>
                </a:lnTo>
                <a:lnTo>
                  <a:pt x="85" y="274"/>
                </a:lnTo>
                <a:lnTo>
                  <a:pt x="90" y="263"/>
                </a:lnTo>
                <a:lnTo>
                  <a:pt x="96" y="253"/>
                </a:lnTo>
                <a:lnTo>
                  <a:pt x="102" y="242"/>
                </a:lnTo>
                <a:lnTo>
                  <a:pt x="108" y="230"/>
                </a:lnTo>
                <a:lnTo>
                  <a:pt x="113" y="217"/>
                </a:lnTo>
                <a:lnTo>
                  <a:pt x="119" y="203"/>
                </a:lnTo>
                <a:lnTo>
                  <a:pt x="123" y="190"/>
                </a:lnTo>
                <a:lnTo>
                  <a:pt x="129" y="174"/>
                </a:lnTo>
                <a:lnTo>
                  <a:pt x="133" y="159"/>
                </a:lnTo>
                <a:lnTo>
                  <a:pt x="138" y="142"/>
                </a:lnTo>
                <a:lnTo>
                  <a:pt x="144" y="124"/>
                </a:lnTo>
                <a:lnTo>
                  <a:pt x="148" y="109"/>
                </a:lnTo>
                <a:lnTo>
                  <a:pt x="154" y="96"/>
                </a:lnTo>
                <a:lnTo>
                  <a:pt x="157" y="82"/>
                </a:lnTo>
                <a:lnTo>
                  <a:pt x="161" y="69"/>
                </a:lnTo>
                <a:lnTo>
                  <a:pt x="167" y="59"/>
                </a:lnTo>
                <a:lnTo>
                  <a:pt x="171" y="48"/>
                </a:lnTo>
                <a:lnTo>
                  <a:pt x="177" y="38"/>
                </a:lnTo>
                <a:lnTo>
                  <a:pt x="181" y="30"/>
                </a:lnTo>
                <a:lnTo>
                  <a:pt x="184" y="23"/>
                </a:lnTo>
                <a:lnTo>
                  <a:pt x="188" y="17"/>
                </a:lnTo>
                <a:lnTo>
                  <a:pt x="192" y="11"/>
                </a:lnTo>
                <a:lnTo>
                  <a:pt x="196" y="7"/>
                </a:lnTo>
                <a:lnTo>
                  <a:pt x="200" y="4"/>
                </a:lnTo>
                <a:lnTo>
                  <a:pt x="204" y="2"/>
                </a:lnTo>
                <a:lnTo>
                  <a:pt x="205" y="0"/>
                </a:lnTo>
                <a:lnTo>
                  <a:pt x="209" y="0"/>
                </a:lnTo>
                <a:lnTo>
                  <a:pt x="213" y="5"/>
                </a:lnTo>
                <a:lnTo>
                  <a:pt x="221" y="9"/>
                </a:lnTo>
                <a:lnTo>
                  <a:pt x="229" y="15"/>
                </a:lnTo>
                <a:lnTo>
                  <a:pt x="236" y="23"/>
                </a:lnTo>
                <a:lnTo>
                  <a:pt x="246" y="29"/>
                </a:lnTo>
                <a:lnTo>
                  <a:pt x="253" y="36"/>
                </a:lnTo>
                <a:lnTo>
                  <a:pt x="263" y="46"/>
                </a:lnTo>
                <a:lnTo>
                  <a:pt x="275" y="55"/>
                </a:lnTo>
                <a:lnTo>
                  <a:pt x="278" y="63"/>
                </a:lnTo>
                <a:lnTo>
                  <a:pt x="282" y="71"/>
                </a:lnTo>
                <a:lnTo>
                  <a:pt x="286" y="80"/>
                </a:lnTo>
                <a:lnTo>
                  <a:pt x="288" y="90"/>
                </a:lnTo>
                <a:lnTo>
                  <a:pt x="290" y="100"/>
                </a:lnTo>
                <a:lnTo>
                  <a:pt x="292" y="109"/>
                </a:lnTo>
                <a:lnTo>
                  <a:pt x="294" y="119"/>
                </a:lnTo>
                <a:lnTo>
                  <a:pt x="296" y="130"/>
                </a:lnTo>
                <a:lnTo>
                  <a:pt x="296" y="144"/>
                </a:lnTo>
                <a:lnTo>
                  <a:pt x="296" y="155"/>
                </a:lnTo>
                <a:lnTo>
                  <a:pt x="294" y="169"/>
                </a:lnTo>
                <a:lnTo>
                  <a:pt x="294" y="184"/>
                </a:lnTo>
                <a:lnTo>
                  <a:pt x="292" y="197"/>
                </a:lnTo>
                <a:lnTo>
                  <a:pt x="292" y="215"/>
                </a:lnTo>
                <a:lnTo>
                  <a:pt x="290" y="230"/>
                </a:lnTo>
                <a:lnTo>
                  <a:pt x="288" y="249"/>
                </a:lnTo>
                <a:lnTo>
                  <a:pt x="276" y="284"/>
                </a:lnTo>
                <a:lnTo>
                  <a:pt x="265" y="318"/>
                </a:lnTo>
                <a:lnTo>
                  <a:pt x="253" y="351"/>
                </a:lnTo>
                <a:lnTo>
                  <a:pt x="240" y="384"/>
                </a:lnTo>
                <a:lnTo>
                  <a:pt x="225" y="414"/>
                </a:lnTo>
                <a:lnTo>
                  <a:pt x="211" y="443"/>
                </a:lnTo>
                <a:lnTo>
                  <a:pt x="198" y="470"/>
                </a:lnTo>
                <a:lnTo>
                  <a:pt x="182" y="497"/>
                </a:lnTo>
                <a:lnTo>
                  <a:pt x="175" y="510"/>
                </a:lnTo>
                <a:lnTo>
                  <a:pt x="167" y="522"/>
                </a:lnTo>
                <a:lnTo>
                  <a:pt x="161" y="531"/>
                </a:lnTo>
                <a:lnTo>
                  <a:pt x="154" y="541"/>
                </a:lnTo>
                <a:lnTo>
                  <a:pt x="146" y="551"/>
                </a:lnTo>
                <a:lnTo>
                  <a:pt x="140" y="558"/>
                </a:lnTo>
                <a:lnTo>
                  <a:pt x="133" y="566"/>
                </a:lnTo>
                <a:lnTo>
                  <a:pt x="127" y="572"/>
                </a:lnTo>
                <a:lnTo>
                  <a:pt x="121" y="577"/>
                </a:lnTo>
                <a:lnTo>
                  <a:pt x="115" y="581"/>
                </a:lnTo>
                <a:lnTo>
                  <a:pt x="110" y="585"/>
                </a:lnTo>
                <a:lnTo>
                  <a:pt x="106" y="589"/>
                </a:lnTo>
                <a:lnTo>
                  <a:pt x="100" y="591"/>
                </a:lnTo>
                <a:lnTo>
                  <a:pt x="96" y="593"/>
                </a:lnTo>
                <a:lnTo>
                  <a:pt x="94" y="593"/>
                </a:lnTo>
                <a:lnTo>
                  <a:pt x="90" y="595"/>
                </a:lnTo>
                <a:lnTo>
                  <a:pt x="86" y="593"/>
                </a:lnTo>
                <a:lnTo>
                  <a:pt x="81" y="593"/>
                </a:lnTo>
                <a:lnTo>
                  <a:pt x="77" y="591"/>
                </a:lnTo>
                <a:lnTo>
                  <a:pt x="71" y="589"/>
                </a:lnTo>
                <a:lnTo>
                  <a:pt x="67" y="585"/>
                </a:lnTo>
                <a:lnTo>
                  <a:pt x="62" y="581"/>
                </a:lnTo>
                <a:lnTo>
                  <a:pt x="58" y="577"/>
                </a:lnTo>
                <a:lnTo>
                  <a:pt x="54" y="574"/>
                </a:lnTo>
                <a:lnTo>
                  <a:pt x="48" y="568"/>
                </a:lnTo>
                <a:lnTo>
                  <a:pt x="44" y="562"/>
                </a:lnTo>
                <a:lnTo>
                  <a:pt x="40" y="554"/>
                </a:lnTo>
                <a:lnTo>
                  <a:pt x="37" y="547"/>
                </a:lnTo>
                <a:lnTo>
                  <a:pt x="35" y="539"/>
                </a:lnTo>
                <a:lnTo>
                  <a:pt x="31" y="529"/>
                </a:lnTo>
                <a:lnTo>
                  <a:pt x="29" y="522"/>
                </a:lnTo>
                <a:lnTo>
                  <a:pt x="25" y="510"/>
                </a:lnTo>
                <a:lnTo>
                  <a:pt x="21" y="491"/>
                </a:lnTo>
                <a:lnTo>
                  <a:pt x="15" y="472"/>
                </a:lnTo>
                <a:lnTo>
                  <a:pt x="12" y="455"/>
                </a:lnTo>
                <a:lnTo>
                  <a:pt x="10" y="447"/>
                </a:lnTo>
                <a:lnTo>
                  <a:pt x="8" y="439"/>
                </a:lnTo>
                <a:lnTo>
                  <a:pt x="6" y="434"/>
                </a:lnTo>
                <a:lnTo>
                  <a:pt x="4" y="428"/>
                </a:lnTo>
                <a:lnTo>
                  <a:pt x="2" y="422"/>
                </a:lnTo>
                <a:lnTo>
                  <a:pt x="2" y="416"/>
                </a:lnTo>
                <a:lnTo>
                  <a:pt x="0" y="410"/>
                </a:lnTo>
                <a:lnTo>
                  <a:pt x="0" y="407"/>
                </a:lnTo>
                <a:lnTo>
                  <a:pt x="0" y="403"/>
                </a:lnTo>
                <a:lnTo>
                  <a:pt x="0" y="4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154"/>
          <p:cNvSpPr/>
          <p:nvPr/>
        </p:nvSpPr>
        <p:spPr>
          <a:xfrm>
            <a:off x="6719760" y="2724120"/>
            <a:ext cx="292320" cy="277920"/>
          </a:xfrm>
          <a:custGeom>
            <a:avLst/>
            <a:gdLst/>
            <a:ahLst/>
            <a:rect l="l" t="t" r="r" b="b"/>
            <a:pathLst>
              <a:path w="369" h="352">
                <a:moveTo>
                  <a:pt x="133" y="6"/>
                </a:moveTo>
                <a:lnTo>
                  <a:pt x="150" y="8"/>
                </a:lnTo>
                <a:lnTo>
                  <a:pt x="165" y="12"/>
                </a:lnTo>
                <a:lnTo>
                  <a:pt x="181" y="14"/>
                </a:lnTo>
                <a:lnTo>
                  <a:pt x="194" y="18"/>
                </a:lnTo>
                <a:lnTo>
                  <a:pt x="209" y="20"/>
                </a:lnTo>
                <a:lnTo>
                  <a:pt x="221" y="23"/>
                </a:lnTo>
                <a:lnTo>
                  <a:pt x="232" y="27"/>
                </a:lnTo>
                <a:lnTo>
                  <a:pt x="244" y="29"/>
                </a:lnTo>
                <a:lnTo>
                  <a:pt x="255" y="35"/>
                </a:lnTo>
                <a:lnTo>
                  <a:pt x="265" y="39"/>
                </a:lnTo>
                <a:lnTo>
                  <a:pt x="275" y="43"/>
                </a:lnTo>
                <a:lnTo>
                  <a:pt x="284" y="48"/>
                </a:lnTo>
                <a:lnTo>
                  <a:pt x="294" y="54"/>
                </a:lnTo>
                <a:lnTo>
                  <a:pt x="301" y="60"/>
                </a:lnTo>
                <a:lnTo>
                  <a:pt x="309" y="68"/>
                </a:lnTo>
                <a:lnTo>
                  <a:pt x="317" y="75"/>
                </a:lnTo>
                <a:lnTo>
                  <a:pt x="323" y="83"/>
                </a:lnTo>
                <a:lnTo>
                  <a:pt x="330" y="91"/>
                </a:lnTo>
                <a:lnTo>
                  <a:pt x="336" y="100"/>
                </a:lnTo>
                <a:lnTo>
                  <a:pt x="342" y="110"/>
                </a:lnTo>
                <a:lnTo>
                  <a:pt x="346" y="117"/>
                </a:lnTo>
                <a:lnTo>
                  <a:pt x="349" y="127"/>
                </a:lnTo>
                <a:lnTo>
                  <a:pt x="353" y="137"/>
                </a:lnTo>
                <a:lnTo>
                  <a:pt x="357" y="148"/>
                </a:lnTo>
                <a:lnTo>
                  <a:pt x="363" y="169"/>
                </a:lnTo>
                <a:lnTo>
                  <a:pt x="367" y="192"/>
                </a:lnTo>
                <a:lnTo>
                  <a:pt x="369" y="215"/>
                </a:lnTo>
                <a:lnTo>
                  <a:pt x="369" y="240"/>
                </a:lnTo>
                <a:lnTo>
                  <a:pt x="369" y="254"/>
                </a:lnTo>
                <a:lnTo>
                  <a:pt x="369" y="265"/>
                </a:lnTo>
                <a:lnTo>
                  <a:pt x="367" y="277"/>
                </a:lnTo>
                <a:lnTo>
                  <a:pt x="367" y="286"/>
                </a:lnTo>
                <a:lnTo>
                  <a:pt x="365" y="298"/>
                </a:lnTo>
                <a:lnTo>
                  <a:pt x="363" y="306"/>
                </a:lnTo>
                <a:lnTo>
                  <a:pt x="359" y="315"/>
                </a:lnTo>
                <a:lnTo>
                  <a:pt x="357" y="323"/>
                </a:lnTo>
                <a:lnTo>
                  <a:pt x="353" y="329"/>
                </a:lnTo>
                <a:lnTo>
                  <a:pt x="349" y="334"/>
                </a:lnTo>
                <a:lnTo>
                  <a:pt x="346" y="340"/>
                </a:lnTo>
                <a:lnTo>
                  <a:pt x="342" y="344"/>
                </a:lnTo>
                <a:lnTo>
                  <a:pt x="336" y="348"/>
                </a:lnTo>
                <a:lnTo>
                  <a:pt x="330" y="350"/>
                </a:lnTo>
                <a:lnTo>
                  <a:pt x="323" y="352"/>
                </a:lnTo>
                <a:lnTo>
                  <a:pt x="317" y="352"/>
                </a:lnTo>
                <a:lnTo>
                  <a:pt x="309" y="350"/>
                </a:lnTo>
                <a:lnTo>
                  <a:pt x="301" y="348"/>
                </a:lnTo>
                <a:lnTo>
                  <a:pt x="292" y="346"/>
                </a:lnTo>
                <a:lnTo>
                  <a:pt x="284" y="342"/>
                </a:lnTo>
                <a:lnTo>
                  <a:pt x="275" y="336"/>
                </a:lnTo>
                <a:lnTo>
                  <a:pt x="265" y="329"/>
                </a:lnTo>
                <a:lnTo>
                  <a:pt x="255" y="321"/>
                </a:lnTo>
                <a:lnTo>
                  <a:pt x="244" y="311"/>
                </a:lnTo>
                <a:lnTo>
                  <a:pt x="232" y="302"/>
                </a:lnTo>
                <a:lnTo>
                  <a:pt x="221" y="290"/>
                </a:lnTo>
                <a:lnTo>
                  <a:pt x="207" y="279"/>
                </a:lnTo>
                <a:lnTo>
                  <a:pt x="194" y="265"/>
                </a:lnTo>
                <a:lnTo>
                  <a:pt x="181" y="250"/>
                </a:lnTo>
                <a:lnTo>
                  <a:pt x="165" y="235"/>
                </a:lnTo>
                <a:lnTo>
                  <a:pt x="150" y="217"/>
                </a:lnTo>
                <a:lnTo>
                  <a:pt x="133" y="200"/>
                </a:lnTo>
                <a:lnTo>
                  <a:pt x="117" y="181"/>
                </a:lnTo>
                <a:lnTo>
                  <a:pt x="102" y="165"/>
                </a:lnTo>
                <a:lnTo>
                  <a:pt x="86" y="148"/>
                </a:lnTo>
                <a:lnTo>
                  <a:pt x="73" y="135"/>
                </a:lnTo>
                <a:lnTo>
                  <a:pt x="60" y="119"/>
                </a:lnTo>
                <a:lnTo>
                  <a:pt x="48" y="108"/>
                </a:lnTo>
                <a:lnTo>
                  <a:pt x="38" y="94"/>
                </a:lnTo>
                <a:lnTo>
                  <a:pt x="29" y="83"/>
                </a:lnTo>
                <a:lnTo>
                  <a:pt x="21" y="73"/>
                </a:lnTo>
                <a:lnTo>
                  <a:pt x="14" y="64"/>
                </a:lnTo>
                <a:lnTo>
                  <a:pt x="10" y="54"/>
                </a:lnTo>
                <a:lnTo>
                  <a:pt x="4" y="46"/>
                </a:lnTo>
                <a:lnTo>
                  <a:pt x="2" y="39"/>
                </a:lnTo>
                <a:lnTo>
                  <a:pt x="0" y="31"/>
                </a:lnTo>
                <a:lnTo>
                  <a:pt x="0" y="25"/>
                </a:lnTo>
                <a:lnTo>
                  <a:pt x="2" y="20"/>
                </a:lnTo>
                <a:lnTo>
                  <a:pt x="4" y="18"/>
                </a:lnTo>
                <a:lnTo>
                  <a:pt x="4" y="14"/>
                </a:lnTo>
                <a:lnTo>
                  <a:pt x="6" y="12"/>
                </a:lnTo>
                <a:lnTo>
                  <a:pt x="10" y="10"/>
                </a:lnTo>
                <a:lnTo>
                  <a:pt x="14" y="8"/>
                </a:lnTo>
                <a:lnTo>
                  <a:pt x="19" y="6"/>
                </a:lnTo>
                <a:lnTo>
                  <a:pt x="27" y="4"/>
                </a:lnTo>
                <a:lnTo>
                  <a:pt x="33" y="2"/>
                </a:lnTo>
                <a:lnTo>
                  <a:pt x="42" y="0"/>
                </a:lnTo>
                <a:lnTo>
                  <a:pt x="52" y="0"/>
                </a:lnTo>
                <a:lnTo>
                  <a:pt x="62" y="0"/>
                </a:lnTo>
                <a:lnTo>
                  <a:pt x="75" y="0"/>
                </a:lnTo>
                <a:lnTo>
                  <a:pt x="86" y="0"/>
                </a:lnTo>
                <a:lnTo>
                  <a:pt x="102" y="2"/>
                </a:lnTo>
                <a:lnTo>
                  <a:pt x="117" y="4"/>
                </a:lnTo>
                <a:lnTo>
                  <a:pt x="133" y="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155"/>
          <p:cNvSpPr/>
          <p:nvPr/>
        </p:nvSpPr>
        <p:spPr>
          <a:xfrm>
            <a:off x="5452920" y="4327560"/>
            <a:ext cx="782640" cy="452520"/>
          </a:xfrm>
          <a:custGeom>
            <a:avLst/>
            <a:gdLst/>
            <a:ahLst/>
            <a:rect l="l" t="t" r="r" b="b"/>
            <a:pathLst>
              <a:path w="987" h="570">
                <a:moveTo>
                  <a:pt x="567" y="155"/>
                </a:moveTo>
                <a:lnTo>
                  <a:pt x="592" y="142"/>
                </a:lnTo>
                <a:lnTo>
                  <a:pt x="615" y="132"/>
                </a:lnTo>
                <a:lnTo>
                  <a:pt x="638" y="120"/>
                </a:lnTo>
                <a:lnTo>
                  <a:pt x="659" y="111"/>
                </a:lnTo>
                <a:lnTo>
                  <a:pt x="680" y="101"/>
                </a:lnTo>
                <a:lnTo>
                  <a:pt x="701" y="92"/>
                </a:lnTo>
                <a:lnTo>
                  <a:pt x="722" y="84"/>
                </a:lnTo>
                <a:lnTo>
                  <a:pt x="741" y="74"/>
                </a:lnTo>
                <a:lnTo>
                  <a:pt x="759" y="67"/>
                </a:lnTo>
                <a:lnTo>
                  <a:pt x="778" y="61"/>
                </a:lnTo>
                <a:lnTo>
                  <a:pt x="795" y="53"/>
                </a:lnTo>
                <a:lnTo>
                  <a:pt x="810" y="48"/>
                </a:lnTo>
                <a:lnTo>
                  <a:pt x="826" y="42"/>
                </a:lnTo>
                <a:lnTo>
                  <a:pt x="841" y="36"/>
                </a:lnTo>
                <a:lnTo>
                  <a:pt x="856" y="30"/>
                </a:lnTo>
                <a:lnTo>
                  <a:pt x="870" y="26"/>
                </a:lnTo>
                <a:lnTo>
                  <a:pt x="881" y="21"/>
                </a:lnTo>
                <a:lnTo>
                  <a:pt x="895" y="17"/>
                </a:lnTo>
                <a:lnTo>
                  <a:pt x="906" y="13"/>
                </a:lnTo>
                <a:lnTo>
                  <a:pt x="916" y="11"/>
                </a:lnTo>
                <a:lnTo>
                  <a:pt x="926" y="7"/>
                </a:lnTo>
                <a:lnTo>
                  <a:pt x="935" y="5"/>
                </a:lnTo>
                <a:lnTo>
                  <a:pt x="943" y="3"/>
                </a:lnTo>
                <a:lnTo>
                  <a:pt x="951" y="1"/>
                </a:lnTo>
                <a:lnTo>
                  <a:pt x="958" y="1"/>
                </a:lnTo>
                <a:lnTo>
                  <a:pt x="964" y="0"/>
                </a:lnTo>
                <a:lnTo>
                  <a:pt x="970" y="0"/>
                </a:lnTo>
                <a:lnTo>
                  <a:pt x="976" y="0"/>
                </a:lnTo>
                <a:lnTo>
                  <a:pt x="979" y="0"/>
                </a:lnTo>
                <a:lnTo>
                  <a:pt x="981" y="0"/>
                </a:lnTo>
                <a:lnTo>
                  <a:pt x="983" y="1"/>
                </a:lnTo>
                <a:lnTo>
                  <a:pt x="985" y="1"/>
                </a:lnTo>
                <a:lnTo>
                  <a:pt x="987" y="5"/>
                </a:lnTo>
                <a:lnTo>
                  <a:pt x="987" y="9"/>
                </a:lnTo>
                <a:lnTo>
                  <a:pt x="985" y="15"/>
                </a:lnTo>
                <a:lnTo>
                  <a:pt x="981" y="21"/>
                </a:lnTo>
                <a:lnTo>
                  <a:pt x="976" y="26"/>
                </a:lnTo>
                <a:lnTo>
                  <a:pt x="968" y="34"/>
                </a:lnTo>
                <a:lnTo>
                  <a:pt x="960" y="44"/>
                </a:lnTo>
                <a:lnTo>
                  <a:pt x="949" y="53"/>
                </a:lnTo>
                <a:lnTo>
                  <a:pt x="937" y="65"/>
                </a:lnTo>
                <a:lnTo>
                  <a:pt x="924" y="76"/>
                </a:lnTo>
                <a:lnTo>
                  <a:pt x="910" y="90"/>
                </a:lnTo>
                <a:lnTo>
                  <a:pt x="893" y="103"/>
                </a:lnTo>
                <a:lnTo>
                  <a:pt x="876" y="117"/>
                </a:lnTo>
                <a:lnTo>
                  <a:pt x="856" y="134"/>
                </a:lnTo>
                <a:lnTo>
                  <a:pt x="837" y="149"/>
                </a:lnTo>
                <a:lnTo>
                  <a:pt x="816" y="168"/>
                </a:lnTo>
                <a:lnTo>
                  <a:pt x="772" y="203"/>
                </a:lnTo>
                <a:lnTo>
                  <a:pt x="726" y="239"/>
                </a:lnTo>
                <a:lnTo>
                  <a:pt x="678" y="272"/>
                </a:lnTo>
                <a:lnTo>
                  <a:pt x="630" y="305"/>
                </a:lnTo>
                <a:lnTo>
                  <a:pt x="580" y="335"/>
                </a:lnTo>
                <a:lnTo>
                  <a:pt x="528" y="368"/>
                </a:lnTo>
                <a:lnTo>
                  <a:pt x="476" y="399"/>
                </a:lnTo>
                <a:lnTo>
                  <a:pt x="423" y="431"/>
                </a:lnTo>
                <a:lnTo>
                  <a:pt x="398" y="449"/>
                </a:lnTo>
                <a:lnTo>
                  <a:pt x="373" y="464"/>
                </a:lnTo>
                <a:lnTo>
                  <a:pt x="350" y="479"/>
                </a:lnTo>
                <a:lnTo>
                  <a:pt x="329" y="493"/>
                </a:lnTo>
                <a:lnTo>
                  <a:pt x="308" y="506"/>
                </a:lnTo>
                <a:lnTo>
                  <a:pt x="288" y="518"/>
                </a:lnTo>
                <a:lnTo>
                  <a:pt x="271" y="527"/>
                </a:lnTo>
                <a:lnTo>
                  <a:pt x="254" y="537"/>
                </a:lnTo>
                <a:lnTo>
                  <a:pt x="238" y="545"/>
                </a:lnTo>
                <a:lnTo>
                  <a:pt x="225" y="550"/>
                </a:lnTo>
                <a:lnTo>
                  <a:pt x="212" y="556"/>
                </a:lnTo>
                <a:lnTo>
                  <a:pt x="200" y="560"/>
                </a:lnTo>
                <a:lnTo>
                  <a:pt x="189" y="564"/>
                </a:lnTo>
                <a:lnTo>
                  <a:pt x="179" y="568"/>
                </a:lnTo>
                <a:lnTo>
                  <a:pt x="169" y="568"/>
                </a:lnTo>
                <a:lnTo>
                  <a:pt x="162" y="570"/>
                </a:lnTo>
                <a:lnTo>
                  <a:pt x="154" y="568"/>
                </a:lnTo>
                <a:lnTo>
                  <a:pt x="148" y="568"/>
                </a:lnTo>
                <a:lnTo>
                  <a:pt x="141" y="566"/>
                </a:lnTo>
                <a:lnTo>
                  <a:pt x="133" y="564"/>
                </a:lnTo>
                <a:lnTo>
                  <a:pt x="125" y="560"/>
                </a:lnTo>
                <a:lnTo>
                  <a:pt x="118" y="556"/>
                </a:lnTo>
                <a:lnTo>
                  <a:pt x="110" y="552"/>
                </a:lnTo>
                <a:lnTo>
                  <a:pt x="102" y="547"/>
                </a:lnTo>
                <a:lnTo>
                  <a:pt x="96" y="541"/>
                </a:lnTo>
                <a:lnTo>
                  <a:pt x="89" y="533"/>
                </a:lnTo>
                <a:lnTo>
                  <a:pt x="81" y="525"/>
                </a:lnTo>
                <a:lnTo>
                  <a:pt x="73" y="516"/>
                </a:lnTo>
                <a:lnTo>
                  <a:pt x="66" y="506"/>
                </a:lnTo>
                <a:lnTo>
                  <a:pt x="58" y="497"/>
                </a:lnTo>
                <a:lnTo>
                  <a:pt x="52" y="485"/>
                </a:lnTo>
                <a:lnTo>
                  <a:pt x="45" y="472"/>
                </a:lnTo>
                <a:lnTo>
                  <a:pt x="37" y="460"/>
                </a:lnTo>
                <a:lnTo>
                  <a:pt x="31" y="447"/>
                </a:lnTo>
                <a:lnTo>
                  <a:pt x="25" y="435"/>
                </a:lnTo>
                <a:lnTo>
                  <a:pt x="20" y="426"/>
                </a:lnTo>
                <a:lnTo>
                  <a:pt x="16" y="414"/>
                </a:lnTo>
                <a:lnTo>
                  <a:pt x="12" y="405"/>
                </a:lnTo>
                <a:lnTo>
                  <a:pt x="8" y="397"/>
                </a:lnTo>
                <a:lnTo>
                  <a:pt x="6" y="387"/>
                </a:lnTo>
                <a:lnTo>
                  <a:pt x="2" y="380"/>
                </a:lnTo>
                <a:lnTo>
                  <a:pt x="2" y="372"/>
                </a:lnTo>
                <a:lnTo>
                  <a:pt x="0" y="364"/>
                </a:lnTo>
                <a:lnTo>
                  <a:pt x="0" y="357"/>
                </a:lnTo>
                <a:lnTo>
                  <a:pt x="0" y="351"/>
                </a:lnTo>
                <a:lnTo>
                  <a:pt x="2" y="345"/>
                </a:lnTo>
                <a:lnTo>
                  <a:pt x="2" y="339"/>
                </a:lnTo>
                <a:lnTo>
                  <a:pt x="6" y="334"/>
                </a:lnTo>
                <a:lnTo>
                  <a:pt x="8" y="330"/>
                </a:lnTo>
                <a:lnTo>
                  <a:pt x="10" y="324"/>
                </a:lnTo>
                <a:lnTo>
                  <a:pt x="12" y="322"/>
                </a:lnTo>
                <a:lnTo>
                  <a:pt x="16" y="318"/>
                </a:lnTo>
                <a:lnTo>
                  <a:pt x="18" y="316"/>
                </a:lnTo>
                <a:lnTo>
                  <a:pt x="22" y="314"/>
                </a:lnTo>
                <a:lnTo>
                  <a:pt x="23" y="312"/>
                </a:lnTo>
                <a:lnTo>
                  <a:pt x="27" y="311"/>
                </a:lnTo>
                <a:lnTo>
                  <a:pt x="31" y="311"/>
                </a:lnTo>
                <a:lnTo>
                  <a:pt x="35" y="311"/>
                </a:lnTo>
                <a:lnTo>
                  <a:pt x="45" y="312"/>
                </a:lnTo>
                <a:lnTo>
                  <a:pt x="50" y="314"/>
                </a:lnTo>
                <a:lnTo>
                  <a:pt x="56" y="316"/>
                </a:lnTo>
                <a:lnTo>
                  <a:pt x="64" y="318"/>
                </a:lnTo>
                <a:lnTo>
                  <a:pt x="71" y="320"/>
                </a:lnTo>
                <a:lnTo>
                  <a:pt x="81" y="326"/>
                </a:lnTo>
                <a:lnTo>
                  <a:pt x="91" y="330"/>
                </a:lnTo>
                <a:lnTo>
                  <a:pt x="100" y="334"/>
                </a:lnTo>
                <a:lnTo>
                  <a:pt x="110" y="337"/>
                </a:lnTo>
                <a:lnTo>
                  <a:pt x="119" y="339"/>
                </a:lnTo>
                <a:lnTo>
                  <a:pt x="125" y="339"/>
                </a:lnTo>
                <a:lnTo>
                  <a:pt x="129" y="339"/>
                </a:lnTo>
                <a:lnTo>
                  <a:pt x="135" y="339"/>
                </a:lnTo>
                <a:lnTo>
                  <a:pt x="139" y="337"/>
                </a:lnTo>
                <a:lnTo>
                  <a:pt x="144" y="335"/>
                </a:lnTo>
                <a:lnTo>
                  <a:pt x="148" y="334"/>
                </a:lnTo>
                <a:lnTo>
                  <a:pt x="150" y="334"/>
                </a:lnTo>
                <a:lnTo>
                  <a:pt x="152" y="334"/>
                </a:lnTo>
                <a:lnTo>
                  <a:pt x="156" y="334"/>
                </a:lnTo>
                <a:lnTo>
                  <a:pt x="160" y="332"/>
                </a:lnTo>
                <a:lnTo>
                  <a:pt x="166" y="330"/>
                </a:lnTo>
                <a:lnTo>
                  <a:pt x="169" y="328"/>
                </a:lnTo>
                <a:lnTo>
                  <a:pt x="177" y="326"/>
                </a:lnTo>
                <a:lnTo>
                  <a:pt x="183" y="324"/>
                </a:lnTo>
                <a:lnTo>
                  <a:pt x="190" y="320"/>
                </a:lnTo>
                <a:lnTo>
                  <a:pt x="200" y="318"/>
                </a:lnTo>
                <a:lnTo>
                  <a:pt x="208" y="314"/>
                </a:lnTo>
                <a:lnTo>
                  <a:pt x="219" y="311"/>
                </a:lnTo>
                <a:lnTo>
                  <a:pt x="229" y="307"/>
                </a:lnTo>
                <a:lnTo>
                  <a:pt x="240" y="301"/>
                </a:lnTo>
                <a:lnTo>
                  <a:pt x="252" y="297"/>
                </a:lnTo>
                <a:lnTo>
                  <a:pt x="265" y="291"/>
                </a:lnTo>
                <a:lnTo>
                  <a:pt x="279" y="286"/>
                </a:lnTo>
                <a:lnTo>
                  <a:pt x="292" y="280"/>
                </a:lnTo>
                <a:lnTo>
                  <a:pt x="308" y="274"/>
                </a:lnTo>
                <a:lnTo>
                  <a:pt x="323" y="266"/>
                </a:lnTo>
                <a:lnTo>
                  <a:pt x="340" y="259"/>
                </a:lnTo>
                <a:lnTo>
                  <a:pt x="357" y="253"/>
                </a:lnTo>
                <a:lnTo>
                  <a:pt x="375" y="243"/>
                </a:lnTo>
                <a:lnTo>
                  <a:pt x="394" y="236"/>
                </a:lnTo>
                <a:lnTo>
                  <a:pt x="413" y="226"/>
                </a:lnTo>
                <a:lnTo>
                  <a:pt x="432" y="218"/>
                </a:lnTo>
                <a:lnTo>
                  <a:pt x="453" y="209"/>
                </a:lnTo>
                <a:lnTo>
                  <a:pt x="475" y="197"/>
                </a:lnTo>
                <a:lnTo>
                  <a:pt x="498" y="188"/>
                </a:lnTo>
                <a:lnTo>
                  <a:pt x="521" y="176"/>
                </a:lnTo>
                <a:lnTo>
                  <a:pt x="544" y="167"/>
                </a:lnTo>
                <a:lnTo>
                  <a:pt x="567" y="1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56"/>
          <p:cNvSpPr/>
          <p:nvPr/>
        </p:nvSpPr>
        <p:spPr>
          <a:xfrm>
            <a:off x="5499000" y="2843280"/>
            <a:ext cx="560520" cy="927000"/>
          </a:xfrm>
          <a:custGeom>
            <a:avLst/>
            <a:gdLst/>
            <a:ahLst/>
            <a:rect l="l" t="t" r="r" b="b"/>
            <a:pathLst>
              <a:path w="706" h="1167">
                <a:moveTo>
                  <a:pt x="169" y="1154"/>
                </a:moveTo>
                <a:lnTo>
                  <a:pt x="155" y="1157"/>
                </a:lnTo>
                <a:lnTo>
                  <a:pt x="142" y="1161"/>
                </a:lnTo>
                <a:lnTo>
                  <a:pt x="131" y="1163"/>
                </a:lnTo>
                <a:lnTo>
                  <a:pt x="121" y="1165"/>
                </a:lnTo>
                <a:lnTo>
                  <a:pt x="111" y="1167"/>
                </a:lnTo>
                <a:lnTo>
                  <a:pt x="104" y="1167"/>
                </a:lnTo>
                <a:lnTo>
                  <a:pt x="96" y="1167"/>
                </a:lnTo>
                <a:lnTo>
                  <a:pt x="90" y="1167"/>
                </a:lnTo>
                <a:lnTo>
                  <a:pt x="88" y="1167"/>
                </a:lnTo>
                <a:lnTo>
                  <a:pt x="84" y="1165"/>
                </a:lnTo>
                <a:lnTo>
                  <a:pt x="83" y="1165"/>
                </a:lnTo>
                <a:lnTo>
                  <a:pt x="79" y="1161"/>
                </a:lnTo>
                <a:lnTo>
                  <a:pt x="75" y="1159"/>
                </a:lnTo>
                <a:lnTo>
                  <a:pt x="71" y="1156"/>
                </a:lnTo>
                <a:lnTo>
                  <a:pt x="69" y="1152"/>
                </a:lnTo>
                <a:lnTo>
                  <a:pt x="65" y="1148"/>
                </a:lnTo>
                <a:lnTo>
                  <a:pt x="61" y="1144"/>
                </a:lnTo>
                <a:lnTo>
                  <a:pt x="58" y="1138"/>
                </a:lnTo>
                <a:lnTo>
                  <a:pt x="50" y="1127"/>
                </a:lnTo>
                <a:lnTo>
                  <a:pt x="44" y="1113"/>
                </a:lnTo>
                <a:lnTo>
                  <a:pt x="38" y="1098"/>
                </a:lnTo>
                <a:lnTo>
                  <a:pt x="29" y="1083"/>
                </a:lnTo>
                <a:lnTo>
                  <a:pt x="21" y="1067"/>
                </a:lnTo>
                <a:lnTo>
                  <a:pt x="15" y="1052"/>
                </a:lnTo>
                <a:lnTo>
                  <a:pt x="10" y="1037"/>
                </a:lnTo>
                <a:lnTo>
                  <a:pt x="6" y="1023"/>
                </a:lnTo>
                <a:lnTo>
                  <a:pt x="2" y="1010"/>
                </a:lnTo>
                <a:lnTo>
                  <a:pt x="0" y="998"/>
                </a:lnTo>
                <a:lnTo>
                  <a:pt x="0" y="987"/>
                </a:lnTo>
                <a:lnTo>
                  <a:pt x="0" y="985"/>
                </a:lnTo>
                <a:lnTo>
                  <a:pt x="0" y="981"/>
                </a:lnTo>
                <a:lnTo>
                  <a:pt x="2" y="979"/>
                </a:lnTo>
                <a:lnTo>
                  <a:pt x="4" y="975"/>
                </a:lnTo>
                <a:lnTo>
                  <a:pt x="8" y="971"/>
                </a:lnTo>
                <a:lnTo>
                  <a:pt x="10" y="967"/>
                </a:lnTo>
                <a:lnTo>
                  <a:pt x="13" y="964"/>
                </a:lnTo>
                <a:lnTo>
                  <a:pt x="17" y="960"/>
                </a:lnTo>
                <a:lnTo>
                  <a:pt x="27" y="952"/>
                </a:lnTo>
                <a:lnTo>
                  <a:pt x="38" y="944"/>
                </a:lnTo>
                <a:lnTo>
                  <a:pt x="50" y="939"/>
                </a:lnTo>
                <a:lnTo>
                  <a:pt x="65" y="933"/>
                </a:lnTo>
                <a:lnTo>
                  <a:pt x="73" y="929"/>
                </a:lnTo>
                <a:lnTo>
                  <a:pt x="81" y="923"/>
                </a:lnTo>
                <a:lnTo>
                  <a:pt x="90" y="918"/>
                </a:lnTo>
                <a:lnTo>
                  <a:pt x="98" y="910"/>
                </a:lnTo>
                <a:lnTo>
                  <a:pt x="109" y="900"/>
                </a:lnTo>
                <a:lnTo>
                  <a:pt x="119" y="889"/>
                </a:lnTo>
                <a:lnTo>
                  <a:pt x="129" y="875"/>
                </a:lnTo>
                <a:lnTo>
                  <a:pt x="140" y="862"/>
                </a:lnTo>
                <a:lnTo>
                  <a:pt x="152" y="846"/>
                </a:lnTo>
                <a:lnTo>
                  <a:pt x="163" y="829"/>
                </a:lnTo>
                <a:lnTo>
                  <a:pt x="175" y="810"/>
                </a:lnTo>
                <a:lnTo>
                  <a:pt x="186" y="791"/>
                </a:lnTo>
                <a:lnTo>
                  <a:pt x="198" y="770"/>
                </a:lnTo>
                <a:lnTo>
                  <a:pt x="211" y="747"/>
                </a:lnTo>
                <a:lnTo>
                  <a:pt x="223" y="722"/>
                </a:lnTo>
                <a:lnTo>
                  <a:pt x="234" y="697"/>
                </a:lnTo>
                <a:lnTo>
                  <a:pt x="259" y="645"/>
                </a:lnTo>
                <a:lnTo>
                  <a:pt x="280" y="593"/>
                </a:lnTo>
                <a:lnTo>
                  <a:pt x="303" y="541"/>
                </a:lnTo>
                <a:lnTo>
                  <a:pt x="322" y="491"/>
                </a:lnTo>
                <a:lnTo>
                  <a:pt x="342" y="441"/>
                </a:lnTo>
                <a:lnTo>
                  <a:pt x="361" y="392"/>
                </a:lnTo>
                <a:lnTo>
                  <a:pt x="376" y="344"/>
                </a:lnTo>
                <a:lnTo>
                  <a:pt x="392" y="296"/>
                </a:lnTo>
                <a:lnTo>
                  <a:pt x="399" y="273"/>
                </a:lnTo>
                <a:lnTo>
                  <a:pt x="405" y="251"/>
                </a:lnTo>
                <a:lnTo>
                  <a:pt x="411" y="230"/>
                </a:lnTo>
                <a:lnTo>
                  <a:pt x="417" y="211"/>
                </a:lnTo>
                <a:lnTo>
                  <a:pt x="420" y="192"/>
                </a:lnTo>
                <a:lnTo>
                  <a:pt x="424" y="175"/>
                </a:lnTo>
                <a:lnTo>
                  <a:pt x="428" y="157"/>
                </a:lnTo>
                <a:lnTo>
                  <a:pt x="430" y="142"/>
                </a:lnTo>
                <a:lnTo>
                  <a:pt x="432" y="129"/>
                </a:lnTo>
                <a:lnTo>
                  <a:pt x="434" y="115"/>
                </a:lnTo>
                <a:lnTo>
                  <a:pt x="436" y="104"/>
                </a:lnTo>
                <a:lnTo>
                  <a:pt x="436" y="92"/>
                </a:lnTo>
                <a:lnTo>
                  <a:pt x="436" y="83"/>
                </a:lnTo>
                <a:lnTo>
                  <a:pt x="434" y="75"/>
                </a:lnTo>
                <a:lnTo>
                  <a:pt x="434" y="67"/>
                </a:lnTo>
                <a:lnTo>
                  <a:pt x="432" y="61"/>
                </a:lnTo>
                <a:lnTo>
                  <a:pt x="426" y="56"/>
                </a:lnTo>
                <a:lnTo>
                  <a:pt x="422" y="52"/>
                </a:lnTo>
                <a:lnTo>
                  <a:pt x="418" y="46"/>
                </a:lnTo>
                <a:lnTo>
                  <a:pt x="417" y="42"/>
                </a:lnTo>
                <a:lnTo>
                  <a:pt x="415" y="38"/>
                </a:lnTo>
                <a:lnTo>
                  <a:pt x="413" y="35"/>
                </a:lnTo>
                <a:lnTo>
                  <a:pt x="413" y="31"/>
                </a:lnTo>
                <a:lnTo>
                  <a:pt x="413" y="29"/>
                </a:lnTo>
                <a:lnTo>
                  <a:pt x="415" y="25"/>
                </a:lnTo>
                <a:lnTo>
                  <a:pt x="417" y="21"/>
                </a:lnTo>
                <a:lnTo>
                  <a:pt x="418" y="19"/>
                </a:lnTo>
                <a:lnTo>
                  <a:pt x="422" y="17"/>
                </a:lnTo>
                <a:lnTo>
                  <a:pt x="426" y="13"/>
                </a:lnTo>
                <a:lnTo>
                  <a:pt x="432" y="12"/>
                </a:lnTo>
                <a:lnTo>
                  <a:pt x="438" y="8"/>
                </a:lnTo>
                <a:lnTo>
                  <a:pt x="443" y="6"/>
                </a:lnTo>
                <a:lnTo>
                  <a:pt x="451" y="4"/>
                </a:lnTo>
                <a:lnTo>
                  <a:pt x="459" y="2"/>
                </a:lnTo>
                <a:lnTo>
                  <a:pt x="466" y="0"/>
                </a:lnTo>
                <a:lnTo>
                  <a:pt x="474" y="0"/>
                </a:lnTo>
                <a:lnTo>
                  <a:pt x="482" y="0"/>
                </a:lnTo>
                <a:lnTo>
                  <a:pt x="489" y="2"/>
                </a:lnTo>
                <a:lnTo>
                  <a:pt x="497" y="4"/>
                </a:lnTo>
                <a:lnTo>
                  <a:pt x="507" y="6"/>
                </a:lnTo>
                <a:lnTo>
                  <a:pt x="514" y="8"/>
                </a:lnTo>
                <a:lnTo>
                  <a:pt x="524" y="12"/>
                </a:lnTo>
                <a:lnTo>
                  <a:pt x="534" y="17"/>
                </a:lnTo>
                <a:lnTo>
                  <a:pt x="543" y="21"/>
                </a:lnTo>
                <a:lnTo>
                  <a:pt x="553" y="27"/>
                </a:lnTo>
                <a:lnTo>
                  <a:pt x="564" y="33"/>
                </a:lnTo>
                <a:lnTo>
                  <a:pt x="576" y="40"/>
                </a:lnTo>
                <a:lnTo>
                  <a:pt x="587" y="48"/>
                </a:lnTo>
                <a:lnTo>
                  <a:pt x="597" y="56"/>
                </a:lnTo>
                <a:lnTo>
                  <a:pt x="607" y="63"/>
                </a:lnTo>
                <a:lnTo>
                  <a:pt x="614" y="69"/>
                </a:lnTo>
                <a:lnTo>
                  <a:pt x="622" y="77"/>
                </a:lnTo>
                <a:lnTo>
                  <a:pt x="630" y="83"/>
                </a:lnTo>
                <a:lnTo>
                  <a:pt x="635" y="88"/>
                </a:lnTo>
                <a:lnTo>
                  <a:pt x="641" y="96"/>
                </a:lnTo>
                <a:lnTo>
                  <a:pt x="647" y="102"/>
                </a:lnTo>
                <a:lnTo>
                  <a:pt x="651" y="107"/>
                </a:lnTo>
                <a:lnTo>
                  <a:pt x="655" y="113"/>
                </a:lnTo>
                <a:lnTo>
                  <a:pt x="658" y="117"/>
                </a:lnTo>
                <a:lnTo>
                  <a:pt x="660" y="123"/>
                </a:lnTo>
                <a:lnTo>
                  <a:pt x="664" y="129"/>
                </a:lnTo>
                <a:lnTo>
                  <a:pt x="664" y="134"/>
                </a:lnTo>
                <a:lnTo>
                  <a:pt x="666" y="138"/>
                </a:lnTo>
                <a:lnTo>
                  <a:pt x="666" y="144"/>
                </a:lnTo>
                <a:lnTo>
                  <a:pt x="666" y="148"/>
                </a:lnTo>
                <a:lnTo>
                  <a:pt x="666" y="154"/>
                </a:lnTo>
                <a:lnTo>
                  <a:pt x="664" y="157"/>
                </a:lnTo>
                <a:lnTo>
                  <a:pt x="662" y="165"/>
                </a:lnTo>
                <a:lnTo>
                  <a:pt x="660" y="171"/>
                </a:lnTo>
                <a:lnTo>
                  <a:pt x="658" y="177"/>
                </a:lnTo>
                <a:lnTo>
                  <a:pt x="656" y="184"/>
                </a:lnTo>
                <a:lnTo>
                  <a:pt x="653" y="194"/>
                </a:lnTo>
                <a:lnTo>
                  <a:pt x="651" y="202"/>
                </a:lnTo>
                <a:lnTo>
                  <a:pt x="647" y="211"/>
                </a:lnTo>
                <a:lnTo>
                  <a:pt x="641" y="221"/>
                </a:lnTo>
                <a:lnTo>
                  <a:pt x="637" y="230"/>
                </a:lnTo>
                <a:lnTo>
                  <a:pt x="632" y="242"/>
                </a:lnTo>
                <a:lnTo>
                  <a:pt x="628" y="253"/>
                </a:lnTo>
                <a:lnTo>
                  <a:pt x="620" y="265"/>
                </a:lnTo>
                <a:lnTo>
                  <a:pt x="614" y="278"/>
                </a:lnTo>
                <a:lnTo>
                  <a:pt x="608" y="292"/>
                </a:lnTo>
                <a:lnTo>
                  <a:pt x="601" y="305"/>
                </a:lnTo>
                <a:lnTo>
                  <a:pt x="593" y="321"/>
                </a:lnTo>
                <a:lnTo>
                  <a:pt x="585" y="334"/>
                </a:lnTo>
                <a:lnTo>
                  <a:pt x="578" y="349"/>
                </a:lnTo>
                <a:lnTo>
                  <a:pt x="568" y="367"/>
                </a:lnTo>
                <a:lnTo>
                  <a:pt x="559" y="382"/>
                </a:lnTo>
                <a:lnTo>
                  <a:pt x="549" y="399"/>
                </a:lnTo>
                <a:lnTo>
                  <a:pt x="539" y="418"/>
                </a:lnTo>
                <a:lnTo>
                  <a:pt x="528" y="436"/>
                </a:lnTo>
                <a:lnTo>
                  <a:pt x="518" y="455"/>
                </a:lnTo>
                <a:lnTo>
                  <a:pt x="507" y="474"/>
                </a:lnTo>
                <a:lnTo>
                  <a:pt x="495" y="495"/>
                </a:lnTo>
                <a:lnTo>
                  <a:pt x="482" y="516"/>
                </a:lnTo>
                <a:lnTo>
                  <a:pt x="470" y="537"/>
                </a:lnTo>
                <a:lnTo>
                  <a:pt x="457" y="559"/>
                </a:lnTo>
                <a:lnTo>
                  <a:pt x="443" y="582"/>
                </a:lnTo>
                <a:lnTo>
                  <a:pt x="432" y="605"/>
                </a:lnTo>
                <a:lnTo>
                  <a:pt x="418" y="626"/>
                </a:lnTo>
                <a:lnTo>
                  <a:pt x="407" y="647"/>
                </a:lnTo>
                <a:lnTo>
                  <a:pt x="397" y="666"/>
                </a:lnTo>
                <a:lnTo>
                  <a:pt x="386" y="685"/>
                </a:lnTo>
                <a:lnTo>
                  <a:pt x="376" y="704"/>
                </a:lnTo>
                <a:lnTo>
                  <a:pt x="367" y="724"/>
                </a:lnTo>
                <a:lnTo>
                  <a:pt x="357" y="741"/>
                </a:lnTo>
                <a:lnTo>
                  <a:pt x="349" y="756"/>
                </a:lnTo>
                <a:lnTo>
                  <a:pt x="342" y="772"/>
                </a:lnTo>
                <a:lnTo>
                  <a:pt x="334" y="787"/>
                </a:lnTo>
                <a:lnTo>
                  <a:pt x="326" y="802"/>
                </a:lnTo>
                <a:lnTo>
                  <a:pt x="319" y="816"/>
                </a:lnTo>
                <a:lnTo>
                  <a:pt x="313" y="829"/>
                </a:lnTo>
                <a:lnTo>
                  <a:pt x="307" y="841"/>
                </a:lnTo>
                <a:lnTo>
                  <a:pt x="301" y="852"/>
                </a:lnTo>
                <a:lnTo>
                  <a:pt x="298" y="864"/>
                </a:lnTo>
                <a:lnTo>
                  <a:pt x="294" y="873"/>
                </a:lnTo>
                <a:lnTo>
                  <a:pt x="288" y="883"/>
                </a:lnTo>
                <a:lnTo>
                  <a:pt x="286" y="893"/>
                </a:lnTo>
                <a:lnTo>
                  <a:pt x="282" y="900"/>
                </a:lnTo>
                <a:lnTo>
                  <a:pt x="280" y="908"/>
                </a:lnTo>
                <a:lnTo>
                  <a:pt x="276" y="916"/>
                </a:lnTo>
                <a:lnTo>
                  <a:pt x="274" y="921"/>
                </a:lnTo>
                <a:lnTo>
                  <a:pt x="274" y="927"/>
                </a:lnTo>
                <a:lnTo>
                  <a:pt x="273" y="931"/>
                </a:lnTo>
                <a:lnTo>
                  <a:pt x="273" y="935"/>
                </a:lnTo>
                <a:lnTo>
                  <a:pt x="273" y="939"/>
                </a:lnTo>
                <a:lnTo>
                  <a:pt x="273" y="942"/>
                </a:lnTo>
                <a:lnTo>
                  <a:pt x="273" y="944"/>
                </a:lnTo>
                <a:lnTo>
                  <a:pt x="274" y="946"/>
                </a:lnTo>
                <a:lnTo>
                  <a:pt x="276" y="946"/>
                </a:lnTo>
                <a:lnTo>
                  <a:pt x="278" y="948"/>
                </a:lnTo>
                <a:lnTo>
                  <a:pt x="280" y="950"/>
                </a:lnTo>
                <a:lnTo>
                  <a:pt x="286" y="950"/>
                </a:lnTo>
                <a:lnTo>
                  <a:pt x="290" y="952"/>
                </a:lnTo>
                <a:lnTo>
                  <a:pt x="296" y="954"/>
                </a:lnTo>
                <a:lnTo>
                  <a:pt x="301" y="954"/>
                </a:lnTo>
                <a:lnTo>
                  <a:pt x="309" y="956"/>
                </a:lnTo>
                <a:lnTo>
                  <a:pt x="317" y="958"/>
                </a:lnTo>
                <a:lnTo>
                  <a:pt x="324" y="958"/>
                </a:lnTo>
                <a:lnTo>
                  <a:pt x="334" y="960"/>
                </a:lnTo>
                <a:lnTo>
                  <a:pt x="344" y="962"/>
                </a:lnTo>
                <a:lnTo>
                  <a:pt x="355" y="962"/>
                </a:lnTo>
                <a:lnTo>
                  <a:pt x="367" y="964"/>
                </a:lnTo>
                <a:lnTo>
                  <a:pt x="378" y="964"/>
                </a:lnTo>
                <a:lnTo>
                  <a:pt x="392" y="965"/>
                </a:lnTo>
                <a:lnTo>
                  <a:pt x="405" y="965"/>
                </a:lnTo>
                <a:lnTo>
                  <a:pt x="420" y="967"/>
                </a:lnTo>
                <a:lnTo>
                  <a:pt x="436" y="967"/>
                </a:lnTo>
                <a:lnTo>
                  <a:pt x="451" y="969"/>
                </a:lnTo>
                <a:lnTo>
                  <a:pt x="468" y="969"/>
                </a:lnTo>
                <a:lnTo>
                  <a:pt x="486" y="969"/>
                </a:lnTo>
                <a:lnTo>
                  <a:pt x="505" y="971"/>
                </a:lnTo>
                <a:lnTo>
                  <a:pt x="524" y="971"/>
                </a:lnTo>
                <a:lnTo>
                  <a:pt x="543" y="971"/>
                </a:lnTo>
                <a:lnTo>
                  <a:pt x="564" y="973"/>
                </a:lnTo>
                <a:lnTo>
                  <a:pt x="585" y="973"/>
                </a:lnTo>
                <a:lnTo>
                  <a:pt x="608" y="973"/>
                </a:lnTo>
                <a:lnTo>
                  <a:pt x="632" y="973"/>
                </a:lnTo>
                <a:lnTo>
                  <a:pt x="656" y="973"/>
                </a:lnTo>
                <a:lnTo>
                  <a:pt x="679" y="973"/>
                </a:lnTo>
                <a:lnTo>
                  <a:pt x="706" y="973"/>
                </a:lnTo>
                <a:lnTo>
                  <a:pt x="666" y="1029"/>
                </a:lnTo>
                <a:lnTo>
                  <a:pt x="628" y="1084"/>
                </a:lnTo>
                <a:lnTo>
                  <a:pt x="603" y="1086"/>
                </a:lnTo>
                <a:lnTo>
                  <a:pt x="580" y="1090"/>
                </a:lnTo>
                <a:lnTo>
                  <a:pt x="557" y="1092"/>
                </a:lnTo>
                <a:lnTo>
                  <a:pt x="534" y="1094"/>
                </a:lnTo>
                <a:lnTo>
                  <a:pt x="513" y="1098"/>
                </a:lnTo>
                <a:lnTo>
                  <a:pt x="491" y="1100"/>
                </a:lnTo>
                <a:lnTo>
                  <a:pt x="470" y="1102"/>
                </a:lnTo>
                <a:lnTo>
                  <a:pt x="451" y="1106"/>
                </a:lnTo>
                <a:lnTo>
                  <a:pt x="432" y="1108"/>
                </a:lnTo>
                <a:lnTo>
                  <a:pt x="413" y="1109"/>
                </a:lnTo>
                <a:lnTo>
                  <a:pt x="395" y="1111"/>
                </a:lnTo>
                <a:lnTo>
                  <a:pt x="378" y="1115"/>
                </a:lnTo>
                <a:lnTo>
                  <a:pt x="361" y="1117"/>
                </a:lnTo>
                <a:lnTo>
                  <a:pt x="346" y="1119"/>
                </a:lnTo>
                <a:lnTo>
                  <a:pt x="330" y="1121"/>
                </a:lnTo>
                <a:lnTo>
                  <a:pt x="315" y="1125"/>
                </a:lnTo>
                <a:lnTo>
                  <a:pt x="301" y="1127"/>
                </a:lnTo>
                <a:lnTo>
                  <a:pt x="288" y="1129"/>
                </a:lnTo>
                <a:lnTo>
                  <a:pt x="274" y="1131"/>
                </a:lnTo>
                <a:lnTo>
                  <a:pt x="263" y="1132"/>
                </a:lnTo>
                <a:lnTo>
                  <a:pt x="251" y="1134"/>
                </a:lnTo>
                <a:lnTo>
                  <a:pt x="240" y="1136"/>
                </a:lnTo>
                <a:lnTo>
                  <a:pt x="230" y="1138"/>
                </a:lnTo>
                <a:lnTo>
                  <a:pt x="221" y="1140"/>
                </a:lnTo>
                <a:lnTo>
                  <a:pt x="211" y="1142"/>
                </a:lnTo>
                <a:lnTo>
                  <a:pt x="203" y="1144"/>
                </a:lnTo>
                <a:lnTo>
                  <a:pt x="196" y="1146"/>
                </a:lnTo>
                <a:lnTo>
                  <a:pt x="190" y="1148"/>
                </a:lnTo>
                <a:lnTo>
                  <a:pt x="184" y="1150"/>
                </a:lnTo>
                <a:lnTo>
                  <a:pt x="179" y="1150"/>
                </a:lnTo>
                <a:lnTo>
                  <a:pt x="173" y="1152"/>
                </a:lnTo>
                <a:lnTo>
                  <a:pt x="169" y="11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57"/>
          <p:cNvSpPr/>
          <p:nvPr/>
        </p:nvSpPr>
        <p:spPr>
          <a:xfrm>
            <a:off x="5602320" y="3265560"/>
            <a:ext cx="663480" cy="977760"/>
          </a:xfrm>
          <a:custGeom>
            <a:avLst/>
            <a:gdLst/>
            <a:ahLst/>
            <a:rect l="l" t="t" r="r" b="b"/>
            <a:pathLst>
              <a:path w="836" h="1230">
                <a:moveTo>
                  <a:pt x="65" y="994"/>
                </a:moveTo>
                <a:lnTo>
                  <a:pt x="69" y="992"/>
                </a:lnTo>
                <a:lnTo>
                  <a:pt x="72" y="988"/>
                </a:lnTo>
                <a:lnTo>
                  <a:pt x="76" y="984"/>
                </a:lnTo>
                <a:lnTo>
                  <a:pt x="82" y="979"/>
                </a:lnTo>
                <a:lnTo>
                  <a:pt x="88" y="973"/>
                </a:lnTo>
                <a:lnTo>
                  <a:pt x="94" y="967"/>
                </a:lnTo>
                <a:lnTo>
                  <a:pt x="99" y="961"/>
                </a:lnTo>
                <a:lnTo>
                  <a:pt x="105" y="954"/>
                </a:lnTo>
                <a:lnTo>
                  <a:pt x="113" y="946"/>
                </a:lnTo>
                <a:lnTo>
                  <a:pt x="120" y="936"/>
                </a:lnTo>
                <a:lnTo>
                  <a:pt x="128" y="927"/>
                </a:lnTo>
                <a:lnTo>
                  <a:pt x="136" y="917"/>
                </a:lnTo>
                <a:lnTo>
                  <a:pt x="143" y="908"/>
                </a:lnTo>
                <a:lnTo>
                  <a:pt x="151" y="896"/>
                </a:lnTo>
                <a:lnTo>
                  <a:pt x="161" y="885"/>
                </a:lnTo>
                <a:lnTo>
                  <a:pt x="170" y="873"/>
                </a:lnTo>
                <a:lnTo>
                  <a:pt x="180" y="860"/>
                </a:lnTo>
                <a:lnTo>
                  <a:pt x="190" y="846"/>
                </a:lnTo>
                <a:lnTo>
                  <a:pt x="199" y="831"/>
                </a:lnTo>
                <a:lnTo>
                  <a:pt x="209" y="817"/>
                </a:lnTo>
                <a:lnTo>
                  <a:pt x="220" y="802"/>
                </a:lnTo>
                <a:lnTo>
                  <a:pt x="230" y="787"/>
                </a:lnTo>
                <a:lnTo>
                  <a:pt x="241" y="769"/>
                </a:lnTo>
                <a:lnTo>
                  <a:pt x="253" y="752"/>
                </a:lnTo>
                <a:lnTo>
                  <a:pt x="264" y="735"/>
                </a:lnTo>
                <a:lnTo>
                  <a:pt x="276" y="716"/>
                </a:lnTo>
                <a:lnTo>
                  <a:pt x="287" y="696"/>
                </a:lnTo>
                <a:lnTo>
                  <a:pt x="301" y="677"/>
                </a:lnTo>
                <a:lnTo>
                  <a:pt x="312" y="658"/>
                </a:lnTo>
                <a:lnTo>
                  <a:pt x="326" y="637"/>
                </a:lnTo>
                <a:lnTo>
                  <a:pt x="339" y="616"/>
                </a:lnTo>
                <a:lnTo>
                  <a:pt x="353" y="595"/>
                </a:lnTo>
                <a:lnTo>
                  <a:pt x="366" y="572"/>
                </a:lnTo>
                <a:lnTo>
                  <a:pt x="378" y="551"/>
                </a:lnTo>
                <a:lnTo>
                  <a:pt x="391" y="529"/>
                </a:lnTo>
                <a:lnTo>
                  <a:pt x="403" y="510"/>
                </a:lnTo>
                <a:lnTo>
                  <a:pt x="414" y="491"/>
                </a:lnTo>
                <a:lnTo>
                  <a:pt x="428" y="472"/>
                </a:lnTo>
                <a:lnTo>
                  <a:pt x="439" y="453"/>
                </a:lnTo>
                <a:lnTo>
                  <a:pt x="449" y="435"/>
                </a:lnTo>
                <a:lnTo>
                  <a:pt x="460" y="418"/>
                </a:lnTo>
                <a:lnTo>
                  <a:pt x="470" y="401"/>
                </a:lnTo>
                <a:lnTo>
                  <a:pt x="481" y="384"/>
                </a:lnTo>
                <a:lnTo>
                  <a:pt x="491" y="368"/>
                </a:lnTo>
                <a:lnTo>
                  <a:pt x="501" y="353"/>
                </a:lnTo>
                <a:lnTo>
                  <a:pt x="508" y="339"/>
                </a:lnTo>
                <a:lnTo>
                  <a:pt x="518" y="324"/>
                </a:lnTo>
                <a:lnTo>
                  <a:pt x="525" y="311"/>
                </a:lnTo>
                <a:lnTo>
                  <a:pt x="535" y="299"/>
                </a:lnTo>
                <a:lnTo>
                  <a:pt x="543" y="286"/>
                </a:lnTo>
                <a:lnTo>
                  <a:pt x="550" y="274"/>
                </a:lnTo>
                <a:lnTo>
                  <a:pt x="556" y="263"/>
                </a:lnTo>
                <a:lnTo>
                  <a:pt x="564" y="251"/>
                </a:lnTo>
                <a:lnTo>
                  <a:pt x="570" y="242"/>
                </a:lnTo>
                <a:lnTo>
                  <a:pt x="575" y="232"/>
                </a:lnTo>
                <a:lnTo>
                  <a:pt x="581" y="222"/>
                </a:lnTo>
                <a:lnTo>
                  <a:pt x="587" y="213"/>
                </a:lnTo>
                <a:lnTo>
                  <a:pt x="593" y="205"/>
                </a:lnTo>
                <a:lnTo>
                  <a:pt x="596" y="197"/>
                </a:lnTo>
                <a:lnTo>
                  <a:pt x="600" y="190"/>
                </a:lnTo>
                <a:lnTo>
                  <a:pt x="604" y="182"/>
                </a:lnTo>
                <a:lnTo>
                  <a:pt x="608" y="176"/>
                </a:lnTo>
                <a:lnTo>
                  <a:pt x="612" y="171"/>
                </a:lnTo>
                <a:lnTo>
                  <a:pt x="614" y="165"/>
                </a:lnTo>
                <a:lnTo>
                  <a:pt x="618" y="149"/>
                </a:lnTo>
                <a:lnTo>
                  <a:pt x="623" y="134"/>
                </a:lnTo>
                <a:lnTo>
                  <a:pt x="627" y="119"/>
                </a:lnTo>
                <a:lnTo>
                  <a:pt x="629" y="103"/>
                </a:lnTo>
                <a:lnTo>
                  <a:pt x="631" y="88"/>
                </a:lnTo>
                <a:lnTo>
                  <a:pt x="631" y="73"/>
                </a:lnTo>
                <a:lnTo>
                  <a:pt x="631" y="63"/>
                </a:lnTo>
                <a:lnTo>
                  <a:pt x="631" y="55"/>
                </a:lnTo>
                <a:lnTo>
                  <a:pt x="629" y="48"/>
                </a:lnTo>
                <a:lnTo>
                  <a:pt x="627" y="40"/>
                </a:lnTo>
                <a:lnTo>
                  <a:pt x="625" y="36"/>
                </a:lnTo>
                <a:lnTo>
                  <a:pt x="623" y="30"/>
                </a:lnTo>
                <a:lnTo>
                  <a:pt x="621" y="27"/>
                </a:lnTo>
                <a:lnTo>
                  <a:pt x="621" y="23"/>
                </a:lnTo>
                <a:lnTo>
                  <a:pt x="621" y="19"/>
                </a:lnTo>
                <a:lnTo>
                  <a:pt x="623" y="15"/>
                </a:lnTo>
                <a:lnTo>
                  <a:pt x="625" y="13"/>
                </a:lnTo>
                <a:lnTo>
                  <a:pt x="627" y="9"/>
                </a:lnTo>
                <a:lnTo>
                  <a:pt x="629" y="7"/>
                </a:lnTo>
                <a:lnTo>
                  <a:pt x="633" y="5"/>
                </a:lnTo>
                <a:lnTo>
                  <a:pt x="637" y="4"/>
                </a:lnTo>
                <a:lnTo>
                  <a:pt x="641" y="2"/>
                </a:lnTo>
                <a:lnTo>
                  <a:pt x="646" y="2"/>
                </a:lnTo>
                <a:lnTo>
                  <a:pt x="652" y="0"/>
                </a:lnTo>
                <a:lnTo>
                  <a:pt x="658" y="0"/>
                </a:lnTo>
                <a:lnTo>
                  <a:pt x="666" y="0"/>
                </a:lnTo>
                <a:lnTo>
                  <a:pt x="673" y="0"/>
                </a:lnTo>
                <a:lnTo>
                  <a:pt x="681" y="0"/>
                </a:lnTo>
                <a:lnTo>
                  <a:pt x="689" y="2"/>
                </a:lnTo>
                <a:lnTo>
                  <a:pt x="694" y="4"/>
                </a:lnTo>
                <a:lnTo>
                  <a:pt x="702" y="7"/>
                </a:lnTo>
                <a:lnTo>
                  <a:pt x="710" y="9"/>
                </a:lnTo>
                <a:lnTo>
                  <a:pt x="717" y="13"/>
                </a:lnTo>
                <a:lnTo>
                  <a:pt x="725" y="19"/>
                </a:lnTo>
                <a:lnTo>
                  <a:pt x="733" y="23"/>
                </a:lnTo>
                <a:lnTo>
                  <a:pt x="740" y="28"/>
                </a:lnTo>
                <a:lnTo>
                  <a:pt x="754" y="40"/>
                </a:lnTo>
                <a:lnTo>
                  <a:pt x="769" y="53"/>
                </a:lnTo>
                <a:lnTo>
                  <a:pt x="785" y="69"/>
                </a:lnTo>
                <a:lnTo>
                  <a:pt x="790" y="76"/>
                </a:lnTo>
                <a:lnTo>
                  <a:pt x="798" y="84"/>
                </a:lnTo>
                <a:lnTo>
                  <a:pt x="804" y="92"/>
                </a:lnTo>
                <a:lnTo>
                  <a:pt x="808" y="100"/>
                </a:lnTo>
                <a:lnTo>
                  <a:pt x="813" y="107"/>
                </a:lnTo>
                <a:lnTo>
                  <a:pt x="817" y="113"/>
                </a:lnTo>
                <a:lnTo>
                  <a:pt x="821" y="121"/>
                </a:lnTo>
                <a:lnTo>
                  <a:pt x="825" y="126"/>
                </a:lnTo>
                <a:lnTo>
                  <a:pt x="829" y="140"/>
                </a:lnTo>
                <a:lnTo>
                  <a:pt x="833" y="146"/>
                </a:lnTo>
                <a:lnTo>
                  <a:pt x="833" y="149"/>
                </a:lnTo>
                <a:lnTo>
                  <a:pt x="834" y="155"/>
                </a:lnTo>
                <a:lnTo>
                  <a:pt x="834" y="159"/>
                </a:lnTo>
                <a:lnTo>
                  <a:pt x="836" y="163"/>
                </a:lnTo>
                <a:lnTo>
                  <a:pt x="836" y="165"/>
                </a:lnTo>
                <a:lnTo>
                  <a:pt x="833" y="171"/>
                </a:lnTo>
                <a:lnTo>
                  <a:pt x="831" y="178"/>
                </a:lnTo>
                <a:lnTo>
                  <a:pt x="825" y="186"/>
                </a:lnTo>
                <a:lnTo>
                  <a:pt x="821" y="194"/>
                </a:lnTo>
                <a:lnTo>
                  <a:pt x="815" y="203"/>
                </a:lnTo>
                <a:lnTo>
                  <a:pt x="810" y="215"/>
                </a:lnTo>
                <a:lnTo>
                  <a:pt x="802" y="226"/>
                </a:lnTo>
                <a:lnTo>
                  <a:pt x="794" y="240"/>
                </a:lnTo>
                <a:lnTo>
                  <a:pt x="787" y="253"/>
                </a:lnTo>
                <a:lnTo>
                  <a:pt x="777" y="268"/>
                </a:lnTo>
                <a:lnTo>
                  <a:pt x="767" y="286"/>
                </a:lnTo>
                <a:lnTo>
                  <a:pt x="756" y="303"/>
                </a:lnTo>
                <a:lnTo>
                  <a:pt x="744" y="322"/>
                </a:lnTo>
                <a:lnTo>
                  <a:pt x="733" y="341"/>
                </a:lnTo>
                <a:lnTo>
                  <a:pt x="719" y="362"/>
                </a:lnTo>
                <a:lnTo>
                  <a:pt x="706" y="386"/>
                </a:lnTo>
                <a:lnTo>
                  <a:pt x="637" y="480"/>
                </a:lnTo>
                <a:lnTo>
                  <a:pt x="568" y="574"/>
                </a:lnTo>
                <a:lnTo>
                  <a:pt x="499" y="666"/>
                </a:lnTo>
                <a:lnTo>
                  <a:pt x="431" y="760"/>
                </a:lnTo>
                <a:lnTo>
                  <a:pt x="414" y="783"/>
                </a:lnTo>
                <a:lnTo>
                  <a:pt x="399" y="804"/>
                </a:lnTo>
                <a:lnTo>
                  <a:pt x="383" y="823"/>
                </a:lnTo>
                <a:lnTo>
                  <a:pt x="370" y="842"/>
                </a:lnTo>
                <a:lnTo>
                  <a:pt x="358" y="860"/>
                </a:lnTo>
                <a:lnTo>
                  <a:pt x="347" y="877"/>
                </a:lnTo>
                <a:lnTo>
                  <a:pt x="335" y="890"/>
                </a:lnTo>
                <a:lnTo>
                  <a:pt x="326" y="906"/>
                </a:lnTo>
                <a:lnTo>
                  <a:pt x="318" y="917"/>
                </a:lnTo>
                <a:lnTo>
                  <a:pt x="312" y="929"/>
                </a:lnTo>
                <a:lnTo>
                  <a:pt x="307" y="938"/>
                </a:lnTo>
                <a:lnTo>
                  <a:pt x="303" y="946"/>
                </a:lnTo>
                <a:lnTo>
                  <a:pt x="299" y="954"/>
                </a:lnTo>
                <a:lnTo>
                  <a:pt x="299" y="959"/>
                </a:lnTo>
                <a:lnTo>
                  <a:pt x="299" y="963"/>
                </a:lnTo>
                <a:lnTo>
                  <a:pt x="301" y="967"/>
                </a:lnTo>
                <a:lnTo>
                  <a:pt x="303" y="969"/>
                </a:lnTo>
                <a:lnTo>
                  <a:pt x="307" y="971"/>
                </a:lnTo>
                <a:lnTo>
                  <a:pt x="310" y="973"/>
                </a:lnTo>
                <a:lnTo>
                  <a:pt x="316" y="975"/>
                </a:lnTo>
                <a:lnTo>
                  <a:pt x="324" y="975"/>
                </a:lnTo>
                <a:lnTo>
                  <a:pt x="332" y="977"/>
                </a:lnTo>
                <a:lnTo>
                  <a:pt x="339" y="977"/>
                </a:lnTo>
                <a:lnTo>
                  <a:pt x="349" y="975"/>
                </a:lnTo>
                <a:lnTo>
                  <a:pt x="358" y="975"/>
                </a:lnTo>
                <a:lnTo>
                  <a:pt x="370" y="973"/>
                </a:lnTo>
                <a:lnTo>
                  <a:pt x="383" y="971"/>
                </a:lnTo>
                <a:lnTo>
                  <a:pt x="395" y="969"/>
                </a:lnTo>
                <a:lnTo>
                  <a:pt x="410" y="965"/>
                </a:lnTo>
                <a:lnTo>
                  <a:pt x="424" y="963"/>
                </a:lnTo>
                <a:lnTo>
                  <a:pt x="441" y="958"/>
                </a:lnTo>
                <a:lnTo>
                  <a:pt x="456" y="954"/>
                </a:lnTo>
                <a:lnTo>
                  <a:pt x="525" y="942"/>
                </a:lnTo>
                <a:lnTo>
                  <a:pt x="558" y="938"/>
                </a:lnTo>
                <a:lnTo>
                  <a:pt x="593" y="933"/>
                </a:lnTo>
                <a:lnTo>
                  <a:pt x="625" y="927"/>
                </a:lnTo>
                <a:lnTo>
                  <a:pt x="658" y="921"/>
                </a:lnTo>
                <a:lnTo>
                  <a:pt x="689" y="917"/>
                </a:lnTo>
                <a:lnTo>
                  <a:pt x="719" y="911"/>
                </a:lnTo>
                <a:lnTo>
                  <a:pt x="733" y="910"/>
                </a:lnTo>
                <a:lnTo>
                  <a:pt x="746" y="908"/>
                </a:lnTo>
                <a:lnTo>
                  <a:pt x="758" y="906"/>
                </a:lnTo>
                <a:lnTo>
                  <a:pt x="769" y="906"/>
                </a:lnTo>
                <a:lnTo>
                  <a:pt x="781" y="906"/>
                </a:lnTo>
                <a:lnTo>
                  <a:pt x="790" y="908"/>
                </a:lnTo>
                <a:lnTo>
                  <a:pt x="798" y="908"/>
                </a:lnTo>
                <a:lnTo>
                  <a:pt x="806" y="910"/>
                </a:lnTo>
                <a:lnTo>
                  <a:pt x="813" y="911"/>
                </a:lnTo>
                <a:lnTo>
                  <a:pt x="819" y="915"/>
                </a:lnTo>
                <a:lnTo>
                  <a:pt x="825" y="917"/>
                </a:lnTo>
                <a:lnTo>
                  <a:pt x="829" y="921"/>
                </a:lnTo>
                <a:lnTo>
                  <a:pt x="833" y="925"/>
                </a:lnTo>
                <a:lnTo>
                  <a:pt x="834" y="929"/>
                </a:lnTo>
                <a:lnTo>
                  <a:pt x="836" y="934"/>
                </a:lnTo>
                <a:lnTo>
                  <a:pt x="836" y="940"/>
                </a:lnTo>
                <a:lnTo>
                  <a:pt x="836" y="942"/>
                </a:lnTo>
                <a:lnTo>
                  <a:pt x="834" y="944"/>
                </a:lnTo>
                <a:lnTo>
                  <a:pt x="833" y="948"/>
                </a:lnTo>
                <a:lnTo>
                  <a:pt x="831" y="950"/>
                </a:lnTo>
                <a:lnTo>
                  <a:pt x="829" y="954"/>
                </a:lnTo>
                <a:lnTo>
                  <a:pt x="825" y="956"/>
                </a:lnTo>
                <a:lnTo>
                  <a:pt x="821" y="959"/>
                </a:lnTo>
                <a:lnTo>
                  <a:pt x="817" y="963"/>
                </a:lnTo>
                <a:lnTo>
                  <a:pt x="811" y="965"/>
                </a:lnTo>
                <a:lnTo>
                  <a:pt x="806" y="969"/>
                </a:lnTo>
                <a:lnTo>
                  <a:pt x="800" y="973"/>
                </a:lnTo>
                <a:lnTo>
                  <a:pt x="792" y="977"/>
                </a:lnTo>
                <a:lnTo>
                  <a:pt x="785" y="979"/>
                </a:lnTo>
                <a:lnTo>
                  <a:pt x="777" y="982"/>
                </a:lnTo>
                <a:lnTo>
                  <a:pt x="767" y="986"/>
                </a:lnTo>
                <a:lnTo>
                  <a:pt x="760" y="990"/>
                </a:lnTo>
                <a:lnTo>
                  <a:pt x="750" y="994"/>
                </a:lnTo>
                <a:lnTo>
                  <a:pt x="739" y="998"/>
                </a:lnTo>
                <a:lnTo>
                  <a:pt x="727" y="1004"/>
                </a:lnTo>
                <a:lnTo>
                  <a:pt x="715" y="1007"/>
                </a:lnTo>
                <a:lnTo>
                  <a:pt x="704" y="1011"/>
                </a:lnTo>
                <a:lnTo>
                  <a:pt x="692" y="1015"/>
                </a:lnTo>
                <a:lnTo>
                  <a:pt x="679" y="1019"/>
                </a:lnTo>
                <a:lnTo>
                  <a:pt x="666" y="1025"/>
                </a:lnTo>
                <a:lnTo>
                  <a:pt x="650" y="1029"/>
                </a:lnTo>
                <a:lnTo>
                  <a:pt x="635" y="1034"/>
                </a:lnTo>
                <a:lnTo>
                  <a:pt x="620" y="1038"/>
                </a:lnTo>
                <a:lnTo>
                  <a:pt x="604" y="1044"/>
                </a:lnTo>
                <a:lnTo>
                  <a:pt x="587" y="1048"/>
                </a:lnTo>
                <a:lnTo>
                  <a:pt x="572" y="1053"/>
                </a:lnTo>
                <a:lnTo>
                  <a:pt x="552" y="1059"/>
                </a:lnTo>
                <a:lnTo>
                  <a:pt x="535" y="1063"/>
                </a:lnTo>
                <a:lnTo>
                  <a:pt x="499" y="1077"/>
                </a:lnTo>
                <a:lnTo>
                  <a:pt x="466" y="1088"/>
                </a:lnTo>
                <a:lnTo>
                  <a:pt x="433" y="1100"/>
                </a:lnTo>
                <a:lnTo>
                  <a:pt x="403" y="1111"/>
                </a:lnTo>
                <a:lnTo>
                  <a:pt x="374" y="1121"/>
                </a:lnTo>
                <a:lnTo>
                  <a:pt x="347" y="1130"/>
                </a:lnTo>
                <a:lnTo>
                  <a:pt x="322" y="1140"/>
                </a:lnTo>
                <a:lnTo>
                  <a:pt x="299" y="1148"/>
                </a:lnTo>
                <a:lnTo>
                  <a:pt x="278" y="1155"/>
                </a:lnTo>
                <a:lnTo>
                  <a:pt x="259" y="1161"/>
                </a:lnTo>
                <a:lnTo>
                  <a:pt x="241" y="1167"/>
                </a:lnTo>
                <a:lnTo>
                  <a:pt x="226" y="1172"/>
                </a:lnTo>
                <a:lnTo>
                  <a:pt x="213" y="1178"/>
                </a:lnTo>
                <a:lnTo>
                  <a:pt x="201" y="1182"/>
                </a:lnTo>
                <a:lnTo>
                  <a:pt x="190" y="1186"/>
                </a:lnTo>
                <a:lnTo>
                  <a:pt x="182" y="1188"/>
                </a:lnTo>
                <a:lnTo>
                  <a:pt x="167" y="1197"/>
                </a:lnTo>
                <a:lnTo>
                  <a:pt x="153" y="1207"/>
                </a:lnTo>
                <a:lnTo>
                  <a:pt x="140" y="1213"/>
                </a:lnTo>
                <a:lnTo>
                  <a:pt x="126" y="1219"/>
                </a:lnTo>
                <a:lnTo>
                  <a:pt x="115" y="1224"/>
                </a:lnTo>
                <a:lnTo>
                  <a:pt x="105" y="1226"/>
                </a:lnTo>
                <a:lnTo>
                  <a:pt x="101" y="1228"/>
                </a:lnTo>
                <a:lnTo>
                  <a:pt x="97" y="1228"/>
                </a:lnTo>
                <a:lnTo>
                  <a:pt x="94" y="1230"/>
                </a:lnTo>
                <a:lnTo>
                  <a:pt x="92" y="1230"/>
                </a:lnTo>
                <a:lnTo>
                  <a:pt x="88" y="1230"/>
                </a:lnTo>
                <a:lnTo>
                  <a:pt x="86" y="1228"/>
                </a:lnTo>
                <a:lnTo>
                  <a:pt x="82" y="1226"/>
                </a:lnTo>
                <a:lnTo>
                  <a:pt x="78" y="1224"/>
                </a:lnTo>
                <a:lnTo>
                  <a:pt x="76" y="1222"/>
                </a:lnTo>
                <a:lnTo>
                  <a:pt x="72" y="1219"/>
                </a:lnTo>
                <a:lnTo>
                  <a:pt x="69" y="1215"/>
                </a:lnTo>
                <a:lnTo>
                  <a:pt x="65" y="1211"/>
                </a:lnTo>
                <a:lnTo>
                  <a:pt x="61" y="1205"/>
                </a:lnTo>
                <a:lnTo>
                  <a:pt x="57" y="1201"/>
                </a:lnTo>
                <a:lnTo>
                  <a:pt x="49" y="1188"/>
                </a:lnTo>
                <a:lnTo>
                  <a:pt x="44" y="1174"/>
                </a:lnTo>
                <a:lnTo>
                  <a:pt x="38" y="1161"/>
                </a:lnTo>
                <a:lnTo>
                  <a:pt x="30" y="1146"/>
                </a:lnTo>
                <a:lnTo>
                  <a:pt x="21" y="1130"/>
                </a:lnTo>
                <a:lnTo>
                  <a:pt x="15" y="1115"/>
                </a:lnTo>
                <a:lnTo>
                  <a:pt x="9" y="1100"/>
                </a:lnTo>
                <a:lnTo>
                  <a:pt x="5" y="1086"/>
                </a:lnTo>
                <a:lnTo>
                  <a:pt x="1" y="1073"/>
                </a:lnTo>
                <a:lnTo>
                  <a:pt x="0" y="1061"/>
                </a:lnTo>
                <a:lnTo>
                  <a:pt x="0" y="1050"/>
                </a:lnTo>
                <a:lnTo>
                  <a:pt x="0" y="1048"/>
                </a:lnTo>
                <a:lnTo>
                  <a:pt x="0" y="1044"/>
                </a:lnTo>
                <a:lnTo>
                  <a:pt x="1" y="1040"/>
                </a:lnTo>
                <a:lnTo>
                  <a:pt x="3" y="1036"/>
                </a:lnTo>
                <a:lnTo>
                  <a:pt x="7" y="1034"/>
                </a:lnTo>
                <a:lnTo>
                  <a:pt x="9" y="1030"/>
                </a:lnTo>
                <a:lnTo>
                  <a:pt x="13" y="1027"/>
                </a:lnTo>
                <a:lnTo>
                  <a:pt x="17" y="1023"/>
                </a:lnTo>
                <a:lnTo>
                  <a:pt x="26" y="1015"/>
                </a:lnTo>
                <a:lnTo>
                  <a:pt x="38" y="1007"/>
                </a:lnTo>
                <a:lnTo>
                  <a:pt x="49" y="1000"/>
                </a:lnTo>
                <a:lnTo>
                  <a:pt x="65" y="9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5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第二笔横最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2030400" y="1868400"/>
            <a:ext cx="12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ū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48"/>
          <p:cNvSpPr/>
          <p:nvPr/>
        </p:nvSpPr>
        <p:spPr>
          <a:xfrm>
            <a:off x="7174080" y="4576680"/>
            <a:ext cx="528480" cy="439920"/>
          </a:xfrm>
          <a:custGeom>
            <a:avLst/>
            <a:gdLst/>
            <a:ahLst/>
            <a:rect l="l" t="t" r="r" b="b"/>
            <a:pathLst>
              <a:path w="664" h="555">
                <a:moveTo>
                  <a:pt x="392" y="129"/>
                </a:moveTo>
                <a:lnTo>
                  <a:pt x="418" y="144"/>
                </a:lnTo>
                <a:lnTo>
                  <a:pt x="442" y="158"/>
                </a:lnTo>
                <a:lnTo>
                  <a:pt x="465" y="173"/>
                </a:lnTo>
                <a:lnTo>
                  <a:pt x="488" y="187"/>
                </a:lnTo>
                <a:lnTo>
                  <a:pt x="507" y="202"/>
                </a:lnTo>
                <a:lnTo>
                  <a:pt x="526" y="215"/>
                </a:lnTo>
                <a:lnTo>
                  <a:pt x="543" y="231"/>
                </a:lnTo>
                <a:lnTo>
                  <a:pt x="561" y="244"/>
                </a:lnTo>
                <a:lnTo>
                  <a:pt x="576" y="258"/>
                </a:lnTo>
                <a:lnTo>
                  <a:pt x="589" y="271"/>
                </a:lnTo>
                <a:lnTo>
                  <a:pt x="603" y="284"/>
                </a:lnTo>
                <a:lnTo>
                  <a:pt x="612" y="298"/>
                </a:lnTo>
                <a:lnTo>
                  <a:pt x="624" y="311"/>
                </a:lnTo>
                <a:lnTo>
                  <a:pt x="632" y="323"/>
                </a:lnTo>
                <a:lnTo>
                  <a:pt x="639" y="336"/>
                </a:lnTo>
                <a:lnTo>
                  <a:pt x="645" y="348"/>
                </a:lnTo>
                <a:lnTo>
                  <a:pt x="649" y="373"/>
                </a:lnTo>
                <a:lnTo>
                  <a:pt x="655" y="394"/>
                </a:lnTo>
                <a:lnTo>
                  <a:pt x="658" y="415"/>
                </a:lnTo>
                <a:lnTo>
                  <a:pt x="662" y="434"/>
                </a:lnTo>
                <a:lnTo>
                  <a:pt x="664" y="453"/>
                </a:lnTo>
                <a:lnTo>
                  <a:pt x="664" y="463"/>
                </a:lnTo>
                <a:lnTo>
                  <a:pt x="664" y="471"/>
                </a:lnTo>
                <a:lnTo>
                  <a:pt x="664" y="480"/>
                </a:lnTo>
                <a:lnTo>
                  <a:pt x="662" y="488"/>
                </a:lnTo>
                <a:lnTo>
                  <a:pt x="660" y="496"/>
                </a:lnTo>
                <a:lnTo>
                  <a:pt x="658" y="503"/>
                </a:lnTo>
                <a:lnTo>
                  <a:pt x="657" y="509"/>
                </a:lnTo>
                <a:lnTo>
                  <a:pt x="653" y="517"/>
                </a:lnTo>
                <a:lnTo>
                  <a:pt x="649" y="522"/>
                </a:lnTo>
                <a:lnTo>
                  <a:pt x="645" y="528"/>
                </a:lnTo>
                <a:lnTo>
                  <a:pt x="641" y="532"/>
                </a:lnTo>
                <a:lnTo>
                  <a:pt x="637" y="536"/>
                </a:lnTo>
                <a:lnTo>
                  <a:pt x="632" y="540"/>
                </a:lnTo>
                <a:lnTo>
                  <a:pt x="628" y="544"/>
                </a:lnTo>
                <a:lnTo>
                  <a:pt x="616" y="549"/>
                </a:lnTo>
                <a:lnTo>
                  <a:pt x="603" y="551"/>
                </a:lnTo>
                <a:lnTo>
                  <a:pt x="589" y="553"/>
                </a:lnTo>
                <a:lnTo>
                  <a:pt x="574" y="555"/>
                </a:lnTo>
                <a:lnTo>
                  <a:pt x="570" y="555"/>
                </a:lnTo>
                <a:lnTo>
                  <a:pt x="566" y="553"/>
                </a:lnTo>
                <a:lnTo>
                  <a:pt x="561" y="553"/>
                </a:lnTo>
                <a:lnTo>
                  <a:pt x="557" y="551"/>
                </a:lnTo>
                <a:lnTo>
                  <a:pt x="551" y="547"/>
                </a:lnTo>
                <a:lnTo>
                  <a:pt x="545" y="545"/>
                </a:lnTo>
                <a:lnTo>
                  <a:pt x="539" y="542"/>
                </a:lnTo>
                <a:lnTo>
                  <a:pt x="532" y="538"/>
                </a:lnTo>
                <a:lnTo>
                  <a:pt x="526" y="534"/>
                </a:lnTo>
                <a:lnTo>
                  <a:pt x="518" y="528"/>
                </a:lnTo>
                <a:lnTo>
                  <a:pt x="511" y="524"/>
                </a:lnTo>
                <a:lnTo>
                  <a:pt x="503" y="517"/>
                </a:lnTo>
                <a:lnTo>
                  <a:pt x="493" y="511"/>
                </a:lnTo>
                <a:lnTo>
                  <a:pt x="486" y="505"/>
                </a:lnTo>
                <a:lnTo>
                  <a:pt x="476" y="498"/>
                </a:lnTo>
                <a:lnTo>
                  <a:pt x="466" y="490"/>
                </a:lnTo>
                <a:lnTo>
                  <a:pt x="457" y="480"/>
                </a:lnTo>
                <a:lnTo>
                  <a:pt x="447" y="473"/>
                </a:lnTo>
                <a:lnTo>
                  <a:pt x="436" y="463"/>
                </a:lnTo>
                <a:lnTo>
                  <a:pt x="426" y="453"/>
                </a:lnTo>
                <a:lnTo>
                  <a:pt x="415" y="442"/>
                </a:lnTo>
                <a:lnTo>
                  <a:pt x="403" y="432"/>
                </a:lnTo>
                <a:lnTo>
                  <a:pt x="392" y="421"/>
                </a:lnTo>
                <a:lnTo>
                  <a:pt x="378" y="409"/>
                </a:lnTo>
                <a:lnTo>
                  <a:pt x="367" y="396"/>
                </a:lnTo>
                <a:lnTo>
                  <a:pt x="353" y="382"/>
                </a:lnTo>
                <a:lnTo>
                  <a:pt x="340" y="371"/>
                </a:lnTo>
                <a:lnTo>
                  <a:pt x="324" y="355"/>
                </a:lnTo>
                <a:lnTo>
                  <a:pt x="296" y="327"/>
                </a:lnTo>
                <a:lnTo>
                  <a:pt x="267" y="296"/>
                </a:lnTo>
                <a:lnTo>
                  <a:pt x="250" y="281"/>
                </a:lnTo>
                <a:lnTo>
                  <a:pt x="232" y="265"/>
                </a:lnTo>
                <a:lnTo>
                  <a:pt x="217" y="250"/>
                </a:lnTo>
                <a:lnTo>
                  <a:pt x="203" y="236"/>
                </a:lnTo>
                <a:lnTo>
                  <a:pt x="188" y="223"/>
                </a:lnTo>
                <a:lnTo>
                  <a:pt x="175" y="208"/>
                </a:lnTo>
                <a:lnTo>
                  <a:pt x="161" y="196"/>
                </a:lnTo>
                <a:lnTo>
                  <a:pt x="148" y="183"/>
                </a:lnTo>
                <a:lnTo>
                  <a:pt x="136" y="169"/>
                </a:lnTo>
                <a:lnTo>
                  <a:pt x="125" y="158"/>
                </a:lnTo>
                <a:lnTo>
                  <a:pt x="113" y="146"/>
                </a:lnTo>
                <a:lnTo>
                  <a:pt x="102" y="137"/>
                </a:lnTo>
                <a:lnTo>
                  <a:pt x="92" y="125"/>
                </a:lnTo>
                <a:lnTo>
                  <a:pt x="83" y="116"/>
                </a:lnTo>
                <a:lnTo>
                  <a:pt x="73" y="106"/>
                </a:lnTo>
                <a:lnTo>
                  <a:pt x="65" y="96"/>
                </a:lnTo>
                <a:lnTo>
                  <a:pt x="58" y="87"/>
                </a:lnTo>
                <a:lnTo>
                  <a:pt x="50" y="79"/>
                </a:lnTo>
                <a:lnTo>
                  <a:pt x="42" y="71"/>
                </a:lnTo>
                <a:lnTo>
                  <a:pt x="36" y="64"/>
                </a:lnTo>
                <a:lnTo>
                  <a:pt x="31" y="56"/>
                </a:lnTo>
                <a:lnTo>
                  <a:pt x="25" y="50"/>
                </a:lnTo>
                <a:lnTo>
                  <a:pt x="19" y="45"/>
                </a:lnTo>
                <a:lnTo>
                  <a:pt x="15" y="39"/>
                </a:lnTo>
                <a:lnTo>
                  <a:pt x="11" y="33"/>
                </a:lnTo>
                <a:lnTo>
                  <a:pt x="10" y="29"/>
                </a:lnTo>
                <a:lnTo>
                  <a:pt x="6" y="25"/>
                </a:lnTo>
                <a:lnTo>
                  <a:pt x="4" y="21"/>
                </a:lnTo>
                <a:lnTo>
                  <a:pt x="2" y="20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6" y="6"/>
                </a:lnTo>
                <a:lnTo>
                  <a:pt x="8" y="4"/>
                </a:lnTo>
                <a:lnTo>
                  <a:pt x="11" y="2"/>
                </a:lnTo>
                <a:lnTo>
                  <a:pt x="17" y="2"/>
                </a:lnTo>
                <a:lnTo>
                  <a:pt x="23" y="2"/>
                </a:lnTo>
                <a:lnTo>
                  <a:pt x="29" y="0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63" y="0"/>
                </a:lnTo>
                <a:lnTo>
                  <a:pt x="73" y="0"/>
                </a:lnTo>
                <a:lnTo>
                  <a:pt x="84" y="0"/>
                </a:lnTo>
                <a:lnTo>
                  <a:pt x="98" y="0"/>
                </a:lnTo>
                <a:lnTo>
                  <a:pt x="109" y="0"/>
                </a:lnTo>
                <a:lnTo>
                  <a:pt x="121" y="2"/>
                </a:lnTo>
                <a:lnTo>
                  <a:pt x="134" y="4"/>
                </a:lnTo>
                <a:lnTo>
                  <a:pt x="148" y="8"/>
                </a:lnTo>
                <a:lnTo>
                  <a:pt x="163" y="12"/>
                </a:lnTo>
                <a:lnTo>
                  <a:pt x="179" y="16"/>
                </a:lnTo>
                <a:lnTo>
                  <a:pt x="196" y="23"/>
                </a:lnTo>
                <a:lnTo>
                  <a:pt x="213" y="29"/>
                </a:lnTo>
                <a:lnTo>
                  <a:pt x="232" y="39"/>
                </a:lnTo>
                <a:lnTo>
                  <a:pt x="253" y="48"/>
                </a:lnTo>
                <a:lnTo>
                  <a:pt x="273" y="58"/>
                </a:lnTo>
                <a:lnTo>
                  <a:pt x="296" y="69"/>
                </a:lnTo>
                <a:lnTo>
                  <a:pt x="319" y="83"/>
                </a:lnTo>
                <a:lnTo>
                  <a:pt x="342" y="96"/>
                </a:lnTo>
                <a:lnTo>
                  <a:pt x="367" y="112"/>
                </a:lnTo>
                <a:lnTo>
                  <a:pt x="392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49"/>
          <p:cNvSpPr/>
          <p:nvPr/>
        </p:nvSpPr>
        <p:spPr>
          <a:xfrm>
            <a:off x="6637320" y="4606920"/>
            <a:ext cx="276120" cy="258840"/>
          </a:xfrm>
          <a:custGeom>
            <a:avLst/>
            <a:gdLst/>
            <a:ahLst/>
            <a:rect l="l" t="t" r="r" b="b"/>
            <a:pathLst>
              <a:path w="350" h="326">
                <a:moveTo>
                  <a:pt x="327" y="155"/>
                </a:moveTo>
                <a:lnTo>
                  <a:pt x="332" y="167"/>
                </a:lnTo>
                <a:lnTo>
                  <a:pt x="336" y="178"/>
                </a:lnTo>
                <a:lnTo>
                  <a:pt x="340" y="188"/>
                </a:lnTo>
                <a:lnTo>
                  <a:pt x="342" y="197"/>
                </a:lnTo>
                <a:lnTo>
                  <a:pt x="346" y="209"/>
                </a:lnTo>
                <a:lnTo>
                  <a:pt x="348" y="217"/>
                </a:lnTo>
                <a:lnTo>
                  <a:pt x="348" y="226"/>
                </a:lnTo>
                <a:lnTo>
                  <a:pt x="350" y="236"/>
                </a:lnTo>
                <a:lnTo>
                  <a:pt x="350" y="244"/>
                </a:lnTo>
                <a:lnTo>
                  <a:pt x="350" y="251"/>
                </a:lnTo>
                <a:lnTo>
                  <a:pt x="348" y="267"/>
                </a:lnTo>
                <a:lnTo>
                  <a:pt x="346" y="282"/>
                </a:lnTo>
                <a:lnTo>
                  <a:pt x="340" y="297"/>
                </a:lnTo>
                <a:lnTo>
                  <a:pt x="338" y="303"/>
                </a:lnTo>
                <a:lnTo>
                  <a:pt x="334" y="309"/>
                </a:lnTo>
                <a:lnTo>
                  <a:pt x="330" y="315"/>
                </a:lnTo>
                <a:lnTo>
                  <a:pt x="325" y="318"/>
                </a:lnTo>
                <a:lnTo>
                  <a:pt x="321" y="322"/>
                </a:lnTo>
                <a:lnTo>
                  <a:pt x="315" y="324"/>
                </a:lnTo>
                <a:lnTo>
                  <a:pt x="309" y="324"/>
                </a:lnTo>
                <a:lnTo>
                  <a:pt x="302" y="326"/>
                </a:lnTo>
                <a:lnTo>
                  <a:pt x="296" y="324"/>
                </a:lnTo>
                <a:lnTo>
                  <a:pt x="288" y="324"/>
                </a:lnTo>
                <a:lnTo>
                  <a:pt x="281" y="322"/>
                </a:lnTo>
                <a:lnTo>
                  <a:pt x="273" y="318"/>
                </a:lnTo>
                <a:lnTo>
                  <a:pt x="265" y="315"/>
                </a:lnTo>
                <a:lnTo>
                  <a:pt x="258" y="309"/>
                </a:lnTo>
                <a:lnTo>
                  <a:pt x="250" y="303"/>
                </a:lnTo>
                <a:lnTo>
                  <a:pt x="242" y="297"/>
                </a:lnTo>
                <a:lnTo>
                  <a:pt x="221" y="282"/>
                </a:lnTo>
                <a:lnTo>
                  <a:pt x="200" y="265"/>
                </a:lnTo>
                <a:lnTo>
                  <a:pt x="179" y="247"/>
                </a:lnTo>
                <a:lnTo>
                  <a:pt x="158" y="228"/>
                </a:lnTo>
                <a:lnTo>
                  <a:pt x="137" y="209"/>
                </a:lnTo>
                <a:lnTo>
                  <a:pt x="115" y="188"/>
                </a:lnTo>
                <a:lnTo>
                  <a:pt x="94" y="165"/>
                </a:lnTo>
                <a:lnTo>
                  <a:pt x="75" y="142"/>
                </a:lnTo>
                <a:lnTo>
                  <a:pt x="64" y="130"/>
                </a:lnTo>
                <a:lnTo>
                  <a:pt x="54" y="119"/>
                </a:lnTo>
                <a:lnTo>
                  <a:pt x="46" y="107"/>
                </a:lnTo>
                <a:lnTo>
                  <a:pt x="39" y="98"/>
                </a:lnTo>
                <a:lnTo>
                  <a:pt x="31" y="88"/>
                </a:lnTo>
                <a:lnTo>
                  <a:pt x="23" y="80"/>
                </a:lnTo>
                <a:lnTo>
                  <a:pt x="18" y="71"/>
                </a:lnTo>
                <a:lnTo>
                  <a:pt x="14" y="63"/>
                </a:lnTo>
                <a:lnTo>
                  <a:pt x="10" y="57"/>
                </a:lnTo>
                <a:lnTo>
                  <a:pt x="6" y="50"/>
                </a:lnTo>
                <a:lnTo>
                  <a:pt x="2" y="44"/>
                </a:lnTo>
                <a:lnTo>
                  <a:pt x="2" y="40"/>
                </a:lnTo>
                <a:lnTo>
                  <a:pt x="0" y="34"/>
                </a:lnTo>
                <a:lnTo>
                  <a:pt x="0" y="30"/>
                </a:lnTo>
                <a:lnTo>
                  <a:pt x="2" y="29"/>
                </a:lnTo>
                <a:lnTo>
                  <a:pt x="4" y="25"/>
                </a:lnTo>
                <a:lnTo>
                  <a:pt x="4" y="21"/>
                </a:lnTo>
                <a:lnTo>
                  <a:pt x="6" y="15"/>
                </a:lnTo>
                <a:lnTo>
                  <a:pt x="10" y="11"/>
                </a:lnTo>
                <a:lnTo>
                  <a:pt x="14" y="9"/>
                </a:lnTo>
                <a:lnTo>
                  <a:pt x="16" y="7"/>
                </a:lnTo>
                <a:lnTo>
                  <a:pt x="19" y="6"/>
                </a:lnTo>
                <a:lnTo>
                  <a:pt x="23" y="4"/>
                </a:lnTo>
                <a:lnTo>
                  <a:pt x="29" y="4"/>
                </a:lnTo>
                <a:lnTo>
                  <a:pt x="33" y="2"/>
                </a:lnTo>
                <a:lnTo>
                  <a:pt x="39" y="0"/>
                </a:lnTo>
                <a:lnTo>
                  <a:pt x="46" y="0"/>
                </a:lnTo>
                <a:lnTo>
                  <a:pt x="52" y="0"/>
                </a:lnTo>
                <a:lnTo>
                  <a:pt x="60" y="0"/>
                </a:lnTo>
                <a:lnTo>
                  <a:pt x="77" y="0"/>
                </a:lnTo>
                <a:lnTo>
                  <a:pt x="92" y="2"/>
                </a:lnTo>
                <a:lnTo>
                  <a:pt x="108" y="4"/>
                </a:lnTo>
                <a:lnTo>
                  <a:pt x="125" y="7"/>
                </a:lnTo>
                <a:lnTo>
                  <a:pt x="142" y="11"/>
                </a:lnTo>
                <a:lnTo>
                  <a:pt x="162" y="15"/>
                </a:lnTo>
                <a:lnTo>
                  <a:pt x="181" y="21"/>
                </a:lnTo>
                <a:lnTo>
                  <a:pt x="200" y="25"/>
                </a:lnTo>
                <a:lnTo>
                  <a:pt x="221" y="36"/>
                </a:lnTo>
                <a:lnTo>
                  <a:pt x="240" y="48"/>
                </a:lnTo>
                <a:lnTo>
                  <a:pt x="258" y="61"/>
                </a:lnTo>
                <a:lnTo>
                  <a:pt x="275" y="75"/>
                </a:lnTo>
                <a:lnTo>
                  <a:pt x="282" y="84"/>
                </a:lnTo>
                <a:lnTo>
                  <a:pt x="290" y="92"/>
                </a:lnTo>
                <a:lnTo>
                  <a:pt x="296" y="102"/>
                </a:lnTo>
                <a:lnTo>
                  <a:pt x="304" y="111"/>
                </a:lnTo>
                <a:lnTo>
                  <a:pt x="309" y="121"/>
                </a:lnTo>
                <a:lnTo>
                  <a:pt x="315" y="132"/>
                </a:lnTo>
                <a:lnTo>
                  <a:pt x="321" y="142"/>
                </a:lnTo>
                <a:lnTo>
                  <a:pt x="327" y="1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50"/>
          <p:cNvSpPr/>
          <p:nvPr/>
        </p:nvSpPr>
        <p:spPr>
          <a:xfrm>
            <a:off x="6127920" y="4633920"/>
            <a:ext cx="288720" cy="260280"/>
          </a:xfrm>
          <a:custGeom>
            <a:avLst/>
            <a:gdLst/>
            <a:ahLst/>
            <a:rect l="l" t="t" r="r" b="b"/>
            <a:pathLst>
              <a:path w="365" h="329">
                <a:moveTo>
                  <a:pt x="238" y="56"/>
                </a:moveTo>
                <a:lnTo>
                  <a:pt x="252" y="64"/>
                </a:lnTo>
                <a:lnTo>
                  <a:pt x="263" y="71"/>
                </a:lnTo>
                <a:lnTo>
                  <a:pt x="275" y="79"/>
                </a:lnTo>
                <a:lnTo>
                  <a:pt x="286" y="87"/>
                </a:lnTo>
                <a:lnTo>
                  <a:pt x="296" y="96"/>
                </a:lnTo>
                <a:lnTo>
                  <a:pt x="305" y="106"/>
                </a:lnTo>
                <a:lnTo>
                  <a:pt x="315" y="114"/>
                </a:lnTo>
                <a:lnTo>
                  <a:pt x="323" y="123"/>
                </a:lnTo>
                <a:lnTo>
                  <a:pt x="330" y="133"/>
                </a:lnTo>
                <a:lnTo>
                  <a:pt x="338" y="144"/>
                </a:lnTo>
                <a:lnTo>
                  <a:pt x="344" y="154"/>
                </a:lnTo>
                <a:lnTo>
                  <a:pt x="349" y="165"/>
                </a:lnTo>
                <a:lnTo>
                  <a:pt x="353" y="175"/>
                </a:lnTo>
                <a:lnTo>
                  <a:pt x="357" y="187"/>
                </a:lnTo>
                <a:lnTo>
                  <a:pt x="361" y="198"/>
                </a:lnTo>
                <a:lnTo>
                  <a:pt x="365" y="211"/>
                </a:lnTo>
                <a:lnTo>
                  <a:pt x="365" y="223"/>
                </a:lnTo>
                <a:lnTo>
                  <a:pt x="363" y="234"/>
                </a:lnTo>
                <a:lnTo>
                  <a:pt x="363" y="244"/>
                </a:lnTo>
                <a:lnTo>
                  <a:pt x="361" y="254"/>
                </a:lnTo>
                <a:lnTo>
                  <a:pt x="361" y="263"/>
                </a:lnTo>
                <a:lnTo>
                  <a:pt x="359" y="273"/>
                </a:lnTo>
                <a:lnTo>
                  <a:pt x="357" y="281"/>
                </a:lnTo>
                <a:lnTo>
                  <a:pt x="353" y="288"/>
                </a:lnTo>
                <a:lnTo>
                  <a:pt x="351" y="296"/>
                </a:lnTo>
                <a:lnTo>
                  <a:pt x="348" y="302"/>
                </a:lnTo>
                <a:lnTo>
                  <a:pt x="344" y="307"/>
                </a:lnTo>
                <a:lnTo>
                  <a:pt x="342" y="311"/>
                </a:lnTo>
                <a:lnTo>
                  <a:pt x="336" y="317"/>
                </a:lnTo>
                <a:lnTo>
                  <a:pt x="332" y="321"/>
                </a:lnTo>
                <a:lnTo>
                  <a:pt x="328" y="325"/>
                </a:lnTo>
                <a:lnTo>
                  <a:pt x="323" y="327"/>
                </a:lnTo>
                <a:lnTo>
                  <a:pt x="315" y="329"/>
                </a:lnTo>
                <a:lnTo>
                  <a:pt x="305" y="329"/>
                </a:lnTo>
                <a:lnTo>
                  <a:pt x="298" y="329"/>
                </a:lnTo>
                <a:lnTo>
                  <a:pt x="288" y="327"/>
                </a:lnTo>
                <a:lnTo>
                  <a:pt x="278" y="325"/>
                </a:lnTo>
                <a:lnTo>
                  <a:pt x="269" y="319"/>
                </a:lnTo>
                <a:lnTo>
                  <a:pt x="257" y="315"/>
                </a:lnTo>
                <a:lnTo>
                  <a:pt x="246" y="307"/>
                </a:lnTo>
                <a:lnTo>
                  <a:pt x="236" y="300"/>
                </a:lnTo>
                <a:lnTo>
                  <a:pt x="223" y="290"/>
                </a:lnTo>
                <a:lnTo>
                  <a:pt x="211" y="281"/>
                </a:lnTo>
                <a:lnTo>
                  <a:pt x="198" y="269"/>
                </a:lnTo>
                <a:lnTo>
                  <a:pt x="184" y="256"/>
                </a:lnTo>
                <a:lnTo>
                  <a:pt x="171" y="242"/>
                </a:lnTo>
                <a:lnTo>
                  <a:pt x="156" y="227"/>
                </a:lnTo>
                <a:lnTo>
                  <a:pt x="140" y="211"/>
                </a:lnTo>
                <a:lnTo>
                  <a:pt x="123" y="194"/>
                </a:lnTo>
                <a:lnTo>
                  <a:pt x="106" y="177"/>
                </a:lnTo>
                <a:lnTo>
                  <a:pt x="90" y="162"/>
                </a:lnTo>
                <a:lnTo>
                  <a:pt x="77" y="148"/>
                </a:lnTo>
                <a:lnTo>
                  <a:pt x="65" y="135"/>
                </a:lnTo>
                <a:lnTo>
                  <a:pt x="54" y="121"/>
                </a:lnTo>
                <a:lnTo>
                  <a:pt x="42" y="108"/>
                </a:lnTo>
                <a:lnTo>
                  <a:pt x="33" y="98"/>
                </a:lnTo>
                <a:lnTo>
                  <a:pt x="25" y="87"/>
                </a:lnTo>
                <a:lnTo>
                  <a:pt x="19" y="77"/>
                </a:lnTo>
                <a:lnTo>
                  <a:pt x="14" y="69"/>
                </a:lnTo>
                <a:lnTo>
                  <a:pt x="8" y="62"/>
                </a:lnTo>
                <a:lnTo>
                  <a:pt x="4" y="56"/>
                </a:lnTo>
                <a:lnTo>
                  <a:pt x="2" y="50"/>
                </a:lnTo>
                <a:lnTo>
                  <a:pt x="0" y="46"/>
                </a:lnTo>
                <a:lnTo>
                  <a:pt x="0" y="43"/>
                </a:lnTo>
                <a:lnTo>
                  <a:pt x="0" y="41"/>
                </a:lnTo>
                <a:lnTo>
                  <a:pt x="0" y="39"/>
                </a:lnTo>
                <a:lnTo>
                  <a:pt x="2" y="35"/>
                </a:lnTo>
                <a:lnTo>
                  <a:pt x="4" y="33"/>
                </a:lnTo>
                <a:lnTo>
                  <a:pt x="8" y="31"/>
                </a:lnTo>
                <a:lnTo>
                  <a:pt x="12" y="29"/>
                </a:lnTo>
                <a:lnTo>
                  <a:pt x="15" y="25"/>
                </a:lnTo>
                <a:lnTo>
                  <a:pt x="19" y="23"/>
                </a:lnTo>
                <a:lnTo>
                  <a:pt x="23" y="21"/>
                </a:lnTo>
                <a:lnTo>
                  <a:pt x="29" y="20"/>
                </a:lnTo>
                <a:lnTo>
                  <a:pt x="40" y="14"/>
                </a:lnTo>
                <a:lnTo>
                  <a:pt x="56" y="10"/>
                </a:lnTo>
                <a:lnTo>
                  <a:pt x="71" y="4"/>
                </a:lnTo>
                <a:lnTo>
                  <a:pt x="79" y="2"/>
                </a:lnTo>
                <a:lnTo>
                  <a:pt x="86" y="0"/>
                </a:lnTo>
                <a:lnTo>
                  <a:pt x="96" y="0"/>
                </a:lnTo>
                <a:lnTo>
                  <a:pt x="104" y="2"/>
                </a:lnTo>
                <a:lnTo>
                  <a:pt x="113" y="2"/>
                </a:lnTo>
                <a:lnTo>
                  <a:pt x="123" y="4"/>
                </a:lnTo>
                <a:lnTo>
                  <a:pt x="133" y="8"/>
                </a:lnTo>
                <a:lnTo>
                  <a:pt x="144" y="10"/>
                </a:lnTo>
                <a:lnTo>
                  <a:pt x="154" y="14"/>
                </a:lnTo>
                <a:lnTo>
                  <a:pt x="165" y="20"/>
                </a:lnTo>
                <a:lnTo>
                  <a:pt x="177" y="23"/>
                </a:lnTo>
                <a:lnTo>
                  <a:pt x="188" y="29"/>
                </a:lnTo>
                <a:lnTo>
                  <a:pt x="213" y="43"/>
                </a:lnTo>
                <a:lnTo>
                  <a:pt x="238" y="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51"/>
          <p:cNvSpPr/>
          <p:nvPr/>
        </p:nvSpPr>
        <p:spPr>
          <a:xfrm>
            <a:off x="5611680" y="4583160"/>
            <a:ext cx="231840" cy="453960"/>
          </a:xfrm>
          <a:custGeom>
            <a:avLst/>
            <a:gdLst/>
            <a:ahLst/>
            <a:rect l="l" t="t" r="r" b="b"/>
            <a:pathLst>
              <a:path w="292" h="570">
                <a:moveTo>
                  <a:pt x="146" y="119"/>
                </a:moveTo>
                <a:lnTo>
                  <a:pt x="154" y="102"/>
                </a:lnTo>
                <a:lnTo>
                  <a:pt x="162" y="88"/>
                </a:lnTo>
                <a:lnTo>
                  <a:pt x="167" y="73"/>
                </a:lnTo>
                <a:lnTo>
                  <a:pt x="175" y="61"/>
                </a:lnTo>
                <a:lnTo>
                  <a:pt x="181" y="50"/>
                </a:lnTo>
                <a:lnTo>
                  <a:pt x="186" y="38"/>
                </a:lnTo>
                <a:lnTo>
                  <a:pt x="192" y="31"/>
                </a:lnTo>
                <a:lnTo>
                  <a:pt x="198" y="23"/>
                </a:lnTo>
                <a:lnTo>
                  <a:pt x="204" y="15"/>
                </a:lnTo>
                <a:lnTo>
                  <a:pt x="208" y="10"/>
                </a:lnTo>
                <a:lnTo>
                  <a:pt x="213" y="6"/>
                </a:lnTo>
                <a:lnTo>
                  <a:pt x="217" y="2"/>
                </a:lnTo>
                <a:lnTo>
                  <a:pt x="221" y="2"/>
                </a:lnTo>
                <a:lnTo>
                  <a:pt x="225" y="0"/>
                </a:lnTo>
                <a:lnTo>
                  <a:pt x="227" y="2"/>
                </a:lnTo>
                <a:lnTo>
                  <a:pt x="231" y="4"/>
                </a:lnTo>
                <a:lnTo>
                  <a:pt x="234" y="8"/>
                </a:lnTo>
                <a:lnTo>
                  <a:pt x="240" y="15"/>
                </a:lnTo>
                <a:lnTo>
                  <a:pt x="246" y="23"/>
                </a:lnTo>
                <a:lnTo>
                  <a:pt x="252" y="33"/>
                </a:lnTo>
                <a:lnTo>
                  <a:pt x="256" y="42"/>
                </a:lnTo>
                <a:lnTo>
                  <a:pt x="261" y="54"/>
                </a:lnTo>
                <a:lnTo>
                  <a:pt x="267" y="67"/>
                </a:lnTo>
                <a:lnTo>
                  <a:pt x="273" y="81"/>
                </a:lnTo>
                <a:lnTo>
                  <a:pt x="275" y="88"/>
                </a:lnTo>
                <a:lnTo>
                  <a:pt x="277" y="96"/>
                </a:lnTo>
                <a:lnTo>
                  <a:pt x="281" y="104"/>
                </a:lnTo>
                <a:lnTo>
                  <a:pt x="282" y="113"/>
                </a:lnTo>
                <a:lnTo>
                  <a:pt x="286" y="132"/>
                </a:lnTo>
                <a:lnTo>
                  <a:pt x="290" y="154"/>
                </a:lnTo>
                <a:lnTo>
                  <a:pt x="292" y="177"/>
                </a:lnTo>
                <a:lnTo>
                  <a:pt x="292" y="188"/>
                </a:lnTo>
                <a:lnTo>
                  <a:pt x="292" y="200"/>
                </a:lnTo>
                <a:lnTo>
                  <a:pt x="292" y="211"/>
                </a:lnTo>
                <a:lnTo>
                  <a:pt x="290" y="223"/>
                </a:lnTo>
                <a:lnTo>
                  <a:pt x="288" y="236"/>
                </a:lnTo>
                <a:lnTo>
                  <a:pt x="286" y="248"/>
                </a:lnTo>
                <a:lnTo>
                  <a:pt x="281" y="276"/>
                </a:lnTo>
                <a:lnTo>
                  <a:pt x="273" y="305"/>
                </a:lnTo>
                <a:lnTo>
                  <a:pt x="263" y="334"/>
                </a:lnTo>
                <a:lnTo>
                  <a:pt x="259" y="347"/>
                </a:lnTo>
                <a:lnTo>
                  <a:pt x="254" y="363"/>
                </a:lnTo>
                <a:lnTo>
                  <a:pt x="246" y="376"/>
                </a:lnTo>
                <a:lnTo>
                  <a:pt x="240" y="390"/>
                </a:lnTo>
                <a:lnTo>
                  <a:pt x="233" y="403"/>
                </a:lnTo>
                <a:lnTo>
                  <a:pt x="225" y="416"/>
                </a:lnTo>
                <a:lnTo>
                  <a:pt x="217" y="430"/>
                </a:lnTo>
                <a:lnTo>
                  <a:pt x="208" y="441"/>
                </a:lnTo>
                <a:lnTo>
                  <a:pt x="198" y="455"/>
                </a:lnTo>
                <a:lnTo>
                  <a:pt x="188" y="466"/>
                </a:lnTo>
                <a:lnTo>
                  <a:pt x="177" y="478"/>
                </a:lnTo>
                <a:lnTo>
                  <a:pt x="167" y="489"/>
                </a:lnTo>
                <a:lnTo>
                  <a:pt x="158" y="501"/>
                </a:lnTo>
                <a:lnTo>
                  <a:pt x="148" y="511"/>
                </a:lnTo>
                <a:lnTo>
                  <a:pt x="140" y="520"/>
                </a:lnTo>
                <a:lnTo>
                  <a:pt x="131" y="528"/>
                </a:lnTo>
                <a:lnTo>
                  <a:pt x="123" y="535"/>
                </a:lnTo>
                <a:lnTo>
                  <a:pt x="114" y="543"/>
                </a:lnTo>
                <a:lnTo>
                  <a:pt x="106" y="549"/>
                </a:lnTo>
                <a:lnTo>
                  <a:pt x="100" y="555"/>
                </a:lnTo>
                <a:lnTo>
                  <a:pt x="92" y="559"/>
                </a:lnTo>
                <a:lnTo>
                  <a:pt x="85" y="562"/>
                </a:lnTo>
                <a:lnTo>
                  <a:pt x="79" y="566"/>
                </a:lnTo>
                <a:lnTo>
                  <a:pt x="73" y="568"/>
                </a:lnTo>
                <a:lnTo>
                  <a:pt x="67" y="570"/>
                </a:lnTo>
                <a:lnTo>
                  <a:pt x="62" y="570"/>
                </a:lnTo>
                <a:lnTo>
                  <a:pt x="56" y="570"/>
                </a:lnTo>
                <a:lnTo>
                  <a:pt x="52" y="568"/>
                </a:lnTo>
                <a:lnTo>
                  <a:pt x="46" y="568"/>
                </a:lnTo>
                <a:lnTo>
                  <a:pt x="43" y="564"/>
                </a:lnTo>
                <a:lnTo>
                  <a:pt x="39" y="562"/>
                </a:lnTo>
                <a:lnTo>
                  <a:pt x="35" y="559"/>
                </a:lnTo>
                <a:lnTo>
                  <a:pt x="31" y="555"/>
                </a:lnTo>
                <a:lnTo>
                  <a:pt x="29" y="549"/>
                </a:lnTo>
                <a:lnTo>
                  <a:pt x="25" y="543"/>
                </a:lnTo>
                <a:lnTo>
                  <a:pt x="21" y="537"/>
                </a:lnTo>
                <a:lnTo>
                  <a:pt x="19" y="530"/>
                </a:lnTo>
                <a:lnTo>
                  <a:pt x="16" y="522"/>
                </a:lnTo>
                <a:lnTo>
                  <a:pt x="14" y="512"/>
                </a:lnTo>
                <a:lnTo>
                  <a:pt x="12" y="503"/>
                </a:lnTo>
                <a:lnTo>
                  <a:pt x="8" y="491"/>
                </a:lnTo>
                <a:lnTo>
                  <a:pt x="6" y="480"/>
                </a:lnTo>
                <a:lnTo>
                  <a:pt x="4" y="468"/>
                </a:lnTo>
                <a:lnTo>
                  <a:pt x="2" y="455"/>
                </a:lnTo>
                <a:lnTo>
                  <a:pt x="0" y="443"/>
                </a:lnTo>
                <a:lnTo>
                  <a:pt x="0" y="432"/>
                </a:lnTo>
                <a:lnTo>
                  <a:pt x="0" y="420"/>
                </a:lnTo>
                <a:lnTo>
                  <a:pt x="2" y="409"/>
                </a:lnTo>
                <a:lnTo>
                  <a:pt x="4" y="397"/>
                </a:lnTo>
                <a:lnTo>
                  <a:pt x="6" y="386"/>
                </a:lnTo>
                <a:lnTo>
                  <a:pt x="8" y="374"/>
                </a:lnTo>
                <a:lnTo>
                  <a:pt x="12" y="363"/>
                </a:lnTo>
                <a:lnTo>
                  <a:pt x="18" y="351"/>
                </a:lnTo>
                <a:lnTo>
                  <a:pt x="21" y="340"/>
                </a:lnTo>
                <a:lnTo>
                  <a:pt x="27" y="330"/>
                </a:lnTo>
                <a:lnTo>
                  <a:pt x="33" y="319"/>
                </a:lnTo>
                <a:lnTo>
                  <a:pt x="41" y="309"/>
                </a:lnTo>
                <a:lnTo>
                  <a:pt x="48" y="299"/>
                </a:lnTo>
                <a:lnTo>
                  <a:pt x="56" y="292"/>
                </a:lnTo>
                <a:lnTo>
                  <a:pt x="64" y="284"/>
                </a:lnTo>
                <a:lnTo>
                  <a:pt x="69" y="274"/>
                </a:lnTo>
                <a:lnTo>
                  <a:pt x="77" y="265"/>
                </a:lnTo>
                <a:lnTo>
                  <a:pt x="83" y="255"/>
                </a:lnTo>
                <a:lnTo>
                  <a:pt x="90" y="246"/>
                </a:lnTo>
                <a:lnTo>
                  <a:pt x="102" y="223"/>
                </a:lnTo>
                <a:lnTo>
                  <a:pt x="114" y="200"/>
                </a:lnTo>
                <a:lnTo>
                  <a:pt x="125" y="175"/>
                </a:lnTo>
                <a:lnTo>
                  <a:pt x="135" y="148"/>
                </a:lnTo>
                <a:lnTo>
                  <a:pt x="146" y="1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52"/>
          <p:cNvSpPr/>
          <p:nvPr/>
        </p:nvSpPr>
        <p:spPr>
          <a:xfrm>
            <a:off x="6032520" y="4361040"/>
            <a:ext cx="1190520" cy="193320"/>
          </a:xfrm>
          <a:custGeom>
            <a:avLst/>
            <a:gdLst/>
            <a:ahLst/>
            <a:rect l="l" t="t" r="r" b="b"/>
            <a:pathLst>
              <a:path w="1501" h="244">
                <a:moveTo>
                  <a:pt x="10" y="142"/>
                </a:moveTo>
                <a:lnTo>
                  <a:pt x="10" y="140"/>
                </a:lnTo>
                <a:lnTo>
                  <a:pt x="12" y="138"/>
                </a:lnTo>
                <a:lnTo>
                  <a:pt x="15" y="138"/>
                </a:lnTo>
                <a:lnTo>
                  <a:pt x="19" y="136"/>
                </a:lnTo>
                <a:lnTo>
                  <a:pt x="23" y="134"/>
                </a:lnTo>
                <a:lnTo>
                  <a:pt x="27" y="134"/>
                </a:lnTo>
                <a:lnTo>
                  <a:pt x="33" y="132"/>
                </a:lnTo>
                <a:lnTo>
                  <a:pt x="39" y="130"/>
                </a:lnTo>
                <a:lnTo>
                  <a:pt x="44" y="130"/>
                </a:lnTo>
                <a:lnTo>
                  <a:pt x="50" y="128"/>
                </a:lnTo>
                <a:lnTo>
                  <a:pt x="58" y="126"/>
                </a:lnTo>
                <a:lnTo>
                  <a:pt x="65" y="126"/>
                </a:lnTo>
                <a:lnTo>
                  <a:pt x="75" y="125"/>
                </a:lnTo>
                <a:lnTo>
                  <a:pt x="83" y="123"/>
                </a:lnTo>
                <a:lnTo>
                  <a:pt x="92" y="121"/>
                </a:lnTo>
                <a:lnTo>
                  <a:pt x="104" y="121"/>
                </a:lnTo>
                <a:lnTo>
                  <a:pt x="113" y="119"/>
                </a:lnTo>
                <a:lnTo>
                  <a:pt x="125" y="117"/>
                </a:lnTo>
                <a:lnTo>
                  <a:pt x="138" y="115"/>
                </a:lnTo>
                <a:lnTo>
                  <a:pt x="150" y="113"/>
                </a:lnTo>
                <a:lnTo>
                  <a:pt x="163" y="113"/>
                </a:lnTo>
                <a:lnTo>
                  <a:pt x="177" y="111"/>
                </a:lnTo>
                <a:lnTo>
                  <a:pt x="190" y="109"/>
                </a:lnTo>
                <a:lnTo>
                  <a:pt x="206" y="107"/>
                </a:lnTo>
                <a:lnTo>
                  <a:pt x="221" y="105"/>
                </a:lnTo>
                <a:lnTo>
                  <a:pt x="238" y="103"/>
                </a:lnTo>
                <a:lnTo>
                  <a:pt x="254" y="101"/>
                </a:lnTo>
                <a:lnTo>
                  <a:pt x="271" y="100"/>
                </a:lnTo>
                <a:lnTo>
                  <a:pt x="288" y="96"/>
                </a:lnTo>
                <a:lnTo>
                  <a:pt x="307" y="94"/>
                </a:lnTo>
                <a:lnTo>
                  <a:pt x="326" y="92"/>
                </a:lnTo>
                <a:lnTo>
                  <a:pt x="346" y="90"/>
                </a:lnTo>
                <a:lnTo>
                  <a:pt x="384" y="86"/>
                </a:lnTo>
                <a:lnTo>
                  <a:pt x="422" y="84"/>
                </a:lnTo>
                <a:lnTo>
                  <a:pt x="459" y="80"/>
                </a:lnTo>
                <a:lnTo>
                  <a:pt x="495" y="77"/>
                </a:lnTo>
                <a:lnTo>
                  <a:pt x="532" y="75"/>
                </a:lnTo>
                <a:lnTo>
                  <a:pt x="566" y="71"/>
                </a:lnTo>
                <a:lnTo>
                  <a:pt x="599" y="67"/>
                </a:lnTo>
                <a:lnTo>
                  <a:pt x="634" y="61"/>
                </a:lnTo>
                <a:lnTo>
                  <a:pt x="666" y="57"/>
                </a:lnTo>
                <a:lnTo>
                  <a:pt x="697" y="53"/>
                </a:lnTo>
                <a:lnTo>
                  <a:pt x="730" y="50"/>
                </a:lnTo>
                <a:lnTo>
                  <a:pt x="760" y="44"/>
                </a:lnTo>
                <a:lnTo>
                  <a:pt x="789" y="40"/>
                </a:lnTo>
                <a:lnTo>
                  <a:pt x="820" y="34"/>
                </a:lnTo>
                <a:lnTo>
                  <a:pt x="879" y="25"/>
                </a:lnTo>
                <a:lnTo>
                  <a:pt x="906" y="23"/>
                </a:lnTo>
                <a:lnTo>
                  <a:pt x="935" y="21"/>
                </a:lnTo>
                <a:lnTo>
                  <a:pt x="962" y="17"/>
                </a:lnTo>
                <a:lnTo>
                  <a:pt x="989" y="15"/>
                </a:lnTo>
                <a:lnTo>
                  <a:pt x="1016" y="13"/>
                </a:lnTo>
                <a:lnTo>
                  <a:pt x="1041" y="11"/>
                </a:lnTo>
                <a:lnTo>
                  <a:pt x="1066" y="9"/>
                </a:lnTo>
                <a:lnTo>
                  <a:pt x="1089" y="7"/>
                </a:lnTo>
                <a:lnTo>
                  <a:pt x="1112" y="6"/>
                </a:lnTo>
                <a:lnTo>
                  <a:pt x="1135" y="4"/>
                </a:lnTo>
                <a:lnTo>
                  <a:pt x="1156" y="2"/>
                </a:lnTo>
                <a:lnTo>
                  <a:pt x="1179" y="2"/>
                </a:lnTo>
                <a:lnTo>
                  <a:pt x="1198" y="0"/>
                </a:lnTo>
                <a:lnTo>
                  <a:pt x="1219" y="0"/>
                </a:lnTo>
                <a:lnTo>
                  <a:pt x="1238" y="0"/>
                </a:lnTo>
                <a:lnTo>
                  <a:pt x="1258" y="0"/>
                </a:lnTo>
                <a:lnTo>
                  <a:pt x="1275" y="0"/>
                </a:lnTo>
                <a:lnTo>
                  <a:pt x="1292" y="0"/>
                </a:lnTo>
                <a:lnTo>
                  <a:pt x="1308" y="0"/>
                </a:lnTo>
                <a:lnTo>
                  <a:pt x="1323" y="2"/>
                </a:lnTo>
                <a:lnTo>
                  <a:pt x="1338" y="4"/>
                </a:lnTo>
                <a:lnTo>
                  <a:pt x="1352" y="6"/>
                </a:lnTo>
                <a:lnTo>
                  <a:pt x="1365" y="7"/>
                </a:lnTo>
                <a:lnTo>
                  <a:pt x="1377" y="9"/>
                </a:lnTo>
                <a:lnTo>
                  <a:pt x="1388" y="13"/>
                </a:lnTo>
                <a:lnTo>
                  <a:pt x="1400" y="17"/>
                </a:lnTo>
                <a:lnTo>
                  <a:pt x="1409" y="21"/>
                </a:lnTo>
                <a:lnTo>
                  <a:pt x="1419" y="27"/>
                </a:lnTo>
                <a:lnTo>
                  <a:pt x="1428" y="30"/>
                </a:lnTo>
                <a:lnTo>
                  <a:pt x="1436" y="36"/>
                </a:lnTo>
                <a:lnTo>
                  <a:pt x="1446" y="44"/>
                </a:lnTo>
                <a:lnTo>
                  <a:pt x="1453" y="52"/>
                </a:lnTo>
                <a:lnTo>
                  <a:pt x="1461" y="57"/>
                </a:lnTo>
                <a:lnTo>
                  <a:pt x="1469" y="63"/>
                </a:lnTo>
                <a:lnTo>
                  <a:pt x="1475" y="71"/>
                </a:lnTo>
                <a:lnTo>
                  <a:pt x="1480" y="75"/>
                </a:lnTo>
                <a:lnTo>
                  <a:pt x="1484" y="80"/>
                </a:lnTo>
                <a:lnTo>
                  <a:pt x="1488" y="84"/>
                </a:lnTo>
                <a:lnTo>
                  <a:pt x="1492" y="88"/>
                </a:lnTo>
                <a:lnTo>
                  <a:pt x="1496" y="92"/>
                </a:lnTo>
                <a:lnTo>
                  <a:pt x="1498" y="96"/>
                </a:lnTo>
                <a:lnTo>
                  <a:pt x="1499" y="100"/>
                </a:lnTo>
                <a:lnTo>
                  <a:pt x="1501" y="101"/>
                </a:lnTo>
                <a:lnTo>
                  <a:pt x="1501" y="105"/>
                </a:lnTo>
                <a:lnTo>
                  <a:pt x="1501" y="107"/>
                </a:lnTo>
                <a:lnTo>
                  <a:pt x="1499" y="109"/>
                </a:lnTo>
                <a:lnTo>
                  <a:pt x="1498" y="113"/>
                </a:lnTo>
                <a:lnTo>
                  <a:pt x="1496" y="115"/>
                </a:lnTo>
                <a:lnTo>
                  <a:pt x="1490" y="121"/>
                </a:lnTo>
                <a:lnTo>
                  <a:pt x="1486" y="123"/>
                </a:lnTo>
                <a:lnTo>
                  <a:pt x="1482" y="125"/>
                </a:lnTo>
                <a:lnTo>
                  <a:pt x="1478" y="126"/>
                </a:lnTo>
                <a:lnTo>
                  <a:pt x="1473" y="128"/>
                </a:lnTo>
                <a:lnTo>
                  <a:pt x="1467" y="130"/>
                </a:lnTo>
                <a:lnTo>
                  <a:pt x="1461" y="132"/>
                </a:lnTo>
                <a:lnTo>
                  <a:pt x="1453" y="134"/>
                </a:lnTo>
                <a:lnTo>
                  <a:pt x="1446" y="136"/>
                </a:lnTo>
                <a:lnTo>
                  <a:pt x="1438" y="138"/>
                </a:lnTo>
                <a:lnTo>
                  <a:pt x="1428" y="138"/>
                </a:lnTo>
                <a:lnTo>
                  <a:pt x="1419" y="140"/>
                </a:lnTo>
                <a:lnTo>
                  <a:pt x="1407" y="140"/>
                </a:lnTo>
                <a:lnTo>
                  <a:pt x="1396" y="140"/>
                </a:lnTo>
                <a:lnTo>
                  <a:pt x="1384" y="142"/>
                </a:lnTo>
                <a:lnTo>
                  <a:pt x="1377" y="142"/>
                </a:lnTo>
                <a:lnTo>
                  <a:pt x="1369" y="142"/>
                </a:lnTo>
                <a:lnTo>
                  <a:pt x="1359" y="142"/>
                </a:lnTo>
                <a:lnTo>
                  <a:pt x="1350" y="142"/>
                </a:lnTo>
                <a:lnTo>
                  <a:pt x="1340" y="142"/>
                </a:lnTo>
                <a:lnTo>
                  <a:pt x="1329" y="142"/>
                </a:lnTo>
                <a:lnTo>
                  <a:pt x="1317" y="144"/>
                </a:lnTo>
                <a:lnTo>
                  <a:pt x="1304" y="144"/>
                </a:lnTo>
                <a:lnTo>
                  <a:pt x="1290" y="144"/>
                </a:lnTo>
                <a:lnTo>
                  <a:pt x="1277" y="146"/>
                </a:lnTo>
                <a:lnTo>
                  <a:pt x="1261" y="146"/>
                </a:lnTo>
                <a:lnTo>
                  <a:pt x="1244" y="148"/>
                </a:lnTo>
                <a:lnTo>
                  <a:pt x="1227" y="148"/>
                </a:lnTo>
                <a:lnTo>
                  <a:pt x="1210" y="149"/>
                </a:lnTo>
                <a:lnTo>
                  <a:pt x="1190" y="149"/>
                </a:lnTo>
                <a:lnTo>
                  <a:pt x="1171" y="151"/>
                </a:lnTo>
                <a:lnTo>
                  <a:pt x="1150" y="153"/>
                </a:lnTo>
                <a:lnTo>
                  <a:pt x="1129" y="155"/>
                </a:lnTo>
                <a:lnTo>
                  <a:pt x="1108" y="157"/>
                </a:lnTo>
                <a:lnTo>
                  <a:pt x="1085" y="159"/>
                </a:lnTo>
                <a:lnTo>
                  <a:pt x="1060" y="161"/>
                </a:lnTo>
                <a:lnTo>
                  <a:pt x="1035" y="163"/>
                </a:lnTo>
                <a:lnTo>
                  <a:pt x="1010" y="165"/>
                </a:lnTo>
                <a:lnTo>
                  <a:pt x="983" y="169"/>
                </a:lnTo>
                <a:lnTo>
                  <a:pt x="956" y="171"/>
                </a:lnTo>
                <a:lnTo>
                  <a:pt x="927" y="172"/>
                </a:lnTo>
                <a:lnTo>
                  <a:pt x="899" y="176"/>
                </a:lnTo>
                <a:lnTo>
                  <a:pt x="868" y="178"/>
                </a:lnTo>
                <a:lnTo>
                  <a:pt x="837" y="182"/>
                </a:lnTo>
                <a:lnTo>
                  <a:pt x="805" y="186"/>
                </a:lnTo>
                <a:lnTo>
                  <a:pt x="772" y="190"/>
                </a:lnTo>
                <a:lnTo>
                  <a:pt x="739" y="194"/>
                </a:lnTo>
                <a:lnTo>
                  <a:pt x="705" y="196"/>
                </a:lnTo>
                <a:lnTo>
                  <a:pt x="672" y="199"/>
                </a:lnTo>
                <a:lnTo>
                  <a:pt x="639" y="203"/>
                </a:lnTo>
                <a:lnTo>
                  <a:pt x="609" y="207"/>
                </a:lnTo>
                <a:lnTo>
                  <a:pt x="580" y="209"/>
                </a:lnTo>
                <a:lnTo>
                  <a:pt x="551" y="213"/>
                </a:lnTo>
                <a:lnTo>
                  <a:pt x="522" y="215"/>
                </a:lnTo>
                <a:lnTo>
                  <a:pt x="495" y="217"/>
                </a:lnTo>
                <a:lnTo>
                  <a:pt x="470" y="220"/>
                </a:lnTo>
                <a:lnTo>
                  <a:pt x="446" y="222"/>
                </a:lnTo>
                <a:lnTo>
                  <a:pt x="422" y="224"/>
                </a:lnTo>
                <a:lnTo>
                  <a:pt x="399" y="226"/>
                </a:lnTo>
                <a:lnTo>
                  <a:pt x="376" y="228"/>
                </a:lnTo>
                <a:lnTo>
                  <a:pt x="355" y="230"/>
                </a:lnTo>
                <a:lnTo>
                  <a:pt x="336" y="232"/>
                </a:lnTo>
                <a:lnTo>
                  <a:pt x="317" y="234"/>
                </a:lnTo>
                <a:lnTo>
                  <a:pt x="300" y="234"/>
                </a:lnTo>
                <a:lnTo>
                  <a:pt x="282" y="236"/>
                </a:lnTo>
                <a:lnTo>
                  <a:pt x="267" y="238"/>
                </a:lnTo>
                <a:lnTo>
                  <a:pt x="252" y="238"/>
                </a:lnTo>
                <a:lnTo>
                  <a:pt x="238" y="240"/>
                </a:lnTo>
                <a:lnTo>
                  <a:pt x="225" y="240"/>
                </a:lnTo>
                <a:lnTo>
                  <a:pt x="213" y="242"/>
                </a:lnTo>
                <a:lnTo>
                  <a:pt x="202" y="242"/>
                </a:lnTo>
                <a:lnTo>
                  <a:pt x="192" y="242"/>
                </a:lnTo>
                <a:lnTo>
                  <a:pt x="183" y="244"/>
                </a:lnTo>
                <a:lnTo>
                  <a:pt x="175" y="244"/>
                </a:lnTo>
                <a:lnTo>
                  <a:pt x="167" y="244"/>
                </a:lnTo>
                <a:lnTo>
                  <a:pt x="161" y="244"/>
                </a:lnTo>
                <a:lnTo>
                  <a:pt x="156" y="244"/>
                </a:lnTo>
                <a:lnTo>
                  <a:pt x="152" y="244"/>
                </a:lnTo>
                <a:lnTo>
                  <a:pt x="150" y="244"/>
                </a:lnTo>
                <a:lnTo>
                  <a:pt x="135" y="244"/>
                </a:lnTo>
                <a:lnTo>
                  <a:pt x="119" y="242"/>
                </a:lnTo>
                <a:lnTo>
                  <a:pt x="106" y="238"/>
                </a:lnTo>
                <a:lnTo>
                  <a:pt x="92" y="232"/>
                </a:lnTo>
                <a:lnTo>
                  <a:pt x="87" y="230"/>
                </a:lnTo>
                <a:lnTo>
                  <a:pt x="79" y="226"/>
                </a:lnTo>
                <a:lnTo>
                  <a:pt x="73" y="222"/>
                </a:lnTo>
                <a:lnTo>
                  <a:pt x="65" y="217"/>
                </a:lnTo>
                <a:lnTo>
                  <a:pt x="60" y="213"/>
                </a:lnTo>
                <a:lnTo>
                  <a:pt x="52" y="205"/>
                </a:lnTo>
                <a:lnTo>
                  <a:pt x="44" y="199"/>
                </a:lnTo>
                <a:lnTo>
                  <a:pt x="37" y="194"/>
                </a:lnTo>
                <a:lnTo>
                  <a:pt x="29" y="186"/>
                </a:lnTo>
                <a:lnTo>
                  <a:pt x="23" y="178"/>
                </a:lnTo>
                <a:lnTo>
                  <a:pt x="17" y="172"/>
                </a:lnTo>
                <a:lnTo>
                  <a:pt x="14" y="169"/>
                </a:lnTo>
                <a:lnTo>
                  <a:pt x="10" y="163"/>
                </a:lnTo>
                <a:lnTo>
                  <a:pt x="6" y="159"/>
                </a:lnTo>
                <a:lnTo>
                  <a:pt x="4" y="155"/>
                </a:lnTo>
                <a:lnTo>
                  <a:pt x="2" y="151"/>
                </a:lnTo>
                <a:lnTo>
                  <a:pt x="0" y="149"/>
                </a:lnTo>
                <a:lnTo>
                  <a:pt x="0" y="148"/>
                </a:lnTo>
                <a:lnTo>
                  <a:pt x="0" y="146"/>
                </a:lnTo>
                <a:lnTo>
                  <a:pt x="2" y="144"/>
                </a:lnTo>
                <a:lnTo>
                  <a:pt x="2" y="142"/>
                </a:lnTo>
                <a:lnTo>
                  <a:pt x="4" y="142"/>
                </a:lnTo>
                <a:lnTo>
                  <a:pt x="10" y="1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53"/>
          <p:cNvSpPr/>
          <p:nvPr/>
        </p:nvSpPr>
        <p:spPr>
          <a:xfrm>
            <a:off x="6249960" y="4119480"/>
            <a:ext cx="746280" cy="146160"/>
          </a:xfrm>
          <a:custGeom>
            <a:avLst/>
            <a:gdLst/>
            <a:ahLst/>
            <a:rect l="l" t="t" r="r" b="b"/>
            <a:pathLst>
              <a:path w="940" h="184">
                <a:moveTo>
                  <a:pt x="940" y="72"/>
                </a:moveTo>
                <a:lnTo>
                  <a:pt x="940" y="74"/>
                </a:lnTo>
                <a:lnTo>
                  <a:pt x="938" y="76"/>
                </a:lnTo>
                <a:lnTo>
                  <a:pt x="937" y="78"/>
                </a:lnTo>
                <a:lnTo>
                  <a:pt x="935" y="82"/>
                </a:lnTo>
                <a:lnTo>
                  <a:pt x="933" y="84"/>
                </a:lnTo>
                <a:lnTo>
                  <a:pt x="929" y="86"/>
                </a:lnTo>
                <a:lnTo>
                  <a:pt x="925" y="88"/>
                </a:lnTo>
                <a:lnTo>
                  <a:pt x="921" y="92"/>
                </a:lnTo>
                <a:lnTo>
                  <a:pt x="915" y="94"/>
                </a:lnTo>
                <a:lnTo>
                  <a:pt x="910" y="96"/>
                </a:lnTo>
                <a:lnTo>
                  <a:pt x="898" y="101"/>
                </a:lnTo>
                <a:lnTo>
                  <a:pt x="885" y="105"/>
                </a:lnTo>
                <a:lnTo>
                  <a:pt x="869" y="111"/>
                </a:lnTo>
                <a:lnTo>
                  <a:pt x="858" y="113"/>
                </a:lnTo>
                <a:lnTo>
                  <a:pt x="846" y="117"/>
                </a:lnTo>
                <a:lnTo>
                  <a:pt x="831" y="119"/>
                </a:lnTo>
                <a:lnTo>
                  <a:pt x="814" y="122"/>
                </a:lnTo>
                <a:lnTo>
                  <a:pt x="796" y="126"/>
                </a:lnTo>
                <a:lnTo>
                  <a:pt x="777" y="130"/>
                </a:lnTo>
                <a:lnTo>
                  <a:pt x="754" y="132"/>
                </a:lnTo>
                <a:lnTo>
                  <a:pt x="731" y="136"/>
                </a:lnTo>
                <a:lnTo>
                  <a:pt x="706" y="140"/>
                </a:lnTo>
                <a:lnTo>
                  <a:pt x="679" y="144"/>
                </a:lnTo>
                <a:lnTo>
                  <a:pt x="650" y="147"/>
                </a:lnTo>
                <a:lnTo>
                  <a:pt x="620" y="151"/>
                </a:lnTo>
                <a:lnTo>
                  <a:pt x="587" y="153"/>
                </a:lnTo>
                <a:lnTo>
                  <a:pt x="570" y="155"/>
                </a:lnTo>
                <a:lnTo>
                  <a:pt x="553" y="157"/>
                </a:lnTo>
                <a:lnTo>
                  <a:pt x="533" y="159"/>
                </a:lnTo>
                <a:lnTo>
                  <a:pt x="516" y="159"/>
                </a:lnTo>
                <a:lnTo>
                  <a:pt x="497" y="161"/>
                </a:lnTo>
                <a:lnTo>
                  <a:pt x="478" y="163"/>
                </a:lnTo>
                <a:lnTo>
                  <a:pt x="439" y="167"/>
                </a:lnTo>
                <a:lnTo>
                  <a:pt x="401" y="170"/>
                </a:lnTo>
                <a:lnTo>
                  <a:pt x="366" y="174"/>
                </a:lnTo>
                <a:lnTo>
                  <a:pt x="334" y="178"/>
                </a:lnTo>
                <a:lnTo>
                  <a:pt x="301" y="180"/>
                </a:lnTo>
                <a:lnTo>
                  <a:pt x="272" y="182"/>
                </a:lnTo>
                <a:lnTo>
                  <a:pt x="257" y="182"/>
                </a:lnTo>
                <a:lnTo>
                  <a:pt x="243" y="182"/>
                </a:lnTo>
                <a:lnTo>
                  <a:pt x="230" y="184"/>
                </a:lnTo>
                <a:lnTo>
                  <a:pt x="217" y="184"/>
                </a:lnTo>
                <a:lnTo>
                  <a:pt x="205" y="184"/>
                </a:lnTo>
                <a:lnTo>
                  <a:pt x="194" y="184"/>
                </a:lnTo>
                <a:lnTo>
                  <a:pt x="182" y="184"/>
                </a:lnTo>
                <a:lnTo>
                  <a:pt x="172" y="184"/>
                </a:lnTo>
                <a:lnTo>
                  <a:pt x="161" y="184"/>
                </a:lnTo>
                <a:lnTo>
                  <a:pt x="151" y="184"/>
                </a:lnTo>
                <a:lnTo>
                  <a:pt x="142" y="184"/>
                </a:lnTo>
                <a:lnTo>
                  <a:pt x="134" y="182"/>
                </a:lnTo>
                <a:lnTo>
                  <a:pt x="126" y="182"/>
                </a:lnTo>
                <a:lnTo>
                  <a:pt x="119" y="182"/>
                </a:lnTo>
                <a:lnTo>
                  <a:pt x="111" y="180"/>
                </a:lnTo>
                <a:lnTo>
                  <a:pt x="105" y="180"/>
                </a:lnTo>
                <a:lnTo>
                  <a:pt x="99" y="178"/>
                </a:lnTo>
                <a:lnTo>
                  <a:pt x="94" y="178"/>
                </a:lnTo>
                <a:lnTo>
                  <a:pt x="88" y="176"/>
                </a:lnTo>
                <a:lnTo>
                  <a:pt x="84" y="176"/>
                </a:lnTo>
                <a:lnTo>
                  <a:pt x="75" y="172"/>
                </a:lnTo>
                <a:lnTo>
                  <a:pt x="65" y="170"/>
                </a:lnTo>
                <a:lnTo>
                  <a:pt x="55" y="168"/>
                </a:lnTo>
                <a:lnTo>
                  <a:pt x="48" y="165"/>
                </a:lnTo>
                <a:lnTo>
                  <a:pt x="40" y="163"/>
                </a:lnTo>
                <a:lnTo>
                  <a:pt x="32" y="161"/>
                </a:lnTo>
                <a:lnTo>
                  <a:pt x="27" y="159"/>
                </a:lnTo>
                <a:lnTo>
                  <a:pt x="21" y="155"/>
                </a:lnTo>
                <a:lnTo>
                  <a:pt x="17" y="153"/>
                </a:lnTo>
                <a:lnTo>
                  <a:pt x="11" y="151"/>
                </a:lnTo>
                <a:lnTo>
                  <a:pt x="9" y="149"/>
                </a:lnTo>
                <a:lnTo>
                  <a:pt x="5" y="145"/>
                </a:lnTo>
                <a:lnTo>
                  <a:pt x="3" y="144"/>
                </a:lnTo>
                <a:lnTo>
                  <a:pt x="2" y="142"/>
                </a:lnTo>
                <a:lnTo>
                  <a:pt x="0" y="140"/>
                </a:lnTo>
                <a:lnTo>
                  <a:pt x="0" y="136"/>
                </a:lnTo>
                <a:lnTo>
                  <a:pt x="2" y="132"/>
                </a:lnTo>
                <a:lnTo>
                  <a:pt x="3" y="126"/>
                </a:lnTo>
                <a:lnTo>
                  <a:pt x="7" y="122"/>
                </a:lnTo>
                <a:lnTo>
                  <a:pt x="9" y="119"/>
                </a:lnTo>
                <a:lnTo>
                  <a:pt x="13" y="117"/>
                </a:lnTo>
                <a:lnTo>
                  <a:pt x="15" y="115"/>
                </a:lnTo>
                <a:lnTo>
                  <a:pt x="21" y="113"/>
                </a:lnTo>
                <a:lnTo>
                  <a:pt x="25" y="109"/>
                </a:lnTo>
                <a:lnTo>
                  <a:pt x="30" y="107"/>
                </a:lnTo>
                <a:lnTo>
                  <a:pt x="36" y="105"/>
                </a:lnTo>
                <a:lnTo>
                  <a:pt x="42" y="103"/>
                </a:lnTo>
                <a:lnTo>
                  <a:pt x="50" y="99"/>
                </a:lnTo>
                <a:lnTo>
                  <a:pt x="57" y="97"/>
                </a:lnTo>
                <a:lnTo>
                  <a:pt x="61" y="96"/>
                </a:lnTo>
                <a:lnTo>
                  <a:pt x="65" y="96"/>
                </a:lnTo>
                <a:lnTo>
                  <a:pt x="71" y="94"/>
                </a:lnTo>
                <a:lnTo>
                  <a:pt x="76" y="92"/>
                </a:lnTo>
                <a:lnTo>
                  <a:pt x="82" y="92"/>
                </a:lnTo>
                <a:lnTo>
                  <a:pt x="88" y="90"/>
                </a:lnTo>
                <a:lnTo>
                  <a:pt x="96" y="90"/>
                </a:lnTo>
                <a:lnTo>
                  <a:pt x="103" y="88"/>
                </a:lnTo>
                <a:lnTo>
                  <a:pt x="111" y="86"/>
                </a:lnTo>
                <a:lnTo>
                  <a:pt x="121" y="84"/>
                </a:lnTo>
                <a:lnTo>
                  <a:pt x="130" y="84"/>
                </a:lnTo>
                <a:lnTo>
                  <a:pt x="140" y="82"/>
                </a:lnTo>
                <a:lnTo>
                  <a:pt x="149" y="80"/>
                </a:lnTo>
                <a:lnTo>
                  <a:pt x="159" y="78"/>
                </a:lnTo>
                <a:lnTo>
                  <a:pt x="171" y="76"/>
                </a:lnTo>
                <a:lnTo>
                  <a:pt x="182" y="74"/>
                </a:lnTo>
                <a:lnTo>
                  <a:pt x="195" y="72"/>
                </a:lnTo>
                <a:lnTo>
                  <a:pt x="207" y="71"/>
                </a:lnTo>
                <a:lnTo>
                  <a:pt x="220" y="69"/>
                </a:lnTo>
                <a:lnTo>
                  <a:pt x="234" y="67"/>
                </a:lnTo>
                <a:lnTo>
                  <a:pt x="247" y="65"/>
                </a:lnTo>
                <a:lnTo>
                  <a:pt x="263" y="63"/>
                </a:lnTo>
                <a:lnTo>
                  <a:pt x="278" y="61"/>
                </a:lnTo>
                <a:lnTo>
                  <a:pt x="293" y="57"/>
                </a:lnTo>
                <a:lnTo>
                  <a:pt x="309" y="55"/>
                </a:lnTo>
                <a:lnTo>
                  <a:pt x="326" y="53"/>
                </a:lnTo>
                <a:lnTo>
                  <a:pt x="343" y="49"/>
                </a:lnTo>
                <a:lnTo>
                  <a:pt x="361" y="48"/>
                </a:lnTo>
                <a:lnTo>
                  <a:pt x="378" y="44"/>
                </a:lnTo>
                <a:lnTo>
                  <a:pt x="397" y="40"/>
                </a:lnTo>
                <a:lnTo>
                  <a:pt x="416" y="36"/>
                </a:lnTo>
                <a:lnTo>
                  <a:pt x="435" y="34"/>
                </a:lnTo>
                <a:lnTo>
                  <a:pt x="455" y="30"/>
                </a:lnTo>
                <a:lnTo>
                  <a:pt x="474" y="26"/>
                </a:lnTo>
                <a:lnTo>
                  <a:pt x="510" y="21"/>
                </a:lnTo>
                <a:lnTo>
                  <a:pt x="545" y="15"/>
                </a:lnTo>
                <a:lnTo>
                  <a:pt x="578" y="11"/>
                </a:lnTo>
                <a:lnTo>
                  <a:pt x="608" y="7"/>
                </a:lnTo>
                <a:lnTo>
                  <a:pt x="637" y="3"/>
                </a:lnTo>
                <a:lnTo>
                  <a:pt x="666" y="1"/>
                </a:lnTo>
                <a:lnTo>
                  <a:pt x="691" y="1"/>
                </a:lnTo>
                <a:lnTo>
                  <a:pt x="716" y="0"/>
                </a:lnTo>
                <a:lnTo>
                  <a:pt x="739" y="0"/>
                </a:lnTo>
                <a:lnTo>
                  <a:pt x="758" y="0"/>
                </a:lnTo>
                <a:lnTo>
                  <a:pt x="779" y="0"/>
                </a:lnTo>
                <a:lnTo>
                  <a:pt x="796" y="1"/>
                </a:lnTo>
                <a:lnTo>
                  <a:pt x="814" y="3"/>
                </a:lnTo>
                <a:lnTo>
                  <a:pt x="829" y="5"/>
                </a:lnTo>
                <a:lnTo>
                  <a:pt x="842" y="7"/>
                </a:lnTo>
                <a:lnTo>
                  <a:pt x="854" y="13"/>
                </a:lnTo>
                <a:lnTo>
                  <a:pt x="865" y="17"/>
                </a:lnTo>
                <a:lnTo>
                  <a:pt x="877" y="23"/>
                </a:lnTo>
                <a:lnTo>
                  <a:pt x="887" y="26"/>
                </a:lnTo>
                <a:lnTo>
                  <a:pt x="896" y="32"/>
                </a:lnTo>
                <a:lnTo>
                  <a:pt x="904" y="36"/>
                </a:lnTo>
                <a:lnTo>
                  <a:pt x="912" y="40"/>
                </a:lnTo>
                <a:lnTo>
                  <a:pt x="917" y="46"/>
                </a:lnTo>
                <a:lnTo>
                  <a:pt x="923" y="49"/>
                </a:lnTo>
                <a:lnTo>
                  <a:pt x="927" y="53"/>
                </a:lnTo>
                <a:lnTo>
                  <a:pt x="931" y="57"/>
                </a:lnTo>
                <a:lnTo>
                  <a:pt x="935" y="61"/>
                </a:lnTo>
                <a:lnTo>
                  <a:pt x="937" y="63"/>
                </a:lnTo>
                <a:lnTo>
                  <a:pt x="938" y="67"/>
                </a:lnTo>
                <a:lnTo>
                  <a:pt x="940" y="69"/>
                </a:lnTo>
                <a:lnTo>
                  <a:pt x="940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54"/>
          <p:cNvSpPr/>
          <p:nvPr/>
        </p:nvSpPr>
        <p:spPr>
          <a:xfrm>
            <a:off x="6161040" y="3900600"/>
            <a:ext cx="1003320" cy="174600"/>
          </a:xfrm>
          <a:custGeom>
            <a:avLst/>
            <a:gdLst/>
            <a:ahLst/>
            <a:rect l="l" t="t" r="r" b="b"/>
            <a:pathLst>
              <a:path w="1264" h="221">
                <a:moveTo>
                  <a:pt x="0" y="117"/>
                </a:moveTo>
                <a:lnTo>
                  <a:pt x="60" y="110"/>
                </a:lnTo>
                <a:lnTo>
                  <a:pt x="119" y="102"/>
                </a:lnTo>
                <a:lnTo>
                  <a:pt x="177" y="96"/>
                </a:lnTo>
                <a:lnTo>
                  <a:pt x="233" y="88"/>
                </a:lnTo>
                <a:lnTo>
                  <a:pt x="286" y="83"/>
                </a:lnTo>
                <a:lnTo>
                  <a:pt x="338" y="77"/>
                </a:lnTo>
                <a:lnTo>
                  <a:pt x="388" y="71"/>
                </a:lnTo>
                <a:lnTo>
                  <a:pt x="436" y="65"/>
                </a:lnTo>
                <a:lnTo>
                  <a:pt x="484" y="60"/>
                </a:lnTo>
                <a:lnTo>
                  <a:pt x="528" y="54"/>
                </a:lnTo>
                <a:lnTo>
                  <a:pt x="570" y="50"/>
                </a:lnTo>
                <a:lnTo>
                  <a:pt x="613" y="46"/>
                </a:lnTo>
                <a:lnTo>
                  <a:pt x="653" y="40"/>
                </a:lnTo>
                <a:lnTo>
                  <a:pt x="690" y="37"/>
                </a:lnTo>
                <a:lnTo>
                  <a:pt x="726" y="33"/>
                </a:lnTo>
                <a:lnTo>
                  <a:pt x="761" y="29"/>
                </a:lnTo>
                <a:lnTo>
                  <a:pt x="793" y="25"/>
                </a:lnTo>
                <a:lnTo>
                  <a:pt x="824" y="23"/>
                </a:lnTo>
                <a:lnTo>
                  <a:pt x="855" y="19"/>
                </a:lnTo>
                <a:lnTo>
                  <a:pt x="881" y="17"/>
                </a:lnTo>
                <a:lnTo>
                  <a:pt x="906" y="14"/>
                </a:lnTo>
                <a:lnTo>
                  <a:pt x="931" y="12"/>
                </a:lnTo>
                <a:lnTo>
                  <a:pt x="954" y="10"/>
                </a:lnTo>
                <a:lnTo>
                  <a:pt x="974" y="8"/>
                </a:lnTo>
                <a:lnTo>
                  <a:pt x="993" y="6"/>
                </a:lnTo>
                <a:lnTo>
                  <a:pt x="1010" y="4"/>
                </a:lnTo>
                <a:lnTo>
                  <a:pt x="1027" y="4"/>
                </a:lnTo>
                <a:lnTo>
                  <a:pt x="1041" y="2"/>
                </a:lnTo>
                <a:lnTo>
                  <a:pt x="1052" y="2"/>
                </a:lnTo>
                <a:lnTo>
                  <a:pt x="1064" y="0"/>
                </a:lnTo>
                <a:lnTo>
                  <a:pt x="1073" y="0"/>
                </a:lnTo>
                <a:lnTo>
                  <a:pt x="1081" y="0"/>
                </a:lnTo>
                <a:lnTo>
                  <a:pt x="1091" y="2"/>
                </a:lnTo>
                <a:lnTo>
                  <a:pt x="1102" y="2"/>
                </a:lnTo>
                <a:lnTo>
                  <a:pt x="1112" y="4"/>
                </a:lnTo>
                <a:lnTo>
                  <a:pt x="1123" y="8"/>
                </a:lnTo>
                <a:lnTo>
                  <a:pt x="1133" y="12"/>
                </a:lnTo>
                <a:lnTo>
                  <a:pt x="1145" y="17"/>
                </a:lnTo>
                <a:lnTo>
                  <a:pt x="1156" y="23"/>
                </a:lnTo>
                <a:lnTo>
                  <a:pt x="1166" y="29"/>
                </a:lnTo>
                <a:lnTo>
                  <a:pt x="1177" y="37"/>
                </a:lnTo>
                <a:lnTo>
                  <a:pt x="1189" y="46"/>
                </a:lnTo>
                <a:lnTo>
                  <a:pt x="1200" y="56"/>
                </a:lnTo>
                <a:lnTo>
                  <a:pt x="1212" y="65"/>
                </a:lnTo>
                <a:lnTo>
                  <a:pt x="1225" y="77"/>
                </a:lnTo>
                <a:lnTo>
                  <a:pt x="1237" y="88"/>
                </a:lnTo>
                <a:lnTo>
                  <a:pt x="1250" y="102"/>
                </a:lnTo>
                <a:lnTo>
                  <a:pt x="1264" y="117"/>
                </a:lnTo>
                <a:lnTo>
                  <a:pt x="1219" y="117"/>
                </a:lnTo>
                <a:lnTo>
                  <a:pt x="1175" y="117"/>
                </a:lnTo>
                <a:lnTo>
                  <a:pt x="1135" y="117"/>
                </a:lnTo>
                <a:lnTo>
                  <a:pt x="1095" y="117"/>
                </a:lnTo>
                <a:lnTo>
                  <a:pt x="1056" y="117"/>
                </a:lnTo>
                <a:lnTo>
                  <a:pt x="1018" y="117"/>
                </a:lnTo>
                <a:lnTo>
                  <a:pt x="981" y="117"/>
                </a:lnTo>
                <a:lnTo>
                  <a:pt x="947" y="119"/>
                </a:lnTo>
                <a:lnTo>
                  <a:pt x="914" y="119"/>
                </a:lnTo>
                <a:lnTo>
                  <a:pt x="881" y="119"/>
                </a:lnTo>
                <a:lnTo>
                  <a:pt x="851" y="121"/>
                </a:lnTo>
                <a:lnTo>
                  <a:pt x="820" y="123"/>
                </a:lnTo>
                <a:lnTo>
                  <a:pt x="793" y="123"/>
                </a:lnTo>
                <a:lnTo>
                  <a:pt x="766" y="125"/>
                </a:lnTo>
                <a:lnTo>
                  <a:pt x="739" y="127"/>
                </a:lnTo>
                <a:lnTo>
                  <a:pt x="716" y="131"/>
                </a:lnTo>
                <a:lnTo>
                  <a:pt x="691" y="133"/>
                </a:lnTo>
                <a:lnTo>
                  <a:pt x="666" y="135"/>
                </a:lnTo>
                <a:lnTo>
                  <a:pt x="642" y="138"/>
                </a:lnTo>
                <a:lnTo>
                  <a:pt x="617" y="142"/>
                </a:lnTo>
                <a:lnTo>
                  <a:pt x="590" y="144"/>
                </a:lnTo>
                <a:lnTo>
                  <a:pt x="563" y="148"/>
                </a:lnTo>
                <a:lnTo>
                  <a:pt x="509" y="156"/>
                </a:lnTo>
                <a:lnTo>
                  <a:pt x="453" y="163"/>
                </a:lnTo>
                <a:lnTo>
                  <a:pt x="396" y="169"/>
                </a:lnTo>
                <a:lnTo>
                  <a:pt x="338" y="175"/>
                </a:lnTo>
                <a:lnTo>
                  <a:pt x="281" y="181"/>
                </a:lnTo>
                <a:lnTo>
                  <a:pt x="252" y="186"/>
                </a:lnTo>
                <a:lnTo>
                  <a:pt x="225" y="190"/>
                </a:lnTo>
                <a:lnTo>
                  <a:pt x="200" y="194"/>
                </a:lnTo>
                <a:lnTo>
                  <a:pt x="175" y="198"/>
                </a:lnTo>
                <a:lnTo>
                  <a:pt x="152" y="202"/>
                </a:lnTo>
                <a:lnTo>
                  <a:pt x="131" y="206"/>
                </a:lnTo>
                <a:lnTo>
                  <a:pt x="112" y="207"/>
                </a:lnTo>
                <a:lnTo>
                  <a:pt x="92" y="211"/>
                </a:lnTo>
                <a:lnTo>
                  <a:pt x="75" y="213"/>
                </a:lnTo>
                <a:lnTo>
                  <a:pt x="60" y="215"/>
                </a:lnTo>
                <a:lnTo>
                  <a:pt x="46" y="217"/>
                </a:lnTo>
                <a:lnTo>
                  <a:pt x="35" y="217"/>
                </a:lnTo>
                <a:lnTo>
                  <a:pt x="23" y="219"/>
                </a:lnTo>
                <a:lnTo>
                  <a:pt x="14" y="219"/>
                </a:lnTo>
                <a:lnTo>
                  <a:pt x="6" y="219"/>
                </a:lnTo>
                <a:lnTo>
                  <a:pt x="0" y="221"/>
                </a:lnTo>
                <a:lnTo>
                  <a:pt x="0" y="169"/>
                </a:lnTo>
                <a:lnTo>
                  <a:pt x="0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55"/>
          <p:cNvSpPr/>
          <p:nvPr/>
        </p:nvSpPr>
        <p:spPr>
          <a:xfrm>
            <a:off x="6551640" y="2998800"/>
            <a:ext cx="169920" cy="1442880"/>
          </a:xfrm>
          <a:custGeom>
            <a:avLst/>
            <a:gdLst/>
            <a:ahLst/>
            <a:rect l="l" t="t" r="r" b="b"/>
            <a:pathLst>
              <a:path w="215" h="1817">
                <a:moveTo>
                  <a:pt x="167" y="1817"/>
                </a:moveTo>
                <a:lnTo>
                  <a:pt x="103" y="1817"/>
                </a:lnTo>
                <a:lnTo>
                  <a:pt x="42" y="1817"/>
                </a:lnTo>
                <a:lnTo>
                  <a:pt x="40" y="1725"/>
                </a:lnTo>
                <a:lnTo>
                  <a:pt x="40" y="1633"/>
                </a:lnTo>
                <a:lnTo>
                  <a:pt x="40" y="1545"/>
                </a:lnTo>
                <a:lnTo>
                  <a:pt x="40" y="1460"/>
                </a:lnTo>
                <a:lnTo>
                  <a:pt x="40" y="1376"/>
                </a:lnTo>
                <a:lnTo>
                  <a:pt x="40" y="1293"/>
                </a:lnTo>
                <a:lnTo>
                  <a:pt x="38" y="1215"/>
                </a:lnTo>
                <a:lnTo>
                  <a:pt x="38" y="1138"/>
                </a:lnTo>
                <a:lnTo>
                  <a:pt x="38" y="1065"/>
                </a:lnTo>
                <a:lnTo>
                  <a:pt x="36" y="992"/>
                </a:lnTo>
                <a:lnTo>
                  <a:pt x="36" y="923"/>
                </a:lnTo>
                <a:lnTo>
                  <a:pt x="34" y="856"/>
                </a:lnTo>
                <a:lnTo>
                  <a:pt x="34" y="791"/>
                </a:lnTo>
                <a:lnTo>
                  <a:pt x="32" y="727"/>
                </a:lnTo>
                <a:lnTo>
                  <a:pt x="32" y="668"/>
                </a:lnTo>
                <a:lnTo>
                  <a:pt x="30" y="608"/>
                </a:lnTo>
                <a:lnTo>
                  <a:pt x="29" y="553"/>
                </a:lnTo>
                <a:lnTo>
                  <a:pt x="27" y="501"/>
                </a:lnTo>
                <a:lnTo>
                  <a:pt x="27" y="449"/>
                </a:lnTo>
                <a:lnTo>
                  <a:pt x="25" y="401"/>
                </a:lnTo>
                <a:lnTo>
                  <a:pt x="23" y="355"/>
                </a:lnTo>
                <a:lnTo>
                  <a:pt x="21" y="311"/>
                </a:lnTo>
                <a:lnTo>
                  <a:pt x="19" y="269"/>
                </a:lnTo>
                <a:lnTo>
                  <a:pt x="17" y="230"/>
                </a:lnTo>
                <a:lnTo>
                  <a:pt x="15" y="192"/>
                </a:lnTo>
                <a:lnTo>
                  <a:pt x="13" y="157"/>
                </a:lnTo>
                <a:lnTo>
                  <a:pt x="11" y="126"/>
                </a:lnTo>
                <a:lnTo>
                  <a:pt x="9" y="96"/>
                </a:lnTo>
                <a:lnTo>
                  <a:pt x="6" y="69"/>
                </a:lnTo>
                <a:lnTo>
                  <a:pt x="4" y="42"/>
                </a:lnTo>
                <a:lnTo>
                  <a:pt x="2" y="19"/>
                </a:lnTo>
                <a:lnTo>
                  <a:pt x="0" y="0"/>
                </a:lnTo>
                <a:lnTo>
                  <a:pt x="21" y="11"/>
                </a:lnTo>
                <a:lnTo>
                  <a:pt x="44" y="23"/>
                </a:lnTo>
                <a:lnTo>
                  <a:pt x="63" y="34"/>
                </a:lnTo>
                <a:lnTo>
                  <a:pt x="82" y="46"/>
                </a:lnTo>
                <a:lnTo>
                  <a:pt x="102" y="55"/>
                </a:lnTo>
                <a:lnTo>
                  <a:pt x="117" y="67"/>
                </a:lnTo>
                <a:lnTo>
                  <a:pt x="132" y="77"/>
                </a:lnTo>
                <a:lnTo>
                  <a:pt x="146" y="86"/>
                </a:lnTo>
                <a:lnTo>
                  <a:pt x="159" y="94"/>
                </a:lnTo>
                <a:lnTo>
                  <a:pt x="171" y="102"/>
                </a:lnTo>
                <a:lnTo>
                  <a:pt x="180" y="111"/>
                </a:lnTo>
                <a:lnTo>
                  <a:pt x="188" y="117"/>
                </a:lnTo>
                <a:lnTo>
                  <a:pt x="196" y="125"/>
                </a:lnTo>
                <a:lnTo>
                  <a:pt x="201" y="130"/>
                </a:lnTo>
                <a:lnTo>
                  <a:pt x="207" y="136"/>
                </a:lnTo>
                <a:lnTo>
                  <a:pt x="209" y="142"/>
                </a:lnTo>
                <a:lnTo>
                  <a:pt x="211" y="146"/>
                </a:lnTo>
                <a:lnTo>
                  <a:pt x="211" y="155"/>
                </a:lnTo>
                <a:lnTo>
                  <a:pt x="213" y="167"/>
                </a:lnTo>
                <a:lnTo>
                  <a:pt x="213" y="180"/>
                </a:lnTo>
                <a:lnTo>
                  <a:pt x="213" y="197"/>
                </a:lnTo>
                <a:lnTo>
                  <a:pt x="215" y="219"/>
                </a:lnTo>
                <a:lnTo>
                  <a:pt x="215" y="242"/>
                </a:lnTo>
                <a:lnTo>
                  <a:pt x="215" y="267"/>
                </a:lnTo>
                <a:lnTo>
                  <a:pt x="215" y="297"/>
                </a:lnTo>
                <a:lnTo>
                  <a:pt x="215" y="330"/>
                </a:lnTo>
                <a:lnTo>
                  <a:pt x="213" y="364"/>
                </a:lnTo>
                <a:lnTo>
                  <a:pt x="213" y="403"/>
                </a:lnTo>
                <a:lnTo>
                  <a:pt x="213" y="445"/>
                </a:lnTo>
                <a:lnTo>
                  <a:pt x="211" y="489"/>
                </a:lnTo>
                <a:lnTo>
                  <a:pt x="211" y="537"/>
                </a:lnTo>
                <a:lnTo>
                  <a:pt x="209" y="589"/>
                </a:lnTo>
                <a:lnTo>
                  <a:pt x="207" y="643"/>
                </a:lnTo>
                <a:lnTo>
                  <a:pt x="205" y="698"/>
                </a:lnTo>
                <a:lnTo>
                  <a:pt x="205" y="758"/>
                </a:lnTo>
                <a:lnTo>
                  <a:pt x="203" y="821"/>
                </a:lnTo>
                <a:lnTo>
                  <a:pt x="199" y="888"/>
                </a:lnTo>
                <a:lnTo>
                  <a:pt x="198" y="958"/>
                </a:lnTo>
                <a:lnTo>
                  <a:pt x="196" y="1029"/>
                </a:lnTo>
                <a:lnTo>
                  <a:pt x="194" y="1105"/>
                </a:lnTo>
                <a:lnTo>
                  <a:pt x="190" y="1182"/>
                </a:lnTo>
                <a:lnTo>
                  <a:pt x="188" y="1265"/>
                </a:lnTo>
                <a:lnTo>
                  <a:pt x="184" y="1349"/>
                </a:lnTo>
                <a:lnTo>
                  <a:pt x="182" y="1437"/>
                </a:lnTo>
                <a:lnTo>
                  <a:pt x="178" y="1528"/>
                </a:lnTo>
                <a:lnTo>
                  <a:pt x="174" y="1622"/>
                </a:lnTo>
                <a:lnTo>
                  <a:pt x="171" y="1718"/>
                </a:lnTo>
                <a:lnTo>
                  <a:pt x="167" y="18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56"/>
          <p:cNvSpPr/>
          <p:nvPr/>
        </p:nvSpPr>
        <p:spPr>
          <a:xfrm>
            <a:off x="6778800" y="3598920"/>
            <a:ext cx="242640" cy="293760"/>
          </a:xfrm>
          <a:custGeom>
            <a:avLst/>
            <a:gdLst/>
            <a:ahLst/>
            <a:rect l="l" t="t" r="r" b="b"/>
            <a:pathLst>
              <a:path w="305" h="371">
                <a:moveTo>
                  <a:pt x="303" y="110"/>
                </a:moveTo>
                <a:lnTo>
                  <a:pt x="301" y="119"/>
                </a:lnTo>
                <a:lnTo>
                  <a:pt x="299" y="129"/>
                </a:lnTo>
                <a:lnTo>
                  <a:pt x="295" y="138"/>
                </a:lnTo>
                <a:lnTo>
                  <a:pt x="292" y="148"/>
                </a:lnTo>
                <a:lnTo>
                  <a:pt x="286" y="158"/>
                </a:lnTo>
                <a:lnTo>
                  <a:pt x="278" y="167"/>
                </a:lnTo>
                <a:lnTo>
                  <a:pt x="271" y="177"/>
                </a:lnTo>
                <a:lnTo>
                  <a:pt x="261" y="188"/>
                </a:lnTo>
                <a:lnTo>
                  <a:pt x="249" y="198"/>
                </a:lnTo>
                <a:lnTo>
                  <a:pt x="236" y="209"/>
                </a:lnTo>
                <a:lnTo>
                  <a:pt x="223" y="221"/>
                </a:lnTo>
                <a:lnTo>
                  <a:pt x="215" y="229"/>
                </a:lnTo>
                <a:lnTo>
                  <a:pt x="205" y="236"/>
                </a:lnTo>
                <a:lnTo>
                  <a:pt x="198" y="242"/>
                </a:lnTo>
                <a:lnTo>
                  <a:pt x="188" y="250"/>
                </a:lnTo>
                <a:lnTo>
                  <a:pt x="178" y="259"/>
                </a:lnTo>
                <a:lnTo>
                  <a:pt x="167" y="267"/>
                </a:lnTo>
                <a:lnTo>
                  <a:pt x="155" y="275"/>
                </a:lnTo>
                <a:lnTo>
                  <a:pt x="144" y="284"/>
                </a:lnTo>
                <a:lnTo>
                  <a:pt x="132" y="294"/>
                </a:lnTo>
                <a:lnTo>
                  <a:pt x="121" y="303"/>
                </a:lnTo>
                <a:lnTo>
                  <a:pt x="107" y="313"/>
                </a:lnTo>
                <a:lnTo>
                  <a:pt x="96" y="323"/>
                </a:lnTo>
                <a:lnTo>
                  <a:pt x="84" y="330"/>
                </a:lnTo>
                <a:lnTo>
                  <a:pt x="75" y="338"/>
                </a:lnTo>
                <a:lnTo>
                  <a:pt x="65" y="344"/>
                </a:lnTo>
                <a:lnTo>
                  <a:pt x="57" y="349"/>
                </a:lnTo>
                <a:lnTo>
                  <a:pt x="50" y="355"/>
                </a:lnTo>
                <a:lnTo>
                  <a:pt x="42" y="361"/>
                </a:lnTo>
                <a:lnTo>
                  <a:pt x="36" y="363"/>
                </a:lnTo>
                <a:lnTo>
                  <a:pt x="31" y="367"/>
                </a:lnTo>
                <a:lnTo>
                  <a:pt x="27" y="369"/>
                </a:lnTo>
                <a:lnTo>
                  <a:pt x="21" y="371"/>
                </a:lnTo>
                <a:lnTo>
                  <a:pt x="17" y="371"/>
                </a:lnTo>
                <a:lnTo>
                  <a:pt x="13" y="371"/>
                </a:lnTo>
                <a:lnTo>
                  <a:pt x="9" y="371"/>
                </a:lnTo>
                <a:lnTo>
                  <a:pt x="8" y="369"/>
                </a:lnTo>
                <a:lnTo>
                  <a:pt x="4" y="363"/>
                </a:lnTo>
                <a:lnTo>
                  <a:pt x="2" y="359"/>
                </a:lnTo>
                <a:lnTo>
                  <a:pt x="0" y="355"/>
                </a:lnTo>
                <a:lnTo>
                  <a:pt x="0" y="351"/>
                </a:lnTo>
                <a:lnTo>
                  <a:pt x="0" y="346"/>
                </a:lnTo>
                <a:lnTo>
                  <a:pt x="0" y="342"/>
                </a:lnTo>
                <a:lnTo>
                  <a:pt x="0" y="336"/>
                </a:lnTo>
                <a:lnTo>
                  <a:pt x="2" y="328"/>
                </a:lnTo>
                <a:lnTo>
                  <a:pt x="6" y="323"/>
                </a:lnTo>
                <a:lnTo>
                  <a:pt x="8" y="315"/>
                </a:lnTo>
                <a:lnTo>
                  <a:pt x="11" y="305"/>
                </a:lnTo>
                <a:lnTo>
                  <a:pt x="17" y="298"/>
                </a:lnTo>
                <a:lnTo>
                  <a:pt x="21" y="286"/>
                </a:lnTo>
                <a:lnTo>
                  <a:pt x="29" y="277"/>
                </a:lnTo>
                <a:lnTo>
                  <a:pt x="36" y="265"/>
                </a:lnTo>
                <a:lnTo>
                  <a:pt x="46" y="246"/>
                </a:lnTo>
                <a:lnTo>
                  <a:pt x="56" y="229"/>
                </a:lnTo>
                <a:lnTo>
                  <a:pt x="67" y="211"/>
                </a:lnTo>
                <a:lnTo>
                  <a:pt x="77" y="196"/>
                </a:lnTo>
                <a:lnTo>
                  <a:pt x="84" y="181"/>
                </a:lnTo>
                <a:lnTo>
                  <a:pt x="94" y="165"/>
                </a:lnTo>
                <a:lnTo>
                  <a:pt x="100" y="150"/>
                </a:lnTo>
                <a:lnTo>
                  <a:pt x="105" y="136"/>
                </a:lnTo>
                <a:lnTo>
                  <a:pt x="111" y="125"/>
                </a:lnTo>
                <a:lnTo>
                  <a:pt x="113" y="115"/>
                </a:lnTo>
                <a:lnTo>
                  <a:pt x="115" y="106"/>
                </a:lnTo>
                <a:lnTo>
                  <a:pt x="117" y="96"/>
                </a:lnTo>
                <a:lnTo>
                  <a:pt x="115" y="86"/>
                </a:lnTo>
                <a:lnTo>
                  <a:pt x="113" y="77"/>
                </a:lnTo>
                <a:lnTo>
                  <a:pt x="111" y="67"/>
                </a:lnTo>
                <a:lnTo>
                  <a:pt x="105" y="58"/>
                </a:lnTo>
                <a:lnTo>
                  <a:pt x="102" y="52"/>
                </a:lnTo>
                <a:lnTo>
                  <a:pt x="98" y="46"/>
                </a:lnTo>
                <a:lnTo>
                  <a:pt x="96" y="40"/>
                </a:lnTo>
                <a:lnTo>
                  <a:pt x="96" y="33"/>
                </a:lnTo>
                <a:lnTo>
                  <a:pt x="96" y="25"/>
                </a:lnTo>
                <a:lnTo>
                  <a:pt x="98" y="17"/>
                </a:lnTo>
                <a:lnTo>
                  <a:pt x="102" y="12"/>
                </a:lnTo>
                <a:lnTo>
                  <a:pt x="105" y="6"/>
                </a:lnTo>
                <a:lnTo>
                  <a:pt x="109" y="4"/>
                </a:lnTo>
                <a:lnTo>
                  <a:pt x="111" y="2"/>
                </a:lnTo>
                <a:lnTo>
                  <a:pt x="115" y="2"/>
                </a:lnTo>
                <a:lnTo>
                  <a:pt x="119" y="2"/>
                </a:lnTo>
                <a:lnTo>
                  <a:pt x="125" y="0"/>
                </a:lnTo>
                <a:lnTo>
                  <a:pt x="128" y="2"/>
                </a:lnTo>
                <a:lnTo>
                  <a:pt x="134" y="2"/>
                </a:lnTo>
                <a:lnTo>
                  <a:pt x="140" y="4"/>
                </a:lnTo>
                <a:lnTo>
                  <a:pt x="148" y="4"/>
                </a:lnTo>
                <a:lnTo>
                  <a:pt x="155" y="6"/>
                </a:lnTo>
                <a:lnTo>
                  <a:pt x="163" y="8"/>
                </a:lnTo>
                <a:lnTo>
                  <a:pt x="173" y="10"/>
                </a:lnTo>
                <a:lnTo>
                  <a:pt x="182" y="12"/>
                </a:lnTo>
                <a:lnTo>
                  <a:pt x="194" y="15"/>
                </a:lnTo>
                <a:lnTo>
                  <a:pt x="205" y="17"/>
                </a:lnTo>
                <a:lnTo>
                  <a:pt x="219" y="19"/>
                </a:lnTo>
                <a:lnTo>
                  <a:pt x="230" y="25"/>
                </a:lnTo>
                <a:lnTo>
                  <a:pt x="242" y="29"/>
                </a:lnTo>
                <a:lnTo>
                  <a:pt x="253" y="35"/>
                </a:lnTo>
                <a:lnTo>
                  <a:pt x="263" y="39"/>
                </a:lnTo>
                <a:lnTo>
                  <a:pt x="271" y="44"/>
                </a:lnTo>
                <a:lnTo>
                  <a:pt x="278" y="50"/>
                </a:lnTo>
                <a:lnTo>
                  <a:pt x="286" y="54"/>
                </a:lnTo>
                <a:lnTo>
                  <a:pt x="292" y="60"/>
                </a:lnTo>
                <a:lnTo>
                  <a:pt x="295" y="65"/>
                </a:lnTo>
                <a:lnTo>
                  <a:pt x="299" y="71"/>
                </a:lnTo>
                <a:lnTo>
                  <a:pt x="303" y="77"/>
                </a:lnTo>
                <a:lnTo>
                  <a:pt x="305" y="83"/>
                </a:lnTo>
                <a:lnTo>
                  <a:pt x="305" y="88"/>
                </a:lnTo>
                <a:lnTo>
                  <a:pt x="305" y="96"/>
                </a:lnTo>
                <a:lnTo>
                  <a:pt x="305" y="102"/>
                </a:lnTo>
                <a:lnTo>
                  <a:pt x="30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157"/>
          <p:cNvSpPr/>
          <p:nvPr/>
        </p:nvSpPr>
        <p:spPr>
          <a:xfrm>
            <a:off x="6272280" y="3706920"/>
            <a:ext cx="204840" cy="193680"/>
          </a:xfrm>
          <a:custGeom>
            <a:avLst/>
            <a:gdLst/>
            <a:ahLst/>
            <a:rect l="l" t="t" r="r" b="b"/>
            <a:pathLst>
              <a:path w="258" h="244">
                <a:moveTo>
                  <a:pt x="0" y="0"/>
                </a:moveTo>
                <a:lnTo>
                  <a:pt x="27" y="0"/>
                </a:lnTo>
                <a:lnTo>
                  <a:pt x="52" y="2"/>
                </a:lnTo>
                <a:lnTo>
                  <a:pt x="79" y="4"/>
                </a:lnTo>
                <a:lnTo>
                  <a:pt x="104" y="8"/>
                </a:lnTo>
                <a:lnTo>
                  <a:pt x="129" y="14"/>
                </a:lnTo>
                <a:lnTo>
                  <a:pt x="152" y="22"/>
                </a:lnTo>
                <a:lnTo>
                  <a:pt x="175" y="29"/>
                </a:lnTo>
                <a:lnTo>
                  <a:pt x="196" y="39"/>
                </a:lnTo>
                <a:lnTo>
                  <a:pt x="206" y="46"/>
                </a:lnTo>
                <a:lnTo>
                  <a:pt x="215" y="52"/>
                </a:lnTo>
                <a:lnTo>
                  <a:pt x="223" y="60"/>
                </a:lnTo>
                <a:lnTo>
                  <a:pt x="231" y="68"/>
                </a:lnTo>
                <a:lnTo>
                  <a:pt x="237" y="75"/>
                </a:lnTo>
                <a:lnTo>
                  <a:pt x="242" y="83"/>
                </a:lnTo>
                <a:lnTo>
                  <a:pt x="246" y="91"/>
                </a:lnTo>
                <a:lnTo>
                  <a:pt x="250" y="98"/>
                </a:lnTo>
                <a:lnTo>
                  <a:pt x="254" y="106"/>
                </a:lnTo>
                <a:lnTo>
                  <a:pt x="256" y="114"/>
                </a:lnTo>
                <a:lnTo>
                  <a:pt x="258" y="123"/>
                </a:lnTo>
                <a:lnTo>
                  <a:pt x="258" y="131"/>
                </a:lnTo>
                <a:lnTo>
                  <a:pt x="258" y="141"/>
                </a:lnTo>
                <a:lnTo>
                  <a:pt x="256" y="148"/>
                </a:lnTo>
                <a:lnTo>
                  <a:pt x="256" y="158"/>
                </a:lnTo>
                <a:lnTo>
                  <a:pt x="254" y="167"/>
                </a:lnTo>
                <a:lnTo>
                  <a:pt x="250" y="177"/>
                </a:lnTo>
                <a:lnTo>
                  <a:pt x="246" y="185"/>
                </a:lnTo>
                <a:lnTo>
                  <a:pt x="244" y="194"/>
                </a:lnTo>
                <a:lnTo>
                  <a:pt x="240" y="202"/>
                </a:lnTo>
                <a:lnTo>
                  <a:pt x="237" y="208"/>
                </a:lnTo>
                <a:lnTo>
                  <a:pt x="233" y="215"/>
                </a:lnTo>
                <a:lnTo>
                  <a:pt x="229" y="221"/>
                </a:lnTo>
                <a:lnTo>
                  <a:pt x="225" y="225"/>
                </a:lnTo>
                <a:lnTo>
                  <a:pt x="221" y="231"/>
                </a:lnTo>
                <a:lnTo>
                  <a:pt x="217" y="235"/>
                </a:lnTo>
                <a:lnTo>
                  <a:pt x="214" y="236"/>
                </a:lnTo>
                <a:lnTo>
                  <a:pt x="210" y="240"/>
                </a:lnTo>
                <a:lnTo>
                  <a:pt x="206" y="242"/>
                </a:lnTo>
                <a:lnTo>
                  <a:pt x="202" y="244"/>
                </a:lnTo>
                <a:lnTo>
                  <a:pt x="200" y="244"/>
                </a:lnTo>
                <a:lnTo>
                  <a:pt x="196" y="244"/>
                </a:lnTo>
                <a:lnTo>
                  <a:pt x="194" y="244"/>
                </a:lnTo>
                <a:lnTo>
                  <a:pt x="191" y="244"/>
                </a:lnTo>
                <a:lnTo>
                  <a:pt x="187" y="242"/>
                </a:lnTo>
                <a:lnTo>
                  <a:pt x="181" y="240"/>
                </a:lnTo>
                <a:lnTo>
                  <a:pt x="175" y="236"/>
                </a:lnTo>
                <a:lnTo>
                  <a:pt x="169" y="233"/>
                </a:lnTo>
                <a:lnTo>
                  <a:pt x="164" y="229"/>
                </a:lnTo>
                <a:lnTo>
                  <a:pt x="158" y="223"/>
                </a:lnTo>
                <a:lnTo>
                  <a:pt x="150" y="217"/>
                </a:lnTo>
                <a:lnTo>
                  <a:pt x="144" y="212"/>
                </a:lnTo>
                <a:lnTo>
                  <a:pt x="137" y="204"/>
                </a:lnTo>
                <a:lnTo>
                  <a:pt x="129" y="196"/>
                </a:lnTo>
                <a:lnTo>
                  <a:pt x="121" y="187"/>
                </a:lnTo>
                <a:lnTo>
                  <a:pt x="114" y="177"/>
                </a:lnTo>
                <a:lnTo>
                  <a:pt x="106" y="165"/>
                </a:lnTo>
                <a:lnTo>
                  <a:pt x="98" y="154"/>
                </a:lnTo>
                <a:lnTo>
                  <a:pt x="89" y="142"/>
                </a:lnTo>
                <a:lnTo>
                  <a:pt x="79" y="131"/>
                </a:lnTo>
                <a:lnTo>
                  <a:pt x="70" y="119"/>
                </a:lnTo>
                <a:lnTo>
                  <a:pt x="62" y="108"/>
                </a:lnTo>
                <a:lnTo>
                  <a:pt x="54" y="98"/>
                </a:lnTo>
                <a:lnTo>
                  <a:pt x="47" y="87"/>
                </a:lnTo>
                <a:lnTo>
                  <a:pt x="39" y="77"/>
                </a:lnTo>
                <a:lnTo>
                  <a:pt x="33" y="68"/>
                </a:lnTo>
                <a:lnTo>
                  <a:pt x="27" y="58"/>
                </a:lnTo>
                <a:lnTo>
                  <a:pt x="23" y="48"/>
                </a:lnTo>
                <a:lnTo>
                  <a:pt x="14" y="31"/>
                </a:lnTo>
                <a:lnTo>
                  <a:pt x="6" y="14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158"/>
          <p:cNvSpPr/>
          <p:nvPr/>
        </p:nvSpPr>
        <p:spPr>
          <a:xfrm>
            <a:off x="6016680" y="3398760"/>
            <a:ext cx="1458720" cy="644760"/>
          </a:xfrm>
          <a:custGeom>
            <a:avLst/>
            <a:gdLst/>
            <a:ahLst/>
            <a:rect l="l" t="t" r="r" b="b"/>
            <a:pathLst>
              <a:path w="1837" h="812">
                <a:moveTo>
                  <a:pt x="1570" y="579"/>
                </a:moveTo>
                <a:lnTo>
                  <a:pt x="1559" y="608"/>
                </a:lnTo>
                <a:lnTo>
                  <a:pt x="1547" y="635"/>
                </a:lnTo>
                <a:lnTo>
                  <a:pt x="1536" y="660"/>
                </a:lnTo>
                <a:lnTo>
                  <a:pt x="1526" y="681"/>
                </a:lnTo>
                <a:lnTo>
                  <a:pt x="1517" y="702"/>
                </a:lnTo>
                <a:lnTo>
                  <a:pt x="1509" y="721"/>
                </a:lnTo>
                <a:lnTo>
                  <a:pt x="1501" y="739"/>
                </a:lnTo>
                <a:lnTo>
                  <a:pt x="1494" y="754"/>
                </a:lnTo>
                <a:lnTo>
                  <a:pt x="1488" y="767"/>
                </a:lnTo>
                <a:lnTo>
                  <a:pt x="1482" y="779"/>
                </a:lnTo>
                <a:lnTo>
                  <a:pt x="1476" y="790"/>
                </a:lnTo>
                <a:lnTo>
                  <a:pt x="1472" y="798"/>
                </a:lnTo>
                <a:lnTo>
                  <a:pt x="1469" y="804"/>
                </a:lnTo>
                <a:lnTo>
                  <a:pt x="1465" y="808"/>
                </a:lnTo>
                <a:lnTo>
                  <a:pt x="1461" y="812"/>
                </a:lnTo>
                <a:lnTo>
                  <a:pt x="1459" y="812"/>
                </a:lnTo>
                <a:lnTo>
                  <a:pt x="1453" y="812"/>
                </a:lnTo>
                <a:lnTo>
                  <a:pt x="1446" y="810"/>
                </a:lnTo>
                <a:lnTo>
                  <a:pt x="1438" y="808"/>
                </a:lnTo>
                <a:lnTo>
                  <a:pt x="1428" y="802"/>
                </a:lnTo>
                <a:lnTo>
                  <a:pt x="1419" y="798"/>
                </a:lnTo>
                <a:lnTo>
                  <a:pt x="1409" y="790"/>
                </a:lnTo>
                <a:lnTo>
                  <a:pt x="1399" y="783"/>
                </a:lnTo>
                <a:lnTo>
                  <a:pt x="1388" y="773"/>
                </a:lnTo>
                <a:lnTo>
                  <a:pt x="1384" y="769"/>
                </a:lnTo>
                <a:lnTo>
                  <a:pt x="1380" y="766"/>
                </a:lnTo>
                <a:lnTo>
                  <a:pt x="1376" y="758"/>
                </a:lnTo>
                <a:lnTo>
                  <a:pt x="1376" y="750"/>
                </a:lnTo>
                <a:lnTo>
                  <a:pt x="1375" y="739"/>
                </a:lnTo>
                <a:lnTo>
                  <a:pt x="1376" y="727"/>
                </a:lnTo>
                <a:lnTo>
                  <a:pt x="1376" y="714"/>
                </a:lnTo>
                <a:lnTo>
                  <a:pt x="1380" y="698"/>
                </a:lnTo>
                <a:lnTo>
                  <a:pt x="1384" y="681"/>
                </a:lnTo>
                <a:lnTo>
                  <a:pt x="1390" y="662"/>
                </a:lnTo>
                <a:lnTo>
                  <a:pt x="1396" y="641"/>
                </a:lnTo>
                <a:lnTo>
                  <a:pt x="1403" y="620"/>
                </a:lnTo>
                <a:lnTo>
                  <a:pt x="1411" y="597"/>
                </a:lnTo>
                <a:lnTo>
                  <a:pt x="1421" y="572"/>
                </a:lnTo>
                <a:lnTo>
                  <a:pt x="1432" y="545"/>
                </a:lnTo>
                <a:lnTo>
                  <a:pt x="1446" y="516"/>
                </a:lnTo>
                <a:lnTo>
                  <a:pt x="1455" y="487"/>
                </a:lnTo>
                <a:lnTo>
                  <a:pt x="1465" y="460"/>
                </a:lnTo>
                <a:lnTo>
                  <a:pt x="1472" y="435"/>
                </a:lnTo>
                <a:lnTo>
                  <a:pt x="1480" y="412"/>
                </a:lnTo>
                <a:lnTo>
                  <a:pt x="1488" y="389"/>
                </a:lnTo>
                <a:lnTo>
                  <a:pt x="1495" y="368"/>
                </a:lnTo>
                <a:lnTo>
                  <a:pt x="1501" y="349"/>
                </a:lnTo>
                <a:lnTo>
                  <a:pt x="1507" y="332"/>
                </a:lnTo>
                <a:lnTo>
                  <a:pt x="1513" y="314"/>
                </a:lnTo>
                <a:lnTo>
                  <a:pt x="1517" y="301"/>
                </a:lnTo>
                <a:lnTo>
                  <a:pt x="1520" y="288"/>
                </a:lnTo>
                <a:lnTo>
                  <a:pt x="1522" y="276"/>
                </a:lnTo>
                <a:lnTo>
                  <a:pt x="1526" y="266"/>
                </a:lnTo>
                <a:lnTo>
                  <a:pt x="1528" y="257"/>
                </a:lnTo>
                <a:lnTo>
                  <a:pt x="1528" y="249"/>
                </a:lnTo>
                <a:lnTo>
                  <a:pt x="1528" y="245"/>
                </a:lnTo>
                <a:lnTo>
                  <a:pt x="1528" y="236"/>
                </a:lnTo>
                <a:lnTo>
                  <a:pt x="1526" y="226"/>
                </a:lnTo>
                <a:lnTo>
                  <a:pt x="1524" y="217"/>
                </a:lnTo>
                <a:lnTo>
                  <a:pt x="1520" y="207"/>
                </a:lnTo>
                <a:lnTo>
                  <a:pt x="1515" y="199"/>
                </a:lnTo>
                <a:lnTo>
                  <a:pt x="1511" y="192"/>
                </a:lnTo>
                <a:lnTo>
                  <a:pt x="1505" y="186"/>
                </a:lnTo>
                <a:lnTo>
                  <a:pt x="1501" y="180"/>
                </a:lnTo>
                <a:lnTo>
                  <a:pt x="1490" y="176"/>
                </a:lnTo>
                <a:lnTo>
                  <a:pt x="1476" y="171"/>
                </a:lnTo>
                <a:lnTo>
                  <a:pt x="1463" y="167"/>
                </a:lnTo>
                <a:lnTo>
                  <a:pt x="1447" y="163"/>
                </a:lnTo>
                <a:lnTo>
                  <a:pt x="1432" y="159"/>
                </a:lnTo>
                <a:lnTo>
                  <a:pt x="1413" y="157"/>
                </a:lnTo>
                <a:lnTo>
                  <a:pt x="1396" y="155"/>
                </a:lnTo>
                <a:lnTo>
                  <a:pt x="1375" y="155"/>
                </a:lnTo>
                <a:lnTo>
                  <a:pt x="1367" y="155"/>
                </a:lnTo>
                <a:lnTo>
                  <a:pt x="1357" y="155"/>
                </a:lnTo>
                <a:lnTo>
                  <a:pt x="1344" y="155"/>
                </a:lnTo>
                <a:lnTo>
                  <a:pt x="1330" y="157"/>
                </a:lnTo>
                <a:lnTo>
                  <a:pt x="1313" y="157"/>
                </a:lnTo>
                <a:lnTo>
                  <a:pt x="1294" y="159"/>
                </a:lnTo>
                <a:lnTo>
                  <a:pt x="1273" y="161"/>
                </a:lnTo>
                <a:lnTo>
                  <a:pt x="1250" y="165"/>
                </a:lnTo>
                <a:lnTo>
                  <a:pt x="1225" y="167"/>
                </a:lnTo>
                <a:lnTo>
                  <a:pt x="1196" y="169"/>
                </a:lnTo>
                <a:lnTo>
                  <a:pt x="1167" y="172"/>
                </a:lnTo>
                <a:lnTo>
                  <a:pt x="1135" y="176"/>
                </a:lnTo>
                <a:lnTo>
                  <a:pt x="1100" y="180"/>
                </a:lnTo>
                <a:lnTo>
                  <a:pt x="1062" y="184"/>
                </a:lnTo>
                <a:lnTo>
                  <a:pt x="1023" y="190"/>
                </a:lnTo>
                <a:lnTo>
                  <a:pt x="981" y="194"/>
                </a:lnTo>
                <a:lnTo>
                  <a:pt x="937" y="199"/>
                </a:lnTo>
                <a:lnTo>
                  <a:pt x="891" y="205"/>
                </a:lnTo>
                <a:lnTo>
                  <a:pt x="843" y="211"/>
                </a:lnTo>
                <a:lnTo>
                  <a:pt x="791" y="217"/>
                </a:lnTo>
                <a:lnTo>
                  <a:pt x="739" y="224"/>
                </a:lnTo>
                <a:lnTo>
                  <a:pt x="683" y="230"/>
                </a:lnTo>
                <a:lnTo>
                  <a:pt x="626" y="238"/>
                </a:lnTo>
                <a:lnTo>
                  <a:pt x="564" y="245"/>
                </a:lnTo>
                <a:lnTo>
                  <a:pt x="503" y="255"/>
                </a:lnTo>
                <a:lnTo>
                  <a:pt x="438" y="263"/>
                </a:lnTo>
                <a:lnTo>
                  <a:pt x="370" y="272"/>
                </a:lnTo>
                <a:lnTo>
                  <a:pt x="301" y="282"/>
                </a:lnTo>
                <a:lnTo>
                  <a:pt x="230" y="291"/>
                </a:lnTo>
                <a:lnTo>
                  <a:pt x="155" y="301"/>
                </a:lnTo>
                <a:lnTo>
                  <a:pt x="79" y="311"/>
                </a:lnTo>
                <a:lnTo>
                  <a:pt x="0" y="322"/>
                </a:lnTo>
                <a:lnTo>
                  <a:pt x="0" y="265"/>
                </a:lnTo>
                <a:lnTo>
                  <a:pt x="0" y="207"/>
                </a:lnTo>
                <a:lnTo>
                  <a:pt x="10" y="205"/>
                </a:lnTo>
                <a:lnTo>
                  <a:pt x="19" y="205"/>
                </a:lnTo>
                <a:lnTo>
                  <a:pt x="31" y="205"/>
                </a:lnTo>
                <a:lnTo>
                  <a:pt x="40" y="205"/>
                </a:lnTo>
                <a:lnTo>
                  <a:pt x="54" y="205"/>
                </a:lnTo>
                <a:lnTo>
                  <a:pt x="65" y="203"/>
                </a:lnTo>
                <a:lnTo>
                  <a:pt x="79" y="203"/>
                </a:lnTo>
                <a:lnTo>
                  <a:pt x="92" y="201"/>
                </a:lnTo>
                <a:lnTo>
                  <a:pt x="106" y="201"/>
                </a:lnTo>
                <a:lnTo>
                  <a:pt x="121" y="199"/>
                </a:lnTo>
                <a:lnTo>
                  <a:pt x="136" y="197"/>
                </a:lnTo>
                <a:lnTo>
                  <a:pt x="152" y="195"/>
                </a:lnTo>
                <a:lnTo>
                  <a:pt x="167" y="194"/>
                </a:lnTo>
                <a:lnTo>
                  <a:pt x="184" y="192"/>
                </a:lnTo>
                <a:lnTo>
                  <a:pt x="202" y="190"/>
                </a:lnTo>
                <a:lnTo>
                  <a:pt x="221" y="188"/>
                </a:lnTo>
                <a:lnTo>
                  <a:pt x="240" y="186"/>
                </a:lnTo>
                <a:lnTo>
                  <a:pt x="259" y="184"/>
                </a:lnTo>
                <a:lnTo>
                  <a:pt x="278" y="182"/>
                </a:lnTo>
                <a:lnTo>
                  <a:pt x="299" y="180"/>
                </a:lnTo>
                <a:lnTo>
                  <a:pt x="321" y="176"/>
                </a:lnTo>
                <a:lnTo>
                  <a:pt x="342" y="174"/>
                </a:lnTo>
                <a:lnTo>
                  <a:pt x="363" y="171"/>
                </a:lnTo>
                <a:lnTo>
                  <a:pt x="386" y="169"/>
                </a:lnTo>
                <a:lnTo>
                  <a:pt x="409" y="165"/>
                </a:lnTo>
                <a:lnTo>
                  <a:pt x="434" y="163"/>
                </a:lnTo>
                <a:lnTo>
                  <a:pt x="459" y="159"/>
                </a:lnTo>
                <a:lnTo>
                  <a:pt x="484" y="155"/>
                </a:lnTo>
                <a:lnTo>
                  <a:pt x="509" y="151"/>
                </a:lnTo>
                <a:lnTo>
                  <a:pt x="536" y="149"/>
                </a:lnTo>
                <a:lnTo>
                  <a:pt x="562" y="146"/>
                </a:lnTo>
                <a:lnTo>
                  <a:pt x="589" y="142"/>
                </a:lnTo>
                <a:lnTo>
                  <a:pt x="641" y="134"/>
                </a:lnTo>
                <a:lnTo>
                  <a:pt x="691" y="126"/>
                </a:lnTo>
                <a:lnTo>
                  <a:pt x="739" y="121"/>
                </a:lnTo>
                <a:lnTo>
                  <a:pt x="785" y="115"/>
                </a:lnTo>
                <a:lnTo>
                  <a:pt x="831" y="109"/>
                </a:lnTo>
                <a:lnTo>
                  <a:pt x="875" y="103"/>
                </a:lnTo>
                <a:lnTo>
                  <a:pt x="918" y="98"/>
                </a:lnTo>
                <a:lnTo>
                  <a:pt x="958" y="94"/>
                </a:lnTo>
                <a:lnTo>
                  <a:pt x="996" y="88"/>
                </a:lnTo>
                <a:lnTo>
                  <a:pt x="1033" y="84"/>
                </a:lnTo>
                <a:lnTo>
                  <a:pt x="1067" y="80"/>
                </a:lnTo>
                <a:lnTo>
                  <a:pt x="1102" y="76"/>
                </a:lnTo>
                <a:lnTo>
                  <a:pt x="1135" y="73"/>
                </a:lnTo>
                <a:lnTo>
                  <a:pt x="1163" y="69"/>
                </a:lnTo>
                <a:lnTo>
                  <a:pt x="1192" y="67"/>
                </a:lnTo>
                <a:lnTo>
                  <a:pt x="1221" y="65"/>
                </a:lnTo>
                <a:lnTo>
                  <a:pt x="1244" y="61"/>
                </a:lnTo>
                <a:lnTo>
                  <a:pt x="1265" y="59"/>
                </a:lnTo>
                <a:lnTo>
                  <a:pt x="1286" y="55"/>
                </a:lnTo>
                <a:lnTo>
                  <a:pt x="1307" y="51"/>
                </a:lnTo>
                <a:lnTo>
                  <a:pt x="1327" y="50"/>
                </a:lnTo>
                <a:lnTo>
                  <a:pt x="1344" y="46"/>
                </a:lnTo>
                <a:lnTo>
                  <a:pt x="1361" y="42"/>
                </a:lnTo>
                <a:lnTo>
                  <a:pt x="1376" y="38"/>
                </a:lnTo>
                <a:lnTo>
                  <a:pt x="1390" y="34"/>
                </a:lnTo>
                <a:lnTo>
                  <a:pt x="1403" y="30"/>
                </a:lnTo>
                <a:lnTo>
                  <a:pt x="1417" y="28"/>
                </a:lnTo>
                <a:lnTo>
                  <a:pt x="1426" y="25"/>
                </a:lnTo>
                <a:lnTo>
                  <a:pt x="1438" y="21"/>
                </a:lnTo>
                <a:lnTo>
                  <a:pt x="1446" y="19"/>
                </a:lnTo>
                <a:lnTo>
                  <a:pt x="1453" y="15"/>
                </a:lnTo>
                <a:lnTo>
                  <a:pt x="1459" y="13"/>
                </a:lnTo>
                <a:lnTo>
                  <a:pt x="1469" y="7"/>
                </a:lnTo>
                <a:lnTo>
                  <a:pt x="1480" y="5"/>
                </a:lnTo>
                <a:lnTo>
                  <a:pt x="1490" y="4"/>
                </a:lnTo>
                <a:lnTo>
                  <a:pt x="1499" y="2"/>
                </a:lnTo>
                <a:lnTo>
                  <a:pt x="1507" y="0"/>
                </a:lnTo>
                <a:lnTo>
                  <a:pt x="1517" y="0"/>
                </a:lnTo>
                <a:lnTo>
                  <a:pt x="1522" y="0"/>
                </a:lnTo>
                <a:lnTo>
                  <a:pt x="1528" y="0"/>
                </a:lnTo>
                <a:lnTo>
                  <a:pt x="1532" y="2"/>
                </a:lnTo>
                <a:lnTo>
                  <a:pt x="1536" y="5"/>
                </a:lnTo>
                <a:lnTo>
                  <a:pt x="1542" y="9"/>
                </a:lnTo>
                <a:lnTo>
                  <a:pt x="1547" y="11"/>
                </a:lnTo>
                <a:lnTo>
                  <a:pt x="1555" y="17"/>
                </a:lnTo>
                <a:lnTo>
                  <a:pt x="1563" y="21"/>
                </a:lnTo>
                <a:lnTo>
                  <a:pt x="1570" y="27"/>
                </a:lnTo>
                <a:lnTo>
                  <a:pt x="1582" y="32"/>
                </a:lnTo>
                <a:lnTo>
                  <a:pt x="1591" y="38"/>
                </a:lnTo>
                <a:lnTo>
                  <a:pt x="1605" y="46"/>
                </a:lnTo>
                <a:lnTo>
                  <a:pt x="1618" y="53"/>
                </a:lnTo>
                <a:lnTo>
                  <a:pt x="1632" y="61"/>
                </a:lnTo>
                <a:lnTo>
                  <a:pt x="1647" y="71"/>
                </a:lnTo>
                <a:lnTo>
                  <a:pt x="1662" y="80"/>
                </a:lnTo>
                <a:lnTo>
                  <a:pt x="1680" y="92"/>
                </a:lnTo>
                <a:lnTo>
                  <a:pt x="1697" y="103"/>
                </a:lnTo>
                <a:lnTo>
                  <a:pt x="1714" y="115"/>
                </a:lnTo>
                <a:lnTo>
                  <a:pt x="1732" y="126"/>
                </a:lnTo>
                <a:lnTo>
                  <a:pt x="1747" y="136"/>
                </a:lnTo>
                <a:lnTo>
                  <a:pt x="1760" y="147"/>
                </a:lnTo>
                <a:lnTo>
                  <a:pt x="1772" y="157"/>
                </a:lnTo>
                <a:lnTo>
                  <a:pt x="1783" y="165"/>
                </a:lnTo>
                <a:lnTo>
                  <a:pt x="1795" y="172"/>
                </a:lnTo>
                <a:lnTo>
                  <a:pt x="1805" y="180"/>
                </a:lnTo>
                <a:lnTo>
                  <a:pt x="1812" y="188"/>
                </a:lnTo>
                <a:lnTo>
                  <a:pt x="1818" y="194"/>
                </a:lnTo>
                <a:lnTo>
                  <a:pt x="1824" y="199"/>
                </a:lnTo>
                <a:lnTo>
                  <a:pt x="1829" y="205"/>
                </a:lnTo>
                <a:lnTo>
                  <a:pt x="1833" y="209"/>
                </a:lnTo>
                <a:lnTo>
                  <a:pt x="1835" y="213"/>
                </a:lnTo>
                <a:lnTo>
                  <a:pt x="1837" y="217"/>
                </a:lnTo>
                <a:lnTo>
                  <a:pt x="1837" y="218"/>
                </a:lnTo>
                <a:lnTo>
                  <a:pt x="1837" y="222"/>
                </a:lnTo>
                <a:lnTo>
                  <a:pt x="1835" y="224"/>
                </a:lnTo>
                <a:lnTo>
                  <a:pt x="1835" y="228"/>
                </a:lnTo>
                <a:lnTo>
                  <a:pt x="1831" y="232"/>
                </a:lnTo>
                <a:lnTo>
                  <a:pt x="1829" y="234"/>
                </a:lnTo>
                <a:lnTo>
                  <a:pt x="1826" y="240"/>
                </a:lnTo>
                <a:lnTo>
                  <a:pt x="1822" y="243"/>
                </a:lnTo>
                <a:lnTo>
                  <a:pt x="1818" y="247"/>
                </a:lnTo>
                <a:lnTo>
                  <a:pt x="1812" y="253"/>
                </a:lnTo>
                <a:lnTo>
                  <a:pt x="1808" y="259"/>
                </a:lnTo>
                <a:lnTo>
                  <a:pt x="1795" y="270"/>
                </a:lnTo>
                <a:lnTo>
                  <a:pt x="1781" y="282"/>
                </a:lnTo>
                <a:lnTo>
                  <a:pt x="1768" y="297"/>
                </a:lnTo>
                <a:lnTo>
                  <a:pt x="1757" y="305"/>
                </a:lnTo>
                <a:lnTo>
                  <a:pt x="1745" y="313"/>
                </a:lnTo>
                <a:lnTo>
                  <a:pt x="1734" y="324"/>
                </a:lnTo>
                <a:lnTo>
                  <a:pt x="1722" y="336"/>
                </a:lnTo>
                <a:lnTo>
                  <a:pt x="1710" y="349"/>
                </a:lnTo>
                <a:lnTo>
                  <a:pt x="1699" y="362"/>
                </a:lnTo>
                <a:lnTo>
                  <a:pt x="1686" y="378"/>
                </a:lnTo>
                <a:lnTo>
                  <a:pt x="1674" y="395"/>
                </a:lnTo>
                <a:lnTo>
                  <a:pt x="1661" y="412"/>
                </a:lnTo>
                <a:lnTo>
                  <a:pt x="1649" y="432"/>
                </a:lnTo>
                <a:lnTo>
                  <a:pt x="1636" y="453"/>
                </a:lnTo>
                <a:lnTo>
                  <a:pt x="1622" y="476"/>
                </a:lnTo>
                <a:lnTo>
                  <a:pt x="1609" y="499"/>
                </a:lnTo>
                <a:lnTo>
                  <a:pt x="1597" y="526"/>
                </a:lnTo>
                <a:lnTo>
                  <a:pt x="1584" y="552"/>
                </a:lnTo>
                <a:lnTo>
                  <a:pt x="1570" y="5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9"/>
          <p:cNvSpPr/>
          <p:nvPr/>
        </p:nvSpPr>
        <p:spPr>
          <a:xfrm>
            <a:off x="5945040" y="3537000"/>
            <a:ext cx="282600" cy="550800"/>
          </a:xfrm>
          <a:custGeom>
            <a:avLst/>
            <a:gdLst/>
            <a:ahLst/>
            <a:rect l="l" t="t" r="r" b="b"/>
            <a:pathLst>
              <a:path w="357" h="693">
                <a:moveTo>
                  <a:pt x="244" y="44"/>
                </a:moveTo>
                <a:lnTo>
                  <a:pt x="251" y="77"/>
                </a:lnTo>
                <a:lnTo>
                  <a:pt x="257" y="108"/>
                </a:lnTo>
                <a:lnTo>
                  <a:pt x="263" y="139"/>
                </a:lnTo>
                <a:lnTo>
                  <a:pt x="268" y="169"/>
                </a:lnTo>
                <a:lnTo>
                  <a:pt x="274" y="196"/>
                </a:lnTo>
                <a:lnTo>
                  <a:pt x="280" y="225"/>
                </a:lnTo>
                <a:lnTo>
                  <a:pt x="286" y="252"/>
                </a:lnTo>
                <a:lnTo>
                  <a:pt x="290" y="277"/>
                </a:lnTo>
                <a:lnTo>
                  <a:pt x="295" y="302"/>
                </a:lnTo>
                <a:lnTo>
                  <a:pt x="301" y="327"/>
                </a:lnTo>
                <a:lnTo>
                  <a:pt x="305" y="350"/>
                </a:lnTo>
                <a:lnTo>
                  <a:pt x="309" y="371"/>
                </a:lnTo>
                <a:lnTo>
                  <a:pt x="315" y="392"/>
                </a:lnTo>
                <a:lnTo>
                  <a:pt x="318" y="413"/>
                </a:lnTo>
                <a:lnTo>
                  <a:pt x="322" y="432"/>
                </a:lnTo>
                <a:lnTo>
                  <a:pt x="326" y="451"/>
                </a:lnTo>
                <a:lnTo>
                  <a:pt x="330" y="469"/>
                </a:lnTo>
                <a:lnTo>
                  <a:pt x="334" y="486"/>
                </a:lnTo>
                <a:lnTo>
                  <a:pt x="336" y="501"/>
                </a:lnTo>
                <a:lnTo>
                  <a:pt x="340" y="517"/>
                </a:lnTo>
                <a:lnTo>
                  <a:pt x="341" y="530"/>
                </a:lnTo>
                <a:lnTo>
                  <a:pt x="343" y="544"/>
                </a:lnTo>
                <a:lnTo>
                  <a:pt x="347" y="555"/>
                </a:lnTo>
                <a:lnTo>
                  <a:pt x="349" y="567"/>
                </a:lnTo>
                <a:lnTo>
                  <a:pt x="351" y="578"/>
                </a:lnTo>
                <a:lnTo>
                  <a:pt x="351" y="588"/>
                </a:lnTo>
                <a:lnTo>
                  <a:pt x="353" y="595"/>
                </a:lnTo>
                <a:lnTo>
                  <a:pt x="355" y="603"/>
                </a:lnTo>
                <a:lnTo>
                  <a:pt x="355" y="611"/>
                </a:lnTo>
                <a:lnTo>
                  <a:pt x="357" y="616"/>
                </a:lnTo>
                <a:lnTo>
                  <a:pt x="357" y="620"/>
                </a:lnTo>
                <a:lnTo>
                  <a:pt x="357" y="626"/>
                </a:lnTo>
                <a:lnTo>
                  <a:pt x="355" y="640"/>
                </a:lnTo>
                <a:lnTo>
                  <a:pt x="353" y="651"/>
                </a:lnTo>
                <a:lnTo>
                  <a:pt x="351" y="663"/>
                </a:lnTo>
                <a:lnTo>
                  <a:pt x="345" y="672"/>
                </a:lnTo>
                <a:lnTo>
                  <a:pt x="343" y="676"/>
                </a:lnTo>
                <a:lnTo>
                  <a:pt x="340" y="680"/>
                </a:lnTo>
                <a:lnTo>
                  <a:pt x="336" y="684"/>
                </a:lnTo>
                <a:lnTo>
                  <a:pt x="332" y="686"/>
                </a:lnTo>
                <a:lnTo>
                  <a:pt x="328" y="687"/>
                </a:lnTo>
                <a:lnTo>
                  <a:pt x="324" y="689"/>
                </a:lnTo>
                <a:lnTo>
                  <a:pt x="318" y="689"/>
                </a:lnTo>
                <a:lnTo>
                  <a:pt x="315" y="689"/>
                </a:lnTo>
                <a:lnTo>
                  <a:pt x="307" y="691"/>
                </a:lnTo>
                <a:lnTo>
                  <a:pt x="299" y="693"/>
                </a:lnTo>
                <a:lnTo>
                  <a:pt x="292" y="693"/>
                </a:lnTo>
                <a:lnTo>
                  <a:pt x="286" y="693"/>
                </a:lnTo>
                <a:lnTo>
                  <a:pt x="278" y="691"/>
                </a:lnTo>
                <a:lnTo>
                  <a:pt x="272" y="687"/>
                </a:lnTo>
                <a:lnTo>
                  <a:pt x="267" y="686"/>
                </a:lnTo>
                <a:lnTo>
                  <a:pt x="261" y="680"/>
                </a:lnTo>
                <a:lnTo>
                  <a:pt x="257" y="674"/>
                </a:lnTo>
                <a:lnTo>
                  <a:pt x="251" y="668"/>
                </a:lnTo>
                <a:lnTo>
                  <a:pt x="247" y="661"/>
                </a:lnTo>
                <a:lnTo>
                  <a:pt x="244" y="653"/>
                </a:lnTo>
                <a:lnTo>
                  <a:pt x="240" y="645"/>
                </a:lnTo>
                <a:lnTo>
                  <a:pt x="236" y="634"/>
                </a:lnTo>
                <a:lnTo>
                  <a:pt x="232" y="624"/>
                </a:lnTo>
                <a:lnTo>
                  <a:pt x="230" y="613"/>
                </a:lnTo>
                <a:lnTo>
                  <a:pt x="226" y="599"/>
                </a:lnTo>
                <a:lnTo>
                  <a:pt x="224" y="588"/>
                </a:lnTo>
                <a:lnTo>
                  <a:pt x="220" y="574"/>
                </a:lnTo>
                <a:lnTo>
                  <a:pt x="217" y="559"/>
                </a:lnTo>
                <a:lnTo>
                  <a:pt x="213" y="544"/>
                </a:lnTo>
                <a:lnTo>
                  <a:pt x="209" y="528"/>
                </a:lnTo>
                <a:lnTo>
                  <a:pt x="205" y="513"/>
                </a:lnTo>
                <a:lnTo>
                  <a:pt x="199" y="496"/>
                </a:lnTo>
                <a:lnTo>
                  <a:pt x="196" y="478"/>
                </a:lnTo>
                <a:lnTo>
                  <a:pt x="190" y="461"/>
                </a:lnTo>
                <a:lnTo>
                  <a:pt x="186" y="444"/>
                </a:lnTo>
                <a:lnTo>
                  <a:pt x="180" y="425"/>
                </a:lnTo>
                <a:lnTo>
                  <a:pt x="174" y="403"/>
                </a:lnTo>
                <a:lnTo>
                  <a:pt x="171" y="384"/>
                </a:lnTo>
                <a:lnTo>
                  <a:pt x="165" y="363"/>
                </a:lnTo>
                <a:lnTo>
                  <a:pt x="159" y="342"/>
                </a:lnTo>
                <a:lnTo>
                  <a:pt x="151" y="321"/>
                </a:lnTo>
                <a:lnTo>
                  <a:pt x="144" y="300"/>
                </a:lnTo>
                <a:lnTo>
                  <a:pt x="138" y="279"/>
                </a:lnTo>
                <a:lnTo>
                  <a:pt x="130" y="259"/>
                </a:lnTo>
                <a:lnTo>
                  <a:pt x="124" y="240"/>
                </a:lnTo>
                <a:lnTo>
                  <a:pt x="117" y="223"/>
                </a:lnTo>
                <a:lnTo>
                  <a:pt x="111" y="206"/>
                </a:lnTo>
                <a:lnTo>
                  <a:pt x="103" y="190"/>
                </a:lnTo>
                <a:lnTo>
                  <a:pt x="98" y="175"/>
                </a:lnTo>
                <a:lnTo>
                  <a:pt x="90" y="160"/>
                </a:lnTo>
                <a:lnTo>
                  <a:pt x="84" y="146"/>
                </a:lnTo>
                <a:lnTo>
                  <a:pt x="76" y="135"/>
                </a:lnTo>
                <a:lnTo>
                  <a:pt x="71" y="123"/>
                </a:lnTo>
                <a:lnTo>
                  <a:pt x="63" y="114"/>
                </a:lnTo>
                <a:lnTo>
                  <a:pt x="55" y="104"/>
                </a:lnTo>
                <a:lnTo>
                  <a:pt x="48" y="96"/>
                </a:lnTo>
                <a:lnTo>
                  <a:pt x="40" y="89"/>
                </a:lnTo>
                <a:lnTo>
                  <a:pt x="34" y="83"/>
                </a:lnTo>
                <a:lnTo>
                  <a:pt x="27" y="75"/>
                </a:lnTo>
                <a:lnTo>
                  <a:pt x="21" y="69"/>
                </a:lnTo>
                <a:lnTo>
                  <a:pt x="17" y="64"/>
                </a:lnTo>
                <a:lnTo>
                  <a:pt x="13" y="58"/>
                </a:lnTo>
                <a:lnTo>
                  <a:pt x="9" y="52"/>
                </a:lnTo>
                <a:lnTo>
                  <a:pt x="5" y="46"/>
                </a:lnTo>
                <a:lnTo>
                  <a:pt x="4" y="41"/>
                </a:lnTo>
                <a:lnTo>
                  <a:pt x="2" y="35"/>
                </a:lnTo>
                <a:lnTo>
                  <a:pt x="2" y="31"/>
                </a:lnTo>
                <a:lnTo>
                  <a:pt x="0" y="25"/>
                </a:lnTo>
                <a:lnTo>
                  <a:pt x="0" y="21"/>
                </a:lnTo>
                <a:lnTo>
                  <a:pt x="2" y="16"/>
                </a:lnTo>
                <a:lnTo>
                  <a:pt x="4" y="12"/>
                </a:lnTo>
                <a:lnTo>
                  <a:pt x="5" y="6"/>
                </a:lnTo>
                <a:lnTo>
                  <a:pt x="9" y="4"/>
                </a:lnTo>
                <a:lnTo>
                  <a:pt x="13" y="2"/>
                </a:lnTo>
                <a:lnTo>
                  <a:pt x="19" y="2"/>
                </a:lnTo>
                <a:lnTo>
                  <a:pt x="27" y="0"/>
                </a:lnTo>
                <a:lnTo>
                  <a:pt x="36" y="2"/>
                </a:lnTo>
                <a:lnTo>
                  <a:pt x="46" y="2"/>
                </a:lnTo>
                <a:lnTo>
                  <a:pt x="59" y="4"/>
                </a:lnTo>
                <a:lnTo>
                  <a:pt x="73" y="6"/>
                </a:lnTo>
                <a:lnTo>
                  <a:pt x="88" y="8"/>
                </a:lnTo>
                <a:lnTo>
                  <a:pt x="105" y="12"/>
                </a:lnTo>
                <a:lnTo>
                  <a:pt x="123" y="16"/>
                </a:lnTo>
                <a:lnTo>
                  <a:pt x="144" y="21"/>
                </a:lnTo>
                <a:lnTo>
                  <a:pt x="167" y="25"/>
                </a:lnTo>
                <a:lnTo>
                  <a:pt x="190" y="31"/>
                </a:lnTo>
                <a:lnTo>
                  <a:pt x="217" y="39"/>
                </a:lnTo>
                <a:lnTo>
                  <a:pt x="230" y="41"/>
                </a:lnTo>
                <a:lnTo>
                  <a:pt x="244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0"/>
          <p:cNvSpPr/>
          <p:nvPr/>
        </p:nvSpPr>
        <p:spPr>
          <a:xfrm>
            <a:off x="5538960" y="3132000"/>
            <a:ext cx="2280960" cy="314640"/>
          </a:xfrm>
          <a:custGeom>
            <a:avLst/>
            <a:gdLst/>
            <a:ahLst/>
            <a:rect l="l" t="t" r="r" b="b"/>
            <a:pathLst>
              <a:path w="2876" h="395">
                <a:moveTo>
                  <a:pt x="547" y="374"/>
                </a:moveTo>
                <a:lnTo>
                  <a:pt x="513" y="378"/>
                </a:lnTo>
                <a:lnTo>
                  <a:pt x="480" y="384"/>
                </a:lnTo>
                <a:lnTo>
                  <a:pt x="449" y="386"/>
                </a:lnTo>
                <a:lnTo>
                  <a:pt x="421" y="389"/>
                </a:lnTo>
                <a:lnTo>
                  <a:pt x="394" y="391"/>
                </a:lnTo>
                <a:lnTo>
                  <a:pt x="367" y="393"/>
                </a:lnTo>
                <a:lnTo>
                  <a:pt x="342" y="395"/>
                </a:lnTo>
                <a:lnTo>
                  <a:pt x="319" y="395"/>
                </a:lnTo>
                <a:lnTo>
                  <a:pt x="298" y="395"/>
                </a:lnTo>
                <a:lnTo>
                  <a:pt x="277" y="395"/>
                </a:lnTo>
                <a:lnTo>
                  <a:pt x="259" y="395"/>
                </a:lnTo>
                <a:lnTo>
                  <a:pt x="242" y="395"/>
                </a:lnTo>
                <a:lnTo>
                  <a:pt x="229" y="393"/>
                </a:lnTo>
                <a:lnTo>
                  <a:pt x="215" y="391"/>
                </a:lnTo>
                <a:lnTo>
                  <a:pt x="209" y="391"/>
                </a:lnTo>
                <a:lnTo>
                  <a:pt x="206" y="389"/>
                </a:lnTo>
                <a:lnTo>
                  <a:pt x="200" y="387"/>
                </a:lnTo>
                <a:lnTo>
                  <a:pt x="196" y="387"/>
                </a:lnTo>
                <a:lnTo>
                  <a:pt x="184" y="384"/>
                </a:lnTo>
                <a:lnTo>
                  <a:pt x="175" y="382"/>
                </a:lnTo>
                <a:lnTo>
                  <a:pt x="163" y="378"/>
                </a:lnTo>
                <a:lnTo>
                  <a:pt x="152" y="372"/>
                </a:lnTo>
                <a:lnTo>
                  <a:pt x="140" y="368"/>
                </a:lnTo>
                <a:lnTo>
                  <a:pt x="127" y="363"/>
                </a:lnTo>
                <a:lnTo>
                  <a:pt x="115" y="355"/>
                </a:lnTo>
                <a:lnTo>
                  <a:pt x="102" y="349"/>
                </a:lnTo>
                <a:lnTo>
                  <a:pt x="90" y="341"/>
                </a:lnTo>
                <a:lnTo>
                  <a:pt x="77" y="334"/>
                </a:lnTo>
                <a:lnTo>
                  <a:pt x="63" y="324"/>
                </a:lnTo>
                <a:lnTo>
                  <a:pt x="52" y="315"/>
                </a:lnTo>
                <a:lnTo>
                  <a:pt x="39" y="305"/>
                </a:lnTo>
                <a:lnTo>
                  <a:pt x="25" y="293"/>
                </a:lnTo>
                <a:lnTo>
                  <a:pt x="12" y="282"/>
                </a:lnTo>
                <a:lnTo>
                  <a:pt x="0" y="270"/>
                </a:lnTo>
                <a:lnTo>
                  <a:pt x="73" y="270"/>
                </a:lnTo>
                <a:lnTo>
                  <a:pt x="150" y="268"/>
                </a:lnTo>
                <a:lnTo>
                  <a:pt x="227" y="267"/>
                </a:lnTo>
                <a:lnTo>
                  <a:pt x="305" y="261"/>
                </a:lnTo>
                <a:lnTo>
                  <a:pt x="384" y="257"/>
                </a:lnTo>
                <a:lnTo>
                  <a:pt x="465" y="249"/>
                </a:lnTo>
                <a:lnTo>
                  <a:pt x="547" y="242"/>
                </a:lnTo>
                <a:lnTo>
                  <a:pt x="632" y="232"/>
                </a:lnTo>
                <a:lnTo>
                  <a:pt x="653" y="232"/>
                </a:lnTo>
                <a:lnTo>
                  <a:pt x="674" y="230"/>
                </a:lnTo>
                <a:lnTo>
                  <a:pt x="697" y="228"/>
                </a:lnTo>
                <a:lnTo>
                  <a:pt x="720" y="226"/>
                </a:lnTo>
                <a:lnTo>
                  <a:pt x="745" y="224"/>
                </a:lnTo>
                <a:lnTo>
                  <a:pt x="770" y="221"/>
                </a:lnTo>
                <a:lnTo>
                  <a:pt x="797" y="219"/>
                </a:lnTo>
                <a:lnTo>
                  <a:pt x="824" y="217"/>
                </a:lnTo>
                <a:lnTo>
                  <a:pt x="851" y="213"/>
                </a:lnTo>
                <a:lnTo>
                  <a:pt x="879" y="209"/>
                </a:lnTo>
                <a:lnTo>
                  <a:pt x="908" y="207"/>
                </a:lnTo>
                <a:lnTo>
                  <a:pt x="937" y="203"/>
                </a:lnTo>
                <a:lnTo>
                  <a:pt x="968" y="199"/>
                </a:lnTo>
                <a:lnTo>
                  <a:pt x="998" y="196"/>
                </a:lnTo>
                <a:lnTo>
                  <a:pt x="1031" y="192"/>
                </a:lnTo>
                <a:lnTo>
                  <a:pt x="1064" y="188"/>
                </a:lnTo>
                <a:lnTo>
                  <a:pt x="1098" y="184"/>
                </a:lnTo>
                <a:lnTo>
                  <a:pt x="1131" y="178"/>
                </a:lnTo>
                <a:lnTo>
                  <a:pt x="1167" y="174"/>
                </a:lnTo>
                <a:lnTo>
                  <a:pt x="1202" y="171"/>
                </a:lnTo>
                <a:lnTo>
                  <a:pt x="1240" y="165"/>
                </a:lnTo>
                <a:lnTo>
                  <a:pt x="1277" y="159"/>
                </a:lnTo>
                <a:lnTo>
                  <a:pt x="1315" y="155"/>
                </a:lnTo>
                <a:lnTo>
                  <a:pt x="1355" y="149"/>
                </a:lnTo>
                <a:lnTo>
                  <a:pt x="1394" y="144"/>
                </a:lnTo>
                <a:lnTo>
                  <a:pt x="1436" y="138"/>
                </a:lnTo>
                <a:lnTo>
                  <a:pt x="1476" y="132"/>
                </a:lnTo>
                <a:lnTo>
                  <a:pt x="1519" y="126"/>
                </a:lnTo>
                <a:lnTo>
                  <a:pt x="1563" y="121"/>
                </a:lnTo>
                <a:lnTo>
                  <a:pt x="1607" y="115"/>
                </a:lnTo>
                <a:lnTo>
                  <a:pt x="1651" y="109"/>
                </a:lnTo>
                <a:lnTo>
                  <a:pt x="1697" y="103"/>
                </a:lnTo>
                <a:lnTo>
                  <a:pt x="1741" y="98"/>
                </a:lnTo>
                <a:lnTo>
                  <a:pt x="1787" y="92"/>
                </a:lnTo>
                <a:lnTo>
                  <a:pt x="1830" y="86"/>
                </a:lnTo>
                <a:lnTo>
                  <a:pt x="1872" y="80"/>
                </a:lnTo>
                <a:lnTo>
                  <a:pt x="1912" y="75"/>
                </a:lnTo>
                <a:lnTo>
                  <a:pt x="1953" y="69"/>
                </a:lnTo>
                <a:lnTo>
                  <a:pt x="1991" y="65"/>
                </a:lnTo>
                <a:lnTo>
                  <a:pt x="2027" y="59"/>
                </a:lnTo>
                <a:lnTo>
                  <a:pt x="2064" y="55"/>
                </a:lnTo>
                <a:lnTo>
                  <a:pt x="2100" y="50"/>
                </a:lnTo>
                <a:lnTo>
                  <a:pt x="2133" y="46"/>
                </a:lnTo>
                <a:lnTo>
                  <a:pt x="2166" y="42"/>
                </a:lnTo>
                <a:lnTo>
                  <a:pt x="2198" y="38"/>
                </a:lnTo>
                <a:lnTo>
                  <a:pt x="2229" y="34"/>
                </a:lnTo>
                <a:lnTo>
                  <a:pt x="2258" y="30"/>
                </a:lnTo>
                <a:lnTo>
                  <a:pt x="2287" y="27"/>
                </a:lnTo>
                <a:lnTo>
                  <a:pt x="2313" y="25"/>
                </a:lnTo>
                <a:lnTo>
                  <a:pt x="2338" y="21"/>
                </a:lnTo>
                <a:lnTo>
                  <a:pt x="2363" y="19"/>
                </a:lnTo>
                <a:lnTo>
                  <a:pt x="2386" y="15"/>
                </a:lnTo>
                <a:lnTo>
                  <a:pt x="2409" y="13"/>
                </a:lnTo>
                <a:lnTo>
                  <a:pt x="2431" y="11"/>
                </a:lnTo>
                <a:lnTo>
                  <a:pt x="2452" y="9"/>
                </a:lnTo>
                <a:lnTo>
                  <a:pt x="2471" y="7"/>
                </a:lnTo>
                <a:lnTo>
                  <a:pt x="2488" y="6"/>
                </a:lnTo>
                <a:lnTo>
                  <a:pt x="2505" y="4"/>
                </a:lnTo>
                <a:lnTo>
                  <a:pt x="2521" y="4"/>
                </a:lnTo>
                <a:lnTo>
                  <a:pt x="2534" y="2"/>
                </a:lnTo>
                <a:lnTo>
                  <a:pt x="2548" y="2"/>
                </a:lnTo>
                <a:lnTo>
                  <a:pt x="2559" y="0"/>
                </a:lnTo>
                <a:lnTo>
                  <a:pt x="2571" y="0"/>
                </a:lnTo>
                <a:lnTo>
                  <a:pt x="2580" y="0"/>
                </a:lnTo>
                <a:lnTo>
                  <a:pt x="2617" y="2"/>
                </a:lnTo>
                <a:lnTo>
                  <a:pt x="2634" y="2"/>
                </a:lnTo>
                <a:lnTo>
                  <a:pt x="2651" y="4"/>
                </a:lnTo>
                <a:lnTo>
                  <a:pt x="2667" y="4"/>
                </a:lnTo>
                <a:lnTo>
                  <a:pt x="2684" y="6"/>
                </a:lnTo>
                <a:lnTo>
                  <a:pt x="2699" y="9"/>
                </a:lnTo>
                <a:lnTo>
                  <a:pt x="2715" y="11"/>
                </a:lnTo>
                <a:lnTo>
                  <a:pt x="2728" y="15"/>
                </a:lnTo>
                <a:lnTo>
                  <a:pt x="2742" y="19"/>
                </a:lnTo>
                <a:lnTo>
                  <a:pt x="2755" y="23"/>
                </a:lnTo>
                <a:lnTo>
                  <a:pt x="2767" y="27"/>
                </a:lnTo>
                <a:lnTo>
                  <a:pt x="2778" y="32"/>
                </a:lnTo>
                <a:lnTo>
                  <a:pt x="2788" y="38"/>
                </a:lnTo>
                <a:lnTo>
                  <a:pt x="2797" y="44"/>
                </a:lnTo>
                <a:lnTo>
                  <a:pt x="2805" y="52"/>
                </a:lnTo>
                <a:lnTo>
                  <a:pt x="2820" y="65"/>
                </a:lnTo>
                <a:lnTo>
                  <a:pt x="2834" y="78"/>
                </a:lnTo>
                <a:lnTo>
                  <a:pt x="2845" y="90"/>
                </a:lnTo>
                <a:lnTo>
                  <a:pt x="2851" y="96"/>
                </a:lnTo>
                <a:lnTo>
                  <a:pt x="2855" y="100"/>
                </a:lnTo>
                <a:lnTo>
                  <a:pt x="2861" y="105"/>
                </a:lnTo>
                <a:lnTo>
                  <a:pt x="2864" y="109"/>
                </a:lnTo>
                <a:lnTo>
                  <a:pt x="2866" y="113"/>
                </a:lnTo>
                <a:lnTo>
                  <a:pt x="2870" y="117"/>
                </a:lnTo>
                <a:lnTo>
                  <a:pt x="2872" y="121"/>
                </a:lnTo>
                <a:lnTo>
                  <a:pt x="2874" y="125"/>
                </a:lnTo>
                <a:lnTo>
                  <a:pt x="2874" y="126"/>
                </a:lnTo>
                <a:lnTo>
                  <a:pt x="2876" y="130"/>
                </a:lnTo>
                <a:lnTo>
                  <a:pt x="2874" y="132"/>
                </a:lnTo>
                <a:lnTo>
                  <a:pt x="2874" y="134"/>
                </a:lnTo>
                <a:lnTo>
                  <a:pt x="2872" y="136"/>
                </a:lnTo>
                <a:lnTo>
                  <a:pt x="2870" y="138"/>
                </a:lnTo>
                <a:lnTo>
                  <a:pt x="2868" y="140"/>
                </a:lnTo>
                <a:lnTo>
                  <a:pt x="2864" y="142"/>
                </a:lnTo>
                <a:lnTo>
                  <a:pt x="2861" y="144"/>
                </a:lnTo>
                <a:lnTo>
                  <a:pt x="2857" y="146"/>
                </a:lnTo>
                <a:lnTo>
                  <a:pt x="2853" y="148"/>
                </a:lnTo>
                <a:lnTo>
                  <a:pt x="2847" y="149"/>
                </a:lnTo>
                <a:lnTo>
                  <a:pt x="2841" y="151"/>
                </a:lnTo>
                <a:lnTo>
                  <a:pt x="2834" y="153"/>
                </a:lnTo>
                <a:lnTo>
                  <a:pt x="2828" y="153"/>
                </a:lnTo>
                <a:lnTo>
                  <a:pt x="2820" y="155"/>
                </a:lnTo>
                <a:lnTo>
                  <a:pt x="2813" y="157"/>
                </a:lnTo>
                <a:lnTo>
                  <a:pt x="2803" y="157"/>
                </a:lnTo>
                <a:lnTo>
                  <a:pt x="2793" y="159"/>
                </a:lnTo>
                <a:lnTo>
                  <a:pt x="2784" y="161"/>
                </a:lnTo>
                <a:lnTo>
                  <a:pt x="2774" y="161"/>
                </a:lnTo>
                <a:lnTo>
                  <a:pt x="2763" y="163"/>
                </a:lnTo>
                <a:lnTo>
                  <a:pt x="2751" y="163"/>
                </a:lnTo>
                <a:lnTo>
                  <a:pt x="2740" y="165"/>
                </a:lnTo>
                <a:lnTo>
                  <a:pt x="2728" y="165"/>
                </a:lnTo>
                <a:lnTo>
                  <a:pt x="2715" y="165"/>
                </a:lnTo>
                <a:lnTo>
                  <a:pt x="2701" y="167"/>
                </a:lnTo>
                <a:lnTo>
                  <a:pt x="2688" y="167"/>
                </a:lnTo>
                <a:lnTo>
                  <a:pt x="2674" y="167"/>
                </a:lnTo>
                <a:lnTo>
                  <a:pt x="2659" y="167"/>
                </a:lnTo>
                <a:lnTo>
                  <a:pt x="2644" y="167"/>
                </a:lnTo>
                <a:lnTo>
                  <a:pt x="2628" y="167"/>
                </a:lnTo>
                <a:lnTo>
                  <a:pt x="2611" y="169"/>
                </a:lnTo>
                <a:lnTo>
                  <a:pt x="2596" y="169"/>
                </a:lnTo>
                <a:lnTo>
                  <a:pt x="2561" y="169"/>
                </a:lnTo>
                <a:lnTo>
                  <a:pt x="2525" y="169"/>
                </a:lnTo>
                <a:lnTo>
                  <a:pt x="2490" y="169"/>
                </a:lnTo>
                <a:lnTo>
                  <a:pt x="2454" y="171"/>
                </a:lnTo>
                <a:lnTo>
                  <a:pt x="2415" y="171"/>
                </a:lnTo>
                <a:lnTo>
                  <a:pt x="2379" y="173"/>
                </a:lnTo>
                <a:lnTo>
                  <a:pt x="2340" y="174"/>
                </a:lnTo>
                <a:lnTo>
                  <a:pt x="2302" y="176"/>
                </a:lnTo>
                <a:lnTo>
                  <a:pt x="2264" y="180"/>
                </a:lnTo>
                <a:lnTo>
                  <a:pt x="2223" y="182"/>
                </a:lnTo>
                <a:lnTo>
                  <a:pt x="2143" y="190"/>
                </a:lnTo>
                <a:lnTo>
                  <a:pt x="2060" y="197"/>
                </a:lnTo>
                <a:lnTo>
                  <a:pt x="1978" y="207"/>
                </a:lnTo>
                <a:lnTo>
                  <a:pt x="1893" y="217"/>
                </a:lnTo>
                <a:lnTo>
                  <a:pt x="1807" y="226"/>
                </a:lnTo>
                <a:lnTo>
                  <a:pt x="1718" y="236"/>
                </a:lnTo>
                <a:lnTo>
                  <a:pt x="1674" y="240"/>
                </a:lnTo>
                <a:lnTo>
                  <a:pt x="1628" y="245"/>
                </a:lnTo>
                <a:lnTo>
                  <a:pt x="1582" y="249"/>
                </a:lnTo>
                <a:lnTo>
                  <a:pt x="1536" y="255"/>
                </a:lnTo>
                <a:lnTo>
                  <a:pt x="1490" y="259"/>
                </a:lnTo>
                <a:lnTo>
                  <a:pt x="1442" y="265"/>
                </a:lnTo>
                <a:lnTo>
                  <a:pt x="1396" y="268"/>
                </a:lnTo>
                <a:lnTo>
                  <a:pt x="1346" y="274"/>
                </a:lnTo>
                <a:lnTo>
                  <a:pt x="1298" y="278"/>
                </a:lnTo>
                <a:lnTo>
                  <a:pt x="1248" y="284"/>
                </a:lnTo>
                <a:lnTo>
                  <a:pt x="1198" y="290"/>
                </a:lnTo>
                <a:lnTo>
                  <a:pt x="1150" y="293"/>
                </a:lnTo>
                <a:lnTo>
                  <a:pt x="1100" y="299"/>
                </a:lnTo>
                <a:lnTo>
                  <a:pt x="1054" y="303"/>
                </a:lnTo>
                <a:lnTo>
                  <a:pt x="1006" y="309"/>
                </a:lnTo>
                <a:lnTo>
                  <a:pt x="960" y="315"/>
                </a:lnTo>
                <a:lnTo>
                  <a:pt x="916" y="318"/>
                </a:lnTo>
                <a:lnTo>
                  <a:pt x="870" y="324"/>
                </a:lnTo>
                <a:lnTo>
                  <a:pt x="828" y="330"/>
                </a:lnTo>
                <a:lnTo>
                  <a:pt x="783" y="336"/>
                </a:lnTo>
                <a:lnTo>
                  <a:pt x="743" y="341"/>
                </a:lnTo>
                <a:lnTo>
                  <a:pt x="701" y="347"/>
                </a:lnTo>
                <a:lnTo>
                  <a:pt x="661" y="353"/>
                </a:lnTo>
                <a:lnTo>
                  <a:pt x="622" y="361"/>
                </a:lnTo>
                <a:lnTo>
                  <a:pt x="584" y="366"/>
                </a:lnTo>
                <a:lnTo>
                  <a:pt x="547" y="3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161"/>
          <p:cNvSpPr/>
          <p:nvPr/>
        </p:nvSpPr>
        <p:spPr>
          <a:xfrm>
            <a:off x="6170760" y="2754360"/>
            <a:ext cx="903240" cy="342720"/>
          </a:xfrm>
          <a:custGeom>
            <a:avLst/>
            <a:gdLst/>
            <a:ahLst/>
            <a:rect l="l" t="t" r="r" b="b"/>
            <a:pathLst>
              <a:path w="1138" h="432">
                <a:moveTo>
                  <a:pt x="1138" y="167"/>
                </a:moveTo>
                <a:lnTo>
                  <a:pt x="1138" y="171"/>
                </a:lnTo>
                <a:lnTo>
                  <a:pt x="1136" y="174"/>
                </a:lnTo>
                <a:lnTo>
                  <a:pt x="1136" y="178"/>
                </a:lnTo>
                <a:lnTo>
                  <a:pt x="1134" y="182"/>
                </a:lnTo>
                <a:lnTo>
                  <a:pt x="1131" y="184"/>
                </a:lnTo>
                <a:lnTo>
                  <a:pt x="1129" y="188"/>
                </a:lnTo>
                <a:lnTo>
                  <a:pt x="1125" y="192"/>
                </a:lnTo>
                <a:lnTo>
                  <a:pt x="1119" y="196"/>
                </a:lnTo>
                <a:lnTo>
                  <a:pt x="1115" y="199"/>
                </a:lnTo>
                <a:lnTo>
                  <a:pt x="1109" y="203"/>
                </a:lnTo>
                <a:lnTo>
                  <a:pt x="1104" y="207"/>
                </a:lnTo>
                <a:lnTo>
                  <a:pt x="1096" y="211"/>
                </a:lnTo>
                <a:lnTo>
                  <a:pt x="1088" y="215"/>
                </a:lnTo>
                <a:lnTo>
                  <a:pt x="1081" y="219"/>
                </a:lnTo>
                <a:lnTo>
                  <a:pt x="1073" y="222"/>
                </a:lnTo>
                <a:lnTo>
                  <a:pt x="1063" y="226"/>
                </a:lnTo>
                <a:lnTo>
                  <a:pt x="1054" y="230"/>
                </a:lnTo>
                <a:lnTo>
                  <a:pt x="1042" y="234"/>
                </a:lnTo>
                <a:lnTo>
                  <a:pt x="1031" y="238"/>
                </a:lnTo>
                <a:lnTo>
                  <a:pt x="1019" y="242"/>
                </a:lnTo>
                <a:lnTo>
                  <a:pt x="1008" y="245"/>
                </a:lnTo>
                <a:lnTo>
                  <a:pt x="994" y="251"/>
                </a:lnTo>
                <a:lnTo>
                  <a:pt x="981" y="255"/>
                </a:lnTo>
                <a:lnTo>
                  <a:pt x="967" y="259"/>
                </a:lnTo>
                <a:lnTo>
                  <a:pt x="952" y="263"/>
                </a:lnTo>
                <a:lnTo>
                  <a:pt x="937" y="268"/>
                </a:lnTo>
                <a:lnTo>
                  <a:pt x="919" y="272"/>
                </a:lnTo>
                <a:lnTo>
                  <a:pt x="904" y="276"/>
                </a:lnTo>
                <a:lnTo>
                  <a:pt x="887" y="282"/>
                </a:lnTo>
                <a:lnTo>
                  <a:pt x="868" y="286"/>
                </a:lnTo>
                <a:lnTo>
                  <a:pt x="848" y="292"/>
                </a:lnTo>
                <a:lnTo>
                  <a:pt x="829" y="295"/>
                </a:lnTo>
                <a:lnTo>
                  <a:pt x="752" y="315"/>
                </a:lnTo>
                <a:lnTo>
                  <a:pt x="676" y="332"/>
                </a:lnTo>
                <a:lnTo>
                  <a:pt x="599" y="349"/>
                </a:lnTo>
                <a:lnTo>
                  <a:pt x="562" y="357"/>
                </a:lnTo>
                <a:lnTo>
                  <a:pt x="526" y="364"/>
                </a:lnTo>
                <a:lnTo>
                  <a:pt x="491" y="370"/>
                </a:lnTo>
                <a:lnTo>
                  <a:pt x="455" y="378"/>
                </a:lnTo>
                <a:lnTo>
                  <a:pt x="420" y="384"/>
                </a:lnTo>
                <a:lnTo>
                  <a:pt x="386" y="389"/>
                </a:lnTo>
                <a:lnTo>
                  <a:pt x="353" y="395"/>
                </a:lnTo>
                <a:lnTo>
                  <a:pt x="319" y="401"/>
                </a:lnTo>
                <a:lnTo>
                  <a:pt x="286" y="407"/>
                </a:lnTo>
                <a:lnTo>
                  <a:pt x="255" y="412"/>
                </a:lnTo>
                <a:lnTo>
                  <a:pt x="240" y="414"/>
                </a:lnTo>
                <a:lnTo>
                  <a:pt x="224" y="416"/>
                </a:lnTo>
                <a:lnTo>
                  <a:pt x="209" y="418"/>
                </a:lnTo>
                <a:lnTo>
                  <a:pt x="196" y="420"/>
                </a:lnTo>
                <a:lnTo>
                  <a:pt x="182" y="422"/>
                </a:lnTo>
                <a:lnTo>
                  <a:pt x="169" y="424"/>
                </a:lnTo>
                <a:lnTo>
                  <a:pt x="155" y="426"/>
                </a:lnTo>
                <a:lnTo>
                  <a:pt x="144" y="426"/>
                </a:lnTo>
                <a:lnTo>
                  <a:pt x="132" y="428"/>
                </a:lnTo>
                <a:lnTo>
                  <a:pt x="121" y="428"/>
                </a:lnTo>
                <a:lnTo>
                  <a:pt x="111" y="430"/>
                </a:lnTo>
                <a:lnTo>
                  <a:pt x="102" y="430"/>
                </a:lnTo>
                <a:lnTo>
                  <a:pt x="92" y="430"/>
                </a:lnTo>
                <a:lnTo>
                  <a:pt x="82" y="432"/>
                </a:lnTo>
                <a:lnTo>
                  <a:pt x="73" y="432"/>
                </a:lnTo>
                <a:lnTo>
                  <a:pt x="65" y="432"/>
                </a:lnTo>
                <a:lnTo>
                  <a:pt x="57" y="432"/>
                </a:lnTo>
                <a:lnTo>
                  <a:pt x="50" y="432"/>
                </a:lnTo>
                <a:lnTo>
                  <a:pt x="44" y="430"/>
                </a:lnTo>
                <a:lnTo>
                  <a:pt x="38" y="430"/>
                </a:lnTo>
                <a:lnTo>
                  <a:pt x="32" y="430"/>
                </a:lnTo>
                <a:lnTo>
                  <a:pt x="27" y="428"/>
                </a:lnTo>
                <a:lnTo>
                  <a:pt x="21" y="428"/>
                </a:lnTo>
                <a:lnTo>
                  <a:pt x="17" y="426"/>
                </a:lnTo>
                <a:lnTo>
                  <a:pt x="13" y="426"/>
                </a:lnTo>
                <a:lnTo>
                  <a:pt x="11" y="424"/>
                </a:lnTo>
                <a:lnTo>
                  <a:pt x="8" y="422"/>
                </a:lnTo>
                <a:lnTo>
                  <a:pt x="6" y="420"/>
                </a:lnTo>
                <a:lnTo>
                  <a:pt x="4" y="418"/>
                </a:lnTo>
                <a:lnTo>
                  <a:pt x="4" y="416"/>
                </a:lnTo>
                <a:lnTo>
                  <a:pt x="2" y="414"/>
                </a:lnTo>
                <a:lnTo>
                  <a:pt x="2" y="412"/>
                </a:lnTo>
                <a:lnTo>
                  <a:pt x="0" y="411"/>
                </a:lnTo>
                <a:lnTo>
                  <a:pt x="0" y="409"/>
                </a:lnTo>
                <a:lnTo>
                  <a:pt x="0" y="407"/>
                </a:lnTo>
                <a:lnTo>
                  <a:pt x="2" y="407"/>
                </a:lnTo>
                <a:lnTo>
                  <a:pt x="2" y="405"/>
                </a:lnTo>
                <a:lnTo>
                  <a:pt x="4" y="403"/>
                </a:lnTo>
                <a:lnTo>
                  <a:pt x="8" y="399"/>
                </a:lnTo>
                <a:lnTo>
                  <a:pt x="9" y="397"/>
                </a:lnTo>
                <a:lnTo>
                  <a:pt x="13" y="395"/>
                </a:lnTo>
                <a:lnTo>
                  <a:pt x="17" y="393"/>
                </a:lnTo>
                <a:lnTo>
                  <a:pt x="23" y="389"/>
                </a:lnTo>
                <a:lnTo>
                  <a:pt x="27" y="387"/>
                </a:lnTo>
                <a:lnTo>
                  <a:pt x="34" y="384"/>
                </a:lnTo>
                <a:lnTo>
                  <a:pt x="40" y="382"/>
                </a:lnTo>
                <a:lnTo>
                  <a:pt x="48" y="378"/>
                </a:lnTo>
                <a:lnTo>
                  <a:pt x="56" y="374"/>
                </a:lnTo>
                <a:lnTo>
                  <a:pt x="63" y="372"/>
                </a:lnTo>
                <a:lnTo>
                  <a:pt x="71" y="368"/>
                </a:lnTo>
                <a:lnTo>
                  <a:pt x="80" y="364"/>
                </a:lnTo>
                <a:lnTo>
                  <a:pt x="90" y="361"/>
                </a:lnTo>
                <a:lnTo>
                  <a:pt x="102" y="357"/>
                </a:lnTo>
                <a:lnTo>
                  <a:pt x="113" y="353"/>
                </a:lnTo>
                <a:lnTo>
                  <a:pt x="125" y="349"/>
                </a:lnTo>
                <a:lnTo>
                  <a:pt x="136" y="345"/>
                </a:lnTo>
                <a:lnTo>
                  <a:pt x="150" y="341"/>
                </a:lnTo>
                <a:lnTo>
                  <a:pt x="163" y="336"/>
                </a:lnTo>
                <a:lnTo>
                  <a:pt x="176" y="332"/>
                </a:lnTo>
                <a:lnTo>
                  <a:pt x="192" y="328"/>
                </a:lnTo>
                <a:lnTo>
                  <a:pt x="205" y="322"/>
                </a:lnTo>
                <a:lnTo>
                  <a:pt x="223" y="318"/>
                </a:lnTo>
                <a:lnTo>
                  <a:pt x="238" y="313"/>
                </a:lnTo>
                <a:lnTo>
                  <a:pt x="255" y="309"/>
                </a:lnTo>
                <a:lnTo>
                  <a:pt x="288" y="301"/>
                </a:lnTo>
                <a:lnTo>
                  <a:pt x="320" y="293"/>
                </a:lnTo>
                <a:lnTo>
                  <a:pt x="353" y="286"/>
                </a:lnTo>
                <a:lnTo>
                  <a:pt x="384" y="276"/>
                </a:lnTo>
                <a:lnTo>
                  <a:pt x="413" y="268"/>
                </a:lnTo>
                <a:lnTo>
                  <a:pt x="441" y="261"/>
                </a:lnTo>
                <a:lnTo>
                  <a:pt x="470" y="251"/>
                </a:lnTo>
                <a:lnTo>
                  <a:pt x="497" y="242"/>
                </a:lnTo>
                <a:lnTo>
                  <a:pt x="522" y="234"/>
                </a:lnTo>
                <a:lnTo>
                  <a:pt x="547" y="224"/>
                </a:lnTo>
                <a:lnTo>
                  <a:pt x="572" y="215"/>
                </a:lnTo>
                <a:lnTo>
                  <a:pt x="593" y="205"/>
                </a:lnTo>
                <a:lnTo>
                  <a:pt x="616" y="196"/>
                </a:lnTo>
                <a:lnTo>
                  <a:pt x="637" y="186"/>
                </a:lnTo>
                <a:lnTo>
                  <a:pt x="656" y="176"/>
                </a:lnTo>
                <a:lnTo>
                  <a:pt x="676" y="167"/>
                </a:lnTo>
                <a:lnTo>
                  <a:pt x="693" y="157"/>
                </a:lnTo>
                <a:lnTo>
                  <a:pt x="710" y="148"/>
                </a:lnTo>
                <a:lnTo>
                  <a:pt x="726" y="138"/>
                </a:lnTo>
                <a:lnTo>
                  <a:pt x="741" y="130"/>
                </a:lnTo>
                <a:lnTo>
                  <a:pt x="754" y="121"/>
                </a:lnTo>
                <a:lnTo>
                  <a:pt x="768" y="113"/>
                </a:lnTo>
                <a:lnTo>
                  <a:pt x="779" y="105"/>
                </a:lnTo>
                <a:lnTo>
                  <a:pt x="789" y="98"/>
                </a:lnTo>
                <a:lnTo>
                  <a:pt x="798" y="90"/>
                </a:lnTo>
                <a:lnTo>
                  <a:pt x="806" y="82"/>
                </a:lnTo>
                <a:lnTo>
                  <a:pt x="814" y="75"/>
                </a:lnTo>
                <a:lnTo>
                  <a:pt x="820" y="67"/>
                </a:lnTo>
                <a:lnTo>
                  <a:pt x="823" y="59"/>
                </a:lnTo>
                <a:lnTo>
                  <a:pt x="827" y="52"/>
                </a:lnTo>
                <a:lnTo>
                  <a:pt x="829" y="46"/>
                </a:lnTo>
                <a:lnTo>
                  <a:pt x="829" y="38"/>
                </a:lnTo>
                <a:lnTo>
                  <a:pt x="827" y="32"/>
                </a:lnTo>
                <a:lnTo>
                  <a:pt x="825" y="29"/>
                </a:lnTo>
                <a:lnTo>
                  <a:pt x="825" y="25"/>
                </a:lnTo>
                <a:lnTo>
                  <a:pt x="823" y="21"/>
                </a:lnTo>
                <a:lnTo>
                  <a:pt x="825" y="17"/>
                </a:lnTo>
                <a:lnTo>
                  <a:pt x="825" y="13"/>
                </a:lnTo>
                <a:lnTo>
                  <a:pt x="825" y="11"/>
                </a:lnTo>
                <a:lnTo>
                  <a:pt x="827" y="9"/>
                </a:lnTo>
                <a:lnTo>
                  <a:pt x="831" y="6"/>
                </a:lnTo>
                <a:lnTo>
                  <a:pt x="833" y="4"/>
                </a:lnTo>
                <a:lnTo>
                  <a:pt x="839" y="2"/>
                </a:lnTo>
                <a:lnTo>
                  <a:pt x="848" y="0"/>
                </a:lnTo>
                <a:lnTo>
                  <a:pt x="858" y="0"/>
                </a:lnTo>
                <a:lnTo>
                  <a:pt x="864" y="0"/>
                </a:lnTo>
                <a:lnTo>
                  <a:pt x="869" y="0"/>
                </a:lnTo>
                <a:lnTo>
                  <a:pt x="877" y="0"/>
                </a:lnTo>
                <a:lnTo>
                  <a:pt x="885" y="2"/>
                </a:lnTo>
                <a:lnTo>
                  <a:pt x="893" y="4"/>
                </a:lnTo>
                <a:lnTo>
                  <a:pt x="900" y="6"/>
                </a:lnTo>
                <a:lnTo>
                  <a:pt x="910" y="7"/>
                </a:lnTo>
                <a:lnTo>
                  <a:pt x="921" y="9"/>
                </a:lnTo>
                <a:lnTo>
                  <a:pt x="931" y="13"/>
                </a:lnTo>
                <a:lnTo>
                  <a:pt x="942" y="17"/>
                </a:lnTo>
                <a:lnTo>
                  <a:pt x="956" y="21"/>
                </a:lnTo>
                <a:lnTo>
                  <a:pt x="967" y="27"/>
                </a:lnTo>
                <a:lnTo>
                  <a:pt x="981" y="30"/>
                </a:lnTo>
                <a:lnTo>
                  <a:pt x="996" y="36"/>
                </a:lnTo>
                <a:lnTo>
                  <a:pt x="1010" y="44"/>
                </a:lnTo>
                <a:lnTo>
                  <a:pt x="1027" y="52"/>
                </a:lnTo>
                <a:lnTo>
                  <a:pt x="1038" y="57"/>
                </a:lnTo>
                <a:lnTo>
                  <a:pt x="1050" y="65"/>
                </a:lnTo>
                <a:lnTo>
                  <a:pt x="1061" y="73"/>
                </a:lnTo>
                <a:lnTo>
                  <a:pt x="1073" y="80"/>
                </a:lnTo>
                <a:lnTo>
                  <a:pt x="1083" y="88"/>
                </a:lnTo>
                <a:lnTo>
                  <a:pt x="1092" y="94"/>
                </a:lnTo>
                <a:lnTo>
                  <a:pt x="1100" y="101"/>
                </a:lnTo>
                <a:lnTo>
                  <a:pt x="1108" y="109"/>
                </a:lnTo>
                <a:lnTo>
                  <a:pt x="1115" y="117"/>
                </a:lnTo>
                <a:lnTo>
                  <a:pt x="1121" y="123"/>
                </a:lnTo>
                <a:lnTo>
                  <a:pt x="1127" y="130"/>
                </a:lnTo>
                <a:lnTo>
                  <a:pt x="1131" y="138"/>
                </a:lnTo>
                <a:lnTo>
                  <a:pt x="1134" y="146"/>
                </a:lnTo>
                <a:lnTo>
                  <a:pt x="1136" y="151"/>
                </a:lnTo>
                <a:lnTo>
                  <a:pt x="1138" y="159"/>
                </a:lnTo>
                <a:lnTo>
                  <a:pt x="1138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7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撇舒展，竖钩挺而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3"/>
          <p:cNvSpPr/>
          <p:nvPr/>
        </p:nvSpPr>
        <p:spPr>
          <a:xfrm>
            <a:off x="217188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69"/>
          <p:cNvSpPr/>
          <p:nvPr/>
        </p:nvSpPr>
        <p:spPr>
          <a:xfrm>
            <a:off x="7149960" y="3710160"/>
            <a:ext cx="588960" cy="603000"/>
          </a:xfrm>
          <a:custGeom>
            <a:avLst/>
            <a:gdLst/>
            <a:ahLst/>
            <a:rect l="l" t="t" r="r" b="b"/>
            <a:pathLst>
              <a:path w="743" h="760">
                <a:moveTo>
                  <a:pt x="206" y="85"/>
                </a:moveTo>
                <a:lnTo>
                  <a:pt x="244" y="106"/>
                </a:lnTo>
                <a:lnTo>
                  <a:pt x="284" y="125"/>
                </a:lnTo>
                <a:lnTo>
                  <a:pt x="325" y="146"/>
                </a:lnTo>
                <a:lnTo>
                  <a:pt x="363" y="167"/>
                </a:lnTo>
                <a:lnTo>
                  <a:pt x="399" y="188"/>
                </a:lnTo>
                <a:lnTo>
                  <a:pt x="417" y="200"/>
                </a:lnTo>
                <a:lnTo>
                  <a:pt x="434" y="209"/>
                </a:lnTo>
                <a:lnTo>
                  <a:pt x="451" y="221"/>
                </a:lnTo>
                <a:lnTo>
                  <a:pt x="467" y="230"/>
                </a:lnTo>
                <a:lnTo>
                  <a:pt x="482" y="242"/>
                </a:lnTo>
                <a:lnTo>
                  <a:pt x="497" y="252"/>
                </a:lnTo>
                <a:lnTo>
                  <a:pt x="524" y="278"/>
                </a:lnTo>
                <a:lnTo>
                  <a:pt x="551" y="301"/>
                </a:lnTo>
                <a:lnTo>
                  <a:pt x="576" y="326"/>
                </a:lnTo>
                <a:lnTo>
                  <a:pt x="601" y="349"/>
                </a:lnTo>
                <a:lnTo>
                  <a:pt x="622" y="374"/>
                </a:lnTo>
                <a:lnTo>
                  <a:pt x="643" y="397"/>
                </a:lnTo>
                <a:lnTo>
                  <a:pt x="662" y="422"/>
                </a:lnTo>
                <a:lnTo>
                  <a:pt x="682" y="447"/>
                </a:lnTo>
                <a:lnTo>
                  <a:pt x="689" y="461"/>
                </a:lnTo>
                <a:lnTo>
                  <a:pt x="697" y="474"/>
                </a:lnTo>
                <a:lnTo>
                  <a:pt x="705" y="486"/>
                </a:lnTo>
                <a:lnTo>
                  <a:pt x="710" y="499"/>
                </a:lnTo>
                <a:lnTo>
                  <a:pt x="716" y="511"/>
                </a:lnTo>
                <a:lnTo>
                  <a:pt x="720" y="522"/>
                </a:lnTo>
                <a:lnTo>
                  <a:pt x="726" y="534"/>
                </a:lnTo>
                <a:lnTo>
                  <a:pt x="730" y="545"/>
                </a:lnTo>
                <a:lnTo>
                  <a:pt x="731" y="555"/>
                </a:lnTo>
                <a:lnTo>
                  <a:pt x="735" y="566"/>
                </a:lnTo>
                <a:lnTo>
                  <a:pt x="737" y="578"/>
                </a:lnTo>
                <a:lnTo>
                  <a:pt x="739" y="587"/>
                </a:lnTo>
                <a:lnTo>
                  <a:pt x="741" y="609"/>
                </a:lnTo>
                <a:lnTo>
                  <a:pt x="743" y="630"/>
                </a:lnTo>
                <a:lnTo>
                  <a:pt x="743" y="643"/>
                </a:lnTo>
                <a:lnTo>
                  <a:pt x="741" y="655"/>
                </a:lnTo>
                <a:lnTo>
                  <a:pt x="741" y="666"/>
                </a:lnTo>
                <a:lnTo>
                  <a:pt x="739" y="678"/>
                </a:lnTo>
                <a:lnTo>
                  <a:pt x="737" y="687"/>
                </a:lnTo>
                <a:lnTo>
                  <a:pt x="735" y="697"/>
                </a:lnTo>
                <a:lnTo>
                  <a:pt x="733" y="706"/>
                </a:lnTo>
                <a:lnTo>
                  <a:pt x="730" y="714"/>
                </a:lnTo>
                <a:lnTo>
                  <a:pt x="726" y="722"/>
                </a:lnTo>
                <a:lnTo>
                  <a:pt x="720" y="729"/>
                </a:lnTo>
                <a:lnTo>
                  <a:pt x="716" y="735"/>
                </a:lnTo>
                <a:lnTo>
                  <a:pt x="710" y="741"/>
                </a:lnTo>
                <a:lnTo>
                  <a:pt x="705" y="745"/>
                </a:lnTo>
                <a:lnTo>
                  <a:pt x="697" y="751"/>
                </a:lnTo>
                <a:lnTo>
                  <a:pt x="689" y="753"/>
                </a:lnTo>
                <a:lnTo>
                  <a:pt x="682" y="756"/>
                </a:lnTo>
                <a:lnTo>
                  <a:pt x="676" y="758"/>
                </a:lnTo>
                <a:lnTo>
                  <a:pt x="672" y="760"/>
                </a:lnTo>
                <a:lnTo>
                  <a:pt x="666" y="760"/>
                </a:lnTo>
                <a:lnTo>
                  <a:pt x="660" y="760"/>
                </a:lnTo>
                <a:lnTo>
                  <a:pt x="655" y="760"/>
                </a:lnTo>
                <a:lnTo>
                  <a:pt x="647" y="758"/>
                </a:lnTo>
                <a:lnTo>
                  <a:pt x="639" y="754"/>
                </a:lnTo>
                <a:lnTo>
                  <a:pt x="632" y="751"/>
                </a:lnTo>
                <a:lnTo>
                  <a:pt x="624" y="747"/>
                </a:lnTo>
                <a:lnTo>
                  <a:pt x="614" y="741"/>
                </a:lnTo>
                <a:lnTo>
                  <a:pt x="605" y="735"/>
                </a:lnTo>
                <a:lnTo>
                  <a:pt x="595" y="729"/>
                </a:lnTo>
                <a:lnTo>
                  <a:pt x="586" y="722"/>
                </a:lnTo>
                <a:lnTo>
                  <a:pt x="574" y="712"/>
                </a:lnTo>
                <a:lnTo>
                  <a:pt x="563" y="703"/>
                </a:lnTo>
                <a:lnTo>
                  <a:pt x="551" y="693"/>
                </a:lnTo>
                <a:lnTo>
                  <a:pt x="540" y="681"/>
                </a:lnTo>
                <a:lnTo>
                  <a:pt x="526" y="670"/>
                </a:lnTo>
                <a:lnTo>
                  <a:pt x="513" y="657"/>
                </a:lnTo>
                <a:lnTo>
                  <a:pt x="499" y="643"/>
                </a:lnTo>
                <a:lnTo>
                  <a:pt x="486" y="628"/>
                </a:lnTo>
                <a:lnTo>
                  <a:pt x="470" y="612"/>
                </a:lnTo>
                <a:lnTo>
                  <a:pt x="455" y="595"/>
                </a:lnTo>
                <a:lnTo>
                  <a:pt x="440" y="578"/>
                </a:lnTo>
                <a:lnTo>
                  <a:pt x="424" y="561"/>
                </a:lnTo>
                <a:lnTo>
                  <a:pt x="407" y="541"/>
                </a:lnTo>
                <a:lnTo>
                  <a:pt x="390" y="520"/>
                </a:lnTo>
                <a:lnTo>
                  <a:pt x="373" y="499"/>
                </a:lnTo>
                <a:lnTo>
                  <a:pt x="353" y="478"/>
                </a:lnTo>
                <a:lnTo>
                  <a:pt x="336" y="455"/>
                </a:lnTo>
                <a:lnTo>
                  <a:pt x="317" y="430"/>
                </a:lnTo>
                <a:lnTo>
                  <a:pt x="298" y="407"/>
                </a:lnTo>
                <a:lnTo>
                  <a:pt x="277" y="382"/>
                </a:lnTo>
                <a:lnTo>
                  <a:pt x="255" y="357"/>
                </a:lnTo>
                <a:lnTo>
                  <a:pt x="236" y="334"/>
                </a:lnTo>
                <a:lnTo>
                  <a:pt x="217" y="313"/>
                </a:lnTo>
                <a:lnTo>
                  <a:pt x="200" y="290"/>
                </a:lnTo>
                <a:lnTo>
                  <a:pt x="183" y="271"/>
                </a:lnTo>
                <a:lnTo>
                  <a:pt x="167" y="250"/>
                </a:lnTo>
                <a:lnTo>
                  <a:pt x="152" y="230"/>
                </a:lnTo>
                <a:lnTo>
                  <a:pt x="136" y="213"/>
                </a:lnTo>
                <a:lnTo>
                  <a:pt x="123" y="196"/>
                </a:lnTo>
                <a:lnTo>
                  <a:pt x="110" y="179"/>
                </a:lnTo>
                <a:lnTo>
                  <a:pt x="96" y="163"/>
                </a:lnTo>
                <a:lnTo>
                  <a:pt x="85" y="148"/>
                </a:lnTo>
                <a:lnTo>
                  <a:pt x="73" y="134"/>
                </a:lnTo>
                <a:lnTo>
                  <a:pt x="64" y="121"/>
                </a:lnTo>
                <a:lnTo>
                  <a:pt x="54" y="108"/>
                </a:lnTo>
                <a:lnTo>
                  <a:pt x="46" y="96"/>
                </a:lnTo>
                <a:lnTo>
                  <a:pt x="37" y="85"/>
                </a:lnTo>
                <a:lnTo>
                  <a:pt x="31" y="73"/>
                </a:lnTo>
                <a:lnTo>
                  <a:pt x="23" y="63"/>
                </a:lnTo>
                <a:lnTo>
                  <a:pt x="17" y="54"/>
                </a:lnTo>
                <a:lnTo>
                  <a:pt x="14" y="46"/>
                </a:lnTo>
                <a:lnTo>
                  <a:pt x="10" y="38"/>
                </a:lnTo>
                <a:lnTo>
                  <a:pt x="6" y="31"/>
                </a:lnTo>
                <a:lnTo>
                  <a:pt x="2" y="25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0" y="4"/>
                </a:lnTo>
                <a:lnTo>
                  <a:pt x="2" y="0"/>
                </a:lnTo>
                <a:lnTo>
                  <a:pt x="6" y="0"/>
                </a:lnTo>
                <a:lnTo>
                  <a:pt x="8" y="0"/>
                </a:lnTo>
                <a:lnTo>
                  <a:pt x="14" y="0"/>
                </a:lnTo>
                <a:lnTo>
                  <a:pt x="19" y="2"/>
                </a:lnTo>
                <a:lnTo>
                  <a:pt x="27" y="4"/>
                </a:lnTo>
                <a:lnTo>
                  <a:pt x="37" y="8"/>
                </a:lnTo>
                <a:lnTo>
                  <a:pt x="46" y="12"/>
                </a:lnTo>
                <a:lnTo>
                  <a:pt x="58" y="15"/>
                </a:lnTo>
                <a:lnTo>
                  <a:pt x="71" y="19"/>
                </a:lnTo>
                <a:lnTo>
                  <a:pt x="85" y="25"/>
                </a:lnTo>
                <a:lnTo>
                  <a:pt x="98" y="33"/>
                </a:lnTo>
                <a:lnTo>
                  <a:pt x="113" y="38"/>
                </a:lnTo>
                <a:lnTo>
                  <a:pt x="131" y="46"/>
                </a:lnTo>
                <a:lnTo>
                  <a:pt x="148" y="54"/>
                </a:lnTo>
                <a:lnTo>
                  <a:pt x="165" y="63"/>
                </a:lnTo>
                <a:lnTo>
                  <a:pt x="184" y="73"/>
                </a:lnTo>
                <a:lnTo>
                  <a:pt x="206" y="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0"/>
          <p:cNvSpPr/>
          <p:nvPr/>
        </p:nvSpPr>
        <p:spPr>
          <a:xfrm>
            <a:off x="6494400" y="3252960"/>
            <a:ext cx="465120" cy="1725480"/>
          </a:xfrm>
          <a:custGeom>
            <a:avLst/>
            <a:gdLst/>
            <a:ahLst/>
            <a:rect l="l" t="t" r="r" b="b"/>
            <a:pathLst>
              <a:path w="585" h="2175">
                <a:moveTo>
                  <a:pt x="276" y="2075"/>
                </a:moveTo>
                <a:lnTo>
                  <a:pt x="278" y="2062"/>
                </a:lnTo>
                <a:lnTo>
                  <a:pt x="280" y="2048"/>
                </a:lnTo>
                <a:lnTo>
                  <a:pt x="278" y="2035"/>
                </a:lnTo>
                <a:lnTo>
                  <a:pt x="276" y="2021"/>
                </a:lnTo>
                <a:lnTo>
                  <a:pt x="272" y="2006"/>
                </a:lnTo>
                <a:lnTo>
                  <a:pt x="269" y="1993"/>
                </a:lnTo>
                <a:lnTo>
                  <a:pt x="263" y="1979"/>
                </a:lnTo>
                <a:lnTo>
                  <a:pt x="255" y="1964"/>
                </a:lnTo>
                <a:lnTo>
                  <a:pt x="247" y="1950"/>
                </a:lnTo>
                <a:lnTo>
                  <a:pt x="236" y="1935"/>
                </a:lnTo>
                <a:lnTo>
                  <a:pt x="226" y="1922"/>
                </a:lnTo>
                <a:lnTo>
                  <a:pt x="213" y="1906"/>
                </a:lnTo>
                <a:lnTo>
                  <a:pt x="199" y="1893"/>
                </a:lnTo>
                <a:lnTo>
                  <a:pt x="186" y="1879"/>
                </a:lnTo>
                <a:lnTo>
                  <a:pt x="171" y="1866"/>
                </a:lnTo>
                <a:lnTo>
                  <a:pt x="153" y="1853"/>
                </a:lnTo>
                <a:lnTo>
                  <a:pt x="134" y="1839"/>
                </a:lnTo>
                <a:lnTo>
                  <a:pt x="117" y="1826"/>
                </a:lnTo>
                <a:lnTo>
                  <a:pt x="100" y="1814"/>
                </a:lnTo>
                <a:lnTo>
                  <a:pt x="84" y="1805"/>
                </a:lnTo>
                <a:lnTo>
                  <a:pt x="71" y="1793"/>
                </a:lnTo>
                <a:lnTo>
                  <a:pt x="57" y="1783"/>
                </a:lnTo>
                <a:lnTo>
                  <a:pt x="46" y="1776"/>
                </a:lnTo>
                <a:lnTo>
                  <a:pt x="36" y="1766"/>
                </a:lnTo>
                <a:lnTo>
                  <a:pt x="29" y="1760"/>
                </a:lnTo>
                <a:lnTo>
                  <a:pt x="21" y="1753"/>
                </a:lnTo>
                <a:lnTo>
                  <a:pt x="13" y="1747"/>
                </a:lnTo>
                <a:lnTo>
                  <a:pt x="9" y="1741"/>
                </a:lnTo>
                <a:lnTo>
                  <a:pt x="6" y="1735"/>
                </a:lnTo>
                <a:lnTo>
                  <a:pt x="2" y="1732"/>
                </a:lnTo>
                <a:lnTo>
                  <a:pt x="0" y="1728"/>
                </a:lnTo>
                <a:lnTo>
                  <a:pt x="0" y="1726"/>
                </a:lnTo>
                <a:lnTo>
                  <a:pt x="0" y="1722"/>
                </a:lnTo>
                <a:lnTo>
                  <a:pt x="4" y="1720"/>
                </a:lnTo>
                <a:lnTo>
                  <a:pt x="6" y="1718"/>
                </a:lnTo>
                <a:lnTo>
                  <a:pt x="11" y="1718"/>
                </a:lnTo>
                <a:lnTo>
                  <a:pt x="17" y="1716"/>
                </a:lnTo>
                <a:lnTo>
                  <a:pt x="25" y="1716"/>
                </a:lnTo>
                <a:lnTo>
                  <a:pt x="34" y="1714"/>
                </a:lnTo>
                <a:lnTo>
                  <a:pt x="44" y="1714"/>
                </a:lnTo>
                <a:lnTo>
                  <a:pt x="56" y="1714"/>
                </a:lnTo>
                <a:lnTo>
                  <a:pt x="69" y="1716"/>
                </a:lnTo>
                <a:lnTo>
                  <a:pt x="82" y="1716"/>
                </a:lnTo>
                <a:lnTo>
                  <a:pt x="98" y="1718"/>
                </a:lnTo>
                <a:lnTo>
                  <a:pt x="113" y="1718"/>
                </a:lnTo>
                <a:lnTo>
                  <a:pt x="130" y="1720"/>
                </a:lnTo>
                <a:lnTo>
                  <a:pt x="150" y="1722"/>
                </a:lnTo>
                <a:lnTo>
                  <a:pt x="169" y="1726"/>
                </a:lnTo>
                <a:lnTo>
                  <a:pt x="190" y="1728"/>
                </a:lnTo>
                <a:lnTo>
                  <a:pt x="207" y="1732"/>
                </a:lnTo>
                <a:lnTo>
                  <a:pt x="226" y="1734"/>
                </a:lnTo>
                <a:lnTo>
                  <a:pt x="244" y="1735"/>
                </a:lnTo>
                <a:lnTo>
                  <a:pt x="261" y="1737"/>
                </a:lnTo>
                <a:lnTo>
                  <a:pt x="276" y="1739"/>
                </a:lnTo>
                <a:lnTo>
                  <a:pt x="290" y="1741"/>
                </a:lnTo>
                <a:lnTo>
                  <a:pt x="303" y="1743"/>
                </a:lnTo>
                <a:lnTo>
                  <a:pt x="317" y="1745"/>
                </a:lnTo>
                <a:lnTo>
                  <a:pt x="328" y="1745"/>
                </a:lnTo>
                <a:lnTo>
                  <a:pt x="338" y="1745"/>
                </a:lnTo>
                <a:lnTo>
                  <a:pt x="347" y="1745"/>
                </a:lnTo>
                <a:lnTo>
                  <a:pt x="355" y="1745"/>
                </a:lnTo>
                <a:lnTo>
                  <a:pt x="361" y="1743"/>
                </a:lnTo>
                <a:lnTo>
                  <a:pt x="365" y="1741"/>
                </a:lnTo>
                <a:lnTo>
                  <a:pt x="368" y="1739"/>
                </a:lnTo>
                <a:lnTo>
                  <a:pt x="370" y="1737"/>
                </a:lnTo>
                <a:lnTo>
                  <a:pt x="372" y="1734"/>
                </a:lnTo>
                <a:lnTo>
                  <a:pt x="372" y="1730"/>
                </a:lnTo>
                <a:lnTo>
                  <a:pt x="374" y="1724"/>
                </a:lnTo>
                <a:lnTo>
                  <a:pt x="374" y="1718"/>
                </a:lnTo>
                <a:lnTo>
                  <a:pt x="376" y="1710"/>
                </a:lnTo>
                <a:lnTo>
                  <a:pt x="376" y="1701"/>
                </a:lnTo>
                <a:lnTo>
                  <a:pt x="378" y="1691"/>
                </a:lnTo>
                <a:lnTo>
                  <a:pt x="378" y="1680"/>
                </a:lnTo>
                <a:lnTo>
                  <a:pt x="380" y="1668"/>
                </a:lnTo>
                <a:lnTo>
                  <a:pt x="380" y="1655"/>
                </a:lnTo>
                <a:lnTo>
                  <a:pt x="380" y="1641"/>
                </a:lnTo>
                <a:lnTo>
                  <a:pt x="382" y="1624"/>
                </a:lnTo>
                <a:lnTo>
                  <a:pt x="382" y="1609"/>
                </a:lnTo>
                <a:lnTo>
                  <a:pt x="382" y="1590"/>
                </a:lnTo>
                <a:lnTo>
                  <a:pt x="382" y="1570"/>
                </a:lnTo>
                <a:lnTo>
                  <a:pt x="382" y="1551"/>
                </a:lnTo>
                <a:lnTo>
                  <a:pt x="384" y="1528"/>
                </a:lnTo>
                <a:lnTo>
                  <a:pt x="384" y="1507"/>
                </a:lnTo>
                <a:lnTo>
                  <a:pt x="384" y="1482"/>
                </a:lnTo>
                <a:lnTo>
                  <a:pt x="384" y="1457"/>
                </a:lnTo>
                <a:lnTo>
                  <a:pt x="384" y="1432"/>
                </a:lnTo>
                <a:lnTo>
                  <a:pt x="384" y="1405"/>
                </a:lnTo>
                <a:lnTo>
                  <a:pt x="384" y="1376"/>
                </a:lnTo>
                <a:lnTo>
                  <a:pt x="384" y="1348"/>
                </a:lnTo>
                <a:lnTo>
                  <a:pt x="384" y="1317"/>
                </a:lnTo>
                <a:lnTo>
                  <a:pt x="384" y="1284"/>
                </a:lnTo>
                <a:lnTo>
                  <a:pt x="384" y="1252"/>
                </a:lnTo>
                <a:lnTo>
                  <a:pt x="384" y="1217"/>
                </a:lnTo>
                <a:lnTo>
                  <a:pt x="384" y="1183"/>
                </a:lnTo>
                <a:lnTo>
                  <a:pt x="384" y="1146"/>
                </a:lnTo>
                <a:lnTo>
                  <a:pt x="384" y="1108"/>
                </a:lnTo>
                <a:lnTo>
                  <a:pt x="384" y="1071"/>
                </a:lnTo>
                <a:lnTo>
                  <a:pt x="384" y="1033"/>
                </a:lnTo>
                <a:lnTo>
                  <a:pt x="384" y="996"/>
                </a:lnTo>
                <a:lnTo>
                  <a:pt x="384" y="962"/>
                </a:lnTo>
                <a:lnTo>
                  <a:pt x="384" y="927"/>
                </a:lnTo>
                <a:lnTo>
                  <a:pt x="382" y="893"/>
                </a:lnTo>
                <a:lnTo>
                  <a:pt x="382" y="860"/>
                </a:lnTo>
                <a:lnTo>
                  <a:pt x="382" y="828"/>
                </a:lnTo>
                <a:lnTo>
                  <a:pt x="382" y="795"/>
                </a:lnTo>
                <a:lnTo>
                  <a:pt x="380" y="764"/>
                </a:lnTo>
                <a:lnTo>
                  <a:pt x="380" y="735"/>
                </a:lnTo>
                <a:lnTo>
                  <a:pt x="378" y="705"/>
                </a:lnTo>
                <a:lnTo>
                  <a:pt x="378" y="678"/>
                </a:lnTo>
                <a:lnTo>
                  <a:pt x="376" y="649"/>
                </a:lnTo>
                <a:lnTo>
                  <a:pt x="376" y="622"/>
                </a:lnTo>
                <a:lnTo>
                  <a:pt x="374" y="597"/>
                </a:lnTo>
                <a:lnTo>
                  <a:pt x="374" y="570"/>
                </a:lnTo>
                <a:lnTo>
                  <a:pt x="372" y="547"/>
                </a:lnTo>
                <a:lnTo>
                  <a:pt x="370" y="522"/>
                </a:lnTo>
                <a:lnTo>
                  <a:pt x="370" y="501"/>
                </a:lnTo>
                <a:lnTo>
                  <a:pt x="368" y="478"/>
                </a:lnTo>
                <a:lnTo>
                  <a:pt x="368" y="457"/>
                </a:lnTo>
                <a:lnTo>
                  <a:pt x="366" y="438"/>
                </a:lnTo>
                <a:lnTo>
                  <a:pt x="365" y="419"/>
                </a:lnTo>
                <a:lnTo>
                  <a:pt x="363" y="400"/>
                </a:lnTo>
                <a:lnTo>
                  <a:pt x="363" y="382"/>
                </a:lnTo>
                <a:lnTo>
                  <a:pt x="361" y="365"/>
                </a:lnTo>
                <a:lnTo>
                  <a:pt x="359" y="350"/>
                </a:lnTo>
                <a:lnTo>
                  <a:pt x="359" y="334"/>
                </a:lnTo>
                <a:lnTo>
                  <a:pt x="357" y="321"/>
                </a:lnTo>
                <a:lnTo>
                  <a:pt x="355" y="307"/>
                </a:lnTo>
                <a:lnTo>
                  <a:pt x="353" y="296"/>
                </a:lnTo>
                <a:lnTo>
                  <a:pt x="347" y="271"/>
                </a:lnTo>
                <a:lnTo>
                  <a:pt x="343" y="248"/>
                </a:lnTo>
                <a:lnTo>
                  <a:pt x="338" y="227"/>
                </a:lnTo>
                <a:lnTo>
                  <a:pt x="334" y="206"/>
                </a:lnTo>
                <a:lnTo>
                  <a:pt x="330" y="185"/>
                </a:lnTo>
                <a:lnTo>
                  <a:pt x="326" y="165"/>
                </a:lnTo>
                <a:lnTo>
                  <a:pt x="322" y="144"/>
                </a:lnTo>
                <a:lnTo>
                  <a:pt x="318" y="127"/>
                </a:lnTo>
                <a:lnTo>
                  <a:pt x="317" y="108"/>
                </a:lnTo>
                <a:lnTo>
                  <a:pt x="315" y="90"/>
                </a:lnTo>
                <a:lnTo>
                  <a:pt x="313" y="75"/>
                </a:lnTo>
                <a:lnTo>
                  <a:pt x="311" y="58"/>
                </a:lnTo>
                <a:lnTo>
                  <a:pt x="309" y="42"/>
                </a:lnTo>
                <a:lnTo>
                  <a:pt x="309" y="27"/>
                </a:lnTo>
                <a:lnTo>
                  <a:pt x="307" y="14"/>
                </a:lnTo>
                <a:lnTo>
                  <a:pt x="307" y="0"/>
                </a:lnTo>
                <a:lnTo>
                  <a:pt x="322" y="6"/>
                </a:lnTo>
                <a:lnTo>
                  <a:pt x="338" y="14"/>
                </a:lnTo>
                <a:lnTo>
                  <a:pt x="353" y="19"/>
                </a:lnTo>
                <a:lnTo>
                  <a:pt x="366" y="27"/>
                </a:lnTo>
                <a:lnTo>
                  <a:pt x="380" y="33"/>
                </a:lnTo>
                <a:lnTo>
                  <a:pt x="393" y="39"/>
                </a:lnTo>
                <a:lnTo>
                  <a:pt x="405" y="44"/>
                </a:lnTo>
                <a:lnTo>
                  <a:pt x="416" y="50"/>
                </a:lnTo>
                <a:lnTo>
                  <a:pt x="428" y="56"/>
                </a:lnTo>
                <a:lnTo>
                  <a:pt x="439" y="62"/>
                </a:lnTo>
                <a:lnTo>
                  <a:pt x="449" y="67"/>
                </a:lnTo>
                <a:lnTo>
                  <a:pt x="459" y="73"/>
                </a:lnTo>
                <a:lnTo>
                  <a:pt x="468" y="79"/>
                </a:lnTo>
                <a:lnTo>
                  <a:pt x="478" y="85"/>
                </a:lnTo>
                <a:lnTo>
                  <a:pt x="485" y="90"/>
                </a:lnTo>
                <a:lnTo>
                  <a:pt x="493" y="96"/>
                </a:lnTo>
                <a:lnTo>
                  <a:pt x="501" y="100"/>
                </a:lnTo>
                <a:lnTo>
                  <a:pt x="508" y="106"/>
                </a:lnTo>
                <a:lnTo>
                  <a:pt x="514" y="112"/>
                </a:lnTo>
                <a:lnTo>
                  <a:pt x="520" y="115"/>
                </a:lnTo>
                <a:lnTo>
                  <a:pt x="526" y="121"/>
                </a:lnTo>
                <a:lnTo>
                  <a:pt x="530" y="125"/>
                </a:lnTo>
                <a:lnTo>
                  <a:pt x="539" y="135"/>
                </a:lnTo>
                <a:lnTo>
                  <a:pt x="545" y="144"/>
                </a:lnTo>
                <a:lnTo>
                  <a:pt x="549" y="152"/>
                </a:lnTo>
                <a:lnTo>
                  <a:pt x="553" y="161"/>
                </a:lnTo>
                <a:lnTo>
                  <a:pt x="553" y="169"/>
                </a:lnTo>
                <a:lnTo>
                  <a:pt x="553" y="177"/>
                </a:lnTo>
                <a:lnTo>
                  <a:pt x="553" y="186"/>
                </a:lnTo>
                <a:lnTo>
                  <a:pt x="553" y="196"/>
                </a:lnTo>
                <a:lnTo>
                  <a:pt x="553" y="208"/>
                </a:lnTo>
                <a:lnTo>
                  <a:pt x="553" y="221"/>
                </a:lnTo>
                <a:lnTo>
                  <a:pt x="553" y="234"/>
                </a:lnTo>
                <a:lnTo>
                  <a:pt x="553" y="248"/>
                </a:lnTo>
                <a:lnTo>
                  <a:pt x="553" y="263"/>
                </a:lnTo>
                <a:lnTo>
                  <a:pt x="553" y="281"/>
                </a:lnTo>
                <a:lnTo>
                  <a:pt x="553" y="298"/>
                </a:lnTo>
                <a:lnTo>
                  <a:pt x="553" y="315"/>
                </a:lnTo>
                <a:lnTo>
                  <a:pt x="553" y="334"/>
                </a:lnTo>
                <a:lnTo>
                  <a:pt x="553" y="355"/>
                </a:lnTo>
                <a:lnTo>
                  <a:pt x="553" y="376"/>
                </a:lnTo>
                <a:lnTo>
                  <a:pt x="553" y="398"/>
                </a:lnTo>
                <a:lnTo>
                  <a:pt x="553" y="421"/>
                </a:lnTo>
                <a:lnTo>
                  <a:pt x="553" y="434"/>
                </a:lnTo>
                <a:lnTo>
                  <a:pt x="553" y="447"/>
                </a:lnTo>
                <a:lnTo>
                  <a:pt x="553" y="463"/>
                </a:lnTo>
                <a:lnTo>
                  <a:pt x="553" y="478"/>
                </a:lnTo>
                <a:lnTo>
                  <a:pt x="553" y="494"/>
                </a:lnTo>
                <a:lnTo>
                  <a:pt x="553" y="509"/>
                </a:lnTo>
                <a:lnTo>
                  <a:pt x="553" y="542"/>
                </a:lnTo>
                <a:lnTo>
                  <a:pt x="555" y="576"/>
                </a:lnTo>
                <a:lnTo>
                  <a:pt x="555" y="614"/>
                </a:lnTo>
                <a:lnTo>
                  <a:pt x="555" y="653"/>
                </a:lnTo>
                <a:lnTo>
                  <a:pt x="555" y="693"/>
                </a:lnTo>
                <a:lnTo>
                  <a:pt x="556" y="735"/>
                </a:lnTo>
                <a:lnTo>
                  <a:pt x="556" y="780"/>
                </a:lnTo>
                <a:lnTo>
                  <a:pt x="558" y="826"/>
                </a:lnTo>
                <a:lnTo>
                  <a:pt x="560" y="874"/>
                </a:lnTo>
                <a:lnTo>
                  <a:pt x="562" y="922"/>
                </a:lnTo>
                <a:lnTo>
                  <a:pt x="564" y="973"/>
                </a:lnTo>
                <a:lnTo>
                  <a:pt x="566" y="1025"/>
                </a:lnTo>
                <a:lnTo>
                  <a:pt x="568" y="1081"/>
                </a:lnTo>
                <a:lnTo>
                  <a:pt x="570" y="1108"/>
                </a:lnTo>
                <a:lnTo>
                  <a:pt x="572" y="1135"/>
                </a:lnTo>
                <a:lnTo>
                  <a:pt x="572" y="1162"/>
                </a:lnTo>
                <a:lnTo>
                  <a:pt x="574" y="1186"/>
                </a:lnTo>
                <a:lnTo>
                  <a:pt x="574" y="1211"/>
                </a:lnTo>
                <a:lnTo>
                  <a:pt x="576" y="1236"/>
                </a:lnTo>
                <a:lnTo>
                  <a:pt x="576" y="1261"/>
                </a:lnTo>
                <a:lnTo>
                  <a:pt x="578" y="1284"/>
                </a:lnTo>
                <a:lnTo>
                  <a:pt x="578" y="1307"/>
                </a:lnTo>
                <a:lnTo>
                  <a:pt x="580" y="1330"/>
                </a:lnTo>
                <a:lnTo>
                  <a:pt x="580" y="1353"/>
                </a:lnTo>
                <a:lnTo>
                  <a:pt x="580" y="1375"/>
                </a:lnTo>
                <a:lnTo>
                  <a:pt x="581" y="1396"/>
                </a:lnTo>
                <a:lnTo>
                  <a:pt x="581" y="1417"/>
                </a:lnTo>
                <a:lnTo>
                  <a:pt x="581" y="1438"/>
                </a:lnTo>
                <a:lnTo>
                  <a:pt x="581" y="1457"/>
                </a:lnTo>
                <a:lnTo>
                  <a:pt x="583" y="1476"/>
                </a:lnTo>
                <a:lnTo>
                  <a:pt x="583" y="1495"/>
                </a:lnTo>
                <a:lnTo>
                  <a:pt x="583" y="1513"/>
                </a:lnTo>
                <a:lnTo>
                  <a:pt x="583" y="1530"/>
                </a:lnTo>
                <a:lnTo>
                  <a:pt x="583" y="1547"/>
                </a:lnTo>
                <a:lnTo>
                  <a:pt x="583" y="1565"/>
                </a:lnTo>
                <a:lnTo>
                  <a:pt x="583" y="1580"/>
                </a:lnTo>
                <a:lnTo>
                  <a:pt x="583" y="1595"/>
                </a:lnTo>
                <a:lnTo>
                  <a:pt x="583" y="1609"/>
                </a:lnTo>
                <a:lnTo>
                  <a:pt x="583" y="1624"/>
                </a:lnTo>
                <a:lnTo>
                  <a:pt x="583" y="1638"/>
                </a:lnTo>
                <a:lnTo>
                  <a:pt x="583" y="1651"/>
                </a:lnTo>
                <a:lnTo>
                  <a:pt x="585" y="1662"/>
                </a:lnTo>
                <a:lnTo>
                  <a:pt x="585" y="1674"/>
                </a:lnTo>
                <a:lnTo>
                  <a:pt x="585" y="1686"/>
                </a:lnTo>
                <a:lnTo>
                  <a:pt x="585" y="1697"/>
                </a:lnTo>
                <a:lnTo>
                  <a:pt x="583" y="1718"/>
                </a:lnTo>
                <a:lnTo>
                  <a:pt x="583" y="1737"/>
                </a:lnTo>
                <a:lnTo>
                  <a:pt x="583" y="1757"/>
                </a:lnTo>
                <a:lnTo>
                  <a:pt x="581" y="1776"/>
                </a:lnTo>
                <a:lnTo>
                  <a:pt x="580" y="1795"/>
                </a:lnTo>
                <a:lnTo>
                  <a:pt x="578" y="1812"/>
                </a:lnTo>
                <a:lnTo>
                  <a:pt x="576" y="1829"/>
                </a:lnTo>
                <a:lnTo>
                  <a:pt x="574" y="1847"/>
                </a:lnTo>
                <a:lnTo>
                  <a:pt x="572" y="1862"/>
                </a:lnTo>
                <a:lnTo>
                  <a:pt x="570" y="1877"/>
                </a:lnTo>
                <a:lnTo>
                  <a:pt x="564" y="1908"/>
                </a:lnTo>
                <a:lnTo>
                  <a:pt x="558" y="1937"/>
                </a:lnTo>
                <a:lnTo>
                  <a:pt x="553" y="1964"/>
                </a:lnTo>
                <a:lnTo>
                  <a:pt x="547" y="1979"/>
                </a:lnTo>
                <a:lnTo>
                  <a:pt x="541" y="1993"/>
                </a:lnTo>
                <a:lnTo>
                  <a:pt x="535" y="2006"/>
                </a:lnTo>
                <a:lnTo>
                  <a:pt x="530" y="2019"/>
                </a:lnTo>
                <a:lnTo>
                  <a:pt x="524" y="2031"/>
                </a:lnTo>
                <a:lnTo>
                  <a:pt x="518" y="2043"/>
                </a:lnTo>
                <a:lnTo>
                  <a:pt x="512" y="2054"/>
                </a:lnTo>
                <a:lnTo>
                  <a:pt x="505" y="2064"/>
                </a:lnTo>
                <a:lnTo>
                  <a:pt x="499" y="2073"/>
                </a:lnTo>
                <a:lnTo>
                  <a:pt x="491" y="2083"/>
                </a:lnTo>
                <a:lnTo>
                  <a:pt x="478" y="2100"/>
                </a:lnTo>
                <a:lnTo>
                  <a:pt x="462" y="2115"/>
                </a:lnTo>
                <a:lnTo>
                  <a:pt x="445" y="2133"/>
                </a:lnTo>
                <a:lnTo>
                  <a:pt x="430" y="2142"/>
                </a:lnTo>
                <a:lnTo>
                  <a:pt x="414" y="2150"/>
                </a:lnTo>
                <a:lnTo>
                  <a:pt x="399" y="2158"/>
                </a:lnTo>
                <a:lnTo>
                  <a:pt x="386" y="2163"/>
                </a:lnTo>
                <a:lnTo>
                  <a:pt x="374" y="2169"/>
                </a:lnTo>
                <a:lnTo>
                  <a:pt x="361" y="2171"/>
                </a:lnTo>
                <a:lnTo>
                  <a:pt x="349" y="2173"/>
                </a:lnTo>
                <a:lnTo>
                  <a:pt x="338" y="2175"/>
                </a:lnTo>
                <a:lnTo>
                  <a:pt x="330" y="2173"/>
                </a:lnTo>
                <a:lnTo>
                  <a:pt x="322" y="2173"/>
                </a:lnTo>
                <a:lnTo>
                  <a:pt x="315" y="2171"/>
                </a:lnTo>
                <a:lnTo>
                  <a:pt x="309" y="2169"/>
                </a:lnTo>
                <a:lnTo>
                  <a:pt x="303" y="2165"/>
                </a:lnTo>
                <a:lnTo>
                  <a:pt x="299" y="2162"/>
                </a:lnTo>
                <a:lnTo>
                  <a:pt x="294" y="2158"/>
                </a:lnTo>
                <a:lnTo>
                  <a:pt x="290" y="2152"/>
                </a:lnTo>
                <a:lnTo>
                  <a:pt x="288" y="2144"/>
                </a:lnTo>
                <a:lnTo>
                  <a:pt x="284" y="2138"/>
                </a:lnTo>
                <a:lnTo>
                  <a:pt x="282" y="2129"/>
                </a:lnTo>
                <a:lnTo>
                  <a:pt x="280" y="2121"/>
                </a:lnTo>
                <a:lnTo>
                  <a:pt x="278" y="2112"/>
                </a:lnTo>
                <a:lnTo>
                  <a:pt x="278" y="2100"/>
                </a:lnTo>
                <a:lnTo>
                  <a:pt x="276" y="2089"/>
                </a:lnTo>
                <a:lnTo>
                  <a:pt x="276" y="20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71"/>
          <p:cNvSpPr/>
          <p:nvPr/>
        </p:nvSpPr>
        <p:spPr>
          <a:xfrm>
            <a:off x="5545080" y="3787920"/>
            <a:ext cx="365040" cy="591840"/>
          </a:xfrm>
          <a:custGeom>
            <a:avLst/>
            <a:gdLst/>
            <a:ahLst/>
            <a:rect l="l" t="t" r="r" b="b"/>
            <a:pathLst>
              <a:path w="461" h="747">
                <a:moveTo>
                  <a:pt x="461" y="182"/>
                </a:moveTo>
                <a:lnTo>
                  <a:pt x="459" y="219"/>
                </a:lnTo>
                <a:lnTo>
                  <a:pt x="457" y="255"/>
                </a:lnTo>
                <a:lnTo>
                  <a:pt x="455" y="273"/>
                </a:lnTo>
                <a:lnTo>
                  <a:pt x="453" y="292"/>
                </a:lnTo>
                <a:lnTo>
                  <a:pt x="449" y="309"/>
                </a:lnTo>
                <a:lnTo>
                  <a:pt x="447" y="326"/>
                </a:lnTo>
                <a:lnTo>
                  <a:pt x="444" y="345"/>
                </a:lnTo>
                <a:lnTo>
                  <a:pt x="438" y="363"/>
                </a:lnTo>
                <a:lnTo>
                  <a:pt x="434" y="380"/>
                </a:lnTo>
                <a:lnTo>
                  <a:pt x="428" y="397"/>
                </a:lnTo>
                <a:lnTo>
                  <a:pt x="422" y="413"/>
                </a:lnTo>
                <a:lnTo>
                  <a:pt x="415" y="430"/>
                </a:lnTo>
                <a:lnTo>
                  <a:pt x="407" y="445"/>
                </a:lnTo>
                <a:lnTo>
                  <a:pt x="399" y="463"/>
                </a:lnTo>
                <a:lnTo>
                  <a:pt x="390" y="480"/>
                </a:lnTo>
                <a:lnTo>
                  <a:pt x="382" y="497"/>
                </a:lnTo>
                <a:lnTo>
                  <a:pt x="373" y="514"/>
                </a:lnTo>
                <a:lnTo>
                  <a:pt x="365" y="532"/>
                </a:lnTo>
                <a:lnTo>
                  <a:pt x="355" y="547"/>
                </a:lnTo>
                <a:lnTo>
                  <a:pt x="346" y="560"/>
                </a:lnTo>
                <a:lnTo>
                  <a:pt x="336" y="576"/>
                </a:lnTo>
                <a:lnTo>
                  <a:pt x="326" y="589"/>
                </a:lnTo>
                <a:lnTo>
                  <a:pt x="315" y="601"/>
                </a:lnTo>
                <a:lnTo>
                  <a:pt x="305" y="614"/>
                </a:lnTo>
                <a:lnTo>
                  <a:pt x="294" y="626"/>
                </a:lnTo>
                <a:lnTo>
                  <a:pt x="282" y="635"/>
                </a:lnTo>
                <a:lnTo>
                  <a:pt x="271" y="647"/>
                </a:lnTo>
                <a:lnTo>
                  <a:pt x="257" y="656"/>
                </a:lnTo>
                <a:lnTo>
                  <a:pt x="244" y="664"/>
                </a:lnTo>
                <a:lnTo>
                  <a:pt x="231" y="674"/>
                </a:lnTo>
                <a:lnTo>
                  <a:pt x="215" y="683"/>
                </a:lnTo>
                <a:lnTo>
                  <a:pt x="204" y="693"/>
                </a:lnTo>
                <a:lnTo>
                  <a:pt x="190" y="701"/>
                </a:lnTo>
                <a:lnTo>
                  <a:pt x="179" y="710"/>
                </a:lnTo>
                <a:lnTo>
                  <a:pt x="167" y="718"/>
                </a:lnTo>
                <a:lnTo>
                  <a:pt x="158" y="724"/>
                </a:lnTo>
                <a:lnTo>
                  <a:pt x="146" y="729"/>
                </a:lnTo>
                <a:lnTo>
                  <a:pt x="138" y="735"/>
                </a:lnTo>
                <a:lnTo>
                  <a:pt x="129" y="739"/>
                </a:lnTo>
                <a:lnTo>
                  <a:pt x="121" y="741"/>
                </a:lnTo>
                <a:lnTo>
                  <a:pt x="115" y="745"/>
                </a:lnTo>
                <a:lnTo>
                  <a:pt x="110" y="747"/>
                </a:lnTo>
                <a:lnTo>
                  <a:pt x="104" y="747"/>
                </a:lnTo>
                <a:lnTo>
                  <a:pt x="98" y="747"/>
                </a:lnTo>
                <a:lnTo>
                  <a:pt x="94" y="745"/>
                </a:lnTo>
                <a:lnTo>
                  <a:pt x="92" y="743"/>
                </a:lnTo>
                <a:lnTo>
                  <a:pt x="88" y="743"/>
                </a:lnTo>
                <a:lnTo>
                  <a:pt x="85" y="741"/>
                </a:lnTo>
                <a:lnTo>
                  <a:pt x="83" y="739"/>
                </a:lnTo>
                <a:lnTo>
                  <a:pt x="77" y="737"/>
                </a:lnTo>
                <a:lnTo>
                  <a:pt x="73" y="735"/>
                </a:lnTo>
                <a:lnTo>
                  <a:pt x="69" y="731"/>
                </a:lnTo>
                <a:lnTo>
                  <a:pt x="65" y="727"/>
                </a:lnTo>
                <a:lnTo>
                  <a:pt x="62" y="722"/>
                </a:lnTo>
                <a:lnTo>
                  <a:pt x="56" y="716"/>
                </a:lnTo>
                <a:lnTo>
                  <a:pt x="52" y="710"/>
                </a:lnTo>
                <a:lnTo>
                  <a:pt x="48" y="702"/>
                </a:lnTo>
                <a:lnTo>
                  <a:pt x="44" y="695"/>
                </a:lnTo>
                <a:lnTo>
                  <a:pt x="40" y="687"/>
                </a:lnTo>
                <a:lnTo>
                  <a:pt x="37" y="678"/>
                </a:lnTo>
                <a:lnTo>
                  <a:pt x="33" y="668"/>
                </a:lnTo>
                <a:lnTo>
                  <a:pt x="31" y="658"/>
                </a:lnTo>
                <a:lnTo>
                  <a:pt x="25" y="637"/>
                </a:lnTo>
                <a:lnTo>
                  <a:pt x="19" y="620"/>
                </a:lnTo>
                <a:lnTo>
                  <a:pt x="14" y="603"/>
                </a:lnTo>
                <a:lnTo>
                  <a:pt x="12" y="595"/>
                </a:lnTo>
                <a:lnTo>
                  <a:pt x="10" y="587"/>
                </a:lnTo>
                <a:lnTo>
                  <a:pt x="8" y="580"/>
                </a:lnTo>
                <a:lnTo>
                  <a:pt x="6" y="574"/>
                </a:lnTo>
                <a:lnTo>
                  <a:pt x="4" y="568"/>
                </a:lnTo>
                <a:lnTo>
                  <a:pt x="2" y="562"/>
                </a:lnTo>
                <a:lnTo>
                  <a:pt x="2" y="557"/>
                </a:lnTo>
                <a:lnTo>
                  <a:pt x="0" y="553"/>
                </a:lnTo>
                <a:lnTo>
                  <a:pt x="0" y="549"/>
                </a:lnTo>
                <a:lnTo>
                  <a:pt x="0" y="547"/>
                </a:lnTo>
                <a:lnTo>
                  <a:pt x="0" y="543"/>
                </a:lnTo>
                <a:lnTo>
                  <a:pt x="2" y="539"/>
                </a:lnTo>
                <a:lnTo>
                  <a:pt x="4" y="535"/>
                </a:lnTo>
                <a:lnTo>
                  <a:pt x="6" y="532"/>
                </a:lnTo>
                <a:lnTo>
                  <a:pt x="10" y="526"/>
                </a:lnTo>
                <a:lnTo>
                  <a:pt x="14" y="518"/>
                </a:lnTo>
                <a:lnTo>
                  <a:pt x="19" y="512"/>
                </a:lnTo>
                <a:lnTo>
                  <a:pt x="25" y="505"/>
                </a:lnTo>
                <a:lnTo>
                  <a:pt x="31" y="497"/>
                </a:lnTo>
                <a:lnTo>
                  <a:pt x="40" y="488"/>
                </a:lnTo>
                <a:lnTo>
                  <a:pt x="48" y="478"/>
                </a:lnTo>
                <a:lnTo>
                  <a:pt x="58" y="468"/>
                </a:lnTo>
                <a:lnTo>
                  <a:pt x="69" y="457"/>
                </a:lnTo>
                <a:lnTo>
                  <a:pt x="81" y="445"/>
                </a:lnTo>
                <a:lnTo>
                  <a:pt x="94" y="434"/>
                </a:lnTo>
                <a:lnTo>
                  <a:pt x="108" y="420"/>
                </a:lnTo>
                <a:lnTo>
                  <a:pt x="121" y="409"/>
                </a:lnTo>
                <a:lnTo>
                  <a:pt x="135" y="397"/>
                </a:lnTo>
                <a:lnTo>
                  <a:pt x="148" y="386"/>
                </a:lnTo>
                <a:lnTo>
                  <a:pt x="161" y="372"/>
                </a:lnTo>
                <a:lnTo>
                  <a:pt x="175" y="359"/>
                </a:lnTo>
                <a:lnTo>
                  <a:pt x="188" y="345"/>
                </a:lnTo>
                <a:lnTo>
                  <a:pt x="200" y="330"/>
                </a:lnTo>
                <a:lnTo>
                  <a:pt x="213" y="315"/>
                </a:lnTo>
                <a:lnTo>
                  <a:pt x="225" y="299"/>
                </a:lnTo>
                <a:lnTo>
                  <a:pt x="238" y="282"/>
                </a:lnTo>
                <a:lnTo>
                  <a:pt x="250" y="265"/>
                </a:lnTo>
                <a:lnTo>
                  <a:pt x="261" y="246"/>
                </a:lnTo>
                <a:lnTo>
                  <a:pt x="273" y="228"/>
                </a:lnTo>
                <a:lnTo>
                  <a:pt x="284" y="209"/>
                </a:lnTo>
                <a:lnTo>
                  <a:pt x="296" y="188"/>
                </a:lnTo>
                <a:lnTo>
                  <a:pt x="307" y="167"/>
                </a:lnTo>
                <a:lnTo>
                  <a:pt x="319" y="148"/>
                </a:lnTo>
                <a:lnTo>
                  <a:pt x="328" y="129"/>
                </a:lnTo>
                <a:lnTo>
                  <a:pt x="340" y="109"/>
                </a:lnTo>
                <a:lnTo>
                  <a:pt x="350" y="94"/>
                </a:lnTo>
                <a:lnTo>
                  <a:pt x="359" y="79"/>
                </a:lnTo>
                <a:lnTo>
                  <a:pt x="369" y="65"/>
                </a:lnTo>
                <a:lnTo>
                  <a:pt x="376" y="52"/>
                </a:lnTo>
                <a:lnTo>
                  <a:pt x="386" y="42"/>
                </a:lnTo>
                <a:lnTo>
                  <a:pt x="394" y="31"/>
                </a:lnTo>
                <a:lnTo>
                  <a:pt x="399" y="23"/>
                </a:lnTo>
                <a:lnTo>
                  <a:pt x="407" y="15"/>
                </a:lnTo>
                <a:lnTo>
                  <a:pt x="413" y="10"/>
                </a:lnTo>
                <a:lnTo>
                  <a:pt x="419" y="6"/>
                </a:lnTo>
                <a:lnTo>
                  <a:pt x="422" y="2"/>
                </a:lnTo>
                <a:lnTo>
                  <a:pt x="426" y="0"/>
                </a:lnTo>
                <a:lnTo>
                  <a:pt x="430" y="0"/>
                </a:lnTo>
                <a:lnTo>
                  <a:pt x="432" y="2"/>
                </a:lnTo>
                <a:lnTo>
                  <a:pt x="436" y="8"/>
                </a:lnTo>
                <a:lnTo>
                  <a:pt x="438" y="11"/>
                </a:lnTo>
                <a:lnTo>
                  <a:pt x="442" y="17"/>
                </a:lnTo>
                <a:lnTo>
                  <a:pt x="444" y="25"/>
                </a:lnTo>
                <a:lnTo>
                  <a:pt x="445" y="35"/>
                </a:lnTo>
                <a:lnTo>
                  <a:pt x="449" y="44"/>
                </a:lnTo>
                <a:lnTo>
                  <a:pt x="451" y="54"/>
                </a:lnTo>
                <a:lnTo>
                  <a:pt x="453" y="65"/>
                </a:lnTo>
                <a:lnTo>
                  <a:pt x="455" y="79"/>
                </a:lnTo>
                <a:lnTo>
                  <a:pt x="457" y="92"/>
                </a:lnTo>
                <a:lnTo>
                  <a:pt x="457" y="107"/>
                </a:lnTo>
                <a:lnTo>
                  <a:pt x="459" y="125"/>
                </a:lnTo>
                <a:lnTo>
                  <a:pt x="459" y="142"/>
                </a:lnTo>
                <a:lnTo>
                  <a:pt x="461" y="161"/>
                </a:lnTo>
                <a:lnTo>
                  <a:pt x="461" y="1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72"/>
          <p:cNvSpPr/>
          <p:nvPr/>
        </p:nvSpPr>
        <p:spPr>
          <a:xfrm>
            <a:off x="5580000" y="3309840"/>
            <a:ext cx="914400" cy="1629000"/>
          </a:xfrm>
          <a:custGeom>
            <a:avLst/>
            <a:gdLst/>
            <a:ahLst/>
            <a:rect l="l" t="t" r="r" b="b"/>
            <a:pathLst>
              <a:path w="1154" h="2052">
                <a:moveTo>
                  <a:pt x="187" y="2004"/>
                </a:moveTo>
                <a:lnTo>
                  <a:pt x="167" y="2012"/>
                </a:lnTo>
                <a:lnTo>
                  <a:pt x="148" y="2020"/>
                </a:lnTo>
                <a:lnTo>
                  <a:pt x="131" y="2025"/>
                </a:lnTo>
                <a:lnTo>
                  <a:pt x="114" y="2031"/>
                </a:lnTo>
                <a:lnTo>
                  <a:pt x="98" y="2037"/>
                </a:lnTo>
                <a:lnTo>
                  <a:pt x="85" y="2041"/>
                </a:lnTo>
                <a:lnTo>
                  <a:pt x="71" y="2044"/>
                </a:lnTo>
                <a:lnTo>
                  <a:pt x="60" y="2048"/>
                </a:lnTo>
                <a:lnTo>
                  <a:pt x="48" y="2050"/>
                </a:lnTo>
                <a:lnTo>
                  <a:pt x="39" y="2052"/>
                </a:lnTo>
                <a:lnTo>
                  <a:pt x="29" y="2052"/>
                </a:lnTo>
                <a:lnTo>
                  <a:pt x="21" y="2052"/>
                </a:lnTo>
                <a:lnTo>
                  <a:pt x="16" y="2052"/>
                </a:lnTo>
                <a:lnTo>
                  <a:pt x="10" y="2050"/>
                </a:lnTo>
                <a:lnTo>
                  <a:pt x="6" y="2050"/>
                </a:lnTo>
                <a:lnTo>
                  <a:pt x="2" y="2046"/>
                </a:lnTo>
                <a:lnTo>
                  <a:pt x="0" y="2044"/>
                </a:lnTo>
                <a:lnTo>
                  <a:pt x="0" y="2041"/>
                </a:lnTo>
                <a:lnTo>
                  <a:pt x="0" y="2039"/>
                </a:lnTo>
                <a:lnTo>
                  <a:pt x="0" y="2035"/>
                </a:lnTo>
                <a:lnTo>
                  <a:pt x="2" y="2031"/>
                </a:lnTo>
                <a:lnTo>
                  <a:pt x="2" y="2027"/>
                </a:lnTo>
                <a:lnTo>
                  <a:pt x="4" y="2023"/>
                </a:lnTo>
                <a:lnTo>
                  <a:pt x="8" y="2018"/>
                </a:lnTo>
                <a:lnTo>
                  <a:pt x="10" y="2014"/>
                </a:lnTo>
                <a:lnTo>
                  <a:pt x="14" y="2008"/>
                </a:lnTo>
                <a:lnTo>
                  <a:pt x="20" y="2004"/>
                </a:lnTo>
                <a:lnTo>
                  <a:pt x="23" y="1998"/>
                </a:lnTo>
                <a:lnTo>
                  <a:pt x="29" y="1993"/>
                </a:lnTo>
                <a:lnTo>
                  <a:pt x="35" y="1987"/>
                </a:lnTo>
                <a:lnTo>
                  <a:pt x="41" y="1981"/>
                </a:lnTo>
                <a:lnTo>
                  <a:pt x="48" y="1975"/>
                </a:lnTo>
                <a:lnTo>
                  <a:pt x="56" y="1970"/>
                </a:lnTo>
                <a:lnTo>
                  <a:pt x="64" y="1962"/>
                </a:lnTo>
                <a:lnTo>
                  <a:pt x="73" y="1956"/>
                </a:lnTo>
                <a:lnTo>
                  <a:pt x="81" y="1948"/>
                </a:lnTo>
                <a:lnTo>
                  <a:pt x="91" y="1943"/>
                </a:lnTo>
                <a:lnTo>
                  <a:pt x="102" y="1935"/>
                </a:lnTo>
                <a:lnTo>
                  <a:pt x="112" y="1927"/>
                </a:lnTo>
                <a:lnTo>
                  <a:pt x="123" y="1920"/>
                </a:lnTo>
                <a:lnTo>
                  <a:pt x="135" y="1912"/>
                </a:lnTo>
                <a:lnTo>
                  <a:pt x="148" y="1904"/>
                </a:lnTo>
                <a:lnTo>
                  <a:pt x="160" y="1895"/>
                </a:lnTo>
                <a:lnTo>
                  <a:pt x="173" y="1887"/>
                </a:lnTo>
                <a:lnTo>
                  <a:pt x="187" y="1877"/>
                </a:lnTo>
                <a:lnTo>
                  <a:pt x="202" y="1870"/>
                </a:lnTo>
                <a:lnTo>
                  <a:pt x="217" y="1860"/>
                </a:lnTo>
                <a:lnTo>
                  <a:pt x="233" y="1851"/>
                </a:lnTo>
                <a:lnTo>
                  <a:pt x="261" y="1831"/>
                </a:lnTo>
                <a:lnTo>
                  <a:pt x="288" y="1812"/>
                </a:lnTo>
                <a:lnTo>
                  <a:pt x="317" y="1791"/>
                </a:lnTo>
                <a:lnTo>
                  <a:pt x="344" y="1768"/>
                </a:lnTo>
                <a:lnTo>
                  <a:pt x="371" y="1747"/>
                </a:lnTo>
                <a:lnTo>
                  <a:pt x="398" y="1722"/>
                </a:lnTo>
                <a:lnTo>
                  <a:pt x="425" y="1699"/>
                </a:lnTo>
                <a:lnTo>
                  <a:pt x="449" y="1674"/>
                </a:lnTo>
                <a:lnTo>
                  <a:pt x="474" y="1647"/>
                </a:lnTo>
                <a:lnTo>
                  <a:pt x="499" y="1620"/>
                </a:lnTo>
                <a:lnTo>
                  <a:pt x="522" y="1593"/>
                </a:lnTo>
                <a:lnTo>
                  <a:pt x="545" y="1565"/>
                </a:lnTo>
                <a:lnTo>
                  <a:pt x="568" y="1536"/>
                </a:lnTo>
                <a:lnTo>
                  <a:pt x="590" y="1505"/>
                </a:lnTo>
                <a:lnTo>
                  <a:pt x="611" y="1474"/>
                </a:lnTo>
                <a:lnTo>
                  <a:pt x="632" y="1444"/>
                </a:lnTo>
                <a:lnTo>
                  <a:pt x="651" y="1411"/>
                </a:lnTo>
                <a:lnTo>
                  <a:pt x="670" y="1378"/>
                </a:lnTo>
                <a:lnTo>
                  <a:pt x="689" y="1346"/>
                </a:lnTo>
                <a:lnTo>
                  <a:pt x="707" y="1313"/>
                </a:lnTo>
                <a:lnTo>
                  <a:pt x="724" y="1279"/>
                </a:lnTo>
                <a:lnTo>
                  <a:pt x="739" y="1244"/>
                </a:lnTo>
                <a:lnTo>
                  <a:pt x="755" y="1208"/>
                </a:lnTo>
                <a:lnTo>
                  <a:pt x="770" y="1171"/>
                </a:lnTo>
                <a:lnTo>
                  <a:pt x="783" y="1135"/>
                </a:lnTo>
                <a:lnTo>
                  <a:pt x="797" y="1098"/>
                </a:lnTo>
                <a:lnTo>
                  <a:pt x="810" y="1062"/>
                </a:lnTo>
                <a:lnTo>
                  <a:pt x="822" y="1023"/>
                </a:lnTo>
                <a:lnTo>
                  <a:pt x="833" y="985"/>
                </a:lnTo>
                <a:lnTo>
                  <a:pt x="843" y="947"/>
                </a:lnTo>
                <a:lnTo>
                  <a:pt x="853" y="908"/>
                </a:lnTo>
                <a:lnTo>
                  <a:pt x="862" y="870"/>
                </a:lnTo>
                <a:lnTo>
                  <a:pt x="870" y="829"/>
                </a:lnTo>
                <a:lnTo>
                  <a:pt x="877" y="791"/>
                </a:lnTo>
                <a:lnTo>
                  <a:pt x="885" y="755"/>
                </a:lnTo>
                <a:lnTo>
                  <a:pt x="891" y="718"/>
                </a:lnTo>
                <a:lnTo>
                  <a:pt x="897" y="684"/>
                </a:lnTo>
                <a:lnTo>
                  <a:pt x="901" y="649"/>
                </a:lnTo>
                <a:lnTo>
                  <a:pt x="906" y="616"/>
                </a:lnTo>
                <a:lnTo>
                  <a:pt x="910" y="586"/>
                </a:lnTo>
                <a:lnTo>
                  <a:pt x="914" y="553"/>
                </a:lnTo>
                <a:lnTo>
                  <a:pt x="916" y="524"/>
                </a:lnTo>
                <a:lnTo>
                  <a:pt x="918" y="495"/>
                </a:lnTo>
                <a:lnTo>
                  <a:pt x="920" y="467"/>
                </a:lnTo>
                <a:lnTo>
                  <a:pt x="922" y="440"/>
                </a:lnTo>
                <a:lnTo>
                  <a:pt x="924" y="413"/>
                </a:lnTo>
                <a:lnTo>
                  <a:pt x="924" y="388"/>
                </a:lnTo>
                <a:lnTo>
                  <a:pt x="924" y="365"/>
                </a:lnTo>
                <a:lnTo>
                  <a:pt x="924" y="317"/>
                </a:lnTo>
                <a:lnTo>
                  <a:pt x="920" y="271"/>
                </a:lnTo>
                <a:lnTo>
                  <a:pt x="918" y="227"/>
                </a:lnTo>
                <a:lnTo>
                  <a:pt x="912" y="183"/>
                </a:lnTo>
                <a:lnTo>
                  <a:pt x="906" y="137"/>
                </a:lnTo>
                <a:lnTo>
                  <a:pt x="897" y="92"/>
                </a:lnTo>
                <a:lnTo>
                  <a:pt x="889" y="46"/>
                </a:lnTo>
                <a:lnTo>
                  <a:pt x="877" y="0"/>
                </a:lnTo>
                <a:lnTo>
                  <a:pt x="895" y="8"/>
                </a:lnTo>
                <a:lnTo>
                  <a:pt x="910" y="18"/>
                </a:lnTo>
                <a:lnTo>
                  <a:pt x="927" y="27"/>
                </a:lnTo>
                <a:lnTo>
                  <a:pt x="943" y="35"/>
                </a:lnTo>
                <a:lnTo>
                  <a:pt x="956" y="43"/>
                </a:lnTo>
                <a:lnTo>
                  <a:pt x="972" y="50"/>
                </a:lnTo>
                <a:lnTo>
                  <a:pt x="985" y="58"/>
                </a:lnTo>
                <a:lnTo>
                  <a:pt x="998" y="66"/>
                </a:lnTo>
                <a:lnTo>
                  <a:pt x="1012" y="73"/>
                </a:lnTo>
                <a:lnTo>
                  <a:pt x="1023" y="79"/>
                </a:lnTo>
                <a:lnTo>
                  <a:pt x="1035" y="87"/>
                </a:lnTo>
                <a:lnTo>
                  <a:pt x="1046" y="92"/>
                </a:lnTo>
                <a:lnTo>
                  <a:pt x="1056" y="98"/>
                </a:lnTo>
                <a:lnTo>
                  <a:pt x="1066" y="104"/>
                </a:lnTo>
                <a:lnTo>
                  <a:pt x="1075" y="110"/>
                </a:lnTo>
                <a:lnTo>
                  <a:pt x="1085" y="115"/>
                </a:lnTo>
                <a:lnTo>
                  <a:pt x="1092" y="121"/>
                </a:lnTo>
                <a:lnTo>
                  <a:pt x="1100" y="125"/>
                </a:lnTo>
                <a:lnTo>
                  <a:pt x="1108" y="131"/>
                </a:lnTo>
                <a:lnTo>
                  <a:pt x="1115" y="135"/>
                </a:lnTo>
                <a:lnTo>
                  <a:pt x="1121" y="138"/>
                </a:lnTo>
                <a:lnTo>
                  <a:pt x="1127" y="142"/>
                </a:lnTo>
                <a:lnTo>
                  <a:pt x="1133" y="146"/>
                </a:lnTo>
                <a:lnTo>
                  <a:pt x="1137" y="150"/>
                </a:lnTo>
                <a:lnTo>
                  <a:pt x="1140" y="152"/>
                </a:lnTo>
                <a:lnTo>
                  <a:pt x="1144" y="156"/>
                </a:lnTo>
                <a:lnTo>
                  <a:pt x="1146" y="158"/>
                </a:lnTo>
                <a:lnTo>
                  <a:pt x="1150" y="160"/>
                </a:lnTo>
                <a:lnTo>
                  <a:pt x="1152" y="163"/>
                </a:lnTo>
                <a:lnTo>
                  <a:pt x="1152" y="165"/>
                </a:lnTo>
                <a:lnTo>
                  <a:pt x="1154" y="167"/>
                </a:lnTo>
                <a:lnTo>
                  <a:pt x="1154" y="173"/>
                </a:lnTo>
                <a:lnTo>
                  <a:pt x="1154" y="181"/>
                </a:lnTo>
                <a:lnTo>
                  <a:pt x="1154" y="188"/>
                </a:lnTo>
                <a:lnTo>
                  <a:pt x="1154" y="200"/>
                </a:lnTo>
                <a:lnTo>
                  <a:pt x="1154" y="210"/>
                </a:lnTo>
                <a:lnTo>
                  <a:pt x="1154" y="223"/>
                </a:lnTo>
                <a:lnTo>
                  <a:pt x="1152" y="236"/>
                </a:lnTo>
                <a:lnTo>
                  <a:pt x="1152" y="250"/>
                </a:lnTo>
                <a:lnTo>
                  <a:pt x="1152" y="265"/>
                </a:lnTo>
                <a:lnTo>
                  <a:pt x="1150" y="282"/>
                </a:lnTo>
                <a:lnTo>
                  <a:pt x="1150" y="300"/>
                </a:lnTo>
                <a:lnTo>
                  <a:pt x="1148" y="319"/>
                </a:lnTo>
                <a:lnTo>
                  <a:pt x="1146" y="340"/>
                </a:lnTo>
                <a:lnTo>
                  <a:pt x="1144" y="361"/>
                </a:lnTo>
                <a:lnTo>
                  <a:pt x="1142" y="382"/>
                </a:lnTo>
                <a:lnTo>
                  <a:pt x="1139" y="407"/>
                </a:lnTo>
                <a:lnTo>
                  <a:pt x="1137" y="430"/>
                </a:lnTo>
                <a:lnTo>
                  <a:pt x="1133" y="455"/>
                </a:lnTo>
                <a:lnTo>
                  <a:pt x="1131" y="480"/>
                </a:lnTo>
                <a:lnTo>
                  <a:pt x="1127" y="505"/>
                </a:lnTo>
                <a:lnTo>
                  <a:pt x="1123" y="532"/>
                </a:lnTo>
                <a:lnTo>
                  <a:pt x="1121" y="559"/>
                </a:lnTo>
                <a:lnTo>
                  <a:pt x="1117" y="588"/>
                </a:lnTo>
                <a:lnTo>
                  <a:pt x="1114" y="614"/>
                </a:lnTo>
                <a:lnTo>
                  <a:pt x="1110" y="643"/>
                </a:lnTo>
                <a:lnTo>
                  <a:pt x="1106" y="672"/>
                </a:lnTo>
                <a:lnTo>
                  <a:pt x="1098" y="732"/>
                </a:lnTo>
                <a:lnTo>
                  <a:pt x="1089" y="793"/>
                </a:lnTo>
                <a:lnTo>
                  <a:pt x="1077" y="854"/>
                </a:lnTo>
                <a:lnTo>
                  <a:pt x="1071" y="889"/>
                </a:lnTo>
                <a:lnTo>
                  <a:pt x="1064" y="924"/>
                </a:lnTo>
                <a:lnTo>
                  <a:pt x="1058" y="956"/>
                </a:lnTo>
                <a:lnTo>
                  <a:pt x="1048" y="989"/>
                </a:lnTo>
                <a:lnTo>
                  <a:pt x="1041" y="1021"/>
                </a:lnTo>
                <a:lnTo>
                  <a:pt x="1031" y="1054"/>
                </a:lnTo>
                <a:lnTo>
                  <a:pt x="1021" y="1087"/>
                </a:lnTo>
                <a:lnTo>
                  <a:pt x="1010" y="1117"/>
                </a:lnTo>
                <a:lnTo>
                  <a:pt x="998" y="1148"/>
                </a:lnTo>
                <a:lnTo>
                  <a:pt x="987" y="1181"/>
                </a:lnTo>
                <a:lnTo>
                  <a:pt x="962" y="1240"/>
                </a:lnTo>
                <a:lnTo>
                  <a:pt x="937" y="1302"/>
                </a:lnTo>
                <a:lnTo>
                  <a:pt x="908" y="1359"/>
                </a:lnTo>
                <a:lnTo>
                  <a:pt x="891" y="1392"/>
                </a:lnTo>
                <a:lnTo>
                  <a:pt x="874" y="1423"/>
                </a:lnTo>
                <a:lnTo>
                  <a:pt x="854" y="1451"/>
                </a:lnTo>
                <a:lnTo>
                  <a:pt x="837" y="1480"/>
                </a:lnTo>
                <a:lnTo>
                  <a:pt x="818" y="1509"/>
                </a:lnTo>
                <a:lnTo>
                  <a:pt x="797" y="1536"/>
                </a:lnTo>
                <a:lnTo>
                  <a:pt x="778" y="1563"/>
                </a:lnTo>
                <a:lnTo>
                  <a:pt x="757" y="1590"/>
                </a:lnTo>
                <a:lnTo>
                  <a:pt x="735" y="1615"/>
                </a:lnTo>
                <a:lnTo>
                  <a:pt x="714" y="1639"/>
                </a:lnTo>
                <a:lnTo>
                  <a:pt x="691" y="1663"/>
                </a:lnTo>
                <a:lnTo>
                  <a:pt x="668" y="1686"/>
                </a:lnTo>
                <a:lnTo>
                  <a:pt x="645" y="1707"/>
                </a:lnTo>
                <a:lnTo>
                  <a:pt x="620" y="1728"/>
                </a:lnTo>
                <a:lnTo>
                  <a:pt x="595" y="1747"/>
                </a:lnTo>
                <a:lnTo>
                  <a:pt x="570" y="1766"/>
                </a:lnTo>
                <a:lnTo>
                  <a:pt x="519" y="1803"/>
                </a:lnTo>
                <a:lnTo>
                  <a:pt x="469" y="1837"/>
                </a:lnTo>
                <a:lnTo>
                  <a:pt x="421" y="1870"/>
                </a:lnTo>
                <a:lnTo>
                  <a:pt x="396" y="1887"/>
                </a:lnTo>
                <a:lnTo>
                  <a:pt x="373" y="1902"/>
                </a:lnTo>
                <a:lnTo>
                  <a:pt x="350" y="1916"/>
                </a:lnTo>
                <a:lnTo>
                  <a:pt x="325" y="1931"/>
                </a:lnTo>
                <a:lnTo>
                  <a:pt x="302" y="1945"/>
                </a:lnTo>
                <a:lnTo>
                  <a:pt x="279" y="1958"/>
                </a:lnTo>
                <a:lnTo>
                  <a:pt x="256" y="1970"/>
                </a:lnTo>
                <a:lnTo>
                  <a:pt x="233" y="1983"/>
                </a:lnTo>
                <a:lnTo>
                  <a:pt x="210" y="1995"/>
                </a:lnTo>
                <a:lnTo>
                  <a:pt x="187" y="20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73"/>
          <p:cNvSpPr/>
          <p:nvPr/>
        </p:nvSpPr>
        <p:spPr>
          <a:xfrm>
            <a:off x="5495760" y="3130560"/>
            <a:ext cx="2273400" cy="324000"/>
          </a:xfrm>
          <a:custGeom>
            <a:avLst/>
            <a:gdLst/>
            <a:ahLst/>
            <a:rect l="l" t="t" r="r" b="b"/>
            <a:pathLst>
              <a:path w="2863" h="407">
                <a:moveTo>
                  <a:pt x="1750" y="69"/>
                </a:moveTo>
                <a:lnTo>
                  <a:pt x="1808" y="61"/>
                </a:lnTo>
                <a:lnTo>
                  <a:pt x="1862" y="53"/>
                </a:lnTo>
                <a:lnTo>
                  <a:pt x="1915" y="46"/>
                </a:lnTo>
                <a:lnTo>
                  <a:pt x="1967" y="40"/>
                </a:lnTo>
                <a:lnTo>
                  <a:pt x="2017" y="34"/>
                </a:lnTo>
                <a:lnTo>
                  <a:pt x="2065" y="29"/>
                </a:lnTo>
                <a:lnTo>
                  <a:pt x="2111" y="23"/>
                </a:lnTo>
                <a:lnTo>
                  <a:pt x="2157" y="17"/>
                </a:lnTo>
                <a:lnTo>
                  <a:pt x="2199" y="13"/>
                </a:lnTo>
                <a:lnTo>
                  <a:pt x="2242" y="9"/>
                </a:lnTo>
                <a:lnTo>
                  <a:pt x="2280" y="7"/>
                </a:lnTo>
                <a:lnTo>
                  <a:pt x="2318" y="4"/>
                </a:lnTo>
                <a:lnTo>
                  <a:pt x="2357" y="2"/>
                </a:lnTo>
                <a:lnTo>
                  <a:pt x="2391" y="0"/>
                </a:lnTo>
                <a:lnTo>
                  <a:pt x="2426" y="0"/>
                </a:lnTo>
                <a:lnTo>
                  <a:pt x="2458" y="0"/>
                </a:lnTo>
                <a:lnTo>
                  <a:pt x="2489" y="0"/>
                </a:lnTo>
                <a:lnTo>
                  <a:pt x="2518" y="0"/>
                </a:lnTo>
                <a:lnTo>
                  <a:pt x="2547" y="2"/>
                </a:lnTo>
                <a:lnTo>
                  <a:pt x="2574" y="4"/>
                </a:lnTo>
                <a:lnTo>
                  <a:pt x="2599" y="7"/>
                </a:lnTo>
                <a:lnTo>
                  <a:pt x="2624" y="11"/>
                </a:lnTo>
                <a:lnTo>
                  <a:pt x="2647" y="15"/>
                </a:lnTo>
                <a:lnTo>
                  <a:pt x="2668" y="19"/>
                </a:lnTo>
                <a:lnTo>
                  <a:pt x="2687" y="25"/>
                </a:lnTo>
                <a:lnTo>
                  <a:pt x="2706" y="32"/>
                </a:lnTo>
                <a:lnTo>
                  <a:pt x="2725" y="38"/>
                </a:lnTo>
                <a:lnTo>
                  <a:pt x="2741" y="46"/>
                </a:lnTo>
                <a:lnTo>
                  <a:pt x="2756" y="53"/>
                </a:lnTo>
                <a:lnTo>
                  <a:pt x="2771" y="63"/>
                </a:lnTo>
                <a:lnTo>
                  <a:pt x="2785" y="73"/>
                </a:lnTo>
                <a:lnTo>
                  <a:pt x="2796" y="84"/>
                </a:lnTo>
                <a:lnTo>
                  <a:pt x="2806" y="94"/>
                </a:lnTo>
                <a:lnTo>
                  <a:pt x="2817" y="103"/>
                </a:lnTo>
                <a:lnTo>
                  <a:pt x="2825" y="113"/>
                </a:lnTo>
                <a:lnTo>
                  <a:pt x="2833" y="123"/>
                </a:lnTo>
                <a:lnTo>
                  <a:pt x="2840" y="132"/>
                </a:lnTo>
                <a:lnTo>
                  <a:pt x="2846" y="140"/>
                </a:lnTo>
                <a:lnTo>
                  <a:pt x="2852" y="148"/>
                </a:lnTo>
                <a:lnTo>
                  <a:pt x="2856" y="155"/>
                </a:lnTo>
                <a:lnTo>
                  <a:pt x="2858" y="163"/>
                </a:lnTo>
                <a:lnTo>
                  <a:pt x="2862" y="169"/>
                </a:lnTo>
                <a:lnTo>
                  <a:pt x="2862" y="174"/>
                </a:lnTo>
                <a:lnTo>
                  <a:pt x="2863" y="180"/>
                </a:lnTo>
                <a:lnTo>
                  <a:pt x="2863" y="184"/>
                </a:lnTo>
                <a:lnTo>
                  <a:pt x="2862" y="188"/>
                </a:lnTo>
                <a:lnTo>
                  <a:pt x="2860" y="192"/>
                </a:lnTo>
                <a:lnTo>
                  <a:pt x="2858" y="195"/>
                </a:lnTo>
                <a:lnTo>
                  <a:pt x="2856" y="195"/>
                </a:lnTo>
                <a:lnTo>
                  <a:pt x="2852" y="197"/>
                </a:lnTo>
                <a:lnTo>
                  <a:pt x="2848" y="199"/>
                </a:lnTo>
                <a:lnTo>
                  <a:pt x="2844" y="201"/>
                </a:lnTo>
                <a:lnTo>
                  <a:pt x="2838" y="201"/>
                </a:lnTo>
                <a:lnTo>
                  <a:pt x="2833" y="203"/>
                </a:lnTo>
                <a:lnTo>
                  <a:pt x="2825" y="205"/>
                </a:lnTo>
                <a:lnTo>
                  <a:pt x="2817" y="205"/>
                </a:lnTo>
                <a:lnTo>
                  <a:pt x="2808" y="207"/>
                </a:lnTo>
                <a:lnTo>
                  <a:pt x="2798" y="209"/>
                </a:lnTo>
                <a:lnTo>
                  <a:pt x="2787" y="209"/>
                </a:lnTo>
                <a:lnTo>
                  <a:pt x="2775" y="211"/>
                </a:lnTo>
                <a:lnTo>
                  <a:pt x="2764" y="211"/>
                </a:lnTo>
                <a:lnTo>
                  <a:pt x="2750" y="213"/>
                </a:lnTo>
                <a:lnTo>
                  <a:pt x="2737" y="213"/>
                </a:lnTo>
                <a:lnTo>
                  <a:pt x="2721" y="215"/>
                </a:lnTo>
                <a:lnTo>
                  <a:pt x="2704" y="215"/>
                </a:lnTo>
                <a:lnTo>
                  <a:pt x="2689" y="217"/>
                </a:lnTo>
                <a:lnTo>
                  <a:pt x="2672" y="217"/>
                </a:lnTo>
                <a:lnTo>
                  <a:pt x="2652" y="219"/>
                </a:lnTo>
                <a:lnTo>
                  <a:pt x="2633" y="219"/>
                </a:lnTo>
                <a:lnTo>
                  <a:pt x="2612" y="220"/>
                </a:lnTo>
                <a:lnTo>
                  <a:pt x="2591" y="220"/>
                </a:lnTo>
                <a:lnTo>
                  <a:pt x="2570" y="220"/>
                </a:lnTo>
                <a:lnTo>
                  <a:pt x="2547" y="222"/>
                </a:lnTo>
                <a:lnTo>
                  <a:pt x="2524" y="222"/>
                </a:lnTo>
                <a:lnTo>
                  <a:pt x="2499" y="222"/>
                </a:lnTo>
                <a:lnTo>
                  <a:pt x="2474" y="222"/>
                </a:lnTo>
                <a:lnTo>
                  <a:pt x="2449" y="222"/>
                </a:lnTo>
                <a:lnTo>
                  <a:pt x="2422" y="222"/>
                </a:lnTo>
                <a:lnTo>
                  <a:pt x="2393" y="224"/>
                </a:lnTo>
                <a:lnTo>
                  <a:pt x="2366" y="224"/>
                </a:lnTo>
                <a:lnTo>
                  <a:pt x="2336" y="224"/>
                </a:lnTo>
                <a:lnTo>
                  <a:pt x="2307" y="224"/>
                </a:lnTo>
                <a:lnTo>
                  <a:pt x="2278" y="224"/>
                </a:lnTo>
                <a:lnTo>
                  <a:pt x="2249" y="224"/>
                </a:lnTo>
                <a:lnTo>
                  <a:pt x="2222" y="224"/>
                </a:lnTo>
                <a:lnTo>
                  <a:pt x="2196" y="224"/>
                </a:lnTo>
                <a:lnTo>
                  <a:pt x="2169" y="224"/>
                </a:lnTo>
                <a:lnTo>
                  <a:pt x="2144" y="224"/>
                </a:lnTo>
                <a:lnTo>
                  <a:pt x="2119" y="224"/>
                </a:lnTo>
                <a:lnTo>
                  <a:pt x="2094" y="224"/>
                </a:lnTo>
                <a:lnTo>
                  <a:pt x="2071" y="224"/>
                </a:lnTo>
                <a:lnTo>
                  <a:pt x="2048" y="224"/>
                </a:lnTo>
                <a:lnTo>
                  <a:pt x="2025" y="224"/>
                </a:lnTo>
                <a:lnTo>
                  <a:pt x="2002" y="224"/>
                </a:lnTo>
                <a:lnTo>
                  <a:pt x="1981" y="224"/>
                </a:lnTo>
                <a:lnTo>
                  <a:pt x="1959" y="224"/>
                </a:lnTo>
                <a:lnTo>
                  <a:pt x="1940" y="226"/>
                </a:lnTo>
                <a:lnTo>
                  <a:pt x="1921" y="226"/>
                </a:lnTo>
                <a:lnTo>
                  <a:pt x="1902" y="226"/>
                </a:lnTo>
                <a:lnTo>
                  <a:pt x="1883" y="226"/>
                </a:lnTo>
                <a:lnTo>
                  <a:pt x="1865" y="226"/>
                </a:lnTo>
                <a:lnTo>
                  <a:pt x="1848" y="228"/>
                </a:lnTo>
                <a:lnTo>
                  <a:pt x="1831" y="228"/>
                </a:lnTo>
                <a:lnTo>
                  <a:pt x="1814" y="228"/>
                </a:lnTo>
                <a:lnTo>
                  <a:pt x="1798" y="230"/>
                </a:lnTo>
                <a:lnTo>
                  <a:pt x="1783" y="230"/>
                </a:lnTo>
                <a:lnTo>
                  <a:pt x="1769" y="232"/>
                </a:lnTo>
                <a:lnTo>
                  <a:pt x="1756" y="232"/>
                </a:lnTo>
                <a:lnTo>
                  <a:pt x="1743" y="234"/>
                </a:lnTo>
                <a:lnTo>
                  <a:pt x="1729" y="234"/>
                </a:lnTo>
                <a:lnTo>
                  <a:pt x="1716" y="236"/>
                </a:lnTo>
                <a:lnTo>
                  <a:pt x="1704" y="238"/>
                </a:lnTo>
                <a:lnTo>
                  <a:pt x="1693" y="240"/>
                </a:lnTo>
                <a:lnTo>
                  <a:pt x="1681" y="240"/>
                </a:lnTo>
                <a:lnTo>
                  <a:pt x="1668" y="242"/>
                </a:lnTo>
                <a:lnTo>
                  <a:pt x="1652" y="243"/>
                </a:lnTo>
                <a:lnTo>
                  <a:pt x="1639" y="245"/>
                </a:lnTo>
                <a:lnTo>
                  <a:pt x="1622" y="247"/>
                </a:lnTo>
                <a:lnTo>
                  <a:pt x="1606" y="251"/>
                </a:lnTo>
                <a:lnTo>
                  <a:pt x="1589" y="253"/>
                </a:lnTo>
                <a:lnTo>
                  <a:pt x="1572" y="255"/>
                </a:lnTo>
                <a:lnTo>
                  <a:pt x="1553" y="257"/>
                </a:lnTo>
                <a:lnTo>
                  <a:pt x="1533" y="261"/>
                </a:lnTo>
                <a:lnTo>
                  <a:pt x="1514" y="263"/>
                </a:lnTo>
                <a:lnTo>
                  <a:pt x="1493" y="267"/>
                </a:lnTo>
                <a:lnTo>
                  <a:pt x="1472" y="268"/>
                </a:lnTo>
                <a:lnTo>
                  <a:pt x="1449" y="272"/>
                </a:lnTo>
                <a:lnTo>
                  <a:pt x="1426" y="276"/>
                </a:lnTo>
                <a:lnTo>
                  <a:pt x="1403" y="278"/>
                </a:lnTo>
                <a:lnTo>
                  <a:pt x="1378" y="282"/>
                </a:lnTo>
                <a:lnTo>
                  <a:pt x="1353" y="286"/>
                </a:lnTo>
                <a:lnTo>
                  <a:pt x="1326" y="290"/>
                </a:lnTo>
                <a:lnTo>
                  <a:pt x="1299" y="293"/>
                </a:lnTo>
                <a:lnTo>
                  <a:pt x="1272" y="297"/>
                </a:lnTo>
                <a:lnTo>
                  <a:pt x="1244" y="301"/>
                </a:lnTo>
                <a:lnTo>
                  <a:pt x="1215" y="305"/>
                </a:lnTo>
                <a:lnTo>
                  <a:pt x="1184" y="309"/>
                </a:lnTo>
                <a:lnTo>
                  <a:pt x="1153" y="313"/>
                </a:lnTo>
                <a:lnTo>
                  <a:pt x="1123" y="316"/>
                </a:lnTo>
                <a:lnTo>
                  <a:pt x="1090" y="320"/>
                </a:lnTo>
                <a:lnTo>
                  <a:pt x="1055" y="324"/>
                </a:lnTo>
                <a:lnTo>
                  <a:pt x="1023" y="328"/>
                </a:lnTo>
                <a:lnTo>
                  <a:pt x="988" y="332"/>
                </a:lnTo>
                <a:lnTo>
                  <a:pt x="952" y="336"/>
                </a:lnTo>
                <a:lnTo>
                  <a:pt x="917" y="339"/>
                </a:lnTo>
                <a:lnTo>
                  <a:pt x="883" y="343"/>
                </a:lnTo>
                <a:lnTo>
                  <a:pt x="848" y="347"/>
                </a:lnTo>
                <a:lnTo>
                  <a:pt x="815" y="351"/>
                </a:lnTo>
                <a:lnTo>
                  <a:pt x="785" y="355"/>
                </a:lnTo>
                <a:lnTo>
                  <a:pt x="754" y="359"/>
                </a:lnTo>
                <a:lnTo>
                  <a:pt x="723" y="361"/>
                </a:lnTo>
                <a:lnTo>
                  <a:pt x="695" y="364"/>
                </a:lnTo>
                <a:lnTo>
                  <a:pt x="668" y="368"/>
                </a:lnTo>
                <a:lnTo>
                  <a:pt x="641" y="370"/>
                </a:lnTo>
                <a:lnTo>
                  <a:pt x="616" y="374"/>
                </a:lnTo>
                <a:lnTo>
                  <a:pt x="591" y="376"/>
                </a:lnTo>
                <a:lnTo>
                  <a:pt x="568" y="380"/>
                </a:lnTo>
                <a:lnTo>
                  <a:pt x="545" y="382"/>
                </a:lnTo>
                <a:lnTo>
                  <a:pt x="524" y="384"/>
                </a:lnTo>
                <a:lnTo>
                  <a:pt x="503" y="387"/>
                </a:lnTo>
                <a:lnTo>
                  <a:pt x="483" y="389"/>
                </a:lnTo>
                <a:lnTo>
                  <a:pt x="464" y="391"/>
                </a:lnTo>
                <a:lnTo>
                  <a:pt x="447" y="393"/>
                </a:lnTo>
                <a:lnTo>
                  <a:pt x="430" y="395"/>
                </a:lnTo>
                <a:lnTo>
                  <a:pt x="414" y="397"/>
                </a:lnTo>
                <a:lnTo>
                  <a:pt x="399" y="399"/>
                </a:lnTo>
                <a:lnTo>
                  <a:pt x="386" y="399"/>
                </a:lnTo>
                <a:lnTo>
                  <a:pt x="372" y="401"/>
                </a:lnTo>
                <a:lnTo>
                  <a:pt x="361" y="403"/>
                </a:lnTo>
                <a:lnTo>
                  <a:pt x="351" y="403"/>
                </a:lnTo>
                <a:lnTo>
                  <a:pt x="339" y="405"/>
                </a:lnTo>
                <a:lnTo>
                  <a:pt x="332" y="405"/>
                </a:lnTo>
                <a:lnTo>
                  <a:pt x="324" y="405"/>
                </a:lnTo>
                <a:lnTo>
                  <a:pt x="316" y="405"/>
                </a:lnTo>
                <a:lnTo>
                  <a:pt x="311" y="405"/>
                </a:lnTo>
                <a:lnTo>
                  <a:pt x="307" y="407"/>
                </a:lnTo>
                <a:lnTo>
                  <a:pt x="288" y="405"/>
                </a:lnTo>
                <a:lnTo>
                  <a:pt x="268" y="403"/>
                </a:lnTo>
                <a:lnTo>
                  <a:pt x="247" y="399"/>
                </a:lnTo>
                <a:lnTo>
                  <a:pt x="238" y="397"/>
                </a:lnTo>
                <a:lnTo>
                  <a:pt x="226" y="393"/>
                </a:lnTo>
                <a:lnTo>
                  <a:pt x="215" y="389"/>
                </a:lnTo>
                <a:lnTo>
                  <a:pt x="201" y="386"/>
                </a:lnTo>
                <a:lnTo>
                  <a:pt x="190" y="382"/>
                </a:lnTo>
                <a:lnTo>
                  <a:pt x="176" y="376"/>
                </a:lnTo>
                <a:lnTo>
                  <a:pt x="163" y="370"/>
                </a:lnTo>
                <a:lnTo>
                  <a:pt x="149" y="364"/>
                </a:lnTo>
                <a:lnTo>
                  <a:pt x="136" y="357"/>
                </a:lnTo>
                <a:lnTo>
                  <a:pt x="123" y="349"/>
                </a:lnTo>
                <a:lnTo>
                  <a:pt x="107" y="341"/>
                </a:lnTo>
                <a:lnTo>
                  <a:pt x="96" y="334"/>
                </a:lnTo>
                <a:lnTo>
                  <a:pt x="82" y="328"/>
                </a:lnTo>
                <a:lnTo>
                  <a:pt x="71" y="320"/>
                </a:lnTo>
                <a:lnTo>
                  <a:pt x="59" y="314"/>
                </a:lnTo>
                <a:lnTo>
                  <a:pt x="50" y="309"/>
                </a:lnTo>
                <a:lnTo>
                  <a:pt x="40" y="303"/>
                </a:lnTo>
                <a:lnTo>
                  <a:pt x="32" y="297"/>
                </a:lnTo>
                <a:lnTo>
                  <a:pt x="25" y="291"/>
                </a:lnTo>
                <a:lnTo>
                  <a:pt x="17" y="288"/>
                </a:lnTo>
                <a:lnTo>
                  <a:pt x="11" y="282"/>
                </a:lnTo>
                <a:lnTo>
                  <a:pt x="7" y="278"/>
                </a:lnTo>
                <a:lnTo>
                  <a:pt x="4" y="274"/>
                </a:lnTo>
                <a:lnTo>
                  <a:pt x="2" y="272"/>
                </a:lnTo>
                <a:lnTo>
                  <a:pt x="0" y="268"/>
                </a:lnTo>
                <a:lnTo>
                  <a:pt x="0" y="267"/>
                </a:lnTo>
                <a:lnTo>
                  <a:pt x="0" y="263"/>
                </a:lnTo>
                <a:lnTo>
                  <a:pt x="2" y="261"/>
                </a:lnTo>
                <a:lnTo>
                  <a:pt x="6" y="259"/>
                </a:lnTo>
                <a:lnTo>
                  <a:pt x="9" y="257"/>
                </a:lnTo>
                <a:lnTo>
                  <a:pt x="17" y="255"/>
                </a:lnTo>
                <a:lnTo>
                  <a:pt x="25" y="255"/>
                </a:lnTo>
                <a:lnTo>
                  <a:pt x="32" y="253"/>
                </a:lnTo>
                <a:lnTo>
                  <a:pt x="44" y="253"/>
                </a:lnTo>
                <a:lnTo>
                  <a:pt x="55" y="253"/>
                </a:lnTo>
                <a:lnTo>
                  <a:pt x="67" y="251"/>
                </a:lnTo>
                <a:lnTo>
                  <a:pt x="80" y="251"/>
                </a:lnTo>
                <a:lnTo>
                  <a:pt x="96" y="251"/>
                </a:lnTo>
                <a:lnTo>
                  <a:pt x="113" y="251"/>
                </a:lnTo>
                <a:lnTo>
                  <a:pt x="130" y="251"/>
                </a:lnTo>
                <a:lnTo>
                  <a:pt x="149" y="251"/>
                </a:lnTo>
                <a:lnTo>
                  <a:pt x="169" y="251"/>
                </a:lnTo>
                <a:lnTo>
                  <a:pt x="178" y="251"/>
                </a:lnTo>
                <a:lnTo>
                  <a:pt x="190" y="251"/>
                </a:lnTo>
                <a:lnTo>
                  <a:pt x="201" y="251"/>
                </a:lnTo>
                <a:lnTo>
                  <a:pt x="213" y="251"/>
                </a:lnTo>
                <a:lnTo>
                  <a:pt x="226" y="249"/>
                </a:lnTo>
                <a:lnTo>
                  <a:pt x="240" y="249"/>
                </a:lnTo>
                <a:lnTo>
                  <a:pt x="255" y="249"/>
                </a:lnTo>
                <a:lnTo>
                  <a:pt x="268" y="249"/>
                </a:lnTo>
                <a:lnTo>
                  <a:pt x="284" y="247"/>
                </a:lnTo>
                <a:lnTo>
                  <a:pt x="301" y="247"/>
                </a:lnTo>
                <a:lnTo>
                  <a:pt x="316" y="245"/>
                </a:lnTo>
                <a:lnTo>
                  <a:pt x="334" y="245"/>
                </a:lnTo>
                <a:lnTo>
                  <a:pt x="353" y="243"/>
                </a:lnTo>
                <a:lnTo>
                  <a:pt x="370" y="242"/>
                </a:lnTo>
                <a:lnTo>
                  <a:pt x="389" y="242"/>
                </a:lnTo>
                <a:lnTo>
                  <a:pt x="411" y="240"/>
                </a:lnTo>
                <a:lnTo>
                  <a:pt x="430" y="238"/>
                </a:lnTo>
                <a:lnTo>
                  <a:pt x="451" y="236"/>
                </a:lnTo>
                <a:lnTo>
                  <a:pt x="474" y="234"/>
                </a:lnTo>
                <a:lnTo>
                  <a:pt x="495" y="232"/>
                </a:lnTo>
                <a:lnTo>
                  <a:pt x="518" y="230"/>
                </a:lnTo>
                <a:lnTo>
                  <a:pt x="543" y="228"/>
                </a:lnTo>
                <a:lnTo>
                  <a:pt x="566" y="224"/>
                </a:lnTo>
                <a:lnTo>
                  <a:pt x="591" y="222"/>
                </a:lnTo>
                <a:lnTo>
                  <a:pt x="618" y="219"/>
                </a:lnTo>
                <a:lnTo>
                  <a:pt x="643" y="217"/>
                </a:lnTo>
                <a:lnTo>
                  <a:pt x="670" y="213"/>
                </a:lnTo>
                <a:lnTo>
                  <a:pt x="698" y="209"/>
                </a:lnTo>
                <a:lnTo>
                  <a:pt x="725" y="207"/>
                </a:lnTo>
                <a:lnTo>
                  <a:pt x="754" y="203"/>
                </a:lnTo>
                <a:lnTo>
                  <a:pt x="783" y="199"/>
                </a:lnTo>
                <a:lnTo>
                  <a:pt x="814" y="195"/>
                </a:lnTo>
                <a:lnTo>
                  <a:pt x="934" y="178"/>
                </a:lnTo>
                <a:lnTo>
                  <a:pt x="1055" y="163"/>
                </a:lnTo>
                <a:lnTo>
                  <a:pt x="1174" y="148"/>
                </a:lnTo>
                <a:lnTo>
                  <a:pt x="1293" y="132"/>
                </a:lnTo>
                <a:lnTo>
                  <a:pt x="1410" y="117"/>
                </a:lnTo>
                <a:lnTo>
                  <a:pt x="1470" y="109"/>
                </a:lnTo>
                <a:lnTo>
                  <a:pt x="1526" y="101"/>
                </a:lnTo>
                <a:lnTo>
                  <a:pt x="1583" y="94"/>
                </a:lnTo>
                <a:lnTo>
                  <a:pt x="1641" y="84"/>
                </a:lnTo>
                <a:lnTo>
                  <a:pt x="1696" y="76"/>
                </a:lnTo>
                <a:lnTo>
                  <a:pt x="175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74"/>
          <p:cNvSpPr/>
          <p:nvPr/>
        </p:nvSpPr>
        <p:spPr>
          <a:xfrm>
            <a:off x="6408720" y="2698920"/>
            <a:ext cx="420840" cy="376200"/>
          </a:xfrm>
          <a:custGeom>
            <a:avLst/>
            <a:gdLst/>
            <a:ahLst/>
            <a:rect l="l" t="t" r="r" b="b"/>
            <a:pathLst>
              <a:path w="530" h="474">
                <a:moveTo>
                  <a:pt x="494" y="405"/>
                </a:moveTo>
                <a:lnTo>
                  <a:pt x="482" y="418"/>
                </a:lnTo>
                <a:lnTo>
                  <a:pt x="471" y="433"/>
                </a:lnTo>
                <a:lnTo>
                  <a:pt x="459" y="445"/>
                </a:lnTo>
                <a:lnTo>
                  <a:pt x="453" y="451"/>
                </a:lnTo>
                <a:lnTo>
                  <a:pt x="446" y="454"/>
                </a:lnTo>
                <a:lnTo>
                  <a:pt x="440" y="458"/>
                </a:lnTo>
                <a:lnTo>
                  <a:pt x="432" y="462"/>
                </a:lnTo>
                <a:lnTo>
                  <a:pt x="427" y="466"/>
                </a:lnTo>
                <a:lnTo>
                  <a:pt x="419" y="468"/>
                </a:lnTo>
                <a:lnTo>
                  <a:pt x="411" y="472"/>
                </a:lnTo>
                <a:lnTo>
                  <a:pt x="404" y="472"/>
                </a:lnTo>
                <a:lnTo>
                  <a:pt x="396" y="474"/>
                </a:lnTo>
                <a:lnTo>
                  <a:pt x="386" y="474"/>
                </a:lnTo>
                <a:lnTo>
                  <a:pt x="379" y="474"/>
                </a:lnTo>
                <a:lnTo>
                  <a:pt x="367" y="470"/>
                </a:lnTo>
                <a:lnTo>
                  <a:pt x="357" y="466"/>
                </a:lnTo>
                <a:lnTo>
                  <a:pt x="346" y="460"/>
                </a:lnTo>
                <a:lnTo>
                  <a:pt x="334" y="453"/>
                </a:lnTo>
                <a:lnTo>
                  <a:pt x="321" y="443"/>
                </a:lnTo>
                <a:lnTo>
                  <a:pt x="308" y="433"/>
                </a:lnTo>
                <a:lnTo>
                  <a:pt x="294" y="420"/>
                </a:lnTo>
                <a:lnTo>
                  <a:pt x="279" y="405"/>
                </a:lnTo>
                <a:lnTo>
                  <a:pt x="263" y="389"/>
                </a:lnTo>
                <a:lnTo>
                  <a:pt x="248" y="370"/>
                </a:lnTo>
                <a:lnTo>
                  <a:pt x="231" y="351"/>
                </a:lnTo>
                <a:lnTo>
                  <a:pt x="221" y="339"/>
                </a:lnTo>
                <a:lnTo>
                  <a:pt x="214" y="328"/>
                </a:lnTo>
                <a:lnTo>
                  <a:pt x="204" y="316"/>
                </a:lnTo>
                <a:lnTo>
                  <a:pt x="194" y="303"/>
                </a:lnTo>
                <a:lnTo>
                  <a:pt x="185" y="291"/>
                </a:lnTo>
                <a:lnTo>
                  <a:pt x="175" y="278"/>
                </a:lnTo>
                <a:lnTo>
                  <a:pt x="166" y="264"/>
                </a:lnTo>
                <a:lnTo>
                  <a:pt x="156" y="249"/>
                </a:lnTo>
                <a:lnTo>
                  <a:pt x="137" y="224"/>
                </a:lnTo>
                <a:lnTo>
                  <a:pt x="119" y="199"/>
                </a:lnTo>
                <a:lnTo>
                  <a:pt x="102" y="176"/>
                </a:lnTo>
                <a:lnTo>
                  <a:pt x="85" y="155"/>
                </a:lnTo>
                <a:lnTo>
                  <a:pt x="71" y="134"/>
                </a:lnTo>
                <a:lnTo>
                  <a:pt x="56" y="115"/>
                </a:lnTo>
                <a:lnTo>
                  <a:pt x="45" y="97"/>
                </a:lnTo>
                <a:lnTo>
                  <a:pt x="33" y="82"/>
                </a:lnTo>
                <a:lnTo>
                  <a:pt x="25" y="69"/>
                </a:lnTo>
                <a:lnTo>
                  <a:pt x="16" y="55"/>
                </a:lnTo>
                <a:lnTo>
                  <a:pt x="10" y="44"/>
                </a:lnTo>
                <a:lnTo>
                  <a:pt x="4" y="34"/>
                </a:lnTo>
                <a:lnTo>
                  <a:pt x="2" y="26"/>
                </a:lnTo>
                <a:lnTo>
                  <a:pt x="0" y="19"/>
                </a:lnTo>
                <a:lnTo>
                  <a:pt x="0" y="15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8" y="5"/>
                </a:lnTo>
                <a:lnTo>
                  <a:pt x="12" y="3"/>
                </a:lnTo>
                <a:lnTo>
                  <a:pt x="16" y="2"/>
                </a:lnTo>
                <a:lnTo>
                  <a:pt x="23" y="2"/>
                </a:lnTo>
                <a:lnTo>
                  <a:pt x="31" y="0"/>
                </a:lnTo>
                <a:lnTo>
                  <a:pt x="39" y="0"/>
                </a:lnTo>
                <a:lnTo>
                  <a:pt x="48" y="0"/>
                </a:lnTo>
                <a:lnTo>
                  <a:pt x="60" y="2"/>
                </a:lnTo>
                <a:lnTo>
                  <a:pt x="73" y="2"/>
                </a:lnTo>
                <a:lnTo>
                  <a:pt x="87" y="3"/>
                </a:lnTo>
                <a:lnTo>
                  <a:pt x="102" y="5"/>
                </a:lnTo>
                <a:lnTo>
                  <a:pt x="119" y="7"/>
                </a:lnTo>
                <a:lnTo>
                  <a:pt x="137" y="9"/>
                </a:lnTo>
                <a:lnTo>
                  <a:pt x="156" y="11"/>
                </a:lnTo>
                <a:lnTo>
                  <a:pt x="177" y="13"/>
                </a:lnTo>
                <a:lnTo>
                  <a:pt x="196" y="17"/>
                </a:lnTo>
                <a:lnTo>
                  <a:pt x="214" y="21"/>
                </a:lnTo>
                <a:lnTo>
                  <a:pt x="231" y="25"/>
                </a:lnTo>
                <a:lnTo>
                  <a:pt x="248" y="28"/>
                </a:lnTo>
                <a:lnTo>
                  <a:pt x="265" y="32"/>
                </a:lnTo>
                <a:lnTo>
                  <a:pt x="281" y="38"/>
                </a:lnTo>
                <a:lnTo>
                  <a:pt x="296" y="42"/>
                </a:lnTo>
                <a:lnTo>
                  <a:pt x="311" y="48"/>
                </a:lnTo>
                <a:lnTo>
                  <a:pt x="327" y="53"/>
                </a:lnTo>
                <a:lnTo>
                  <a:pt x="340" y="59"/>
                </a:lnTo>
                <a:lnTo>
                  <a:pt x="354" y="67"/>
                </a:lnTo>
                <a:lnTo>
                  <a:pt x="379" y="80"/>
                </a:lnTo>
                <a:lnTo>
                  <a:pt x="402" y="96"/>
                </a:lnTo>
                <a:lnTo>
                  <a:pt x="425" y="111"/>
                </a:lnTo>
                <a:lnTo>
                  <a:pt x="446" y="128"/>
                </a:lnTo>
                <a:lnTo>
                  <a:pt x="455" y="138"/>
                </a:lnTo>
                <a:lnTo>
                  <a:pt x="463" y="147"/>
                </a:lnTo>
                <a:lnTo>
                  <a:pt x="473" y="157"/>
                </a:lnTo>
                <a:lnTo>
                  <a:pt x="480" y="165"/>
                </a:lnTo>
                <a:lnTo>
                  <a:pt x="488" y="174"/>
                </a:lnTo>
                <a:lnTo>
                  <a:pt x="496" y="184"/>
                </a:lnTo>
                <a:lnTo>
                  <a:pt x="501" y="193"/>
                </a:lnTo>
                <a:lnTo>
                  <a:pt x="507" y="201"/>
                </a:lnTo>
                <a:lnTo>
                  <a:pt x="513" y="211"/>
                </a:lnTo>
                <a:lnTo>
                  <a:pt x="519" y="218"/>
                </a:lnTo>
                <a:lnTo>
                  <a:pt x="523" y="228"/>
                </a:lnTo>
                <a:lnTo>
                  <a:pt x="524" y="236"/>
                </a:lnTo>
                <a:lnTo>
                  <a:pt x="528" y="245"/>
                </a:lnTo>
                <a:lnTo>
                  <a:pt x="530" y="257"/>
                </a:lnTo>
                <a:lnTo>
                  <a:pt x="530" y="266"/>
                </a:lnTo>
                <a:lnTo>
                  <a:pt x="530" y="278"/>
                </a:lnTo>
                <a:lnTo>
                  <a:pt x="530" y="288"/>
                </a:lnTo>
                <a:lnTo>
                  <a:pt x="530" y="299"/>
                </a:lnTo>
                <a:lnTo>
                  <a:pt x="528" y="309"/>
                </a:lnTo>
                <a:lnTo>
                  <a:pt x="526" y="320"/>
                </a:lnTo>
                <a:lnTo>
                  <a:pt x="524" y="330"/>
                </a:lnTo>
                <a:lnTo>
                  <a:pt x="521" y="341"/>
                </a:lnTo>
                <a:lnTo>
                  <a:pt x="519" y="351"/>
                </a:lnTo>
                <a:lnTo>
                  <a:pt x="515" y="362"/>
                </a:lnTo>
                <a:lnTo>
                  <a:pt x="505" y="383"/>
                </a:lnTo>
                <a:lnTo>
                  <a:pt x="494" y="4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6:36:33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