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gif" ContentType="image/gif"/>
  <Override PartName="/ppt/media/image14.png" ContentType="image/png"/>
  <Override PartName="/ppt/media/image9.png" ContentType="image/png"/>
  <Override PartName="/ppt/media/image13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AB11C5-431B-4B1D-B4DA-E6385A60522B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1366A5-864D-4DDD-A9DE-9FB02469EFEB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0000"/>
                </a:solidFill>
                <a:latin typeface="Calibri"/>
              </a:rPr>
              <a:t>操作说明：点击生字格中的字，会出现笔顺演示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7C3863-2072-4520-A61A-84D7BDA975E3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0000"/>
                </a:solidFill>
                <a:latin typeface="Calibri"/>
              </a:rPr>
              <a:t>操作说明：点击生字格中的字，会出现笔顺演示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C140F4-9B88-46AF-92F8-4658EE69C2B1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0000"/>
                </a:solidFill>
                <a:latin typeface="Calibri"/>
              </a:rPr>
              <a:t>操作说明：点击生字格中的字，会出现笔顺演示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39B3EA-7EEB-4BD7-90F0-9D59B072BF56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0000"/>
                </a:solidFill>
                <a:latin typeface="Calibri"/>
              </a:rPr>
              <a:t>操作说明：点击生字格中的字，会出现笔顺演示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88A6E4-9895-4B1E-AABC-44F4B2711AEC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0000"/>
                </a:solidFill>
                <a:latin typeface="Calibri"/>
              </a:rPr>
              <a:t>操作说明：点击生字格中的字，会出现笔顺演示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BAAD92-DCFC-4C6E-9095-EEA62ECB00AD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0000"/>
                </a:solidFill>
                <a:latin typeface="Calibri"/>
              </a:rPr>
              <a:t>操作说明：点击生字格中的字，会出现笔顺演示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C48E62-449C-42A1-8908-6F3BDA745378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0000"/>
                </a:solidFill>
                <a:latin typeface="Calibri"/>
              </a:rPr>
              <a:t>操作说明：点击生字格中的字，会出现笔顺演示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CE6595-2EB5-40A0-9548-BF6DECA8B3A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902D-5577-4D77-A3DF-7F7BD18EC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1B45-720B-4DF9-8E57-DD00FEAE4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5DA3-B510-4097-9B3C-17583240D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86AC-A4F0-44F8-9157-B6E0F7DB9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7106-56C9-4D6F-9B4B-1E8F05246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1C7E-F1C7-46A2-BD09-A94B95F7E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9E20-3C31-416B-AAAC-04D426DD7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A717-CE37-4EE9-9CD7-CFABFAB2B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528E-30FF-469F-B338-79AC956D9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925C-7379-4884-B097-DBDE08BC8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6084-3F06-4A8E-897B-C8AB81949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41E5-63F8-42FF-9F64-314EC015B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548694-3014-45F4-B79C-FF48E828CF8D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gif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3" descr=""/>
          <p:cNvPicPr/>
          <p:nvPr/>
        </p:nvPicPr>
        <p:blipFill>
          <a:blip r:embed="rId1"/>
          <a:stretch/>
        </p:blipFill>
        <p:spPr>
          <a:xfrm>
            <a:off x="2938320" y="2206800"/>
            <a:ext cx="3170520" cy="3103560"/>
          </a:xfrm>
          <a:prstGeom prst="rect">
            <a:avLst/>
          </a:prstGeom>
          <a:ln w="0">
            <a:noFill/>
          </a:ln>
        </p:spPr>
      </p:pic>
      <p:sp>
        <p:nvSpPr>
          <p:cNvPr id="49" name="圆角矩形 66"/>
          <p:cNvSpPr/>
          <p:nvPr/>
        </p:nvSpPr>
        <p:spPr>
          <a:xfrm>
            <a:off x="958680" y="1886040"/>
            <a:ext cx="7226640" cy="135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69434"/>
              </a:gs>
              <a:gs pos="100000">
                <a:srgbClr val="89c270"/>
              </a:gs>
            </a:gsLst>
            <a:lin ang="16200000"/>
          </a:gradFill>
          <a:ln w="9360">
            <a:solidFill>
              <a:srgbClr val="539f36"/>
            </a:solidFill>
            <a:miter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9" descr="구름"/>
          <p:cNvPicPr/>
          <p:nvPr/>
        </p:nvPicPr>
        <p:blipFill>
          <a:blip r:embed="rId2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0" descr="구름"/>
          <p:cNvPicPr/>
          <p:nvPr/>
        </p:nvPicPr>
        <p:blipFill>
          <a:blip r:embed="rId3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grpSp>
        <p:nvGrpSpPr>
          <p:cNvPr id="52" name="组合 13322"/>
          <p:cNvGrpSpPr/>
          <p:nvPr/>
        </p:nvGrpSpPr>
        <p:grpSpPr>
          <a:xfrm>
            <a:off x="1897200" y="5640480"/>
            <a:ext cx="5349600" cy="717480"/>
            <a:chOff x="1897200" y="5640480"/>
            <a:chExt cx="5349600" cy="717480"/>
          </a:xfrm>
        </p:grpSpPr>
        <p:pic>
          <p:nvPicPr>
            <p:cNvPr id="53" name="任意多边形 6" descr=""/>
            <p:cNvPicPr/>
            <p:nvPr/>
          </p:nvPicPr>
          <p:blipFill>
            <a:blip r:embed="rId4"/>
            <a:stretch/>
          </p:blipFill>
          <p:spPr>
            <a:xfrm>
              <a:off x="1897200" y="5640480"/>
              <a:ext cx="1874880" cy="7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任意多边形 8" descr=""/>
            <p:cNvPicPr/>
            <p:nvPr/>
          </p:nvPicPr>
          <p:blipFill>
            <a:blip r:embed="rId5"/>
            <a:stretch/>
          </p:blipFill>
          <p:spPr>
            <a:xfrm>
              <a:off x="3625560" y="5640480"/>
              <a:ext cx="1874880" cy="7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任意多边形 19" descr=""/>
            <p:cNvPicPr/>
            <p:nvPr/>
          </p:nvPicPr>
          <p:blipFill>
            <a:blip r:embed="rId6"/>
            <a:stretch/>
          </p:blipFill>
          <p:spPr>
            <a:xfrm>
              <a:off x="5371920" y="5640480"/>
              <a:ext cx="1874880" cy="71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流程图: 摘录 40"/>
            <p:cNvSpPr/>
            <p:nvPr/>
          </p:nvSpPr>
          <p:spPr>
            <a:xfrm rot="5400000">
              <a:off x="3621240" y="5871240"/>
              <a:ext cx="151920" cy="21348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流程图: 摘录 41"/>
            <p:cNvSpPr/>
            <p:nvPr/>
          </p:nvSpPr>
          <p:spPr>
            <a:xfrm rot="5400000">
              <a:off x="5369760" y="5871240"/>
              <a:ext cx="151920" cy="21348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8" name="组合 13336"/>
          <p:cNvGrpSpPr/>
          <p:nvPr/>
        </p:nvGrpSpPr>
        <p:grpSpPr>
          <a:xfrm>
            <a:off x="3086280" y="3159000"/>
            <a:ext cx="3186000" cy="1150920"/>
            <a:chOff x="3086280" y="3159000"/>
            <a:chExt cx="3186000" cy="1150920"/>
          </a:xfrm>
        </p:grpSpPr>
        <p:sp>
          <p:nvSpPr>
            <p:cNvPr id="59" name="矩形 13324"/>
            <p:cNvSpPr/>
            <p:nvPr/>
          </p:nvSpPr>
          <p:spPr>
            <a:xfrm>
              <a:off x="3307680" y="3159000"/>
              <a:ext cx="2729520" cy="1104480"/>
            </a:xfrm>
            <a:prstGeom prst="rect">
              <a:avLst/>
            </a:prstGeom>
            <a:solidFill>
              <a:srgbClr val="ffffff">
                <a:alpha val="33000"/>
              </a:srgbClr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0" name="图片 46" descr="枫叶副本"/>
            <p:cNvPicPr/>
            <p:nvPr/>
          </p:nvPicPr>
          <p:blipFill>
            <a:blip r:embed="rId7"/>
            <a:stretch/>
          </p:blipFill>
          <p:spPr>
            <a:xfrm>
              <a:off x="3989160" y="3244320"/>
              <a:ext cx="911160" cy="97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矩形 47" descr=""/>
            <p:cNvPicPr/>
            <p:nvPr/>
          </p:nvPicPr>
          <p:blipFill>
            <a:blip r:embed="rId8"/>
            <a:stretch/>
          </p:blipFill>
          <p:spPr>
            <a:xfrm>
              <a:off x="3086280" y="3204360"/>
              <a:ext cx="3186000" cy="1105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2" name="组合 13338"/>
          <p:cNvGrpSpPr/>
          <p:nvPr/>
        </p:nvGrpSpPr>
        <p:grpSpPr>
          <a:xfrm>
            <a:off x="1184400" y="905040"/>
            <a:ext cx="6800760" cy="1180800"/>
            <a:chOff x="1184400" y="905040"/>
            <a:chExt cx="6800760" cy="1180800"/>
          </a:xfrm>
        </p:grpSpPr>
        <p:sp>
          <p:nvSpPr>
            <p:cNvPr id="63" name="Text Box 2"/>
            <p:cNvSpPr/>
            <p:nvPr/>
          </p:nvSpPr>
          <p:spPr>
            <a:xfrm>
              <a:off x="2443320" y="1011240"/>
              <a:ext cx="55418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6000" spc="-1" strike="noStrike">
                  <a:solidFill>
                    <a:srgbClr val="cc0000"/>
                  </a:solidFill>
                  <a:latin typeface="Calibri"/>
                  <a:ea typeface="黑体"/>
                </a:rPr>
                <a:t>科学家阿基米德</a:t>
              </a:r>
              <a:endParaRPr b="0" lang="en-US" sz="6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4" name="组合 13337"/>
            <p:cNvGrpSpPr/>
            <p:nvPr/>
          </p:nvGrpSpPr>
          <p:grpSpPr>
            <a:xfrm>
              <a:off x="1184400" y="905040"/>
              <a:ext cx="1181160" cy="1180800"/>
              <a:chOff x="1184400" y="905040"/>
              <a:chExt cx="1181160" cy="1180800"/>
            </a:xfrm>
          </p:grpSpPr>
          <p:sp>
            <p:nvSpPr>
              <p:cNvPr id="65" name="AutoShape 11"/>
              <p:cNvSpPr/>
              <p:nvPr/>
            </p:nvSpPr>
            <p:spPr>
              <a:xfrm>
                <a:off x="1184400" y="905040"/>
                <a:ext cx="1181160" cy="1180800"/>
              </a:xfrm>
              <a:prstGeom prst="diamond">
                <a:avLst/>
              </a:prstGeom>
              <a:solidFill>
                <a:srgbClr val="236b2a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153753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" name="文本框 13"/>
              <p:cNvSpPr/>
              <p:nvPr/>
            </p:nvSpPr>
            <p:spPr>
              <a:xfrm>
                <a:off x="1407600" y="984960"/>
                <a:ext cx="6379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6000" spc="-1" strike="noStrike">
                    <a:solidFill>
                      <a:srgbClr val="ffffff"/>
                    </a:solidFill>
                    <a:latin typeface="方正大黑简体"/>
                    <a:ea typeface="方正大黑简体"/>
                  </a:rPr>
                  <a:t>6</a:t>
                </a:r>
                <a:endParaRPr b="0" lang="en-US" sz="6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2" name=""/>
          <p:cNvGraphicFramePr/>
          <p:nvPr/>
        </p:nvGraphicFramePr>
        <p:xfrm>
          <a:off x="5114880" y="238284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3" name="矩形 4"/>
          <p:cNvSpPr/>
          <p:nvPr/>
        </p:nvSpPr>
        <p:spPr>
          <a:xfrm>
            <a:off x="2218680" y="2548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残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4" name="组合 3"/>
          <p:cNvGrpSpPr/>
          <p:nvPr/>
        </p:nvGrpSpPr>
        <p:grpSpPr>
          <a:xfrm>
            <a:off x="1400040" y="3975120"/>
            <a:ext cx="2840040" cy="1572480"/>
            <a:chOff x="1400040" y="3975120"/>
            <a:chExt cx="2840040" cy="1572480"/>
          </a:xfrm>
        </p:grpSpPr>
        <p:pic>
          <p:nvPicPr>
            <p:cNvPr id="205" name="图示 4" descr=""/>
            <p:cNvPicPr/>
            <p:nvPr/>
          </p:nvPicPr>
          <p:blipFill>
            <a:blip r:embed="rId1"/>
            <a:stretch/>
          </p:blipFill>
          <p:spPr>
            <a:xfrm>
              <a:off x="1400040" y="3975120"/>
              <a:ext cx="2840040" cy="157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矩形 2"/>
            <p:cNvSpPr/>
            <p:nvPr/>
          </p:nvSpPr>
          <p:spPr>
            <a:xfrm>
              <a:off x="1444680" y="4588200"/>
              <a:ext cx="2766600" cy="551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“</a:t>
              </a: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条”横撇与捺相协调，点左右呼应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7" name="矩形 2"/>
          <p:cNvSpPr/>
          <p:nvPr/>
        </p:nvSpPr>
        <p:spPr>
          <a:xfrm>
            <a:off x="2192400" y="1825560"/>
            <a:ext cx="1179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cá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Freeform 69"/>
          <p:cNvSpPr/>
          <p:nvPr/>
        </p:nvSpPr>
        <p:spPr>
          <a:xfrm>
            <a:off x="5738760" y="3191040"/>
            <a:ext cx="793800" cy="242640"/>
          </a:xfrm>
          <a:custGeom>
            <a:avLst/>
            <a:gdLst/>
            <a:ahLst/>
            <a:rect l="l" t="t" r="r" b="b"/>
            <a:pathLst>
              <a:path w="1500" h="459">
                <a:moveTo>
                  <a:pt x="1182" y="8"/>
                </a:moveTo>
                <a:lnTo>
                  <a:pt x="1192" y="6"/>
                </a:lnTo>
                <a:lnTo>
                  <a:pt x="1202" y="3"/>
                </a:lnTo>
                <a:lnTo>
                  <a:pt x="1214" y="1"/>
                </a:lnTo>
                <a:lnTo>
                  <a:pt x="1224" y="0"/>
                </a:lnTo>
                <a:lnTo>
                  <a:pt x="1236" y="0"/>
                </a:lnTo>
                <a:lnTo>
                  <a:pt x="1247" y="1"/>
                </a:lnTo>
                <a:lnTo>
                  <a:pt x="1259" y="1"/>
                </a:lnTo>
                <a:lnTo>
                  <a:pt x="1270" y="3"/>
                </a:lnTo>
                <a:lnTo>
                  <a:pt x="1283" y="6"/>
                </a:lnTo>
                <a:lnTo>
                  <a:pt x="1296" y="7"/>
                </a:lnTo>
                <a:lnTo>
                  <a:pt x="1309" y="10"/>
                </a:lnTo>
                <a:lnTo>
                  <a:pt x="1323" y="13"/>
                </a:lnTo>
                <a:lnTo>
                  <a:pt x="1339" y="17"/>
                </a:lnTo>
                <a:lnTo>
                  <a:pt x="1354" y="20"/>
                </a:lnTo>
                <a:lnTo>
                  <a:pt x="1371" y="24"/>
                </a:lnTo>
                <a:lnTo>
                  <a:pt x="1388" y="27"/>
                </a:lnTo>
                <a:lnTo>
                  <a:pt x="1401" y="34"/>
                </a:lnTo>
                <a:lnTo>
                  <a:pt x="1414" y="42"/>
                </a:lnTo>
                <a:lnTo>
                  <a:pt x="1426" y="49"/>
                </a:lnTo>
                <a:lnTo>
                  <a:pt x="1437" y="56"/>
                </a:lnTo>
                <a:lnTo>
                  <a:pt x="1447" y="63"/>
                </a:lnTo>
                <a:lnTo>
                  <a:pt x="1456" y="70"/>
                </a:lnTo>
                <a:lnTo>
                  <a:pt x="1464" y="78"/>
                </a:lnTo>
                <a:lnTo>
                  <a:pt x="1472" y="85"/>
                </a:lnTo>
                <a:lnTo>
                  <a:pt x="1479" y="92"/>
                </a:lnTo>
                <a:lnTo>
                  <a:pt x="1485" y="98"/>
                </a:lnTo>
                <a:lnTo>
                  <a:pt x="1489" y="105"/>
                </a:lnTo>
                <a:lnTo>
                  <a:pt x="1493" y="112"/>
                </a:lnTo>
                <a:lnTo>
                  <a:pt x="1496" y="119"/>
                </a:lnTo>
                <a:lnTo>
                  <a:pt x="1499" y="126"/>
                </a:lnTo>
                <a:lnTo>
                  <a:pt x="1500" y="134"/>
                </a:lnTo>
                <a:lnTo>
                  <a:pt x="1500" y="141"/>
                </a:lnTo>
                <a:lnTo>
                  <a:pt x="1500" y="145"/>
                </a:lnTo>
                <a:lnTo>
                  <a:pt x="1498" y="148"/>
                </a:lnTo>
                <a:lnTo>
                  <a:pt x="1496" y="152"/>
                </a:lnTo>
                <a:lnTo>
                  <a:pt x="1492" y="157"/>
                </a:lnTo>
                <a:lnTo>
                  <a:pt x="1486" y="161"/>
                </a:lnTo>
                <a:lnTo>
                  <a:pt x="1480" y="165"/>
                </a:lnTo>
                <a:lnTo>
                  <a:pt x="1473" y="171"/>
                </a:lnTo>
                <a:lnTo>
                  <a:pt x="1466" y="175"/>
                </a:lnTo>
                <a:lnTo>
                  <a:pt x="1456" y="181"/>
                </a:lnTo>
                <a:lnTo>
                  <a:pt x="1446" y="187"/>
                </a:lnTo>
                <a:lnTo>
                  <a:pt x="1434" y="193"/>
                </a:lnTo>
                <a:lnTo>
                  <a:pt x="1421" y="198"/>
                </a:lnTo>
                <a:lnTo>
                  <a:pt x="1407" y="204"/>
                </a:lnTo>
                <a:lnTo>
                  <a:pt x="1392" y="210"/>
                </a:lnTo>
                <a:lnTo>
                  <a:pt x="1377" y="217"/>
                </a:lnTo>
                <a:lnTo>
                  <a:pt x="1359" y="223"/>
                </a:lnTo>
                <a:lnTo>
                  <a:pt x="1342" y="230"/>
                </a:lnTo>
                <a:lnTo>
                  <a:pt x="1322" y="236"/>
                </a:lnTo>
                <a:lnTo>
                  <a:pt x="1302" y="243"/>
                </a:lnTo>
                <a:lnTo>
                  <a:pt x="1280" y="250"/>
                </a:lnTo>
                <a:lnTo>
                  <a:pt x="1259" y="258"/>
                </a:lnTo>
                <a:lnTo>
                  <a:pt x="1234" y="266"/>
                </a:lnTo>
                <a:lnTo>
                  <a:pt x="1210" y="273"/>
                </a:lnTo>
                <a:lnTo>
                  <a:pt x="1184" y="281"/>
                </a:lnTo>
                <a:lnTo>
                  <a:pt x="1156" y="289"/>
                </a:lnTo>
                <a:lnTo>
                  <a:pt x="1129" y="298"/>
                </a:lnTo>
                <a:lnTo>
                  <a:pt x="1100" y="305"/>
                </a:lnTo>
                <a:lnTo>
                  <a:pt x="1070" y="314"/>
                </a:lnTo>
                <a:lnTo>
                  <a:pt x="1038" y="322"/>
                </a:lnTo>
                <a:lnTo>
                  <a:pt x="1005" y="331"/>
                </a:lnTo>
                <a:lnTo>
                  <a:pt x="972" y="340"/>
                </a:lnTo>
                <a:lnTo>
                  <a:pt x="938" y="350"/>
                </a:lnTo>
                <a:lnTo>
                  <a:pt x="902" y="358"/>
                </a:lnTo>
                <a:lnTo>
                  <a:pt x="866" y="367"/>
                </a:lnTo>
                <a:lnTo>
                  <a:pt x="831" y="374"/>
                </a:lnTo>
                <a:lnTo>
                  <a:pt x="796" y="383"/>
                </a:lnTo>
                <a:lnTo>
                  <a:pt x="763" y="390"/>
                </a:lnTo>
                <a:lnTo>
                  <a:pt x="732" y="397"/>
                </a:lnTo>
                <a:lnTo>
                  <a:pt x="700" y="403"/>
                </a:lnTo>
                <a:lnTo>
                  <a:pt x="670" y="410"/>
                </a:lnTo>
                <a:lnTo>
                  <a:pt x="641" y="416"/>
                </a:lnTo>
                <a:lnTo>
                  <a:pt x="612" y="422"/>
                </a:lnTo>
                <a:lnTo>
                  <a:pt x="583" y="426"/>
                </a:lnTo>
                <a:lnTo>
                  <a:pt x="556" y="432"/>
                </a:lnTo>
                <a:lnTo>
                  <a:pt x="530" y="436"/>
                </a:lnTo>
                <a:lnTo>
                  <a:pt x="506" y="440"/>
                </a:lnTo>
                <a:lnTo>
                  <a:pt x="480" y="443"/>
                </a:lnTo>
                <a:lnTo>
                  <a:pt x="457" y="448"/>
                </a:lnTo>
                <a:lnTo>
                  <a:pt x="434" y="450"/>
                </a:lnTo>
                <a:lnTo>
                  <a:pt x="412" y="452"/>
                </a:lnTo>
                <a:lnTo>
                  <a:pt x="390" y="455"/>
                </a:lnTo>
                <a:lnTo>
                  <a:pt x="370" y="456"/>
                </a:lnTo>
                <a:lnTo>
                  <a:pt x="350" y="458"/>
                </a:lnTo>
                <a:lnTo>
                  <a:pt x="331" y="458"/>
                </a:lnTo>
                <a:lnTo>
                  <a:pt x="313" y="459"/>
                </a:lnTo>
                <a:lnTo>
                  <a:pt x="295" y="459"/>
                </a:lnTo>
                <a:lnTo>
                  <a:pt x="280" y="459"/>
                </a:lnTo>
                <a:lnTo>
                  <a:pt x="264" y="458"/>
                </a:lnTo>
                <a:lnTo>
                  <a:pt x="249" y="456"/>
                </a:lnTo>
                <a:lnTo>
                  <a:pt x="235" y="455"/>
                </a:lnTo>
                <a:lnTo>
                  <a:pt x="222" y="453"/>
                </a:lnTo>
                <a:lnTo>
                  <a:pt x="209" y="450"/>
                </a:lnTo>
                <a:lnTo>
                  <a:pt x="198" y="448"/>
                </a:lnTo>
                <a:lnTo>
                  <a:pt x="188" y="445"/>
                </a:lnTo>
                <a:lnTo>
                  <a:pt x="175" y="440"/>
                </a:lnTo>
                <a:lnTo>
                  <a:pt x="163" y="436"/>
                </a:lnTo>
                <a:lnTo>
                  <a:pt x="152" y="433"/>
                </a:lnTo>
                <a:lnTo>
                  <a:pt x="141" y="429"/>
                </a:lnTo>
                <a:lnTo>
                  <a:pt x="131" y="426"/>
                </a:lnTo>
                <a:lnTo>
                  <a:pt x="121" y="423"/>
                </a:lnTo>
                <a:lnTo>
                  <a:pt x="111" y="419"/>
                </a:lnTo>
                <a:lnTo>
                  <a:pt x="103" y="416"/>
                </a:lnTo>
                <a:lnTo>
                  <a:pt x="94" y="412"/>
                </a:lnTo>
                <a:lnTo>
                  <a:pt x="85" y="409"/>
                </a:lnTo>
                <a:lnTo>
                  <a:pt x="78" y="406"/>
                </a:lnTo>
                <a:lnTo>
                  <a:pt x="69" y="401"/>
                </a:lnTo>
                <a:lnTo>
                  <a:pt x="62" y="399"/>
                </a:lnTo>
                <a:lnTo>
                  <a:pt x="57" y="396"/>
                </a:lnTo>
                <a:lnTo>
                  <a:pt x="49" y="393"/>
                </a:lnTo>
                <a:lnTo>
                  <a:pt x="44" y="389"/>
                </a:lnTo>
                <a:lnTo>
                  <a:pt x="39" y="386"/>
                </a:lnTo>
                <a:lnTo>
                  <a:pt x="33" y="383"/>
                </a:lnTo>
                <a:lnTo>
                  <a:pt x="29" y="380"/>
                </a:lnTo>
                <a:lnTo>
                  <a:pt x="25" y="377"/>
                </a:lnTo>
                <a:lnTo>
                  <a:pt x="21" y="374"/>
                </a:lnTo>
                <a:lnTo>
                  <a:pt x="16" y="371"/>
                </a:lnTo>
                <a:lnTo>
                  <a:pt x="13" y="370"/>
                </a:lnTo>
                <a:lnTo>
                  <a:pt x="10" y="367"/>
                </a:lnTo>
                <a:lnTo>
                  <a:pt x="6" y="361"/>
                </a:lnTo>
                <a:lnTo>
                  <a:pt x="2" y="357"/>
                </a:lnTo>
                <a:lnTo>
                  <a:pt x="0" y="353"/>
                </a:lnTo>
                <a:lnTo>
                  <a:pt x="0" y="350"/>
                </a:lnTo>
                <a:lnTo>
                  <a:pt x="9" y="348"/>
                </a:lnTo>
                <a:lnTo>
                  <a:pt x="18" y="348"/>
                </a:lnTo>
                <a:lnTo>
                  <a:pt x="29" y="348"/>
                </a:lnTo>
                <a:lnTo>
                  <a:pt x="39" y="347"/>
                </a:lnTo>
                <a:lnTo>
                  <a:pt x="51" y="347"/>
                </a:lnTo>
                <a:lnTo>
                  <a:pt x="62" y="345"/>
                </a:lnTo>
                <a:lnTo>
                  <a:pt x="75" y="344"/>
                </a:lnTo>
                <a:lnTo>
                  <a:pt x="88" y="342"/>
                </a:lnTo>
                <a:lnTo>
                  <a:pt x="101" y="340"/>
                </a:lnTo>
                <a:lnTo>
                  <a:pt x="116" y="338"/>
                </a:lnTo>
                <a:lnTo>
                  <a:pt x="130" y="335"/>
                </a:lnTo>
                <a:lnTo>
                  <a:pt x="144" y="332"/>
                </a:lnTo>
                <a:lnTo>
                  <a:pt x="160" y="329"/>
                </a:lnTo>
                <a:lnTo>
                  <a:pt x="176" y="327"/>
                </a:lnTo>
                <a:lnTo>
                  <a:pt x="193" y="322"/>
                </a:lnTo>
                <a:lnTo>
                  <a:pt x="211" y="319"/>
                </a:lnTo>
                <a:lnTo>
                  <a:pt x="228" y="315"/>
                </a:lnTo>
                <a:lnTo>
                  <a:pt x="247" y="311"/>
                </a:lnTo>
                <a:lnTo>
                  <a:pt x="265" y="306"/>
                </a:lnTo>
                <a:lnTo>
                  <a:pt x="285" y="301"/>
                </a:lnTo>
                <a:lnTo>
                  <a:pt x="306" y="295"/>
                </a:lnTo>
                <a:lnTo>
                  <a:pt x="326" y="291"/>
                </a:lnTo>
                <a:lnTo>
                  <a:pt x="347" y="283"/>
                </a:lnTo>
                <a:lnTo>
                  <a:pt x="369" y="278"/>
                </a:lnTo>
                <a:lnTo>
                  <a:pt x="392" y="272"/>
                </a:lnTo>
                <a:lnTo>
                  <a:pt x="414" y="265"/>
                </a:lnTo>
                <a:lnTo>
                  <a:pt x="438" y="258"/>
                </a:lnTo>
                <a:lnTo>
                  <a:pt x="461" y="250"/>
                </a:lnTo>
                <a:lnTo>
                  <a:pt x="485" y="242"/>
                </a:lnTo>
                <a:lnTo>
                  <a:pt x="511" y="234"/>
                </a:lnTo>
                <a:lnTo>
                  <a:pt x="536" y="226"/>
                </a:lnTo>
                <a:lnTo>
                  <a:pt x="563" y="217"/>
                </a:lnTo>
                <a:lnTo>
                  <a:pt x="586" y="210"/>
                </a:lnTo>
                <a:lnTo>
                  <a:pt x="611" y="203"/>
                </a:lnTo>
                <a:lnTo>
                  <a:pt x="634" y="196"/>
                </a:lnTo>
                <a:lnTo>
                  <a:pt x="657" y="188"/>
                </a:lnTo>
                <a:lnTo>
                  <a:pt x="678" y="183"/>
                </a:lnTo>
                <a:lnTo>
                  <a:pt x="700" y="175"/>
                </a:lnTo>
                <a:lnTo>
                  <a:pt x="722" y="170"/>
                </a:lnTo>
                <a:lnTo>
                  <a:pt x="742" y="162"/>
                </a:lnTo>
                <a:lnTo>
                  <a:pt x="762" y="157"/>
                </a:lnTo>
                <a:lnTo>
                  <a:pt x="781" y="151"/>
                </a:lnTo>
                <a:lnTo>
                  <a:pt x="799" y="145"/>
                </a:lnTo>
                <a:lnTo>
                  <a:pt x="817" y="139"/>
                </a:lnTo>
                <a:lnTo>
                  <a:pt x="835" y="134"/>
                </a:lnTo>
                <a:lnTo>
                  <a:pt x="851" y="128"/>
                </a:lnTo>
                <a:lnTo>
                  <a:pt x="868" y="122"/>
                </a:lnTo>
                <a:lnTo>
                  <a:pt x="884" y="116"/>
                </a:lnTo>
                <a:lnTo>
                  <a:pt x="899" y="112"/>
                </a:lnTo>
                <a:lnTo>
                  <a:pt x="913" y="106"/>
                </a:lnTo>
                <a:lnTo>
                  <a:pt x="927" y="102"/>
                </a:lnTo>
                <a:lnTo>
                  <a:pt x="940" y="96"/>
                </a:lnTo>
                <a:lnTo>
                  <a:pt x="953" y="92"/>
                </a:lnTo>
                <a:lnTo>
                  <a:pt x="965" y="88"/>
                </a:lnTo>
                <a:lnTo>
                  <a:pt x="976" y="83"/>
                </a:lnTo>
                <a:lnTo>
                  <a:pt x="986" y="78"/>
                </a:lnTo>
                <a:lnTo>
                  <a:pt x="998" y="73"/>
                </a:lnTo>
                <a:lnTo>
                  <a:pt x="1007" y="69"/>
                </a:lnTo>
                <a:lnTo>
                  <a:pt x="1015" y="66"/>
                </a:lnTo>
                <a:lnTo>
                  <a:pt x="1024" y="62"/>
                </a:lnTo>
                <a:lnTo>
                  <a:pt x="1031" y="57"/>
                </a:lnTo>
                <a:lnTo>
                  <a:pt x="1038" y="53"/>
                </a:lnTo>
                <a:lnTo>
                  <a:pt x="1044" y="50"/>
                </a:lnTo>
                <a:lnTo>
                  <a:pt x="1050" y="46"/>
                </a:lnTo>
                <a:lnTo>
                  <a:pt x="1060" y="43"/>
                </a:lnTo>
                <a:lnTo>
                  <a:pt x="1070" y="39"/>
                </a:lnTo>
                <a:lnTo>
                  <a:pt x="1080" y="36"/>
                </a:lnTo>
                <a:lnTo>
                  <a:pt x="1089" y="31"/>
                </a:lnTo>
                <a:lnTo>
                  <a:pt x="1106" y="26"/>
                </a:lnTo>
                <a:lnTo>
                  <a:pt x="1123" y="20"/>
                </a:lnTo>
                <a:lnTo>
                  <a:pt x="1138" y="16"/>
                </a:lnTo>
                <a:lnTo>
                  <a:pt x="1153" y="11"/>
                </a:lnTo>
                <a:lnTo>
                  <a:pt x="1161" y="10"/>
                </a:lnTo>
                <a:lnTo>
                  <a:pt x="1168" y="10"/>
                </a:lnTo>
                <a:lnTo>
                  <a:pt x="1175" y="8"/>
                </a:lnTo>
                <a:lnTo>
                  <a:pt x="1182" y="8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Freeform 70"/>
          <p:cNvSpPr/>
          <p:nvPr/>
        </p:nvSpPr>
        <p:spPr>
          <a:xfrm>
            <a:off x="5568840" y="3376440"/>
            <a:ext cx="617760" cy="831960"/>
          </a:xfrm>
          <a:custGeom>
            <a:avLst/>
            <a:gdLst/>
            <a:ahLst/>
            <a:rect l="l" t="t" r="r" b="b"/>
            <a:pathLst>
              <a:path w="1167" h="1573">
                <a:moveTo>
                  <a:pt x="3" y="1570"/>
                </a:moveTo>
                <a:lnTo>
                  <a:pt x="1" y="1567"/>
                </a:lnTo>
                <a:lnTo>
                  <a:pt x="0" y="1566"/>
                </a:lnTo>
                <a:lnTo>
                  <a:pt x="0" y="1563"/>
                </a:lnTo>
                <a:lnTo>
                  <a:pt x="0" y="1560"/>
                </a:lnTo>
                <a:lnTo>
                  <a:pt x="0" y="1559"/>
                </a:lnTo>
                <a:lnTo>
                  <a:pt x="0" y="1556"/>
                </a:lnTo>
                <a:lnTo>
                  <a:pt x="1" y="1552"/>
                </a:lnTo>
                <a:lnTo>
                  <a:pt x="3" y="1549"/>
                </a:lnTo>
                <a:lnTo>
                  <a:pt x="4" y="1544"/>
                </a:lnTo>
                <a:lnTo>
                  <a:pt x="6" y="1541"/>
                </a:lnTo>
                <a:lnTo>
                  <a:pt x="9" y="1537"/>
                </a:lnTo>
                <a:lnTo>
                  <a:pt x="11" y="1533"/>
                </a:lnTo>
                <a:lnTo>
                  <a:pt x="19" y="1524"/>
                </a:lnTo>
                <a:lnTo>
                  <a:pt x="26" y="1514"/>
                </a:lnTo>
                <a:lnTo>
                  <a:pt x="36" y="1503"/>
                </a:lnTo>
                <a:lnTo>
                  <a:pt x="46" y="1491"/>
                </a:lnTo>
                <a:lnTo>
                  <a:pt x="59" y="1478"/>
                </a:lnTo>
                <a:lnTo>
                  <a:pt x="72" y="1464"/>
                </a:lnTo>
                <a:lnTo>
                  <a:pt x="86" y="1449"/>
                </a:lnTo>
                <a:lnTo>
                  <a:pt x="101" y="1433"/>
                </a:lnTo>
                <a:lnTo>
                  <a:pt x="117" y="1418"/>
                </a:lnTo>
                <a:lnTo>
                  <a:pt x="134" y="1400"/>
                </a:lnTo>
                <a:lnTo>
                  <a:pt x="151" y="1385"/>
                </a:lnTo>
                <a:lnTo>
                  <a:pt x="168" y="1369"/>
                </a:lnTo>
                <a:lnTo>
                  <a:pt x="187" y="1353"/>
                </a:lnTo>
                <a:lnTo>
                  <a:pt x="204" y="1336"/>
                </a:lnTo>
                <a:lnTo>
                  <a:pt x="222" y="1317"/>
                </a:lnTo>
                <a:lnTo>
                  <a:pt x="240" y="1298"/>
                </a:lnTo>
                <a:lnTo>
                  <a:pt x="259" y="1278"/>
                </a:lnTo>
                <a:lnTo>
                  <a:pt x="278" y="1258"/>
                </a:lnTo>
                <a:lnTo>
                  <a:pt x="296" y="1236"/>
                </a:lnTo>
                <a:lnTo>
                  <a:pt x="315" y="1213"/>
                </a:lnTo>
                <a:lnTo>
                  <a:pt x="334" y="1190"/>
                </a:lnTo>
                <a:lnTo>
                  <a:pt x="354" y="1166"/>
                </a:lnTo>
                <a:lnTo>
                  <a:pt x="373" y="1140"/>
                </a:lnTo>
                <a:lnTo>
                  <a:pt x="393" y="1114"/>
                </a:lnTo>
                <a:lnTo>
                  <a:pt x="413" y="1087"/>
                </a:lnTo>
                <a:lnTo>
                  <a:pt x="435" y="1059"/>
                </a:lnTo>
                <a:lnTo>
                  <a:pt x="452" y="1033"/>
                </a:lnTo>
                <a:lnTo>
                  <a:pt x="469" y="1006"/>
                </a:lnTo>
                <a:lnTo>
                  <a:pt x="488" y="979"/>
                </a:lnTo>
                <a:lnTo>
                  <a:pt x="507" y="950"/>
                </a:lnTo>
                <a:lnTo>
                  <a:pt x="527" y="920"/>
                </a:lnTo>
                <a:lnTo>
                  <a:pt x="545" y="888"/>
                </a:lnTo>
                <a:lnTo>
                  <a:pt x="564" y="856"/>
                </a:lnTo>
                <a:lnTo>
                  <a:pt x="584" y="822"/>
                </a:lnTo>
                <a:lnTo>
                  <a:pt x="603" y="789"/>
                </a:lnTo>
                <a:lnTo>
                  <a:pt x="623" y="754"/>
                </a:lnTo>
                <a:lnTo>
                  <a:pt x="642" y="718"/>
                </a:lnTo>
                <a:lnTo>
                  <a:pt x="662" y="681"/>
                </a:lnTo>
                <a:lnTo>
                  <a:pt x="681" y="645"/>
                </a:lnTo>
                <a:lnTo>
                  <a:pt x="698" y="606"/>
                </a:lnTo>
                <a:lnTo>
                  <a:pt x="717" y="568"/>
                </a:lnTo>
                <a:lnTo>
                  <a:pt x="734" y="529"/>
                </a:lnTo>
                <a:lnTo>
                  <a:pt x="751" y="491"/>
                </a:lnTo>
                <a:lnTo>
                  <a:pt x="767" y="452"/>
                </a:lnTo>
                <a:lnTo>
                  <a:pt x="782" y="414"/>
                </a:lnTo>
                <a:lnTo>
                  <a:pt x="796" y="377"/>
                </a:lnTo>
                <a:lnTo>
                  <a:pt x="810" y="339"/>
                </a:lnTo>
                <a:lnTo>
                  <a:pt x="822" y="305"/>
                </a:lnTo>
                <a:lnTo>
                  <a:pt x="833" y="269"/>
                </a:lnTo>
                <a:lnTo>
                  <a:pt x="843" y="236"/>
                </a:lnTo>
                <a:lnTo>
                  <a:pt x="854" y="203"/>
                </a:lnTo>
                <a:lnTo>
                  <a:pt x="861" y="170"/>
                </a:lnTo>
                <a:lnTo>
                  <a:pt x="868" y="138"/>
                </a:lnTo>
                <a:lnTo>
                  <a:pt x="874" y="108"/>
                </a:lnTo>
                <a:lnTo>
                  <a:pt x="878" y="79"/>
                </a:lnTo>
                <a:lnTo>
                  <a:pt x="882" y="51"/>
                </a:lnTo>
                <a:lnTo>
                  <a:pt x="884" y="24"/>
                </a:lnTo>
                <a:lnTo>
                  <a:pt x="885" y="0"/>
                </a:lnTo>
                <a:lnTo>
                  <a:pt x="900" y="8"/>
                </a:lnTo>
                <a:lnTo>
                  <a:pt x="915" y="17"/>
                </a:lnTo>
                <a:lnTo>
                  <a:pt x="930" y="26"/>
                </a:lnTo>
                <a:lnTo>
                  <a:pt x="944" y="33"/>
                </a:lnTo>
                <a:lnTo>
                  <a:pt x="957" y="41"/>
                </a:lnTo>
                <a:lnTo>
                  <a:pt x="972" y="49"/>
                </a:lnTo>
                <a:lnTo>
                  <a:pt x="985" y="57"/>
                </a:lnTo>
                <a:lnTo>
                  <a:pt x="996" y="64"/>
                </a:lnTo>
                <a:lnTo>
                  <a:pt x="1009" y="72"/>
                </a:lnTo>
                <a:lnTo>
                  <a:pt x="1021" y="79"/>
                </a:lnTo>
                <a:lnTo>
                  <a:pt x="1032" y="86"/>
                </a:lnTo>
                <a:lnTo>
                  <a:pt x="1042" y="92"/>
                </a:lnTo>
                <a:lnTo>
                  <a:pt x="1052" y="99"/>
                </a:lnTo>
                <a:lnTo>
                  <a:pt x="1062" y="105"/>
                </a:lnTo>
                <a:lnTo>
                  <a:pt x="1072" y="112"/>
                </a:lnTo>
                <a:lnTo>
                  <a:pt x="1081" y="118"/>
                </a:lnTo>
                <a:lnTo>
                  <a:pt x="1090" y="123"/>
                </a:lnTo>
                <a:lnTo>
                  <a:pt x="1098" y="129"/>
                </a:lnTo>
                <a:lnTo>
                  <a:pt x="1105" y="136"/>
                </a:lnTo>
                <a:lnTo>
                  <a:pt x="1113" y="142"/>
                </a:lnTo>
                <a:lnTo>
                  <a:pt x="1120" y="148"/>
                </a:lnTo>
                <a:lnTo>
                  <a:pt x="1126" y="152"/>
                </a:lnTo>
                <a:lnTo>
                  <a:pt x="1133" y="158"/>
                </a:lnTo>
                <a:lnTo>
                  <a:pt x="1137" y="164"/>
                </a:lnTo>
                <a:lnTo>
                  <a:pt x="1143" y="170"/>
                </a:lnTo>
                <a:lnTo>
                  <a:pt x="1147" y="175"/>
                </a:lnTo>
                <a:lnTo>
                  <a:pt x="1152" y="180"/>
                </a:lnTo>
                <a:lnTo>
                  <a:pt x="1156" y="185"/>
                </a:lnTo>
                <a:lnTo>
                  <a:pt x="1159" y="191"/>
                </a:lnTo>
                <a:lnTo>
                  <a:pt x="1162" y="197"/>
                </a:lnTo>
                <a:lnTo>
                  <a:pt x="1165" y="201"/>
                </a:lnTo>
                <a:lnTo>
                  <a:pt x="1166" y="207"/>
                </a:lnTo>
                <a:lnTo>
                  <a:pt x="1167" y="213"/>
                </a:lnTo>
                <a:lnTo>
                  <a:pt x="1167" y="218"/>
                </a:lnTo>
                <a:lnTo>
                  <a:pt x="1167" y="227"/>
                </a:lnTo>
                <a:lnTo>
                  <a:pt x="1167" y="234"/>
                </a:lnTo>
                <a:lnTo>
                  <a:pt x="1166" y="243"/>
                </a:lnTo>
                <a:lnTo>
                  <a:pt x="1165" y="253"/>
                </a:lnTo>
                <a:lnTo>
                  <a:pt x="1162" y="263"/>
                </a:lnTo>
                <a:lnTo>
                  <a:pt x="1159" y="273"/>
                </a:lnTo>
                <a:lnTo>
                  <a:pt x="1154" y="285"/>
                </a:lnTo>
                <a:lnTo>
                  <a:pt x="1150" y="298"/>
                </a:lnTo>
                <a:lnTo>
                  <a:pt x="1146" y="311"/>
                </a:lnTo>
                <a:lnTo>
                  <a:pt x="1140" y="325"/>
                </a:lnTo>
                <a:lnTo>
                  <a:pt x="1133" y="339"/>
                </a:lnTo>
                <a:lnTo>
                  <a:pt x="1126" y="354"/>
                </a:lnTo>
                <a:lnTo>
                  <a:pt x="1118" y="370"/>
                </a:lnTo>
                <a:lnTo>
                  <a:pt x="1111" y="387"/>
                </a:lnTo>
                <a:lnTo>
                  <a:pt x="1103" y="404"/>
                </a:lnTo>
                <a:lnTo>
                  <a:pt x="1093" y="421"/>
                </a:lnTo>
                <a:lnTo>
                  <a:pt x="1082" y="440"/>
                </a:lnTo>
                <a:lnTo>
                  <a:pt x="1072" y="459"/>
                </a:lnTo>
                <a:lnTo>
                  <a:pt x="1061" y="479"/>
                </a:lnTo>
                <a:lnTo>
                  <a:pt x="1049" y="499"/>
                </a:lnTo>
                <a:lnTo>
                  <a:pt x="1038" y="521"/>
                </a:lnTo>
                <a:lnTo>
                  <a:pt x="1025" y="542"/>
                </a:lnTo>
                <a:lnTo>
                  <a:pt x="1012" y="564"/>
                </a:lnTo>
                <a:lnTo>
                  <a:pt x="998" y="587"/>
                </a:lnTo>
                <a:lnTo>
                  <a:pt x="983" y="611"/>
                </a:lnTo>
                <a:lnTo>
                  <a:pt x="969" y="635"/>
                </a:lnTo>
                <a:lnTo>
                  <a:pt x="953" y="660"/>
                </a:lnTo>
                <a:lnTo>
                  <a:pt x="937" y="685"/>
                </a:lnTo>
                <a:lnTo>
                  <a:pt x="920" y="711"/>
                </a:lnTo>
                <a:lnTo>
                  <a:pt x="904" y="738"/>
                </a:lnTo>
                <a:lnTo>
                  <a:pt x="885" y="764"/>
                </a:lnTo>
                <a:lnTo>
                  <a:pt x="868" y="790"/>
                </a:lnTo>
                <a:lnTo>
                  <a:pt x="851" y="816"/>
                </a:lnTo>
                <a:lnTo>
                  <a:pt x="833" y="842"/>
                </a:lnTo>
                <a:lnTo>
                  <a:pt x="816" y="866"/>
                </a:lnTo>
                <a:lnTo>
                  <a:pt x="799" y="891"/>
                </a:lnTo>
                <a:lnTo>
                  <a:pt x="780" y="915"/>
                </a:lnTo>
                <a:lnTo>
                  <a:pt x="763" y="940"/>
                </a:lnTo>
                <a:lnTo>
                  <a:pt x="746" y="963"/>
                </a:lnTo>
                <a:lnTo>
                  <a:pt x="728" y="986"/>
                </a:lnTo>
                <a:lnTo>
                  <a:pt x="710" y="1009"/>
                </a:lnTo>
                <a:lnTo>
                  <a:pt x="692" y="1030"/>
                </a:lnTo>
                <a:lnTo>
                  <a:pt x="674" y="1052"/>
                </a:lnTo>
                <a:lnTo>
                  <a:pt x="656" y="1074"/>
                </a:lnTo>
                <a:lnTo>
                  <a:pt x="638" y="1095"/>
                </a:lnTo>
                <a:lnTo>
                  <a:pt x="620" y="1115"/>
                </a:lnTo>
                <a:lnTo>
                  <a:pt x="602" y="1135"/>
                </a:lnTo>
                <a:lnTo>
                  <a:pt x="584" y="1156"/>
                </a:lnTo>
                <a:lnTo>
                  <a:pt x="566" y="1174"/>
                </a:lnTo>
                <a:lnTo>
                  <a:pt x="547" y="1193"/>
                </a:lnTo>
                <a:lnTo>
                  <a:pt x="528" y="1212"/>
                </a:lnTo>
                <a:lnTo>
                  <a:pt x="510" y="1229"/>
                </a:lnTo>
                <a:lnTo>
                  <a:pt x="492" y="1246"/>
                </a:lnTo>
                <a:lnTo>
                  <a:pt x="474" y="1264"/>
                </a:lnTo>
                <a:lnTo>
                  <a:pt x="455" y="1279"/>
                </a:lnTo>
                <a:lnTo>
                  <a:pt x="436" y="1297"/>
                </a:lnTo>
                <a:lnTo>
                  <a:pt x="417" y="1311"/>
                </a:lnTo>
                <a:lnTo>
                  <a:pt x="399" y="1327"/>
                </a:lnTo>
                <a:lnTo>
                  <a:pt x="379" y="1341"/>
                </a:lnTo>
                <a:lnTo>
                  <a:pt x="360" y="1354"/>
                </a:lnTo>
                <a:lnTo>
                  <a:pt x="341" y="1369"/>
                </a:lnTo>
                <a:lnTo>
                  <a:pt x="322" y="1382"/>
                </a:lnTo>
                <a:lnTo>
                  <a:pt x="302" y="1395"/>
                </a:lnTo>
                <a:lnTo>
                  <a:pt x="285" y="1409"/>
                </a:lnTo>
                <a:lnTo>
                  <a:pt x="266" y="1422"/>
                </a:lnTo>
                <a:lnTo>
                  <a:pt x="250" y="1433"/>
                </a:lnTo>
                <a:lnTo>
                  <a:pt x="233" y="1445"/>
                </a:lnTo>
                <a:lnTo>
                  <a:pt x="217" y="1457"/>
                </a:lnTo>
                <a:lnTo>
                  <a:pt x="203" y="1468"/>
                </a:lnTo>
                <a:lnTo>
                  <a:pt x="188" y="1478"/>
                </a:lnTo>
                <a:lnTo>
                  <a:pt x="174" y="1488"/>
                </a:lnTo>
                <a:lnTo>
                  <a:pt x="161" y="1497"/>
                </a:lnTo>
                <a:lnTo>
                  <a:pt x="148" y="1505"/>
                </a:lnTo>
                <a:lnTo>
                  <a:pt x="135" y="1513"/>
                </a:lnTo>
                <a:lnTo>
                  <a:pt x="124" y="1521"/>
                </a:lnTo>
                <a:lnTo>
                  <a:pt x="112" y="1527"/>
                </a:lnTo>
                <a:lnTo>
                  <a:pt x="102" y="1534"/>
                </a:lnTo>
                <a:lnTo>
                  <a:pt x="92" y="1540"/>
                </a:lnTo>
                <a:lnTo>
                  <a:pt x="82" y="1546"/>
                </a:lnTo>
                <a:lnTo>
                  <a:pt x="73" y="1550"/>
                </a:lnTo>
                <a:lnTo>
                  <a:pt x="65" y="1554"/>
                </a:lnTo>
                <a:lnTo>
                  <a:pt x="57" y="1559"/>
                </a:lnTo>
                <a:lnTo>
                  <a:pt x="50" y="1562"/>
                </a:lnTo>
                <a:lnTo>
                  <a:pt x="43" y="1566"/>
                </a:lnTo>
                <a:lnTo>
                  <a:pt x="37" y="1567"/>
                </a:lnTo>
                <a:lnTo>
                  <a:pt x="32" y="1570"/>
                </a:lnTo>
                <a:lnTo>
                  <a:pt x="26" y="1572"/>
                </a:lnTo>
                <a:lnTo>
                  <a:pt x="21" y="1573"/>
                </a:lnTo>
                <a:lnTo>
                  <a:pt x="17" y="1573"/>
                </a:lnTo>
                <a:lnTo>
                  <a:pt x="13" y="1573"/>
                </a:lnTo>
                <a:lnTo>
                  <a:pt x="10" y="1573"/>
                </a:lnTo>
                <a:lnTo>
                  <a:pt x="7" y="1572"/>
                </a:lnTo>
                <a:lnTo>
                  <a:pt x="4" y="1572"/>
                </a:lnTo>
                <a:lnTo>
                  <a:pt x="3" y="157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Freeform 71"/>
          <p:cNvSpPr/>
          <p:nvPr/>
        </p:nvSpPr>
        <p:spPr>
          <a:xfrm>
            <a:off x="5799240" y="4067280"/>
            <a:ext cx="257040" cy="269640"/>
          </a:xfrm>
          <a:custGeom>
            <a:avLst/>
            <a:gdLst/>
            <a:ahLst/>
            <a:rect l="l" t="t" r="r" b="b"/>
            <a:pathLst>
              <a:path w="488" h="511">
                <a:moveTo>
                  <a:pt x="0" y="0"/>
                </a:moveTo>
                <a:lnTo>
                  <a:pt x="18" y="3"/>
                </a:lnTo>
                <a:lnTo>
                  <a:pt x="37" y="8"/>
                </a:lnTo>
                <a:lnTo>
                  <a:pt x="56" y="10"/>
                </a:lnTo>
                <a:lnTo>
                  <a:pt x="73" y="15"/>
                </a:lnTo>
                <a:lnTo>
                  <a:pt x="90" y="18"/>
                </a:lnTo>
                <a:lnTo>
                  <a:pt x="108" y="22"/>
                </a:lnTo>
                <a:lnTo>
                  <a:pt x="123" y="25"/>
                </a:lnTo>
                <a:lnTo>
                  <a:pt x="139" y="29"/>
                </a:lnTo>
                <a:lnTo>
                  <a:pt x="155" y="32"/>
                </a:lnTo>
                <a:lnTo>
                  <a:pt x="171" y="36"/>
                </a:lnTo>
                <a:lnTo>
                  <a:pt x="185" y="39"/>
                </a:lnTo>
                <a:lnTo>
                  <a:pt x="200" y="44"/>
                </a:lnTo>
                <a:lnTo>
                  <a:pt x="214" y="48"/>
                </a:lnTo>
                <a:lnTo>
                  <a:pt x="227" y="51"/>
                </a:lnTo>
                <a:lnTo>
                  <a:pt x="240" y="55"/>
                </a:lnTo>
                <a:lnTo>
                  <a:pt x="253" y="59"/>
                </a:lnTo>
                <a:lnTo>
                  <a:pt x="265" y="64"/>
                </a:lnTo>
                <a:lnTo>
                  <a:pt x="276" y="67"/>
                </a:lnTo>
                <a:lnTo>
                  <a:pt x="288" y="71"/>
                </a:lnTo>
                <a:lnTo>
                  <a:pt x="298" y="75"/>
                </a:lnTo>
                <a:lnTo>
                  <a:pt x="309" y="80"/>
                </a:lnTo>
                <a:lnTo>
                  <a:pt x="318" y="84"/>
                </a:lnTo>
                <a:lnTo>
                  <a:pt x="328" y="88"/>
                </a:lnTo>
                <a:lnTo>
                  <a:pt x="337" y="92"/>
                </a:lnTo>
                <a:lnTo>
                  <a:pt x="345" y="97"/>
                </a:lnTo>
                <a:lnTo>
                  <a:pt x="354" y="103"/>
                </a:lnTo>
                <a:lnTo>
                  <a:pt x="361" y="107"/>
                </a:lnTo>
                <a:lnTo>
                  <a:pt x="368" y="111"/>
                </a:lnTo>
                <a:lnTo>
                  <a:pt x="375" y="117"/>
                </a:lnTo>
                <a:lnTo>
                  <a:pt x="381" y="121"/>
                </a:lnTo>
                <a:lnTo>
                  <a:pt x="387" y="127"/>
                </a:lnTo>
                <a:lnTo>
                  <a:pt x="393" y="133"/>
                </a:lnTo>
                <a:lnTo>
                  <a:pt x="403" y="143"/>
                </a:lnTo>
                <a:lnTo>
                  <a:pt x="413" y="154"/>
                </a:lnTo>
                <a:lnTo>
                  <a:pt x="423" y="166"/>
                </a:lnTo>
                <a:lnTo>
                  <a:pt x="432" y="179"/>
                </a:lnTo>
                <a:lnTo>
                  <a:pt x="439" y="192"/>
                </a:lnTo>
                <a:lnTo>
                  <a:pt x="447" y="205"/>
                </a:lnTo>
                <a:lnTo>
                  <a:pt x="455" y="218"/>
                </a:lnTo>
                <a:lnTo>
                  <a:pt x="460" y="232"/>
                </a:lnTo>
                <a:lnTo>
                  <a:pt x="466" y="247"/>
                </a:lnTo>
                <a:lnTo>
                  <a:pt x="472" y="261"/>
                </a:lnTo>
                <a:lnTo>
                  <a:pt x="476" y="277"/>
                </a:lnTo>
                <a:lnTo>
                  <a:pt x="480" y="293"/>
                </a:lnTo>
                <a:lnTo>
                  <a:pt x="483" y="308"/>
                </a:lnTo>
                <a:lnTo>
                  <a:pt x="485" y="324"/>
                </a:lnTo>
                <a:lnTo>
                  <a:pt x="486" y="342"/>
                </a:lnTo>
                <a:lnTo>
                  <a:pt x="488" y="360"/>
                </a:lnTo>
                <a:lnTo>
                  <a:pt x="483" y="376"/>
                </a:lnTo>
                <a:lnTo>
                  <a:pt x="480" y="393"/>
                </a:lnTo>
                <a:lnTo>
                  <a:pt x="476" y="409"/>
                </a:lnTo>
                <a:lnTo>
                  <a:pt x="473" y="424"/>
                </a:lnTo>
                <a:lnTo>
                  <a:pt x="469" y="437"/>
                </a:lnTo>
                <a:lnTo>
                  <a:pt x="466" y="450"/>
                </a:lnTo>
                <a:lnTo>
                  <a:pt x="462" y="460"/>
                </a:lnTo>
                <a:lnTo>
                  <a:pt x="459" y="471"/>
                </a:lnTo>
                <a:lnTo>
                  <a:pt x="456" y="480"/>
                </a:lnTo>
                <a:lnTo>
                  <a:pt x="452" y="488"/>
                </a:lnTo>
                <a:lnTo>
                  <a:pt x="449" y="494"/>
                </a:lnTo>
                <a:lnTo>
                  <a:pt x="444" y="500"/>
                </a:lnTo>
                <a:lnTo>
                  <a:pt x="442" y="504"/>
                </a:lnTo>
                <a:lnTo>
                  <a:pt x="437" y="509"/>
                </a:lnTo>
                <a:lnTo>
                  <a:pt x="434" y="510"/>
                </a:lnTo>
                <a:lnTo>
                  <a:pt x="432" y="511"/>
                </a:lnTo>
                <a:lnTo>
                  <a:pt x="423" y="510"/>
                </a:lnTo>
                <a:lnTo>
                  <a:pt x="416" y="509"/>
                </a:lnTo>
                <a:lnTo>
                  <a:pt x="407" y="507"/>
                </a:lnTo>
                <a:lnTo>
                  <a:pt x="398" y="503"/>
                </a:lnTo>
                <a:lnTo>
                  <a:pt x="390" y="500"/>
                </a:lnTo>
                <a:lnTo>
                  <a:pt x="380" y="494"/>
                </a:lnTo>
                <a:lnTo>
                  <a:pt x="368" y="488"/>
                </a:lnTo>
                <a:lnTo>
                  <a:pt x="358" y="480"/>
                </a:lnTo>
                <a:lnTo>
                  <a:pt x="345" y="473"/>
                </a:lnTo>
                <a:lnTo>
                  <a:pt x="334" y="462"/>
                </a:lnTo>
                <a:lnTo>
                  <a:pt x="321" y="451"/>
                </a:lnTo>
                <a:lnTo>
                  <a:pt x="306" y="439"/>
                </a:lnTo>
                <a:lnTo>
                  <a:pt x="292" y="426"/>
                </a:lnTo>
                <a:lnTo>
                  <a:pt x="276" y="412"/>
                </a:lnTo>
                <a:lnTo>
                  <a:pt x="260" y="396"/>
                </a:lnTo>
                <a:lnTo>
                  <a:pt x="243" y="379"/>
                </a:lnTo>
                <a:lnTo>
                  <a:pt x="226" y="363"/>
                </a:lnTo>
                <a:lnTo>
                  <a:pt x="208" y="347"/>
                </a:lnTo>
                <a:lnTo>
                  <a:pt x="193" y="330"/>
                </a:lnTo>
                <a:lnTo>
                  <a:pt x="177" y="311"/>
                </a:lnTo>
                <a:lnTo>
                  <a:pt x="161" y="291"/>
                </a:lnTo>
                <a:lnTo>
                  <a:pt x="145" y="270"/>
                </a:lnTo>
                <a:lnTo>
                  <a:pt x="129" y="248"/>
                </a:lnTo>
                <a:lnTo>
                  <a:pt x="113" y="225"/>
                </a:lnTo>
                <a:lnTo>
                  <a:pt x="99" y="200"/>
                </a:lnTo>
                <a:lnTo>
                  <a:pt x="85" y="175"/>
                </a:lnTo>
                <a:lnTo>
                  <a:pt x="70" y="149"/>
                </a:lnTo>
                <a:lnTo>
                  <a:pt x="56" y="120"/>
                </a:lnTo>
                <a:lnTo>
                  <a:pt x="41" y="91"/>
                </a:lnTo>
                <a:lnTo>
                  <a:pt x="27" y="62"/>
                </a:lnTo>
                <a:lnTo>
                  <a:pt x="13" y="32"/>
                </a:lnTo>
                <a:lnTo>
                  <a:pt x="0" y="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Freeform 72"/>
          <p:cNvSpPr/>
          <p:nvPr/>
        </p:nvSpPr>
        <p:spPr>
          <a:xfrm>
            <a:off x="6513480" y="3379680"/>
            <a:ext cx="824040" cy="285840"/>
          </a:xfrm>
          <a:custGeom>
            <a:avLst/>
            <a:gdLst/>
            <a:ahLst/>
            <a:rect l="l" t="t" r="r" b="b"/>
            <a:pathLst>
              <a:path w="1558" h="541">
                <a:moveTo>
                  <a:pt x="1464" y="11"/>
                </a:moveTo>
                <a:lnTo>
                  <a:pt x="1474" y="16"/>
                </a:lnTo>
                <a:lnTo>
                  <a:pt x="1484" y="19"/>
                </a:lnTo>
                <a:lnTo>
                  <a:pt x="1493" y="24"/>
                </a:lnTo>
                <a:lnTo>
                  <a:pt x="1501" y="29"/>
                </a:lnTo>
                <a:lnTo>
                  <a:pt x="1510" y="33"/>
                </a:lnTo>
                <a:lnTo>
                  <a:pt x="1517" y="39"/>
                </a:lnTo>
                <a:lnTo>
                  <a:pt x="1524" y="43"/>
                </a:lnTo>
                <a:lnTo>
                  <a:pt x="1532" y="49"/>
                </a:lnTo>
                <a:lnTo>
                  <a:pt x="1537" y="55"/>
                </a:lnTo>
                <a:lnTo>
                  <a:pt x="1542" y="59"/>
                </a:lnTo>
                <a:lnTo>
                  <a:pt x="1546" y="65"/>
                </a:lnTo>
                <a:lnTo>
                  <a:pt x="1550" y="69"/>
                </a:lnTo>
                <a:lnTo>
                  <a:pt x="1553" y="75"/>
                </a:lnTo>
                <a:lnTo>
                  <a:pt x="1555" y="79"/>
                </a:lnTo>
                <a:lnTo>
                  <a:pt x="1556" y="83"/>
                </a:lnTo>
                <a:lnTo>
                  <a:pt x="1558" y="88"/>
                </a:lnTo>
                <a:lnTo>
                  <a:pt x="1556" y="93"/>
                </a:lnTo>
                <a:lnTo>
                  <a:pt x="1556" y="101"/>
                </a:lnTo>
                <a:lnTo>
                  <a:pt x="1555" y="106"/>
                </a:lnTo>
                <a:lnTo>
                  <a:pt x="1553" y="112"/>
                </a:lnTo>
                <a:lnTo>
                  <a:pt x="1552" y="116"/>
                </a:lnTo>
                <a:lnTo>
                  <a:pt x="1549" y="122"/>
                </a:lnTo>
                <a:lnTo>
                  <a:pt x="1546" y="127"/>
                </a:lnTo>
                <a:lnTo>
                  <a:pt x="1543" y="131"/>
                </a:lnTo>
                <a:lnTo>
                  <a:pt x="1539" y="135"/>
                </a:lnTo>
                <a:lnTo>
                  <a:pt x="1535" y="139"/>
                </a:lnTo>
                <a:lnTo>
                  <a:pt x="1530" y="144"/>
                </a:lnTo>
                <a:lnTo>
                  <a:pt x="1526" y="148"/>
                </a:lnTo>
                <a:lnTo>
                  <a:pt x="1520" y="151"/>
                </a:lnTo>
                <a:lnTo>
                  <a:pt x="1514" y="155"/>
                </a:lnTo>
                <a:lnTo>
                  <a:pt x="1507" y="158"/>
                </a:lnTo>
                <a:lnTo>
                  <a:pt x="1501" y="163"/>
                </a:lnTo>
                <a:lnTo>
                  <a:pt x="1497" y="164"/>
                </a:lnTo>
                <a:lnTo>
                  <a:pt x="1493" y="167"/>
                </a:lnTo>
                <a:lnTo>
                  <a:pt x="1488" y="168"/>
                </a:lnTo>
                <a:lnTo>
                  <a:pt x="1483" y="171"/>
                </a:lnTo>
                <a:lnTo>
                  <a:pt x="1477" y="174"/>
                </a:lnTo>
                <a:lnTo>
                  <a:pt x="1471" y="177"/>
                </a:lnTo>
                <a:lnTo>
                  <a:pt x="1465" y="180"/>
                </a:lnTo>
                <a:lnTo>
                  <a:pt x="1458" y="183"/>
                </a:lnTo>
                <a:lnTo>
                  <a:pt x="1451" y="187"/>
                </a:lnTo>
                <a:lnTo>
                  <a:pt x="1442" y="190"/>
                </a:lnTo>
                <a:lnTo>
                  <a:pt x="1435" y="194"/>
                </a:lnTo>
                <a:lnTo>
                  <a:pt x="1425" y="198"/>
                </a:lnTo>
                <a:lnTo>
                  <a:pt x="1416" y="201"/>
                </a:lnTo>
                <a:lnTo>
                  <a:pt x="1406" y="206"/>
                </a:lnTo>
                <a:lnTo>
                  <a:pt x="1396" y="210"/>
                </a:lnTo>
                <a:lnTo>
                  <a:pt x="1386" y="214"/>
                </a:lnTo>
                <a:lnTo>
                  <a:pt x="1375" y="219"/>
                </a:lnTo>
                <a:lnTo>
                  <a:pt x="1363" y="223"/>
                </a:lnTo>
                <a:lnTo>
                  <a:pt x="1350" y="229"/>
                </a:lnTo>
                <a:lnTo>
                  <a:pt x="1337" y="233"/>
                </a:lnTo>
                <a:lnTo>
                  <a:pt x="1324" y="237"/>
                </a:lnTo>
                <a:lnTo>
                  <a:pt x="1311" y="243"/>
                </a:lnTo>
                <a:lnTo>
                  <a:pt x="1297" y="247"/>
                </a:lnTo>
                <a:lnTo>
                  <a:pt x="1281" y="253"/>
                </a:lnTo>
                <a:lnTo>
                  <a:pt x="1267" y="258"/>
                </a:lnTo>
                <a:lnTo>
                  <a:pt x="1251" y="263"/>
                </a:lnTo>
                <a:lnTo>
                  <a:pt x="1234" y="268"/>
                </a:lnTo>
                <a:lnTo>
                  <a:pt x="1218" y="273"/>
                </a:lnTo>
                <a:lnTo>
                  <a:pt x="1201" y="279"/>
                </a:lnTo>
                <a:lnTo>
                  <a:pt x="1182" y="285"/>
                </a:lnTo>
                <a:lnTo>
                  <a:pt x="1163" y="289"/>
                </a:lnTo>
                <a:lnTo>
                  <a:pt x="1144" y="295"/>
                </a:lnTo>
                <a:lnTo>
                  <a:pt x="1106" y="305"/>
                </a:lnTo>
                <a:lnTo>
                  <a:pt x="1068" y="317"/>
                </a:lnTo>
                <a:lnTo>
                  <a:pt x="992" y="338"/>
                </a:lnTo>
                <a:lnTo>
                  <a:pt x="918" y="358"/>
                </a:lnTo>
                <a:lnTo>
                  <a:pt x="844" y="380"/>
                </a:lnTo>
                <a:lnTo>
                  <a:pt x="770" y="401"/>
                </a:lnTo>
                <a:lnTo>
                  <a:pt x="695" y="422"/>
                </a:lnTo>
                <a:lnTo>
                  <a:pt x="620" y="443"/>
                </a:lnTo>
                <a:lnTo>
                  <a:pt x="583" y="455"/>
                </a:lnTo>
                <a:lnTo>
                  <a:pt x="544" y="465"/>
                </a:lnTo>
                <a:lnTo>
                  <a:pt x="525" y="471"/>
                </a:lnTo>
                <a:lnTo>
                  <a:pt x="507" y="475"/>
                </a:lnTo>
                <a:lnTo>
                  <a:pt x="488" y="481"/>
                </a:lnTo>
                <a:lnTo>
                  <a:pt x="471" y="485"/>
                </a:lnTo>
                <a:lnTo>
                  <a:pt x="455" y="489"/>
                </a:lnTo>
                <a:lnTo>
                  <a:pt x="438" y="494"/>
                </a:lnTo>
                <a:lnTo>
                  <a:pt x="422" y="498"/>
                </a:lnTo>
                <a:lnTo>
                  <a:pt x="407" y="501"/>
                </a:lnTo>
                <a:lnTo>
                  <a:pt x="392" y="505"/>
                </a:lnTo>
                <a:lnTo>
                  <a:pt x="379" y="508"/>
                </a:lnTo>
                <a:lnTo>
                  <a:pt x="364" y="511"/>
                </a:lnTo>
                <a:lnTo>
                  <a:pt x="351" y="515"/>
                </a:lnTo>
                <a:lnTo>
                  <a:pt x="338" y="518"/>
                </a:lnTo>
                <a:lnTo>
                  <a:pt x="327" y="520"/>
                </a:lnTo>
                <a:lnTo>
                  <a:pt x="315" y="522"/>
                </a:lnTo>
                <a:lnTo>
                  <a:pt x="305" y="525"/>
                </a:lnTo>
                <a:lnTo>
                  <a:pt x="294" y="527"/>
                </a:lnTo>
                <a:lnTo>
                  <a:pt x="285" y="530"/>
                </a:lnTo>
                <a:lnTo>
                  <a:pt x="275" y="531"/>
                </a:lnTo>
                <a:lnTo>
                  <a:pt x="266" y="532"/>
                </a:lnTo>
                <a:lnTo>
                  <a:pt x="259" y="534"/>
                </a:lnTo>
                <a:lnTo>
                  <a:pt x="250" y="535"/>
                </a:lnTo>
                <a:lnTo>
                  <a:pt x="245" y="537"/>
                </a:lnTo>
                <a:lnTo>
                  <a:pt x="237" y="537"/>
                </a:lnTo>
                <a:lnTo>
                  <a:pt x="232" y="538"/>
                </a:lnTo>
                <a:lnTo>
                  <a:pt x="226" y="540"/>
                </a:lnTo>
                <a:lnTo>
                  <a:pt x="222" y="540"/>
                </a:lnTo>
                <a:lnTo>
                  <a:pt x="217" y="540"/>
                </a:lnTo>
                <a:lnTo>
                  <a:pt x="213" y="541"/>
                </a:lnTo>
                <a:lnTo>
                  <a:pt x="210" y="541"/>
                </a:lnTo>
                <a:lnTo>
                  <a:pt x="207" y="541"/>
                </a:lnTo>
                <a:lnTo>
                  <a:pt x="206" y="541"/>
                </a:lnTo>
                <a:lnTo>
                  <a:pt x="199" y="541"/>
                </a:lnTo>
                <a:lnTo>
                  <a:pt x="191" y="540"/>
                </a:lnTo>
                <a:lnTo>
                  <a:pt x="184" y="540"/>
                </a:lnTo>
                <a:lnTo>
                  <a:pt x="177" y="538"/>
                </a:lnTo>
                <a:lnTo>
                  <a:pt x="163" y="534"/>
                </a:lnTo>
                <a:lnTo>
                  <a:pt x="147" y="530"/>
                </a:lnTo>
                <a:lnTo>
                  <a:pt x="131" y="524"/>
                </a:lnTo>
                <a:lnTo>
                  <a:pt x="114" y="517"/>
                </a:lnTo>
                <a:lnTo>
                  <a:pt x="105" y="514"/>
                </a:lnTo>
                <a:lnTo>
                  <a:pt x="95" y="511"/>
                </a:lnTo>
                <a:lnTo>
                  <a:pt x="85" y="507"/>
                </a:lnTo>
                <a:lnTo>
                  <a:pt x="75" y="504"/>
                </a:lnTo>
                <a:lnTo>
                  <a:pt x="65" y="499"/>
                </a:lnTo>
                <a:lnTo>
                  <a:pt x="56" y="495"/>
                </a:lnTo>
                <a:lnTo>
                  <a:pt x="47" y="491"/>
                </a:lnTo>
                <a:lnTo>
                  <a:pt x="39" y="485"/>
                </a:lnTo>
                <a:lnTo>
                  <a:pt x="33" y="481"/>
                </a:lnTo>
                <a:lnTo>
                  <a:pt x="26" y="475"/>
                </a:lnTo>
                <a:lnTo>
                  <a:pt x="22" y="471"/>
                </a:lnTo>
                <a:lnTo>
                  <a:pt x="16" y="465"/>
                </a:lnTo>
                <a:lnTo>
                  <a:pt x="13" y="459"/>
                </a:lnTo>
                <a:lnTo>
                  <a:pt x="9" y="455"/>
                </a:lnTo>
                <a:lnTo>
                  <a:pt x="6" y="449"/>
                </a:lnTo>
                <a:lnTo>
                  <a:pt x="4" y="445"/>
                </a:lnTo>
                <a:lnTo>
                  <a:pt x="1" y="440"/>
                </a:lnTo>
                <a:lnTo>
                  <a:pt x="1" y="435"/>
                </a:lnTo>
                <a:lnTo>
                  <a:pt x="0" y="432"/>
                </a:lnTo>
                <a:lnTo>
                  <a:pt x="0" y="427"/>
                </a:lnTo>
                <a:lnTo>
                  <a:pt x="0" y="426"/>
                </a:lnTo>
                <a:lnTo>
                  <a:pt x="3" y="423"/>
                </a:lnTo>
                <a:lnTo>
                  <a:pt x="6" y="420"/>
                </a:lnTo>
                <a:lnTo>
                  <a:pt x="10" y="417"/>
                </a:lnTo>
                <a:lnTo>
                  <a:pt x="17" y="414"/>
                </a:lnTo>
                <a:lnTo>
                  <a:pt x="24" y="412"/>
                </a:lnTo>
                <a:lnTo>
                  <a:pt x="33" y="407"/>
                </a:lnTo>
                <a:lnTo>
                  <a:pt x="43" y="403"/>
                </a:lnTo>
                <a:lnTo>
                  <a:pt x="55" y="399"/>
                </a:lnTo>
                <a:lnTo>
                  <a:pt x="66" y="393"/>
                </a:lnTo>
                <a:lnTo>
                  <a:pt x="81" y="387"/>
                </a:lnTo>
                <a:lnTo>
                  <a:pt x="96" y="381"/>
                </a:lnTo>
                <a:lnTo>
                  <a:pt x="112" y="376"/>
                </a:lnTo>
                <a:lnTo>
                  <a:pt x="131" y="370"/>
                </a:lnTo>
                <a:lnTo>
                  <a:pt x="151" y="363"/>
                </a:lnTo>
                <a:lnTo>
                  <a:pt x="171" y="355"/>
                </a:lnTo>
                <a:lnTo>
                  <a:pt x="194" y="347"/>
                </a:lnTo>
                <a:lnTo>
                  <a:pt x="217" y="340"/>
                </a:lnTo>
                <a:lnTo>
                  <a:pt x="242" y="331"/>
                </a:lnTo>
                <a:lnTo>
                  <a:pt x="269" y="322"/>
                </a:lnTo>
                <a:lnTo>
                  <a:pt x="297" y="312"/>
                </a:lnTo>
                <a:lnTo>
                  <a:pt x="325" y="302"/>
                </a:lnTo>
                <a:lnTo>
                  <a:pt x="356" y="292"/>
                </a:lnTo>
                <a:lnTo>
                  <a:pt x="389" y="282"/>
                </a:lnTo>
                <a:lnTo>
                  <a:pt x="422" y="270"/>
                </a:lnTo>
                <a:lnTo>
                  <a:pt x="456" y="259"/>
                </a:lnTo>
                <a:lnTo>
                  <a:pt x="492" y="247"/>
                </a:lnTo>
                <a:lnTo>
                  <a:pt x="530" y="236"/>
                </a:lnTo>
                <a:lnTo>
                  <a:pt x="569" y="223"/>
                </a:lnTo>
                <a:lnTo>
                  <a:pt x="609" y="209"/>
                </a:lnTo>
                <a:lnTo>
                  <a:pt x="651" y="196"/>
                </a:lnTo>
                <a:lnTo>
                  <a:pt x="694" y="181"/>
                </a:lnTo>
                <a:lnTo>
                  <a:pt x="737" y="167"/>
                </a:lnTo>
                <a:lnTo>
                  <a:pt x="779" y="154"/>
                </a:lnTo>
                <a:lnTo>
                  <a:pt x="819" y="141"/>
                </a:lnTo>
                <a:lnTo>
                  <a:pt x="859" y="128"/>
                </a:lnTo>
                <a:lnTo>
                  <a:pt x="897" y="116"/>
                </a:lnTo>
                <a:lnTo>
                  <a:pt x="934" y="105"/>
                </a:lnTo>
                <a:lnTo>
                  <a:pt x="969" y="95"/>
                </a:lnTo>
                <a:lnTo>
                  <a:pt x="1003" y="85"/>
                </a:lnTo>
                <a:lnTo>
                  <a:pt x="1036" y="75"/>
                </a:lnTo>
                <a:lnTo>
                  <a:pt x="1068" y="66"/>
                </a:lnTo>
                <a:lnTo>
                  <a:pt x="1098" y="57"/>
                </a:lnTo>
                <a:lnTo>
                  <a:pt x="1129" y="50"/>
                </a:lnTo>
                <a:lnTo>
                  <a:pt x="1156" y="43"/>
                </a:lnTo>
                <a:lnTo>
                  <a:pt x="1183" y="36"/>
                </a:lnTo>
                <a:lnTo>
                  <a:pt x="1209" y="30"/>
                </a:lnTo>
                <a:lnTo>
                  <a:pt x="1234" y="24"/>
                </a:lnTo>
                <a:lnTo>
                  <a:pt x="1257" y="19"/>
                </a:lnTo>
                <a:lnTo>
                  <a:pt x="1278" y="14"/>
                </a:lnTo>
                <a:lnTo>
                  <a:pt x="1298" y="11"/>
                </a:lnTo>
                <a:lnTo>
                  <a:pt x="1319" y="7"/>
                </a:lnTo>
                <a:lnTo>
                  <a:pt x="1337" y="4"/>
                </a:lnTo>
                <a:lnTo>
                  <a:pt x="1355" y="3"/>
                </a:lnTo>
                <a:lnTo>
                  <a:pt x="1370" y="1"/>
                </a:lnTo>
                <a:lnTo>
                  <a:pt x="1385" y="0"/>
                </a:lnTo>
                <a:lnTo>
                  <a:pt x="1399" y="0"/>
                </a:lnTo>
                <a:lnTo>
                  <a:pt x="1412" y="0"/>
                </a:lnTo>
                <a:lnTo>
                  <a:pt x="1424" y="0"/>
                </a:lnTo>
                <a:lnTo>
                  <a:pt x="1434" y="1"/>
                </a:lnTo>
                <a:lnTo>
                  <a:pt x="1442" y="3"/>
                </a:lnTo>
                <a:lnTo>
                  <a:pt x="1451" y="6"/>
                </a:lnTo>
                <a:lnTo>
                  <a:pt x="1457" y="8"/>
                </a:lnTo>
                <a:lnTo>
                  <a:pt x="1464" y="1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Freeform 73"/>
          <p:cNvSpPr/>
          <p:nvPr/>
        </p:nvSpPr>
        <p:spPr>
          <a:xfrm>
            <a:off x="7167600" y="3048120"/>
            <a:ext cx="347760" cy="268200"/>
          </a:xfrm>
          <a:custGeom>
            <a:avLst/>
            <a:gdLst/>
            <a:ahLst/>
            <a:rect l="l" t="t" r="r" b="b"/>
            <a:pathLst>
              <a:path w="656" h="507">
                <a:moveTo>
                  <a:pt x="525" y="147"/>
                </a:moveTo>
                <a:lnTo>
                  <a:pt x="543" y="159"/>
                </a:lnTo>
                <a:lnTo>
                  <a:pt x="557" y="169"/>
                </a:lnTo>
                <a:lnTo>
                  <a:pt x="571" y="179"/>
                </a:lnTo>
                <a:lnTo>
                  <a:pt x="584" y="190"/>
                </a:lnTo>
                <a:lnTo>
                  <a:pt x="597" y="200"/>
                </a:lnTo>
                <a:lnTo>
                  <a:pt x="607" y="212"/>
                </a:lnTo>
                <a:lnTo>
                  <a:pt x="618" y="222"/>
                </a:lnTo>
                <a:lnTo>
                  <a:pt x="626" y="232"/>
                </a:lnTo>
                <a:lnTo>
                  <a:pt x="633" y="243"/>
                </a:lnTo>
                <a:lnTo>
                  <a:pt x="639" y="254"/>
                </a:lnTo>
                <a:lnTo>
                  <a:pt x="645" y="264"/>
                </a:lnTo>
                <a:lnTo>
                  <a:pt x="649" y="275"/>
                </a:lnTo>
                <a:lnTo>
                  <a:pt x="652" y="285"/>
                </a:lnTo>
                <a:lnTo>
                  <a:pt x="655" y="295"/>
                </a:lnTo>
                <a:lnTo>
                  <a:pt x="656" y="307"/>
                </a:lnTo>
                <a:lnTo>
                  <a:pt x="656" y="317"/>
                </a:lnTo>
                <a:lnTo>
                  <a:pt x="656" y="327"/>
                </a:lnTo>
                <a:lnTo>
                  <a:pt x="655" y="338"/>
                </a:lnTo>
                <a:lnTo>
                  <a:pt x="655" y="349"/>
                </a:lnTo>
                <a:lnTo>
                  <a:pt x="654" y="359"/>
                </a:lnTo>
                <a:lnTo>
                  <a:pt x="649" y="379"/>
                </a:lnTo>
                <a:lnTo>
                  <a:pt x="648" y="389"/>
                </a:lnTo>
                <a:lnTo>
                  <a:pt x="645" y="397"/>
                </a:lnTo>
                <a:lnTo>
                  <a:pt x="642" y="406"/>
                </a:lnTo>
                <a:lnTo>
                  <a:pt x="639" y="415"/>
                </a:lnTo>
                <a:lnTo>
                  <a:pt x="636" y="422"/>
                </a:lnTo>
                <a:lnTo>
                  <a:pt x="633" y="429"/>
                </a:lnTo>
                <a:lnTo>
                  <a:pt x="629" y="435"/>
                </a:lnTo>
                <a:lnTo>
                  <a:pt x="626" y="441"/>
                </a:lnTo>
                <a:lnTo>
                  <a:pt x="622" y="446"/>
                </a:lnTo>
                <a:lnTo>
                  <a:pt x="619" y="451"/>
                </a:lnTo>
                <a:lnTo>
                  <a:pt x="615" y="457"/>
                </a:lnTo>
                <a:lnTo>
                  <a:pt x="612" y="464"/>
                </a:lnTo>
                <a:lnTo>
                  <a:pt x="607" y="469"/>
                </a:lnTo>
                <a:lnTo>
                  <a:pt x="602" y="475"/>
                </a:lnTo>
                <a:lnTo>
                  <a:pt x="597" y="480"/>
                </a:lnTo>
                <a:lnTo>
                  <a:pt x="592" y="484"/>
                </a:lnTo>
                <a:lnTo>
                  <a:pt x="587" y="488"/>
                </a:lnTo>
                <a:lnTo>
                  <a:pt x="582" y="493"/>
                </a:lnTo>
                <a:lnTo>
                  <a:pt x="576" y="495"/>
                </a:lnTo>
                <a:lnTo>
                  <a:pt x="571" y="498"/>
                </a:lnTo>
                <a:lnTo>
                  <a:pt x="566" y="501"/>
                </a:lnTo>
                <a:lnTo>
                  <a:pt x="561" y="503"/>
                </a:lnTo>
                <a:lnTo>
                  <a:pt x="557" y="504"/>
                </a:lnTo>
                <a:lnTo>
                  <a:pt x="551" y="505"/>
                </a:lnTo>
                <a:lnTo>
                  <a:pt x="548" y="505"/>
                </a:lnTo>
                <a:lnTo>
                  <a:pt x="544" y="507"/>
                </a:lnTo>
                <a:lnTo>
                  <a:pt x="543" y="505"/>
                </a:lnTo>
                <a:lnTo>
                  <a:pt x="540" y="505"/>
                </a:lnTo>
                <a:lnTo>
                  <a:pt x="537" y="504"/>
                </a:lnTo>
                <a:lnTo>
                  <a:pt x="534" y="503"/>
                </a:lnTo>
                <a:lnTo>
                  <a:pt x="530" y="501"/>
                </a:lnTo>
                <a:lnTo>
                  <a:pt x="525" y="498"/>
                </a:lnTo>
                <a:lnTo>
                  <a:pt x="521" y="495"/>
                </a:lnTo>
                <a:lnTo>
                  <a:pt x="515" y="493"/>
                </a:lnTo>
                <a:lnTo>
                  <a:pt x="511" y="490"/>
                </a:lnTo>
                <a:lnTo>
                  <a:pt x="504" y="485"/>
                </a:lnTo>
                <a:lnTo>
                  <a:pt x="498" y="481"/>
                </a:lnTo>
                <a:lnTo>
                  <a:pt x="491" y="475"/>
                </a:lnTo>
                <a:lnTo>
                  <a:pt x="484" y="471"/>
                </a:lnTo>
                <a:lnTo>
                  <a:pt x="476" y="465"/>
                </a:lnTo>
                <a:lnTo>
                  <a:pt x="468" y="459"/>
                </a:lnTo>
                <a:lnTo>
                  <a:pt x="459" y="452"/>
                </a:lnTo>
                <a:lnTo>
                  <a:pt x="451" y="446"/>
                </a:lnTo>
                <a:lnTo>
                  <a:pt x="440" y="439"/>
                </a:lnTo>
                <a:lnTo>
                  <a:pt x="430" y="431"/>
                </a:lnTo>
                <a:lnTo>
                  <a:pt x="420" y="423"/>
                </a:lnTo>
                <a:lnTo>
                  <a:pt x="410" y="415"/>
                </a:lnTo>
                <a:lnTo>
                  <a:pt x="399" y="406"/>
                </a:lnTo>
                <a:lnTo>
                  <a:pt x="387" y="397"/>
                </a:lnTo>
                <a:lnTo>
                  <a:pt x="374" y="387"/>
                </a:lnTo>
                <a:lnTo>
                  <a:pt x="363" y="377"/>
                </a:lnTo>
                <a:lnTo>
                  <a:pt x="350" y="367"/>
                </a:lnTo>
                <a:lnTo>
                  <a:pt x="335" y="357"/>
                </a:lnTo>
                <a:lnTo>
                  <a:pt x="322" y="346"/>
                </a:lnTo>
                <a:lnTo>
                  <a:pt x="308" y="334"/>
                </a:lnTo>
                <a:lnTo>
                  <a:pt x="294" y="323"/>
                </a:lnTo>
                <a:lnTo>
                  <a:pt x="278" y="311"/>
                </a:lnTo>
                <a:lnTo>
                  <a:pt x="263" y="298"/>
                </a:lnTo>
                <a:lnTo>
                  <a:pt x="248" y="285"/>
                </a:lnTo>
                <a:lnTo>
                  <a:pt x="232" y="274"/>
                </a:lnTo>
                <a:lnTo>
                  <a:pt x="217" y="262"/>
                </a:lnTo>
                <a:lnTo>
                  <a:pt x="203" y="251"/>
                </a:lnTo>
                <a:lnTo>
                  <a:pt x="190" y="239"/>
                </a:lnTo>
                <a:lnTo>
                  <a:pt x="176" y="229"/>
                </a:lnTo>
                <a:lnTo>
                  <a:pt x="163" y="219"/>
                </a:lnTo>
                <a:lnTo>
                  <a:pt x="151" y="209"/>
                </a:lnTo>
                <a:lnTo>
                  <a:pt x="140" y="199"/>
                </a:lnTo>
                <a:lnTo>
                  <a:pt x="128" y="190"/>
                </a:lnTo>
                <a:lnTo>
                  <a:pt x="117" y="182"/>
                </a:lnTo>
                <a:lnTo>
                  <a:pt x="107" y="173"/>
                </a:lnTo>
                <a:lnTo>
                  <a:pt x="96" y="164"/>
                </a:lnTo>
                <a:lnTo>
                  <a:pt x="86" y="157"/>
                </a:lnTo>
                <a:lnTo>
                  <a:pt x="78" y="148"/>
                </a:lnTo>
                <a:lnTo>
                  <a:pt x="69" y="141"/>
                </a:lnTo>
                <a:lnTo>
                  <a:pt x="60" y="134"/>
                </a:lnTo>
                <a:lnTo>
                  <a:pt x="53" y="128"/>
                </a:lnTo>
                <a:lnTo>
                  <a:pt x="46" y="123"/>
                </a:lnTo>
                <a:lnTo>
                  <a:pt x="39" y="117"/>
                </a:lnTo>
                <a:lnTo>
                  <a:pt x="33" y="111"/>
                </a:lnTo>
                <a:lnTo>
                  <a:pt x="27" y="105"/>
                </a:lnTo>
                <a:lnTo>
                  <a:pt x="22" y="101"/>
                </a:lnTo>
                <a:lnTo>
                  <a:pt x="17" y="97"/>
                </a:lnTo>
                <a:lnTo>
                  <a:pt x="13" y="92"/>
                </a:lnTo>
                <a:lnTo>
                  <a:pt x="10" y="88"/>
                </a:lnTo>
                <a:lnTo>
                  <a:pt x="7" y="84"/>
                </a:lnTo>
                <a:lnTo>
                  <a:pt x="4" y="81"/>
                </a:lnTo>
                <a:lnTo>
                  <a:pt x="3" y="78"/>
                </a:lnTo>
                <a:lnTo>
                  <a:pt x="1" y="75"/>
                </a:lnTo>
                <a:lnTo>
                  <a:pt x="0" y="74"/>
                </a:lnTo>
                <a:lnTo>
                  <a:pt x="0" y="72"/>
                </a:lnTo>
                <a:lnTo>
                  <a:pt x="0" y="68"/>
                </a:lnTo>
                <a:lnTo>
                  <a:pt x="1" y="65"/>
                </a:lnTo>
                <a:lnTo>
                  <a:pt x="4" y="61"/>
                </a:lnTo>
                <a:lnTo>
                  <a:pt x="7" y="58"/>
                </a:lnTo>
                <a:lnTo>
                  <a:pt x="10" y="53"/>
                </a:lnTo>
                <a:lnTo>
                  <a:pt x="14" y="51"/>
                </a:lnTo>
                <a:lnTo>
                  <a:pt x="20" y="46"/>
                </a:lnTo>
                <a:lnTo>
                  <a:pt x="26" y="43"/>
                </a:lnTo>
                <a:lnTo>
                  <a:pt x="32" y="39"/>
                </a:lnTo>
                <a:lnTo>
                  <a:pt x="39" y="36"/>
                </a:lnTo>
                <a:lnTo>
                  <a:pt x="47" y="32"/>
                </a:lnTo>
                <a:lnTo>
                  <a:pt x="55" y="29"/>
                </a:lnTo>
                <a:lnTo>
                  <a:pt x="65" y="26"/>
                </a:lnTo>
                <a:lnTo>
                  <a:pt x="73" y="22"/>
                </a:lnTo>
                <a:lnTo>
                  <a:pt x="83" y="19"/>
                </a:lnTo>
                <a:lnTo>
                  <a:pt x="94" y="15"/>
                </a:lnTo>
                <a:lnTo>
                  <a:pt x="104" y="12"/>
                </a:lnTo>
                <a:lnTo>
                  <a:pt x="115" y="9"/>
                </a:lnTo>
                <a:lnTo>
                  <a:pt x="125" y="6"/>
                </a:lnTo>
                <a:lnTo>
                  <a:pt x="137" y="3"/>
                </a:lnTo>
                <a:lnTo>
                  <a:pt x="147" y="2"/>
                </a:lnTo>
                <a:lnTo>
                  <a:pt x="158" y="2"/>
                </a:lnTo>
                <a:lnTo>
                  <a:pt x="171" y="0"/>
                </a:lnTo>
                <a:lnTo>
                  <a:pt x="183" y="0"/>
                </a:lnTo>
                <a:lnTo>
                  <a:pt x="196" y="0"/>
                </a:lnTo>
                <a:lnTo>
                  <a:pt x="209" y="2"/>
                </a:lnTo>
                <a:lnTo>
                  <a:pt x="222" y="2"/>
                </a:lnTo>
                <a:lnTo>
                  <a:pt x="236" y="3"/>
                </a:lnTo>
                <a:lnTo>
                  <a:pt x="250" y="6"/>
                </a:lnTo>
                <a:lnTo>
                  <a:pt x="266" y="9"/>
                </a:lnTo>
                <a:lnTo>
                  <a:pt x="284" y="12"/>
                </a:lnTo>
                <a:lnTo>
                  <a:pt x="301" y="15"/>
                </a:lnTo>
                <a:lnTo>
                  <a:pt x="314" y="19"/>
                </a:lnTo>
                <a:lnTo>
                  <a:pt x="328" y="23"/>
                </a:lnTo>
                <a:lnTo>
                  <a:pt x="343" y="29"/>
                </a:lnTo>
                <a:lnTo>
                  <a:pt x="357" y="35"/>
                </a:lnTo>
                <a:lnTo>
                  <a:pt x="370" y="42"/>
                </a:lnTo>
                <a:lnTo>
                  <a:pt x="384" y="51"/>
                </a:lnTo>
                <a:lnTo>
                  <a:pt x="399" y="58"/>
                </a:lnTo>
                <a:lnTo>
                  <a:pt x="413" y="66"/>
                </a:lnTo>
                <a:lnTo>
                  <a:pt x="428" y="75"/>
                </a:lnTo>
                <a:lnTo>
                  <a:pt x="440" y="85"/>
                </a:lnTo>
                <a:lnTo>
                  <a:pt x="469" y="105"/>
                </a:lnTo>
                <a:lnTo>
                  <a:pt x="497" y="125"/>
                </a:lnTo>
                <a:lnTo>
                  <a:pt x="525" y="14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Freeform 74"/>
          <p:cNvSpPr/>
          <p:nvPr/>
        </p:nvSpPr>
        <p:spPr>
          <a:xfrm>
            <a:off x="6402240" y="3994200"/>
            <a:ext cx="1082880" cy="787320"/>
          </a:xfrm>
          <a:custGeom>
            <a:avLst/>
            <a:gdLst/>
            <a:ahLst/>
            <a:rect l="l" t="t" r="r" b="b"/>
            <a:pathLst>
              <a:path w="2047" h="1489">
                <a:moveTo>
                  <a:pt x="1710" y="138"/>
                </a:moveTo>
                <a:lnTo>
                  <a:pt x="1706" y="127"/>
                </a:lnTo>
                <a:lnTo>
                  <a:pt x="1705" y="117"/>
                </a:lnTo>
                <a:lnTo>
                  <a:pt x="1703" y="107"/>
                </a:lnTo>
                <a:lnTo>
                  <a:pt x="1702" y="95"/>
                </a:lnTo>
                <a:lnTo>
                  <a:pt x="1703" y="85"/>
                </a:lnTo>
                <a:lnTo>
                  <a:pt x="1703" y="76"/>
                </a:lnTo>
                <a:lnTo>
                  <a:pt x="1705" y="66"/>
                </a:lnTo>
                <a:lnTo>
                  <a:pt x="1708" y="58"/>
                </a:lnTo>
                <a:lnTo>
                  <a:pt x="1710" y="49"/>
                </a:lnTo>
                <a:lnTo>
                  <a:pt x="1713" y="40"/>
                </a:lnTo>
                <a:lnTo>
                  <a:pt x="1718" y="33"/>
                </a:lnTo>
                <a:lnTo>
                  <a:pt x="1723" y="26"/>
                </a:lnTo>
                <a:lnTo>
                  <a:pt x="1728" y="20"/>
                </a:lnTo>
                <a:lnTo>
                  <a:pt x="1733" y="15"/>
                </a:lnTo>
                <a:lnTo>
                  <a:pt x="1741" y="9"/>
                </a:lnTo>
                <a:lnTo>
                  <a:pt x="1748" y="6"/>
                </a:lnTo>
                <a:lnTo>
                  <a:pt x="1755" y="3"/>
                </a:lnTo>
                <a:lnTo>
                  <a:pt x="1762" y="0"/>
                </a:lnTo>
                <a:lnTo>
                  <a:pt x="1771" y="0"/>
                </a:lnTo>
                <a:lnTo>
                  <a:pt x="1780" y="2"/>
                </a:lnTo>
                <a:lnTo>
                  <a:pt x="1788" y="4"/>
                </a:lnTo>
                <a:lnTo>
                  <a:pt x="1798" y="7"/>
                </a:lnTo>
                <a:lnTo>
                  <a:pt x="1810" y="13"/>
                </a:lnTo>
                <a:lnTo>
                  <a:pt x="1820" y="19"/>
                </a:lnTo>
                <a:lnTo>
                  <a:pt x="1833" y="28"/>
                </a:lnTo>
                <a:lnTo>
                  <a:pt x="1844" y="36"/>
                </a:lnTo>
                <a:lnTo>
                  <a:pt x="1857" y="46"/>
                </a:lnTo>
                <a:lnTo>
                  <a:pt x="1872" y="58"/>
                </a:lnTo>
                <a:lnTo>
                  <a:pt x="1886" y="71"/>
                </a:lnTo>
                <a:lnTo>
                  <a:pt x="1902" y="87"/>
                </a:lnTo>
                <a:lnTo>
                  <a:pt x="1918" y="102"/>
                </a:lnTo>
                <a:lnTo>
                  <a:pt x="1935" y="120"/>
                </a:lnTo>
                <a:lnTo>
                  <a:pt x="1948" y="137"/>
                </a:lnTo>
                <a:lnTo>
                  <a:pt x="1961" y="154"/>
                </a:lnTo>
                <a:lnTo>
                  <a:pt x="1972" y="170"/>
                </a:lnTo>
                <a:lnTo>
                  <a:pt x="1984" y="187"/>
                </a:lnTo>
                <a:lnTo>
                  <a:pt x="1994" y="203"/>
                </a:lnTo>
                <a:lnTo>
                  <a:pt x="2003" y="218"/>
                </a:lnTo>
                <a:lnTo>
                  <a:pt x="2011" y="233"/>
                </a:lnTo>
                <a:lnTo>
                  <a:pt x="2018" y="248"/>
                </a:lnTo>
                <a:lnTo>
                  <a:pt x="2026" y="261"/>
                </a:lnTo>
                <a:lnTo>
                  <a:pt x="2031" y="275"/>
                </a:lnTo>
                <a:lnTo>
                  <a:pt x="2036" y="288"/>
                </a:lnTo>
                <a:lnTo>
                  <a:pt x="2040" y="301"/>
                </a:lnTo>
                <a:lnTo>
                  <a:pt x="2043" y="313"/>
                </a:lnTo>
                <a:lnTo>
                  <a:pt x="2046" y="324"/>
                </a:lnTo>
                <a:lnTo>
                  <a:pt x="2047" y="336"/>
                </a:lnTo>
                <a:lnTo>
                  <a:pt x="2047" y="347"/>
                </a:lnTo>
                <a:lnTo>
                  <a:pt x="2046" y="351"/>
                </a:lnTo>
                <a:lnTo>
                  <a:pt x="2043" y="357"/>
                </a:lnTo>
                <a:lnTo>
                  <a:pt x="2039" y="364"/>
                </a:lnTo>
                <a:lnTo>
                  <a:pt x="2034" y="370"/>
                </a:lnTo>
                <a:lnTo>
                  <a:pt x="2030" y="377"/>
                </a:lnTo>
                <a:lnTo>
                  <a:pt x="2024" y="385"/>
                </a:lnTo>
                <a:lnTo>
                  <a:pt x="2018" y="392"/>
                </a:lnTo>
                <a:lnTo>
                  <a:pt x="2011" y="399"/>
                </a:lnTo>
                <a:lnTo>
                  <a:pt x="2004" y="408"/>
                </a:lnTo>
                <a:lnTo>
                  <a:pt x="1997" y="416"/>
                </a:lnTo>
                <a:lnTo>
                  <a:pt x="1988" y="425"/>
                </a:lnTo>
                <a:lnTo>
                  <a:pt x="1978" y="435"/>
                </a:lnTo>
                <a:lnTo>
                  <a:pt x="1968" y="444"/>
                </a:lnTo>
                <a:lnTo>
                  <a:pt x="1958" y="454"/>
                </a:lnTo>
                <a:lnTo>
                  <a:pt x="1947" y="465"/>
                </a:lnTo>
                <a:lnTo>
                  <a:pt x="1934" y="475"/>
                </a:lnTo>
                <a:lnTo>
                  <a:pt x="1922" y="487"/>
                </a:lnTo>
                <a:lnTo>
                  <a:pt x="1908" y="498"/>
                </a:lnTo>
                <a:lnTo>
                  <a:pt x="1895" y="510"/>
                </a:lnTo>
                <a:lnTo>
                  <a:pt x="1879" y="523"/>
                </a:lnTo>
                <a:lnTo>
                  <a:pt x="1864" y="536"/>
                </a:lnTo>
                <a:lnTo>
                  <a:pt x="1849" y="549"/>
                </a:lnTo>
                <a:lnTo>
                  <a:pt x="1831" y="563"/>
                </a:lnTo>
                <a:lnTo>
                  <a:pt x="1814" y="576"/>
                </a:lnTo>
                <a:lnTo>
                  <a:pt x="1797" y="592"/>
                </a:lnTo>
                <a:lnTo>
                  <a:pt x="1778" y="606"/>
                </a:lnTo>
                <a:lnTo>
                  <a:pt x="1759" y="622"/>
                </a:lnTo>
                <a:lnTo>
                  <a:pt x="1739" y="638"/>
                </a:lnTo>
                <a:lnTo>
                  <a:pt x="1719" y="654"/>
                </a:lnTo>
                <a:lnTo>
                  <a:pt x="1697" y="671"/>
                </a:lnTo>
                <a:lnTo>
                  <a:pt x="1676" y="688"/>
                </a:lnTo>
                <a:lnTo>
                  <a:pt x="1654" y="706"/>
                </a:lnTo>
                <a:lnTo>
                  <a:pt x="1631" y="726"/>
                </a:lnTo>
                <a:lnTo>
                  <a:pt x="1608" y="744"/>
                </a:lnTo>
                <a:lnTo>
                  <a:pt x="1587" y="763"/>
                </a:lnTo>
                <a:lnTo>
                  <a:pt x="1564" y="782"/>
                </a:lnTo>
                <a:lnTo>
                  <a:pt x="1519" y="818"/>
                </a:lnTo>
                <a:lnTo>
                  <a:pt x="1474" y="852"/>
                </a:lnTo>
                <a:lnTo>
                  <a:pt x="1431" y="886"/>
                </a:lnTo>
                <a:lnTo>
                  <a:pt x="1388" y="917"/>
                </a:lnTo>
                <a:lnTo>
                  <a:pt x="1345" y="949"/>
                </a:lnTo>
                <a:lnTo>
                  <a:pt x="1302" y="978"/>
                </a:lnTo>
                <a:lnTo>
                  <a:pt x="1260" y="1006"/>
                </a:lnTo>
                <a:lnTo>
                  <a:pt x="1218" y="1034"/>
                </a:lnTo>
                <a:lnTo>
                  <a:pt x="1176" y="1060"/>
                </a:lnTo>
                <a:lnTo>
                  <a:pt x="1136" y="1086"/>
                </a:lnTo>
                <a:lnTo>
                  <a:pt x="1096" y="1110"/>
                </a:lnTo>
                <a:lnTo>
                  <a:pt x="1055" y="1133"/>
                </a:lnTo>
                <a:lnTo>
                  <a:pt x="1017" y="1156"/>
                </a:lnTo>
                <a:lnTo>
                  <a:pt x="978" y="1179"/>
                </a:lnTo>
                <a:lnTo>
                  <a:pt x="939" y="1199"/>
                </a:lnTo>
                <a:lnTo>
                  <a:pt x="900" y="1219"/>
                </a:lnTo>
                <a:lnTo>
                  <a:pt x="860" y="1240"/>
                </a:lnTo>
                <a:lnTo>
                  <a:pt x="821" y="1258"/>
                </a:lnTo>
                <a:lnTo>
                  <a:pt x="780" y="1276"/>
                </a:lnTo>
                <a:lnTo>
                  <a:pt x="740" y="1291"/>
                </a:lnTo>
                <a:lnTo>
                  <a:pt x="700" y="1309"/>
                </a:lnTo>
                <a:lnTo>
                  <a:pt x="660" y="1323"/>
                </a:lnTo>
                <a:lnTo>
                  <a:pt x="619" y="1338"/>
                </a:lnTo>
                <a:lnTo>
                  <a:pt x="577" y="1352"/>
                </a:lnTo>
                <a:lnTo>
                  <a:pt x="537" y="1365"/>
                </a:lnTo>
                <a:lnTo>
                  <a:pt x="498" y="1378"/>
                </a:lnTo>
                <a:lnTo>
                  <a:pt x="458" y="1391"/>
                </a:lnTo>
                <a:lnTo>
                  <a:pt x="418" y="1402"/>
                </a:lnTo>
                <a:lnTo>
                  <a:pt x="379" y="1414"/>
                </a:lnTo>
                <a:lnTo>
                  <a:pt x="340" y="1425"/>
                </a:lnTo>
                <a:lnTo>
                  <a:pt x="320" y="1430"/>
                </a:lnTo>
                <a:lnTo>
                  <a:pt x="300" y="1435"/>
                </a:lnTo>
                <a:lnTo>
                  <a:pt x="279" y="1440"/>
                </a:lnTo>
                <a:lnTo>
                  <a:pt x="261" y="1444"/>
                </a:lnTo>
                <a:lnTo>
                  <a:pt x="244" y="1448"/>
                </a:lnTo>
                <a:lnTo>
                  <a:pt x="225" y="1453"/>
                </a:lnTo>
                <a:lnTo>
                  <a:pt x="209" y="1457"/>
                </a:lnTo>
                <a:lnTo>
                  <a:pt x="193" y="1461"/>
                </a:lnTo>
                <a:lnTo>
                  <a:pt x="177" y="1464"/>
                </a:lnTo>
                <a:lnTo>
                  <a:pt x="163" y="1467"/>
                </a:lnTo>
                <a:lnTo>
                  <a:pt x="148" y="1470"/>
                </a:lnTo>
                <a:lnTo>
                  <a:pt x="134" y="1473"/>
                </a:lnTo>
                <a:lnTo>
                  <a:pt x="121" y="1476"/>
                </a:lnTo>
                <a:lnTo>
                  <a:pt x="110" y="1479"/>
                </a:lnTo>
                <a:lnTo>
                  <a:pt x="98" y="1480"/>
                </a:lnTo>
                <a:lnTo>
                  <a:pt x="87" y="1482"/>
                </a:lnTo>
                <a:lnTo>
                  <a:pt x="77" y="1483"/>
                </a:lnTo>
                <a:lnTo>
                  <a:pt x="68" y="1484"/>
                </a:lnTo>
                <a:lnTo>
                  <a:pt x="58" y="1486"/>
                </a:lnTo>
                <a:lnTo>
                  <a:pt x="51" y="1487"/>
                </a:lnTo>
                <a:lnTo>
                  <a:pt x="42" y="1487"/>
                </a:lnTo>
                <a:lnTo>
                  <a:pt x="35" y="1489"/>
                </a:lnTo>
                <a:lnTo>
                  <a:pt x="29" y="1489"/>
                </a:lnTo>
                <a:lnTo>
                  <a:pt x="23" y="1489"/>
                </a:lnTo>
                <a:lnTo>
                  <a:pt x="19" y="1489"/>
                </a:lnTo>
                <a:lnTo>
                  <a:pt x="15" y="1489"/>
                </a:lnTo>
                <a:lnTo>
                  <a:pt x="10" y="1487"/>
                </a:lnTo>
                <a:lnTo>
                  <a:pt x="7" y="1487"/>
                </a:lnTo>
                <a:lnTo>
                  <a:pt x="6" y="1486"/>
                </a:lnTo>
                <a:lnTo>
                  <a:pt x="3" y="1484"/>
                </a:lnTo>
                <a:lnTo>
                  <a:pt x="3" y="1483"/>
                </a:lnTo>
                <a:lnTo>
                  <a:pt x="3" y="1482"/>
                </a:lnTo>
                <a:lnTo>
                  <a:pt x="2" y="1480"/>
                </a:lnTo>
                <a:lnTo>
                  <a:pt x="0" y="1477"/>
                </a:lnTo>
                <a:lnTo>
                  <a:pt x="0" y="1474"/>
                </a:lnTo>
                <a:lnTo>
                  <a:pt x="2" y="1471"/>
                </a:lnTo>
                <a:lnTo>
                  <a:pt x="3" y="1469"/>
                </a:lnTo>
                <a:lnTo>
                  <a:pt x="6" y="1466"/>
                </a:lnTo>
                <a:lnTo>
                  <a:pt x="9" y="1461"/>
                </a:lnTo>
                <a:lnTo>
                  <a:pt x="13" y="1457"/>
                </a:lnTo>
                <a:lnTo>
                  <a:pt x="17" y="1453"/>
                </a:lnTo>
                <a:lnTo>
                  <a:pt x="23" y="1448"/>
                </a:lnTo>
                <a:lnTo>
                  <a:pt x="29" y="1444"/>
                </a:lnTo>
                <a:lnTo>
                  <a:pt x="36" y="1438"/>
                </a:lnTo>
                <a:lnTo>
                  <a:pt x="43" y="1433"/>
                </a:lnTo>
                <a:lnTo>
                  <a:pt x="52" y="1428"/>
                </a:lnTo>
                <a:lnTo>
                  <a:pt x="61" y="1422"/>
                </a:lnTo>
                <a:lnTo>
                  <a:pt x="71" y="1415"/>
                </a:lnTo>
                <a:lnTo>
                  <a:pt x="81" y="1410"/>
                </a:lnTo>
                <a:lnTo>
                  <a:pt x="92" y="1402"/>
                </a:lnTo>
                <a:lnTo>
                  <a:pt x="104" y="1397"/>
                </a:lnTo>
                <a:lnTo>
                  <a:pt x="117" y="1389"/>
                </a:lnTo>
                <a:lnTo>
                  <a:pt x="130" y="1382"/>
                </a:lnTo>
                <a:lnTo>
                  <a:pt x="144" y="1375"/>
                </a:lnTo>
                <a:lnTo>
                  <a:pt x="159" y="1368"/>
                </a:lnTo>
                <a:lnTo>
                  <a:pt x="174" y="1359"/>
                </a:lnTo>
                <a:lnTo>
                  <a:pt x="190" y="1352"/>
                </a:lnTo>
                <a:lnTo>
                  <a:pt x="208" y="1343"/>
                </a:lnTo>
                <a:lnTo>
                  <a:pt x="225" y="1336"/>
                </a:lnTo>
                <a:lnTo>
                  <a:pt x="242" y="1327"/>
                </a:lnTo>
                <a:lnTo>
                  <a:pt x="261" y="1319"/>
                </a:lnTo>
                <a:lnTo>
                  <a:pt x="281" y="1310"/>
                </a:lnTo>
                <a:lnTo>
                  <a:pt x="301" y="1302"/>
                </a:lnTo>
                <a:lnTo>
                  <a:pt x="321" y="1293"/>
                </a:lnTo>
                <a:lnTo>
                  <a:pt x="343" y="1283"/>
                </a:lnTo>
                <a:lnTo>
                  <a:pt x="364" y="1273"/>
                </a:lnTo>
                <a:lnTo>
                  <a:pt x="386" y="1263"/>
                </a:lnTo>
                <a:lnTo>
                  <a:pt x="408" y="1253"/>
                </a:lnTo>
                <a:lnTo>
                  <a:pt x="429" y="1243"/>
                </a:lnTo>
                <a:lnTo>
                  <a:pt x="452" y="1231"/>
                </a:lnTo>
                <a:lnTo>
                  <a:pt x="474" y="1219"/>
                </a:lnTo>
                <a:lnTo>
                  <a:pt x="497" y="1208"/>
                </a:lnTo>
                <a:lnTo>
                  <a:pt x="520" y="1195"/>
                </a:lnTo>
                <a:lnTo>
                  <a:pt x="543" y="1182"/>
                </a:lnTo>
                <a:lnTo>
                  <a:pt x="566" y="1169"/>
                </a:lnTo>
                <a:lnTo>
                  <a:pt x="590" y="1156"/>
                </a:lnTo>
                <a:lnTo>
                  <a:pt x="638" y="1127"/>
                </a:lnTo>
                <a:lnTo>
                  <a:pt x="685" y="1099"/>
                </a:lnTo>
                <a:lnTo>
                  <a:pt x="734" y="1068"/>
                </a:lnTo>
                <a:lnTo>
                  <a:pt x="783" y="1037"/>
                </a:lnTo>
                <a:lnTo>
                  <a:pt x="834" y="1004"/>
                </a:lnTo>
                <a:lnTo>
                  <a:pt x="884" y="969"/>
                </a:lnTo>
                <a:lnTo>
                  <a:pt x="936" y="933"/>
                </a:lnTo>
                <a:lnTo>
                  <a:pt x="986" y="896"/>
                </a:lnTo>
                <a:lnTo>
                  <a:pt x="1038" y="858"/>
                </a:lnTo>
                <a:lnTo>
                  <a:pt x="1091" y="819"/>
                </a:lnTo>
                <a:lnTo>
                  <a:pt x="1116" y="799"/>
                </a:lnTo>
                <a:lnTo>
                  <a:pt x="1142" y="780"/>
                </a:lnTo>
                <a:lnTo>
                  <a:pt x="1166" y="762"/>
                </a:lnTo>
                <a:lnTo>
                  <a:pt x="1191" y="743"/>
                </a:lnTo>
                <a:lnTo>
                  <a:pt x="1214" y="724"/>
                </a:lnTo>
                <a:lnTo>
                  <a:pt x="1237" y="706"/>
                </a:lnTo>
                <a:lnTo>
                  <a:pt x="1258" y="687"/>
                </a:lnTo>
                <a:lnTo>
                  <a:pt x="1280" y="670"/>
                </a:lnTo>
                <a:lnTo>
                  <a:pt x="1302" y="652"/>
                </a:lnTo>
                <a:lnTo>
                  <a:pt x="1322" y="635"/>
                </a:lnTo>
                <a:lnTo>
                  <a:pt x="1340" y="619"/>
                </a:lnTo>
                <a:lnTo>
                  <a:pt x="1361" y="602"/>
                </a:lnTo>
                <a:lnTo>
                  <a:pt x="1379" y="586"/>
                </a:lnTo>
                <a:lnTo>
                  <a:pt x="1397" y="570"/>
                </a:lnTo>
                <a:lnTo>
                  <a:pt x="1414" y="554"/>
                </a:lnTo>
                <a:lnTo>
                  <a:pt x="1430" y="540"/>
                </a:lnTo>
                <a:lnTo>
                  <a:pt x="1447" y="524"/>
                </a:lnTo>
                <a:lnTo>
                  <a:pt x="1461" y="510"/>
                </a:lnTo>
                <a:lnTo>
                  <a:pt x="1477" y="495"/>
                </a:lnTo>
                <a:lnTo>
                  <a:pt x="1492" y="482"/>
                </a:lnTo>
                <a:lnTo>
                  <a:pt x="1505" y="469"/>
                </a:lnTo>
                <a:lnTo>
                  <a:pt x="1518" y="455"/>
                </a:lnTo>
                <a:lnTo>
                  <a:pt x="1530" y="444"/>
                </a:lnTo>
                <a:lnTo>
                  <a:pt x="1542" y="431"/>
                </a:lnTo>
                <a:lnTo>
                  <a:pt x="1554" y="419"/>
                </a:lnTo>
                <a:lnTo>
                  <a:pt x="1564" y="408"/>
                </a:lnTo>
                <a:lnTo>
                  <a:pt x="1574" y="396"/>
                </a:lnTo>
                <a:lnTo>
                  <a:pt x="1584" y="386"/>
                </a:lnTo>
                <a:lnTo>
                  <a:pt x="1592" y="374"/>
                </a:lnTo>
                <a:lnTo>
                  <a:pt x="1601" y="364"/>
                </a:lnTo>
                <a:lnTo>
                  <a:pt x="1608" y="356"/>
                </a:lnTo>
                <a:lnTo>
                  <a:pt x="1617" y="347"/>
                </a:lnTo>
                <a:lnTo>
                  <a:pt x="1630" y="328"/>
                </a:lnTo>
                <a:lnTo>
                  <a:pt x="1641" y="313"/>
                </a:lnTo>
                <a:lnTo>
                  <a:pt x="1654" y="297"/>
                </a:lnTo>
                <a:lnTo>
                  <a:pt x="1664" y="281"/>
                </a:lnTo>
                <a:lnTo>
                  <a:pt x="1674" y="266"/>
                </a:lnTo>
                <a:lnTo>
                  <a:pt x="1683" y="254"/>
                </a:lnTo>
                <a:lnTo>
                  <a:pt x="1690" y="241"/>
                </a:lnTo>
                <a:lnTo>
                  <a:pt x="1697" y="228"/>
                </a:lnTo>
                <a:lnTo>
                  <a:pt x="1703" y="215"/>
                </a:lnTo>
                <a:lnTo>
                  <a:pt x="1708" y="203"/>
                </a:lnTo>
                <a:lnTo>
                  <a:pt x="1710" y="192"/>
                </a:lnTo>
                <a:lnTo>
                  <a:pt x="1713" y="180"/>
                </a:lnTo>
                <a:lnTo>
                  <a:pt x="1715" y="170"/>
                </a:lnTo>
                <a:lnTo>
                  <a:pt x="1713" y="159"/>
                </a:lnTo>
                <a:lnTo>
                  <a:pt x="1712" y="148"/>
                </a:lnTo>
                <a:lnTo>
                  <a:pt x="1710" y="138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Freeform 75"/>
          <p:cNvSpPr/>
          <p:nvPr/>
        </p:nvSpPr>
        <p:spPr>
          <a:xfrm>
            <a:off x="6472080" y="3736800"/>
            <a:ext cx="984240" cy="360360"/>
          </a:xfrm>
          <a:custGeom>
            <a:avLst/>
            <a:gdLst/>
            <a:ahLst/>
            <a:rect l="l" t="t" r="r" b="b"/>
            <a:pathLst>
              <a:path w="1858" h="681">
                <a:moveTo>
                  <a:pt x="1783" y="37"/>
                </a:moveTo>
                <a:lnTo>
                  <a:pt x="1793" y="41"/>
                </a:lnTo>
                <a:lnTo>
                  <a:pt x="1802" y="46"/>
                </a:lnTo>
                <a:lnTo>
                  <a:pt x="1811" y="50"/>
                </a:lnTo>
                <a:lnTo>
                  <a:pt x="1819" y="54"/>
                </a:lnTo>
                <a:lnTo>
                  <a:pt x="1825" y="60"/>
                </a:lnTo>
                <a:lnTo>
                  <a:pt x="1832" y="64"/>
                </a:lnTo>
                <a:lnTo>
                  <a:pt x="1837" y="70"/>
                </a:lnTo>
                <a:lnTo>
                  <a:pt x="1842" y="74"/>
                </a:lnTo>
                <a:lnTo>
                  <a:pt x="1845" y="80"/>
                </a:lnTo>
                <a:lnTo>
                  <a:pt x="1850" y="86"/>
                </a:lnTo>
                <a:lnTo>
                  <a:pt x="1852" y="90"/>
                </a:lnTo>
                <a:lnTo>
                  <a:pt x="1854" y="96"/>
                </a:lnTo>
                <a:lnTo>
                  <a:pt x="1857" y="100"/>
                </a:lnTo>
                <a:lnTo>
                  <a:pt x="1857" y="105"/>
                </a:lnTo>
                <a:lnTo>
                  <a:pt x="1858" y="109"/>
                </a:lnTo>
                <a:lnTo>
                  <a:pt x="1858" y="113"/>
                </a:lnTo>
                <a:lnTo>
                  <a:pt x="1858" y="115"/>
                </a:lnTo>
                <a:lnTo>
                  <a:pt x="1857" y="116"/>
                </a:lnTo>
                <a:lnTo>
                  <a:pt x="1855" y="118"/>
                </a:lnTo>
                <a:lnTo>
                  <a:pt x="1854" y="119"/>
                </a:lnTo>
                <a:lnTo>
                  <a:pt x="1852" y="120"/>
                </a:lnTo>
                <a:lnTo>
                  <a:pt x="1850" y="122"/>
                </a:lnTo>
                <a:lnTo>
                  <a:pt x="1847" y="123"/>
                </a:lnTo>
                <a:lnTo>
                  <a:pt x="1844" y="126"/>
                </a:lnTo>
                <a:lnTo>
                  <a:pt x="1841" y="128"/>
                </a:lnTo>
                <a:lnTo>
                  <a:pt x="1837" y="131"/>
                </a:lnTo>
                <a:lnTo>
                  <a:pt x="1832" y="133"/>
                </a:lnTo>
                <a:lnTo>
                  <a:pt x="1828" y="135"/>
                </a:lnTo>
                <a:lnTo>
                  <a:pt x="1822" y="138"/>
                </a:lnTo>
                <a:lnTo>
                  <a:pt x="1818" y="141"/>
                </a:lnTo>
                <a:lnTo>
                  <a:pt x="1812" y="144"/>
                </a:lnTo>
                <a:lnTo>
                  <a:pt x="1806" y="146"/>
                </a:lnTo>
                <a:lnTo>
                  <a:pt x="1799" y="149"/>
                </a:lnTo>
                <a:lnTo>
                  <a:pt x="1793" y="154"/>
                </a:lnTo>
                <a:lnTo>
                  <a:pt x="1786" y="156"/>
                </a:lnTo>
                <a:lnTo>
                  <a:pt x="1779" y="159"/>
                </a:lnTo>
                <a:lnTo>
                  <a:pt x="1770" y="164"/>
                </a:lnTo>
                <a:lnTo>
                  <a:pt x="1763" y="168"/>
                </a:lnTo>
                <a:lnTo>
                  <a:pt x="1754" y="171"/>
                </a:lnTo>
                <a:lnTo>
                  <a:pt x="1746" y="175"/>
                </a:lnTo>
                <a:lnTo>
                  <a:pt x="1736" y="180"/>
                </a:lnTo>
                <a:lnTo>
                  <a:pt x="1726" y="184"/>
                </a:lnTo>
                <a:lnTo>
                  <a:pt x="1716" y="188"/>
                </a:lnTo>
                <a:lnTo>
                  <a:pt x="1706" y="192"/>
                </a:lnTo>
                <a:lnTo>
                  <a:pt x="1695" y="197"/>
                </a:lnTo>
                <a:lnTo>
                  <a:pt x="1684" y="201"/>
                </a:lnTo>
                <a:lnTo>
                  <a:pt x="1672" y="207"/>
                </a:lnTo>
                <a:lnTo>
                  <a:pt x="1661" y="211"/>
                </a:lnTo>
                <a:lnTo>
                  <a:pt x="1648" y="217"/>
                </a:lnTo>
                <a:lnTo>
                  <a:pt x="1636" y="221"/>
                </a:lnTo>
                <a:lnTo>
                  <a:pt x="1623" y="227"/>
                </a:lnTo>
                <a:lnTo>
                  <a:pt x="1609" y="231"/>
                </a:lnTo>
                <a:lnTo>
                  <a:pt x="1596" y="237"/>
                </a:lnTo>
                <a:lnTo>
                  <a:pt x="1582" y="243"/>
                </a:lnTo>
                <a:lnTo>
                  <a:pt x="1567" y="249"/>
                </a:lnTo>
                <a:lnTo>
                  <a:pt x="1553" y="254"/>
                </a:lnTo>
                <a:lnTo>
                  <a:pt x="1537" y="260"/>
                </a:lnTo>
                <a:lnTo>
                  <a:pt x="1521" y="266"/>
                </a:lnTo>
                <a:lnTo>
                  <a:pt x="1505" y="272"/>
                </a:lnTo>
                <a:lnTo>
                  <a:pt x="1490" y="279"/>
                </a:lnTo>
                <a:lnTo>
                  <a:pt x="1472" y="285"/>
                </a:lnTo>
                <a:lnTo>
                  <a:pt x="1455" y="292"/>
                </a:lnTo>
                <a:lnTo>
                  <a:pt x="1438" y="298"/>
                </a:lnTo>
                <a:lnTo>
                  <a:pt x="1421" y="305"/>
                </a:lnTo>
                <a:lnTo>
                  <a:pt x="1402" y="311"/>
                </a:lnTo>
                <a:lnTo>
                  <a:pt x="1383" y="318"/>
                </a:lnTo>
                <a:lnTo>
                  <a:pt x="1364" y="325"/>
                </a:lnTo>
                <a:lnTo>
                  <a:pt x="1346" y="332"/>
                </a:lnTo>
                <a:lnTo>
                  <a:pt x="1326" y="339"/>
                </a:lnTo>
                <a:lnTo>
                  <a:pt x="1305" y="347"/>
                </a:lnTo>
                <a:lnTo>
                  <a:pt x="1285" y="354"/>
                </a:lnTo>
                <a:lnTo>
                  <a:pt x="1264" y="361"/>
                </a:lnTo>
                <a:lnTo>
                  <a:pt x="1243" y="368"/>
                </a:lnTo>
                <a:lnTo>
                  <a:pt x="1222" y="377"/>
                </a:lnTo>
                <a:lnTo>
                  <a:pt x="1199" y="384"/>
                </a:lnTo>
                <a:lnTo>
                  <a:pt x="1177" y="391"/>
                </a:lnTo>
                <a:lnTo>
                  <a:pt x="1154" y="400"/>
                </a:lnTo>
                <a:lnTo>
                  <a:pt x="1131" y="407"/>
                </a:lnTo>
                <a:lnTo>
                  <a:pt x="1107" y="416"/>
                </a:lnTo>
                <a:lnTo>
                  <a:pt x="1061" y="431"/>
                </a:lnTo>
                <a:lnTo>
                  <a:pt x="1015" y="447"/>
                </a:lnTo>
                <a:lnTo>
                  <a:pt x="971" y="462"/>
                </a:lnTo>
                <a:lnTo>
                  <a:pt x="928" y="478"/>
                </a:lnTo>
                <a:lnTo>
                  <a:pt x="885" y="490"/>
                </a:lnTo>
                <a:lnTo>
                  <a:pt x="845" y="505"/>
                </a:lnTo>
                <a:lnTo>
                  <a:pt x="804" y="518"/>
                </a:lnTo>
                <a:lnTo>
                  <a:pt x="767" y="531"/>
                </a:lnTo>
                <a:lnTo>
                  <a:pt x="730" y="542"/>
                </a:lnTo>
                <a:lnTo>
                  <a:pt x="694" y="554"/>
                </a:lnTo>
                <a:lnTo>
                  <a:pt x="658" y="565"/>
                </a:lnTo>
                <a:lnTo>
                  <a:pt x="624" y="575"/>
                </a:lnTo>
                <a:lnTo>
                  <a:pt x="591" y="585"/>
                </a:lnTo>
                <a:lnTo>
                  <a:pt x="560" y="596"/>
                </a:lnTo>
                <a:lnTo>
                  <a:pt x="529" y="604"/>
                </a:lnTo>
                <a:lnTo>
                  <a:pt x="501" y="613"/>
                </a:lnTo>
                <a:lnTo>
                  <a:pt x="472" y="621"/>
                </a:lnTo>
                <a:lnTo>
                  <a:pt x="446" y="629"/>
                </a:lnTo>
                <a:lnTo>
                  <a:pt x="420" y="636"/>
                </a:lnTo>
                <a:lnTo>
                  <a:pt x="396" y="643"/>
                </a:lnTo>
                <a:lnTo>
                  <a:pt x="371" y="649"/>
                </a:lnTo>
                <a:lnTo>
                  <a:pt x="349" y="655"/>
                </a:lnTo>
                <a:lnTo>
                  <a:pt x="328" y="659"/>
                </a:lnTo>
                <a:lnTo>
                  <a:pt x="308" y="663"/>
                </a:lnTo>
                <a:lnTo>
                  <a:pt x="289" y="668"/>
                </a:lnTo>
                <a:lnTo>
                  <a:pt x="272" y="670"/>
                </a:lnTo>
                <a:lnTo>
                  <a:pt x="254" y="673"/>
                </a:lnTo>
                <a:lnTo>
                  <a:pt x="239" y="676"/>
                </a:lnTo>
                <a:lnTo>
                  <a:pt x="224" y="678"/>
                </a:lnTo>
                <a:lnTo>
                  <a:pt x="211" y="679"/>
                </a:lnTo>
                <a:lnTo>
                  <a:pt x="200" y="681"/>
                </a:lnTo>
                <a:lnTo>
                  <a:pt x="188" y="681"/>
                </a:lnTo>
                <a:lnTo>
                  <a:pt x="168" y="681"/>
                </a:lnTo>
                <a:lnTo>
                  <a:pt x="149" y="679"/>
                </a:lnTo>
                <a:lnTo>
                  <a:pt x="131" y="679"/>
                </a:lnTo>
                <a:lnTo>
                  <a:pt x="115" y="678"/>
                </a:lnTo>
                <a:lnTo>
                  <a:pt x="99" y="676"/>
                </a:lnTo>
                <a:lnTo>
                  <a:pt x="85" y="673"/>
                </a:lnTo>
                <a:lnTo>
                  <a:pt x="72" y="672"/>
                </a:lnTo>
                <a:lnTo>
                  <a:pt x="59" y="669"/>
                </a:lnTo>
                <a:lnTo>
                  <a:pt x="49" y="666"/>
                </a:lnTo>
                <a:lnTo>
                  <a:pt x="39" y="663"/>
                </a:lnTo>
                <a:lnTo>
                  <a:pt x="30" y="660"/>
                </a:lnTo>
                <a:lnTo>
                  <a:pt x="21" y="657"/>
                </a:lnTo>
                <a:lnTo>
                  <a:pt x="15" y="653"/>
                </a:lnTo>
                <a:lnTo>
                  <a:pt x="10" y="650"/>
                </a:lnTo>
                <a:lnTo>
                  <a:pt x="4" y="646"/>
                </a:lnTo>
                <a:lnTo>
                  <a:pt x="1" y="643"/>
                </a:lnTo>
                <a:lnTo>
                  <a:pt x="0" y="642"/>
                </a:lnTo>
                <a:lnTo>
                  <a:pt x="0" y="640"/>
                </a:lnTo>
                <a:lnTo>
                  <a:pt x="0" y="639"/>
                </a:lnTo>
                <a:lnTo>
                  <a:pt x="1" y="637"/>
                </a:lnTo>
                <a:lnTo>
                  <a:pt x="3" y="636"/>
                </a:lnTo>
                <a:lnTo>
                  <a:pt x="4" y="633"/>
                </a:lnTo>
                <a:lnTo>
                  <a:pt x="5" y="632"/>
                </a:lnTo>
                <a:lnTo>
                  <a:pt x="8" y="630"/>
                </a:lnTo>
                <a:lnTo>
                  <a:pt x="11" y="627"/>
                </a:lnTo>
                <a:lnTo>
                  <a:pt x="14" y="624"/>
                </a:lnTo>
                <a:lnTo>
                  <a:pt x="18" y="623"/>
                </a:lnTo>
                <a:lnTo>
                  <a:pt x="23" y="620"/>
                </a:lnTo>
                <a:lnTo>
                  <a:pt x="27" y="617"/>
                </a:lnTo>
                <a:lnTo>
                  <a:pt x="31" y="614"/>
                </a:lnTo>
                <a:lnTo>
                  <a:pt x="37" y="611"/>
                </a:lnTo>
                <a:lnTo>
                  <a:pt x="41" y="609"/>
                </a:lnTo>
                <a:lnTo>
                  <a:pt x="49" y="606"/>
                </a:lnTo>
                <a:lnTo>
                  <a:pt x="54" y="601"/>
                </a:lnTo>
                <a:lnTo>
                  <a:pt x="62" y="598"/>
                </a:lnTo>
                <a:lnTo>
                  <a:pt x="69" y="594"/>
                </a:lnTo>
                <a:lnTo>
                  <a:pt x="76" y="591"/>
                </a:lnTo>
                <a:lnTo>
                  <a:pt x="83" y="587"/>
                </a:lnTo>
                <a:lnTo>
                  <a:pt x="92" y="583"/>
                </a:lnTo>
                <a:lnTo>
                  <a:pt x="100" y="578"/>
                </a:lnTo>
                <a:lnTo>
                  <a:pt x="109" y="574"/>
                </a:lnTo>
                <a:lnTo>
                  <a:pt x="119" y="570"/>
                </a:lnTo>
                <a:lnTo>
                  <a:pt x="129" y="565"/>
                </a:lnTo>
                <a:lnTo>
                  <a:pt x="139" y="560"/>
                </a:lnTo>
                <a:lnTo>
                  <a:pt x="149" y="555"/>
                </a:lnTo>
                <a:lnTo>
                  <a:pt x="161" y="549"/>
                </a:lnTo>
                <a:lnTo>
                  <a:pt x="172" y="545"/>
                </a:lnTo>
                <a:lnTo>
                  <a:pt x="184" y="539"/>
                </a:lnTo>
                <a:lnTo>
                  <a:pt x="197" y="534"/>
                </a:lnTo>
                <a:lnTo>
                  <a:pt x="210" y="528"/>
                </a:lnTo>
                <a:lnTo>
                  <a:pt x="223" y="522"/>
                </a:lnTo>
                <a:lnTo>
                  <a:pt x="236" y="516"/>
                </a:lnTo>
                <a:lnTo>
                  <a:pt x="250" y="511"/>
                </a:lnTo>
                <a:lnTo>
                  <a:pt x="265" y="505"/>
                </a:lnTo>
                <a:lnTo>
                  <a:pt x="279" y="498"/>
                </a:lnTo>
                <a:lnTo>
                  <a:pt x="293" y="492"/>
                </a:lnTo>
                <a:lnTo>
                  <a:pt x="309" y="485"/>
                </a:lnTo>
                <a:lnTo>
                  <a:pt x="325" y="478"/>
                </a:lnTo>
                <a:lnTo>
                  <a:pt x="341" y="472"/>
                </a:lnTo>
                <a:lnTo>
                  <a:pt x="358" y="465"/>
                </a:lnTo>
                <a:lnTo>
                  <a:pt x="375" y="457"/>
                </a:lnTo>
                <a:lnTo>
                  <a:pt x="393" y="450"/>
                </a:lnTo>
                <a:lnTo>
                  <a:pt x="410" y="442"/>
                </a:lnTo>
                <a:lnTo>
                  <a:pt x="429" y="434"/>
                </a:lnTo>
                <a:lnTo>
                  <a:pt x="447" y="427"/>
                </a:lnTo>
                <a:lnTo>
                  <a:pt x="466" y="418"/>
                </a:lnTo>
                <a:lnTo>
                  <a:pt x="486" y="410"/>
                </a:lnTo>
                <a:lnTo>
                  <a:pt x="505" y="403"/>
                </a:lnTo>
                <a:lnTo>
                  <a:pt x="525" y="394"/>
                </a:lnTo>
                <a:lnTo>
                  <a:pt x="547" y="385"/>
                </a:lnTo>
                <a:lnTo>
                  <a:pt x="567" y="377"/>
                </a:lnTo>
                <a:lnTo>
                  <a:pt x="588" y="368"/>
                </a:lnTo>
                <a:lnTo>
                  <a:pt x="611" y="359"/>
                </a:lnTo>
                <a:lnTo>
                  <a:pt x="633" y="349"/>
                </a:lnTo>
                <a:lnTo>
                  <a:pt x="656" y="341"/>
                </a:lnTo>
                <a:lnTo>
                  <a:pt x="679" y="331"/>
                </a:lnTo>
                <a:lnTo>
                  <a:pt x="702" y="322"/>
                </a:lnTo>
                <a:lnTo>
                  <a:pt x="727" y="312"/>
                </a:lnTo>
                <a:lnTo>
                  <a:pt x="751" y="302"/>
                </a:lnTo>
                <a:lnTo>
                  <a:pt x="799" y="282"/>
                </a:lnTo>
                <a:lnTo>
                  <a:pt x="843" y="263"/>
                </a:lnTo>
                <a:lnTo>
                  <a:pt x="888" y="246"/>
                </a:lnTo>
                <a:lnTo>
                  <a:pt x="931" y="228"/>
                </a:lnTo>
                <a:lnTo>
                  <a:pt x="973" y="211"/>
                </a:lnTo>
                <a:lnTo>
                  <a:pt x="1013" y="195"/>
                </a:lnTo>
                <a:lnTo>
                  <a:pt x="1053" y="180"/>
                </a:lnTo>
                <a:lnTo>
                  <a:pt x="1091" y="165"/>
                </a:lnTo>
                <a:lnTo>
                  <a:pt x="1128" y="151"/>
                </a:lnTo>
                <a:lnTo>
                  <a:pt x="1164" y="138"/>
                </a:lnTo>
                <a:lnTo>
                  <a:pt x="1199" y="125"/>
                </a:lnTo>
                <a:lnTo>
                  <a:pt x="1232" y="113"/>
                </a:lnTo>
                <a:lnTo>
                  <a:pt x="1264" y="102"/>
                </a:lnTo>
                <a:lnTo>
                  <a:pt x="1294" y="92"/>
                </a:lnTo>
                <a:lnTo>
                  <a:pt x="1323" y="82"/>
                </a:lnTo>
                <a:lnTo>
                  <a:pt x="1351" y="72"/>
                </a:lnTo>
                <a:lnTo>
                  <a:pt x="1377" y="63"/>
                </a:lnTo>
                <a:lnTo>
                  <a:pt x="1403" y="54"/>
                </a:lnTo>
                <a:lnTo>
                  <a:pt x="1428" y="47"/>
                </a:lnTo>
                <a:lnTo>
                  <a:pt x="1449" y="40"/>
                </a:lnTo>
                <a:lnTo>
                  <a:pt x="1471" y="33"/>
                </a:lnTo>
                <a:lnTo>
                  <a:pt x="1491" y="27"/>
                </a:lnTo>
                <a:lnTo>
                  <a:pt x="1510" y="21"/>
                </a:lnTo>
                <a:lnTo>
                  <a:pt x="1527" y="17"/>
                </a:lnTo>
                <a:lnTo>
                  <a:pt x="1543" y="13"/>
                </a:lnTo>
                <a:lnTo>
                  <a:pt x="1557" y="10"/>
                </a:lnTo>
                <a:lnTo>
                  <a:pt x="1570" y="7"/>
                </a:lnTo>
                <a:lnTo>
                  <a:pt x="1582" y="4"/>
                </a:lnTo>
                <a:lnTo>
                  <a:pt x="1592" y="2"/>
                </a:lnTo>
                <a:lnTo>
                  <a:pt x="1600" y="1"/>
                </a:lnTo>
                <a:lnTo>
                  <a:pt x="1608" y="0"/>
                </a:lnTo>
                <a:lnTo>
                  <a:pt x="1615" y="0"/>
                </a:lnTo>
                <a:lnTo>
                  <a:pt x="1625" y="0"/>
                </a:lnTo>
                <a:lnTo>
                  <a:pt x="1635" y="1"/>
                </a:lnTo>
                <a:lnTo>
                  <a:pt x="1647" y="1"/>
                </a:lnTo>
                <a:lnTo>
                  <a:pt x="1657" y="2"/>
                </a:lnTo>
                <a:lnTo>
                  <a:pt x="1678" y="7"/>
                </a:lnTo>
                <a:lnTo>
                  <a:pt x="1698" y="11"/>
                </a:lnTo>
                <a:lnTo>
                  <a:pt x="1720" y="17"/>
                </a:lnTo>
                <a:lnTo>
                  <a:pt x="1742" y="23"/>
                </a:lnTo>
                <a:lnTo>
                  <a:pt x="1762" y="30"/>
                </a:lnTo>
                <a:lnTo>
                  <a:pt x="1783" y="3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Freeform 76"/>
          <p:cNvSpPr/>
          <p:nvPr/>
        </p:nvSpPr>
        <p:spPr>
          <a:xfrm>
            <a:off x="6637320" y="2841480"/>
            <a:ext cx="1182600" cy="2266920"/>
          </a:xfrm>
          <a:custGeom>
            <a:avLst/>
            <a:gdLst/>
            <a:ahLst/>
            <a:rect l="l" t="t" r="r" b="b"/>
            <a:pathLst>
              <a:path w="2233" h="4284">
                <a:moveTo>
                  <a:pt x="1209" y="3717"/>
                </a:moveTo>
                <a:lnTo>
                  <a:pt x="1189" y="3693"/>
                </a:lnTo>
                <a:lnTo>
                  <a:pt x="1170" y="3670"/>
                </a:lnTo>
                <a:lnTo>
                  <a:pt x="1152" y="3645"/>
                </a:lnTo>
                <a:lnTo>
                  <a:pt x="1133" y="3621"/>
                </a:lnTo>
                <a:lnTo>
                  <a:pt x="1114" y="3595"/>
                </a:lnTo>
                <a:lnTo>
                  <a:pt x="1096" y="3569"/>
                </a:lnTo>
                <a:lnTo>
                  <a:pt x="1077" y="3543"/>
                </a:lnTo>
                <a:lnTo>
                  <a:pt x="1058" y="3517"/>
                </a:lnTo>
                <a:lnTo>
                  <a:pt x="1039" y="3490"/>
                </a:lnTo>
                <a:lnTo>
                  <a:pt x="1021" y="3462"/>
                </a:lnTo>
                <a:lnTo>
                  <a:pt x="1002" y="3435"/>
                </a:lnTo>
                <a:lnTo>
                  <a:pt x="985" y="3408"/>
                </a:lnTo>
                <a:lnTo>
                  <a:pt x="966" y="3379"/>
                </a:lnTo>
                <a:lnTo>
                  <a:pt x="949" y="3350"/>
                </a:lnTo>
                <a:lnTo>
                  <a:pt x="930" y="3320"/>
                </a:lnTo>
                <a:lnTo>
                  <a:pt x="913" y="3290"/>
                </a:lnTo>
                <a:lnTo>
                  <a:pt x="895" y="3259"/>
                </a:lnTo>
                <a:lnTo>
                  <a:pt x="877" y="3229"/>
                </a:lnTo>
                <a:lnTo>
                  <a:pt x="859" y="3197"/>
                </a:lnTo>
                <a:lnTo>
                  <a:pt x="842" y="3166"/>
                </a:lnTo>
                <a:lnTo>
                  <a:pt x="825" y="3134"/>
                </a:lnTo>
                <a:lnTo>
                  <a:pt x="809" y="3102"/>
                </a:lnTo>
                <a:lnTo>
                  <a:pt x="792" y="3069"/>
                </a:lnTo>
                <a:lnTo>
                  <a:pt x="775" y="3035"/>
                </a:lnTo>
                <a:lnTo>
                  <a:pt x="759" y="3002"/>
                </a:lnTo>
                <a:lnTo>
                  <a:pt x="741" y="2967"/>
                </a:lnTo>
                <a:lnTo>
                  <a:pt x="726" y="2933"/>
                </a:lnTo>
                <a:lnTo>
                  <a:pt x="710" y="2897"/>
                </a:lnTo>
                <a:lnTo>
                  <a:pt x="692" y="2861"/>
                </a:lnTo>
                <a:lnTo>
                  <a:pt x="677" y="2825"/>
                </a:lnTo>
                <a:lnTo>
                  <a:pt x="661" y="2789"/>
                </a:lnTo>
                <a:lnTo>
                  <a:pt x="646" y="2751"/>
                </a:lnTo>
                <a:lnTo>
                  <a:pt x="615" y="2676"/>
                </a:lnTo>
                <a:lnTo>
                  <a:pt x="586" y="2601"/>
                </a:lnTo>
                <a:lnTo>
                  <a:pt x="557" y="2525"/>
                </a:lnTo>
                <a:lnTo>
                  <a:pt x="530" y="2449"/>
                </a:lnTo>
                <a:lnTo>
                  <a:pt x="504" y="2373"/>
                </a:lnTo>
                <a:lnTo>
                  <a:pt x="479" y="2295"/>
                </a:lnTo>
                <a:lnTo>
                  <a:pt x="455" y="2217"/>
                </a:lnTo>
                <a:lnTo>
                  <a:pt x="433" y="2138"/>
                </a:lnTo>
                <a:lnTo>
                  <a:pt x="410" y="2059"/>
                </a:lnTo>
                <a:lnTo>
                  <a:pt x="390" y="1979"/>
                </a:lnTo>
                <a:lnTo>
                  <a:pt x="371" y="1899"/>
                </a:lnTo>
                <a:lnTo>
                  <a:pt x="353" y="1817"/>
                </a:lnTo>
                <a:lnTo>
                  <a:pt x="335" y="1735"/>
                </a:lnTo>
                <a:lnTo>
                  <a:pt x="318" y="1651"/>
                </a:lnTo>
                <a:lnTo>
                  <a:pt x="304" y="1568"/>
                </a:lnTo>
                <a:lnTo>
                  <a:pt x="289" y="1483"/>
                </a:lnTo>
                <a:lnTo>
                  <a:pt x="282" y="1443"/>
                </a:lnTo>
                <a:lnTo>
                  <a:pt x="275" y="1402"/>
                </a:lnTo>
                <a:lnTo>
                  <a:pt x="269" y="1363"/>
                </a:lnTo>
                <a:lnTo>
                  <a:pt x="263" y="1324"/>
                </a:lnTo>
                <a:lnTo>
                  <a:pt x="256" y="1287"/>
                </a:lnTo>
                <a:lnTo>
                  <a:pt x="251" y="1250"/>
                </a:lnTo>
                <a:lnTo>
                  <a:pt x="245" y="1214"/>
                </a:lnTo>
                <a:lnTo>
                  <a:pt x="240" y="1178"/>
                </a:lnTo>
                <a:lnTo>
                  <a:pt x="235" y="1143"/>
                </a:lnTo>
                <a:lnTo>
                  <a:pt x="229" y="1109"/>
                </a:lnTo>
                <a:lnTo>
                  <a:pt x="225" y="1075"/>
                </a:lnTo>
                <a:lnTo>
                  <a:pt x="220" y="1042"/>
                </a:lnTo>
                <a:lnTo>
                  <a:pt x="216" y="1011"/>
                </a:lnTo>
                <a:lnTo>
                  <a:pt x="212" y="979"/>
                </a:lnTo>
                <a:lnTo>
                  <a:pt x="207" y="947"/>
                </a:lnTo>
                <a:lnTo>
                  <a:pt x="203" y="917"/>
                </a:lnTo>
                <a:lnTo>
                  <a:pt x="199" y="888"/>
                </a:lnTo>
                <a:lnTo>
                  <a:pt x="194" y="859"/>
                </a:lnTo>
                <a:lnTo>
                  <a:pt x="192" y="832"/>
                </a:lnTo>
                <a:lnTo>
                  <a:pt x="189" y="805"/>
                </a:lnTo>
                <a:lnTo>
                  <a:pt x="184" y="779"/>
                </a:lnTo>
                <a:lnTo>
                  <a:pt x="181" y="753"/>
                </a:lnTo>
                <a:lnTo>
                  <a:pt x="179" y="727"/>
                </a:lnTo>
                <a:lnTo>
                  <a:pt x="176" y="704"/>
                </a:lnTo>
                <a:lnTo>
                  <a:pt x="173" y="680"/>
                </a:lnTo>
                <a:lnTo>
                  <a:pt x="170" y="658"/>
                </a:lnTo>
                <a:lnTo>
                  <a:pt x="168" y="635"/>
                </a:lnTo>
                <a:lnTo>
                  <a:pt x="166" y="615"/>
                </a:lnTo>
                <a:lnTo>
                  <a:pt x="164" y="593"/>
                </a:lnTo>
                <a:lnTo>
                  <a:pt x="161" y="574"/>
                </a:lnTo>
                <a:lnTo>
                  <a:pt x="160" y="556"/>
                </a:lnTo>
                <a:lnTo>
                  <a:pt x="158" y="537"/>
                </a:lnTo>
                <a:lnTo>
                  <a:pt x="154" y="502"/>
                </a:lnTo>
                <a:lnTo>
                  <a:pt x="150" y="469"/>
                </a:lnTo>
                <a:lnTo>
                  <a:pt x="145" y="436"/>
                </a:lnTo>
                <a:lnTo>
                  <a:pt x="140" y="406"/>
                </a:lnTo>
                <a:lnTo>
                  <a:pt x="134" y="376"/>
                </a:lnTo>
                <a:lnTo>
                  <a:pt x="128" y="348"/>
                </a:lnTo>
                <a:lnTo>
                  <a:pt x="122" y="321"/>
                </a:lnTo>
                <a:lnTo>
                  <a:pt x="115" y="297"/>
                </a:lnTo>
                <a:lnTo>
                  <a:pt x="108" y="272"/>
                </a:lnTo>
                <a:lnTo>
                  <a:pt x="101" y="249"/>
                </a:lnTo>
                <a:lnTo>
                  <a:pt x="92" y="227"/>
                </a:lnTo>
                <a:lnTo>
                  <a:pt x="84" y="207"/>
                </a:lnTo>
                <a:lnTo>
                  <a:pt x="75" y="189"/>
                </a:lnTo>
                <a:lnTo>
                  <a:pt x="65" y="171"/>
                </a:lnTo>
                <a:lnTo>
                  <a:pt x="56" y="154"/>
                </a:lnTo>
                <a:lnTo>
                  <a:pt x="46" y="140"/>
                </a:lnTo>
                <a:lnTo>
                  <a:pt x="36" y="130"/>
                </a:lnTo>
                <a:lnTo>
                  <a:pt x="27" y="118"/>
                </a:lnTo>
                <a:lnTo>
                  <a:pt x="20" y="108"/>
                </a:lnTo>
                <a:lnTo>
                  <a:pt x="13" y="98"/>
                </a:lnTo>
                <a:lnTo>
                  <a:pt x="9" y="88"/>
                </a:lnTo>
                <a:lnTo>
                  <a:pt x="4" y="78"/>
                </a:lnTo>
                <a:lnTo>
                  <a:pt x="3" y="68"/>
                </a:lnTo>
                <a:lnTo>
                  <a:pt x="1" y="59"/>
                </a:lnTo>
                <a:lnTo>
                  <a:pt x="0" y="50"/>
                </a:lnTo>
                <a:lnTo>
                  <a:pt x="1" y="42"/>
                </a:lnTo>
                <a:lnTo>
                  <a:pt x="3" y="35"/>
                </a:lnTo>
                <a:lnTo>
                  <a:pt x="6" y="27"/>
                </a:lnTo>
                <a:lnTo>
                  <a:pt x="10" y="22"/>
                </a:lnTo>
                <a:lnTo>
                  <a:pt x="14" y="16"/>
                </a:lnTo>
                <a:lnTo>
                  <a:pt x="20" y="12"/>
                </a:lnTo>
                <a:lnTo>
                  <a:pt x="27" y="7"/>
                </a:lnTo>
                <a:lnTo>
                  <a:pt x="35" y="4"/>
                </a:lnTo>
                <a:lnTo>
                  <a:pt x="42" y="1"/>
                </a:lnTo>
                <a:lnTo>
                  <a:pt x="52" y="0"/>
                </a:lnTo>
                <a:lnTo>
                  <a:pt x="62" y="0"/>
                </a:lnTo>
                <a:lnTo>
                  <a:pt x="73" y="0"/>
                </a:lnTo>
                <a:lnTo>
                  <a:pt x="85" y="0"/>
                </a:lnTo>
                <a:lnTo>
                  <a:pt x="98" y="1"/>
                </a:lnTo>
                <a:lnTo>
                  <a:pt x="111" y="4"/>
                </a:lnTo>
                <a:lnTo>
                  <a:pt x="125" y="7"/>
                </a:lnTo>
                <a:lnTo>
                  <a:pt x="141" y="12"/>
                </a:lnTo>
                <a:lnTo>
                  <a:pt x="157" y="16"/>
                </a:lnTo>
                <a:lnTo>
                  <a:pt x="174" y="20"/>
                </a:lnTo>
                <a:lnTo>
                  <a:pt x="192" y="26"/>
                </a:lnTo>
                <a:lnTo>
                  <a:pt x="210" y="32"/>
                </a:lnTo>
                <a:lnTo>
                  <a:pt x="230" y="37"/>
                </a:lnTo>
                <a:lnTo>
                  <a:pt x="252" y="45"/>
                </a:lnTo>
                <a:lnTo>
                  <a:pt x="272" y="55"/>
                </a:lnTo>
                <a:lnTo>
                  <a:pt x="292" y="65"/>
                </a:lnTo>
                <a:lnTo>
                  <a:pt x="311" y="75"/>
                </a:lnTo>
                <a:lnTo>
                  <a:pt x="328" y="85"/>
                </a:lnTo>
                <a:lnTo>
                  <a:pt x="346" y="94"/>
                </a:lnTo>
                <a:lnTo>
                  <a:pt x="361" y="102"/>
                </a:lnTo>
                <a:lnTo>
                  <a:pt x="376" y="111"/>
                </a:lnTo>
                <a:lnTo>
                  <a:pt x="390" y="118"/>
                </a:lnTo>
                <a:lnTo>
                  <a:pt x="402" y="127"/>
                </a:lnTo>
                <a:lnTo>
                  <a:pt x="413" y="134"/>
                </a:lnTo>
                <a:lnTo>
                  <a:pt x="425" y="141"/>
                </a:lnTo>
                <a:lnTo>
                  <a:pt x="433" y="148"/>
                </a:lnTo>
                <a:lnTo>
                  <a:pt x="442" y="156"/>
                </a:lnTo>
                <a:lnTo>
                  <a:pt x="448" y="163"/>
                </a:lnTo>
                <a:lnTo>
                  <a:pt x="454" y="170"/>
                </a:lnTo>
                <a:lnTo>
                  <a:pt x="458" y="177"/>
                </a:lnTo>
                <a:lnTo>
                  <a:pt x="461" y="187"/>
                </a:lnTo>
                <a:lnTo>
                  <a:pt x="464" y="199"/>
                </a:lnTo>
                <a:lnTo>
                  <a:pt x="465" y="209"/>
                </a:lnTo>
                <a:lnTo>
                  <a:pt x="465" y="220"/>
                </a:lnTo>
                <a:lnTo>
                  <a:pt x="465" y="230"/>
                </a:lnTo>
                <a:lnTo>
                  <a:pt x="465" y="242"/>
                </a:lnTo>
                <a:lnTo>
                  <a:pt x="464" y="253"/>
                </a:lnTo>
                <a:lnTo>
                  <a:pt x="462" y="265"/>
                </a:lnTo>
                <a:lnTo>
                  <a:pt x="461" y="276"/>
                </a:lnTo>
                <a:lnTo>
                  <a:pt x="458" y="288"/>
                </a:lnTo>
                <a:lnTo>
                  <a:pt x="452" y="312"/>
                </a:lnTo>
                <a:lnTo>
                  <a:pt x="449" y="325"/>
                </a:lnTo>
                <a:lnTo>
                  <a:pt x="446" y="338"/>
                </a:lnTo>
                <a:lnTo>
                  <a:pt x="442" y="353"/>
                </a:lnTo>
                <a:lnTo>
                  <a:pt x="439" y="367"/>
                </a:lnTo>
                <a:lnTo>
                  <a:pt x="438" y="374"/>
                </a:lnTo>
                <a:lnTo>
                  <a:pt x="436" y="383"/>
                </a:lnTo>
                <a:lnTo>
                  <a:pt x="435" y="392"/>
                </a:lnTo>
                <a:lnTo>
                  <a:pt x="433" y="402"/>
                </a:lnTo>
                <a:lnTo>
                  <a:pt x="432" y="413"/>
                </a:lnTo>
                <a:lnTo>
                  <a:pt x="430" y="425"/>
                </a:lnTo>
                <a:lnTo>
                  <a:pt x="430" y="438"/>
                </a:lnTo>
                <a:lnTo>
                  <a:pt x="429" y="452"/>
                </a:lnTo>
                <a:lnTo>
                  <a:pt x="429" y="466"/>
                </a:lnTo>
                <a:lnTo>
                  <a:pt x="429" y="481"/>
                </a:lnTo>
                <a:lnTo>
                  <a:pt x="428" y="498"/>
                </a:lnTo>
                <a:lnTo>
                  <a:pt x="428" y="515"/>
                </a:lnTo>
                <a:lnTo>
                  <a:pt x="429" y="533"/>
                </a:lnTo>
                <a:lnTo>
                  <a:pt x="429" y="551"/>
                </a:lnTo>
                <a:lnTo>
                  <a:pt x="429" y="572"/>
                </a:lnTo>
                <a:lnTo>
                  <a:pt x="430" y="592"/>
                </a:lnTo>
                <a:lnTo>
                  <a:pt x="430" y="613"/>
                </a:lnTo>
                <a:lnTo>
                  <a:pt x="432" y="635"/>
                </a:lnTo>
                <a:lnTo>
                  <a:pt x="433" y="658"/>
                </a:lnTo>
                <a:lnTo>
                  <a:pt x="435" y="681"/>
                </a:lnTo>
                <a:lnTo>
                  <a:pt x="438" y="705"/>
                </a:lnTo>
                <a:lnTo>
                  <a:pt x="439" y="731"/>
                </a:lnTo>
                <a:lnTo>
                  <a:pt x="442" y="757"/>
                </a:lnTo>
                <a:lnTo>
                  <a:pt x="445" y="785"/>
                </a:lnTo>
                <a:lnTo>
                  <a:pt x="448" y="812"/>
                </a:lnTo>
                <a:lnTo>
                  <a:pt x="451" y="841"/>
                </a:lnTo>
                <a:lnTo>
                  <a:pt x="455" y="871"/>
                </a:lnTo>
                <a:lnTo>
                  <a:pt x="458" y="901"/>
                </a:lnTo>
                <a:lnTo>
                  <a:pt x="462" y="931"/>
                </a:lnTo>
                <a:lnTo>
                  <a:pt x="466" y="963"/>
                </a:lnTo>
                <a:lnTo>
                  <a:pt x="472" y="996"/>
                </a:lnTo>
                <a:lnTo>
                  <a:pt x="477" y="1029"/>
                </a:lnTo>
                <a:lnTo>
                  <a:pt x="498" y="1169"/>
                </a:lnTo>
                <a:lnTo>
                  <a:pt x="520" y="1306"/>
                </a:lnTo>
                <a:lnTo>
                  <a:pt x="541" y="1440"/>
                </a:lnTo>
                <a:lnTo>
                  <a:pt x="566" y="1568"/>
                </a:lnTo>
                <a:lnTo>
                  <a:pt x="592" y="1694"/>
                </a:lnTo>
                <a:lnTo>
                  <a:pt x="621" y="1817"/>
                </a:lnTo>
                <a:lnTo>
                  <a:pt x="651" y="1935"/>
                </a:lnTo>
                <a:lnTo>
                  <a:pt x="684" y="2051"/>
                </a:lnTo>
                <a:lnTo>
                  <a:pt x="700" y="2108"/>
                </a:lnTo>
                <a:lnTo>
                  <a:pt x="717" y="2162"/>
                </a:lnTo>
                <a:lnTo>
                  <a:pt x="734" y="2216"/>
                </a:lnTo>
                <a:lnTo>
                  <a:pt x="750" y="2267"/>
                </a:lnTo>
                <a:lnTo>
                  <a:pt x="766" y="2318"/>
                </a:lnTo>
                <a:lnTo>
                  <a:pt x="783" y="2368"/>
                </a:lnTo>
                <a:lnTo>
                  <a:pt x="799" y="2416"/>
                </a:lnTo>
                <a:lnTo>
                  <a:pt x="815" y="2463"/>
                </a:lnTo>
                <a:lnTo>
                  <a:pt x="831" y="2508"/>
                </a:lnTo>
                <a:lnTo>
                  <a:pt x="847" y="2552"/>
                </a:lnTo>
                <a:lnTo>
                  <a:pt x="862" y="2596"/>
                </a:lnTo>
                <a:lnTo>
                  <a:pt x="880" y="2636"/>
                </a:lnTo>
                <a:lnTo>
                  <a:pt x="895" y="2676"/>
                </a:lnTo>
                <a:lnTo>
                  <a:pt x="911" y="2715"/>
                </a:lnTo>
                <a:lnTo>
                  <a:pt x="929" y="2753"/>
                </a:lnTo>
                <a:lnTo>
                  <a:pt x="946" y="2790"/>
                </a:lnTo>
                <a:lnTo>
                  <a:pt x="963" y="2825"/>
                </a:lnTo>
                <a:lnTo>
                  <a:pt x="980" y="2859"/>
                </a:lnTo>
                <a:lnTo>
                  <a:pt x="998" y="2894"/>
                </a:lnTo>
                <a:lnTo>
                  <a:pt x="1016" y="2928"/>
                </a:lnTo>
                <a:lnTo>
                  <a:pt x="1034" y="2961"/>
                </a:lnTo>
                <a:lnTo>
                  <a:pt x="1052" y="2994"/>
                </a:lnTo>
                <a:lnTo>
                  <a:pt x="1070" y="3026"/>
                </a:lnTo>
                <a:lnTo>
                  <a:pt x="1088" y="3059"/>
                </a:lnTo>
                <a:lnTo>
                  <a:pt x="1107" y="3091"/>
                </a:lnTo>
                <a:lnTo>
                  <a:pt x="1126" y="3121"/>
                </a:lnTo>
                <a:lnTo>
                  <a:pt x="1146" y="3153"/>
                </a:lnTo>
                <a:lnTo>
                  <a:pt x="1165" y="3183"/>
                </a:lnTo>
                <a:lnTo>
                  <a:pt x="1185" y="3213"/>
                </a:lnTo>
                <a:lnTo>
                  <a:pt x="1205" y="3242"/>
                </a:lnTo>
                <a:lnTo>
                  <a:pt x="1225" y="3272"/>
                </a:lnTo>
                <a:lnTo>
                  <a:pt x="1247" y="3301"/>
                </a:lnTo>
                <a:lnTo>
                  <a:pt x="1267" y="3328"/>
                </a:lnTo>
                <a:lnTo>
                  <a:pt x="1288" y="3356"/>
                </a:lnTo>
                <a:lnTo>
                  <a:pt x="1310" y="3383"/>
                </a:lnTo>
                <a:lnTo>
                  <a:pt x="1333" y="3410"/>
                </a:lnTo>
                <a:lnTo>
                  <a:pt x="1356" y="3436"/>
                </a:lnTo>
                <a:lnTo>
                  <a:pt x="1379" y="3461"/>
                </a:lnTo>
                <a:lnTo>
                  <a:pt x="1402" y="3487"/>
                </a:lnTo>
                <a:lnTo>
                  <a:pt x="1427" y="3510"/>
                </a:lnTo>
                <a:lnTo>
                  <a:pt x="1450" y="3534"/>
                </a:lnTo>
                <a:lnTo>
                  <a:pt x="1474" y="3557"/>
                </a:lnTo>
                <a:lnTo>
                  <a:pt x="1499" y="3579"/>
                </a:lnTo>
                <a:lnTo>
                  <a:pt x="1523" y="3600"/>
                </a:lnTo>
                <a:lnTo>
                  <a:pt x="1548" y="3621"/>
                </a:lnTo>
                <a:lnTo>
                  <a:pt x="1572" y="3641"/>
                </a:lnTo>
                <a:lnTo>
                  <a:pt x="1597" y="3660"/>
                </a:lnTo>
                <a:lnTo>
                  <a:pt x="1621" y="3678"/>
                </a:lnTo>
                <a:lnTo>
                  <a:pt x="1645" y="3695"/>
                </a:lnTo>
                <a:lnTo>
                  <a:pt x="1667" y="3711"/>
                </a:lnTo>
                <a:lnTo>
                  <a:pt x="1689" y="3726"/>
                </a:lnTo>
                <a:lnTo>
                  <a:pt x="1709" y="3740"/>
                </a:lnTo>
                <a:lnTo>
                  <a:pt x="1728" y="3752"/>
                </a:lnTo>
                <a:lnTo>
                  <a:pt x="1745" y="3762"/>
                </a:lnTo>
                <a:lnTo>
                  <a:pt x="1761" y="3770"/>
                </a:lnTo>
                <a:lnTo>
                  <a:pt x="1775" y="3779"/>
                </a:lnTo>
                <a:lnTo>
                  <a:pt x="1789" y="3785"/>
                </a:lnTo>
                <a:lnTo>
                  <a:pt x="1801" y="3791"/>
                </a:lnTo>
                <a:lnTo>
                  <a:pt x="1812" y="3793"/>
                </a:lnTo>
                <a:lnTo>
                  <a:pt x="1821" y="3796"/>
                </a:lnTo>
                <a:lnTo>
                  <a:pt x="1830" y="3796"/>
                </a:lnTo>
                <a:lnTo>
                  <a:pt x="1837" y="3796"/>
                </a:lnTo>
                <a:lnTo>
                  <a:pt x="1843" y="3795"/>
                </a:lnTo>
                <a:lnTo>
                  <a:pt x="1847" y="3792"/>
                </a:lnTo>
                <a:lnTo>
                  <a:pt x="1848" y="3791"/>
                </a:lnTo>
                <a:lnTo>
                  <a:pt x="1850" y="3788"/>
                </a:lnTo>
                <a:lnTo>
                  <a:pt x="1853" y="3785"/>
                </a:lnTo>
                <a:lnTo>
                  <a:pt x="1854" y="3782"/>
                </a:lnTo>
                <a:lnTo>
                  <a:pt x="1857" y="3778"/>
                </a:lnTo>
                <a:lnTo>
                  <a:pt x="1859" y="3773"/>
                </a:lnTo>
                <a:lnTo>
                  <a:pt x="1861" y="3769"/>
                </a:lnTo>
                <a:lnTo>
                  <a:pt x="1864" y="3763"/>
                </a:lnTo>
                <a:lnTo>
                  <a:pt x="1867" y="3757"/>
                </a:lnTo>
                <a:lnTo>
                  <a:pt x="1870" y="3752"/>
                </a:lnTo>
                <a:lnTo>
                  <a:pt x="1873" y="3744"/>
                </a:lnTo>
                <a:lnTo>
                  <a:pt x="1876" y="3739"/>
                </a:lnTo>
                <a:lnTo>
                  <a:pt x="1879" y="3730"/>
                </a:lnTo>
                <a:lnTo>
                  <a:pt x="1882" y="3723"/>
                </a:lnTo>
                <a:lnTo>
                  <a:pt x="1886" y="3714"/>
                </a:lnTo>
                <a:lnTo>
                  <a:pt x="1889" y="3704"/>
                </a:lnTo>
                <a:lnTo>
                  <a:pt x="1892" y="3695"/>
                </a:lnTo>
                <a:lnTo>
                  <a:pt x="1896" y="3685"/>
                </a:lnTo>
                <a:lnTo>
                  <a:pt x="1900" y="3674"/>
                </a:lnTo>
                <a:lnTo>
                  <a:pt x="1903" y="3664"/>
                </a:lnTo>
                <a:lnTo>
                  <a:pt x="1907" y="3652"/>
                </a:lnTo>
                <a:lnTo>
                  <a:pt x="1912" y="3639"/>
                </a:lnTo>
                <a:lnTo>
                  <a:pt x="1916" y="3626"/>
                </a:lnTo>
                <a:lnTo>
                  <a:pt x="1920" y="3613"/>
                </a:lnTo>
                <a:lnTo>
                  <a:pt x="1925" y="3600"/>
                </a:lnTo>
                <a:lnTo>
                  <a:pt x="1929" y="3586"/>
                </a:lnTo>
                <a:lnTo>
                  <a:pt x="1933" y="3572"/>
                </a:lnTo>
                <a:lnTo>
                  <a:pt x="1939" y="3556"/>
                </a:lnTo>
                <a:lnTo>
                  <a:pt x="1943" y="3540"/>
                </a:lnTo>
                <a:lnTo>
                  <a:pt x="1948" y="3523"/>
                </a:lnTo>
                <a:lnTo>
                  <a:pt x="1954" y="3507"/>
                </a:lnTo>
                <a:lnTo>
                  <a:pt x="1959" y="3490"/>
                </a:lnTo>
                <a:lnTo>
                  <a:pt x="1962" y="3474"/>
                </a:lnTo>
                <a:lnTo>
                  <a:pt x="1965" y="3458"/>
                </a:lnTo>
                <a:lnTo>
                  <a:pt x="1968" y="3444"/>
                </a:lnTo>
                <a:lnTo>
                  <a:pt x="1972" y="3429"/>
                </a:lnTo>
                <a:lnTo>
                  <a:pt x="1975" y="3415"/>
                </a:lnTo>
                <a:lnTo>
                  <a:pt x="1978" y="3402"/>
                </a:lnTo>
                <a:lnTo>
                  <a:pt x="1981" y="3389"/>
                </a:lnTo>
                <a:lnTo>
                  <a:pt x="1984" y="3376"/>
                </a:lnTo>
                <a:lnTo>
                  <a:pt x="1985" y="3364"/>
                </a:lnTo>
                <a:lnTo>
                  <a:pt x="1988" y="3353"/>
                </a:lnTo>
                <a:lnTo>
                  <a:pt x="1991" y="3341"/>
                </a:lnTo>
                <a:lnTo>
                  <a:pt x="1994" y="3330"/>
                </a:lnTo>
                <a:lnTo>
                  <a:pt x="1995" y="3320"/>
                </a:lnTo>
                <a:lnTo>
                  <a:pt x="1998" y="3311"/>
                </a:lnTo>
                <a:lnTo>
                  <a:pt x="2001" y="3301"/>
                </a:lnTo>
                <a:lnTo>
                  <a:pt x="2002" y="3292"/>
                </a:lnTo>
                <a:lnTo>
                  <a:pt x="2005" y="3285"/>
                </a:lnTo>
                <a:lnTo>
                  <a:pt x="2007" y="3277"/>
                </a:lnTo>
                <a:lnTo>
                  <a:pt x="2010" y="3269"/>
                </a:lnTo>
                <a:lnTo>
                  <a:pt x="2011" y="3264"/>
                </a:lnTo>
                <a:lnTo>
                  <a:pt x="2013" y="3256"/>
                </a:lnTo>
                <a:lnTo>
                  <a:pt x="2015" y="3251"/>
                </a:lnTo>
                <a:lnTo>
                  <a:pt x="2017" y="3246"/>
                </a:lnTo>
                <a:lnTo>
                  <a:pt x="2018" y="3242"/>
                </a:lnTo>
                <a:lnTo>
                  <a:pt x="2021" y="3238"/>
                </a:lnTo>
                <a:lnTo>
                  <a:pt x="2023" y="3233"/>
                </a:lnTo>
                <a:lnTo>
                  <a:pt x="2024" y="3231"/>
                </a:lnTo>
                <a:lnTo>
                  <a:pt x="2027" y="3229"/>
                </a:lnTo>
                <a:lnTo>
                  <a:pt x="2028" y="3226"/>
                </a:lnTo>
                <a:lnTo>
                  <a:pt x="2030" y="3225"/>
                </a:lnTo>
                <a:lnTo>
                  <a:pt x="2031" y="3225"/>
                </a:lnTo>
                <a:lnTo>
                  <a:pt x="2034" y="3225"/>
                </a:lnTo>
                <a:lnTo>
                  <a:pt x="2036" y="3225"/>
                </a:lnTo>
                <a:lnTo>
                  <a:pt x="2037" y="3225"/>
                </a:lnTo>
                <a:lnTo>
                  <a:pt x="2038" y="3228"/>
                </a:lnTo>
                <a:lnTo>
                  <a:pt x="2041" y="3229"/>
                </a:lnTo>
                <a:lnTo>
                  <a:pt x="2043" y="3232"/>
                </a:lnTo>
                <a:lnTo>
                  <a:pt x="2044" y="3236"/>
                </a:lnTo>
                <a:lnTo>
                  <a:pt x="2046" y="3241"/>
                </a:lnTo>
                <a:lnTo>
                  <a:pt x="2049" y="3245"/>
                </a:lnTo>
                <a:lnTo>
                  <a:pt x="2050" y="3251"/>
                </a:lnTo>
                <a:lnTo>
                  <a:pt x="2051" y="3256"/>
                </a:lnTo>
                <a:lnTo>
                  <a:pt x="2053" y="3264"/>
                </a:lnTo>
                <a:lnTo>
                  <a:pt x="2056" y="3271"/>
                </a:lnTo>
                <a:lnTo>
                  <a:pt x="2057" y="3279"/>
                </a:lnTo>
                <a:lnTo>
                  <a:pt x="2059" y="3288"/>
                </a:lnTo>
                <a:lnTo>
                  <a:pt x="2060" y="3297"/>
                </a:lnTo>
                <a:lnTo>
                  <a:pt x="2062" y="3307"/>
                </a:lnTo>
                <a:lnTo>
                  <a:pt x="2064" y="3317"/>
                </a:lnTo>
                <a:lnTo>
                  <a:pt x="2066" y="3328"/>
                </a:lnTo>
                <a:lnTo>
                  <a:pt x="2067" y="3340"/>
                </a:lnTo>
                <a:lnTo>
                  <a:pt x="2069" y="3353"/>
                </a:lnTo>
                <a:lnTo>
                  <a:pt x="2072" y="3366"/>
                </a:lnTo>
                <a:lnTo>
                  <a:pt x="2073" y="3379"/>
                </a:lnTo>
                <a:lnTo>
                  <a:pt x="2074" y="3393"/>
                </a:lnTo>
                <a:lnTo>
                  <a:pt x="2076" y="3408"/>
                </a:lnTo>
                <a:lnTo>
                  <a:pt x="2077" y="3423"/>
                </a:lnTo>
                <a:lnTo>
                  <a:pt x="2080" y="3439"/>
                </a:lnTo>
                <a:lnTo>
                  <a:pt x="2082" y="3455"/>
                </a:lnTo>
                <a:lnTo>
                  <a:pt x="2083" y="3472"/>
                </a:lnTo>
                <a:lnTo>
                  <a:pt x="2085" y="3490"/>
                </a:lnTo>
                <a:lnTo>
                  <a:pt x="2087" y="3508"/>
                </a:lnTo>
                <a:lnTo>
                  <a:pt x="2089" y="3527"/>
                </a:lnTo>
                <a:lnTo>
                  <a:pt x="2090" y="3546"/>
                </a:lnTo>
                <a:lnTo>
                  <a:pt x="2095" y="3585"/>
                </a:lnTo>
                <a:lnTo>
                  <a:pt x="2097" y="3622"/>
                </a:lnTo>
                <a:lnTo>
                  <a:pt x="2103" y="3660"/>
                </a:lnTo>
                <a:lnTo>
                  <a:pt x="2108" y="3695"/>
                </a:lnTo>
                <a:lnTo>
                  <a:pt x="2113" y="3730"/>
                </a:lnTo>
                <a:lnTo>
                  <a:pt x="2119" y="3763"/>
                </a:lnTo>
                <a:lnTo>
                  <a:pt x="2126" y="3796"/>
                </a:lnTo>
                <a:lnTo>
                  <a:pt x="2132" y="3828"/>
                </a:lnTo>
                <a:lnTo>
                  <a:pt x="2139" y="3858"/>
                </a:lnTo>
                <a:lnTo>
                  <a:pt x="2148" y="3887"/>
                </a:lnTo>
                <a:lnTo>
                  <a:pt x="2155" y="3916"/>
                </a:lnTo>
                <a:lnTo>
                  <a:pt x="2164" y="3943"/>
                </a:lnTo>
                <a:lnTo>
                  <a:pt x="2174" y="3969"/>
                </a:lnTo>
                <a:lnTo>
                  <a:pt x="2182" y="3993"/>
                </a:lnTo>
                <a:lnTo>
                  <a:pt x="2193" y="4017"/>
                </a:lnTo>
                <a:lnTo>
                  <a:pt x="2203" y="4038"/>
                </a:lnTo>
                <a:lnTo>
                  <a:pt x="2210" y="4055"/>
                </a:lnTo>
                <a:lnTo>
                  <a:pt x="2214" y="4073"/>
                </a:lnTo>
                <a:lnTo>
                  <a:pt x="2220" y="4090"/>
                </a:lnTo>
                <a:lnTo>
                  <a:pt x="2224" y="4106"/>
                </a:lnTo>
                <a:lnTo>
                  <a:pt x="2227" y="4122"/>
                </a:lnTo>
                <a:lnTo>
                  <a:pt x="2230" y="4136"/>
                </a:lnTo>
                <a:lnTo>
                  <a:pt x="2231" y="4152"/>
                </a:lnTo>
                <a:lnTo>
                  <a:pt x="2233" y="4166"/>
                </a:lnTo>
                <a:lnTo>
                  <a:pt x="2233" y="4179"/>
                </a:lnTo>
                <a:lnTo>
                  <a:pt x="2233" y="4194"/>
                </a:lnTo>
                <a:lnTo>
                  <a:pt x="2233" y="4207"/>
                </a:lnTo>
                <a:lnTo>
                  <a:pt x="2231" y="4220"/>
                </a:lnTo>
                <a:lnTo>
                  <a:pt x="2230" y="4231"/>
                </a:lnTo>
                <a:lnTo>
                  <a:pt x="2227" y="4243"/>
                </a:lnTo>
                <a:lnTo>
                  <a:pt x="2224" y="4254"/>
                </a:lnTo>
                <a:lnTo>
                  <a:pt x="2221" y="4266"/>
                </a:lnTo>
                <a:lnTo>
                  <a:pt x="2217" y="4268"/>
                </a:lnTo>
                <a:lnTo>
                  <a:pt x="2214" y="4271"/>
                </a:lnTo>
                <a:lnTo>
                  <a:pt x="2208" y="4274"/>
                </a:lnTo>
                <a:lnTo>
                  <a:pt x="2204" y="4277"/>
                </a:lnTo>
                <a:lnTo>
                  <a:pt x="2198" y="4279"/>
                </a:lnTo>
                <a:lnTo>
                  <a:pt x="2193" y="4280"/>
                </a:lnTo>
                <a:lnTo>
                  <a:pt x="2185" y="4281"/>
                </a:lnTo>
                <a:lnTo>
                  <a:pt x="2178" y="4283"/>
                </a:lnTo>
                <a:lnTo>
                  <a:pt x="2171" y="4284"/>
                </a:lnTo>
                <a:lnTo>
                  <a:pt x="2164" y="4284"/>
                </a:lnTo>
                <a:lnTo>
                  <a:pt x="2155" y="4284"/>
                </a:lnTo>
                <a:lnTo>
                  <a:pt x="2146" y="4284"/>
                </a:lnTo>
                <a:lnTo>
                  <a:pt x="2138" y="4284"/>
                </a:lnTo>
                <a:lnTo>
                  <a:pt x="2128" y="4283"/>
                </a:lnTo>
                <a:lnTo>
                  <a:pt x="2118" y="4281"/>
                </a:lnTo>
                <a:lnTo>
                  <a:pt x="2106" y="4280"/>
                </a:lnTo>
                <a:lnTo>
                  <a:pt x="2095" y="4279"/>
                </a:lnTo>
                <a:lnTo>
                  <a:pt x="2083" y="4276"/>
                </a:lnTo>
                <a:lnTo>
                  <a:pt x="2072" y="4273"/>
                </a:lnTo>
                <a:lnTo>
                  <a:pt x="2059" y="4270"/>
                </a:lnTo>
                <a:lnTo>
                  <a:pt x="2046" y="4267"/>
                </a:lnTo>
                <a:lnTo>
                  <a:pt x="2031" y="4263"/>
                </a:lnTo>
                <a:lnTo>
                  <a:pt x="2017" y="4260"/>
                </a:lnTo>
                <a:lnTo>
                  <a:pt x="2002" y="4256"/>
                </a:lnTo>
                <a:lnTo>
                  <a:pt x="1987" y="4250"/>
                </a:lnTo>
                <a:lnTo>
                  <a:pt x="1971" y="4245"/>
                </a:lnTo>
                <a:lnTo>
                  <a:pt x="1955" y="4240"/>
                </a:lnTo>
                <a:lnTo>
                  <a:pt x="1938" y="4234"/>
                </a:lnTo>
                <a:lnTo>
                  <a:pt x="1920" y="4228"/>
                </a:lnTo>
                <a:lnTo>
                  <a:pt x="1903" y="4222"/>
                </a:lnTo>
                <a:lnTo>
                  <a:pt x="1884" y="4215"/>
                </a:lnTo>
                <a:lnTo>
                  <a:pt x="1866" y="4208"/>
                </a:lnTo>
                <a:lnTo>
                  <a:pt x="1827" y="4189"/>
                </a:lnTo>
                <a:lnTo>
                  <a:pt x="1787" y="4169"/>
                </a:lnTo>
                <a:lnTo>
                  <a:pt x="1748" y="4149"/>
                </a:lnTo>
                <a:lnTo>
                  <a:pt x="1728" y="4137"/>
                </a:lnTo>
                <a:lnTo>
                  <a:pt x="1707" y="4126"/>
                </a:lnTo>
                <a:lnTo>
                  <a:pt x="1687" y="4114"/>
                </a:lnTo>
                <a:lnTo>
                  <a:pt x="1667" y="4101"/>
                </a:lnTo>
                <a:lnTo>
                  <a:pt x="1645" y="4089"/>
                </a:lnTo>
                <a:lnTo>
                  <a:pt x="1625" y="4076"/>
                </a:lnTo>
                <a:lnTo>
                  <a:pt x="1605" y="4063"/>
                </a:lnTo>
                <a:lnTo>
                  <a:pt x="1585" y="4048"/>
                </a:lnTo>
                <a:lnTo>
                  <a:pt x="1563" y="4034"/>
                </a:lnTo>
                <a:lnTo>
                  <a:pt x="1543" y="4019"/>
                </a:lnTo>
                <a:lnTo>
                  <a:pt x="1522" y="4004"/>
                </a:lnTo>
                <a:lnTo>
                  <a:pt x="1502" y="3989"/>
                </a:lnTo>
                <a:lnTo>
                  <a:pt x="1480" y="3972"/>
                </a:lnTo>
                <a:lnTo>
                  <a:pt x="1460" y="3956"/>
                </a:lnTo>
                <a:lnTo>
                  <a:pt x="1438" y="3939"/>
                </a:lnTo>
                <a:lnTo>
                  <a:pt x="1418" y="3922"/>
                </a:lnTo>
                <a:lnTo>
                  <a:pt x="1396" y="3903"/>
                </a:lnTo>
                <a:lnTo>
                  <a:pt x="1376" y="3884"/>
                </a:lnTo>
                <a:lnTo>
                  <a:pt x="1355" y="3865"/>
                </a:lnTo>
                <a:lnTo>
                  <a:pt x="1335" y="3845"/>
                </a:lnTo>
                <a:lnTo>
                  <a:pt x="1313" y="3825"/>
                </a:lnTo>
                <a:lnTo>
                  <a:pt x="1293" y="3805"/>
                </a:lnTo>
                <a:lnTo>
                  <a:pt x="1271" y="3783"/>
                </a:lnTo>
                <a:lnTo>
                  <a:pt x="1251" y="3762"/>
                </a:lnTo>
                <a:lnTo>
                  <a:pt x="1229" y="3739"/>
                </a:lnTo>
                <a:lnTo>
                  <a:pt x="1209" y="371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Freeform 77"/>
          <p:cNvSpPr/>
          <p:nvPr/>
        </p:nvSpPr>
        <p:spPr>
          <a:xfrm>
            <a:off x="5548320" y="3701880"/>
            <a:ext cx="954000" cy="1257480"/>
          </a:xfrm>
          <a:custGeom>
            <a:avLst/>
            <a:gdLst/>
            <a:ahLst/>
            <a:rect l="l" t="t" r="r" b="b"/>
            <a:pathLst>
              <a:path w="1804" h="2377">
                <a:moveTo>
                  <a:pt x="1391" y="46"/>
                </a:moveTo>
                <a:lnTo>
                  <a:pt x="1401" y="39"/>
                </a:lnTo>
                <a:lnTo>
                  <a:pt x="1411" y="31"/>
                </a:lnTo>
                <a:lnTo>
                  <a:pt x="1421" y="26"/>
                </a:lnTo>
                <a:lnTo>
                  <a:pt x="1430" y="20"/>
                </a:lnTo>
                <a:lnTo>
                  <a:pt x="1439" y="16"/>
                </a:lnTo>
                <a:lnTo>
                  <a:pt x="1447" y="11"/>
                </a:lnTo>
                <a:lnTo>
                  <a:pt x="1456" y="8"/>
                </a:lnTo>
                <a:lnTo>
                  <a:pt x="1465" y="6"/>
                </a:lnTo>
                <a:lnTo>
                  <a:pt x="1472" y="3"/>
                </a:lnTo>
                <a:lnTo>
                  <a:pt x="1479" y="1"/>
                </a:lnTo>
                <a:lnTo>
                  <a:pt x="1488" y="0"/>
                </a:lnTo>
                <a:lnTo>
                  <a:pt x="1495" y="0"/>
                </a:lnTo>
                <a:lnTo>
                  <a:pt x="1502" y="1"/>
                </a:lnTo>
                <a:lnTo>
                  <a:pt x="1509" y="3"/>
                </a:lnTo>
                <a:lnTo>
                  <a:pt x="1516" y="4"/>
                </a:lnTo>
                <a:lnTo>
                  <a:pt x="1524" y="8"/>
                </a:lnTo>
                <a:lnTo>
                  <a:pt x="1526" y="11"/>
                </a:lnTo>
                <a:lnTo>
                  <a:pt x="1531" y="14"/>
                </a:lnTo>
                <a:lnTo>
                  <a:pt x="1536" y="19"/>
                </a:lnTo>
                <a:lnTo>
                  <a:pt x="1544" y="23"/>
                </a:lnTo>
                <a:lnTo>
                  <a:pt x="1551" y="26"/>
                </a:lnTo>
                <a:lnTo>
                  <a:pt x="1558" y="30"/>
                </a:lnTo>
                <a:lnTo>
                  <a:pt x="1567" y="36"/>
                </a:lnTo>
                <a:lnTo>
                  <a:pt x="1577" y="40"/>
                </a:lnTo>
                <a:lnTo>
                  <a:pt x="1587" y="46"/>
                </a:lnTo>
                <a:lnTo>
                  <a:pt x="1597" y="52"/>
                </a:lnTo>
                <a:lnTo>
                  <a:pt x="1608" y="59"/>
                </a:lnTo>
                <a:lnTo>
                  <a:pt x="1620" y="66"/>
                </a:lnTo>
                <a:lnTo>
                  <a:pt x="1633" y="73"/>
                </a:lnTo>
                <a:lnTo>
                  <a:pt x="1646" y="82"/>
                </a:lnTo>
                <a:lnTo>
                  <a:pt x="1659" y="92"/>
                </a:lnTo>
                <a:lnTo>
                  <a:pt x="1673" y="102"/>
                </a:lnTo>
                <a:lnTo>
                  <a:pt x="1686" y="112"/>
                </a:lnTo>
                <a:lnTo>
                  <a:pt x="1699" y="122"/>
                </a:lnTo>
                <a:lnTo>
                  <a:pt x="1711" y="132"/>
                </a:lnTo>
                <a:lnTo>
                  <a:pt x="1722" y="141"/>
                </a:lnTo>
                <a:lnTo>
                  <a:pt x="1732" y="150"/>
                </a:lnTo>
                <a:lnTo>
                  <a:pt x="1742" y="158"/>
                </a:lnTo>
                <a:lnTo>
                  <a:pt x="1751" y="165"/>
                </a:lnTo>
                <a:lnTo>
                  <a:pt x="1760" y="173"/>
                </a:lnTo>
                <a:lnTo>
                  <a:pt x="1767" y="180"/>
                </a:lnTo>
                <a:lnTo>
                  <a:pt x="1774" y="187"/>
                </a:lnTo>
                <a:lnTo>
                  <a:pt x="1781" y="193"/>
                </a:lnTo>
                <a:lnTo>
                  <a:pt x="1787" y="198"/>
                </a:lnTo>
                <a:lnTo>
                  <a:pt x="1791" y="203"/>
                </a:lnTo>
                <a:lnTo>
                  <a:pt x="1796" y="207"/>
                </a:lnTo>
                <a:lnTo>
                  <a:pt x="1800" y="211"/>
                </a:lnTo>
                <a:lnTo>
                  <a:pt x="1804" y="216"/>
                </a:lnTo>
                <a:lnTo>
                  <a:pt x="1804" y="223"/>
                </a:lnTo>
                <a:lnTo>
                  <a:pt x="1803" y="230"/>
                </a:lnTo>
                <a:lnTo>
                  <a:pt x="1803" y="237"/>
                </a:lnTo>
                <a:lnTo>
                  <a:pt x="1800" y="245"/>
                </a:lnTo>
                <a:lnTo>
                  <a:pt x="1798" y="252"/>
                </a:lnTo>
                <a:lnTo>
                  <a:pt x="1796" y="259"/>
                </a:lnTo>
                <a:lnTo>
                  <a:pt x="1791" y="265"/>
                </a:lnTo>
                <a:lnTo>
                  <a:pt x="1787" y="272"/>
                </a:lnTo>
                <a:lnTo>
                  <a:pt x="1783" y="279"/>
                </a:lnTo>
                <a:lnTo>
                  <a:pt x="1777" y="286"/>
                </a:lnTo>
                <a:lnTo>
                  <a:pt x="1771" y="293"/>
                </a:lnTo>
                <a:lnTo>
                  <a:pt x="1764" y="301"/>
                </a:lnTo>
                <a:lnTo>
                  <a:pt x="1757" y="308"/>
                </a:lnTo>
                <a:lnTo>
                  <a:pt x="1748" y="315"/>
                </a:lnTo>
                <a:lnTo>
                  <a:pt x="1739" y="322"/>
                </a:lnTo>
                <a:lnTo>
                  <a:pt x="1729" y="329"/>
                </a:lnTo>
                <a:lnTo>
                  <a:pt x="1718" y="340"/>
                </a:lnTo>
                <a:lnTo>
                  <a:pt x="1709" y="351"/>
                </a:lnTo>
                <a:lnTo>
                  <a:pt x="1699" y="361"/>
                </a:lnTo>
                <a:lnTo>
                  <a:pt x="1691" y="373"/>
                </a:lnTo>
                <a:lnTo>
                  <a:pt x="1682" y="383"/>
                </a:lnTo>
                <a:lnTo>
                  <a:pt x="1673" y="394"/>
                </a:lnTo>
                <a:lnTo>
                  <a:pt x="1666" y="406"/>
                </a:lnTo>
                <a:lnTo>
                  <a:pt x="1659" y="417"/>
                </a:lnTo>
                <a:lnTo>
                  <a:pt x="1652" y="429"/>
                </a:lnTo>
                <a:lnTo>
                  <a:pt x="1646" y="440"/>
                </a:lnTo>
                <a:lnTo>
                  <a:pt x="1640" y="452"/>
                </a:lnTo>
                <a:lnTo>
                  <a:pt x="1634" y="465"/>
                </a:lnTo>
                <a:lnTo>
                  <a:pt x="1629" y="478"/>
                </a:lnTo>
                <a:lnTo>
                  <a:pt x="1624" y="491"/>
                </a:lnTo>
                <a:lnTo>
                  <a:pt x="1620" y="505"/>
                </a:lnTo>
                <a:lnTo>
                  <a:pt x="1617" y="519"/>
                </a:lnTo>
                <a:lnTo>
                  <a:pt x="1614" y="528"/>
                </a:lnTo>
                <a:lnTo>
                  <a:pt x="1613" y="537"/>
                </a:lnTo>
                <a:lnTo>
                  <a:pt x="1610" y="547"/>
                </a:lnTo>
                <a:lnTo>
                  <a:pt x="1607" y="558"/>
                </a:lnTo>
                <a:lnTo>
                  <a:pt x="1604" y="568"/>
                </a:lnTo>
                <a:lnTo>
                  <a:pt x="1600" y="580"/>
                </a:lnTo>
                <a:lnTo>
                  <a:pt x="1596" y="591"/>
                </a:lnTo>
                <a:lnTo>
                  <a:pt x="1591" y="604"/>
                </a:lnTo>
                <a:lnTo>
                  <a:pt x="1587" y="616"/>
                </a:lnTo>
                <a:lnTo>
                  <a:pt x="1583" y="629"/>
                </a:lnTo>
                <a:lnTo>
                  <a:pt x="1577" y="643"/>
                </a:lnTo>
                <a:lnTo>
                  <a:pt x="1572" y="656"/>
                </a:lnTo>
                <a:lnTo>
                  <a:pt x="1567" y="671"/>
                </a:lnTo>
                <a:lnTo>
                  <a:pt x="1561" y="686"/>
                </a:lnTo>
                <a:lnTo>
                  <a:pt x="1554" y="701"/>
                </a:lnTo>
                <a:lnTo>
                  <a:pt x="1548" y="717"/>
                </a:lnTo>
                <a:lnTo>
                  <a:pt x="1541" y="734"/>
                </a:lnTo>
                <a:lnTo>
                  <a:pt x="1534" y="750"/>
                </a:lnTo>
                <a:lnTo>
                  <a:pt x="1526" y="767"/>
                </a:lnTo>
                <a:lnTo>
                  <a:pt x="1519" y="784"/>
                </a:lnTo>
                <a:lnTo>
                  <a:pt x="1511" y="803"/>
                </a:lnTo>
                <a:lnTo>
                  <a:pt x="1503" y="820"/>
                </a:lnTo>
                <a:lnTo>
                  <a:pt x="1495" y="839"/>
                </a:lnTo>
                <a:lnTo>
                  <a:pt x="1486" y="859"/>
                </a:lnTo>
                <a:lnTo>
                  <a:pt x="1477" y="879"/>
                </a:lnTo>
                <a:lnTo>
                  <a:pt x="1469" y="900"/>
                </a:lnTo>
                <a:lnTo>
                  <a:pt x="1459" y="920"/>
                </a:lnTo>
                <a:lnTo>
                  <a:pt x="1450" y="941"/>
                </a:lnTo>
                <a:lnTo>
                  <a:pt x="1440" y="963"/>
                </a:lnTo>
                <a:lnTo>
                  <a:pt x="1430" y="984"/>
                </a:lnTo>
                <a:lnTo>
                  <a:pt x="1420" y="1008"/>
                </a:lnTo>
                <a:lnTo>
                  <a:pt x="1410" y="1031"/>
                </a:lnTo>
                <a:lnTo>
                  <a:pt x="1400" y="1055"/>
                </a:lnTo>
                <a:lnTo>
                  <a:pt x="1388" y="1079"/>
                </a:lnTo>
                <a:lnTo>
                  <a:pt x="1365" y="1128"/>
                </a:lnTo>
                <a:lnTo>
                  <a:pt x="1342" y="1177"/>
                </a:lnTo>
                <a:lnTo>
                  <a:pt x="1316" y="1225"/>
                </a:lnTo>
                <a:lnTo>
                  <a:pt x="1289" y="1272"/>
                </a:lnTo>
                <a:lnTo>
                  <a:pt x="1262" y="1318"/>
                </a:lnTo>
                <a:lnTo>
                  <a:pt x="1231" y="1365"/>
                </a:lnTo>
                <a:lnTo>
                  <a:pt x="1201" y="1411"/>
                </a:lnTo>
                <a:lnTo>
                  <a:pt x="1169" y="1455"/>
                </a:lnTo>
                <a:lnTo>
                  <a:pt x="1138" y="1498"/>
                </a:lnTo>
                <a:lnTo>
                  <a:pt x="1103" y="1543"/>
                </a:lnTo>
                <a:lnTo>
                  <a:pt x="1069" y="1585"/>
                </a:lnTo>
                <a:lnTo>
                  <a:pt x="1034" y="1628"/>
                </a:lnTo>
                <a:lnTo>
                  <a:pt x="998" y="1668"/>
                </a:lnTo>
                <a:lnTo>
                  <a:pt x="961" y="1709"/>
                </a:lnTo>
                <a:lnTo>
                  <a:pt x="923" y="1749"/>
                </a:lnTo>
                <a:lnTo>
                  <a:pt x="903" y="1770"/>
                </a:lnTo>
                <a:lnTo>
                  <a:pt x="884" y="1791"/>
                </a:lnTo>
                <a:lnTo>
                  <a:pt x="866" y="1812"/>
                </a:lnTo>
                <a:lnTo>
                  <a:pt x="845" y="1832"/>
                </a:lnTo>
                <a:lnTo>
                  <a:pt x="827" y="1851"/>
                </a:lnTo>
                <a:lnTo>
                  <a:pt x="807" y="1871"/>
                </a:lnTo>
                <a:lnTo>
                  <a:pt x="788" y="1890"/>
                </a:lnTo>
                <a:lnTo>
                  <a:pt x="769" y="1909"/>
                </a:lnTo>
                <a:lnTo>
                  <a:pt x="749" y="1927"/>
                </a:lnTo>
                <a:lnTo>
                  <a:pt x="730" y="1945"/>
                </a:lnTo>
                <a:lnTo>
                  <a:pt x="712" y="1962"/>
                </a:lnTo>
                <a:lnTo>
                  <a:pt x="691" y="1979"/>
                </a:lnTo>
                <a:lnTo>
                  <a:pt x="673" y="1997"/>
                </a:lnTo>
                <a:lnTo>
                  <a:pt x="654" y="2012"/>
                </a:lnTo>
                <a:lnTo>
                  <a:pt x="635" y="2030"/>
                </a:lnTo>
                <a:lnTo>
                  <a:pt x="615" y="2044"/>
                </a:lnTo>
                <a:lnTo>
                  <a:pt x="596" y="2060"/>
                </a:lnTo>
                <a:lnTo>
                  <a:pt x="578" y="2074"/>
                </a:lnTo>
                <a:lnTo>
                  <a:pt x="559" y="2089"/>
                </a:lnTo>
                <a:lnTo>
                  <a:pt x="540" y="2103"/>
                </a:lnTo>
                <a:lnTo>
                  <a:pt x="522" y="2117"/>
                </a:lnTo>
                <a:lnTo>
                  <a:pt x="503" y="2130"/>
                </a:lnTo>
                <a:lnTo>
                  <a:pt x="484" y="2143"/>
                </a:lnTo>
                <a:lnTo>
                  <a:pt x="465" y="2155"/>
                </a:lnTo>
                <a:lnTo>
                  <a:pt x="448" y="2168"/>
                </a:lnTo>
                <a:lnTo>
                  <a:pt x="429" y="2179"/>
                </a:lnTo>
                <a:lnTo>
                  <a:pt x="411" y="2191"/>
                </a:lnTo>
                <a:lnTo>
                  <a:pt x="393" y="2201"/>
                </a:lnTo>
                <a:lnTo>
                  <a:pt x="375" y="2212"/>
                </a:lnTo>
                <a:lnTo>
                  <a:pt x="357" y="2221"/>
                </a:lnTo>
                <a:lnTo>
                  <a:pt x="340" y="2231"/>
                </a:lnTo>
                <a:lnTo>
                  <a:pt x="323" y="2241"/>
                </a:lnTo>
                <a:lnTo>
                  <a:pt x="304" y="2250"/>
                </a:lnTo>
                <a:lnTo>
                  <a:pt x="288" y="2259"/>
                </a:lnTo>
                <a:lnTo>
                  <a:pt x="271" y="2267"/>
                </a:lnTo>
                <a:lnTo>
                  <a:pt x="255" y="2274"/>
                </a:lnTo>
                <a:lnTo>
                  <a:pt x="239" y="2283"/>
                </a:lnTo>
                <a:lnTo>
                  <a:pt x="225" y="2290"/>
                </a:lnTo>
                <a:lnTo>
                  <a:pt x="211" y="2297"/>
                </a:lnTo>
                <a:lnTo>
                  <a:pt x="196" y="2305"/>
                </a:lnTo>
                <a:lnTo>
                  <a:pt x="182" y="2312"/>
                </a:lnTo>
                <a:lnTo>
                  <a:pt x="169" y="2318"/>
                </a:lnTo>
                <a:lnTo>
                  <a:pt x="156" y="2325"/>
                </a:lnTo>
                <a:lnTo>
                  <a:pt x="144" y="2331"/>
                </a:lnTo>
                <a:lnTo>
                  <a:pt x="131" y="2335"/>
                </a:lnTo>
                <a:lnTo>
                  <a:pt x="120" y="2341"/>
                </a:lnTo>
                <a:lnTo>
                  <a:pt x="110" y="2346"/>
                </a:lnTo>
                <a:lnTo>
                  <a:pt x="100" y="2351"/>
                </a:lnTo>
                <a:lnTo>
                  <a:pt x="90" y="2355"/>
                </a:lnTo>
                <a:lnTo>
                  <a:pt x="80" y="2358"/>
                </a:lnTo>
                <a:lnTo>
                  <a:pt x="71" y="2362"/>
                </a:lnTo>
                <a:lnTo>
                  <a:pt x="62" y="2365"/>
                </a:lnTo>
                <a:lnTo>
                  <a:pt x="55" y="2368"/>
                </a:lnTo>
                <a:lnTo>
                  <a:pt x="48" y="2371"/>
                </a:lnTo>
                <a:lnTo>
                  <a:pt x="41" y="2372"/>
                </a:lnTo>
                <a:lnTo>
                  <a:pt x="34" y="2374"/>
                </a:lnTo>
                <a:lnTo>
                  <a:pt x="28" y="2375"/>
                </a:lnTo>
                <a:lnTo>
                  <a:pt x="24" y="2377"/>
                </a:lnTo>
                <a:lnTo>
                  <a:pt x="18" y="2377"/>
                </a:lnTo>
                <a:lnTo>
                  <a:pt x="13" y="2377"/>
                </a:lnTo>
                <a:lnTo>
                  <a:pt x="11" y="2377"/>
                </a:lnTo>
                <a:lnTo>
                  <a:pt x="8" y="2375"/>
                </a:lnTo>
                <a:lnTo>
                  <a:pt x="5" y="2375"/>
                </a:lnTo>
                <a:lnTo>
                  <a:pt x="3" y="2374"/>
                </a:lnTo>
                <a:lnTo>
                  <a:pt x="2" y="2371"/>
                </a:lnTo>
                <a:lnTo>
                  <a:pt x="0" y="2369"/>
                </a:lnTo>
                <a:lnTo>
                  <a:pt x="0" y="2366"/>
                </a:lnTo>
                <a:lnTo>
                  <a:pt x="0" y="2364"/>
                </a:lnTo>
                <a:lnTo>
                  <a:pt x="0" y="2361"/>
                </a:lnTo>
                <a:lnTo>
                  <a:pt x="2" y="2356"/>
                </a:lnTo>
                <a:lnTo>
                  <a:pt x="5" y="2352"/>
                </a:lnTo>
                <a:lnTo>
                  <a:pt x="8" y="2349"/>
                </a:lnTo>
                <a:lnTo>
                  <a:pt x="11" y="2343"/>
                </a:lnTo>
                <a:lnTo>
                  <a:pt x="13" y="2339"/>
                </a:lnTo>
                <a:lnTo>
                  <a:pt x="18" y="2333"/>
                </a:lnTo>
                <a:lnTo>
                  <a:pt x="24" y="2328"/>
                </a:lnTo>
                <a:lnTo>
                  <a:pt x="28" y="2322"/>
                </a:lnTo>
                <a:lnTo>
                  <a:pt x="34" y="2316"/>
                </a:lnTo>
                <a:lnTo>
                  <a:pt x="41" y="2310"/>
                </a:lnTo>
                <a:lnTo>
                  <a:pt x="48" y="2303"/>
                </a:lnTo>
                <a:lnTo>
                  <a:pt x="55" y="2296"/>
                </a:lnTo>
                <a:lnTo>
                  <a:pt x="64" y="2289"/>
                </a:lnTo>
                <a:lnTo>
                  <a:pt x="74" y="2280"/>
                </a:lnTo>
                <a:lnTo>
                  <a:pt x="83" y="2271"/>
                </a:lnTo>
                <a:lnTo>
                  <a:pt x="93" y="2263"/>
                </a:lnTo>
                <a:lnTo>
                  <a:pt x="104" y="2254"/>
                </a:lnTo>
                <a:lnTo>
                  <a:pt x="116" y="2246"/>
                </a:lnTo>
                <a:lnTo>
                  <a:pt x="127" y="2235"/>
                </a:lnTo>
                <a:lnTo>
                  <a:pt x="140" y="2225"/>
                </a:lnTo>
                <a:lnTo>
                  <a:pt x="153" y="2215"/>
                </a:lnTo>
                <a:lnTo>
                  <a:pt x="167" y="2205"/>
                </a:lnTo>
                <a:lnTo>
                  <a:pt x="182" y="2194"/>
                </a:lnTo>
                <a:lnTo>
                  <a:pt x="198" y="2182"/>
                </a:lnTo>
                <a:lnTo>
                  <a:pt x="214" y="2171"/>
                </a:lnTo>
                <a:lnTo>
                  <a:pt x="229" y="2159"/>
                </a:lnTo>
                <a:lnTo>
                  <a:pt x="247" y="2146"/>
                </a:lnTo>
                <a:lnTo>
                  <a:pt x="281" y="2120"/>
                </a:lnTo>
                <a:lnTo>
                  <a:pt x="317" y="2093"/>
                </a:lnTo>
                <a:lnTo>
                  <a:pt x="352" y="2066"/>
                </a:lnTo>
                <a:lnTo>
                  <a:pt x="388" y="2035"/>
                </a:lnTo>
                <a:lnTo>
                  <a:pt x="422" y="2005"/>
                </a:lnTo>
                <a:lnTo>
                  <a:pt x="458" y="1972"/>
                </a:lnTo>
                <a:lnTo>
                  <a:pt x="493" y="1939"/>
                </a:lnTo>
                <a:lnTo>
                  <a:pt x="529" y="1904"/>
                </a:lnTo>
                <a:lnTo>
                  <a:pt x="563" y="1868"/>
                </a:lnTo>
                <a:lnTo>
                  <a:pt x="599" y="1831"/>
                </a:lnTo>
                <a:lnTo>
                  <a:pt x="634" y="1792"/>
                </a:lnTo>
                <a:lnTo>
                  <a:pt x="670" y="1753"/>
                </a:lnTo>
                <a:lnTo>
                  <a:pt x="704" y="1711"/>
                </a:lnTo>
                <a:lnTo>
                  <a:pt x="740" y="1668"/>
                </a:lnTo>
                <a:lnTo>
                  <a:pt x="775" y="1624"/>
                </a:lnTo>
                <a:lnTo>
                  <a:pt x="792" y="1602"/>
                </a:lnTo>
                <a:lnTo>
                  <a:pt x="810" y="1579"/>
                </a:lnTo>
                <a:lnTo>
                  <a:pt x="841" y="1532"/>
                </a:lnTo>
                <a:lnTo>
                  <a:pt x="871" y="1485"/>
                </a:lnTo>
                <a:lnTo>
                  <a:pt x="902" y="1438"/>
                </a:lnTo>
                <a:lnTo>
                  <a:pt x="932" y="1389"/>
                </a:lnTo>
                <a:lnTo>
                  <a:pt x="961" y="1341"/>
                </a:lnTo>
                <a:lnTo>
                  <a:pt x="989" y="1293"/>
                </a:lnTo>
                <a:lnTo>
                  <a:pt x="1017" y="1244"/>
                </a:lnTo>
                <a:lnTo>
                  <a:pt x="1044" y="1195"/>
                </a:lnTo>
                <a:lnTo>
                  <a:pt x="1070" y="1146"/>
                </a:lnTo>
                <a:lnTo>
                  <a:pt x="1096" y="1095"/>
                </a:lnTo>
                <a:lnTo>
                  <a:pt x="1119" y="1043"/>
                </a:lnTo>
                <a:lnTo>
                  <a:pt x="1142" y="993"/>
                </a:lnTo>
                <a:lnTo>
                  <a:pt x="1165" y="941"/>
                </a:lnTo>
                <a:lnTo>
                  <a:pt x="1185" y="889"/>
                </a:lnTo>
                <a:lnTo>
                  <a:pt x="1205" y="836"/>
                </a:lnTo>
                <a:lnTo>
                  <a:pt x="1214" y="810"/>
                </a:lnTo>
                <a:lnTo>
                  <a:pt x="1223" y="784"/>
                </a:lnTo>
                <a:lnTo>
                  <a:pt x="1231" y="757"/>
                </a:lnTo>
                <a:lnTo>
                  <a:pt x="1240" y="733"/>
                </a:lnTo>
                <a:lnTo>
                  <a:pt x="1247" y="707"/>
                </a:lnTo>
                <a:lnTo>
                  <a:pt x="1254" y="684"/>
                </a:lnTo>
                <a:lnTo>
                  <a:pt x="1262" y="661"/>
                </a:lnTo>
                <a:lnTo>
                  <a:pt x="1269" y="638"/>
                </a:lnTo>
                <a:lnTo>
                  <a:pt x="1276" y="616"/>
                </a:lnTo>
                <a:lnTo>
                  <a:pt x="1282" y="596"/>
                </a:lnTo>
                <a:lnTo>
                  <a:pt x="1287" y="576"/>
                </a:lnTo>
                <a:lnTo>
                  <a:pt x="1293" y="555"/>
                </a:lnTo>
                <a:lnTo>
                  <a:pt x="1298" y="537"/>
                </a:lnTo>
                <a:lnTo>
                  <a:pt x="1303" y="519"/>
                </a:lnTo>
                <a:lnTo>
                  <a:pt x="1308" y="502"/>
                </a:lnTo>
                <a:lnTo>
                  <a:pt x="1310" y="485"/>
                </a:lnTo>
                <a:lnTo>
                  <a:pt x="1315" y="469"/>
                </a:lnTo>
                <a:lnTo>
                  <a:pt x="1318" y="455"/>
                </a:lnTo>
                <a:lnTo>
                  <a:pt x="1321" y="440"/>
                </a:lnTo>
                <a:lnTo>
                  <a:pt x="1323" y="427"/>
                </a:lnTo>
                <a:lnTo>
                  <a:pt x="1326" y="414"/>
                </a:lnTo>
                <a:lnTo>
                  <a:pt x="1328" y="401"/>
                </a:lnTo>
                <a:lnTo>
                  <a:pt x="1329" y="390"/>
                </a:lnTo>
                <a:lnTo>
                  <a:pt x="1329" y="380"/>
                </a:lnTo>
                <a:lnTo>
                  <a:pt x="1331" y="370"/>
                </a:lnTo>
                <a:lnTo>
                  <a:pt x="1331" y="361"/>
                </a:lnTo>
                <a:lnTo>
                  <a:pt x="1331" y="352"/>
                </a:lnTo>
                <a:lnTo>
                  <a:pt x="1329" y="344"/>
                </a:lnTo>
                <a:lnTo>
                  <a:pt x="1328" y="337"/>
                </a:lnTo>
                <a:lnTo>
                  <a:pt x="1326" y="329"/>
                </a:lnTo>
                <a:lnTo>
                  <a:pt x="1325" y="324"/>
                </a:lnTo>
                <a:lnTo>
                  <a:pt x="1322" y="318"/>
                </a:lnTo>
                <a:lnTo>
                  <a:pt x="1319" y="314"/>
                </a:lnTo>
                <a:lnTo>
                  <a:pt x="1316" y="311"/>
                </a:lnTo>
                <a:lnTo>
                  <a:pt x="1312" y="308"/>
                </a:lnTo>
                <a:lnTo>
                  <a:pt x="1308" y="306"/>
                </a:lnTo>
                <a:lnTo>
                  <a:pt x="1302" y="305"/>
                </a:lnTo>
                <a:lnTo>
                  <a:pt x="1295" y="304"/>
                </a:lnTo>
                <a:lnTo>
                  <a:pt x="1287" y="301"/>
                </a:lnTo>
                <a:lnTo>
                  <a:pt x="1279" y="299"/>
                </a:lnTo>
                <a:lnTo>
                  <a:pt x="1270" y="298"/>
                </a:lnTo>
                <a:lnTo>
                  <a:pt x="1260" y="296"/>
                </a:lnTo>
                <a:lnTo>
                  <a:pt x="1249" y="295"/>
                </a:lnTo>
                <a:lnTo>
                  <a:pt x="1237" y="293"/>
                </a:lnTo>
                <a:lnTo>
                  <a:pt x="1224" y="292"/>
                </a:lnTo>
                <a:lnTo>
                  <a:pt x="1211" y="291"/>
                </a:lnTo>
                <a:lnTo>
                  <a:pt x="1197" y="289"/>
                </a:lnTo>
                <a:lnTo>
                  <a:pt x="1181" y="288"/>
                </a:lnTo>
                <a:lnTo>
                  <a:pt x="1165" y="288"/>
                </a:lnTo>
                <a:lnTo>
                  <a:pt x="1148" y="286"/>
                </a:lnTo>
                <a:lnTo>
                  <a:pt x="1129" y="286"/>
                </a:lnTo>
                <a:lnTo>
                  <a:pt x="1110" y="285"/>
                </a:lnTo>
                <a:lnTo>
                  <a:pt x="1090" y="285"/>
                </a:lnTo>
                <a:lnTo>
                  <a:pt x="1070" y="283"/>
                </a:lnTo>
                <a:lnTo>
                  <a:pt x="1048" y="283"/>
                </a:lnTo>
                <a:lnTo>
                  <a:pt x="1025" y="283"/>
                </a:lnTo>
                <a:lnTo>
                  <a:pt x="1002" y="283"/>
                </a:lnTo>
                <a:lnTo>
                  <a:pt x="978" y="283"/>
                </a:lnTo>
                <a:lnTo>
                  <a:pt x="953" y="283"/>
                </a:lnTo>
                <a:lnTo>
                  <a:pt x="928" y="285"/>
                </a:lnTo>
                <a:lnTo>
                  <a:pt x="900" y="285"/>
                </a:lnTo>
                <a:lnTo>
                  <a:pt x="873" y="286"/>
                </a:lnTo>
                <a:lnTo>
                  <a:pt x="844" y="286"/>
                </a:lnTo>
                <a:lnTo>
                  <a:pt x="815" y="288"/>
                </a:lnTo>
                <a:lnTo>
                  <a:pt x="785" y="289"/>
                </a:lnTo>
                <a:lnTo>
                  <a:pt x="753" y="292"/>
                </a:lnTo>
                <a:lnTo>
                  <a:pt x="763" y="216"/>
                </a:lnTo>
                <a:lnTo>
                  <a:pt x="772" y="141"/>
                </a:lnTo>
                <a:lnTo>
                  <a:pt x="791" y="141"/>
                </a:lnTo>
                <a:lnTo>
                  <a:pt x="810" y="141"/>
                </a:lnTo>
                <a:lnTo>
                  <a:pt x="828" y="141"/>
                </a:lnTo>
                <a:lnTo>
                  <a:pt x="845" y="139"/>
                </a:lnTo>
                <a:lnTo>
                  <a:pt x="864" y="139"/>
                </a:lnTo>
                <a:lnTo>
                  <a:pt x="880" y="139"/>
                </a:lnTo>
                <a:lnTo>
                  <a:pt x="897" y="139"/>
                </a:lnTo>
                <a:lnTo>
                  <a:pt x="913" y="139"/>
                </a:lnTo>
                <a:lnTo>
                  <a:pt x="929" y="139"/>
                </a:lnTo>
                <a:lnTo>
                  <a:pt x="945" y="139"/>
                </a:lnTo>
                <a:lnTo>
                  <a:pt x="959" y="139"/>
                </a:lnTo>
                <a:lnTo>
                  <a:pt x="975" y="139"/>
                </a:lnTo>
                <a:lnTo>
                  <a:pt x="1002" y="138"/>
                </a:lnTo>
                <a:lnTo>
                  <a:pt x="1030" y="138"/>
                </a:lnTo>
                <a:lnTo>
                  <a:pt x="1056" y="137"/>
                </a:lnTo>
                <a:lnTo>
                  <a:pt x="1080" y="135"/>
                </a:lnTo>
                <a:lnTo>
                  <a:pt x="1103" y="134"/>
                </a:lnTo>
                <a:lnTo>
                  <a:pt x="1126" y="132"/>
                </a:lnTo>
                <a:lnTo>
                  <a:pt x="1146" y="131"/>
                </a:lnTo>
                <a:lnTo>
                  <a:pt x="1167" y="128"/>
                </a:lnTo>
                <a:lnTo>
                  <a:pt x="1185" y="125"/>
                </a:lnTo>
                <a:lnTo>
                  <a:pt x="1204" y="122"/>
                </a:lnTo>
                <a:lnTo>
                  <a:pt x="1221" y="118"/>
                </a:lnTo>
                <a:lnTo>
                  <a:pt x="1237" y="114"/>
                </a:lnTo>
                <a:lnTo>
                  <a:pt x="1253" y="111"/>
                </a:lnTo>
                <a:lnTo>
                  <a:pt x="1267" y="106"/>
                </a:lnTo>
                <a:lnTo>
                  <a:pt x="1282" y="103"/>
                </a:lnTo>
                <a:lnTo>
                  <a:pt x="1295" y="99"/>
                </a:lnTo>
                <a:lnTo>
                  <a:pt x="1308" y="95"/>
                </a:lnTo>
                <a:lnTo>
                  <a:pt x="1319" y="90"/>
                </a:lnTo>
                <a:lnTo>
                  <a:pt x="1331" y="86"/>
                </a:lnTo>
                <a:lnTo>
                  <a:pt x="1341" y="82"/>
                </a:lnTo>
                <a:lnTo>
                  <a:pt x="1351" y="76"/>
                </a:lnTo>
                <a:lnTo>
                  <a:pt x="1359" y="70"/>
                </a:lnTo>
                <a:lnTo>
                  <a:pt x="1368" y="65"/>
                </a:lnTo>
                <a:lnTo>
                  <a:pt x="1377" y="59"/>
                </a:lnTo>
                <a:lnTo>
                  <a:pt x="1384" y="52"/>
                </a:lnTo>
                <a:lnTo>
                  <a:pt x="1391" y="4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5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7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7" name=""/>
          <p:cNvGraphicFramePr/>
          <p:nvPr/>
        </p:nvGraphicFramePr>
        <p:xfrm>
          <a:off x="5114880" y="238284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8" name="矩形 4"/>
          <p:cNvSpPr/>
          <p:nvPr/>
        </p:nvSpPr>
        <p:spPr>
          <a:xfrm>
            <a:off x="2218680" y="2548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腾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9" name="组合 3"/>
          <p:cNvGrpSpPr/>
          <p:nvPr/>
        </p:nvGrpSpPr>
        <p:grpSpPr>
          <a:xfrm>
            <a:off x="1400040" y="3975120"/>
            <a:ext cx="2840040" cy="1572480"/>
            <a:chOff x="1400040" y="3975120"/>
            <a:chExt cx="2840040" cy="1572480"/>
          </a:xfrm>
        </p:grpSpPr>
        <p:pic>
          <p:nvPicPr>
            <p:cNvPr id="220" name="图示 4" descr=""/>
            <p:cNvPicPr/>
            <p:nvPr/>
          </p:nvPicPr>
          <p:blipFill>
            <a:blip r:embed="rId1"/>
            <a:stretch/>
          </p:blipFill>
          <p:spPr>
            <a:xfrm>
              <a:off x="1400040" y="3975120"/>
              <a:ext cx="2840040" cy="157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矩形 2"/>
            <p:cNvSpPr/>
            <p:nvPr/>
          </p:nvSpPr>
          <p:spPr>
            <a:xfrm>
              <a:off x="1444680" y="4588200"/>
              <a:ext cx="2766600" cy="551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“</a:t>
              </a: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条”横撇与捺相协调，点左右呼应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2" name="矩形 2"/>
          <p:cNvSpPr/>
          <p:nvPr/>
        </p:nvSpPr>
        <p:spPr>
          <a:xfrm>
            <a:off x="1987560" y="1825560"/>
            <a:ext cx="1503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téng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Freeform 45"/>
          <p:cNvSpPr/>
          <p:nvPr/>
        </p:nvSpPr>
        <p:spPr>
          <a:xfrm>
            <a:off x="5541840" y="3125880"/>
            <a:ext cx="373320" cy="1838160"/>
          </a:xfrm>
          <a:custGeom>
            <a:avLst/>
            <a:gdLst/>
            <a:ahLst/>
            <a:rect l="l" t="t" r="r" b="b"/>
            <a:pathLst>
              <a:path w="704" h="3474">
                <a:moveTo>
                  <a:pt x="465" y="143"/>
                </a:moveTo>
                <a:lnTo>
                  <a:pt x="462" y="127"/>
                </a:lnTo>
                <a:lnTo>
                  <a:pt x="459" y="111"/>
                </a:lnTo>
                <a:lnTo>
                  <a:pt x="456" y="98"/>
                </a:lnTo>
                <a:lnTo>
                  <a:pt x="455" y="85"/>
                </a:lnTo>
                <a:lnTo>
                  <a:pt x="453" y="74"/>
                </a:lnTo>
                <a:lnTo>
                  <a:pt x="453" y="62"/>
                </a:lnTo>
                <a:lnTo>
                  <a:pt x="453" y="53"/>
                </a:lnTo>
                <a:lnTo>
                  <a:pt x="453" y="45"/>
                </a:lnTo>
                <a:lnTo>
                  <a:pt x="455" y="36"/>
                </a:lnTo>
                <a:lnTo>
                  <a:pt x="456" y="29"/>
                </a:lnTo>
                <a:lnTo>
                  <a:pt x="459" y="23"/>
                </a:lnTo>
                <a:lnTo>
                  <a:pt x="462" y="17"/>
                </a:lnTo>
                <a:lnTo>
                  <a:pt x="466" y="12"/>
                </a:lnTo>
                <a:lnTo>
                  <a:pt x="470" y="7"/>
                </a:lnTo>
                <a:lnTo>
                  <a:pt x="475" y="3"/>
                </a:lnTo>
                <a:lnTo>
                  <a:pt x="482" y="0"/>
                </a:lnTo>
                <a:lnTo>
                  <a:pt x="483" y="0"/>
                </a:lnTo>
                <a:lnTo>
                  <a:pt x="485" y="0"/>
                </a:lnTo>
                <a:lnTo>
                  <a:pt x="488" y="0"/>
                </a:lnTo>
                <a:lnTo>
                  <a:pt x="490" y="0"/>
                </a:lnTo>
                <a:lnTo>
                  <a:pt x="495" y="0"/>
                </a:lnTo>
                <a:lnTo>
                  <a:pt x="498" y="2"/>
                </a:lnTo>
                <a:lnTo>
                  <a:pt x="502" y="2"/>
                </a:lnTo>
                <a:lnTo>
                  <a:pt x="506" y="3"/>
                </a:lnTo>
                <a:lnTo>
                  <a:pt x="516" y="5"/>
                </a:lnTo>
                <a:lnTo>
                  <a:pt x="528" y="7"/>
                </a:lnTo>
                <a:lnTo>
                  <a:pt x="539" y="10"/>
                </a:lnTo>
                <a:lnTo>
                  <a:pt x="554" y="15"/>
                </a:lnTo>
                <a:lnTo>
                  <a:pt x="568" y="19"/>
                </a:lnTo>
                <a:lnTo>
                  <a:pt x="586" y="25"/>
                </a:lnTo>
                <a:lnTo>
                  <a:pt x="603" y="30"/>
                </a:lnTo>
                <a:lnTo>
                  <a:pt x="620" y="36"/>
                </a:lnTo>
                <a:lnTo>
                  <a:pt x="640" y="43"/>
                </a:lnTo>
                <a:lnTo>
                  <a:pt x="660" y="52"/>
                </a:lnTo>
                <a:lnTo>
                  <a:pt x="681" y="61"/>
                </a:lnTo>
                <a:lnTo>
                  <a:pt x="704" y="71"/>
                </a:lnTo>
                <a:lnTo>
                  <a:pt x="704" y="150"/>
                </a:lnTo>
                <a:lnTo>
                  <a:pt x="704" y="228"/>
                </a:lnTo>
                <a:lnTo>
                  <a:pt x="704" y="304"/>
                </a:lnTo>
                <a:lnTo>
                  <a:pt x="702" y="377"/>
                </a:lnTo>
                <a:lnTo>
                  <a:pt x="702" y="449"/>
                </a:lnTo>
                <a:lnTo>
                  <a:pt x="702" y="518"/>
                </a:lnTo>
                <a:lnTo>
                  <a:pt x="702" y="586"/>
                </a:lnTo>
                <a:lnTo>
                  <a:pt x="702" y="651"/>
                </a:lnTo>
                <a:lnTo>
                  <a:pt x="702" y="714"/>
                </a:lnTo>
                <a:lnTo>
                  <a:pt x="702" y="776"/>
                </a:lnTo>
                <a:lnTo>
                  <a:pt x="702" y="835"/>
                </a:lnTo>
                <a:lnTo>
                  <a:pt x="702" y="893"/>
                </a:lnTo>
                <a:lnTo>
                  <a:pt x="702" y="949"/>
                </a:lnTo>
                <a:lnTo>
                  <a:pt x="702" y="1002"/>
                </a:lnTo>
                <a:lnTo>
                  <a:pt x="701" y="1054"/>
                </a:lnTo>
                <a:lnTo>
                  <a:pt x="701" y="1103"/>
                </a:lnTo>
                <a:lnTo>
                  <a:pt x="701" y="1150"/>
                </a:lnTo>
                <a:lnTo>
                  <a:pt x="699" y="1195"/>
                </a:lnTo>
                <a:lnTo>
                  <a:pt x="699" y="1238"/>
                </a:lnTo>
                <a:lnTo>
                  <a:pt x="699" y="1280"/>
                </a:lnTo>
                <a:lnTo>
                  <a:pt x="698" y="1319"/>
                </a:lnTo>
                <a:lnTo>
                  <a:pt x="698" y="1355"/>
                </a:lnTo>
                <a:lnTo>
                  <a:pt x="696" y="1391"/>
                </a:lnTo>
                <a:lnTo>
                  <a:pt x="695" y="1424"/>
                </a:lnTo>
                <a:lnTo>
                  <a:pt x="695" y="1454"/>
                </a:lnTo>
                <a:lnTo>
                  <a:pt x="693" y="1483"/>
                </a:lnTo>
                <a:lnTo>
                  <a:pt x="692" y="1509"/>
                </a:lnTo>
                <a:lnTo>
                  <a:pt x="691" y="1533"/>
                </a:lnTo>
                <a:lnTo>
                  <a:pt x="691" y="1556"/>
                </a:lnTo>
                <a:lnTo>
                  <a:pt x="689" y="1577"/>
                </a:lnTo>
                <a:lnTo>
                  <a:pt x="688" y="1595"/>
                </a:lnTo>
                <a:lnTo>
                  <a:pt x="686" y="1611"/>
                </a:lnTo>
                <a:lnTo>
                  <a:pt x="682" y="1644"/>
                </a:lnTo>
                <a:lnTo>
                  <a:pt x="679" y="1679"/>
                </a:lnTo>
                <a:lnTo>
                  <a:pt x="670" y="1747"/>
                </a:lnTo>
                <a:lnTo>
                  <a:pt x="662" y="1814"/>
                </a:lnTo>
                <a:lnTo>
                  <a:pt x="652" y="1882"/>
                </a:lnTo>
                <a:lnTo>
                  <a:pt x="642" y="1951"/>
                </a:lnTo>
                <a:lnTo>
                  <a:pt x="633" y="2021"/>
                </a:lnTo>
                <a:lnTo>
                  <a:pt x="629" y="2057"/>
                </a:lnTo>
                <a:lnTo>
                  <a:pt x="624" y="2093"/>
                </a:lnTo>
                <a:lnTo>
                  <a:pt x="620" y="2129"/>
                </a:lnTo>
                <a:lnTo>
                  <a:pt x="617" y="2167"/>
                </a:lnTo>
                <a:lnTo>
                  <a:pt x="611" y="2203"/>
                </a:lnTo>
                <a:lnTo>
                  <a:pt x="604" y="2240"/>
                </a:lnTo>
                <a:lnTo>
                  <a:pt x="597" y="2278"/>
                </a:lnTo>
                <a:lnTo>
                  <a:pt x="588" y="2314"/>
                </a:lnTo>
                <a:lnTo>
                  <a:pt x="580" y="2351"/>
                </a:lnTo>
                <a:lnTo>
                  <a:pt x="571" y="2387"/>
                </a:lnTo>
                <a:lnTo>
                  <a:pt x="561" y="2425"/>
                </a:lnTo>
                <a:lnTo>
                  <a:pt x="551" y="2462"/>
                </a:lnTo>
                <a:lnTo>
                  <a:pt x="541" y="2498"/>
                </a:lnTo>
                <a:lnTo>
                  <a:pt x="529" y="2535"/>
                </a:lnTo>
                <a:lnTo>
                  <a:pt x="516" y="2573"/>
                </a:lnTo>
                <a:lnTo>
                  <a:pt x="503" y="2609"/>
                </a:lnTo>
                <a:lnTo>
                  <a:pt x="490" y="2646"/>
                </a:lnTo>
                <a:lnTo>
                  <a:pt x="476" y="2684"/>
                </a:lnTo>
                <a:lnTo>
                  <a:pt x="462" y="2720"/>
                </a:lnTo>
                <a:lnTo>
                  <a:pt x="447" y="2757"/>
                </a:lnTo>
                <a:lnTo>
                  <a:pt x="431" y="2797"/>
                </a:lnTo>
                <a:lnTo>
                  <a:pt x="416" y="2836"/>
                </a:lnTo>
                <a:lnTo>
                  <a:pt x="400" y="2874"/>
                </a:lnTo>
                <a:lnTo>
                  <a:pt x="384" y="2911"/>
                </a:lnTo>
                <a:lnTo>
                  <a:pt x="367" y="2947"/>
                </a:lnTo>
                <a:lnTo>
                  <a:pt x="351" y="2983"/>
                </a:lnTo>
                <a:lnTo>
                  <a:pt x="335" y="3018"/>
                </a:lnTo>
                <a:lnTo>
                  <a:pt x="319" y="3051"/>
                </a:lnTo>
                <a:lnTo>
                  <a:pt x="303" y="3082"/>
                </a:lnTo>
                <a:lnTo>
                  <a:pt x="288" y="3114"/>
                </a:lnTo>
                <a:lnTo>
                  <a:pt x="270" y="3144"/>
                </a:lnTo>
                <a:lnTo>
                  <a:pt x="254" y="3173"/>
                </a:lnTo>
                <a:lnTo>
                  <a:pt x="239" y="3201"/>
                </a:lnTo>
                <a:lnTo>
                  <a:pt x="223" y="3226"/>
                </a:lnTo>
                <a:lnTo>
                  <a:pt x="207" y="3252"/>
                </a:lnTo>
                <a:lnTo>
                  <a:pt x="191" y="3277"/>
                </a:lnTo>
                <a:lnTo>
                  <a:pt x="172" y="3300"/>
                </a:lnTo>
                <a:lnTo>
                  <a:pt x="155" y="3321"/>
                </a:lnTo>
                <a:lnTo>
                  <a:pt x="138" y="3342"/>
                </a:lnTo>
                <a:lnTo>
                  <a:pt x="122" y="3360"/>
                </a:lnTo>
                <a:lnTo>
                  <a:pt x="106" y="3378"/>
                </a:lnTo>
                <a:lnTo>
                  <a:pt x="92" y="3395"/>
                </a:lnTo>
                <a:lnTo>
                  <a:pt x="85" y="3402"/>
                </a:lnTo>
                <a:lnTo>
                  <a:pt x="79" y="3409"/>
                </a:lnTo>
                <a:lnTo>
                  <a:pt x="72" y="3416"/>
                </a:lnTo>
                <a:lnTo>
                  <a:pt x="66" y="3422"/>
                </a:lnTo>
                <a:lnTo>
                  <a:pt x="60" y="3428"/>
                </a:lnTo>
                <a:lnTo>
                  <a:pt x="54" y="3434"/>
                </a:lnTo>
                <a:lnTo>
                  <a:pt x="49" y="3440"/>
                </a:lnTo>
                <a:lnTo>
                  <a:pt x="43" y="3444"/>
                </a:lnTo>
                <a:lnTo>
                  <a:pt x="38" y="3450"/>
                </a:lnTo>
                <a:lnTo>
                  <a:pt x="34" y="3452"/>
                </a:lnTo>
                <a:lnTo>
                  <a:pt x="30" y="3457"/>
                </a:lnTo>
                <a:lnTo>
                  <a:pt x="26" y="3460"/>
                </a:lnTo>
                <a:lnTo>
                  <a:pt x="21" y="3464"/>
                </a:lnTo>
                <a:lnTo>
                  <a:pt x="18" y="3465"/>
                </a:lnTo>
                <a:lnTo>
                  <a:pt x="15" y="3468"/>
                </a:lnTo>
                <a:lnTo>
                  <a:pt x="13" y="3470"/>
                </a:lnTo>
                <a:lnTo>
                  <a:pt x="10" y="3471"/>
                </a:lnTo>
                <a:lnTo>
                  <a:pt x="7" y="3473"/>
                </a:lnTo>
                <a:lnTo>
                  <a:pt x="5" y="3473"/>
                </a:lnTo>
                <a:lnTo>
                  <a:pt x="4" y="3474"/>
                </a:lnTo>
                <a:lnTo>
                  <a:pt x="2" y="3471"/>
                </a:lnTo>
                <a:lnTo>
                  <a:pt x="1" y="3468"/>
                </a:lnTo>
                <a:lnTo>
                  <a:pt x="1" y="3464"/>
                </a:lnTo>
                <a:lnTo>
                  <a:pt x="0" y="3460"/>
                </a:lnTo>
                <a:lnTo>
                  <a:pt x="1" y="3454"/>
                </a:lnTo>
                <a:lnTo>
                  <a:pt x="1" y="3448"/>
                </a:lnTo>
                <a:lnTo>
                  <a:pt x="2" y="3441"/>
                </a:lnTo>
                <a:lnTo>
                  <a:pt x="4" y="3432"/>
                </a:lnTo>
                <a:lnTo>
                  <a:pt x="5" y="3424"/>
                </a:lnTo>
                <a:lnTo>
                  <a:pt x="8" y="3414"/>
                </a:lnTo>
                <a:lnTo>
                  <a:pt x="11" y="3404"/>
                </a:lnTo>
                <a:lnTo>
                  <a:pt x="14" y="3392"/>
                </a:lnTo>
                <a:lnTo>
                  <a:pt x="18" y="3381"/>
                </a:lnTo>
                <a:lnTo>
                  <a:pt x="23" y="3366"/>
                </a:lnTo>
                <a:lnTo>
                  <a:pt x="27" y="3352"/>
                </a:lnTo>
                <a:lnTo>
                  <a:pt x="33" y="3337"/>
                </a:lnTo>
                <a:lnTo>
                  <a:pt x="37" y="3321"/>
                </a:lnTo>
                <a:lnTo>
                  <a:pt x="43" y="3304"/>
                </a:lnTo>
                <a:lnTo>
                  <a:pt x="50" y="3287"/>
                </a:lnTo>
                <a:lnTo>
                  <a:pt x="57" y="3268"/>
                </a:lnTo>
                <a:lnTo>
                  <a:pt x="64" y="3248"/>
                </a:lnTo>
                <a:lnTo>
                  <a:pt x="72" y="3228"/>
                </a:lnTo>
                <a:lnTo>
                  <a:pt x="80" y="3206"/>
                </a:lnTo>
                <a:lnTo>
                  <a:pt x="89" y="3185"/>
                </a:lnTo>
                <a:lnTo>
                  <a:pt x="97" y="3162"/>
                </a:lnTo>
                <a:lnTo>
                  <a:pt x="108" y="3137"/>
                </a:lnTo>
                <a:lnTo>
                  <a:pt x="118" y="3111"/>
                </a:lnTo>
                <a:lnTo>
                  <a:pt x="128" y="3085"/>
                </a:lnTo>
                <a:lnTo>
                  <a:pt x="138" y="3059"/>
                </a:lnTo>
                <a:lnTo>
                  <a:pt x="149" y="3031"/>
                </a:lnTo>
                <a:lnTo>
                  <a:pt x="161" y="3002"/>
                </a:lnTo>
                <a:lnTo>
                  <a:pt x="174" y="2973"/>
                </a:lnTo>
                <a:lnTo>
                  <a:pt x="198" y="2914"/>
                </a:lnTo>
                <a:lnTo>
                  <a:pt x="223" y="2856"/>
                </a:lnTo>
                <a:lnTo>
                  <a:pt x="244" y="2797"/>
                </a:lnTo>
                <a:lnTo>
                  <a:pt x="266" y="2737"/>
                </a:lnTo>
                <a:lnTo>
                  <a:pt x="286" y="2677"/>
                </a:lnTo>
                <a:lnTo>
                  <a:pt x="306" y="2615"/>
                </a:lnTo>
                <a:lnTo>
                  <a:pt x="325" y="2553"/>
                </a:lnTo>
                <a:lnTo>
                  <a:pt x="342" y="2491"/>
                </a:lnTo>
                <a:lnTo>
                  <a:pt x="358" y="2427"/>
                </a:lnTo>
                <a:lnTo>
                  <a:pt x="374" y="2363"/>
                </a:lnTo>
                <a:lnTo>
                  <a:pt x="388" y="2299"/>
                </a:lnTo>
                <a:lnTo>
                  <a:pt x="403" y="2235"/>
                </a:lnTo>
                <a:lnTo>
                  <a:pt x="426" y="2102"/>
                </a:lnTo>
                <a:lnTo>
                  <a:pt x="447" y="1970"/>
                </a:lnTo>
                <a:lnTo>
                  <a:pt x="465" y="1834"/>
                </a:lnTo>
                <a:lnTo>
                  <a:pt x="479" y="1698"/>
                </a:lnTo>
                <a:lnTo>
                  <a:pt x="490" y="1559"/>
                </a:lnTo>
                <a:lnTo>
                  <a:pt x="499" y="1418"/>
                </a:lnTo>
                <a:lnTo>
                  <a:pt x="506" y="1277"/>
                </a:lnTo>
                <a:lnTo>
                  <a:pt x="512" y="1133"/>
                </a:lnTo>
                <a:lnTo>
                  <a:pt x="514" y="988"/>
                </a:lnTo>
                <a:lnTo>
                  <a:pt x="515" y="841"/>
                </a:lnTo>
                <a:lnTo>
                  <a:pt x="515" y="806"/>
                </a:lnTo>
                <a:lnTo>
                  <a:pt x="515" y="772"/>
                </a:lnTo>
                <a:lnTo>
                  <a:pt x="515" y="739"/>
                </a:lnTo>
                <a:lnTo>
                  <a:pt x="514" y="707"/>
                </a:lnTo>
                <a:lnTo>
                  <a:pt x="514" y="675"/>
                </a:lnTo>
                <a:lnTo>
                  <a:pt x="514" y="645"/>
                </a:lnTo>
                <a:lnTo>
                  <a:pt x="512" y="615"/>
                </a:lnTo>
                <a:lnTo>
                  <a:pt x="512" y="586"/>
                </a:lnTo>
                <a:lnTo>
                  <a:pt x="511" y="557"/>
                </a:lnTo>
                <a:lnTo>
                  <a:pt x="511" y="530"/>
                </a:lnTo>
                <a:lnTo>
                  <a:pt x="509" y="504"/>
                </a:lnTo>
                <a:lnTo>
                  <a:pt x="508" y="478"/>
                </a:lnTo>
                <a:lnTo>
                  <a:pt x="506" y="454"/>
                </a:lnTo>
                <a:lnTo>
                  <a:pt x="505" y="429"/>
                </a:lnTo>
                <a:lnTo>
                  <a:pt x="503" y="406"/>
                </a:lnTo>
                <a:lnTo>
                  <a:pt x="502" y="385"/>
                </a:lnTo>
                <a:lnTo>
                  <a:pt x="501" y="363"/>
                </a:lnTo>
                <a:lnTo>
                  <a:pt x="499" y="343"/>
                </a:lnTo>
                <a:lnTo>
                  <a:pt x="496" y="323"/>
                </a:lnTo>
                <a:lnTo>
                  <a:pt x="495" y="304"/>
                </a:lnTo>
                <a:lnTo>
                  <a:pt x="493" y="285"/>
                </a:lnTo>
                <a:lnTo>
                  <a:pt x="490" y="268"/>
                </a:lnTo>
                <a:lnTo>
                  <a:pt x="489" y="252"/>
                </a:lnTo>
                <a:lnTo>
                  <a:pt x="486" y="236"/>
                </a:lnTo>
                <a:lnTo>
                  <a:pt x="483" y="222"/>
                </a:lnTo>
                <a:lnTo>
                  <a:pt x="482" y="208"/>
                </a:lnTo>
                <a:lnTo>
                  <a:pt x="479" y="195"/>
                </a:lnTo>
                <a:lnTo>
                  <a:pt x="476" y="183"/>
                </a:lnTo>
                <a:lnTo>
                  <a:pt x="473" y="172"/>
                </a:lnTo>
                <a:lnTo>
                  <a:pt x="470" y="161"/>
                </a:lnTo>
                <a:lnTo>
                  <a:pt x="467" y="151"/>
                </a:lnTo>
                <a:lnTo>
                  <a:pt x="465" y="14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Freeform 46"/>
          <p:cNvSpPr/>
          <p:nvPr/>
        </p:nvSpPr>
        <p:spPr>
          <a:xfrm>
            <a:off x="5861160" y="3087720"/>
            <a:ext cx="433440" cy="1866960"/>
          </a:xfrm>
          <a:custGeom>
            <a:avLst/>
            <a:gdLst/>
            <a:ahLst/>
            <a:rect l="l" t="t" r="r" b="b"/>
            <a:pathLst>
              <a:path w="819" h="3527">
                <a:moveTo>
                  <a:pt x="205" y="3188"/>
                </a:moveTo>
                <a:lnTo>
                  <a:pt x="189" y="3175"/>
                </a:lnTo>
                <a:lnTo>
                  <a:pt x="175" y="3162"/>
                </a:lnTo>
                <a:lnTo>
                  <a:pt x="160" y="3149"/>
                </a:lnTo>
                <a:lnTo>
                  <a:pt x="147" y="3137"/>
                </a:lnTo>
                <a:lnTo>
                  <a:pt x="136" y="3126"/>
                </a:lnTo>
                <a:lnTo>
                  <a:pt x="124" y="3114"/>
                </a:lnTo>
                <a:lnTo>
                  <a:pt x="114" y="3104"/>
                </a:lnTo>
                <a:lnTo>
                  <a:pt x="104" y="3093"/>
                </a:lnTo>
                <a:lnTo>
                  <a:pt x="97" y="3084"/>
                </a:lnTo>
                <a:lnTo>
                  <a:pt x="88" y="3074"/>
                </a:lnTo>
                <a:lnTo>
                  <a:pt x="82" y="3065"/>
                </a:lnTo>
                <a:lnTo>
                  <a:pt x="78" y="3057"/>
                </a:lnTo>
                <a:lnTo>
                  <a:pt x="74" y="3048"/>
                </a:lnTo>
                <a:lnTo>
                  <a:pt x="71" y="3041"/>
                </a:lnTo>
                <a:lnTo>
                  <a:pt x="68" y="3034"/>
                </a:lnTo>
                <a:lnTo>
                  <a:pt x="68" y="3026"/>
                </a:lnTo>
                <a:lnTo>
                  <a:pt x="68" y="3023"/>
                </a:lnTo>
                <a:lnTo>
                  <a:pt x="71" y="3021"/>
                </a:lnTo>
                <a:lnTo>
                  <a:pt x="74" y="3018"/>
                </a:lnTo>
                <a:lnTo>
                  <a:pt x="78" y="3016"/>
                </a:lnTo>
                <a:lnTo>
                  <a:pt x="82" y="3015"/>
                </a:lnTo>
                <a:lnTo>
                  <a:pt x="90" y="3013"/>
                </a:lnTo>
                <a:lnTo>
                  <a:pt x="97" y="3013"/>
                </a:lnTo>
                <a:lnTo>
                  <a:pt x="107" y="3012"/>
                </a:lnTo>
                <a:lnTo>
                  <a:pt x="117" y="3013"/>
                </a:lnTo>
                <a:lnTo>
                  <a:pt x="128" y="3013"/>
                </a:lnTo>
                <a:lnTo>
                  <a:pt x="140" y="3015"/>
                </a:lnTo>
                <a:lnTo>
                  <a:pt x="154" y="3016"/>
                </a:lnTo>
                <a:lnTo>
                  <a:pt x="169" y="3018"/>
                </a:lnTo>
                <a:lnTo>
                  <a:pt x="186" y="3021"/>
                </a:lnTo>
                <a:lnTo>
                  <a:pt x="203" y="3023"/>
                </a:lnTo>
                <a:lnTo>
                  <a:pt x="222" y="3026"/>
                </a:lnTo>
                <a:lnTo>
                  <a:pt x="236" y="3029"/>
                </a:lnTo>
                <a:lnTo>
                  <a:pt x="252" y="3032"/>
                </a:lnTo>
                <a:lnTo>
                  <a:pt x="267" y="3035"/>
                </a:lnTo>
                <a:lnTo>
                  <a:pt x="281" y="3036"/>
                </a:lnTo>
                <a:lnTo>
                  <a:pt x="295" y="3036"/>
                </a:lnTo>
                <a:lnTo>
                  <a:pt x="310" y="3036"/>
                </a:lnTo>
                <a:lnTo>
                  <a:pt x="323" y="3036"/>
                </a:lnTo>
                <a:lnTo>
                  <a:pt x="334" y="3035"/>
                </a:lnTo>
                <a:lnTo>
                  <a:pt x="346" y="3034"/>
                </a:lnTo>
                <a:lnTo>
                  <a:pt x="357" y="3031"/>
                </a:lnTo>
                <a:lnTo>
                  <a:pt x="367" y="3026"/>
                </a:lnTo>
                <a:lnTo>
                  <a:pt x="378" y="3022"/>
                </a:lnTo>
                <a:lnTo>
                  <a:pt x="386" y="3015"/>
                </a:lnTo>
                <a:lnTo>
                  <a:pt x="395" y="3008"/>
                </a:lnTo>
                <a:lnTo>
                  <a:pt x="402" y="3000"/>
                </a:lnTo>
                <a:lnTo>
                  <a:pt x="409" y="2990"/>
                </a:lnTo>
                <a:lnTo>
                  <a:pt x="412" y="2985"/>
                </a:lnTo>
                <a:lnTo>
                  <a:pt x="415" y="2979"/>
                </a:lnTo>
                <a:lnTo>
                  <a:pt x="418" y="2972"/>
                </a:lnTo>
                <a:lnTo>
                  <a:pt x="421" y="2964"/>
                </a:lnTo>
                <a:lnTo>
                  <a:pt x="424" y="2957"/>
                </a:lnTo>
                <a:lnTo>
                  <a:pt x="426" y="2949"/>
                </a:lnTo>
                <a:lnTo>
                  <a:pt x="429" y="2940"/>
                </a:lnTo>
                <a:lnTo>
                  <a:pt x="431" y="2930"/>
                </a:lnTo>
                <a:lnTo>
                  <a:pt x="434" y="2918"/>
                </a:lnTo>
                <a:lnTo>
                  <a:pt x="437" y="2908"/>
                </a:lnTo>
                <a:lnTo>
                  <a:pt x="438" y="2895"/>
                </a:lnTo>
                <a:lnTo>
                  <a:pt x="441" y="2884"/>
                </a:lnTo>
                <a:lnTo>
                  <a:pt x="444" y="2871"/>
                </a:lnTo>
                <a:lnTo>
                  <a:pt x="445" y="2856"/>
                </a:lnTo>
                <a:lnTo>
                  <a:pt x="447" y="2842"/>
                </a:lnTo>
                <a:lnTo>
                  <a:pt x="450" y="2826"/>
                </a:lnTo>
                <a:lnTo>
                  <a:pt x="451" y="2810"/>
                </a:lnTo>
                <a:lnTo>
                  <a:pt x="454" y="2795"/>
                </a:lnTo>
                <a:lnTo>
                  <a:pt x="455" y="2777"/>
                </a:lnTo>
                <a:lnTo>
                  <a:pt x="457" y="2759"/>
                </a:lnTo>
                <a:lnTo>
                  <a:pt x="460" y="2740"/>
                </a:lnTo>
                <a:lnTo>
                  <a:pt x="461" y="2721"/>
                </a:lnTo>
                <a:lnTo>
                  <a:pt x="462" y="2701"/>
                </a:lnTo>
                <a:lnTo>
                  <a:pt x="464" y="2681"/>
                </a:lnTo>
                <a:lnTo>
                  <a:pt x="465" y="2659"/>
                </a:lnTo>
                <a:lnTo>
                  <a:pt x="468" y="2636"/>
                </a:lnTo>
                <a:lnTo>
                  <a:pt x="470" y="2613"/>
                </a:lnTo>
                <a:lnTo>
                  <a:pt x="471" y="2590"/>
                </a:lnTo>
                <a:lnTo>
                  <a:pt x="473" y="2566"/>
                </a:lnTo>
                <a:lnTo>
                  <a:pt x="474" y="2541"/>
                </a:lnTo>
                <a:lnTo>
                  <a:pt x="475" y="2515"/>
                </a:lnTo>
                <a:lnTo>
                  <a:pt x="478" y="2489"/>
                </a:lnTo>
                <a:lnTo>
                  <a:pt x="481" y="2433"/>
                </a:lnTo>
                <a:lnTo>
                  <a:pt x="483" y="2374"/>
                </a:lnTo>
                <a:lnTo>
                  <a:pt x="485" y="2311"/>
                </a:lnTo>
                <a:lnTo>
                  <a:pt x="487" y="2243"/>
                </a:lnTo>
                <a:lnTo>
                  <a:pt x="488" y="2174"/>
                </a:lnTo>
                <a:lnTo>
                  <a:pt x="490" y="2099"/>
                </a:lnTo>
                <a:lnTo>
                  <a:pt x="491" y="2021"/>
                </a:lnTo>
                <a:lnTo>
                  <a:pt x="493" y="1941"/>
                </a:lnTo>
                <a:lnTo>
                  <a:pt x="493" y="1856"/>
                </a:lnTo>
                <a:lnTo>
                  <a:pt x="493" y="1767"/>
                </a:lnTo>
                <a:lnTo>
                  <a:pt x="494" y="1675"/>
                </a:lnTo>
                <a:lnTo>
                  <a:pt x="494" y="1580"/>
                </a:lnTo>
                <a:lnTo>
                  <a:pt x="494" y="1480"/>
                </a:lnTo>
                <a:lnTo>
                  <a:pt x="494" y="1378"/>
                </a:lnTo>
                <a:lnTo>
                  <a:pt x="494" y="1273"/>
                </a:lnTo>
                <a:lnTo>
                  <a:pt x="494" y="1163"/>
                </a:lnTo>
                <a:lnTo>
                  <a:pt x="494" y="1136"/>
                </a:lnTo>
                <a:lnTo>
                  <a:pt x="494" y="1109"/>
                </a:lnTo>
                <a:lnTo>
                  <a:pt x="494" y="1083"/>
                </a:lnTo>
                <a:lnTo>
                  <a:pt x="494" y="1055"/>
                </a:lnTo>
                <a:lnTo>
                  <a:pt x="494" y="1030"/>
                </a:lnTo>
                <a:lnTo>
                  <a:pt x="494" y="1005"/>
                </a:lnTo>
                <a:lnTo>
                  <a:pt x="494" y="979"/>
                </a:lnTo>
                <a:lnTo>
                  <a:pt x="494" y="955"/>
                </a:lnTo>
                <a:lnTo>
                  <a:pt x="494" y="932"/>
                </a:lnTo>
                <a:lnTo>
                  <a:pt x="494" y="907"/>
                </a:lnTo>
                <a:lnTo>
                  <a:pt x="494" y="884"/>
                </a:lnTo>
                <a:lnTo>
                  <a:pt x="494" y="861"/>
                </a:lnTo>
                <a:lnTo>
                  <a:pt x="494" y="840"/>
                </a:lnTo>
                <a:lnTo>
                  <a:pt x="494" y="817"/>
                </a:lnTo>
                <a:lnTo>
                  <a:pt x="494" y="795"/>
                </a:lnTo>
                <a:lnTo>
                  <a:pt x="494" y="775"/>
                </a:lnTo>
                <a:lnTo>
                  <a:pt x="494" y="753"/>
                </a:lnTo>
                <a:lnTo>
                  <a:pt x="494" y="733"/>
                </a:lnTo>
                <a:lnTo>
                  <a:pt x="494" y="713"/>
                </a:lnTo>
                <a:lnTo>
                  <a:pt x="494" y="694"/>
                </a:lnTo>
                <a:lnTo>
                  <a:pt x="494" y="674"/>
                </a:lnTo>
                <a:lnTo>
                  <a:pt x="494" y="655"/>
                </a:lnTo>
                <a:lnTo>
                  <a:pt x="493" y="638"/>
                </a:lnTo>
                <a:lnTo>
                  <a:pt x="493" y="619"/>
                </a:lnTo>
                <a:lnTo>
                  <a:pt x="493" y="602"/>
                </a:lnTo>
                <a:lnTo>
                  <a:pt x="493" y="585"/>
                </a:lnTo>
                <a:lnTo>
                  <a:pt x="493" y="569"/>
                </a:lnTo>
                <a:lnTo>
                  <a:pt x="493" y="553"/>
                </a:lnTo>
                <a:lnTo>
                  <a:pt x="493" y="537"/>
                </a:lnTo>
                <a:lnTo>
                  <a:pt x="493" y="521"/>
                </a:lnTo>
                <a:lnTo>
                  <a:pt x="493" y="507"/>
                </a:lnTo>
                <a:lnTo>
                  <a:pt x="493" y="493"/>
                </a:lnTo>
                <a:lnTo>
                  <a:pt x="491" y="478"/>
                </a:lnTo>
                <a:lnTo>
                  <a:pt x="491" y="465"/>
                </a:lnTo>
                <a:lnTo>
                  <a:pt x="491" y="451"/>
                </a:lnTo>
                <a:lnTo>
                  <a:pt x="491" y="438"/>
                </a:lnTo>
                <a:lnTo>
                  <a:pt x="491" y="426"/>
                </a:lnTo>
                <a:lnTo>
                  <a:pt x="491" y="415"/>
                </a:lnTo>
                <a:lnTo>
                  <a:pt x="490" y="403"/>
                </a:lnTo>
                <a:lnTo>
                  <a:pt x="490" y="392"/>
                </a:lnTo>
                <a:lnTo>
                  <a:pt x="490" y="380"/>
                </a:lnTo>
                <a:lnTo>
                  <a:pt x="490" y="370"/>
                </a:lnTo>
                <a:lnTo>
                  <a:pt x="490" y="360"/>
                </a:lnTo>
                <a:lnTo>
                  <a:pt x="488" y="352"/>
                </a:lnTo>
                <a:lnTo>
                  <a:pt x="488" y="343"/>
                </a:lnTo>
                <a:lnTo>
                  <a:pt x="488" y="334"/>
                </a:lnTo>
                <a:lnTo>
                  <a:pt x="487" y="326"/>
                </a:lnTo>
                <a:lnTo>
                  <a:pt x="487" y="318"/>
                </a:lnTo>
                <a:lnTo>
                  <a:pt x="487" y="310"/>
                </a:lnTo>
                <a:lnTo>
                  <a:pt x="487" y="304"/>
                </a:lnTo>
                <a:lnTo>
                  <a:pt x="485" y="297"/>
                </a:lnTo>
                <a:lnTo>
                  <a:pt x="485" y="291"/>
                </a:lnTo>
                <a:lnTo>
                  <a:pt x="484" y="285"/>
                </a:lnTo>
                <a:lnTo>
                  <a:pt x="484" y="280"/>
                </a:lnTo>
                <a:lnTo>
                  <a:pt x="484" y="275"/>
                </a:lnTo>
                <a:lnTo>
                  <a:pt x="483" y="271"/>
                </a:lnTo>
                <a:lnTo>
                  <a:pt x="483" y="267"/>
                </a:lnTo>
                <a:lnTo>
                  <a:pt x="481" y="264"/>
                </a:lnTo>
                <a:lnTo>
                  <a:pt x="481" y="259"/>
                </a:lnTo>
                <a:lnTo>
                  <a:pt x="480" y="258"/>
                </a:lnTo>
                <a:lnTo>
                  <a:pt x="480" y="255"/>
                </a:lnTo>
                <a:lnTo>
                  <a:pt x="480" y="254"/>
                </a:lnTo>
                <a:lnTo>
                  <a:pt x="478" y="252"/>
                </a:lnTo>
                <a:lnTo>
                  <a:pt x="477" y="251"/>
                </a:lnTo>
                <a:lnTo>
                  <a:pt x="475" y="249"/>
                </a:lnTo>
                <a:lnTo>
                  <a:pt x="473" y="248"/>
                </a:lnTo>
                <a:lnTo>
                  <a:pt x="470" y="246"/>
                </a:lnTo>
                <a:lnTo>
                  <a:pt x="465" y="245"/>
                </a:lnTo>
                <a:lnTo>
                  <a:pt x="460" y="245"/>
                </a:lnTo>
                <a:lnTo>
                  <a:pt x="454" y="244"/>
                </a:lnTo>
                <a:lnTo>
                  <a:pt x="447" y="244"/>
                </a:lnTo>
                <a:lnTo>
                  <a:pt x="439" y="244"/>
                </a:lnTo>
                <a:lnTo>
                  <a:pt x="431" y="244"/>
                </a:lnTo>
                <a:lnTo>
                  <a:pt x="421" y="244"/>
                </a:lnTo>
                <a:lnTo>
                  <a:pt x="411" y="244"/>
                </a:lnTo>
                <a:lnTo>
                  <a:pt x="399" y="244"/>
                </a:lnTo>
                <a:lnTo>
                  <a:pt x="388" y="245"/>
                </a:lnTo>
                <a:lnTo>
                  <a:pt x="375" y="245"/>
                </a:lnTo>
                <a:lnTo>
                  <a:pt x="362" y="246"/>
                </a:lnTo>
                <a:lnTo>
                  <a:pt x="347" y="248"/>
                </a:lnTo>
                <a:lnTo>
                  <a:pt x="331" y="249"/>
                </a:lnTo>
                <a:lnTo>
                  <a:pt x="316" y="251"/>
                </a:lnTo>
                <a:lnTo>
                  <a:pt x="298" y="252"/>
                </a:lnTo>
                <a:lnTo>
                  <a:pt x="281" y="254"/>
                </a:lnTo>
                <a:lnTo>
                  <a:pt x="262" y="255"/>
                </a:lnTo>
                <a:lnTo>
                  <a:pt x="242" y="258"/>
                </a:lnTo>
                <a:lnTo>
                  <a:pt x="222" y="259"/>
                </a:lnTo>
                <a:lnTo>
                  <a:pt x="202" y="262"/>
                </a:lnTo>
                <a:lnTo>
                  <a:pt x="179" y="265"/>
                </a:lnTo>
                <a:lnTo>
                  <a:pt x="156" y="268"/>
                </a:lnTo>
                <a:lnTo>
                  <a:pt x="133" y="271"/>
                </a:lnTo>
                <a:lnTo>
                  <a:pt x="107" y="274"/>
                </a:lnTo>
                <a:lnTo>
                  <a:pt x="82" y="277"/>
                </a:lnTo>
                <a:lnTo>
                  <a:pt x="55" y="280"/>
                </a:lnTo>
                <a:lnTo>
                  <a:pt x="28" y="282"/>
                </a:lnTo>
                <a:lnTo>
                  <a:pt x="0" y="287"/>
                </a:lnTo>
                <a:lnTo>
                  <a:pt x="0" y="215"/>
                </a:lnTo>
                <a:lnTo>
                  <a:pt x="0" y="143"/>
                </a:lnTo>
                <a:lnTo>
                  <a:pt x="28" y="143"/>
                </a:lnTo>
                <a:lnTo>
                  <a:pt x="55" y="141"/>
                </a:lnTo>
                <a:lnTo>
                  <a:pt x="81" y="141"/>
                </a:lnTo>
                <a:lnTo>
                  <a:pt x="105" y="140"/>
                </a:lnTo>
                <a:lnTo>
                  <a:pt x="128" y="138"/>
                </a:lnTo>
                <a:lnTo>
                  <a:pt x="152" y="137"/>
                </a:lnTo>
                <a:lnTo>
                  <a:pt x="173" y="134"/>
                </a:lnTo>
                <a:lnTo>
                  <a:pt x="193" y="131"/>
                </a:lnTo>
                <a:lnTo>
                  <a:pt x="213" y="130"/>
                </a:lnTo>
                <a:lnTo>
                  <a:pt x="232" y="127"/>
                </a:lnTo>
                <a:lnTo>
                  <a:pt x="249" y="124"/>
                </a:lnTo>
                <a:lnTo>
                  <a:pt x="265" y="120"/>
                </a:lnTo>
                <a:lnTo>
                  <a:pt x="281" y="117"/>
                </a:lnTo>
                <a:lnTo>
                  <a:pt x="297" y="114"/>
                </a:lnTo>
                <a:lnTo>
                  <a:pt x="310" y="110"/>
                </a:lnTo>
                <a:lnTo>
                  <a:pt x="324" y="107"/>
                </a:lnTo>
                <a:lnTo>
                  <a:pt x="336" y="104"/>
                </a:lnTo>
                <a:lnTo>
                  <a:pt x="349" y="100"/>
                </a:lnTo>
                <a:lnTo>
                  <a:pt x="360" y="97"/>
                </a:lnTo>
                <a:lnTo>
                  <a:pt x="372" y="94"/>
                </a:lnTo>
                <a:lnTo>
                  <a:pt x="383" y="89"/>
                </a:lnTo>
                <a:lnTo>
                  <a:pt x="393" y="85"/>
                </a:lnTo>
                <a:lnTo>
                  <a:pt x="403" y="82"/>
                </a:lnTo>
                <a:lnTo>
                  <a:pt x="414" y="78"/>
                </a:lnTo>
                <a:lnTo>
                  <a:pt x="424" y="74"/>
                </a:lnTo>
                <a:lnTo>
                  <a:pt x="432" y="69"/>
                </a:lnTo>
                <a:lnTo>
                  <a:pt x="441" y="65"/>
                </a:lnTo>
                <a:lnTo>
                  <a:pt x="450" y="59"/>
                </a:lnTo>
                <a:lnTo>
                  <a:pt x="457" y="54"/>
                </a:lnTo>
                <a:lnTo>
                  <a:pt x="464" y="48"/>
                </a:lnTo>
                <a:lnTo>
                  <a:pt x="471" y="42"/>
                </a:lnTo>
                <a:lnTo>
                  <a:pt x="478" y="36"/>
                </a:lnTo>
                <a:lnTo>
                  <a:pt x="481" y="32"/>
                </a:lnTo>
                <a:lnTo>
                  <a:pt x="484" y="29"/>
                </a:lnTo>
                <a:lnTo>
                  <a:pt x="488" y="26"/>
                </a:lnTo>
                <a:lnTo>
                  <a:pt x="493" y="22"/>
                </a:lnTo>
                <a:lnTo>
                  <a:pt x="503" y="16"/>
                </a:lnTo>
                <a:lnTo>
                  <a:pt x="514" y="10"/>
                </a:lnTo>
                <a:lnTo>
                  <a:pt x="526" y="6"/>
                </a:lnTo>
                <a:lnTo>
                  <a:pt x="537" y="3"/>
                </a:lnTo>
                <a:lnTo>
                  <a:pt x="543" y="2"/>
                </a:lnTo>
                <a:lnTo>
                  <a:pt x="550" y="0"/>
                </a:lnTo>
                <a:lnTo>
                  <a:pt x="556" y="0"/>
                </a:lnTo>
                <a:lnTo>
                  <a:pt x="563" y="0"/>
                </a:lnTo>
                <a:lnTo>
                  <a:pt x="566" y="0"/>
                </a:lnTo>
                <a:lnTo>
                  <a:pt x="570" y="2"/>
                </a:lnTo>
                <a:lnTo>
                  <a:pt x="576" y="3"/>
                </a:lnTo>
                <a:lnTo>
                  <a:pt x="582" y="6"/>
                </a:lnTo>
                <a:lnTo>
                  <a:pt x="589" y="9"/>
                </a:lnTo>
                <a:lnTo>
                  <a:pt x="596" y="13"/>
                </a:lnTo>
                <a:lnTo>
                  <a:pt x="605" y="19"/>
                </a:lnTo>
                <a:lnTo>
                  <a:pt x="614" y="25"/>
                </a:lnTo>
                <a:lnTo>
                  <a:pt x="624" y="30"/>
                </a:lnTo>
                <a:lnTo>
                  <a:pt x="635" y="38"/>
                </a:lnTo>
                <a:lnTo>
                  <a:pt x="647" y="45"/>
                </a:lnTo>
                <a:lnTo>
                  <a:pt x="658" y="52"/>
                </a:lnTo>
                <a:lnTo>
                  <a:pt x="671" y="61"/>
                </a:lnTo>
                <a:lnTo>
                  <a:pt x="686" y="69"/>
                </a:lnTo>
                <a:lnTo>
                  <a:pt x="700" y="79"/>
                </a:lnTo>
                <a:lnTo>
                  <a:pt x="716" y="89"/>
                </a:lnTo>
                <a:lnTo>
                  <a:pt x="729" y="102"/>
                </a:lnTo>
                <a:lnTo>
                  <a:pt x="740" y="115"/>
                </a:lnTo>
                <a:lnTo>
                  <a:pt x="750" y="127"/>
                </a:lnTo>
                <a:lnTo>
                  <a:pt x="760" y="137"/>
                </a:lnTo>
                <a:lnTo>
                  <a:pt x="769" y="147"/>
                </a:lnTo>
                <a:lnTo>
                  <a:pt x="778" y="156"/>
                </a:lnTo>
                <a:lnTo>
                  <a:pt x="786" y="164"/>
                </a:lnTo>
                <a:lnTo>
                  <a:pt x="792" y="173"/>
                </a:lnTo>
                <a:lnTo>
                  <a:pt x="799" y="180"/>
                </a:lnTo>
                <a:lnTo>
                  <a:pt x="804" y="186"/>
                </a:lnTo>
                <a:lnTo>
                  <a:pt x="808" y="192"/>
                </a:lnTo>
                <a:lnTo>
                  <a:pt x="812" y="197"/>
                </a:lnTo>
                <a:lnTo>
                  <a:pt x="815" y="203"/>
                </a:lnTo>
                <a:lnTo>
                  <a:pt x="817" y="208"/>
                </a:lnTo>
                <a:lnTo>
                  <a:pt x="818" y="212"/>
                </a:lnTo>
                <a:lnTo>
                  <a:pt x="819" y="215"/>
                </a:lnTo>
                <a:lnTo>
                  <a:pt x="818" y="219"/>
                </a:lnTo>
                <a:lnTo>
                  <a:pt x="818" y="222"/>
                </a:lnTo>
                <a:lnTo>
                  <a:pt x="817" y="226"/>
                </a:lnTo>
                <a:lnTo>
                  <a:pt x="815" y="231"/>
                </a:lnTo>
                <a:lnTo>
                  <a:pt x="814" y="236"/>
                </a:lnTo>
                <a:lnTo>
                  <a:pt x="811" y="242"/>
                </a:lnTo>
                <a:lnTo>
                  <a:pt x="808" y="246"/>
                </a:lnTo>
                <a:lnTo>
                  <a:pt x="805" y="252"/>
                </a:lnTo>
                <a:lnTo>
                  <a:pt x="802" y="258"/>
                </a:lnTo>
                <a:lnTo>
                  <a:pt x="798" y="265"/>
                </a:lnTo>
                <a:lnTo>
                  <a:pt x="794" y="271"/>
                </a:lnTo>
                <a:lnTo>
                  <a:pt x="789" y="278"/>
                </a:lnTo>
                <a:lnTo>
                  <a:pt x="785" y="284"/>
                </a:lnTo>
                <a:lnTo>
                  <a:pt x="779" y="291"/>
                </a:lnTo>
                <a:lnTo>
                  <a:pt x="773" y="297"/>
                </a:lnTo>
                <a:lnTo>
                  <a:pt x="768" y="304"/>
                </a:lnTo>
                <a:lnTo>
                  <a:pt x="762" y="308"/>
                </a:lnTo>
                <a:lnTo>
                  <a:pt x="758" y="313"/>
                </a:lnTo>
                <a:lnTo>
                  <a:pt x="753" y="318"/>
                </a:lnTo>
                <a:lnTo>
                  <a:pt x="749" y="326"/>
                </a:lnTo>
                <a:lnTo>
                  <a:pt x="746" y="334"/>
                </a:lnTo>
                <a:lnTo>
                  <a:pt x="742" y="343"/>
                </a:lnTo>
                <a:lnTo>
                  <a:pt x="739" y="354"/>
                </a:lnTo>
                <a:lnTo>
                  <a:pt x="735" y="364"/>
                </a:lnTo>
                <a:lnTo>
                  <a:pt x="732" y="377"/>
                </a:lnTo>
                <a:lnTo>
                  <a:pt x="729" y="390"/>
                </a:lnTo>
                <a:lnTo>
                  <a:pt x="726" y="406"/>
                </a:lnTo>
                <a:lnTo>
                  <a:pt x="723" y="421"/>
                </a:lnTo>
                <a:lnTo>
                  <a:pt x="720" y="438"/>
                </a:lnTo>
                <a:lnTo>
                  <a:pt x="717" y="455"/>
                </a:lnTo>
                <a:lnTo>
                  <a:pt x="714" y="475"/>
                </a:lnTo>
                <a:lnTo>
                  <a:pt x="712" y="494"/>
                </a:lnTo>
                <a:lnTo>
                  <a:pt x="710" y="516"/>
                </a:lnTo>
                <a:lnTo>
                  <a:pt x="707" y="537"/>
                </a:lnTo>
                <a:lnTo>
                  <a:pt x="704" y="562"/>
                </a:lnTo>
                <a:lnTo>
                  <a:pt x="703" y="586"/>
                </a:lnTo>
                <a:lnTo>
                  <a:pt x="701" y="611"/>
                </a:lnTo>
                <a:lnTo>
                  <a:pt x="699" y="638"/>
                </a:lnTo>
                <a:lnTo>
                  <a:pt x="697" y="665"/>
                </a:lnTo>
                <a:lnTo>
                  <a:pt x="696" y="694"/>
                </a:lnTo>
                <a:lnTo>
                  <a:pt x="693" y="724"/>
                </a:lnTo>
                <a:lnTo>
                  <a:pt x="691" y="756"/>
                </a:lnTo>
                <a:lnTo>
                  <a:pt x="690" y="788"/>
                </a:lnTo>
                <a:lnTo>
                  <a:pt x="688" y="822"/>
                </a:lnTo>
                <a:lnTo>
                  <a:pt x="687" y="857"/>
                </a:lnTo>
                <a:lnTo>
                  <a:pt x="686" y="891"/>
                </a:lnTo>
                <a:lnTo>
                  <a:pt x="684" y="929"/>
                </a:lnTo>
                <a:lnTo>
                  <a:pt x="683" y="968"/>
                </a:lnTo>
                <a:lnTo>
                  <a:pt x="678" y="1045"/>
                </a:lnTo>
                <a:lnTo>
                  <a:pt x="677" y="1125"/>
                </a:lnTo>
                <a:lnTo>
                  <a:pt x="674" y="1204"/>
                </a:lnTo>
                <a:lnTo>
                  <a:pt x="673" y="1286"/>
                </a:lnTo>
                <a:lnTo>
                  <a:pt x="671" y="1369"/>
                </a:lnTo>
                <a:lnTo>
                  <a:pt x="670" y="1453"/>
                </a:lnTo>
                <a:lnTo>
                  <a:pt x="668" y="1538"/>
                </a:lnTo>
                <a:lnTo>
                  <a:pt x="667" y="1626"/>
                </a:lnTo>
                <a:lnTo>
                  <a:pt x="667" y="1713"/>
                </a:lnTo>
                <a:lnTo>
                  <a:pt x="665" y="1803"/>
                </a:lnTo>
                <a:lnTo>
                  <a:pt x="665" y="1892"/>
                </a:lnTo>
                <a:lnTo>
                  <a:pt x="665" y="1984"/>
                </a:lnTo>
                <a:lnTo>
                  <a:pt x="665" y="2078"/>
                </a:lnTo>
                <a:lnTo>
                  <a:pt x="665" y="2171"/>
                </a:lnTo>
                <a:lnTo>
                  <a:pt x="665" y="2266"/>
                </a:lnTo>
                <a:lnTo>
                  <a:pt x="665" y="2364"/>
                </a:lnTo>
                <a:lnTo>
                  <a:pt x="664" y="2412"/>
                </a:lnTo>
                <a:lnTo>
                  <a:pt x="664" y="2459"/>
                </a:lnTo>
                <a:lnTo>
                  <a:pt x="664" y="2504"/>
                </a:lnTo>
                <a:lnTo>
                  <a:pt x="663" y="2548"/>
                </a:lnTo>
                <a:lnTo>
                  <a:pt x="663" y="2593"/>
                </a:lnTo>
                <a:lnTo>
                  <a:pt x="661" y="2635"/>
                </a:lnTo>
                <a:lnTo>
                  <a:pt x="660" y="2677"/>
                </a:lnTo>
                <a:lnTo>
                  <a:pt x="658" y="2717"/>
                </a:lnTo>
                <a:lnTo>
                  <a:pt x="657" y="2756"/>
                </a:lnTo>
                <a:lnTo>
                  <a:pt x="654" y="2793"/>
                </a:lnTo>
                <a:lnTo>
                  <a:pt x="652" y="2829"/>
                </a:lnTo>
                <a:lnTo>
                  <a:pt x="650" y="2865"/>
                </a:lnTo>
                <a:lnTo>
                  <a:pt x="648" y="2900"/>
                </a:lnTo>
                <a:lnTo>
                  <a:pt x="645" y="2933"/>
                </a:lnTo>
                <a:lnTo>
                  <a:pt x="642" y="2964"/>
                </a:lnTo>
                <a:lnTo>
                  <a:pt x="638" y="2995"/>
                </a:lnTo>
                <a:lnTo>
                  <a:pt x="635" y="3025"/>
                </a:lnTo>
                <a:lnTo>
                  <a:pt x="632" y="3052"/>
                </a:lnTo>
                <a:lnTo>
                  <a:pt x="628" y="3080"/>
                </a:lnTo>
                <a:lnTo>
                  <a:pt x="624" y="3107"/>
                </a:lnTo>
                <a:lnTo>
                  <a:pt x="621" y="3131"/>
                </a:lnTo>
                <a:lnTo>
                  <a:pt x="616" y="3156"/>
                </a:lnTo>
                <a:lnTo>
                  <a:pt x="611" y="3178"/>
                </a:lnTo>
                <a:lnTo>
                  <a:pt x="606" y="3199"/>
                </a:lnTo>
                <a:lnTo>
                  <a:pt x="602" y="3221"/>
                </a:lnTo>
                <a:lnTo>
                  <a:pt x="596" y="3239"/>
                </a:lnTo>
                <a:lnTo>
                  <a:pt x="592" y="3258"/>
                </a:lnTo>
                <a:lnTo>
                  <a:pt x="586" y="3274"/>
                </a:lnTo>
                <a:lnTo>
                  <a:pt x="581" y="3290"/>
                </a:lnTo>
                <a:lnTo>
                  <a:pt x="575" y="3306"/>
                </a:lnTo>
                <a:lnTo>
                  <a:pt x="569" y="3319"/>
                </a:lnTo>
                <a:lnTo>
                  <a:pt x="563" y="3332"/>
                </a:lnTo>
                <a:lnTo>
                  <a:pt x="556" y="3345"/>
                </a:lnTo>
                <a:lnTo>
                  <a:pt x="550" y="3356"/>
                </a:lnTo>
                <a:lnTo>
                  <a:pt x="545" y="3369"/>
                </a:lnTo>
                <a:lnTo>
                  <a:pt x="539" y="3381"/>
                </a:lnTo>
                <a:lnTo>
                  <a:pt x="532" y="3392"/>
                </a:lnTo>
                <a:lnTo>
                  <a:pt x="526" y="3402"/>
                </a:lnTo>
                <a:lnTo>
                  <a:pt x="520" y="3412"/>
                </a:lnTo>
                <a:lnTo>
                  <a:pt x="516" y="3422"/>
                </a:lnTo>
                <a:lnTo>
                  <a:pt x="510" y="3431"/>
                </a:lnTo>
                <a:lnTo>
                  <a:pt x="504" y="3440"/>
                </a:lnTo>
                <a:lnTo>
                  <a:pt x="498" y="3448"/>
                </a:lnTo>
                <a:lnTo>
                  <a:pt x="494" y="3455"/>
                </a:lnTo>
                <a:lnTo>
                  <a:pt x="488" y="3464"/>
                </a:lnTo>
                <a:lnTo>
                  <a:pt x="483" y="3470"/>
                </a:lnTo>
                <a:lnTo>
                  <a:pt x="478" y="3477"/>
                </a:lnTo>
                <a:lnTo>
                  <a:pt x="474" y="3483"/>
                </a:lnTo>
                <a:lnTo>
                  <a:pt x="468" y="3488"/>
                </a:lnTo>
                <a:lnTo>
                  <a:pt x="464" y="3494"/>
                </a:lnTo>
                <a:lnTo>
                  <a:pt x="460" y="3499"/>
                </a:lnTo>
                <a:lnTo>
                  <a:pt x="455" y="3503"/>
                </a:lnTo>
                <a:lnTo>
                  <a:pt x="451" y="3507"/>
                </a:lnTo>
                <a:lnTo>
                  <a:pt x="447" y="3510"/>
                </a:lnTo>
                <a:lnTo>
                  <a:pt x="442" y="3514"/>
                </a:lnTo>
                <a:lnTo>
                  <a:pt x="438" y="3517"/>
                </a:lnTo>
                <a:lnTo>
                  <a:pt x="434" y="3519"/>
                </a:lnTo>
                <a:lnTo>
                  <a:pt x="431" y="3522"/>
                </a:lnTo>
                <a:lnTo>
                  <a:pt x="422" y="3524"/>
                </a:lnTo>
                <a:lnTo>
                  <a:pt x="416" y="3527"/>
                </a:lnTo>
                <a:lnTo>
                  <a:pt x="409" y="3527"/>
                </a:lnTo>
                <a:lnTo>
                  <a:pt x="401" y="3527"/>
                </a:lnTo>
                <a:lnTo>
                  <a:pt x="392" y="3526"/>
                </a:lnTo>
                <a:lnTo>
                  <a:pt x="383" y="3523"/>
                </a:lnTo>
                <a:lnTo>
                  <a:pt x="378" y="3520"/>
                </a:lnTo>
                <a:lnTo>
                  <a:pt x="370" y="3517"/>
                </a:lnTo>
                <a:lnTo>
                  <a:pt x="365" y="3513"/>
                </a:lnTo>
                <a:lnTo>
                  <a:pt x="360" y="3507"/>
                </a:lnTo>
                <a:lnTo>
                  <a:pt x="356" y="3501"/>
                </a:lnTo>
                <a:lnTo>
                  <a:pt x="352" y="3494"/>
                </a:lnTo>
                <a:lnTo>
                  <a:pt x="349" y="3486"/>
                </a:lnTo>
                <a:lnTo>
                  <a:pt x="346" y="3477"/>
                </a:lnTo>
                <a:lnTo>
                  <a:pt x="344" y="3467"/>
                </a:lnTo>
                <a:lnTo>
                  <a:pt x="343" y="3457"/>
                </a:lnTo>
                <a:lnTo>
                  <a:pt x="342" y="3445"/>
                </a:lnTo>
                <a:lnTo>
                  <a:pt x="342" y="3434"/>
                </a:lnTo>
                <a:lnTo>
                  <a:pt x="342" y="3421"/>
                </a:lnTo>
                <a:lnTo>
                  <a:pt x="340" y="3404"/>
                </a:lnTo>
                <a:lnTo>
                  <a:pt x="339" y="3388"/>
                </a:lnTo>
                <a:lnTo>
                  <a:pt x="336" y="3372"/>
                </a:lnTo>
                <a:lnTo>
                  <a:pt x="331" y="3356"/>
                </a:lnTo>
                <a:lnTo>
                  <a:pt x="326" y="3342"/>
                </a:lnTo>
                <a:lnTo>
                  <a:pt x="320" y="3326"/>
                </a:lnTo>
                <a:lnTo>
                  <a:pt x="313" y="3311"/>
                </a:lnTo>
                <a:lnTo>
                  <a:pt x="304" y="3297"/>
                </a:lnTo>
                <a:lnTo>
                  <a:pt x="295" y="3283"/>
                </a:lnTo>
                <a:lnTo>
                  <a:pt x="285" y="3270"/>
                </a:lnTo>
                <a:lnTo>
                  <a:pt x="274" y="3255"/>
                </a:lnTo>
                <a:lnTo>
                  <a:pt x="261" y="3242"/>
                </a:lnTo>
                <a:lnTo>
                  <a:pt x="248" y="3228"/>
                </a:lnTo>
                <a:lnTo>
                  <a:pt x="235" y="3215"/>
                </a:lnTo>
                <a:lnTo>
                  <a:pt x="219" y="3201"/>
                </a:lnTo>
                <a:lnTo>
                  <a:pt x="205" y="3188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Freeform 47"/>
          <p:cNvSpPr/>
          <p:nvPr/>
        </p:nvSpPr>
        <p:spPr>
          <a:xfrm>
            <a:off x="5861160" y="3573360"/>
            <a:ext cx="215640" cy="111240"/>
          </a:xfrm>
          <a:custGeom>
            <a:avLst/>
            <a:gdLst/>
            <a:ahLst/>
            <a:rect l="l" t="t" r="r" b="b"/>
            <a:pathLst>
              <a:path w="409" h="212">
                <a:moveTo>
                  <a:pt x="0" y="51"/>
                </a:moveTo>
                <a:lnTo>
                  <a:pt x="15" y="49"/>
                </a:lnTo>
                <a:lnTo>
                  <a:pt x="31" y="49"/>
                </a:lnTo>
                <a:lnTo>
                  <a:pt x="45" y="48"/>
                </a:lnTo>
                <a:lnTo>
                  <a:pt x="61" y="46"/>
                </a:lnTo>
                <a:lnTo>
                  <a:pt x="74" y="45"/>
                </a:lnTo>
                <a:lnTo>
                  <a:pt x="88" y="43"/>
                </a:lnTo>
                <a:lnTo>
                  <a:pt x="101" y="41"/>
                </a:lnTo>
                <a:lnTo>
                  <a:pt x="114" y="39"/>
                </a:lnTo>
                <a:lnTo>
                  <a:pt x="127" y="36"/>
                </a:lnTo>
                <a:lnTo>
                  <a:pt x="140" y="33"/>
                </a:lnTo>
                <a:lnTo>
                  <a:pt x="152" y="31"/>
                </a:lnTo>
                <a:lnTo>
                  <a:pt x="163" y="28"/>
                </a:lnTo>
                <a:lnTo>
                  <a:pt x="173" y="23"/>
                </a:lnTo>
                <a:lnTo>
                  <a:pt x="185" y="20"/>
                </a:lnTo>
                <a:lnTo>
                  <a:pt x="195" y="18"/>
                </a:lnTo>
                <a:lnTo>
                  <a:pt x="205" y="15"/>
                </a:lnTo>
                <a:lnTo>
                  <a:pt x="213" y="10"/>
                </a:lnTo>
                <a:lnTo>
                  <a:pt x="222" y="7"/>
                </a:lnTo>
                <a:lnTo>
                  <a:pt x="231" y="6"/>
                </a:lnTo>
                <a:lnTo>
                  <a:pt x="239" y="3"/>
                </a:lnTo>
                <a:lnTo>
                  <a:pt x="248" y="2"/>
                </a:lnTo>
                <a:lnTo>
                  <a:pt x="257" y="2"/>
                </a:lnTo>
                <a:lnTo>
                  <a:pt x="264" y="0"/>
                </a:lnTo>
                <a:lnTo>
                  <a:pt x="272" y="0"/>
                </a:lnTo>
                <a:lnTo>
                  <a:pt x="281" y="0"/>
                </a:lnTo>
                <a:lnTo>
                  <a:pt x="288" y="2"/>
                </a:lnTo>
                <a:lnTo>
                  <a:pt x="297" y="2"/>
                </a:lnTo>
                <a:lnTo>
                  <a:pt x="306" y="3"/>
                </a:lnTo>
                <a:lnTo>
                  <a:pt x="314" y="6"/>
                </a:lnTo>
                <a:lnTo>
                  <a:pt x="323" y="7"/>
                </a:lnTo>
                <a:lnTo>
                  <a:pt x="331" y="10"/>
                </a:lnTo>
                <a:lnTo>
                  <a:pt x="342" y="15"/>
                </a:lnTo>
                <a:lnTo>
                  <a:pt x="350" y="18"/>
                </a:lnTo>
                <a:lnTo>
                  <a:pt x="359" y="22"/>
                </a:lnTo>
                <a:lnTo>
                  <a:pt x="366" y="26"/>
                </a:lnTo>
                <a:lnTo>
                  <a:pt x="373" y="31"/>
                </a:lnTo>
                <a:lnTo>
                  <a:pt x="379" y="35"/>
                </a:lnTo>
                <a:lnTo>
                  <a:pt x="385" y="41"/>
                </a:lnTo>
                <a:lnTo>
                  <a:pt x="390" y="45"/>
                </a:lnTo>
                <a:lnTo>
                  <a:pt x="395" y="49"/>
                </a:lnTo>
                <a:lnTo>
                  <a:pt x="398" y="55"/>
                </a:lnTo>
                <a:lnTo>
                  <a:pt x="401" y="59"/>
                </a:lnTo>
                <a:lnTo>
                  <a:pt x="403" y="65"/>
                </a:lnTo>
                <a:lnTo>
                  <a:pt x="406" y="69"/>
                </a:lnTo>
                <a:lnTo>
                  <a:pt x="408" y="74"/>
                </a:lnTo>
                <a:lnTo>
                  <a:pt x="408" y="78"/>
                </a:lnTo>
                <a:lnTo>
                  <a:pt x="409" y="82"/>
                </a:lnTo>
                <a:lnTo>
                  <a:pt x="409" y="85"/>
                </a:lnTo>
                <a:lnTo>
                  <a:pt x="409" y="92"/>
                </a:lnTo>
                <a:lnTo>
                  <a:pt x="408" y="98"/>
                </a:lnTo>
                <a:lnTo>
                  <a:pt x="406" y="105"/>
                </a:lnTo>
                <a:lnTo>
                  <a:pt x="403" y="113"/>
                </a:lnTo>
                <a:lnTo>
                  <a:pt x="399" y="118"/>
                </a:lnTo>
                <a:lnTo>
                  <a:pt x="396" y="124"/>
                </a:lnTo>
                <a:lnTo>
                  <a:pt x="390" y="131"/>
                </a:lnTo>
                <a:lnTo>
                  <a:pt x="386" y="137"/>
                </a:lnTo>
                <a:lnTo>
                  <a:pt x="379" y="143"/>
                </a:lnTo>
                <a:lnTo>
                  <a:pt x="373" y="149"/>
                </a:lnTo>
                <a:lnTo>
                  <a:pt x="366" y="153"/>
                </a:lnTo>
                <a:lnTo>
                  <a:pt x="359" y="159"/>
                </a:lnTo>
                <a:lnTo>
                  <a:pt x="350" y="163"/>
                </a:lnTo>
                <a:lnTo>
                  <a:pt x="342" y="167"/>
                </a:lnTo>
                <a:lnTo>
                  <a:pt x="333" y="172"/>
                </a:lnTo>
                <a:lnTo>
                  <a:pt x="324" y="176"/>
                </a:lnTo>
                <a:lnTo>
                  <a:pt x="311" y="179"/>
                </a:lnTo>
                <a:lnTo>
                  <a:pt x="300" y="182"/>
                </a:lnTo>
                <a:lnTo>
                  <a:pt x="288" y="185"/>
                </a:lnTo>
                <a:lnTo>
                  <a:pt x="278" y="189"/>
                </a:lnTo>
                <a:lnTo>
                  <a:pt x="270" y="192"/>
                </a:lnTo>
                <a:lnTo>
                  <a:pt x="261" y="195"/>
                </a:lnTo>
                <a:lnTo>
                  <a:pt x="252" y="198"/>
                </a:lnTo>
                <a:lnTo>
                  <a:pt x="245" y="200"/>
                </a:lnTo>
                <a:lnTo>
                  <a:pt x="238" y="202"/>
                </a:lnTo>
                <a:lnTo>
                  <a:pt x="232" y="205"/>
                </a:lnTo>
                <a:lnTo>
                  <a:pt x="226" y="206"/>
                </a:lnTo>
                <a:lnTo>
                  <a:pt x="221" y="208"/>
                </a:lnTo>
                <a:lnTo>
                  <a:pt x="216" y="209"/>
                </a:lnTo>
                <a:lnTo>
                  <a:pt x="212" y="210"/>
                </a:lnTo>
                <a:lnTo>
                  <a:pt x="208" y="210"/>
                </a:lnTo>
                <a:lnTo>
                  <a:pt x="205" y="212"/>
                </a:lnTo>
                <a:lnTo>
                  <a:pt x="200" y="212"/>
                </a:lnTo>
                <a:lnTo>
                  <a:pt x="196" y="212"/>
                </a:lnTo>
                <a:lnTo>
                  <a:pt x="190" y="212"/>
                </a:lnTo>
                <a:lnTo>
                  <a:pt x="185" y="212"/>
                </a:lnTo>
                <a:lnTo>
                  <a:pt x="177" y="212"/>
                </a:lnTo>
                <a:lnTo>
                  <a:pt x="169" y="212"/>
                </a:lnTo>
                <a:lnTo>
                  <a:pt x="160" y="212"/>
                </a:lnTo>
                <a:lnTo>
                  <a:pt x="150" y="212"/>
                </a:lnTo>
                <a:lnTo>
                  <a:pt x="140" y="212"/>
                </a:lnTo>
                <a:lnTo>
                  <a:pt x="128" y="212"/>
                </a:lnTo>
                <a:lnTo>
                  <a:pt x="116" y="212"/>
                </a:lnTo>
                <a:lnTo>
                  <a:pt x="101" y="212"/>
                </a:lnTo>
                <a:lnTo>
                  <a:pt x="85" y="212"/>
                </a:lnTo>
                <a:lnTo>
                  <a:pt x="69" y="212"/>
                </a:lnTo>
                <a:lnTo>
                  <a:pt x="52" y="212"/>
                </a:lnTo>
                <a:lnTo>
                  <a:pt x="33" y="212"/>
                </a:lnTo>
                <a:lnTo>
                  <a:pt x="25" y="170"/>
                </a:lnTo>
                <a:lnTo>
                  <a:pt x="16" y="130"/>
                </a:lnTo>
                <a:lnTo>
                  <a:pt x="8" y="90"/>
                </a:lnTo>
                <a:lnTo>
                  <a:pt x="0" y="5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Freeform 48"/>
          <p:cNvSpPr/>
          <p:nvPr/>
        </p:nvSpPr>
        <p:spPr>
          <a:xfrm>
            <a:off x="5842080" y="3997440"/>
            <a:ext cx="217440" cy="114120"/>
          </a:xfrm>
          <a:custGeom>
            <a:avLst/>
            <a:gdLst/>
            <a:ahLst/>
            <a:rect l="l" t="t" r="r" b="b"/>
            <a:pathLst>
              <a:path w="409" h="215">
                <a:moveTo>
                  <a:pt x="0" y="53"/>
                </a:moveTo>
                <a:lnTo>
                  <a:pt x="16" y="53"/>
                </a:lnTo>
                <a:lnTo>
                  <a:pt x="30" y="52"/>
                </a:lnTo>
                <a:lnTo>
                  <a:pt x="46" y="52"/>
                </a:lnTo>
                <a:lnTo>
                  <a:pt x="60" y="51"/>
                </a:lnTo>
                <a:lnTo>
                  <a:pt x="75" y="49"/>
                </a:lnTo>
                <a:lnTo>
                  <a:pt x="88" y="48"/>
                </a:lnTo>
                <a:lnTo>
                  <a:pt x="102" y="45"/>
                </a:lnTo>
                <a:lnTo>
                  <a:pt x="115" y="42"/>
                </a:lnTo>
                <a:lnTo>
                  <a:pt x="128" y="40"/>
                </a:lnTo>
                <a:lnTo>
                  <a:pt x="139" y="38"/>
                </a:lnTo>
                <a:lnTo>
                  <a:pt x="151" y="35"/>
                </a:lnTo>
                <a:lnTo>
                  <a:pt x="162" y="30"/>
                </a:lnTo>
                <a:lnTo>
                  <a:pt x="174" y="28"/>
                </a:lnTo>
                <a:lnTo>
                  <a:pt x="184" y="25"/>
                </a:lnTo>
                <a:lnTo>
                  <a:pt x="194" y="20"/>
                </a:lnTo>
                <a:lnTo>
                  <a:pt x="204" y="17"/>
                </a:lnTo>
                <a:lnTo>
                  <a:pt x="214" y="15"/>
                </a:lnTo>
                <a:lnTo>
                  <a:pt x="223" y="12"/>
                </a:lnTo>
                <a:lnTo>
                  <a:pt x="232" y="9"/>
                </a:lnTo>
                <a:lnTo>
                  <a:pt x="240" y="7"/>
                </a:lnTo>
                <a:lnTo>
                  <a:pt x="256" y="4"/>
                </a:lnTo>
                <a:lnTo>
                  <a:pt x="272" y="2"/>
                </a:lnTo>
                <a:lnTo>
                  <a:pt x="288" y="2"/>
                </a:lnTo>
                <a:lnTo>
                  <a:pt x="305" y="0"/>
                </a:lnTo>
                <a:lnTo>
                  <a:pt x="322" y="0"/>
                </a:lnTo>
                <a:lnTo>
                  <a:pt x="331" y="0"/>
                </a:lnTo>
                <a:lnTo>
                  <a:pt x="341" y="0"/>
                </a:lnTo>
                <a:lnTo>
                  <a:pt x="350" y="0"/>
                </a:lnTo>
                <a:lnTo>
                  <a:pt x="358" y="2"/>
                </a:lnTo>
                <a:lnTo>
                  <a:pt x="365" y="2"/>
                </a:lnTo>
                <a:lnTo>
                  <a:pt x="373" y="3"/>
                </a:lnTo>
                <a:lnTo>
                  <a:pt x="378" y="6"/>
                </a:lnTo>
                <a:lnTo>
                  <a:pt x="384" y="9"/>
                </a:lnTo>
                <a:lnTo>
                  <a:pt x="390" y="12"/>
                </a:lnTo>
                <a:lnTo>
                  <a:pt x="394" y="16"/>
                </a:lnTo>
                <a:lnTo>
                  <a:pt x="397" y="20"/>
                </a:lnTo>
                <a:lnTo>
                  <a:pt x="400" y="25"/>
                </a:lnTo>
                <a:lnTo>
                  <a:pt x="403" y="30"/>
                </a:lnTo>
                <a:lnTo>
                  <a:pt x="406" y="38"/>
                </a:lnTo>
                <a:lnTo>
                  <a:pt x="407" y="45"/>
                </a:lnTo>
                <a:lnTo>
                  <a:pt x="407" y="53"/>
                </a:lnTo>
                <a:lnTo>
                  <a:pt x="409" y="62"/>
                </a:lnTo>
                <a:lnTo>
                  <a:pt x="409" y="72"/>
                </a:lnTo>
                <a:lnTo>
                  <a:pt x="409" y="81"/>
                </a:lnTo>
                <a:lnTo>
                  <a:pt x="407" y="91"/>
                </a:lnTo>
                <a:lnTo>
                  <a:pt x="406" y="100"/>
                </a:lnTo>
                <a:lnTo>
                  <a:pt x="403" y="108"/>
                </a:lnTo>
                <a:lnTo>
                  <a:pt x="399" y="117"/>
                </a:lnTo>
                <a:lnTo>
                  <a:pt x="394" y="124"/>
                </a:lnTo>
                <a:lnTo>
                  <a:pt x="388" y="131"/>
                </a:lnTo>
                <a:lnTo>
                  <a:pt x="383" y="138"/>
                </a:lnTo>
                <a:lnTo>
                  <a:pt x="377" y="146"/>
                </a:lnTo>
                <a:lnTo>
                  <a:pt x="368" y="151"/>
                </a:lnTo>
                <a:lnTo>
                  <a:pt x="361" y="157"/>
                </a:lnTo>
                <a:lnTo>
                  <a:pt x="351" y="161"/>
                </a:lnTo>
                <a:lnTo>
                  <a:pt x="341" y="167"/>
                </a:lnTo>
                <a:lnTo>
                  <a:pt x="331" y="171"/>
                </a:lnTo>
                <a:lnTo>
                  <a:pt x="319" y="176"/>
                </a:lnTo>
                <a:lnTo>
                  <a:pt x="306" y="179"/>
                </a:lnTo>
                <a:lnTo>
                  <a:pt x="291" y="182"/>
                </a:lnTo>
                <a:lnTo>
                  <a:pt x="273" y="186"/>
                </a:lnTo>
                <a:lnTo>
                  <a:pt x="257" y="189"/>
                </a:lnTo>
                <a:lnTo>
                  <a:pt x="239" y="192"/>
                </a:lnTo>
                <a:lnTo>
                  <a:pt x="221" y="196"/>
                </a:lnTo>
                <a:lnTo>
                  <a:pt x="203" y="199"/>
                </a:lnTo>
                <a:lnTo>
                  <a:pt x="184" y="202"/>
                </a:lnTo>
                <a:lnTo>
                  <a:pt x="165" y="203"/>
                </a:lnTo>
                <a:lnTo>
                  <a:pt x="147" y="206"/>
                </a:lnTo>
                <a:lnTo>
                  <a:pt x="126" y="209"/>
                </a:lnTo>
                <a:lnTo>
                  <a:pt x="106" y="210"/>
                </a:lnTo>
                <a:lnTo>
                  <a:pt x="86" y="212"/>
                </a:lnTo>
                <a:lnTo>
                  <a:pt x="65" y="213"/>
                </a:lnTo>
                <a:lnTo>
                  <a:pt x="43" y="213"/>
                </a:lnTo>
                <a:lnTo>
                  <a:pt x="21" y="215"/>
                </a:lnTo>
                <a:lnTo>
                  <a:pt x="0" y="215"/>
                </a:lnTo>
                <a:lnTo>
                  <a:pt x="0" y="134"/>
                </a:lnTo>
                <a:lnTo>
                  <a:pt x="0" y="5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Freeform 49"/>
          <p:cNvSpPr/>
          <p:nvPr/>
        </p:nvSpPr>
        <p:spPr>
          <a:xfrm>
            <a:off x="6219720" y="2833560"/>
            <a:ext cx="703440" cy="1449360"/>
          </a:xfrm>
          <a:custGeom>
            <a:avLst/>
            <a:gdLst/>
            <a:ahLst/>
            <a:rect l="l" t="t" r="r" b="b"/>
            <a:pathLst>
              <a:path w="1329" h="2738">
                <a:moveTo>
                  <a:pt x="974" y="1572"/>
                </a:moveTo>
                <a:lnTo>
                  <a:pt x="956" y="1618"/>
                </a:lnTo>
                <a:lnTo>
                  <a:pt x="937" y="1663"/>
                </a:lnTo>
                <a:lnTo>
                  <a:pt x="917" y="1707"/>
                </a:lnTo>
                <a:lnTo>
                  <a:pt x="898" y="1749"/>
                </a:lnTo>
                <a:lnTo>
                  <a:pt x="878" y="1791"/>
                </a:lnTo>
                <a:lnTo>
                  <a:pt x="859" y="1831"/>
                </a:lnTo>
                <a:lnTo>
                  <a:pt x="839" y="1868"/>
                </a:lnTo>
                <a:lnTo>
                  <a:pt x="819" y="1907"/>
                </a:lnTo>
                <a:lnTo>
                  <a:pt x="799" y="1943"/>
                </a:lnTo>
                <a:lnTo>
                  <a:pt x="779" y="1978"/>
                </a:lnTo>
                <a:lnTo>
                  <a:pt x="757" y="2011"/>
                </a:lnTo>
                <a:lnTo>
                  <a:pt x="737" y="2044"/>
                </a:lnTo>
                <a:lnTo>
                  <a:pt x="715" y="2076"/>
                </a:lnTo>
                <a:lnTo>
                  <a:pt x="694" y="2106"/>
                </a:lnTo>
                <a:lnTo>
                  <a:pt x="672" y="2135"/>
                </a:lnTo>
                <a:lnTo>
                  <a:pt x="651" y="2162"/>
                </a:lnTo>
                <a:lnTo>
                  <a:pt x="629" y="2192"/>
                </a:lnTo>
                <a:lnTo>
                  <a:pt x="606" y="2221"/>
                </a:lnTo>
                <a:lnTo>
                  <a:pt x="583" y="2250"/>
                </a:lnTo>
                <a:lnTo>
                  <a:pt x="561" y="2277"/>
                </a:lnTo>
                <a:lnTo>
                  <a:pt x="538" y="2303"/>
                </a:lnTo>
                <a:lnTo>
                  <a:pt x="515" y="2331"/>
                </a:lnTo>
                <a:lnTo>
                  <a:pt x="491" y="2357"/>
                </a:lnTo>
                <a:lnTo>
                  <a:pt x="468" y="2381"/>
                </a:lnTo>
                <a:lnTo>
                  <a:pt x="443" y="2405"/>
                </a:lnTo>
                <a:lnTo>
                  <a:pt x="417" y="2431"/>
                </a:lnTo>
                <a:lnTo>
                  <a:pt x="393" y="2454"/>
                </a:lnTo>
                <a:lnTo>
                  <a:pt x="367" y="2479"/>
                </a:lnTo>
                <a:lnTo>
                  <a:pt x="341" y="2503"/>
                </a:lnTo>
                <a:lnTo>
                  <a:pt x="314" y="2526"/>
                </a:lnTo>
                <a:lnTo>
                  <a:pt x="286" y="2551"/>
                </a:lnTo>
                <a:lnTo>
                  <a:pt x="258" y="2574"/>
                </a:lnTo>
                <a:lnTo>
                  <a:pt x="243" y="2585"/>
                </a:lnTo>
                <a:lnTo>
                  <a:pt x="230" y="2597"/>
                </a:lnTo>
                <a:lnTo>
                  <a:pt x="217" y="2607"/>
                </a:lnTo>
                <a:lnTo>
                  <a:pt x="204" y="2619"/>
                </a:lnTo>
                <a:lnTo>
                  <a:pt x="191" y="2629"/>
                </a:lnTo>
                <a:lnTo>
                  <a:pt x="178" y="2637"/>
                </a:lnTo>
                <a:lnTo>
                  <a:pt x="167" y="2646"/>
                </a:lnTo>
                <a:lnTo>
                  <a:pt x="155" y="2655"/>
                </a:lnTo>
                <a:lnTo>
                  <a:pt x="145" y="2663"/>
                </a:lnTo>
                <a:lnTo>
                  <a:pt x="134" y="2672"/>
                </a:lnTo>
                <a:lnTo>
                  <a:pt x="124" y="2679"/>
                </a:lnTo>
                <a:lnTo>
                  <a:pt x="115" y="2685"/>
                </a:lnTo>
                <a:lnTo>
                  <a:pt x="105" y="2692"/>
                </a:lnTo>
                <a:lnTo>
                  <a:pt x="96" y="2698"/>
                </a:lnTo>
                <a:lnTo>
                  <a:pt x="88" y="2703"/>
                </a:lnTo>
                <a:lnTo>
                  <a:pt x="79" y="2709"/>
                </a:lnTo>
                <a:lnTo>
                  <a:pt x="72" y="2714"/>
                </a:lnTo>
                <a:lnTo>
                  <a:pt x="63" y="2718"/>
                </a:lnTo>
                <a:lnTo>
                  <a:pt x="57" y="2722"/>
                </a:lnTo>
                <a:lnTo>
                  <a:pt x="50" y="2725"/>
                </a:lnTo>
                <a:lnTo>
                  <a:pt x="44" y="2728"/>
                </a:lnTo>
                <a:lnTo>
                  <a:pt x="39" y="2731"/>
                </a:lnTo>
                <a:lnTo>
                  <a:pt x="33" y="2734"/>
                </a:lnTo>
                <a:lnTo>
                  <a:pt x="27" y="2735"/>
                </a:lnTo>
                <a:lnTo>
                  <a:pt x="23" y="2737"/>
                </a:lnTo>
                <a:lnTo>
                  <a:pt x="19" y="2738"/>
                </a:lnTo>
                <a:lnTo>
                  <a:pt x="14" y="2738"/>
                </a:lnTo>
                <a:lnTo>
                  <a:pt x="11" y="2738"/>
                </a:lnTo>
                <a:lnTo>
                  <a:pt x="8" y="2738"/>
                </a:lnTo>
                <a:lnTo>
                  <a:pt x="6" y="2738"/>
                </a:lnTo>
                <a:lnTo>
                  <a:pt x="4" y="2737"/>
                </a:lnTo>
                <a:lnTo>
                  <a:pt x="3" y="2735"/>
                </a:lnTo>
                <a:lnTo>
                  <a:pt x="1" y="2734"/>
                </a:lnTo>
                <a:lnTo>
                  <a:pt x="0" y="2731"/>
                </a:lnTo>
                <a:lnTo>
                  <a:pt x="0" y="2728"/>
                </a:lnTo>
                <a:lnTo>
                  <a:pt x="0" y="2724"/>
                </a:lnTo>
                <a:lnTo>
                  <a:pt x="1" y="2719"/>
                </a:lnTo>
                <a:lnTo>
                  <a:pt x="4" y="2714"/>
                </a:lnTo>
                <a:lnTo>
                  <a:pt x="6" y="2708"/>
                </a:lnTo>
                <a:lnTo>
                  <a:pt x="8" y="2702"/>
                </a:lnTo>
                <a:lnTo>
                  <a:pt x="13" y="2695"/>
                </a:lnTo>
                <a:lnTo>
                  <a:pt x="17" y="2688"/>
                </a:lnTo>
                <a:lnTo>
                  <a:pt x="23" y="2679"/>
                </a:lnTo>
                <a:lnTo>
                  <a:pt x="29" y="2670"/>
                </a:lnTo>
                <a:lnTo>
                  <a:pt x="34" y="2660"/>
                </a:lnTo>
                <a:lnTo>
                  <a:pt x="42" y="2650"/>
                </a:lnTo>
                <a:lnTo>
                  <a:pt x="50" y="2640"/>
                </a:lnTo>
                <a:lnTo>
                  <a:pt x="59" y="2629"/>
                </a:lnTo>
                <a:lnTo>
                  <a:pt x="68" y="2617"/>
                </a:lnTo>
                <a:lnTo>
                  <a:pt x="78" y="2604"/>
                </a:lnTo>
                <a:lnTo>
                  <a:pt x="88" y="2591"/>
                </a:lnTo>
                <a:lnTo>
                  <a:pt x="99" y="2577"/>
                </a:lnTo>
                <a:lnTo>
                  <a:pt x="111" y="2562"/>
                </a:lnTo>
                <a:lnTo>
                  <a:pt x="124" y="2547"/>
                </a:lnTo>
                <a:lnTo>
                  <a:pt x="138" y="2531"/>
                </a:lnTo>
                <a:lnTo>
                  <a:pt x="152" y="2515"/>
                </a:lnTo>
                <a:lnTo>
                  <a:pt x="167" y="2498"/>
                </a:lnTo>
                <a:lnTo>
                  <a:pt x="183" y="2479"/>
                </a:lnTo>
                <a:lnTo>
                  <a:pt x="199" y="2460"/>
                </a:lnTo>
                <a:lnTo>
                  <a:pt x="216" y="2441"/>
                </a:lnTo>
                <a:lnTo>
                  <a:pt x="234" y="2421"/>
                </a:lnTo>
                <a:lnTo>
                  <a:pt x="252" y="2401"/>
                </a:lnTo>
                <a:lnTo>
                  <a:pt x="272" y="2381"/>
                </a:lnTo>
                <a:lnTo>
                  <a:pt x="292" y="2359"/>
                </a:lnTo>
                <a:lnTo>
                  <a:pt x="330" y="2315"/>
                </a:lnTo>
                <a:lnTo>
                  <a:pt x="367" y="2269"/>
                </a:lnTo>
                <a:lnTo>
                  <a:pt x="403" y="2221"/>
                </a:lnTo>
                <a:lnTo>
                  <a:pt x="439" y="2174"/>
                </a:lnTo>
                <a:lnTo>
                  <a:pt x="473" y="2123"/>
                </a:lnTo>
                <a:lnTo>
                  <a:pt x="508" y="2073"/>
                </a:lnTo>
                <a:lnTo>
                  <a:pt x="541" y="2021"/>
                </a:lnTo>
                <a:lnTo>
                  <a:pt x="557" y="1994"/>
                </a:lnTo>
                <a:lnTo>
                  <a:pt x="574" y="1966"/>
                </a:lnTo>
                <a:lnTo>
                  <a:pt x="590" y="1939"/>
                </a:lnTo>
                <a:lnTo>
                  <a:pt x="606" y="1912"/>
                </a:lnTo>
                <a:lnTo>
                  <a:pt x="622" y="1883"/>
                </a:lnTo>
                <a:lnTo>
                  <a:pt x="636" y="1856"/>
                </a:lnTo>
                <a:lnTo>
                  <a:pt x="652" y="1825"/>
                </a:lnTo>
                <a:lnTo>
                  <a:pt x="666" y="1797"/>
                </a:lnTo>
                <a:lnTo>
                  <a:pt x="681" y="1766"/>
                </a:lnTo>
                <a:lnTo>
                  <a:pt x="695" y="1737"/>
                </a:lnTo>
                <a:lnTo>
                  <a:pt x="710" y="1706"/>
                </a:lnTo>
                <a:lnTo>
                  <a:pt x="724" y="1676"/>
                </a:lnTo>
                <a:lnTo>
                  <a:pt x="738" y="1644"/>
                </a:lnTo>
                <a:lnTo>
                  <a:pt x="751" y="1612"/>
                </a:lnTo>
                <a:lnTo>
                  <a:pt x="766" y="1581"/>
                </a:lnTo>
                <a:lnTo>
                  <a:pt x="779" y="1547"/>
                </a:lnTo>
                <a:lnTo>
                  <a:pt x="792" y="1514"/>
                </a:lnTo>
                <a:lnTo>
                  <a:pt x="805" y="1481"/>
                </a:lnTo>
                <a:lnTo>
                  <a:pt x="826" y="1418"/>
                </a:lnTo>
                <a:lnTo>
                  <a:pt x="846" y="1355"/>
                </a:lnTo>
                <a:lnTo>
                  <a:pt x="866" y="1293"/>
                </a:lnTo>
                <a:lnTo>
                  <a:pt x="887" y="1229"/>
                </a:lnTo>
                <a:lnTo>
                  <a:pt x="904" y="1169"/>
                </a:lnTo>
                <a:lnTo>
                  <a:pt x="923" y="1108"/>
                </a:lnTo>
                <a:lnTo>
                  <a:pt x="938" y="1048"/>
                </a:lnTo>
                <a:lnTo>
                  <a:pt x="954" y="989"/>
                </a:lnTo>
                <a:lnTo>
                  <a:pt x="970" y="931"/>
                </a:lnTo>
                <a:lnTo>
                  <a:pt x="983" y="874"/>
                </a:lnTo>
                <a:lnTo>
                  <a:pt x="996" y="816"/>
                </a:lnTo>
                <a:lnTo>
                  <a:pt x="1008" y="761"/>
                </a:lnTo>
                <a:lnTo>
                  <a:pt x="1018" y="707"/>
                </a:lnTo>
                <a:lnTo>
                  <a:pt x="1028" y="653"/>
                </a:lnTo>
                <a:lnTo>
                  <a:pt x="1036" y="602"/>
                </a:lnTo>
                <a:lnTo>
                  <a:pt x="1044" y="551"/>
                </a:lnTo>
                <a:lnTo>
                  <a:pt x="1045" y="525"/>
                </a:lnTo>
                <a:lnTo>
                  <a:pt x="1046" y="501"/>
                </a:lnTo>
                <a:lnTo>
                  <a:pt x="1046" y="478"/>
                </a:lnTo>
                <a:lnTo>
                  <a:pt x="1048" y="455"/>
                </a:lnTo>
                <a:lnTo>
                  <a:pt x="1049" y="432"/>
                </a:lnTo>
                <a:lnTo>
                  <a:pt x="1051" y="410"/>
                </a:lnTo>
                <a:lnTo>
                  <a:pt x="1051" y="390"/>
                </a:lnTo>
                <a:lnTo>
                  <a:pt x="1052" y="370"/>
                </a:lnTo>
                <a:lnTo>
                  <a:pt x="1052" y="350"/>
                </a:lnTo>
                <a:lnTo>
                  <a:pt x="1054" y="331"/>
                </a:lnTo>
                <a:lnTo>
                  <a:pt x="1054" y="312"/>
                </a:lnTo>
                <a:lnTo>
                  <a:pt x="1054" y="295"/>
                </a:lnTo>
                <a:lnTo>
                  <a:pt x="1054" y="278"/>
                </a:lnTo>
                <a:lnTo>
                  <a:pt x="1054" y="260"/>
                </a:lnTo>
                <a:lnTo>
                  <a:pt x="1054" y="245"/>
                </a:lnTo>
                <a:lnTo>
                  <a:pt x="1054" y="230"/>
                </a:lnTo>
                <a:lnTo>
                  <a:pt x="1052" y="216"/>
                </a:lnTo>
                <a:lnTo>
                  <a:pt x="1052" y="203"/>
                </a:lnTo>
                <a:lnTo>
                  <a:pt x="1051" y="190"/>
                </a:lnTo>
                <a:lnTo>
                  <a:pt x="1051" y="177"/>
                </a:lnTo>
                <a:lnTo>
                  <a:pt x="1049" y="165"/>
                </a:lnTo>
                <a:lnTo>
                  <a:pt x="1048" y="154"/>
                </a:lnTo>
                <a:lnTo>
                  <a:pt x="1046" y="144"/>
                </a:lnTo>
                <a:lnTo>
                  <a:pt x="1045" y="135"/>
                </a:lnTo>
                <a:lnTo>
                  <a:pt x="1044" y="127"/>
                </a:lnTo>
                <a:lnTo>
                  <a:pt x="1041" y="118"/>
                </a:lnTo>
                <a:lnTo>
                  <a:pt x="1039" y="111"/>
                </a:lnTo>
                <a:lnTo>
                  <a:pt x="1036" y="103"/>
                </a:lnTo>
                <a:lnTo>
                  <a:pt x="1035" y="98"/>
                </a:lnTo>
                <a:lnTo>
                  <a:pt x="1032" y="93"/>
                </a:lnTo>
                <a:lnTo>
                  <a:pt x="1029" y="89"/>
                </a:lnTo>
                <a:lnTo>
                  <a:pt x="1026" y="85"/>
                </a:lnTo>
                <a:lnTo>
                  <a:pt x="1016" y="82"/>
                </a:lnTo>
                <a:lnTo>
                  <a:pt x="1009" y="78"/>
                </a:lnTo>
                <a:lnTo>
                  <a:pt x="1002" y="73"/>
                </a:lnTo>
                <a:lnTo>
                  <a:pt x="996" y="69"/>
                </a:lnTo>
                <a:lnTo>
                  <a:pt x="992" y="63"/>
                </a:lnTo>
                <a:lnTo>
                  <a:pt x="987" y="59"/>
                </a:lnTo>
                <a:lnTo>
                  <a:pt x="985" y="55"/>
                </a:lnTo>
                <a:lnTo>
                  <a:pt x="983" y="49"/>
                </a:lnTo>
                <a:lnTo>
                  <a:pt x="982" y="44"/>
                </a:lnTo>
                <a:lnTo>
                  <a:pt x="982" y="39"/>
                </a:lnTo>
                <a:lnTo>
                  <a:pt x="982" y="34"/>
                </a:lnTo>
                <a:lnTo>
                  <a:pt x="983" y="29"/>
                </a:lnTo>
                <a:lnTo>
                  <a:pt x="985" y="24"/>
                </a:lnTo>
                <a:lnTo>
                  <a:pt x="986" y="20"/>
                </a:lnTo>
                <a:lnTo>
                  <a:pt x="989" y="17"/>
                </a:lnTo>
                <a:lnTo>
                  <a:pt x="992" y="13"/>
                </a:lnTo>
                <a:lnTo>
                  <a:pt x="996" y="10"/>
                </a:lnTo>
                <a:lnTo>
                  <a:pt x="1000" y="7"/>
                </a:lnTo>
                <a:lnTo>
                  <a:pt x="1006" y="4"/>
                </a:lnTo>
                <a:lnTo>
                  <a:pt x="1013" y="3"/>
                </a:lnTo>
                <a:lnTo>
                  <a:pt x="1022" y="1"/>
                </a:lnTo>
                <a:lnTo>
                  <a:pt x="1031" y="0"/>
                </a:lnTo>
                <a:lnTo>
                  <a:pt x="1041" y="0"/>
                </a:lnTo>
                <a:lnTo>
                  <a:pt x="1051" y="0"/>
                </a:lnTo>
                <a:lnTo>
                  <a:pt x="1062" y="0"/>
                </a:lnTo>
                <a:lnTo>
                  <a:pt x="1075" y="0"/>
                </a:lnTo>
                <a:lnTo>
                  <a:pt x="1088" y="1"/>
                </a:lnTo>
                <a:lnTo>
                  <a:pt x="1103" y="3"/>
                </a:lnTo>
                <a:lnTo>
                  <a:pt x="1116" y="4"/>
                </a:lnTo>
                <a:lnTo>
                  <a:pt x="1131" y="7"/>
                </a:lnTo>
                <a:lnTo>
                  <a:pt x="1147" y="10"/>
                </a:lnTo>
                <a:lnTo>
                  <a:pt x="1163" y="13"/>
                </a:lnTo>
                <a:lnTo>
                  <a:pt x="1177" y="17"/>
                </a:lnTo>
                <a:lnTo>
                  <a:pt x="1193" y="20"/>
                </a:lnTo>
                <a:lnTo>
                  <a:pt x="1206" y="24"/>
                </a:lnTo>
                <a:lnTo>
                  <a:pt x="1219" y="30"/>
                </a:lnTo>
                <a:lnTo>
                  <a:pt x="1232" y="34"/>
                </a:lnTo>
                <a:lnTo>
                  <a:pt x="1244" y="39"/>
                </a:lnTo>
                <a:lnTo>
                  <a:pt x="1255" y="44"/>
                </a:lnTo>
                <a:lnTo>
                  <a:pt x="1265" y="49"/>
                </a:lnTo>
                <a:lnTo>
                  <a:pt x="1274" y="55"/>
                </a:lnTo>
                <a:lnTo>
                  <a:pt x="1283" y="59"/>
                </a:lnTo>
                <a:lnTo>
                  <a:pt x="1290" y="65"/>
                </a:lnTo>
                <a:lnTo>
                  <a:pt x="1297" y="69"/>
                </a:lnTo>
                <a:lnTo>
                  <a:pt x="1303" y="73"/>
                </a:lnTo>
                <a:lnTo>
                  <a:pt x="1308" y="78"/>
                </a:lnTo>
                <a:lnTo>
                  <a:pt x="1313" y="82"/>
                </a:lnTo>
                <a:lnTo>
                  <a:pt x="1316" y="85"/>
                </a:lnTo>
                <a:lnTo>
                  <a:pt x="1319" y="92"/>
                </a:lnTo>
                <a:lnTo>
                  <a:pt x="1321" y="101"/>
                </a:lnTo>
                <a:lnTo>
                  <a:pt x="1323" y="111"/>
                </a:lnTo>
                <a:lnTo>
                  <a:pt x="1324" y="122"/>
                </a:lnTo>
                <a:lnTo>
                  <a:pt x="1326" y="134"/>
                </a:lnTo>
                <a:lnTo>
                  <a:pt x="1327" y="148"/>
                </a:lnTo>
                <a:lnTo>
                  <a:pt x="1329" y="163"/>
                </a:lnTo>
                <a:lnTo>
                  <a:pt x="1329" y="178"/>
                </a:lnTo>
                <a:lnTo>
                  <a:pt x="1329" y="196"/>
                </a:lnTo>
                <a:lnTo>
                  <a:pt x="1327" y="214"/>
                </a:lnTo>
                <a:lnTo>
                  <a:pt x="1326" y="234"/>
                </a:lnTo>
                <a:lnTo>
                  <a:pt x="1324" y="256"/>
                </a:lnTo>
                <a:lnTo>
                  <a:pt x="1323" y="279"/>
                </a:lnTo>
                <a:lnTo>
                  <a:pt x="1321" y="302"/>
                </a:lnTo>
                <a:lnTo>
                  <a:pt x="1319" y="327"/>
                </a:lnTo>
                <a:lnTo>
                  <a:pt x="1316" y="354"/>
                </a:lnTo>
                <a:lnTo>
                  <a:pt x="1313" y="380"/>
                </a:lnTo>
                <a:lnTo>
                  <a:pt x="1308" y="409"/>
                </a:lnTo>
                <a:lnTo>
                  <a:pt x="1304" y="437"/>
                </a:lnTo>
                <a:lnTo>
                  <a:pt x="1300" y="468"/>
                </a:lnTo>
                <a:lnTo>
                  <a:pt x="1295" y="498"/>
                </a:lnTo>
                <a:lnTo>
                  <a:pt x="1290" y="528"/>
                </a:lnTo>
                <a:lnTo>
                  <a:pt x="1284" y="560"/>
                </a:lnTo>
                <a:lnTo>
                  <a:pt x="1277" y="593"/>
                </a:lnTo>
                <a:lnTo>
                  <a:pt x="1271" y="626"/>
                </a:lnTo>
                <a:lnTo>
                  <a:pt x="1264" y="659"/>
                </a:lnTo>
                <a:lnTo>
                  <a:pt x="1257" y="694"/>
                </a:lnTo>
                <a:lnTo>
                  <a:pt x="1248" y="728"/>
                </a:lnTo>
                <a:lnTo>
                  <a:pt x="1241" y="764"/>
                </a:lnTo>
                <a:lnTo>
                  <a:pt x="1232" y="800"/>
                </a:lnTo>
                <a:lnTo>
                  <a:pt x="1222" y="836"/>
                </a:lnTo>
                <a:lnTo>
                  <a:pt x="1213" y="874"/>
                </a:lnTo>
                <a:lnTo>
                  <a:pt x="1203" y="914"/>
                </a:lnTo>
                <a:lnTo>
                  <a:pt x="1193" y="954"/>
                </a:lnTo>
                <a:lnTo>
                  <a:pt x="1183" y="996"/>
                </a:lnTo>
                <a:lnTo>
                  <a:pt x="1172" y="1038"/>
                </a:lnTo>
                <a:lnTo>
                  <a:pt x="1159" y="1080"/>
                </a:lnTo>
                <a:lnTo>
                  <a:pt x="1147" y="1121"/>
                </a:lnTo>
                <a:lnTo>
                  <a:pt x="1133" y="1165"/>
                </a:lnTo>
                <a:lnTo>
                  <a:pt x="1118" y="1208"/>
                </a:lnTo>
                <a:lnTo>
                  <a:pt x="1104" y="1252"/>
                </a:lnTo>
                <a:lnTo>
                  <a:pt x="1088" y="1296"/>
                </a:lnTo>
                <a:lnTo>
                  <a:pt x="1072" y="1340"/>
                </a:lnTo>
                <a:lnTo>
                  <a:pt x="1054" y="1386"/>
                </a:lnTo>
                <a:lnTo>
                  <a:pt x="1036" y="1432"/>
                </a:lnTo>
                <a:lnTo>
                  <a:pt x="1016" y="1478"/>
                </a:lnTo>
                <a:lnTo>
                  <a:pt x="996" y="1524"/>
                </a:lnTo>
                <a:lnTo>
                  <a:pt x="974" y="157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Freeform 50"/>
          <p:cNvSpPr/>
          <p:nvPr/>
        </p:nvSpPr>
        <p:spPr>
          <a:xfrm>
            <a:off x="6461280" y="3100320"/>
            <a:ext cx="185760" cy="214560"/>
          </a:xfrm>
          <a:custGeom>
            <a:avLst/>
            <a:gdLst/>
            <a:ahLst/>
            <a:rect l="l" t="t" r="r" b="b"/>
            <a:pathLst>
              <a:path w="349" h="404">
                <a:moveTo>
                  <a:pt x="212" y="47"/>
                </a:moveTo>
                <a:lnTo>
                  <a:pt x="226" y="57"/>
                </a:lnTo>
                <a:lnTo>
                  <a:pt x="242" y="67"/>
                </a:lnTo>
                <a:lnTo>
                  <a:pt x="255" y="79"/>
                </a:lnTo>
                <a:lnTo>
                  <a:pt x="268" y="90"/>
                </a:lnTo>
                <a:lnTo>
                  <a:pt x="281" y="102"/>
                </a:lnTo>
                <a:lnTo>
                  <a:pt x="292" y="115"/>
                </a:lnTo>
                <a:lnTo>
                  <a:pt x="303" y="128"/>
                </a:lnTo>
                <a:lnTo>
                  <a:pt x="311" y="141"/>
                </a:lnTo>
                <a:lnTo>
                  <a:pt x="320" y="154"/>
                </a:lnTo>
                <a:lnTo>
                  <a:pt x="327" y="168"/>
                </a:lnTo>
                <a:lnTo>
                  <a:pt x="333" y="183"/>
                </a:lnTo>
                <a:lnTo>
                  <a:pt x="339" y="197"/>
                </a:lnTo>
                <a:lnTo>
                  <a:pt x="343" y="213"/>
                </a:lnTo>
                <a:lnTo>
                  <a:pt x="346" y="229"/>
                </a:lnTo>
                <a:lnTo>
                  <a:pt x="347" y="244"/>
                </a:lnTo>
                <a:lnTo>
                  <a:pt x="349" y="262"/>
                </a:lnTo>
                <a:lnTo>
                  <a:pt x="344" y="278"/>
                </a:lnTo>
                <a:lnTo>
                  <a:pt x="341" y="293"/>
                </a:lnTo>
                <a:lnTo>
                  <a:pt x="339" y="308"/>
                </a:lnTo>
                <a:lnTo>
                  <a:pt x="336" y="321"/>
                </a:lnTo>
                <a:lnTo>
                  <a:pt x="331" y="334"/>
                </a:lnTo>
                <a:lnTo>
                  <a:pt x="328" y="345"/>
                </a:lnTo>
                <a:lnTo>
                  <a:pt x="324" y="357"/>
                </a:lnTo>
                <a:lnTo>
                  <a:pt x="320" y="367"/>
                </a:lnTo>
                <a:lnTo>
                  <a:pt x="317" y="375"/>
                </a:lnTo>
                <a:lnTo>
                  <a:pt x="313" y="383"/>
                </a:lnTo>
                <a:lnTo>
                  <a:pt x="307" y="390"/>
                </a:lnTo>
                <a:lnTo>
                  <a:pt x="303" y="394"/>
                </a:lnTo>
                <a:lnTo>
                  <a:pt x="297" y="398"/>
                </a:lnTo>
                <a:lnTo>
                  <a:pt x="291" y="401"/>
                </a:lnTo>
                <a:lnTo>
                  <a:pt x="285" y="404"/>
                </a:lnTo>
                <a:lnTo>
                  <a:pt x="279" y="404"/>
                </a:lnTo>
                <a:lnTo>
                  <a:pt x="272" y="404"/>
                </a:lnTo>
                <a:lnTo>
                  <a:pt x="265" y="401"/>
                </a:lnTo>
                <a:lnTo>
                  <a:pt x="256" y="398"/>
                </a:lnTo>
                <a:lnTo>
                  <a:pt x="248" y="394"/>
                </a:lnTo>
                <a:lnTo>
                  <a:pt x="238" y="388"/>
                </a:lnTo>
                <a:lnTo>
                  <a:pt x="228" y="381"/>
                </a:lnTo>
                <a:lnTo>
                  <a:pt x="222" y="377"/>
                </a:lnTo>
                <a:lnTo>
                  <a:pt x="216" y="373"/>
                </a:lnTo>
                <a:lnTo>
                  <a:pt x="210" y="367"/>
                </a:lnTo>
                <a:lnTo>
                  <a:pt x="205" y="363"/>
                </a:lnTo>
                <a:lnTo>
                  <a:pt x="199" y="357"/>
                </a:lnTo>
                <a:lnTo>
                  <a:pt x="192" y="351"/>
                </a:lnTo>
                <a:lnTo>
                  <a:pt x="186" y="344"/>
                </a:lnTo>
                <a:lnTo>
                  <a:pt x="179" y="338"/>
                </a:lnTo>
                <a:lnTo>
                  <a:pt x="173" y="331"/>
                </a:lnTo>
                <a:lnTo>
                  <a:pt x="166" y="324"/>
                </a:lnTo>
                <a:lnTo>
                  <a:pt x="159" y="315"/>
                </a:lnTo>
                <a:lnTo>
                  <a:pt x="151" y="306"/>
                </a:lnTo>
                <a:lnTo>
                  <a:pt x="144" y="298"/>
                </a:lnTo>
                <a:lnTo>
                  <a:pt x="137" y="289"/>
                </a:lnTo>
                <a:lnTo>
                  <a:pt x="130" y="279"/>
                </a:lnTo>
                <a:lnTo>
                  <a:pt x="123" y="269"/>
                </a:lnTo>
                <a:lnTo>
                  <a:pt x="115" y="259"/>
                </a:lnTo>
                <a:lnTo>
                  <a:pt x="107" y="249"/>
                </a:lnTo>
                <a:lnTo>
                  <a:pt x="100" y="237"/>
                </a:lnTo>
                <a:lnTo>
                  <a:pt x="92" y="226"/>
                </a:lnTo>
                <a:lnTo>
                  <a:pt x="76" y="203"/>
                </a:lnTo>
                <a:lnTo>
                  <a:pt x="62" y="181"/>
                </a:lnTo>
                <a:lnTo>
                  <a:pt x="51" y="161"/>
                </a:lnTo>
                <a:lnTo>
                  <a:pt x="39" y="141"/>
                </a:lnTo>
                <a:lnTo>
                  <a:pt x="29" y="124"/>
                </a:lnTo>
                <a:lnTo>
                  <a:pt x="25" y="115"/>
                </a:lnTo>
                <a:lnTo>
                  <a:pt x="20" y="106"/>
                </a:lnTo>
                <a:lnTo>
                  <a:pt x="16" y="99"/>
                </a:lnTo>
                <a:lnTo>
                  <a:pt x="13" y="92"/>
                </a:lnTo>
                <a:lnTo>
                  <a:pt x="10" y="85"/>
                </a:lnTo>
                <a:lnTo>
                  <a:pt x="7" y="77"/>
                </a:lnTo>
                <a:lnTo>
                  <a:pt x="5" y="70"/>
                </a:lnTo>
                <a:lnTo>
                  <a:pt x="3" y="64"/>
                </a:lnTo>
                <a:lnTo>
                  <a:pt x="2" y="59"/>
                </a:lnTo>
                <a:lnTo>
                  <a:pt x="0" y="53"/>
                </a:lnTo>
                <a:lnTo>
                  <a:pt x="0" y="47"/>
                </a:lnTo>
                <a:lnTo>
                  <a:pt x="0" y="43"/>
                </a:lnTo>
                <a:lnTo>
                  <a:pt x="0" y="39"/>
                </a:lnTo>
                <a:lnTo>
                  <a:pt x="2" y="34"/>
                </a:lnTo>
                <a:lnTo>
                  <a:pt x="3" y="30"/>
                </a:lnTo>
                <a:lnTo>
                  <a:pt x="5" y="26"/>
                </a:lnTo>
                <a:lnTo>
                  <a:pt x="6" y="23"/>
                </a:lnTo>
                <a:lnTo>
                  <a:pt x="9" y="20"/>
                </a:lnTo>
                <a:lnTo>
                  <a:pt x="12" y="17"/>
                </a:lnTo>
                <a:lnTo>
                  <a:pt x="16" y="14"/>
                </a:lnTo>
                <a:lnTo>
                  <a:pt x="19" y="13"/>
                </a:lnTo>
                <a:lnTo>
                  <a:pt x="25" y="11"/>
                </a:lnTo>
                <a:lnTo>
                  <a:pt x="33" y="7"/>
                </a:lnTo>
                <a:lnTo>
                  <a:pt x="43" y="4"/>
                </a:lnTo>
                <a:lnTo>
                  <a:pt x="53" y="3"/>
                </a:lnTo>
                <a:lnTo>
                  <a:pt x="64" y="1"/>
                </a:lnTo>
                <a:lnTo>
                  <a:pt x="74" y="0"/>
                </a:lnTo>
                <a:lnTo>
                  <a:pt x="84" y="0"/>
                </a:lnTo>
                <a:lnTo>
                  <a:pt x="94" y="0"/>
                </a:lnTo>
                <a:lnTo>
                  <a:pt x="105" y="1"/>
                </a:lnTo>
                <a:lnTo>
                  <a:pt x="117" y="4"/>
                </a:lnTo>
                <a:lnTo>
                  <a:pt x="128" y="7"/>
                </a:lnTo>
                <a:lnTo>
                  <a:pt x="141" y="10"/>
                </a:lnTo>
                <a:lnTo>
                  <a:pt x="154" y="16"/>
                </a:lnTo>
                <a:lnTo>
                  <a:pt x="167" y="21"/>
                </a:lnTo>
                <a:lnTo>
                  <a:pt x="182" y="29"/>
                </a:lnTo>
                <a:lnTo>
                  <a:pt x="196" y="37"/>
                </a:lnTo>
                <a:lnTo>
                  <a:pt x="212" y="4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Freeform 51"/>
          <p:cNvSpPr/>
          <p:nvPr/>
        </p:nvSpPr>
        <p:spPr>
          <a:xfrm>
            <a:off x="6986520" y="2955960"/>
            <a:ext cx="319320" cy="297000"/>
          </a:xfrm>
          <a:custGeom>
            <a:avLst/>
            <a:gdLst/>
            <a:ahLst/>
            <a:rect l="l" t="t" r="r" b="b"/>
            <a:pathLst>
              <a:path w="603" h="561">
                <a:moveTo>
                  <a:pt x="312" y="70"/>
                </a:moveTo>
                <a:lnTo>
                  <a:pt x="312" y="60"/>
                </a:lnTo>
                <a:lnTo>
                  <a:pt x="313" y="52"/>
                </a:lnTo>
                <a:lnTo>
                  <a:pt x="313" y="44"/>
                </a:lnTo>
                <a:lnTo>
                  <a:pt x="315" y="37"/>
                </a:lnTo>
                <a:lnTo>
                  <a:pt x="318" y="30"/>
                </a:lnTo>
                <a:lnTo>
                  <a:pt x="319" y="24"/>
                </a:lnTo>
                <a:lnTo>
                  <a:pt x="322" y="20"/>
                </a:lnTo>
                <a:lnTo>
                  <a:pt x="325" y="14"/>
                </a:lnTo>
                <a:lnTo>
                  <a:pt x="328" y="11"/>
                </a:lnTo>
                <a:lnTo>
                  <a:pt x="332" y="7"/>
                </a:lnTo>
                <a:lnTo>
                  <a:pt x="337" y="5"/>
                </a:lnTo>
                <a:lnTo>
                  <a:pt x="341" y="3"/>
                </a:lnTo>
                <a:lnTo>
                  <a:pt x="347" y="1"/>
                </a:lnTo>
                <a:lnTo>
                  <a:pt x="352" y="0"/>
                </a:lnTo>
                <a:lnTo>
                  <a:pt x="358" y="0"/>
                </a:lnTo>
                <a:lnTo>
                  <a:pt x="364" y="0"/>
                </a:lnTo>
                <a:lnTo>
                  <a:pt x="371" y="0"/>
                </a:lnTo>
                <a:lnTo>
                  <a:pt x="377" y="0"/>
                </a:lnTo>
                <a:lnTo>
                  <a:pt x="385" y="1"/>
                </a:lnTo>
                <a:lnTo>
                  <a:pt x="393" y="3"/>
                </a:lnTo>
                <a:lnTo>
                  <a:pt x="401" y="4"/>
                </a:lnTo>
                <a:lnTo>
                  <a:pt x="410" y="7"/>
                </a:lnTo>
                <a:lnTo>
                  <a:pt x="419" y="8"/>
                </a:lnTo>
                <a:lnTo>
                  <a:pt x="427" y="13"/>
                </a:lnTo>
                <a:lnTo>
                  <a:pt x="437" y="16"/>
                </a:lnTo>
                <a:lnTo>
                  <a:pt x="447" y="20"/>
                </a:lnTo>
                <a:lnTo>
                  <a:pt x="459" y="24"/>
                </a:lnTo>
                <a:lnTo>
                  <a:pt x="469" y="29"/>
                </a:lnTo>
                <a:lnTo>
                  <a:pt x="480" y="34"/>
                </a:lnTo>
                <a:lnTo>
                  <a:pt x="492" y="40"/>
                </a:lnTo>
                <a:lnTo>
                  <a:pt x="505" y="46"/>
                </a:lnTo>
                <a:lnTo>
                  <a:pt x="518" y="53"/>
                </a:lnTo>
                <a:lnTo>
                  <a:pt x="527" y="62"/>
                </a:lnTo>
                <a:lnTo>
                  <a:pt x="535" y="72"/>
                </a:lnTo>
                <a:lnTo>
                  <a:pt x="544" y="82"/>
                </a:lnTo>
                <a:lnTo>
                  <a:pt x="552" y="90"/>
                </a:lnTo>
                <a:lnTo>
                  <a:pt x="560" y="99"/>
                </a:lnTo>
                <a:lnTo>
                  <a:pt x="567" y="106"/>
                </a:lnTo>
                <a:lnTo>
                  <a:pt x="573" y="115"/>
                </a:lnTo>
                <a:lnTo>
                  <a:pt x="578" y="122"/>
                </a:lnTo>
                <a:lnTo>
                  <a:pt x="584" y="129"/>
                </a:lnTo>
                <a:lnTo>
                  <a:pt x="588" y="137"/>
                </a:lnTo>
                <a:lnTo>
                  <a:pt x="593" y="144"/>
                </a:lnTo>
                <a:lnTo>
                  <a:pt x="596" y="151"/>
                </a:lnTo>
                <a:lnTo>
                  <a:pt x="599" y="158"/>
                </a:lnTo>
                <a:lnTo>
                  <a:pt x="600" y="165"/>
                </a:lnTo>
                <a:lnTo>
                  <a:pt x="601" y="171"/>
                </a:lnTo>
                <a:lnTo>
                  <a:pt x="603" y="178"/>
                </a:lnTo>
                <a:lnTo>
                  <a:pt x="601" y="188"/>
                </a:lnTo>
                <a:lnTo>
                  <a:pt x="600" y="198"/>
                </a:lnTo>
                <a:lnTo>
                  <a:pt x="597" y="208"/>
                </a:lnTo>
                <a:lnTo>
                  <a:pt x="593" y="219"/>
                </a:lnTo>
                <a:lnTo>
                  <a:pt x="587" y="229"/>
                </a:lnTo>
                <a:lnTo>
                  <a:pt x="581" y="239"/>
                </a:lnTo>
                <a:lnTo>
                  <a:pt x="574" y="249"/>
                </a:lnTo>
                <a:lnTo>
                  <a:pt x="565" y="259"/>
                </a:lnTo>
                <a:lnTo>
                  <a:pt x="557" y="269"/>
                </a:lnTo>
                <a:lnTo>
                  <a:pt x="547" y="279"/>
                </a:lnTo>
                <a:lnTo>
                  <a:pt x="535" y="289"/>
                </a:lnTo>
                <a:lnTo>
                  <a:pt x="524" y="299"/>
                </a:lnTo>
                <a:lnTo>
                  <a:pt x="511" y="309"/>
                </a:lnTo>
                <a:lnTo>
                  <a:pt x="496" y="319"/>
                </a:lnTo>
                <a:lnTo>
                  <a:pt x="482" y="329"/>
                </a:lnTo>
                <a:lnTo>
                  <a:pt x="466" y="339"/>
                </a:lnTo>
                <a:lnTo>
                  <a:pt x="450" y="350"/>
                </a:lnTo>
                <a:lnTo>
                  <a:pt x="433" y="360"/>
                </a:lnTo>
                <a:lnTo>
                  <a:pt x="400" y="380"/>
                </a:lnTo>
                <a:lnTo>
                  <a:pt x="365" y="400"/>
                </a:lnTo>
                <a:lnTo>
                  <a:pt x="329" y="420"/>
                </a:lnTo>
                <a:lnTo>
                  <a:pt x="295" y="440"/>
                </a:lnTo>
                <a:lnTo>
                  <a:pt x="260" y="460"/>
                </a:lnTo>
                <a:lnTo>
                  <a:pt x="226" y="481"/>
                </a:lnTo>
                <a:lnTo>
                  <a:pt x="210" y="491"/>
                </a:lnTo>
                <a:lnTo>
                  <a:pt x="194" y="501"/>
                </a:lnTo>
                <a:lnTo>
                  <a:pt x="174" y="511"/>
                </a:lnTo>
                <a:lnTo>
                  <a:pt x="157" y="519"/>
                </a:lnTo>
                <a:lnTo>
                  <a:pt x="139" y="527"/>
                </a:lnTo>
                <a:lnTo>
                  <a:pt x="123" y="534"/>
                </a:lnTo>
                <a:lnTo>
                  <a:pt x="108" y="541"/>
                </a:lnTo>
                <a:lnTo>
                  <a:pt x="93" y="547"/>
                </a:lnTo>
                <a:lnTo>
                  <a:pt x="80" y="551"/>
                </a:lnTo>
                <a:lnTo>
                  <a:pt x="67" y="554"/>
                </a:lnTo>
                <a:lnTo>
                  <a:pt x="56" y="557"/>
                </a:lnTo>
                <a:lnTo>
                  <a:pt x="46" y="560"/>
                </a:lnTo>
                <a:lnTo>
                  <a:pt x="36" y="561"/>
                </a:lnTo>
                <a:lnTo>
                  <a:pt x="27" y="561"/>
                </a:lnTo>
                <a:lnTo>
                  <a:pt x="20" y="560"/>
                </a:lnTo>
                <a:lnTo>
                  <a:pt x="14" y="560"/>
                </a:lnTo>
                <a:lnTo>
                  <a:pt x="10" y="557"/>
                </a:lnTo>
                <a:lnTo>
                  <a:pt x="5" y="554"/>
                </a:lnTo>
                <a:lnTo>
                  <a:pt x="3" y="551"/>
                </a:lnTo>
                <a:lnTo>
                  <a:pt x="1" y="547"/>
                </a:lnTo>
                <a:lnTo>
                  <a:pt x="0" y="542"/>
                </a:lnTo>
                <a:lnTo>
                  <a:pt x="0" y="537"/>
                </a:lnTo>
                <a:lnTo>
                  <a:pt x="1" y="531"/>
                </a:lnTo>
                <a:lnTo>
                  <a:pt x="3" y="525"/>
                </a:lnTo>
                <a:lnTo>
                  <a:pt x="5" y="519"/>
                </a:lnTo>
                <a:lnTo>
                  <a:pt x="10" y="512"/>
                </a:lnTo>
                <a:lnTo>
                  <a:pt x="15" y="504"/>
                </a:lnTo>
                <a:lnTo>
                  <a:pt x="21" y="495"/>
                </a:lnTo>
                <a:lnTo>
                  <a:pt x="30" y="486"/>
                </a:lnTo>
                <a:lnTo>
                  <a:pt x="39" y="476"/>
                </a:lnTo>
                <a:lnTo>
                  <a:pt x="50" y="466"/>
                </a:lnTo>
                <a:lnTo>
                  <a:pt x="56" y="460"/>
                </a:lnTo>
                <a:lnTo>
                  <a:pt x="62" y="455"/>
                </a:lnTo>
                <a:lnTo>
                  <a:pt x="69" y="449"/>
                </a:lnTo>
                <a:lnTo>
                  <a:pt x="76" y="442"/>
                </a:lnTo>
                <a:lnTo>
                  <a:pt x="83" y="436"/>
                </a:lnTo>
                <a:lnTo>
                  <a:pt x="90" y="429"/>
                </a:lnTo>
                <a:lnTo>
                  <a:pt x="106" y="419"/>
                </a:lnTo>
                <a:lnTo>
                  <a:pt x="121" y="407"/>
                </a:lnTo>
                <a:lnTo>
                  <a:pt x="135" y="397"/>
                </a:lnTo>
                <a:lnTo>
                  <a:pt x="148" y="386"/>
                </a:lnTo>
                <a:lnTo>
                  <a:pt x="161" y="373"/>
                </a:lnTo>
                <a:lnTo>
                  <a:pt x="174" y="361"/>
                </a:lnTo>
                <a:lnTo>
                  <a:pt x="185" y="350"/>
                </a:lnTo>
                <a:lnTo>
                  <a:pt x="197" y="337"/>
                </a:lnTo>
                <a:lnTo>
                  <a:pt x="208" y="324"/>
                </a:lnTo>
                <a:lnTo>
                  <a:pt x="218" y="311"/>
                </a:lnTo>
                <a:lnTo>
                  <a:pt x="240" y="285"/>
                </a:lnTo>
                <a:lnTo>
                  <a:pt x="259" y="259"/>
                </a:lnTo>
                <a:lnTo>
                  <a:pt x="279" y="232"/>
                </a:lnTo>
                <a:lnTo>
                  <a:pt x="285" y="219"/>
                </a:lnTo>
                <a:lnTo>
                  <a:pt x="290" y="206"/>
                </a:lnTo>
                <a:lnTo>
                  <a:pt x="295" y="193"/>
                </a:lnTo>
                <a:lnTo>
                  <a:pt x="301" y="181"/>
                </a:lnTo>
                <a:lnTo>
                  <a:pt x="305" y="170"/>
                </a:lnTo>
                <a:lnTo>
                  <a:pt x="308" y="158"/>
                </a:lnTo>
                <a:lnTo>
                  <a:pt x="312" y="148"/>
                </a:lnTo>
                <a:lnTo>
                  <a:pt x="315" y="138"/>
                </a:lnTo>
                <a:lnTo>
                  <a:pt x="316" y="128"/>
                </a:lnTo>
                <a:lnTo>
                  <a:pt x="318" y="118"/>
                </a:lnTo>
                <a:lnTo>
                  <a:pt x="319" y="109"/>
                </a:lnTo>
                <a:lnTo>
                  <a:pt x="319" y="101"/>
                </a:lnTo>
                <a:lnTo>
                  <a:pt x="318" y="92"/>
                </a:lnTo>
                <a:lnTo>
                  <a:pt x="316" y="85"/>
                </a:lnTo>
                <a:lnTo>
                  <a:pt x="315" y="77"/>
                </a:lnTo>
                <a:lnTo>
                  <a:pt x="312" y="7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Freeform 52"/>
          <p:cNvSpPr/>
          <p:nvPr/>
        </p:nvSpPr>
        <p:spPr>
          <a:xfrm>
            <a:off x="6438960" y="3314880"/>
            <a:ext cx="806400" cy="228600"/>
          </a:xfrm>
          <a:custGeom>
            <a:avLst/>
            <a:gdLst/>
            <a:ahLst/>
            <a:rect l="l" t="t" r="r" b="b"/>
            <a:pathLst>
              <a:path w="1524" h="431">
                <a:moveTo>
                  <a:pt x="0" y="323"/>
                </a:moveTo>
                <a:lnTo>
                  <a:pt x="57" y="310"/>
                </a:lnTo>
                <a:lnTo>
                  <a:pt x="113" y="295"/>
                </a:lnTo>
                <a:lnTo>
                  <a:pt x="171" y="282"/>
                </a:lnTo>
                <a:lnTo>
                  <a:pt x="227" y="269"/>
                </a:lnTo>
                <a:lnTo>
                  <a:pt x="282" y="255"/>
                </a:lnTo>
                <a:lnTo>
                  <a:pt x="338" y="242"/>
                </a:lnTo>
                <a:lnTo>
                  <a:pt x="393" y="229"/>
                </a:lnTo>
                <a:lnTo>
                  <a:pt x="447" y="216"/>
                </a:lnTo>
                <a:lnTo>
                  <a:pt x="502" y="202"/>
                </a:lnTo>
                <a:lnTo>
                  <a:pt x="555" y="189"/>
                </a:lnTo>
                <a:lnTo>
                  <a:pt x="609" y="176"/>
                </a:lnTo>
                <a:lnTo>
                  <a:pt x="662" y="163"/>
                </a:lnTo>
                <a:lnTo>
                  <a:pt x="715" y="149"/>
                </a:lnTo>
                <a:lnTo>
                  <a:pt x="767" y="136"/>
                </a:lnTo>
                <a:lnTo>
                  <a:pt x="819" y="121"/>
                </a:lnTo>
                <a:lnTo>
                  <a:pt x="871" y="108"/>
                </a:lnTo>
                <a:lnTo>
                  <a:pt x="895" y="101"/>
                </a:lnTo>
                <a:lnTo>
                  <a:pt x="919" y="95"/>
                </a:lnTo>
                <a:lnTo>
                  <a:pt x="944" y="88"/>
                </a:lnTo>
                <a:lnTo>
                  <a:pt x="967" y="82"/>
                </a:lnTo>
                <a:lnTo>
                  <a:pt x="989" y="77"/>
                </a:lnTo>
                <a:lnTo>
                  <a:pt x="1010" y="71"/>
                </a:lnTo>
                <a:lnTo>
                  <a:pt x="1032" y="65"/>
                </a:lnTo>
                <a:lnTo>
                  <a:pt x="1052" y="61"/>
                </a:lnTo>
                <a:lnTo>
                  <a:pt x="1072" y="55"/>
                </a:lnTo>
                <a:lnTo>
                  <a:pt x="1091" y="51"/>
                </a:lnTo>
                <a:lnTo>
                  <a:pt x="1110" y="46"/>
                </a:lnTo>
                <a:lnTo>
                  <a:pt x="1127" y="42"/>
                </a:lnTo>
                <a:lnTo>
                  <a:pt x="1144" y="38"/>
                </a:lnTo>
                <a:lnTo>
                  <a:pt x="1161" y="33"/>
                </a:lnTo>
                <a:lnTo>
                  <a:pt x="1177" y="30"/>
                </a:lnTo>
                <a:lnTo>
                  <a:pt x="1192" y="26"/>
                </a:lnTo>
                <a:lnTo>
                  <a:pt x="1206" y="23"/>
                </a:lnTo>
                <a:lnTo>
                  <a:pt x="1220" y="20"/>
                </a:lnTo>
                <a:lnTo>
                  <a:pt x="1233" y="18"/>
                </a:lnTo>
                <a:lnTo>
                  <a:pt x="1245" y="15"/>
                </a:lnTo>
                <a:lnTo>
                  <a:pt x="1258" y="13"/>
                </a:lnTo>
                <a:lnTo>
                  <a:pt x="1269" y="10"/>
                </a:lnTo>
                <a:lnTo>
                  <a:pt x="1279" y="9"/>
                </a:lnTo>
                <a:lnTo>
                  <a:pt x="1289" y="7"/>
                </a:lnTo>
                <a:lnTo>
                  <a:pt x="1298" y="5"/>
                </a:lnTo>
                <a:lnTo>
                  <a:pt x="1307" y="5"/>
                </a:lnTo>
                <a:lnTo>
                  <a:pt x="1315" y="3"/>
                </a:lnTo>
                <a:lnTo>
                  <a:pt x="1323" y="2"/>
                </a:lnTo>
                <a:lnTo>
                  <a:pt x="1330" y="2"/>
                </a:lnTo>
                <a:lnTo>
                  <a:pt x="1337" y="0"/>
                </a:lnTo>
                <a:lnTo>
                  <a:pt x="1341" y="0"/>
                </a:lnTo>
                <a:lnTo>
                  <a:pt x="1347" y="0"/>
                </a:lnTo>
                <a:lnTo>
                  <a:pt x="1357" y="0"/>
                </a:lnTo>
                <a:lnTo>
                  <a:pt x="1366" y="2"/>
                </a:lnTo>
                <a:lnTo>
                  <a:pt x="1374" y="2"/>
                </a:lnTo>
                <a:lnTo>
                  <a:pt x="1383" y="3"/>
                </a:lnTo>
                <a:lnTo>
                  <a:pt x="1400" y="7"/>
                </a:lnTo>
                <a:lnTo>
                  <a:pt x="1416" y="12"/>
                </a:lnTo>
                <a:lnTo>
                  <a:pt x="1432" y="18"/>
                </a:lnTo>
                <a:lnTo>
                  <a:pt x="1448" y="23"/>
                </a:lnTo>
                <a:lnTo>
                  <a:pt x="1465" y="29"/>
                </a:lnTo>
                <a:lnTo>
                  <a:pt x="1474" y="33"/>
                </a:lnTo>
                <a:lnTo>
                  <a:pt x="1484" y="36"/>
                </a:lnTo>
                <a:lnTo>
                  <a:pt x="1492" y="39"/>
                </a:lnTo>
                <a:lnTo>
                  <a:pt x="1501" y="43"/>
                </a:lnTo>
                <a:lnTo>
                  <a:pt x="1507" y="48"/>
                </a:lnTo>
                <a:lnTo>
                  <a:pt x="1513" y="52"/>
                </a:lnTo>
                <a:lnTo>
                  <a:pt x="1517" y="58"/>
                </a:lnTo>
                <a:lnTo>
                  <a:pt x="1521" y="62"/>
                </a:lnTo>
                <a:lnTo>
                  <a:pt x="1523" y="66"/>
                </a:lnTo>
                <a:lnTo>
                  <a:pt x="1524" y="72"/>
                </a:lnTo>
                <a:lnTo>
                  <a:pt x="1524" y="77"/>
                </a:lnTo>
                <a:lnTo>
                  <a:pt x="1524" y="82"/>
                </a:lnTo>
                <a:lnTo>
                  <a:pt x="1523" y="87"/>
                </a:lnTo>
                <a:lnTo>
                  <a:pt x="1520" y="91"/>
                </a:lnTo>
                <a:lnTo>
                  <a:pt x="1517" y="97"/>
                </a:lnTo>
                <a:lnTo>
                  <a:pt x="1513" y="101"/>
                </a:lnTo>
                <a:lnTo>
                  <a:pt x="1507" y="104"/>
                </a:lnTo>
                <a:lnTo>
                  <a:pt x="1501" y="108"/>
                </a:lnTo>
                <a:lnTo>
                  <a:pt x="1497" y="111"/>
                </a:lnTo>
                <a:lnTo>
                  <a:pt x="1492" y="115"/>
                </a:lnTo>
                <a:lnTo>
                  <a:pt x="1487" y="118"/>
                </a:lnTo>
                <a:lnTo>
                  <a:pt x="1481" y="123"/>
                </a:lnTo>
                <a:lnTo>
                  <a:pt x="1472" y="127"/>
                </a:lnTo>
                <a:lnTo>
                  <a:pt x="1464" y="130"/>
                </a:lnTo>
                <a:lnTo>
                  <a:pt x="1454" y="134"/>
                </a:lnTo>
                <a:lnTo>
                  <a:pt x="1443" y="138"/>
                </a:lnTo>
                <a:lnTo>
                  <a:pt x="1432" y="143"/>
                </a:lnTo>
                <a:lnTo>
                  <a:pt x="1419" y="147"/>
                </a:lnTo>
                <a:lnTo>
                  <a:pt x="1405" y="151"/>
                </a:lnTo>
                <a:lnTo>
                  <a:pt x="1390" y="156"/>
                </a:lnTo>
                <a:lnTo>
                  <a:pt x="1374" y="161"/>
                </a:lnTo>
                <a:lnTo>
                  <a:pt x="1357" y="166"/>
                </a:lnTo>
                <a:lnTo>
                  <a:pt x="1338" y="172"/>
                </a:lnTo>
                <a:lnTo>
                  <a:pt x="1320" y="177"/>
                </a:lnTo>
                <a:lnTo>
                  <a:pt x="1300" y="182"/>
                </a:lnTo>
                <a:lnTo>
                  <a:pt x="1278" y="187"/>
                </a:lnTo>
                <a:lnTo>
                  <a:pt x="1256" y="193"/>
                </a:lnTo>
                <a:lnTo>
                  <a:pt x="1233" y="199"/>
                </a:lnTo>
                <a:lnTo>
                  <a:pt x="1209" y="206"/>
                </a:lnTo>
                <a:lnTo>
                  <a:pt x="1183" y="212"/>
                </a:lnTo>
                <a:lnTo>
                  <a:pt x="1157" y="219"/>
                </a:lnTo>
                <a:lnTo>
                  <a:pt x="1128" y="225"/>
                </a:lnTo>
                <a:lnTo>
                  <a:pt x="1101" y="232"/>
                </a:lnTo>
                <a:lnTo>
                  <a:pt x="1071" y="239"/>
                </a:lnTo>
                <a:lnTo>
                  <a:pt x="1040" y="246"/>
                </a:lnTo>
                <a:lnTo>
                  <a:pt x="1007" y="254"/>
                </a:lnTo>
                <a:lnTo>
                  <a:pt x="976" y="262"/>
                </a:lnTo>
                <a:lnTo>
                  <a:pt x="941" y="269"/>
                </a:lnTo>
                <a:lnTo>
                  <a:pt x="907" y="278"/>
                </a:lnTo>
                <a:lnTo>
                  <a:pt x="871" y="287"/>
                </a:lnTo>
                <a:lnTo>
                  <a:pt x="833" y="295"/>
                </a:lnTo>
                <a:lnTo>
                  <a:pt x="799" y="304"/>
                </a:lnTo>
                <a:lnTo>
                  <a:pt x="764" y="311"/>
                </a:lnTo>
                <a:lnTo>
                  <a:pt x="731" y="320"/>
                </a:lnTo>
                <a:lnTo>
                  <a:pt x="698" y="327"/>
                </a:lnTo>
                <a:lnTo>
                  <a:pt x="668" y="334"/>
                </a:lnTo>
                <a:lnTo>
                  <a:pt x="637" y="341"/>
                </a:lnTo>
                <a:lnTo>
                  <a:pt x="607" y="347"/>
                </a:lnTo>
                <a:lnTo>
                  <a:pt x="580" y="354"/>
                </a:lnTo>
                <a:lnTo>
                  <a:pt x="552" y="360"/>
                </a:lnTo>
                <a:lnTo>
                  <a:pt x="525" y="366"/>
                </a:lnTo>
                <a:lnTo>
                  <a:pt x="501" y="372"/>
                </a:lnTo>
                <a:lnTo>
                  <a:pt x="476" y="377"/>
                </a:lnTo>
                <a:lnTo>
                  <a:pt x="453" y="383"/>
                </a:lnTo>
                <a:lnTo>
                  <a:pt x="430" y="388"/>
                </a:lnTo>
                <a:lnTo>
                  <a:pt x="408" y="393"/>
                </a:lnTo>
                <a:lnTo>
                  <a:pt x="388" y="398"/>
                </a:lnTo>
                <a:lnTo>
                  <a:pt x="370" y="402"/>
                </a:lnTo>
                <a:lnTo>
                  <a:pt x="351" y="405"/>
                </a:lnTo>
                <a:lnTo>
                  <a:pt x="334" y="409"/>
                </a:lnTo>
                <a:lnTo>
                  <a:pt x="318" y="412"/>
                </a:lnTo>
                <a:lnTo>
                  <a:pt x="302" y="415"/>
                </a:lnTo>
                <a:lnTo>
                  <a:pt x="287" y="418"/>
                </a:lnTo>
                <a:lnTo>
                  <a:pt x="275" y="421"/>
                </a:lnTo>
                <a:lnTo>
                  <a:pt x="262" y="422"/>
                </a:lnTo>
                <a:lnTo>
                  <a:pt x="251" y="425"/>
                </a:lnTo>
                <a:lnTo>
                  <a:pt x="240" y="426"/>
                </a:lnTo>
                <a:lnTo>
                  <a:pt x="231" y="428"/>
                </a:lnTo>
                <a:lnTo>
                  <a:pt x="223" y="429"/>
                </a:lnTo>
                <a:lnTo>
                  <a:pt x="216" y="429"/>
                </a:lnTo>
                <a:lnTo>
                  <a:pt x="210" y="429"/>
                </a:lnTo>
                <a:lnTo>
                  <a:pt x="204" y="431"/>
                </a:lnTo>
                <a:lnTo>
                  <a:pt x="194" y="429"/>
                </a:lnTo>
                <a:lnTo>
                  <a:pt x="184" y="428"/>
                </a:lnTo>
                <a:lnTo>
                  <a:pt x="174" y="426"/>
                </a:lnTo>
                <a:lnTo>
                  <a:pt x="162" y="424"/>
                </a:lnTo>
                <a:lnTo>
                  <a:pt x="151" y="419"/>
                </a:lnTo>
                <a:lnTo>
                  <a:pt x="139" y="415"/>
                </a:lnTo>
                <a:lnTo>
                  <a:pt x="126" y="411"/>
                </a:lnTo>
                <a:lnTo>
                  <a:pt x="115" y="403"/>
                </a:lnTo>
                <a:lnTo>
                  <a:pt x="102" y="396"/>
                </a:lnTo>
                <a:lnTo>
                  <a:pt x="87" y="389"/>
                </a:lnTo>
                <a:lnTo>
                  <a:pt x="74" y="380"/>
                </a:lnTo>
                <a:lnTo>
                  <a:pt x="60" y="370"/>
                </a:lnTo>
                <a:lnTo>
                  <a:pt x="46" y="360"/>
                </a:lnTo>
                <a:lnTo>
                  <a:pt x="30" y="349"/>
                </a:lnTo>
                <a:lnTo>
                  <a:pt x="15" y="336"/>
                </a:lnTo>
                <a:lnTo>
                  <a:pt x="0" y="32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Freeform 53"/>
          <p:cNvSpPr/>
          <p:nvPr/>
        </p:nvSpPr>
        <p:spPr>
          <a:xfrm>
            <a:off x="6321600" y="3543480"/>
            <a:ext cx="1128600" cy="274320"/>
          </a:xfrm>
          <a:custGeom>
            <a:avLst/>
            <a:gdLst/>
            <a:ahLst/>
            <a:rect l="l" t="t" r="r" b="b"/>
            <a:pathLst>
              <a:path w="2133" h="519">
                <a:moveTo>
                  <a:pt x="68" y="483"/>
                </a:moveTo>
                <a:lnTo>
                  <a:pt x="59" y="476"/>
                </a:lnTo>
                <a:lnTo>
                  <a:pt x="50" y="469"/>
                </a:lnTo>
                <a:lnTo>
                  <a:pt x="43" y="463"/>
                </a:lnTo>
                <a:lnTo>
                  <a:pt x="36" y="456"/>
                </a:lnTo>
                <a:lnTo>
                  <a:pt x="30" y="449"/>
                </a:lnTo>
                <a:lnTo>
                  <a:pt x="24" y="443"/>
                </a:lnTo>
                <a:lnTo>
                  <a:pt x="19" y="436"/>
                </a:lnTo>
                <a:lnTo>
                  <a:pt x="14" y="429"/>
                </a:lnTo>
                <a:lnTo>
                  <a:pt x="11" y="423"/>
                </a:lnTo>
                <a:lnTo>
                  <a:pt x="9" y="416"/>
                </a:lnTo>
                <a:lnTo>
                  <a:pt x="6" y="409"/>
                </a:lnTo>
                <a:lnTo>
                  <a:pt x="3" y="403"/>
                </a:lnTo>
                <a:lnTo>
                  <a:pt x="1" y="396"/>
                </a:lnTo>
                <a:lnTo>
                  <a:pt x="1" y="388"/>
                </a:lnTo>
                <a:lnTo>
                  <a:pt x="0" y="383"/>
                </a:lnTo>
                <a:lnTo>
                  <a:pt x="0" y="375"/>
                </a:lnTo>
                <a:lnTo>
                  <a:pt x="105" y="352"/>
                </a:lnTo>
                <a:lnTo>
                  <a:pt x="209" y="329"/>
                </a:lnTo>
                <a:lnTo>
                  <a:pt x="308" y="308"/>
                </a:lnTo>
                <a:lnTo>
                  <a:pt x="404" y="286"/>
                </a:lnTo>
                <a:lnTo>
                  <a:pt x="498" y="266"/>
                </a:lnTo>
                <a:lnTo>
                  <a:pt x="589" y="246"/>
                </a:lnTo>
                <a:lnTo>
                  <a:pt x="675" y="227"/>
                </a:lnTo>
                <a:lnTo>
                  <a:pt x="760" y="208"/>
                </a:lnTo>
                <a:lnTo>
                  <a:pt x="842" y="191"/>
                </a:lnTo>
                <a:lnTo>
                  <a:pt x="920" y="175"/>
                </a:lnTo>
                <a:lnTo>
                  <a:pt x="995" y="160"/>
                </a:lnTo>
                <a:lnTo>
                  <a:pt x="1068" y="144"/>
                </a:lnTo>
                <a:lnTo>
                  <a:pt x="1137" y="129"/>
                </a:lnTo>
                <a:lnTo>
                  <a:pt x="1203" y="116"/>
                </a:lnTo>
                <a:lnTo>
                  <a:pt x="1265" y="103"/>
                </a:lnTo>
                <a:lnTo>
                  <a:pt x="1326" y="92"/>
                </a:lnTo>
                <a:lnTo>
                  <a:pt x="1383" y="80"/>
                </a:lnTo>
                <a:lnTo>
                  <a:pt x="1437" y="70"/>
                </a:lnTo>
                <a:lnTo>
                  <a:pt x="1487" y="60"/>
                </a:lnTo>
                <a:lnTo>
                  <a:pt x="1534" y="50"/>
                </a:lnTo>
                <a:lnTo>
                  <a:pt x="1579" y="43"/>
                </a:lnTo>
                <a:lnTo>
                  <a:pt x="1621" y="34"/>
                </a:lnTo>
                <a:lnTo>
                  <a:pt x="1658" y="28"/>
                </a:lnTo>
                <a:lnTo>
                  <a:pt x="1693" y="21"/>
                </a:lnTo>
                <a:lnTo>
                  <a:pt x="1725" y="17"/>
                </a:lnTo>
                <a:lnTo>
                  <a:pt x="1753" y="11"/>
                </a:lnTo>
                <a:lnTo>
                  <a:pt x="1779" y="8"/>
                </a:lnTo>
                <a:lnTo>
                  <a:pt x="1802" y="4"/>
                </a:lnTo>
                <a:lnTo>
                  <a:pt x="1821" y="3"/>
                </a:lnTo>
                <a:lnTo>
                  <a:pt x="1837" y="1"/>
                </a:lnTo>
                <a:lnTo>
                  <a:pt x="1850" y="0"/>
                </a:lnTo>
                <a:lnTo>
                  <a:pt x="1860" y="0"/>
                </a:lnTo>
                <a:lnTo>
                  <a:pt x="1876" y="0"/>
                </a:lnTo>
                <a:lnTo>
                  <a:pt x="1890" y="0"/>
                </a:lnTo>
                <a:lnTo>
                  <a:pt x="1906" y="1"/>
                </a:lnTo>
                <a:lnTo>
                  <a:pt x="1920" y="3"/>
                </a:lnTo>
                <a:lnTo>
                  <a:pt x="1935" y="4"/>
                </a:lnTo>
                <a:lnTo>
                  <a:pt x="1948" y="5"/>
                </a:lnTo>
                <a:lnTo>
                  <a:pt x="1962" y="8"/>
                </a:lnTo>
                <a:lnTo>
                  <a:pt x="1975" y="10"/>
                </a:lnTo>
                <a:lnTo>
                  <a:pt x="1988" y="13"/>
                </a:lnTo>
                <a:lnTo>
                  <a:pt x="1999" y="16"/>
                </a:lnTo>
                <a:lnTo>
                  <a:pt x="2011" y="18"/>
                </a:lnTo>
                <a:lnTo>
                  <a:pt x="2023" y="21"/>
                </a:lnTo>
                <a:lnTo>
                  <a:pt x="2034" y="26"/>
                </a:lnTo>
                <a:lnTo>
                  <a:pt x="2044" y="28"/>
                </a:lnTo>
                <a:lnTo>
                  <a:pt x="2054" y="31"/>
                </a:lnTo>
                <a:lnTo>
                  <a:pt x="2064" y="36"/>
                </a:lnTo>
                <a:lnTo>
                  <a:pt x="2073" y="41"/>
                </a:lnTo>
                <a:lnTo>
                  <a:pt x="2082" y="49"/>
                </a:lnTo>
                <a:lnTo>
                  <a:pt x="2090" y="56"/>
                </a:lnTo>
                <a:lnTo>
                  <a:pt x="2096" y="62"/>
                </a:lnTo>
                <a:lnTo>
                  <a:pt x="2103" y="69"/>
                </a:lnTo>
                <a:lnTo>
                  <a:pt x="2109" y="75"/>
                </a:lnTo>
                <a:lnTo>
                  <a:pt x="2113" y="80"/>
                </a:lnTo>
                <a:lnTo>
                  <a:pt x="2118" y="88"/>
                </a:lnTo>
                <a:lnTo>
                  <a:pt x="2122" y="93"/>
                </a:lnTo>
                <a:lnTo>
                  <a:pt x="2125" y="98"/>
                </a:lnTo>
                <a:lnTo>
                  <a:pt x="2128" y="103"/>
                </a:lnTo>
                <a:lnTo>
                  <a:pt x="2129" y="109"/>
                </a:lnTo>
                <a:lnTo>
                  <a:pt x="2130" y="113"/>
                </a:lnTo>
                <a:lnTo>
                  <a:pt x="2132" y="118"/>
                </a:lnTo>
                <a:lnTo>
                  <a:pt x="2132" y="122"/>
                </a:lnTo>
                <a:lnTo>
                  <a:pt x="2133" y="125"/>
                </a:lnTo>
                <a:lnTo>
                  <a:pt x="2132" y="128"/>
                </a:lnTo>
                <a:lnTo>
                  <a:pt x="2130" y="132"/>
                </a:lnTo>
                <a:lnTo>
                  <a:pt x="2126" y="135"/>
                </a:lnTo>
                <a:lnTo>
                  <a:pt x="2122" y="139"/>
                </a:lnTo>
                <a:lnTo>
                  <a:pt x="2116" y="142"/>
                </a:lnTo>
                <a:lnTo>
                  <a:pt x="2109" y="147"/>
                </a:lnTo>
                <a:lnTo>
                  <a:pt x="2100" y="151"/>
                </a:lnTo>
                <a:lnTo>
                  <a:pt x="2090" y="154"/>
                </a:lnTo>
                <a:lnTo>
                  <a:pt x="2080" y="158"/>
                </a:lnTo>
                <a:lnTo>
                  <a:pt x="2067" y="162"/>
                </a:lnTo>
                <a:lnTo>
                  <a:pt x="2053" y="167"/>
                </a:lnTo>
                <a:lnTo>
                  <a:pt x="2038" y="171"/>
                </a:lnTo>
                <a:lnTo>
                  <a:pt x="2021" y="175"/>
                </a:lnTo>
                <a:lnTo>
                  <a:pt x="2004" y="180"/>
                </a:lnTo>
                <a:lnTo>
                  <a:pt x="1985" y="184"/>
                </a:lnTo>
                <a:lnTo>
                  <a:pt x="1963" y="190"/>
                </a:lnTo>
                <a:lnTo>
                  <a:pt x="1942" y="194"/>
                </a:lnTo>
                <a:lnTo>
                  <a:pt x="1919" y="198"/>
                </a:lnTo>
                <a:lnTo>
                  <a:pt x="1894" y="203"/>
                </a:lnTo>
                <a:lnTo>
                  <a:pt x="1868" y="208"/>
                </a:lnTo>
                <a:lnTo>
                  <a:pt x="1841" y="213"/>
                </a:lnTo>
                <a:lnTo>
                  <a:pt x="1812" y="217"/>
                </a:lnTo>
                <a:lnTo>
                  <a:pt x="1782" y="223"/>
                </a:lnTo>
                <a:lnTo>
                  <a:pt x="1750" y="227"/>
                </a:lnTo>
                <a:lnTo>
                  <a:pt x="1719" y="233"/>
                </a:lnTo>
                <a:lnTo>
                  <a:pt x="1684" y="237"/>
                </a:lnTo>
                <a:lnTo>
                  <a:pt x="1648" y="243"/>
                </a:lnTo>
                <a:lnTo>
                  <a:pt x="1612" y="247"/>
                </a:lnTo>
                <a:lnTo>
                  <a:pt x="1573" y="253"/>
                </a:lnTo>
                <a:lnTo>
                  <a:pt x="1533" y="257"/>
                </a:lnTo>
                <a:lnTo>
                  <a:pt x="1493" y="263"/>
                </a:lnTo>
                <a:lnTo>
                  <a:pt x="1451" y="269"/>
                </a:lnTo>
                <a:lnTo>
                  <a:pt x="1408" y="275"/>
                </a:lnTo>
                <a:lnTo>
                  <a:pt x="1366" y="282"/>
                </a:lnTo>
                <a:lnTo>
                  <a:pt x="1324" y="288"/>
                </a:lnTo>
                <a:lnTo>
                  <a:pt x="1284" y="295"/>
                </a:lnTo>
                <a:lnTo>
                  <a:pt x="1244" y="301"/>
                </a:lnTo>
                <a:lnTo>
                  <a:pt x="1205" y="306"/>
                </a:lnTo>
                <a:lnTo>
                  <a:pt x="1167" y="314"/>
                </a:lnTo>
                <a:lnTo>
                  <a:pt x="1130" y="319"/>
                </a:lnTo>
                <a:lnTo>
                  <a:pt x="1094" y="325"/>
                </a:lnTo>
                <a:lnTo>
                  <a:pt x="1058" y="331"/>
                </a:lnTo>
                <a:lnTo>
                  <a:pt x="1023" y="337"/>
                </a:lnTo>
                <a:lnTo>
                  <a:pt x="989" y="342"/>
                </a:lnTo>
                <a:lnTo>
                  <a:pt x="956" y="348"/>
                </a:lnTo>
                <a:lnTo>
                  <a:pt x="924" y="354"/>
                </a:lnTo>
                <a:lnTo>
                  <a:pt x="892" y="358"/>
                </a:lnTo>
                <a:lnTo>
                  <a:pt x="861" y="364"/>
                </a:lnTo>
                <a:lnTo>
                  <a:pt x="832" y="370"/>
                </a:lnTo>
                <a:lnTo>
                  <a:pt x="802" y="375"/>
                </a:lnTo>
                <a:lnTo>
                  <a:pt x="774" y="380"/>
                </a:lnTo>
                <a:lnTo>
                  <a:pt x="746" y="386"/>
                </a:lnTo>
                <a:lnTo>
                  <a:pt x="720" y="391"/>
                </a:lnTo>
                <a:lnTo>
                  <a:pt x="694" y="396"/>
                </a:lnTo>
                <a:lnTo>
                  <a:pt x="668" y="401"/>
                </a:lnTo>
                <a:lnTo>
                  <a:pt x="643" y="406"/>
                </a:lnTo>
                <a:lnTo>
                  <a:pt x="620" y="411"/>
                </a:lnTo>
                <a:lnTo>
                  <a:pt x="597" y="416"/>
                </a:lnTo>
                <a:lnTo>
                  <a:pt x="576" y="422"/>
                </a:lnTo>
                <a:lnTo>
                  <a:pt x="554" y="426"/>
                </a:lnTo>
                <a:lnTo>
                  <a:pt x="534" y="432"/>
                </a:lnTo>
                <a:lnTo>
                  <a:pt x="514" y="436"/>
                </a:lnTo>
                <a:lnTo>
                  <a:pt x="495" y="442"/>
                </a:lnTo>
                <a:lnTo>
                  <a:pt x="478" y="447"/>
                </a:lnTo>
                <a:lnTo>
                  <a:pt x="461" y="452"/>
                </a:lnTo>
                <a:lnTo>
                  <a:pt x="443" y="456"/>
                </a:lnTo>
                <a:lnTo>
                  <a:pt x="427" y="462"/>
                </a:lnTo>
                <a:lnTo>
                  <a:pt x="412" y="466"/>
                </a:lnTo>
                <a:lnTo>
                  <a:pt x="396" y="469"/>
                </a:lnTo>
                <a:lnTo>
                  <a:pt x="381" y="473"/>
                </a:lnTo>
                <a:lnTo>
                  <a:pt x="367" y="478"/>
                </a:lnTo>
                <a:lnTo>
                  <a:pt x="353" y="481"/>
                </a:lnTo>
                <a:lnTo>
                  <a:pt x="340" y="485"/>
                </a:lnTo>
                <a:lnTo>
                  <a:pt x="327" y="488"/>
                </a:lnTo>
                <a:lnTo>
                  <a:pt x="314" y="491"/>
                </a:lnTo>
                <a:lnTo>
                  <a:pt x="302" y="494"/>
                </a:lnTo>
                <a:lnTo>
                  <a:pt x="291" y="496"/>
                </a:lnTo>
                <a:lnTo>
                  <a:pt x="281" y="499"/>
                </a:lnTo>
                <a:lnTo>
                  <a:pt x="269" y="501"/>
                </a:lnTo>
                <a:lnTo>
                  <a:pt x="260" y="504"/>
                </a:lnTo>
                <a:lnTo>
                  <a:pt x="250" y="505"/>
                </a:lnTo>
                <a:lnTo>
                  <a:pt x="242" y="506"/>
                </a:lnTo>
                <a:lnTo>
                  <a:pt x="233" y="509"/>
                </a:lnTo>
                <a:lnTo>
                  <a:pt x="226" y="511"/>
                </a:lnTo>
                <a:lnTo>
                  <a:pt x="219" y="512"/>
                </a:lnTo>
                <a:lnTo>
                  <a:pt x="211" y="514"/>
                </a:lnTo>
                <a:lnTo>
                  <a:pt x="204" y="514"/>
                </a:lnTo>
                <a:lnTo>
                  <a:pt x="199" y="515"/>
                </a:lnTo>
                <a:lnTo>
                  <a:pt x="194" y="517"/>
                </a:lnTo>
                <a:lnTo>
                  <a:pt x="188" y="517"/>
                </a:lnTo>
                <a:lnTo>
                  <a:pt x="184" y="518"/>
                </a:lnTo>
                <a:lnTo>
                  <a:pt x="181" y="518"/>
                </a:lnTo>
                <a:lnTo>
                  <a:pt x="177" y="518"/>
                </a:lnTo>
                <a:lnTo>
                  <a:pt x="174" y="518"/>
                </a:lnTo>
                <a:lnTo>
                  <a:pt x="173" y="518"/>
                </a:lnTo>
                <a:lnTo>
                  <a:pt x="171" y="519"/>
                </a:lnTo>
                <a:lnTo>
                  <a:pt x="167" y="518"/>
                </a:lnTo>
                <a:lnTo>
                  <a:pt x="163" y="518"/>
                </a:lnTo>
                <a:lnTo>
                  <a:pt x="160" y="517"/>
                </a:lnTo>
                <a:lnTo>
                  <a:pt x="154" y="515"/>
                </a:lnTo>
                <a:lnTo>
                  <a:pt x="150" y="514"/>
                </a:lnTo>
                <a:lnTo>
                  <a:pt x="144" y="512"/>
                </a:lnTo>
                <a:lnTo>
                  <a:pt x="138" y="509"/>
                </a:lnTo>
                <a:lnTo>
                  <a:pt x="132" y="508"/>
                </a:lnTo>
                <a:lnTo>
                  <a:pt x="125" y="505"/>
                </a:lnTo>
                <a:lnTo>
                  <a:pt x="118" y="502"/>
                </a:lnTo>
                <a:lnTo>
                  <a:pt x="111" y="499"/>
                </a:lnTo>
                <a:lnTo>
                  <a:pt x="102" y="496"/>
                </a:lnTo>
                <a:lnTo>
                  <a:pt x="95" y="492"/>
                </a:lnTo>
                <a:lnTo>
                  <a:pt x="86" y="489"/>
                </a:lnTo>
                <a:lnTo>
                  <a:pt x="78" y="486"/>
                </a:lnTo>
                <a:lnTo>
                  <a:pt x="68" y="48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Freeform 54"/>
          <p:cNvSpPr/>
          <p:nvPr/>
        </p:nvSpPr>
        <p:spPr>
          <a:xfrm>
            <a:off x="6926400" y="3618000"/>
            <a:ext cx="893520" cy="534960"/>
          </a:xfrm>
          <a:custGeom>
            <a:avLst/>
            <a:gdLst/>
            <a:ahLst/>
            <a:rect l="l" t="t" r="r" b="b"/>
            <a:pathLst>
              <a:path w="1690" h="1011">
                <a:moveTo>
                  <a:pt x="1229" y="717"/>
                </a:moveTo>
                <a:lnTo>
                  <a:pt x="1257" y="726"/>
                </a:lnTo>
                <a:lnTo>
                  <a:pt x="1284" y="734"/>
                </a:lnTo>
                <a:lnTo>
                  <a:pt x="1311" y="742"/>
                </a:lnTo>
                <a:lnTo>
                  <a:pt x="1336" y="750"/>
                </a:lnTo>
                <a:lnTo>
                  <a:pt x="1362" y="757"/>
                </a:lnTo>
                <a:lnTo>
                  <a:pt x="1385" y="766"/>
                </a:lnTo>
                <a:lnTo>
                  <a:pt x="1408" y="773"/>
                </a:lnTo>
                <a:lnTo>
                  <a:pt x="1429" y="781"/>
                </a:lnTo>
                <a:lnTo>
                  <a:pt x="1451" y="788"/>
                </a:lnTo>
                <a:lnTo>
                  <a:pt x="1471" y="795"/>
                </a:lnTo>
                <a:lnTo>
                  <a:pt x="1491" y="802"/>
                </a:lnTo>
                <a:lnTo>
                  <a:pt x="1509" y="809"/>
                </a:lnTo>
                <a:lnTo>
                  <a:pt x="1527" y="815"/>
                </a:lnTo>
                <a:lnTo>
                  <a:pt x="1543" y="822"/>
                </a:lnTo>
                <a:lnTo>
                  <a:pt x="1559" y="828"/>
                </a:lnTo>
                <a:lnTo>
                  <a:pt x="1573" y="834"/>
                </a:lnTo>
                <a:lnTo>
                  <a:pt x="1588" y="840"/>
                </a:lnTo>
                <a:lnTo>
                  <a:pt x="1601" y="845"/>
                </a:lnTo>
                <a:lnTo>
                  <a:pt x="1614" y="850"/>
                </a:lnTo>
                <a:lnTo>
                  <a:pt x="1624" y="855"/>
                </a:lnTo>
                <a:lnTo>
                  <a:pt x="1635" y="860"/>
                </a:lnTo>
                <a:lnTo>
                  <a:pt x="1644" y="864"/>
                </a:lnTo>
                <a:lnTo>
                  <a:pt x="1653" y="868"/>
                </a:lnTo>
                <a:lnTo>
                  <a:pt x="1660" y="873"/>
                </a:lnTo>
                <a:lnTo>
                  <a:pt x="1667" y="877"/>
                </a:lnTo>
                <a:lnTo>
                  <a:pt x="1673" y="880"/>
                </a:lnTo>
                <a:lnTo>
                  <a:pt x="1678" y="884"/>
                </a:lnTo>
                <a:lnTo>
                  <a:pt x="1683" y="887"/>
                </a:lnTo>
                <a:lnTo>
                  <a:pt x="1686" y="890"/>
                </a:lnTo>
                <a:lnTo>
                  <a:pt x="1687" y="891"/>
                </a:lnTo>
                <a:lnTo>
                  <a:pt x="1689" y="894"/>
                </a:lnTo>
                <a:lnTo>
                  <a:pt x="1690" y="896"/>
                </a:lnTo>
                <a:lnTo>
                  <a:pt x="1689" y="897"/>
                </a:lnTo>
                <a:lnTo>
                  <a:pt x="1689" y="900"/>
                </a:lnTo>
                <a:lnTo>
                  <a:pt x="1687" y="901"/>
                </a:lnTo>
                <a:lnTo>
                  <a:pt x="1684" y="903"/>
                </a:lnTo>
                <a:lnTo>
                  <a:pt x="1681" y="906"/>
                </a:lnTo>
                <a:lnTo>
                  <a:pt x="1678" y="907"/>
                </a:lnTo>
                <a:lnTo>
                  <a:pt x="1674" y="910"/>
                </a:lnTo>
                <a:lnTo>
                  <a:pt x="1670" y="912"/>
                </a:lnTo>
                <a:lnTo>
                  <a:pt x="1666" y="914"/>
                </a:lnTo>
                <a:lnTo>
                  <a:pt x="1660" y="917"/>
                </a:lnTo>
                <a:lnTo>
                  <a:pt x="1653" y="919"/>
                </a:lnTo>
                <a:lnTo>
                  <a:pt x="1645" y="922"/>
                </a:lnTo>
                <a:lnTo>
                  <a:pt x="1638" y="924"/>
                </a:lnTo>
                <a:lnTo>
                  <a:pt x="1631" y="927"/>
                </a:lnTo>
                <a:lnTo>
                  <a:pt x="1621" y="929"/>
                </a:lnTo>
                <a:lnTo>
                  <a:pt x="1612" y="932"/>
                </a:lnTo>
                <a:lnTo>
                  <a:pt x="1602" y="935"/>
                </a:lnTo>
                <a:lnTo>
                  <a:pt x="1592" y="937"/>
                </a:lnTo>
                <a:lnTo>
                  <a:pt x="1581" y="939"/>
                </a:lnTo>
                <a:lnTo>
                  <a:pt x="1569" y="942"/>
                </a:lnTo>
                <a:lnTo>
                  <a:pt x="1556" y="945"/>
                </a:lnTo>
                <a:lnTo>
                  <a:pt x="1543" y="946"/>
                </a:lnTo>
                <a:lnTo>
                  <a:pt x="1530" y="949"/>
                </a:lnTo>
                <a:lnTo>
                  <a:pt x="1516" y="952"/>
                </a:lnTo>
                <a:lnTo>
                  <a:pt x="1501" y="953"/>
                </a:lnTo>
                <a:lnTo>
                  <a:pt x="1486" y="956"/>
                </a:lnTo>
                <a:lnTo>
                  <a:pt x="1470" y="958"/>
                </a:lnTo>
                <a:lnTo>
                  <a:pt x="1454" y="960"/>
                </a:lnTo>
                <a:lnTo>
                  <a:pt x="1437" y="962"/>
                </a:lnTo>
                <a:lnTo>
                  <a:pt x="1419" y="965"/>
                </a:lnTo>
                <a:lnTo>
                  <a:pt x="1401" y="966"/>
                </a:lnTo>
                <a:lnTo>
                  <a:pt x="1382" y="968"/>
                </a:lnTo>
                <a:lnTo>
                  <a:pt x="1362" y="971"/>
                </a:lnTo>
                <a:lnTo>
                  <a:pt x="1342" y="975"/>
                </a:lnTo>
                <a:lnTo>
                  <a:pt x="1321" y="978"/>
                </a:lnTo>
                <a:lnTo>
                  <a:pt x="1303" y="981"/>
                </a:lnTo>
                <a:lnTo>
                  <a:pt x="1284" y="984"/>
                </a:lnTo>
                <a:lnTo>
                  <a:pt x="1267" y="986"/>
                </a:lnTo>
                <a:lnTo>
                  <a:pt x="1248" y="989"/>
                </a:lnTo>
                <a:lnTo>
                  <a:pt x="1232" y="991"/>
                </a:lnTo>
                <a:lnTo>
                  <a:pt x="1215" y="994"/>
                </a:lnTo>
                <a:lnTo>
                  <a:pt x="1199" y="996"/>
                </a:lnTo>
                <a:lnTo>
                  <a:pt x="1183" y="998"/>
                </a:lnTo>
                <a:lnTo>
                  <a:pt x="1169" y="999"/>
                </a:lnTo>
                <a:lnTo>
                  <a:pt x="1154" y="1002"/>
                </a:lnTo>
                <a:lnTo>
                  <a:pt x="1140" y="1004"/>
                </a:lnTo>
                <a:lnTo>
                  <a:pt x="1126" y="1005"/>
                </a:lnTo>
                <a:lnTo>
                  <a:pt x="1113" y="1007"/>
                </a:lnTo>
                <a:lnTo>
                  <a:pt x="1101" y="1008"/>
                </a:lnTo>
                <a:lnTo>
                  <a:pt x="1088" y="1008"/>
                </a:lnTo>
                <a:lnTo>
                  <a:pt x="1077" y="1009"/>
                </a:lnTo>
                <a:lnTo>
                  <a:pt x="1067" y="1009"/>
                </a:lnTo>
                <a:lnTo>
                  <a:pt x="1055" y="1011"/>
                </a:lnTo>
                <a:lnTo>
                  <a:pt x="1045" y="1011"/>
                </a:lnTo>
                <a:lnTo>
                  <a:pt x="1036" y="1011"/>
                </a:lnTo>
                <a:lnTo>
                  <a:pt x="1026" y="1011"/>
                </a:lnTo>
                <a:lnTo>
                  <a:pt x="1018" y="1011"/>
                </a:lnTo>
                <a:lnTo>
                  <a:pt x="1011" y="1011"/>
                </a:lnTo>
                <a:lnTo>
                  <a:pt x="1003" y="1009"/>
                </a:lnTo>
                <a:lnTo>
                  <a:pt x="996" y="1009"/>
                </a:lnTo>
                <a:lnTo>
                  <a:pt x="989" y="1008"/>
                </a:lnTo>
                <a:lnTo>
                  <a:pt x="983" y="1007"/>
                </a:lnTo>
                <a:lnTo>
                  <a:pt x="977" y="1005"/>
                </a:lnTo>
                <a:lnTo>
                  <a:pt x="973" y="1004"/>
                </a:lnTo>
                <a:lnTo>
                  <a:pt x="969" y="1004"/>
                </a:lnTo>
                <a:lnTo>
                  <a:pt x="966" y="1002"/>
                </a:lnTo>
                <a:lnTo>
                  <a:pt x="962" y="1002"/>
                </a:lnTo>
                <a:lnTo>
                  <a:pt x="956" y="999"/>
                </a:lnTo>
                <a:lnTo>
                  <a:pt x="951" y="998"/>
                </a:lnTo>
                <a:lnTo>
                  <a:pt x="946" y="995"/>
                </a:lnTo>
                <a:lnTo>
                  <a:pt x="940" y="992"/>
                </a:lnTo>
                <a:lnTo>
                  <a:pt x="934" y="989"/>
                </a:lnTo>
                <a:lnTo>
                  <a:pt x="928" y="985"/>
                </a:lnTo>
                <a:lnTo>
                  <a:pt x="921" y="981"/>
                </a:lnTo>
                <a:lnTo>
                  <a:pt x="914" y="976"/>
                </a:lnTo>
                <a:lnTo>
                  <a:pt x="907" y="971"/>
                </a:lnTo>
                <a:lnTo>
                  <a:pt x="898" y="965"/>
                </a:lnTo>
                <a:lnTo>
                  <a:pt x="890" y="958"/>
                </a:lnTo>
                <a:lnTo>
                  <a:pt x="881" y="952"/>
                </a:lnTo>
                <a:lnTo>
                  <a:pt x="872" y="945"/>
                </a:lnTo>
                <a:lnTo>
                  <a:pt x="862" y="936"/>
                </a:lnTo>
                <a:lnTo>
                  <a:pt x="854" y="929"/>
                </a:lnTo>
                <a:lnTo>
                  <a:pt x="842" y="920"/>
                </a:lnTo>
                <a:lnTo>
                  <a:pt x="832" y="912"/>
                </a:lnTo>
                <a:lnTo>
                  <a:pt x="820" y="901"/>
                </a:lnTo>
                <a:lnTo>
                  <a:pt x="810" y="891"/>
                </a:lnTo>
                <a:lnTo>
                  <a:pt x="797" y="881"/>
                </a:lnTo>
                <a:lnTo>
                  <a:pt x="786" y="870"/>
                </a:lnTo>
                <a:lnTo>
                  <a:pt x="773" y="858"/>
                </a:lnTo>
                <a:lnTo>
                  <a:pt x="760" y="847"/>
                </a:lnTo>
                <a:lnTo>
                  <a:pt x="747" y="835"/>
                </a:lnTo>
                <a:lnTo>
                  <a:pt x="734" y="822"/>
                </a:lnTo>
                <a:lnTo>
                  <a:pt x="720" y="809"/>
                </a:lnTo>
                <a:lnTo>
                  <a:pt x="705" y="795"/>
                </a:lnTo>
                <a:lnTo>
                  <a:pt x="691" y="781"/>
                </a:lnTo>
                <a:lnTo>
                  <a:pt x="675" y="766"/>
                </a:lnTo>
                <a:lnTo>
                  <a:pt x="661" y="752"/>
                </a:lnTo>
                <a:lnTo>
                  <a:pt x="645" y="736"/>
                </a:lnTo>
                <a:lnTo>
                  <a:pt x="628" y="720"/>
                </a:lnTo>
                <a:lnTo>
                  <a:pt x="612" y="703"/>
                </a:lnTo>
                <a:lnTo>
                  <a:pt x="594" y="687"/>
                </a:lnTo>
                <a:lnTo>
                  <a:pt x="577" y="668"/>
                </a:lnTo>
                <a:lnTo>
                  <a:pt x="560" y="651"/>
                </a:lnTo>
                <a:lnTo>
                  <a:pt x="541" y="632"/>
                </a:lnTo>
                <a:lnTo>
                  <a:pt x="524" y="614"/>
                </a:lnTo>
                <a:lnTo>
                  <a:pt x="505" y="595"/>
                </a:lnTo>
                <a:lnTo>
                  <a:pt x="485" y="575"/>
                </a:lnTo>
                <a:lnTo>
                  <a:pt x="466" y="554"/>
                </a:lnTo>
                <a:lnTo>
                  <a:pt x="446" y="534"/>
                </a:lnTo>
                <a:lnTo>
                  <a:pt x="426" y="513"/>
                </a:lnTo>
                <a:lnTo>
                  <a:pt x="406" y="491"/>
                </a:lnTo>
                <a:lnTo>
                  <a:pt x="384" y="470"/>
                </a:lnTo>
                <a:lnTo>
                  <a:pt x="363" y="447"/>
                </a:lnTo>
                <a:lnTo>
                  <a:pt x="341" y="423"/>
                </a:lnTo>
                <a:lnTo>
                  <a:pt x="320" y="400"/>
                </a:lnTo>
                <a:lnTo>
                  <a:pt x="296" y="377"/>
                </a:lnTo>
                <a:lnTo>
                  <a:pt x="273" y="353"/>
                </a:lnTo>
                <a:lnTo>
                  <a:pt x="250" y="327"/>
                </a:lnTo>
                <a:lnTo>
                  <a:pt x="227" y="303"/>
                </a:lnTo>
                <a:lnTo>
                  <a:pt x="203" y="277"/>
                </a:lnTo>
                <a:lnTo>
                  <a:pt x="180" y="251"/>
                </a:lnTo>
                <a:lnTo>
                  <a:pt x="155" y="223"/>
                </a:lnTo>
                <a:lnTo>
                  <a:pt x="129" y="196"/>
                </a:lnTo>
                <a:lnTo>
                  <a:pt x="105" y="169"/>
                </a:lnTo>
                <a:lnTo>
                  <a:pt x="79" y="141"/>
                </a:lnTo>
                <a:lnTo>
                  <a:pt x="53" y="113"/>
                </a:lnTo>
                <a:lnTo>
                  <a:pt x="26" y="84"/>
                </a:lnTo>
                <a:lnTo>
                  <a:pt x="0" y="53"/>
                </a:lnTo>
                <a:lnTo>
                  <a:pt x="60" y="28"/>
                </a:lnTo>
                <a:lnTo>
                  <a:pt x="89" y="15"/>
                </a:lnTo>
                <a:lnTo>
                  <a:pt x="119" y="0"/>
                </a:lnTo>
                <a:lnTo>
                  <a:pt x="124" y="5"/>
                </a:lnTo>
                <a:lnTo>
                  <a:pt x="129" y="7"/>
                </a:lnTo>
                <a:lnTo>
                  <a:pt x="135" y="12"/>
                </a:lnTo>
                <a:lnTo>
                  <a:pt x="141" y="18"/>
                </a:lnTo>
                <a:lnTo>
                  <a:pt x="148" y="22"/>
                </a:lnTo>
                <a:lnTo>
                  <a:pt x="155" y="28"/>
                </a:lnTo>
                <a:lnTo>
                  <a:pt x="163" y="33"/>
                </a:lnTo>
                <a:lnTo>
                  <a:pt x="171" y="41"/>
                </a:lnTo>
                <a:lnTo>
                  <a:pt x="178" y="48"/>
                </a:lnTo>
                <a:lnTo>
                  <a:pt x="189" y="55"/>
                </a:lnTo>
                <a:lnTo>
                  <a:pt x="197" y="62"/>
                </a:lnTo>
                <a:lnTo>
                  <a:pt x="207" y="69"/>
                </a:lnTo>
                <a:lnTo>
                  <a:pt x="217" y="78"/>
                </a:lnTo>
                <a:lnTo>
                  <a:pt x="227" y="87"/>
                </a:lnTo>
                <a:lnTo>
                  <a:pt x="239" y="95"/>
                </a:lnTo>
                <a:lnTo>
                  <a:pt x="250" y="105"/>
                </a:lnTo>
                <a:lnTo>
                  <a:pt x="262" y="115"/>
                </a:lnTo>
                <a:lnTo>
                  <a:pt x="273" y="125"/>
                </a:lnTo>
                <a:lnTo>
                  <a:pt x="286" y="136"/>
                </a:lnTo>
                <a:lnTo>
                  <a:pt x="299" y="147"/>
                </a:lnTo>
                <a:lnTo>
                  <a:pt x="314" y="157"/>
                </a:lnTo>
                <a:lnTo>
                  <a:pt x="328" y="170"/>
                </a:lnTo>
                <a:lnTo>
                  <a:pt x="343" y="182"/>
                </a:lnTo>
                <a:lnTo>
                  <a:pt x="357" y="193"/>
                </a:lnTo>
                <a:lnTo>
                  <a:pt x="373" y="206"/>
                </a:lnTo>
                <a:lnTo>
                  <a:pt x="389" y="219"/>
                </a:lnTo>
                <a:lnTo>
                  <a:pt x="406" y="233"/>
                </a:lnTo>
                <a:lnTo>
                  <a:pt x="422" y="246"/>
                </a:lnTo>
                <a:lnTo>
                  <a:pt x="439" y="261"/>
                </a:lnTo>
                <a:lnTo>
                  <a:pt x="458" y="275"/>
                </a:lnTo>
                <a:lnTo>
                  <a:pt x="475" y="290"/>
                </a:lnTo>
                <a:lnTo>
                  <a:pt x="495" y="305"/>
                </a:lnTo>
                <a:lnTo>
                  <a:pt x="512" y="321"/>
                </a:lnTo>
                <a:lnTo>
                  <a:pt x="530" y="339"/>
                </a:lnTo>
                <a:lnTo>
                  <a:pt x="548" y="354"/>
                </a:lnTo>
                <a:lnTo>
                  <a:pt x="567" y="370"/>
                </a:lnTo>
                <a:lnTo>
                  <a:pt x="587" y="386"/>
                </a:lnTo>
                <a:lnTo>
                  <a:pt x="606" y="402"/>
                </a:lnTo>
                <a:lnTo>
                  <a:pt x="626" y="418"/>
                </a:lnTo>
                <a:lnTo>
                  <a:pt x="646" y="434"/>
                </a:lnTo>
                <a:lnTo>
                  <a:pt x="668" y="448"/>
                </a:lnTo>
                <a:lnTo>
                  <a:pt x="688" y="462"/>
                </a:lnTo>
                <a:lnTo>
                  <a:pt x="731" y="491"/>
                </a:lnTo>
                <a:lnTo>
                  <a:pt x="776" y="519"/>
                </a:lnTo>
                <a:lnTo>
                  <a:pt x="822" y="544"/>
                </a:lnTo>
                <a:lnTo>
                  <a:pt x="869" y="570"/>
                </a:lnTo>
                <a:lnTo>
                  <a:pt x="918" y="595"/>
                </a:lnTo>
                <a:lnTo>
                  <a:pt x="967" y="618"/>
                </a:lnTo>
                <a:lnTo>
                  <a:pt x="1018" y="639"/>
                </a:lnTo>
                <a:lnTo>
                  <a:pt x="1070" y="661"/>
                </a:lnTo>
                <a:lnTo>
                  <a:pt x="1121" y="681"/>
                </a:lnTo>
                <a:lnTo>
                  <a:pt x="1175" y="700"/>
                </a:lnTo>
                <a:lnTo>
                  <a:pt x="1229" y="71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Freeform 55"/>
          <p:cNvSpPr/>
          <p:nvPr/>
        </p:nvSpPr>
        <p:spPr>
          <a:xfrm>
            <a:off x="6637320" y="3884760"/>
            <a:ext cx="487440" cy="492120"/>
          </a:xfrm>
          <a:custGeom>
            <a:avLst/>
            <a:gdLst/>
            <a:ahLst/>
            <a:rect l="l" t="t" r="r" b="b"/>
            <a:pathLst>
              <a:path w="922" h="931">
                <a:moveTo>
                  <a:pt x="580" y="53"/>
                </a:moveTo>
                <a:lnTo>
                  <a:pt x="583" y="46"/>
                </a:lnTo>
                <a:lnTo>
                  <a:pt x="588" y="40"/>
                </a:lnTo>
                <a:lnTo>
                  <a:pt x="591" y="34"/>
                </a:lnTo>
                <a:lnTo>
                  <a:pt x="596" y="30"/>
                </a:lnTo>
                <a:lnTo>
                  <a:pt x="601" y="24"/>
                </a:lnTo>
                <a:lnTo>
                  <a:pt x="605" y="20"/>
                </a:lnTo>
                <a:lnTo>
                  <a:pt x="611" y="16"/>
                </a:lnTo>
                <a:lnTo>
                  <a:pt x="616" y="13"/>
                </a:lnTo>
                <a:lnTo>
                  <a:pt x="622" y="10"/>
                </a:lnTo>
                <a:lnTo>
                  <a:pt x="628" y="7"/>
                </a:lnTo>
                <a:lnTo>
                  <a:pt x="634" y="4"/>
                </a:lnTo>
                <a:lnTo>
                  <a:pt x="639" y="3"/>
                </a:lnTo>
                <a:lnTo>
                  <a:pt x="647" y="1"/>
                </a:lnTo>
                <a:lnTo>
                  <a:pt x="652" y="0"/>
                </a:lnTo>
                <a:lnTo>
                  <a:pt x="660" y="0"/>
                </a:lnTo>
                <a:lnTo>
                  <a:pt x="665" y="0"/>
                </a:lnTo>
                <a:lnTo>
                  <a:pt x="668" y="0"/>
                </a:lnTo>
                <a:lnTo>
                  <a:pt x="673" y="0"/>
                </a:lnTo>
                <a:lnTo>
                  <a:pt x="678" y="1"/>
                </a:lnTo>
                <a:lnTo>
                  <a:pt x="684" y="3"/>
                </a:lnTo>
                <a:lnTo>
                  <a:pt x="691" y="4"/>
                </a:lnTo>
                <a:lnTo>
                  <a:pt x="699" y="7"/>
                </a:lnTo>
                <a:lnTo>
                  <a:pt x="707" y="11"/>
                </a:lnTo>
                <a:lnTo>
                  <a:pt x="716" y="14"/>
                </a:lnTo>
                <a:lnTo>
                  <a:pt x="726" y="18"/>
                </a:lnTo>
                <a:lnTo>
                  <a:pt x="737" y="24"/>
                </a:lnTo>
                <a:lnTo>
                  <a:pt x="749" y="30"/>
                </a:lnTo>
                <a:lnTo>
                  <a:pt x="762" y="37"/>
                </a:lnTo>
                <a:lnTo>
                  <a:pt x="775" y="44"/>
                </a:lnTo>
                <a:lnTo>
                  <a:pt x="788" y="51"/>
                </a:lnTo>
                <a:lnTo>
                  <a:pt x="804" y="62"/>
                </a:lnTo>
                <a:lnTo>
                  <a:pt x="819" y="72"/>
                </a:lnTo>
                <a:lnTo>
                  <a:pt x="831" y="82"/>
                </a:lnTo>
                <a:lnTo>
                  <a:pt x="842" y="92"/>
                </a:lnTo>
                <a:lnTo>
                  <a:pt x="854" y="100"/>
                </a:lnTo>
                <a:lnTo>
                  <a:pt x="863" y="111"/>
                </a:lnTo>
                <a:lnTo>
                  <a:pt x="873" y="121"/>
                </a:lnTo>
                <a:lnTo>
                  <a:pt x="881" y="129"/>
                </a:lnTo>
                <a:lnTo>
                  <a:pt x="889" y="138"/>
                </a:lnTo>
                <a:lnTo>
                  <a:pt x="896" y="147"/>
                </a:lnTo>
                <a:lnTo>
                  <a:pt x="901" y="155"/>
                </a:lnTo>
                <a:lnTo>
                  <a:pt x="906" y="162"/>
                </a:lnTo>
                <a:lnTo>
                  <a:pt x="912" y="170"/>
                </a:lnTo>
                <a:lnTo>
                  <a:pt x="914" y="177"/>
                </a:lnTo>
                <a:lnTo>
                  <a:pt x="917" y="183"/>
                </a:lnTo>
                <a:lnTo>
                  <a:pt x="919" y="188"/>
                </a:lnTo>
                <a:lnTo>
                  <a:pt x="920" y="193"/>
                </a:lnTo>
                <a:lnTo>
                  <a:pt x="922" y="197"/>
                </a:lnTo>
                <a:lnTo>
                  <a:pt x="920" y="200"/>
                </a:lnTo>
                <a:lnTo>
                  <a:pt x="920" y="204"/>
                </a:lnTo>
                <a:lnTo>
                  <a:pt x="919" y="208"/>
                </a:lnTo>
                <a:lnTo>
                  <a:pt x="917" y="213"/>
                </a:lnTo>
                <a:lnTo>
                  <a:pt x="916" y="217"/>
                </a:lnTo>
                <a:lnTo>
                  <a:pt x="913" y="221"/>
                </a:lnTo>
                <a:lnTo>
                  <a:pt x="912" y="227"/>
                </a:lnTo>
                <a:lnTo>
                  <a:pt x="909" y="231"/>
                </a:lnTo>
                <a:lnTo>
                  <a:pt x="904" y="237"/>
                </a:lnTo>
                <a:lnTo>
                  <a:pt x="901" y="242"/>
                </a:lnTo>
                <a:lnTo>
                  <a:pt x="897" y="247"/>
                </a:lnTo>
                <a:lnTo>
                  <a:pt x="891" y="252"/>
                </a:lnTo>
                <a:lnTo>
                  <a:pt x="887" y="256"/>
                </a:lnTo>
                <a:lnTo>
                  <a:pt x="881" y="260"/>
                </a:lnTo>
                <a:lnTo>
                  <a:pt x="876" y="265"/>
                </a:lnTo>
                <a:lnTo>
                  <a:pt x="870" y="267"/>
                </a:lnTo>
                <a:lnTo>
                  <a:pt x="867" y="270"/>
                </a:lnTo>
                <a:lnTo>
                  <a:pt x="863" y="273"/>
                </a:lnTo>
                <a:lnTo>
                  <a:pt x="858" y="279"/>
                </a:lnTo>
                <a:lnTo>
                  <a:pt x="854" y="285"/>
                </a:lnTo>
                <a:lnTo>
                  <a:pt x="850" y="292"/>
                </a:lnTo>
                <a:lnTo>
                  <a:pt x="845" y="301"/>
                </a:lnTo>
                <a:lnTo>
                  <a:pt x="840" y="311"/>
                </a:lnTo>
                <a:lnTo>
                  <a:pt x="835" y="321"/>
                </a:lnTo>
                <a:lnTo>
                  <a:pt x="830" y="334"/>
                </a:lnTo>
                <a:lnTo>
                  <a:pt x="824" y="347"/>
                </a:lnTo>
                <a:lnTo>
                  <a:pt x="817" y="361"/>
                </a:lnTo>
                <a:lnTo>
                  <a:pt x="811" y="377"/>
                </a:lnTo>
                <a:lnTo>
                  <a:pt x="804" y="394"/>
                </a:lnTo>
                <a:lnTo>
                  <a:pt x="796" y="411"/>
                </a:lnTo>
                <a:lnTo>
                  <a:pt x="789" y="432"/>
                </a:lnTo>
                <a:lnTo>
                  <a:pt x="782" y="452"/>
                </a:lnTo>
                <a:lnTo>
                  <a:pt x="773" y="473"/>
                </a:lnTo>
                <a:lnTo>
                  <a:pt x="766" y="495"/>
                </a:lnTo>
                <a:lnTo>
                  <a:pt x="758" y="519"/>
                </a:lnTo>
                <a:lnTo>
                  <a:pt x="749" y="544"/>
                </a:lnTo>
                <a:lnTo>
                  <a:pt x="740" y="570"/>
                </a:lnTo>
                <a:lnTo>
                  <a:pt x="732" y="597"/>
                </a:lnTo>
                <a:lnTo>
                  <a:pt x="723" y="626"/>
                </a:lnTo>
                <a:lnTo>
                  <a:pt x="713" y="656"/>
                </a:lnTo>
                <a:lnTo>
                  <a:pt x="703" y="686"/>
                </a:lnTo>
                <a:lnTo>
                  <a:pt x="694" y="718"/>
                </a:lnTo>
                <a:lnTo>
                  <a:pt x="684" y="751"/>
                </a:lnTo>
                <a:lnTo>
                  <a:pt x="674" y="784"/>
                </a:lnTo>
                <a:lnTo>
                  <a:pt x="663" y="819"/>
                </a:lnTo>
                <a:lnTo>
                  <a:pt x="652" y="855"/>
                </a:lnTo>
                <a:lnTo>
                  <a:pt x="642" y="892"/>
                </a:lnTo>
                <a:lnTo>
                  <a:pt x="631" y="931"/>
                </a:lnTo>
                <a:lnTo>
                  <a:pt x="461" y="931"/>
                </a:lnTo>
                <a:lnTo>
                  <a:pt x="468" y="901"/>
                </a:lnTo>
                <a:lnTo>
                  <a:pt x="475" y="871"/>
                </a:lnTo>
                <a:lnTo>
                  <a:pt x="483" y="843"/>
                </a:lnTo>
                <a:lnTo>
                  <a:pt x="490" y="815"/>
                </a:lnTo>
                <a:lnTo>
                  <a:pt x="497" y="789"/>
                </a:lnTo>
                <a:lnTo>
                  <a:pt x="504" y="763"/>
                </a:lnTo>
                <a:lnTo>
                  <a:pt x="511" y="737"/>
                </a:lnTo>
                <a:lnTo>
                  <a:pt x="517" y="712"/>
                </a:lnTo>
                <a:lnTo>
                  <a:pt x="523" y="688"/>
                </a:lnTo>
                <a:lnTo>
                  <a:pt x="529" y="665"/>
                </a:lnTo>
                <a:lnTo>
                  <a:pt x="534" y="642"/>
                </a:lnTo>
                <a:lnTo>
                  <a:pt x="540" y="620"/>
                </a:lnTo>
                <a:lnTo>
                  <a:pt x="546" y="599"/>
                </a:lnTo>
                <a:lnTo>
                  <a:pt x="550" y="578"/>
                </a:lnTo>
                <a:lnTo>
                  <a:pt x="556" y="560"/>
                </a:lnTo>
                <a:lnTo>
                  <a:pt x="560" y="541"/>
                </a:lnTo>
                <a:lnTo>
                  <a:pt x="565" y="522"/>
                </a:lnTo>
                <a:lnTo>
                  <a:pt x="569" y="505"/>
                </a:lnTo>
                <a:lnTo>
                  <a:pt x="572" y="488"/>
                </a:lnTo>
                <a:lnTo>
                  <a:pt x="576" y="472"/>
                </a:lnTo>
                <a:lnTo>
                  <a:pt x="579" y="457"/>
                </a:lnTo>
                <a:lnTo>
                  <a:pt x="582" y="443"/>
                </a:lnTo>
                <a:lnTo>
                  <a:pt x="585" y="429"/>
                </a:lnTo>
                <a:lnTo>
                  <a:pt x="588" y="416"/>
                </a:lnTo>
                <a:lnTo>
                  <a:pt x="589" y="404"/>
                </a:lnTo>
                <a:lnTo>
                  <a:pt x="592" y="393"/>
                </a:lnTo>
                <a:lnTo>
                  <a:pt x="593" y="383"/>
                </a:lnTo>
                <a:lnTo>
                  <a:pt x="595" y="373"/>
                </a:lnTo>
                <a:lnTo>
                  <a:pt x="596" y="362"/>
                </a:lnTo>
                <a:lnTo>
                  <a:pt x="596" y="354"/>
                </a:lnTo>
                <a:lnTo>
                  <a:pt x="596" y="347"/>
                </a:lnTo>
                <a:lnTo>
                  <a:pt x="598" y="339"/>
                </a:lnTo>
                <a:lnTo>
                  <a:pt x="598" y="329"/>
                </a:lnTo>
                <a:lnTo>
                  <a:pt x="596" y="321"/>
                </a:lnTo>
                <a:lnTo>
                  <a:pt x="596" y="311"/>
                </a:lnTo>
                <a:lnTo>
                  <a:pt x="596" y="302"/>
                </a:lnTo>
                <a:lnTo>
                  <a:pt x="596" y="295"/>
                </a:lnTo>
                <a:lnTo>
                  <a:pt x="596" y="286"/>
                </a:lnTo>
                <a:lnTo>
                  <a:pt x="596" y="279"/>
                </a:lnTo>
                <a:lnTo>
                  <a:pt x="595" y="272"/>
                </a:lnTo>
                <a:lnTo>
                  <a:pt x="593" y="266"/>
                </a:lnTo>
                <a:lnTo>
                  <a:pt x="593" y="260"/>
                </a:lnTo>
                <a:lnTo>
                  <a:pt x="592" y="254"/>
                </a:lnTo>
                <a:lnTo>
                  <a:pt x="589" y="249"/>
                </a:lnTo>
                <a:lnTo>
                  <a:pt x="588" y="244"/>
                </a:lnTo>
                <a:lnTo>
                  <a:pt x="585" y="239"/>
                </a:lnTo>
                <a:lnTo>
                  <a:pt x="583" y="236"/>
                </a:lnTo>
                <a:lnTo>
                  <a:pt x="580" y="231"/>
                </a:lnTo>
                <a:lnTo>
                  <a:pt x="576" y="229"/>
                </a:lnTo>
                <a:lnTo>
                  <a:pt x="572" y="226"/>
                </a:lnTo>
                <a:lnTo>
                  <a:pt x="565" y="226"/>
                </a:lnTo>
                <a:lnTo>
                  <a:pt x="557" y="224"/>
                </a:lnTo>
                <a:lnTo>
                  <a:pt x="549" y="224"/>
                </a:lnTo>
                <a:lnTo>
                  <a:pt x="539" y="226"/>
                </a:lnTo>
                <a:lnTo>
                  <a:pt x="529" y="227"/>
                </a:lnTo>
                <a:lnTo>
                  <a:pt x="516" y="229"/>
                </a:lnTo>
                <a:lnTo>
                  <a:pt x="503" y="231"/>
                </a:lnTo>
                <a:lnTo>
                  <a:pt x="488" y="236"/>
                </a:lnTo>
                <a:lnTo>
                  <a:pt x="472" y="240"/>
                </a:lnTo>
                <a:lnTo>
                  <a:pt x="455" y="244"/>
                </a:lnTo>
                <a:lnTo>
                  <a:pt x="437" y="249"/>
                </a:lnTo>
                <a:lnTo>
                  <a:pt x="418" y="254"/>
                </a:lnTo>
                <a:lnTo>
                  <a:pt x="398" y="260"/>
                </a:lnTo>
                <a:lnTo>
                  <a:pt x="376" y="267"/>
                </a:lnTo>
                <a:lnTo>
                  <a:pt x="353" y="275"/>
                </a:lnTo>
                <a:lnTo>
                  <a:pt x="333" y="280"/>
                </a:lnTo>
                <a:lnTo>
                  <a:pt x="314" y="286"/>
                </a:lnTo>
                <a:lnTo>
                  <a:pt x="295" y="290"/>
                </a:lnTo>
                <a:lnTo>
                  <a:pt x="278" y="296"/>
                </a:lnTo>
                <a:lnTo>
                  <a:pt x="262" y="299"/>
                </a:lnTo>
                <a:lnTo>
                  <a:pt x="246" y="303"/>
                </a:lnTo>
                <a:lnTo>
                  <a:pt x="232" y="306"/>
                </a:lnTo>
                <a:lnTo>
                  <a:pt x="219" y="308"/>
                </a:lnTo>
                <a:lnTo>
                  <a:pt x="208" y="309"/>
                </a:lnTo>
                <a:lnTo>
                  <a:pt x="196" y="311"/>
                </a:lnTo>
                <a:lnTo>
                  <a:pt x="186" y="311"/>
                </a:lnTo>
                <a:lnTo>
                  <a:pt x="176" y="311"/>
                </a:lnTo>
                <a:lnTo>
                  <a:pt x="167" y="309"/>
                </a:lnTo>
                <a:lnTo>
                  <a:pt x="160" y="306"/>
                </a:lnTo>
                <a:lnTo>
                  <a:pt x="154" y="303"/>
                </a:lnTo>
                <a:lnTo>
                  <a:pt x="144" y="303"/>
                </a:lnTo>
                <a:lnTo>
                  <a:pt x="134" y="302"/>
                </a:lnTo>
                <a:lnTo>
                  <a:pt x="126" y="301"/>
                </a:lnTo>
                <a:lnTo>
                  <a:pt x="115" y="298"/>
                </a:lnTo>
                <a:lnTo>
                  <a:pt x="105" y="293"/>
                </a:lnTo>
                <a:lnTo>
                  <a:pt x="95" y="289"/>
                </a:lnTo>
                <a:lnTo>
                  <a:pt x="87" y="285"/>
                </a:lnTo>
                <a:lnTo>
                  <a:pt x="77" y="279"/>
                </a:lnTo>
                <a:lnTo>
                  <a:pt x="67" y="273"/>
                </a:lnTo>
                <a:lnTo>
                  <a:pt x="58" y="266"/>
                </a:lnTo>
                <a:lnTo>
                  <a:pt x="48" y="259"/>
                </a:lnTo>
                <a:lnTo>
                  <a:pt x="38" y="252"/>
                </a:lnTo>
                <a:lnTo>
                  <a:pt x="29" y="243"/>
                </a:lnTo>
                <a:lnTo>
                  <a:pt x="19" y="233"/>
                </a:lnTo>
                <a:lnTo>
                  <a:pt x="9" y="224"/>
                </a:lnTo>
                <a:lnTo>
                  <a:pt x="0" y="214"/>
                </a:lnTo>
                <a:lnTo>
                  <a:pt x="33" y="206"/>
                </a:lnTo>
                <a:lnTo>
                  <a:pt x="65" y="197"/>
                </a:lnTo>
                <a:lnTo>
                  <a:pt x="97" y="190"/>
                </a:lnTo>
                <a:lnTo>
                  <a:pt x="127" y="181"/>
                </a:lnTo>
                <a:lnTo>
                  <a:pt x="156" y="174"/>
                </a:lnTo>
                <a:lnTo>
                  <a:pt x="185" y="167"/>
                </a:lnTo>
                <a:lnTo>
                  <a:pt x="212" y="159"/>
                </a:lnTo>
                <a:lnTo>
                  <a:pt x="239" y="152"/>
                </a:lnTo>
                <a:lnTo>
                  <a:pt x="265" y="147"/>
                </a:lnTo>
                <a:lnTo>
                  <a:pt x="290" y="139"/>
                </a:lnTo>
                <a:lnTo>
                  <a:pt x="313" y="134"/>
                </a:lnTo>
                <a:lnTo>
                  <a:pt x="336" y="128"/>
                </a:lnTo>
                <a:lnTo>
                  <a:pt x="357" y="122"/>
                </a:lnTo>
                <a:lnTo>
                  <a:pt x="379" y="116"/>
                </a:lnTo>
                <a:lnTo>
                  <a:pt x="399" y="111"/>
                </a:lnTo>
                <a:lnTo>
                  <a:pt x="418" y="106"/>
                </a:lnTo>
                <a:lnTo>
                  <a:pt x="435" y="102"/>
                </a:lnTo>
                <a:lnTo>
                  <a:pt x="452" y="96"/>
                </a:lnTo>
                <a:lnTo>
                  <a:pt x="468" y="92"/>
                </a:lnTo>
                <a:lnTo>
                  <a:pt x="483" y="87"/>
                </a:lnTo>
                <a:lnTo>
                  <a:pt x="497" y="83"/>
                </a:lnTo>
                <a:lnTo>
                  <a:pt x="510" y="80"/>
                </a:lnTo>
                <a:lnTo>
                  <a:pt x="521" y="76"/>
                </a:lnTo>
                <a:lnTo>
                  <a:pt x="533" y="73"/>
                </a:lnTo>
                <a:lnTo>
                  <a:pt x="542" y="70"/>
                </a:lnTo>
                <a:lnTo>
                  <a:pt x="550" y="67"/>
                </a:lnTo>
                <a:lnTo>
                  <a:pt x="559" y="64"/>
                </a:lnTo>
                <a:lnTo>
                  <a:pt x="565" y="62"/>
                </a:lnTo>
                <a:lnTo>
                  <a:pt x="570" y="59"/>
                </a:lnTo>
                <a:lnTo>
                  <a:pt x="575" y="57"/>
                </a:lnTo>
                <a:lnTo>
                  <a:pt x="578" y="54"/>
                </a:lnTo>
                <a:lnTo>
                  <a:pt x="580" y="5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Freeform 56"/>
          <p:cNvSpPr/>
          <p:nvPr/>
        </p:nvSpPr>
        <p:spPr>
          <a:xfrm>
            <a:off x="6540480" y="4102200"/>
            <a:ext cx="909720" cy="1008000"/>
          </a:xfrm>
          <a:custGeom>
            <a:avLst/>
            <a:gdLst/>
            <a:ahLst/>
            <a:rect l="l" t="t" r="r" b="b"/>
            <a:pathLst>
              <a:path w="1717" h="1905">
                <a:moveTo>
                  <a:pt x="1051" y="1899"/>
                </a:moveTo>
                <a:lnTo>
                  <a:pt x="1045" y="1895"/>
                </a:lnTo>
                <a:lnTo>
                  <a:pt x="1039" y="1891"/>
                </a:lnTo>
                <a:lnTo>
                  <a:pt x="1034" y="1886"/>
                </a:lnTo>
                <a:lnTo>
                  <a:pt x="1029" y="1881"/>
                </a:lnTo>
                <a:lnTo>
                  <a:pt x="1025" y="1876"/>
                </a:lnTo>
                <a:lnTo>
                  <a:pt x="1021" y="1869"/>
                </a:lnTo>
                <a:lnTo>
                  <a:pt x="1018" y="1863"/>
                </a:lnTo>
                <a:lnTo>
                  <a:pt x="1015" y="1856"/>
                </a:lnTo>
                <a:lnTo>
                  <a:pt x="1013" y="1847"/>
                </a:lnTo>
                <a:lnTo>
                  <a:pt x="1012" y="1839"/>
                </a:lnTo>
                <a:lnTo>
                  <a:pt x="1011" y="1830"/>
                </a:lnTo>
                <a:lnTo>
                  <a:pt x="1011" y="1820"/>
                </a:lnTo>
                <a:lnTo>
                  <a:pt x="1011" y="1810"/>
                </a:lnTo>
                <a:lnTo>
                  <a:pt x="1012" y="1799"/>
                </a:lnTo>
                <a:lnTo>
                  <a:pt x="1015" y="1786"/>
                </a:lnTo>
                <a:lnTo>
                  <a:pt x="1018" y="1773"/>
                </a:lnTo>
                <a:lnTo>
                  <a:pt x="1016" y="1757"/>
                </a:lnTo>
                <a:lnTo>
                  <a:pt x="1015" y="1739"/>
                </a:lnTo>
                <a:lnTo>
                  <a:pt x="1012" y="1724"/>
                </a:lnTo>
                <a:lnTo>
                  <a:pt x="1008" y="1709"/>
                </a:lnTo>
                <a:lnTo>
                  <a:pt x="1002" y="1693"/>
                </a:lnTo>
                <a:lnTo>
                  <a:pt x="996" y="1679"/>
                </a:lnTo>
                <a:lnTo>
                  <a:pt x="989" y="1665"/>
                </a:lnTo>
                <a:lnTo>
                  <a:pt x="980" y="1650"/>
                </a:lnTo>
                <a:lnTo>
                  <a:pt x="972" y="1636"/>
                </a:lnTo>
                <a:lnTo>
                  <a:pt x="962" y="1621"/>
                </a:lnTo>
                <a:lnTo>
                  <a:pt x="950" y="1608"/>
                </a:lnTo>
                <a:lnTo>
                  <a:pt x="937" y="1594"/>
                </a:lnTo>
                <a:lnTo>
                  <a:pt x="924" y="1581"/>
                </a:lnTo>
                <a:lnTo>
                  <a:pt x="911" y="1567"/>
                </a:lnTo>
                <a:lnTo>
                  <a:pt x="895" y="1554"/>
                </a:lnTo>
                <a:lnTo>
                  <a:pt x="881" y="1541"/>
                </a:lnTo>
                <a:lnTo>
                  <a:pt x="862" y="1526"/>
                </a:lnTo>
                <a:lnTo>
                  <a:pt x="845" y="1513"/>
                </a:lnTo>
                <a:lnTo>
                  <a:pt x="829" y="1502"/>
                </a:lnTo>
                <a:lnTo>
                  <a:pt x="813" y="1489"/>
                </a:lnTo>
                <a:lnTo>
                  <a:pt x="800" y="1479"/>
                </a:lnTo>
                <a:lnTo>
                  <a:pt x="787" y="1467"/>
                </a:lnTo>
                <a:lnTo>
                  <a:pt x="777" y="1457"/>
                </a:lnTo>
                <a:lnTo>
                  <a:pt x="767" y="1449"/>
                </a:lnTo>
                <a:lnTo>
                  <a:pt x="760" y="1439"/>
                </a:lnTo>
                <a:lnTo>
                  <a:pt x="756" y="1434"/>
                </a:lnTo>
                <a:lnTo>
                  <a:pt x="753" y="1431"/>
                </a:lnTo>
                <a:lnTo>
                  <a:pt x="750" y="1427"/>
                </a:lnTo>
                <a:lnTo>
                  <a:pt x="747" y="1423"/>
                </a:lnTo>
                <a:lnTo>
                  <a:pt x="746" y="1420"/>
                </a:lnTo>
                <a:lnTo>
                  <a:pt x="744" y="1417"/>
                </a:lnTo>
                <a:lnTo>
                  <a:pt x="743" y="1414"/>
                </a:lnTo>
                <a:lnTo>
                  <a:pt x="741" y="1411"/>
                </a:lnTo>
                <a:lnTo>
                  <a:pt x="741" y="1408"/>
                </a:lnTo>
                <a:lnTo>
                  <a:pt x="741" y="1405"/>
                </a:lnTo>
                <a:lnTo>
                  <a:pt x="741" y="1403"/>
                </a:lnTo>
                <a:lnTo>
                  <a:pt x="741" y="1401"/>
                </a:lnTo>
                <a:lnTo>
                  <a:pt x="743" y="1398"/>
                </a:lnTo>
                <a:lnTo>
                  <a:pt x="744" y="1397"/>
                </a:lnTo>
                <a:lnTo>
                  <a:pt x="749" y="1394"/>
                </a:lnTo>
                <a:lnTo>
                  <a:pt x="753" y="1391"/>
                </a:lnTo>
                <a:lnTo>
                  <a:pt x="759" y="1391"/>
                </a:lnTo>
                <a:lnTo>
                  <a:pt x="766" y="1390"/>
                </a:lnTo>
                <a:lnTo>
                  <a:pt x="774" y="1390"/>
                </a:lnTo>
                <a:lnTo>
                  <a:pt x="784" y="1391"/>
                </a:lnTo>
                <a:lnTo>
                  <a:pt x="796" y="1393"/>
                </a:lnTo>
                <a:lnTo>
                  <a:pt x="808" y="1394"/>
                </a:lnTo>
                <a:lnTo>
                  <a:pt x="822" y="1397"/>
                </a:lnTo>
                <a:lnTo>
                  <a:pt x="836" y="1401"/>
                </a:lnTo>
                <a:lnTo>
                  <a:pt x="852" y="1404"/>
                </a:lnTo>
                <a:lnTo>
                  <a:pt x="868" y="1410"/>
                </a:lnTo>
                <a:lnTo>
                  <a:pt x="887" y="1414"/>
                </a:lnTo>
                <a:lnTo>
                  <a:pt x="907" y="1420"/>
                </a:lnTo>
                <a:lnTo>
                  <a:pt x="927" y="1426"/>
                </a:lnTo>
                <a:lnTo>
                  <a:pt x="949" y="1433"/>
                </a:lnTo>
                <a:lnTo>
                  <a:pt x="970" y="1439"/>
                </a:lnTo>
                <a:lnTo>
                  <a:pt x="992" y="1444"/>
                </a:lnTo>
                <a:lnTo>
                  <a:pt x="1012" y="1450"/>
                </a:lnTo>
                <a:lnTo>
                  <a:pt x="1031" y="1453"/>
                </a:lnTo>
                <a:lnTo>
                  <a:pt x="1049" y="1457"/>
                </a:lnTo>
                <a:lnTo>
                  <a:pt x="1067" y="1459"/>
                </a:lnTo>
                <a:lnTo>
                  <a:pt x="1082" y="1462"/>
                </a:lnTo>
                <a:lnTo>
                  <a:pt x="1098" y="1462"/>
                </a:lnTo>
                <a:lnTo>
                  <a:pt x="1111" y="1463"/>
                </a:lnTo>
                <a:lnTo>
                  <a:pt x="1124" y="1463"/>
                </a:lnTo>
                <a:lnTo>
                  <a:pt x="1136" y="1462"/>
                </a:lnTo>
                <a:lnTo>
                  <a:pt x="1146" y="1460"/>
                </a:lnTo>
                <a:lnTo>
                  <a:pt x="1150" y="1460"/>
                </a:lnTo>
                <a:lnTo>
                  <a:pt x="1154" y="1459"/>
                </a:lnTo>
                <a:lnTo>
                  <a:pt x="1157" y="1457"/>
                </a:lnTo>
                <a:lnTo>
                  <a:pt x="1162" y="1457"/>
                </a:lnTo>
                <a:lnTo>
                  <a:pt x="1165" y="1456"/>
                </a:lnTo>
                <a:lnTo>
                  <a:pt x="1166" y="1454"/>
                </a:lnTo>
                <a:lnTo>
                  <a:pt x="1169" y="1453"/>
                </a:lnTo>
                <a:lnTo>
                  <a:pt x="1170" y="1452"/>
                </a:lnTo>
                <a:lnTo>
                  <a:pt x="1173" y="1447"/>
                </a:lnTo>
                <a:lnTo>
                  <a:pt x="1178" y="1441"/>
                </a:lnTo>
                <a:lnTo>
                  <a:pt x="1182" y="1434"/>
                </a:lnTo>
                <a:lnTo>
                  <a:pt x="1186" y="1427"/>
                </a:lnTo>
                <a:lnTo>
                  <a:pt x="1192" y="1418"/>
                </a:lnTo>
                <a:lnTo>
                  <a:pt x="1198" y="1408"/>
                </a:lnTo>
                <a:lnTo>
                  <a:pt x="1203" y="1398"/>
                </a:lnTo>
                <a:lnTo>
                  <a:pt x="1209" y="1385"/>
                </a:lnTo>
                <a:lnTo>
                  <a:pt x="1215" y="1372"/>
                </a:lnTo>
                <a:lnTo>
                  <a:pt x="1222" y="1358"/>
                </a:lnTo>
                <a:lnTo>
                  <a:pt x="1229" y="1344"/>
                </a:lnTo>
                <a:lnTo>
                  <a:pt x="1238" y="1328"/>
                </a:lnTo>
                <a:lnTo>
                  <a:pt x="1247" y="1310"/>
                </a:lnTo>
                <a:lnTo>
                  <a:pt x="1254" y="1292"/>
                </a:lnTo>
                <a:lnTo>
                  <a:pt x="1264" y="1273"/>
                </a:lnTo>
                <a:lnTo>
                  <a:pt x="1273" y="1254"/>
                </a:lnTo>
                <a:lnTo>
                  <a:pt x="1278" y="1237"/>
                </a:lnTo>
                <a:lnTo>
                  <a:pt x="1285" y="1218"/>
                </a:lnTo>
                <a:lnTo>
                  <a:pt x="1291" y="1200"/>
                </a:lnTo>
                <a:lnTo>
                  <a:pt x="1298" y="1179"/>
                </a:lnTo>
                <a:lnTo>
                  <a:pt x="1304" y="1159"/>
                </a:lnTo>
                <a:lnTo>
                  <a:pt x="1310" y="1138"/>
                </a:lnTo>
                <a:lnTo>
                  <a:pt x="1316" y="1115"/>
                </a:lnTo>
                <a:lnTo>
                  <a:pt x="1321" y="1092"/>
                </a:lnTo>
                <a:lnTo>
                  <a:pt x="1327" y="1069"/>
                </a:lnTo>
                <a:lnTo>
                  <a:pt x="1333" y="1044"/>
                </a:lnTo>
                <a:lnTo>
                  <a:pt x="1337" y="1018"/>
                </a:lnTo>
                <a:lnTo>
                  <a:pt x="1343" y="991"/>
                </a:lnTo>
                <a:lnTo>
                  <a:pt x="1347" y="964"/>
                </a:lnTo>
                <a:lnTo>
                  <a:pt x="1352" y="936"/>
                </a:lnTo>
                <a:lnTo>
                  <a:pt x="1355" y="907"/>
                </a:lnTo>
                <a:lnTo>
                  <a:pt x="1359" y="877"/>
                </a:lnTo>
                <a:lnTo>
                  <a:pt x="1360" y="863"/>
                </a:lnTo>
                <a:lnTo>
                  <a:pt x="1360" y="848"/>
                </a:lnTo>
                <a:lnTo>
                  <a:pt x="1362" y="834"/>
                </a:lnTo>
                <a:lnTo>
                  <a:pt x="1363" y="820"/>
                </a:lnTo>
                <a:lnTo>
                  <a:pt x="1363" y="807"/>
                </a:lnTo>
                <a:lnTo>
                  <a:pt x="1365" y="794"/>
                </a:lnTo>
                <a:lnTo>
                  <a:pt x="1365" y="782"/>
                </a:lnTo>
                <a:lnTo>
                  <a:pt x="1365" y="769"/>
                </a:lnTo>
                <a:lnTo>
                  <a:pt x="1365" y="758"/>
                </a:lnTo>
                <a:lnTo>
                  <a:pt x="1365" y="746"/>
                </a:lnTo>
                <a:lnTo>
                  <a:pt x="1365" y="736"/>
                </a:lnTo>
                <a:lnTo>
                  <a:pt x="1365" y="725"/>
                </a:lnTo>
                <a:lnTo>
                  <a:pt x="1365" y="714"/>
                </a:lnTo>
                <a:lnTo>
                  <a:pt x="1363" y="706"/>
                </a:lnTo>
                <a:lnTo>
                  <a:pt x="1363" y="696"/>
                </a:lnTo>
                <a:lnTo>
                  <a:pt x="1362" y="687"/>
                </a:lnTo>
                <a:lnTo>
                  <a:pt x="1362" y="678"/>
                </a:lnTo>
                <a:lnTo>
                  <a:pt x="1360" y="670"/>
                </a:lnTo>
                <a:lnTo>
                  <a:pt x="1359" y="663"/>
                </a:lnTo>
                <a:lnTo>
                  <a:pt x="1357" y="654"/>
                </a:lnTo>
                <a:lnTo>
                  <a:pt x="1356" y="641"/>
                </a:lnTo>
                <a:lnTo>
                  <a:pt x="1353" y="628"/>
                </a:lnTo>
                <a:lnTo>
                  <a:pt x="1350" y="617"/>
                </a:lnTo>
                <a:lnTo>
                  <a:pt x="1347" y="606"/>
                </a:lnTo>
                <a:lnTo>
                  <a:pt x="1345" y="598"/>
                </a:lnTo>
                <a:lnTo>
                  <a:pt x="1342" y="591"/>
                </a:lnTo>
                <a:lnTo>
                  <a:pt x="1337" y="583"/>
                </a:lnTo>
                <a:lnTo>
                  <a:pt x="1333" y="578"/>
                </a:lnTo>
                <a:lnTo>
                  <a:pt x="1329" y="572"/>
                </a:lnTo>
                <a:lnTo>
                  <a:pt x="1323" y="568"/>
                </a:lnTo>
                <a:lnTo>
                  <a:pt x="1316" y="562"/>
                </a:lnTo>
                <a:lnTo>
                  <a:pt x="1310" y="558"/>
                </a:lnTo>
                <a:lnTo>
                  <a:pt x="1301" y="555"/>
                </a:lnTo>
                <a:lnTo>
                  <a:pt x="1294" y="550"/>
                </a:lnTo>
                <a:lnTo>
                  <a:pt x="1285" y="547"/>
                </a:lnTo>
                <a:lnTo>
                  <a:pt x="1277" y="545"/>
                </a:lnTo>
                <a:lnTo>
                  <a:pt x="1268" y="543"/>
                </a:lnTo>
                <a:lnTo>
                  <a:pt x="1260" y="540"/>
                </a:lnTo>
                <a:lnTo>
                  <a:pt x="1249" y="539"/>
                </a:lnTo>
                <a:lnTo>
                  <a:pt x="1241" y="539"/>
                </a:lnTo>
                <a:lnTo>
                  <a:pt x="1231" y="537"/>
                </a:lnTo>
                <a:lnTo>
                  <a:pt x="1222" y="537"/>
                </a:lnTo>
                <a:lnTo>
                  <a:pt x="1212" y="537"/>
                </a:lnTo>
                <a:lnTo>
                  <a:pt x="1201" y="537"/>
                </a:lnTo>
                <a:lnTo>
                  <a:pt x="1189" y="537"/>
                </a:lnTo>
                <a:lnTo>
                  <a:pt x="1178" y="537"/>
                </a:lnTo>
                <a:lnTo>
                  <a:pt x="1165" y="537"/>
                </a:lnTo>
                <a:lnTo>
                  <a:pt x="1150" y="539"/>
                </a:lnTo>
                <a:lnTo>
                  <a:pt x="1136" y="539"/>
                </a:lnTo>
                <a:lnTo>
                  <a:pt x="1121" y="539"/>
                </a:lnTo>
                <a:lnTo>
                  <a:pt x="1106" y="540"/>
                </a:lnTo>
                <a:lnTo>
                  <a:pt x="1090" y="542"/>
                </a:lnTo>
                <a:lnTo>
                  <a:pt x="1074" y="543"/>
                </a:lnTo>
                <a:lnTo>
                  <a:pt x="1057" y="545"/>
                </a:lnTo>
                <a:lnTo>
                  <a:pt x="1038" y="547"/>
                </a:lnTo>
                <a:lnTo>
                  <a:pt x="1021" y="549"/>
                </a:lnTo>
                <a:lnTo>
                  <a:pt x="1002" y="552"/>
                </a:lnTo>
                <a:lnTo>
                  <a:pt x="983" y="556"/>
                </a:lnTo>
                <a:lnTo>
                  <a:pt x="960" y="559"/>
                </a:lnTo>
                <a:lnTo>
                  <a:pt x="937" y="562"/>
                </a:lnTo>
                <a:lnTo>
                  <a:pt x="914" y="566"/>
                </a:lnTo>
                <a:lnTo>
                  <a:pt x="890" y="569"/>
                </a:lnTo>
                <a:lnTo>
                  <a:pt x="865" y="572"/>
                </a:lnTo>
                <a:lnTo>
                  <a:pt x="839" y="576"/>
                </a:lnTo>
                <a:lnTo>
                  <a:pt x="813" y="581"/>
                </a:lnTo>
                <a:lnTo>
                  <a:pt x="787" y="583"/>
                </a:lnTo>
                <a:lnTo>
                  <a:pt x="759" y="588"/>
                </a:lnTo>
                <a:lnTo>
                  <a:pt x="731" y="592"/>
                </a:lnTo>
                <a:lnTo>
                  <a:pt x="701" y="598"/>
                </a:lnTo>
                <a:lnTo>
                  <a:pt x="671" y="602"/>
                </a:lnTo>
                <a:lnTo>
                  <a:pt x="639" y="608"/>
                </a:lnTo>
                <a:lnTo>
                  <a:pt x="607" y="614"/>
                </a:lnTo>
                <a:lnTo>
                  <a:pt x="574" y="619"/>
                </a:lnTo>
                <a:lnTo>
                  <a:pt x="540" y="627"/>
                </a:lnTo>
                <a:lnTo>
                  <a:pt x="522" y="632"/>
                </a:lnTo>
                <a:lnTo>
                  <a:pt x="505" y="637"/>
                </a:lnTo>
                <a:lnTo>
                  <a:pt x="488" y="641"/>
                </a:lnTo>
                <a:lnTo>
                  <a:pt x="472" y="647"/>
                </a:lnTo>
                <a:lnTo>
                  <a:pt x="458" y="651"/>
                </a:lnTo>
                <a:lnTo>
                  <a:pt x="442" y="655"/>
                </a:lnTo>
                <a:lnTo>
                  <a:pt x="427" y="660"/>
                </a:lnTo>
                <a:lnTo>
                  <a:pt x="415" y="664"/>
                </a:lnTo>
                <a:lnTo>
                  <a:pt x="400" y="668"/>
                </a:lnTo>
                <a:lnTo>
                  <a:pt x="387" y="673"/>
                </a:lnTo>
                <a:lnTo>
                  <a:pt x="374" y="676"/>
                </a:lnTo>
                <a:lnTo>
                  <a:pt x="363" y="680"/>
                </a:lnTo>
                <a:lnTo>
                  <a:pt x="351" y="684"/>
                </a:lnTo>
                <a:lnTo>
                  <a:pt x="340" y="687"/>
                </a:lnTo>
                <a:lnTo>
                  <a:pt x="328" y="690"/>
                </a:lnTo>
                <a:lnTo>
                  <a:pt x="318" y="694"/>
                </a:lnTo>
                <a:lnTo>
                  <a:pt x="307" y="697"/>
                </a:lnTo>
                <a:lnTo>
                  <a:pt x="298" y="700"/>
                </a:lnTo>
                <a:lnTo>
                  <a:pt x="288" y="703"/>
                </a:lnTo>
                <a:lnTo>
                  <a:pt x="279" y="706"/>
                </a:lnTo>
                <a:lnTo>
                  <a:pt x="271" y="709"/>
                </a:lnTo>
                <a:lnTo>
                  <a:pt x="262" y="712"/>
                </a:lnTo>
                <a:lnTo>
                  <a:pt x="255" y="714"/>
                </a:lnTo>
                <a:lnTo>
                  <a:pt x="246" y="717"/>
                </a:lnTo>
                <a:lnTo>
                  <a:pt x="232" y="722"/>
                </a:lnTo>
                <a:lnTo>
                  <a:pt x="220" y="726"/>
                </a:lnTo>
                <a:lnTo>
                  <a:pt x="209" y="730"/>
                </a:lnTo>
                <a:lnTo>
                  <a:pt x="199" y="735"/>
                </a:lnTo>
                <a:lnTo>
                  <a:pt x="189" y="740"/>
                </a:lnTo>
                <a:lnTo>
                  <a:pt x="178" y="746"/>
                </a:lnTo>
                <a:lnTo>
                  <a:pt x="170" y="752"/>
                </a:lnTo>
                <a:lnTo>
                  <a:pt x="160" y="758"/>
                </a:lnTo>
                <a:lnTo>
                  <a:pt x="151" y="762"/>
                </a:lnTo>
                <a:lnTo>
                  <a:pt x="142" y="766"/>
                </a:lnTo>
                <a:lnTo>
                  <a:pt x="134" y="769"/>
                </a:lnTo>
                <a:lnTo>
                  <a:pt x="125" y="772"/>
                </a:lnTo>
                <a:lnTo>
                  <a:pt x="118" y="775"/>
                </a:lnTo>
                <a:lnTo>
                  <a:pt x="111" y="776"/>
                </a:lnTo>
                <a:lnTo>
                  <a:pt x="104" y="776"/>
                </a:lnTo>
                <a:lnTo>
                  <a:pt x="98" y="776"/>
                </a:lnTo>
                <a:lnTo>
                  <a:pt x="92" y="776"/>
                </a:lnTo>
                <a:lnTo>
                  <a:pt x="86" y="775"/>
                </a:lnTo>
                <a:lnTo>
                  <a:pt x="82" y="773"/>
                </a:lnTo>
                <a:lnTo>
                  <a:pt x="79" y="771"/>
                </a:lnTo>
                <a:lnTo>
                  <a:pt x="72" y="769"/>
                </a:lnTo>
                <a:lnTo>
                  <a:pt x="66" y="768"/>
                </a:lnTo>
                <a:lnTo>
                  <a:pt x="60" y="766"/>
                </a:lnTo>
                <a:lnTo>
                  <a:pt x="56" y="763"/>
                </a:lnTo>
                <a:lnTo>
                  <a:pt x="52" y="761"/>
                </a:lnTo>
                <a:lnTo>
                  <a:pt x="46" y="756"/>
                </a:lnTo>
                <a:lnTo>
                  <a:pt x="42" y="750"/>
                </a:lnTo>
                <a:lnTo>
                  <a:pt x="37" y="745"/>
                </a:lnTo>
                <a:lnTo>
                  <a:pt x="34" y="739"/>
                </a:lnTo>
                <a:lnTo>
                  <a:pt x="30" y="732"/>
                </a:lnTo>
                <a:lnTo>
                  <a:pt x="27" y="725"/>
                </a:lnTo>
                <a:lnTo>
                  <a:pt x="23" y="717"/>
                </a:lnTo>
                <a:lnTo>
                  <a:pt x="20" y="709"/>
                </a:lnTo>
                <a:lnTo>
                  <a:pt x="17" y="700"/>
                </a:lnTo>
                <a:lnTo>
                  <a:pt x="13" y="690"/>
                </a:lnTo>
                <a:lnTo>
                  <a:pt x="10" y="681"/>
                </a:lnTo>
                <a:lnTo>
                  <a:pt x="7" y="670"/>
                </a:lnTo>
                <a:lnTo>
                  <a:pt x="4" y="661"/>
                </a:lnTo>
                <a:lnTo>
                  <a:pt x="3" y="651"/>
                </a:lnTo>
                <a:lnTo>
                  <a:pt x="1" y="641"/>
                </a:lnTo>
                <a:lnTo>
                  <a:pt x="0" y="631"/>
                </a:lnTo>
                <a:lnTo>
                  <a:pt x="0" y="621"/>
                </a:lnTo>
                <a:lnTo>
                  <a:pt x="0" y="612"/>
                </a:lnTo>
                <a:lnTo>
                  <a:pt x="0" y="602"/>
                </a:lnTo>
                <a:lnTo>
                  <a:pt x="1" y="594"/>
                </a:lnTo>
                <a:lnTo>
                  <a:pt x="3" y="585"/>
                </a:lnTo>
                <a:lnTo>
                  <a:pt x="6" y="576"/>
                </a:lnTo>
                <a:lnTo>
                  <a:pt x="9" y="568"/>
                </a:lnTo>
                <a:lnTo>
                  <a:pt x="11" y="559"/>
                </a:lnTo>
                <a:lnTo>
                  <a:pt x="16" y="552"/>
                </a:lnTo>
                <a:lnTo>
                  <a:pt x="22" y="545"/>
                </a:lnTo>
                <a:lnTo>
                  <a:pt x="27" y="537"/>
                </a:lnTo>
                <a:lnTo>
                  <a:pt x="33" y="533"/>
                </a:lnTo>
                <a:lnTo>
                  <a:pt x="39" y="530"/>
                </a:lnTo>
                <a:lnTo>
                  <a:pt x="50" y="520"/>
                </a:lnTo>
                <a:lnTo>
                  <a:pt x="59" y="510"/>
                </a:lnTo>
                <a:lnTo>
                  <a:pt x="68" y="499"/>
                </a:lnTo>
                <a:lnTo>
                  <a:pt x="76" y="487"/>
                </a:lnTo>
                <a:lnTo>
                  <a:pt x="83" y="474"/>
                </a:lnTo>
                <a:lnTo>
                  <a:pt x="89" y="461"/>
                </a:lnTo>
                <a:lnTo>
                  <a:pt x="96" y="448"/>
                </a:lnTo>
                <a:lnTo>
                  <a:pt x="99" y="441"/>
                </a:lnTo>
                <a:lnTo>
                  <a:pt x="101" y="434"/>
                </a:lnTo>
                <a:lnTo>
                  <a:pt x="104" y="425"/>
                </a:lnTo>
                <a:lnTo>
                  <a:pt x="105" y="416"/>
                </a:lnTo>
                <a:lnTo>
                  <a:pt x="108" y="408"/>
                </a:lnTo>
                <a:lnTo>
                  <a:pt x="109" y="399"/>
                </a:lnTo>
                <a:lnTo>
                  <a:pt x="111" y="389"/>
                </a:lnTo>
                <a:lnTo>
                  <a:pt x="112" y="378"/>
                </a:lnTo>
                <a:lnTo>
                  <a:pt x="114" y="368"/>
                </a:lnTo>
                <a:lnTo>
                  <a:pt x="117" y="355"/>
                </a:lnTo>
                <a:lnTo>
                  <a:pt x="118" y="343"/>
                </a:lnTo>
                <a:lnTo>
                  <a:pt x="119" y="329"/>
                </a:lnTo>
                <a:lnTo>
                  <a:pt x="122" y="316"/>
                </a:lnTo>
                <a:lnTo>
                  <a:pt x="124" y="300"/>
                </a:lnTo>
                <a:lnTo>
                  <a:pt x="127" y="284"/>
                </a:lnTo>
                <a:lnTo>
                  <a:pt x="129" y="268"/>
                </a:lnTo>
                <a:lnTo>
                  <a:pt x="132" y="255"/>
                </a:lnTo>
                <a:lnTo>
                  <a:pt x="135" y="241"/>
                </a:lnTo>
                <a:lnTo>
                  <a:pt x="140" y="215"/>
                </a:lnTo>
                <a:lnTo>
                  <a:pt x="142" y="189"/>
                </a:lnTo>
                <a:lnTo>
                  <a:pt x="144" y="163"/>
                </a:lnTo>
                <a:lnTo>
                  <a:pt x="145" y="139"/>
                </a:lnTo>
                <a:lnTo>
                  <a:pt x="147" y="114"/>
                </a:lnTo>
                <a:lnTo>
                  <a:pt x="147" y="104"/>
                </a:lnTo>
                <a:lnTo>
                  <a:pt x="147" y="93"/>
                </a:lnTo>
                <a:lnTo>
                  <a:pt x="147" y="82"/>
                </a:lnTo>
                <a:lnTo>
                  <a:pt x="147" y="72"/>
                </a:lnTo>
                <a:lnTo>
                  <a:pt x="144" y="62"/>
                </a:lnTo>
                <a:lnTo>
                  <a:pt x="142" y="54"/>
                </a:lnTo>
                <a:lnTo>
                  <a:pt x="141" y="45"/>
                </a:lnTo>
                <a:lnTo>
                  <a:pt x="140" y="38"/>
                </a:lnTo>
                <a:lnTo>
                  <a:pt x="140" y="31"/>
                </a:lnTo>
                <a:lnTo>
                  <a:pt x="141" y="25"/>
                </a:lnTo>
                <a:lnTo>
                  <a:pt x="141" y="21"/>
                </a:lnTo>
                <a:lnTo>
                  <a:pt x="142" y="15"/>
                </a:lnTo>
                <a:lnTo>
                  <a:pt x="144" y="12"/>
                </a:lnTo>
                <a:lnTo>
                  <a:pt x="147" y="8"/>
                </a:lnTo>
                <a:lnTo>
                  <a:pt x="150" y="6"/>
                </a:lnTo>
                <a:lnTo>
                  <a:pt x="151" y="3"/>
                </a:lnTo>
                <a:lnTo>
                  <a:pt x="154" y="2"/>
                </a:lnTo>
                <a:lnTo>
                  <a:pt x="158" y="0"/>
                </a:lnTo>
                <a:lnTo>
                  <a:pt x="161" y="0"/>
                </a:lnTo>
                <a:lnTo>
                  <a:pt x="164" y="0"/>
                </a:lnTo>
                <a:lnTo>
                  <a:pt x="167" y="0"/>
                </a:lnTo>
                <a:lnTo>
                  <a:pt x="171" y="0"/>
                </a:lnTo>
                <a:lnTo>
                  <a:pt x="176" y="2"/>
                </a:lnTo>
                <a:lnTo>
                  <a:pt x="180" y="3"/>
                </a:lnTo>
                <a:lnTo>
                  <a:pt x="184" y="5"/>
                </a:lnTo>
                <a:lnTo>
                  <a:pt x="190" y="8"/>
                </a:lnTo>
                <a:lnTo>
                  <a:pt x="196" y="10"/>
                </a:lnTo>
                <a:lnTo>
                  <a:pt x="203" y="13"/>
                </a:lnTo>
                <a:lnTo>
                  <a:pt x="209" y="16"/>
                </a:lnTo>
                <a:lnTo>
                  <a:pt x="216" y="21"/>
                </a:lnTo>
                <a:lnTo>
                  <a:pt x="223" y="25"/>
                </a:lnTo>
                <a:lnTo>
                  <a:pt x="232" y="29"/>
                </a:lnTo>
                <a:lnTo>
                  <a:pt x="239" y="35"/>
                </a:lnTo>
                <a:lnTo>
                  <a:pt x="248" y="41"/>
                </a:lnTo>
                <a:lnTo>
                  <a:pt x="256" y="46"/>
                </a:lnTo>
                <a:lnTo>
                  <a:pt x="266" y="54"/>
                </a:lnTo>
                <a:lnTo>
                  <a:pt x="275" y="61"/>
                </a:lnTo>
                <a:lnTo>
                  <a:pt x="284" y="67"/>
                </a:lnTo>
                <a:lnTo>
                  <a:pt x="291" y="72"/>
                </a:lnTo>
                <a:lnTo>
                  <a:pt x="298" y="78"/>
                </a:lnTo>
                <a:lnTo>
                  <a:pt x="305" y="82"/>
                </a:lnTo>
                <a:lnTo>
                  <a:pt x="309" y="88"/>
                </a:lnTo>
                <a:lnTo>
                  <a:pt x="315" y="93"/>
                </a:lnTo>
                <a:lnTo>
                  <a:pt x="320" y="97"/>
                </a:lnTo>
                <a:lnTo>
                  <a:pt x="324" y="100"/>
                </a:lnTo>
                <a:lnTo>
                  <a:pt x="327" y="104"/>
                </a:lnTo>
                <a:lnTo>
                  <a:pt x="330" y="108"/>
                </a:lnTo>
                <a:lnTo>
                  <a:pt x="331" y="111"/>
                </a:lnTo>
                <a:lnTo>
                  <a:pt x="332" y="116"/>
                </a:lnTo>
                <a:lnTo>
                  <a:pt x="334" y="118"/>
                </a:lnTo>
                <a:lnTo>
                  <a:pt x="334" y="121"/>
                </a:lnTo>
                <a:lnTo>
                  <a:pt x="335" y="126"/>
                </a:lnTo>
                <a:lnTo>
                  <a:pt x="334" y="129"/>
                </a:lnTo>
                <a:lnTo>
                  <a:pt x="334" y="134"/>
                </a:lnTo>
                <a:lnTo>
                  <a:pt x="332" y="141"/>
                </a:lnTo>
                <a:lnTo>
                  <a:pt x="331" y="149"/>
                </a:lnTo>
                <a:lnTo>
                  <a:pt x="330" y="157"/>
                </a:lnTo>
                <a:lnTo>
                  <a:pt x="327" y="167"/>
                </a:lnTo>
                <a:lnTo>
                  <a:pt x="325" y="179"/>
                </a:lnTo>
                <a:lnTo>
                  <a:pt x="321" y="192"/>
                </a:lnTo>
                <a:lnTo>
                  <a:pt x="318" y="206"/>
                </a:lnTo>
                <a:lnTo>
                  <a:pt x="314" y="222"/>
                </a:lnTo>
                <a:lnTo>
                  <a:pt x="309" y="238"/>
                </a:lnTo>
                <a:lnTo>
                  <a:pt x="305" y="257"/>
                </a:lnTo>
                <a:lnTo>
                  <a:pt x="301" y="275"/>
                </a:lnTo>
                <a:lnTo>
                  <a:pt x="295" y="296"/>
                </a:lnTo>
                <a:lnTo>
                  <a:pt x="289" y="317"/>
                </a:lnTo>
                <a:lnTo>
                  <a:pt x="284" y="340"/>
                </a:lnTo>
                <a:lnTo>
                  <a:pt x="279" y="352"/>
                </a:lnTo>
                <a:lnTo>
                  <a:pt x="275" y="363"/>
                </a:lnTo>
                <a:lnTo>
                  <a:pt x="271" y="373"/>
                </a:lnTo>
                <a:lnTo>
                  <a:pt x="266" y="385"/>
                </a:lnTo>
                <a:lnTo>
                  <a:pt x="263" y="393"/>
                </a:lnTo>
                <a:lnTo>
                  <a:pt x="260" y="404"/>
                </a:lnTo>
                <a:lnTo>
                  <a:pt x="258" y="412"/>
                </a:lnTo>
                <a:lnTo>
                  <a:pt x="255" y="422"/>
                </a:lnTo>
                <a:lnTo>
                  <a:pt x="252" y="429"/>
                </a:lnTo>
                <a:lnTo>
                  <a:pt x="250" y="438"/>
                </a:lnTo>
                <a:lnTo>
                  <a:pt x="246" y="454"/>
                </a:lnTo>
                <a:lnTo>
                  <a:pt x="243" y="467"/>
                </a:lnTo>
                <a:lnTo>
                  <a:pt x="242" y="480"/>
                </a:lnTo>
                <a:lnTo>
                  <a:pt x="240" y="490"/>
                </a:lnTo>
                <a:lnTo>
                  <a:pt x="239" y="500"/>
                </a:lnTo>
                <a:lnTo>
                  <a:pt x="239" y="509"/>
                </a:lnTo>
                <a:lnTo>
                  <a:pt x="240" y="517"/>
                </a:lnTo>
                <a:lnTo>
                  <a:pt x="242" y="523"/>
                </a:lnTo>
                <a:lnTo>
                  <a:pt x="243" y="529"/>
                </a:lnTo>
                <a:lnTo>
                  <a:pt x="246" y="533"/>
                </a:lnTo>
                <a:lnTo>
                  <a:pt x="249" y="537"/>
                </a:lnTo>
                <a:lnTo>
                  <a:pt x="253" y="540"/>
                </a:lnTo>
                <a:lnTo>
                  <a:pt x="258" y="543"/>
                </a:lnTo>
                <a:lnTo>
                  <a:pt x="262" y="546"/>
                </a:lnTo>
                <a:lnTo>
                  <a:pt x="268" y="547"/>
                </a:lnTo>
                <a:lnTo>
                  <a:pt x="275" y="549"/>
                </a:lnTo>
                <a:lnTo>
                  <a:pt x="282" y="550"/>
                </a:lnTo>
                <a:lnTo>
                  <a:pt x="291" y="550"/>
                </a:lnTo>
                <a:lnTo>
                  <a:pt x="301" y="550"/>
                </a:lnTo>
                <a:lnTo>
                  <a:pt x="311" y="550"/>
                </a:lnTo>
                <a:lnTo>
                  <a:pt x="321" y="550"/>
                </a:lnTo>
                <a:lnTo>
                  <a:pt x="332" y="549"/>
                </a:lnTo>
                <a:lnTo>
                  <a:pt x="345" y="547"/>
                </a:lnTo>
                <a:lnTo>
                  <a:pt x="358" y="546"/>
                </a:lnTo>
                <a:lnTo>
                  <a:pt x="373" y="543"/>
                </a:lnTo>
                <a:lnTo>
                  <a:pt x="387" y="540"/>
                </a:lnTo>
                <a:lnTo>
                  <a:pt x="403" y="537"/>
                </a:lnTo>
                <a:lnTo>
                  <a:pt x="412" y="536"/>
                </a:lnTo>
                <a:lnTo>
                  <a:pt x="420" y="535"/>
                </a:lnTo>
                <a:lnTo>
                  <a:pt x="429" y="532"/>
                </a:lnTo>
                <a:lnTo>
                  <a:pt x="439" y="530"/>
                </a:lnTo>
                <a:lnTo>
                  <a:pt x="451" y="529"/>
                </a:lnTo>
                <a:lnTo>
                  <a:pt x="462" y="527"/>
                </a:lnTo>
                <a:lnTo>
                  <a:pt x="474" y="524"/>
                </a:lnTo>
                <a:lnTo>
                  <a:pt x="485" y="523"/>
                </a:lnTo>
                <a:lnTo>
                  <a:pt x="498" y="522"/>
                </a:lnTo>
                <a:lnTo>
                  <a:pt x="512" y="519"/>
                </a:lnTo>
                <a:lnTo>
                  <a:pt x="525" y="517"/>
                </a:lnTo>
                <a:lnTo>
                  <a:pt x="540" y="516"/>
                </a:lnTo>
                <a:lnTo>
                  <a:pt x="556" y="513"/>
                </a:lnTo>
                <a:lnTo>
                  <a:pt x="570" y="510"/>
                </a:lnTo>
                <a:lnTo>
                  <a:pt x="587" y="509"/>
                </a:lnTo>
                <a:lnTo>
                  <a:pt x="603" y="506"/>
                </a:lnTo>
                <a:lnTo>
                  <a:pt x="620" y="503"/>
                </a:lnTo>
                <a:lnTo>
                  <a:pt x="638" y="501"/>
                </a:lnTo>
                <a:lnTo>
                  <a:pt x="656" y="499"/>
                </a:lnTo>
                <a:lnTo>
                  <a:pt x="674" y="496"/>
                </a:lnTo>
                <a:lnTo>
                  <a:pt x="694" y="491"/>
                </a:lnTo>
                <a:lnTo>
                  <a:pt x="713" y="488"/>
                </a:lnTo>
                <a:lnTo>
                  <a:pt x="733" y="486"/>
                </a:lnTo>
                <a:lnTo>
                  <a:pt x="753" y="481"/>
                </a:lnTo>
                <a:lnTo>
                  <a:pt x="774" y="478"/>
                </a:lnTo>
                <a:lnTo>
                  <a:pt x="795" y="474"/>
                </a:lnTo>
                <a:lnTo>
                  <a:pt x="816" y="470"/>
                </a:lnTo>
                <a:lnTo>
                  <a:pt x="839" y="467"/>
                </a:lnTo>
                <a:lnTo>
                  <a:pt x="861" y="463"/>
                </a:lnTo>
                <a:lnTo>
                  <a:pt x="884" y="457"/>
                </a:lnTo>
                <a:lnTo>
                  <a:pt x="908" y="452"/>
                </a:lnTo>
                <a:lnTo>
                  <a:pt x="931" y="448"/>
                </a:lnTo>
                <a:lnTo>
                  <a:pt x="954" y="444"/>
                </a:lnTo>
                <a:lnTo>
                  <a:pt x="979" y="441"/>
                </a:lnTo>
                <a:lnTo>
                  <a:pt x="1000" y="438"/>
                </a:lnTo>
                <a:lnTo>
                  <a:pt x="1022" y="434"/>
                </a:lnTo>
                <a:lnTo>
                  <a:pt x="1044" y="431"/>
                </a:lnTo>
                <a:lnTo>
                  <a:pt x="1065" y="428"/>
                </a:lnTo>
                <a:lnTo>
                  <a:pt x="1084" y="424"/>
                </a:lnTo>
                <a:lnTo>
                  <a:pt x="1104" y="421"/>
                </a:lnTo>
                <a:lnTo>
                  <a:pt x="1123" y="418"/>
                </a:lnTo>
                <a:lnTo>
                  <a:pt x="1142" y="415"/>
                </a:lnTo>
                <a:lnTo>
                  <a:pt x="1159" y="411"/>
                </a:lnTo>
                <a:lnTo>
                  <a:pt x="1176" y="408"/>
                </a:lnTo>
                <a:lnTo>
                  <a:pt x="1192" y="405"/>
                </a:lnTo>
                <a:lnTo>
                  <a:pt x="1208" y="402"/>
                </a:lnTo>
                <a:lnTo>
                  <a:pt x="1222" y="399"/>
                </a:lnTo>
                <a:lnTo>
                  <a:pt x="1237" y="396"/>
                </a:lnTo>
                <a:lnTo>
                  <a:pt x="1251" y="393"/>
                </a:lnTo>
                <a:lnTo>
                  <a:pt x="1264" y="391"/>
                </a:lnTo>
                <a:lnTo>
                  <a:pt x="1275" y="388"/>
                </a:lnTo>
                <a:lnTo>
                  <a:pt x="1287" y="385"/>
                </a:lnTo>
                <a:lnTo>
                  <a:pt x="1298" y="382"/>
                </a:lnTo>
                <a:lnTo>
                  <a:pt x="1309" y="379"/>
                </a:lnTo>
                <a:lnTo>
                  <a:pt x="1319" y="378"/>
                </a:lnTo>
                <a:lnTo>
                  <a:pt x="1327" y="375"/>
                </a:lnTo>
                <a:lnTo>
                  <a:pt x="1336" y="372"/>
                </a:lnTo>
                <a:lnTo>
                  <a:pt x="1343" y="370"/>
                </a:lnTo>
                <a:lnTo>
                  <a:pt x="1350" y="368"/>
                </a:lnTo>
                <a:lnTo>
                  <a:pt x="1357" y="366"/>
                </a:lnTo>
                <a:lnTo>
                  <a:pt x="1363" y="363"/>
                </a:lnTo>
                <a:lnTo>
                  <a:pt x="1368" y="362"/>
                </a:lnTo>
                <a:lnTo>
                  <a:pt x="1372" y="360"/>
                </a:lnTo>
                <a:lnTo>
                  <a:pt x="1376" y="359"/>
                </a:lnTo>
                <a:lnTo>
                  <a:pt x="1379" y="355"/>
                </a:lnTo>
                <a:lnTo>
                  <a:pt x="1382" y="352"/>
                </a:lnTo>
                <a:lnTo>
                  <a:pt x="1386" y="350"/>
                </a:lnTo>
                <a:lnTo>
                  <a:pt x="1391" y="347"/>
                </a:lnTo>
                <a:lnTo>
                  <a:pt x="1401" y="344"/>
                </a:lnTo>
                <a:lnTo>
                  <a:pt x="1412" y="343"/>
                </a:lnTo>
                <a:lnTo>
                  <a:pt x="1424" y="342"/>
                </a:lnTo>
                <a:lnTo>
                  <a:pt x="1435" y="340"/>
                </a:lnTo>
                <a:lnTo>
                  <a:pt x="1448" y="340"/>
                </a:lnTo>
                <a:lnTo>
                  <a:pt x="1461" y="340"/>
                </a:lnTo>
                <a:lnTo>
                  <a:pt x="1464" y="340"/>
                </a:lnTo>
                <a:lnTo>
                  <a:pt x="1468" y="342"/>
                </a:lnTo>
                <a:lnTo>
                  <a:pt x="1474" y="344"/>
                </a:lnTo>
                <a:lnTo>
                  <a:pt x="1480" y="346"/>
                </a:lnTo>
                <a:lnTo>
                  <a:pt x="1487" y="350"/>
                </a:lnTo>
                <a:lnTo>
                  <a:pt x="1494" y="355"/>
                </a:lnTo>
                <a:lnTo>
                  <a:pt x="1503" y="359"/>
                </a:lnTo>
                <a:lnTo>
                  <a:pt x="1511" y="365"/>
                </a:lnTo>
                <a:lnTo>
                  <a:pt x="1522" y="370"/>
                </a:lnTo>
                <a:lnTo>
                  <a:pt x="1533" y="378"/>
                </a:lnTo>
                <a:lnTo>
                  <a:pt x="1545" y="385"/>
                </a:lnTo>
                <a:lnTo>
                  <a:pt x="1556" y="393"/>
                </a:lnTo>
                <a:lnTo>
                  <a:pt x="1569" y="401"/>
                </a:lnTo>
                <a:lnTo>
                  <a:pt x="1583" y="411"/>
                </a:lnTo>
                <a:lnTo>
                  <a:pt x="1598" y="419"/>
                </a:lnTo>
                <a:lnTo>
                  <a:pt x="1614" y="429"/>
                </a:lnTo>
                <a:lnTo>
                  <a:pt x="1627" y="439"/>
                </a:lnTo>
                <a:lnTo>
                  <a:pt x="1638" y="450"/>
                </a:lnTo>
                <a:lnTo>
                  <a:pt x="1648" y="460"/>
                </a:lnTo>
                <a:lnTo>
                  <a:pt x="1658" y="470"/>
                </a:lnTo>
                <a:lnTo>
                  <a:pt x="1668" y="480"/>
                </a:lnTo>
                <a:lnTo>
                  <a:pt x="1677" y="488"/>
                </a:lnTo>
                <a:lnTo>
                  <a:pt x="1684" y="497"/>
                </a:lnTo>
                <a:lnTo>
                  <a:pt x="1691" y="506"/>
                </a:lnTo>
                <a:lnTo>
                  <a:pt x="1697" y="514"/>
                </a:lnTo>
                <a:lnTo>
                  <a:pt x="1702" y="522"/>
                </a:lnTo>
                <a:lnTo>
                  <a:pt x="1707" y="529"/>
                </a:lnTo>
                <a:lnTo>
                  <a:pt x="1710" y="536"/>
                </a:lnTo>
                <a:lnTo>
                  <a:pt x="1713" y="542"/>
                </a:lnTo>
                <a:lnTo>
                  <a:pt x="1714" y="547"/>
                </a:lnTo>
                <a:lnTo>
                  <a:pt x="1716" y="552"/>
                </a:lnTo>
                <a:lnTo>
                  <a:pt x="1717" y="556"/>
                </a:lnTo>
                <a:lnTo>
                  <a:pt x="1716" y="562"/>
                </a:lnTo>
                <a:lnTo>
                  <a:pt x="1716" y="568"/>
                </a:lnTo>
                <a:lnTo>
                  <a:pt x="1714" y="573"/>
                </a:lnTo>
                <a:lnTo>
                  <a:pt x="1713" y="579"/>
                </a:lnTo>
                <a:lnTo>
                  <a:pt x="1712" y="583"/>
                </a:lnTo>
                <a:lnTo>
                  <a:pt x="1709" y="589"/>
                </a:lnTo>
                <a:lnTo>
                  <a:pt x="1707" y="594"/>
                </a:lnTo>
                <a:lnTo>
                  <a:pt x="1704" y="598"/>
                </a:lnTo>
                <a:lnTo>
                  <a:pt x="1700" y="602"/>
                </a:lnTo>
                <a:lnTo>
                  <a:pt x="1697" y="605"/>
                </a:lnTo>
                <a:lnTo>
                  <a:pt x="1693" y="609"/>
                </a:lnTo>
                <a:lnTo>
                  <a:pt x="1687" y="612"/>
                </a:lnTo>
                <a:lnTo>
                  <a:pt x="1683" y="617"/>
                </a:lnTo>
                <a:lnTo>
                  <a:pt x="1677" y="619"/>
                </a:lnTo>
                <a:lnTo>
                  <a:pt x="1671" y="624"/>
                </a:lnTo>
                <a:lnTo>
                  <a:pt x="1666" y="627"/>
                </a:lnTo>
                <a:lnTo>
                  <a:pt x="1660" y="631"/>
                </a:lnTo>
                <a:lnTo>
                  <a:pt x="1654" y="634"/>
                </a:lnTo>
                <a:lnTo>
                  <a:pt x="1648" y="640"/>
                </a:lnTo>
                <a:lnTo>
                  <a:pt x="1643" y="644"/>
                </a:lnTo>
                <a:lnTo>
                  <a:pt x="1638" y="650"/>
                </a:lnTo>
                <a:lnTo>
                  <a:pt x="1634" y="657"/>
                </a:lnTo>
                <a:lnTo>
                  <a:pt x="1630" y="664"/>
                </a:lnTo>
                <a:lnTo>
                  <a:pt x="1627" y="671"/>
                </a:lnTo>
                <a:lnTo>
                  <a:pt x="1624" y="680"/>
                </a:lnTo>
                <a:lnTo>
                  <a:pt x="1621" y="690"/>
                </a:lnTo>
                <a:lnTo>
                  <a:pt x="1619" y="700"/>
                </a:lnTo>
                <a:lnTo>
                  <a:pt x="1617" y="713"/>
                </a:lnTo>
                <a:lnTo>
                  <a:pt x="1615" y="725"/>
                </a:lnTo>
                <a:lnTo>
                  <a:pt x="1615" y="739"/>
                </a:lnTo>
                <a:lnTo>
                  <a:pt x="1614" y="753"/>
                </a:lnTo>
                <a:lnTo>
                  <a:pt x="1614" y="771"/>
                </a:lnTo>
                <a:lnTo>
                  <a:pt x="1611" y="788"/>
                </a:lnTo>
                <a:lnTo>
                  <a:pt x="1608" y="807"/>
                </a:lnTo>
                <a:lnTo>
                  <a:pt x="1604" y="825"/>
                </a:lnTo>
                <a:lnTo>
                  <a:pt x="1601" y="847"/>
                </a:lnTo>
                <a:lnTo>
                  <a:pt x="1598" y="869"/>
                </a:lnTo>
                <a:lnTo>
                  <a:pt x="1594" y="892"/>
                </a:lnTo>
                <a:lnTo>
                  <a:pt x="1591" y="916"/>
                </a:lnTo>
                <a:lnTo>
                  <a:pt x="1586" y="940"/>
                </a:lnTo>
                <a:lnTo>
                  <a:pt x="1582" y="965"/>
                </a:lnTo>
                <a:lnTo>
                  <a:pt x="1578" y="992"/>
                </a:lnTo>
                <a:lnTo>
                  <a:pt x="1573" y="1020"/>
                </a:lnTo>
                <a:lnTo>
                  <a:pt x="1568" y="1047"/>
                </a:lnTo>
                <a:lnTo>
                  <a:pt x="1563" y="1076"/>
                </a:lnTo>
                <a:lnTo>
                  <a:pt x="1558" y="1105"/>
                </a:lnTo>
                <a:lnTo>
                  <a:pt x="1552" y="1133"/>
                </a:lnTo>
                <a:lnTo>
                  <a:pt x="1546" y="1164"/>
                </a:lnTo>
                <a:lnTo>
                  <a:pt x="1539" y="1197"/>
                </a:lnTo>
                <a:lnTo>
                  <a:pt x="1533" y="1230"/>
                </a:lnTo>
                <a:lnTo>
                  <a:pt x="1526" y="1260"/>
                </a:lnTo>
                <a:lnTo>
                  <a:pt x="1517" y="1292"/>
                </a:lnTo>
                <a:lnTo>
                  <a:pt x="1510" y="1321"/>
                </a:lnTo>
                <a:lnTo>
                  <a:pt x="1501" y="1351"/>
                </a:lnTo>
                <a:lnTo>
                  <a:pt x="1493" y="1378"/>
                </a:lnTo>
                <a:lnTo>
                  <a:pt x="1484" y="1405"/>
                </a:lnTo>
                <a:lnTo>
                  <a:pt x="1476" y="1431"/>
                </a:lnTo>
                <a:lnTo>
                  <a:pt x="1465" y="1457"/>
                </a:lnTo>
                <a:lnTo>
                  <a:pt x="1457" y="1483"/>
                </a:lnTo>
                <a:lnTo>
                  <a:pt x="1447" y="1506"/>
                </a:lnTo>
                <a:lnTo>
                  <a:pt x="1438" y="1529"/>
                </a:lnTo>
                <a:lnTo>
                  <a:pt x="1428" y="1552"/>
                </a:lnTo>
                <a:lnTo>
                  <a:pt x="1419" y="1574"/>
                </a:lnTo>
                <a:lnTo>
                  <a:pt x="1409" y="1594"/>
                </a:lnTo>
                <a:lnTo>
                  <a:pt x="1396" y="1614"/>
                </a:lnTo>
                <a:lnTo>
                  <a:pt x="1385" y="1633"/>
                </a:lnTo>
                <a:lnTo>
                  <a:pt x="1372" y="1653"/>
                </a:lnTo>
                <a:lnTo>
                  <a:pt x="1359" y="1672"/>
                </a:lnTo>
                <a:lnTo>
                  <a:pt x="1346" y="1689"/>
                </a:lnTo>
                <a:lnTo>
                  <a:pt x="1334" y="1706"/>
                </a:lnTo>
                <a:lnTo>
                  <a:pt x="1321" y="1724"/>
                </a:lnTo>
                <a:lnTo>
                  <a:pt x="1310" y="1739"/>
                </a:lnTo>
                <a:lnTo>
                  <a:pt x="1297" y="1755"/>
                </a:lnTo>
                <a:lnTo>
                  <a:pt x="1285" y="1770"/>
                </a:lnTo>
                <a:lnTo>
                  <a:pt x="1274" y="1784"/>
                </a:lnTo>
                <a:lnTo>
                  <a:pt x="1262" y="1797"/>
                </a:lnTo>
                <a:lnTo>
                  <a:pt x="1252" y="1810"/>
                </a:lnTo>
                <a:lnTo>
                  <a:pt x="1241" y="1823"/>
                </a:lnTo>
                <a:lnTo>
                  <a:pt x="1231" y="1835"/>
                </a:lnTo>
                <a:lnTo>
                  <a:pt x="1222" y="1845"/>
                </a:lnTo>
                <a:lnTo>
                  <a:pt x="1209" y="1855"/>
                </a:lnTo>
                <a:lnTo>
                  <a:pt x="1196" y="1863"/>
                </a:lnTo>
                <a:lnTo>
                  <a:pt x="1185" y="1871"/>
                </a:lnTo>
                <a:lnTo>
                  <a:pt x="1173" y="1878"/>
                </a:lnTo>
                <a:lnTo>
                  <a:pt x="1162" y="1885"/>
                </a:lnTo>
                <a:lnTo>
                  <a:pt x="1152" y="1891"/>
                </a:lnTo>
                <a:lnTo>
                  <a:pt x="1140" y="1895"/>
                </a:lnTo>
                <a:lnTo>
                  <a:pt x="1130" y="1899"/>
                </a:lnTo>
                <a:lnTo>
                  <a:pt x="1120" y="1902"/>
                </a:lnTo>
                <a:lnTo>
                  <a:pt x="1110" y="1904"/>
                </a:lnTo>
                <a:lnTo>
                  <a:pt x="1100" y="1905"/>
                </a:lnTo>
                <a:lnTo>
                  <a:pt x="1090" y="1905"/>
                </a:lnTo>
                <a:lnTo>
                  <a:pt x="1080" y="1905"/>
                </a:lnTo>
                <a:lnTo>
                  <a:pt x="1070" y="1904"/>
                </a:lnTo>
                <a:lnTo>
                  <a:pt x="1061" y="1902"/>
                </a:lnTo>
                <a:lnTo>
                  <a:pt x="1051" y="1899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Freeform 57"/>
          <p:cNvSpPr/>
          <p:nvPr/>
        </p:nvSpPr>
        <p:spPr>
          <a:xfrm>
            <a:off x="6275520" y="4573440"/>
            <a:ext cx="833400" cy="163800"/>
          </a:xfrm>
          <a:custGeom>
            <a:avLst/>
            <a:gdLst/>
            <a:ahLst/>
            <a:rect l="l" t="t" r="r" b="b"/>
            <a:pathLst>
              <a:path w="1575" h="308">
                <a:moveTo>
                  <a:pt x="0" y="201"/>
                </a:moveTo>
                <a:lnTo>
                  <a:pt x="75" y="185"/>
                </a:lnTo>
                <a:lnTo>
                  <a:pt x="148" y="171"/>
                </a:lnTo>
                <a:lnTo>
                  <a:pt x="220" y="158"/>
                </a:lnTo>
                <a:lnTo>
                  <a:pt x="289" y="144"/>
                </a:lnTo>
                <a:lnTo>
                  <a:pt x="357" y="132"/>
                </a:lnTo>
                <a:lnTo>
                  <a:pt x="422" y="119"/>
                </a:lnTo>
                <a:lnTo>
                  <a:pt x="485" y="109"/>
                </a:lnTo>
                <a:lnTo>
                  <a:pt x="547" y="97"/>
                </a:lnTo>
                <a:lnTo>
                  <a:pt x="606" y="87"/>
                </a:lnTo>
                <a:lnTo>
                  <a:pt x="662" y="79"/>
                </a:lnTo>
                <a:lnTo>
                  <a:pt x="717" y="70"/>
                </a:lnTo>
                <a:lnTo>
                  <a:pt x="770" y="61"/>
                </a:lnTo>
                <a:lnTo>
                  <a:pt x="821" y="53"/>
                </a:lnTo>
                <a:lnTo>
                  <a:pt x="869" y="46"/>
                </a:lnTo>
                <a:lnTo>
                  <a:pt x="917" y="40"/>
                </a:lnTo>
                <a:lnTo>
                  <a:pt x="962" y="34"/>
                </a:lnTo>
                <a:lnTo>
                  <a:pt x="1003" y="28"/>
                </a:lnTo>
                <a:lnTo>
                  <a:pt x="1044" y="23"/>
                </a:lnTo>
                <a:lnTo>
                  <a:pt x="1083" y="18"/>
                </a:lnTo>
                <a:lnTo>
                  <a:pt x="1119" y="14"/>
                </a:lnTo>
                <a:lnTo>
                  <a:pt x="1153" y="11"/>
                </a:lnTo>
                <a:lnTo>
                  <a:pt x="1186" y="8"/>
                </a:lnTo>
                <a:lnTo>
                  <a:pt x="1216" y="5"/>
                </a:lnTo>
                <a:lnTo>
                  <a:pt x="1245" y="4"/>
                </a:lnTo>
                <a:lnTo>
                  <a:pt x="1271" y="2"/>
                </a:lnTo>
                <a:lnTo>
                  <a:pt x="1296" y="1"/>
                </a:lnTo>
                <a:lnTo>
                  <a:pt x="1317" y="0"/>
                </a:lnTo>
                <a:lnTo>
                  <a:pt x="1337" y="0"/>
                </a:lnTo>
                <a:lnTo>
                  <a:pt x="1356" y="0"/>
                </a:lnTo>
                <a:lnTo>
                  <a:pt x="1372" y="1"/>
                </a:lnTo>
                <a:lnTo>
                  <a:pt x="1386" y="1"/>
                </a:lnTo>
                <a:lnTo>
                  <a:pt x="1399" y="4"/>
                </a:lnTo>
                <a:lnTo>
                  <a:pt x="1417" y="10"/>
                </a:lnTo>
                <a:lnTo>
                  <a:pt x="1435" y="17"/>
                </a:lnTo>
                <a:lnTo>
                  <a:pt x="1451" y="24"/>
                </a:lnTo>
                <a:lnTo>
                  <a:pt x="1465" y="30"/>
                </a:lnTo>
                <a:lnTo>
                  <a:pt x="1480" y="37"/>
                </a:lnTo>
                <a:lnTo>
                  <a:pt x="1493" y="44"/>
                </a:lnTo>
                <a:lnTo>
                  <a:pt x="1504" y="50"/>
                </a:lnTo>
                <a:lnTo>
                  <a:pt x="1516" y="57"/>
                </a:lnTo>
                <a:lnTo>
                  <a:pt x="1526" y="64"/>
                </a:lnTo>
                <a:lnTo>
                  <a:pt x="1535" y="70"/>
                </a:lnTo>
                <a:lnTo>
                  <a:pt x="1543" y="77"/>
                </a:lnTo>
                <a:lnTo>
                  <a:pt x="1550" y="84"/>
                </a:lnTo>
                <a:lnTo>
                  <a:pt x="1556" y="90"/>
                </a:lnTo>
                <a:lnTo>
                  <a:pt x="1562" y="97"/>
                </a:lnTo>
                <a:lnTo>
                  <a:pt x="1566" y="103"/>
                </a:lnTo>
                <a:lnTo>
                  <a:pt x="1569" y="110"/>
                </a:lnTo>
                <a:lnTo>
                  <a:pt x="1572" y="118"/>
                </a:lnTo>
                <a:lnTo>
                  <a:pt x="1573" y="123"/>
                </a:lnTo>
                <a:lnTo>
                  <a:pt x="1575" y="129"/>
                </a:lnTo>
                <a:lnTo>
                  <a:pt x="1575" y="135"/>
                </a:lnTo>
                <a:lnTo>
                  <a:pt x="1575" y="139"/>
                </a:lnTo>
                <a:lnTo>
                  <a:pt x="1573" y="145"/>
                </a:lnTo>
                <a:lnTo>
                  <a:pt x="1572" y="149"/>
                </a:lnTo>
                <a:lnTo>
                  <a:pt x="1569" y="154"/>
                </a:lnTo>
                <a:lnTo>
                  <a:pt x="1565" y="158"/>
                </a:lnTo>
                <a:lnTo>
                  <a:pt x="1560" y="161"/>
                </a:lnTo>
                <a:lnTo>
                  <a:pt x="1556" y="165"/>
                </a:lnTo>
                <a:lnTo>
                  <a:pt x="1550" y="168"/>
                </a:lnTo>
                <a:lnTo>
                  <a:pt x="1543" y="172"/>
                </a:lnTo>
                <a:lnTo>
                  <a:pt x="1536" y="175"/>
                </a:lnTo>
                <a:lnTo>
                  <a:pt x="1527" y="179"/>
                </a:lnTo>
                <a:lnTo>
                  <a:pt x="1519" y="182"/>
                </a:lnTo>
                <a:lnTo>
                  <a:pt x="1509" y="185"/>
                </a:lnTo>
                <a:lnTo>
                  <a:pt x="1499" y="188"/>
                </a:lnTo>
                <a:lnTo>
                  <a:pt x="1487" y="191"/>
                </a:lnTo>
                <a:lnTo>
                  <a:pt x="1477" y="192"/>
                </a:lnTo>
                <a:lnTo>
                  <a:pt x="1465" y="194"/>
                </a:lnTo>
                <a:lnTo>
                  <a:pt x="1454" y="195"/>
                </a:lnTo>
                <a:lnTo>
                  <a:pt x="1441" y="197"/>
                </a:lnTo>
                <a:lnTo>
                  <a:pt x="1428" y="198"/>
                </a:lnTo>
                <a:lnTo>
                  <a:pt x="1415" y="198"/>
                </a:lnTo>
                <a:lnTo>
                  <a:pt x="1402" y="200"/>
                </a:lnTo>
                <a:lnTo>
                  <a:pt x="1388" y="200"/>
                </a:lnTo>
                <a:lnTo>
                  <a:pt x="1373" y="200"/>
                </a:lnTo>
                <a:lnTo>
                  <a:pt x="1359" y="200"/>
                </a:lnTo>
                <a:lnTo>
                  <a:pt x="1345" y="200"/>
                </a:lnTo>
                <a:lnTo>
                  <a:pt x="1329" y="201"/>
                </a:lnTo>
                <a:lnTo>
                  <a:pt x="1313" y="201"/>
                </a:lnTo>
                <a:lnTo>
                  <a:pt x="1304" y="201"/>
                </a:lnTo>
                <a:lnTo>
                  <a:pt x="1296" y="201"/>
                </a:lnTo>
                <a:lnTo>
                  <a:pt x="1285" y="201"/>
                </a:lnTo>
                <a:lnTo>
                  <a:pt x="1275" y="201"/>
                </a:lnTo>
                <a:lnTo>
                  <a:pt x="1264" y="201"/>
                </a:lnTo>
                <a:lnTo>
                  <a:pt x="1252" y="203"/>
                </a:lnTo>
                <a:lnTo>
                  <a:pt x="1241" y="203"/>
                </a:lnTo>
                <a:lnTo>
                  <a:pt x="1226" y="204"/>
                </a:lnTo>
                <a:lnTo>
                  <a:pt x="1214" y="204"/>
                </a:lnTo>
                <a:lnTo>
                  <a:pt x="1199" y="205"/>
                </a:lnTo>
                <a:lnTo>
                  <a:pt x="1185" y="207"/>
                </a:lnTo>
                <a:lnTo>
                  <a:pt x="1169" y="208"/>
                </a:lnTo>
                <a:lnTo>
                  <a:pt x="1152" y="210"/>
                </a:lnTo>
                <a:lnTo>
                  <a:pt x="1136" y="211"/>
                </a:lnTo>
                <a:lnTo>
                  <a:pt x="1119" y="213"/>
                </a:lnTo>
                <a:lnTo>
                  <a:pt x="1100" y="214"/>
                </a:lnTo>
                <a:lnTo>
                  <a:pt x="1081" y="215"/>
                </a:lnTo>
                <a:lnTo>
                  <a:pt x="1062" y="217"/>
                </a:lnTo>
                <a:lnTo>
                  <a:pt x="1042" y="220"/>
                </a:lnTo>
                <a:lnTo>
                  <a:pt x="1022" y="221"/>
                </a:lnTo>
                <a:lnTo>
                  <a:pt x="1000" y="223"/>
                </a:lnTo>
                <a:lnTo>
                  <a:pt x="979" y="226"/>
                </a:lnTo>
                <a:lnTo>
                  <a:pt x="956" y="228"/>
                </a:lnTo>
                <a:lnTo>
                  <a:pt x="934" y="230"/>
                </a:lnTo>
                <a:lnTo>
                  <a:pt x="911" y="233"/>
                </a:lnTo>
                <a:lnTo>
                  <a:pt x="887" y="236"/>
                </a:lnTo>
                <a:lnTo>
                  <a:pt x="862" y="239"/>
                </a:lnTo>
                <a:lnTo>
                  <a:pt x="838" y="241"/>
                </a:lnTo>
                <a:lnTo>
                  <a:pt x="812" y="244"/>
                </a:lnTo>
                <a:lnTo>
                  <a:pt x="786" y="247"/>
                </a:lnTo>
                <a:lnTo>
                  <a:pt x="760" y="251"/>
                </a:lnTo>
                <a:lnTo>
                  <a:pt x="733" y="254"/>
                </a:lnTo>
                <a:lnTo>
                  <a:pt x="704" y="257"/>
                </a:lnTo>
                <a:lnTo>
                  <a:pt x="677" y="262"/>
                </a:lnTo>
                <a:lnTo>
                  <a:pt x="651" y="264"/>
                </a:lnTo>
                <a:lnTo>
                  <a:pt x="625" y="267"/>
                </a:lnTo>
                <a:lnTo>
                  <a:pt x="599" y="270"/>
                </a:lnTo>
                <a:lnTo>
                  <a:pt x="574" y="273"/>
                </a:lnTo>
                <a:lnTo>
                  <a:pt x="551" y="276"/>
                </a:lnTo>
                <a:lnTo>
                  <a:pt x="528" y="277"/>
                </a:lnTo>
                <a:lnTo>
                  <a:pt x="505" y="280"/>
                </a:lnTo>
                <a:lnTo>
                  <a:pt x="485" y="283"/>
                </a:lnTo>
                <a:lnTo>
                  <a:pt x="463" y="285"/>
                </a:lnTo>
                <a:lnTo>
                  <a:pt x="445" y="287"/>
                </a:lnTo>
                <a:lnTo>
                  <a:pt x="425" y="289"/>
                </a:lnTo>
                <a:lnTo>
                  <a:pt x="407" y="290"/>
                </a:lnTo>
                <a:lnTo>
                  <a:pt x="390" y="293"/>
                </a:lnTo>
                <a:lnTo>
                  <a:pt x="373" y="295"/>
                </a:lnTo>
                <a:lnTo>
                  <a:pt x="357" y="296"/>
                </a:lnTo>
                <a:lnTo>
                  <a:pt x="341" y="298"/>
                </a:lnTo>
                <a:lnTo>
                  <a:pt x="327" y="299"/>
                </a:lnTo>
                <a:lnTo>
                  <a:pt x="314" y="300"/>
                </a:lnTo>
                <a:lnTo>
                  <a:pt x="301" y="302"/>
                </a:lnTo>
                <a:lnTo>
                  <a:pt x="288" y="302"/>
                </a:lnTo>
                <a:lnTo>
                  <a:pt x="276" y="303"/>
                </a:lnTo>
                <a:lnTo>
                  <a:pt x="265" y="305"/>
                </a:lnTo>
                <a:lnTo>
                  <a:pt x="255" y="305"/>
                </a:lnTo>
                <a:lnTo>
                  <a:pt x="246" y="306"/>
                </a:lnTo>
                <a:lnTo>
                  <a:pt x="237" y="306"/>
                </a:lnTo>
                <a:lnTo>
                  <a:pt x="229" y="306"/>
                </a:lnTo>
                <a:lnTo>
                  <a:pt x="222" y="308"/>
                </a:lnTo>
                <a:lnTo>
                  <a:pt x="216" y="308"/>
                </a:lnTo>
                <a:lnTo>
                  <a:pt x="210" y="308"/>
                </a:lnTo>
                <a:lnTo>
                  <a:pt x="204" y="308"/>
                </a:lnTo>
                <a:lnTo>
                  <a:pt x="194" y="308"/>
                </a:lnTo>
                <a:lnTo>
                  <a:pt x="186" y="306"/>
                </a:lnTo>
                <a:lnTo>
                  <a:pt x="168" y="305"/>
                </a:lnTo>
                <a:lnTo>
                  <a:pt x="153" y="302"/>
                </a:lnTo>
                <a:lnTo>
                  <a:pt x="135" y="296"/>
                </a:lnTo>
                <a:lnTo>
                  <a:pt x="119" y="292"/>
                </a:lnTo>
                <a:lnTo>
                  <a:pt x="104" y="285"/>
                </a:lnTo>
                <a:lnTo>
                  <a:pt x="86" y="279"/>
                </a:lnTo>
                <a:lnTo>
                  <a:pt x="78" y="275"/>
                </a:lnTo>
                <a:lnTo>
                  <a:pt x="68" y="272"/>
                </a:lnTo>
                <a:lnTo>
                  <a:pt x="59" y="269"/>
                </a:lnTo>
                <a:lnTo>
                  <a:pt x="50" y="264"/>
                </a:lnTo>
                <a:lnTo>
                  <a:pt x="42" y="262"/>
                </a:lnTo>
                <a:lnTo>
                  <a:pt x="36" y="259"/>
                </a:lnTo>
                <a:lnTo>
                  <a:pt x="29" y="254"/>
                </a:lnTo>
                <a:lnTo>
                  <a:pt x="23" y="250"/>
                </a:lnTo>
                <a:lnTo>
                  <a:pt x="19" y="247"/>
                </a:lnTo>
                <a:lnTo>
                  <a:pt x="14" y="243"/>
                </a:lnTo>
                <a:lnTo>
                  <a:pt x="10" y="239"/>
                </a:lnTo>
                <a:lnTo>
                  <a:pt x="7" y="234"/>
                </a:lnTo>
                <a:lnTo>
                  <a:pt x="4" y="230"/>
                </a:lnTo>
                <a:lnTo>
                  <a:pt x="3" y="224"/>
                </a:lnTo>
                <a:lnTo>
                  <a:pt x="1" y="218"/>
                </a:lnTo>
                <a:lnTo>
                  <a:pt x="0" y="213"/>
                </a:lnTo>
                <a:lnTo>
                  <a:pt x="0" y="207"/>
                </a:lnTo>
                <a:lnTo>
                  <a:pt x="0" y="20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8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1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8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8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5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6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Box 1"/>
          <p:cNvSpPr/>
          <p:nvPr/>
        </p:nvSpPr>
        <p:spPr>
          <a:xfrm>
            <a:off x="2022480" y="2770200"/>
            <a:ext cx="5783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1a210d"/>
                </a:solidFill>
                <a:latin typeface="Calibri"/>
              </a:rPr>
              <a:t>帐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篷　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一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艘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船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　 踹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开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桅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杆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      揪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矩形 2"/>
          <p:cNvSpPr/>
          <p:nvPr/>
        </p:nvSpPr>
        <p:spPr>
          <a:xfrm>
            <a:off x="2279160" y="270360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pé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矩形 4"/>
          <p:cNvSpPr/>
          <p:nvPr/>
        </p:nvSpPr>
        <p:spPr>
          <a:xfrm>
            <a:off x="4140720" y="2703600"/>
            <a:ext cx="81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sō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9" name="组合 2"/>
          <p:cNvGrpSpPr/>
          <p:nvPr/>
        </p:nvGrpSpPr>
        <p:grpSpPr>
          <a:xfrm>
            <a:off x="882720" y="1352520"/>
            <a:ext cx="2905200" cy="666720"/>
            <a:chOff x="882720" y="1352520"/>
            <a:chExt cx="2905200" cy="666720"/>
          </a:xfrm>
        </p:grpSpPr>
        <p:sp>
          <p:nvSpPr>
            <p:cNvPr id="240" name="圆角矩形 11"/>
            <p:cNvSpPr/>
            <p:nvPr/>
          </p:nvSpPr>
          <p:spPr>
            <a:xfrm>
              <a:off x="1698480" y="149040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41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882720" y="135252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文本框 16"/>
            <p:cNvSpPr/>
            <p:nvPr/>
          </p:nvSpPr>
          <p:spPr>
            <a:xfrm>
              <a:off x="1958040" y="150948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易读错字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3" name="矩形 9"/>
          <p:cNvSpPr/>
          <p:nvPr/>
        </p:nvSpPr>
        <p:spPr>
          <a:xfrm>
            <a:off x="5572080" y="2703600"/>
            <a:ext cx="11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chuà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矩形 10"/>
          <p:cNvSpPr/>
          <p:nvPr/>
        </p:nvSpPr>
        <p:spPr>
          <a:xfrm>
            <a:off x="1954080" y="3902040"/>
            <a:ext cx="80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wé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矩形 12"/>
          <p:cNvSpPr/>
          <p:nvPr/>
        </p:nvSpPr>
        <p:spPr>
          <a:xfrm>
            <a:off x="3736440" y="3927600"/>
            <a:ext cx="63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jiū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6" dur="indefinite" restart="never" nodeType="tmRoot">
          <p:childTnLst>
            <p:seq>
              <p:cTn id="677" dur="indefinite" nodeType="mainSeq">
                <p:childTnLst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Box 1"/>
          <p:cNvSpPr/>
          <p:nvPr/>
        </p:nvSpPr>
        <p:spPr>
          <a:xfrm>
            <a:off x="1778040" y="2886120"/>
            <a:ext cx="5698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嚷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7" name="组合 4"/>
          <p:cNvGrpSpPr/>
          <p:nvPr/>
        </p:nvGrpSpPr>
        <p:grpSpPr>
          <a:xfrm>
            <a:off x="2303640" y="2454120"/>
            <a:ext cx="4128840" cy="1373400"/>
            <a:chOff x="2303640" y="2454120"/>
            <a:chExt cx="4128840" cy="1373400"/>
          </a:xfrm>
        </p:grpSpPr>
        <p:sp>
          <p:nvSpPr>
            <p:cNvPr id="248" name="左大括号 2"/>
            <p:cNvSpPr/>
            <p:nvPr/>
          </p:nvSpPr>
          <p:spPr>
            <a:xfrm>
              <a:off x="2303640" y="2696760"/>
              <a:ext cx="218880" cy="928800"/>
            </a:xfrm>
            <a:custGeom>
              <a:avLst/>
              <a:gdLst>
                <a:gd name="textAreaLeft" fmla="*/ 140040 w 218880"/>
                <a:gd name="textAreaRight" fmla="*/ 219240 w 218880"/>
                <a:gd name="textAreaTop" fmla="*/ 5400 h 928800"/>
                <a:gd name="textAreaBottom" fmla="*/ 923400 h 92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213"/>
                    <a:pt x="10800" y="425"/>
                  </a:cubicBezTo>
                  <a:lnTo>
                    <a:pt x="10800" y="10375"/>
                  </a:lnTo>
                  <a:cubicBezTo>
                    <a:pt x="10800" y="10588"/>
                    <a:pt x="5400" y="10800"/>
                    <a:pt x="0" y="10800"/>
                  </a:cubicBezTo>
                  <a:cubicBezTo>
                    <a:pt x="5400" y="10800"/>
                    <a:pt x="10800" y="11013"/>
                    <a:pt x="10800" y="11225"/>
                  </a:cubicBezTo>
                  <a:lnTo>
                    <a:pt x="10800" y="21175"/>
                  </a:lnTo>
                  <a:cubicBezTo>
                    <a:pt x="10800" y="21388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" name="TextBox 3"/>
            <p:cNvSpPr/>
            <p:nvPr/>
          </p:nvSpPr>
          <p:spPr>
            <a:xfrm>
              <a:off x="2470320" y="2454120"/>
              <a:ext cx="3962160" cy="13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rǎng</a:t>
              </a:r>
              <a:r>
                <a:rPr b="1" lang="zh-CN" sz="2800" spc="-1" strike="noStrike">
                  <a:solidFill>
                    <a:srgbClr val="ff0000"/>
                  </a:solidFill>
                  <a:latin typeface="宋体"/>
                </a:rPr>
                <a:t>（叫嚷　大嚷）</a:t>
              </a:r>
              <a:r>
                <a:rPr b="1" lang="en-US" sz="28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rāng</a:t>
              </a:r>
              <a:r>
                <a:rPr b="1" lang="zh-CN" sz="2800" spc="-1" strike="noStrike">
                  <a:solidFill>
                    <a:srgbClr val="ff0000"/>
                  </a:solidFill>
                  <a:latin typeface="宋体"/>
                </a:rPr>
                <a:t>（嚷嚷）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0" name="TextBox 13"/>
          <p:cNvSpPr/>
          <p:nvPr/>
        </p:nvSpPr>
        <p:spPr>
          <a:xfrm>
            <a:off x="1805040" y="4116240"/>
            <a:ext cx="5698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1" name="组合 5"/>
          <p:cNvGrpSpPr/>
          <p:nvPr/>
        </p:nvGrpSpPr>
        <p:grpSpPr>
          <a:xfrm>
            <a:off x="2362320" y="3801960"/>
            <a:ext cx="3517920" cy="1373400"/>
            <a:chOff x="2362320" y="3801960"/>
            <a:chExt cx="3517920" cy="1373400"/>
          </a:xfrm>
        </p:grpSpPr>
        <p:sp>
          <p:nvSpPr>
            <p:cNvPr id="252" name="左大括号 14"/>
            <p:cNvSpPr/>
            <p:nvPr/>
          </p:nvSpPr>
          <p:spPr>
            <a:xfrm>
              <a:off x="2362320" y="4020840"/>
              <a:ext cx="150480" cy="951120"/>
            </a:xfrm>
            <a:custGeom>
              <a:avLst/>
              <a:gdLst>
                <a:gd name="textAreaLeft" fmla="*/ 96120 w 150480"/>
                <a:gd name="textAreaRight" fmla="*/ 150840 w 150480"/>
                <a:gd name="textAreaTop" fmla="*/ 3600 h 951120"/>
                <a:gd name="textAreaBottom" fmla="*/ 947520 h 951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43"/>
                    <a:pt x="10800" y="286"/>
                  </a:cubicBezTo>
                  <a:lnTo>
                    <a:pt x="10800" y="10514"/>
                  </a:lnTo>
                  <a:cubicBezTo>
                    <a:pt x="10800" y="10657"/>
                    <a:pt x="5400" y="10800"/>
                    <a:pt x="0" y="10800"/>
                  </a:cubicBezTo>
                  <a:cubicBezTo>
                    <a:pt x="5400" y="10800"/>
                    <a:pt x="10800" y="10943"/>
                    <a:pt x="10800" y="11086"/>
                  </a:cubicBezTo>
                  <a:lnTo>
                    <a:pt x="10800" y="21314"/>
                  </a:lnTo>
                  <a:cubicBezTo>
                    <a:pt x="10800" y="21457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" name="TextBox 15"/>
            <p:cNvSpPr/>
            <p:nvPr/>
          </p:nvSpPr>
          <p:spPr>
            <a:xfrm>
              <a:off x="2496960" y="3801960"/>
              <a:ext cx="3383280" cy="13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qiāo</a:t>
              </a:r>
              <a:r>
                <a:rPr b="1" lang="zh-CN" sz="2800" spc="-1" strike="noStrike">
                  <a:solidFill>
                    <a:srgbClr val="ff0000"/>
                  </a:solidFill>
                  <a:latin typeface="宋体"/>
                </a:rPr>
                <a:t>（静悄悄）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qiǎo</a:t>
              </a:r>
              <a:r>
                <a:rPr b="1" lang="zh-CN" sz="2800" spc="-1" strike="noStrike">
                  <a:solidFill>
                    <a:srgbClr val="ff0000"/>
                  </a:solidFill>
                  <a:latin typeface="宋体"/>
                </a:rPr>
                <a:t>（悄然　悄寂）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4" name="组合 2"/>
          <p:cNvGrpSpPr/>
          <p:nvPr/>
        </p:nvGrpSpPr>
        <p:grpSpPr>
          <a:xfrm>
            <a:off x="882720" y="1352520"/>
            <a:ext cx="2905200" cy="666720"/>
            <a:chOff x="882720" y="1352520"/>
            <a:chExt cx="2905200" cy="666720"/>
          </a:xfrm>
        </p:grpSpPr>
        <p:sp>
          <p:nvSpPr>
            <p:cNvPr id="255" name="圆角矩形 17"/>
            <p:cNvSpPr/>
            <p:nvPr/>
          </p:nvSpPr>
          <p:spPr>
            <a:xfrm>
              <a:off x="1698480" y="149040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56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882720" y="135252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文本框 16"/>
            <p:cNvSpPr/>
            <p:nvPr/>
          </p:nvSpPr>
          <p:spPr>
            <a:xfrm>
              <a:off x="1958040" y="150948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多音字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nodeType="clickEffect" fill="hold">
                      <p:stCondLst>
                        <p:cond delay="indefinite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9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矩形 1"/>
          <p:cNvSpPr/>
          <p:nvPr/>
        </p:nvSpPr>
        <p:spPr>
          <a:xfrm>
            <a:off x="1038240" y="1824120"/>
            <a:ext cx="74563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桅杆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迟疑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野蛮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防备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几何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定理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9" name="组合 1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260" name="圆角矩形 5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61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理解词语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3" name="矩形 1"/>
          <p:cNvSpPr/>
          <p:nvPr/>
        </p:nvSpPr>
        <p:spPr>
          <a:xfrm>
            <a:off x="1774800" y="1825560"/>
            <a:ext cx="66405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船上挂帆的杆子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1a210d"/>
                </a:solidFill>
                <a:latin typeface="宋体"/>
              </a:rPr>
              <a:t>造句：</a:t>
            </a:r>
            <a:r>
              <a:rPr b="1" lang="zh-CN" sz="2000" spc="-1" strike="noStrike" u="sng">
                <a:solidFill>
                  <a:srgbClr val="1a210d"/>
                </a:solidFill>
                <a:uFillTx/>
                <a:latin typeface="宋体"/>
              </a:rPr>
              <a:t>桅杆</a:t>
            </a:r>
            <a:r>
              <a:rPr b="1" lang="zh-CN" sz="2000" spc="-1" strike="noStrike">
                <a:solidFill>
                  <a:srgbClr val="1a210d"/>
                </a:solidFill>
                <a:latin typeface="宋体"/>
              </a:rPr>
              <a:t>上的旗子迎风飘扬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拿不定主意；犹豫不决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1a210d"/>
                </a:solidFill>
                <a:latin typeface="宋体"/>
              </a:rPr>
              <a:t>造句：面对大家的期待，他</a:t>
            </a:r>
            <a:r>
              <a:rPr b="1" lang="zh-CN" sz="2000" spc="-1" strike="noStrike" u="sng">
                <a:solidFill>
                  <a:srgbClr val="1a210d"/>
                </a:solidFill>
                <a:uFillTx/>
                <a:latin typeface="宋体"/>
              </a:rPr>
              <a:t>迟疑</a:t>
            </a:r>
            <a:r>
              <a:rPr b="1" lang="zh-CN" sz="2000" spc="-1" strike="noStrike">
                <a:solidFill>
                  <a:srgbClr val="1a210d"/>
                </a:solidFill>
                <a:latin typeface="宋体"/>
              </a:rPr>
              <a:t>了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蛮横残暴；粗鲁。文中指罗马士兵蛮横不讲理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做好准备以应付攻击或避免受害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数学的一个分支，研究空间图形的形状、大小和位置的相互关系等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已经证明具有正确性、可以作为原则或规律的命题或公式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6" dur="5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1" dur="500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nodeType="clickEffect" fill="hold">
                      <p:stCondLst>
                        <p:cond delay="indefinite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6" dur="500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1" dur="500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6" dur="500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1" dur="500"/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nodeType="clickEffect" fill="hold">
                      <p:stCondLst>
                        <p:cond delay="indefinite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6" dur="500"/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1" dur="500"/>
                                        <p:tgtEl>
                                          <p:spTgt spid="2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矩形 1"/>
          <p:cNvSpPr/>
          <p:nvPr/>
        </p:nvSpPr>
        <p:spPr>
          <a:xfrm>
            <a:off x="928800" y="1824120"/>
            <a:ext cx="7456320" cy="41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牺牲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杀气腾腾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聚精会神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5" name="组合 1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266" name="圆角矩形 5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67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理解词语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9" name="矩形 1"/>
          <p:cNvSpPr/>
          <p:nvPr/>
        </p:nvSpPr>
        <p:spPr>
          <a:xfrm>
            <a:off x="2108160" y="1857240"/>
            <a:ext cx="6786720" cy="31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①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为了正义的目的舍弃自己的生命。②放弃或损害某些利益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1a210d"/>
                </a:solidFill>
                <a:latin typeface="宋体"/>
              </a:rPr>
              <a:t>造句：为了祖国的统一，他毅然</a:t>
            </a:r>
            <a:r>
              <a:rPr b="1" lang="zh-CN" sz="2200" spc="-1" strike="noStrike" u="sng">
                <a:solidFill>
                  <a:srgbClr val="1a210d"/>
                </a:solidFill>
                <a:uFillTx/>
                <a:latin typeface="宋体"/>
              </a:rPr>
              <a:t>牺牲</a:t>
            </a:r>
            <a:r>
              <a:rPr b="1" lang="zh-CN" sz="2200" spc="-1" strike="noStrike">
                <a:solidFill>
                  <a:srgbClr val="1a210d"/>
                </a:solidFill>
                <a:latin typeface="宋体"/>
              </a:rPr>
              <a:t>在战场上。为了赶进度，他</a:t>
            </a:r>
            <a:r>
              <a:rPr b="1" lang="zh-CN" sz="2200" spc="-1" strike="noStrike" u="sng">
                <a:solidFill>
                  <a:srgbClr val="1a210d"/>
                </a:solidFill>
                <a:uFillTx/>
                <a:latin typeface="宋体"/>
              </a:rPr>
              <a:t>牺牲</a:t>
            </a:r>
            <a:r>
              <a:rPr b="1" lang="zh-CN" sz="2200" spc="-1" strike="noStrike">
                <a:solidFill>
                  <a:srgbClr val="1a210d"/>
                </a:solidFill>
                <a:latin typeface="宋体"/>
              </a:rPr>
              <a:t>了休息时间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充满凶恶的气势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1a210d"/>
                </a:solidFill>
                <a:latin typeface="宋体"/>
              </a:rPr>
              <a:t>造句：这里</a:t>
            </a:r>
            <a:r>
              <a:rPr b="1" lang="zh-CN" sz="2200" spc="-1" strike="noStrike" u="sng">
                <a:solidFill>
                  <a:srgbClr val="1a210d"/>
                </a:solidFill>
                <a:uFillTx/>
                <a:latin typeface="宋体"/>
              </a:rPr>
              <a:t>杀气腾腾</a:t>
            </a:r>
            <a:r>
              <a:rPr b="1" lang="zh-CN" sz="2200" spc="-1" strike="noStrike">
                <a:solidFill>
                  <a:srgbClr val="1a210d"/>
                </a:solidFill>
                <a:latin typeface="宋体"/>
              </a:rPr>
              <a:t>，令人恐惧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集中精神。文中指阿基米德解题时精神高度集中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1a210d"/>
                </a:solidFill>
                <a:latin typeface="宋体"/>
              </a:rPr>
              <a:t>造句：上课了，同学们都在</a:t>
            </a:r>
            <a:r>
              <a:rPr b="1" lang="zh-CN" sz="2200" spc="-1" strike="noStrike" u="sng">
                <a:solidFill>
                  <a:srgbClr val="1a210d"/>
                </a:solidFill>
                <a:uFillTx/>
                <a:latin typeface="宋体"/>
              </a:rPr>
              <a:t>聚精会神</a:t>
            </a:r>
            <a:r>
              <a:rPr b="1" lang="zh-CN" sz="2200" spc="-1" strike="noStrike">
                <a:solidFill>
                  <a:srgbClr val="1a210d"/>
                </a:solidFill>
                <a:latin typeface="宋体"/>
              </a:rPr>
              <a:t>地听课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2" dur="indefinite" restart="never" nodeType="tmRoot">
          <p:childTnLst>
            <p:seq>
              <p:cTn id="763" dur="indefinite" nodeType="mainSeq">
                <p:childTnLst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8" dur="5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3" dur="500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nodeType="clickEffect" fill="hold">
                      <p:stCondLst>
                        <p:cond delay="indefinite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8" dur="500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3" dur="500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nodeType="clickEffect" fill="hold">
                      <p:stCondLst>
                        <p:cond delay="indefinite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8" dur="500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3" dur="500"/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矩形 1"/>
          <p:cNvSpPr/>
          <p:nvPr/>
        </p:nvSpPr>
        <p:spPr>
          <a:xfrm>
            <a:off x="3963240" y="1919160"/>
            <a:ext cx="121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奇怪　奇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矩形 2"/>
          <p:cNvSpPr/>
          <p:nvPr/>
        </p:nvSpPr>
        <p:spPr>
          <a:xfrm>
            <a:off x="2162160" y="2459160"/>
            <a:ext cx="6257880" cy="294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宋体"/>
              </a:rPr>
              <a:t>都有“不一般、不平常、不为人们所常见”的意思。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300" spc="-1" strike="noStrike">
                <a:solidFill>
                  <a:srgbClr val="000000"/>
                </a:solidFill>
                <a:latin typeface="宋体"/>
              </a:rPr>
              <a:t>奇怪”表示出乎意料，可以重叠使用，如“奇奇怪怪”，也可以用作动词，而“奇特”不能。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300" spc="-1" strike="noStrike">
                <a:solidFill>
                  <a:srgbClr val="000000"/>
                </a:solidFill>
                <a:latin typeface="宋体"/>
              </a:rPr>
              <a:t>人们</a:t>
            </a:r>
            <a:r>
              <a:rPr b="1" lang="zh-CN" sz="2300" spc="-1" strike="noStrike">
                <a:solidFill>
                  <a:srgbClr val="ff33cc"/>
                </a:solidFill>
                <a:latin typeface="宋体"/>
              </a:rPr>
              <a:t>奇怪</a:t>
            </a:r>
            <a:r>
              <a:rPr b="1" lang="zh-CN" sz="2300" spc="-1" strike="noStrike">
                <a:solidFill>
                  <a:srgbClr val="000000"/>
                </a:solidFill>
                <a:latin typeface="宋体"/>
              </a:rPr>
              <a:t>她哪来的这么大的勇气。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300" spc="-1" strike="noStrike">
                <a:solidFill>
                  <a:srgbClr val="000000"/>
                </a:solidFill>
                <a:latin typeface="宋体"/>
              </a:rPr>
              <a:t>这块</a:t>
            </a:r>
            <a:r>
              <a:rPr b="1" lang="zh-CN" sz="2300" spc="-1" strike="noStrike">
                <a:solidFill>
                  <a:srgbClr val="ff33cc"/>
                </a:solidFill>
                <a:latin typeface="宋体"/>
              </a:rPr>
              <a:t>奇特</a:t>
            </a:r>
            <a:r>
              <a:rPr b="1" lang="zh-CN" sz="2300" spc="-1" strike="noStrike">
                <a:solidFill>
                  <a:srgbClr val="000000"/>
                </a:solidFill>
                <a:latin typeface="宋体"/>
              </a:rPr>
              <a:t>的石头是怎么来的呢？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2" name="组合 13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273" name="圆角矩形 14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74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辨析词语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6" name="组合 4"/>
          <p:cNvGrpSpPr/>
          <p:nvPr/>
        </p:nvGrpSpPr>
        <p:grpSpPr>
          <a:xfrm>
            <a:off x="681120" y="2523960"/>
            <a:ext cx="1670040" cy="459720"/>
            <a:chOff x="681120" y="2523960"/>
            <a:chExt cx="1670040" cy="459720"/>
          </a:xfrm>
        </p:grpSpPr>
        <p:pic>
          <p:nvPicPr>
            <p:cNvPr id="277" name="Picture 9" descr="E:\各版本共用文件\0未分类文件\图片\课件制作所需图片\星星.jpg"/>
            <p:cNvPicPr/>
            <p:nvPr/>
          </p:nvPicPr>
          <p:blipFill>
            <a:blip r:embed="rId2"/>
            <a:stretch/>
          </p:blipFill>
          <p:spPr>
            <a:xfrm>
              <a:off x="681120" y="2578320"/>
              <a:ext cx="366120" cy="34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TextBox 3"/>
            <p:cNvSpPr/>
            <p:nvPr/>
          </p:nvSpPr>
          <p:spPr>
            <a:xfrm>
              <a:off x="1024200" y="2523960"/>
              <a:ext cx="1326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相同点：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9" name="组合 20"/>
          <p:cNvGrpSpPr/>
          <p:nvPr/>
        </p:nvGrpSpPr>
        <p:grpSpPr>
          <a:xfrm>
            <a:off x="681120" y="3627360"/>
            <a:ext cx="1670040" cy="459720"/>
            <a:chOff x="681120" y="3627360"/>
            <a:chExt cx="1670040" cy="459720"/>
          </a:xfrm>
        </p:grpSpPr>
        <p:pic>
          <p:nvPicPr>
            <p:cNvPr id="280" name="Picture 9" descr="E:\各版本共用文件\0未分类文件\图片\课件制作所需图片\星星.jpg"/>
            <p:cNvPicPr/>
            <p:nvPr/>
          </p:nvPicPr>
          <p:blipFill>
            <a:blip r:embed="rId3"/>
            <a:stretch/>
          </p:blipFill>
          <p:spPr>
            <a:xfrm>
              <a:off x="681120" y="3681720"/>
              <a:ext cx="366120" cy="34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TextBox 22"/>
            <p:cNvSpPr/>
            <p:nvPr/>
          </p:nvSpPr>
          <p:spPr>
            <a:xfrm>
              <a:off x="1024200" y="3627360"/>
              <a:ext cx="1326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不同点：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2" name="组合 23"/>
          <p:cNvGrpSpPr/>
          <p:nvPr/>
        </p:nvGrpSpPr>
        <p:grpSpPr>
          <a:xfrm>
            <a:off x="681120" y="5284800"/>
            <a:ext cx="1670040" cy="459720"/>
            <a:chOff x="681120" y="5284800"/>
            <a:chExt cx="1670040" cy="459720"/>
          </a:xfrm>
        </p:grpSpPr>
        <p:pic>
          <p:nvPicPr>
            <p:cNvPr id="283" name="Picture 9" descr="E:\各版本共用文件\0未分类文件\图片\课件制作所需图片\星星.jpg"/>
            <p:cNvPicPr/>
            <p:nvPr/>
          </p:nvPicPr>
          <p:blipFill>
            <a:blip r:embed="rId4"/>
            <a:stretch/>
          </p:blipFill>
          <p:spPr>
            <a:xfrm>
              <a:off x="681120" y="5339160"/>
              <a:ext cx="366120" cy="34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TextBox 25"/>
            <p:cNvSpPr/>
            <p:nvPr/>
          </p:nvSpPr>
          <p:spPr>
            <a:xfrm>
              <a:off x="1024200" y="5284800"/>
              <a:ext cx="1326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造  句：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4" dur="indefinite" restart="never" nodeType="tmRoot">
          <p:childTnLst>
            <p:seq>
              <p:cTn id="795" dur="indefinite" nodeType="mainSeq">
                <p:childTnLst>
                  <p:par>
                    <p:cTn id="796" nodeType="clickEffect" fill="hold">
                      <p:stCondLst>
                        <p:cond delay="indefinite"/>
                      </p:stCondLst>
                      <p:childTnLst>
                        <p:par>
                          <p:cTn id="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0" dur="5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5" dur="500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nodeType="clickEffect" fill="hold">
                      <p:stCondLst>
                        <p:cond delay="indefinite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0" dur="500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5" dur="500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矩形 1"/>
          <p:cNvSpPr/>
          <p:nvPr/>
        </p:nvSpPr>
        <p:spPr>
          <a:xfrm>
            <a:off x="1249200" y="1598760"/>
            <a:ext cx="6807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第一部分</a:t>
            </a:r>
            <a:r>
              <a:rPr b="1" lang="en-US" sz="2400" spc="-1" strike="noStrike">
                <a:solidFill>
                  <a:srgbClr val="00b0f0"/>
                </a:solidFill>
                <a:latin typeface="黑体"/>
                <a:ea typeface="黑体"/>
              </a:rPr>
              <a:t>(</a:t>
            </a: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第</a:t>
            </a:r>
            <a:r>
              <a:rPr b="1" lang="en-US" sz="2400" spc="-1" strike="noStrike">
                <a:solidFill>
                  <a:srgbClr val="00b0f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、</a:t>
            </a:r>
            <a:r>
              <a:rPr b="1" lang="en-US" sz="2400" spc="-1" strike="noStrike">
                <a:solidFill>
                  <a:srgbClr val="00b0f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自然段</a:t>
            </a:r>
            <a:r>
              <a:rPr b="1" lang="en-US" sz="2400" spc="-1" strike="noStrike">
                <a:solidFill>
                  <a:srgbClr val="00b0f0"/>
                </a:solidFill>
                <a:latin typeface="黑体"/>
                <a:ea typeface="黑体"/>
              </a:rPr>
              <a:t>)</a:t>
            </a:r>
            <a:r>
              <a:rPr b="1" lang="zh-CN" sz="2400" spc="-1" strike="noStrike">
                <a:solidFill>
                  <a:srgbClr val="c00000"/>
                </a:solidFill>
                <a:latin typeface="Calibri"/>
              </a:rPr>
              <a:t>简介阿基米德。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概括介绍阿基米德是希腊有名的科学家，他爱动脑筋、想问题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第二部分</a:t>
            </a:r>
            <a:r>
              <a:rPr b="1" lang="en-US" sz="2400" spc="-1" strike="noStrike">
                <a:solidFill>
                  <a:srgbClr val="00b0f0"/>
                </a:solidFill>
                <a:latin typeface="黑体"/>
                <a:ea typeface="黑体"/>
              </a:rPr>
              <a:t>(</a:t>
            </a: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第</a:t>
            </a:r>
            <a:r>
              <a:rPr b="1" lang="en-US" sz="2400" spc="-1" strike="noStrike">
                <a:solidFill>
                  <a:srgbClr val="00b0f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－</a:t>
            </a:r>
            <a:r>
              <a:rPr b="1" lang="en-US" sz="2400" spc="-1" strike="noStrike">
                <a:solidFill>
                  <a:srgbClr val="00b0f0"/>
                </a:solidFill>
                <a:latin typeface="黑体"/>
                <a:ea typeface="黑体"/>
              </a:rPr>
              <a:t>14</a:t>
            </a: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自然段</a:t>
            </a:r>
            <a:r>
              <a:rPr b="1" lang="en-US" sz="2400" spc="-1" strike="noStrike">
                <a:solidFill>
                  <a:srgbClr val="00b0f0"/>
                </a:solidFill>
                <a:latin typeface="黑体"/>
                <a:ea typeface="黑体"/>
              </a:rPr>
              <a:t>)</a:t>
            </a:r>
            <a:r>
              <a:rPr b="1" lang="zh-CN" sz="2400" spc="-1" strike="noStrike">
                <a:solidFill>
                  <a:srgbClr val="c00000"/>
                </a:solidFill>
                <a:latin typeface="Calibri"/>
              </a:rPr>
              <a:t>巧退敌人。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写阿基米德运用镜子的反射原理，让侵略者吃了败仗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第三部分</a:t>
            </a:r>
            <a:r>
              <a:rPr b="1" lang="en-US" sz="2400" spc="-1" strike="noStrike">
                <a:solidFill>
                  <a:srgbClr val="00b0f0"/>
                </a:solidFill>
                <a:latin typeface="黑体"/>
                <a:ea typeface="黑体"/>
              </a:rPr>
              <a:t>(</a:t>
            </a: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第</a:t>
            </a:r>
            <a:r>
              <a:rPr b="1" lang="en-US" sz="2400" spc="-1" strike="noStrike">
                <a:solidFill>
                  <a:srgbClr val="00b0f0"/>
                </a:solidFill>
                <a:latin typeface="黑体"/>
                <a:ea typeface="黑体"/>
              </a:rPr>
              <a:t>15</a:t>
            </a: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－</a:t>
            </a:r>
            <a:r>
              <a:rPr b="1" lang="en-US" sz="2400" spc="-1" strike="noStrike">
                <a:solidFill>
                  <a:srgbClr val="00b0f0"/>
                </a:solidFill>
                <a:latin typeface="黑体"/>
                <a:ea typeface="黑体"/>
              </a:rPr>
              <a:t>20</a:t>
            </a: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自然段</a:t>
            </a:r>
            <a:r>
              <a:rPr b="1" lang="en-US" sz="2400" spc="-1" strike="noStrike">
                <a:solidFill>
                  <a:srgbClr val="00b0f0"/>
                </a:solidFill>
                <a:latin typeface="黑体"/>
                <a:ea typeface="黑体"/>
              </a:rPr>
              <a:t>)</a:t>
            </a:r>
            <a:r>
              <a:rPr b="1" lang="zh-CN" sz="2400" spc="-1" strike="noStrike">
                <a:solidFill>
                  <a:srgbClr val="c00000"/>
                </a:solidFill>
                <a:latin typeface="Calibri"/>
              </a:rPr>
              <a:t>为科学献身。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写罗马侵略者残忍地杀害了阿基米德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6" name="Picture 2" descr="C:\Users\Administrator\Desktop\3333\初读感知.png"/>
          <p:cNvPicPr/>
          <p:nvPr/>
        </p:nvPicPr>
        <p:blipFill>
          <a:blip r:embed="rId1"/>
          <a:stretch/>
        </p:blipFill>
        <p:spPr>
          <a:xfrm>
            <a:off x="3467160" y="306360"/>
            <a:ext cx="2473200" cy="6476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6" dur="indefinite" restart="never" nodeType="tmRoot">
          <p:childTnLst>
            <p:seq>
              <p:cTn id="817" dur="indefinite" nodeType="mainSeq">
                <p:childTnLst>
                  <p:par>
                    <p:cTn id="818" nodeType="clickEffect" fill="hold">
                      <p:stCondLst>
                        <p:cond delay="indefinite"/>
                      </p:stCondLst>
                      <p:childTnLst>
                        <p:par>
                          <p:cTn id="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2" dur="5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nodeType="clickEffect" fill="hold">
                      <p:stCondLst>
                        <p:cond delay="indefinite"/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7" dur="500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nodeType="clickEffect" fill="hold">
                      <p:stCondLst>
                        <p:cond delay="indefinite"/>
                      </p:stCondLst>
                      <p:childTnLst>
                        <p:par>
                          <p:cTn id="8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2" dur="500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Box 17"/>
          <p:cNvSpPr/>
          <p:nvPr/>
        </p:nvSpPr>
        <p:spPr>
          <a:xfrm>
            <a:off x="1386000" y="2847960"/>
            <a:ext cx="6261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200000"/>
              </a:lnSpc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带领大家巧用镜子击退敌人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200000"/>
              </a:lnSpc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在危险面前仍专心研究解题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矩形 5"/>
          <p:cNvSpPr/>
          <p:nvPr/>
        </p:nvSpPr>
        <p:spPr>
          <a:xfrm>
            <a:off x="930240" y="1598760"/>
            <a:ext cx="746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通读全文，说说课文主要讲那两件事来描写科学家阿基米德的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3" dur="indefinite" restart="never" nodeType="tmRoot">
          <p:childTnLst>
            <p:seq>
              <p:cTn id="834" dur="indefinite" nodeType="mainSeq">
                <p:childTnLst>
                  <p:par>
                    <p:cTn id="835" nodeType="clickEffect" fill="hold">
                      <p:stCondLst>
                        <p:cond delay="indefinite"/>
                      </p:stCondLst>
                      <p:childTnLst>
                        <p:par>
                          <p:cTn id="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39" dur="5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nodeType="clickEffect" fill="hold">
                      <p:stCondLst>
                        <p:cond delay="indefinite"/>
                      </p:stCondLst>
                      <p:childTnLst>
                        <p:par>
                          <p:cTn id="8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44" dur="500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图示 7" descr=""/>
          <p:cNvPicPr/>
          <p:nvPr/>
        </p:nvPicPr>
        <p:blipFill>
          <a:blip r:embed="rId1"/>
          <a:stretch/>
        </p:blipFill>
        <p:spPr>
          <a:xfrm>
            <a:off x="878040" y="1090440"/>
            <a:ext cx="3090600" cy="1470240"/>
          </a:xfrm>
          <a:prstGeom prst="rect">
            <a:avLst/>
          </a:prstGeom>
          <a:ln w="0">
            <a:noFill/>
          </a:ln>
        </p:spPr>
      </p:pic>
      <p:sp>
        <p:nvSpPr>
          <p:cNvPr id="290" name="矩形 11"/>
          <p:cNvSpPr/>
          <p:nvPr/>
        </p:nvSpPr>
        <p:spPr>
          <a:xfrm>
            <a:off x="1017720" y="2279520"/>
            <a:ext cx="73800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课文按</a:t>
            </a:r>
            <a:r>
              <a:rPr b="1" lang="zh-CN" sz="2800" spc="-1" strike="noStrike">
                <a:solidFill>
                  <a:srgbClr val="c00000"/>
                </a:solidFill>
                <a:latin typeface="宋体"/>
              </a:rPr>
              <a:t>事情发展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顺序，具体地描述阿基米德“</a:t>
            </a:r>
            <a:r>
              <a:rPr b="1" lang="zh-CN" sz="2800" spc="-1" strike="noStrike">
                <a:solidFill>
                  <a:srgbClr val="c00000"/>
                </a:solidFill>
                <a:latin typeface="宋体"/>
              </a:rPr>
              <a:t>带领大家巧用镜子击退敌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和“</a:t>
            </a:r>
            <a:r>
              <a:rPr b="1" lang="zh-CN" sz="2800" spc="-1" strike="noStrike">
                <a:solidFill>
                  <a:srgbClr val="c00000"/>
                </a:solidFill>
                <a:latin typeface="宋体"/>
              </a:rPr>
              <a:t>在危险面前仍专心研究解题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这两件事，表现了科学家阿基米德爱动脑、善用科学、热爱科学的品质，赞扬了他</a:t>
            </a:r>
            <a:r>
              <a:rPr b="1" lang="zh-CN" sz="2800" spc="-1" strike="noStrike">
                <a:solidFill>
                  <a:srgbClr val="c00000"/>
                </a:solidFill>
                <a:latin typeface="宋体"/>
              </a:rPr>
              <a:t>现身科学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精神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5" dur="indefinite" restart="never" nodeType="tmRoot">
          <p:childTnLst>
            <p:seq>
              <p:cTn id="846" dur="indefinite" nodeType="mainSeq">
                <p:childTnLst>
                  <p:par>
                    <p:cTn id="847" nodeType="clickEffect" fill="hold">
                      <p:stCondLst>
                        <p:cond delay="indefinite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3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矩形 6"/>
          <p:cNvSpPr/>
          <p:nvPr/>
        </p:nvSpPr>
        <p:spPr>
          <a:xfrm>
            <a:off x="866880" y="2365200"/>
            <a:ext cx="7491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会写“桅、篷”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个生字，会认“剑”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个生字。正确读写“反射、聚精会神”等词语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正确、流利、有感情地朗读课文。理解课文内容，体会阿基米德爱动脑筋、热爱科学的精神，激发对科学家的敬仰和对科学的热爱之情。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（重点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图示 4" descr=""/>
          <p:cNvPicPr/>
          <p:nvPr/>
        </p:nvPicPr>
        <p:blipFill>
          <a:blip r:embed="rId1"/>
          <a:stretch/>
        </p:blipFill>
        <p:spPr>
          <a:xfrm>
            <a:off x="878040" y="1090440"/>
            <a:ext cx="3090600" cy="14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矩形 7167"/>
          <p:cNvSpPr/>
          <p:nvPr/>
        </p:nvSpPr>
        <p:spPr>
          <a:xfrm>
            <a:off x="1582560" y="2395440"/>
            <a:ext cx="680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给下面的多音字注音并组词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　　 　）　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 　　　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　　 　）　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　 　　）　　　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矩形 1"/>
          <p:cNvSpPr/>
          <p:nvPr/>
        </p:nvSpPr>
        <p:spPr>
          <a:xfrm>
            <a:off x="1429560" y="33019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矩形 3"/>
          <p:cNvSpPr/>
          <p:nvPr/>
        </p:nvSpPr>
        <p:spPr>
          <a:xfrm>
            <a:off x="4579920" y="2940120"/>
            <a:ext cx="65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左大括号 4"/>
          <p:cNvSpPr/>
          <p:nvPr/>
        </p:nvSpPr>
        <p:spPr>
          <a:xfrm>
            <a:off x="1857240" y="3162240"/>
            <a:ext cx="155880" cy="914400"/>
          </a:xfrm>
          <a:custGeom>
            <a:avLst/>
            <a:gdLst>
              <a:gd name="textAreaLeft" fmla="*/ 99720 w 155880"/>
              <a:gd name="textAreaRight" fmla="*/ 156240 w 155880"/>
              <a:gd name="textAreaTop" fmla="*/ 3960 h 914400"/>
              <a:gd name="textAreaBottom" fmla="*/ 9104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"/>
                  <a:pt x="10800" y="306"/>
                </a:cubicBezTo>
                <a:lnTo>
                  <a:pt x="10800" y="10494"/>
                </a:lnTo>
                <a:cubicBezTo>
                  <a:pt x="10800" y="10647"/>
                  <a:pt x="5400" y="10800"/>
                  <a:pt x="0" y="10800"/>
                </a:cubicBezTo>
                <a:cubicBezTo>
                  <a:pt x="5400" y="10800"/>
                  <a:pt x="10800" y="10953"/>
                  <a:pt x="10800" y="11106"/>
                </a:cubicBezTo>
                <a:lnTo>
                  <a:pt x="10800" y="21294"/>
                </a:lnTo>
                <a:cubicBezTo>
                  <a:pt x="10800" y="21447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左大括号 14"/>
          <p:cNvSpPr/>
          <p:nvPr/>
        </p:nvSpPr>
        <p:spPr>
          <a:xfrm>
            <a:off x="4984920" y="3162240"/>
            <a:ext cx="155520" cy="914400"/>
          </a:xfrm>
          <a:custGeom>
            <a:avLst/>
            <a:gdLst>
              <a:gd name="textAreaLeft" fmla="*/ 99360 w 155520"/>
              <a:gd name="textAreaRight" fmla="*/ 155520 w 155520"/>
              <a:gd name="textAreaTop" fmla="*/ 3960 h 914400"/>
              <a:gd name="textAreaBottom" fmla="*/ 9104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"/>
                  <a:pt x="10800" y="306"/>
                </a:cubicBezTo>
                <a:lnTo>
                  <a:pt x="10800" y="10494"/>
                </a:lnTo>
                <a:cubicBezTo>
                  <a:pt x="10800" y="10647"/>
                  <a:pt x="5400" y="10800"/>
                  <a:pt x="0" y="10800"/>
                </a:cubicBezTo>
                <a:cubicBezTo>
                  <a:pt x="5400" y="10800"/>
                  <a:pt x="10800" y="10953"/>
                  <a:pt x="10800" y="11106"/>
                </a:cubicBezTo>
                <a:lnTo>
                  <a:pt x="10800" y="21294"/>
                </a:lnTo>
                <a:cubicBezTo>
                  <a:pt x="10800" y="21447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矩形 6"/>
          <p:cNvSpPr/>
          <p:nvPr/>
        </p:nvSpPr>
        <p:spPr>
          <a:xfrm>
            <a:off x="1884240" y="3032280"/>
            <a:ext cx="103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方正姚体"/>
                <a:ea typeface="方正姚体"/>
              </a:rPr>
              <a:t>jué</a:t>
            </a:r>
            <a:r>
              <a:rPr b="1" lang="zh-CN" sz="2400" spc="-1" strike="noStrike">
                <a:solidFill>
                  <a:srgbClr val="ff0000"/>
                </a:solidFill>
                <a:latin typeface="方正姚体"/>
                <a:ea typeface="方正姚体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矩形 7"/>
          <p:cNvSpPr/>
          <p:nvPr/>
        </p:nvSpPr>
        <p:spPr>
          <a:xfrm>
            <a:off x="1876320" y="3573360"/>
            <a:ext cx="111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方正姚体"/>
                <a:ea typeface="方正姚体"/>
              </a:rPr>
              <a:t>jiào</a:t>
            </a:r>
            <a:r>
              <a:rPr b="1" lang="zh-CN" sz="2400" spc="-1" strike="noStrike">
                <a:solidFill>
                  <a:srgbClr val="ff0000"/>
                </a:solidFill>
                <a:latin typeface="方正姚体"/>
                <a:ea typeface="方正姚体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矩形 8"/>
          <p:cNvSpPr/>
          <p:nvPr/>
        </p:nvSpPr>
        <p:spPr>
          <a:xfrm>
            <a:off x="5031360" y="3036960"/>
            <a:ext cx="12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方正姚体"/>
                <a:ea typeface="方正姚体"/>
              </a:rPr>
              <a:t>qiāo</a:t>
            </a:r>
            <a:r>
              <a:rPr b="1" lang="zh-CN" sz="2400" spc="-1" strike="noStrike">
                <a:solidFill>
                  <a:srgbClr val="ff0000"/>
                </a:solidFill>
                <a:latin typeface="方正姚体"/>
                <a:ea typeface="方正姚体"/>
              </a:rPr>
              <a:t>　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矩形 9"/>
          <p:cNvSpPr/>
          <p:nvPr/>
        </p:nvSpPr>
        <p:spPr>
          <a:xfrm>
            <a:off x="5072760" y="3559320"/>
            <a:ext cx="12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方正姚体"/>
                <a:ea typeface="方正姚体"/>
              </a:rPr>
              <a:t>qiǎo</a:t>
            </a:r>
            <a:r>
              <a:rPr b="1" lang="zh-CN" sz="2400" spc="-1" strike="noStrike">
                <a:solidFill>
                  <a:srgbClr val="ff0000"/>
                </a:solidFill>
                <a:latin typeface="方正姚体"/>
                <a:ea typeface="方正姚体"/>
              </a:rPr>
              <a:t>　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0" name="图片 17" descr=""/>
          <p:cNvPicPr/>
          <p:nvPr/>
        </p:nvPicPr>
        <p:blipFill>
          <a:blip r:embed="rId1"/>
          <a:stretch/>
        </p:blipFill>
        <p:spPr>
          <a:xfrm>
            <a:off x="3284640" y="312840"/>
            <a:ext cx="2585880" cy="6015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301" name="矩形 1"/>
          <p:cNvSpPr/>
          <p:nvPr/>
        </p:nvSpPr>
        <p:spPr>
          <a:xfrm>
            <a:off x="2887560" y="3041640"/>
            <a:ext cx="69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感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矩形 2"/>
          <p:cNvSpPr/>
          <p:nvPr/>
        </p:nvSpPr>
        <p:spPr>
          <a:xfrm>
            <a:off x="2887560" y="3630600"/>
            <a:ext cx="69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睡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矩形 3"/>
          <p:cNvSpPr/>
          <p:nvPr/>
        </p:nvSpPr>
        <p:spPr>
          <a:xfrm>
            <a:off x="6262200" y="30621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静悄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矩形 5"/>
          <p:cNvSpPr/>
          <p:nvPr/>
        </p:nvSpPr>
        <p:spPr>
          <a:xfrm>
            <a:off x="6338520" y="36147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悄然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4" dur="indefinite" restart="never" nodeType="tmRoot">
          <p:childTnLst>
            <p:seq>
              <p:cTn id="855" dur="indefinite" nodeType="mainSeq">
                <p:childTnLst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0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nodeType="clickEffect" fill="hold">
                      <p:stCondLst>
                        <p:cond delay="indefinite"/>
                      </p:stCondLst>
                      <p:childTnLst>
                        <p:par>
                          <p:cTn id="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nodeType="clickEffect" fill="hold">
                      <p:stCondLst>
                        <p:cond delay="indefinite"/>
                      </p:stCondLst>
                      <p:childTnLst>
                        <p:par>
                          <p:cTn id="8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0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nodeType="clickEffect" fill="hold">
                      <p:stCondLst>
                        <p:cond delay="indefinite"/>
                      </p:stCondLst>
                      <p:childTnLst>
                        <p:par>
                          <p:cTn id="8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5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nodeType="clickEffect" fill="hold">
                      <p:stCondLst>
                        <p:cond delay="indefinite"/>
                      </p:stCondLst>
                      <p:childTnLst>
                        <p:par>
                          <p:cTn id="8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0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nodeType="clickEffect" fill="hold">
                      <p:stCondLst>
                        <p:cond delay="indefinite"/>
                      </p:stCondLst>
                      <p:childTnLst>
                        <p:par>
                          <p:cTn id="8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5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nodeType="clickEffect" fill="hold">
                      <p:stCondLst>
                        <p:cond delay="indefinite"/>
                      </p:stCondLst>
                      <p:childTnLst>
                        <p:par>
                          <p:cTn id="8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nodeType="clickEffect" fill="hold">
                      <p:stCondLst>
                        <p:cond delay="indefinite"/>
                      </p:stCondLst>
                      <p:childTnLst>
                        <p:par>
                          <p:cTn id="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5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5" name=""/>
          <p:cNvGraphicFramePr/>
          <p:nvPr/>
        </p:nvGraphicFramePr>
        <p:xfrm>
          <a:off x="2874960" y="2827440"/>
          <a:ext cx="1440000" cy="73188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920"/>
                <a:gridCol w="36036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06" name=""/>
          <p:cNvGraphicFramePr/>
          <p:nvPr/>
        </p:nvGraphicFramePr>
        <p:xfrm>
          <a:off x="1165320" y="2827440"/>
          <a:ext cx="1439640" cy="73188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560"/>
                <a:gridCol w="36036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07" name=""/>
          <p:cNvGraphicFramePr/>
          <p:nvPr/>
        </p:nvGraphicFramePr>
        <p:xfrm>
          <a:off x="4603680" y="2843280"/>
          <a:ext cx="2992680" cy="731880"/>
        </p:xfrm>
        <a:graphic>
          <a:graphicData uri="http://schemas.openxmlformats.org/drawingml/2006/table">
            <a:tbl>
              <a:tblPr/>
              <a:tblGrid>
                <a:gridCol w="374760"/>
                <a:gridCol w="372960"/>
                <a:gridCol w="374760"/>
                <a:gridCol w="374760"/>
                <a:gridCol w="372960"/>
                <a:gridCol w="374760"/>
                <a:gridCol w="372960"/>
                <a:gridCol w="37476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08" name=""/>
          <p:cNvGraphicFramePr/>
          <p:nvPr/>
        </p:nvGraphicFramePr>
        <p:xfrm>
          <a:off x="2876400" y="3948120"/>
          <a:ext cx="2159280" cy="731880"/>
        </p:xfrm>
        <a:graphic>
          <a:graphicData uri="http://schemas.openxmlformats.org/drawingml/2006/table">
            <a:tbl>
              <a:tblPr/>
              <a:tblGrid>
                <a:gridCol w="362160"/>
                <a:gridCol w="360360"/>
                <a:gridCol w="361800"/>
                <a:gridCol w="358920"/>
                <a:gridCol w="357120"/>
                <a:gridCol w="35892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09" name=""/>
          <p:cNvGraphicFramePr/>
          <p:nvPr/>
        </p:nvGraphicFramePr>
        <p:xfrm>
          <a:off x="1166760" y="3948120"/>
          <a:ext cx="1440000" cy="73188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920"/>
                <a:gridCol w="36036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0" name="矩形 3"/>
          <p:cNvSpPr/>
          <p:nvPr/>
        </p:nvSpPr>
        <p:spPr>
          <a:xfrm>
            <a:off x="1054080" y="1768320"/>
            <a:ext cx="7848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读拼音，写词语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duǎn jiàn        yě  mán          jù      jīng   huì   shé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jiū  zhù           xiào  mī     mī         fān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péng      wéi  gā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5243400" y="3946680"/>
          <a:ext cx="1440000" cy="73152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920"/>
                <a:gridCol w="36036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2" name=""/>
          <p:cNvGraphicFramePr/>
          <p:nvPr/>
        </p:nvGraphicFramePr>
        <p:xfrm>
          <a:off x="6907320" y="3946680"/>
          <a:ext cx="1439640" cy="73152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560"/>
                <a:gridCol w="36036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3" name="矩形 1"/>
          <p:cNvSpPr/>
          <p:nvPr/>
        </p:nvSpPr>
        <p:spPr>
          <a:xfrm>
            <a:off x="-2052720" y="3087720"/>
            <a:ext cx="228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　　　　　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矩形 2"/>
          <p:cNvSpPr/>
          <p:nvPr/>
        </p:nvSpPr>
        <p:spPr>
          <a:xfrm>
            <a:off x="1366200" y="285264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短 剑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矩形 4"/>
          <p:cNvSpPr/>
          <p:nvPr/>
        </p:nvSpPr>
        <p:spPr>
          <a:xfrm>
            <a:off x="3071160" y="283680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野 蛮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矩形 5"/>
          <p:cNvSpPr/>
          <p:nvPr/>
        </p:nvSpPr>
        <p:spPr>
          <a:xfrm>
            <a:off x="4600440" y="2838600"/>
            <a:ext cx="304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聚 精 会 神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矩形 6"/>
          <p:cNvSpPr/>
          <p:nvPr/>
        </p:nvSpPr>
        <p:spPr>
          <a:xfrm>
            <a:off x="1324800" y="395604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揪 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矩形 10"/>
          <p:cNvSpPr/>
          <p:nvPr/>
        </p:nvSpPr>
        <p:spPr>
          <a:xfrm>
            <a:off x="3114720" y="391644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笑 眯 眯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矩形 11"/>
          <p:cNvSpPr/>
          <p:nvPr/>
        </p:nvSpPr>
        <p:spPr>
          <a:xfrm>
            <a:off x="5453280" y="394812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帆 篷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矩形 12"/>
          <p:cNvSpPr/>
          <p:nvPr/>
        </p:nvSpPr>
        <p:spPr>
          <a:xfrm>
            <a:off x="7101720" y="394164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桅 杆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6" dur="indefinite" restart="never" nodeType="tmRoot">
          <p:childTnLst>
            <p:seq>
              <p:cTn id="897" dur="indefinite" nodeType="mainSeq">
                <p:childTnLst>
                  <p:par>
                    <p:cTn id="898" nodeType="clickEffect" fill="hold">
                      <p:stCondLst>
                        <p:cond delay="indefinite"/>
                      </p:stCondLst>
                      <p:childTnLst>
                        <p:par>
                          <p:cTn id="8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2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nodeType="clickEffect" fill="hold">
                      <p:stCondLst>
                        <p:cond delay="indefinite"/>
                      </p:stCondLst>
                      <p:childTnLst>
                        <p:par>
                          <p:cTn id="9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7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nodeType="clickEffect" fill="hold">
                      <p:stCondLst>
                        <p:cond delay="indefinite"/>
                      </p:stCondLst>
                      <p:childTnLst>
                        <p:par>
                          <p:cTn id="9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2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nodeType="clickEffect" fill="hold">
                      <p:stCondLst>
                        <p:cond delay="indefinite"/>
                      </p:stCondLst>
                      <p:childTnLst>
                        <p:par>
                          <p:cTn id="9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7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nodeType="clickEffect" fill="hold">
                      <p:stCondLst>
                        <p:cond delay="indefinite"/>
                      </p:stCondLst>
                      <p:childTnLst>
                        <p:par>
                          <p:cTn id="9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2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nodeType="clickEffect" fill="hold">
                      <p:stCondLst>
                        <p:cond delay="indefinite"/>
                      </p:stCondLst>
                      <p:childTnLst>
                        <p:par>
                          <p:cTn id="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7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nodeType="clickEffect" fill="hold">
                      <p:stCondLst>
                        <p:cond delay="indefinite"/>
                      </p:stCondLst>
                      <p:childTnLst>
                        <p:par>
                          <p:cTn id="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2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矩形 2"/>
          <p:cNvSpPr/>
          <p:nvPr/>
        </p:nvSpPr>
        <p:spPr>
          <a:xfrm>
            <a:off x="1352520" y="2057400"/>
            <a:ext cx="6496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用“严”字组词并填空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要求　　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态度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考验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纪律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批评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问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矩形 4"/>
          <p:cNvSpPr/>
          <p:nvPr/>
        </p:nvSpPr>
        <p:spPr>
          <a:xfrm>
            <a:off x="2089800" y="2693880"/>
            <a:ext cx="85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严格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矩形 5"/>
          <p:cNvSpPr/>
          <p:nvPr/>
        </p:nvSpPr>
        <p:spPr>
          <a:xfrm>
            <a:off x="5420880" y="26938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严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矩形 6"/>
          <p:cNvSpPr/>
          <p:nvPr/>
        </p:nvSpPr>
        <p:spPr>
          <a:xfrm>
            <a:off x="2050560" y="32511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严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矩形 7"/>
          <p:cNvSpPr/>
          <p:nvPr/>
        </p:nvSpPr>
        <p:spPr>
          <a:xfrm>
            <a:off x="5439960" y="32781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严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矩形 9"/>
          <p:cNvSpPr/>
          <p:nvPr/>
        </p:nvSpPr>
        <p:spPr>
          <a:xfrm>
            <a:off x="2063520" y="38210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严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矩形 14"/>
          <p:cNvSpPr/>
          <p:nvPr/>
        </p:nvSpPr>
        <p:spPr>
          <a:xfrm>
            <a:off x="5484600" y="38196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严重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nodeType="clickEffect" fill="hold">
                      <p:stCondLst>
                        <p:cond delay="indefinite"/>
                      </p:stCondLst>
                      <p:childTnLst>
                        <p:par>
                          <p:cTn id="9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9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nodeType="clickEffect" fill="hold">
                      <p:stCondLst>
                        <p:cond delay="indefinite"/>
                      </p:stCondLst>
                      <p:childTnLst>
                        <p:par>
                          <p:cTn id="9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nodeType="clickEffect" fill="hold">
                      <p:stCondLst>
                        <p:cond delay="indefinite"/>
                      </p:stCondLst>
                      <p:childTnLst>
                        <p:par>
                          <p:cTn id="9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9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nodeType="clickEffect" fill="hold">
                      <p:stCondLst>
                        <p:cond delay="indefinite"/>
                      </p:stCondLst>
                      <p:childTnLst>
                        <p:par>
                          <p:cTn id="9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4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nodeType="clickEffect" fill="hold">
                      <p:stCondLst>
                        <p:cond delay="indefinite"/>
                      </p:stCondLst>
                      <p:childTnLst>
                        <p:par>
                          <p:cTn id="9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9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nodeType="clickEffect" fill="hold">
                      <p:stCondLst>
                        <p:cond delay="indefinite"/>
                      </p:stCondLst>
                      <p:childTnLst>
                        <p:par>
                          <p:cTn id="9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4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矩形 2"/>
          <p:cNvSpPr/>
          <p:nvPr/>
        </p:nvSpPr>
        <p:spPr>
          <a:xfrm>
            <a:off x="1276200" y="3273480"/>
            <a:ext cx="685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这只苍蝇真可恶！我非把它打下来不可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矩形 3"/>
          <p:cNvSpPr/>
          <p:nvPr/>
        </p:nvSpPr>
        <p:spPr>
          <a:xfrm>
            <a:off x="1224000" y="4917960"/>
            <a:ext cx="610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短剑被罗马士兵野蛮地刺进他的胸膛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30" name="组合 5"/>
          <p:cNvGrpSpPr/>
          <p:nvPr/>
        </p:nvGrpSpPr>
        <p:grpSpPr>
          <a:xfrm>
            <a:off x="755640" y="1546200"/>
            <a:ext cx="7777080" cy="2837160"/>
            <a:chOff x="755640" y="1546200"/>
            <a:chExt cx="7777080" cy="2837160"/>
          </a:xfrm>
        </p:grpSpPr>
        <p:sp>
          <p:nvSpPr>
            <p:cNvPr id="331" name="矩形 1"/>
            <p:cNvSpPr/>
            <p:nvPr/>
          </p:nvSpPr>
          <p:spPr>
            <a:xfrm>
              <a:off x="755640" y="1546200"/>
              <a:ext cx="777708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4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．按要求改写句子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(1)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他们想，哪天打到希腊去，非把这个老头儿杀死不可。</a:t>
              </a: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(</a:t>
              </a:r>
              <a:r>
                <a:rPr b="1" lang="zh-CN" sz="24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用加点的词语仿写句子</a:t>
              </a: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______________________________________________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(2)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罗马士兵野蛮地把短剑刺进他的胸膛。</a:t>
              </a: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(</a:t>
              </a:r>
              <a:r>
                <a:rPr b="1" lang="zh-CN" sz="24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改成“被”字句</a:t>
              </a: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______________________________________________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2" name="矩形 4"/>
            <p:cNvSpPr/>
            <p:nvPr/>
          </p:nvSpPr>
          <p:spPr>
            <a:xfrm>
              <a:off x="5028840" y="2465640"/>
              <a:ext cx="26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∙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" name="矩形 6"/>
            <p:cNvSpPr/>
            <p:nvPr/>
          </p:nvSpPr>
          <p:spPr>
            <a:xfrm>
              <a:off x="7793280" y="2424240"/>
              <a:ext cx="26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∙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" name="矩形 7"/>
            <p:cNvSpPr/>
            <p:nvPr/>
          </p:nvSpPr>
          <p:spPr>
            <a:xfrm>
              <a:off x="8071920" y="2434680"/>
              <a:ext cx="26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∙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5" dur="indefinite" restart="never" nodeType="tmRoot">
          <p:childTnLst>
            <p:seq>
              <p:cTn id="966" dur="indefinite" nodeType="mainSeq">
                <p:childTnLst>
                  <p:par>
                    <p:cTn id="967" nodeType="clickEffect" fill="hold">
                      <p:stCondLst>
                        <p:cond delay="indefinite"/>
                      </p:stCondLst>
                      <p:childTnLst>
                        <p:par>
                          <p:cTn id="9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1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nodeType="clickEffect" fill="hold">
                      <p:stCondLst>
                        <p:cond delay="indefinite"/>
                      </p:stCondLst>
                      <p:childTnLst>
                        <p:par>
                          <p:cTn id="9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6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矩形 1"/>
          <p:cNvSpPr/>
          <p:nvPr/>
        </p:nvSpPr>
        <p:spPr>
          <a:xfrm>
            <a:off x="755640" y="1044720"/>
            <a:ext cx="7777080" cy="41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(3)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危急时刻，阿基米德巧用镜子烧毁了敌人的舰船，受到了大家的爱戴。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仿宋"/>
                <a:ea typeface="仿宋"/>
              </a:rPr>
              <a:t>改成反问句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____________________________________________________________________________________________________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(4)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阿基米德说：“等一下杀我，这条几何定理我还没有证明完呢！”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仿宋"/>
                <a:ea typeface="仿宋"/>
              </a:rPr>
              <a:t>改为转述句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____________________________________________________________________________________________________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(5)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论球和圆柱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这本书的作者是阿基米德写的。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仿宋"/>
                <a:ea typeface="仿宋"/>
              </a:rPr>
              <a:t>修改病句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__________________________________________________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矩形 2"/>
          <p:cNvSpPr/>
          <p:nvPr/>
        </p:nvSpPr>
        <p:spPr>
          <a:xfrm>
            <a:off x="1143000" y="5618160"/>
            <a:ext cx="6497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《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论球和圆柱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》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这本书的作者是阿基米德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矩形 3"/>
          <p:cNvSpPr/>
          <p:nvPr/>
        </p:nvSpPr>
        <p:spPr>
          <a:xfrm>
            <a:off x="1257480" y="2013120"/>
            <a:ext cx="72896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危急时刻，阿基米德巧用镜子烧毁了敌人的舰船，怎能不受到大家的爱戴呢？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矩形 4"/>
          <p:cNvSpPr/>
          <p:nvPr/>
        </p:nvSpPr>
        <p:spPr>
          <a:xfrm>
            <a:off x="1282680" y="4006800"/>
            <a:ext cx="70833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阿基米德说，等一下杀他，这条几何定理他还没有证明完呢！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nodeType="clickEffect" fill="hold">
                      <p:stCondLst>
                        <p:cond delay="indefinite"/>
                      </p:stCondLst>
                      <p:childTnLst>
                        <p:par>
                          <p:cTn id="9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3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nodeType="clickEffect" fill="hold">
                      <p:stCondLst>
                        <p:cond delay="indefinite"/>
                      </p:stCondLst>
                      <p:childTnLst>
                        <p:par>
                          <p:cTn id="9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8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nodeType="clickEffect" fill="hold">
                      <p:stCondLst>
                        <p:cond delay="indefinite"/>
                      </p:stCondLst>
                      <p:childTnLst>
                        <p:par>
                          <p:cTn id="9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3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矩形 4"/>
          <p:cNvSpPr/>
          <p:nvPr/>
        </p:nvSpPr>
        <p:spPr>
          <a:xfrm>
            <a:off x="2218680" y="2548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桅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5114880" y="238284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1" name="图片 10" descr=""/>
          <p:cNvPicPr/>
          <p:nvPr/>
        </p:nvPicPr>
        <p:blipFill>
          <a:blip r:embed="rId1"/>
          <a:stretch/>
        </p:blipFill>
        <p:spPr>
          <a:xfrm>
            <a:off x="3284640" y="322200"/>
            <a:ext cx="2585880" cy="6015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72" name="组合 2"/>
          <p:cNvGrpSpPr/>
          <p:nvPr/>
        </p:nvGrpSpPr>
        <p:grpSpPr>
          <a:xfrm>
            <a:off x="730080" y="1200240"/>
            <a:ext cx="2905200" cy="666720"/>
            <a:chOff x="730080" y="1200240"/>
            <a:chExt cx="2905200" cy="666720"/>
          </a:xfrm>
        </p:grpSpPr>
        <p:sp>
          <p:nvSpPr>
            <p:cNvPr id="73" name="圆角矩形 17"/>
            <p:cNvSpPr/>
            <p:nvPr/>
          </p:nvSpPr>
          <p:spPr>
            <a:xfrm>
              <a:off x="1545840" y="133812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74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730080" y="120024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文本框 16"/>
            <p:cNvSpPr/>
            <p:nvPr/>
          </p:nvSpPr>
          <p:spPr>
            <a:xfrm>
              <a:off x="1805400" y="135720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我会写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" name="组合 8"/>
          <p:cNvGrpSpPr/>
          <p:nvPr/>
        </p:nvGrpSpPr>
        <p:grpSpPr>
          <a:xfrm>
            <a:off x="1400040" y="3975120"/>
            <a:ext cx="2840040" cy="1571760"/>
            <a:chOff x="1400040" y="3975120"/>
            <a:chExt cx="2840040" cy="1571760"/>
          </a:xfrm>
        </p:grpSpPr>
        <p:pic>
          <p:nvPicPr>
            <p:cNvPr id="77" name="图示 4" descr=""/>
            <p:cNvPicPr/>
            <p:nvPr/>
          </p:nvPicPr>
          <p:blipFill>
            <a:blip r:embed="rId3"/>
            <a:stretch/>
          </p:blipFill>
          <p:spPr>
            <a:xfrm>
              <a:off x="1400040" y="3975120"/>
              <a:ext cx="284004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矩形 2"/>
            <p:cNvSpPr/>
            <p:nvPr/>
          </p:nvSpPr>
          <p:spPr>
            <a:xfrm>
              <a:off x="1444680" y="4587840"/>
              <a:ext cx="2766600" cy="551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左窄右宽，“危”的竖弯钩不宜写得过宽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9" name="矩形 3"/>
          <p:cNvSpPr/>
          <p:nvPr/>
        </p:nvSpPr>
        <p:spPr>
          <a:xfrm>
            <a:off x="2076480" y="1868400"/>
            <a:ext cx="1112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wéi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Freeform 103"/>
          <p:cNvSpPr/>
          <p:nvPr/>
        </p:nvSpPr>
        <p:spPr>
          <a:xfrm>
            <a:off x="6762600" y="3790800"/>
            <a:ext cx="534960" cy="622440"/>
          </a:xfrm>
          <a:custGeom>
            <a:avLst/>
            <a:gdLst/>
            <a:ahLst/>
            <a:rect l="l" t="t" r="r" b="b"/>
            <a:pathLst>
              <a:path w="673" h="785">
                <a:moveTo>
                  <a:pt x="449" y="659"/>
                </a:moveTo>
                <a:lnTo>
                  <a:pt x="439" y="674"/>
                </a:lnTo>
                <a:lnTo>
                  <a:pt x="432" y="689"/>
                </a:lnTo>
                <a:lnTo>
                  <a:pt x="424" y="703"/>
                </a:lnTo>
                <a:lnTo>
                  <a:pt x="416" y="716"/>
                </a:lnTo>
                <a:lnTo>
                  <a:pt x="409" y="728"/>
                </a:lnTo>
                <a:lnTo>
                  <a:pt x="401" y="737"/>
                </a:lnTo>
                <a:lnTo>
                  <a:pt x="395" y="747"/>
                </a:lnTo>
                <a:lnTo>
                  <a:pt x="387" y="755"/>
                </a:lnTo>
                <a:lnTo>
                  <a:pt x="382" y="762"/>
                </a:lnTo>
                <a:lnTo>
                  <a:pt x="376" y="768"/>
                </a:lnTo>
                <a:lnTo>
                  <a:pt x="372" y="774"/>
                </a:lnTo>
                <a:lnTo>
                  <a:pt x="366" y="778"/>
                </a:lnTo>
                <a:lnTo>
                  <a:pt x="362" y="782"/>
                </a:lnTo>
                <a:lnTo>
                  <a:pt x="359" y="783"/>
                </a:lnTo>
                <a:lnTo>
                  <a:pt x="357" y="785"/>
                </a:lnTo>
                <a:lnTo>
                  <a:pt x="355" y="785"/>
                </a:lnTo>
                <a:lnTo>
                  <a:pt x="349" y="785"/>
                </a:lnTo>
                <a:lnTo>
                  <a:pt x="345" y="783"/>
                </a:lnTo>
                <a:lnTo>
                  <a:pt x="341" y="782"/>
                </a:lnTo>
                <a:lnTo>
                  <a:pt x="336" y="780"/>
                </a:lnTo>
                <a:lnTo>
                  <a:pt x="332" y="778"/>
                </a:lnTo>
                <a:lnTo>
                  <a:pt x="328" y="776"/>
                </a:lnTo>
                <a:lnTo>
                  <a:pt x="324" y="772"/>
                </a:lnTo>
                <a:lnTo>
                  <a:pt x="320" y="768"/>
                </a:lnTo>
                <a:lnTo>
                  <a:pt x="313" y="758"/>
                </a:lnTo>
                <a:lnTo>
                  <a:pt x="305" y="747"/>
                </a:lnTo>
                <a:lnTo>
                  <a:pt x="299" y="735"/>
                </a:lnTo>
                <a:lnTo>
                  <a:pt x="295" y="722"/>
                </a:lnTo>
                <a:lnTo>
                  <a:pt x="291" y="714"/>
                </a:lnTo>
                <a:lnTo>
                  <a:pt x="290" y="707"/>
                </a:lnTo>
                <a:lnTo>
                  <a:pt x="286" y="701"/>
                </a:lnTo>
                <a:lnTo>
                  <a:pt x="282" y="693"/>
                </a:lnTo>
                <a:lnTo>
                  <a:pt x="276" y="686"/>
                </a:lnTo>
                <a:lnTo>
                  <a:pt x="272" y="678"/>
                </a:lnTo>
                <a:lnTo>
                  <a:pt x="261" y="664"/>
                </a:lnTo>
                <a:lnTo>
                  <a:pt x="247" y="651"/>
                </a:lnTo>
                <a:lnTo>
                  <a:pt x="232" y="636"/>
                </a:lnTo>
                <a:lnTo>
                  <a:pt x="217" y="622"/>
                </a:lnTo>
                <a:lnTo>
                  <a:pt x="199" y="607"/>
                </a:lnTo>
                <a:lnTo>
                  <a:pt x="192" y="601"/>
                </a:lnTo>
                <a:lnTo>
                  <a:pt x="184" y="593"/>
                </a:lnTo>
                <a:lnTo>
                  <a:pt x="176" y="586"/>
                </a:lnTo>
                <a:lnTo>
                  <a:pt x="169" y="580"/>
                </a:lnTo>
                <a:lnTo>
                  <a:pt x="163" y="572"/>
                </a:lnTo>
                <a:lnTo>
                  <a:pt x="157" y="567"/>
                </a:lnTo>
                <a:lnTo>
                  <a:pt x="151" y="559"/>
                </a:lnTo>
                <a:lnTo>
                  <a:pt x="147" y="553"/>
                </a:lnTo>
                <a:lnTo>
                  <a:pt x="142" y="547"/>
                </a:lnTo>
                <a:lnTo>
                  <a:pt x="140" y="542"/>
                </a:lnTo>
                <a:lnTo>
                  <a:pt x="136" y="538"/>
                </a:lnTo>
                <a:lnTo>
                  <a:pt x="134" y="532"/>
                </a:lnTo>
                <a:lnTo>
                  <a:pt x="132" y="528"/>
                </a:lnTo>
                <a:lnTo>
                  <a:pt x="130" y="524"/>
                </a:lnTo>
                <a:lnTo>
                  <a:pt x="128" y="520"/>
                </a:lnTo>
                <a:lnTo>
                  <a:pt x="128" y="519"/>
                </a:lnTo>
                <a:lnTo>
                  <a:pt x="128" y="517"/>
                </a:lnTo>
                <a:lnTo>
                  <a:pt x="130" y="515"/>
                </a:lnTo>
                <a:lnTo>
                  <a:pt x="132" y="513"/>
                </a:lnTo>
                <a:lnTo>
                  <a:pt x="136" y="511"/>
                </a:lnTo>
                <a:lnTo>
                  <a:pt x="140" y="511"/>
                </a:lnTo>
                <a:lnTo>
                  <a:pt x="144" y="509"/>
                </a:lnTo>
                <a:lnTo>
                  <a:pt x="147" y="509"/>
                </a:lnTo>
                <a:lnTo>
                  <a:pt x="153" y="509"/>
                </a:lnTo>
                <a:lnTo>
                  <a:pt x="161" y="509"/>
                </a:lnTo>
                <a:lnTo>
                  <a:pt x="167" y="509"/>
                </a:lnTo>
                <a:lnTo>
                  <a:pt x="176" y="511"/>
                </a:lnTo>
                <a:lnTo>
                  <a:pt x="184" y="511"/>
                </a:lnTo>
                <a:lnTo>
                  <a:pt x="194" y="513"/>
                </a:lnTo>
                <a:lnTo>
                  <a:pt x="203" y="515"/>
                </a:lnTo>
                <a:lnTo>
                  <a:pt x="213" y="517"/>
                </a:lnTo>
                <a:lnTo>
                  <a:pt x="224" y="519"/>
                </a:lnTo>
                <a:lnTo>
                  <a:pt x="245" y="522"/>
                </a:lnTo>
                <a:lnTo>
                  <a:pt x="266" y="526"/>
                </a:lnTo>
                <a:lnTo>
                  <a:pt x="276" y="526"/>
                </a:lnTo>
                <a:lnTo>
                  <a:pt x="284" y="526"/>
                </a:lnTo>
                <a:lnTo>
                  <a:pt x="293" y="526"/>
                </a:lnTo>
                <a:lnTo>
                  <a:pt x="303" y="524"/>
                </a:lnTo>
                <a:lnTo>
                  <a:pt x="311" y="524"/>
                </a:lnTo>
                <a:lnTo>
                  <a:pt x="318" y="522"/>
                </a:lnTo>
                <a:lnTo>
                  <a:pt x="326" y="519"/>
                </a:lnTo>
                <a:lnTo>
                  <a:pt x="332" y="515"/>
                </a:lnTo>
                <a:lnTo>
                  <a:pt x="337" y="511"/>
                </a:lnTo>
                <a:lnTo>
                  <a:pt x="343" y="505"/>
                </a:lnTo>
                <a:lnTo>
                  <a:pt x="349" y="499"/>
                </a:lnTo>
                <a:lnTo>
                  <a:pt x="355" y="494"/>
                </a:lnTo>
                <a:lnTo>
                  <a:pt x="359" y="478"/>
                </a:lnTo>
                <a:lnTo>
                  <a:pt x="364" y="463"/>
                </a:lnTo>
                <a:lnTo>
                  <a:pt x="368" y="453"/>
                </a:lnTo>
                <a:lnTo>
                  <a:pt x="372" y="444"/>
                </a:lnTo>
                <a:lnTo>
                  <a:pt x="376" y="434"/>
                </a:lnTo>
                <a:lnTo>
                  <a:pt x="380" y="425"/>
                </a:lnTo>
                <a:lnTo>
                  <a:pt x="384" y="413"/>
                </a:lnTo>
                <a:lnTo>
                  <a:pt x="387" y="401"/>
                </a:lnTo>
                <a:lnTo>
                  <a:pt x="391" y="388"/>
                </a:lnTo>
                <a:lnTo>
                  <a:pt x="395" y="377"/>
                </a:lnTo>
                <a:lnTo>
                  <a:pt x="399" y="363"/>
                </a:lnTo>
                <a:lnTo>
                  <a:pt x="405" y="348"/>
                </a:lnTo>
                <a:lnTo>
                  <a:pt x="409" y="332"/>
                </a:lnTo>
                <a:lnTo>
                  <a:pt x="412" y="317"/>
                </a:lnTo>
                <a:lnTo>
                  <a:pt x="414" y="300"/>
                </a:lnTo>
                <a:lnTo>
                  <a:pt x="416" y="284"/>
                </a:lnTo>
                <a:lnTo>
                  <a:pt x="418" y="271"/>
                </a:lnTo>
                <a:lnTo>
                  <a:pt x="420" y="258"/>
                </a:lnTo>
                <a:lnTo>
                  <a:pt x="420" y="244"/>
                </a:lnTo>
                <a:lnTo>
                  <a:pt x="422" y="233"/>
                </a:lnTo>
                <a:lnTo>
                  <a:pt x="422" y="221"/>
                </a:lnTo>
                <a:lnTo>
                  <a:pt x="422" y="211"/>
                </a:lnTo>
                <a:lnTo>
                  <a:pt x="422" y="202"/>
                </a:lnTo>
                <a:lnTo>
                  <a:pt x="422" y="194"/>
                </a:lnTo>
                <a:lnTo>
                  <a:pt x="420" y="186"/>
                </a:lnTo>
                <a:lnTo>
                  <a:pt x="420" y="181"/>
                </a:lnTo>
                <a:lnTo>
                  <a:pt x="418" y="175"/>
                </a:lnTo>
                <a:lnTo>
                  <a:pt x="416" y="171"/>
                </a:lnTo>
                <a:lnTo>
                  <a:pt x="414" y="167"/>
                </a:lnTo>
                <a:lnTo>
                  <a:pt x="412" y="163"/>
                </a:lnTo>
                <a:lnTo>
                  <a:pt x="409" y="162"/>
                </a:lnTo>
                <a:lnTo>
                  <a:pt x="403" y="160"/>
                </a:lnTo>
                <a:lnTo>
                  <a:pt x="397" y="158"/>
                </a:lnTo>
                <a:lnTo>
                  <a:pt x="391" y="158"/>
                </a:lnTo>
                <a:lnTo>
                  <a:pt x="384" y="156"/>
                </a:lnTo>
                <a:lnTo>
                  <a:pt x="376" y="156"/>
                </a:lnTo>
                <a:lnTo>
                  <a:pt x="368" y="156"/>
                </a:lnTo>
                <a:lnTo>
                  <a:pt x="361" y="156"/>
                </a:lnTo>
                <a:lnTo>
                  <a:pt x="351" y="156"/>
                </a:lnTo>
                <a:lnTo>
                  <a:pt x="341" y="158"/>
                </a:lnTo>
                <a:lnTo>
                  <a:pt x="330" y="160"/>
                </a:lnTo>
                <a:lnTo>
                  <a:pt x="320" y="162"/>
                </a:lnTo>
                <a:lnTo>
                  <a:pt x="309" y="165"/>
                </a:lnTo>
                <a:lnTo>
                  <a:pt x="297" y="167"/>
                </a:lnTo>
                <a:lnTo>
                  <a:pt x="284" y="171"/>
                </a:lnTo>
                <a:lnTo>
                  <a:pt x="270" y="177"/>
                </a:lnTo>
                <a:lnTo>
                  <a:pt x="240" y="185"/>
                </a:lnTo>
                <a:lnTo>
                  <a:pt x="209" y="194"/>
                </a:lnTo>
                <a:lnTo>
                  <a:pt x="176" y="200"/>
                </a:lnTo>
                <a:lnTo>
                  <a:pt x="144" y="206"/>
                </a:lnTo>
                <a:lnTo>
                  <a:pt x="109" y="210"/>
                </a:lnTo>
                <a:lnTo>
                  <a:pt x="75" y="211"/>
                </a:lnTo>
                <a:lnTo>
                  <a:pt x="57" y="213"/>
                </a:lnTo>
                <a:lnTo>
                  <a:pt x="38" y="213"/>
                </a:lnTo>
                <a:lnTo>
                  <a:pt x="19" y="213"/>
                </a:lnTo>
                <a:lnTo>
                  <a:pt x="0" y="215"/>
                </a:lnTo>
                <a:lnTo>
                  <a:pt x="0" y="177"/>
                </a:lnTo>
                <a:lnTo>
                  <a:pt x="0" y="139"/>
                </a:lnTo>
                <a:lnTo>
                  <a:pt x="21" y="139"/>
                </a:lnTo>
                <a:lnTo>
                  <a:pt x="44" y="137"/>
                </a:lnTo>
                <a:lnTo>
                  <a:pt x="65" y="135"/>
                </a:lnTo>
                <a:lnTo>
                  <a:pt x="86" y="131"/>
                </a:lnTo>
                <a:lnTo>
                  <a:pt x="107" y="127"/>
                </a:lnTo>
                <a:lnTo>
                  <a:pt x="126" y="123"/>
                </a:lnTo>
                <a:lnTo>
                  <a:pt x="146" y="117"/>
                </a:lnTo>
                <a:lnTo>
                  <a:pt x="165" y="114"/>
                </a:lnTo>
                <a:lnTo>
                  <a:pt x="236" y="94"/>
                </a:lnTo>
                <a:lnTo>
                  <a:pt x="307" y="75"/>
                </a:lnTo>
                <a:lnTo>
                  <a:pt x="324" y="69"/>
                </a:lnTo>
                <a:lnTo>
                  <a:pt x="339" y="64"/>
                </a:lnTo>
                <a:lnTo>
                  <a:pt x="355" y="56"/>
                </a:lnTo>
                <a:lnTo>
                  <a:pt x="366" y="50"/>
                </a:lnTo>
                <a:lnTo>
                  <a:pt x="378" y="43"/>
                </a:lnTo>
                <a:lnTo>
                  <a:pt x="384" y="39"/>
                </a:lnTo>
                <a:lnTo>
                  <a:pt x="387" y="37"/>
                </a:lnTo>
                <a:lnTo>
                  <a:pt x="393" y="33"/>
                </a:lnTo>
                <a:lnTo>
                  <a:pt x="395" y="29"/>
                </a:lnTo>
                <a:lnTo>
                  <a:pt x="399" y="27"/>
                </a:lnTo>
                <a:lnTo>
                  <a:pt x="401" y="25"/>
                </a:lnTo>
                <a:lnTo>
                  <a:pt x="407" y="20"/>
                </a:lnTo>
                <a:lnTo>
                  <a:pt x="410" y="16"/>
                </a:lnTo>
                <a:lnTo>
                  <a:pt x="416" y="12"/>
                </a:lnTo>
                <a:lnTo>
                  <a:pt x="422" y="8"/>
                </a:lnTo>
                <a:lnTo>
                  <a:pt x="430" y="4"/>
                </a:lnTo>
                <a:lnTo>
                  <a:pt x="437" y="2"/>
                </a:lnTo>
                <a:lnTo>
                  <a:pt x="443" y="0"/>
                </a:lnTo>
                <a:lnTo>
                  <a:pt x="449" y="0"/>
                </a:lnTo>
                <a:lnTo>
                  <a:pt x="455" y="0"/>
                </a:lnTo>
                <a:lnTo>
                  <a:pt x="460" y="0"/>
                </a:lnTo>
                <a:lnTo>
                  <a:pt x="470" y="0"/>
                </a:lnTo>
                <a:lnTo>
                  <a:pt x="481" y="2"/>
                </a:lnTo>
                <a:lnTo>
                  <a:pt x="493" y="6"/>
                </a:lnTo>
                <a:lnTo>
                  <a:pt x="506" y="10"/>
                </a:lnTo>
                <a:lnTo>
                  <a:pt x="514" y="14"/>
                </a:lnTo>
                <a:lnTo>
                  <a:pt x="522" y="18"/>
                </a:lnTo>
                <a:lnTo>
                  <a:pt x="529" y="21"/>
                </a:lnTo>
                <a:lnTo>
                  <a:pt x="539" y="25"/>
                </a:lnTo>
                <a:lnTo>
                  <a:pt x="549" y="31"/>
                </a:lnTo>
                <a:lnTo>
                  <a:pt x="558" y="37"/>
                </a:lnTo>
                <a:lnTo>
                  <a:pt x="568" y="43"/>
                </a:lnTo>
                <a:lnTo>
                  <a:pt x="579" y="50"/>
                </a:lnTo>
                <a:lnTo>
                  <a:pt x="589" y="58"/>
                </a:lnTo>
                <a:lnTo>
                  <a:pt x="599" y="64"/>
                </a:lnTo>
                <a:lnTo>
                  <a:pt x="608" y="71"/>
                </a:lnTo>
                <a:lnTo>
                  <a:pt x="616" y="79"/>
                </a:lnTo>
                <a:lnTo>
                  <a:pt x="625" y="85"/>
                </a:lnTo>
                <a:lnTo>
                  <a:pt x="631" y="92"/>
                </a:lnTo>
                <a:lnTo>
                  <a:pt x="639" y="98"/>
                </a:lnTo>
                <a:lnTo>
                  <a:pt x="645" y="104"/>
                </a:lnTo>
                <a:lnTo>
                  <a:pt x="648" y="110"/>
                </a:lnTo>
                <a:lnTo>
                  <a:pt x="654" y="115"/>
                </a:lnTo>
                <a:lnTo>
                  <a:pt x="658" y="119"/>
                </a:lnTo>
                <a:lnTo>
                  <a:pt x="662" y="125"/>
                </a:lnTo>
                <a:lnTo>
                  <a:pt x="666" y="129"/>
                </a:lnTo>
                <a:lnTo>
                  <a:pt x="668" y="133"/>
                </a:lnTo>
                <a:lnTo>
                  <a:pt x="671" y="137"/>
                </a:lnTo>
                <a:lnTo>
                  <a:pt x="673" y="139"/>
                </a:lnTo>
                <a:lnTo>
                  <a:pt x="673" y="148"/>
                </a:lnTo>
                <a:lnTo>
                  <a:pt x="671" y="156"/>
                </a:lnTo>
                <a:lnTo>
                  <a:pt x="670" y="162"/>
                </a:lnTo>
                <a:lnTo>
                  <a:pt x="666" y="169"/>
                </a:lnTo>
                <a:lnTo>
                  <a:pt x="662" y="175"/>
                </a:lnTo>
                <a:lnTo>
                  <a:pt x="658" y="179"/>
                </a:lnTo>
                <a:lnTo>
                  <a:pt x="650" y="190"/>
                </a:lnTo>
                <a:lnTo>
                  <a:pt x="645" y="192"/>
                </a:lnTo>
                <a:lnTo>
                  <a:pt x="641" y="196"/>
                </a:lnTo>
                <a:lnTo>
                  <a:pt x="637" y="202"/>
                </a:lnTo>
                <a:lnTo>
                  <a:pt x="633" y="208"/>
                </a:lnTo>
                <a:lnTo>
                  <a:pt x="627" y="215"/>
                </a:lnTo>
                <a:lnTo>
                  <a:pt x="623" y="225"/>
                </a:lnTo>
                <a:lnTo>
                  <a:pt x="620" y="234"/>
                </a:lnTo>
                <a:lnTo>
                  <a:pt x="614" y="244"/>
                </a:lnTo>
                <a:lnTo>
                  <a:pt x="610" y="258"/>
                </a:lnTo>
                <a:lnTo>
                  <a:pt x="606" y="269"/>
                </a:lnTo>
                <a:lnTo>
                  <a:pt x="600" y="282"/>
                </a:lnTo>
                <a:lnTo>
                  <a:pt x="597" y="298"/>
                </a:lnTo>
                <a:lnTo>
                  <a:pt x="593" y="313"/>
                </a:lnTo>
                <a:lnTo>
                  <a:pt x="587" y="330"/>
                </a:lnTo>
                <a:lnTo>
                  <a:pt x="583" y="348"/>
                </a:lnTo>
                <a:lnTo>
                  <a:pt x="579" y="367"/>
                </a:lnTo>
                <a:lnTo>
                  <a:pt x="572" y="388"/>
                </a:lnTo>
                <a:lnTo>
                  <a:pt x="566" y="407"/>
                </a:lnTo>
                <a:lnTo>
                  <a:pt x="558" y="428"/>
                </a:lnTo>
                <a:lnTo>
                  <a:pt x="552" y="448"/>
                </a:lnTo>
                <a:lnTo>
                  <a:pt x="537" y="486"/>
                </a:lnTo>
                <a:lnTo>
                  <a:pt x="522" y="522"/>
                </a:lnTo>
                <a:lnTo>
                  <a:pt x="506" y="557"/>
                </a:lnTo>
                <a:lnTo>
                  <a:pt x="489" y="592"/>
                </a:lnTo>
                <a:lnTo>
                  <a:pt x="470" y="624"/>
                </a:lnTo>
                <a:lnTo>
                  <a:pt x="458" y="641"/>
                </a:lnTo>
                <a:lnTo>
                  <a:pt x="449" y="659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Freeform 104"/>
          <p:cNvSpPr/>
          <p:nvPr/>
        </p:nvSpPr>
        <p:spPr>
          <a:xfrm>
            <a:off x="6699240" y="3867120"/>
            <a:ext cx="960480" cy="1109520"/>
          </a:xfrm>
          <a:custGeom>
            <a:avLst/>
            <a:gdLst/>
            <a:ahLst/>
            <a:rect l="l" t="t" r="r" b="b"/>
            <a:pathLst>
              <a:path w="1209" h="1400">
                <a:moveTo>
                  <a:pt x="376" y="1158"/>
                </a:moveTo>
                <a:lnTo>
                  <a:pt x="403" y="1162"/>
                </a:lnTo>
                <a:lnTo>
                  <a:pt x="430" y="1165"/>
                </a:lnTo>
                <a:lnTo>
                  <a:pt x="455" y="1169"/>
                </a:lnTo>
                <a:lnTo>
                  <a:pt x="482" y="1173"/>
                </a:lnTo>
                <a:lnTo>
                  <a:pt x="509" y="1175"/>
                </a:lnTo>
                <a:lnTo>
                  <a:pt x="536" y="1175"/>
                </a:lnTo>
                <a:lnTo>
                  <a:pt x="561" y="1175"/>
                </a:lnTo>
                <a:lnTo>
                  <a:pt x="587" y="1175"/>
                </a:lnTo>
                <a:lnTo>
                  <a:pt x="614" y="1175"/>
                </a:lnTo>
                <a:lnTo>
                  <a:pt x="639" y="1173"/>
                </a:lnTo>
                <a:lnTo>
                  <a:pt x="664" y="1171"/>
                </a:lnTo>
                <a:lnTo>
                  <a:pt x="691" y="1167"/>
                </a:lnTo>
                <a:lnTo>
                  <a:pt x="716" y="1163"/>
                </a:lnTo>
                <a:lnTo>
                  <a:pt x="741" y="1158"/>
                </a:lnTo>
                <a:lnTo>
                  <a:pt x="766" y="1152"/>
                </a:lnTo>
                <a:lnTo>
                  <a:pt x="791" y="1144"/>
                </a:lnTo>
                <a:lnTo>
                  <a:pt x="814" y="1137"/>
                </a:lnTo>
                <a:lnTo>
                  <a:pt x="837" y="1129"/>
                </a:lnTo>
                <a:lnTo>
                  <a:pt x="860" y="1117"/>
                </a:lnTo>
                <a:lnTo>
                  <a:pt x="881" y="1106"/>
                </a:lnTo>
                <a:lnTo>
                  <a:pt x="900" y="1094"/>
                </a:lnTo>
                <a:lnTo>
                  <a:pt x="919" y="1079"/>
                </a:lnTo>
                <a:lnTo>
                  <a:pt x="939" y="1066"/>
                </a:lnTo>
                <a:lnTo>
                  <a:pt x="956" y="1048"/>
                </a:lnTo>
                <a:lnTo>
                  <a:pt x="971" y="1031"/>
                </a:lnTo>
                <a:lnTo>
                  <a:pt x="987" y="1012"/>
                </a:lnTo>
                <a:lnTo>
                  <a:pt x="1000" y="991"/>
                </a:lnTo>
                <a:lnTo>
                  <a:pt x="1014" y="968"/>
                </a:lnTo>
                <a:lnTo>
                  <a:pt x="1025" y="945"/>
                </a:lnTo>
                <a:lnTo>
                  <a:pt x="1035" y="920"/>
                </a:lnTo>
                <a:lnTo>
                  <a:pt x="1042" y="895"/>
                </a:lnTo>
                <a:lnTo>
                  <a:pt x="1050" y="866"/>
                </a:lnTo>
                <a:lnTo>
                  <a:pt x="1058" y="839"/>
                </a:lnTo>
                <a:lnTo>
                  <a:pt x="1063" y="812"/>
                </a:lnTo>
                <a:lnTo>
                  <a:pt x="1069" y="789"/>
                </a:lnTo>
                <a:lnTo>
                  <a:pt x="1075" y="766"/>
                </a:lnTo>
                <a:lnTo>
                  <a:pt x="1081" y="745"/>
                </a:lnTo>
                <a:lnTo>
                  <a:pt x="1085" y="728"/>
                </a:lnTo>
                <a:lnTo>
                  <a:pt x="1090" y="710"/>
                </a:lnTo>
                <a:lnTo>
                  <a:pt x="1094" y="695"/>
                </a:lnTo>
                <a:lnTo>
                  <a:pt x="1100" y="682"/>
                </a:lnTo>
                <a:lnTo>
                  <a:pt x="1104" y="670"/>
                </a:lnTo>
                <a:lnTo>
                  <a:pt x="1108" y="661"/>
                </a:lnTo>
                <a:lnTo>
                  <a:pt x="1111" y="653"/>
                </a:lnTo>
                <a:lnTo>
                  <a:pt x="1113" y="645"/>
                </a:lnTo>
                <a:lnTo>
                  <a:pt x="1117" y="641"/>
                </a:lnTo>
                <a:lnTo>
                  <a:pt x="1119" y="639"/>
                </a:lnTo>
                <a:lnTo>
                  <a:pt x="1121" y="638"/>
                </a:lnTo>
                <a:lnTo>
                  <a:pt x="1123" y="639"/>
                </a:lnTo>
                <a:lnTo>
                  <a:pt x="1127" y="641"/>
                </a:lnTo>
                <a:lnTo>
                  <a:pt x="1129" y="645"/>
                </a:lnTo>
                <a:lnTo>
                  <a:pt x="1131" y="653"/>
                </a:lnTo>
                <a:lnTo>
                  <a:pt x="1133" y="661"/>
                </a:lnTo>
                <a:lnTo>
                  <a:pt x="1134" y="670"/>
                </a:lnTo>
                <a:lnTo>
                  <a:pt x="1136" y="682"/>
                </a:lnTo>
                <a:lnTo>
                  <a:pt x="1140" y="693"/>
                </a:lnTo>
                <a:lnTo>
                  <a:pt x="1142" y="709"/>
                </a:lnTo>
                <a:lnTo>
                  <a:pt x="1144" y="724"/>
                </a:lnTo>
                <a:lnTo>
                  <a:pt x="1146" y="741"/>
                </a:lnTo>
                <a:lnTo>
                  <a:pt x="1148" y="760"/>
                </a:lnTo>
                <a:lnTo>
                  <a:pt x="1150" y="782"/>
                </a:lnTo>
                <a:lnTo>
                  <a:pt x="1154" y="805"/>
                </a:lnTo>
                <a:lnTo>
                  <a:pt x="1156" y="828"/>
                </a:lnTo>
                <a:lnTo>
                  <a:pt x="1157" y="854"/>
                </a:lnTo>
                <a:lnTo>
                  <a:pt x="1159" y="879"/>
                </a:lnTo>
                <a:lnTo>
                  <a:pt x="1161" y="904"/>
                </a:lnTo>
                <a:lnTo>
                  <a:pt x="1163" y="927"/>
                </a:lnTo>
                <a:lnTo>
                  <a:pt x="1165" y="950"/>
                </a:lnTo>
                <a:lnTo>
                  <a:pt x="1169" y="972"/>
                </a:lnTo>
                <a:lnTo>
                  <a:pt x="1171" y="993"/>
                </a:lnTo>
                <a:lnTo>
                  <a:pt x="1173" y="1012"/>
                </a:lnTo>
                <a:lnTo>
                  <a:pt x="1177" y="1031"/>
                </a:lnTo>
                <a:lnTo>
                  <a:pt x="1179" y="1048"/>
                </a:lnTo>
                <a:lnTo>
                  <a:pt x="1182" y="1064"/>
                </a:lnTo>
                <a:lnTo>
                  <a:pt x="1186" y="1079"/>
                </a:lnTo>
                <a:lnTo>
                  <a:pt x="1188" y="1092"/>
                </a:lnTo>
                <a:lnTo>
                  <a:pt x="1192" y="1104"/>
                </a:lnTo>
                <a:lnTo>
                  <a:pt x="1196" y="1115"/>
                </a:lnTo>
                <a:lnTo>
                  <a:pt x="1200" y="1125"/>
                </a:lnTo>
                <a:lnTo>
                  <a:pt x="1205" y="1133"/>
                </a:lnTo>
                <a:lnTo>
                  <a:pt x="1205" y="1140"/>
                </a:lnTo>
                <a:lnTo>
                  <a:pt x="1207" y="1146"/>
                </a:lnTo>
                <a:lnTo>
                  <a:pt x="1209" y="1154"/>
                </a:lnTo>
                <a:lnTo>
                  <a:pt x="1209" y="1163"/>
                </a:lnTo>
                <a:lnTo>
                  <a:pt x="1207" y="1171"/>
                </a:lnTo>
                <a:lnTo>
                  <a:pt x="1205" y="1179"/>
                </a:lnTo>
                <a:lnTo>
                  <a:pt x="1204" y="1187"/>
                </a:lnTo>
                <a:lnTo>
                  <a:pt x="1202" y="1196"/>
                </a:lnTo>
                <a:lnTo>
                  <a:pt x="1198" y="1204"/>
                </a:lnTo>
                <a:lnTo>
                  <a:pt x="1192" y="1211"/>
                </a:lnTo>
                <a:lnTo>
                  <a:pt x="1188" y="1221"/>
                </a:lnTo>
                <a:lnTo>
                  <a:pt x="1180" y="1229"/>
                </a:lnTo>
                <a:lnTo>
                  <a:pt x="1173" y="1236"/>
                </a:lnTo>
                <a:lnTo>
                  <a:pt x="1165" y="1244"/>
                </a:lnTo>
                <a:lnTo>
                  <a:pt x="1156" y="1252"/>
                </a:lnTo>
                <a:lnTo>
                  <a:pt x="1146" y="1259"/>
                </a:lnTo>
                <a:lnTo>
                  <a:pt x="1123" y="1273"/>
                </a:lnTo>
                <a:lnTo>
                  <a:pt x="1098" y="1286"/>
                </a:lnTo>
                <a:lnTo>
                  <a:pt x="1073" y="1298"/>
                </a:lnTo>
                <a:lnTo>
                  <a:pt x="1048" y="1309"/>
                </a:lnTo>
                <a:lnTo>
                  <a:pt x="1019" y="1321"/>
                </a:lnTo>
                <a:lnTo>
                  <a:pt x="992" y="1334"/>
                </a:lnTo>
                <a:lnTo>
                  <a:pt x="962" y="1346"/>
                </a:lnTo>
                <a:lnTo>
                  <a:pt x="933" y="1361"/>
                </a:lnTo>
                <a:lnTo>
                  <a:pt x="914" y="1365"/>
                </a:lnTo>
                <a:lnTo>
                  <a:pt x="895" y="1369"/>
                </a:lnTo>
                <a:lnTo>
                  <a:pt x="875" y="1373"/>
                </a:lnTo>
                <a:lnTo>
                  <a:pt x="856" y="1377"/>
                </a:lnTo>
                <a:lnTo>
                  <a:pt x="837" y="1380"/>
                </a:lnTo>
                <a:lnTo>
                  <a:pt x="816" y="1384"/>
                </a:lnTo>
                <a:lnTo>
                  <a:pt x="793" y="1386"/>
                </a:lnTo>
                <a:lnTo>
                  <a:pt x="772" y="1390"/>
                </a:lnTo>
                <a:lnTo>
                  <a:pt x="747" y="1392"/>
                </a:lnTo>
                <a:lnTo>
                  <a:pt x="724" y="1394"/>
                </a:lnTo>
                <a:lnTo>
                  <a:pt x="699" y="1396"/>
                </a:lnTo>
                <a:lnTo>
                  <a:pt x="674" y="1396"/>
                </a:lnTo>
                <a:lnTo>
                  <a:pt x="647" y="1398"/>
                </a:lnTo>
                <a:lnTo>
                  <a:pt x="622" y="1398"/>
                </a:lnTo>
                <a:lnTo>
                  <a:pt x="593" y="1398"/>
                </a:lnTo>
                <a:lnTo>
                  <a:pt x="564" y="1400"/>
                </a:lnTo>
                <a:lnTo>
                  <a:pt x="537" y="1396"/>
                </a:lnTo>
                <a:lnTo>
                  <a:pt x="509" y="1394"/>
                </a:lnTo>
                <a:lnTo>
                  <a:pt x="484" y="1390"/>
                </a:lnTo>
                <a:lnTo>
                  <a:pt x="459" y="1386"/>
                </a:lnTo>
                <a:lnTo>
                  <a:pt x="434" y="1382"/>
                </a:lnTo>
                <a:lnTo>
                  <a:pt x="411" y="1378"/>
                </a:lnTo>
                <a:lnTo>
                  <a:pt x="390" y="1375"/>
                </a:lnTo>
                <a:lnTo>
                  <a:pt x="369" y="1369"/>
                </a:lnTo>
                <a:lnTo>
                  <a:pt x="347" y="1363"/>
                </a:lnTo>
                <a:lnTo>
                  <a:pt x="328" y="1357"/>
                </a:lnTo>
                <a:lnTo>
                  <a:pt x="311" y="1350"/>
                </a:lnTo>
                <a:lnTo>
                  <a:pt x="294" y="1344"/>
                </a:lnTo>
                <a:lnTo>
                  <a:pt x="276" y="1336"/>
                </a:lnTo>
                <a:lnTo>
                  <a:pt x="261" y="1329"/>
                </a:lnTo>
                <a:lnTo>
                  <a:pt x="248" y="1319"/>
                </a:lnTo>
                <a:lnTo>
                  <a:pt x="234" y="1309"/>
                </a:lnTo>
                <a:lnTo>
                  <a:pt x="219" y="1300"/>
                </a:lnTo>
                <a:lnTo>
                  <a:pt x="204" y="1290"/>
                </a:lnTo>
                <a:lnTo>
                  <a:pt x="190" y="1281"/>
                </a:lnTo>
                <a:lnTo>
                  <a:pt x="179" y="1269"/>
                </a:lnTo>
                <a:lnTo>
                  <a:pt x="165" y="1258"/>
                </a:lnTo>
                <a:lnTo>
                  <a:pt x="154" y="1246"/>
                </a:lnTo>
                <a:lnTo>
                  <a:pt x="144" y="1235"/>
                </a:lnTo>
                <a:lnTo>
                  <a:pt x="132" y="1223"/>
                </a:lnTo>
                <a:lnTo>
                  <a:pt x="123" y="1210"/>
                </a:lnTo>
                <a:lnTo>
                  <a:pt x="113" y="1196"/>
                </a:lnTo>
                <a:lnTo>
                  <a:pt x="106" y="1183"/>
                </a:lnTo>
                <a:lnTo>
                  <a:pt x="96" y="1169"/>
                </a:lnTo>
                <a:lnTo>
                  <a:pt x="88" y="1154"/>
                </a:lnTo>
                <a:lnTo>
                  <a:pt x="81" y="1139"/>
                </a:lnTo>
                <a:lnTo>
                  <a:pt x="75" y="1123"/>
                </a:lnTo>
                <a:lnTo>
                  <a:pt x="67" y="1108"/>
                </a:lnTo>
                <a:lnTo>
                  <a:pt x="65" y="1100"/>
                </a:lnTo>
                <a:lnTo>
                  <a:pt x="61" y="1092"/>
                </a:lnTo>
                <a:lnTo>
                  <a:pt x="58" y="1083"/>
                </a:lnTo>
                <a:lnTo>
                  <a:pt x="56" y="1073"/>
                </a:lnTo>
                <a:lnTo>
                  <a:pt x="54" y="1066"/>
                </a:lnTo>
                <a:lnTo>
                  <a:pt x="50" y="1054"/>
                </a:lnTo>
                <a:lnTo>
                  <a:pt x="48" y="1044"/>
                </a:lnTo>
                <a:lnTo>
                  <a:pt x="46" y="1033"/>
                </a:lnTo>
                <a:lnTo>
                  <a:pt x="44" y="1021"/>
                </a:lnTo>
                <a:lnTo>
                  <a:pt x="40" y="1010"/>
                </a:lnTo>
                <a:lnTo>
                  <a:pt x="38" y="996"/>
                </a:lnTo>
                <a:lnTo>
                  <a:pt x="37" y="983"/>
                </a:lnTo>
                <a:lnTo>
                  <a:pt x="35" y="970"/>
                </a:lnTo>
                <a:lnTo>
                  <a:pt x="35" y="956"/>
                </a:lnTo>
                <a:lnTo>
                  <a:pt x="33" y="941"/>
                </a:lnTo>
                <a:lnTo>
                  <a:pt x="31" y="925"/>
                </a:lnTo>
                <a:lnTo>
                  <a:pt x="29" y="910"/>
                </a:lnTo>
                <a:lnTo>
                  <a:pt x="29" y="895"/>
                </a:lnTo>
                <a:lnTo>
                  <a:pt x="27" y="877"/>
                </a:lnTo>
                <a:lnTo>
                  <a:pt x="27" y="860"/>
                </a:lnTo>
                <a:lnTo>
                  <a:pt x="25" y="843"/>
                </a:lnTo>
                <a:lnTo>
                  <a:pt x="25" y="824"/>
                </a:lnTo>
                <a:lnTo>
                  <a:pt x="23" y="805"/>
                </a:lnTo>
                <a:lnTo>
                  <a:pt x="23" y="785"/>
                </a:lnTo>
                <a:lnTo>
                  <a:pt x="23" y="766"/>
                </a:lnTo>
                <a:lnTo>
                  <a:pt x="21" y="745"/>
                </a:lnTo>
                <a:lnTo>
                  <a:pt x="21" y="726"/>
                </a:lnTo>
                <a:lnTo>
                  <a:pt x="21" y="703"/>
                </a:lnTo>
                <a:lnTo>
                  <a:pt x="21" y="682"/>
                </a:lnTo>
                <a:lnTo>
                  <a:pt x="21" y="659"/>
                </a:lnTo>
                <a:lnTo>
                  <a:pt x="21" y="636"/>
                </a:lnTo>
                <a:lnTo>
                  <a:pt x="21" y="613"/>
                </a:lnTo>
                <a:lnTo>
                  <a:pt x="21" y="590"/>
                </a:lnTo>
                <a:lnTo>
                  <a:pt x="21" y="567"/>
                </a:lnTo>
                <a:lnTo>
                  <a:pt x="21" y="543"/>
                </a:lnTo>
                <a:lnTo>
                  <a:pt x="21" y="522"/>
                </a:lnTo>
                <a:lnTo>
                  <a:pt x="19" y="501"/>
                </a:lnTo>
                <a:lnTo>
                  <a:pt x="19" y="480"/>
                </a:lnTo>
                <a:lnTo>
                  <a:pt x="19" y="459"/>
                </a:lnTo>
                <a:lnTo>
                  <a:pt x="19" y="440"/>
                </a:lnTo>
                <a:lnTo>
                  <a:pt x="19" y="421"/>
                </a:lnTo>
                <a:lnTo>
                  <a:pt x="19" y="401"/>
                </a:lnTo>
                <a:lnTo>
                  <a:pt x="19" y="382"/>
                </a:lnTo>
                <a:lnTo>
                  <a:pt x="19" y="365"/>
                </a:lnTo>
                <a:lnTo>
                  <a:pt x="19" y="348"/>
                </a:lnTo>
                <a:lnTo>
                  <a:pt x="19" y="330"/>
                </a:lnTo>
                <a:lnTo>
                  <a:pt x="19" y="315"/>
                </a:lnTo>
                <a:lnTo>
                  <a:pt x="19" y="300"/>
                </a:lnTo>
                <a:lnTo>
                  <a:pt x="19" y="284"/>
                </a:lnTo>
                <a:lnTo>
                  <a:pt x="17" y="269"/>
                </a:lnTo>
                <a:lnTo>
                  <a:pt x="17" y="256"/>
                </a:lnTo>
                <a:lnTo>
                  <a:pt x="17" y="242"/>
                </a:lnTo>
                <a:lnTo>
                  <a:pt x="17" y="229"/>
                </a:lnTo>
                <a:lnTo>
                  <a:pt x="17" y="215"/>
                </a:lnTo>
                <a:lnTo>
                  <a:pt x="15" y="204"/>
                </a:lnTo>
                <a:lnTo>
                  <a:pt x="15" y="192"/>
                </a:lnTo>
                <a:lnTo>
                  <a:pt x="15" y="181"/>
                </a:lnTo>
                <a:lnTo>
                  <a:pt x="13" y="171"/>
                </a:lnTo>
                <a:lnTo>
                  <a:pt x="13" y="162"/>
                </a:lnTo>
                <a:lnTo>
                  <a:pt x="13" y="152"/>
                </a:lnTo>
                <a:lnTo>
                  <a:pt x="12" y="142"/>
                </a:lnTo>
                <a:lnTo>
                  <a:pt x="12" y="135"/>
                </a:lnTo>
                <a:lnTo>
                  <a:pt x="10" y="125"/>
                </a:lnTo>
                <a:lnTo>
                  <a:pt x="10" y="119"/>
                </a:lnTo>
                <a:lnTo>
                  <a:pt x="6" y="106"/>
                </a:lnTo>
                <a:lnTo>
                  <a:pt x="4" y="96"/>
                </a:lnTo>
                <a:lnTo>
                  <a:pt x="4" y="85"/>
                </a:lnTo>
                <a:lnTo>
                  <a:pt x="2" y="75"/>
                </a:lnTo>
                <a:lnTo>
                  <a:pt x="2" y="67"/>
                </a:lnTo>
                <a:lnTo>
                  <a:pt x="0" y="58"/>
                </a:lnTo>
                <a:lnTo>
                  <a:pt x="0" y="50"/>
                </a:lnTo>
                <a:lnTo>
                  <a:pt x="2" y="43"/>
                </a:lnTo>
                <a:lnTo>
                  <a:pt x="2" y="37"/>
                </a:lnTo>
                <a:lnTo>
                  <a:pt x="4" y="29"/>
                </a:lnTo>
                <a:lnTo>
                  <a:pt x="4" y="23"/>
                </a:lnTo>
                <a:lnTo>
                  <a:pt x="8" y="19"/>
                </a:lnTo>
                <a:lnTo>
                  <a:pt x="10" y="14"/>
                </a:lnTo>
                <a:lnTo>
                  <a:pt x="12" y="10"/>
                </a:lnTo>
                <a:lnTo>
                  <a:pt x="15" y="8"/>
                </a:lnTo>
                <a:lnTo>
                  <a:pt x="21" y="4"/>
                </a:lnTo>
                <a:lnTo>
                  <a:pt x="23" y="2"/>
                </a:lnTo>
                <a:lnTo>
                  <a:pt x="27" y="2"/>
                </a:lnTo>
                <a:lnTo>
                  <a:pt x="31" y="0"/>
                </a:lnTo>
                <a:lnTo>
                  <a:pt x="35" y="2"/>
                </a:lnTo>
                <a:lnTo>
                  <a:pt x="40" y="2"/>
                </a:lnTo>
                <a:lnTo>
                  <a:pt x="48" y="4"/>
                </a:lnTo>
                <a:lnTo>
                  <a:pt x="54" y="8"/>
                </a:lnTo>
                <a:lnTo>
                  <a:pt x="61" y="10"/>
                </a:lnTo>
                <a:lnTo>
                  <a:pt x="69" y="14"/>
                </a:lnTo>
                <a:lnTo>
                  <a:pt x="79" y="19"/>
                </a:lnTo>
                <a:lnTo>
                  <a:pt x="88" y="23"/>
                </a:lnTo>
                <a:lnTo>
                  <a:pt x="98" y="29"/>
                </a:lnTo>
                <a:lnTo>
                  <a:pt x="117" y="41"/>
                </a:lnTo>
                <a:lnTo>
                  <a:pt x="138" y="56"/>
                </a:lnTo>
                <a:lnTo>
                  <a:pt x="136" y="100"/>
                </a:lnTo>
                <a:lnTo>
                  <a:pt x="134" y="142"/>
                </a:lnTo>
                <a:lnTo>
                  <a:pt x="132" y="183"/>
                </a:lnTo>
                <a:lnTo>
                  <a:pt x="132" y="221"/>
                </a:lnTo>
                <a:lnTo>
                  <a:pt x="131" y="259"/>
                </a:lnTo>
                <a:lnTo>
                  <a:pt x="131" y="294"/>
                </a:lnTo>
                <a:lnTo>
                  <a:pt x="129" y="327"/>
                </a:lnTo>
                <a:lnTo>
                  <a:pt x="129" y="359"/>
                </a:lnTo>
                <a:lnTo>
                  <a:pt x="129" y="390"/>
                </a:lnTo>
                <a:lnTo>
                  <a:pt x="127" y="417"/>
                </a:lnTo>
                <a:lnTo>
                  <a:pt x="127" y="444"/>
                </a:lnTo>
                <a:lnTo>
                  <a:pt x="127" y="469"/>
                </a:lnTo>
                <a:lnTo>
                  <a:pt x="127" y="492"/>
                </a:lnTo>
                <a:lnTo>
                  <a:pt x="127" y="513"/>
                </a:lnTo>
                <a:lnTo>
                  <a:pt x="127" y="532"/>
                </a:lnTo>
                <a:lnTo>
                  <a:pt x="127" y="549"/>
                </a:lnTo>
                <a:lnTo>
                  <a:pt x="127" y="567"/>
                </a:lnTo>
                <a:lnTo>
                  <a:pt x="127" y="584"/>
                </a:lnTo>
                <a:lnTo>
                  <a:pt x="129" y="603"/>
                </a:lnTo>
                <a:lnTo>
                  <a:pt x="129" y="622"/>
                </a:lnTo>
                <a:lnTo>
                  <a:pt x="131" y="643"/>
                </a:lnTo>
                <a:lnTo>
                  <a:pt x="131" y="664"/>
                </a:lnTo>
                <a:lnTo>
                  <a:pt x="132" y="686"/>
                </a:lnTo>
                <a:lnTo>
                  <a:pt x="134" y="709"/>
                </a:lnTo>
                <a:lnTo>
                  <a:pt x="136" y="732"/>
                </a:lnTo>
                <a:lnTo>
                  <a:pt x="138" y="755"/>
                </a:lnTo>
                <a:lnTo>
                  <a:pt x="140" y="778"/>
                </a:lnTo>
                <a:lnTo>
                  <a:pt x="142" y="803"/>
                </a:lnTo>
                <a:lnTo>
                  <a:pt x="146" y="853"/>
                </a:lnTo>
                <a:lnTo>
                  <a:pt x="152" y="904"/>
                </a:lnTo>
                <a:lnTo>
                  <a:pt x="154" y="929"/>
                </a:lnTo>
                <a:lnTo>
                  <a:pt x="157" y="954"/>
                </a:lnTo>
                <a:lnTo>
                  <a:pt x="165" y="977"/>
                </a:lnTo>
                <a:lnTo>
                  <a:pt x="173" y="998"/>
                </a:lnTo>
                <a:lnTo>
                  <a:pt x="182" y="1020"/>
                </a:lnTo>
                <a:lnTo>
                  <a:pt x="192" y="1039"/>
                </a:lnTo>
                <a:lnTo>
                  <a:pt x="205" y="1056"/>
                </a:lnTo>
                <a:lnTo>
                  <a:pt x="219" y="1073"/>
                </a:lnTo>
                <a:lnTo>
                  <a:pt x="234" y="1089"/>
                </a:lnTo>
                <a:lnTo>
                  <a:pt x="250" y="1102"/>
                </a:lnTo>
                <a:lnTo>
                  <a:pt x="269" y="1115"/>
                </a:lnTo>
                <a:lnTo>
                  <a:pt x="288" y="1127"/>
                </a:lnTo>
                <a:lnTo>
                  <a:pt x="307" y="1137"/>
                </a:lnTo>
                <a:lnTo>
                  <a:pt x="328" y="1144"/>
                </a:lnTo>
                <a:lnTo>
                  <a:pt x="351" y="1152"/>
                </a:lnTo>
                <a:lnTo>
                  <a:pt x="376" y="1158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Freeform 105"/>
          <p:cNvSpPr/>
          <p:nvPr/>
        </p:nvSpPr>
        <p:spPr>
          <a:xfrm>
            <a:off x="6102360" y="3565440"/>
            <a:ext cx="463680" cy="1432080"/>
          </a:xfrm>
          <a:custGeom>
            <a:avLst/>
            <a:gdLst/>
            <a:ahLst/>
            <a:rect l="l" t="t" r="r" b="b"/>
            <a:pathLst>
              <a:path w="583" h="1805">
                <a:moveTo>
                  <a:pt x="157" y="1678"/>
                </a:moveTo>
                <a:lnTo>
                  <a:pt x="142" y="1693"/>
                </a:lnTo>
                <a:lnTo>
                  <a:pt x="126" y="1709"/>
                </a:lnTo>
                <a:lnTo>
                  <a:pt x="113" y="1722"/>
                </a:lnTo>
                <a:lnTo>
                  <a:pt x="99" y="1735"/>
                </a:lnTo>
                <a:lnTo>
                  <a:pt x="86" y="1747"/>
                </a:lnTo>
                <a:lnTo>
                  <a:pt x="75" y="1757"/>
                </a:lnTo>
                <a:lnTo>
                  <a:pt x="63" y="1766"/>
                </a:lnTo>
                <a:lnTo>
                  <a:pt x="53" y="1774"/>
                </a:lnTo>
                <a:lnTo>
                  <a:pt x="44" y="1781"/>
                </a:lnTo>
                <a:lnTo>
                  <a:pt x="34" y="1787"/>
                </a:lnTo>
                <a:lnTo>
                  <a:pt x="27" y="1793"/>
                </a:lnTo>
                <a:lnTo>
                  <a:pt x="21" y="1797"/>
                </a:lnTo>
                <a:lnTo>
                  <a:pt x="15" y="1799"/>
                </a:lnTo>
                <a:lnTo>
                  <a:pt x="9" y="1803"/>
                </a:lnTo>
                <a:lnTo>
                  <a:pt x="5" y="1803"/>
                </a:lnTo>
                <a:lnTo>
                  <a:pt x="3" y="1805"/>
                </a:lnTo>
                <a:lnTo>
                  <a:pt x="2" y="1801"/>
                </a:lnTo>
                <a:lnTo>
                  <a:pt x="0" y="1797"/>
                </a:lnTo>
                <a:lnTo>
                  <a:pt x="0" y="1793"/>
                </a:lnTo>
                <a:lnTo>
                  <a:pt x="2" y="1789"/>
                </a:lnTo>
                <a:lnTo>
                  <a:pt x="2" y="1783"/>
                </a:lnTo>
                <a:lnTo>
                  <a:pt x="5" y="1778"/>
                </a:lnTo>
                <a:lnTo>
                  <a:pt x="7" y="1770"/>
                </a:lnTo>
                <a:lnTo>
                  <a:pt x="11" y="1762"/>
                </a:lnTo>
                <a:lnTo>
                  <a:pt x="17" y="1755"/>
                </a:lnTo>
                <a:lnTo>
                  <a:pt x="23" y="1745"/>
                </a:lnTo>
                <a:lnTo>
                  <a:pt x="28" y="1734"/>
                </a:lnTo>
                <a:lnTo>
                  <a:pt x="36" y="1722"/>
                </a:lnTo>
                <a:lnTo>
                  <a:pt x="44" y="1709"/>
                </a:lnTo>
                <a:lnTo>
                  <a:pt x="53" y="1695"/>
                </a:lnTo>
                <a:lnTo>
                  <a:pt x="63" y="1680"/>
                </a:lnTo>
                <a:lnTo>
                  <a:pt x="75" y="1664"/>
                </a:lnTo>
                <a:lnTo>
                  <a:pt x="84" y="1647"/>
                </a:lnTo>
                <a:lnTo>
                  <a:pt x="96" y="1630"/>
                </a:lnTo>
                <a:lnTo>
                  <a:pt x="105" y="1613"/>
                </a:lnTo>
                <a:lnTo>
                  <a:pt x="117" y="1593"/>
                </a:lnTo>
                <a:lnTo>
                  <a:pt x="126" y="1574"/>
                </a:lnTo>
                <a:lnTo>
                  <a:pt x="136" y="1553"/>
                </a:lnTo>
                <a:lnTo>
                  <a:pt x="147" y="1534"/>
                </a:lnTo>
                <a:lnTo>
                  <a:pt x="157" y="1513"/>
                </a:lnTo>
                <a:lnTo>
                  <a:pt x="167" y="1490"/>
                </a:lnTo>
                <a:lnTo>
                  <a:pt x="176" y="1469"/>
                </a:lnTo>
                <a:lnTo>
                  <a:pt x="188" y="1446"/>
                </a:lnTo>
                <a:lnTo>
                  <a:pt x="197" y="1423"/>
                </a:lnTo>
                <a:lnTo>
                  <a:pt x="207" y="1398"/>
                </a:lnTo>
                <a:lnTo>
                  <a:pt x="218" y="1373"/>
                </a:lnTo>
                <a:lnTo>
                  <a:pt x="228" y="1348"/>
                </a:lnTo>
                <a:lnTo>
                  <a:pt x="240" y="1323"/>
                </a:lnTo>
                <a:lnTo>
                  <a:pt x="251" y="1296"/>
                </a:lnTo>
                <a:lnTo>
                  <a:pt x="261" y="1269"/>
                </a:lnTo>
                <a:lnTo>
                  <a:pt x="280" y="1215"/>
                </a:lnTo>
                <a:lnTo>
                  <a:pt x="289" y="1186"/>
                </a:lnTo>
                <a:lnTo>
                  <a:pt x="297" y="1160"/>
                </a:lnTo>
                <a:lnTo>
                  <a:pt x="305" y="1131"/>
                </a:lnTo>
                <a:lnTo>
                  <a:pt x="313" y="1100"/>
                </a:lnTo>
                <a:lnTo>
                  <a:pt x="322" y="1071"/>
                </a:lnTo>
                <a:lnTo>
                  <a:pt x="328" y="1041"/>
                </a:lnTo>
                <a:lnTo>
                  <a:pt x="336" y="1008"/>
                </a:lnTo>
                <a:lnTo>
                  <a:pt x="343" y="977"/>
                </a:lnTo>
                <a:lnTo>
                  <a:pt x="349" y="945"/>
                </a:lnTo>
                <a:lnTo>
                  <a:pt x="357" y="910"/>
                </a:lnTo>
                <a:lnTo>
                  <a:pt x="362" y="876"/>
                </a:lnTo>
                <a:lnTo>
                  <a:pt x="370" y="841"/>
                </a:lnTo>
                <a:lnTo>
                  <a:pt x="376" y="808"/>
                </a:lnTo>
                <a:lnTo>
                  <a:pt x="382" y="776"/>
                </a:lnTo>
                <a:lnTo>
                  <a:pt x="387" y="743"/>
                </a:lnTo>
                <a:lnTo>
                  <a:pt x="391" y="712"/>
                </a:lnTo>
                <a:lnTo>
                  <a:pt x="397" y="682"/>
                </a:lnTo>
                <a:lnTo>
                  <a:pt x="401" y="651"/>
                </a:lnTo>
                <a:lnTo>
                  <a:pt x="403" y="622"/>
                </a:lnTo>
                <a:lnTo>
                  <a:pt x="407" y="593"/>
                </a:lnTo>
                <a:lnTo>
                  <a:pt x="408" y="565"/>
                </a:lnTo>
                <a:lnTo>
                  <a:pt x="412" y="538"/>
                </a:lnTo>
                <a:lnTo>
                  <a:pt x="412" y="511"/>
                </a:lnTo>
                <a:lnTo>
                  <a:pt x="414" y="484"/>
                </a:lnTo>
                <a:lnTo>
                  <a:pt x="416" y="459"/>
                </a:lnTo>
                <a:lnTo>
                  <a:pt x="416" y="434"/>
                </a:lnTo>
                <a:lnTo>
                  <a:pt x="416" y="409"/>
                </a:lnTo>
                <a:lnTo>
                  <a:pt x="418" y="384"/>
                </a:lnTo>
                <a:lnTo>
                  <a:pt x="418" y="361"/>
                </a:lnTo>
                <a:lnTo>
                  <a:pt x="418" y="338"/>
                </a:lnTo>
                <a:lnTo>
                  <a:pt x="416" y="317"/>
                </a:lnTo>
                <a:lnTo>
                  <a:pt x="416" y="296"/>
                </a:lnTo>
                <a:lnTo>
                  <a:pt x="416" y="277"/>
                </a:lnTo>
                <a:lnTo>
                  <a:pt x="416" y="257"/>
                </a:lnTo>
                <a:lnTo>
                  <a:pt x="416" y="238"/>
                </a:lnTo>
                <a:lnTo>
                  <a:pt x="416" y="221"/>
                </a:lnTo>
                <a:lnTo>
                  <a:pt x="414" y="204"/>
                </a:lnTo>
                <a:lnTo>
                  <a:pt x="414" y="188"/>
                </a:lnTo>
                <a:lnTo>
                  <a:pt x="412" y="173"/>
                </a:lnTo>
                <a:lnTo>
                  <a:pt x="412" y="158"/>
                </a:lnTo>
                <a:lnTo>
                  <a:pt x="410" y="144"/>
                </a:lnTo>
                <a:lnTo>
                  <a:pt x="408" y="131"/>
                </a:lnTo>
                <a:lnTo>
                  <a:pt x="407" y="117"/>
                </a:lnTo>
                <a:lnTo>
                  <a:pt x="405" y="106"/>
                </a:lnTo>
                <a:lnTo>
                  <a:pt x="403" y="96"/>
                </a:lnTo>
                <a:lnTo>
                  <a:pt x="403" y="87"/>
                </a:lnTo>
                <a:lnTo>
                  <a:pt x="401" y="79"/>
                </a:lnTo>
                <a:lnTo>
                  <a:pt x="401" y="71"/>
                </a:lnTo>
                <a:lnTo>
                  <a:pt x="401" y="54"/>
                </a:lnTo>
                <a:lnTo>
                  <a:pt x="403" y="41"/>
                </a:lnTo>
                <a:lnTo>
                  <a:pt x="405" y="35"/>
                </a:lnTo>
                <a:lnTo>
                  <a:pt x="405" y="29"/>
                </a:lnTo>
                <a:lnTo>
                  <a:pt x="407" y="23"/>
                </a:lnTo>
                <a:lnTo>
                  <a:pt x="408" y="19"/>
                </a:lnTo>
                <a:lnTo>
                  <a:pt x="410" y="14"/>
                </a:lnTo>
                <a:lnTo>
                  <a:pt x="412" y="10"/>
                </a:lnTo>
                <a:lnTo>
                  <a:pt x="414" y="8"/>
                </a:lnTo>
                <a:lnTo>
                  <a:pt x="418" y="4"/>
                </a:lnTo>
                <a:lnTo>
                  <a:pt x="420" y="2"/>
                </a:lnTo>
                <a:lnTo>
                  <a:pt x="424" y="0"/>
                </a:lnTo>
                <a:lnTo>
                  <a:pt x="428" y="0"/>
                </a:lnTo>
                <a:lnTo>
                  <a:pt x="435" y="0"/>
                </a:lnTo>
                <a:lnTo>
                  <a:pt x="441" y="0"/>
                </a:lnTo>
                <a:lnTo>
                  <a:pt x="449" y="0"/>
                </a:lnTo>
                <a:lnTo>
                  <a:pt x="458" y="0"/>
                </a:lnTo>
                <a:lnTo>
                  <a:pt x="468" y="2"/>
                </a:lnTo>
                <a:lnTo>
                  <a:pt x="479" y="4"/>
                </a:lnTo>
                <a:lnTo>
                  <a:pt x="491" y="8"/>
                </a:lnTo>
                <a:lnTo>
                  <a:pt x="504" y="10"/>
                </a:lnTo>
                <a:lnTo>
                  <a:pt x="518" y="14"/>
                </a:lnTo>
                <a:lnTo>
                  <a:pt x="533" y="18"/>
                </a:lnTo>
                <a:lnTo>
                  <a:pt x="549" y="21"/>
                </a:lnTo>
                <a:lnTo>
                  <a:pt x="566" y="25"/>
                </a:lnTo>
                <a:lnTo>
                  <a:pt x="583" y="29"/>
                </a:lnTo>
                <a:lnTo>
                  <a:pt x="583" y="119"/>
                </a:lnTo>
                <a:lnTo>
                  <a:pt x="581" y="208"/>
                </a:lnTo>
                <a:lnTo>
                  <a:pt x="577" y="296"/>
                </a:lnTo>
                <a:lnTo>
                  <a:pt x="574" y="382"/>
                </a:lnTo>
                <a:lnTo>
                  <a:pt x="570" y="469"/>
                </a:lnTo>
                <a:lnTo>
                  <a:pt x="562" y="555"/>
                </a:lnTo>
                <a:lnTo>
                  <a:pt x="556" y="641"/>
                </a:lnTo>
                <a:lnTo>
                  <a:pt x="549" y="728"/>
                </a:lnTo>
                <a:lnTo>
                  <a:pt x="541" y="770"/>
                </a:lnTo>
                <a:lnTo>
                  <a:pt x="533" y="810"/>
                </a:lnTo>
                <a:lnTo>
                  <a:pt x="526" y="851"/>
                </a:lnTo>
                <a:lnTo>
                  <a:pt x="518" y="891"/>
                </a:lnTo>
                <a:lnTo>
                  <a:pt x="510" y="929"/>
                </a:lnTo>
                <a:lnTo>
                  <a:pt x="503" y="968"/>
                </a:lnTo>
                <a:lnTo>
                  <a:pt x="493" y="1004"/>
                </a:lnTo>
                <a:lnTo>
                  <a:pt x="483" y="1041"/>
                </a:lnTo>
                <a:lnTo>
                  <a:pt x="474" y="1075"/>
                </a:lnTo>
                <a:lnTo>
                  <a:pt x="464" y="1110"/>
                </a:lnTo>
                <a:lnTo>
                  <a:pt x="453" y="1142"/>
                </a:lnTo>
                <a:lnTo>
                  <a:pt x="443" y="1175"/>
                </a:lnTo>
                <a:lnTo>
                  <a:pt x="432" y="1208"/>
                </a:lnTo>
                <a:lnTo>
                  <a:pt x="418" y="1238"/>
                </a:lnTo>
                <a:lnTo>
                  <a:pt x="407" y="1267"/>
                </a:lnTo>
                <a:lnTo>
                  <a:pt x="393" y="1298"/>
                </a:lnTo>
                <a:lnTo>
                  <a:pt x="380" y="1327"/>
                </a:lnTo>
                <a:lnTo>
                  <a:pt x="366" y="1357"/>
                </a:lnTo>
                <a:lnTo>
                  <a:pt x="353" y="1386"/>
                </a:lnTo>
                <a:lnTo>
                  <a:pt x="339" y="1413"/>
                </a:lnTo>
                <a:lnTo>
                  <a:pt x="324" y="1440"/>
                </a:lnTo>
                <a:lnTo>
                  <a:pt x="309" y="1467"/>
                </a:lnTo>
                <a:lnTo>
                  <a:pt x="295" y="1492"/>
                </a:lnTo>
                <a:lnTo>
                  <a:pt x="280" y="1515"/>
                </a:lnTo>
                <a:lnTo>
                  <a:pt x="265" y="1538"/>
                </a:lnTo>
                <a:lnTo>
                  <a:pt x="249" y="1561"/>
                </a:lnTo>
                <a:lnTo>
                  <a:pt x="234" y="1582"/>
                </a:lnTo>
                <a:lnTo>
                  <a:pt x="218" y="1603"/>
                </a:lnTo>
                <a:lnTo>
                  <a:pt x="203" y="1622"/>
                </a:lnTo>
                <a:lnTo>
                  <a:pt x="188" y="1641"/>
                </a:lnTo>
                <a:lnTo>
                  <a:pt x="172" y="1661"/>
                </a:lnTo>
                <a:lnTo>
                  <a:pt x="157" y="1678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Freeform 106"/>
          <p:cNvSpPr/>
          <p:nvPr/>
        </p:nvSpPr>
        <p:spPr>
          <a:xfrm>
            <a:off x="6491160" y="3397320"/>
            <a:ext cx="901800" cy="271440"/>
          </a:xfrm>
          <a:custGeom>
            <a:avLst/>
            <a:gdLst/>
            <a:ahLst/>
            <a:rect l="l" t="t" r="r" b="b"/>
            <a:pathLst>
              <a:path w="1136" h="342">
                <a:moveTo>
                  <a:pt x="520" y="127"/>
                </a:moveTo>
                <a:lnTo>
                  <a:pt x="545" y="119"/>
                </a:lnTo>
                <a:lnTo>
                  <a:pt x="568" y="111"/>
                </a:lnTo>
                <a:lnTo>
                  <a:pt x="591" y="104"/>
                </a:lnTo>
                <a:lnTo>
                  <a:pt x="612" y="96"/>
                </a:lnTo>
                <a:lnTo>
                  <a:pt x="635" y="88"/>
                </a:lnTo>
                <a:lnTo>
                  <a:pt x="655" y="81"/>
                </a:lnTo>
                <a:lnTo>
                  <a:pt x="676" y="75"/>
                </a:lnTo>
                <a:lnTo>
                  <a:pt x="695" y="69"/>
                </a:lnTo>
                <a:lnTo>
                  <a:pt x="714" y="63"/>
                </a:lnTo>
                <a:lnTo>
                  <a:pt x="733" y="58"/>
                </a:lnTo>
                <a:lnTo>
                  <a:pt x="751" y="52"/>
                </a:lnTo>
                <a:lnTo>
                  <a:pt x="768" y="46"/>
                </a:lnTo>
                <a:lnTo>
                  <a:pt x="785" y="42"/>
                </a:lnTo>
                <a:lnTo>
                  <a:pt x="800" y="38"/>
                </a:lnTo>
                <a:lnTo>
                  <a:pt x="816" y="33"/>
                </a:lnTo>
                <a:lnTo>
                  <a:pt x="831" y="29"/>
                </a:lnTo>
                <a:lnTo>
                  <a:pt x="845" y="25"/>
                </a:lnTo>
                <a:lnTo>
                  <a:pt x="858" y="23"/>
                </a:lnTo>
                <a:lnTo>
                  <a:pt x="872" y="19"/>
                </a:lnTo>
                <a:lnTo>
                  <a:pt x="883" y="17"/>
                </a:lnTo>
                <a:lnTo>
                  <a:pt x="895" y="14"/>
                </a:lnTo>
                <a:lnTo>
                  <a:pt x="906" y="12"/>
                </a:lnTo>
                <a:lnTo>
                  <a:pt x="918" y="10"/>
                </a:lnTo>
                <a:lnTo>
                  <a:pt x="927" y="8"/>
                </a:lnTo>
                <a:lnTo>
                  <a:pt x="935" y="6"/>
                </a:lnTo>
                <a:lnTo>
                  <a:pt x="944" y="4"/>
                </a:lnTo>
                <a:lnTo>
                  <a:pt x="952" y="2"/>
                </a:lnTo>
                <a:lnTo>
                  <a:pt x="960" y="2"/>
                </a:lnTo>
                <a:lnTo>
                  <a:pt x="966" y="2"/>
                </a:lnTo>
                <a:lnTo>
                  <a:pt x="971" y="0"/>
                </a:lnTo>
                <a:lnTo>
                  <a:pt x="977" y="0"/>
                </a:lnTo>
                <a:lnTo>
                  <a:pt x="983" y="0"/>
                </a:lnTo>
                <a:lnTo>
                  <a:pt x="1008" y="0"/>
                </a:lnTo>
                <a:lnTo>
                  <a:pt x="1021" y="0"/>
                </a:lnTo>
                <a:lnTo>
                  <a:pt x="1035" y="2"/>
                </a:lnTo>
                <a:lnTo>
                  <a:pt x="1048" y="2"/>
                </a:lnTo>
                <a:lnTo>
                  <a:pt x="1062" y="6"/>
                </a:lnTo>
                <a:lnTo>
                  <a:pt x="1075" y="8"/>
                </a:lnTo>
                <a:lnTo>
                  <a:pt x="1088" y="14"/>
                </a:lnTo>
                <a:lnTo>
                  <a:pt x="1094" y="15"/>
                </a:lnTo>
                <a:lnTo>
                  <a:pt x="1100" y="17"/>
                </a:lnTo>
                <a:lnTo>
                  <a:pt x="1106" y="21"/>
                </a:lnTo>
                <a:lnTo>
                  <a:pt x="1111" y="25"/>
                </a:lnTo>
                <a:lnTo>
                  <a:pt x="1115" y="27"/>
                </a:lnTo>
                <a:lnTo>
                  <a:pt x="1119" y="31"/>
                </a:lnTo>
                <a:lnTo>
                  <a:pt x="1125" y="38"/>
                </a:lnTo>
                <a:lnTo>
                  <a:pt x="1131" y="44"/>
                </a:lnTo>
                <a:lnTo>
                  <a:pt x="1134" y="52"/>
                </a:lnTo>
                <a:lnTo>
                  <a:pt x="1134" y="58"/>
                </a:lnTo>
                <a:lnTo>
                  <a:pt x="1136" y="63"/>
                </a:lnTo>
                <a:lnTo>
                  <a:pt x="1134" y="73"/>
                </a:lnTo>
                <a:lnTo>
                  <a:pt x="1134" y="81"/>
                </a:lnTo>
                <a:lnTo>
                  <a:pt x="1131" y="86"/>
                </a:lnTo>
                <a:lnTo>
                  <a:pt x="1125" y="94"/>
                </a:lnTo>
                <a:lnTo>
                  <a:pt x="1119" y="98"/>
                </a:lnTo>
                <a:lnTo>
                  <a:pt x="1115" y="102"/>
                </a:lnTo>
                <a:lnTo>
                  <a:pt x="1111" y="104"/>
                </a:lnTo>
                <a:lnTo>
                  <a:pt x="1106" y="106"/>
                </a:lnTo>
                <a:lnTo>
                  <a:pt x="1100" y="109"/>
                </a:lnTo>
                <a:lnTo>
                  <a:pt x="1094" y="111"/>
                </a:lnTo>
                <a:lnTo>
                  <a:pt x="1088" y="113"/>
                </a:lnTo>
                <a:lnTo>
                  <a:pt x="1085" y="115"/>
                </a:lnTo>
                <a:lnTo>
                  <a:pt x="1081" y="117"/>
                </a:lnTo>
                <a:lnTo>
                  <a:pt x="1075" y="119"/>
                </a:lnTo>
                <a:lnTo>
                  <a:pt x="1069" y="121"/>
                </a:lnTo>
                <a:lnTo>
                  <a:pt x="1063" y="123"/>
                </a:lnTo>
                <a:lnTo>
                  <a:pt x="1058" y="125"/>
                </a:lnTo>
                <a:lnTo>
                  <a:pt x="1050" y="127"/>
                </a:lnTo>
                <a:lnTo>
                  <a:pt x="1042" y="131"/>
                </a:lnTo>
                <a:lnTo>
                  <a:pt x="1033" y="133"/>
                </a:lnTo>
                <a:lnTo>
                  <a:pt x="1023" y="136"/>
                </a:lnTo>
                <a:lnTo>
                  <a:pt x="1014" y="140"/>
                </a:lnTo>
                <a:lnTo>
                  <a:pt x="1002" y="142"/>
                </a:lnTo>
                <a:lnTo>
                  <a:pt x="991" y="146"/>
                </a:lnTo>
                <a:lnTo>
                  <a:pt x="979" y="150"/>
                </a:lnTo>
                <a:lnTo>
                  <a:pt x="966" y="154"/>
                </a:lnTo>
                <a:lnTo>
                  <a:pt x="952" y="157"/>
                </a:lnTo>
                <a:lnTo>
                  <a:pt x="939" y="161"/>
                </a:lnTo>
                <a:lnTo>
                  <a:pt x="923" y="167"/>
                </a:lnTo>
                <a:lnTo>
                  <a:pt x="908" y="171"/>
                </a:lnTo>
                <a:lnTo>
                  <a:pt x="891" y="175"/>
                </a:lnTo>
                <a:lnTo>
                  <a:pt x="873" y="181"/>
                </a:lnTo>
                <a:lnTo>
                  <a:pt x="856" y="184"/>
                </a:lnTo>
                <a:lnTo>
                  <a:pt x="839" y="190"/>
                </a:lnTo>
                <a:lnTo>
                  <a:pt x="820" y="196"/>
                </a:lnTo>
                <a:lnTo>
                  <a:pt x="799" y="202"/>
                </a:lnTo>
                <a:lnTo>
                  <a:pt x="777" y="205"/>
                </a:lnTo>
                <a:lnTo>
                  <a:pt x="756" y="211"/>
                </a:lnTo>
                <a:lnTo>
                  <a:pt x="735" y="217"/>
                </a:lnTo>
                <a:lnTo>
                  <a:pt x="712" y="223"/>
                </a:lnTo>
                <a:lnTo>
                  <a:pt x="689" y="229"/>
                </a:lnTo>
                <a:lnTo>
                  <a:pt x="664" y="234"/>
                </a:lnTo>
                <a:lnTo>
                  <a:pt x="639" y="240"/>
                </a:lnTo>
                <a:lnTo>
                  <a:pt x="589" y="252"/>
                </a:lnTo>
                <a:lnTo>
                  <a:pt x="539" y="263"/>
                </a:lnTo>
                <a:lnTo>
                  <a:pt x="491" y="275"/>
                </a:lnTo>
                <a:lnTo>
                  <a:pt x="445" y="284"/>
                </a:lnTo>
                <a:lnTo>
                  <a:pt x="401" y="294"/>
                </a:lnTo>
                <a:lnTo>
                  <a:pt x="357" y="301"/>
                </a:lnTo>
                <a:lnTo>
                  <a:pt x="315" y="309"/>
                </a:lnTo>
                <a:lnTo>
                  <a:pt x="275" y="315"/>
                </a:lnTo>
                <a:lnTo>
                  <a:pt x="236" y="323"/>
                </a:lnTo>
                <a:lnTo>
                  <a:pt x="198" y="326"/>
                </a:lnTo>
                <a:lnTo>
                  <a:pt x="161" y="332"/>
                </a:lnTo>
                <a:lnTo>
                  <a:pt x="127" y="336"/>
                </a:lnTo>
                <a:lnTo>
                  <a:pt x="92" y="338"/>
                </a:lnTo>
                <a:lnTo>
                  <a:pt x="60" y="340"/>
                </a:lnTo>
                <a:lnTo>
                  <a:pt x="29" y="342"/>
                </a:lnTo>
                <a:lnTo>
                  <a:pt x="0" y="342"/>
                </a:lnTo>
                <a:lnTo>
                  <a:pt x="0" y="292"/>
                </a:lnTo>
                <a:lnTo>
                  <a:pt x="0" y="240"/>
                </a:lnTo>
                <a:lnTo>
                  <a:pt x="8" y="240"/>
                </a:lnTo>
                <a:lnTo>
                  <a:pt x="15" y="240"/>
                </a:lnTo>
                <a:lnTo>
                  <a:pt x="25" y="240"/>
                </a:lnTo>
                <a:lnTo>
                  <a:pt x="35" y="238"/>
                </a:lnTo>
                <a:lnTo>
                  <a:pt x="44" y="238"/>
                </a:lnTo>
                <a:lnTo>
                  <a:pt x="56" y="236"/>
                </a:lnTo>
                <a:lnTo>
                  <a:pt x="67" y="236"/>
                </a:lnTo>
                <a:lnTo>
                  <a:pt x="79" y="234"/>
                </a:lnTo>
                <a:lnTo>
                  <a:pt x="92" y="232"/>
                </a:lnTo>
                <a:lnTo>
                  <a:pt x="104" y="230"/>
                </a:lnTo>
                <a:lnTo>
                  <a:pt x="117" y="227"/>
                </a:lnTo>
                <a:lnTo>
                  <a:pt x="133" y="225"/>
                </a:lnTo>
                <a:lnTo>
                  <a:pt x="146" y="223"/>
                </a:lnTo>
                <a:lnTo>
                  <a:pt x="161" y="219"/>
                </a:lnTo>
                <a:lnTo>
                  <a:pt x="177" y="217"/>
                </a:lnTo>
                <a:lnTo>
                  <a:pt x="194" y="213"/>
                </a:lnTo>
                <a:lnTo>
                  <a:pt x="209" y="209"/>
                </a:lnTo>
                <a:lnTo>
                  <a:pt x="227" y="205"/>
                </a:lnTo>
                <a:lnTo>
                  <a:pt x="244" y="202"/>
                </a:lnTo>
                <a:lnTo>
                  <a:pt x="263" y="196"/>
                </a:lnTo>
                <a:lnTo>
                  <a:pt x="282" y="192"/>
                </a:lnTo>
                <a:lnTo>
                  <a:pt x="301" y="188"/>
                </a:lnTo>
                <a:lnTo>
                  <a:pt x="321" y="182"/>
                </a:lnTo>
                <a:lnTo>
                  <a:pt x="342" y="177"/>
                </a:lnTo>
                <a:lnTo>
                  <a:pt x="361" y="171"/>
                </a:lnTo>
                <a:lnTo>
                  <a:pt x="382" y="165"/>
                </a:lnTo>
                <a:lnTo>
                  <a:pt x="405" y="159"/>
                </a:lnTo>
                <a:lnTo>
                  <a:pt x="426" y="154"/>
                </a:lnTo>
                <a:lnTo>
                  <a:pt x="449" y="148"/>
                </a:lnTo>
                <a:lnTo>
                  <a:pt x="472" y="140"/>
                </a:lnTo>
                <a:lnTo>
                  <a:pt x="495" y="134"/>
                </a:lnTo>
                <a:lnTo>
                  <a:pt x="520" y="12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Freeform 107"/>
          <p:cNvSpPr/>
          <p:nvPr/>
        </p:nvSpPr>
        <p:spPr>
          <a:xfrm>
            <a:off x="6404040" y="2728800"/>
            <a:ext cx="511200" cy="741600"/>
          </a:xfrm>
          <a:custGeom>
            <a:avLst/>
            <a:gdLst/>
            <a:ahLst/>
            <a:rect l="l" t="t" r="r" b="b"/>
            <a:pathLst>
              <a:path w="645" h="935">
                <a:moveTo>
                  <a:pt x="641" y="171"/>
                </a:moveTo>
                <a:lnTo>
                  <a:pt x="639" y="177"/>
                </a:lnTo>
                <a:lnTo>
                  <a:pt x="637" y="183"/>
                </a:lnTo>
                <a:lnTo>
                  <a:pt x="633" y="189"/>
                </a:lnTo>
                <a:lnTo>
                  <a:pt x="629" y="194"/>
                </a:lnTo>
                <a:lnTo>
                  <a:pt x="627" y="202"/>
                </a:lnTo>
                <a:lnTo>
                  <a:pt x="623" y="210"/>
                </a:lnTo>
                <a:lnTo>
                  <a:pt x="618" y="217"/>
                </a:lnTo>
                <a:lnTo>
                  <a:pt x="614" y="227"/>
                </a:lnTo>
                <a:lnTo>
                  <a:pt x="604" y="246"/>
                </a:lnTo>
                <a:lnTo>
                  <a:pt x="595" y="265"/>
                </a:lnTo>
                <a:lnTo>
                  <a:pt x="583" y="288"/>
                </a:lnTo>
                <a:lnTo>
                  <a:pt x="570" y="311"/>
                </a:lnTo>
                <a:lnTo>
                  <a:pt x="562" y="323"/>
                </a:lnTo>
                <a:lnTo>
                  <a:pt x="556" y="336"/>
                </a:lnTo>
                <a:lnTo>
                  <a:pt x="549" y="350"/>
                </a:lnTo>
                <a:lnTo>
                  <a:pt x="539" y="363"/>
                </a:lnTo>
                <a:lnTo>
                  <a:pt x="529" y="377"/>
                </a:lnTo>
                <a:lnTo>
                  <a:pt x="520" y="392"/>
                </a:lnTo>
                <a:lnTo>
                  <a:pt x="510" y="407"/>
                </a:lnTo>
                <a:lnTo>
                  <a:pt x="501" y="423"/>
                </a:lnTo>
                <a:lnTo>
                  <a:pt x="478" y="455"/>
                </a:lnTo>
                <a:lnTo>
                  <a:pt x="455" y="490"/>
                </a:lnTo>
                <a:lnTo>
                  <a:pt x="430" y="526"/>
                </a:lnTo>
                <a:lnTo>
                  <a:pt x="405" y="565"/>
                </a:lnTo>
                <a:lnTo>
                  <a:pt x="389" y="586"/>
                </a:lnTo>
                <a:lnTo>
                  <a:pt x="374" y="607"/>
                </a:lnTo>
                <a:lnTo>
                  <a:pt x="359" y="626"/>
                </a:lnTo>
                <a:lnTo>
                  <a:pt x="343" y="645"/>
                </a:lnTo>
                <a:lnTo>
                  <a:pt x="328" y="665"/>
                </a:lnTo>
                <a:lnTo>
                  <a:pt x="311" y="682"/>
                </a:lnTo>
                <a:lnTo>
                  <a:pt x="295" y="701"/>
                </a:lnTo>
                <a:lnTo>
                  <a:pt x="280" y="718"/>
                </a:lnTo>
                <a:lnTo>
                  <a:pt x="249" y="751"/>
                </a:lnTo>
                <a:lnTo>
                  <a:pt x="219" y="784"/>
                </a:lnTo>
                <a:lnTo>
                  <a:pt x="186" y="814"/>
                </a:lnTo>
                <a:lnTo>
                  <a:pt x="155" y="843"/>
                </a:lnTo>
                <a:lnTo>
                  <a:pt x="138" y="857"/>
                </a:lnTo>
                <a:lnTo>
                  <a:pt x="123" y="870"/>
                </a:lnTo>
                <a:lnTo>
                  <a:pt x="107" y="881"/>
                </a:lnTo>
                <a:lnTo>
                  <a:pt x="94" y="891"/>
                </a:lnTo>
                <a:lnTo>
                  <a:pt x="80" y="901"/>
                </a:lnTo>
                <a:lnTo>
                  <a:pt x="69" y="908"/>
                </a:lnTo>
                <a:lnTo>
                  <a:pt x="57" y="916"/>
                </a:lnTo>
                <a:lnTo>
                  <a:pt x="48" y="922"/>
                </a:lnTo>
                <a:lnTo>
                  <a:pt x="38" y="926"/>
                </a:lnTo>
                <a:lnTo>
                  <a:pt x="30" y="929"/>
                </a:lnTo>
                <a:lnTo>
                  <a:pt x="25" y="931"/>
                </a:lnTo>
                <a:lnTo>
                  <a:pt x="17" y="933"/>
                </a:lnTo>
                <a:lnTo>
                  <a:pt x="13" y="935"/>
                </a:lnTo>
                <a:lnTo>
                  <a:pt x="7" y="935"/>
                </a:lnTo>
                <a:lnTo>
                  <a:pt x="4" y="933"/>
                </a:lnTo>
                <a:lnTo>
                  <a:pt x="2" y="931"/>
                </a:lnTo>
                <a:lnTo>
                  <a:pt x="0" y="929"/>
                </a:lnTo>
                <a:lnTo>
                  <a:pt x="0" y="926"/>
                </a:lnTo>
                <a:lnTo>
                  <a:pt x="0" y="920"/>
                </a:lnTo>
                <a:lnTo>
                  <a:pt x="0" y="916"/>
                </a:lnTo>
                <a:lnTo>
                  <a:pt x="2" y="908"/>
                </a:lnTo>
                <a:lnTo>
                  <a:pt x="5" y="901"/>
                </a:lnTo>
                <a:lnTo>
                  <a:pt x="9" y="893"/>
                </a:lnTo>
                <a:lnTo>
                  <a:pt x="13" y="885"/>
                </a:lnTo>
                <a:lnTo>
                  <a:pt x="21" y="874"/>
                </a:lnTo>
                <a:lnTo>
                  <a:pt x="27" y="864"/>
                </a:lnTo>
                <a:lnTo>
                  <a:pt x="36" y="853"/>
                </a:lnTo>
                <a:lnTo>
                  <a:pt x="46" y="839"/>
                </a:lnTo>
                <a:lnTo>
                  <a:pt x="57" y="826"/>
                </a:lnTo>
                <a:lnTo>
                  <a:pt x="69" y="810"/>
                </a:lnTo>
                <a:lnTo>
                  <a:pt x="82" y="795"/>
                </a:lnTo>
                <a:lnTo>
                  <a:pt x="98" y="780"/>
                </a:lnTo>
                <a:lnTo>
                  <a:pt x="123" y="745"/>
                </a:lnTo>
                <a:lnTo>
                  <a:pt x="147" y="711"/>
                </a:lnTo>
                <a:lnTo>
                  <a:pt x="172" y="674"/>
                </a:lnTo>
                <a:lnTo>
                  <a:pt x="195" y="638"/>
                </a:lnTo>
                <a:lnTo>
                  <a:pt x="219" y="601"/>
                </a:lnTo>
                <a:lnTo>
                  <a:pt x="242" y="565"/>
                </a:lnTo>
                <a:lnTo>
                  <a:pt x="286" y="488"/>
                </a:lnTo>
                <a:lnTo>
                  <a:pt x="297" y="471"/>
                </a:lnTo>
                <a:lnTo>
                  <a:pt x="307" y="455"/>
                </a:lnTo>
                <a:lnTo>
                  <a:pt x="316" y="438"/>
                </a:lnTo>
                <a:lnTo>
                  <a:pt x="326" y="421"/>
                </a:lnTo>
                <a:lnTo>
                  <a:pt x="343" y="388"/>
                </a:lnTo>
                <a:lnTo>
                  <a:pt x="359" y="356"/>
                </a:lnTo>
                <a:lnTo>
                  <a:pt x="372" y="321"/>
                </a:lnTo>
                <a:lnTo>
                  <a:pt x="384" y="288"/>
                </a:lnTo>
                <a:lnTo>
                  <a:pt x="395" y="256"/>
                </a:lnTo>
                <a:lnTo>
                  <a:pt x="405" y="223"/>
                </a:lnTo>
                <a:lnTo>
                  <a:pt x="409" y="206"/>
                </a:lnTo>
                <a:lnTo>
                  <a:pt x="412" y="190"/>
                </a:lnTo>
                <a:lnTo>
                  <a:pt x="414" y="177"/>
                </a:lnTo>
                <a:lnTo>
                  <a:pt x="418" y="164"/>
                </a:lnTo>
                <a:lnTo>
                  <a:pt x="420" y="150"/>
                </a:lnTo>
                <a:lnTo>
                  <a:pt x="422" y="139"/>
                </a:lnTo>
                <a:lnTo>
                  <a:pt x="422" y="127"/>
                </a:lnTo>
                <a:lnTo>
                  <a:pt x="424" y="118"/>
                </a:lnTo>
                <a:lnTo>
                  <a:pt x="424" y="108"/>
                </a:lnTo>
                <a:lnTo>
                  <a:pt x="424" y="100"/>
                </a:lnTo>
                <a:lnTo>
                  <a:pt x="424" y="93"/>
                </a:lnTo>
                <a:lnTo>
                  <a:pt x="422" y="87"/>
                </a:lnTo>
                <a:lnTo>
                  <a:pt x="422" y="81"/>
                </a:lnTo>
                <a:lnTo>
                  <a:pt x="420" y="77"/>
                </a:lnTo>
                <a:lnTo>
                  <a:pt x="418" y="73"/>
                </a:lnTo>
                <a:lnTo>
                  <a:pt x="416" y="70"/>
                </a:lnTo>
                <a:lnTo>
                  <a:pt x="412" y="68"/>
                </a:lnTo>
                <a:lnTo>
                  <a:pt x="409" y="64"/>
                </a:lnTo>
                <a:lnTo>
                  <a:pt x="405" y="62"/>
                </a:lnTo>
                <a:lnTo>
                  <a:pt x="403" y="58"/>
                </a:lnTo>
                <a:lnTo>
                  <a:pt x="401" y="54"/>
                </a:lnTo>
                <a:lnTo>
                  <a:pt x="399" y="52"/>
                </a:lnTo>
                <a:lnTo>
                  <a:pt x="397" y="45"/>
                </a:lnTo>
                <a:lnTo>
                  <a:pt x="397" y="37"/>
                </a:lnTo>
                <a:lnTo>
                  <a:pt x="397" y="31"/>
                </a:lnTo>
                <a:lnTo>
                  <a:pt x="401" y="25"/>
                </a:lnTo>
                <a:lnTo>
                  <a:pt x="405" y="20"/>
                </a:lnTo>
                <a:lnTo>
                  <a:pt x="409" y="14"/>
                </a:lnTo>
                <a:lnTo>
                  <a:pt x="416" y="10"/>
                </a:lnTo>
                <a:lnTo>
                  <a:pt x="424" y="6"/>
                </a:lnTo>
                <a:lnTo>
                  <a:pt x="432" y="4"/>
                </a:lnTo>
                <a:lnTo>
                  <a:pt x="443" y="2"/>
                </a:lnTo>
                <a:lnTo>
                  <a:pt x="449" y="0"/>
                </a:lnTo>
                <a:lnTo>
                  <a:pt x="457" y="2"/>
                </a:lnTo>
                <a:lnTo>
                  <a:pt x="462" y="2"/>
                </a:lnTo>
                <a:lnTo>
                  <a:pt x="470" y="2"/>
                </a:lnTo>
                <a:lnTo>
                  <a:pt x="480" y="4"/>
                </a:lnTo>
                <a:lnTo>
                  <a:pt x="487" y="6"/>
                </a:lnTo>
                <a:lnTo>
                  <a:pt x="501" y="12"/>
                </a:lnTo>
                <a:lnTo>
                  <a:pt x="516" y="18"/>
                </a:lnTo>
                <a:lnTo>
                  <a:pt x="531" y="25"/>
                </a:lnTo>
                <a:lnTo>
                  <a:pt x="547" y="33"/>
                </a:lnTo>
                <a:lnTo>
                  <a:pt x="562" y="43"/>
                </a:lnTo>
                <a:lnTo>
                  <a:pt x="577" y="50"/>
                </a:lnTo>
                <a:lnTo>
                  <a:pt x="593" y="60"/>
                </a:lnTo>
                <a:lnTo>
                  <a:pt x="606" y="70"/>
                </a:lnTo>
                <a:lnTo>
                  <a:pt x="612" y="77"/>
                </a:lnTo>
                <a:lnTo>
                  <a:pt x="618" y="83"/>
                </a:lnTo>
                <a:lnTo>
                  <a:pt x="623" y="91"/>
                </a:lnTo>
                <a:lnTo>
                  <a:pt x="627" y="96"/>
                </a:lnTo>
                <a:lnTo>
                  <a:pt x="631" y="102"/>
                </a:lnTo>
                <a:lnTo>
                  <a:pt x="635" y="110"/>
                </a:lnTo>
                <a:lnTo>
                  <a:pt x="639" y="116"/>
                </a:lnTo>
                <a:lnTo>
                  <a:pt x="641" y="121"/>
                </a:lnTo>
                <a:lnTo>
                  <a:pt x="643" y="127"/>
                </a:lnTo>
                <a:lnTo>
                  <a:pt x="645" y="133"/>
                </a:lnTo>
                <a:lnTo>
                  <a:pt x="645" y="139"/>
                </a:lnTo>
                <a:lnTo>
                  <a:pt x="645" y="144"/>
                </a:lnTo>
                <a:lnTo>
                  <a:pt x="645" y="152"/>
                </a:lnTo>
                <a:lnTo>
                  <a:pt x="645" y="158"/>
                </a:lnTo>
                <a:lnTo>
                  <a:pt x="643" y="164"/>
                </a:lnTo>
                <a:lnTo>
                  <a:pt x="641" y="17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Freeform 108"/>
          <p:cNvSpPr/>
          <p:nvPr/>
        </p:nvSpPr>
        <p:spPr>
          <a:xfrm>
            <a:off x="6734160" y="2984400"/>
            <a:ext cx="554040" cy="603360"/>
          </a:xfrm>
          <a:custGeom>
            <a:avLst/>
            <a:gdLst/>
            <a:ahLst/>
            <a:rect l="l" t="t" r="r" b="b"/>
            <a:pathLst>
              <a:path w="699" h="760">
                <a:moveTo>
                  <a:pt x="463" y="330"/>
                </a:moveTo>
                <a:lnTo>
                  <a:pt x="440" y="355"/>
                </a:lnTo>
                <a:lnTo>
                  <a:pt x="417" y="380"/>
                </a:lnTo>
                <a:lnTo>
                  <a:pt x="405" y="393"/>
                </a:lnTo>
                <a:lnTo>
                  <a:pt x="394" y="409"/>
                </a:lnTo>
                <a:lnTo>
                  <a:pt x="382" y="422"/>
                </a:lnTo>
                <a:lnTo>
                  <a:pt x="371" y="438"/>
                </a:lnTo>
                <a:lnTo>
                  <a:pt x="357" y="453"/>
                </a:lnTo>
                <a:lnTo>
                  <a:pt x="346" y="470"/>
                </a:lnTo>
                <a:lnTo>
                  <a:pt x="332" y="487"/>
                </a:lnTo>
                <a:lnTo>
                  <a:pt x="319" y="505"/>
                </a:lnTo>
                <a:lnTo>
                  <a:pt x="305" y="522"/>
                </a:lnTo>
                <a:lnTo>
                  <a:pt x="290" y="541"/>
                </a:lnTo>
                <a:lnTo>
                  <a:pt x="277" y="562"/>
                </a:lnTo>
                <a:lnTo>
                  <a:pt x="261" y="583"/>
                </a:lnTo>
                <a:lnTo>
                  <a:pt x="246" y="605"/>
                </a:lnTo>
                <a:lnTo>
                  <a:pt x="231" y="624"/>
                </a:lnTo>
                <a:lnTo>
                  <a:pt x="215" y="643"/>
                </a:lnTo>
                <a:lnTo>
                  <a:pt x="200" y="660"/>
                </a:lnTo>
                <a:lnTo>
                  <a:pt x="184" y="676"/>
                </a:lnTo>
                <a:lnTo>
                  <a:pt x="169" y="689"/>
                </a:lnTo>
                <a:lnTo>
                  <a:pt x="154" y="702"/>
                </a:lnTo>
                <a:lnTo>
                  <a:pt x="140" y="716"/>
                </a:lnTo>
                <a:lnTo>
                  <a:pt x="125" y="725"/>
                </a:lnTo>
                <a:lnTo>
                  <a:pt x="112" y="735"/>
                </a:lnTo>
                <a:lnTo>
                  <a:pt x="98" y="743"/>
                </a:lnTo>
                <a:lnTo>
                  <a:pt x="85" y="749"/>
                </a:lnTo>
                <a:lnTo>
                  <a:pt x="71" y="754"/>
                </a:lnTo>
                <a:lnTo>
                  <a:pt x="60" y="758"/>
                </a:lnTo>
                <a:lnTo>
                  <a:pt x="46" y="760"/>
                </a:lnTo>
                <a:lnTo>
                  <a:pt x="37" y="760"/>
                </a:lnTo>
                <a:lnTo>
                  <a:pt x="54" y="727"/>
                </a:lnTo>
                <a:lnTo>
                  <a:pt x="71" y="693"/>
                </a:lnTo>
                <a:lnTo>
                  <a:pt x="88" y="662"/>
                </a:lnTo>
                <a:lnTo>
                  <a:pt x="106" y="631"/>
                </a:lnTo>
                <a:lnTo>
                  <a:pt x="121" y="601"/>
                </a:lnTo>
                <a:lnTo>
                  <a:pt x="138" y="572"/>
                </a:lnTo>
                <a:lnTo>
                  <a:pt x="152" y="545"/>
                </a:lnTo>
                <a:lnTo>
                  <a:pt x="167" y="518"/>
                </a:lnTo>
                <a:lnTo>
                  <a:pt x="181" y="491"/>
                </a:lnTo>
                <a:lnTo>
                  <a:pt x="194" y="468"/>
                </a:lnTo>
                <a:lnTo>
                  <a:pt x="207" y="443"/>
                </a:lnTo>
                <a:lnTo>
                  <a:pt x="219" y="422"/>
                </a:lnTo>
                <a:lnTo>
                  <a:pt x="231" y="399"/>
                </a:lnTo>
                <a:lnTo>
                  <a:pt x="242" y="380"/>
                </a:lnTo>
                <a:lnTo>
                  <a:pt x="254" y="361"/>
                </a:lnTo>
                <a:lnTo>
                  <a:pt x="263" y="342"/>
                </a:lnTo>
                <a:lnTo>
                  <a:pt x="271" y="324"/>
                </a:lnTo>
                <a:lnTo>
                  <a:pt x="280" y="309"/>
                </a:lnTo>
                <a:lnTo>
                  <a:pt x="288" y="294"/>
                </a:lnTo>
                <a:lnTo>
                  <a:pt x="296" y="280"/>
                </a:lnTo>
                <a:lnTo>
                  <a:pt x="302" y="267"/>
                </a:lnTo>
                <a:lnTo>
                  <a:pt x="307" y="253"/>
                </a:lnTo>
                <a:lnTo>
                  <a:pt x="313" y="244"/>
                </a:lnTo>
                <a:lnTo>
                  <a:pt x="319" y="232"/>
                </a:lnTo>
                <a:lnTo>
                  <a:pt x="323" y="224"/>
                </a:lnTo>
                <a:lnTo>
                  <a:pt x="327" y="217"/>
                </a:lnTo>
                <a:lnTo>
                  <a:pt x="328" y="209"/>
                </a:lnTo>
                <a:lnTo>
                  <a:pt x="330" y="203"/>
                </a:lnTo>
                <a:lnTo>
                  <a:pt x="332" y="200"/>
                </a:lnTo>
                <a:lnTo>
                  <a:pt x="332" y="196"/>
                </a:lnTo>
                <a:lnTo>
                  <a:pt x="332" y="192"/>
                </a:lnTo>
                <a:lnTo>
                  <a:pt x="332" y="190"/>
                </a:lnTo>
                <a:lnTo>
                  <a:pt x="328" y="188"/>
                </a:lnTo>
                <a:lnTo>
                  <a:pt x="327" y="186"/>
                </a:lnTo>
                <a:lnTo>
                  <a:pt x="321" y="186"/>
                </a:lnTo>
                <a:lnTo>
                  <a:pt x="317" y="186"/>
                </a:lnTo>
                <a:lnTo>
                  <a:pt x="309" y="186"/>
                </a:lnTo>
                <a:lnTo>
                  <a:pt x="303" y="186"/>
                </a:lnTo>
                <a:lnTo>
                  <a:pt x="296" y="186"/>
                </a:lnTo>
                <a:lnTo>
                  <a:pt x="288" y="188"/>
                </a:lnTo>
                <a:lnTo>
                  <a:pt x="279" y="190"/>
                </a:lnTo>
                <a:lnTo>
                  <a:pt x="267" y="194"/>
                </a:lnTo>
                <a:lnTo>
                  <a:pt x="257" y="196"/>
                </a:lnTo>
                <a:lnTo>
                  <a:pt x="246" y="200"/>
                </a:lnTo>
                <a:lnTo>
                  <a:pt x="232" y="203"/>
                </a:lnTo>
                <a:lnTo>
                  <a:pt x="219" y="207"/>
                </a:lnTo>
                <a:lnTo>
                  <a:pt x="206" y="211"/>
                </a:lnTo>
                <a:lnTo>
                  <a:pt x="190" y="217"/>
                </a:lnTo>
                <a:lnTo>
                  <a:pt x="175" y="221"/>
                </a:lnTo>
                <a:lnTo>
                  <a:pt x="160" y="223"/>
                </a:lnTo>
                <a:lnTo>
                  <a:pt x="144" y="224"/>
                </a:lnTo>
                <a:lnTo>
                  <a:pt x="131" y="226"/>
                </a:lnTo>
                <a:lnTo>
                  <a:pt x="115" y="226"/>
                </a:lnTo>
                <a:lnTo>
                  <a:pt x="102" y="224"/>
                </a:lnTo>
                <a:lnTo>
                  <a:pt x="90" y="221"/>
                </a:lnTo>
                <a:lnTo>
                  <a:pt x="77" y="219"/>
                </a:lnTo>
                <a:lnTo>
                  <a:pt x="65" y="213"/>
                </a:lnTo>
                <a:lnTo>
                  <a:pt x="54" y="207"/>
                </a:lnTo>
                <a:lnTo>
                  <a:pt x="42" y="201"/>
                </a:lnTo>
                <a:lnTo>
                  <a:pt x="33" y="194"/>
                </a:lnTo>
                <a:lnTo>
                  <a:pt x="23" y="184"/>
                </a:lnTo>
                <a:lnTo>
                  <a:pt x="16" y="175"/>
                </a:lnTo>
                <a:lnTo>
                  <a:pt x="8" y="165"/>
                </a:lnTo>
                <a:lnTo>
                  <a:pt x="0" y="153"/>
                </a:lnTo>
                <a:lnTo>
                  <a:pt x="8" y="152"/>
                </a:lnTo>
                <a:lnTo>
                  <a:pt x="16" y="152"/>
                </a:lnTo>
                <a:lnTo>
                  <a:pt x="23" y="152"/>
                </a:lnTo>
                <a:lnTo>
                  <a:pt x="33" y="150"/>
                </a:lnTo>
                <a:lnTo>
                  <a:pt x="44" y="150"/>
                </a:lnTo>
                <a:lnTo>
                  <a:pt x="56" y="148"/>
                </a:lnTo>
                <a:lnTo>
                  <a:pt x="67" y="146"/>
                </a:lnTo>
                <a:lnTo>
                  <a:pt x="81" y="144"/>
                </a:lnTo>
                <a:lnTo>
                  <a:pt x="94" y="140"/>
                </a:lnTo>
                <a:lnTo>
                  <a:pt x="108" y="138"/>
                </a:lnTo>
                <a:lnTo>
                  <a:pt x="123" y="134"/>
                </a:lnTo>
                <a:lnTo>
                  <a:pt x="140" y="132"/>
                </a:lnTo>
                <a:lnTo>
                  <a:pt x="158" y="129"/>
                </a:lnTo>
                <a:lnTo>
                  <a:pt x="175" y="123"/>
                </a:lnTo>
                <a:lnTo>
                  <a:pt x="194" y="119"/>
                </a:lnTo>
                <a:lnTo>
                  <a:pt x="213" y="115"/>
                </a:lnTo>
                <a:lnTo>
                  <a:pt x="231" y="109"/>
                </a:lnTo>
                <a:lnTo>
                  <a:pt x="248" y="105"/>
                </a:lnTo>
                <a:lnTo>
                  <a:pt x="263" y="100"/>
                </a:lnTo>
                <a:lnTo>
                  <a:pt x="277" y="96"/>
                </a:lnTo>
                <a:lnTo>
                  <a:pt x="292" y="90"/>
                </a:lnTo>
                <a:lnTo>
                  <a:pt x="303" y="86"/>
                </a:lnTo>
                <a:lnTo>
                  <a:pt x="317" y="81"/>
                </a:lnTo>
                <a:lnTo>
                  <a:pt x="327" y="77"/>
                </a:lnTo>
                <a:lnTo>
                  <a:pt x="338" y="71"/>
                </a:lnTo>
                <a:lnTo>
                  <a:pt x="346" y="67"/>
                </a:lnTo>
                <a:lnTo>
                  <a:pt x="355" y="61"/>
                </a:lnTo>
                <a:lnTo>
                  <a:pt x="361" y="57"/>
                </a:lnTo>
                <a:lnTo>
                  <a:pt x="367" y="52"/>
                </a:lnTo>
                <a:lnTo>
                  <a:pt x="373" y="48"/>
                </a:lnTo>
                <a:lnTo>
                  <a:pt x="376" y="44"/>
                </a:lnTo>
                <a:lnTo>
                  <a:pt x="378" y="38"/>
                </a:lnTo>
                <a:lnTo>
                  <a:pt x="384" y="29"/>
                </a:lnTo>
                <a:lnTo>
                  <a:pt x="390" y="21"/>
                </a:lnTo>
                <a:lnTo>
                  <a:pt x="398" y="15"/>
                </a:lnTo>
                <a:lnTo>
                  <a:pt x="405" y="10"/>
                </a:lnTo>
                <a:lnTo>
                  <a:pt x="415" y="6"/>
                </a:lnTo>
                <a:lnTo>
                  <a:pt x="426" y="2"/>
                </a:lnTo>
                <a:lnTo>
                  <a:pt x="438" y="2"/>
                </a:lnTo>
                <a:lnTo>
                  <a:pt x="449" y="0"/>
                </a:lnTo>
                <a:lnTo>
                  <a:pt x="455" y="4"/>
                </a:lnTo>
                <a:lnTo>
                  <a:pt x="461" y="6"/>
                </a:lnTo>
                <a:lnTo>
                  <a:pt x="467" y="8"/>
                </a:lnTo>
                <a:lnTo>
                  <a:pt x="472" y="10"/>
                </a:lnTo>
                <a:lnTo>
                  <a:pt x="480" y="13"/>
                </a:lnTo>
                <a:lnTo>
                  <a:pt x="486" y="15"/>
                </a:lnTo>
                <a:lnTo>
                  <a:pt x="495" y="19"/>
                </a:lnTo>
                <a:lnTo>
                  <a:pt x="503" y="23"/>
                </a:lnTo>
                <a:lnTo>
                  <a:pt x="513" y="27"/>
                </a:lnTo>
                <a:lnTo>
                  <a:pt x="522" y="31"/>
                </a:lnTo>
                <a:lnTo>
                  <a:pt x="532" y="34"/>
                </a:lnTo>
                <a:lnTo>
                  <a:pt x="543" y="40"/>
                </a:lnTo>
                <a:lnTo>
                  <a:pt x="555" y="44"/>
                </a:lnTo>
                <a:lnTo>
                  <a:pt x="566" y="50"/>
                </a:lnTo>
                <a:lnTo>
                  <a:pt x="580" y="57"/>
                </a:lnTo>
                <a:lnTo>
                  <a:pt x="591" y="63"/>
                </a:lnTo>
                <a:lnTo>
                  <a:pt x="605" y="71"/>
                </a:lnTo>
                <a:lnTo>
                  <a:pt x="616" y="79"/>
                </a:lnTo>
                <a:lnTo>
                  <a:pt x="628" y="84"/>
                </a:lnTo>
                <a:lnTo>
                  <a:pt x="639" y="90"/>
                </a:lnTo>
                <a:lnTo>
                  <a:pt x="649" y="96"/>
                </a:lnTo>
                <a:lnTo>
                  <a:pt x="657" y="102"/>
                </a:lnTo>
                <a:lnTo>
                  <a:pt x="664" y="107"/>
                </a:lnTo>
                <a:lnTo>
                  <a:pt x="672" y="111"/>
                </a:lnTo>
                <a:lnTo>
                  <a:pt x="678" y="117"/>
                </a:lnTo>
                <a:lnTo>
                  <a:pt x="684" y="121"/>
                </a:lnTo>
                <a:lnTo>
                  <a:pt x="689" y="125"/>
                </a:lnTo>
                <a:lnTo>
                  <a:pt x="693" y="129"/>
                </a:lnTo>
                <a:lnTo>
                  <a:pt x="695" y="132"/>
                </a:lnTo>
                <a:lnTo>
                  <a:pt x="697" y="134"/>
                </a:lnTo>
                <a:lnTo>
                  <a:pt x="699" y="138"/>
                </a:lnTo>
                <a:lnTo>
                  <a:pt x="699" y="140"/>
                </a:lnTo>
                <a:lnTo>
                  <a:pt x="699" y="144"/>
                </a:lnTo>
                <a:lnTo>
                  <a:pt x="697" y="150"/>
                </a:lnTo>
                <a:lnTo>
                  <a:pt x="697" y="153"/>
                </a:lnTo>
                <a:lnTo>
                  <a:pt x="695" y="159"/>
                </a:lnTo>
                <a:lnTo>
                  <a:pt x="691" y="163"/>
                </a:lnTo>
                <a:lnTo>
                  <a:pt x="689" y="167"/>
                </a:lnTo>
                <a:lnTo>
                  <a:pt x="685" y="173"/>
                </a:lnTo>
                <a:lnTo>
                  <a:pt x="682" y="176"/>
                </a:lnTo>
                <a:lnTo>
                  <a:pt x="676" y="180"/>
                </a:lnTo>
                <a:lnTo>
                  <a:pt x="670" y="184"/>
                </a:lnTo>
                <a:lnTo>
                  <a:pt x="664" y="188"/>
                </a:lnTo>
                <a:lnTo>
                  <a:pt x="659" y="192"/>
                </a:lnTo>
                <a:lnTo>
                  <a:pt x="653" y="196"/>
                </a:lnTo>
                <a:lnTo>
                  <a:pt x="645" y="198"/>
                </a:lnTo>
                <a:lnTo>
                  <a:pt x="636" y="201"/>
                </a:lnTo>
                <a:lnTo>
                  <a:pt x="628" y="203"/>
                </a:lnTo>
                <a:lnTo>
                  <a:pt x="618" y="205"/>
                </a:lnTo>
                <a:lnTo>
                  <a:pt x="609" y="209"/>
                </a:lnTo>
                <a:lnTo>
                  <a:pt x="599" y="215"/>
                </a:lnTo>
                <a:lnTo>
                  <a:pt x="589" y="219"/>
                </a:lnTo>
                <a:lnTo>
                  <a:pt x="580" y="224"/>
                </a:lnTo>
                <a:lnTo>
                  <a:pt x="570" y="232"/>
                </a:lnTo>
                <a:lnTo>
                  <a:pt x="559" y="240"/>
                </a:lnTo>
                <a:lnTo>
                  <a:pt x="549" y="248"/>
                </a:lnTo>
                <a:lnTo>
                  <a:pt x="538" y="255"/>
                </a:lnTo>
                <a:lnTo>
                  <a:pt x="528" y="265"/>
                </a:lnTo>
                <a:lnTo>
                  <a:pt x="517" y="274"/>
                </a:lnTo>
                <a:lnTo>
                  <a:pt x="505" y="284"/>
                </a:lnTo>
                <a:lnTo>
                  <a:pt x="484" y="307"/>
                </a:lnTo>
                <a:lnTo>
                  <a:pt x="463" y="33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Freeform 109"/>
          <p:cNvSpPr/>
          <p:nvPr/>
        </p:nvSpPr>
        <p:spPr>
          <a:xfrm>
            <a:off x="6010200" y="3879720"/>
            <a:ext cx="273240" cy="227160"/>
          </a:xfrm>
          <a:custGeom>
            <a:avLst/>
            <a:gdLst/>
            <a:ahLst/>
            <a:rect l="l" t="t" r="r" b="b"/>
            <a:pathLst>
              <a:path w="344" h="286">
                <a:moveTo>
                  <a:pt x="344" y="190"/>
                </a:moveTo>
                <a:lnTo>
                  <a:pt x="344" y="199"/>
                </a:lnTo>
                <a:lnTo>
                  <a:pt x="344" y="207"/>
                </a:lnTo>
                <a:lnTo>
                  <a:pt x="344" y="215"/>
                </a:lnTo>
                <a:lnTo>
                  <a:pt x="344" y="222"/>
                </a:lnTo>
                <a:lnTo>
                  <a:pt x="344" y="230"/>
                </a:lnTo>
                <a:lnTo>
                  <a:pt x="342" y="236"/>
                </a:lnTo>
                <a:lnTo>
                  <a:pt x="342" y="241"/>
                </a:lnTo>
                <a:lnTo>
                  <a:pt x="342" y="247"/>
                </a:lnTo>
                <a:lnTo>
                  <a:pt x="340" y="259"/>
                </a:lnTo>
                <a:lnTo>
                  <a:pt x="338" y="266"/>
                </a:lnTo>
                <a:lnTo>
                  <a:pt x="336" y="272"/>
                </a:lnTo>
                <a:lnTo>
                  <a:pt x="333" y="278"/>
                </a:lnTo>
                <a:lnTo>
                  <a:pt x="327" y="282"/>
                </a:lnTo>
                <a:lnTo>
                  <a:pt x="321" y="286"/>
                </a:lnTo>
                <a:lnTo>
                  <a:pt x="313" y="286"/>
                </a:lnTo>
                <a:lnTo>
                  <a:pt x="306" y="286"/>
                </a:lnTo>
                <a:lnTo>
                  <a:pt x="300" y="286"/>
                </a:lnTo>
                <a:lnTo>
                  <a:pt x="296" y="284"/>
                </a:lnTo>
                <a:lnTo>
                  <a:pt x="290" y="282"/>
                </a:lnTo>
                <a:lnTo>
                  <a:pt x="285" y="280"/>
                </a:lnTo>
                <a:lnTo>
                  <a:pt x="279" y="278"/>
                </a:lnTo>
                <a:lnTo>
                  <a:pt x="273" y="274"/>
                </a:lnTo>
                <a:lnTo>
                  <a:pt x="267" y="270"/>
                </a:lnTo>
                <a:lnTo>
                  <a:pt x="262" y="266"/>
                </a:lnTo>
                <a:lnTo>
                  <a:pt x="252" y="263"/>
                </a:lnTo>
                <a:lnTo>
                  <a:pt x="242" y="257"/>
                </a:lnTo>
                <a:lnTo>
                  <a:pt x="231" y="251"/>
                </a:lnTo>
                <a:lnTo>
                  <a:pt x="219" y="241"/>
                </a:lnTo>
                <a:lnTo>
                  <a:pt x="206" y="232"/>
                </a:lnTo>
                <a:lnTo>
                  <a:pt x="192" y="218"/>
                </a:lnTo>
                <a:lnTo>
                  <a:pt x="177" y="205"/>
                </a:lnTo>
                <a:lnTo>
                  <a:pt x="162" y="190"/>
                </a:lnTo>
                <a:lnTo>
                  <a:pt x="144" y="172"/>
                </a:lnTo>
                <a:lnTo>
                  <a:pt x="127" y="153"/>
                </a:lnTo>
                <a:lnTo>
                  <a:pt x="108" y="132"/>
                </a:lnTo>
                <a:lnTo>
                  <a:pt x="89" y="109"/>
                </a:lnTo>
                <a:lnTo>
                  <a:pt x="68" y="84"/>
                </a:lnTo>
                <a:lnTo>
                  <a:pt x="47" y="57"/>
                </a:lnTo>
                <a:lnTo>
                  <a:pt x="24" y="30"/>
                </a:lnTo>
                <a:lnTo>
                  <a:pt x="0" y="0"/>
                </a:lnTo>
                <a:lnTo>
                  <a:pt x="24" y="0"/>
                </a:lnTo>
                <a:lnTo>
                  <a:pt x="47" y="0"/>
                </a:lnTo>
                <a:lnTo>
                  <a:pt x="70" y="1"/>
                </a:lnTo>
                <a:lnTo>
                  <a:pt x="89" y="1"/>
                </a:lnTo>
                <a:lnTo>
                  <a:pt x="110" y="3"/>
                </a:lnTo>
                <a:lnTo>
                  <a:pt x="129" y="5"/>
                </a:lnTo>
                <a:lnTo>
                  <a:pt x="146" y="7"/>
                </a:lnTo>
                <a:lnTo>
                  <a:pt x="164" y="11"/>
                </a:lnTo>
                <a:lnTo>
                  <a:pt x="179" y="13"/>
                </a:lnTo>
                <a:lnTo>
                  <a:pt x="194" y="17"/>
                </a:lnTo>
                <a:lnTo>
                  <a:pt x="210" y="21"/>
                </a:lnTo>
                <a:lnTo>
                  <a:pt x="223" y="26"/>
                </a:lnTo>
                <a:lnTo>
                  <a:pt x="237" y="30"/>
                </a:lnTo>
                <a:lnTo>
                  <a:pt x="250" y="36"/>
                </a:lnTo>
                <a:lnTo>
                  <a:pt x="262" y="44"/>
                </a:lnTo>
                <a:lnTo>
                  <a:pt x="273" y="49"/>
                </a:lnTo>
                <a:lnTo>
                  <a:pt x="281" y="57"/>
                </a:lnTo>
                <a:lnTo>
                  <a:pt x="288" y="65"/>
                </a:lnTo>
                <a:lnTo>
                  <a:pt x="296" y="72"/>
                </a:lnTo>
                <a:lnTo>
                  <a:pt x="304" y="80"/>
                </a:lnTo>
                <a:lnTo>
                  <a:pt x="310" y="90"/>
                </a:lnTo>
                <a:lnTo>
                  <a:pt x="315" y="97"/>
                </a:lnTo>
                <a:lnTo>
                  <a:pt x="321" y="107"/>
                </a:lnTo>
                <a:lnTo>
                  <a:pt x="325" y="115"/>
                </a:lnTo>
                <a:lnTo>
                  <a:pt x="331" y="124"/>
                </a:lnTo>
                <a:lnTo>
                  <a:pt x="334" y="134"/>
                </a:lnTo>
                <a:lnTo>
                  <a:pt x="336" y="142"/>
                </a:lnTo>
                <a:lnTo>
                  <a:pt x="338" y="151"/>
                </a:lnTo>
                <a:lnTo>
                  <a:pt x="340" y="161"/>
                </a:lnTo>
                <a:lnTo>
                  <a:pt x="342" y="170"/>
                </a:lnTo>
                <a:lnTo>
                  <a:pt x="344" y="180"/>
                </a:lnTo>
                <a:lnTo>
                  <a:pt x="344" y="19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reeform 110"/>
          <p:cNvSpPr/>
          <p:nvPr/>
        </p:nvSpPr>
        <p:spPr>
          <a:xfrm>
            <a:off x="5484960" y="3508200"/>
            <a:ext cx="855360" cy="250920"/>
          </a:xfrm>
          <a:custGeom>
            <a:avLst/>
            <a:gdLst/>
            <a:ahLst/>
            <a:rect l="l" t="t" r="r" b="b"/>
            <a:pathLst>
              <a:path w="1077" h="317">
                <a:moveTo>
                  <a:pt x="0" y="240"/>
                </a:moveTo>
                <a:lnTo>
                  <a:pt x="50" y="225"/>
                </a:lnTo>
                <a:lnTo>
                  <a:pt x="98" y="209"/>
                </a:lnTo>
                <a:lnTo>
                  <a:pt x="146" y="196"/>
                </a:lnTo>
                <a:lnTo>
                  <a:pt x="192" y="183"/>
                </a:lnTo>
                <a:lnTo>
                  <a:pt x="236" y="169"/>
                </a:lnTo>
                <a:lnTo>
                  <a:pt x="279" y="156"/>
                </a:lnTo>
                <a:lnTo>
                  <a:pt x="321" y="144"/>
                </a:lnTo>
                <a:lnTo>
                  <a:pt x="361" y="131"/>
                </a:lnTo>
                <a:lnTo>
                  <a:pt x="400" y="121"/>
                </a:lnTo>
                <a:lnTo>
                  <a:pt x="438" y="110"/>
                </a:lnTo>
                <a:lnTo>
                  <a:pt x="472" y="100"/>
                </a:lnTo>
                <a:lnTo>
                  <a:pt x="507" y="90"/>
                </a:lnTo>
                <a:lnTo>
                  <a:pt x="540" y="81"/>
                </a:lnTo>
                <a:lnTo>
                  <a:pt x="572" y="73"/>
                </a:lnTo>
                <a:lnTo>
                  <a:pt x="603" y="64"/>
                </a:lnTo>
                <a:lnTo>
                  <a:pt x="632" y="56"/>
                </a:lnTo>
                <a:lnTo>
                  <a:pt x="659" y="50"/>
                </a:lnTo>
                <a:lnTo>
                  <a:pt x="684" y="42"/>
                </a:lnTo>
                <a:lnTo>
                  <a:pt x="709" y="37"/>
                </a:lnTo>
                <a:lnTo>
                  <a:pt x="732" y="31"/>
                </a:lnTo>
                <a:lnTo>
                  <a:pt x="753" y="25"/>
                </a:lnTo>
                <a:lnTo>
                  <a:pt x="774" y="21"/>
                </a:lnTo>
                <a:lnTo>
                  <a:pt x="793" y="17"/>
                </a:lnTo>
                <a:lnTo>
                  <a:pt x="810" y="14"/>
                </a:lnTo>
                <a:lnTo>
                  <a:pt x="826" y="10"/>
                </a:lnTo>
                <a:lnTo>
                  <a:pt x="841" y="8"/>
                </a:lnTo>
                <a:lnTo>
                  <a:pt x="854" y="4"/>
                </a:lnTo>
                <a:lnTo>
                  <a:pt x="866" y="2"/>
                </a:lnTo>
                <a:lnTo>
                  <a:pt x="876" y="2"/>
                </a:lnTo>
                <a:lnTo>
                  <a:pt x="885" y="0"/>
                </a:lnTo>
                <a:lnTo>
                  <a:pt x="893" y="0"/>
                </a:lnTo>
                <a:lnTo>
                  <a:pt x="899" y="0"/>
                </a:lnTo>
                <a:lnTo>
                  <a:pt x="910" y="0"/>
                </a:lnTo>
                <a:lnTo>
                  <a:pt x="920" y="0"/>
                </a:lnTo>
                <a:lnTo>
                  <a:pt x="929" y="0"/>
                </a:lnTo>
                <a:lnTo>
                  <a:pt x="939" y="2"/>
                </a:lnTo>
                <a:lnTo>
                  <a:pt x="958" y="4"/>
                </a:lnTo>
                <a:lnTo>
                  <a:pt x="973" y="8"/>
                </a:lnTo>
                <a:lnTo>
                  <a:pt x="989" y="12"/>
                </a:lnTo>
                <a:lnTo>
                  <a:pt x="1002" y="16"/>
                </a:lnTo>
                <a:lnTo>
                  <a:pt x="1016" y="19"/>
                </a:lnTo>
                <a:lnTo>
                  <a:pt x="1029" y="25"/>
                </a:lnTo>
                <a:lnTo>
                  <a:pt x="1037" y="27"/>
                </a:lnTo>
                <a:lnTo>
                  <a:pt x="1043" y="31"/>
                </a:lnTo>
                <a:lnTo>
                  <a:pt x="1046" y="33"/>
                </a:lnTo>
                <a:lnTo>
                  <a:pt x="1052" y="37"/>
                </a:lnTo>
                <a:lnTo>
                  <a:pt x="1060" y="42"/>
                </a:lnTo>
                <a:lnTo>
                  <a:pt x="1066" y="50"/>
                </a:lnTo>
                <a:lnTo>
                  <a:pt x="1071" y="58"/>
                </a:lnTo>
                <a:lnTo>
                  <a:pt x="1075" y="64"/>
                </a:lnTo>
                <a:lnTo>
                  <a:pt x="1075" y="69"/>
                </a:lnTo>
                <a:lnTo>
                  <a:pt x="1077" y="75"/>
                </a:lnTo>
                <a:lnTo>
                  <a:pt x="1077" y="77"/>
                </a:lnTo>
                <a:lnTo>
                  <a:pt x="1075" y="79"/>
                </a:lnTo>
                <a:lnTo>
                  <a:pt x="1073" y="81"/>
                </a:lnTo>
                <a:lnTo>
                  <a:pt x="1069" y="83"/>
                </a:lnTo>
                <a:lnTo>
                  <a:pt x="1066" y="85"/>
                </a:lnTo>
                <a:lnTo>
                  <a:pt x="1062" y="87"/>
                </a:lnTo>
                <a:lnTo>
                  <a:pt x="1056" y="89"/>
                </a:lnTo>
                <a:lnTo>
                  <a:pt x="1050" y="92"/>
                </a:lnTo>
                <a:lnTo>
                  <a:pt x="1043" y="94"/>
                </a:lnTo>
                <a:lnTo>
                  <a:pt x="1035" y="98"/>
                </a:lnTo>
                <a:lnTo>
                  <a:pt x="1027" y="100"/>
                </a:lnTo>
                <a:lnTo>
                  <a:pt x="1018" y="104"/>
                </a:lnTo>
                <a:lnTo>
                  <a:pt x="1006" y="108"/>
                </a:lnTo>
                <a:lnTo>
                  <a:pt x="995" y="112"/>
                </a:lnTo>
                <a:lnTo>
                  <a:pt x="983" y="115"/>
                </a:lnTo>
                <a:lnTo>
                  <a:pt x="970" y="119"/>
                </a:lnTo>
                <a:lnTo>
                  <a:pt x="956" y="123"/>
                </a:lnTo>
                <a:lnTo>
                  <a:pt x="943" y="129"/>
                </a:lnTo>
                <a:lnTo>
                  <a:pt x="927" y="133"/>
                </a:lnTo>
                <a:lnTo>
                  <a:pt x="910" y="136"/>
                </a:lnTo>
                <a:lnTo>
                  <a:pt x="893" y="142"/>
                </a:lnTo>
                <a:lnTo>
                  <a:pt x="876" y="146"/>
                </a:lnTo>
                <a:lnTo>
                  <a:pt x="856" y="152"/>
                </a:lnTo>
                <a:lnTo>
                  <a:pt x="837" y="158"/>
                </a:lnTo>
                <a:lnTo>
                  <a:pt x="816" y="161"/>
                </a:lnTo>
                <a:lnTo>
                  <a:pt x="795" y="167"/>
                </a:lnTo>
                <a:lnTo>
                  <a:pt x="774" y="173"/>
                </a:lnTo>
                <a:lnTo>
                  <a:pt x="751" y="179"/>
                </a:lnTo>
                <a:lnTo>
                  <a:pt x="726" y="184"/>
                </a:lnTo>
                <a:lnTo>
                  <a:pt x="703" y="190"/>
                </a:lnTo>
                <a:lnTo>
                  <a:pt x="676" y="196"/>
                </a:lnTo>
                <a:lnTo>
                  <a:pt x="651" y="202"/>
                </a:lnTo>
                <a:lnTo>
                  <a:pt x="624" y="209"/>
                </a:lnTo>
                <a:lnTo>
                  <a:pt x="599" y="217"/>
                </a:lnTo>
                <a:lnTo>
                  <a:pt x="574" y="223"/>
                </a:lnTo>
                <a:lnTo>
                  <a:pt x="551" y="229"/>
                </a:lnTo>
                <a:lnTo>
                  <a:pt x="526" y="236"/>
                </a:lnTo>
                <a:lnTo>
                  <a:pt x="505" y="242"/>
                </a:lnTo>
                <a:lnTo>
                  <a:pt x="482" y="248"/>
                </a:lnTo>
                <a:lnTo>
                  <a:pt x="463" y="254"/>
                </a:lnTo>
                <a:lnTo>
                  <a:pt x="442" y="257"/>
                </a:lnTo>
                <a:lnTo>
                  <a:pt x="423" y="263"/>
                </a:lnTo>
                <a:lnTo>
                  <a:pt x="403" y="267"/>
                </a:lnTo>
                <a:lnTo>
                  <a:pt x="386" y="273"/>
                </a:lnTo>
                <a:lnTo>
                  <a:pt x="369" y="277"/>
                </a:lnTo>
                <a:lnTo>
                  <a:pt x="353" y="280"/>
                </a:lnTo>
                <a:lnTo>
                  <a:pt x="336" y="284"/>
                </a:lnTo>
                <a:lnTo>
                  <a:pt x="323" y="288"/>
                </a:lnTo>
                <a:lnTo>
                  <a:pt x="307" y="292"/>
                </a:lnTo>
                <a:lnTo>
                  <a:pt x="294" y="294"/>
                </a:lnTo>
                <a:lnTo>
                  <a:pt x="282" y="298"/>
                </a:lnTo>
                <a:lnTo>
                  <a:pt x="271" y="300"/>
                </a:lnTo>
                <a:lnTo>
                  <a:pt x="259" y="303"/>
                </a:lnTo>
                <a:lnTo>
                  <a:pt x="250" y="305"/>
                </a:lnTo>
                <a:lnTo>
                  <a:pt x="240" y="307"/>
                </a:lnTo>
                <a:lnTo>
                  <a:pt x="231" y="309"/>
                </a:lnTo>
                <a:lnTo>
                  <a:pt x="223" y="311"/>
                </a:lnTo>
                <a:lnTo>
                  <a:pt x="215" y="313"/>
                </a:lnTo>
                <a:lnTo>
                  <a:pt x="209" y="313"/>
                </a:lnTo>
                <a:lnTo>
                  <a:pt x="204" y="315"/>
                </a:lnTo>
                <a:lnTo>
                  <a:pt x="200" y="315"/>
                </a:lnTo>
                <a:lnTo>
                  <a:pt x="194" y="315"/>
                </a:lnTo>
                <a:lnTo>
                  <a:pt x="192" y="315"/>
                </a:lnTo>
                <a:lnTo>
                  <a:pt x="188" y="317"/>
                </a:lnTo>
                <a:lnTo>
                  <a:pt x="183" y="315"/>
                </a:lnTo>
                <a:lnTo>
                  <a:pt x="175" y="315"/>
                </a:lnTo>
                <a:lnTo>
                  <a:pt x="165" y="313"/>
                </a:lnTo>
                <a:lnTo>
                  <a:pt x="158" y="311"/>
                </a:lnTo>
                <a:lnTo>
                  <a:pt x="148" y="309"/>
                </a:lnTo>
                <a:lnTo>
                  <a:pt x="138" y="305"/>
                </a:lnTo>
                <a:lnTo>
                  <a:pt x="127" y="302"/>
                </a:lnTo>
                <a:lnTo>
                  <a:pt x="115" y="298"/>
                </a:lnTo>
                <a:lnTo>
                  <a:pt x="104" y="292"/>
                </a:lnTo>
                <a:lnTo>
                  <a:pt x="90" y="286"/>
                </a:lnTo>
                <a:lnTo>
                  <a:pt x="77" y="280"/>
                </a:lnTo>
                <a:lnTo>
                  <a:pt x="64" y="273"/>
                </a:lnTo>
                <a:lnTo>
                  <a:pt x="48" y="267"/>
                </a:lnTo>
                <a:lnTo>
                  <a:pt x="33" y="257"/>
                </a:lnTo>
                <a:lnTo>
                  <a:pt x="18" y="250"/>
                </a:lnTo>
                <a:lnTo>
                  <a:pt x="0" y="24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Freeform 111"/>
          <p:cNvSpPr/>
          <p:nvPr/>
        </p:nvSpPr>
        <p:spPr>
          <a:xfrm>
            <a:off x="5389560" y="3608280"/>
            <a:ext cx="593640" cy="957240"/>
          </a:xfrm>
          <a:custGeom>
            <a:avLst/>
            <a:gdLst/>
            <a:ahLst/>
            <a:rect l="l" t="t" r="r" b="b"/>
            <a:pathLst>
              <a:path w="749" h="1205">
                <a:moveTo>
                  <a:pt x="144" y="1127"/>
                </a:moveTo>
                <a:lnTo>
                  <a:pt x="129" y="1138"/>
                </a:lnTo>
                <a:lnTo>
                  <a:pt x="116" y="1150"/>
                </a:lnTo>
                <a:lnTo>
                  <a:pt x="102" y="1159"/>
                </a:lnTo>
                <a:lnTo>
                  <a:pt x="89" y="1167"/>
                </a:lnTo>
                <a:lnTo>
                  <a:pt x="77" y="1175"/>
                </a:lnTo>
                <a:lnTo>
                  <a:pt x="66" y="1182"/>
                </a:lnTo>
                <a:lnTo>
                  <a:pt x="56" y="1188"/>
                </a:lnTo>
                <a:lnTo>
                  <a:pt x="46" y="1194"/>
                </a:lnTo>
                <a:lnTo>
                  <a:pt x="39" y="1198"/>
                </a:lnTo>
                <a:lnTo>
                  <a:pt x="31" y="1201"/>
                </a:lnTo>
                <a:lnTo>
                  <a:pt x="23" y="1203"/>
                </a:lnTo>
                <a:lnTo>
                  <a:pt x="18" y="1205"/>
                </a:lnTo>
                <a:lnTo>
                  <a:pt x="12" y="1205"/>
                </a:lnTo>
                <a:lnTo>
                  <a:pt x="8" y="1205"/>
                </a:lnTo>
                <a:lnTo>
                  <a:pt x="4" y="1205"/>
                </a:lnTo>
                <a:lnTo>
                  <a:pt x="2" y="1203"/>
                </a:lnTo>
                <a:lnTo>
                  <a:pt x="0" y="1200"/>
                </a:lnTo>
                <a:lnTo>
                  <a:pt x="0" y="1196"/>
                </a:lnTo>
                <a:lnTo>
                  <a:pt x="2" y="1190"/>
                </a:lnTo>
                <a:lnTo>
                  <a:pt x="4" y="1182"/>
                </a:lnTo>
                <a:lnTo>
                  <a:pt x="8" y="1173"/>
                </a:lnTo>
                <a:lnTo>
                  <a:pt x="14" y="1163"/>
                </a:lnTo>
                <a:lnTo>
                  <a:pt x="21" y="1152"/>
                </a:lnTo>
                <a:lnTo>
                  <a:pt x="29" y="1138"/>
                </a:lnTo>
                <a:lnTo>
                  <a:pt x="39" y="1125"/>
                </a:lnTo>
                <a:lnTo>
                  <a:pt x="50" y="1107"/>
                </a:lnTo>
                <a:lnTo>
                  <a:pt x="62" y="1092"/>
                </a:lnTo>
                <a:lnTo>
                  <a:pt x="75" y="1073"/>
                </a:lnTo>
                <a:lnTo>
                  <a:pt x="91" y="1054"/>
                </a:lnTo>
                <a:lnTo>
                  <a:pt x="108" y="1033"/>
                </a:lnTo>
                <a:lnTo>
                  <a:pt x="125" y="1011"/>
                </a:lnTo>
                <a:lnTo>
                  <a:pt x="144" y="988"/>
                </a:lnTo>
                <a:lnTo>
                  <a:pt x="154" y="977"/>
                </a:lnTo>
                <a:lnTo>
                  <a:pt x="165" y="963"/>
                </a:lnTo>
                <a:lnTo>
                  <a:pt x="177" y="950"/>
                </a:lnTo>
                <a:lnTo>
                  <a:pt x="188" y="935"/>
                </a:lnTo>
                <a:lnTo>
                  <a:pt x="200" y="917"/>
                </a:lnTo>
                <a:lnTo>
                  <a:pt x="213" y="900"/>
                </a:lnTo>
                <a:lnTo>
                  <a:pt x="227" y="881"/>
                </a:lnTo>
                <a:lnTo>
                  <a:pt x="242" y="862"/>
                </a:lnTo>
                <a:lnTo>
                  <a:pt x="258" y="841"/>
                </a:lnTo>
                <a:lnTo>
                  <a:pt x="273" y="818"/>
                </a:lnTo>
                <a:lnTo>
                  <a:pt x="288" y="795"/>
                </a:lnTo>
                <a:lnTo>
                  <a:pt x="304" y="768"/>
                </a:lnTo>
                <a:lnTo>
                  <a:pt x="321" y="743"/>
                </a:lnTo>
                <a:lnTo>
                  <a:pt x="340" y="714"/>
                </a:lnTo>
                <a:lnTo>
                  <a:pt x="357" y="685"/>
                </a:lnTo>
                <a:lnTo>
                  <a:pt x="377" y="654"/>
                </a:lnTo>
                <a:lnTo>
                  <a:pt x="396" y="624"/>
                </a:lnTo>
                <a:lnTo>
                  <a:pt x="415" y="591"/>
                </a:lnTo>
                <a:lnTo>
                  <a:pt x="436" y="557"/>
                </a:lnTo>
                <a:lnTo>
                  <a:pt x="457" y="522"/>
                </a:lnTo>
                <a:lnTo>
                  <a:pt x="478" y="486"/>
                </a:lnTo>
                <a:lnTo>
                  <a:pt x="499" y="447"/>
                </a:lnTo>
                <a:lnTo>
                  <a:pt x="522" y="409"/>
                </a:lnTo>
                <a:lnTo>
                  <a:pt x="545" y="368"/>
                </a:lnTo>
                <a:lnTo>
                  <a:pt x="569" y="326"/>
                </a:lnTo>
                <a:lnTo>
                  <a:pt x="593" y="284"/>
                </a:lnTo>
                <a:lnTo>
                  <a:pt x="618" y="240"/>
                </a:lnTo>
                <a:lnTo>
                  <a:pt x="643" y="194"/>
                </a:lnTo>
                <a:lnTo>
                  <a:pt x="668" y="148"/>
                </a:lnTo>
                <a:lnTo>
                  <a:pt x="695" y="100"/>
                </a:lnTo>
                <a:lnTo>
                  <a:pt x="720" y="50"/>
                </a:lnTo>
                <a:lnTo>
                  <a:pt x="749" y="0"/>
                </a:lnTo>
                <a:lnTo>
                  <a:pt x="749" y="152"/>
                </a:lnTo>
                <a:lnTo>
                  <a:pt x="749" y="303"/>
                </a:lnTo>
                <a:lnTo>
                  <a:pt x="724" y="345"/>
                </a:lnTo>
                <a:lnTo>
                  <a:pt x="701" y="388"/>
                </a:lnTo>
                <a:lnTo>
                  <a:pt x="678" y="426"/>
                </a:lnTo>
                <a:lnTo>
                  <a:pt x="655" y="464"/>
                </a:lnTo>
                <a:lnTo>
                  <a:pt x="634" y="503"/>
                </a:lnTo>
                <a:lnTo>
                  <a:pt x="611" y="537"/>
                </a:lnTo>
                <a:lnTo>
                  <a:pt x="590" y="572"/>
                </a:lnTo>
                <a:lnTo>
                  <a:pt x="569" y="606"/>
                </a:lnTo>
                <a:lnTo>
                  <a:pt x="549" y="637"/>
                </a:lnTo>
                <a:lnTo>
                  <a:pt x="528" y="668"/>
                </a:lnTo>
                <a:lnTo>
                  <a:pt x="509" y="697"/>
                </a:lnTo>
                <a:lnTo>
                  <a:pt x="490" y="725"/>
                </a:lnTo>
                <a:lnTo>
                  <a:pt x="471" y="752"/>
                </a:lnTo>
                <a:lnTo>
                  <a:pt x="451" y="777"/>
                </a:lnTo>
                <a:lnTo>
                  <a:pt x="434" y="800"/>
                </a:lnTo>
                <a:lnTo>
                  <a:pt x="417" y="823"/>
                </a:lnTo>
                <a:lnTo>
                  <a:pt x="400" y="846"/>
                </a:lnTo>
                <a:lnTo>
                  <a:pt x="380" y="869"/>
                </a:lnTo>
                <a:lnTo>
                  <a:pt x="363" y="892"/>
                </a:lnTo>
                <a:lnTo>
                  <a:pt x="346" y="914"/>
                </a:lnTo>
                <a:lnTo>
                  <a:pt x="329" y="935"/>
                </a:lnTo>
                <a:lnTo>
                  <a:pt x="311" y="956"/>
                </a:lnTo>
                <a:lnTo>
                  <a:pt x="294" y="975"/>
                </a:lnTo>
                <a:lnTo>
                  <a:pt x="277" y="994"/>
                </a:lnTo>
                <a:lnTo>
                  <a:pt x="259" y="1013"/>
                </a:lnTo>
                <a:lnTo>
                  <a:pt x="242" y="1031"/>
                </a:lnTo>
                <a:lnTo>
                  <a:pt x="225" y="1048"/>
                </a:lnTo>
                <a:lnTo>
                  <a:pt x="208" y="1065"/>
                </a:lnTo>
                <a:lnTo>
                  <a:pt x="192" y="1081"/>
                </a:lnTo>
                <a:lnTo>
                  <a:pt x="175" y="1096"/>
                </a:lnTo>
                <a:lnTo>
                  <a:pt x="160" y="1111"/>
                </a:lnTo>
                <a:lnTo>
                  <a:pt x="144" y="112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Freeform 112"/>
          <p:cNvSpPr/>
          <p:nvPr/>
        </p:nvSpPr>
        <p:spPr>
          <a:xfrm>
            <a:off x="5900760" y="2808360"/>
            <a:ext cx="216000" cy="2198520"/>
          </a:xfrm>
          <a:custGeom>
            <a:avLst/>
            <a:gdLst/>
            <a:ahLst/>
            <a:rect l="l" t="t" r="r" b="b"/>
            <a:pathLst>
              <a:path w="273" h="2770">
                <a:moveTo>
                  <a:pt x="198" y="591"/>
                </a:moveTo>
                <a:lnTo>
                  <a:pt x="194" y="686"/>
                </a:lnTo>
                <a:lnTo>
                  <a:pt x="190" y="781"/>
                </a:lnTo>
                <a:lnTo>
                  <a:pt x="188" y="876"/>
                </a:lnTo>
                <a:lnTo>
                  <a:pt x="186" y="970"/>
                </a:lnTo>
                <a:lnTo>
                  <a:pt x="186" y="1064"/>
                </a:lnTo>
                <a:lnTo>
                  <a:pt x="186" y="1156"/>
                </a:lnTo>
                <a:lnTo>
                  <a:pt x="186" y="1248"/>
                </a:lnTo>
                <a:lnTo>
                  <a:pt x="186" y="1338"/>
                </a:lnTo>
                <a:lnTo>
                  <a:pt x="183" y="1386"/>
                </a:lnTo>
                <a:lnTo>
                  <a:pt x="181" y="1436"/>
                </a:lnTo>
                <a:lnTo>
                  <a:pt x="179" y="1486"/>
                </a:lnTo>
                <a:lnTo>
                  <a:pt x="177" y="1538"/>
                </a:lnTo>
                <a:lnTo>
                  <a:pt x="175" y="1591"/>
                </a:lnTo>
                <a:lnTo>
                  <a:pt x="173" y="1645"/>
                </a:lnTo>
                <a:lnTo>
                  <a:pt x="171" y="1699"/>
                </a:lnTo>
                <a:lnTo>
                  <a:pt x="167" y="1755"/>
                </a:lnTo>
                <a:lnTo>
                  <a:pt x="165" y="1812"/>
                </a:lnTo>
                <a:lnTo>
                  <a:pt x="163" y="1870"/>
                </a:lnTo>
                <a:lnTo>
                  <a:pt x="162" y="1929"/>
                </a:lnTo>
                <a:lnTo>
                  <a:pt x="160" y="1989"/>
                </a:lnTo>
                <a:lnTo>
                  <a:pt x="158" y="2050"/>
                </a:lnTo>
                <a:lnTo>
                  <a:pt x="154" y="2112"/>
                </a:lnTo>
                <a:lnTo>
                  <a:pt x="152" y="2175"/>
                </a:lnTo>
                <a:lnTo>
                  <a:pt x="150" y="2238"/>
                </a:lnTo>
                <a:lnTo>
                  <a:pt x="148" y="2271"/>
                </a:lnTo>
                <a:lnTo>
                  <a:pt x="148" y="2304"/>
                </a:lnTo>
                <a:lnTo>
                  <a:pt x="146" y="2334"/>
                </a:lnTo>
                <a:lnTo>
                  <a:pt x="144" y="2363"/>
                </a:lnTo>
                <a:lnTo>
                  <a:pt x="144" y="2392"/>
                </a:lnTo>
                <a:lnTo>
                  <a:pt x="142" y="2419"/>
                </a:lnTo>
                <a:lnTo>
                  <a:pt x="140" y="2446"/>
                </a:lnTo>
                <a:lnTo>
                  <a:pt x="140" y="2471"/>
                </a:lnTo>
                <a:lnTo>
                  <a:pt x="138" y="2496"/>
                </a:lnTo>
                <a:lnTo>
                  <a:pt x="137" y="2519"/>
                </a:lnTo>
                <a:lnTo>
                  <a:pt x="135" y="2542"/>
                </a:lnTo>
                <a:lnTo>
                  <a:pt x="133" y="2563"/>
                </a:lnTo>
                <a:lnTo>
                  <a:pt x="131" y="2582"/>
                </a:lnTo>
                <a:lnTo>
                  <a:pt x="131" y="2603"/>
                </a:lnTo>
                <a:lnTo>
                  <a:pt x="129" y="2620"/>
                </a:lnTo>
                <a:lnTo>
                  <a:pt x="127" y="2638"/>
                </a:lnTo>
                <a:lnTo>
                  <a:pt x="125" y="2653"/>
                </a:lnTo>
                <a:lnTo>
                  <a:pt x="123" y="2668"/>
                </a:lnTo>
                <a:lnTo>
                  <a:pt x="121" y="2682"/>
                </a:lnTo>
                <a:lnTo>
                  <a:pt x="119" y="2695"/>
                </a:lnTo>
                <a:lnTo>
                  <a:pt x="117" y="2707"/>
                </a:lnTo>
                <a:lnTo>
                  <a:pt x="117" y="2718"/>
                </a:lnTo>
                <a:lnTo>
                  <a:pt x="115" y="2728"/>
                </a:lnTo>
                <a:lnTo>
                  <a:pt x="114" y="2737"/>
                </a:lnTo>
                <a:lnTo>
                  <a:pt x="112" y="2745"/>
                </a:lnTo>
                <a:lnTo>
                  <a:pt x="110" y="2753"/>
                </a:lnTo>
                <a:lnTo>
                  <a:pt x="110" y="2757"/>
                </a:lnTo>
                <a:lnTo>
                  <a:pt x="108" y="2762"/>
                </a:lnTo>
                <a:lnTo>
                  <a:pt x="106" y="2766"/>
                </a:lnTo>
                <a:lnTo>
                  <a:pt x="106" y="2768"/>
                </a:lnTo>
                <a:lnTo>
                  <a:pt x="104" y="2770"/>
                </a:lnTo>
                <a:lnTo>
                  <a:pt x="100" y="2770"/>
                </a:lnTo>
                <a:lnTo>
                  <a:pt x="98" y="2768"/>
                </a:lnTo>
                <a:lnTo>
                  <a:pt x="94" y="2766"/>
                </a:lnTo>
                <a:lnTo>
                  <a:pt x="92" y="2762"/>
                </a:lnTo>
                <a:lnTo>
                  <a:pt x="89" y="2759"/>
                </a:lnTo>
                <a:lnTo>
                  <a:pt x="85" y="2755"/>
                </a:lnTo>
                <a:lnTo>
                  <a:pt x="81" y="2747"/>
                </a:lnTo>
                <a:lnTo>
                  <a:pt x="77" y="2741"/>
                </a:lnTo>
                <a:lnTo>
                  <a:pt x="73" y="2732"/>
                </a:lnTo>
                <a:lnTo>
                  <a:pt x="69" y="2722"/>
                </a:lnTo>
                <a:lnTo>
                  <a:pt x="66" y="2712"/>
                </a:lnTo>
                <a:lnTo>
                  <a:pt x="62" y="2701"/>
                </a:lnTo>
                <a:lnTo>
                  <a:pt x="56" y="2689"/>
                </a:lnTo>
                <a:lnTo>
                  <a:pt x="52" y="2674"/>
                </a:lnTo>
                <a:lnTo>
                  <a:pt x="48" y="2661"/>
                </a:lnTo>
                <a:lnTo>
                  <a:pt x="44" y="2643"/>
                </a:lnTo>
                <a:lnTo>
                  <a:pt x="39" y="2628"/>
                </a:lnTo>
                <a:lnTo>
                  <a:pt x="35" y="2613"/>
                </a:lnTo>
                <a:lnTo>
                  <a:pt x="31" y="2597"/>
                </a:lnTo>
                <a:lnTo>
                  <a:pt x="29" y="2582"/>
                </a:lnTo>
                <a:lnTo>
                  <a:pt x="25" y="2569"/>
                </a:lnTo>
                <a:lnTo>
                  <a:pt x="21" y="2555"/>
                </a:lnTo>
                <a:lnTo>
                  <a:pt x="19" y="2542"/>
                </a:lnTo>
                <a:lnTo>
                  <a:pt x="18" y="2530"/>
                </a:lnTo>
                <a:lnTo>
                  <a:pt x="16" y="2519"/>
                </a:lnTo>
                <a:lnTo>
                  <a:pt x="14" y="2507"/>
                </a:lnTo>
                <a:lnTo>
                  <a:pt x="12" y="2497"/>
                </a:lnTo>
                <a:lnTo>
                  <a:pt x="10" y="2488"/>
                </a:lnTo>
                <a:lnTo>
                  <a:pt x="10" y="2478"/>
                </a:lnTo>
                <a:lnTo>
                  <a:pt x="8" y="2469"/>
                </a:lnTo>
                <a:lnTo>
                  <a:pt x="8" y="2461"/>
                </a:lnTo>
                <a:lnTo>
                  <a:pt x="8" y="2453"/>
                </a:lnTo>
                <a:lnTo>
                  <a:pt x="6" y="2449"/>
                </a:lnTo>
                <a:lnTo>
                  <a:pt x="6" y="2446"/>
                </a:lnTo>
                <a:lnTo>
                  <a:pt x="6" y="2440"/>
                </a:lnTo>
                <a:lnTo>
                  <a:pt x="4" y="2434"/>
                </a:lnTo>
                <a:lnTo>
                  <a:pt x="4" y="2428"/>
                </a:lnTo>
                <a:lnTo>
                  <a:pt x="4" y="2421"/>
                </a:lnTo>
                <a:lnTo>
                  <a:pt x="4" y="2413"/>
                </a:lnTo>
                <a:lnTo>
                  <a:pt x="4" y="2403"/>
                </a:lnTo>
                <a:lnTo>
                  <a:pt x="4" y="2394"/>
                </a:lnTo>
                <a:lnTo>
                  <a:pt x="4" y="2384"/>
                </a:lnTo>
                <a:lnTo>
                  <a:pt x="4" y="2373"/>
                </a:lnTo>
                <a:lnTo>
                  <a:pt x="4" y="2361"/>
                </a:lnTo>
                <a:lnTo>
                  <a:pt x="4" y="2350"/>
                </a:lnTo>
                <a:lnTo>
                  <a:pt x="6" y="2336"/>
                </a:lnTo>
                <a:lnTo>
                  <a:pt x="6" y="2323"/>
                </a:lnTo>
                <a:lnTo>
                  <a:pt x="6" y="2307"/>
                </a:lnTo>
                <a:lnTo>
                  <a:pt x="8" y="2292"/>
                </a:lnTo>
                <a:lnTo>
                  <a:pt x="8" y="2277"/>
                </a:lnTo>
                <a:lnTo>
                  <a:pt x="10" y="2259"/>
                </a:lnTo>
                <a:lnTo>
                  <a:pt x="12" y="2242"/>
                </a:lnTo>
                <a:lnTo>
                  <a:pt x="12" y="2225"/>
                </a:lnTo>
                <a:lnTo>
                  <a:pt x="14" y="2206"/>
                </a:lnTo>
                <a:lnTo>
                  <a:pt x="16" y="2187"/>
                </a:lnTo>
                <a:lnTo>
                  <a:pt x="18" y="2165"/>
                </a:lnTo>
                <a:lnTo>
                  <a:pt x="18" y="2144"/>
                </a:lnTo>
                <a:lnTo>
                  <a:pt x="19" y="2121"/>
                </a:lnTo>
                <a:lnTo>
                  <a:pt x="21" y="2098"/>
                </a:lnTo>
                <a:lnTo>
                  <a:pt x="23" y="2075"/>
                </a:lnTo>
                <a:lnTo>
                  <a:pt x="25" y="2050"/>
                </a:lnTo>
                <a:lnTo>
                  <a:pt x="27" y="2025"/>
                </a:lnTo>
                <a:lnTo>
                  <a:pt x="29" y="1998"/>
                </a:lnTo>
                <a:lnTo>
                  <a:pt x="33" y="1972"/>
                </a:lnTo>
                <a:lnTo>
                  <a:pt x="35" y="1945"/>
                </a:lnTo>
                <a:lnTo>
                  <a:pt x="37" y="1918"/>
                </a:lnTo>
                <a:lnTo>
                  <a:pt x="39" y="1891"/>
                </a:lnTo>
                <a:lnTo>
                  <a:pt x="41" y="1862"/>
                </a:lnTo>
                <a:lnTo>
                  <a:pt x="43" y="1833"/>
                </a:lnTo>
                <a:lnTo>
                  <a:pt x="44" y="1805"/>
                </a:lnTo>
                <a:lnTo>
                  <a:pt x="46" y="1774"/>
                </a:lnTo>
                <a:lnTo>
                  <a:pt x="46" y="1745"/>
                </a:lnTo>
                <a:lnTo>
                  <a:pt x="48" y="1712"/>
                </a:lnTo>
                <a:lnTo>
                  <a:pt x="50" y="1682"/>
                </a:lnTo>
                <a:lnTo>
                  <a:pt x="52" y="1649"/>
                </a:lnTo>
                <a:lnTo>
                  <a:pt x="54" y="1616"/>
                </a:lnTo>
                <a:lnTo>
                  <a:pt x="54" y="1584"/>
                </a:lnTo>
                <a:lnTo>
                  <a:pt x="56" y="1549"/>
                </a:lnTo>
                <a:lnTo>
                  <a:pt x="58" y="1515"/>
                </a:lnTo>
                <a:lnTo>
                  <a:pt x="58" y="1480"/>
                </a:lnTo>
                <a:lnTo>
                  <a:pt x="60" y="1444"/>
                </a:lnTo>
                <a:lnTo>
                  <a:pt x="60" y="1407"/>
                </a:lnTo>
                <a:lnTo>
                  <a:pt x="62" y="1371"/>
                </a:lnTo>
                <a:lnTo>
                  <a:pt x="62" y="1334"/>
                </a:lnTo>
                <a:lnTo>
                  <a:pt x="64" y="1296"/>
                </a:lnTo>
                <a:lnTo>
                  <a:pt x="64" y="1258"/>
                </a:lnTo>
                <a:lnTo>
                  <a:pt x="66" y="1219"/>
                </a:lnTo>
                <a:lnTo>
                  <a:pt x="66" y="1179"/>
                </a:lnTo>
                <a:lnTo>
                  <a:pt x="66" y="1138"/>
                </a:lnTo>
                <a:lnTo>
                  <a:pt x="66" y="1098"/>
                </a:lnTo>
                <a:lnTo>
                  <a:pt x="67" y="1058"/>
                </a:lnTo>
                <a:lnTo>
                  <a:pt x="67" y="1016"/>
                </a:lnTo>
                <a:lnTo>
                  <a:pt x="67" y="973"/>
                </a:lnTo>
                <a:lnTo>
                  <a:pt x="67" y="931"/>
                </a:lnTo>
                <a:lnTo>
                  <a:pt x="67" y="889"/>
                </a:lnTo>
                <a:lnTo>
                  <a:pt x="67" y="845"/>
                </a:lnTo>
                <a:lnTo>
                  <a:pt x="67" y="801"/>
                </a:lnTo>
                <a:lnTo>
                  <a:pt x="67" y="758"/>
                </a:lnTo>
                <a:lnTo>
                  <a:pt x="67" y="718"/>
                </a:lnTo>
                <a:lnTo>
                  <a:pt x="67" y="678"/>
                </a:lnTo>
                <a:lnTo>
                  <a:pt x="67" y="641"/>
                </a:lnTo>
                <a:lnTo>
                  <a:pt x="66" y="603"/>
                </a:lnTo>
                <a:lnTo>
                  <a:pt x="66" y="568"/>
                </a:lnTo>
                <a:lnTo>
                  <a:pt x="66" y="534"/>
                </a:lnTo>
                <a:lnTo>
                  <a:pt x="66" y="499"/>
                </a:lnTo>
                <a:lnTo>
                  <a:pt x="64" y="469"/>
                </a:lnTo>
                <a:lnTo>
                  <a:pt x="64" y="438"/>
                </a:lnTo>
                <a:lnTo>
                  <a:pt x="62" y="407"/>
                </a:lnTo>
                <a:lnTo>
                  <a:pt x="62" y="380"/>
                </a:lnTo>
                <a:lnTo>
                  <a:pt x="60" y="353"/>
                </a:lnTo>
                <a:lnTo>
                  <a:pt x="60" y="327"/>
                </a:lnTo>
                <a:lnTo>
                  <a:pt x="58" y="304"/>
                </a:lnTo>
                <a:lnTo>
                  <a:pt x="58" y="280"/>
                </a:lnTo>
                <a:lnTo>
                  <a:pt x="56" y="257"/>
                </a:lnTo>
                <a:lnTo>
                  <a:pt x="54" y="236"/>
                </a:lnTo>
                <a:lnTo>
                  <a:pt x="54" y="217"/>
                </a:lnTo>
                <a:lnTo>
                  <a:pt x="52" y="200"/>
                </a:lnTo>
                <a:lnTo>
                  <a:pt x="50" y="183"/>
                </a:lnTo>
                <a:lnTo>
                  <a:pt x="48" y="167"/>
                </a:lnTo>
                <a:lnTo>
                  <a:pt x="46" y="154"/>
                </a:lnTo>
                <a:lnTo>
                  <a:pt x="46" y="140"/>
                </a:lnTo>
                <a:lnTo>
                  <a:pt x="44" y="129"/>
                </a:lnTo>
                <a:lnTo>
                  <a:pt x="43" y="117"/>
                </a:lnTo>
                <a:lnTo>
                  <a:pt x="41" y="108"/>
                </a:lnTo>
                <a:lnTo>
                  <a:pt x="39" y="100"/>
                </a:lnTo>
                <a:lnTo>
                  <a:pt x="37" y="94"/>
                </a:lnTo>
                <a:lnTo>
                  <a:pt x="35" y="89"/>
                </a:lnTo>
                <a:lnTo>
                  <a:pt x="33" y="85"/>
                </a:lnTo>
                <a:lnTo>
                  <a:pt x="25" y="77"/>
                </a:lnTo>
                <a:lnTo>
                  <a:pt x="19" y="71"/>
                </a:lnTo>
                <a:lnTo>
                  <a:pt x="16" y="64"/>
                </a:lnTo>
                <a:lnTo>
                  <a:pt x="12" y="58"/>
                </a:lnTo>
                <a:lnTo>
                  <a:pt x="8" y="52"/>
                </a:lnTo>
                <a:lnTo>
                  <a:pt x="6" y="46"/>
                </a:lnTo>
                <a:lnTo>
                  <a:pt x="4" y="41"/>
                </a:lnTo>
                <a:lnTo>
                  <a:pt x="2" y="37"/>
                </a:lnTo>
                <a:lnTo>
                  <a:pt x="2" y="33"/>
                </a:lnTo>
                <a:lnTo>
                  <a:pt x="0" y="27"/>
                </a:lnTo>
                <a:lnTo>
                  <a:pt x="2" y="23"/>
                </a:lnTo>
                <a:lnTo>
                  <a:pt x="2" y="19"/>
                </a:lnTo>
                <a:lnTo>
                  <a:pt x="4" y="14"/>
                </a:lnTo>
                <a:lnTo>
                  <a:pt x="8" y="8"/>
                </a:lnTo>
                <a:lnTo>
                  <a:pt x="10" y="6"/>
                </a:lnTo>
                <a:lnTo>
                  <a:pt x="14" y="4"/>
                </a:lnTo>
                <a:lnTo>
                  <a:pt x="18" y="2"/>
                </a:lnTo>
                <a:lnTo>
                  <a:pt x="23" y="0"/>
                </a:lnTo>
                <a:lnTo>
                  <a:pt x="29" y="0"/>
                </a:lnTo>
                <a:lnTo>
                  <a:pt x="37" y="0"/>
                </a:lnTo>
                <a:lnTo>
                  <a:pt x="43" y="0"/>
                </a:lnTo>
                <a:lnTo>
                  <a:pt x="50" y="0"/>
                </a:lnTo>
                <a:lnTo>
                  <a:pt x="60" y="0"/>
                </a:lnTo>
                <a:lnTo>
                  <a:pt x="69" y="2"/>
                </a:lnTo>
                <a:lnTo>
                  <a:pt x="79" y="4"/>
                </a:lnTo>
                <a:lnTo>
                  <a:pt x="90" y="6"/>
                </a:lnTo>
                <a:lnTo>
                  <a:pt x="102" y="10"/>
                </a:lnTo>
                <a:lnTo>
                  <a:pt x="114" y="12"/>
                </a:lnTo>
                <a:lnTo>
                  <a:pt x="125" y="16"/>
                </a:lnTo>
                <a:lnTo>
                  <a:pt x="138" y="21"/>
                </a:lnTo>
                <a:lnTo>
                  <a:pt x="152" y="27"/>
                </a:lnTo>
                <a:lnTo>
                  <a:pt x="163" y="35"/>
                </a:lnTo>
                <a:lnTo>
                  <a:pt x="175" y="41"/>
                </a:lnTo>
                <a:lnTo>
                  <a:pt x="186" y="48"/>
                </a:lnTo>
                <a:lnTo>
                  <a:pt x="198" y="54"/>
                </a:lnTo>
                <a:lnTo>
                  <a:pt x="208" y="60"/>
                </a:lnTo>
                <a:lnTo>
                  <a:pt x="217" y="66"/>
                </a:lnTo>
                <a:lnTo>
                  <a:pt x="225" y="69"/>
                </a:lnTo>
                <a:lnTo>
                  <a:pt x="234" y="75"/>
                </a:lnTo>
                <a:lnTo>
                  <a:pt x="240" y="81"/>
                </a:lnTo>
                <a:lnTo>
                  <a:pt x="248" y="85"/>
                </a:lnTo>
                <a:lnTo>
                  <a:pt x="254" y="90"/>
                </a:lnTo>
                <a:lnTo>
                  <a:pt x="257" y="94"/>
                </a:lnTo>
                <a:lnTo>
                  <a:pt x="263" y="100"/>
                </a:lnTo>
                <a:lnTo>
                  <a:pt x="265" y="104"/>
                </a:lnTo>
                <a:lnTo>
                  <a:pt x="269" y="110"/>
                </a:lnTo>
                <a:lnTo>
                  <a:pt x="271" y="113"/>
                </a:lnTo>
                <a:lnTo>
                  <a:pt x="271" y="119"/>
                </a:lnTo>
                <a:lnTo>
                  <a:pt x="273" y="129"/>
                </a:lnTo>
                <a:lnTo>
                  <a:pt x="273" y="137"/>
                </a:lnTo>
                <a:lnTo>
                  <a:pt x="271" y="146"/>
                </a:lnTo>
                <a:lnTo>
                  <a:pt x="269" y="154"/>
                </a:lnTo>
                <a:lnTo>
                  <a:pt x="265" y="161"/>
                </a:lnTo>
                <a:lnTo>
                  <a:pt x="261" y="167"/>
                </a:lnTo>
                <a:lnTo>
                  <a:pt x="257" y="173"/>
                </a:lnTo>
                <a:lnTo>
                  <a:pt x="254" y="175"/>
                </a:lnTo>
                <a:lnTo>
                  <a:pt x="252" y="179"/>
                </a:lnTo>
                <a:lnTo>
                  <a:pt x="250" y="183"/>
                </a:lnTo>
                <a:lnTo>
                  <a:pt x="248" y="188"/>
                </a:lnTo>
                <a:lnTo>
                  <a:pt x="246" y="192"/>
                </a:lnTo>
                <a:lnTo>
                  <a:pt x="244" y="200"/>
                </a:lnTo>
                <a:lnTo>
                  <a:pt x="242" y="206"/>
                </a:lnTo>
                <a:lnTo>
                  <a:pt x="238" y="213"/>
                </a:lnTo>
                <a:lnTo>
                  <a:pt x="236" y="221"/>
                </a:lnTo>
                <a:lnTo>
                  <a:pt x="234" y="231"/>
                </a:lnTo>
                <a:lnTo>
                  <a:pt x="233" y="240"/>
                </a:lnTo>
                <a:lnTo>
                  <a:pt x="231" y="250"/>
                </a:lnTo>
                <a:lnTo>
                  <a:pt x="229" y="259"/>
                </a:lnTo>
                <a:lnTo>
                  <a:pt x="227" y="271"/>
                </a:lnTo>
                <a:lnTo>
                  <a:pt x="225" y="284"/>
                </a:lnTo>
                <a:lnTo>
                  <a:pt x="223" y="296"/>
                </a:lnTo>
                <a:lnTo>
                  <a:pt x="221" y="309"/>
                </a:lnTo>
                <a:lnTo>
                  <a:pt x="219" y="325"/>
                </a:lnTo>
                <a:lnTo>
                  <a:pt x="217" y="338"/>
                </a:lnTo>
                <a:lnTo>
                  <a:pt x="215" y="353"/>
                </a:lnTo>
                <a:lnTo>
                  <a:pt x="213" y="371"/>
                </a:lnTo>
                <a:lnTo>
                  <a:pt x="211" y="386"/>
                </a:lnTo>
                <a:lnTo>
                  <a:pt x="209" y="405"/>
                </a:lnTo>
                <a:lnTo>
                  <a:pt x="208" y="423"/>
                </a:lnTo>
                <a:lnTo>
                  <a:pt x="208" y="442"/>
                </a:lnTo>
                <a:lnTo>
                  <a:pt x="206" y="461"/>
                </a:lnTo>
                <a:lnTo>
                  <a:pt x="204" y="480"/>
                </a:lnTo>
                <a:lnTo>
                  <a:pt x="202" y="501"/>
                </a:lnTo>
                <a:lnTo>
                  <a:pt x="202" y="522"/>
                </a:lnTo>
                <a:lnTo>
                  <a:pt x="200" y="545"/>
                </a:lnTo>
                <a:lnTo>
                  <a:pt x="198" y="568"/>
                </a:lnTo>
                <a:lnTo>
                  <a:pt x="198" y="59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矩形 4"/>
          <p:cNvSpPr/>
          <p:nvPr/>
        </p:nvSpPr>
        <p:spPr>
          <a:xfrm>
            <a:off x="2218680" y="2548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篷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5114880" y="238284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92" name="组合 8"/>
          <p:cNvGrpSpPr/>
          <p:nvPr/>
        </p:nvGrpSpPr>
        <p:grpSpPr>
          <a:xfrm>
            <a:off x="1400040" y="3975120"/>
            <a:ext cx="2840040" cy="1571760"/>
            <a:chOff x="1400040" y="3975120"/>
            <a:chExt cx="2840040" cy="1571760"/>
          </a:xfrm>
        </p:grpSpPr>
        <p:pic>
          <p:nvPicPr>
            <p:cNvPr id="93" name="图示 4" descr=""/>
            <p:cNvPicPr/>
            <p:nvPr/>
          </p:nvPicPr>
          <p:blipFill>
            <a:blip r:embed="rId1"/>
            <a:stretch/>
          </p:blipFill>
          <p:spPr>
            <a:xfrm>
              <a:off x="1400040" y="3975120"/>
              <a:ext cx="284004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矩形 2"/>
            <p:cNvSpPr/>
            <p:nvPr/>
          </p:nvSpPr>
          <p:spPr>
            <a:xfrm>
              <a:off x="1444680" y="4587840"/>
              <a:ext cx="2766600" cy="551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“</a:t>
              </a: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逢”笔画紧凑，“辶”平捺伸展托上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5" name="矩形 3"/>
          <p:cNvSpPr/>
          <p:nvPr/>
        </p:nvSpPr>
        <p:spPr>
          <a:xfrm>
            <a:off x="1951200" y="1868400"/>
            <a:ext cx="1385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pénɡ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Freeform 181"/>
          <p:cNvSpPr/>
          <p:nvPr/>
        </p:nvSpPr>
        <p:spPr>
          <a:xfrm>
            <a:off x="5557680" y="4673520"/>
            <a:ext cx="2283120" cy="401760"/>
          </a:xfrm>
          <a:custGeom>
            <a:avLst/>
            <a:gdLst/>
            <a:ahLst/>
            <a:rect l="l" t="t" r="r" b="b"/>
            <a:pathLst>
              <a:path w="2876" h="507">
                <a:moveTo>
                  <a:pt x="2331" y="482"/>
                </a:moveTo>
                <a:lnTo>
                  <a:pt x="2314" y="484"/>
                </a:lnTo>
                <a:lnTo>
                  <a:pt x="2294" y="486"/>
                </a:lnTo>
                <a:lnTo>
                  <a:pt x="2279" y="488"/>
                </a:lnTo>
                <a:lnTo>
                  <a:pt x="2262" y="492"/>
                </a:lnTo>
                <a:lnTo>
                  <a:pt x="2246" y="494"/>
                </a:lnTo>
                <a:lnTo>
                  <a:pt x="2233" y="495"/>
                </a:lnTo>
                <a:lnTo>
                  <a:pt x="2219" y="497"/>
                </a:lnTo>
                <a:lnTo>
                  <a:pt x="2206" y="499"/>
                </a:lnTo>
                <a:lnTo>
                  <a:pt x="2195" y="499"/>
                </a:lnTo>
                <a:lnTo>
                  <a:pt x="2183" y="501"/>
                </a:lnTo>
                <a:lnTo>
                  <a:pt x="2171" y="503"/>
                </a:lnTo>
                <a:lnTo>
                  <a:pt x="2162" y="503"/>
                </a:lnTo>
                <a:lnTo>
                  <a:pt x="2152" y="505"/>
                </a:lnTo>
                <a:lnTo>
                  <a:pt x="2145" y="505"/>
                </a:lnTo>
                <a:lnTo>
                  <a:pt x="2137" y="505"/>
                </a:lnTo>
                <a:lnTo>
                  <a:pt x="2129" y="507"/>
                </a:lnTo>
                <a:lnTo>
                  <a:pt x="2125" y="505"/>
                </a:lnTo>
                <a:lnTo>
                  <a:pt x="2120" y="505"/>
                </a:lnTo>
                <a:lnTo>
                  <a:pt x="2114" y="505"/>
                </a:lnTo>
                <a:lnTo>
                  <a:pt x="2108" y="505"/>
                </a:lnTo>
                <a:lnTo>
                  <a:pt x="2100" y="503"/>
                </a:lnTo>
                <a:lnTo>
                  <a:pt x="2093" y="503"/>
                </a:lnTo>
                <a:lnTo>
                  <a:pt x="2083" y="501"/>
                </a:lnTo>
                <a:lnTo>
                  <a:pt x="2074" y="499"/>
                </a:lnTo>
                <a:lnTo>
                  <a:pt x="2064" y="497"/>
                </a:lnTo>
                <a:lnTo>
                  <a:pt x="2052" y="495"/>
                </a:lnTo>
                <a:lnTo>
                  <a:pt x="2041" y="494"/>
                </a:lnTo>
                <a:lnTo>
                  <a:pt x="2029" y="490"/>
                </a:lnTo>
                <a:lnTo>
                  <a:pt x="2016" y="488"/>
                </a:lnTo>
                <a:lnTo>
                  <a:pt x="2001" y="484"/>
                </a:lnTo>
                <a:lnTo>
                  <a:pt x="1985" y="482"/>
                </a:lnTo>
                <a:lnTo>
                  <a:pt x="1970" y="478"/>
                </a:lnTo>
                <a:lnTo>
                  <a:pt x="1955" y="474"/>
                </a:lnTo>
                <a:lnTo>
                  <a:pt x="1937" y="470"/>
                </a:lnTo>
                <a:lnTo>
                  <a:pt x="1918" y="465"/>
                </a:lnTo>
                <a:lnTo>
                  <a:pt x="1901" y="461"/>
                </a:lnTo>
                <a:lnTo>
                  <a:pt x="1882" y="455"/>
                </a:lnTo>
                <a:lnTo>
                  <a:pt x="1860" y="451"/>
                </a:lnTo>
                <a:lnTo>
                  <a:pt x="1839" y="446"/>
                </a:lnTo>
                <a:lnTo>
                  <a:pt x="1818" y="440"/>
                </a:lnTo>
                <a:lnTo>
                  <a:pt x="1797" y="434"/>
                </a:lnTo>
                <a:lnTo>
                  <a:pt x="1774" y="428"/>
                </a:lnTo>
                <a:lnTo>
                  <a:pt x="1749" y="421"/>
                </a:lnTo>
                <a:lnTo>
                  <a:pt x="1726" y="415"/>
                </a:lnTo>
                <a:lnTo>
                  <a:pt x="1701" y="407"/>
                </a:lnTo>
                <a:lnTo>
                  <a:pt x="1674" y="399"/>
                </a:lnTo>
                <a:lnTo>
                  <a:pt x="1649" y="392"/>
                </a:lnTo>
                <a:lnTo>
                  <a:pt x="1622" y="384"/>
                </a:lnTo>
                <a:lnTo>
                  <a:pt x="1569" y="369"/>
                </a:lnTo>
                <a:lnTo>
                  <a:pt x="1515" y="351"/>
                </a:lnTo>
                <a:lnTo>
                  <a:pt x="1463" y="336"/>
                </a:lnTo>
                <a:lnTo>
                  <a:pt x="1413" y="323"/>
                </a:lnTo>
                <a:lnTo>
                  <a:pt x="1363" y="307"/>
                </a:lnTo>
                <a:lnTo>
                  <a:pt x="1315" y="292"/>
                </a:lnTo>
                <a:lnTo>
                  <a:pt x="1269" y="279"/>
                </a:lnTo>
                <a:lnTo>
                  <a:pt x="1223" y="265"/>
                </a:lnTo>
                <a:lnTo>
                  <a:pt x="1179" y="252"/>
                </a:lnTo>
                <a:lnTo>
                  <a:pt x="1135" y="238"/>
                </a:lnTo>
                <a:lnTo>
                  <a:pt x="1093" y="225"/>
                </a:lnTo>
                <a:lnTo>
                  <a:pt x="1052" y="213"/>
                </a:lnTo>
                <a:lnTo>
                  <a:pt x="1012" y="200"/>
                </a:lnTo>
                <a:lnTo>
                  <a:pt x="974" y="188"/>
                </a:lnTo>
                <a:lnTo>
                  <a:pt x="935" y="177"/>
                </a:lnTo>
                <a:lnTo>
                  <a:pt x="899" y="165"/>
                </a:lnTo>
                <a:lnTo>
                  <a:pt x="881" y="160"/>
                </a:lnTo>
                <a:lnTo>
                  <a:pt x="864" y="156"/>
                </a:lnTo>
                <a:lnTo>
                  <a:pt x="849" y="152"/>
                </a:lnTo>
                <a:lnTo>
                  <a:pt x="831" y="148"/>
                </a:lnTo>
                <a:lnTo>
                  <a:pt x="816" y="144"/>
                </a:lnTo>
                <a:lnTo>
                  <a:pt x="801" y="140"/>
                </a:lnTo>
                <a:lnTo>
                  <a:pt x="787" y="137"/>
                </a:lnTo>
                <a:lnTo>
                  <a:pt x="774" y="133"/>
                </a:lnTo>
                <a:lnTo>
                  <a:pt x="747" y="125"/>
                </a:lnTo>
                <a:lnTo>
                  <a:pt x="722" y="119"/>
                </a:lnTo>
                <a:lnTo>
                  <a:pt x="699" y="113"/>
                </a:lnTo>
                <a:lnTo>
                  <a:pt x="678" y="108"/>
                </a:lnTo>
                <a:lnTo>
                  <a:pt x="659" y="104"/>
                </a:lnTo>
                <a:lnTo>
                  <a:pt x="641" y="98"/>
                </a:lnTo>
                <a:lnTo>
                  <a:pt x="624" y="94"/>
                </a:lnTo>
                <a:lnTo>
                  <a:pt x="611" y="90"/>
                </a:lnTo>
                <a:lnTo>
                  <a:pt x="597" y="89"/>
                </a:lnTo>
                <a:lnTo>
                  <a:pt x="588" y="85"/>
                </a:lnTo>
                <a:lnTo>
                  <a:pt x="578" y="83"/>
                </a:lnTo>
                <a:lnTo>
                  <a:pt x="570" y="79"/>
                </a:lnTo>
                <a:lnTo>
                  <a:pt x="563" y="79"/>
                </a:lnTo>
                <a:lnTo>
                  <a:pt x="553" y="81"/>
                </a:lnTo>
                <a:lnTo>
                  <a:pt x="545" y="81"/>
                </a:lnTo>
                <a:lnTo>
                  <a:pt x="534" y="81"/>
                </a:lnTo>
                <a:lnTo>
                  <a:pt x="524" y="83"/>
                </a:lnTo>
                <a:lnTo>
                  <a:pt x="511" y="85"/>
                </a:lnTo>
                <a:lnTo>
                  <a:pt x="499" y="87"/>
                </a:lnTo>
                <a:lnTo>
                  <a:pt x="486" y="89"/>
                </a:lnTo>
                <a:lnTo>
                  <a:pt x="472" y="90"/>
                </a:lnTo>
                <a:lnTo>
                  <a:pt x="457" y="94"/>
                </a:lnTo>
                <a:lnTo>
                  <a:pt x="442" y="96"/>
                </a:lnTo>
                <a:lnTo>
                  <a:pt x="426" y="100"/>
                </a:lnTo>
                <a:lnTo>
                  <a:pt x="409" y="104"/>
                </a:lnTo>
                <a:lnTo>
                  <a:pt x="392" y="108"/>
                </a:lnTo>
                <a:lnTo>
                  <a:pt x="373" y="112"/>
                </a:lnTo>
                <a:lnTo>
                  <a:pt x="355" y="115"/>
                </a:lnTo>
                <a:lnTo>
                  <a:pt x="336" y="123"/>
                </a:lnTo>
                <a:lnTo>
                  <a:pt x="319" y="129"/>
                </a:lnTo>
                <a:lnTo>
                  <a:pt x="302" y="135"/>
                </a:lnTo>
                <a:lnTo>
                  <a:pt x="286" y="138"/>
                </a:lnTo>
                <a:lnTo>
                  <a:pt x="271" y="144"/>
                </a:lnTo>
                <a:lnTo>
                  <a:pt x="257" y="148"/>
                </a:lnTo>
                <a:lnTo>
                  <a:pt x="244" y="152"/>
                </a:lnTo>
                <a:lnTo>
                  <a:pt x="231" y="154"/>
                </a:lnTo>
                <a:lnTo>
                  <a:pt x="219" y="158"/>
                </a:lnTo>
                <a:lnTo>
                  <a:pt x="209" y="160"/>
                </a:lnTo>
                <a:lnTo>
                  <a:pt x="200" y="161"/>
                </a:lnTo>
                <a:lnTo>
                  <a:pt x="190" y="163"/>
                </a:lnTo>
                <a:lnTo>
                  <a:pt x="183" y="163"/>
                </a:lnTo>
                <a:lnTo>
                  <a:pt x="175" y="163"/>
                </a:lnTo>
                <a:lnTo>
                  <a:pt x="169" y="165"/>
                </a:lnTo>
                <a:lnTo>
                  <a:pt x="165" y="165"/>
                </a:lnTo>
                <a:lnTo>
                  <a:pt x="158" y="165"/>
                </a:lnTo>
                <a:lnTo>
                  <a:pt x="150" y="163"/>
                </a:lnTo>
                <a:lnTo>
                  <a:pt x="142" y="161"/>
                </a:lnTo>
                <a:lnTo>
                  <a:pt x="133" y="158"/>
                </a:lnTo>
                <a:lnTo>
                  <a:pt x="125" y="154"/>
                </a:lnTo>
                <a:lnTo>
                  <a:pt x="115" y="150"/>
                </a:lnTo>
                <a:lnTo>
                  <a:pt x="106" y="144"/>
                </a:lnTo>
                <a:lnTo>
                  <a:pt x="96" y="138"/>
                </a:lnTo>
                <a:lnTo>
                  <a:pt x="85" y="131"/>
                </a:lnTo>
                <a:lnTo>
                  <a:pt x="75" y="123"/>
                </a:lnTo>
                <a:lnTo>
                  <a:pt x="64" y="113"/>
                </a:lnTo>
                <a:lnTo>
                  <a:pt x="52" y="104"/>
                </a:lnTo>
                <a:lnTo>
                  <a:pt x="39" y="92"/>
                </a:lnTo>
                <a:lnTo>
                  <a:pt x="27" y="81"/>
                </a:lnTo>
                <a:lnTo>
                  <a:pt x="14" y="69"/>
                </a:lnTo>
                <a:lnTo>
                  <a:pt x="0" y="56"/>
                </a:lnTo>
                <a:lnTo>
                  <a:pt x="33" y="50"/>
                </a:lnTo>
                <a:lnTo>
                  <a:pt x="67" y="46"/>
                </a:lnTo>
                <a:lnTo>
                  <a:pt x="104" y="41"/>
                </a:lnTo>
                <a:lnTo>
                  <a:pt x="142" y="37"/>
                </a:lnTo>
                <a:lnTo>
                  <a:pt x="181" y="33"/>
                </a:lnTo>
                <a:lnTo>
                  <a:pt x="221" y="27"/>
                </a:lnTo>
                <a:lnTo>
                  <a:pt x="261" y="23"/>
                </a:lnTo>
                <a:lnTo>
                  <a:pt x="304" y="19"/>
                </a:lnTo>
                <a:lnTo>
                  <a:pt x="346" y="14"/>
                </a:lnTo>
                <a:lnTo>
                  <a:pt x="386" y="10"/>
                </a:lnTo>
                <a:lnTo>
                  <a:pt x="426" y="6"/>
                </a:lnTo>
                <a:lnTo>
                  <a:pt x="465" y="2"/>
                </a:lnTo>
                <a:lnTo>
                  <a:pt x="503" y="2"/>
                </a:lnTo>
                <a:lnTo>
                  <a:pt x="540" y="0"/>
                </a:lnTo>
                <a:lnTo>
                  <a:pt x="557" y="2"/>
                </a:lnTo>
                <a:lnTo>
                  <a:pt x="574" y="2"/>
                </a:lnTo>
                <a:lnTo>
                  <a:pt x="591" y="4"/>
                </a:lnTo>
                <a:lnTo>
                  <a:pt x="609" y="6"/>
                </a:lnTo>
                <a:lnTo>
                  <a:pt x="616" y="8"/>
                </a:lnTo>
                <a:lnTo>
                  <a:pt x="626" y="8"/>
                </a:lnTo>
                <a:lnTo>
                  <a:pt x="636" y="10"/>
                </a:lnTo>
                <a:lnTo>
                  <a:pt x="647" y="12"/>
                </a:lnTo>
                <a:lnTo>
                  <a:pt x="659" y="14"/>
                </a:lnTo>
                <a:lnTo>
                  <a:pt x="670" y="16"/>
                </a:lnTo>
                <a:lnTo>
                  <a:pt x="682" y="18"/>
                </a:lnTo>
                <a:lnTo>
                  <a:pt x="695" y="19"/>
                </a:lnTo>
                <a:lnTo>
                  <a:pt x="711" y="21"/>
                </a:lnTo>
                <a:lnTo>
                  <a:pt x="724" y="25"/>
                </a:lnTo>
                <a:lnTo>
                  <a:pt x="739" y="27"/>
                </a:lnTo>
                <a:lnTo>
                  <a:pt x="755" y="31"/>
                </a:lnTo>
                <a:lnTo>
                  <a:pt x="772" y="33"/>
                </a:lnTo>
                <a:lnTo>
                  <a:pt x="789" y="37"/>
                </a:lnTo>
                <a:lnTo>
                  <a:pt x="807" y="41"/>
                </a:lnTo>
                <a:lnTo>
                  <a:pt x="826" y="44"/>
                </a:lnTo>
                <a:lnTo>
                  <a:pt x="845" y="48"/>
                </a:lnTo>
                <a:lnTo>
                  <a:pt x="864" y="52"/>
                </a:lnTo>
                <a:lnTo>
                  <a:pt x="883" y="56"/>
                </a:lnTo>
                <a:lnTo>
                  <a:pt x="904" y="60"/>
                </a:lnTo>
                <a:lnTo>
                  <a:pt x="926" y="64"/>
                </a:lnTo>
                <a:lnTo>
                  <a:pt x="949" y="69"/>
                </a:lnTo>
                <a:lnTo>
                  <a:pt x="972" y="73"/>
                </a:lnTo>
                <a:lnTo>
                  <a:pt x="995" y="79"/>
                </a:lnTo>
                <a:lnTo>
                  <a:pt x="1020" y="85"/>
                </a:lnTo>
                <a:lnTo>
                  <a:pt x="1043" y="90"/>
                </a:lnTo>
                <a:lnTo>
                  <a:pt x="1068" y="96"/>
                </a:lnTo>
                <a:lnTo>
                  <a:pt x="1094" y="102"/>
                </a:lnTo>
                <a:lnTo>
                  <a:pt x="1121" y="108"/>
                </a:lnTo>
                <a:lnTo>
                  <a:pt x="1148" y="113"/>
                </a:lnTo>
                <a:lnTo>
                  <a:pt x="1175" y="121"/>
                </a:lnTo>
                <a:lnTo>
                  <a:pt x="1204" y="129"/>
                </a:lnTo>
                <a:lnTo>
                  <a:pt x="1261" y="144"/>
                </a:lnTo>
                <a:lnTo>
                  <a:pt x="1319" y="158"/>
                </a:lnTo>
                <a:lnTo>
                  <a:pt x="1381" y="171"/>
                </a:lnTo>
                <a:lnTo>
                  <a:pt x="1440" y="184"/>
                </a:lnTo>
                <a:lnTo>
                  <a:pt x="1503" y="194"/>
                </a:lnTo>
                <a:lnTo>
                  <a:pt x="1567" y="206"/>
                </a:lnTo>
                <a:lnTo>
                  <a:pt x="1632" y="213"/>
                </a:lnTo>
                <a:lnTo>
                  <a:pt x="1697" y="221"/>
                </a:lnTo>
                <a:lnTo>
                  <a:pt x="1764" y="229"/>
                </a:lnTo>
                <a:lnTo>
                  <a:pt x="1834" y="234"/>
                </a:lnTo>
                <a:lnTo>
                  <a:pt x="1903" y="238"/>
                </a:lnTo>
                <a:lnTo>
                  <a:pt x="1974" y="242"/>
                </a:lnTo>
                <a:lnTo>
                  <a:pt x="2045" y="246"/>
                </a:lnTo>
                <a:lnTo>
                  <a:pt x="2118" y="248"/>
                </a:lnTo>
                <a:lnTo>
                  <a:pt x="2193" y="250"/>
                </a:lnTo>
                <a:lnTo>
                  <a:pt x="2267" y="250"/>
                </a:lnTo>
                <a:lnTo>
                  <a:pt x="2306" y="250"/>
                </a:lnTo>
                <a:lnTo>
                  <a:pt x="2342" y="250"/>
                </a:lnTo>
                <a:lnTo>
                  <a:pt x="2377" y="250"/>
                </a:lnTo>
                <a:lnTo>
                  <a:pt x="2411" y="250"/>
                </a:lnTo>
                <a:lnTo>
                  <a:pt x="2444" y="250"/>
                </a:lnTo>
                <a:lnTo>
                  <a:pt x="2475" y="252"/>
                </a:lnTo>
                <a:lnTo>
                  <a:pt x="2506" y="252"/>
                </a:lnTo>
                <a:lnTo>
                  <a:pt x="2534" y="252"/>
                </a:lnTo>
                <a:lnTo>
                  <a:pt x="2561" y="254"/>
                </a:lnTo>
                <a:lnTo>
                  <a:pt x="2588" y="254"/>
                </a:lnTo>
                <a:lnTo>
                  <a:pt x="2615" y="254"/>
                </a:lnTo>
                <a:lnTo>
                  <a:pt x="2638" y="256"/>
                </a:lnTo>
                <a:lnTo>
                  <a:pt x="2661" y="256"/>
                </a:lnTo>
                <a:lnTo>
                  <a:pt x="2684" y="257"/>
                </a:lnTo>
                <a:lnTo>
                  <a:pt x="2705" y="257"/>
                </a:lnTo>
                <a:lnTo>
                  <a:pt x="2724" y="259"/>
                </a:lnTo>
                <a:lnTo>
                  <a:pt x="2744" y="259"/>
                </a:lnTo>
                <a:lnTo>
                  <a:pt x="2761" y="261"/>
                </a:lnTo>
                <a:lnTo>
                  <a:pt x="2776" y="263"/>
                </a:lnTo>
                <a:lnTo>
                  <a:pt x="2792" y="265"/>
                </a:lnTo>
                <a:lnTo>
                  <a:pt x="2805" y="265"/>
                </a:lnTo>
                <a:lnTo>
                  <a:pt x="2817" y="267"/>
                </a:lnTo>
                <a:lnTo>
                  <a:pt x="2828" y="269"/>
                </a:lnTo>
                <a:lnTo>
                  <a:pt x="2838" y="271"/>
                </a:lnTo>
                <a:lnTo>
                  <a:pt x="2847" y="273"/>
                </a:lnTo>
                <a:lnTo>
                  <a:pt x="2855" y="275"/>
                </a:lnTo>
                <a:lnTo>
                  <a:pt x="2863" y="277"/>
                </a:lnTo>
                <a:lnTo>
                  <a:pt x="2866" y="279"/>
                </a:lnTo>
                <a:lnTo>
                  <a:pt x="2870" y="280"/>
                </a:lnTo>
                <a:lnTo>
                  <a:pt x="2874" y="282"/>
                </a:lnTo>
                <a:lnTo>
                  <a:pt x="2876" y="284"/>
                </a:lnTo>
                <a:lnTo>
                  <a:pt x="2876" y="286"/>
                </a:lnTo>
                <a:lnTo>
                  <a:pt x="2876" y="290"/>
                </a:lnTo>
                <a:lnTo>
                  <a:pt x="2874" y="292"/>
                </a:lnTo>
                <a:lnTo>
                  <a:pt x="2870" y="296"/>
                </a:lnTo>
                <a:lnTo>
                  <a:pt x="2865" y="300"/>
                </a:lnTo>
                <a:lnTo>
                  <a:pt x="2859" y="305"/>
                </a:lnTo>
                <a:lnTo>
                  <a:pt x="2849" y="309"/>
                </a:lnTo>
                <a:lnTo>
                  <a:pt x="2840" y="315"/>
                </a:lnTo>
                <a:lnTo>
                  <a:pt x="2828" y="321"/>
                </a:lnTo>
                <a:lnTo>
                  <a:pt x="2817" y="328"/>
                </a:lnTo>
                <a:lnTo>
                  <a:pt x="2801" y="334"/>
                </a:lnTo>
                <a:lnTo>
                  <a:pt x="2786" y="342"/>
                </a:lnTo>
                <a:lnTo>
                  <a:pt x="2769" y="350"/>
                </a:lnTo>
                <a:lnTo>
                  <a:pt x="2751" y="357"/>
                </a:lnTo>
                <a:lnTo>
                  <a:pt x="2730" y="367"/>
                </a:lnTo>
                <a:lnTo>
                  <a:pt x="2709" y="375"/>
                </a:lnTo>
                <a:lnTo>
                  <a:pt x="2686" y="384"/>
                </a:lnTo>
                <a:lnTo>
                  <a:pt x="2661" y="394"/>
                </a:lnTo>
                <a:lnTo>
                  <a:pt x="2636" y="401"/>
                </a:lnTo>
                <a:lnTo>
                  <a:pt x="2611" y="411"/>
                </a:lnTo>
                <a:lnTo>
                  <a:pt x="2586" y="419"/>
                </a:lnTo>
                <a:lnTo>
                  <a:pt x="2563" y="426"/>
                </a:lnTo>
                <a:lnTo>
                  <a:pt x="2540" y="434"/>
                </a:lnTo>
                <a:lnTo>
                  <a:pt x="2494" y="447"/>
                </a:lnTo>
                <a:lnTo>
                  <a:pt x="2452" y="459"/>
                </a:lnTo>
                <a:lnTo>
                  <a:pt x="2431" y="463"/>
                </a:lnTo>
                <a:lnTo>
                  <a:pt x="2410" y="469"/>
                </a:lnTo>
                <a:lnTo>
                  <a:pt x="2390" y="472"/>
                </a:lnTo>
                <a:lnTo>
                  <a:pt x="2369" y="476"/>
                </a:lnTo>
                <a:lnTo>
                  <a:pt x="2350" y="478"/>
                </a:lnTo>
                <a:lnTo>
                  <a:pt x="2331" y="48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Freeform 182"/>
          <p:cNvSpPr/>
          <p:nvPr/>
        </p:nvSpPr>
        <p:spPr>
          <a:xfrm>
            <a:off x="5587920" y="4049640"/>
            <a:ext cx="480960" cy="668520"/>
          </a:xfrm>
          <a:custGeom>
            <a:avLst/>
            <a:gdLst/>
            <a:ahLst/>
            <a:rect l="l" t="t" r="r" b="b"/>
            <a:pathLst>
              <a:path w="606" h="843">
                <a:moveTo>
                  <a:pt x="328" y="50"/>
                </a:moveTo>
                <a:lnTo>
                  <a:pt x="332" y="42"/>
                </a:lnTo>
                <a:lnTo>
                  <a:pt x="337" y="37"/>
                </a:lnTo>
                <a:lnTo>
                  <a:pt x="341" y="31"/>
                </a:lnTo>
                <a:lnTo>
                  <a:pt x="347" y="27"/>
                </a:lnTo>
                <a:lnTo>
                  <a:pt x="351" y="21"/>
                </a:lnTo>
                <a:lnTo>
                  <a:pt x="357" y="18"/>
                </a:lnTo>
                <a:lnTo>
                  <a:pt x="366" y="12"/>
                </a:lnTo>
                <a:lnTo>
                  <a:pt x="376" y="6"/>
                </a:lnTo>
                <a:lnTo>
                  <a:pt x="385" y="4"/>
                </a:lnTo>
                <a:lnTo>
                  <a:pt x="395" y="2"/>
                </a:lnTo>
                <a:lnTo>
                  <a:pt x="405" y="0"/>
                </a:lnTo>
                <a:lnTo>
                  <a:pt x="414" y="2"/>
                </a:lnTo>
                <a:lnTo>
                  <a:pt x="426" y="2"/>
                </a:lnTo>
                <a:lnTo>
                  <a:pt x="439" y="6"/>
                </a:lnTo>
                <a:lnTo>
                  <a:pt x="453" y="10"/>
                </a:lnTo>
                <a:lnTo>
                  <a:pt x="462" y="12"/>
                </a:lnTo>
                <a:lnTo>
                  <a:pt x="470" y="16"/>
                </a:lnTo>
                <a:lnTo>
                  <a:pt x="480" y="18"/>
                </a:lnTo>
                <a:lnTo>
                  <a:pt x="487" y="21"/>
                </a:lnTo>
                <a:lnTo>
                  <a:pt x="499" y="25"/>
                </a:lnTo>
                <a:lnTo>
                  <a:pt x="508" y="29"/>
                </a:lnTo>
                <a:lnTo>
                  <a:pt x="520" y="33"/>
                </a:lnTo>
                <a:lnTo>
                  <a:pt x="531" y="37"/>
                </a:lnTo>
                <a:lnTo>
                  <a:pt x="541" y="42"/>
                </a:lnTo>
                <a:lnTo>
                  <a:pt x="549" y="46"/>
                </a:lnTo>
                <a:lnTo>
                  <a:pt x="556" y="52"/>
                </a:lnTo>
                <a:lnTo>
                  <a:pt x="564" y="56"/>
                </a:lnTo>
                <a:lnTo>
                  <a:pt x="572" y="60"/>
                </a:lnTo>
                <a:lnTo>
                  <a:pt x="577" y="66"/>
                </a:lnTo>
                <a:lnTo>
                  <a:pt x="583" y="69"/>
                </a:lnTo>
                <a:lnTo>
                  <a:pt x="587" y="73"/>
                </a:lnTo>
                <a:lnTo>
                  <a:pt x="593" y="79"/>
                </a:lnTo>
                <a:lnTo>
                  <a:pt x="597" y="83"/>
                </a:lnTo>
                <a:lnTo>
                  <a:pt x="599" y="89"/>
                </a:lnTo>
                <a:lnTo>
                  <a:pt x="602" y="92"/>
                </a:lnTo>
                <a:lnTo>
                  <a:pt x="604" y="96"/>
                </a:lnTo>
                <a:lnTo>
                  <a:pt x="606" y="102"/>
                </a:lnTo>
                <a:lnTo>
                  <a:pt x="606" y="106"/>
                </a:lnTo>
                <a:lnTo>
                  <a:pt x="606" y="112"/>
                </a:lnTo>
                <a:lnTo>
                  <a:pt x="606" y="119"/>
                </a:lnTo>
                <a:lnTo>
                  <a:pt x="604" y="129"/>
                </a:lnTo>
                <a:lnTo>
                  <a:pt x="602" y="137"/>
                </a:lnTo>
                <a:lnTo>
                  <a:pt x="599" y="146"/>
                </a:lnTo>
                <a:lnTo>
                  <a:pt x="595" y="154"/>
                </a:lnTo>
                <a:lnTo>
                  <a:pt x="591" y="160"/>
                </a:lnTo>
                <a:lnTo>
                  <a:pt x="587" y="167"/>
                </a:lnTo>
                <a:lnTo>
                  <a:pt x="581" y="171"/>
                </a:lnTo>
                <a:lnTo>
                  <a:pt x="579" y="177"/>
                </a:lnTo>
                <a:lnTo>
                  <a:pt x="576" y="183"/>
                </a:lnTo>
                <a:lnTo>
                  <a:pt x="574" y="188"/>
                </a:lnTo>
                <a:lnTo>
                  <a:pt x="570" y="194"/>
                </a:lnTo>
                <a:lnTo>
                  <a:pt x="566" y="202"/>
                </a:lnTo>
                <a:lnTo>
                  <a:pt x="562" y="209"/>
                </a:lnTo>
                <a:lnTo>
                  <a:pt x="558" y="217"/>
                </a:lnTo>
                <a:lnTo>
                  <a:pt x="552" y="227"/>
                </a:lnTo>
                <a:lnTo>
                  <a:pt x="549" y="236"/>
                </a:lnTo>
                <a:lnTo>
                  <a:pt x="543" y="246"/>
                </a:lnTo>
                <a:lnTo>
                  <a:pt x="537" y="256"/>
                </a:lnTo>
                <a:lnTo>
                  <a:pt x="531" y="267"/>
                </a:lnTo>
                <a:lnTo>
                  <a:pt x="526" y="279"/>
                </a:lnTo>
                <a:lnTo>
                  <a:pt x="520" y="292"/>
                </a:lnTo>
                <a:lnTo>
                  <a:pt x="512" y="304"/>
                </a:lnTo>
                <a:lnTo>
                  <a:pt x="506" y="317"/>
                </a:lnTo>
                <a:lnTo>
                  <a:pt x="499" y="330"/>
                </a:lnTo>
                <a:lnTo>
                  <a:pt x="493" y="344"/>
                </a:lnTo>
                <a:lnTo>
                  <a:pt x="485" y="355"/>
                </a:lnTo>
                <a:lnTo>
                  <a:pt x="480" y="369"/>
                </a:lnTo>
                <a:lnTo>
                  <a:pt x="474" y="378"/>
                </a:lnTo>
                <a:lnTo>
                  <a:pt x="470" y="390"/>
                </a:lnTo>
                <a:lnTo>
                  <a:pt x="466" y="399"/>
                </a:lnTo>
                <a:lnTo>
                  <a:pt x="462" y="407"/>
                </a:lnTo>
                <a:lnTo>
                  <a:pt x="458" y="417"/>
                </a:lnTo>
                <a:lnTo>
                  <a:pt x="455" y="423"/>
                </a:lnTo>
                <a:lnTo>
                  <a:pt x="453" y="430"/>
                </a:lnTo>
                <a:lnTo>
                  <a:pt x="453" y="436"/>
                </a:lnTo>
                <a:lnTo>
                  <a:pt x="451" y="442"/>
                </a:lnTo>
                <a:lnTo>
                  <a:pt x="451" y="446"/>
                </a:lnTo>
                <a:lnTo>
                  <a:pt x="453" y="449"/>
                </a:lnTo>
                <a:lnTo>
                  <a:pt x="455" y="451"/>
                </a:lnTo>
                <a:lnTo>
                  <a:pt x="457" y="455"/>
                </a:lnTo>
                <a:lnTo>
                  <a:pt x="460" y="459"/>
                </a:lnTo>
                <a:lnTo>
                  <a:pt x="462" y="463"/>
                </a:lnTo>
                <a:lnTo>
                  <a:pt x="464" y="469"/>
                </a:lnTo>
                <a:lnTo>
                  <a:pt x="468" y="474"/>
                </a:lnTo>
                <a:lnTo>
                  <a:pt x="470" y="480"/>
                </a:lnTo>
                <a:lnTo>
                  <a:pt x="474" y="490"/>
                </a:lnTo>
                <a:lnTo>
                  <a:pt x="478" y="497"/>
                </a:lnTo>
                <a:lnTo>
                  <a:pt x="481" y="507"/>
                </a:lnTo>
                <a:lnTo>
                  <a:pt x="485" y="517"/>
                </a:lnTo>
                <a:lnTo>
                  <a:pt x="489" y="528"/>
                </a:lnTo>
                <a:lnTo>
                  <a:pt x="495" y="542"/>
                </a:lnTo>
                <a:lnTo>
                  <a:pt x="499" y="553"/>
                </a:lnTo>
                <a:lnTo>
                  <a:pt x="504" y="568"/>
                </a:lnTo>
                <a:lnTo>
                  <a:pt x="512" y="582"/>
                </a:lnTo>
                <a:lnTo>
                  <a:pt x="518" y="599"/>
                </a:lnTo>
                <a:lnTo>
                  <a:pt x="526" y="614"/>
                </a:lnTo>
                <a:lnTo>
                  <a:pt x="531" y="630"/>
                </a:lnTo>
                <a:lnTo>
                  <a:pt x="537" y="645"/>
                </a:lnTo>
                <a:lnTo>
                  <a:pt x="541" y="661"/>
                </a:lnTo>
                <a:lnTo>
                  <a:pt x="547" y="676"/>
                </a:lnTo>
                <a:lnTo>
                  <a:pt x="551" y="691"/>
                </a:lnTo>
                <a:lnTo>
                  <a:pt x="558" y="720"/>
                </a:lnTo>
                <a:lnTo>
                  <a:pt x="562" y="751"/>
                </a:lnTo>
                <a:lnTo>
                  <a:pt x="566" y="780"/>
                </a:lnTo>
                <a:lnTo>
                  <a:pt x="568" y="810"/>
                </a:lnTo>
                <a:lnTo>
                  <a:pt x="570" y="843"/>
                </a:lnTo>
                <a:lnTo>
                  <a:pt x="518" y="843"/>
                </a:lnTo>
                <a:lnTo>
                  <a:pt x="468" y="843"/>
                </a:lnTo>
                <a:lnTo>
                  <a:pt x="468" y="835"/>
                </a:lnTo>
                <a:lnTo>
                  <a:pt x="466" y="826"/>
                </a:lnTo>
                <a:lnTo>
                  <a:pt x="464" y="816"/>
                </a:lnTo>
                <a:lnTo>
                  <a:pt x="462" y="806"/>
                </a:lnTo>
                <a:lnTo>
                  <a:pt x="460" y="793"/>
                </a:lnTo>
                <a:lnTo>
                  <a:pt x="457" y="781"/>
                </a:lnTo>
                <a:lnTo>
                  <a:pt x="455" y="766"/>
                </a:lnTo>
                <a:lnTo>
                  <a:pt x="449" y="753"/>
                </a:lnTo>
                <a:lnTo>
                  <a:pt x="445" y="735"/>
                </a:lnTo>
                <a:lnTo>
                  <a:pt x="441" y="720"/>
                </a:lnTo>
                <a:lnTo>
                  <a:pt x="435" y="701"/>
                </a:lnTo>
                <a:lnTo>
                  <a:pt x="430" y="682"/>
                </a:lnTo>
                <a:lnTo>
                  <a:pt x="424" y="662"/>
                </a:lnTo>
                <a:lnTo>
                  <a:pt x="418" y="641"/>
                </a:lnTo>
                <a:lnTo>
                  <a:pt x="410" y="620"/>
                </a:lnTo>
                <a:lnTo>
                  <a:pt x="405" y="599"/>
                </a:lnTo>
                <a:lnTo>
                  <a:pt x="397" y="578"/>
                </a:lnTo>
                <a:lnTo>
                  <a:pt x="391" y="559"/>
                </a:lnTo>
                <a:lnTo>
                  <a:pt x="385" y="540"/>
                </a:lnTo>
                <a:lnTo>
                  <a:pt x="378" y="520"/>
                </a:lnTo>
                <a:lnTo>
                  <a:pt x="374" y="503"/>
                </a:lnTo>
                <a:lnTo>
                  <a:pt x="368" y="486"/>
                </a:lnTo>
                <a:lnTo>
                  <a:pt x="364" y="469"/>
                </a:lnTo>
                <a:lnTo>
                  <a:pt x="361" y="453"/>
                </a:lnTo>
                <a:lnTo>
                  <a:pt x="357" y="438"/>
                </a:lnTo>
                <a:lnTo>
                  <a:pt x="355" y="424"/>
                </a:lnTo>
                <a:lnTo>
                  <a:pt x="353" y="411"/>
                </a:lnTo>
                <a:lnTo>
                  <a:pt x="351" y="398"/>
                </a:lnTo>
                <a:lnTo>
                  <a:pt x="351" y="386"/>
                </a:lnTo>
                <a:lnTo>
                  <a:pt x="351" y="375"/>
                </a:lnTo>
                <a:lnTo>
                  <a:pt x="351" y="363"/>
                </a:lnTo>
                <a:lnTo>
                  <a:pt x="353" y="355"/>
                </a:lnTo>
                <a:lnTo>
                  <a:pt x="357" y="340"/>
                </a:lnTo>
                <a:lnTo>
                  <a:pt x="361" y="327"/>
                </a:lnTo>
                <a:lnTo>
                  <a:pt x="362" y="313"/>
                </a:lnTo>
                <a:lnTo>
                  <a:pt x="364" y="300"/>
                </a:lnTo>
                <a:lnTo>
                  <a:pt x="364" y="286"/>
                </a:lnTo>
                <a:lnTo>
                  <a:pt x="366" y="273"/>
                </a:lnTo>
                <a:lnTo>
                  <a:pt x="366" y="244"/>
                </a:lnTo>
                <a:lnTo>
                  <a:pt x="364" y="236"/>
                </a:lnTo>
                <a:lnTo>
                  <a:pt x="364" y="229"/>
                </a:lnTo>
                <a:lnTo>
                  <a:pt x="361" y="221"/>
                </a:lnTo>
                <a:lnTo>
                  <a:pt x="359" y="215"/>
                </a:lnTo>
                <a:lnTo>
                  <a:pt x="355" y="209"/>
                </a:lnTo>
                <a:lnTo>
                  <a:pt x="351" y="206"/>
                </a:lnTo>
                <a:lnTo>
                  <a:pt x="341" y="196"/>
                </a:lnTo>
                <a:lnTo>
                  <a:pt x="322" y="196"/>
                </a:lnTo>
                <a:lnTo>
                  <a:pt x="313" y="196"/>
                </a:lnTo>
                <a:lnTo>
                  <a:pt x="301" y="198"/>
                </a:lnTo>
                <a:lnTo>
                  <a:pt x="289" y="198"/>
                </a:lnTo>
                <a:lnTo>
                  <a:pt x="278" y="202"/>
                </a:lnTo>
                <a:lnTo>
                  <a:pt x="266" y="204"/>
                </a:lnTo>
                <a:lnTo>
                  <a:pt x="253" y="208"/>
                </a:lnTo>
                <a:lnTo>
                  <a:pt x="238" y="213"/>
                </a:lnTo>
                <a:lnTo>
                  <a:pt x="226" y="217"/>
                </a:lnTo>
                <a:lnTo>
                  <a:pt x="215" y="221"/>
                </a:lnTo>
                <a:lnTo>
                  <a:pt x="205" y="225"/>
                </a:lnTo>
                <a:lnTo>
                  <a:pt x="195" y="229"/>
                </a:lnTo>
                <a:lnTo>
                  <a:pt x="188" y="231"/>
                </a:lnTo>
                <a:lnTo>
                  <a:pt x="182" y="232"/>
                </a:lnTo>
                <a:lnTo>
                  <a:pt x="176" y="232"/>
                </a:lnTo>
                <a:lnTo>
                  <a:pt x="170" y="232"/>
                </a:lnTo>
                <a:lnTo>
                  <a:pt x="165" y="231"/>
                </a:lnTo>
                <a:lnTo>
                  <a:pt x="157" y="231"/>
                </a:lnTo>
                <a:lnTo>
                  <a:pt x="149" y="229"/>
                </a:lnTo>
                <a:lnTo>
                  <a:pt x="142" y="225"/>
                </a:lnTo>
                <a:lnTo>
                  <a:pt x="132" y="223"/>
                </a:lnTo>
                <a:lnTo>
                  <a:pt x="122" y="219"/>
                </a:lnTo>
                <a:lnTo>
                  <a:pt x="111" y="215"/>
                </a:lnTo>
                <a:lnTo>
                  <a:pt x="99" y="209"/>
                </a:lnTo>
                <a:lnTo>
                  <a:pt x="86" y="204"/>
                </a:lnTo>
                <a:lnTo>
                  <a:pt x="74" y="198"/>
                </a:lnTo>
                <a:lnTo>
                  <a:pt x="61" y="192"/>
                </a:lnTo>
                <a:lnTo>
                  <a:pt x="46" y="185"/>
                </a:lnTo>
                <a:lnTo>
                  <a:pt x="30" y="177"/>
                </a:lnTo>
                <a:lnTo>
                  <a:pt x="15" y="167"/>
                </a:lnTo>
                <a:lnTo>
                  <a:pt x="0" y="160"/>
                </a:lnTo>
                <a:lnTo>
                  <a:pt x="17" y="156"/>
                </a:lnTo>
                <a:lnTo>
                  <a:pt x="36" y="152"/>
                </a:lnTo>
                <a:lnTo>
                  <a:pt x="53" y="148"/>
                </a:lnTo>
                <a:lnTo>
                  <a:pt x="71" y="146"/>
                </a:lnTo>
                <a:lnTo>
                  <a:pt x="88" y="142"/>
                </a:lnTo>
                <a:lnTo>
                  <a:pt x="103" y="138"/>
                </a:lnTo>
                <a:lnTo>
                  <a:pt x="119" y="135"/>
                </a:lnTo>
                <a:lnTo>
                  <a:pt x="134" y="131"/>
                </a:lnTo>
                <a:lnTo>
                  <a:pt x="147" y="129"/>
                </a:lnTo>
                <a:lnTo>
                  <a:pt x="163" y="125"/>
                </a:lnTo>
                <a:lnTo>
                  <a:pt x="176" y="121"/>
                </a:lnTo>
                <a:lnTo>
                  <a:pt x="188" y="117"/>
                </a:lnTo>
                <a:lnTo>
                  <a:pt x="201" y="113"/>
                </a:lnTo>
                <a:lnTo>
                  <a:pt x="213" y="112"/>
                </a:lnTo>
                <a:lnTo>
                  <a:pt x="224" y="108"/>
                </a:lnTo>
                <a:lnTo>
                  <a:pt x="234" y="104"/>
                </a:lnTo>
                <a:lnTo>
                  <a:pt x="245" y="100"/>
                </a:lnTo>
                <a:lnTo>
                  <a:pt x="255" y="98"/>
                </a:lnTo>
                <a:lnTo>
                  <a:pt x="263" y="94"/>
                </a:lnTo>
                <a:lnTo>
                  <a:pt x="272" y="90"/>
                </a:lnTo>
                <a:lnTo>
                  <a:pt x="280" y="87"/>
                </a:lnTo>
                <a:lnTo>
                  <a:pt x="288" y="83"/>
                </a:lnTo>
                <a:lnTo>
                  <a:pt x="293" y="81"/>
                </a:lnTo>
                <a:lnTo>
                  <a:pt x="299" y="77"/>
                </a:lnTo>
                <a:lnTo>
                  <a:pt x="305" y="73"/>
                </a:lnTo>
                <a:lnTo>
                  <a:pt x="311" y="69"/>
                </a:lnTo>
                <a:lnTo>
                  <a:pt x="314" y="67"/>
                </a:lnTo>
                <a:lnTo>
                  <a:pt x="318" y="64"/>
                </a:lnTo>
                <a:lnTo>
                  <a:pt x="322" y="60"/>
                </a:lnTo>
                <a:lnTo>
                  <a:pt x="324" y="56"/>
                </a:lnTo>
                <a:lnTo>
                  <a:pt x="326" y="54"/>
                </a:lnTo>
                <a:lnTo>
                  <a:pt x="328" y="5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Freeform 183"/>
          <p:cNvSpPr/>
          <p:nvPr/>
        </p:nvSpPr>
        <p:spPr>
          <a:xfrm>
            <a:off x="5838840" y="3603600"/>
            <a:ext cx="260280" cy="271440"/>
          </a:xfrm>
          <a:custGeom>
            <a:avLst/>
            <a:gdLst/>
            <a:ahLst/>
            <a:rect l="l" t="t" r="r" b="b"/>
            <a:pathLst>
              <a:path w="329" h="341">
                <a:moveTo>
                  <a:pt x="0" y="25"/>
                </a:moveTo>
                <a:lnTo>
                  <a:pt x="4" y="19"/>
                </a:lnTo>
                <a:lnTo>
                  <a:pt x="10" y="15"/>
                </a:lnTo>
                <a:lnTo>
                  <a:pt x="16" y="11"/>
                </a:lnTo>
                <a:lnTo>
                  <a:pt x="21" y="7"/>
                </a:lnTo>
                <a:lnTo>
                  <a:pt x="29" y="4"/>
                </a:lnTo>
                <a:lnTo>
                  <a:pt x="39" y="2"/>
                </a:lnTo>
                <a:lnTo>
                  <a:pt x="45" y="2"/>
                </a:lnTo>
                <a:lnTo>
                  <a:pt x="50" y="0"/>
                </a:lnTo>
                <a:lnTo>
                  <a:pt x="56" y="0"/>
                </a:lnTo>
                <a:lnTo>
                  <a:pt x="64" y="0"/>
                </a:lnTo>
                <a:lnTo>
                  <a:pt x="77" y="0"/>
                </a:lnTo>
                <a:lnTo>
                  <a:pt x="91" y="2"/>
                </a:lnTo>
                <a:lnTo>
                  <a:pt x="106" y="4"/>
                </a:lnTo>
                <a:lnTo>
                  <a:pt x="121" y="7"/>
                </a:lnTo>
                <a:lnTo>
                  <a:pt x="137" y="11"/>
                </a:lnTo>
                <a:lnTo>
                  <a:pt x="154" y="15"/>
                </a:lnTo>
                <a:lnTo>
                  <a:pt x="171" y="19"/>
                </a:lnTo>
                <a:lnTo>
                  <a:pt x="190" y="25"/>
                </a:lnTo>
                <a:lnTo>
                  <a:pt x="217" y="44"/>
                </a:lnTo>
                <a:lnTo>
                  <a:pt x="231" y="52"/>
                </a:lnTo>
                <a:lnTo>
                  <a:pt x="244" y="63"/>
                </a:lnTo>
                <a:lnTo>
                  <a:pt x="258" y="73"/>
                </a:lnTo>
                <a:lnTo>
                  <a:pt x="269" y="84"/>
                </a:lnTo>
                <a:lnTo>
                  <a:pt x="281" y="96"/>
                </a:lnTo>
                <a:lnTo>
                  <a:pt x="290" y="109"/>
                </a:lnTo>
                <a:lnTo>
                  <a:pt x="300" y="123"/>
                </a:lnTo>
                <a:lnTo>
                  <a:pt x="308" y="138"/>
                </a:lnTo>
                <a:lnTo>
                  <a:pt x="313" y="151"/>
                </a:lnTo>
                <a:lnTo>
                  <a:pt x="319" y="165"/>
                </a:lnTo>
                <a:lnTo>
                  <a:pt x="323" y="178"/>
                </a:lnTo>
                <a:lnTo>
                  <a:pt x="327" y="192"/>
                </a:lnTo>
                <a:lnTo>
                  <a:pt x="329" y="205"/>
                </a:lnTo>
                <a:lnTo>
                  <a:pt x="329" y="220"/>
                </a:lnTo>
                <a:lnTo>
                  <a:pt x="325" y="234"/>
                </a:lnTo>
                <a:lnTo>
                  <a:pt x="321" y="247"/>
                </a:lnTo>
                <a:lnTo>
                  <a:pt x="319" y="259"/>
                </a:lnTo>
                <a:lnTo>
                  <a:pt x="317" y="270"/>
                </a:lnTo>
                <a:lnTo>
                  <a:pt x="313" y="282"/>
                </a:lnTo>
                <a:lnTo>
                  <a:pt x="311" y="292"/>
                </a:lnTo>
                <a:lnTo>
                  <a:pt x="309" y="295"/>
                </a:lnTo>
                <a:lnTo>
                  <a:pt x="308" y="299"/>
                </a:lnTo>
                <a:lnTo>
                  <a:pt x="306" y="303"/>
                </a:lnTo>
                <a:lnTo>
                  <a:pt x="304" y="305"/>
                </a:lnTo>
                <a:lnTo>
                  <a:pt x="298" y="313"/>
                </a:lnTo>
                <a:lnTo>
                  <a:pt x="292" y="320"/>
                </a:lnTo>
                <a:lnTo>
                  <a:pt x="284" y="328"/>
                </a:lnTo>
                <a:lnTo>
                  <a:pt x="275" y="332"/>
                </a:lnTo>
                <a:lnTo>
                  <a:pt x="265" y="336"/>
                </a:lnTo>
                <a:lnTo>
                  <a:pt x="254" y="340"/>
                </a:lnTo>
                <a:lnTo>
                  <a:pt x="240" y="341"/>
                </a:lnTo>
                <a:lnTo>
                  <a:pt x="227" y="341"/>
                </a:lnTo>
                <a:lnTo>
                  <a:pt x="221" y="341"/>
                </a:lnTo>
                <a:lnTo>
                  <a:pt x="213" y="340"/>
                </a:lnTo>
                <a:lnTo>
                  <a:pt x="206" y="336"/>
                </a:lnTo>
                <a:lnTo>
                  <a:pt x="198" y="332"/>
                </a:lnTo>
                <a:lnTo>
                  <a:pt x="190" y="326"/>
                </a:lnTo>
                <a:lnTo>
                  <a:pt x="183" y="320"/>
                </a:lnTo>
                <a:lnTo>
                  <a:pt x="175" y="313"/>
                </a:lnTo>
                <a:lnTo>
                  <a:pt x="167" y="303"/>
                </a:lnTo>
                <a:lnTo>
                  <a:pt x="158" y="293"/>
                </a:lnTo>
                <a:lnTo>
                  <a:pt x="150" y="282"/>
                </a:lnTo>
                <a:lnTo>
                  <a:pt x="141" y="268"/>
                </a:lnTo>
                <a:lnTo>
                  <a:pt x="131" y="253"/>
                </a:lnTo>
                <a:lnTo>
                  <a:pt x="121" y="238"/>
                </a:lnTo>
                <a:lnTo>
                  <a:pt x="110" y="220"/>
                </a:lnTo>
                <a:lnTo>
                  <a:pt x="100" y="203"/>
                </a:lnTo>
                <a:lnTo>
                  <a:pt x="89" y="182"/>
                </a:lnTo>
                <a:lnTo>
                  <a:pt x="77" y="165"/>
                </a:lnTo>
                <a:lnTo>
                  <a:pt x="66" y="148"/>
                </a:lnTo>
                <a:lnTo>
                  <a:pt x="56" y="132"/>
                </a:lnTo>
                <a:lnTo>
                  <a:pt x="48" y="119"/>
                </a:lnTo>
                <a:lnTo>
                  <a:pt x="41" y="105"/>
                </a:lnTo>
                <a:lnTo>
                  <a:pt x="33" y="92"/>
                </a:lnTo>
                <a:lnTo>
                  <a:pt x="25" y="82"/>
                </a:lnTo>
                <a:lnTo>
                  <a:pt x="20" y="71"/>
                </a:lnTo>
                <a:lnTo>
                  <a:pt x="16" y="63"/>
                </a:lnTo>
                <a:lnTo>
                  <a:pt x="12" y="54"/>
                </a:lnTo>
                <a:lnTo>
                  <a:pt x="8" y="48"/>
                </a:lnTo>
                <a:lnTo>
                  <a:pt x="4" y="40"/>
                </a:lnTo>
                <a:lnTo>
                  <a:pt x="2" y="34"/>
                </a:lnTo>
                <a:lnTo>
                  <a:pt x="0" y="30"/>
                </a:lnTo>
                <a:lnTo>
                  <a:pt x="0" y="27"/>
                </a:lnTo>
                <a:lnTo>
                  <a:pt x="0" y="25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Freeform 184"/>
          <p:cNvSpPr/>
          <p:nvPr/>
        </p:nvSpPr>
        <p:spPr>
          <a:xfrm>
            <a:off x="6697800" y="3895560"/>
            <a:ext cx="166680" cy="1016280"/>
          </a:xfrm>
          <a:custGeom>
            <a:avLst/>
            <a:gdLst/>
            <a:ahLst/>
            <a:rect l="l" t="t" r="r" b="b"/>
            <a:pathLst>
              <a:path w="211" h="1281">
                <a:moveTo>
                  <a:pt x="21" y="85"/>
                </a:moveTo>
                <a:lnTo>
                  <a:pt x="16" y="81"/>
                </a:lnTo>
                <a:lnTo>
                  <a:pt x="12" y="75"/>
                </a:lnTo>
                <a:lnTo>
                  <a:pt x="10" y="71"/>
                </a:lnTo>
                <a:lnTo>
                  <a:pt x="6" y="68"/>
                </a:lnTo>
                <a:lnTo>
                  <a:pt x="4" y="62"/>
                </a:lnTo>
                <a:lnTo>
                  <a:pt x="2" y="58"/>
                </a:lnTo>
                <a:lnTo>
                  <a:pt x="0" y="50"/>
                </a:lnTo>
                <a:lnTo>
                  <a:pt x="0" y="43"/>
                </a:lnTo>
                <a:lnTo>
                  <a:pt x="2" y="35"/>
                </a:lnTo>
                <a:lnTo>
                  <a:pt x="4" y="29"/>
                </a:lnTo>
                <a:lnTo>
                  <a:pt x="8" y="23"/>
                </a:lnTo>
                <a:lnTo>
                  <a:pt x="14" y="20"/>
                </a:lnTo>
                <a:lnTo>
                  <a:pt x="17" y="16"/>
                </a:lnTo>
                <a:lnTo>
                  <a:pt x="23" y="12"/>
                </a:lnTo>
                <a:lnTo>
                  <a:pt x="31" y="8"/>
                </a:lnTo>
                <a:lnTo>
                  <a:pt x="39" y="4"/>
                </a:lnTo>
                <a:lnTo>
                  <a:pt x="48" y="2"/>
                </a:lnTo>
                <a:lnTo>
                  <a:pt x="52" y="0"/>
                </a:lnTo>
                <a:lnTo>
                  <a:pt x="58" y="0"/>
                </a:lnTo>
                <a:lnTo>
                  <a:pt x="65" y="0"/>
                </a:lnTo>
                <a:lnTo>
                  <a:pt x="71" y="0"/>
                </a:lnTo>
                <a:lnTo>
                  <a:pt x="90" y="0"/>
                </a:lnTo>
                <a:lnTo>
                  <a:pt x="102" y="0"/>
                </a:lnTo>
                <a:lnTo>
                  <a:pt x="112" y="0"/>
                </a:lnTo>
                <a:lnTo>
                  <a:pt x="123" y="2"/>
                </a:lnTo>
                <a:lnTo>
                  <a:pt x="135" y="4"/>
                </a:lnTo>
                <a:lnTo>
                  <a:pt x="146" y="8"/>
                </a:lnTo>
                <a:lnTo>
                  <a:pt x="161" y="12"/>
                </a:lnTo>
                <a:lnTo>
                  <a:pt x="167" y="14"/>
                </a:lnTo>
                <a:lnTo>
                  <a:pt x="173" y="18"/>
                </a:lnTo>
                <a:lnTo>
                  <a:pt x="179" y="20"/>
                </a:lnTo>
                <a:lnTo>
                  <a:pt x="185" y="23"/>
                </a:lnTo>
                <a:lnTo>
                  <a:pt x="188" y="27"/>
                </a:lnTo>
                <a:lnTo>
                  <a:pt x="194" y="29"/>
                </a:lnTo>
                <a:lnTo>
                  <a:pt x="196" y="33"/>
                </a:lnTo>
                <a:lnTo>
                  <a:pt x="200" y="37"/>
                </a:lnTo>
                <a:lnTo>
                  <a:pt x="206" y="43"/>
                </a:lnTo>
                <a:lnTo>
                  <a:pt x="208" y="50"/>
                </a:lnTo>
                <a:lnTo>
                  <a:pt x="209" y="56"/>
                </a:lnTo>
                <a:lnTo>
                  <a:pt x="211" y="62"/>
                </a:lnTo>
                <a:lnTo>
                  <a:pt x="211" y="71"/>
                </a:lnTo>
                <a:lnTo>
                  <a:pt x="211" y="81"/>
                </a:lnTo>
                <a:lnTo>
                  <a:pt x="209" y="94"/>
                </a:lnTo>
                <a:lnTo>
                  <a:pt x="209" y="108"/>
                </a:lnTo>
                <a:lnTo>
                  <a:pt x="208" y="123"/>
                </a:lnTo>
                <a:lnTo>
                  <a:pt x="208" y="133"/>
                </a:lnTo>
                <a:lnTo>
                  <a:pt x="206" y="140"/>
                </a:lnTo>
                <a:lnTo>
                  <a:pt x="204" y="150"/>
                </a:lnTo>
                <a:lnTo>
                  <a:pt x="202" y="162"/>
                </a:lnTo>
                <a:lnTo>
                  <a:pt x="200" y="171"/>
                </a:lnTo>
                <a:lnTo>
                  <a:pt x="198" y="183"/>
                </a:lnTo>
                <a:lnTo>
                  <a:pt x="198" y="188"/>
                </a:lnTo>
                <a:lnTo>
                  <a:pt x="196" y="196"/>
                </a:lnTo>
                <a:lnTo>
                  <a:pt x="196" y="202"/>
                </a:lnTo>
                <a:lnTo>
                  <a:pt x="194" y="210"/>
                </a:lnTo>
                <a:lnTo>
                  <a:pt x="194" y="219"/>
                </a:lnTo>
                <a:lnTo>
                  <a:pt x="192" y="227"/>
                </a:lnTo>
                <a:lnTo>
                  <a:pt x="192" y="236"/>
                </a:lnTo>
                <a:lnTo>
                  <a:pt x="192" y="246"/>
                </a:lnTo>
                <a:lnTo>
                  <a:pt x="190" y="258"/>
                </a:lnTo>
                <a:lnTo>
                  <a:pt x="190" y="267"/>
                </a:lnTo>
                <a:lnTo>
                  <a:pt x="190" y="279"/>
                </a:lnTo>
                <a:lnTo>
                  <a:pt x="188" y="292"/>
                </a:lnTo>
                <a:lnTo>
                  <a:pt x="188" y="304"/>
                </a:lnTo>
                <a:lnTo>
                  <a:pt x="188" y="317"/>
                </a:lnTo>
                <a:lnTo>
                  <a:pt x="188" y="331"/>
                </a:lnTo>
                <a:lnTo>
                  <a:pt x="188" y="346"/>
                </a:lnTo>
                <a:lnTo>
                  <a:pt x="186" y="361"/>
                </a:lnTo>
                <a:lnTo>
                  <a:pt x="186" y="377"/>
                </a:lnTo>
                <a:lnTo>
                  <a:pt x="186" y="392"/>
                </a:lnTo>
                <a:lnTo>
                  <a:pt x="186" y="407"/>
                </a:lnTo>
                <a:lnTo>
                  <a:pt x="186" y="425"/>
                </a:lnTo>
                <a:lnTo>
                  <a:pt x="186" y="442"/>
                </a:lnTo>
                <a:lnTo>
                  <a:pt x="186" y="461"/>
                </a:lnTo>
                <a:lnTo>
                  <a:pt x="186" y="478"/>
                </a:lnTo>
                <a:lnTo>
                  <a:pt x="186" y="498"/>
                </a:lnTo>
                <a:lnTo>
                  <a:pt x="186" y="519"/>
                </a:lnTo>
                <a:lnTo>
                  <a:pt x="186" y="538"/>
                </a:lnTo>
                <a:lnTo>
                  <a:pt x="186" y="559"/>
                </a:lnTo>
                <a:lnTo>
                  <a:pt x="186" y="580"/>
                </a:lnTo>
                <a:lnTo>
                  <a:pt x="186" y="601"/>
                </a:lnTo>
                <a:lnTo>
                  <a:pt x="186" y="622"/>
                </a:lnTo>
                <a:lnTo>
                  <a:pt x="186" y="645"/>
                </a:lnTo>
                <a:lnTo>
                  <a:pt x="186" y="691"/>
                </a:lnTo>
                <a:lnTo>
                  <a:pt x="186" y="734"/>
                </a:lnTo>
                <a:lnTo>
                  <a:pt x="186" y="776"/>
                </a:lnTo>
                <a:lnTo>
                  <a:pt x="186" y="814"/>
                </a:lnTo>
                <a:lnTo>
                  <a:pt x="186" y="853"/>
                </a:lnTo>
                <a:lnTo>
                  <a:pt x="185" y="889"/>
                </a:lnTo>
                <a:lnTo>
                  <a:pt x="185" y="924"/>
                </a:lnTo>
                <a:lnTo>
                  <a:pt x="185" y="954"/>
                </a:lnTo>
                <a:lnTo>
                  <a:pt x="183" y="985"/>
                </a:lnTo>
                <a:lnTo>
                  <a:pt x="183" y="1014"/>
                </a:lnTo>
                <a:lnTo>
                  <a:pt x="181" y="1041"/>
                </a:lnTo>
                <a:lnTo>
                  <a:pt x="181" y="1054"/>
                </a:lnTo>
                <a:lnTo>
                  <a:pt x="181" y="1066"/>
                </a:lnTo>
                <a:lnTo>
                  <a:pt x="179" y="1077"/>
                </a:lnTo>
                <a:lnTo>
                  <a:pt x="179" y="1089"/>
                </a:lnTo>
                <a:lnTo>
                  <a:pt x="179" y="1100"/>
                </a:lnTo>
                <a:lnTo>
                  <a:pt x="177" y="1110"/>
                </a:lnTo>
                <a:lnTo>
                  <a:pt x="177" y="1119"/>
                </a:lnTo>
                <a:lnTo>
                  <a:pt x="175" y="1129"/>
                </a:lnTo>
                <a:lnTo>
                  <a:pt x="175" y="1137"/>
                </a:lnTo>
                <a:lnTo>
                  <a:pt x="173" y="1146"/>
                </a:lnTo>
                <a:lnTo>
                  <a:pt x="171" y="1162"/>
                </a:lnTo>
                <a:lnTo>
                  <a:pt x="169" y="1175"/>
                </a:lnTo>
                <a:lnTo>
                  <a:pt x="165" y="1190"/>
                </a:lnTo>
                <a:lnTo>
                  <a:pt x="163" y="1202"/>
                </a:lnTo>
                <a:lnTo>
                  <a:pt x="161" y="1215"/>
                </a:lnTo>
                <a:lnTo>
                  <a:pt x="160" y="1225"/>
                </a:lnTo>
                <a:lnTo>
                  <a:pt x="156" y="1237"/>
                </a:lnTo>
                <a:lnTo>
                  <a:pt x="154" y="1244"/>
                </a:lnTo>
                <a:lnTo>
                  <a:pt x="152" y="1252"/>
                </a:lnTo>
                <a:lnTo>
                  <a:pt x="150" y="1260"/>
                </a:lnTo>
                <a:lnTo>
                  <a:pt x="146" y="1265"/>
                </a:lnTo>
                <a:lnTo>
                  <a:pt x="144" y="1271"/>
                </a:lnTo>
                <a:lnTo>
                  <a:pt x="142" y="1275"/>
                </a:lnTo>
                <a:lnTo>
                  <a:pt x="140" y="1277"/>
                </a:lnTo>
                <a:lnTo>
                  <a:pt x="137" y="1279"/>
                </a:lnTo>
                <a:lnTo>
                  <a:pt x="135" y="1281"/>
                </a:lnTo>
                <a:lnTo>
                  <a:pt x="133" y="1277"/>
                </a:lnTo>
                <a:lnTo>
                  <a:pt x="131" y="1273"/>
                </a:lnTo>
                <a:lnTo>
                  <a:pt x="129" y="1269"/>
                </a:lnTo>
                <a:lnTo>
                  <a:pt x="125" y="1263"/>
                </a:lnTo>
                <a:lnTo>
                  <a:pt x="123" y="1258"/>
                </a:lnTo>
                <a:lnTo>
                  <a:pt x="121" y="1250"/>
                </a:lnTo>
                <a:lnTo>
                  <a:pt x="119" y="1242"/>
                </a:lnTo>
                <a:lnTo>
                  <a:pt x="115" y="1233"/>
                </a:lnTo>
                <a:lnTo>
                  <a:pt x="113" y="1223"/>
                </a:lnTo>
                <a:lnTo>
                  <a:pt x="112" y="1212"/>
                </a:lnTo>
                <a:lnTo>
                  <a:pt x="110" y="1198"/>
                </a:lnTo>
                <a:lnTo>
                  <a:pt x="106" y="1185"/>
                </a:lnTo>
                <a:lnTo>
                  <a:pt x="104" y="1171"/>
                </a:lnTo>
                <a:lnTo>
                  <a:pt x="102" y="1156"/>
                </a:lnTo>
                <a:lnTo>
                  <a:pt x="100" y="1139"/>
                </a:lnTo>
                <a:lnTo>
                  <a:pt x="98" y="1121"/>
                </a:lnTo>
                <a:lnTo>
                  <a:pt x="96" y="1114"/>
                </a:lnTo>
                <a:lnTo>
                  <a:pt x="94" y="1104"/>
                </a:lnTo>
                <a:lnTo>
                  <a:pt x="94" y="1094"/>
                </a:lnTo>
                <a:lnTo>
                  <a:pt x="92" y="1085"/>
                </a:lnTo>
                <a:lnTo>
                  <a:pt x="90" y="1073"/>
                </a:lnTo>
                <a:lnTo>
                  <a:pt x="90" y="1062"/>
                </a:lnTo>
                <a:lnTo>
                  <a:pt x="89" y="1050"/>
                </a:lnTo>
                <a:lnTo>
                  <a:pt x="89" y="1037"/>
                </a:lnTo>
                <a:lnTo>
                  <a:pt x="87" y="1023"/>
                </a:lnTo>
                <a:lnTo>
                  <a:pt x="87" y="1010"/>
                </a:lnTo>
                <a:lnTo>
                  <a:pt x="85" y="995"/>
                </a:lnTo>
                <a:lnTo>
                  <a:pt x="83" y="979"/>
                </a:lnTo>
                <a:lnTo>
                  <a:pt x="83" y="964"/>
                </a:lnTo>
                <a:lnTo>
                  <a:pt x="81" y="947"/>
                </a:lnTo>
                <a:lnTo>
                  <a:pt x="81" y="929"/>
                </a:lnTo>
                <a:lnTo>
                  <a:pt x="79" y="912"/>
                </a:lnTo>
                <a:lnTo>
                  <a:pt x="79" y="895"/>
                </a:lnTo>
                <a:lnTo>
                  <a:pt x="79" y="876"/>
                </a:lnTo>
                <a:lnTo>
                  <a:pt x="77" y="856"/>
                </a:lnTo>
                <a:lnTo>
                  <a:pt x="77" y="835"/>
                </a:lnTo>
                <a:lnTo>
                  <a:pt x="75" y="814"/>
                </a:lnTo>
                <a:lnTo>
                  <a:pt x="75" y="793"/>
                </a:lnTo>
                <a:lnTo>
                  <a:pt x="75" y="772"/>
                </a:lnTo>
                <a:lnTo>
                  <a:pt x="73" y="749"/>
                </a:lnTo>
                <a:lnTo>
                  <a:pt x="73" y="726"/>
                </a:lnTo>
                <a:lnTo>
                  <a:pt x="73" y="703"/>
                </a:lnTo>
                <a:lnTo>
                  <a:pt x="73" y="678"/>
                </a:lnTo>
                <a:lnTo>
                  <a:pt x="73" y="653"/>
                </a:lnTo>
                <a:lnTo>
                  <a:pt x="71" y="628"/>
                </a:lnTo>
                <a:lnTo>
                  <a:pt x="71" y="601"/>
                </a:lnTo>
                <a:lnTo>
                  <a:pt x="71" y="576"/>
                </a:lnTo>
                <a:lnTo>
                  <a:pt x="71" y="549"/>
                </a:lnTo>
                <a:lnTo>
                  <a:pt x="71" y="521"/>
                </a:lnTo>
                <a:lnTo>
                  <a:pt x="69" y="496"/>
                </a:lnTo>
                <a:lnTo>
                  <a:pt x="67" y="469"/>
                </a:lnTo>
                <a:lnTo>
                  <a:pt x="67" y="446"/>
                </a:lnTo>
                <a:lnTo>
                  <a:pt x="65" y="421"/>
                </a:lnTo>
                <a:lnTo>
                  <a:pt x="65" y="398"/>
                </a:lnTo>
                <a:lnTo>
                  <a:pt x="64" y="377"/>
                </a:lnTo>
                <a:lnTo>
                  <a:pt x="62" y="354"/>
                </a:lnTo>
                <a:lnTo>
                  <a:pt x="62" y="334"/>
                </a:lnTo>
                <a:lnTo>
                  <a:pt x="60" y="313"/>
                </a:lnTo>
                <a:lnTo>
                  <a:pt x="58" y="294"/>
                </a:lnTo>
                <a:lnTo>
                  <a:pt x="58" y="277"/>
                </a:lnTo>
                <a:lnTo>
                  <a:pt x="56" y="260"/>
                </a:lnTo>
                <a:lnTo>
                  <a:pt x="54" y="242"/>
                </a:lnTo>
                <a:lnTo>
                  <a:pt x="52" y="227"/>
                </a:lnTo>
                <a:lnTo>
                  <a:pt x="52" y="212"/>
                </a:lnTo>
                <a:lnTo>
                  <a:pt x="50" y="198"/>
                </a:lnTo>
                <a:lnTo>
                  <a:pt x="48" y="185"/>
                </a:lnTo>
                <a:lnTo>
                  <a:pt x="46" y="171"/>
                </a:lnTo>
                <a:lnTo>
                  <a:pt x="44" y="160"/>
                </a:lnTo>
                <a:lnTo>
                  <a:pt x="42" y="148"/>
                </a:lnTo>
                <a:lnTo>
                  <a:pt x="41" y="139"/>
                </a:lnTo>
                <a:lnTo>
                  <a:pt x="41" y="129"/>
                </a:lnTo>
                <a:lnTo>
                  <a:pt x="39" y="121"/>
                </a:lnTo>
                <a:lnTo>
                  <a:pt x="37" y="114"/>
                </a:lnTo>
                <a:lnTo>
                  <a:pt x="35" y="108"/>
                </a:lnTo>
                <a:lnTo>
                  <a:pt x="33" y="102"/>
                </a:lnTo>
                <a:lnTo>
                  <a:pt x="29" y="96"/>
                </a:lnTo>
                <a:lnTo>
                  <a:pt x="27" y="93"/>
                </a:lnTo>
                <a:lnTo>
                  <a:pt x="25" y="89"/>
                </a:lnTo>
                <a:lnTo>
                  <a:pt x="23" y="87"/>
                </a:lnTo>
                <a:lnTo>
                  <a:pt x="21" y="85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Freeform 185"/>
          <p:cNvSpPr/>
          <p:nvPr/>
        </p:nvSpPr>
        <p:spPr>
          <a:xfrm>
            <a:off x="6215040" y="4359240"/>
            <a:ext cx="1165320" cy="223920"/>
          </a:xfrm>
          <a:custGeom>
            <a:avLst/>
            <a:gdLst/>
            <a:ahLst/>
            <a:rect l="l" t="t" r="r" b="b"/>
            <a:pathLst>
              <a:path w="1466" h="280">
                <a:moveTo>
                  <a:pt x="1464" y="109"/>
                </a:moveTo>
                <a:lnTo>
                  <a:pt x="1462" y="111"/>
                </a:lnTo>
                <a:lnTo>
                  <a:pt x="1462" y="113"/>
                </a:lnTo>
                <a:lnTo>
                  <a:pt x="1461" y="115"/>
                </a:lnTo>
                <a:lnTo>
                  <a:pt x="1459" y="117"/>
                </a:lnTo>
                <a:lnTo>
                  <a:pt x="1457" y="119"/>
                </a:lnTo>
                <a:lnTo>
                  <a:pt x="1453" y="121"/>
                </a:lnTo>
                <a:lnTo>
                  <a:pt x="1449" y="123"/>
                </a:lnTo>
                <a:lnTo>
                  <a:pt x="1445" y="125"/>
                </a:lnTo>
                <a:lnTo>
                  <a:pt x="1437" y="128"/>
                </a:lnTo>
                <a:lnTo>
                  <a:pt x="1426" y="130"/>
                </a:lnTo>
                <a:lnTo>
                  <a:pt x="1414" y="132"/>
                </a:lnTo>
                <a:lnTo>
                  <a:pt x="1401" y="132"/>
                </a:lnTo>
                <a:lnTo>
                  <a:pt x="1393" y="132"/>
                </a:lnTo>
                <a:lnTo>
                  <a:pt x="1384" y="132"/>
                </a:lnTo>
                <a:lnTo>
                  <a:pt x="1374" y="132"/>
                </a:lnTo>
                <a:lnTo>
                  <a:pt x="1363" y="132"/>
                </a:lnTo>
                <a:lnTo>
                  <a:pt x="1349" y="132"/>
                </a:lnTo>
                <a:lnTo>
                  <a:pt x="1336" y="134"/>
                </a:lnTo>
                <a:lnTo>
                  <a:pt x="1322" y="134"/>
                </a:lnTo>
                <a:lnTo>
                  <a:pt x="1307" y="134"/>
                </a:lnTo>
                <a:lnTo>
                  <a:pt x="1290" y="134"/>
                </a:lnTo>
                <a:lnTo>
                  <a:pt x="1272" y="136"/>
                </a:lnTo>
                <a:lnTo>
                  <a:pt x="1253" y="136"/>
                </a:lnTo>
                <a:lnTo>
                  <a:pt x="1234" y="138"/>
                </a:lnTo>
                <a:lnTo>
                  <a:pt x="1215" y="140"/>
                </a:lnTo>
                <a:lnTo>
                  <a:pt x="1192" y="142"/>
                </a:lnTo>
                <a:lnTo>
                  <a:pt x="1171" y="144"/>
                </a:lnTo>
                <a:lnTo>
                  <a:pt x="1148" y="146"/>
                </a:lnTo>
                <a:lnTo>
                  <a:pt x="1123" y="148"/>
                </a:lnTo>
                <a:lnTo>
                  <a:pt x="1098" y="150"/>
                </a:lnTo>
                <a:lnTo>
                  <a:pt x="1071" y="153"/>
                </a:lnTo>
                <a:lnTo>
                  <a:pt x="1042" y="157"/>
                </a:lnTo>
                <a:lnTo>
                  <a:pt x="1013" y="161"/>
                </a:lnTo>
                <a:lnTo>
                  <a:pt x="982" y="165"/>
                </a:lnTo>
                <a:lnTo>
                  <a:pt x="952" y="169"/>
                </a:lnTo>
                <a:lnTo>
                  <a:pt x="919" y="173"/>
                </a:lnTo>
                <a:lnTo>
                  <a:pt x="885" y="176"/>
                </a:lnTo>
                <a:lnTo>
                  <a:pt x="850" y="182"/>
                </a:lnTo>
                <a:lnTo>
                  <a:pt x="814" y="188"/>
                </a:lnTo>
                <a:lnTo>
                  <a:pt x="775" y="194"/>
                </a:lnTo>
                <a:lnTo>
                  <a:pt x="737" y="199"/>
                </a:lnTo>
                <a:lnTo>
                  <a:pt x="698" y="205"/>
                </a:lnTo>
                <a:lnTo>
                  <a:pt x="656" y="211"/>
                </a:lnTo>
                <a:lnTo>
                  <a:pt x="614" y="219"/>
                </a:lnTo>
                <a:lnTo>
                  <a:pt x="593" y="222"/>
                </a:lnTo>
                <a:lnTo>
                  <a:pt x="570" y="224"/>
                </a:lnTo>
                <a:lnTo>
                  <a:pt x="549" y="228"/>
                </a:lnTo>
                <a:lnTo>
                  <a:pt x="527" y="232"/>
                </a:lnTo>
                <a:lnTo>
                  <a:pt x="508" y="234"/>
                </a:lnTo>
                <a:lnTo>
                  <a:pt x="489" y="238"/>
                </a:lnTo>
                <a:lnTo>
                  <a:pt x="470" y="240"/>
                </a:lnTo>
                <a:lnTo>
                  <a:pt x="451" y="244"/>
                </a:lnTo>
                <a:lnTo>
                  <a:pt x="431" y="246"/>
                </a:lnTo>
                <a:lnTo>
                  <a:pt x="414" y="249"/>
                </a:lnTo>
                <a:lnTo>
                  <a:pt x="397" y="251"/>
                </a:lnTo>
                <a:lnTo>
                  <a:pt x="382" y="253"/>
                </a:lnTo>
                <a:lnTo>
                  <a:pt x="364" y="257"/>
                </a:lnTo>
                <a:lnTo>
                  <a:pt x="349" y="259"/>
                </a:lnTo>
                <a:lnTo>
                  <a:pt x="334" y="261"/>
                </a:lnTo>
                <a:lnTo>
                  <a:pt x="320" y="263"/>
                </a:lnTo>
                <a:lnTo>
                  <a:pt x="305" y="265"/>
                </a:lnTo>
                <a:lnTo>
                  <a:pt x="291" y="267"/>
                </a:lnTo>
                <a:lnTo>
                  <a:pt x="280" y="269"/>
                </a:lnTo>
                <a:lnTo>
                  <a:pt x="266" y="270"/>
                </a:lnTo>
                <a:lnTo>
                  <a:pt x="255" y="270"/>
                </a:lnTo>
                <a:lnTo>
                  <a:pt x="243" y="272"/>
                </a:lnTo>
                <a:lnTo>
                  <a:pt x="232" y="274"/>
                </a:lnTo>
                <a:lnTo>
                  <a:pt x="222" y="274"/>
                </a:lnTo>
                <a:lnTo>
                  <a:pt x="213" y="276"/>
                </a:lnTo>
                <a:lnTo>
                  <a:pt x="203" y="276"/>
                </a:lnTo>
                <a:lnTo>
                  <a:pt x="193" y="278"/>
                </a:lnTo>
                <a:lnTo>
                  <a:pt x="186" y="278"/>
                </a:lnTo>
                <a:lnTo>
                  <a:pt x="178" y="278"/>
                </a:lnTo>
                <a:lnTo>
                  <a:pt x="170" y="278"/>
                </a:lnTo>
                <a:lnTo>
                  <a:pt x="165" y="278"/>
                </a:lnTo>
                <a:lnTo>
                  <a:pt x="159" y="280"/>
                </a:lnTo>
                <a:lnTo>
                  <a:pt x="144" y="278"/>
                </a:lnTo>
                <a:lnTo>
                  <a:pt x="130" y="278"/>
                </a:lnTo>
                <a:lnTo>
                  <a:pt x="119" y="278"/>
                </a:lnTo>
                <a:lnTo>
                  <a:pt x="105" y="276"/>
                </a:lnTo>
                <a:lnTo>
                  <a:pt x="96" y="274"/>
                </a:lnTo>
                <a:lnTo>
                  <a:pt x="84" y="274"/>
                </a:lnTo>
                <a:lnTo>
                  <a:pt x="74" y="270"/>
                </a:lnTo>
                <a:lnTo>
                  <a:pt x="65" y="269"/>
                </a:lnTo>
                <a:lnTo>
                  <a:pt x="55" y="265"/>
                </a:lnTo>
                <a:lnTo>
                  <a:pt x="48" y="263"/>
                </a:lnTo>
                <a:lnTo>
                  <a:pt x="42" y="259"/>
                </a:lnTo>
                <a:lnTo>
                  <a:pt x="36" y="253"/>
                </a:lnTo>
                <a:lnTo>
                  <a:pt x="30" y="249"/>
                </a:lnTo>
                <a:lnTo>
                  <a:pt x="25" y="244"/>
                </a:lnTo>
                <a:lnTo>
                  <a:pt x="21" y="238"/>
                </a:lnTo>
                <a:lnTo>
                  <a:pt x="19" y="230"/>
                </a:lnTo>
                <a:lnTo>
                  <a:pt x="15" y="226"/>
                </a:lnTo>
                <a:lnTo>
                  <a:pt x="11" y="222"/>
                </a:lnTo>
                <a:lnTo>
                  <a:pt x="7" y="219"/>
                </a:lnTo>
                <a:lnTo>
                  <a:pt x="5" y="215"/>
                </a:lnTo>
                <a:lnTo>
                  <a:pt x="1" y="211"/>
                </a:lnTo>
                <a:lnTo>
                  <a:pt x="1" y="207"/>
                </a:lnTo>
                <a:lnTo>
                  <a:pt x="0" y="205"/>
                </a:lnTo>
                <a:lnTo>
                  <a:pt x="0" y="203"/>
                </a:lnTo>
                <a:lnTo>
                  <a:pt x="0" y="201"/>
                </a:lnTo>
                <a:lnTo>
                  <a:pt x="1" y="199"/>
                </a:lnTo>
                <a:lnTo>
                  <a:pt x="1" y="198"/>
                </a:lnTo>
                <a:lnTo>
                  <a:pt x="5" y="196"/>
                </a:lnTo>
                <a:lnTo>
                  <a:pt x="7" y="196"/>
                </a:lnTo>
                <a:lnTo>
                  <a:pt x="11" y="194"/>
                </a:lnTo>
                <a:lnTo>
                  <a:pt x="15" y="194"/>
                </a:lnTo>
                <a:lnTo>
                  <a:pt x="19" y="194"/>
                </a:lnTo>
                <a:lnTo>
                  <a:pt x="23" y="194"/>
                </a:lnTo>
                <a:lnTo>
                  <a:pt x="26" y="194"/>
                </a:lnTo>
                <a:lnTo>
                  <a:pt x="30" y="192"/>
                </a:lnTo>
                <a:lnTo>
                  <a:pt x="38" y="192"/>
                </a:lnTo>
                <a:lnTo>
                  <a:pt x="46" y="190"/>
                </a:lnTo>
                <a:lnTo>
                  <a:pt x="53" y="190"/>
                </a:lnTo>
                <a:lnTo>
                  <a:pt x="63" y="188"/>
                </a:lnTo>
                <a:lnTo>
                  <a:pt x="74" y="186"/>
                </a:lnTo>
                <a:lnTo>
                  <a:pt x="86" y="184"/>
                </a:lnTo>
                <a:lnTo>
                  <a:pt x="99" y="182"/>
                </a:lnTo>
                <a:lnTo>
                  <a:pt x="113" y="180"/>
                </a:lnTo>
                <a:lnTo>
                  <a:pt x="128" y="178"/>
                </a:lnTo>
                <a:lnTo>
                  <a:pt x="144" y="176"/>
                </a:lnTo>
                <a:lnTo>
                  <a:pt x="159" y="174"/>
                </a:lnTo>
                <a:lnTo>
                  <a:pt x="178" y="173"/>
                </a:lnTo>
                <a:lnTo>
                  <a:pt x="195" y="171"/>
                </a:lnTo>
                <a:lnTo>
                  <a:pt x="205" y="169"/>
                </a:lnTo>
                <a:lnTo>
                  <a:pt x="216" y="167"/>
                </a:lnTo>
                <a:lnTo>
                  <a:pt x="226" y="167"/>
                </a:lnTo>
                <a:lnTo>
                  <a:pt x="238" y="165"/>
                </a:lnTo>
                <a:lnTo>
                  <a:pt x="251" y="163"/>
                </a:lnTo>
                <a:lnTo>
                  <a:pt x="263" y="161"/>
                </a:lnTo>
                <a:lnTo>
                  <a:pt x="276" y="159"/>
                </a:lnTo>
                <a:lnTo>
                  <a:pt x="289" y="157"/>
                </a:lnTo>
                <a:lnTo>
                  <a:pt x="303" y="155"/>
                </a:lnTo>
                <a:lnTo>
                  <a:pt x="318" y="153"/>
                </a:lnTo>
                <a:lnTo>
                  <a:pt x="334" y="151"/>
                </a:lnTo>
                <a:lnTo>
                  <a:pt x="349" y="150"/>
                </a:lnTo>
                <a:lnTo>
                  <a:pt x="364" y="148"/>
                </a:lnTo>
                <a:lnTo>
                  <a:pt x="382" y="146"/>
                </a:lnTo>
                <a:lnTo>
                  <a:pt x="399" y="142"/>
                </a:lnTo>
                <a:lnTo>
                  <a:pt x="416" y="140"/>
                </a:lnTo>
                <a:lnTo>
                  <a:pt x="435" y="136"/>
                </a:lnTo>
                <a:lnTo>
                  <a:pt x="455" y="134"/>
                </a:lnTo>
                <a:lnTo>
                  <a:pt x="474" y="130"/>
                </a:lnTo>
                <a:lnTo>
                  <a:pt x="493" y="126"/>
                </a:lnTo>
                <a:lnTo>
                  <a:pt x="514" y="123"/>
                </a:lnTo>
                <a:lnTo>
                  <a:pt x="535" y="119"/>
                </a:lnTo>
                <a:lnTo>
                  <a:pt x="556" y="115"/>
                </a:lnTo>
                <a:lnTo>
                  <a:pt x="579" y="111"/>
                </a:lnTo>
                <a:lnTo>
                  <a:pt x="602" y="107"/>
                </a:lnTo>
                <a:lnTo>
                  <a:pt x="625" y="103"/>
                </a:lnTo>
                <a:lnTo>
                  <a:pt x="650" y="98"/>
                </a:lnTo>
                <a:lnTo>
                  <a:pt x="675" y="94"/>
                </a:lnTo>
                <a:lnTo>
                  <a:pt x="700" y="88"/>
                </a:lnTo>
                <a:lnTo>
                  <a:pt x="725" y="82"/>
                </a:lnTo>
                <a:lnTo>
                  <a:pt x="752" y="79"/>
                </a:lnTo>
                <a:lnTo>
                  <a:pt x="779" y="73"/>
                </a:lnTo>
                <a:lnTo>
                  <a:pt x="804" y="67"/>
                </a:lnTo>
                <a:lnTo>
                  <a:pt x="831" y="63"/>
                </a:lnTo>
                <a:lnTo>
                  <a:pt x="854" y="59"/>
                </a:lnTo>
                <a:lnTo>
                  <a:pt x="879" y="54"/>
                </a:lnTo>
                <a:lnTo>
                  <a:pt x="902" y="50"/>
                </a:lnTo>
                <a:lnTo>
                  <a:pt x="923" y="46"/>
                </a:lnTo>
                <a:lnTo>
                  <a:pt x="946" y="44"/>
                </a:lnTo>
                <a:lnTo>
                  <a:pt x="967" y="40"/>
                </a:lnTo>
                <a:lnTo>
                  <a:pt x="986" y="36"/>
                </a:lnTo>
                <a:lnTo>
                  <a:pt x="1007" y="32"/>
                </a:lnTo>
                <a:lnTo>
                  <a:pt x="1027" y="31"/>
                </a:lnTo>
                <a:lnTo>
                  <a:pt x="1044" y="27"/>
                </a:lnTo>
                <a:lnTo>
                  <a:pt x="1063" y="25"/>
                </a:lnTo>
                <a:lnTo>
                  <a:pt x="1080" y="21"/>
                </a:lnTo>
                <a:lnTo>
                  <a:pt x="1096" y="19"/>
                </a:lnTo>
                <a:lnTo>
                  <a:pt x="1111" y="17"/>
                </a:lnTo>
                <a:lnTo>
                  <a:pt x="1126" y="15"/>
                </a:lnTo>
                <a:lnTo>
                  <a:pt x="1142" y="13"/>
                </a:lnTo>
                <a:lnTo>
                  <a:pt x="1155" y="11"/>
                </a:lnTo>
                <a:lnTo>
                  <a:pt x="1169" y="9"/>
                </a:lnTo>
                <a:lnTo>
                  <a:pt x="1180" y="7"/>
                </a:lnTo>
                <a:lnTo>
                  <a:pt x="1192" y="6"/>
                </a:lnTo>
                <a:lnTo>
                  <a:pt x="1203" y="4"/>
                </a:lnTo>
                <a:lnTo>
                  <a:pt x="1215" y="4"/>
                </a:lnTo>
                <a:lnTo>
                  <a:pt x="1224" y="2"/>
                </a:lnTo>
                <a:lnTo>
                  <a:pt x="1232" y="2"/>
                </a:lnTo>
                <a:lnTo>
                  <a:pt x="1242" y="0"/>
                </a:lnTo>
                <a:lnTo>
                  <a:pt x="1249" y="0"/>
                </a:lnTo>
                <a:lnTo>
                  <a:pt x="1257" y="0"/>
                </a:lnTo>
                <a:lnTo>
                  <a:pt x="1263" y="0"/>
                </a:lnTo>
                <a:lnTo>
                  <a:pt x="1269" y="0"/>
                </a:lnTo>
                <a:lnTo>
                  <a:pt x="1274" y="0"/>
                </a:lnTo>
                <a:lnTo>
                  <a:pt x="1288" y="0"/>
                </a:lnTo>
                <a:lnTo>
                  <a:pt x="1303" y="2"/>
                </a:lnTo>
                <a:lnTo>
                  <a:pt x="1320" y="4"/>
                </a:lnTo>
                <a:lnTo>
                  <a:pt x="1338" y="7"/>
                </a:lnTo>
                <a:lnTo>
                  <a:pt x="1357" y="13"/>
                </a:lnTo>
                <a:lnTo>
                  <a:pt x="1374" y="19"/>
                </a:lnTo>
                <a:lnTo>
                  <a:pt x="1393" y="27"/>
                </a:lnTo>
                <a:lnTo>
                  <a:pt x="1413" y="36"/>
                </a:lnTo>
                <a:lnTo>
                  <a:pt x="1426" y="44"/>
                </a:lnTo>
                <a:lnTo>
                  <a:pt x="1437" y="54"/>
                </a:lnTo>
                <a:lnTo>
                  <a:pt x="1443" y="59"/>
                </a:lnTo>
                <a:lnTo>
                  <a:pt x="1449" y="63"/>
                </a:lnTo>
                <a:lnTo>
                  <a:pt x="1453" y="67"/>
                </a:lnTo>
                <a:lnTo>
                  <a:pt x="1457" y="73"/>
                </a:lnTo>
                <a:lnTo>
                  <a:pt x="1461" y="77"/>
                </a:lnTo>
                <a:lnTo>
                  <a:pt x="1462" y="80"/>
                </a:lnTo>
                <a:lnTo>
                  <a:pt x="1464" y="86"/>
                </a:lnTo>
                <a:lnTo>
                  <a:pt x="1466" y="90"/>
                </a:lnTo>
                <a:lnTo>
                  <a:pt x="1466" y="96"/>
                </a:lnTo>
                <a:lnTo>
                  <a:pt x="1466" y="100"/>
                </a:lnTo>
                <a:lnTo>
                  <a:pt x="1466" y="103"/>
                </a:lnTo>
                <a:lnTo>
                  <a:pt x="1464" y="109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Freeform 186"/>
          <p:cNvSpPr/>
          <p:nvPr/>
        </p:nvSpPr>
        <p:spPr>
          <a:xfrm>
            <a:off x="6502320" y="4175280"/>
            <a:ext cx="633600" cy="149040"/>
          </a:xfrm>
          <a:custGeom>
            <a:avLst/>
            <a:gdLst/>
            <a:ahLst/>
            <a:rect l="l" t="t" r="r" b="b"/>
            <a:pathLst>
              <a:path w="799" h="188">
                <a:moveTo>
                  <a:pt x="381" y="157"/>
                </a:moveTo>
                <a:lnTo>
                  <a:pt x="352" y="163"/>
                </a:lnTo>
                <a:lnTo>
                  <a:pt x="321" y="167"/>
                </a:lnTo>
                <a:lnTo>
                  <a:pt x="294" y="170"/>
                </a:lnTo>
                <a:lnTo>
                  <a:pt x="267" y="174"/>
                </a:lnTo>
                <a:lnTo>
                  <a:pt x="242" y="176"/>
                </a:lnTo>
                <a:lnTo>
                  <a:pt x="219" y="180"/>
                </a:lnTo>
                <a:lnTo>
                  <a:pt x="196" y="182"/>
                </a:lnTo>
                <a:lnTo>
                  <a:pt x="175" y="184"/>
                </a:lnTo>
                <a:lnTo>
                  <a:pt x="156" y="186"/>
                </a:lnTo>
                <a:lnTo>
                  <a:pt x="139" y="186"/>
                </a:lnTo>
                <a:lnTo>
                  <a:pt x="121" y="188"/>
                </a:lnTo>
                <a:lnTo>
                  <a:pt x="106" y="188"/>
                </a:lnTo>
                <a:lnTo>
                  <a:pt x="93" y="186"/>
                </a:lnTo>
                <a:lnTo>
                  <a:pt x="83" y="186"/>
                </a:lnTo>
                <a:lnTo>
                  <a:pt x="71" y="184"/>
                </a:lnTo>
                <a:lnTo>
                  <a:pt x="64" y="182"/>
                </a:lnTo>
                <a:lnTo>
                  <a:pt x="50" y="178"/>
                </a:lnTo>
                <a:lnTo>
                  <a:pt x="39" y="172"/>
                </a:lnTo>
                <a:lnTo>
                  <a:pt x="27" y="168"/>
                </a:lnTo>
                <a:lnTo>
                  <a:pt x="18" y="163"/>
                </a:lnTo>
                <a:lnTo>
                  <a:pt x="14" y="161"/>
                </a:lnTo>
                <a:lnTo>
                  <a:pt x="12" y="159"/>
                </a:lnTo>
                <a:lnTo>
                  <a:pt x="8" y="157"/>
                </a:lnTo>
                <a:lnTo>
                  <a:pt x="6" y="155"/>
                </a:lnTo>
                <a:lnTo>
                  <a:pt x="4" y="153"/>
                </a:lnTo>
                <a:lnTo>
                  <a:pt x="2" y="149"/>
                </a:lnTo>
                <a:lnTo>
                  <a:pt x="0" y="147"/>
                </a:lnTo>
                <a:lnTo>
                  <a:pt x="0" y="145"/>
                </a:lnTo>
                <a:lnTo>
                  <a:pt x="0" y="144"/>
                </a:lnTo>
                <a:lnTo>
                  <a:pt x="0" y="142"/>
                </a:lnTo>
                <a:lnTo>
                  <a:pt x="2" y="140"/>
                </a:lnTo>
                <a:lnTo>
                  <a:pt x="4" y="138"/>
                </a:lnTo>
                <a:lnTo>
                  <a:pt x="6" y="136"/>
                </a:lnTo>
                <a:lnTo>
                  <a:pt x="8" y="134"/>
                </a:lnTo>
                <a:lnTo>
                  <a:pt x="12" y="132"/>
                </a:lnTo>
                <a:lnTo>
                  <a:pt x="18" y="130"/>
                </a:lnTo>
                <a:lnTo>
                  <a:pt x="22" y="128"/>
                </a:lnTo>
                <a:lnTo>
                  <a:pt x="27" y="126"/>
                </a:lnTo>
                <a:lnTo>
                  <a:pt x="35" y="122"/>
                </a:lnTo>
                <a:lnTo>
                  <a:pt x="41" y="120"/>
                </a:lnTo>
                <a:lnTo>
                  <a:pt x="48" y="119"/>
                </a:lnTo>
                <a:lnTo>
                  <a:pt x="58" y="115"/>
                </a:lnTo>
                <a:lnTo>
                  <a:pt x="66" y="113"/>
                </a:lnTo>
                <a:lnTo>
                  <a:pt x="75" y="109"/>
                </a:lnTo>
                <a:lnTo>
                  <a:pt x="85" y="107"/>
                </a:lnTo>
                <a:lnTo>
                  <a:pt x="96" y="103"/>
                </a:lnTo>
                <a:lnTo>
                  <a:pt x="108" y="99"/>
                </a:lnTo>
                <a:lnTo>
                  <a:pt x="119" y="97"/>
                </a:lnTo>
                <a:lnTo>
                  <a:pt x="133" y="94"/>
                </a:lnTo>
                <a:lnTo>
                  <a:pt x="146" y="90"/>
                </a:lnTo>
                <a:lnTo>
                  <a:pt x="160" y="88"/>
                </a:lnTo>
                <a:lnTo>
                  <a:pt x="173" y="84"/>
                </a:lnTo>
                <a:lnTo>
                  <a:pt x="189" y="80"/>
                </a:lnTo>
                <a:lnTo>
                  <a:pt x="204" y="78"/>
                </a:lnTo>
                <a:lnTo>
                  <a:pt x="221" y="74"/>
                </a:lnTo>
                <a:lnTo>
                  <a:pt x="239" y="71"/>
                </a:lnTo>
                <a:lnTo>
                  <a:pt x="256" y="67"/>
                </a:lnTo>
                <a:lnTo>
                  <a:pt x="273" y="63"/>
                </a:lnTo>
                <a:lnTo>
                  <a:pt x="292" y="61"/>
                </a:lnTo>
                <a:lnTo>
                  <a:pt x="311" y="57"/>
                </a:lnTo>
                <a:lnTo>
                  <a:pt x="329" y="53"/>
                </a:lnTo>
                <a:lnTo>
                  <a:pt x="346" y="49"/>
                </a:lnTo>
                <a:lnTo>
                  <a:pt x="363" y="48"/>
                </a:lnTo>
                <a:lnTo>
                  <a:pt x="381" y="44"/>
                </a:lnTo>
                <a:lnTo>
                  <a:pt x="398" y="40"/>
                </a:lnTo>
                <a:lnTo>
                  <a:pt x="413" y="38"/>
                </a:lnTo>
                <a:lnTo>
                  <a:pt x="429" y="34"/>
                </a:lnTo>
                <a:lnTo>
                  <a:pt x="442" y="32"/>
                </a:lnTo>
                <a:lnTo>
                  <a:pt x="457" y="30"/>
                </a:lnTo>
                <a:lnTo>
                  <a:pt x="471" y="26"/>
                </a:lnTo>
                <a:lnTo>
                  <a:pt x="484" y="25"/>
                </a:lnTo>
                <a:lnTo>
                  <a:pt x="496" y="23"/>
                </a:lnTo>
                <a:lnTo>
                  <a:pt x="509" y="21"/>
                </a:lnTo>
                <a:lnTo>
                  <a:pt x="521" y="17"/>
                </a:lnTo>
                <a:lnTo>
                  <a:pt x="532" y="15"/>
                </a:lnTo>
                <a:lnTo>
                  <a:pt x="542" y="13"/>
                </a:lnTo>
                <a:lnTo>
                  <a:pt x="551" y="11"/>
                </a:lnTo>
                <a:lnTo>
                  <a:pt x="571" y="9"/>
                </a:lnTo>
                <a:lnTo>
                  <a:pt x="588" y="5"/>
                </a:lnTo>
                <a:lnTo>
                  <a:pt x="603" y="3"/>
                </a:lnTo>
                <a:lnTo>
                  <a:pt x="617" y="1"/>
                </a:lnTo>
                <a:lnTo>
                  <a:pt x="628" y="0"/>
                </a:lnTo>
                <a:lnTo>
                  <a:pt x="640" y="0"/>
                </a:lnTo>
                <a:lnTo>
                  <a:pt x="647" y="0"/>
                </a:lnTo>
                <a:lnTo>
                  <a:pt x="661" y="0"/>
                </a:lnTo>
                <a:lnTo>
                  <a:pt x="674" y="0"/>
                </a:lnTo>
                <a:lnTo>
                  <a:pt x="686" y="0"/>
                </a:lnTo>
                <a:lnTo>
                  <a:pt x="697" y="1"/>
                </a:lnTo>
                <a:lnTo>
                  <a:pt x="711" y="1"/>
                </a:lnTo>
                <a:lnTo>
                  <a:pt x="722" y="5"/>
                </a:lnTo>
                <a:lnTo>
                  <a:pt x="736" y="7"/>
                </a:lnTo>
                <a:lnTo>
                  <a:pt x="749" y="11"/>
                </a:lnTo>
                <a:lnTo>
                  <a:pt x="755" y="13"/>
                </a:lnTo>
                <a:lnTo>
                  <a:pt x="763" y="17"/>
                </a:lnTo>
                <a:lnTo>
                  <a:pt x="768" y="19"/>
                </a:lnTo>
                <a:lnTo>
                  <a:pt x="772" y="21"/>
                </a:lnTo>
                <a:lnTo>
                  <a:pt x="778" y="23"/>
                </a:lnTo>
                <a:lnTo>
                  <a:pt x="782" y="25"/>
                </a:lnTo>
                <a:lnTo>
                  <a:pt x="786" y="26"/>
                </a:lnTo>
                <a:lnTo>
                  <a:pt x="788" y="30"/>
                </a:lnTo>
                <a:lnTo>
                  <a:pt x="793" y="34"/>
                </a:lnTo>
                <a:lnTo>
                  <a:pt x="797" y="38"/>
                </a:lnTo>
                <a:lnTo>
                  <a:pt x="799" y="44"/>
                </a:lnTo>
                <a:lnTo>
                  <a:pt x="799" y="48"/>
                </a:lnTo>
                <a:lnTo>
                  <a:pt x="799" y="49"/>
                </a:lnTo>
                <a:lnTo>
                  <a:pt x="797" y="53"/>
                </a:lnTo>
                <a:lnTo>
                  <a:pt x="797" y="55"/>
                </a:lnTo>
                <a:lnTo>
                  <a:pt x="795" y="57"/>
                </a:lnTo>
                <a:lnTo>
                  <a:pt x="791" y="59"/>
                </a:lnTo>
                <a:lnTo>
                  <a:pt x="788" y="61"/>
                </a:lnTo>
                <a:lnTo>
                  <a:pt x="784" y="63"/>
                </a:lnTo>
                <a:lnTo>
                  <a:pt x="780" y="67"/>
                </a:lnTo>
                <a:lnTo>
                  <a:pt x="774" y="69"/>
                </a:lnTo>
                <a:lnTo>
                  <a:pt x="770" y="71"/>
                </a:lnTo>
                <a:lnTo>
                  <a:pt x="763" y="72"/>
                </a:lnTo>
                <a:lnTo>
                  <a:pt x="757" y="74"/>
                </a:lnTo>
                <a:lnTo>
                  <a:pt x="749" y="78"/>
                </a:lnTo>
                <a:lnTo>
                  <a:pt x="742" y="80"/>
                </a:lnTo>
                <a:lnTo>
                  <a:pt x="732" y="82"/>
                </a:lnTo>
                <a:lnTo>
                  <a:pt x="724" y="84"/>
                </a:lnTo>
                <a:lnTo>
                  <a:pt x="711" y="88"/>
                </a:lnTo>
                <a:lnTo>
                  <a:pt x="697" y="90"/>
                </a:lnTo>
                <a:lnTo>
                  <a:pt x="682" y="94"/>
                </a:lnTo>
                <a:lnTo>
                  <a:pt x="667" y="96"/>
                </a:lnTo>
                <a:lnTo>
                  <a:pt x="649" y="99"/>
                </a:lnTo>
                <a:lnTo>
                  <a:pt x="630" y="103"/>
                </a:lnTo>
                <a:lnTo>
                  <a:pt x="611" y="107"/>
                </a:lnTo>
                <a:lnTo>
                  <a:pt x="590" y="111"/>
                </a:lnTo>
                <a:lnTo>
                  <a:pt x="569" y="117"/>
                </a:lnTo>
                <a:lnTo>
                  <a:pt x="546" y="122"/>
                </a:lnTo>
                <a:lnTo>
                  <a:pt x="521" y="126"/>
                </a:lnTo>
                <a:lnTo>
                  <a:pt x="496" y="132"/>
                </a:lnTo>
                <a:lnTo>
                  <a:pt x="469" y="138"/>
                </a:lnTo>
                <a:lnTo>
                  <a:pt x="440" y="144"/>
                </a:lnTo>
                <a:lnTo>
                  <a:pt x="411" y="151"/>
                </a:lnTo>
                <a:lnTo>
                  <a:pt x="381" y="15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Freeform 187"/>
          <p:cNvSpPr/>
          <p:nvPr/>
        </p:nvSpPr>
        <p:spPr>
          <a:xfrm>
            <a:off x="6472080" y="3962520"/>
            <a:ext cx="646200" cy="164880"/>
          </a:xfrm>
          <a:custGeom>
            <a:avLst/>
            <a:gdLst/>
            <a:ahLst/>
            <a:rect l="l" t="t" r="r" b="b"/>
            <a:pathLst>
              <a:path w="816" h="207">
                <a:moveTo>
                  <a:pt x="812" y="36"/>
                </a:moveTo>
                <a:lnTo>
                  <a:pt x="814" y="38"/>
                </a:lnTo>
                <a:lnTo>
                  <a:pt x="816" y="42"/>
                </a:lnTo>
                <a:lnTo>
                  <a:pt x="816" y="44"/>
                </a:lnTo>
                <a:lnTo>
                  <a:pt x="816" y="46"/>
                </a:lnTo>
                <a:lnTo>
                  <a:pt x="816" y="50"/>
                </a:lnTo>
                <a:lnTo>
                  <a:pt x="814" y="52"/>
                </a:lnTo>
                <a:lnTo>
                  <a:pt x="812" y="54"/>
                </a:lnTo>
                <a:lnTo>
                  <a:pt x="808" y="57"/>
                </a:lnTo>
                <a:lnTo>
                  <a:pt x="806" y="59"/>
                </a:lnTo>
                <a:lnTo>
                  <a:pt x="803" y="63"/>
                </a:lnTo>
                <a:lnTo>
                  <a:pt x="797" y="65"/>
                </a:lnTo>
                <a:lnTo>
                  <a:pt x="791" y="69"/>
                </a:lnTo>
                <a:lnTo>
                  <a:pt x="785" y="71"/>
                </a:lnTo>
                <a:lnTo>
                  <a:pt x="778" y="75"/>
                </a:lnTo>
                <a:lnTo>
                  <a:pt x="772" y="79"/>
                </a:lnTo>
                <a:lnTo>
                  <a:pt x="762" y="80"/>
                </a:lnTo>
                <a:lnTo>
                  <a:pt x="755" y="84"/>
                </a:lnTo>
                <a:lnTo>
                  <a:pt x="745" y="86"/>
                </a:lnTo>
                <a:lnTo>
                  <a:pt x="733" y="90"/>
                </a:lnTo>
                <a:lnTo>
                  <a:pt x="722" y="94"/>
                </a:lnTo>
                <a:lnTo>
                  <a:pt x="710" y="96"/>
                </a:lnTo>
                <a:lnTo>
                  <a:pt x="699" y="100"/>
                </a:lnTo>
                <a:lnTo>
                  <a:pt x="685" y="103"/>
                </a:lnTo>
                <a:lnTo>
                  <a:pt x="672" y="107"/>
                </a:lnTo>
                <a:lnTo>
                  <a:pt x="657" y="109"/>
                </a:lnTo>
                <a:lnTo>
                  <a:pt x="641" y="113"/>
                </a:lnTo>
                <a:lnTo>
                  <a:pt x="624" y="117"/>
                </a:lnTo>
                <a:lnTo>
                  <a:pt x="609" y="121"/>
                </a:lnTo>
                <a:lnTo>
                  <a:pt x="591" y="125"/>
                </a:lnTo>
                <a:lnTo>
                  <a:pt x="572" y="127"/>
                </a:lnTo>
                <a:lnTo>
                  <a:pt x="553" y="130"/>
                </a:lnTo>
                <a:lnTo>
                  <a:pt x="534" y="134"/>
                </a:lnTo>
                <a:lnTo>
                  <a:pt x="493" y="144"/>
                </a:lnTo>
                <a:lnTo>
                  <a:pt x="457" y="151"/>
                </a:lnTo>
                <a:lnTo>
                  <a:pt x="421" y="159"/>
                </a:lnTo>
                <a:lnTo>
                  <a:pt x="386" y="167"/>
                </a:lnTo>
                <a:lnTo>
                  <a:pt x="353" y="173"/>
                </a:lnTo>
                <a:lnTo>
                  <a:pt x="325" y="178"/>
                </a:lnTo>
                <a:lnTo>
                  <a:pt x="296" y="184"/>
                </a:lnTo>
                <a:lnTo>
                  <a:pt x="282" y="186"/>
                </a:lnTo>
                <a:lnTo>
                  <a:pt x="269" y="190"/>
                </a:lnTo>
                <a:lnTo>
                  <a:pt x="255" y="192"/>
                </a:lnTo>
                <a:lnTo>
                  <a:pt x="244" y="194"/>
                </a:lnTo>
                <a:lnTo>
                  <a:pt x="232" y="196"/>
                </a:lnTo>
                <a:lnTo>
                  <a:pt x="221" y="198"/>
                </a:lnTo>
                <a:lnTo>
                  <a:pt x="211" y="199"/>
                </a:lnTo>
                <a:lnTo>
                  <a:pt x="202" y="199"/>
                </a:lnTo>
                <a:lnTo>
                  <a:pt x="192" y="201"/>
                </a:lnTo>
                <a:lnTo>
                  <a:pt x="182" y="203"/>
                </a:lnTo>
                <a:lnTo>
                  <a:pt x="173" y="203"/>
                </a:lnTo>
                <a:lnTo>
                  <a:pt x="165" y="205"/>
                </a:lnTo>
                <a:lnTo>
                  <a:pt x="157" y="205"/>
                </a:lnTo>
                <a:lnTo>
                  <a:pt x="152" y="205"/>
                </a:lnTo>
                <a:lnTo>
                  <a:pt x="144" y="207"/>
                </a:lnTo>
                <a:lnTo>
                  <a:pt x="138" y="207"/>
                </a:lnTo>
                <a:lnTo>
                  <a:pt x="133" y="207"/>
                </a:lnTo>
                <a:lnTo>
                  <a:pt x="129" y="207"/>
                </a:lnTo>
                <a:lnTo>
                  <a:pt x="117" y="207"/>
                </a:lnTo>
                <a:lnTo>
                  <a:pt x="106" y="207"/>
                </a:lnTo>
                <a:lnTo>
                  <a:pt x="96" y="205"/>
                </a:lnTo>
                <a:lnTo>
                  <a:pt x="86" y="205"/>
                </a:lnTo>
                <a:lnTo>
                  <a:pt x="79" y="203"/>
                </a:lnTo>
                <a:lnTo>
                  <a:pt x="71" y="203"/>
                </a:lnTo>
                <a:lnTo>
                  <a:pt x="63" y="201"/>
                </a:lnTo>
                <a:lnTo>
                  <a:pt x="58" y="199"/>
                </a:lnTo>
                <a:lnTo>
                  <a:pt x="52" y="198"/>
                </a:lnTo>
                <a:lnTo>
                  <a:pt x="46" y="196"/>
                </a:lnTo>
                <a:lnTo>
                  <a:pt x="42" y="194"/>
                </a:lnTo>
                <a:lnTo>
                  <a:pt x="38" y="192"/>
                </a:lnTo>
                <a:lnTo>
                  <a:pt x="31" y="188"/>
                </a:lnTo>
                <a:lnTo>
                  <a:pt x="27" y="182"/>
                </a:lnTo>
                <a:lnTo>
                  <a:pt x="17" y="173"/>
                </a:lnTo>
                <a:lnTo>
                  <a:pt x="12" y="169"/>
                </a:lnTo>
                <a:lnTo>
                  <a:pt x="8" y="163"/>
                </a:lnTo>
                <a:lnTo>
                  <a:pt x="6" y="157"/>
                </a:lnTo>
                <a:lnTo>
                  <a:pt x="2" y="150"/>
                </a:lnTo>
                <a:lnTo>
                  <a:pt x="2" y="144"/>
                </a:lnTo>
                <a:lnTo>
                  <a:pt x="0" y="134"/>
                </a:lnTo>
                <a:lnTo>
                  <a:pt x="38" y="130"/>
                </a:lnTo>
                <a:lnTo>
                  <a:pt x="75" y="125"/>
                </a:lnTo>
                <a:lnTo>
                  <a:pt x="109" y="121"/>
                </a:lnTo>
                <a:lnTo>
                  <a:pt x="144" y="115"/>
                </a:lnTo>
                <a:lnTo>
                  <a:pt x="177" y="111"/>
                </a:lnTo>
                <a:lnTo>
                  <a:pt x="207" y="105"/>
                </a:lnTo>
                <a:lnTo>
                  <a:pt x="238" y="102"/>
                </a:lnTo>
                <a:lnTo>
                  <a:pt x="267" y="96"/>
                </a:lnTo>
                <a:lnTo>
                  <a:pt x="296" y="92"/>
                </a:lnTo>
                <a:lnTo>
                  <a:pt x="321" y="86"/>
                </a:lnTo>
                <a:lnTo>
                  <a:pt x="348" y="80"/>
                </a:lnTo>
                <a:lnTo>
                  <a:pt x="371" y="75"/>
                </a:lnTo>
                <a:lnTo>
                  <a:pt x="396" y="69"/>
                </a:lnTo>
                <a:lnTo>
                  <a:pt x="417" y="61"/>
                </a:lnTo>
                <a:lnTo>
                  <a:pt x="438" y="55"/>
                </a:lnTo>
                <a:lnTo>
                  <a:pt x="457" y="50"/>
                </a:lnTo>
                <a:lnTo>
                  <a:pt x="476" y="42"/>
                </a:lnTo>
                <a:lnTo>
                  <a:pt x="493" y="36"/>
                </a:lnTo>
                <a:lnTo>
                  <a:pt x="511" y="31"/>
                </a:lnTo>
                <a:lnTo>
                  <a:pt x="528" y="25"/>
                </a:lnTo>
                <a:lnTo>
                  <a:pt x="545" y="21"/>
                </a:lnTo>
                <a:lnTo>
                  <a:pt x="561" y="17"/>
                </a:lnTo>
                <a:lnTo>
                  <a:pt x="576" y="13"/>
                </a:lnTo>
                <a:lnTo>
                  <a:pt x="591" y="9"/>
                </a:lnTo>
                <a:lnTo>
                  <a:pt x="620" y="6"/>
                </a:lnTo>
                <a:lnTo>
                  <a:pt x="647" y="2"/>
                </a:lnTo>
                <a:lnTo>
                  <a:pt x="674" y="0"/>
                </a:lnTo>
                <a:lnTo>
                  <a:pt x="699" y="0"/>
                </a:lnTo>
                <a:lnTo>
                  <a:pt x="716" y="0"/>
                </a:lnTo>
                <a:lnTo>
                  <a:pt x="733" y="2"/>
                </a:lnTo>
                <a:lnTo>
                  <a:pt x="749" y="6"/>
                </a:lnTo>
                <a:lnTo>
                  <a:pt x="764" y="9"/>
                </a:lnTo>
                <a:lnTo>
                  <a:pt x="778" y="13"/>
                </a:lnTo>
                <a:lnTo>
                  <a:pt x="791" y="21"/>
                </a:lnTo>
                <a:lnTo>
                  <a:pt x="803" y="29"/>
                </a:lnTo>
                <a:lnTo>
                  <a:pt x="812" y="3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Freeform 188"/>
          <p:cNvSpPr/>
          <p:nvPr/>
        </p:nvSpPr>
        <p:spPr>
          <a:xfrm>
            <a:off x="6523200" y="3556080"/>
            <a:ext cx="1257120" cy="477720"/>
          </a:xfrm>
          <a:custGeom>
            <a:avLst/>
            <a:gdLst/>
            <a:ahLst/>
            <a:rect l="l" t="t" r="r" b="b"/>
            <a:pathLst>
              <a:path w="1584" h="603">
                <a:moveTo>
                  <a:pt x="1026" y="599"/>
                </a:moveTo>
                <a:lnTo>
                  <a:pt x="1022" y="597"/>
                </a:lnTo>
                <a:lnTo>
                  <a:pt x="1014" y="593"/>
                </a:lnTo>
                <a:lnTo>
                  <a:pt x="1006" y="592"/>
                </a:lnTo>
                <a:lnTo>
                  <a:pt x="997" y="586"/>
                </a:lnTo>
                <a:lnTo>
                  <a:pt x="985" y="582"/>
                </a:lnTo>
                <a:lnTo>
                  <a:pt x="972" y="574"/>
                </a:lnTo>
                <a:lnTo>
                  <a:pt x="956" y="568"/>
                </a:lnTo>
                <a:lnTo>
                  <a:pt x="939" y="559"/>
                </a:lnTo>
                <a:lnTo>
                  <a:pt x="920" y="551"/>
                </a:lnTo>
                <a:lnTo>
                  <a:pt x="901" y="542"/>
                </a:lnTo>
                <a:lnTo>
                  <a:pt x="878" y="530"/>
                </a:lnTo>
                <a:lnTo>
                  <a:pt x="855" y="519"/>
                </a:lnTo>
                <a:lnTo>
                  <a:pt x="828" y="505"/>
                </a:lnTo>
                <a:lnTo>
                  <a:pt x="801" y="492"/>
                </a:lnTo>
                <a:lnTo>
                  <a:pt x="770" y="476"/>
                </a:lnTo>
                <a:lnTo>
                  <a:pt x="739" y="461"/>
                </a:lnTo>
                <a:lnTo>
                  <a:pt x="707" y="444"/>
                </a:lnTo>
                <a:lnTo>
                  <a:pt x="672" y="425"/>
                </a:lnTo>
                <a:lnTo>
                  <a:pt x="636" y="405"/>
                </a:lnTo>
                <a:lnTo>
                  <a:pt x="597" y="386"/>
                </a:lnTo>
                <a:lnTo>
                  <a:pt x="557" y="365"/>
                </a:lnTo>
                <a:lnTo>
                  <a:pt x="515" y="344"/>
                </a:lnTo>
                <a:lnTo>
                  <a:pt x="471" y="319"/>
                </a:lnTo>
                <a:lnTo>
                  <a:pt x="427" y="296"/>
                </a:lnTo>
                <a:lnTo>
                  <a:pt x="379" y="271"/>
                </a:lnTo>
                <a:lnTo>
                  <a:pt x="331" y="244"/>
                </a:lnTo>
                <a:lnTo>
                  <a:pt x="279" y="215"/>
                </a:lnTo>
                <a:lnTo>
                  <a:pt x="227" y="188"/>
                </a:lnTo>
                <a:lnTo>
                  <a:pt x="173" y="158"/>
                </a:lnTo>
                <a:lnTo>
                  <a:pt x="117" y="127"/>
                </a:lnTo>
                <a:lnTo>
                  <a:pt x="58" y="94"/>
                </a:lnTo>
                <a:lnTo>
                  <a:pt x="0" y="62"/>
                </a:lnTo>
                <a:lnTo>
                  <a:pt x="18" y="31"/>
                </a:lnTo>
                <a:lnTo>
                  <a:pt x="37" y="0"/>
                </a:lnTo>
                <a:lnTo>
                  <a:pt x="100" y="31"/>
                </a:lnTo>
                <a:lnTo>
                  <a:pt x="162" y="58"/>
                </a:lnTo>
                <a:lnTo>
                  <a:pt x="221" y="85"/>
                </a:lnTo>
                <a:lnTo>
                  <a:pt x="279" y="110"/>
                </a:lnTo>
                <a:lnTo>
                  <a:pt x="336" y="133"/>
                </a:lnTo>
                <a:lnTo>
                  <a:pt x="390" y="156"/>
                </a:lnTo>
                <a:lnTo>
                  <a:pt x="444" y="175"/>
                </a:lnTo>
                <a:lnTo>
                  <a:pt x="496" y="194"/>
                </a:lnTo>
                <a:lnTo>
                  <a:pt x="544" y="213"/>
                </a:lnTo>
                <a:lnTo>
                  <a:pt x="594" y="231"/>
                </a:lnTo>
                <a:lnTo>
                  <a:pt x="640" y="246"/>
                </a:lnTo>
                <a:lnTo>
                  <a:pt x="684" y="259"/>
                </a:lnTo>
                <a:lnTo>
                  <a:pt x="728" y="273"/>
                </a:lnTo>
                <a:lnTo>
                  <a:pt x="770" y="284"/>
                </a:lnTo>
                <a:lnTo>
                  <a:pt x="810" y="296"/>
                </a:lnTo>
                <a:lnTo>
                  <a:pt x="849" y="306"/>
                </a:lnTo>
                <a:lnTo>
                  <a:pt x="885" y="317"/>
                </a:lnTo>
                <a:lnTo>
                  <a:pt x="924" y="329"/>
                </a:lnTo>
                <a:lnTo>
                  <a:pt x="960" y="338"/>
                </a:lnTo>
                <a:lnTo>
                  <a:pt x="995" y="348"/>
                </a:lnTo>
                <a:lnTo>
                  <a:pt x="1031" y="355"/>
                </a:lnTo>
                <a:lnTo>
                  <a:pt x="1066" y="365"/>
                </a:lnTo>
                <a:lnTo>
                  <a:pt x="1098" y="373"/>
                </a:lnTo>
                <a:lnTo>
                  <a:pt x="1131" y="378"/>
                </a:lnTo>
                <a:lnTo>
                  <a:pt x="1164" y="386"/>
                </a:lnTo>
                <a:lnTo>
                  <a:pt x="1196" y="392"/>
                </a:lnTo>
                <a:lnTo>
                  <a:pt x="1227" y="398"/>
                </a:lnTo>
                <a:lnTo>
                  <a:pt x="1256" y="402"/>
                </a:lnTo>
                <a:lnTo>
                  <a:pt x="1285" y="405"/>
                </a:lnTo>
                <a:lnTo>
                  <a:pt x="1313" y="409"/>
                </a:lnTo>
                <a:lnTo>
                  <a:pt x="1340" y="413"/>
                </a:lnTo>
                <a:lnTo>
                  <a:pt x="1367" y="415"/>
                </a:lnTo>
                <a:lnTo>
                  <a:pt x="1394" y="421"/>
                </a:lnTo>
                <a:lnTo>
                  <a:pt x="1417" y="425"/>
                </a:lnTo>
                <a:lnTo>
                  <a:pt x="1440" y="428"/>
                </a:lnTo>
                <a:lnTo>
                  <a:pt x="1461" y="434"/>
                </a:lnTo>
                <a:lnTo>
                  <a:pt x="1481" y="438"/>
                </a:lnTo>
                <a:lnTo>
                  <a:pt x="1498" y="442"/>
                </a:lnTo>
                <a:lnTo>
                  <a:pt x="1513" y="448"/>
                </a:lnTo>
                <a:lnTo>
                  <a:pt x="1528" y="451"/>
                </a:lnTo>
                <a:lnTo>
                  <a:pt x="1540" y="455"/>
                </a:lnTo>
                <a:lnTo>
                  <a:pt x="1552" y="459"/>
                </a:lnTo>
                <a:lnTo>
                  <a:pt x="1561" y="463"/>
                </a:lnTo>
                <a:lnTo>
                  <a:pt x="1569" y="465"/>
                </a:lnTo>
                <a:lnTo>
                  <a:pt x="1575" y="469"/>
                </a:lnTo>
                <a:lnTo>
                  <a:pt x="1580" y="471"/>
                </a:lnTo>
                <a:lnTo>
                  <a:pt x="1582" y="474"/>
                </a:lnTo>
                <a:lnTo>
                  <a:pt x="1584" y="476"/>
                </a:lnTo>
                <a:lnTo>
                  <a:pt x="1580" y="478"/>
                </a:lnTo>
                <a:lnTo>
                  <a:pt x="1576" y="482"/>
                </a:lnTo>
                <a:lnTo>
                  <a:pt x="1573" y="484"/>
                </a:lnTo>
                <a:lnTo>
                  <a:pt x="1569" y="488"/>
                </a:lnTo>
                <a:lnTo>
                  <a:pt x="1563" y="492"/>
                </a:lnTo>
                <a:lnTo>
                  <a:pt x="1557" y="494"/>
                </a:lnTo>
                <a:lnTo>
                  <a:pt x="1550" y="497"/>
                </a:lnTo>
                <a:lnTo>
                  <a:pt x="1542" y="501"/>
                </a:lnTo>
                <a:lnTo>
                  <a:pt x="1534" y="507"/>
                </a:lnTo>
                <a:lnTo>
                  <a:pt x="1525" y="511"/>
                </a:lnTo>
                <a:lnTo>
                  <a:pt x="1513" y="515"/>
                </a:lnTo>
                <a:lnTo>
                  <a:pt x="1502" y="519"/>
                </a:lnTo>
                <a:lnTo>
                  <a:pt x="1488" y="524"/>
                </a:lnTo>
                <a:lnTo>
                  <a:pt x="1475" y="528"/>
                </a:lnTo>
                <a:lnTo>
                  <a:pt x="1459" y="532"/>
                </a:lnTo>
                <a:lnTo>
                  <a:pt x="1444" y="538"/>
                </a:lnTo>
                <a:lnTo>
                  <a:pt x="1411" y="545"/>
                </a:lnTo>
                <a:lnTo>
                  <a:pt x="1379" y="553"/>
                </a:lnTo>
                <a:lnTo>
                  <a:pt x="1346" y="561"/>
                </a:lnTo>
                <a:lnTo>
                  <a:pt x="1313" y="567"/>
                </a:lnTo>
                <a:lnTo>
                  <a:pt x="1285" y="572"/>
                </a:lnTo>
                <a:lnTo>
                  <a:pt x="1256" y="576"/>
                </a:lnTo>
                <a:lnTo>
                  <a:pt x="1241" y="580"/>
                </a:lnTo>
                <a:lnTo>
                  <a:pt x="1227" y="582"/>
                </a:lnTo>
                <a:lnTo>
                  <a:pt x="1216" y="584"/>
                </a:lnTo>
                <a:lnTo>
                  <a:pt x="1204" y="586"/>
                </a:lnTo>
                <a:lnTo>
                  <a:pt x="1175" y="592"/>
                </a:lnTo>
                <a:lnTo>
                  <a:pt x="1148" y="595"/>
                </a:lnTo>
                <a:lnTo>
                  <a:pt x="1123" y="599"/>
                </a:lnTo>
                <a:lnTo>
                  <a:pt x="1100" y="601"/>
                </a:lnTo>
                <a:lnTo>
                  <a:pt x="1079" y="603"/>
                </a:lnTo>
                <a:lnTo>
                  <a:pt x="1068" y="603"/>
                </a:lnTo>
                <a:lnTo>
                  <a:pt x="1058" y="603"/>
                </a:lnTo>
                <a:lnTo>
                  <a:pt x="1050" y="603"/>
                </a:lnTo>
                <a:lnTo>
                  <a:pt x="1041" y="601"/>
                </a:lnTo>
                <a:lnTo>
                  <a:pt x="1033" y="601"/>
                </a:lnTo>
                <a:lnTo>
                  <a:pt x="1026" y="599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Freeform 189"/>
          <p:cNvSpPr/>
          <p:nvPr/>
        </p:nvSpPr>
        <p:spPr>
          <a:xfrm>
            <a:off x="6159600" y="3381480"/>
            <a:ext cx="1036440" cy="709560"/>
          </a:xfrm>
          <a:custGeom>
            <a:avLst/>
            <a:gdLst/>
            <a:ahLst/>
            <a:rect l="l" t="t" r="r" b="b"/>
            <a:pathLst>
              <a:path w="1307" h="894">
                <a:moveTo>
                  <a:pt x="1078" y="330"/>
                </a:moveTo>
                <a:lnTo>
                  <a:pt x="1065" y="341"/>
                </a:lnTo>
                <a:lnTo>
                  <a:pt x="1053" y="353"/>
                </a:lnTo>
                <a:lnTo>
                  <a:pt x="1038" y="366"/>
                </a:lnTo>
                <a:lnTo>
                  <a:pt x="1023" y="380"/>
                </a:lnTo>
                <a:lnTo>
                  <a:pt x="1007" y="393"/>
                </a:lnTo>
                <a:lnTo>
                  <a:pt x="990" y="408"/>
                </a:lnTo>
                <a:lnTo>
                  <a:pt x="971" y="422"/>
                </a:lnTo>
                <a:lnTo>
                  <a:pt x="952" y="439"/>
                </a:lnTo>
                <a:lnTo>
                  <a:pt x="931" y="454"/>
                </a:lnTo>
                <a:lnTo>
                  <a:pt x="908" y="472"/>
                </a:lnTo>
                <a:lnTo>
                  <a:pt x="885" y="489"/>
                </a:lnTo>
                <a:lnTo>
                  <a:pt x="860" y="506"/>
                </a:lnTo>
                <a:lnTo>
                  <a:pt x="835" y="525"/>
                </a:lnTo>
                <a:lnTo>
                  <a:pt x="808" y="545"/>
                </a:lnTo>
                <a:lnTo>
                  <a:pt x="779" y="564"/>
                </a:lnTo>
                <a:lnTo>
                  <a:pt x="748" y="585"/>
                </a:lnTo>
                <a:lnTo>
                  <a:pt x="718" y="606"/>
                </a:lnTo>
                <a:lnTo>
                  <a:pt x="689" y="625"/>
                </a:lnTo>
                <a:lnTo>
                  <a:pt x="658" y="643"/>
                </a:lnTo>
                <a:lnTo>
                  <a:pt x="627" y="662"/>
                </a:lnTo>
                <a:lnTo>
                  <a:pt x="598" y="679"/>
                </a:lnTo>
                <a:lnTo>
                  <a:pt x="568" y="694"/>
                </a:lnTo>
                <a:lnTo>
                  <a:pt x="537" y="710"/>
                </a:lnTo>
                <a:lnTo>
                  <a:pt x="508" y="725"/>
                </a:lnTo>
                <a:lnTo>
                  <a:pt x="478" y="740"/>
                </a:lnTo>
                <a:lnTo>
                  <a:pt x="449" y="754"/>
                </a:lnTo>
                <a:lnTo>
                  <a:pt x="389" y="781"/>
                </a:lnTo>
                <a:lnTo>
                  <a:pt x="328" y="806"/>
                </a:lnTo>
                <a:lnTo>
                  <a:pt x="266" y="829"/>
                </a:lnTo>
                <a:lnTo>
                  <a:pt x="238" y="840"/>
                </a:lnTo>
                <a:lnTo>
                  <a:pt x="209" y="850"/>
                </a:lnTo>
                <a:lnTo>
                  <a:pt x="182" y="858"/>
                </a:lnTo>
                <a:lnTo>
                  <a:pt x="157" y="865"/>
                </a:lnTo>
                <a:lnTo>
                  <a:pt x="136" y="873"/>
                </a:lnTo>
                <a:lnTo>
                  <a:pt x="115" y="879"/>
                </a:lnTo>
                <a:lnTo>
                  <a:pt x="96" y="882"/>
                </a:lnTo>
                <a:lnTo>
                  <a:pt x="76" y="886"/>
                </a:lnTo>
                <a:lnTo>
                  <a:pt x="61" y="890"/>
                </a:lnTo>
                <a:lnTo>
                  <a:pt x="48" y="892"/>
                </a:lnTo>
                <a:lnTo>
                  <a:pt x="36" y="894"/>
                </a:lnTo>
                <a:lnTo>
                  <a:pt x="24" y="894"/>
                </a:lnTo>
                <a:lnTo>
                  <a:pt x="17" y="894"/>
                </a:lnTo>
                <a:lnTo>
                  <a:pt x="9" y="894"/>
                </a:lnTo>
                <a:lnTo>
                  <a:pt x="3" y="892"/>
                </a:lnTo>
                <a:lnTo>
                  <a:pt x="1" y="890"/>
                </a:lnTo>
                <a:lnTo>
                  <a:pt x="0" y="886"/>
                </a:lnTo>
                <a:lnTo>
                  <a:pt x="0" y="884"/>
                </a:lnTo>
                <a:lnTo>
                  <a:pt x="1" y="881"/>
                </a:lnTo>
                <a:lnTo>
                  <a:pt x="5" y="877"/>
                </a:lnTo>
                <a:lnTo>
                  <a:pt x="11" y="871"/>
                </a:lnTo>
                <a:lnTo>
                  <a:pt x="17" y="867"/>
                </a:lnTo>
                <a:lnTo>
                  <a:pt x="26" y="861"/>
                </a:lnTo>
                <a:lnTo>
                  <a:pt x="36" y="856"/>
                </a:lnTo>
                <a:lnTo>
                  <a:pt x="48" y="848"/>
                </a:lnTo>
                <a:lnTo>
                  <a:pt x="61" y="842"/>
                </a:lnTo>
                <a:lnTo>
                  <a:pt x="74" y="834"/>
                </a:lnTo>
                <a:lnTo>
                  <a:pt x="90" y="827"/>
                </a:lnTo>
                <a:lnTo>
                  <a:pt x="107" y="819"/>
                </a:lnTo>
                <a:lnTo>
                  <a:pt x="126" y="810"/>
                </a:lnTo>
                <a:lnTo>
                  <a:pt x="145" y="802"/>
                </a:lnTo>
                <a:lnTo>
                  <a:pt x="167" y="792"/>
                </a:lnTo>
                <a:lnTo>
                  <a:pt x="209" y="773"/>
                </a:lnTo>
                <a:lnTo>
                  <a:pt x="251" y="752"/>
                </a:lnTo>
                <a:lnTo>
                  <a:pt x="295" y="731"/>
                </a:lnTo>
                <a:lnTo>
                  <a:pt x="339" y="708"/>
                </a:lnTo>
                <a:lnTo>
                  <a:pt x="360" y="696"/>
                </a:lnTo>
                <a:lnTo>
                  <a:pt x="383" y="683"/>
                </a:lnTo>
                <a:lnTo>
                  <a:pt x="405" y="671"/>
                </a:lnTo>
                <a:lnTo>
                  <a:pt x="428" y="656"/>
                </a:lnTo>
                <a:lnTo>
                  <a:pt x="451" y="643"/>
                </a:lnTo>
                <a:lnTo>
                  <a:pt x="474" y="627"/>
                </a:lnTo>
                <a:lnTo>
                  <a:pt x="497" y="614"/>
                </a:lnTo>
                <a:lnTo>
                  <a:pt x="522" y="596"/>
                </a:lnTo>
                <a:lnTo>
                  <a:pt x="568" y="570"/>
                </a:lnTo>
                <a:lnTo>
                  <a:pt x="614" y="539"/>
                </a:lnTo>
                <a:lnTo>
                  <a:pt x="658" y="510"/>
                </a:lnTo>
                <a:lnTo>
                  <a:pt x="700" y="477"/>
                </a:lnTo>
                <a:lnTo>
                  <a:pt x="719" y="462"/>
                </a:lnTo>
                <a:lnTo>
                  <a:pt x="741" y="445"/>
                </a:lnTo>
                <a:lnTo>
                  <a:pt x="760" y="429"/>
                </a:lnTo>
                <a:lnTo>
                  <a:pt x="779" y="412"/>
                </a:lnTo>
                <a:lnTo>
                  <a:pt x="798" y="395"/>
                </a:lnTo>
                <a:lnTo>
                  <a:pt x="815" y="378"/>
                </a:lnTo>
                <a:lnTo>
                  <a:pt x="833" y="358"/>
                </a:lnTo>
                <a:lnTo>
                  <a:pt x="850" y="341"/>
                </a:lnTo>
                <a:lnTo>
                  <a:pt x="865" y="322"/>
                </a:lnTo>
                <a:lnTo>
                  <a:pt x="881" y="307"/>
                </a:lnTo>
                <a:lnTo>
                  <a:pt x="894" y="291"/>
                </a:lnTo>
                <a:lnTo>
                  <a:pt x="908" y="276"/>
                </a:lnTo>
                <a:lnTo>
                  <a:pt x="917" y="262"/>
                </a:lnTo>
                <a:lnTo>
                  <a:pt x="929" y="251"/>
                </a:lnTo>
                <a:lnTo>
                  <a:pt x="936" y="239"/>
                </a:lnTo>
                <a:lnTo>
                  <a:pt x="944" y="230"/>
                </a:lnTo>
                <a:lnTo>
                  <a:pt x="952" y="220"/>
                </a:lnTo>
                <a:lnTo>
                  <a:pt x="957" y="213"/>
                </a:lnTo>
                <a:lnTo>
                  <a:pt x="961" y="205"/>
                </a:lnTo>
                <a:lnTo>
                  <a:pt x="963" y="199"/>
                </a:lnTo>
                <a:lnTo>
                  <a:pt x="965" y="193"/>
                </a:lnTo>
                <a:lnTo>
                  <a:pt x="967" y="190"/>
                </a:lnTo>
                <a:lnTo>
                  <a:pt x="965" y="186"/>
                </a:lnTo>
                <a:lnTo>
                  <a:pt x="965" y="182"/>
                </a:lnTo>
                <a:lnTo>
                  <a:pt x="963" y="182"/>
                </a:lnTo>
                <a:lnTo>
                  <a:pt x="959" y="182"/>
                </a:lnTo>
                <a:lnTo>
                  <a:pt x="957" y="182"/>
                </a:lnTo>
                <a:lnTo>
                  <a:pt x="954" y="182"/>
                </a:lnTo>
                <a:lnTo>
                  <a:pt x="950" y="182"/>
                </a:lnTo>
                <a:lnTo>
                  <a:pt x="944" y="182"/>
                </a:lnTo>
                <a:lnTo>
                  <a:pt x="938" y="182"/>
                </a:lnTo>
                <a:lnTo>
                  <a:pt x="931" y="182"/>
                </a:lnTo>
                <a:lnTo>
                  <a:pt x="923" y="182"/>
                </a:lnTo>
                <a:lnTo>
                  <a:pt x="915" y="182"/>
                </a:lnTo>
                <a:lnTo>
                  <a:pt x="908" y="182"/>
                </a:lnTo>
                <a:lnTo>
                  <a:pt x="898" y="182"/>
                </a:lnTo>
                <a:lnTo>
                  <a:pt x="886" y="182"/>
                </a:lnTo>
                <a:lnTo>
                  <a:pt x="875" y="182"/>
                </a:lnTo>
                <a:lnTo>
                  <a:pt x="863" y="182"/>
                </a:lnTo>
                <a:lnTo>
                  <a:pt x="852" y="182"/>
                </a:lnTo>
                <a:lnTo>
                  <a:pt x="838" y="182"/>
                </a:lnTo>
                <a:lnTo>
                  <a:pt x="825" y="182"/>
                </a:lnTo>
                <a:lnTo>
                  <a:pt x="810" y="182"/>
                </a:lnTo>
                <a:lnTo>
                  <a:pt x="794" y="182"/>
                </a:lnTo>
                <a:lnTo>
                  <a:pt x="779" y="182"/>
                </a:lnTo>
                <a:lnTo>
                  <a:pt x="762" y="182"/>
                </a:lnTo>
                <a:lnTo>
                  <a:pt x="744" y="182"/>
                </a:lnTo>
                <a:lnTo>
                  <a:pt x="727" y="182"/>
                </a:lnTo>
                <a:lnTo>
                  <a:pt x="708" y="182"/>
                </a:lnTo>
                <a:lnTo>
                  <a:pt x="689" y="182"/>
                </a:lnTo>
                <a:lnTo>
                  <a:pt x="670" y="182"/>
                </a:lnTo>
                <a:lnTo>
                  <a:pt x="648" y="182"/>
                </a:lnTo>
                <a:lnTo>
                  <a:pt x="627" y="182"/>
                </a:lnTo>
                <a:lnTo>
                  <a:pt x="604" y="182"/>
                </a:lnTo>
                <a:lnTo>
                  <a:pt x="581" y="182"/>
                </a:lnTo>
                <a:lnTo>
                  <a:pt x="558" y="182"/>
                </a:lnTo>
                <a:lnTo>
                  <a:pt x="568" y="170"/>
                </a:lnTo>
                <a:lnTo>
                  <a:pt x="577" y="161"/>
                </a:lnTo>
                <a:lnTo>
                  <a:pt x="587" y="151"/>
                </a:lnTo>
                <a:lnTo>
                  <a:pt x="597" y="143"/>
                </a:lnTo>
                <a:lnTo>
                  <a:pt x="606" y="136"/>
                </a:lnTo>
                <a:lnTo>
                  <a:pt x="614" y="128"/>
                </a:lnTo>
                <a:lnTo>
                  <a:pt x="623" y="122"/>
                </a:lnTo>
                <a:lnTo>
                  <a:pt x="633" y="117"/>
                </a:lnTo>
                <a:lnTo>
                  <a:pt x="641" y="113"/>
                </a:lnTo>
                <a:lnTo>
                  <a:pt x="650" y="107"/>
                </a:lnTo>
                <a:lnTo>
                  <a:pt x="658" y="105"/>
                </a:lnTo>
                <a:lnTo>
                  <a:pt x="668" y="101"/>
                </a:lnTo>
                <a:lnTo>
                  <a:pt x="675" y="99"/>
                </a:lnTo>
                <a:lnTo>
                  <a:pt x="683" y="97"/>
                </a:lnTo>
                <a:lnTo>
                  <a:pt x="691" y="97"/>
                </a:lnTo>
                <a:lnTo>
                  <a:pt x="698" y="97"/>
                </a:lnTo>
                <a:lnTo>
                  <a:pt x="706" y="99"/>
                </a:lnTo>
                <a:lnTo>
                  <a:pt x="714" y="101"/>
                </a:lnTo>
                <a:lnTo>
                  <a:pt x="723" y="101"/>
                </a:lnTo>
                <a:lnTo>
                  <a:pt x="733" y="101"/>
                </a:lnTo>
                <a:lnTo>
                  <a:pt x="744" y="103"/>
                </a:lnTo>
                <a:lnTo>
                  <a:pt x="756" y="101"/>
                </a:lnTo>
                <a:lnTo>
                  <a:pt x="767" y="101"/>
                </a:lnTo>
                <a:lnTo>
                  <a:pt x="781" y="101"/>
                </a:lnTo>
                <a:lnTo>
                  <a:pt x="794" y="99"/>
                </a:lnTo>
                <a:lnTo>
                  <a:pt x="808" y="97"/>
                </a:lnTo>
                <a:lnTo>
                  <a:pt x="821" y="95"/>
                </a:lnTo>
                <a:lnTo>
                  <a:pt x="837" y="94"/>
                </a:lnTo>
                <a:lnTo>
                  <a:pt x="869" y="90"/>
                </a:lnTo>
                <a:lnTo>
                  <a:pt x="902" y="86"/>
                </a:lnTo>
                <a:lnTo>
                  <a:pt x="917" y="82"/>
                </a:lnTo>
                <a:lnTo>
                  <a:pt x="933" y="80"/>
                </a:lnTo>
                <a:lnTo>
                  <a:pt x="946" y="78"/>
                </a:lnTo>
                <a:lnTo>
                  <a:pt x="961" y="76"/>
                </a:lnTo>
                <a:lnTo>
                  <a:pt x="973" y="72"/>
                </a:lnTo>
                <a:lnTo>
                  <a:pt x="986" y="71"/>
                </a:lnTo>
                <a:lnTo>
                  <a:pt x="996" y="69"/>
                </a:lnTo>
                <a:lnTo>
                  <a:pt x="1007" y="65"/>
                </a:lnTo>
                <a:lnTo>
                  <a:pt x="1017" y="63"/>
                </a:lnTo>
                <a:lnTo>
                  <a:pt x="1027" y="59"/>
                </a:lnTo>
                <a:lnTo>
                  <a:pt x="1034" y="55"/>
                </a:lnTo>
                <a:lnTo>
                  <a:pt x="1042" y="53"/>
                </a:lnTo>
                <a:lnTo>
                  <a:pt x="1048" y="49"/>
                </a:lnTo>
                <a:lnTo>
                  <a:pt x="1055" y="46"/>
                </a:lnTo>
                <a:lnTo>
                  <a:pt x="1061" y="40"/>
                </a:lnTo>
                <a:lnTo>
                  <a:pt x="1065" y="36"/>
                </a:lnTo>
                <a:lnTo>
                  <a:pt x="1071" y="32"/>
                </a:lnTo>
                <a:lnTo>
                  <a:pt x="1077" y="26"/>
                </a:lnTo>
                <a:lnTo>
                  <a:pt x="1084" y="23"/>
                </a:lnTo>
                <a:lnTo>
                  <a:pt x="1092" y="19"/>
                </a:lnTo>
                <a:lnTo>
                  <a:pt x="1098" y="13"/>
                </a:lnTo>
                <a:lnTo>
                  <a:pt x="1105" y="9"/>
                </a:lnTo>
                <a:lnTo>
                  <a:pt x="1111" y="3"/>
                </a:lnTo>
                <a:lnTo>
                  <a:pt x="1117" y="0"/>
                </a:lnTo>
                <a:lnTo>
                  <a:pt x="1119" y="0"/>
                </a:lnTo>
                <a:lnTo>
                  <a:pt x="1123" y="1"/>
                </a:lnTo>
                <a:lnTo>
                  <a:pt x="1126" y="1"/>
                </a:lnTo>
                <a:lnTo>
                  <a:pt x="1130" y="3"/>
                </a:lnTo>
                <a:lnTo>
                  <a:pt x="1136" y="7"/>
                </a:lnTo>
                <a:lnTo>
                  <a:pt x="1142" y="9"/>
                </a:lnTo>
                <a:lnTo>
                  <a:pt x="1148" y="13"/>
                </a:lnTo>
                <a:lnTo>
                  <a:pt x="1155" y="17"/>
                </a:lnTo>
                <a:lnTo>
                  <a:pt x="1161" y="21"/>
                </a:lnTo>
                <a:lnTo>
                  <a:pt x="1171" y="24"/>
                </a:lnTo>
                <a:lnTo>
                  <a:pt x="1178" y="30"/>
                </a:lnTo>
                <a:lnTo>
                  <a:pt x="1188" y="36"/>
                </a:lnTo>
                <a:lnTo>
                  <a:pt x="1197" y="42"/>
                </a:lnTo>
                <a:lnTo>
                  <a:pt x="1207" y="48"/>
                </a:lnTo>
                <a:lnTo>
                  <a:pt x="1219" y="53"/>
                </a:lnTo>
                <a:lnTo>
                  <a:pt x="1230" y="61"/>
                </a:lnTo>
                <a:lnTo>
                  <a:pt x="1240" y="67"/>
                </a:lnTo>
                <a:lnTo>
                  <a:pt x="1247" y="74"/>
                </a:lnTo>
                <a:lnTo>
                  <a:pt x="1255" y="80"/>
                </a:lnTo>
                <a:lnTo>
                  <a:pt x="1263" y="88"/>
                </a:lnTo>
                <a:lnTo>
                  <a:pt x="1270" y="94"/>
                </a:lnTo>
                <a:lnTo>
                  <a:pt x="1276" y="101"/>
                </a:lnTo>
                <a:lnTo>
                  <a:pt x="1282" y="107"/>
                </a:lnTo>
                <a:lnTo>
                  <a:pt x="1288" y="113"/>
                </a:lnTo>
                <a:lnTo>
                  <a:pt x="1292" y="119"/>
                </a:lnTo>
                <a:lnTo>
                  <a:pt x="1295" y="124"/>
                </a:lnTo>
                <a:lnTo>
                  <a:pt x="1299" y="128"/>
                </a:lnTo>
                <a:lnTo>
                  <a:pt x="1301" y="132"/>
                </a:lnTo>
                <a:lnTo>
                  <a:pt x="1303" y="136"/>
                </a:lnTo>
                <a:lnTo>
                  <a:pt x="1305" y="140"/>
                </a:lnTo>
                <a:lnTo>
                  <a:pt x="1307" y="143"/>
                </a:lnTo>
                <a:lnTo>
                  <a:pt x="1307" y="145"/>
                </a:lnTo>
                <a:lnTo>
                  <a:pt x="1307" y="151"/>
                </a:lnTo>
                <a:lnTo>
                  <a:pt x="1305" y="155"/>
                </a:lnTo>
                <a:lnTo>
                  <a:pt x="1303" y="159"/>
                </a:lnTo>
                <a:lnTo>
                  <a:pt x="1301" y="163"/>
                </a:lnTo>
                <a:lnTo>
                  <a:pt x="1299" y="167"/>
                </a:lnTo>
                <a:lnTo>
                  <a:pt x="1297" y="168"/>
                </a:lnTo>
                <a:lnTo>
                  <a:pt x="1293" y="172"/>
                </a:lnTo>
                <a:lnTo>
                  <a:pt x="1290" y="174"/>
                </a:lnTo>
                <a:lnTo>
                  <a:pt x="1280" y="180"/>
                </a:lnTo>
                <a:lnTo>
                  <a:pt x="1268" y="186"/>
                </a:lnTo>
                <a:lnTo>
                  <a:pt x="1257" y="190"/>
                </a:lnTo>
                <a:lnTo>
                  <a:pt x="1244" y="195"/>
                </a:lnTo>
                <a:lnTo>
                  <a:pt x="1236" y="197"/>
                </a:lnTo>
                <a:lnTo>
                  <a:pt x="1228" y="201"/>
                </a:lnTo>
                <a:lnTo>
                  <a:pt x="1219" y="205"/>
                </a:lnTo>
                <a:lnTo>
                  <a:pt x="1211" y="211"/>
                </a:lnTo>
                <a:lnTo>
                  <a:pt x="1201" y="216"/>
                </a:lnTo>
                <a:lnTo>
                  <a:pt x="1192" y="222"/>
                </a:lnTo>
                <a:lnTo>
                  <a:pt x="1180" y="230"/>
                </a:lnTo>
                <a:lnTo>
                  <a:pt x="1171" y="239"/>
                </a:lnTo>
                <a:lnTo>
                  <a:pt x="1159" y="247"/>
                </a:lnTo>
                <a:lnTo>
                  <a:pt x="1148" y="257"/>
                </a:lnTo>
                <a:lnTo>
                  <a:pt x="1136" y="268"/>
                </a:lnTo>
                <a:lnTo>
                  <a:pt x="1125" y="278"/>
                </a:lnTo>
                <a:lnTo>
                  <a:pt x="1113" y="289"/>
                </a:lnTo>
                <a:lnTo>
                  <a:pt x="1101" y="303"/>
                </a:lnTo>
                <a:lnTo>
                  <a:pt x="1090" y="314"/>
                </a:lnTo>
                <a:lnTo>
                  <a:pt x="1078" y="33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Freeform 190"/>
          <p:cNvSpPr/>
          <p:nvPr/>
        </p:nvSpPr>
        <p:spPr>
          <a:xfrm>
            <a:off x="6280200" y="3330720"/>
            <a:ext cx="485640" cy="450720"/>
          </a:xfrm>
          <a:custGeom>
            <a:avLst/>
            <a:gdLst/>
            <a:ahLst/>
            <a:rect l="l" t="t" r="r" b="b"/>
            <a:pathLst>
              <a:path w="613" h="568">
                <a:moveTo>
                  <a:pt x="611" y="102"/>
                </a:moveTo>
                <a:lnTo>
                  <a:pt x="613" y="108"/>
                </a:lnTo>
                <a:lnTo>
                  <a:pt x="613" y="112"/>
                </a:lnTo>
                <a:lnTo>
                  <a:pt x="613" y="117"/>
                </a:lnTo>
                <a:lnTo>
                  <a:pt x="611" y="125"/>
                </a:lnTo>
                <a:lnTo>
                  <a:pt x="607" y="133"/>
                </a:lnTo>
                <a:lnTo>
                  <a:pt x="603" y="140"/>
                </a:lnTo>
                <a:lnTo>
                  <a:pt x="597" y="148"/>
                </a:lnTo>
                <a:lnTo>
                  <a:pt x="591" y="156"/>
                </a:lnTo>
                <a:lnTo>
                  <a:pt x="584" y="165"/>
                </a:lnTo>
                <a:lnTo>
                  <a:pt x="574" y="177"/>
                </a:lnTo>
                <a:lnTo>
                  <a:pt x="565" y="186"/>
                </a:lnTo>
                <a:lnTo>
                  <a:pt x="553" y="198"/>
                </a:lnTo>
                <a:lnTo>
                  <a:pt x="542" y="209"/>
                </a:lnTo>
                <a:lnTo>
                  <a:pt x="526" y="221"/>
                </a:lnTo>
                <a:lnTo>
                  <a:pt x="513" y="234"/>
                </a:lnTo>
                <a:lnTo>
                  <a:pt x="497" y="248"/>
                </a:lnTo>
                <a:lnTo>
                  <a:pt x="463" y="277"/>
                </a:lnTo>
                <a:lnTo>
                  <a:pt x="428" y="304"/>
                </a:lnTo>
                <a:lnTo>
                  <a:pt x="392" y="330"/>
                </a:lnTo>
                <a:lnTo>
                  <a:pt x="353" y="357"/>
                </a:lnTo>
                <a:lnTo>
                  <a:pt x="315" y="386"/>
                </a:lnTo>
                <a:lnTo>
                  <a:pt x="275" y="413"/>
                </a:lnTo>
                <a:lnTo>
                  <a:pt x="234" y="440"/>
                </a:lnTo>
                <a:lnTo>
                  <a:pt x="192" y="469"/>
                </a:lnTo>
                <a:lnTo>
                  <a:pt x="171" y="484"/>
                </a:lnTo>
                <a:lnTo>
                  <a:pt x="152" y="497"/>
                </a:lnTo>
                <a:lnTo>
                  <a:pt x="135" y="511"/>
                </a:lnTo>
                <a:lnTo>
                  <a:pt x="117" y="520"/>
                </a:lnTo>
                <a:lnTo>
                  <a:pt x="100" y="532"/>
                </a:lnTo>
                <a:lnTo>
                  <a:pt x="85" y="540"/>
                </a:lnTo>
                <a:lnTo>
                  <a:pt x="71" y="547"/>
                </a:lnTo>
                <a:lnTo>
                  <a:pt x="60" y="553"/>
                </a:lnTo>
                <a:lnTo>
                  <a:pt x="48" y="559"/>
                </a:lnTo>
                <a:lnTo>
                  <a:pt x="39" y="563"/>
                </a:lnTo>
                <a:lnTo>
                  <a:pt x="29" y="566"/>
                </a:lnTo>
                <a:lnTo>
                  <a:pt x="21" y="568"/>
                </a:lnTo>
                <a:lnTo>
                  <a:pt x="16" y="568"/>
                </a:lnTo>
                <a:lnTo>
                  <a:pt x="10" y="568"/>
                </a:lnTo>
                <a:lnTo>
                  <a:pt x="6" y="566"/>
                </a:lnTo>
                <a:lnTo>
                  <a:pt x="2" y="566"/>
                </a:lnTo>
                <a:lnTo>
                  <a:pt x="0" y="563"/>
                </a:lnTo>
                <a:lnTo>
                  <a:pt x="0" y="559"/>
                </a:lnTo>
                <a:lnTo>
                  <a:pt x="0" y="555"/>
                </a:lnTo>
                <a:lnTo>
                  <a:pt x="0" y="549"/>
                </a:lnTo>
                <a:lnTo>
                  <a:pt x="2" y="543"/>
                </a:lnTo>
                <a:lnTo>
                  <a:pt x="6" y="538"/>
                </a:lnTo>
                <a:lnTo>
                  <a:pt x="10" y="530"/>
                </a:lnTo>
                <a:lnTo>
                  <a:pt x="16" y="522"/>
                </a:lnTo>
                <a:lnTo>
                  <a:pt x="21" y="515"/>
                </a:lnTo>
                <a:lnTo>
                  <a:pt x="29" y="505"/>
                </a:lnTo>
                <a:lnTo>
                  <a:pt x="39" y="497"/>
                </a:lnTo>
                <a:lnTo>
                  <a:pt x="48" y="488"/>
                </a:lnTo>
                <a:lnTo>
                  <a:pt x="60" y="476"/>
                </a:lnTo>
                <a:lnTo>
                  <a:pt x="73" y="467"/>
                </a:lnTo>
                <a:lnTo>
                  <a:pt x="88" y="455"/>
                </a:lnTo>
                <a:lnTo>
                  <a:pt x="104" y="444"/>
                </a:lnTo>
                <a:lnTo>
                  <a:pt x="119" y="432"/>
                </a:lnTo>
                <a:lnTo>
                  <a:pt x="136" y="419"/>
                </a:lnTo>
                <a:lnTo>
                  <a:pt x="167" y="394"/>
                </a:lnTo>
                <a:lnTo>
                  <a:pt x="198" y="365"/>
                </a:lnTo>
                <a:lnTo>
                  <a:pt x="229" y="336"/>
                </a:lnTo>
                <a:lnTo>
                  <a:pt x="257" y="307"/>
                </a:lnTo>
                <a:lnTo>
                  <a:pt x="288" y="275"/>
                </a:lnTo>
                <a:lnTo>
                  <a:pt x="315" y="244"/>
                </a:lnTo>
                <a:lnTo>
                  <a:pt x="344" y="211"/>
                </a:lnTo>
                <a:lnTo>
                  <a:pt x="357" y="196"/>
                </a:lnTo>
                <a:lnTo>
                  <a:pt x="371" y="181"/>
                </a:lnTo>
                <a:lnTo>
                  <a:pt x="382" y="167"/>
                </a:lnTo>
                <a:lnTo>
                  <a:pt x="392" y="154"/>
                </a:lnTo>
                <a:lnTo>
                  <a:pt x="399" y="142"/>
                </a:lnTo>
                <a:lnTo>
                  <a:pt x="407" y="131"/>
                </a:lnTo>
                <a:lnTo>
                  <a:pt x="415" y="119"/>
                </a:lnTo>
                <a:lnTo>
                  <a:pt x="421" y="110"/>
                </a:lnTo>
                <a:lnTo>
                  <a:pt x="424" y="100"/>
                </a:lnTo>
                <a:lnTo>
                  <a:pt x="426" y="92"/>
                </a:lnTo>
                <a:lnTo>
                  <a:pt x="428" y="85"/>
                </a:lnTo>
                <a:lnTo>
                  <a:pt x="430" y="77"/>
                </a:lnTo>
                <a:lnTo>
                  <a:pt x="428" y="69"/>
                </a:lnTo>
                <a:lnTo>
                  <a:pt x="426" y="64"/>
                </a:lnTo>
                <a:lnTo>
                  <a:pt x="424" y="58"/>
                </a:lnTo>
                <a:lnTo>
                  <a:pt x="421" y="54"/>
                </a:lnTo>
                <a:lnTo>
                  <a:pt x="413" y="48"/>
                </a:lnTo>
                <a:lnTo>
                  <a:pt x="407" y="44"/>
                </a:lnTo>
                <a:lnTo>
                  <a:pt x="403" y="41"/>
                </a:lnTo>
                <a:lnTo>
                  <a:pt x="399" y="37"/>
                </a:lnTo>
                <a:lnTo>
                  <a:pt x="396" y="33"/>
                </a:lnTo>
                <a:lnTo>
                  <a:pt x="394" y="31"/>
                </a:lnTo>
                <a:lnTo>
                  <a:pt x="392" y="27"/>
                </a:lnTo>
                <a:lnTo>
                  <a:pt x="392" y="25"/>
                </a:lnTo>
                <a:lnTo>
                  <a:pt x="392" y="21"/>
                </a:lnTo>
                <a:lnTo>
                  <a:pt x="394" y="19"/>
                </a:lnTo>
                <a:lnTo>
                  <a:pt x="396" y="16"/>
                </a:lnTo>
                <a:lnTo>
                  <a:pt x="399" y="14"/>
                </a:lnTo>
                <a:lnTo>
                  <a:pt x="403" y="12"/>
                </a:lnTo>
                <a:lnTo>
                  <a:pt x="407" y="10"/>
                </a:lnTo>
                <a:lnTo>
                  <a:pt x="413" y="6"/>
                </a:lnTo>
                <a:lnTo>
                  <a:pt x="421" y="4"/>
                </a:lnTo>
                <a:lnTo>
                  <a:pt x="424" y="2"/>
                </a:lnTo>
                <a:lnTo>
                  <a:pt x="430" y="0"/>
                </a:lnTo>
                <a:lnTo>
                  <a:pt x="436" y="0"/>
                </a:lnTo>
                <a:lnTo>
                  <a:pt x="442" y="0"/>
                </a:lnTo>
                <a:lnTo>
                  <a:pt x="447" y="0"/>
                </a:lnTo>
                <a:lnTo>
                  <a:pt x="453" y="0"/>
                </a:lnTo>
                <a:lnTo>
                  <a:pt x="469" y="2"/>
                </a:lnTo>
                <a:lnTo>
                  <a:pt x="482" y="8"/>
                </a:lnTo>
                <a:lnTo>
                  <a:pt x="499" y="14"/>
                </a:lnTo>
                <a:lnTo>
                  <a:pt x="517" y="19"/>
                </a:lnTo>
                <a:lnTo>
                  <a:pt x="534" y="29"/>
                </a:lnTo>
                <a:lnTo>
                  <a:pt x="543" y="33"/>
                </a:lnTo>
                <a:lnTo>
                  <a:pt x="553" y="39"/>
                </a:lnTo>
                <a:lnTo>
                  <a:pt x="561" y="42"/>
                </a:lnTo>
                <a:lnTo>
                  <a:pt x="568" y="48"/>
                </a:lnTo>
                <a:lnTo>
                  <a:pt x="574" y="52"/>
                </a:lnTo>
                <a:lnTo>
                  <a:pt x="580" y="56"/>
                </a:lnTo>
                <a:lnTo>
                  <a:pt x="586" y="62"/>
                </a:lnTo>
                <a:lnTo>
                  <a:pt x="591" y="66"/>
                </a:lnTo>
                <a:lnTo>
                  <a:pt x="595" y="69"/>
                </a:lnTo>
                <a:lnTo>
                  <a:pt x="599" y="75"/>
                </a:lnTo>
                <a:lnTo>
                  <a:pt x="603" y="79"/>
                </a:lnTo>
                <a:lnTo>
                  <a:pt x="605" y="85"/>
                </a:lnTo>
                <a:lnTo>
                  <a:pt x="607" y="89"/>
                </a:lnTo>
                <a:lnTo>
                  <a:pt x="609" y="92"/>
                </a:lnTo>
                <a:lnTo>
                  <a:pt x="611" y="98"/>
                </a:lnTo>
                <a:lnTo>
                  <a:pt x="611" y="10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Freeform 191"/>
          <p:cNvSpPr/>
          <p:nvPr/>
        </p:nvSpPr>
        <p:spPr>
          <a:xfrm>
            <a:off x="6926400" y="3168720"/>
            <a:ext cx="264960" cy="155520"/>
          </a:xfrm>
          <a:custGeom>
            <a:avLst/>
            <a:gdLst/>
            <a:ahLst/>
            <a:rect l="l" t="t" r="r" b="b"/>
            <a:pathLst>
              <a:path w="334" h="196">
                <a:moveTo>
                  <a:pt x="0" y="0"/>
                </a:moveTo>
                <a:lnTo>
                  <a:pt x="29" y="0"/>
                </a:lnTo>
                <a:lnTo>
                  <a:pt x="58" y="2"/>
                </a:lnTo>
                <a:lnTo>
                  <a:pt x="85" y="4"/>
                </a:lnTo>
                <a:lnTo>
                  <a:pt x="110" y="6"/>
                </a:lnTo>
                <a:lnTo>
                  <a:pt x="133" y="7"/>
                </a:lnTo>
                <a:lnTo>
                  <a:pt x="154" y="11"/>
                </a:lnTo>
                <a:lnTo>
                  <a:pt x="175" y="15"/>
                </a:lnTo>
                <a:lnTo>
                  <a:pt x="192" y="19"/>
                </a:lnTo>
                <a:lnTo>
                  <a:pt x="209" y="23"/>
                </a:lnTo>
                <a:lnTo>
                  <a:pt x="225" y="29"/>
                </a:lnTo>
                <a:lnTo>
                  <a:pt x="240" y="34"/>
                </a:lnTo>
                <a:lnTo>
                  <a:pt x="252" y="42"/>
                </a:lnTo>
                <a:lnTo>
                  <a:pt x="263" y="48"/>
                </a:lnTo>
                <a:lnTo>
                  <a:pt x="275" y="55"/>
                </a:lnTo>
                <a:lnTo>
                  <a:pt x="282" y="65"/>
                </a:lnTo>
                <a:lnTo>
                  <a:pt x="290" y="75"/>
                </a:lnTo>
                <a:lnTo>
                  <a:pt x="298" y="84"/>
                </a:lnTo>
                <a:lnTo>
                  <a:pt x="303" y="96"/>
                </a:lnTo>
                <a:lnTo>
                  <a:pt x="309" y="103"/>
                </a:lnTo>
                <a:lnTo>
                  <a:pt x="315" y="113"/>
                </a:lnTo>
                <a:lnTo>
                  <a:pt x="319" y="121"/>
                </a:lnTo>
                <a:lnTo>
                  <a:pt x="323" y="128"/>
                </a:lnTo>
                <a:lnTo>
                  <a:pt x="327" y="134"/>
                </a:lnTo>
                <a:lnTo>
                  <a:pt x="328" y="140"/>
                </a:lnTo>
                <a:lnTo>
                  <a:pt x="330" y="146"/>
                </a:lnTo>
                <a:lnTo>
                  <a:pt x="332" y="151"/>
                </a:lnTo>
                <a:lnTo>
                  <a:pt x="332" y="155"/>
                </a:lnTo>
                <a:lnTo>
                  <a:pt x="334" y="159"/>
                </a:lnTo>
                <a:lnTo>
                  <a:pt x="332" y="163"/>
                </a:lnTo>
                <a:lnTo>
                  <a:pt x="332" y="167"/>
                </a:lnTo>
                <a:lnTo>
                  <a:pt x="330" y="169"/>
                </a:lnTo>
                <a:lnTo>
                  <a:pt x="328" y="171"/>
                </a:lnTo>
                <a:lnTo>
                  <a:pt x="323" y="176"/>
                </a:lnTo>
                <a:lnTo>
                  <a:pt x="317" y="180"/>
                </a:lnTo>
                <a:lnTo>
                  <a:pt x="309" y="184"/>
                </a:lnTo>
                <a:lnTo>
                  <a:pt x="300" y="188"/>
                </a:lnTo>
                <a:lnTo>
                  <a:pt x="290" y="192"/>
                </a:lnTo>
                <a:lnTo>
                  <a:pt x="279" y="194"/>
                </a:lnTo>
                <a:lnTo>
                  <a:pt x="267" y="196"/>
                </a:lnTo>
                <a:lnTo>
                  <a:pt x="254" y="196"/>
                </a:lnTo>
                <a:lnTo>
                  <a:pt x="246" y="196"/>
                </a:lnTo>
                <a:lnTo>
                  <a:pt x="238" y="194"/>
                </a:lnTo>
                <a:lnTo>
                  <a:pt x="231" y="194"/>
                </a:lnTo>
                <a:lnTo>
                  <a:pt x="221" y="192"/>
                </a:lnTo>
                <a:lnTo>
                  <a:pt x="213" y="188"/>
                </a:lnTo>
                <a:lnTo>
                  <a:pt x="204" y="184"/>
                </a:lnTo>
                <a:lnTo>
                  <a:pt x="196" y="180"/>
                </a:lnTo>
                <a:lnTo>
                  <a:pt x="186" y="176"/>
                </a:lnTo>
                <a:lnTo>
                  <a:pt x="177" y="171"/>
                </a:lnTo>
                <a:lnTo>
                  <a:pt x="167" y="165"/>
                </a:lnTo>
                <a:lnTo>
                  <a:pt x="156" y="157"/>
                </a:lnTo>
                <a:lnTo>
                  <a:pt x="146" y="150"/>
                </a:lnTo>
                <a:lnTo>
                  <a:pt x="135" y="142"/>
                </a:lnTo>
                <a:lnTo>
                  <a:pt x="123" y="132"/>
                </a:lnTo>
                <a:lnTo>
                  <a:pt x="112" y="121"/>
                </a:lnTo>
                <a:lnTo>
                  <a:pt x="100" y="111"/>
                </a:lnTo>
                <a:lnTo>
                  <a:pt x="88" y="102"/>
                </a:lnTo>
                <a:lnTo>
                  <a:pt x="79" y="92"/>
                </a:lnTo>
                <a:lnTo>
                  <a:pt x="67" y="84"/>
                </a:lnTo>
                <a:lnTo>
                  <a:pt x="58" y="77"/>
                </a:lnTo>
                <a:lnTo>
                  <a:pt x="50" y="67"/>
                </a:lnTo>
                <a:lnTo>
                  <a:pt x="40" y="59"/>
                </a:lnTo>
                <a:lnTo>
                  <a:pt x="33" y="54"/>
                </a:lnTo>
                <a:lnTo>
                  <a:pt x="27" y="46"/>
                </a:lnTo>
                <a:lnTo>
                  <a:pt x="19" y="40"/>
                </a:lnTo>
                <a:lnTo>
                  <a:pt x="16" y="32"/>
                </a:lnTo>
                <a:lnTo>
                  <a:pt x="10" y="27"/>
                </a:lnTo>
                <a:lnTo>
                  <a:pt x="6" y="21"/>
                </a:lnTo>
                <a:lnTo>
                  <a:pt x="4" y="15"/>
                </a:lnTo>
                <a:lnTo>
                  <a:pt x="0" y="9"/>
                </a:lnTo>
                <a:lnTo>
                  <a:pt x="0" y="6"/>
                </a:lnTo>
                <a:lnTo>
                  <a:pt x="0" y="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Freeform 192"/>
          <p:cNvSpPr/>
          <p:nvPr/>
        </p:nvSpPr>
        <p:spPr>
          <a:xfrm>
            <a:off x="6621480" y="2797200"/>
            <a:ext cx="414360" cy="507960"/>
          </a:xfrm>
          <a:custGeom>
            <a:avLst/>
            <a:gdLst/>
            <a:ahLst/>
            <a:rect l="l" t="t" r="r" b="b"/>
            <a:pathLst>
              <a:path w="522" h="642">
                <a:moveTo>
                  <a:pt x="294" y="6"/>
                </a:moveTo>
                <a:lnTo>
                  <a:pt x="300" y="4"/>
                </a:lnTo>
                <a:lnTo>
                  <a:pt x="305" y="2"/>
                </a:lnTo>
                <a:lnTo>
                  <a:pt x="309" y="2"/>
                </a:lnTo>
                <a:lnTo>
                  <a:pt x="317" y="0"/>
                </a:lnTo>
                <a:lnTo>
                  <a:pt x="328" y="0"/>
                </a:lnTo>
                <a:lnTo>
                  <a:pt x="344" y="2"/>
                </a:lnTo>
                <a:lnTo>
                  <a:pt x="352" y="4"/>
                </a:lnTo>
                <a:lnTo>
                  <a:pt x="359" y="6"/>
                </a:lnTo>
                <a:lnTo>
                  <a:pt x="369" y="8"/>
                </a:lnTo>
                <a:lnTo>
                  <a:pt x="378" y="10"/>
                </a:lnTo>
                <a:lnTo>
                  <a:pt x="388" y="12"/>
                </a:lnTo>
                <a:lnTo>
                  <a:pt x="400" y="14"/>
                </a:lnTo>
                <a:lnTo>
                  <a:pt x="409" y="16"/>
                </a:lnTo>
                <a:lnTo>
                  <a:pt x="421" y="18"/>
                </a:lnTo>
                <a:lnTo>
                  <a:pt x="432" y="23"/>
                </a:lnTo>
                <a:lnTo>
                  <a:pt x="444" y="27"/>
                </a:lnTo>
                <a:lnTo>
                  <a:pt x="453" y="31"/>
                </a:lnTo>
                <a:lnTo>
                  <a:pt x="463" y="37"/>
                </a:lnTo>
                <a:lnTo>
                  <a:pt x="471" y="41"/>
                </a:lnTo>
                <a:lnTo>
                  <a:pt x="478" y="45"/>
                </a:lnTo>
                <a:lnTo>
                  <a:pt x="484" y="50"/>
                </a:lnTo>
                <a:lnTo>
                  <a:pt x="492" y="54"/>
                </a:lnTo>
                <a:lnTo>
                  <a:pt x="497" y="58"/>
                </a:lnTo>
                <a:lnTo>
                  <a:pt x="501" y="62"/>
                </a:lnTo>
                <a:lnTo>
                  <a:pt x="507" y="66"/>
                </a:lnTo>
                <a:lnTo>
                  <a:pt x="511" y="68"/>
                </a:lnTo>
                <a:lnTo>
                  <a:pt x="517" y="73"/>
                </a:lnTo>
                <a:lnTo>
                  <a:pt x="522" y="79"/>
                </a:lnTo>
                <a:lnTo>
                  <a:pt x="522" y="81"/>
                </a:lnTo>
                <a:lnTo>
                  <a:pt x="520" y="85"/>
                </a:lnTo>
                <a:lnTo>
                  <a:pt x="520" y="91"/>
                </a:lnTo>
                <a:lnTo>
                  <a:pt x="519" y="94"/>
                </a:lnTo>
                <a:lnTo>
                  <a:pt x="515" y="100"/>
                </a:lnTo>
                <a:lnTo>
                  <a:pt x="513" y="108"/>
                </a:lnTo>
                <a:lnTo>
                  <a:pt x="509" y="116"/>
                </a:lnTo>
                <a:lnTo>
                  <a:pt x="505" y="123"/>
                </a:lnTo>
                <a:lnTo>
                  <a:pt x="501" y="133"/>
                </a:lnTo>
                <a:lnTo>
                  <a:pt x="496" y="142"/>
                </a:lnTo>
                <a:lnTo>
                  <a:pt x="490" y="152"/>
                </a:lnTo>
                <a:lnTo>
                  <a:pt x="484" y="164"/>
                </a:lnTo>
                <a:lnTo>
                  <a:pt x="478" y="175"/>
                </a:lnTo>
                <a:lnTo>
                  <a:pt x="472" y="187"/>
                </a:lnTo>
                <a:lnTo>
                  <a:pt x="467" y="200"/>
                </a:lnTo>
                <a:lnTo>
                  <a:pt x="459" y="213"/>
                </a:lnTo>
                <a:lnTo>
                  <a:pt x="451" y="229"/>
                </a:lnTo>
                <a:lnTo>
                  <a:pt x="442" y="246"/>
                </a:lnTo>
                <a:lnTo>
                  <a:pt x="432" y="261"/>
                </a:lnTo>
                <a:lnTo>
                  <a:pt x="421" y="277"/>
                </a:lnTo>
                <a:lnTo>
                  <a:pt x="409" y="294"/>
                </a:lnTo>
                <a:lnTo>
                  <a:pt x="396" y="311"/>
                </a:lnTo>
                <a:lnTo>
                  <a:pt x="382" y="327"/>
                </a:lnTo>
                <a:lnTo>
                  <a:pt x="367" y="344"/>
                </a:lnTo>
                <a:lnTo>
                  <a:pt x="352" y="361"/>
                </a:lnTo>
                <a:lnTo>
                  <a:pt x="334" y="379"/>
                </a:lnTo>
                <a:lnTo>
                  <a:pt x="317" y="398"/>
                </a:lnTo>
                <a:lnTo>
                  <a:pt x="298" y="415"/>
                </a:lnTo>
                <a:lnTo>
                  <a:pt x="279" y="434"/>
                </a:lnTo>
                <a:lnTo>
                  <a:pt x="259" y="453"/>
                </a:lnTo>
                <a:lnTo>
                  <a:pt x="238" y="473"/>
                </a:lnTo>
                <a:lnTo>
                  <a:pt x="219" y="494"/>
                </a:lnTo>
                <a:lnTo>
                  <a:pt x="196" y="513"/>
                </a:lnTo>
                <a:lnTo>
                  <a:pt x="173" y="532"/>
                </a:lnTo>
                <a:lnTo>
                  <a:pt x="154" y="549"/>
                </a:lnTo>
                <a:lnTo>
                  <a:pt x="133" y="565"/>
                </a:lnTo>
                <a:lnTo>
                  <a:pt x="115" y="580"/>
                </a:lnTo>
                <a:lnTo>
                  <a:pt x="98" y="592"/>
                </a:lnTo>
                <a:lnTo>
                  <a:pt x="83" y="603"/>
                </a:lnTo>
                <a:lnTo>
                  <a:pt x="67" y="613"/>
                </a:lnTo>
                <a:lnTo>
                  <a:pt x="56" y="622"/>
                </a:lnTo>
                <a:lnTo>
                  <a:pt x="44" y="628"/>
                </a:lnTo>
                <a:lnTo>
                  <a:pt x="33" y="634"/>
                </a:lnTo>
                <a:lnTo>
                  <a:pt x="25" y="638"/>
                </a:lnTo>
                <a:lnTo>
                  <a:pt x="17" y="642"/>
                </a:lnTo>
                <a:lnTo>
                  <a:pt x="12" y="642"/>
                </a:lnTo>
                <a:lnTo>
                  <a:pt x="6" y="642"/>
                </a:lnTo>
                <a:lnTo>
                  <a:pt x="4" y="640"/>
                </a:lnTo>
                <a:lnTo>
                  <a:pt x="0" y="640"/>
                </a:lnTo>
                <a:lnTo>
                  <a:pt x="0" y="638"/>
                </a:lnTo>
                <a:lnTo>
                  <a:pt x="0" y="636"/>
                </a:lnTo>
                <a:lnTo>
                  <a:pt x="0" y="630"/>
                </a:lnTo>
                <a:lnTo>
                  <a:pt x="4" y="626"/>
                </a:lnTo>
                <a:lnTo>
                  <a:pt x="6" y="619"/>
                </a:lnTo>
                <a:lnTo>
                  <a:pt x="10" y="611"/>
                </a:lnTo>
                <a:lnTo>
                  <a:pt x="16" y="603"/>
                </a:lnTo>
                <a:lnTo>
                  <a:pt x="23" y="592"/>
                </a:lnTo>
                <a:lnTo>
                  <a:pt x="31" y="580"/>
                </a:lnTo>
                <a:lnTo>
                  <a:pt x="39" y="567"/>
                </a:lnTo>
                <a:lnTo>
                  <a:pt x="50" y="553"/>
                </a:lnTo>
                <a:lnTo>
                  <a:pt x="62" y="538"/>
                </a:lnTo>
                <a:lnTo>
                  <a:pt x="75" y="521"/>
                </a:lnTo>
                <a:lnTo>
                  <a:pt x="89" y="501"/>
                </a:lnTo>
                <a:lnTo>
                  <a:pt x="104" y="482"/>
                </a:lnTo>
                <a:lnTo>
                  <a:pt x="117" y="463"/>
                </a:lnTo>
                <a:lnTo>
                  <a:pt x="131" y="446"/>
                </a:lnTo>
                <a:lnTo>
                  <a:pt x="144" y="428"/>
                </a:lnTo>
                <a:lnTo>
                  <a:pt x="156" y="411"/>
                </a:lnTo>
                <a:lnTo>
                  <a:pt x="169" y="394"/>
                </a:lnTo>
                <a:lnTo>
                  <a:pt x="179" y="377"/>
                </a:lnTo>
                <a:lnTo>
                  <a:pt x="200" y="342"/>
                </a:lnTo>
                <a:lnTo>
                  <a:pt x="221" y="309"/>
                </a:lnTo>
                <a:lnTo>
                  <a:pt x="238" y="277"/>
                </a:lnTo>
                <a:lnTo>
                  <a:pt x="254" y="246"/>
                </a:lnTo>
                <a:lnTo>
                  <a:pt x="269" y="213"/>
                </a:lnTo>
                <a:lnTo>
                  <a:pt x="273" y="198"/>
                </a:lnTo>
                <a:lnTo>
                  <a:pt x="277" y="183"/>
                </a:lnTo>
                <a:lnTo>
                  <a:pt x="281" y="169"/>
                </a:lnTo>
                <a:lnTo>
                  <a:pt x="282" y="156"/>
                </a:lnTo>
                <a:lnTo>
                  <a:pt x="286" y="144"/>
                </a:lnTo>
                <a:lnTo>
                  <a:pt x="288" y="133"/>
                </a:lnTo>
                <a:lnTo>
                  <a:pt x="288" y="121"/>
                </a:lnTo>
                <a:lnTo>
                  <a:pt x="290" y="112"/>
                </a:lnTo>
                <a:lnTo>
                  <a:pt x="290" y="102"/>
                </a:lnTo>
                <a:lnTo>
                  <a:pt x="290" y="93"/>
                </a:lnTo>
                <a:lnTo>
                  <a:pt x="290" y="85"/>
                </a:lnTo>
                <a:lnTo>
                  <a:pt x="288" y="77"/>
                </a:lnTo>
                <a:lnTo>
                  <a:pt x="288" y="71"/>
                </a:lnTo>
                <a:lnTo>
                  <a:pt x="286" y="66"/>
                </a:lnTo>
                <a:lnTo>
                  <a:pt x="284" y="60"/>
                </a:lnTo>
                <a:lnTo>
                  <a:pt x="282" y="54"/>
                </a:lnTo>
                <a:lnTo>
                  <a:pt x="279" y="47"/>
                </a:lnTo>
                <a:lnTo>
                  <a:pt x="275" y="39"/>
                </a:lnTo>
                <a:lnTo>
                  <a:pt x="273" y="31"/>
                </a:lnTo>
                <a:lnTo>
                  <a:pt x="275" y="25"/>
                </a:lnTo>
                <a:lnTo>
                  <a:pt x="275" y="23"/>
                </a:lnTo>
                <a:lnTo>
                  <a:pt x="277" y="22"/>
                </a:lnTo>
                <a:lnTo>
                  <a:pt x="279" y="18"/>
                </a:lnTo>
                <a:lnTo>
                  <a:pt x="281" y="16"/>
                </a:lnTo>
                <a:lnTo>
                  <a:pt x="282" y="14"/>
                </a:lnTo>
                <a:lnTo>
                  <a:pt x="286" y="10"/>
                </a:lnTo>
                <a:lnTo>
                  <a:pt x="290" y="8"/>
                </a:lnTo>
                <a:lnTo>
                  <a:pt x="294" y="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Freeform 193"/>
          <p:cNvSpPr/>
          <p:nvPr/>
        </p:nvSpPr>
        <p:spPr>
          <a:xfrm>
            <a:off x="6894360" y="2936880"/>
            <a:ext cx="563760" cy="127080"/>
          </a:xfrm>
          <a:custGeom>
            <a:avLst/>
            <a:gdLst/>
            <a:ahLst/>
            <a:rect l="l" t="t" r="r" b="b"/>
            <a:pathLst>
              <a:path w="708" h="159">
                <a:moveTo>
                  <a:pt x="672" y="123"/>
                </a:moveTo>
                <a:lnTo>
                  <a:pt x="668" y="125"/>
                </a:lnTo>
                <a:lnTo>
                  <a:pt x="664" y="127"/>
                </a:lnTo>
                <a:lnTo>
                  <a:pt x="658" y="127"/>
                </a:lnTo>
                <a:lnTo>
                  <a:pt x="653" y="129"/>
                </a:lnTo>
                <a:lnTo>
                  <a:pt x="645" y="131"/>
                </a:lnTo>
                <a:lnTo>
                  <a:pt x="637" y="132"/>
                </a:lnTo>
                <a:lnTo>
                  <a:pt x="628" y="132"/>
                </a:lnTo>
                <a:lnTo>
                  <a:pt x="618" y="134"/>
                </a:lnTo>
                <a:lnTo>
                  <a:pt x="606" y="134"/>
                </a:lnTo>
                <a:lnTo>
                  <a:pt x="595" y="136"/>
                </a:lnTo>
                <a:lnTo>
                  <a:pt x="581" y="138"/>
                </a:lnTo>
                <a:lnTo>
                  <a:pt x="568" y="138"/>
                </a:lnTo>
                <a:lnTo>
                  <a:pt x="553" y="140"/>
                </a:lnTo>
                <a:lnTo>
                  <a:pt x="537" y="142"/>
                </a:lnTo>
                <a:lnTo>
                  <a:pt x="522" y="144"/>
                </a:lnTo>
                <a:lnTo>
                  <a:pt x="507" y="146"/>
                </a:lnTo>
                <a:lnTo>
                  <a:pt x="474" y="150"/>
                </a:lnTo>
                <a:lnTo>
                  <a:pt x="443" y="154"/>
                </a:lnTo>
                <a:lnTo>
                  <a:pt x="428" y="154"/>
                </a:lnTo>
                <a:lnTo>
                  <a:pt x="413" y="156"/>
                </a:lnTo>
                <a:lnTo>
                  <a:pt x="399" y="156"/>
                </a:lnTo>
                <a:lnTo>
                  <a:pt x="386" y="157"/>
                </a:lnTo>
                <a:lnTo>
                  <a:pt x="372" y="157"/>
                </a:lnTo>
                <a:lnTo>
                  <a:pt x="361" y="157"/>
                </a:lnTo>
                <a:lnTo>
                  <a:pt x="349" y="157"/>
                </a:lnTo>
                <a:lnTo>
                  <a:pt x="338" y="157"/>
                </a:lnTo>
                <a:lnTo>
                  <a:pt x="328" y="157"/>
                </a:lnTo>
                <a:lnTo>
                  <a:pt x="318" y="159"/>
                </a:lnTo>
                <a:lnTo>
                  <a:pt x="311" y="159"/>
                </a:lnTo>
                <a:lnTo>
                  <a:pt x="303" y="159"/>
                </a:lnTo>
                <a:lnTo>
                  <a:pt x="295" y="157"/>
                </a:lnTo>
                <a:lnTo>
                  <a:pt x="286" y="157"/>
                </a:lnTo>
                <a:lnTo>
                  <a:pt x="274" y="157"/>
                </a:lnTo>
                <a:lnTo>
                  <a:pt x="263" y="156"/>
                </a:lnTo>
                <a:lnTo>
                  <a:pt x="249" y="156"/>
                </a:lnTo>
                <a:lnTo>
                  <a:pt x="234" y="154"/>
                </a:lnTo>
                <a:lnTo>
                  <a:pt x="217" y="152"/>
                </a:lnTo>
                <a:lnTo>
                  <a:pt x="199" y="152"/>
                </a:lnTo>
                <a:lnTo>
                  <a:pt x="178" y="150"/>
                </a:lnTo>
                <a:lnTo>
                  <a:pt x="157" y="148"/>
                </a:lnTo>
                <a:lnTo>
                  <a:pt x="134" y="146"/>
                </a:lnTo>
                <a:lnTo>
                  <a:pt x="111" y="144"/>
                </a:lnTo>
                <a:lnTo>
                  <a:pt x="86" y="140"/>
                </a:lnTo>
                <a:lnTo>
                  <a:pt x="57" y="138"/>
                </a:lnTo>
                <a:lnTo>
                  <a:pt x="29" y="136"/>
                </a:lnTo>
                <a:lnTo>
                  <a:pt x="0" y="134"/>
                </a:lnTo>
                <a:lnTo>
                  <a:pt x="0" y="98"/>
                </a:lnTo>
                <a:lnTo>
                  <a:pt x="0" y="61"/>
                </a:lnTo>
                <a:lnTo>
                  <a:pt x="42" y="60"/>
                </a:lnTo>
                <a:lnTo>
                  <a:pt x="82" y="60"/>
                </a:lnTo>
                <a:lnTo>
                  <a:pt x="123" y="56"/>
                </a:lnTo>
                <a:lnTo>
                  <a:pt x="161" y="52"/>
                </a:lnTo>
                <a:lnTo>
                  <a:pt x="198" y="46"/>
                </a:lnTo>
                <a:lnTo>
                  <a:pt x="234" y="40"/>
                </a:lnTo>
                <a:lnTo>
                  <a:pt x="269" y="33"/>
                </a:lnTo>
                <a:lnTo>
                  <a:pt x="303" y="25"/>
                </a:lnTo>
                <a:lnTo>
                  <a:pt x="336" y="19"/>
                </a:lnTo>
                <a:lnTo>
                  <a:pt x="366" y="15"/>
                </a:lnTo>
                <a:lnTo>
                  <a:pt x="397" y="12"/>
                </a:lnTo>
                <a:lnTo>
                  <a:pt x="426" y="8"/>
                </a:lnTo>
                <a:lnTo>
                  <a:pt x="455" y="4"/>
                </a:lnTo>
                <a:lnTo>
                  <a:pt x="482" y="2"/>
                </a:lnTo>
                <a:lnTo>
                  <a:pt x="507" y="0"/>
                </a:lnTo>
                <a:lnTo>
                  <a:pt x="532" y="0"/>
                </a:lnTo>
                <a:lnTo>
                  <a:pt x="551" y="0"/>
                </a:lnTo>
                <a:lnTo>
                  <a:pt x="568" y="0"/>
                </a:lnTo>
                <a:lnTo>
                  <a:pt x="583" y="0"/>
                </a:lnTo>
                <a:lnTo>
                  <a:pt x="599" y="2"/>
                </a:lnTo>
                <a:lnTo>
                  <a:pt x="614" y="2"/>
                </a:lnTo>
                <a:lnTo>
                  <a:pt x="629" y="6"/>
                </a:lnTo>
                <a:lnTo>
                  <a:pt x="645" y="8"/>
                </a:lnTo>
                <a:lnTo>
                  <a:pt x="658" y="12"/>
                </a:lnTo>
                <a:lnTo>
                  <a:pt x="666" y="15"/>
                </a:lnTo>
                <a:lnTo>
                  <a:pt x="672" y="17"/>
                </a:lnTo>
                <a:lnTo>
                  <a:pt x="677" y="19"/>
                </a:lnTo>
                <a:lnTo>
                  <a:pt x="681" y="23"/>
                </a:lnTo>
                <a:lnTo>
                  <a:pt x="687" y="27"/>
                </a:lnTo>
                <a:lnTo>
                  <a:pt x="691" y="29"/>
                </a:lnTo>
                <a:lnTo>
                  <a:pt x="695" y="33"/>
                </a:lnTo>
                <a:lnTo>
                  <a:pt x="699" y="36"/>
                </a:lnTo>
                <a:lnTo>
                  <a:pt x="702" y="44"/>
                </a:lnTo>
                <a:lnTo>
                  <a:pt x="706" y="50"/>
                </a:lnTo>
                <a:lnTo>
                  <a:pt x="708" y="56"/>
                </a:lnTo>
                <a:lnTo>
                  <a:pt x="708" y="61"/>
                </a:lnTo>
                <a:lnTo>
                  <a:pt x="708" y="69"/>
                </a:lnTo>
                <a:lnTo>
                  <a:pt x="706" y="79"/>
                </a:lnTo>
                <a:lnTo>
                  <a:pt x="704" y="88"/>
                </a:lnTo>
                <a:lnTo>
                  <a:pt x="699" y="96"/>
                </a:lnTo>
                <a:lnTo>
                  <a:pt x="695" y="104"/>
                </a:lnTo>
                <a:lnTo>
                  <a:pt x="687" y="111"/>
                </a:lnTo>
                <a:lnTo>
                  <a:pt x="679" y="117"/>
                </a:lnTo>
                <a:lnTo>
                  <a:pt x="672" y="12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Freeform 194"/>
          <p:cNvSpPr/>
          <p:nvPr/>
        </p:nvSpPr>
        <p:spPr>
          <a:xfrm>
            <a:off x="6119640" y="3274920"/>
            <a:ext cx="241560" cy="184320"/>
          </a:xfrm>
          <a:custGeom>
            <a:avLst/>
            <a:gdLst/>
            <a:ahLst/>
            <a:rect l="l" t="t" r="r" b="b"/>
            <a:pathLst>
              <a:path w="305" h="232">
                <a:moveTo>
                  <a:pt x="0" y="0"/>
                </a:moveTo>
                <a:lnTo>
                  <a:pt x="21" y="0"/>
                </a:lnTo>
                <a:lnTo>
                  <a:pt x="42" y="2"/>
                </a:lnTo>
                <a:lnTo>
                  <a:pt x="61" y="2"/>
                </a:lnTo>
                <a:lnTo>
                  <a:pt x="78" y="4"/>
                </a:lnTo>
                <a:lnTo>
                  <a:pt x="96" y="4"/>
                </a:lnTo>
                <a:lnTo>
                  <a:pt x="113" y="6"/>
                </a:lnTo>
                <a:lnTo>
                  <a:pt x="130" y="8"/>
                </a:lnTo>
                <a:lnTo>
                  <a:pt x="144" y="12"/>
                </a:lnTo>
                <a:lnTo>
                  <a:pt x="159" y="14"/>
                </a:lnTo>
                <a:lnTo>
                  <a:pt x="172" y="17"/>
                </a:lnTo>
                <a:lnTo>
                  <a:pt x="186" y="21"/>
                </a:lnTo>
                <a:lnTo>
                  <a:pt x="197" y="25"/>
                </a:lnTo>
                <a:lnTo>
                  <a:pt x="211" y="31"/>
                </a:lnTo>
                <a:lnTo>
                  <a:pt x="220" y="37"/>
                </a:lnTo>
                <a:lnTo>
                  <a:pt x="232" y="42"/>
                </a:lnTo>
                <a:lnTo>
                  <a:pt x="241" y="50"/>
                </a:lnTo>
                <a:lnTo>
                  <a:pt x="255" y="62"/>
                </a:lnTo>
                <a:lnTo>
                  <a:pt x="266" y="75"/>
                </a:lnTo>
                <a:lnTo>
                  <a:pt x="278" y="87"/>
                </a:lnTo>
                <a:lnTo>
                  <a:pt x="288" y="98"/>
                </a:lnTo>
                <a:lnTo>
                  <a:pt x="291" y="104"/>
                </a:lnTo>
                <a:lnTo>
                  <a:pt x="293" y="110"/>
                </a:lnTo>
                <a:lnTo>
                  <a:pt x="297" y="115"/>
                </a:lnTo>
                <a:lnTo>
                  <a:pt x="299" y="121"/>
                </a:lnTo>
                <a:lnTo>
                  <a:pt x="301" y="127"/>
                </a:lnTo>
                <a:lnTo>
                  <a:pt x="303" y="133"/>
                </a:lnTo>
                <a:lnTo>
                  <a:pt x="305" y="140"/>
                </a:lnTo>
                <a:lnTo>
                  <a:pt x="305" y="146"/>
                </a:lnTo>
                <a:lnTo>
                  <a:pt x="305" y="154"/>
                </a:lnTo>
                <a:lnTo>
                  <a:pt x="305" y="159"/>
                </a:lnTo>
                <a:lnTo>
                  <a:pt x="305" y="165"/>
                </a:lnTo>
                <a:lnTo>
                  <a:pt x="305" y="169"/>
                </a:lnTo>
                <a:lnTo>
                  <a:pt x="303" y="179"/>
                </a:lnTo>
                <a:lnTo>
                  <a:pt x="303" y="186"/>
                </a:lnTo>
                <a:lnTo>
                  <a:pt x="301" y="192"/>
                </a:lnTo>
                <a:lnTo>
                  <a:pt x="299" y="198"/>
                </a:lnTo>
                <a:lnTo>
                  <a:pt x="295" y="204"/>
                </a:lnTo>
                <a:lnTo>
                  <a:pt x="291" y="207"/>
                </a:lnTo>
                <a:lnTo>
                  <a:pt x="286" y="213"/>
                </a:lnTo>
                <a:lnTo>
                  <a:pt x="280" y="217"/>
                </a:lnTo>
                <a:lnTo>
                  <a:pt x="274" y="221"/>
                </a:lnTo>
                <a:lnTo>
                  <a:pt x="266" y="225"/>
                </a:lnTo>
                <a:lnTo>
                  <a:pt x="259" y="227"/>
                </a:lnTo>
                <a:lnTo>
                  <a:pt x="253" y="230"/>
                </a:lnTo>
                <a:lnTo>
                  <a:pt x="245" y="230"/>
                </a:lnTo>
                <a:lnTo>
                  <a:pt x="241" y="232"/>
                </a:lnTo>
                <a:lnTo>
                  <a:pt x="236" y="232"/>
                </a:lnTo>
                <a:lnTo>
                  <a:pt x="230" y="230"/>
                </a:lnTo>
                <a:lnTo>
                  <a:pt x="224" y="229"/>
                </a:lnTo>
                <a:lnTo>
                  <a:pt x="217" y="225"/>
                </a:lnTo>
                <a:lnTo>
                  <a:pt x="211" y="221"/>
                </a:lnTo>
                <a:lnTo>
                  <a:pt x="203" y="217"/>
                </a:lnTo>
                <a:lnTo>
                  <a:pt x="193" y="211"/>
                </a:lnTo>
                <a:lnTo>
                  <a:pt x="186" y="206"/>
                </a:lnTo>
                <a:lnTo>
                  <a:pt x="176" y="200"/>
                </a:lnTo>
                <a:lnTo>
                  <a:pt x="167" y="192"/>
                </a:lnTo>
                <a:lnTo>
                  <a:pt x="157" y="184"/>
                </a:lnTo>
                <a:lnTo>
                  <a:pt x="146" y="175"/>
                </a:lnTo>
                <a:lnTo>
                  <a:pt x="136" y="167"/>
                </a:lnTo>
                <a:lnTo>
                  <a:pt x="124" y="156"/>
                </a:lnTo>
                <a:lnTo>
                  <a:pt x="113" y="146"/>
                </a:lnTo>
                <a:lnTo>
                  <a:pt x="101" y="135"/>
                </a:lnTo>
                <a:lnTo>
                  <a:pt x="90" y="123"/>
                </a:lnTo>
                <a:lnTo>
                  <a:pt x="80" y="111"/>
                </a:lnTo>
                <a:lnTo>
                  <a:pt x="69" y="102"/>
                </a:lnTo>
                <a:lnTo>
                  <a:pt x="59" y="90"/>
                </a:lnTo>
                <a:lnTo>
                  <a:pt x="50" y="81"/>
                </a:lnTo>
                <a:lnTo>
                  <a:pt x="42" y="71"/>
                </a:lnTo>
                <a:lnTo>
                  <a:pt x="34" y="62"/>
                </a:lnTo>
                <a:lnTo>
                  <a:pt x="26" y="54"/>
                </a:lnTo>
                <a:lnTo>
                  <a:pt x="21" y="44"/>
                </a:lnTo>
                <a:lnTo>
                  <a:pt x="15" y="37"/>
                </a:lnTo>
                <a:lnTo>
                  <a:pt x="11" y="31"/>
                </a:lnTo>
                <a:lnTo>
                  <a:pt x="7" y="23"/>
                </a:lnTo>
                <a:lnTo>
                  <a:pt x="3" y="17"/>
                </a:lnTo>
                <a:lnTo>
                  <a:pt x="2" y="12"/>
                </a:lnTo>
                <a:lnTo>
                  <a:pt x="2" y="6"/>
                </a:lnTo>
                <a:lnTo>
                  <a:pt x="0" y="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Freeform 195"/>
          <p:cNvSpPr/>
          <p:nvPr/>
        </p:nvSpPr>
        <p:spPr>
          <a:xfrm>
            <a:off x="6068880" y="3043080"/>
            <a:ext cx="563760" cy="154080"/>
          </a:xfrm>
          <a:custGeom>
            <a:avLst/>
            <a:gdLst/>
            <a:ahLst/>
            <a:rect l="l" t="t" r="r" b="b"/>
            <a:pathLst>
              <a:path w="711" h="194">
                <a:moveTo>
                  <a:pt x="281" y="48"/>
                </a:moveTo>
                <a:lnTo>
                  <a:pt x="304" y="43"/>
                </a:lnTo>
                <a:lnTo>
                  <a:pt x="327" y="37"/>
                </a:lnTo>
                <a:lnTo>
                  <a:pt x="348" y="31"/>
                </a:lnTo>
                <a:lnTo>
                  <a:pt x="371" y="25"/>
                </a:lnTo>
                <a:lnTo>
                  <a:pt x="392" y="22"/>
                </a:lnTo>
                <a:lnTo>
                  <a:pt x="413" y="18"/>
                </a:lnTo>
                <a:lnTo>
                  <a:pt x="432" y="14"/>
                </a:lnTo>
                <a:lnTo>
                  <a:pt x="451" y="10"/>
                </a:lnTo>
                <a:lnTo>
                  <a:pt x="490" y="6"/>
                </a:lnTo>
                <a:lnTo>
                  <a:pt x="528" y="2"/>
                </a:lnTo>
                <a:lnTo>
                  <a:pt x="563" y="0"/>
                </a:lnTo>
                <a:lnTo>
                  <a:pt x="597" y="0"/>
                </a:lnTo>
                <a:lnTo>
                  <a:pt x="611" y="0"/>
                </a:lnTo>
                <a:lnTo>
                  <a:pt x="622" y="0"/>
                </a:lnTo>
                <a:lnTo>
                  <a:pt x="636" y="0"/>
                </a:lnTo>
                <a:lnTo>
                  <a:pt x="647" y="2"/>
                </a:lnTo>
                <a:lnTo>
                  <a:pt x="657" y="2"/>
                </a:lnTo>
                <a:lnTo>
                  <a:pt x="666" y="4"/>
                </a:lnTo>
                <a:lnTo>
                  <a:pt x="674" y="6"/>
                </a:lnTo>
                <a:lnTo>
                  <a:pt x="682" y="8"/>
                </a:lnTo>
                <a:lnTo>
                  <a:pt x="689" y="10"/>
                </a:lnTo>
                <a:lnTo>
                  <a:pt x="695" y="12"/>
                </a:lnTo>
                <a:lnTo>
                  <a:pt x="699" y="14"/>
                </a:lnTo>
                <a:lnTo>
                  <a:pt x="703" y="16"/>
                </a:lnTo>
                <a:lnTo>
                  <a:pt x="707" y="18"/>
                </a:lnTo>
                <a:lnTo>
                  <a:pt x="709" y="20"/>
                </a:lnTo>
                <a:lnTo>
                  <a:pt x="711" y="22"/>
                </a:lnTo>
                <a:lnTo>
                  <a:pt x="711" y="25"/>
                </a:lnTo>
                <a:lnTo>
                  <a:pt x="711" y="33"/>
                </a:lnTo>
                <a:lnTo>
                  <a:pt x="709" y="43"/>
                </a:lnTo>
                <a:lnTo>
                  <a:pt x="705" y="52"/>
                </a:lnTo>
                <a:lnTo>
                  <a:pt x="699" y="62"/>
                </a:lnTo>
                <a:lnTo>
                  <a:pt x="693" y="69"/>
                </a:lnTo>
                <a:lnTo>
                  <a:pt x="688" y="75"/>
                </a:lnTo>
                <a:lnTo>
                  <a:pt x="684" y="79"/>
                </a:lnTo>
                <a:lnTo>
                  <a:pt x="678" y="83"/>
                </a:lnTo>
                <a:lnTo>
                  <a:pt x="672" y="89"/>
                </a:lnTo>
                <a:lnTo>
                  <a:pt x="666" y="93"/>
                </a:lnTo>
                <a:lnTo>
                  <a:pt x="661" y="98"/>
                </a:lnTo>
                <a:lnTo>
                  <a:pt x="653" y="102"/>
                </a:lnTo>
                <a:lnTo>
                  <a:pt x="643" y="106"/>
                </a:lnTo>
                <a:lnTo>
                  <a:pt x="634" y="112"/>
                </a:lnTo>
                <a:lnTo>
                  <a:pt x="622" y="116"/>
                </a:lnTo>
                <a:lnTo>
                  <a:pt x="609" y="119"/>
                </a:lnTo>
                <a:lnTo>
                  <a:pt x="595" y="125"/>
                </a:lnTo>
                <a:lnTo>
                  <a:pt x="580" y="129"/>
                </a:lnTo>
                <a:lnTo>
                  <a:pt x="563" y="133"/>
                </a:lnTo>
                <a:lnTo>
                  <a:pt x="545" y="137"/>
                </a:lnTo>
                <a:lnTo>
                  <a:pt x="526" y="141"/>
                </a:lnTo>
                <a:lnTo>
                  <a:pt x="505" y="144"/>
                </a:lnTo>
                <a:lnTo>
                  <a:pt x="484" y="146"/>
                </a:lnTo>
                <a:lnTo>
                  <a:pt x="459" y="150"/>
                </a:lnTo>
                <a:lnTo>
                  <a:pt x="434" y="154"/>
                </a:lnTo>
                <a:lnTo>
                  <a:pt x="409" y="156"/>
                </a:lnTo>
                <a:lnTo>
                  <a:pt x="380" y="158"/>
                </a:lnTo>
                <a:lnTo>
                  <a:pt x="350" y="164"/>
                </a:lnTo>
                <a:lnTo>
                  <a:pt x="321" y="167"/>
                </a:lnTo>
                <a:lnTo>
                  <a:pt x="292" y="171"/>
                </a:lnTo>
                <a:lnTo>
                  <a:pt x="265" y="175"/>
                </a:lnTo>
                <a:lnTo>
                  <a:pt x="238" y="177"/>
                </a:lnTo>
                <a:lnTo>
                  <a:pt x="211" y="181"/>
                </a:lnTo>
                <a:lnTo>
                  <a:pt x="186" y="183"/>
                </a:lnTo>
                <a:lnTo>
                  <a:pt x="162" y="187"/>
                </a:lnTo>
                <a:lnTo>
                  <a:pt x="138" y="188"/>
                </a:lnTo>
                <a:lnTo>
                  <a:pt x="117" y="190"/>
                </a:lnTo>
                <a:lnTo>
                  <a:pt x="94" y="190"/>
                </a:lnTo>
                <a:lnTo>
                  <a:pt x="75" y="192"/>
                </a:lnTo>
                <a:lnTo>
                  <a:pt x="54" y="194"/>
                </a:lnTo>
                <a:lnTo>
                  <a:pt x="37" y="194"/>
                </a:lnTo>
                <a:lnTo>
                  <a:pt x="18" y="194"/>
                </a:lnTo>
                <a:lnTo>
                  <a:pt x="0" y="194"/>
                </a:lnTo>
                <a:lnTo>
                  <a:pt x="0" y="146"/>
                </a:lnTo>
                <a:lnTo>
                  <a:pt x="0" y="98"/>
                </a:lnTo>
                <a:lnTo>
                  <a:pt x="14" y="96"/>
                </a:lnTo>
                <a:lnTo>
                  <a:pt x="27" y="96"/>
                </a:lnTo>
                <a:lnTo>
                  <a:pt x="41" y="96"/>
                </a:lnTo>
                <a:lnTo>
                  <a:pt x="56" y="94"/>
                </a:lnTo>
                <a:lnTo>
                  <a:pt x="71" y="94"/>
                </a:lnTo>
                <a:lnTo>
                  <a:pt x="87" y="93"/>
                </a:lnTo>
                <a:lnTo>
                  <a:pt x="104" y="89"/>
                </a:lnTo>
                <a:lnTo>
                  <a:pt x="121" y="87"/>
                </a:lnTo>
                <a:lnTo>
                  <a:pt x="138" y="85"/>
                </a:lnTo>
                <a:lnTo>
                  <a:pt x="158" y="81"/>
                </a:lnTo>
                <a:lnTo>
                  <a:pt x="177" y="77"/>
                </a:lnTo>
                <a:lnTo>
                  <a:pt x="196" y="71"/>
                </a:lnTo>
                <a:lnTo>
                  <a:pt x="217" y="68"/>
                </a:lnTo>
                <a:lnTo>
                  <a:pt x="238" y="62"/>
                </a:lnTo>
                <a:lnTo>
                  <a:pt x="257" y="56"/>
                </a:lnTo>
                <a:lnTo>
                  <a:pt x="281" y="48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Freeform 196"/>
          <p:cNvSpPr/>
          <p:nvPr/>
        </p:nvSpPr>
        <p:spPr>
          <a:xfrm>
            <a:off x="5737320" y="2879640"/>
            <a:ext cx="536400" cy="581040"/>
          </a:xfrm>
          <a:custGeom>
            <a:avLst/>
            <a:gdLst/>
            <a:ahLst/>
            <a:rect l="l" t="t" r="r" b="b"/>
            <a:pathLst>
              <a:path w="675" h="733">
                <a:moveTo>
                  <a:pt x="407" y="244"/>
                </a:moveTo>
                <a:lnTo>
                  <a:pt x="414" y="225"/>
                </a:lnTo>
                <a:lnTo>
                  <a:pt x="424" y="209"/>
                </a:lnTo>
                <a:lnTo>
                  <a:pt x="430" y="192"/>
                </a:lnTo>
                <a:lnTo>
                  <a:pt x="437" y="177"/>
                </a:lnTo>
                <a:lnTo>
                  <a:pt x="443" y="161"/>
                </a:lnTo>
                <a:lnTo>
                  <a:pt x="447" y="148"/>
                </a:lnTo>
                <a:lnTo>
                  <a:pt x="451" y="134"/>
                </a:lnTo>
                <a:lnTo>
                  <a:pt x="455" y="123"/>
                </a:lnTo>
                <a:lnTo>
                  <a:pt x="457" y="111"/>
                </a:lnTo>
                <a:lnTo>
                  <a:pt x="459" y="100"/>
                </a:lnTo>
                <a:lnTo>
                  <a:pt x="460" y="90"/>
                </a:lnTo>
                <a:lnTo>
                  <a:pt x="460" y="81"/>
                </a:lnTo>
                <a:lnTo>
                  <a:pt x="460" y="71"/>
                </a:lnTo>
                <a:lnTo>
                  <a:pt x="460" y="63"/>
                </a:lnTo>
                <a:lnTo>
                  <a:pt x="459" y="56"/>
                </a:lnTo>
                <a:lnTo>
                  <a:pt x="457" y="48"/>
                </a:lnTo>
                <a:lnTo>
                  <a:pt x="453" y="40"/>
                </a:lnTo>
                <a:lnTo>
                  <a:pt x="451" y="33"/>
                </a:lnTo>
                <a:lnTo>
                  <a:pt x="449" y="29"/>
                </a:lnTo>
                <a:lnTo>
                  <a:pt x="449" y="25"/>
                </a:lnTo>
                <a:lnTo>
                  <a:pt x="449" y="23"/>
                </a:lnTo>
                <a:lnTo>
                  <a:pt x="451" y="19"/>
                </a:lnTo>
                <a:lnTo>
                  <a:pt x="453" y="17"/>
                </a:lnTo>
                <a:lnTo>
                  <a:pt x="455" y="14"/>
                </a:lnTo>
                <a:lnTo>
                  <a:pt x="457" y="12"/>
                </a:lnTo>
                <a:lnTo>
                  <a:pt x="460" y="10"/>
                </a:lnTo>
                <a:lnTo>
                  <a:pt x="464" y="6"/>
                </a:lnTo>
                <a:lnTo>
                  <a:pt x="470" y="4"/>
                </a:lnTo>
                <a:lnTo>
                  <a:pt x="476" y="2"/>
                </a:lnTo>
                <a:lnTo>
                  <a:pt x="482" y="0"/>
                </a:lnTo>
                <a:lnTo>
                  <a:pt x="497" y="0"/>
                </a:lnTo>
                <a:lnTo>
                  <a:pt x="510" y="2"/>
                </a:lnTo>
                <a:lnTo>
                  <a:pt x="526" y="6"/>
                </a:lnTo>
                <a:lnTo>
                  <a:pt x="541" y="10"/>
                </a:lnTo>
                <a:lnTo>
                  <a:pt x="549" y="14"/>
                </a:lnTo>
                <a:lnTo>
                  <a:pt x="556" y="17"/>
                </a:lnTo>
                <a:lnTo>
                  <a:pt x="564" y="21"/>
                </a:lnTo>
                <a:lnTo>
                  <a:pt x="574" y="25"/>
                </a:lnTo>
                <a:lnTo>
                  <a:pt x="581" y="31"/>
                </a:lnTo>
                <a:lnTo>
                  <a:pt x="591" y="37"/>
                </a:lnTo>
                <a:lnTo>
                  <a:pt x="599" y="42"/>
                </a:lnTo>
                <a:lnTo>
                  <a:pt x="608" y="48"/>
                </a:lnTo>
                <a:lnTo>
                  <a:pt x="618" y="56"/>
                </a:lnTo>
                <a:lnTo>
                  <a:pt x="626" y="62"/>
                </a:lnTo>
                <a:lnTo>
                  <a:pt x="635" y="69"/>
                </a:lnTo>
                <a:lnTo>
                  <a:pt x="641" y="77"/>
                </a:lnTo>
                <a:lnTo>
                  <a:pt x="649" y="83"/>
                </a:lnTo>
                <a:lnTo>
                  <a:pt x="654" y="90"/>
                </a:lnTo>
                <a:lnTo>
                  <a:pt x="660" y="96"/>
                </a:lnTo>
                <a:lnTo>
                  <a:pt x="664" y="104"/>
                </a:lnTo>
                <a:lnTo>
                  <a:pt x="668" y="109"/>
                </a:lnTo>
                <a:lnTo>
                  <a:pt x="672" y="117"/>
                </a:lnTo>
                <a:lnTo>
                  <a:pt x="674" y="125"/>
                </a:lnTo>
                <a:lnTo>
                  <a:pt x="675" y="131"/>
                </a:lnTo>
                <a:lnTo>
                  <a:pt x="675" y="138"/>
                </a:lnTo>
                <a:lnTo>
                  <a:pt x="675" y="144"/>
                </a:lnTo>
                <a:lnTo>
                  <a:pt x="674" y="152"/>
                </a:lnTo>
                <a:lnTo>
                  <a:pt x="672" y="157"/>
                </a:lnTo>
                <a:lnTo>
                  <a:pt x="670" y="165"/>
                </a:lnTo>
                <a:lnTo>
                  <a:pt x="666" y="173"/>
                </a:lnTo>
                <a:lnTo>
                  <a:pt x="660" y="182"/>
                </a:lnTo>
                <a:lnTo>
                  <a:pt x="652" y="192"/>
                </a:lnTo>
                <a:lnTo>
                  <a:pt x="645" y="204"/>
                </a:lnTo>
                <a:lnTo>
                  <a:pt x="637" y="215"/>
                </a:lnTo>
                <a:lnTo>
                  <a:pt x="626" y="227"/>
                </a:lnTo>
                <a:lnTo>
                  <a:pt x="614" y="240"/>
                </a:lnTo>
                <a:lnTo>
                  <a:pt x="603" y="253"/>
                </a:lnTo>
                <a:lnTo>
                  <a:pt x="589" y="269"/>
                </a:lnTo>
                <a:lnTo>
                  <a:pt x="574" y="286"/>
                </a:lnTo>
                <a:lnTo>
                  <a:pt x="558" y="301"/>
                </a:lnTo>
                <a:lnTo>
                  <a:pt x="541" y="319"/>
                </a:lnTo>
                <a:lnTo>
                  <a:pt x="522" y="338"/>
                </a:lnTo>
                <a:lnTo>
                  <a:pt x="503" y="357"/>
                </a:lnTo>
                <a:lnTo>
                  <a:pt x="482" y="378"/>
                </a:lnTo>
                <a:lnTo>
                  <a:pt x="460" y="401"/>
                </a:lnTo>
                <a:lnTo>
                  <a:pt x="439" y="422"/>
                </a:lnTo>
                <a:lnTo>
                  <a:pt x="418" y="443"/>
                </a:lnTo>
                <a:lnTo>
                  <a:pt x="397" y="465"/>
                </a:lnTo>
                <a:lnTo>
                  <a:pt x="376" y="484"/>
                </a:lnTo>
                <a:lnTo>
                  <a:pt x="355" y="505"/>
                </a:lnTo>
                <a:lnTo>
                  <a:pt x="336" y="522"/>
                </a:lnTo>
                <a:lnTo>
                  <a:pt x="315" y="541"/>
                </a:lnTo>
                <a:lnTo>
                  <a:pt x="295" y="559"/>
                </a:lnTo>
                <a:lnTo>
                  <a:pt x="274" y="574"/>
                </a:lnTo>
                <a:lnTo>
                  <a:pt x="255" y="591"/>
                </a:lnTo>
                <a:lnTo>
                  <a:pt x="236" y="605"/>
                </a:lnTo>
                <a:lnTo>
                  <a:pt x="219" y="620"/>
                </a:lnTo>
                <a:lnTo>
                  <a:pt x="199" y="634"/>
                </a:lnTo>
                <a:lnTo>
                  <a:pt x="182" y="647"/>
                </a:lnTo>
                <a:lnTo>
                  <a:pt x="165" y="658"/>
                </a:lnTo>
                <a:lnTo>
                  <a:pt x="148" y="670"/>
                </a:lnTo>
                <a:lnTo>
                  <a:pt x="130" y="680"/>
                </a:lnTo>
                <a:lnTo>
                  <a:pt x="113" y="689"/>
                </a:lnTo>
                <a:lnTo>
                  <a:pt x="100" y="697"/>
                </a:lnTo>
                <a:lnTo>
                  <a:pt x="84" y="705"/>
                </a:lnTo>
                <a:lnTo>
                  <a:pt x="73" y="712"/>
                </a:lnTo>
                <a:lnTo>
                  <a:pt x="61" y="718"/>
                </a:lnTo>
                <a:lnTo>
                  <a:pt x="50" y="722"/>
                </a:lnTo>
                <a:lnTo>
                  <a:pt x="40" y="726"/>
                </a:lnTo>
                <a:lnTo>
                  <a:pt x="32" y="729"/>
                </a:lnTo>
                <a:lnTo>
                  <a:pt x="25" y="731"/>
                </a:lnTo>
                <a:lnTo>
                  <a:pt x="17" y="733"/>
                </a:lnTo>
                <a:lnTo>
                  <a:pt x="11" y="733"/>
                </a:lnTo>
                <a:lnTo>
                  <a:pt x="7" y="733"/>
                </a:lnTo>
                <a:lnTo>
                  <a:pt x="4" y="733"/>
                </a:lnTo>
                <a:lnTo>
                  <a:pt x="2" y="731"/>
                </a:lnTo>
                <a:lnTo>
                  <a:pt x="0" y="728"/>
                </a:lnTo>
                <a:lnTo>
                  <a:pt x="0" y="724"/>
                </a:lnTo>
                <a:lnTo>
                  <a:pt x="2" y="720"/>
                </a:lnTo>
                <a:lnTo>
                  <a:pt x="5" y="712"/>
                </a:lnTo>
                <a:lnTo>
                  <a:pt x="11" y="706"/>
                </a:lnTo>
                <a:lnTo>
                  <a:pt x="17" y="697"/>
                </a:lnTo>
                <a:lnTo>
                  <a:pt x="27" y="687"/>
                </a:lnTo>
                <a:lnTo>
                  <a:pt x="36" y="676"/>
                </a:lnTo>
                <a:lnTo>
                  <a:pt x="48" y="664"/>
                </a:lnTo>
                <a:lnTo>
                  <a:pt x="61" y="651"/>
                </a:lnTo>
                <a:lnTo>
                  <a:pt x="75" y="637"/>
                </a:lnTo>
                <a:lnTo>
                  <a:pt x="90" y="622"/>
                </a:lnTo>
                <a:lnTo>
                  <a:pt x="107" y="605"/>
                </a:lnTo>
                <a:lnTo>
                  <a:pt x="125" y="587"/>
                </a:lnTo>
                <a:lnTo>
                  <a:pt x="146" y="568"/>
                </a:lnTo>
                <a:lnTo>
                  <a:pt x="165" y="549"/>
                </a:lnTo>
                <a:lnTo>
                  <a:pt x="186" y="528"/>
                </a:lnTo>
                <a:lnTo>
                  <a:pt x="205" y="507"/>
                </a:lnTo>
                <a:lnTo>
                  <a:pt x="224" y="486"/>
                </a:lnTo>
                <a:lnTo>
                  <a:pt x="244" y="467"/>
                </a:lnTo>
                <a:lnTo>
                  <a:pt x="261" y="445"/>
                </a:lnTo>
                <a:lnTo>
                  <a:pt x="278" y="426"/>
                </a:lnTo>
                <a:lnTo>
                  <a:pt x="293" y="405"/>
                </a:lnTo>
                <a:lnTo>
                  <a:pt x="309" y="386"/>
                </a:lnTo>
                <a:lnTo>
                  <a:pt x="324" y="367"/>
                </a:lnTo>
                <a:lnTo>
                  <a:pt x="338" y="348"/>
                </a:lnTo>
                <a:lnTo>
                  <a:pt x="351" y="330"/>
                </a:lnTo>
                <a:lnTo>
                  <a:pt x="363" y="311"/>
                </a:lnTo>
                <a:lnTo>
                  <a:pt x="376" y="294"/>
                </a:lnTo>
                <a:lnTo>
                  <a:pt x="386" y="276"/>
                </a:lnTo>
                <a:lnTo>
                  <a:pt x="397" y="259"/>
                </a:lnTo>
                <a:lnTo>
                  <a:pt x="407" y="244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矩形 4"/>
          <p:cNvSpPr/>
          <p:nvPr/>
        </p:nvSpPr>
        <p:spPr>
          <a:xfrm>
            <a:off x="2218680" y="2548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剑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5114880" y="238284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14" name="组合 8"/>
          <p:cNvGrpSpPr/>
          <p:nvPr/>
        </p:nvGrpSpPr>
        <p:grpSpPr>
          <a:xfrm>
            <a:off x="1400040" y="3975120"/>
            <a:ext cx="2840040" cy="1621080"/>
            <a:chOff x="1400040" y="3975120"/>
            <a:chExt cx="2840040" cy="1621080"/>
          </a:xfrm>
        </p:grpSpPr>
        <p:pic>
          <p:nvPicPr>
            <p:cNvPr id="115" name="图示 4" descr=""/>
            <p:cNvPicPr/>
            <p:nvPr/>
          </p:nvPicPr>
          <p:blipFill>
            <a:blip r:embed="rId1"/>
            <a:stretch/>
          </p:blipFill>
          <p:spPr>
            <a:xfrm>
              <a:off x="1400040" y="3975120"/>
              <a:ext cx="284004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矩形 2"/>
            <p:cNvSpPr/>
            <p:nvPr/>
          </p:nvSpPr>
          <p:spPr>
            <a:xfrm>
              <a:off x="1444680" y="4587840"/>
              <a:ext cx="2766600" cy="1008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左部撇舒展，捺变点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7" name="矩形 3"/>
          <p:cNvSpPr/>
          <p:nvPr/>
        </p:nvSpPr>
        <p:spPr>
          <a:xfrm>
            <a:off x="2139840" y="1868400"/>
            <a:ext cx="1463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jiàn</a:t>
            </a: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Freeform 83"/>
          <p:cNvSpPr/>
          <p:nvPr/>
        </p:nvSpPr>
        <p:spPr>
          <a:xfrm>
            <a:off x="7205760" y="2751120"/>
            <a:ext cx="487440" cy="2279520"/>
          </a:xfrm>
          <a:custGeom>
            <a:avLst/>
            <a:gdLst/>
            <a:ahLst/>
            <a:rect l="l" t="t" r="r" b="b"/>
            <a:pathLst>
              <a:path w="612" h="2871">
                <a:moveTo>
                  <a:pt x="313" y="2756"/>
                </a:moveTo>
                <a:lnTo>
                  <a:pt x="311" y="2742"/>
                </a:lnTo>
                <a:lnTo>
                  <a:pt x="307" y="2727"/>
                </a:lnTo>
                <a:lnTo>
                  <a:pt x="301" y="2714"/>
                </a:lnTo>
                <a:lnTo>
                  <a:pt x="295" y="2698"/>
                </a:lnTo>
                <a:lnTo>
                  <a:pt x="288" y="2685"/>
                </a:lnTo>
                <a:lnTo>
                  <a:pt x="280" y="2671"/>
                </a:lnTo>
                <a:lnTo>
                  <a:pt x="272" y="2656"/>
                </a:lnTo>
                <a:lnTo>
                  <a:pt x="263" y="2643"/>
                </a:lnTo>
                <a:lnTo>
                  <a:pt x="251" y="2629"/>
                </a:lnTo>
                <a:lnTo>
                  <a:pt x="240" y="2616"/>
                </a:lnTo>
                <a:lnTo>
                  <a:pt x="228" y="2602"/>
                </a:lnTo>
                <a:lnTo>
                  <a:pt x="215" y="2589"/>
                </a:lnTo>
                <a:lnTo>
                  <a:pt x="199" y="2577"/>
                </a:lnTo>
                <a:lnTo>
                  <a:pt x="184" y="2564"/>
                </a:lnTo>
                <a:lnTo>
                  <a:pt x="169" y="2550"/>
                </a:lnTo>
                <a:lnTo>
                  <a:pt x="151" y="2539"/>
                </a:lnTo>
                <a:lnTo>
                  <a:pt x="130" y="2527"/>
                </a:lnTo>
                <a:lnTo>
                  <a:pt x="113" y="2516"/>
                </a:lnTo>
                <a:lnTo>
                  <a:pt x="96" y="2504"/>
                </a:lnTo>
                <a:lnTo>
                  <a:pt x="80" y="2493"/>
                </a:lnTo>
                <a:lnTo>
                  <a:pt x="65" y="2483"/>
                </a:lnTo>
                <a:lnTo>
                  <a:pt x="52" y="2474"/>
                </a:lnTo>
                <a:lnTo>
                  <a:pt x="40" y="2464"/>
                </a:lnTo>
                <a:lnTo>
                  <a:pt x="30" y="2456"/>
                </a:lnTo>
                <a:lnTo>
                  <a:pt x="21" y="2447"/>
                </a:lnTo>
                <a:lnTo>
                  <a:pt x="13" y="2441"/>
                </a:lnTo>
                <a:lnTo>
                  <a:pt x="7" y="2433"/>
                </a:lnTo>
                <a:lnTo>
                  <a:pt x="4" y="2428"/>
                </a:lnTo>
                <a:lnTo>
                  <a:pt x="2" y="2422"/>
                </a:lnTo>
                <a:lnTo>
                  <a:pt x="0" y="2418"/>
                </a:lnTo>
                <a:lnTo>
                  <a:pt x="0" y="2414"/>
                </a:lnTo>
                <a:lnTo>
                  <a:pt x="2" y="2412"/>
                </a:lnTo>
                <a:lnTo>
                  <a:pt x="2" y="2408"/>
                </a:lnTo>
                <a:lnTo>
                  <a:pt x="4" y="2407"/>
                </a:lnTo>
                <a:lnTo>
                  <a:pt x="7" y="2405"/>
                </a:lnTo>
                <a:lnTo>
                  <a:pt x="11" y="2405"/>
                </a:lnTo>
                <a:lnTo>
                  <a:pt x="17" y="2403"/>
                </a:lnTo>
                <a:lnTo>
                  <a:pt x="25" y="2403"/>
                </a:lnTo>
                <a:lnTo>
                  <a:pt x="34" y="2401"/>
                </a:lnTo>
                <a:lnTo>
                  <a:pt x="44" y="2401"/>
                </a:lnTo>
                <a:lnTo>
                  <a:pt x="55" y="2401"/>
                </a:lnTo>
                <a:lnTo>
                  <a:pt x="69" y="2403"/>
                </a:lnTo>
                <a:lnTo>
                  <a:pt x="82" y="2403"/>
                </a:lnTo>
                <a:lnTo>
                  <a:pt x="98" y="2405"/>
                </a:lnTo>
                <a:lnTo>
                  <a:pt x="115" y="2405"/>
                </a:lnTo>
                <a:lnTo>
                  <a:pt x="134" y="2407"/>
                </a:lnTo>
                <a:lnTo>
                  <a:pt x="155" y="2408"/>
                </a:lnTo>
                <a:lnTo>
                  <a:pt x="178" y="2412"/>
                </a:lnTo>
                <a:lnTo>
                  <a:pt x="197" y="2414"/>
                </a:lnTo>
                <a:lnTo>
                  <a:pt x="217" y="2416"/>
                </a:lnTo>
                <a:lnTo>
                  <a:pt x="234" y="2418"/>
                </a:lnTo>
                <a:lnTo>
                  <a:pt x="251" y="2418"/>
                </a:lnTo>
                <a:lnTo>
                  <a:pt x="267" y="2418"/>
                </a:lnTo>
                <a:lnTo>
                  <a:pt x="282" y="2420"/>
                </a:lnTo>
                <a:lnTo>
                  <a:pt x="297" y="2418"/>
                </a:lnTo>
                <a:lnTo>
                  <a:pt x="311" y="2418"/>
                </a:lnTo>
                <a:lnTo>
                  <a:pt x="322" y="2416"/>
                </a:lnTo>
                <a:lnTo>
                  <a:pt x="334" y="2414"/>
                </a:lnTo>
                <a:lnTo>
                  <a:pt x="343" y="2410"/>
                </a:lnTo>
                <a:lnTo>
                  <a:pt x="353" y="2408"/>
                </a:lnTo>
                <a:lnTo>
                  <a:pt x="361" y="2403"/>
                </a:lnTo>
                <a:lnTo>
                  <a:pt x="368" y="2399"/>
                </a:lnTo>
                <a:lnTo>
                  <a:pt x="376" y="2393"/>
                </a:lnTo>
                <a:lnTo>
                  <a:pt x="382" y="2385"/>
                </a:lnTo>
                <a:lnTo>
                  <a:pt x="382" y="2382"/>
                </a:lnTo>
                <a:lnTo>
                  <a:pt x="384" y="2374"/>
                </a:lnTo>
                <a:lnTo>
                  <a:pt x="384" y="2366"/>
                </a:lnTo>
                <a:lnTo>
                  <a:pt x="386" y="2357"/>
                </a:lnTo>
                <a:lnTo>
                  <a:pt x="387" y="2345"/>
                </a:lnTo>
                <a:lnTo>
                  <a:pt x="387" y="2332"/>
                </a:lnTo>
                <a:lnTo>
                  <a:pt x="389" y="2316"/>
                </a:lnTo>
                <a:lnTo>
                  <a:pt x="391" y="2299"/>
                </a:lnTo>
                <a:lnTo>
                  <a:pt x="391" y="2280"/>
                </a:lnTo>
                <a:lnTo>
                  <a:pt x="393" y="2259"/>
                </a:lnTo>
                <a:lnTo>
                  <a:pt x="395" y="2238"/>
                </a:lnTo>
                <a:lnTo>
                  <a:pt x="395" y="2213"/>
                </a:lnTo>
                <a:lnTo>
                  <a:pt x="397" y="2188"/>
                </a:lnTo>
                <a:lnTo>
                  <a:pt x="397" y="2159"/>
                </a:lnTo>
                <a:lnTo>
                  <a:pt x="399" y="2130"/>
                </a:lnTo>
                <a:lnTo>
                  <a:pt x="399" y="2097"/>
                </a:lnTo>
                <a:lnTo>
                  <a:pt x="401" y="2065"/>
                </a:lnTo>
                <a:lnTo>
                  <a:pt x="401" y="2030"/>
                </a:lnTo>
                <a:lnTo>
                  <a:pt x="403" y="1992"/>
                </a:lnTo>
                <a:lnTo>
                  <a:pt x="403" y="1954"/>
                </a:lnTo>
                <a:lnTo>
                  <a:pt x="405" y="1913"/>
                </a:lnTo>
                <a:lnTo>
                  <a:pt x="405" y="1871"/>
                </a:lnTo>
                <a:lnTo>
                  <a:pt x="405" y="1827"/>
                </a:lnTo>
                <a:lnTo>
                  <a:pt x="407" y="1781"/>
                </a:lnTo>
                <a:lnTo>
                  <a:pt x="407" y="1735"/>
                </a:lnTo>
                <a:lnTo>
                  <a:pt x="407" y="1685"/>
                </a:lnTo>
                <a:lnTo>
                  <a:pt x="407" y="1633"/>
                </a:lnTo>
                <a:lnTo>
                  <a:pt x="407" y="1579"/>
                </a:lnTo>
                <a:lnTo>
                  <a:pt x="409" y="1525"/>
                </a:lnTo>
                <a:lnTo>
                  <a:pt x="409" y="1468"/>
                </a:lnTo>
                <a:lnTo>
                  <a:pt x="409" y="1410"/>
                </a:lnTo>
                <a:lnTo>
                  <a:pt x="409" y="1351"/>
                </a:lnTo>
                <a:lnTo>
                  <a:pt x="409" y="1289"/>
                </a:lnTo>
                <a:lnTo>
                  <a:pt x="409" y="1232"/>
                </a:lnTo>
                <a:lnTo>
                  <a:pt x="409" y="1174"/>
                </a:lnTo>
                <a:lnTo>
                  <a:pt x="407" y="1119"/>
                </a:lnTo>
                <a:lnTo>
                  <a:pt x="407" y="1067"/>
                </a:lnTo>
                <a:lnTo>
                  <a:pt x="407" y="1015"/>
                </a:lnTo>
                <a:lnTo>
                  <a:pt x="407" y="965"/>
                </a:lnTo>
                <a:lnTo>
                  <a:pt x="407" y="915"/>
                </a:lnTo>
                <a:lnTo>
                  <a:pt x="405" y="869"/>
                </a:lnTo>
                <a:lnTo>
                  <a:pt x="405" y="825"/>
                </a:lnTo>
                <a:lnTo>
                  <a:pt x="405" y="781"/>
                </a:lnTo>
                <a:lnTo>
                  <a:pt x="403" y="740"/>
                </a:lnTo>
                <a:lnTo>
                  <a:pt x="403" y="700"/>
                </a:lnTo>
                <a:lnTo>
                  <a:pt x="401" y="662"/>
                </a:lnTo>
                <a:lnTo>
                  <a:pt x="401" y="625"/>
                </a:lnTo>
                <a:lnTo>
                  <a:pt x="399" y="591"/>
                </a:lnTo>
                <a:lnTo>
                  <a:pt x="399" y="558"/>
                </a:lnTo>
                <a:lnTo>
                  <a:pt x="397" y="527"/>
                </a:lnTo>
                <a:lnTo>
                  <a:pt x="397" y="497"/>
                </a:lnTo>
                <a:lnTo>
                  <a:pt x="395" y="470"/>
                </a:lnTo>
                <a:lnTo>
                  <a:pt x="395" y="443"/>
                </a:lnTo>
                <a:lnTo>
                  <a:pt x="393" y="418"/>
                </a:lnTo>
                <a:lnTo>
                  <a:pt x="391" y="395"/>
                </a:lnTo>
                <a:lnTo>
                  <a:pt x="391" y="374"/>
                </a:lnTo>
                <a:lnTo>
                  <a:pt x="389" y="355"/>
                </a:lnTo>
                <a:lnTo>
                  <a:pt x="387" y="337"/>
                </a:lnTo>
                <a:lnTo>
                  <a:pt x="387" y="320"/>
                </a:lnTo>
                <a:lnTo>
                  <a:pt x="386" y="305"/>
                </a:lnTo>
                <a:lnTo>
                  <a:pt x="384" y="293"/>
                </a:lnTo>
                <a:lnTo>
                  <a:pt x="384" y="282"/>
                </a:lnTo>
                <a:lnTo>
                  <a:pt x="382" y="272"/>
                </a:lnTo>
                <a:lnTo>
                  <a:pt x="382" y="264"/>
                </a:lnTo>
                <a:lnTo>
                  <a:pt x="370" y="239"/>
                </a:lnTo>
                <a:lnTo>
                  <a:pt x="361" y="218"/>
                </a:lnTo>
                <a:lnTo>
                  <a:pt x="349" y="197"/>
                </a:lnTo>
                <a:lnTo>
                  <a:pt x="339" y="178"/>
                </a:lnTo>
                <a:lnTo>
                  <a:pt x="326" y="159"/>
                </a:lnTo>
                <a:lnTo>
                  <a:pt x="315" y="142"/>
                </a:lnTo>
                <a:lnTo>
                  <a:pt x="301" y="124"/>
                </a:lnTo>
                <a:lnTo>
                  <a:pt x="286" y="111"/>
                </a:lnTo>
                <a:lnTo>
                  <a:pt x="278" y="105"/>
                </a:lnTo>
                <a:lnTo>
                  <a:pt x="272" y="99"/>
                </a:lnTo>
                <a:lnTo>
                  <a:pt x="267" y="95"/>
                </a:lnTo>
                <a:lnTo>
                  <a:pt x="261" y="90"/>
                </a:lnTo>
                <a:lnTo>
                  <a:pt x="257" y="86"/>
                </a:lnTo>
                <a:lnTo>
                  <a:pt x="251" y="80"/>
                </a:lnTo>
                <a:lnTo>
                  <a:pt x="249" y="74"/>
                </a:lnTo>
                <a:lnTo>
                  <a:pt x="245" y="71"/>
                </a:lnTo>
                <a:lnTo>
                  <a:pt x="244" y="65"/>
                </a:lnTo>
                <a:lnTo>
                  <a:pt x="242" y="59"/>
                </a:lnTo>
                <a:lnTo>
                  <a:pt x="242" y="53"/>
                </a:lnTo>
                <a:lnTo>
                  <a:pt x="240" y="48"/>
                </a:lnTo>
                <a:lnTo>
                  <a:pt x="242" y="42"/>
                </a:lnTo>
                <a:lnTo>
                  <a:pt x="242" y="34"/>
                </a:lnTo>
                <a:lnTo>
                  <a:pt x="244" y="28"/>
                </a:lnTo>
                <a:lnTo>
                  <a:pt x="245" y="21"/>
                </a:lnTo>
                <a:lnTo>
                  <a:pt x="249" y="17"/>
                </a:lnTo>
                <a:lnTo>
                  <a:pt x="251" y="13"/>
                </a:lnTo>
                <a:lnTo>
                  <a:pt x="255" y="9"/>
                </a:lnTo>
                <a:lnTo>
                  <a:pt x="261" y="5"/>
                </a:lnTo>
                <a:lnTo>
                  <a:pt x="267" y="3"/>
                </a:lnTo>
                <a:lnTo>
                  <a:pt x="272" y="1"/>
                </a:lnTo>
                <a:lnTo>
                  <a:pt x="278" y="0"/>
                </a:lnTo>
                <a:lnTo>
                  <a:pt x="286" y="0"/>
                </a:lnTo>
                <a:lnTo>
                  <a:pt x="293" y="0"/>
                </a:lnTo>
                <a:lnTo>
                  <a:pt x="303" y="0"/>
                </a:lnTo>
                <a:lnTo>
                  <a:pt x="313" y="0"/>
                </a:lnTo>
                <a:lnTo>
                  <a:pt x="322" y="1"/>
                </a:lnTo>
                <a:lnTo>
                  <a:pt x="332" y="1"/>
                </a:lnTo>
                <a:lnTo>
                  <a:pt x="343" y="3"/>
                </a:lnTo>
                <a:lnTo>
                  <a:pt x="355" y="5"/>
                </a:lnTo>
                <a:lnTo>
                  <a:pt x="368" y="7"/>
                </a:lnTo>
                <a:lnTo>
                  <a:pt x="391" y="13"/>
                </a:lnTo>
                <a:lnTo>
                  <a:pt x="416" y="19"/>
                </a:lnTo>
                <a:lnTo>
                  <a:pt x="439" y="26"/>
                </a:lnTo>
                <a:lnTo>
                  <a:pt x="460" y="34"/>
                </a:lnTo>
                <a:lnTo>
                  <a:pt x="482" y="44"/>
                </a:lnTo>
                <a:lnTo>
                  <a:pt x="503" y="53"/>
                </a:lnTo>
                <a:lnTo>
                  <a:pt x="545" y="72"/>
                </a:lnTo>
                <a:lnTo>
                  <a:pt x="558" y="86"/>
                </a:lnTo>
                <a:lnTo>
                  <a:pt x="572" y="97"/>
                </a:lnTo>
                <a:lnTo>
                  <a:pt x="583" y="109"/>
                </a:lnTo>
                <a:lnTo>
                  <a:pt x="593" y="120"/>
                </a:lnTo>
                <a:lnTo>
                  <a:pt x="597" y="124"/>
                </a:lnTo>
                <a:lnTo>
                  <a:pt x="601" y="128"/>
                </a:lnTo>
                <a:lnTo>
                  <a:pt x="604" y="132"/>
                </a:lnTo>
                <a:lnTo>
                  <a:pt x="606" y="136"/>
                </a:lnTo>
                <a:lnTo>
                  <a:pt x="608" y="140"/>
                </a:lnTo>
                <a:lnTo>
                  <a:pt x="610" y="143"/>
                </a:lnTo>
                <a:lnTo>
                  <a:pt x="612" y="145"/>
                </a:lnTo>
                <a:lnTo>
                  <a:pt x="612" y="149"/>
                </a:lnTo>
                <a:lnTo>
                  <a:pt x="612" y="168"/>
                </a:lnTo>
                <a:lnTo>
                  <a:pt x="610" y="178"/>
                </a:lnTo>
                <a:lnTo>
                  <a:pt x="610" y="188"/>
                </a:lnTo>
                <a:lnTo>
                  <a:pt x="608" y="199"/>
                </a:lnTo>
                <a:lnTo>
                  <a:pt x="606" y="211"/>
                </a:lnTo>
                <a:lnTo>
                  <a:pt x="602" y="224"/>
                </a:lnTo>
                <a:lnTo>
                  <a:pt x="599" y="238"/>
                </a:lnTo>
                <a:lnTo>
                  <a:pt x="595" y="245"/>
                </a:lnTo>
                <a:lnTo>
                  <a:pt x="593" y="253"/>
                </a:lnTo>
                <a:lnTo>
                  <a:pt x="591" y="262"/>
                </a:lnTo>
                <a:lnTo>
                  <a:pt x="589" y="272"/>
                </a:lnTo>
                <a:lnTo>
                  <a:pt x="585" y="282"/>
                </a:lnTo>
                <a:lnTo>
                  <a:pt x="583" y="293"/>
                </a:lnTo>
                <a:lnTo>
                  <a:pt x="581" y="305"/>
                </a:lnTo>
                <a:lnTo>
                  <a:pt x="579" y="316"/>
                </a:lnTo>
                <a:lnTo>
                  <a:pt x="577" y="330"/>
                </a:lnTo>
                <a:lnTo>
                  <a:pt x="576" y="343"/>
                </a:lnTo>
                <a:lnTo>
                  <a:pt x="574" y="358"/>
                </a:lnTo>
                <a:lnTo>
                  <a:pt x="574" y="372"/>
                </a:lnTo>
                <a:lnTo>
                  <a:pt x="572" y="389"/>
                </a:lnTo>
                <a:lnTo>
                  <a:pt x="572" y="406"/>
                </a:lnTo>
                <a:lnTo>
                  <a:pt x="572" y="424"/>
                </a:lnTo>
                <a:lnTo>
                  <a:pt x="572" y="443"/>
                </a:lnTo>
                <a:lnTo>
                  <a:pt x="570" y="454"/>
                </a:lnTo>
                <a:lnTo>
                  <a:pt x="568" y="466"/>
                </a:lnTo>
                <a:lnTo>
                  <a:pt x="568" y="481"/>
                </a:lnTo>
                <a:lnTo>
                  <a:pt x="568" y="497"/>
                </a:lnTo>
                <a:lnTo>
                  <a:pt x="566" y="514"/>
                </a:lnTo>
                <a:lnTo>
                  <a:pt x="566" y="531"/>
                </a:lnTo>
                <a:lnTo>
                  <a:pt x="566" y="550"/>
                </a:lnTo>
                <a:lnTo>
                  <a:pt x="566" y="572"/>
                </a:lnTo>
                <a:lnTo>
                  <a:pt x="566" y="595"/>
                </a:lnTo>
                <a:lnTo>
                  <a:pt x="566" y="618"/>
                </a:lnTo>
                <a:lnTo>
                  <a:pt x="566" y="643"/>
                </a:lnTo>
                <a:lnTo>
                  <a:pt x="566" y="669"/>
                </a:lnTo>
                <a:lnTo>
                  <a:pt x="566" y="698"/>
                </a:lnTo>
                <a:lnTo>
                  <a:pt x="566" y="727"/>
                </a:lnTo>
                <a:lnTo>
                  <a:pt x="568" y="758"/>
                </a:lnTo>
                <a:lnTo>
                  <a:pt x="568" y="788"/>
                </a:lnTo>
                <a:lnTo>
                  <a:pt x="568" y="823"/>
                </a:lnTo>
                <a:lnTo>
                  <a:pt x="570" y="858"/>
                </a:lnTo>
                <a:lnTo>
                  <a:pt x="570" y="894"/>
                </a:lnTo>
                <a:lnTo>
                  <a:pt x="570" y="930"/>
                </a:lnTo>
                <a:lnTo>
                  <a:pt x="572" y="971"/>
                </a:lnTo>
                <a:lnTo>
                  <a:pt x="572" y="1011"/>
                </a:lnTo>
                <a:lnTo>
                  <a:pt x="574" y="1051"/>
                </a:lnTo>
                <a:lnTo>
                  <a:pt x="576" y="1096"/>
                </a:lnTo>
                <a:lnTo>
                  <a:pt x="576" y="1140"/>
                </a:lnTo>
                <a:lnTo>
                  <a:pt x="577" y="1186"/>
                </a:lnTo>
                <a:lnTo>
                  <a:pt x="577" y="1232"/>
                </a:lnTo>
                <a:lnTo>
                  <a:pt x="579" y="1282"/>
                </a:lnTo>
                <a:lnTo>
                  <a:pt x="581" y="1332"/>
                </a:lnTo>
                <a:lnTo>
                  <a:pt x="581" y="1383"/>
                </a:lnTo>
                <a:lnTo>
                  <a:pt x="583" y="1435"/>
                </a:lnTo>
                <a:lnTo>
                  <a:pt x="585" y="1491"/>
                </a:lnTo>
                <a:lnTo>
                  <a:pt x="585" y="1545"/>
                </a:lnTo>
                <a:lnTo>
                  <a:pt x="587" y="1598"/>
                </a:lnTo>
                <a:lnTo>
                  <a:pt x="587" y="1650"/>
                </a:lnTo>
                <a:lnTo>
                  <a:pt x="589" y="1700"/>
                </a:lnTo>
                <a:lnTo>
                  <a:pt x="589" y="1748"/>
                </a:lnTo>
                <a:lnTo>
                  <a:pt x="589" y="1796"/>
                </a:lnTo>
                <a:lnTo>
                  <a:pt x="589" y="1842"/>
                </a:lnTo>
                <a:lnTo>
                  <a:pt x="589" y="1886"/>
                </a:lnTo>
                <a:lnTo>
                  <a:pt x="589" y="1929"/>
                </a:lnTo>
                <a:lnTo>
                  <a:pt x="589" y="1971"/>
                </a:lnTo>
                <a:lnTo>
                  <a:pt x="589" y="2011"/>
                </a:lnTo>
                <a:lnTo>
                  <a:pt x="589" y="2050"/>
                </a:lnTo>
                <a:lnTo>
                  <a:pt x="589" y="2088"/>
                </a:lnTo>
                <a:lnTo>
                  <a:pt x="589" y="2122"/>
                </a:lnTo>
                <a:lnTo>
                  <a:pt x="589" y="2157"/>
                </a:lnTo>
                <a:lnTo>
                  <a:pt x="587" y="2190"/>
                </a:lnTo>
                <a:lnTo>
                  <a:pt x="587" y="2222"/>
                </a:lnTo>
                <a:lnTo>
                  <a:pt x="587" y="2253"/>
                </a:lnTo>
                <a:lnTo>
                  <a:pt x="585" y="2282"/>
                </a:lnTo>
                <a:lnTo>
                  <a:pt x="585" y="2309"/>
                </a:lnTo>
                <a:lnTo>
                  <a:pt x="583" y="2336"/>
                </a:lnTo>
                <a:lnTo>
                  <a:pt x="583" y="2359"/>
                </a:lnTo>
                <a:lnTo>
                  <a:pt x="581" y="2382"/>
                </a:lnTo>
                <a:lnTo>
                  <a:pt x="581" y="2405"/>
                </a:lnTo>
                <a:lnTo>
                  <a:pt x="579" y="2424"/>
                </a:lnTo>
                <a:lnTo>
                  <a:pt x="577" y="2443"/>
                </a:lnTo>
                <a:lnTo>
                  <a:pt x="577" y="2460"/>
                </a:lnTo>
                <a:lnTo>
                  <a:pt x="576" y="2476"/>
                </a:lnTo>
                <a:lnTo>
                  <a:pt x="574" y="2491"/>
                </a:lnTo>
                <a:lnTo>
                  <a:pt x="574" y="2504"/>
                </a:lnTo>
                <a:lnTo>
                  <a:pt x="572" y="2516"/>
                </a:lnTo>
                <a:lnTo>
                  <a:pt x="572" y="2526"/>
                </a:lnTo>
                <a:lnTo>
                  <a:pt x="566" y="2545"/>
                </a:lnTo>
                <a:lnTo>
                  <a:pt x="560" y="2564"/>
                </a:lnTo>
                <a:lnTo>
                  <a:pt x="556" y="2581"/>
                </a:lnTo>
                <a:lnTo>
                  <a:pt x="551" y="2598"/>
                </a:lnTo>
                <a:lnTo>
                  <a:pt x="545" y="2616"/>
                </a:lnTo>
                <a:lnTo>
                  <a:pt x="539" y="2631"/>
                </a:lnTo>
                <a:lnTo>
                  <a:pt x="533" y="2646"/>
                </a:lnTo>
                <a:lnTo>
                  <a:pt x="528" y="2662"/>
                </a:lnTo>
                <a:lnTo>
                  <a:pt x="516" y="2691"/>
                </a:lnTo>
                <a:lnTo>
                  <a:pt x="505" y="2719"/>
                </a:lnTo>
                <a:lnTo>
                  <a:pt x="491" y="2744"/>
                </a:lnTo>
                <a:lnTo>
                  <a:pt x="476" y="2769"/>
                </a:lnTo>
                <a:lnTo>
                  <a:pt x="468" y="2781"/>
                </a:lnTo>
                <a:lnTo>
                  <a:pt x="460" y="2792"/>
                </a:lnTo>
                <a:lnTo>
                  <a:pt x="453" y="2802"/>
                </a:lnTo>
                <a:lnTo>
                  <a:pt x="445" y="2810"/>
                </a:lnTo>
                <a:lnTo>
                  <a:pt x="439" y="2819"/>
                </a:lnTo>
                <a:lnTo>
                  <a:pt x="432" y="2827"/>
                </a:lnTo>
                <a:lnTo>
                  <a:pt x="424" y="2833"/>
                </a:lnTo>
                <a:lnTo>
                  <a:pt x="416" y="2840"/>
                </a:lnTo>
                <a:lnTo>
                  <a:pt x="411" y="2846"/>
                </a:lnTo>
                <a:lnTo>
                  <a:pt x="403" y="2850"/>
                </a:lnTo>
                <a:lnTo>
                  <a:pt x="397" y="2856"/>
                </a:lnTo>
                <a:lnTo>
                  <a:pt x="389" y="2860"/>
                </a:lnTo>
                <a:lnTo>
                  <a:pt x="378" y="2865"/>
                </a:lnTo>
                <a:lnTo>
                  <a:pt x="368" y="2871"/>
                </a:lnTo>
                <a:lnTo>
                  <a:pt x="363" y="2871"/>
                </a:lnTo>
                <a:lnTo>
                  <a:pt x="359" y="2869"/>
                </a:lnTo>
                <a:lnTo>
                  <a:pt x="353" y="2867"/>
                </a:lnTo>
                <a:lnTo>
                  <a:pt x="349" y="2865"/>
                </a:lnTo>
                <a:lnTo>
                  <a:pt x="345" y="2860"/>
                </a:lnTo>
                <a:lnTo>
                  <a:pt x="341" y="2856"/>
                </a:lnTo>
                <a:lnTo>
                  <a:pt x="338" y="2850"/>
                </a:lnTo>
                <a:lnTo>
                  <a:pt x="336" y="2842"/>
                </a:lnTo>
                <a:lnTo>
                  <a:pt x="332" y="2835"/>
                </a:lnTo>
                <a:lnTo>
                  <a:pt x="330" y="2827"/>
                </a:lnTo>
                <a:lnTo>
                  <a:pt x="326" y="2817"/>
                </a:lnTo>
                <a:lnTo>
                  <a:pt x="324" y="2808"/>
                </a:lnTo>
                <a:lnTo>
                  <a:pt x="320" y="2796"/>
                </a:lnTo>
                <a:lnTo>
                  <a:pt x="318" y="2783"/>
                </a:lnTo>
                <a:lnTo>
                  <a:pt x="316" y="2771"/>
                </a:lnTo>
                <a:lnTo>
                  <a:pt x="313" y="275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Freeform 84"/>
          <p:cNvSpPr/>
          <p:nvPr/>
        </p:nvSpPr>
        <p:spPr>
          <a:xfrm>
            <a:off x="7013520" y="3325680"/>
            <a:ext cx="204840" cy="1024200"/>
          </a:xfrm>
          <a:custGeom>
            <a:avLst/>
            <a:gdLst/>
            <a:ahLst/>
            <a:rect l="l" t="t" r="r" b="b"/>
            <a:pathLst>
              <a:path w="257" h="1292">
                <a:moveTo>
                  <a:pt x="27" y="115"/>
                </a:moveTo>
                <a:lnTo>
                  <a:pt x="17" y="96"/>
                </a:lnTo>
                <a:lnTo>
                  <a:pt x="11" y="87"/>
                </a:lnTo>
                <a:lnTo>
                  <a:pt x="8" y="77"/>
                </a:lnTo>
                <a:lnTo>
                  <a:pt x="4" y="67"/>
                </a:lnTo>
                <a:lnTo>
                  <a:pt x="2" y="58"/>
                </a:lnTo>
                <a:lnTo>
                  <a:pt x="0" y="48"/>
                </a:lnTo>
                <a:lnTo>
                  <a:pt x="0" y="39"/>
                </a:lnTo>
                <a:lnTo>
                  <a:pt x="0" y="31"/>
                </a:lnTo>
                <a:lnTo>
                  <a:pt x="2" y="23"/>
                </a:lnTo>
                <a:lnTo>
                  <a:pt x="6" y="16"/>
                </a:lnTo>
                <a:lnTo>
                  <a:pt x="11" y="10"/>
                </a:lnTo>
                <a:lnTo>
                  <a:pt x="13" y="8"/>
                </a:lnTo>
                <a:lnTo>
                  <a:pt x="17" y="6"/>
                </a:lnTo>
                <a:lnTo>
                  <a:pt x="23" y="4"/>
                </a:lnTo>
                <a:lnTo>
                  <a:pt x="27" y="4"/>
                </a:lnTo>
                <a:lnTo>
                  <a:pt x="33" y="2"/>
                </a:lnTo>
                <a:lnTo>
                  <a:pt x="38" y="2"/>
                </a:lnTo>
                <a:lnTo>
                  <a:pt x="46" y="0"/>
                </a:lnTo>
                <a:lnTo>
                  <a:pt x="54" y="0"/>
                </a:lnTo>
                <a:lnTo>
                  <a:pt x="69" y="2"/>
                </a:lnTo>
                <a:lnTo>
                  <a:pt x="84" y="2"/>
                </a:lnTo>
                <a:lnTo>
                  <a:pt x="100" y="6"/>
                </a:lnTo>
                <a:lnTo>
                  <a:pt x="117" y="8"/>
                </a:lnTo>
                <a:lnTo>
                  <a:pt x="132" y="12"/>
                </a:lnTo>
                <a:lnTo>
                  <a:pt x="152" y="17"/>
                </a:lnTo>
                <a:lnTo>
                  <a:pt x="169" y="21"/>
                </a:lnTo>
                <a:lnTo>
                  <a:pt x="190" y="27"/>
                </a:lnTo>
                <a:lnTo>
                  <a:pt x="203" y="37"/>
                </a:lnTo>
                <a:lnTo>
                  <a:pt x="217" y="46"/>
                </a:lnTo>
                <a:lnTo>
                  <a:pt x="228" y="56"/>
                </a:lnTo>
                <a:lnTo>
                  <a:pt x="238" y="65"/>
                </a:lnTo>
                <a:lnTo>
                  <a:pt x="242" y="69"/>
                </a:lnTo>
                <a:lnTo>
                  <a:pt x="246" y="75"/>
                </a:lnTo>
                <a:lnTo>
                  <a:pt x="249" y="79"/>
                </a:lnTo>
                <a:lnTo>
                  <a:pt x="251" y="85"/>
                </a:lnTo>
                <a:lnTo>
                  <a:pt x="253" y="88"/>
                </a:lnTo>
                <a:lnTo>
                  <a:pt x="255" y="94"/>
                </a:lnTo>
                <a:lnTo>
                  <a:pt x="257" y="98"/>
                </a:lnTo>
                <a:lnTo>
                  <a:pt x="257" y="104"/>
                </a:lnTo>
                <a:lnTo>
                  <a:pt x="257" y="111"/>
                </a:lnTo>
                <a:lnTo>
                  <a:pt x="257" y="119"/>
                </a:lnTo>
                <a:lnTo>
                  <a:pt x="257" y="129"/>
                </a:lnTo>
                <a:lnTo>
                  <a:pt x="257" y="138"/>
                </a:lnTo>
                <a:lnTo>
                  <a:pt x="257" y="150"/>
                </a:lnTo>
                <a:lnTo>
                  <a:pt x="255" y="161"/>
                </a:lnTo>
                <a:lnTo>
                  <a:pt x="255" y="175"/>
                </a:lnTo>
                <a:lnTo>
                  <a:pt x="255" y="190"/>
                </a:lnTo>
                <a:lnTo>
                  <a:pt x="255" y="204"/>
                </a:lnTo>
                <a:lnTo>
                  <a:pt x="253" y="219"/>
                </a:lnTo>
                <a:lnTo>
                  <a:pt x="251" y="236"/>
                </a:lnTo>
                <a:lnTo>
                  <a:pt x="251" y="254"/>
                </a:lnTo>
                <a:lnTo>
                  <a:pt x="249" y="273"/>
                </a:lnTo>
                <a:lnTo>
                  <a:pt x="248" y="292"/>
                </a:lnTo>
                <a:lnTo>
                  <a:pt x="246" y="313"/>
                </a:lnTo>
                <a:lnTo>
                  <a:pt x="244" y="334"/>
                </a:lnTo>
                <a:lnTo>
                  <a:pt x="240" y="355"/>
                </a:lnTo>
                <a:lnTo>
                  <a:pt x="238" y="380"/>
                </a:lnTo>
                <a:lnTo>
                  <a:pt x="236" y="405"/>
                </a:lnTo>
                <a:lnTo>
                  <a:pt x="234" y="434"/>
                </a:lnTo>
                <a:lnTo>
                  <a:pt x="230" y="463"/>
                </a:lnTo>
                <a:lnTo>
                  <a:pt x="228" y="493"/>
                </a:lnTo>
                <a:lnTo>
                  <a:pt x="226" y="526"/>
                </a:lnTo>
                <a:lnTo>
                  <a:pt x="224" y="561"/>
                </a:lnTo>
                <a:lnTo>
                  <a:pt x="223" y="597"/>
                </a:lnTo>
                <a:lnTo>
                  <a:pt x="221" y="636"/>
                </a:lnTo>
                <a:lnTo>
                  <a:pt x="219" y="676"/>
                </a:lnTo>
                <a:lnTo>
                  <a:pt x="219" y="716"/>
                </a:lnTo>
                <a:lnTo>
                  <a:pt x="217" y="758"/>
                </a:lnTo>
                <a:lnTo>
                  <a:pt x="217" y="802"/>
                </a:lnTo>
                <a:lnTo>
                  <a:pt x="217" y="849"/>
                </a:lnTo>
                <a:lnTo>
                  <a:pt x="217" y="897"/>
                </a:lnTo>
                <a:lnTo>
                  <a:pt x="217" y="920"/>
                </a:lnTo>
                <a:lnTo>
                  <a:pt x="215" y="945"/>
                </a:lnTo>
                <a:lnTo>
                  <a:pt x="215" y="968"/>
                </a:lnTo>
                <a:lnTo>
                  <a:pt x="215" y="991"/>
                </a:lnTo>
                <a:lnTo>
                  <a:pt x="215" y="1012"/>
                </a:lnTo>
                <a:lnTo>
                  <a:pt x="215" y="1031"/>
                </a:lnTo>
                <a:lnTo>
                  <a:pt x="215" y="1052"/>
                </a:lnTo>
                <a:lnTo>
                  <a:pt x="213" y="1071"/>
                </a:lnTo>
                <a:lnTo>
                  <a:pt x="213" y="1088"/>
                </a:lnTo>
                <a:lnTo>
                  <a:pt x="211" y="1106"/>
                </a:lnTo>
                <a:lnTo>
                  <a:pt x="211" y="1123"/>
                </a:lnTo>
                <a:lnTo>
                  <a:pt x="211" y="1138"/>
                </a:lnTo>
                <a:lnTo>
                  <a:pt x="209" y="1154"/>
                </a:lnTo>
                <a:lnTo>
                  <a:pt x="209" y="1169"/>
                </a:lnTo>
                <a:lnTo>
                  <a:pt x="207" y="1183"/>
                </a:lnTo>
                <a:lnTo>
                  <a:pt x="205" y="1194"/>
                </a:lnTo>
                <a:lnTo>
                  <a:pt x="205" y="1206"/>
                </a:lnTo>
                <a:lnTo>
                  <a:pt x="203" y="1217"/>
                </a:lnTo>
                <a:lnTo>
                  <a:pt x="201" y="1229"/>
                </a:lnTo>
                <a:lnTo>
                  <a:pt x="200" y="1238"/>
                </a:lnTo>
                <a:lnTo>
                  <a:pt x="198" y="1246"/>
                </a:lnTo>
                <a:lnTo>
                  <a:pt x="198" y="1254"/>
                </a:lnTo>
                <a:lnTo>
                  <a:pt x="196" y="1261"/>
                </a:lnTo>
                <a:lnTo>
                  <a:pt x="194" y="1267"/>
                </a:lnTo>
                <a:lnTo>
                  <a:pt x="192" y="1273"/>
                </a:lnTo>
                <a:lnTo>
                  <a:pt x="190" y="1279"/>
                </a:lnTo>
                <a:lnTo>
                  <a:pt x="188" y="1282"/>
                </a:lnTo>
                <a:lnTo>
                  <a:pt x="184" y="1286"/>
                </a:lnTo>
                <a:lnTo>
                  <a:pt x="182" y="1288"/>
                </a:lnTo>
                <a:lnTo>
                  <a:pt x="180" y="1290"/>
                </a:lnTo>
                <a:lnTo>
                  <a:pt x="178" y="1292"/>
                </a:lnTo>
                <a:lnTo>
                  <a:pt x="176" y="1292"/>
                </a:lnTo>
                <a:lnTo>
                  <a:pt x="171" y="1292"/>
                </a:lnTo>
                <a:lnTo>
                  <a:pt x="165" y="1290"/>
                </a:lnTo>
                <a:lnTo>
                  <a:pt x="161" y="1290"/>
                </a:lnTo>
                <a:lnTo>
                  <a:pt x="155" y="1288"/>
                </a:lnTo>
                <a:lnTo>
                  <a:pt x="150" y="1284"/>
                </a:lnTo>
                <a:lnTo>
                  <a:pt x="146" y="1280"/>
                </a:lnTo>
                <a:lnTo>
                  <a:pt x="140" y="1277"/>
                </a:lnTo>
                <a:lnTo>
                  <a:pt x="134" y="1273"/>
                </a:lnTo>
                <a:lnTo>
                  <a:pt x="130" y="1267"/>
                </a:lnTo>
                <a:lnTo>
                  <a:pt x="125" y="1261"/>
                </a:lnTo>
                <a:lnTo>
                  <a:pt x="119" y="1255"/>
                </a:lnTo>
                <a:lnTo>
                  <a:pt x="115" y="1250"/>
                </a:lnTo>
                <a:lnTo>
                  <a:pt x="109" y="1242"/>
                </a:lnTo>
                <a:lnTo>
                  <a:pt x="104" y="1232"/>
                </a:lnTo>
                <a:lnTo>
                  <a:pt x="100" y="1225"/>
                </a:lnTo>
                <a:lnTo>
                  <a:pt x="94" y="1215"/>
                </a:lnTo>
                <a:lnTo>
                  <a:pt x="84" y="1200"/>
                </a:lnTo>
                <a:lnTo>
                  <a:pt x="77" y="1186"/>
                </a:lnTo>
                <a:lnTo>
                  <a:pt x="69" y="1171"/>
                </a:lnTo>
                <a:lnTo>
                  <a:pt x="63" y="1158"/>
                </a:lnTo>
                <a:lnTo>
                  <a:pt x="59" y="1142"/>
                </a:lnTo>
                <a:lnTo>
                  <a:pt x="56" y="1129"/>
                </a:lnTo>
                <a:lnTo>
                  <a:pt x="54" y="1115"/>
                </a:lnTo>
                <a:lnTo>
                  <a:pt x="54" y="1100"/>
                </a:lnTo>
                <a:lnTo>
                  <a:pt x="54" y="1094"/>
                </a:lnTo>
                <a:lnTo>
                  <a:pt x="54" y="1088"/>
                </a:lnTo>
                <a:lnTo>
                  <a:pt x="54" y="1081"/>
                </a:lnTo>
                <a:lnTo>
                  <a:pt x="56" y="1073"/>
                </a:lnTo>
                <a:lnTo>
                  <a:pt x="57" y="1065"/>
                </a:lnTo>
                <a:lnTo>
                  <a:pt x="57" y="1056"/>
                </a:lnTo>
                <a:lnTo>
                  <a:pt x="59" y="1044"/>
                </a:lnTo>
                <a:lnTo>
                  <a:pt x="61" y="1033"/>
                </a:lnTo>
                <a:lnTo>
                  <a:pt x="63" y="1021"/>
                </a:lnTo>
                <a:lnTo>
                  <a:pt x="65" y="1008"/>
                </a:lnTo>
                <a:lnTo>
                  <a:pt x="69" y="993"/>
                </a:lnTo>
                <a:lnTo>
                  <a:pt x="71" y="977"/>
                </a:lnTo>
                <a:lnTo>
                  <a:pt x="73" y="962"/>
                </a:lnTo>
                <a:lnTo>
                  <a:pt x="75" y="945"/>
                </a:lnTo>
                <a:lnTo>
                  <a:pt x="79" y="927"/>
                </a:lnTo>
                <a:lnTo>
                  <a:pt x="81" y="908"/>
                </a:lnTo>
                <a:lnTo>
                  <a:pt x="84" y="870"/>
                </a:lnTo>
                <a:lnTo>
                  <a:pt x="88" y="833"/>
                </a:lnTo>
                <a:lnTo>
                  <a:pt x="90" y="799"/>
                </a:lnTo>
                <a:lnTo>
                  <a:pt x="92" y="762"/>
                </a:lnTo>
                <a:lnTo>
                  <a:pt x="94" y="728"/>
                </a:lnTo>
                <a:lnTo>
                  <a:pt x="94" y="695"/>
                </a:lnTo>
                <a:lnTo>
                  <a:pt x="94" y="628"/>
                </a:lnTo>
                <a:lnTo>
                  <a:pt x="94" y="612"/>
                </a:lnTo>
                <a:lnTo>
                  <a:pt x="94" y="597"/>
                </a:lnTo>
                <a:lnTo>
                  <a:pt x="94" y="582"/>
                </a:lnTo>
                <a:lnTo>
                  <a:pt x="94" y="564"/>
                </a:lnTo>
                <a:lnTo>
                  <a:pt x="94" y="547"/>
                </a:lnTo>
                <a:lnTo>
                  <a:pt x="94" y="530"/>
                </a:lnTo>
                <a:lnTo>
                  <a:pt x="92" y="513"/>
                </a:lnTo>
                <a:lnTo>
                  <a:pt x="92" y="495"/>
                </a:lnTo>
                <a:lnTo>
                  <a:pt x="90" y="457"/>
                </a:lnTo>
                <a:lnTo>
                  <a:pt x="88" y="417"/>
                </a:lnTo>
                <a:lnTo>
                  <a:pt x="84" y="376"/>
                </a:lnTo>
                <a:lnTo>
                  <a:pt x="81" y="334"/>
                </a:lnTo>
                <a:lnTo>
                  <a:pt x="79" y="313"/>
                </a:lnTo>
                <a:lnTo>
                  <a:pt x="75" y="292"/>
                </a:lnTo>
                <a:lnTo>
                  <a:pt x="73" y="273"/>
                </a:lnTo>
                <a:lnTo>
                  <a:pt x="71" y="254"/>
                </a:lnTo>
                <a:lnTo>
                  <a:pt x="67" y="236"/>
                </a:lnTo>
                <a:lnTo>
                  <a:pt x="65" y="221"/>
                </a:lnTo>
                <a:lnTo>
                  <a:pt x="61" y="206"/>
                </a:lnTo>
                <a:lnTo>
                  <a:pt x="59" y="190"/>
                </a:lnTo>
                <a:lnTo>
                  <a:pt x="56" y="179"/>
                </a:lnTo>
                <a:lnTo>
                  <a:pt x="52" y="165"/>
                </a:lnTo>
                <a:lnTo>
                  <a:pt x="48" y="154"/>
                </a:lnTo>
                <a:lnTo>
                  <a:pt x="44" y="144"/>
                </a:lnTo>
                <a:lnTo>
                  <a:pt x="40" y="136"/>
                </a:lnTo>
                <a:lnTo>
                  <a:pt x="36" y="129"/>
                </a:lnTo>
                <a:lnTo>
                  <a:pt x="31" y="121"/>
                </a:lnTo>
                <a:lnTo>
                  <a:pt x="27" y="115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Freeform 85"/>
          <p:cNvSpPr/>
          <p:nvPr/>
        </p:nvSpPr>
        <p:spPr>
          <a:xfrm>
            <a:off x="5667480" y="4381560"/>
            <a:ext cx="1260360" cy="353880"/>
          </a:xfrm>
          <a:custGeom>
            <a:avLst/>
            <a:gdLst/>
            <a:ahLst/>
            <a:rect l="l" t="t" r="r" b="b"/>
            <a:pathLst>
              <a:path w="1587" h="448">
                <a:moveTo>
                  <a:pt x="230" y="231"/>
                </a:moveTo>
                <a:lnTo>
                  <a:pt x="240" y="227"/>
                </a:lnTo>
                <a:lnTo>
                  <a:pt x="250" y="225"/>
                </a:lnTo>
                <a:lnTo>
                  <a:pt x="261" y="221"/>
                </a:lnTo>
                <a:lnTo>
                  <a:pt x="275" y="219"/>
                </a:lnTo>
                <a:lnTo>
                  <a:pt x="290" y="215"/>
                </a:lnTo>
                <a:lnTo>
                  <a:pt x="307" y="211"/>
                </a:lnTo>
                <a:lnTo>
                  <a:pt x="326" y="206"/>
                </a:lnTo>
                <a:lnTo>
                  <a:pt x="346" y="202"/>
                </a:lnTo>
                <a:lnTo>
                  <a:pt x="357" y="200"/>
                </a:lnTo>
                <a:lnTo>
                  <a:pt x="369" y="196"/>
                </a:lnTo>
                <a:lnTo>
                  <a:pt x="380" y="194"/>
                </a:lnTo>
                <a:lnTo>
                  <a:pt x="394" y="192"/>
                </a:lnTo>
                <a:lnTo>
                  <a:pt x="407" y="188"/>
                </a:lnTo>
                <a:lnTo>
                  <a:pt x="420" y="187"/>
                </a:lnTo>
                <a:lnTo>
                  <a:pt x="434" y="183"/>
                </a:lnTo>
                <a:lnTo>
                  <a:pt x="449" y="181"/>
                </a:lnTo>
                <a:lnTo>
                  <a:pt x="465" y="177"/>
                </a:lnTo>
                <a:lnTo>
                  <a:pt x="480" y="173"/>
                </a:lnTo>
                <a:lnTo>
                  <a:pt x="495" y="171"/>
                </a:lnTo>
                <a:lnTo>
                  <a:pt x="513" y="167"/>
                </a:lnTo>
                <a:lnTo>
                  <a:pt x="530" y="164"/>
                </a:lnTo>
                <a:lnTo>
                  <a:pt x="547" y="162"/>
                </a:lnTo>
                <a:lnTo>
                  <a:pt x="564" y="158"/>
                </a:lnTo>
                <a:lnTo>
                  <a:pt x="584" y="154"/>
                </a:lnTo>
                <a:lnTo>
                  <a:pt x="655" y="140"/>
                </a:lnTo>
                <a:lnTo>
                  <a:pt x="724" y="127"/>
                </a:lnTo>
                <a:lnTo>
                  <a:pt x="793" y="114"/>
                </a:lnTo>
                <a:lnTo>
                  <a:pt x="860" y="102"/>
                </a:lnTo>
                <a:lnTo>
                  <a:pt x="927" y="91"/>
                </a:lnTo>
                <a:lnTo>
                  <a:pt x="994" y="79"/>
                </a:lnTo>
                <a:lnTo>
                  <a:pt x="1060" y="66"/>
                </a:lnTo>
                <a:lnTo>
                  <a:pt x="1127" y="52"/>
                </a:lnTo>
                <a:lnTo>
                  <a:pt x="1156" y="44"/>
                </a:lnTo>
                <a:lnTo>
                  <a:pt x="1186" y="39"/>
                </a:lnTo>
                <a:lnTo>
                  <a:pt x="1213" y="33"/>
                </a:lnTo>
                <a:lnTo>
                  <a:pt x="1240" y="27"/>
                </a:lnTo>
                <a:lnTo>
                  <a:pt x="1267" y="21"/>
                </a:lnTo>
                <a:lnTo>
                  <a:pt x="1292" y="18"/>
                </a:lnTo>
                <a:lnTo>
                  <a:pt x="1315" y="14"/>
                </a:lnTo>
                <a:lnTo>
                  <a:pt x="1338" y="12"/>
                </a:lnTo>
                <a:lnTo>
                  <a:pt x="1361" y="8"/>
                </a:lnTo>
                <a:lnTo>
                  <a:pt x="1380" y="6"/>
                </a:lnTo>
                <a:lnTo>
                  <a:pt x="1399" y="4"/>
                </a:lnTo>
                <a:lnTo>
                  <a:pt x="1419" y="2"/>
                </a:lnTo>
                <a:lnTo>
                  <a:pt x="1436" y="2"/>
                </a:lnTo>
                <a:lnTo>
                  <a:pt x="1451" y="0"/>
                </a:lnTo>
                <a:lnTo>
                  <a:pt x="1467" y="0"/>
                </a:lnTo>
                <a:lnTo>
                  <a:pt x="1480" y="0"/>
                </a:lnTo>
                <a:lnTo>
                  <a:pt x="1492" y="0"/>
                </a:lnTo>
                <a:lnTo>
                  <a:pt x="1503" y="0"/>
                </a:lnTo>
                <a:lnTo>
                  <a:pt x="1515" y="0"/>
                </a:lnTo>
                <a:lnTo>
                  <a:pt x="1524" y="0"/>
                </a:lnTo>
                <a:lnTo>
                  <a:pt x="1534" y="0"/>
                </a:lnTo>
                <a:lnTo>
                  <a:pt x="1543" y="0"/>
                </a:lnTo>
                <a:lnTo>
                  <a:pt x="1551" y="2"/>
                </a:lnTo>
                <a:lnTo>
                  <a:pt x="1559" y="2"/>
                </a:lnTo>
                <a:lnTo>
                  <a:pt x="1564" y="2"/>
                </a:lnTo>
                <a:lnTo>
                  <a:pt x="1570" y="4"/>
                </a:lnTo>
                <a:lnTo>
                  <a:pt x="1576" y="4"/>
                </a:lnTo>
                <a:lnTo>
                  <a:pt x="1580" y="6"/>
                </a:lnTo>
                <a:lnTo>
                  <a:pt x="1584" y="8"/>
                </a:lnTo>
                <a:lnTo>
                  <a:pt x="1586" y="8"/>
                </a:lnTo>
                <a:lnTo>
                  <a:pt x="1587" y="10"/>
                </a:lnTo>
                <a:lnTo>
                  <a:pt x="1587" y="14"/>
                </a:lnTo>
                <a:lnTo>
                  <a:pt x="1586" y="16"/>
                </a:lnTo>
                <a:lnTo>
                  <a:pt x="1586" y="18"/>
                </a:lnTo>
                <a:lnTo>
                  <a:pt x="1584" y="20"/>
                </a:lnTo>
                <a:lnTo>
                  <a:pt x="1580" y="21"/>
                </a:lnTo>
                <a:lnTo>
                  <a:pt x="1578" y="23"/>
                </a:lnTo>
                <a:lnTo>
                  <a:pt x="1574" y="25"/>
                </a:lnTo>
                <a:lnTo>
                  <a:pt x="1570" y="27"/>
                </a:lnTo>
                <a:lnTo>
                  <a:pt x="1564" y="29"/>
                </a:lnTo>
                <a:lnTo>
                  <a:pt x="1561" y="31"/>
                </a:lnTo>
                <a:lnTo>
                  <a:pt x="1553" y="35"/>
                </a:lnTo>
                <a:lnTo>
                  <a:pt x="1547" y="37"/>
                </a:lnTo>
                <a:lnTo>
                  <a:pt x="1541" y="41"/>
                </a:lnTo>
                <a:lnTo>
                  <a:pt x="1534" y="43"/>
                </a:lnTo>
                <a:lnTo>
                  <a:pt x="1524" y="46"/>
                </a:lnTo>
                <a:lnTo>
                  <a:pt x="1516" y="50"/>
                </a:lnTo>
                <a:lnTo>
                  <a:pt x="1507" y="52"/>
                </a:lnTo>
                <a:lnTo>
                  <a:pt x="1497" y="56"/>
                </a:lnTo>
                <a:lnTo>
                  <a:pt x="1488" y="60"/>
                </a:lnTo>
                <a:lnTo>
                  <a:pt x="1476" y="64"/>
                </a:lnTo>
                <a:lnTo>
                  <a:pt x="1465" y="68"/>
                </a:lnTo>
                <a:lnTo>
                  <a:pt x="1453" y="71"/>
                </a:lnTo>
                <a:lnTo>
                  <a:pt x="1440" y="75"/>
                </a:lnTo>
                <a:lnTo>
                  <a:pt x="1426" y="79"/>
                </a:lnTo>
                <a:lnTo>
                  <a:pt x="1413" y="83"/>
                </a:lnTo>
                <a:lnTo>
                  <a:pt x="1399" y="87"/>
                </a:lnTo>
                <a:lnTo>
                  <a:pt x="1384" y="92"/>
                </a:lnTo>
                <a:lnTo>
                  <a:pt x="1369" y="96"/>
                </a:lnTo>
                <a:lnTo>
                  <a:pt x="1353" y="100"/>
                </a:lnTo>
                <a:lnTo>
                  <a:pt x="1338" y="106"/>
                </a:lnTo>
                <a:lnTo>
                  <a:pt x="1321" y="110"/>
                </a:lnTo>
                <a:lnTo>
                  <a:pt x="1303" y="116"/>
                </a:lnTo>
                <a:lnTo>
                  <a:pt x="1267" y="127"/>
                </a:lnTo>
                <a:lnTo>
                  <a:pt x="1230" y="139"/>
                </a:lnTo>
                <a:lnTo>
                  <a:pt x="1194" y="152"/>
                </a:lnTo>
                <a:lnTo>
                  <a:pt x="1156" y="164"/>
                </a:lnTo>
                <a:lnTo>
                  <a:pt x="1117" y="175"/>
                </a:lnTo>
                <a:lnTo>
                  <a:pt x="1079" y="188"/>
                </a:lnTo>
                <a:lnTo>
                  <a:pt x="1039" y="200"/>
                </a:lnTo>
                <a:lnTo>
                  <a:pt x="998" y="213"/>
                </a:lnTo>
                <a:lnTo>
                  <a:pt x="918" y="238"/>
                </a:lnTo>
                <a:lnTo>
                  <a:pt x="835" y="263"/>
                </a:lnTo>
                <a:lnTo>
                  <a:pt x="751" y="292"/>
                </a:lnTo>
                <a:lnTo>
                  <a:pt x="666" y="321"/>
                </a:lnTo>
                <a:lnTo>
                  <a:pt x="624" y="336"/>
                </a:lnTo>
                <a:lnTo>
                  <a:pt x="603" y="344"/>
                </a:lnTo>
                <a:lnTo>
                  <a:pt x="584" y="352"/>
                </a:lnTo>
                <a:lnTo>
                  <a:pt x="563" y="359"/>
                </a:lnTo>
                <a:lnTo>
                  <a:pt x="545" y="365"/>
                </a:lnTo>
                <a:lnTo>
                  <a:pt x="526" y="373"/>
                </a:lnTo>
                <a:lnTo>
                  <a:pt x="509" y="378"/>
                </a:lnTo>
                <a:lnTo>
                  <a:pt x="492" y="384"/>
                </a:lnTo>
                <a:lnTo>
                  <a:pt x="474" y="390"/>
                </a:lnTo>
                <a:lnTo>
                  <a:pt x="457" y="396"/>
                </a:lnTo>
                <a:lnTo>
                  <a:pt x="442" y="400"/>
                </a:lnTo>
                <a:lnTo>
                  <a:pt x="426" y="405"/>
                </a:lnTo>
                <a:lnTo>
                  <a:pt x="411" y="409"/>
                </a:lnTo>
                <a:lnTo>
                  <a:pt x="397" y="413"/>
                </a:lnTo>
                <a:lnTo>
                  <a:pt x="384" y="417"/>
                </a:lnTo>
                <a:lnTo>
                  <a:pt x="371" y="421"/>
                </a:lnTo>
                <a:lnTo>
                  <a:pt x="359" y="425"/>
                </a:lnTo>
                <a:lnTo>
                  <a:pt x="346" y="428"/>
                </a:lnTo>
                <a:lnTo>
                  <a:pt x="334" y="430"/>
                </a:lnTo>
                <a:lnTo>
                  <a:pt x="325" y="434"/>
                </a:lnTo>
                <a:lnTo>
                  <a:pt x="313" y="436"/>
                </a:lnTo>
                <a:lnTo>
                  <a:pt x="303" y="438"/>
                </a:lnTo>
                <a:lnTo>
                  <a:pt x="296" y="440"/>
                </a:lnTo>
                <a:lnTo>
                  <a:pt x="286" y="442"/>
                </a:lnTo>
                <a:lnTo>
                  <a:pt x="278" y="444"/>
                </a:lnTo>
                <a:lnTo>
                  <a:pt x="271" y="446"/>
                </a:lnTo>
                <a:lnTo>
                  <a:pt x="265" y="446"/>
                </a:lnTo>
                <a:lnTo>
                  <a:pt x="259" y="448"/>
                </a:lnTo>
                <a:lnTo>
                  <a:pt x="254" y="448"/>
                </a:lnTo>
                <a:lnTo>
                  <a:pt x="250" y="448"/>
                </a:lnTo>
                <a:lnTo>
                  <a:pt x="246" y="448"/>
                </a:lnTo>
                <a:lnTo>
                  <a:pt x="236" y="448"/>
                </a:lnTo>
                <a:lnTo>
                  <a:pt x="229" y="446"/>
                </a:lnTo>
                <a:lnTo>
                  <a:pt x="221" y="446"/>
                </a:lnTo>
                <a:lnTo>
                  <a:pt x="211" y="442"/>
                </a:lnTo>
                <a:lnTo>
                  <a:pt x="204" y="440"/>
                </a:lnTo>
                <a:lnTo>
                  <a:pt x="194" y="436"/>
                </a:lnTo>
                <a:lnTo>
                  <a:pt x="184" y="432"/>
                </a:lnTo>
                <a:lnTo>
                  <a:pt x="175" y="426"/>
                </a:lnTo>
                <a:lnTo>
                  <a:pt x="165" y="421"/>
                </a:lnTo>
                <a:lnTo>
                  <a:pt x="156" y="415"/>
                </a:lnTo>
                <a:lnTo>
                  <a:pt x="146" y="407"/>
                </a:lnTo>
                <a:lnTo>
                  <a:pt x="136" y="400"/>
                </a:lnTo>
                <a:lnTo>
                  <a:pt x="125" y="390"/>
                </a:lnTo>
                <a:lnTo>
                  <a:pt x="115" y="380"/>
                </a:lnTo>
                <a:lnTo>
                  <a:pt x="106" y="371"/>
                </a:lnTo>
                <a:lnTo>
                  <a:pt x="96" y="359"/>
                </a:lnTo>
                <a:lnTo>
                  <a:pt x="83" y="346"/>
                </a:lnTo>
                <a:lnTo>
                  <a:pt x="73" y="336"/>
                </a:lnTo>
                <a:lnTo>
                  <a:pt x="62" y="325"/>
                </a:lnTo>
                <a:lnTo>
                  <a:pt x="52" y="315"/>
                </a:lnTo>
                <a:lnTo>
                  <a:pt x="44" y="306"/>
                </a:lnTo>
                <a:lnTo>
                  <a:pt x="37" y="296"/>
                </a:lnTo>
                <a:lnTo>
                  <a:pt x="29" y="288"/>
                </a:lnTo>
                <a:lnTo>
                  <a:pt x="23" y="279"/>
                </a:lnTo>
                <a:lnTo>
                  <a:pt x="17" y="273"/>
                </a:lnTo>
                <a:lnTo>
                  <a:pt x="14" y="265"/>
                </a:lnTo>
                <a:lnTo>
                  <a:pt x="10" y="258"/>
                </a:lnTo>
                <a:lnTo>
                  <a:pt x="6" y="252"/>
                </a:lnTo>
                <a:lnTo>
                  <a:pt x="4" y="246"/>
                </a:lnTo>
                <a:lnTo>
                  <a:pt x="2" y="240"/>
                </a:lnTo>
                <a:lnTo>
                  <a:pt x="0" y="235"/>
                </a:lnTo>
                <a:lnTo>
                  <a:pt x="0" y="231"/>
                </a:lnTo>
                <a:lnTo>
                  <a:pt x="0" y="225"/>
                </a:lnTo>
                <a:lnTo>
                  <a:pt x="2" y="221"/>
                </a:lnTo>
                <a:lnTo>
                  <a:pt x="4" y="217"/>
                </a:lnTo>
                <a:lnTo>
                  <a:pt x="6" y="213"/>
                </a:lnTo>
                <a:lnTo>
                  <a:pt x="10" y="210"/>
                </a:lnTo>
                <a:lnTo>
                  <a:pt x="14" y="208"/>
                </a:lnTo>
                <a:lnTo>
                  <a:pt x="17" y="206"/>
                </a:lnTo>
                <a:lnTo>
                  <a:pt x="23" y="204"/>
                </a:lnTo>
                <a:lnTo>
                  <a:pt x="29" y="202"/>
                </a:lnTo>
                <a:lnTo>
                  <a:pt x="37" y="200"/>
                </a:lnTo>
                <a:lnTo>
                  <a:pt x="44" y="200"/>
                </a:lnTo>
                <a:lnTo>
                  <a:pt x="52" y="200"/>
                </a:lnTo>
                <a:lnTo>
                  <a:pt x="62" y="200"/>
                </a:lnTo>
                <a:lnTo>
                  <a:pt x="71" y="202"/>
                </a:lnTo>
                <a:lnTo>
                  <a:pt x="83" y="202"/>
                </a:lnTo>
                <a:lnTo>
                  <a:pt x="96" y="206"/>
                </a:lnTo>
                <a:lnTo>
                  <a:pt x="108" y="208"/>
                </a:lnTo>
                <a:lnTo>
                  <a:pt x="119" y="210"/>
                </a:lnTo>
                <a:lnTo>
                  <a:pt x="131" y="211"/>
                </a:lnTo>
                <a:lnTo>
                  <a:pt x="142" y="213"/>
                </a:lnTo>
                <a:lnTo>
                  <a:pt x="152" y="217"/>
                </a:lnTo>
                <a:lnTo>
                  <a:pt x="161" y="219"/>
                </a:lnTo>
                <a:lnTo>
                  <a:pt x="171" y="221"/>
                </a:lnTo>
                <a:lnTo>
                  <a:pt x="179" y="223"/>
                </a:lnTo>
                <a:lnTo>
                  <a:pt x="194" y="225"/>
                </a:lnTo>
                <a:lnTo>
                  <a:pt x="207" y="229"/>
                </a:lnTo>
                <a:lnTo>
                  <a:pt x="221" y="229"/>
                </a:lnTo>
                <a:lnTo>
                  <a:pt x="230" y="23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Freeform 86"/>
          <p:cNvSpPr/>
          <p:nvPr/>
        </p:nvSpPr>
        <p:spPr>
          <a:xfrm>
            <a:off x="6443640" y="3732120"/>
            <a:ext cx="387360" cy="781200"/>
          </a:xfrm>
          <a:custGeom>
            <a:avLst/>
            <a:gdLst/>
            <a:ahLst/>
            <a:rect l="l" t="t" r="r" b="b"/>
            <a:pathLst>
              <a:path w="490" h="984">
                <a:moveTo>
                  <a:pt x="434" y="307"/>
                </a:moveTo>
                <a:lnTo>
                  <a:pt x="432" y="311"/>
                </a:lnTo>
                <a:lnTo>
                  <a:pt x="428" y="314"/>
                </a:lnTo>
                <a:lnTo>
                  <a:pt x="424" y="322"/>
                </a:lnTo>
                <a:lnTo>
                  <a:pt x="420" y="328"/>
                </a:lnTo>
                <a:lnTo>
                  <a:pt x="415" y="337"/>
                </a:lnTo>
                <a:lnTo>
                  <a:pt x="411" y="347"/>
                </a:lnTo>
                <a:lnTo>
                  <a:pt x="405" y="357"/>
                </a:lnTo>
                <a:lnTo>
                  <a:pt x="399" y="368"/>
                </a:lnTo>
                <a:lnTo>
                  <a:pt x="392" y="380"/>
                </a:lnTo>
                <a:lnTo>
                  <a:pt x="384" y="393"/>
                </a:lnTo>
                <a:lnTo>
                  <a:pt x="376" y="409"/>
                </a:lnTo>
                <a:lnTo>
                  <a:pt x="369" y="424"/>
                </a:lnTo>
                <a:lnTo>
                  <a:pt x="361" y="441"/>
                </a:lnTo>
                <a:lnTo>
                  <a:pt x="351" y="458"/>
                </a:lnTo>
                <a:lnTo>
                  <a:pt x="342" y="478"/>
                </a:lnTo>
                <a:lnTo>
                  <a:pt x="332" y="497"/>
                </a:lnTo>
                <a:lnTo>
                  <a:pt x="321" y="518"/>
                </a:lnTo>
                <a:lnTo>
                  <a:pt x="309" y="539"/>
                </a:lnTo>
                <a:lnTo>
                  <a:pt x="298" y="562"/>
                </a:lnTo>
                <a:lnTo>
                  <a:pt x="286" y="587"/>
                </a:lnTo>
                <a:lnTo>
                  <a:pt x="275" y="612"/>
                </a:lnTo>
                <a:lnTo>
                  <a:pt x="261" y="639"/>
                </a:lnTo>
                <a:lnTo>
                  <a:pt x="248" y="666"/>
                </a:lnTo>
                <a:lnTo>
                  <a:pt x="234" y="695"/>
                </a:lnTo>
                <a:lnTo>
                  <a:pt x="221" y="723"/>
                </a:lnTo>
                <a:lnTo>
                  <a:pt x="206" y="754"/>
                </a:lnTo>
                <a:lnTo>
                  <a:pt x="190" y="785"/>
                </a:lnTo>
                <a:lnTo>
                  <a:pt x="175" y="817"/>
                </a:lnTo>
                <a:lnTo>
                  <a:pt x="159" y="850"/>
                </a:lnTo>
                <a:lnTo>
                  <a:pt x="142" y="886"/>
                </a:lnTo>
                <a:lnTo>
                  <a:pt x="127" y="921"/>
                </a:lnTo>
                <a:lnTo>
                  <a:pt x="110" y="957"/>
                </a:lnTo>
                <a:lnTo>
                  <a:pt x="54" y="971"/>
                </a:lnTo>
                <a:lnTo>
                  <a:pt x="0" y="984"/>
                </a:lnTo>
                <a:lnTo>
                  <a:pt x="14" y="954"/>
                </a:lnTo>
                <a:lnTo>
                  <a:pt x="25" y="925"/>
                </a:lnTo>
                <a:lnTo>
                  <a:pt x="39" y="894"/>
                </a:lnTo>
                <a:lnTo>
                  <a:pt x="50" y="863"/>
                </a:lnTo>
                <a:lnTo>
                  <a:pt x="63" y="831"/>
                </a:lnTo>
                <a:lnTo>
                  <a:pt x="75" y="800"/>
                </a:lnTo>
                <a:lnTo>
                  <a:pt x="88" y="766"/>
                </a:lnTo>
                <a:lnTo>
                  <a:pt x="100" y="733"/>
                </a:lnTo>
                <a:lnTo>
                  <a:pt x="111" y="698"/>
                </a:lnTo>
                <a:lnTo>
                  <a:pt x="125" y="662"/>
                </a:lnTo>
                <a:lnTo>
                  <a:pt x="136" y="627"/>
                </a:lnTo>
                <a:lnTo>
                  <a:pt x="148" y="589"/>
                </a:lnTo>
                <a:lnTo>
                  <a:pt x="159" y="552"/>
                </a:lnTo>
                <a:lnTo>
                  <a:pt x="169" y="514"/>
                </a:lnTo>
                <a:lnTo>
                  <a:pt x="181" y="474"/>
                </a:lnTo>
                <a:lnTo>
                  <a:pt x="190" y="433"/>
                </a:lnTo>
                <a:lnTo>
                  <a:pt x="200" y="397"/>
                </a:lnTo>
                <a:lnTo>
                  <a:pt x="207" y="361"/>
                </a:lnTo>
                <a:lnTo>
                  <a:pt x="215" y="326"/>
                </a:lnTo>
                <a:lnTo>
                  <a:pt x="223" y="295"/>
                </a:lnTo>
                <a:lnTo>
                  <a:pt x="229" y="265"/>
                </a:lnTo>
                <a:lnTo>
                  <a:pt x="234" y="236"/>
                </a:lnTo>
                <a:lnTo>
                  <a:pt x="236" y="222"/>
                </a:lnTo>
                <a:lnTo>
                  <a:pt x="238" y="211"/>
                </a:lnTo>
                <a:lnTo>
                  <a:pt x="238" y="197"/>
                </a:lnTo>
                <a:lnTo>
                  <a:pt x="240" y="186"/>
                </a:lnTo>
                <a:lnTo>
                  <a:pt x="242" y="174"/>
                </a:lnTo>
                <a:lnTo>
                  <a:pt x="242" y="163"/>
                </a:lnTo>
                <a:lnTo>
                  <a:pt x="244" y="153"/>
                </a:lnTo>
                <a:lnTo>
                  <a:pt x="244" y="144"/>
                </a:lnTo>
                <a:lnTo>
                  <a:pt x="244" y="134"/>
                </a:lnTo>
                <a:lnTo>
                  <a:pt x="244" y="124"/>
                </a:lnTo>
                <a:lnTo>
                  <a:pt x="244" y="117"/>
                </a:lnTo>
                <a:lnTo>
                  <a:pt x="244" y="109"/>
                </a:lnTo>
                <a:lnTo>
                  <a:pt x="242" y="101"/>
                </a:lnTo>
                <a:lnTo>
                  <a:pt x="242" y="94"/>
                </a:lnTo>
                <a:lnTo>
                  <a:pt x="240" y="88"/>
                </a:lnTo>
                <a:lnTo>
                  <a:pt x="238" y="82"/>
                </a:lnTo>
                <a:lnTo>
                  <a:pt x="238" y="76"/>
                </a:lnTo>
                <a:lnTo>
                  <a:pt x="236" y="71"/>
                </a:lnTo>
                <a:lnTo>
                  <a:pt x="232" y="67"/>
                </a:lnTo>
                <a:lnTo>
                  <a:pt x="230" y="63"/>
                </a:lnTo>
                <a:lnTo>
                  <a:pt x="225" y="55"/>
                </a:lnTo>
                <a:lnTo>
                  <a:pt x="217" y="50"/>
                </a:lnTo>
                <a:lnTo>
                  <a:pt x="213" y="44"/>
                </a:lnTo>
                <a:lnTo>
                  <a:pt x="207" y="38"/>
                </a:lnTo>
                <a:lnTo>
                  <a:pt x="206" y="34"/>
                </a:lnTo>
                <a:lnTo>
                  <a:pt x="202" y="28"/>
                </a:lnTo>
                <a:lnTo>
                  <a:pt x="202" y="25"/>
                </a:lnTo>
                <a:lnTo>
                  <a:pt x="200" y="21"/>
                </a:lnTo>
                <a:lnTo>
                  <a:pt x="202" y="19"/>
                </a:lnTo>
                <a:lnTo>
                  <a:pt x="202" y="15"/>
                </a:lnTo>
                <a:lnTo>
                  <a:pt x="206" y="11"/>
                </a:lnTo>
                <a:lnTo>
                  <a:pt x="207" y="9"/>
                </a:lnTo>
                <a:lnTo>
                  <a:pt x="213" y="7"/>
                </a:lnTo>
                <a:lnTo>
                  <a:pt x="217" y="3"/>
                </a:lnTo>
                <a:lnTo>
                  <a:pt x="225" y="2"/>
                </a:lnTo>
                <a:lnTo>
                  <a:pt x="230" y="0"/>
                </a:lnTo>
                <a:lnTo>
                  <a:pt x="238" y="0"/>
                </a:lnTo>
                <a:lnTo>
                  <a:pt x="246" y="0"/>
                </a:lnTo>
                <a:lnTo>
                  <a:pt x="255" y="2"/>
                </a:lnTo>
                <a:lnTo>
                  <a:pt x="263" y="3"/>
                </a:lnTo>
                <a:lnTo>
                  <a:pt x="273" y="5"/>
                </a:lnTo>
                <a:lnTo>
                  <a:pt x="282" y="9"/>
                </a:lnTo>
                <a:lnTo>
                  <a:pt x="292" y="13"/>
                </a:lnTo>
                <a:lnTo>
                  <a:pt x="301" y="17"/>
                </a:lnTo>
                <a:lnTo>
                  <a:pt x="323" y="27"/>
                </a:lnTo>
                <a:lnTo>
                  <a:pt x="346" y="36"/>
                </a:lnTo>
                <a:lnTo>
                  <a:pt x="369" y="50"/>
                </a:lnTo>
                <a:lnTo>
                  <a:pt x="394" y="63"/>
                </a:lnTo>
                <a:lnTo>
                  <a:pt x="405" y="71"/>
                </a:lnTo>
                <a:lnTo>
                  <a:pt x="417" y="78"/>
                </a:lnTo>
                <a:lnTo>
                  <a:pt x="428" y="84"/>
                </a:lnTo>
                <a:lnTo>
                  <a:pt x="438" y="92"/>
                </a:lnTo>
                <a:lnTo>
                  <a:pt x="445" y="99"/>
                </a:lnTo>
                <a:lnTo>
                  <a:pt x="453" y="107"/>
                </a:lnTo>
                <a:lnTo>
                  <a:pt x="461" y="113"/>
                </a:lnTo>
                <a:lnTo>
                  <a:pt x="467" y="121"/>
                </a:lnTo>
                <a:lnTo>
                  <a:pt x="472" y="128"/>
                </a:lnTo>
                <a:lnTo>
                  <a:pt x="476" y="136"/>
                </a:lnTo>
                <a:lnTo>
                  <a:pt x="480" y="142"/>
                </a:lnTo>
                <a:lnTo>
                  <a:pt x="484" y="149"/>
                </a:lnTo>
                <a:lnTo>
                  <a:pt x="486" y="157"/>
                </a:lnTo>
                <a:lnTo>
                  <a:pt x="488" y="165"/>
                </a:lnTo>
                <a:lnTo>
                  <a:pt x="488" y="170"/>
                </a:lnTo>
                <a:lnTo>
                  <a:pt x="490" y="178"/>
                </a:lnTo>
                <a:lnTo>
                  <a:pt x="488" y="194"/>
                </a:lnTo>
                <a:lnTo>
                  <a:pt x="486" y="209"/>
                </a:lnTo>
                <a:lnTo>
                  <a:pt x="482" y="224"/>
                </a:lnTo>
                <a:lnTo>
                  <a:pt x="476" y="242"/>
                </a:lnTo>
                <a:lnTo>
                  <a:pt x="472" y="249"/>
                </a:lnTo>
                <a:lnTo>
                  <a:pt x="468" y="259"/>
                </a:lnTo>
                <a:lnTo>
                  <a:pt x="465" y="266"/>
                </a:lnTo>
                <a:lnTo>
                  <a:pt x="461" y="274"/>
                </a:lnTo>
                <a:lnTo>
                  <a:pt x="455" y="284"/>
                </a:lnTo>
                <a:lnTo>
                  <a:pt x="449" y="291"/>
                </a:lnTo>
                <a:lnTo>
                  <a:pt x="442" y="299"/>
                </a:lnTo>
                <a:lnTo>
                  <a:pt x="434" y="30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Freeform 87"/>
          <p:cNvSpPr/>
          <p:nvPr/>
        </p:nvSpPr>
        <p:spPr>
          <a:xfrm>
            <a:off x="6218280" y="3873600"/>
            <a:ext cx="214200" cy="374400"/>
          </a:xfrm>
          <a:custGeom>
            <a:avLst/>
            <a:gdLst/>
            <a:ahLst/>
            <a:rect l="l" t="t" r="r" b="b"/>
            <a:pathLst>
              <a:path w="271" h="472">
                <a:moveTo>
                  <a:pt x="163" y="102"/>
                </a:moveTo>
                <a:lnTo>
                  <a:pt x="175" y="115"/>
                </a:lnTo>
                <a:lnTo>
                  <a:pt x="186" y="127"/>
                </a:lnTo>
                <a:lnTo>
                  <a:pt x="196" y="138"/>
                </a:lnTo>
                <a:lnTo>
                  <a:pt x="205" y="150"/>
                </a:lnTo>
                <a:lnTo>
                  <a:pt x="215" y="163"/>
                </a:lnTo>
                <a:lnTo>
                  <a:pt x="223" y="175"/>
                </a:lnTo>
                <a:lnTo>
                  <a:pt x="230" y="186"/>
                </a:lnTo>
                <a:lnTo>
                  <a:pt x="236" y="198"/>
                </a:lnTo>
                <a:lnTo>
                  <a:pt x="242" y="209"/>
                </a:lnTo>
                <a:lnTo>
                  <a:pt x="248" y="223"/>
                </a:lnTo>
                <a:lnTo>
                  <a:pt x="253" y="234"/>
                </a:lnTo>
                <a:lnTo>
                  <a:pt x="257" y="246"/>
                </a:lnTo>
                <a:lnTo>
                  <a:pt x="261" y="257"/>
                </a:lnTo>
                <a:lnTo>
                  <a:pt x="265" y="271"/>
                </a:lnTo>
                <a:lnTo>
                  <a:pt x="271" y="294"/>
                </a:lnTo>
                <a:lnTo>
                  <a:pt x="271" y="307"/>
                </a:lnTo>
                <a:lnTo>
                  <a:pt x="271" y="321"/>
                </a:lnTo>
                <a:lnTo>
                  <a:pt x="269" y="334"/>
                </a:lnTo>
                <a:lnTo>
                  <a:pt x="269" y="346"/>
                </a:lnTo>
                <a:lnTo>
                  <a:pt x="267" y="357"/>
                </a:lnTo>
                <a:lnTo>
                  <a:pt x="265" y="369"/>
                </a:lnTo>
                <a:lnTo>
                  <a:pt x="263" y="378"/>
                </a:lnTo>
                <a:lnTo>
                  <a:pt x="263" y="388"/>
                </a:lnTo>
                <a:lnTo>
                  <a:pt x="259" y="397"/>
                </a:lnTo>
                <a:lnTo>
                  <a:pt x="257" y="405"/>
                </a:lnTo>
                <a:lnTo>
                  <a:pt x="255" y="411"/>
                </a:lnTo>
                <a:lnTo>
                  <a:pt x="253" y="419"/>
                </a:lnTo>
                <a:lnTo>
                  <a:pt x="251" y="422"/>
                </a:lnTo>
                <a:lnTo>
                  <a:pt x="248" y="428"/>
                </a:lnTo>
                <a:lnTo>
                  <a:pt x="246" y="432"/>
                </a:lnTo>
                <a:lnTo>
                  <a:pt x="244" y="434"/>
                </a:lnTo>
                <a:lnTo>
                  <a:pt x="238" y="444"/>
                </a:lnTo>
                <a:lnTo>
                  <a:pt x="234" y="451"/>
                </a:lnTo>
                <a:lnTo>
                  <a:pt x="228" y="459"/>
                </a:lnTo>
                <a:lnTo>
                  <a:pt x="223" y="463"/>
                </a:lnTo>
                <a:lnTo>
                  <a:pt x="219" y="469"/>
                </a:lnTo>
                <a:lnTo>
                  <a:pt x="213" y="470"/>
                </a:lnTo>
                <a:lnTo>
                  <a:pt x="207" y="472"/>
                </a:lnTo>
                <a:lnTo>
                  <a:pt x="204" y="472"/>
                </a:lnTo>
                <a:lnTo>
                  <a:pt x="200" y="472"/>
                </a:lnTo>
                <a:lnTo>
                  <a:pt x="196" y="470"/>
                </a:lnTo>
                <a:lnTo>
                  <a:pt x="192" y="469"/>
                </a:lnTo>
                <a:lnTo>
                  <a:pt x="188" y="463"/>
                </a:lnTo>
                <a:lnTo>
                  <a:pt x="182" y="459"/>
                </a:lnTo>
                <a:lnTo>
                  <a:pt x="177" y="451"/>
                </a:lnTo>
                <a:lnTo>
                  <a:pt x="171" y="445"/>
                </a:lnTo>
                <a:lnTo>
                  <a:pt x="163" y="436"/>
                </a:lnTo>
                <a:lnTo>
                  <a:pt x="156" y="426"/>
                </a:lnTo>
                <a:lnTo>
                  <a:pt x="148" y="417"/>
                </a:lnTo>
                <a:lnTo>
                  <a:pt x="140" y="405"/>
                </a:lnTo>
                <a:lnTo>
                  <a:pt x="132" y="392"/>
                </a:lnTo>
                <a:lnTo>
                  <a:pt x="123" y="378"/>
                </a:lnTo>
                <a:lnTo>
                  <a:pt x="113" y="365"/>
                </a:lnTo>
                <a:lnTo>
                  <a:pt x="104" y="350"/>
                </a:lnTo>
                <a:lnTo>
                  <a:pt x="94" y="332"/>
                </a:lnTo>
                <a:lnTo>
                  <a:pt x="83" y="315"/>
                </a:lnTo>
                <a:lnTo>
                  <a:pt x="71" y="300"/>
                </a:lnTo>
                <a:lnTo>
                  <a:pt x="61" y="282"/>
                </a:lnTo>
                <a:lnTo>
                  <a:pt x="52" y="267"/>
                </a:lnTo>
                <a:lnTo>
                  <a:pt x="42" y="252"/>
                </a:lnTo>
                <a:lnTo>
                  <a:pt x="35" y="236"/>
                </a:lnTo>
                <a:lnTo>
                  <a:pt x="27" y="223"/>
                </a:lnTo>
                <a:lnTo>
                  <a:pt x="21" y="207"/>
                </a:lnTo>
                <a:lnTo>
                  <a:pt x="15" y="194"/>
                </a:lnTo>
                <a:lnTo>
                  <a:pt x="12" y="179"/>
                </a:lnTo>
                <a:lnTo>
                  <a:pt x="8" y="165"/>
                </a:lnTo>
                <a:lnTo>
                  <a:pt x="4" y="152"/>
                </a:lnTo>
                <a:lnTo>
                  <a:pt x="2" y="140"/>
                </a:lnTo>
                <a:lnTo>
                  <a:pt x="0" y="127"/>
                </a:lnTo>
                <a:lnTo>
                  <a:pt x="0" y="115"/>
                </a:lnTo>
                <a:lnTo>
                  <a:pt x="0" y="102"/>
                </a:lnTo>
                <a:lnTo>
                  <a:pt x="0" y="90"/>
                </a:lnTo>
                <a:lnTo>
                  <a:pt x="0" y="79"/>
                </a:lnTo>
                <a:lnTo>
                  <a:pt x="0" y="69"/>
                </a:lnTo>
                <a:lnTo>
                  <a:pt x="2" y="60"/>
                </a:lnTo>
                <a:lnTo>
                  <a:pt x="4" y="50"/>
                </a:lnTo>
                <a:lnTo>
                  <a:pt x="6" y="42"/>
                </a:lnTo>
                <a:lnTo>
                  <a:pt x="8" y="35"/>
                </a:lnTo>
                <a:lnTo>
                  <a:pt x="10" y="27"/>
                </a:lnTo>
                <a:lnTo>
                  <a:pt x="12" y="21"/>
                </a:lnTo>
                <a:lnTo>
                  <a:pt x="15" y="16"/>
                </a:lnTo>
                <a:lnTo>
                  <a:pt x="19" y="12"/>
                </a:lnTo>
                <a:lnTo>
                  <a:pt x="23" y="8"/>
                </a:lnTo>
                <a:lnTo>
                  <a:pt x="27" y="4"/>
                </a:lnTo>
                <a:lnTo>
                  <a:pt x="31" y="2"/>
                </a:lnTo>
                <a:lnTo>
                  <a:pt x="35" y="0"/>
                </a:lnTo>
                <a:lnTo>
                  <a:pt x="40" y="0"/>
                </a:lnTo>
                <a:lnTo>
                  <a:pt x="42" y="0"/>
                </a:lnTo>
                <a:lnTo>
                  <a:pt x="46" y="2"/>
                </a:lnTo>
                <a:lnTo>
                  <a:pt x="50" y="4"/>
                </a:lnTo>
                <a:lnTo>
                  <a:pt x="56" y="8"/>
                </a:lnTo>
                <a:lnTo>
                  <a:pt x="61" y="12"/>
                </a:lnTo>
                <a:lnTo>
                  <a:pt x="67" y="16"/>
                </a:lnTo>
                <a:lnTo>
                  <a:pt x="73" y="21"/>
                </a:lnTo>
                <a:lnTo>
                  <a:pt x="81" y="27"/>
                </a:lnTo>
                <a:lnTo>
                  <a:pt x="88" y="35"/>
                </a:lnTo>
                <a:lnTo>
                  <a:pt x="98" y="42"/>
                </a:lnTo>
                <a:lnTo>
                  <a:pt x="108" y="50"/>
                </a:lnTo>
                <a:lnTo>
                  <a:pt x="117" y="60"/>
                </a:lnTo>
                <a:lnTo>
                  <a:pt x="127" y="69"/>
                </a:lnTo>
                <a:lnTo>
                  <a:pt x="138" y="79"/>
                </a:lnTo>
                <a:lnTo>
                  <a:pt x="150" y="90"/>
                </a:lnTo>
                <a:lnTo>
                  <a:pt x="163" y="10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Freeform 88"/>
          <p:cNvSpPr/>
          <p:nvPr/>
        </p:nvSpPr>
        <p:spPr>
          <a:xfrm>
            <a:off x="5884920" y="3965400"/>
            <a:ext cx="241200" cy="384480"/>
          </a:xfrm>
          <a:custGeom>
            <a:avLst/>
            <a:gdLst/>
            <a:ahLst/>
            <a:rect l="l" t="t" r="r" b="b"/>
            <a:pathLst>
              <a:path w="303" h="486">
                <a:moveTo>
                  <a:pt x="119" y="64"/>
                </a:moveTo>
                <a:lnTo>
                  <a:pt x="140" y="79"/>
                </a:lnTo>
                <a:lnTo>
                  <a:pt x="159" y="94"/>
                </a:lnTo>
                <a:lnTo>
                  <a:pt x="180" y="110"/>
                </a:lnTo>
                <a:lnTo>
                  <a:pt x="199" y="125"/>
                </a:lnTo>
                <a:lnTo>
                  <a:pt x="218" y="142"/>
                </a:lnTo>
                <a:lnTo>
                  <a:pt x="236" y="162"/>
                </a:lnTo>
                <a:lnTo>
                  <a:pt x="243" y="171"/>
                </a:lnTo>
                <a:lnTo>
                  <a:pt x="253" y="183"/>
                </a:lnTo>
                <a:lnTo>
                  <a:pt x="261" y="192"/>
                </a:lnTo>
                <a:lnTo>
                  <a:pt x="268" y="206"/>
                </a:lnTo>
                <a:lnTo>
                  <a:pt x="274" y="217"/>
                </a:lnTo>
                <a:lnTo>
                  <a:pt x="282" y="229"/>
                </a:lnTo>
                <a:lnTo>
                  <a:pt x="286" y="240"/>
                </a:lnTo>
                <a:lnTo>
                  <a:pt x="291" y="254"/>
                </a:lnTo>
                <a:lnTo>
                  <a:pt x="295" y="265"/>
                </a:lnTo>
                <a:lnTo>
                  <a:pt x="297" y="277"/>
                </a:lnTo>
                <a:lnTo>
                  <a:pt x="301" y="288"/>
                </a:lnTo>
                <a:lnTo>
                  <a:pt x="301" y="300"/>
                </a:lnTo>
                <a:lnTo>
                  <a:pt x="303" y="313"/>
                </a:lnTo>
                <a:lnTo>
                  <a:pt x="303" y="325"/>
                </a:lnTo>
                <a:lnTo>
                  <a:pt x="303" y="336"/>
                </a:lnTo>
                <a:lnTo>
                  <a:pt x="303" y="348"/>
                </a:lnTo>
                <a:lnTo>
                  <a:pt x="299" y="373"/>
                </a:lnTo>
                <a:lnTo>
                  <a:pt x="295" y="396"/>
                </a:lnTo>
                <a:lnTo>
                  <a:pt x="293" y="407"/>
                </a:lnTo>
                <a:lnTo>
                  <a:pt x="289" y="419"/>
                </a:lnTo>
                <a:lnTo>
                  <a:pt x="286" y="428"/>
                </a:lnTo>
                <a:lnTo>
                  <a:pt x="284" y="438"/>
                </a:lnTo>
                <a:lnTo>
                  <a:pt x="280" y="446"/>
                </a:lnTo>
                <a:lnTo>
                  <a:pt x="276" y="453"/>
                </a:lnTo>
                <a:lnTo>
                  <a:pt x="272" y="459"/>
                </a:lnTo>
                <a:lnTo>
                  <a:pt x="268" y="465"/>
                </a:lnTo>
                <a:lnTo>
                  <a:pt x="264" y="471"/>
                </a:lnTo>
                <a:lnTo>
                  <a:pt x="261" y="474"/>
                </a:lnTo>
                <a:lnTo>
                  <a:pt x="257" y="478"/>
                </a:lnTo>
                <a:lnTo>
                  <a:pt x="253" y="480"/>
                </a:lnTo>
                <a:lnTo>
                  <a:pt x="249" y="484"/>
                </a:lnTo>
                <a:lnTo>
                  <a:pt x="247" y="484"/>
                </a:lnTo>
                <a:lnTo>
                  <a:pt x="243" y="486"/>
                </a:lnTo>
                <a:lnTo>
                  <a:pt x="241" y="486"/>
                </a:lnTo>
                <a:lnTo>
                  <a:pt x="236" y="486"/>
                </a:lnTo>
                <a:lnTo>
                  <a:pt x="230" y="484"/>
                </a:lnTo>
                <a:lnTo>
                  <a:pt x="224" y="480"/>
                </a:lnTo>
                <a:lnTo>
                  <a:pt x="218" y="476"/>
                </a:lnTo>
                <a:lnTo>
                  <a:pt x="211" y="471"/>
                </a:lnTo>
                <a:lnTo>
                  <a:pt x="205" y="465"/>
                </a:lnTo>
                <a:lnTo>
                  <a:pt x="197" y="457"/>
                </a:lnTo>
                <a:lnTo>
                  <a:pt x="190" y="449"/>
                </a:lnTo>
                <a:lnTo>
                  <a:pt x="182" y="440"/>
                </a:lnTo>
                <a:lnTo>
                  <a:pt x="174" y="428"/>
                </a:lnTo>
                <a:lnTo>
                  <a:pt x="165" y="417"/>
                </a:lnTo>
                <a:lnTo>
                  <a:pt x="157" y="405"/>
                </a:lnTo>
                <a:lnTo>
                  <a:pt x="147" y="392"/>
                </a:lnTo>
                <a:lnTo>
                  <a:pt x="138" y="377"/>
                </a:lnTo>
                <a:lnTo>
                  <a:pt x="128" y="361"/>
                </a:lnTo>
                <a:lnTo>
                  <a:pt x="119" y="346"/>
                </a:lnTo>
                <a:lnTo>
                  <a:pt x="99" y="311"/>
                </a:lnTo>
                <a:lnTo>
                  <a:pt x="82" y="281"/>
                </a:lnTo>
                <a:lnTo>
                  <a:pt x="65" y="250"/>
                </a:lnTo>
                <a:lnTo>
                  <a:pt x="50" y="221"/>
                </a:lnTo>
                <a:lnTo>
                  <a:pt x="42" y="206"/>
                </a:lnTo>
                <a:lnTo>
                  <a:pt x="36" y="192"/>
                </a:lnTo>
                <a:lnTo>
                  <a:pt x="30" y="179"/>
                </a:lnTo>
                <a:lnTo>
                  <a:pt x="25" y="165"/>
                </a:lnTo>
                <a:lnTo>
                  <a:pt x="21" y="152"/>
                </a:lnTo>
                <a:lnTo>
                  <a:pt x="17" y="140"/>
                </a:lnTo>
                <a:lnTo>
                  <a:pt x="13" y="127"/>
                </a:lnTo>
                <a:lnTo>
                  <a:pt x="11" y="116"/>
                </a:lnTo>
                <a:lnTo>
                  <a:pt x="7" y="104"/>
                </a:lnTo>
                <a:lnTo>
                  <a:pt x="5" y="92"/>
                </a:lnTo>
                <a:lnTo>
                  <a:pt x="3" y="81"/>
                </a:lnTo>
                <a:lnTo>
                  <a:pt x="3" y="71"/>
                </a:lnTo>
                <a:lnTo>
                  <a:pt x="2" y="62"/>
                </a:lnTo>
                <a:lnTo>
                  <a:pt x="2" y="54"/>
                </a:lnTo>
                <a:lnTo>
                  <a:pt x="0" y="46"/>
                </a:lnTo>
                <a:lnTo>
                  <a:pt x="0" y="39"/>
                </a:lnTo>
                <a:lnTo>
                  <a:pt x="0" y="31"/>
                </a:lnTo>
                <a:lnTo>
                  <a:pt x="2" y="25"/>
                </a:lnTo>
                <a:lnTo>
                  <a:pt x="2" y="20"/>
                </a:lnTo>
                <a:lnTo>
                  <a:pt x="3" y="14"/>
                </a:lnTo>
                <a:lnTo>
                  <a:pt x="3" y="10"/>
                </a:lnTo>
                <a:lnTo>
                  <a:pt x="5" y="6"/>
                </a:lnTo>
                <a:lnTo>
                  <a:pt x="7" y="2"/>
                </a:lnTo>
                <a:lnTo>
                  <a:pt x="11" y="0"/>
                </a:lnTo>
                <a:lnTo>
                  <a:pt x="13" y="0"/>
                </a:lnTo>
                <a:lnTo>
                  <a:pt x="17" y="0"/>
                </a:lnTo>
                <a:lnTo>
                  <a:pt x="21" y="2"/>
                </a:lnTo>
                <a:lnTo>
                  <a:pt x="25" y="4"/>
                </a:lnTo>
                <a:lnTo>
                  <a:pt x="30" y="6"/>
                </a:lnTo>
                <a:lnTo>
                  <a:pt x="36" y="10"/>
                </a:lnTo>
                <a:lnTo>
                  <a:pt x="42" y="14"/>
                </a:lnTo>
                <a:lnTo>
                  <a:pt x="50" y="18"/>
                </a:lnTo>
                <a:lnTo>
                  <a:pt x="65" y="27"/>
                </a:lnTo>
                <a:lnTo>
                  <a:pt x="82" y="37"/>
                </a:lnTo>
                <a:lnTo>
                  <a:pt x="99" y="50"/>
                </a:lnTo>
                <a:lnTo>
                  <a:pt x="119" y="64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Freeform 89"/>
          <p:cNvSpPr/>
          <p:nvPr/>
        </p:nvSpPr>
        <p:spPr>
          <a:xfrm>
            <a:off x="6012000" y="3517920"/>
            <a:ext cx="690480" cy="192240"/>
          </a:xfrm>
          <a:custGeom>
            <a:avLst/>
            <a:gdLst/>
            <a:ahLst/>
            <a:rect l="l" t="t" r="r" b="b"/>
            <a:pathLst>
              <a:path w="869" h="242">
                <a:moveTo>
                  <a:pt x="610" y="178"/>
                </a:moveTo>
                <a:lnTo>
                  <a:pt x="582" y="186"/>
                </a:lnTo>
                <a:lnTo>
                  <a:pt x="553" y="192"/>
                </a:lnTo>
                <a:lnTo>
                  <a:pt x="524" y="200"/>
                </a:lnTo>
                <a:lnTo>
                  <a:pt x="497" y="205"/>
                </a:lnTo>
                <a:lnTo>
                  <a:pt x="470" y="211"/>
                </a:lnTo>
                <a:lnTo>
                  <a:pt x="445" y="217"/>
                </a:lnTo>
                <a:lnTo>
                  <a:pt x="420" y="221"/>
                </a:lnTo>
                <a:lnTo>
                  <a:pt x="397" y="225"/>
                </a:lnTo>
                <a:lnTo>
                  <a:pt x="374" y="228"/>
                </a:lnTo>
                <a:lnTo>
                  <a:pt x="353" y="232"/>
                </a:lnTo>
                <a:lnTo>
                  <a:pt x="334" y="236"/>
                </a:lnTo>
                <a:lnTo>
                  <a:pt x="313" y="238"/>
                </a:lnTo>
                <a:lnTo>
                  <a:pt x="296" y="240"/>
                </a:lnTo>
                <a:lnTo>
                  <a:pt x="276" y="242"/>
                </a:lnTo>
                <a:lnTo>
                  <a:pt x="261" y="242"/>
                </a:lnTo>
                <a:lnTo>
                  <a:pt x="246" y="242"/>
                </a:lnTo>
                <a:lnTo>
                  <a:pt x="226" y="242"/>
                </a:lnTo>
                <a:lnTo>
                  <a:pt x="211" y="242"/>
                </a:lnTo>
                <a:lnTo>
                  <a:pt x="196" y="242"/>
                </a:lnTo>
                <a:lnTo>
                  <a:pt x="180" y="240"/>
                </a:lnTo>
                <a:lnTo>
                  <a:pt x="167" y="240"/>
                </a:lnTo>
                <a:lnTo>
                  <a:pt x="153" y="238"/>
                </a:lnTo>
                <a:lnTo>
                  <a:pt x="142" y="236"/>
                </a:lnTo>
                <a:lnTo>
                  <a:pt x="129" y="234"/>
                </a:lnTo>
                <a:lnTo>
                  <a:pt x="119" y="232"/>
                </a:lnTo>
                <a:lnTo>
                  <a:pt x="107" y="230"/>
                </a:lnTo>
                <a:lnTo>
                  <a:pt x="98" y="228"/>
                </a:lnTo>
                <a:lnTo>
                  <a:pt x="88" y="226"/>
                </a:lnTo>
                <a:lnTo>
                  <a:pt x="71" y="223"/>
                </a:lnTo>
                <a:lnTo>
                  <a:pt x="56" y="217"/>
                </a:lnTo>
                <a:lnTo>
                  <a:pt x="48" y="215"/>
                </a:lnTo>
                <a:lnTo>
                  <a:pt x="40" y="211"/>
                </a:lnTo>
                <a:lnTo>
                  <a:pt x="34" y="209"/>
                </a:lnTo>
                <a:lnTo>
                  <a:pt x="29" y="207"/>
                </a:lnTo>
                <a:lnTo>
                  <a:pt x="25" y="205"/>
                </a:lnTo>
                <a:lnTo>
                  <a:pt x="19" y="201"/>
                </a:lnTo>
                <a:lnTo>
                  <a:pt x="15" y="200"/>
                </a:lnTo>
                <a:lnTo>
                  <a:pt x="13" y="196"/>
                </a:lnTo>
                <a:lnTo>
                  <a:pt x="8" y="190"/>
                </a:lnTo>
                <a:lnTo>
                  <a:pt x="4" y="182"/>
                </a:lnTo>
                <a:lnTo>
                  <a:pt x="2" y="175"/>
                </a:lnTo>
                <a:lnTo>
                  <a:pt x="0" y="165"/>
                </a:lnTo>
                <a:lnTo>
                  <a:pt x="36" y="155"/>
                </a:lnTo>
                <a:lnTo>
                  <a:pt x="73" y="144"/>
                </a:lnTo>
                <a:lnTo>
                  <a:pt x="105" y="134"/>
                </a:lnTo>
                <a:lnTo>
                  <a:pt x="140" y="125"/>
                </a:lnTo>
                <a:lnTo>
                  <a:pt x="173" y="115"/>
                </a:lnTo>
                <a:lnTo>
                  <a:pt x="203" y="107"/>
                </a:lnTo>
                <a:lnTo>
                  <a:pt x="234" y="98"/>
                </a:lnTo>
                <a:lnTo>
                  <a:pt x="263" y="90"/>
                </a:lnTo>
                <a:lnTo>
                  <a:pt x="292" y="82"/>
                </a:lnTo>
                <a:lnTo>
                  <a:pt x="319" y="75"/>
                </a:lnTo>
                <a:lnTo>
                  <a:pt x="345" y="69"/>
                </a:lnTo>
                <a:lnTo>
                  <a:pt x="370" y="61"/>
                </a:lnTo>
                <a:lnTo>
                  <a:pt x="393" y="56"/>
                </a:lnTo>
                <a:lnTo>
                  <a:pt x="418" y="50"/>
                </a:lnTo>
                <a:lnTo>
                  <a:pt x="439" y="44"/>
                </a:lnTo>
                <a:lnTo>
                  <a:pt x="461" y="38"/>
                </a:lnTo>
                <a:lnTo>
                  <a:pt x="482" y="34"/>
                </a:lnTo>
                <a:lnTo>
                  <a:pt x="501" y="29"/>
                </a:lnTo>
                <a:lnTo>
                  <a:pt x="520" y="25"/>
                </a:lnTo>
                <a:lnTo>
                  <a:pt x="537" y="21"/>
                </a:lnTo>
                <a:lnTo>
                  <a:pt x="555" y="17"/>
                </a:lnTo>
                <a:lnTo>
                  <a:pt x="570" y="15"/>
                </a:lnTo>
                <a:lnTo>
                  <a:pt x="585" y="11"/>
                </a:lnTo>
                <a:lnTo>
                  <a:pt x="599" y="10"/>
                </a:lnTo>
                <a:lnTo>
                  <a:pt x="612" y="8"/>
                </a:lnTo>
                <a:lnTo>
                  <a:pt x="626" y="6"/>
                </a:lnTo>
                <a:lnTo>
                  <a:pt x="635" y="4"/>
                </a:lnTo>
                <a:lnTo>
                  <a:pt x="647" y="2"/>
                </a:lnTo>
                <a:lnTo>
                  <a:pt x="656" y="0"/>
                </a:lnTo>
                <a:lnTo>
                  <a:pt x="664" y="0"/>
                </a:lnTo>
                <a:lnTo>
                  <a:pt x="672" y="0"/>
                </a:lnTo>
                <a:lnTo>
                  <a:pt x="679" y="0"/>
                </a:lnTo>
                <a:lnTo>
                  <a:pt x="699" y="0"/>
                </a:lnTo>
                <a:lnTo>
                  <a:pt x="718" y="0"/>
                </a:lnTo>
                <a:lnTo>
                  <a:pt x="735" y="0"/>
                </a:lnTo>
                <a:lnTo>
                  <a:pt x="752" y="2"/>
                </a:lnTo>
                <a:lnTo>
                  <a:pt x="768" y="2"/>
                </a:lnTo>
                <a:lnTo>
                  <a:pt x="783" y="6"/>
                </a:lnTo>
                <a:lnTo>
                  <a:pt x="798" y="8"/>
                </a:lnTo>
                <a:lnTo>
                  <a:pt x="814" y="13"/>
                </a:lnTo>
                <a:lnTo>
                  <a:pt x="821" y="15"/>
                </a:lnTo>
                <a:lnTo>
                  <a:pt x="829" y="17"/>
                </a:lnTo>
                <a:lnTo>
                  <a:pt x="835" y="21"/>
                </a:lnTo>
                <a:lnTo>
                  <a:pt x="841" y="25"/>
                </a:lnTo>
                <a:lnTo>
                  <a:pt x="844" y="27"/>
                </a:lnTo>
                <a:lnTo>
                  <a:pt x="850" y="31"/>
                </a:lnTo>
                <a:lnTo>
                  <a:pt x="854" y="34"/>
                </a:lnTo>
                <a:lnTo>
                  <a:pt x="856" y="38"/>
                </a:lnTo>
                <a:lnTo>
                  <a:pt x="862" y="46"/>
                </a:lnTo>
                <a:lnTo>
                  <a:pt x="866" y="52"/>
                </a:lnTo>
                <a:lnTo>
                  <a:pt x="868" y="58"/>
                </a:lnTo>
                <a:lnTo>
                  <a:pt x="869" y="63"/>
                </a:lnTo>
                <a:lnTo>
                  <a:pt x="868" y="65"/>
                </a:lnTo>
                <a:lnTo>
                  <a:pt x="868" y="69"/>
                </a:lnTo>
                <a:lnTo>
                  <a:pt x="866" y="71"/>
                </a:lnTo>
                <a:lnTo>
                  <a:pt x="866" y="73"/>
                </a:lnTo>
                <a:lnTo>
                  <a:pt x="862" y="77"/>
                </a:lnTo>
                <a:lnTo>
                  <a:pt x="860" y="79"/>
                </a:lnTo>
                <a:lnTo>
                  <a:pt x="856" y="82"/>
                </a:lnTo>
                <a:lnTo>
                  <a:pt x="852" y="84"/>
                </a:lnTo>
                <a:lnTo>
                  <a:pt x="848" y="88"/>
                </a:lnTo>
                <a:lnTo>
                  <a:pt x="844" y="90"/>
                </a:lnTo>
                <a:lnTo>
                  <a:pt x="839" y="94"/>
                </a:lnTo>
                <a:lnTo>
                  <a:pt x="833" y="98"/>
                </a:lnTo>
                <a:lnTo>
                  <a:pt x="827" y="102"/>
                </a:lnTo>
                <a:lnTo>
                  <a:pt x="821" y="104"/>
                </a:lnTo>
                <a:lnTo>
                  <a:pt x="814" y="107"/>
                </a:lnTo>
                <a:lnTo>
                  <a:pt x="806" y="111"/>
                </a:lnTo>
                <a:lnTo>
                  <a:pt x="798" y="115"/>
                </a:lnTo>
                <a:lnTo>
                  <a:pt x="789" y="119"/>
                </a:lnTo>
                <a:lnTo>
                  <a:pt x="779" y="123"/>
                </a:lnTo>
                <a:lnTo>
                  <a:pt x="770" y="127"/>
                </a:lnTo>
                <a:lnTo>
                  <a:pt x="760" y="130"/>
                </a:lnTo>
                <a:lnTo>
                  <a:pt x="749" y="134"/>
                </a:lnTo>
                <a:lnTo>
                  <a:pt x="737" y="138"/>
                </a:lnTo>
                <a:lnTo>
                  <a:pt x="725" y="142"/>
                </a:lnTo>
                <a:lnTo>
                  <a:pt x="712" y="146"/>
                </a:lnTo>
                <a:lnTo>
                  <a:pt x="701" y="152"/>
                </a:lnTo>
                <a:lnTo>
                  <a:pt x="687" y="155"/>
                </a:lnTo>
                <a:lnTo>
                  <a:pt x="672" y="159"/>
                </a:lnTo>
                <a:lnTo>
                  <a:pt x="658" y="165"/>
                </a:lnTo>
                <a:lnTo>
                  <a:pt x="643" y="169"/>
                </a:lnTo>
                <a:lnTo>
                  <a:pt x="628" y="175"/>
                </a:lnTo>
                <a:lnTo>
                  <a:pt x="610" y="178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Freeform 90"/>
          <p:cNvSpPr/>
          <p:nvPr/>
        </p:nvSpPr>
        <p:spPr>
          <a:xfrm>
            <a:off x="6292800" y="3071880"/>
            <a:ext cx="585720" cy="358560"/>
          </a:xfrm>
          <a:custGeom>
            <a:avLst/>
            <a:gdLst/>
            <a:ahLst/>
            <a:rect l="l" t="t" r="r" b="b"/>
            <a:pathLst>
              <a:path w="739" h="451">
                <a:moveTo>
                  <a:pt x="0" y="0"/>
                </a:moveTo>
                <a:lnTo>
                  <a:pt x="23" y="0"/>
                </a:lnTo>
                <a:lnTo>
                  <a:pt x="46" y="1"/>
                </a:lnTo>
                <a:lnTo>
                  <a:pt x="71" y="3"/>
                </a:lnTo>
                <a:lnTo>
                  <a:pt x="94" y="5"/>
                </a:lnTo>
                <a:lnTo>
                  <a:pt x="119" y="9"/>
                </a:lnTo>
                <a:lnTo>
                  <a:pt x="144" y="15"/>
                </a:lnTo>
                <a:lnTo>
                  <a:pt x="171" y="19"/>
                </a:lnTo>
                <a:lnTo>
                  <a:pt x="198" y="26"/>
                </a:lnTo>
                <a:lnTo>
                  <a:pt x="225" y="32"/>
                </a:lnTo>
                <a:lnTo>
                  <a:pt x="252" y="40"/>
                </a:lnTo>
                <a:lnTo>
                  <a:pt x="280" y="49"/>
                </a:lnTo>
                <a:lnTo>
                  <a:pt x="309" y="57"/>
                </a:lnTo>
                <a:lnTo>
                  <a:pt x="340" y="67"/>
                </a:lnTo>
                <a:lnTo>
                  <a:pt x="371" y="78"/>
                </a:lnTo>
                <a:lnTo>
                  <a:pt x="401" y="90"/>
                </a:lnTo>
                <a:lnTo>
                  <a:pt x="434" y="101"/>
                </a:lnTo>
                <a:lnTo>
                  <a:pt x="465" y="113"/>
                </a:lnTo>
                <a:lnTo>
                  <a:pt x="491" y="124"/>
                </a:lnTo>
                <a:lnTo>
                  <a:pt x="518" y="136"/>
                </a:lnTo>
                <a:lnTo>
                  <a:pt x="543" y="147"/>
                </a:lnTo>
                <a:lnTo>
                  <a:pt x="566" y="159"/>
                </a:lnTo>
                <a:lnTo>
                  <a:pt x="589" y="168"/>
                </a:lnTo>
                <a:lnTo>
                  <a:pt x="609" y="178"/>
                </a:lnTo>
                <a:lnTo>
                  <a:pt x="628" y="188"/>
                </a:lnTo>
                <a:lnTo>
                  <a:pt x="645" y="197"/>
                </a:lnTo>
                <a:lnTo>
                  <a:pt x="660" y="207"/>
                </a:lnTo>
                <a:lnTo>
                  <a:pt x="674" y="215"/>
                </a:lnTo>
                <a:lnTo>
                  <a:pt x="685" y="224"/>
                </a:lnTo>
                <a:lnTo>
                  <a:pt x="697" y="232"/>
                </a:lnTo>
                <a:lnTo>
                  <a:pt x="706" y="239"/>
                </a:lnTo>
                <a:lnTo>
                  <a:pt x="714" y="247"/>
                </a:lnTo>
                <a:lnTo>
                  <a:pt x="720" y="255"/>
                </a:lnTo>
                <a:lnTo>
                  <a:pt x="724" y="262"/>
                </a:lnTo>
                <a:lnTo>
                  <a:pt x="728" y="270"/>
                </a:lnTo>
                <a:lnTo>
                  <a:pt x="731" y="278"/>
                </a:lnTo>
                <a:lnTo>
                  <a:pt x="733" y="286"/>
                </a:lnTo>
                <a:lnTo>
                  <a:pt x="737" y="293"/>
                </a:lnTo>
                <a:lnTo>
                  <a:pt x="737" y="303"/>
                </a:lnTo>
                <a:lnTo>
                  <a:pt x="739" y="310"/>
                </a:lnTo>
                <a:lnTo>
                  <a:pt x="739" y="318"/>
                </a:lnTo>
                <a:lnTo>
                  <a:pt x="739" y="328"/>
                </a:lnTo>
                <a:lnTo>
                  <a:pt x="737" y="335"/>
                </a:lnTo>
                <a:lnTo>
                  <a:pt x="737" y="343"/>
                </a:lnTo>
                <a:lnTo>
                  <a:pt x="733" y="353"/>
                </a:lnTo>
                <a:lnTo>
                  <a:pt x="731" y="360"/>
                </a:lnTo>
                <a:lnTo>
                  <a:pt x="728" y="368"/>
                </a:lnTo>
                <a:lnTo>
                  <a:pt x="724" y="376"/>
                </a:lnTo>
                <a:lnTo>
                  <a:pt x="720" y="383"/>
                </a:lnTo>
                <a:lnTo>
                  <a:pt x="710" y="397"/>
                </a:lnTo>
                <a:lnTo>
                  <a:pt x="701" y="408"/>
                </a:lnTo>
                <a:lnTo>
                  <a:pt x="693" y="420"/>
                </a:lnTo>
                <a:lnTo>
                  <a:pt x="687" y="429"/>
                </a:lnTo>
                <a:lnTo>
                  <a:pt x="683" y="433"/>
                </a:lnTo>
                <a:lnTo>
                  <a:pt x="681" y="437"/>
                </a:lnTo>
                <a:lnTo>
                  <a:pt x="678" y="439"/>
                </a:lnTo>
                <a:lnTo>
                  <a:pt x="676" y="441"/>
                </a:lnTo>
                <a:lnTo>
                  <a:pt x="672" y="443"/>
                </a:lnTo>
                <a:lnTo>
                  <a:pt x="670" y="445"/>
                </a:lnTo>
                <a:lnTo>
                  <a:pt x="668" y="447"/>
                </a:lnTo>
                <a:lnTo>
                  <a:pt x="664" y="447"/>
                </a:lnTo>
                <a:lnTo>
                  <a:pt x="662" y="449"/>
                </a:lnTo>
                <a:lnTo>
                  <a:pt x="658" y="449"/>
                </a:lnTo>
                <a:lnTo>
                  <a:pt x="655" y="451"/>
                </a:lnTo>
                <a:lnTo>
                  <a:pt x="649" y="449"/>
                </a:lnTo>
                <a:lnTo>
                  <a:pt x="645" y="449"/>
                </a:lnTo>
                <a:lnTo>
                  <a:pt x="637" y="447"/>
                </a:lnTo>
                <a:lnTo>
                  <a:pt x="632" y="443"/>
                </a:lnTo>
                <a:lnTo>
                  <a:pt x="624" y="441"/>
                </a:lnTo>
                <a:lnTo>
                  <a:pt x="616" y="437"/>
                </a:lnTo>
                <a:lnTo>
                  <a:pt x="609" y="431"/>
                </a:lnTo>
                <a:lnTo>
                  <a:pt x="599" y="428"/>
                </a:lnTo>
                <a:lnTo>
                  <a:pt x="589" y="422"/>
                </a:lnTo>
                <a:lnTo>
                  <a:pt x="578" y="416"/>
                </a:lnTo>
                <a:lnTo>
                  <a:pt x="566" y="410"/>
                </a:lnTo>
                <a:lnTo>
                  <a:pt x="555" y="403"/>
                </a:lnTo>
                <a:lnTo>
                  <a:pt x="543" y="395"/>
                </a:lnTo>
                <a:lnTo>
                  <a:pt x="536" y="391"/>
                </a:lnTo>
                <a:lnTo>
                  <a:pt x="528" y="387"/>
                </a:lnTo>
                <a:lnTo>
                  <a:pt x="520" y="383"/>
                </a:lnTo>
                <a:lnTo>
                  <a:pt x="513" y="378"/>
                </a:lnTo>
                <a:lnTo>
                  <a:pt x="503" y="372"/>
                </a:lnTo>
                <a:lnTo>
                  <a:pt x="493" y="366"/>
                </a:lnTo>
                <a:lnTo>
                  <a:pt x="482" y="358"/>
                </a:lnTo>
                <a:lnTo>
                  <a:pt x="470" y="353"/>
                </a:lnTo>
                <a:lnTo>
                  <a:pt x="459" y="345"/>
                </a:lnTo>
                <a:lnTo>
                  <a:pt x="447" y="337"/>
                </a:lnTo>
                <a:lnTo>
                  <a:pt x="434" y="328"/>
                </a:lnTo>
                <a:lnTo>
                  <a:pt x="420" y="320"/>
                </a:lnTo>
                <a:lnTo>
                  <a:pt x="405" y="310"/>
                </a:lnTo>
                <a:lnTo>
                  <a:pt x="390" y="301"/>
                </a:lnTo>
                <a:lnTo>
                  <a:pt x="374" y="291"/>
                </a:lnTo>
                <a:lnTo>
                  <a:pt x="357" y="280"/>
                </a:lnTo>
                <a:lnTo>
                  <a:pt x="340" y="268"/>
                </a:lnTo>
                <a:lnTo>
                  <a:pt x="323" y="257"/>
                </a:lnTo>
                <a:lnTo>
                  <a:pt x="303" y="245"/>
                </a:lnTo>
                <a:lnTo>
                  <a:pt x="284" y="232"/>
                </a:lnTo>
                <a:lnTo>
                  <a:pt x="265" y="218"/>
                </a:lnTo>
                <a:lnTo>
                  <a:pt x="244" y="205"/>
                </a:lnTo>
                <a:lnTo>
                  <a:pt x="223" y="190"/>
                </a:lnTo>
                <a:lnTo>
                  <a:pt x="200" y="176"/>
                </a:lnTo>
                <a:lnTo>
                  <a:pt x="179" y="161"/>
                </a:lnTo>
                <a:lnTo>
                  <a:pt x="154" y="143"/>
                </a:lnTo>
                <a:lnTo>
                  <a:pt x="131" y="128"/>
                </a:lnTo>
                <a:lnTo>
                  <a:pt x="106" y="111"/>
                </a:lnTo>
                <a:lnTo>
                  <a:pt x="81" y="94"/>
                </a:lnTo>
                <a:lnTo>
                  <a:pt x="54" y="74"/>
                </a:lnTo>
                <a:lnTo>
                  <a:pt x="27" y="57"/>
                </a:lnTo>
                <a:lnTo>
                  <a:pt x="0" y="38"/>
                </a:lnTo>
                <a:lnTo>
                  <a:pt x="0" y="19"/>
                </a:lnTo>
                <a:lnTo>
                  <a:pt x="0" y="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Freeform 91"/>
          <p:cNvSpPr/>
          <p:nvPr/>
        </p:nvSpPr>
        <p:spPr>
          <a:xfrm>
            <a:off x="5419800" y="2793960"/>
            <a:ext cx="1001520" cy="1263600"/>
          </a:xfrm>
          <a:custGeom>
            <a:avLst/>
            <a:gdLst/>
            <a:ahLst/>
            <a:rect l="l" t="t" r="r" b="b"/>
            <a:pathLst>
              <a:path w="1263" h="1593">
                <a:moveTo>
                  <a:pt x="165" y="1413"/>
                </a:moveTo>
                <a:lnTo>
                  <a:pt x="186" y="1390"/>
                </a:lnTo>
                <a:lnTo>
                  <a:pt x="211" y="1367"/>
                </a:lnTo>
                <a:lnTo>
                  <a:pt x="234" y="1344"/>
                </a:lnTo>
                <a:lnTo>
                  <a:pt x="257" y="1321"/>
                </a:lnTo>
                <a:lnTo>
                  <a:pt x="282" y="1296"/>
                </a:lnTo>
                <a:lnTo>
                  <a:pt x="307" y="1271"/>
                </a:lnTo>
                <a:lnTo>
                  <a:pt x="332" y="1246"/>
                </a:lnTo>
                <a:lnTo>
                  <a:pt x="355" y="1219"/>
                </a:lnTo>
                <a:lnTo>
                  <a:pt x="382" y="1192"/>
                </a:lnTo>
                <a:lnTo>
                  <a:pt x="407" y="1163"/>
                </a:lnTo>
                <a:lnTo>
                  <a:pt x="432" y="1135"/>
                </a:lnTo>
                <a:lnTo>
                  <a:pt x="457" y="1106"/>
                </a:lnTo>
                <a:lnTo>
                  <a:pt x="482" y="1075"/>
                </a:lnTo>
                <a:lnTo>
                  <a:pt x="507" y="1043"/>
                </a:lnTo>
                <a:lnTo>
                  <a:pt x="532" y="1010"/>
                </a:lnTo>
                <a:lnTo>
                  <a:pt x="559" y="977"/>
                </a:lnTo>
                <a:lnTo>
                  <a:pt x="582" y="947"/>
                </a:lnTo>
                <a:lnTo>
                  <a:pt x="607" y="914"/>
                </a:lnTo>
                <a:lnTo>
                  <a:pt x="630" y="881"/>
                </a:lnTo>
                <a:lnTo>
                  <a:pt x="655" y="847"/>
                </a:lnTo>
                <a:lnTo>
                  <a:pt x="676" y="814"/>
                </a:lnTo>
                <a:lnTo>
                  <a:pt x="699" y="780"/>
                </a:lnTo>
                <a:lnTo>
                  <a:pt x="720" y="745"/>
                </a:lnTo>
                <a:lnTo>
                  <a:pt x="741" y="710"/>
                </a:lnTo>
                <a:lnTo>
                  <a:pt x="760" y="674"/>
                </a:lnTo>
                <a:lnTo>
                  <a:pt x="780" y="639"/>
                </a:lnTo>
                <a:lnTo>
                  <a:pt x="799" y="603"/>
                </a:lnTo>
                <a:lnTo>
                  <a:pt x="818" y="567"/>
                </a:lnTo>
                <a:lnTo>
                  <a:pt x="835" y="528"/>
                </a:lnTo>
                <a:lnTo>
                  <a:pt x="852" y="492"/>
                </a:lnTo>
                <a:lnTo>
                  <a:pt x="868" y="453"/>
                </a:lnTo>
                <a:lnTo>
                  <a:pt x="883" y="415"/>
                </a:lnTo>
                <a:lnTo>
                  <a:pt x="899" y="380"/>
                </a:lnTo>
                <a:lnTo>
                  <a:pt x="910" y="346"/>
                </a:lnTo>
                <a:lnTo>
                  <a:pt x="918" y="330"/>
                </a:lnTo>
                <a:lnTo>
                  <a:pt x="924" y="315"/>
                </a:lnTo>
                <a:lnTo>
                  <a:pt x="929" y="300"/>
                </a:lnTo>
                <a:lnTo>
                  <a:pt x="933" y="286"/>
                </a:lnTo>
                <a:lnTo>
                  <a:pt x="939" y="271"/>
                </a:lnTo>
                <a:lnTo>
                  <a:pt x="943" y="257"/>
                </a:lnTo>
                <a:lnTo>
                  <a:pt x="947" y="246"/>
                </a:lnTo>
                <a:lnTo>
                  <a:pt x="952" y="233"/>
                </a:lnTo>
                <a:lnTo>
                  <a:pt x="954" y="221"/>
                </a:lnTo>
                <a:lnTo>
                  <a:pt x="958" y="209"/>
                </a:lnTo>
                <a:lnTo>
                  <a:pt x="962" y="198"/>
                </a:lnTo>
                <a:lnTo>
                  <a:pt x="964" y="188"/>
                </a:lnTo>
                <a:lnTo>
                  <a:pt x="966" y="179"/>
                </a:lnTo>
                <a:lnTo>
                  <a:pt x="970" y="169"/>
                </a:lnTo>
                <a:lnTo>
                  <a:pt x="970" y="160"/>
                </a:lnTo>
                <a:lnTo>
                  <a:pt x="972" y="152"/>
                </a:lnTo>
                <a:lnTo>
                  <a:pt x="973" y="144"/>
                </a:lnTo>
                <a:lnTo>
                  <a:pt x="973" y="137"/>
                </a:lnTo>
                <a:lnTo>
                  <a:pt x="975" y="129"/>
                </a:lnTo>
                <a:lnTo>
                  <a:pt x="975" y="123"/>
                </a:lnTo>
                <a:lnTo>
                  <a:pt x="975" y="117"/>
                </a:lnTo>
                <a:lnTo>
                  <a:pt x="973" y="114"/>
                </a:lnTo>
                <a:lnTo>
                  <a:pt x="973" y="110"/>
                </a:lnTo>
                <a:lnTo>
                  <a:pt x="972" y="106"/>
                </a:lnTo>
                <a:lnTo>
                  <a:pt x="972" y="102"/>
                </a:lnTo>
                <a:lnTo>
                  <a:pt x="970" y="98"/>
                </a:lnTo>
                <a:lnTo>
                  <a:pt x="968" y="96"/>
                </a:lnTo>
                <a:lnTo>
                  <a:pt x="966" y="96"/>
                </a:lnTo>
                <a:lnTo>
                  <a:pt x="958" y="92"/>
                </a:lnTo>
                <a:lnTo>
                  <a:pt x="952" y="90"/>
                </a:lnTo>
                <a:lnTo>
                  <a:pt x="947" y="87"/>
                </a:lnTo>
                <a:lnTo>
                  <a:pt x="941" y="83"/>
                </a:lnTo>
                <a:lnTo>
                  <a:pt x="937" y="79"/>
                </a:lnTo>
                <a:lnTo>
                  <a:pt x="935" y="77"/>
                </a:lnTo>
                <a:lnTo>
                  <a:pt x="933" y="71"/>
                </a:lnTo>
                <a:lnTo>
                  <a:pt x="931" y="67"/>
                </a:lnTo>
                <a:lnTo>
                  <a:pt x="929" y="64"/>
                </a:lnTo>
                <a:lnTo>
                  <a:pt x="929" y="60"/>
                </a:lnTo>
                <a:lnTo>
                  <a:pt x="929" y="54"/>
                </a:lnTo>
                <a:lnTo>
                  <a:pt x="931" y="50"/>
                </a:lnTo>
                <a:lnTo>
                  <a:pt x="933" y="41"/>
                </a:lnTo>
                <a:lnTo>
                  <a:pt x="937" y="31"/>
                </a:lnTo>
                <a:lnTo>
                  <a:pt x="941" y="27"/>
                </a:lnTo>
                <a:lnTo>
                  <a:pt x="945" y="23"/>
                </a:lnTo>
                <a:lnTo>
                  <a:pt x="948" y="18"/>
                </a:lnTo>
                <a:lnTo>
                  <a:pt x="952" y="16"/>
                </a:lnTo>
                <a:lnTo>
                  <a:pt x="958" y="12"/>
                </a:lnTo>
                <a:lnTo>
                  <a:pt x="964" y="8"/>
                </a:lnTo>
                <a:lnTo>
                  <a:pt x="970" y="6"/>
                </a:lnTo>
                <a:lnTo>
                  <a:pt x="977" y="4"/>
                </a:lnTo>
                <a:lnTo>
                  <a:pt x="983" y="2"/>
                </a:lnTo>
                <a:lnTo>
                  <a:pt x="991" y="2"/>
                </a:lnTo>
                <a:lnTo>
                  <a:pt x="1000" y="0"/>
                </a:lnTo>
                <a:lnTo>
                  <a:pt x="1008" y="0"/>
                </a:lnTo>
                <a:lnTo>
                  <a:pt x="1018" y="0"/>
                </a:lnTo>
                <a:lnTo>
                  <a:pt x="1027" y="2"/>
                </a:lnTo>
                <a:lnTo>
                  <a:pt x="1037" y="4"/>
                </a:lnTo>
                <a:lnTo>
                  <a:pt x="1046" y="6"/>
                </a:lnTo>
                <a:lnTo>
                  <a:pt x="1062" y="12"/>
                </a:lnTo>
                <a:lnTo>
                  <a:pt x="1079" y="16"/>
                </a:lnTo>
                <a:lnTo>
                  <a:pt x="1096" y="21"/>
                </a:lnTo>
                <a:lnTo>
                  <a:pt x="1114" y="29"/>
                </a:lnTo>
                <a:lnTo>
                  <a:pt x="1133" y="37"/>
                </a:lnTo>
                <a:lnTo>
                  <a:pt x="1150" y="44"/>
                </a:lnTo>
                <a:lnTo>
                  <a:pt x="1158" y="50"/>
                </a:lnTo>
                <a:lnTo>
                  <a:pt x="1165" y="56"/>
                </a:lnTo>
                <a:lnTo>
                  <a:pt x="1173" y="64"/>
                </a:lnTo>
                <a:lnTo>
                  <a:pt x="1183" y="69"/>
                </a:lnTo>
                <a:lnTo>
                  <a:pt x="1196" y="85"/>
                </a:lnTo>
                <a:lnTo>
                  <a:pt x="1210" y="96"/>
                </a:lnTo>
                <a:lnTo>
                  <a:pt x="1221" y="108"/>
                </a:lnTo>
                <a:lnTo>
                  <a:pt x="1233" y="117"/>
                </a:lnTo>
                <a:lnTo>
                  <a:pt x="1242" y="127"/>
                </a:lnTo>
                <a:lnTo>
                  <a:pt x="1250" y="135"/>
                </a:lnTo>
                <a:lnTo>
                  <a:pt x="1257" y="140"/>
                </a:lnTo>
                <a:lnTo>
                  <a:pt x="1263" y="146"/>
                </a:lnTo>
                <a:lnTo>
                  <a:pt x="1263" y="148"/>
                </a:lnTo>
                <a:lnTo>
                  <a:pt x="1263" y="150"/>
                </a:lnTo>
                <a:lnTo>
                  <a:pt x="1261" y="152"/>
                </a:lnTo>
                <a:lnTo>
                  <a:pt x="1261" y="156"/>
                </a:lnTo>
                <a:lnTo>
                  <a:pt x="1259" y="160"/>
                </a:lnTo>
                <a:lnTo>
                  <a:pt x="1257" y="163"/>
                </a:lnTo>
                <a:lnTo>
                  <a:pt x="1257" y="167"/>
                </a:lnTo>
                <a:lnTo>
                  <a:pt x="1256" y="173"/>
                </a:lnTo>
                <a:lnTo>
                  <a:pt x="1252" y="179"/>
                </a:lnTo>
                <a:lnTo>
                  <a:pt x="1250" y="185"/>
                </a:lnTo>
                <a:lnTo>
                  <a:pt x="1248" y="190"/>
                </a:lnTo>
                <a:lnTo>
                  <a:pt x="1244" y="198"/>
                </a:lnTo>
                <a:lnTo>
                  <a:pt x="1242" y="206"/>
                </a:lnTo>
                <a:lnTo>
                  <a:pt x="1238" y="213"/>
                </a:lnTo>
                <a:lnTo>
                  <a:pt x="1234" y="221"/>
                </a:lnTo>
                <a:lnTo>
                  <a:pt x="1231" y="231"/>
                </a:lnTo>
                <a:lnTo>
                  <a:pt x="1227" y="240"/>
                </a:lnTo>
                <a:lnTo>
                  <a:pt x="1221" y="250"/>
                </a:lnTo>
                <a:lnTo>
                  <a:pt x="1217" y="261"/>
                </a:lnTo>
                <a:lnTo>
                  <a:pt x="1211" y="271"/>
                </a:lnTo>
                <a:lnTo>
                  <a:pt x="1206" y="282"/>
                </a:lnTo>
                <a:lnTo>
                  <a:pt x="1200" y="296"/>
                </a:lnTo>
                <a:lnTo>
                  <a:pt x="1188" y="321"/>
                </a:lnTo>
                <a:lnTo>
                  <a:pt x="1175" y="348"/>
                </a:lnTo>
                <a:lnTo>
                  <a:pt x="1160" y="376"/>
                </a:lnTo>
                <a:lnTo>
                  <a:pt x="1144" y="407"/>
                </a:lnTo>
                <a:lnTo>
                  <a:pt x="1127" y="440"/>
                </a:lnTo>
                <a:lnTo>
                  <a:pt x="1110" y="476"/>
                </a:lnTo>
                <a:lnTo>
                  <a:pt x="1091" y="513"/>
                </a:lnTo>
                <a:lnTo>
                  <a:pt x="1071" y="547"/>
                </a:lnTo>
                <a:lnTo>
                  <a:pt x="1052" y="582"/>
                </a:lnTo>
                <a:lnTo>
                  <a:pt x="1031" y="618"/>
                </a:lnTo>
                <a:lnTo>
                  <a:pt x="1010" y="653"/>
                </a:lnTo>
                <a:lnTo>
                  <a:pt x="987" y="687"/>
                </a:lnTo>
                <a:lnTo>
                  <a:pt x="964" y="722"/>
                </a:lnTo>
                <a:lnTo>
                  <a:pt x="941" y="757"/>
                </a:lnTo>
                <a:lnTo>
                  <a:pt x="918" y="791"/>
                </a:lnTo>
                <a:lnTo>
                  <a:pt x="893" y="826"/>
                </a:lnTo>
                <a:lnTo>
                  <a:pt x="868" y="860"/>
                </a:lnTo>
                <a:lnTo>
                  <a:pt x="841" y="897"/>
                </a:lnTo>
                <a:lnTo>
                  <a:pt x="816" y="931"/>
                </a:lnTo>
                <a:lnTo>
                  <a:pt x="789" y="968"/>
                </a:lnTo>
                <a:lnTo>
                  <a:pt x="762" y="1004"/>
                </a:lnTo>
                <a:lnTo>
                  <a:pt x="733" y="1039"/>
                </a:lnTo>
                <a:lnTo>
                  <a:pt x="705" y="1073"/>
                </a:lnTo>
                <a:lnTo>
                  <a:pt x="676" y="1106"/>
                </a:lnTo>
                <a:lnTo>
                  <a:pt x="647" y="1139"/>
                </a:lnTo>
                <a:lnTo>
                  <a:pt x="618" y="1169"/>
                </a:lnTo>
                <a:lnTo>
                  <a:pt x="588" y="1198"/>
                </a:lnTo>
                <a:lnTo>
                  <a:pt x="559" y="1227"/>
                </a:lnTo>
                <a:lnTo>
                  <a:pt x="528" y="1256"/>
                </a:lnTo>
                <a:lnTo>
                  <a:pt x="497" y="1282"/>
                </a:lnTo>
                <a:lnTo>
                  <a:pt x="465" y="1309"/>
                </a:lnTo>
                <a:lnTo>
                  <a:pt x="434" y="1334"/>
                </a:lnTo>
                <a:lnTo>
                  <a:pt x="401" y="1359"/>
                </a:lnTo>
                <a:lnTo>
                  <a:pt x="371" y="1382"/>
                </a:lnTo>
                <a:lnTo>
                  <a:pt x="338" y="1405"/>
                </a:lnTo>
                <a:lnTo>
                  <a:pt x="305" y="1428"/>
                </a:lnTo>
                <a:lnTo>
                  <a:pt x="273" y="1451"/>
                </a:lnTo>
                <a:lnTo>
                  <a:pt x="257" y="1461"/>
                </a:lnTo>
                <a:lnTo>
                  <a:pt x="240" y="1471"/>
                </a:lnTo>
                <a:lnTo>
                  <a:pt x="227" y="1482"/>
                </a:lnTo>
                <a:lnTo>
                  <a:pt x="211" y="1490"/>
                </a:lnTo>
                <a:lnTo>
                  <a:pt x="198" y="1499"/>
                </a:lnTo>
                <a:lnTo>
                  <a:pt x="185" y="1507"/>
                </a:lnTo>
                <a:lnTo>
                  <a:pt x="171" y="1517"/>
                </a:lnTo>
                <a:lnTo>
                  <a:pt x="158" y="1524"/>
                </a:lnTo>
                <a:lnTo>
                  <a:pt x="146" y="1530"/>
                </a:lnTo>
                <a:lnTo>
                  <a:pt x="135" y="1538"/>
                </a:lnTo>
                <a:lnTo>
                  <a:pt x="125" y="1544"/>
                </a:lnTo>
                <a:lnTo>
                  <a:pt x="114" y="1549"/>
                </a:lnTo>
                <a:lnTo>
                  <a:pt x="104" y="1555"/>
                </a:lnTo>
                <a:lnTo>
                  <a:pt x="94" y="1561"/>
                </a:lnTo>
                <a:lnTo>
                  <a:pt x="85" y="1565"/>
                </a:lnTo>
                <a:lnTo>
                  <a:pt x="77" y="1568"/>
                </a:lnTo>
                <a:lnTo>
                  <a:pt x="62" y="1576"/>
                </a:lnTo>
                <a:lnTo>
                  <a:pt x="46" y="1584"/>
                </a:lnTo>
                <a:lnTo>
                  <a:pt x="35" y="1588"/>
                </a:lnTo>
                <a:lnTo>
                  <a:pt x="25" y="1592"/>
                </a:lnTo>
                <a:lnTo>
                  <a:pt x="18" y="1593"/>
                </a:lnTo>
                <a:lnTo>
                  <a:pt x="10" y="1593"/>
                </a:lnTo>
                <a:lnTo>
                  <a:pt x="6" y="1593"/>
                </a:lnTo>
                <a:lnTo>
                  <a:pt x="2" y="1592"/>
                </a:lnTo>
                <a:lnTo>
                  <a:pt x="0" y="1588"/>
                </a:lnTo>
                <a:lnTo>
                  <a:pt x="0" y="1584"/>
                </a:lnTo>
                <a:lnTo>
                  <a:pt x="2" y="1578"/>
                </a:lnTo>
                <a:lnTo>
                  <a:pt x="4" y="1572"/>
                </a:lnTo>
                <a:lnTo>
                  <a:pt x="10" y="1565"/>
                </a:lnTo>
                <a:lnTo>
                  <a:pt x="16" y="1557"/>
                </a:lnTo>
                <a:lnTo>
                  <a:pt x="23" y="1545"/>
                </a:lnTo>
                <a:lnTo>
                  <a:pt x="33" y="1536"/>
                </a:lnTo>
                <a:lnTo>
                  <a:pt x="44" y="1524"/>
                </a:lnTo>
                <a:lnTo>
                  <a:pt x="56" y="1511"/>
                </a:lnTo>
                <a:lnTo>
                  <a:pt x="71" y="1497"/>
                </a:lnTo>
                <a:lnTo>
                  <a:pt x="87" y="1482"/>
                </a:lnTo>
                <a:lnTo>
                  <a:pt x="104" y="1467"/>
                </a:lnTo>
                <a:lnTo>
                  <a:pt x="123" y="1449"/>
                </a:lnTo>
                <a:lnTo>
                  <a:pt x="142" y="1430"/>
                </a:lnTo>
                <a:lnTo>
                  <a:pt x="165" y="141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矩形 4"/>
          <p:cNvSpPr/>
          <p:nvPr/>
        </p:nvSpPr>
        <p:spPr>
          <a:xfrm>
            <a:off x="2218680" y="2548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眯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5114880" y="238284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29" name="组合 8"/>
          <p:cNvGrpSpPr/>
          <p:nvPr/>
        </p:nvGrpSpPr>
        <p:grpSpPr>
          <a:xfrm>
            <a:off x="1400040" y="3975120"/>
            <a:ext cx="2840040" cy="1571760"/>
            <a:chOff x="1400040" y="3975120"/>
            <a:chExt cx="2840040" cy="1571760"/>
          </a:xfrm>
        </p:grpSpPr>
        <p:pic>
          <p:nvPicPr>
            <p:cNvPr id="130" name="图示 4" descr=""/>
            <p:cNvPicPr/>
            <p:nvPr/>
          </p:nvPicPr>
          <p:blipFill>
            <a:blip r:embed="rId1"/>
            <a:stretch/>
          </p:blipFill>
          <p:spPr>
            <a:xfrm>
              <a:off x="1400040" y="3975120"/>
              <a:ext cx="284004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矩形 2"/>
            <p:cNvSpPr/>
            <p:nvPr/>
          </p:nvSpPr>
          <p:spPr>
            <a:xfrm>
              <a:off x="1444680" y="4587840"/>
              <a:ext cx="2766600" cy="551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左低右高，“米”下撇小，捺舒展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2" name="矩形 3"/>
          <p:cNvSpPr/>
          <p:nvPr/>
        </p:nvSpPr>
        <p:spPr>
          <a:xfrm>
            <a:off x="2171880" y="1868400"/>
            <a:ext cx="917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mī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Freeform 106"/>
          <p:cNvSpPr/>
          <p:nvPr/>
        </p:nvSpPr>
        <p:spPr>
          <a:xfrm>
            <a:off x="6718320" y="3713040"/>
            <a:ext cx="1030320" cy="762120"/>
          </a:xfrm>
          <a:custGeom>
            <a:avLst/>
            <a:gdLst/>
            <a:ahLst/>
            <a:rect l="l" t="t" r="r" b="b"/>
            <a:pathLst>
              <a:path w="1299" h="960">
                <a:moveTo>
                  <a:pt x="0" y="0"/>
                </a:moveTo>
                <a:lnTo>
                  <a:pt x="28" y="31"/>
                </a:lnTo>
                <a:lnTo>
                  <a:pt x="57" y="61"/>
                </a:lnTo>
                <a:lnTo>
                  <a:pt x="86" y="90"/>
                </a:lnTo>
                <a:lnTo>
                  <a:pt x="115" y="119"/>
                </a:lnTo>
                <a:lnTo>
                  <a:pt x="143" y="146"/>
                </a:lnTo>
                <a:lnTo>
                  <a:pt x="170" y="173"/>
                </a:lnTo>
                <a:lnTo>
                  <a:pt x="199" y="198"/>
                </a:lnTo>
                <a:lnTo>
                  <a:pt x="226" y="224"/>
                </a:lnTo>
                <a:lnTo>
                  <a:pt x="253" y="249"/>
                </a:lnTo>
                <a:lnTo>
                  <a:pt x="282" y="272"/>
                </a:lnTo>
                <a:lnTo>
                  <a:pt x="307" y="297"/>
                </a:lnTo>
                <a:lnTo>
                  <a:pt x="333" y="320"/>
                </a:lnTo>
                <a:lnTo>
                  <a:pt x="385" y="365"/>
                </a:lnTo>
                <a:lnTo>
                  <a:pt x="437" y="409"/>
                </a:lnTo>
                <a:lnTo>
                  <a:pt x="462" y="432"/>
                </a:lnTo>
                <a:lnTo>
                  <a:pt x="489" y="453"/>
                </a:lnTo>
                <a:lnTo>
                  <a:pt x="516" y="472"/>
                </a:lnTo>
                <a:lnTo>
                  <a:pt x="545" y="493"/>
                </a:lnTo>
                <a:lnTo>
                  <a:pt x="575" y="514"/>
                </a:lnTo>
                <a:lnTo>
                  <a:pt x="606" y="533"/>
                </a:lnTo>
                <a:lnTo>
                  <a:pt x="639" y="553"/>
                </a:lnTo>
                <a:lnTo>
                  <a:pt x="671" y="572"/>
                </a:lnTo>
                <a:lnTo>
                  <a:pt x="706" y="591"/>
                </a:lnTo>
                <a:lnTo>
                  <a:pt x="740" y="610"/>
                </a:lnTo>
                <a:lnTo>
                  <a:pt x="777" y="628"/>
                </a:lnTo>
                <a:lnTo>
                  <a:pt x="813" y="647"/>
                </a:lnTo>
                <a:lnTo>
                  <a:pt x="852" y="664"/>
                </a:lnTo>
                <a:lnTo>
                  <a:pt x="890" y="681"/>
                </a:lnTo>
                <a:lnTo>
                  <a:pt x="930" y="699"/>
                </a:lnTo>
                <a:lnTo>
                  <a:pt x="971" y="716"/>
                </a:lnTo>
                <a:lnTo>
                  <a:pt x="990" y="723"/>
                </a:lnTo>
                <a:lnTo>
                  <a:pt x="1009" y="733"/>
                </a:lnTo>
                <a:lnTo>
                  <a:pt x="1028" y="741"/>
                </a:lnTo>
                <a:lnTo>
                  <a:pt x="1048" y="748"/>
                </a:lnTo>
                <a:lnTo>
                  <a:pt x="1065" y="756"/>
                </a:lnTo>
                <a:lnTo>
                  <a:pt x="1082" y="764"/>
                </a:lnTo>
                <a:lnTo>
                  <a:pt x="1097" y="771"/>
                </a:lnTo>
                <a:lnTo>
                  <a:pt x="1113" y="779"/>
                </a:lnTo>
                <a:lnTo>
                  <a:pt x="1128" y="785"/>
                </a:lnTo>
                <a:lnTo>
                  <a:pt x="1143" y="793"/>
                </a:lnTo>
                <a:lnTo>
                  <a:pt x="1157" y="798"/>
                </a:lnTo>
                <a:lnTo>
                  <a:pt x="1170" y="806"/>
                </a:lnTo>
                <a:lnTo>
                  <a:pt x="1182" y="812"/>
                </a:lnTo>
                <a:lnTo>
                  <a:pt x="1193" y="818"/>
                </a:lnTo>
                <a:lnTo>
                  <a:pt x="1205" y="823"/>
                </a:lnTo>
                <a:lnTo>
                  <a:pt x="1216" y="829"/>
                </a:lnTo>
                <a:lnTo>
                  <a:pt x="1226" y="833"/>
                </a:lnTo>
                <a:lnTo>
                  <a:pt x="1236" y="839"/>
                </a:lnTo>
                <a:lnTo>
                  <a:pt x="1243" y="843"/>
                </a:lnTo>
                <a:lnTo>
                  <a:pt x="1251" y="848"/>
                </a:lnTo>
                <a:lnTo>
                  <a:pt x="1259" y="852"/>
                </a:lnTo>
                <a:lnTo>
                  <a:pt x="1266" y="856"/>
                </a:lnTo>
                <a:lnTo>
                  <a:pt x="1272" y="860"/>
                </a:lnTo>
                <a:lnTo>
                  <a:pt x="1278" y="864"/>
                </a:lnTo>
                <a:lnTo>
                  <a:pt x="1282" y="867"/>
                </a:lnTo>
                <a:lnTo>
                  <a:pt x="1286" y="869"/>
                </a:lnTo>
                <a:lnTo>
                  <a:pt x="1289" y="873"/>
                </a:lnTo>
                <a:lnTo>
                  <a:pt x="1293" y="875"/>
                </a:lnTo>
                <a:lnTo>
                  <a:pt x="1295" y="877"/>
                </a:lnTo>
                <a:lnTo>
                  <a:pt x="1297" y="879"/>
                </a:lnTo>
                <a:lnTo>
                  <a:pt x="1297" y="881"/>
                </a:lnTo>
                <a:lnTo>
                  <a:pt x="1299" y="883"/>
                </a:lnTo>
                <a:lnTo>
                  <a:pt x="1295" y="885"/>
                </a:lnTo>
                <a:lnTo>
                  <a:pt x="1291" y="887"/>
                </a:lnTo>
                <a:lnTo>
                  <a:pt x="1286" y="890"/>
                </a:lnTo>
                <a:lnTo>
                  <a:pt x="1280" y="894"/>
                </a:lnTo>
                <a:lnTo>
                  <a:pt x="1272" y="896"/>
                </a:lnTo>
                <a:lnTo>
                  <a:pt x="1264" y="900"/>
                </a:lnTo>
                <a:lnTo>
                  <a:pt x="1255" y="904"/>
                </a:lnTo>
                <a:lnTo>
                  <a:pt x="1243" y="908"/>
                </a:lnTo>
                <a:lnTo>
                  <a:pt x="1232" y="912"/>
                </a:lnTo>
                <a:lnTo>
                  <a:pt x="1218" y="915"/>
                </a:lnTo>
                <a:lnTo>
                  <a:pt x="1205" y="917"/>
                </a:lnTo>
                <a:lnTo>
                  <a:pt x="1190" y="921"/>
                </a:lnTo>
                <a:lnTo>
                  <a:pt x="1172" y="925"/>
                </a:lnTo>
                <a:lnTo>
                  <a:pt x="1155" y="927"/>
                </a:lnTo>
                <a:lnTo>
                  <a:pt x="1136" y="931"/>
                </a:lnTo>
                <a:lnTo>
                  <a:pt x="1117" y="933"/>
                </a:lnTo>
                <a:lnTo>
                  <a:pt x="1094" y="937"/>
                </a:lnTo>
                <a:lnTo>
                  <a:pt x="1072" y="938"/>
                </a:lnTo>
                <a:lnTo>
                  <a:pt x="1051" y="940"/>
                </a:lnTo>
                <a:lnTo>
                  <a:pt x="1030" y="942"/>
                </a:lnTo>
                <a:lnTo>
                  <a:pt x="1009" y="944"/>
                </a:lnTo>
                <a:lnTo>
                  <a:pt x="990" y="946"/>
                </a:lnTo>
                <a:lnTo>
                  <a:pt x="971" y="948"/>
                </a:lnTo>
                <a:lnTo>
                  <a:pt x="953" y="950"/>
                </a:lnTo>
                <a:lnTo>
                  <a:pt x="936" y="952"/>
                </a:lnTo>
                <a:lnTo>
                  <a:pt x="919" y="954"/>
                </a:lnTo>
                <a:lnTo>
                  <a:pt x="904" y="956"/>
                </a:lnTo>
                <a:lnTo>
                  <a:pt x="888" y="956"/>
                </a:lnTo>
                <a:lnTo>
                  <a:pt x="875" y="958"/>
                </a:lnTo>
                <a:lnTo>
                  <a:pt x="861" y="958"/>
                </a:lnTo>
                <a:lnTo>
                  <a:pt x="848" y="958"/>
                </a:lnTo>
                <a:lnTo>
                  <a:pt x="836" y="960"/>
                </a:lnTo>
                <a:lnTo>
                  <a:pt x="825" y="958"/>
                </a:lnTo>
                <a:lnTo>
                  <a:pt x="813" y="958"/>
                </a:lnTo>
                <a:lnTo>
                  <a:pt x="802" y="956"/>
                </a:lnTo>
                <a:lnTo>
                  <a:pt x="792" y="954"/>
                </a:lnTo>
                <a:lnTo>
                  <a:pt x="781" y="952"/>
                </a:lnTo>
                <a:lnTo>
                  <a:pt x="769" y="948"/>
                </a:lnTo>
                <a:lnTo>
                  <a:pt x="758" y="944"/>
                </a:lnTo>
                <a:lnTo>
                  <a:pt x="746" y="940"/>
                </a:lnTo>
                <a:lnTo>
                  <a:pt x="737" y="935"/>
                </a:lnTo>
                <a:lnTo>
                  <a:pt x="725" y="929"/>
                </a:lnTo>
                <a:lnTo>
                  <a:pt x="715" y="923"/>
                </a:lnTo>
                <a:lnTo>
                  <a:pt x="706" y="915"/>
                </a:lnTo>
                <a:lnTo>
                  <a:pt x="694" y="908"/>
                </a:lnTo>
                <a:lnTo>
                  <a:pt x="685" y="900"/>
                </a:lnTo>
                <a:lnTo>
                  <a:pt x="675" y="890"/>
                </a:lnTo>
                <a:lnTo>
                  <a:pt x="667" y="883"/>
                </a:lnTo>
                <a:lnTo>
                  <a:pt x="660" y="877"/>
                </a:lnTo>
                <a:lnTo>
                  <a:pt x="654" y="871"/>
                </a:lnTo>
                <a:lnTo>
                  <a:pt x="644" y="866"/>
                </a:lnTo>
                <a:lnTo>
                  <a:pt x="637" y="858"/>
                </a:lnTo>
                <a:lnTo>
                  <a:pt x="627" y="848"/>
                </a:lnTo>
                <a:lnTo>
                  <a:pt x="616" y="837"/>
                </a:lnTo>
                <a:lnTo>
                  <a:pt x="604" y="825"/>
                </a:lnTo>
                <a:lnTo>
                  <a:pt x="591" y="814"/>
                </a:lnTo>
                <a:lnTo>
                  <a:pt x="577" y="798"/>
                </a:lnTo>
                <a:lnTo>
                  <a:pt x="562" y="783"/>
                </a:lnTo>
                <a:lnTo>
                  <a:pt x="547" y="766"/>
                </a:lnTo>
                <a:lnTo>
                  <a:pt x="529" y="748"/>
                </a:lnTo>
                <a:lnTo>
                  <a:pt x="512" y="729"/>
                </a:lnTo>
                <a:lnTo>
                  <a:pt x="495" y="708"/>
                </a:lnTo>
                <a:lnTo>
                  <a:pt x="476" y="687"/>
                </a:lnTo>
                <a:lnTo>
                  <a:pt x="454" y="664"/>
                </a:lnTo>
                <a:lnTo>
                  <a:pt x="433" y="639"/>
                </a:lnTo>
                <a:lnTo>
                  <a:pt x="410" y="614"/>
                </a:lnTo>
                <a:lnTo>
                  <a:pt x="387" y="587"/>
                </a:lnTo>
                <a:lnTo>
                  <a:pt x="362" y="560"/>
                </a:lnTo>
                <a:lnTo>
                  <a:pt x="337" y="532"/>
                </a:lnTo>
                <a:lnTo>
                  <a:pt x="312" y="501"/>
                </a:lnTo>
                <a:lnTo>
                  <a:pt x="286" y="468"/>
                </a:lnTo>
                <a:lnTo>
                  <a:pt x="257" y="436"/>
                </a:lnTo>
                <a:lnTo>
                  <a:pt x="228" y="401"/>
                </a:lnTo>
                <a:lnTo>
                  <a:pt x="197" y="366"/>
                </a:lnTo>
                <a:lnTo>
                  <a:pt x="167" y="330"/>
                </a:lnTo>
                <a:lnTo>
                  <a:pt x="136" y="292"/>
                </a:lnTo>
                <a:lnTo>
                  <a:pt x="103" y="253"/>
                </a:lnTo>
                <a:lnTo>
                  <a:pt x="69" y="213"/>
                </a:lnTo>
                <a:lnTo>
                  <a:pt x="34" y="171"/>
                </a:lnTo>
                <a:lnTo>
                  <a:pt x="0" y="128"/>
                </a:lnTo>
                <a:lnTo>
                  <a:pt x="0" y="63"/>
                </a:lnTo>
                <a:lnTo>
                  <a:pt x="0" y="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Freeform 107"/>
          <p:cNvSpPr/>
          <p:nvPr/>
        </p:nvSpPr>
        <p:spPr>
          <a:xfrm>
            <a:off x="6070680" y="3692520"/>
            <a:ext cx="666720" cy="895320"/>
          </a:xfrm>
          <a:custGeom>
            <a:avLst/>
            <a:gdLst/>
            <a:ahLst/>
            <a:rect l="l" t="t" r="r" b="b"/>
            <a:pathLst>
              <a:path w="840" h="1127">
                <a:moveTo>
                  <a:pt x="2" y="1125"/>
                </a:moveTo>
                <a:lnTo>
                  <a:pt x="2" y="1123"/>
                </a:lnTo>
                <a:lnTo>
                  <a:pt x="0" y="1121"/>
                </a:lnTo>
                <a:lnTo>
                  <a:pt x="0" y="1119"/>
                </a:lnTo>
                <a:lnTo>
                  <a:pt x="2" y="1115"/>
                </a:lnTo>
                <a:lnTo>
                  <a:pt x="2" y="1111"/>
                </a:lnTo>
                <a:lnTo>
                  <a:pt x="4" y="1107"/>
                </a:lnTo>
                <a:lnTo>
                  <a:pt x="6" y="1104"/>
                </a:lnTo>
                <a:lnTo>
                  <a:pt x="9" y="1098"/>
                </a:lnTo>
                <a:lnTo>
                  <a:pt x="11" y="1092"/>
                </a:lnTo>
                <a:lnTo>
                  <a:pt x="15" y="1086"/>
                </a:lnTo>
                <a:lnTo>
                  <a:pt x="19" y="1081"/>
                </a:lnTo>
                <a:lnTo>
                  <a:pt x="25" y="1073"/>
                </a:lnTo>
                <a:lnTo>
                  <a:pt x="29" y="1065"/>
                </a:lnTo>
                <a:lnTo>
                  <a:pt x="34" y="1058"/>
                </a:lnTo>
                <a:lnTo>
                  <a:pt x="40" y="1050"/>
                </a:lnTo>
                <a:lnTo>
                  <a:pt x="46" y="1040"/>
                </a:lnTo>
                <a:lnTo>
                  <a:pt x="54" y="1031"/>
                </a:lnTo>
                <a:lnTo>
                  <a:pt x="61" y="1021"/>
                </a:lnTo>
                <a:lnTo>
                  <a:pt x="69" y="1010"/>
                </a:lnTo>
                <a:lnTo>
                  <a:pt x="77" y="1000"/>
                </a:lnTo>
                <a:lnTo>
                  <a:pt x="84" y="988"/>
                </a:lnTo>
                <a:lnTo>
                  <a:pt x="94" y="975"/>
                </a:lnTo>
                <a:lnTo>
                  <a:pt x="103" y="963"/>
                </a:lnTo>
                <a:lnTo>
                  <a:pt x="113" y="950"/>
                </a:lnTo>
                <a:lnTo>
                  <a:pt x="134" y="923"/>
                </a:lnTo>
                <a:lnTo>
                  <a:pt x="157" y="894"/>
                </a:lnTo>
                <a:lnTo>
                  <a:pt x="182" y="864"/>
                </a:lnTo>
                <a:lnTo>
                  <a:pt x="209" y="831"/>
                </a:lnTo>
                <a:lnTo>
                  <a:pt x="222" y="814"/>
                </a:lnTo>
                <a:lnTo>
                  <a:pt x="236" y="798"/>
                </a:lnTo>
                <a:lnTo>
                  <a:pt x="249" y="781"/>
                </a:lnTo>
                <a:lnTo>
                  <a:pt x="263" y="762"/>
                </a:lnTo>
                <a:lnTo>
                  <a:pt x="276" y="745"/>
                </a:lnTo>
                <a:lnTo>
                  <a:pt x="292" y="725"/>
                </a:lnTo>
                <a:lnTo>
                  <a:pt x="305" y="706"/>
                </a:lnTo>
                <a:lnTo>
                  <a:pt x="318" y="687"/>
                </a:lnTo>
                <a:lnTo>
                  <a:pt x="334" y="666"/>
                </a:lnTo>
                <a:lnTo>
                  <a:pt x="347" y="645"/>
                </a:lnTo>
                <a:lnTo>
                  <a:pt x="363" y="622"/>
                </a:lnTo>
                <a:lnTo>
                  <a:pt x="378" y="601"/>
                </a:lnTo>
                <a:lnTo>
                  <a:pt x="391" y="578"/>
                </a:lnTo>
                <a:lnTo>
                  <a:pt x="407" y="555"/>
                </a:lnTo>
                <a:lnTo>
                  <a:pt x="422" y="530"/>
                </a:lnTo>
                <a:lnTo>
                  <a:pt x="435" y="507"/>
                </a:lnTo>
                <a:lnTo>
                  <a:pt x="451" y="480"/>
                </a:lnTo>
                <a:lnTo>
                  <a:pt x="466" y="455"/>
                </a:lnTo>
                <a:lnTo>
                  <a:pt x="482" y="428"/>
                </a:lnTo>
                <a:lnTo>
                  <a:pt x="497" y="403"/>
                </a:lnTo>
                <a:lnTo>
                  <a:pt x="512" y="374"/>
                </a:lnTo>
                <a:lnTo>
                  <a:pt x="528" y="347"/>
                </a:lnTo>
                <a:lnTo>
                  <a:pt x="543" y="319"/>
                </a:lnTo>
                <a:lnTo>
                  <a:pt x="558" y="290"/>
                </a:lnTo>
                <a:lnTo>
                  <a:pt x="574" y="259"/>
                </a:lnTo>
                <a:lnTo>
                  <a:pt x="589" y="230"/>
                </a:lnTo>
                <a:lnTo>
                  <a:pt x="604" y="200"/>
                </a:lnTo>
                <a:lnTo>
                  <a:pt x="620" y="169"/>
                </a:lnTo>
                <a:lnTo>
                  <a:pt x="635" y="136"/>
                </a:lnTo>
                <a:lnTo>
                  <a:pt x="650" y="104"/>
                </a:lnTo>
                <a:lnTo>
                  <a:pt x="666" y="71"/>
                </a:lnTo>
                <a:lnTo>
                  <a:pt x="681" y="38"/>
                </a:lnTo>
                <a:lnTo>
                  <a:pt x="721" y="29"/>
                </a:lnTo>
                <a:lnTo>
                  <a:pt x="760" y="19"/>
                </a:lnTo>
                <a:lnTo>
                  <a:pt x="840" y="0"/>
                </a:lnTo>
                <a:lnTo>
                  <a:pt x="829" y="27"/>
                </a:lnTo>
                <a:lnTo>
                  <a:pt x="819" y="54"/>
                </a:lnTo>
                <a:lnTo>
                  <a:pt x="810" y="81"/>
                </a:lnTo>
                <a:lnTo>
                  <a:pt x="800" y="105"/>
                </a:lnTo>
                <a:lnTo>
                  <a:pt x="791" y="130"/>
                </a:lnTo>
                <a:lnTo>
                  <a:pt x="781" y="153"/>
                </a:lnTo>
                <a:lnTo>
                  <a:pt x="771" y="178"/>
                </a:lnTo>
                <a:lnTo>
                  <a:pt x="764" y="201"/>
                </a:lnTo>
                <a:lnTo>
                  <a:pt x="754" y="223"/>
                </a:lnTo>
                <a:lnTo>
                  <a:pt x="745" y="246"/>
                </a:lnTo>
                <a:lnTo>
                  <a:pt x="737" y="267"/>
                </a:lnTo>
                <a:lnTo>
                  <a:pt x="727" y="288"/>
                </a:lnTo>
                <a:lnTo>
                  <a:pt x="720" y="307"/>
                </a:lnTo>
                <a:lnTo>
                  <a:pt x="710" y="326"/>
                </a:lnTo>
                <a:lnTo>
                  <a:pt x="702" y="345"/>
                </a:lnTo>
                <a:lnTo>
                  <a:pt x="695" y="365"/>
                </a:lnTo>
                <a:lnTo>
                  <a:pt x="687" y="382"/>
                </a:lnTo>
                <a:lnTo>
                  <a:pt x="679" y="399"/>
                </a:lnTo>
                <a:lnTo>
                  <a:pt x="672" y="415"/>
                </a:lnTo>
                <a:lnTo>
                  <a:pt x="664" y="430"/>
                </a:lnTo>
                <a:lnTo>
                  <a:pt x="656" y="445"/>
                </a:lnTo>
                <a:lnTo>
                  <a:pt x="649" y="461"/>
                </a:lnTo>
                <a:lnTo>
                  <a:pt x="641" y="474"/>
                </a:lnTo>
                <a:lnTo>
                  <a:pt x="635" y="487"/>
                </a:lnTo>
                <a:lnTo>
                  <a:pt x="627" y="501"/>
                </a:lnTo>
                <a:lnTo>
                  <a:pt x="622" y="514"/>
                </a:lnTo>
                <a:lnTo>
                  <a:pt x="614" y="526"/>
                </a:lnTo>
                <a:lnTo>
                  <a:pt x="608" y="535"/>
                </a:lnTo>
                <a:lnTo>
                  <a:pt x="602" y="547"/>
                </a:lnTo>
                <a:lnTo>
                  <a:pt x="597" y="557"/>
                </a:lnTo>
                <a:lnTo>
                  <a:pt x="589" y="566"/>
                </a:lnTo>
                <a:lnTo>
                  <a:pt x="585" y="576"/>
                </a:lnTo>
                <a:lnTo>
                  <a:pt x="562" y="608"/>
                </a:lnTo>
                <a:lnTo>
                  <a:pt x="537" y="639"/>
                </a:lnTo>
                <a:lnTo>
                  <a:pt x="512" y="670"/>
                </a:lnTo>
                <a:lnTo>
                  <a:pt x="487" y="699"/>
                </a:lnTo>
                <a:lnTo>
                  <a:pt x="462" y="727"/>
                </a:lnTo>
                <a:lnTo>
                  <a:pt x="437" y="754"/>
                </a:lnTo>
                <a:lnTo>
                  <a:pt x="414" y="779"/>
                </a:lnTo>
                <a:lnTo>
                  <a:pt x="391" y="804"/>
                </a:lnTo>
                <a:lnTo>
                  <a:pt x="380" y="820"/>
                </a:lnTo>
                <a:lnTo>
                  <a:pt x="366" y="833"/>
                </a:lnTo>
                <a:lnTo>
                  <a:pt x="355" y="848"/>
                </a:lnTo>
                <a:lnTo>
                  <a:pt x="341" y="862"/>
                </a:lnTo>
                <a:lnTo>
                  <a:pt x="313" y="891"/>
                </a:lnTo>
                <a:lnTo>
                  <a:pt x="284" y="919"/>
                </a:lnTo>
                <a:lnTo>
                  <a:pt x="253" y="948"/>
                </a:lnTo>
                <a:lnTo>
                  <a:pt x="222" y="977"/>
                </a:lnTo>
                <a:lnTo>
                  <a:pt x="192" y="1006"/>
                </a:lnTo>
                <a:lnTo>
                  <a:pt x="159" y="1034"/>
                </a:lnTo>
                <a:lnTo>
                  <a:pt x="144" y="1050"/>
                </a:lnTo>
                <a:lnTo>
                  <a:pt x="128" y="1061"/>
                </a:lnTo>
                <a:lnTo>
                  <a:pt x="115" y="1073"/>
                </a:lnTo>
                <a:lnTo>
                  <a:pt x="101" y="1082"/>
                </a:lnTo>
                <a:lnTo>
                  <a:pt x="88" y="1092"/>
                </a:lnTo>
                <a:lnTo>
                  <a:pt x="77" y="1100"/>
                </a:lnTo>
                <a:lnTo>
                  <a:pt x="65" y="1107"/>
                </a:lnTo>
                <a:lnTo>
                  <a:pt x="54" y="1113"/>
                </a:lnTo>
                <a:lnTo>
                  <a:pt x="44" y="1119"/>
                </a:lnTo>
                <a:lnTo>
                  <a:pt x="34" y="1123"/>
                </a:lnTo>
                <a:lnTo>
                  <a:pt x="27" y="1125"/>
                </a:lnTo>
                <a:lnTo>
                  <a:pt x="19" y="1127"/>
                </a:lnTo>
                <a:lnTo>
                  <a:pt x="13" y="1127"/>
                </a:lnTo>
                <a:lnTo>
                  <a:pt x="9" y="1127"/>
                </a:lnTo>
                <a:lnTo>
                  <a:pt x="4" y="1127"/>
                </a:lnTo>
                <a:lnTo>
                  <a:pt x="2" y="1125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Freeform 108"/>
          <p:cNvSpPr/>
          <p:nvPr/>
        </p:nvSpPr>
        <p:spPr>
          <a:xfrm>
            <a:off x="6121440" y="3551400"/>
            <a:ext cx="1228680" cy="293400"/>
          </a:xfrm>
          <a:custGeom>
            <a:avLst/>
            <a:gdLst/>
            <a:ahLst/>
            <a:rect l="l" t="t" r="r" b="b"/>
            <a:pathLst>
              <a:path w="1549" h="371">
                <a:moveTo>
                  <a:pt x="1541" y="102"/>
                </a:moveTo>
                <a:lnTo>
                  <a:pt x="1545" y="110"/>
                </a:lnTo>
                <a:lnTo>
                  <a:pt x="1547" y="119"/>
                </a:lnTo>
                <a:lnTo>
                  <a:pt x="1549" y="125"/>
                </a:lnTo>
                <a:lnTo>
                  <a:pt x="1549" y="133"/>
                </a:lnTo>
                <a:lnTo>
                  <a:pt x="1549" y="139"/>
                </a:lnTo>
                <a:lnTo>
                  <a:pt x="1547" y="142"/>
                </a:lnTo>
                <a:lnTo>
                  <a:pt x="1545" y="148"/>
                </a:lnTo>
                <a:lnTo>
                  <a:pt x="1541" y="152"/>
                </a:lnTo>
                <a:lnTo>
                  <a:pt x="1538" y="154"/>
                </a:lnTo>
                <a:lnTo>
                  <a:pt x="1536" y="156"/>
                </a:lnTo>
                <a:lnTo>
                  <a:pt x="1530" y="158"/>
                </a:lnTo>
                <a:lnTo>
                  <a:pt x="1526" y="160"/>
                </a:lnTo>
                <a:lnTo>
                  <a:pt x="1520" y="162"/>
                </a:lnTo>
                <a:lnTo>
                  <a:pt x="1513" y="162"/>
                </a:lnTo>
                <a:lnTo>
                  <a:pt x="1505" y="164"/>
                </a:lnTo>
                <a:lnTo>
                  <a:pt x="1497" y="164"/>
                </a:lnTo>
                <a:lnTo>
                  <a:pt x="1488" y="164"/>
                </a:lnTo>
                <a:lnTo>
                  <a:pt x="1478" y="165"/>
                </a:lnTo>
                <a:lnTo>
                  <a:pt x="1468" y="165"/>
                </a:lnTo>
                <a:lnTo>
                  <a:pt x="1457" y="165"/>
                </a:lnTo>
                <a:lnTo>
                  <a:pt x="1445" y="165"/>
                </a:lnTo>
                <a:lnTo>
                  <a:pt x="1434" y="165"/>
                </a:lnTo>
                <a:lnTo>
                  <a:pt x="1420" y="165"/>
                </a:lnTo>
                <a:lnTo>
                  <a:pt x="1407" y="165"/>
                </a:lnTo>
                <a:lnTo>
                  <a:pt x="1353" y="165"/>
                </a:lnTo>
                <a:lnTo>
                  <a:pt x="1326" y="165"/>
                </a:lnTo>
                <a:lnTo>
                  <a:pt x="1300" y="167"/>
                </a:lnTo>
                <a:lnTo>
                  <a:pt x="1275" y="169"/>
                </a:lnTo>
                <a:lnTo>
                  <a:pt x="1250" y="171"/>
                </a:lnTo>
                <a:lnTo>
                  <a:pt x="1225" y="175"/>
                </a:lnTo>
                <a:lnTo>
                  <a:pt x="1202" y="179"/>
                </a:lnTo>
                <a:lnTo>
                  <a:pt x="1186" y="181"/>
                </a:lnTo>
                <a:lnTo>
                  <a:pt x="1173" y="183"/>
                </a:lnTo>
                <a:lnTo>
                  <a:pt x="1158" y="187"/>
                </a:lnTo>
                <a:lnTo>
                  <a:pt x="1142" y="189"/>
                </a:lnTo>
                <a:lnTo>
                  <a:pt x="1125" y="190"/>
                </a:lnTo>
                <a:lnTo>
                  <a:pt x="1110" y="194"/>
                </a:lnTo>
                <a:lnTo>
                  <a:pt x="1092" y="196"/>
                </a:lnTo>
                <a:lnTo>
                  <a:pt x="1073" y="198"/>
                </a:lnTo>
                <a:lnTo>
                  <a:pt x="1056" y="202"/>
                </a:lnTo>
                <a:lnTo>
                  <a:pt x="1037" y="206"/>
                </a:lnTo>
                <a:lnTo>
                  <a:pt x="1017" y="210"/>
                </a:lnTo>
                <a:lnTo>
                  <a:pt x="996" y="212"/>
                </a:lnTo>
                <a:lnTo>
                  <a:pt x="975" y="215"/>
                </a:lnTo>
                <a:lnTo>
                  <a:pt x="954" y="221"/>
                </a:lnTo>
                <a:lnTo>
                  <a:pt x="933" y="225"/>
                </a:lnTo>
                <a:lnTo>
                  <a:pt x="910" y="229"/>
                </a:lnTo>
                <a:lnTo>
                  <a:pt x="885" y="235"/>
                </a:lnTo>
                <a:lnTo>
                  <a:pt x="858" y="238"/>
                </a:lnTo>
                <a:lnTo>
                  <a:pt x="833" y="244"/>
                </a:lnTo>
                <a:lnTo>
                  <a:pt x="806" y="248"/>
                </a:lnTo>
                <a:lnTo>
                  <a:pt x="777" y="254"/>
                </a:lnTo>
                <a:lnTo>
                  <a:pt x="749" y="260"/>
                </a:lnTo>
                <a:lnTo>
                  <a:pt x="720" y="263"/>
                </a:lnTo>
                <a:lnTo>
                  <a:pt x="691" y="269"/>
                </a:lnTo>
                <a:lnTo>
                  <a:pt x="662" y="275"/>
                </a:lnTo>
                <a:lnTo>
                  <a:pt x="632" y="281"/>
                </a:lnTo>
                <a:lnTo>
                  <a:pt x="601" y="286"/>
                </a:lnTo>
                <a:lnTo>
                  <a:pt x="568" y="292"/>
                </a:lnTo>
                <a:lnTo>
                  <a:pt x="536" y="298"/>
                </a:lnTo>
                <a:lnTo>
                  <a:pt x="503" y="306"/>
                </a:lnTo>
                <a:lnTo>
                  <a:pt x="470" y="311"/>
                </a:lnTo>
                <a:lnTo>
                  <a:pt x="436" y="319"/>
                </a:lnTo>
                <a:lnTo>
                  <a:pt x="403" y="327"/>
                </a:lnTo>
                <a:lnTo>
                  <a:pt x="372" y="332"/>
                </a:lnTo>
                <a:lnTo>
                  <a:pt x="342" y="338"/>
                </a:lnTo>
                <a:lnTo>
                  <a:pt x="313" y="344"/>
                </a:lnTo>
                <a:lnTo>
                  <a:pt x="288" y="348"/>
                </a:lnTo>
                <a:lnTo>
                  <a:pt x="263" y="352"/>
                </a:lnTo>
                <a:lnTo>
                  <a:pt x="252" y="354"/>
                </a:lnTo>
                <a:lnTo>
                  <a:pt x="242" y="356"/>
                </a:lnTo>
                <a:lnTo>
                  <a:pt x="230" y="357"/>
                </a:lnTo>
                <a:lnTo>
                  <a:pt x="221" y="359"/>
                </a:lnTo>
                <a:lnTo>
                  <a:pt x="211" y="361"/>
                </a:lnTo>
                <a:lnTo>
                  <a:pt x="204" y="361"/>
                </a:lnTo>
                <a:lnTo>
                  <a:pt x="194" y="363"/>
                </a:lnTo>
                <a:lnTo>
                  <a:pt x="186" y="363"/>
                </a:lnTo>
                <a:lnTo>
                  <a:pt x="179" y="365"/>
                </a:lnTo>
                <a:lnTo>
                  <a:pt x="173" y="365"/>
                </a:lnTo>
                <a:lnTo>
                  <a:pt x="165" y="367"/>
                </a:lnTo>
                <a:lnTo>
                  <a:pt x="159" y="367"/>
                </a:lnTo>
                <a:lnTo>
                  <a:pt x="156" y="369"/>
                </a:lnTo>
                <a:lnTo>
                  <a:pt x="150" y="369"/>
                </a:lnTo>
                <a:lnTo>
                  <a:pt x="146" y="369"/>
                </a:lnTo>
                <a:lnTo>
                  <a:pt x="142" y="369"/>
                </a:lnTo>
                <a:lnTo>
                  <a:pt x="138" y="369"/>
                </a:lnTo>
                <a:lnTo>
                  <a:pt x="136" y="369"/>
                </a:lnTo>
                <a:lnTo>
                  <a:pt x="134" y="371"/>
                </a:lnTo>
                <a:lnTo>
                  <a:pt x="133" y="371"/>
                </a:lnTo>
                <a:lnTo>
                  <a:pt x="115" y="369"/>
                </a:lnTo>
                <a:lnTo>
                  <a:pt x="106" y="369"/>
                </a:lnTo>
                <a:lnTo>
                  <a:pt x="94" y="369"/>
                </a:lnTo>
                <a:lnTo>
                  <a:pt x="85" y="367"/>
                </a:lnTo>
                <a:lnTo>
                  <a:pt x="73" y="365"/>
                </a:lnTo>
                <a:lnTo>
                  <a:pt x="62" y="361"/>
                </a:lnTo>
                <a:lnTo>
                  <a:pt x="48" y="357"/>
                </a:lnTo>
                <a:lnTo>
                  <a:pt x="42" y="356"/>
                </a:lnTo>
                <a:lnTo>
                  <a:pt x="35" y="352"/>
                </a:lnTo>
                <a:lnTo>
                  <a:pt x="31" y="350"/>
                </a:lnTo>
                <a:lnTo>
                  <a:pt x="25" y="348"/>
                </a:lnTo>
                <a:lnTo>
                  <a:pt x="21" y="344"/>
                </a:lnTo>
                <a:lnTo>
                  <a:pt x="17" y="342"/>
                </a:lnTo>
                <a:lnTo>
                  <a:pt x="10" y="336"/>
                </a:lnTo>
                <a:lnTo>
                  <a:pt x="6" y="331"/>
                </a:lnTo>
                <a:lnTo>
                  <a:pt x="2" y="323"/>
                </a:lnTo>
                <a:lnTo>
                  <a:pt x="0" y="315"/>
                </a:lnTo>
                <a:lnTo>
                  <a:pt x="0" y="306"/>
                </a:lnTo>
                <a:lnTo>
                  <a:pt x="0" y="304"/>
                </a:lnTo>
                <a:lnTo>
                  <a:pt x="2" y="302"/>
                </a:lnTo>
                <a:lnTo>
                  <a:pt x="6" y="298"/>
                </a:lnTo>
                <a:lnTo>
                  <a:pt x="10" y="294"/>
                </a:lnTo>
                <a:lnTo>
                  <a:pt x="15" y="292"/>
                </a:lnTo>
                <a:lnTo>
                  <a:pt x="21" y="288"/>
                </a:lnTo>
                <a:lnTo>
                  <a:pt x="29" y="284"/>
                </a:lnTo>
                <a:lnTo>
                  <a:pt x="38" y="281"/>
                </a:lnTo>
                <a:lnTo>
                  <a:pt x="48" y="277"/>
                </a:lnTo>
                <a:lnTo>
                  <a:pt x="62" y="271"/>
                </a:lnTo>
                <a:lnTo>
                  <a:pt x="73" y="267"/>
                </a:lnTo>
                <a:lnTo>
                  <a:pt x="88" y="261"/>
                </a:lnTo>
                <a:lnTo>
                  <a:pt x="102" y="258"/>
                </a:lnTo>
                <a:lnTo>
                  <a:pt x="119" y="252"/>
                </a:lnTo>
                <a:lnTo>
                  <a:pt x="136" y="246"/>
                </a:lnTo>
                <a:lnTo>
                  <a:pt x="156" y="240"/>
                </a:lnTo>
                <a:lnTo>
                  <a:pt x="177" y="235"/>
                </a:lnTo>
                <a:lnTo>
                  <a:pt x="198" y="229"/>
                </a:lnTo>
                <a:lnTo>
                  <a:pt x="221" y="223"/>
                </a:lnTo>
                <a:lnTo>
                  <a:pt x="244" y="217"/>
                </a:lnTo>
                <a:lnTo>
                  <a:pt x="271" y="212"/>
                </a:lnTo>
                <a:lnTo>
                  <a:pt x="296" y="204"/>
                </a:lnTo>
                <a:lnTo>
                  <a:pt x="324" y="196"/>
                </a:lnTo>
                <a:lnTo>
                  <a:pt x="353" y="190"/>
                </a:lnTo>
                <a:lnTo>
                  <a:pt x="384" y="183"/>
                </a:lnTo>
                <a:lnTo>
                  <a:pt x="415" y="175"/>
                </a:lnTo>
                <a:lnTo>
                  <a:pt x="447" y="167"/>
                </a:lnTo>
                <a:lnTo>
                  <a:pt x="482" y="160"/>
                </a:lnTo>
                <a:lnTo>
                  <a:pt x="516" y="152"/>
                </a:lnTo>
                <a:lnTo>
                  <a:pt x="553" y="144"/>
                </a:lnTo>
                <a:lnTo>
                  <a:pt x="591" y="135"/>
                </a:lnTo>
                <a:lnTo>
                  <a:pt x="632" y="127"/>
                </a:lnTo>
                <a:lnTo>
                  <a:pt x="670" y="119"/>
                </a:lnTo>
                <a:lnTo>
                  <a:pt x="708" y="110"/>
                </a:lnTo>
                <a:lnTo>
                  <a:pt x="745" y="102"/>
                </a:lnTo>
                <a:lnTo>
                  <a:pt x="781" y="96"/>
                </a:lnTo>
                <a:lnTo>
                  <a:pt x="816" y="89"/>
                </a:lnTo>
                <a:lnTo>
                  <a:pt x="848" y="81"/>
                </a:lnTo>
                <a:lnTo>
                  <a:pt x="881" y="75"/>
                </a:lnTo>
                <a:lnTo>
                  <a:pt x="914" y="70"/>
                </a:lnTo>
                <a:lnTo>
                  <a:pt x="944" y="62"/>
                </a:lnTo>
                <a:lnTo>
                  <a:pt x="973" y="58"/>
                </a:lnTo>
                <a:lnTo>
                  <a:pt x="1000" y="52"/>
                </a:lnTo>
                <a:lnTo>
                  <a:pt x="1027" y="46"/>
                </a:lnTo>
                <a:lnTo>
                  <a:pt x="1054" y="43"/>
                </a:lnTo>
                <a:lnTo>
                  <a:pt x="1079" y="37"/>
                </a:lnTo>
                <a:lnTo>
                  <a:pt x="1102" y="33"/>
                </a:lnTo>
                <a:lnTo>
                  <a:pt x="1125" y="29"/>
                </a:lnTo>
                <a:lnTo>
                  <a:pt x="1146" y="25"/>
                </a:lnTo>
                <a:lnTo>
                  <a:pt x="1167" y="22"/>
                </a:lnTo>
                <a:lnTo>
                  <a:pt x="1186" y="20"/>
                </a:lnTo>
                <a:lnTo>
                  <a:pt x="1206" y="16"/>
                </a:lnTo>
                <a:lnTo>
                  <a:pt x="1223" y="14"/>
                </a:lnTo>
                <a:lnTo>
                  <a:pt x="1240" y="10"/>
                </a:lnTo>
                <a:lnTo>
                  <a:pt x="1255" y="8"/>
                </a:lnTo>
                <a:lnTo>
                  <a:pt x="1269" y="6"/>
                </a:lnTo>
                <a:lnTo>
                  <a:pt x="1282" y="4"/>
                </a:lnTo>
                <a:lnTo>
                  <a:pt x="1294" y="4"/>
                </a:lnTo>
                <a:lnTo>
                  <a:pt x="1305" y="2"/>
                </a:lnTo>
                <a:lnTo>
                  <a:pt x="1317" y="0"/>
                </a:lnTo>
                <a:lnTo>
                  <a:pt x="1325" y="0"/>
                </a:lnTo>
                <a:lnTo>
                  <a:pt x="1334" y="0"/>
                </a:lnTo>
                <a:lnTo>
                  <a:pt x="1342" y="0"/>
                </a:lnTo>
                <a:lnTo>
                  <a:pt x="1348" y="0"/>
                </a:lnTo>
                <a:lnTo>
                  <a:pt x="1365" y="0"/>
                </a:lnTo>
                <a:lnTo>
                  <a:pt x="1384" y="2"/>
                </a:lnTo>
                <a:lnTo>
                  <a:pt x="1401" y="4"/>
                </a:lnTo>
                <a:lnTo>
                  <a:pt x="1419" y="8"/>
                </a:lnTo>
                <a:lnTo>
                  <a:pt x="1436" y="12"/>
                </a:lnTo>
                <a:lnTo>
                  <a:pt x="1451" y="16"/>
                </a:lnTo>
                <a:lnTo>
                  <a:pt x="1467" y="20"/>
                </a:lnTo>
                <a:lnTo>
                  <a:pt x="1480" y="25"/>
                </a:lnTo>
                <a:lnTo>
                  <a:pt x="1488" y="29"/>
                </a:lnTo>
                <a:lnTo>
                  <a:pt x="1493" y="35"/>
                </a:lnTo>
                <a:lnTo>
                  <a:pt x="1503" y="45"/>
                </a:lnTo>
                <a:lnTo>
                  <a:pt x="1513" y="54"/>
                </a:lnTo>
                <a:lnTo>
                  <a:pt x="1520" y="64"/>
                </a:lnTo>
                <a:lnTo>
                  <a:pt x="1526" y="73"/>
                </a:lnTo>
                <a:lnTo>
                  <a:pt x="1532" y="83"/>
                </a:lnTo>
                <a:lnTo>
                  <a:pt x="1536" y="93"/>
                </a:lnTo>
                <a:lnTo>
                  <a:pt x="1541" y="10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Freeform 109"/>
          <p:cNvSpPr/>
          <p:nvPr/>
        </p:nvSpPr>
        <p:spPr>
          <a:xfrm>
            <a:off x="6578640" y="2770200"/>
            <a:ext cx="244440" cy="2282760"/>
          </a:xfrm>
          <a:custGeom>
            <a:avLst/>
            <a:gdLst/>
            <a:ahLst/>
            <a:rect l="l" t="t" r="r" b="b"/>
            <a:pathLst>
              <a:path w="307" h="2875">
                <a:moveTo>
                  <a:pt x="199" y="50"/>
                </a:moveTo>
                <a:lnTo>
                  <a:pt x="209" y="57"/>
                </a:lnTo>
                <a:lnTo>
                  <a:pt x="221" y="65"/>
                </a:lnTo>
                <a:lnTo>
                  <a:pt x="230" y="71"/>
                </a:lnTo>
                <a:lnTo>
                  <a:pt x="240" y="77"/>
                </a:lnTo>
                <a:lnTo>
                  <a:pt x="247" y="82"/>
                </a:lnTo>
                <a:lnTo>
                  <a:pt x="257" y="88"/>
                </a:lnTo>
                <a:lnTo>
                  <a:pt x="265" y="94"/>
                </a:lnTo>
                <a:lnTo>
                  <a:pt x="270" y="98"/>
                </a:lnTo>
                <a:lnTo>
                  <a:pt x="278" y="103"/>
                </a:lnTo>
                <a:lnTo>
                  <a:pt x="284" y="107"/>
                </a:lnTo>
                <a:lnTo>
                  <a:pt x="290" y="111"/>
                </a:lnTo>
                <a:lnTo>
                  <a:pt x="294" y="115"/>
                </a:lnTo>
                <a:lnTo>
                  <a:pt x="297" y="119"/>
                </a:lnTo>
                <a:lnTo>
                  <a:pt x="301" y="121"/>
                </a:lnTo>
                <a:lnTo>
                  <a:pt x="305" y="125"/>
                </a:lnTo>
                <a:lnTo>
                  <a:pt x="307" y="126"/>
                </a:lnTo>
                <a:lnTo>
                  <a:pt x="307" y="146"/>
                </a:lnTo>
                <a:lnTo>
                  <a:pt x="307" y="155"/>
                </a:lnTo>
                <a:lnTo>
                  <a:pt x="305" y="163"/>
                </a:lnTo>
                <a:lnTo>
                  <a:pt x="305" y="173"/>
                </a:lnTo>
                <a:lnTo>
                  <a:pt x="303" y="178"/>
                </a:lnTo>
                <a:lnTo>
                  <a:pt x="299" y="186"/>
                </a:lnTo>
                <a:lnTo>
                  <a:pt x="295" y="192"/>
                </a:lnTo>
                <a:lnTo>
                  <a:pt x="294" y="196"/>
                </a:lnTo>
                <a:lnTo>
                  <a:pt x="292" y="201"/>
                </a:lnTo>
                <a:lnTo>
                  <a:pt x="288" y="209"/>
                </a:lnTo>
                <a:lnTo>
                  <a:pt x="286" y="217"/>
                </a:lnTo>
                <a:lnTo>
                  <a:pt x="284" y="226"/>
                </a:lnTo>
                <a:lnTo>
                  <a:pt x="282" y="236"/>
                </a:lnTo>
                <a:lnTo>
                  <a:pt x="280" y="245"/>
                </a:lnTo>
                <a:lnTo>
                  <a:pt x="278" y="257"/>
                </a:lnTo>
                <a:lnTo>
                  <a:pt x="274" y="270"/>
                </a:lnTo>
                <a:lnTo>
                  <a:pt x="272" y="284"/>
                </a:lnTo>
                <a:lnTo>
                  <a:pt x="270" y="297"/>
                </a:lnTo>
                <a:lnTo>
                  <a:pt x="269" y="313"/>
                </a:lnTo>
                <a:lnTo>
                  <a:pt x="267" y="330"/>
                </a:lnTo>
                <a:lnTo>
                  <a:pt x="263" y="345"/>
                </a:lnTo>
                <a:lnTo>
                  <a:pt x="261" y="364"/>
                </a:lnTo>
                <a:lnTo>
                  <a:pt x="259" y="384"/>
                </a:lnTo>
                <a:lnTo>
                  <a:pt x="257" y="395"/>
                </a:lnTo>
                <a:lnTo>
                  <a:pt x="257" y="407"/>
                </a:lnTo>
                <a:lnTo>
                  <a:pt x="255" y="422"/>
                </a:lnTo>
                <a:lnTo>
                  <a:pt x="255" y="439"/>
                </a:lnTo>
                <a:lnTo>
                  <a:pt x="255" y="457"/>
                </a:lnTo>
                <a:lnTo>
                  <a:pt x="253" y="478"/>
                </a:lnTo>
                <a:lnTo>
                  <a:pt x="253" y="499"/>
                </a:lnTo>
                <a:lnTo>
                  <a:pt x="251" y="522"/>
                </a:lnTo>
                <a:lnTo>
                  <a:pt x="251" y="547"/>
                </a:lnTo>
                <a:lnTo>
                  <a:pt x="251" y="574"/>
                </a:lnTo>
                <a:lnTo>
                  <a:pt x="251" y="602"/>
                </a:lnTo>
                <a:lnTo>
                  <a:pt x="249" y="631"/>
                </a:lnTo>
                <a:lnTo>
                  <a:pt x="249" y="664"/>
                </a:lnTo>
                <a:lnTo>
                  <a:pt x="249" y="697"/>
                </a:lnTo>
                <a:lnTo>
                  <a:pt x="249" y="733"/>
                </a:lnTo>
                <a:lnTo>
                  <a:pt x="249" y="769"/>
                </a:lnTo>
                <a:lnTo>
                  <a:pt x="247" y="808"/>
                </a:lnTo>
                <a:lnTo>
                  <a:pt x="247" y="848"/>
                </a:lnTo>
                <a:lnTo>
                  <a:pt x="247" y="890"/>
                </a:lnTo>
                <a:lnTo>
                  <a:pt x="247" y="935"/>
                </a:lnTo>
                <a:lnTo>
                  <a:pt x="247" y="979"/>
                </a:lnTo>
                <a:lnTo>
                  <a:pt x="247" y="1027"/>
                </a:lnTo>
                <a:lnTo>
                  <a:pt x="247" y="1077"/>
                </a:lnTo>
                <a:lnTo>
                  <a:pt x="247" y="1126"/>
                </a:lnTo>
                <a:lnTo>
                  <a:pt x="247" y="1180"/>
                </a:lnTo>
                <a:lnTo>
                  <a:pt x="247" y="1234"/>
                </a:lnTo>
                <a:lnTo>
                  <a:pt x="247" y="1290"/>
                </a:lnTo>
                <a:lnTo>
                  <a:pt x="247" y="1347"/>
                </a:lnTo>
                <a:lnTo>
                  <a:pt x="247" y="1407"/>
                </a:lnTo>
                <a:lnTo>
                  <a:pt x="247" y="1468"/>
                </a:lnTo>
                <a:lnTo>
                  <a:pt x="247" y="1531"/>
                </a:lnTo>
                <a:lnTo>
                  <a:pt x="247" y="1597"/>
                </a:lnTo>
                <a:lnTo>
                  <a:pt x="246" y="1662"/>
                </a:lnTo>
                <a:lnTo>
                  <a:pt x="246" y="1725"/>
                </a:lnTo>
                <a:lnTo>
                  <a:pt x="244" y="1787"/>
                </a:lnTo>
                <a:lnTo>
                  <a:pt x="242" y="1846"/>
                </a:lnTo>
                <a:lnTo>
                  <a:pt x="242" y="1904"/>
                </a:lnTo>
                <a:lnTo>
                  <a:pt x="240" y="1959"/>
                </a:lnTo>
                <a:lnTo>
                  <a:pt x="240" y="2015"/>
                </a:lnTo>
                <a:lnTo>
                  <a:pt x="238" y="2067"/>
                </a:lnTo>
                <a:lnTo>
                  <a:pt x="236" y="2117"/>
                </a:lnTo>
                <a:lnTo>
                  <a:pt x="236" y="2167"/>
                </a:lnTo>
                <a:lnTo>
                  <a:pt x="234" y="2213"/>
                </a:lnTo>
                <a:lnTo>
                  <a:pt x="234" y="2259"/>
                </a:lnTo>
                <a:lnTo>
                  <a:pt x="232" y="2301"/>
                </a:lnTo>
                <a:lnTo>
                  <a:pt x="230" y="2343"/>
                </a:lnTo>
                <a:lnTo>
                  <a:pt x="230" y="2382"/>
                </a:lnTo>
                <a:lnTo>
                  <a:pt x="228" y="2420"/>
                </a:lnTo>
                <a:lnTo>
                  <a:pt x="228" y="2457"/>
                </a:lnTo>
                <a:lnTo>
                  <a:pt x="226" y="2489"/>
                </a:lnTo>
                <a:lnTo>
                  <a:pt x="224" y="2522"/>
                </a:lnTo>
                <a:lnTo>
                  <a:pt x="224" y="2553"/>
                </a:lnTo>
                <a:lnTo>
                  <a:pt x="223" y="2581"/>
                </a:lnTo>
                <a:lnTo>
                  <a:pt x="223" y="2608"/>
                </a:lnTo>
                <a:lnTo>
                  <a:pt x="221" y="2633"/>
                </a:lnTo>
                <a:lnTo>
                  <a:pt x="219" y="2656"/>
                </a:lnTo>
                <a:lnTo>
                  <a:pt x="219" y="2677"/>
                </a:lnTo>
                <a:lnTo>
                  <a:pt x="217" y="2697"/>
                </a:lnTo>
                <a:lnTo>
                  <a:pt x="217" y="2714"/>
                </a:lnTo>
                <a:lnTo>
                  <a:pt x="215" y="2729"/>
                </a:lnTo>
                <a:lnTo>
                  <a:pt x="215" y="2743"/>
                </a:lnTo>
                <a:lnTo>
                  <a:pt x="213" y="2756"/>
                </a:lnTo>
                <a:lnTo>
                  <a:pt x="211" y="2766"/>
                </a:lnTo>
                <a:lnTo>
                  <a:pt x="211" y="2773"/>
                </a:lnTo>
                <a:lnTo>
                  <a:pt x="205" y="2785"/>
                </a:lnTo>
                <a:lnTo>
                  <a:pt x="201" y="2796"/>
                </a:lnTo>
                <a:lnTo>
                  <a:pt x="198" y="2806"/>
                </a:lnTo>
                <a:lnTo>
                  <a:pt x="192" y="2816"/>
                </a:lnTo>
                <a:lnTo>
                  <a:pt x="188" y="2825"/>
                </a:lnTo>
                <a:lnTo>
                  <a:pt x="184" y="2833"/>
                </a:lnTo>
                <a:lnTo>
                  <a:pt x="180" y="2840"/>
                </a:lnTo>
                <a:lnTo>
                  <a:pt x="176" y="2848"/>
                </a:lnTo>
                <a:lnTo>
                  <a:pt x="173" y="2854"/>
                </a:lnTo>
                <a:lnTo>
                  <a:pt x="169" y="2860"/>
                </a:lnTo>
                <a:lnTo>
                  <a:pt x="165" y="2865"/>
                </a:lnTo>
                <a:lnTo>
                  <a:pt x="161" y="2869"/>
                </a:lnTo>
                <a:lnTo>
                  <a:pt x="157" y="2871"/>
                </a:lnTo>
                <a:lnTo>
                  <a:pt x="155" y="2873"/>
                </a:lnTo>
                <a:lnTo>
                  <a:pt x="153" y="2875"/>
                </a:lnTo>
                <a:lnTo>
                  <a:pt x="150" y="2875"/>
                </a:lnTo>
                <a:lnTo>
                  <a:pt x="146" y="2875"/>
                </a:lnTo>
                <a:lnTo>
                  <a:pt x="140" y="2873"/>
                </a:lnTo>
                <a:lnTo>
                  <a:pt x="136" y="2869"/>
                </a:lnTo>
                <a:lnTo>
                  <a:pt x="132" y="2865"/>
                </a:lnTo>
                <a:lnTo>
                  <a:pt x="127" y="2862"/>
                </a:lnTo>
                <a:lnTo>
                  <a:pt x="123" y="2854"/>
                </a:lnTo>
                <a:lnTo>
                  <a:pt x="117" y="2846"/>
                </a:lnTo>
                <a:lnTo>
                  <a:pt x="113" y="2839"/>
                </a:lnTo>
                <a:lnTo>
                  <a:pt x="109" y="2829"/>
                </a:lnTo>
                <a:lnTo>
                  <a:pt x="104" y="2819"/>
                </a:lnTo>
                <a:lnTo>
                  <a:pt x="100" y="2808"/>
                </a:lnTo>
                <a:lnTo>
                  <a:pt x="96" y="2794"/>
                </a:lnTo>
                <a:lnTo>
                  <a:pt x="90" y="2781"/>
                </a:lnTo>
                <a:lnTo>
                  <a:pt x="86" y="2768"/>
                </a:lnTo>
                <a:lnTo>
                  <a:pt x="82" y="2752"/>
                </a:lnTo>
                <a:lnTo>
                  <a:pt x="77" y="2735"/>
                </a:lnTo>
                <a:lnTo>
                  <a:pt x="73" y="2718"/>
                </a:lnTo>
                <a:lnTo>
                  <a:pt x="69" y="2702"/>
                </a:lnTo>
                <a:lnTo>
                  <a:pt x="65" y="2687"/>
                </a:lnTo>
                <a:lnTo>
                  <a:pt x="61" y="2674"/>
                </a:lnTo>
                <a:lnTo>
                  <a:pt x="59" y="2660"/>
                </a:lnTo>
                <a:lnTo>
                  <a:pt x="56" y="2647"/>
                </a:lnTo>
                <a:lnTo>
                  <a:pt x="54" y="2635"/>
                </a:lnTo>
                <a:lnTo>
                  <a:pt x="52" y="2624"/>
                </a:lnTo>
                <a:lnTo>
                  <a:pt x="50" y="2612"/>
                </a:lnTo>
                <a:lnTo>
                  <a:pt x="50" y="2602"/>
                </a:lnTo>
                <a:lnTo>
                  <a:pt x="48" y="2595"/>
                </a:lnTo>
                <a:lnTo>
                  <a:pt x="48" y="2587"/>
                </a:lnTo>
                <a:lnTo>
                  <a:pt x="48" y="2581"/>
                </a:lnTo>
                <a:lnTo>
                  <a:pt x="50" y="2576"/>
                </a:lnTo>
                <a:lnTo>
                  <a:pt x="50" y="2572"/>
                </a:lnTo>
                <a:lnTo>
                  <a:pt x="54" y="2568"/>
                </a:lnTo>
                <a:lnTo>
                  <a:pt x="54" y="2566"/>
                </a:lnTo>
                <a:lnTo>
                  <a:pt x="54" y="2562"/>
                </a:lnTo>
                <a:lnTo>
                  <a:pt x="54" y="2556"/>
                </a:lnTo>
                <a:lnTo>
                  <a:pt x="56" y="2549"/>
                </a:lnTo>
                <a:lnTo>
                  <a:pt x="56" y="2541"/>
                </a:lnTo>
                <a:lnTo>
                  <a:pt x="57" y="2531"/>
                </a:lnTo>
                <a:lnTo>
                  <a:pt x="59" y="2520"/>
                </a:lnTo>
                <a:lnTo>
                  <a:pt x="61" y="2508"/>
                </a:lnTo>
                <a:lnTo>
                  <a:pt x="61" y="2493"/>
                </a:lnTo>
                <a:lnTo>
                  <a:pt x="63" y="2478"/>
                </a:lnTo>
                <a:lnTo>
                  <a:pt x="67" y="2460"/>
                </a:lnTo>
                <a:lnTo>
                  <a:pt x="69" y="2443"/>
                </a:lnTo>
                <a:lnTo>
                  <a:pt x="71" y="2422"/>
                </a:lnTo>
                <a:lnTo>
                  <a:pt x="73" y="2401"/>
                </a:lnTo>
                <a:lnTo>
                  <a:pt x="75" y="2376"/>
                </a:lnTo>
                <a:lnTo>
                  <a:pt x="77" y="2351"/>
                </a:lnTo>
                <a:lnTo>
                  <a:pt x="79" y="2324"/>
                </a:lnTo>
                <a:lnTo>
                  <a:pt x="82" y="2297"/>
                </a:lnTo>
                <a:lnTo>
                  <a:pt x="84" y="2269"/>
                </a:lnTo>
                <a:lnTo>
                  <a:pt x="86" y="2242"/>
                </a:lnTo>
                <a:lnTo>
                  <a:pt x="88" y="2211"/>
                </a:lnTo>
                <a:lnTo>
                  <a:pt x="90" y="2182"/>
                </a:lnTo>
                <a:lnTo>
                  <a:pt x="92" y="2151"/>
                </a:lnTo>
                <a:lnTo>
                  <a:pt x="96" y="2121"/>
                </a:lnTo>
                <a:lnTo>
                  <a:pt x="98" y="2090"/>
                </a:lnTo>
                <a:lnTo>
                  <a:pt x="100" y="2057"/>
                </a:lnTo>
                <a:lnTo>
                  <a:pt x="102" y="2025"/>
                </a:lnTo>
                <a:lnTo>
                  <a:pt x="105" y="1992"/>
                </a:lnTo>
                <a:lnTo>
                  <a:pt x="107" y="1958"/>
                </a:lnTo>
                <a:lnTo>
                  <a:pt x="109" y="1923"/>
                </a:lnTo>
                <a:lnTo>
                  <a:pt x="111" y="1888"/>
                </a:lnTo>
                <a:lnTo>
                  <a:pt x="113" y="1852"/>
                </a:lnTo>
                <a:lnTo>
                  <a:pt x="115" y="1816"/>
                </a:lnTo>
                <a:lnTo>
                  <a:pt x="119" y="1777"/>
                </a:lnTo>
                <a:lnTo>
                  <a:pt x="121" y="1737"/>
                </a:lnTo>
                <a:lnTo>
                  <a:pt x="123" y="1695"/>
                </a:lnTo>
                <a:lnTo>
                  <a:pt x="125" y="1650"/>
                </a:lnTo>
                <a:lnTo>
                  <a:pt x="127" y="1604"/>
                </a:lnTo>
                <a:lnTo>
                  <a:pt x="127" y="1579"/>
                </a:lnTo>
                <a:lnTo>
                  <a:pt x="127" y="1556"/>
                </a:lnTo>
                <a:lnTo>
                  <a:pt x="128" y="1531"/>
                </a:lnTo>
                <a:lnTo>
                  <a:pt x="128" y="1507"/>
                </a:lnTo>
                <a:lnTo>
                  <a:pt x="128" y="1480"/>
                </a:lnTo>
                <a:lnTo>
                  <a:pt x="130" y="1455"/>
                </a:lnTo>
                <a:lnTo>
                  <a:pt x="130" y="1428"/>
                </a:lnTo>
                <a:lnTo>
                  <a:pt x="130" y="1401"/>
                </a:lnTo>
                <a:lnTo>
                  <a:pt x="130" y="1372"/>
                </a:lnTo>
                <a:lnTo>
                  <a:pt x="130" y="1343"/>
                </a:lnTo>
                <a:lnTo>
                  <a:pt x="130" y="1315"/>
                </a:lnTo>
                <a:lnTo>
                  <a:pt x="130" y="1286"/>
                </a:lnTo>
                <a:lnTo>
                  <a:pt x="130" y="1257"/>
                </a:lnTo>
                <a:lnTo>
                  <a:pt x="130" y="1226"/>
                </a:lnTo>
                <a:lnTo>
                  <a:pt x="130" y="1196"/>
                </a:lnTo>
                <a:lnTo>
                  <a:pt x="128" y="1165"/>
                </a:lnTo>
                <a:lnTo>
                  <a:pt x="128" y="1132"/>
                </a:lnTo>
                <a:lnTo>
                  <a:pt x="128" y="1100"/>
                </a:lnTo>
                <a:lnTo>
                  <a:pt x="127" y="1067"/>
                </a:lnTo>
                <a:lnTo>
                  <a:pt x="127" y="1034"/>
                </a:lnTo>
                <a:lnTo>
                  <a:pt x="125" y="1002"/>
                </a:lnTo>
                <a:lnTo>
                  <a:pt x="123" y="971"/>
                </a:lnTo>
                <a:lnTo>
                  <a:pt x="123" y="940"/>
                </a:lnTo>
                <a:lnTo>
                  <a:pt x="121" y="910"/>
                </a:lnTo>
                <a:lnTo>
                  <a:pt x="121" y="881"/>
                </a:lnTo>
                <a:lnTo>
                  <a:pt x="119" y="852"/>
                </a:lnTo>
                <a:lnTo>
                  <a:pt x="117" y="823"/>
                </a:lnTo>
                <a:lnTo>
                  <a:pt x="117" y="794"/>
                </a:lnTo>
                <a:lnTo>
                  <a:pt x="115" y="768"/>
                </a:lnTo>
                <a:lnTo>
                  <a:pt x="115" y="741"/>
                </a:lnTo>
                <a:lnTo>
                  <a:pt x="113" y="716"/>
                </a:lnTo>
                <a:lnTo>
                  <a:pt x="111" y="691"/>
                </a:lnTo>
                <a:lnTo>
                  <a:pt x="111" y="666"/>
                </a:lnTo>
                <a:lnTo>
                  <a:pt x="109" y="641"/>
                </a:lnTo>
                <a:lnTo>
                  <a:pt x="109" y="618"/>
                </a:lnTo>
                <a:lnTo>
                  <a:pt x="107" y="595"/>
                </a:lnTo>
                <a:lnTo>
                  <a:pt x="105" y="574"/>
                </a:lnTo>
                <a:lnTo>
                  <a:pt x="105" y="551"/>
                </a:lnTo>
                <a:lnTo>
                  <a:pt x="104" y="531"/>
                </a:lnTo>
                <a:lnTo>
                  <a:pt x="104" y="510"/>
                </a:lnTo>
                <a:lnTo>
                  <a:pt x="102" y="491"/>
                </a:lnTo>
                <a:lnTo>
                  <a:pt x="100" y="472"/>
                </a:lnTo>
                <a:lnTo>
                  <a:pt x="100" y="453"/>
                </a:lnTo>
                <a:lnTo>
                  <a:pt x="98" y="435"/>
                </a:lnTo>
                <a:lnTo>
                  <a:pt x="98" y="418"/>
                </a:lnTo>
                <a:lnTo>
                  <a:pt x="96" y="403"/>
                </a:lnTo>
                <a:lnTo>
                  <a:pt x="94" y="387"/>
                </a:lnTo>
                <a:lnTo>
                  <a:pt x="94" y="372"/>
                </a:lnTo>
                <a:lnTo>
                  <a:pt x="92" y="357"/>
                </a:lnTo>
                <a:lnTo>
                  <a:pt x="92" y="343"/>
                </a:lnTo>
                <a:lnTo>
                  <a:pt x="90" y="330"/>
                </a:lnTo>
                <a:lnTo>
                  <a:pt x="90" y="318"/>
                </a:lnTo>
                <a:lnTo>
                  <a:pt x="86" y="297"/>
                </a:lnTo>
                <a:lnTo>
                  <a:pt x="84" y="278"/>
                </a:lnTo>
                <a:lnTo>
                  <a:pt x="82" y="259"/>
                </a:lnTo>
                <a:lnTo>
                  <a:pt x="80" y="240"/>
                </a:lnTo>
                <a:lnTo>
                  <a:pt x="77" y="222"/>
                </a:lnTo>
                <a:lnTo>
                  <a:pt x="75" y="207"/>
                </a:lnTo>
                <a:lnTo>
                  <a:pt x="73" y="192"/>
                </a:lnTo>
                <a:lnTo>
                  <a:pt x="69" y="176"/>
                </a:lnTo>
                <a:lnTo>
                  <a:pt x="67" y="163"/>
                </a:lnTo>
                <a:lnTo>
                  <a:pt x="63" y="151"/>
                </a:lnTo>
                <a:lnTo>
                  <a:pt x="59" y="140"/>
                </a:lnTo>
                <a:lnTo>
                  <a:pt x="57" y="130"/>
                </a:lnTo>
                <a:lnTo>
                  <a:pt x="54" y="121"/>
                </a:lnTo>
                <a:lnTo>
                  <a:pt x="50" y="113"/>
                </a:lnTo>
                <a:lnTo>
                  <a:pt x="46" y="107"/>
                </a:lnTo>
                <a:lnTo>
                  <a:pt x="40" y="101"/>
                </a:lnTo>
                <a:lnTo>
                  <a:pt x="34" y="100"/>
                </a:lnTo>
                <a:lnTo>
                  <a:pt x="29" y="96"/>
                </a:lnTo>
                <a:lnTo>
                  <a:pt x="23" y="92"/>
                </a:lnTo>
                <a:lnTo>
                  <a:pt x="17" y="90"/>
                </a:lnTo>
                <a:lnTo>
                  <a:pt x="13" y="86"/>
                </a:lnTo>
                <a:lnTo>
                  <a:pt x="9" y="82"/>
                </a:lnTo>
                <a:lnTo>
                  <a:pt x="8" y="78"/>
                </a:lnTo>
                <a:lnTo>
                  <a:pt x="4" y="75"/>
                </a:lnTo>
                <a:lnTo>
                  <a:pt x="2" y="69"/>
                </a:lnTo>
                <a:lnTo>
                  <a:pt x="2" y="65"/>
                </a:lnTo>
                <a:lnTo>
                  <a:pt x="0" y="61"/>
                </a:lnTo>
                <a:lnTo>
                  <a:pt x="0" y="55"/>
                </a:lnTo>
                <a:lnTo>
                  <a:pt x="0" y="52"/>
                </a:lnTo>
                <a:lnTo>
                  <a:pt x="2" y="48"/>
                </a:lnTo>
                <a:lnTo>
                  <a:pt x="2" y="42"/>
                </a:lnTo>
                <a:lnTo>
                  <a:pt x="4" y="38"/>
                </a:lnTo>
                <a:lnTo>
                  <a:pt x="6" y="29"/>
                </a:lnTo>
                <a:lnTo>
                  <a:pt x="8" y="21"/>
                </a:lnTo>
                <a:lnTo>
                  <a:pt x="9" y="13"/>
                </a:lnTo>
                <a:lnTo>
                  <a:pt x="15" y="9"/>
                </a:lnTo>
                <a:lnTo>
                  <a:pt x="21" y="4"/>
                </a:lnTo>
                <a:lnTo>
                  <a:pt x="25" y="2"/>
                </a:lnTo>
                <a:lnTo>
                  <a:pt x="31" y="2"/>
                </a:lnTo>
                <a:lnTo>
                  <a:pt x="34" y="0"/>
                </a:lnTo>
                <a:lnTo>
                  <a:pt x="40" y="0"/>
                </a:lnTo>
                <a:lnTo>
                  <a:pt x="46" y="0"/>
                </a:lnTo>
                <a:lnTo>
                  <a:pt x="54" y="0"/>
                </a:lnTo>
                <a:lnTo>
                  <a:pt x="67" y="0"/>
                </a:lnTo>
                <a:lnTo>
                  <a:pt x="82" y="2"/>
                </a:lnTo>
                <a:lnTo>
                  <a:pt x="100" y="6"/>
                </a:lnTo>
                <a:lnTo>
                  <a:pt x="117" y="9"/>
                </a:lnTo>
                <a:lnTo>
                  <a:pt x="127" y="13"/>
                </a:lnTo>
                <a:lnTo>
                  <a:pt x="136" y="17"/>
                </a:lnTo>
                <a:lnTo>
                  <a:pt x="146" y="21"/>
                </a:lnTo>
                <a:lnTo>
                  <a:pt x="155" y="27"/>
                </a:lnTo>
                <a:lnTo>
                  <a:pt x="165" y="30"/>
                </a:lnTo>
                <a:lnTo>
                  <a:pt x="176" y="36"/>
                </a:lnTo>
                <a:lnTo>
                  <a:pt x="188" y="44"/>
                </a:lnTo>
                <a:lnTo>
                  <a:pt x="199" y="5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Freeform 110"/>
          <p:cNvSpPr/>
          <p:nvPr/>
        </p:nvSpPr>
        <p:spPr>
          <a:xfrm>
            <a:off x="6850080" y="2987640"/>
            <a:ext cx="426960" cy="412920"/>
          </a:xfrm>
          <a:custGeom>
            <a:avLst/>
            <a:gdLst/>
            <a:ahLst/>
            <a:rect l="l" t="t" r="r" b="b"/>
            <a:pathLst>
              <a:path w="537" h="520">
                <a:moveTo>
                  <a:pt x="88" y="390"/>
                </a:moveTo>
                <a:lnTo>
                  <a:pt x="109" y="361"/>
                </a:lnTo>
                <a:lnTo>
                  <a:pt x="132" y="334"/>
                </a:lnTo>
                <a:lnTo>
                  <a:pt x="153" y="309"/>
                </a:lnTo>
                <a:lnTo>
                  <a:pt x="174" y="284"/>
                </a:lnTo>
                <a:lnTo>
                  <a:pt x="195" y="261"/>
                </a:lnTo>
                <a:lnTo>
                  <a:pt x="213" y="238"/>
                </a:lnTo>
                <a:lnTo>
                  <a:pt x="222" y="229"/>
                </a:lnTo>
                <a:lnTo>
                  <a:pt x="230" y="217"/>
                </a:lnTo>
                <a:lnTo>
                  <a:pt x="238" y="208"/>
                </a:lnTo>
                <a:lnTo>
                  <a:pt x="245" y="198"/>
                </a:lnTo>
                <a:lnTo>
                  <a:pt x="251" y="188"/>
                </a:lnTo>
                <a:lnTo>
                  <a:pt x="257" y="179"/>
                </a:lnTo>
                <a:lnTo>
                  <a:pt x="262" y="171"/>
                </a:lnTo>
                <a:lnTo>
                  <a:pt x="268" y="161"/>
                </a:lnTo>
                <a:lnTo>
                  <a:pt x="272" y="154"/>
                </a:lnTo>
                <a:lnTo>
                  <a:pt x="276" y="144"/>
                </a:lnTo>
                <a:lnTo>
                  <a:pt x="278" y="137"/>
                </a:lnTo>
                <a:lnTo>
                  <a:pt x="282" y="129"/>
                </a:lnTo>
                <a:lnTo>
                  <a:pt x="284" y="121"/>
                </a:lnTo>
                <a:lnTo>
                  <a:pt x="284" y="113"/>
                </a:lnTo>
                <a:lnTo>
                  <a:pt x="286" y="106"/>
                </a:lnTo>
                <a:lnTo>
                  <a:pt x="286" y="100"/>
                </a:lnTo>
                <a:lnTo>
                  <a:pt x="286" y="92"/>
                </a:lnTo>
                <a:lnTo>
                  <a:pt x="286" y="85"/>
                </a:lnTo>
                <a:lnTo>
                  <a:pt x="284" y="77"/>
                </a:lnTo>
                <a:lnTo>
                  <a:pt x="282" y="71"/>
                </a:lnTo>
                <a:lnTo>
                  <a:pt x="280" y="64"/>
                </a:lnTo>
                <a:lnTo>
                  <a:pt x="278" y="58"/>
                </a:lnTo>
                <a:lnTo>
                  <a:pt x="276" y="52"/>
                </a:lnTo>
                <a:lnTo>
                  <a:pt x="274" y="46"/>
                </a:lnTo>
                <a:lnTo>
                  <a:pt x="274" y="37"/>
                </a:lnTo>
                <a:lnTo>
                  <a:pt x="274" y="29"/>
                </a:lnTo>
                <a:lnTo>
                  <a:pt x="276" y="21"/>
                </a:lnTo>
                <a:lnTo>
                  <a:pt x="278" y="19"/>
                </a:lnTo>
                <a:lnTo>
                  <a:pt x="280" y="18"/>
                </a:lnTo>
                <a:lnTo>
                  <a:pt x="282" y="14"/>
                </a:lnTo>
                <a:lnTo>
                  <a:pt x="286" y="12"/>
                </a:lnTo>
                <a:lnTo>
                  <a:pt x="289" y="10"/>
                </a:lnTo>
                <a:lnTo>
                  <a:pt x="293" y="6"/>
                </a:lnTo>
                <a:lnTo>
                  <a:pt x="295" y="4"/>
                </a:lnTo>
                <a:lnTo>
                  <a:pt x="299" y="2"/>
                </a:lnTo>
                <a:lnTo>
                  <a:pt x="303" y="2"/>
                </a:lnTo>
                <a:lnTo>
                  <a:pt x="307" y="0"/>
                </a:lnTo>
                <a:lnTo>
                  <a:pt x="310" y="0"/>
                </a:lnTo>
                <a:lnTo>
                  <a:pt x="316" y="2"/>
                </a:lnTo>
                <a:lnTo>
                  <a:pt x="328" y="2"/>
                </a:lnTo>
                <a:lnTo>
                  <a:pt x="341" y="6"/>
                </a:lnTo>
                <a:lnTo>
                  <a:pt x="357" y="10"/>
                </a:lnTo>
                <a:lnTo>
                  <a:pt x="374" y="14"/>
                </a:lnTo>
                <a:lnTo>
                  <a:pt x="391" y="19"/>
                </a:lnTo>
                <a:lnTo>
                  <a:pt x="418" y="39"/>
                </a:lnTo>
                <a:lnTo>
                  <a:pt x="431" y="48"/>
                </a:lnTo>
                <a:lnTo>
                  <a:pt x="445" y="60"/>
                </a:lnTo>
                <a:lnTo>
                  <a:pt x="458" y="69"/>
                </a:lnTo>
                <a:lnTo>
                  <a:pt x="472" y="83"/>
                </a:lnTo>
                <a:lnTo>
                  <a:pt x="485" y="94"/>
                </a:lnTo>
                <a:lnTo>
                  <a:pt x="500" y="110"/>
                </a:lnTo>
                <a:lnTo>
                  <a:pt x="508" y="123"/>
                </a:lnTo>
                <a:lnTo>
                  <a:pt x="516" y="137"/>
                </a:lnTo>
                <a:lnTo>
                  <a:pt x="522" y="152"/>
                </a:lnTo>
                <a:lnTo>
                  <a:pt x="527" y="165"/>
                </a:lnTo>
                <a:lnTo>
                  <a:pt x="531" y="177"/>
                </a:lnTo>
                <a:lnTo>
                  <a:pt x="533" y="190"/>
                </a:lnTo>
                <a:lnTo>
                  <a:pt x="535" y="200"/>
                </a:lnTo>
                <a:lnTo>
                  <a:pt x="537" y="211"/>
                </a:lnTo>
                <a:lnTo>
                  <a:pt x="535" y="213"/>
                </a:lnTo>
                <a:lnTo>
                  <a:pt x="535" y="215"/>
                </a:lnTo>
                <a:lnTo>
                  <a:pt x="533" y="219"/>
                </a:lnTo>
                <a:lnTo>
                  <a:pt x="531" y="223"/>
                </a:lnTo>
                <a:lnTo>
                  <a:pt x="529" y="225"/>
                </a:lnTo>
                <a:lnTo>
                  <a:pt x="527" y="229"/>
                </a:lnTo>
                <a:lnTo>
                  <a:pt x="524" y="232"/>
                </a:lnTo>
                <a:lnTo>
                  <a:pt x="520" y="236"/>
                </a:lnTo>
                <a:lnTo>
                  <a:pt x="516" y="240"/>
                </a:lnTo>
                <a:lnTo>
                  <a:pt x="512" y="246"/>
                </a:lnTo>
                <a:lnTo>
                  <a:pt x="506" y="250"/>
                </a:lnTo>
                <a:lnTo>
                  <a:pt x="500" y="256"/>
                </a:lnTo>
                <a:lnTo>
                  <a:pt x="495" y="259"/>
                </a:lnTo>
                <a:lnTo>
                  <a:pt x="487" y="265"/>
                </a:lnTo>
                <a:lnTo>
                  <a:pt x="479" y="271"/>
                </a:lnTo>
                <a:lnTo>
                  <a:pt x="472" y="277"/>
                </a:lnTo>
                <a:lnTo>
                  <a:pt x="464" y="282"/>
                </a:lnTo>
                <a:lnTo>
                  <a:pt x="454" y="288"/>
                </a:lnTo>
                <a:lnTo>
                  <a:pt x="447" y="294"/>
                </a:lnTo>
                <a:lnTo>
                  <a:pt x="437" y="300"/>
                </a:lnTo>
                <a:lnTo>
                  <a:pt x="426" y="307"/>
                </a:lnTo>
                <a:lnTo>
                  <a:pt x="416" y="313"/>
                </a:lnTo>
                <a:lnTo>
                  <a:pt x="405" y="321"/>
                </a:lnTo>
                <a:lnTo>
                  <a:pt x="393" y="327"/>
                </a:lnTo>
                <a:lnTo>
                  <a:pt x="380" y="334"/>
                </a:lnTo>
                <a:lnTo>
                  <a:pt x="368" y="342"/>
                </a:lnTo>
                <a:lnTo>
                  <a:pt x="355" y="350"/>
                </a:lnTo>
                <a:lnTo>
                  <a:pt x="341" y="357"/>
                </a:lnTo>
                <a:lnTo>
                  <a:pt x="326" y="365"/>
                </a:lnTo>
                <a:lnTo>
                  <a:pt x="312" y="373"/>
                </a:lnTo>
                <a:lnTo>
                  <a:pt x="297" y="382"/>
                </a:lnTo>
                <a:lnTo>
                  <a:pt x="282" y="390"/>
                </a:lnTo>
                <a:lnTo>
                  <a:pt x="264" y="399"/>
                </a:lnTo>
                <a:lnTo>
                  <a:pt x="249" y="409"/>
                </a:lnTo>
                <a:lnTo>
                  <a:pt x="234" y="417"/>
                </a:lnTo>
                <a:lnTo>
                  <a:pt x="218" y="426"/>
                </a:lnTo>
                <a:lnTo>
                  <a:pt x="203" y="434"/>
                </a:lnTo>
                <a:lnTo>
                  <a:pt x="190" y="442"/>
                </a:lnTo>
                <a:lnTo>
                  <a:pt x="176" y="449"/>
                </a:lnTo>
                <a:lnTo>
                  <a:pt x="163" y="455"/>
                </a:lnTo>
                <a:lnTo>
                  <a:pt x="151" y="463"/>
                </a:lnTo>
                <a:lnTo>
                  <a:pt x="140" y="469"/>
                </a:lnTo>
                <a:lnTo>
                  <a:pt x="128" y="474"/>
                </a:lnTo>
                <a:lnTo>
                  <a:pt x="117" y="480"/>
                </a:lnTo>
                <a:lnTo>
                  <a:pt x="107" y="484"/>
                </a:lnTo>
                <a:lnTo>
                  <a:pt x="95" y="490"/>
                </a:lnTo>
                <a:lnTo>
                  <a:pt x="88" y="494"/>
                </a:lnTo>
                <a:lnTo>
                  <a:pt x="78" y="497"/>
                </a:lnTo>
                <a:lnTo>
                  <a:pt x="71" y="501"/>
                </a:lnTo>
                <a:lnTo>
                  <a:pt x="63" y="505"/>
                </a:lnTo>
                <a:lnTo>
                  <a:pt x="55" y="507"/>
                </a:lnTo>
                <a:lnTo>
                  <a:pt x="47" y="511"/>
                </a:lnTo>
                <a:lnTo>
                  <a:pt x="42" y="513"/>
                </a:lnTo>
                <a:lnTo>
                  <a:pt x="36" y="515"/>
                </a:lnTo>
                <a:lnTo>
                  <a:pt x="24" y="518"/>
                </a:lnTo>
                <a:lnTo>
                  <a:pt x="17" y="520"/>
                </a:lnTo>
                <a:lnTo>
                  <a:pt x="9" y="520"/>
                </a:lnTo>
                <a:lnTo>
                  <a:pt x="5" y="518"/>
                </a:lnTo>
                <a:lnTo>
                  <a:pt x="1" y="518"/>
                </a:lnTo>
                <a:lnTo>
                  <a:pt x="0" y="515"/>
                </a:lnTo>
                <a:lnTo>
                  <a:pt x="0" y="511"/>
                </a:lnTo>
                <a:lnTo>
                  <a:pt x="0" y="507"/>
                </a:lnTo>
                <a:lnTo>
                  <a:pt x="1" y="503"/>
                </a:lnTo>
                <a:lnTo>
                  <a:pt x="3" y="497"/>
                </a:lnTo>
                <a:lnTo>
                  <a:pt x="7" y="492"/>
                </a:lnTo>
                <a:lnTo>
                  <a:pt x="13" y="486"/>
                </a:lnTo>
                <a:lnTo>
                  <a:pt x="17" y="478"/>
                </a:lnTo>
                <a:lnTo>
                  <a:pt x="24" y="470"/>
                </a:lnTo>
                <a:lnTo>
                  <a:pt x="30" y="461"/>
                </a:lnTo>
                <a:lnTo>
                  <a:pt x="38" y="451"/>
                </a:lnTo>
                <a:lnTo>
                  <a:pt x="47" y="440"/>
                </a:lnTo>
                <a:lnTo>
                  <a:pt x="55" y="430"/>
                </a:lnTo>
                <a:lnTo>
                  <a:pt x="65" y="417"/>
                </a:lnTo>
                <a:lnTo>
                  <a:pt x="76" y="403"/>
                </a:lnTo>
                <a:lnTo>
                  <a:pt x="88" y="39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Freeform 111"/>
          <p:cNvSpPr/>
          <p:nvPr/>
        </p:nvSpPr>
        <p:spPr>
          <a:xfrm>
            <a:off x="6254640" y="3255840"/>
            <a:ext cx="273240" cy="246240"/>
          </a:xfrm>
          <a:custGeom>
            <a:avLst/>
            <a:gdLst/>
            <a:ahLst/>
            <a:rect l="l" t="t" r="r" b="b"/>
            <a:pathLst>
              <a:path w="344" h="309">
                <a:moveTo>
                  <a:pt x="134" y="180"/>
                </a:moveTo>
                <a:lnTo>
                  <a:pt x="119" y="163"/>
                </a:lnTo>
                <a:lnTo>
                  <a:pt x="104" y="148"/>
                </a:lnTo>
                <a:lnTo>
                  <a:pt x="90" y="132"/>
                </a:lnTo>
                <a:lnTo>
                  <a:pt x="77" y="117"/>
                </a:lnTo>
                <a:lnTo>
                  <a:pt x="65" y="104"/>
                </a:lnTo>
                <a:lnTo>
                  <a:pt x="56" y="90"/>
                </a:lnTo>
                <a:lnTo>
                  <a:pt x="44" y="77"/>
                </a:lnTo>
                <a:lnTo>
                  <a:pt x="36" y="65"/>
                </a:lnTo>
                <a:lnTo>
                  <a:pt x="27" y="56"/>
                </a:lnTo>
                <a:lnTo>
                  <a:pt x="21" y="44"/>
                </a:lnTo>
                <a:lnTo>
                  <a:pt x="15" y="35"/>
                </a:lnTo>
                <a:lnTo>
                  <a:pt x="10" y="27"/>
                </a:lnTo>
                <a:lnTo>
                  <a:pt x="6" y="19"/>
                </a:lnTo>
                <a:lnTo>
                  <a:pt x="2" y="12"/>
                </a:lnTo>
                <a:lnTo>
                  <a:pt x="2" y="6"/>
                </a:lnTo>
                <a:lnTo>
                  <a:pt x="0" y="0"/>
                </a:lnTo>
                <a:lnTo>
                  <a:pt x="25" y="0"/>
                </a:lnTo>
                <a:lnTo>
                  <a:pt x="48" y="2"/>
                </a:lnTo>
                <a:lnTo>
                  <a:pt x="71" y="4"/>
                </a:lnTo>
                <a:lnTo>
                  <a:pt x="92" y="6"/>
                </a:lnTo>
                <a:lnTo>
                  <a:pt x="111" y="8"/>
                </a:lnTo>
                <a:lnTo>
                  <a:pt x="132" y="10"/>
                </a:lnTo>
                <a:lnTo>
                  <a:pt x="150" y="13"/>
                </a:lnTo>
                <a:lnTo>
                  <a:pt x="167" y="17"/>
                </a:lnTo>
                <a:lnTo>
                  <a:pt x="184" y="23"/>
                </a:lnTo>
                <a:lnTo>
                  <a:pt x="200" y="27"/>
                </a:lnTo>
                <a:lnTo>
                  <a:pt x="215" y="33"/>
                </a:lnTo>
                <a:lnTo>
                  <a:pt x="230" y="38"/>
                </a:lnTo>
                <a:lnTo>
                  <a:pt x="244" y="44"/>
                </a:lnTo>
                <a:lnTo>
                  <a:pt x="255" y="50"/>
                </a:lnTo>
                <a:lnTo>
                  <a:pt x="269" y="58"/>
                </a:lnTo>
                <a:lnTo>
                  <a:pt x="280" y="65"/>
                </a:lnTo>
                <a:lnTo>
                  <a:pt x="288" y="71"/>
                </a:lnTo>
                <a:lnTo>
                  <a:pt x="298" y="79"/>
                </a:lnTo>
                <a:lnTo>
                  <a:pt x="303" y="88"/>
                </a:lnTo>
                <a:lnTo>
                  <a:pt x="311" y="96"/>
                </a:lnTo>
                <a:lnTo>
                  <a:pt x="317" y="104"/>
                </a:lnTo>
                <a:lnTo>
                  <a:pt x="322" y="113"/>
                </a:lnTo>
                <a:lnTo>
                  <a:pt x="328" y="123"/>
                </a:lnTo>
                <a:lnTo>
                  <a:pt x="332" y="132"/>
                </a:lnTo>
                <a:lnTo>
                  <a:pt x="336" y="142"/>
                </a:lnTo>
                <a:lnTo>
                  <a:pt x="340" y="152"/>
                </a:lnTo>
                <a:lnTo>
                  <a:pt x="342" y="161"/>
                </a:lnTo>
                <a:lnTo>
                  <a:pt x="344" y="173"/>
                </a:lnTo>
                <a:lnTo>
                  <a:pt x="344" y="184"/>
                </a:lnTo>
                <a:lnTo>
                  <a:pt x="344" y="194"/>
                </a:lnTo>
                <a:lnTo>
                  <a:pt x="342" y="205"/>
                </a:lnTo>
                <a:lnTo>
                  <a:pt x="340" y="219"/>
                </a:lnTo>
                <a:lnTo>
                  <a:pt x="338" y="230"/>
                </a:lnTo>
                <a:lnTo>
                  <a:pt x="336" y="240"/>
                </a:lnTo>
                <a:lnTo>
                  <a:pt x="332" y="250"/>
                </a:lnTo>
                <a:lnTo>
                  <a:pt x="330" y="259"/>
                </a:lnTo>
                <a:lnTo>
                  <a:pt x="326" y="267"/>
                </a:lnTo>
                <a:lnTo>
                  <a:pt x="322" y="275"/>
                </a:lnTo>
                <a:lnTo>
                  <a:pt x="319" y="280"/>
                </a:lnTo>
                <a:lnTo>
                  <a:pt x="317" y="286"/>
                </a:lnTo>
                <a:lnTo>
                  <a:pt x="313" y="292"/>
                </a:lnTo>
                <a:lnTo>
                  <a:pt x="309" y="296"/>
                </a:lnTo>
                <a:lnTo>
                  <a:pt x="305" y="299"/>
                </a:lnTo>
                <a:lnTo>
                  <a:pt x="303" y="303"/>
                </a:lnTo>
                <a:lnTo>
                  <a:pt x="299" y="305"/>
                </a:lnTo>
                <a:lnTo>
                  <a:pt x="298" y="307"/>
                </a:lnTo>
                <a:lnTo>
                  <a:pt x="294" y="307"/>
                </a:lnTo>
                <a:lnTo>
                  <a:pt x="292" y="307"/>
                </a:lnTo>
                <a:lnTo>
                  <a:pt x="290" y="309"/>
                </a:lnTo>
                <a:lnTo>
                  <a:pt x="284" y="309"/>
                </a:lnTo>
                <a:lnTo>
                  <a:pt x="280" y="309"/>
                </a:lnTo>
                <a:lnTo>
                  <a:pt x="274" y="305"/>
                </a:lnTo>
                <a:lnTo>
                  <a:pt x="267" y="301"/>
                </a:lnTo>
                <a:lnTo>
                  <a:pt x="259" y="296"/>
                </a:lnTo>
                <a:lnTo>
                  <a:pt x="250" y="290"/>
                </a:lnTo>
                <a:lnTo>
                  <a:pt x="240" y="282"/>
                </a:lnTo>
                <a:lnTo>
                  <a:pt x="228" y="273"/>
                </a:lnTo>
                <a:lnTo>
                  <a:pt x="217" y="263"/>
                </a:lnTo>
                <a:lnTo>
                  <a:pt x="205" y="251"/>
                </a:lnTo>
                <a:lnTo>
                  <a:pt x="192" y="240"/>
                </a:lnTo>
                <a:lnTo>
                  <a:pt x="179" y="227"/>
                </a:lnTo>
                <a:lnTo>
                  <a:pt x="165" y="211"/>
                </a:lnTo>
                <a:lnTo>
                  <a:pt x="150" y="196"/>
                </a:lnTo>
                <a:lnTo>
                  <a:pt x="134" y="18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Freeform 112"/>
          <p:cNvSpPr/>
          <p:nvPr/>
        </p:nvSpPr>
        <p:spPr>
          <a:xfrm>
            <a:off x="5532480" y="4371840"/>
            <a:ext cx="434880" cy="122400"/>
          </a:xfrm>
          <a:custGeom>
            <a:avLst/>
            <a:gdLst/>
            <a:ahLst/>
            <a:rect l="l" t="t" r="r" b="b"/>
            <a:pathLst>
              <a:path w="547" h="154">
                <a:moveTo>
                  <a:pt x="0" y="154"/>
                </a:moveTo>
                <a:lnTo>
                  <a:pt x="0" y="52"/>
                </a:lnTo>
                <a:lnTo>
                  <a:pt x="21" y="50"/>
                </a:lnTo>
                <a:lnTo>
                  <a:pt x="44" y="50"/>
                </a:lnTo>
                <a:lnTo>
                  <a:pt x="69" y="50"/>
                </a:lnTo>
                <a:lnTo>
                  <a:pt x="96" y="48"/>
                </a:lnTo>
                <a:lnTo>
                  <a:pt x="123" y="46"/>
                </a:lnTo>
                <a:lnTo>
                  <a:pt x="154" y="44"/>
                </a:lnTo>
                <a:lnTo>
                  <a:pt x="184" y="42"/>
                </a:lnTo>
                <a:lnTo>
                  <a:pt x="219" y="40"/>
                </a:lnTo>
                <a:lnTo>
                  <a:pt x="254" y="36"/>
                </a:lnTo>
                <a:lnTo>
                  <a:pt x="290" y="33"/>
                </a:lnTo>
                <a:lnTo>
                  <a:pt x="328" y="29"/>
                </a:lnTo>
                <a:lnTo>
                  <a:pt x="369" y="25"/>
                </a:lnTo>
                <a:lnTo>
                  <a:pt x="411" y="19"/>
                </a:lnTo>
                <a:lnTo>
                  <a:pt x="455" y="13"/>
                </a:lnTo>
                <a:lnTo>
                  <a:pt x="499" y="8"/>
                </a:lnTo>
                <a:lnTo>
                  <a:pt x="547" y="0"/>
                </a:lnTo>
                <a:lnTo>
                  <a:pt x="547" y="71"/>
                </a:lnTo>
                <a:lnTo>
                  <a:pt x="547" y="140"/>
                </a:lnTo>
                <a:lnTo>
                  <a:pt x="273" y="148"/>
                </a:lnTo>
                <a:lnTo>
                  <a:pt x="0" y="154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Freeform 113"/>
          <p:cNvSpPr/>
          <p:nvPr/>
        </p:nvSpPr>
        <p:spPr>
          <a:xfrm>
            <a:off x="5532480" y="3135240"/>
            <a:ext cx="596880" cy="1612800"/>
          </a:xfrm>
          <a:custGeom>
            <a:avLst/>
            <a:gdLst/>
            <a:ahLst/>
            <a:rect l="l" t="t" r="r" b="b"/>
            <a:pathLst>
              <a:path w="753" h="2031">
                <a:moveTo>
                  <a:pt x="461" y="37"/>
                </a:moveTo>
                <a:lnTo>
                  <a:pt x="467" y="29"/>
                </a:lnTo>
                <a:lnTo>
                  <a:pt x="472" y="22"/>
                </a:lnTo>
                <a:lnTo>
                  <a:pt x="478" y="14"/>
                </a:lnTo>
                <a:lnTo>
                  <a:pt x="486" y="8"/>
                </a:lnTo>
                <a:lnTo>
                  <a:pt x="492" y="4"/>
                </a:lnTo>
                <a:lnTo>
                  <a:pt x="499" y="2"/>
                </a:lnTo>
                <a:lnTo>
                  <a:pt x="505" y="0"/>
                </a:lnTo>
                <a:lnTo>
                  <a:pt x="511" y="0"/>
                </a:lnTo>
                <a:lnTo>
                  <a:pt x="513" y="0"/>
                </a:lnTo>
                <a:lnTo>
                  <a:pt x="517" y="0"/>
                </a:lnTo>
                <a:lnTo>
                  <a:pt x="520" y="2"/>
                </a:lnTo>
                <a:lnTo>
                  <a:pt x="526" y="4"/>
                </a:lnTo>
                <a:lnTo>
                  <a:pt x="532" y="6"/>
                </a:lnTo>
                <a:lnTo>
                  <a:pt x="538" y="10"/>
                </a:lnTo>
                <a:lnTo>
                  <a:pt x="545" y="14"/>
                </a:lnTo>
                <a:lnTo>
                  <a:pt x="553" y="18"/>
                </a:lnTo>
                <a:lnTo>
                  <a:pt x="563" y="22"/>
                </a:lnTo>
                <a:lnTo>
                  <a:pt x="572" y="25"/>
                </a:lnTo>
                <a:lnTo>
                  <a:pt x="582" y="31"/>
                </a:lnTo>
                <a:lnTo>
                  <a:pt x="593" y="37"/>
                </a:lnTo>
                <a:lnTo>
                  <a:pt x="605" y="43"/>
                </a:lnTo>
                <a:lnTo>
                  <a:pt x="616" y="50"/>
                </a:lnTo>
                <a:lnTo>
                  <a:pt x="630" y="56"/>
                </a:lnTo>
                <a:lnTo>
                  <a:pt x="643" y="64"/>
                </a:lnTo>
                <a:lnTo>
                  <a:pt x="657" y="71"/>
                </a:lnTo>
                <a:lnTo>
                  <a:pt x="668" y="77"/>
                </a:lnTo>
                <a:lnTo>
                  <a:pt x="680" y="85"/>
                </a:lnTo>
                <a:lnTo>
                  <a:pt x="691" y="93"/>
                </a:lnTo>
                <a:lnTo>
                  <a:pt x="701" y="98"/>
                </a:lnTo>
                <a:lnTo>
                  <a:pt x="710" y="106"/>
                </a:lnTo>
                <a:lnTo>
                  <a:pt x="718" y="112"/>
                </a:lnTo>
                <a:lnTo>
                  <a:pt x="726" y="118"/>
                </a:lnTo>
                <a:lnTo>
                  <a:pt x="732" y="123"/>
                </a:lnTo>
                <a:lnTo>
                  <a:pt x="737" y="129"/>
                </a:lnTo>
                <a:lnTo>
                  <a:pt x="741" y="135"/>
                </a:lnTo>
                <a:lnTo>
                  <a:pt x="745" y="139"/>
                </a:lnTo>
                <a:lnTo>
                  <a:pt x="749" y="142"/>
                </a:lnTo>
                <a:lnTo>
                  <a:pt x="751" y="146"/>
                </a:lnTo>
                <a:lnTo>
                  <a:pt x="753" y="150"/>
                </a:lnTo>
                <a:lnTo>
                  <a:pt x="753" y="152"/>
                </a:lnTo>
                <a:lnTo>
                  <a:pt x="753" y="162"/>
                </a:lnTo>
                <a:lnTo>
                  <a:pt x="751" y="171"/>
                </a:lnTo>
                <a:lnTo>
                  <a:pt x="749" y="183"/>
                </a:lnTo>
                <a:lnTo>
                  <a:pt x="745" y="192"/>
                </a:lnTo>
                <a:lnTo>
                  <a:pt x="741" y="204"/>
                </a:lnTo>
                <a:lnTo>
                  <a:pt x="737" y="215"/>
                </a:lnTo>
                <a:lnTo>
                  <a:pt x="733" y="229"/>
                </a:lnTo>
                <a:lnTo>
                  <a:pt x="728" y="242"/>
                </a:lnTo>
                <a:lnTo>
                  <a:pt x="726" y="250"/>
                </a:lnTo>
                <a:lnTo>
                  <a:pt x="724" y="260"/>
                </a:lnTo>
                <a:lnTo>
                  <a:pt x="722" y="271"/>
                </a:lnTo>
                <a:lnTo>
                  <a:pt x="720" y="284"/>
                </a:lnTo>
                <a:lnTo>
                  <a:pt x="716" y="300"/>
                </a:lnTo>
                <a:lnTo>
                  <a:pt x="714" y="317"/>
                </a:lnTo>
                <a:lnTo>
                  <a:pt x="712" y="334"/>
                </a:lnTo>
                <a:lnTo>
                  <a:pt x="710" y="354"/>
                </a:lnTo>
                <a:lnTo>
                  <a:pt x="708" y="375"/>
                </a:lnTo>
                <a:lnTo>
                  <a:pt x="705" y="398"/>
                </a:lnTo>
                <a:lnTo>
                  <a:pt x="703" y="421"/>
                </a:lnTo>
                <a:lnTo>
                  <a:pt x="701" y="448"/>
                </a:lnTo>
                <a:lnTo>
                  <a:pt x="699" y="475"/>
                </a:lnTo>
                <a:lnTo>
                  <a:pt x="697" y="501"/>
                </a:lnTo>
                <a:lnTo>
                  <a:pt x="695" y="532"/>
                </a:lnTo>
                <a:lnTo>
                  <a:pt x="693" y="563"/>
                </a:lnTo>
                <a:lnTo>
                  <a:pt x="689" y="595"/>
                </a:lnTo>
                <a:lnTo>
                  <a:pt x="687" y="630"/>
                </a:lnTo>
                <a:lnTo>
                  <a:pt x="685" y="666"/>
                </a:lnTo>
                <a:lnTo>
                  <a:pt x="684" y="703"/>
                </a:lnTo>
                <a:lnTo>
                  <a:pt x="682" y="741"/>
                </a:lnTo>
                <a:lnTo>
                  <a:pt x="680" y="780"/>
                </a:lnTo>
                <a:lnTo>
                  <a:pt x="678" y="818"/>
                </a:lnTo>
                <a:lnTo>
                  <a:pt x="676" y="858"/>
                </a:lnTo>
                <a:lnTo>
                  <a:pt x="674" y="899"/>
                </a:lnTo>
                <a:lnTo>
                  <a:pt x="672" y="939"/>
                </a:lnTo>
                <a:lnTo>
                  <a:pt x="670" y="981"/>
                </a:lnTo>
                <a:lnTo>
                  <a:pt x="670" y="1023"/>
                </a:lnTo>
                <a:lnTo>
                  <a:pt x="668" y="1068"/>
                </a:lnTo>
                <a:lnTo>
                  <a:pt x="668" y="1112"/>
                </a:lnTo>
                <a:lnTo>
                  <a:pt x="668" y="1156"/>
                </a:lnTo>
                <a:lnTo>
                  <a:pt x="668" y="1202"/>
                </a:lnTo>
                <a:lnTo>
                  <a:pt x="668" y="1248"/>
                </a:lnTo>
                <a:lnTo>
                  <a:pt x="668" y="1294"/>
                </a:lnTo>
                <a:lnTo>
                  <a:pt x="668" y="1340"/>
                </a:lnTo>
                <a:lnTo>
                  <a:pt x="668" y="1382"/>
                </a:lnTo>
                <a:lnTo>
                  <a:pt x="668" y="1425"/>
                </a:lnTo>
                <a:lnTo>
                  <a:pt x="666" y="1467"/>
                </a:lnTo>
                <a:lnTo>
                  <a:pt x="666" y="1507"/>
                </a:lnTo>
                <a:lnTo>
                  <a:pt x="666" y="1546"/>
                </a:lnTo>
                <a:lnTo>
                  <a:pt x="666" y="1582"/>
                </a:lnTo>
                <a:lnTo>
                  <a:pt x="664" y="1617"/>
                </a:lnTo>
                <a:lnTo>
                  <a:pt x="664" y="1651"/>
                </a:lnTo>
                <a:lnTo>
                  <a:pt x="662" y="1684"/>
                </a:lnTo>
                <a:lnTo>
                  <a:pt x="660" y="1716"/>
                </a:lnTo>
                <a:lnTo>
                  <a:pt x="660" y="1747"/>
                </a:lnTo>
                <a:lnTo>
                  <a:pt x="659" y="1774"/>
                </a:lnTo>
                <a:lnTo>
                  <a:pt x="657" y="1803"/>
                </a:lnTo>
                <a:lnTo>
                  <a:pt x="653" y="1830"/>
                </a:lnTo>
                <a:lnTo>
                  <a:pt x="651" y="1856"/>
                </a:lnTo>
                <a:lnTo>
                  <a:pt x="647" y="1880"/>
                </a:lnTo>
                <a:lnTo>
                  <a:pt x="645" y="1903"/>
                </a:lnTo>
                <a:lnTo>
                  <a:pt x="641" y="1924"/>
                </a:lnTo>
                <a:lnTo>
                  <a:pt x="637" y="1943"/>
                </a:lnTo>
                <a:lnTo>
                  <a:pt x="636" y="1958"/>
                </a:lnTo>
                <a:lnTo>
                  <a:pt x="632" y="1974"/>
                </a:lnTo>
                <a:lnTo>
                  <a:pt x="628" y="1987"/>
                </a:lnTo>
                <a:lnTo>
                  <a:pt x="624" y="1999"/>
                </a:lnTo>
                <a:lnTo>
                  <a:pt x="622" y="2010"/>
                </a:lnTo>
                <a:lnTo>
                  <a:pt x="618" y="2018"/>
                </a:lnTo>
                <a:lnTo>
                  <a:pt x="614" y="2023"/>
                </a:lnTo>
                <a:lnTo>
                  <a:pt x="613" y="2027"/>
                </a:lnTo>
                <a:lnTo>
                  <a:pt x="609" y="2031"/>
                </a:lnTo>
                <a:lnTo>
                  <a:pt x="607" y="2031"/>
                </a:lnTo>
                <a:lnTo>
                  <a:pt x="603" y="2031"/>
                </a:lnTo>
                <a:lnTo>
                  <a:pt x="597" y="2029"/>
                </a:lnTo>
                <a:lnTo>
                  <a:pt x="593" y="2027"/>
                </a:lnTo>
                <a:lnTo>
                  <a:pt x="588" y="2023"/>
                </a:lnTo>
                <a:lnTo>
                  <a:pt x="584" y="2020"/>
                </a:lnTo>
                <a:lnTo>
                  <a:pt x="578" y="2016"/>
                </a:lnTo>
                <a:lnTo>
                  <a:pt x="574" y="2008"/>
                </a:lnTo>
                <a:lnTo>
                  <a:pt x="568" y="2002"/>
                </a:lnTo>
                <a:lnTo>
                  <a:pt x="565" y="1993"/>
                </a:lnTo>
                <a:lnTo>
                  <a:pt x="559" y="1983"/>
                </a:lnTo>
                <a:lnTo>
                  <a:pt x="553" y="1974"/>
                </a:lnTo>
                <a:lnTo>
                  <a:pt x="547" y="1962"/>
                </a:lnTo>
                <a:lnTo>
                  <a:pt x="541" y="1949"/>
                </a:lnTo>
                <a:lnTo>
                  <a:pt x="536" y="1935"/>
                </a:lnTo>
                <a:lnTo>
                  <a:pt x="528" y="1920"/>
                </a:lnTo>
                <a:lnTo>
                  <a:pt x="522" y="1904"/>
                </a:lnTo>
                <a:lnTo>
                  <a:pt x="515" y="1889"/>
                </a:lnTo>
                <a:lnTo>
                  <a:pt x="509" y="1874"/>
                </a:lnTo>
                <a:lnTo>
                  <a:pt x="505" y="1858"/>
                </a:lnTo>
                <a:lnTo>
                  <a:pt x="499" y="1841"/>
                </a:lnTo>
                <a:lnTo>
                  <a:pt x="495" y="1824"/>
                </a:lnTo>
                <a:lnTo>
                  <a:pt x="492" y="1807"/>
                </a:lnTo>
                <a:lnTo>
                  <a:pt x="490" y="1787"/>
                </a:lnTo>
                <a:lnTo>
                  <a:pt x="488" y="1768"/>
                </a:lnTo>
                <a:lnTo>
                  <a:pt x="486" y="1747"/>
                </a:lnTo>
                <a:lnTo>
                  <a:pt x="486" y="1728"/>
                </a:lnTo>
                <a:lnTo>
                  <a:pt x="486" y="1705"/>
                </a:lnTo>
                <a:lnTo>
                  <a:pt x="486" y="1684"/>
                </a:lnTo>
                <a:lnTo>
                  <a:pt x="488" y="1659"/>
                </a:lnTo>
                <a:lnTo>
                  <a:pt x="490" y="1636"/>
                </a:lnTo>
                <a:lnTo>
                  <a:pt x="494" y="1611"/>
                </a:lnTo>
                <a:lnTo>
                  <a:pt x="497" y="1584"/>
                </a:lnTo>
                <a:lnTo>
                  <a:pt x="499" y="1571"/>
                </a:lnTo>
                <a:lnTo>
                  <a:pt x="499" y="1557"/>
                </a:lnTo>
                <a:lnTo>
                  <a:pt x="501" y="1542"/>
                </a:lnTo>
                <a:lnTo>
                  <a:pt x="503" y="1526"/>
                </a:lnTo>
                <a:lnTo>
                  <a:pt x="503" y="1511"/>
                </a:lnTo>
                <a:lnTo>
                  <a:pt x="505" y="1494"/>
                </a:lnTo>
                <a:lnTo>
                  <a:pt x="505" y="1476"/>
                </a:lnTo>
                <a:lnTo>
                  <a:pt x="507" y="1457"/>
                </a:lnTo>
                <a:lnTo>
                  <a:pt x="509" y="1438"/>
                </a:lnTo>
                <a:lnTo>
                  <a:pt x="509" y="1419"/>
                </a:lnTo>
                <a:lnTo>
                  <a:pt x="511" y="1398"/>
                </a:lnTo>
                <a:lnTo>
                  <a:pt x="511" y="1377"/>
                </a:lnTo>
                <a:lnTo>
                  <a:pt x="513" y="1356"/>
                </a:lnTo>
                <a:lnTo>
                  <a:pt x="515" y="1332"/>
                </a:lnTo>
                <a:lnTo>
                  <a:pt x="515" y="1309"/>
                </a:lnTo>
                <a:lnTo>
                  <a:pt x="517" y="1286"/>
                </a:lnTo>
                <a:lnTo>
                  <a:pt x="517" y="1261"/>
                </a:lnTo>
                <a:lnTo>
                  <a:pt x="518" y="1237"/>
                </a:lnTo>
                <a:lnTo>
                  <a:pt x="520" y="1210"/>
                </a:lnTo>
                <a:lnTo>
                  <a:pt x="520" y="1183"/>
                </a:lnTo>
                <a:lnTo>
                  <a:pt x="522" y="1156"/>
                </a:lnTo>
                <a:lnTo>
                  <a:pt x="522" y="1127"/>
                </a:lnTo>
                <a:lnTo>
                  <a:pt x="524" y="1098"/>
                </a:lnTo>
                <a:lnTo>
                  <a:pt x="526" y="1068"/>
                </a:lnTo>
                <a:lnTo>
                  <a:pt x="526" y="1039"/>
                </a:lnTo>
                <a:lnTo>
                  <a:pt x="528" y="1006"/>
                </a:lnTo>
                <a:lnTo>
                  <a:pt x="528" y="975"/>
                </a:lnTo>
                <a:lnTo>
                  <a:pt x="530" y="943"/>
                </a:lnTo>
                <a:lnTo>
                  <a:pt x="532" y="908"/>
                </a:lnTo>
                <a:lnTo>
                  <a:pt x="532" y="876"/>
                </a:lnTo>
                <a:lnTo>
                  <a:pt x="534" y="841"/>
                </a:lnTo>
                <a:lnTo>
                  <a:pt x="534" y="805"/>
                </a:lnTo>
                <a:lnTo>
                  <a:pt x="536" y="770"/>
                </a:lnTo>
                <a:lnTo>
                  <a:pt x="536" y="736"/>
                </a:lnTo>
                <a:lnTo>
                  <a:pt x="538" y="701"/>
                </a:lnTo>
                <a:lnTo>
                  <a:pt x="538" y="668"/>
                </a:lnTo>
                <a:lnTo>
                  <a:pt x="538" y="638"/>
                </a:lnTo>
                <a:lnTo>
                  <a:pt x="538" y="607"/>
                </a:lnTo>
                <a:lnTo>
                  <a:pt x="540" y="578"/>
                </a:lnTo>
                <a:lnTo>
                  <a:pt x="540" y="551"/>
                </a:lnTo>
                <a:lnTo>
                  <a:pt x="540" y="524"/>
                </a:lnTo>
                <a:lnTo>
                  <a:pt x="538" y="498"/>
                </a:lnTo>
                <a:lnTo>
                  <a:pt x="538" y="473"/>
                </a:lnTo>
                <a:lnTo>
                  <a:pt x="538" y="450"/>
                </a:lnTo>
                <a:lnTo>
                  <a:pt x="538" y="427"/>
                </a:lnTo>
                <a:lnTo>
                  <a:pt x="538" y="403"/>
                </a:lnTo>
                <a:lnTo>
                  <a:pt x="536" y="384"/>
                </a:lnTo>
                <a:lnTo>
                  <a:pt x="536" y="363"/>
                </a:lnTo>
                <a:lnTo>
                  <a:pt x="534" y="346"/>
                </a:lnTo>
                <a:lnTo>
                  <a:pt x="534" y="327"/>
                </a:lnTo>
                <a:lnTo>
                  <a:pt x="532" y="311"/>
                </a:lnTo>
                <a:lnTo>
                  <a:pt x="532" y="296"/>
                </a:lnTo>
                <a:lnTo>
                  <a:pt x="530" y="281"/>
                </a:lnTo>
                <a:lnTo>
                  <a:pt x="528" y="267"/>
                </a:lnTo>
                <a:lnTo>
                  <a:pt x="526" y="256"/>
                </a:lnTo>
                <a:lnTo>
                  <a:pt x="526" y="244"/>
                </a:lnTo>
                <a:lnTo>
                  <a:pt x="524" y="233"/>
                </a:lnTo>
                <a:lnTo>
                  <a:pt x="522" y="225"/>
                </a:lnTo>
                <a:lnTo>
                  <a:pt x="520" y="215"/>
                </a:lnTo>
                <a:lnTo>
                  <a:pt x="518" y="210"/>
                </a:lnTo>
                <a:lnTo>
                  <a:pt x="517" y="204"/>
                </a:lnTo>
                <a:lnTo>
                  <a:pt x="515" y="198"/>
                </a:lnTo>
                <a:lnTo>
                  <a:pt x="513" y="194"/>
                </a:lnTo>
                <a:lnTo>
                  <a:pt x="511" y="190"/>
                </a:lnTo>
                <a:lnTo>
                  <a:pt x="505" y="187"/>
                </a:lnTo>
                <a:lnTo>
                  <a:pt x="499" y="183"/>
                </a:lnTo>
                <a:lnTo>
                  <a:pt x="492" y="179"/>
                </a:lnTo>
                <a:lnTo>
                  <a:pt x="484" y="177"/>
                </a:lnTo>
                <a:lnTo>
                  <a:pt x="476" y="175"/>
                </a:lnTo>
                <a:lnTo>
                  <a:pt x="467" y="173"/>
                </a:lnTo>
                <a:lnTo>
                  <a:pt x="457" y="171"/>
                </a:lnTo>
                <a:lnTo>
                  <a:pt x="446" y="171"/>
                </a:lnTo>
                <a:lnTo>
                  <a:pt x="432" y="171"/>
                </a:lnTo>
                <a:lnTo>
                  <a:pt x="419" y="173"/>
                </a:lnTo>
                <a:lnTo>
                  <a:pt x="403" y="175"/>
                </a:lnTo>
                <a:lnTo>
                  <a:pt x="388" y="177"/>
                </a:lnTo>
                <a:lnTo>
                  <a:pt x="373" y="179"/>
                </a:lnTo>
                <a:lnTo>
                  <a:pt x="353" y="183"/>
                </a:lnTo>
                <a:lnTo>
                  <a:pt x="336" y="187"/>
                </a:lnTo>
                <a:lnTo>
                  <a:pt x="315" y="190"/>
                </a:lnTo>
                <a:lnTo>
                  <a:pt x="296" y="196"/>
                </a:lnTo>
                <a:lnTo>
                  <a:pt x="277" y="200"/>
                </a:lnTo>
                <a:lnTo>
                  <a:pt x="259" y="204"/>
                </a:lnTo>
                <a:lnTo>
                  <a:pt x="242" y="208"/>
                </a:lnTo>
                <a:lnTo>
                  <a:pt x="227" y="212"/>
                </a:lnTo>
                <a:lnTo>
                  <a:pt x="213" y="215"/>
                </a:lnTo>
                <a:lnTo>
                  <a:pt x="200" y="217"/>
                </a:lnTo>
                <a:lnTo>
                  <a:pt x="188" y="219"/>
                </a:lnTo>
                <a:lnTo>
                  <a:pt x="177" y="221"/>
                </a:lnTo>
                <a:lnTo>
                  <a:pt x="167" y="225"/>
                </a:lnTo>
                <a:lnTo>
                  <a:pt x="160" y="225"/>
                </a:lnTo>
                <a:lnTo>
                  <a:pt x="152" y="227"/>
                </a:lnTo>
                <a:lnTo>
                  <a:pt x="146" y="229"/>
                </a:lnTo>
                <a:lnTo>
                  <a:pt x="140" y="229"/>
                </a:lnTo>
                <a:lnTo>
                  <a:pt x="136" y="229"/>
                </a:lnTo>
                <a:lnTo>
                  <a:pt x="135" y="229"/>
                </a:lnTo>
                <a:lnTo>
                  <a:pt x="129" y="229"/>
                </a:lnTo>
                <a:lnTo>
                  <a:pt x="123" y="231"/>
                </a:lnTo>
                <a:lnTo>
                  <a:pt x="117" y="231"/>
                </a:lnTo>
                <a:lnTo>
                  <a:pt x="112" y="231"/>
                </a:lnTo>
                <a:lnTo>
                  <a:pt x="104" y="233"/>
                </a:lnTo>
                <a:lnTo>
                  <a:pt x="96" y="235"/>
                </a:lnTo>
                <a:lnTo>
                  <a:pt x="81" y="237"/>
                </a:lnTo>
                <a:lnTo>
                  <a:pt x="62" y="240"/>
                </a:lnTo>
                <a:lnTo>
                  <a:pt x="42" y="246"/>
                </a:lnTo>
                <a:lnTo>
                  <a:pt x="23" y="250"/>
                </a:lnTo>
                <a:lnTo>
                  <a:pt x="0" y="256"/>
                </a:lnTo>
                <a:lnTo>
                  <a:pt x="0" y="152"/>
                </a:lnTo>
                <a:lnTo>
                  <a:pt x="12" y="152"/>
                </a:lnTo>
                <a:lnTo>
                  <a:pt x="25" y="152"/>
                </a:lnTo>
                <a:lnTo>
                  <a:pt x="39" y="152"/>
                </a:lnTo>
                <a:lnTo>
                  <a:pt x="52" y="150"/>
                </a:lnTo>
                <a:lnTo>
                  <a:pt x="67" y="148"/>
                </a:lnTo>
                <a:lnTo>
                  <a:pt x="83" y="146"/>
                </a:lnTo>
                <a:lnTo>
                  <a:pt x="98" y="144"/>
                </a:lnTo>
                <a:lnTo>
                  <a:pt x="115" y="142"/>
                </a:lnTo>
                <a:lnTo>
                  <a:pt x="133" y="139"/>
                </a:lnTo>
                <a:lnTo>
                  <a:pt x="150" y="135"/>
                </a:lnTo>
                <a:lnTo>
                  <a:pt x="169" y="131"/>
                </a:lnTo>
                <a:lnTo>
                  <a:pt x="188" y="125"/>
                </a:lnTo>
                <a:lnTo>
                  <a:pt x="208" y="121"/>
                </a:lnTo>
                <a:lnTo>
                  <a:pt x="227" y="116"/>
                </a:lnTo>
                <a:lnTo>
                  <a:pt x="246" y="108"/>
                </a:lnTo>
                <a:lnTo>
                  <a:pt x="267" y="102"/>
                </a:lnTo>
                <a:lnTo>
                  <a:pt x="286" y="96"/>
                </a:lnTo>
                <a:lnTo>
                  <a:pt x="305" y="93"/>
                </a:lnTo>
                <a:lnTo>
                  <a:pt x="325" y="87"/>
                </a:lnTo>
                <a:lnTo>
                  <a:pt x="342" y="83"/>
                </a:lnTo>
                <a:lnTo>
                  <a:pt x="359" y="77"/>
                </a:lnTo>
                <a:lnTo>
                  <a:pt x="373" y="73"/>
                </a:lnTo>
                <a:lnTo>
                  <a:pt x="388" y="70"/>
                </a:lnTo>
                <a:lnTo>
                  <a:pt x="401" y="64"/>
                </a:lnTo>
                <a:lnTo>
                  <a:pt x="413" y="60"/>
                </a:lnTo>
                <a:lnTo>
                  <a:pt x="424" y="56"/>
                </a:lnTo>
                <a:lnTo>
                  <a:pt x="432" y="52"/>
                </a:lnTo>
                <a:lnTo>
                  <a:pt x="442" y="48"/>
                </a:lnTo>
                <a:lnTo>
                  <a:pt x="447" y="46"/>
                </a:lnTo>
                <a:lnTo>
                  <a:pt x="453" y="43"/>
                </a:lnTo>
                <a:lnTo>
                  <a:pt x="459" y="41"/>
                </a:lnTo>
                <a:lnTo>
                  <a:pt x="461" y="3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Freeform 114"/>
          <p:cNvSpPr/>
          <p:nvPr/>
        </p:nvSpPr>
        <p:spPr>
          <a:xfrm>
            <a:off x="5468760" y="3232080"/>
            <a:ext cx="141480" cy="1433520"/>
          </a:xfrm>
          <a:custGeom>
            <a:avLst/>
            <a:gdLst/>
            <a:ahLst/>
            <a:rect l="l" t="t" r="r" b="b"/>
            <a:pathLst>
              <a:path w="178" h="1807">
                <a:moveTo>
                  <a:pt x="19" y="223"/>
                </a:moveTo>
                <a:lnTo>
                  <a:pt x="15" y="200"/>
                </a:lnTo>
                <a:lnTo>
                  <a:pt x="11" y="179"/>
                </a:lnTo>
                <a:lnTo>
                  <a:pt x="9" y="158"/>
                </a:lnTo>
                <a:lnTo>
                  <a:pt x="5" y="137"/>
                </a:lnTo>
                <a:lnTo>
                  <a:pt x="3" y="119"/>
                </a:lnTo>
                <a:lnTo>
                  <a:pt x="2" y="102"/>
                </a:lnTo>
                <a:lnTo>
                  <a:pt x="2" y="87"/>
                </a:lnTo>
                <a:lnTo>
                  <a:pt x="0" y="71"/>
                </a:lnTo>
                <a:lnTo>
                  <a:pt x="0" y="58"/>
                </a:lnTo>
                <a:lnTo>
                  <a:pt x="0" y="46"/>
                </a:lnTo>
                <a:lnTo>
                  <a:pt x="0" y="37"/>
                </a:lnTo>
                <a:lnTo>
                  <a:pt x="2" y="27"/>
                </a:lnTo>
                <a:lnTo>
                  <a:pt x="2" y="20"/>
                </a:lnTo>
                <a:lnTo>
                  <a:pt x="3" y="14"/>
                </a:lnTo>
                <a:lnTo>
                  <a:pt x="5" y="10"/>
                </a:lnTo>
                <a:lnTo>
                  <a:pt x="7" y="6"/>
                </a:lnTo>
                <a:lnTo>
                  <a:pt x="9" y="4"/>
                </a:lnTo>
                <a:lnTo>
                  <a:pt x="13" y="2"/>
                </a:lnTo>
                <a:lnTo>
                  <a:pt x="19" y="2"/>
                </a:lnTo>
                <a:lnTo>
                  <a:pt x="23" y="0"/>
                </a:lnTo>
                <a:lnTo>
                  <a:pt x="30" y="0"/>
                </a:lnTo>
                <a:lnTo>
                  <a:pt x="38" y="2"/>
                </a:lnTo>
                <a:lnTo>
                  <a:pt x="46" y="2"/>
                </a:lnTo>
                <a:lnTo>
                  <a:pt x="55" y="4"/>
                </a:lnTo>
                <a:lnTo>
                  <a:pt x="67" y="6"/>
                </a:lnTo>
                <a:lnTo>
                  <a:pt x="78" y="8"/>
                </a:lnTo>
                <a:lnTo>
                  <a:pt x="92" y="12"/>
                </a:lnTo>
                <a:lnTo>
                  <a:pt x="107" y="16"/>
                </a:lnTo>
                <a:lnTo>
                  <a:pt x="122" y="18"/>
                </a:lnTo>
                <a:lnTo>
                  <a:pt x="140" y="23"/>
                </a:lnTo>
                <a:lnTo>
                  <a:pt x="157" y="27"/>
                </a:lnTo>
                <a:lnTo>
                  <a:pt x="178" y="31"/>
                </a:lnTo>
                <a:lnTo>
                  <a:pt x="178" y="129"/>
                </a:lnTo>
                <a:lnTo>
                  <a:pt x="176" y="225"/>
                </a:lnTo>
                <a:lnTo>
                  <a:pt x="176" y="317"/>
                </a:lnTo>
                <a:lnTo>
                  <a:pt x="176" y="407"/>
                </a:lnTo>
                <a:lnTo>
                  <a:pt x="176" y="494"/>
                </a:lnTo>
                <a:lnTo>
                  <a:pt x="176" y="576"/>
                </a:lnTo>
                <a:lnTo>
                  <a:pt x="176" y="659"/>
                </a:lnTo>
                <a:lnTo>
                  <a:pt x="174" y="735"/>
                </a:lnTo>
                <a:lnTo>
                  <a:pt x="174" y="810"/>
                </a:lnTo>
                <a:lnTo>
                  <a:pt x="174" y="883"/>
                </a:lnTo>
                <a:lnTo>
                  <a:pt x="172" y="952"/>
                </a:lnTo>
                <a:lnTo>
                  <a:pt x="172" y="1020"/>
                </a:lnTo>
                <a:lnTo>
                  <a:pt x="172" y="1083"/>
                </a:lnTo>
                <a:lnTo>
                  <a:pt x="170" y="1142"/>
                </a:lnTo>
                <a:lnTo>
                  <a:pt x="170" y="1200"/>
                </a:lnTo>
                <a:lnTo>
                  <a:pt x="169" y="1256"/>
                </a:lnTo>
                <a:lnTo>
                  <a:pt x="169" y="1307"/>
                </a:lnTo>
                <a:lnTo>
                  <a:pt x="169" y="1355"/>
                </a:lnTo>
                <a:lnTo>
                  <a:pt x="167" y="1402"/>
                </a:lnTo>
                <a:lnTo>
                  <a:pt x="167" y="1446"/>
                </a:lnTo>
                <a:lnTo>
                  <a:pt x="165" y="1486"/>
                </a:lnTo>
                <a:lnTo>
                  <a:pt x="163" y="1522"/>
                </a:lnTo>
                <a:lnTo>
                  <a:pt x="163" y="1557"/>
                </a:lnTo>
                <a:lnTo>
                  <a:pt x="161" y="1588"/>
                </a:lnTo>
                <a:lnTo>
                  <a:pt x="161" y="1616"/>
                </a:lnTo>
                <a:lnTo>
                  <a:pt x="159" y="1641"/>
                </a:lnTo>
                <a:lnTo>
                  <a:pt x="159" y="1664"/>
                </a:lnTo>
                <a:lnTo>
                  <a:pt x="157" y="1684"/>
                </a:lnTo>
                <a:lnTo>
                  <a:pt x="157" y="1701"/>
                </a:lnTo>
                <a:lnTo>
                  <a:pt x="155" y="1714"/>
                </a:lnTo>
                <a:lnTo>
                  <a:pt x="153" y="1724"/>
                </a:lnTo>
                <a:lnTo>
                  <a:pt x="153" y="1732"/>
                </a:lnTo>
                <a:lnTo>
                  <a:pt x="147" y="1743"/>
                </a:lnTo>
                <a:lnTo>
                  <a:pt x="144" y="1755"/>
                </a:lnTo>
                <a:lnTo>
                  <a:pt x="140" y="1764"/>
                </a:lnTo>
                <a:lnTo>
                  <a:pt x="134" y="1772"/>
                </a:lnTo>
                <a:lnTo>
                  <a:pt x="130" y="1780"/>
                </a:lnTo>
                <a:lnTo>
                  <a:pt x="126" y="1787"/>
                </a:lnTo>
                <a:lnTo>
                  <a:pt x="121" y="1793"/>
                </a:lnTo>
                <a:lnTo>
                  <a:pt x="117" y="1797"/>
                </a:lnTo>
                <a:lnTo>
                  <a:pt x="113" y="1801"/>
                </a:lnTo>
                <a:lnTo>
                  <a:pt x="107" y="1805"/>
                </a:lnTo>
                <a:lnTo>
                  <a:pt x="103" y="1805"/>
                </a:lnTo>
                <a:lnTo>
                  <a:pt x="97" y="1807"/>
                </a:lnTo>
                <a:lnTo>
                  <a:pt x="94" y="1805"/>
                </a:lnTo>
                <a:lnTo>
                  <a:pt x="90" y="1803"/>
                </a:lnTo>
                <a:lnTo>
                  <a:pt x="84" y="1801"/>
                </a:lnTo>
                <a:lnTo>
                  <a:pt x="80" y="1797"/>
                </a:lnTo>
                <a:lnTo>
                  <a:pt x="76" y="1793"/>
                </a:lnTo>
                <a:lnTo>
                  <a:pt x="73" y="1789"/>
                </a:lnTo>
                <a:lnTo>
                  <a:pt x="67" y="1785"/>
                </a:lnTo>
                <a:lnTo>
                  <a:pt x="65" y="1780"/>
                </a:lnTo>
                <a:lnTo>
                  <a:pt x="61" y="1774"/>
                </a:lnTo>
                <a:lnTo>
                  <a:pt x="57" y="1766"/>
                </a:lnTo>
                <a:lnTo>
                  <a:pt x="53" y="1759"/>
                </a:lnTo>
                <a:lnTo>
                  <a:pt x="51" y="1751"/>
                </a:lnTo>
                <a:lnTo>
                  <a:pt x="48" y="1743"/>
                </a:lnTo>
                <a:lnTo>
                  <a:pt x="46" y="1734"/>
                </a:lnTo>
                <a:lnTo>
                  <a:pt x="44" y="1724"/>
                </a:lnTo>
                <a:lnTo>
                  <a:pt x="40" y="1712"/>
                </a:lnTo>
                <a:lnTo>
                  <a:pt x="36" y="1691"/>
                </a:lnTo>
                <a:lnTo>
                  <a:pt x="32" y="1668"/>
                </a:lnTo>
                <a:lnTo>
                  <a:pt x="30" y="1663"/>
                </a:lnTo>
                <a:lnTo>
                  <a:pt x="30" y="1655"/>
                </a:lnTo>
                <a:lnTo>
                  <a:pt x="28" y="1647"/>
                </a:lnTo>
                <a:lnTo>
                  <a:pt x="28" y="1640"/>
                </a:lnTo>
                <a:lnTo>
                  <a:pt x="28" y="1632"/>
                </a:lnTo>
                <a:lnTo>
                  <a:pt x="26" y="1622"/>
                </a:lnTo>
                <a:lnTo>
                  <a:pt x="26" y="1613"/>
                </a:lnTo>
                <a:lnTo>
                  <a:pt x="26" y="1603"/>
                </a:lnTo>
                <a:lnTo>
                  <a:pt x="26" y="1593"/>
                </a:lnTo>
                <a:lnTo>
                  <a:pt x="26" y="1582"/>
                </a:lnTo>
                <a:lnTo>
                  <a:pt x="28" y="1559"/>
                </a:lnTo>
                <a:lnTo>
                  <a:pt x="28" y="1534"/>
                </a:lnTo>
                <a:lnTo>
                  <a:pt x="30" y="1509"/>
                </a:lnTo>
                <a:lnTo>
                  <a:pt x="32" y="1480"/>
                </a:lnTo>
                <a:lnTo>
                  <a:pt x="34" y="1450"/>
                </a:lnTo>
                <a:lnTo>
                  <a:pt x="38" y="1417"/>
                </a:lnTo>
                <a:lnTo>
                  <a:pt x="40" y="1384"/>
                </a:lnTo>
                <a:lnTo>
                  <a:pt x="44" y="1348"/>
                </a:lnTo>
                <a:lnTo>
                  <a:pt x="48" y="1311"/>
                </a:lnTo>
                <a:lnTo>
                  <a:pt x="51" y="1273"/>
                </a:lnTo>
                <a:lnTo>
                  <a:pt x="55" y="1233"/>
                </a:lnTo>
                <a:lnTo>
                  <a:pt x="57" y="1192"/>
                </a:lnTo>
                <a:lnTo>
                  <a:pt x="61" y="1154"/>
                </a:lnTo>
                <a:lnTo>
                  <a:pt x="63" y="1114"/>
                </a:lnTo>
                <a:lnTo>
                  <a:pt x="65" y="1075"/>
                </a:lnTo>
                <a:lnTo>
                  <a:pt x="67" y="1037"/>
                </a:lnTo>
                <a:lnTo>
                  <a:pt x="69" y="1000"/>
                </a:lnTo>
                <a:lnTo>
                  <a:pt x="71" y="962"/>
                </a:lnTo>
                <a:lnTo>
                  <a:pt x="73" y="927"/>
                </a:lnTo>
                <a:lnTo>
                  <a:pt x="74" y="891"/>
                </a:lnTo>
                <a:lnTo>
                  <a:pt x="76" y="856"/>
                </a:lnTo>
                <a:lnTo>
                  <a:pt x="76" y="822"/>
                </a:lnTo>
                <a:lnTo>
                  <a:pt x="78" y="787"/>
                </a:lnTo>
                <a:lnTo>
                  <a:pt x="78" y="755"/>
                </a:lnTo>
                <a:lnTo>
                  <a:pt x="80" y="722"/>
                </a:lnTo>
                <a:lnTo>
                  <a:pt x="80" y="689"/>
                </a:lnTo>
                <a:lnTo>
                  <a:pt x="80" y="659"/>
                </a:lnTo>
                <a:lnTo>
                  <a:pt x="76" y="597"/>
                </a:lnTo>
                <a:lnTo>
                  <a:pt x="71" y="536"/>
                </a:lnTo>
                <a:lnTo>
                  <a:pt x="69" y="507"/>
                </a:lnTo>
                <a:lnTo>
                  <a:pt x="65" y="478"/>
                </a:lnTo>
                <a:lnTo>
                  <a:pt x="63" y="449"/>
                </a:lnTo>
                <a:lnTo>
                  <a:pt x="59" y="421"/>
                </a:lnTo>
                <a:lnTo>
                  <a:pt x="55" y="394"/>
                </a:lnTo>
                <a:lnTo>
                  <a:pt x="51" y="367"/>
                </a:lnTo>
                <a:lnTo>
                  <a:pt x="48" y="342"/>
                </a:lnTo>
                <a:lnTo>
                  <a:pt x="42" y="317"/>
                </a:lnTo>
                <a:lnTo>
                  <a:pt x="38" y="292"/>
                </a:lnTo>
                <a:lnTo>
                  <a:pt x="32" y="269"/>
                </a:lnTo>
                <a:lnTo>
                  <a:pt x="26" y="246"/>
                </a:lnTo>
                <a:lnTo>
                  <a:pt x="19" y="22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Freeform 115"/>
          <p:cNvSpPr/>
          <p:nvPr/>
        </p:nvSpPr>
        <p:spPr>
          <a:xfrm>
            <a:off x="5560920" y="3987720"/>
            <a:ext cx="308160" cy="111240"/>
          </a:xfrm>
          <a:custGeom>
            <a:avLst/>
            <a:gdLst/>
            <a:ahLst/>
            <a:rect l="l" t="t" r="r" b="b"/>
            <a:pathLst>
              <a:path w="387" h="140">
                <a:moveTo>
                  <a:pt x="109" y="25"/>
                </a:moveTo>
                <a:lnTo>
                  <a:pt x="136" y="16"/>
                </a:lnTo>
                <a:lnTo>
                  <a:pt x="149" y="12"/>
                </a:lnTo>
                <a:lnTo>
                  <a:pt x="165" y="8"/>
                </a:lnTo>
                <a:lnTo>
                  <a:pt x="180" y="4"/>
                </a:lnTo>
                <a:lnTo>
                  <a:pt x="195" y="2"/>
                </a:lnTo>
                <a:lnTo>
                  <a:pt x="213" y="0"/>
                </a:lnTo>
                <a:lnTo>
                  <a:pt x="230" y="0"/>
                </a:lnTo>
                <a:lnTo>
                  <a:pt x="257" y="0"/>
                </a:lnTo>
                <a:lnTo>
                  <a:pt x="270" y="0"/>
                </a:lnTo>
                <a:lnTo>
                  <a:pt x="286" y="2"/>
                </a:lnTo>
                <a:lnTo>
                  <a:pt x="299" y="2"/>
                </a:lnTo>
                <a:lnTo>
                  <a:pt x="313" y="6"/>
                </a:lnTo>
                <a:lnTo>
                  <a:pt x="326" y="8"/>
                </a:lnTo>
                <a:lnTo>
                  <a:pt x="339" y="14"/>
                </a:lnTo>
                <a:lnTo>
                  <a:pt x="345" y="16"/>
                </a:lnTo>
                <a:lnTo>
                  <a:pt x="351" y="18"/>
                </a:lnTo>
                <a:lnTo>
                  <a:pt x="357" y="20"/>
                </a:lnTo>
                <a:lnTo>
                  <a:pt x="362" y="23"/>
                </a:lnTo>
                <a:lnTo>
                  <a:pt x="366" y="25"/>
                </a:lnTo>
                <a:lnTo>
                  <a:pt x="370" y="27"/>
                </a:lnTo>
                <a:lnTo>
                  <a:pt x="378" y="33"/>
                </a:lnTo>
                <a:lnTo>
                  <a:pt x="382" y="37"/>
                </a:lnTo>
                <a:lnTo>
                  <a:pt x="385" y="41"/>
                </a:lnTo>
                <a:lnTo>
                  <a:pt x="387" y="46"/>
                </a:lnTo>
                <a:lnTo>
                  <a:pt x="387" y="52"/>
                </a:lnTo>
                <a:lnTo>
                  <a:pt x="387" y="54"/>
                </a:lnTo>
                <a:lnTo>
                  <a:pt x="387" y="56"/>
                </a:lnTo>
                <a:lnTo>
                  <a:pt x="385" y="58"/>
                </a:lnTo>
                <a:lnTo>
                  <a:pt x="384" y="62"/>
                </a:lnTo>
                <a:lnTo>
                  <a:pt x="382" y="64"/>
                </a:lnTo>
                <a:lnTo>
                  <a:pt x="378" y="66"/>
                </a:lnTo>
                <a:lnTo>
                  <a:pt x="374" y="69"/>
                </a:lnTo>
                <a:lnTo>
                  <a:pt x="370" y="71"/>
                </a:lnTo>
                <a:lnTo>
                  <a:pt x="364" y="75"/>
                </a:lnTo>
                <a:lnTo>
                  <a:pt x="359" y="77"/>
                </a:lnTo>
                <a:lnTo>
                  <a:pt x="353" y="81"/>
                </a:lnTo>
                <a:lnTo>
                  <a:pt x="347" y="85"/>
                </a:lnTo>
                <a:lnTo>
                  <a:pt x="339" y="89"/>
                </a:lnTo>
                <a:lnTo>
                  <a:pt x="332" y="93"/>
                </a:lnTo>
                <a:lnTo>
                  <a:pt x="324" y="98"/>
                </a:lnTo>
                <a:lnTo>
                  <a:pt x="314" y="102"/>
                </a:lnTo>
                <a:lnTo>
                  <a:pt x="303" y="108"/>
                </a:lnTo>
                <a:lnTo>
                  <a:pt x="291" y="112"/>
                </a:lnTo>
                <a:lnTo>
                  <a:pt x="276" y="116"/>
                </a:lnTo>
                <a:lnTo>
                  <a:pt x="263" y="119"/>
                </a:lnTo>
                <a:lnTo>
                  <a:pt x="247" y="123"/>
                </a:lnTo>
                <a:lnTo>
                  <a:pt x="230" y="125"/>
                </a:lnTo>
                <a:lnTo>
                  <a:pt x="213" y="129"/>
                </a:lnTo>
                <a:lnTo>
                  <a:pt x="194" y="131"/>
                </a:lnTo>
                <a:lnTo>
                  <a:pt x="174" y="133"/>
                </a:lnTo>
                <a:lnTo>
                  <a:pt x="153" y="135"/>
                </a:lnTo>
                <a:lnTo>
                  <a:pt x="130" y="137"/>
                </a:lnTo>
                <a:lnTo>
                  <a:pt x="107" y="139"/>
                </a:lnTo>
                <a:lnTo>
                  <a:pt x="82" y="139"/>
                </a:lnTo>
                <a:lnTo>
                  <a:pt x="55" y="140"/>
                </a:lnTo>
                <a:lnTo>
                  <a:pt x="28" y="140"/>
                </a:lnTo>
                <a:lnTo>
                  <a:pt x="0" y="140"/>
                </a:lnTo>
                <a:lnTo>
                  <a:pt x="0" y="39"/>
                </a:lnTo>
                <a:lnTo>
                  <a:pt x="27" y="39"/>
                </a:lnTo>
                <a:lnTo>
                  <a:pt x="40" y="37"/>
                </a:lnTo>
                <a:lnTo>
                  <a:pt x="53" y="37"/>
                </a:lnTo>
                <a:lnTo>
                  <a:pt x="67" y="35"/>
                </a:lnTo>
                <a:lnTo>
                  <a:pt x="82" y="33"/>
                </a:lnTo>
                <a:lnTo>
                  <a:pt x="96" y="29"/>
                </a:lnTo>
                <a:lnTo>
                  <a:pt x="109" y="25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Freeform 116"/>
          <p:cNvSpPr/>
          <p:nvPr/>
        </p:nvSpPr>
        <p:spPr>
          <a:xfrm>
            <a:off x="5560920" y="3632040"/>
            <a:ext cx="295200" cy="111240"/>
          </a:xfrm>
          <a:custGeom>
            <a:avLst/>
            <a:gdLst/>
            <a:ahLst/>
            <a:rect l="l" t="t" r="r" b="b"/>
            <a:pathLst>
              <a:path w="370" h="140">
                <a:moveTo>
                  <a:pt x="146" y="25"/>
                </a:moveTo>
                <a:lnTo>
                  <a:pt x="172" y="16"/>
                </a:lnTo>
                <a:lnTo>
                  <a:pt x="186" y="12"/>
                </a:lnTo>
                <a:lnTo>
                  <a:pt x="201" y="8"/>
                </a:lnTo>
                <a:lnTo>
                  <a:pt x="217" y="4"/>
                </a:lnTo>
                <a:lnTo>
                  <a:pt x="232" y="2"/>
                </a:lnTo>
                <a:lnTo>
                  <a:pt x="249" y="0"/>
                </a:lnTo>
                <a:lnTo>
                  <a:pt x="266" y="0"/>
                </a:lnTo>
                <a:lnTo>
                  <a:pt x="280" y="0"/>
                </a:lnTo>
                <a:lnTo>
                  <a:pt x="293" y="2"/>
                </a:lnTo>
                <a:lnTo>
                  <a:pt x="307" y="4"/>
                </a:lnTo>
                <a:lnTo>
                  <a:pt x="320" y="8"/>
                </a:lnTo>
                <a:lnTo>
                  <a:pt x="332" y="12"/>
                </a:lnTo>
                <a:lnTo>
                  <a:pt x="343" y="16"/>
                </a:lnTo>
                <a:lnTo>
                  <a:pt x="355" y="21"/>
                </a:lnTo>
                <a:lnTo>
                  <a:pt x="364" y="25"/>
                </a:lnTo>
                <a:lnTo>
                  <a:pt x="368" y="35"/>
                </a:lnTo>
                <a:lnTo>
                  <a:pt x="370" y="44"/>
                </a:lnTo>
                <a:lnTo>
                  <a:pt x="370" y="50"/>
                </a:lnTo>
                <a:lnTo>
                  <a:pt x="370" y="54"/>
                </a:lnTo>
                <a:lnTo>
                  <a:pt x="370" y="60"/>
                </a:lnTo>
                <a:lnTo>
                  <a:pt x="370" y="63"/>
                </a:lnTo>
                <a:lnTo>
                  <a:pt x="368" y="69"/>
                </a:lnTo>
                <a:lnTo>
                  <a:pt x="366" y="73"/>
                </a:lnTo>
                <a:lnTo>
                  <a:pt x="362" y="77"/>
                </a:lnTo>
                <a:lnTo>
                  <a:pt x="361" y="83"/>
                </a:lnTo>
                <a:lnTo>
                  <a:pt x="357" y="87"/>
                </a:lnTo>
                <a:lnTo>
                  <a:pt x="351" y="92"/>
                </a:lnTo>
                <a:lnTo>
                  <a:pt x="345" y="96"/>
                </a:lnTo>
                <a:lnTo>
                  <a:pt x="339" y="102"/>
                </a:lnTo>
                <a:lnTo>
                  <a:pt x="332" y="106"/>
                </a:lnTo>
                <a:lnTo>
                  <a:pt x="322" y="111"/>
                </a:lnTo>
                <a:lnTo>
                  <a:pt x="311" y="115"/>
                </a:lnTo>
                <a:lnTo>
                  <a:pt x="299" y="119"/>
                </a:lnTo>
                <a:lnTo>
                  <a:pt x="284" y="123"/>
                </a:lnTo>
                <a:lnTo>
                  <a:pt x="266" y="125"/>
                </a:lnTo>
                <a:lnTo>
                  <a:pt x="249" y="129"/>
                </a:lnTo>
                <a:lnTo>
                  <a:pt x="228" y="131"/>
                </a:lnTo>
                <a:lnTo>
                  <a:pt x="207" y="133"/>
                </a:lnTo>
                <a:lnTo>
                  <a:pt x="182" y="135"/>
                </a:lnTo>
                <a:lnTo>
                  <a:pt x="157" y="136"/>
                </a:lnTo>
                <a:lnTo>
                  <a:pt x="144" y="136"/>
                </a:lnTo>
                <a:lnTo>
                  <a:pt x="130" y="138"/>
                </a:lnTo>
                <a:lnTo>
                  <a:pt x="115" y="138"/>
                </a:lnTo>
                <a:lnTo>
                  <a:pt x="99" y="138"/>
                </a:lnTo>
                <a:lnTo>
                  <a:pt x="84" y="140"/>
                </a:lnTo>
                <a:lnTo>
                  <a:pt x="69" y="140"/>
                </a:lnTo>
                <a:lnTo>
                  <a:pt x="52" y="140"/>
                </a:lnTo>
                <a:lnTo>
                  <a:pt x="34" y="140"/>
                </a:lnTo>
                <a:lnTo>
                  <a:pt x="17" y="140"/>
                </a:lnTo>
                <a:lnTo>
                  <a:pt x="0" y="140"/>
                </a:lnTo>
                <a:lnTo>
                  <a:pt x="0" y="39"/>
                </a:lnTo>
                <a:lnTo>
                  <a:pt x="21" y="39"/>
                </a:lnTo>
                <a:lnTo>
                  <a:pt x="42" y="39"/>
                </a:lnTo>
                <a:lnTo>
                  <a:pt x="63" y="37"/>
                </a:lnTo>
                <a:lnTo>
                  <a:pt x="82" y="37"/>
                </a:lnTo>
                <a:lnTo>
                  <a:pt x="99" y="35"/>
                </a:lnTo>
                <a:lnTo>
                  <a:pt x="115" y="33"/>
                </a:lnTo>
                <a:lnTo>
                  <a:pt x="130" y="29"/>
                </a:lnTo>
                <a:lnTo>
                  <a:pt x="146" y="25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矩形 4"/>
          <p:cNvSpPr/>
          <p:nvPr/>
        </p:nvSpPr>
        <p:spPr>
          <a:xfrm>
            <a:off x="2218680" y="2548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踹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5114880" y="238284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46" name="组合 8"/>
          <p:cNvGrpSpPr/>
          <p:nvPr/>
        </p:nvGrpSpPr>
        <p:grpSpPr>
          <a:xfrm>
            <a:off x="1400040" y="3975120"/>
            <a:ext cx="2840040" cy="1621080"/>
            <a:chOff x="1400040" y="3975120"/>
            <a:chExt cx="2840040" cy="1621080"/>
          </a:xfrm>
        </p:grpSpPr>
        <p:pic>
          <p:nvPicPr>
            <p:cNvPr id="147" name="图示 4" descr=""/>
            <p:cNvPicPr/>
            <p:nvPr/>
          </p:nvPicPr>
          <p:blipFill>
            <a:blip r:embed="rId1"/>
            <a:stretch/>
          </p:blipFill>
          <p:spPr>
            <a:xfrm>
              <a:off x="1400040" y="3975120"/>
              <a:ext cx="284004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矩形 2"/>
            <p:cNvSpPr/>
            <p:nvPr/>
          </p:nvSpPr>
          <p:spPr>
            <a:xfrm>
              <a:off x="1444680" y="4587840"/>
              <a:ext cx="2766600" cy="1008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左窄右宽，“山”不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要大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9" name="矩形 3"/>
          <p:cNvSpPr/>
          <p:nvPr/>
        </p:nvSpPr>
        <p:spPr>
          <a:xfrm>
            <a:off x="1825560" y="1868400"/>
            <a:ext cx="1689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chuài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Freeform 181"/>
          <p:cNvSpPr/>
          <p:nvPr/>
        </p:nvSpPr>
        <p:spPr>
          <a:xfrm>
            <a:off x="6845400" y="2771640"/>
            <a:ext cx="209520" cy="731880"/>
          </a:xfrm>
          <a:custGeom>
            <a:avLst/>
            <a:gdLst/>
            <a:ahLst/>
            <a:rect l="l" t="t" r="r" b="b"/>
            <a:pathLst>
              <a:path w="263" h="923">
                <a:moveTo>
                  <a:pt x="207" y="485"/>
                </a:moveTo>
                <a:lnTo>
                  <a:pt x="205" y="518"/>
                </a:lnTo>
                <a:lnTo>
                  <a:pt x="204" y="548"/>
                </a:lnTo>
                <a:lnTo>
                  <a:pt x="202" y="577"/>
                </a:lnTo>
                <a:lnTo>
                  <a:pt x="202" y="608"/>
                </a:lnTo>
                <a:lnTo>
                  <a:pt x="200" y="637"/>
                </a:lnTo>
                <a:lnTo>
                  <a:pt x="198" y="664"/>
                </a:lnTo>
                <a:lnTo>
                  <a:pt x="198" y="691"/>
                </a:lnTo>
                <a:lnTo>
                  <a:pt x="198" y="717"/>
                </a:lnTo>
                <a:lnTo>
                  <a:pt x="196" y="742"/>
                </a:lnTo>
                <a:lnTo>
                  <a:pt x="196" y="769"/>
                </a:lnTo>
                <a:lnTo>
                  <a:pt x="196" y="792"/>
                </a:lnTo>
                <a:lnTo>
                  <a:pt x="196" y="817"/>
                </a:lnTo>
                <a:lnTo>
                  <a:pt x="196" y="863"/>
                </a:lnTo>
                <a:lnTo>
                  <a:pt x="196" y="909"/>
                </a:lnTo>
                <a:lnTo>
                  <a:pt x="133" y="917"/>
                </a:lnTo>
                <a:lnTo>
                  <a:pt x="67" y="923"/>
                </a:lnTo>
                <a:lnTo>
                  <a:pt x="67" y="875"/>
                </a:lnTo>
                <a:lnTo>
                  <a:pt x="67" y="827"/>
                </a:lnTo>
                <a:lnTo>
                  <a:pt x="67" y="781"/>
                </a:lnTo>
                <a:lnTo>
                  <a:pt x="67" y="737"/>
                </a:lnTo>
                <a:lnTo>
                  <a:pt x="67" y="692"/>
                </a:lnTo>
                <a:lnTo>
                  <a:pt x="67" y="650"/>
                </a:lnTo>
                <a:lnTo>
                  <a:pt x="65" y="612"/>
                </a:lnTo>
                <a:lnTo>
                  <a:pt x="65" y="572"/>
                </a:lnTo>
                <a:lnTo>
                  <a:pt x="65" y="535"/>
                </a:lnTo>
                <a:lnTo>
                  <a:pt x="63" y="500"/>
                </a:lnTo>
                <a:lnTo>
                  <a:pt x="63" y="466"/>
                </a:lnTo>
                <a:lnTo>
                  <a:pt x="62" y="433"/>
                </a:lnTo>
                <a:lnTo>
                  <a:pt x="62" y="401"/>
                </a:lnTo>
                <a:lnTo>
                  <a:pt x="60" y="372"/>
                </a:lnTo>
                <a:lnTo>
                  <a:pt x="60" y="343"/>
                </a:lnTo>
                <a:lnTo>
                  <a:pt x="58" y="316"/>
                </a:lnTo>
                <a:lnTo>
                  <a:pt x="58" y="291"/>
                </a:lnTo>
                <a:lnTo>
                  <a:pt x="56" y="268"/>
                </a:lnTo>
                <a:lnTo>
                  <a:pt x="54" y="245"/>
                </a:lnTo>
                <a:lnTo>
                  <a:pt x="52" y="224"/>
                </a:lnTo>
                <a:lnTo>
                  <a:pt x="52" y="205"/>
                </a:lnTo>
                <a:lnTo>
                  <a:pt x="50" y="186"/>
                </a:lnTo>
                <a:lnTo>
                  <a:pt x="48" y="170"/>
                </a:lnTo>
                <a:lnTo>
                  <a:pt x="46" y="155"/>
                </a:lnTo>
                <a:lnTo>
                  <a:pt x="44" y="142"/>
                </a:lnTo>
                <a:lnTo>
                  <a:pt x="42" y="130"/>
                </a:lnTo>
                <a:lnTo>
                  <a:pt x="40" y="119"/>
                </a:lnTo>
                <a:lnTo>
                  <a:pt x="38" y="109"/>
                </a:lnTo>
                <a:lnTo>
                  <a:pt x="37" y="101"/>
                </a:lnTo>
                <a:lnTo>
                  <a:pt x="35" y="95"/>
                </a:lnTo>
                <a:lnTo>
                  <a:pt x="33" y="92"/>
                </a:lnTo>
                <a:lnTo>
                  <a:pt x="31" y="88"/>
                </a:lnTo>
                <a:lnTo>
                  <a:pt x="21" y="82"/>
                </a:lnTo>
                <a:lnTo>
                  <a:pt x="14" y="76"/>
                </a:lnTo>
                <a:lnTo>
                  <a:pt x="8" y="69"/>
                </a:lnTo>
                <a:lnTo>
                  <a:pt x="2" y="59"/>
                </a:lnTo>
                <a:lnTo>
                  <a:pt x="0" y="51"/>
                </a:lnTo>
                <a:lnTo>
                  <a:pt x="0" y="46"/>
                </a:lnTo>
                <a:lnTo>
                  <a:pt x="0" y="42"/>
                </a:lnTo>
                <a:lnTo>
                  <a:pt x="0" y="36"/>
                </a:lnTo>
                <a:lnTo>
                  <a:pt x="0" y="32"/>
                </a:lnTo>
                <a:lnTo>
                  <a:pt x="2" y="26"/>
                </a:lnTo>
                <a:lnTo>
                  <a:pt x="4" y="23"/>
                </a:lnTo>
                <a:lnTo>
                  <a:pt x="8" y="17"/>
                </a:lnTo>
                <a:lnTo>
                  <a:pt x="10" y="13"/>
                </a:lnTo>
                <a:lnTo>
                  <a:pt x="14" y="9"/>
                </a:lnTo>
                <a:lnTo>
                  <a:pt x="19" y="7"/>
                </a:lnTo>
                <a:lnTo>
                  <a:pt x="23" y="3"/>
                </a:lnTo>
                <a:lnTo>
                  <a:pt x="29" y="1"/>
                </a:lnTo>
                <a:lnTo>
                  <a:pt x="37" y="1"/>
                </a:lnTo>
                <a:lnTo>
                  <a:pt x="42" y="0"/>
                </a:lnTo>
                <a:lnTo>
                  <a:pt x="50" y="0"/>
                </a:lnTo>
                <a:lnTo>
                  <a:pt x="58" y="0"/>
                </a:lnTo>
                <a:lnTo>
                  <a:pt x="67" y="0"/>
                </a:lnTo>
                <a:lnTo>
                  <a:pt x="75" y="1"/>
                </a:lnTo>
                <a:lnTo>
                  <a:pt x="86" y="1"/>
                </a:lnTo>
                <a:lnTo>
                  <a:pt x="96" y="3"/>
                </a:lnTo>
                <a:lnTo>
                  <a:pt x="108" y="5"/>
                </a:lnTo>
                <a:lnTo>
                  <a:pt x="119" y="9"/>
                </a:lnTo>
                <a:lnTo>
                  <a:pt x="142" y="13"/>
                </a:lnTo>
                <a:lnTo>
                  <a:pt x="163" y="21"/>
                </a:lnTo>
                <a:lnTo>
                  <a:pt x="175" y="24"/>
                </a:lnTo>
                <a:lnTo>
                  <a:pt x="184" y="28"/>
                </a:lnTo>
                <a:lnTo>
                  <a:pt x="194" y="32"/>
                </a:lnTo>
                <a:lnTo>
                  <a:pt x="202" y="36"/>
                </a:lnTo>
                <a:lnTo>
                  <a:pt x="209" y="42"/>
                </a:lnTo>
                <a:lnTo>
                  <a:pt x="217" y="46"/>
                </a:lnTo>
                <a:lnTo>
                  <a:pt x="225" y="49"/>
                </a:lnTo>
                <a:lnTo>
                  <a:pt x="230" y="55"/>
                </a:lnTo>
                <a:lnTo>
                  <a:pt x="236" y="59"/>
                </a:lnTo>
                <a:lnTo>
                  <a:pt x="240" y="65"/>
                </a:lnTo>
                <a:lnTo>
                  <a:pt x="244" y="69"/>
                </a:lnTo>
                <a:lnTo>
                  <a:pt x="246" y="74"/>
                </a:lnTo>
                <a:lnTo>
                  <a:pt x="252" y="90"/>
                </a:lnTo>
                <a:lnTo>
                  <a:pt x="255" y="101"/>
                </a:lnTo>
                <a:lnTo>
                  <a:pt x="259" y="115"/>
                </a:lnTo>
                <a:lnTo>
                  <a:pt x="261" y="128"/>
                </a:lnTo>
                <a:lnTo>
                  <a:pt x="263" y="140"/>
                </a:lnTo>
                <a:lnTo>
                  <a:pt x="263" y="153"/>
                </a:lnTo>
                <a:lnTo>
                  <a:pt x="263" y="159"/>
                </a:lnTo>
                <a:lnTo>
                  <a:pt x="263" y="167"/>
                </a:lnTo>
                <a:lnTo>
                  <a:pt x="261" y="172"/>
                </a:lnTo>
                <a:lnTo>
                  <a:pt x="259" y="180"/>
                </a:lnTo>
                <a:lnTo>
                  <a:pt x="255" y="188"/>
                </a:lnTo>
                <a:lnTo>
                  <a:pt x="253" y="197"/>
                </a:lnTo>
                <a:lnTo>
                  <a:pt x="250" y="209"/>
                </a:lnTo>
                <a:lnTo>
                  <a:pt x="248" y="220"/>
                </a:lnTo>
                <a:lnTo>
                  <a:pt x="244" y="234"/>
                </a:lnTo>
                <a:lnTo>
                  <a:pt x="240" y="249"/>
                </a:lnTo>
                <a:lnTo>
                  <a:pt x="236" y="264"/>
                </a:lnTo>
                <a:lnTo>
                  <a:pt x="234" y="284"/>
                </a:lnTo>
                <a:lnTo>
                  <a:pt x="230" y="303"/>
                </a:lnTo>
                <a:lnTo>
                  <a:pt x="227" y="324"/>
                </a:lnTo>
                <a:lnTo>
                  <a:pt x="223" y="347"/>
                </a:lnTo>
                <a:lnTo>
                  <a:pt x="219" y="370"/>
                </a:lnTo>
                <a:lnTo>
                  <a:pt x="217" y="397"/>
                </a:lnTo>
                <a:lnTo>
                  <a:pt x="213" y="424"/>
                </a:lnTo>
                <a:lnTo>
                  <a:pt x="211" y="454"/>
                </a:lnTo>
                <a:lnTo>
                  <a:pt x="207" y="485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Freeform 182"/>
          <p:cNvSpPr/>
          <p:nvPr/>
        </p:nvSpPr>
        <p:spPr>
          <a:xfrm>
            <a:off x="7259760" y="3036960"/>
            <a:ext cx="295200" cy="539640"/>
          </a:xfrm>
          <a:custGeom>
            <a:avLst/>
            <a:gdLst/>
            <a:ahLst/>
            <a:rect l="l" t="t" r="r" b="b"/>
            <a:pathLst>
              <a:path w="373" h="681">
                <a:moveTo>
                  <a:pt x="158" y="5"/>
                </a:moveTo>
                <a:lnTo>
                  <a:pt x="163" y="3"/>
                </a:lnTo>
                <a:lnTo>
                  <a:pt x="171" y="1"/>
                </a:lnTo>
                <a:lnTo>
                  <a:pt x="179" y="1"/>
                </a:lnTo>
                <a:lnTo>
                  <a:pt x="186" y="0"/>
                </a:lnTo>
                <a:lnTo>
                  <a:pt x="194" y="1"/>
                </a:lnTo>
                <a:lnTo>
                  <a:pt x="200" y="1"/>
                </a:lnTo>
                <a:lnTo>
                  <a:pt x="207" y="3"/>
                </a:lnTo>
                <a:lnTo>
                  <a:pt x="215" y="5"/>
                </a:lnTo>
                <a:lnTo>
                  <a:pt x="223" y="7"/>
                </a:lnTo>
                <a:lnTo>
                  <a:pt x="232" y="11"/>
                </a:lnTo>
                <a:lnTo>
                  <a:pt x="240" y="15"/>
                </a:lnTo>
                <a:lnTo>
                  <a:pt x="248" y="21"/>
                </a:lnTo>
                <a:lnTo>
                  <a:pt x="257" y="24"/>
                </a:lnTo>
                <a:lnTo>
                  <a:pt x="265" y="32"/>
                </a:lnTo>
                <a:lnTo>
                  <a:pt x="275" y="38"/>
                </a:lnTo>
                <a:lnTo>
                  <a:pt x="284" y="46"/>
                </a:lnTo>
                <a:lnTo>
                  <a:pt x="294" y="53"/>
                </a:lnTo>
                <a:lnTo>
                  <a:pt x="302" y="61"/>
                </a:lnTo>
                <a:lnTo>
                  <a:pt x="309" y="67"/>
                </a:lnTo>
                <a:lnTo>
                  <a:pt x="317" y="74"/>
                </a:lnTo>
                <a:lnTo>
                  <a:pt x="325" y="82"/>
                </a:lnTo>
                <a:lnTo>
                  <a:pt x="330" y="90"/>
                </a:lnTo>
                <a:lnTo>
                  <a:pt x="344" y="103"/>
                </a:lnTo>
                <a:lnTo>
                  <a:pt x="353" y="117"/>
                </a:lnTo>
                <a:lnTo>
                  <a:pt x="361" y="130"/>
                </a:lnTo>
                <a:lnTo>
                  <a:pt x="367" y="142"/>
                </a:lnTo>
                <a:lnTo>
                  <a:pt x="373" y="151"/>
                </a:lnTo>
                <a:lnTo>
                  <a:pt x="373" y="157"/>
                </a:lnTo>
                <a:lnTo>
                  <a:pt x="371" y="165"/>
                </a:lnTo>
                <a:lnTo>
                  <a:pt x="367" y="172"/>
                </a:lnTo>
                <a:lnTo>
                  <a:pt x="363" y="184"/>
                </a:lnTo>
                <a:lnTo>
                  <a:pt x="357" y="195"/>
                </a:lnTo>
                <a:lnTo>
                  <a:pt x="351" y="209"/>
                </a:lnTo>
                <a:lnTo>
                  <a:pt x="344" y="224"/>
                </a:lnTo>
                <a:lnTo>
                  <a:pt x="334" y="241"/>
                </a:lnTo>
                <a:lnTo>
                  <a:pt x="325" y="259"/>
                </a:lnTo>
                <a:lnTo>
                  <a:pt x="313" y="278"/>
                </a:lnTo>
                <a:lnTo>
                  <a:pt x="300" y="299"/>
                </a:lnTo>
                <a:lnTo>
                  <a:pt x="286" y="322"/>
                </a:lnTo>
                <a:lnTo>
                  <a:pt x="273" y="347"/>
                </a:lnTo>
                <a:lnTo>
                  <a:pt x="255" y="372"/>
                </a:lnTo>
                <a:lnTo>
                  <a:pt x="238" y="401"/>
                </a:lnTo>
                <a:lnTo>
                  <a:pt x="221" y="429"/>
                </a:lnTo>
                <a:lnTo>
                  <a:pt x="211" y="445"/>
                </a:lnTo>
                <a:lnTo>
                  <a:pt x="202" y="460"/>
                </a:lnTo>
                <a:lnTo>
                  <a:pt x="194" y="476"/>
                </a:lnTo>
                <a:lnTo>
                  <a:pt x="184" y="491"/>
                </a:lnTo>
                <a:lnTo>
                  <a:pt x="177" y="504"/>
                </a:lnTo>
                <a:lnTo>
                  <a:pt x="167" y="518"/>
                </a:lnTo>
                <a:lnTo>
                  <a:pt x="159" y="529"/>
                </a:lnTo>
                <a:lnTo>
                  <a:pt x="152" y="543"/>
                </a:lnTo>
                <a:lnTo>
                  <a:pt x="144" y="554"/>
                </a:lnTo>
                <a:lnTo>
                  <a:pt x="136" y="564"/>
                </a:lnTo>
                <a:lnTo>
                  <a:pt x="129" y="575"/>
                </a:lnTo>
                <a:lnTo>
                  <a:pt x="121" y="585"/>
                </a:lnTo>
                <a:lnTo>
                  <a:pt x="115" y="595"/>
                </a:lnTo>
                <a:lnTo>
                  <a:pt x="108" y="604"/>
                </a:lnTo>
                <a:lnTo>
                  <a:pt x="102" y="612"/>
                </a:lnTo>
                <a:lnTo>
                  <a:pt x="96" y="619"/>
                </a:lnTo>
                <a:lnTo>
                  <a:pt x="88" y="627"/>
                </a:lnTo>
                <a:lnTo>
                  <a:pt x="83" y="635"/>
                </a:lnTo>
                <a:lnTo>
                  <a:pt x="77" y="641"/>
                </a:lnTo>
                <a:lnTo>
                  <a:pt x="71" y="648"/>
                </a:lnTo>
                <a:lnTo>
                  <a:pt x="65" y="652"/>
                </a:lnTo>
                <a:lnTo>
                  <a:pt x="62" y="658"/>
                </a:lnTo>
                <a:lnTo>
                  <a:pt x="56" y="662"/>
                </a:lnTo>
                <a:lnTo>
                  <a:pt x="50" y="666"/>
                </a:lnTo>
                <a:lnTo>
                  <a:pt x="46" y="669"/>
                </a:lnTo>
                <a:lnTo>
                  <a:pt x="40" y="673"/>
                </a:lnTo>
                <a:lnTo>
                  <a:pt x="33" y="677"/>
                </a:lnTo>
                <a:lnTo>
                  <a:pt x="25" y="681"/>
                </a:lnTo>
                <a:lnTo>
                  <a:pt x="17" y="681"/>
                </a:lnTo>
                <a:lnTo>
                  <a:pt x="14" y="681"/>
                </a:lnTo>
                <a:lnTo>
                  <a:pt x="10" y="681"/>
                </a:lnTo>
                <a:lnTo>
                  <a:pt x="8" y="679"/>
                </a:lnTo>
                <a:lnTo>
                  <a:pt x="6" y="677"/>
                </a:lnTo>
                <a:lnTo>
                  <a:pt x="4" y="675"/>
                </a:lnTo>
                <a:lnTo>
                  <a:pt x="2" y="671"/>
                </a:lnTo>
                <a:lnTo>
                  <a:pt x="0" y="667"/>
                </a:lnTo>
                <a:lnTo>
                  <a:pt x="0" y="664"/>
                </a:lnTo>
                <a:lnTo>
                  <a:pt x="0" y="660"/>
                </a:lnTo>
                <a:lnTo>
                  <a:pt x="0" y="654"/>
                </a:lnTo>
                <a:lnTo>
                  <a:pt x="0" y="648"/>
                </a:lnTo>
                <a:lnTo>
                  <a:pt x="0" y="643"/>
                </a:lnTo>
                <a:lnTo>
                  <a:pt x="0" y="635"/>
                </a:lnTo>
                <a:lnTo>
                  <a:pt x="2" y="627"/>
                </a:lnTo>
                <a:lnTo>
                  <a:pt x="2" y="619"/>
                </a:lnTo>
                <a:lnTo>
                  <a:pt x="4" y="610"/>
                </a:lnTo>
                <a:lnTo>
                  <a:pt x="6" y="600"/>
                </a:lnTo>
                <a:lnTo>
                  <a:pt x="10" y="591"/>
                </a:lnTo>
                <a:lnTo>
                  <a:pt x="12" y="581"/>
                </a:lnTo>
                <a:lnTo>
                  <a:pt x="14" y="570"/>
                </a:lnTo>
                <a:lnTo>
                  <a:pt x="17" y="558"/>
                </a:lnTo>
                <a:lnTo>
                  <a:pt x="21" y="545"/>
                </a:lnTo>
                <a:lnTo>
                  <a:pt x="25" y="533"/>
                </a:lnTo>
                <a:lnTo>
                  <a:pt x="29" y="520"/>
                </a:lnTo>
                <a:lnTo>
                  <a:pt x="33" y="504"/>
                </a:lnTo>
                <a:lnTo>
                  <a:pt x="37" y="491"/>
                </a:lnTo>
                <a:lnTo>
                  <a:pt x="40" y="476"/>
                </a:lnTo>
                <a:lnTo>
                  <a:pt x="46" y="460"/>
                </a:lnTo>
                <a:lnTo>
                  <a:pt x="52" y="443"/>
                </a:lnTo>
                <a:lnTo>
                  <a:pt x="56" y="426"/>
                </a:lnTo>
                <a:lnTo>
                  <a:pt x="62" y="408"/>
                </a:lnTo>
                <a:lnTo>
                  <a:pt x="67" y="389"/>
                </a:lnTo>
                <a:lnTo>
                  <a:pt x="79" y="357"/>
                </a:lnTo>
                <a:lnTo>
                  <a:pt x="88" y="324"/>
                </a:lnTo>
                <a:lnTo>
                  <a:pt x="98" y="293"/>
                </a:lnTo>
                <a:lnTo>
                  <a:pt x="106" y="264"/>
                </a:lnTo>
                <a:lnTo>
                  <a:pt x="113" y="239"/>
                </a:lnTo>
                <a:lnTo>
                  <a:pt x="119" y="214"/>
                </a:lnTo>
                <a:lnTo>
                  <a:pt x="123" y="191"/>
                </a:lnTo>
                <a:lnTo>
                  <a:pt x="129" y="170"/>
                </a:lnTo>
                <a:lnTo>
                  <a:pt x="131" y="149"/>
                </a:lnTo>
                <a:lnTo>
                  <a:pt x="133" y="132"/>
                </a:lnTo>
                <a:lnTo>
                  <a:pt x="135" y="115"/>
                </a:lnTo>
                <a:lnTo>
                  <a:pt x="136" y="101"/>
                </a:lnTo>
                <a:lnTo>
                  <a:pt x="136" y="88"/>
                </a:lnTo>
                <a:lnTo>
                  <a:pt x="135" y="76"/>
                </a:lnTo>
                <a:lnTo>
                  <a:pt x="135" y="67"/>
                </a:lnTo>
                <a:lnTo>
                  <a:pt x="133" y="59"/>
                </a:lnTo>
                <a:lnTo>
                  <a:pt x="129" y="51"/>
                </a:lnTo>
                <a:lnTo>
                  <a:pt x="127" y="46"/>
                </a:lnTo>
                <a:lnTo>
                  <a:pt x="127" y="40"/>
                </a:lnTo>
                <a:lnTo>
                  <a:pt x="125" y="34"/>
                </a:lnTo>
                <a:lnTo>
                  <a:pt x="125" y="28"/>
                </a:lnTo>
                <a:lnTo>
                  <a:pt x="123" y="24"/>
                </a:lnTo>
                <a:lnTo>
                  <a:pt x="125" y="21"/>
                </a:lnTo>
                <a:lnTo>
                  <a:pt x="125" y="17"/>
                </a:lnTo>
                <a:lnTo>
                  <a:pt x="127" y="15"/>
                </a:lnTo>
                <a:lnTo>
                  <a:pt x="129" y="13"/>
                </a:lnTo>
                <a:lnTo>
                  <a:pt x="131" y="9"/>
                </a:lnTo>
                <a:lnTo>
                  <a:pt x="135" y="9"/>
                </a:lnTo>
                <a:lnTo>
                  <a:pt x="140" y="7"/>
                </a:lnTo>
                <a:lnTo>
                  <a:pt x="144" y="7"/>
                </a:lnTo>
                <a:lnTo>
                  <a:pt x="150" y="5"/>
                </a:lnTo>
                <a:lnTo>
                  <a:pt x="158" y="5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Freeform 183"/>
          <p:cNvSpPr/>
          <p:nvPr/>
        </p:nvSpPr>
        <p:spPr>
          <a:xfrm>
            <a:off x="6464160" y="3220920"/>
            <a:ext cx="879480" cy="486000"/>
          </a:xfrm>
          <a:custGeom>
            <a:avLst/>
            <a:gdLst/>
            <a:ahLst/>
            <a:rect l="l" t="t" r="r" b="b"/>
            <a:pathLst>
              <a:path w="1108" h="612">
                <a:moveTo>
                  <a:pt x="0" y="489"/>
                </a:moveTo>
                <a:lnTo>
                  <a:pt x="2" y="480"/>
                </a:lnTo>
                <a:lnTo>
                  <a:pt x="4" y="470"/>
                </a:lnTo>
                <a:lnTo>
                  <a:pt x="6" y="459"/>
                </a:lnTo>
                <a:lnTo>
                  <a:pt x="12" y="449"/>
                </a:lnTo>
                <a:lnTo>
                  <a:pt x="19" y="437"/>
                </a:lnTo>
                <a:lnTo>
                  <a:pt x="23" y="430"/>
                </a:lnTo>
                <a:lnTo>
                  <a:pt x="27" y="424"/>
                </a:lnTo>
                <a:lnTo>
                  <a:pt x="33" y="418"/>
                </a:lnTo>
                <a:lnTo>
                  <a:pt x="39" y="411"/>
                </a:lnTo>
                <a:lnTo>
                  <a:pt x="44" y="405"/>
                </a:lnTo>
                <a:lnTo>
                  <a:pt x="52" y="397"/>
                </a:lnTo>
                <a:lnTo>
                  <a:pt x="62" y="382"/>
                </a:lnTo>
                <a:lnTo>
                  <a:pt x="71" y="366"/>
                </a:lnTo>
                <a:lnTo>
                  <a:pt x="79" y="351"/>
                </a:lnTo>
                <a:lnTo>
                  <a:pt x="89" y="334"/>
                </a:lnTo>
                <a:lnTo>
                  <a:pt x="96" y="315"/>
                </a:lnTo>
                <a:lnTo>
                  <a:pt x="104" y="295"/>
                </a:lnTo>
                <a:lnTo>
                  <a:pt x="108" y="286"/>
                </a:lnTo>
                <a:lnTo>
                  <a:pt x="110" y="274"/>
                </a:lnTo>
                <a:lnTo>
                  <a:pt x="113" y="263"/>
                </a:lnTo>
                <a:lnTo>
                  <a:pt x="115" y="251"/>
                </a:lnTo>
                <a:lnTo>
                  <a:pt x="119" y="230"/>
                </a:lnTo>
                <a:lnTo>
                  <a:pt x="123" y="211"/>
                </a:lnTo>
                <a:lnTo>
                  <a:pt x="125" y="190"/>
                </a:lnTo>
                <a:lnTo>
                  <a:pt x="125" y="169"/>
                </a:lnTo>
                <a:lnTo>
                  <a:pt x="125" y="148"/>
                </a:lnTo>
                <a:lnTo>
                  <a:pt x="123" y="126"/>
                </a:lnTo>
                <a:lnTo>
                  <a:pt x="119" y="103"/>
                </a:lnTo>
                <a:lnTo>
                  <a:pt x="115" y="78"/>
                </a:lnTo>
                <a:lnTo>
                  <a:pt x="113" y="69"/>
                </a:lnTo>
                <a:lnTo>
                  <a:pt x="112" y="59"/>
                </a:lnTo>
                <a:lnTo>
                  <a:pt x="110" y="52"/>
                </a:lnTo>
                <a:lnTo>
                  <a:pt x="108" y="44"/>
                </a:lnTo>
                <a:lnTo>
                  <a:pt x="108" y="36"/>
                </a:lnTo>
                <a:lnTo>
                  <a:pt x="108" y="30"/>
                </a:lnTo>
                <a:lnTo>
                  <a:pt x="108" y="25"/>
                </a:lnTo>
                <a:lnTo>
                  <a:pt x="108" y="19"/>
                </a:lnTo>
                <a:lnTo>
                  <a:pt x="108" y="13"/>
                </a:lnTo>
                <a:lnTo>
                  <a:pt x="110" y="9"/>
                </a:lnTo>
                <a:lnTo>
                  <a:pt x="112" y="7"/>
                </a:lnTo>
                <a:lnTo>
                  <a:pt x="113" y="4"/>
                </a:lnTo>
                <a:lnTo>
                  <a:pt x="115" y="2"/>
                </a:lnTo>
                <a:lnTo>
                  <a:pt x="119" y="0"/>
                </a:lnTo>
                <a:lnTo>
                  <a:pt x="123" y="0"/>
                </a:lnTo>
                <a:lnTo>
                  <a:pt x="129" y="0"/>
                </a:lnTo>
                <a:lnTo>
                  <a:pt x="138" y="0"/>
                </a:lnTo>
                <a:lnTo>
                  <a:pt x="148" y="2"/>
                </a:lnTo>
                <a:lnTo>
                  <a:pt x="158" y="4"/>
                </a:lnTo>
                <a:lnTo>
                  <a:pt x="167" y="7"/>
                </a:lnTo>
                <a:lnTo>
                  <a:pt x="179" y="11"/>
                </a:lnTo>
                <a:lnTo>
                  <a:pt x="190" y="15"/>
                </a:lnTo>
                <a:lnTo>
                  <a:pt x="204" y="21"/>
                </a:lnTo>
                <a:lnTo>
                  <a:pt x="217" y="25"/>
                </a:lnTo>
                <a:lnTo>
                  <a:pt x="225" y="30"/>
                </a:lnTo>
                <a:lnTo>
                  <a:pt x="231" y="36"/>
                </a:lnTo>
                <a:lnTo>
                  <a:pt x="236" y="44"/>
                </a:lnTo>
                <a:lnTo>
                  <a:pt x="240" y="50"/>
                </a:lnTo>
                <a:lnTo>
                  <a:pt x="246" y="59"/>
                </a:lnTo>
                <a:lnTo>
                  <a:pt x="250" y="67"/>
                </a:lnTo>
                <a:lnTo>
                  <a:pt x="252" y="77"/>
                </a:lnTo>
                <a:lnTo>
                  <a:pt x="256" y="86"/>
                </a:lnTo>
                <a:lnTo>
                  <a:pt x="257" y="98"/>
                </a:lnTo>
                <a:lnTo>
                  <a:pt x="259" y="109"/>
                </a:lnTo>
                <a:lnTo>
                  <a:pt x="259" y="123"/>
                </a:lnTo>
                <a:lnTo>
                  <a:pt x="259" y="136"/>
                </a:lnTo>
                <a:lnTo>
                  <a:pt x="259" y="149"/>
                </a:lnTo>
                <a:lnTo>
                  <a:pt x="259" y="165"/>
                </a:lnTo>
                <a:lnTo>
                  <a:pt x="257" y="180"/>
                </a:lnTo>
                <a:lnTo>
                  <a:pt x="256" y="197"/>
                </a:lnTo>
                <a:lnTo>
                  <a:pt x="254" y="215"/>
                </a:lnTo>
                <a:lnTo>
                  <a:pt x="252" y="230"/>
                </a:lnTo>
                <a:lnTo>
                  <a:pt x="250" y="245"/>
                </a:lnTo>
                <a:lnTo>
                  <a:pt x="248" y="259"/>
                </a:lnTo>
                <a:lnTo>
                  <a:pt x="248" y="272"/>
                </a:lnTo>
                <a:lnTo>
                  <a:pt x="246" y="286"/>
                </a:lnTo>
                <a:lnTo>
                  <a:pt x="246" y="297"/>
                </a:lnTo>
                <a:lnTo>
                  <a:pt x="246" y="307"/>
                </a:lnTo>
                <a:lnTo>
                  <a:pt x="246" y="316"/>
                </a:lnTo>
                <a:lnTo>
                  <a:pt x="246" y="324"/>
                </a:lnTo>
                <a:lnTo>
                  <a:pt x="248" y="332"/>
                </a:lnTo>
                <a:lnTo>
                  <a:pt x="248" y="340"/>
                </a:lnTo>
                <a:lnTo>
                  <a:pt x="250" y="345"/>
                </a:lnTo>
                <a:lnTo>
                  <a:pt x="252" y="349"/>
                </a:lnTo>
                <a:lnTo>
                  <a:pt x="254" y="353"/>
                </a:lnTo>
                <a:lnTo>
                  <a:pt x="256" y="357"/>
                </a:lnTo>
                <a:lnTo>
                  <a:pt x="257" y="359"/>
                </a:lnTo>
                <a:lnTo>
                  <a:pt x="263" y="361"/>
                </a:lnTo>
                <a:lnTo>
                  <a:pt x="267" y="363"/>
                </a:lnTo>
                <a:lnTo>
                  <a:pt x="275" y="364"/>
                </a:lnTo>
                <a:lnTo>
                  <a:pt x="282" y="364"/>
                </a:lnTo>
                <a:lnTo>
                  <a:pt x="292" y="364"/>
                </a:lnTo>
                <a:lnTo>
                  <a:pt x="304" y="364"/>
                </a:lnTo>
                <a:lnTo>
                  <a:pt x="315" y="364"/>
                </a:lnTo>
                <a:lnTo>
                  <a:pt x="330" y="363"/>
                </a:lnTo>
                <a:lnTo>
                  <a:pt x="346" y="361"/>
                </a:lnTo>
                <a:lnTo>
                  <a:pt x="361" y="357"/>
                </a:lnTo>
                <a:lnTo>
                  <a:pt x="380" y="353"/>
                </a:lnTo>
                <a:lnTo>
                  <a:pt x="401" y="349"/>
                </a:lnTo>
                <a:lnTo>
                  <a:pt x="423" y="343"/>
                </a:lnTo>
                <a:lnTo>
                  <a:pt x="446" y="338"/>
                </a:lnTo>
                <a:lnTo>
                  <a:pt x="472" y="330"/>
                </a:lnTo>
                <a:lnTo>
                  <a:pt x="499" y="322"/>
                </a:lnTo>
                <a:lnTo>
                  <a:pt x="526" y="315"/>
                </a:lnTo>
                <a:lnTo>
                  <a:pt x="557" y="307"/>
                </a:lnTo>
                <a:lnTo>
                  <a:pt x="589" y="297"/>
                </a:lnTo>
                <a:lnTo>
                  <a:pt x="622" y="290"/>
                </a:lnTo>
                <a:lnTo>
                  <a:pt x="657" y="280"/>
                </a:lnTo>
                <a:lnTo>
                  <a:pt x="693" y="270"/>
                </a:lnTo>
                <a:lnTo>
                  <a:pt x="733" y="261"/>
                </a:lnTo>
                <a:lnTo>
                  <a:pt x="774" y="251"/>
                </a:lnTo>
                <a:lnTo>
                  <a:pt x="814" y="240"/>
                </a:lnTo>
                <a:lnTo>
                  <a:pt x="858" y="230"/>
                </a:lnTo>
                <a:lnTo>
                  <a:pt x="881" y="224"/>
                </a:lnTo>
                <a:lnTo>
                  <a:pt x="904" y="219"/>
                </a:lnTo>
                <a:lnTo>
                  <a:pt x="929" y="213"/>
                </a:lnTo>
                <a:lnTo>
                  <a:pt x="952" y="207"/>
                </a:lnTo>
                <a:lnTo>
                  <a:pt x="977" y="201"/>
                </a:lnTo>
                <a:lnTo>
                  <a:pt x="1002" y="196"/>
                </a:lnTo>
                <a:lnTo>
                  <a:pt x="1027" y="190"/>
                </a:lnTo>
                <a:lnTo>
                  <a:pt x="1054" y="184"/>
                </a:lnTo>
                <a:lnTo>
                  <a:pt x="1081" y="178"/>
                </a:lnTo>
                <a:lnTo>
                  <a:pt x="1108" y="171"/>
                </a:lnTo>
                <a:lnTo>
                  <a:pt x="1108" y="224"/>
                </a:lnTo>
                <a:lnTo>
                  <a:pt x="1108" y="278"/>
                </a:lnTo>
                <a:lnTo>
                  <a:pt x="1104" y="278"/>
                </a:lnTo>
                <a:lnTo>
                  <a:pt x="1100" y="278"/>
                </a:lnTo>
                <a:lnTo>
                  <a:pt x="1094" y="278"/>
                </a:lnTo>
                <a:lnTo>
                  <a:pt x="1089" y="278"/>
                </a:lnTo>
                <a:lnTo>
                  <a:pt x="1081" y="280"/>
                </a:lnTo>
                <a:lnTo>
                  <a:pt x="1075" y="282"/>
                </a:lnTo>
                <a:lnTo>
                  <a:pt x="1067" y="282"/>
                </a:lnTo>
                <a:lnTo>
                  <a:pt x="1058" y="284"/>
                </a:lnTo>
                <a:lnTo>
                  <a:pt x="1048" y="286"/>
                </a:lnTo>
                <a:lnTo>
                  <a:pt x="1039" y="288"/>
                </a:lnTo>
                <a:lnTo>
                  <a:pt x="1029" y="290"/>
                </a:lnTo>
                <a:lnTo>
                  <a:pt x="1018" y="293"/>
                </a:lnTo>
                <a:lnTo>
                  <a:pt x="1006" y="295"/>
                </a:lnTo>
                <a:lnTo>
                  <a:pt x="994" y="299"/>
                </a:lnTo>
                <a:lnTo>
                  <a:pt x="981" y="301"/>
                </a:lnTo>
                <a:lnTo>
                  <a:pt x="968" y="305"/>
                </a:lnTo>
                <a:lnTo>
                  <a:pt x="954" y="309"/>
                </a:lnTo>
                <a:lnTo>
                  <a:pt x="939" y="313"/>
                </a:lnTo>
                <a:lnTo>
                  <a:pt x="923" y="316"/>
                </a:lnTo>
                <a:lnTo>
                  <a:pt x="908" y="320"/>
                </a:lnTo>
                <a:lnTo>
                  <a:pt x="893" y="324"/>
                </a:lnTo>
                <a:lnTo>
                  <a:pt x="875" y="328"/>
                </a:lnTo>
                <a:lnTo>
                  <a:pt x="858" y="334"/>
                </a:lnTo>
                <a:lnTo>
                  <a:pt x="839" y="338"/>
                </a:lnTo>
                <a:lnTo>
                  <a:pt x="822" y="343"/>
                </a:lnTo>
                <a:lnTo>
                  <a:pt x="803" y="349"/>
                </a:lnTo>
                <a:lnTo>
                  <a:pt x="781" y="353"/>
                </a:lnTo>
                <a:lnTo>
                  <a:pt x="762" y="359"/>
                </a:lnTo>
                <a:lnTo>
                  <a:pt x="741" y="364"/>
                </a:lnTo>
                <a:lnTo>
                  <a:pt x="720" y="370"/>
                </a:lnTo>
                <a:lnTo>
                  <a:pt x="697" y="378"/>
                </a:lnTo>
                <a:lnTo>
                  <a:pt x="676" y="384"/>
                </a:lnTo>
                <a:lnTo>
                  <a:pt x="653" y="389"/>
                </a:lnTo>
                <a:lnTo>
                  <a:pt x="632" y="395"/>
                </a:lnTo>
                <a:lnTo>
                  <a:pt x="611" y="403"/>
                </a:lnTo>
                <a:lnTo>
                  <a:pt x="589" y="409"/>
                </a:lnTo>
                <a:lnTo>
                  <a:pt x="568" y="414"/>
                </a:lnTo>
                <a:lnTo>
                  <a:pt x="549" y="420"/>
                </a:lnTo>
                <a:lnTo>
                  <a:pt x="530" y="428"/>
                </a:lnTo>
                <a:lnTo>
                  <a:pt x="511" y="434"/>
                </a:lnTo>
                <a:lnTo>
                  <a:pt x="494" y="439"/>
                </a:lnTo>
                <a:lnTo>
                  <a:pt x="474" y="445"/>
                </a:lnTo>
                <a:lnTo>
                  <a:pt x="459" y="451"/>
                </a:lnTo>
                <a:lnTo>
                  <a:pt x="442" y="457"/>
                </a:lnTo>
                <a:lnTo>
                  <a:pt x="426" y="462"/>
                </a:lnTo>
                <a:lnTo>
                  <a:pt x="411" y="468"/>
                </a:lnTo>
                <a:lnTo>
                  <a:pt x="396" y="474"/>
                </a:lnTo>
                <a:lnTo>
                  <a:pt x="380" y="480"/>
                </a:lnTo>
                <a:lnTo>
                  <a:pt x="367" y="485"/>
                </a:lnTo>
                <a:lnTo>
                  <a:pt x="353" y="491"/>
                </a:lnTo>
                <a:lnTo>
                  <a:pt x="342" y="495"/>
                </a:lnTo>
                <a:lnTo>
                  <a:pt x="328" y="501"/>
                </a:lnTo>
                <a:lnTo>
                  <a:pt x="317" y="507"/>
                </a:lnTo>
                <a:lnTo>
                  <a:pt x="307" y="510"/>
                </a:lnTo>
                <a:lnTo>
                  <a:pt x="296" y="516"/>
                </a:lnTo>
                <a:lnTo>
                  <a:pt x="286" y="522"/>
                </a:lnTo>
                <a:lnTo>
                  <a:pt x="277" y="526"/>
                </a:lnTo>
                <a:lnTo>
                  <a:pt x="269" y="530"/>
                </a:lnTo>
                <a:lnTo>
                  <a:pt x="261" y="535"/>
                </a:lnTo>
                <a:lnTo>
                  <a:pt x="254" y="539"/>
                </a:lnTo>
                <a:lnTo>
                  <a:pt x="246" y="543"/>
                </a:lnTo>
                <a:lnTo>
                  <a:pt x="240" y="547"/>
                </a:lnTo>
                <a:lnTo>
                  <a:pt x="234" y="553"/>
                </a:lnTo>
                <a:lnTo>
                  <a:pt x="231" y="556"/>
                </a:lnTo>
                <a:lnTo>
                  <a:pt x="211" y="570"/>
                </a:lnTo>
                <a:lnTo>
                  <a:pt x="202" y="576"/>
                </a:lnTo>
                <a:lnTo>
                  <a:pt x="194" y="583"/>
                </a:lnTo>
                <a:lnTo>
                  <a:pt x="186" y="589"/>
                </a:lnTo>
                <a:lnTo>
                  <a:pt x="179" y="593"/>
                </a:lnTo>
                <a:lnTo>
                  <a:pt x="171" y="599"/>
                </a:lnTo>
                <a:lnTo>
                  <a:pt x="163" y="602"/>
                </a:lnTo>
                <a:lnTo>
                  <a:pt x="156" y="606"/>
                </a:lnTo>
                <a:lnTo>
                  <a:pt x="150" y="608"/>
                </a:lnTo>
                <a:lnTo>
                  <a:pt x="142" y="610"/>
                </a:lnTo>
                <a:lnTo>
                  <a:pt x="137" y="612"/>
                </a:lnTo>
                <a:lnTo>
                  <a:pt x="131" y="612"/>
                </a:lnTo>
                <a:lnTo>
                  <a:pt x="125" y="612"/>
                </a:lnTo>
                <a:lnTo>
                  <a:pt x="121" y="610"/>
                </a:lnTo>
                <a:lnTo>
                  <a:pt x="115" y="608"/>
                </a:lnTo>
                <a:lnTo>
                  <a:pt x="106" y="608"/>
                </a:lnTo>
                <a:lnTo>
                  <a:pt x="96" y="606"/>
                </a:lnTo>
                <a:lnTo>
                  <a:pt x="87" y="602"/>
                </a:lnTo>
                <a:lnTo>
                  <a:pt x="77" y="597"/>
                </a:lnTo>
                <a:lnTo>
                  <a:pt x="73" y="593"/>
                </a:lnTo>
                <a:lnTo>
                  <a:pt x="67" y="589"/>
                </a:lnTo>
                <a:lnTo>
                  <a:pt x="64" y="585"/>
                </a:lnTo>
                <a:lnTo>
                  <a:pt x="58" y="581"/>
                </a:lnTo>
                <a:lnTo>
                  <a:pt x="52" y="576"/>
                </a:lnTo>
                <a:lnTo>
                  <a:pt x="48" y="570"/>
                </a:lnTo>
                <a:lnTo>
                  <a:pt x="44" y="562"/>
                </a:lnTo>
                <a:lnTo>
                  <a:pt x="39" y="556"/>
                </a:lnTo>
                <a:lnTo>
                  <a:pt x="29" y="545"/>
                </a:lnTo>
                <a:lnTo>
                  <a:pt x="21" y="535"/>
                </a:lnTo>
                <a:lnTo>
                  <a:pt x="16" y="526"/>
                </a:lnTo>
                <a:lnTo>
                  <a:pt x="10" y="518"/>
                </a:lnTo>
                <a:lnTo>
                  <a:pt x="6" y="508"/>
                </a:lnTo>
                <a:lnTo>
                  <a:pt x="4" y="501"/>
                </a:lnTo>
                <a:lnTo>
                  <a:pt x="2" y="495"/>
                </a:lnTo>
                <a:lnTo>
                  <a:pt x="0" y="489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Freeform 184"/>
          <p:cNvSpPr/>
          <p:nvPr/>
        </p:nvSpPr>
        <p:spPr>
          <a:xfrm>
            <a:off x="6454800" y="3757680"/>
            <a:ext cx="912960" cy="250920"/>
          </a:xfrm>
          <a:custGeom>
            <a:avLst/>
            <a:gdLst/>
            <a:ahLst/>
            <a:rect l="l" t="t" r="r" b="b"/>
            <a:pathLst>
              <a:path w="1149" h="317">
                <a:moveTo>
                  <a:pt x="662" y="238"/>
                </a:moveTo>
                <a:lnTo>
                  <a:pt x="633" y="244"/>
                </a:lnTo>
                <a:lnTo>
                  <a:pt x="606" y="248"/>
                </a:lnTo>
                <a:lnTo>
                  <a:pt x="579" y="254"/>
                </a:lnTo>
                <a:lnTo>
                  <a:pt x="553" y="258"/>
                </a:lnTo>
                <a:lnTo>
                  <a:pt x="528" y="261"/>
                </a:lnTo>
                <a:lnTo>
                  <a:pt x="505" y="265"/>
                </a:lnTo>
                <a:lnTo>
                  <a:pt x="480" y="269"/>
                </a:lnTo>
                <a:lnTo>
                  <a:pt x="458" y="273"/>
                </a:lnTo>
                <a:lnTo>
                  <a:pt x="435" y="277"/>
                </a:lnTo>
                <a:lnTo>
                  <a:pt x="414" y="281"/>
                </a:lnTo>
                <a:lnTo>
                  <a:pt x="395" y="284"/>
                </a:lnTo>
                <a:lnTo>
                  <a:pt x="376" y="286"/>
                </a:lnTo>
                <a:lnTo>
                  <a:pt x="357" y="290"/>
                </a:lnTo>
                <a:lnTo>
                  <a:pt x="339" y="292"/>
                </a:lnTo>
                <a:lnTo>
                  <a:pt x="322" y="296"/>
                </a:lnTo>
                <a:lnTo>
                  <a:pt x="307" y="298"/>
                </a:lnTo>
                <a:lnTo>
                  <a:pt x="291" y="300"/>
                </a:lnTo>
                <a:lnTo>
                  <a:pt x="276" y="304"/>
                </a:lnTo>
                <a:lnTo>
                  <a:pt x="263" y="306"/>
                </a:lnTo>
                <a:lnTo>
                  <a:pt x="249" y="308"/>
                </a:lnTo>
                <a:lnTo>
                  <a:pt x="236" y="309"/>
                </a:lnTo>
                <a:lnTo>
                  <a:pt x="224" y="309"/>
                </a:lnTo>
                <a:lnTo>
                  <a:pt x="215" y="311"/>
                </a:lnTo>
                <a:lnTo>
                  <a:pt x="205" y="313"/>
                </a:lnTo>
                <a:lnTo>
                  <a:pt x="196" y="313"/>
                </a:lnTo>
                <a:lnTo>
                  <a:pt x="186" y="315"/>
                </a:lnTo>
                <a:lnTo>
                  <a:pt x="178" y="315"/>
                </a:lnTo>
                <a:lnTo>
                  <a:pt x="172" y="317"/>
                </a:lnTo>
                <a:lnTo>
                  <a:pt x="167" y="317"/>
                </a:lnTo>
                <a:lnTo>
                  <a:pt x="161" y="317"/>
                </a:lnTo>
                <a:lnTo>
                  <a:pt x="155" y="317"/>
                </a:lnTo>
                <a:lnTo>
                  <a:pt x="151" y="317"/>
                </a:lnTo>
                <a:lnTo>
                  <a:pt x="138" y="317"/>
                </a:lnTo>
                <a:lnTo>
                  <a:pt x="124" y="315"/>
                </a:lnTo>
                <a:lnTo>
                  <a:pt x="113" y="313"/>
                </a:lnTo>
                <a:lnTo>
                  <a:pt x="101" y="309"/>
                </a:lnTo>
                <a:lnTo>
                  <a:pt x="88" y="306"/>
                </a:lnTo>
                <a:lnTo>
                  <a:pt x="76" y="302"/>
                </a:lnTo>
                <a:lnTo>
                  <a:pt x="63" y="296"/>
                </a:lnTo>
                <a:lnTo>
                  <a:pt x="50" y="292"/>
                </a:lnTo>
                <a:lnTo>
                  <a:pt x="42" y="288"/>
                </a:lnTo>
                <a:lnTo>
                  <a:pt x="36" y="286"/>
                </a:lnTo>
                <a:lnTo>
                  <a:pt x="30" y="284"/>
                </a:lnTo>
                <a:lnTo>
                  <a:pt x="27" y="281"/>
                </a:lnTo>
                <a:lnTo>
                  <a:pt x="21" y="279"/>
                </a:lnTo>
                <a:lnTo>
                  <a:pt x="17" y="277"/>
                </a:lnTo>
                <a:lnTo>
                  <a:pt x="9" y="271"/>
                </a:lnTo>
                <a:lnTo>
                  <a:pt x="5" y="267"/>
                </a:lnTo>
                <a:lnTo>
                  <a:pt x="2" y="261"/>
                </a:lnTo>
                <a:lnTo>
                  <a:pt x="0" y="256"/>
                </a:lnTo>
                <a:lnTo>
                  <a:pt x="0" y="252"/>
                </a:lnTo>
                <a:lnTo>
                  <a:pt x="0" y="250"/>
                </a:lnTo>
                <a:lnTo>
                  <a:pt x="0" y="248"/>
                </a:lnTo>
                <a:lnTo>
                  <a:pt x="4" y="248"/>
                </a:lnTo>
                <a:lnTo>
                  <a:pt x="5" y="246"/>
                </a:lnTo>
                <a:lnTo>
                  <a:pt x="9" y="244"/>
                </a:lnTo>
                <a:lnTo>
                  <a:pt x="15" y="242"/>
                </a:lnTo>
                <a:lnTo>
                  <a:pt x="21" y="238"/>
                </a:lnTo>
                <a:lnTo>
                  <a:pt x="27" y="237"/>
                </a:lnTo>
                <a:lnTo>
                  <a:pt x="34" y="235"/>
                </a:lnTo>
                <a:lnTo>
                  <a:pt x="44" y="231"/>
                </a:lnTo>
                <a:lnTo>
                  <a:pt x="53" y="229"/>
                </a:lnTo>
                <a:lnTo>
                  <a:pt x="63" y="225"/>
                </a:lnTo>
                <a:lnTo>
                  <a:pt x="75" y="221"/>
                </a:lnTo>
                <a:lnTo>
                  <a:pt x="86" y="219"/>
                </a:lnTo>
                <a:lnTo>
                  <a:pt x="100" y="215"/>
                </a:lnTo>
                <a:lnTo>
                  <a:pt x="113" y="212"/>
                </a:lnTo>
                <a:lnTo>
                  <a:pt x="128" y="206"/>
                </a:lnTo>
                <a:lnTo>
                  <a:pt x="144" y="202"/>
                </a:lnTo>
                <a:lnTo>
                  <a:pt x="161" y="198"/>
                </a:lnTo>
                <a:lnTo>
                  <a:pt x="178" y="192"/>
                </a:lnTo>
                <a:lnTo>
                  <a:pt x="196" y="189"/>
                </a:lnTo>
                <a:lnTo>
                  <a:pt x="215" y="183"/>
                </a:lnTo>
                <a:lnTo>
                  <a:pt x="236" y="177"/>
                </a:lnTo>
                <a:lnTo>
                  <a:pt x="257" y="171"/>
                </a:lnTo>
                <a:lnTo>
                  <a:pt x="278" y="165"/>
                </a:lnTo>
                <a:lnTo>
                  <a:pt x="301" y="160"/>
                </a:lnTo>
                <a:lnTo>
                  <a:pt x="326" y="154"/>
                </a:lnTo>
                <a:lnTo>
                  <a:pt x="349" y="148"/>
                </a:lnTo>
                <a:lnTo>
                  <a:pt x="376" y="141"/>
                </a:lnTo>
                <a:lnTo>
                  <a:pt x="401" y="133"/>
                </a:lnTo>
                <a:lnTo>
                  <a:pt x="430" y="127"/>
                </a:lnTo>
                <a:lnTo>
                  <a:pt x="457" y="119"/>
                </a:lnTo>
                <a:lnTo>
                  <a:pt x="485" y="112"/>
                </a:lnTo>
                <a:lnTo>
                  <a:pt x="512" y="104"/>
                </a:lnTo>
                <a:lnTo>
                  <a:pt x="539" y="96"/>
                </a:lnTo>
                <a:lnTo>
                  <a:pt x="566" y="91"/>
                </a:lnTo>
                <a:lnTo>
                  <a:pt x="591" y="85"/>
                </a:lnTo>
                <a:lnTo>
                  <a:pt x="616" y="77"/>
                </a:lnTo>
                <a:lnTo>
                  <a:pt x="639" y="71"/>
                </a:lnTo>
                <a:lnTo>
                  <a:pt x="662" y="66"/>
                </a:lnTo>
                <a:lnTo>
                  <a:pt x="685" y="60"/>
                </a:lnTo>
                <a:lnTo>
                  <a:pt x="706" y="56"/>
                </a:lnTo>
                <a:lnTo>
                  <a:pt x="727" y="50"/>
                </a:lnTo>
                <a:lnTo>
                  <a:pt x="746" y="46"/>
                </a:lnTo>
                <a:lnTo>
                  <a:pt x="766" y="41"/>
                </a:lnTo>
                <a:lnTo>
                  <a:pt x="785" y="37"/>
                </a:lnTo>
                <a:lnTo>
                  <a:pt x="802" y="33"/>
                </a:lnTo>
                <a:lnTo>
                  <a:pt x="819" y="29"/>
                </a:lnTo>
                <a:lnTo>
                  <a:pt x="837" y="25"/>
                </a:lnTo>
                <a:lnTo>
                  <a:pt x="852" y="22"/>
                </a:lnTo>
                <a:lnTo>
                  <a:pt x="867" y="20"/>
                </a:lnTo>
                <a:lnTo>
                  <a:pt x="881" y="16"/>
                </a:lnTo>
                <a:lnTo>
                  <a:pt x="894" y="14"/>
                </a:lnTo>
                <a:lnTo>
                  <a:pt x="906" y="12"/>
                </a:lnTo>
                <a:lnTo>
                  <a:pt x="919" y="10"/>
                </a:lnTo>
                <a:lnTo>
                  <a:pt x="929" y="8"/>
                </a:lnTo>
                <a:lnTo>
                  <a:pt x="940" y="6"/>
                </a:lnTo>
                <a:lnTo>
                  <a:pt x="950" y="4"/>
                </a:lnTo>
                <a:lnTo>
                  <a:pt x="958" y="2"/>
                </a:lnTo>
                <a:lnTo>
                  <a:pt x="967" y="2"/>
                </a:lnTo>
                <a:lnTo>
                  <a:pt x="975" y="0"/>
                </a:lnTo>
                <a:lnTo>
                  <a:pt x="981" y="0"/>
                </a:lnTo>
                <a:lnTo>
                  <a:pt x="986" y="0"/>
                </a:lnTo>
                <a:lnTo>
                  <a:pt x="992" y="0"/>
                </a:lnTo>
                <a:lnTo>
                  <a:pt x="1005" y="0"/>
                </a:lnTo>
                <a:lnTo>
                  <a:pt x="1021" y="2"/>
                </a:lnTo>
                <a:lnTo>
                  <a:pt x="1034" y="6"/>
                </a:lnTo>
                <a:lnTo>
                  <a:pt x="1050" y="12"/>
                </a:lnTo>
                <a:lnTo>
                  <a:pt x="1055" y="14"/>
                </a:lnTo>
                <a:lnTo>
                  <a:pt x="1063" y="18"/>
                </a:lnTo>
                <a:lnTo>
                  <a:pt x="1071" y="23"/>
                </a:lnTo>
                <a:lnTo>
                  <a:pt x="1078" y="27"/>
                </a:lnTo>
                <a:lnTo>
                  <a:pt x="1084" y="33"/>
                </a:lnTo>
                <a:lnTo>
                  <a:pt x="1092" y="39"/>
                </a:lnTo>
                <a:lnTo>
                  <a:pt x="1100" y="46"/>
                </a:lnTo>
                <a:lnTo>
                  <a:pt x="1107" y="52"/>
                </a:lnTo>
                <a:lnTo>
                  <a:pt x="1113" y="60"/>
                </a:lnTo>
                <a:lnTo>
                  <a:pt x="1119" y="66"/>
                </a:lnTo>
                <a:lnTo>
                  <a:pt x="1125" y="73"/>
                </a:lnTo>
                <a:lnTo>
                  <a:pt x="1130" y="79"/>
                </a:lnTo>
                <a:lnTo>
                  <a:pt x="1134" y="83"/>
                </a:lnTo>
                <a:lnTo>
                  <a:pt x="1138" y="89"/>
                </a:lnTo>
                <a:lnTo>
                  <a:pt x="1142" y="93"/>
                </a:lnTo>
                <a:lnTo>
                  <a:pt x="1144" y="96"/>
                </a:lnTo>
                <a:lnTo>
                  <a:pt x="1146" y="100"/>
                </a:lnTo>
                <a:lnTo>
                  <a:pt x="1148" y="102"/>
                </a:lnTo>
                <a:lnTo>
                  <a:pt x="1149" y="106"/>
                </a:lnTo>
                <a:lnTo>
                  <a:pt x="1149" y="108"/>
                </a:lnTo>
                <a:lnTo>
                  <a:pt x="1149" y="112"/>
                </a:lnTo>
                <a:lnTo>
                  <a:pt x="1148" y="114"/>
                </a:lnTo>
                <a:lnTo>
                  <a:pt x="1148" y="116"/>
                </a:lnTo>
                <a:lnTo>
                  <a:pt x="1146" y="119"/>
                </a:lnTo>
                <a:lnTo>
                  <a:pt x="1144" y="119"/>
                </a:lnTo>
                <a:lnTo>
                  <a:pt x="1140" y="121"/>
                </a:lnTo>
                <a:lnTo>
                  <a:pt x="1138" y="123"/>
                </a:lnTo>
                <a:lnTo>
                  <a:pt x="1132" y="125"/>
                </a:lnTo>
                <a:lnTo>
                  <a:pt x="1128" y="127"/>
                </a:lnTo>
                <a:lnTo>
                  <a:pt x="1121" y="129"/>
                </a:lnTo>
                <a:lnTo>
                  <a:pt x="1115" y="131"/>
                </a:lnTo>
                <a:lnTo>
                  <a:pt x="1107" y="133"/>
                </a:lnTo>
                <a:lnTo>
                  <a:pt x="1098" y="137"/>
                </a:lnTo>
                <a:lnTo>
                  <a:pt x="1088" y="139"/>
                </a:lnTo>
                <a:lnTo>
                  <a:pt x="1078" y="142"/>
                </a:lnTo>
                <a:lnTo>
                  <a:pt x="1067" y="144"/>
                </a:lnTo>
                <a:lnTo>
                  <a:pt x="1053" y="148"/>
                </a:lnTo>
                <a:lnTo>
                  <a:pt x="1042" y="152"/>
                </a:lnTo>
                <a:lnTo>
                  <a:pt x="1027" y="154"/>
                </a:lnTo>
                <a:lnTo>
                  <a:pt x="1013" y="158"/>
                </a:lnTo>
                <a:lnTo>
                  <a:pt x="996" y="162"/>
                </a:lnTo>
                <a:lnTo>
                  <a:pt x="981" y="165"/>
                </a:lnTo>
                <a:lnTo>
                  <a:pt x="963" y="169"/>
                </a:lnTo>
                <a:lnTo>
                  <a:pt x="944" y="175"/>
                </a:lnTo>
                <a:lnTo>
                  <a:pt x="925" y="179"/>
                </a:lnTo>
                <a:lnTo>
                  <a:pt x="906" y="183"/>
                </a:lnTo>
                <a:lnTo>
                  <a:pt x="885" y="189"/>
                </a:lnTo>
                <a:lnTo>
                  <a:pt x="863" y="192"/>
                </a:lnTo>
                <a:lnTo>
                  <a:pt x="840" y="198"/>
                </a:lnTo>
                <a:lnTo>
                  <a:pt x="817" y="204"/>
                </a:lnTo>
                <a:lnTo>
                  <a:pt x="794" y="210"/>
                </a:lnTo>
                <a:lnTo>
                  <a:pt x="769" y="215"/>
                </a:lnTo>
                <a:lnTo>
                  <a:pt x="743" y="221"/>
                </a:lnTo>
                <a:lnTo>
                  <a:pt x="716" y="227"/>
                </a:lnTo>
                <a:lnTo>
                  <a:pt x="689" y="233"/>
                </a:lnTo>
                <a:lnTo>
                  <a:pt x="662" y="238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Freeform 185"/>
          <p:cNvSpPr/>
          <p:nvPr/>
        </p:nvSpPr>
        <p:spPr>
          <a:xfrm>
            <a:off x="6586560" y="3914640"/>
            <a:ext cx="276120" cy="452520"/>
          </a:xfrm>
          <a:custGeom>
            <a:avLst/>
            <a:gdLst/>
            <a:ahLst/>
            <a:rect l="l" t="t" r="r" b="b"/>
            <a:pathLst>
              <a:path w="347" h="570">
                <a:moveTo>
                  <a:pt x="63" y="570"/>
                </a:moveTo>
                <a:lnTo>
                  <a:pt x="31" y="570"/>
                </a:lnTo>
                <a:lnTo>
                  <a:pt x="0" y="570"/>
                </a:lnTo>
                <a:lnTo>
                  <a:pt x="19" y="522"/>
                </a:lnTo>
                <a:lnTo>
                  <a:pt x="38" y="474"/>
                </a:lnTo>
                <a:lnTo>
                  <a:pt x="57" y="430"/>
                </a:lnTo>
                <a:lnTo>
                  <a:pt x="73" y="386"/>
                </a:lnTo>
                <a:lnTo>
                  <a:pt x="88" y="344"/>
                </a:lnTo>
                <a:lnTo>
                  <a:pt x="102" y="305"/>
                </a:lnTo>
                <a:lnTo>
                  <a:pt x="113" y="267"/>
                </a:lnTo>
                <a:lnTo>
                  <a:pt x="125" y="230"/>
                </a:lnTo>
                <a:lnTo>
                  <a:pt x="134" y="196"/>
                </a:lnTo>
                <a:lnTo>
                  <a:pt x="142" y="163"/>
                </a:lnTo>
                <a:lnTo>
                  <a:pt x="150" y="133"/>
                </a:lnTo>
                <a:lnTo>
                  <a:pt x="155" y="102"/>
                </a:lnTo>
                <a:lnTo>
                  <a:pt x="159" y="75"/>
                </a:lnTo>
                <a:lnTo>
                  <a:pt x="163" y="48"/>
                </a:lnTo>
                <a:lnTo>
                  <a:pt x="165" y="23"/>
                </a:lnTo>
                <a:lnTo>
                  <a:pt x="165" y="0"/>
                </a:lnTo>
                <a:lnTo>
                  <a:pt x="253" y="0"/>
                </a:lnTo>
                <a:lnTo>
                  <a:pt x="343" y="0"/>
                </a:lnTo>
                <a:lnTo>
                  <a:pt x="345" y="14"/>
                </a:lnTo>
                <a:lnTo>
                  <a:pt x="345" y="27"/>
                </a:lnTo>
                <a:lnTo>
                  <a:pt x="347" y="39"/>
                </a:lnTo>
                <a:lnTo>
                  <a:pt x="347" y="52"/>
                </a:lnTo>
                <a:lnTo>
                  <a:pt x="345" y="67"/>
                </a:lnTo>
                <a:lnTo>
                  <a:pt x="345" y="81"/>
                </a:lnTo>
                <a:lnTo>
                  <a:pt x="343" y="94"/>
                </a:lnTo>
                <a:lnTo>
                  <a:pt x="340" y="110"/>
                </a:lnTo>
                <a:lnTo>
                  <a:pt x="336" y="125"/>
                </a:lnTo>
                <a:lnTo>
                  <a:pt x="332" y="140"/>
                </a:lnTo>
                <a:lnTo>
                  <a:pt x="328" y="156"/>
                </a:lnTo>
                <a:lnTo>
                  <a:pt x="322" y="173"/>
                </a:lnTo>
                <a:lnTo>
                  <a:pt x="315" y="188"/>
                </a:lnTo>
                <a:lnTo>
                  <a:pt x="309" y="206"/>
                </a:lnTo>
                <a:lnTo>
                  <a:pt x="301" y="223"/>
                </a:lnTo>
                <a:lnTo>
                  <a:pt x="292" y="240"/>
                </a:lnTo>
                <a:lnTo>
                  <a:pt x="284" y="257"/>
                </a:lnTo>
                <a:lnTo>
                  <a:pt x="274" y="277"/>
                </a:lnTo>
                <a:lnTo>
                  <a:pt x="263" y="294"/>
                </a:lnTo>
                <a:lnTo>
                  <a:pt x="251" y="313"/>
                </a:lnTo>
                <a:lnTo>
                  <a:pt x="240" y="332"/>
                </a:lnTo>
                <a:lnTo>
                  <a:pt x="228" y="351"/>
                </a:lnTo>
                <a:lnTo>
                  <a:pt x="215" y="372"/>
                </a:lnTo>
                <a:lnTo>
                  <a:pt x="201" y="394"/>
                </a:lnTo>
                <a:lnTo>
                  <a:pt x="186" y="413"/>
                </a:lnTo>
                <a:lnTo>
                  <a:pt x="171" y="434"/>
                </a:lnTo>
                <a:lnTo>
                  <a:pt x="155" y="457"/>
                </a:lnTo>
                <a:lnTo>
                  <a:pt x="138" y="478"/>
                </a:lnTo>
                <a:lnTo>
                  <a:pt x="121" y="501"/>
                </a:lnTo>
                <a:lnTo>
                  <a:pt x="102" y="524"/>
                </a:lnTo>
                <a:lnTo>
                  <a:pt x="82" y="547"/>
                </a:lnTo>
                <a:lnTo>
                  <a:pt x="63" y="57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Freeform 186"/>
          <p:cNvSpPr/>
          <p:nvPr/>
        </p:nvSpPr>
        <p:spPr>
          <a:xfrm>
            <a:off x="6324480" y="4145040"/>
            <a:ext cx="1373400" cy="906480"/>
          </a:xfrm>
          <a:custGeom>
            <a:avLst/>
            <a:gdLst/>
            <a:ahLst/>
            <a:rect l="l" t="t" r="r" b="b"/>
            <a:pathLst>
              <a:path w="1729" h="1140">
                <a:moveTo>
                  <a:pt x="1589" y="821"/>
                </a:moveTo>
                <a:lnTo>
                  <a:pt x="1583" y="841"/>
                </a:lnTo>
                <a:lnTo>
                  <a:pt x="1575" y="860"/>
                </a:lnTo>
                <a:lnTo>
                  <a:pt x="1568" y="879"/>
                </a:lnTo>
                <a:lnTo>
                  <a:pt x="1560" y="896"/>
                </a:lnTo>
                <a:lnTo>
                  <a:pt x="1552" y="914"/>
                </a:lnTo>
                <a:lnTo>
                  <a:pt x="1545" y="929"/>
                </a:lnTo>
                <a:lnTo>
                  <a:pt x="1537" y="946"/>
                </a:lnTo>
                <a:lnTo>
                  <a:pt x="1529" y="962"/>
                </a:lnTo>
                <a:lnTo>
                  <a:pt x="1520" y="975"/>
                </a:lnTo>
                <a:lnTo>
                  <a:pt x="1512" y="988"/>
                </a:lnTo>
                <a:lnTo>
                  <a:pt x="1503" y="1002"/>
                </a:lnTo>
                <a:lnTo>
                  <a:pt x="1493" y="1015"/>
                </a:lnTo>
                <a:lnTo>
                  <a:pt x="1483" y="1027"/>
                </a:lnTo>
                <a:lnTo>
                  <a:pt x="1472" y="1038"/>
                </a:lnTo>
                <a:lnTo>
                  <a:pt x="1460" y="1050"/>
                </a:lnTo>
                <a:lnTo>
                  <a:pt x="1449" y="1061"/>
                </a:lnTo>
                <a:lnTo>
                  <a:pt x="1437" y="1071"/>
                </a:lnTo>
                <a:lnTo>
                  <a:pt x="1428" y="1079"/>
                </a:lnTo>
                <a:lnTo>
                  <a:pt x="1416" y="1088"/>
                </a:lnTo>
                <a:lnTo>
                  <a:pt x="1407" y="1096"/>
                </a:lnTo>
                <a:lnTo>
                  <a:pt x="1397" y="1104"/>
                </a:lnTo>
                <a:lnTo>
                  <a:pt x="1387" y="1109"/>
                </a:lnTo>
                <a:lnTo>
                  <a:pt x="1380" y="1115"/>
                </a:lnTo>
                <a:lnTo>
                  <a:pt x="1372" y="1121"/>
                </a:lnTo>
                <a:lnTo>
                  <a:pt x="1364" y="1125"/>
                </a:lnTo>
                <a:lnTo>
                  <a:pt x="1357" y="1129"/>
                </a:lnTo>
                <a:lnTo>
                  <a:pt x="1351" y="1132"/>
                </a:lnTo>
                <a:lnTo>
                  <a:pt x="1343" y="1134"/>
                </a:lnTo>
                <a:lnTo>
                  <a:pt x="1337" y="1138"/>
                </a:lnTo>
                <a:lnTo>
                  <a:pt x="1332" y="1138"/>
                </a:lnTo>
                <a:lnTo>
                  <a:pt x="1328" y="1140"/>
                </a:lnTo>
                <a:lnTo>
                  <a:pt x="1322" y="1140"/>
                </a:lnTo>
                <a:lnTo>
                  <a:pt x="1313" y="1134"/>
                </a:lnTo>
                <a:lnTo>
                  <a:pt x="1305" y="1127"/>
                </a:lnTo>
                <a:lnTo>
                  <a:pt x="1299" y="1119"/>
                </a:lnTo>
                <a:lnTo>
                  <a:pt x="1293" y="1109"/>
                </a:lnTo>
                <a:lnTo>
                  <a:pt x="1291" y="1104"/>
                </a:lnTo>
                <a:lnTo>
                  <a:pt x="1290" y="1096"/>
                </a:lnTo>
                <a:lnTo>
                  <a:pt x="1288" y="1090"/>
                </a:lnTo>
                <a:lnTo>
                  <a:pt x="1286" y="1082"/>
                </a:lnTo>
                <a:lnTo>
                  <a:pt x="1286" y="1075"/>
                </a:lnTo>
                <a:lnTo>
                  <a:pt x="1284" y="1065"/>
                </a:lnTo>
                <a:lnTo>
                  <a:pt x="1284" y="1058"/>
                </a:lnTo>
                <a:lnTo>
                  <a:pt x="1284" y="1048"/>
                </a:lnTo>
                <a:lnTo>
                  <a:pt x="1284" y="1034"/>
                </a:lnTo>
                <a:lnTo>
                  <a:pt x="1282" y="1023"/>
                </a:lnTo>
                <a:lnTo>
                  <a:pt x="1282" y="1011"/>
                </a:lnTo>
                <a:lnTo>
                  <a:pt x="1278" y="1000"/>
                </a:lnTo>
                <a:lnTo>
                  <a:pt x="1276" y="988"/>
                </a:lnTo>
                <a:lnTo>
                  <a:pt x="1272" y="977"/>
                </a:lnTo>
                <a:lnTo>
                  <a:pt x="1268" y="967"/>
                </a:lnTo>
                <a:lnTo>
                  <a:pt x="1263" y="956"/>
                </a:lnTo>
                <a:lnTo>
                  <a:pt x="1257" y="946"/>
                </a:lnTo>
                <a:lnTo>
                  <a:pt x="1251" y="935"/>
                </a:lnTo>
                <a:lnTo>
                  <a:pt x="1243" y="925"/>
                </a:lnTo>
                <a:lnTo>
                  <a:pt x="1236" y="915"/>
                </a:lnTo>
                <a:lnTo>
                  <a:pt x="1226" y="904"/>
                </a:lnTo>
                <a:lnTo>
                  <a:pt x="1217" y="894"/>
                </a:lnTo>
                <a:lnTo>
                  <a:pt x="1207" y="885"/>
                </a:lnTo>
                <a:lnTo>
                  <a:pt x="1195" y="875"/>
                </a:lnTo>
                <a:lnTo>
                  <a:pt x="1184" y="866"/>
                </a:lnTo>
                <a:lnTo>
                  <a:pt x="1172" y="856"/>
                </a:lnTo>
                <a:lnTo>
                  <a:pt x="1163" y="846"/>
                </a:lnTo>
                <a:lnTo>
                  <a:pt x="1155" y="837"/>
                </a:lnTo>
                <a:lnTo>
                  <a:pt x="1147" y="829"/>
                </a:lnTo>
                <a:lnTo>
                  <a:pt x="1140" y="821"/>
                </a:lnTo>
                <a:lnTo>
                  <a:pt x="1134" y="814"/>
                </a:lnTo>
                <a:lnTo>
                  <a:pt x="1128" y="806"/>
                </a:lnTo>
                <a:lnTo>
                  <a:pt x="1124" y="800"/>
                </a:lnTo>
                <a:lnTo>
                  <a:pt x="1121" y="795"/>
                </a:lnTo>
                <a:lnTo>
                  <a:pt x="1119" y="789"/>
                </a:lnTo>
                <a:lnTo>
                  <a:pt x="1117" y="783"/>
                </a:lnTo>
                <a:lnTo>
                  <a:pt x="1115" y="779"/>
                </a:lnTo>
                <a:lnTo>
                  <a:pt x="1115" y="775"/>
                </a:lnTo>
                <a:lnTo>
                  <a:pt x="1117" y="772"/>
                </a:lnTo>
                <a:lnTo>
                  <a:pt x="1119" y="770"/>
                </a:lnTo>
                <a:lnTo>
                  <a:pt x="1119" y="766"/>
                </a:lnTo>
                <a:lnTo>
                  <a:pt x="1121" y="764"/>
                </a:lnTo>
                <a:lnTo>
                  <a:pt x="1121" y="762"/>
                </a:lnTo>
                <a:lnTo>
                  <a:pt x="1124" y="760"/>
                </a:lnTo>
                <a:lnTo>
                  <a:pt x="1126" y="758"/>
                </a:lnTo>
                <a:lnTo>
                  <a:pt x="1130" y="756"/>
                </a:lnTo>
                <a:lnTo>
                  <a:pt x="1134" y="754"/>
                </a:lnTo>
                <a:lnTo>
                  <a:pt x="1140" y="752"/>
                </a:lnTo>
                <a:lnTo>
                  <a:pt x="1146" y="750"/>
                </a:lnTo>
                <a:lnTo>
                  <a:pt x="1151" y="750"/>
                </a:lnTo>
                <a:lnTo>
                  <a:pt x="1159" y="750"/>
                </a:lnTo>
                <a:lnTo>
                  <a:pt x="1167" y="750"/>
                </a:lnTo>
                <a:lnTo>
                  <a:pt x="1176" y="750"/>
                </a:lnTo>
                <a:lnTo>
                  <a:pt x="1186" y="752"/>
                </a:lnTo>
                <a:lnTo>
                  <a:pt x="1195" y="754"/>
                </a:lnTo>
                <a:lnTo>
                  <a:pt x="1207" y="756"/>
                </a:lnTo>
                <a:lnTo>
                  <a:pt x="1226" y="760"/>
                </a:lnTo>
                <a:lnTo>
                  <a:pt x="1243" y="766"/>
                </a:lnTo>
                <a:lnTo>
                  <a:pt x="1261" y="770"/>
                </a:lnTo>
                <a:lnTo>
                  <a:pt x="1276" y="773"/>
                </a:lnTo>
                <a:lnTo>
                  <a:pt x="1291" y="777"/>
                </a:lnTo>
                <a:lnTo>
                  <a:pt x="1307" y="779"/>
                </a:lnTo>
                <a:lnTo>
                  <a:pt x="1320" y="781"/>
                </a:lnTo>
                <a:lnTo>
                  <a:pt x="1336" y="783"/>
                </a:lnTo>
                <a:lnTo>
                  <a:pt x="1341" y="781"/>
                </a:lnTo>
                <a:lnTo>
                  <a:pt x="1349" y="781"/>
                </a:lnTo>
                <a:lnTo>
                  <a:pt x="1355" y="777"/>
                </a:lnTo>
                <a:lnTo>
                  <a:pt x="1361" y="775"/>
                </a:lnTo>
                <a:lnTo>
                  <a:pt x="1366" y="770"/>
                </a:lnTo>
                <a:lnTo>
                  <a:pt x="1372" y="766"/>
                </a:lnTo>
                <a:lnTo>
                  <a:pt x="1378" y="760"/>
                </a:lnTo>
                <a:lnTo>
                  <a:pt x="1384" y="752"/>
                </a:lnTo>
                <a:lnTo>
                  <a:pt x="1387" y="745"/>
                </a:lnTo>
                <a:lnTo>
                  <a:pt x="1391" y="735"/>
                </a:lnTo>
                <a:lnTo>
                  <a:pt x="1395" y="725"/>
                </a:lnTo>
                <a:lnTo>
                  <a:pt x="1399" y="716"/>
                </a:lnTo>
                <a:lnTo>
                  <a:pt x="1403" y="702"/>
                </a:lnTo>
                <a:lnTo>
                  <a:pt x="1407" y="691"/>
                </a:lnTo>
                <a:lnTo>
                  <a:pt x="1409" y="677"/>
                </a:lnTo>
                <a:lnTo>
                  <a:pt x="1412" y="662"/>
                </a:lnTo>
                <a:lnTo>
                  <a:pt x="1416" y="631"/>
                </a:lnTo>
                <a:lnTo>
                  <a:pt x="1420" y="601"/>
                </a:lnTo>
                <a:lnTo>
                  <a:pt x="1426" y="568"/>
                </a:lnTo>
                <a:lnTo>
                  <a:pt x="1430" y="535"/>
                </a:lnTo>
                <a:lnTo>
                  <a:pt x="1435" y="501"/>
                </a:lnTo>
                <a:lnTo>
                  <a:pt x="1439" y="466"/>
                </a:lnTo>
                <a:lnTo>
                  <a:pt x="1449" y="397"/>
                </a:lnTo>
                <a:lnTo>
                  <a:pt x="1449" y="380"/>
                </a:lnTo>
                <a:lnTo>
                  <a:pt x="1449" y="365"/>
                </a:lnTo>
                <a:lnTo>
                  <a:pt x="1449" y="349"/>
                </a:lnTo>
                <a:lnTo>
                  <a:pt x="1449" y="336"/>
                </a:lnTo>
                <a:lnTo>
                  <a:pt x="1449" y="322"/>
                </a:lnTo>
                <a:lnTo>
                  <a:pt x="1449" y="309"/>
                </a:lnTo>
                <a:lnTo>
                  <a:pt x="1449" y="297"/>
                </a:lnTo>
                <a:lnTo>
                  <a:pt x="1447" y="286"/>
                </a:lnTo>
                <a:lnTo>
                  <a:pt x="1447" y="276"/>
                </a:lnTo>
                <a:lnTo>
                  <a:pt x="1447" y="267"/>
                </a:lnTo>
                <a:lnTo>
                  <a:pt x="1445" y="259"/>
                </a:lnTo>
                <a:lnTo>
                  <a:pt x="1445" y="251"/>
                </a:lnTo>
                <a:lnTo>
                  <a:pt x="1443" y="244"/>
                </a:lnTo>
                <a:lnTo>
                  <a:pt x="1441" y="236"/>
                </a:lnTo>
                <a:lnTo>
                  <a:pt x="1439" y="230"/>
                </a:lnTo>
                <a:lnTo>
                  <a:pt x="1437" y="226"/>
                </a:lnTo>
                <a:lnTo>
                  <a:pt x="1432" y="217"/>
                </a:lnTo>
                <a:lnTo>
                  <a:pt x="1426" y="207"/>
                </a:lnTo>
                <a:lnTo>
                  <a:pt x="1418" y="200"/>
                </a:lnTo>
                <a:lnTo>
                  <a:pt x="1409" y="194"/>
                </a:lnTo>
                <a:lnTo>
                  <a:pt x="1399" y="188"/>
                </a:lnTo>
                <a:lnTo>
                  <a:pt x="1387" y="182"/>
                </a:lnTo>
                <a:lnTo>
                  <a:pt x="1374" y="176"/>
                </a:lnTo>
                <a:lnTo>
                  <a:pt x="1361" y="173"/>
                </a:lnTo>
                <a:lnTo>
                  <a:pt x="1351" y="171"/>
                </a:lnTo>
                <a:lnTo>
                  <a:pt x="1341" y="169"/>
                </a:lnTo>
                <a:lnTo>
                  <a:pt x="1330" y="167"/>
                </a:lnTo>
                <a:lnTo>
                  <a:pt x="1320" y="167"/>
                </a:lnTo>
                <a:lnTo>
                  <a:pt x="1297" y="167"/>
                </a:lnTo>
                <a:lnTo>
                  <a:pt x="1272" y="169"/>
                </a:lnTo>
                <a:lnTo>
                  <a:pt x="1261" y="171"/>
                </a:lnTo>
                <a:lnTo>
                  <a:pt x="1247" y="173"/>
                </a:lnTo>
                <a:lnTo>
                  <a:pt x="1234" y="175"/>
                </a:lnTo>
                <a:lnTo>
                  <a:pt x="1218" y="176"/>
                </a:lnTo>
                <a:lnTo>
                  <a:pt x="1205" y="178"/>
                </a:lnTo>
                <a:lnTo>
                  <a:pt x="1190" y="180"/>
                </a:lnTo>
                <a:lnTo>
                  <a:pt x="1172" y="182"/>
                </a:lnTo>
                <a:lnTo>
                  <a:pt x="1157" y="186"/>
                </a:lnTo>
                <a:lnTo>
                  <a:pt x="1147" y="186"/>
                </a:lnTo>
                <a:lnTo>
                  <a:pt x="1138" y="188"/>
                </a:lnTo>
                <a:lnTo>
                  <a:pt x="1128" y="190"/>
                </a:lnTo>
                <a:lnTo>
                  <a:pt x="1119" y="192"/>
                </a:lnTo>
                <a:lnTo>
                  <a:pt x="1107" y="194"/>
                </a:lnTo>
                <a:lnTo>
                  <a:pt x="1096" y="196"/>
                </a:lnTo>
                <a:lnTo>
                  <a:pt x="1084" y="198"/>
                </a:lnTo>
                <a:lnTo>
                  <a:pt x="1071" y="200"/>
                </a:lnTo>
                <a:lnTo>
                  <a:pt x="1057" y="203"/>
                </a:lnTo>
                <a:lnTo>
                  <a:pt x="1044" y="205"/>
                </a:lnTo>
                <a:lnTo>
                  <a:pt x="1028" y="207"/>
                </a:lnTo>
                <a:lnTo>
                  <a:pt x="1013" y="211"/>
                </a:lnTo>
                <a:lnTo>
                  <a:pt x="998" y="213"/>
                </a:lnTo>
                <a:lnTo>
                  <a:pt x="980" y="217"/>
                </a:lnTo>
                <a:lnTo>
                  <a:pt x="965" y="219"/>
                </a:lnTo>
                <a:lnTo>
                  <a:pt x="946" y="223"/>
                </a:lnTo>
                <a:lnTo>
                  <a:pt x="929" y="224"/>
                </a:lnTo>
                <a:lnTo>
                  <a:pt x="909" y="228"/>
                </a:lnTo>
                <a:lnTo>
                  <a:pt x="890" y="232"/>
                </a:lnTo>
                <a:lnTo>
                  <a:pt x="871" y="234"/>
                </a:lnTo>
                <a:lnTo>
                  <a:pt x="850" y="238"/>
                </a:lnTo>
                <a:lnTo>
                  <a:pt x="829" y="242"/>
                </a:lnTo>
                <a:lnTo>
                  <a:pt x="808" y="246"/>
                </a:lnTo>
                <a:lnTo>
                  <a:pt x="785" y="249"/>
                </a:lnTo>
                <a:lnTo>
                  <a:pt x="762" y="251"/>
                </a:lnTo>
                <a:lnTo>
                  <a:pt x="739" y="255"/>
                </a:lnTo>
                <a:lnTo>
                  <a:pt x="714" y="259"/>
                </a:lnTo>
                <a:lnTo>
                  <a:pt x="689" y="263"/>
                </a:lnTo>
                <a:lnTo>
                  <a:pt x="664" y="267"/>
                </a:lnTo>
                <a:lnTo>
                  <a:pt x="637" y="271"/>
                </a:lnTo>
                <a:lnTo>
                  <a:pt x="612" y="274"/>
                </a:lnTo>
                <a:lnTo>
                  <a:pt x="585" y="278"/>
                </a:lnTo>
                <a:lnTo>
                  <a:pt x="556" y="284"/>
                </a:lnTo>
                <a:lnTo>
                  <a:pt x="529" y="288"/>
                </a:lnTo>
                <a:lnTo>
                  <a:pt x="504" y="294"/>
                </a:lnTo>
                <a:lnTo>
                  <a:pt x="480" y="297"/>
                </a:lnTo>
                <a:lnTo>
                  <a:pt x="453" y="301"/>
                </a:lnTo>
                <a:lnTo>
                  <a:pt x="430" y="305"/>
                </a:lnTo>
                <a:lnTo>
                  <a:pt x="405" y="309"/>
                </a:lnTo>
                <a:lnTo>
                  <a:pt x="382" y="313"/>
                </a:lnTo>
                <a:lnTo>
                  <a:pt x="359" y="317"/>
                </a:lnTo>
                <a:lnTo>
                  <a:pt x="337" y="320"/>
                </a:lnTo>
                <a:lnTo>
                  <a:pt x="314" y="324"/>
                </a:lnTo>
                <a:lnTo>
                  <a:pt x="293" y="328"/>
                </a:lnTo>
                <a:lnTo>
                  <a:pt x="272" y="330"/>
                </a:lnTo>
                <a:lnTo>
                  <a:pt x="253" y="334"/>
                </a:lnTo>
                <a:lnTo>
                  <a:pt x="234" y="336"/>
                </a:lnTo>
                <a:lnTo>
                  <a:pt x="215" y="338"/>
                </a:lnTo>
                <a:lnTo>
                  <a:pt x="197" y="342"/>
                </a:lnTo>
                <a:lnTo>
                  <a:pt x="180" y="343"/>
                </a:lnTo>
                <a:lnTo>
                  <a:pt x="163" y="345"/>
                </a:lnTo>
                <a:lnTo>
                  <a:pt x="146" y="347"/>
                </a:lnTo>
                <a:lnTo>
                  <a:pt x="130" y="349"/>
                </a:lnTo>
                <a:lnTo>
                  <a:pt x="115" y="351"/>
                </a:lnTo>
                <a:lnTo>
                  <a:pt x="99" y="351"/>
                </a:lnTo>
                <a:lnTo>
                  <a:pt x="86" y="353"/>
                </a:lnTo>
                <a:lnTo>
                  <a:pt x="73" y="355"/>
                </a:lnTo>
                <a:lnTo>
                  <a:pt x="61" y="355"/>
                </a:lnTo>
                <a:lnTo>
                  <a:pt x="50" y="357"/>
                </a:lnTo>
                <a:lnTo>
                  <a:pt x="38" y="357"/>
                </a:lnTo>
                <a:lnTo>
                  <a:pt x="27" y="357"/>
                </a:lnTo>
                <a:lnTo>
                  <a:pt x="17" y="357"/>
                </a:lnTo>
                <a:lnTo>
                  <a:pt x="7" y="357"/>
                </a:lnTo>
                <a:lnTo>
                  <a:pt x="0" y="359"/>
                </a:lnTo>
                <a:lnTo>
                  <a:pt x="0" y="319"/>
                </a:lnTo>
                <a:lnTo>
                  <a:pt x="0" y="278"/>
                </a:lnTo>
                <a:lnTo>
                  <a:pt x="5" y="278"/>
                </a:lnTo>
                <a:lnTo>
                  <a:pt x="13" y="278"/>
                </a:lnTo>
                <a:lnTo>
                  <a:pt x="21" y="276"/>
                </a:lnTo>
                <a:lnTo>
                  <a:pt x="30" y="276"/>
                </a:lnTo>
                <a:lnTo>
                  <a:pt x="42" y="276"/>
                </a:lnTo>
                <a:lnTo>
                  <a:pt x="53" y="274"/>
                </a:lnTo>
                <a:lnTo>
                  <a:pt x="67" y="272"/>
                </a:lnTo>
                <a:lnTo>
                  <a:pt x="80" y="271"/>
                </a:lnTo>
                <a:lnTo>
                  <a:pt x="94" y="269"/>
                </a:lnTo>
                <a:lnTo>
                  <a:pt x="111" y="267"/>
                </a:lnTo>
                <a:lnTo>
                  <a:pt x="128" y="265"/>
                </a:lnTo>
                <a:lnTo>
                  <a:pt x="146" y="263"/>
                </a:lnTo>
                <a:lnTo>
                  <a:pt x="165" y="259"/>
                </a:lnTo>
                <a:lnTo>
                  <a:pt x="184" y="255"/>
                </a:lnTo>
                <a:lnTo>
                  <a:pt x="205" y="253"/>
                </a:lnTo>
                <a:lnTo>
                  <a:pt x="228" y="249"/>
                </a:lnTo>
                <a:lnTo>
                  <a:pt x="251" y="246"/>
                </a:lnTo>
                <a:lnTo>
                  <a:pt x="276" y="242"/>
                </a:lnTo>
                <a:lnTo>
                  <a:pt x="301" y="238"/>
                </a:lnTo>
                <a:lnTo>
                  <a:pt x="326" y="232"/>
                </a:lnTo>
                <a:lnTo>
                  <a:pt x="355" y="228"/>
                </a:lnTo>
                <a:lnTo>
                  <a:pt x="382" y="223"/>
                </a:lnTo>
                <a:lnTo>
                  <a:pt x="412" y="217"/>
                </a:lnTo>
                <a:lnTo>
                  <a:pt x="443" y="213"/>
                </a:lnTo>
                <a:lnTo>
                  <a:pt x="474" y="207"/>
                </a:lnTo>
                <a:lnTo>
                  <a:pt x="506" y="200"/>
                </a:lnTo>
                <a:lnTo>
                  <a:pt x="541" y="194"/>
                </a:lnTo>
                <a:lnTo>
                  <a:pt x="575" y="188"/>
                </a:lnTo>
                <a:lnTo>
                  <a:pt x="610" y="180"/>
                </a:lnTo>
                <a:lnTo>
                  <a:pt x="646" y="175"/>
                </a:lnTo>
                <a:lnTo>
                  <a:pt x="685" y="167"/>
                </a:lnTo>
                <a:lnTo>
                  <a:pt x="723" y="159"/>
                </a:lnTo>
                <a:lnTo>
                  <a:pt x="762" y="153"/>
                </a:lnTo>
                <a:lnTo>
                  <a:pt x="798" y="148"/>
                </a:lnTo>
                <a:lnTo>
                  <a:pt x="833" y="140"/>
                </a:lnTo>
                <a:lnTo>
                  <a:pt x="867" y="134"/>
                </a:lnTo>
                <a:lnTo>
                  <a:pt x="900" y="128"/>
                </a:lnTo>
                <a:lnTo>
                  <a:pt x="932" y="123"/>
                </a:lnTo>
                <a:lnTo>
                  <a:pt x="963" y="117"/>
                </a:lnTo>
                <a:lnTo>
                  <a:pt x="994" y="111"/>
                </a:lnTo>
                <a:lnTo>
                  <a:pt x="1023" y="107"/>
                </a:lnTo>
                <a:lnTo>
                  <a:pt x="1050" y="102"/>
                </a:lnTo>
                <a:lnTo>
                  <a:pt x="1076" y="96"/>
                </a:lnTo>
                <a:lnTo>
                  <a:pt x="1101" y="92"/>
                </a:lnTo>
                <a:lnTo>
                  <a:pt x="1124" y="86"/>
                </a:lnTo>
                <a:lnTo>
                  <a:pt x="1147" y="82"/>
                </a:lnTo>
                <a:lnTo>
                  <a:pt x="1169" y="77"/>
                </a:lnTo>
                <a:lnTo>
                  <a:pt x="1190" y="73"/>
                </a:lnTo>
                <a:lnTo>
                  <a:pt x="1209" y="69"/>
                </a:lnTo>
                <a:lnTo>
                  <a:pt x="1228" y="65"/>
                </a:lnTo>
                <a:lnTo>
                  <a:pt x="1245" y="61"/>
                </a:lnTo>
                <a:lnTo>
                  <a:pt x="1261" y="57"/>
                </a:lnTo>
                <a:lnTo>
                  <a:pt x="1276" y="54"/>
                </a:lnTo>
                <a:lnTo>
                  <a:pt x="1290" y="50"/>
                </a:lnTo>
                <a:lnTo>
                  <a:pt x="1301" y="46"/>
                </a:lnTo>
                <a:lnTo>
                  <a:pt x="1313" y="44"/>
                </a:lnTo>
                <a:lnTo>
                  <a:pt x="1322" y="40"/>
                </a:lnTo>
                <a:lnTo>
                  <a:pt x="1332" y="38"/>
                </a:lnTo>
                <a:lnTo>
                  <a:pt x="1339" y="36"/>
                </a:lnTo>
                <a:lnTo>
                  <a:pt x="1347" y="34"/>
                </a:lnTo>
                <a:lnTo>
                  <a:pt x="1351" y="33"/>
                </a:lnTo>
                <a:lnTo>
                  <a:pt x="1357" y="31"/>
                </a:lnTo>
                <a:lnTo>
                  <a:pt x="1359" y="29"/>
                </a:lnTo>
                <a:lnTo>
                  <a:pt x="1361" y="27"/>
                </a:lnTo>
                <a:lnTo>
                  <a:pt x="1366" y="21"/>
                </a:lnTo>
                <a:lnTo>
                  <a:pt x="1372" y="17"/>
                </a:lnTo>
                <a:lnTo>
                  <a:pt x="1380" y="13"/>
                </a:lnTo>
                <a:lnTo>
                  <a:pt x="1389" y="8"/>
                </a:lnTo>
                <a:lnTo>
                  <a:pt x="1399" y="6"/>
                </a:lnTo>
                <a:lnTo>
                  <a:pt x="1410" y="2"/>
                </a:lnTo>
                <a:lnTo>
                  <a:pt x="1424" y="0"/>
                </a:lnTo>
                <a:lnTo>
                  <a:pt x="1437" y="0"/>
                </a:lnTo>
                <a:lnTo>
                  <a:pt x="1445" y="0"/>
                </a:lnTo>
                <a:lnTo>
                  <a:pt x="1453" y="2"/>
                </a:lnTo>
                <a:lnTo>
                  <a:pt x="1460" y="2"/>
                </a:lnTo>
                <a:lnTo>
                  <a:pt x="1468" y="4"/>
                </a:lnTo>
                <a:lnTo>
                  <a:pt x="1478" y="8"/>
                </a:lnTo>
                <a:lnTo>
                  <a:pt x="1487" y="9"/>
                </a:lnTo>
                <a:lnTo>
                  <a:pt x="1497" y="13"/>
                </a:lnTo>
                <a:lnTo>
                  <a:pt x="1506" y="17"/>
                </a:lnTo>
                <a:lnTo>
                  <a:pt x="1518" y="23"/>
                </a:lnTo>
                <a:lnTo>
                  <a:pt x="1529" y="27"/>
                </a:lnTo>
                <a:lnTo>
                  <a:pt x="1541" y="33"/>
                </a:lnTo>
                <a:lnTo>
                  <a:pt x="1554" y="38"/>
                </a:lnTo>
                <a:lnTo>
                  <a:pt x="1568" y="46"/>
                </a:lnTo>
                <a:lnTo>
                  <a:pt x="1583" y="52"/>
                </a:lnTo>
                <a:lnTo>
                  <a:pt x="1599" y="59"/>
                </a:lnTo>
                <a:lnTo>
                  <a:pt x="1616" y="67"/>
                </a:lnTo>
                <a:lnTo>
                  <a:pt x="1629" y="77"/>
                </a:lnTo>
                <a:lnTo>
                  <a:pt x="1641" y="86"/>
                </a:lnTo>
                <a:lnTo>
                  <a:pt x="1654" y="96"/>
                </a:lnTo>
                <a:lnTo>
                  <a:pt x="1666" y="104"/>
                </a:lnTo>
                <a:lnTo>
                  <a:pt x="1675" y="113"/>
                </a:lnTo>
                <a:lnTo>
                  <a:pt x="1685" y="121"/>
                </a:lnTo>
                <a:lnTo>
                  <a:pt x="1693" y="128"/>
                </a:lnTo>
                <a:lnTo>
                  <a:pt x="1700" y="136"/>
                </a:lnTo>
                <a:lnTo>
                  <a:pt x="1708" y="144"/>
                </a:lnTo>
                <a:lnTo>
                  <a:pt x="1714" y="150"/>
                </a:lnTo>
                <a:lnTo>
                  <a:pt x="1718" y="157"/>
                </a:lnTo>
                <a:lnTo>
                  <a:pt x="1721" y="163"/>
                </a:lnTo>
                <a:lnTo>
                  <a:pt x="1725" y="169"/>
                </a:lnTo>
                <a:lnTo>
                  <a:pt x="1727" y="175"/>
                </a:lnTo>
                <a:lnTo>
                  <a:pt x="1729" y="180"/>
                </a:lnTo>
                <a:lnTo>
                  <a:pt x="1729" y="186"/>
                </a:lnTo>
                <a:lnTo>
                  <a:pt x="1729" y="194"/>
                </a:lnTo>
                <a:lnTo>
                  <a:pt x="1729" y="200"/>
                </a:lnTo>
                <a:lnTo>
                  <a:pt x="1729" y="205"/>
                </a:lnTo>
                <a:lnTo>
                  <a:pt x="1727" y="211"/>
                </a:lnTo>
                <a:lnTo>
                  <a:pt x="1725" y="221"/>
                </a:lnTo>
                <a:lnTo>
                  <a:pt x="1721" y="228"/>
                </a:lnTo>
                <a:lnTo>
                  <a:pt x="1718" y="236"/>
                </a:lnTo>
                <a:lnTo>
                  <a:pt x="1714" y="242"/>
                </a:lnTo>
                <a:lnTo>
                  <a:pt x="1708" y="247"/>
                </a:lnTo>
                <a:lnTo>
                  <a:pt x="1704" y="251"/>
                </a:lnTo>
                <a:lnTo>
                  <a:pt x="1700" y="255"/>
                </a:lnTo>
                <a:lnTo>
                  <a:pt x="1694" y="259"/>
                </a:lnTo>
                <a:lnTo>
                  <a:pt x="1691" y="265"/>
                </a:lnTo>
                <a:lnTo>
                  <a:pt x="1687" y="272"/>
                </a:lnTo>
                <a:lnTo>
                  <a:pt x="1683" y="280"/>
                </a:lnTo>
                <a:lnTo>
                  <a:pt x="1681" y="290"/>
                </a:lnTo>
                <a:lnTo>
                  <a:pt x="1677" y="299"/>
                </a:lnTo>
                <a:lnTo>
                  <a:pt x="1673" y="311"/>
                </a:lnTo>
                <a:lnTo>
                  <a:pt x="1671" y="324"/>
                </a:lnTo>
                <a:lnTo>
                  <a:pt x="1668" y="340"/>
                </a:lnTo>
                <a:lnTo>
                  <a:pt x="1666" y="355"/>
                </a:lnTo>
                <a:lnTo>
                  <a:pt x="1664" y="370"/>
                </a:lnTo>
                <a:lnTo>
                  <a:pt x="1660" y="390"/>
                </a:lnTo>
                <a:lnTo>
                  <a:pt x="1658" y="409"/>
                </a:lnTo>
                <a:lnTo>
                  <a:pt x="1656" y="428"/>
                </a:lnTo>
                <a:lnTo>
                  <a:pt x="1654" y="451"/>
                </a:lnTo>
                <a:lnTo>
                  <a:pt x="1648" y="499"/>
                </a:lnTo>
                <a:lnTo>
                  <a:pt x="1643" y="547"/>
                </a:lnTo>
                <a:lnTo>
                  <a:pt x="1637" y="595"/>
                </a:lnTo>
                <a:lnTo>
                  <a:pt x="1631" y="641"/>
                </a:lnTo>
                <a:lnTo>
                  <a:pt x="1623" y="687"/>
                </a:lnTo>
                <a:lnTo>
                  <a:pt x="1614" y="733"/>
                </a:lnTo>
                <a:lnTo>
                  <a:pt x="1608" y="754"/>
                </a:lnTo>
                <a:lnTo>
                  <a:pt x="1602" y="777"/>
                </a:lnTo>
                <a:lnTo>
                  <a:pt x="1597" y="800"/>
                </a:lnTo>
                <a:lnTo>
                  <a:pt x="1589" y="82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Freeform 187"/>
          <p:cNvSpPr/>
          <p:nvPr/>
        </p:nvSpPr>
        <p:spPr>
          <a:xfrm>
            <a:off x="6970680" y="4272120"/>
            <a:ext cx="141480" cy="630000"/>
          </a:xfrm>
          <a:custGeom>
            <a:avLst/>
            <a:gdLst/>
            <a:ahLst/>
            <a:rect l="l" t="t" r="r" b="b"/>
            <a:pathLst>
              <a:path w="179" h="795">
                <a:moveTo>
                  <a:pt x="25" y="676"/>
                </a:moveTo>
                <a:lnTo>
                  <a:pt x="25" y="645"/>
                </a:lnTo>
                <a:lnTo>
                  <a:pt x="25" y="614"/>
                </a:lnTo>
                <a:lnTo>
                  <a:pt x="25" y="580"/>
                </a:lnTo>
                <a:lnTo>
                  <a:pt x="25" y="545"/>
                </a:lnTo>
                <a:lnTo>
                  <a:pt x="25" y="526"/>
                </a:lnTo>
                <a:lnTo>
                  <a:pt x="25" y="509"/>
                </a:lnTo>
                <a:lnTo>
                  <a:pt x="25" y="490"/>
                </a:lnTo>
                <a:lnTo>
                  <a:pt x="25" y="469"/>
                </a:lnTo>
                <a:lnTo>
                  <a:pt x="25" y="449"/>
                </a:lnTo>
                <a:lnTo>
                  <a:pt x="25" y="428"/>
                </a:lnTo>
                <a:lnTo>
                  <a:pt x="25" y="407"/>
                </a:lnTo>
                <a:lnTo>
                  <a:pt x="25" y="384"/>
                </a:lnTo>
                <a:lnTo>
                  <a:pt x="22" y="340"/>
                </a:lnTo>
                <a:lnTo>
                  <a:pt x="18" y="294"/>
                </a:lnTo>
                <a:lnTo>
                  <a:pt x="16" y="250"/>
                </a:lnTo>
                <a:lnTo>
                  <a:pt x="12" y="202"/>
                </a:lnTo>
                <a:lnTo>
                  <a:pt x="10" y="154"/>
                </a:lnTo>
                <a:lnTo>
                  <a:pt x="8" y="106"/>
                </a:lnTo>
                <a:lnTo>
                  <a:pt x="6" y="79"/>
                </a:lnTo>
                <a:lnTo>
                  <a:pt x="4" y="54"/>
                </a:lnTo>
                <a:lnTo>
                  <a:pt x="2" y="27"/>
                </a:lnTo>
                <a:lnTo>
                  <a:pt x="0" y="0"/>
                </a:lnTo>
                <a:lnTo>
                  <a:pt x="12" y="8"/>
                </a:lnTo>
                <a:lnTo>
                  <a:pt x="25" y="16"/>
                </a:lnTo>
                <a:lnTo>
                  <a:pt x="37" y="21"/>
                </a:lnTo>
                <a:lnTo>
                  <a:pt x="48" y="29"/>
                </a:lnTo>
                <a:lnTo>
                  <a:pt x="58" y="37"/>
                </a:lnTo>
                <a:lnTo>
                  <a:pt x="70" y="42"/>
                </a:lnTo>
                <a:lnTo>
                  <a:pt x="79" y="48"/>
                </a:lnTo>
                <a:lnTo>
                  <a:pt x="89" y="56"/>
                </a:lnTo>
                <a:lnTo>
                  <a:pt x="106" y="67"/>
                </a:lnTo>
                <a:lnTo>
                  <a:pt x="121" y="79"/>
                </a:lnTo>
                <a:lnTo>
                  <a:pt x="135" y="90"/>
                </a:lnTo>
                <a:lnTo>
                  <a:pt x="146" y="100"/>
                </a:lnTo>
                <a:lnTo>
                  <a:pt x="156" y="110"/>
                </a:lnTo>
                <a:lnTo>
                  <a:pt x="164" y="119"/>
                </a:lnTo>
                <a:lnTo>
                  <a:pt x="169" y="127"/>
                </a:lnTo>
                <a:lnTo>
                  <a:pt x="175" y="135"/>
                </a:lnTo>
                <a:lnTo>
                  <a:pt x="179" y="142"/>
                </a:lnTo>
                <a:lnTo>
                  <a:pt x="179" y="148"/>
                </a:lnTo>
                <a:lnTo>
                  <a:pt x="179" y="154"/>
                </a:lnTo>
                <a:lnTo>
                  <a:pt x="179" y="160"/>
                </a:lnTo>
                <a:lnTo>
                  <a:pt x="175" y="167"/>
                </a:lnTo>
                <a:lnTo>
                  <a:pt x="173" y="177"/>
                </a:lnTo>
                <a:lnTo>
                  <a:pt x="171" y="186"/>
                </a:lnTo>
                <a:lnTo>
                  <a:pt x="169" y="196"/>
                </a:lnTo>
                <a:lnTo>
                  <a:pt x="167" y="207"/>
                </a:lnTo>
                <a:lnTo>
                  <a:pt x="164" y="221"/>
                </a:lnTo>
                <a:lnTo>
                  <a:pt x="162" y="234"/>
                </a:lnTo>
                <a:lnTo>
                  <a:pt x="160" y="248"/>
                </a:lnTo>
                <a:lnTo>
                  <a:pt x="160" y="263"/>
                </a:lnTo>
                <a:lnTo>
                  <a:pt x="158" y="280"/>
                </a:lnTo>
                <a:lnTo>
                  <a:pt x="156" y="298"/>
                </a:lnTo>
                <a:lnTo>
                  <a:pt x="154" y="315"/>
                </a:lnTo>
                <a:lnTo>
                  <a:pt x="154" y="334"/>
                </a:lnTo>
                <a:lnTo>
                  <a:pt x="154" y="355"/>
                </a:lnTo>
                <a:lnTo>
                  <a:pt x="152" y="376"/>
                </a:lnTo>
                <a:lnTo>
                  <a:pt x="152" y="398"/>
                </a:lnTo>
                <a:lnTo>
                  <a:pt x="152" y="422"/>
                </a:lnTo>
                <a:lnTo>
                  <a:pt x="152" y="446"/>
                </a:lnTo>
                <a:lnTo>
                  <a:pt x="152" y="469"/>
                </a:lnTo>
                <a:lnTo>
                  <a:pt x="152" y="490"/>
                </a:lnTo>
                <a:lnTo>
                  <a:pt x="152" y="511"/>
                </a:lnTo>
                <a:lnTo>
                  <a:pt x="152" y="530"/>
                </a:lnTo>
                <a:lnTo>
                  <a:pt x="152" y="549"/>
                </a:lnTo>
                <a:lnTo>
                  <a:pt x="150" y="568"/>
                </a:lnTo>
                <a:lnTo>
                  <a:pt x="150" y="586"/>
                </a:lnTo>
                <a:lnTo>
                  <a:pt x="150" y="603"/>
                </a:lnTo>
                <a:lnTo>
                  <a:pt x="148" y="618"/>
                </a:lnTo>
                <a:lnTo>
                  <a:pt x="148" y="634"/>
                </a:lnTo>
                <a:lnTo>
                  <a:pt x="146" y="649"/>
                </a:lnTo>
                <a:lnTo>
                  <a:pt x="144" y="662"/>
                </a:lnTo>
                <a:lnTo>
                  <a:pt x="143" y="676"/>
                </a:lnTo>
                <a:lnTo>
                  <a:pt x="141" y="689"/>
                </a:lnTo>
                <a:lnTo>
                  <a:pt x="137" y="701"/>
                </a:lnTo>
                <a:lnTo>
                  <a:pt x="135" y="712"/>
                </a:lnTo>
                <a:lnTo>
                  <a:pt x="131" y="724"/>
                </a:lnTo>
                <a:lnTo>
                  <a:pt x="129" y="733"/>
                </a:lnTo>
                <a:lnTo>
                  <a:pt x="125" y="743"/>
                </a:lnTo>
                <a:lnTo>
                  <a:pt x="121" y="753"/>
                </a:lnTo>
                <a:lnTo>
                  <a:pt x="118" y="760"/>
                </a:lnTo>
                <a:lnTo>
                  <a:pt x="114" y="768"/>
                </a:lnTo>
                <a:lnTo>
                  <a:pt x="108" y="774"/>
                </a:lnTo>
                <a:lnTo>
                  <a:pt x="104" y="780"/>
                </a:lnTo>
                <a:lnTo>
                  <a:pt x="100" y="783"/>
                </a:lnTo>
                <a:lnTo>
                  <a:pt x="95" y="787"/>
                </a:lnTo>
                <a:lnTo>
                  <a:pt x="91" y="791"/>
                </a:lnTo>
                <a:lnTo>
                  <a:pt x="85" y="793"/>
                </a:lnTo>
                <a:lnTo>
                  <a:pt x="81" y="795"/>
                </a:lnTo>
                <a:lnTo>
                  <a:pt x="77" y="795"/>
                </a:lnTo>
                <a:lnTo>
                  <a:pt x="72" y="795"/>
                </a:lnTo>
                <a:lnTo>
                  <a:pt x="68" y="793"/>
                </a:lnTo>
                <a:lnTo>
                  <a:pt x="64" y="791"/>
                </a:lnTo>
                <a:lnTo>
                  <a:pt x="60" y="787"/>
                </a:lnTo>
                <a:lnTo>
                  <a:pt x="56" y="783"/>
                </a:lnTo>
                <a:lnTo>
                  <a:pt x="52" y="780"/>
                </a:lnTo>
                <a:lnTo>
                  <a:pt x="48" y="772"/>
                </a:lnTo>
                <a:lnTo>
                  <a:pt x="47" y="766"/>
                </a:lnTo>
                <a:lnTo>
                  <a:pt x="43" y="758"/>
                </a:lnTo>
                <a:lnTo>
                  <a:pt x="41" y="749"/>
                </a:lnTo>
                <a:lnTo>
                  <a:pt x="37" y="739"/>
                </a:lnTo>
                <a:lnTo>
                  <a:pt x="35" y="728"/>
                </a:lnTo>
                <a:lnTo>
                  <a:pt x="33" y="716"/>
                </a:lnTo>
                <a:lnTo>
                  <a:pt x="29" y="705"/>
                </a:lnTo>
                <a:lnTo>
                  <a:pt x="27" y="691"/>
                </a:lnTo>
                <a:lnTo>
                  <a:pt x="25" y="67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Freeform 188"/>
          <p:cNvSpPr/>
          <p:nvPr/>
        </p:nvSpPr>
        <p:spPr>
          <a:xfrm>
            <a:off x="6647040" y="4335480"/>
            <a:ext cx="101520" cy="504720"/>
          </a:xfrm>
          <a:custGeom>
            <a:avLst/>
            <a:gdLst/>
            <a:ahLst/>
            <a:rect l="l" t="t" r="r" b="b"/>
            <a:pathLst>
              <a:path w="126" h="635">
                <a:moveTo>
                  <a:pt x="101" y="503"/>
                </a:moveTo>
                <a:lnTo>
                  <a:pt x="97" y="518"/>
                </a:lnTo>
                <a:lnTo>
                  <a:pt x="96" y="535"/>
                </a:lnTo>
                <a:lnTo>
                  <a:pt x="92" y="549"/>
                </a:lnTo>
                <a:lnTo>
                  <a:pt x="88" y="562"/>
                </a:lnTo>
                <a:lnTo>
                  <a:pt x="86" y="574"/>
                </a:lnTo>
                <a:lnTo>
                  <a:pt x="82" y="585"/>
                </a:lnTo>
                <a:lnTo>
                  <a:pt x="78" y="595"/>
                </a:lnTo>
                <a:lnTo>
                  <a:pt x="74" y="603"/>
                </a:lnTo>
                <a:lnTo>
                  <a:pt x="69" y="610"/>
                </a:lnTo>
                <a:lnTo>
                  <a:pt x="65" y="618"/>
                </a:lnTo>
                <a:lnTo>
                  <a:pt x="61" y="622"/>
                </a:lnTo>
                <a:lnTo>
                  <a:pt x="55" y="627"/>
                </a:lnTo>
                <a:lnTo>
                  <a:pt x="51" y="631"/>
                </a:lnTo>
                <a:lnTo>
                  <a:pt x="46" y="633"/>
                </a:lnTo>
                <a:lnTo>
                  <a:pt x="42" y="635"/>
                </a:lnTo>
                <a:lnTo>
                  <a:pt x="38" y="635"/>
                </a:lnTo>
                <a:lnTo>
                  <a:pt x="34" y="633"/>
                </a:lnTo>
                <a:lnTo>
                  <a:pt x="32" y="633"/>
                </a:lnTo>
                <a:lnTo>
                  <a:pt x="30" y="629"/>
                </a:lnTo>
                <a:lnTo>
                  <a:pt x="28" y="626"/>
                </a:lnTo>
                <a:lnTo>
                  <a:pt x="26" y="620"/>
                </a:lnTo>
                <a:lnTo>
                  <a:pt x="25" y="614"/>
                </a:lnTo>
                <a:lnTo>
                  <a:pt x="23" y="606"/>
                </a:lnTo>
                <a:lnTo>
                  <a:pt x="21" y="597"/>
                </a:lnTo>
                <a:lnTo>
                  <a:pt x="19" y="587"/>
                </a:lnTo>
                <a:lnTo>
                  <a:pt x="17" y="576"/>
                </a:lnTo>
                <a:lnTo>
                  <a:pt x="15" y="564"/>
                </a:lnTo>
                <a:lnTo>
                  <a:pt x="13" y="551"/>
                </a:lnTo>
                <a:lnTo>
                  <a:pt x="13" y="537"/>
                </a:lnTo>
                <a:lnTo>
                  <a:pt x="11" y="520"/>
                </a:lnTo>
                <a:lnTo>
                  <a:pt x="9" y="505"/>
                </a:lnTo>
                <a:lnTo>
                  <a:pt x="9" y="485"/>
                </a:lnTo>
                <a:lnTo>
                  <a:pt x="7" y="466"/>
                </a:lnTo>
                <a:lnTo>
                  <a:pt x="5" y="445"/>
                </a:lnTo>
                <a:lnTo>
                  <a:pt x="5" y="424"/>
                </a:lnTo>
                <a:lnTo>
                  <a:pt x="3" y="401"/>
                </a:lnTo>
                <a:lnTo>
                  <a:pt x="3" y="378"/>
                </a:lnTo>
                <a:lnTo>
                  <a:pt x="1" y="353"/>
                </a:lnTo>
                <a:lnTo>
                  <a:pt x="1" y="326"/>
                </a:lnTo>
                <a:lnTo>
                  <a:pt x="1" y="299"/>
                </a:lnTo>
                <a:lnTo>
                  <a:pt x="0" y="270"/>
                </a:lnTo>
                <a:lnTo>
                  <a:pt x="0" y="242"/>
                </a:lnTo>
                <a:lnTo>
                  <a:pt x="0" y="211"/>
                </a:lnTo>
                <a:lnTo>
                  <a:pt x="0" y="178"/>
                </a:lnTo>
                <a:lnTo>
                  <a:pt x="0" y="146"/>
                </a:lnTo>
                <a:lnTo>
                  <a:pt x="0" y="111"/>
                </a:lnTo>
                <a:lnTo>
                  <a:pt x="0" y="75"/>
                </a:lnTo>
                <a:lnTo>
                  <a:pt x="0" y="38"/>
                </a:lnTo>
                <a:lnTo>
                  <a:pt x="63" y="19"/>
                </a:lnTo>
                <a:lnTo>
                  <a:pt x="126" y="0"/>
                </a:lnTo>
                <a:lnTo>
                  <a:pt x="126" y="42"/>
                </a:lnTo>
                <a:lnTo>
                  <a:pt x="126" y="84"/>
                </a:lnTo>
                <a:lnTo>
                  <a:pt x="124" y="126"/>
                </a:lnTo>
                <a:lnTo>
                  <a:pt x="124" y="165"/>
                </a:lnTo>
                <a:lnTo>
                  <a:pt x="122" y="203"/>
                </a:lnTo>
                <a:lnTo>
                  <a:pt x="120" y="238"/>
                </a:lnTo>
                <a:lnTo>
                  <a:pt x="120" y="272"/>
                </a:lnTo>
                <a:lnTo>
                  <a:pt x="119" y="305"/>
                </a:lnTo>
                <a:lnTo>
                  <a:pt x="117" y="336"/>
                </a:lnTo>
                <a:lnTo>
                  <a:pt x="115" y="365"/>
                </a:lnTo>
                <a:lnTo>
                  <a:pt x="113" y="393"/>
                </a:lnTo>
                <a:lnTo>
                  <a:pt x="109" y="418"/>
                </a:lnTo>
                <a:lnTo>
                  <a:pt x="107" y="441"/>
                </a:lnTo>
                <a:lnTo>
                  <a:pt x="105" y="464"/>
                </a:lnTo>
                <a:lnTo>
                  <a:pt x="103" y="484"/>
                </a:lnTo>
                <a:lnTo>
                  <a:pt x="101" y="50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Freeform 189"/>
          <p:cNvSpPr/>
          <p:nvPr/>
        </p:nvSpPr>
        <p:spPr>
          <a:xfrm>
            <a:off x="6281640" y="4367160"/>
            <a:ext cx="123840" cy="557280"/>
          </a:xfrm>
          <a:custGeom>
            <a:avLst/>
            <a:gdLst/>
            <a:ahLst/>
            <a:rect l="l" t="t" r="r" b="b"/>
            <a:pathLst>
              <a:path w="155" h="703">
                <a:moveTo>
                  <a:pt x="104" y="703"/>
                </a:moveTo>
                <a:lnTo>
                  <a:pt x="102" y="703"/>
                </a:lnTo>
                <a:lnTo>
                  <a:pt x="98" y="701"/>
                </a:lnTo>
                <a:lnTo>
                  <a:pt x="96" y="701"/>
                </a:lnTo>
                <a:lnTo>
                  <a:pt x="92" y="699"/>
                </a:lnTo>
                <a:lnTo>
                  <a:pt x="88" y="695"/>
                </a:lnTo>
                <a:lnTo>
                  <a:pt x="84" y="693"/>
                </a:lnTo>
                <a:lnTo>
                  <a:pt x="82" y="689"/>
                </a:lnTo>
                <a:lnTo>
                  <a:pt x="79" y="685"/>
                </a:lnTo>
                <a:lnTo>
                  <a:pt x="71" y="676"/>
                </a:lnTo>
                <a:lnTo>
                  <a:pt x="63" y="664"/>
                </a:lnTo>
                <a:lnTo>
                  <a:pt x="57" y="651"/>
                </a:lnTo>
                <a:lnTo>
                  <a:pt x="54" y="637"/>
                </a:lnTo>
                <a:lnTo>
                  <a:pt x="48" y="628"/>
                </a:lnTo>
                <a:lnTo>
                  <a:pt x="44" y="620"/>
                </a:lnTo>
                <a:lnTo>
                  <a:pt x="40" y="611"/>
                </a:lnTo>
                <a:lnTo>
                  <a:pt x="36" y="603"/>
                </a:lnTo>
                <a:lnTo>
                  <a:pt x="29" y="582"/>
                </a:lnTo>
                <a:lnTo>
                  <a:pt x="25" y="561"/>
                </a:lnTo>
                <a:lnTo>
                  <a:pt x="19" y="538"/>
                </a:lnTo>
                <a:lnTo>
                  <a:pt x="17" y="513"/>
                </a:lnTo>
                <a:lnTo>
                  <a:pt x="15" y="490"/>
                </a:lnTo>
                <a:lnTo>
                  <a:pt x="15" y="465"/>
                </a:lnTo>
                <a:lnTo>
                  <a:pt x="15" y="451"/>
                </a:lnTo>
                <a:lnTo>
                  <a:pt x="13" y="438"/>
                </a:lnTo>
                <a:lnTo>
                  <a:pt x="13" y="422"/>
                </a:lnTo>
                <a:lnTo>
                  <a:pt x="13" y="407"/>
                </a:lnTo>
                <a:lnTo>
                  <a:pt x="13" y="392"/>
                </a:lnTo>
                <a:lnTo>
                  <a:pt x="13" y="375"/>
                </a:lnTo>
                <a:lnTo>
                  <a:pt x="13" y="357"/>
                </a:lnTo>
                <a:lnTo>
                  <a:pt x="13" y="338"/>
                </a:lnTo>
                <a:lnTo>
                  <a:pt x="11" y="319"/>
                </a:lnTo>
                <a:lnTo>
                  <a:pt x="11" y="300"/>
                </a:lnTo>
                <a:lnTo>
                  <a:pt x="10" y="280"/>
                </a:lnTo>
                <a:lnTo>
                  <a:pt x="10" y="259"/>
                </a:lnTo>
                <a:lnTo>
                  <a:pt x="6" y="217"/>
                </a:lnTo>
                <a:lnTo>
                  <a:pt x="2" y="173"/>
                </a:lnTo>
                <a:lnTo>
                  <a:pt x="0" y="152"/>
                </a:lnTo>
                <a:lnTo>
                  <a:pt x="0" y="131"/>
                </a:lnTo>
                <a:lnTo>
                  <a:pt x="2" y="112"/>
                </a:lnTo>
                <a:lnTo>
                  <a:pt x="4" y="96"/>
                </a:lnTo>
                <a:lnTo>
                  <a:pt x="8" y="79"/>
                </a:lnTo>
                <a:lnTo>
                  <a:pt x="13" y="65"/>
                </a:lnTo>
                <a:lnTo>
                  <a:pt x="21" y="54"/>
                </a:lnTo>
                <a:lnTo>
                  <a:pt x="31" y="42"/>
                </a:lnTo>
                <a:lnTo>
                  <a:pt x="40" y="31"/>
                </a:lnTo>
                <a:lnTo>
                  <a:pt x="52" y="23"/>
                </a:lnTo>
                <a:lnTo>
                  <a:pt x="65" y="16"/>
                </a:lnTo>
                <a:lnTo>
                  <a:pt x="81" y="10"/>
                </a:lnTo>
                <a:lnTo>
                  <a:pt x="96" y="6"/>
                </a:lnTo>
                <a:lnTo>
                  <a:pt x="115" y="2"/>
                </a:lnTo>
                <a:lnTo>
                  <a:pt x="134" y="0"/>
                </a:lnTo>
                <a:lnTo>
                  <a:pt x="155" y="0"/>
                </a:lnTo>
                <a:lnTo>
                  <a:pt x="155" y="37"/>
                </a:lnTo>
                <a:lnTo>
                  <a:pt x="155" y="73"/>
                </a:lnTo>
                <a:lnTo>
                  <a:pt x="155" y="108"/>
                </a:lnTo>
                <a:lnTo>
                  <a:pt x="153" y="140"/>
                </a:lnTo>
                <a:lnTo>
                  <a:pt x="153" y="173"/>
                </a:lnTo>
                <a:lnTo>
                  <a:pt x="153" y="204"/>
                </a:lnTo>
                <a:lnTo>
                  <a:pt x="153" y="234"/>
                </a:lnTo>
                <a:lnTo>
                  <a:pt x="153" y="263"/>
                </a:lnTo>
                <a:lnTo>
                  <a:pt x="153" y="292"/>
                </a:lnTo>
                <a:lnTo>
                  <a:pt x="153" y="319"/>
                </a:lnTo>
                <a:lnTo>
                  <a:pt x="153" y="346"/>
                </a:lnTo>
                <a:lnTo>
                  <a:pt x="153" y="371"/>
                </a:lnTo>
                <a:lnTo>
                  <a:pt x="153" y="394"/>
                </a:lnTo>
                <a:lnTo>
                  <a:pt x="153" y="417"/>
                </a:lnTo>
                <a:lnTo>
                  <a:pt x="153" y="438"/>
                </a:lnTo>
                <a:lnTo>
                  <a:pt x="153" y="459"/>
                </a:lnTo>
                <a:lnTo>
                  <a:pt x="152" y="478"/>
                </a:lnTo>
                <a:lnTo>
                  <a:pt x="152" y="497"/>
                </a:lnTo>
                <a:lnTo>
                  <a:pt x="152" y="515"/>
                </a:lnTo>
                <a:lnTo>
                  <a:pt x="152" y="532"/>
                </a:lnTo>
                <a:lnTo>
                  <a:pt x="152" y="547"/>
                </a:lnTo>
                <a:lnTo>
                  <a:pt x="150" y="563"/>
                </a:lnTo>
                <a:lnTo>
                  <a:pt x="150" y="576"/>
                </a:lnTo>
                <a:lnTo>
                  <a:pt x="150" y="588"/>
                </a:lnTo>
                <a:lnTo>
                  <a:pt x="148" y="599"/>
                </a:lnTo>
                <a:lnTo>
                  <a:pt x="148" y="609"/>
                </a:lnTo>
                <a:lnTo>
                  <a:pt x="146" y="618"/>
                </a:lnTo>
                <a:lnTo>
                  <a:pt x="146" y="628"/>
                </a:lnTo>
                <a:lnTo>
                  <a:pt x="144" y="634"/>
                </a:lnTo>
                <a:lnTo>
                  <a:pt x="144" y="641"/>
                </a:lnTo>
                <a:lnTo>
                  <a:pt x="142" y="645"/>
                </a:lnTo>
                <a:lnTo>
                  <a:pt x="142" y="651"/>
                </a:lnTo>
                <a:lnTo>
                  <a:pt x="140" y="657"/>
                </a:lnTo>
                <a:lnTo>
                  <a:pt x="136" y="664"/>
                </a:lnTo>
                <a:lnTo>
                  <a:pt x="134" y="670"/>
                </a:lnTo>
                <a:lnTo>
                  <a:pt x="132" y="676"/>
                </a:lnTo>
                <a:lnTo>
                  <a:pt x="130" y="680"/>
                </a:lnTo>
                <a:lnTo>
                  <a:pt x="127" y="684"/>
                </a:lnTo>
                <a:lnTo>
                  <a:pt x="125" y="687"/>
                </a:lnTo>
                <a:lnTo>
                  <a:pt x="123" y="691"/>
                </a:lnTo>
                <a:lnTo>
                  <a:pt x="117" y="697"/>
                </a:lnTo>
                <a:lnTo>
                  <a:pt x="113" y="701"/>
                </a:lnTo>
                <a:lnTo>
                  <a:pt x="107" y="703"/>
                </a:lnTo>
                <a:lnTo>
                  <a:pt x="104" y="70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Freeform 190"/>
          <p:cNvSpPr/>
          <p:nvPr/>
        </p:nvSpPr>
        <p:spPr>
          <a:xfrm>
            <a:off x="5421240" y="4367160"/>
            <a:ext cx="873360" cy="442800"/>
          </a:xfrm>
          <a:custGeom>
            <a:avLst/>
            <a:gdLst/>
            <a:ahLst/>
            <a:rect l="l" t="t" r="r" b="b"/>
            <a:pathLst>
              <a:path w="1100" h="559">
                <a:moveTo>
                  <a:pt x="31" y="465"/>
                </a:moveTo>
                <a:lnTo>
                  <a:pt x="23" y="451"/>
                </a:lnTo>
                <a:lnTo>
                  <a:pt x="18" y="440"/>
                </a:lnTo>
                <a:lnTo>
                  <a:pt x="14" y="428"/>
                </a:lnTo>
                <a:lnTo>
                  <a:pt x="8" y="417"/>
                </a:lnTo>
                <a:lnTo>
                  <a:pt x="6" y="407"/>
                </a:lnTo>
                <a:lnTo>
                  <a:pt x="2" y="398"/>
                </a:lnTo>
                <a:lnTo>
                  <a:pt x="0" y="388"/>
                </a:lnTo>
                <a:lnTo>
                  <a:pt x="0" y="378"/>
                </a:lnTo>
                <a:lnTo>
                  <a:pt x="0" y="371"/>
                </a:lnTo>
                <a:lnTo>
                  <a:pt x="0" y="363"/>
                </a:lnTo>
                <a:lnTo>
                  <a:pt x="2" y="355"/>
                </a:lnTo>
                <a:lnTo>
                  <a:pt x="4" y="350"/>
                </a:lnTo>
                <a:lnTo>
                  <a:pt x="6" y="344"/>
                </a:lnTo>
                <a:lnTo>
                  <a:pt x="10" y="338"/>
                </a:lnTo>
                <a:lnTo>
                  <a:pt x="12" y="334"/>
                </a:lnTo>
                <a:lnTo>
                  <a:pt x="18" y="332"/>
                </a:lnTo>
                <a:lnTo>
                  <a:pt x="27" y="327"/>
                </a:lnTo>
                <a:lnTo>
                  <a:pt x="37" y="325"/>
                </a:lnTo>
                <a:lnTo>
                  <a:pt x="47" y="323"/>
                </a:lnTo>
                <a:lnTo>
                  <a:pt x="58" y="323"/>
                </a:lnTo>
                <a:lnTo>
                  <a:pt x="68" y="323"/>
                </a:lnTo>
                <a:lnTo>
                  <a:pt x="81" y="325"/>
                </a:lnTo>
                <a:lnTo>
                  <a:pt x="93" y="327"/>
                </a:lnTo>
                <a:lnTo>
                  <a:pt x="106" y="332"/>
                </a:lnTo>
                <a:lnTo>
                  <a:pt x="116" y="336"/>
                </a:lnTo>
                <a:lnTo>
                  <a:pt x="125" y="342"/>
                </a:lnTo>
                <a:lnTo>
                  <a:pt x="135" y="346"/>
                </a:lnTo>
                <a:lnTo>
                  <a:pt x="144" y="350"/>
                </a:lnTo>
                <a:lnTo>
                  <a:pt x="154" y="350"/>
                </a:lnTo>
                <a:lnTo>
                  <a:pt x="164" y="351"/>
                </a:lnTo>
                <a:lnTo>
                  <a:pt x="169" y="350"/>
                </a:lnTo>
                <a:lnTo>
                  <a:pt x="173" y="350"/>
                </a:lnTo>
                <a:lnTo>
                  <a:pt x="179" y="348"/>
                </a:lnTo>
                <a:lnTo>
                  <a:pt x="183" y="346"/>
                </a:lnTo>
                <a:lnTo>
                  <a:pt x="185" y="346"/>
                </a:lnTo>
                <a:lnTo>
                  <a:pt x="187" y="344"/>
                </a:lnTo>
                <a:lnTo>
                  <a:pt x="190" y="344"/>
                </a:lnTo>
                <a:lnTo>
                  <a:pt x="194" y="344"/>
                </a:lnTo>
                <a:lnTo>
                  <a:pt x="198" y="342"/>
                </a:lnTo>
                <a:lnTo>
                  <a:pt x="204" y="340"/>
                </a:lnTo>
                <a:lnTo>
                  <a:pt x="210" y="338"/>
                </a:lnTo>
                <a:lnTo>
                  <a:pt x="215" y="336"/>
                </a:lnTo>
                <a:lnTo>
                  <a:pt x="223" y="332"/>
                </a:lnTo>
                <a:lnTo>
                  <a:pt x="231" y="330"/>
                </a:lnTo>
                <a:lnTo>
                  <a:pt x="240" y="327"/>
                </a:lnTo>
                <a:lnTo>
                  <a:pt x="250" y="323"/>
                </a:lnTo>
                <a:lnTo>
                  <a:pt x="260" y="319"/>
                </a:lnTo>
                <a:lnTo>
                  <a:pt x="271" y="315"/>
                </a:lnTo>
                <a:lnTo>
                  <a:pt x="283" y="311"/>
                </a:lnTo>
                <a:lnTo>
                  <a:pt x="294" y="305"/>
                </a:lnTo>
                <a:lnTo>
                  <a:pt x="308" y="302"/>
                </a:lnTo>
                <a:lnTo>
                  <a:pt x="321" y="296"/>
                </a:lnTo>
                <a:lnTo>
                  <a:pt x="334" y="290"/>
                </a:lnTo>
                <a:lnTo>
                  <a:pt x="350" y="284"/>
                </a:lnTo>
                <a:lnTo>
                  <a:pt x="365" y="277"/>
                </a:lnTo>
                <a:lnTo>
                  <a:pt x="382" y="271"/>
                </a:lnTo>
                <a:lnTo>
                  <a:pt x="398" y="263"/>
                </a:lnTo>
                <a:lnTo>
                  <a:pt x="417" y="255"/>
                </a:lnTo>
                <a:lnTo>
                  <a:pt x="434" y="248"/>
                </a:lnTo>
                <a:lnTo>
                  <a:pt x="453" y="240"/>
                </a:lnTo>
                <a:lnTo>
                  <a:pt x="473" y="232"/>
                </a:lnTo>
                <a:lnTo>
                  <a:pt x="492" y="223"/>
                </a:lnTo>
                <a:lnTo>
                  <a:pt x="513" y="215"/>
                </a:lnTo>
                <a:lnTo>
                  <a:pt x="534" y="206"/>
                </a:lnTo>
                <a:lnTo>
                  <a:pt x="555" y="196"/>
                </a:lnTo>
                <a:lnTo>
                  <a:pt x="578" y="186"/>
                </a:lnTo>
                <a:lnTo>
                  <a:pt x="622" y="165"/>
                </a:lnTo>
                <a:lnTo>
                  <a:pt x="665" y="148"/>
                </a:lnTo>
                <a:lnTo>
                  <a:pt x="705" y="131"/>
                </a:lnTo>
                <a:lnTo>
                  <a:pt x="745" y="113"/>
                </a:lnTo>
                <a:lnTo>
                  <a:pt x="782" y="98"/>
                </a:lnTo>
                <a:lnTo>
                  <a:pt x="818" y="83"/>
                </a:lnTo>
                <a:lnTo>
                  <a:pt x="853" y="69"/>
                </a:lnTo>
                <a:lnTo>
                  <a:pt x="885" y="58"/>
                </a:lnTo>
                <a:lnTo>
                  <a:pt x="918" y="46"/>
                </a:lnTo>
                <a:lnTo>
                  <a:pt x="947" y="37"/>
                </a:lnTo>
                <a:lnTo>
                  <a:pt x="976" y="27"/>
                </a:lnTo>
                <a:lnTo>
                  <a:pt x="1004" y="19"/>
                </a:lnTo>
                <a:lnTo>
                  <a:pt x="1029" y="14"/>
                </a:lnTo>
                <a:lnTo>
                  <a:pt x="1054" y="8"/>
                </a:lnTo>
                <a:lnTo>
                  <a:pt x="1077" y="4"/>
                </a:lnTo>
                <a:lnTo>
                  <a:pt x="1100" y="0"/>
                </a:lnTo>
                <a:lnTo>
                  <a:pt x="1100" y="4"/>
                </a:lnTo>
                <a:lnTo>
                  <a:pt x="1100" y="8"/>
                </a:lnTo>
                <a:lnTo>
                  <a:pt x="1098" y="14"/>
                </a:lnTo>
                <a:lnTo>
                  <a:pt x="1096" y="17"/>
                </a:lnTo>
                <a:lnTo>
                  <a:pt x="1093" y="23"/>
                </a:lnTo>
                <a:lnTo>
                  <a:pt x="1089" y="29"/>
                </a:lnTo>
                <a:lnTo>
                  <a:pt x="1083" y="35"/>
                </a:lnTo>
                <a:lnTo>
                  <a:pt x="1077" y="42"/>
                </a:lnTo>
                <a:lnTo>
                  <a:pt x="1071" y="48"/>
                </a:lnTo>
                <a:lnTo>
                  <a:pt x="1064" y="56"/>
                </a:lnTo>
                <a:lnTo>
                  <a:pt x="1054" y="64"/>
                </a:lnTo>
                <a:lnTo>
                  <a:pt x="1045" y="71"/>
                </a:lnTo>
                <a:lnTo>
                  <a:pt x="1035" y="81"/>
                </a:lnTo>
                <a:lnTo>
                  <a:pt x="1023" y="88"/>
                </a:lnTo>
                <a:lnTo>
                  <a:pt x="1010" y="98"/>
                </a:lnTo>
                <a:lnTo>
                  <a:pt x="997" y="108"/>
                </a:lnTo>
                <a:lnTo>
                  <a:pt x="983" y="117"/>
                </a:lnTo>
                <a:lnTo>
                  <a:pt x="968" y="127"/>
                </a:lnTo>
                <a:lnTo>
                  <a:pt x="952" y="138"/>
                </a:lnTo>
                <a:lnTo>
                  <a:pt x="935" y="148"/>
                </a:lnTo>
                <a:lnTo>
                  <a:pt x="918" y="160"/>
                </a:lnTo>
                <a:lnTo>
                  <a:pt x="899" y="171"/>
                </a:lnTo>
                <a:lnTo>
                  <a:pt x="880" y="183"/>
                </a:lnTo>
                <a:lnTo>
                  <a:pt x="858" y="196"/>
                </a:lnTo>
                <a:lnTo>
                  <a:pt x="837" y="208"/>
                </a:lnTo>
                <a:lnTo>
                  <a:pt x="816" y="221"/>
                </a:lnTo>
                <a:lnTo>
                  <a:pt x="793" y="234"/>
                </a:lnTo>
                <a:lnTo>
                  <a:pt x="770" y="248"/>
                </a:lnTo>
                <a:lnTo>
                  <a:pt x="745" y="261"/>
                </a:lnTo>
                <a:lnTo>
                  <a:pt x="720" y="277"/>
                </a:lnTo>
                <a:lnTo>
                  <a:pt x="693" y="290"/>
                </a:lnTo>
                <a:lnTo>
                  <a:pt x="666" y="305"/>
                </a:lnTo>
                <a:lnTo>
                  <a:pt x="638" y="321"/>
                </a:lnTo>
                <a:lnTo>
                  <a:pt x="611" y="336"/>
                </a:lnTo>
                <a:lnTo>
                  <a:pt x="584" y="351"/>
                </a:lnTo>
                <a:lnTo>
                  <a:pt x="559" y="367"/>
                </a:lnTo>
                <a:lnTo>
                  <a:pt x="534" y="380"/>
                </a:lnTo>
                <a:lnTo>
                  <a:pt x="509" y="394"/>
                </a:lnTo>
                <a:lnTo>
                  <a:pt x="486" y="407"/>
                </a:lnTo>
                <a:lnTo>
                  <a:pt x="465" y="419"/>
                </a:lnTo>
                <a:lnTo>
                  <a:pt x="442" y="430"/>
                </a:lnTo>
                <a:lnTo>
                  <a:pt x="421" y="442"/>
                </a:lnTo>
                <a:lnTo>
                  <a:pt x="402" y="451"/>
                </a:lnTo>
                <a:lnTo>
                  <a:pt x="382" y="461"/>
                </a:lnTo>
                <a:lnTo>
                  <a:pt x="363" y="470"/>
                </a:lnTo>
                <a:lnTo>
                  <a:pt x="346" y="480"/>
                </a:lnTo>
                <a:lnTo>
                  <a:pt x="329" y="490"/>
                </a:lnTo>
                <a:lnTo>
                  <a:pt x="313" y="497"/>
                </a:lnTo>
                <a:lnTo>
                  <a:pt x="296" y="505"/>
                </a:lnTo>
                <a:lnTo>
                  <a:pt x="283" y="511"/>
                </a:lnTo>
                <a:lnTo>
                  <a:pt x="269" y="517"/>
                </a:lnTo>
                <a:lnTo>
                  <a:pt x="256" y="524"/>
                </a:lnTo>
                <a:lnTo>
                  <a:pt x="242" y="528"/>
                </a:lnTo>
                <a:lnTo>
                  <a:pt x="231" y="534"/>
                </a:lnTo>
                <a:lnTo>
                  <a:pt x="221" y="538"/>
                </a:lnTo>
                <a:lnTo>
                  <a:pt x="210" y="541"/>
                </a:lnTo>
                <a:lnTo>
                  <a:pt x="202" y="545"/>
                </a:lnTo>
                <a:lnTo>
                  <a:pt x="192" y="549"/>
                </a:lnTo>
                <a:lnTo>
                  <a:pt x="185" y="551"/>
                </a:lnTo>
                <a:lnTo>
                  <a:pt x="177" y="553"/>
                </a:lnTo>
                <a:lnTo>
                  <a:pt x="171" y="555"/>
                </a:lnTo>
                <a:lnTo>
                  <a:pt x="166" y="557"/>
                </a:lnTo>
                <a:lnTo>
                  <a:pt x="162" y="557"/>
                </a:lnTo>
                <a:lnTo>
                  <a:pt x="158" y="557"/>
                </a:lnTo>
                <a:lnTo>
                  <a:pt x="150" y="559"/>
                </a:lnTo>
                <a:lnTo>
                  <a:pt x="142" y="559"/>
                </a:lnTo>
                <a:lnTo>
                  <a:pt x="135" y="559"/>
                </a:lnTo>
                <a:lnTo>
                  <a:pt x="127" y="557"/>
                </a:lnTo>
                <a:lnTo>
                  <a:pt x="119" y="555"/>
                </a:lnTo>
                <a:lnTo>
                  <a:pt x="110" y="551"/>
                </a:lnTo>
                <a:lnTo>
                  <a:pt x="102" y="547"/>
                </a:lnTo>
                <a:lnTo>
                  <a:pt x="94" y="541"/>
                </a:lnTo>
                <a:lnTo>
                  <a:pt x="85" y="534"/>
                </a:lnTo>
                <a:lnTo>
                  <a:pt x="77" y="526"/>
                </a:lnTo>
                <a:lnTo>
                  <a:pt x="70" y="518"/>
                </a:lnTo>
                <a:lnTo>
                  <a:pt x="60" y="509"/>
                </a:lnTo>
                <a:lnTo>
                  <a:pt x="52" y="499"/>
                </a:lnTo>
                <a:lnTo>
                  <a:pt x="45" y="488"/>
                </a:lnTo>
                <a:lnTo>
                  <a:pt x="37" y="476"/>
                </a:lnTo>
                <a:lnTo>
                  <a:pt x="31" y="465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Freeform 191"/>
          <p:cNvSpPr/>
          <p:nvPr/>
        </p:nvSpPr>
        <p:spPr>
          <a:xfrm>
            <a:off x="5521320" y="4002120"/>
            <a:ext cx="227160" cy="638280"/>
          </a:xfrm>
          <a:custGeom>
            <a:avLst/>
            <a:gdLst/>
            <a:ahLst/>
            <a:rect l="l" t="t" r="r" b="b"/>
            <a:pathLst>
              <a:path w="286" h="805">
                <a:moveTo>
                  <a:pt x="31" y="89"/>
                </a:moveTo>
                <a:lnTo>
                  <a:pt x="21" y="83"/>
                </a:lnTo>
                <a:lnTo>
                  <a:pt x="14" y="75"/>
                </a:lnTo>
                <a:lnTo>
                  <a:pt x="8" y="68"/>
                </a:lnTo>
                <a:lnTo>
                  <a:pt x="4" y="60"/>
                </a:lnTo>
                <a:lnTo>
                  <a:pt x="0" y="50"/>
                </a:lnTo>
                <a:lnTo>
                  <a:pt x="0" y="47"/>
                </a:lnTo>
                <a:lnTo>
                  <a:pt x="0" y="41"/>
                </a:lnTo>
                <a:lnTo>
                  <a:pt x="0" y="37"/>
                </a:lnTo>
                <a:lnTo>
                  <a:pt x="2" y="31"/>
                </a:lnTo>
                <a:lnTo>
                  <a:pt x="2" y="27"/>
                </a:lnTo>
                <a:lnTo>
                  <a:pt x="6" y="22"/>
                </a:lnTo>
                <a:lnTo>
                  <a:pt x="8" y="18"/>
                </a:lnTo>
                <a:lnTo>
                  <a:pt x="12" y="14"/>
                </a:lnTo>
                <a:lnTo>
                  <a:pt x="15" y="10"/>
                </a:lnTo>
                <a:lnTo>
                  <a:pt x="19" y="6"/>
                </a:lnTo>
                <a:lnTo>
                  <a:pt x="25" y="4"/>
                </a:lnTo>
                <a:lnTo>
                  <a:pt x="31" y="2"/>
                </a:lnTo>
                <a:lnTo>
                  <a:pt x="37" y="0"/>
                </a:lnTo>
                <a:lnTo>
                  <a:pt x="44" y="0"/>
                </a:lnTo>
                <a:lnTo>
                  <a:pt x="52" y="0"/>
                </a:lnTo>
                <a:lnTo>
                  <a:pt x="62" y="0"/>
                </a:lnTo>
                <a:lnTo>
                  <a:pt x="71" y="0"/>
                </a:lnTo>
                <a:lnTo>
                  <a:pt x="83" y="0"/>
                </a:lnTo>
                <a:lnTo>
                  <a:pt x="92" y="2"/>
                </a:lnTo>
                <a:lnTo>
                  <a:pt x="106" y="4"/>
                </a:lnTo>
                <a:lnTo>
                  <a:pt x="119" y="6"/>
                </a:lnTo>
                <a:lnTo>
                  <a:pt x="133" y="8"/>
                </a:lnTo>
                <a:lnTo>
                  <a:pt x="146" y="14"/>
                </a:lnTo>
                <a:lnTo>
                  <a:pt x="159" y="20"/>
                </a:lnTo>
                <a:lnTo>
                  <a:pt x="171" y="23"/>
                </a:lnTo>
                <a:lnTo>
                  <a:pt x="182" y="29"/>
                </a:lnTo>
                <a:lnTo>
                  <a:pt x="192" y="33"/>
                </a:lnTo>
                <a:lnTo>
                  <a:pt x="204" y="39"/>
                </a:lnTo>
                <a:lnTo>
                  <a:pt x="211" y="43"/>
                </a:lnTo>
                <a:lnTo>
                  <a:pt x="219" y="47"/>
                </a:lnTo>
                <a:lnTo>
                  <a:pt x="227" y="52"/>
                </a:lnTo>
                <a:lnTo>
                  <a:pt x="234" y="56"/>
                </a:lnTo>
                <a:lnTo>
                  <a:pt x="240" y="60"/>
                </a:lnTo>
                <a:lnTo>
                  <a:pt x="246" y="64"/>
                </a:lnTo>
                <a:lnTo>
                  <a:pt x="250" y="66"/>
                </a:lnTo>
                <a:lnTo>
                  <a:pt x="253" y="70"/>
                </a:lnTo>
                <a:lnTo>
                  <a:pt x="257" y="71"/>
                </a:lnTo>
                <a:lnTo>
                  <a:pt x="259" y="75"/>
                </a:lnTo>
                <a:lnTo>
                  <a:pt x="259" y="77"/>
                </a:lnTo>
                <a:lnTo>
                  <a:pt x="259" y="81"/>
                </a:lnTo>
                <a:lnTo>
                  <a:pt x="259" y="85"/>
                </a:lnTo>
                <a:lnTo>
                  <a:pt x="261" y="91"/>
                </a:lnTo>
                <a:lnTo>
                  <a:pt x="261" y="98"/>
                </a:lnTo>
                <a:lnTo>
                  <a:pt x="261" y="108"/>
                </a:lnTo>
                <a:lnTo>
                  <a:pt x="261" y="118"/>
                </a:lnTo>
                <a:lnTo>
                  <a:pt x="261" y="129"/>
                </a:lnTo>
                <a:lnTo>
                  <a:pt x="263" y="142"/>
                </a:lnTo>
                <a:lnTo>
                  <a:pt x="263" y="156"/>
                </a:lnTo>
                <a:lnTo>
                  <a:pt x="263" y="171"/>
                </a:lnTo>
                <a:lnTo>
                  <a:pt x="265" y="189"/>
                </a:lnTo>
                <a:lnTo>
                  <a:pt x="265" y="208"/>
                </a:lnTo>
                <a:lnTo>
                  <a:pt x="267" y="227"/>
                </a:lnTo>
                <a:lnTo>
                  <a:pt x="267" y="248"/>
                </a:lnTo>
                <a:lnTo>
                  <a:pt x="267" y="271"/>
                </a:lnTo>
                <a:lnTo>
                  <a:pt x="269" y="294"/>
                </a:lnTo>
                <a:lnTo>
                  <a:pt x="269" y="319"/>
                </a:lnTo>
                <a:lnTo>
                  <a:pt x="271" y="346"/>
                </a:lnTo>
                <a:lnTo>
                  <a:pt x="271" y="373"/>
                </a:lnTo>
                <a:lnTo>
                  <a:pt x="273" y="402"/>
                </a:lnTo>
                <a:lnTo>
                  <a:pt x="275" y="432"/>
                </a:lnTo>
                <a:lnTo>
                  <a:pt x="275" y="463"/>
                </a:lnTo>
                <a:lnTo>
                  <a:pt x="277" y="496"/>
                </a:lnTo>
                <a:lnTo>
                  <a:pt x="277" y="530"/>
                </a:lnTo>
                <a:lnTo>
                  <a:pt x="278" y="567"/>
                </a:lnTo>
                <a:lnTo>
                  <a:pt x="278" y="603"/>
                </a:lnTo>
                <a:lnTo>
                  <a:pt x="280" y="640"/>
                </a:lnTo>
                <a:lnTo>
                  <a:pt x="282" y="680"/>
                </a:lnTo>
                <a:lnTo>
                  <a:pt x="282" y="720"/>
                </a:lnTo>
                <a:lnTo>
                  <a:pt x="284" y="761"/>
                </a:lnTo>
                <a:lnTo>
                  <a:pt x="286" y="805"/>
                </a:lnTo>
                <a:lnTo>
                  <a:pt x="182" y="805"/>
                </a:lnTo>
                <a:lnTo>
                  <a:pt x="182" y="797"/>
                </a:lnTo>
                <a:lnTo>
                  <a:pt x="182" y="787"/>
                </a:lnTo>
                <a:lnTo>
                  <a:pt x="182" y="776"/>
                </a:lnTo>
                <a:lnTo>
                  <a:pt x="181" y="764"/>
                </a:lnTo>
                <a:lnTo>
                  <a:pt x="181" y="751"/>
                </a:lnTo>
                <a:lnTo>
                  <a:pt x="179" y="738"/>
                </a:lnTo>
                <a:lnTo>
                  <a:pt x="177" y="722"/>
                </a:lnTo>
                <a:lnTo>
                  <a:pt x="175" y="707"/>
                </a:lnTo>
                <a:lnTo>
                  <a:pt x="173" y="690"/>
                </a:lnTo>
                <a:lnTo>
                  <a:pt x="171" y="670"/>
                </a:lnTo>
                <a:lnTo>
                  <a:pt x="169" y="651"/>
                </a:lnTo>
                <a:lnTo>
                  <a:pt x="167" y="630"/>
                </a:lnTo>
                <a:lnTo>
                  <a:pt x="165" y="609"/>
                </a:lnTo>
                <a:lnTo>
                  <a:pt x="161" y="586"/>
                </a:lnTo>
                <a:lnTo>
                  <a:pt x="159" y="563"/>
                </a:lnTo>
                <a:lnTo>
                  <a:pt x="158" y="540"/>
                </a:lnTo>
                <a:lnTo>
                  <a:pt x="148" y="496"/>
                </a:lnTo>
                <a:lnTo>
                  <a:pt x="138" y="452"/>
                </a:lnTo>
                <a:lnTo>
                  <a:pt x="131" y="411"/>
                </a:lnTo>
                <a:lnTo>
                  <a:pt x="121" y="371"/>
                </a:lnTo>
                <a:lnTo>
                  <a:pt x="117" y="352"/>
                </a:lnTo>
                <a:lnTo>
                  <a:pt x="113" y="334"/>
                </a:lnTo>
                <a:lnTo>
                  <a:pt x="110" y="315"/>
                </a:lnTo>
                <a:lnTo>
                  <a:pt x="106" y="298"/>
                </a:lnTo>
                <a:lnTo>
                  <a:pt x="102" y="281"/>
                </a:lnTo>
                <a:lnTo>
                  <a:pt x="100" y="265"/>
                </a:lnTo>
                <a:lnTo>
                  <a:pt x="96" y="250"/>
                </a:lnTo>
                <a:lnTo>
                  <a:pt x="94" y="235"/>
                </a:lnTo>
                <a:lnTo>
                  <a:pt x="92" y="219"/>
                </a:lnTo>
                <a:lnTo>
                  <a:pt x="88" y="206"/>
                </a:lnTo>
                <a:lnTo>
                  <a:pt x="86" y="192"/>
                </a:lnTo>
                <a:lnTo>
                  <a:pt x="83" y="179"/>
                </a:lnTo>
                <a:lnTo>
                  <a:pt x="79" y="167"/>
                </a:lnTo>
                <a:lnTo>
                  <a:pt x="75" y="156"/>
                </a:lnTo>
                <a:lnTo>
                  <a:pt x="71" y="146"/>
                </a:lnTo>
                <a:lnTo>
                  <a:pt x="67" y="137"/>
                </a:lnTo>
                <a:lnTo>
                  <a:pt x="63" y="127"/>
                </a:lnTo>
                <a:lnTo>
                  <a:pt x="58" y="119"/>
                </a:lnTo>
                <a:lnTo>
                  <a:pt x="54" y="112"/>
                </a:lnTo>
                <a:lnTo>
                  <a:pt x="50" y="106"/>
                </a:lnTo>
                <a:lnTo>
                  <a:pt x="44" y="100"/>
                </a:lnTo>
                <a:lnTo>
                  <a:pt x="40" y="95"/>
                </a:lnTo>
                <a:lnTo>
                  <a:pt x="35" y="91"/>
                </a:lnTo>
                <a:lnTo>
                  <a:pt x="31" y="89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Freeform 192"/>
          <p:cNvSpPr/>
          <p:nvPr/>
        </p:nvSpPr>
        <p:spPr>
          <a:xfrm>
            <a:off x="5999040" y="3894120"/>
            <a:ext cx="354240" cy="136440"/>
          </a:xfrm>
          <a:custGeom>
            <a:avLst/>
            <a:gdLst/>
            <a:ahLst/>
            <a:rect l="l" t="t" r="r" b="b"/>
            <a:pathLst>
              <a:path w="445" h="171">
                <a:moveTo>
                  <a:pt x="305" y="0"/>
                </a:moveTo>
                <a:lnTo>
                  <a:pt x="315" y="0"/>
                </a:lnTo>
                <a:lnTo>
                  <a:pt x="324" y="2"/>
                </a:lnTo>
                <a:lnTo>
                  <a:pt x="336" y="4"/>
                </a:lnTo>
                <a:lnTo>
                  <a:pt x="345" y="8"/>
                </a:lnTo>
                <a:lnTo>
                  <a:pt x="357" y="12"/>
                </a:lnTo>
                <a:lnTo>
                  <a:pt x="368" y="16"/>
                </a:lnTo>
                <a:lnTo>
                  <a:pt x="382" y="21"/>
                </a:lnTo>
                <a:lnTo>
                  <a:pt x="395" y="25"/>
                </a:lnTo>
                <a:lnTo>
                  <a:pt x="401" y="31"/>
                </a:lnTo>
                <a:lnTo>
                  <a:pt x="409" y="35"/>
                </a:lnTo>
                <a:lnTo>
                  <a:pt x="414" y="39"/>
                </a:lnTo>
                <a:lnTo>
                  <a:pt x="418" y="44"/>
                </a:lnTo>
                <a:lnTo>
                  <a:pt x="424" y="46"/>
                </a:lnTo>
                <a:lnTo>
                  <a:pt x="428" y="50"/>
                </a:lnTo>
                <a:lnTo>
                  <a:pt x="434" y="58"/>
                </a:lnTo>
                <a:lnTo>
                  <a:pt x="439" y="64"/>
                </a:lnTo>
                <a:lnTo>
                  <a:pt x="443" y="69"/>
                </a:lnTo>
                <a:lnTo>
                  <a:pt x="445" y="73"/>
                </a:lnTo>
                <a:lnTo>
                  <a:pt x="445" y="79"/>
                </a:lnTo>
                <a:lnTo>
                  <a:pt x="445" y="81"/>
                </a:lnTo>
                <a:lnTo>
                  <a:pt x="443" y="85"/>
                </a:lnTo>
                <a:lnTo>
                  <a:pt x="441" y="87"/>
                </a:lnTo>
                <a:lnTo>
                  <a:pt x="439" y="90"/>
                </a:lnTo>
                <a:lnTo>
                  <a:pt x="434" y="94"/>
                </a:lnTo>
                <a:lnTo>
                  <a:pt x="430" y="98"/>
                </a:lnTo>
                <a:lnTo>
                  <a:pt x="424" y="102"/>
                </a:lnTo>
                <a:lnTo>
                  <a:pt x="416" y="106"/>
                </a:lnTo>
                <a:lnTo>
                  <a:pt x="409" y="110"/>
                </a:lnTo>
                <a:lnTo>
                  <a:pt x="401" y="113"/>
                </a:lnTo>
                <a:lnTo>
                  <a:pt x="391" y="115"/>
                </a:lnTo>
                <a:lnTo>
                  <a:pt x="382" y="119"/>
                </a:lnTo>
                <a:lnTo>
                  <a:pt x="370" y="123"/>
                </a:lnTo>
                <a:lnTo>
                  <a:pt x="359" y="127"/>
                </a:lnTo>
                <a:lnTo>
                  <a:pt x="345" y="129"/>
                </a:lnTo>
                <a:lnTo>
                  <a:pt x="332" y="133"/>
                </a:lnTo>
                <a:lnTo>
                  <a:pt x="297" y="140"/>
                </a:lnTo>
                <a:lnTo>
                  <a:pt x="261" y="150"/>
                </a:lnTo>
                <a:lnTo>
                  <a:pt x="244" y="154"/>
                </a:lnTo>
                <a:lnTo>
                  <a:pt x="224" y="156"/>
                </a:lnTo>
                <a:lnTo>
                  <a:pt x="205" y="159"/>
                </a:lnTo>
                <a:lnTo>
                  <a:pt x="184" y="161"/>
                </a:lnTo>
                <a:lnTo>
                  <a:pt x="165" y="163"/>
                </a:lnTo>
                <a:lnTo>
                  <a:pt x="144" y="165"/>
                </a:lnTo>
                <a:lnTo>
                  <a:pt x="121" y="167"/>
                </a:lnTo>
                <a:lnTo>
                  <a:pt x="98" y="169"/>
                </a:lnTo>
                <a:lnTo>
                  <a:pt x="75" y="171"/>
                </a:lnTo>
                <a:lnTo>
                  <a:pt x="52" y="171"/>
                </a:lnTo>
                <a:lnTo>
                  <a:pt x="27" y="171"/>
                </a:lnTo>
                <a:lnTo>
                  <a:pt x="0" y="171"/>
                </a:lnTo>
                <a:lnTo>
                  <a:pt x="0" y="119"/>
                </a:lnTo>
                <a:lnTo>
                  <a:pt x="0" y="65"/>
                </a:lnTo>
                <a:lnTo>
                  <a:pt x="25" y="65"/>
                </a:lnTo>
                <a:lnTo>
                  <a:pt x="48" y="64"/>
                </a:lnTo>
                <a:lnTo>
                  <a:pt x="71" y="60"/>
                </a:lnTo>
                <a:lnTo>
                  <a:pt x="96" y="56"/>
                </a:lnTo>
                <a:lnTo>
                  <a:pt x="119" y="50"/>
                </a:lnTo>
                <a:lnTo>
                  <a:pt x="144" y="42"/>
                </a:lnTo>
                <a:lnTo>
                  <a:pt x="167" y="35"/>
                </a:lnTo>
                <a:lnTo>
                  <a:pt x="192" y="25"/>
                </a:lnTo>
                <a:lnTo>
                  <a:pt x="209" y="21"/>
                </a:lnTo>
                <a:lnTo>
                  <a:pt x="226" y="16"/>
                </a:lnTo>
                <a:lnTo>
                  <a:pt x="244" y="12"/>
                </a:lnTo>
                <a:lnTo>
                  <a:pt x="257" y="8"/>
                </a:lnTo>
                <a:lnTo>
                  <a:pt x="272" y="4"/>
                </a:lnTo>
                <a:lnTo>
                  <a:pt x="284" y="2"/>
                </a:lnTo>
                <a:lnTo>
                  <a:pt x="295" y="0"/>
                </a:lnTo>
                <a:lnTo>
                  <a:pt x="305" y="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Freeform 193"/>
          <p:cNvSpPr/>
          <p:nvPr/>
        </p:nvSpPr>
        <p:spPr>
          <a:xfrm>
            <a:off x="5919840" y="3641760"/>
            <a:ext cx="141120" cy="873000"/>
          </a:xfrm>
          <a:custGeom>
            <a:avLst/>
            <a:gdLst/>
            <a:ahLst/>
            <a:rect l="l" t="t" r="r" b="b"/>
            <a:pathLst>
              <a:path w="179" h="1099">
                <a:moveTo>
                  <a:pt x="14" y="0"/>
                </a:moveTo>
                <a:lnTo>
                  <a:pt x="35" y="11"/>
                </a:lnTo>
                <a:lnTo>
                  <a:pt x="54" y="24"/>
                </a:lnTo>
                <a:lnTo>
                  <a:pt x="71" y="36"/>
                </a:lnTo>
                <a:lnTo>
                  <a:pt x="86" y="46"/>
                </a:lnTo>
                <a:lnTo>
                  <a:pt x="102" y="57"/>
                </a:lnTo>
                <a:lnTo>
                  <a:pt x="115" y="69"/>
                </a:lnTo>
                <a:lnTo>
                  <a:pt x="129" y="78"/>
                </a:lnTo>
                <a:lnTo>
                  <a:pt x="138" y="88"/>
                </a:lnTo>
                <a:lnTo>
                  <a:pt x="148" y="96"/>
                </a:lnTo>
                <a:lnTo>
                  <a:pt x="156" y="105"/>
                </a:lnTo>
                <a:lnTo>
                  <a:pt x="163" y="113"/>
                </a:lnTo>
                <a:lnTo>
                  <a:pt x="169" y="120"/>
                </a:lnTo>
                <a:lnTo>
                  <a:pt x="173" y="128"/>
                </a:lnTo>
                <a:lnTo>
                  <a:pt x="177" y="134"/>
                </a:lnTo>
                <a:lnTo>
                  <a:pt x="179" y="140"/>
                </a:lnTo>
                <a:lnTo>
                  <a:pt x="179" y="145"/>
                </a:lnTo>
                <a:lnTo>
                  <a:pt x="179" y="151"/>
                </a:lnTo>
                <a:lnTo>
                  <a:pt x="179" y="157"/>
                </a:lnTo>
                <a:lnTo>
                  <a:pt x="177" y="165"/>
                </a:lnTo>
                <a:lnTo>
                  <a:pt x="177" y="172"/>
                </a:lnTo>
                <a:lnTo>
                  <a:pt x="175" y="182"/>
                </a:lnTo>
                <a:lnTo>
                  <a:pt x="175" y="191"/>
                </a:lnTo>
                <a:lnTo>
                  <a:pt x="173" y="201"/>
                </a:lnTo>
                <a:lnTo>
                  <a:pt x="171" y="213"/>
                </a:lnTo>
                <a:lnTo>
                  <a:pt x="169" y="224"/>
                </a:lnTo>
                <a:lnTo>
                  <a:pt x="167" y="238"/>
                </a:lnTo>
                <a:lnTo>
                  <a:pt x="165" y="251"/>
                </a:lnTo>
                <a:lnTo>
                  <a:pt x="163" y="266"/>
                </a:lnTo>
                <a:lnTo>
                  <a:pt x="159" y="282"/>
                </a:lnTo>
                <a:lnTo>
                  <a:pt x="157" y="297"/>
                </a:lnTo>
                <a:lnTo>
                  <a:pt x="156" y="312"/>
                </a:lnTo>
                <a:lnTo>
                  <a:pt x="154" y="330"/>
                </a:lnTo>
                <a:lnTo>
                  <a:pt x="152" y="341"/>
                </a:lnTo>
                <a:lnTo>
                  <a:pt x="152" y="353"/>
                </a:lnTo>
                <a:lnTo>
                  <a:pt x="150" y="364"/>
                </a:lnTo>
                <a:lnTo>
                  <a:pt x="148" y="378"/>
                </a:lnTo>
                <a:lnTo>
                  <a:pt x="148" y="391"/>
                </a:lnTo>
                <a:lnTo>
                  <a:pt x="146" y="405"/>
                </a:lnTo>
                <a:lnTo>
                  <a:pt x="146" y="420"/>
                </a:lnTo>
                <a:lnTo>
                  <a:pt x="144" y="437"/>
                </a:lnTo>
                <a:lnTo>
                  <a:pt x="142" y="454"/>
                </a:lnTo>
                <a:lnTo>
                  <a:pt x="142" y="472"/>
                </a:lnTo>
                <a:lnTo>
                  <a:pt x="140" y="491"/>
                </a:lnTo>
                <a:lnTo>
                  <a:pt x="140" y="510"/>
                </a:lnTo>
                <a:lnTo>
                  <a:pt x="138" y="531"/>
                </a:lnTo>
                <a:lnTo>
                  <a:pt x="138" y="552"/>
                </a:lnTo>
                <a:lnTo>
                  <a:pt x="136" y="575"/>
                </a:lnTo>
                <a:lnTo>
                  <a:pt x="136" y="598"/>
                </a:lnTo>
                <a:lnTo>
                  <a:pt x="134" y="623"/>
                </a:lnTo>
                <a:lnTo>
                  <a:pt x="134" y="648"/>
                </a:lnTo>
                <a:lnTo>
                  <a:pt x="133" y="673"/>
                </a:lnTo>
                <a:lnTo>
                  <a:pt x="133" y="700"/>
                </a:lnTo>
                <a:lnTo>
                  <a:pt x="133" y="727"/>
                </a:lnTo>
                <a:lnTo>
                  <a:pt x="131" y="756"/>
                </a:lnTo>
                <a:lnTo>
                  <a:pt x="131" y="785"/>
                </a:lnTo>
                <a:lnTo>
                  <a:pt x="131" y="815"/>
                </a:lnTo>
                <a:lnTo>
                  <a:pt x="129" y="846"/>
                </a:lnTo>
                <a:lnTo>
                  <a:pt x="129" y="877"/>
                </a:lnTo>
                <a:lnTo>
                  <a:pt x="129" y="909"/>
                </a:lnTo>
                <a:lnTo>
                  <a:pt x="129" y="944"/>
                </a:lnTo>
                <a:lnTo>
                  <a:pt x="129" y="978"/>
                </a:lnTo>
                <a:lnTo>
                  <a:pt x="129" y="1013"/>
                </a:lnTo>
                <a:lnTo>
                  <a:pt x="129" y="1049"/>
                </a:lnTo>
                <a:lnTo>
                  <a:pt x="129" y="1086"/>
                </a:lnTo>
                <a:lnTo>
                  <a:pt x="63" y="1092"/>
                </a:lnTo>
                <a:lnTo>
                  <a:pt x="0" y="1099"/>
                </a:lnTo>
                <a:lnTo>
                  <a:pt x="6" y="549"/>
                </a:lnTo>
                <a:lnTo>
                  <a:pt x="14" y="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Freeform 194"/>
          <p:cNvSpPr/>
          <p:nvPr/>
        </p:nvSpPr>
        <p:spPr>
          <a:xfrm>
            <a:off x="5788080" y="3557520"/>
            <a:ext cx="425520" cy="157320"/>
          </a:xfrm>
          <a:custGeom>
            <a:avLst/>
            <a:gdLst/>
            <a:ahLst/>
            <a:rect l="l" t="t" r="r" b="b"/>
            <a:pathLst>
              <a:path w="536" h="198">
                <a:moveTo>
                  <a:pt x="0" y="106"/>
                </a:moveTo>
                <a:lnTo>
                  <a:pt x="35" y="92"/>
                </a:lnTo>
                <a:lnTo>
                  <a:pt x="69" y="81"/>
                </a:lnTo>
                <a:lnTo>
                  <a:pt x="102" y="71"/>
                </a:lnTo>
                <a:lnTo>
                  <a:pt x="134" y="59"/>
                </a:lnTo>
                <a:lnTo>
                  <a:pt x="163" y="50"/>
                </a:lnTo>
                <a:lnTo>
                  <a:pt x="194" y="42"/>
                </a:lnTo>
                <a:lnTo>
                  <a:pt x="221" y="35"/>
                </a:lnTo>
                <a:lnTo>
                  <a:pt x="248" y="27"/>
                </a:lnTo>
                <a:lnTo>
                  <a:pt x="274" y="21"/>
                </a:lnTo>
                <a:lnTo>
                  <a:pt x="298" y="15"/>
                </a:lnTo>
                <a:lnTo>
                  <a:pt x="321" y="10"/>
                </a:lnTo>
                <a:lnTo>
                  <a:pt x="344" y="6"/>
                </a:lnTo>
                <a:lnTo>
                  <a:pt x="365" y="4"/>
                </a:lnTo>
                <a:lnTo>
                  <a:pt x="384" y="0"/>
                </a:lnTo>
                <a:lnTo>
                  <a:pt x="403" y="0"/>
                </a:lnTo>
                <a:lnTo>
                  <a:pt x="420" y="0"/>
                </a:lnTo>
                <a:lnTo>
                  <a:pt x="434" y="0"/>
                </a:lnTo>
                <a:lnTo>
                  <a:pt x="447" y="0"/>
                </a:lnTo>
                <a:lnTo>
                  <a:pt x="459" y="0"/>
                </a:lnTo>
                <a:lnTo>
                  <a:pt x="470" y="2"/>
                </a:lnTo>
                <a:lnTo>
                  <a:pt x="480" y="4"/>
                </a:lnTo>
                <a:lnTo>
                  <a:pt x="489" y="4"/>
                </a:lnTo>
                <a:lnTo>
                  <a:pt x="499" y="6"/>
                </a:lnTo>
                <a:lnTo>
                  <a:pt x="507" y="10"/>
                </a:lnTo>
                <a:lnTo>
                  <a:pt x="513" y="11"/>
                </a:lnTo>
                <a:lnTo>
                  <a:pt x="518" y="15"/>
                </a:lnTo>
                <a:lnTo>
                  <a:pt x="524" y="17"/>
                </a:lnTo>
                <a:lnTo>
                  <a:pt x="528" y="21"/>
                </a:lnTo>
                <a:lnTo>
                  <a:pt x="530" y="25"/>
                </a:lnTo>
                <a:lnTo>
                  <a:pt x="534" y="29"/>
                </a:lnTo>
                <a:lnTo>
                  <a:pt x="534" y="35"/>
                </a:lnTo>
                <a:lnTo>
                  <a:pt x="536" y="38"/>
                </a:lnTo>
                <a:lnTo>
                  <a:pt x="534" y="46"/>
                </a:lnTo>
                <a:lnTo>
                  <a:pt x="534" y="52"/>
                </a:lnTo>
                <a:lnTo>
                  <a:pt x="534" y="59"/>
                </a:lnTo>
                <a:lnTo>
                  <a:pt x="532" y="63"/>
                </a:lnTo>
                <a:lnTo>
                  <a:pt x="530" y="73"/>
                </a:lnTo>
                <a:lnTo>
                  <a:pt x="526" y="83"/>
                </a:lnTo>
                <a:lnTo>
                  <a:pt x="522" y="88"/>
                </a:lnTo>
                <a:lnTo>
                  <a:pt x="518" y="94"/>
                </a:lnTo>
                <a:lnTo>
                  <a:pt x="514" y="100"/>
                </a:lnTo>
                <a:lnTo>
                  <a:pt x="509" y="106"/>
                </a:lnTo>
                <a:lnTo>
                  <a:pt x="507" y="106"/>
                </a:lnTo>
                <a:lnTo>
                  <a:pt x="503" y="107"/>
                </a:lnTo>
                <a:lnTo>
                  <a:pt x="499" y="109"/>
                </a:lnTo>
                <a:lnTo>
                  <a:pt x="493" y="111"/>
                </a:lnTo>
                <a:lnTo>
                  <a:pt x="488" y="113"/>
                </a:lnTo>
                <a:lnTo>
                  <a:pt x="480" y="115"/>
                </a:lnTo>
                <a:lnTo>
                  <a:pt x="472" y="117"/>
                </a:lnTo>
                <a:lnTo>
                  <a:pt x="465" y="119"/>
                </a:lnTo>
                <a:lnTo>
                  <a:pt x="455" y="123"/>
                </a:lnTo>
                <a:lnTo>
                  <a:pt x="443" y="125"/>
                </a:lnTo>
                <a:lnTo>
                  <a:pt x="432" y="127"/>
                </a:lnTo>
                <a:lnTo>
                  <a:pt x="420" y="130"/>
                </a:lnTo>
                <a:lnTo>
                  <a:pt x="409" y="132"/>
                </a:lnTo>
                <a:lnTo>
                  <a:pt x="393" y="136"/>
                </a:lnTo>
                <a:lnTo>
                  <a:pt x="380" y="138"/>
                </a:lnTo>
                <a:lnTo>
                  <a:pt x="365" y="142"/>
                </a:lnTo>
                <a:lnTo>
                  <a:pt x="347" y="144"/>
                </a:lnTo>
                <a:lnTo>
                  <a:pt x="330" y="148"/>
                </a:lnTo>
                <a:lnTo>
                  <a:pt x="313" y="152"/>
                </a:lnTo>
                <a:lnTo>
                  <a:pt x="294" y="154"/>
                </a:lnTo>
                <a:lnTo>
                  <a:pt x="274" y="157"/>
                </a:lnTo>
                <a:lnTo>
                  <a:pt x="253" y="161"/>
                </a:lnTo>
                <a:lnTo>
                  <a:pt x="232" y="165"/>
                </a:lnTo>
                <a:lnTo>
                  <a:pt x="211" y="169"/>
                </a:lnTo>
                <a:lnTo>
                  <a:pt x="186" y="171"/>
                </a:lnTo>
                <a:lnTo>
                  <a:pt x="163" y="175"/>
                </a:lnTo>
                <a:lnTo>
                  <a:pt x="138" y="178"/>
                </a:lnTo>
                <a:lnTo>
                  <a:pt x="111" y="182"/>
                </a:lnTo>
                <a:lnTo>
                  <a:pt x="86" y="186"/>
                </a:lnTo>
                <a:lnTo>
                  <a:pt x="58" y="190"/>
                </a:lnTo>
                <a:lnTo>
                  <a:pt x="29" y="194"/>
                </a:lnTo>
                <a:lnTo>
                  <a:pt x="0" y="198"/>
                </a:lnTo>
                <a:lnTo>
                  <a:pt x="0" y="152"/>
                </a:lnTo>
                <a:lnTo>
                  <a:pt x="0" y="10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Freeform 195"/>
          <p:cNvSpPr/>
          <p:nvPr/>
        </p:nvSpPr>
        <p:spPr>
          <a:xfrm>
            <a:off x="5695920" y="3073320"/>
            <a:ext cx="647640" cy="514440"/>
          </a:xfrm>
          <a:custGeom>
            <a:avLst/>
            <a:gdLst/>
            <a:ahLst/>
            <a:rect l="l" t="t" r="r" b="b"/>
            <a:pathLst>
              <a:path w="816" h="648">
                <a:moveTo>
                  <a:pt x="472" y="40"/>
                </a:moveTo>
                <a:lnTo>
                  <a:pt x="482" y="30"/>
                </a:lnTo>
                <a:lnTo>
                  <a:pt x="489" y="21"/>
                </a:lnTo>
                <a:lnTo>
                  <a:pt x="501" y="15"/>
                </a:lnTo>
                <a:lnTo>
                  <a:pt x="510" y="9"/>
                </a:lnTo>
                <a:lnTo>
                  <a:pt x="520" y="5"/>
                </a:lnTo>
                <a:lnTo>
                  <a:pt x="530" y="1"/>
                </a:lnTo>
                <a:lnTo>
                  <a:pt x="539" y="0"/>
                </a:lnTo>
                <a:lnTo>
                  <a:pt x="549" y="0"/>
                </a:lnTo>
                <a:lnTo>
                  <a:pt x="551" y="0"/>
                </a:lnTo>
                <a:lnTo>
                  <a:pt x="555" y="0"/>
                </a:lnTo>
                <a:lnTo>
                  <a:pt x="558" y="1"/>
                </a:lnTo>
                <a:lnTo>
                  <a:pt x="564" y="3"/>
                </a:lnTo>
                <a:lnTo>
                  <a:pt x="572" y="7"/>
                </a:lnTo>
                <a:lnTo>
                  <a:pt x="578" y="9"/>
                </a:lnTo>
                <a:lnTo>
                  <a:pt x="587" y="13"/>
                </a:lnTo>
                <a:lnTo>
                  <a:pt x="595" y="17"/>
                </a:lnTo>
                <a:lnTo>
                  <a:pt x="606" y="23"/>
                </a:lnTo>
                <a:lnTo>
                  <a:pt x="616" y="26"/>
                </a:lnTo>
                <a:lnTo>
                  <a:pt x="628" y="32"/>
                </a:lnTo>
                <a:lnTo>
                  <a:pt x="641" y="38"/>
                </a:lnTo>
                <a:lnTo>
                  <a:pt x="654" y="44"/>
                </a:lnTo>
                <a:lnTo>
                  <a:pt x="670" y="51"/>
                </a:lnTo>
                <a:lnTo>
                  <a:pt x="685" y="57"/>
                </a:lnTo>
                <a:lnTo>
                  <a:pt x="700" y="65"/>
                </a:lnTo>
                <a:lnTo>
                  <a:pt x="714" y="74"/>
                </a:lnTo>
                <a:lnTo>
                  <a:pt x="727" y="84"/>
                </a:lnTo>
                <a:lnTo>
                  <a:pt x="739" y="94"/>
                </a:lnTo>
                <a:lnTo>
                  <a:pt x="750" y="103"/>
                </a:lnTo>
                <a:lnTo>
                  <a:pt x="760" y="111"/>
                </a:lnTo>
                <a:lnTo>
                  <a:pt x="770" y="120"/>
                </a:lnTo>
                <a:lnTo>
                  <a:pt x="779" y="128"/>
                </a:lnTo>
                <a:lnTo>
                  <a:pt x="787" y="136"/>
                </a:lnTo>
                <a:lnTo>
                  <a:pt x="793" y="144"/>
                </a:lnTo>
                <a:lnTo>
                  <a:pt x="798" y="149"/>
                </a:lnTo>
                <a:lnTo>
                  <a:pt x="804" y="157"/>
                </a:lnTo>
                <a:lnTo>
                  <a:pt x="808" y="163"/>
                </a:lnTo>
                <a:lnTo>
                  <a:pt x="812" y="168"/>
                </a:lnTo>
                <a:lnTo>
                  <a:pt x="814" y="174"/>
                </a:lnTo>
                <a:lnTo>
                  <a:pt x="816" y="180"/>
                </a:lnTo>
                <a:lnTo>
                  <a:pt x="816" y="186"/>
                </a:lnTo>
                <a:lnTo>
                  <a:pt x="814" y="195"/>
                </a:lnTo>
                <a:lnTo>
                  <a:pt x="812" y="205"/>
                </a:lnTo>
                <a:lnTo>
                  <a:pt x="810" y="215"/>
                </a:lnTo>
                <a:lnTo>
                  <a:pt x="804" y="222"/>
                </a:lnTo>
                <a:lnTo>
                  <a:pt x="796" y="232"/>
                </a:lnTo>
                <a:lnTo>
                  <a:pt x="793" y="236"/>
                </a:lnTo>
                <a:lnTo>
                  <a:pt x="789" y="240"/>
                </a:lnTo>
                <a:lnTo>
                  <a:pt x="783" y="241"/>
                </a:lnTo>
                <a:lnTo>
                  <a:pt x="777" y="245"/>
                </a:lnTo>
                <a:lnTo>
                  <a:pt x="771" y="249"/>
                </a:lnTo>
                <a:lnTo>
                  <a:pt x="764" y="251"/>
                </a:lnTo>
                <a:lnTo>
                  <a:pt x="760" y="253"/>
                </a:lnTo>
                <a:lnTo>
                  <a:pt x="756" y="257"/>
                </a:lnTo>
                <a:lnTo>
                  <a:pt x="752" y="261"/>
                </a:lnTo>
                <a:lnTo>
                  <a:pt x="748" y="266"/>
                </a:lnTo>
                <a:lnTo>
                  <a:pt x="745" y="272"/>
                </a:lnTo>
                <a:lnTo>
                  <a:pt x="741" y="278"/>
                </a:lnTo>
                <a:lnTo>
                  <a:pt x="735" y="284"/>
                </a:lnTo>
                <a:lnTo>
                  <a:pt x="731" y="291"/>
                </a:lnTo>
                <a:lnTo>
                  <a:pt x="725" y="299"/>
                </a:lnTo>
                <a:lnTo>
                  <a:pt x="722" y="307"/>
                </a:lnTo>
                <a:lnTo>
                  <a:pt x="716" y="316"/>
                </a:lnTo>
                <a:lnTo>
                  <a:pt x="712" y="326"/>
                </a:lnTo>
                <a:lnTo>
                  <a:pt x="706" y="335"/>
                </a:lnTo>
                <a:lnTo>
                  <a:pt x="700" y="347"/>
                </a:lnTo>
                <a:lnTo>
                  <a:pt x="697" y="359"/>
                </a:lnTo>
                <a:lnTo>
                  <a:pt x="691" y="370"/>
                </a:lnTo>
                <a:lnTo>
                  <a:pt x="685" y="383"/>
                </a:lnTo>
                <a:lnTo>
                  <a:pt x="679" y="397"/>
                </a:lnTo>
                <a:lnTo>
                  <a:pt x="674" y="410"/>
                </a:lnTo>
                <a:lnTo>
                  <a:pt x="668" y="426"/>
                </a:lnTo>
                <a:lnTo>
                  <a:pt x="662" y="441"/>
                </a:lnTo>
                <a:lnTo>
                  <a:pt x="656" y="456"/>
                </a:lnTo>
                <a:lnTo>
                  <a:pt x="651" y="472"/>
                </a:lnTo>
                <a:lnTo>
                  <a:pt x="645" y="489"/>
                </a:lnTo>
                <a:lnTo>
                  <a:pt x="639" y="508"/>
                </a:lnTo>
                <a:lnTo>
                  <a:pt x="633" y="526"/>
                </a:lnTo>
                <a:lnTo>
                  <a:pt x="628" y="545"/>
                </a:lnTo>
                <a:lnTo>
                  <a:pt x="622" y="564"/>
                </a:lnTo>
                <a:lnTo>
                  <a:pt x="616" y="585"/>
                </a:lnTo>
                <a:lnTo>
                  <a:pt x="610" y="606"/>
                </a:lnTo>
                <a:lnTo>
                  <a:pt x="604" y="627"/>
                </a:lnTo>
                <a:lnTo>
                  <a:pt x="599" y="648"/>
                </a:lnTo>
                <a:lnTo>
                  <a:pt x="541" y="648"/>
                </a:lnTo>
                <a:lnTo>
                  <a:pt x="484" y="648"/>
                </a:lnTo>
                <a:lnTo>
                  <a:pt x="485" y="627"/>
                </a:lnTo>
                <a:lnTo>
                  <a:pt x="485" y="608"/>
                </a:lnTo>
                <a:lnTo>
                  <a:pt x="487" y="589"/>
                </a:lnTo>
                <a:lnTo>
                  <a:pt x="489" y="570"/>
                </a:lnTo>
                <a:lnTo>
                  <a:pt x="489" y="550"/>
                </a:lnTo>
                <a:lnTo>
                  <a:pt x="491" y="533"/>
                </a:lnTo>
                <a:lnTo>
                  <a:pt x="491" y="516"/>
                </a:lnTo>
                <a:lnTo>
                  <a:pt x="493" y="499"/>
                </a:lnTo>
                <a:lnTo>
                  <a:pt x="495" y="483"/>
                </a:lnTo>
                <a:lnTo>
                  <a:pt x="495" y="468"/>
                </a:lnTo>
                <a:lnTo>
                  <a:pt x="497" y="453"/>
                </a:lnTo>
                <a:lnTo>
                  <a:pt x="497" y="439"/>
                </a:lnTo>
                <a:lnTo>
                  <a:pt x="499" y="426"/>
                </a:lnTo>
                <a:lnTo>
                  <a:pt x="499" y="412"/>
                </a:lnTo>
                <a:lnTo>
                  <a:pt x="501" y="399"/>
                </a:lnTo>
                <a:lnTo>
                  <a:pt x="501" y="387"/>
                </a:lnTo>
                <a:lnTo>
                  <a:pt x="503" y="376"/>
                </a:lnTo>
                <a:lnTo>
                  <a:pt x="503" y="364"/>
                </a:lnTo>
                <a:lnTo>
                  <a:pt x="505" y="355"/>
                </a:lnTo>
                <a:lnTo>
                  <a:pt x="505" y="345"/>
                </a:lnTo>
                <a:lnTo>
                  <a:pt x="505" y="335"/>
                </a:lnTo>
                <a:lnTo>
                  <a:pt x="507" y="326"/>
                </a:lnTo>
                <a:lnTo>
                  <a:pt x="507" y="318"/>
                </a:lnTo>
                <a:lnTo>
                  <a:pt x="507" y="311"/>
                </a:lnTo>
                <a:lnTo>
                  <a:pt x="508" y="303"/>
                </a:lnTo>
                <a:lnTo>
                  <a:pt x="508" y="295"/>
                </a:lnTo>
                <a:lnTo>
                  <a:pt x="508" y="289"/>
                </a:lnTo>
                <a:lnTo>
                  <a:pt x="508" y="284"/>
                </a:lnTo>
                <a:lnTo>
                  <a:pt x="508" y="278"/>
                </a:lnTo>
                <a:lnTo>
                  <a:pt x="508" y="272"/>
                </a:lnTo>
                <a:lnTo>
                  <a:pt x="510" y="264"/>
                </a:lnTo>
                <a:lnTo>
                  <a:pt x="508" y="251"/>
                </a:lnTo>
                <a:lnTo>
                  <a:pt x="507" y="238"/>
                </a:lnTo>
                <a:lnTo>
                  <a:pt x="505" y="226"/>
                </a:lnTo>
                <a:lnTo>
                  <a:pt x="499" y="215"/>
                </a:lnTo>
                <a:lnTo>
                  <a:pt x="495" y="205"/>
                </a:lnTo>
                <a:lnTo>
                  <a:pt x="487" y="197"/>
                </a:lnTo>
                <a:lnTo>
                  <a:pt x="480" y="190"/>
                </a:lnTo>
                <a:lnTo>
                  <a:pt x="472" y="186"/>
                </a:lnTo>
                <a:lnTo>
                  <a:pt x="466" y="182"/>
                </a:lnTo>
                <a:lnTo>
                  <a:pt x="461" y="182"/>
                </a:lnTo>
                <a:lnTo>
                  <a:pt x="455" y="180"/>
                </a:lnTo>
                <a:lnTo>
                  <a:pt x="449" y="180"/>
                </a:lnTo>
                <a:lnTo>
                  <a:pt x="443" y="180"/>
                </a:lnTo>
                <a:lnTo>
                  <a:pt x="437" y="180"/>
                </a:lnTo>
                <a:lnTo>
                  <a:pt x="430" y="182"/>
                </a:lnTo>
                <a:lnTo>
                  <a:pt x="422" y="184"/>
                </a:lnTo>
                <a:lnTo>
                  <a:pt x="414" y="186"/>
                </a:lnTo>
                <a:lnTo>
                  <a:pt x="405" y="188"/>
                </a:lnTo>
                <a:lnTo>
                  <a:pt x="397" y="190"/>
                </a:lnTo>
                <a:lnTo>
                  <a:pt x="388" y="193"/>
                </a:lnTo>
                <a:lnTo>
                  <a:pt x="378" y="197"/>
                </a:lnTo>
                <a:lnTo>
                  <a:pt x="366" y="201"/>
                </a:lnTo>
                <a:lnTo>
                  <a:pt x="355" y="207"/>
                </a:lnTo>
                <a:lnTo>
                  <a:pt x="343" y="211"/>
                </a:lnTo>
                <a:lnTo>
                  <a:pt x="332" y="216"/>
                </a:lnTo>
                <a:lnTo>
                  <a:pt x="318" y="220"/>
                </a:lnTo>
                <a:lnTo>
                  <a:pt x="303" y="224"/>
                </a:lnTo>
                <a:lnTo>
                  <a:pt x="288" y="228"/>
                </a:lnTo>
                <a:lnTo>
                  <a:pt x="270" y="232"/>
                </a:lnTo>
                <a:lnTo>
                  <a:pt x="251" y="236"/>
                </a:lnTo>
                <a:lnTo>
                  <a:pt x="232" y="240"/>
                </a:lnTo>
                <a:lnTo>
                  <a:pt x="211" y="241"/>
                </a:lnTo>
                <a:lnTo>
                  <a:pt x="188" y="243"/>
                </a:lnTo>
                <a:lnTo>
                  <a:pt x="165" y="245"/>
                </a:lnTo>
                <a:lnTo>
                  <a:pt x="140" y="247"/>
                </a:lnTo>
                <a:lnTo>
                  <a:pt x="115" y="249"/>
                </a:lnTo>
                <a:lnTo>
                  <a:pt x="88" y="249"/>
                </a:lnTo>
                <a:lnTo>
                  <a:pt x="59" y="251"/>
                </a:lnTo>
                <a:lnTo>
                  <a:pt x="31" y="251"/>
                </a:lnTo>
                <a:lnTo>
                  <a:pt x="0" y="251"/>
                </a:lnTo>
                <a:lnTo>
                  <a:pt x="0" y="211"/>
                </a:lnTo>
                <a:lnTo>
                  <a:pt x="0" y="172"/>
                </a:lnTo>
                <a:lnTo>
                  <a:pt x="8" y="170"/>
                </a:lnTo>
                <a:lnTo>
                  <a:pt x="17" y="170"/>
                </a:lnTo>
                <a:lnTo>
                  <a:pt x="27" y="170"/>
                </a:lnTo>
                <a:lnTo>
                  <a:pt x="38" y="168"/>
                </a:lnTo>
                <a:lnTo>
                  <a:pt x="52" y="167"/>
                </a:lnTo>
                <a:lnTo>
                  <a:pt x="65" y="165"/>
                </a:lnTo>
                <a:lnTo>
                  <a:pt x="79" y="163"/>
                </a:lnTo>
                <a:lnTo>
                  <a:pt x="94" y="161"/>
                </a:lnTo>
                <a:lnTo>
                  <a:pt x="111" y="157"/>
                </a:lnTo>
                <a:lnTo>
                  <a:pt x="128" y="153"/>
                </a:lnTo>
                <a:lnTo>
                  <a:pt x="148" y="149"/>
                </a:lnTo>
                <a:lnTo>
                  <a:pt x="167" y="144"/>
                </a:lnTo>
                <a:lnTo>
                  <a:pt x="188" y="138"/>
                </a:lnTo>
                <a:lnTo>
                  <a:pt x="209" y="132"/>
                </a:lnTo>
                <a:lnTo>
                  <a:pt x="232" y="126"/>
                </a:lnTo>
                <a:lnTo>
                  <a:pt x="255" y="119"/>
                </a:lnTo>
                <a:lnTo>
                  <a:pt x="276" y="113"/>
                </a:lnTo>
                <a:lnTo>
                  <a:pt x="295" y="109"/>
                </a:lnTo>
                <a:lnTo>
                  <a:pt x="315" y="103"/>
                </a:lnTo>
                <a:lnTo>
                  <a:pt x="334" y="99"/>
                </a:lnTo>
                <a:lnTo>
                  <a:pt x="351" y="94"/>
                </a:lnTo>
                <a:lnTo>
                  <a:pt x="366" y="88"/>
                </a:lnTo>
                <a:lnTo>
                  <a:pt x="382" y="84"/>
                </a:lnTo>
                <a:lnTo>
                  <a:pt x="397" y="78"/>
                </a:lnTo>
                <a:lnTo>
                  <a:pt x="411" y="74"/>
                </a:lnTo>
                <a:lnTo>
                  <a:pt x="422" y="69"/>
                </a:lnTo>
                <a:lnTo>
                  <a:pt x="434" y="65"/>
                </a:lnTo>
                <a:lnTo>
                  <a:pt x="443" y="59"/>
                </a:lnTo>
                <a:lnTo>
                  <a:pt x="451" y="53"/>
                </a:lnTo>
                <a:lnTo>
                  <a:pt x="459" y="49"/>
                </a:lnTo>
                <a:lnTo>
                  <a:pt x="466" y="44"/>
                </a:lnTo>
                <a:lnTo>
                  <a:pt x="472" y="4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Freeform 196"/>
          <p:cNvSpPr/>
          <p:nvPr/>
        </p:nvSpPr>
        <p:spPr>
          <a:xfrm>
            <a:off x="5595840" y="3201840"/>
            <a:ext cx="217440" cy="555840"/>
          </a:xfrm>
          <a:custGeom>
            <a:avLst/>
            <a:gdLst/>
            <a:ahLst/>
            <a:rect l="l" t="t" r="r" b="b"/>
            <a:pathLst>
              <a:path w="275" h="698">
                <a:moveTo>
                  <a:pt x="140" y="447"/>
                </a:moveTo>
                <a:lnTo>
                  <a:pt x="136" y="414"/>
                </a:lnTo>
                <a:lnTo>
                  <a:pt x="131" y="384"/>
                </a:lnTo>
                <a:lnTo>
                  <a:pt x="127" y="357"/>
                </a:lnTo>
                <a:lnTo>
                  <a:pt x="121" y="330"/>
                </a:lnTo>
                <a:lnTo>
                  <a:pt x="115" y="305"/>
                </a:lnTo>
                <a:lnTo>
                  <a:pt x="111" y="280"/>
                </a:lnTo>
                <a:lnTo>
                  <a:pt x="106" y="259"/>
                </a:lnTo>
                <a:lnTo>
                  <a:pt x="100" y="238"/>
                </a:lnTo>
                <a:lnTo>
                  <a:pt x="94" y="219"/>
                </a:lnTo>
                <a:lnTo>
                  <a:pt x="88" y="201"/>
                </a:lnTo>
                <a:lnTo>
                  <a:pt x="83" y="184"/>
                </a:lnTo>
                <a:lnTo>
                  <a:pt x="77" y="171"/>
                </a:lnTo>
                <a:lnTo>
                  <a:pt x="71" y="157"/>
                </a:lnTo>
                <a:lnTo>
                  <a:pt x="65" y="146"/>
                </a:lnTo>
                <a:lnTo>
                  <a:pt x="58" y="136"/>
                </a:lnTo>
                <a:lnTo>
                  <a:pt x="52" y="128"/>
                </a:lnTo>
                <a:lnTo>
                  <a:pt x="44" y="121"/>
                </a:lnTo>
                <a:lnTo>
                  <a:pt x="39" y="113"/>
                </a:lnTo>
                <a:lnTo>
                  <a:pt x="33" y="107"/>
                </a:lnTo>
                <a:lnTo>
                  <a:pt x="27" y="100"/>
                </a:lnTo>
                <a:lnTo>
                  <a:pt x="23" y="94"/>
                </a:lnTo>
                <a:lnTo>
                  <a:pt x="17" y="88"/>
                </a:lnTo>
                <a:lnTo>
                  <a:pt x="12" y="75"/>
                </a:lnTo>
                <a:lnTo>
                  <a:pt x="6" y="63"/>
                </a:lnTo>
                <a:lnTo>
                  <a:pt x="2" y="50"/>
                </a:lnTo>
                <a:lnTo>
                  <a:pt x="0" y="36"/>
                </a:lnTo>
                <a:lnTo>
                  <a:pt x="0" y="23"/>
                </a:lnTo>
                <a:lnTo>
                  <a:pt x="0" y="17"/>
                </a:lnTo>
                <a:lnTo>
                  <a:pt x="4" y="13"/>
                </a:lnTo>
                <a:lnTo>
                  <a:pt x="8" y="9"/>
                </a:lnTo>
                <a:lnTo>
                  <a:pt x="16" y="7"/>
                </a:lnTo>
                <a:lnTo>
                  <a:pt x="23" y="4"/>
                </a:lnTo>
                <a:lnTo>
                  <a:pt x="33" y="2"/>
                </a:lnTo>
                <a:lnTo>
                  <a:pt x="39" y="2"/>
                </a:lnTo>
                <a:lnTo>
                  <a:pt x="44" y="2"/>
                </a:lnTo>
                <a:lnTo>
                  <a:pt x="52" y="0"/>
                </a:lnTo>
                <a:lnTo>
                  <a:pt x="60" y="0"/>
                </a:lnTo>
                <a:lnTo>
                  <a:pt x="67" y="0"/>
                </a:lnTo>
                <a:lnTo>
                  <a:pt x="75" y="0"/>
                </a:lnTo>
                <a:lnTo>
                  <a:pt x="83" y="0"/>
                </a:lnTo>
                <a:lnTo>
                  <a:pt x="92" y="0"/>
                </a:lnTo>
                <a:lnTo>
                  <a:pt x="102" y="0"/>
                </a:lnTo>
                <a:lnTo>
                  <a:pt x="113" y="0"/>
                </a:lnTo>
                <a:lnTo>
                  <a:pt x="123" y="0"/>
                </a:lnTo>
                <a:lnTo>
                  <a:pt x="135" y="2"/>
                </a:lnTo>
                <a:lnTo>
                  <a:pt x="146" y="2"/>
                </a:lnTo>
                <a:lnTo>
                  <a:pt x="158" y="2"/>
                </a:lnTo>
                <a:lnTo>
                  <a:pt x="171" y="4"/>
                </a:lnTo>
                <a:lnTo>
                  <a:pt x="184" y="4"/>
                </a:lnTo>
                <a:lnTo>
                  <a:pt x="198" y="5"/>
                </a:lnTo>
                <a:lnTo>
                  <a:pt x="211" y="5"/>
                </a:lnTo>
                <a:lnTo>
                  <a:pt x="227" y="7"/>
                </a:lnTo>
                <a:lnTo>
                  <a:pt x="242" y="9"/>
                </a:lnTo>
                <a:lnTo>
                  <a:pt x="242" y="25"/>
                </a:lnTo>
                <a:lnTo>
                  <a:pt x="242" y="40"/>
                </a:lnTo>
                <a:lnTo>
                  <a:pt x="244" y="59"/>
                </a:lnTo>
                <a:lnTo>
                  <a:pt x="244" y="78"/>
                </a:lnTo>
                <a:lnTo>
                  <a:pt x="246" y="98"/>
                </a:lnTo>
                <a:lnTo>
                  <a:pt x="246" y="121"/>
                </a:lnTo>
                <a:lnTo>
                  <a:pt x="248" y="144"/>
                </a:lnTo>
                <a:lnTo>
                  <a:pt x="250" y="167"/>
                </a:lnTo>
                <a:lnTo>
                  <a:pt x="252" y="194"/>
                </a:lnTo>
                <a:lnTo>
                  <a:pt x="254" y="220"/>
                </a:lnTo>
                <a:lnTo>
                  <a:pt x="255" y="247"/>
                </a:lnTo>
                <a:lnTo>
                  <a:pt x="257" y="276"/>
                </a:lnTo>
                <a:lnTo>
                  <a:pt x="261" y="307"/>
                </a:lnTo>
                <a:lnTo>
                  <a:pt x="263" y="339"/>
                </a:lnTo>
                <a:lnTo>
                  <a:pt x="265" y="372"/>
                </a:lnTo>
                <a:lnTo>
                  <a:pt x="267" y="407"/>
                </a:lnTo>
                <a:lnTo>
                  <a:pt x="269" y="424"/>
                </a:lnTo>
                <a:lnTo>
                  <a:pt x="269" y="443"/>
                </a:lnTo>
                <a:lnTo>
                  <a:pt x="271" y="458"/>
                </a:lnTo>
                <a:lnTo>
                  <a:pt x="271" y="476"/>
                </a:lnTo>
                <a:lnTo>
                  <a:pt x="273" y="491"/>
                </a:lnTo>
                <a:lnTo>
                  <a:pt x="273" y="506"/>
                </a:lnTo>
                <a:lnTo>
                  <a:pt x="273" y="522"/>
                </a:lnTo>
                <a:lnTo>
                  <a:pt x="275" y="535"/>
                </a:lnTo>
                <a:lnTo>
                  <a:pt x="275" y="549"/>
                </a:lnTo>
                <a:lnTo>
                  <a:pt x="275" y="562"/>
                </a:lnTo>
                <a:lnTo>
                  <a:pt x="275" y="574"/>
                </a:lnTo>
                <a:lnTo>
                  <a:pt x="275" y="585"/>
                </a:lnTo>
                <a:lnTo>
                  <a:pt x="275" y="597"/>
                </a:lnTo>
                <a:lnTo>
                  <a:pt x="275" y="608"/>
                </a:lnTo>
                <a:lnTo>
                  <a:pt x="275" y="618"/>
                </a:lnTo>
                <a:lnTo>
                  <a:pt x="273" y="627"/>
                </a:lnTo>
                <a:lnTo>
                  <a:pt x="273" y="635"/>
                </a:lnTo>
                <a:lnTo>
                  <a:pt x="273" y="643"/>
                </a:lnTo>
                <a:lnTo>
                  <a:pt x="271" y="650"/>
                </a:lnTo>
                <a:lnTo>
                  <a:pt x="271" y="658"/>
                </a:lnTo>
                <a:lnTo>
                  <a:pt x="269" y="664"/>
                </a:lnTo>
                <a:lnTo>
                  <a:pt x="267" y="670"/>
                </a:lnTo>
                <a:lnTo>
                  <a:pt x="265" y="675"/>
                </a:lnTo>
                <a:lnTo>
                  <a:pt x="263" y="681"/>
                </a:lnTo>
                <a:lnTo>
                  <a:pt x="261" y="685"/>
                </a:lnTo>
                <a:lnTo>
                  <a:pt x="259" y="689"/>
                </a:lnTo>
                <a:lnTo>
                  <a:pt x="257" y="691"/>
                </a:lnTo>
                <a:lnTo>
                  <a:pt x="255" y="693"/>
                </a:lnTo>
                <a:lnTo>
                  <a:pt x="252" y="695"/>
                </a:lnTo>
                <a:lnTo>
                  <a:pt x="248" y="696"/>
                </a:lnTo>
                <a:lnTo>
                  <a:pt x="246" y="698"/>
                </a:lnTo>
                <a:lnTo>
                  <a:pt x="242" y="698"/>
                </a:lnTo>
                <a:lnTo>
                  <a:pt x="234" y="696"/>
                </a:lnTo>
                <a:lnTo>
                  <a:pt x="229" y="695"/>
                </a:lnTo>
                <a:lnTo>
                  <a:pt x="225" y="693"/>
                </a:lnTo>
                <a:lnTo>
                  <a:pt x="221" y="689"/>
                </a:lnTo>
                <a:lnTo>
                  <a:pt x="217" y="687"/>
                </a:lnTo>
                <a:lnTo>
                  <a:pt x="213" y="683"/>
                </a:lnTo>
                <a:lnTo>
                  <a:pt x="209" y="679"/>
                </a:lnTo>
                <a:lnTo>
                  <a:pt x="206" y="673"/>
                </a:lnTo>
                <a:lnTo>
                  <a:pt x="204" y="670"/>
                </a:lnTo>
                <a:lnTo>
                  <a:pt x="200" y="664"/>
                </a:lnTo>
                <a:lnTo>
                  <a:pt x="196" y="658"/>
                </a:lnTo>
                <a:lnTo>
                  <a:pt x="192" y="650"/>
                </a:lnTo>
                <a:lnTo>
                  <a:pt x="190" y="645"/>
                </a:lnTo>
                <a:lnTo>
                  <a:pt x="186" y="637"/>
                </a:lnTo>
                <a:lnTo>
                  <a:pt x="183" y="629"/>
                </a:lnTo>
                <a:lnTo>
                  <a:pt x="181" y="620"/>
                </a:lnTo>
                <a:lnTo>
                  <a:pt x="177" y="610"/>
                </a:lnTo>
                <a:lnTo>
                  <a:pt x="173" y="601"/>
                </a:lnTo>
                <a:lnTo>
                  <a:pt x="171" y="591"/>
                </a:lnTo>
                <a:lnTo>
                  <a:pt x="167" y="581"/>
                </a:lnTo>
                <a:lnTo>
                  <a:pt x="163" y="570"/>
                </a:lnTo>
                <a:lnTo>
                  <a:pt x="161" y="558"/>
                </a:lnTo>
                <a:lnTo>
                  <a:pt x="158" y="547"/>
                </a:lnTo>
                <a:lnTo>
                  <a:pt x="156" y="533"/>
                </a:lnTo>
                <a:lnTo>
                  <a:pt x="154" y="520"/>
                </a:lnTo>
                <a:lnTo>
                  <a:pt x="150" y="506"/>
                </a:lnTo>
                <a:lnTo>
                  <a:pt x="148" y="491"/>
                </a:lnTo>
                <a:lnTo>
                  <a:pt x="146" y="478"/>
                </a:lnTo>
                <a:lnTo>
                  <a:pt x="142" y="462"/>
                </a:lnTo>
                <a:lnTo>
                  <a:pt x="140" y="44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矩形 4"/>
          <p:cNvSpPr/>
          <p:nvPr/>
        </p:nvSpPr>
        <p:spPr>
          <a:xfrm>
            <a:off x="2218680" y="2548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揪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5114880" y="238284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68" name="组合 8"/>
          <p:cNvGrpSpPr/>
          <p:nvPr/>
        </p:nvGrpSpPr>
        <p:grpSpPr>
          <a:xfrm>
            <a:off x="1400040" y="3975120"/>
            <a:ext cx="2840040" cy="1621080"/>
            <a:chOff x="1400040" y="3975120"/>
            <a:chExt cx="2840040" cy="1621080"/>
          </a:xfrm>
        </p:grpSpPr>
        <p:pic>
          <p:nvPicPr>
            <p:cNvPr id="169" name="图示 4" descr=""/>
            <p:cNvPicPr/>
            <p:nvPr/>
          </p:nvPicPr>
          <p:blipFill>
            <a:blip r:embed="rId1"/>
            <a:stretch/>
          </p:blipFill>
          <p:spPr>
            <a:xfrm>
              <a:off x="1400040" y="3975120"/>
              <a:ext cx="284004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矩形 2"/>
            <p:cNvSpPr/>
            <p:nvPr/>
          </p:nvSpPr>
          <p:spPr>
            <a:xfrm>
              <a:off x="1444680" y="4587840"/>
              <a:ext cx="2766600" cy="1008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“</a:t>
              </a: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禾”捺变点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1" name="矩形 3"/>
          <p:cNvSpPr/>
          <p:nvPr/>
        </p:nvSpPr>
        <p:spPr>
          <a:xfrm>
            <a:off x="2171880" y="1868400"/>
            <a:ext cx="917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jiū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Freeform 119"/>
          <p:cNvSpPr/>
          <p:nvPr/>
        </p:nvSpPr>
        <p:spPr>
          <a:xfrm>
            <a:off x="7234200" y="3495600"/>
            <a:ext cx="293760" cy="455760"/>
          </a:xfrm>
          <a:custGeom>
            <a:avLst/>
            <a:gdLst/>
            <a:ahLst/>
            <a:rect l="l" t="t" r="r" b="b"/>
            <a:pathLst>
              <a:path w="370" h="574">
                <a:moveTo>
                  <a:pt x="58" y="439"/>
                </a:moveTo>
                <a:lnTo>
                  <a:pt x="79" y="405"/>
                </a:lnTo>
                <a:lnTo>
                  <a:pt x="98" y="370"/>
                </a:lnTo>
                <a:lnTo>
                  <a:pt x="115" y="340"/>
                </a:lnTo>
                <a:lnTo>
                  <a:pt x="125" y="324"/>
                </a:lnTo>
                <a:lnTo>
                  <a:pt x="132" y="309"/>
                </a:lnTo>
                <a:lnTo>
                  <a:pt x="140" y="294"/>
                </a:lnTo>
                <a:lnTo>
                  <a:pt x="146" y="278"/>
                </a:lnTo>
                <a:lnTo>
                  <a:pt x="152" y="265"/>
                </a:lnTo>
                <a:lnTo>
                  <a:pt x="157" y="251"/>
                </a:lnTo>
                <a:lnTo>
                  <a:pt x="163" y="238"/>
                </a:lnTo>
                <a:lnTo>
                  <a:pt x="167" y="225"/>
                </a:lnTo>
                <a:lnTo>
                  <a:pt x="171" y="211"/>
                </a:lnTo>
                <a:lnTo>
                  <a:pt x="173" y="200"/>
                </a:lnTo>
                <a:lnTo>
                  <a:pt x="175" y="186"/>
                </a:lnTo>
                <a:lnTo>
                  <a:pt x="177" y="175"/>
                </a:lnTo>
                <a:lnTo>
                  <a:pt x="179" y="163"/>
                </a:lnTo>
                <a:lnTo>
                  <a:pt x="179" y="153"/>
                </a:lnTo>
                <a:lnTo>
                  <a:pt x="180" y="134"/>
                </a:lnTo>
                <a:lnTo>
                  <a:pt x="180" y="115"/>
                </a:lnTo>
                <a:lnTo>
                  <a:pt x="180" y="100"/>
                </a:lnTo>
                <a:lnTo>
                  <a:pt x="179" y="82"/>
                </a:lnTo>
                <a:lnTo>
                  <a:pt x="177" y="67"/>
                </a:lnTo>
                <a:lnTo>
                  <a:pt x="173" y="52"/>
                </a:lnTo>
                <a:lnTo>
                  <a:pt x="169" y="48"/>
                </a:lnTo>
                <a:lnTo>
                  <a:pt x="165" y="42"/>
                </a:lnTo>
                <a:lnTo>
                  <a:pt x="163" y="38"/>
                </a:lnTo>
                <a:lnTo>
                  <a:pt x="159" y="34"/>
                </a:lnTo>
                <a:lnTo>
                  <a:pt x="157" y="31"/>
                </a:lnTo>
                <a:lnTo>
                  <a:pt x="157" y="27"/>
                </a:lnTo>
                <a:lnTo>
                  <a:pt x="157" y="23"/>
                </a:lnTo>
                <a:lnTo>
                  <a:pt x="157" y="21"/>
                </a:lnTo>
                <a:lnTo>
                  <a:pt x="157" y="17"/>
                </a:lnTo>
                <a:lnTo>
                  <a:pt x="159" y="15"/>
                </a:lnTo>
                <a:lnTo>
                  <a:pt x="161" y="11"/>
                </a:lnTo>
                <a:lnTo>
                  <a:pt x="165" y="10"/>
                </a:lnTo>
                <a:lnTo>
                  <a:pt x="169" y="6"/>
                </a:lnTo>
                <a:lnTo>
                  <a:pt x="173" y="4"/>
                </a:lnTo>
                <a:lnTo>
                  <a:pt x="179" y="2"/>
                </a:lnTo>
                <a:lnTo>
                  <a:pt x="184" y="0"/>
                </a:lnTo>
                <a:lnTo>
                  <a:pt x="188" y="0"/>
                </a:lnTo>
                <a:lnTo>
                  <a:pt x="194" y="0"/>
                </a:lnTo>
                <a:lnTo>
                  <a:pt x="198" y="2"/>
                </a:lnTo>
                <a:lnTo>
                  <a:pt x="203" y="4"/>
                </a:lnTo>
                <a:lnTo>
                  <a:pt x="209" y="6"/>
                </a:lnTo>
                <a:lnTo>
                  <a:pt x="215" y="10"/>
                </a:lnTo>
                <a:lnTo>
                  <a:pt x="223" y="13"/>
                </a:lnTo>
                <a:lnTo>
                  <a:pt x="228" y="17"/>
                </a:lnTo>
                <a:lnTo>
                  <a:pt x="244" y="27"/>
                </a:lnTo>
                <a:lnTo>
                  <a:pt x="261" y="38"/>
                </a:lnTo>
                <a:lnTo>
                  <a:pt x="269" y="44"/>
                </a:lnTo>
                <a:lnTo>
                  <a:pt x="278" y="52"/>
                </a:lnTo>
                <a:lnTo>
                  <a:pt x="290" y="58"/>
                </a:lnTo>
                <a:lnTo>
                  <a:pt x="299" y="65"/>
                </a:lnTo>
                <a:lnTo>
                  <a:pt x="309" y="75"/>
                </a:lnTo>
                <a:lnTo>
                  <a:pt x="319" y="84"/>
                </a:lnTo>
                <a:lnTo>
                  <a:pt x="328" y="94"/>
                </a:lnTo>
                <a:lnTo>
                  <a:pt x="336" y="104"/>
                </a:lnTo>
                <a:lnTo>
                  <a:pt x="344" y="111"/>
                </a:lnTo>
                <a:lnTo>
                  <a:pt x="349" y="121"/>
                </a:lnTo>
                <a:lnTo>
                  <a:pt x="355" y="129"/>
                </a:lnTo>
                <a:lnTo>
                  <a:pt x="359" y="136"/>
                </a:lnTo>
                <a:lnTo>
                  <a:pt x="363" y="144"/>
                </a:lnTo>
                <a:lnTo>
                  <a:pt x="367" y="150"/>
                </a:lnTo>
                <a:lnTo>
                  <a:pt x="369" y="157"/>
                </a:lnTo>
                <a:lnTo>
                  <a:pt x="370" y="163"/>
                </a:lnTo>
                <a:lnTo>
                  <a:pt x="370" y="169"/>
                </a:lnTo>
                <a:lnTo>
                  <a:pt x="370" y="175"/>
                </a:lnTo>
                <a:lnTo>
                  <a:pt x="370" y="180"/>
                </a:lnTo>
                <a:lnTo>
                  <a:pt x="369" y="186"/>
                </a:lnTo>
                <a:lnTo>
                  <a:pt x="367" y="194"/>
                </a:lnTo>
                <a:lnTo>
                  <a:pt x="363" y="201"/>
                </a:lnTo>
                <a:lnTo>
                  <a:pt x="357" y="211"/>
                </a:lnTo>
                <a:lnTo>
                  <a:pt x="351" y="221"/>
                </a:lnTo>
                <a:lnTo>
                  <a:pt x="344" y="232"/>
                </a:lnTo>
                <a:lnTo>
                  <a:pt x="336" y="244"/>
                </a:lnTo>
                <a:lnTo>
                  <a:pt x="326" y="255"/>
                </a:lnTo>
                <a:lnTo>
                  <a:pt x="317" y="269"/>
                </a:lnTo>
                <a:lnTo>
                  <a:pt x="305" y="282"/>
                </a:lnTo>
                <a:lnTo>
                  <a:pt x="292" y="297"/>
                </a:lnTo>
                <a:lnTo>
                  <a:pt x="278" y="313"/>
                </a:lnTo>
                <a:lnTo>
                  <a:pt x="265" y="330"/>
                </a:lnTo>
                <a:lnTo>
                  <a:pt x="250" y="349"/>
                </a:lnTo>
                <a:lnTo>
                  <a:pt x="232" y="368"/>
                </a:lnTo>
                <a:lnTo>
                  <a:pt x="215" y="390"/>
                </a:lnTo>
                <a:lnTo>
                  <a:pt x="196" y="413"/>
                </a:lnTo>
                <a:lnTo>
                  <a:pt x="177" y="434"/>
                </a:lnTo>
                <a:lnTo>
                  <a:pt x="159" y="453"/>
                </a:lnTo>
                <a:lnTo>
                  <a:pt x="142" y="472"/>
                </a:lnTo>
                <a:lnTo>
                  <a:pt x="125" y="489"/>
                </a:lnTo>
                <a:lnTo>
                  <a:pt x="109" y="505"/>
                </a:lnTo>
                <a:lnTo>
                  <a:pt x="96" y="518"/>
                </a:lnTo>
                <a:lnTo>
                  <a:pt x="83" y="532"/>
                </a:lnTo>
                <a:lnTo>
                  <a:pt x="69" y="541"/>
                </a:lnTo>
                <a:lnTo>
                  <a:pt x="58" y="551"/>
                </a:lnTo>
                <a:lnTo>
                  <a:pt x="48" y="558"/>
                </a:lnTo>
                <a:lnTo>
                  <a:pt x="38" y="564"/>
                </a:lnTo>
                <a:lnTo>
                  <a:pt x="31" y="570"/>
                </a:lnTo>
                <a:lnTo>
                  <a:pt x="25" y="572"/>
                </a:lnTo>
                <a:lnTo>
                  <a:pt x="19" y="574"/>
                </a:lnTo>
                <a:lnTo>
                  <a:pt x="13" y="574"/>
                </a:lnTo>
                <a:lnTo>
                  <a:pt x="12" y="572"/>
                </a:lnTo>
                <a:lnTo>
                  <a:pt x="8" y="572"/>
                </a:lnTo>
                <a:lnTo>
                  <a:pt x="4" y="570"/>
                </a:lnTo>
                <a:lnTo>
                  <a:pt x="2" y="568"/>
                </a:lnTo>
                <a:lnTo>
                  <a:pt x="2" y="564"/>
                </a:lnTo>
                <a:lnTo>
                  <a:pt x="0" y="560"/>
                </a:lnTo>
                <a:lnTo>
                  <a:pt x="2" y="555"/>
                </a:lnTo>
                <a:lnTo>
                  <a:pt x="2" y="547"/>
                </a:lnTo>
                <a:lnTo>
                  <a:pt x="4" y="539"/>
                </a:lnTo>
                <a:lnTo>
                  <a:pt x="8" y="532"/>
                </a:lnTo>
                <a:lnTo>
                  <a:pt x="12" y="522"/>
                </a:lnTo>
                <a:lnTo>
                  <a:pt x="17" y="511"/>
                </a:lnTo>
                <a:lnTo>
                  <a:pt x="23" y="499"/>
                </a:lnTo>
                <a:lnTo>
                  <a:pt x="31" y="486"/>
                </a:lnTo>
                <a:lnTo>
                  <a:pt x="38" y="470"/>
                </a:lnTo>
                <a:lnTo>
                  <a:pt x="48" y="455"/>
                </a:lnTo>
                <a:lnTo>
                  <a:pt x="58" y="439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Freeform 120"/>
          <p:cNvSpPr/>
          <p:nvPr/>
        </p:nvSpPr>
        <p:spPr>
          <a:xfrm>
            <a:off x="7068960" y="3992400"/>
            <a:ext cx="731880" cy="908280"/>
          </a:xfrm>
          <a:custGeom>
            <a:avLst/>
            <a:gdLst/>
            <a:ahLst/>
            <a:rect l="l" t="t" r="r" b="b"/>
            <a:pathLst>
              <a:path w="921" h="1144">
                <a:moveTo>
                  <a:pt x="57" y="0"/>
                </a:moveTo>
                <a:lnTo>
                  <a:pt x="86" y="48"/>
                </a:lnTo>
                <a:lnTo>
                  <a:pt x="113" y="96"/>
                </a:lnTo>
                <a:lnTo>
                  <a:pt x="142" y="144"/>
                </a:lnTo>
                <a:lnTo>
                  <a:pt x="169" y="188"/>
                </a:lnTo>
                <a:lnTo>
                  <a:pt x="195" y="232"/>
                </a:lnTo>
                <a:lnTo>
                  <a:pt x="220" y="276"/>
                </a:lnTo>
                <a:lnTo>
                  <a:pt x="247" y="316"/>
                </a:lnTo>
                <a:lnTo>
                  <a:pt x="272" y="357"/>
                </a:lnTo>
                <a:lnTo>
                  <a:pt x="295" y="395"/>
                </a:lnTo>
                <a:lnTo>
                  <a:pt x="320" y="433"/>
                </a:lnTo>
                <a:lnTo>
                  <a:pt x="343" y="470"/>
                </a:lnTo>
                <a:lnTo>
                  <a:pt x="366" y="504"/>
                </a:lnTo>
                <a:lnTo>
                  <a:pt x="389" y="537"/>
                </a:lnTo>
                <a:lnTo>
                  <a:pt x="412" y="570"/>
                </a:lnTo>
                <a:lnTo>
                  <a:pt x="434" y="600"/>
                </a:lnTo>
                <a:lnTo>
                  <a:pt x="455" y="631"/>
                </a:lnTo>
                <a:lnTo>
                  <a:pt x="476" y="658"/>
                </a:lnTo>
                <a:lnTo>
                  <a:pt x="495" y="685"/>
                </a:lnTo>
                <a:lnTo>
                  <a:pt x="516" y="712"/>
                </a:lnTo>
                <a:lnTo>
                  <a:pt x="535" y="735"/>
                </a:lnTo>
                <a:lnTo>
                  <a:pt x="553" y="758"/>
                </a:lnTo>
                <a:lnTo>
                  <a:pt x="572" y="781"/>
                </a:lnTo>
                <a:lnTo>
                  <a:pt x="589" y="802"/>
                </a:lnTo>
                <a:lnTo>
                  <a:pt x="606" y="821"/>
                </a:lnTo>
                <a:lnTo>
                  <a:pt x="624" y="838"/>
                </a:lnTo>
                <a:lnTo>
                  <a:pt x="639" y="856"/>
                </a:lnTo>
                <a:lnTo>
                  <a:pt x="654" y="871"/>
                </a:lnTo>
                <a:lnTo>
                  <a:pt x="670" y="886"/>
                </a:lnTo>
                <a:lnTo>
                  <a:pt x="685" y="898"/>
                </a:lnTo>
                <a:lnTo>
                  <a:pt x="698" y="911"/>
                </a:lnTo>
                <a:lnTo>
                  <a:pt x="712" y="921"/>
                </a:lnTo>
                <a:lnTo>
                  <a:pt x="725" y="931"/>
                </a:lnTo>
                <a:lnTo>
                  <a:pt x="748" y="948"/>
                </a:lnTo>
                <a:lnTo>
                  <a:pt x="769" y="963"/>
                </a:lnTo>
                <a:lnTo>
                  <a:pt x="791" y="979"/>
                </a:lnTo>
                <a:lnTo>
                  <a:pt x="808" y="994"/>
                </a:lnTo>
                <a:lnTo>
                  <a:pt x="827" y="1007"/>
                </a:lnTo>
                <a:lnTo>
                  <a:pt x="842" y="1019"/>
                </a:lnTo>
                <a:lnTo>
                  <a:pt x="858" y="1030"/>
                </a:lnTo>
                <a:lnTo>
                  <a:pt x="869" y="1042"/>
                </a:lnTo>
                <a:lnTo>
                  <a:pt x="881" y="1052"/>
                </a:lnTo>
                <a:lnTo>
                  <a:pt x="892" y="1059"/>
                </a:lnTo>
                <a:lnTo>
                  <a:pt x="900" y="1067"/>
                </a:lnTo>
                <a:lnTo>
                  <a:pt x="908" y="1073"/>
                </a:lnTo>
                <a:lnTo>
                  <a:pt x="913" y="1078"/>
                </a:lnTo>
                <a:lnTo>
                  <a:pt x="917" y="1084"/>
                </a:lnTo>
                <a:lnTo>
                  <a:pt x="919" y="1088"/>
                </a:lnTo>
                <a:lnTo>
                  <a:pt x="921" y="1090"/>
                </a:lnTo>
                <a:lnTo>
                  <a:pt x="921" y="1094"/>
                </a:lnTo>
                <a:lnTo>
                  <a:pt x="919" y="1096"/>
                </a:lnTo>
                <a:lnTo>
                  <a:pt x="917" y="1098"/>
                </a:lnTo>
                <a:lnTo>
                  <a:pt x="915" y="1100"/>
                </a:lnTo>
                <a:lnTo>
                  <a:pt x="913" y="1103"/>
                </a:lnTo>
                <a:lnTo>
                  <a:pt x="910" y="1105"/>
                </a:lnTo>
                <a:lnTo>
                  <a:pt x="906" y="1107"/>
                </a:lnTo>
                <a:lnTo>
                  <a:pt x="902" y="1111"/>
                </a:lnTo>
                <a:lnTo>
                  <a:pt x="896" y="1113"/>
                </a:lnTo>
                <a:lnTo>
                  <a:pt x="890" y="1115"/>
                </a:lnTo>
                <a:lnTo>
                  <a:pt x="885" y="1119"/>
                </a:lnTo>
                <a:lnTo>
                  <a:pt x="877" y="1121"/>
                </a:lnTo>
                <a:lnTo>
                  <a:pt x="869" y="1123"/>
                </a:lnTo>
                <a:lnTo>
                  <a:pt x="860" y="1126"/>
                </a:lnTo>
                <a:lnTo>
                  <a:pt x="850" y="1128"/>
                </a:lnTo>
                <a:lnTo>
                  <a:pt x="840" y="1130"/>
                </a:lnTo>
                <a:lnTo>
                  <a:pt x="819" y="1136"/>
                </a:lnTo>
                <a:lnTo>
                  <a:pt x="796" y="1138"/>
                </a:lnTo>
                <a:lnTo>
                  <a:pt x="775" y="1140"/>
                </a:lnTo>
                <a:lnTo>
                  <a:pt x="754" y="1142"/>
                </a:lnTo>
                <a:lnTo>
                  <a:pt x="733" y="1144"/>
                </a:lnTo>
                <a:lnTo>
                  <a:pt x="712" y="1144"/>
                </a:lnTo>
                <a:lnTo>
                  <a:pt x="668" y="1144"/>
                </a:lnTo>
                <a:lnTo>
                  <a:pt x="647" y="1144"/>
                </a:lnTo>
                <a:lnTo>
                  <a:pt x="624" y="1142"/>
                </a:lnTo>
                <a:lnTo>
                  <a:pt x="602" y="1138"/>
                </a:lnTo>
                <a:lnTo>
                  <a:pt x="581" y="1134"/>
                </a:lnTo>
                <a:lnTo>
                  <a:pt x="560" y="1128"/>
                </a:lnTo>
                <a:lnTo>
                  <a:pt x="537" y="1121"/>
                </a:lnTo>
                <a:lnTo>
                  <a:pt x="516" y="1113"/>
                </a:lnTo>
                <a:lnTo>
                  <a:pt x="495" y="1103"/>
                </a:lnTo>
                <a:lnTo>
                  <a:pt x="493" y="1103"/>
                </a:lnTo>
                <a:lnTo>
                  <a:pt x="489" y="1101"/>
                </a:lnTo>
                <a:lnTo>
                  <a:pt x="485" y="1100"/>
                </a:lnTo>
                <a:lnTo>
                  <a:pt x="483" y="1098"/>
                </a:lnTo>
                <a:lnTo>
                  <a:pt x="480" y="1094"/>
                </a:lnTo>
                <a:lnTo>
                  <a:pt x="476" y="1090"/>
                </a:lnTo>
                <a:lnTo>
                  <a:pt x="472" y="1086"/>
                </a:lnTo>
                <a:lnTo>
                  <a:pt x="468" y="1082"/>
                </a:lnTo>
                <a:lnTo>
                  <a:pt x="464" y="1076"/>
                </a:lnTo>
                <a:lnTo>
                  <a:pt x="458" y="1071"/>
                </a:lnTo>
                <a:lnTo>
                  <a:pt x="455" y="1065"/>
                </a:lnTo>
                <a:lnTo>
                  <a:pt x="451" y="1059"/>
                </a:lnTo>
                <a:lnTo>
                  <a:pt x="445" y="1052"/>
                </a:lnTo>
                <a:lnTo>
                  <a:pt x="441" y="1044"/>
                </a:lnTo>
                <a:lnTo>
                  <a:pt x="435" y="1036"/>
                </a:lnTo>
                <a:lnTo>
                  <a:pt x="430" y="1027"/>
                </a:lnTo>
                <a:lnTo>
                  <a:pt x="424" y="1017"/>
                </a:lnTo>
                <a:lnTo>
                  <a:pt x="418" y="1007"/>
                </a:lnTo>
                <a:lnTo>
                  <a:pt x="412" y="998"/>
                </a:lnTo>
                <a:lnTo>
                  <a:pt x="407" y="986"/>
                </a:lnTo>
                <a:lnTo>
                  <a:pt x="401" y="977"/>
                </a:lnTo>
                <a:lnTo>
                  <a:pt x="395" y="963"/>
                </a:lnTo>
                <a:lnTo>
                  <a:pt x="387" y="952"/>
                </a:lnTo>
                <a:lnTo>
                  <a:pt x="382" y="938"/>
                </a:lnTo>
                <a:lnTo>
                  <a:pt x="374" y="925"/>
                </a:lnTo>
                <a:lnTo>
                  <a:pt x="368" y="911"/>
                </a:lnTo>
                <a:lnTo>
                  <a:pt x="361" y="898"/>
                </a:lnTo>
                <a:lnTo>
                  <a:pt x="353" y="883"/>
                </a:lnTo>
                <a:lnTo>
                  <a:pt x="347" y="867"/>
                </a:lnTo>
                <a:lnTo>
                  <a:pt x="339" y="852"/>
                </a:lnTo>
                <a:lnTo>
                  <a:pt x="332" y="835"/>
                </a:lnTo>
                <a:lnTo>
                  <a:pt x="324" y="817"/>
                </a:lnTo>
                <a:lnTo>
                  <a:pt x="314" y="800"/>
                </a:lnTo>
                <a:lnTo>
                  <a:pt x="307" y="783"/>
                </a:lnTo>
                <a:lnTo>
                  <a:pt x="299" y="764"/>
                </a:lnTo>
                <a:lnTo>
                  <a:pt x="291" y="746"/>
                </a:lnTo>
                <a:lnTo>
                  <a:pt x="282" y="725"/>
                </a:lnTo>
                <a:lnTo>
                  <a:pt x="274" y="706"/>
                </a:lnTo>
                <a:lnTo>
                  <a:pt x="265" y="685"/>
                </a:lnTo>
                <a:lnTo>
                  <a:pt x="255" y="666"/>
                </a:lnTo>
                <a:lnTo>
                  <a:pt x="245" y="643"/>
                </a:lnTo>
                <a:lnTo>
                  <a:pt x="238" y="622"/>
                </a:lnTo>
                <a:lnTo>
                  <a:pt x="228" y="599"/>
                </a:lnTo>
                <a:lnTo>
                  <a:pt x="219" y="576"/>
                </a:lnTo>
                <a:lnTo>
                  <a:pt x="209" y="552"/>
                </a:lnTo>
                <a:lnTo>
                  <a:pt x="199" y="529"/>
                </a:lnTo>
                <a:lnTo>
                  <a:pt x="188" y="504"/>
                </a:lnTo>
                <a:lnTo>
                  <a:pt x="178" y="480"/>
                </a:lnTo>
                <a:lnTo>
                  <a:pt x="169" y="455"/>
                </a:lnTo>
                <a:lnTo>
                  <a:pt x="157" y="428"/>
                </a:lnTo>
                <a:lnTo>
                  <a:pt x="147" y="401"/>
                </a:lnTo>
                <a:lnTo>
                  <a:pt x="136" y="374"/>
                </a:lnTo>
                <a:lnTo>
                  <a:pt x="126" y="347"/>
                </a:lnTo>
                <a:lnTo>
                  <a:pt x="115" y="318"/>
                </a:lnTo>
                <a:lnTo>
                  <a:pt x="103" y="290"/>
                </a:lnTo>
                <a:lnTo>
                  <a:pt x="94" y="261"/>
                </a:lnTo>
                <a:lnTo>
                  <a:pt x="82" y="232"/>
                </a:lnTo>
                <a:lnTo>
                  <a:pt x="71" y="201"/>
                </a:lnTo>
                <a:lnTo>
                  <a:pt x="59" y="172"/>
                </a:lnTo>
                <a:lnTo>
                  <a:pt x="48" y="140"/>
                </a:lnTo>
                <a:lnTo>
                  <a:pt x="36" y="109"/>
                </a:lnTo>
                <a:lnTo>
                  <a:pt x="23" y="76"/>
                </a:lnTo>
                <a:lnTo>
                  <a:pt x="11" y="46"/>
                </a:lnTo>
                <a:lnTo>
                  <a:pt x="0" y="11"/>
                </a:lnTo>
                <a:lnTo>
                  <a:pt x="28" y="5"/>
                </a:lnTo>
                <a:lnTo>
                  <a:pt x="57" y="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Freeform 121"/>
          <p:cNvSpPr/>
          <p:nvPr/>
        </p:nvSpPr>
        <p:spPr>
          <a:xfrm>
            <a:off x="6637320" y="2928960"/>
            <a:ext cx="576360" cy="1932120"/>
          </a:xfrm>
          <a:custGeom>
            <a:avLst/>
            <a:gdLst/>
            <a:ahLst/>
            <a:rect l="l" t="t" r="r" b="b"/>
            <a:pathLst>
              <a:path w="726" h="2434">
                <a:moveTo>
                  <a:pt x="601" y="1553"/>
                </a:moveTo>
                <a:lnTo>
                  <a:pt x="596" y="1580"/>
                </a:lnTo>
                <a:lnTo>
                  <a:pt x="588" y="1606"/>
                </a:lnTo>
                <a:lnTo>
                  <a:pt x="580" y="1633"/>
                </a:lnTo>
                <a:lnTo>
                  <a:pt x="571" y="1662"/>
                </a:lnTo>
                <a:lnTo>
                  <a:pt x="563" y="1689"/>
                </a:lnTo>
                <a:lnTo>
                  <a:pt x="553" y="1716"/>
                </a:lnTo>
                <a:lnTo>
                  <a:pt x="544" y="1745"/>
                </a:lnTo>
                <a:lnTo>
                  <a:pt x="532" y="1772"/>
                </a:lnTo>
                <a:lnTo>
                  <a:pt x="521" y="1798"/>
                </a:lnTo>
                <a:lnTo>
                  <a:pt x="509" y="1827"/>
                </a:lnTo>
                <a:lnTo>
                  <a:pt x="498" y="1854"/>
                </a:lnTo>
                <a:lnTo>
                  <a:pt x="484" y="1881"/>
                </a:lnTo>
                <a:lnTo>
                  <a:pt x="471" y="1908"/>
                </a:lnTo>
                <a:lnTo>
                  <a:pt x="457" y="1937"/>
                </a:lnTo>
                <a:lnTo>
                  <a:pt x="444" y="1963"/>
                </a:lnTo>
                <a:lnTo>
                  <a:pt x="429" y="1992"/>
                </a:lnTo>
                <a:lnTo>
                  <a:pt x="413" y="2019"/>
                </a:lnTo>
                <a:lnTo>
                  <a:pt x="398" y="2044"/>
                </a:lnTo>
                <a:lnTo>
                  <a:pt x="384" y="2069"/>
                </a:lnTo>
                <a:lnTo>
                  <a:pt x="369" y="2094"/>
                </a:lnTo>
                <a:lnTo>
                  <a:pt x="354" y="2117"/>
                </a:lnTo>
                <a:lnTo>
                  <a:pt x="336" y="2140"/>
                </a:lnTo>
                <a:lnTo>
                  <a:pt x="321" y="2161"/>
                </a:lnTo>
                <a:lnTo>
                  <a:pt x="306" y="2182"/>
                </a:lnTo>
                <a:lnTo>
                  <a:pt x="288" y="2203"/>
                </a:lnTo>
                <a:lnTo>
                  <a:pt x="271" y="2223"/>
                </a:lnTo>
                <a:lnTo>
                  <a:pt x="256" y="2240"/>
                </a:lnTo>
                <a:lnTo>
                  <a:pt x="239" y="2259"/>
                </a:lnTo>
                <a:lnTo>
                  <a:pt x="219" y="2276"/>
                </a:lnTo>
                <a:lnTo>
                  <a:pt x="202" y="2292"/>
                </a:lnTo>
                <a:lnTo>
                  <a:pt x="183" y="2309"/>
                </a:lnTo>
                <a:lnTo>
                  <a:pt x="164" y="2324"/>
                </a:lnTo>
                <a:lnTo>
                  <a:pt x="146" y="2338"/>
                </a:lnTo>
                <a:lnTo>
                  <a:pt x="127" y="2353"/>
                </a:lnTo>
                <a:lnTo>
                  <a:pt x="112" y="2365"/>
                </a:lnTo>
                <a:lnTo>
                  <a:pt x="96" y="2376"/>
                </a:lnTo>
                <a:lnTo>
                  <a:pt x="83" y="2388"/>
                </a:lnTo>
                <a:lnTo>
                  <a:pt x="72" y="2397"/>
                </a:lnTo>
                <a:lnTo>
                  <a:pt x="60" y="2405"/>
                </a:lnTo>
                <a:lnTo>
                  <a:pt x="48" y="2413"/>
                </a:lnTo>
                <a:lnTo>
                  <a:pt x="41" y="2418"/>
                </a:lnTo>
                <a:lnTo>
                  <a:pt x="31" y="2424"/>
                </a:lnTo>
                <a:lnTo>
                  <a:pt x="25" y="2428"/>
                </a:lnTo>
                <a:lnTo>
                  <a:pt x="18" y="2430"/>
                </a:lnTo>
                <a:lnTo>
                  <a:pt x="14" y="2432"/>
                </a:lnTo>
                <a:lnTo>
                  <a:pt x="8" y="2434"/>
                </a:lnTo>
                <a:lnTo>
                  <a:pt x="6" y="2432"/>
                </a:lnTo>
                <a:lnTo>
                  <a:pt x="2" y="2430"/>
                </a:lnTo>
                <a:lnTo>
                  <a:pt x="2" y="2428"/>
                </a:lnTo>
                <a:lnTo>
                  <a:pt x="0" y="2422"/>
                </a:lnTo>
                <a:lnTo>
                  <a:pt x="2" y="2416"/>
                </a:lnTo>
                <a:lnTo>
                  <a:pt x="4" y="2411"/>
                </a:lnTo>
                <a:lnTo>
                  <a:pt x="10" y="2403"/>
                </a:lnTo>
                <a:lnTo>
                  <a:pt x="14" y="2393"/>
                </a:lnTo>
                <a:lnTo>
                  <a:pt x="22" y="2382"/>
                </a:lnTo>
                <a:lnTo>
                  <a:pt x="29" y="2370"/>
                </a:lnTo>
                <a:lnTo>
                  <a:pt x="39" y="2357"/>
                </a:lnTo>
                <a:lnTo>
                  <a:pt x="48" y="2344"/>
                </a:lnTo>
                <a:lnTo>
                  <a:pt x="62" y="2328"/>
                </a:lnTo>
                <a:lnTo>
                  <a:pt x="75" y="2311"/>
                </a:lnTo>
                <a:lnTo>
                  <a:pt x="89" y="2294"/>
                </a:lnTo>
                <a:lnTo>
                  <a:pt x="106" y="2274"/>
                </a:lnTo>
                <a:lnTo>
                  <a:pt x="123" y="2253"/>
                </a:lnTo>
                <a:lnTo>
                  <a:pt x="141" y="2230"/>
                </a:lnTo>
                <a:lnTo>
                  <a:pt x="160" y="2207"/>
                </a:lnTo>
                <a:lnTo>
                  <a:pt x="179" y="2184"/>
                </a:lnTo>
                <a:lnTo>
                  <a:pt x="196" y="2159"/>
                </a:lnTo>
                <a:lnTo>
                  <a:pt x="214" y="2134"/>
                </a:lnTo>
                <a:lnTo>
                  <a:pt x="231" y="2109"/>
                </a:lnTo>
                <a:lnTo>
                  <a:pt x="248" y="2083"/>
                </a:lnTo>
                <a:lnTo>
                  <a:pt x="265" y="2056"/>
                </a:lnTo>
                <a:lnTo>
                  <a:pt x="281" y="2027"/>
                </a:lnTo>
                <a:lnTo>
                  <a:pt x="296" y="1998"/>
                </a:lnTo>
                <a:lnTo>
                  <a:pt x="311" y="1969"/>
                </a:lnTo>
                <a:lnTo>
                  <a:pt x="327" y="1937"/>
                </a:lnTo>
                <a:lnTo>
                  <a:pt x="340" y="1906"/>
                </a:lnTo>
                <a:lnTo>
                  <a:pt x="354" y="1871"/>
                </a:lnTo>
                <a:lnTo>
                  <a:pt x="367" y="1837"/>
                </a:lnTo>
                <a:lnTo>
                  <a:pt x="381" y="1802"/>
                </a:lnTo>
                <a:lnTo>
                  <a:pt x="394" y="1766"/>
                </a:lnTo>
                <a:lnTo>
                  <a:pt x="404" y="1729"/>
                </a:lnTo>
                <a:lnTo>
                  <a:pt x="415" y="1693"/>
                </a:lnTo>
                <a:lnTo>
                  <a:pt x="425" y="1656"/>
                </a:lnTo>
                <a:lnTo>
                  <a:pt x="434" y="1618"/>
                </a:lnTo>
                <a:lnTo>
                  <a:pt x="444" y="1580"/>
                </a:lnTo>
                <a:lnTo>
                  <a:pt x="453" y="1539"/>
                </a:lnTo>
                <a:lnTo>
                  <a:pt x="461" y="1499"/>
                </a:lnTo>
                <a:lnTo>
                  <a:pt x="471" y="1457"/>
                </a:lnTo>
                <a:lnTo>
                  <a:pt x="478" y="1415"/>
                </a:lnTo>
                <a:lnTo>
                  <a:pt x="486" y="1372"/>
                </a:lnTo>
                <a:lnTo>
                  <a:pt x="492" y="1328"/>
                </a:lnTo>
                <a:lnTo>
                  <a:pt x="500" y="1284"/>
                </a:lnTo>
                <a:lnTo>
                  <a:pt x="505" y="1238"/>
                </a:lnTo>
                <a:lnTo>
                  <a:pt x="511" y="1194"/>
                </a:lnTo>
                <a:lnTo>
                  <a:pt x="517" y="1146"/>
                </a:lnTo>
                <a:lnTo>
                  <a:pt x="521" y="1100"/>
                </a:lnTo>
                <a:lnTo>
                  <a:pt x="523" y="1052"/>
                </a:lnTo>
                <a:lnTo>
                  <a:pt x="525" y="1006"/>
                </a:lnTo>
                <a:lnTo>
                  <a:pt x="526" y="960"/>
                </a:lnTo>
                <a:lnTo>
                  <a:pt x="528" y="915"/>
                </a:lnTo>
                <a:lnTo>
                  <a:pt x="530" y="869"/>
                </a:lnTo>
                <a:lnTo>
                  <a:pt x="532" y="825"/>
                </a:lnTo>
                <a:lnTo>
                  <a:pt x="534" y="783"/>
                </a:lnTo>
                <a:lnTo>
                  <a:pt x="536" y="739"/>
                </a:lnTo>
                <a:lnTo>
                  <a:pt x="538" y="699"/>
                </a:lnTo>
                <a:lnTo>
                  <a:pt x="540" y="656"/>
                </a:lnTo>
                <a:lnTo>
                  <a:pt x="540" y="616"/>
                </a:lnTo>
                <a:lnTo>
                  <a:pt x="542" y="576"/>
                </a:lnTo>
                <a:lnTo>
                  <a:pt x="542" y="535"/>
                </a:lnTo>
                <a:lnTo>
                  <a:pt x="544" y="497"/>
                </a:lnTo>
                <a:lnTo>
                  <a:pt x="544" y="459"/>
                </a:lnTo>
                <a:lnTo>
                  <a:pt x="544" y="420"/>
                </a:lnTo>
                <a:lnTo>
                  <a:pt x="542" y="386"/>
                </a:lnTo>
                <a:lnTo>
                  <a:pt x="540" y="355"/>
                </a:lnTo>
                <a:lnTo>
                  <a:pt x="538" y="324"/>
                </a:lnTo>
                <a:lnTo>
                  <a:pt x="534" y="295"/>
                </a:lnTo>
                <a:lnTo>
                  <a:pt x="532" y="269"/>
                </a:lnTo>
                <a:lnTo>
                  <a:pt x="530" y="244"/>
                </a:lnTo>
                <a:lnTo>
                  <a:pt x="526" y="221"/>
                </a:lnTo>
                <a:lnTo>
                  <a:pt x="525" y="201"/>
                </a:lnTo>
                <a:lnTo>
                  <a:pt x="521" y="182"/>
                </a:lnTo>
                <a:lnTo>
                  <a:pt x="517" y="165"/>
                </a:lnTo>
                <a:lnTo>
                  <a:pt x="513" y="150"/>
                </a:lnTo>
                <a:lnTo>
                  <a:pt x="507" y="136"/>
                </a:lnTo>
                <a:lnTo>
                  <a:pt x="503" y="125"/>
                </a:lnTo>
                <a:lnTo>
                  <a:pt x="498" y="115"/>
                </a:lnTo>
                <a:lnTo>
                  <a:pt x="492" y="107"/>
                </a:lnTo>
                <a:lnTo>
                  <a:pt x="486" y="102"/>
                </a:lnTo>
                <a:lnTo>
                  <a:pt x="480" y="96"/>
                </a:lnTo>
                <a:lnTo>
                  <a:pt x="475" y="90"/>
                </a:lnTo>
                <a:lnTo>
                  <a:pt x="471" y="86"/>
                </a:lnTo>
                <a:lnTo>
                  <a:pt x="467" y="80"/>
                </a:lnTo>
                <a:lnTo>
                  <a:pt x="463" y="75"/>
                </a:lnTo>
                <a:lnTo>
                  <a:pt x="461" y="71"/>
                </a:lnTo>
                <a:lnTo>
                  <a:pt x="459" y="65"/>
                </a:lnTo>
                <a:lnTo>
                  <a:pt x="457" y="61"/>
                </a:lnTo>
                <a:lnTo>
                  <a:pt x="457" y="56"/>
                </a:lnTo>
                <a:lnTo>
                  <a:pt x="457" y="50"/>
                </a:lnTo>
                <a:lnTo>
                  <a:pt x="457" y="40"/>
                </a:lnTo>
                <a:lnTo>
                  <a:pt x="459" y="31"/>
                </a:lnTo>
                <a:lnTo>
                  <a:pt x="463" y="21"/>
                </a:lnTo>
                <a:lnTo>
                  <a:pt x="465" y="15"/>
                </a:lnTo>
                <a:lnTo>
                  <a:pt x="469" y="11"/>
                </a:lnTo>
                <a:lnTo>
                  <a:pt x="473" y="8"/>
                </a:lnTo>
                <a:lnTo>
                  <a:pt x="478" y="6"/>
                </a:lnTo>
                <a:lnTo>
                  <a:pt x="484" y="4"/>
                </a:lnTo>
                <a:lnTo>
                  <a:pt x="490" y="2"/>
                </a:lnTo>
                <a:lnTo>
                  <a:pt x="498" y="2"/>
                </a:lnTo>
                <a:lnTo>
                  <a:pt x="505" y="0"/>
                </a:lnTo>
                <a:lnTo>
                  <a:pt x="513" y="2"/>
                </a:lnTo>
                <a:lnTo>
                  <a:pt x="523" y="2"/>
                </a:lnTo>
                <a:lnTo>
                  <a:pt x="532" y="4"/>
                </a:lnTo>
                <a:lnTo>
                  <a:pt x="542" y="6"/>
                </a:lnTo>
                <a:lnTo>
                  <a:pt x="553" y="8"/>
                </a:lnTo>
                <a:lnTo>
                  <a:pt x="565" y="11"/>
                </a:lnTo>
                <a:lnTo>
                  <a:pt x="576" y="15"/>
                </a:lnTo>
                <a:lnTo>
                  <a:pt x="590" y="21"/>
                </a:lnTo>
                <a:lnTo>
                  <a:pt x="603" y="25"/>
                </a:lnTo>
                <a:lnTo>
                  <a:pt x="615" y="31"/>
                </a:lnTo>
                <a:lnTo>
                  <a:pt x="626" y="36"/>
                </a:lnTo>
                <a:lnTo>
                  <a:pt x="638" y="40"/>
                </a:lnTo>
                <a:lnTo>
                  <a:pt x="647" y="46"/>
                </a:lnTo>
                <a:lnTo>
                  <a:pt x="657" y="50"/>
                </a:lnTo>
                <a:lnTo>
                  <a:pt x="667" y="56"/>
                </a:lnTo>
                <a:lnTo>
                  <a:pt x="674" y="59"/>
                </a:lnTo>
                <a:lnTo>
                  <a:pt x="682" y="63"/>
                </a:lnTo>
                <a:lnTo>
                  <a:pt x="690" y="67"/>
                </a:lnTo>
                <a:lnTo>
                  <a:pt x="695" y="71"/>
                </a:lnTo>
                <a:lnTo>
                  <a:pt x="701" y="75"/>
                </a:lnTo>
                <a:lnTo>
                  <a:pt x="707" y="79"/>
                </a:lnTo>
                <a:lnTo>
                  <a:pt x="711" y="82"/>
                </a:lnTo>
                <a:lnTo>
                  <a:pt x="715" y="84"/>
                </a:lnTo>
                <a:lnTo>
                  <a:pt x="716" y="88"/>
                </a:lnTo>
                <a:lnTo>
                  <a:pt x="720" y="98"/>
                </a:lnTo>
                <a:lnTo>
                  <a:pt x="722" y="107"/>
                </a:lnTo>
                <a:lnTo>
                  <a:pt x="724" y="119"/>
                </a:lnTo>
                <a:lnTo>
                  <a:pt x="726" y="128"/>
                </a:lnTo>
                <a:lnTo>
                  <a:pt x="724" y="140"/>
                </a:lnTo>
                <a:lnTo>
                  <a:pt x="722" y="153"/>
                </a:lnTo>
                <a:lnTo>
                  <a:pt x="720" y="167"/>
                </a:lnTo>
                <a:lnTo>
                  <a:pt x="716" y="180"/>
                </a:lnTo>
                <a:lnTo>
                  <a:pt x="715" y="188"/>
                </a:lnTo>
                <a:lnTo>
                  <a:pt x="713" y="198"/>
                </a:lnTo>
                <a:lnTo>
                  <a:pt x="711" y="209"/>
                </a:lnTo>
                <a:lnTo>
                  <a:pt x="709" y="223"/>
                </a:lnTo>
                <a:lnTo>
                  <a:pt x="707" y="236"/>
                </a:lnTo>
                <a:lnTo>
                  <a:pt x="705" y="251"/>
                </a:lnTo>
                <a:lnTo>
                  <a:pt x="703" y="269"/>
                </a:lnTo>
                <a:lnTo>
                  <a:pt x="701" y="288"/>
                </a:lnTo>
                <a:lnTo>
                  <a:pt x="699" y="307"/>
                </a:lnTo>
                <a:lnTo>
                  <a:pt x="697" y="326"/>
                </a:lnTo>
                <a:lnTo>
                  <a:pt x="697" y="349"/>
                </a:lnTo>
                <a:lnTo>
                  <a:pt x="695" y="372"/>
                </a:lnTo>
                <a:lnTo>
                  <a:pt x="695" y="395"/>
                </a:lnTo>
                <a:lnTo>
                  <a:pt x="693" y="420"/>
                </a:lnTo>
                <a:lnTo>
                  <a:pt x="693" y="447"/>
                </a:lnTo>
                <a:lnTo>
                  <a:pt x="693" y="474"/>
                </a:lnTo>
                <a:lnTo>
                  <a:pt x="693" y="533"/>
                </a:lnTo>
                <a:lnTo>
                  <a:pt x="693" y="597"/>
                </a:lnTo>
                <a:lnTo>
                  <a:pt x="693" y="660"/>
                </a:lnTo>
                <a:lnTo>
                  <a:pt x="691" y="725"/>
                </a:lnTo>
                <a:lnTo>
                  <a:pt x="691" y="758"/>
                </a:lnTo>
                <a:lnTo>
                  <a:pt x="691" y="793"/>
                </a:lnTo>
                <a:lnTo>
                  <a:pt x="690" y="825"/>
                </a:lnTo>
                <a:lnTo>
                  <a:pt x="688" y="862"/>
                </a:lnTo>
                <a:lnTo>
                  <a:pt x="688" y="896"/>
                </a:lnTo>
                <a:lnTo>
                  <a:pt x="686" y="933"/>
                </a:lnTo>
                <a:lnTo>
                  <a:pt x="684" y="969"/>
                </a:lnTo>
                <a:lnTo>
                  <a:pt x="682" y="1006"/>
                </a:lnTo>
                <a:lnTo>
                  <a:pt x="680" y="1044"/>
                </a:lnTo>
                <a:lnTo>
                  <a:pt x="676" y="1081"/>
                </a:lnTo>
                <a:lnTo>
                  <a:pt x="674" y="1117"/>
                </a:lnTo>
                <a:lnTo>
                  <a:pt x="670" y="1153"/>
                </a:lnTo>
                <a:lnTo>
                  <a:pt x="661" y="1225"/>
                </a:lnTo>
                <a:lnTo>
                  <a:pt x="651" y="1294"/>
                </a:lnTo>
                <a:lnTo>
                  <a:pt x="645" y="1328"/>
                </a:lnTo>
                <a:lnTo>
                  <a:pt x="640" y="1361"/>
                </a:lnTo>
                <a:lnTo>
                  <a:pt x="632" y="1395"/>
                </a:lnTo>
                <a:lnTo>
                  <a:pt x="626" y="1428"/>
                </a:lnTo>
                <a:lnTo>
                  <a:pt x="620" y="1459"/>
                </a:lnTo>
                <a:lnTo>
                  <a:pt x="615" y="1491"/>
                </a:lnTo>
                <a:lnTo>
                  <a:pt x="607" y="1522"/>
                </a:lnTo>
                <a:lnTo>
                  <a:pt x="601" y="155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Freeform 122"/>
          <p:cNvSpPr/>
          <p:nvPr/>
        </p:nvSpPr>
        <p:spPr>
          <a:xfrm>
            <a:off x="6802560" y="3780000"/>
            <a:ext cx="144360" cy="253800"/>
          </a:xfrm>
          <a:custGeom>
            <a:avLst/>
            <a:gdLst/>
            <a:ahLst/>
            <a:rect l="l" t="t" r="r" b="b"/>
            <a:pathLst>
              <a:path w="182" h="318">
                <a:moveTo>
                  <a:pt x="151" y="92"/>
                </a:moveTo>
                <a:lnTo>
                  <a:pt x="157" y="105"/>
                </a:lnTo>
                <a:lnTo>
                  <a:pt x="163" y="117"/>
                </a:lnTo>
                <a:lnTo>
                  <a:pt x="167" y="128"/>
                </a:lnTo>
                <a:lnTo>
                  <a:pt x="171" y="140"/>
                </a:lnTo>
                <a:lnTo>
                  <a:pt x="174" y="152"/>
                </a:lnTo>
                <a:lnTo>
                  <a:pt x="176" y="163"/>
                </a:lnTo>
                <a:lnTo>
                  <a:pt x="178" y="173"/>
                </a:lnTo>
                <a:lnTo>
                  <a:pt x="180" y="182"/>
                </a:lnTo>
                <a:lnTo>
                  <a:pt x="180" y="192"/>
                </a:lnTo>
                <a:lnTo>
                  <a:pt x="182" y="201"/>
                </a:lnTo>
                <a:lnTo>
                  <a:pt x="180" y="221"/>
                </a:lnTo>
                <a:lnTo>
                  <a:pt x="178" y="238"/>
                </a:lnTo>
                <a:lnTo>
                  <a:pt x="174" y="253"/>
                </a:lnTo>
                <a:lnTo>
                  <a:pt x="171" y="267"/>
                </a:lnTo>
                <a:lnTo>
                  <a:pt x="165" y="280"/>
                </a:lnTo>
                <a:lnTo>
                  <a:pt x="159" y="292"/>
                </a:lnTo>
                <a:lnTo>
                  <a:pt x="151" y="301"/>
                </a:lnTo>
                <a:lnTo>
                  <a:pt x="150" y="305"/>
                </a:lnTo>
                <a:lnTo>
                  <a:pt x="146" y="309"/>
                </a:lnTo>
                <a:lnTo>
                  <a:pt x="142" y="311"/>
                </a:lnTo>
                <a:lnTo>
                  <a:pt x="140" y="315"/>
                </a:lnTo>
                <a:lnTo>
                  <a:pt x="136" y="317"/>
                </a:lnTo>
                <a:lnTo>
                  <a:pt x="134" y="318"/>
                </a:lnTo>
                <a:lnTo>
                  <a:pt x="130" y="318"/>
                </a:lnTo>
                <a:lnTo>
                  <a:pt x="128" y="318"/>
                </a:lnTo>
                <a:lnTo>
                  <a:pt x="125" y="318"/>
                </a:lnTo>
                <a:lnTo>
                  <a:pt x="121" y="317"/>
                </a:lnTo>
                <a:lnTo>
                  <a:pt x="115" y="313"/>
                </a:lnTo>
                <a:lnTo>
                  <a:pt x="111" y="309"/>
                </a:lnTo>
                <a:lnTo>
                  <a:pt x="107" y="303"/>
                </a:lnTo>
                <a:lnTo>
                  <a:pt x="102" y="297"/>
                </a:lnTo>
                <a:lnTo>
                  <a:pt x="98" y="290"/>
                </a:lnTo>
                <a:lnTo>
                  <a:pt x="92" y="280"/>
                </a:lnTo>
                <a:lnTo>
                  <a:pt x="88" y="271"/>
                </a:lnTo>
                <a:lnTo>
                  <a:pt x="82" y="261"/>
                </a:lnTo>
                <a:lnTo>
                  <a:pt x="77" y="247"/>
                </a:lnTo>
                <a:lnTo>
                  <a:pt x="71" y="236"/>
                </a:lnTo>
                <a:lnTo>
                  <a:pt x="67" y="221"/>
                </a:lnTo>
                <a:lnTo>
                  <a:pt x="61" y="205"/>
                </a:lnTo>
                <a:lnTo>
                  <a:pt x="54" y="190"/>
                </a:lnTo>
                <a:lnTo>
                  <a:pt x="48" y="173"/>
                </a:lnTo>
                <a:lnTo>
                  <a:pt x="42" y="155"/>
                </a:lnTo>
                <a:lnTo>
                  <a:pt x="36" y="138"/>
                </a:lnTo>
                <a:lnTo>
                  <a:pt x="31" y="123"/>
                </a:lnTo>
                <a:lnTo>
                  <a:pt x="25" y="107"/>
                </a:lnTo>
                <a:lnTo>
                  <a:pt x="21" y="94"/>
                </a:lnTo>
                <a:lnTo>
                  <a:pt x="15" y="80"/>
                </a:lnTo>
                <a:lnTo>
                  <a:pt x="11" y="67"/>
                </a:lnTo>
                <a:lnTo>
                  <a:pt x="7" y="56"/>
                </a:lnTo>
                <a:lnTo>
                  <a:pt x="6" y="46"/>
                </a:lnTo>
                <a:lnTo>
                  <a:pt x="4" y="36"/>
                </a:lnTo>
                <a:lnTo>
                  <a:pt x="2" y="27"/>
                </a:lnTo>
                <a:lnTo>
                  <a:pt x="0" y="19"/>
                </a:lnTo>
                <a:lnTo>
                  <a:pt x="0" y="13"/>
                </a:lnTo>
                <a:lnTo>
                  <a:pt x="0" y="8"/>
                </a:lnTo>
                <a:lnTo>
                  <a:pt x="0" y="2"/>
                </a:lnTo>
                <a:lnTo>
                  <a:pt x="2" y="0"/>
                </a:lnTo>
                <a:lnTo>
                  <a:pt x="15" y="0"/>
                </a:lnTo>
                <a:lnTo>
                  <a:pt x="27" y="0"/>
                </a:lnTo>
                <a:lnTo>
                  <a:pt x="38" y="2"/>
                </a:lnTo>
                <a:lnTo>
                  <a:pt x="50" y="4"/>
                </a:lnTo>
                <a:lnTo>
                  <a:pt x="61" y="8"/>
                </a:lnTo>
                <a:lnTo>
                  <a:pt x="71" y="11"/>
                </a:lnTo>
                <a:lnTo>
                  <a:pt x="80" y="15"/>
                </a:lnTo>
                <a:lnTo>
                  <a:pt x="90" y="21"/>
                </a:lnTo>
                <a:lnTo>
                  <a:pt x="100" y="27"/>
                </a:lnTo>
                <a:lnTo>
                  <a:pt x="107" y="34"/>
                </a:lnTo>
                <a:lnTo>
                  <a:pt x="115" y="42"/>
                </a:lnTo>
                <a:lnTo>
                  <a:pt x="125" y="50"/>
                </a:lnTo>
                <a:lnTo>
                  <a:pt x="130" y="59"/>
                </a:lnTo>
                <a:lnTo>
                  <a:pt x="138" y="69"/>
                </a:lnTo>
                <a:lnTo>
                  <a:pt x="146" y="80"/>
                </a:lnTo>
                <a:lnTo>
                  <a:pt x="151" y="9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Freeform 123"/>
          <p:cNvSpPr/>
          <p:nvPr/>
        </p:nvSpPr>
        <p:spPr>
          <a:xfrm>
            <a:off x="6583320" y="4086360"/>
            <a:ext cx="209520" cy="183960"/>
          </a:xfrm>
          <a:custGeom>
            <a:avLst/>
            <a:gdLst/>
            <a:ahLst/>
            <a:rect l="l" t="t" r="r" b="b"/>
            <a:pathLst>
              <a:path w="265" h="232">
                <a:moveTo>
                  <a:pt x="2" y="0"/>
                </a:moveTo>
                <a:lnTo>
                  <a:pt x="29" y="0"/>
                </a:lnTo>
                <a:lnTo>
                  <a:pt x="56" y="2"/>
                </a:lnTo>
                <a:lnTo>
                  <a:pt x="79" y="2"/>
                </a:lnTo>
                <a:lnTo>
                  <a:pt x="102" y="5"/>
                </a:lnTo>
                <a:lnTo>
                  <a:pt x="123" y="7"/>
                </a:lnTo>
                <a:lnTo>
                  <a:pt x="142" y="11"/>
                </a:lnTo>
                <a:lnTo>
                  <a:pt x="162" y="15"/>
                </a:lnTo>
                <a:lnTo>
                  <a:pt x="177" y="19"/>
                </a:lnTo>
                <a:lnTo>
                  <a:pt x="192" y="25"/>
                </a:lnTo>
                <a:lnTo>
                  <a:pt x="206" y="30"/>
                </a:lnTo>
                <a:lnTo>
                  <a:pt x="217" y="38"/>
                </a:lnTo>
                <a:lnTo>
                  <a:pt x="229" y="44"/>
                </a:lnTo>
                <a:lnTo>
                  <a:pt x="236" y="52"/>
                </a:lnTo>
                <a:lnTo>
                  <a:pt x="244" y="61"/>
                </a:lnTo>
                <a:lnTo>
                  <a:pt x="252" y="69"/>
                </a:lnTo>
                <a:lnTo>
                  <a:pt x="256" y="80"/>
                </a:lnTo>
                <a:lnTo>
                  <a:pt x="258" y="92"/>
                </a:lnTo>
                <a:lnTo>
                  <a:pt x="260" y="103"/>
                </a:lnTo>
                <a:lnTo>
                  <a:pt x="261" y="115"/>
                </a:lnTo>
                <a:lnTo>
                  <a:pt x="263" y="124"/>
                </a:lnTo>
                <a:lnTo>
                  <a:pt x="263" y="134"/>
                </a:lnTo>
                <a:lnTo>
                  <a:pt x="263" y="144"/>
                </a:lnTo>
                <a:lnTo>
                  <a:pt x="265" y="153"/>
                </a:lnTo>
                <a:lnTo>
                  <a:pt x="265" y="161"/>
                </a:lnTo>
                <a:lnTo>
                  <a:pt x="263" y="176"/>
                </a:lnTo>
                <a:lnTo>
                  <a:pt x="263" y="190"/>
                </a:lnTo>
                <a:lnTo>
                  <a:pt x="260" y="201"/>
                </a:lnTo>
                <a:lnTo>
                  <a:pt x="256" y="213"/>
                </a:lnTo>
                <a:lnTo>
                  <a:pt x="252" y="220"/>
                </a:lnTo>
                <a:lnTo>
                  <a:pt x="246" y="224"/>
                </a:lnTo>
                <a:lnTo>
                  <a:pt x="240" y="228"/>
                </a:lnTo>
                <a:lnTo>
                  <a:pt x="235" y="230"/>
                </a:lnTo>
                <a:lnTo>
                  <a:pt x="227" y="232"/>
                </a:lnTo>
                <a:lnTo>
                  <a:pt x="219" y="230"/>
                </a:lnTo>
                <a:lnTo>
                  <a:pt x="212" y="228"/>
                </a:lnTo>
                <a:lnTo>
                  <a:pt x="202" y="224"/>
                </a:lnTo>
                <a:lnTo>
                  <a:pt x="192" y="220"/>
                </a:lnTo>
                <a:lnTo>
                  <a:pt x="183" y="213"/>
                </a:lnTo>
                <a:lnTo>
                  <a:pt x="171" y="205"/>
                </a:lnTo>
                <a:lnTo>
                  <a:pt x="160" y="195"/>
                </a:lnTo>
                <a:lnTo>
                  <a:pt x="148" y="186"/>
                </a:lnTo>
                <a:lnTo>
                  <a:pt x="135" y="174"/>
                </a:lnTo>
                <a:lnTo>
                  <a:pt x="121" y="161"/>
                </a:lnTo>
                <a:lnTo>
                  <a:pt x="106" y="146"/>
                </a:lnTo>
                <a:lnTo>
                  <a:pt x="93" y="134"/>
                </a:lnTo>
                <a:lnTo>
                  <a:pt x="79" y="123"/>
                </a:lnTo>
                <a:lnTo>
                  <a:pt x="66" y="109"/>
                </a:lnTo>
                <a:lnTo>
                  <a:pt x="54" y="99"/>
                </a:lnTo>
                <a:lnTo>
                  <a:pt x="45" y="88"/>
                </a:lnTo>
                <a:lnTo>
                  <a:pt x="35" y="76"/>
                </a:lnTo>
                <a:lnTo>
                  <a:pt x="27" y="67"/>
                </a:lnTo>
                <a:lnTo>
                  <a:pt x="20" y="57"/>
                </a:lnTo>
                <a:lnTo>
                  <a:pt x="14" y="50"/>
                </a:lnTo>
                <a:lnTo>
                  <a:pt x="10" y="40"/>
                </a:lnTo>
                <a:lnTo>
                  <a:pt x="6" y="32"/>
                </a:lnTo>
                <a:lnTo>
                  <a:pt x="2" y="25"/>
                </a:lnTo>
                <a:lnTo>
                  <a:pt x="0" y="17"/>
                </a:lnTo>
                <a:lnTo>
                  <a:pt x="0" y="11"/>
                </a:lnTo>
                <a:lnTo>
                  <a:pt x="0" y="5"/>
                </a:lnTo>
                <a:lnTo>
                  <a:pt x="2" y="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Freeform 124"/>
          <p:cNvSpPr/>
          <p:nvPr/>
        </p:nvSpPr>
        <p:spPr>
          <a:xfrm>
            <a:off x="6116760" y="3747960"/>
            <a:ext cx="449280" cy="793800"/>
          </a:xfrm>
          <a:custGeom>
            <a:avLst/>
            <a:gdLst/>
            <a:ahLst/>
            <a:rect l="l" t="t" r="r" b="b"/>
            <a:pathLst>
              <a:path w="566" h="1000">
                <a:moveTo>
                  <a:pt x="566" y="239"/>
                </a:moveTo>
                <a:lnTo>
                  <a:pt x="551" y="268"/>
                </a:lnTo>
                <a:lnTo>
                  <a:pt x="536" y="297"/>
                </a:lnTo>
                <a:lnTo>
                  <a:pt x="520" y="326"/>
                </a:lnTo>
                <a:lnTo>
                  <a:pt x="505" y="355"/>
                </a:lnTo>
                <a:lnTo>
                  <a:pt x="489" y="382"/>
                </a:lnTo>
                <a:lnTo>
                  <a:pt x="476" y="408"/>
                </a:lnTo>
                <a:lnTo>
                  <a:pt x="461" y="433"/>
                </a:lnTo>
                <a:lnTo>
                  <a:pt x="447" y="458"/>
                </a:lnTo>
                <a:lnTo>
                  <a:pt x="432" y="483"/>
                </a:lnTo>
                <a:lnTo>
                  <a:pt x="418" y="508"/>
                </a:lnTo>
                <a:lnTo>
                  <a:pt x="405" y="531"/>
                </a:lnTo>
                <a:lnTo>
                  <a:pt x="392" y="554"/>
                </a:lnTo>
                <a:lnTo>
                  <a:pt x="378" y="575"/>
                </a:lnTo>
                <a:lnTo>
                  <a:pt x="365" y="597"/>
                </a:lnTo>
                <a:lnTo>
                  <a:pt x="353" y="618"/>
                </a:lnTo>
                <a:lnTo>
                  <a:pt x="340" y="637"/>
                </a:lnTo>
                <a:lnTo>
                  <a:pt x="328" y="656"/>
                </a:lnTo>
                <a:lnTo>
                  <a:pt x="315" y="675"/>
                </a:lnTo>
                <a:lnTo>
                  <a:pt x="303" y="692"/>
                </a:lnTo>
                <a:lnTo>
                  <a:pt x="292" y="710"/>
                </a:lnTo>
                <a:lnTo>
                  <a:pt x="280" y="727"/>
                </a:lnTo>
                <a:lnTo>
                  <a:pt x="269" y="742"/>
                </a:lnTo>
                <a:lnTo>
                  <a:pt x="257" y="758"/>
                </a:lnTo>
                <a:lnTo>
                  <a:pt x="246" y="773"/>
                </a:lnTo>
                <a:lnTo>
                  <a:pt x="236" y="787"/>
                </a:lnTo>
                <a:lnTo>
                  <a:pt x="225" y="800"/>
                </a:lnTo>
                <a:lnTo>
                  <a:pt x="213" y="813"/>
                </a:lnTo>
                <a:lnTo>
                  <a:pt x="203" y="825"/>
                </a:lnTo>
                <a:lnTo>
                  <a:pt x="194" y="836"/>
                </a:lnTo>
                <a:lnTo>
                  <a:pt x="182" y="846"/>
                </a:lnTo>
                <a:lnTo>
                  <a:pt x="173" y="856"/>
                </a:lnTo>
                <a:lnTo>
                  <a:pt x="163" y="865"/>
                </a:lnTo>
                <a:lnTo>
                  <a:pt x="146" y="883"/>
                </a:lnTo>
                <a:lnTo>
                  <a:pt x="129" y="898"/>
                </a:lnTo>
                <a:lnTo>
                  <a:pt x="111" y="913"/>
                </a:lnTo>
                <a:lnTo>
                  <a:pt x="96" y="927"/>
                </a:lnTo>
                <a:lnTo>
                  <a:pt x="83" y="940"/>
                </a:lnTo>
                <a:lnTo>
                  <a:pt x="71" y="952"/>
                </a:lnTo>
                <a:lnTo>
                  <a:pt x="60" y="963"/>
                </a:lnTo>
                <a:lnTo>
                  <a:pt x="48" y="973"/>
                </a:lnTo>
                <a:lnTo>
                  <a:pt x="40" y="980"/>
                </a:lnTo>
                <a:lnTo>
                  <a:pt x="31" y="986"/>
                </a:lnTo>
                <a:lnTo>
                  <a:pt x="25" y="992"/>
                </a:lnTo>
                <a:lnTo>
                  <a:pt x="19" y="996"/>
                </a:lnTo>
                <a:lnTo>
                  <a:pt x="13" y="1000"/>
                </a:lnTo>
                <a:lnTo>
                  <a:pt x="10" y="1000"/>
                </a:lnTo>
                <a:lnTo>
                  <a:pt x="6" y="1000"/>
                </a:lnTo>
                <a:lnTo>
                  <a:pt x="4" y="998"/>
                </a:lnTo>
                <a:lnTo>
                  <a:pt x="2" y="998"/>
                </a:lnTo>
                <a:lnTo>
                  <a:pt x="0" y="996"/>
                </a:lnTo>
                <a:lnTo>
                  <a:pt x="0" y="992"/>
                </a:lnTo>
                <a:lnTo>
                  <a:pt x="2" y="988"/>
                </a:lnTo>
                <a:lnTo>
                  <a:pt x="4" y="982"/>
                </a:lnTo>
                <a:lnTo>
                  <a:pt x="6" y="977"/>
                </a:lnTo>
                <a:lnTo>
                  <a:pt x="10" y="967"/>
                </a:lnTo>
                <a:lnTo>
                  <a:pt x="15" y="959"/>
                </a:lnTo>
                <a:lnTo>
                  <a:pt x="21" y="948"/>
                </a:lnTo>
                <a:lnTo>
                  <a:pt x="29" y="936"/>
                </a:lnTo>
                <a:lnTo>
                  <a:pt x="37" y="923"/>
                </a:lnTo>
                <a:lnTo>
                  <a:pt x="46" y="909"/>
                </a:lnTo>
                <a:lnTo>
                  <a:pt x="56" y="892"/>
                </a:lnTo>
                <a:lnTo>
                  <a:pt x="67" y="877"/>
                </a:lnTo>
                <a:lnTo>
                  <a:pt x="81" y="858"/>
                </a:lnTo>
                <a:lnTo>
                  <a:pt x="96" y="838"/>
                </a:lnTo>
                <a:lnTo>
                  <a:pt x="102" y="829"/>
                </a:lnTo>
                <a:lnTo>
                  <a:pt x="109" y="817"/>
                </a:lnTo>
                <a:lnTo>
                  <a:pt x="117" y="804"/>
                </a:lnTo>
                <a:lnTo>
                  <a:pt x="125" y="790"/>
                </a:lnTo>
                <a:lnTo>
                  <a:pt x="132" y="775"/>
                </a:lnTo>
                <a:lnTo>
                  <a:pt x="142" y="760"/>
                </a:lnTo>
                <a:lnTo>
                  <a:pt x="152" y="744"/>
                </a:lnTo>
                <a:lnTo>
                  <a:pt x="161" y="727"/>
                </a:lnTo>
                <a:lnTo>
                  <a:pt x="173" y="708"/>
                </a:lnTo>
                <a:lnTo>
                  <a:pt x="182" y="689"/>
                </a:lnTo>
                <a:lnTo>
                  <a:pt x="194" y="668"/>
                </a:lnTo>
                <a:lnTo>
                  <a:pt x="207" y="646"/>
                </a:lnTo>
                <a:lnTo>
                  <a:pt x="219" y="623"/>
                </a:lnTo>
                <a:lnTo>
                  <a:pt x="232" y="600"/>
                </a:lnTo>
                <a:lnTo>
                  <a:pt x="246" y="575"/>
                </a:lnTo>
                <a:lnTo>
                  <a:pt x="259" y="549"/>
                </a:lnTo>
                <a:lnTo>
                  <a:pt x="273" y="524"/>
                </a:lnTo>
                <a:lnTo>
                  <a:pt x="288" y="495"/>
                </a:lnTo>
                <a:lnTo>
                  <a:pt x="301" y="466"/>
                </a:lnTo>
                <a:lnTo>
                  <a:pt x="317" y="437"/>
                </a:lnTo>
                <a:lnTo>
                  <a:pt x="332" y="406"/>
                </a:lnTo>
                <a:lnTo>
                  <a:pt x="349" y="374"/>
                </a:lnTo>
                <a:lnTo>
                  <a:pt x="367" y="341"/>
                </a:lnTo>
                <a:lnTo>
                  <a:pt x="382" y="307"/>
                </a:lnTo>
                <a:lnTo>
                  <a:pt x="399" y="272"/>
                </a:lnTo>
                <a:lnTo>
                  <a:pt x="418" y="236"/>
                </a:lnTo>
                <a:lnTo>
                  <a:pt x="436" y="199"/>
                </a:lnTo>
                <a:lnTo>
                  <a:pt x="455" y="161"/>
                </a:lnTo>
                <a:lnTo>
                  <a:pt x="474" y="122"/>
                </a:lnTo>
                <a:lnTo>
                  <a:pt x="493" y="82"/>
                </a:lnTo>
                <a:lnTo>
                  <a:pt x="513" y="42"/>
                </a:lnTo>
                <a:lnTo>
                  <a:pt x="532" y="0"/>
                </a:lnTo>
                <a:lnTo>
                  <a:pt x="549" y="119"/>
                </a:lnTo>
                <a:lnTo>
                  <a:pt x="566" y="239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Freeform 125"/>
          <p:cNvSpPr/>
          <p:nvPr/>
        </p:nvSpPr>
        <p:spPr>
          <a:xfrm>
            <a:off x="6218280" y="3632040"/>
            <a:ext cx="612720" cy="231840"/>
          </a:xfrm>
          <a:custGeom>
            <a:avLst/>
            <a:gdLst/>
            <a:ahLst/>
            <a:rect l="l" t="t" r="r" b="b"/>
            <a:pathLst>
              <a:path w="771" h="291">
                <a:moveTo>
                  <a:pt x="449" y="199"/>
                </a:moveTo>
                <a:lnTo>
                  <a:pt x="430" y="205"/>
                </a:lnTo>
                <a:lnTo>
                  <a:pt x="410" y="211"/>
                </a:lnTo>
                <a:lnTo>
                  <a:pt x="391" y="217"/>
                </a:lnTo>
                <a:lnTo>
                  <a:pt x="372" y="222"/>
                </a:lnTo>
                <a:lnTo>
                  <a:pt x="355" y="228"/>
                </a:lnTo>
                <a:lnTo>
                  <a:pt x="337" y="232"/>
                </a:lnTo>
                <a:lnTo>
                  <a:pt x="320" y="238"/>
                </a:lnTo>
                <a:lnTo>
                  <a:pt x="305" y="242"/>
                </a:lnTo>
                <a:lnTo>
                  <a:pt x="289" y="245"/>
                </a:lnTo>
                <a:lnTo>
                  <a:pt x="274" y="251"/>
                </a:lnTo>
                <a:lnTo>
                  <a:pt x="261" y="255"/>
                </a:lnTo>
                <a:lnTo>
                  <a:pt x="247" y="259"/>
                </a:lnTo>
                <a:lnTo>
                  <a:pt x="234" y="261"/>
                </a:lnTo>
                <a:lnTo>
                  <a:pt x="222" y="265"/>
                </a:lnTo>
                <a:lnTo>
                  <a:pt x="211" y="268"/>
                </a:lnTo>
                <a:lnTo>
                  <a:pt x="199" y="270"/>
                </a:lnTo>
                <a:lnTo>
                  <a:pt x="188" y="274"/>
                </a:lnTo>
                <a:lnTo>
                  <a:pt x="178" y="276"/>
                </a:lnTo>
                <a:lnTo>
                  <a:pt x="169" y="278"/>
                </a:lnTo>
                <a:lnTo>
                  <a:pt x="161" y="280"/>
                </a:lnTo>
                <a:lnTo>
                  <a:pt x="153" y="282"/>
                </a:lnTo>
                <a:lnTo>
                  <a:pt x="146" y="284"/>
                </a:lnTo>
                <a:lnTo>
                  <a:pt x="138" y="286"/>
                </a:lnTo>
                <a:lnTo>
                  <a:pt x="132" y="288"/>
                </a:lnTo>
                <a:lnTo>
                  <a:pt x="126" y="288"/>
                </a:lnTo>
                <a:lnTo>
                  <a:pt x="121" y="290"/>
                </a:lnTo>
                <a:lnTo>
                  <a:pt x="117" y="290"/>
                </a:lnTo>
                <a:lnTo>
                  <a:pt x="113" y="291"/>
                </a:lnTo>
                <a:lnTo>
                  <a:pt x="109" y="291"/>
                </a:lnTo>
                <a:lnTo>
                  <a:pt x="107" y="291"/>
                </a:lnTo>
                <a:lnTo>
                  <a:pt x="105" y="291"/>
                </a:lnTo>
                <a:lnTo>
                  <a:pt x="103" y="291"/>
                </a:lnTo>
                <a:lnTo>
                  <a:pt x="99" y="291"/>
                </a:lnTo>
                <a:lnTo>
                  <a:pt x="94" y="290"/>
                </a:lnTo>
                <a:lnTo>
                  <a:pt x="86" y="288"/>
                </a:lnTo>
                <a:lnTo>
                  <a:pt x="80" y="284"/>
                </a:lnTo>
                <a:lnTo>
                  <a:pt x="71" y="280"/>
                </a:lnTo>
                <a:lnTo>
                  <a:pt x="63" y="276"/>
                </a:lnTo>
                <a:lnTo>
                  <a:pt x="46" y="266"/>
                </a:lnTo>
                <a:lnTo>
                  <a:pt x="40" y="263"/>
                </a:lnTo>
                <a:lnTo>
                  <a:pt x="34" y="261"/>
                </a:lnTo>
                <a:lnTo>
                  <a:pt x="28" y="259"/>
                </a:lnTo>
                <a:lnTo>
                  <a:pt x="25" y="255"/>
                </a:lnTo>
                <a:lnTo>
                  <a:pt x="17" y="251"/>
                </a:lnTo>
                <a:lnTo>
                  <a:pt x="11" y="245"/>
                </a:lnTo>
                <a:lnTo>
                  <a:pt x="5" y="240"/>
                </a:lnTo>
                <a:lnTo>
                  <a:pt x="3" y="236"/>
                </a:lnTo>
                <a:lnTo>
                  <a:pt x="2" y="230"/>
                </a:lnTo>
                <a:lnTo>
                  <a:pt x="0" y="226"/>
                </a:lnTo>
                <a:lnTo>
                  <a:pt x="2" y="222"/>
                </a:lnTo>
                <a:lnTo>
                  <a:pt x="2" y="220"/>
                </a:lnTo>
                <a:lnTo>
                  <a:pt x="5" y="218"/>
                </a:lnTo>
                <a:lnTo>
                  <a:pt x="9" y="215"/>
                </a:lnTo>
                <a:lnTo>
                  <a:pt x="13" y="213"/>
                </a:lnTo>
                <a:lnTo>
                  <a:pt x="19" y="211"/>
                </a:lnTo>
                <a:lnTo>
                  <a:pt x="27" y="207"/>
                </a:lnTo>
                <a:lnTo>
                  <a:pt x="34" y="203"/>
                </a:lnTo>
                <a:lnTo>
                  <a:pt x="42" y="201"/>
                </a:lnTo>
                <a:lnTo>
                  <a:pt x="51" y="197"/>
                </a:lnTo>
                <a:lnTo>
                  <a:pt x="61" y="194"/>
                </a:lnTo>
                <a:lnTo>
                  <a:pt x="73" y="190"/>
                </a:lnTo>
                <a:lnTo>
                  <a:pt x="86" y="186"/>
                </a:lnTo>
                <a:lnTo>
                  <a:pt x="98" y="182"/>
                </a:lnTo>
                <a:lnTo>
                  <a:pt x="113" y="178"/>
                </a:lnTo>
                <a:lnTo>
                  <a:pt x="126" y="172"/>
                </a:lnTo>
                <a:lnTo>
                  <a:pt x="142" y="171"/>
                </a:lnTo>
                <a:lnTo>
                  <a:pt x="157" y="167"/>
                </a:lnTo>
                <a:lnTo>
                  <a:pt x="174" y="163"/>
                </a:lnTo>
                <a:lnTo>
                  <a:pt x="190" y="157"/>
                </a:lnTo>
                <a:lnTo>
                  <a:pt x="207" y="153"/>
                </a:lnTo>
                <a:lnTo>
                  <a:pt x="222" y="147"/>
                </a:lnTo>
                <a:lnTo>
                  <a:pt x="240" y="140"/>
                </a:lnTo>
                <a:lnTo>
                  <a:pt x="259" y="134"/>
                </a:lnTo>
                <a:lnTo>
                  <a:pt x="295" y="119"/>
                </a:lnTo>
                <a:lnTo>
                  <a:pt x="334" y="103"/>
                </a:lnTo>
                <a:lnTo>
                  <a:pt x="353" y="94"/>
                </a:lnTo>
                <a:lnTo>
                  <a:pt x="372" y="86"/>
                </a:lnTo>
                <a:lnTo>
                  <a:pt x="393" y="76"/>
                </a:lnTo>
                <a:lnTo>
                  <a:pt x="414" y="67"/>
                </a:lnTo>
                <a:lnTo>
                  <a:pt x="435" y="59"/>
                </a:lnTo>
                <a:lnTo>
                  <a:pt x="456" y="52"/>
                </a:lnTo>
                <a:lnTo>
                  <a:pt x="474" y="44"/>
                </a:lnTo>
                <a:lnTo>
                  <a:pt x="493" y="38"/>
                </a:lnTo>
                <a:lnTo>
                  <a:pt x="510" y="32"/>
                </a:lnTo>
                <a:lnTo>
                  <a:pt x="526" y="27"/>
                </a:lnTo>
                <a:lnTo>
                  <a:pt x="541" y="23"/>
                </a:lnTo>
                <a:lnTo>
                  <a:pt x="554" y="17"/>
                </a:lnTo>
                <a:lnTo>
                  <a:pt x="568" y="13"/>
                </a:lnTo>
                <a:lnTo>
                  <a:pt x="579" y="9"/>
                </a:lnTo>
                <a:lnTo>
                  <a:pt x="591" y="7"/>
                </a:lnTo>
                <a:lnTo>
                  <a:pt x="600" y="4"/>
                </a:lnTo>
                <a:lnTo>
                  <a:pt x="610" y="2"/>
                </a:lnTo>
                <a:lnTo>
                  <a:pt x="620" y="0"/>
                </a:lnTo>
                <a:lnTo>
                  <a:pt x="627" y="0"/>
                </a:lnTo>
                <a:lnTo>
                  <a:pt x="633" y="0"/>
                </a:lnTo>
                <a:lnTo>
                  <a:pt x="646" y="0"/>
                </a:lnTo>
                <a:lnTo>
                  <a:pt x="658" y="0"/>
                </a:lnTo>
                <a:lnTo>
                  <a:pt x="670" y="0"/>
                </a:lnTo>
                <a:lnTo>
                  <a:pt x="679" y="2"/>
                </a:lnTo>
                <a:lnTo>
                  <a:pt x="691" y="2"/>
                </a:lnTo>
                <a:lnTo>
                  <a:pt x="702" y="5"/>
                </a:lnTo>
                <a:lnTo>
                  <a:pt x="714" y="7"/>
                </a:lnTo>
                <a:lnTo>
                  <a:pt x="725" y="13"/>
                </a:lnTo>
                <a:lnTo>
                  <a:pt x="731" y="15"/>
                </a:lnTo>
                <a:lnTo>
                  <a:pt x="737" y="19"/>
                </a:lnTo>
                <a:lnTo>
                  <a:pt x="742" y="21"/>
                </a:lnTo>
                <a:lnTo>
                  <a:pt x="748" y="25"/>
                </a:lnTo>
                <a:lnTo>
                  <a:pt x="756" y="32"/>
                </a:lnTo>
                <a:lnTo>
                  <a:pt x="762" y="40"/>
                </a:lnTo>
                <a:lnTo>
                  <a:pt x="766" y="48"/>
                </a:lnTo>
                <a:lnTo>
                  <a:pt x="769" y="53"/>
                </a:lnTo>
                <a:lnTo>
                  <a:pt x="771" y="61"/>
                </a:lnTo>
                <a:lnTo>
                  <a:pt x="771" y="67"/>
                </a:lnTo>
                <a:lnTo>
                  <a:pt x="771" y="69"/>
                </a:lnTo>
                <a:lnTo>
                  <a:pt x="769" y="71"/>
                </a:lnTo>
                <a:lnTo>
                  <a:pt x="767" y="73"/>
                </a:lnTo>
                <a:lnTo>
                  <a:pt x="764" y="75"/>
                </a:lnTo>
                <a:lnTo>
                  <a:pt x="762" y="76"/>
                </a:lnTo>
                <a:lnTo>
                  <a:pt x="756" y="80"/>
                </a:lnTo>
                <a:lnTo>
                  <a:pt x="752" y="82"/>
                </a:lnTo>
                <a:lnTo>
                  <a:pt x="746" y="86"/>
                </a:lnTo>
                <a:lnTo>
                  <a:pt x="741" y="88"/>
                </a:lnTo>
                <a:lnTo>
                  <a:pt x="735" y="92"/>
                </a:lnTo>
                <a:lnTo>
                  <a:pt x="727" y="96"/>
                </a:lnTo>
                <a:lnTo>
                  <a:pt x="719" y="99"/>
                </a:lnTo>
                <a:lnTo>
                  <a:pt x="712" y="103"/>
                </a:lnTo>
                <a:lnTo>
                  <a:pt x="702" y="107"/>
                </a:lnTo>
                <a:lnTo>
                  <a:pt x="693" y="111"/>
                </a:lnTo>
                <a:lnTo>
                  <a:pt x="683" y="117"/>
                </a:lnTo>
                <a:lnTo>
                  <a:pt x="671" y="121"/>
                </a:lnTo>
                <a:lnTo>
                  <a:pt x="660" y="126"/>
                </a:lnTo>
                <a:lnTo>
                  <a:pt x="646" y="130"/>
                </a:lnTo>
                <a:lnTo>
                  <a:pt x="635" y="136"/>
                </a:lnTo>
                <a:lnTo>
                  <a:pt x="622" y="140"/>
                </a:lnTo>
                <a:lnTo>
                  <a:pt x="606" y="146"/>
                </a:lnTo>
                <a:lnTo>
                  <a:pt x="593" y="151"/>
                </a:lnTo>
                <a:lnTo>
                  <a:pt x="575" y="157"/>
                </a:lnTo>
                <a:lnTo>
                  <a:pt x="560" y="163"/>
                </a:lnTo>
                <a:lnTo>
                  <a:pt x="543" y="169"/>
                </a:lnTo>
                <a:lnTo>
                  <a:pt x="526" y="174"/>
                </a:lnTo>
                <a:lnTo>
                  <a:pt x="508" y="180"/>
                </a:lnTo>
                <a:lnTo>
                  <a:pt x="489" y="186"/>
                </a:lnTo>
                <a:lnTo>
                  <a:pt x="470" y="192"/>
                </a:lnTo>
                <a:lnTo>
                  <a:pt x="449" y="199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Freeform 126"/>
          <p:cNvSpPr/>
          <p:nvPr/>
        </p:nvSpPr>
        <p:spPr>
          <a:xfrm>
            <a:off x="6456240" y="3294000"/>
            <a:ext cx="155520" cy="1692360"/>
          </a:xfrm>
          <a:custGeom>
            <a:avLst/>
            <a:gdLst/>
            <a:ahLst/>
            <a:rect l="l" t="t" r="r" b="b"/>
            <a:pathLst>
              <a:path w="196" h="2130">
                <a:moveTo>
                  <a:pt x="173" y="731"/>
                </a:moveTo>
                <a:lnTo>
                  <a:pt x="171" y="798"/>
                </a:lnTo>
                <a:lnTo>
                  <a:pt x="169" y="863"/>
                </a:lnTo>
                <a:lnTo>
                  <a:pt x="167" y="927"/>
                </a:lnTo>
                <a:lnTo>
                  <a:pt x="165" y="988"/>
                </a:lnTo>
                <a:lnTo>
                  <a:pt x="163" y="1050"/>
                </a:lnTo>
                <a:lnTo>
                  <a:pt x="161" y="1109"/>
                </a:lnTo>
                <a:lnTo>
                  <a:pt x="159" y="1167"/>
                </a:lnTo>
                <a:lnTo>
                  <a:pt x="157" y="1222"/>
                </a:lnTo>
                <a:lnTo>
                  <a:pt x="156" y="1278"/>
                </a:lnTo>
                <a:lnTo>
                  <a:pt x="154" y="1332"/>
                </a:lnTo>
                <a:lnTo>
                  <a:pt x="154" y="1383"/>
                </a:lnTo>
                <a:lnTo>
                  <a:pt x="152" y="1433"/>
                </a:lnTo>
                <a:lnTo>
                  <a:pt x="152" y="1483"/>
                </a:lnTo>
                <a:lnTo>
                  <a:pt x="152" y="1531"/>
                </a:lnTo>
                <a:lnTo>
                  <a:pt x="150" y="1577"/>
                </a:lnTo>
                <a:lnTo>
                  <a:pt x="150" y="1623"/>
                </a:lnTo>
                <a:lnTo>
                  <a:pt x="150" y="1646"/>
                </a:lnTo>
                <a:lnTo>
                  <a:pt x="148" y="1668"/>
                </a:lnTo>
                <a:lnTo>
                  <a:pt x="148" y="1689"/>
                </a:lnTo>
                <a:lnTo>
                  <a:pt x="146" y="1710"/>
                </a:lnTo>
                <a:lnTo>
                  <a:pt x="144" y="1729"/>
                </a:lnTo>
                <a:lnTo>
                  <a:pt x="144" y="1748"/>
                </a:lnTo>
                <a:lnTo>
                  <a:pt x="142" y="1767"/>
                </a:lnTo>
                <a:lnTo>
                  <a:pt x="142" y="1785"/>
                </a:lnTo>
                <a:lnTo>
                  <a:pt x="140" y="1804"/>
                </a:lnTo>
                <a:lnTo>
                  <a:pt x="140" y="1821"/>
                </a:lnTo>
                <a:lnTo>
                  <a:pt x="138" y="1836"/>
                </a:lnTo>
                <a:lnTo>
                  <a:pt x="138" y="1854"/>
                </a:lnTo>
                <a:lnTo>
                  <a:pt x="136" y="1869"/>
                </a:lnTo>
                <a:lnTo>
                  <a:pt x="134" y="1883"/>
                </a:lnTo>
                <a:lnTo>
                  <a:pt x="134" y="1898"/>
                </a:lnTo>
                <a:lnTo>
                  <a:pt x="133" y="1911"/>
                </a:lnTo>
                <a:lnTo>
                  <a:pt x="133" y="1925"/>
                </a:lnTo>
                <a:lnTo>
                  <a:pt x="131" y="1936"/>
                </a:lnTo>
                <a:lnTo>
                  <a:pt x="131" y="1950"/>
                </a:lnTo>
                <a:lnTo>
                  <a:pt x="129" y="1959"/>
                </a:lnTo>
                <a:lnTo>
                  <a:pt x="127" y="1971"/>
                </a:lnTo>
                <a:lnTo>
                  <a:pt x="127" y="1980"/>
                </a:lnTo>
                <a:lnTo>
                  <a:pt x="125" y="1990"/>
                </a:lnTo>
                <a:lnTo>
                  <a:pt x="125" y="2000"/>
                </a:lnTo>
                <a:lnTo>
                  <a:pt x="123" y="2007"/>
                </a:lnTo>
                <a:lnTo>
                  <a:pt x="123" y="2015"/>
                </a:lnTo>
                <a:lnTo>
                  <a:pt x="121" y="2023"/>
                </a:lnTo>
                <a:lnTo>
                  <a:pt x="121" y="2030"/>
                </a:lnTo>
                <a:lnTo>
                  <a:pt x="119" y="2036"/>
                </a:lnTo>
                <a:lnTo>
                  <a:pt x="117" y="2040"/>
                </a:lnTo>
                <a:lnTo>
                  <a:pt x="117" y="2046"/>
                </a:lnTo>
                <a:lnTo>
                  <a:pt x="115" y="2050"/>
                </a:lnTo>
                <a:lnTo>
                  <a:pt x="111" y="2059"/>
                </a:lnTo>
                <a:lnTo>
                  <a:pt x="108" y="2069"/>
                </a:lnTo>
                <a:lnTo>
                  <a:pt x="104" y="2076"/>
                </a:lnTo>
                <a:lnTo>
                  <a:pt x="100" y="2084"/>
                </a:lnTo>
                <a:lnTo>
                  <a:pt x="98" y="2092"/>
                </a:lnTo>
                <a:lnTo>
                  <a:pt x="94" y="2098"/>
                </a:lnTo>
                <a:lnTo>
                  <a:pt x="92" y="2103"/>
                </a:lnTo>
                <a:lnTo>
                  <a:pt x="88" y="2109"/>
                </a:lnTo>
                <a:lnTo>
                  <a:pt x="86" y="2115"/>
                </a:lnTo>
                <a:lnTo>
                  <a:pt x="83" y="2119"/>
                </a:lnTo>
                <a:lnTo>
                  <a:pt x="81" y="2121"/>
                </a:lnTo>
                <a:lnTo>
                  <a:pt x="79" y="2124"/>
                </a:lnTo>
                <a:lnTo>
                  <a:pt x="77" y="2126"/>
                </a:lnTo>
                <a:lnTo>
                  <a:pt x="75" y="2128"/>
                </a:lnTo>
                <a:lnTo>
                  <a:pt x="71" y="2128"/>
                </a:lnTo>
                <a:lnTo>
                  <a:pt x="69" y="2130"/>
                </a:lnTo>
                <a:lnTo>
                  <a:pt x="65" y="2128"/>
                </a:lnTo>
                <a:lnTo>
                  <a:pt x="60" y="2126"/>
                </a:lnTo>
                <a:lnTo>
                  <a:pt x="54" y="2122"/>
                </a:lnTo>
                <a:lnTo>
                  <a:pt x="46" y="2119"/>
                </a:lnTo>
                <a:lnTo>
                  <a:pt x="44" y="2115"/>
                </a:lnTo>
                <a:lnTo>
                  <a:pt x="40" y="2111"/>
                </a:lnTo>
                <a:lnTo>
                  <a:pt x="37" y="2107"/>
                </a:lnTo>
                <a:lnTo>
                  <a:pt x="35" y="2101"/>
                </a:lnTo>
                <a:lnTo>
                  <a:pt x="31" y="2096"/>
                </a:lnTo>
                <a:lnTo>
                  <a:pt x="29" y="2090"/>
                </a:lnTo>
                <a:lnTo>
                  <a:pt x="25" y="2084"/>
                </a:lnTo>
                <a:lnTo>
                  <a:pt x="23" y="2076"/>
                </a:lnTo>
                <a:lnTo>
                  <a:pt x="15" y="2046"/>
                </a:lnTo>
                <a:lnTo>
                  <a:pt x="12" y="2030"/>
                </a:lnTo>
                <a:lnTo>
                  <a:pt x="8" y="2015"/>
                </a:lnTo>
                <a:lnTo>
                  <a:pt x="6" y="1998"/>
                </a:lnTo>
                <a:lnTo>
                  <a:pt x="2" y="1980"/>
                </a:lnTo>
                <a:lnTo>
                  <a:pt x="2" y="1963"/>
                </a:lnTo>
                <a:lnTo>
                  <a:pt x="0" y="1944"/>
                </a:lnTo>
                <a:lnTo>
                  <a:pt x="0" y="1934"/>
                </a:lnTo>
                <a:lnTo>
                  <a:pt x="2" y="1925"/>
                </a:lnTo>
                <a:lnTo>
                  <a:pt x="2" y="1911"/>
                </a:lnTo>
                <a:lnTo>
                  <a:pt x="2" y="1898"/>
                </a:lnTo>
                <a:lnTo>
                  <a:pt x="4" y="1883"/>
                </a:lnTo>
                <a:lnTo>
                  <a:pt x="6" y="1865"/>
                </a:lnTo>
                <a:lnTo>
                  <a:pt x="8" y="1846"/>
                </a:lnTo>
                <a:lnTo>
                  <a:pt x="10" y="1825"/>
                </a:lnTo>
                <a:lnTo>
                  <a:pt x="12" y="1802"/>
                </a:lnTo>
                <a:lnTo>
                  <a:pt x="14" y="1777"/>
                </a:lnTo>
                <a:lnTo>
                  <a:pt x="17" y="1752"/>
                </a:lnTo>
                <a:lnTo>
                  <a:pt x="21" y="1723"/>
                </a:lnTo>
                <a:lnTo>
                  <a:pt x="23" y="1694"/>
                </a:lnTo>
                <a:lnTo>
                  <a:pt x="27" y="1664"/>
                </a:lnTo>
                <a:lnTo>
                  <a:pt x="31" y="1631"/>
                </a:lnTo>
                <a:lnTo>
                  <a:pt x="35" y="1597"/>
                </a:lnTo>
                <a:lnTo>
                  <a:pt x="37" y="1562"/>
                </a:lnTo>
                <a:lnTo>
                  <a:pt x="40" y="1524"/>
                </a:lnTo>
                <a:lnTo>
                  <a:pt x="42" y="1485"/>
                </a:lnTo>
                <a:lnTo>
                  <a:pt x="46" y="1447"/>
                </a:lnTo>
                <a:lnTo>
                  <a:pt x="48" y="1407"/>
                </a:lnTo>
                <a:lnTo>
                  <a:pt x="52" y="1364"/>
                </a:lnTo>
                <a:lnTo>
                  <a:pt x="56" y="1320"/>
                </a:lnTo>
                <a:lnTo>
                  <a:pt x="58" y="1276"/>
                </a:lnTo>
                <a:lnTo>
                  <a:pt x="61" y="1230"/>
                </a:lnTo>
                <a:lnTo>
                  <a:pt x="65" y="1182"/>
                </a:lnTo>
                <a:lnTo>
                  <a:pt x="67" y="1132"/>
                </a:lnTo>
                <a:lnTo>
                  <a:pt x="71" y="1082"/>
                </a:lnTo>
                <a:lnTo>
                  <a:pt x="73" y="1030"/>
                </a:lnTo>
                <a:lnTo>
                  <a:pt x="77" y="977"/>
                </a:lnTo>
                <a:lnTo>
                  <a:pt x="79" y="921"/>
                </a:lnTo>
                <a:lnTo>
                  <a:pt x="81" y="865"/>
                </a:lnTo>
                <a:lnTo>
                  <a:pt x="83" y="808"/>
                </a:lnTo>
                <a:lnTo>
                  <a:pt x="85" y="752"/>
                </a:lnTo>
                <a:lnTo>
                  <a:pt x="85" y="694"/>
                </a:lnTo>
                <a:lnTo>
                  <a:pt x="86" y="639"/>
                </a:lnTo>
                <a:lnTo>
                  <a:pt x="85" y="529"/>
                </a:lnTo>
                <a:lnTo>
                  <a:pt x="83" y="422"/>
                </a:lnTo>
                <a:lnTo>
                  <a:pt x="79" y="314"/>
                </a:lnTo>
                <a:lnTo>
                  <a:pt x="73" y="209"/>
                </a:lnTo>
                <a:lnTo>
                  <a:pt x="65" y="103"/>
                </a:lnTo>
                <a:lnTo>
                  <a:pt x="58" y="0"/>
                </a:lnTo>
                <a:lnTo>
                  <a:pt x="75" y="11"/>
                </a:lnTo>
                <a:lnTo>
                  <a:pt x="90" y="25"/>
                </a:lnTo>
                <a:lnTo>
                  <a:pt x="106" y="36"/>
                </a:lnTo>
                <a:lnTo>
                  <a:pt x="119" y="48"/>
                </a:lnTo>
                <a:lnTo>
                  <a:pt x="131" y="57"/>
                </a:lnTo>
                <a:lnTo>
                  <a:pt x="142" y="69"/>
                </a:lnTo>
                <a:lnTo>
                  <a:pt x="152" y="78"/>
                </a:lnTo>
                <a:lnTo>
                  <a:pt x="161" y="88"/>
                </a:lnTo>
                <a:lnTo>
                  <a:pt x="169" y="97"/>
                </a:lnTo>
                <a:lnTo>
                  <a:pt x="177" y="105"/>
                </a:lnTo>
                <a:lnTo>
                  <a:pt x="182" y="113"/>
                </a:lnTo>
                <a:lnTo>
                  <a:pt x="188" y="120"/>
                </a:lnTo>
                <a:lnTo>
                  <a:pt x="192" y="128"/>
                </a:lnTo>
                <a:lnTo>
                  <a:pt x="194" y="134"/>
                </a:lnTo>
                <a:lnTo>
                  <a:pt x="196" y="140"/>
                </a:lnTo>
                <a:lnTo>
                  <a:pt x="196" y="145"/>
                </a:lnTo>
                <a:lnTo>
                  <a:pt x="196" y="149"/>
                </a:lnTo>
                <a:lnTo>
                  <a:pt x="196" y="155"/>
                </a:lnTo>
                <a:lnTo>
                  <a:pt x="196" y="161"/>
                </a:lnTo>
                <a:lnTo>
                  <a:pt x="196" y="167"/>
                </a:lnTo>
                <a:lnTo>
                  <a:pt x="196" y="174"/>
                </a:lnTo>
                <a:lnTo>
                  <a:pt x="196" y="184"/>
                </a:lnTo>
                <a:lnTo>
                  <a:pt x="194" y="193"/>
                </a:lnTo>
                <a:lnTo>
                  <a:pt x="194" y="203"/>
                </a:lnTo>
                <a:lnTo>
                  <a:pt x="194" y="215"/>
                </a:lnTo>
                <a:lnTo>
                  <a:pt x="194" y="226"/>
                </a:lnTo>
                <a:lnTo>
                  <a:pt x="192" y="239"/>
                </a:lnTo>
                <a:lnTo>
                  <a:pt x="192" y="253"/>
                </a:lnTo>
                <a:lnTo>
                  <a:pt x="192" y="268"/>
                </a:lnTo>
                <a:lnTo>
                  <a:pt x="190" y="284"/>
                </a:lnTo>
                <a:lnTo>
                  <a:pt x="190" y="301"/>
                </a:lnTo>
                <a:lnTo>
                  <a:pt x="188" y="318"/>
                </a:lnTo>
                <a:lnTo>
                  <a:pt x="188" y="337"/>
                </a:lnTo>
                <a:lnTo>
                  <a:pt x="188" y="357"/>
                </a:lnTo>
                <a:lnTo>
                  <a:pt x="186" y="378"/>
                </a:lnTo>
                <a:lnTo>
                  <a:pt x="186" y="399"/>
                </a:lnTo>
                <a:lnTo>
                  <a:pt x="184" y="422"/>
                </a:lnTo>
                <a:lnTo>
                  <a:pt x="184" y="445"/>
                </a:lnTo>
                <a:lnTo>
                  <a:pt x="182" y="468"/>
                </a:lnTo>
                <a:lnTo>
                  <a:pt x="182" y="493"/>
                </a:lnTo>
                <a:lnTo>
                  <a:pt x="181" y="520"/>
                </a:lnTo>
                <a:lnTo>
                  <a:pt x="181" y="547"/>
                </a:lnTo>
                <a:lnTo>
                  <a:pt x="179" y="575"/>
                </a:lnTo>
                <a:lnTo>
                  <a:pt x="177" y="604"/>
                </a:lnTo>
                <a:lnTo>
                  <a:pt x="177" y="635"/>
                </a:lnTo>
                <a:lnTo>
                  <a:pt x="175" y="666"/>
                </a:lnTo>
                <a:lnTo>
                  <a:pt x="175" y="698"/>
                </a:lnTo>
                <a:lnTo>
                  <a:pt x="173" y="73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Freeform 127"/>
          <p:cNvSpPr/>
          <p:nvPr/>
        </p:nvSpPr>
        <p:spPr>
          <a:xfrm>
            <a:off x="6319800" y="3060720"/>
            <a:ext cx="511200" cy="355680"/>
          </a:xfrm>
          <a:custGeom>
            <a:avLst/>
            <a:gdLst/>
            <a:ahLst/>
            <a:rect l="l" t="t" r="r" b="b"/>
            <a:pathLst>
              <a:path w="645" h="447">
                <a:moveTo>
                  <a:pt x="346" y="347"/>
                </a:moveTo>
                <a:lnTo>
                  <a:pt x="321" y="361"/>
                </a:lnTo>
                <a:lnTo>
                  <a:pt x="294" y="374"/>
                </a:lnTo>
                <a:lnTo>
                  <a:pt x="269" y="386"/>
                </a:lnTo>
                <a:lnTo>
                  <a:pt x="242" y="397"/>
                </a:lnTo>
                <a:lnTo>
                  <a:pt x="217" y="405"/>
                </a:lnTo>
                <a:lnTo>
                  <a:pt x="190" y="414"/>
                </a:lnTo>
                <a:lnTo>
                  <a:pt x="165" y="420"/>
                </a:lnTo>
                <a:lnTo>
                  <a:pt x="139" y="426"/>
                </a:lnTo>
                <a:lnTo>
                  <a:pt x="127" y="432"/>
                </a:lnTo>
                <a:lnTo>
                  <a:pt x="114" y="436"/>
                </a:lnTo>
                <a:lnTo>
                  <a:pt x="102" y="439"/>
                </a:lnTo>
                <a:lnTo>
                  <a:pt x="92" y="441"/>
                </a:lnTo>
                <a:lnTo>
                  <a:pt x="81" y="443"/>
                </a:lnTo>
                <a:lnTo>
                  <a:pt x="71" y="445"/>
                </a:lnTo>
                <a:lnTo>
                  <a:pt x="62" y="445"/>
                </a:lnTo>
                <a:lnTo>
                  <a:pt x="52" y="447"/>
                </a:lnTo>
                <a:lnTo>
                  <a:pt x="44" y="445"/>
                </a:lnTo>
                <a:lnTo>
                  <a:pt x="37" y="445"/>
                </a:lnTo>
                <a:lnTo>
                  <a:pt x="29" y="443"/>
                </a:lnTo>
                <a:lnTo>
                  <a:pt x="23" y="441"/>
                </a:lnTo>
                <a:lnTo>
                  <a:pt x="16" y="438"/>
                </a:lnTo>
                <a:lnTo>
                  <a:pt x="10" y="436"/>
                </a:lnTo>
                <a:lnTo>
                  <a:pt x="6" y="430"/>
                </a:lnTo>
                <a:lnTo>
                  <a:pt x="0" y="426"/>
                </a:lnTo>
                <a:lnTo>
                  <a:pt x="35" y="403"/>
                </a:lnTo>
                <a:lnTo>
                  <a:pt x="66" y="382"/>
                </a:lnTo>
                <a:lnTo>
                  <a:pt x="96" y="363"/>
                </a:lnTo>
                <a:lnTo>
                  <a:pt x="125" y="343"/>
                </a:lnTo>
                <a:lnTo>
                  <a:pt x="154" y="324"/>
                </a:lnTo>
                <a:lnTo>
                  <a:pt x="179" y="307"/>
                </a:lnTo>
                <a:lnTo>
                  <a:pt x="204" y="290"/>
                </a:lnTo>
                <a:lnTo>
                  <a:pt x="227" y="274"/>
                </a:lnTo>
                <a:lnTo>
                  <a:pt x="248" y="259"/>
                </a:lnTo>
                <a:lnTo>
                  <a:pt x="269" y="246"/>
                </a:lnTo>
                <a:lnTo>
                  <a:pt x="286" y="230"/>
                </a:lnTo>
                <a:lnTo>
                  <a:pt x="304" y="219"/>
                </a:lnTo>
                <a:lnTo>
                  <a:pt x="319" y="205"/>
                </a:lnTo>
                <a:lnTo>
                  <a:pt x="334" y="194"/>
                </a:lnTo>
                <a:lnTo>
                  <a:pt x="346" y="184"/>
                </a:lnTo>
                <a:lnTo>
                  <a:pt x="357" y="173"/>
                </a:lnTo>
                <a:lnTo>
                  <a:pt x="369" y="165"/>
                </a:lnTo>
                <a:lnTo>
                  <a:pt x="378" y="157"/>
                </a:lnTo>
                <a:lnTo>
                  <a:pt x="386" y="152"/>
                </a:lnTo>
                <a:lnTo>
                  <a:pt x="394" y="144"/>
                </a:lnTo>
                <a:lnTo>
                  <a:pt x="401" y="136"/>
                </a:lnTo>
                <a:lnTo>
                  <a:pt x="407" y="128"/>
                </a:lnTo>
                <a:lnTo>
                  <a:pt x="413" y="121"/>
                </a:lnTo>
                <a:lnTo>
                  <a:pt x="419" y="113"/>
                </a:lnTo>
                <a:lnTo>
                  <a:pt x="423" y="105"/>
                </a:lnTo>
                <a:lnTo>
                  <a:pt x="425" y="98"/>
                </a:lnTo>
                <a:lnTo>
                  <a:pt x="426" y="90"/>
                </a:lnTo>
                <a:lnTo>
                  <a:pt x="428" y="84"/>
                </a:lnTo>
                <a:lnTo>
                  <a:pt x="430" y="77"/>
                </a:lnTo>
                <a:lnTo>
                  <a:pt x="430" y="69"/>
                </a:lnTo>
                <a:lnTo>
                  <a:pt x="428" y="61"/>
                </a:lnTo>
                <a:lnTo>
                  <a:pt x="426" y="54"/>
                </a:lnTo>
                <a:lnTo>
                  <a:pt x="425" y="46"/>
                </a:lnTo>
                <a:lnTo>
                  <a:pt x="423" y="40"/>
                </a:lnTo>
                <a:lnTo>
                  <a:pt x="423" y="34"/>
                </a:lnTo>
                <a:lnTo>
                  <a:pt x="421" y="29"/>
                </a:lnTo>
                <a:lnTo>
                  <a:pt x="421" y="23"/>
                </a:lnTo>
                <a:lnTo>
                  <a:pt x="421" y="19"/>
                </a:lnTo>
                <a:lnTo>
                  <a:pt x="421" y="15"/>
                </a:lnTo>
                <a:lnTo>
                  <a:pt x="421" y="11"/>
                </a:lnTo>
                <a:lnTo>
                  <a:pt x="423" y="9"/>
                </a:lnTo>
                <a:lnTo>
                  <a:pt x="425" y="8"/>
                </a:lnTo>
                <a:lnTo>
                  <a:pt x="426" y="4"/>
                </a:lnTo>
                <a:lnTo>
                  <a:pt x="430" y="4"/>
                </a:lnTo>
                <a:lnTo>
                  <a:pt x="434" y="2"/>
                </a:lnTo>
                <a:lnTo>
                  <a:pt x="438" y="2"/>
                </a:lnTo>
                <a:lnTo>
                  <a:pt x="444" y="0"/>
                </a:lnTo>
                <a:lnTo>
                  <a:pt x="449" y="0"/>
                </a:lnTo>
                <a:lnTo>
                  <a:pt x="459" y="2"/>
                </a:lnTo>
                <a:lnTo>
                  <a:pt x="471" y="4"/>
                </a:lnTo>
                <a:lnTo>
                  <a:pt x="482" y="6"/>
                </a:lnTo>
                <a:lnTo>
                  <a:pt x="496" y="11"/>
                </a:lnTo>
                <a:lnTo>
                  <a:pt x="501" y="15"/>
                </a:lnTo>
                <a:lnTo>
                  <a:pt x="509" y="19"/>
                </a:lnTo>
                <a:lnTo>
                  <a:pt x="519" y="23"/>
                </a:lnTo>
                <a:lnTo>
                  <a:pt x="526" y="29"/>
                </a:lnTo>
                <a:lnTo>
                  <a:pt x="536" y="34"/>
                </a:lnTo>
                <a:lnTo>
                  <a:pt x="545" y="40"/>
                </a:lnTo>
                <a:lnTo>
                  <a:pt x="555" y="46"/>
                </a:lnTo>
                <a:lnTo>
                  <a:pt x="565" y="54"/>
                </a:lnTo>
                <a:lnTo>
                  <a:pt x="576" y="61"/>
                </a:lnTo>
                <a:lnTo>
                  <a:pt x="586" y="69"/>
                </a:lnTo>
                <a:lnTo>
                  <a:pt x="593" y="77"/>
                </a:lnTo>
                <a:lnTo>
                  <a:pt x="601" y="84"/>
                </a:lnTo>
                <a:lnTo>
                  <a:pt x="609" y="90"/>
                </a:lnTo>
                <a:lnTo>
                  <a:pt x="616" y="98"/>
                </a:lnTo>
                <a:lnTo>
                  <a:pt x="622" y="105"/>
                </a:lnTo>
                <a:lnTo>
                  <a:pt x="626" y="111"/>
                </a:lnTo>
                <a:lnTo>
                  <a:pt x="632" y="119"/>
                </a:lnTo>
                <a:lnTo>
                  <a:pt x="636" y="125"/>
                </a:lnTo>
                <a:lnTo>
                  <a:pt x="640" y="132"/>
                </a:lnTo>
                <a:lnTo>
                  <a:pt x="641" y="138"/>
                </a:lnTo>
                <a:lnTo>
                  <a:pt x="643" y="144"/>
                </a:lnTo>
                <a:lnTo>
                  <a:pt x="645" y="150"/>
                </a:lnTo>
                <a:lnTo>
                  <a:pt x="645" y="155"/>
                </a:lnTo>
                <a:lnTo>
                  <a:pt x="645" y="161"/>
                </a:lnTo>
                <a:lnTo>
                  <a:pt x="645" y="165"/>
                </a:lnTo>
                <a:lnTo>
                  <a:pt x="643" y="171"/>
                </a:lnTo>
                <a:lnTo>
                  <a:pt x="641" y="175"/>
                </a:lnTo>
                <a:lnTo>
                  <a:pt x="640" y="180"/>
                </a:lnTo>
                <a:lnTo>
                  <a:pt x="636" y="184"/>
                </a:lnTo>
                <a:lnTo>
                  <a:pt x="632" y="190"/>
                </a:lnTo>
                <a:lnTo>
                  <a:pt x="626" y="196"/>
                </a:lnTo>
                <a:lnTo>
                  <a:pt x="620" y="199"/>
                </a:lnTo>
                <a:lnTo>
                  <a:pt x="615" y="205"/>
                </a:lnTo>
                <a:lnTo>
                  <a:pt x="609" y="209"/>
                </a:lnTo>
                <a:lnTo>
                  <a:pt x="601" y="215"/>
                </a:lnTo>
                <a:lnTo>
                  <a:pt x="592" y="221"/>
                </a:lnTo>
                <a:lnTo>
                  <a:pt x="584" y="224"/>
                </a:lnTo>
                <a:lnTo>
                  <a:pt x="574" y="230"/>
                </a:lnTo>
                <a:lnTo>
                  <a:pt x="565" y="234"/>
                </a:lnTo>
                <a:lnTo>
                  <a:pt x="553" y="240"/>
                </a:lnTo>
                <a:lnTo>
                  <a:pt x="532" y="255"/>
                </a:lnTo>
                <a:lnTo>
                  <a:pt x="509" y="269"/>
                </a:lnTo>
                <a:lnTo>
                  <a:pt x="484" y="280"/>
                </a:lnTo>
                <a:lnTo>
                  <a:pt x="459" y="294"/>
                </a:lnTo>
                <a:lnTo>
                  <a:pt x="432" y="305"/>
                </a:lnTo>
                <a:lnTo>
                  <a:pt x="405" y="319"/>
                </a:lnTo>
                <a:lnTo>
                  <a:pt x="377" y="332"/>
                </a:lnTo>
                <a:lnTo>
                  <a:pt x="346" y="34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Freeform 128"/>
          <p:cNvSpPr/>
          <p:nvPr/>
        </p:nvSpPr>
        <p:spPr>
          <a:xfrm>
            <a:off x="5724360" y="2824200"/>
            <a:ext cx="398520" cy="2278080"/>
          </a:xfrm>
          <a:custGeom>
            <a:avLst/>
            <a:gdLst/>
            <a:ahLst/>
            <a:rect l="l" t="t" r="r" b="b"/>
            <a:pathLst>
              <a:path w="501" h="2870">
                <a:moveTo>
                  <a:pt x="301" y="260"/>
                </a:moveTo>
                <a:lnTo>
                  <a:pt x="297" y="242"/>
                </a:lnTo>
                <a:lnTo>
                  <a:pt x="295" y="227"/>
                </a:lnTo>
                <a:lnTo>
                  <a:pt x="293" y="212"/>
                </a:lnTo>
                <a:lnTo>
                  <a:pt x="291" y="198"/>
                </a:lnTo>
                <a:lnTo>
                  <a:pt x="290" y="185"/>
                </a:lnTo>
                <a:lnTo>
                  <a:pt x="286" y="171"/>
                </a:lnTo>
                <a:lnTo>
                  <a:pt x="284" y="160"/>
                </a:lnTo>
                <a:lnTo>
                  <a:pt x="282" y="148"/>
                </a:lnTo>
                <a:lnTo>
                  <a:pt x="278" y="139"/>
                </a:lnTo>
                <a:lnTo>
                  <a:pt x="276" y="129"/>
                </a:lnTo>
                <a:lnTo>
                  <a:pt x="272" y="121"/>
                </a:lnTo>
                <a:lnTo>
                  <a:pt x="268" y="112"/>
                </a:lnTo>
                <a:lnTo>
                  <a:pt x="267" y="106"/>
                </a:lnTo>
                <a:lnTo>
                  <a:pt x="263" y="98"/>
                </a:lnTo>
                <a:lnTo>
                  <a:pt x="259" y="93"/>
                </a:lnTo>
                <a:lnTo>
                  <a:pt x="255" y="87"/>
                </a:lnTo>
                <a:lnTo>
                  <a:pt x="247" y="85"/>
                </a:lnTo>
                <a:lnTo>
                  <a:pt x="243" y="81"/>
                </a:lnTo>
                <a:lnTo>
                  <a:pt x="238" y="79"/>
                </a:lnTo>
                <a:lnTo>
                  <a:pt x="234" y="75"/>
                </a:lnTo>
                <a:lnTo>
                  <a:pt x="232" y="71"/>
                </a:lnTo>
                <a:lnTo>
                  <a:pt x="228" y="68"/>
                </a:lnTo>
                <a:lnTo>
                  <a:pt x="226" y="64"/>
                </a:lnTo>
                <a:lnTo>
                  <a:pt x="226" y="58"/>
                </a:lnTo>
                <a:lnTo>
                  <a:pt x="224" y="54"/>
                </a:lnTo>
                <a:lnTo>
                  <a:pt x="224" y="50"/>
                </a:lnTo>
                <a:lnTo>
                  <a:pt x="224" y="41"/>
                </a:lnTo>
                <a:lnTo>
                  <a:pt x="228" y="31"/>
                </a:lnTo>
                <a:lnTo>
                  <a:pt x="232" y="22"/>
                </a:lnTo>
                <a:lnTo>
                  <a:pt x="234" y="16"/>
                </a:lnTo>
                <a:lnTo>
                  <a:pt x="236" y="12"/>
                </a:lnTo>
                <a:lnTo>
                  <a:pt x="240" y="8"/>
                </a:lnTo>
                <a:lnTo>
                  <a:pt x="243" y="6"/>
                </a:lnTo>
                <a:lnTo>
                  <a:pt x="249" y="2"/>
                </a:lnTo>
                <a:lnTo>
                  <a:pt x="255" y="2"/>
                </a:lnTo>
                <a:lnTo>
                  <a:pt x="261" y="0"/>
                </a:lnTo>
                <a:lnTo>
                  <a:pt x="267" y="0"/>
                </a:lnTo>
                <a:lnTo>
                  <a:pt x="274" y="0"/>
                </a:lnTo>
                <a:lnTo>
                  <a:pt x="282" y="2"/>
                </a:lnTo>
                <a:lnTo>
                  <a:pt x="291" y="2"/>
                </a:lnTo>
                <a:lnTo>
                  <a:pt x="301" y="6"/>
                </a:lnTo>
                <a:lnTo>
                  <a:pt x="311" y="8"/>
                </a:lnTo>
                <a:lnTo>
                  <a:pt x="322" y="12"/>
                </a:lnTo>
                <a:lnTo>
                  <a:pt x="334" y="16"/>
                </a:lnTo>
                <a:lnTo>
                  <a:pt x="347" y="22"/>
                </a:lnTo>
                <a:lnTo>
                  <a:pt x="359" y="27"/>
                </a:lnTo>
                <a:lnTo>
                  <a:pt x="370" y="35"/>
                </a:lnTo>
                <a:lnTo>
                  <a:pt x="382" y="43"/>
                </a:lnTo>
                <a:lnTo>
                  <a:pt x="393" y="48"/>
                </a:lnTo>
                <a:lnTo>
                  <a:pt x="405" y="54"/>
                </a:lnTo>
                <a:lnTo>
                  <a:pt x="414" y="60"/>
                </a:lnTo>
                <a:lnTo>
                  <a:pt x="424" y="66"/>
                </a:lnTo>
                <a:lnTo>
                  <a:pt x="432" y="71"/>
                </a:lnTo>
                <a:lnTo>
                  <a:pt x="441" y="75"/>
                </a:lnTo>
                <a:lnTo>
                  <a:pt x="449" y="79"/>
                </a:lnTo>
                <a:lnTo>
                  <a:pt x="457" y="85"/>
                </a:lnTo>
                <a:lnTo>
                  <a:pt x="462" y="89"/>
                </a:lnTo>
                <a:lnTo>
                  <a:pt x="468" y="91"/>
                </a:lnTo>
                <a:lnTo>
                  <a:pt x="474" y="94"/>
                </a:lnTo>
                <a:lnTo>
                  <a:pt x="480" y="98"/>
                </a:lnTo>
                <a:lnTo>
                  <a:pt x="485" y="100"/>
                </a:lnTo>
                <a:lnTo>
                  <a:pt x="489" y="112"/>
                </a:lnTo>
                <a:lnTo>
                  <a:pt x="493" y="123"/>
                </a:lnTo>
                <a:lnTo>
                  <a:pt x="495" y="137"/>
                </a:lnTo>
                <a:lnTo>
                  <a:pt x="499" y="150"/>
                </a:lnTo>
                <a:lnTo>
                  <a:pt x="501" y="166"/>
                </a:lnTo>
                <a:lnTo>
                  <a:pt x="501" y="183"/>
                </a:lnTo>
                <a:lnTo>
                  <a:pt x="499" y="200"/>
                </a:lnTo>
                <a:lnTo>
                  <a:pt x="497" y="210"/>
                </a:lnTo>
                <a:lnTo>
                  <a:pt x="497" y="221"/>
                </a:lnTo>
                <a:lnTo>
                  <a:pt x="493" y="233"/>
                </a:lnTo>
                <a:lnTo>
                  <a:pt x="491" y="248"/>
                </a:lnTo>
                <a:lnTo>
                  <a:pt x="489" y="265"/>
                </a:lnTo>
                <a:lnTo>
                  <a:pt x="487" y="283"/>
                </a:lnTo>
                <a:lnTo>
                  <a:pt x="485" y="302"/>
                </a:lnTo>
                <a:lnTo>
                  <a:pt x="483" y="323"/>
                </a:lnTo>
                <a:lnTo>
                  <a:pt x="482" y="346"/>
                </a:lnTo>
                <a:lnTo>
                  <a:pt x="478" y="371"/>
                </a:lnTo>
                <a:lnTo>
                  <a:pt x="476" y="396"/>
                </a:lnTo>
                <a:lnTo>
                  <a:pt x="474" y="423"/>
                </a:lnTo>
                <a:lnTo>
                  <a:pt x="472" y="452"/>
                </a:lnTo>
                <a:lnTo>
                  <a:pt x="470" y="482"/>
                </a:lnTo>
                <a:lnTo>
                  <a:pt x="468" y="515"/>
                </a:lnTo>
                <a:lnTo>
                  <a:pt x="466" y="547"/>
                </a:lnTo>
                <a:lnTo>
                  <a:pt x="464" y="582"/>
                </a:lnTo>
                <a:lnTo>
                  <a:pt x="462" y="620"/>
                </a:lnTo>
                <a:lnTo>
                  <a:pt x="460" y="640"/>
                </a:lnTo>
                <a:lnTo>
                  <a:pt x="458" y="661"/>
                </a:lnTo>
                <a:lnTo>
                  <a:pt x="458" y="684"/>
                </a:lnTo>
                <a:lnTo>
                  <a:pt x="457" y="707"/>
                </a:lnTo>
                <a:lnTo>
                  <a:pt x="457" y="732"/>
                </a:lnTo>
                <a:lnTo>
                  <a:pt x="455" y="759"/>
                </a:lnTo>
                <a:lnTo>
                  <a:pt x="455" y="784"/>
                </a:lnTo>
                <a:lnTo>
                  <a:pt x="453" y="812"/>
                </a:lnTo>
                <a:lnTo>
                  <a:pt x="453" y="841"/>
                </a:lnTo>
                <a:lnTo>
                  <a:pt x="451" y="870"/>
                </a:lnTo>
                <a:lnTo>
                  <a:pt x="451" y="901"/>
                </a:lnTo>
                <a:lnTo>
                  <a:pt x="449" y="933"/>
                </a:lnTo>
                <a:lnTo>
                  <a:pt x="449" y="966"/>
                </a:lnTo>
                <a:lnTo>
                  <a:pt x="447" y="1000"/>
                </a:lnTo>
                <a:lnTo>
                  <a:pt x="447" y="1035"/>
                </a:lnTo>
                <a:lnTo>
                  <a:pt x="445" y="1072"/>
                </a:lnTo>
                <a:lnTo>
                  <a:pt x="445" y="1108"/>
                </a:lnTo>
                <a:lnTo>
                  <a:pt x="443" y="1146"/>
                </a:lnTo>
                <a:lnTo>
                  <a:pt x="443" y="1185"/>
                </a:lnTo>
                <a:lnTo>
                  <a:pt x="443" y="1225"/>
                </a:lnTo>
                <a:lnTo>
                  <a:pt x="441" y="1267"/>
                </a:lnTo>
                <a:lnTo>
                  <a:pt x="441" y="1310"/>
                </a:lnTo>
                <a:lnTo>
                  <a:pt x="441" y="1352"/>
                </a:lnTo>
                <a:lnTo>
                  <a:pt x="441" y="1396"/>
                </a:lnTo>
                <a:lnTo>
                  <a:pt x="439" y="1442"/>
                </a:lnTo>
                <a:lnTo>
                  <a:pt x="439" y="1488"/>
                </a:lnTo>
                <a:lnTo>
                  <a:pt x="439" y="1536"/>
                </a:lnTo>
                <a:lnTo>
                  <a:pt x="439" y="1586"/>
                </a:lnTo>
                <a:lnTo>
                  <a:pt x="439" y="1636"/>
                </a:lnTo>
                <a:lnTo>
                  <a:pt x="439" y="1686"/>
                </a:lnTo>
                <a:lnTo>
                  <a:pt x="439" y="1738"/>
                </a:lnTo>
                <a:lnTo>
                  <a:pt x="439" y="1791"/>
                </a:lnTo>
                <a:lnTo>
                  <a:pt x="437" y="1845"/>
                </a:lnTo>
                <a:lnTo>
                  <a:pt x="437" y="1895"/>
                </a:lnTo>
                <a:lnTo>
                  <a:pt x="437" y="1947"/>
                </a:lnTo>
                <a:lnTo>
                  <a:pt x="437" y="1995"/>
                </a:lnTo>
                <a:lnTo>
                  <a:pt x="437" y="2043"/>
                </a:lnTo>
                <a:lnTo>
                  <a:pt x="435" y="2089"/>
                </a:lnTo>
                <a:lnTo>
                  <a:pt x="435" y="2133"/>
                </a:lnTo>
                <a:lnTo>
                  <a:pt x="434" y="2175"/>
                </a:lnTo>
                <a:lnTo>
                  <a:pt x="434" y="2217"/>
                </a:lnTo>
                <a:lnTo>
                  <a:pt x="432" y="2258"/>
                </a:lnTo>
                <a:lnTo>
                  <a:pt x="430" y="2296"/>
                </a:lnTo>
                <a:lnTo>
                  <a:pt x="430" y="2333"/>
                </a:lnTo>
                <a:lnTo>
                  <a:pt x="428" y="2369"/>
                </a:lnTo>
                <a:lnTo>
                  <a:pt x="426" y="2404"/>
                </a:lnTo>
                <a:lnTo>
                  <a:pt x="424" y="2436"/>
                </a:lnTo>
                <a:lnTo>
                  <a:pt x="422" y="2467"/>
                </a:lnTo>
                <a:lnTo>
                  <a:pt x="420" y="2498"/>
                </a:lnTo>
                <a:lnTo>
                  <a:pt x="418" y="2525"/>
                </a:lnTo>
                <a:lnTo>
                  <a:pt x="416" y="2551"/>
                </a:lnTo>
                <a:lnTo>
                  <a:pt x="414" y="2578"/>
                </a:lnTo>
                <a:lnTo>
                  <a:pt x="412" y="2601"/>
                </a:lnTo>
                <a:lnTo>
                  <a:pt x="409" y="2624"/>
                </a:lnTo>
                <a:lnTo>
                  <a:pt x="407" y="2644"/>
                </a:lnTo>
                <a:lnTo>
                  <a:pt x="405" y="2665"/>
                </a:lnTo>
                <a:lnTo>
                  <a:pt x="401" y="2682"/>
                </a:lnTo>
                <a:lnTo>
                  <a:pt x="399" y="2697"/>
                </a:lnTo>
                <a:lnTo>
                  <a:pt x="395" y="2713"/>
                </a:lnTo>
                <a:lnTo>
                  <a:pt x="393" y="2726"/>
                </a:lnTo>
                <a:lnTo>
                  <a:pt x="389" y="2738"/>
                </a:lnTo>
                <a:lnTo>
                  <a:pt x="387" y="2747"/>
                </a:lnTo>
                <a:lnTo>
                  <a:pt x="384" y="2757"/>
                </a:lnTo>
                <a:lnTo>
                  <a:pt x="382" y="2764"/>
                </a:lnTo>
                <a:lnTo>
                  <a:pt x="374" y="2776"/>
                </a:lnTo>
                <a:lnTo>
                  <a:pt x="368" y="2788"/>
                </a:lnTo>
                <a:lnTo>
                  <a:pt x="363" y="2799"/>
                </a:lnTo>
                <a:lnTo>
                  <a:pt x="355" y="2809"/>
                </a:lnTo>
                <a:lnTo>
                  <a:pt x="349" y="2818"/>
                </a:lnTo>
                <a:lnTo>
                  <a:pt x="343" y="2826"/>
                </a:lnTo>
                <a:lnTo>
                  <a:pt x="338" y="2834"/>
                </a:lnTo>
                <a:lnTo>
                  <a:pt x="330" y="2841"/>
                </a:lnTo>
                <a:lnTo>
                  <a:pt x="324" y="2849"/>
                </a:lnTo>
                <a:lnTo>
                  <a:pt x="318" y="2853"/>
                </a:lnTo>
                <a:lnTo>
                  <a:pt x="313" y="2859"/>
                </a:lnTo>
                <a:lnTo>
                  <a:pt x="309" y="2862"/>
                </a:lnTo>
                <a:lnTo>
                  <a:pt x="303" y="2866"/>
                </a:lnTo>
                <a:lnTo>
                  <a:pt x="297" y="2868"/>
                </a:lnTo>
                <a:lnTo>
                  <a:pt x="293" y="2870"/>
                </a:lnTo>
                <a:lnTo>
                  <a:pt x="290" y="2870"/>
                </a:lnTo>
                <a:lnTo>
                  <a:pt x="282" y="2870"/>
                </a:lnTo>
                <a:lnTo>
                  <a:pt x="276" y="2868"/>
                </a:lnTo>
                <a:lnTo>
                  <a:pt x="272" y="2866"/>
                </a:lnTo>
                <a:lnTo>
                  <a:pt x="267" y="2864"/>
                </a:lnTo>
                <a:lnTo>
                  <a:pt x="263" y="2862"/>
                </a:lnTo>
                <a:lnTo>
                  <a:pt x="259" y="2859"/>
                </a:lnTo>
                <a:lnTo>
                  <a:pt x="255" y="2855"/>
                </a:lnTo>
                <a:lnTo>
                  <a:pt x="253" y="2849"/>
                </a:lnTo>
                <a:lnTo>
                  <a:pt x="249" y="2845"/>
                </a:lnTo>
                <a:lnTo>
                  <a:pt x="247" y="2839"/>
                </a:lnTo>
                <a:lnTo>
                  <a:pt x="245" y="2832"/>
                </a:lnTo>
                <a:lnTo>
                  <a:pt x="245" y="2824"/>
                </a:lnTo>
                <a:lnTo>
                  <a:pt x="243" y="2816"/>
                </a:lnTo>
                <a:lnTo>
                  <a:pt x="243" y="2809"/>
                </a:lnTo>
                <a:lnTo>
                  <a:pt x="243" y="2799"/>
                </a:lnTo>
                <a:lnTo>
                  <a:pt x="243" y="2789"/>
                </a:lnTo>
                <a:lnTo>
                  <a:pt x="240" y="2778"/>
                </a:lnTo>
                <a:lnTo>
                  <a:pt x="238" y="2764"/>
                </a:lnTo>
                <a:lnTo>
                  <a:pt x="234" y="2753"/>
                </a:lnTo>
                <a:lnTo>
                  <a:pt x="230" y="2740"/>
                </a:lnTo>
                <a:lnTo>
                  <a:pt x="224" y="2728"/>
                </a:lnTo>
                <a:lnTo>
                  <a:pt x="219" y="2715"/>
                </a:lnTo>
                <a:lnTo>
                  <a:pt x="213" y="2701"/>
                </a:lnTo>
                <a:lnTo>
                  <a:pt x="205" y="2688"/>
                </a:lnTo>
                <a:lnTo>
                  <a:pt x="197" y="2676"/>
                </a:lnTo>
                <a:lnTo>
                  <a:pt x="188" y="2663"/>
                </a:lnTo>
                <a:lnTo>
                  <a:pt x="178" y="2649"/>
                </a:lnTo>
                <a:lnTo>
                  <a:pt x="167" y="2634"/>
                </a:lnTo>
                <a:lnTo>
                  <a:pt x="157" y="2621"/>
                </a:lnTo>
                <a:lnTo>
                  <a:pt x="144" y="2607"/>
                </a:lnTo>
                <a:lnTo>
                  <a:pt x="130" y="2592"/>
                </a:lnTo>
                <a:lnTo>
                  <a:pt x="117" y="2576"/>
                </a:lnTo>
                <a:lnTo>
                  <a:pt x="101" y="2565"/>
                </a:lnTo>
                <a:lnTo>
                  <a:pt x="88" y="2553"/>
                </a:lnTo>
                <a:lnTo>
                  <a:pt x="75" y="2540"/>
                </a:lnTo>
                <a:lnTo>
                  <a:pt x="63" y="2530"/>
                </a:lnTo>
                <a:lnTo>
                  <a:pt x="52" y="2519"/>
                </a:lnTo>
                <a:lnTo>
                  <a:pt x="42" y="2509"/>
                </a:lnTo>
                <a:lnTo>
                  <a:pt x="32" y="2500"/>
                </a:lnTo>
                <a:lnTo>
                  <a:pt x="25" y="2490"/>
                </a:lnTo>
                <a:lnTo>
                  <a:pt x="17" y="2482"/>
                </a:lnTo>
                <a:lnTo>
                  <a:pt x="11" y="2475"/>
                </a:lnTo>
                <a:lnTo>
                  <a:pt x="5" y="2467"/>
                </a:lnTo>
                <a:lnTo>
                  <a:pt x="2" y="2461"/>
                </a:lnTo>
                <a:lnTo>
                  <a:pt x="0" y="2455"/>
                </a:lnTo>
                <a:lnTo>
                  <a:pt x="0" y="2452"/>
                </a:lnTo>
                <a:lnTo>
                  <a:pt x="0" y="2448"/>
                </a:lnTo>
                <a:lnTo>
                  <a:pt x="2" y="2444"/>
                </a:lnTo>
                <a:lnTo>
                  <a:pt x="4" y="2442"/>
                </a:lnTo>
                <a:lnTo>
                  <a:pt x="5" y="2440"/>
                </a:lnTo>
                <a:lnTo>
                  <a:pt x="9" y="2438"/>
                </a:lnTo>
                <a:lnTo>
                  <a:pt x="13" y="2438"/>
                </a:lnTo>
                <a:lnTo>
                  <a:pt x="19" y="2438"/>
                </a:lnTo>
                <a:lnTo>
                  <a:pt x="25" y="2440"/>
                </a:lnTo>
                <a:lnTo>
                  <a:pt x="30" y="2440"/>
                </a:lnTo>
                <a:lnTo>
                  <a:pt x="36" y="2442"/>
                </a:lnTo>
                <a:lnTo>
                  <a:pt x="44" y="2444"/>
                </a:lnTo>
                <a:lnTo>
                  <a:pt x="52" y="2446"/>
                </a:lnTo>
                <a:lnTo>
                  <a:pt x="61" y="2450"/>
                </a:lnTo>
                <a:lnTo>
                  <a:pt x="71" y="2454"/>
                </a:lnTo>
                <a:lnTo>
                  <a:pt x="80" y="2457"/>
                </a:lnTo>
                <a:lnTo>
                  <a:pt x="92" y="2461"/>
                </a:lnTo>
                <a:lnTo>
                  <a:pt x="103" y="2465"/>
                </a:lnTo>
                <a:lnTo>
                  <a:pt x="117" y="2471"/>
                </a:lnTo>
                <a:lnTo>
                  <a:pt x="128" y="2475"/>
                </a:lnTo>
                <a:lnTo>
                  <a:pt x="140" y="2480"/>
                </a:lnTo>
                <a:lnTo>
                  <a:pt x="153" y="2484"/>
                </a:lnTo>
                <a:lnTo>
                  <a:pt x="163" y="2488"/>
                </a:lnTo>
                <a:lnTo>
                  <a:pt x="174" y="2492"/>
                </a:lnTo>
                <a:lnTo>
                  <a:pt x="184" y="2494"/>
                </a:lnTo>
                <a:lnTo>
                  <a:pt x="194" y="2498"/>
                </a:lnTo>
                <a:lnTo>
                  <a:pt x="203" y="2500"/>
                </a:lnTo>
                <a:lnTo>
                  <a:pt x="211" y="2502"/>
                </a:lnTo>
                <a:lnTo>
                  <a:pt x="219" y="2502"/>
                </a:lnTo>
                <a:lnTo>
                  <a:pt x="226" y="2502"/>
                </a:lnTo>
                <a:lnTo>
                  <a:pt x="232" y="2503"/>
                </a:lnTo>
                <a:lnTo>
                  <a:pt x="240" y="2502"/>
                </a:lnTo>
                <a:lnTo>
                  <a:pt x="243" y="2502"/>
                </a:lnTo>
                <a:lnTo>
                  <a:pt x="249" y="2500"/>
                </a:lnTo>
                <a:lnTo>
                  <a:pt x="255" y="2498"/>
                </a:lnTo>
                <a:lnTo>
                  <a:pt x="259" y="2494"/>
                </a:lnTo>
                <a:lnTo>
                  <a:pt x="263" y="2488"/>
                </a:lnTo>
                <a:lnTo>
                  <a:pt x="267" y="2480"/>
                </a:lnTo>
                <a:lnTo>
                  <a:pt x="270" y="2473"/>
                </a:lnTo>
                <a:lnTo>
                  <a:pt x="276" y="2461"/>
                </a:lnTo>
                <a:lnTo>
                  <a:pt x="280" y="2448"/>
                </a:lnTo>
                <a:lnTo>
                  <a:pt x="284" y="2434"/>
                </a:lnTo>
                <a:lnTo>
                  <a:pt x="288" y="2417"/>
                </a:lnTo>
                <a:lnTo>
                  <a:pt x="291" y="2398"/>
                </a:lnTo>
                <a:lnTo>
                  <a:pt x="295" y="2379"/>
                </a:lnTo>
                <a:lnTo>
                  <a:pt x="297" y="2356"/>
                </a:lnTo>
                <a:lnTo>
                  <a:pt x="301" y="2333"/>
                </a:lnTo>
                <a:lnTo>
                  <a:pt x="305" y="2306"/>
                </a:lnTo>
                <a:lnTo>
                  <a:pt x="307" y="2279"/>
                </a:lnTo>
                <a:lnTo>
                  <a:pt x="309" y="2248"/>
                </a:lnTo>
                <a:lnTo>
                  <a:pt x="313" y="2217"/>
                </a:lnTo>
                <a:lnTo>
                  <a:pt x="313" y="2200"/>
                </a:lnTo>
                <a:lnTo>
                  <a:pt x="315" y="2183"/>
                </a:lnTo>
                <a:lnTo>
                  <a:pt x="315" y="2164"/>
                </a:lnTo>
                <a:lnTo>
                  <a:pt x="315" y="2144"/>
                </a:lnTo>
                <a:lnTo>
                  <a:pt x="316" y="2123"/>
                </a:lnTo>
                <a:lnTo>
                  <a:pt x="316" y="2100"/>
                </a:lnTo>
                <a:lnTo>
                  <a:pt x="318" y="2077"/>
                </a:lnTo>
                <a:lnTo>
                  <a:pt x="318" y="2052"/>
                </a:lnTo>
                <a:lnTo>
                  <a:pt x="318" y="2027"/>
                </a:lnTo>
                <a:lnTo>
                  <a:pt x="318" y="2001"/>
                </a:lnTo>
                <a:lnTo>
                  <a:pt x="320" y="1974"/>
                </a:lnTo>
                <a:lnTo>
                  <a:pt x="320" y="1945"/>
                </a:lnTo>
                <a:lnTo>
                  <a:pt x="320" y="1916"/>
                </a:lnTo>
                <a:lnTo>
                  <a:pt x="320" y="1885"/>
                </a:lnTo>
                <a:lnTo>
                  <a:pt x="322" y="1855"/>
                </a:lnTo>
                <a:lnTo>
                  <a:pt x="322" y="1822"/>
                </a:lnTo>
                <a:lnTo>
                  <a:pt x="322" y="1787"/>
                </a:lnTo>
                <a:lnTo>
                  <a:pt x="322" y="1753"/>
                </a:lnTo>
                <a:lnTo>
                  <a:pt x="322" y="1718"/>
                </a:lnTo>
                <a:lnTo>
                  <a:pt x="322" y="1680"/>
                </a:lnTo>
                <a:lnTo>
                  <a:pt x="322" y="1644"/>
                </a:lnTo>
                <a:lnTo>
                  <a:pt x="322" y="1605"/>
                </a:lnTo>
                <a:lnTo>
                  <a:pt x="322" y="1565"/>
                </a:lnTo>
                <a:lnTo>
                  <a:pt x="322" y="1524"/>
                </a:lnTo>
                <a:lnTo>
                  <a:pt x="322" y="1482"/>
                </a:lnTo>
                <a:lnTo>
                  <a:pt x="322" y="1440"/>
                </a:lnTo>
                <a:lnTo>
                  <a:pt x="322" y="1398"/>
                </a:lnTo>
                <a:lnTo>
                  <a:pt x="322" y="1354"/>
                </a:lnTo>
                <a:lnTo>
                  <a:pt x="324" y="1308"/>
                </a:lnTo>
                <a:lnTo>
                  <a:pt x="324" y="1262"/>
                </a:lnTo>
                <a:lnTo>
                  <a:pt x="324" y="1214"/>
                </a:lnTo>
                <a:lnTo>
                  <a:pt x="324" y="1166"/>
                </a:lnTo>
                <a:lnTo>
                  <a:pt x="324" y="1118"/>
                </a:lnTo>
                <a:lnTo>
                  <a:pt x="322" y="1072"/>
                </a:lnTo>
                <a:lnTo>
                  <a:pt x="322" y="1025"/>
                </a:lnTo>
                <a:lnTo>
                  <a:pt x="322" y="981"/>
                </a:lnTo>
                <a:lnTo>
                  <a:pt x="322" y="939"/>
                </a:lnTo>
                <a:lnTo>
                  <a:pt x="322" y="897"/>
                </a:lnTo>
                <a:lnTo>
                  <a:pt x="322" y="857"/>
                </a:lnTo>
                <a:lnTo>
                  <a:pt x="320" y="818"/>
                </a:lnTo>
                <a:lnTo>
                  <a:pt x="320" y="780"/>
                </a:lnTo>
                <a:lnTo>
                  <a:pt x="320" y="745"/>
                </a:lnTo>
                <a:lnTo>
                  <a:pt x="320" y="709"/>
                </a:lnTo>
                <a:lnTo>
                  <a:pt x="318" y="676"/>
                </a:lnTo>
                <a:lnTo>
                  <a:pt x="318" y="643"/>
                </a:lnTo>
                <a:lnTo>
                  <a:pt x="316" y="613"/>
                </a:lnTo>
                <a:lnTo>
                  <a:pt x="316" y="582"/>
                </a:lnTo>
                <a:lnTo>
                  <a:pt x="316" y="553"/>
                </a:lnTo>
                <a:lnTo>
                  <a:pt x="315" y="526"/>
                </a:lnTo>
                <a:lnTo>
                  <a:pt x="315" y="499"/>
                </a:lnTo>
                <a:lnTo>
                  <a:pt x="313" y="475"/>
                </a:lnTo>
                <a:lnTo>
                  <a:pt x="313" y="452"/>
                </a:lnTo>
                <a:lnTo>
                  <a:pt x="311" y="428"/>
                </a:lnTo>
                <a:lnTo>
                  <a:pt x="311" y="407"/>
                </a:lnTo>
                <a:lnTo>
                  <a:pt x="309" y="386"/>
                </a:lnTo>
                <a:lnTo>
                  <a:pt x="309" y="369"/>
                </a:lnTo>
                <a:lnTo>
                  <a:pt x="307" y="350"/>
                </a:lnTo>
                <a:lnTo>
                  <a:pt x="307" y="334"/>
                </a:lnTo>
                <a:lnTo>
                  <a:pt x="305" y="319"/>
                </a:lnTo>
                <a:lnTo>
                  <a:pt x="305" y="304"/>
                </a:lnTo>
                <a:lnTo>
                  <a:pt x="303" y="292"/>
                </a:lnTo>
                <a:lnTo>
                  <a:pt x="303" y="281"/>
                </a:lnTo>
                <a:lnTo>
                  <a:pt x="301" y="269"/>
                </a:lnTo>
                <a:lnTo>
                  <a:pt x="301" y="26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Freeform 129"/>
          <p:cNvSpPr/>
          <p:nvPr/>
        </p:nvSpPr>
        <p:spPr>
          <a:xfrm>
            <a:off x="5522760" y="3927600"/>
            <a:ext cx="662040" cy="531720"/>
          </a:xfrm>
          <a:custGeom>
            <a:avLst/>
            <a:gdLst/>
            <a:ahLst/>
            <a:rect l="l" t="t" r="r" b="b"/>
            <a:pathLst>
              <a:path w="835" h="672">
                <a:moveTo>
                  <a:pt x="4" y="482"/>
                </a:moveTo>
                <a:lnTo>
                  <a:pt x="8" y="472"/>
                </a:lnTo>
                <a:lnTo>
                  <a:pt x="14" y="465"/>
                </a:lnTo>
                <a:lnTo>
                  <a:pt x="22" y="457"/>
                </a:lnTo>
                <a:lnTo>
                  <a:pt x="29" y="451"/>
                </a:lnTo>
                <a:lnTo>
                  <a:pt x="39" y="447"/>
                </a:lnTo>
                <a:lnTo>
                  <a:pt x="48" y="444"/>
                </a:lnTo>
                <a:lnTo>
                  <a:pt x="60" y="442"/>
                </a:lnTo>
                <a:lnTo>
                  <a:pt x="73" y="442"/>
                </a:lnTo>
                <a:lnTo>
                  <a:pt x="85" y="440"/>
                </a:lnTo>
                <a:lnTo>
                  <a:pt x="96" y="440"/>
                </a:lnTo>
                <a:lnTo>
                  <a:pt x="108" y="436"/>
                </a:lnTo>
                <a:lnTo>
                  <a:pt x="119" y="434"/>
                </a:lnTo>
                <a:lnTo>
                  <a:pt x="129" y="428"/>
                </a:lnTo>
                <a:lnTo>
                  <a:pt x="141" y="424"/>
                </a:lnTo>
                <a:lnTo>
                  <a:pt x="152" y="420"/>
                </a:lnTo>
                <a:lnTo>
                  <a:pt x="166" y="415"/>
                </a:lnTo>
                <a:lnTo>
                  <a:pt x="167" y="413"/>
                </a:lnTo>
                <a:lnTo>
                  <a:pt x="169" y="411"/>
                </a:lnTo>
                <a:lnTo>
                  <a:pt x="173" y="409"/>
                </a:lnTo>
                <a:lnTo>
                  <a:pt x="177" y="407"/>
                </a:lnTo>
                <a:lnTo>
                  <a:pt x="183" y="405"/>
                </a:lnTo>
                <a:lnTo>
                  <a:pt x="187" y="401"/>
                </a:lnTo>
                <a:lnTo>
                  <a:pt x="192" y="397"/>
                </a:lnTo>
                <a:lnTo>
                  <a:pt x="200" y="394"/>
                </a:lnTo>
                <a:lnTo>
                  <a:pt x="206" y="390"/>
                </a:lnTo>
                <a:lnTo>
                  <a:pt x="213" y="386"/>
                </a:lnTo>
                <a:lnTo>
                  <a:pt x="221" y="382"/>
                </a:lnTo>
                <a:lnTo>
                  <a:pt x="229" y="376"/>
                </a:lnTo>
                <a:lnTo>
                  <a:pt x="238" y="371"/>
                </a:lnTo>
                <a:lnTo>
                  <a:pt x="248" y="365"/>
                </a:lnTo>
                <a:lnTo>
                  <a:pt x="258" y="359"/>
                </a:lnTo>
                <a:lnTo>
                  <a:pt x="269" y="351"/>
                </a:lnTo>
                <a:lnTo>
                  <a:pt x="281" y="346"/>
                </a:lnTo>
                <a:lnTo>
                  <a:pt x="292" y="338"/>
                </a:lnTo>
                <a:lnTo>
                  <a:pt x="304" y="330"/>
                </a:lnTo>
                <a:lnTo>
                  <a:pt x="317" y="321"/>
                </a:lnTo>
                <a:lnTo>
                  <a:pt x="329" y="313"/>
                </a:lnTo>
                <a:lnTo>
                  <a:pt x="344" y="303"/>
                </a:lnTo>
                <a:lnTo>
                  <a:pt x="357" y="294"/>
                </a:lnTo>
                <a:lnTo>
                  <a:pt x="373" y="284"/>
                </a:lnTo>
                <a:lnTo>
                  <a:pt x="388" y="275"/>
                </a:lnTo>
                <a:lnTo>
                  <a:pt x="404" y="263"/>
                </a:lnTo>
                <a:lnTo>
                  <a:pt x="421" y="252"/>
                </a:lnTo>
                <a:lnTo>
                  <a:pt x="436" y="240"/>
                </a:lnTo>
                <a:lnTo>
                  <a:pt x="455" y="229"/>
                </a:lnTo>
                <a:lnTo>
                  <a:pt x="473" y="215"/>
                </a:lnTo>
                <a:lnTo>
                  <a:pt x="492" y="202"/>
                </a:lnTo>
                <a:lnTo>
                  <a:pt x="511" y="188"/>
                </a:lnTo>
                <a:lnTo>
                  <a:pt x="528" y="177"/>
                </a:lnTo>
                <a:lnTo>
                  <a:pt x="547" y="163"/>
                </a:lnTo>
                <a:lnTo>
                  <a:pt x="565" y="152"/>
                </a:lnTo>
                <a:lnTo>
                  <a:pt x="582" y="140"/>
                </a:lnTo>
                <a:lnTo>
                  <a:pt x="599" y="131"/>
                </a:lnTo>
                <a:lnTo>
                  <a:pt x="615" y="119"/>
                </a:lnTo>
                <a:lnTo>
                  <a:pt x="630" y="110"/>
                </a:lnTo>
                <a:lnTo>
                  <a:pt x="645" y="100"/>
                </a:lnTo>
                <a:lnTo>
                  <a:pt x="661" y="92"/>
                </a:lnTo>
                <a:lnTo>
                  <a:pt x="674" y="83"/>
                </a:lnTo>
                <a:lnTo>
                  <a:pt x="688" y="75"/>
                </a:lnTo>
                <a:lnTo>
                  <a:pt x="699" y="67"/>
                </a:lnTo>
                <a:lnTo>
                  <a:pt x="711" y="60"/>
                </a:lnTo>
                <a:lnTo>
                  <a:pt x="722" y="52"/>
                </a:lnTo>
                <a:lnTo>
                  <a:pt x="734" y="46"/>
                </a:lnTo>
                <a:lnTo>
                  <a:pt x="743" y="40"/>
                </a:lnTo>
                <a:lnTo>
                  <a:pt x="755" y="35"/>
                </a:lnTo>
                <a:lnTo>
                  <a:pt x="762" y="29"/>
                </a:lnTo>
                <a:lnTo>
                  <a:pt x="772" y="23"/>
                </a:lnTo>
                <a:lnTo>
                  <a:pt x="780" y="19"/>
                </a:lnTo>
                <a:lnTo>
                  <a:pt x="787" y="15"/>
                </a:lnTo>
                <a:lnTo>
                  <a:pt x="793" y="12"/>
                </a:lnTo>
                <a:lnTo>
                  <a:pt x="801" y="10"/>
                </a:lnTo>
                <a:lnTo>
                  <a:pt x="807" y="6"/>
                </a:lnTo>
                <a:lnTo>
                  <a:pt x="812" y="4"/>
                </a:lnTo>
                <a:lnTo>
                  <a:pt x="816" y="2"/>
                </a:lnTo>
                <a:lnTo>
                  <a:pt x="820" y="2"/>
                </a:lnTo>
                <a:lnTo>
                  <a:pt x="824" y="0"/>
                </a:lnTo>
                <a:lnTo>
                  <a:pt x="828" y="0"/>
                </a:lnTo>
                <a:lnTo>
                  <a:pt x="830" y="0"/>
                </a:lnTo>
                <a:lnTo>
                  <a:pt x="832" y="0"/>
                </a:lnTo>
                <a:lnTo>
                  <a:pt x="833" y="2"/>
                </a:lnTo>
                <a:lnTo>
                  <a:pt x="833" y="6"/>
                </a:lnTo>
                <a:lnTo>
                  <a:pt x="835" y="10"/>
                </a:lnTo>
                <a:lnTo>
                  <a:pt x="833" y="14"/>
                </a:lnTo>
                <a:lnTo>
                  <a:pt x="832" y="19"/>
                </a:lnTo>
                <a:lnTo>
                  <a:pt x="830" y="25"/>
                </a:lnTo>
                <a:lnTo>
                  <a:pt x="826" y="33"/>
                </a:lnTo>
                <a:lnTo>
                  <a:pt x="822" y="40"/>
                </a:lnTo>
                <a:lnTo>
                  <a:pt x="816" y="50"/>
                </a:lnTo>
                <a:lnTo>
                  <a:pt x="810" y="60"/>
                </a:lnTo>
                <a:lnTo>
                  <a:pt x="803" y="71"/>
                </a:lnTo>
                <a:lnTo>
                  <a:pt x="795" y="81"/>
                </a:lnTo>
                <a:lnTo>
                  <a:pt x="786" y="94"/>
                </a:lnTo>
                <a:lnTo>
                  <a:pt x="776" y="106"/>
                </a:lnTo>
                <a:lnTo>
                  <a:pt x="764" y="119"/>
                </a:lnTo>
                <a:lnTo>
                  <a:pt x="753" y="134"/>
                </a:lnTo>
                <a:lnTo>
                  <a:pt x="741" y="148"/>
                </a:lnTo>
                <a:lnTo>
                  <a:pt x="728" y="163"/>
                </a:lnTo>
                <a:lnTo>
                  <a:pt x="713" y="181"/>
                </a:lnTo>
                <a:lnTo>
                  <a:pt x="697" y="196"/>
                </a:lnTo>
                <a:lnTo>
                  <a:pt x="682" y="213"/>
                </a:lnTo>
                <a:lnTo>
                  <a:pt x="665" y="230"/>
                </a:lnTo>
                <a:lnTo>
                  <a:pt x="647" y="250"/>
                </a:lnTo>
                <a:lnTo>
                  <a:pt x="630" y="269"/>
                </a:lnTo>
                <a:lnTo>
                  <a:pt x="611" y="288"/>
                </a:lnTo>
                <a:lnTo>
                  <a:pt x="590" y="307"/>
                </a:lnTo>
                <a:lnTo>
                  <a:pt x="571" y="328"/>
                </a:lnTo>
                <a:lnTo>
                  <a:pt x="547" y="349"/>
                </a:lnTo>
                <a:lnTo>
                  <a:pt x="526" y="373"/>
                </a:lnTo>
                <a:lnTo>
                  <a:pt x="503" y="396"/>
                </a:lnTo>
                <a:lnTo>
                  <a:pt x="478" y="419"/>
                </a:lnTo>
                <a:lnTo>
                  <a:pt x="455" y="444"/>
                </a:lnTo>
                <a:lnTo>
                  <a:pt x="430" y="468"/>
                </a:lnTo>
                <a:lnTo>
                  <a:pt x="404" y="492"/>
                </a:lnTo>
                <a:lnTo>
                  <a:pt x="380" y="515"/>
                </a:lnTo>
                <a:lnTo>
                  <a:pt x="357" y="536"/>
                </a:lnTo>
                <a:lnTo>
                  <a:pt x="336" y="557"/>
                </a:lnTo>
                <a:lnTo>
                  <a:pt x="317" y="574"/>
                </a:lnTo>
                <a:lnTo>
                  <a:pt x="300" y="589"/>
                </a:lnTo>
                <a:lnTo>
                  <a:pt x="283" y="605"/>
                </a:lnTo>
                <a:lnTo>
                  <a:pt x="265" y="618"/>
                </a:lnTo>
                <a:lnTo>
                  <a:pt x="252" y="630"/>
                </a:lnTo>
                <a:lnTo>
                  <a:pt x="238" y="639"/>
                </a:lnTo>
                <a:lnTo>
                  <a:pt x="227" y="649"/>
                </a:lnTo>
                <a:lnTo>
                  <a:pt x="215" y="655"/>
                </a:lnTo>
                <a:lnTo>
                  <a:pt x="206" y="660"/>
                </a:lnTo>
                <a:lnTo>
                  <a:pt x="198" y="664"/>
                </a:lnTo>
                <a:lnTo>
                  <a:pt x="192" y="666"/>
                </a:lnTo>
                <a:lnTo>
                  <a:pt x="189" y="668"/>
                </a:lnTo>
                <a:lnTo>
                  <a:pt x="181" y="670"/>
                </a:lnTo>
                <a:lnTo>
                  <a:pt x="175" y="670"/>
                </a:lnTo>
                <a:lnTo>
                  <a:pt x="167" y="672"/>
                </a:lnTo>
                <a:lnTo>
                  <a:pt x="162" y="670"/>
                </a:lnTo>
                <a:lnTo>
                  <a:pt x="154" y="668"/>
                </a:lnTo>
                <a:lnTo>
                  <a:pt x="148" y="666"/>
                </a:lnTo>
                <a:lnTo>
                  <a:pt x="141" y="664"/>
                </a:lnTo>
                <a:lnTo>
                  <a:pt x="135" y="660"/>
                </a:lnTo>
                <a:lnTo>
                  <a:pt x="127" y="655"/>
                </a:lnTo>
                <a:lnTo>
                  <a:pt x="119" y="649"/>
                </a:lnTo>
                <a:lnTo>
                  <a:pt x="112" y="643"/>
                </a:lnTo>
                <a:lnTo>
                  <a:pt x="104" y="635"/>
                </a:lnTo>
                <a:lnTo>
                  <a:pt x="96" y="628"/>
                </a:lnTo>
                <a:lnTo>
                  <a:pt x="89" y="620"/>
                </a:lnTo>
                <a:lnTo>
                  <a:pt x="81" y="611"/>
                </a:lnTo>
                <a:lnTo>
                  <a:pt x="73" y="601"/>
                </a:lnTo>
                <a:lnTo>
                  <a:pt x="62" y="591"/>
                </a:lnTo>
                <a:lnTo>
                  <a:pt x="52" y="582"/>
                </a:lnTo>
                <a:lnTo>
                  <a:pt x="45" y="572"/>
                </a:lnTo>
                <a:lnTo>
                  <a:pt x="37" y="563"/>
                </a:lnTo>
                <a:lnTo>
                  <a:pt x="29" y="555"/>
                </a:lnTo>
                <a:lnTo>
                  <a:pt x="23" y="547"/>
                </a:lnTo>
                <a:lnTo>
                  <a:pt x="18" y="540"/>
                </a:lnTo>
                <a:lnTo>
                  <a:pt x="12" y="532"/>
                </a:lnTo>
                <a:lnTo>
                  <a:pt x="8" y="524"/>
                </a:lnTo>
                <a:lnTo>
                  <a:pt x="6" y="516"/>
                </a:lnTo>
                <a:lnTo>
                  <a:pt x="2" y="511"/>
                </a:lnTo>
                <a:lnTo>
                  <a:pt x="2" y="503"/>
                </a:lnTo>
                <a:lnTo>
                  <a:pt x="0" y="497"/>
                </a:lnTo>
                <a:lnTo>
                  <a:pt x="0" y="492"/>
                </a:lnTo>
                <a:lnTo>
                  <a:pt x="2" y="486"/>
                </a:lnTo>
                <a:lnTo>
                  <a:pt x="4" y="48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Freeform 130"/>
          <p:cNvSpPr/>
          <p:nvPr/>
        </p:nvSpPr>
        <p:spPr>
          <a:xfrm>
            <a:off x="5657760" y="3463920"/>
            <a:ext cx="596880" cy="212760"/>
          </a:xfrm>
          <a:custGeom>
            <a:avLst/>
            <a:gdLst/>
            <a:ahLst/>
            <a:rect l="l" t="t" r="r" b="b"/>
            <a:pathLst>
              <a:path w="753" h="268">
                <a:moveTo>
                  <a:pt x="18" y="226"/>
                </a:moveTo>
                <a:lnTo>
                  <a:pt x="12" y="220"/>
                </a:lnTo>
                <a:lnTo>
                  <a:pt x="10" y="217"/>
                </a:lnTo>
                <a:lnTo>
                  <a:pt x="6" y="213"/>
                </a:lnTo>
                <a:lnTo>
                  <a:pt x="4" y="209"/>
                </a:lnTo>
                <a:lnTo>
                  <a:pt x="2" y="205"/>
                </a:lnTo>
                <a:lnTo>
                  <a:pt x="2" y="201"/>
                </a:lnTo>
                <a:lnTo>
                  <a:pt x="0" y="197"/>
                </a:lnTo>
                <a:lnTo>
                  <a:pt x="0" y="193"/>
                </a:lnTo>
                <a:lnTo>
                  <a:pt x="2" y="192"/>
                </a:lnTo>
                <a:lnTo>
                  <a:pt x="4" y="188"/>
                </a:lnTo>
                <a:lnTo>
                  <a:pt x="6" y="186"/>
                </a:lnTo>
                <a:lnTo>
                  <a:pt x="8" y="182"/>
                </a:lnTo>
                <a:lnTo>
                  <a:pt x="12" y="180"/>
                </a:lnTo>
                <a:lnTo>
                  <a:pt x="18" y="178"/>
                </a:lnTo>
                <a:lnTo>
                  <a:pt x="21" y="174"/>
                </a:lnTo>
                <a:lnTo>
                  <a:pt x="29" y="172"/>
                </a:lnTo>
                <a:lnTo>
                  <a:pt x="33" y="170"/>
                </a:lnTo>
                <a:lnTo>
                  <a:pt x="41" y="167"/>
                </a:lnTo>
                <a:lnTo>
                  <a:pt x="50" y="163"/>
                </a:lnTo>
                <a:lnTo>
                  <a:pt x="60" y="159"/>
                </a:lnTo>
                <a:lnTo>
                  <a:pt x="73" y="155"/>
                </a:lnTo>
                <a:lnTo>
                  <a:pt x="87" y="151"/>
                </a:lnTo>
                <a:lnTo>
                  <a:pt x="104" y="145"/>
                </a:lnTo>
                <a:lnTo>
                  <a:pt x="121" y="142"/>
                </a:lnTo>
                <a:lnTo>
                  <a:pt x="142" y="134"/>
                </a:lnTo>
                <a:lnTo>
                  <a:pt x="163" y="128"/>
                </a:lnTo>
                <a:lnTo>
                  <a:pt x="186" y="122"/>
                </a:lnTo>
                <a:lnTo>
                  <a:pt x="211" y="115"/>
                </a:lnTo>
                <a:lnTo>
                  <a:pt x="238" y="107"/>
                </a:lnTo>
                <a:lnTo>
                  <a:pt x="267" y="98"/>
                </a:lnTo>
                <a:lnTo>
                  <a:pt x="296" y="88"/>
                </a:lnTo>
                <a:lnTo>
                  <a:pt x="328" y="78"/>
                </a:lnTo>
                <a:lnTo>
                  <a:pt x="359" y="69"/>
                </a:lnTo>
                <a:lnTo>
                  <a:pt x="388" y="59"/>
                </a:lnTo>
                <a:lnTo>
                  <a:pt x="417" y="51"/>
                </a:lnTo>
                <a:lnTo>
                  <a:pt x="444" y="44"/>
                </a:lnTo>
                <a:lnTo>
                  <a:pt x="469" y="36"/>
                </a:lnTo>
                <a:lnTo>
                  <a:pt x="492" y="30"/>
                </a:lnTo>
                <a:lnTo>
                  <a:pt x="513" y="25"/>
                </a:lnTo>
                <a:lnTo>
                  <a:pt x="534" y="19"/>
                </a:lnTo>
                <a:lnTo>
                  <a:pt x="551" y="15"/>
                </a:lnTo>
                <a:lnTo>
                  <a:pt x="567" y="9"/>
                </a:lnTo>
                <a:lnTo>
                  <a:pt x="582" y="7"/>
                </a:lnTo>
                <a:lnTo>
                  <a:pt x="595" y="3"/>
                </a:lnTo>
                <a:lnTo>
                  <a:pt x="605" y="2"/>
                </a:lnTo>
                <a:lnTo>
                  <a:pt x="615" y="0"/>
                </a:lnTo>
                <a:lnTo>
                  <a:pt x="622" y="0"/>
                </a:lnTo>
                <a:lnTo>
                  <a:pt x="626" y="0"/>
                </a:lnTo>
                <a:lnTo>
                  <a:pt x="630" y="0"/>
                </a:lnTo>
                <a:lnTo>
                  <a:pt x="632" y="0"/>
                </a:lnTo>
                <a:lnTo>
                  <a:pt x="636" y="0"/>
                </a:lnTo>
                <a:lnTo>
                  <a:pt x="639" y="2"/>
                </a:lnTo>
                <a:lnTo>
                  <a:pt x="649" y="3"/>
                </a:lnTo>
                <a:lnTo>
                  <a:pt x="661" y="7"/>
                </a:lnTo>
                <a:lnTo>
                  <a:pt x="672" y="11"/>
                </a:lnTo>
                <a:lnTo>
                  <a:pt x="687" y="15"/>
                </a:lnTo>
                <a:lnTo>
                  <a:pt x="703" y="21"/>
                </a:lnTo>
                <a:lnTo>
                  <a:pt x="718" y="26"/>
                </a:lnTo>
                <a:lnTo>
                  <a:pt x="726" y="30"/>
                </a:lnTo>
                <a:lnTo>
                  <a:pt x="730" y="36"/>
                </a:lnTo>
                <a:lnTo>
                  <a:pt x="735" y="40"/>
                </a:lnTo>
                <a:lnTo>
                  <a:pt x="739" y="46"/>
                </a:lnTo>
                <a:lnTo>
                  <a:pt x="743" y="51"/>
                </a:lnTo>
                <a:lnTo>
                  <a:pt x="747" y="55"/>
                </a:lnTo>
                <a:lnTo>
                  <a:pt x="751" y="61"/>
                </a:lnTo>
                <a:lnTo>
                  <a:pt x="753" y="65"/>
                </a:lnTo>
                <a:lnTo>
                  <a:pt x="753" y="71"/>
                </a:lnTo>
                <a:lnTo>
                  <a:pt x="753" y="76"/>
                </a:lnTo>
                <a:lnTo>
                  <a:pt x="753" y="80"/>
                </a:lnTo>
                <a:lnTo>
                  <a:pt x="753" y="86"/>
                </a:lnTo>
                <a:lnTo>
                  <a:pt x="751" y="90"/>
                </a:lnTo>
                <a:lnTo>
                  <a:pt x="749" y="96"/>
                </a:lnTo>
                <a:lnTo>
                  <a:pt x="745" y="101"/>
                </a:lnTo>
                <a:lnTo>
                  <a:pt x="741" y="105"/>
                </a:lnTo>
                <a:lnTo>
                  <a:pt x="737" y="111"/>
                </a:lnTo>
                <a:lnTo>
                  <a:pt x="730" y="117"/>
                </a:lnTo>
                <a:lnTo>
                  <a:pt x="722" y="122"/>
                </a:lnTo>
                <a:lnTo>
                  <a:pt x="712" y="128"/>
                </a:lnTo>
                <a:lnTo>
                  <a:pt x="699" y="134"/>
                </a:lnTo>
                <a:lnTo>
                  <a:pt x="686" y="140"/>
                </a:lnTo>
                <a:lnTo>
                  <a:pt x="670" y="147"/>
                </a:lnTo>
                <a:lnTo>
                  <a:pt x="655" y="153"/>
                </a:lnTo>
                <a:lnTo>
                  <a:pt x="636" y="161"/>
                </a:lnTo>
                <a:lnTo>
                  <a:pt x="615" y="169"/>
                </a:lnTo>
                <a:lnTo>
                  <a:pt x="593" y="174"/>
                </a:lnTo>
                <a:lnTo>
                  <a:pt x="568" y="182"/>
                </a:lnTo>
                <a:lnTo>
                  <a:pt x="543" y="190"/>
                </a:lnTo>
                <a:lnTo>
                  <a:pt x="515" y="197"/>
                </a:lnTo>
                <a:lnTo>
                  <a:pt x="486" y="205"/>
                </a:lnTo>
                <a:lnTo>
                  <a:pt x="455" y="213"/>
                </a:lnTo>
                <a:lnTo>
                  <a:pt x="423" y="220"/>
                </a:lnTo>
                <a:lnTo>
                  <a:pt x="392" y="226"/>
                </a:lnTo>
                <a:lnTo>
                  <a:pt x="363" y="234"/>
                </a:lnTo>
                <a:lnTo>
                  <a:pt x="336" y="240"/>
                </a:lnTo>
                <a:lnTo>
                  <a:pt x="309" y="245"/>
                </a:lnTo>
                <a:lnTo>
                  <a:pt x="286" y="251"/>
                </a:lnTo>
                <a:lnTo>
                  <a:pt x="263" y="255"/>
                </a:lnTo>
                <a:lnTo>
                  <a:pt x="242" y="259"/>
                </a:lnTo>
                <a:lnTo>
                  <a:pt x="221" y="263"/>
                </a:lnTo>
                <a:lnTo>
                  <a:pt x="204" y="265"/>
                </a:lnTo>
                <a:lnTo>
                  <a:pt x="186" y="266"/>
                </a:lnTo>
                <a:lnTo>
                  <a:pt x="173" y="268"/>
                </a:lnTo>
                <a:lnTo>
                  <a:pt x="160" y="268"/>
                </a:lnTo>
                <a:lnTo>
                  <a:pt x="148" y="268"/>
                </a:lnTo>
                <a:lnTo>
                  <a:pt x="138" y="268"/>
                </a:lnTo>
                <a:lnTo>
                  <a:pt x="133" y="266"/>
                </a:lnTo>
                <a:lnTo>
                  <a:pt x="115" y="265"/>
                </a:lnTo>
                <a:lnTo>
                  <a:pt x="100" y="263"/>
                </a:lnTo>
                <a:lnTo>
                  <a:pt x="85" y="261"/>
                </a:lnTo>
                <a:lnTo>
                  <a:pt x="69" y="255"/>
                </a:lnTo>
                <a:lnTo>
                  <a:pt x="56" y="249"/>
                </a:lnTo>
                <a:lnTo>
                  <a:pt x="42" y="243"/>
                </a:lnTo>
                <a:lnTo>
                  <a:pt x="29" y="236"/>
                </a:lnTo>
                <a:lnTo>
                  <a:pt x="18" y="22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矩形 4"/>
          <p:cNvSpPr/>
          <p:nvPr/>
        </p:nvSpPr>
        <p:spPr>
          <a:xfrm>
            <a:off x="2218680" y="2548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蛮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5114880" y="238284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86" name="组合 8"/>
          <p:cNvGrpSpPr/>
          <p:nvPr/>
        </p:nvGrpSpPr>
        <p:grpSpPr>
          <a:xfrm>
            <a:off x="1400040" y="3975120"/>
            <a:ext cx="2840040" cy="1621080"/>
            <a:chOff x="1400040" y="3975120"/>
            <a:chExt cx="2840040" cy="1621080"/>
          </a:xfrm>
        </p:grpSpPr>
        <p:pic>
          <p:nvPicPr>
            <p:cNvPr id="187" name="图示 4" descr=""/>
            <p:cNvPicPr/>
            <p:nvPr/>
          </p:nvPicPr>
          <p:blipFill>
            <a:blip r:embed="rId1"/>
            <a:stretch/>
          </p:blipFill>
          <p:spPr>
            <a:xfrm>
              <a:off x="1400040" y="3975120"/>
              <a:ext cx="284004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矩形 2"/>
            <p:cNvSpPr/>
            <p:nvPr/>
          </p:nvSpPr>
          <p:spPr>
            <a:xfrm>
              <a:off x="1444680" y="4587840"/>
              <a:ext cx="2766600" cy="1008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上部横宜长，撇和点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对称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9" name="矩形 3"/>
          <p:cNvSpPr/>
          <p:nvPr/>
        </p:nvSpPr>
        <p:spPr>
          <a:xfrm>
            <a:off x="1998720" y="1868400"/>
            <a:ext cx="1386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má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Freeform 131"/>
          <p:cNvSpPr/>
          <p:nvPr/>
        </p:nvSpPr>
        <p:spPr>
          <a:xfrm>
            <a:off x="5729400" y="4680000"/>
            <a:ext cx="1533240" cy="328680"/>
          </a:xfrm>
          <a:custGeom>
            <a:avLst/>
            <a:gdLst/>
            <a:ahLst/>
            <a:rect l="l" t="t" r="r" b="b"/>
            <a:pathLst>
              <a:path w="1933" h="414">
                <a:moveTo>
                  <a:pt x="1933" y="76"/>
                </a:moveTo>
                <a:lnTo>
                  <a:pt x="1928" y="76"/>
                </a:lnTo>
                <a:lnTo>
                  <a:pt x="1922" y="76"/>
                </a:lnTo>
                <a:lnTo>
                  <a:pt x="1916" y="76"/>
                </a:lnTo>
                <a:lnTo>
                  <a:pt x="1909" y="76"/>
                </a:lnTo>
                <a:lnTo>
                  <a:pt x="1901" y="76"/>
                </a:lnTo>
                <a:lnTo>
                  <a:pt x="1891" y="76"/>
                </a:lnTo>
                <a:lnTo>
                  <a:pt x="1882" y="76"/>
                </a:lnTo>
                <a:lnTo>
                  <a:pt x="1872" y="76"/>
                </a:lnTo>
                <a:lnTo>
                  <a:pt x="1861" y="78"/>
                </a:lnTo>
                <a:lnTo>
                  <a:pt x="1849" y="78"/>
                </a:lnTo>
                <a:lnTo>
                  <a:pt x="1836" y="80"/>
                </a:lnTo>
                <a:lnTo>
                  <a:pt x="1822" y="80"/>
                </a:lnTo>
                <a:lnTo>
                  <a:pt x="1807" y="82"/>
                </a:lnTo>
                <a:lnTo>
                  <a:pt x="1791" y="84"/>
                </a:lnTo>
                <a:lnTo>
                  <a:pt x="1776" y="86"/>
                </a:lnTo>
                <a:lnTo>
                  <a:pt x="1759" y="88"/>
                </a:lnTo>
                <a:lnTo>
                  <a:pt x="1749" y="90"/>
                </a:lnTo>
                <a:lnTo>
                  <a:pt x="1738" y="92"/>
                </a:lnTo>
                <a:lnTo>
                  <a:pt x="1728" y="94"/>
                </a:lnTo>
                <a:lnTo>
                  <a:pt x="1715" y="95"/>
                </a:lnTo>
                <a:lnTo>
                  <a:pt x="1701" y="97"/>
                </a:lnTo>
                <a:lnTo>
                  <a:pt x="1686" y="99"/>
                </a:lnTo>
                <a:lnTo>
                  <a:pt x="1670" y="103"/>
                </a:lnTo>
                <a:lnTo>
                  <a:pt x="1655" y="107"/>
                </a:lnTo>
                <a:lnTo>
                  <a:pt x="1638" y="111"/>
                </a:lnTo>
                <a:lnTo>
                  <a:pt x="1619" y="115"/>
                </a:lnTo>
                <a:lnTo>
                  <a:pt x="1599" y="119"/>
                </a:lnTo>
                <a:lnTo>
                  <a:pt x="1578" y="122"/>
                </a:lnTo>
                <a:lnTo>
                  <a:pt x="1557" y="126"/>
                </a:lnTo>
                <a:lnTo>
                  <a:pt x="1534" y="132"/>
                </a:lnTo>
                <a:lnTo>
                  <a:pt x="1511" y="138"/>
                </a:lnTo>
                <a:lnTo>
                  <a:pt x="1486" y="142"/>
                </a:lnTo>
                <a:lnTo>
                  <a:pt x="1461" y="147"/>
                </a:lnTo>
                <a:lnTo>
                  <a:pt x="1434" y="153"/>
                </a:lnTo>
                <a:lnTo>
                  <a:pt x="1407" y="161"/>
                </a:lnTo>
                <a:lnTo>
                  <a:pt x="1379" y="166"/>
                </a:lnTo>
                <a:lnTo>
                  <a:pt x="1350" y="174"/>
                </a:lnTo>
                <a:lnTo>
                  <a:pt x="1319" y="180"/>
                </a:lnTo>
                <a:lnTo>
                  <a:pt x="1287" y="188"/>
                </a:lnTo>
                <a:lnTo>
                  <a:pt x="1256" y="195"/>
                </a:lnTo>
                <a:lnTo>
                  <a:pt x="1221" y="203"/>
                </a:lnTo>
                <a:lnTo>
                  <a:pt x="1187" y="211"/>
                </a:lnTo>
                <a:lnTo>
                  <a:pt x="1152" y="218"/>
                </a:lnTo>
                <a:lnTo>
                  <a:pt x="1116" y="228"/>
                </a:lnTo>
                <a:lnTo>
                  <a:pt x="1079" y="236"/>
                </a:lnTo>
                <a:lnTo>
                  <a:pt x="1041" y="245"/>
                </a:lnTo>
                <a:lnTo>
                  <a:pt x="1002" y="255"/>
                </a:lnTo>
                <a:lnTo>
                  <a:pt x="962" y="264"/>
                </a:lnTo>
                <a:lnTo>
                  <a:pt x="922" y="274"/>
                </a:lnTo>
                <a:lnTo>
                  <a:pt x="883" y="282"/>
                </a:lnTo>
                <a:lnTo>
                  <a:pt x="845" y="291"/>
                </a:lnTo>
                <a:lnTo>
                  <a:pt x="809" y="299"/>
                </a:lnTo>
                <a:lnTo>
                  <a:pt x="774" y="309"/>
                </a:lnTo>
                <a:lnTo>
                  <a:pt x="739" y="316"/>
                </a:lnTo>
                <a:lnTo>
                  <a:pt x="707" y="324"/>
                </a:lnTo>
                <a:lnTo>
                  <a:pt x="676" y="332"/>
                </a:lnTo>
                <a:lnTo>
                  <a:pt x="645" y="337"/>
                </a:lnTo>
                <a:lnTo>
                  <a:pt x="617" y="345"/>
                </a:lnTo>
                <a:lnTo>
                  <a:pt x="588" y="351"/>
                </a:lnTo>
                <a:lnTo>
                  <a:pt x="561" y="357"/>
                </a:lnTo>
                <a:lnTo>
                  <a:pt x="534" y="362"/>
                </a:lnTo>
                <a:lnTo>
                  <a:pt x="511" y="368"/>
                </a:lnTo>
                <a:lnTo>
                  <a:pt x="486" y="372"/>
                </a:lnTo>
                <a:lnTo>
                  <a:pt x="465" y="378"/>
                </a:lnTo>
                <a:lnTo>
                  <a:pt x="444" y="381"/>
                </a:lnTo>
                <a:lnTo>
                  <a:pt x="423" y="387"/>
                </a:lnTo>
                <a:lnTo>
                  <a:pt x="403" y="391"/>
                </a:lnTo>
                <a:lnTo>
                  <a:pt x="386" y="393"/>
                </a:lnTo>
                <a:lnTo>
                  <a:pt x="369" y="397"/>
                </a:lnTo>
                <a:lnTo>
                  <a:pt x="354" y="401"/>
                </a:lnTo>
                <a:lnTo>
                  <a:pt x="338" y="403"/>
                </a:lnTo>
                <a:lnTo>
                  <a:pt x="327" y="404"/>
                </a:lnTo>
                <a:lnTo>
                  <a:pt x="313" y="408"/>
                </a:lnTo>
                <a:lnTo>
                  <a:pt x="302" y="410"/>
                </a:lnTo>
                <a:lnTo>
                  <a:pt x="292" y="410"/>
                </a:lnTo>
                <a:lnTo>
                  <a:pt x="284" y="412"/>
                </a:lnTo>
                <a:lnTo>
                  <a:pt x="277" y="414"/>
                </a:lnTo>
                <a:lnTo>
                  <a:pt x="269" y="414"/>
                </a:lnTo>
                <a:lnTo>
                  <a:pt x="263" y="414"/>
                </a:lnTo>
                <a:lnTo>
                  <a:pt x="259" y="414"/>
                </a:lnTo>
                <a:lnTo>
                  <a:pt x="252" y="414"/>
                </a:lnTo>
                <a:lnTo>
                  <a:pt x="244" y="414"/>
                </a:lnTo>
                <a:lnTo>
                  <a:pt x="235" y="412"/>
                </a:lnTo>
                <a:lnTo>
                  <a:pt x="227" y="410"/>
                </a:lnTo>
                <a:lnTo>
                  <a:pt x="217" y="408"/>
                </a:lnTo>
                <a:lnTo>
                  <a:pt x="208" y="404"/>
                </a:lnTo>
                <a:lnTo>
                  <a:pt x="198" y="401"/>
                </a:lnTo>
                <a:lnTo>
                  <a:pt x="188" y="397"/>
                </a:lnTo>
                <a:lnTo>
                  <a:pt x="179" y="391"/>
                </a:lnTo>
                <a:lnTo>
                  <a:pt x="167" y="385"/>
                </a:lnTo>
                <a:lnTo>
                  <a:pt x="156" y="380"/>
                </a:lnTo>
                <a:lnTo>
                  <a:pt x="146" y="372"/>
                </a:lnTo>
                <a:lnTo>
                  <a:pt x="135" y="364"/>
                </a:lnTo>
                <a:lnTo>
                  <a:pt x="123" y="357"/>
                </a:lnTo>
                <a:lnTo>
                  <a:pt x="110" y="349"/>
                </a:lnTo>
                <a:lnTo>
                  <a:pt x="98" y="339"/>
                </a:lnTo>
                <a:lnTo>
                  <a:pt x="85" y="328"/>
                </a:lnTo>
                <a:lnTo>
                  <a:pt x="73" y="316"/>
                </a:lnTo>
                <a:lnTo>
                  <a:pt x="64" y="307"/>
                </a:lnTo>
                <a:lnTo>
                  <a:pt x="52" y="297"/>
                </a:lnTo>
                <a:lnTo>
                  <a:pt x="43" y="287"/>
                </a:lnTo>
                <a:lnTo>
                  <a:pt x="35" y="278"/>
                </a:lnTo>
                <a:lnTo>
                  <a:pt x="27" y="270"/>
                </a:lnTo>
                <a:lnTo>
                  <a:pt x="20" y="262"/>
                </a:lnTo>
                <a:lnTo>
                  <a:pt x="14" y="255"/>
                </a:lnTo>
                <a:lnTo>
                  <a:pt x="10" y="247"/>
                </a:lnTo>
                <a:lnTo>
                  <a:pt x="6" y="241"/>
                </a:lnTo>
                <a:lnTo>
                  <a:pt x="2" y="236"/>
                </a:lnTo>
                <a:lnTo>
                  <a:pt x="0" y="230"/>
                </a:lnTo>
                <a:lnTo>
                  <a:pt x="0" y="224"/>
                </a:lnTo>
                <a:lnTo>
                  <a:pt x="2" y="218"/>
                </a:lnTo>
                <a:lnTo>
                  <a:pt x="4" y="214"/>
                </a:lnTo>
                <a:lnTo>
                  <a:pt x="4" y="207"/>
                </a:lnTo>
                <a:lnTo>
                  <a:pt x="4" y="201"/>
                </a:lnTo>
                <a:lnTo>
                  <a:pt x="6" y="195"/>
                </a:lnTo>
                <a:lnTo>
                  <a:pt x="8" y="191"/>
                </a:lnTo>
                <a:lnTo>
                  <a:pt x="12" y="188"/>
                </a:lnTo>
                <a:lnTo>
                  <a:pt x="14" y="186"/>
                </a:lnTo>
                <a:lnTo>
                  <a:pt x="20" y="184"/>
                </a:lnTo>
                <a:lnTo>
                  <a:pt x="23" y="182"/>
                </a:lnTo>
                <a:lnTo>
                  <a:pt x="29" y="182"/>
                </a:lnTo>
                <a:lnTo>
                  <a:pt x="35" y="180"/>
                </a:lnTo>
                <a:lnTo>
                  <a:pt x="41" y="182"/>
                </a:lnTo>
                <a:lnTo>
                  <a:pt x="48" y="182"/>
                </a:lnTo>
                <a:lnTo>
                  <a:pt x="56" y="184"/>
                </a:lnTo>
                <a:lnTo>
                  <a:pt x="66" y="184"/>
                </a:lnTo>
                <a:lnTo>
                  <a:pt x="75" y="186"/>
                </a:lnTo>
                <a:lnTo>
                  <a:pt x="85" y="190"/>
                </a:lnTo>
                <a:lnTo>
                  <a:pt x="104" y="193"/>
                </a:lnTo>
                <a:lnTo>
                  <a:pt x="121" y="197"/>
                </a:lnTo>
                <a:lnTo>
                  <a:pt x="139" y="201"/>
                </a:lnTo>
                <a:lnTo>
                  <a:pt x="156" y="205"/>
                </a:lnTo>
                <a:lnTo>
                  <a:pt x="169" y="209"/>
                </a:lnTo>
                <a:lnTo>
                  <a:pt x="183" y="211"/>
                </a:lnTo>
                <a:lnTo>
                  <a:pt x="194" y="213"/>
                </a:lnTo>
                <a:lnTo>
                  <a:pt x="206" y="214"/>
                </a:lnTo>
                <a:lnTo>
                  <a:pt x="210" y="213"/>
                </a:lnTo>
                <a:lnTo>
                  <a:pt x="213" y="213"/>
                </a:lnTo>
                <a:lnTo>
                  <a:pt x="219" y="213"/>
                </a:lnTo>
                <a:lnTo>
                  <a:pt x="227" y="213"/>
                </a:lnTo>
                <a:lnTo>
                  <a:pt x="235" y="211"/>
                </a:lnTo>
                <a:lnTo>
                  <a:pt x="244" y="211"/>
                </a:lnTo>
                <a:lnTo>
                  <a:pt x="254" y="209"/>
                </a:lnTo>
                <a:lnTo>
                  <a:pt x="267" y="207"/>
                </a:lnTo>
                <a:lnTo>
                  <a:pt x="281" y="205"/>
                </a:lnTo>
                <a:lnTo>
                  <a:pt x="294" y="203"/>
                </a:lnTo>
                <a:lnTo>
                  <a:pt x="311" y="201"/>
                </a:lnTo>
                <a:lnTo>
                  <a:pt x="329" y="199"/>
                </a:lnTo>
                <a:lnTo>
                  <a:pt x="346" y="195"/>
                </a:lnTo>
                <a:lnTo>
                  <a:pt x="367" y="193"/>
                </a:lnTo>
                <a:lnTo>
                  <a:pt x="388" y="190"/>
                </a:lnTo>
                <a:lnTo>
                  <a:pt x="409" y="188"/>
                </a:lnTo>
                <a:lnTo>
                  <a:pt x="434" y="184"/>
                </a:lnTo>
                <a:lnTo>
                  <a:pt x="459" y="180"/>
                </a:lnTo>
                <a:lnTo>
                  <a:pt x="486" y="176"/>
                </a:lnTo>
                <a:lnTo>
                  <a:pt x="513" y="172"/>
                </a:lnTo>
                <a:lnTo>
                  <a:pt x="542" y="168"/>
                </a:lnTo>
                <a:lnTo>
                  <a:pt x="572" y="165"/>
                </a:lnTo>
                <a:lnTo>
                  <a:pt x="603" y="161"/>
                </a:lnTo>
                <a:lnTo>
                  <a:pt x="638" y="155"/>
                </a:lnTo>
                <a:lnTo>
                  <a:pt x="670" y="151"/>
                </a:lnTo>
                <a:lnTo>
                  <a:pt x="707" y="145"/>
                </a:lnTo>
                <a:lnTo>
                  <a:pt x="743" y="142"/>
                </a:lnTo>
                <a:lnTo>
                  <a:pt x="782" y="136"/>
                </a:lnTo>
                <a:lnTo>
                  <a:pt x="822" y="130"/>
                </a:lnTo>
                <a:lnTo>
                  <a:pt x="862" y="124"/>
                </a:lnTo>
                <a:lnTo>
                  <a:pt x="905" y="119"/>
                </a:lnTo>
                <a:lnTo>
                  <a:pt x="949" y="113"/>
                </a:lnTo>
                <a:lnTo>
                  <a:pt x="993" y="107"/>
                </a:lnTo>
                <a:lnTo>
                  <a:pt x="1035" y="101"/>
                </a:lnTo>
                <a:lnTo>
                  <a:pt x="1077" y="95"/>
                </a:lnTo>
                <a:lnTo>
                  <a:pt x="1118" y="90"/>
                </a:lnTo>
                <a:lnTo>
                  <a:pt x="1158" y="84"/>
                </a:lnTo>
                <a:lnTo>
                  <a:pt x="1196" y="80"/>
                </a:lnTo>
                <a:lnTo>
                  <a:pt x="1235" y="74"/>
                </a:lnTo>
                <a:lnTo>
                  <a:pt x="1273" y="71"/>
                </a:lnTo>
                <a:lnTo>
                  <a:pt x="1310" y="65"/>
                </a:lnTo>
                <a:lnTo>
                  <a:pt x="1344" y="61"/>
                </a:lnTo>
                <a:lnTo>
                  <a:pt x="1379" y="57"/>
                </a:lnTo>
                <a:lnTo>
                  <a:pt x="1413" y="53"/>
                </a:lnTo>
                <a:lnTo>
                  <a:pt x="1446" y="49"/>
                </a:lnTo>
                <a:lnTo>
                  <a:pt x="1479" y="44"/>
                </a:lnTo>
                <a:lnTo>
                  <a:pt x="1509" y="42"/>
                </a:lnTo>
                <a:lnTo>
                  <a:pt x="1540" y="38"/>
                </a:lnTo>
                <a:lnTo>
                  <a:pt x="1569" y="34"/>
                </a:lnTo>
                <a:lnTo>
                  <a:pt x="1598" y="30"/>
                </a:lnTo>
                <a:lnTo>
                  <a:pt x="1624" y="28"/>
                </a:lnTo>
                <a:lnTo>
                  <a:pt x="1651" y="24"/>
                </a:lnTo>
                <a:lnTo>
                  <a:pt x="1676" y="23"/>
                </a:lnTo>
                <a:lnTo>
                  <a:pt x="1701" y="19"/>
                </a:lnTo>
                <a:lnTo>
                  <a:pt x="1726" y="17"/>
                </a:lnTo>
                <a:lnTo>
                  <a:pt x="1749" y="15"/>
                </a:lnTo>
                <a:lnTo>
                  <a:pt x="1772" y="11"/>
                </a:lnTo>
                <a:lnTo>
                  <a:pt x="1793" y="9"/>
                </a:lnTo>
                <a:lnTo>
                  <a:pt x="1814" y="7"/>
                </a:lnTo>
                <a:lnTo>
                  <a:pt x="1836" y="5"/>
                </a:lnTo>
                <a:lnTo>
                  <a:pt x="1855" y="3"/>
                </a:lnTo>
                <a:lnTo>
                  <a:pt x="1872" y="3"/>
                </a:lnTo>
                <a:lnTo>
                  <a:pt x="1889" y="1"/>
                </a:lnTo>
                <a:lnTo>
                  <a:pt x="1907" y="0"/>
                </a:lnTo>
                <a:lnTo>
                  <a:pt x="1920" y="38"/>
                </a:lnTo>
                <a:lnTo>
                  <a:pt x="1933" y="7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Freeform 132"/>
          <p:cNvSpPr/>
          <p:nvPr/>
        </p:nvSpPr>
        <p:spPr>
          <a:xfrm>
            <a:off x="6973920" y="4530600"/>
            <a:ext cx="546120" cy="486000"/>
          </a:xfrm>
          <a:custGeom>
            <a:avLst/>
            <a:gdLst/>
            <a:ahLst/>
            <a:rect l="l" t="t" r="r" b="b"/>
            <a:pathLst>
              <a:path w="689" h="613">
                <a:moveTo>
                  <a:pt x="689" y="503"/>
                </a:moveTo>
                <a:lnTo>
                  <a:pt x="689" y="513"/>
                </a:lnTo>
                <a:lnTo>
                  <a:pt x="687" y="522"/>
                </a:lnTo>
                <a:lnTo>
                  <a:pt x="683" y="532"/>
                </a:lnTo>
                <a:lnTo>
                  <a:pt x="681" y="542"/>
                </a:lnTo>
                <a:lnTo>
                  <a:pt x="677" y="553"/>
                </a:lnTo>
                <a:lnTo>
                  <a:pt x="672" y="565"/>
                </a:lnTo>
                <a:lnTo>
                  <a:pt x="668" y="578"/>
                </a:lnTo>
                <a:lnTo>
                  <a:pt x="662" y="592"/>
                </a:lnTo>
                <a:lnTo>
                  <a:pt x="658" y="597"/>
                </a:lnTo>
                <a:lnTo>
                  <a:pt x="654" y="603"/>
                </a:lnTo>
                <a:lnTo>
                  <a:pt x="651" y="607"/>
                </a:lnTo>
                <a:lnTo>
                  <a:pt x="645" y="611"/>
                </a:lnTo>
                <a:lnTo>
                  <a:pt x="637" y="613"/>
                </a:lnTo>
                <a:lnTo>
                  <a:pt x="631" y="613"/>
                </a:lnTo>
                <a:lnTo>
                  <a:pt x="622" y="613"/>
                </a:lnTo>
                <a:lnTo>
                  <a:pt x="612" y="611"/>
                </a:lnTo>
                <a:lnTo>
                  <a:pt x="603" y="607"/>
                </a:lnTo>
                <a:lnTo>
                  <a:pt x="593" y="603"/>
                </a:lnTo>
                <a:lnTo>
                  <a:pt x="581" y="597"/>
                </a:lnTo>
                <a:lnTo>
                  <a:pt x="568" y="592"/>
                </a:lnTo>
                <a:lnTo>
                  <a:pt x="556" y="584"/>
                </a:lnTo>
                <a:lnTo>
                  <a:pt x="543" y="574"/>
                </a:lnTo>
                <a:lnTo>
                  <a:pt x="528" y="565"/>
                </a:lnTo>
                <a:lnTo>
                  <a:pt x="514" y="553"/>
                </a:lnTo>
                <a:lnTo>
                  <a:pt x="499" y="542"/>
                </a:lnTo>
                <a:lnTo>
                  <a:pt x="482" y="528"/>
                </a:lnTo>
                <a:lnTo>
                  <a:pt x="466" y="513"/>
                </a:lnTo>
                <a:lnTo>
                  <a:pt x="449" y="499"/>
                </a:lnTo>
                <a:lnTo>
                  <a:pt x="430" y="482"/>
                </a:lnTo>
                <a:lnTo>
                  <a:pt x="412" y="467"/>
                </a:lnTo>
                <a:lnTo>
                  <a:pt x="393" y="450"/>
                </a:lnTo>
                <a:lnTo>
                  <a:pt x="374" y="430"/>
                </a:lnTo>
                <a:lnTo>
                  <a:pt x="353" y="411"/>
                </a:lnTo>
                <a:lnTo>
                  <a:pt x="334" y="392"/>
                </a:lnTo>
                <a:lnTo>
                  <a:pt x="313" y="371"/>
                </a:lnTo>
                <a:lnTo>
                  <a:pt x="292" y="348"/>
                </a:lnTo>
                <a:lnTo>
                  <a:pt x="269" y="327"/>
                </a:lnTo>
                <a:lnTo>
                  <a:pt x="247" y="302"/>
                </a:lnTo>
                <a:lnTo>
                  <a:pt x="224" y="277"/>
                </a:lnTo>
                <a:lnTo>
                  <a:pt x="203" y="252"/>
                </a:lnTo>
                <a:lnTo>
                  <a:pt x="178" y="227"/>
                </a:lnTo>
                <a:lnTo>
                  <a:pt x="155" y="202"/>
                </a:lnTo>
                <a:lnTo>
                  <a:pt x="134" y="179"/>
                </a:lnTo>
                <a:lnTo>
                  <a:pt x="115" y="158"/>
                </a:lnTo>
                <a:lnTo>
                  <a:pt x="98" y="137"/>
                </a:lnTo>
                <a:lnTo>
                  <a:pt x="80" y="117"/>
                </a:lnTo>
                <a:lnTo>
                  <a:pt x="65" y="100"/>
                </a:lnTo>
                <a:lnTo>
                  <a:pt x="52" y="83"/>
                </a:lnTo>
                <a:lnTo>
                  <a:pt x="40" y="68"/>
                </a:lnTo>
                <a:lnTo>
                  <a:pt x="29" y="54"/>
                </a:lnTo>
                <a:lnTo>
                  <a:pt x="21" y="43"/>
                </a:lnTo>
                <a:lnTo>
                  <a:pt x="13" y="31"/>
                </a:lnTo>
                <a:lnTo>
                  <a:pt x="7" y="22"/>
                </a:lnTo>
                <a:lnTo>
                  <a:pt x="4" y="12"/>
                </a:lnTo>
                <a:lnTo>
                  <a:pt x="2" y="6"/>
                </a:lnTo>
                <a:lnTo>
                  <a:pt x="0" y="0"/>
                </a:lnTo>
                <a:lnTo>
                  <a:pt x="13" y="0"/>
                </a:lnTo>
                <a:lnTo>
                  <a:pt x="29" y="2"/>
                </a:lnTo>
                <a:lnTo>
                  <a:pt x="44" y="4"/>
                </a:lnTo>
                <a:lnTo>
                  <a:pt x="61" y="8"/>
                </a:lnTo>
                <a:lnTo>
                  <a:pt x="78" y="12"/>
                </a:lnTo>
                <a:lnTo>
                  <a:pt x="100" y="16"/>
                </a:lnTo>
                <a:lnTo>
                  <a:pt x="119" y="23"/>
                </a:lnTo>
                <a:lnTo>
                  <a:pt x="140" y="29"/>
                </a:lnTo>
                <a:lnTo>
                  <a:pt x="163" y="39"/>
                </a:lnTo>
                <a:lnTo>
                  <a:pt x="188" y="46"/>
                </a:lnTo>
                <a:lnTo>
                  <a:pt x="213" y="58"/>
                </a:lnTo>
                <a:lnTo>
                  <a:pt x="238" y="69"/>
                </a:lnTo>
                <a:lnTo>
                  <a:pt x="265" y="81"/>
                </a:lnTo>
                <a:lnTo>
                  <a:pt x="293" y="94"/>
                </a:lnTo>
                <a:lnTo>
                  <a:pt x="322" y="110"/>
                </a:lnTo>
                <a:lnTo>
                  <a:pt x="351" y="127"/>
                </a:lnTo>
                <a:lnTo>
                  <a:pt x="378" y="142"/>
                </a:lnTo>
                <a:lnTo>
                  <a:pt x="405" y="160"/>
                </a:lnTo>
                <a:lnTo>
                  <a:pt x="430" y="175"/>
                </a:lnTo>
                <a:lnTo>
                  <a:pt x="453" y="190"/>
                </a:lnTo>
                <a:lnTo>
                  <a:pt x="474" y="206"/>
                </a:lnTo>
                <a:lnTo>
                  <a:pt x="495" y="221"/>
                </a:lnTo>
                <a:lnTo>
                  <a:pt x="516" y="236"/>
                </a:lnTo>
                <a:lnTo>
                  <a:pt x="533" y="250"/>
                </a:lnTo>
                <a:lnTo>
                  <a:pt x="551" y="265"/>
                </a:lnTo>
                <a:lnTo>
                  <a:pt x="566" y="279"/>
                </a:lnTo>
                <a:lnTo>
                  <a:pt x="581" y="294"/>
                </a:lnTo>
                <a:lnTo>
                  <a:pt x="595" y="308"/>
                </a:lnTo>
                <a:lnTo>
                  <a:pt x="606" y="323"/>
                </a:lnTo>
                <a:lnTo>
                  <a:pt x="618" y="336"/>
                </a:lnTo>
                <a:lnTo>
                  <a:pt x="627" y="350"/>
                </a:lnTo>
                <a:lnTo>
                  <a:pt x="635" y="365"/>
                </a:lnTo>
                <a:lnTo>
                  <a:pt x="643" y="377"/>
                </a:lnTo>
                <a:lnTo>
                  <a:pt x="649" y="388"/>
                </a:lnTo>
                <a:lnTo>
                  <a:pt x="654" y="398"/>
                </a:lnTo>
                <a:lnTo>
                  <a:pt x="660" y="407"/>
                </a:lnTo>
                <a:lnTo>
                  <a:pt x="666" y="417"/>
                </a:lnTo>
                <a:lnTo>
                  <a:pt x="670" y="427"/>
                </a:lnTo>
                <a:lnTo>
                  <a:pt x="674" y="434"/>
                </a:lnTo>
                <a:lnTo>
                  <a:pt x="677" y="444"/>
                </a:lnTo>
                <a:lnTo>
                  <a:pt x="683" y="459"/>
                </a:lnTo>
                <a:lnTo>
                  <a:pt x="687" y="474"/>
                </a:lnTo>
                <a:lnTo>
                  <a:pt x="689" y="488"/>
                </a:lnTo>
                <a:lnTo>
                  <a:pt x="689" y="50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Freeform 133"/>
          <p:cNvSpPr/>
          <p:nvPr/>
        </p:nvSpPr>
        <p:spPr>
          <a:xfrm>
            <a:off x="6445080" y="3895560"/>
            <a:ext cx="243000" cy="905040"/>
          </a:xfrm>
          <a:custGeom>
            <a:avLst/>
            <a:gdLst/>
            <a:ahLst/>
            <a:rect l="l" t="t" r="r" b="b"/>
            <a:pathLst>
              <a:path w="307" h="1140">
                <a:moveTo>
                  <a:pt x="261" y="549"/>
                </a:moveTo>
                <a:lnTo>
                  <a:pt x="261" y="589"/>
                </a:lnTo>
                <a:lnTo>
                  <a:pt x="261" y="628"/>
                </a:lnTo>
                <a:lnTo>
                  <a:pt x="261" y="668"/>
                </a:lnTo>
                <a:lnTo>
                  <a:pt x="261" y="704"/>
                </a:lnTo>
                <a:lnTo>
                  <a:pt x="261" y="781"/>
                </a:lnTo>
                <a:lnTo>
                  <a:pt x="261" y="854"/>
                </a:lnTo>
                <a:lnTo>
                  <a:pt x="261" y="927"/>
                </a:lnTo>
                <a:lnTo>
                  <a:pt x="261" y="998"/>
                </a:lnTo>
                <a:lnTo>
                  <a:pt x="261" y="1069"/>
                </a:lnTo>
                <a:lnTo>
                  <a:pt x="261" y="1140"/>
                </a:lnTo>
                <a:lnTo>
                  <a:pt x="193" y="1140"/>
                </a:lnTo>
                <a:lnTo>
                  <a:pt x="126" y="1140"/>
                </a:lnTo>
                <a:lnTo>
                  <a:pt x="126" y="1102"/>
                </a:lnTo>
                <a:lnTo>
                  <a:pt x="126" y="1065"/>
                </a:lnTo>
                <a:lnTo>
                  <a:pt x="126" y="1031"/>
                </a:lnTo>
                <a:lnTo>
                  <a:pt x="126" y="994"/>
                </a:lnTo>
                <a:lnTo>
                  <a:pt x="126" y="960"/>
                </a:lnTo>
                <a:lnTo>
                  <a:pt x="124" y="927"/>
                </a:lnTo>
                <a:lnTo>
                  <a:pt x="124" y="894"/>
                </a:lnTo>
                <a:lnTo>
                  <a:pt x="124" y="862"/>
                </a:lnTo>
                <a:lnTo>
                  <a:pt x="122" y="831"/>
                </a:lnTo>
                <a:lnTo>
                  <a:pt x="122" y="800"/>
                </a:lnTo>
                <a:lnTo>
                  <a:pt x="122" y="770"/>
                </a:lnTo>
                <a:lnTo>
                  <a:pt x="121" y="741"/>
                </a:lnTo>
                <a:lnTo>
                  <a:pt x="121" y="712"/>
                </a:lnTo>
                <a:lnTo>
                  <a:pt x="121" y="685"/>
                </a:lnTo>
                <a:lnTo>
                  <a:pt x="119" y="658"/>
                </a:lnTo>
                <a:lnTo>
                  <a:pt x="119" y="631"/>
                </a:lnTo>
                <a:lnTo>
                  <a:pt x="117" y="607"/>
                </a:lnTo>
                <a:lnTo>
                  <a:pt x="117" y="584"/>
                </a:lnTo>
                <a:lnTo>
                  <a:pt x="115" y="559"/>
                </a:lnTo>
                <a:lnTo>
                  <a:pt x="113" y="536"/>
                </a:lnTo>
                <a:lnTo>
                  <a:pt x="113" y="514"/>
                </a:lnTo>
                <a:lnTo>
                  <a:pt x="111" y="493"/>
                </a:lnTo>
                <a:lnTo>
                  <a:pt x="111" y="472"/>
                </a:lnTo>
                <a:lnTo>
                  <a:pt x="109" y="453"/>
                </a:lnTo>
                <a:lnTo>
                  <a:pt x="107" y="434"/>
                </a:lnTo>
                <a:lnTo>
                  <a:pt x="107" y="415"/>
                </a:lnTo>
                <a:lnTo>
                  <a:pt x="105" y="397"/>
                </a:lnTo>
                <a:lnTo>
                  <a:pt x="105" y="382"/>
                </a:lnTo>
                <a:lnTo>
                  <a:pt x="103" y="365"/>
                </a:lnTo>
                <a:lnTo>
                  <a:pt x="101" y="351"/>
                </a:lnTo>
                <a:lnTo>
                  <a:pt x="101" y="336"/>
                </a:lnTo>
                <a:lnTo>
                  <a:pt x="99" y="322"/>
                </a:lnTo>
                <a:lnTo>
                  <a:pt x="97" y="298"/>
                </a:lnTo>
                <a:lnTo>
                  <a:pt x="94" y="274"/>
                </a:lnTo>
                <a:lnTo>
                  <a:pt x="90" y="251"/>
                </a:lnTo>
                <a:lnTo>
                  <a:pt x="88" y="228"/>
                </a:lnTo>
                <a:lnTo>
                  <a:pt x="84" y="209"/>
                </a:lnTo>
                <a:lnTo>
                  <a:pt x="78" y="190"/>
                </a:lnTo>
                <a:lnTo>
                  <a:pt x="74" y="171"/>
                </a:lnTo>
                <a:lnTo>
                  <a:pt x="71" y="155"/>
                </a:lnTo>
                <a:lnTo>
                  <a:pt x="67" y="140"/>
                </a:lnTo>
                <a:lnTo>
                  <a:pt x="61" y="127"/>
                </a:lnTo>
                <a:lnTo>
                  <a:pt x="57" y="113"/>
                </a:lnTo>
                <a:lnTo>
                  <a:pt x="51" y="102"/>
                </a:lnTo>
                <a:lnTo>
                  <a:pt x="48" y="92"/>
                </a:lnTo>
                <a:lnTo>
                  <a:pt x="42" y="84"/>
                </a:lnTo>
                <a:lnTo>
                  <a:pt x="36" y="77"/>
                </a:lnTo>
                <a:lnTo>
                  <a:pt x="32" y="73"/>
                </a:lnTo>
                <a:lnTo>
                  <a:pt x="25" y="69"/>
                </a:lnTo>
                <a:lnTo>
                  <a:pt x="19" y="67"/>
                </a:lnTo>
                <a:lnTo>
                  <a:pt x="13" y="63"/>
                </a:lnTo>
                <a:lnTo>
                  <a:pt x="9" y="60"/>
                </a:lnTo>
                <a:lnTo>
                  <a:pt x="5" y="58"/>
                </a:lnTo>
                <a:lnTo>
                  <a:pt x="3" y="54"/>
                </a:lnTo>
                <a:lnTo>
                  <a:pt x="2" y="50"/>
                </a:lnTo>
                <a:lnTo>
                  <a:pt x="0" y="46"/>
                </a:lnTo>
                <a:lnTo>
                  <a:pt x="0" y="40"/>
                </a:lnTo>
                <a:lnTo>
                  <a:pt x="0" y="36"/>
                </a:lnTo>
                <a:lnTo>
                  <a:pt x="2" y="33"/>
                </a:lnTo>
                <a:lnTo>
                  <a:pt x="3" y="29"/>
                </a:lnTo>
                <a:lnTo>
                  <a:pt x="5" y="23"/>
                </a:lnTo>
                <a:lnTo>
                  <a:pt x="9" y="19"/>
                </a:lnTo>
                <a:lnTo>
                  <a:pt x="13" y="13"/>
                </a:lnTo>
                <a:lnTo>
                  <a:pt x="19" y="10"/>
                </a:lnTo>
                <a:lnTo>
                  <a:pt x="21" y="8"/>
                </a:lnTo>
                <a:lnTo>
                  <a:pt x="25" y="6"/>
                </a:lnTo>
                <a:lnTo>
                  <a:pt x="30" y="4"/>
                </a:lnTo>
                <a:lnTo>
                  <a:pt x="36" y="2"/>
                </a:lnTo>
                <a:lnTo>
                  <a:pt x="42" y="2"/>
                </a:lnTo>
                <a:lnTo>
                  <a:pt x="50" y="0"/>
                </a:lnTo>
                <a:lnTo>
                  <a:pt x="57" y="0"/>
                </a:lnTo>
                <a:lnTo>
                  <a:pt x="65" y="2"/>
                </a:lnTo>
                <a:lnTo>
                  <a:pt x="74" y="2"/>
                </a:lnTo>
                <a:lnTo>
                  <a:pt x="84" y="4"/>
                </a:lnTo>
                <a:lnTo>
                  <a:pt x="96" y="6"/>
                </a:lnTo>
                <a:lnTo>
                  <a:pt x="105" y="8"/>
                </a:lnTo>
                <a:lnTo>
                  <a:pt x="117" y="10"/>
                </a:lnTo>
                <a:lnTo>
                  <a:pt x="128" y="13"/>
                </a:lnTo>
                <a:lnTo>
                  <a:pt x="142" y="17"/>
                </a:lnTo>
                <a:lnTo>
                  <a:pt x="153" y="21"/>
                </a:lnTo>
                <a:lnTo>
                  <a:pt x="178" y="31"/>
                </a:lnTo>
                <a:lnTo>
                  <a:pt x="201" y="40"/>
                </a:lnTo>
                <a:lnTo>
                  <a:pt x="213" y="44"/>
                </a:lnTo>
                <a:lnTo>
                  <a:pt x="222" y="50"/>
                </a:lnTo>
                <a:lnTo>
                  <a:pt x="232" y="54"/>
                </a:lnTo>
                <a:lnTo>
                  <a:pt x="241" y="58"/>
                </a:lnTo>
                <a:lnTo>
                  <a:pt x="249" y="61"/>
                </a:lnTo>
                <a:lnTo>
                  <a:pt x="257" y="65"/>
                </a:lnTo>
                <a:lnTo>
                  <a:pt x="265" y="69"/>
                </a:lnTo>
                <a:lnTo>
                  <a:pt x="272" y="73"/>
                </a:lnTo>
                <a:lnTo>
                  <a:pt x="276" y="77"/>
                </a:lnTo>
                <a:lnTo>
                  <a:pt x="282" y="79"/>
                </a:lnTo>
                <a:lnTo>
                  <a:pt x="286" y="83"/>
                </a:lnTo>
                <a:lnTo>
                  <a:pt x="289" y="84"/>
                </a:lnTo>
                <a:lnTo>
                  <a:pt x="293" y="90"/>
                </a:lnTo>
                <a:lnTo>
                  <a:pt x="297" y="96"/>
                </a:lnTo>
                <a:lnTo>
                  <a:pt x="301" y="104"/>
                </a:lnTo>
                <a:lnTo>
                  <a:pt x="305" y="113"/>
                </a:lnTo>
                <a:lnTo>
                  <a:pt x="307" y="123"/>
                </a:lnTo>
                <a:lnTo>
                  <a:pt x="307" y="134"/>
                </a:lnTo>
                <a:lnTo>
                  <a:pt x="307" y="140"/>
                </a:lnTo>
                <a:lnTo>
                  <a:pt x="305" y="146"/>
                </a:lnTo>
                <a:lnTo>
                  <a:pt x="305" y="154"/>
                </a:lnTo>
                <a:lnTo>
                  <a:pt x="303" y="159"/>
                </a:lnTo>
                <a:lnTo>
                  <a:pt x="301" y="163"/>
                </a:lnTo>
                <a:lnTo>
                  <a:pt x="299" y="169"/>
                </a:lnTo>
                <a:lnTo>
                  <a:pt x="299" y="173"/>
                </a:lnTo>
                <a:lnTo>
                  <a:pt x="297" y="179"/>
                </a:lnTo>
                <a:lnTo>
                  <a:pt x="295" y="184"/>
                </a:lnTo>
                <a:lnTo>
                  <a:pt x="295" y="192"/>
                </a:lnTo>
                <a:lnTo>
                  <a:pt x="293" y="200"/>
                </a:lnTo>
                <a:lnTo>
                  <a:pt x="291" y="207"/>
                </a:lnTo>
                <a:lnTo>
                  <a:pt x="291" y="215"/>
                </a:lnTo>
                <a:lnTo>
                  <a:pt x="289" y="225"/>
                </a:lnTo>
                <a:lnTo>
                  <a:pt x="288" y="234"/>
                </a:lnTo>
                <a:lnTo>
                  <a:pt x="288" y="244"/>
                </a:lnTo>
                <a:lnTo>
                  <a:pt x="286" y="253"/>
                </a:lnTo>
                <a:lnTo>
                  <a:pt x="284" y="265"/>
                </a:lnTo>
                <a:lnTo>
                  <a:pt x="284" y="276"/>
                </a:lnTo>
                <a:lnTo>
                  <a:pt x="282" y="288"/>
                </a:lnTo>
                <a:lnTo>
                  <a:pt x="280" y="301"/>
                </a:lnTo>
                <a:lnTo>
                  <a:pt x="280" y="315"/>
                </a:lnTo>
                <a:lnTo>
                  <a:pt x="278" y="328"/>
                </a:lnTo>
                <a:lnTo>
                  <a:pt x="276" y="342"/>
                </a:lnTo>
                <a:lnTo>
                  <a:pt x="276" y="357"/>
                </a:lnTo>
                <a:lnTo>
                  <a:pt x="274" y="372"/>
                </a:lnTo>
                <a:lnTo>
                  <a:pt x="272" y="388"/>
                </a:lnTo>
                <a:lnTo>
                  <a:pt x="272" y="403"/>
                </a:lnTo>
                <a:lnTo>
                  <a:pt x="268" y="438"/>
                </a:lnTo>
                <a:lnTo>
                  <a:pt x="266" y="472"/>
                </a:lnTo>
                <a:lnTo>
                  <a:pt x="265" y="511"/>
                </a:lnTo>
                <a:lnTo>
                  <a:pt x="261" y="549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Freeform 134"/>
          <p:cNvSpPr/>
          <p:nvPr/>
        </p:nvSpPr>
        <p:spPr>
          <a:xfrm>
            <a:off x="6107040" y="4321080"/>
            <a:ext cx="1089000" cy="189000"/>
          </a:xfrm>
          <a:custGeom>
            <a:avLst/>
            <a:gdLst/>
            <a:ahLst/>
            <a:rect l="l" t="t" r="r" b="b"/>
            <a:pathLst>
              <a:path w="1373" h="238">
                <a:moveTo>
                  <a:pt x="0" y="139"/>
                </a:moveTo>
                <a:lnTo>
                  <a:pt x="12" y="137"/>
                </a:lnTo>
                <a:lnTo>
                  <a:pt x="23" y="135"/>
                </a:lnTo>
                <a:lnTo>
                  <a:pt x="37" y="135"/>
                </a:lnTo>
                <a:lnTo>
                  <a:pt x="50" y="133"/>
                </a:lnTo>
                <a:lnTo>
                  <a:pt x="66" y="131"/>
                </a:lnTo>
                <a:lnTo>
                  <a:pt x="81" y="129"/>
                </a:lnTo>
                <a:lnTo>
                  <a:pt x="96" y="127"/>
                </a:lnTo>
                <a:lnTo>
                  <a:pt x="114" y="125"/>
                </a:lnTo>
                <a:lnTo>
                  <a:pt x="131" y="125"/>
                </a:lnTo>
                <a:lnTo>
                  <a:pt x="148" y="123"/>
                </a:lnTo>
                <a:lnTo>
                  <a:pt x="167" y="121"/>
                </a:lnTo>
                <a:lnTo>
                  <a:pt x="187" y="119"/>
                </a:lnTo>
                <a:lnTo>
                  <a:pt x="208" y="118"/>
                </a:lnTo>
                <a:lnTo>
                  <a:pt x="229" y="114"/>
                </a:lnTo>
                <a:lnTo>
                  <a:pt x="250" y="112"/>
                </a:lnTo>
                <a:lnTo>
                  <a:pt x="271" y="110"/>
                </a:lnTo>
                <a:lnTo>
                  <a:pt x="294" y="108"/>
                </a:lnTo>
                <a:lnTo>
                  <a:pt x="317" y="106"/>
                </a:lnTo>
                <a:lnTo>
                  <a:pt x="342" y="102"/>
                </a:lnTo>
                <a:lnTo>
                  <a:pt x="367" y="100"/>
                </a:lnTo>
                <a:lnTo>
                  <a:pt x="392" y="96"/>
                </a:lnTo>
                <a:lnTo>
                  <a:pt x="419" y="94"/>
                </a:lnTo>
                <a:lnTo>
                  <a:pt x="446" y="93"/>
                </a:lnTo>
                <a:lnTo>
                  <a:pt x="473" y="89"/>
                </a:lnTo>
                <a:lnTo>
                  <a:pt x="501" y="85"/>
                </a:lnTo>
                <a:lnTo>
                  <a:pt x="530" y="83"/>
                </a:lnTo>
                <a:lnTo>
                  <a:pt x="559" y="79"/>
                </a:lnTo>
                <a:lnTo>
                  <a:pt x="590" y="77"/>
                </a:lnTo>
                <a:lnTo>
                  <a:pt x="620" y="73"/>
                </a:lnTo>
                <a:lnTo>
                  <a:pt x="651" y="70"/>
                </a:lnTo>
                <a:lnTo>
                  <a:pt x="684" y="66"/>
                </a:lnTo>
                <a:lnTo>
                  <a:pt x="716" y="62"/>
                </a:lnTo>
                <a:lnTo>
                  <a:pt x="747" y="58"/>
                </a:lnTo>
                <a:lnTo>
                  <a:pt x="778" y="56"/>
                </a:lnTo>
                <a:lnTo>
                  <a:pt x="807" y="52"/>
                </a:lnTo>
                <a:lnTo>
                  <a:pt x="835" y="48"/>
                </a:lnTo>
                <a:lnTo>
                  <a:pt x="862" y="45"/>
                </a:lnTo>
                <a:lnTo>
                  <a:pt x="889" y="43"/>
                </a:lnTo>
                <a:lnTo>
                  <a:pt x="916" y="39"/>
                </a:lnTo>
                <a:lnTo>
                  <a:pt x="941" y="37"/>
                </a:lnTo>
                <a:lnTo>
                  <a:pt x="964" y="33"/>
                </a:lnTo>
                <a:lnTo>
                  <a:pt x="989" y="31"/>
                </a:lnTo>
                <a:lnTo>
                  <a:pt x="1010" y="27"/>
                </a:lnTo>
                <a:lnTo>
                  <a:pt x="1033" y="25"/>
                </a:lnTo>
                <a:lnTo>
                  <a:pt x="1052" y="23"/>
                </a:lnTo>
                <a:lnTo>
                  <a:pt x="1074" y="22"/>
                </a:lnTo>
                <a:lnTo>
                  <a:pt x="1093" y="18"/>
                </a:lnTo>
                <a:lnTo>
                  <a:pt x="1110" y="16"/>
                </a:lnTo>
                <a:lnTo>
                  <a:pt x="1127" y="14"/>
                </a:lnTo>
                <a:lnTo>
                  <a:pt x="1145" y="12"/>
                </a:lnTo>
                <a:lnTo>
                  <a:pt x="1160" y="10"/>
                </a:lnTo>
                <a:lnTo>
                  <a:pt x="1173" y="10"/>
                </a:lnTo>
                <a:lnTo>
                  <a:pt x="1189" y="8"/>
                </a:lnTo>
                <a:lnTo>
                  <a:pt x="1200" y="6"/>
                </a:lnTo>
                <a:lnTo>
                  <a:pt x="1214" y="4"/>
                </a:lnTo>
                <a:lnTo>
                  <a:pt x="1223" y="4"/>
                </a:lnTo>
                <a:lnTo>
                  <a:pt x="1235" y="2"/>
                </a:lnTo>
                <a:lnTo>
                  <a:pt x="1244" y="2"/>
                </a:lnTo>
                <a:lnTo>
                  <a:pt x="1252" y="0"/>
                </a:lnTo>
                <a:lnTo>
                  <a:pt x="1260" y="0"/>
                </a:lnTo>
                <a:lnTo>
                  <a:pt x="1267" y="0"/>
                </a:lnTo>
                <a:lnTo>
                  <a:pt x="1273" y="0"/>
                </a:lnTo>
                <a:lnTo>
                  <a:pt x="1279" y="0"/>
                </a:lnTo>
                <a:lnTo>
                  <a:pt x="1283" y="0"/>
                </a:lnTo>
                <a:lnTo>
                  <a:pt x="1296" y="0"/>
                </a:lnTo>
                <a:lnTo>
                  <a:pt x="1310" y="2"/>
                </a:lnTo>
                <a:lnTo>
                  <a:pt x="1323" y="4"/>
                </a:lnTo>
                <a:lnTo>
                  <a:pt x="1333" y="8"/>
                </a:lnTo>
                <a:lnTo>
                  <a:pt x="1342" y="14"/>
                </a:lnTo>
                <a:lnTo>
                  <a:pt x="1350" y="22"/>
                </a:lnTo>
                <a:lnTo>
                  <a:pt x="1358" y="29"/>
                </a:lnTo>
                <a:lnTo>
                  <a:pt x="1363" y="37"/>
                </a:lnTo>
                <a:lnTo>
                  <a:pt x="1367" y="47"/>
                </a:lnTo>
                <a:lnTo>
                  <a:pt x="1371" y="54"/>
                </a:lnTo>
                <a:lnTo>
                  <a:pt x="1373" y="62"/>
                </a:lnTo>
                <a:lnTo>
                  <a:pt x="1373" y="68"/>
                </a:lnTo>
                <a:lnTo>
                  <a:pt x="1373" y="73"/>
                </a:lnTo>
                <a:lnTo>
                  <a:pt x="1371" y="77"/>
                </a:lnTo>
                <a:lnTo>
                  <a:pt x="1367" y="83"/>
                </a:lnTo>
                <a:lnTo>
                  <a:pt x="1363" y="89"/>
                </a:lnTo>
                <a:lnTo>
                  <a:pt x="1362" y="91"/>
                </a:lnTo>
                <a:lnTo>
                  <a:pt x="1358" y="93"/>
                </a:lnTo>
                <a:lnTo>
                  <a:pt x="1354" y="94"/>
                </a:lnTo>
                <a:lnTo>
                  <a:pt x="1348" y="96"/>
                </a:lnTo>
                <a:lnTo>
                  <a:pt x="1344" y="98"/>
                </a:lnTo>
                <a:lnTo>
                  <a:pt x="1338" y="100"/>
                </a:lnTo>
                <a:lnTo>
                  <a:pt x="1331" y="104"/>
                </a:lnTo>
                <a:lnTo>
                  <a:pt x="1325" y="104"/>
                </a:lnTo>
                <a:lnTo>
                  <a:pt x="1310" y="108"/>
                </a:lnTo>
                <a:lnTo>
                  <a:pt x="1292" y="110"/>
                </a:lnTo>
                <a:lnTo>
                  <a:pt x="1275" y="112"/>
                </a:lnTo>
                <a:lnTo>
                  <a:pt x="1256" y="114"/>
                </a:lnTo>
                <a:lnTo>
                  <a:pt x="1229" y="114"/>
                </a:lnTo>
                <a:lnTo>
                  <a:pt x="1202" y="114"/>
                </a:lnTo>
                <a:lnTo>
                  <a:pt x="1187" y="114"/>
                </a:lnTo>
                <a:lnTo>
                  <a:pt x="1171" y="114"/>
                </a:lnTo>
                <a:lnTo>
                  <a:pt x="1156" y="114"/>
                </a:lnTo>
                <a:lnTo>
                  <a:pt x="1141" y="114"/>
                </a:lnTo>
                <a:lnTo>
                  <a:pt x="1123" y="116"/>
                </a:lnTo>
                <a:lnTo>
                  <a:pt x="1106" y="116"/>
                </a:lnTo>
                <a:lnTo>
                  <a:pt x="1089" y="118"/>
                </a:lnTo>
                <a:lnTo>
                  <a:pt x="1070" y="118"/>
                </a:lnTo>
                <a:lnTo>
                  <a:pt x="1049" y="119"/>
                </a:lnTo>
                <a:lnTo>
                  <a:pt x="1029" y="121"/>
                </a:lnTo>
                <a:lnTo>
                  <a:pt x="1008" y="123"/>
                </a:lnTo>
                <a:lnTo>
                  <a:pt x="985" y="125"/>
                </a:lnTo>
                <a:lnTo>
                  <a:pt x="974" y="127"/>
                </a:lnTo>
                <a:lnTo>
                  <a:pt x="960" y="127"/>
                </a:lnTo>
                <a:lnTo>
                  <a:pt x="945" y="129"/>
                </a:lnTo>
                <a:lnTo>
                  <a:pt x="930" y="131"/>
                </a:lnTo>
                <a:lnTo>
                  <a:pt x="912" y="133"/>
                </a:lnTo>
                <a:lnTo>
                  <a:pt x="895" y="135"/>
                </a:lnTo>
                <a:lnTo>
                  <a:pt x="874" y="137"/>
                </a:lnTo>
                <a:lnTo>
                  <a:pt x="855" y="139"/>
                </a:lnTo>
                <a:lnTo>
                  <a:pt x="832" y="142"/>
                </a:lnTo>
                <a:lnTo>
                  <a:pt x="809" y="144"/>
                </a:lnTo>
                <a:lnTo>
                  <a:pt x="784" y="146"/>
                </a:lnTo>
                <a:lnTo>
                  <a:pt x="759" y="150"/>
                </a:lnTo>
                <a:lnTo>
                  <a:pt x="732" y="152"/>
                </a:lnTo>
                <a:lnTo>
                  <a:pt x="703" y="156"/>
                </a:lnTo>
                <a:lnTo>
                  <a:pt x="674" y="160"/>
                </a:lnTo>
                <a:lnTo>
                  <a:pt x="644" y="162"/>
                </a:lnTo>
                <a:lnTo>
                  <a:pt x="613" y="166"/>
                </a:lnTo>
                <a:lnTo>
                  <a:pt x="580" y="169"/>
                </a:lnTo>
                <a:lnTo>
                  <a:pt x="546" y="173"/>
                </a:lnTo>
                <a:lnTo>
                  <a:pt x="511" y="177"/>
                </a:lnTo>
                <a:lnTo>
                  <a:pt x="475" y="183"/>
                </a:lnTo>
                <a:lnTo>
                  <a:pt x="436" y="187"/>
                </a:lnTo>
                <a:lnTo>
                  <a:pt x="398" y="190"/>
                </a:lnTo>
                <a:lnTo>
                  <a:pt x="359" y="196"/>
                </a:lnTo>
                <a:lnTo>
                  <a:pt x="317" y="200"/>
                </a:lnTo>
                <a:lnTo>
                  <a:pt x="275" y="206"/>
                </a:lnTo>
                <a:lnTo>
                  <a:pt x="233" y="210"/>
                </a:lnTo>
                <a:lnTo>
                  <a:pt x="189" y="215"/>
                </a:lnTo>
                <a:lnTo>
                  <a:pt x="142" y="221"/>
                </a:lnTo>
                <a:lnTo>
                  <a:pt x="96" y="227"/>
                </a:lnTo>
                <a:lnTo>
                  <a:pt x="48" y="233"/>
                </a:lnTo>
                <a:lnTo>
                  <a:pt x="0" y="238"/>
                </a:lnTo>
                <a:lnTo>
                  <a:pt x="0" y="139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Freeform 135"/>
          <p:cNvSpPr/>
          <p:nvPr/>
        </p:nvSpPr>
        <p:spPr>
          <a:xfrm>
            <a:off x="5999040" y="3971880"/>
            <a:ext cx="1371600" cy="398520"/>
          </a:xfrm>
          <a:custGeom>
            <a:avLst/>
            <a:gdLst/>
            <a:ahLst/>
            <a:rect l="l" t="t" r="r" b="b"/>
            <a:pathLst>
              <a:path w="1730" h="501">
                <a:moveTo>
                  <a:pt x="1284" y="175"/>
                </a:moveTo>
                <a:lnTo>
                  <a:pt x="1281" y="175"/>
                </a:lnTo>
                <a:lnTo>
                  <a:pt x="1279" y="175"/>
                </a:lnTo>
                <a:lnTo>
                  <a:pt x="1275" y="175"/>
                </a:lnTo>
                <a:lnTo>
                  <a:pt x="1271" y="176"/>
                </a:lnTo>
                <a:lnTo>
                  <a:pt x="1267" y="176"/>
                </a:lnTo>
                <a:lnTo>
                  <a:pt x="1261" y="176"/>
                </a:lnTo>
                <a:lnTo>
                  <a:pt x="1258" y="176"/>
                </a:lnTo>
                <a:lnTo>
                  <a:pt x="1250" y="176"/>
                </a:lnTo>
                <a:lnTo>
                  <a:pt x="1244" y="178"/>
                </a:lnTo>
                <a:lnTo>
                  <a:pt x="1236" y="178"/>
                </a:lnTo>
                <a:lnTo>
                  <a:pt x="1229" y="178"/>
                </a:lnTo>
                <a:lnTo>
                  <a:pt x="1221" y="180"/>
                </a:lnTo>
                <a:lnTo>
                  <a:pt x="1211" y="180"/>
                </a:lnTo>
                <a:lnTo>
                  <a:pt x="1202" y="182"/>
                </a:lnTo>
                <a:lnTo>
                  <a:pt x="1192" y="182"/>
                </a:lnTo>
                <a:lnTo>
                  <a:pt x="1183" y="184"/>
                </a:lnTo>
                <a:lnTo>
                  <a:pt x="1171" y="186"/>
                </a:lnTo>
                <a:lnTo>
                  <a:pt x="1160" y="186"/>
                </a:lnTo>
                <a:lnTo>
                  <a:pt x="1146" y="188"/>
                </a:lnTo>
                <a:lnTo>
                  <a:pt x="1135" y="190"/>
                </a:lnTo>
                <a:lnTo>
                  <a:pt x="1121" y="190"/>
                </a:lnTo>
                <a:lnTo>
                  <a:pt x="1106" y="192"/>
                </a:lnTo>
                <a:lnTo>
                  <a:pt x="1092" y="194"/>
                </a:lnTo>
                <a:lnTo>
                  <a:pt x="1077" y="196"/>
                </a:lnTo>
                <a:lnTo>
                  <a:pt x="1062" y="198"/>
                </a:lnTo>
                <a:lnTo>
                  <a:pt x="1044" y="200"/>
                </a:lnTo>
                <a:lnTo>
                  <a:pt x="1029" y="200"/>
                </a:lnTo>
                <a:lnTo>
                  <a:pt x="1012" y="201"/>
                </a:lnTo>
                <a:lnTo>
                  <a:pt x="993" y="203"/>
                </a:lnTo>
                <a:lnTo>
                  <a:pt x="975" y="207"/>
                </a:lnTo>
                <a:lnTo>
                  <a:pt x="956" y="209"/>
                </a:lnTo>
                <a:lnTo>
                  <a:pt x="935" y="211"/>
                </a:lnTo>
                <a:lnTo>
                  <a:pt x="916" y="213"/>
                </a:lnTo>
                <a:lnTo>
                  <a:pt x="895" y="215"/>
                </a:lnTo>
                <a:lnTo>
                  <a:pt x="874" y="217"/>
                </a:lnTo>
                <a:lnTo>
                  <a:pt x="851" y="221"/>
                </a:lnTo>
                <a:lnTo>
                  <a:pt x="829" y="223"/>
                </a:lnTo>
                <a:lnTo>
                  <a:pt x="806" y="224"/>
                </a:lnTo>
                <a:lnTo>
                  <a:pt x="781" y="228"/>
                </a:lnTo>
                <a:lnTo>
                  <a:pt x="758" y="230"/>
                </a:lnTo>
                <a:lnTo>
                  <a:pt x="733" y="232"/>
                </a:lnTo>
                <a:lnTo>
                  <a:pt x="708" y="236"/>
                </a:lnTo>
                <a:lnTo>
                  <a:pt x="682" y="238"/>
                </a:lnTo>
                <a:lnTo>
                  <a:pt x="655" y="242"/>
                </a:lnTo>
                <a:lnTo>
                  <a:pt x="628" y="244"/>
                </a:lnTo>
                <a:lnTo>
                  <a:pt x="601" y="247"/>
                </a:lnTo>
                <a:lnTo>
                  <a:pt x="572" y="251"/>
                </a:lnTo>
                <a:lnTo>
                  <a:pt x="543" y="253"/>
                </a:lnTo>
                <a:lnTo>
                  <a:pt x="513" y="257"/>
                </a:lnTo>
                <a:lnTo>
                  <a:pt x="484" y="261"/>
                </a:lnTo>
                <a:lnTo>
                  <a:pt x="453" y="263"/>
                </a:lnTo>
                <a:lnTo>
                  <a:pt x="421" y="267"/>
                </a:lnTo>
                <a:lnTo>
                  <a:pt x="390" y="271"/>
                </a:lnTo>
                <a:lnTo>
                  <a:pt x="357" y="274"/>
                </a:lnTo>
                <a:lnTo>
                  <a:pt x="325" y="278"/>
                </a:lnTo>
                <a:lnTo>
                  <a:pt x="290" y="282"/>
                </a:lnTo>
                <a:lnTo>
                  <a:pt x="255" y="286"/>
                </a:lnTo>
                <a:lnTo>
                  <a:pt x="221" y="290"/>
                </a:lnTo>
                <a:lnTo>
                  <a:pt x="186" y="294"/>
                </a:lnTo>
                <a:lnTo>
                  <a:pt x="150" y="297"/>
                </a:lnTo>
                <a:lnTo>
                  <a:pt x="113" y="301"/>
                </a:lnTo>
                <a:lnTo>
                  <a:pt x="77" y="305"/>
                </a:lnTo>
                <a:lnTo>
                  <a:pt x="39" y="309"/>
                </a:lnTo>
                <a:lnTo>
                  <a:pt x="0" y="313"/>
                </a:lnTo>
                <a:lnTo>
                  <a:pt x="0" y="213"/>
                </a:lnTo>
                <a:lnTo>
                  <a:pt x="29" y="211"/>
                </a:lnTo>
                <a:lnTo>
                  <a:pt x="58" y="207"/>
                </a:lnTo>
                <a:lnTo>
                  <a:pt x="88" y="205"/>
                </a:lnTo>
                <a:lnTo>
                  <a:pt x="119" y="203"/>
                </a:lnTo>
                <a:lnTo>
                  <a:pt x="152" y="200"/>
                </a:lnTo>
                <a:lnTo>
                  <a:pt x="186" y="198"/>
                </a:lnTo>
                <a:lnTo>
                  <a:pt x="221" y="194"/>
                </a:lnTo>
                <a:lnTo>
                  <a:pt x="255" y="190"/>
                </a:lnTo>
                <a:lnTo>
                  <a:pt x="292" y="188"/>
                </a:lnTo>
                <a:lnTo>
                  <a:pt x="330" y="182"/>
                </a:lnTo>
                <a:lnTo>
                  <a:pt x="369" y="178"/>
                </a:lnTo>
                <a:lnTo>
                  <a:pt x="409" y="175"/>
                </a:lnTo>
                <a:lnTo>
                  <a:pt x="451" y="169"/>
                </a:lnTo>
                <a:lnTo>
                  <a:pt x="493" y="163"/>
                </a:lnTo>
                <a:lnTo>
                  <a:pt x="536" y="157"/>
                </a:lnTo>
                <a:lnTo>
                  <a:pt x="582" y="150"/>
                </a:lnTo>
                <a:lnTo>
                  <a:pt x="624" y="146"/>
                </a:lnTo>
                <a:lnTo>
                  <a:pt x="666" y="140"/>
                </a:lnTo>
                <a:lnTo>
                  <a:pt x="707" y="136"/>
                </a:lnTo>
                <a:lnTo>
                  <a:pt x="745" y="130"/>
                </a:lnTo>
                <a:lnTo>
                  <a:pt x="783" y="127"/>
                </a:lnTo>
                <a:lnTo>
                  <a:pt x="822" y="123"/>
                </a:lnTo>
                <a:lnTo>
                  <a:pt x="856" y="117"/>
                </a:lnTo>
                <a:lnTo>
                  <a:pt x="891" y="113"/>
                </a:lnTo>
                <a:lnTo>
                  <a:pt x="925" y="109"/>
                </a:lnTo>
                <a:lnTo>
                  <a:pt x="958" y="105"/>
                </a:lnTo>
                <a:lnTo>
                  <a:pt x="989" y="102"/>
                </a:lnTo>
                <a:lnTo>
                  <a:pt x="1018" y="98"/>
                </a:lnTo>
                <a:lnTo>
                  <a:pt x="1046" y="96"/>
                </a:lnTo>
                <a:lnTo>
                  <a:pt x="1073" y="92"/>
                </a:lnTo>
                <a:lnTo>
                  <a:pt x="1098" y="90"/>
                </a:lnTo>
                <a:lnTo>
                  <a:pt x="1121" y="88"/>
                </a:lnTo>
                <a:lnTo>
                  <a:pt x="1144" y="84"/>
                </a:lnTo>
                <a:lnTo>
                  <a:pt x="1163" y="82"/>
                </a:lnTo>
                <a:lnTo>
                  <a:pt x="1185" y="79"/>
                </a:lnTo>
                <a:lnTo>
                  <a:pt x="1202" y="75"/>
                </a:lnTo>
                <a:lnTo>
                  <a:pt x="1219" y="73"/>
                </a:lnTo>
                <a:lnTo>
                  <a:pt x="1236" y="69"/>
                </a:lnTo>
                <a:lnTo>
                  <a:pt x="1252" y="65"/>
                </a:lnTo>
                <a:lnTo>
                  <a:pt x="1265" y="61"/>
                </a:lnTo>
                <a:lnTo>
                  <a:pt x="1279" y="56"/>
                </a:lnTo>
                <a:lnTo>
                  <a:pt x="1290" y="52"/>
                </a:lnTo>
                <a:lnTo>
                  <a:pt x="1300" y="48"/>
                </a:lnTo>
                <a:lnTo>
                  <a:pt x="1309" y="44"/>
                </a:lnTo>
                <a:lnTo>
                  <a:pt x="1319" y="38"/>
                </a:lnTo>
                <a:lnTo>
                  <a:pt x="1327" y="34"/>
                </a:lnTo>
                <a:lnTo>
                  <a:pt x="1332" y="29"/>
                </a:lnTo>
                <a:lnTo>
                  <a:pt x="1338" y="25"/>
                </a:lnTo>
                <a:lnTo>
                  <a:pt x="1344" y="19"/>
                </a:lnTo>
                <a:lnTo>
                  <a:pt x="1350" y="15"/>
                </a:lnTo>
                <a:lnTo>
                  <a:pt x="1357" y="11"/>
                </a:lnTo>
                <a:lnTo>
                  <a:pt x="1367" y="8"/>
                </a:lnTo>
                <a:lnTo>
                  <a:pt x="1378" y="4"/>
                </a:lnTo>
                <a:lnTo>
                  <a:pt x="1390" y="2"/>
                </a:lnTo>
                <a:lnTo>
                  <a:pt x="1403" y="0"/>
                </a:lnTo>
                <a:lnTo>
                  <a:pt x="1419" y="0"/>
                </a:lnTo>
                <a:lnTo>
                  <a:pt x="1425" y="2"/>
                </a:lnTo>
                <a:lnTo>
                  <a:pt x="1430" y="4"/>
                </a:lnTo>
                <a:lnTo>
                  <a:pt x="1436" y="8"/>
                </a:lnTo>
                <a:lnTo>
                  <a:pt x="1444" y="11"/>
                </a:lnTo>
                <a:lnTo>
                  <a:pt x="1451" y="15"/>
                </a:lnTo>
                <a:lnTo>
                  <a:pt x="1461" y="19"/>
                </a:lnTo>
                <a:lnTo>
                  <a:pt x="1471" y="25"/>
                </a:lnTo>
                <a:lnTo>
                  <a:pt x="1480" y="31"/>
                </a:lnTo>
                <a:lnTo>
                  <a:pt x="1492" y="36"/>
                </a:lnTo>
                <a:lnTo>
                  <a:pt x="1503" y="44"/>
                </a:lnTo>
                <a:lnTo>
                  <a:pt x="1517" y="50"/>
                </a:lnTo>
                <a:lnTo>
                  <a:pt x="1530" y="59"/>
                </a:lnTo>
                <a:lnTo>
                  <a:pt x="1545" y="67"/>
                </a:lnTo>
                <a:lnTo>
                  <a:pt x="1561" y="77"/>
                </a:lnTo>
                <a:lnTo>
                  <a:pt x="1576" y="88"/>
                </a:lnTo>
                <a:lnTo>
                  <a:pt x="1593" y="100"/>
                </a:lnTo>
                <a:lnTo>
                  <a:pt x="1611" y="111"/>
                </a:lnTo>
                <a:lnTo>
                  <a:pt x="1626" y="123"/>
                </a:lnTo>
                <a:lnTo>
                  <a:pt x="1641" y="134"/>
                </a:lnTo>
                <a:lnTo>
                  <a:pt x="1655" y="144"/>
                </a:lnTo>
                <a:lnTo>
                  <a:pt x="1666" y="153"/>
                </a:lnTo>
                <a:lnTo>
                  <a:pt x="1678" y="163"/>
                </a:lnTo>
                <a:lnTo>
                  <a:pt x="1688" y="173"/>
                </a:lnTo>
                <a:lnTo>
                  <a:pt x="1697" y="182"/>
                </a:lnTo>
                <a:lnTo>
                  <a:pt x="1705" y="190"/>
                </a:lnTo>
                <a:lnTo>
                  <a:pt x="1711" y="196"/>
                </a:lnTo>
                <a:lnTo>
                  <a:pt x="1716" y="203"/>
                </a:lnTo>
                <a:lnTo>
                  <a:pt x="1720" y="209"/>
                </a:lnTo>
                <a:lnTo>
                  <a:pt x="1724" y="215"/>
                </a:lnTo>
                <a:lnTo>
                  <a:pt x="1728" y="219"/>
                </a:lnTo>
                <a:lnTo>
                  <a:pt x="1728" y="223"/>
                </a:lnTo>
                <a:lnTo>
                  <a:pt x="1730" y="224"/>
                </a:lnTo>
                <a:lnTo>
                  <a:pt x="1728" y="228"/>
                </a:lnTo>
                <a:lnTo>
                  <a:pt x="1728" y="230"/>
                </a:lnTo>
                <a:lnTo>
                  <a:pt x="1726" y="232"/>
                </a:lnTo>
                <a:lnTo>
                  <a:pt x="1724" y="234"/>
                </a:lnTo>
                <a:lnTo>
                  <a:pt x="1722" y="236"/>
                </a:lnTo>
                <a:lnTo>
                  <a:pt x="1718" y="240"/>
                </a:lnTo>
                <a:lnTo>
                  <a:pt x="1714" y="242"/>
                </a:lnTo>
                <a:lnTo>
                  <a:pt x="1711" y="244"/>
                </a:lnTo>
                <a:lnTo>
                  <a:pt x="1701" y="249"/>
                </a:lnTo>
                <a:lnTo>
                  <a:pt x="1689" y="253"/>
                </a:lnTo>
                <a:lnTo>
                  <a:pt x="1676" y="259"/>
                </a:lnTo>
                <a:lnTo>
                  <a:pt x="1663" y="263"/>
                </a:lnTo>
                <a:lnTo>
                  <a:pt x="1653" y="267"/>
                </a:lnTo>
                <a:lnTo>
                  <a:pt x="1643" y="271"/>
                </a:lnTo>
                <a:lnTo>
                  <a:pt x="1634" y="278"/>
                </a:lnTo>
                <a:lnTo>
                  <a:pt x="1620" y="286"/>
                </a:lnTo>
                <a:lnTo>
                  <a:pt x="1609" y="295"/>
                </a:lnTo>
                <a:lnTo>
                  <a:pt x="1593" y="307"/>
                </a:lnTo>
                <a:lnTo>
                  <a:pt x="1580" y="320"/>
                </a:lnTo>
                <a:lnTo>
                  <a:pt x="1563" y="334"/>
                </a:lnTo>
                <a:lnTo>
                  <a:pt x="1545" y="351"/>
                </a:lnTo>
                <a:lnTo>
                  <a:pt x="1528" y="368"/>
                </a:lnTo>
                <a:lnTo>
                  <a:pt x="1509" y="388"/>
                </a:lnTo>
                <a:lnTo>
                  <a:pt x="1490" y="407"/>
                </a:lnTo>
                <a:lnTo>
                  <a:pt x="1471" y="428"/>
                </a:lnTo>
                <a:lnTo>
                  <a:pt x="1450" y="451"/>
                </a:lnTo>
                <a:lnTo>
                  <a:pt x="1426" y="476"/>
                </a:lnTo>
                <a:lnTo>
                  <a:pt x="1405" y="501"/>
                </a:lnTo>
                <a:lnTo>
                  <a:pt x="1258" y="501"/>
                </a:lnTo>
                <a:lnTo>
                  <a:pt x="1263" y="484"/>
                </a:lnTo>
                <a:lnTo>
                  <a:pt x="1269" y="464"/>
                </a:lnTo>
                <a:lnTo>
                  <a:pt x="1275" y="447"/>
                </a:lnTo>
                <a:lnTo>
                  <a:pt x="1281" y="430"/>
                </a:lnTo>
                <a:lnTo>
                  <a:pt x="1286" y="414"/>
                </a:lnTo>
                <a:lnTo>
                  <a:pt x="1290" y="397"/>
                </a:lnTo>
                <a:lnTo>
                  <a:pt x="1296" y="382"/>
                </a:lnTo>
                <a:lnTo>
                  <a:pt x="1302" y="366"/>
                </a:lnTo>
                <a:lnTo>
                  <a:pt x="1306" y="353"/>
                </a:lnTo>
                <a:lnTo>
                  <a:pt x="1311" y="340"/>
                </a:lnTo>
                <a:lnTo>
                  <a:pt x="1315" y="326"/>
                </a:lnTo>
                <a:lnTo>
                  <a:pt x="1319" y="313"/>
                </a:lnTo>
                <a:lnTo>
                  <a:pt x="1323" y="301"/>
                </a:lnTo>
                <a:lnTo>
                  <a:pt x="1327" y="290"/>
                </a:lnTo>
                <a:lnTo>
                  <a:pt x="1330" y="278"/>
                </a:lnTo>
                <a:lnTo>
                  <a:pt x="1334" y="267"/>
                </a:lnTo>
                <a:lnTo>
                  <a:pt x="1336" y="257"/>
                </a:lnTo>
                <a:lnTo>
                  <a:pt x="1340" y="247"/>
                </a:lnTo>
                <a:lnTo>
                  <a:pt x="1342" y="240"/>
                </a:lnTo>
                <a:lnTo>
                  <a:pt x="1344" y="230"/>
                </a:lnTo>
                <a:lnTo>
                  <a:pt x="1346" y="223"/>
                </a:lnTo>
                <a:lnTo>
                  <a:pt x="1348" y="215"/>
                </a:lnTo>
                <a:lnTo>
                  <a:pt x="1350" y="209"/>
                </a:lnTo>
                <a:lnTo>
                  <a:pt x="1352" y="203"/>
                </a:lnTo>
                <a:lnTo>
                  <a:pt x="1352" y="198"/>
                </a:lnTo>
                <a:lnTo>
                  <a:pt x="1354" y="192"/>
                </a:lnTo>
                <a:lnTo>
                  <a:pt x="1354" y="188"/>
                </a:lnTo>
                <a:lnTo>
                  <a:pt x="1354" y="184"/>
                </a:lnTo>
                <a:lnTo>
                  <a:pt x="1354" y="180"/>
                </a:lnTo>
                <a:lnTo>
                  <a:pt x="1354" y="178"/>
                </a:lnTo>
                <a:lnTo>
                  <a:pt x="1352" y="176"/>
                </a:lnTo>
                <a:lnTo>
                  <a:pt x="1352" y="175"/>
                </a:lnTo>
                <a:lnTo>
                  <a:pt x="1346" y="171"/>
                </a:lnTo>
                <a:lnTo>
                  <a:pt x="1340" y="167"/>
                </a:lnTo>
                <a:lnTo>
                  <a:pt x="1334" y="167"/>
                </a:lnTo>
                <a:lnTo>
                  <a:pt x="1327" y="165"/>
                </a:lnTo>
                <a:lnTo>
                  <a:pt x="1319" y="167"/>
                </a:lnTo>
                <a:lnTo>
                  <a:pt x="1309" y="167"/>
                </a:lnTo>
                <a:lnTo>
                  <a:pt x="1304" y="169"/>
                </a:lnTo>
                <a:lnTo>
                  <a:pt x="1298" y="171"/>
                </a:lnTo>
                <a:lnTo>
                  <a:pt x="1290" y="173"/>
                </a:lnTo>
                <a:lnTo>
                  <a:pt x="1284" y="175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Freeform 136"/>
          <p:cNvSpPr/>
          <p:nvPr/>
        </p:nvSpPr>
        <p:spPr>
          <a:xfrm>
            <a:off x="5907240" y="4118040"/>
            <a:ext cx="255600" cy="461880"/>
          </a:xfrm>
          <a:custGeom>
            <a:avLst/>
            <a:gdLst/>
            <a:ahLst/>
            <a:rect l="l" t="t" r="r" b="b"/>
            <a:pathLst>
              <a:path w="322" h="584">
                <a:moveTo>
                  <a:pt x="238" y="31"/>
                </a:moveTo>
                <a:lnTo>
                  <a:pt x="244" y="64"/>
                </a:lnTo>
                <a:lnTo>
                  <a:pt x="251" y="96"/>
                </a:lnTo>
                <a:lnTo>
                  <a:pt x="257" y="129"/>
                </a:lnTo>
                <a:lnTo>
                  <a:pt x="265" y="160"/>
                </a:lnTo>
                <a:lnTo>
                  <a:pt x="271" y="188"/>
                </a:lnTo>
                <a:lnTo>
                  <a:pt x="276" y="217"/>
                </a:lnTo>
                <a:lnTo>
                  <a:pt x="282" y="244"/>
                </a:lnTo>
                <a:lnTo>
                  <a:pt x="286" y="271"/>
                </a:lnTo>
                <a:lnTo>
                  <a:pt x="292" y="296"/>
                </a:lnTo>
                <a:lnTo>
                  <a:pt x="296" y="321"/>
                </a:lnTo>
                <a:lnTo>
                  <a:pt x="299" y="344"/>
                </a:lnTo>
                <a:lnTo>
                  <a:pt x="303" y="365"/>
                </a:lnTo>
                <a:lnTo>
                  <a:pt x="307" y="386"/>
                </a:lnTo>
                <a:lnTo>
                  <a:pt x="311" y="407"/>
                </a:lnTo>
                <a:lnTo>
                  <a:pt x="313" y="426"/>
                </a:lnTo>
                <a:lnTo>
                  <a:pt x="317" y="444"/>
                </a:lnTo>
                <a:lnTo>
                  <a:pt x="319" y="461"/>
                </a:lnTo>
                <a:lnTo>
                  <a:pt x="321" y="476"/>
                </a:lnTo>
                <a:lnTo>
                  <a:pt x="321" y="492"/>
                </a:lnTo>
                <a:lnTo>
                  <a:pt x="322" y="505"/>
                </a:lnTo>
                <a:lnTo>
                  <a:pt x="322" y="517"/>
                </a:lnTo>
                <a:lnTo>
                  <a:pt x="322" y="528"/>
                </a:lnTo>
                <a:lnTo>
                  <a:pt x="322" y="540"/>
                </a:lnTo>
                <a:lnTo>
                  <a:pt x="322" y="547"/>
                </a:lnTo>
                <a:lnTo>
                  <a:pt x="322" y="557"/>
                </a:lnTo>
                <a:lnTo>
                  <a:pt x="321" y="563"/>
                </a:lnTo>
                <a:lnTo>
                  <a:pt x="319" y="570"/>
                </a:lnTo>
                <a:lnTo>
                  <a:pt x="317" y="574"/>
                </a:lnTo>
                <a:lnTo>
                  <a:pt x="315" y="578"/>
                </a:lnTo>
                <a:lnTo>
                  <a:pt x="311" y="582"/>
                </a:lnTo>
                <a:lnTo>
                  <a:pt x="309" y="582"/>
                </a:lnTo>
                <a:lnTo>
                  <a:pt x="305" y="584"/>
                </a:lnTo>
                <a:lnTo>
                  <a:pt x="297" y="582"/>
                </a:lnTo>
                <a:lnTo>
                  <a:pt x="290" y="582"/>
                </a:lnTo>
                <a:lnTo>
                  <a:pt x="282" y="578"/>
                </a:lnTo>
                <a:lnTo>
                  <a:pt x="274" y="574"/>
                </a:lnTo>
                <a:lnTo>
                  <a:pt x="267" y="568"/>
                </a:lnTo>
                <a:lnTo>
                  <a:pt x="259" y="563"/>
                </a:lnTo>
                <a:lnTo>
                  <a:pt x="253" y="555"/>
                </a:lnTo>
                <a:lnTo>
                  <a:pt x="246" y="547"/>
                </a:lnTo>
                <a:lnTo>
                  <a:pt x="238" y="538"/>
                </a:lnTo>
                <a:lnTo>
                  <a:pt x="232" y="528"/>
                </a:lnTo>
                <a:lnTo>
                  <a:pt x="225" y="517"/>
                </a:lnTo>
                <a:lnTo>
                  <a:pt x="219" y="503"/>
                </a:lnTo>
                <a:lnTo>
                  <a:pt x="213" y="490"/>
                </a:lnTo>
                <a:lnTo>
                  <a:pt x="207" y="476"/>
                </a:lnTo>
                <a:lnTo>
                  <a:pt x="201" y="461"/>
                </a:lnTo>
                <a:lnTo>
                  <a:pt x="198" y="446"/>
                </a:lnTo>
                <a:lnTo>
                  <a:pt x="192" y="428"/>
                </a:lnTo>
                <a:lnTo>
                  <a:pt x="186" y="413"/>
                </a:lnTo>
                <a:lnTo>
                  <a:pt x="182" y="398"/>
                </a:lnTo>
                <a:lnTo>
                  <a:pt x="177" y="384"/>
                </a:lnTo>
                <a:lnTo>
                  <a:pt x="167" y="355"/>
                </a:lnTo>
                <a:lnTo>
                  <a:pt x="157" y="328"/>
                </a:lnTo>
                <a:lnTo>
                  <a:pt x="150" y="304"/>
                </a:lnTo>
                <a:lnTo>
                  <a:pt x="142" y="279"/>
                </a:lnTo>
                <a:lnTo>
                  <a:pt x="134" y="256"/>
                </a:lnTo>
                <a:lnTo>
                  <a:pt x="129" y="232"/>
                </a:lnTo>
                <a:lnTo>
                  <a:pt x="125" y="221"/>
                </a:lnTo>
                <a:lnTo>
                  <a:pt x="119" y="209"/>
                </a:lnTo>
                <a:lnTo>
                  <a:pt x="113" y="198"/>
                </a:lnTo>
                <a:lnTo>
                  <a:pt x="109" y="188"/>
                </a:lnTo>
                <a:lnTo>
                  <a:pt x="98" y="171"/>
                </a:lnTo>
                <a:lnTo>
                  <a:pt x="86" y="154"/>
                </a:lnTo>
                <a:lnTo>
                  <a:pt x="75" y="137"/>
                </a:lnTo>
                <a:lnTo>
                  <a:pt x="63" y="123"/>
                </a:lnTo>
                <a:lnTo>
                  <a:pt x="50" y="108"/>
                </a:lnTo>
                <a:lnTo>
                  <a:pt x="34" y="94"/>
                </a:lnTo>
                <a:lnTo>
                  <a:pt x="27" y="89"/>
                </a:lnTo>
                <a:lnTo>
                  <a:pt x="21" y="85"/>
                </a:lnTo>
                <a:lnTo>
                  <a:pt x="15" y="79"/>
                </a:lnTo>
                <a:lnTo>
                  <a:pt x="11" y="75"/>
                </a:lnTo>
                <a:lnTo>
                  <a:pt x="8" y="69"/>
                </a:lnTo>
                <a:lnTo>
                  <a:pt x="6" y="65"/>
                </a:lnTo>
                <a:lnTo>
                  <a:pt x="2" y="60"/>
                </a:lnTo>
                <a:lnTo>
                  <a:pt x="2" y="56"/>
                </a:lnTo>
                <a:lnTo>
                  <a:pt x="0" y="50"/>
                </a:lnTo>
                <a:lnTo>
                  <a:pt x="0" y="46"/>
                </a:lnTo>
                <a:lnTo>
                  <a:pt x="0" y="42"/>
                </a:lnTo>
                <a:lnTo>
                  <a:pt x="0" y="37"/>
                </a:lnTo>
                <a:lnTo>
                  <a:pt x="4" y="27"/>
                </a:lnTo>
                <a:lnTo>
                  <a:pt x="8" y="18"/>
                </a:lnTo>
                <a:lnTo>
                  <a:pt x="11" y="14"/>
                </a:lnTo>
                <a:lnTo>
                  <a:pt x="15" y="10"/>
                </a:lnTo>
                <a:lnTo>
                  <a:pt x="23" y="6"/>
                </a:lnTo>
                <a:lnTo>
                  <a:pt x="31" y="4"/>
                </a:lnTo>
                <a:lnTo>
                  <a:pt x="40" y="2"/>
                </a:lnTo>
                <a:lnTo>
                  <a:pt x="50" y="0"/>
                </a:lnTo>
                <a:lnTo>
                  <a:pt x="63" y="0"/>
                </a:lnTo>
                <a:lnTo>
                  <a:pt x="77" y="0"/>
                </a:lnTo>
                <a:lnTo>
                  <a:pt x="92" y="2"/>
                </a:lnTo>
                <a:lnTo>
                  <a:pt x="109" y="2"/>
                </a:lnTo>
                <a:lnTo>
                  <a:pt x="127" y="6"/>
                </a:lnTo>
                <a:lnTo>
                  <a:pt x="146" y="8"/>
                </a:lnTo>
                <a:lnTo>
                  <a:pt x="167" y="14"/>
                </a:lnTo>
                <a:lnTo>
                  <a:pt x="190" y="18"/>
                </a:lnTo>
                <a:lnTo>
                  <a:pt x="213" y="23"/>
                </a:lnTo>
                <a:lnTo>
                  <a:pt x="238" y="3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Freeform 137"/>
          <p:cNvSpPr/>
          <p:nvPr/>
        </p:nvSpPr>
        <p:spPr>
          <a:xfrm>
            <a:off x="5742000" y="3463920"/>
            <a:ext cx="282600" cy="507960"/>
          </a:xfrm>
          <a:custGeom>
            <a:avLst/>
            <a:gdLst/>
            <a:ahLst/>
            <a:rect l="l" t="t" r="r" b="b"/>
            <a:pathLst>
              <a:path w="355" h="641">
                <a:moveTo>
                  <a:pt x="188" y="553"/>
                </a:moveTo>
                <a:lnTo>
                  <a:pt x="178" y="564"/>
                </a:lnTo>
                <a:lnTo>
                  <a:pt x="169" y="574"/>
                </a:lnTo>
                <a:lnTo>
                  <a:pt x="159" y="583"/>
                </a:lnTo>
                <a:lnTo>
                  <a:pt x="151" y="593"/>
                </a:lnTo>
                <a:lnTo>
                  <a:pt x="142" y="601"/>
                </a:lnTo>
                <a:lnTo>
                  <a:pt x="134" y="608"/>
                </a:lnTo>
                <a:lnTo>
                  <a:pt x="126" y="614"/>
                </a:lnTo>
                <a:lnTo>
                  <a:pt x="119" y="620"/>
                </a:lnTo>
                <a:lnTo>
                  <a:pt x="113" y="626"/>
                </a:lnTo>
                <a:lnTo>
                  <a:pt x="105" y="629"/>
                </a:lnTo>
                <a:lnTo>
                  <a:pt x="99" y="633"/>
                </a:lnTo>
                <a:lnTo>
                  <a:pt x="96" y="635"/>
                </a:lnTo>
                <a:lnTo>
                  <a:pt x="90" y="637"/>
                </a:lnTo>
                <a:lnTo>
                  <a:pt x="86" y="639"/>
                </a:lnTo>
                <a:lnTo>
                  <a:pt x="82" y="639"/>
                </a:lnTo>
                <a:lnTo>
                  <a:pt x="80" y="641"/>
                </a:lnTo>
                <a:lnTo>
                  <a:pt x="74" y="639"/>
                </a:lnTo>
                <a:lnTo>
                  <a:pt x="71" y="639"/>
                </a:lnTo>
                <a:lnTo>
                  <a:pt x="65" y="637"/>
                </a:lnTo>
                <a:lnTo>
                  <a:pt x="61" y="635"/>
                </a:lnTo>
                <a:lnTo>
                  <a:pt x="57" y="633"/>
                </a:lnTo>
                <a:lnTo>
                  <a:pt x="53" y="629"/>
                </a:lnTo>
                <a:lnTo>
                  <a:pt x="51" y="626"/>
                </a:lnTo>
                <a:lnTo>
                  <a:pt x="48" y="622"/>
                </a:lnTo>
                <a:lnTo>
                  <a:pt x="44" y="616"/>
                </a:lnTo>
                <a:lnTo>
                  <a:pt x="42" y="610"/>
                </a:lnTo>
                <a:lnTo>
                  <a:pt x="38" y="604"/>
                </a:lnTo>
                <a:lnTo>
                  <a:pt x="36" y="597"/>
                </a:lnTo>
                <a:lnTo>
                  <a:pt x="34" y="591"/>
                </a:lnTo>
                <a:lnTo>
                  <a:pt x="30" y="581"/>
                </a:lnTo>
                <a:lnTo>
                  <a:pt x="28" y="574"/>
                </a:lnTo>
                <a:lnTo>
                  <a:pt x="26" y="564"/>
                </a:lnTo>
                <a:lnTo>
                  <a:pt x="15" y="537"/>
                </a:lnTo>
                <a:lnTo>
                  <a:pt x="11" y="524"/>
                </a:lnTo>
                <a:lnTo>
                  <a:pt x="7" y="510"/>
                </a:lnTo>
                <a:lnTo>
                  <a:pt x="3" y="497"/>
                </a:lnTo>
                <a:lnTo>
                  <a:pt x="2" y="485"/>
                </a:lnTo>
                <a:lnTo>
                  <a:pt x="0" y="474"/>
                </a:lnTo>
                <a:lnTo>
                  <a:pt x="0" y="464"/>
                </a:lnTo>
                <a:lnTo>
                  <a:pt x="0" y="462"/>
                </a:lnTo>
                <a:lnTo>
                  <a:pt x="0" y="459"/>
                </a:lnTo>
                <a:lnTo>
                  <a:pt x="2" y="455"/>
                </a:lnTo>
                <a:lnTo>
                  <a:pt x="3" y="451"/>
                </a:lnTo>
                <a:lnTo>
                  <a:pt x="7" y="445"/>
                </a:lnTo>
                <a:lnTo>
                  <a:pt x="11" y="439"/>
                </a:lnTo>
                <a:lnTo>
                  <a:pt x="15" y="434"/>
                </a:lnTo>
                <a:lnTo>
                  <a:pt x="21" y="426"/>
                </a:lnTo>
                <a:lnTo>
                  <a:pt x="26" y="420"/>
                </a:lnTo>
                <a:lnTo>
                  <a:pt x="34" y="411"/>
                </a:lnTo>
                <a:lnTo>
                  <a:pt x="42" y="403"/>
                </a:lnTo>
                <a:lnTo>
                  <a:pt x="50" y="393"/>
                </a:lnTo>
                <a:lnTo>
                  <a:pt x="59" y="384"/>
                </a:lnTo>
                <a:lnTo>
                  <a:pt x="71" y="374"/>
                </a:lnTo>
                <a:lnTo>
                  <a:pt x="80" y="363"/>
                </a:lnTo>
                <a:lnTo>
                  <a:pt x="94" y="351"/>
                </a:lnTo>
                <a:lnTo>
                  <a:pt x="103" y="340"/>
                </a:lnTo>
                <a:lnTo>
                  <a:pt x="115" y="324"/>
                </a:lnTo>
                <a:lnTo>
                  <a:pt x="124" y="311"/>
                </a:lnTo>
                <a:lnTo>
                  <a:pt x="136" y="293"/>
                </a:lnTo>
                <a:lnTo>
                  <a:pt x="147" y="276"/>
                </a:lnTo>
                <a:lnTo>
                  <a:pt x="159" y="259"/>
                </a:lnTo>
                <a:lnTo>
                  <a:pt x="170" y="238"/>
                </a:lnTo>
                <a:lnTo>
                  <a:pt x="182" y="219"/>
                </a:lnTo>
                <a:lnTo>
                  <a:pt x="195" y="196"/>
                </a:lnTo>
                <a:lnTo>
                  <a:pt x="207" y="171"/>
                </a:lnTo>
                <a:lnTo>
                  <a:pt x="220" y="146"/>
                </a:lnTo>
                <a:lnTo>
                  <a:pt x="232" y="121"/>
                </a:lnTo>
                <a:lnTo>
                  <a:pt x="245" y="92"/>
                </a:lnTo>
                <a:lnTo>
                  <a:pt x="257" y="63"/>
                </a:lnTo>
                <a:lnTo>
                  <a:pt x="270" y="32"/>
                </a:lnTo>
                <a:lnTo>
                  <a:pt x="282" y="0"/>
                </a:lnTo>
                <a:lnTo>
                  <a:pt x="289" y="2"/>
                </a:lnTo>
                <a:lnTo>
                  <a:pt x="297" y="6"/>
                </a:lnTo>
                <a:lnTo>
                  <a:pt x="303" y="11"/>
                </a:lnTo>
                <a:lnTo>
                  <a:pt x="309" y="15"/>
                </a:lnTo>
                <a:lnTo>
                  <a:pt x="313" y="21"/>
                </a:lnTo>
                <a:lnTo>
                  <a:pt x="318" y="29"/>
                </a:lnTo>
                <a:lnTo>
                  <a:pt x="322" y="36"/>
                </a:lnTo>
                <a:lnTo>
                  <a:pt x="326" y="44"/>
                </a:lnTo>
                <a:lnTo>
                  <a:pt x="330" y="52"/>
                </a:lnTo>
                <a:lnTo>
                  <a:pt x="334" y="61"/>
                </a:lnTo>
                <a:lnTo>
                  <a:pt x="336" y="71"/>
                </a:lnTo>
                <a:lnTo>
                  <a:pt x="339" y="80"/>
                </a:lnTo>
                <a:lnTo>
                  <a:pt x="345" y="102"/>
                </a:lnTo>
                <a:lnTo>
                  <a:pt x="349" y="125"/>
                </a:lnTo>
                <a:lnTo>
                  <a:pt x="351" y="140"/>
                </a:lnTo>
                <a:lnTo>
                  <a:pt x="353" y="153"/>
                </a:lnTo>
                <a:lnTo>
                  <a:pt x="355" y="167"/>
                </a:lnTo>
                <a:lnTo>
                  <a:pt x="355" y="182"/>
                </a:lnTo>
                <a:lnTo>
                  <a:pt x="355" y="196"/>
                </a:lnTo>
                <a:lnTo>
                  <a:pt x="355" y="209"/>
                </a:lnTo>
                <a:lnTo>
                  <a:pt x="353" y="224"/>
                </a:lnTo>
                <a:lnTo>
                  <a:pt x="351" y="238"/>
                </a:lnTo>
                <a:lnTo>
                  <a:pt x="347" y="267"/>
                </a:lnTo>
                <a:lnTo>
                  <a:pt x="339" y="295"/>
                </a:lnTo>
                <a:lnTo>
                  <a:pt x="332" y="322"/>
                </a:lnTo>
                <a:lnTo>
                  <a:pt x="322" y="351"/>
                </a:lnTo>
                <a:lnTo>
                  <a:pt x="313" y="380"/>
                </a:lnTo>
                <a:lnTo>
                  <a:pt x="299" y="405"/>
                </a:lnTo>
                <a:lnTo>
                  <a:pt x="286" y="432"/>
                </a:lnTo>
                <a:lnTo>
                  <a:pt x="270" y="457"/>
                </a:lnTo>
                <a:lnTo>
                  <a:pt x="263" y="468"/>
                </a:lnTo>
                <a:lnTo>
                  <a:pt x="253" y="482"/>
                </a:lnTo>
                <a:lnTo>
                  <a:pt x="243" y="493"/>
                </a:lnTo>
                <a:lnTo>
                  <a:pt x="234" y="505"/>
                </a:lnTo>
                <a:lnTo>
                  <a:pt x="222" y="516"/>
                </a:lnTo>
                <a:lnTo>
                  <a:pt x="211" y="528"/>
                </a:lnTo>
                <a:lnTo>
                  <a:pt x="199" y="541"/>
                </a:lnTo>
                <a:lnTo>
                  <a:pt x="188" y="55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Freeform 138"/>
          <p:cNvSpPr/>
          <p:nvPr/>
        </p:nvSpPr>
        <p:spPr>
          <a:xfrm>
            <a:off x="7113600" y="3463920"/>
            <a:ext cx="428760" cy="368280"/>
          </a:xfrm>
          <a:custGeom>
            <a:avLst/>
            <a:gdLst/>
            <a:ahLst/>
            <a:rect l="l" t="t" r="r" b="b"/>
            <a:pathLst>
              <a:path w="540" h="464">
                <a:moveTo>
                  <a:pt x="215" y="38"/>
                </a:moveTo>
                <a:lnTo>
                  <a:pt x="229" y="40"/>
                </a:lnTo>
                <a:lnTo>
                  <a:pt x="242" y="44"/>
                </a:lnTo>
                <a:lnTo>
                  <a:pt x="256" y="48"/>
                </a:lnTo>
                <a:lnTo>
                  <a:pt x="269" y="52"/>
                </a:lnTo>
                <a:lnTo>
                  <a:pt x="283" y="55"/>
                </a:lnTo>
                <a:lnTo>
                  <a:pt x="296" y="61"/>
                </a:lnTo>
                <a:lnTo>
                  <a:pt x="309" y="67"/>
                </a:lnTo>
                <a:lnTo>
                  <a:pt x="325" y="75"/>
                </a:lnTo>
                <a:lnTo>
                  <a:pt x="338" y="82"/>
                </a:lnTo>
                <a:lnTo>
                  <a:pt x="352" y="90"/>
                </a:lnTo>
                <a:lnTo>
                  <a:pt x="365" y="98"/>
                </a:lnTo>
                <a:lnTo>
                  <a:pt x="380" y="107"/>
                </a:lnTo>
                <a:lnTo>
                  <a:pt x="394" y="117"/>
                </a:lnTo>
                <a:lnTo>
                  <a:pt x="407" y="128"/>
                </a:lnTo>
                <a:lnTo>
                  <a:pt x="419" y="138"/>
                </a:lnTo>
                <a:lnTo>
                  <a:pt x="432" y="150"/>
                </a:lnTo>
                <a:lnTo>
                  <a:pt x="444" y="161"/>
                </a:lnTo>
                <a:lnTo>
                  <a:pt x="455" y="174"/>
                </a:lnTo>
                <a:lnTo>
                  <a:pt x="467" y="186"/>
                </a:lnTo>
                <a:lnTo>
                  <a:pt x="476" y="198"/>
                </a:lnTo>
                <a:lnTo>
                  <a:pt x="486" y="209"/>
                </a:lnTo>
                <a:lnTo>
                  <a:pt x="496" y="222"/>
                </a:lnTo>
                <a:lnTo>
                  <a:pt x="503" y="234"/>
                </a:lnTo>
                <a:lnTo>
                  <a:pt x="511" y="245"/>
                </a:lnTo>
                <a:lnTo>
                  <a:pt x="519" y="259"/>
                </a:lnTo>
                <a:lnTo>
                  <a:pt x="524" y="270"/>
                </a:lnTo>
                <a:lnTo>
                  <a:pt x="528" y="284"/>
                </a:lnTo>
                <a:lnTo>
                  <a:pt x="532" y="297"/>
                </a:lnTo>
                <a:lnTo>
                  <a:pt x="536" y="311"/>
                </a:lnTo>
                <a:lnTo>
                  <a:pt x="538" y="324"/>
                </a:lnTo>
                <a:lnTo>
                  <a:pt x="540" y="338"/>
                </a:lnTo>
                <a:lnTo>
                  <a:pt x="540" y="351"/>
                </a:lnTo>
                <a:lnTo>
                  <a:pt x="540" y="364"/>
                </a:lnTo>
                <a:lnTo>
                  <a:pt x="540" y="378"/>
                </a:lnTo>
                <a:lnTo>
                  <a:pt x="540" y="389"/>
                </a:lnTo>
                <a:lnTo>
                  <a:pt x="538" y="401"/>
                </a:lnTo>
                <a:lnTo>
                  <a:pt x="536" y="411"/>
                </a:lnTo>
                <a:lnTo>
                  <a:pt x="536" y="420"/>
                </a:lnTo>
                <a:lnTo>
                  <a:pt x="534" y="428"/>
                </a:lnTo>
                <a:lnTo>
                  <a:pt x="532" y="436"/>
                </a:lnTo>
                <a:lnTo>
                  <a:pt x="530" y="443"/>
                </a:lnTo>
                <a:lnTo>
                  <a:pt x="528" y="449"/>
                </a:lnTo>
                <a:lnTo>
                  <a:pt x="524" y="453"/>
                </a:lnTo>
                <a:lnTo>
                  <a:pt x="523" y="457"/>
                </a:lnTo>
                <a:lnTo>
                  <a:pt x="521" y="460"/>
                </a:lnTo>
                <a:lnTo>
                  <a:pt x="519" y="462"/>
                </a:lnTo>
                <a:lnTo>
                  <a:pt x="515" y="464"/>
                </a:lnTo>
                <a:lnTo>
                  <a:pt x="513" y="464"/>
                </a:lnTo>
                <a:lnTo>
                  <a:pt x="507" y="464"/>
                </a:lnTo>
                <a:lnTo>
                  <a:pt x="499" y="462"/>
                </a:lnTo>
                <a:lnTo>
                  <a:pt x="490" y="459"/>
                </a:lnTo>
                <a:lnTo>
                  <a:pt x="480" y="453"/>
                </a:lnTo>
                <a:lnTo>
                  <a:pt x="469" y="445"/>
                </a:lnTo>
                <a:lnTo>
                  <a:pt x="455" y="437"/>
                </a:lnTo>
                <a:lnTo>
                  <a:pt x="440" y="428"/>
                </a:lnTo>
                <a:lnTo>
                  <a:pt x="423" y="416"/>
                </a:lnTo>
                <a:lnTo>
                  <a:pt x="405" y="403"/>
                </a:lnTo>
                <a:lnTo>
                  <a:pt x="386" y="388"/>
                </a:lnTo>
                <a:lnTo>
                  <a:pt x="365" y="372"/>
                </a:lnTo>
                <a:lnTo>
                  <a:pt x="344" y="353"/>
                </a:lnTo>
                <a:lnTo>
                  <a:pt x="321" y="334"/>
                </a:lnTo>
                <a:lnTo>
                  <a:pt x="296" y="313"/>
                </a:lnTo>
                <a:lnTo>
                  <a:pt x="271" y="288"/>
                </a:lnTo>
                <a:lnTo>
                  <a:pt x="244" y="263"/>
                </a:lnTo>
                <a:lnTo>
                  <a:pt x="213" y="238"/>
                </a:lnTo>
                <a:lnTo>
                  <a:pt x="187" y="213"/>
                </a:lnTo>
                <a:lnTo>
                  <a:pt x="162" y="190"/>
                </a:lnTo>
                <a:lnTo>
                  <a:pt x="137" y="169"/>
                </a:lnTo>
                <a:lnTo>
                  <a:pt x="116" y="148"/>
                </a:lnTo>
                <a:lnTo>
                  <a:pt x="96" y="128"/>
                </a:lnTo>
                <a:lnTo>
                  <a:pt x="77" y="111"/>
                </a:lnTo>
                <a:lnTo>
                  <a:pt x="62" y="94"/>
                </a:lnTo>
                <a:lnTo>
                  <a:pt x="46" y="77"/>
                </a:lnTo>
                <a:lnTo>
                  <a:pt x="35" y="63"/>
                </a:lnTo>
                <a:lnTo>
                  <a:pt x="23" y="50"/>
                </a:lnTo>
                <a:lnTo>
                  <a:pt x="16" y="36"/>
                </a:lnTo>
                <a:lnTo>
                  <a:pt x="8" y="27"/>
                </a:lnTo>
                <a:lnTo>
                  <a:pt x="6" y="21"/>
                </a:lnTo>
                <a:lnTo>
                  <a:pt x="4" y="15"/>
                </a:lnTo>
                <a:lnTo>
                  <a:pt x="2" y="11"/>
                </a:lnTo>
                <a:lnTo>
                  <a:pt x="0" y="7"/>
                </a:lnTo>
                <a:lnTo>
                  <a:pt x="0" y="4"/>
                </a:lnTo>
                <a:lnTo>
                  <a:pt x="0" y="0"/>
                </a:lnTo>
                <a:lnTo>
                  <a:pt x="25" y="0"/>
                </a:lnTo>
                <a:lnTo>
                  <a:pt x="52" y="2"/>
                </a:lnTo>
                <a:lnTo>
                  <a:pt x="81" y="4"/>
                </a:lnTo>
                <a:lnTo>
                  <a:pt x="108" y="9"/>
                </a:lnTo>
                <a:lnTo>
                  <a:pt x="137" y="13"/>
                </a:lnTo>
                <a:lnTo>
                  <a:pt x="164" y="21"/>
                </a:lnTo>
                <a:lnTo>
                  <a:pt x="190" y="29"/>
                </a:lnTo>
                <a:lnTo>
                  <a:pt x="215" y="38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Freeform 139"/>
          <p:cNvSpPr/>
          <p:nvPr/>
        </p:nvSpPr>
        <p:spPr>
          <a:xfrm>
            <a:off x="6750000" y="3205080"/>
            <a:ext cx="138240" cy="666720"/>
          </a:xfrm>
          <a:custGeom>
            <a:avLst/>
            <a:gdLst/>
            <a:ahLst/>
            <a:rect l="l" t="t" r="r" b="b"/>
            <a:pathLst>
              <a:path w="174" h="840">
                <a:moveTo>
                  <a:pt x="161" y="163"/>
                </a:moveTo>
                <a:lnTo>
                  <a:pt x="163" y="170"/>
                </a:lnTo>
                <a:lnTo>
                  <a:pt x="165" y="180"/>
                </a:lnTo>
                <a:lnTo>
                  <a:pt x="167" y="190"/>
                </a:lnTo>
                <a:lnTo>
                  <a:pt x="168" y="201"/>
                </a:lnTo>
                <a:lnTo>
                  <a:pt x="170" y="214"/>
                </a:lnTo>
                <a:lnTo>
                  <a:pt x="170" y="230"/>
                </a:lnTo>
                <a:lnTo>
                  <a:pt x="172" y="245"/>
                </a:lnTo>
                <a:lnTo>
                  <a:pt x="172" y="262"/>
                </a:lnTo>
                <a:lnTo>
                  <a:pt x="172" y="282"/>
                </a:lnTo>
                <a:lnTo>
                  <a:pt x="174" y="301"/>
                </a:lnTo>
                <a:lnTo>
                  <a:pt x="174" y="320"/>
                </a:lnTo>
                <a:lnTo>
                  <a:pt x="174" y="343"/>
                </a:lnTo>
                <a:lnTo>
                  <a:pt x="174" y="364"/>
                </a:lnTo>
                <a:lnTo>
                  <a:pt x="174" y="389"/>
                </a:lnTo>
                <a:lnTo>
                  <a:pt x="174" y="414"/>
                </a:lnTo>
                <a:lnTo>
                  <a:pt x="174" y="439"/>
                </a:lnTo>
                <a:lnTo>
                  <a:pt x="174" y="466"/>
                </a:lnTo>
                <a:lnTo>
                  <a:pt x="174" y="493"/>
                </a:lnTo>
                <a:lnTo>
                  <a:pt x="172" y="518"/>
                </a:lnTo>
                <a:lnTo>
                  <a:pt x="172" y="543"/>
                </a:lnTo>
                <a:lnTo>
                  <a:pt x="170" y="566"/>
                </a:lnTo>
                <a:lnTo>
                  <a:pt x="168" y="587"/>
                </a:lnTo>
                <a:lnTo>
                  <a:pt x="168" y="608"/>
                </a:lnTo>
                <a:lnTo>
                  <a:pt x="167" y="629"/>
                </a:lnTo>
                <a:lnTo>
                  <a:pt x="165" y="648"/>
                </a:lnTo>
                <a:lnTo>
                  <a:pt x="163" y="666"/>
                </a:lnTo>
                <a:lnTo>
                  <a:pt x="159" y="683"/>
                </a:lnTo>
                <a:lnTo>
                  <a:pt x="157" y="698"/>
                </a:lnTo>
                <a:lnTo>
                  <a:pt x="155" y="714"/>
                </a:lnTo>
                <a:lnTo>
                  <a:pt x="153" y="727"/>
                </a:lnTo>
                <a:lnTo>
                  <a:pt x="149" y="740"/>
                </a:lnTo>
                <a:lnTo>
                  <a:pt x="147" y="752"/>
                </a:lnTo>
                <a:lnTo>
                  <a:pt x="142" y="763"/>
                </a:lnTo>
                <a:lnTo>
                  <a:pt x="138" y="775"/>
                </a:lnTo>
                <a:lnTo>
                  <a:pt x="132" y="785"/>
                </a:lnTo>
                <a:lnTo>
                  <a:pt x="128" y="792"/>
                </a:lnTo>
                <a:lnTo>
                  <a:pt x="122" y="802"/>
                </a:lnTo>
                <a:lnTo>
                  <a:pt x="119" y="808"/>
                </a:lnTo>
                <a:lnTo>
                  <a:pt x="113" y="815"/>
                </a:lnTo>
                <a:lnTo>
                  <a:pt x="109" y="821"/>
                </a:lnTo>
                <a:lnTo>
                  <a:pt x="105" y="825"/>
                </a:lnTo>
                <a:lnTo>
                  <a:pt x="99" y="829"/>
                </a:lnTo>
                <a:lnTo>
                  <a:pt x="96" y="833"/>
                </a:lnTo>
                <a:lnTo>
                  <a:pt x="92" y="836"/>
                </a:lnTo>
                <a:lnTo>
                  <a:pt x="90" y="838"/>
                </a:lnTo>
                <a:lnTo>
                  <a:pt x="86" y="840"/>
                </a:lnTo>
                <a:lnTo>
                  <a:pt x="82" y="840"/>
                </a:lnTo>
                <a:lnTo>
                  <a:pt x="80" y="840"/>
                </a:lnTo>
                <a:lnTo>
                  <a:pt x="76" y="840"/>
                </a:lnTo>
                <a:lnTo>
                  <a:pt x="74" y="840"/>
                </a:lnTo>
                <a:lnTo>
                  <a:pt x="71" y="838"/>
                </a:lnTo>
                <a:lnTo>
                  <a:pt x="67" y="836"/>
                </a:lnTo>
                <a:lnTo>
                  <a:pt x="65" y="833"/>
                </a:lnTo>
                <a:lnTo>
                  <a:pt x="61" y="829"/>
                </a:lnTo>
                <a:lnTo>
                  <a:pt x="57" y="825"/>
                </a:lnTo>
                <a:lnTo>
                  <a:pt x="53" y="821"/>
                </a:lnTo>
                <a:lnTo>
                  <a:pt x="49" y="815"/>
                </a:lnTo>
                <a:lnTo>
                  <a:pt x="46" y="808"/>
                </a:lnTo>
                <a:lnTo>
                  <a:pt x="42" y="800"/>
                </a:lnTo>
                <a:lnTo>
                  <a:pt x="38" y="792"/>
                </a:lnTo>
                <a:lnTo>
                  <a:pt x="34" y="785"/>
                </a:lnTo>
                <a:lnTo>
                  <a:pt x="32" y="775"/>
                </a:lnTo>
                <a:lnTo>
                  <a:pt x="28" y="763"/>
                </a:lnTo>
                <a:lnTo>
                  <a:pt x="26" y="752"/>
                </a:lnTo>
                <a:lnTo>
                  <a:pt x="21" y="729"/>
                </a:lnTo>
                <a:lnTo>
                  <a:pt x="17" y="706"/>
                </a:lnTo>
                <a:lnTo>
                  <a:pt x="13" y="681"/>
                </a:lnTo>
                <a:lnTo>
                  <a:pt x="9" y="656"/>
                </a:lnTo>
                <a:lnTo>
                  <a:pt x="7" y="631"/>
                </a:lnTo>
                <a:lnTo>
                  <a:pt x="7" y="606"/>
                </a:lnTo>
                <a:lnTo>
                  <a:pt x="7" y="593"/>
                </a:lnTo>
                <a:lnTo>
                  <a:pt x="9" y="579"/>
                </a:lnTo>
                <a:lnTo>
                  <a:pt x="11" y="566"/>
                </a:lnTo>
                <a:lnTo>
                  <a:pt x="13" y="552"/>
                </a:lnTo>
                <a:lnTo>
                  <a:pt x="17" y="527"/>
                </a:lnTo>
                <a:lnTo>
                  <a:pt x="21" y="504"/>
                </a:lnTo>
                <a:lnTo>
                  <a:pt x="23" y="481"/>
                </a:lnTo>
                <a:lnTo>
                  <a:pt x="24" y="458"/>
                </a:lnTo>
                <a:lnTo>
                  <a:pt x="24" y="437"/>
                </a:lnTo>
                <a:lnTo>
                  <a:pt x="26" y="416"/>
                </a:lnTo>
                <a:lnTo>
                  <a:pt x="26" y="395"/>
                </a:lnTo>
                <a:lnTo>
                  <a:pt x="26" y="376"/>
                </a:lnTo>
                <a:lnTo>
                  <a:pt x="26" y="366"/>
                </a:lnTo>
                <a:lnTo>
                  <a:pt x="24" y="353"/>
                </a:lnTo>
                <a:lnTo>
                  <a:pt x="24" y="339"/>
                </a:lnTo>
                <a:lnTo>
                  <a:pt x="24" y="324"/>
                </a:lnTo>
                <a:lnTo>
                  <a:pt x="23" y="307"/>
                </a:lnTo>
                <a:lnTo>
                  <a:pt x="21" y="287"/>
                </a:lnTo>
                <a:lnTo>
                  <a:pt x="19" y="266"/>
                </a:lnTo>
                <a:lnTo>
                  <a:pt x="17" y="243"/>
                </a:lnTo>
                <a:lnTo>
                  <a:pt x="15" y="220"/>
                </a:lnTo>
                <a:lnTo>
                  <a:pt x="13" y="193"/>
                </a:lnTo>
                <a:lnTo>
                  <a:pt x="11" y="165"/>
                </a:lnTo>
                <a:lnTo>
                  <a:pt x="9" y="136"/>
                </a:lnTo>
                <a:lnTo>
                  <a:pt x="7" y="103"/>
                </a:lnTo>
                <a:lnTo>
                  <a:pt x="3" y="71"/>
                </a:lnTo>
                <a:lnTo>
                  <a:pt x="1" y="36"/>
                </a:lnTo>
                <a:lnTo>
                  <a:pt x="0" y="0"/>
                </a:lnTo>
                <a:lnTo>
                  <a:pt x="17" y="11"/>
                </a:lnTo>
                <a:lnTo>
                  <a:pt x="32" y="23"/>
                </a:lnTo>
                <a:lnTo>
                  <a:pt x="48" y="34"/>
                </a:lnTo>
                <a:lnTo>
                  <a:pt x="63" y="44"/>
                </a:lnTo>
                <a:lnTo>
                  <a:pt x="76" y="55"/>
                </a:lnTo>
                <a:lnTo>
                  <a:pt x="88" y="65"/>
                </a:lnTo>
                <a:lnTo>
                  <a:pt x="99" y="76"/>
                </a:lnTo>
                <a:lnTo>
                  <a:pt x="111" y="86"/>
                </a:lnTo>
                <a:lnTo>
                  <a:pt x="120" y="95"/>
                </a:lnTo>
                <a:lnTo>
                  <a:pt x="128" y="105"/>
                </a:lnTo>
                <a:lnTo>
                  <a:pt x="136" y="115"/>
                </a:lnTo>
                <a:lnTo>
                  <a:pt x="144" y="124"/>
                </a:lnTo>
                <a:lnTo>
                  <a:pt x="149" y="134"/>
                </a:lnTo>
                <a:lnTo>
                  <a:pt x="153" y="143"/>
                </a:lnTo>
                <a:lnTo>
                  <a:pt x="157" y="153"/>
                </a:lnTo>
                <a:lnTo>
                  <a:pt x="161" y="16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Freeform 140"/>
          <p:cNvSpPr/>
          <p:nvPr/>
        </p:nvSpPr>
        <p:spPr>
          <a:xfrm>
            <a:off x="6291360" y="3205080"/>
            <a:ext cx="136440" cy="687600"/>
          </a:xfrm>
          <a:custGeom>
            <a:avLst/>
            <a:gdLst/>
            <a:ahLst/>
            <a:rect l="l" t="t" r="r" b="b"/>
            <a:pathLst>
              <a:path w="172" h="865">
                <a:moveTo>
                  <a:pt x="9" y="765"/>
                </a:moveTo>
                <a:lnTo>
                  <a:pt x="5" y="742"/>
                </a:lnTo>
                <a:lnTo>
                  <a:pt x="2" y="717"/>
                </a:lnTo>
                <a:lnTo>
                  <a:pt x="0" y="694"/>
                </a:lnTo>
                <a:lnTo>
                  <a:pt x="0" y="671"/>
                </a:lnTo>
                <a:lnTo>
                  <a:pt x="0" y="648"/>
                </a:lnTo>
                <a:lnTo>
                  <a:pt x="2" y="623"/>
                </a:lnTo>
                <a:lnTo>
                  <a:pt x="5" y="600"/>
                </a:lnTo>
                <a:lnTo>
                  <a:pt x="9" y="577"/>
                </a:lnTo>
                <a:lnTo>
                  <a:pt x="11" y="571"/>
                </a:lnTo>
                <a:lnTo>
                  <a:pt x="13" y="566"/>
                </a:lnTo>
                <a:lnTo>
                  <a:pt x="13" y="560"/>
                </a:lnTo>
                <a:lnTo>
                  <a:pt x="15" y="552"/>
                </a:lnTo>
                <a:lnTo>
                  <a:pt x="15" y="545"/>
                </a:lnTo>
                <a:lnTo>
                  <a:pt x="17" y="535"/>
                </a:lnTo>
                <a:lnTo>
                  <a:pt x="17" y="525"/>
                </a:lnTo>
                <a:lnTo>
                  <a:pt x="17" y="516"/>
                </a:lnTo>
                <a:lnTo>
                  <a:pt x="19" y="504"/>
                </a:lnTo>
                <a:lnTo>
                  <a:pt x="19" y="493"/>
                </a:lnTo>
                <a:lnTo>
                  <a:pt x="19" y="479"/>
                </a:lnTo>
                <a:lnTo>
                  <a:pt x="21" y="466"/>
                </a:lnTo>
                <a:lnTo>
                  <a:pt x="21" y="452"/>
                </a:lnTo>
                <a:lnTo>
                  <a:pt x="21" y="437"/>
                </a:lnTo>
                <a:lnTo>
                  <a:pt x="21" y="422"/>
                </a:lnTo>
                <a:lnTo>
                  <a:pt x="21" y="406"/>
                </a:lnTo>
                <a:lnTo>
                  <a:pt x="23" y="389"/>
                </a:lnTo>
                <a:lnTo>
                  <a:pt x="23" y="370"/>
                </a:lnTo>
                <a:lnTo>
                  <a:pt x="23" y="353"/>
                </a:lnTo>
                <a:lnTo>
                  <a:pt x="23" y="332"/>
                </a:lnTo>
                <a:lnTo>
                  <a:pt x="23" y="312"/>
                </a:lnTo>
                <a:lnTo>
                  <a:pt x="23" y="291"/>
                </a:lnTo>
                <a:lnTo>
                  <a:pt x="23" y="268"/>
                </a:lnTo>
                <a:lnTo>
                  <a:pt x="23" y="247"/>
                </a:lnTo>
                <a:lnTo>
                  <a:pt x="23" y="222"/>
                </a:lnTo>
                <a:lnTo>
                  <a:pt x="23" y="199"/>
                </a:lnTo>
                <a:lnTo>
                  <a:pt x="23" y="174"/>
                </a:lnTo>
                <a:lnTo>
                  <a:pt x="23" y="147"/>
                </a:lnTo>
                <a:lnTo>
                  <a:pt x="23" y="120"/>
                </a:lnTo>
                <a:lnTo>
                  <a:pt x="23" y="94"/>
                </a:lnTo>
                <a:lnTo>
                  <a:pt x="23" y="65"/>
                </a:lnTo>
                <a:lnTo>
                  <a:pt x="23" y="36"/>
                </a:lnTo>
                <a:lnTo>
                  <a:pt x="98" y="17"/>
                </a:lnTo>
                <a:lnTo>
                  <a:pt x="172" y="0"/>
                </a:lnTo>
                <a:lnTo>
                  <a:pt x="172" y="38"/>
                </a:lnTo>
                <a:lnTo>
                  <a:pt x="172" y="76"/>
                </a:lnTo>
                <a:lnTo>
                  <a:pt x="172" y="115"/>
                </a:lnTo>
                <a:lnTo>
                  <a:pt x="171" y="151"/>
                </a:lnTo>
                <a:lnTo>
                  <a:pt x="171" y="186"/>
                </a:lnTo>
                <a:lnTo>
                  <a:pt x="171" y="220"/>
                </a:lnTo>
                <a:lnTo>
                  <a:pt x="171" y="255"/>
                </a:lnTo>
                <a:lnTo>
                  <a:pt x="171" y="285"/>
                </a:lnTo>
                <a:lnTo>
                  <a:pt x="169" y="318"/>
                </a:lnTo>
                <a:lnTo>
                  <a:pt x="169" y="347"/>
                </a:lnTo>
                <a:lnTo>
                  <a:pt x="169" y="378"/>
                </a:lnTo>
                <a:lnTo>
                  <a:pt x="167" y="405"/>
                </a:lnTo>
                <a:lnTo>
                  <a:pt x="167" y="433"/>
                </a:lnTo>
                <a:lnTo>
                  <a:pt x="165" y="458"/>
                </a:lnTo>
                <a:lnTo>
                  <a:pt x="165" y="483"/>
                </a:lnTo>
                <a:lnTo>
                  <a:pt x="163" y="508"/>
                </a:lnTo>
                <a:lnTo>
                  <a:pt x="163" y="531"/>
                </a:lnTo>
                <a:lnTo>
                  <a:pt x="161" y="552"/>
                </a:lnTo>
                <a:lnTo>
                  <a:pt x="161" y="573"/>
                </a:lnTo>
                <a:lnTo>
                  <a:pt x="159" y="593"/>
                </a:lnTo>
                <a:lnTo>
                  <a:pt x="159" y="612"/>
                </a:lnTo>
                <a:lnTo>
                  <a:pt x="157" y="631"/>
                </a:lnTo>
                <a:lnTo>
                  <a:pt x="155" y="646"/>
                </a:lnTo>
                <a:lnTo>
                  <a:pt x="155" y="664"/>
                </a:lnTo>
                <a:lnTo>
                  <a:pt x="153" y="677"/>
                </a:lnTo>
                <a:lnTo>
                  <a:pt x="151" y="692"/>
                </a:lnTo>
                <a:lnTo>
                  <a:pt x="151" y="704"/>
                </a:lnTo>
                <a:lnTo>
                  <a:pt x="149" y="715"/>
                </a:lnTo>
                <a:lnTo>
                  <a:pt x="148" y="727"/>
                </a:lnTo>
                <a:lnTo>
                  <a:pt x="148" y="737"/>
                </a:lnTo>
                <a:lnTo>
                  <a:pt x="146" y="744"/>
                </a:lnTo>
                <a:lnTo>
                  <a:pt x="146" y="752"/>
                </a:lnTo>
                <a:lnTo>
                  <a:pt x="140" y="765"/>
                </a:lnTo>
                <a:lnTo>
                  <a:pt x="134" y="779"/>
                </a:lnTo>
                <a:lnTo>
                  <a:pt x="130" y="790"/>
                </a:lnTo>
                <a:lnTo>
                  <a:pt x="124" y="802"/>
                </a:lnTo>
                <a:lnTo>
                  <a:pt x="121" y="811"/>
                </a:lnTo>
                <a:lnTo>
                  <a:pt x="115" y="821"/>
                </a:lnTo>
                <a:lnTo>
                  <a:pt x="111" y="831"/>
                </a:lnTo>
                <a:lnTo>
                  <a:pt x="105" y="838"/>
                </a:lnTo>
                <a:lnTo>
                  <a:pt x="101" y="844"/>
                </a:lnTo>
                <a:lnTo>
                  <a:pt x="98" y="850"/>
                </a:lnTo>
                <a:lnTo>
                  <a:pt x="94" y="856"/>
                </a:lnTo>
                <a:lnTo>
                  <a:pt x="90" y="859"/>
                </a:lnTo>
                <a:lnTo>
                  <a:pt x="86" y="861"/>
                </a:lnTo>
                <a:lnTo>
                  <a:pt x="82" y="863"/>
                </a:lnTo>
                <a:lnTo>
                  <a:pt x="80" y="865"/>
                </a:lnTo>
                <a:lnTo>
                  <a:pt x="78" y="865"/>
                </a:lnTo>
                <a:lnTo>
                  <a:pt x="73" y="865"/>
                </a:lnTo>
                <a:lnTo>
                  <a:pt x="67" y="863"/>
                </a:lnTo>
                <a:lnTo>
                  <a:pt x="63" y="861"/>
                </a:lnTo>
                <a:lnTo>
                  <a:pt x="57" y="859"/>
                </a:lnTo>
                <a:lnTo>
                  <a:pt x="52" y="856"/>
                </a:lnTo>
                <a:lnTo>
                  <a:pt x="48" y="850"/>
                </a:lnTo>
                <a:lnTo>
                  <a:pt x="44" y="844"/>
                </a:lnTo>
                <a:lnTo>
                  <a:pt x="38" y="838"/>
                </a:lnTo>
                <a:lnTo>
                  <a:pt x="34" y="833"/>
                </a:lnTo>
                <a:lnTo>
                  <a:pt x="30" y="825"/>
                </a:lnTo>
                <a:lnTo>
                  <a:pt x="27" y="815"/>
                </a:lnTo>
                <a:lnTo>
                  <a:pt x="23" y="808"/>
                </a:lnTo>
                <a:lnTo>
                  <a:pt x="19" y="798"/>
                </a:lnTo>
                <a:lnTo>
                  <a:pt x="15" y="786"/>
                </a:lnTo>
                <a:lnTo>
                  <a:pt x="13" y="777"/>
                </a:lnTo>
                <a:lnTo>
                  <a:pt x="9" y="765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Freeform 141"/>
          <p:cNvSpPr/>
          <p:nvPr/>
        </p:nvSpPr>
        <p:spPr>
          <a:xfrm>
            <a:off x="5464080" y="3021120"/>
            <a:ext cx="2282760" cy="349200"/>
          </a:xfrm>
          <a:custGeom>
            <a:avLst/>
            <a:gdLst/>
            <a:ahLst/>
            <a:rect l="l" t="t" r="r" b="b"/>
            <a:pathLst>
              <a:path w="2876" h="442">
                <a:moveTo>
                  <a:pt x="0" y="332"/>
                </a:moveTo>
                <a:lnTo>
                  <a:pt x="8" y="328"/>
                </a:lnTo>
                <a:lnTo>
                  <a:pt x="16" y="323"/>
                </a:lnTo>
                <a:lnTo>
                  <a:pt x="25" y="319"/>
                </a:lnTo>
                <a:lnTo>
                  <a:pt x="35" y="315"/>
                </a:lnTo>
                <a:lnTo>
                  <a:pt x="44" y="313"/>
                </a:lnTo>
                <a:lnTo>
                  <a:pt x="54" y="309"/>
                </a:lnTo>
                <a:lnTo>
                  <a:pt x="77" y="304"/>
                </a:lnTo>
                <a:lnTo>
                  <a:pt x="100" y="300"/>
                </a:lnTo>
                <a:lnTo>
                  <a:pt x="125" y="296"/>
                </a:lnTo>
                <a:lnTo>
                  <a:pt x="150" y="296"/>
                </a:lnTo>
                <a:lnTo>
                  <a:pt x="175" y="294"/>
                </a:lnTo>
                <a:lnTo>
                  <a:pt x="183" y="294"/>
                </a:lnTo>
                <a:lnTo>
                  <a:pt x="190" y="294"/>
                </a:lnTo>
                <a:lnTo>
                  <a:pt x="200" y="294"/>
                </a:lnTo>
                <a:lnTo>
                  <a:pt x="211" y="292"/>
                </a:lnTo>
                <a:lnTo>
                  <a:pt x="225" y="292"/>
                </a:lnTo>
                <a:lnTo>
                  <a:pt x="240" y="290"/>
                </a:lnTo>
                <a:lnTo>
                  <a:pt x="256" y="290"/>
                </a:lnTo>
                <a:lnTo>
                  <a:pt x="273" y="288"/>
                </a:lnTo>
                <a:lnTo>
                  <a:pt x="292" y="286"/>
                </a:lnTo>
                <a:lnTo>
                  <a:pt x="313" y="284"/>
                </a:lnTo>
                <a:lnTo>
                  <a:pt x="336" y="282"/>
                </a:lnTo>
                <a:lnTo>
                  <a:pt x="359" y="280"/>
                </a:lnTo>
                <a:lnTo>
                  <a:pt x="384" y="277"/>
                </a:lnTo>
                <a:lnTo>
                  <a:pt x="411" y="275"/>
                </a:lnTo>
                <a:lnTo>
                  <a:pt x="440" y="271"/>
                </a:lnTo>
                <a:lnTo>
                  <a:pt x="469" y="269"/>
                </a:lnTo>
                <a:lnTo>
                  <a:pt x="499" y="265"/>
                </a:lnTo>
                <a:lnTo>
                  <a:pt x="532" y="261"/>
                </a:lnTo>
                <a:lnTo>
                  <a:pt x="567" y="257"/>
                </a:lnTo>
                <a:lnTo>
                  <a:pt x="603" y="254"/>
                </a:lnTo>
                <a:lnTo>
                  <a:pt x="640" y="250"/>
                </a:lnTo>
                <a:lnTo>
                  <a:pt x="678" y="246"/>
                </a:lnTo>
                <a:lnTo>
                  <a:pt x="718" y="242"/>
                </a:lnTo>
                <a:lnTo>
                  <a:pt x="760" y="236"/>
                </a:lnTo>
                <a:lnTo>
                  <a:pt x="803" y="233"/>
                </a:lnTo>
                <a:lnTo>
                  <a:pt x="847" y="227"/>
                </a:lnTo>
                <a:lnTo>
                  <a:pt x="895" y="223"/>
                </a:lnTo>
                <a:lnTo>
                  <a:pt x="941" y="217"/>
                </a:lnTo>
                <a:lnTo>
                  <a:pt x="991" y="211"/>
                </a:lnTo>
                <a:lnTo>
                  <a:pt x="1041" y="206"/>
                </a:lnTo>
                <a:lnTo>
                  <a:pt x="1095" y="200"/>
                </a:lnTo>
                <a:lnTo>
                  <a:pt x="1148" y="194"/>
                </a:lnTo>
                <a:lnTo>
                  <a:pt x="1202" y="188"/>
                </a:lnTo>
                <a:lnTo>
                  <a:pt x="1254" y="183"/>
                </a:lnTo>
                <a:lnTo>
                  <a:pt x="1306" y="177"/>
                </a:lnTo>
                <a:lnTo>
                  <a:pt x="1356" y="171"/>
                </a:lnTo>
                <a:lnTo>
                  <a:pt x="1404" y="165"/>
                </a:lnTo>
                <a:lnTo>
                  <a:pt x="1452" y="160"/>
                </a:lnTo>
                <a:lnTo>
                  <a:pt x="1498" y="154"/>
                </a:lnTo>
                <a:lnTo>
                  <a:pt x="1542" y="148"/>
                </a:lnTo>
                <a:lnTo>
                  <a:pt x="1586" y="144"/>
                </a:lnTo>
                <a:lnTo>
                  <a:pt x="1628" y="138"/>
                </a:lnTo>
                <a:lnTo>
                  <a:pt x="1670" y="133"/>
                </a:lnTo>
                <a:lnTo>
                  <a:pt x="1711" y="129"/>
                </a:lnTo>
                <a:lnTo>
                  <a:pt x="1749" y="123"/>
                </a:lnTo>
                <a:lnTo>
                  <a:pt x="1786" y="119"/>
                </a:lnTo>
                <a:lnTo>
                  <a:pt x="1822" y="113"/>
                </a:lnTo>
                <a:lnTo>
                  <a:pt x="1859" y="110"/>
                </a:lnTo>
                <a:lnTo>
                  <a:pt x="1891" y="104"/>
                </a:lnTo>
                <a:lnTo>
                  <a:pt x="1924" y="100"/>
                </a:lnTo>
                <a:lnTo>
                  <a:pt x="1956" y="96"/>
                </a:lnTo>
                <a:lnTo>
                  <a:pt x="1985" y="90"/>
                </a:lnTo>
                <a:lnTo>
                  <a:pt x="2016" y="87"/>
                </a:lnTo>
                <a:lnTo>
                  <a:pt x="2043" y="83"/>
                </a:lnTo>
                <a:lnTo>
                  <a:pt x="2070" y="79"/>
                </a:lnTo>
                <a:lnTo>
                  <a:pt x="2095" y="75"/>
                </a:lnTo>
                <a:lnTo>
                  <a:pt x="2120" y="69"/>
                </a:lnTo>
                <a:lnTo>
                  <a:pt x="2143" y="66"/>
                </a:lnTo>
                <a:lnTo>
                  <a:pt x="2164" y="62"/>
                </a:lnTo>
                <a:lnTo>
                  <a:pt x="2185" y="58"/>
                </a:lnTo>
                <a:lnTo>
                  <a:pt x="2204" y="54"/>
                </a:lnTo>
                <a:lnTo>
                  <a:pt x="2221" y="50"/>
                </a:lnTo>
                <a:lnTo>
                  <a:pt x="2239" y="46"/>
                </a:lnTo>
                <a:lnTo>
                  <a:pt x="2254" y="44"/>
                </a:lnTo>
                <a:lnTo>
                  <a:pt x="2283" y="37"/>
                </a:lnTo>
                <a:lnTo>
                  <a:pt x="2308" y="31"/>
                </a:lnTo>
                <a:lnTo>
                  <a:pt x="2335" y="25"/>
                </a:lnTo>
                <a:lnTo>
                  <a:pt x="2358" y="19"/>
                </a:lnTo>
                <a:lnTo>
                  <a:pt x="2383" y="16"/>
                </a:lnTo>
                <a:lnTo>
                  <a:pt x="2404" y="12"/>
                </a:lnTo>
                <a:lnTo>
                  <a:pt x="2427" y="8"/>
                </a:lnTo>
                <a:lnTo>
                  <a:pt x="2446" y="6"/>
                </a:lnTo>
                <a:lnTo>
                  <a:pt x="2467" y="4"/>
                </a:lnTo>
                <a:lnTo>
                  <a:pt x="2486" y="2"/>
                </a:lnTo>
                <a:lnTo>
                  <a:pt x="2504" y="0"/>
                </a:lnTo>
                <a:lnTo>
                  <a:pt x="2521" y="0"/>
                </a:lnTo>
                <a:lnTo>
                  <a:pt x="2536" y="0"/>
                </a:lnTo>
                <a:lnTo>
                  <a:pt x="2552" y="2"/>
                </a:lnTo>
                <a:lnTo>
                  <a:pt x="2565" y="4"/>
                </a:lnTo>
                <a:lnTo>
                  <a:pt x="2578" y="6"/>
                </a:lnTo>
                <a:lnTo>
                  <a:pt x="2600" y="12"/>
                </a:lnTo>
                <a:lnTo>
                  <a:pt x="2621" y="18"/>
                </a:lnTo>
                <a:lnTo>
                  <a:pt x="2644" y="25"/>
                </a:lnTo>
                <a:lnTo>
                  <a:pt x="2669" y="35"/>
                </a:lnTo>
                <a:lnTo>
                  <a:pt x="2692" y="44"/>
                </a:lnTo>
                <a:lnTo>
                  <a:pt x="2717" y="56"/>
                </a:lnTo>
                <a:lnTo>
                  <a:pt x="2742" y="67"/>
                </a:lnTo>
                <a:lnTo>
                  <a:pt x="2769" y="81"/>
                </a:lnTo>
                <a:lnTo>
                  <a:pt x="2780" y="89"/>
                </a:lnTo>
                <a:lnTo>
                  <a:pt x="2792" y="94"/>
                </a:lnTo>
                <a:lnTo>
                  <a:pt x="2803" y="102"/>
                </a:lnTo>
                <a:lnTo>
                  <a:pt x="2813" y="108"/>
                </a:lnTo>
                <a:lnTo>
                  <a:pt x="2822" y="113"/>
                </a:lnTo>
                <a:lnTo>
                  <a:pt x="2832" y="119"/>
                </a:lnTo>
                <a:lnTo>
                  <a:pt x="2840" y="123"/>
                </a:lnTo>
                <a:lnTo>
                  <a:pt x="2847" y="129"/>
                </a:lnTo>
                <a:lnTo>
                  <a:pt x="2853" y="133"/>
                </a:lnTo>
                <a:lnTo>
                  <a:pt x="2859" y="137"/>
                </a:lnTo>
                <a:lnTo>
                  <a:pt x="2865" y="140"/>
                </a:lnTo>
                <a:lnTo>
                  <a:pt x="2868" y="144"/>
                </a:lnTo>
                <a:lnTo>
                  <a:pt x="2872" y="148"/>
                </a:lnTo>
                <a:lnTo>
                  <a:pt x="2874" y="152"/>
                </a:lnTo>
                <a:lnTo>
                  <a:pt x="2876" y="154"/>
                </a:lnTo>
                <a:lnTo>
                  <a:pt x="2876" y="158"/>
                </a:lnTo>
                <a:lnTo>
                  <a:pt x="2876" y="165"/>
                </a:lnTo>
                <a:lnTo>
                  <a:pt x="2876" y="173"/>
                </a:lnTo>
                <a:lnTo>
                  <a:pt x="2874" y="181"/>
                </a:lnTo>
                <a:lnTo>
                  <a:pt x="2874" y="186"/>
                </a:lnTo>
                <a:lnTo>
                  <a:pt x="2872" y="192"/>
                </a:lnTo>
                <a:lnTo>
                  <a:pt x="2870" y="198"/>
                </a:lnTo>
                <a:lnTo>
                  <a:pt x="2866" y="202"/>
                </a:lnTo>
                <a:lnTo>
                  <a:pt x="2863" y="208"/>
                </a:lnTo>
                <a:lnTo>
                  <a:pt x="2861" y="208"/>
                </a:lnTo>
                <a:lnTo>
                  <a:pt x="2859" y="209"/>
                </a:lnTo>
                <a:lnTo>
                  <a:pt x="2855" y="209"/>
                </a:lnTo>
                <a:lnTo>
                  <a:pt x="2851" y="211"/>
                </a:lnTo>
                <a:lnTo>
                  <a:pt x="2847" y="213"/>
                </a:lnTo>
                <a:lnTo>
                  <a:pt x="2841" y="213"/>
                </a:lnTo>
                <a:lnTo>
                  <a:pt x="2836" y="215"/>
                </a:lnTo>
                <a:lnTo>
                  <a:pt x="2828" y="215"/>
                </a:lnTo>
                <a:lnTo>
                  <a:pt x="2820" y="217"/>
                </a:lnTo>
                <a:lnTo>
                  <a:pt x="2813" y="219"/>
                </a:lnTo>
                <a:lnTo>
                  <a:pt x="2803" y="219"/>
                </a:lnTo>
                <a:lnTo>
                  <a:pt x="2793" y="221"/>
                </a:lnTo>
                <a:lnTo>
                  <a:pt x="2784" y="221"/>
                </a:lnTo>
                <a:lnTo>
                  <a:pt x="2772" y="223"/>
                </a:lnTo>
                <a:lnTo>
                  <a:pt x="2761" y="223"/>
                </a:lnTo>
                <a:lnTo>
                  <a:pt x="2747" y="225"/>
                </a:lnTo>
                <a:lnTo>
                  <a:pt x="2734" y="225"/>
                </a:lnTo>
                <a:lnTo>
                  <a:pt x="2719" y="227"/>
                </a:lnTo>
                <a:lnTo>
                  <a:pt x="2703" y="227"/>
                </a:lnTo>
                <a:lnTo>
                  <a:pt x="2688" y="227"/>
                </a:lnTo>
                <a:lnTo>
                  <a:pt x="2671" y="229"/>
                </a:lnTo>
                <a:lnTo>
                  <a:pt x="2653" y="229"/>
                </a:lnTo>
                <a:lnTo>
                  <a:pt x="2634" y="229"/>
                </a:lnTo>
                <a:lnTo>
                  <a:pt x="2615" y="231"/>
                </a:lnTo>
                <a:lnTo>
                  <a:pt x="2596" y="231"/>
                </a:lnTo>
                <a:lnTo>
                  <a:pt x="2575" y="231"/>
                </a:lnTo>
                <a:lnTo>
                  <a:pt x="2552" y="231"/>
                </a:lnTo>
                <a:lnTo>
                  <a:pt x="2530" y="231"/>
                </a:lnTo>
                <a:lnTo>
                  <a:pt x="2506" y="233"/>
                </a:lnTo>
                <a:lnTo>
                  <a:pt x="2482" y="233"/>
                </a:lnTo>
                <a:lnTo>
                  <a:pt x="2456" y="233"/>
                </a:lnTo>
                <a:lnTo>
                  <a:pt x="2431" y="233"/>
                </a:lnTo>
                <a:lnTo>
                  <a:pt x="2323" y="233"/>
                </a:lnTo>
                <a:lnTo>
                  <a:pt x="2218" y="234"/>
                </a:lnTo>
                <a:lnTo>
                  <a:pt x="2110" y="238"/>
                </a:lnTo>
                <a:lnTo>
                  <a:pt x="2003" y="242"/>
                </a:lnTo>
                <a:lnTo>
                  <a:pt x="1949" y="246"/>
                </a:lnTo>
                <a:lnTo>
                  <a:pt x="1895" y="250"/>
                </a:lnTo>
                <a:lnTo>
                  <a:pt x="1841" y="254"/>
                </a:lnTo>
                <a:lnTo>
                  <a:pt x="1786" y="257"/>
                </a:lnTo>
                <a:lnTo>
                  <a:pt x="1732" y="263"/>
                </a:lnTo>
                <a:lnTo>
                  <a:pt x="1676" y="269"/>
                </a:lnTo>
                <a:lnTo>
                  <a:pt x="1621" y="275"/>
                </a:lnTo>
                <a:lnTo>
                  <a:pt x="1567" y="282"/>
                </a:lnTo>
                <a:lnTo>
                  <a:pt x="1511" y="288"/>
                </a:lnTo>
                <a:lnTo>
                  <a:pt x="1457" y="296"/>
                </a:lnTo>
                <a:lnTo>
                  <a:pt x="1406" y="302"/>
                </a:lnTo>
                <a:lnTo>
                  <a:pt x="1356" y="307"/>
                </a:lnTo>
                <a:lnTo>
                  <a:pt x="1308" y="313"/>
                </a:lnTo>
                <a:lnTo>
                  <a:pt x="1262" y="319"/>
                </a:lnTo>
                <a:lnTo>
                  <a:pt x="1215" y="325"/>
                </a:lnTo>
                <a:lnTo>
                  <a:pt x="1173" y="328"/>
                </a:lnTo>
                <a:lnTo>
                  <a:pt x="1131" y="334"/>
                </a:lnTo>
                <a:lnTo>
                  <a:pt x="1091" y="338"/>
                </a:lnTo>
                <a:lnTo>
                  <a:pt x="1054" y="342"/>
                </a:lnTo>
                <a:lnTo>
                  <a:pt x="1018" y="346"/>
                </a:lnTo>
                <a:lnTo>
                  <a:pt x="983" y="350"/>
                </a:lnTo>
                <a:lnTo>
                  <a:pt x="951" y="352"/>
                </a:lnTo>
                <a:lnTo>
                  <a:pt x="920" y="355"/>
                </a:lnTo>
                <a:lnTo>
                  <a:pt x="891" y="357"/>
                </a:lnTo>
                <a:lnTo>
                  <a:pt x="860" y="363"/>
                </a:lnTo>
                <a:lnTo>
                  <a:pt x="832" y="367"/>
                </a:lnTo>
                <a:lnTo>
                  <a:pt x="803" y="371"/>
                </a:lnTo>
                <a:lnTo>
                  <a:pt x="774" y="376"/>
                </a:lnTo>
                <a:lnTo>
                  <a:pt x="747" y="380"/>
                </a:lnTo>
                <a:lnTo>
                  <a:pt x="720" y="386"/>
                </a:lnTo>
                <a:lnTo>
                  <a:pt x="693" y="390"/>
                </a:lnTo>
                <a:lnTo>
                  <a:pt x="668" y="394"/>
                </a:lnTo>
                <a:lnTo>
                  <a:pt x="643" y="398"/>
                </a:lnTo>
                <a:lnTo>
                  <a:pt x="618" y="401"/>
                </a:lnTo>
                <a:lnTo>
                  <a:pt x="595" y="405"/>
                </a:lnTo>
                <a:lnTo>
                  <a:pt x="572" y="409"/>
                </a:lnTo>
                <a:lnTo>
                  <a:pt x="549" y="411"/>
                </a:lnTo>
                <a:lnTo>
                  <a:pt x="528" y="415"/>
                </a:lnTo>
                <a:lnTo>
                  <a:pt x="505" y="417"/>
                </a:lnTo>
                <a:lnTo>
                  <a:pt x="486" y="421"/>
                </a:lnTo>
                <a:lnTo>
                  <a:pt x="465" y="424"/>
                </a:lnTo>
                <a:lnTo>
                  <a:pt x="446" y="428"/>
                </a:lnTo>
                <a:lnTo>
                  <a:pt x="428" y="432"/>
                </a:lnTo>
                <a:lnTo>
                  <a:pt x="409" y="434"/>
                </a:lnTo>
                <a:lnTo>
                  <a:pt x="392" y="438"/>
                </a:lnTo>
                <a:lnTo>
                  <a:pt x="375" y="440"/>
                </a:lnTo>
                <a:lnTo>
                  <a:pt x="359" y="440"/>
                </a:lnTo>
                <a:lnTo>
                  <a:pt x="344" y="442"/>
                </a:lnTo>
                <a:lnTo>
                  <a:pt x="329" y="442"/>
                </a:lnTo>
                <a:lnTo>
                  <a:pt x="315" y="442"/>
                </a:lnTo>
                <a:lnTo>
                  <a:pt x="302" y="440"/>
                </a:lnTo>
                <a:lnTo>
                  <a:pt x="288" y="440"/>
                </a:lnTo>
                <a:lnTo>
                  <a:pt x="277" y="438"/>
                </a:lnTo>
                <a:lnTo>
                  <a:pt x="263" y="436"/>
                </a:lnTo>
                <a:lnTo>
                  <a:pt x="254" y="434"/>
                </a:lnTo>
                <a:lnTo>
                  <a:pt x="242" y="432"/>
                </a:lnTo>
                <a:lnTo>
                  <a:pt x="217" y="428"/>
                </a:lnTo>
                <a:lnTo>
                  <a:pt x="188" y="421"/>
                </a:lnTo>
                <a:lnTo>
                  <a:pt x="175" y="417"/>
                </a:lnTo>
                <a:lnTo>
                  <a:pt x="162" y="413"/>
                </a:lnTo>
                <a:lnTo>
                  <a:pt x="146" y="407"/>
                </a:lnTo>
                <a:lnTo>
                  <a:pt x="131" y="401"/>
                </a:lnTo>
                <a:lnTo>
                  <a:pt x="115" y="396"/>
                </a:lnTo>
                <a:lnTo>
                  <a:pt x="100" y="388"/>
                </a:lnTo>
                <a:lnTo>
                  <a:pt x="85" y="382"/>
                </a:lnTo>
                <a:lnTo>
                  <a:pt x="67" y="373"/>
                </a:lnTo>
                <a:lnTo>
                  <a:pt x="50" y="365"/>
                </a:lnTo>
                <a:lnTo>
                  <a:pt x="35" y="355"/>
                </a:lnTo>
                <a:lnTo>
                  <a:pt x="18" y="344"/>
                </a:lnTo>
                <a:lnTo>
                  <a:pt x="0" y="33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Freeform 142"/>
          <p:cNvSpPr/>
          <p:nvPr/>
        </p:nvSpPr>
        <p:spPr>
          <a:xfrm>
            <a:off x="6375240" y="2746440"/>
            <a:ext cx="443160" cy="288720"/>
          </a:xfrm>
          <a:custGeom>
            <a:avLst/>
            <a:gdLst/>
            <a:ahLst/>
            <a:rect l="l" t="t" r="r" b="b"/>
            <a:pathLst>
              <a:path w="559" h="364">
                <a:moveTo>
                  <a:pt x="350" y="61"/>
                </a:moveTo>
                <a:lnTo>
                  <a:pt x="367" y="67"/>
                </a:lnTo>
                <a:lnTo>
                  <a:pt x="384" y="73"/>
                </a:lnTo>
                <a:lnTo>
                  <a:pt x="400" y="77"/>
                </a:lnTo>
                <a:lnTo>
                  <a:pt x="417" y="82"/>
                </a:lnTo>
                <a:lnTo>
                  <a:pt x="430" y="88"/>
                </a:lnTo>
                <a:lnTo>
                  <a:pt x="444" y="96"/>
                </a:lnTo>
                <a:lnTo>
                  <a:pt x="457" y="101"/>
                </a:lnTo>
                <a:lnTo>
                  <a:pt x="471" y="107"/>
                </a:lnTo>
                <a:lnTo>
                  <a:pt x="482" y="115"/>
                </a:lnTo>
                <a:lnTo>
                  <a:pt x="494" y="121"/>
                </a:lnTo>
                <a:lnTo>
                  <a:pt x="503" y="128"/>
                </a:lnTo>
                <a:lnTo>
                  <a:pt x="513" y="134"/>
                </a:lnTo>
                <a:lnTo>
                  <a:pt x="521" y="142"/>
                </a:lnTo>
                <a:lnTo>
                  <a:pt x="528" y="148"/>
                </a:lnTo>
                <a:lnTo>
                  <a:pt x="534" y="155"/>
                </a:lnTo>
                <a:lnTo>
                  <a:pt x="540" y="163"/>
                </a:lnTo>
                <a:lnTo>
                  <a:pt x="544" y="173"/>
                </a:lnTo>
                <a:lnTo>
                  <a:pt x="547" y="182"/>
                </a:lnTo>
                <a:lnTo>
                  <a:pt x="551" y="190"/>
                </a:lnTo>
                <a:lnTo>
                  <a:pt x="555" y="199"/>
                </a:lnTo>
                <a:lnTo>
                  <a:pt x="557" y="209"/>
                </a:lnTo>
                <a:lnTo>
                  <a:pt x="559" y="219"/>
                </a:lnTo>
                <a:lnTo>
                  <a:pt x="559" y="228"/>
                </a:lnTo>
                <a:lnTo>
                  <a:pt x="559" y="236"/>
                </a:lnTo>
                <a:lnTo>
                  <a:pt x="559" y="245"/>
                </a:lnTo>
                <a:lnTo>
                  <a:pt x="559" y="253"/>
                </a:lnTo>
                <a:lnTo>
                  <a:pt x="557" y="263"/>
                </a:lnTo>
                <a:lnTo>
                  <a:pt x="555" y="270"/>
                </a:lnTo>
                <a:lnTo>
                  <a:pt x="551" y="278"/>
                </a:lnTo>
                <a:lnTo>
                  <a:pt x="547" y="286"/>
                </a:lnTo>
                <a:lnTo>
                  <a:pt x="544" y="293"/>
                </a:lnTo>
                <a:lnTo>
                  <a:pt x="540" y="301"/>
                </a:lnTo>
                <a:lnTo>
                  <a:pt x="530" y="315"/>
                </a:lnTo>
                <a:lnTo>
                  <a:pt x="519" y="326"/>
                </a:lnTo>
                <a:lnTo>
                  <a:pt x="509" y="338"/>
                </a:lnTo>
                <a:lnTo>
                  <a:pt x="497" y="347"/>
                </a:lnTo>
                <a:lnTo>
                  <a:pt x="486" y="353"/>
                </a:lnTo>
                <a:lnTo>
                  <a:pt x="480" y="357"/>
                </a:lnTo>
                <a:lnTo>
                  <a:pt x="473" y="359"/>
                </a:lnTo>
                <a:lnTo>
                  <a:pt x="467" y="361"/>
                </a:lnTo>
                <a:lnTo>
                  <a:pt x="459" y="363"/>
                </a:lnTo>
                <a:lnTo>
                  <a:pt x="451" y="363"/>
                </a:lnTo>
                <a:lnTo>
                  <a:pt x="446" y="364"/>
                </a:lnTo>
                <a:lnTo>
                  <a:pt x="440" y="363"/>
                </a:lnTo>
                <a:lnTo>
                  <a:pt x="436" y="363"/>
                </a:lnTo>
                <a:lnTo>
                  <a:pt x="430" y="361"/>
                </a:lnTo>
                <a:lnTo>
                  <a:pt x="425" y="359"/>
                </a:lnTo>
                <a:lnTo>
                  <a:pt x="417" y="355"/>
                </a:lnTo>
                <a:lnTo>
                  <a:pt x="411" y="351"/>
                </a:lnTo>
                <a:lnTo>
                  <a:pt x="403" y="347"/>
                </a:lnTo>
                <a:lnTo>
                  <a:pt x="394" y="343"/>
                </a:lnTo>
                <a:lnTo>
                  <a:pt x="384" y="338"/>
                </a:lnTo>
                <a:lnTo>
                  <a:pt x="375" y="332"/>
                </a:lnTo>
                <a:lnTo>
                  <a:pt x="365" y="324"/>
                </a:lnTo>
                <a:lnTo>
                  <a:pt x="354" y="316"/>
                </a:lnTo>
                <a:lnTo>
                  <a:pt x="342" y="309"/>
                </a:lnTo>
                <a:lnTo>
                  <a:pt x="329" y="301"/>
                </a:lnTo>
                <a:lnTo>
                  <a:pt x="315" y="292"/>
                </a:lnTo>
                <a:lnTo>
                  <a:pt x="302" y="282"/>
                </a:lnTo>
                <a:lnTo>
                  <a:pt x="288" y="270"/>
                </a:lnTo>
                <a:lnTo>
                  <a:pt x="273" y="259"/>
                </a:lnTo>
                <a:lnTo>
                  <a:pt x="258" y="247"/>
                </a:lnTo>
                <a:lnTo>
                  <a:pt x="242" y="236"/>
                </a:lnTo>
                <a:lnTo>
                  <a:pt x="225" y="222"/>
                </a:lnTo>
                <a:lnTo>
                  <a:pt x="208" y="209"/>
                </a:lnTo>
                <a:lnTo>
                  <a:pt x="188" y="194"/>
                </a:lnTo>
                <a:lnTo>
                  <a:pt x="171" y="178"/>
                </a:lnTo>
                <a:lnTo>
                  <a:pt x="152" y="163"/>
                </a:lnTo>
                <a:lnTo>
                  <a:pt x="131" y="148"/>
                </a:lnTo>
                <a:lnTo>
                  <a:pt x="112" y="130"/>
                </a:lnTo>
                <a:lnTo>
                  <a:pt x="91" y="113"/>
                </a:lnTo>
                <a:lnTo>
                  <a:pt x="67" y="94"/>
                </a:lnTo>
                <a:lnTo>
                  <a:pt x="46" y="77"/>
                </a:lnTo>
                <a:lnTo>
                  <a:pt x="23" y="57"/>
                </a:lnTo>
                <a:lnTo>
                  <a:pt x="0" y="36"/>
                </a:lnTo>
                <a:lnTo>
                  <a:pt x="10" y="29"/>
                </a:lnTo>
                <a:lnTo>
                  <a:pt x="21" y="21"/>
                </a:lnTo>
                <a:lnTo>
                  <a:pt x="37" y="13"/>
                </a:lnTo>
                <a:lnTo>
                  <a:pt x="52" y="7"/>
                </a:lnTo>
                <a:lnTo>
                  <a:pt x="60" y="6"/>
                </a:lnTo>
                <a:lnTo>
                  <a:pt x="69" y="4"/>
                </a:lnTo>
                <a:lnTo>
                  <a:pt x="79" y="2"/>
                </a:lnTo>
                <a:lnTo>
                  <a:pt x="89" y="2"/>
                </a:lnTo>
                <a:lnTo>
                  <a:pt x="98" y="0"/>
                </a:lnTo>
                <a:lnTo>
                  <a:pt x="110" y="0"/>
                </a:lnTo>
                <a:lnTo>
                  <a:pt x="121" y="0"/>
                </a:lnTo>
                <a:lnTo>
                  <a:pt x="135" y="0"/>
                </a:lnTo>
                <a:lnTo>
                  <a:pt x="156" y="4"/>
                </a:lnTo>
                <a:lnTo>
                  <a:pt x="177" y="9"/>
                </a:lnTo>
                <a:lnTo>
                  <a:pt x="202" y="15"/>
                </a:lnTo>
                <a:lnTo>
                  <a:pt x="227" y="21"/>
                </a:lnTo>
                <a:lnTo>
                  <a:pt x="240" y="25"/>
                </a:lnTo>
                <a:lnTo>
                  <a:pt x="256" y="29"/>
                </a:lnTo>
                <a:lnTo>
                  <a:pt x="269" y="32"/>
                </a:lnTo>
                <a:lnTo>
                  <a:pt x="284" y="38"/>
                </a:lnTo>
                <a:lnTo>
                  <a:pt x="300" y="42"/>
                </a:lnTo>
                <a:lnTo>
                  <a:pt x="317" y="48"/>
                </a:lnTo>
                <a:lnTo>
                  <a:pt x="332" y="55"/>
                </a:lnTo>
                <a:lnTo>
                  <a:pt x="350" y="6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30T08:03:25Z</dcterms:created>
  <dc:creator>Administrator</dc:creator>
  <dc:description/>
  <dc:language>en-US</dc:language>
  <cp:lastModifiedBy>Administrator</cp:lastModifiedBy>
  <dcterms:modified xsi:type="dcterms:W3CDTF">2017-11-29T14:22:40Z</dcterms:modified>
  <cp:revision>44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4</vt:lpwstr>
  </property>
</Properties>
</file>