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84CB7-1D6F-4E69-80A5-FC30916B30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9239C-77DC-4A7A-8914-E41DA17466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835-B1B6-42FA-A246-D84262B1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E4C-171F-4DC5-A170-839CD795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82C-B738-496A-B6DB-0F755544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999-7773-468B-AC9E-91AA9D64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731-CCC3-455E-807C-7AFCACDE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42D-4487-4EEB-9F57-0E8F9252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B61-B39D-4FA0-98A5-BCD29DC0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ABA-03B5-454C-9C33-7E20B766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119-B292-4E06-984B-DC1A96A8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BCD-8B09-4A1D-BBDC-581138A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975-C04C-458D-AB55-1D860C5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073-6026-4B33-9BC5-9D0CB66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E25A9-33A3-4399-AFC0-FB6B5EB60AC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346480" y="2206800"/>
            <a:ext cx="4682880" cy="3127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816200" y="905040"/>
            <a:ext cx="5735520" cy="1180800"/>
            <a:chOff x="1816200" y="905040"/>
            <a:chExt cx="5735520" cy="1180800"/>
          </a:xfrm>
        </p:grpSpPr>
        <p:sp>
          <p:nvSpPr>
            <p:cNvPr id="65" name="Text Box 2"/>
            <p:cNvSpPr/>
            <p:nvPr/>
          </p:nvSpPr>
          <p:spPr>
            <a:xfrm>
              <a:off x="3074760" y="1011240"/>
              <a:ext cx="44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清炒小螺蛳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816200" y="905040"/>
              <a:ext cx="1180800" cy="1180800"/>
              <a:chOff x="181620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8162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0599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569880" y="32385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魂牵梦萦”形容思念情切。抒发了作者思乡的心情，以小螺蛳作为引线，吃到它就想起了大陆，想起了家乡，点出了“我”对“清炒小螺蛳”情有独钟的真正原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757080" y="1878120"/>
            <a:ext cx="76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小螺蛳令人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魂牵梦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吃到它，就想起了大陆，想起了家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21"/>
          <p:cNvSpPr/>
          <p:nvPr/>
        </p:nvSpPr>
        <p:spPr>
          <a:xfrm>
            <a:off x="706320" y="1120680"/>
            <a:ext cx="756936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中心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23"/>
          <p:cNvSpPr/>
          <p:nvPr/>
        </p:nvSpPr>
        <p:spPr>
          <a:xfrm>
            <a:off x="777960" y="2019240"/>
            <a:ext cx="76248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借景抒情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以描写事物来表达自己思想感情的写作方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有什么样的表达效果</a:t>
            </a:r>
            <a:r>
              <a:rPr b="1" lang="en-US" sz="2200" spc="-1" strike="noStrike">
                <a:solidFill>
                  <a:srgbClr val="0070c0"/>
                </a:solidFill>
                <a:latin typeface="黑体"/>
                <a:ea typeface="黑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文章生动具体，委婉含蓄地表达作者内心强烈的感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答题技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进行描写，表达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情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点拨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课后练习单”第二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7"/>
          <p:cNvSpPr/>
          <p:nvPr/>
        </p:nvSpPr>
        <p:spPr>
          <a:xfrm>
            <a:off x="789120" y="204480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977760" y="3213000"/>
            <a:ext cx="7425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原因有三：①“清炒小螺蛳”的味道鲜美，令人馋涎欲滴；②“清炒小螺蛳”是父亲爱吃的菜，寄托着父亲对“我”的爱和“我”对父亲的思念；③“清炒小螺蛳”不仅仅是一道菜，还象征着“我”深深思恋的故乡。所以，“我”对家乡的“清炒小螺蛳”魂牵梦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898560" y="253044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为什么对家乡的“清炒小螺蛳”魂牵梦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内容占位符 2"/>
          <p:cNvSpPr/>
          <p:nvPr/>
        </p:nvSpPr>
        <p:spPr>
          <a:xfrm>
            <a:off x="851040" y="240660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作者此次是什么时间回乡探亲的，为什么选在此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054080" y="36669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此次回乡探亲特意选在春天。这样既可以观赏祖国美丽的湖光山色，又可以到家乡去踏青扫墓祭祖，还可以借此机会回家乡品尝儿时吃过的菜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内容占位符 2"/>
          <p:cNvSpPr/>
          <p:nvPr/>
        </p:nvSpPr>
        <p:spPr>
          <a:xfrm>
            <a:off x="635040" y="16858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625320" y="174312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清炒小螺蛳”在当地是一道怎样的菜？在作者眼里又是一道怎样的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912960" y="29354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大陆，“清炒小螺蛳”是一道极普通的菜，因为它并不是上得了台面的大菜，只是河浜里不起眼的小螺蛳，烧煮方法也很简单，被称为“低级菜”。在作者眼里，“清炒小螺蛳”的味道鲜美，令人馋涎欲滴，不仅色香味能吊起他的胃口，还另有一种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679320" y="1679400"/>
            <a:ext cx="764568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目是“清炒小螺蛳”，为什么重点不是写清炒小螺蛳的具体做法，而是写与小螺蛳有关的故事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993600" y="2846520"/>
            <a:ext cx="73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对“清炒小螺蛳”的痴迷，不仅因为它的色香味能吊起作者的胃口，更重要的是它牵引着作者对家乡的思念、对亲人的思念。作者具体回忆年少时和父亲一起吃“清炒小螺蛳”的事情，通过事例把作者对家乡和亲人的思念之情表现得淋漓尽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743040" y="185904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了它的色香味能吊起我的胃口外，还另又一种情怀”，这是一种什么情怀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135080" y="32130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思念家乡，思念亲人，盼望祖国统一的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3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26"/>
          <p:cNvSpPr/>
          <p:nvPr/>
        </p:nvSpPr>
        <p:spPr>
          <a:xfrm>
            <a:off x="907200" y="202356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清炒小螺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19240" y="4516560"/>
            <a:ext cx="38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抒发“螺蛳情结”　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左大括号 13"/>
          <p:cNvSpPr/>
          <p:nvPr/>
        </p:nvSpPr>
        <p:spPr>
          <a:xfrm>
            <a:off x="1693800" y="2705040"/>
            <a:ext cx="312840" cy="224172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241720"/>
              <a:gd name="textAreaBottom" fmla="*/ 22338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14"/>
          <p:cNvSpPr/>
          <p:nvPr/>
        </p:nvSpPr>
        <p:spPr>
          <a:xfrm>
            <a:off x="4316400" y="4405320"/>
            <a:ext cx="168120" cy="71928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719280"/>
              <a:gd name="textAreaBottom" fmla="*/ 7149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1"/>
                </a:cubicBezTo>
                <a:lnTo>
                  <a:pt x="10800" y="10379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1"/>
                </a:cubicBezTo>
                <a:lnTo>
                  <a:pt x="10800" y="21179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左大括号 15"/>
          <p:cNvSpPr/>
          <p:nvPr/>
        </p:nvSpPr>
        <p:spPr>
          <a:xfrm flipH="1">
            <a:off x="5996880" y="2705040"/>
            <a:ext cx="236520" cy="2241720"/>
          </a:xfrm>
          <a:custGeom>
            <a:avLst/>
            <a:gdLst>
              <a:gd name="textAreaLeft" fmla="*/ 150840 w 236520"/>
              <a:gd name="textAreaRight" fmla="*/ 236520 w 236520"/>
              <a:gd name="textAreaTop" fmla="*/ 6120 h 2241720"/>
              <a:gd name="textAreaBottom" fmla="*/ 22356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6643440" y="31003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难忘螺蛳美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情系遥远故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4529160" y="4157640"/>
            <a:ext cx="1676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忆童年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抒思乡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2370600" y="2705040"/>
            <a:ext cx="14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春季回乡探亲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2049480" y="3633840"/>
            <a:ext cx="406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吃到家乡菜“清炒小螺蛳”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34920" y="249408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是一篇借物抒情的文章，通过写作者对家乡小菜十分怀念，特别是对“清炒小螺蛳”情有独钟，抒发了对家乡的思念之情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矩形 1"/>
          <p:cNvSpPr/>
          <p:nvPr/>
        </p:nvSpPr>
        <p:spPr>
          <a:xfrm>
            <a:off x="741240" y="1841400"/>
            <a:ext cx="782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故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让我时时魂牵梦绕的家乡，其实是一个风景秀美的小山村。多少次趟过记忆的长河，多少回穿越时空的隧道，跋山涉水，梦回这山清水秀的家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思念家乡的那座高山，主峰直插云霄，把家乡的天撑得高远深邃。它四季常青，绿树成荫，十分清幽。山稔花开时，满山遍野都点缀着粉红色的花朵，像繁星点点，煞是好看；山稔果熟时，令人垂涎三尺，更逗得孩子们满山乱跑，其实，我喜欢家乡的山，是因为我人生的底色就是山的本色，我个性里就有山的影子和山的秉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26920" y="2617920"/>
            <a:ext cx="75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懂课文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文中作者所表达的深深思乡之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741240" y="1211400"/>
            <a:ext cx="782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向往家乡的山，是因为它像故乡人一样勤劳、率真，清晨捧着日出，给朝霞以亮丽；傍晚守候日落，给晚霞以辉煌。我崇拜家乡的山，是因为它像父亲一样忠厚、坚强，有着父亲挺拔的脊梁，厚实的胸膛。“站起来就是一座山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思念家乡的那条山路。 崎岖而又蜿蜒。那条山路有母亲守候的牵挂，有乡亲盼望的视线，也有游子依依回望的目光，更有我的欢乐、向往与追求，当然也有过我的梦幻与彷徨。小时候常常望着那条山路发呆，不知它通向何方，更不知重重大山之外是什么模样。于是便常常幻想有一天能长出一双翅膀，飞过万水千山，看一看山外的世界。如今，终于天堑变通途，展现在眼前的是一条水泥大道，故乡的父老乡亲再也用不着在斗折蛇行的羊肠小道上苦苦挣扎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741240" y="1211400"/>
            <a:ext cx="782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我思念家乡的那条河，它记载了我的成长足迹，也记载了父母对我的厚爱，它承载着我太多的记忆。忘不了孩提时父亲常常抱我来到河边，给我讲述关于河的故事；忘不了上学时母亲常常在河边目送我上学，叮咛我要好好学习，天天向上；忘不了祖母常常在河边望眼欲穿，盼望我常回家看看。河水奔流不息，潺潺地唱着乡村古老的歌谣，这歌声飘进我的耳朵，不管走到哪里，只要听到那淙淙的流水声，我就觉得我的故乡很近了，仿佛就在昨天，仿佛就在眼前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人在他乡，只要提起故乡，就像品味童年的记忆，就像咀嚼岁月的风霜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9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" name="图片 2" descr=""/>
          <p:cNvPicPr/>
          <p:nvPr/>
        </p:nvPicPr>
        <p:blipFill>
          <a:blip r:embed="rId2"/>
          <a:srcRect l="0" t="0" r="0" b="24948"/>
          <a:stretch/>
        </p:blipFill>
        <p:spPr>
          <a:xfrm>
            <a:off x="1374840" y="2030400"/>
            <a:ext cx="6865920" cy="3390840"/>
          </a:xfrm>
          <a:prstGeom prst="rect">
            <a:avLst/>
          </a:prstGeom>
          <a:ln w="0">
            <a:noFill/>
          </a:ln>
        </p:spPr>
      </p:pic>
      <p:sp>
        <p:nvSpPr>
          <p:cNvPr id="163" name="矩形 1"/>
          <p:cNvSpPr/>
          <p:nvPr/>
        </p:nvSpPr>
        <p:spPr>
          <a:xfrm>
            <a:off x="1114560" y="2971800"/>
            <a:ext cx="7126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露从今夜白，月是故乡明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月夜忆舍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甫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烽火连三月，家书抵万金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春望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甫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矩形 1"/>
          <p:cNvSpPr/>
          <p:nvPr/>
        </p:nvSpPr>
        <p:spPr>
          <a:xfrm>
            <a:off x="1428480" y="221472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趣味谜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206360" y="2681280"/>
            <a:ext cx="68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瓶，小小盖，小小瓶里好荤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谜底：螺蛳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1493640" y="391968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苏轼与美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206360" y="439272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东坡既是词人，也是美食家。相传与他有直接关系的美食很多，用他名字命名的菜肴更多，如“东坡肘子”“东坡豆腐”“东坡肉”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学习本篇课文，叙述了作者对“清炒小螺蛳”的喜爱，将作者的思乡之情蕴藏在字里行间里。这是一种思乡的深情，是台湾游子日日思盼回到家乡，天天渴望两岸团圆的思念家乡的情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2"/>
          <p:cNvSpPr/>
          <p:nvPr/>
        </p:nvSpPr>
        <p:spPr>
          <a:xfrm>
            <a:off x="682560" y="2073240"/>
            <a:ext cx="78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说，“我对家乡的螺蛳情有独钟，且常思常念，除了它的色香味能吊起我的胃口外，还另有一种情怀。”你知道这是一种怎样的情怀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966960" y="388476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种情怀是一种思乡的深情，是作者对亲情的一种怀念，是台湾游子渴望两岸团圆，盼望祖国统一的情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-42840" y="884160"/>
            <a:ext cx="43099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7"/>
          <p:cNvSpPr/>
          <p:nvPr/>
        </p:nvSpPr>
        <p:spPr>
          <a:xfrm>
            <a:off x="735120" y="2060640"/>
            <a:ext cx="75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篇课文记叙的事情有在大陆的，有在台湾的；记叙的时间有现在的，有过去的。作者用了许多关联词语巧妙地把它们连接起来，使文章既紧凑又充分抒发了情怀。把这些词语画出来，再读一读这些句子，体会关联词语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706320" y="1285920"/>
            <a:ext cx="786924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①“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既可以观赏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又可以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踏青扫墓祭祖”这个句子点出了作者在春天回大陆的原因，表明了作者思乡心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②“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无论是家里做的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还是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都未能吃出当年的味道”这个句子写出了“我”回到大陆后吃的菜都已不是当年的味道了，并引出了对“清炒小螺蛳”这道菜的叙述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③“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除了它的色香味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还另有一种情怀”这个句子点出了“我”对这道菜的另一种情结，在时间上也由现在回到了童年时期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7"/>
          <p:cNvSpPr/>
          <p:nvPr/>
        </p:nvSpPr>
        <p:spPr>
          <a:xfrm>
            <a:off x="797040" y="1814400"/>
            <a:ext cx="74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1112760" y="2505240"/>
            <a:ext cx="71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语言朴实，感情真挚，字里行间流露出作者对家乡和亲人的思念，朗读时要注意体会这一点。叙述前几年回家乡的语句要读得低沉一些；叙述这次回大陆的语句要读得高昂一些；回到家乡与亲人在一起的语句要读得亲切一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矩形 19"/>
          <p:cNvSpPr/>
          <p:nvPr/>
        </p:nvSpPr>
        <p:spPr>
          <a:xfrm>
            <a:off x="826920" y="237168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写出句中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清炒小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蛳”这道菜的味道会如此鲜美，葱、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调料起到了不小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没能吃到令我魂牵梦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“小螺蛳”，该是多么令人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憾的一件事呀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你吃过“黄鱼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道菜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3341520" y="480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8"/>
          <p:cNvSpPr/>
          <p:nvPr/>
        </p:nvSpPr>
        <p:spPr>
          <a:xfrm>
            <a:off x="4829040" y="425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9"/>
          <p:cNvSpPr/>
          <p:nvPr/>
        </p:nvSpPr>
        <p:spPr>
          <a:xfrm>
            <a:off x="269316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0"/>
          <p:cNvSpPr/>
          <p:nvPr/>
        </p:nvSpPr>
        <p:spPr>
          <a:xfrm>
            <a:off x="3323520" y="534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735360" y="5205240"/>
            <a:ext cx="9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ē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3148560" y="302112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lu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2410920" y="3546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7"/>
          <p:cNvSpPr/>
          <p:nvPr/>
        </p:nvSpPr>
        <p:spPr>
          <a:xfrm>
            <a:off x="5187600" y="4103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í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8"/>
          <p:cNvSpPr/>
          <p:nvPr/>
        </p:nvSpPr>
        <p:spPr>
          <a:xfrm>
            <a:off x="4276080" y="46404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0"/>
          <p:cNvSpPr/>
          <p:nvPr/>
        </p:nvSpPr>
        <p:spPr>
          <a:xfrm>
            <a:off x="207576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441360" y="809640"/>
            <a:ext cx="8402760" cy="5643720"/>
            <a:chOff x="441360" y="809640"/>
            <a:chExt cx="8402760" cy="5643720"/>
          </a:xfrm>
        </p:grpSpPr>
        <p:sp>
          <p:nvSpPr>
            <p:cNvPr id="74" name="圆角矩形 4"/>
            <p:cNvSpPr/>
            <p:nvPr/>
          </p:nvSpPr>
          <p:spPr>
            <a:xfrm>
              <a:off x="441360" y="3702960"/>
              <a:ext cx="348408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读课文，说说作者此次是什么时间回乡探亲的，为什么选在此时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680" y="3684600"/>
              <a:ext cx="361944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清炒小螺蛳”在当地是一道怎样的菜？在作者眼里又是一道怎样的菜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4954680"/>
              <a:ext cx="36324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我对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除了它的色香味能吊起我的胃口外，还另又一种情怀”，这是一种什么情怀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441360" y="4955040"/>
              <a:ext cx="3484080" cy="115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题目是“清炒小螺蛳”，为什么重点不是写清炒小螺蛳的具体做法，而是写与小螺蛳有关的故事呢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809640"/>
              <a:ext cx="4767480" cy="5643720"/>
              <a:chOff x="2188080" y="809640"/>
              <a:chExt cx="4767480" cy="5643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809640"/>
                <a:ext cx="4767480" cy="56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623320" y="1572480"/>
                <a:ext cx="3840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者为什么对家乡的“清炒小螺蛳”魂牵梦萦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575960" y="10483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魂牵梦绕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52720" y="26002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52720" y="3692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25480" y="26002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25480" y="3692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矩形 20"/>
          <p:cNvSpPr/>
          <p:nvPr/>
        </p:nvSpPr>
        <p:spPr>
          <a:xfrm>
            <a:off x="1692360" y="1549440"/>
            <a:ext cx="64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ǎo  cài              mù    dì               zhí    zi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ù      yù              wèi    kǒu            jiā     yáo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     sè             shuǐ  wān             tiān    j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"/>
          <p:cNvSpPr/>
          <p:nvPr/>
        </p:nvSpPr>
        <p:spPr>
          <a:xfrm>
            <a:off x="1942920" y="2643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炒 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2"/>
          <p:cNvSpPr/>
          <p:nvPr/>
        </p:nvSpPr>
        <p:spPr>
          <a:xfrm>
            <a:off x="1942920" y="373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富 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3"/>
          <p:cNvSpPr/>
          <p:nvPr/>
        </p:nvSpPr>
        <p:spPr>
          <a:xfrm>
            <a:off x="4068360" y="2649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墓 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4"/>
          <p:cNvSpPr/>
          <p:nvPr/>
        </p:nvSpPr>
        <p:spPr>
          <a:xfrm>
            <a:off x="4078080" y="3719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 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12000" y="25988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012000" y="36892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矩形 29"/>
          <p:cNvSpPr/>
          <p:nvPr/>
        </p:nvSpPr>
        <p:spPr>
          <a:xfrm>
            <a:off x="6229800" y="264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侄 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0"/>
          <p:cNvSpPr/>
          <p:nvPr/>
        </p:nvSpPr>
        <p:spPr>
          <a:xfrm>
            <a:off x="6229800" y="3732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佳 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17800" y="47847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690560" y="47847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矩形 33"/>
          <p:cNvSpPr/>
          <p:nvPr/>
        </p:nvSpPr>
        <p:spPr>
          <a:xfrm>
            <a:off x="1908720" y="482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暮 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4"/>
          <p:cNvSpPr/>
          <p:nvPr/>
        </p:nvSpPr>
        <p:spPr>
          <a:xfrm>
            <a:off x="4043160" y="4811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 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977080" y="47829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矩形 36"/>
          <p:cNvSpPr/>
          <p:nvPr/>
        </p:nvSpPr>
        <p:spPr>
          <a:xfrm>
            <a:off x="6194880" y="4826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 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4"/>
          <p:cNvSpPr/>
          <p:nvPr/>
        </p:nvSpPr>
        <p:spPr>
          <a:xfrm>
            <a:off x="1116000" y="1700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串串珍珠，珍藏在我的脑海深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讲授新课前，我们常常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旧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往事，总会带给我们一些启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"/>
          <p:cNvSpPr/>
          <p:nvPr/>
        </p:nvSpPr>
        <p:spPr>
          <a:xfrm>
            <a:off x="2916360" y="2603520"/>
            <a:ext cx="2735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回忆　回顾　回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2016720" y="345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回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5378040" y="4000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回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2014200" y="4438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回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7"/>
          <p:cNvSpPr/>
          <p:nvPr/>
        </p:nvSpPr>
        <p:spPr>
          <a:xfrm>
            <a:off x="819000" y="2060640"/>
            <a:ext cx="756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根据课文内容判断正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本文是一篇散文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作者借“清炒小螺蛳”这道菜来表达寄身香港多年的思乡之情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8"/>
          <p:cNvSpPr/>
          <p:nvPr/>
        </p:nvSpPr>
        <p:spPr>
          <a:xfrm>
            <a:off x="4067280" y="2612880"/>
            <a:ext cx="4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/>
          <p:cNvSpPr/>
          <p:nvPr/>
        </p:nvSpPr>
        <p:spPr>
          <a:xfrm>
            <a:off x="3574800" y="381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6"/>
          <p:cNvSpPr/>
          <p:nvPr/>
        </p:nvSpPr>
        <p:spPr>
          <a:xfrm>
            <a:off x="819000" y="2079720"/>
            <a:ext cx="75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回家乡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1349280" y="4241880"/>
            <a:ext cx="63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既喜欢读书，又喜欢弹钢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1349280" y="317196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外漂泊了多年的我终于回到了朝思暮想的家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78160" y="2216160"/>
            <a:ext cx="68904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077840" y="15098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几年回来，都是在暮秋，或者初冬。这次回大陆，我特意选在美景如画的春天，这样既可以观赏祖国美丽的湖光山色，又可以到家乡去踏青扫墓祭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187280" y="3800520"/>
            <a:ext cx="68058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意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“我”这次回乡是经过精心安排的，是盼望已久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9"/>
          <p:cNvSpPr/>
          <p:nvPr/>
        </p:nvSpPr>
        <p:spPr>
          <a:xfrm>
            <a:off x="4562640" y="2766960"/>
            <a:ext cx="368280" cy="36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17"/>
          <p:cNvSpPr/>
          <p:nvPr/>
        </p:nvSpPr>
        <p:spPr>
          <a:xfrm>
            <a:off x="6691320" y="2216160"/>
            <a:ext cx="368280" cy="36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1187280" y="4915080"/>
            <a:ext cx="68058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交代了“我”回乡的两个目的，体现了“我”的思乡心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790560" y="110160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联词语“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的是并列关系，请你也写一个这样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24" descr="花盆.png"/>
          <p:cNvPicPr/>
          <p:nvPr/>
        </p:nvPicPr>
        <p:blipFill>
          <a:blip r:embed="rId1"/>
          <a:stretch/>
        </p:blipFill>
        <p:spPr>
          <a:xfrm>
            <a:off x="547560" y="1255680"/>
            <a:ext cx="322560" cy="36828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2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7"/>
          <p:cNvSpPr/>
          <p:nvPr/>
        </p:nvSpPr>
        <p:spPr>
          <a:xfrm>
            <a:off x="790560" y="271476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坚持阅读课外书，既可以增长知识，又能丰富我们的课余生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639720" y="125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动身前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朋友们开玩笑说，这次回去，我很想吃几样小菜，如八宝辣酱、清爆鳝背、黄鱼羹、咸菜豆瓣汤、酱汁肉、炒螺蛳、青蚕豆，等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777960" y="3587760"/>
            <a:ext cx="7683480" cy="558720"/>
            <a:chOff x="777960" y="3587760"/>
            <a:chExt cx="7683480" cy="558720"/>
          </a:xfrm>
        </p:grpSpPr>
        <p:sp>
          <p:nvSpPr>
            <p:cNvPr id="97" name="直接连接符 4"/>
            <p:cNvSpPr/>
            <p:nvPr/>
          </p:nvSpPr>
          <p:spPr>
            <a:xfrm>
              <a:off x="777960" y="41464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任意多边形 5"/>
            <p:cNvSpPr/>
            <p:nvPr/>
          </p:nvSpPr>
          <p:spPr>
            <a:xfrm>
              <a:off x="777960" y="35877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作者列举了许多家乡的小菜，这样写是不是太啰唆？从中你能读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1"/>
          <p:cNvSpPr/>
          <p:nvPr/>
        </p:nvSpPr>
        <p:spPr>
          <a:xfrm>
            <a:off x="679320" y="4305240"/>
            <a:ext cx="79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列举了家乡的七种小菜，还没到家乡，就想到了这些菜肴，并一一列举出来，足见“我”对家乡味道的记忆深刻，表现了浓厚的思乡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"/>
          <p:cNvSpPr/>
          <p:nvPr/>
        </p:nvSpPr>
        <p:spPr>
          <a:xfrm>
            <a:off x="628560" y="1108080"/>
            <a:ext cx="78487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这道菜，并不是上得了台面的大菜，只是河浜里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不起眼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的小螺蛳。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烧煮方法也很简单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先把螺蛳的尾巴剪掉，洗净，然后在油锅里放入葱、姜翻炒，加酒、酱油、糖翻几下，再放些水煮熟就行了。但</a:t>
            </a:r>
            <a:r>
              <a:rPr b="1" lang="zh-CN" sz="2100" spc="-1" strike="noStrike">
                <a:solidFill>
                  <a:srgbClr val="0070c0"/>
                </a:solidFill>
                <a:latin typeface="楷体"/>
                <a:ea typeface="楷体"/>
              </a:rPr>
              <a:t>其味鲜美无比，吃了还想吃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6"/>
          <p:cNvGrpSpPr/>
          <p:nvPr/>
        </p:nvGrpSpPr>
        <p:grpSpPr>
          <a:xfrm>
            <a:off x="746280" y="3630600"/>
            <a:ext cx="7683480" cy="560520"/>
            <a:chOff x="746280" y="3630600"/>
            <a:chExt cx="7683480" cy="560520"/>
          </a:xfrm>
        </p:grpSpPr>
        <p:sp>
          <p:nvSpPr>
            <p:cNvPr id="102" name="直接连接符 7"/>
            <p:cNvSpPr/>
            <p:nvPr/>
          </p:nvSpPr>
          <p:spPr>
            <a:xfrm>
              <a:off x="746280" y="41911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任意多边形 8"/>
            <p:cNvSpPr/>
            <p:nvPr/>
          </p:nvSpPr>
          <p:spPr>
            <a:xfrm>
              <a:off x="746280" y="363060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913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1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作者对“清炒小螺蛳”印象深刻，可是在介绍的时候却一再强调它的普通，这是一种什么写法？有何作用？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4"/>
          <p:cNvSpPr/>
          <p:nvPr/>
        </p:nvSpPr>
        <p:spPr>
          <a:xfrm>
            <a:off x="652320" y="4273560"/>
            <a:ext cx="77774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先点明这道菜“不起眼”“烧煮方法也很简单”，而后笔锋一转，强调“其味鲜美无比，吃了还想吃”，这是欲扬先抑的写法。为什么这么普通的小菜会给作者留下那么深刻的印象呢？引起读者的好奇心，为下文交代原因做准备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"/>
          <p:cNvSpPr/>
          <p:nvPr/>
        </p:nvSpPr>
        <p:spPr>
          <a:xfrm>
            <a:off x="874800" y="111600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次回到上海家中，吃的第一道菜就是炒螺蛳，满满一大碗，全家人围着吃得津津有味。突然，小侄女发言了，她说：“台湾同胞回祖国大陆怎么喜欢吃这种</a:t>
            </a:r>
            <a:r>
              <a:rPr b="1" lang="zh-CN" sz="2400" spc="-1" strike="noStrike">
                <a:solidFill>
                  <a:srgbClr val="336699"/>
                </a:solidFill>
                <a:latin typeface="楷体"/>
                <a:ea typeface="楷体"/>
              </a:rPr>
              <a:t>‘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低级菜’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3"/>
          <p:cNvGrpSpPr/>
          <p:nvPr/>
        </p:nvGrpSpPr>
        <p:grpSpPr>
          <a:xfrm>
            <a:off x="876240" y="3336840"/>
            <a:ext cx="7683480" cy="558720"/>
            <a:chOff x="876240" y="3336840"/>
            <a:chExt cx="7683480" cy="558720"/>
          </a:xfrm>
        </p:grpSpPr>
        <p:sp>
          <p:nvSpPr>
            <p:cNvPr id="107" name="直接连接符 4"/>
            <p:cNvSpPr/>
            <p:nvPr/>
          </p:nvSpPr>
          <p:spPr>
            <a:xfrm>
              <a:off x="876240" y="38955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任意多边形 5"/>
            <p:cNvSpPr/>
            <p:nvPr/>
          </p:nvSpPr>
          <p:spPr>
            <a:xfrm>
              <a:off x="876240" y="33368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写小侄女的话是不是多余的？说说你的看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矩形 1"/>
          <p:cNvSpPr/>
          <p:nvPr/>
        </p:nvSpPr>
        <p:spPr>
          <a:xfrm>
            <a:off x="876240" y="3967200"/>
            <a:ext cx="78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侄女的话虽然问得幼稚，却道出了一个远离家乡的游子对故乡的一片深情。被当地人称为“低级菜”的“清炒小螺蛳”令“我”魂牵梦萦，从侧面表现了“我”对家乡的思恋，引出下文的叙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2"/>
          <p:cNvSpPr/>
          <p:nvPr/>
        </p:nvSpPr>
        <p:spPr>
          <a:xfrm>
            <a:off x="617400" y="31910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由眼前的螺蛳引起回忆，并叙述了父亲吃小螺蛳的情景，这种写法叫“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插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。从插叙的事情中可以感受到父亲对“我”的爱，表达了“我”对父亲的思念，从而使读者对“螺蛳情结”有了更深一层的理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3"/>
          <p:cNvGrpSpPr/>
          <p:nvPr/>
        </p:nvGrpSpPr>
        <p:grpSpPr>
          <a:xfrm>
            <a:off x="700200" y="2368440"/>
            <a:ext cx="7683480" cy="560520"/>
            <a:chOff x="700200" y="2368440"/>
            <a:chExt cx="7683480" cy="560520"/>
          </a:xfrm>
        </p:grpSpPr>
        <p:sp>
          <p:nvSpPr>
            <p:cNvPr id="112" name="直接连接符 4"/>
            <p:cNvSpPr/>
            <p:nvPr/>
          </p:nvSpPr>
          <p:spPr>
            <a:xfrm>
              <a:off x="700200" y="2928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任意多边形 5"/>
            <p:cNvSpPr/>
            <p:nvPr/>
          </p:nvSpPr>
          <p:spPr>
            <a:xfrm>
              <a:off x="700200" y="236844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由眼前的螺蛳引起了年少时的回忆，写了父亲爱吃小螺蛳，这是一种什么写法？从中你感受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07:20:12Z</dcterms:modified>
  <cp:revision>4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