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6.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275EB3-07B6-44BF-BA3C-B1D2D38A9F2D}"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3901D5-F4ED-4F29-A3D5-AAA4B54F361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ff0000"/>
              </a:solidFill>
              <a:latin typeface="Calibri"/>
            </a:endParaRPr>
          </a:p>
        </p:txBody>
      </p:sp>
      <p:sp>
        <p:nvSpPr>
          <p:cNvPr id="3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B6F6C-61D6-4467-A630-1AF34568C27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01A61-E2B9-446C-9AAB-C9335E86C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A2659-7E5E-421C-8FED-D919F753C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F7B7E-B035-46C2-AB42-D0B0AF971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55557-7955-4701-BC4D-10831A5D1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C0E5B-F13C-4DE9-BE38-8D4FB5F0F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EA34C-A698-484B-9669-816C17CDF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ED29B-3CF4-4534-891B-FB389DB1A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8C953-30E5-4CD4-98B1-7CEA623FB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47B91-8F0A-415C-BD6B-70F587EA4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4DBB6-C4A0-4E77-B29A-720C4B24B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ED932-FCB9-499F-9A19-732F6CFD9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3555D-DEC2-4A52-8DF6-0694D5414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A826B-E91F-4545-B8DA-8F6CCD87AF7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gi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22" descr=""/>
          <p:cNvPicPr/>
          <p:nvPr/>
        </p:nvPicPr>
        <p:blipFill>
          <a:blip r:embed="rId1"/>
          <a:stretch/>
        </p:blipFill>
        <p:spPr>
          <a:xfrm>
            <a:off x="2127240" y="2401920"/>
            <a:ext cx="5041800" cy="268272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86280" y="3159000"/>
            <a:ext cx="3186000" cy="1150920"/>
            <a:chOff x="3086280" y="3159000"/>
            <a:chExt cx="3186000" cy="1150920"/>
          </a:xfrm>
        </p:grpSpPr>
        <p:sp>
          <p:nvSpPr>
            <p:cNvPr id="61" name="矩形 13324"/>
            <p:cNvSpPr/>
            <p:nvPr/>
          </p:nvSpPr>
          <p:spPr>
            <a:xfrm>
              <a:off x="3086280" y="3159000"/>
              <a:ext cx="3175200" cy="115092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879000" y="3247920"/>
              <a:ext cx="1059840" cy="1014480"/>
            </a:xfrm>
            <a:prstGeom prst="rect">
              <a:avLst/>
            </a:prstGeom>
            <a:ln w="0">
              <a:noFill/>
            </a:ln>
          </p:spPr>
        </p:pic>
        <p:sp>
          <p:nvSpPr>
            <p:cNvPr id="63" name="矩形 47"/>
            <p:cNvSpPr/>
            <p:nvPr/>
          </p:nvSpPr>
          <p:spPr>
            <a:xfrm>
              <a:off x="3086280" y="3355560"/>
              <a:ext cx="31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00000"/>
                  </a:solidFill>
                  <a:latin typeface="方正黑体简体"/>
                  <a:ea typeface="方正黑体简体"/>
                </a:rPr>
                <a:t>第 一 课时</a:t>
              </a:r>
              <a:endParaRPr b="0" lang="en-US" sz="4000" spc="-1" strike="noStrike">
                <a:solidFill>
                  <a:srgbClr val="000000"/>
                </a:solidFill>
                <a:latin typeface="Calibri"/>
              </a:endParaRPr>
            </a:p>
          </p:txBody>
        </p:sp>
      </p:grpSp>
      <p:grpSp>
        <p:nvGrpSpPr>
          <p:cNvPr id="64" name="组合 13338"/>
          <p:cNvGrpSpPr/>
          <p:nvPr/>
        </p:nvGrpSpPr>
        <p:grpSpPr>
          <a:xfrm>
            <a:off x="1486080" y="905040"/>
            <a:ext cx="6327720" cy="1180800"/>
            <a:chOff x="1486080" y="905040"/>
            <a:chExt cx="6327720" cy="1180800"/>
          </a:xfrm>
        </p:grpSpPr>
        <p:sp>
          <p:nvSpPr>
            <p:cNvPr id="65" name="Text Box 2"/>
            <p:cNvSpPr/>
            <p:nvPr/>
          </p:nvSpPr>
          <p:spPr>
            <a:xfrm>
              <a:off x="2662200" y="1011240"/>
              <a:ext cx="5151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飞吧，你飞吧！</a:t>
              </a:r>
              <a:endParaRPr b="0" lang="en-US" sz="6000" spc="-1" strike="noStrike">
                <a:solidFill>
                  <a:srgbClr val="000000"/>
                </a:solidFill>
                <a:latin typeface="Calibri"/>
              </a:endParaRPr>
            </a:p>
          </p:txBody>
        </p:sp>
        <p:grpSp>
          <p:nvGrpSpPr>
            <p:cNvPr id="66" name="组合 13337"/>
            <p:cNvGrpSpPr/>
            <p:nvPr/>
          </p:nvGrpSpPr>
          <p:grpSpPr>
            <a:xfrm>
              <a:off x="1486080" y="905040"/>
              <a:ext cx="1180800" cy="1180800"/>
              <a:chOff x="1486080" y="905040"/>
              <a:chExt cx="1180800" cy="1180800"/>
            </a:xfrm>
          </p:grpSpPr>
          <p:sp>
            <p:nvSpPr>
              <p:cNvPr id="67" name="AutoShape 11"/>
              <p:cNvSpPr/>
              <p:nvPr/>
            </p:nvSpPr>
            <p:spPr>
              <a:xfrm>
                <a:off x="1486080" y="905040"/>
                <a:ext cx="118080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1729800" y="984960"/>
                <a:ext cx="63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9</a:t>
                </a:r>
                <a:endParaRPr b="0" lang="en-US" sz="6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矩形 4"/>
          <p:cNvSpPr/>
          <p:nvPr/>
        </p:nvSpPr>
        <p:spPr>
          <a:xfrm>
            <a:off x="2218680" y="25322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纱</a:t>
            </a:r>
            <a:endParaRPr b="0" lang="en-US" sz="8000" spc="-1" strike="noStrike">
              <a:solidFill>
                <a:srgbClr val="000000"/>
              </a:solidFill>
              <a:latin typeface="Calibri"/>
            </a:endParaRPr>
          </a:p>
        </p:txBody>
      </p:sp>
      <p:graphicFrame>
        <p:nvGraphicFramePr>
          <p:cNvPr id="204" name=""/>
          <p:cNvGraphicFramePr/>
          <p:nvPr/>
        </p:nvGraphicFramePr>
        <p:xfrm>
          <a:off x="5114880" y="2382840"/>
          <a:ext cx="2941560" cy="3040200"/>
        </p:xfrm>
        <a:graphic>
          <a:graphicData uri="http://schemas.openxmlformats.org/drawingml/2006/table">
            <a:tbl>
              <a:tblPr/>
              <a:tblGrid>
                <a:gridCol w="1471680"/>
                <a:gridCol w="146988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05" name="组合 3"/>
          <p:cNvGrpSpPr/>
          <p:nvPr/>
        </p:nvGrpSpPr>
        <p:grpSpPr>
          <a:xfrm>
            <a:off x="1400040" y="3975120"/>
            <a:ext cx="2840040" cy="1571760"/>
            <a:chOff x="1400040" y="3975120"/>
            <a:chExt cx="2840040" cy="1571760"/>
          </a:xfrm>
        </p:grpSpPr>
        <p:pic>
          <p:nvPicPr>
            <p:cNvPr id="206" name="图示 4" descr=""/>
            <p:cNvPicPr/>
            <p:nvPr/>
          </p:nvPicPr>
          <p:blipFill>
            <a:blip r:embed="rId1"/>
            <a:stretch/>
          </p:blipFill>
          <p:spPr>
            <a:xfrm>
              <a:off x="1400040" y="3975120"/>
              <a:ext cx="2840040" cy="1571760"/>
            </a:xfrm>
            <a:prstGeom prst="rect">
              <a:avLst/>
            </a:prstGeom>
            <a:ln w="0">
              <a:noFill/>
            </a:ln>
          </p:spPr>
        </p:pic>
        <p:sp>
          <p:nvSpPr>
            <p:cNvPr id="207" name="矩形 2"/>
            <p:cNvSpPr/>
            <p:nvPr/>
          </p:nvSpPr>
          <p:spPr>
            <a:xfrm>
              <a:off x="1444680" y="458784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窄右宽。右部两点相呼应，撇向左下长伸。</a:t>
              </a:r>
              <a:endParaRPr b="0" lang="en-US" sz="2000" spc="-1" strike="noStrike">
                <a:solidFill>
                  <a:srgbClr val="000000"/>
                </a:solidFill>
                <a:latin typeface="Calibri"/>
              </a:endParaRPr>
            </a:p>
          </p:txBody>
        </p:sp>
      </p:grpSp>
      <p:sp>
        <p:nvSpPr>
          <p:cNvPr id="208" name="矩形 2"/>
          <p:cNvSpPr/>
          <p:nvPr/>
        </p:nvSpPr>
        <p:spPr>
          <a:xfrm>
            <a:off x="1886040" y="1792440"/>
            <a:ext cx="1582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shā</a:t>
            </a:r>
            <a:endParaRPr b="0" lang="en-US" sz="4800" spc="-1" strike="noStrike">
              <a:solidFill>
                <a:srgbClr val="000000"/>
              </a:solidFill>
              <a:latin typeface="Calibri"/>
            </a:endParaRPr>
          </a:p>
        </p:txBody>
      </p:sp>
      <p:sp>
        <p:nvSpPr>
          <p:cNvPr id="209" name="Freeform 64"/>
          <p:cNvSpPr/>
          <p:nvPr/>
        </p:nvSpPr>
        <p:spPr>
          <a:xfrm>
            <a:off x="5965920" y="3672000"/>
            <a:ext cx="1347840" cy="1369800"/>
          </a:xfrm>
          <a:custGeom>
            <a:avLst/>
            <a:gdLst/>
            <a:ahLst/>
            <a:rect l="l" t="t" r="r" b="b"/>
            <a:pathLst>
              <a:path w="1699" h="1725">
                <a:moveTo>
                  <a:pt x="1699" y="176"/>
                </a:moveTo>
                <a:lnTo>
                  <a:pt x="1699" y="180"/>
                </a:lnTo>
                <a:lnTo>
                  <a:pt x="1699" y="182"/>
                </a:lnTo>
                <a:lnTo>
                  <a:pt x="1697" y="188"/>
                </a:lnTo>
                <a:lnTo>
                  <a:pt x="1695" y="192"/>
                </a:lnTo>
                <a:lnTo>
                  <a:pt x="1693" y="198"/>
                </a:lnTo>
                <a:lnTo>
                  <a:pt x="1691" y="203"/>
                </a:lnTo>
                <a:lnTo>
                  <a:pt x="1687" y="209"/>
                </a:lnTo>
                <a:lnTo>
                  <a:pt x="1684" y="217"/>
                </a:lnTo>
                <a:lnTo>
                  <a:pt x="1680" y="224"/>
                </a:lnTo>
                <a:lnTo>
                  <a:pt x="1676" y="234"/>
                </a:lnTo>
                <a:lnTo>
                  <a:pt x="1670" y="244"/>
                </a:lnTo>
                <a:lnTo>
                  <a:pt x="1664" y="253"/>
                </a:lnTo>
                <a:lnTo>
                  <a:pt x="1659" y="265"/>
                </a:lnTo>
                <a:lnTo>
                  <a:pt x="1653" y="274"/>
                </a:lnTo>
                <a:lnTo>
                  <a:pt x="1645" y="288"/>
                </a:lnTo>
                <a:lnTo>
                  <a:pt x="1639" y="299"/>
                </a:lnTo>
                <a:lnTo>
                  <a:pt x="1632" y="313"/>
                </a:lnTo>
                <a:lnTo>
                  <a:pt x="1622" y="328"/>
                </a:lnTo>
                <a:lnTo>
                  <a:pt x="1615" y="342"/>
                </a:lnTo>
                <a:lnTo>
                  <a:pt x="1605" y="357"/>
                </a:lnTo>
                <a:lnTo>
                  <a:pt x="1595" y="374"/>
                </a:lnTo>
                <a:lnTo>
                  <a:pt x="1586" y="389"/>
                </a:lnTo>
                <a:lnTo>
                  <a:pt x="1574" y="407"/>
                </a:lnTo>
                <a:lnTo>
                  <a:pt x="1565" y="426"/>
                </a:lnTo>
                <a:lnTo>
                  <a:pt x="1553" y="445"/>
                </a:lnTo>
                <a:lnTo>
                  <a:pt x="1542" y="464"/>
                </a:lnTo>
                <a:lnTo>
                  <a:pt x="1528" y="484"/>
                </a:lnTo>
                <a:lnTo>
                  <a:pt x="1517" y="505"/>
                </a:lnTo>
                <a:lnTo>
                  <a:pt x="1503" y="526"/>
                </a:lnTo>
                <a:lnTo>
                  <a:pt x="1490" y="549"/>
                </a:lnTo>
                <a:lnTo>
                  <a:pt x="1474" y="572"/>
                </a:lnTo>
                <a:lnTo>
                  <a:pt x="1461" y="595"/>
                </a:lnTo>
                <a:lnTo>
                  <a:pt x="1430" y="645"/>
                </a:lnTo>
                <a:lnTo>
                  <a:pt x="1400" y="693"/>
                </a:lnTo>
                <a:lnTo>
                  <a:pt x="1369" y="739"/>
                </a:lnTo>
                <a:lnTo>
                  <a:pt x="1336" y="785"/>
                </a:lnTo>
                <a:lnTo>
                  <a:pt x="1304" y="831"/>
                </a:lnTo>
                <a:lnTo>
                  <a:pt x="1271" y="873"/>
                </a:lnTo>
                <a:lnTo>
                  <a:pt x="1236" y="915"/>
                </a:lnTo>
                <a:lnTo>
                  <a:pt x="1202" y="958"/>
                </a:lnTo>
                <a:lnTo>
                  <a:pt x="1165" y="998"/>
                </a:lnTo>
                <a:lnTo>
                  <a:pt x="1129" y="1036"/>
                </a:lnTo>
                <a:lnTo>
                  <a:pt x="1090" y="1075"/>
                </a:lnTo>
                <a:lnTo>
                  <a:pt x="1052" y="1113"/>
                </a:lnTo>
                <a:lnTo>
                  <a:pt x="1014" y="1150"/>
                </a:lnTo>
                <a:lnTo>
                  <a:pt x="973" y="1184"/>
                </a:lnTo>
                <a:lnTo>
                  <a:pt x="933" y="1221"/>
                </a:lnTo>
                <a:lnTo>
                  <a:pt x="891" y="1253"/>
                </a:lnTo>
                <a:lnTo>
                  <a:pt x="849" y="1290"/>
                </a:lnTo>
                <a:lnTo>
                  <a:pt x="808" y="1322"/>
                </a:lnTo>
                <a:lnTo>
                  <a:pt x="766" y="1355"/>
                </a:lnTo>
                <a:lnTo>
                  <a:pt x="726" y="1386"/>
                </a:lnTo>
                <a:lnTo>
                  <a:pt x="685" y="1414"/>
                </a:lnTo>
                <a:lnTo>
                  <a:pt x="645" y="1441"/>
                </a:lnTo>
                <a:lnTo>
                  <a:pt x="605" y="1468"/>
                </a:lnTo>
                <a:lnTo>
                  <a:pt x="566" y="1493"/>
                </a:lnTo>
                <a:lnTo>
                  <a:pt x="528" y="1516"/>
                </a:lnTo>
                <a:lnTo>
                  <a:pt x="490" y="1539"/>
                </a:lnTo>
                <a:lnTo>
                  <a:pt x="453" y="1560"/>
                </a:lnTo>
                <a:lnTo>
                  <a:pt x="417" y="1580"/>
                </a:lnTo>
                <a:lnTo>
                  <a:pt x="382" y="1599"/>
                </a:lnTo>
                <a:lnTo>
                  <a:pt x="348" y="1616"/>
                </a:lnTo>
                <a:lnTo>
                  <a:pt x="313" y="1631"/>
                </a:lnTo>
                <a:lnTo>
                  <a:pt x="280" y="1647"/>
                </a:lnTo>
                <a:lnTo>
                  <a:pt x="250" y="1658"/>
                </a:lnTo>
                <a:lnTo>
                  <a:pt x="221" y="1670"/>
                </a:lnTo>
                <a:lnTo>
                  <a:pt x="192" y="1679"/>
                </a:lnTo>
                <a:lnTo>
                  <a:pt x="167" y="1687"/>
                </a:lnTo>
                <a:lnTo>
                  <a:pt x="142" y="1695"/>
                </a:lnTo>
                <a:lnTo>
                  <a:pt x="121" y="1702"/>
                </a:lnTo>
                <a:lnTo>
                  <a:pt x="100" y="1708"/>
                </a:lnTo>
                <a:lnTo>
                  <a:pt x="83" y="1714"/>
                </a:lnTo>
                <a:lnTo>
                  <a:pt x="66" y="1718"/>
                </a:lnTo>
                <a:lnTo>
                  <a:pt x="52" y="1722"/>
                </a:lnTo>
                <a:lnTo>
                  <a:pt x="39" y="1724"/>
                </a:lnTo>
                <a:lnTo>
                  <a:pt x="27" y="1725"/>
                </a:lnTo>
                <a:lnTo>
                  <a:pt x="19" y="1725"/>
                </a:lnTo>
                <a:lnTo>
                  <a:pt x="12" y="1725"/>
                </a:lnTo>
                <a:lnTo>
                  <a:pt x="6" y="1725"/>
                </a:lnTo>
                <a:lnTo>
                  <a:pt x="2" y="1724"/>
                </a:lnTo>
                <a:lnTo>
                  <a:pt x="0" y="1718"/>
                </a:lnTo>
                <a:lnTo>
                  <a:pt x="0" y="1712"/>
                </a:lnTo>
                <a:lnTo>
                  <a:pt x="0" y="1706"/>
                </a:lnTo>
                <a:lnTo>
                  <a:pt x="2" y="1702"/>
                </a:lnTo>
                <a:lnTo>
                  <a:pt x="6" y="1695"/>
                </a:lnTo>
                <a:lnTo>
                  <a:pt x="10" y="1689"/>
                </a:lnTo>
                <a:lnTo>
                  <a:pt x="16" y="1683"/>
                </a:lnTo>
                <a:lnTo>
                  <a:pt x="23" y="1677"/>
                </a:lnTo>
                <a:lnTo>
                  <a:pt x="31" y="1670"/>
                </a:lnTo>
                <a:lnTo>
                  <a:pt x="41" y="1664"/>
                </a:lnTo>
                <a:lnTo>
                  <a:pt x="50" y="1656"/>
                </a:lnTo>
                <a:lnTo>
                  <a:pt x="62" y="1651"/>
                </a:lnTo>
                <a:lnTo>
                  <a:pt x="75" y="1643"/>
                </a:lnTo>
                <a:lnTo>
                  <a:pt x="90" y="1635"/>
                </a:lnTo>
                <a:lnTo>
                  <a:pt x="106" y="1629"/>
                </a:lnTo>
                <a:lnTo>
                  <a:pt x="123" y="1622"/>
                </a:lnTo>
                <a:lnTo>
                  <a:pt x="137" y="1614"/>
                </a:lnTo>
                <a:lnTo>
                  <a:pt x="152" y="1606"/>
                </a:lnTo>
                <a:lnTo>
                  <a:pt x="169" y="1597"/>
                </a:lnTo>
                <a:lnTo>
                  <a:pt x="185" y="1589"/>
                </a:lnTo>
                <a:lnTo>
                  <a:pt x="202" y="1580"/>
                </a:lnTo>
                <a:lnTo>
                  <a:pt x="217" y="1568"/>
                </a:lnTo>
                <a:lnTo>
                  <a:pt x="254" y="1547"/>
                </a:lnTo>
                <a:lnTo>
                  <a:pt x="271" y="1535"/>
                </a:lnTo>
                <a:lnTo>
                  <a:pt x="290" y="1524"/>
                </a:lnTo>
                <a:lnTo>
                  <a:pt x="309" y="1512"/>
                </a:lnTo>
                <a:lnTo>
                  <a:pt x="330" y="1499"/>
                </a:lnTo>
                <a:lnTo>
                  <a:pt x="350" y="1486"/>
                </a:lnTo>
                <a:lnTo>
                  <a:pt x="371" y="1472"/>
                </a:lnTo>
                <a:lnTo>
                  <a:pt x="392" y="1459"/>
                </a:lnTo>
                <a:lnTo>
                  <a:pt x="415" y="1443"/>
                </a:lnTo>
                <a:lnTo>
                  <a:pt x="436" y="1426"/>
                </a:lnTo>
                <a:lnTo>
                  <a:pt x="459" y="1409"/>
                </a:lnTo>
                <a:lnTo>
                  <a:pt x="484" y="1391"/>
                </a:lnTo>
                <a:lnTo>
                  <a:pt x="509" y="1372"/>
                </a:lnTo>
                <a:lnTo>
                  <a:pt x="534" y="1353"/>
                </a:lnTo>
                <a:lnTo>
                  <a:pt x="559" y="1332"/>
                </a:lnTo>
                <a:lnTo>
                  <a:pt x="586" y="1313"/>
                </a:lnTo>
                <a:lnTo>
                  <a:pt x="613" y="1290"/>
                </a:lnTo>
                <a:lnTo>
                  <a:pt x="641" y="1269"/>
                </a:lnTo>
                <a:lnTo>
                  <a:pt x="668" y="1246"/>
                </a:lnTo>
                <a:lnTo>
                  <a:pt x="697" y="1223"/>
                </a:lnTo>
                <a:lnTo>
                  <a:pt x="728" y="1198"/>
                </a:lnTo>
                <a:lnTo>
                  <a:pt x="757" y="1171"/>
                </a:lnTo>
                <a:lnTo>
                  <a:pt x="787" y="1146"/>
                </a:lnTo>
                <a:lnTo>
                  <a:pt x="820" y="1117"/>
                </a:lnTo>
                <a:lnTo>
                  <a:pt x="851" y="1090"/>
                </a:lnTo>
                <a:lnTo>
                  <a:pt x="883" y="1059"/>
                </a:lnTo>
                <a:lnTo>
                  <a:pt x="914" y="1029"/>
                </a:lnTo>
                <a:lnTo>
                  <a:pt x="945" y="998"/>
                </a:lnTo>
                <a:lnTo>
                  <a:pt x="975" y="965"/>
                </a:lnTo>
                <a:lnTo>
                  <a:pt x="1004" y="931"/>
                </a:lnTo>
                <a:lnTo>
                  <a:pt x="1035" y="896"/>
                </a:lnTo>
                <a:lnTo>
                  <a:pt x="1064" y="862"/>
                </a:lnTo>
                <a:lnTo>
                  <a:pt x="1092" y="825"/>
                </a:lnTo>
                <a:lnTo>
                  <a:pt x="1119" y="787"/>
                </a:lnTo>
                <a:lnTo>
                  <a:pt x="1146" y="748"/>
                </a:lnTo>
                <a:lnTo>
                  <a:pt x="1173" y="708"/>
                </a:lnTo>
                <a:lnTo>
                  <a:pt x="1200" y="668"/>
                </a:lnTo>
                <a:lnTo>
                  <a:pt x="1227" y="626"/>
                </a:lnTo>
                <a:lnTo>
                  <a:pt x="1252" y="581"/>
                </a:lnTo>
                <a:lnTo>
                  <a:pt x="1277" y="539"/>
                </a:lnTo>
                <a:lnTo>
                  <a:pt x="1302" y="493"/>
                </a:lnTo>
                <a:lnTo>
                  <a:pt x="1313" y="472"/>
                </a:lnTo>
                <a:lnTo>
                  <a:pt x="1325" y="449"/>
                </a:lnTo>
                <a:lnTo>
                  <a:pt x="1336" y="428"/>
                </a:lnTo>
                <a:lnTo>
                  <a:pt x="1348" y="407"/>
                </a:lnTo>
                <a:lnTo>
                  <a:pt x="1357" y="388"/>
                </a:lnTo>
                <a:lnTo>
                  <a:pt x="1367" y="366"/>
                </a:lnTo>
                <a:lnTo>
                  <a:pt x="1376" y="349"/>
                </a:lnTo>
                <a:lnTo>
                  <a:pt x="1386" y="330"/>
                </a:lnTo>
                <a:lnTo>
                  <a:pt x="1394" y="311"/>
                </a:lnTo>
                <a:lnTo>
                  <a:pt x="1401" y="294"/>
                </a:lnTo>
                <a:lnTo>
                  <a:pt x="1409" y="278"/>
                </a:lnTo>
                <a:lnTo>
                  <a:pt x="1417" y="261"/>
                </a:lnTo>
                <a:lnTo>
                  <a:pt x="1423" y="246"/>
                </a:lnTo>
                <a:lnTo>
                  <a:pt x="1428" y="230"/>
                </a:lnTo>
                <a:lnTo>
                  <a:pt x="1434" y="217"/>
                </a:lnTo>
                <a:lnTo>
                  <a:pt x="1440" y="201"/>
                </a:lnTo>
                <a:lnTo>
                  <a:pt x="1446" y="188"/>
                </a:lnTo>
                <a:lnTo>
                  <a:pt x="1449" y="176"/>
                </a:lnTo>
                <a:lnTo>
                  <a:pt x="1453" y="163"/>
                </a:lnTo>
                <a:lnTo>
                  <a:pt x="1457" y="151"/>
                </a:lnTo>
                <a:lnTo>
                  <a:pt x="1459" y="142"/>
                </a:lnTo>
                <a:lnTo>
                  <a:pt x="1461" y="130"/>
                </a:lnTo>
                <a:lnTo>
                  <a:pt x="1463" y="121"/>
                </a:lnTo>
                <a:lnTo>
                  <a:pt x="1465" y="113"/>
                </a:lnTo>
                <a:lnTo>
                  <a:pt x="1467" y="103"/>
                </a:lnTo>
                <a:lnTo>
                  <a:pt x="1467" y="96"/>
                </a:lnTo>
                <a:lnTo>
                  <a:pt x="1467" y="88"/>
                </a:lnTo>
                <a:lnTo>
                  <a:pt x="1467" y="82"/>
                </a:lnTo>
                <a:lnTo>
                  <a:pt x="1467" y="77"/>
                </a:lnTo>
                <a:lnTo>
                  <a:pt x="1465" y="71"/>
                </a:lnTo>
                <a:lnTo>
                  <a:pt x="1463" y="67"/>
                </a:lnTo>
                <a:lnTo>
                  <a:pt x="1461" y="63"/>
                </a:lnTo>
                <a:lnTo>
                  <a:pt x="1453" y="56"/>
                </a:lnTo>
                <a:lnTo>
                  <a:pt x="1448" y="50"/>
                </a:lnTo>
                <a:lnTo>
                  <a:pt x="1442" y="44"/>
                </a:lnTo>
                <a:lnTo>
                  <a:pt x="1438" y="38"/>
                </a:lnTo>
                <a:lnTo>
                  <a:pt x="1436" y="34"/>
                </a:lnTo>
                <a:lnTo>
                  <a:pt x="1432" y="29"/>
                </a:lnTo>
                <a:lnTo>
                  <a:pt x="1432" y="25"/>
                </a:lnTo>
                <a:lnTo>
                  <a:pt x="1430" y="21"/>
                </a:lnTo>
                <a:lnTo>
                  <a:pt x="1432" y="19"/>
                </a:lnTo>
                <a:lnTo>
                  <a:pt x="1432" y="15"/>
                </a:lnTo>
                <a:lnTo>
                  <a:pt x="1436" y="11"/>
                </a:lnTo>
                <a:lnTo>
                  <a:pt x="1438" y="9"/>
                </a:lnTo>
                <a:lnTo>
                  <a:pt x="1442" y="8"/>
                </a:lnTo>
                <a:lnTo>
                  <a:pt x="1448" y="4"/>
                </a:lnTo>
                <a:lnTo>
                  <a:pt x="1453" y="2"/>
                </a:lnTo>
                <a:lnTo>
                  <a:pt x="1461" y="0"/>
                </a:lnTo>
                <a:lnTo>
                  <a:pt x="1469" y="0"/>
                </a:lnTo>
                <a:lnTo>
                  <a:pt x="1476" y="0"/>
                </a:lnTo>
                <a:lnTo>
                  <a:pt x="1484" y="2"/>
                </a:lnTo>
                <a:lnTo>
                  <a:pt x="1492" y="4"/>
                </a:lnTo>
                <a:lnTo>
                  <a:pt x="1499" y="6"/>
                </a:lnTo>
                <a:lnTo>
                  <a:pt x="1507" y="9"/>
                </a:lnTo>
                <a:lnTo>
                  <a:pt x="1515" y="13"/>
                </a:lnTo>
                <a:lnTo>
                  <a:pt x="1524" y="17"/>
                </a:lnTo>
                <a:lnTo>
                  <a:pt x="1542" y="27"/>
                </a:lnTo>
                <a:lnTo>
                  <a:pt x="1561" y="36"/>
                </a:lnTo>
                <a:lnTo>
                  <a:pt x="1572" y="42"/>
                </a:lnTo>
                <a:lnTo>
                  <a:pt x="1584" y="50"/>
                </a:lnTo>
                <a:lnTo>
                  <a:pt x="1595" y="56"/>
                </a:lnTo>
                <a:lnTo>
                  <a:pt x="1607" y="63"/>
                </a:lnTo>
                <a:lnTo>
                  <a:pt x="1618" y="71"/>
                </a:lnTo>
                <a:lnTo>
                  <a:pt x="1630" y="77"/>
                </a:lnTo>
                <a:lnTo>
                  <a:pt x="1639" y="84"/>
                </a:lnTo>
                <a:lnTo>
                  <a:pt x="1649" y="92"/>
                </a:lnTo>
                <a:lnTo>
                  <a:pt x="1657" y="100"/>
                </a:lnTo>
                <a:lnTo>
                  <a:pt x="1664" y="105"/>
                </a:lnTo>
                <a:lnTo>
                  <a:pt x="1672" y="113"/>
                </a:lnTo>
                <a:lnTo>
                  <a:pt x="1678" y="121"/>
                </a:lnTo>
                <a:lnTo>
                  <a:pt x="1684" y="127"/>
                </a:lnTo>
                <a:lnTo>
                  <a:pt x="1687" y="134"/>
                </a:lnTo>
                <a:lnTo>
                  <a:pt x="1691" y="142"/>
                </a:lnTo>
                <a:lnTo>
                  <a:pt x="1695" y="148"/>
                </a:lnTo>
                <a:lnTo>
                  <a:pt x="1697" y="155"/>
                </a:lnTo>
                <a:lnTo>
                  <a:pt x="1699" y="163"/>
                </a:lnTo>
                <a:lnTo>
                  <a:pt x="1699" y="171"/>
                </a:lnTo>
                <a:lnTo>
                  <a:pt x="1699" y="17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Freeform 65"/>
          <p:cNvSpPr/>
          <p:nvPr/>
        </p:nvSpPr>
        <p:spPr>
          <a:xfrm>
            <a:off x="7135920" y="3332160"/>
            <a:ext cx="536400" cy="279360"/>
          </a:xfrm>
          <a:custGeom>
            <a:avLst/>
            <a:gdLst/>
            <a:ahLst/>
            <a:rect l="l" t="t" r="r" b="b"/>
            <a:pathLst>
              <a:path w="676" h="351">
                <a:moveTo>
                  <a:pt x="279" y="9"/>
                </a:moveTo>
                <a:lnTo>
                  <a:pt x="290" y="11"/>
                </a:lnTo>
                <a:lnTo>
                  <a:pt x="304" y="15"/>
                </a:lnTo>
                <a:lnTo>
                  <a:pt x="319" y="17"/>
                </a:lnTo>
                <a:lnTo>
                  <a:pt x="332" y="21"/>
                </a:lnTo>
                <a:lnTo>
                  <a:pt x="363" y="31"/>
                </a:lnTo>
                <a:lnTo>
                  <a:pt x="394" y="40"/>
                </a:lnTo>
                <a:lnTo>
                  <a:pt x="411" y="44"/>
                </a:lnTo>
                <a:lnTo>
                  <a:pt x="427" y="52"/>
                </a:lnTo>
                <a:lnTo>
                  <a:pt x="444" y="57"/>
                </a:lnTo>
                <a:lnTo>
                  <a:pt x="461" y="65"/>
                </a:lnTo>
                <a:lnTo>
                  <a:pt x="478" y="73"/>
                </a:lnTo>
                <a:lnTo>
                  <a:pt x="496" y="80"/>
                </a:lnTo>
                <a:lnTo>
                  <a:pt x="513" y="88"/>
                </a:lnTo>
                <a:lnTo>
                  <a:pt x="530" y="98"/>
                </a:lnTo>
                <a:lnTo>
                  <a:pt x="547" y="109"/>
                </a:lnTo>
                <a:lnTo>
                  <a:pt x="563" y="121"/>
                </a:lnTo>
                <a:lnTo>
                  <a:pt x="578" y="132"/>
                </a:lnTo>
                <a:lnTo>
                  <a:pt x="592" y="144"/>
                </a:lnTo>
                <a:lnTo>
                  <a:pt x="605" y="155"/>
                </a:lnTo>
                <a:lnTo>
                  <a:pt x="617" y="165"/>
                </a:lnTo>
                <a:lnTo>
                  <a:pt x="628" y="174"/>
                </a:lnTo>
                <a:lnTo>
                  <a:pt x="638" y="186"/>
                </a:lnTo>
                <a:lnTo>
                  <a:pt x="647" y="196"/>
                </a:lnTo>
                <a:lnTo>
                  <a:pt x="655" y="205"/>
                </a:lnTo>
                <a:lnTo>
                  <a:pt x="661" y="215"/>
                </a:lnTo>
                <a:lnTo>
                  <a:pt x="666" y="224"/>
                </a:lnTo>
                <a:lnTo>
                  <a:pt x="670" y="234"/>
                </a:lnTo>
                <a:lnTo>
                  <a:pt x="674" y="244"/>
                </a:lnTo>
                <a:lnTo>
                  <a:pt x="676" y="253"/>
                </a:lnTo>
                <a:lnTo>
                  <a:pt x="676" y="263"/>
                </a:lnTo>
                <a:lnTo>
                  <a:pt x="676" y="274"/>
                </a:lnTo>
                <a:lnTo>
                  <a:pt x="674" y="284"/>
                </a:lnTo>
                <a:lnTo>
                  <a:pt x="674" y="295"/>
                </a:lnTo>
                <a:lnTo>
                  <a:pt x="672" y="303"/>
                </a:lnTo>
                <a:lnTo>
                  <a:pt x="668" y="311"/>
                </a:lnTo>
                <a:lnTo>
                  <a:pt x="666" y="318"/>
                </a:lnTo>
                <a:lnTo>
                  <a:pt x="663" y="326"/>
                </a:lnTo>
                <a:lnTo>
                  <a:pt x="657" y="332"/>
                </a:lnTo>
                <a:lnTo>
                  <a:pt x="653" y="336"/>
                </a:lnTo>
                <a:lnTo>
                  <a:pt x="647" y="340"/>
                </a:lnTo>
                <a:lnTo>
                  <a:pt x="643" y="343"/>
                </a:lnTo>
                <a:lnTo>
                  <a:pt x="638" y="347"/>
                </a:lnTo>
                <a:lnTo>
                  <a:pt x="630" y="349"/>
                </a:lnTo>
                <a:lnTo>
                  <a:pt x="624" y="351"/>
                </a:lnTo>
                <a:lnTo>
                  <a:pt x="617" y="351"/>
                </a:lnTo>
                <a:lnTo>
                  <a:pt x="611" y="351"/>
                </a:lnTo>
                <a:lnTo>
                  <a:pt x="605" y="351"/>
                </a:lnTo>
                <a:lnTo>
                  <a:pt x="597" y="351"/>
                </a:lnTo>
                <a:lnTo>
                  <a:pt x="592" y="349"/>
                </a:lnTo>
                <a:lnTo>
                  <a:pt x="584" y="347"/>
                </a:lnTo>
                <a:lnTo>
                  <a:pt x="574" y="343"/>
                </a:lnTo>
                <a:lnTo>
                  <a:pt x="565" y="341"/>
                </a:lnTo>
                <a:lnTo>
                  <a:pt x="553" y="338"/>
                </a:lnTo>
                <a:lnTo>
                  <a:pt x="542" y="334"/>
                </a:lnTo>
                <a:lnTo>
                  <a:pt x="530" y="328"/>
                </a:lnTo>
                <a:lnTo>
                  <a:pt x="517" y="322"/>
                </a:lnTo>
                <a:lnTo>
                  <a:pt x="503" y="317"/>
                </a:lnTo>
                <a:lnTo>
                  <a:pt x="488" y="309"/>
                </a:lnTo>
                <a:lnTo>
                  <a:pt x="471" y="303"/>
                </a:lnTo>
                <a:lnTo>
                  <a:pt x="455" y="293"/>
                </a:lnTo>
                <a:lnTo>
                  <a:pt x="436" y="286"/>
                </a:lnTo>
                <a:lnTo>
                  <a:pt x="419" y="276"/>
                </a:lnTo>
                <a:lnTo>
                  <a:pt x="400" y="267"/>
                </a:lnTo>
                <a:lnTo>
                  <a:pt x="379" y="257"/>
                </a:lnTo>
                <a:lnTo>
                  <a:pt x="357" y="245"/>
                </a:lnTo>
                <a:lnTo>
                  <a:pt x="336" y="234"/>
                </a:lnTo>
                <a:lnTo>
                  <a:pt x="313" y="222"/>
                </a:lnTo>
                <a:lnTo>
                  <a:pt x="288" y="209"/>
                </a:lnTo>
                <a:lnTo>
                  <a:pt x="263" y="196"/>
                </a:lnTo>
                <a:lnTo>
                  <a:pt x="238" y="182"/>
                </a:lnTo>
                <a:lnTo>
                  <a:pt x="212" y="167"/>
                </a:lnTo>
                <a:lnTo>
                  <a:pt x="185" y="151"/>
                </a:lnTo>
                <a:lnTo>
                  <a:pt x="156" y="136"/>
                </a:lnTo>
                <a:lnTo>
                  <a:pt x="127" y="119"/>
                </a:lnTo>
                <a:lnTo>
                  <a:pt x="96" y="102"/>
                </a:lnTo>
                <a:lnTo>
                  <a:pt x="66" y="84"/>
                </a:lnTo>
                <a:lnTo>
                  <a:pt x="33" y="67"/>
                </a:lnTo>
                <a:lnTo>
                  <a:pt x="0" y="48"/>
                </a:lnTo>
                <a:lnTo>
                  <a:pt x="0" y="46"/>
                </a:lnTo>
                <a:lnTo>
                  <a:pt x="0" y="42"/>
                </a:lnTo>
                <a:lnTo>
                  <a:pt x="2" y="40"/>
                </a:lnTo>
                <a:lnTo>
                  <a:pt x="4" y="38"/>
                </a:lnTo>
                <a:lnTo>
                  <a:pt x="8" y="36"/>
                </a:lnTo>
                <a:lnTo>
                  <a:pt x="12" y="32"/>
                </a:lnTo>
                <a:lnTo>
                  <a:pt x="16" y="31"/>
                </a:lnTo>
                <a:lnTo>
                  <a:pt x="22" y="29"/>
                </a:lnTo>
                <a:lnTo>
                  <a:pt x="27" y="27"/>
                </a:lnTo>
                <a:lnTo>
                  <a:pt x="35" y="23"/>
                </a:lnTo>
                <a:lnTo>
                  <a:pt x="43" y="21"/>
                </a:lnTo>
                <a:lnTo>
                  <a:pt x="50" y="19"/>
                </a:lnTo>
                <a:lnTo>
                  <a:pt x="60" y="17"/>
                </a:lnTo>
                <a:lnTo>
                  <a:pt x="69" y="15"/>
                </a:lnTo>
                <a:lnTo>
                  <a:pt x="81" y="11"/>
                </a:lnTo>
                <a:lnTo>
                  <a:pt x="93" y="9"/>
                </a:lnTo>
                <a:lnTo>
                  <a:pt x="114" y="6"/>
                </a:lnTo>
                <a:lnTo>
                  <a:pt x="135" y="2"/>
                </a:lnTo>
                <a:lnTo>
                  <a:pt x="158" y="0"/>
                </a:lnTo>
                <a:lnTo>
                  <a:pt x="181" y="0"/>
                </a:lnTo>
                <a:lnTo>
                  <a:pt x="204" y="0"/>
                </a:lnTo>
                <a:lnTo>
                  <a:pt x="229" y="2"/>
                </a:lnTo>
                <a:lnTo>
                  <a:pt x="254" y="6"/>
                </a:lnTo>
                <a:lnTo>
                  <a:pt x="279" y="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Freeform 66"/>
          <p:cNvSpPr/>
          <p:nvPr/>
        </p:nvSpPr>
        <p:spPr>
          <a:xfrm>
            <a:off x="6710400" y="2776680"/>
            <a:ext cx="245880" cy="1244520"/>
          </a:xfrm>
          <a:custGeom>
            <a:avLst/>
            <a:gdLst/>
            <a:ahLst/>
            <a:rect l="l" t="t" r="r" b="b"/>
            <a:pathLst>
              <a:path w="311" h="1568">
                <a:moveTo>
                  <a:pt x="244" y="516"/>
                </a:moveTo>
                <a:lnTo>
                  <a:pt x="244" y="552"/>
                </a:lnTo>
                <a:lnTo>
                  <a:pt x="244" y="589"/>
                </a:lnTo>
                <a:lnTo>
                  <a:pt x="244" y="625"/>
                </a:lnTo>
                <a:lnTo>
                  <a:pt x="244" y="664"/>
                </a:lnTo>
                <a:lnTo>
                  <a:pt x="244" y="702"/>
                </a:lnTo>
                <a:lnTo>
                  <a:pt x="244" y="742"/>
                </a:lnTo>
                <a:lnTo>
                  <a:pt x="244" y="781"/>
                </a:lnTo>
                <a:lnTo>
                  <a:pt x="244" y="823"/>
                </a:lnTo>
                <a:lnTo>
                  <a:pt x="244" y="863"/>
                </a:lnTo>
                <a:lnTo>
                  <a:pt x="244" y="906"/>
                </a:lnTo>
                <a:lnTo>
                  <a:pt x="244" y="948"/>
                </a:lnTo>
                <a:lnTo>
                  <a:pt x="244" y="992"/>
                </a:lnTo>
                <a:lnTo>
                  <a:pt x="244" y="1036"/>
                </a:lnTo>
                <a:lnTo>
                  <a:pt x="244" y="1082"/>
                </a:lnTo>
                <a:lnTo>
                  <a:pt x="244" y="1128"/>
                </a:lnTo>
                <a:lnTo>
                  <a:pt x="244" y="1176"/>
                </a:lnTo>
                <a:lnTo>
                  <a:pt x="242" y="1199"/>
                </a:lnTo>
                <a:lnTo>
                  <a:pt x="242" y="1224"/>
                </a:lnTo>
                <a:lnTo>
                  <a:pt x="240" y="1247"/>
                </a:lnTo>
                <a:lnTo>
                  <a:pt x="238" y="1268"/>
                </a:lnTo>
                <a:lnTo>
                  <a:pt x="238" y="1289"/>
                </a:lnTo>
                <a:lnTo>
                  <a:pt x="236" y="1311"/>
                </a:lnTo>
                <a:lnTo>
                  <a:pt x="234" y="1330"/>
                </a:lnTo>
                <a:lnTo>
                  <a:pt x="234" y="1349"/>
                </a:lnTo>
                <a:lnTo>
                  <a:pt x="232" y="1366"/>
                </a:lnTo>
                <a:lnTo>
                  <a:pt x="230" y="1384"/>
                </a:lnTo>
                <a:lnTo>
                  <a:pt x="230" y="1401"/>
                </a:lnTo>
                <a:lnTo>
                  <a:pt x="228" y="1416"/>
                </a:lnTo>
                <a:lnTo>
                  <a:pt x="226" y="1432"/>
                </a:lnTo>
                <a:lnTo>
                  <a:pt x="226" y="1445"/>
                </a:lnTo>
                <a:lnTo>
                  <a:pt x="224" y="1458"/>
                </a:lnTo>
                <a:lnTo>
                  <a:pt x="224" y="1472"/>
                </a:lnTo>
                <a:lnTo>
                  <a:pt x="223" y="1483"/>
                </a:lnTo>
                <a:lnTo>
                  <a:pt x="221" y="1495"/>
                </a:lnTo>
                <a:lnTo>
                  <a:pt x="221" y="1504"/>
                </a:lnTo>
                <a:lnTo>
                  <a:pt x="219" y="1514"/>
                </a:lnTo>
                <a:lnTo>
                  <a:pt x="217" y="1524"/>
                </a:lnTo>
                <a:lnTo>
                  <a:pt x="217" y="1531"/>
                </a:lnTo>
                <a:lnTo>
                  <a:pt x="215" y="1537"/>
                </a:lnTo>
                <a:lnTo>
                  <a:pt x="213" y="1545"/>
                </a:lnTo>
                <a:lnTo>
                  <a:pt x="213" y="1551"/>
                </a:lnTo>
                <a:lnTo>
                  <a:pt x="211" y="1554"/>
                </a:lnTo>
                <a:lnTo>
                  <a:pt x="209" y="1558"/>
                </a:lnTo>
                <a:lnTo>
                  <a:pt x="209" y="1562"/>
                </a:lnTo>
                <a:lnTo>
                  <a:pt x="207" y="1566"/>
                </a:lnTo>
                <a:lnTo>
                  <a:pt x="205" y="1568"/>
                </a:lnTo>
                <a:lnTo>
                  <a:pt x="203" y="1568"/>
                </a:lnTo>
                <a:lnTo>
                  <a:pt x="198" y="1568"/>
                </a:lnTo>
                <a:lnTo>
                  <a:pt x="192" y="1566"/>
                </a:lnTo>
                <a:lnTo>
                  <a:pt x="182" y="1562"/>
                </a:lnTo>
                <a:lnTo>
                  <a:pt x="175" y="1558"/>
                </a:lnTo>
                <a:lnTo>
                  <a:pt x="169" y="1554"/>
                </a:lnTo>
                <a:lnTo>
                  <a:pt x="163" y="1551"/>
                </a:lnTo>
                <a:lnTo>
                  <a:pt x="157" y="1547"/>
                </a:lnTo>
                <a:lnTo>
                  <a:pt x="151" y="1541"/>
                </a:lnTo>
                <a:lnTo>
                  <a:pt x="146" y="1537"/>
                </a:lnTo>
                <a:lnTo>
                  <a:pt x="138" y="1531"/>
                </a:lnTo>
                <a:lnTo>
                  <a:pt x="132" y="1524"/>
                </a:lnTo>
                <a:lnTo>
                  <a:pt x="125" y="1518"/>
                </a:lnTo>
                <a:lnTo>
                  <a:pt x="121" y="1514"/>
                </a:lnTo>
                <a:lnTo>
                  <a:pt x="117" y="1508"/>
                </a:lnTo>
                <a:lnTo>
                  <a:pt x="115" y="1504"/>
                </a:lnTo>
                <a:lnTo>
                  <a:pt x="111" y="1499"/>
                </a:lnTo>
                <a:lnTo>
                  <a:pt x="109" y="1491"/>
                </a:lnTo>
                <a:lnTo>
                  <a:pt x="105" y="1483"/>
                </a:lnTo>
                <a:lnTo>
                  <a:pt x="104" y="1476"/>
                </a:lnTo>
                <a:lnTo>
                  <a:pt x="102" y="1468"/>
                </a:lnTo>
                <a:lnTo>
                  <a:pt x="100" y="1458"/>
                </a:lnTo>
                <a:lnTo>
                  <a:pt x="98" y="1449"/>
                </a:lnTo>
                <a:lnTo>
                  <a:pt x="96" y="1437"/>
                </a:lnTo>
                <a:lnTo>
                  <a:pt x="96" y="1426"/>
                </a:lnTo>
                <a:lnTo>
                  <a:pt x="94" y="1414"/>
                </a:lnTo>
                <a:lnTo>
                  <a:pt x="92" y="1403"/>
                </a:lnTo>
                <a:lnTo>
                  <a:pt x="92" y="1389"/>
                </a:lnTo>
                <a:lnTo>
                  <a:pt x="92" y="1374"/>
                </a:lnTo>
                <a:lnTo>
                  <a:pt x="90" y="1361"/>
                </a:lnTo>
                <a:lnTo>
                  <a:pt x="90" y="1345"/>
                </a:lnTo>
                <a:lnTo>
                  <a:pt x="90" y="1330"/>
                </a:lnTo>
                <a:lnTo>
                  <a:pt x="90" y="1313"/>
                </a:lnTo>
                <a:lnTo>
                  <a:pt x="90" y="1295"/>
                </a:lnTo>
                <a:lnTo>
                  <a:pt x="90" y="1278"/>
                </a:lnTo>
                <a:lnTo>
                  <a:pt x="90" y="1259"/>
                </a:lnTo>
                <a:lnTo>
                  <a:pt x="90" y="1240"/>
                </a:lnTo>
                <a:lnTo>
                  <a:pt x="92" y="1220"/>
                </a:lnTo>
                <a:lnTo>
                  <a:pt x="92" y="1199"/>
                </a:lnTo>
                <a:lnTo>
                  <a:pt x="92" y="1178"/>
                </a:lnTo>
                <a:lnTo>
                  <a:pt x="94" y="1155"/>
                </a:lnTo>
                <a:lnTo>
                  <a:pt x="94" y="1134"/>
                </a:lnTo>
                <a:lnTo>
                  <a:pt x="96" y="1111"/>
                </a:lnTo>
                <a:lnTo>
                  <a:pt x="96" y="1086"/>
                </a:lnTo>
                <a:lnTo>
                  <a:pt x="98" y="1061"/>
                </a:lnTo>
                <a:lnTo>
                  <a:pt x="100" y="1011"/>
                </a:lnTo>
                <a:lnTo>
                  <a:pt x="102" y="963"/>
                </a:lnTo>
                <a:lnTo>
                  <a:pt x="104" y="915"/>
                </a:lnTo>
                <a:lnTo>
                  <a:pt x="105" y="869"/>
                </a:lnTo>
                <a:lnTo>
                  <a:pt x="105" y="823"/>
                </a:lnTo>
                <a:lnTo>
                  <a:pt x="107" y="779"/>
                </a:lnTo>
                <a:lnTo>
                  <a:pt x="107" y="735"/>
                </a:lnTo>
                <a:lnTo>
                  <a:pt x="107" y="693"/>
                </a:lnTo>
                <a:lnTo>
                  <a:pt x="107" y="650"/>
                </a:lnTo>
                <a:lnTo>
                  <a:pt x="107" y="610"/>
                </a:lnTo>
                <a:lnTo>
                  <a:pt x="105" y="570"/>
                </a:lnTo>
                <a:lnTo>
                  <a:pt x="105" y="531"/>
                </a:lnTo>
                <a:lnTo>
                  <a:pt x="104" y="495"/>
                </a:lnTo>
                <a:lnTo>
                  <a:pt x="102" y="458"/>
                </a:lnTo>
                <a:lnTo>
                  <a:pt x="100" y="424"/>
                </a:lnTo>
                <a:lnTo>
                  <a:pt x="98" y="389"/>
                </a:lnTo>
                <a:lnTo>
                  <a:pt x="96" y="357"/>
                </a:lnTo>
                <a:lnTo>
                  <a:pt x="92" y="326"/>
                </a:lnTo>
                <a:lnTo>
                  <a:pt x="88" y="297"/>
                </a:lnTo>
                <a:lnTo>
                  <a:pt x="86" y="270"/>
                </a:lnTo>
                <a:lnTo>
                  <a:pt x="82" y="245"/>
                </a:lnTo>
                <a:lnTo>
                  <a:pt x="79" y="222"/>
                </a:lnTo>
                <a:lnTo>
                  <a:pt x="75" y="201"/>
                </a:lnTo>
                <a:lnTo>
                  <a:pt x="69" y="180"/>
                </a:lnTo>
                <a:lnTo>
                  <a:pt x="65" y="163"/>
                </a:lnTo>
                <a:lnTo>
                  <a:pt x="61" y="145"/>
                </a:lnTo>
                <a:lnTo>
                  <a:pt x="56" y="132"/>
                </a:lnTo>
                <a:lnTo>
                  <a:pt x="52" y="119"/>
                </a:lnTo>
                <a:lnTo>
                  <a:pt x="46" y="107"/>
                </a:lnTo>
                <a:lnTo>
                  <a:pt x="42" y="99"/>
                </a:lnTo>
                <a:lnTo>
                  <a:pt x="36" y="92"/>
                </a:lnTo>
                <a:lnTo>
                  <a:pt x="32" y="86"/>
                </a:lnTo>
                <a:lnTo>
                  <a:pt x="23" y="76"/>
                </a:lnTo>
                <a:lnTo>
                  <a:pt x="15" y="67"/>
                </a:lnTo>
                <a:lnTo>
                  <a:pt x="8" y="57"/>
                </a:lnTo>
                <a:lnTo>
                  <a:pt x="4" y="48"/>
                </a:lnTo>
                <a:lnTo>
                  <a:pt x="2" y="44"/>
                </a:lnTo>
                <a:lnTo>
                  <a:pt x="0" y="38"/>
                </a:lnTo>
                <a:lnTo>
                  <a:pt x="0" y="34"/>
                </a:lnTo>
                <a:lnTo>
                  <a:pt x="0" y="28"/>
                </a:lnTo>
                <a:lnTo>
                  <a:pt x="0" y="25"/>
                </a:lnTo>
                <a:lnTo>
                  <a:pt x="2" y="19"/>
                </a:lnTo>
                <a:lnTo>
                  <a:pt x="2" y="15"/>
                </a:lnTo>
                <a:lnTo>
                  <a:pt x="6" y="9"/>
                </a:lnTo>
                <a:lnTo>
                  <a:pt x="9" y="5"/>
                </a:lnTo>
                <a:lnTo>
                  <a:pt x="17" y="2"/>
                </a:lnTo>
                <a:lnTo>
                  <a:pt x="21" y="2"/>
                </a:lnTo>
                <a:lnTo>
                  <a:pt x="27" y="2"/>
                </a:lnTo>
                <a:lnTo>
                  <a:pt x="32" y="0"/>
                </a:lnTo>
                <a:lnTo>
                  <a:pt x="38" y="0"/>
                </a:lnTo>
                <a:lnTo>
                  <a:pt x="44" y="0"/>
                </a:lnTo>
                <a:lnTo>
                  <a:pt x="52" y="2"/>
                </a:lnTo>
                <a:lnTo>
                  <a:pt x="59" y="2"/>
                </a:lnTo>
                <a:lnTo>
                  <a:pt x="69" y="2"/>
                </a:lnTo>
                <a:lnTo>
                  <a:pt x="77" y="3"/>
                </a:lnTo>
                <a:lnTo>
                  <a:pt x="88" y="5"/>
                </a:lnTo>
                <a:lnTo>
                  <a:pt x="100" y="7"/>
                </a:lnTo>
                <a:lnTo>
                  <a:pt x="111" y="9"/>
                </a:lnTo>
                <a:lnTo>
                  <a:pt x="130" y="15"/>
                </a:lnTo>
                <a:lnTo>
                  <a:pt x="148" y="21"/>
                </a:lnTo>
                <a:lnTo>
                  <a:pt x="165" y="28"/>
                </a:lnTo>
                <a:lnTo>
                  <a:pt x="182" y="36"/>
                </a:lnTo>
                <a:lnTo>
                  <a:pt x="198" y="46"/>
                </a:lnTo>
                <a:lnTo>
                  <a:pt x="213" y="53"/>
                </a:lnTo>
                <a:lnTo>
                  <a:pt x="244" y="73"/>
                </a:lnTo>
                <a:lnTo>
                  <a:pt x="251" y="78"/>
                </a:lnTo>
                <a:lnTo>
                  <a:pt x="257" y="82"/>
                </a:lnTo>
                <a:lnTo>
                  <a:pt x="263" y="88"/>
                </a:lnTo>
                <a:lnTo>
                  <a:pt x="269" y="92"/>
                </a:lnTo>
                <a:lnTo>
                  <a:pt x="278" y="101"/>
                </a:lnTo>
                <a:lnTo>
                  <a:pt x="286" y="109"/>
                </a:lnTo>
                <a:lnTo>
                  <a:pt x="294" y="117"/>
                </a:lnTo>
                <a:lnTo>
                  <a:pt x="299" y="124"/>
                </a:lnTo>
                <a:lnTo>
                  <a:pt x="305" y="130"/>
                </a:lnTo>
                <a:lnTo>
                  <a:pt x="311" y="136"/>
                </a:lnTo>
                <a:lnTo>
                  <a:pt x="309" y="142"/>
                </a:lnTo>
                <a:lnTo>
                  <a:pt x="307" y="147"/>
                </a:lnTo>
                <a:lnTo>
                  <a:pt x="305" y="155"/>
                </a:lnTo>
                <a:lnTo>
                  <a:pt x="301" y="163"/>
                </a:lnTo>
                <a:lnTo>
                  <a:pt x="297" y="172"/>
                </a:lnTo>
                <a:lnTo>
                  <a:pt x="294" y="180"/>
                </a:lnTo>
                <a:lnTo>
                  <a:pt x="284" y="199"/>
                </a:lnTo>
                <a:lnTo>
                  <a:pt x="280" y="205"/>
                </a:lnTo>
                <a:lnTo>
                  <a:pt x="278" y="213"/>
                </a:lnTo>
                <a:lnTo>
                  <a:pt x="276" y="222"/>
                </a:lnTo>
                <a:lnTo>
                  <a:pt x="272" y="234"/>
                </a:lnTo>
                <a:lnTo>
                  <a:pt x="271" y="245"/>
                </a:lnTo>
                <a:lnTo>
                  <a:pt x="269" y="261"/>
                </a:lnTo>
                <a:lnTo>
                  <a:pt x="267" y="278"/>
                </a:lnTo>
                <a:lnTo>
                  <a:pt x="265" y="288"/>
                </a:lnTo>
                <a:lnTo>
                  <a:pt x="263" y="297"/>
                </a:lnTo>
                <a:lnTo>
                  <a:pt x="263" y="307"/>
                </a:lnTo>
                <a:lnTo>
                  <a:pt x="261" y="316"/>
                </a:lnTo>
                <a:lnTo>
                  <a:pt x="259" y="328"/>
                </a:lnTo>
                <a:lnTo>
                  <a:pt x="259" y="339"/>
                </a:lnTo>
                <a:lnTo>
                  <a:pt x="257" y="351"/>
                </a:lnTo>
                <a:lnTo>
                  <a:pt x="255" y="364"/>
                </a:lnTo>
                <a:lnTo>
                  <a:pt x="255" y="378"/>
                </a:lnTo>
                <a:lnTo>
                  <a:pt x="253" y="391"/>
                </a:lnTo>
                <a:lnTo>
                  <a:pt x="251" y="405"/>
                </a:lnTo>
                <a:lnTo>
                  <a:pt x="251" y="418"/>
                </a:lnTo>
                <a:lnTo>
                  <a:pt x="249" y="433"/>
                </a:lnTo>
                <a:lnTo>
                  <a:pt x="247" y="449"/>
                </a:lnTo>
                <a:lnTo>
                  <a:pt x="247" y="466"/>
                </a:lnTo>
                <a:lnTo>
                  <a:pt x="246" y="481"/>
                </a:lnTo>
                <a:lnTo>
                  <a:pt x="244" y="499"/>
                </a:lnTo>
                <a:lnTo>
                  <a:pt x="244" y="51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67"/>
          <p:cNvSpPr/>
          <p:nvPr/>
        </p:nvSpPr>
        <p:spPr>
          <a:xfrm>
            <a:off x="6294600" y="3335400"/>
            <a:ext cx="234720" cy="498240"/>
          </a:xfrm>
          <a:custGeom>
            <a:avLst/>
            <a:gdLst/>
            <a:ahLst/>
            <a:rect l="l" t="t" r="r" b="b"/>
            <a:pathLst>
              <a:path w="295" h="628">
                <a:moveTo>
                  <a:pt x="144" y="142"/>
                </a:moveTo>
                <a:lnTo>
                  <a:pt x="148" y="123"/>
                </a:lnTo>
                <a:lnTo>
                  <a:pt x="150" y="106"/>
                </a:lnTo>
                <a:lnTo>
                  <a:pt x="153" y="90"/>
                </a:lnTo>
                <a:lnTo>
                  <a:pt x="157" y="75"/>
                </a:lnTo>
                <a:lnTo>
                  <a:pt x="159" y="61"/>
                </a:lnTo>
                <a:lnTo>
                  <a:pt x="163" y="50"/>
                </a:lnTo>
                <a:lnTo>
                  <a:pt x="167" y="38"/>
                </a:lnTo>
                <a:lnTo>
                  <a:pt x="171" y="29"/>
                </a:lnTo>
                <a:lnTo>
                  <a:pt x="175" y="21"/>
                </a:lnTo>
                <a:lnTo>
                  <a:pt x="178" y="13"/>
                </a:lnTo>
                <a:lnTo>
                  <a:pt x="182" y="10"/>
                </a:lnTo>
                <a:lnTo>
                  <a:pt x="186" y="4"/>
                </a:lnTo>
                <a:lnTo>
                  <a:pt x="190" y="2"/>
                </a:lnTo>
                <a:lnTo>
                  <a:pt x="192" y="0"/>
                </a:lnTo>
                <a:lnTo>
                  <a:pt x="196" y="0"/>
                </a:lnTo>
                <a:lnTo>
                  <a:pt x="198" y="2"/>
                </a:lnTo>
                <a:lnTo>
                  <a:pt x="203" y="8"/>
                </a:lnTo>
                <a:lnTo>
                  <a:pt x="209" y="15"/>
                </a:lnTo>
                <a:lnTo>
                  <a:pt x="217" y="23"/>
                </a:lnTo>
                <a:lnTo>
                  <a:pt x="226" y="31"/>
                </a:lnTo>
                <a:lnTo>
                  <a:pt x="234" y="40"/>
                </a:lnTo>
                <a:lnTo>
                  <a:pt x="244" y="52"/>
                </a:lnTo>
                <a:lnTo>
                  <a:pt x="253" y="65"/>
                </a:lnTo>
                <a:lnTo>
                  <a:pt x="265" y="79"/>
                </a:lnTo>
                <a:lnTo>
                  <a:pt x="269" y="88"/>
                </a:lnTo>
                <a:lnTo>
                  <a:pt x="272" y="100"/>
                </a:lnTo>
                <a:lnTo>
                  <a:pt x="276" y="109"/>
                </a:lnTo>
                <a:lnTo>
                  <a:pt x="280" y="121"/>
                </a:lnTo>
                <a:lnTo>
                  <a:pt x="284" y="134"/>
                </a:lnTo>
                <a:lnTo>
                  <a:pt x="288" y="148"/>
                </a:lnTo>
                <a:lnTo>
                  <a:pt x="290" y="161"/>
                </a:lnTo>
                <a:lnTo>
                  <a:pt x="292" y="175"/>
                </a:lnTo>
                <a:lnTo>
                  <a:pt x="294" y="190"/>
                </a:lnTo>
                <a:lnTo>
                  <a:pt x="294" y="207"/>
                </a:lnTo>
                <a:lnTo>
                  <a:pt x="295" y="223"/>
                </a:lnTo>
                <a:lnTo>
                  <a:pt x="295" y="240"/>
                </a:lnTo>
                <a:lnTo>
                  <a:pt x="295" y="259"/>
                </a:lnTo>
                <a:lnTo>
                  <a:pt x="294" y="278"/>
                </a:lnTo>
                <a:lnTo>
                  <a:pt x="292" y="298"/>
                </a:lnTo>
                <a:lnTo>
                  <a:pt x="290" y="319"/>
                </a:lnTo>
                <a:lnTo>
                  <a:pt x="288" y="340"/>
                </a:lnTo>
                <a:lnTo>
                  <a:pt x="286" y="361"/>
                </a:lnTo>
                <a:lnTo>
                  <a:pt x="282" y="380"/>
                </a:lnTo>
                <a:lnTo>
                  <a:pt x="280" y="397"/>
                </a:lnTo>
                <a:lnTo>
                  <a:pt x="276" y="415"/>
                </a:lnTo>
                <a:lnTo>
                  <a:pt x="274" y="432"/>
                </a:lnTo>
                <a:lnTo>
                  <a:pt x="270" y="447"/>
                </a:lnTo>
                <a:lnTo>
                  <a:pt x="267" y="463"/>
                </a:lnTo>
                <a:lnTo>
                  <a:pt x="263" y="478"/>
                </a:lnTo>
                <a:lnTo>
                  <a:pt x="259" y="491"/>
                </a:lnTo>
                <a:lnTo>
                  <a:pt x="253" y="505"/>
                </a:lnTo>
                <a:lnTo>
                  <a:pt x="249" y="516"/>
                </a:lnTo>
                <a:lnTo>
                  <a:pt x="244" y="528"/>
                </a:lnTo>
                <a:lnTo>
                  <a:pt x="238" y="539"/>
                </a:lnTo>
                <a:lnTo>
                  <a:pt x="230" y="551"/>
                </a:lnTo>
                <a:lnTo>
                  <a:pt x="224" y="561"/>
                </a:lnTo>
                <a:lnTo>
                  <a:pt x="217" y="572"/>
                </a:lnTo>
                <a:lnTo>
                  <a:pt x="209" y="582"/>
                </a:lnTo>
                <a:lnTo>
                  <a:pt x="201" y="591"/>
                </a:lnTo>
                <a:lnTo>
                  <a:pt x="192" y="599"/>
                </a:lnTo>
                <a:lnTo>
                  <a:pt x="184" y="607"/>
                </a:lnTo>
                <a:lnTo>
                  <a:pt x="175" y="612"/>
                </a:lnTo>
                <a:lnTo>
                  <a:pt x="165" y="616"/>
                </a:lnTo>
                <a:lnTo>
                  <a:pt x="155" y="620"/>
                </a:lnTo>
                <a:lnTo>
                  <a:pt x="148" y="624"/>
                </a:lnTo>
                <a:lnTo>
                  <a:pt x="138" y="626"/>
                </a:lnTo>
                <a:lnTo>
                  <a:pt x="128" y="628"/>
                </a:lnTo>
                <a:lnTo>
                  <a:pt x="117" y="628"/>
                </a:lnTo>
                <a:lnTo>
                  <a:pt x="107" y="628"/>
                </a:lnTo>
                <a:lnTo>
                  <a:pt x="98" y="628"/>
                </a:lnTo>
                <a:lnTo>
                  <a:pt x="88" y="626"/>
                </a:lnTo>
                <a:lnTo>
                  <a:pt x="79" y="624"/>
                </a:lnTo>
                <a:lnTo>
                  <a:pt x="69" y="620"/>
                </a:lnTo>
                <a:lnTo>
                  <a:pt x="59" y="618"/>
                </a:lnTo>
                <a:lnTo>
                  <a:pt x="52" y="614"/>
                </a:lnTo>
                <a:lnTo>
                  <a:pt x="44" y="609"/>
                </a:lnTo>
                <a:lnTo>
                  <a:pt x="36" y="605"/>
                </a:lnTo>
                <a:lnTo>
                  <a:pt x="31" y="599"/>
                </a:lnTo>
                <a:lnTo>
                  <a:pt x="25" y="593"/>
                </a:lnTo>
                <a:lnTo>
                  <a:pt x="19" y="587"/>
                </a:lnTo>
                <a:lnTo>
                  <a:pt x="13" y="580"/>
                </a:lnTo>
                <a:lnTo>
                  <a:pt x="9" y="574"/>
                </a:lnTo>
                <a:lnTo>
                  <a:pt x="8" y="566"/>
                </a:lnTo>
                <a:lnTo>
                  <a:pt x="4" y="557"/>
                </a:lnTo>
                <a:lnTo>
                  <a:pt x="2" y="549"/>
                </a:lnTo>
                <a:lnTo>
                  <a:pt x="0" y="541"/>
                </a:lnTo>
                <a:lnTo>
                  <a:pt x="0" y="532"/>
                </a:lnTo>
                <a:lnTo>
                  <a:pt x="0" y="522"/>
                </a:lnTo>
                <a:lnTo>
                  <a:pt x="0" y="514"/>
                </a:lnTo>
                <a:lnTo>
                  <a:pt x="0" y="507"/>
                </a:lnTo>
                <a:lnTo>
                  <a:pt x="2" y="499"/>
                </a:lnTo>
                <a:lnTo>
                  <a:pt x="4" y="491"/>
                </a:lnTo>
                <a:lnTo>
                  <a:pt x="6" y="484"/>
                </a:lnTo>
                <a:lnTo>
                  <a:pt x="9" y="474"/>
                </a:lnTo>
                <a:lnTo>
                  <a:pt x="13" y="465"/>
                </a:lnTo>
                <a:lnTo>
                  <a:pt x="17" y="455"/>
                </a:lnTo>
                <a:lnTo>
                  <a:pt x="27" y="436"/>
                </a:lnTo>
                <a:lnTo>
                  <a:pt x="38" y="415"/>
                </a:lnTo>
                <a:lnTo>
                  <a:pt x="52" y="394"/>
                </a:lnTo>
                <a:lnTo>
                  <a:pt x="65" y="371"/>
                </a:lnTo>
                <a:lnTo>
                  <a:pt x="79" y="346"/>
                </a:lnTo>
                <a:lnTo>
                  <a:pt x="92" y="321"/>
                </a:lnTo>
                <a:lnTo>
                  <a:pt x="103" y="294"/>
                </a:lnTo>
                <a:lnTo>
                  <a:pt x="115" y="265"/>
                </a:lnTo>
                <a:lnTo>
                  <a:pt x="125" y="236"/>
                </a:lnTo>
                <a:lnTo>
                  <a:pt x="132" y="205"/>
                </a:lnTo>
                <a:lnTo>
                  <a:pt x="138" y="175"/>
                </a:lnTo>
                <a:lnTo>
                  <a:pt x="144" y="14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Freeform 68"/>
          <p:cNvSpPr/>
          <p:nvPr/>
        </p:nvSpPr>
        <p:spPr>
          <a:xfrm>
            <a:off x="5389560" y="4218120"/>
            <a:ext cx="915840" cy="426960"/>
          </a:xfrm>
          <a:custGeom>
            <a:avLst/>
            <a:gdLst/>
            <a:ahLst/>
            <a:rect l="l" t="t" r="r" b="b"/>
            <a:pathLst>
              <a:path w="1153" h="540">
                <a:moveTo>
                  <a:pt x="1151" y="6"/>
                </a:moveTo>
                <a:lnTo>
                  <a:pt x="1153" y="8"/>
                </a:lnTo>
                <a:lnTo>
                  <a:pt x="1153" y="10"/>
                </a:lnTo>
                <a:lnTo>
                  <a:pt x="1151" y="12"/>
                </a:lnTo>
                <a:lnTo>
                  <a:pt x="1149" y="16"/>
                </a:lnTo>
                <a:lnTo>
                  <a:pt x="1146" y="20"/>
                </a:lnTo>
                <a:lnTo>
                  <a:pt x="1142" y="23"/>
                </a:lnTo>
                <a:lnTo>
                  <a:pt x="1138" y="27"/>
                </a:lnTo>
                <a:lnTo>
                  <a:pt x="1132" y="33"/>
                </a:lnTo>
                <a:lnTo>
                  <a:pt x="1126" y="37"/>
                </a:lnTo>
                <a:lnTo>
                  <a:pt x="1119" y="43"/>
                </a:lnTo>
                <a:lnTo>
                  <a:pt x="1109" y="50"/>
                </a:lnTo>
                <a:lnTo>
                  <a:pt x="1100" y="56"/>
                </a:lnTo>
                <a:lnTo>
                  <a:pt x="1090" y="64"/>
                </a:lnTo>
                <a:lnTo>
                  <a:pt x="1078" y="71"/>
                </a:lnTo>
                <a:lnTo>
                  <a:pt x="1067" y="79"/>
                </a:lnTo>
                <a:lnTo>
                  <a:pt x="1053" y="89"/>
                </a:lnTo>
                <a:lnTo>
                  <a:pt x="1040" y="96"/>
                </a:lnTo>
                <a:lnTo>
                  <a:pt x="1025" y="106"/>
                </a:lnTo>
                <a:lnTo>
                  <a:pt x="1009" y="118"/>
                </a:lnTo>
                <a:lnTo>
                  <a:pt x="994" y="127"/>
                </a:lnTo>
                <a:lnTo>
                  <a:pt x="975" y="139"/>
                </a:lnTo>
                <a:lnTo>
                  <a:pt x="957" y="150"/>
                </a:lnTo>
                <a:lnTo>
                  <a:pt x="938" y="162"/>
                </a:lnTo>
                <a:lnTo>
                  <a:pt x="919" y="173"/>
                </a:lnTo>
                <a:lnTo>
                  <a:pt x="898" y="187"/>
                </a:lnTo>
                <a:lnTo>
                  <a:pt x="875" y="198"/>
                </a:lnTo>
                <a:lnTo>
                  <a:pt x="854" y="212"/>
                </a:lnTo>
                <a:lnTo>
                  <a:pt x="829" y="227"/>
                </a:lnTo>
                <a:lnTo>
                  <a:pt x="806" y="240"/>
                </a:lnTo>
                <a:lnTo>
                  <a:pt x="781" y="256"/>
                </a:lnTo>
                <a:lnTo>
                  <a:pt x="754" y="269"/>
                </a:lnTo>
                <a:lnTo>
                  <a:pt x="727" y="286"/>
                </a:lnTo>
                <a:lnTo>
                  <a:pt x="700" y="302"/>
                </a:lnTo>
                <a:lnTo>
                  <a:pt x="673" y="315"/>
                </a:lnTo>
                <a:lnTo>
                  <a:pt x="647" y="331"/>
                </a:lnTo>
                <a:lnTo>
                  <a:pt x="620" y="344"/>
                </a:lnTo>
                <a:lnTo>
                  <a:pt x="597" y="357"/>
                </a:lnTo>
                <a:lnTo>
                  <a:pt x="572" y="371"/>
                </a:lnTo>
                <a:lnTo>
                  <a:pt x="549" y="384"/>
                </a:lnTo>
                <a:lnTo>
                  <a:pt x="528" y="396"/>
                </a:lnTo>
                <a:lnTo>
                  <a:pt x="504" y="407"/>
                </a:lnTo>
                <a:lnTo>
                  <a:pt x="485" y="419"/>
                </a:lnTo>
                <a:lnTo>
                  <a:pt x="464" y="428"/>
                </a:lnTo>
                <a:lnTo>
                  <a:pt x="445" y="440"/>
                </a:lnTo>
                <a:lnTo>
                  <a:pt x="428" y="450"/>
                </a:lnTo>
                <a:lnTo>
                  <a:pt x="410" y="457"/>
                </a:lnTo>
                <a:lnTo>
                  <a:pt x="393" y="467"/>
                </a:lnTo>
                <a:lnTo>
                  <a:pt x="378" y="475"/>
                </a:lnTo>
                <a:lnTo>
                  <a:pt x="362" y="482"/>
                </a:lnTo>
                <a:lnTo>
                  <a:pt x="347" y="490"/>
                </a:lnTo>
                <a:lnTo>
                  <a:pt x="334" y="498"/>
                </a:lnTo>
                <a:lnTo>
                  <a:pt x="320" y="503"/>
                </a:lnTo>
                <a:lnTo>
                  <a:pt x="309" y="509"/>
                </a:lnTo>
                <a:lnTo>
                  <a:pt x="297" y="513"/>
                </a:lnTo>
                <a:lnTo>
                  <a:pt x="288" y="519"/>
                </a:lnTo>
                <a:lnTo>
                  <a:pt x="278" y="523"/>
                </a:lnTo>
                <a:lnTo>
                  <a:pt x="268" y="526"/>
                </a:lnTo>
                <a:lnTo>
                  <a:pt x="259" y="530"/>
                </a:lnTo>
                <a:lnTo>
                  <a:pt x="251" y="532"/>
                </a:lnTo>
                <a:lnTo>
                  <a:pt x="245" y="534"/>
                </a:lnTo>
                <a:lnTo>
                  <a:pt x="240" y="536"/>
                </a:lnTo>
                <a:lnTo>
                  <a:pt x="234" y="538"/>
                </a:lnTo>
                <a:lnTo>
                  <a:pt x="228" y="538"/>
                </a:lnTo>
                <a:lnTo>
                  <a:pt x="224" y="540"/>
                </a:lnTo>
                <a:lnTo>
                  <a:pt x="217" y="538"/>
                </a:lnTo>
                <a:lnTo>
                  <a:pt x="209" y="538"/>
                </a:lnTo>
                <a:lnTo>
                  <a:pt x="201" y="536"/>
                </a:lnTo>
                <a:lnTo>
                  <a:pt x="194" y="534"/>
                </a:lnTo>
                <a:lnTo>
                  <a:pt x="186" y="530"/>
                </a:lnTo>
                <a:lnTo>
                  <a:pt x="178" y="528"/>
                </a:lnTo>
                <a:lnTo>
                  <a:pt x="171" y="523"/>
                </a:lnTo>
                <a:lnTo>
                  <a:pt x="163" y="519"/>
                </a:lnTo>
                <a:lnTo>
                  <a:pt x="155" y="513"/>
                </a:lnTo>
                <a:lnTo>
                  <a:pt x="146" y="507"/>
                </a:lnTo>
                <a:lnTo>
                  <a:pt x="138" y="499"/>
                </a:lnTo>
                <a:lnTo>
                  <a:pt x="128" y="492"/>
                </a:lnTo>
                <a:lnTo>
                  <a:pt x="121" y="482"/>
                </a:lnTo>
                <a:lnTo>
                  <a:pt x="111" y="473"/>
                </a:lnTo>
                <a:lnTo>
                  <a:pt x="101" y="461"/>
                </a:lnTo>
                <a:lnTo>
                  <a:pt x="92" y="450"/>
                </a:lnTo>
                <a:lnTo>
                  <a:pt x="80" y="440"/>
                </a:lnTo>
                <a:lnTo>
                  <a:pt x="69" y="432"/>
                </a:lnTo>
                <a:lnTo>
                  <a:pt x="59" y="423"/>
                </a:lnTo>
                <a:lnTo>
                  <a:pt x="50" y="415"/>
                </a:lnTo>
                <a:lnTo>
                  <a:pt x="42" y="405"/>
                </a:lnTo>
                <a:lnTo>
                  <a:pt x="34" y="398"/>
                </a:lnTo>
                <a:lnTo>
                  <a:pt x="27" y="390"/>
                </a:lnTo>
                <a:lnTo>
                  <a:pt x="21" y="382"/>
                </a:lnTo>
                <a:lnTo>
                  <a:pt x="15" y="377"/>
                </a:lnTo>
                <a:lnTo>
                  <a:pt x="11" y="369"/>
                </a:lnTo>
                <a:lnTo>
                  <a:pt x="7" y="363"/>
                </a:lnTo>
                <a:lnTo>
                  <a:pt x="4" y="357"/>
                </a:lnTo>
                <a:lnTo>
                  <a:pt x="2" y="352"/>
                </a:lnTo>
                <a:lnTo>
                  <a:pt x="0" y="346"/>
                </a:lnTo>
                <a:lnTo>
                  <a:pt x="0" y="342"/>
                </a:lnTo>
                <a:lnTo>
                  <a:pt x="0" y="336"/>
                </a:lnTo>
                <a:lnTo>
                  <a:pt x="0" y="332"/>
                </a:lnTo>
                <a:lnTo>
                  <a:pt x="0" y="327"/>
                </a:lnTo>
                <a:lnTo>
                  <a:pt x="2" y="323"/>
                </a:lnTo>
                <a:lnTo>
                  <a:pt x="4" y="319"/>
                </a:lnTo>
                <a:lnTo>
                  <a:pt x="7" y="317"/>
                </a:lnTo>
                <a:lnTo>
                  <a:pt x="9" y="313"/>
                </a:lnTo>
                <a:lnTo>
                  <a:pt x="15" y="311"/>
                </a:lnTo>
                <a:lnTo>
                  <a:pt x="19" y="309"/>
                </a:lnTo>
                <a:lnTo>
                  <a:pt x="25" y="308"/>
                </a:lnTo>
                <a:lnTo>
                  <a:pt x="30" y="308"/>
                </a:lnTo>
                <a:lnTo>
                  <a:pt x="36" y="306"/>
                </a:lnTo>
                <a:lnTo>
                  <a:pt x="44" y="306"/>
                </a:lnTo>
                <a:lnTo>
                  <a:pt x="52" y="306"/>
                </a:lnTo>
                <a:lnTo>
                  <a:pt x="59" y="308"/>
                </a:lnTo>
                <a:lnTo>
                  <a:pt x="69" y="309"/>
                </a:lnTo>
                <a:lnTo>
                  <a:pt x="78" y="311"/>
                </a:lnTo>
                <a:lnTo>
                  <a:pt x="94" y="315"/>
                </a:lnTo>
                <a:lnTo>
                  <a:pt x="109" y="321"/>
                </a:lnTo>
                <a:lnTo>
                  <a:pt x="123" y="325"/>
                </a:lnTo>
                <a:lnTo>
                  <a:pt x="138" y="327"/>
                </a:lnTo>
                <a:lnTo>
                  <a:pt x="153" y="329"/>
                </a:lnTo>
                <a:lnTo>
                  <a:pt x="169" y="329"/>
                </a:lnTo>
                <a:lnTo>
                  <a:pt x="176" y="329"/>
                </a:lnTo>
                <a:lnTo>
                  <a:pt x="182" y="327"/>
                </a:lnTo>
                <a:lnTo>
                  <a:pt x="190" y="325"/>
                </a:lnTo>
                <a:lnTo>
                  <a:pt x="197" y="323"/>
                </a:lnTo>
                <a:lnTo>
                  <a:pt x="201" y="323"/>
                </a:lnTo>
                <a:lnTo>
                  <a:pt x="205" y="323"/>
                </a:lnTo>
                <a:lnTo>
                  <a:pt x="209" y="321"/>
                </a:lnTo>
                <a:lnTo>
                  <a:pt x="215" y="321"/>
                </a:lnTo>
                <a:lnTo>
                  <a:pt x="220" y="319"/>
                </a:lnTo>
                <a:lnTo>
                  <a:pt x="228" y="317"/>
                </a:lnTo>
                <a:lnTo>
                  <a:pt x="236" y="315"/>
                </a:lnTo>
                <a:lnTo>
                  <a:pt x="245" y="311"/>
                </a:lnTo>
                <a:lnTo>
                  <a:pt x="255" y="309"/>
                </a:lnTo>
                <a:lnTo>
                  <a:pt x="265" y="306"/>
                </a:lnTo>
                <a:lnTo>
                  <a:pt x="276" y="302"/>
                </a:lnTo>
                <a:lnTo>
                  <a:pt x="290" y="298"/>
                </a:lnTo>
                <a:lnTo>
                  <a:pt x="301" y="294"/>
                </a:lnTo>
                <a:lnTo>
                  <a:pt x="316" y="288"/>
                </a:lnTo>
                <a:lnTo>
                  <a:pt x="330" y="284"/>
                </a:lnTo>
                <a:lnTo>
                  <a:pt x="345" y="279"/>
                </a:lnTo>
                <a:lnTo>
                  <a:pt x="362" y="273"/>
                </a:lnTo>
                <a:lnTo>
                  <a:pt x="380" y="267"/>
                </a:lnTo>
                <a:lnTo>
                  <a:pt x="397" y="260"/>
                </a:lnTo>
                <a:lnTo>
                  <a:pt x="416" y="254"/>
                </a:lnTo>
                <a:lnTo>
                  <a:pt x="435" y="246"/>
                </a:lnTo>
                <a:lnTo>
                  <a:pt x="455" y="238"/>
                </a:lnTo>
                <a:lnTo>
                  <a:pt x="476" y="231"/>
                </a:lnTo>
                <a:lnTo>
                  <a:pt x="499" y="223"/>
                </a:lnTo>
                <a:lnTo>
                  <a:pt x="522" y="213"/>
                </a:lnTo>
                <a:lnTo>
                  <a:pt x="545" y="206"/>
                </a:lnTo>
                <a:lnTo>
                  <a:pt x="568" y="196"/>
                </a:lnTo>
                <a:lnTo>
                  <a:pt x="593" y="187"/>
                </a:lnTo>
                <a:lnTo>
                  <a:pt x="620" y="177"/>
                </a:lnTo>
                <a:lnTo>
                  <a:pt x="647" y="167"/>
                </a:lnTo>
                <a:lnTo>
                  <a:pt x="673" y="156"/>
                </a:lnTo>
                <a:lnTo>
                  <a:pt x="702" y="146"/>
                </a:lnTo>
                <a:lnTo>
                  <a:pt x="729" y="135"/>
                </a:lnTo>
                <a:lnTo>
                  <a:pt x="756" y="125"/>
                </a:lnTo>
                <a:lnTo>
                  <a:pt x="783" y="116"/>
                </a:lnTo>
                <a:lnTo>
                  <a:pt x="808" y="106"/>
                </a:lnTo>
                <a:lnTo>
                  <a:pt x="833" y="96"/>
                </a:lnTo>
                <a:lnTo>
                  <a:pt x="856" y="89"/>
                </a:lnTo>
                <a:lnTo>
                  <a:pt x="879" y="79"/>
                </a:lnTo>
                <a:lnTo>
                  <a:pt x="900" y="71"/>
                </a:lnTo>
                <a:lnTo>
                  <a:pt x="921" y="64"/>
                </a:lnTo>
                <a:lnTo>
                  <a:pt x="940" y="58"/>
                </a:lnTo>
                <a:lnTo>
                  <a:pt x="959" y="50"/>
                </a:lnTo>
                <a:lnTo>
                  <a:pt x="977" y="45"/>
                </a:lnTo>
                <a:lnTo>
                  <a:pt x="994" y="39"/>
                </a:lnTo>
                <a:lnTo>
                  <a:pt x="1011" y="33"/>
                </a:lnTo>
                <a:lnTo>
                  <a:pt x="1027" y="27"/>
                </a:lnTo>
                <a:lnTo>
                  <a:pt x="1040" y="23"/>
                </a:lnTo>
                <a:lnTo>
                  <a:pt x="1053" y="20"/>
                </a:lnTo>
                <a:lnTo>
                  <a:pt x="1067" y="16"/>
                </a:lnTo>
                <a:lnTo>
                  <a:pt x="1078" y="12"/>
                </a:lnTo>
                <a:lnTo>
                  <a:pt x="1090" y="10"/>
                </a:lnTo>
                <a:lnTo>
                  <a:pt x="1100" y="6"/>
                </a:lnTo>
                <a:lnTo>
                  <a:pt x="1109" y="4"/>
                </a:lnTo>
                <a:lnTo>
                  <a:pt x="1117" y="2"/>
                </a:lnTo>
                <a:lnTo>
                  <a:pt x="1124" y="2"/>
                </a:lnTo>
                <a:lnTo>
                  <a:pt x="1130" y="0"/>
                </a:lnTo>
                <a:lnTo>
                  <a:pt x="1136" y="0"/>
                </a:lnTo>
                <a:lnTo>
                  <a:pt x="1142" y="0"/>
                </a:lnTo>
                <a:lnTo>
                  <a:pt x="1146" y="0"/>
                </a:lnTo>
                <a:lnTo>
                  <a:pt x="1148" y="2"/>
                </a:lnTo>
                <a:lnTo>
                  <a:pt x="1149" y="2"/>
                </a:lnTo>
                <a:lnTo>
                  <a:pt x="1151" y="4"/>
                </a:lnTo>
                <a:lnTo>
                  <a:pt x="1151" y="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Freeform 69"/>
          <p:cNvSpPr/>
          <p:nvPr/>
        </p:nvSpPr>
        <p:spPr>
          <a:xfrm>
            <a:off x="5518080" y="3206880"/>
            <a:ext cx="744480" cy="955440"/>
          </a:xfrm>
          <a:custGeom>
            <a:avLst/>
            <a:gdLst/>
            <a:ahLst/>
            <a:rect l="l" t="t" r="r" b="b"/>
            <a:pathLst>
              <a:path w="937" h="1203">
                <a:moveTo>
                  <a:pt x="234" y="810"/>
                </a:moveTo>
                <a:lnTo>
                  <a:pt x="267" y="771"/>
                </a:lnTo>
                <a:lnTo>
                  <a:pt x="301" y="733"/>
                </a:lnTo>
                <a:lnTo>
                  <a:pt x="332" y="697"/>
                </a:lnTo>
                <a:lnTo>
                  <a:pt x="363" y="658"/>
                </a:lnTo>
                <a:lnTo>
                  <a:pt x="391" y="620"/>
                </a:lnTo>
                <a:lnTo>
                  <a:pt x="420" y="581"/>
                </a:lnTo>
                <a:lnTo>
                  <a:pt x="447" y="543"/>
                </a:lnTo>
                <a:lnTo>
                  <a:pt x="472" y="507"/>
                </a:lnTo>
                <a:lnTo>
                  <a:pt x="522" y="439"/>
                </a:lnTo>
                <a:lnTo>
                  <a:pt x="572" y="372"/>
                </a:lnTo>
                <a:lnTo>
                  <a:pt x="622" y="307"/>
                </a:lnTo>
                <a:lnTo>
                  <a:pt x="672" y="240"/>
                </a:lnTo>
                <a:lnTo>
                  <a:pt x="679" y="224"/>
                </a:lnTo>
                <a:lnTo>
                  <a:pt x="689" y="209"/>
                </a:lnTo>
                <a:lnTo>
                  <a:pt x="697" y="194"/>
                </a:lnTo>
                <a:lnTo>
                  <a:pt x="704" y="180"/>
                </a:lnTo>
                <a:lnTo>
                  <a:pt x="712" y="167"/>
                </a:lnTo>
                <a:lnTo>
                  <a:pt x="718" y="155"/>
                </a:lnTo>
                <a:lnTo>
                  <a:pt x="723" y="142"/>
                </a:lnTo>
                <a:lnTo>
                  <a:pt x="729" y="132"/>
                </a:lnTo>
                <a:lnTo>
                  <a:pt x="733" y="121"/>
                </a:lnTo>
                <a:lnTo>
                  <a:pt x="735" y="111"/>
                </a:lnTo>
                <a:lnTo>
                  <a:pt x="739" y="102"/>
                </a:lnTo>
                <a:lnTo>
                  <a:pt x="739" y="94"/>
                </a:lnTo>
                <a:lnTo>
                  <a:pt x="741" y="84"/>
                </a:lnTo>
                <a:lnTo>
                  <a:pt x="741" y="77"/>
                </a:lnTo>
                <a:lnTo>
                  <a:pt x="739" y="69"/>
                </a:lnTo>
                <a:lnTo>
                  <a:pt x="737" y="63"/>
                </a:lnTo>
                <a:lnTo>
                  <a:pt x="735" y="55"/>
                </a:lnTo>
                <a:lnTo>
                  <a:pt x="733" y="50"/>
                </a:lnTo>
                <a:lnTo>
                  <a:pt x="733" y="44"/>
                </a:lnTo>
                <a:lnTo>
                  <a:pt x="733" y="38"/>
                </a:lnTo>
                <a:lnTo>
                  <a:pt x="733" y="32"/>
                </a:lnTo>
                <a:lnTo>
                  <a:pt x="733" y="29"/>
                </a:lnTo>
                <a:lnTo>
                  <a:pt x="735" y="25"/>
                </a:lnTo>
                <a:lnTo>
                  <a:pt x="737" y="21"/>
                </a:lnTo>
                <a:lnTo>
                  <a:pt x="741" y="17"/>
                </a:lnTo>
                <a:lnTo>
                  <a:pt x="743" y="15"/>
                </a:lnTo>
                <a:lnTo>
                  <a:pt x="748" y="11"/>
                </a:lnTo>
                <a:lnTo>
                  <a:pt x="752" y="9"/>
                </a:lnTo>
                <a:lnTo>
                  <a:pt x="758" y="6"/>
                </a:lnTo>
                <a:lnTo>
                  <a:pt x="764" y="4"/>
                </a:lnTo>
                <a:lnTo>
                  <a:pt x="770" y="2"/>
                </a:lnTo>
                <a:lnTo>
                  <a:pt x="777" y="0"/>
                </a:lnTo>
                <a:lnTo>
                  <a:pt x="781" y="0"/>
                </a:lnTo>
                <a:lnTo>
                  <a:pt x="787" y="0"/>
                </a:lnTo>
                <a:lnTo>
                  <a:pt x="793" y="2"/>
                </a:lnTo>
                <a:lnTo>
                  <a:pt x="798" y="4"/>
                </a:lnTo>
                <a:lnTo>
                  <a:pt x="806" y="6"/>
                </a:lnTo>
                <a:lnTo>
                  <a:pt x="812" y="9"/>
                </a:lnTo>
                <a:lnTo>
                  <a:pt x="818" y="11"/>
                </a:lnTo>
                <a:lnTo>
                  <a:pt x="825" y="17"/>
                </a:lnTo>
                <a:lnTo>
                  <a:pt x="839" y="25"/>
                </a:lnTo>
                <a:lnTo>
                  <a:pt x="854" y="36"/>
                </a:lnTo>
                <a:lnTo>
                  <a:pt x="867" y="48"/>
                </a:lnTo>
                <a:lnTo>
                  <a:pt x="883" y="63"/>
                </a:lnTo>
                <a:lnTo>
                  <a:pt x="890" y="69"/>
                </a:lnTo>
                <a:lnTo>
                  <a:pt x="896" y="77"/>
                </a:lnTo>
                <a:lnTo>
                  <a:pt x="902" y="84"/>
                </a:lnTo>
                <a:lnTo>
                  <a:pt x="908" y="90"/>
                </a:lnTo>
                <a:lnTo>
                  <a:pt x="914" y="98"/>
                </a:lnTo>
                <a:lnTo>
                  <a:pt x="917" y="105"/>
                </a:lnTo>
                <a:lnTo>
                  <a:pt x="921" y="113"/>
                </a:lnTo>
                <a:lnTo>
                  <a:pt x="925" y="119"/>
                </a:lnTo>
                <a:lnTo>
                  <a:pt x="929" y="134"/>
                </a:lnTo>
                <a:lnTo>
                  <a:pt x="933" y="148"/>
                </a:lnTo>
                <a:lnTo>
                  <a:pt x="935" y="163"/>
                </a:lnTo>
                <a:lnTo>
                  <a:pt x="937" y="176"/>
                </a:lnTo>
                <a:lnTo>
                  <a:pt x="937" y="180"/>
                </a:lnTo>
                <a:lnTo>
                  <a:pt x="935" y="184"/>
                </a:lnTo>
                <a:lnTo>
                  <a:pt x="933" y="190"/>
                </a:lnTo>
                <a:lnTo>
                  <a:pt x="931" y="196"/>
                </a:lnTo>
                <a:lnTo>
                  <a:pt x="929" y="201"/>
                </a:lnTo>
                <a:lnTo>
                  <a:pt x="925" y="207"/>
                </a:lnTo>
                <a:lnTo>
                  <a:pt x="921" y="215"/>
                </a:lnTo>
                <a:lnTo>
                  <a:pt x="915" y="222"/>
                </a:lnTo>
                <a:lnTo>
                  <a:pt x="910" y="230"/>
                </a:lnTo>
                <a:lnTo>
                  <a:pt x="904" y="238"/>
                </a:lnTo>
                <a:lnTo>
                  <a:pt x="898" y="247"/>
                </a:lnTo>
                <a:lnTo>
                  <a:pt x="890" y="257"/>
                </a:lnTo>
                <a:lnTo>
                  <a:pt x="883" y="269"/>
                </a:lnTo>
                <a:lnTo>
                  <a:pt x="873" y="278"/>
                </a:lnTo>
                <a:lnTo>
                  <a:pt x="864" y="290"/>
                </a:lnTo>
                <a:lnTo>
                  <a:pt x="854" y="303"/>
                </a:lnTo>
                <a:lnTo>
                  <a:pt x="842" y="315"/>
                </a:lnTo>
                <a:lnTo>
                  <a:pt x="833" y="328"/>
                </a:lnTo>
                <a:lnTo>
                  <a:pt x="819" y="341"/>
                </a:lnTo>
                <a:lnTo>
                  <a:pt x="808" y="357"/>
                </a:lnTo>
                <a:lnTo>
                  <a:pt x="794" y="372"/>
                </a:lnTo>
                <a:lnTo>
                  <a:pt x="781" y="388"/>
                </a:lnTo>
                <a:lnTo>
                  <a:pt x="766" y="405"/>
                </a:lnTo>
                <a:lnTo>
                  <a:pt x="750" y="422"/>
                </a:lnTo>
                <a:lnTo>
                  <a:pt x="735" y="439"/>
                </a:lnTo>
                <a:lnTo>
                  <a:pt x="718" y="457"/>
                </a:lnTo>
                <a:lnTo>
                  <a:pt x="700" y="476"/>
                </a:lnTo>
                <a:lnTo>
                  <a:pt x="683" y="497"/>
                </a:lnTo>
                <a:lnTo>
                  <a:pt x="664" y="516"/>
                </a:lnTo>
                <a:lnTo>
                  <a:pt x="645" y="537"/>
                </a:lnTo>
                <a:lnTo>
                  <a:pt x="626" y="560"/>
                </a:lnTo>
                <a:lnTo>
                  <a:pt x="604" y="581"/>
                </a:lnTo>
                <a:lnTo>
                  <a:pt x="583" y="604"/>
                </a:lnTo>
                <a:lnTo>
                  <a:pt x="564" y="626"/>
                </a:lnTo>
                <a:lnTo>
                  <a:pt x="545" y="647"/>
                </a:lnTo>
                <a:lnTo>
                  <a:pt x="526" y="668"/>
                </a:lnTo>
                <a:lnTo>
                  <a:pt x="508" y="687"/>
                </a:lnTo>
                <a:lnTo>
                  <a:pt x="491" y="704"/>
                </a:lnTo>
                <a:lnTo>
                  <a:pt x="474" y="723"/>
                </a:lnTo>
                <a:lnTo>
                  <a:pt x="459" y="741"/>
                </a:lnTo>
                <a:lnTo>
                  <a:pt x="443" y="756"/>
                </a:lnTo>
                <a:lnTo>
                  <a:pt x="430" y="771"/>
                </a:lnTo>
                <a:lnTo>
                  <a:pt x="416" y="787"/>
                </a:lnTo>
                <a:lnTo>
                  <a:pt x="403" y="802"/>
                </a:lnTo>
                <a:lnTo>
                  <a:pt x="389" y="816"/>
                </a:lnTo>
                <a:lnTo>
                  <a:pt x="378" y="827"/>
                </a:lnTo>
                <a:lnTo>
                  <a:pt x="368" y="841"/>
                </a:lnTo>
                <a:lnTo>
                  <a:pt x="357" y="852"/>
                </a:lnTo>
                <a:lnTo>
                  <a:pt x="347" y="864"/>
                </a:lnTo>
                <a:lnTo>
                  <a:pt x="338" y="873"/>
                </a:lnTo>
                <a:lnTo>
                  <a:pt x="330" y="883"/>
                </a:lnTo>
                <a:lnTo>
                  <a:pt x="322" y="892"/>
                </a:lnTo>
                <a:lnTo>
                  <a:pt x="317" y="900"/>
                </a:lnTo>
                <a:lnTo>
                  <a:pt x="309" y="908"/>
                </a:lnTo>
                <a:lnTo>
                  <a:pt x="305" y="913"/>
                </a:lnTo>
                <a:lnTo>
                  <a:pt x="299" y="921"/>
                </a:lnTo>
                <a:lnTo>
                  <a:pt x="295" y="927"/>
                </a:lnTo>
                <a:lnTo>
                  <a:pt x="292" y="931"/>
                </a:lnTo>
                <a:lnTo>
                  <a:pt x="290" y="937"/>
                </a:lnTo>
                <a:lnTo>
                  <a:pt x="288" y="940"/>
                </a:lnTo>
                <a:lnTo>
                  <a:pt x="286" y="942"/>
                </a:lnTo>
                <a:lnTo>
                  <a:pt x="286" y="946"/>
                </a:lnTo>
                <a:lnTo>
                  <a:pt x="286" y="948"/>
                </a:lnTo>
                <a:lnTo>
                  <a:pt x="286" y="950"/>
                </a:lnTo>
                <a:lnTo>
                  <a:pt x="288" y="950"/>
                </a:lnTo>
                <a:lnTo>
                  <a:pt x="290" y="952"/>
                </a:lnTo>
                <a:lnTo>
                  <a:pt x="294" y="952"/>
                </a:lnTo>
                <a:lnTo>
                  <a:pt x="295" y="952"/>
                </a:lnTo>
                <a:lnTo>
                  <a:pt x="299" y="952"/>
                </a:lnTo>
                <a:lnTo>
                  <a:pt x="303" y="952"/>
                </a:lnTo>
                <a:lnTo>
                  <a:pt x="309" y="952"/>
                </a:lnTo>
                <a:lnTo>
                  <a:pt x="315" y="952"/>
                </a:lnTo>
                <a:lnTo>
                  <a:pt x="320" y="952"/>
                </a:lnTo>
                <a:lnTo>
                  <a:pt x="326" y="952"/>
                </a:lnTo>
                <a:lnTo>
                  <a:pt x="334" y="950"/>
                </a:lnTo>
                <a:lnTo>
                  <a:pt x="341" y="950"/>
                </a:lnTo>
                <a:lnTo>
                  <a:pt x="349" y="948"/>
                </a:lnTo>
                <a:lnTo>
                  <a:pt x="357" y="946"/>
                </a:lnTo>
                <a:lnTo>
                  <a:pt x="366" y="944"/>
                </a:lnTo>
                <a:lnTo>
                  <a:pt x="376" y="944"/>
                </a:lnTo>
                <a:lnTo>
                  <a:pt x="386" y="942"/>
                </a:lnTo>
                <a:lnTo>
                  <a:pt x="397" y="940"/>
                </a:lnTo>
                <a:lnTo>
                  <a:pt x="409" y="937"/>
                </a:lnTo>
                <a:lnTo>
                  <a:pt x="420" y="935"/>
                </a:lnTo>
                <a:lnTo>
                  <a:pt x="432" y="933"/>
                </a:lnTo>
                <a:lnTo>
                  <a:pt x="445" y="931"/>
                </a:lnTo>
                <a:lnTo>
                  <a:pt x="459" y="927"/>
                </a:lnTo>
                <a:lnTo>
                  <a:pt x="472" y="925"/>
                </a:lnTo>
                <a:lnTo>
                  <a:pt x="487" y="921"/>
                </a:lnTo>
                <a:lnTo>
                  <a:pt x="503" y="919"/>
                </a:lnTo>
                <a:lnTo>
                  <a:pt x="518" y="915"/>
                </a:lnTo>
                <a:lnTo>
                  <a:pt x="533" y="912"/>
                </a:lnTo>
                <a:lnTo>
                  <a:pt x="551" y="910"/>
                </a:lnTo>
                <a:lnTo>
                  <a:pt x="568" y="906"/>
                </a:lnTo>
                <a:lnTo>
                  <a:pt x="585" y="902"/>
                </a:lnTo>
                <a:lnTo>
                  <a:pt x="604" y="898"/>
                </a:lnTo>
                <a:lnTo>
                  <a:pt x="624" y="894"/>
                </a:lnTo>
                <a:lnTo>
                  <a:pt x="641" y="892"/>
                </a:lnTo>
                <a:lnTo>
                  <a:pt x="658" y="889"/>
                </a:lnTo>
                <a:lnTo>
                  <a:pt x="674" y="887"/>
                </a:lnTo>
                <a:lnTo>
                  <a:pt x="691" y="883"/>
                </a:lnTo>
                <a:lnTo>
                  <a:pt x="704" y="881"/>
                </a:lnTo>
                <a:lnTo>
                  <a:pt x="720" y="879"/>
                </a:lnTo>
                <a:lnTo>
                  <a:pt x="733" y="877"/>
                </a:lnTo>
                <a:lnTo>
                  <a:pt x="747" y="875"/>
                </a:lnTo>
                <a:lnTo>
                  <a:pt x="760" y="873"/>
                </a:lnTo>
                <a:lnTo>
                  <a:pt x="773" y="871"/>
                </a:lnTo>
                <a:lnTo>
                  <a:pt x="785" y="871"/>
                </a:lnTo>
                <a:lnTo>
                  <a:pt x="794" y="869"/>
                </a:lnTo>
                <a:lnTo>
                  <a:pt x="806" y="869"/>
                </a:lnTo>
                <a:lnTo>
                  <a:pt x="816" y="869"/>
                </a:lnTo>
                <a:lnTo>
                  <a:pt x="825" y="867"/>
                </a:lnTo>
                <a:lnTo>
                  <a:pt x="833" y="867"/>
                </a:lnTo>
                <a:lnTo>
                  <a:pt x="842" y="867"/>
                </a:lnTo>
                <a:lnTo>
                  <a:pt x="850" y="867"/>
                </a:lnTo>
                <a:lnTo>
                  <a:pt x="856" y="869"/>
                </a:lnTo>
                <a:lnTo>
                  <a:pt x="864" y="869"/>
                </a:lnTo>
                <a:lnTo>
                  <a:pt x="869" y="869"/>
                </a:lnTo>
                <a:lnTo>
                  <a:pt x="873" y="871"/>
                </a:lnTo>
                <a:lnTo>
                  <a:pt x="879" y="871"/>
                </a:lnTo>
                <a:lnTo>
                  <a:pt x="883" y="873"/>
                </a:lnTo>
                <a:lnTo>
                  <a:pt x="887" y="875"/>
                </a:lnTo>
                <a:lnTo>
                  <a:pt x="889" y="875"/>
                </a:lnTo>
                <a:lnTo>
                  <a:pt x="892" y="877"/>
                </a:lnTo>
                <a:lnTo>
                  <a:pt x="894" y="879"/>
                </a:lnTo>
                <a:lnTo>
                  <a:pt x="894" y="881"/>
                </a:lnTo>
                <a:lnTo>
                  <a:pt x="896" y="883"/>
                </a:lnTo>
                <a:lnTo>
                  <a:pt x="896" y="887"/>
                </a:lnTo>
                <a:lnTo>
                  <a:pt x="896" y="889"/>
                </a:lnTo>
                <a:lnTo>
                  <a:pt x="894" y="890"/>
                </a:lnTo>
                <a:lnTo>
                  <a:pt x="894" y="894"/>
                </a:lnTo>
                <a:lnTo>
                  <a:pt x="890" y="896"/>
                </a:lnTo>
                <a:lnTo>
                  <a:pt x="889" y="900"/>
                </a:lnTo>
                <a:lnTo>
                  <a:pt x="885" y="902"/>
                </a:lnTo>
                <a:lnTo>
                  <a:pt x="881" y="906"/>
                </a:lnTo>
                <a:lnTo>
                  <a:pt x="877" y="910"/>
                </a:lnTo>
                <a:lnTo>
                  <a:pt x="871" y="913"/>
                </a:lnTo>
                <a:lnTo>
                  <a:pt x="866" y="915"/>
                </a:lnTo>
                <a:lnTo>
                  <a:pt x="858" y="919"/>
                </a:lnTo>
                <a:lnTo>
                  <a:pt x="852" y="923"/>
                </a:lnTo>
                <a:lnTo>
                  <a:pt x="844" y="929"/>
                </a:lnTo>
                <a:lnTo>
                  <a:pt x="835" y="933"/>
                </a:lnTo>
                <a:lnTo>
                  <a:pt x="827" y="937"/>
                </a:lnTo>
                <a:lnTo>
                  <a:pt x="816" y="940"/>
                </a:lnTo>
                <a:lnTo>
                  <a:pt x="806" y="946"/>
                </a:lnTo>
                <a:lnTo>
                  <a:pt x="794" y="950"/>
                </a:lnTo>
                <a:lnTo>
                  <a:pt x="783" y="954"/>
                </a:lnTo>
                <a:lnTo>
                  <a:pt x="771" y="960"/>
                </a:lnTo>
                <a:lnTo>
                  <a:pt x="760" y="963"/>
                </a:lnTo>
                <a:lnTo>
                  <a:pt x="747" y="969"/>
                </a:lnTo>
                <a:lnTo>
                  <a:pt x="731" y="975"/>
                </a:lnTo>
                <a:lnTo>
                  <a:pt x="718" y="981"/>
                </a:lnTo>
                <a:lnTo>
                  <a:pt x="702" y="984"/>
                </a:lnTo>
                <a:lnTo>
                  <a:pt x="687" y="990"/>
                </a:lnTo>
                <a:lnTo>
                  <a:pt x="670" y="996"/>
                </a:lnTo>
                <a:lnTo>
                  <a:pt x="652" y="1002"/>
                </a:lnTo>
                <a:lnTo>
                  <a:pt x="635" y="1008"/>
                </a:lnTo>
                <a:lnTo>
                  <a:pt x="616" y="1013"/>
                </a:lnTo>
                <a:lnTo>
                  <a:pt x="597" y="1019"/>
                </a:lnTo>
                <a:lnTo>
                  <a:pt x="578" y="1025"/>
                </a:lnTo>
                <a:lnTo>
                  <a:pt x="556" y="1031"/>
                </a:lnTo>
                <a:lnTo>
                  <a:pt x="537" y="1036"/>
                </a:lnTo>
                <a:lnTo>
                  <a:pt x="518" y="1042"/>
                </a:lnTo>
                <a:lnTo>
                  <a:pt x="499" y="1048"/>
                </a:lnTo>
                <a:lnTo>
                  <a:pt x="480" y="1054"/>
                </a:lnTo>
                <a:lnTo>
                  <a:pt x="462" y="1059"/>
                </a:lnTo>
                <a:lnTo>
                  <a:pt x="445" y="1065"/>
                </a:lnTo>
                <a:lnTo>
                  <a:pt x="430" y="1071"/>
                </a:lnTo>
                <a:lnTo>
                  <a:pt x="413" y="1077"/>
                </a:lnTo>
                <a:lnTo>
                  <a:pt x="397" y="1080"/>
                </a:lnTo>
                <a:lnTo>
                  <a:pt x="384" y="1086"/>
                </a:lnTo>
                <a:lnTo>
                  <a:pt x="370" y="1090"/>
                </a:lnTo>
                <a:lnTo>
                  <a:pt x="357" y="1096"/>
                </a:lnTo>
                <a:lnTo>
                  <a:pt x="343" y="1100"/>
                </a:lnTo>
                <a:lnTo>
                  <a:pt x="332" y="1105"/>
                </a:lnTo>
                <a:lnTo>
                  <a:pt x="320" y="1109"/>
                </a:lnTo>
                <a:lnTo>
                  <a:pt x="309" y="1113"/>
                </a:lnTo>
                <a:lnTo>
                  <a:pt x="299" y="1119"/>
                </a:lnTo>
                <a:lnTo>
                  <a:pt x="290" y="1123"/>
                </a:lnTo>
                <a:lnTo>
                  <a:pt x="280" y="1127"/>
                </a:lnTo>
                <a:lnTo>
                  <a:pt x="270" y="1130"/>
                </a:lnTo>
                <a:lnTo>
                  <a:pt x="263" y="1134"/>
                </a:lnTo>
                <a:lnTo>
                  <a:pt x="257" y="1138"/>
                </a:lnTo>
                <a:lnTo>
                  <a:pt x="249" y="1142"/>
                </a:lnTo>
                <a:lnTo>
                  <a:pt x="244" y="1144"/>
                </a:lnTo>
                <a:lnTo>
                  <a:pt x="238" y="1148"/>
                </a:lnTo>
                <a:lnTo>
                  <a:pt x="234" y="1151"/>
                </a:lnTo>
                <a:lnTo>
                  <a:pt x="230" y="1153"/>
                </a:lnTo>
                <a:lnTo>
                  <a:pt x="226" y="1157"/>
                </a:lnTo>
                <a:lnTo>
                  <a:pt x="224" y="1159"/>
                </a:lnTo>
                <a:lnTo>
                  <a:pt x="222" y="1161"/>
                </a:lnTo>
                <a:lnTo>
                  <a:pt x="221" y="1165"/>
                </a:lnTo>
                <a:lnTo>
                  <a:pt x="211" y="1175"/>
                </a:lnTo>
                <a:lnTo>
                  <a:pt x="201" y="1182"/>
                </a:lnTo>
                <a:lnTo>
                  <a:pt x="190" y="1188"/>
                </a:lnTo>
                <a:lnTo>
                  <a:pt x="180" y="1194"/>
                </a:lnTo>
                <a:lnTo>
                  <a:pt x="171" y="1198"/>
                </a:lnTo>
                <a:lnTo>
                  <a:pt x="161" y="1201"/>
                </a:lnTo>
                <a:lnTo>
                  <a:pt x="151" y="1201"/>
                </a:lnTo>
                <a:lnTo>
                  <a:pt x="142" y="1203"/>
                </a:lnTo>
                <a:lnTo>
                  <a:pt x="134" y="1203"/>
                </a:lnTo>
                <a:lnTo>
                  <a:pt x="127" y="1201"/>
                </a:lnTo>
                <a:lnTo>
                  <a:pt x="119" y="1199"/>
                </a:lnTo>
                <a:lnTo>
                  <a:pt x="113" y="1198"/>
                </a:lnTo>
                <a:lnTo>
                  <a:pt x="107" y="1196"/>
                </a:lnTo>
                <a:lnTo>
                  <a:pt x="100" y="1192"/>
                </a:lnTo>
                <a:lnTo>
                  <a:pt x="94" y="1188"/>
                </a:lnTo>
                <a:lnTo>
                  <a:pt x="88" y="1182"/>
                </a:lnTo>
                <a:lnTo>
                  <a:pt x="80" y="1176"/>
                </a:lnTo>
                <a:lnTo>
                  <a:pt x="75" y="1171"/>
                </a:lnTo>
                <a:lnTo>
                  <a:pt x="69" y="1163"/>
                </a:lnTo>
                <a:lnTo>
                  <a:pt x="63" y="1155"/>
                </a:lnTo>
                <a:lnTo>
                  <a:pt x="55" y="1146"/>
                </a:lnTo>
                <a:lnTo>
                  <a:pt x="50" y="1136"/>
                </a:lnTo>
                <a:lnTo>
                  <a:pt x="42" y="1127"/>
                </a:lnTo>
                <a:lnTo>
                  <a:pt x="34" y="1115"/>
                </a:lnTo>
                <a:lnTo>
                  <a:pt x="29" y="1105"/>
                </a:lnTo>
                <a:lnTo>
                  <a:pt x="23" y="1096"/>
                </a:lnTo>
                <a:lnTo>
                  <a:pt x="17" y="1086"/>
                </a:lnTo>
                <a:lnTo>
                  <a:pt x="11" y="1079"/>
                </a:lnTo>
                <a:lnTo>
                  <a:pt x="9" y="1071"/>
                </a:lnTo>
                <a:lnTo>
                  <a:pt x="6" y="1063"/>
                </a:lnTo>
                <a:lnTo>
                  <a:pt x="4" y="1056"/>
                </a:lnTo>
                <a:lnTo>
                  <a:pt x="2" y="1050"/>
                </a:lnTo>
                <a:lnTo>
                  <a:pt x="2" y="1042"/>
                </a:lnTo>
                <a:lnTo>
                  <a:pt x="0" y="1036"/>
                </a:lnTo>
                <a:lnTo>
                  <a:pt x="0" y="1031"/>
                </a:lnTo>
                <a:lnTo>
                  <a:pt x="2" y="1027"/>
                </a:lnTo>
                <a:lnTo>
                  <a:pt x="2" y="1023"/>
                </a:lnTo>
                <a:lnTo>
                  <a:pt x="4" y="1019"/>
                </a:lnTo>
                <a:lnTo>
                  <a:pt x="6" y="1015"/>
                </a:lnTo>
                <a:lnTo>
                  <a:pt x="8" y="1013"/>
                </a:lnTo>
                <a:lnTo>
                  <a:pt x="13" y="1008"/>
                </a:lnTo>
                <a:lnTo>
                  <a:pt x="19" y="1004"/>
                </a:lnTo>
                <a:lnTo>
                  <a:pt x="25" y="998"/>
                </a:lnTo>
                <a:lnTo>
                  <a:pt x="31" y="994"/>
                </a:lnTo>
                <a:lnTo>
                  <a:pt x="40" y="988"/>
                </a:lnTo>
                <a:lnTo>
                  <a:pt x="50" y="984"/>
                </a:lnTo>
                <a:lnTo>
                  <a:pt x="55" y="983"/>
                </a:lnTo>
                <a:lnTo>
                  <a:pt x="61" y="979"/>
                </a:lnTo>
                <a:lnTo>
                  <a:pt x="67" y="977"/>
                </a:lnTo>
                <a:lnTo>
                  <a:pt x="75" y="975"/>
                </a:lnTo>
                <a:lnTo>
                  <a:pt x="80" y="971"/>
                </a:lnTo>
                <a:lnTo>
                  <a:pt x="86" y="967"/>
                </a:lnTo>
                <a:lnTo>
                  <a:pt x="92" y="963"/>
                </a:lnTo>
                <a:lnTo>
                  <a:pt x="100" y="958"/>
                </a:lnTo>
                <a:lnTo>
                  <a:pt x="107" y="952"/>
                </a:lnTo>
                <a:lnTo>
                  <a:pt x="115" y="944"/>
                </a:lnTo>
                <a:lnTo>
                  <a:pt x="125" y="935"/>
                </a:lnTo>
                <a:lnTo>
                  <a:pt x="134" y="925"/>
                </a:lnTo>
                <a:lnTo>
                  <a:pt x="146" y="915"/>
                </a:lnTo>
                <a:lnTo>
                  <a:pt x="155" y="904"/>
                </a:lnTo>
                <a:lnTo>
                  <a:pt x="167" y="890"/>
                </a:lnTo>
                <a:lnTo>
                  <a:pt x="178" y="877"/>
                </a:lnTo>
                <a:lnTo>
                  <a:pt x="192" y="862"/>
                </a:lnTo>
                <a:lnTo>
                  <a:pt x="205" y="846"/>
                </a:lnTo>
                <a:lnTo>
                  <a:pt x="219" y="829"/>
                </a:lnTo>
                <a:lnTo>
                  <a:pt x="234" y="81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Freeform 70"/>
          <p:cNvSpPr/>
          <p:nvPr/>
        </p:nvSpPr>
        <p:spPr>
          <a:xfrm>
            <a:off x="5419800" y="2784600"/>
            <a:ext cx="622080" cy="917280"/>
          </a:xfrm>
          <a:custGeom>
            <a:avLst/>
            <a:gdLst/>
            <a:ahLst/>
            <a:rect l="l" t="t" r="r" b="b"/>
            <a:pathLst>
              <a:path w="783" h="1158">
                <a:moveTo>
                  <a:pt x="491" y="77"/>
                </a:moveTo>
                <a:lnTo>
                  <a:pt x="488" y="64"/>
                </a:lnTo>
                <a:lnTo>
                  <a:pt x="484" y="50"/>
                </a:lnTo>
                <a:lnTo>
                  <a:pt x="482" y="39"/>
                </a:lnTo>
                <a:lnTo>
                  <a:pt x="484" y="29"/>
                </a:lnTo>
                <a:lnTo>
                  <a:pt x="484" y="25"/>
                </a:lnTo>
                <a:lnTo>
                  <a:pt x="486" y="21"/>
                </a:lnTo>
                <a:lnTo>
                  <a:pt x="488" y="16"/>
                </a:lnTo>
                <a:lnTo>
                  <a:pt x="490" y="14"/>
                </a:lnTo>
                <a:lnTo>
                  <a:pt x="491" y="10"/>
                </a:lnTo>
                <a:lnTo>
                  <a:pt x="495" y="6"/>
                </a:lnTo>
                <a:lnTo>
                  <a:pt x="499" y="4"/>
                </a:lnTo>
                <a:lnTo>
                  <a:pt x="505" y="0"/>
                </a:lnTo>
                <a:lnTo>
                  <a:pt x="511" y="0"/>
                </a:lnTo>
                <a:lnTo>
                  <a:pt x="516" y="2"/>
                </a:lnTo>
                <a:lnTo>
                  <a:pt x="522" y="2"/>
                </a:lnTo>
                <a:lnTo>
                  <a:pt x="530" y="4"/>
                </a:lnTo>
                <a:lnTo>
                  <a:pt x="538" y="4"/>
                </a:lnTo>
                <a:lnTo>
                  <a:pt x="545" y="6"/>
                </a:lnTo>
                <a:lnTo>
                  <a:pt x="553" y="8"/>
                </a:lnTo>
                <a:lnTo>
                  <a:pt x="562" y="12"/>
                </a:lnTo>
                <a:lnTo>
                  <a:pt x="572" y="16"/>
                </a:lnTo>
                <a:lnTo>
                  <a:pt x="582" y="17"/>
                </a:lnTo>
                <a:lnTo>
                  <a:pt x="593" y="23"/>
                </a:lnTo>
                <a:lnTo>
                  <a:pt x="603" y="27"/>
                </a:lnTo>
                <a:lnTo>
                  <a:pt x="614" y="33"/>
                </a:lnTo>
                <a:lnTo>
                  <a:pt x="626" y="39"/>
                </a:lnTo>
                <a:lnTo>
                  <a:pt x="637" y="44"/>
                </a:lnTo>
                <a:lnTo>
                  <a:pt x="651" y="52"/>
                </a:lnTo>
                <a:lnTo>
                  <a:pt x="662" y="58"/>
                </a:lnTo>
                <a:lnTo>
                  <a:pt x="674" y="65"/>
                </a:lnTo>
                <a:lnTo>
                  <a:pt x="683" y="73"/>
                </a:lnTo>
                <a:lnTo>
                  <a:pt x="693" y="81"/>
                </a:lnTo>
                <a:lnTo>
                  <a:pt x="701" y="87"/>
                </a:lnTo>
                <a:lnTo>
                  <a:pt x="708" y="94"/>
                </a:lnTo>
                <a:lnTo>
                  <a:pt x="716" y="102"/>
                </a:lnTo>
                <a:lnTo>
                  <a:pt x="722" y="108"/>
                </a:lnTo>
                <a:lnTo>
                  <a:pt x="726" y="115"/>
                </a:lnTo>
                <a:lnTo>
                  <a:pt x="731" y="123"/>
                </a:lnTo>
                <a:lnTo>
                  <a:pt x="735" y="131"/>
                </a:lnTo>
                <a:lnTo>
                  <a:pt x="737" y="136"/>
                </a:lnTo>
                <a:lnTo>
                  <a:pt x="741" y="144"/>
                </a:lnTo>
                <a:lnTo>
                  <a:pt x="741" y="152"/>
                </a:lnTo>
                <a:lnTo>
                  <a:pt x="743" y="158"/>
                </a:lnTo>
                <a:lnTo>
                  <a:pt x="743" y="165"/>
                </a:lnTo>
                <a:lnTo>
                  <a:pt x="743" y="179"/>
                </a:lnTo>
                <a:lnTo>
                  <a:pt x="741" y="192"/>
                </a:lnTo>
                <a:lnTo>
                  <a:pt x="737" y="204"/>
                </a:lnTo>
                <a:lnTo>
                  <a:pt x="735" y="215"/>
                </a:lnTo>
                <a:lnTo>
                  <a:pt x="731" y="229"/>
                </a:lnTo>
                <a:lnTo>
                  <a:pt x="726" y="240"/>
                </a:lnTo>
                <a:lnTo>
                  <a:pt x="722" y="254"/>
                </a:lnTo>
                <a:lnTo>
                  <a:pt x="716" y="267"/>
                </a:lnTo>
                <a:lnTo>
                  <a:pt x="710" y="275"/>
                </a:lnTo>
                <a:lnTo>
                  <a:pt x="705" y="284"/>
                </a:lnTo>
                <a:lnTo>
                  <a:pt x="695" y="296"/>
                </a:lnTo>
                <a:lnTo>
                  <a:pt x="687" y="309"/>
                </a:lnTo>
                <a:lnTo>
                  <a:pt x="676" y="325"/>
                </a:lnTo>
                <a:lnTo>
                  <a:pt x="662" y="342"/>
                </a:lnTo>
                <a:lnTo>
                  <a:pt x="649" y="361"/>
                </a:lnTo>
                <a:lnTo>
                  <a:pt x="643" y="371"/>
                </a:lnTo>
                <a:lnTo>
                  <a:pt x="635" y="382"/>
                </a:lnTo>
                <a:lnTo>
                  <a:pt x="626" y="394"/>
                </a:lnTo>
                <a:lnTo>
                  <a:pt x="618" y="405"/>
                </a:lnTo>
                <a:lnTo>
                  <a:pt x="610" y="417"/>
                </a:lnTo>
                <a:lnTo>
                  <a:pt x="601" y="430"/>
                </a:lnTo>
                <a:lnTo>
                  <a:pt x="591" y="444"/>
                </a:lnTo>
                <a:lnTo>
                  <a:pt x="582" y="457"/>
                </a:lnTo>
                <a:lnTo>
                  <a:pt x="572" y="470"/>
                </a:lnTo>
                <a:lnTo>
                  <a:pt x="561" y="486"/>
                </a:lnTo>
                <a:lnTo>
                  <a:pt x="551" y="501"/>
                </a:lnTo>
                <a:lnTo>
                  <a:pt x="539" y="517"/>
                </a:lnTo>
                <a:lnTo>
                  <a:pt x="528" y="532"/>
                </a:lnTo>
                <a:lnTo>
                  <a:pt x="516" y="549"/>
                </a:lnTo>
                <a:lnTo>
                  <a:pt x="503" y="566"/>
                </a:lnTo>
                <a:lnTo>
                  <a:pt x="491" y="584"/>
                </a:lnTo>
                <a:lnTo>
                  <a:pt x="478" y="603"/>
                </a:lnTo>
                <a:lnTo>
                  <a:pt x="465" y="622"/>
                </a:lnTo>
                <a:lnTo>
                  <a:pt x="451" y="641"/>
                </a:lnTo>
                <a:lnTo>
                  <a:pt x="438" y="659"/>
                </a:lnTo>
                <a:lnTo>
                  <a:pt x="426" y="676"/>
                </a:lnTo>
                <a:lnTo>
                  <a:pt x="415" y="693"/>
                </a:lnTo>
                <a:lnTo>
                  <a:pt x="403" y="710"/>
                </a:lnTo>
                <a:lnTo>
                  <a:pt x="392" y="726"/>
                </a:lnTo>
                <a:lnTo>
                  <a:pt x="382" y="741"/>
                </a:lnTo>
                <a:lnTo>
                  <a:pt x="371" y="755"/>
                </a:lnTo>
                <a:lnTo>
                  <a:pt x="361" y="770"/>
                </a:lnTo>
                <a:lnTo>
                  <a:pt x="351" y="783"/>
                </a:lnTo>
                <a:lnTo>
                  <a:pt x="344" y="795"/>
                </a:lnTo>
                <a:lnTo>
                  <a:pt x="334" y="808"/>
                </a:lnTo>
                <a:lnTo>
                  <a:pt x="326" y="820"/>
                </a:lnTo>
                <a:lnTo>
                  <a:pt x="321" y="831"/>
                </a:lnTo>
                <a:lnTo>
                  <a:pt x="313" y="841"/>
                </a:lnTo>
                <a:lnTo>
                  <a:pt x="307" y="852"/>
                </a:lnTo>
                <a:lnTo>
                  <a:pt x="300" y="862"/>
                </a:lnTo>
                <a:lnTo>
                  <a:pt x="294" y="870"/>
                </a:lnTo>
                <a:lnTo>
                  <a:pt x="290" y="879"/>
                </a:lnTo>
                <a:lnTo>
                  <a:pt x="284" y="887"/>
                </a:lnTo>
                <a:lnTo>
                  <a:pt x="280" y="893"/>
                </a:lnTo>
                <a:lnTo>
                  <a:pt x="276" y="900"/>
                </a:lnTo>
                <a:lnTo>
                  <a:pt x="275" y="906"/>
                </a:lnTo>
                <a:lnTo>
                  <a:pt x="271" y="912"/>
                </a:lnTo>
                <a:lnTo>
                  <a:pt x="269" y="918"/>
                </a:lnTo>
                <a:lnTo>
                  <a:pt x="267" y="922"/>
                </a:lnTo>
                <a:lnTo>
                  <a:pt x="265" y="925"/>
                </a:lnTo>
                <a:lnTo>
                  <a:pt x="265" y="929"/>
                </a:lnTo>
                <a:lnTo>
                  <a:pt x="265" y="933"/>
                </a:lnTo>
                <a:lnTo>
                  <a:pt x="265" y="935"/>
                </a:lnTo>
                <a:lnTo>
                  <a:pt x="265" y="937"/>
                </a:lnTo>
                <a:lnTo>
                  <a:pt x="267" y="939"/>
                </a:lnTo>
                <a:lnTo>
                  <a:pt x="269" y="941"/>
                </a:lnTo>
                <a:lnTo>
                  <a:pt x="273" y="943"/>
                </a:lnTo>
                <a:lnTo>
                  <a:pt x="278" y="945"/>
                </a:lnTo>
                <a:lnTo>
                  <a:pt x="284" y="946"/>
                </a:lnTo>
                <a:lnTo>
                  <a:pt x="290" y="946"/>
                </a:lnTo>
                <a:lnTo>
                  <a:pt x="298" y="948"/>
                </a:lnTo>
                <a:lnTo>
                  <a:pt x="307" y="948"/>
                </a:lnTo>
                <a:lnTo>
                  <a:pt x="317" y="948"/>
                </a:lnTo>
                <a:lnTo>
                  <a:pt x="328" y="948"/>
                </a:lnTo>
                <a:lnTo>
                  <a:pt x="340" y="948"/>
                </a:lnTo>
                <a:lnTo>
                  <a:pt x="353" y="946"/>
                </a:lnTo>
                <a:lnTo>
                  <a:pt x="369" y="946"/>
                </a:lnTo>
                <a:lnTo>
                  <a:pt x="384" y="945"/>
                </a:lnTo>
                <a:lnTo>
                  <a:pt x="401" y="943"/>
                </a:lnTo>
                <a:lnTo>
                  <a:pt x="419" y="941"/>
                </a:lnTo>
                <a:lnTo>
                  <a:pt x="438" y="939"/>
                </a:lnTo>
                <a:lnTo>
                  <a:pt x="478" y="935"/>
                </a:lnTo>
                <a:lnTo>
                  <a:pt x="520" y="931"/>
                </a:lnTo>
                <a:lnTo>
                  <a:pt x="562" y="929"/>
                </a:lnTo>
                <a:lnTo>
                  <a:pt x="605" y="927"/>
                </a:lnTo>
                <a:lnTo>
                  <a:pt x="649" y="927"/>
                </a:lnTo>
                <a:lnTo>
                  <a:pt x="693" y="925"/>
                </a:lnTo>
                <a:lnTo>
                  <a:pt x="783" y="925"/>
                </a:lnTo>
                <a:lnTo>
                  <a:pt x="783" y="989"/>
                </a:lnTo>
                <a:lnTo>
                  <a:pt x="770" y="989"/>
                </a:lnTo>
                <a:lnTo>
                  <a:pt x="756" y="991"/>
                </a:lnTo>
                <a:lnTo>
                  <a:pt x="741" y="991"/>
                </a:lnTo>
                <a:lnTo>
                  <a:pt x="726" y="993"/>
                </a:lnTo>
                <a:lnTo>
                  <a:pt x="710" y="993"/>
                </a:lnTo>
                <a:lnTo>
                  <a:pt x="693" y="994"/>
                </a:lnTo>
                <a:lnTo>
                  <a:pt x="674" y="996"/>
                </a:lnTo>
                <a:lnTo>
                  <a:pt x="655" y="1000"/>
                </a:lnTo>
                <a:lnTo>
                  <a:pt x="635" y="1002"/>
                </a:lnTo>
                <a:lnTo>
                  <a:pt x="614" y="1006"/>
                </a:lnTo>
                <a:lnTo>
                  <a:pt x="593" y="1010"/>
                </a:lnTo>
                <a:lnTo>
                  <a:pt x="572" y="1016"/>
                </a:lnTo>
                <a:lnTo>
                  <a:pt x="549" y="1021"/>
                </a:lnTo>
                <a:lnTo>
                  <a:pt x="526" y="1027"/>
                </a:lnTo>
                <a:lnTo>
                  <a:pt x="503" y="1033"/>
                </a:lnTo>
                <a:lnTo>
                  <a:pt x="478" y="1041"/>
                </a:lnTo>
                <a:lnTo>
                  <a:pt x="451" y="1046"/>
                </a:lnTo>
                <a:lnTo>
                  <a:pt x="426" y="1054"/>
                </a:lnTo>
                <a:lnTo>
                  <a:pt x="403" y="1060"/>
                </a:lnTo>
                <a:lnTo>
                  <a:pt x="380" y="1066"/>
                </a:lnTo>
                <a:lnTo>
                  <a:pt x="359" y="1071"/>
                </a:lnTo>
                <a:lnTo>
                  <a:pt x="340" y="1077"/>
                </a:lnTo>
                <a:lnTo>
                  <a:pt x="323" y="1083"/>
                </a:lnTo>
                <a:lnTo>
                  <a:pt x="305" y="1087"/>
                </a:lnTo>
                <a:lnTo>
                  <a:pt x="290" y="1092"/>
                </a:lnTo>
                <a:lnTo>
                  <a:pt x="276" y="1096"/>
                </a:lnTo>
                <a:lnTo>
                  <a:pt x="263" y="1100"/>
                </a:lnTo>
                <a:lnTo>
                  <a:pt x="250" y="1104"/>
                </a:lnTo>
                <a:lnTo>
                  <a:pt x="240" y="1108"/>
                </a:lnTo>
                <a:lnTo>
                  <a:pt x="230" y="1110"/>
                </a:lnTo>
                <a:lnTo>
                  <a:pt x="221" y="1113"/>
                </a:lnTo>
                <a:lnTo>
                  <a:pt x="213" y="1115"/>
                </a:lnTo>
                <a:lnTo>
                  <a:pt x="198" y="1121"/>
                </a:lnTo>
                <a:lnTo>
                  <a:pt x="186" y="1125"/>
                </a:lnTo>
                <a:lnTo>
                  <a:pt x="173" y="1131"/>
                </a:lnTo>
                <a:lnTo>
                  <a:pt x="163" y="1135"/>
                </a:lnTo>
                <a:lnTo>
                  <a:pt x="154" y="1140"/>
                </a:lnTo>
                <a:lnTo>
                  <a:pt x="146" y="1144"/>
                </a:lnTo>
                <a:lnTo>
                  <a:pt x="138" y="1150"/>
                </a:lnTo>
                <a:lnTo>
                  <a:pt x="133" y="1154"/>
                </a:lnTo>
                <a:lnTo>
                  <a:pt x="131" y="1156"/>
                </a:lnTo>
                <a:lnTo>
                  <a:pt x="127" y="1158"/>
                </a:lnTo>
                <a:lnTo>
                  <a:pt x="125" y="1158"/>
                </a:lnTo>
                <a:lnTo>
                  <a:pt x="121" y="1158"/>
                </a:lnTo>
                <a:lnTo>
                  <a:pt x="117" y="1156"/>
                </a:lnTo>
                <a:lnTo>
                  <a:pt x="113" y="1154"/>
                </a:lnTo>
                <a:lnTo>
                  <a:pt x="108" y="1152"/>
                </a:lnTo>
                <a:lnTo>
                  <a:pt x="104" y="1148"/>
                </a:lnTo>
                <a:lnTo>
                  <a:pt x="98" y="1144"/>
                </a:lnTo>
                <a:lnTo>
                  <a:pt x="92" y="1138"/>
                </a:lnTo>
                <a:lnTo>
                  <a:pt x="86" y="1135"/>
                </a:lnTo>
                <a:lnTo>
                  <a:pt x="81" y="1129"/>
                </a:lnTo>
                <a:lnTo>
                  <a:pt x="67" y="1117"/>
                </a:lnTo>
                <a:lnTo>
                  <a:pt x="54" y="1104"/>
                </a:lnTo>
                <a:lnTo>
                  <a:pt x="46" y="1096"/>
                </a:lnTo>
                <a:lnTo>
                  <a:pt x="40" y="1089"/>
                </a:lnTo>
                <a:lnTo>
                  <a:pt x="35" y="1083"/>
                </a:lnTo>
                <a:lnTo>
                  <a:pt x="29" y="1077"/>
                </a:lnTo>
                <a:lnTo>
                  <a:pt x="25" y="1071"/>
                </a:lnTo>
                <a:lnTo>
                  <a:pt x="19" y="1066"/>
                </a:lnTo>
                <a:lnTo>
                  <a:pt x="15" y="1060"/>
                </a:lnTo>
                <a:lnTo>
                  <a:pt x="12" y="1054"/>
                </a:lnTo>
                <a:lnTo>
                  <a:pt x="8" y="1042"/>
                </a:lnTo>
                <a:lnTo>
                  <a:pt x="4" y="1033"/>
                </a:lnTo>
                <a:lnTo>
                  <a:pt x="2" y="1023"/>
                </a:lnTo>
                <a:lnTo>
                  <a:pt x="0" y="1014"/>
                </a:lnTo>
                <a:lnTo>
                  <a:pt x="2" y="1010"/>
                </a:lnTo>
                <a:lnTo>
                  <a:pt x="4" y="1002"/>
                </a:lnTo>
                <a:lnTo>
                  <a:pt x="8" y="996"/>
                </a:lnTo>
                <a:lnTo>
                  <a:pt x="12" y="987"/>
                </a:lnTo>
                <a:lnTo>
                  <a:pt x="15" y="983"/>
                </a:lnTo>
                <a:lnTo>
                  <a:pt x="19" y="979"/>
                </a:lnTo>
                <a:lnTo>
                  <a:pt x="23" y="975"/>
                </a:lnTo>
                <a:lnTo>
                  <a:pt x="29" y="970"/>
                </a:lnTo>
                <a:lnTo>
                  <a:pt x="35" y="966"/>
                </a:lnTo>
                <a:lnTo>
                  <a:pt x="40" y="960"/>
                </a:lnTo>
                <a:lnTo>
                  <a:pt x="46" y="956"/>
                </a:lnTo>
                <a:lnTo>
                  <a:pt x="54" y="950"/>
                </a:lnTo>
                <a:lnTo>
                  <a:pt x="60" y="948"/>
                </a:lnTo>
                <a:lnTo>
                  <a:pt x="65" y="945"/>
                </a:lnTo>
                <a:lnTo>
                  <a:pt x="71" y="941"/>
                </a:lnTo>
                <a:lnTo>
                  <a:pt x="77" y="935"/>
                </a:lnTo>
                <a:lnTo>
                  <a:pt x="83" y="929"/>
                </a:lnTo>
                <a:lnTo>
                  <a:pt x="88" y="922"/>
                </a:lnTo>
                <a:lnTo>
                  <a:pt x="96" y="914"/>
                </a:lnTo>
                <a:lnTo>
                  <a:pt x="104" y="906"/>
                </a:lnTo>
                <a:lnTo>
                  <a:pt x="111" y="899"/>
                </a:lnTo>
                <a:lnTo>
                  <a:pt x="119" y="889"/>
                </a:lnTo>
                <a:lnTo>
                  <a:pt x="127" y="879"/>
                </a:lnTo>
                <a:lnTo>
                  <a:pt x="136" y="870"/>
                </a:lnTo>
                <a:lnTo>
                  <a:pt x="154" y="847"/>
                </a:lnTo>
                <a:lnTo>
                  <a:pt x="173" y="824"/>
                </a:lnTo>
                <a:lnTo>
                  <a:pt x="182" y="812"/>
                </a:lnTo>
                <a:lnTo>
                  <a:pt x="194" y="797"/>
                </a:lnTo>
                <a:lnTo>
                  <a:pt x="205" y="781"/>
                </a:lnTo>
                <a:lnTo>
                  <a:pt x="217" y="762"/>
                </a:lnTo>
                <a:lnTo>
                  <a:pt x="230" y="743"/>
                </a:lnTo>
                <a:lnTo>
                  <a:pt x="244" y="722"/>
                </a:lnTo>
                <a:lnTo>
                  <a:pt x="257" y="699"/>
                </a:lnTo>
                <a:lnTo>
                  <a:pt x="271" y="676"/>
                </a:lnTo>
                <a:lnTo>
                  <a:pt x="286" y="649"/>
                </a:lnTo>
                <a:lnTo>
                  <a:pt x="301" y="622"/>
                </a:lnTo>
                <a:lnTo>
                  <a:pt x="317" y="593"/>
                </a:lnTo>
                <a:lnTo>
                  <a:pt x="332" y="565"/>
                </a:lnTo>
                <a:lnTo>
                  <a:pt x="347" y="534"/>
                </a:lnTo>
                <a:lnTo>
                  <a:pt x="365" y="501"/>
                </a:lnTo>
                <a:lnTo>
                  <a:pt x="382" y="467"/>
                </a:lnTo>
                <a:lnTo>
                  <a:pt x="399" y="432"/>
                </a:lnTo>
                <a:lnTo>
                  <a:pt x="415" y="398"/>
                </a:lnTo>
                <a:lnTo>
                  <a:pt x="430" y="363"/>
                </a:lnTo>
                <a:lnTo>
                  <a:pt x="443" y="330"/>
                </a:lnTo>
                <a:lnTo>
                  <a:pt x="455" y="302"/>
                </a:lnTo>
                <a:lnTo>
                  <a:pt x="466" y="273"/>
                </a:lnTo>
                <a:lnTo>
                  <a:pt x="474" y="246"/>
                </a:lnTo>
                <a:lnTo>
                  <a:pt x="482" y="221"/>
                </a:lnTo>
                <a:lnTo>
                  <a:pt x="490" y="196"/>
                </a:lnTo>
                <a:lnTo>
                  <a:pt x="493" y="175"/>
                </a:lnTo>
                <a:lnTo>
                  <a:pt x="497" y="156"/>
                </a:lnTo>
                <a:lnTo>
                  <a:pt x="499" y="136"/>
                </a:lnTo>
                <a:lnTo>
                  <a:pt x="501" y="121"/>
                </a:lnTo>
                <a:lnTo>
                  <a:pt x="501" y="113"/>
                </a:lnTo>
                <a:lnTo>
                  <a:pt x="499" y="108"/>
                </a:lnTo>
                <a:lnTo>
                  <a:pt x="499" y="100"/>
                </a:lnTo>
                <a:lnTo>
                  <a:pt x="499" y="94"/>
                </a:lnTo>
                <a:lnTo>
                  <a:pt x="497" y="90"/>
                </a:lnTo>
                <a:lnTo>
                  <a:pt x="495" y="85"/>
                </a:lnTo>
                <a:lnTo>
                  <a:pt x="493" y="81"/>
                </a:lnTo>
                <a:lnTo>
                  <a:pt x="491" y="7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208"/>
                                        </p:tgtEl>
                                        <p:attrNameLst>
                                          <p:attrName>style.visibility</p:attrName>
                                        </p:attrNameLst>
                                      </p:cBhvr>
                                      <p:to>
                                        <p:strVal val="visible"/>
                                      </p:to>
                                    </p:set>
                                    <p:anim calcmode="lin" valueType="num">
                                      <p:cBhvr additive="base">
                                        <p:cTn id="517" dur="500" fill="hold"/>
                                        <p:tgtEl>
                                          <p:spTgt spid="208"/>
                                        </p:tgtEl>
                                        <p:attrNameLst>
                                          <p:attrName>ppt_x</p:attrName>
                                        </p:attrNameLst>
                                      </p:cBhvr>
                                      <p:tavLst>
                                        <p:tav tm="0">
                                          <p:val>
                                            <p:strVal val="0-#ppt_w/2"/>
                                          </p:val>
                                        </p:tav>
                                        <p:tav tm="100000">
                                          <p:val>
                                            <p:strVal val="#ppt_x"/>
                                          </p:val>
                                        </p:tav>
                                      </p:tavLst>
                                    </p:anim>
                                    <p:anim calcmode="lin" valueType="num">
                                      <p:cBhvr additive="base">
                                        <p:cTn id="518"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8" presetSubtype="12">
                                  <p:stCondLst>
                                    <p:cond delay="0"/>
                                  </p:stCondLst>
                                  <p:childTnLst>
                                    <p:set>
                                      <p:cBhvr>
                                        <p:cTn id="522" dur="1" fill="hold">
                                          <p:stCondLst>
                                            <p:cond delay="0"/>
                                          </p:stCondLst>
                                        </p:cTn>
                                        <p:tgtEl>
                                          <p:spTgt spid="215"/>
                                        </p:tgtEl>
                                        <p:attrNameLst>
                                          <p:attrName>style.visibility</p:attrName>
                                        </p:attrNameLst>
                                      </p:cBhvr>
                                      <p:to>
                                        <p:strVal val="visible"/>
                                      </p:to>
                                    </p:set>
                                    <p:animEffect filter="strips(downLeft)" transition="in">
                                      <p:cBhvr additive="repl">
                                        <p:cTn id="523" dur="500"/>
                                        <p:tgtEl>
                                          <p:spTgt spid="21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18" presetSubtype="12">
                                  <p:stCondLst>
                                    <p:cond delay="0"/>
                                  </p:stCondLst>
                                  <p:childTnLst>
                                    <p:set>
                                      <p:cBhvr>
                                        <p:cTn id="527" dur="1" fill="hold">
                                          <p:stCondLst>
                                            <p:cond delay="0"/>
                                          </p:stCondLst>
                                        </p:cTn>
                                        <p:tgtEl>
                                          <p:spTgt spid="214"/>
                                        </p:tgtEl>
                                        <p:attrNameLst>
                                          <p:attrName>style.visibility</p:attrName>
                                        </p:attrNameLst>
                                      </p:cBhvr>
                                      <p:to>
                                        <p:strVal val="visible"/>
                                      </p:to>
                                    </p:set>
                                    <p:animEffect filter="strips(downLeft)" transition="in">
                                      <p:cBhvr additive="repl">
                                        <p:cTn id="528" dur="500"/>
                                        <p:tgtEl>
                                          <p:spTgt spid="214"/>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213"/>
                                        </p:tgtEl>
                                        <p:attrNameLst>
                                          <p:attrName>style.visibility</p:attrName>
                                        </p:attrNameLst>
                                      </p:cBhvr>
                                      <p:to>
                                        <p:strVal val="visible"/>
                                      </p:to>
                                    </p:set>
                                    <p:animEffect filter="wipe(left)" transition="in">
                                      <p:cBhvr additive="repl">
                                        <p:cTn id="533" dur="500"/>
                                        <p:tgtEl>
                                          <p:spTgt spid="213"/>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2" presetSubtype="1">
                                  <p:stCondLst>
                                    <p:cond delay="0"/>
                                  </p:stCondLst>
                                  <p:childTnLst>
                                    <p:set>
                                      <p:cBhvr>
                                        <p:cTn id="537" dur="1" fill="hold">
                                          <p:stCondLst>
                                            <p:cond delay="0"/>
                                          </p:stCondLst>
                                        </p:cTn>
                                        <p:tgtEl>
                                          <p:spTgt spid="211"/>
                                        </p:tgtEl>
                                        <p:attrNameLst>
                                          <p:attrName>style.visibility</p:attrName>
                                        </p:attrNameLst>
                                      </p:cBhvr>
                                      <p:to>
                                        <p:strVal val="visible"/>
                                      </p:to>
                                    </p:set>
                                    <p:animEffect filter="wipe(up)" transition="in">
                                      <p:cBhvr additive="repl">
                                        <p:cTn id="538" dur="500"/>
                                        <p:tgtEl>
                                          <p:spTgt spid="211"/>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1">
                                  <p:stCondLst>
                                    <p:cond delay="0"/>
                                  </p:stCondLst>
                                  <p:childTnLst>
                                    <p:set>
                                      <p:cBhvr>
                                        <p:cTn id="542" dur="1" fill="hold">
                                          <p:stCondLst>
                                            <p:cond delay="0"/>
                                          </p:stCondLst>
                                        </p:cTn>
                                        <p:tgtEl>
                                          <p:spTgt spid="212"/>
                                        </p:tgtEl>
                                        <p:attrNameLst>
                                          <p:attrName>style.visibility</p:attrName>
                                        </p:attrNameLst>
                                      </p:cBhvr>
                                      <p:to>
                                        <p:strVal val="visible"/>
                                      </p:to>
                                    </p:set>
                                    <p:animEffect filter="wipe(up)" transition="in">
                                      <p:cBhvr additive="repl">
                                        <p:cTn id="543" dur="500"/>
                                        <p:tgtEl>
                                          <p:spTgt spid="212"/>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210"/>
                                        </p:tgtEl>
                                        <p:attrNameLst>
                                          <p:attrName>style.visibility</p:attrName>
                                        </p:attrNameLst>
                                      </p:cBhvr>
                                      <p:to>
                                        <p:strVal val="visible"/>
                                      </p:to>
                                    </p:set>
                                    <p:animEffect filter="wipe(up)" transition="in">
                                      <p:cBhvr additive="repl">
                                        <p:cTn id="548" dur="500"/>
                                        <p:tgtEl>
                                          <p:spTgt spid="210"/>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1">
                                  <p:stCondLst>
                                    <p:cond delay="0"/>
                                  </p:stCondLst>
                                  <p:childTnLst>
                                    <p:set>
                                      <p:cBhvr>
                                        <p:cTn id="552" dur="1" fill="hold">
                                          <p:stCondLst>
                                            <p:cond delay="0"/>
                                          </p:stCondLst>
                                        </p:cTn>
                                        <p:tgtEl>
                                          <p:spTgt spid="209"/>
                                        </p:tgtEl>
                                        <p:attrNameLst>
                                          <p:attrName>style.visibility</p:attrName>
                                        </p:attrNameLst>
                                      </p:cBhvr>
                                      <p:to>
                                        <p:strVal val="visible"/>
                                      </p:to>
                                    </p:set>
                                    <p:animEffect filter="wipe(up)" transition="in">
                                      <p:cBhvr additive="repl">
                                        <p:cTn id="553" dur="500"/>
                                        <p:tgtEl>
                                          <p:spTgt spid="209"/>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53" presetSubtype="16">
                                  <p:stCondLst>
                                    <p:cond delay="0"/>
                                  </p:stCondLst>
                                  <p:childTnLst>
                                    <p:set>
                                      <p:cBhvr>
                                        <p:cTn id="557" dur="1" fill="hold">
                                          <p:stCondLst>
                                            <p:cond delay="0"/>
                                          </p:stCondLst>
                                        </p:cTn>
                                        <p:tgtEl>
                                          <p:spTgt spid="205"/>
                                        </p:tgtEl>
                                        <p:attrNameLst>
                                          <p:attrName>style.visibility</p:attrName>
                                        </p:attrNameLst>
                                      </p:cBhvr>
                                      <p:to>
                                        <p:strVal val="visible"/>
                                      </p:to>
                                    </p:set>
                                    <p:anim calcmode="lin" valueType="num">
                                      <p:cBhvr additive="repl">
                                        <p:cTn id="558" dur="500" fill="hold"/>
                                        <p:tgtEl>
                                          <p:spTgt spid="205"/>
                                        </p:tgtEl>
                                        <p:attrNameLst>
                                          <p:attrName>ppt_w</p:attrName>
                                        </p:attrNameLst>
                                      </p:cBhvr>
                                      <p:tavLst>
                                        <p:tav tm="0">
                                          <p:val>
                                            <p:fltVal val="0"/>
                                          </p:val>
                                        </p:tav>
                                        <p:tav tm="100000">
                                          <p:val>
                                            <p:strVal val="#ppt_w"/>
                                          </p:val>
                                        </p:tav>
                                      </p:tavLst>
                                    </p:anim>
                                    <p:anim calcmode="lin" valueType="num">
                                      <p:cBhvr additive="repl">
                                        <p:cTn id="559" dur="500" fill="hold"/>
                                        <p:tgtEl>
                                          <p:spTgt spid="205"/>
                                        </p:tgtEl>
                                        <p:attrNameLst>
                                          <p:attrName>ppt_h</p:attrName>
                                        </p:attrNameLst>
                                      </p:cBhvr>
                                      <p:tavLst>
                                        <p:tav tm="0">
                                          <p:val>
                                            <p:fltVal val="0"/>
                                          </p:val>
                                        </p:tav>
                                        <p:tav tm="100000">
                                          <p:val>
                                            <p:strVal val="#ppt_h"/>
                                          </p:val>
                                        </p:tav>
                                      </p:tavLst>
                                    </p:anim>
                                    <p:animEffect filter="fade" transition="in">
                                      <p:cBhvr additive="repl">
                                        <p:cTn id="560"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矩形 4"/>
          <p:cNvSpPr/>
          <p:nvPr/>
        </p:nvSpPr>
        <p:spPr>
          <a:xfrm>
            <a:off x="2218680" y="25322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瞥</a:t>
            </a:r>
            <a:endParaRPr b="0" lang="en-US" sz="8000" spc="-1" strike="noStrike">
              <a:solidFill>
                <a:srgbClr val="000000"/>
              </a:solidFill>
              <a:latin typeface="Calibri"/>
            </a:endParaRPr>
          </a:p>
        </p:txBody>
      </p:sp>
      <p:graphicFrame>
        <p:nvGraphicFramePr>
          <p:cNvPr id="217" name=""/>
          <p:cNvGraphicFramePr/>
          <p:nvPr/>
        </p:nvGraphicFramePr>
        <p:xfrm>
          <a:off x="5114880" y="2382840"/>
          <a:ext cx="2941560" cy="3040200"/>
        </p:xfrm>
        <a:graphic>
          <a:graphicData uri="http://schemas.openxmlformats.org/drawingml/2006/table">
            <a:tbl>
              <a:tblPr/>
              <a:tblGrid>
                <a:gridCol w="1471680"/>
                <a:gridCol w="146988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18" name="组合 3"/>
          <p:cNvGrpSpPr/>
          <p:nvPr/>
        </p:nvGrpSpPr>
        <p:grpSpPr>
          <a:xfrm>
            <a:off x="1400040" y="3975120"/>
            <a:ext cx="2732400" cy="1571760"/>
            <a:chOff x="1400040" y="3975120"/>
            <a:chExt cx="2732400" cy="1571760"/>
          </a:xfrm>
        </p:grpSpPr>
        <p:pic>
          <p:nvPicPr>
            <p:cNvPr id="219" name="图示 4" descr=""/>
            <p:cNvPicPr/>
            <p:nvPr/>
          </p:nvPicPr>
          <p:blipFill>
            <a:blip r:embed="rId1"/>
            <a:stretch/>
          </p:blipFill>
          <p:spPr>
            <a:xfrm>
              <a:off x="1400040" y="3975120"/>
              <a:ext cx="2732400" cy="1571760"/>
            </a:xfrm>
            <a:prstGeom prst="rect">
              <a:avLst/>
            </a:prstGeom>
            <a:ln w="0">
              <a:noFill/>
            </a:ln>
          </p:spPr>
        </p:pic>
        <p:sp>
          <p:nvSpPr>
            <p:cNvPr id="220" name="矩形 2"/>
            <p:cNvSpPr/>
            <p:nvPr/>
          </p:nvSpPr>
          <p:spPr>
            <a:xfrm>
              <a:off x="1443240" y="4587840"/>
              <a:ext cx="26622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敝”右部捺画伸展有力。</a:t>
              </a:r>
              <a:endParaRPr b="0" lang="en-US" sz="2000" spc="-1" strike="noStrike">
                <a:solidFill>
                  <a:srgbClr val="000000"/>
                </a:solidFill>
                <a:latin typeface="Calibri"/>
              </a:endParaRPr>
            </a:p>
          </p:txBody>
        </p:sp>
      </p:grpSp>
      <p:sp>
        <p:nvSpPr>
          <p:cNvPr id="221" name="矩形 2"/>
          <p:cNvSpPr/>
          <p:nvPr/>
        </p:nvSpPr>
        <p:spPr>
          <a:xfrm>
            <a:off x="1979640" y="1792440"/>
            <a:ext cx="1582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piē</a:t>
            </a:r>
            <a:endParaRPr b="0" lang="en-US" sz="4800" spc="-1" strike="noStrike">
              <a:solidFill>
                <a:srgbClr val="000000"/>
              </a:solidFill>
              <a:latin typeface="Calibri"/>
            </a:endParaRPr>
          </a:p>
        </p:txBody>
      </p:sp>
      <p:sp>
        <p:nvSpPr>
          <p:cNvPr id="222" name="Freeform 190"/>
          <p:cNvSpPr/>
          <p:nvPr/>
        </p:nvSpPr>
        <p:spPr>
          <a:xfrm>
            <a:off x="6043680" y="3975120"/>
            <a:ext cx="1009440" cy="1096920"/>
          </a:xfrm>
          <a:custGeom>
            <a:avLst/>
            <a:gdLst/>
            <a:ahLst/>
            <a:rect l="l" t="t" r="r" b="b"/>
            <a:pathLst>
              <a:path w="1270" h="1380">
                <a:moveTo>
                  <a:pt x="848" y="167"/>
                </a:moveTo>
                <a:lnTo>
                  <a:pt x="840" y="167"/>
                </a:lnTo>
                <a:lnTo>
                  <a:pt x="833" y="167"/>
                </a:lnTo>
                <a:lnTo>
                  <a:pt x="823" y="167"/>
                </a:lnTo>
                <a:lnTo>
                  <a:pt x="814" y="169"/>
                </a:lnTo>
                <a:lnTo>
                  <a:pt x="800" y="169"/>
                </a:lnTo>
                <a:lnTo>
                  <a:pt x="789" y="171"/>
                </a:lnTo>
                <a:lnTo>
                  <a:pt x="773" y="171"/>
                </a:lnTo>
                <a:lnTo>
                  <a:pt x="758" y="173"/>
                </a:lnTo>
                <a:lnTo>
                  <a:pt x="741" y="175"/>
                </a:lnTo>
                <a:lnTo>
                  <a:pt x="723" y="177"/>
                </a:lnTo>
                <a:lnTo>
                  <a:pt x="704" y="178"/>
                </a:lnTo>
                <a:lnTo>
                  <a:pt x="683" y="180"/>
                </a:lnTo>
                <a:lnTo>
                  <a:pt x="660" y="182"/>
                </a:lnTo>
                <a:lnTo>
                  <a:pt x="637" y="186"/>
                </a:lnTo>
                <a:lnTo>
                  <a:pt x="612" y="188"/>
                </a:lnTo>
                <a:lnTo>
                  <a:pt x="587" y="192"/>
                </a:lnTo>
                <a:lnTo>
                  <a:pt x="560" y="194"/>
                </a:lnTo>
                <a:lnTo>
                  <a:pt x="531" y="198"/>
                </a:lnTo>
                <a:lnTo>
                  <a:pt x="503" y="201"/>
                </a:lnTo>
                <a:lnTo>
                  <a:pt x="470" y="205"/>
                </a:lnTo>
                <a:lnTo>
                  <a:pt x="439" y="209"/>
                </a:lnTo>
                <a:lnTo>
                  <a:pt x="405" y="213"/>
                </a:lnTo>
                <a:lnTo>
                  <a:pt x="370" y="217"/>
                </a:lnTo>
                <a:lnTo>
                  <a:pt x="334" y="221"/>
                </a:lnTo>
                <a:lnTo>
                  <a:pt x="297" y="226"/>
                </a:lnTo>
                <a:lnTo>
                  <a:pt x="259" y="230"/>
                </a:lnTo>
                <a:lnTo>
                  <a:pt x="218" y="236"/>
                </a:lnTo>
                <a:lnTo>
                  <a:pt x="176" y="240"/>
                </a:lnTo>
                <a:lnTo>
                  <a:pt x="134" y="246"/>
                </a:lnTo>
                <a:lnTo>
                  <a:pt x="90" y="251"/>
                </a:lnTo>
                <a:lnTo>
                  <a:pt x="46" y="255"/>
                </a:lnTo>
                <a:lnTo>
                  <a:pt x="0" y="261"/>
                </a:lnTo>
                <a:lnTo>
                  <a:pt x="0" y="207"/>
                </a:lnTo>
                <a:lnTo>
                  <a:pt x="0" y="155"/>
                </a:lnTo>
                <a:lnTo>
                  <a:pt x="11" y="153"/>
                </a:lnTo>
                <a:lnTo>
                  <a:pt x="25" y="153"/>
                </a:lnTo>
                <a:lnTo>
                  <a:pt x="40" y="153"/>
                </a:lnTo>
                <a:lnTo>
                  <a:pt x="53" y="152"/>
                </a:lnTo>
                <a:lnTo>
                  <a:pt x="71" y="152"/>
                </a:lnTo>
                <a:lnTo>
                  <a:pt x="86" y="150"/>
                </a:lnTo>
                <a:lnTo>
                  <a:pt x="103" y="150"/>
                </a:lnTo>
                <a:lnTo>
                  <a:pt x="121" y="148"/>
                </a:lnTo>
                <a:lnTo>
                  <a:pt x="140" y="146"/>
                </a:lnTo>
                <a:lnTo>
                  <a:pt x="159" y="144"/>
                </a:lnTo>
                <a:lnTo>
                  <a:pt x="178" y="142"/>
                </a:lnTo>
                <a:lnTo>
                  <a:pt x="197" y="140"/>
                </a:lnTo>
                <a:lnTo>
                  <a:pt x="240" y="136"/>
                </a:lnTo>
                <a:lnTo>
                  <a:pt x="282" y="130"/>
                </a:lnTo>
                <a:lnTo>
                  <a:pt x="303" y="129"/>
                </a:lnTo>
                <a:lnTo>
                  <a:pt x="326" y="127"/>
                </a:lnTo>
                <a:lnTo>
                  <a:pt x="349" y="125"/>
                </a:lnTo>
                <a:lnTo>
                  <a:pt x="372" y="123"/>
                </a:lnTo>
                <a:lnTo>
                  <a:pt x="422" y="117"/>
                </a:lnTo>
                <a:lnTo>
                  <a:pt x="472" y="111"/>
                </a:lnTo>
                <a:lnTo>
                  <a:pt x="522" y="105"/>
                </a:lnTo>
                <a:lnTo>
                  <a:pt x="574" y="100"/>
                </a:lnTo>
                <a:lnTo>
                  <a:pt x="627" y="92"/>
                </a:lnTo>
                <a:lnTo>
                  <a:pt x="681" y="84"/>
                </a:lnTo>
                <a:lnTo>
                  <a:pt x="706" y="81"/>
                </a:lnTo>
                <a:lnTo>
                  <a:pt x="731" y="79"/>
                </a:lnTo>
                <a:lnTo>
                  <a:pt x="754" y="75"/>
                </a:lnTo>
                <a:lnTo>
                  <a:pt x="777" y="73"/>
                </a:lnTo>
                <a:lnTo>
                  <a:pt x="796" y="69"/>
                </a:lnTo>
                <a:lnTo>
                  <a:pt x="817" y="65"/>
                </a:lnTo>
                <a:lnTo>
                  <a:pt x="835" y="61"/>
                </a:lnTo>
                <a:lnTo>
                  <a:pt x="852" y="57"/>
                </a:lnTo>
                <a:lnTo>
                  <a:pt x="867" y="54"/>
                </a:lnTo>
                <a:lnTo>
                  <a:pt x="883" y="50"/>
                </a:lnTo>
                <a:lnTo>
                  <a:pt x="894" y="46"/>
                </a:lnTo>
                <a:lnTo>
                  <a:pt x="906" y="42"/>
                </a:lnTo>
                <a:lnTo>
                  <a:pt x="915" y="36"/>
                </a:lnTo>
                <a:lnTo>
                  <a:pt x="925" y="33"/>
                </a:lnTo>
                <a:lnTo>
                  <a:pt x="931" y="29"/>
                </a:lnTo>
                <a:lnTo>
                  <a:pt x="936" y="25"/>
                </a:lnTo>
                <a:lnTo>
                  <a:pt x="942" y="19"/>
                </a:lnTo>
                <a:lnTo>
                  <a:pt x="948" y="15"/>
                </a:lnTo>
                <a:lnTo>
                  <a:pt x="956" y="11"/>
                </a:lnTo>
                <a:lnTo>
                  <a:pt x="963" y="8"/>
                </a:lnTo>
                <a:lnTo>
                  <a:pt x="969" y="4"/>
                </a:lnTo>
                <a:lnTo>
                  <a:pt x="977" y="2"/>
                </a:lnTo>
                <a:lnTo>
                  <a:pt x="982" y="0"/>
                </a:lnTo>
                <a:lnTo>
                  <a:pt x="988" y="0"/>
                </a:lnTo>
                <a:lnTo>
                  <a:pt x="992" y="0"/>
                </a:lnTo>
                <a:lnTo>
                  <a:pt x="994" y="2"/>
                </a:lnTo>
                <a:lnTo>
                  <a:pt x="1000" y="2"/>
                </a:lnTo>
                <a:lnTo>
                  <a:pt x="1005" y="4"/>
                </a:lnTo>
                <a:lnTo>
                  <a:pt x="1011" y="8"/>
                </a:lnTo>
                <a:lnTo>
                  <a:pt x="1019" y="10"/>
                </a:lnTo>
                <a:lnTo>
                  <a:pt x="1027" y="13"/>
                </a:lnTo>
                <a:lnTo>
                  <a:pt x="1036" y="17"/>
                </a:lnTo>
                <a:lnTo>
                  <a:pt x="1046" y="23"/>
                </a:lnTo>
                <a:lnTo>
                  <a:pt x="1057" y="27"/>
                </a:lnTo>
                <a:lnTo>
                  <a:pt x="1069" y="33"/>
                </a:lnTo>
                <a:lnTo>
                  <a:pt x="1082" y="40"/>
                </a:lnTo>
                <a:lnTo>
                  <a:pt x="1096" y="46"/>
                </a:lnTo>
                <a:lnTo>
                  <a:pt x="1111" y="54"/>
                </a:lnTo>
                <a:lnTo>
                  <a:pt x="1126" y="63"/>
                </a:lnTo>
                <a:lnTo>
                  <a:pt x="1142" y="71"/>
                </a:lnTo>
                <a:lnTo>
                  <a:pt x="1159" y="82"/>
                </a:lnTo>
                <a:lnTo>
                  <a:pt x="1174" y="92"/>
                </a:lnTo>
                <a:lnTo>
                  <a:pt x="1188" y="104"/>
                </a:lnTo>
                <a:lnTo>
                  <a:pt x="1199" y="111"/>
                </a:lnTo>
                <a:lnTo>
                  <a:pt x="1211" y="121"/>
                </a:lnTo>
                <a:lnTo>
                  <a:pt x="1222" y="129"/>
                </a:lnTo>
                <a:lnTo>
                  <a:pt x="1232" y="136"/>
                </a:lnTo>
                <a:lnTo>
                  <a:pt x="1240" y="144"/>
                </a:lnTo>
                <a:lnTo>
                  <a:pt x="1247" y="150"/>
                </a:lnTo>
                <a:lnTo>
                  <a:pt x="1253" y="155"/>
                </a:lnTo>
                <a:lnTo>
                  <a:pt x="1259" y="161"/>
                </a:lnTo>
                <a:lnTo>
                  <a:pt x="1263" y="165"/>
                </a:lnTo>
                <a:lnTo>
                  <a:pt x="1266" y="169"/>
                </a:lnTo>
                <a:lnTo>
                  <a:pt x="1268" y="173"/>
                </a:lnTo>
                <a:lnTo>
                  <a:pt x="1270" y="177"/>
                </a:lnTo>
                <a:lnTo>
                  <a:pt x="1270" y="178"/>
                </a:lnTo>
                <a:lnTo>
                  <a:pt x="1270" y="186"/>
                </a:lnTo>
                <a:lnTo>
                  <a:pt x="1268" y="194"/>
                </a:lnTo>
                <a:lnTo>
                  <a:pt x="1265" y="201"/>
                </a:lnTo>
                <a:lnTo>
                  <a:pt x="1261" y="207"/>
                </a:lnTo>
                <a:lnTo>
                  <a:pt x="1255" y="211"/>
                </a:lnTo>
                <a:lnTo>
                  <a:pt x="1249" y="217"/>
                </a:lnTo>
                <a:lnTo>
                  <a:pt x="1242" y="221"/>
                </a:lnTo>
                <a:lnTo>
                  <a:pt x="1232" y="226"/>
                </a:lnTo>
                <a:lnTo>
                  <a:pt x="1230" y="226"/>
                </a:lnTo>
                <a:lnTo>
                  <a:pt x="1228" y="228"/>
                </a:lnTo>
                <a:lnTo>
                  <a:pt x="1222" y="234"/>
                </a:lnTo>
                <a:lnTo>
                  <a:pt x="1218" y="242"/>
                </a:lnTo>
                <a:lnTo>
                  <a:pt x="1215" y="249"/>
                </a:lnTo>
                <a:lnTo>
                  <a:pt x="1213" y="261"/>
                </a:lnTo>
                <a:lnTo>
                  <a:pt x="1209" y="272"/>
                </a:lnTo>
                <a:lnTo>
                  <a:pt x="1207" y="288"/>
                </a:lnTo>
                <a:lnTo>
                  <a:pt x="1205" y="303"/>
                </a:lnTo>
                <a:lnTo>
                  <a:pt x="1203" y="320"/>
                </a:lnTo>
                <a:lnTo>
                  <a:pt x="1203" y="340"/>
                </a:lnTo>
                <a:lnTo>
                  <a:pt x="1201" y="361"/>
                </a:lnTo>
                <a:lnTo>
                  <a:pt x="1201" y="384"/>
                </a:lnTo>
                <a:lnTo>
                  <a:pt x="1201" y="407"/>
                </a:lnTo>
                <a:lnTo>
                  <a:pt x="1203" y="432"/>
                </a:lnTo>
                <a:lnTo>
                  <a:pt x="1205" y="459"/>
                </a:lnTo>
                <a:lnTo>
                  <a:pt x="1207" y="487"/>
                </a:lnTo>
                <a:lnTo>
                  <a:pt x="1209" y="518"/>
                </a:lnTo>
                <a:lnTo>
                  <a:pt x="1211" y="549"/>
                </a:lnTo>
                <a:lnTo>
                  <a:pt x="1213" y="580"/>
                </a:lnTo>
                <a:lnTo>
                  <a:pt x="1215" y="608"/>
                </a:lnTo>
                <a:lnTo>
                  <a:pt x="1215" y="637"/>
                </a:lnTo>
                <a:lnTo>
                  <a:pt x="1217" y="664"/>
                </a:lnTo>
                <a:lnTo>
                  <a:pt x="1217" y="693"/>
                </a:lnTo>
                <a:lnTo>
                  <a:pt x="1218" y="720"/>
                </a:lnTo>
                <a:lnTo>
                  <a:pt x="1218" y="747"/>
                </a:lnTo>
                <a:lnTo>
                  <a:pt x="1218" y="772"/>
                </a:lnTo>
                <a:lnTo>
                  <a:pt x="1218" y="797"/>
                </a:lnTo>
                <a:lnTo>
                  <a:pt x="1218" y="821"/>
                </a:lnTo>
                <a:lnTo>
                  <a:pt x="1218" y="846"/>
                </a:lnTo>
                <a:lnTo>
                  <a:pt x="1218" y="869"/>
                </a:lnTo>
                <a:lnTo>
                  <a:pt x="1220" y="892"/>
                </a:lnTo>
                <a:lnTo>
                  <a:pt x="1220" y="916"/>
                </a:lnTo>
                <a:lnTo>
                  <a:pt x="1217" y="940"/>
                </a:lnTo>
                <a:lnTo>
                  <a:pt x="1215" y="964"/>
                </a:lnTo>
                <a:lnTo>
                  <a:pt x="1211" y="987"/>
                </a:lnTo>
                <a:lnTo>
                  <a:pt x="1207" y="1010"/>
                </a:lnTo>
                <a:lnTo>
                  <a:pt x="1203" y="1031"/>
                </a:lnTo>
                <a:lnTo>
                  <a:pt x="1199" y="1054"/>
                </a:lnTo>
                <a:lnTo>
                  <a:pt x="1190" y="1096"/>
                </a:lnTo>
                <a:lnTo>
                  <a:pt x="1180" y="1136"/>
                </a:lnTo>
                <a:lnTo>
                  <a:pt x="1169" y="1175"/>
                </a:lnTo>
                <a:lnTo>
                  <a:pt x="1155" y="1213"/>
                </a:lnTo>
                <a:lnTo>
                  <a:pt x="1142" y="1250"/>
                </a:lnTo>
                <a:lnTo>
                  <a:pt x="1136" y="1263"/>
                </a:lnTo>
                <a:lnTo>
                  <a:pt x="1128" y="1278"/>
                </a:lnTo>
                <a:lnTo>
                  <a:pt x="1121" y="1292"/>
                </a:lnTo>
                <a:lnTo>
                  <a:pt x="1113" y="1303"/>
                </a:lnTo>
                <a:lnTo>
                  <a:pt x="1107" y="1317"/>
                </a:lnTo>
                <a:lnTo>
                  <a:pt x="1099" y="1326"/>
                </a:lnTo>
                <a:lnTo>
                  <a:pt x="1094" y="1336"/>
                </a:lnTo>
                <a:lnTo>
                  <a:pt x="1086" y="1345"/>
                </a:lnTo>
                <a:lnTo>
                  <a:pt x="1080" y="1353"/>
                </a:lnTo>
                <a:lnTo>
                  <a:pt x="1073" y="1359"/>
                </a:lnTo>
                <a:lnTo>
                  <a:pt x="1067" y="1367"/>
                </a:lnTo>
                <a:lnTo>
                  <a:pt x="1061" y="1370"/>
                </a:lnTo>
                <a:lnTo>
                  <a:pt x="1055" y="1374"/>
                </a:lnTo>
                <a:lnTo>
                  <a:pt x="1050" y="1376"/>
                </a:lnTo>
                <a:lnTo>
                  <a:pt x="1044" y="1378"/>
                </a:lnTo>
                <a:lnTo>
                  <a:pt x="1040" y="1380"/>
                </a:lnTo>
                <a:lnTo>
                  <a:pt x="1032" y="1378"/>
                </a:lnTo>
                <a:lnTo>
                  <a:pt x="1027" y="1378"/>
                </a:lnTo>
                <a:lnTo>
                  <a:pt x="1021" y="1376"/>
                </a:lnTo>
                <a:lnTo>
                  <a:pt x="1015" y="1372"/>
                </a:lnTo>
                <a:lnTo>
                  <a:pt x="1011" y="1369"/>
                </a:lnTo>
                <a:lnTo>
                  <a:pt x="1007" y="1365"/>
                </a:lnTo>
                <a:lnTo>
                  <a:pt x="1004" y="1359"/>
                </a:lnTo>
                <a:lnTo>
                  <a:pt x="1002" y="1353"/>
                </a:lnTo>
                <a:lnTo>
                  <a:pt x="1000" y="1347"/>
                </a:lnTo>
                <a:lnTo>
                  <a:pt x="998" y="1340"/>
                </a:lnTo>
                <a:lnTo>
                  <a:pt x="996" y="1332"/>
                </a:lnTo>
                <a:lnTo>
                  <a:pt x="996" y="1324"/>
                </a:lnTo>
                <a:lnTo>
                  <a:pt x="996" y="1315"/>
                </a:lnTo>
                <a:lnTo>
                  <a:pt x="998" y="1305"/>
                </a:lnTo>
                <a:lnTo>
                  <a:pt x="1000" y="1296"/>
                </a:lnTo>
                <a:lnTo>
                  <a:pt x="1002" y="1284"/>
                </a:lnTo>
                <a:lnTo>
                  <a:pt x="1000" y="1273"/>
                </a:lnTo>
                <a:lnTo>
                  <a:pt x="998" y="1261"/>
                </a:lnTo>
                <a:lnTo>
                  <a:pt x="994" y="1248"/>
                </a:lnTo>
                <a:lnTo>
                  <a:pt x="988" y="1234"/>
                </a:lnTo>
                <a:lnTo>
                  <a:pt x="982" y="1219"/>
                </a:lnTo>
                <a:lnTo>
                  <a:pt x="975" y="1203"/>
                </a:lnTo>
                <a:lnTo>
                  <a:pt x="965" y="1186"/>
                </a:lnTo>
                <a:lnTo>
                  <a:pt x="954" y="1171"/>
                </a:lnTo>
                <a:lnTo>
                  <a:pt x="942" y="1154"/>
                </a:lnTo>
                <a:lnTo>
                  <a:pt x="929" y="1134"/>
                </a:lnTo>
                <a:lnTo>
                  <a:pt x="913" y="1115"/>
                </a:lnTo>
                <a:lnTo>
                  <a:pt x="898" y="1096"/>
                </a:lnTo>
                <a:lnTo>
                  <a:pt x="881" y="1075"/>
                </a:lnTo>
                <a:lnTo>
                  <a:pt x="861" y="1054"/>
                </a:lnTo>
                <a:lnTo>
                  <a:pt x="842" y="1033"/>
                </a:lnTo>
                <a:lnTo>
                  <a:pt x="821" y="1011"/>
                </a:lnTo>
                <a:lnTo>
                  <a:pt x="842" y="1013"/>
                </a:lnTo>
                <a:lnTo>
                  <a:pt x="861" y="1015"/>
                </a:lnTo>
                <a:lnTo>
                  <a:pt x="881" y="1015"/>
                </a:lnTo>
                <a:lnTo>
                  <a:pt x="898" y="1017"/>
                </a:lnTo>
                <a:lnTo>
                  <a:pt x="915" y="1017"/>
                </a:lnTo>
                <a:lnTo>
                  <a:pt x="931" y="1017"/>
                </a:lnTo>
                <a:lnTo>
                  <a:pt x="944" y="1017"/>
                </a:lnTo>
                <a:lnTo>
                  <a:pt x="956" y="1017"/>
                </a:lnTo>
                <a:lnTo>
                  <a:pt x="967" y="1015"/>
                </a:lnTo>
                <a:lnTo>
                  <a:pt x="979" y="1013"/>
                </a:lnTo>
                <a:lnTo>
                  <a:pt x="986" y="1011"/>
                </a:lnTo>
                <a:lnTo>
                  <a:pt x="994" y="1008"/>
                </a:lnTo>
                <a:lnTo>
                  <a:pt x="1002" y="1004"/>
                </a:lnTo>
                <a:lnTo>
                  <a:pt x="1007" y="998"/>
                </a:lnTo>
                <a:lnTo>
                  <a:pt x="1011" y="994"/>
                </a:lnTo>
                <a:lnTo>
                  <a:pt x="1013" y="987"/>
                </a:lnTo>
                <a:lnTo>
                  <a:pt x="1015" y="981"/>
                </a:lnTo>
                <a:lnTo>
                  <a:pt x="1017" y="975"/>
                </a:lnTo>
                <a:lnTo>
                  <a:pt x="1019" y="965"/>
                </a:lnTo>
                <a:lnTo>
                  <a:pt x="1021" y="956"/>
                </a:lnTo>
                <a:lnTo>
                  <a:pt x="1023" y="944"/>
                </a:lnTo>
                <a:lnTo>
                  <a:pt x="1023" y="929"/>
                </a:lnTo>
                <a:lnTo>
                  <a:pt x="1025" y="914"/>
                </a:lnTo>
                <a:lnTo>
                  <a:pt x="1025" y="896"/>
                </a:lnTo>
                <a:lnTo>
                  <a:pt x="1025" y="877"/>
                </a:lnTo>
                <a:lnTo>
                  <a:pt x="1027" y="856"/>
                </a:lnTo>
                <a:lnTo>
                  <a:pt x="1027" y="833"/>
                </a:lnTo>
                <a:lnTo>
                  <a:pt x="1027" y="808"/>
                </a:lnTo>
                <a:lnTo>
                  <a:pt x="1027" y="781"/>
                </a:lnTo>
                <a:lnTo>
                  <a:pt x="1027" y="768"/>
                </a:lnTo>
                <a:lnTo>
                  <a:pt x="1027" y="752"/>
                </a:lnTo>
                <a:lnTo>
                  <a:pt x="1027" y="737"/>
                </a:lnTo>
                <a:lnTo>
                  <a:pt x="1027" y="722"/>
                </a:lnTo>
                <a:lnTo>
                  <a:pt x="1027" y="706"/>
                </a:lnTo>
                <a:lnTo>
                  <a:pt x="1027" y="689"/>
                </a:lnTo>
                <a:lnTo>
                  <a:pt x="1027" y="658"/>
                </a:lnTo>
                <a:lnTo>
                  <a:pt x="1027" y="630"/>
                </a:lnTo>
                <a:lnTo>
                  <a:pt x="1027" y="601"/>
                </a:lnTo>
                <a:lnTo>
                  <a:pt x="1027" y="574"/>
                </a:lnTo>
                <a:lnTo>
                  <a:pt x="1027" y="547"/>
                </a:lnTo>
                <a:lnTo>
                  <a:pt x="1027" y="522"/>
                </a:lnTo>
                <a:lnTo>
                  <a:pt x="1025" y="499"/>
                </a:lnTo>
                <a:lnTo>
                  <a:pt x="1025" y="476"/>
                </a:lnTo>
                <a:lnTo>
                  <a:pt x="1025" y="455"/>
                </a:lnTo>
                <a:lnTo>
                  <a:pt x="1023" y="434"/>
                </a:lnTo>
                <a:lnTo>
                  <a:pt x="1023" y="415"/>
                </a:lnTo>
                <a:lnTo>
                  <a:pt x="1021" y="395"/>
                </a:lnTo>
                <a:lnTo>
                  <a:pt x="1019" y="378"/>
                </a:lnTo>
                <a:lnTo>
                  <a:pt x="1017" y="363"/>
                </a:lnTo>
                <a:lnTo>
                  <a:pt x="1015" y="347"/>
                </a:lnTo>
                <a:lnTo>
                  <a:pt x="1013" y="334"/>
                </a:lnTo>
                <a:lnTo>
                  <a:pt x="1011" y="320"/>
                </a:lnTo>
                <a:lnTo>
                  <a:pt x="1009" y="307"/>
                </a:lnTo>
                <a:lnTo>
                  <a:pt x="1007" y="296"/>
                </a:lnTo>
                <a:lnTo>
                  <a:pt x="1004" y="284"/>
                </a:lnTo>
                <a:lnTo>
                  <a:pt x="1002" y="272"/>
                </a:lnTo>
                <a:lnTo>
                  <a:pt x="1000" y="263"/>
                </a:lnTo>
                <a:lnTo>
                  <a:pt x="998" y="253"/>
                </a:lnTo>
                <a:lnTo>
                  <a:pt x="994" y="244"/>
                </a:lnTo>
                <a:lnTo>
                  <a:pt x="992" y="236"/>
                </a:lnTo>
                <a:lnTo>
                  <a:pt x="990" y="226"/>
                </a:lnTo>
                <a:lnTo>
                  <a:pt x="986" y="221"/>
                </a:lnTo>
                <a:lnTo>
                  <a:pt x="984" y="213"/>
                </a:lnTo>
                <a:lnTo>
                  <a:pt x="982" y="207"/>
                </a:lnTo>
                <a:lnTo>
                  <a:pt x="980" y="201"/>
                </a:lnTo>
                <a:lnTo>
                  <a:pt x="977" y="196"/>
                </a:lnTo>
                <a:lnTo>
                  <a:pt x="975" y="190"/>
                </a:lnTo>
                <a:lnTo>
                  <a:pt x="973" y="188"/>
                </a:lnTo>
                <a:lnTo>
                  <a:pt x="969" y="186"/>
                </a:lnTo>
                <a:lnTo>
                  <a:pt x="965" y="184"/>
                </a:lnTo>
                <a:lnTo>
                  <a:pt x="959" y="182"/>
                </a:lnTo>
                <a:lnTo>
                  <a:pt x="954" y="180"/>
                </a:lnTo>
                <a:lnTo>
                  <a:pt x="946" y="178"/>
                </a:lnTo>
                <a:lnTo>
                  <a:pt x="938" y="177"/>
                </a:lnTo>
                <a:lnTo>
                  <a:pt x="931" y="175"/>
                </a:lnTo>
                <a:lnTo>
                  <a:pt x="921" y="173"/>
                </a:lnTo>
                <a:lnTo>
                  <a:pt x="913" y="171"/>
                </a:lnTo>
                <a:lnTo>
                  <a:pt x="902" y="169"/>
                </a:lnTo>
                <a:lnTo>
                  <a:pt x="892" y="169"/>
                </a:lnTo>
                <a:lnTo>
                  <a:pt x="871" y="167"/>
                </a:lnTo>
                <a:lnTo>
                  <a:pt x="848" y="16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Freeform 191"/>
          <p:cNvSpPr/>
          <p:nvPr/>
        </p:nvSpPr>
        <p:spPr>
          <a:xfrm>
            <a:off x="6013440" y="4259160"/>
            <a:ext cx="652320" cy="123840"/>
          </a:xfrm>
          <a:custGeom>
            <a:avLst/>
            <a:gdLst/>
            <a:ahLst/>
            <a:rect l="l" t="t" r="r" b="b"/>
            <a:pathLst>
              <a:path w="822" h="155">
                <a:moveTo>
                  <a:pt x="0" y="82"/>
                </a:moveTo>
                <a:lnTo>
                  <a:pt x="35" y="77"/>
                </a:lnTo>
                <a:lnTo>
                  <a:pt x="67" y="73"/>
                </a:lnTo>
                <a:lnTo>
                  <a:pt x="100" y="67"/>
                </a:lnTo>
                <a:lnTo>
                  <a:pt x="133" y="61"/>
                </a:lnTo>
                <a:lnTo>
                  <a:pt x="163" y="58"/>
                </a:lnTo>
                <a:lnTo>
                  <a:pt x="194" y="54"/>
                </a:lnTo>
                <a:lnTo>
                  <a:pt x="225" y="48"/>
                </a:lnTo>
                <a:lnTo>
                  <a:pt x="252" y="44"/>
                </a:lnTo>
                <a:lnTo>
                  <a:pt x="281" y="40"/>
                </a:lnTo>
                <a:lnTo>
                  <a:pt x="307" y="36"/>
                </a:lnTo>
                <a:lnTo>
                  <a:pt x="334" y="33"/>
                </a:lnTo>
                <a:lnTo>
                  <a:pt x="359" y="31"/>
                </a:lnTo>
                <a:lnTo>
                  <a:pt x="384" y="27"/>
                </a:lnTo>
                <a:lnTo>
                  <a:pt x="407" y="25"/>
                </a:lnTo>
                <a:lnTo>
                  <a:pt x="430" y="21"/>
                </a:lnTo>
                <a:lnTo>
                  <a:pt x="453" y="19"/>
                </a:lnTo>
                <a:lnTo>
                  <a:pt x="474" y="17"/>
                </a:lnTo>
                <a:lnTo>
                  <a:pt x="494" y="13"/>
                </a:lnTo>
                <a:lnTo>
                  <a:pt x="515" y="11"/>
                </a:lnTo>
                <a:lnTo>
                  <a:pt x="532" y="10"/>
                </a:lnTo>
                <a:lnTo>
                  <a:pt x="551" y="10"/>
                </a:lnTo>
                <a:lnTo>
                  <a:pt x="568" y="8"/>
                </a:lnTo>
                <a:lnTo>
                  <a:pt x="584" y="6"/>
                </a:lnTo>
                <a:lnTo>
                  <a:pt x="599" y="4"/>
                </a:lnTo>
                <a:lnTo>
                  <a:pt x="614" y="4"/>
                </a:lnTo>
                <a:lnTo>
                  <a:pt x="628" y="2"/>
                </a:lnTo>
                <a:lnTo>
                  <a:pt x="641" y="2"/>
                </a:lnTo>
                <a:lnTo>
                  <a:pt x="653" y="2"/>
                </a:lnTo>
                <a:lnTo>
                  <a:pt x="664" y="0"/>
                </a:lnTo>
                <a:lnTo>
                  <a:pt x="674" y="0"/>
                </a:lnTo>
                <a:lnTo>
                  <a:pt x="684" y="0"/>
                </a:lnTo>
                <a:lnTo>
                  <a:pt x="693" y="0"/>
                </a:lnTo>
                <a:lnTo>
                  <a:pt x="709" y="0"/>
                </a:lnTo>
                <a:lnTo>
                  <a:pt x="724" y="0"/>
                </a:lnTo>
                <a:lnTo>
                  <a:pt x="739" y="2"/>
                </a:lnTo>
                <a:lnTo>
                  <a:pt x="751" y="2"/>
                </a:lnTo>
                <a:lnTo>
                  <a:pt x="762" y="4"/>
                </a:lnTo>
                <a:lnTo>
                  <a:pt x="774" y="4"/>
                </a:lnTo>
                <a:lnTo>
                  <a:pt x="783" y="6"/>
                </a:lnTo>
                <a:lnTo>
                  <a:pt x="791" y="8"/>
                </a:lnTo>
                <a:lnTo>
                  <a:pt x="799" y="10"/>
                </a:lnTo>
                <a:lnTo>
                  <a:pt x="805" y="11"/>
                </a:lnTo>
                <a:lnTo>
                  <a:pt x="810" y="13"/>
                </a:lnTo>
                <a:lnTo>
                  <a:pt x="814" y="15"/>
                </a:lnTo>
                <a:lnTo>
                  <a:pt x="818" y="17"/>
                </a:lnTo>
                <a:lnTo>
                  <a:pt x="820" y="19"/>
                </a:lnTo>
                <a:lnTo>
                  <a:pt x="822" y="21"/>
                </a:lnTo>
                <a:lnTo>
                  <a:pt x="822" y="23"/>
                </a:lnTo>
                <a:lnTo>
                  <a:pt x="822" y="33"/>
                </a:lnTo>
                <a:lnTo>
                  <a:pt x="820" y="40"/>
                </a:lnTo>
                <a:lnTo>
                  <a:pt x="816" y="46"/>
                </a:lnTo>
                <a:lnTo>
                  <a:pt x="810" y="52"/>
                </a:lnTo>
                <a:lnTo>
                  <a:pt x="806" y="54"/>
                </a:lnTo>
                <a:lnTo>
                  <a:pt x="805" y="58"/>
                </a:lnTo>
                <a:lnTo>
                  <a:pt x="799" y="59"/>
                </a:lnTo>
                <a:lnTo>
                  <a:pt x="795" y="61"/>
                </a:lnTo>
                <a:lnTo>
                  <a:pt x="789" y="63"/>
                </a:lnTo>
                <a:lnTo>
                  <a:pt x="783" y="67"/>
                </a:lnTo>
                <a:lnTo>
                  <a:pt x="778" y="69"/>
                </a:lnTo>
                <a:lnTo>
                  <a:pt x="770" y="71"/>
                </a:lnTo>
                <a:lnTo>
                  <a:pt x="762" y="73"/>
                </a:lnTo>
                <a:lnTo>
                  <a:pt x="753" y="77"/>
                </a:lnTo>
                <a:lnTo>
                  <a:pt x="741" y="79"/>
                </a:lnTo>
                <a:lnTo>
                  <a:pt x="730" y="82"/>
                </a:lnTo>
                <a:lnTo>
                  <a:pt x="716" y="84"/>
                </a:lnTo>
                <a:lnTo>
                  <a:pt x="701" y="88"/>
                </a:lnTo>
                <a:lnTo>
                  <a:pt x="684" y="92"/>
                </a:lnTo>
                <a:lnTo>
                  <a:pt x="664" y="94"/>
                </a:lnTo>
                <a:lnTo>
                  <a:pt x="645" y="98"/>
                </a:lnTo>
                <a:lnTo>
                  <a:pt x="622" y="102"/>
                </a:lnTo>
                <a:lnTo>
                  <a:pt x="599" y="106"/>
                </a:lnTo>
                <a:lnTo>
                  <a:pt x="576" y="107"/>
                </a:lnTo>
                <a:lnTo>
                  <a:pt x="549" y="111"/>
                </a:lnTo>
                <a:lnTo>
                  <a:pt x="522" y="113"/>
                </a:lnTo>
                <a:lnTo>
                  <a:pt x="492" y="117"/>
                </a:lnTo>
                <a:lnTo>
                  <a:pt x="463" y="119"/>
                </a:lnTo>
                <a:lnTo>
                  <a:pt x="400" y="127"/>
                </a:lnTo>
                <a:lnTo>
                  <a:pt x="340" y="134"/>
                </a:lnTo>
                <a:lnTo>
                  <a:pt x="281" y="140"/>
                </a:lnTo>
                <a:lnTo>
                  <a:pt x="221" y="146"/>
                </a:lnTo>
                <a:lnTo>
                  <a:pt x="163" y="150"/>
                </a:lnTo>
                <a:lnTo>
                  <a:pt x="108" y="152"/>
                </a:lnTo>
                <a:lnTo>
                  <a:pt x="54" y="154"/>
                </a:lnTo>
                <a:lnTo>
                  <a:pt x="0" y="155"/>
                </a:lnTo>
                <a:lnTo>
                  <a:pt x="0" y="119"/>
                </a:lnTo>
                <a:lnTo>
                  <a:pt x="0" y="8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Freeform 192"/>
          <p:cNvSpPr/>
          <p:nvPr/>
        </p:nvSpPr>
        <p:spPr>
          <a:xfrm>
            <a:off x="5931000" y="4067280"/>
            <a:ext cx="163440" cy="928440"/>
          </a:xfrm>
          <a:custGeom>
            <a:avLst/>
            <a:gdLst/>
            <a:ahLst/>
            <a:rect l="l" t="t" r="r" b="b"/>
            <a:pathLst>
              <a:path w="205" h="1169">
                <a:moveTo>
                  <a:pt x="205" y="52"/>
                </a:moveTo>
                <a:lnTo>
                  <a:pt x="201" y="102"/>
                </a:lnTo>
                <a:lnTo>
                  <a:pt x="197" y="152"/>
                </a:lnTo>
                <a:lnTo>
                  <a:pt x="193" y="200"/>
                </a:lnTo>
                <a:lnTo>
                  <a:pt x="190" y="248"/>
                </a:lnTo>
                <a:lnTo>
                  <a:pt x="186" y="294"/>
                </a:lnTo>
                <a:lnTo>
                  <a:pt x="182" y="340"/>
                </a:lnTo>
                <a:lnTo>
                  <a:pt x="180" y="384"/>
                </a:lnTo>
                <a:lnTo>
                  <a:pt x="176" y="428"/>
                </a:lnTo>
                <a:lnTo>
                  <a:pt x="174" y="470"/>
                </a:lnTo>
                <a:lnTo>
                  <a:pt x="172" y="511"/>
                </a:lnTo>
                <a:lnTo>
                  <a:pt x="170" y="553"/>
                </a:lnTo>
                <a:lnTo>
                  <a:pt x="170" y="591"/>
                </a:lnTo>
                <a:lnTo>
                  <a:pt x="169" y="630"/>
                </a:lnTo>
                <a:lnTo>
                  <a:pt x="169" y="668"/>
                </a:lnTo>
                <a:lnTo>
                  <a:pt x="167" y="705"/>
                </a:lnTo>
                <a:lnTo>
                  <a:pt x="167" y="741"/>
                </a:lnTo>
                <a:lnTo>
                  <a:pt x="167" y="776"/>
                </a:lnTo>
                <a:lnTo>
                  <a:pt x="167" y="808"/>
                </a:lnTo>
                <a:lnTo>
                  <a:pt x="167" y="841"/>
                </a:lnTo>
                <a:lnTo>
                  <a:pt x="167" y="870"/>
                </a:lnTo>
                <a:lnTo>
                  <a:pt x="167" y="898"/>
                </a:lnTo>
                <a:lnTo>
                  <a:pt x="167" y="925"/>
                </a:lnTo>
                <a:lnTo>
                  <a:pt x="167" y="950"/>
                </a:lnTo>
                <a:lnTo>
                  <a:pt x="165" y="973"/>
                </a:lnTo>
                <a:lnTo>
                  <a:pt x="165" y="994"/>
                </a:lnTo>
                <a:lnTo>
                  <a:pt x="165" y="1014"/>
                </a:lnTo>
                <a:lnTo>
                  <a:pt x="163" y="1033"/>
                </a:lnTo>
                <a:lnTo>
                  <a:pt x="161" y="1048"/>
                </a:lnTo>
                <a:lnTo>
                  <a:pt x="161" y="1063"/>
                </a:lnTo>
                <a:lnTo>
                  <a:pt x="159" y="1077"/>
                </a:lnTo>
                <a:lnTo>
                  <a:pt x="157" y="1088"/>
                </a:lnTo>
                <a:lnTo>
                  <a:pt x="155" y="1098"/>
                </a:lnTo>
                <a:lnTo>
                  <a:pt x="151" y="1108"/>
                </a:lnTo>
                <a:lnTo>
                  <a:pt x="149" y="1115"/>
                </a:lnTo>
                <a:lnTo>
                  <a:pt x="146" y="1123"/>
                </a:lnTo>
                <a:lnTo>
                  <a:pt x="144" y="1129"/>
                </a:lnTo>
                <a:lnTo>
                  <a:pt x="140" y="1136"/>
                </a:lnTo>
                <a:lnTo>
                  <a:pt x="136" y="1142"/>
                </a:lnTo>
                <a:lnTo>
                  <a:pt x="132" y="1146"/>
                </a:lnTo>
                <a:lnTo>
                  <a:pt x="128" y="1152"/>
                </a:lnTo>
                <a:lnTo>
                  <a:pt x="124" y="1156"/>
                </a:lnTo>
                <a:lnTo>
                  <a:pt x="121" y="1159"/>
                </a:lnTo>
                <a:lnTo>
                  <a:pt x="119" y="1161"/>
                </a:lnTo>
                <a:lnTo>
                  <a:pt x="115" y="1165"/>
                </a:lnTo>
                <a:lnTo>
                  <a:pt x="111" y="1167"/>
                </a:lnTo>
                <a:lnTo>
                  <a:pt x="109" y="1167"/>
                </a:lnTo>
                <a:lnTo>
                  <a:pt x="105" y="1169"/>
                </a:lnTo>
                <a:lnTo>
                  <a:pt x="103" y="1169"/>
                </a:lnTo>
                <a:lnTo>
                  <a:pt x="98" y="1169"/>
                </a:lnTo>
                <a:lnTo>
                  <a:pt x="94" y="1167"/>
                </a:lnTo>
                <a:lnTo>
                  <a:pt x="88" y="1167"/>
                </a:lnTo>
                <a:lnTo>
                  <a:pt x="84" y="1165"/>
                </a:lnTo>
                <a:lnTo>
                  <a:pt x="78" y="1161"/>
                </a:lnTo>
                <a:lnTo>
                  <a:pt x="74" y="1159"/>
                </a:lnTo>
                <a:lnTo>
                  <a:pt x="71" y="1154"/>
                </a:lnTo>
                <a:lnTo>
                  <a:pt x="67" y="1150"/>
                </a:lnTo>
                <a:lnTo>
                  <a:pt x="61" y="1144"/>
                </a:lnTo>
                <a:lnTo>
                  <a:pt x="57" y="1138"/>
                </a:lnTo>
                <a:lnTo>
                  <a:pt x="53" y="1133"/>
                </a:lnTo>
                <a:lnTo>
                  <a:pt x="50" y="1125"/>
                </a:lnTo>
                <a:lnTo>
                  <a:pt x="48" y="1115"/>
                </a:lnTo>
                <a:lnTo>
                  <a:pt x="44" y="1108"/>
                </a:lnTo>
                <a:lnTo>
                  <a:pt x="42" y="1096"/>
                </a:lnTo>
                <a:lnTo>
                  <a:pt x="38" y="1087"/>
                </a:lnTo>
                <a:lnTo>
                  <a:pt x="34" y="1075"/>
                </a:lnTo>
                <a:lnTo>
                  <a:pt x="30" y="1065"/>
                </a:lnTo>
                <a:lnTo>
                  <a:pt x="27" y="1056"/>
                </a:lnTo>
                <a:lnTo>
                  <a:pt x="23" y="1046"/>
                </a:lnTo>
                <a:lnTo>
                  <a:pt x="19" y="1037"/>
                </a:lnTo>
                <a:lnTo>
                  <a:pt x="15" y="1029"/>
                </a:lnTo>
                <a:lnTo>
                  <a:pt x="9" y="1014"/>
                </a:lnTo>
                <a:lnTo>
                  <a:pt x="5" y="1000"/>
                </a:lnTo>
                <a:lnTo>
                  <a:pt x="3" y="987"/>
                </a:lnTo>
                <a:lnTo>
                  <a:pt x="2" y="977"/>
                </a:lnTo>
                <a:lnTo>
                  <a:pt x="0" y="968"/>
                </a:lnTo>
                <a:lnTo>
                  <a:pt x="0" y="962"/>
                </a:lnTo>
                <a:lnTo>
                  <a:pt x="2" y="956"/>
                </a:lnTo>
                <a:lnTo>
                  <a:pt x="2" y="950"/>
                </a:lnTo>
                <a:lnTo>
                  <a:pt x="2" y="944"/>
                </a:lnTo>
                <a:lnTo>
                  <a:pt x="3" y="937"/>
                </a:lnTo>
                <a:lnTo>
                  <a:pt x="5" y="929"/>
                </a:lnTo>
                <a:lnTo>
                  <a:pt x="7" y="921"/>
                </a:lnTo>
                <a:lnTo>
                  <a:pt x="7" y="912"/>
                </a:lnTo>
                <a:lnTo>
                  <a:pt x="9" y="902"/>
                </a:lnTo>
                <a:lnTo>
                  <a:pt x="13" y="891"/>
                </a:lnTo>
                <a:lnTo>
                  <a:pt x="15" y="881"/>
                </a:lnTo>
                <a:lnTo>
                  <a:pt x="17" y="868"/>
                </a:lnTo>
                <a:lnTo>
                  <a:pt x="19" y="856"/>
                </a:lnTo>
                <a:lnTo>
                  <a:pt x="21" y="843"/>
                </a:lnTo>
                <a:lnTo>
                  <a:pt x="25" y="827"/>
                </a:lnTo>
                <a:lnTo>
                  <a:pt x="27" y="812"/>
                </a:lnTo>
                <a:lnTo>
                  <a:pt x="28" y="799"/>
                </a:lnTo>
                <a:lnTo>
                  <a:pt x="30" y="783"/>
                </a:lnTo>
                <a:lnTo>
                  <a:pt x="32" y="768"/>
                </a:lnTo>
                <a:lnTo>
                  <a:pt x="34" y="751"/>
                </a:lnTo>
                <a:lnTo>
                  <a:pt x="34" y="731"/>
                </a:lnTo>
                <a:lnTo>
                  <a:pt x="36" y="712"/>
                </a:lnTo>
                <a:lnTo>
                  <a:pt x="38" y="691"/>
                </a:lnTo>
                <a:lnTo>
                  <a:pt x="38" y="670"/>
                </a:lnTo>
                <a:lnTo>
                  <a:pt x="40" y="647"/>
                </a:lnTo>
                <a:lnTo>
                  <a:pt x="42" y="624"/>
                </a:lnTo>
                <a:lnTo>
                  <a:pt x="42" y="599"/>
                </a:lnTo>
                <a:lnTo>
                  <a:pt x="44" y="572"/>
                </a:lnTo>
                <a:lnTo>
                  <a:pt x="46" y="545"/>
                </a:lnTo>
                <a:lnTo>
                  <a:pt x="48" y="516"/>
                </a:lnTo>
                <a:lnTo>
                  <a:pt x="50" y="486"/>
                </a:lnTo>
                <a:lnTo>
                  <a:pt x="51" y="457"/>
                </a:lnTo>
                <a:lnTo>
                  <a:pt x="51" y="426"/>
                </a:lnTo>
                <a:lnTo>
                  <a:pt x="51" y="396"/>
                </a:lnTo>
                <a:lnTo>
                  <a:pt x="50" y="367"/>
                </a:lnTo>
                <a:lnTo>
                  <a:pt x="50" y="340"/>
                </a:lnTo>
                <a:lnTo>
                  <a:pt x="48" y="315"/>
                </a:lnTo>
                <a:lnTo>
                  <a:pt x="48" y="290"/>
                </a:lnTo>
                <a:lnTo>
                  <a:pt x="46" y="265"/>
                </a:lnTo>
                <a:lnTo>
                  <a:pt x="44" y="244"/>
                </a:lnTo>
                <a:lnTo>
                  <a:pt x="42" y="223"/>
                </a:lnTo>
                <a:lnTo>
                  <a:pt x="40" y="202"/>
                </a:lnTo>
                <a:lnTo>
                  <a:pt x="38" y="184"/>
                </a:lnTo>
                <a:lnTo>
                  <a:pt x="36" y="167"/>
                </a:lnTo>
                <a:lnTo>
                  <a:pt x="32" y="150"/>
                </a:lnTo>
                <a:lnTo>
                  <a:pt x="30" y="136"/>
                </a:lnTo>
                <a:lnTo>
                  <a:pt x="28" y="123"/>
                </a:lnTo>
                <a:lnTo>
                  <a:pt x="27" y="111"/>
                </a:lnTo>
                <a:lnTo>
                  <a:pt x="25" y="100"/>
                </a:lnTo>
                <a:lnTo>
                  <a:pt x="23" y="90"/>
                </a:lnTo>
                <a:lnTo>
                  <a:pt x="21" y="81"/>
                </a:lnTo>
                <a:lnTo>
                  <a:pt x="19" y="71"/>
                </a:lnTo>
                <a:lnTo>
                  <a:pt x="19" y="62"/>
                </a:lnTo>
                <a:lnTo>
                  <a:pt x="17" y="54"/>
                </a:lnTo>
                <a:lnTo>
                  <a:pt x="17" y="46"/>
                </a:lnTo>
                <a:lnTo>
                  <a:pt x="19" y="40"/>
                </a:lnTo>
                <a:lnTo>
                  <a:pt x="19" y="33"/>
                </a:lnTo>
                <a:lnTo>
                  <a:pt x="21" y="27"/>
                </a:lnTo>
                <a:lnTo>
                  <a:pt x="23" y="21"/>
                </a:lnTo>
                <a:lnTo>
                  <a:pt x="25" y="17"/>
                </a:lnTo>
                <a:lnTo>
                  <a:pt x="27" y="14"/>
                </a:lnTo>
                <a:lnTo>
                  <a:pt x="30" y="10"/>
                </a:lnTo>
                <a:lnTo>
                  <a:pt x="34" y="6"/>
                </a:lnTo>
                <a:lnTo>
                  <a:pt x="38" y="4"/>
                </a:lnTo>
                <a:lnTo>
                  <a:pt x="44" y="2"/>
                </a:lnTo>
                <a:lnTo>
                  <a:pt x="50" y="2"/>
                </a:lnTo>
                <a:lnTo>
                  <a:pt x="55" y="0"/>
                </a:lnTo>
                <a:lnTo>
                  <a:pt x="63" y="2"/>
                </a:lnTo>
                <a:lnTo>
                  <a:pt x="71" y="2"/>
                </a:lnTo>
                <a:lnTo>
                  <a:pt x="78" y="4"/>
                </a:lnTo>
                <a:lnTo>
                  <a:pt x="88" y="6"/>
                </a:lnTo>
                <a:lnTo>
                  <a:pt x="98" y="10"/>
                </a:lnTo>
                <a:lnTo>
                  <a:pt x="109" y="14"/>
                </a:lnTo>
                <a:lnTo>
                  <a:pt x="121" y="17"/>
                </a:lnTo>
                <a:lnTo>
                  <a:pt x="132" y="21"/>
                </a:lnTo>
                <a:lnTo>
                  <a:pt x="146" y="27"/>
                </a:lnTo>
                <a:lnTo>
                  <a:pt x="159" y="33"/>
                </a:lnTo>
                <a:lnTo>
                  <a:pt x="174" y="38"/>
                </a:lnTo>
                <a:lnTo>
                  <a:pt x="190" y="44"/>
                </a:lnTo>
                <a:lnTo>
                  <a:pt x="205" y="5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Freeform 193"/>
          <p:cNvSpPr/>
          <p:nvPr/>
        </p:nvSpPr>
        <p:spPr>
          <a:xfrm>
            <a:off x="6013440" y="4486320"/>
            <a:ext cx="682560" cy="122040"/>
          </a:xfrm>
          <a:custGeom>
            <a:avLst/>
            <a:gdLst/>
            <a:ahLst/>
            <a:rect l="l" t="t" r="r" b="b"/>
            <a:pathLst>
              <a:path w="860" h="154">
                <a:moveTo>
                  <a:pt x="348" y="35"/>
                </a:moveTo>
                <a:lnTo>
                  <a:pt x="373" y="31"/>
                </a:lnTo>
                <a:lnTo>
                  <a:pt x="398" y="27"/>
                </a:lnTo>
                <a:lnTo>
                  <a:pt x="424" y="23"/>
                </a:lnTo>
                <a:lnTo>
                  <a:pt x="448" y="19"/>
                </a:lnTo>
                <a:lnTo>
                  <a:pt x="472" y="15"/>
                </a:lnTo>
                <a:lnTo>
                  <a:pt x="495" y="13"/>
                </a:lnTo>
                <a:lnTo>
                  <a:pt x="519" y="10"/>
                </a:lnTo>
                <a:lnTo>
                  <a:pt x="542" y="8"/>
                </a:lnTo>
                <a:lnTo>
                  <a:pt x="584" y="4"/>
                </a:lnTo>
                <a:lnTo>
                  <a:pt x="626" y="2"/>
                </a:lnTo>
                <a:lnTo>
                  <a:pt x="666" y="0"/>
                </a:lnTo>
                <a:lnTo>
                  <a:pt x="707" y="0"/>
                </a:lnTo>
                <a:lnTo>
                  <a:pt x="724" y="0"/>
                </a:lnTo>
                <a:lnTo>
                  <a:pt x="743" y="0"/>
                </a:lnTo>
                <a:lnTo>
                  <a:pt x="758" y="0"/>
                </a:lnTo>
                <a:lnTo>
                  <a:pt x="774" y="0"/>
                </a:lnTo>
                <a:lnTo>
                  <a:pt x="787" y="0"/>
                </a:lnTo>
                <a:lnTo>
                  <a:pt x="801" y="0"/>
                </a:lnTo>
                <a:lnTo>
                  <a:pt x="812" y="0"/>
                </a:lnTo>
                <a:lnTo>
                  <a:pt x="822" y="0"/>
                </a:lnTo>
                <a:lnTo>
                  <a:pt x="831" y="2"/>
                </a:lnTo>
                <a:lnTo>
                  <a:pt x="839" y="2"/>
                </a:lnTo>
                <a:lnTo>
                  <a:pt x="845" y="4"/>
                </a:lnTo>
                <a:lnTo>
                  <a:pt x="851" y="4"/>
                </a:lnTo>
                <a:lnTo>
                  <a:pt x="854" y="6"/>
                </a:lnTo>
                <a:lnTo>
                  <a:pt x="858" y="8"/>
                </a:lnTo>
                <a:lnTo>
                  <a:pt x="860" y="10"/>
                </a:lnTo>
                <a:lnTo>
                  <a:pt x="860" y="11"/>
                </a:lnTo>
                <a:lnTo>
                  <a:pt x="860" y="15"/>
                </a:lnTo>
                <a:lnTo>
                  <a:pt x="858" y="21"/>
                </a:lnTo>
                <a:lnTo>
                  <a:pt x="854" y="29"/>
                </a:lnTo>
                <a:lnTo>
                  <a:pt x="849" y="35"/>
                </a:lnTo>
                <a:lnTo>
                  <a:pt x="845" y="38"/>
                </a:lnTo>
                <a:lnTo>
                  <a:pt x="843" y="42"/>
                </a:lnTo>
                <a:lnTo>
                  <a:pt x="837" y="44"/>
                </a:lnTo>
                <a:lnTo>
                  <a:pt x="833" y="48"/>
                </a:lnTo>
                <a:lnTo>
                  <a:pt x="828" y="50"/>
                </a:lnTo>
                <a:lnTo>
                  <a:pt x="822" y="54"/>
                </a:lnTo>
                <a:lnTo>
                  <a:pt x="816" y="56"/>
                </a:lnTo>
                <a:lnTo>
                  <a:pt x="808" y="59"/>
                </a:lnTo>
                <a:lnTo>
                  <a:pt x="801" y="63"/>
                </a:lnTo>
                <a:lnTo>
                  <a:pt x="791" y="67"/>
                </a:lnTo>
                <a:lnTo>
                  <a:pt x="780" y="71"/>
                </a:lnTo>
                <a:lnTo>
                  <a:pt x="766" y="77"/>
                </a:lnTo>
                <a:lnTo>
                  <a:pt x="751" y="81"/>
                </a:lnTo>
                <a:lnTo>
                  <a:pt x="741" y="82"/>
                </a:lnTo>
                <a:lnTo>
                  <a:pt x="732" y="84"/>
                </a:lnTo>
                <a:lnTo>
                  <a:pt x="724" y="86"/>
                </a:lnTo>
                <a:lnTo>
                  <a:pt x="712" y="88"/>
                </a:lnTo>
                <a:lnTo>
                  <a:pt x="703" y="90"/>
                </a:lnTo>
                <a:lnTo>
                  <a:pt x="691" y="92"/>
                </a:lnTo>
                <a:lnTo>
                  <a:pt x="680" y="94"/>
                </a:lnTo>
                <a:lnTo>
                  <a:pt x="668" y="96"/>
                </a:lnTo>
                <a:lnTo>
                  <a:pt x="657" y="98"/>
                </a:lnTo>
                <a:lnTo>
                  <a:pt x="643" y="100"/>
                </a:lnTo>
                <a:lnTo>
                  <a:pt x="630" y="102"/>
                </a:lnTo>
                <a:lnTo>
                  <a:pt x="616" y="104"/>
                </a:lnTo>
                <a:lnTo>
                  <a:pt x="601" y="106"/>
                </a:lnTo>
                <a:lnTo>
                  <a:pt x="588" y="107"/>
                </a:lnTo>
                <a:lnTo>
                  <a:pt x="572" y="109"/>
                </a:lnTo>
                <a:lnTo>
                  <a:pt x="555" y="109"/>
                </a:lnTo>
                <a:lnTo>
                  <a:pt x="540" y="111"/>
                </a:lnTo>
                <a:lnTo>
                  <a:pt x="522" y="113"/>
                </a:lnTo>
                <a:lnTo>
                  <a:pt x="505" y="115"/>
                </a:lnTo>
                <a:lnTo>
                  <a:pt x="488" y="115"/>
                </a:lnTo>
                <a:lnTo>
                  <a:pt x="469" y="117"/>
                </a:lnTo>
                <a:lnTo>
                  <a:pt x="449" y="119"/>
                </a:lnTo>
                <a:lnTo>
                  <a:pt x="411" y="123"/>
                </a:lnTo>
                <a:lnTo>
                  <a:pt x="375" y="127"/>
                </a:lnTo>
                <a:lnTo>
                  <a:pt x="340" y="130"/>
                </a:lnTo>
                <a:lnTo>
                  <a:pt x="305" y="134"/>
                </a:lnTo>
                <a:lnTo>
                  <a:pt x="273" y="136"/>
                </a:lnTo>
                <a:lnTo>
                  <a:pt x="240" y="140"/>
                </a:lnTo>
                <a:lnTo>
                  <a:pt x="209" y="142"/>
                </a:lnTo>
                <a:lnTo>
                  <a:pt x="181" y="146"/>
                </a:lnTo>
                <a:lnTo>
                  <a:pt x="154" y="148"/>
                </a:lnTo>
                <a:lnTo>
                  <a:pt x="127" y="150"/>
                </a:lnTo>
                <a:lnTo>
                  <a:pt x="102" y="150"/>
                </a:lnTo>
                <a:lnTo>
                  <a:pt x="79" y="152"/>
                </a:lnTo>
                <a:lnTo>
                  <a:pt x="58" y="152"/>
                </a:lnTo>
                <a:lnTo>
                  <a:pt x="37" y="154"/>
                </a:lnTo>
                <a:lnTo>
                  <a:pt x="18" y="154"/>
                </a:lnTo>
                <a:lnTo>
                  <a:pt x="0" y="154"/>
                </a:lnTo>
                <a:lnTo>
                  <a:pt x="0" y="94"/>
                </a:lnTo>
                <a:lnTo>
                  <a:pt x="0" y="35"/>
                </a:lnTo>
                <a:lnTo>
                  <a:pt x="19" y="44"/>
                </a:lnTo>
                <a:lnTo>
                  <a:pt x="29" y="48"/>
                </a:lnTo>
                <a:lnTo>
                  <a:pt x="41" y="52"/>
                </a:lnTo>
                <a:lnTo>
                  <a:pt x="50" y="54"/>
                </a:lnTo>
                <a:lnTo>
                  <a:pt x="64" y="56"/>
                </a:lnTo>
                <a:lnTo>
                  <a:pt x="75" y="58"/>
                </a:lnTo>
                <a:lnTo>
                  <a:pt x="90" y="59"/>
                </a:lnTo>
                <a:lnTo>
                  <a:pt x="98" y="58"/>
                </a:lnTo>
                <a:lnTo>
                  <a:pt x="106" y="58"/>
                </a:lnTo>
                <a:lnTo>
                  <a:pt x="115" y="58"/>
                </a:lnTo>
                <a:lnTo>
                  <a:pt x="127" y="56"/>
                </a:lnTo>
                <a:lnTo>
                  <a:pt x="138" y="56"/>
                </a:lnTo>
                <a:lnTo>
                  <a:pt x="150" y="54"/>
                </a:lnTo>
                <a:lnTo>
                  <a:pt x="165" y="54"/>
                </a:lnTo>
                <a:lnTo>
                  <a:pt x="179" y="52"/>
                </a:lnTo>
                <a:lnTo>
                  <a:pt x="196" y="50"/>
                </a:lnTo>
                <a:lnTo>
                  <a:pt x="213" y="48"/>
                </a:lnTo>
                <a:lnTo>
                  <a:pt x="233" y="46"/>
                </a:lnTo>
                <a:lnTo>
                  <a:pt x="252" y="44"/>
                </a:lnTo>
                <a:lnTo>
                  <a:pt x="275" y="42"/>
                </a:lnTo>
                <a:lnTo>
                  <a:pt x="296" y="40"/>
                </a:lnTo>
                <a:lnTo>
                  <a:pt x="321" y="36"/>
                </a:lnTo>
                <a:lnTo>
                  <a:pt x="348" y="3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Freeform 194"/>
          <p:cNvSpPr/>
          <p:nvPr/>
        </p:nvSpPr>
        <p:spPr>
          <a:xfrm>
            <a:off x="5983200" y="4711680"/>
            <a:ext cx="814320" cy="123840"/>
          </a:xfrm>
          <a:custGeom>
            <a:avLst/>
            <a:gdLst/>
            <a:ahLst/>
            <a:rect l="l" t="t" r="r" b="b"/>
            <a:pathLst>
              <a:path w="1027" h="156">
                <a:moveTo>
                  <a:pt x="0" y="84"/>
                </a:moveTo>
                <a:lnTo>
                  <a:pt x="46" y="79"/>
                </a:lnTo>
                <a:lnTo>
                  <a:pt x="90" y="73"/>
                </a:lnTo>
                <a:lnTo>
                  <a:pt x="134" y="67"/>
                </a:lnTo>
                <a:lnTo>
                  <a:pt x="176" y="63"/>
                </a:lnTo>
                <a:lnTo>
                  <a:pt x="219" y="58"/>
                </a:lnTo>
                <a:lnTo>
                  <a:pt x="257" y="54"/>
                </a:lnTo>
                <a:lnTo>
                  <a:pt x="295" y="50"/>
                </a:lnTo>
                <a:lnTo>
                  <a:pt x="334" y="44"/>
                </a:lnTo>
                <a:lnTo>
                  <a:pt x="370" y="40"/>
                </a:lnTo>
                <a:lnTo>
                  <a:pt x="405" y="38"/>
                </a:lnTo>
                <a:lnTo>
                  <a:pt x="438" y="35"/>
                </a:lnTo>
                <a:lnTo>
                  <a:pt x="470" y="31"/>
                </a:lnTo>
                <a:lnTo>
                  <a:pt x="499" y="27"/>
                </a:lnTo>
                <a:lnTo>
                  <a:pt x="530" y="25"/>
                </a:lnTo>
                <a:lnTo>
                  <a:pt x="557" y="21"/>
                </a:lnTo>
                <a:lnTo>
                  <a:pt x="583" y="19"/>
                </a:lnTo>
                <a:lnTo>
                  <a:pt x="608" y="17"/>
                </a:lnTo>
                <a:lnTo>
                  <a:pt x="633" y="15"/>
                </a:lnTo>
                <a:lnTo>
                  <a:pt x="654" y="13"/>
                </a:lnTo>
                <a:lnTo>
                  <a:pt x="676" y="12"/>
                </a:lnTo>
                <a:lnTo>
                  <a:pt x="697" y="10"/>
                </a:lnTo>
                <a:lnTo>
                  <a:pt x="714" y="8"/>
                </a:lnTo>
                <a:lnTo>
                  <a:pt x="731" y="6"/>
                </a:lnTo>
                <a:lnTo>
                  <a:pt x="747" y="6"/>
                </a:lnTo>
                <a:lnTo>
                  <a:pt x="762" y="4"/>
                </a:lnTo>
                <a:lnTo>
                  <a:pt x="773" y="4"/>
                </a:lnTo>
                <a:lnTo>
                  <a:pt x="785" y="2"/>
                </a:lnTo>
                <a:lnTo>
                  <a:pt x="795" y="2"/>
                </a:lnTo>
                <a:lnTo>
                  <a:pt x="804" y="2"/>
                </a:lnTo>
                <a:lnTo>
                  <a:pt x="812" y="0"/>
                </a:lnTo>
                <a:lnTo>
                  <a:pt x="818" y="0"/>
                </a:lnTo>
                <a:lnTo>
                  <a:pt x="821" y="0"/>
                </a:lnTo>
                <a:lnTo>
                  <a:pt x="829" y="2"/>
                </a:lnTo>
                <a:lnTo>
                  <a:pt x="837" y="2"/>
                </a:lnTo>
                <a:lnTo>
                  <a:pt x="846" y="6"/>
                </a:lnTo>
                <a:lnTo>
                  <a:pt x="858" y="10"/>
                </a:lnTo>
                <a:lnTo>
                  <a:pt x="867" y="13"/>
                </a:lnTo>
                <a:lnTo>
                  <a:pt x="879" y="19"/>
                </a:lnTo>
                <a:lnTo>
                  <a:pt x="892" y="27"/>
                </a:lnTo>
                <a:lnTo>
                  <a:pt x="906" y="35"/>
                </a:lnTo>
                <a:lnTo>
                  <a:pt x="919" y="42"/>
                </a:lnTo>
                <a:lnTo>
                  <a:pt x="933" y="54"/>
                </a:lnTo>
                <a:lnTo>
                  <a:pt x="948" y="63"/>
                </a:lnTo>
                <a:lnTo>
                  <a:pt x="962" y="75"/>
                </a:lnTo>
                <a:lnTo>
                  <a:pt x="979" y="88"/>
                </a:lnTo>
                <a:lnTo>
                  <a:pt x="994" y="102"/>
                </a:lnTo>
                <a:lnTo>
                  <a:pt x="1010" y="115"/>
                </a:lnTo>
                <a:lnTo>
                  <a:pt x="1027" y="131"/>
                </a:lnTo>
                <a:lnTo>
                  <a:pt x="512" y="144"/>
                </a:lnTo>
                <a:lnTo>
                  <a:pt x="0" y="156"/>
                </a:lnTo>
                <a:lnTo>
                  <a:pt x="0" y="119"/>
                </a:lnTo>
                <a:lnTo>
                  <a:pt x="0" y="8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Freeform 195"/>
          <p:cNvSpPr/>
          <p:nvPr/>
        </p:nvSpPr>
        <p:spPr>
          <a:xfrm>
            <a:off x="6553080" y="3395520"/>
            <a:ext cx="1224000" cy="533520"/>
          </a:xfrm>
          <a:custGeom>
            <a:avLst/>
            <a:gdLst/>
            <a:ahLst/>
            <a:rect l="l" t="t" r="r" b="b"/>
            <a:pathLst>
              <a:path w="1541" h="671">
                <a:moveTo>
                  <a:pt x="873" y="399"/>
                </a:moveTo>
                <a:lnTo>
                  <a:pt x="927" y="416"/>
                </a:lnTo>
                <a:lnTo>
                  <a:pt x="981" y="431"/>
                </a:lnTo>
                <a:lnTo>
                  <a:pt x="1032" y="447"/>
                </a:lnTo>
                <a:lnTo>
                  <a:pt x="1086" y="462"/>
                </a:lnTo>
                <a:lnTo>
                  <a:pt x="1142" y="476"/>
                </a:lnTo>
                <a:lnTo>
                  <a:pt x="1197" y="489"/>
                </a:lnTo>
                <a:lnTo>
                  <a:pt x="1253" y="504"/>
                </a:lnTo>
                <a:lnTo>
                  <a:pt x="1311" y="518"/>
                </a:lnTo>
                <a:lnTo>
                  <a:pt x="1338" y="524"/>
                </a:lnTo>
                <a:lnTo>
                  <a:pt x="1364" y="531"/>
                </a:lnTo>
                <a:lnTo>
                  <a:pt x="1389" y="537"/>
                </a:lnTo>
                <a:lnTo>
                  <a:pt x="1411" y="543"/>
                </a:lnTo>
                <a:lnTo>
                  <a:pt x="1432" y="550"/>
                </a:lnTo>
                <a:lnTo>
                  <a:pt x="1451" y="556"/>
                </a:lnTo>
                <a:lnTo>
                  <a:pt x="1468" y="562"/>
                </a:lnTo>
                <a:lnTo>
                  <a:pt x="1483" y="568"/>
                </a:lnTo>
                <a:lnTo>
                  <a:pt x="1497" y="574"/>
                </a:lnTo>
                <a:lnTo>
                  <a:pt x="1508" y="579"/>
                </a:lnTo>
                <a:lnTo>
                  <a:pt x="1518" y="583"/>
                </a:lnTo>
                <a:lnTo>
                  <a:pt x="1528" y="587"/>
                </a:lnTo>
                <a:lnTo>
                  <a:pt x="1533" y="591"/>
                </a:lnTo>
                <a:lnTo>
                  <a:pt x="1537" y="595"/>
                </a:lnTo>
                <a:lnTo>
                  <a:pt x="1541" y="598"/>
                </a:lnTo>
                <a:lnTo>
                  <a:pt x="1541" y="600"/>
                </a:lnTo>
                <a:lnTo>
                  <a:pt x="1541" y="602"/>
                </a:lnTo>
                <a:lnTo>
                  <a:pt x="1537" y="606"/>
                </a:lnTo>
                <a:lnTo>
                  <a:pt x="1533" y="608"/>
                </a:lnTo>
                <a:lnTo>
                  <a:pt x="1528" y="612"/>
                </a:lnTo>
                <a:lnTo>
                  <a:pt x="1520" y="614"/>
                </a:lnTo>
                <a:lnTo>
                  <a:pt x="1508" y="618"/>
                </a:lnTo>
                <a:lnTo>
                  <a:pt x="1499" y="621"/>
                </a:lnTo>
                <a:lnTo>
                  <a:pt x="1485" y="623"/>
                </a:lnTo>
                <a:lnTo>
                  <a:pt x="1470" y="627"/>
                </a:lnTo>
                <a:lnTo>
                  <a:pt x="1455" y="631"/>
                </a:lnTo>
                <a:lnTo>
                  <a:pt x="1435" y="635"/>
                </a:lnTo>
                <a:lnTo>
                  <a:pt x="1416" y="637"/>
                </a:lnTo>
                <a:lnTo>
                  <a:pt x="1395" y="641"/>
                </a:lnTo>
                <a:lnTo>
                  <a:pt x="1374" y="643"/>
                </a:lnTo>
                <a:lnTo>
                  <a:pt x="1349" y="646"/>
                </a:lnTo>
                <a:lnTo>
                  <a:pt x="1324" y="648"/>
                </a:lnTo>
                <a:lnTo>
                  <a:pt x="1295" y="650"/>
                </a:lnTo>
                <a:lnTo>
                  <a:pt x="1268" y="652"/>
                </a:lnTo>
                <a:lnTo>
                  <a:pt x="1242" y="654"/>
                </a:lnTo>
                <a:lnTo>
                  <a:pt x="1217" y="656"/>
                </a:lnTo>
                <a:lnTo>
                  <a:pt x="1194" y="658"/>
                </a:lnTo>
                <a:lnTo>
                  <a:pt x="1173" y="660"/>
                </a:lnTo>
                <a:lnTo>
                  <a:pt x="1151" y="662"/>
                </a:lnTo>
                <a:lnTo>
                  <a:pt x="1132" y="664"/>
                </a:lnTo>
                <a:lnTo>
                  <a:pt x="1115" y="666"/>
                </a:lnTo>
                <a:lnTo>
                  <a:pt x="1098" y="668"/>
                </a:lnTo>
                <a:lnTo>
                  <a:pt x="1082" y="668"/>
                </a:lnTo>
                <a:lnTo>
                  <a:pt x="1069" y="669"/>
                </a:lnTo>
                <a:lnTo>
                  <a:pt x="1055" y="669"/>
                </a:lnTo>
                <a:lnTo>
                  <a:pt x="1046" y="671"/>
                </a:lnTo>
                <a:lnTo>
                  <a:pt x="1036" y="671"/>
                </a:lnTo>
                <a:lnTo>
                  <a:pt x="1029" y="671"/>
                </a:lnTo>
                <a:lnTo>
                  <a:pt x="1023" y="671"/>
                </a:lnTo>
                <a:lnTo>
                  <a:pt x="1017" y="669"/>
                </a:lnTo>
                <a:lnTo>
                  <a:pt x="1009" y="666"/>
                </a:lnTo>
                <a:lnTo>
                  <a:pt x="998" y="662"/>
                </a:lnTo>
                <a:lnTo>
                  <a:pt x="986" y="656"/>
                </a:lnTo>
                <a:lnTo>
                  <a:pt x="973" y="648"/>
                </a:lnTo>
                <a:lnTo>
                  <a:pt x="958" y="641"/>
                </a:lnTo>
                <a:lnTo>
                  <a:pt x="940" y="631"/>
                </a:lnTo>
                <a:lnTo>
                  <a:pt x="921" y="620"/>
                </a:lnTo>
                <a:lnTo>
                  <a:pt x="900" y="606"/>
                </a:lnTo>
                <a:lnTo>
                  <a:pt x="879" y="593"/>
                </a:lnTo>
                <a:lnTo>
                  <a:pt x="854" y="579"/>
                </a:lnTo>
                <a:lnTo>
                  <a:pt x="827" y="562"/>
                </a:lnTo>
                <a:lnTo>
                  <a:pt x="800" y="545"/>
                </a:lnTo>
                <a:lnTo>
                  <a:pt x="769" y="526"/>
                </a:lnTo>
                <a:lnTo>
                  <a:pt x="739" y="506"/>
                </a:lnTo>
                <a:lnTo>
                  <a:pt x="706" y="485"/>
                </a:lnTo>
                <a:lnTo>
                  <a:pt x="672" y="462"/>
                </a:lnTo>
                <a:lnTo>
                  <a:pt x="633" y="437"/>
                </a:lnTo>
                <a:lnTo>
                  <a:pt x="595" y="412"/>
                </a:lnTo>
                <a:lnTo>
                  <a:pt x="556" y="385"/>
                </a:lnTo>
                <a:lnTo>
                  <a:pt x="514" y="359"/>
                </a:lnTo>
                <a:lnTo>
                  <a:pt x="470" y="328"/>
                </a:lnTo>
                <a:lnTo>
                  <a:pt x="424" y="297"/>
                </a:lnTo>
                <a:lnTo>
                  <a:pt x="378" y="266"/>
                </a:lnTo>
                <a:lnTo>
                  <a:pt x="328" y="234"/>
                </a:lnTo>
                <a:lnTo>
                  <a:pt x="278" y="199"/>
                </a:lnTo>
                <a:lnTo>
                  <a:pt x="226" y="163"/>
                </a:lnTo>
                <a:lnTo>
                  <a:pt x="173" y="124"/>
                </a:lnTo>
                <a:lnTo>
                  <a:pt x="117" y="86"/>
                </a:lnTo>
                <a:lnTo>
                  <a:pt x="59" y="48"/>
                </a:lnTo>
                <a:lnTo>
                  <a:pt x="0" y="5"/>
                </a:lnTo>
                <a:lnTo>
                  <a:pt x="4" y="3"/>
                </a:lnTo>
                <a:lnTo>
                  <a:pt x="9" y="1"/>
                </a:lnTo>
                <a:lnTo>
                  <a:pt x="13" y="1"/>
                </a:lnTo>
                <a:lnTo>
                  <a:pt x="19" y="0"/>
                </a:lnTo>
                <a:lnTo>
                  <a:pt x="25" y="0"/>
                </a:lnTo>
                <a:lnTo>
                  <a:pt x="30" y="0"/>
                </a:lnTo>
                <a:lnTo>
                  <a:pt x="38" y="0"/>
                </a:lnTo>
                <a:lnTo>
                  <a:pt x="46" y="1"/>
                </a:lnTo>
                <a:lnTo>
                  <a:pt x="53" y="1"/>
                </a:lnTo>
                <a:lnTo>
                  <a:pt x="63" y="3"/>
                </a:lnTo>
                <a:lnTo>
                  <a:pt x="71" y="5"/>
                </a:lnTo>
                <a:lnTo>
                  <a:pt x="80" y="7"/>
                </a:lnTo>
                <a:lnTo>
                  <a:pt x="92" y="11"/>
                </a:lnTo>
                <a:lnTo>
                  <a:pt x="101" y="13"/>
                </a:lnTo>
                <a:lnTo>
                  <a:pt x="113" y="17"/>
                </a:lnTo>
                <a:lnTo>
                  <a:pt x="125" y="21"/>
                </a:lnTo>
                <a:lnTo>
                  <a:pt x="136" y="26"/>
                </a:lnTo>
                <a:lnTo>
                  <a:pt x="149" y="30"/>
                </a:lnTo>
                <a:lnTo>
                  <a:pt x="161" y="36"/>
                </a:lnTo>
                <a:lnTo>
                  <a:pt x="174" y="42"/>
                </a:lnTo>
                <a:lnTo>
                  <a:pt x="203" y="53"/>
                </a:lnTo>
                <a:lnTo>
                  <a:pt x="234" y="67"/>
                </a:lnTo>
                <a:lnTo>
                  <a:pt x="267" y="82"/>
                </a:lnTo>
                <a:lnTo>
                  <a:pt x="299" y="99"/>
                </a:lnTo>
                <a:lnTo>
                  <a:pt x="336" y="117"/>
                </a:lnTo>
                <a:lnTo>
                  <a:pt x="372" y="136"/>
                </a:lnTo>
                <a:lnTo>
                  <a:pt x="409" y="159"/>
                </a:lnTo>
                <a:lnTo>
                  <a:pt x="443" y="180"/>
                </a:lnTo>
                <a:lnTo>
                  <a:pt x="478" y="201"/>
                </a:lnTo>
                <a:lnTo>
                  <a:pt x="512" y="220"/>
                </a:lnTo>
                <a:lnTo>
                  <a:pt x="545" y="240"/>
                </a:lnTo>
                <a:lnTo>
                  <a:pt x="577" y="257"/>
                </a:lnTo>
                <a:lnTo>
                  <a:pt x="610" y="274"/>
                </a:lnTo>
                <a:lnTo>
                  <a:pt x="643" y="289"/>
                </a:lnTo>
                <a:lnTo>
                  <a:pt x="673" y="307"/>
                </a:lnTo>
                <a:lnTo>
                  <a:pt x="704" y="320"/>
                </a:lnTo>
                <a:lnTo>
                  <a:pt x="733" y="335"/>
                </a:lnTo>
                <a:lnTo>
                  <a:pt x="764" y="349"/>
                </a:lnTo>
                <a:lnTo>
                  <a:pt x="792" y="362"/>
                </a:lnTo>
                <a:lnTo>
                  <a:pt x="819" y="374"/>
                </a:lnTo>
                <a:lnTo>
                  <a:pt x="846" y="387"/>
                </a:lnTo>
                <a:lnTo>
                  <a:pt x="873" y="39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Freeform 196"/>
          <p:cNvSpPr/>
          <p:nvPr/>
        </p:nvSpPr>
        <p:spPr>
          <a:xfrm>
            <a:off x="6427800" y="2792520"/>
            <a:ext cx="563400" cy="731880"/>
          </a:xfrm>
          <a:custGeom>
            <a:avLst/>
            <a:gdLst/>
            <a:ahLst/>
            <a:rect l="l" t="t" r="r" b="b"/>
            <a:pathLst>
              <a:path w="711" h="924">
                <a:moveTo>
                  <a:pt x="442" y="279"/>
                </a:moveTo>
                <a:lnTo>
                  <a:pt x="451" y="256"/>
                </a:lnTo>
                <a:lnTo>
                  <a:pt x="463" y="233"/>
                </a:lnTo>
                <a:lnTo>
                  <a:pt x="471" y="212"/>
                </a:lnTo>
                <a:lnTo>
                  <a:pt x="480" y="192"/>
                </a:lnTo>
                <a:lnTo>
                  <a:pt x="486" y="173"/>
                </a:lnTo>
                <a:lnTo>
                  <a:pt x="492" y="156"/>
                </a:lnTo>
                <a:lnTo>
                  <a:pt x="497" y="141"/>
                </a:lnTo>
                <a:lnTo>
                  <a:pt x="501" y="125"/>
                </a:lnTo>
                <a:lnTo>
                  <a:pt x="505" y="112"/>
                </a:lnTo>
                <a:lnTo>
                  <a:pt x="507" y="100"/>
                </a:lnTo>
                <a:lnTo>
                  <a:pt x="509" y="91"/>
                </a:lnTo>
                <a:lnTo>
                  <a:pt x="509" y="81"/>
                </a:lnTo>
                <a:lnTo>
                  <a:pt x="509" y="71"/>
                </a:lnTo>
                <a:lnTo>
                  <a:pt x="509" y="64"/>
                </a:lnTo>
                <a:lnTo>
                  <a:pt x="507" y="58"/>
                </a:lnTo>
                <a:lnTo>
                  <a:pt x="505" y="54"/>
                </a:lnTo>
                <a:lnTo>
                  <a:pt x="501" y="50"/>
                </a:lnTo>
                <a:lnTo>
                  <a:pt x="497" y="48"/>
                </a:lnTo>
                <a:lnTo>
                  <a:pt x="494" y="45"/>
                </a:lnTo>
                <a:lnTo>
                  <a:pt x="492" y="43"/>
                </a:lnTo>
                <a:lnTo>
                  <a:pt x="488" y="39"/>
                </a:lnTo>
                <a:lnTo>
                  <a:pt x="488" y="37"/>
                </a:lnTo>
                <a:lnTo>
                  <a:pt x="486" y="33"/>
                </a:lnTo>
                <a:lnTo>
                  <a:pt x="486" y="29"/>
                </a:lnTo>
                <a:lnTo>
                  <a:pt x="486" y="25"/>
                </a:lnTo>
                <a:lnTo>
                  <a:pt x="488" y="23"/>
                </a:lnTo>
                <a:lnTo>
                  <a:pt x="488" y="20"/>
                </a:lnTo>
                <a:lnTo>
                  <a:pt x="492" y="16"/>
                </a:lnTo>
                <a:lnTo>
                  <a:pt x="494" y="14"/>
                </a:lnTo>
                <a:lnTo>
                  <a:pt x="497" y="10"/>
                </a:lnTo>
                <a:lnTo>
                  <a:pt x="501" y="8"/>
                </a:lnTo>
                <a:lnTo>
                  <a:pt x="505" y="6"/>
                </a:lnTo>
                <a:lnTo>
                  <a:pt x="507" y="4"/>
                </a:lnTo>
                <a:lnTo>
                  <a:pt x="511" y="2"/>
                </a:lnTo>
                <a:lnTo>
                  <a:pt x="515" y="2"/>
                </a:lnTo>
                <a:lnTo>
                  <a:pt x="521" y="0"/>
                </a:lnTo>
                <a:lnTo>
                  <a:pt x="524" y="2"/>
                </a:lnTo>
                <a:lnTo>
                  <a:pt x="530" y="2"/>
                </a:lnTo>
                <a:lnTo>
                  <a:pt x="536" y="4"/>
                </a:lnTo>
                <a:lnTo>
                  <a:pt x="544" y="6"/>
                </a:lnTo>
                <a:lnTo>
                  <a:pt x="551" y="8"/>
                </a:lnTo>
                <a:lnTo>
                  <a:pt x="559" y="12"/>
                </a:lnTo>
                <a:lnTo>
                  <a:pt x="569" y="14"/>
                </a:lnTo>
                <a:lnTo>
                  <a:pt x="578" y="20"/>
                </a:lnTo>
                <a:lnTo>
                  <a:pt x="588" y="23"/>
                </a:lnTo>
                <a:lnTo>
                  <a:pt x="597" y="29"/>
                </a:lnTo>
                <a:lnTo>
                  <a:pt x="609" y="35"/>
                </a:lnTo>
                <a:lnTo>
                  <a:pt x="620" y="43"/>
                </a:lnTo>
                <a:lnTo>
                  <a:pt x="632" y="48"/>
                </a:lnTo>
                <a:lnTo>
                  <a:pt x="643" y="56"/>
                </a:lnTo>
                <a:lnTo>
                  <a:pt x="653" y="62"/>
                </a:lnTo>
                <a:lnTo>
                  <a:pt x="663" y="68"/>
                </a:lnTo>
                <a:lnTo>
                  <a:pt x="670" y="75"/>
                </a:lnTo>
                <a:lnTo>
                  <a:pt x="678" y="81"/>
                </a:lnTo>
                <a:lnTo>
                  <a:pt x="684" y="87"/>
                </a:lnTo>
                <a:lnTo>
                  <a:pt x="689" y="93"/>
                </a:lnTo>
                <a:lnTo>
                  <a:pt x="695" y="98"/>
                </a:lnTo>
                <a:lnTo>
                  <a:pt x="699" y="102"/>
                </a:lnTo>
                <a:lnTo>
                  <a:pt x="703" y="108"/>
                </a:lnTo>
                <a:lnTo>
                  <a:pt x="705" y="112"/>
                </a:lnTo>
                <a:lnTo>
                  <a:pt x="709" y="116"/>
                </a:lnTo>
                <a:lnTo>
                  <a:pt x="709" y="119"/>
                </a:lnTo>
                <a:lnTo>
                  <a:pt x="711" y="121"/>
                </a:lnTo>
                <a:lnTo>
                  <a:pt x="711" y="125"/>
                </a:lnTo>
                <a:lnTo>
                  <a:pt x="711" y="131"/>
                </a:lnTo>
                <a:lnTo>
                  <a:pt x="707" y="137"/>
                </a:lnTo>
                <a:lnTo>
                  <a:pt x="703" y="146"/>
                </a:lnTo>
                <a:lnTo>
                  <a:pt x="699" y="156"/>
                </a:lnTo>
                <a:lnTo>
                  <a:pt x="691" y="167"/>
                </a:lnTo>
                <a:lnTo>
                  <a:pt x="684" y="183"/>
                </a:lnTo>
                <a:lnTo>
                  <a:pt x="674" y="198"/>
                </a:lnTo>
                <a:lnTo>
                  <a:pt x="663" y="215"/>
                </a:lnTo>
                <a:lnTo>
                  <a:pt x="651" y="235"/>
                </a:lnTo>
                <a:lnTo>
                  <a:pt x="638" y="256"/>
                </a:lnTo>
                <a:lnTo>
                  <a:pt x="622" y="279"/>
                </a:lnTo>
                <a:lnTo>
                  <a:pt x="607" y="304"/>
                </a:lnTo>
                <a:lnTo>
                  <a:pt x="599" y="317"/>
                </a:lnTo>
                <a:lnTo>
                  <a:pt x="590" y="331"/>
                </a:lnTo>
                <a:lnTo>
                  <a:pt x="580" y="344"/>
                </a:lnTo>
                <a:lnTo>
                  <a:pt x="570" y="359"/>
                </a:lnTo>
                <a:lnTo>
                  <a:pt x="561" y="373"/>
                </a:lnTo>
                <a:lnTo>
                  <a:pt x="551" y="390"/>
                </a:lnTo>
                <a:lnTo>
                  <a:pt x="542" y="405"/>
                </a:lnTo>
                <a:lnTo>
                  <a:pt x="530" y="423"/>
                </a:lnTo>
                <a:lnTo>
                  <a:pt x="507" y="455"/>
                </a:lnTo>
                <a:lnTo>
                  <a:pt x="484" y="486"/>
                </a:lnTo>
                <a:lnTo>
                  <a:pt x="461" y="517"/>
                </a:lnTo>
                <a:lnTo>
                  <a:pt x="438" y="546"/>
                </a:lnTo>
                <a:lnTo>
                  <a:pt x="415" y="572"/>
                </a:lnTo>
                <a:lnTo>
                  <a:pt x="392" y="599"/>
                </a:lnTo>
                <a:lnTo>
                  <a:pt x="369" y="624"/>
                </a:lnTo>
                <a:lnTo>
                  <a:pt x="346" y="647"/>
                </a:lnTo>
                <a:lnTo>
                  <a:pt x="325" y="670"/>
                </a:lnTo>
                <a:lnTo>
                  <a:pt x="302" y="693"/>
                </a:lnTo>
                <a:lnTo>
                  <a:pt x="281" y="713"/>
                </a:lnTo>
                <a:lnTo>
                  <a:pt x="258" y="734"/>
                </a:lnTo>
                <a:lnTo>
                  <a:pt x="236" y="751"/>
                </a:lnTo>
                <a:lnTo>
                  <a:pt x="215" y="770"/>
                </a:lnTo>
                <a:lnTo>
                  <a:pt x="192" y="786"/>
                </a:lnTo>
                <a:lnTo>
                  <a:pt x="171" y="803"/>
                </a:lnTo>
                <a:lnTo>
                  <a:pt x="150" y="818"/>
                </a:lnTo>
                <a:lnTo>
                  <a:pt x="131" y="832"/>
                </a:lnTo>
                <a:lnTo>
                  <a:pt x="114" y="845"/>
                </a:lnTo>
                <a:lnTo>
                  <a:pt x="96" y="858"/>
                </a:lnTo>
                <a:lnTo>
                  <a:pt x="81" y="870"/>
                </a:lnTo>
                <a:lnTo>
                  <a:pt x="68" y="880"/>
                </a:lnTo>
                <a:lnTo>
                  <a:pt x="56" y="889"/>
                </a:lnTo>
                <a:lnTo>
                  <a:pt x="45" y="899"/>
                </a:lnTo>
                <a:lnTo>
                  <a:pt x="35" y="905"/>
                </a:lnTo>
                <a:lnTo>
                  <a:pt x="27" y="912"/>
                </a:lnTo>
                <a:lnTo>
                  <a:pt x="20" y="916"/>
                </a:lnTo>
                <a:lnTo>
                  <a:pt x="14" y="920"/>
                </a:lnTo>
                <a:lnTo>
                  <a:pt x="10" y="922"/>
                </a:lnTo>
                <a:lnTo>
                  <a:pt x="6" y="924"/>
                </a:lnTo>
                <a:lnTo>
                  <a:pt x="4" y="924"/>
                </a:lnTo>
                <a:lnTo>
                  <a:pt x="4" y="922"/>
                </a:lnTo>
                <a:lnTo>
                  <a:pt x="2" y="922"/>
                </a:lnTo>
                <a:lnTo>
                  <a:pt x="0" y="920"/>
                </a:lnTo>
                <a:lnTo>
                  <a:pt x="0" y="918"/>
                </a:lnTo>
                <a:lnTo>
                  <a:pt x="0" y="916"/>
                </a:lnTo>
                <a:lnTo>
                  <a:pt x="2" y="914"/>
                </a:lnTo>
                <a:lnTo>
                  <a:pt x="2" y="910"/>
                </a:lnTo>
                <a:lnTo>
                  <a:pt x="8" y="905"/>
                </a:lnTo>
                <a:lnTo>
                  <a:pt x="10" y="901"/>
                </a:lnTo>
                <a:lnTo>
                  <a:pt x="14" y="897"/>
                </a:lnTo>
                <a:lnTo>
                  <a:pt x="18" y="891"/>
                </a:lnTo>
                <a:lnTo>
                  <a:pt x="21" y="885"/>
                </a:lnTo>
                <a:lnTo>
                  <a:pt x="25" y="880"/>
                </a:lnTo>
                <a:lnTo>
                  <a:pt x="31" y="874"/>
                </a:lnTo>
                <a:lnTo>
                  <a:pt x="33" y="868"/>
                </a:lnTo>
                <a:lnTo>
                  <a:pt x="37" y="862"/>
                </a:lnTo>
                <a:lnTo>
                  <a:pt x="43" y="855"/>
                </a:lnTo>
                <a:lnTo>
                  <a:pt x="48" y="847"/>
                </a:lnTo>
                <a:lnTo>
                  <a:pt x="56" y="837"/>
                </a:lnTo>
                <a:lnTo>
                  <a:pt x="66" y="826"/>
                </a:lnTo>
                <a:lnTo>
                  <a:pt x="75" y="814"/>
                </a:lnTo>
                <a:lnTo>
                  <a:pt x="87" y="801"/>
                </a:lnTo>
                <a:lnTo>
                  <a:pt x="98" y="787"/>
                </a:lnTo>
                <a:lnTo>
                  <a:pt x="112" y="770"/>
                </a:lnTo>
                <a:lnTo>
                  <a:pt x="125" y="755"/>
                </a:lnTo>
                <a:lnTo>
                  <a:pt x="140" y="736"/>
                </a:lnTo>
                <a:lnTo>
                  <a:pt x="156" y="716"/>
                </a:lnTo>
                <a:lnTo>
                  <a:pt x="173" y="695"/>
                </a:lnTo>
                <a:lnTo>
                  <a:pt x="190" y="672"/>
                </a:lnTo>
                <a:lnTo>
                  <a:pt x="210" y="647"/>
                </a:lnTo>
                <a:lnTo>
                  <a:pt x="242" y="599"/>
                </a:lnTo>
                <a:lnTo>
                  <a:pt x="275" y="551"/>
                </a:lnTo>
                <a:lnTo>
                  <a:pt x="306" y="505"/>
                </a:lnTo>
                <a:lnTo>
                  <a:pt x="334" y="459"/>
                </a:lnTo>
                <a:lnTo>
                  <a:pt x="363" y="413"/>
                </a:lnTo>
                <a:lnTo>
                  <a:pt x="390" y="369"/>
                </a:lnTo>
                <a:lnTo>
                  <a:pt x="417" y="325"/>
                </a:lnTo>
                <a:lnTo>
                  <a:pt x="442" y="27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Freeform 197"/>
          <p:cNvSpPr/>
          <p:nvPr/>
        </p:nvSpPr>
        <p:spPr>
          <a:xfrm>
            <a:off x="6459480" y="3201840"/>
            <a:ext cx="665280" cy="720720"/>
          </a:xfrm>
          <a:custGeom>
            <a:avLst/>
            <a:gdLst/>
            <a:ahLst/>
            <a:rect l="l" t="t" r="r" b="b"/>
            <a:pathLst>
              <a:path w="837" h="908">
                <a:moveTo>
                  <a:pt x="670" y="464"/>
                </a:moveTo>
                <a:lnTo>
                  <a:pt x="645" y="499"/>
                </a:lnTo>
                <a:lnTo>
                  <a:pt x="620" y="533"/>
                </a:lnTo>
                <a:lnTo>
                  <a:pt x="591" y="566"/>
                </a:lnTo>
                <a:lnTo>
                  <a:pt x="562" y="597"/>
                </a:lnTo>
                <a:lnTo>
                  <a:pt x="531" y="627"/>
                </a:lnTo>
                <a:lnTo>
                  <a:pt x="514" y="643"/>
                </a:lnTo>
                <a:lnTo>
                  <a:pt x="499" y="658"/>
                </a:lnTo>
                <a:lnTo>
                  <a:pt x="481" y="672"/>
                </a:lnTo>
                <a:lnTo>
                  <a:pt x="462" y="685"/>
                </a:lnTo>
                <a:lnTo>
                  <a:pt x="445" y="700"/>
                </a:lnTo>
                <a:lnTo>
                  <a:pt x="426" y="714"/>
                </a:lnTo>
                <a:lnTo>
                  <a:pt x="407" y="727"/>
                </a:lnTo>
                <a:lnTo>
                  <a:pt x="387" y="739"/>
                </a:lnTo>
                <a:lnTo>
                  <a:pt x="370" y="752"/>
                </a:lnTo>
                <a:lnTo>
                  <a:pt x="351" y="764"/>
                </a:lnTo>
                <a:lnTo>
                  <a:pt x="334" y="773"/>
                </a:lnTo>
                <a:lnTo>
                  <a:pt x="314" y="785"/>
                </a:lnTo>
                <a:lnTo>
                  <a:pt x="280" y="804"/>
                </a:lnTo>
                <a:lnTo>
                  <a:pt x="245" y="823"/>
                </a:lnTo>
                <a:lnTo>
                  <a:pt x="211" y="839"/>
                </a:lnTo>
                <a:lnTo>
                  <a:pt x="176" y="854"/>
                </a:lnTo>
                <a:lnTo>
                  <a:pt x="144" y="867"/>
                </a:lnTo>
                <a:lnTo>
                  <a:pt x="126" y="875"/>
                </a:lnTo>
                <a:lnTo>
                  <a:pt x="111" y="881"/>
                </a:lnTo>
                <a:lnTo>
                  <a:pt x="98" y="887"/>
                </a:lnTo>
                <a:lnTo>
                  <a:pt x="84" y="890"/>
                </a:lnTo>
                <a:lnTo>
                  <a:pt x="73" y="894"/>
                </a:lnTo>
                <a:lnTo>
                  <a:pt x="63" y="898"/>
                </a:lnTo>
                <a:lnTo>
                  <a:pt x="53" y="902"/>
                </a:lnTo>
                <a:lnTo>
                  <a:pt x="44" y="904"/>
                </a:lnTo>
                <a:lnTo>
                  <a:pt x="36" y="906"/>
                </a:lnTo>
                <a:lnTo>
                  <a:pt x="28" y="908"/>
                </a:lnTo>
                <a:lnTo>
                  <a:pt x="23" y="908"/>
                </a:lnTo>
                <a:lnTo>
                  <a:pt x="17" y="908"/>
                </a:lnTo>
                <a:lnTo>
                  <a:pt x="11" y="908"/>
                </a:lnTo>
                <a:lnTo>
                  <a:pt x="7" y="908"/>
                </a:lnTo>
                <a:lnTo>
                  <a:pt x="5" y="906"/>
                </a:lnTo>
                <a:lnTo>
                  <a:pt x="2" y="904"/>
                </a:lnTo>
                <a:lnTo>
                  <a:pt x="0" y="902"/>
                </a:lnTo>
                <a:lnTo>
                  <a:pt x="2" y="898"/>
                </a:lnTo>
                <a:lnTo>
                  <a:pt x="4" y="894"/>
                </a:lnTo>
                <a:lnTo>
                  <a:pt x="7" y="889"/>
                </a:lnTo>
                <a:lnTo>
                  <a:pt x="13" y="883"/>
                </a:lnTo>
                <a:lnTo>
                  <a:pt x="21" y="875"/>
                </a:lnTo>
                <a:lnTo>
                  <a:pt x="30" y="867"/>
                </a:lnTo>
                <a:lnTo>
                  <a:pt x="40" y="860"/>
                </a:lnTo>
                <a:lnTo>
                  <a:pt x="53" y="850"/>
                </a:lnTo>
                <a:lnTo>
                  <a:pt x="69" y="841"/>
                </a:lnTo>
                <a:lnTo>
                  <a:pt x="84" y="829"/>
                </a:lnTo>
                <a:lnTo>
                  <a:pt x="103" y="818"/>
                </a:lnTo>
                <a:lnTo>
                  <a:pt x="123" y="804"/>
                </a:lnTo>
                <a:lnTo>
                  <a:pt x="146" y="791"/>
                </a:lnTo>
                <a:lnTo>
                  <a:pt x="169" y="777"/>
                </a:lnTo>
                <a:lnTo>
                  <a:pt x="195" y="762"/>
                </a:lnTo>
                <a:lnTo>
                  <a:pt x="218" y="745"/>
                </a:lnTo>
                <a:lnTo>
                  <a:pt x="242" y="729"/>
                </a:lnTo>
                <a:lnTo>
                  <a:pt x="265" y="712"/>
                </a:lnTo>
                <a:lnTo>
                  <a:pt x="286" y="695"/>
                </a:lnTo>
                <a:lnTo>
                  <a:pt x="307" y="675"/>
                </a:lnTo>
                <a:lnTo>
                  <a:pt x="328" y="658"/>
                </a:lnTo>
                <a:lnTo>
                  <a:pt x="349" y="639"/>
                </a:lnTo>
                <a:lnTo>
                  <a:pt x="368" y="620"/>
                </a:lnTo>
                <a:lnTo>
                  <a:pt x="387" y="601"/>
                </a:lnTo>
                <a:lnTo>
                  <a:pt x="405" y="579"/>
                </a:lnTo>
                <a:lnTo>
                  <a:pt x="424" y="560"/>
                </a:lnTo>
                <a:lnTo>
                  <a:pt x="441" y="539"/>
                </a:lnTo>
                <a:lnTo>
                  <a:pt x="456" y="518"/>
                </a:lnTo>
                <a:lnTo>
                  <a:pt x="474" y="497"/>
                </a:lnTo>
                <a:lnTo>
                  <a:pt x="487" y="474"/>
                </a:lnTo>
                <a:lnTo>
                  <a:pt x="503" y="453"/>
                </a:lnTo>
                <a:lnTo>
                  <a:pt x="516" y="432"/>
                </a:lnTo>
                <a:lnTo>
                  <a:pt x="529" y="409"/>
                </a:lnTo>
                <a:lnTo>
                  <a:pt x="543" y="386"/>
                </a:lnTo>
                <a:lnTo>
                  <a:pt x="554" y="363"/>
                </a:lnTo>
                <a:lnTo>
                  <a:pt x="566" y="338"/>
                </a:lnTo>
                <a:lnTo>
                  <a:pt x="577" y="313"/>
                </a:lnTo>
                <a:lnTo>
                  <a:pt x="587" y="286"/>
                </a:lnTo>
                <a:lnTo>
                  <a:pt x="597" y="257"/>
                </a:lnTo>
                <a:lnTo>
                  <a:pt x="606" y="228"/>
                </a:lnTo>
                <a:lnTo>
                  <a:pt x="614" y="198"/>
                </a:lnTo>
                <a:lnTo>
                  <a:pt x="622" y="167"/>
                </a:lnTo>
                <a:lnTo>
                  <a:pt x="627" y="136"/>
                </a:lnTo>
                <a:lnTo>
                  <a:pt x="633" y="103"/>
                </a:lnTo>
                <a:lnTo>
                  <a:pt x="637" y="71"/>
                </a:lnTo>
                <a:lnTo>
                  <a:pt x="641" y="36"/>
                </a:lnTo>
                <a:lnTo>
                  <a:pt x="645" y="0"/>
                </a:lnTo>
                <a:lnTo>
                  <a:pt x="668" y="21"/>
                </a:lnTo>
                <a:lnTo>
                  <a:pt x="689" y="38"/>
                </a:lnTo>
                <a:lnTo>
                  <a:pt x="710" y="55"/>
                </a:lnTo>
                <a:lnTo>
                  <a:pt x="727" y="73"/>
                </a:lnTo>
                <a:lnTo>
                  <a:pt x="744" y="86"/>
                </a:lnTo>
                <a:lnTo>
                  <a:pt x="762" y="102"/>
                </a:lnTo>
                <a:lnTo>
                  <a:pt x="775" y="113"/>
                </a:lnTo>
                <a:lnTo>
                  <a:pt x="789" y="125"/>
                </a:lnTo>
                <a:lnTo>
                  <a:pt x="800" y="136"/>
                </a:lnTo>
                <a:lnTo>
                  <a:pt x="810" y="146"/>
                </a:lnTo>
                <a:lnTo>
                  <a:pt x="817" y="153"/>
                </a:lnTo>
                <a:lnTo>
                  <a:pt x="825" y="161"/>
                </a:lnTo>
                <a:lnTo>
                  <a:pt x="829" y="167"/>
                </a:lnTo>
                <a:lnTo>
                  <a:pt x="833" y="173"/>
                </a:lnTo>
                <a:lnTo>
                  <a:pt x="837" y="176"/>
                </a:lnTo>
                <a:lnTo>
                  <a:pt x="837" y="178"/>
                </a:lnTo>
                <a:lnTo>
                  <a:pt x="827" y="196"/>
                </a:lnTo>
                <a:lnTo>
                  <a:pt x="823" y="205"/>
                </a:lnTo>
                <a:lnTo>
                  <a:pt x="817" y="215"/>
                </a:lnTo>
                <a:lnTo>
                  <a:pt x="812" y="226"/>
                </a:lnTo>
                <a:lnTo>
                  <a:pt x="808" y="238"/>
                </a:lnTo>
                <a:lnTo>
                  <a:pt x="802" y="249"/>
                </a:lnTo>
                <a:lnTo>
                  <a:pt x="798" y="263"/>
                </a:lnTo>
                <a:lnTo>
                  <a:pt x="792" y="269"/>
                </a:lnTo>
                <a:lnTo>
                  <a:pt x="789" y="276"/>
                </a:lnTo>
                <a:lnTo>
                  <a:pt x="783" y="284"/>
                </a:lnTo>
                <a:lnTo>
                  <a:pt x="777" y="293"/>
                </a:lnTo>
                <a:lnTo>
                  <a:pt x="769" y="303"/>
                </a:lnTo>
                <a:lnTo>
                  <a:pt x="764" y="313"/>
                </a:lnTo>
                <a:lnTo>
                  <a:pt x="756" y="324"/>
                </a:lnTo>
                <a:lnTo>
                  <a:pt x="748" y="336"/>
                </a:lnTo>
                <a:lnTo>
                  <a:pt x="741" y="349"/>
                </a:lnTo>
                <a:lnTo>
                  <a:pt x="731" y="363"/>
                </a:lnTo>
                <a:lnTo>
                  <a:pt x="723" y="376"/>
                </a:lnTo>
                <a:lnTo>
                  <a:pt x="714" y="391"/>
                </a:lnTo>
                <a:lnTo>
                  <a:pt x="702" y="409"/>
                </a:lnTo>
                <a:lnTo>
                  <a:pt x="693" y="426"/>
                </a:lnTo>
                <a:lnTo>
                  <a:pt x="681" y="445"/>
                </a:lnTo>
                <a:lnTo>
                  <a:pt x="670" y="46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Freeform 198"/>
          <p:cNvSpPr/>
          <p:nvPr/>
        </p:nvSpPr>
        <p:spPr>
          <a:xfrm>
            <a:off x="6718320" y="3070080"/>
            <a:ext cx="681120" cy="198720"/>
          </a:xfrm>
          <a:custGeom>
            <a:avLst/>
            <a:gdLst/>
            <a:ahLst/>
            <a:rect l="l" t="t" r="r" b="b"/>
            <a:pathLst>
              <a:path w="860" h="249">
                <a:moveTo>
                  <a:pt x="372" y="82"/>
                </a:moveTo>
                <a:lnTo>
                  <a:pt x="401" y="71"/>
                </a:lnTo>
                <a:lnTo>
                  <a:pt x="432" y="61"/>
                </a:lnTo>
                <a:lnTo>
                  <a:pt x="459" y="52"/>
                </a:lnTo>
                <a:lnTo>
                  <a:pt x="484" y="44"/>
                </a:lnTo>
                <a:lnTo>
                  <a:pt x="509" y="36"/>
                </a:lnTo>
                <a:lnTo>
                  <a:pt x="534" y="29"/>
                </a:lnTo>
                <a:lnTo>
                  <a:pt x="555" y="23"/>
                </a:lnTo>
                <a:lnTo>
                  <a:pt x="576" y="17"/>
                </a:lnTo>
                <a:lnTo>
                  <a:pt x="595" y="13"/>
                </a:lnTo>
                <a:lnTo>
                  <a:pt x="612" y="9"/>
                </a:lnTo>
                <a:lnTo>
                  <a:pt x="630" y="5"/>
                </a:lnTo>
                <a:lnTo>
                  <a:pt x="645" y="4"/>
                </a:lnTo>
                <a:lnTo>
                  <a:pt x="658" y="2"/>
                </a:lnTo>
                <a:lnTo>
                  <a:pt x="670" y="0"/>
                </a:lnTo>
                <a:lnTo>
                  <a:pt x="681" y="0"/>
                </a:lnTo>
                <a:lnTo>
                  <a:pt x="693" y="0"/>
                </a:lnTo>
                <a:lnTo>
                  <a:pt x="722" y="0"/>
                </a:lnTo>
                <a:lnTo>
                  <a:pt x="735" y="0"/>
                </a:lnTo>
                <a:lnTo>
                  <a:pt x="751" y="0"/>
                </a:lnTo>
                <a:lnTo>
                  <a:pt x="764" y="2"/>
                </a:lnTo>
                <a:lnTo>
                  <a:pt x="779" y="4"/>
                </a:lnTo>
                <a:lnTo>
                  <a:pt x="793" y="7"/>
                </a:lnTo>
                <a:lnTo>
                  <a:pt x="808" y="11"/>
                </a:lnTo>
                <a:lnTo>
                  <a:pt x="814" y="13"/>
                </a:lnTo>
                <a:lnTo>
                  <a:pt x="822" y="15"/>
                </a:lnTo>
                <a:lnTo>
                  <a:pt x="827" y="19"/>
                </a:lnTo>
                <a:lnTo>
                  <a:pt x="831" y="21"/>
                </a:lnTo>
                <a:lnTo>
                  <a:pt x="837" y="25"/>
                </a:lnTo>
                <a:lnTo>
                  <a:pt x="841" y="29"/>
                </a:lnTo>
                <a:lnTo>
                  <a:pt x="845" y="30"/>
                </a:lnTo>
                <a:lnTo>
                  <a:pt x="848" y="34"/>
                </a:lnTo>
                <a:lnTo>
                  <a:pt x="852" y="42"/>
                </a:lnTo>
                <a:lnTo>
                  <a:pt x="856" y="48"/>
                </a:lnTo>
                <a:lnTo>
                  <a:pt x="858" y="53"/>
                </a:lnTo>
                <a:lnTo>
                  <a:pt x="860" y="59"/>
                </a:lnTo>
                <a:lnTo>
                  <a:pt x="858" y="61"/>
                </a:lnTo>
                <a:lnTo>
                  <a:pt x="858" y="63"/>
                </a:lnTo>
                <a:lnTo>
                  <a:pt x="856" y="65"/>
                </a:lnTo>
                <a:lnTo>
                  <a:pt x="854" y="67"/>
                </a:lnTo>
                <a:lnTo>
                  <a:pt x="850" y="71"/>
                </a:lnTo>
                <a:lnTo>
                  <a:pt x="847" y="73"/>
                </a:lnTo>
                <a:lnTo>
                  <a:pt x="843" y="75"/>
                </a:lnTo>
                <a:lnTo>
                  <a:pt x="837" y="78"/>
                </a:lnTo>
                <a:lnTo>
                  <a:pt x="831" y="80"/>
                </a:lnTo>
                <a:lnTo>
                  <a:pt x="825" y="84"/>
                </a:lnTo>
                <a:lnTo>
                  <a:pt x="818" y="86"/>
                </a:lnTo>
                <a:lnTo>
                  <a:pt x="810" y="90"/>
                </a:lnTo>
                <a:lnTo>
                  <a:pt x="802" y="92"/>
                </a:lnTo>
                <a:lnTo>
                  <a:pt x="793" y="96"/>
                </a:lnTo>
                <a:lnTo>
                  <a:pt x="783" y="100"/>
                </a:lnTo>
                <a:lnTo>
                  <a:pt x="772" y="103"/>
                </a:lnTo>
                <a:lnTo>
                  <a:pt x="762" y="105"/>
                </a:lnTo>
                <a:lnTo>
                  <a:pt x="749" y="109"/>
                </a:lnTo>
                <a:lnTo>
                  <a:pt x="737" y="113"/>
                </a:lnTo>
                <a:lnTo>
                  <a:pt x="724" y="117"/>
                </a:lnTo>
                <a:lnTo>
                  <a:pt x="710" y="121"/>
                </a:lnTo>
                <a:lnTo>
                  <a:pt x="695" y="124"/>
                </a:lnTo>
                <a:lnTo>
                  <a:pt x="680" y="128"/>
                </a:lnTo>
                <a:lnTo>
                  <a:pt x="664" y="132"/>
                </a:lnTo>
                <a:lnTo>
                  <a:pt x="647" y="136"/>
                </a:lnTo>
                <a:lnTo>
                  <a:pt x="630" y="140"/>
                </a:lnTo>
                <a:lnTo>
                  <a:pt x="612" y="144"/>
                </a:lnTo>
                <a:lnTo>
                  <a:pt x="593" y="148"/>
                </a:lnTo>
                <a:lnTo>
                  <a:pt x="574" y="151"/>
                </a:lnTo>
                <a:lnTo>
                  <a:pt x="555" y="157"/>
                </a:lnTo>
                <a:lnTo>
                  <a:pt x="534" y="161"/>
                </a:lnTo>
                <a:lnTo>
                  <a:pt x="513" y="165"/>
                </a:lnTo>
                <a:lnTo>
                  <a:pt x="470" y="176"/>
                </a:lnTo>
                <a:lnTo>
                  <a:pt x="428" y="186"/>
                </a:lnTo>
                <a:lnTo>
                  <a:pt x="390" y="196"/>
                </a:lnTo>
                <a:lnTo>
                  <a:pt x="351" y="203"/>
                </a:lnTo>
                <a:lnTo>
                  <a:pt x="315" y="211"/>
                </a:lnTo>
                <a:lnTo>
                  <a:pt x="278" y="219"/>
                </a:lnTo>
                <a:lnTo>
                  <a:pt x="246" y="224"/>
                </a:lnTo>
                <a:lnTo>
                  <a:pt x="213" y="230"/>
                </a:lnTo>
                <a:lnTo>
                  <a:pt x="180" y="234"/>
                </a:lnTo>
                <a:lnTo>
                  <a:pt x="152" y="238"/>
                </a:lnTo>
                <a:lnTo>
                  <a:pt x="123" y="242"/>
                </a:lnTo>
                <a:lnTo>
                  <a:pt x="96" y="243"/>
                </a:lnTo>
                <a:lnTo>
                  <a:pt x="69" y="245"/>
                </a:lnTo>
                <a:lnTo>
                  <a:pt x="44" y="247"/>
                </a:lnTo>
                <a:lnTo>
                  <a:pt x="21" y="247"/>
                </a:lnTo>
                <a:lnTo>
                  <a:pt x="0" y="249"/>
                </a:lnTo>
                <a:lnTo>
                  <a:pt x="0" y="153"/>
                </a:lnTo>
                <a:lnTo>
                  <a:pt x="17" y="153"/>
                </a:lnTo>
                <a:lnTo>
                  <a:pt x="35" y="151"/>
                </a:lnTo>
                <a:lnTo>
                  <a:pt x="54" y="151"/>
                </a:lnTo>
                <a:lnTo>
                  <a:pt x="73" y="149"/>
                </a:lnTo>
                <a:lnTo>
                  <a:pt x="94" y="146"/>
                </a:lnTo>
                <a:lnTo>
                  <a:pt x="115" y="144"/>
                </a:lnTo>
                <a:lnTo>
                  <a:pt x="138" y="140"/>
                </a:lnTo>
                <a:lnTo>
                  <a:pt x="161" y="136"/>
                </a:lnTo>
                <a:lnTo>
                  <a:pt x="184" y="130"/>
                </a:lnTo>
                <a:lnTo>
                  <a:pt x="209" y="126"/>
                </a:lnTo>
                <a:lnTo>
                  <a:pt x="234" y="121"/>
                </a:lnTo>
                <a:lnTo>
                  <a:pt x="261" y="113"/>
                </a:lnTo>
                <a:lnTo>
                  <a:pt x="288" y="107"/>
                </a:lnTo>
                <a:lnTo>
                  <a:pt x="315" y="100"/>
                </a:lnTo>
                <a:lnTo>
                  <a:pt x="344" y="90"/>
                </a:lnTo>
                <a:lnTo>
                  <a:pt x="372" y="8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Freeform 199"/>
          <p:cNvSpPr/>
          <p:nvPr/>
        </p:nvSpPr>
        <p:spPr>
          <a:xfrm>
            <a:off x="5605560" y="3287880"/>
            <a:ext cx="860400" cy="736560"/>
          </a:xfrm>
          <a:custGeom>
            <a:avLst/>
            <a:gdLst/>
            <a:ahLst/>
            <a:rect l="l" t="t" r="r" b="b"/>
            <a:pathLst>
              <a:path w="1084" h="929">
                <a:moveTo>
                  <a:pt x="745" y="785"/>
                </a:moveTo>
                <a:lnTo>
                  <a:pt x="735" y="778"/>
                </a:lnTo>
                <a:lnTo>
                  <a:pt x="727" y="772"/>
                </a:lnTo>
                <a:lnTo>
                  <a:pt x="720" y="766"/>
                </a:lnTo>
                <a:lnTo>
                  <a:pt x="712" y="760"/>
                </a:lnTo>
                <a:lnTo>
                  <a:pt x="704" y="755"/>
                </a:lnTo>
                <a:lnTo>
                  <a:pt x="699" y="749"/>
                </a:lnTo>
                <a:lnTo>
                  <a:pt x="693" y="745"/>
                </a:lnTo>
                <a:lnTo>
                  <a:pt x="689" y="739"/>
                </a:lnTo>
                <a:lnTo>
                  <a:pt x="685" y="735"/>
                </a:lnTo>
                <a:lnTo>
                  <a:pt x="681" y="732"/>
                </a:lnTo>
                <a:lnTo>
                  <a:pt x="679" y="728"/>
                </a:lnTo>
                <a:lnTo>
                  <a:pt x="677" y="724"/>
                </a:lnTo>
                <a:lnTo>
                  <a:pt x="677" y="722"/>
                </a:lnTo>
                <a:lnTo>
                  <a:pt x="677" y="718"/>
                </a:lnTo>
                <a:lnTo>
                  <a:pt x="679" y="716"/>
                </a:lnTo>
                <a:lnTo>
                  <a:pt x="681" y="714"/>
                </a:lnTo>
                <a:lnTo>
                  <a:pt x="681" y="711"/>
                </a:lnTo>
                <a:lnTo>
                  <a:pt x="681" y="709"/>
                </a:lnTo>
                <a:lnTo>
                  <a:pt x="683" y="707"/>
                </a:lnTo>
                <a:lnTo>
                  <a:pt x="685" y="705"/>
                </a:lnTo>
                <a:lnTo>
                  <a:pt x="689" y="703"/>
                </a:lnTo>
                <a:lnTo>
                  <a:pt x="691" y="701"/>
                </a:lnTo>
                <a:lnTo>
                  <a:pt x="697" y="699"/>
                </a:lnTo>
                <a:lnTo>
                  <a:pt x="700" y="699"/>
                </a:lnTo>
                <a:lnTo>
                  <a:pt x="706" y="697"/>
                </a:lnTo>
                <a:lnTo>
                  <a:pt x="712" y="697"/>
                </a:lnTo>
                <a:lnTo>
                  <a:pt x="718" y="697"/>
                </a:lnTo>
                <a:lnTo>
                  <a:pt x="723" y="697"/>
                </a:lnTo>
                <a:lnTo>
                  <a:pt x="731" y="697"/>
                </a:lnTo>
                <a:lnTo>
                  <a:pt x="741" y="697"/>
                </a:lnTo>
                <a:lnTo>
                  <a:pt x="748" y="699"/>
                </a:lnTo>
                <a:lnTo>
                  <a:pt x="758" y="701"/>
                </a:lnTo>
                <a:lnTo>
                  <a:pt x="768" y="703"/>
                </a:lnTo>
                <a:lnTo>
                  <a:pt x="775" y="707"/>
                </a:lnTo>
                <a:lnTo>
                  <a:pt x="785" y="709"/>
                </a:lnTo>
                <a:lnTo>
                  <a:pt x="793" y="711"/>
                </a:lnTo>
                <a:lnTo>
                  <a:pt x="798" y="712"/>
                </a:lnTo>
                <a:lnTo>
                  <a:pt x="806" y="714"/>
                </a:lnTo>
                <a:lnTo>
                  <a:pt x="818" y="716"/>
                </a:lnTo>
                <a:lnTo>
                  <a:pt x="827" y="718"/>
                </a:lnTo>
                <a:lnTo>
                  <a:pt x="835" y="718"/>
                </a:lnTo>
                <a:lnTo>
                  <a:pt x="839" y="718"/>
                </a:lnTo>
                <a:lnTo>
                  <a:pt x="843" y="716"/>
                </a:lnTo>
                <a:lnTo>
                  <a:pt x="844" y="716"/>
                </a:lnTo>
                <a:lnTo>
                  <a:pt x="848" y="714"/>
                </a:lnTo>
                <a:lnTo>
                  <a:pt x="850" y="711"/>
                </a:lnTo>
                <a:lnTo>
                  <a:pt x="852" y="707"/>
                </a:lnTo>
                <a:lnTo>
                  <a:pt x="854" y="703"/>
                </a:lnTo>
                <a:lnTo>
                  <a:pt x="858" y="697"/>
                </a:lnTo>
                <a:lnTo>
                  <a:pt x="860" y="691"/>
                </a:lnTo>
                <a:lnTo>
                  <a:pt x="862" y="686"/>
                </a:lnTo>
                <a:lnTo>
                  <a:pt x="866" y="678"/>
                </a:lnTo>
                <a:lnTo>
                  <a:pt x="867" y="668"/>
                </a:lnTo>
                <a:lnTo>
                  <a:pt x="869" y="659"/>
                </a:lnTo>
                <a:lnTo>
                  <a:pt x="871" y="649"/>
                </a:lnTo>
                <a:lnTo>
                  <a:pt x="875" y="638"/>
                </a:lnTo>
                <a:lnTo>
                  <a:pt x="877" y="626"/>
                </a:lnTo>
                <a:lnTo>
                  <a:pt x="879" y="615"/>
                </a:lnTo>
                <a:lnTo>
                  <a:pt x="881" y="601"/>
                </a:lnTo>
                <a:lnTo>
                  <a:pt x="885" y="586"/>
                </a:lnTo>
                <a:lnTo>
                  <a:pt x="887" y="570"/>
                </a:lnTo>
                <a:lnTo>
                  <a:pt x="890" y="540"/>
                </a:lnTo>
                <a:lnTo>
                  <a:pt x="894" y="509"/>
                </a:lnTo>
                <a:lnTo>
                  <a:pt x="896" y="476"/>
                </a:lnTo>
                <a:lnTo>
                  <a:pt x="898" y="446"/>
                </a:lnTo>
                <a:lnTo>
                  <a:pt x="898" y="415"/>
                </a:lnTo>
                <a:lnTo>
                  <a:pt x="898" y="384"/>
                </a:lnTo>
                <a:lnTo>
                  <a:pt x="900" y="321"/>
                </a:lnTo>
                <a:lnTo>
                  <a:pt x="896" y="305"/>
                </a:lnTo>
                <a:lnTo>
                  <a:pt x="894" y="292"/>
                </a:lnTo>
                <a:lnTo>
                  <a:pt x="892" y="277"/>
                </a:lnTo>
                <a:lnTo>
                  <a:pt x="890" y="263"/>
                </a:lnTo>
                <a:lnTo>
                  <a:pt x="887" y="250"/>
                </a:lnTo>
                <a:lnTo>
                  <a:pt x="885" y="238"/>
                </a:lnTo>
                <a:lnTo>
                  <a:pt x="883" y="227"/>
                </a:lnTo>
                <a:lnTo>
                  <a:pt x="881" y="215"/>
                </a:lnTo>
                <a:lnTo>
                  <a:pt x="877" y="206"/>
                </a:lnTo>
                <a:lnTo>
                  <a:pt x="875" y="196"/>
                </a:lnTo>
                <a:lnTo>
                  <a:pt x="873" y="186"/>
                </a:lnTo>
                <a:lnTo>
                  <a:pt x="869" y="179"/>
                </a:lnTo>
                <a:lnTo>
                  <a:pt x="867" y="171"/>
                </a:lnTo>
                <a:lnTo>
                  <a:pt x="866" y="165"/>
                </a:lnTo>
                <a:lnTo>
                  <a:pt x="864" y="160"/>
                </a:lnTo>
                <a:lnTo>
                  <a:pt x="862" y="156"/>
                </a:lnTo>
                <a:lnTo>
                  <a:pt x="850" y="150"/>
                </a:lnTo>
                <a:lnTo>
                  <a:pt x="839" y="146"/>
                </a:lnTo>
                <a:lnTo>
                  <a:pt x="827" y="142"/>
                </a:lnTo>
                <a:lnTo>
                  <a:pt x="812" y="140"/>
                </a:lnTo>
                <a:lnTo>
                  <a:pt x="798" y="138"/>
                </a:lnTo>
                <a:lnTo>
                  <a:pt x="781" y="138"/>
                </a:lnTo>
                <a:lnTo>
                  <a:pt x="773" y="138"/>
                </a:lnTo>
                <a:lnTo>
                  <a:pt x="764" y="138"/>
                </a:lnTo>
                <a:lnTo>
                  <a:pt x="754" y="140"/>
                </a:lnTo>
                <a:lnTo>
                  <a:pt x="745" y="142"/>
                </a:lnTo>
                <a:lnTo>
                  <a:pt x="739" y="144"/>
                </a:lnTo>
                <a:lnTo>
                  <a:pt x="731" y="146"/>
                </a:lnTo>
                <a:lnTo>
                  <a:pt x="722" y="146"/>
                </a:lnTo>
                <a:lnTo>
                  <a:pt x="712" y="148"/>
                </a:lnTo>
                <a:lnTo>
                  <a:pt x="702" y="150"/>
                </a:lnTo>
                <a:lnTo>
                  <a:pt x="689" y="154"/>
                </a:lnTo>
                <a:lnTo>
                  <a:pt x="677" y="156"/>
                </a:lnTo>
                <a:lnTo>
                  <a:pt x="662" y="158"/>
                </a:lnTo>
                <a:lnTo>
                  <a:pt x="649" y="162"/>
                </a:lnTo>
                <a:lnTo>
                  <a:pt x="631" y="163"/>
                </a:lnTo>
                <a:lnTo>
                  <a:pt x="614" y="167"/>
                </a:lnTo>
                <a:lnTo>
                  <a:pt x="597" y="169"/>
                </a:lnTo>
                <a:lnTo>
                  <a:pt x="578" y="173"/>
                </a:lnTo>
                <a:lnTo>
                  <a:pt x="557" y="177"/>
                </a:lnTo>
                <a:lnTo>
                  <a:pt x="535" y="181"/>
                </a:lnTo>
                <a:lnTo>
                  <a:pt x="512" y="185"/>
                </a:lnTo>
                <a:lnTo>
                  <a:pt x="489" y="188"/>
                </a:lnTo>
                <a:lnTo>
                  <a:pt x="464" y="192"/>
                </a:lnTo>
                <a:lnTo>
                  <a:pt x="438" y="196"/>
                </a:lnTo>
                <a:lnTo>
                  <a:pt x="411" y="200"/>
                </a:lnTo>
                <a:lnTo>
                  <a:pt x="382" y="206"/>
                </a:lnTo>
                <a:lnTo>
                  <a:pt x="353" y="210"/>
                </a:lnTo>
                <a:lnTo>
                  <a:pt x="322" y="215"/>
                </a:lnTo>
                <a:lnTo>
                  <a:pt x="292" y="219"/>
                </a:lnTo>
                <a:lnTo>
                  <a:pt x="259" y="225"/>
                </a:lnTo>
                <a:lnTo>
                  <a:pt x="226" y="229"/>
                </a:lnTo>
                <a:lnTo>
                  <a:pt x="190" y="234"/>
                </a:lnTo>
                <a:lnTo>
                  <a:pt x="155" y="240"/>
                </a:lnTo>
                <a:lnTo>
                  <a:pt x="119" y="246"/>
                </a:lnTo>
                <a:lnTo>
                  <a:pt x="80" y="250"/>
                </a:lnTo>
                <a:lnTo>
                  <a:pt x="40" y="256"/>
                </a:lnTo>
                <a:lnTo>
                  <a:pt x="0" y="261"/>
                </a:lnTo>
                <a:lnTo>
                  <a:pt x="0" y="213"/>
                </a:lnTo>
                <a:lnTo>
                  <a:pt x="0" y="167"/>
                </a:lnTo>
                <a:lnTo>
                  <a:pt x="17" y="165"/>
                </a:lnTo>
                <a:lnTo>
                  <a:pt x="36" y="165"/>
                </a:lnTo>
                <a:lnTo>
                  <a:pt x="57" y="163"/>
                </a:lnTo>
                <a:lnTo>
                  <a:pt x="80" y="162"/>
                </a:lnTo>
                <a:lnTo>
                  <a:pt x="104" y="160"/>
                </a:lnTo>
                <a:lnTo>
                  <a:pt x="128" y="158"/>
                </a:lnTo>
                <a:lnTo>
                  <a:pt x="153" y="154"/>
                </a:lnTo>
                <a:lnTo>
                  <a:pt x="182" y="150"/>
                </a:lnTo>
                <a:lnTo>
                  <a:pt x="211" y="146"/>
                </a:lnTo>
                <a:lnTo>
                  <a:pt x="242" y="142"/>
                </a:lnTo>
                <a:lnTo>
                  <a:pt x="272" y="137"/>
                </a:lnTo>
                <a:lnTo>
                  <a:pt x="305" y="131"/>
                </a:lnTo>
                <a:lnTo>
                  <a:pt x="340" y="127"/>
                </a:lnTo>
                <a:lnTo>
                  <a:pt x="374" y="119"/>
                </a:lnTo>
                <a:lnTo>
                  <a:pt x="413" y="114"/>
                </a:lnTo>
                <a:lnTo>
                  <a:pt x="449" y="108"/>
                </a:lnTo>
                <a:lnTo>
                  <a:pt x="468" y="104"/>
                </a:lnTo>
                <a:lnTo>
                  <a:pt x="487" y="100"/>
                </a:lnTo>
                <a:lnTo>
                  <a:pt x="505" y="96"/>
                </a:lnTo>
                <a:lnTo>
                  <a:pt x="522" y="94"/>
                </a:lnTo>
                <a:lnTo>
                  <a:pt x="539" y="91"/>
                </a:lnTo>
                <a:lnTo>
                  <a:pt x="557" y="87"/>
                </a:lnTo>
                <a:lnTo>
                  <a:pt x="572" y="85"/>
                </a:lnTo>
                <a:lnTo>
                  <a:pt x="587" y="81"/>
                </a:lnTo>
                <a:lnTo>
                  <a:pt x="603" y="77"/>
                </a:lnTo>
                <a:lnTo>
                  <a:pt x="616" y="75"/>
                </a:lnTo>
                <a:lnTo>
                  <a:pt x="629" y="71"/>
                </a:lnTo>
                <a:lnTo>
                  <a:pt x="643" y="67"/>
                </a:lnTo>
                <a:lnTo>
                  <a:pt x="656" y="66"/>
                </a:lnTo>
                <a:lnTo>
                  <a:pt x="668" y="62"/>
                </a:lnTo>
                <a:lnTo>
                  <a:pt x="681" y="60"/>
                </a:lnTo>
                <a:lnTo>
                  <a:pt x="693" y="56"/>
                </a:lnTo>
                <a:lnTo>
                  <a:pt x="702" y="54"/>
                </a:lnTo>
                <a:lnTo>
                  <a:pt x="714" y="50"/>
                </a:lnTo>
                <a:lnTo>
                  <a:pt x="723" y="48"/>
                </a:lnTo>
                <a:lnTo>
                  <a:pt x="733" y="46"/>
                </a:lnTo>
                <a:lnTo>
                  <a:pt x="750" y="41"/>
                </a:lnTo>
                <a:lnTo>
                  <a:pt x="766" y="37"/>
                </a:lnTo>
                <a:lnTo>
                  <a:pt x="779" y="33"/>
                </a:lnTo>
                <a:lnTo>
                  <a:pt x="791" y="29"/>
                </a:lnTo>
                <a:lnTo>
                  <a:pt x="802" y="27"/>
                </a:lnTo>
                <a:lnTo>
                  <a:pt x="810" y="23"/>
                </a:lnTo>
                <a:lnTo>
                  <a:pt x="829" y="16"/>
                </a:lnTo>
                <a:lnTo>
                  <a:pt x="839" y="12"/>
                </a:lnTo>
                <a:lnTo>
                  <a:pt x="848" y="8"/>
                </a:lnTo>
                <a:lnTo>
                  <a:pt x="858" y="4"/>
                </a:lnTo>
                <a:lnTo>
                  <a:pt x="867" y="2"/>
                </a:lnTo>
                <a:lnTo>
                  <a:pt x="877" y="0"/>
                </a:lnTo>
                <a:lnTo>
                  <a:pt x="887" y="0"/>
                </a:lnTo>
                <a:lnTo>
                  <a:pt x="896" y="4"/>
                </a:lnTo>
                <a:lnTo>
                  <a:pt x="908" y="10"/>
                </a:lnTo>
                <a:lnTo>
                  <a:pt x="921" y="16"/>
                </a:lnTo>
                <a:lnTo>
                  <a:pt x="935" y="21"/>
                </a:lnTo>
                <a:lnTo>
                  <a:pt x="950" y="29"/>
                </a:lnTo>
                <a:lnTo>
                  <a:pt x="965" y="37"/>
                </a:lnTo>
                <a:lnTo>
                  <a:pt x="975" y="43"/>
                </a:lnTo>
                <a:lnTo>
                  <a:pt x="983" y="46"/>
                </a:lnTo>
                <a:lnTo>
                  <a:pt x="992" y="54"/>
                </a:lnTo>
                <a:lnTo>
                  <a:pt x="1002" y="60"/>
                </a:lnTo>
                <a:lnTo>
                  <a:pt x="1009" y="66"/>
                </a:lnTo>
                <a:lnTo>
                  <a:pt x="1015" y="71"/>
                </a:lnTo>
                <a:lnTo>
                  <a:pt x="1021" y="77"/>
                </a:lnTo>
                <a:lnTo>
                  <a:pt x="1029" y="83"/>
                </a:lnTo>
                <a:lnTo>
                  <a:pt x="1040" y="91"/>
                </a:lnTo>
                <a:lnTo>
                  <a:pt x="1050" y="98"/>
                </a:lnTo>
                <a:lnTo>
                  <a:pt x="1059" y="104"/>
                </a:lnTo>
                <a:lnTo>
                  <a:pt x="1067" y="110"/>
                </a:lnTo>
                <a:lnTo>
                  <a:pt x="1073" y="114"/>
                </a:lnTo>
                <a:lnTo>
                  <a:pt x="1079" y="119"/>
                </a:lnTo>
                <a:lnTo>
                  <a:pt x="1081" y="121"/>
                </a:lnTo>
                <a:lnTo>
                  <a:pt x="1082" y="123"/>
                </a:lnTo>
                <a:lnTo>
                  <a:pt x="1084" y="127"/>
                </a:lnTo>
                <a:lnTo>
                  <a:pt x="1084" y="129"/>
                </a:lnTo>
                <a:lnTo>
                  <a:pt x="1084" y="137"/>
                </a:lnTo>
                <a:lnTo>
                  <a:pt x="1082" y="142"/>
                </a:lnTo>
                <a:lnTo>
                  <a:pt x="1079" y="150"/>
                </a:lnTo>
                <a:lnTo>
                  <a:pt x="1075" y="156"/>
                </a:lnTo>
                <a:lnTo>
                  <a:pt x="1071" y="162"/>
                </a:lnTo>
                <a:lnTo>
                  <a:pt x="1067" y="167"/>
                </a:lnTo>
                <a:lnTo>
                  <a:pt x="1061" y="171"/>
                </a:lnTo>
                <a:lnTo>
                  <a:pt x="1057" y="179"/>
                </a:lnTo>
                <a:lnTo>
                  <a:pt x="1054" y="188"/>
                </a:lnTo>
                <a:lnTo>
                  <a:pt x="1050" y="198"/>
                </a:lnTo>
                <a:lnTo>
                  <a:pt x="1046" y="210"/>
                </a:lnTo>
                <a:lnTo>
                  <a:pt x="1042" y="223"/>
                </a:lnTo>
                <a:lnTo>
                  <a:pt x="1040" y="238"/>
                </a:lnTo>
                <a:lnTo>
                  <a:pt x="1038" y="256"/>
                </a:lnTo>
                <a:lnTo>
                  <a:pt x="1034" y="275"/>
                </a:lnTo>
                <a:lnTo>
                  <a:pt x="1033" y="294"/>
                </a:lnTo>
                <a:lnTo>
                  <a:pt x="1031" y="317"/>
                </a:lnTo>
                <a:lnTo>
                  <a:pt x="1031" y="340"/>
                </a:lnTo>
                <a:lnTo>
                  <a:pt x="1029" y="365"/>
                </a:lnTo>
                <a:lnTo>
                  <a:pt x="1029" y="392"/>
                </a:lnTo>
                <a:lnTo>
                  <a:pt x="1029" y="421"/>
                </a:lnTo>
                <a:lnTo>
                  <a:pt x="1029" y="451"/>
                </a:lnTo>
                <a:lnTo>
                  <a:pt x="1027" y="484"/>
                </a:lnTo>
                <a:lnTo>
                  <a:pt x="1027" y="517"/>
                </a:lnTo>
                <a:lnTo>
                  <a:pt x="1027" y="545"/>
                </a:lnTo>
                <a:lnTo>
                  <a:pt x="1025" y="574"/>
                </a:lnTo>
                <a:lnTo>
                  <a:pt x="1023" y="603"/>
                </a:lnTo>
                <a:lnTo>
                  <a:pt x="1021" y="628"/>
                </a:lnTo>
                <a:lnTo>
                  <a:pt x="1019" y="653"/>
                </a:lnTo>
                <a:lnTo>
                  <a:pt x="1015" y="676"/>
                </a:lnTo>
                <a:lnTo>
                  <a:pt x="1013" y="699"/>
                </a:lnTo>
                <a:lnTo>
                  <a:pt x="1009" y="720"/>
                </a:lnTo>
                <a:lnTo>
                  <a:pt x="1006" y="739"/>
                </a:lnTo>
                <a:lnTo>
                  <a:pt x="1000" y="758"/>
                </a:lnTo>
                <a:lnTo>
                  <a:pt x="994" y="776"/>
                </a:lnTo>
                <a:lnTo>
                  <a:pt x="988" y="791"/>
                </a:lnTo>
                <a:lnTo>
                  <a:pt x="983" y="806"/>
                </a:lnTo>
                <a:lnTo>
                  <a:pt x="977" y="820"/>
                </a:lnTo>
                <a:lnTo>
                  <a:pt x="969" y="835"/>
                </a:lnTo>
                <a:lnTo>
                  <a:pt x="962" y="849"/>
                </a:lnTo>
                <a:lnTo>
                  <a:pt x="954" y="862"/>
                </a:lnTo>
                <a:lnTo>
                  <a:pt x="948" y="874"/>
                </a:lnTo>
                <a:lnTo>
                  <a:pt x="940" y="885"/>
                </a:lnTo>
                <a:lnTo>
                  <a:pt x="935" y="895"/>
                </a:lnTo>
                <a:lnTo>
                  <a:pt x="927" y="902"/>
                </a:lnTo>
                <a:lnTo>
                  <a:pt x="921" y="910"/>
                </a:lnTo>
                <a:lnTo>
                  <a:pt x="914" y="916"/>
                </a:lnTo>
                <a:lnTo>
                  <a:pt x="908" y="922"/>
                </a:lnTo>
                <a:lnTo>
                  <a:pt x="900" y="925"/>
                </a:lnTo>
                <a:lnTo>
                  <a:pt x="894" y="927"/>
                </a:lnTo>
                <a:lnTo>
                  <a:pt x="889" y="929"/>
                </a:lnTo>
                <a:lnTo>
                  <a:pt x="883" y="929"/>
                </a:lnTo>
                <a:lnTo>
                  <a:pt x="879" y="929"/>
                </a:lnTo>
                <a:lnTo>
                  <a:pt x="873" y="927"/>
                </a:lnTo>
                <a:lnTo>
                  <a:pt x="864" y="927"/>
                </a:lnTo>
                <a:lnTo>
                  <a:pt x="856" y="925"/>
                </a:lnTo>
                <a:lnTo>
                  <a:pt x="850" y="922"/>
                </a:lnTo>
                <a:lnTo>
                  <a:pt x="844" y="918"/>
                </a:lnTo>
                <a:lnTo>
                  <a:pt x="841" y="910"/>
                </a:lnTo>
                <a:lnTo>
                  <a:pt x="839" y="906"/>
                </a:lnTo>
                <a:lnTo>
                  <a:pt x="837" y="902"/>
                </a:lnTo>
                <a:lnTo>
                  <a:pt x="837" y="897"/>
                </a:lnTo>
                <a:lnTo>
                  <a:pt x="835" y="893"/>
                </a:lnTo>
                <a:lnTo>
                  <a:pt x="835" y="887"/>
                </a:lnTo>
                <a:lnTo>
                  <a:pt x="835" y="879"/>
                </a:lnTo>
                <a:lnTo>
                  <a:pt x="829" y="868"/>
                </a:lnTo>
                <a:lnTo>
                  <a:pt x="823" y="854"/>
                </a:lnTo>
                <a:lnTo>
                  <a:pt x="814" y="843"/>
                </a:lnTo>
                <a:lnTo>
                  <a:pt x="804" y="833"/>
                </a:lnTo>
                <a:lnTo>
                  <a:pt x="798" y="828"/>
                </a:lnTo>
                <a:lnTo>
                  <a:pt x="793" y="822"/>
                </a:lnTo>
                <a:lnTo>
                  <a:pt x="787" y="816"/>
                </a:lnTo>
                <a:lnTo>
                  <a:pt x="779" y="810"/>
                </a:lnTo>
                <a:lnTo>
                  <a:pt x="771" y="805"/>
                </a:lnTo>
                <a:lnTo>
                  <a:pt x="764" y="799"/>
                </a:lnTo>
                <a:lnTo>
                  <a:pt x="754" y="791"/>
                </a:lnTo>
                <a:lnTo>
                  <a:pt x="745" y="78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Freeform 200"/>
          <p:cNvSpPr/>
          <p:nvPr/>
        </p:nvSpPr>
        <p:spPr>
          <a:xfrm>
            <a:off x="5500800" y="3397320"/>
            <a:ext cx="156960" cy="720720"/>
          </a:xfrm>
          <a:custGeom>
            <a:avLst/>
            <a:gdLst/>
            <a:ahLst/>
            <a:rect l="l" t="t" r="r" b="b"/>
            <a:pathLst>
              <a:path w="198" h="908">
                <a:moveTo>
                  <a:pt x="18" y="89"/>
                </a:moveTo>
                <a:lnTo>
                  <a:pt x="14" y="75"/>
                </a:lnTo>
                <a:lnTo>
                  <a:pt x="8" y="64"/>
                </a:lnTo>
                <a:lnTo>
                  <a:pt x="4" y="52"/>
                </a:lnTo>
                <a:lnTo>
                  <a:pt x="2" y="43"/>
                </a:lnTo>
                <a:lnTo>
                  <a:pt x="0" y="33"/>
                </a:lnTo>
                <a:lnTo>
                  <a:pt x="0" y="24"/>
                </a:lnTo>
                <a:lnTo>
                  <a:pt x="0" y="18"/>
                </a:lnTo>
                <a:lnTo>
                  <a:pt x="0" y="14"/>
                </a:lnTo>
                <a:lnTo>
                  <a:pt x="2" y="10"/>
                </a:lnTo>
                <a:lnTo>
                  <a:pt x="4" y="4"/>
                </a:lnTo>
                <a:lnTo>
                  <a:pt x="6" y="2"/>
                </a:lnTo>
                <a:lnTo>
                  <a:pt x="8" y="0"/>
                </a:lnTo>
                <a:lnTo>
                  <a:pt x="12" y="0"/>
                </a:lnTo>
                <a:lnTo>
                  <a:pt x="18" y="0"/>
                </a:lnTo>
                <a:lnTo>
                  <a:pt x="23" y="0"/>
                </a:lnTo>
                <a:lnTo>
                  <a:pt x="31" y="0"/>
                </a:lnTo>
                <a:lnTo>
                  <a:pt x="43" y="2"/>
                </a:lnTo>
                <a:lnTo>
                  <a:pt x="52" y="4"/>
                </a:lnTo>
                <a:lnTo>
                  <a:pt x="66" y="6"/>
                </a:lnTo>
                <a:lnTo>
                  <a:pt x="81" y="10"/>
                </a:lnTo>
                <a:lnTo>
                  <a:pt x="96" y="14"/>
                </a:lnTo>
                <a:lnTo>
                  <a:pt x="114" y="18"/>
                </a:lnTo>
                <a:lnTo>
                  <a:pt x="133" y="22"/>
                </a:lnTo>
                <a:lnTo>
                  <a:pt x="152" y="27"/>
                </a:lnTo>
                <a:lnTo>
                  <a:pt x="175" y="33"/>
                </a:lnTo>
                <a:lnTo>
                  <a:pt x="198" y="41"/>
                </a:lnTo>
                <a:lnTo>
                  <a:pt x="196" y="64"/>
                </a:lnTo>
                <a:lnTo>
                  <a:pt x="196" y="89"/>
                </a:lnTo>
                <a:lnTo>
                  <a:pt x="194" y="112"/>
                </a:lnTo>
                <a:lnTo>
                  <a:pt x="192" y="135"/>
                </a:lnTo>
                <a:lnTo>
                  <a:pt x="192" y="156"/>
                </a:lnTo>
                <a:lnTo>
                  <a:pt x="190" y="177"/>
                </a:lnTo>
                <a:lnTo>
                  <a:pt x="189" y="198"/>
                </a:lnTo>
                <a:lnTo>
                  <a:pt x="189" y="219"/>
                </a:lnTo>
                <a:lnTo>
                  <a:pt x="187" y="239"/>
                </a:lnTo>
                <a:lnTo>
                  <a:pt x="187" y="258"/>
                </a:lnTo>
                <a:lnTo>
                  <a:pt x="185" y="277"/>
                </a:lnTo>
                <a:lnTo>
                  <a:pt x="185" y="294"/>
                </a:lnTo>
                <a:lnTo>
                  <a:pt x="183" y="313"/>
                </a:lnTo>
                <a:lnTo>
                  <a:pt x="181" y="331"/>
                </a:lnTo>
                <a:lnTo>
                  <a:pt x="181" y="346"/>
                </a:lnTo>
                <a:lnTo>
                  <a:pt x="179" y="363"/>
                </a:lnTo>
                <a:lnTo>
                  <a:pt x="179" y="379"/>
                </a:lnTo>
                <a:lnTo>
                  <a:pt x="179" y="394"/>
                </a:lnTo>
                <a:lnTo>
                  <a:pt x="177" y="407"/>
                </a:lnTo>
                <a:lnTo>
                  <a:pt x="177" y="423"/>
                </a:lnTo>
                <a:lnTo>
                  <a:pt x="175" y="436"/>
                </a:lnTo>
                <a:lnTo>
                  <a:pt x="175" y="450"/>
                </a:lnTo>
                <a:lnTo>
                  <a:pt x="175" y="461"/>
                </a:lnTo>
                <a:lnTo>
                  <a:pt x="173" y="473"/>
                </a:lnTo>
                <a:lnTo>
                  <a:pt x="173" y="484"/>
                </a:lnTo>
                <a:lnTo>
                  <a:pt x="173" y="496"/>
                </a:lnTo>
                <a:lnTo>
                  <a:pt x="173" y="507"/>
                </a:lnTo>
                <a:lnTo>
                  <a:pt x="173" y="517"/>
                </a:lnTo>
                <a:lnTo>
                  <a:pt x="171" y="526"/>
                </a:lnTo>
                <a:lnTo>
                  <a:pt x="171" y="536"/>
                </a:lnTo>
                <a:lnTo>
                  <a:pt x="171" y="544"/>
                </a:lnTo>
                <a:lnTo>
                  <a:pt x="171" y="551"/>
                </a:lnTo>
                <a:lnTo>
                  <a:pt x="167" y="582"/>
                </a:lnTo>
                <a:lnTo>
                  <a:pt x="162" y="613"/>
                </a:lnTo>
                <a:lnTo>
                  <a:pt x="158" y="642"/>
                </a:lnTo>
                <a:lnTo>
                  <a:pt x="152" y="670"/>
                </a:lnTo>
                <a:lnTo>
                  <a:pt x="148" y="699"/>
                </a:lnTo>
                <a:lnTo>
                  <a:pt x="142" y="730"/>
                </a:lnTo>
                <a:lnTo>
                  <a:pt x="139" y="759"/>
                </a:lnTo>
                <a:lnTo>
                  <a:pt x="133" y="789"/>
                </a:lnTo>
                <a:lnTo>
                  <a:pt x="131" y="805"/>
                </a:lnTo>
                <a:lnTo>
                  <a:pt x="129" y="818"/>
                </a:lnTo>
                <a:lnTo>
                  <a:pt x="125" y="832"/>
                </a:lnTo>
                <a:lnTo>
                  <a:pt x="121" y="843"/>
                </a:lnTo>
                <a:lnTo>
                  <a:pt x="119" y="855"/>
                </a:lnTo>
                <a:lnTo>
                  <a:pt x="116" y="864"/>
                </a:lnTo>
                <a:lnTo>
                  <a:pt x="112" y="872"/>
                </a:lnTo>
                <a:lnTo>
                  <a:pt x="108" y="880"/>
                </a:lnTo>
                <a:lnTo>
                  <a:pt x="104" y="887"/>
                </a:lnTo>
                <a:lnTo>
                  <a:pt x="100" y="893"/>
                </a:lnTo>
                <a:lnTo>
                  <a:pt x="96" y="897"/>
                </a:lnTo>
                <a:lnTo>
                  <a:pt x="94" y="901"/>
                </a:lnTo>
                <a:lnTo>
                  <a:pt x="91" y="905"/>
                </a:lnTo>
                <a:lnTo>
                  <a:pt x="87" y="907"/>
                </a:lnTo>
                <a:lnTo>
                  <a:pt x="85" y="908"/>
                </a:lnTo>
                <a:lnTo>
                  <a:pt x="83" y="908"/>
                </a:lnTo>
                <a:lnTo>
                  <a:pt x="79" y="908"/>
                </a:lnTo>
                <a:lnTo>
                  <a:pt x="77" y="907"/>
                </a:lnTo>
                <a:lnTo>
                  <a:pt x="73" y="905"/>
                </a:lnTo>
                <a:lnTo>
                  <a:pt x="70" y="903"/>
                </a:lnTo>
                <a:lnTo>
                  <a:pt x="68" y="899"/>
                </a:lnTo>
                <a:lnTo>
                  <a:pt x="64" y="895"/>
                </a:lnTo>
                <a:lnTo>
                  <a:pt x="60" y="889"/>
                </a:lnTo>
                <a:lnTo>
                  <a:pt x="56" y="883"/>
                </a:lnTo>
                <a:lnTo>
                  <a:pt x="52" y="878"/>
                </a:lnTo>
                <a:lnTo>
                  <a:pt x="48" y="870"/>
                </a:lnTo>
                <a:lnTo>
                  <a:pt x="45" y="862"/>
                </a:lnTo>
                <a:lnTo>
                  <a:pt x="43" y="853"/>
                </a:lnTo>
                <a:lnTo>
                  <a:pt x="39" y="845"/>
                </a:lnTo>
                <a:lnTo>
                  <a:pt x="37" y="835"/>
                </a:lnTo>
                <a:lnTo>
                  <a:pt x="33" y="824"/>
                </a:lnTo>
                <a:lnTo>
                  <a:pt x="31" y="814"/>
                </a:lnTo>
                <a:lnTo>
                  <a:pt x="25" y="803"/>
                </a:lnTo>
                <a:lnTo>
                  <a:pt x="22" y="791"/>
                </a:lnTo>
                <a:lnTo>
                  <a:pt x="20" y="778"/>
                </a:lnTo>
                <a:lnTo>
                  <a:pt x="16" y="766"/>
                </a:lnTo>
                <a:lnTo>
                  <a:pt x="14" y="755"/>
                </a:lnTo>
                <a:lnTo>
                  <a:pt x="12" y="743"/>
                </a:lnTo>
                <a:lnTo>
                  <a:pt x="10" y="730"/>
                </a:lnTo>
                <a:lnTo>
                  <a:pt x="10" y="718"/>
                </a:lnTo>
                <a:lnTo>
                  <a:pt x="10" y="693"/>
                </a:lnTo>
                <a:lnTo>
                  <a:pt x="10" y="668"/>
                </a:lnTo>
                <a:lnTo>
                  <a:pt x="14" y="645"/>
                </a:lnTo>
                <a:lnTo>
                  <a:pt x="18" y="622"/>
                </a:lnTo>
                <a:lnTo>
                  <a:pt x="20" y="611"/>
                </a:lnTo>
                <a:lnTo>
                  <a:pt x="22" y="599"/>
                </a:lnTo>
                <a:lnTo>
                  <a:pt x="25" y="586"/>
                </a:lnTo>
                <a:lnTo>
                  <a:pt x="27" y="573"/>
                </a:lnTo>
                <a:lnTo>
                  <a:pt x="29" y="557"/>
                </a:lnTo>
                <a:lnTo>
                  <a:pt x="31" y="542"/>
                </a:lnTo>
                <a:lnTo>
                  <a:pt x="35" y="525"/>
                </a:lnTo>
                <a:lnTo>
                  <a:pt x="37" y="507"/>
                </a:lnTo>
                <a:lnTo>
                  <a:pt x="39" y="488"/>
                </a:lnTo>
                <a:lnTo>
                  <a:pt x="43" y="469"/>
                </a:lnTo>
                <a:lnTo>
                  <a:pt x="45" y="450"/>
                </a:lnTo>
                <a:lnTo>
                  <a:pt x="47" y="429"/>
                </a:lnTo>
                <a:lnTo>
                  <a:pt x="48" y="407"/>
                </a:lnTo>
                <a:lnTo>
                  <a:pt x="52" y="384"/>
                </a:lnTo>
                <a:lnTo>
                  <a:pt x="54" y="361"/>
                </a:lnTo>
                <a:lnTo>
                  <a:pt x="56" y="338"/>
                </a:lnTo>
                <a:lnTo>
                  <a:pt x="56" y="313"/>
                </a:lnTo>
                <a:lnTo>
                  <a:pt x="56" y="290"/>
                </a:lnTo>
                <a:lnTo>
                  <a:pt x="54" y="269"/>
                </a:lnTo>
                <a:lnTo>
                  <a:pt x="54" y="248"/>
                </a:lnTo>
                <a:lnTo>
                  <a:pt x="52" y="229"/>
                </a:lnTo>
                <a:lnTo>
                  <a:pt x="50" y="212"/>
                </a:lnTo>
                <a:lnTo>
                  <a:pt x="48" y="194"/>
                </a:lnTo>
                <a:lnTo>
                  <a:pt x="47" y="177"/>
                </a:lnTo>
                <a:lnTo>
                  <a:pt x="45" y="162"/>
                </a:lnTo>
                <a:lnTo>
                  <a:pt x="41" y="148"/>
                </a:lnTo>
                <a:lnTo>
                  <a:pt x="39" y="135"/>
                </a:lnTo>
                <a:lnTo>
                  <a:pt x="35" y="123"/>
                </a:lnTo>
                <a:lnTo>
                  <a:pt x="31" y="114"/>
                </a:lnTo>
                <a:lnTo>
                  <a:pt x="27" y="104"/>
                </a:lnTo>
                <a:lnTo>
                  <a:pt x="22" y="95"/>
                </a:lnTo>
                <a:lnTo>
                  <a:pt x="18" y="8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Freeform 201"/>
          <p:cNvSpPr/>
          <p:nvPr/>
        </p:nvSpPr>
        <p:spPr>
          <a:xfrm>
            <a:off x="6054840" y="3516480"/>
            <a:ext cx="171360" cy="237960"/>
          </a:xfrm>
          <a:custGeom>
            <a:avLst/>
            <a:gdLst/>
            <a:ahLst/>
            <a:rect l="l" t="t" r="r" b="b"/>
            <a:pathLst>
              <a:path w="217" h="302">
                <a:moveTo>
                  <a:pt x="0" y="10"/>
                </a:moveTo>
                <a:lnTo>
                  <a:pt x="4" y="6"/>
                </a:lnTo>
                <a:lnTo>
                  <a:pt x="10" y="2"/>
                </a:lnTo>
                <a:lnTo>
                  <a:pt x="15" y="0"/>
                </a:lnTo>
                <a:lnTo>
                  <a:pt x="21" y="0"/>
                </a:lnTo>
                <a:lnTo>
                  <a:pt x="29" y="0"/>
                </a:lnTo>
                <a:lnTo>
                  <a:pt x="38" y="2"/>
                </a:lnTo>
                <a:lnTo>
                  <a:pt x="44" y="4"/>
                </a:lnTo>
                <a:lnTo>
                  <a:pt x="50" y="6"/>
                </a:lnTo>
                <a:lnTo>
                  <a:pt x="56" y="8"/>
                </a:lnTo>
                <a:lnTo>
                  <a:pt x="63" y="10"/>
                </a:lnTo>
                <a:lnTo>
                  <a:pt x="77" y="17"/>
                </a:lnTo>
                <a:lnTo>
                  <a:pt x="90" y="27"/>
                </a:lnTo>
                <a:lnTo>
                  <a:pt x="102" y="37"/>
                </a:lnTo>
                <a:lnTo>
                  <a:pt x="115" y="46"/>
                </a:lnTo>
                <a:lnTo>
                  <a:pt x="127" y="56"/>
                </a:lnTo>
                <a:lnTo>
                  <a:pt x="140" y="67"/>
                </a:lnTo>
                <a:lnTo>
                  <a:pt x="152" y="79"/>
                </a:lnTo>
                <a:lnTo>
                  <a:pt x="167" y="92"/>
                </a:lnTo>
                <a:lnTo>
                  <a:pt x="173" y="100"/>
                </a:lnTo>
                <a:lnTo>
                  <a:pt x="179" y="106"/>
                </a:lnTo>
                <a:lnTo>
                  <a:pt x="184" y="113"/>
                </a:lnTo>
                <a:lnTo>
                  <a:pt x="190" y="119"/>
                </a:lnTo>
                <a:lnTo>
                  <a:pt x="196" y="127"/>
                </a:lnTo>
                <a:lnTo>
                  <a:pt x="200" y="133"/>
                </a:lnTo>
                <a:lnTo>
                  <a:pt x="204" y="140"/>
                </a:lnTo>
                <a:lnTo>
                  <a:pt x="205" y="146"/>
                </a:lnTo>
                <a:lnTo>
                  <a:pt x="211" y="160"/>
                </a:lnTo>
                <a:lnTo>
                  <a:pt x="215" y="173"/>
                </a:lnTo>
                <a:lnTo>
                  <a:pt x="217" y="186"/>
                </a:lnTo>
                <a:lnTo>
                  <a:pt x="217" y="200"/>
                </a:lnTo>
                <a:lnTo>
                  <a:pt x="217" y="217"/>
                </a:lnTo>
                <a:lnTo>
                  <a:pt x="215" y="232"/>
                </a:lnTo>
                <a:lnTo>
                  <a:pt x="213" y="248"/>
                </a:lnTo>
                <a:lnTo>
                  <a:pt x="209" y="261"/>
                </a:lnTo>
                <a:lnTo>
                  <a:pt x="205" y="273"/>
                </a:lnTo>
                <a:lnTo>
                  <a:pt x="204" y="277"/>
                </a:lnTo>
                <a:lnTo>
                  <a:pt x="202" y="282"/>
                </a:lnTo>
                <a:lnTo>
                  <a:pt x="200" y="286"/>
                </a:lnTo>
                <a:lnTo>
                  <a:pt x="196" y="290"/>
                </a:lnTo>
                <a:lnTo>
                  <a:pt x="194" y="292"/>
                </a:lnTo>
                <a:lnTo>
                  <a:pt x="192" y="296"/>
                </a:lnTo>
                <a:lnTo>
                  <a:pt x="186" y="298"/>
                </a:lnTo>
                <a:lnTo>
                  <a:pt x="182" y="302"/>
                </a:lnTo>
                <a:lnTo>
                  <a:pt x="177" y="302"/>
                </a:lnTo>
                <a:lnTo>
                  <a:pt x="171" y="302"/>
                </a:lnTo>
                <a:lnTo>
                  <a:pt x="163" y="300"/>
                </a:lnTo>
                <a:lnTo>
                  <a:pt x="157" y="296"/>
                </a:lnTo>
                <a:lnTo>
                  <a:pt x="150" y="292"/>
                </a:lnTo>
                <a:lnTo>
                  <a:pt x="144" y="284"/>
                </a:lnTo>
                <a:lnTo>
                  <a:pt x="136" y="277"/>
                </a:lnTo>
                <a:lnTo>
                  <a:pt x="129" y="267"/>
                </a:lnTo>
                <a:lnTo>
                  <a:pt x="121" y="256"/>
                </a:lnTo>
                <a:lnTo>
                  <a:pt x="111" y="244"/>
                </a:lnTo>
                <a:lnTo>
                  <a:pt x="104" y="229"/>
                </a:lnTo>
                <a:lnTo>
                  <a:pt x="94" y="213"/>
                </a:lnTo>
                <a:lnTo>
                  <a:pt x="86" y="196"/>
                </a:lnTo>
                <a:lnTo>
                  <a:pt x="77" y="177"/>
                </a:lnTo>
                <a:lnTo>
                  <a:pt x="67" y="158"/>
                </a:lnTo>
                <a:lnTo>
                  <a:pt x="58" y="142"/>
                </a:lnTo>
                <a:lnTo>
                  <a:pt x="50" y="127"/>
                </a:lnTo>
                <a:lnTo>
                  <a:pt x="42" y="112"/>
                </a:lnTo>
                <a:lnTo>
                  <a:pt x="37" y="98"/>
                </a:lnTo>
                <a:lnTo>
                  <a:pt x="29" y="85"/>
                </a:lnTo>
                <a:lnTo>
                  <a:pt x="23" y="73"/>
                </a:lnTo>
                <a:lnTo>
                  <a:pt x="19" y="62"/>
                </a:lnTo>
                <a:lnTo>
                  <a:pt x="14" y="52"/>
                </a:lnTo>
                <a:lnTo>
                  <a:pt x="10" y="42"/>
                </a:lnTo>
                <a:lnTo>
                  <a:pt x="8" y="35"/>
                </a:lnTo>
                <a:lnTo>
                  <a:pt x="4" y="27"/>
                </a:lnTo>
                <a:lnTo>
                  <a:pt x="2" y="21"/>
                </a:lnTo>
                <a:lnTo>
                  <a:pt x="0" y="16"/>
                </a:lnTo>
                <a:lnTo>
                  <a:pt x="0" y="12"/>
                </a:lnTo>
                <a:lnTo>
                  <a:pt x="0" y="1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Freeform 202"/>
          <p:cNvSpPr/>
          <p:nvPr/>
        </p:nvSpPr>
        <p:spPr>
          <a:xfrm>
            <a:off x="5681520" y="3581280"/>
            <a:ext cx="195480" cy="347760"/>
          </a:xfrm>
          <a:custGeom>
            <a:avLst/>
            <a:gdLst/>
            <a:ahLst/>
            <a:rect l="l" t="t" r="r" b="b"/>
            <a:pathLst>
              <a:path w="246" h="437">
                <a:moveTo>
                  <a:pt x="8" y="437"/>
                </a:moveTo>
                <a:lnTo>
                  <a:pt x="4" y="428"/>
                </a:lnTo>
                <a:lnTo>
                  <a:pt x="0" y="418"/>
                </a:lnTo>
                <a:lnTo>
                  <a:pt x="0" y="412"/>
                </a:lnTo>
                <a:lnTo>
                  <a:pt x="0" y="405"/>
                </a:lnTo>
                <a:lnTo>
                  <a:pt x="0" y="399"/>
                </a:lnTo>
                <a:lnTo>
                  <a:pt x="2" y="391"/>
                </a:lnTo>
                <a:lnTo>
                  <a:pt x="2" y="384"/>
                </a:lnTo>
                <a:lnTo>
                  <a:pt x="4" y="376"/>
                </a:lnTo>
                <a:lnTo>
                  <a:pt x="8" y="368"/>
                </a:lnTo>
                <a:lnTo>
                  <a:pt x="11" y="359"/>
                </a:lnTo>
                <a:lnTo>
                  <a:pt x="15" y="349"/>
                </a:lnTo>
                <a:lnTo>
                  <a:pt x="21" y="340"/>
                </a:lnTo>
                <a:lnTo>
                  <a:pt x="27" y="330"/>
                </a:lnTo>
                <a:lnTo>
                  <a:pt x="32" y="318"/>
                </a:lnTo>
                <a:lnTo>
                  <a:pt x="42" y="297"/>
                </a:lnTo>
                <a:lnTo>
                  <a:pt x="52" y="276"/>
                </a:lnTo>
                <a:lnTo>
                  <a:pt x="61" y="255"/>
                </a:lnTo>
                <a:lnTo>
                  <a:pt x="69" y="236"/>
                </a:lnTo>
                <a:lnTo>
                  <a:pt x="79" y="215"/>
                </a:lnTo>
                <a:lnTo>
                  <a:pt x="84" y="196"/>
                </a:lnTo>
                <a:lnTo>
                  <a:pt x="92" y="174"/>
                </a:lnTo>
                <a:lnTo>
                  <a:pt x="98" y="153"/>
                </a:lnTo>
                <a:lnTo>
                  <a:pt x="102" y="136"/>
                </a:lnTo>
                <a:lnTo>
                  <a:pt x="103" y="119"/>
                </a:lnTo>
                <a:lnTo>
                  <a:pt x="105" y="105"/>
                </a:lnTo>
                <a:lnTo>
                  <a:pt x="105" y="92"/>
                </a:lnTo>
                <a:lnTo>
                  <a:pt x="105" y="80"/>
                </a:lnTo>
                <a:lnTo>
                  <a:pt x="105" y="75"/>
                </a:lnTo>
                <a:lnTo>
                  <a:pt x="103" y="71"/>
                </a:lnTo>
                <a:lnTo>
                  <a:pt x="103" y="67"/>
                </a:lnTo>
                <a:lnTo>
                  <a:pt x="102" y="63"/>
                </a:lnTo>
                <a:lnTo>
                  <a:pt x="100" y="59"/>
                </a:lnTo>
                <a:lnTo>
                  <a:pt x="98" y="57"/>
                </a:lnTo>
                <a:lnTo>
                  <a:pt x="92" y="55"/>
                </a:lnTo>
                <a:lnTo>
                  <a:pt x="88" y="52"/>
                </a:lnTo>
                <a:lnTo>
                  <a:pt x="84" y="50"/>
                </a:lnTo>
                <a:lnTo>
                  <a:pt x="82" y="46"/>
                </a:lnTo>
                <a:lnTo>
                  <a:pt x="80" y="44"/>
                </a:lnTo>
                <a:lnTo>
                  <a:pt x="79" y="40"/>
                </a:lnTo>
                <a:lnTo>
                  <a:pt x="77" y="36"/>
                </a:lnTo>
                <a:lnTo>
                  <a:pt x="77" y="34"/>
                </a:lnTo>
                <a:lnTo>
                  <a:pt x="77" y="27"/>
                </a:lnTo>
                <a:lnTo>
                  <a:pt x="77" y="21"/>
                </a:lnTo>
                <a:lnTo>
                  <a:pt x="80" y="15"/>
                </a:lnTo>
                <a:lnTo>
                  <a:pt x="84" y="9"/>
                </a:lnTo>
                <a:lnTo>
                  <a:pt x="90" y="6"/>
                </a:lnTo>
                <a:lnTo>
                  <a:pt x="96" y="4"/>
                </a:lnTo>
                <a:lnTo>
                  <a:pt x="103" y="2"/>
                </a:lnTo>
                <a:lnTo>
                  <a:pt x="113" y="0"/>
                </a:lnTo>
                <a:lnTo>
                  <a:pt x="123" y="2"/>
                </a:lnTo>
                <a:lnTo>
                  <a:pt x="134" y="4"/>
                </a:lnTo>
                <a:lnTo>
                  <a:pt x="148" y="6"/>
                </a:lnTo>
                <a:lnTo>
                  <a:pt x="161" y="9"/>
                </a:lnTo>
                <a:lnTo>
                  <a:pt x="175" y="15"/>
                </a:lnTo>
                <a:lnTo>
                  <a:pt x="188" y="21"/>
                </a:lnTo>
                <a:lnTo>
                  <a:pt x="199" y="29"/>
                </a:lnTo>
                <a:lnTo>
                  <a:pt x="209" y="34"/>
                </a:lnTo>
                <a:lnTo>
                  <a:pt x="219" y="44"/>
                </a:lnTo>
                <a:lnTo>
                  <a:pt x="226" y="52"/>
                </a:lnTo>
                <a:lnTo>
                  <a:pt x="232" y="59"/>
                </a:lnTo>
                <a:lnTo>
                  <a:pt x="238" y="69"/>
                </a:lnTo>
                <a:lnTo>
                  <a:pt x="242" y="82"/>
                </a:lnTo>
                <a:lnTo>
                  <a:pt x="246" y="96"/>
                </a:lnTo>
                <a:lnTo>
                  <a:pt x="246" y="103"/>
                </a:lnTo>
                <a:lnTo>
                  <a:pt x="246" y="109"/>
                </a:lnTo>
                <a:lnTo>
                  <a:pt x="246" y="117"/>
                </a:lnTo>
                <a:lnTo>
                  <a:pt x="244" y="125"/>
                </a:lnTo>
                <a:lnTo>
                  <a:pt x="244" y="130"/>
                </a:lnTo>
                <a:lnTo>
                  <a:pt x="240" y="138"/>
                </a:lnTo>
                <a:lnTo>
                  <a:pt x="238" y="146"/>
                </a:lnTo>
                <a:lnTo>
                  <a:pt x="234" y="153"/>
                </a:lnTo>
                <a:lnTo>
                  <a:pt x="230" y="163"/>
                </a:lnTo>
                <a:lnTo>
                  <a:pt x="224" y="171"/>
                </a:lnTo>
                <a:lnTo>
                  <a:pt x="219" y="178"/>
                </a:lnTo>
                <a:lnTo>
                  <a:pt x="213" y="188"/>
                </a:lnTo>
                <a:lnTo>
                  <a:pt x="205" y="199"/>
                </a:lnTo>
                <a:lnTo>
                  <a:pt x="198" y="211"/>
                </a:lnTo>
                <a:lnTo>
                  <a:pt x="188" y="224"/>
                </a:lnTo>
                <a:lnTo>
                  <a:pt x="178" y="238"/>
                </a:lnTo>
                <a:lnTo>
                  <a:pt x="169" y="251"/>
                </a:lnTo>
                <a:lnTo>
                  <a:pt x="157" y="265"/>
                </a:lnTo>
                <a:lnTo>
                  <a:pt x="146" y="280"/>
                </a:lnTo>
                <a:lnTo>
                  <a:pt x="134" y="295"/>
                </a:lnTo>
                <a:lnTo>
                  <a:pt x="121" y="311"/>
                </a:lnTo>
                <a:lnTo>
                  <a:pt x="107" y="326"/>
                </a:lnTo>
                <a:lnTo>
                  <a:pt x="92" y="343"/>
                </a:lnTo>
                <a:lnTo>
                  <a:pt x="77" y="361"/>
                </a:lnTo>
                <a:lnTo>
                  <a:pt x="61" y="380"/>
                </a:lnTo>
                <a:lnTo>
                  <a:pt x="44" y="399"/>
                </a:lnTo>
                <a:lnTo>
                  <a:pt x="25" y="418"/>
                </a:lnTo>
                <a:lnTo>
                  <a:pt x="8" y="43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Freeform 203"/>
          <p:cNvSpPr/>
          <p:nvPr/>
        </p:nvSpPr>
        <p:spPr>
          <a:xfrm>
            <a:off x="5875200" y="2836800"/>
            <a:ext cx="187560" cy="1195560"/>
          </a:xfrm>
          <a:custGeom>
            <a:avLst/>
            <a:gdLst/>
            <a:ahLst/>
            <a:rect l="l" t="t" r="r" b="b"/>
            <a:pathLst>
              <a:path w="236" h="1507">
                <a:moveTo>
                  <a:pt x="226" y="69"/>
                </a:moveTo>
                <a:lnTo>
                  <a:pt x="230" y="77"/>
                </a:lnTo>
                <a:lnTo>
                  <a:pt x="232" y="86"/>
                </a:lnTo>
                <a:lnTo>
                  <a:pt x="234" y="96"/>
                </a:lnTo>
                <a:lnTo>
                  <a:pt x="236" y="104"/>
                </a:lnTo>
                <a:lnTo>
                  <a:pt x="234" y="113"/>
                </a:lnTo>
                <a:lnTo>
                  <a:pt x="232" y="123"/>
                </a:lnTo>
                <a:lnTo>
                  <a:pt x="230" y="131"/>
                </a:lnTo>
                <a:lnTo>
                  <a:pt x="226" y="140"/>
                </a:lnTo>
                <a:lnTo>
                  <a:pt x="224" y="142"/>
                </a:lnTo>
                <a:lnTo>
                  <a:pt x="222" y="146"/>
                </a:lnTo>
                <a:lnTo>
                  <a:pt x="222" y="150"/>
                </a:lnTo>
                <a:lnTo>
                  <a:pt x="220" y="156"/>
                </a:lnTo>
                <a:lnTo>
                  <a:pt x="220" y="159"/>
                </a:lnTo>
                <a:lnTo>
                  <a:pt x="218" y="165"/>
                </a:lnTo>
                <a:lnTo>
                  <a:pt x="218" y="173"/>
                </a:lnTo>
                <a:lnTo>
                  <a:pt x="218" y="181"/>
                </a:lnTo>
                <a:lnTo>
                  <a:pt x="217" y="188"/>
                </a:lnTo>
                <a:lnTo>
                  <a:pt x="217" y="198"/>
                </a:lnTo>
                <a:lnTo>
                  <a:pt x="217" y="207"/>
                </a:lnTo>
                <a:lnTo>
                  <a:pt x="215" y="217"/>
                </a:lnTo>
                <a:lnTo>
                  <a:pt x="215" y="229"/>
                </a:lnTo>
                <a:lnTo>
                  <a:pt x="215" y="240"/>
                </a:lnTo>
                <a:lnTo>
                  <a:pt x="213" y="252"/>
                </a:lnTo>
                <a:lnTo>
                  <a:pt x="213" y="265"/>
                </a:lnTo>
                <a:lnTo>
                  <a:pt x="213" y="278"/>
                </a:lnTo>
                <a:lnTo>
                  <a:pt x="211" y="294"/>
                </a:lnTo>
                <a:lnTo>
                  <a:pt x="211" y="309"/>
                </a:lnTo>
                <a:lnTo>
                  <a:pt x="211" y="325"/>
                </a:lnTo>
                <a:lnTo>
                  <a:pt x="209" y="340"/>
                </a:lnTo>
                <a:lnTo>
                  <a:pt x="209" y="357"/>
                </a:lnTo>
                <a:lnTo>
                  <a:pt x="209" y="376"/>
                </a:lnTo>
                <a:lnTo>
                  <a:pt x="207" y="394"/>
                </a:lnTo>
                <a:lnTo>
                  <a:pt x="207" y="413"/>
                </a:lnTo>
                <a:lnTo>
                  <a:pt x="205" y="434"/>
                </a:lnTo>
                <a:lnTo>
                  <a:pt x="205" y="455"/>
                </a:lnTo>
                <a:lnTo>
                  <a:pt x="203" y="476"/>
                </a:lnTo>
                <a:lnTo>
                  <a:pt x="203" y="497"/>
                </a:lnTo>
                <a:lnTo>
                  <a:pt x="201" y="520"/>
                </a:lnTo>
                <a:lnTo>
                  <a:pt x="201" y="543"/>
                </a:lnTo>
                <a:lnTo>
                  <a:pt x="199" y="568"/>
                </a:lnTo>
                <a:lnTo>
                  <a:pt x="199" y="593"/>
                </a:lnTo>
                <a:lnTo>
                  <a:pt x="197" y="618"/>
                </a:lnTo>
                <a:lnTo>
                  <a:pt x="195" y="643"/>
                </a:lnTo>
                <a:lnTo>
                  <a:pt x="195" y="666"/>
                </a:lnTo>
                <a:lnTo>
                  <a:pt x="193" y="691"/>
                </a:lnTo>
                <a:lnTo>
                  <a:pt x="193" y="714"/>
                </a:lnTo>
                <a:lnTo>
                  <a:pt x="192" y="735"/>
                </a:lnTo>
                <a:lnTo>
                  <a:pt x="190" y="758"/>
                </a:lnTo>
                <a:lnTo>
                  <a:pt x="190" y="779"/>
                </a:lnTo>
                <a:lnTo>
                  <a:pt x="188" y="801"/>
                </a:lnTo>
                <a:lnTo>
                  <a:pt x="188" y="822"/>
                </a:lnTo>
                <a:lnTo>
                  <a:pt x="186" y="841"/>
                </a:lnTo>
                <a:lnTo>
                  <a:pt x="184" y="860"/>
                </a:lnTo>
                <a:lnTo>
                  <a:pt x="184" y="879"/>
                </a:lnTo>
                <a:lnTo>
                  <a:pt x="182" y="898"/>
                </a:lnTo>
                <a:lnTo>
                  <a:pt x="182" y="916"/>
                </a:lnTo>
                <a:lnTo>
                  <a:pt x="182" y="933"/>
                </a:lnTo>
                <a:lnTo>
                  <a:pt x="180" y="950"/>
                </a:lnTo>
                <a:lnTo>
                  <a:pt x="180" y="968"/>
                </a:lnTo>
                <a:lnTo>
                  <a:pt x="178" y="983"/>
                </a:lnTo>
                <a:lnTo>
                  <a:pt x="178" y="998"/>
                </a:lnTo>
                <a:lnTo>
                  <a:pt x="178" y="1014"/>
                </a:lnTo>
                <a:lnTo>
                  <a:pt x="176" y="1029"/>
                </a:lnTo>
                <a:lnTo>
                  <a:pt x="176" y="1042"/>
                </a:lnTo>
                <a:lnTo>
                  <a:pt x="176" y="1056"/>
                </a:lnTo>
                <a:lnTo>
                  <a:pt x="174" y="1069"/>
                </a:lnTo>
                <a:lnTo>
                  <a:pt x="174" y="1083"/>
                </a:lnTo>
                <a:lnTo>
                  <a:pt x="174" y="1094"/>
                </a:lnTo>
                <a:lnTo>
                  <a:pt x="174" y="1106"/>
                </a:lnTo>
                <a:lnTo>
                  <a:pt x="174" y="1117"/>
                </a:lnTo>
                <a:lnTo>
                  <a:pt x="174" y="1129"/>
                </a:lnTo>
                <a:lnTo>
                  <a:pt x="174" y="1138"/>
                </a:lnTo>
                <a:lnTo>
                  <a:pt x="174" y="1161"/>
                </a:lnTo>
                <a:lnTo>
                  <a:pt x="174" y="1183"/>
                </a:lnTo>
                <a:lnTo>
                  <a:pt x="174" y="1204"/>
                </a:lnTo>
                <a:lnTo>
                  <a:pt x="174" y="1223"/>
                </a:lnTo>
                <a:lnTo>
                  <a:pt x="174" y="1244"/>
                </a:lnTo>
                <a:lnTo>
                  <a:pt x="172" y="1261"/>
                </a:lnTo>
                <a:lnTo>
                  <a:pt x="172" y="1280"/>
                </a:lnTo>
                <a:lnTo>
                  <a:pt x="172" y="1298"/>
                </a:lnTo>
                <a:lnTo>
                  <a:pt x="172" y="1315"/>
                </a:lnTo>
                <a:lnTo>
                  <a:pt x="170" y="1330"/>
                </a:lnTo>
                <a:lnTo>
                  <a:pt x="170" y="1346"/>
                </a:lnTo>
                <a:lnTo>
                  <a:pt x="169" y="1361"/>
                </a:lnTo>
                <a:lnTo>
                  <a:pt x="167" y="1374"/>
                </a:lnTo>
                <a:lnTo>
                  <a:pt x="165" y="1388"/>
                </a:lnTo>
                <a:lnTo>
                  <a:pt x="163" y="1401"/>
                </a:lnTo>
                <a:lnTo>
                  <a:pt x="161" y="1413"/>
                </a:lnTo>
                <a:lnTo>
                  <a:pt x="159" y="1422"/>
                </a:lnTo>
                <a:lnTo>
                  <a:pt x="157" y="1434"/>
                </a:lnTo>
                <a:lnTo>
                  <a:pt x="155" y="1444"/>
                </a:lnTo>
                <a:lnTo>
                  <a:pt x="153" y="1453"/>
                </a:lnTo>
                <a:lnTo>
                  <a:pt x="151" y="1461"/>
                </a:lnTo>
                <a:lnTo>
                  <a:pt x="151" y="1469"/>
                </a:lnTo>
                <a:lnTo>
                  <a:pt x="149" y="1476"/>
                </a:lnTo>
                <a:lnTo>
                  <a:pt x="147" y="1482"/>
                </a:lnTo>
                <a:lnTo>
                  <a:pt x="147" y="1488"/>
                </a:lnTo>
                <a:lnTo>
                  <a:pt x="145" y="1493"/>
                </a:lnTo>
                <a:lnTo>
                  <a:pt x="145" y="1497"/>
                </a:lnTo>
                <a:lnTo>
                  <a:pt x="144" y="1501"/>
                </a:lnTo>
                <a:lnTo>
                  <a:pt x="142" y="1503"/>
                </a:lnTo>
                <a:lnTo>
                  <a:pt x="140" y="1505"/>
                </a:lnTo>
                <a:lnTo>
                  <a:pt x="138" y="1507"/>
                </a:lnTo>
                <a:lnTo>
                  <a:pt x="136" y="1507"/>
                </a:lnTo>
                <a:lnTo>
                  <a:pt x="132" y="1507"/>
                </a:lnTo>
                <a:lnTo>
                  <a:pt x="130" y="1507"/>
                </a:lnTo>
                <a:lnTo>
                  <a:pt x="126" y="1505"/>
                </a:lnTo>
                <a:lnTo>
                  <a:pt x="124" y="1503"/>
                </a:lnTo>
                <a:lnTo>
                  <a:pt x="121" y="1501"/>
                </a:lnTo>
                <a:lnTo>
                  <a:pt x="117" y="1497"/>
                </a:lnTo>
                <a:lnTo>
                  <a:pt x="113" y="1493"/>
                </a:lnTo>
                <a:lnTo>
                  <a:pt x="109" y="1490"/>
                </a:lnTo>
                <a:lnTo>
                  <a:pt x="105" y="1486"/>
                </a:lnTo>
                <a:lnTo>
                  <a:pt x="103" y="1480"/>
                </a:lnTo>
                <a:lnTo>
                  <a:pt x="99" y="1474"/>
                </a:lnTo>
                <a:lnTo>
                  <a:pt x="96" y="1467"/>
                </a:lnTo>
                <a:lnTo>
                  <a:pt x="92" y="1461"/>
                </a:lnTo>
                <a:lnTo>
                  <a:pt x="90" y="1453"/>
                </a:lnTo>
                <a:lnTo>
                  <a:pt x="86" y="1446"/>
                </a:lnTo>
                <a:lnTo>
                  <a:pt x="84" y="1436"/>
                </a:lnTo>
                <a:lnTo>
                  <a:pt x="74" y="1419"/>
                </a:lnTo>
                <a:lnTo>
                  <a:pt x="67" y="1403"/>
                </a:lnTo>
                <a:lnTo>
                  <a:pt x="61" y="1388"/>
                </a:lnTo>
                <a:lnTo>
                  <a:pt x="55" y="1374"/>
                </a:lnTo>
                <a:lnTo>
                  <a:pt x="51" y="1361"/>
                </a:lnTo>
                <a:lnTo>
                  <a:pt x="48" y="1350"/>
                </a:lnTo>
                <a:lnTo>
                  <a:pt x="46" y="1338"/>
                </a:lnTo>
                <a:lnTo>
                  <a:pt x="46" y="1328"/>
                </a:lnTo>
                <a:lnTo>
                  <a:pt x="46" y="1326"/>
                </a:lnTo>
                <a:lnTo>
                  <a:pt x="46" y="1323"/>
                </a:lnTo>
                <a:lnTo>
                  <a:pt x="46" y="1321"/>
                </a:lnTo>
                <a:lnTo>
                  <a:pt x="46" y="1317"/>
                </a:lnTo>
                <a:lnTo>
                  <a:pt x="48" y="1313"/>
                </a:lnTo>
                <a:lnTo>
                  <a:pt x="48" y="1307"/>
                </a:lnTo>
                <a:lnTo>
                  <a:pt x="48" y="1303"/>
                </a:lnTo>
                <a:lnTo>
                  <a:pt x="48" y="1298"/>
                </a:lnTo>
                <a:lnTo>
                  <a:pt x="50" y="1290"/>
                </a:lnTo>
                <a:lnTo>
                  <a:pt x="50" y="1284"/>
                </a:lnTo>
                <a:lnTo>
                  <a:pt x="50" y="1277"/>
                </a:lnTo>
                <a:lnTo>
                  <a:pt x="51" y="1269"/>
                </a:lnTo>
                <a:lnTo>
                  <a:pt x="51" y="1261"/>
                </a:lnTo>
                <a:lnTo>
                  <a:pt x="53" y="1252"/>
                </a:lnTo>
                <a:lnTo>
                  <a:pt x="53" y="1244"/>
                </a:lnTo>
                <a:lnTo>
                  <a:pt x="55" y="1232"/>
                </a:lnTo>
                <a:lnTo>
                  <a:pt x="55" y="1223"/>
                </a:lnTo>
                <a:lnTo>
                  <a:pt x="57" y="1213"/>
                </a:lnTo>
                <a:lnTo>
                  <a:pt x="57" y="1202"/>
                </a:lnTo>
                <a:lnTo>
                  <a:pt x="59" y="1177"/>
                </a:lnTo>
                <a:lnTo>
                  <a:pt x="61" y="1152"/>
                </a:lnTo>
                <a:lnTo>
                  <a:pt x="65" y="1125"/>
                </a:lnTo>
                <a:lnTo>
                  <a:pt x="67" y="1096"/>
                </a:lnTo>
                <a:lnTo>
                  <a:pt x="69" y="1065"/>
                </a:lnTo>
                <a:lnTo>
                  <a:pt x="71" y="1033"/>
                </a:lnTo>
                <a:lnTo>
                  <a:pt x="73" y="998"/>
                </a:lnTo>
                <a:lnTo>
                  <a:pt x="76" y="964"/>
                </a:lnTo>
                <a:lnTo>
                  <a:pt x="78" y="929"/>
                </a:lnTo>
                <a:lnTo>
                  <a:pt x="80" y="893"/>
                </a:lnTo>
                <a:lnTo>
                  <a:pt x="82" y="858"/>
                </a:lnTo>
                <a:lnTo>
                  <a:pt x="84" y="822"/>
                </a:lnTo>
                <a:lnTo>
                  <a:pt x="86" y="783"/>
                </a:lnTo>
                <a:lnTo>
                  <a:pt x="88" y="747"/>
                </a:lnTo>
                <a:lnTo>
                  <a:pt x="88" y="708"/>
                </a:lnTo>
                <a:lnTo>
                  <a:pt x="88" y="670"/>
                </a:lnTo>
                <a:lnTo>
                  <a:pt x="90" y="630"/>
                </a:lnTo>
                <a:lnTo>
                  <a:pt x="90" y="589"/>
                </a:lnTo>
                <a:lnTo>
                  <a:pt x="88" y="549"/>
                </a:lnTo>
                <a:lnTo>
                  <a:pt x="88" y="509"/>
                </a:lnTo>
                <a:lnTo>
                  <a:pt x="86" y="467"/>
                </a:lnTo>
                <a:lnTo>
                  <a:pt x="84" y="426"/>
                </a:lnTo>
                <a:lnTo>
                  <a:pt x="82" y="405"/>
                </a:lnTo>
                <a:lnTo>
                  <a:pt x="82" y="386"/>
                </a:lnTo>
                <a:lnTo>
                  <a:pt x="80" y="367"/>
                </a:lnTo>
                <a:lnTo>
                  <a:pt x="80" y="349"/>
                </a:lnTo>
                <a:lnTo>
                  <a:pt x="78" y="332"/>
                </a:lnTo>
                <a:lnTo>
                  <a:pt x="76" y="315"/>
                </a:lnTo>
                <a:lnTo>
                  <a:pt x="76" y="298"/>
                </a:lnTo>
                <a:lnTo>
                  <a:pt x="74" y="282"/>
                </a:lnTo>
                <a:lnTo>
                  <a:pt x="73" y="267"/>
                </a:lnTo>
                <a:lnTo>
                  <a:pt x="73" y="253"/>
                </a:lnTo>
                <a:lnTo>
                  <a:pt x="71" y="238"/>
                </a:lnTo>
                <a:lnTo>
                  <a:pt x="69" y="225"/>
                </a:lnTo>
                <a:lnTo>
                  <a:pt x="67" y="211"/>
                </a:lnTo>
                <a:lnTo>
                  <a:pt x="67" y="200"/>
                </a:lnTo>
                <a:lnTo>
                  <a:pt x="65" y="186"/>
                </a:lnTo>
                <a:lnTo>
                  <a:pt x="63" y="177"/>
                </a:lnTo>
                <a:lnTo>
                  <a:pt x="61" y="165"/>
                </a:lnTo>
                <a:lnTo>
                  <a:pt x="61" y="154"/>
                </a:lnTo>
                <a:lnTo>
                  <a:pt x="59" y="144"/>
                </a:lnTo>
                <a:lnTo>
                  <a:pt x="57" y="136"/>
                </a:lnTo>
                <a:lnTo>
                  <a:pt x="55" y="127"/>
                </a:lnTo>
                <a:lnTo>
                  <a:pt x="53" y="119"/>
                </a:lnTo>
                <a:lnTo>
                  <a:pt x="51" y="111"/>
                </a:lnTo>
                <a:lnTo>
                  <a:pt x="50" y="104"/>
                </a:lnTo>
                <a:lnTo>
                  <a:pt x="48" y="98"/>
                </a:lnTo>
                <a:lnTo>
                  <a:pt x="46" y="92"/>
                </a:lnTo>
                <a:lnTo>
                  <a:pt x="44" y="86"/>
                </a:lnTo>
                <a:lnTo>
                  <a:pt x="42" y="83"/>
                </a:lnTo>
                <a:lnTo>
                  <a:pt x="40" y="79"/>
                </a:lnTo>
                <a:lnTo>
                  <a:pt x="38" y="75"/>
                </a:lnTo>
                <a:lnTo>
                  <a:pt x="34" y="71"/>
                </a:lnTo>
                <a:lnTo>
                  <a:pt x="32" y="69"/>
                </a:lnTo>
                <a:lnTo>
                  <a:pt x="26" y="67"/>
                </a:lnTo>
                <a:lnTo>
                  <a:pt x="21" y="63"/>
                </a:lnTo>
                <a:lnTo>
                  <a:pt x="15" y="62"/>
                </a:lnTo>
                <a:lnTo>
                  <a:pt x="11" y="58"/>
                </a:lnTo>
                <a:lnTo>
                  <a:pt x="7" y="54"/>
                </a:lnTo>
                <a:lnTo>
                  <a:pt x="3" y="52"/>
                </a:lnTo>
                <a:lnTo>
                  <a:pt x="2" y="48"/>
                </a:lnTo>
                <a:lnTo>
                  <a:pt x="2" y="44"/>
                </a:lnTo>
                <a:lnTo>
                  <a:pt x="0" y="40"/>
                </a:lnTo>
                <a:lnTo>
                  <a:pt x="0" y="35"/>
                </a:lnTo>
                <a:lnTo>
                  <a:pt x="0" y="31"/>
                </a:lnTo>
                <a:lnTo>
                  <a:pt x="0" y="27"/>
                </a:lnTo>
                <a:lnTo>
                  <a:pt x="3" y="17"/>
                </a:lnTo>
                <a:lnTo>
                  <a:pt x="7" y="10"/>
                </a:lnTo>
                <a:lnTo>
                  <a:pt x="9" y="8"/>
                </a:lnTo>
                <a:lnTo>
                  <a:pt x="13" y="6"/>
                </a:lnTo>
                <a:lnTo>
                  <a:pt x="17" y="4"/>
                </a:lnTo>
                <a:lnTo>
                  <a:pt x="21" y="2"/>
                </a:lnTo>
                <a:lnTo>
                  <a:pt x="26" y="2"/>
                </a:lnTo>
                <a:lnTo>
                  <a:pt x="32" y="0"/>
                </a:lnTo>
                <a:lnTo>
                  <a:pt x="38" y="0"/>
                </a:lnTo>
                <a:lnTo>
                  <a:pt x="46" y="0"/>
                </a:lnTo>
                <a:lnTo>
                  <a:pt x="53" y="0"/>
                </a:lnTo>
                <a:lnTo>
                  <a:pt x="61" y="0"/>
                </a:lnTo>
                <a:lnTo>
                  <a:pt x="71" y="2"/>
                </a:lnTo>
                <a:lnTo>
                  <a:pt x="78" y="2"/>
                </a:lnTo>
                <a:lnTo>
                  <a:pt x="90" y="4"/>
                </a:lnTo>
                <a:lnTo>
                  <a:pt x="99" y="6"/>
                </a:lnTo>
                <a:lnTo>
                  <a:pt x="111" y="8"/>
                </a:lnTo>
                <a:lnTo>
                  <a:pt x="122" y="10"/>
                </a:lnTo>
                <a:lnTo>
                  <a:pt x="134" y="12"/>
                </a:lnTo>
                <a:lnTo>
                  <a:pt x="145" y="14"/>
                </a:lnTo>
                <a:lnTo>
                  <a:pt x="155" y="17"/>
                </a:lnTo>
                <a:lnTo>
                  <a:pt x="165" y="19"/>
                </a:lnTo>
                <a:lnTo>
                  <a:pt x="172" y="23"/>
                </a:lnTo>
                <a:lnTo>
                  <a:pt x="180" y="27"/>
                </a:lnTo>
                <a:lnTo>
                  <a:pt x="188" y="31"/>
                </a:lnTo>
                <a:lnTo>
                  <a:pt x="193" y="35"/>
                </a:lnTo>
                <a:lnTo>
                  <a:pt x="199" y="38"/>
                </a:lnTo>
                <a:lnTo>
                  <a:pt x="205" y="42"/>
                </a:lnTo>
                <a:lnTo>
                  <a:pt x="209" y="46"/>
                </a:lnTo>
                <a:lnTo>
                  <a:pt x="213" y="52"/>
                </a:lnTo>
                <a:lnTo>
                  <a:pt x="220" y="60"/>
                </a:lnTo>
                <a:lnTo>
                  <a:pt x="226" y="6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Freeform 204"/>
          <p:cNvSpPr/>
          <p:nvPr/>
        </p:nvSpPr>
        <p:spPr>
          <a:xfrm>
            <a:off x="6093000" y="2878200"/>
            <a:ext cx="379080" cy="355680"/>
          </a:xfrm>
          <a:custGeom>
            <a:avLst/>
            <a:gdLst/>
            <a:ahLst/>
            <a:rect l="l" t="t" r="r" b="b"/>
            <a:pathLst>
              <a:path w="478" h="447">
                <a:moveTo>
                  <a:pt x="92" y="336"/>
                </a:moveTo>
                <a:lnTo>
                  <a:pt x="121" y="313"/>
                </a:lnTo>
                <a:lnTo>
                  <a:pt x="148" y="292"/>
                </a:lnTo>
                <a:lnTo>
                  <a:pt x="173" y="269"/>
                </a:lnTo>
                <a:lnTo>
                  <a:pt x="196" y="247"/>
                </a:lnTo>
                <a:lnTo>
                  <a:pt x="207" y="238"/>
                </a:lnTo>
                <a:lnTo>
                  <a:pt x="219" y="226"/>
                </a:lnTo>
                <a:lnTo>
                  <a:pt x="229" y="217"/>
                </a:lnTo>
                <a:lnTo>
                  <a:pt x="238" y="207"/>
                </a:lnTo>
                <a:lnTo>
                  <a:pt x="248" y="198"/>
                </a:lnTo>
                <a:lnTo>
                  <a:pt x="257" y="188"/>
                </a:lnTo>
                <a:lnTo>
                  <a:pt x="265" y="178"/>
                </a:lnTo>
                <a:lnTo>
                  <a:pt x="273" y="169"/>
                </a:lnTo>
                <a:lnTo>
                  <a:pt x="278" y="161"/>
                </a:lnTo>
                <a:lnTo>
                  <a:pt x="284" y="151"/>
                </a:lnTo>
                <a:lnTo>
                  <a:pt x="290" y="144"/>
                </a:lnTo>
                <a:lnTo>
                  <a:pt x="294" y="136"/>
                </a:lnTo>
                <a:lnTo>
                  <a:pt x="298" y="128"/>
                </a:lnTo>
                <a:lnTo>
                  <a:pt x="300" y="121"/>
                </a:lnTo>
                <a:lnTo>
                  <a:pt x="303" y="113"/>
                </a:lnTo>
                <a:lnTo>
                  <a:pt x="303" y="105"/>
                </a:lnTo>
                <a:lnTo>
                  <a:pt x="305" y="98"/>
                </a:lnTo>
                <a:lnTo>
                  <a:pt x="305" y="92"/>
                </a:lnTo>
                <a:lnTo>
                  <a:pt x="305" y="84"/>
                </a:lnTo>
                <a:lnTo>
                  <a:pt x="305" y="77"/>
                </a:lnTo>
                <a:lnTo>
                  <a:pt x="301" y="63"/>
                </a:lnTo>
                <a:lnTo>
                  <a:pt x="298" y="50"/>
                </a:lnTo>
                <a:lnTo>
                  <a:pt x="294" y="46"/>
                </a:lnTo>
                <a:lnTo>
                  <a:pt x="290" y="42"/>
                </a:lnTo>
                <a:lnTo>
                  <a:pt x="286" y="38"/>
                </a:lnTo>
                <a:lnTo>
                  <a:pt x="284" y="34"/>
                </a:lnTo>
                <a:lnTo>
                  <a:pt x="282" y="31"/>
                </a:lnTo>
                <a:lnTo>
                  <a:pt x="280" y="29"/>
                </a:lnTo>
                <a:lnTo>
                  <a:pt x="278" y="25"/>
                </a:lnTo>
                <a:lnTo>
                  <a:pt x="278" y="23"/>
                </a:lnTo>
                <a:lnTo>
                  <a:pt x="278" y="19"/>
                </a:lnTo>
                <a:lnTo>
                  <a:pt x="280" y="17"/>
                </a:lnTo>
                <a:lnTo>
                  <a:pt x="282" y="15"/>
                </a:lnTo>
                <a:lnTo>
                  <a:pt x="284" y="11"/>
                </a:lnTo>
                <a:lnTo>
                  <a:pt x="286" y="9"/>
                </a:lnTo>
                <a:lnTo>
                  <a:pt x="290" y="8"/>
                </a:lnTo>
                <a:lnTo>
                  <a:pt x="294" y="6"/>
                </a:lnTo>
                <a:lnTo>
                  <a:pt x="298" y="4"/>
                </a:lnTo>
                <a:lnTo>
                  <a:pt x="301" y="2"/>
                </a:lnTo>
                <a:lnTo>
                  <a:pt x="303" y="0"/>
                </a:lnTo>
                <a:lnTo>
                  <a:pt x="307" y="0"/>
                </a:lnTo>
                <a:lnTo>
                  <a:pt x="313" y="0"/>
                </a:lnTo>
                <a:lnTo>
                  <a:pt x="317" y="2"/>
                </a:lnTo>
                <a:lnTo>
                  <a:pt x="323" y="4"/>
                </a:lnTo>
                <a:lnTo>
                  <a:pt x="328" y="6"/>
                </a:lnTo>
                <a:lnTo>
                  <a:pt x="334" y="9"/>
                </a:lnTo>
                <a:lnTo>
                  <a:pt x="342" y="11"/>
                </a:lnTo>
                <a:lnTo>
                  <a:pt x="349" y="17"/>
                </a:lnTo>
                <a:lnTo>
                  <a:pt x="357" y="21"/>
                </a:lnTo>
                <a:lnTo>
                  <a:pt x="365" y="27"/>
                </a:lnTo>
                <a:lnTo>
                  <a:pt x="382" y="38"/>
                </a:lnTo>
                <a:lnTo>
                  <a:pt x="401" y="50"/>
                </a:lnTo>
                <a:lnTo>
                  <a:pt x="411" y="59"/>
                </a:lnTo>
                <a:lnTo>
                  <a:pt x="419" y="67"/>
                </a:lnTo>
                <a:lnTo>
                  <a:pt x="426" y="77"/>
                </a:lnTo>
                <a:lnTo>
                  <a:pt x="434" y="84"/>
                </a:lnTo>
                <a:lnTo>
                  <a:pt x="442" y="92"/>
                </a:lnTo>
                <a:lnTo>
                  <a:pt x="447" y="98"/>
                </a:lnTo>
                <a:lnTo>
                  <a:pt x="453" y="105"/>
                </a:lnTo>
                <a:lnTo>
                  <a:pt x="459" y="111"/>
                </a:lnTo>
                <a:lnTo>
                  <a:pt x="463" y="117"/>
                </a:lnTo>
                <a:lnTo>
                  <a:pt x="467" y="123"/>
                </a:lnTo>
                <a:lnTo>
                  <a:pt x="470" y="128"/>
                </a:lnTo>
                <a:lnTo>
                  <a:pt x="472" y="132"/>
                </a:lnTo>
                <a:lnTo>
                  <a:pt x="474" y="136"/>
                </a:lnTo>
                <a:lnTo>
                  <a:pt x="476" y="140"/>
                </a:lnTo>
                <a:lnTo>
                  <a:pt x="478" y="144"/>
                </a:lnTo>
                <a:lnTo>
                  <a:pt x="478" y="146"/>
                </a:lnTo>
                <a:lnTo>
                  <a:pt x="478" y="150"/>
                </a:lnTo>
                <a:lnTo>
                  <a:pt x="476" y="155"/>
                </a:lnTo>
                <a:lnTo>
                  <a:pt x="474" y="161"/>
                </a:lnTo>
                <a:lnTo>
                  <a:pt x="470" y="165"/>
                </a:lnTo>
                <a:lnTo>
                  <a:pt x="467" y="171"/>
                </a:lnTo>
                <a:lnTo>
                  <a:pt x="463" y="176"/>
                </a:lnTo>
                <a:lnTo>
                  <a:pt x="457" y="184"/>
                </a:lnTo>
                <a:lnTo>
                  <a:pt x="449" y="190"/>
                </a:lnTo>
                <a:lnTo>
                  <a:pt x="443" y="198"/>
                </a:lnTo>
                <a:lnTo>
                  <a:pt x="436" y="203"/>
                </a:lnTo>
                <a:lnTo>
                  <a:pt x="426" y="211"/>
                </a:lnTo>
                <a:lnTo>
                  <a:pt x="419" y="219"/>
                </a:lnTo>
                <a:lnTo>
                  <a:pt x="409" y="226"/>
                </a:lnTo>
                <a:lnTo>
                  <a:pt x="397" y="236"/>
                </a:lnTo>
                <a:lnTo>
                  <a:pt x="386" y="244"/>
                </a:lnTo>
                <a:lnTo>
                  <a:pt x="374" y="253"/>
                </a:lnTo>
                <a:lnTo>
                  <a:pt x="351" y="274"/>
                </a:lnTo>
                <a:lnTo>
                  <a:pt x="324" y="295"/>
                </a:lnTo>
                <a:lnTo>
                  <a:pt x="298" y="315"/>
                </a:lnTo>
                <a:lnTo>
                  <a:pt x="269" y="332"/>
                </a:lnTo>
                <a:lnTo>
                  <a:pt x="240" y="349"/>
                </a:lnTo>
                <a:lnTo>
                  <a:pt x="209" y="366"/>
                </a:lnTo>
                <a:lnTo>
                  <a:pt x="177" y="382"/>
                </a:lnTo>
                <a:lnTo>
                  <a:pt x="144" y="395"/>
                </a:lnTo>
                <a:lnTo>
                  <a:pt x="129" y="403"/>
                </a:lnTo>
                <a:lnTo>
                  <a:pt x="113" y="413"/>
                </a:lnTo>
                <a:lnTo>
                  <a:pt x="98" y="418"/>
                </a:lnTo>
                <a:lnTo>
                  <a:pt x="86" y="424"/>
                </a:lnTo>
                <a:lnTo>
                  <a:pt x="75" y="430"/>
                </a:lnTo>
                <a:lnTo>
                  <a:pt x="63" y="434"/>
                </a:lnTo>
                <a:lnTo>
                  <a:pt x="54" y="438"/>
                </a:lnTo>
                <a:lnTo>
                  <a:pt x="44" y="441"/>
                </a:lnTo>
                <a:lnTo>
                  <a:pt x="37" y="443"/>
                </a:lnTo>
                <a:lnTo>
                  <a:pt x="29" y="445"/>
                </a:lnTo>
                <a:lnTo>
                  <a:pt x="23" y="447"/>
                </a:lnTo>
                <a:lnTo>
                  <a:pt x="17" y="447"/>
                </a:lnTo>
                <a:lnTo>
                  <a:pt x="14" y="447"/>
                </a:lnTo>
                <a:lnTo>
                  <a:pt x="8" y="447"/>
                </a:lnTo>
                <a:lnTo>
                  <a:pt x="6" y="445"/>
                </a:lnTo>
                <a:lnTo>
                  <a:pt x="2" y="443"/>
                </a:lnTo>
                <a:lnTo>
                  <a:pt x="0" y="439"/>
                </a:lnTo>
                <a:lnTo>
                  <a:pt x="0" y="438"/>
                </a:lnTo>
                <a:lnTo>
                  <a:pt x="0" y="434"/>
                </a:lnTo>
                <a:lnTo>
                  <a:pt x="2" y="430"/>
                </a:lnTo>
                <a:lnTo>
                  <a:pt x="6" y="424"/>
                </a:lnTo>
                <a:lnTo>
                  <a:pt x="10" y="420"/>
                </a:lnTo>
                <a:lnTo>
                  <a:pt x="14" y="414"/>
                </a:lnTo>
                <a:lnTo>
                  <a:pt x="19" y="407"/>
                </a:lnTo>
                <a:lnTo>
                  <a:pt x="25" y="401"/>
                </a:lnTo>
                <a:lnTo>
                  <a:pt x="33" y="393"/>
                </a:lnTo>
                <a:lnTo>
                  <a:pt x="40" y="386"/>
                </a:lnTo>
                <a:lnTo>
                  <a:pt x="50" y="376"/>
                </a:lnTo>
                <a:lnTo>
                  <a:pt x="60" y="366"/>
                </a:lnTo>
                <a:lnTo>
                  <a:pt x="69" y="357"/>
                </a:lnTo>
                <a:lnTo>
                  <a:pt x="81" y="347"/>
                </a:lnTo>
                <a:lnTo>
                  <a:pt x="92" y="33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Freeform 205"/>
          <p:cNvSpPr/>
          <p:nvPr/>
        </p:nvSpPr>
        <p:spPr>
          <a:xfrm>
            <a:off x="5554800" y="3098880"/>
            <a:ext cx="207720" cy="196920"/>
          </a:xfrm>
          <a:custGeom>
            <a:avLst/>
            <a:gdLst/>
            <a:ahLst/>
            <a:rect l="l" t="t" r="r" b="b"/>
            <a:pathLst>
              <a:path w="261" h="250">
                <a:moveTo>
                  <a:pt x="191" y="250"/>
                </a:moveTo>
                <a:lnTo>
                  <a:pt x="190" y="250"/>
                </a:lnTo>
                <a:lnTo>
                  <a:pt x="186" y="248"/>
                </a:lnTo>
                <a:lnTo>
                  <a:pt x="182" y="246"/>
                </a:lnTo>
                <a:lnTo>
                  <a:pt x="178" y="244"/>
                </a:lnTo>
                <a:lnTo>
                  <a:pt x="172" y="240"/>
                </a:lnTo>
                <a:lnTo>
                  <a:pt x="167" y="236"/>
                </a:lnTo>
                <a:lnTo>
                  <a:pt x="161" y="231"/>
                </a:lnTo>
                <a:lnTo>
                  <a:pt x="155" y="225"/>
                </a:lnTo>
                <a:lnTo>
                  <a:pt x="147" y="219"/>
                </a:lnTo>
                <a:lnTo>
                  <a:pt x="140" y="211"/>
                </a:lnTo>
                <a:lnTo>
                  <a:pt x="132" y="204"/>
                </a:lnTo>
                <a:lnTo>
                  <a:pt x="124" y="194"/>
                </a:lnTo>
                <a:lnTo>
                  <a:pt x="117" y="186"/>
                </a:lnTo>
                <a:lnTo>
                  <a:pt x="107" y="177"/>
                </a:lnTo>
                <a:lnTo>
                  <a:pt x="97" y="165"/>
                </a:lnTo>
                <a:lnTo>
                  <a:pt x="90" y="156"/>
                </a:lnTo>
                <a:lnTo>
                  <a:pt x="78" y="144"/>
                </a:lnTo>
                <a:lnTo>
                  <a:pt x="67" y="133"/>
                </a:lnTo>
                <a:lnTo>
                  <a:pt x="57" y="121"/>
                </a:lnTo>
                <a:lnTo>
                  <a:pt x="48" y="110"/>
                </a:lnTo>
                <a:lnTo>
                  <a:pt x="40" y="100"/>
                </a:lnTo>
                <a:lnTo>
                  <a:pt x="32" y="89"/>
                </a:lnTo>
                <a:lnTo>
                  <a:pt x="26" y="79"/>
                </a:lnTo>
                <a:lnTo>
                  <a:pt x="21" y="67"/>
                </a:lnTo>
                <a:lnTo>
                  <a:pt x="15" y="58"/>
                </a:lnTo>
                <a:lnTo>
                  <a:pt x="11" y="48"/>
                </a:lnTo>
                <a:lnTo>
                  <a:pt x="7" y="41"/>
                </a:lnTo>
                <a:lnTo>
                  <a:pt x="3" y="31"/>
                </a:lnTo>
                <a:lnTo>
                  <a:pt x="1" y="23"/>
                </a:lnTo>
                <a:lnTo>
                  <a:pt x="0" y="16"/>
                </a:lnTo>
                <a:lnTo>
                  <a:pt x="0" y="8"/>
                </a:lnTo>
                <a:lnTo>
                  <a:pt x="0" y="0"/>
                </a:lnTo>
                <a:lnTo>
                  <a:pt x="21" y="2"/>
                </a:lnTo>
                <a:lnTo>
                  <a:pt x="40" y="6"/>
                </a:lnTo>
                <a:lnTo>
                  <a:pt x="59" y="10"/>
                </a:lnTo>
                <a:lnTo>
                  <a:pt x="76" y="14"/>
                </a:lnTo>
                <a:lnTo>
                  <a:pt x="94" y="18"/>
                </a:lnTo>
                <a:lnTo>
                  <a:pt x="109" y="23"/>
                </a:lnTo>
                <a:lnTo>
                  <a:pt x="124" y="27"/>
                </a:lnTo>
                <a:lnTo>
                  <a:pt x="138" y="33"/>
                </a:lnTo>
                <a:lnTo>
                  <a:pt x="149" y="39"/>
                </a:lnTo>
                <a:lnTo>
                  <a:pt x="163" y="44"/>
                </a:lnTo>
                <a:lnTo>
                  <a:pt x="172" y="50"/>
                </a:lnTo>
                <a:lnTo>
                  <a:pt x="184" y="56"/>
                </a:lnTo>
                <a:lnTo>
                  <a:pt x="193" y="64"/>
                </a:lnTo>
                <a:lnTo>
                  <a:pt x="201" y="69"/>
                </a:lnTo>
                <a:lnTo>
                  <a:pt x="211" y="77"/>
                </a:lnTo>
                <a:lnTo>
                  <a:pt x="218" y="83"/>
                </a:lnTo>
                <a:lnTo>
                  <a:pt x="224" y="90"/>
                </a:lnTo>
                <a:lnTo>
                  <a:pt x="230" y="96"/>
                </a:lnTo>
                <a:lnTo>
                  <a:pt x="236" y="104"/>
                </a:lnTo>
                <a:lnTo>
                  <a:pt x="241" y="110"/>
                </a:lnTo>
                <a:lnTo>
                  <a:pt x="245" y="117"/>
                </a:lnTo>
                <a:lnTo>
                  <a:pt x="249" y="123"/>
                </a:lnTo>
                <a:lnTo>
                  <a:pt x="253" y="131"/>
                </a:lnTo>
                <a:lnTo>
                  <a:pt x="255" y="137"/>
                </a:lnTo>
                <a:lnTo>
                  <a:pt x="257" y="144"/>
                </a:lnTo>
                <a:lnTo>
                  <a:pt x="259" y="150"/>
                </a:lnTo>
                <a:lnTo>
                  <a:pt x="261" y="158"/>
                </a:lnTo>
                <a:lnTo>
                  <a:pt x="261" y="163"/>
                </a:lnTo>
                <a:lnTo>
                  <a:pt x="261" y="171"/>
                </a:lnTo>
                <a:lnTo>
                  <a:pt x="259" y="177"/>
                </a:lnTo>
                <a:lnTo>
                  <a:pt x="259" y="185"/>
                </a:lnTo>
                <a:lnTo>
                  <a:pt x="257" y="190"/>
                </a:lnTo>
                <a:lnTo>
                  <a:pt x="251" y="204"/>
                </a:lnTo>
                <a:lnTo>
                  <a:pt x="243" y="215"/>
                </a:lnTo>
                <a:lnTo>
                  <a:pt x="238" y="225"/>
                </a:lnTo>
                <a:lnTo>
                  <a:pt x="228" y="234"/>
                </a:lnTo>
                <a:lnTo>
                  <a:pt x="220" y="240"/>
                </a:lnTo>
                <a:lnTo>
                  <a:pt x="215" y="244"/>
                </a:lnTo>
                <a:lnTo>
                  <a:pt x="211" y="246"/>
                </a:lnTo>
                <a:lnTo>
                  <a:pt x="207" y="248"/>
                </a:lnTo>
                <a:lnTo>
                  <a:pt x="201" y="248"/>
                </a:lnTo>
                <a:lnTo>
                  <a:pt x="197" y="250"/>
                </a:lnTo>
                <a:lnTo>
                  <a:pt x="191" y="25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221"/>
                                        </p:tgtEl>
                                        <p:attrNameLst>
                                          <p:attrName>style.visibility</p:attrName>
                                        </p:attrNameLst>
                                      </p:cBhvr>
                                      <p:to>
                                        <p:strVal val="visible"/>
                                      </p:to>
                                    </p:set>
                                    <p:anim calcmode="lin" valueType="num">
                                      <p:cBhvr additive="base">
                                        <p:cTn id="567" dur="500" fill="hold"/>
                                        <p:tgtEl>
                                          <p:spTgt spid="221"/>
                                        </p:tgtEl>
                                        <p:attrNameLst>
                                          <p:attrName>ppt_x</p:attrName>
                                        </p:attrNameLst>
                                      </p:cBhvr>
                                      <p:tavLst>
                                        <p:tav tm="0">
                                          <p:val>
                                            <p:strVal val="0-#ppt_w/2"/>
                                          </p:val>
                                        </p:tav>
                                        <p:tav tm="100000">
                                          <p:val>
                                            <p:strVal val="#ppt_x"/>
                                          </p:val>
                                        </p:tav>
                                      </p:tavLst>
                                    </p:anim>
                                    <p:anim calcmode="lin" valueType="num">
                                      <p:cBhvr additive="base">
                                        <p:cTn id="56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37"/>
                                        </p:tgtEl>
                                        <p:attrNameLst>
                                          <p:attrName>style.visibility</p:attrName>
                                        </p:attrNameLst>
                                      </p:cBhvr>
                                      <p:to>
                                        <p:strVal val="visible"/>
                                      </p:to>
                                    </p:set>
                                    <p:animEffect filter="wipe(left)" transition="in">
                                      <p:cBhvr additive="repl">
                                        <p:cTn id="573" dur="500"/>
                                        <p:tgtEl>
                                          <p:spTgt spid="237"/>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2" presetSubtype="1">
                                  <p:stCondLst>
                                    <p:cond delay="0"/>
                                  </p:stCondLst>
                                  <p:childTnLst>
                                    <p:set>
                                      <p:cBhvr>
                                        <p:cTn id="577" dur="1" fill="hold">
                                          <p:stCondLst>
                                            <p:cond delay="0"/>
                                          </p:stCondLst>
                                        </p:cTn>
                                        <p:tgtEl>
                                          <p:spTgt spid="236"/>
                                        </p:tgtEl>
                                        <p:attrNameLst>
                                          <p:attrName>style.visibility</p:attrName>
                                        </p:attrNameLst>
                                      </p:cBhvr>
                                      <p:to>
                                        <p:strVal val="visible"/>
                                      </p:to>
                                    </p:set>
                                    <p:animEffect filter="wipe(up)" transition="in">
                                      <p:cBhvr additive="repl">
                                        <p:cTn id="578" dur="500"/>
                                        <p:tgtEl>
                                          <p:spTgt spid="236"/>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2" presetSubtype="1">
                                  <p:stCondLst>
                                    <p:cond delay="0"/>
                                  </p:stCondLst>
                                  <p:childTnLst>
                                    <p:set>
                                      <p:cBhvr>
                                        <p:cTn id="582" dur="1" fill="hold">
                                          <p:stCondLst>
                                            <p:cond delay="0"/>
                                          </p:stCondLst>
                                        </p:cTn>
                                        <p:tgtEl>
                                          <p:spTgt spid="232"/>
                                        </p:tgtEl>
                                        <p:attrNameLst>
                                          <p:attrName>style.visibility</p:attrName>
                                        </p:attrNameLst>
                                      </p:cBhvr>
                                      <p:to>
                                        <p:strVal val="visible"/>
                                      </p:to>
                                    </p:set>
                                    <p:animEffect filter="wipe(up)" transition="in">
                                      <p:cBhvr additive="repl">
                                        <p:cTn id="583" dur="500"/>
                                        <p:tgtEl>
                                          <p:spTgt spid="232"/>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8" presetSubtype="6">
                                  <p:stCondLst>
                                    <p:cond delay="0"/>
                                  </p:stCondLst>
                                  <p:childTnLst>
                                    <p:set>
                                      <p:cBhvr>
                                        <p:cTn id="587" dur="1" fill="hold">
                                          <p:stCondLst>
                                            <p:cond delay="0"/>
                                          </p:stCondLst>
                                        </p:cTn>
                                        <p:tgtEl>
                                          <p:spTgt spid="231"/>
                                        </p:tgtEl>
                                        <p:attrNameLst>
                                          <p:attrName>style.visibility</p:attrName>
                                        </p:attrNameLst>
                                      </p:cBhvr>
                                      <p:to>
                                        <p:strVal val="visible"/>
                                      </p:to>
                                    </p:set>
                                    <p:animEffect filter="strips(downRight)" transition="in">
                                      <p:cBhvr additive="repl">
                                        <p:cTn id="588" dur="500"/>
                                        <p:tgtEl>
                                          <p:spTgt spid="231"/>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2" presetSubtype="1">
                                  <p:stCondLst>
                                    <p:cond delay="0"/>
                                  </p:stCondLst>
                                  <p:childTnLst>
                                    <p:set>
                                      <p:cBhvr>
                                        <p:cTn id="592" dur="1" fill="hold">
                                          <p:stCondLst>
                                            <p:cond delay="0"/>
                                          </p:stCondLst>
                                        </p:cTn>
                                        <p:tgtEl>
                                          <p:spTgt spid="235"/>
                                        </p:tgtEl>
                                        <p:attrNameLst>
                                          <p:attrName>style.visibility</p:attrName>
                                        </p:attrNameLst>
                                      </p:cBhvr>
                                      <p:to>
                                        <p:strVal val="visible"/>
                                      </p:to>
                                    </p:set>
                                    <p:animEffect filter="wipe(up)" transition="in">
                                      <p:cBhvr additive="repl">
                                        <p:cTn id="593" dur="500"/>
                                        <p:tgtEl>
                                          <p:spTgt spid="235"/>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2" presetSubtype="1">
                                  <p:stCondLst>
                                    <p:cond delay="0"/>
                                  </p:stCondLst>
                                  <p:childTnLst>
                                    <p:set>
                                      <p:cBhvr>
                                        <p:cTn id="597" dur="1" fill="hold">
                                          <p:stCondLst>
                                            <p:cond delay="0"/>
                                          </p:stCondLst>
                                        </p:cTn>
                                        <p:tgtEl>
                                          <p:spTgt spid="234"/>
                                        </p:tgtEl>
                                        <p:attrNameLst>
                                          <p:attrName>style.visibility</p:attrName>
                                        </p:attrNameLst>
                                      </p:cBhvr>
                                      <p:to>
                                        <p:strVal val="visible"/>
                                      </p:to>
                                    </p:set>
                                    <p:animEffect filter="wipe(up)" transition="in">
                                      <p:cBhvr additive="repl">
                                        <p:cTn id="598" dur="500"/>
                                        <p:tgtEl>
                                          <p:spTgt spid="234"/>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1">
                                  <p:stCondLst>
                                    <p:cond delay="0"/>
                                  </p:stCondLst>
                                  <p:childTnLst>
                                    <p:set>
                                      <p:cBhvr>
                                        <p:cTn id="602" dur="1" fill="hold">
                                          <p:stCondLst>
                                            <p:cond delay="0"/>
                                          </p:stCondLst>
                                        </p:cTn>
                                        <p:tgtEl>
                                          <p:spTgt spid="233"/>
                                        </p:tgtEl>
                                        <p:attrNameLst>
                                          <p:attrName>style.visibility</p:attrName>
                                        </p:attrNameLst>
                                      </p:cBhvr>
                                      <p:to>
                                        <p:strVal val="visible"/>
                                      </p:to>
                                    </p:set>
                                    <p:animEffect filter="wipe(up)" transition="in">
                                      <p:cBhvr additive="repl">
                                        <p:cTn id="603" dur="500"/>
                                        <p:tgtEl>
                                          <p:spTgt spid="233"/>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1">
                                  <p:stCondLst>
                                    <p:cond delay="0"/>
                                  </p:stCondLst>
                                  <p:childTnLst>
                                    <p:set>
                                      <p:cBhvr>
                                        <p:cTn id="607" dur="1" fill="hold">
                                          <p:stCondLst>
                                            <p:cond delay="0"/>
                                          </p:stCondLst>
                                        </p:cTn>
                                        <p:tgtEl>
                                          <p:spTgt spid="228"/>
                                        </p:tgtEl>
                                        <p:attrNameLst>
                                          <p:attrName>style.visibility</p:attrName>
                                        </p:attrNameLst>
                                      </p:cBhvr>
                                      <p:to>
                                        <p:strVal val="visible"/>
                                      </p:to>
                                    </p:set>
                                    <p:animEffect filter="wipe(up)" transition="in">
                                      <p:cBhvr additive="repl">
                                        <p:cTn id="608" dur="500"/>
                                        <p:tgtEl>
                                          <p:spTgt spid="22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230"/>
                                        </p:tgtEl>
                                        <p:attrNameLst>
                                          <p:attrName>style.visibility</p:attrName>
                                        </p:attrNameLst>
                                      </p:cBhvr>
                                      <p:to>
                                        <p:strVal val="visible"/>
                                      </p:to>
                                    </p:set>
                                    <p:animEffect filter="wipe(left)" transition="in">
                                      <p:cBhvr additive="repl">
                                        <p:cTn id="613" dur="500"/>
                                        <p:tgtEl>
                                          <p:spTgt spid="230"/>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1">
                                  <p:stCondLst>
                                    <p:cond delay="0"/>
                                  </p:stCondLst>
                                  <p:childTnLst>
                                    <p:set>
                                      <p:cBhvr>
                                        <p:cTn id="617" dur="1" fill="hold">
                                          <p:stCondLst>
                                            <p:cond delay="0"/>
                                          </p:stCondLst>
                                        </p:cTn>
                                        <p:tgtEl>
                                          <p:spTgt spid="229"/>
                                        </p:tgtEl>
                                        <p:attrNameLst>
                                          <p:attrName>style.visibility</p:attrName>
                                        </p:attrNameLst>
                                      </p:cBhvr>
                                      <p:to>
                                        <p:strVal val="visible"/>
                                      </p:to>
                                    </p:set>
                                    <p:animEffect filter="wipe(up)" transition="in">
                                      <p:cBhvr additive="repl">
                                        <p:cTn id="618" dur="500"/>
                                        <p:tgtEl>
                                          <p:spTgt spid="229"/>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227"/>
                                        </p:tgtEl>
                                        <p:attrNameLst>
                                          <p:attrName>style.visibility</p:attrName>
                                        </p:attrNameLst>
                                      </p:cBhvr>
                                      <p:to>
                                        <p:strVal val="visible"/>
                                      </p:to>
                                    </p:set>
                                    <p:animEffect filter="wipe(left)" transition="in">
                                      <p:cBhvr additive="repl">
                                        <p:cTn id="623" dur="500"/>
                                        <p:tgtEl>
                                          <p:spTgt spid="227"/>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1">
                                  <p:stCondLst>
                                    <p:cond delay="0"/>
                                  </p:stCondLst>
                                  <p:childTnLst>
                                    <p:set>
                                      <p:cBhvr>
                                        <p:cTn id="627" dur="1" fill="hold">
                                          <p:stCondLst>
                                            <p:cond delay="0"/>
                                          </p:stCondLst>
                                        </p:cTn>
                                        <p:tgtEl>
                                          <p:spTgt spid="224"/>
                                        </p:tgtEl>
                                        <p:attrNameLst>
                                          <p:attrName>style.visibility</p:attrName>
                                        </p:attrNameLst>
                                      </p:cBhvr>
                                      <p:to>
                                        <p:strVal val="visible"/>
                                      </p:to>
                                    </p:set>
                                    <p:animEffect filter="wipe(up)" transition="in">
                                      <p:cBhvr additive="repl">
                                        <p:cTn id="628" dur="500"/>
                                        <p:tgtEl>
                                          <p:spTgt spid="224"/>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8" presetSubtype="6">
                                  <p:stCondLst>
                                    <p:cond delay="0"/>
                                  </p:stCondLst>
                                  <p:childTnLst>
                                    <p:set>
                                      <p:cBhvr>
                                        <p:cTn id="632" dur="1" fill="hold">
                                          <p:stCondLst>
                                            <p:cond delay="0"/>
                                          </p:stCondLst>
                                        </p:cTn>
                                        <p:tgtEl>
                                          <p:spTgt spid="222"/>
                                        </p:tgtEl>
                                        <p:attrNameLst>
                                          <p:attrName>style.visibility</p:attrName>
                                        </p:attrNameLst>
                                      </p:cBhvr>
                                      <p:to>
                                        <p:strVal val="visible"/>
                                      </p:to>
                                    </p:set>
                                    <p:animEffect filter="strips(downRight)" transition="in">
                                      <p:cBhvr additive="repl">
                                        <p:cTn id="633" dur="500"/>
                                        <p:tgtEl>
                                          <p:spTgt spid="222"/>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223"/>
                                        </p:tgtEl>
                                        <p:attrNameLst>
                                          <p:attrName>style.visibility</p:attrName>
                                        </p:attrNameLst>
                                      </p:cBhvr>
                                      <p:to>
                                        <p:strVal val="visible"/>
                                      </p:to>
                                    </p:set>
                                    <p:animEffect filter="wipe(left)" transition="in">
                                      <p:cBhvr additive="repl">
                                        <p:cTn id="638" dur="500"/>
                                        <p:tgtEl>
                                          <p:spTgt spid="223"/>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225"/>
                                        </p:tgtEl>
                                        <p:attrNameLst>
                                          <p:attrName>style.visibility</p:attrName>
                                        </p:attrNameLst>
                                      </p:cBhvr>
                                      <p:to>
                                        <p:strVal val="visible"/>
                                      </p:to>
                                    </p:set>
                                    <p:animEffect filter="wipe(left)" transition="in">
                                      <p:cBhvr additive="repl">
                                        <p:cTn id="643" dur="500"/>
                                        <p:tgtEl>
                                          <p:spTgt spid="225"/>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2" presetSubtype="8">
                                  <p:stCondLst>
                                    <p:cond delay="0"/>
                                  </p:stCondLst>
                                  <p:childTnLst>
                                    <p:set>
                                      <p:cBhvr>
                                        <p:cTn id="647" dur="1" fill="hold">
                                          <p:stCondLst>
                                            <p:cond delay="0"/>
                                          </p:stCondLst>
                                        </p:cTn>
                                        <p:tgtEl>
                                          <p:spTgt spid="226"/>
                                        </p:tgtEl>
                                        <p:attrNameLst>
                                          <p:attrName>style.visibility</p:attrName>
                                        </p:attrNameLst>
                                      </p:cBhvr>
                                      <p:to>
                                        <p:strVal val="visible"/>
                                      </p:to>
                                    </p:set>
                                    <p:animEffect filter="wipe(left)" transition="in">
                                      <p:cBhvr additive="repl">
                                        <p:cTn id="648" dur="500"/>
                                        <p:tgtEl>
                                          <p:spTgt spid="226"/>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53" presetSubtype="16">
                                  <p:stCondLst>
                                    <p:cond delay="0"/>
                                  </p:stCondLst>
                                  <p:childTnLst>
                                    <p:set>
                                      <p:cBhvr>
                                        <p:cTn id="652" dur="1" fill="hold">
                                          <p:stCondLst>
                                            <p:cond delay="0"/>
                                          </p:stCondLst>
                                        </p:cTn>
                                        <p:tgtEl>
                                          <p:spTgt spid="218"/>
                                        </p:tgtEl>
                                        <p:attrNameLst>
                                          <p:attrName>style.visibility</p:attrName>
                                        </p:attrNameLst>
                                      </p:cBhvr>
                                      <p:to>
                                        <p:strVal val="visible"/>
                                      </p:to>
                                    </p:set>
                                    <p:anim calcmode="lin" valueType="num">
                                      <p:cBhvr additive="repl">
                                        <p:cTn id="653" dur="500" fill="hold"/>
                                        <p:tgtEl>
                                          <p:spTgt spid="218"/>
                                        </p:tgtEl>
                                        <p:attrNameLst>
                                          <p:attrName>ppt_w</p:attrName>
                                        </p:attrNameLst>
                                      </p:cBhvr>
                                      <p:tavLst>
                                        <p:tav tm="0">
                                          <p:val>
                                            <p:fltVal val="0"/>
                                          </p:val>
                                        </p:tav>
                                        <p:tav tm="100000">
                                          <p:val>
                                            <p:strVal val="#ppt_w"/>
                                          </p:val>
                                        </p:tav>
                                      </p:tavLst>
                                    </p:anim>
                                    <p:anim calcmode="lin" valueType="num">
                                      <p:cBhvr additive="repl">
                                        <p:cTn id="654" dur="500" fill="hold"/>
                                        <p:tgtEl>
                                          <p:spTgt spid="218"/>
                                        </p:tgtEl>
                                        <p:attrNameLst>
                                          <p:attrName>ppt_h</p:attrName>
                                        </p:attrNameLst>
                                      </p:cBhvr>
                                      <p:tavLst>
                                        <p:tav tm="0">
                                          <p:val>
                                            <p:fltVal val="0"/>
                                          </p:val>
                                        </p:tav>
                                        <p:tav tm="100000">
                                          <p:val>
                                            <p:strVal val="#ppt_h"/>
                                          </p:val>
                                        </p:tav>
                                      </p:tavLst>
                                    </p:anim>
                                    <p:animEffect filter="fade" transition="in">
                                      <p:cBhvr additive="repl">
                                        <p:cTn id="655"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纤</a:t>
            </a:r>
            <a:endParaRPr b="0" lang="en-US" sz="8000" spc="-1" strike="noStrike">
              <a:solidFill>
                <a:srgbClr val="000000"/>
              </a:solidFill>
              <a:latin typeface="Calibri"/>
            </a:endParaRPr>
          </a:p>
        </p:txBody>
      </p:sp>
      <p:grpSp>
        <p:nvGrpSpPr>
          <p:cNvPr id="240" name="组合 3"/>
          <p:cNvGrpSpPr/>
          <p:nvPr/>
        </p:nvGrpSpPr>
        <p:grpSpPr>
          <a:xfrm>
            <a:off x="1400040" y="3975120"/>
            <a:ext cx="2840040" cy="1621440"/>
            <a:chOff x="1400040" y="3975120"/>
            <a:chExt cx="2840040" cy="1621440"/>
          </a:xfrm>
        </p:grpSpPr>
        <p:pic>
          <p:nvPicPr>
            <p:cNvPr id="241" name="图示 4" descr=""/>
            <p:cNvPicPr/>
            <p:nvPr/>
          </p:nvPicPr>
          <p:blipFill>
            <a:blip r:embed="rId1"/>
            <a:stretch/>
          </p:blipFill>
          <p:spPr>
            <a:xfrm>
              <a:off x="1400040" y="3975120"/>
              <a:ext cx="2840040" cy="1572480"/>
            </a:xfrm>
            <a:prstGeom prst="rect">
              <a:avLst/>
            </a:prstGeom>
            <a:ln w="0">
              <a:noFill/>
            </a:ln>
          </p:spPr>
        </p:pic>
        <p:sp>
          <p:nvSpPr>
            <p:cNvPr id="242" name="矩形 2"/>
            <p:cNvSpPr/>
            <p:nvPr/>
          </p:nvSpPr>
          <p:spPr>
            <a:xfrm>
              <a:off x="1444680" y="4588200"/>
              <a:ext cx="276660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纟”撇折协调，“千”横稍长，竖有力。</a:t>
              </a:r>
              <a:endParaRPr b="0" lang="en-US" sz="2000" spc="-1" strike="noStrike">
                <a:solidFill>
                  <a:srgbClr val="000000"/>
                </a:solidFill>
                <a:latin typeface="Calibri"/>
              </a:endParaRPr>
            </a:p>
          </p:txBody>
        </p:sp>
      </p:grpSp>
      <p:sp>
        <p:nvSpPr>
          <p:cNvPr id="243" name="矩形 2"/>
          <p:cNvSpPr/>
          <p:nvPr/>
        </p:nvSpPr>
        <p:spPr>
          <a:xfrm>
            <a:off x="2073240" y="1825560"/>
            <a:ext cx="1303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xiān</a:t>
            </a:r>
            <a:endParaRPr b="0" lang="en-US" sz="4800" spc="-1" strike="noStrike">
              <a:solidFill>
                <a:srgbClr val="000000"/>
              </a:solidFill>
              <a:latin typeface="Calibri"/>
            </a:endParaRPr>
          </a:p>
        </p:txBody>
      </p:sp>
      <p:sp>
        <p:nvSpPr>
          <p:cNvPr id="244" name="Freeform 66"/>
          <p:cNvSpPr/>
          <p:nvPr/>
        </p:nvSpPr>
        <p:spPr>
          <a:xfrm>
            <a:off x="5570640" y="2890800"/>
            <a:ext cx="620640" cy="827280"/>
          </a:xfrm>
          <a:custGeom>
            <a:avLst/>
            <a:gdLst/>
            <a:ahLst/>
            <a:rect l="l" t="t" r="r" b="b"/>
            <a:pathLst>
              <a:path w="1173" h="1564">
                <a:moveTo>
                  <a:pt x="1113" y="250"/>
                </a:moveTo>
                <a:lnTo>
                  <a:pt x="1114" y="254"/>
                </a:lnTo>
                <a:lnTo>
                  <a:pt x="1116" y="257"/>
                </a:lnTo>
                <a:lnTo>
                  <a:pt x="1116" y="261"/>
                </a:lnTo>
                <a:lnTo>
                  <a:pt x="1117" y="267"/>
                </a:lnTo>
                <a:lnTo>
                  <a:pt x="1116" y="271"/>
                </a:lnTo>
                <a:lnTo>
                  <a:pt x="1116" y="277"/>
                </a:lnTo>
                <a:lnTo>
                  <a:pt x="1114" y="283"/>
                </a:lnTo>
                <a:lnTo>
                  <a:pt x="1113" y="288"/>
                </a:lnTo>
                <a:lnTo>
                  <a:pt x="1111" y="294"/>
                </a:lnTo>
                <a:lnTo>
                  <a:pt x="1109" y="301"/>
                </a:lnTo>
                <a:lnTo>
                  <a:pt x="1106" y="309"/>
                </a:lnTo>
                <a:lnTo>
                  <a:pt x="1103" y="316"/>
                </a:lnTo>
                <a:lnTo>
                  <a:pt x="1099" y="323"/>
                </a:lnTo>
                <a:lnTo>
                  <a:pt x="1094" y="332"/>
                </a:lnTo>
                <a:lnTo>
                  <a:pt x="1090" y="339"/>
                </a:lnTo>
                <a:lnTo>
                  <a:pt x="1086" y="347"/>
                </a:lnTo>
                <a:lnTo>
                  <a:pt x="1080" y="357"/>
                </a:lnTo>
                <a:lnTo>
                  <a:pt x="1074" y="366"/>
                </a:lnTo>
                <a:lnTo>
                  <a:pt x="1068" y="376"/>
                </a:lnTo>
                <a:lnTo>
                  <a:pt x="1061" y="386"/>
                </a:lnTo>
                <a:lnTo>
                  <a:pt x="1054" y="396"/>
                </a:lnTo>
                <a:lnTo>
                  <a:pt x="1047" y="406"/>
                </a:lnTo>
                <a:lnTo>
                  <a:pt x="1039" y="418"/>
                </a:lnTo>
                <a:lnTo>
                  <a:pt x="1031" y="428"/>
                </a:lnTo>
                <a:lnTo>
                  <a:pt x="1022" y="440"/>
                </a:lnTo>
                <a:lnTo>
                  <a:pt x="1014" y="453"/>
                </a:lnTo>
                <a:lnTo>
                  <a:pt x="1005" y="464"/>
                </a:lnTo>
                <a:lnTo>
                  <a:pt x="995" y="477"/>
                </a:lnTo>
                <a:lnTo>
                  <a:pt x="975" y="503"/>
                </a:lnTo>
                <a:lnTo>
                  <a:pt x="955" y="532"/>
                </a:lnTo>
                <a:lnTo>
                  <a:pt x="932" y="562"/>
                </a:lnTo>
                <a:lnTo>
                  <a:pt x="910" y="594"/>
                </a:lnTo>
                <a:lnTo>
                  <a:pt x="887" y="624"/>
                </a:lnTo>
                <a:lnTo>
                  <a:pt x="865" y="654"/>
                </a:lnTo>
                <a:lnTo>
                  <a:pt x="842" y="684"/>
                </a:lnTo>
                <a:lnTo>
                  <a:pt x="819" y="713"/>
                </a:lnTo>
                <a:lnTo>
                  <a:pt x="798" y="742"/>
                </a:lnTo>
                <a:lnTo>
                  <a:pt x="775" y="771"/>
                </a:lnTo>
                <a:lnTo>
                  <a:pt x="753" y="798"/>
                </a:lnTo>
                <a:lnTo>
                  <a:pt x="730" y="825"/>
                </a:lnTo>
                <a:lnTo>
                  <a:pt x="707" y="853"/>
                </a:lnTo>
                <a:lnTo>
                  <a:pt x="685" y="879"/>
                </a:lnTo>
                <a:lnTo>
                  <a:pt x="662" y="906"/>
                </a:lnTo>
                <a:lnTo>
                  <a:pt x="641" y="930"/>
                </a:lnTo>
                <a:lnTo>
                  <a:pt x="618" y="956"/>
                </a:lnTo>
                <a:lnTo>
                  <a:pt x="596" y="982"/>
                </a:lnTo>
                <a:lnTo>
                  <a:pt x="585" y="994"/>
                </a:lnTo>
                <a:lnTo>
                  <a:pt x="575" y="1005"/>
                </a:lnTo>
                <a:lnTo>
                  <a:pt x="564" y="1017"/>
                </a:lnTo>
                <a:lnTo>
                  <a:pt x="556" y="1028"/>
                </a:lnTo>
                <a:lnTo>
                  <a:pt x="546" y="1040"/>
                </a:lnTo>
                <a:lnTo>
                  <a:pt x="537" y="1050"/>
                </a:lnTo>
                <a:lnTo>
                  <a:pt x="530" y="1060"/>
                </a:lnTo>
                <a:lnTo>
                  <a:pt x="521" y="1070"/>
                </a:lnTo>
                <a:lnTo>
                  <a:pt x="514" y="1079"/>
                </a:lnTo>
                <a:lnTo>
                  <a:pt x="507" y="1089"/>
                </a:lnTo>
                <a:lnTo>
                  <a:pt x="501" y="1097"/>
                </a:lnTo>
                <a:lnTo>
                  <a:pt x="495" y="1106"/>
                </a:lnTo>
                <a:lnTo>
                  <a:pt x="490" y="1115"/>
                </a:lnTo>
                <a:lnTo>
                  <a:pt x="484" y="1122"/>
                </a:lnTo>
                <a:lnTo>
                  <a:pt x="479" y="1129"/>
                </a:lnTo>
                <a:lnTo>
                  <a:pt x="475" y="1136"/>
                </a:lnTo>
                <a:lnTo>
                  <a:pt x="471" y="1144"/>
                </a:lnTo>
                <a:lnTo>
                  <a:pt x="467" y="1149"/>
                </a:lnTo>
                <a:lnTo>
                  <a:pt x="464" y="1156"/>
                </a:lnTo>
                <a:lnTo>
                  <a:pt x="461" y="1162"/>
                </a:lnTo>
                <a:lnTo>
                  <a:pt x="458" y="1168"/>
                </a:lnTo>
                <a:lnTo>
                  <a:pt x="456" y="1172"/>
                </a:lnTo>
                <a:lnTo>
                  <a:pt x="455" y="1178"/>
                </a:lnTo>
                <a:lnTo>
                  <a:pt x="454" y="1182"/>
                </a:lnTo>
                <a:lnTo>
                  <a:pt x="452" y="1187"/>
                </a:lnTo>
                <a:lnTo>
                  <a:pt x="452" y="1190"/>
                </a:lnTo>
                <a:lnTo>
                  <a:pt x="452" y="1194"/>
                </a:lnTo>
                <a:lnTo>
                  <a:pt x="452" y="1197"/>
                </a:lnTo>
                <a:lnTo>
                  <a:pt x="452" y="1200"/>
                </a:lnTo>
                <a:lnTo>
                  <a:pt x="454" y="1203"/>
                </a:lnTo>
                <a:lnTo>
                  <a:pt x="455" y="1205"/>
                </a:lnTo>
                <a:lnTo>
                  <a:pt x="456" y="1207"/>
                </a:lnTo>
                <a:lnTo>
                  <a:pt x="461" y="1210"/>
                </a:lnTo>
                <a:lnTo>
                  <a:pt x="465" y="1214"/>
                </a:lnTo>
                <a:lnTo>
                  <a:pt x="469" y="1217"/>
                </a:lnTo>
                <a:lnTo>
                  <a:pt x="475" y="1221"/>
                </a:lnTo>
                <a:lnTo>
                  <a:pt x="482" y="1224"/>
                </a:lnTo>
                <a:lnTo>
                  <a:pt x="488" y="1227"/>
                </a:lnTo>
                <a:lnTo>
                  <a:pt x="495" y="1230"/>
                </a:lnTo>
                <a:lnTo>
                  <a:pt x="504" y="1233"/>
                </a:lnTo>
                <a:lnTo>
                  <a:pt x="513" y="1236"/>
                </a:lnTo>
                <a:lnTo>
                  <a:pt x="523" y="1237"/>
                </a:lnTo>
                <a:lnTo>
                  <a:pt x="533" y="1240"/>
                </a:lnTo>
                <a:lnTo>
                  <a:pt x="543" y="1241"/>
                </a:lnTo>
                <a:lnTo>
                  <a:pt x="556" y="1243"/>
                </a:lnTo>
                <a:lnTo>
                  <a:pt x="567" y="1243"/>
                </a:lnTo>
                <a:lnTo>
                  <a:pt x="582" y="1244"/>
                </a:lnTo>
                <a:lnTo>
                  <a:pt x="596" y="1244"/>
                </a:lnTo>
                <a:lnTo>
                  <a:pt x="602" y="1244"/>
                </a:lnTo>
                <a:lnTo>
                  <a:pt x="609" y="1244"/>
                </a:lnTo>
                <a:lnTo>
                  <a:pt x="616" y="1244"/>
                </a:lnTo>
                <a:lnTo>
                  <a:pt x="625" y="1243"/>
                </a:lnTo>
                <a:lnTo>
                  <a:pt x="634" y="1243"/>
                </a:lnTo>
                <a:lnTo>
                  <a:pt x="644" y="1243"/>
                </a:lnTo>
                <a:lnTo>
                  <a:pt x="655" y="1241"/>
                </a:lnTo>
                <a:lnTo>
                  <a:pt x="667" y="1241"/>
                </a:lnTo>
                <a:lnTo>
                  <a:pt x="680" y="1240"/>
                </a:lnTo>
                <a:lnTo>
                  <a:pt x="693" y="1239"/>
                </a:lnTo>
                <a:lnTo>
                  <a:pt x="706" y="1239"/>
                </a:lnTo>
                <a:lnTo>
                  <a:pt x="721" y="1237"/>
                </a:lnTo>
                <a:lnTo>
                  <a:pt x="736" y="1236"/>
                </a:lnTo>
                <a:lnTo>
                  <a:pt x="753" y="1234"/>
                </a:lnTo>
                <a:lnTo>
                  <a:pt x="770" y="1233"/>
                </a:lnTo>
                <a:lnTo>
                  <a:pt x="788" y="1230"/>
                </a:lnTo>
                <a:lnTo>
                  <a:pt x="806" y="1228"/>
                </a:lnTo>
                <a:lnTo>
                  <a:pt x="825" y="1227"/>
                </a:lnTo>
                <a:lnTo>
                  <a:pt x="845" y="1224"/>
                </a:lnTo>
                <a:lnTo>
                  <a:pt x="867" y="1223"/>
                </a:lnTo>
                <a:lnTo>
                  <a:pt x="888" y="1220"/>
                </a:lnTo>
                <a:lnTo>
                  <a:pt x="910" y="1218"/>
                </a:lnTo>
                <a:lnTo>
                  <a:pt x="933" y="1215"/>
                </a:lnTo>
                <a:lnTo>
                  <a:pt x="957" y="1213"/>
                </a:lnTo>
                <a:lnTo>
                  <a:pt x="982" y="1210"/>
                </a:lnTo>
                <a:lnTo>
                  <a:pt x="1006" y="1207"/>
                </a:lnTo>
                <a:lnTo>
                  <a:pt x="1032" y="1204"/>
                </a:lnTo>
                <a:lnTo>
                  <a:pt x="1060" y="1201"/>
                </a:lnTo>
                <a:lnTo>
                  <a:pt x="1087" y="1198"/>
                </a:lnTo>
                <a:lnTo>
                  <a:pt x="1114" y="1195"/>
                </a:lnTo>
                <a:lnTo>
                  <a:pt x="1143" y="1191"/>
                </a:lnTo>
                <a:lnTo>
                  <a:pt x="1173" y="1188"/>
                </a:lnTo>
                <a:lnTo>
                  <a:pt x="1123" y="1254"/>
                </a:lnTo>
                <a:lnTo>
                  <a:pt x="1099" y="1286"/>
                </a:lnTo>
                <a:lnTo>
                  <a:pt x="1074" y="1319"/>
                </a:lnTo>
                <a:lnTo>
                  <a:pt x="1031" y="1328"/>
                </a:lnTo>
                <a:lnTo>
                  <a:pt x="991" y="1336"/>
                </a:lnTo>
                <a:lnTo>
                  <a:pt x="950" y="1345"/>
                </a:lnTo>
                <a:lnTo>
                  <a:pt x="911" y="1354"/>
                </a:lnTo>
                <a:lnTo>
                  <a:pt x="874" y="1362"/>
                </a:lnTo>
                <a:lnTo>
                  <a:pt x="837" y="1371"/>
                </a:lnTo>
                <a:lnTo>
                  <a:pt x="802" y="1378"/>
                </a:lnTo>
                <a:lnTo>
                  <a:pt x="767" y="1387"/>
                </a:lnTo>
                <a:lnTo>
                  <a:pt x="734" y="1394"/>
                </a:lnTo>
                <a:lnTo>
                  <a:pt x="703" y="1401"/>
                </a:lnTo>
                <a:lnTo>
                  <a:pt x="672" y="1408"/>
                </a:lnTo>
                <a:lnTo>
                  <a:pt x="642" y="1416"/>
                </a:lnTo>
                <a:lnTo>
                  <a:pt x="615" y="1423"/>
                </a:lnTo>
                <a:lnTo>
                  <a:pt x="587" y="1429"/>
                </a:lnTo>
                <a:lnTo>
                  <a:pt x="562" y="1436"/>
                </a:lnTo>
                <a:lnTo>
                  <a:pt x="537" y="1442"/>
                </a:lnTo>
                <a:lnTo>
                  <a:pt x="513" y="1447"/>
                </a:lnTo>
                <a:lnTo>
                  <a:pt x="490" y="1453"/>
                </a:lnTo>
                <a:lnTo>
                  <a:pt x="469" y="1459"/>
                </a:lnTo>
                <a:lnTo>
                  <a:pt x="449" y="1465"/>
                </a:lnTo>
                <a:lnTo>
                  <a:pt x="429" y="1469"/>
                </a:lnTo>
                <a:lnTo>
                  <a:pt x="412" y="1475"/>
                </a:lnTo>
                <a:lnTo>
                  <a:pt x="395" y="1479"/>
                </a:lnTo>
                <a:lnTo>
                  <a:pt x="380" y="1483"/>
                </a:lnTo>
                <a:lnTo>
                  <a:pt x="366" y="1488"/>
                </a:lnTo>
                <a:lnTo>
                  <a:pt x="351" y="1490"/>
                </a:lnTo>
                <a:lnTo>
                  <a:pt x="340" y="1495"/>
                </a:lnTo>
                <a:lnTo>
                  <a:pt x="330" y="1498"/>
                </a:lnTo>
                <a:lnTo>
                  <a:pt x="320" y="1501"/>
                </a:lnTo>
                <a:lnTo>
                  <a:pt x="311" y="1503"/>
                </a:lnTo>
                <a:lnTo>
                  <a:pt x="304" y="1505"/>
                </a:lnTo>
                <a:lnTo>
                  <a:pt x="298" y="1508"/>
                </a:lnTo>
                <a:lnTo>
                  <a:pt x="282" y="1513"/>
                </a:lnTo>
                <a:lnTo>
                  <a:pt x="269" y="1521"/>
                </a:lnTo>
                <a:lnTo>
                  <a:pt x="255" y="1526"/>
                </a:lnTo>
                <a:lnTo>
                  <a:pt x="242" y="1532"/>
                </a:lnTo>
                <a:lnTo>
                  <a:pt x="229" y="1537"/>
                </a:lnTo>
                <a:lnTo>
                  <a:pt x="217" y="1542"/>
                </a:lnTo>
                <a:lnTo>
                  <a:pt x="206" y="1545"/>
                </a:lnTo>
                <a:lnTo>
                  <a:pt x="196" y="1549"/>
                </a:lnTo>
                <a:lnTo>
                  <a:pt x="186" y="1552"/>
                </a:lnTo>
                <a:lnTo>
                  <a:pt x="177" y="1555"/>
                </a:lnTo>
                <a:lnTo>
                  <a:pt x="169" y="1558"/>
                </a:lnTo>
                <a:lnTo>
                  <a:pt x="160" y="1560"/>
                </a:lnTo>
                <a:lnTo>
                  <a:pt x="154" y="1561"/>
                </a:lnTo>
                <a:lnTo>
                  <a:pt x="148" y="1562"/>
                </a:lnTo>
                <a:lnTo>
                  <a:pt x="143" y="1562"/>
                </a:lnTo>
                <a:lnTo>
                  <a:pt x="138" y="1564"/>
                </a:lnTo>
                <a:lnTo>
                  <a:pt x="134" y="1562"/>
                </a:lnTo>
                <a:lnTo>
                  <a:pt x="130" y="1561"/>
                </a:lnTo>
                <a:lnTo>
                  <a:pt x="125" y="1560"/>
                </a:lnTo>
                <a:lnTo>
                  <a:pt x="121" y="1557"/>
                </a:lnTo>
                <a:lnTo>
                  <a:pt x="115" y="1552"/>
                </a:lnTo>
                <a:lnTo>
                  <a:pt x="110" y="1548"/>
                </a:lnTo>
                <a:lnTo>
                  <a:pt x="104" y="1544"/>
                </a:lnTo>
                <a:lnTo>
                  <a:pt x="99" y="1538"/>
                </a:lnTo>
                <a:lnTo>
                  <a:pt x="94" y="1531"/>
                </a:lnTo>
                <a:lnTo>
                  <a:pt x="88" y="1524"/>
                </a:lnTo>
                <a:lnTo>
                  <a:pt x="82" y="1516"/>
                </a:lnTo>
                <a:lnTo>
                  <a:pt x="76" y="1508"/>
                </a:lnTo>
                <a:lnTo>
                  <a:pt x="72" y="1499"/>
                </a:lnTo>
                <a:lnTo>
                  <a:pt x="68" y="1489"/>
                </a:lnTo>
                <a:lnTo>
                  <a:pt x="63" y="1479"/>
                </a:lnTo>
                <a:lnTo>
                  <a:pt x="59" y="1469"/>
                </a:lnTo>
                <a:lnTo>
                  <a:pt x="52" y="1459"/>
                </a:lnTo>
                <a:lnTo>
                  <a:pt x="45" y="1449"/>
                </a:lnTo>
                <a:lnTo>
                  <a:pt x="39" y="1439"/>
                </a:lnTo>
                <a:lnTo>
                  <a:pt x="33" y="1430"/>
                </a:lnTo>
                <a:lnTo>
                  <a:pt x="27" y="1421"/>
                </a:lnTo>
                <a:lnTo>
                  <a:pt x="23" y="1413"/>
                </a:lnTo>
                <a:lnTo>
                  <a:pt x="19" y="1404"/>
                </a:lnTo>
                <a:lnTo>
                  <a:pt x="15" y="1397"/>
                </a:lnTo>
                <a:lnTo>
                  <a:pt x="12" y="1388"/>
                </a:lnTo>
                <a:lnTo>
                  <a:pt x="9" y="1381"/>
                </a:lnTo>
                <a:lnTo>
                  <a:pt x="6" y="1374"/>
                </a:lnTo>
                <a:lnTo>
                  <a:pt x="3" y="1367"/>
                </a:lnTo>
                <a:lnTo>
                  <a:pt x="2" y="1359"/>
                </a:lnTo>
                <a:lnTo>
                  <a:pt x="0" y="1352"/>
                </a:lnTo>
                <a:lnTo>
                  <a:pt x="0" y="1345"/>
                </a:lnTo>
                <a:lnTo>
                  <a:pt x="0" y="1338"/>
                </a:lnTo>
                <a:lnTo>
                  <a:pt x="0" y="1331"/>
                </a:lnTo>
                <a:lnTo>
                  <a:pt x="2" y="1323"/>
                </a:lnTo>
                <a:lnTo>
                  <a:pt x="4" y="1316"/>
                </a:lnTo>
                <a:lnTo>
                  <a:pt x="7" y="1309"/>
                </a:lnTo>
                <a:lnTo>
                  <a:pt x="12" y="1302"/>
                </a:lnTo>
                <a:lnTo>
                  <a:pt x="17" y="1295"/>
                </a:lnTo>
                <a:lnTo>
                  <a:pt x="25" y="1287"/>
                </a:lnTo>
                <a:lnTo>
                  <a:pt x="32" y="1280"/>
                </a:lnTo>
                <a:lnTo>
                  <a:pt x="40" y="1272"/>
                </a:lnTo>
                <a:lnTo>
                  <a:pt x="51" y="1263"/>
                </a:lnTo>
                <a:lnTo>
                  <a:pt x="62" y="1254"/>
                </a:lnTo>
                <a:lnTo>
                  <a:pt x="75" y="1246"/>
                </a:lnTo>
                <a:lnTo>
                  <a:pt x="89" y="1237"/>
                </a:lnTo>
                <a:lnTo>
                  <a:pt x="104" y="1227"/>
                </a:lnTo>
                <a:lnTo>
                  <a:pt x="121" y="1217"/>
                </a:lnTo>
                <a:lnTo>
                  <a:pt x="138" y="1207"/>
                </a:lnTo>
                <a:lnTo>
                  <a:pt x="154" y="1195"/>
                </a:lnTo>
                <a:lnTo>
                  <a:pt x="169" y="1182"/>
                </a:lnTo>
                <a:lnTo>
                  <a:pt x="186" y="1169"/>
                </a:lnTo>
                <a:lnTo>
                  <a:pt x="202" y="1154"/>
                </a:lnTo>
                <a:lnTo>
                  <a:pt x="219" y="1138"/>
                </a:lnTo>
                <a:lnTo>
                  <a:pt x="236" y="1119"/>
                </a:lnTo>
                <a:lnTo>
                  <a:pt x="255" y="1100"/>
                </a:lnTo>
                <a:lnTo>
                  <a:pt x="274" y="1080"/>
                </a:lnTo>
                <a:lnTo>
                  <a:pt x="292" y="1059"/>
                </a:lnTo>
                <a:lnTo>
                  <a:pt x="311" y="1036"/>
                </a:lnTo>
                <a:lnTo>
                  <a:pt x="331" y="1011"/>
                </a:lnTo>
                <a:lnTo>
                  <a:pt x="351" y="985"/>
                </a:lnTo>
                <a:lnTo>
                  <a:pt x="373" y="958"/>
                </a:lnTo>
                <a:lnTo>
                  <a:pt x="393" y="930"/>
                </a:lnTo>
                <a:lnTo>
                  <a:pt x="415" y="900"/>
                </a:lnTo>
                <a:lnTo>
                  <a:pt x="438" y="869"/>
                </a:lnTo>
                <a:lnTo>
                  <a:pt x="459" y="837"/>
                </a:lnTo>
                <a:lnTo>
                  <a:pt x="481" y="805"/>
                </a:lnTo>
                <a:lnTo>
                  <a:pt x="501" y="774"/>
                </a:lnTo>
                <a:lnTo>
                  <a:pt x="521" y="742"/>
                </a:lnTo>
                <a:lnTo>
                  <a:pt x="541" y="710"/>
                </a:lnTo>
                <a:lnTo>
                  <a:pt x="562" y="680"/>
                </a:lnTo>
                <a:lnTo>
                  <a:pt x="580" y="648"/>
                </a:lnTo>
                <a:lnTo>
                  <a:pt x="598" y="618"/>
                </a:lnTo>
                <a:lnTo>
                  <a:pt x="616" y="586"/>
                </a:lnTo>
                <a:lnTo>
                  <a:pt x="632" y="556"/>
                </a:lnTo>
                <a:lnTo>
                  <a:pt x="648" y="527"/>
                </a:lnTo>
                <a:lnTo>
                  <a:pt x="664" y="497"/>
                </a:lnTo>
                <a:lnTo>
                  <a:pt x="678" y="467"/>
                </a:lnTo>
                <a:lnTo>
                  <a:pt x="691" y="438"/>
                </a:lnTo>
                <a:lnTo>
                  <a:pt x="704" y="409"/>
                </a:lnTo>
                <a:lnTo>
                  <a:pt x="716" y="382"/>
                </a:lnTo>
                <a:lnTo>
                  <a:pt x="726" y="357"/>
                </a:lnTo>
                <a:lnTo>
                  <a:pt x="736" y="333"/>
                </a:lnTo>
                <a:lnTo>
                  <a:pt x="744" y="311"/>
                </a:lnTo>
                <a:lnTo>
                  <a:pt x="752" y="290"/>
                </a:lnTo>
                <a:lnTo>
                  <a:pt x="759" y="268"/>
                </a:lnTo>
                <a:lnTo>
                  <a:pt x="765" y="250"/>
                </a:lnTo>
                <a:lnTo>
                  <a:pt x="770" y="231"/>
                </a:lnTo>
                <a:lnTo>
                  <a:pt x="775" y="212"/>
                </a:lnTo>
                <a:lnTo>
                  <a:pt x="777" y="195"/>
                </a:lnTo>
                <a:lnTo>
                  <a:pt x="780" y="179"/>
                </a:lnTo>
                <a:lnTo>
                  <a:pt x="782" y="163"/>
                </a:lnTo>
                <a:lnTo>
                  <a:pt x="782" y="149"/>
                </a:lnTo>
                <a:lnTo>
                  <a:pt x="782" y="136"/>
                </a:lnTo>
                <a:lnTo>
                  <a:pt x="780" y="123"/>
                </a:lnTo>
                <a:lnTo>
                  <a:pt x="777" y="111"/>
                </a:lnTo>
                <a:lnTo>
                  <a:pt x="775" y="100"/>
                </a:lnTo>
                <a:lnTo>
                  <a:pt x="772" y="90"/>
                </a:lnTo>
                <a:lnTo>
                  <a:pt x="769" y="80"/>
                </a:lnTo>
                <a:lnTo>
                  <a:pt x="766" y="71"/>
                </a:lnTo>
                <a:lnTo>
                  <a:pt x="765" y="64"/>
                </a:lnTo>
                <a:lnTo>
                  <a:pt x="763" y="57"/>
                </a:lnTo>
                <a:lnTo>
                  <a:pt x="762" y="49"/>
                </a:lnTo>
                <a:lnTo>
                  <a:pt x="762" y="44"/>
                </a:lnTo>
                <a:lnTo>
                  <a:pt x="763" y="39"/>
                </a:lnTo>
                <a:lnTo>
                  <a:pt x="765" y="34"/>
                </a:lnTo>
                <a:lnTo>
                  <a:pt x="766" y="29"/>
                </a:lnTo>
                <a:lnTo>
                  <a:pt x="769" y="25"/>
                </a:lnTo>
                <a:lnTo>
                  <a:pt x="772" y="21"/>
                </a:lnTo>
                <a:lnTo>
                  <a:pt x="776" y="16"/>
                </a:lnTo>
                <a:lnTo>
                  <a:pt x="782" y="13"/>
                </a:lnTo>
                <a:lnTo>
                  <a:pt x="788" y="9"/>
                </a:lnTo>
                <a:lnTo>
                  <a:pt x="795" y="6"/>
                </a:lnTo>
                <a:lnTo>
                  <a:pt x="802" y="3"/>
                </a:lnTo>
                <a:lnTo>
                  <a:pt x="811" y="0"/>
                </a:lnTo>
                <a:lnTo>
                  <a:pt x="819" y="0"/>
                </a:lnTo>
                <a:lnTo>
                  <a:pt x="829" y="2"/>
                </a:lnTo>
                <a:lnTo>
                  <a:pt x="838" y="3"/>
                </a:lnTo>
                <a:lnTo>
                  <a:pt x="849" y="6"/>
                </a:lnTo>
                <a:lnTo>
                  <a:pt x="860" y="11"/>
                </a:lnTo>
                <a:lnTo>
                  <a:pt x="872" y="15"/>
                </a:lnTo>
                <a:lnTo>
                  <a:pt x="884" y="21"/>
                </a:lnTo>
                <a:lnTo>
                  <a:pt x="898" y="26"/>
                </a:lnTo>
                <a:lnTo>
                  <a:pt x="911" y="35"/>
                </a:lnTo>
                <a:lnTo>
                  <a:pt x="926" y="42"/>
                </a:lnTo>
                <a:lnTo>
                  <a:pt x="942" y="51"/>
                </a:lnTo>
                <a:lnTo>
                  <a:pt x="959" y="61"/>
                </a:lnTo>
                <a:lnTo>
                  <a:pt x="975" y="71"/>
                </a:lnTo>
                <a:lnTo>
                  <a:pt x="993" y="81"/>
                </a:lnTo>
                <a:lnTo>
                  <a:pt x="1008" y="91"/>
                </a:lnTo>
                <a:lnTo>
                  <a:pt x="1021" y="103"/>
                </a:lnTo>
                <a:lnTo>
                  <a:pt x="1034" y="113"/>
                </a:lnTo>
                <a:lnTo>
                  <a:pt x="1045" y="123"/>
                </a:lnTo>
                <a:lnTo>
                  <a:pt x="1057" y="134"/>
                </a:lnTo>
                <a:lnTo>
                  <a:pt x="1065" y="144"/>
                </a:lnTo>
                <a:lnTo>
                  <a:pt x="1075" y="155"/>
                </a:lnTo>
                <a:lnTo>
                  <a:pt x="1083" y="166"/>
                </a:lnTo>
                <a:lnTo>
                  <a:pt x="1090" y="176"/>
                </a:lnTo>
                <a:lnTo>
                  <a:pt x="1096" y="186"/>
                </a:lnTo>
                <a:lnTo>
                  <a:pt x="1101" y="198"/>
                </a:lnTo>
                <a:lnTo>
                  <a:pt x="1106" y="208"/>
                </a:lnTo>
                <a:lnTo>
                  <a:pt x="1109" y="218"/>
                </a:lnTo>
                <a:lnTo>
                  <a:pt x="1111" y="228"/>
                </a:lnTo>
                <a:lnTo>
                  <a:pt x="1113" y="239"/>
                </a:lnTo>
                <a:lnTo>
                  <a:pt x="1113" y="25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67"/>
          <p:cNvSpPr/>
          <p:nvPr/>
        </p:nvSpPr>
        <p:spPr>
          <a:xfrm>
            <a:off x="5622840" y="3220920"/>
            <a:ext cx="798480" cy="973080"/>
          </a:xfrm>
          <a:custGeom>
            <a:avLst/>
            <a:gdLst/>
            <a:ahLst/>
            <a:rect l="l" t="t" r="r" b="b"/>
            <a:pathLst>
              <a:path w="1511" h="1839">
                <a:moveTo>
                  <a:pt x="339" y="1782"/>
                </a:moveTo>
                <a:lnTo>
                  <a:pt x="330" y="1790"/>
                </a:lnTo>
                <a:lnTo>
                  <a:pt x="323" y="1795"/>
                </a:lnTo>
                <a:lnTo>
                  <a:pt x="316" y="1801"/>
                </a:lnTo>
                <a:lnTo>
                  <a:pt x="309" y="1807"/>
                </a:lnTo>
                <a:lnTo>
                  <a:pt x="301" y="1813"/>
                </a:lnTo>
                <a:lnTo>
                  <a:pt x="293" y="1817"/>
                </a:lnTo>
                <a:lnTo>
                  <a:pt x="285" y="1821"/>
                </a:lnTo>
                <a:lnTo>
                  <a:pt x="278" y="1824"/>
                </a:lnTo>
                <a:lnTo>
                  <a:pt x="271" y="1829"/>
                </a:lnTo>
                <a:lnTo>
                  <a:pt x="264" y="1831"/>
                </a:lnTo>
                <a:lnTo>
                  <a:pt x="255" y="1833"/>
                </a:lnTo>
                <a:lnTo>
                  <a:pt x="248" y="1836"/>
                </a:lnTo>
                <a:lnTo>
                  <a:pt x="241" y="1837"/>
                </a:lnTo>
                <a:lnTo>
                  <a:pt x="234" y="1837"/>
                </a:lnTo>
                <a:lnTo>
                  <a:pt x="226" y="1839"/>
                </a:lnTo>
                <a:lnTo>
                  <a:pt x="219" y="1839"/>
                </a:lnTo>
                <a:lnTo>
                  <a:pt x="208" y="1839"/>
                </a:lnTo>
                <a:lnTo>
                  <a:pt x="198" y="1837"/>
                </a:lnTo>
                <a:lnTo>
                  <a:pt x="188" y="1834"/>
                </a:lnTo>
                <a:lnTo>
                  <a:pt x="178" y="1831"/>
                </a:lnTo>
                <a:lnTo>
                  <a:pt x="167" y="1829"/>
                </a:lnTo>
                <a:lnTo>
                  <a:pt x="159" y="1824"/>
                </a:lnTo>
                <a:lnTo>
                  <a:pt x="150" y="1818"/>
                </a:lnTo>
                <a:lnTo>
                  <a:pt x="142" y="1813"/>
                </a:lnTo>
                <a:lnTo>
                  <a:pt x="133" y="1807"/>
                </a:lnTo>
                <a:lnTo>
                  <a:pt x="124" y="1800"/>
                </a:lnTo>
                <a:lnTo>
                  <a:pt x="117" y="1791"/>
                </a:lnTo>
                <a:lnTo>
                  <a:pt x="110" y="1784"/>
                </a:lnTo>
                <a:lnTo>
                  <a:pt x="101" y="1775"/>
                </a:lnTo>
                <a:lnTo>
                  <a:pt x="94" y="1765"/>
                </a:lnTo>
                <a:lnTo>
                  <a:pt x="87" y="1755"/>
                </a:lnTo>
                <a:lnTo>
                  <a:pt x="80" y="1745"/>
                </a:lnTo>
                <a:lnTo>
                  <a:pt x="70" y="1735"/>
                </a:lnTo>
                <a:lnTo>
                  <a:pt x="59" y="1723"/>
                </a:lnTo>
                <a:lnTo>
                  <a:pt x="51" y="1713"/>
                </a:lnTo>
                <a:lnTo>
                  <a:pt x="42" y="1703"/>
                </a:lnTo>
                <a:lnTo>
                  <a:pt x="35" y="1693"/>
                </a:lnTo>
                <a:lnTo>
                  <a:pt x="28" y="1682"/>
                </a:lnTo>
                <a:lnTo>
                  <a:pt x="22" y="1673"/>
                </a:lnTo>
                <a:lnTo>
                  <a:pt x="18" y="1663"/>
                </a:lnTo>
                <a:lnTo>
                  <a:pt x="13" y="1653"/>
                </a:lnTo>
                <a:lnTo>
                  <a:pt x="9" y="1644"/>
                </a:lnTo>
                <a:lnTo>
                  <a:pt x="6" y="1634"/>
                </a:lnTo>
                <a:lnTo>
                  <a:pt x="3" y="1626"/>
                </a:lnTo>
                <a:lnTo>
                  <a:pt x="2" y="1617"/>
                </a:lnTo>
                <a:lnTo>
                  <a:pt x="0" y="1610"/>
                </a:lnTo>
                <a:lnTo>
                  <a:pt x="0" y="1603"/>
                </a:lnTo>
                <a:lnTo>
                  <a:pt x="0" y="1595"/>
                </a:lnTo>
                <a:lnTo>
                  <a:pt x="0" y="1591"/>
                </a:lnTo>
                <a:lnTo>
                  <a:pt x="2" y="1587"/>
                </a:lnTo>
                <a:lnTo>
                  <a:pt x="3" y="1582"/>
                </a:lnTo>
                <a:lnTo>
                  <a:pt x="8" y="1578"/>
                </a:lnTo>
                <a:lnTo>
                  <a:pt x="12" y="1572"/>
                </a:lnTo>
                <a:lnTo>
                  <a:pt x="16" y="1567"/>
                </a:lnTo>
                <a:lnTo>
                  <a:pt x="23" y="1561"/>
                </a:lnTo>
                <a:lnTo>
                  <a:pt x="29" y="1555"/>
                </a:lnTo>
                <a:lnTo>
                  <a:pt x="38" y="1549"/>
                </a:lnTo>
                <a:lnTo>
                  <a:pt x="47" y="1542"/>
                </a:lnTo>
                <a:lnTo>
                  <a:pt x="57" y="1536"/>
                </a:lnTo>
                <a:lnTo>
                  <a:pt x="67" y="1529"/>
                </a:lnTo>
                <a:lnTo>
                  <a:pt x="78" y="1522"/>
                </a:lnTo>
                <a:lnTo>
                  <a:pt x="91" y="1515"/>
                </a:lnTo>
                <a:lnTo>
                  <a:pt x="106" y="1508"/>
                </a:lnTo>
                <a:lnTo>
                  <a:pt x="120" y="1502"/>
                </a:lnTo>
                <a:lnTo>
                  <a:pt x="126" y="1499"/>
                </a:lnTo>
                <a:lnTo>
                  <a:pt x="131" y="1496"/>
                </a:lnTo>
                <a:lnTo>
                  <a:pt x="137" y="1493"/>
                </a:lnTo>
                <a:lnTo>
                  <a:pt x="144" y="1489"/>
                </a:lnTo>
                <a:lnTo>
                  <a:pt x="152" y="1486"/>
                </a:lnTo>
                <a:lnTo>
                  <a:pt x="159" y="1480"/>
                </a:lnTo>
                <a:lnTo>
                  <a:pt x="167" y="1476"/>
                </a:lnTo>
                <a:lnTo>
                  <a:pt x="176" y="1470"/>
                </a:lnTo>
                <a:lnTo>
                  <a:pt x="185" y="1463"/>
                </a:lnTo>
                <a:lnTo>
                  <a:pt x="193" y="1456"/>
                </a:lnTo>
                <a:lnTo>
                  <a:pt x="202" y="1449"/>
                </a:lnTo>
                <a:lnTo>
                  <a:pt x="212" y="1440"/>
                </a:lnTo>
                <a:lnTo>
                  <a:pt x="222" y="1433"/>
                </a:lnTo>
                <a:lnTo>
                  <a:pt x="232" y="1423"/>
                </a:lnTo>
                <a:lnTo>
                  <a:pt x="244" y="1413"/>
                </a:lnTo>
                <a:lnTo>
                  <a:pt x="254" y="1402"/>
                </a:lnTo>
                <a:lnTo>
                  <a:pt x="265" y="1392"/>
                </a:lnTo>
                <a:lnTo>
                  <a:pt x="277" y="1381"/>
                </a:lnTo>
                <a:lnTo>
                  <a:pt x="290" y="1369"/>
                </a:lnTo>
                <a:lnTo>
                  <a:pt x="301" y="1356"/>
                </a:lnTo>
                <a:lnTo>
                  <a:pt x="314" y="1343"/>
                </a:lnTo>
                <a:lnTo>
                  <a:pt x="327" y="1330"/>
                </a:lnTo>
                <a:lnTo>
                  <a:pt x="342" y="1316"/>
                </a:lnTo>
                <a:lnTo>
                  <a:pt x="355" y="1302"/>
                </a:lnTo>
                <a:lnTo>
                  <a:pt x="369" y="1286"/>
                </a:lnTo>
                <a:lnTo>
                  <a:pt x="383" y="1270"/>
                </a:lnTo>
                <a:lnTo>
                  <a:pt x="398" y="1254"/>
                </a:lnTo>
                <a:lnTo>
                  <a:pt x="414" y="1237"/>
                </a:lnTo>
                <a:lnTo>
                  <a:pt x="428" y="1220"/>
                </a:lnTo>
                <a:lnTo>
                  <a:pt x="444" y="1201"/>
                </a:lnTo>
                <a:lnTo>
                  <a:pt x="461" y="1182"/>
                </a:lnTo>
                <a:lnTo>
                  <a:pt x="477" y="1163"/>
                </a:lnTo>
                <a:lnTo>
                  <a:pt x="510" y="1127"/>
                </a:lnTo>
                <a:lnTo>
                  <a:pt x="543" y="1091"/>
                </a:lnTo>
                <a:lnTo>
                  <a:pt x="575" y="1055"/>
                </a:lnTo>
                <a:lnTo>
                  <a:pt x="608" y="1018"/>
                </a:lnTo>
                <a:lnTo>
                  <a:pt x="640" y="981"/>
                </a:lnTo>
                <a:lnTo>
                  <a:pt x="671" y="943"/>
                </a:lnTo>
                <a:lnTo>
                  <a:pt x="702" y="904"/>
                </a:lnTo>
                <a:lnTo>
                  <a:pt x="733" y="865"/>
                </a:lnTo>
                <a:lnTo>
                  <a:pt x="763" y="825"/>
                </a:lnTo>
                <a:lnTo>
                  <a:pt x="795" y="785"/>
                </a:lnTo>
                <a:lnTo>
                  <a:pt x="825" y="743"/>
                </a:lnTo>
                <a:lnTo>
                  <a:pt x="856" y="701"/>
                </a:lnTo>
                <a:lnTo>
                  <a:pt x="886" y="658"/>
                </a:lnTo>
                <a:lnTo>
                  <a:pt x="915" y="615"/>
                </a:lnTo>
                <a:lnTo>
                  <a:pt x="945" y="570"/>
                </a:lnTo>
                <a:lnTo>
                  <a:pt x="975" y="526"/>
                </a:lnTo>
                <a:lnTo>
                  <a:pt x="987" y="503"/>
                </a:lnTo>
                <a:lnTo>
                  <a:pt x="1000" y="480"/>
                </a:lnTo>
                <a:lnTo>
                  <a:pt x="1011" y="458"/>
                </a:lnTo>
                <a:lnTo>
                  <a:pt x="1023" y="438"/>
                </a:lnTo>
                <a:lnTo>
                  <a:pt x="1034" y="418"/>
                </a:lnTo>
                <a:lnTo>
                  <a:pt x="1046" y="398"/>
                </a:lnTo>
                <a:lnTo>
                  <a:pt x="1056" y="377"/>
                </a:lnTo>
                <a:lnTo>
                  <a:pt x="1066" y="359"/>
                </a:lnTo>
                <a:lnTo>
                  <a:pt x="1076" y="341"/>
                </a:lnTo>
                <a:lnTo>
                  <a:pt x="1084" y="324"/>
                </a:lnTo>
                <a:lnTo>
                  <a:pt x="1095" y="307"/>
                </a:lnTo>
                <a:lnTo>
                  <a:pt x="1102" y="290"/>
                </a:lnTo>
                <a:lnTo>
                  <a:pt x="1110" y="274"/>
                </a:lnTo>
                <a:lnTo>
                  <a:pt x="1118" y="258"/>
                </a:lnTo>
                <a:lnTo>
                  <a:pt x="1125" y="244"/>
                </a:lnTo>
                <a:lnTo>
                  <a:pt x="1132" y="229"/>
                </a:lnTo>
                <a:lnTo>
                  <a:pt x="1139" y="216"/>
                </a:lnTo>
                <a:lnTo>
                  <a:pt x="1145" y="202"/>
                </a:lnTo>
                <a:lnTo>
                  <a:pt x="1149" y="190"/>
                </a:lnTo>
                <a:lnTo>
                  <a:pt x="1155" y="177"/>
                </a:lnTo>
                <a:lnTo>
                  <a:pt x="1159" y="166"/>
                </a:lnTo>
                <a:lnTo>
                  <a:pt x="1164" y="156"/>
                </a:lnTo>
                <a:lnTo>
                  <a:pt x="1166" y="144"/>
                </a:lnTo>
                <a:lnTo>
                  <a:pt x="1169" y="134"/>
                </a:lnTo>
                <a:lnTo>
                  <a:pt x="1172" y="126"/>
                </a:lnTo>
                <a:lnTo>
                  <a:pt x="1174" y="117"/>
                </a:lnTo>
                <a:lnTo>
                  <a:pt x="1175" y="108"/>
                </a:lnTo>
                <a:lnTo>
                  <a:pt x="1175" y="101"/>
                </a:lnTo>
                <a:lnTo>
                  <a:pt x="1175" y="94"/>
                </a:lnTo>
                <a:lnTo>
                  <a:pt x="1175" y="87"/>
                </a:lnTo>
                <a:lnTo>
                  <a:pt x="1175" y="81"/>
                </a:lnTo>
                <a:lnTo>
                  <a:pt x="1174" y="75"/>
                </a:lnTo>
                <a:lnTo>
                  <a:pt x="1169" y="65"/>
                </a:lnTo>
                <a:lnTo>
                  <a:pt x="1168" y="55"/>
                </a:lnTo>
                <a:lnTo>
                  <a:pt x="1166" y="48"/>
                </a:lnTo>
                <a:lnTo>
                  <a:pt x="1165" y="39"/>
                </a:lnTo>
                <a:lnTo>
                  <a:pt x="1166" y="32"/>
                </a:lnTo>
                <a:lnTo>
                  <a:pt x="1168" y="26"/>
                </a:lnTo>
                <a:lnTo>
                  <a:pt x="1169" y="20"/>
                </a:lnTo>
                <a:lnTo>
                  <a:pt x="1174" y="16"/>
                </a:lnTo>
                <a:lnTo>
                  <a:pt x="1178" y="12"/>
                </a:lnTo>
                <a:lnTo>
                  <a:pt x="1182" y="9"/>
                </a:lnTo>
                <a:lnTo>
                  <a:pt x="1188" y="6"/>
                </a:lnTo>
                <a:lnTo>
                  <a:pt x="1195" y="5"/>
                </a:lnTo>
                <a:lnTo>
                  <a:pt x="1204" y="2"/>
                </a:lnTo>
                <a:lnTo>
                  <a:pt x="1213" y="2"/>
                </a:lnTo>
                <a:lnTo>
                  <a:pt x="1223" y="0"/>
                </a:lnTo>
                <a:lnTo>
                  <a:pt x="1233" y="0"/>
                </a:lnTo>
                <a:lnTo>
                  <a:pt x="1244" y="0"/>
                </a:lnTo>
                <a:lnTo>
                  <a:pt x="1254" y="2"/>
                </a:lnTo>
                <a:lnTo>
                  <a:pt x="1266" y="5"/>
                </a:lnTo>
                <a:lnTo>
                  <a:pt x="1277" y="7"/>
                </a:lnTo>
                <a:lnTo>
                  <a:pt x="1289" y="10"/>
                </a:lnTo>
                <a:lnTo>
                  <a:pt x="1299" y="15"/>
                </a:lnTo>
                <a:lnTo>
                  <a:pt x="1310" y="20"/>
                </a:lnTo>
                <a:lnTo>
                  <a:pt x="1322" y="26"/>
                </a:lnTo>
                <a:lnTo>
                  <a:pt x="1333" y="32"/>
                </a:lnTo>
                <a:lnTo>
                  <a:pt x="1345" y="39"/>
                </a:lnTo>
                <a:lnTo>
                  <a:pt x="1355" y="46"/>
                </a:lnTo>
                <a:lnTo>
                  <a:pt x="1367" y="55"/>
                </a:lnTo>
                <a:lnTo>
                  <a:pt x="1378" y="64"/>
                </a:lnTo>
                <a:lnTo>
                  <a:pt x="1390" y="74"/>
                </a:lnTo>
                <a:lnTo>
                  <a:pt x="1400" y="84"/>
                </a:lnTo>
                <a:lnTo>
                  <a:pt x="1411" y="94"/>
                </a:lnTo>
                <a:lnTo>
                  <a:pt x="1423" y="108"/>
                </a:lnTo>
                <a:lnTo>
                  <a:pt x="1433" y="121"/>
                </a:lnTo>
                <a:lnTo>
                  <a:pt x="1443" y="134"/>
                </a:lnTo>
                <a:lnTo>
                  <a:pt x="1452" y="147"/>
                </a:lnTo>
                <a:lnTo>
                  <a:pt x="1460" y="159"/>
                </a:lnTo>
                <a:lnTo>
                  <a:pt x="1469" y="170"/>
                </a:lnTo>
                <a:lnTo>
                  <a:pt x="1476" y="182"/>
                </a:lnTo>
                <a:lnTo>
                  <a:pt x="1483" y="192"/>
                </a:lnTo>
                <a:lnTo>
                  <a:pt x="1489" y="203"/>
                </a:lnTo>
                <a:lnTo>
                  <a:pt x="1495" y="212"/>
                </a:lnTo>
                <a:lnTo>
                  <a:pt x="1499" y="222"/>
                </a:lnTo>
                <a:lnTo>
                  <a:pt x="1503" y="231"/>
                </a:lnTo>
                <a:lnTo>
                  <a:pt x="1506" y="239"/>
                </a:lnTo>
                <a:lnTo>
                  <a:pt x="1509" y="248"/>
                </a:lnTo>
                <a:lnTo>
                  <a:pt x="1511" y="255"/>
                </a:lnTo>
                <a:lnTo>
                  <a:pt x="1511" y="262"/>
                </a:lnTo>
                <a:lnTo>
                  <a:pt x="1511" y="267"/>
                </a:lnTo>
                <a:lnTo>
                  <a:pt x="1509" y="271"/>
                </a:lnTo>
                <a:lnTo>
                  <a:pt x="1508" y="275"/>
                </a:lnTo>
                <a:lnTo>
                  <a:pt x="1506" y="281"/>
                </a:lnTo>
                <a:lnTo>
                  <a:pt x="1503" y="287"/>
                </a:lnTo>
                <a:lnTo>
                  <a:pt x="1500" y="294"/>
                </a:lnTo>
                <a:lnTo>
                  <a:pt x="1496" y="301"/>
                </a:lnTo>
                <a:lnTo>
                  <a:pt x="1492" y="308"/>
                </a:lnTo>
                <a:lnTo>
                  <a:pt x="1486" y="316"/>
                </a:lnTo>
                <a:lnTo>
                  <a:pt x="1482" y="324"/>
                </a:lnTo>
                <a:lnTo>
                  <a:pt x="1475" y="334"/>
                </a:lnTo>
                <a:lnTo>
                  <a:pt x="1469" y="344"/>
                </a:lnTo>
                <a:lnTo>
                  <a:pt x="1460" y="354"/>
                </a:lnTo>
                <a:lnTo>
                  <a:pt x="1453" y="364"/>
                </a:lnTo>
                <a:lnTo>
                  <a:pt x="1444" y="376"/>
                </a:lnTo>
                <a:lnTo>
                  <a:pt x="1436" y="389"/>
                </a:lnTo>
                <a:lnTo>
                  <a:pt x="1426" y="400"/>
                </a:lnTo>
                <a:lnTo>
                  <a:pt x="1416" y="415"/>
                </a:lnTo>
                <a:lnTo>
                  <a:pt x="1404" y="428"/>
                </a:lnTo>
                <a:lnTo>
                  <a:pt x="1394" y="442"/>
                </a:lnTo>
                <a:lnTo>
                  <a:pt x="1381" y="457"/>
                </a:lnTo>
                <a:lnTo>
                  <a:pt x="1369" y="472"/>
                </a:lnTo>
                <a:lnTo>
                  <a:pt x="1355" y="488"/>
                </a:lnTo>
                <a:lnTo>
                  <a:pt x="1342" y="504"/>
                </a:lnTo>
                <a:lnTo>
                  <a:pt x="1328" y="521"/>
                </a:lnTo>
                <a:lnTo>
                  <a:pt x="1313" y="539"/>
                </a:lnTo>
                <a:lnTo>
                  <a:pt x="1297" y="557"/>
                </a:lnTo>
                <a:lnTo>
                  <a:pt x="1282" y="576"/>
                </a:lnTo>
                <a:lnTo>
                  <a:pt x="1266" y="595"/>
                </a:lnTo>
                <a:lnTo>
                  <a:pt x="1249" y="615"/>
                </a:lnTo>
                <a:lnTo>
                  <a:pt x="1231" y="635"/>
                </a:lnTo>
                <a:lnTo>
                  <a:pt x="1213" y="657"/>
                </a:lnTo>
                <a:lnTo>
                  <a:pt x="1177" y="701"/>
                </a:lnTo>
                <a:lnTo>
                  <a:pt x="1139" y="746"/>
                </a:lnTo>
                <a:lnTo>
                  <a:pt x="1103" y="789"/>
                </a:lnTo>
                <a:lnTo>
                  <a:pt x="1069" y="829"/>
                </a:lnTo>
                <a:lnTo>
                  <a:pt x="1033" y="870"/>
                </a:lnTo>
                <a:lnTo>
                  <a:pt x="998" y="909"/>
                </a:lnTo>
                <a:lnTo>
                  <a:pt x="964" y="946"/>
                </a:lnTo>
                <a:lnTo>
                  <a:pt x="929" y="982"/>
                </a:lnTo>
                <a:lnTo>
                  <a:pt x="896" y="1018"/>
                </a:lnTo>
                <a:lnTo>
                  <a:pt x="863" y="1053"/>
                </a:lnTo>
                <a:lnTo>
                  <a:pt x="831" y="1086"/>
                </a:lnTo>
                <a:lnTo>
                  <a:pt x="798" y="1117"/>
                </a:lnTo>
                <a:lnTo>
                  <a:pt x="766" y="1149"/>
                </a:lnTo>
                <a:lnTo>
                  <a:pt x="736" y="1179"/>
                </a:lnTo>
                <a:lnTo>
                  <a:pt x="706" y="1210"/>
                </a:lnTo>
                <a:lnTo>
                  <a:pt x="676" y="1238"/>
                </a:lnTo>
                <a:lnTo>
                  <a:pt x="661" y="1253"/>
                </a:lnTo>
                <a:lnTo>
                  <a:pt x="647" y="1266"/>
                </a:lnTo>
                <a:lnTo>
                  <a:pt x="634" y="1279"/>
                </a:lnTo>
                <a:lnTo>
                  <a:pt x="621" y="1292"/>
                </a:lnTo>
                <a:lnTo>
                  <a:pt x="609" y="1305"/>
                </a:lnTo>
                <a:lnTo>
                  <a:pt x="596" y="1316"/>
                </a:lnTo>
                <a:lnTo>
                  <a:pt x="586" y="1328"/>
                </a:lnTo>
                <a:lnTo>
                  <a:pt x="575" y="1338"/>
                </a:lnTo>
                <a:lnTo>
                  <a:pt x="565" y="1348"/>
                </a:lnTo>
                <a:lnTo>
                  <a:pt x="556" y="1358"/>
                </a:lnTo>
                <a:lnTo>
                  <a:pt x="547" y="1368"/>
                </a:lnTo>
                <a:lnTo>
                  <a:pt x="539" y="1377"/>
                </a:lnTo>
                <a:lnTo>
                  <a:pt x="530" y="1387"/>
                </a:lnTo>
                <a:lnTo>
                  <a:pt x="523" y="1394"/>
                </a:lnTo>
                <a:lnTo>
                  <a:pt x="516" y="1402"/>
                </a:lnTo>
                <a:lnTo>
                  <a:pt x="510" y="1410"/>
                </a:lnTo>
                <a:lnTo>
                  <a:pt x="504" y="1417"/>
                </a:lnTo>
                <a:lnTo>
                  <a:pt x="499" y="1424"/>
                </a:lnTo>
                <a:lnTo>
                  <a:pt x="494" y="1431"/>
                </a:lnTo>
                <a:lnTo>
                  <a:pt x="490" y="1437"/>
                </a:lnTo>
                <a:lnTo>
                  <a:pt x="486" y="1443"/>
                </a:lnTo>
                <a:lnTo>
                  <a:pt x="483" y="1447"/>
                </a:lnTo>
                <a:lnTo>
                  <a:pt x="480" y="1453"/>
                </a:lnTo>
                <a:lnTo>
                  <a:pt x="477" y="1457"/>
                </a:lnTo>
                <a:lnTo>
                  <a:pt x="476" y="1461"/>
                </a:lnTo>
                <a:lnTo>
                  <a:pt x="474" y="1466"/>
                </a:lnTo>
                <a:lnTo>
                  <a:pt x="474" y="1469"/>
                </a:lnTo>
                <a:lnTo>
                  <a:pt x="474" y="1473"/>
                </a:lnTo>
                <a:lnTo>
                  <a:pt x="474" y="1476"/>
                </a:lnTo>
                <a:lnTo>
                  <a:pt x="474" y="1479"/>
                </a:lnTo>
                <a:lnTo>
                  <a:pt x="476" y="1480"/>
                </a:lnTo>
                <a:lnTo>
                  <a:pt x="477" y="1483"/>
                </a:lnTo>
                <a:lnTo>
                  <a:pt x="481" y="1486"/>
                </a:lnTo>
                <a:lnTo>
                  <a:pt x="484" y="1489"/>
                </a:lnTo>
                <a:lnTo>
                  <a:pt x="488" y="1490"/>
                </a:lnTo>
                <a:lnTo>
                  <a:pt x="493" y="1493"/>
                </a:lnTo>
                <a:lnTo>
                  <a:pt x="497" y="1495"/>
                </a:lnTo>
                <a:lnTo>
                  <a:pt x="501" y="1496"/>
                </a:lnTo>
                <a:lnTo>
                  <a:pt x="506" y="1496"/>
                </a:lnTo>
                <a:lnTo>
                  <a:pt x="511" y="1496"/>
                </a:lnTo>
                <a:lnTo>
                  <a:pt x="517" y="1496"/>
                </a:lnTo>
                <a:lnTo>
                  <a:pt x="524" y="1496"/>
                </a:lnTo>
                <a:lnTo>
                  <a:pt x="530" y="1495"/>
                </a:lnTo>
                <a:lnTo>
                  <a:pt x="539" y="1493"/>
                </a:lnTo>
                <a:lnTo>
                  <a:pt x="546" y="1490"/>
                </a:lnTo>
                <a:lnTo>
                  <a:pt x="556" y="1489"/>
                </a:lnTo>
                <a:lnTo>
                  <a:pt x="566" y="1486"/>
                </a:lnTo>
                <a:lnTo>
                  <a:pt x="576" y="1483"/>
                </a:lnTo>
                <a:lnTo>
                  <a:pt x="582" y="1480"/>
                </a:lnTo>
                <a:lnTo>
                  <a:pt x="588" y="1479"/>
                </a:lnTo>
                <a:lnTo>
                  <a:pt x="595" y="1477"/>
                </a:lnTo>
                <a:lnTo>
                  <a:pt x="602" y="1474"/>
                </a:lnTo>
                <a:lnTo>
                  <a:pt x="611" y="1473"/>
                </a:lnTo>
                <a:lnTo>
                  <a:pt x="618" y="1472"/>
                </a:lnTo>
                <a:lnTo>
                  <a:pt x="627" y="1470"/>
                </a:lnTo>
                <a:lnTo>
                  <a:pt x="637" y="1467"/>
                </a:lnTo>
                <a:lnTo>
                  <a:pt x="647" y="1466"/>
                </a:lnTo>
                <a:lnTo>
                  <a:pt x="657" y="1463"/>
                </a:lnTo>
                <a:lnTo>
                  <a:pt x="668" y="1461"/>
                </a:lnTo>
                <a:lnTo>
                  <a:pt x="680" y="1459"/>
                </a:lnTo>
                <a:lnTo>
                  <a:pt x="691" y="1457"/>
                </a:lnTo>
                <a:lnTo>
                  <a:pt x="704" y="1454"/>
                </a:lnTo>
                <a:lnTo>
                  <a:pt x="717" y="1451"/>
                </a:lnTo>
                <a:lnTo>
                  <a:pt x="730" y="1450"/>
                </a:lnTo>
                <a:lnTo>
                  <a:pt x="745" y="1447"/>
                </a:lnTo>
                <a:lnTo>
                  <a:pt x="759" y="1444"/>
                </a:lnTo>
                <a:lnTo>
                  <a:pt x="775" y="1441"/>
                </a:lnTo>
                <a:lnTo>
                  <a:pt x="791" y="1438"/>
                </a:lnTo>
                <a:lnTo>
                  <a:pt x="808" y="1436"/>
                </a:lnTo>
                <a:lnTo>
                  <a:pt x="825" y="1431"/>
                </a:lnTo>
                <a:lnTo>
                  <a:pt x="843" y="1428"/>
                </a:lnTo>
                <a:lnTo>
                  <a:pt x="861" y="1424"/>
                </a:lnTo>
                <a:lnTo>
                  <a:pt x="881" y="1421"/>
                </a:lnTo>
                <a:lnTo>
                  <a:pt x="900" y="1417"/>
                </a:lnTo>
                <a:lnTo>
                  <a:pt x="922" y="1413"/>
                </a:lnTo>
                <a:lnTo>
                  <a:pt x="942" y="1408"/>
                </a:lnTo>
                <a:lnTo>
                  <a:pt x="964" y="1404"/>
                </a:lnTo>
                <a:lnTo>
                  <a:pt x="987" y="1398"/>
                </a:lnTo>
                <a:lnTo>
                  <a:pt x="1010" y="1394"/>
                </a:lnTo>
                <a:lnTo>
                  <a:pt x="1034" y="1388"/>
                </a:lnTo>
                <a:lnTo>
                  <a:pt x="1056" y="1382"/>
                </a:lnTo>
                <a:lnTo>
                  <a:pt x="1077" y="1378"/>
                </a:lnTo>
                <a:lnTo>
                  <a:pt x="1097" y="1374"/>
                </a:lnTo>
                <a:lnTo>
                  <a:pt x="1118" y="1369"/>
                </a:lnTo>
                <a:lnTo>
                  <a:pt x="1136" y="1365"/>
                </a:lnTo>
                <a:lnTo>
                  <a:pt x="1155" y="1362"/>
                </a:lnTo>
                <a:lnTo>
                  <a:pt x="1172" y="1359"/>
                </a:lnTo>
                <a:lnTo>
                  <a:pt x="1190" y="1356"/>
                </a:lnTo>
                <a:lnTo>
                  <a:pt x="1207" y="1353"/>
                </a:lnTo>
                <a:lnTo>
                  <a:pt x="1223" y="1351"/>
                </a:lnTo>
                <a:lnTo>
                  <a:pt x="1237" y="1349"/>
                </a:lnTo>
                <a:lnTo>
                  <a:pt x="1251" y="1348"/>
                </a:lnTo>
                <a:lnTo>
                  <a:pt x="1266" y="1346"/>
                </a:lnTo>
                <a:lnTo>
                  <a:pt x="1279" y="1345"/>
                </a:lnTo>
                <a:lnTo>
                  <a:pt x="1290" y="1343"/>
                </a:lnTo>
                <a:lnTo>
                  <a:pt x="1302" y="1343"/>
                </a:lnTo>
                <a:lnTo>
                  <a:pt x="1313" y="1343"/>
                </a:lnTo>
                <a:lnTo>
                  <a:pt x="1323" y="1343"/>
                </a:lnTo>
                <a:lnTo>
                  <a:pt x="1332" y="1343"/>
                </a:lnTo>
                <a:lnTo>
                  <a:pt x="1341" y="1343"/>
                </a:lnTo>
                <a:lnTo>
                  <a:pt x="1349" y="1345"/>
                </a:lnTo>
                <a:lnTo>
                  <a:pt x="1357" y="1346"/>
                </a:lnTo>
                <a:lnTo>
                  <a:pt x="1364" y="1346"/>
                </a:lnTo>
                <a:lnTo>
                  <a:pt x="1369" y="1349"/>
                </a:lnTo>
                <a:lnTo>
                  <a:pt x="1375" y="1351"/>
                </a:lnTo>
                <a:lnTo>
                  <a:pt x="1380" y="1352"/>
                </a:lnTo>
                <a:lnTo>
                  <a:pt x="1382" y="1355"/>
                </a:lnTo>
                <a:lnTo>
                  <a:pt x="1387" y="1356"/>
                </a:lnTo>
                <a:lnTo>
                  <a:pt x="1388" y="1359"/>
                </a:lnTo>
                <a:lnTo>
                  <a:pt x="1391" y="1362"/>
                </a:lnTo>
                <a:lnTo>
                  <a:pt x="1391" y="1366"/>
                </a:lnTo>
                <a:lnTo>
                  <a:pt x="1393" y="1369"/>
                </a:lnTo>
                <a:lnTo>
                  <a:pt x="1391" y="1374"/>
                </a:lnTo>
                <a:lnTo>
                  <a:pt x="1390" y="1377"/>
                </a:lnTo>
                <a:lnTo>
                  <a:pt x="1388" y="1381"/>
                </a:lnTo>
                <a:lnTo>
                  <a:pt x="1384" y="1385"/>
                </a:lnTo>
                <a:lnTo>
                  <a:pt x="1380" y="1389"/>
                </a:lnTo>
                <a:lnTo>
                  <a:pt x="1375" y="1394"/>
                </a:lnTo>
                <a:lnTo>
                  <a:pt x="1369" y="1400"/>
                </a:lnTo>
                <a:lnTo>
                  <a:pt x="1362" y="1404"/>
                </a:lnTo>
                <a:lnTo>
                  <a:pt x="1354" y="1410"/>
                </a:lnTo>
                <a:lnTo>
                  <a:pt x="1345" y="1414"/>
                </a:lnTo>
                <a:lnTo>
                  <a:pt x="1335" y="1420"/>
                </a:lnTo>
                <a:lnTo>
                  <a:pt x="1325" y="1425"/>
                </a:lnTo>
                <a:lnTo>
                  <a:pt x="1313" y="1431"/>
                </a:lnTo>
                <a:lnTo>
                  <a:pt x="1300" y="1438"/>
                </a:lnTo>
                <a:lnTo>
                  <a:pt x="1287" y="1444"/>
                </a:lnTo>
                <a:lnTo>
                  <a:pt x="1272" y="1451"/>
                </a:lnTo>
                <a:lnTo>
                  <a:pt x="1257" y="1457"/>
                </a:lnTo>
                <a:lnTo>
                  <a:pt x="1240" y="1464"/>
                </a:lnTo>
                <a:lnTo>
                  <a:pt x="1223" y="1472"/>
                </a:lnTo>
                <a:lnTo>
                  <a:pt x="1205" y="1479"/>
                </a:lnTo>
                <a:lnTo>
                  <a:pt x="1187" y="1486"/>
                </a:lnTo>
                <a:lnTo>
                  <a:pt x="1166" y="1493"/>
                </a:lnTo>
                <a:lnTo>
                  <a:pt x="1145" y="1500"/>
                </a:lnTo>
                <a:lnTo>
                  <a:pt x="1123" y="1509"/>
                </a:lnTo>
                <a:lnTo>
                  <a:pt x="1100" y="1516"/>
                </a:lnTo>
                <a:lnTo>
                  <a:pt x="1076" y="1525"/>
                </a:lnTo>
                <a:lnTo>
                  <a:pt x="1051" y="1533"/>
                </a:lnTo>
                <a:lnTo>
                  <a:pt x="1027" y="1541"/>
                </a:lnTo>
                <a:lnTo>
                  <a:pt x="1000" y="1549"/>
                </a:lnTo>
                <a:lnTo>
                  <a:pt x="972" y="1558"/>
                </a:lnTo>
                <a:lnTo>
                  <a:pt x="943" y="1567"/>
                </a:lnTo>
                <a:lnTo>
                  <a:pt x="915" y="1577"/>
                </a:lnTo>
                <a:lnTo>
                  <a:pt x="883" y="1585"/>
                </a:lnTo>
                <a:lnTo>
                  <a:pt x="853" y="1594"/>
                </a:lnTo>
                <a:lnTo>
                  <a:pt x="824" y="1603"/>
                </a:lnTo>
                <a:lnTo>
                  <a:pt x="795" y="1611"/>
                </a:lnTo>
                <a:lnTo>
                  <a:pt x="768" y="1618"/>
                </a:lnTo>
                <a:lnTo>
                  <a:pt x="740" y="1627"/>
                </a:lnTo>
                <a:lnTo>
                  <a:pt x="716" y="1636"/>
                </a:lnTo>
                <a:lnTo>
                  <a:pt x="690" y="1643"/>
                </a:lnTo>
                <a:lnTo>
                  <a:pt x="667" y="1651"/>
                </a:lnTo>
                <a:lnTo>
                  <a:pt x="642" y="1659"/>
                </a:lnTo>
                <a:lnTo>
                  <a:pt x="621" y="1666"/>
                </a:lnTo>
                <a:lnTo>
                  <a:pt x="599" y="1673"/>
                </a:lnTo>
                <a:lnTo>
                  <a:pt x="579" y="1680"/>
                </a:lnTo>
                <a:lnTo>
                  <a:pt x="559" y="1687"/>
                </a:lnTo>
                <a:lnTo>
                  <a:pt x="540" y="1695"/>
                </a:lnTo>
                <a:lnTo>
                  <a:pt x="522" y="1700"/>
                </a:lnTo>
                <a:lnTo>
                  <a:pt x="504" y="1708"/>
                </a:lnTo>
                <a:lnTo>
                  <a:pt x="488" y="1713"/>
                </a:lnTo>
                <a:lnTo>
                  <a:pt x="473" y="1719"/>
                </a:lnTo>
                <a:lnTo>
                  <a:pt x="457" y="1726"/>
                </a:lnTo>
                <a:lnTo>
                  <a:pt x="444" y="1732"/>
                </a:lnTo>
                <a:lnTo>
                  <a:pt x="429" y="1736"/>
                </a:lnTo>
                <a:lnTo>
                  <a:pt x="418" y="1742"/>
                </a:lnTo>
                <a:lnTo>
                  <a:pt x="405" y="1748"/>
                </a:lnTo>
                <a:lnTo>
                  <a:pt x="395" y="1752"/>
                </a:lnTo>
                <a:lnTo>
                  <a:pt x="385" y="1758"/>
                </a:lnTo>
                <a:lnTo>
                  <a:pt x="375" y="1762"/>
                </a:lnTo>
                <a:lnTo>
                  <a:pt x="366" y="1767"/>
                </a:lnTo>
                <a:lnTo>
                  <a:pt x="357" y="1771"/>
                </a:lnTo>
                <a:lnTo>
                  <a:pt x="350" y="1775"/>
                </a:lnTo>
                <a:lnTo>
                  <a:pt x="345" y="1778"/>
                </a:lnTo>
                <a:lnTo>
                  <a:pt x="339" y="178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Freeform 68"/>
          <p:cNvSpPr/>
          <p:nvPr/>
        </p:nvSpPr>
        <p:spPr>
          <a:xfrm>
            <a:off x="6537240" y="2921040"/>
            <a:ext cx="884160" cy="488880"/>
          </a:xfrm>
          <a:custGeom>
            <a:avLst/>
            <a:gdLst/>
            <a:ahLst/>
            <a:rect l="l" t="t" r="r" b="b"/>
            <a:pathLst>
              <a:path w="1671" h="924">
                <a:moveTo>
                  <a:pt x="1294" y="531"/>
                </a:moveTo>
                <a:lnTo>
                  <a:pt x="1248" y="551"/>
                </a:lnTo>
                <a:lnTo>
                  <a:pt x="1202" y="573"/>
                </a:lnTo>
                <a:lnTo>
                  <a:pt x="1156" y="593"/>
                </a:lnTo>
                <a:lnTo>
                  <a:pt x="1108" y="611"/>
                </a:lnTo>
                <a:lnTo>
                  <a:pt x="1059" y="632"/>
                </a:lnTo>
                <a:lnTo>
                  <a:pt x="1009" y="650"/>
                </a:lnTo>
                <a:lnTo>
                  <a:pt x="959" y="669"/>
                </a:lnTo>
                <a:lnTo>
                  <a:pt x="908" y="688"/>
                </a:lnTo>
                <a:lnTo>
                  <a:pt x="856" y="705"/>
                </a:lnTo>
                <a:lnTo>
                  <a:pt x="805" y="724"/>
                </a:lnTo>
                <a:lnTo>
                  <a:pt x="751" y="741"/>
                </a:lnTo>
                <a:lnTo>
                  <a:pt x="698" y="760"/>
                </a:lnTo>
                <a:lnTo>
                  <a:pt x="643" y="777"/>
                </a:lnTo>
                <a:lnTo>
                  <a:pt x="589" y="794"/>
                </a:lnTo>
                <a:lnTo>
                  <a:pt x="534" y="813"/>
                </a:lnTo>
                <a:lnTo>
                  <a:pt x="479" y="830"/>
                </a:lnTo>
                <a:lnTo>
                  <a:pt x="451" y="839"/>
                </a:lnTo>
                <a:lnTo>
                  <a:pt x="425" y="848"/>
                </a:lnTo>
                <a:lnTo>
                  <a:pt x="399" y="855"/>
                </a:lnTo>
                <a:lnTo>
                  <a:pt x="373" y="862"/>
                </a:lnTo>
                <a:lnTo>
                  <a:pt x="350" y="869"/>
                </a:lnTo>
                <a:lnTo>
                  <a:pt x="325" y="876"/>
                </a:lnTo>
                <a:lnTo>
                  <a:pt x="302" y="882"/>
                </a:lnTo>
                <a:lnTo>
                  <a:pt x="281" y="888"/>
                </a:lnTo>
                <a:lnTo>
                  <a:pt x="260" y="894"/>
                </a:lnTo>
                <a:lnTo>
                  <a:pt x="240" y="898"/>
                </a:lnTo>
                <a:lnTo>
                  <a:pt x="220" y="902"/>
                </a:lnTo>
                <a:lnTo>
                  <a:pt x="201" y="907"/>
                </a:lnTo>
                <a:lnTo>
                  <a:pt x="184" y="909"/>
                </a:lnTo>
                <a:lnTo>
                  <a:pt x="167" y="912"/>
                </a:lnTo>
                <a:lnTo>
                  <a:pt x="151" y="915"/>
                </a:lnTo>
                <a:lnTo>
                  <a:pt x="135" y="918"/>
                </a:lnTo>
                <a:lnTo>
                  <a:pt x="121" y="920"/>
                </a:lnTo>
                <a:lnTo>
                  <a:pt x="108" y="921"/>
                </a:lnTo>
                <a:lnTo>
                  <a:pt x="95" y="922"/>
                </a:lnTo>
                <a:lnTo>
                  <a:pt x="82" y="924"/>
                </a:lnTo>
                <a:lnTo>
                  <a:pt x="70" y="924"/>
                </a:lnTo>
                <a:lnTo>
                  <a:pt x="60" y="924"/>
                </a:lnTo>
                <a:lnTo>
                  <a:pt x="52" y="924"/>
                </a:lnTo>
                <a:lnTo>
                  <a:pt x="42" y="924"/>
                </a:lnTo>
                <a:lnTo>
                  <a:pt x="34" y="922"/>
                </a:lnTo>
                <a:lnTo>
                  <a:pt x="27" y="921"/>
                </a:lnTo>
                <a:lnTo>
                  <a:pt x="20" y="920"/>
                </a:lnTo>
                <a:lnTo>
                  <a:pt x="16" y="917"/>
                </a:lnTo>
                <a:lnTo>
                  <a:pt x="10" y="915"/>
                </a:lnTo>
                <a:lnTo>
                  <a:pt x="7" y="912"/>
                </a:lnTo>
                <a:lnTo>
                  <a:pt x="4" y="909"/>
                </a:lnTo>
                <a:lnTo>
                  <a:pt x="1" y="907"/>
                </a:lnTo>
                <a:lnTo>
                  <a:pt x="0" y="904"/>
                </a:lnTo>
                <a:lnTo>
                  <a:pt x="0" y="901"/>
                </a:lnTo>
                <a:lnTo>
                  <a:pt x="0" y="898"/>
                </a:lnTo>
                <a:lnTo>
                  <a:pt x="3" y="895"/>
                </a:lnTo>
                <a:lnTo>
                  <a:pt x="6" y="892"/>
                </a:lnTo>
                <a:lnTo>
                  <a:pt x="9" y="888"/>
                </a:lnTo>
                <a:lnTo>
                  <a:pt x="14" y="884"/>
                </a:lnTo>
                <a:lnTo>
                  <a:pt x="20" y="878"/>
                </a:lnTo>
                <a:lnTo>
                  <a:pt x="27" y="873"/>
                </a:lnTo>
                <a:lnTo>
                  <a:pt x="34" y="868"/>
                </a:lnTo>
                <a:lnTo>
                  <a:pt x="45" y="861"/>
                </a:lnTo>
                <a:lnTo>
                  <a:pt x="55" y="855"/>
                </a:lnTo>
                <a:lnTo>
                  <a:pt x="65" y="848"/>
                </a:lnTo>
                <a:lnTo>
                  <a:pt x="76" y="840"/>
                </a:lnTo>
                <a:lnTo>
                  <a:pt x="91" y="833"/>
                </a:lnTo>
                <a:lnTo>
                  <a:pt x="104" y="825"/>
                </a:lnTo>
                <a:lnTo>
                  <a:pt x="119" y="816"/>
                </a:lnTo>
                <a:lnTo>
                  <a:pt x="135" y="807"/>
                </a:lnTo>
                <a:lnTo>
                  <a:pt x="151" y="797"/>
                </a:lnTo>
                <a:lnTo>
                  <a:pt x="170" y="789"/>
                </a:lnTo>
                <a:lnTo>
                  <a:pt x="189" y="778"/>
                </a:lnTo>
                <a:lnTo>
                  <a:pt x="209" y="768"/>
                </a:lnTo>
                <a:lnTo>
                  <a:pt x="229" y="757"/>
                </a:lnTo>
                <a:lnTo>
                  <a:pt x="250" y="745"/>
                </a:lnTo>
                <a:lnTo>
                  <a:pt x="273" y="734"/>
                </a:lnTo>
                <a:lnTo>
                  <a:pt x="296" y="722"/>
                </a:lnTo>
                <a:lnTo>
                  <a:pt x="321" y="711"/>
                </a:lnTo>
                <a:lnTo>
                  <a:pt x="347" y="698"/>
                </a:lnTo>
                <a:lnTo>
                  <a:pt x="374" y="685"/>
                </a:lnTo>
                <a:lnTo>
                  <a:pt x="402" y="670"/>
                </a:lnTo>
                <a:lnTo>
                  <a:pt x="429" y="658"/>
                </a:lnTo>
                <a:lnTo>
                  <a:pt x="459" y="643"/>
                </a:lnTo>
                <a:lnTo>
                  <a:pt x="488" y="629"/>
                </a:lnTo>
                <a:lnTo>
                  <a:pt x="517" y="614"/>
                </a:lnTo>
                <a:lnTo>
                  <a:pt x="546" y="601"/>
                </a:lnTo>
                <a:lnTo>
                  <a:pt x="573" y="588"/>
                </a:lnTo>
                <a:lnTo>
                  <a:pt x="600" y="574"/>
                </a:lnTo>
                <a:lnTo>
                  <a:pt x="626" y="561"/>
                </a:lnTo>
                <a:lnTo>
                  <a:pt x="653" y="550"/>
                </a:lnTo>
                <a:lnTo>
                  <a:pt x="678" y="537"/>
                </a:lnTo>
                <a:lnTo>
                  <a:pt x="702" y="524"/>
                </a:lnTo>
                <a:lnTo>
                  <a:pt x="727" y="512"/>
                </a:lnTo>
                <a:lnTo>
                  <a:pt x="751" y="501"/>
                </a:lnTo>
                <a:lnTo>
                  <a:pt x="774" y="489"/>
                </a:lnTo>
                <a:lnTo>
                  <a:pt x="797" y="478"/>
                </a:lnTo>
                <a:lnTo>
                  <a:pt x="819" y="466"/>
                </a:lnTo>
                <a:lnTo>
                  <a:pt x="841" y="455"/>
                </a:lnTo>
                <a:lnTo>
                  <a:pt x="861" y="443"/>
                </a:lnTo>
                <a:lnTo>
                  <a:pt x="881" y="433"/>
                </a:lnTo>
                <a:lnTo>
                  <a:pt x="901" y="421"/>
                </a:lnTo>
                <a:lnTo>
                  <a:pt x="920" y="411"/>
                </a:lnTo>
                <a:lnTo>
                  <a:pt x="939" y="401"/>
                </a:lnTo>
                <a:lnTo>
                  <a:pt x="957" y="391"/>
                </a:lnTo>
                <a:lnTo>
                  <a:pt x="975" y="381"/>
                </a:lnTo>
                <a:lnTo>
                  <a:pt x="990" y="371"/>
                </a:lnTo>
                <a:lnTo>
                  <a:pt x="1006" y="361"/>
                </a:lnTo>
                <a:lnTo>
                  <a:pt x="1022" y="351"/>
                </a:lnTo>
                <a:lnTo>
                  <a:pt x="1038" y="342"/>
                </a:lnTo>
                <a:lnTo>
                  <a:pt x="1052" y="332"/>
                </a:lnTo>
                <a:lnTo>
                  <a:pt x="1065" y="324"/>
                </a:lnTo>
                <a:lnTo>
                  <a:pt x="1078" y="313"/>
                </a:lnTo>
                <a:lnTo>
                  <a:pt x="1091" y="305"/>
                </a:lnTo>
                <a:lnTo>
                  <a:pt x="1104" y="296"/>
                </a:lnTo>
                <a:lnTo>
                  <a:pt x="1116" y="288"/>
                </a:lnTo>
                <a:lnTo>
                  <a:pt x="1133" y="269"/>
                </a:lnTo>
                <a:lnTo>
                  <a:pt x="1150" y="253"/>
                </a:lnTo>
                <a:lnTo>
                  <a:pt x="1166" y="237"/>
                </a:lnTo>
                <a:lnTo>
                  <a:pt x="1180" y="223"/>
                </a:lnTo>
                <a:lnTo>
                  <a:pt x="1195" y="208"/>
                </a:lnTo>
                <a:lnTo>
                  <a:pt x="1206" y="194"/>
                </a:lnTo>
                <a:lnTo>
                  <a:pt x="1218" y="181"/>
                </a:lnTo>
                <a:lnTo>
                  <a:pt x="1228" y="169"/>
                </a:lnTo>
                <a:lnTo>
                  <a:pt x="1237" y="157"/>
                </a:lnTo>
                <a:lnTo>
                  <a:pt x="1241" y="151"/>
                </a:lnTo>
                <a:lnTo>
                  <a:pt x="1244" y="145"/>
                </a:lnTo>
                <a:lnTo>
                  <a:pt x="1247" y="139"/>
                </a:lnTo>
                <a:lnTo>
                  <a:pt x="1249" y="134"/>
                </a:lnTo>
                <a:lnTo>
                  <a:pt x="1252" y="128"/>
                </a:lnTo>
                <a:lnTo>
                  <a:pt x="1254" y="123"/>
                </a:lnTo>
                <a:lnTo>
                  <a:pt x="1255" y="118"/>
                </a:lnTo>
                <a:lnTo>
                  <a:pt x="1257" y="112"/>
                </a:lnTo>
                <a:lnTo>
                  <a:pt x="1257" y="106"/>
                </a:lnTo>
                <a:lnTo>
                  <a:pt x="1258" y="102"/>
                </a:lnTo>
                <a:lnTo>
                  <a:pt x="1257" y="96"/>
                </a:lnTo>
                <a:lnTo>
                  <a:pt x="1257" y="90"/>
                </a:lnTo>
                <a:lnTo>
                  <a:pt x="1255" y="86"/>
                </a:lnTo>
                <a:lnTo>
                  <a:pt x="1254" y="80"/>
                </a:lnTo>
                <a:lnTo>
                  <a:pt x="1251" y="73"/>
                </a:lnTo>
                <a:lnTo>
                  <a:pt x="1248" y="67"/>
                </a:lnTo>
                <a:lnTo>
                  <a:pt x="1245" y="62"/>
                </a:lnTo>
                <a:lnTo>
                  <a:pt x="1244" y="56"/>
                </a:lnTo>
                <a:lnTo>
                  <a:pt x="1242" y="50"/>
                </a:lnTo>
                <a:lnTo>
                  <a:pt x="1241" y="46"/>
                </a:lnTo>
                <a:lnTo>
                  <a:pt x="1241" y="40"/>
                </a:lnTo>
                <a:lnTo>
                  <a:pt x="1242" y="36"/>
                </a:lnTo>
                <a:lnTo>
                  <a:pt x="1244" y="31"/>
                </a:lnTo>
                <a:lnTo>
                  <a:pt x="1245" y="27"/>
                </a:lnTo>
                <a:lnTo>
                  <a:pt x="1248" y="24"/>
                </a:lnTo>
                <a:lnTo>
                  <a:pt x="1251" y="20"/>
                </a:lnTo>
                <a:lnTo>
                  <a:pt x="1255" y="15"/>
                </a:lnTo>
                <a:lnTo>
                  <a:pt x="1261" y="13"/>
                </a:lnTo>
                <a:lnTo>
                  <a:pt x="1267" y="8"/>
                </a:lnTo>
                <a:lnTo>
                  <a:pt x="1274" y="5"/>
                </a:lnTo>
                <a:lnTo>
                  <a:pt x="1283" y="2"/>
                </a:lnTo>
                <a:lnTo>
                  <a:pt x="1291" y="1"/>
                </a:lnTo>
                <a:lnTo>
                  <a:pt x="1300" y="0"/>
                </a:lnTo>
                <a:lnTo>
                  <a:pt x="1311" y="1"/>
                </a:lnTo>
                <a:lnTo>
                  <a:pt x="1323" y="2"/>
                </a:lnTo>
                <a:lnTo>
                  <a:pt x="1336" y="5"/>
                </a:lnTo>
                <a:lnTo>
                  <a:pt x="1349" y="10"/>
                </a:lnTo>
                <a:lnTo>
                  <a:pt x="1363" y="14"/>
                </a:lnTo>
                <a:lnTo>
                  <a:pt x="1379" y="20"/>
                </a:lnTo>
                <a:lnTo>
                  <a:pt x="1395" y="26"/>
                </a:lnTo>
                <a:lnTo>
                  <a:pt x="1412" y="34"/>
                </a:lnTo>
                <a:lnTo>
                  <a:pt x="1431" y="41"/>
                </a:lnTo>
                <a:lnTo>
                  <a:pt x="1450" y="50"/>
                </a:lnTo>
                <a:lnTo>
                  <a:pt x="1470" y="60"/>
                </a:lnTo>
                <a:lnTo>
                  <a:pt x="1490" y="70"/>
                </a:lnTo>
                <a:lnTo>
                  <a:pt x="1513" y="80"/>
                </a:lnTo>
                <a:lnTo>
                  <a:pt x="1530" y="95"/>
                </a:lnTo>
                <a:lnTo>
                  <a:pt x="1547" y="108"/>
                </a:lnTo>
                <a:lnTo>
                  <a:pt x="1563" y="121"/>
                </a:lnTo>
                <a:lnTo>
                  <a:pt x="1579" y="134"/>
                </a:lnTo>
                <a:lnTo>
                  <a:pt x="1594" y="146"/>
                </a:lnTo>
                <a:lnTo>
                  <a:pt x="1606" y="158"/>
                </a:lnTo>
                <a:lnTo>
                  <a:pt x="1618" y="169"/>
                </a:lnTo>
                <a:lnTo>
                  <a:pt x="1628" y="181"/>
                </a:lnTo>
                <a:lnTo>
                  <a:pt x="1638" y="193"/>
                </a:lnTo>
                <a:lnTo>
                  <a:pt x="1647" y="204"/>
                </a:lnTo>
                <a:lnTo>
                  <a:pt x="1654" y="214"/>
                </a:lnTo>
                <a:lnTo>
                  <a:pt x="1660" y="226"/>
                </a:lnTo>
                <a:lnTo>
                  <a:pt x="1666" y="236"/>
                </a:lnTo>
                <a:lnTo>
                  <a:pt x="1668" y="247"/>
                </a:lnTo>
                <a:lnTo>
                  <a:pt x="1671" y="257"/>
                </a:lnTo>
                <a:lnTo>
                  <a:pt x="1671" y="269"/>
                </a:lnTo>
                <a:lnTo>
                  <a:pt x="1671" y="273"/>
                </a:lnTo>
                <a:lnTo>
                  <a:pt x="1670" y="279"/>
                </a:lnTo>
                <a:lnTo>
                  <a:pt x="1668" y="285"/>
                </a:lnTo>
                <a:lnTo>
                  <a:pt x="1666" y="290"/>
                </a:lnTo>
                <a:lnTo>
                  <a:pt x="1663" y="298"/>
                </a:lnTo>
                <a:lnTo>
                  <a:pt x="1658" y="303"/>
                </a:lnTo>
                <a:lnTo>
                  <a:pt x="1654" y="311"/>
                </a:lnTo>
                <a:lnTo>
                  <a:pt x="1648" y="316"/>
                </a:lnTo>
                <a:lnTo>
                  <a:pt x="1642" y="324"/>
                </a:lnTo>
                <a:lnTo>
                  <a:pt x="1635" y="331"/>
                </a:lnTo>
                <a:lnTo>
                  <a:pt x="1628" y="338"/>
                </a:lnTo>
                <a:lnTo>
                  <a:pt x="1619" y="345"/>
                </a:lnTo>
                <a:lnTo>
                  <a:pt x="1611" y="354"/>
                </a:lnTo>
                <a:lnTo>
                  <a:pt x="1601" y="361"/>
                </a:lnTo>
                <a:lnTo>
                  <a:pt x="1591" y="370"/>
                </a:lnTo>
                <a:lnTo>
                  <a:pt x="1579" y="377"/>
                </a:lnTo>
                <a:lnTo>
                  <a:pt x="1568" y="385"/>
                </a:lnTo>
                <a:lnTo>
                  <a:pt x="1555" y="394"/>
                </a:lnTo>
                <a:lnTo>
                  <a:pt x="1540" y="403"/>
                </a:lnTo>
                <a:lnTo>
                  <a:pt x="1526" y="411"/>
                </a:lnTo>
                <a:lnTo>
                  <a:pt x="1511" y="421"/>
                </a:lnTo>
                <a:lnTo>
                  <a:pt x="1496" y="430"/>
                </a:lnTo>
                <a:lnTo>
                  <a:pt x="1478" y="439"/>
                </a:lnTo>
                <a:lnTo>
                  <a:pt x="1461" y="449"/>
                </a:lnTo>
                <a:lnTo>
                  <a:pt x="1442" y="459"/>
                </a:lnTo>
                <a:lnTo>
                  <a:pt x="1424" y="469"/>
                </a:lnTo>
                <a:lnTo>
                  <a:pt x="1404" y="478"/>
                </a:lnTo>
                <a:lnTo>
                  <a:pt x="1383" y="488"/>
                </a:lnTo>
                <a:lnTo>
                  <a:pt x="1362" y="499"/>
                </a:lnTo>
                <a:lnTo>
                  <a:pt x="1340" y="509"/>
                </a:lnTo>
                <a:lnTo>
                  <a:pt x="1317" y="519"/>
                </a:lnTo>
                <a:lnTo>
                  <a:pt x="1294" y="53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Freeform 69"/>
          <p:cNvSpPr/>
          <p:nvPr/>
        </p:nvSpPr>
        <p:spPr>
          <a:xfrm>
            <a:off x="6873840" y="3271680"/>
            <a:ext cx="211320" cy="1895760"/>
          </a:xfrm>
          <a:custGeom>
            <a:avLst/>
            <a:gdLst/>
            <a:ahLst/>
            <a:rect l="l" t="t" r="r" b="b"/>
            <a:pathLst>
              <a:path w="397" h="3583">
                <a:moveTo>
                  <a:pt x="358" y="376"/>
                </a:moveTo>
                <a:lnTo>
                  <a:pt x="354" y="386"/>
                </a:lnTo>
                <a:lnTo>
                  <a:pt x="351" y="399"/>
                </a:lnTo>
                <a:lnTo>
                  <a:pt x="349" y="406"/>
                </a:lnTo>
                <a:lnTo>
                  <a:pt x="348" y="413"/>
                </a:lnTo>
                <a:lnTo>
                  <a:pt x="347" y="420"/>
                </a:lnTo>
                <a:lnTo>
                  <a:pt x="347" y="429"/>
                </a:lnTo>
                <a:lnTo>
                  <a:pt x="345" y="437"/>
                </a:lnTo>
                <a:lnTo>
                  <a:pt x="344" y="446"/>
                </a:lnTo>
                <a:lnTo>
                  <a:pt x="344" y="455"/>
                </a:lnTo>
                <a:lnTo>
                  <a:pt x="342" y="465"/>
                </a:lnTo>
                <a:lnTo>
                  <a:pt x="342" y="475"/>
                </a:lnTo>
                <a:lnTo>
                  <a:pt x="341" y="485"/>
                </a:lnTo>
                <a:lnTo>
                  <a:pt x="341" y="495"/>
                </a:lnTo>
                <a:lnTo>
                  <a:pt x="339" y="507"/>
                </a:lnTo>
                <a:lnTo>
                  <a:pt x="339" y="518"/>
                </a:lnTo>
                <a:lnTo>
                  <a:pt x="339" y="530"/>
                </a:lnTo>
                <a:lnTo>
                  <a:pt x="339" y="543"/>
                </a:lnTo>
                <a:lnTo>
                  <a:pt x="338" y="556"/>
                </a:lnTo>
                <a:lnTo>
                  <a:pt x="338" y="570"/>
                </a:lnTo>
                <a:lnTo>
                  <a:pt x="338" y="583"/>
                </a:lnTo>
                <a:lnTo>
                  <a:pt x="338" y="597"/>
                </a:lnTo>
                <a:lnTo>
                  <a:pt x="338" y="613"/>
                </a:lnTo>
                <a:lnTo>
                  <a:pt x="338" y="628"/>
                </a:lnTo>
                <a:lnTo>
                  <a:pt x="338" y="643"/>
                </a:lnTo>
                <a:lnTo>
                  <a:pt x="338" y="661"/>
                </a:lnTo>
                <a:lnTo>
                  <a:pt x="338" y="676"/>
                </a:lnTo>
                <a:lnTo>
                  <a:pt x="338" y="694"/>
                </a:lnTo>
                <a:lnTo>
                  <a:pt x="338" y="712"/>
                </a:lnTo>
                <a:lnTo>
                  <a:pt x="338" y="731"/>
                </a:lnTo>
                <a:lnTo>
                  <a:pt x="338" y="750"/>
                </a:lnTo>
                <a:lnTo>
                  <a:pt x="335" y="770"/>
                </a:lnTo>
                <a:lnTo>
                  <a:pt x="334" y="790"/>
                </a:lnTo>
                <a:lnTo>
                  <a:pt x="332" y="813"/>
                </a:lnTo>
                <a:lnTo>
                  <a:pt x="331" y="836"/>
                </a:lnTo>
                <a:lnTo>
                  <a:pt x="329" y="861"/>
                </a:lnTo>
                <a:lnTo>
                  <a:pt x="328" y="887"/>
                </a:lnTo>
                <a:lnTo>
                  <a:pt x="326" y="913"/>
                </a:lnTo>
                <a:lnTo>
                  <a:pt x="326" y="940"/>
                </a:lnTo>
                <a:lnTo>
                  <a:pt x="325" y="969"/>
                </a:lnTo>
                <a:lnTo>
                  <a:pt x="324" y="999"/>
                </a:lnTo>
                <a:lnTo>
                  <a:pt x="324" y="1031"/>
                </a:lnTo>
                <a:lnTo>
                  <a:pt x="322" y="1062"/>
                </a:lnTo>
                <a:lnTo>
                  <a:pt x="322" y="1095"/>
                </a:lnTo>
                <a:lnTo>
                  <a:pt x="321" y="1130"/>
                </a:lnTo>
                <a:lnTo>
                  <a:pt x="321" y="1166"/>
                </a:lnTo>
                <a:lnTo>
                  <a:pt x="321" y="1203"/>
                </a:lnTo>
                <a:lnTo>
                  <a:pt x="319" y="1241"/>
                </a:lnTo>
                <a:lnTo>
                  <a:pt x="319" y="1280"/>
                </a:lnTo>
                <a:lnTo>
                  <a:pt x="319" y="1320"/>
                </a:lnTo>
                <a:lnTo>
                  <a:pt x="319" y="1362"/>
                </a:lnTo>
                <a:lnTo>
                  <a:pt x="319" y="1405"/>
                </a:lnTo>
                <a:lnTo>
                  <a:pt x="318" y="1448"/>
                </a:lnTo>
                <a:lnTo>
                  <a:pt x="318" y="1493"/>
                </a:lnTo>
                <a:lnTo>
                  <a:pt x="318" y="1539"/>
                </a:lnTo>
                <a:lnTo>
                  <a:pt x="318" y="1586"/>
                </a:lnTo>
                <a:lnTo>
                  <a:pt x="318" y="1635"/>
                </a:lnTo>
                <a:lnTo>
                  <a:pt x="318" y="1684"/>
                </a:lnTo>
                <a:lnTo>
                  <a:pt x="318" y="1736"/>
                </a:lnTo>
                <a:lnTo>
                  <a:pt x="318" y="1788"/>
                </a:lnTo>
                <a:lnTo>
                  <a:pt x="318" y="1841"/>
                </a:lnTo>
                <a:lnTo>
                  <a:pt x="318" y="1896"/>
                </a:lnTo>
                <a:lnTo>
                  <a:pt x="318" y="1952"/>
                </a:lnTo>
                <a:lnTo>
                  <a:pt x="318" y="2007"/>
                </a:lnTo>
                <a:lnTo>
                  <a:pt x="318" y="2061"/>
                </a:lnTo>
                <a:lnTo>
                  <a:pt x="318" y="2115"/>
                </a:lnTo>
                <a:lnTo>
                  <a:pt x="316" y="2168"/>
                </a:lnTo>
                <a:lnTo>
                  <a:pt x="316" y="2220"/>
                </a:lnTo>
                <a:lnTo>
                  <a:pt x="316" y="2269"/>
                </a:lnTo>
                <a:lnTo>
                  <a:pt x="315" y="2319"/>
                </a:lnTo>
                <a:lnTo>
                  <a:pt x="315" y="2367"/>
                </a:lnTo>
                <a:lnTo>
                  <a:pt x="313" y="2414"/>
                </a:lnTo>
                <a:lnTo>
                  <a:pt x="312" y="2460"/>
                </a:lnTo>
                <a:lnTo>
                  <a:pt x="312" y="2505"/>
                </a:lnTo>
                <a:lnTo>
                  <a:pt x="311" y="2549"/>
                </a:lnTo>
                <a:lnTo>
                  <a:pt x="309" y="2593"/>
                </a:lnTo>
                <a:lnTo>
                  <a:pt x="308" y="2634"/>
                </a:lnTo>
                <a:lnTo>
                  <a:pt x="306" y="2676"/>
                </a:lnTo>
                <a:lnTo>
                  <a:pt x="305" y="2715"/>
                </a:lnTo>
                <a:lnTo>
                  <a:pt x="303" y="2755"/>
                </a:lnTo>
                <a:lnTo>
                  <a:pt x="302" y="2793"/>
                </a:lnTo>
                <a:lnTo>
                  <a:pt x="301" y="2830"/>
                </a:lnTo>
                <a:lnTo>
                  <a:pt x="299" y="2866"/>
                </a:lnTo>
                <a:lnTo>
                  <a:pt x="298" y="2901"/>
                </a:lnTo>
                <a:lnTo>
                  <a:pt x="296" y="2935"/>
                </a:lnTo>
                <a:lnTo>
                  <a:pt x="292" y="3001"/>
                </a:lnTo>
                <a:lnTo>
                  <a:pt x="289" y="3063"/>
                </a:lnTo>
                <a:lnTo>
                  <a:pt x="285" y="3121"/>
                </a:lnTo>
                <a:lnTo>
                  <a:pt x="282" y="3176"/>
                </a:lnTo>
                <a:lnTo>
                  <a:pt x="277" y="3227"/>
                </a:lnTo>
                <a:lnTo>
                  <a:pt x="276" y="3249"/>
                </a:lnTo>
                <a:lnTo>
                  <a:pt x="273" y="3271"/>
                </a:lnTo>
                <a:lnTo>
                  <a:pt x="272" y="3292"/>
                </a:lnTo>
                <a:lnTo>
                  <a:pt x="269" y="3312"/>
                </a:lnTo>
                <a:lnTo>
                  <a:pt x="267" y="3331"/>
                </a:lnTo>
                <a:lnTo>
                  <a:pt x="265" y="3350"/>
                </a:lnTo>
                <a:lnTo>
                  <a:pt x="262" y="3369"/>
                </a:lnTo>
                <a:lnTo>
                  <a:pt x="260" y="3386"/>
                </a:lnTo>
                <a:lnTo>
                  <a:pt x="257" y="3402"/>
                </a:lnTo>
                <a:lnTo>
                  <a:pt x="254" y="3417"/>
                </a:lnTo>
                <a:lnTo>
                  <a:pt x="252" y="3432"/>
                </a:lnTo>
                <a:lnTo>
                  <a:pt x="249" y="3446"/>
                </a:lnTo>
                <a:lnTo>
                  <a:pt x="246" y="3461"/>
                </a:lnTo>
                <a:lnTo>
                  <a:pt x="244" y="3474"/>
                </a:lnTo>
                <a:lnTo>
                  <a:pt x="242" y="3485"/>
                </a:lnTo>
                <a:lnTo>
                  <a:pt x="239" y="3497"/>
                </a:lnTo>
                <a:lnTo>
                  <a:pt x="236" y="3507"/>
                </a:lnTo>
                <a:lnTo>
                  <a:pt x="233" y="3517"/>
                </a:lnTo>
                <a:lnTo>
                  <a:pt x="230" y="3525"/>
                </a:lnTo>
                <a:lnTo>
                  <a:pt x="227" y="3534"/>
                </a:lnTo>
                <a:lnTo>
                  <a:pt x="224" y="3543"/>
                </a:lnTo>
                <a:lnTo>
                  <a:pt x="221" y="3550"/>
                </a:lnTo>
                <a:lnTo>
                  <a:pt x="218" y="3556"/>
                </a:lnTo>
                <a:lnTo>
                  <a:pt x="217" y="3561"/>
                </a:lnTo>
                <a:lnTo>
                  <a:pt x="214" y="3567"/>
                </a:lnTo>
                <a:lnTo>
                  <a:pt x="211" y="3571"/>
                </a:lnTo>
                <a:lnTo>
                  <a:pt x="208" y="3574"/>
                </a:lnTo>
                <a:lnTo>
                  <a:pt x="207" y="3577"/>
                </a:lnTo>
                <a:lnTo>
                  <a:pt x="204" y="3580"/>
                </a:lnTo>
                <a:lnTo>
                  <a:pt x="203" y="3582"/>
                </a:lnTo>
                <a:lnTo>
                  <a:pt x="200" y="3583"/>
                </a:lnTo>
                <a:lnTo>
                  <a:pt x="198" y="3583"/>
                </a:lnTo>
                <a:lnTo>
                  <a:pt x="197" y="3582"/>
                </a:lnTo>
                <a:lnTo>
                  <a:pt x="194" y="3579"/>
                </a:lnTo>
                <a:lnTo>
                  <a:pt x="193" y="3576"/>
                </a:lnTo>
                <a:lnTo>
                  <a:pt x="190" y="3573"/>
                </a:lnTo>
                <a:lnTo>
                  <a:pt x="188" y="3569"/>
                </a:lnTo>
                <a:lnTo>
                  <a:pt x="185" y="3564"/>
                </a:lnTo>
                <a:lnTo>
                  <a:pt x="182" y="3560"/>
                </a:lnTo>
                <a:lnTo>
                  <a:pt x="180" y="3554"/>
                </a:lnTo>
                <a:lnTo>
                  <a:pt x="177" y="3548"/>
                </a:lnTo>
                <a:lnTo>
                  <a:pt x="174" y="3543"/>
                </a:lnTo>
                <a:lnTo>
                  <a:pt x="171" y="3537"/>
                </a:lnTo>
                <a:lnTo>
                  <a:pt x="168" y="3530"/>
                </a:lnTo>
                <a:lnTo>
                  <a:pt x="165" y="3523"/>
                </a:lnTo>
                <a:lnTo>
                  <a:pt x="162" y="3514"/>
                </a:lnTo>
                <a:lnTo>
                  <a:pt x="159" y="3505"/>
                </a:lnTo>
                <a:lnTo>
                  <a:pt x="157" y="3497"/>
                </a:lnTo>
                <a:lnTo>
                  <a:pt x="152" y="3487"/>
                </a:lnTo>
                <a:lnTo>
                  <a:pt x="149" y="3476"/>
                </a:lnTo>
                <a:lnTo>
                  <a:pt x="146" y="3466"/>
                </a:lnTo>
                <a:lnTo>
                  <a:pt x="142" y="3455"/>
                </a:lnTo>
                <a:lnTo>
                  <a:pt x="139" y="3443"/>
                </a:lnTo>
                <a:lnTo>
                  <a:pt x="135" y="3432"/>
                </a:lnTo>
                <a:lnTo>
                  <a:pt x="132" y="3419"/>
                </a:lnTo>
                <a:lnTo>
                  <a:pt x="128" y="3406"/>
                </a:lnTo>
                <a:lnTo>
                  <a:pt x="125" y="3393"/>
                </a:lnTo>
                <a:lnTo>
                  <a:pt x="121" y="3379"/>
                </a:lnTo>
                <a:lnTo>
                  <a:pt x="118" y="3364"/>
                </a:lnTo>
                <a:lnTo>
                  <a:pt x="113" y="3348"/>
                </a:lnTo>
                <a:lnTo>
                  <a:pt x="111" y="3334"/>
                </a:lnTo>
                <a:lnTo>
                  <a:pt x="106" y="3317"/>
                </a:lnTo>
                <a:lnTo>
                  <a:pt x="103" y="3301"/>
                </a:lnTo>
                <a:lnTo>
                  <a:pt x="99" y="3284"/>
                </a:lnTo>
                <a:lnTo>
                  <a:pt x="96" y="3265"/>
                </a:lnTo>
                <a:lnTo>
                  <a:pt x="92" y="3245"/>
                </a:lnTo>
                <a:lnTo>
                  <a:pt x="89" y="3223"/>
                </a:lnTo>
                <a:lnTo>
                  <a:pt x="86" y="3199"/>
                </a:lnTo>
                <a:lnTo>
                  <a:pt x="82" y="3174"/>
                </a:lnTo>
                <a:lnTo>
                  <a:pt x="79" y="3148"/>
                </a:lnTo>
                <a:lnTo>
                  <a:pt x="76" y="3119"/>
                </a:lnTo>
                <a:lnTo>
                  <a:pt x="73" y="3089"/>
                </a:lnTo>
                <a:lnTo>
                  <a:pt x="72" y="3058"/>
                </a:lnTo>
                <a:lnTo>
                  <a:pt x="69" y="3024"/>
                </a:lnTo>
                <a:lnTo>
                  <a:pt x="66" y="2990"/>
                </a:lnTo>
                <a:lnTo>
                  <a:pt x="64" y="2954"/>
                </a:lnTo>
                <a:lnTo>
                  <a:pt x="63" y="2916"/>
                </a:lnTo>
                <a:lnTo>
                  <a:pt x="60" y="2876"/>
                </a:lnTo>
                <a:lnTo>
                  <a:pt x="59" y="2836"/>
                </a:lnTo>
                <a:lnTo>
                  <a:pt x="57" y="2793"/>
                </a:lnTo>
                <a:lnTo>
                  <a:pt x="56" y="2748"/>
                </a:lnTo>
                <a:lnTo>
                  <a:pt x="54" y="2702"/>
                </a:lnTo>
                <a:lnTo>
                  <a:pt x="54" y="2654"/>
                </a:lnTo>
                <a:lnTo>
                  <a:pt x="53" y="2606"/>
                </a:lnTo>
                <a:lnTo>
                  <a:pt x="53" y="2555"/>
                </a:lnTo>
                <a:lnTo>
                  <a:pt x="51" y="2503"/>
                </a:lnTo>
                <a:lnTo>
                  <a:pt x="51" y="2449"/>
                </a:lnTo>
                <a:lnTo>
                  <a:pt x="51" y="2394"/>
                </a:lnTo>
                <a:lnTo>
                  <a:pt x="51" y="2336"/>
                </a:lnTo>
                <a:lnTo>
                  <a:pt x="53" y="2279"/>
                </a:lnTo>
                <a:lnTo>
                  <a:pt x="53" y="2218"/>
                </a:lnTo>
                <a:lnTo>
                  <a:pt x="54" y="2156"/>
                </a:lnTo>
                <a:lnTo>
                  <a:pt x="54" y="2093"/>
                </a:lnTo>
                <a:lnTo>
                  <a:pt x="56" y="2028"/>
                </a:lnTo>
                <a:lnTo>
                  <a:pt x="57" y="1962"/>
                </a:lnTo>
                <a:lnTo>
                  <a:pt x="60" y="1894"/>
                </a:lnTo>
                <a:lnTo>
                  <a:pt x="59" y="1759"/>
                </a:lnTo>
                <a:lnTo>
                  <a:pt x="59" y="1625"/>
                </a:lnTo>
                <a:lnTo>
                  <a:pt x="57" y="1493"/>
                </a:lnTo>
                <a:lnTo>
                  <a:pt x="56" y="1363"/>
                </a:lnTo>
                <a:lnTo>
                  <a:pt x="53" y="1236"/>
                </a:lnTo>
                <a:lnTo>
                  <a:pt x="51" y="1113"/>
                </a:lnTo>
                <a:lnTo>
                  <a:pt x="47" y="990"/>
                </a:lnTo>
                <a:lnTo>
                  <a:pt x="44" y="869"/>
                </a:lnTo>
                <a:lnTo>
                  <a:pt x="40" y="753"/>
                </a:lnTo>
                <a:lnTo>
                  <a:pt x="36" y="638"/>
                </a:lnTo>
                <a:lnTo>
                  <a:pt x="31" y="525"/>
                </a:lnTo>
                <a:lnTo>
                  <a:pt x="26" y="414"/>
                </a:lnTo>
                <a:lnTo>
                  <a:pt x="20" y="306"/>
                </a:lnTo>
                <a:lnTo>
                  <a:pt x="14" y="203"/>
                </a:lnTo>
                <a:lnTo>
                  <a:pt x="7" y="99"/>
                </a:lnTo>
                <a:lnTo>
                  <a:pt x="0" y="0"/>
                </a:lnTo>
                <a:lnTo>
                  <a:pt x="24" y="13"/>
                </a:lnTo>
                <a:lnTo>
                  <a:pt x="47" y="24"/>
                </a:lnTo>
                <a:lnTo>
                  <a:pt x="69" y="36"/>
                </a:lnTo>
                <a:lnTo>
                  <a:pt x="90" y="47"/>
                </a:lnTo>
                <a:lnTo>
                  <a:pt x="112" y="57"/>
                </a:lnTo>
                <a:lnTo>
                  <a:pt x="132" y="69"/>
                </a:lnTo>
                <a:lnTo>
                  <a:pt x="151" y="79"/>
                </a:lnTo>
                <a:lnTo>
                  <a:pt x="170" y="89"/>
                </a:lnTo>
                <a:lnTo>
                  <a:pt x="188" y="99"/>
                </a:lnTo>
                <a:lnTo>
                  <a:pt x="206" y="108"/>
                </a:lnTo>
                <a:lnTo>
                  <a:pt x="223" y="116"/>
                </a:lnTo>
                <a:lnTo>
                  <a:pt x="239" y="125"/>
                </a:lnTo>
                <a:lnTo>
                  <a:pt x="253" y="134"/>
                </a:lnTo>
                <a:lnTo>
                  <a:pt x="267" y="142"/>
                </a:lnTo>
                <a:lnTo>
                  <a:pt x="282" y="150"/>
                </a:lnTo>
                <a:lnTo>
                  <a:pt x="295" y="158"/>
                </a:lnTo>
                <a:lnTo>
                  <a:pt x="306" y="165"/>
                </a:lnTo>
                <a:lnTo>
                  <a:pt x="318" y="173"/>
                </a:lnTo>
                <a:lnTo>
                  <a:pt x="329" y="178"/>
                </a:lnTo>
                <a:lnTo>
                  <a:pt x="339" y="186"/>
                </a:lnTo>
                <a:lnTo>
                  <a:pt x="348" y="191"/>
                </a:lnTo>
                <a:lnTo>
                  <a:pt x="357" y="197"/>
                </a:lnTo>
                <a:lnTo>
                  <a:pt x="364" y="203"/>
                </a:lnTo>
                <a:lnTo>
                  <a:pt x="371" y="209"/>
                </a:lnTo>
                <a:lnTo>
                  <a:pt x="377" y="214"/>
                </a:lnTo>
                <a:lnTo>
                  <a:pt x="383" y="219"/>
                </a:lnTo>
                <a:lnTo>
                  <a:pt x="387" y="223"/>
                </a:lnTo>
                <a:lnTo>
                  <a:pt x="390" y="229"/>
                </a:lnTo>
                <a:lnTo>
                  <a:pt x="393" y="233"/>
                </a:lnTo>
                <a:lnTo>
                  <a:pt x="396" y="236"/>
                </a:lnTo>
                <a:lnTo>
                  <a:pt x="397" y="240"/>
                </a:lnTo>
                <a:lnTo>
                  <a:pt x="397" y="245"/>
                </a:lnTo>
                <a:lnTo>
                  <a:pt x="397" y="250"/>
                </a:lnTo>
                <a:lnTo>
                  <a:pt x="396" y="258"/>
                </a:lnTo>
                <a:lnTo>
                  <a:pt x="396" y="265"/>
                </a:lnTo>
                <a:lnTo>
                  <a:pt x="394" y="272"/>
                </a:lnTo>
                <a:lnTo>
                  <a:pt x="390" y="286"/>
                </a:lnTo>
                <a:lnTo>
                  <a:pt x="384" y="302"/>
                </a:lnTo>
                <a:lnTo>
                  <a:pt x="378" y="318"/>
                </a:lnTo>
                <a:lnTo>
                  <a:pt x="373" y="337"/>
                </a:lnTo>
                <a:lnTo>
                  <a:pt x="368" y="345"/>
                </a:lnTo>
                <a:lnTo>
                  <a:pt x="365" y="354"/>
                </a:lnTo>
                <a:lnTo>
                  <a:pt x="361" y="364"/>
                </a:lnTo>
                <a:lnTo>
                  <a:pt x="358" y="37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Freeform 70"/>
          <p:cNvSpPr/>
          <p:nvPr/>
        </p:nvSpPr>
        <p:spPr>
          <a:xfrm>
            <a:off x="6305400" y="3646440"/>
            <a:ext cx="1484640" cy="260280"/>
          </a:xfrm>
          <a:custGeom>
            <a:avLst/>
            <a:gdLst/>
            <a:ahLst/>
            <a:rect l="l" t="t" r="r" b="b"/>
            <a:pathLst>
              <a:path w="2804" h="492">
                <a:moveTo>
                  <a:pt x="1471" y="324"/>
                </a:moveTo>
                <a:lnTo>
                  <a:pt x="1438" y="327"/>
                </a:lnTo>
                <a:lnTo>
                  <a:pt x="1405" y="331"/>
                </a:lnTo>
                <a:lnTo>
                  <a:pt x="1373" y="334"/>
                </a:lnTo>
                <a:lnTo>
                  <a:pt x="1340" y="338"/>
                </a:lnTo>
                <a:lnTo>
                  <a:pt x="1310" y="341"/>
                </a:lnTo>
                <a:lnTo>
                  <a:pt x="1278" y="346"/>
                </a:lnTo>
                <a:lnTo>
                  <a:pt x="1248" y="349"/>
                </a:lnTo>
                <a:lnTo>
                  <a:pt x="1218" y="351"/>
                </a:lnTo>
                <a:lnTo>
                  <a:pt x="1189" y="356"/>
                </a:lnTo>
                <a:lnTo>
                  <a:pt x="1160" y="359"/>
                </a:lnTo>
                <a:lnTo>
                  <a:pt x="1131" y="363"/>
                </a:lnTo>
                <a:lnTo>
                  <a:pt x="1102" y="366"/>
                </a:lnTo>
                <a:lnTo>
                  <a:pt x="1075" y="370"/>
                </a:lnTo>
                <a:lnTo>
                  <a:pt x="1049" y="373"/>
                </a:lnTo>
                <a:lnTo>
                  <a:pt x="1022" y="377"/>
                </a:lnTo>
                <a:lnTo>
                  <a:pt x="996" y="380"/>
                </a:lnTo>
                <a:lnTo>
                  <a:pt x="971" y="383"/>
                </a:lnTo>
                <a:lnTo>
                  <a:pt x="946" y="387"/>
                </a:lnTo>
                <a:lnTo>
                  <a:pt x="923" y="390"/>
                </a:lnTo>
                <a:lnTo>
                  <a:pt x="898" y="395"/>
                </a:lnTo>
                <a:lnTo>
                  <a:pt x="875" y="397"/>
                </a:lnTo>
                <a:lnTo>
                  <a:pt x="852" y="402"/>
                </a:lnTo>
                <a:lnTo>
                  <a:pt x="830" y="405"/>
                </a:lnTo>
                <a:lnTo>
                  <a:pt x="809" y="408"/>
                </a:lnTo>
                <a:lnTo>
                  <a:pt x="787" y="412"/>
                </a:lnTo>
                <a:lnTo>
                  <a:pt x="767" y="415"/>
                </a:lnTo>
                <a:lnTo>
                  <a:pt x="747" y="419"/>
                </a:lnTo>
                <a:lnTo>
                  <a:pt x="728" y="422"/>
                </a:lnTo>
                <a:lnTo>
                  <a:pt x="709" y="426"/>
                </a:lnTo>
                <a:lnTo>
                  <a:pt x="691" y="429"/>
                </a:lnTo>
                <a:lnTo>
                  <a:pt x="673" y="433"/>
                </a:lnTo>
                <a:lnTo>
                  <a:pt x="656" y="436"/>
                </a:lnTo>
                <a:lnTo>
                  <a:pt x="639" y="439"/>
                </a:lnTo>
                <a:lnTo>
                  <a:pt x="623" y="444"/>
                </a:lnTo>
                <a:lnTo>
                  <a:pt x="607" y="446"/>
                </a:lnTo>
                <a:lnTo>
                  <a:pt x="591" y="449"/>
                </a:lnTo>
                <a:lnTo>
                  <a:pt x="577" y="452"/>
                </a:lnTo>
                <a:lnTo>
                  <a:pt x="563" y="455"/>
                </a:lnTo>
                <a:lnTo>
                  <a:pt x="548" y="458"/>
                </a:lnTo>
                <a:lnTo>
                  <a:pt x="534" y="461"/>
                </a:lnTo>
                <a:lnTo>
                  <a:pt x="521" y="464"/>
                </a:lnTo>
                <a:lnTo>
                  <a:pt x="506" y="467"/>
                </a:lnTo>
                <a:lnTo>
                  <a:pt x="495" y="468"/>
                </a:lnTo>
                <a:lnTo>
                  <a:pt x="482" y="471"/>
                </a:lnTo>
                <a:lnTo>
                  <a:pt x="470" y="472"/>
                </a:lnTo>
                <a:lnTo>
                  <a:pt x="459" y="475"/>
                </a:lnTo>
                <a:lnTo>
                  <a:pt x="447" y="477"/>
                </a:lnTo>
                <a:lnTo>
                  <a:pt x="437" y="478"/>
                </a:lnTo>
                <a:lnTo>
                  <a:pt x="427" y="481"/>
                </a:lnTo>
                <a:lnTo>
                  <a:pt x="419" y="482"/>
                </a:lnTo>
                <a:lnTo>
                  <a:pt x="409" y="484"/>
                </a:lnTo>
                <a:lnTo>
                  <a:pt x="400" y="485"/>
                </a:lnTo>
                <a:lnTo>
                  <a:pt x="393" y="487"/>
                </a:lnTo>
                <a:lnTo>
                  <a:pt x="384" y="487"/>
                </a:lnTo>
                <a:lnTo>
                  <a:pt x="377" y="488"/>
                </a:lnTo>
                <a:lnTo>
                  <a:pt x="371" y="490"/>
                </a:lnTo>
                <a:lnTo>
                  <a:pt x="365" y="490"/>
                </a:lnTo>
                <a:lnTo>
                  <a:pt x="360" y="491"/>
                </a:lnTo>
                <a:lnTo>
                  <a:pt x="354" y="491"/>
                </a:lnTo>
                <a:lnTo>
                  <a:pt x="350" y="491"/>
                </a:lnTo>
                <a:lnTo>
                  <a:pt x="347" y="492"/>
                </a:lnTo>
                <a:lnTo>
                  <a:pt x="342" y="492"/>
                </a:lnTo>
                <a:lnTo>
                  <a:pt x="341" y="492"/>
                </a:lnTo>
                <a:lnTo>
                  <a:pt x="338" y="492"/>
                </a:lnTo>
                <a:lnTo>
                  <a:pt x="334" y="492"/>
                </a:lnTo>
                <a:lnTo>
                  <a:pt x="329" y="492"/>
                </a:lnTo>
                <a:lnTo>
                  <a:pt x="325" y="491"/>
                </a:lnTo>
                <a:lnTo>
                  <a:pt x="319" y="490"/>
                </a:lnTo>
                <a:lnTo>
                  <a:pt x="314" y="488"/>
                </a:lnTo>
                <a:lnTo>
                  <a:pt x="308" y="487"/>
                </a:lnTo>
                <a:lnTo>
                  <a:pt x="301" y="485"/>
                </a:lnTo>
                <a:lnTo>
                  <a:pt x="293" y="482"/>
                </a:lnTo>
                <a:lnTo>
                  <a:pt x="286" y="480"/>
                </a:lnTo>
                <a:lnTo>
                  <a:pt x="278" y="477"/>
                </a:lnTo>
                <a:lnTo>
                  <a:pt x="269" y="472"/>
                </a:lnTo>
                <a:lnTo>
                  <a:pt x="260" y="469"/>
                </a:lnTo>
                <a:lnTo>
                  <a:pt x="252" y="465"/>
                </a:lnTo>
                <a:lnTo>
                  <a:pt x="242" y="461"/>
                </a:lnTo>
                <a:lnTo>
                  <a:pt x="232" y="456"/>
                </a:lnTo>
                <a:lnTo>
                  <a:pt x="221" y="451"/>
                </a:lnTo>
                <a:lnTo>
                  <a:pt x="210" y="445"/>
                </a:lnTo>
                <a:lnTo>
                  <a:pt x="198" y="439"/>
                </a:lnTo>
                <a:lnTo>
                  <a:pt x="187" y="433"/>
                </a:lnTo>
                <a:lnTo>
                  <a:pt x="175" y="428"/>
                </a:lnTo>
                <a:lnTo>
                  <a:pt x="162" y="420"/>
                </a:lnTo>
                <a:lnTo>
                  <a:pt x="149" y="413"/>
                </a:lnTo>
                <a:lnTo>
                  <a:pt x="136" y="406"/>
                </a:lnTo>
                <a:lnTo>
                  <a:pt x="122" y="397"/>
                </a:lnTo>
                <a:lnTo>
                  <a:pt x="108" y="390"/>
                </a:lnTo>
                <a:lnTo>
                  <a:pt x="93" y="382"/>
                </a:lnTo>
                <a:lnTo>
                  <a:pt x="79" y="373"/>
                </a:lnTo>
                <a:lnTo>
                  <a:pt x="65" y="363"/>
                </a:lnTo>
                <a:lnTo>
                  <a:pt x="33" y="344"/>
                </a:lnTo>
                <a:lnTo>
                  <a:pt x="0" y="324"/>
                </a:lnTo>
                <a:lnTo>
                  <a:pt x="106" y="310"/>
                </a:lnTo>
                <a:lnTo>
                  <a:pt x="211" y="295"/>
                </a:lnTo>
                <a:lnTo>
                  <a:pt x="314" y="281"/>
                </a:lnTo>
                <a:lnTo>
                  <a:pt x="414" y="266"/>
                </a:lnTo>
                <a:lnTo>
                  <a:pt x="512" y="253"/>
                </a:lnTo>
                <a:lnTo>
                  <a:pt x="609" y="239"/>
                </a:lnTo>
                <a:lnTo>
                  <a:pt x="704" y="225"/>
                </a:lnTo>
                <a:lnTo>
                  <a:pt x="796" y="212"/>
                </a:lnTo>
                <a:lnTo>
                  <a:pt x="885" y="197"/>
                </a:lnTo>
                <a:lnTo>
                  <a:pt x="974" y="183"/>
                </a:lnTo>
                <a:lnTo>
                  <a:pt x="1061" y="170"/>
                </a:lnTo>
                <a:lnTo>
                  <a:pt x="1147" y="156"/>
                </a:lnTo>
                <a:lnTo>
                  <a:pt x="1231" y="141"/>
                </a:lnTo>
                <a:lnTo>
                  <a:pt x="1311" y="127"/>
                </a:lnTo>
                <a:lnTo>
                  <a:pt x="1392" y="112"/>
                </a:lnTo>
                <a:lnTo>
                  <a:pt x="1471" y="99"/>
                </a:lnTo>
                <a:lnTo>
                  <a:pt x="1510" y="92"/>
                </a:lnTo>
                <a:lnTo>
                  <a:pt x="1547" y="85"/>
                </a:lnTo>
                <a:lnTo>
                  <a:pt x="1585" y="78"/>
                </a:lnTo>
                <a:lnTo>
                  <a:pt x="1621" y="72"/>
                </a:lnTo>
                <a:lnTo>
                  <a:pt x="1657" y="66"/>
                </a:lnTo>
                <a:lnTo>
                  <a:pt x="1691" y="59"/>
                </a:lnTo>
                <a:lnTo>
                  <a:pt x="1724" y="55"/>
                </a:lnTo>
                <a:lnTo>
                  <a:pt x="1757" y="49"/>
                </a:lnTo>
                <a:lnTo>
                  <a:pt x="1791" y="43"/>
                </a:lnTo>
                <a:lnTo>
                  <a:pt x="1822" y="39"/>
                </a:lnTo>
                <a:lnTo>
                  <a:pt x="1852" y="35"/>
                </a:lnTo>
                <a:lnTo>
                  <a:pt x="1883" y="30"/>
                </a:lnTo>
                <a:lnTo>
                  <a:pt x="1911" y="26"/>
                </a:lnTo>
                <a:lnTo>
                  <a:pt x="1939" y="22"/>
                </a:lnTo>
                <a:lnTo>
                  <a:pt x="1966" y="19"/>
                </a:lnTo>
                <a:lnTo>
                  <a:pt x="1994" y="16"/>
                </a:lnTo>
                <a:lnTo>
                  <a:pt x="2018" y="13"/>
                </a:lnTo>
                <a:lnTo>
                  <a:pt x="2044" y="10"/>
                </a:lnTo>
                <a:lnTo>
                  <a:pt x="2067" y="7"/>
                </a:lnTo>
                <a:lnTo>
                  <a:pt x="2091" y="6"/>
                </a:lnTo>
                <a:lnTo>
                  <a:pt x="2113" y="4"/>
                </a:lnTo>
                <a:lnTo>
                  <a:pt x="2135" y="3"/>
                </a:lnTo>
                <a:lnTo>
                  <a:pt x="2156" y="2"/>
                </a:lnTo>
                <a:lnTo>
                  <a:pt x="2175" y="0"/>
                </a:lnTo>
                <a:lnTo>
                  <a:pt x="2195" y="0"/>
                </a:lnTo>
                <a:lnTo>
                  <a:pt x="2214" y="0"/>
                </a:lnTo>
                <a:lnTo>
                  <a:pt x="2231" y="0"/>
                </a:lnTo>
                <a:lnTo>
                  <a:pt x="2247" y="0"/>
                </a:lnTo>
                <a:lnTo>
                  <a:pt x="2263" y="0"/>
                </a:lnTo>
                <a:lnTo>
                  <a:pt x="2279" y="2"/>
                </a:lnTo>
                <a:lnTo>
                  <a:pt x="2293" y="3"/>
                </a:lnTo>
                <a:lnTo>
                  <a:pt x="2306" y="4"/>
                </a:lnTo>
                <a:lnTo>
                  <a:pt x="2332" y="9"/>
                </a:lnTo>
                <a:lnTo>
                  <a:pt x="2358" y="12"/>
                </a:lnTo>
                <a:lnTo>
                  <a:pt x="2382" y="16"/>
                </a:lnTo>
                <a:lnTo>
                  <a:pt x="2407" y="19"/>
                </a:lnTo>
                <a:lnTo>
                  <a:pt x="2431" y="23"/>
                </a:lnTo>
                <a:lnTo>
                  <a:pt x="2454" y="27"/>
                </a:lnTo>
                <a:lnTo>
                  <a:pt x="2477" y="32"/>
                </a:lnTo>
                <a:lnTo>
                  <a:pt x="2500" y="38"/>
                </a:lnTo>
                <a:lnTo>
                  <a:pt x="2522" y="43"/>
                </a:lnTo>
                <a:lnTo>
                  <a:pt x="2543" y="49"/>
                </a:lnTo>
                <a:lnTo>
                  <a:pt x="2565" y="55"/>
                </a:lnTo>
                <a:lnTo>
                  <a:pt x="2585" y="62"/>
                </a:lnTo>
                <a:lnTo>
                  <a:pt x="2605" y="71"/>
                </a:lnTo>
                <a:lnTo>
                  <a:pt x="2626" y="79"/>
                </a:lnTo>
                <a:lnTo>
                  <a:pt x="2646" y="88"/>
                </a:lnTo>
                <a:lnTo>
                  <a:pt x="2664" y="99"/>
                </a:lnTo>
                <a:lnTo>
                  <a:pt x="2682" y="110"/>
                </a:lnTo>
                <a:lnTo>
                  <a:pt x="2697" y="120"/>
                </a:lnTo>
                <a:lnTo>
                  <a:pt x="2713" y="130"/>
                </a:lnTo>
                <a:lnTo>
                  <a:pt x="2728" y="141"/>
                </a:lnTo>
                <a:lnTo>
                  <a:pt x="2741" y="151"/>
                </a:lnTo>
                <a:lnTo>
                  <a:pt x="2752" y="160"/>
                </a:lnTo>
                <a:lnTo>
                  <a:pt x="2762" y="170"/>
                </a:lnTo>
                <a:lnTo>
                  <a:pt x="2771" y="179"/>
                </a:lnTo>
                <a:lnTo>
                  <a:pt x="2778" y="187"/>
                </a:lnTo>
                <a:lnTo>
                  <a:pt x="2785" y="194"/>
                </a:lnTo>
                <a:lnTo>
                  <a:pt x="2791" y="203"/>
                </a:lnTo>
                <a:lnTo>
                  <a:pt x="2795" y="209"/>
                </a:lnTo>
                <a:lnTo>
                  <a:pt x="2798" y="216"/>
                </a:lnTo>
                <a:lnTo>
                  <a:pt x="2801" y="220"/>
                </a:lnTo>
                <a:lnTo>
                  <a:pt x="2803" y="226"/>
                </a:lnTo>
                <a:lnTo>
                  <a:pt x="2804" y="230"/>
                </a:lnTo>
                <a:lnTo>
                  <a:pt x="2803" y="233"/>
                </a:lnTo>
                <a:lnTo>
                  <a:pt x="2803" y="236"/>
                </a:lnTo>
                <a:lnTo>
                  <a:pt x="2800" y="239"/>
                </a:lnTo>
                <a:lnTo>
                  <a:pt x="2798" y="243"/>
                </a:lnTo>
                <a:lnTo>
                  <a:pt x="2794" y="246"/>
                </a:lnTo>
                <a:lnTo>
                  <a:pt x="2791" y="249"/>
                </a:lnTo>
                <a:lnTo>
                  <a:pt x="2785" y="252"/>
                </a:lnTo>
                <a:lnTo>
                  <a:pt x="2781" y="253"/>
                </a:lnTo>
                <a:lnTo>
                  <a:pt x="2775" y="256"/>
                </a:lnTo>
                <a:lnTo>
                  <a:pt x="2768" y="259"/>
                </a:lnTo>
                <a:lnTo>
                  <a:pt x="2761" y="261"/>
                </a:lnTo>
                <a:lnTo>
                  <a:pt x="2752" y="264"/>
                </a:lnTo>
                <a:lnTo>
                  <a:pt x="2744" y="265"/>
                </a:lnTo>
                <a:lnTo>
                  <a:pt x="2733" y="266"/>
                </a:lnTo>
                <a:lnTo>
                  <a:pt x="2722" y="268"/>
                </a:lnTo>
                <a:lnTo>
                  <a:pt x="2712" y="269"/>
                </a:lnTo>
                <a:lnTo>
                  <a:pt x="2699" y="271"/>
                </a:lnTo>
                <a:lnTo>
                  <a:pt x="2686" y="272"/>
                </a:lnTo>
                <a:lnTo>
                  <a:pt x="2673" y="274"/>
                </a:lnTo>
                <a:lnTo>
                  <a:pt x="2659" y="274"/>
                </a:lnTo>
                <a:lnTo>
                  <a:pt x="2643" y="274"/>
                </a:lnTo>
                <a:lnTo>
                  <a:pt x="2627" y="275"/>
                </a:lnTo>
                <a:lnTo>
                  <a:pt x="2611" y="275"/>
                </a:lnTo>
                <a:lnTo>
                  <a:pt x="2594" y="275"/>
                </a:lnTo>
                <a:lnTo>
                  <a:pt x="2575" y="275"/>
                </a:lnTo>
                <a:lnTo>
                  <a:pt x="2556" y="274"/>
                </a:lnTo>
                <a:lnTo>
                  <a:pt x="2536" y="274"/>
                </a:lnTo>
                <a:lnTo>
                  <a:pt x="2516" y="272"/>
                </a:lnTo>
                <a:lnTo>
                  <a:pt x="2495" y="272"/>
                </a:lnTo>
                <a:lnTo>
                  <a:pt x="2473" y="271"/>
                </a:lnTo>
                <a:lnTo>
                  <a:pt x="2450" y="269"/>
                </a:lnTo>
                <a:lnTo>
                  <a:pt x="2425" y="268"/>
                </a:lnTo>
                <a:lnTo>
                  <a:pt x="2376" y="264"/>
                </a:lnTo>
                <a:lnTo>
                  <a:pt x="2326" y="262"/>
                </a:lnTo>
                <a:lnTo>
                  <a:pt x="2274" y="261"/>
                </a:lnTo>
                <a:lnTo>
                  <a:pt x="2221" y="261"/>
                </a:lnTo>
                <a:lnTo>
                  <a:pt x="2166" y="261"/>
                </a:lnTo>
                <a:lnTo>
                  <a:pt x="2110" y="262"/>
                </a:lnTo>
                <a:lnTo>
                  <a:pt x="2053" y="264"/>
                </a:lnTo>
                <a:lnTo>
                  <a:pt x="1994" y="266"/>
                </a:lnTo>
                <a:lnTo>
                  <a:pt x="1933" y="271"/>
                </a:lnTo>
                <a:lnTo>
                  <a:pt x="1871" y="275"/>
                </a:lnTo>
                <a:lnTo>
                  <a:pt x="1808" y="281"/>
                </a:lnTo>
                <a:lnTo>
                  <a:pt x="1743" y="288"/>
                </a:lnTo>
                <a:lnTo>
                  <a:pt x="1677" y="295"/>
                </a:lnTo>
                <a:lnTo>
                  <a:pt x="1611" y="304"/>
                </a:lnTo>
                <a:lnTo>
                  <a:pt x="1542" y="313"/>
                </a:lnTo>
                <a:lnTo>
                  <a:pt x="1471" y="32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Freeform 71"/>
          <p:cNvSpPr/>
          <p:nvPr/>
        </p:nvSpPr>
        <p:spPr>
          <a:xfrm>
            <a:off x="5513400" y="4248000"/>
            <a:ext cx="907920" cy="435240"/>
          </a:xfrm>
          <a:custGeom>
            <a:avLst/>
            <a:gdLst/>
            <a:ahLst/>
            <a:rect l="l" t="t" r="r" b="b"/>
            <a:pathLst>
              <a:path w="1716" h="820">
                <a:moveTo>
                  <a:pt x="1338" y="273"/>
                </a:moveTo>
                <a:lnTo>
                  <a:pt x="1294" y="298"/>
                </a:lnTo>
                <a:lnTo>
                  <a:pt x="1249" y="322"/>
                </a:lnTo>
                <a:lnTo>
                  <a:pt x="1206" y="345"/>
                </a:lnTo>
                <a:lnTo>
                  <a:pt x="1163" y="368"/>
                </a:lnTo>
                <a:lnTo>
                  <a:pt x="1078" y="414"/>
                </a:lnTo>
                <a:lnTo>
                  <a:pt x="993" y="461"/>
                </a:lnTo>
                <a:lnTo>
                  <a:pt x="909" y="505"/>
                </a:lnTo>
                <a:lnTo>
                  <a:pt x="826" y="551"/>
                </a:lnTo>
                <a:lnTo>
                  <a:pt x="786" y="576"/>
                </a:lnTo>
                <a:lnTo>
                  <a:pt x="744" y="599"/>
                </a:lnTo>
                <a:lnTo>
                  <a:pt x="702" y="623"/>
                </a:lnTo>
                <a:lnTo>
                  <a:pt x="662" y="648"/>
                </a:lnTo>
                <a:lnTo>
                  <a:pt x="642" y="661"/>
                </a:lnTo>
                <a:lnTo>
                  <a:pt x="621" y="672"/>
                </a:lnTo>
                <a:lnTo>
                  <a:pt x="603" y="684"/>
                </a:lnTo>
                <a:lnTo>
                  <a:pt x="585" y="694"/>
                </a:lnTo>
                <a:lnTo>
                  <a:pt x="567" y="705"/>
                </a:lnTo>
                <a:lnTo>
                  <a:pt x="550" y="715"/>
                </a:lnTo>
                <a:lnTo>
                  <a:pt x="532" y="724"/>
                </a:lnTo>
                <a:lnTo>
                  <a:pt x="516" y="734"/>
                </a:lnTo>
                <a:lnTo>
                  <a:pt x="501" y="743"/>
                </a:lnTo>
                <a:lnTo>
                  <a:pt x="486" y="750"/>
                </a:lnTo>
                <a:lnTo>
                  <a:pt x="472" y="759"/>
                </a:lnTo>
                <a:lnTo>
                  <a:pt x="457" y="766"/>
                </a:lnTo>
                <a:lnTo>
                  <a:pt x="444" y="771"/>
                </a:lnTo>
                <a:lnTo>
                  <a:pt x="431" y="779"/>
                </a:lnTo>
                <a:lnTo>
                  <a:pt x="419" y="784"/>
                </a:lnTo>
                <a:lnTo>
                  <a:pt x="407" y="790"/>
                </a:lnTo>
                <a:lnTo>
                  <a:pt x="395" y="795"/>
                </a:lnTo>
                <a:lnTo>
                  <a:pt x="384" y="799"/>
                </a:lnTo>
                <a:lnTo>
                  <a:pt x="374" y="803"/>
                </a:lnTo>
                <a:lnTo>
                  <a:pt x="364" y="807"/>
                </a:lnTo>
                <a:lnTo>
                  <a:pt x="355" y="810"/>
                </a:lnTo>
                <a:lnTo>
                  <a:pt x="347" y="813"/>
                </a:lnTo>
                <a:lnTo>
                  <a:pt x="338" y="816"/>
                </a:lnTo>
                <a:lnTo>
                  <a:pt x="329" y="818"/>
                </a:lnTo>
                <a:lnTo>
                  <a:pt x="322" y="819"/>
                </a:lnTo>
                <a:lnTo>
                  <a:pt x="315" y="820"/>
                </a:lnTo>
                <a:lnTo>
                  <a:pt x="309" y="820"/>
                </a:lnTo>
                <a:lnTo>
                  <a:pt x="303" y="820"/>
                </a:lnTo>
                <a:lnTo>
                  <a:pt x="298" y="820"/>
                </a:lnTo>
                <a:lnTo>
                  <a:pt x="293" y="819"/>
                </a:lnTo>
                <a:lnTo>
                  <a:pt x="289" y="819"/>
                </a:lnTo>
                <a:lnTo>
                  <a:pt x="285" y="818"/>
                </a:lnTo>
                <a:lnTo>
                  <a:pt x="273" y="816"/>
                </a:lnTo>
                <a:lnTo>
                  <a:pt x="262" y="815"/>
                </a:lnTo>
                <a:lnTo>
                  <a:pt x="252" y="812"/>
                </a:lnTo>
                <a:lnTo>
                  <a:pt x="240" y="806"/>
                </a:lnTo>
                <a:lnTo>
                  <a:pt x="228" y="802"/>
                </a:lnTo>
                <a:lnTo>
                  <a:pt x="216" y="795"/>
                </a:lnTo>
                <a:lnTo>
                  <a:pt x="204" y="786"/>
                </a:lnTo>
                <a:lnTo>
                  <a:pt x="192" y="777"/>
                </a:lnTo>
                <a:lnTo>
                  <a:pt x="180" y="767"/>
                </a:lnTo>
                <a:lnTo>
                  <a:pt x="168" y="756"/>
                </a:lnTo>
                <a:lnTo>
                  <a:pt x="155" y="744"/>
                </a:lnTo>
                <a:lnTo>
                  <a:pt x="142" y="730"/>
                </a:lnTo>
                <a:lnTo>
                  <a:pt x="128" y="715"/>
                </a:lnTo>
                <a:lnTo>
                  <a:pt x="115" y="701"/>
                </a:lnTo>
                <a:lnTo>
                  <a:pt x="100" y="684"/>
                </a:lnTo>
                <a:lnTo>
                  <a:pt x="86" y="668"/>
                </a:lnTo>
                <a:lnTo>
                  <a:pt x="72" y="649"/>
                </a:lnTo>
                <a:lnTo>
                  <a:pt x="59" y="632"/>
                </a:lnTo>
                <a:lnTo>
                  <a:pt x="47" y="616"/>
                </a:lnTo>
                <a:lnTo>
                  <a:pt x="37" y="600"/>
                </a:lnTo>
                <a:lnTo>
                  <a:pt x="28" y="586"/>
                </a:lnTo>
                <a:lnTo>
                  <a:pt x="21" y="571"/>
                </a:lnTo>
                <a:lnTo>
                  <a:pt x="14" y="557"/>
                </a:lnTo>
                <a:lnTo>
                  <a:pt x="10" y="544"/>
                </a:lnTo>
                <a:lnTo>
                  <a:pt x="5" y="533"/>
                </a:lnTo>
                <a:lnTo>
                  <a:pt x="2" y="522"/>
                </a:lnTo>
                <a:lnTo>
                  <a:pt x="0" y="512"/>
                </a:lnTo>
                <a:lnTo>
                  <a:pt x="0" y="504"/>
                </a:lnTo>
                <a:lnTo>
                  <a:pt x="0" y="495"/>
                </a:lnTo>
                <a:lnTo>
                  <a:pt x="1" y="489"/>
                </a:lnTo>
                <a:lnTo>
                  <a:pt x="2" y="484"/>
                </a:lnTo>
                <a:lnTo>
                  <a:pt x="7" y="479"/>
                </a:lnTo>
                <a:lnTo>
                  <a:pt x="14" y="472"/>
                </a:lnTo>
                <a:lnTo>
                  <a:pt x="21" y="466"/>
                </a:lnTo>
                <a:lnTo>
                  <a:pt x="30" y="461"/>
                </a:lnTo>
                <a:lnTo>
                  <a:pt x="36" y="458"/>
                </a:lnTo>
                <a:lnTo>
                  <a:pt x="41" y="456"/>
                </a:lnTo>
                <a:lnTo>
                  <a:pt x="47" y="455"/>
                </a:lnTo>
                <a:lnTo>
                  <a:pt x="53" y="453"/>
                </a:lnTo>
                <a:lnTo>
                  <a:pt x="60" y="452"/>
                </a:lnTo>
                <a:lnTo>
                  <a:pt x="67" y="453"/>
                </a:lnTo>
                <a:lnTo>
                  <a:pt x="76" y="453"/>
                </a:lnTo>
                <a:lnTo>
                  <a:pt x="85" y="455"/>
                </a:lnTo>
                <a:lnTo>
                  <a:pt x="95" y="458"/>
                </a:lnTo>
                <a:lnTo>
                  <a:pt x="106" y="461"/>
                </a:lnTo>
                <a:lnTo>
                  <a:pt x="113" y="463"/>
                </a:lnTo>
                <a:lnTo>
                  <a:pt x="121" y="466"/>
                </a:lnTo>
                <a:lnTo>
                  <a:pt x="128" y="469"/>
                </a:lnTo>
                <a:lnTo>
                  <a:pt x="135" y="472"/>
                </a:lnTo>
                <a:lnTo>
                  <a:pt x="151" y="475"/>
                </a:lnTo>
                <a:lnTo>
                  <a:pt x="165" y="476"/>
                </a:lnTo>
                <a:lnTo>
                  <a:pt x="180" y="478"/>
                </a:lnTo>
                <a:lnTo>
                  <a:pt x="195" y="479"/>
                </a:lnTo>
                <a:lnTo>
                  <a:pt x="210" y="479"/>
                </a:lnTo>
                <a:lnTo>
                  <a:pt x="226" y="479"/>
                </a:lnTo>
                <a:lnTo>
                  <a:pt x="227" y="479"/>
                </a:lnTo>
                <a:lnTo>
                  <a:pt x="231" y="478"/>
                </a:lnTo>
                <a:lnTo>
                  <a:pt x="237" y="476"/>
                </a:lnTo>
                <a:lnTo>
                  <a:pt x="243" y="475"/>
                </a:lnTo>
                <a:lnTo>
                  <a:pt x="252" y="472"/>
                </a:lnTo>
                <a:lnTo>
                  <a:pt x="262" y="469"/>
                </a:lnTo>
                <a:lnTo>
                  <a:pt x="272" y="466"/>
                </a:lnTo>
                <a:lnTo>
                  <a:pt x="285" y="462"/>
                </a:lnTo>
                <a:lnTo>
                  <a:pt x="298" y="458"/>
                </a:lnTo>
                <a:lnTo>
                  <a:pt x="313" y="453"/>
                </a:lnTo>
                <a:lnTo>
                  <a:pt x="329" y="448"/>
                </a:lnTo>
                <a:lnTo>
                  <a:pt x="347" y="442"/>
                </a:lnTo>
                <a:lnTo>
                  <a:pt x="367" y="435"/>
                </a:lnTo>
                <a:lnTo>
                  <a:pt x="387" y="427"/>
                </a:lnTo>
                <a:lnTo>
                  <a:pt x="408" y="420"/>
                </a:lnTo>
                <a:lnTo>
                  <a:pt x="431" y="413"/>
                </a:lnTo>
                <a:lnTo>
                  <a:pt x="456" y="404"/>
                </a:lnTo>
                <a:lnTo>
                  <a:pt x="482" y="394"/>
                </a:lnTo>
                <a:lnTo>
                  <a:pt x="509" y="386"/>
                </a:lnTo>
                <a:lnTo>
                  <a:pt x="537" y="376"/>
                </a:lnTo>
                <a:lnTo>
                  <a:pt x="567" y="364"/>
                </a:lnTo>
                <a:lnTo>
                  <a:pt x="598" y="354"/>
                </a:lnTo>
                <a:lnTo>
                  <a:pt x="630" y="342"/>
                </a:lnTo>
                <a:lnTo>
                  <a:pt x="665" y="330"/>
                </a:lnTo>
                <a:lnTo>
                  <a:pt x="699" y="318"/>
                </a:lnTo>
                <a:lnTo>
                  <a:pt x="735" y="305"/>
                </a:lnTo>
                <a:lnTo>
                  <a:pt x="773" y="291"/>
                </a:lnTo>
                <a:lnTo>
                  <a:pt x="812" y="278"/>
                </a:lnTo>
                <a:lnTo>
                  <a:pt x="852" y="263"/>
                </a:lnTo>
                <a:lnTo>
                  <a:pt x="894" y="247"/>
                </a:lnTo>
                <a:lnTo>
                  <a:pt x="935" y="233"/>
                </a:lnTo>
                <a:lnTo>
                  <a:pt x="980" y="217"/>
                </a:lnTo>
                <a:lnTo>
                  <a:pt x="1025" y="201"/>
                </a:lnTo>
                <a:lnTo>
                  <a:pt x="1066" y="186"/>
                </a:lnTo>
                <a:lnTo>
                  <a:pt x="1108" y="171"/>
                </a:lnTo>
                <a:lnTo>
                  <a:pt x="1147" y="157"/>
                </a:lnTo>
                <a:lnTo>
                  <a:pt x="1186" y="144"/>
                </a:lnTo>
                <a:lnTo>
                  <a:pt x="1223" y="131"/>
                </a:lnTo>
                <a:lnTo>
                  <a:pt x="1259" y="118"/>
                </a:lnTo>
                <a:lnTo>
                  <a:pt x="1294" y="106"/>
                </a:lnTo>
                <a:lnTo>
                  <a:pt x="1327" y="95"/>
                </a:lnTo>
                <a:lnTo>
                  <a:pt x="1357" y="85"/>
                </a:lnTo>
                <a:lnTo>
                  <a:pt x="1389" y="75"/>
                </a:lnTo>
                <a:lnTo>
                  <a:pt x="1418" y="66"/>
                </a:lnTo>
                <a:lnTo>
                  <a:pt x="1445" y="57"/>
                </a:lnTo>
                <a:lnTo>
                  <a:pt x="1471" y="49"/>
                </a:lnTo>
                <a:lnTo>
                  <a:pt x="1495" y="42"/>
                </a:lnTo>
                <a:lnTo>
                  <a:pt x="1520" y="34"/>
                </a:lnTo>
                <a:lnTo>
                  <a:pt x="1541" y="29"/>
                </a:lnTo>
                <a:lnTo>
                  <a:pt x="1562" y="23"/>
                </a:lnTo>
                <a:lnTo>
                  <a:pt x="1582" y="19"/>
                </a:lnTo>
                <a:lnTo>
                  <a:pt x="1600" y="13"/>
                </a:lnTo>
                <a:lnTo>
                  <a:pt x="1616" y="10"/>
                </a:lnTo>
                <a:lnTo>
                  <a:pt x="1632" y="7"/>
                </a:lnTo>
                <a:lnTo>
                  <a:pt x="1646" y="4"/>
                </a:lnTo>
                <a:lnTo>
                  <a:pt x="1659" y="3"/>
                </a:lnTo>
                <a:lnTo>
                  <a:pt x="1671" y="1"/>
                </a:lnTo>
                <a:lnTo>
                  <a:pt x="1681" y="0"/>
                </a:lnTo>
                <a:lnTo>
                  <a:pt x="1690" y="0"/>
                </a:lnTo>
                <a:lnTo>
                  <a:pt x="1698" y="1"/>
                </a:lnTo>
                <a:lnTo>
                  <a:pt x="1704" y="3"/>
                </a:lnTo>
                <a:lnTo>
                  <a:pt x="1710" y="4"/>
                </a:lnTo>
                <a:lnTo>
                  <a:pt x="1713" y="7"/>
                </a:lnTo>
                <a:lnTo>
                  <a:pt x="1716" y="10"/>
                </a:lnTo>
                <a:lnTo>
                  <a:pt x="1716" y="14"/>
                </a:lnTo>
                <a:lnTo>
                  <a:pt x="1714" y="17"/>
                </a:lnTo>
                <a:lnTo>
                  <a:pt x="1713" y="21"/>
                </a:lnTo>
                <a:lnTo>
                  <a:pt x="1710" y="27"/>
                </a:lnTo>
                <a:lnTo>
                  <a:pt x="1707" y="32"/>
                </a:lnTo>
                <a:lnTo>
                  <a:pt x="1703" y="37"/>
                </a:lnTo>
                <a:lnTo>
                  <a:pt x="1698" y="42"/>
                </a:lnTo>
                <a:lnTo>
                  <a:pt x="1693" y="47"/>
                </a:lnTo>
                <a:lnTo>
                  <a:pt x="1687" y="55"/>
                </a:lnTo>
                <a:lnTo>
                  <a:pt x="1680" y="60"/>
                </a:lnTo>
                <a:lnTo>
                  <a:pt x="1672" y="68"/>
                </a:lnTo>
                <a:lnTo>
                  <a:pt x="1664" y="75"/>
                </a:lnTo>
                <a:lnTo>
                  <a:pt x="1655" y="82"/>
                </a:lnTo>
                <a:lnTo>
                  <a:pt x="1645" y="89"/>
                </a:lnTo>
                <a:lnTo>
                  <a:pt x="1635" y="98"/>
                </a:lnTo>
                <a:lnTo>
                  <a:pt x="1623" y="105"/>
                </a:lnTo>
                <a:lnTo>
                  <a:pt x="1612" y="114"/>
                </a:lnTo>
                <a:lnTo>
                  <a:pt x="1599" y="122"/>
                </a:lnTo>
                <a:lnTo>
                  <a:pt x="1585" y="132"/>
                </a:lnTo>
                <a:lnTo>
                  <a:pt x="1570" y="141"/>
                </a:lnTo>
                <a:lnTo>
                  <a:pt x="1556" y="151"/>
                </a:lnTo>
                <a:lnTo>
                  <a:pt x="1540" y="160"/>
                </a:lnTo>
                <a:lnTo>
                  <a:pt x="1523" y="170"/>
                </a:lnTo>
                <a:lnTo>
                  <a:pt x="1505" y="181"/>
                </a:lnTo>
                <a:lnTo>
                  <a:pt x="1487" y="191"/>
                </a:lnTo>
                <a:lnTo>
                  <a:pt x="1468" y="203"/>
                </a:lnTo>
                <a:lnTo>
                  <a:pt x="1448" y="213"/>
                </a:lnTo>
                <a:lnTo>
                  <a:pt x="1428" y="224"/>
                </a:lnTo>
                <a:lnTo>
                  <a:pt x="1406" y="236"/>
                </a:lnTo>
                <a:lnTo>
                  <a:pt x="1384" y="249"/>
                </a:lnTo>
                <a:lnTo>
                  <a:pt x="1361" y="260"/>
                </a:lnTo>
                <a:lnTo>
                  <a:pt x="1338" y="27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243"/>
                                        </p:tgtEl>
                                        <p:attrNameLst>
                                          <p:attrName>style.visibility</p:attrName>
                                        </p:attrNameLst>
                                      </p:cBhvr>
                                      <p:to>
                                        <p:strVal val="visible"/>
                                      </p:to>
                                    </p:set>
                                    <p:anim calcmode="lin" valueType="num">
                                      <p:cBhvr additive="base">
                                        <p:cTn id="662" dur="500" fill="hold"/>
                                        <p:tgtEl>
                                          <p:spTgt spid="243"/>
                                        </p:tgtEl>
                                        <p:attrNameLst>
                                          <p:attrName>ppt_x</p:attrName>
                                        </p:attrNameLst>
                                      </p:cBhvr>
                                      <p:tavLst>
                                        <p:tav tm="0">
                                          <p:val>
                                            <p:strVal val="0-#ppt_w/2"/>
                                          </p:val>
                                        </p:tav>
                                        <p:tav tm="100000">
                                          <p:val>
                                            <p:strVal val="#ppt_x"/>
                                          </p:val>
                                        </p:tav>
                                      </p:tavLst>
                                    </p:anim>
                                    <p:anim calcmode="lin" valueType="num">
                                      <p:cBhvr additive="base">
                                        <p:cTn id="663"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8" presetSubtype="6">
                                  <p:stCondLst>
                                    <p:cond delay="0"/>
                                  </p:stCondLst>
                                  <p:childTnLst>
                                    <p:set>
                                      <p:cBhvr>
                                        <p:cTn id="667" dur="1" fill="hold">
                                          <p:stCondLst>
                                            <p:cond delay="0"/>
                                          </p:stCondLst>
                                        </p:cTn>
                                        <p:tgtEl>
                                          <p:spTgt spid="244"/>
                                        </p:tgtEl>
                                        <p:attrNameLst>
                                          <p:attrName>style.visibility</p:attrName>
                                        </p:attrNameLst>
                                      </p:cBhvr>
                                      <p:to>
                                        <p:strVal val="visible"/>
                                      </p:to>
                                    </p:set>
                                    <p:animEffect filter="strips(downRight)" transition="in">
                                      <p:cBhvr additive="repl">
                                        <p:cTn id="668" dur="500"/>
                                        <p:tgtEl>
                                          <p:spTgt spid="244"/>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8" presetSubtype="6">
                                  <p:stCondLst>
                                    <p:cond delay="0"/>
                                  </p:stCondLst>
                                  <p:childTnLst>
                                    <p:set>
                                      <p:cBhvr>
                                        <p:cTn id="672" dur="1" fill="hold">
                                          <p:stCondLst>
                                            <p:cond delay="0"/>
                                          </p:stCondLst>
                                        </p:cTn>
                                        <p:tgtEl>
                                          <p:spTgt spid="245"/>
                                        </p:tgtEl>
                                        <p:attrNameLst>
                                          <p:attrName>style.visibility</p:attrName>
                                        </p:attrNameLst>
                                      </p:cBhvr>
                                      <p:to>
                                        <p:strVal val="visible"/>
                                      </p:to>
                                    </p:set>
                                    <p:animEffect filter="strips(downRight)" transition="in">
                                      <p:cBhvr additive="repl">
                                        <p:cTn id="673" dur="500"/>
                                        <p:tgtEl>
                                          <p:spTgt spid="245"/>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4">
                                  <p:stCondLst>
                                    <p:cond delay="0"/>
                                  </p:stCondLst>
                                  <p:childTnLst>
                                    <p:set>
                                      <p:cBhvr>
                                        <p:cTn id="677" dur="1" fill="hold">
                                          <p:stCondLst>
                                            <p:cond delay="0"/>
                                          </p:stCondLst>
                                        </p:cTn>
                                        <p:tgtEl>
                                          <p:spTgt spid="249"/>
                                        </p:tgtEl>
                                        <p:attrNameLst>
                                          <p:attrName>style.visibility</p:attrName>
                                        </p:attrNameLst>
                                      </p:cBhvr>
                                      <p:to>
                                        <p:strVal val="visible"/>
                                      </p:to>
                                    </p:set>
                                    <p:animEffect filter="wipe(down)" transition="in">
                                      <p:cBhvr additive="repl">
                                        <p:cTn id="678" dur="500"/>
                                        <p:tgtEl>
                                          <p:spTgt spid="249"/>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1">
                                  <p:stCondLst>
                                    <p:cond delay="0"/>
                                  </p:stCondLst>
                                  <p:childTnLst>
                                    <p:set>
                                      <p:cBhvr>
                                        <p:cTn id="682" dur="1" fill="hold">
                                          <p:stCondLst>
                                            <p:cond delay="0"/>
                                          </p:stCondLst>
                                        </p:cTn>
                                        <p:tgtEl>
                                          <p:spTgt spid="246"/>
                                        </p:tgtEl>
                                        <p:attrNameLst>
                                          <p:attrName>style.visibility</p:attrName>
                                        </p:attrNameLst>
                                      </p:cBhvr>
                                      <p:to>
                                        <p:strVal val="visible"/>
                                      </p:to>
                                    </p:set>
                                    <p:animEffect filter="wipe(up)" transition="in">
                                      <p:cBhvr additive="repl">
                                        <p:cTn id="683" dur="500"/>
                                        <p:tgtEl>
                                          <p:spTgt spid="246"/>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48"/>
                                        </p:tgtEl>
                                        <p:attrNameLst>
                                          <p:attrName>style.visibility</p:attrName>
                                        </p:attrNameLst>
                                      </p:cBhvr>
                                      <p:to>
                                        <p:strVal val="visible"/>
                                      </p:to>
                                    </p:set>
                                    <p:animEffect filter="wipe(left)" transition="in">
                                      <p:cBhvr additive="repl">
                                        <p:cTn id="688" dur="500"/>
                                        <p:tgtEl>
                                          <p:spTgt spid="248"/>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1">
                                  <p:stCondLst>
                                    <p:cond delay="0"/>
                                  </p:stCondLst>
                                  <p:childTnLst>
                                    <p:set>
                                      <p:cBhvr>
                                        <p:cTn id="692" dur="1" fill="hold">
                                          <p:stCondLst>
                                            <p:cond delay="0"/>
                                          </p:stCondLst>
                                        </p:cTn>
                                        <p:tgtEl>
                                          <p:spTgt spid="247"/>
                                        </p:tgtEl>
                                        <p:attrNameLst>
                                          <p:attrName>style.visibility</p:attrName>
                                        </p:attrNameLst>
                                      </p:cBhvr>
                                      <p:to>
                                        <p:strVal val="visible"/>
                                      </p:to>
                                    </p:set>
                                    <p:animEffect filter="wipe(up)" transition="in">
                                      <p:cBhvr additive="repl">
                                        <p:cTn id="693" dur="500"/>
                                        <p:tgtEl>
                                          <p:spTgt spid="247"/>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3" presetSubtype="16">
                                  <p:stCondLst>
                                    <p:cond delay="0"/>
                                  </p:stCondLst>
                                  <p:childTnLst>
                                    <p:set>
                                      <p:cBhvr>
                                        <p:cTn id="697" dur="1" fill="hold">
                                          <p:stCondLst>
                                            <p:cond delay="0"/>
                                          </p:stCondLst>
                                        </p:cTn>
                                        <p:tgtEl>
                                          <p:spTgt spid="240"/>
                                        </p:tgtEl>
                                        <p:attrNameLst>
                                          <p:attrName>style.visibility</p:attrName>
                                        </p:attrNameLst>
                                      </p:cBhvr>
                                      <p:to>
                                        <p:strVal val="visible"/>
                                      </p:to>
                                    </p:set>
                                    <p:anim calcmode="lin" valueType="num">
                                      <p:cBhvr additive="repl">
                                        <p:cTn id="698" dur="500" fill="hold"/>
                                        <p:tgtEl>
                                          <p:spTgt spid="240"/>
                                        </p:tgtEl>
                                        <p:attrNameLst>
                                          <p:attrName>ppt_w</p:attrName>
                                        </p:attrNameLst>
                                      </p:cBhvr>
                                      <p:tavLst>
                                        <p:tav tm="0">
                                          <p:val>
                                            <p:fltVal val="0"/>
                                          </p:val>
                                        </p:tav>
                                        <p:tav tm="100000">
                                          <p:val>
                                            <p:strVal val="#ppt_w"/>
                                          </p:val>
                                        </p:tav>
                                      </p:tavLst>
                                    </p:anim>
                                    <p:anim calcmode="lin" valueType="num">
                                      <p:cBhvr additive="repl">
                                        <p:cTn id="699" dur="500" fill="hold"/>
                                        <p:tgtEl>
                                          <p:spTgt spid="240"/>
                                        </p:tgtEl>
                                        <p:attrNameLst>
                                          <p:attrName>ppt_h</p:attrName>
                                        </p:attrNameLst>
                                      </p:cBhvr>
                                      <p:tavLst>
                                        <p:tav tm="0">
                                          <p:val>
                                            <p:fltVal val="0"/>
                                          </p:val>
                                        </p:tav>
                                        <p:tav tm="100000">
                                          <p:val>
                                            <p:strVal val="#ppt_h"/>
                                          </p:val>
                                        </p:tav>
                                      </p:tavLst>
                                    </p:anim>
                                    <p:animEffect filter="fade" transition="in">
                                      <p:cBhvr additive="repl">
                                        <p:cTn id="700"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Box 1"/>
          <p:cNvSpPr/>
          <p:nvPr/>
        </p:nvSpPr>
        <p:spPr>
          <a:xfrm>
            <a:off x="1698480" y="3149640"/>
            <a:ext cx="613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0000ff"/>
                </a:solidFill>
                <a:latin typeface="Calibri"/>
              </a:rPr>
              <a:t>踮</a:t>
            </a:r>
            <a:r>
              <a:rPr b="1" lang="zh-CN" sz="4000" spc="-1" strike="noStrike">
                <a:solidFill>
                  <a:srgbClr val="000000"/>
                </a:solidFill>
                <a:latin typeface="Calibri"/>
              </a:rPr>
              <a:t>脚</a:t>
            </a:r>
            <a:r>
              <a:rPr b="1" lang="zh-CN" sz="4000" spc="-1" strike="noStrike">
                <a:solidFill>
                  <a:srgbClr val="0000ff"/>
                </a:solidFill>
                <a:latin typeface="Calibri"/>
              </a:rPr>
              <a:t>　　    瞥</a:t>
            </a:r>
            <a:r>
              <a:rPr b="1" lang="zh-CN" sz="4000" spc="-1" strike="noStrike">
                <a:solidFill>
                  <a:srgbClr val="000000"/>
                </a:solidFill>
                <a:latin typeface="Calibri"/>
              </a:rPr>
              <a:t>见</a:t>
            </a:r>
            <a:r>
              <a:rPr b="1" lang="zh-CN" sz="4000" spc="-1" strike="noStrike">
                <a:solidFill>
                  <a:srgbClr val="0000ff"/>
                </a:solidFill>
                <a:latin typeface="Calibri"/>
              </a:rPr>
              <a:t>           </a:t>
            </a:r>
            <a:r>
              <a:rPr b="1" lang="zh-CN" sz="4000" spc="-1" strike="noStrike">
                <a:solidFill>
                  <a:srgbClr val="000000"/>
                </a:solidFill>
                <a:latin typeface="Calibri"/>
              </a:rPr>
              <a:t>薄</a:t>
            </a:r>
            <a:r>
              <a:rPr b="1" lang="zh-CN" sz="4000" spc="-1" strike="noStrike">
                <a:solidFill>
                  <a:srgbClr val="0000ff"/>
                </a:solidFill>
                <a:latin typeface="Calibri"/>
              </a:rPr>
              <a:t>壳 </a:t>
            </a:r>
            <a:endParaRPr b="0" lang="en-US" sz="4000" spc="-1" strike="noStrike">
              <a:solidFill>
                <a:srgbClr val="000000"/>
              </a:solidFill>
              <a:latin typeface="Calibri"/>
            </a:endParaRPr>
          </a:p>
        </p:txBody>
      </p:sp>
      <p:sp>
        <p:nvSpPr>
          <p:cNvPr id="251" name="矩形 2"/>
          <p:cNvSpPr/>
          <p:nvPr/>
        </p:nvSpPr>
        <p:spPr>
          <a:xfrm>
            <a:off x="1618200" y="2690640"/>
            <a:ext cx="96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diǎn</a:t>
            </a:r>
            <a:endParaRPr b="0" lang="en-US" sz="2800" spc="-1" strike="noStrike">
              <a:solidFill>
                <a:srgbClr val="000000"/>
              </a:solidFill>
              <a:latin typeface="Calibri"/>
            </a:endParaRPr>
          </a:p>
        </p:txBody>
      </p:sp>
      <p:sp>
        <p:nvSpPr>
          <p:cNvPr id="252" name="矩形 4"/>
          <p:cNvSpPr/>
          <p:nvPr/>
        </p:nvSpPr>
        <p:spPr>
          <a:xfrm>
            <a:off x="4090680" y="2685960"/>
            <a:ext cx="90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 </a:t>
            </a:r>
            <a:r>
              <a:rPr b="1" lang="en-US" sz="2800" spc="-1" strike="noStrike">
                <a:solidFill>
                  <a:srgbClr val="ff0000"/>
                </a:solidFill>
                <a:latin typeface="方正姚体"/>
                <a:ea typeface="方正姚体"/>
              </a:rPr>
              <a:t>piē </a:t>
            </a:r>
            <a:endParaRPr b="0" lang="en-US" sz="2800" spc="-1" strike="noStrike">
              <a:solidFill>
                <a:srgbClr val="000000"/>
              </a:solidFill>
              <a:latin typeface="Calibri"/>
            </a:endParaRPr>
          </a:p>
        </p:txBody>
      </p:sp>
      <p:grpSp>
        <p:nvGrpSpPr>
          <p:cNvPr id="253" name="组合 2"/>
          <p:cNvGrpSpPr/>
          <p:nvPr/>
        </p:nvGrpSpPr>
        <p:grpSpPr>
          <a:xfrm>
            <a:off x="882720" y="1352520"/>
            <a:ext cx="2905200" cy="666720"/>
            <a:chOff x="882720" y="1352520"/>
            <a:chExt cx="2905200" cy="666720"/>
          </a:xfrm>
        </p:grpSpPr>
        <p:sp>
          <p:nvSpPr>
            <p:cNvPr id="254" name="圆角矩形 11"/>
            <p:cNvSpPr/>
            <p:nvPr/>
          </p:nvSpPr>
          <p:spPr>
            <a:xfrm>
              <a:off x="1698480" y="14904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55" name="图片 9" descr="book.gif"/>
            <p:cNvPicPr/>
            <p:nvPr/>
          </p:nvPicPr>
          <p:blipFill>
            <a:blip r:embed="rId1"/>
            <a:stretch/>
          </p:blipFill>
          <p:spPr>
            <a:xfrm>
              <a:off x="882720" y="1352520"/>
              <a:ext cx="1087200" cy="666720"/>
            </a:xfrm>
            <a:prstGeom prst="rect">
              <a:avLst/>
            </a:prstGeom>
            <a:ln w="0">
              <a:noFill/>
            </a:ln>
          </p:spPr>
        </p:pic>
        <p:sp>
          <p:nvSpPr>
            <p:cNvPr id="256" name="文本框 16"/>
            <p:cNvSpPr/>
            <p:nvPr/>
          </p:nvSpPr>
          <p:spPr>
            <a:xfrm>
              <a:off x="1958040" y="1509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易读错字</a:t>
              </a:r>
              <a:endParaRPr b="0" lang="en-US" sz="2400" spc="-1" strike="noStrike">
                <a:solidFill>
                  <a:srgbClr val="000000"/>
                </a:solidFill>
                <a:latin typeface="Calibri"/>
              </a:endParaRPr>
            </a:p>
          </p:txBody>
        </p:sp>
      </p:grpSp>
      <p:sp>
        <p:nvSpPr>
          <p:cNvPr id="257" name="矩形 9"/>
          <p:cNvSpPr/>
          <p:nvPr/>
        </p:nvSpPr>
        <p:spPr>
          <a:xfrm>
            <a:off x="6975000" y="2676600"/>
            <a:ext cx="79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 </a:t>
            </a:r>
            <a:r>
              <a:rPr b="1" lang="en-US" sz="2800" spc="-1" strike="noStrike">
                <a:solidFill>
                  <a:srgbClr val="ff0000"/>
                </a:solidFill>
                <a:latin typeface="方正姚体"/>
                <a:ea typeface="方正姚体"/>
              </a:rPr>
              <a:t>ké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251"/>
                                        </p:tgtEl>
                                        <p:attrNameLst>
                                          <p:attrName>style.visibility</p:attrName>
                                        </p:attrNameLst>
                                      </p:cBhvr>
                                      <p:to>
                                        <p:strVal val="visible"/>
                                      </p:to>
                                    </p:set>
                                    <p:anim calcmode="lin" valueType="num">
                                      <p:cBhvr additive="base">
                                        <p:cTn id="707" dur="500" fill="hold"/>
                                        <p:tgtEl>
                                          <p:spTgt spid="251"/>
                                        </p:tgtEl>
                                        <p:attrNameLst>
                                          <p:attrName>ppt_x</p:attrName>
                                        </p:attrNameLst>
                                      </p:cBhvr>
                                      <p:tavLst>
                                        <p:tav tm="0">
                                          <p:val>
                                            <p:strVal val="#ppt_x"/>
                                          </p:val>
                                        </p:tav>
                                        <p:tav tm="100000">
                                          <p:val>
                                            <p:strVal val="#ppt_x"/>
                                          </p:val>
                                        </p:tav>
                                      </p:tavLst>
                                    </p:anim>
                                    <p:anim calcmode="lin" valueType="num">
                                      <p:cBhvr additive="base">
                                        <p:cTn id="708"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252"/>
                                        </p:tgtEl>
                                        <p:attrNameLst>
                                          <p:attrName>style.visibility</p:attrName>
                                        </p:attrNameLst>
                                      </p:cBhvr>
                                      <p:to>
                                        <p:strVal val="visible"/>
                                      </p:to>
                                    </p:set>
                                    <p:anim calcmode="lin" valueType="num">
                                      <p:cBhvr additive="base">
                                        <p:cTn id="713" dur="500" fill="hold"/>
                                        <p:tgtEl>
                                          <p:spTgt spid="252"/>
                                        </p:tgtEl>
                                        <p:attrNameLst>
                                          <p:attrName>ppt_x</p:attrName>
                                        </p:attrNameLst>
                                      </p:cBhvr>
                                      <p:tavLst>
                                        <p:tav tm="0">
                                          <p:val>
                                            <p:strVal val="#ppt_x"/>
                                          </p:val>
                                        </p:tav>
                                        <p:tav tm="100000">
                                          <p:val>
                                            <p:strVal val="#ppt_x"/>
                                          </p:val>
                                        </p:tav>
                                      </p:tavLst>
                                    </p:anim>
                                    <p:anim calcmode="lin" valueType="num">
                                      <p:cBhvr additive="base">
                                        <p:cTn id="714"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257"/>
                                        </p:tgtEl>
                                        <p:attrNameLst>
                                          <p:attrName>style.visibility</p:attrName>
                                        </p:attrNameLst>
                                      </p:cBhvr>
                                      <p:to>
                                        <p:strVal val="visible"/>
                                      </p:to>
                                    </p:set>
                                    <p:anim calcmode="lin" valueType="num">
                                      <p:cBhvr additive="base">
                                        <p:cTn id="719" dur="500" fill="hold"/>
                                        <p:tgtEl>
                                          <p:spTgt spid="257"/>
                                        </p:tgtEl>
                                        <p:attrNameLst>
                                          <p:attrName>ppt_x</p:attrName>
                                        </p:attrNameLst>
                                      </p:cBhvr>
                                      <p:tavLst>
                                        <p:tav tm="0">
                                          <p:val>
                                            <p:strVal val="#ppt_x"/>
                                          </p:val>
                                        </p:tav>
                                        <p:tav tm="100000">
                                          <p:val>
                                            <p:strVal val="#ppt_x"/>
                                          </p:val>
                                        </p:tav>
                                      </p:tavLst>
                                    </p:anim>
                                    <p:anim calcmode="lin" valueType="num">
                                      <p:cBhvr additive="base">
                                        <p:cTn id="720"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Box 1"/>
          <p:cNvSpPr/>
          <p:nvPr/>
        </p:nvSpPr>
        <p:spPr>
          <a:xfrm>
            <a:off x="1227240" y="2678040"/>
            <a:ext cx="569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rPr>
              <a:t>壳</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grpSp>
        <p:nvGrpSpPr>
          <p:cNvPr id="259" name="组合 4"/>
          <p:cNvGrpSpPr/>
          <p:nvPr/>
        </p:nvGrpSpPr>
        <p:grpSpPr>
          <a:xfrm>
            <a:off x="1782720" y="2151000"/>
            <a:ext cx="4437000" cy="1373400"/>
            <a:chOff x="1782720" y="2151000"/>
            <a:chExt cx="4437000" cy="1373400"/>
          </a:xfrm>
        </p:grpSpPr>
        <p:sp>
          <p:nvSpPr>
            <p:cNvPr id="260" name="左大括号 2"/>
            <p:cNvSpPr/>
            <p:nvPr/>
          </p:nvSpPr>
          <p:spPr>
            <a:xfrm>
              <a:off x="1782720" y="2496960"/>
              <a:ext cx="350640" cy="928800"/>
            </a:xfrm>
            <a:custGeom>
              <a:avLst/>
              <a:gdLst>
                <a:gd name="textAreaLeft" fmla="*/ 223920 w 350640"/>
                <a:gd name="textAreaRight" fmla="*/ 351000 w 350640"/>
                <a:gd name="textAreaTop" fmla="*/ 5400 h 928800"/>
                <a:gd name="textAreaBottom" fmla="*/ 923400 h 928800"/>
              </a:gdLst>
              <a:ahLst/>
              <a:rect l="textAreaLeft" t="textAreaTop" r="textAreaRight" b="textAreaBottom"/>
              <a:pathLst>
                <a:path w="21600" h="21600">
                  <a:moveTo>
                    <a:pt x="21600" y="0"/>
                  </a:moveTo>
                  <a:cubicBezTo>
                    <a:pt x="16200" y="0"/>
                    <a:pt x="10800" y="213"/>
                    <a:pt x="10800" y="426"/>
                  </a:cubicBezTo>
                  <a:lnTo>
                    <a:pt x="10800" y="10374"/>
                  </a:lnTo>
                  <a:cubicBezTo>
                    <a:pt x="10800" y="10587"/>
                    <a:pt x="5400" y="10800"/>
                    <a:pt x="0" y="10800"/>
                  </a:cubicBezTo>
                  <a:cubicBezTo>
                    <a:pt x="5400" y="10800"/>
                    <a:pt x="10800" y="11013"/>
                    <a:pt x="10800" y="11226"/>
                  </a:cubicBezTo>
                  <a:lnTo>
                    <a:pt x="10800" y="21174"/>
                  </a:lnTo>
                  <a:cubicBezTo>
                    <a:pt x="10800" y="21387"/>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1" name="TextBox 3"/>
            <p:cNvSpPr/>
            <p:nvPr/>
          </p:nvSpPr>
          <p:spPr>
            <a:xfrm>
              <a:off x="2049120" y="2151000"/>
              <a:ext cx="41706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qiào</a:t>
              </a:r>
              <a:r>
                <a:rPr b="1" lang="zh-CN" sz="2800" spc="-1" strike="noStrike">
                  <a:solidFill>
                    <a:srgbClr val="ff0000"/>
                  </a:solidFill>
                  <a:latin typeface="宋体"/>
                </a:rPr>
                <a:t>（地壳）</a:t>
              </a:r>
              <a:endParaRPr b="0" lang="en-US" sz="2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ké</a:t>
              </a:r>
              <a:r>
                <a:rPr b="1" lang="zh-CN" sz="2800" spc="-1" strike="noStrike">
                  <a:solidFill>
                    <a:srgbClr val="ff0000"/>
                  </a:solidFill>
                  <a:latin typeface="宋体"/>
                </a:rPr>
                <a:t>（贝壳　外壳）</a:t>
              </a:r>
              <a:endParaRPr b="0" lang="en-US" sz="2800" spc="-1" strike="noStrike">
                <a:solidFill>
                  <a:srgbClr val="000000"/>
                </a:solidFill>
                <a:latin typeface="Calibri"/>
              </a:endParaRPr>
            </a:p>
          </p:txBody>
        </p:sp>
      </p:grpSp>
      <p:sp>
        <p:nvSpPr>
          <p:cNvPr id="262" name="TextBox 13"/>
          <p:cNvSpPr/>
          <p:nvPr/>
        </p:nvSpPr>
        <p:spPr>
          <a:xfrm>
            <a:off x="1208160" y="4141800"/>
            <a:ext cx="598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rPr>
              <a:t>纤</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grpSp>
        <p:nvGrpSpPr>
          <p:cNvPr id="263" name="组合 2"/>
          <p:cNvGrpSpPr/>
          <p:nvPr/>
        </p:nvGrpSpPr>
        <p:grpSpPr>
          <a:xfrm>
            <a:off x="882720" y="1352520"/>
            <a:ext cx="2905200" cy="666720"/>
            <a:chOff x="882720" y="1352520"/>
            <a:chExt cx="2905200" cy="666720"/>
          </a:xfrm>
        </p:grpSpPr>
        <p:sp>
          <p:nvSpPr>
            <p:cNvPr id="264" name="圆角矩形 17"/>
            <p:cNvSpPr/>
            <p:nvPr/>
          </p:nvSpPr>
          <p:spPr>
            <a:xfrm>
              <a:off x="1698480" y="14904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65" name="图片 9" descr="book.gif"/>
            <p:cNvPicPr/>
            <p:nvPr/>
          </p:nvPicPr>
          <p:blipFill>
            <a:blip r:embed="rId1"/>
            <a:stretch/>
          </p:blipFill>
          <p:spPr>
            <a:xfrm>
              <a:off x="882720" y="1352520"/>
              <a:ext cx="1087200" cy="666720"/>
            </a:xfrm>
            <a:prstGeom prst="rect">
              <a:avLst/>
            </a:prstGeom>
            <a:ln w="0">
              <a:noFill/>
            </a:ln>
          </p:spPr>
        </p:pic>
        <p:sp>
          <p:nvSpPr>
            <p:cNvPr id="266" name="文本框 16"/>
            <p:cNvSpPr/>
            <p:nvPr/>
          </p:nvSpPr>
          <p:spPr>
            <a:xfrm>
              <a:off x="1958040" y="1509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多音字</a:t>
              </a:r>
              <a:endParaRPr b="0" lang="en-US" sz="2400" spc="-1" strike="noStrike">
                <a:solidFill>
                  <a:srgbClr val="000000"/>
                </a:solidFill>
                <a:latin typeface="Calibri"/>
              </a:endParaRPr>
            </a:p>
          </p:txBody>
        </p:sp>
      </p:grpSp>
      <p:grpSp>
        <p:nvGrpSpPr>
          <p:cNvPr id="267" name="组合 13"/>
          <p:cNvGrpSpPr/>
          <p:nvPr/>
        </p:nvGrpSpPr>
        <p:grpSpPr>
          <a:xfrm>
            <a:off x="1698480" y="3639960"/>
            <a:ext cx="4437360" cy="1373400"/>
            <a:chOff x="1698480" y="3639960"/>
            <a:chExt cx="4437360" cy="1373400"/>
          </a:xfrm>
        </p:grpSpPr>
        <p:sp>
          <p:nvSpPr>
            <p:cNvPr id="268" name="左大括号 14"/>
            <p:cNvSpPr/>
            <p:nvPr/>
          </p:nvSpPr>
          <p:spPr>
            <a:xfrm>
              <a:off x="1698480" y="3938400"/>
              <a:ext cx="350640" cy="930240"/>
            </a:xfrm>
            <a:custGeom>
              <a:avLst/>
              <a:gdLst>
                <a:gd name="textAreaLeft" fmla="*/ 223920 w 350640"/>
                <a:gd name="textAreaRight" fmla="*/ 351000 w 350640"/>
                <a:gd name="textAreaTop" fmla="*/ 5400 h 930240"/>
                <a:gd name="textAreaBottom" fmla="*/ 924840 h 930240"/>
              </a:gdLst>
              <a:ahLst/>
              <a:rect l="textAreaLeft" t="textAreaTop" r="textAreaRight" b="textAreaBottom"/>
              <a:pathLst>
                <a:path w="21600" h="21600">
                  <a:moveTo>
                    <a:pt x="21600" y="0"/>
                  </a:moveTo>
                  <a:cubicBezTo>
                    <a:pt x="16200" y="0"/>
                    <a:pt x="10800" y="213"/>
                    <a:pt x="10800" y="425"/>
                  </a:cubicBezTo>
                  <a:lnTo>
                    <a:pt x="10800" y="10375"/>
                  </a:lnTo>
                  <a:cubicBezTo>
                    <a:pt x="10800" y="10588"/>
                    <a:pt x="5400" y="10800"/>
                    <a:pt x="0" y="10800"/>
                  </a:cubicBezTo>
                  <a:cubicBezTo>
                    <a:pt x="5400" y="10800"/>
                    <a:pt x="10800" y="11013"/>
                    <a:pt x="10800" y="11225"/>
                  </a:cubicBezTo>
                  <a:lnTo>
                    <a:pt x="10800" y="21175"/>
                  </a:lnTo>
                  <a:cubicBezTo>
                    <a:pt x="10800" y="21388"/>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TextBox 16"/>
            <p:cNvSpPr/>
            <p:nvPr/>
          </p:nvSpPr>
          <p:spPr>
            <a:xfrm>
              <a:off x="1964880" y="3639960"/>
              <a:ext cx="41709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xiān</a:t>
              </a:r>
              <a:r>
                <a:rPr b="1" lang="zh-CN" sz="2800" spc="-1" strike="noStrike">
                  <a:solidFill>
                    <a:srgbClr val="ff0000"/>
                  </a:solidFill>
                  <a:latin typeface="宋体"/>
                </a:rPr>
                <a:t>（纤细　纤维）</a:t>
              </a:r>
              <a:endParaRPr b="0" lang="en-US" sz="2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qiàn</a:t>
              </a:r>
              <a:r>
                <a:rPr b="1" lang="zh-CN" sz="2800" spc="-1" strike="noStrike">
                  <a:solidFill>
                    <a:srgbClr val="ff0000"/>
                  </a:solidFill>
                  <a:latin typeface="宋体"/>
                </a:rPr>
                <a:t>（纤夫　拉纤）</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259"/>
                                        </p:tgtEl>
                                        <p:attrNameLst>
                                          <p:attrName>style.visibility</p:attrName>
                                        </p:attrNameLst>
                                      </p:cBhvr>
                                      <p:to>
                                        <p:strVal val="visible"/>
                                      </p:to>
                                    </p:set>
                                    <p:animEffect filter="wipe(left)" transition="in">
                                      <p:cBhvr additive="repl">
                                        <p:cTn id="727" dur="500"/>
                                        <p:tgtEl>
                                          <p:spTgt spid="259"/>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267"/>
                                        </p:tgtEl>
                                        <p:attrNameLst>
                                          <p:attrName>style.visibility</p:attrName>
                                        </p:attrNameLst>
                                      </p:cBhvr>
                                      <p:to>
                                        <p:strVal val="visible"/>
                                      </p:to>
                                    </p:set>
                                    <p:animEffect filter="wipe(left)" transition="in">
                                      <p:cBhvr additive="repl">
                                        <p:cTn id="73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矩形 1"/>
          <p:cNvSpPr/>
          <p:nvPr/>
        </p:nvSpPr>
        <p:spPr>
          <a:xfrm>
            <a:off x="1274760" y="1824120"/>
            <a:ext cx="745632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纤细：</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唯恐：</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骄傲：</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nvGrpSpPr>
          <p:cNvPr id="271" name="组合 1"/>
          <p:cNvGrpSpPr/>
          <p:nvPr/>
        </p:nvGrpSpPr>
        <p:grpSpPr>
          <a:xfrm>
            <a:off x="558720" y="1190520"/>
            <a:ext cx="2594160" cy="666720"/>
            <a:chOff x="558720" y="1190520"/>
            <a:chExt cx="2594160" cy="666720"/>
          </a:xfrm>
        </p:grpSpPr>
        <p:sp>
          <p:nvSpPr>
            <p:cNvPr id="272" name="圆角矩形 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73" name="图片 9" descr="book.gif"/>
            <p:cNvPicPr/>
            <p:nvPr/>
          </p:nvPicPr>
          <p:blipFill>
            <a:blip r:embed="rId1"/>
            <a:stretch/>
          </p:blipFill>
          <p:spPr>
            <a:xfrm>
              <a:off x="558720" y="1190520"/>
              <a:ext cx="1087560" cy="666720"/>
            </a:xfrm>
            <a:prstGeom prst="rect">
              <a:avLst/>
            </a:prstGeom>
            <a:ln w="0">
              <a:noFill/>
            </a:ln>
          </p:spPr>
        </p:pic>
        <p:sp>
          <p:nvSpPr>
            <p:cNvPr id="274"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grpSp>
      <p:sp>
        <p:nvSpPr>
          <p:cNvPr id="275" name="矩形 1"/>
          <p:cNvSpPr/>
          <p:nvPr/>
        </p:nvSpPr>
        <p:spPr>
          <a:xfrm>
            <a:off x="2085840" y="1830240"/>
            <a:ext cx="664524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非常细。文中指虫子特别细小柔弱。</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造句：妹妹身材</a:t>
            </a:r>
            <a:r>
              <a:rPr b="1" lang="zh-CN" sz="2400" spc="-1" strike="noStrike" u="sng">
                <a:solidFill>
                  <a:srgbClr val="000000"/>
                </a:solidFill>
                <a:uFillTx/>
                <a:latin typeface="Calibri"/>
              </a:rPr>
              <a:t>纤细</a:t>
            </a:r>
            <a:r>
              <a:rPr b="1" lang="zh-CN" sz="2400" spc="-1" strike="noStrike">
                <a:solidFill>
                  <a:srgbClr val="000000"/>
                </a:solidFill>
                <a:latin typeface="Calibri"/>
              </a:rPr>
              <a:t>弱不禁风。</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只怕。文中指小萝卜头害怕伤害了那只虫子。</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造句：跑道上，明明奋力向前，</a:t>
            </a:r>
            <a:r>
              <a:rPr b="1" lang="zh-CN" sz="2400" spc="-1" strike="noStrike" u="sng">
                <a:solidFill>
                  <a:srgbClr val="000000"/>
                </a:solidFill>
                <a:uFillTx/>
                <a:latin typeface="Calibri"/>
              </a:rPr>
              <a:t>唯恐</a:t>
            </a:r>
            <a:r>
              <a:rPr b="1" lang="zh-CN" sz="2400" spc="-1" strike="noStrike">
                <a:solidFill>
                  <a:srgbClr val="000000"/>
                </a:solidFill>
                <a:latin typeface="Calibri"/>
              </a:rPr>
              <a:t>落后。</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①</a:t>
            </a:r>
            <a:r>
              <a:rPr b="1" lang="zh-CN" sz="2400" spc="-1" strike="noStrike">
                <a:solidFill>
                  <a:srgbClr val="ff0000"/>
                </a:solidFill>
                <a:latin typeface="Calibri"/>
              </a:rPr>
              <a:t>自以为了不起，看不起别人。②自豪。</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造句： ①他这人特别</a:t>
            </a:r>
            <a:r>
              <a:rPr b="1" lang="zh-CN" sz="2400" spc="-1" strike="noStrike" u="sng">
                <a:solidFill>
                  <a:srgbClr val="000000"/>
                </a:solidFill>
                <a:uFillTx/>
                <a:latin typeface="Calibri"/>
              </a:rPr>
              <a:t>骄傲</a:t>
            </a:r>
            <a:r>
              <a:rPr b="1" lang="zh-CN" sz="2400" spc="-1" strike="noStrike">
                <a:solidFill>
                  <a:srgbClr val="000000"/>
                </a:solidFill>
                <a:latin typeface="Calibri"/>
              </a:rPr>
              <a:t>，有点儿成绩就沾沾自喜。</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②</a:t>
            </a:r>
            <a:r>
              <a:rPr b="1" lang="zh-CN" sz="2400" spc="-1" strike="noStrike">
                <a:solidFill>
                  <a:srgbClr val="000000"/>
                </a:solidFill>
                <a:latin typeface="Calibri"/>
              </a:rPr>
              <a:t>我们都以是炎黄子孙而</a:t>
            </a:r>
            <a:r>
              <a:rPr b="1" lang="zh-CN" sz="2400" spc="-1" strike="noStrike" u="sng">
                <a:solidFill>
                  <a:srgbClr val="000000"/>
                </a:solidFill>
                <a:uFillTx/>
                <a:latin typeface="Calibri"/>
              </a:rPr>
              <a:t>骄傲</a:t>
            </a:r>
            <a:r>
              <a:rPr b="1" lang="zh-CN"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739" dur="500"/>
                                        <p:tgtEl>
                                          <p:spTgt spid="275">
                                            <p:txEl>
                                              <p:pRg st="0" end="0"/>
                                            </p:txEl>
                                          </p:spTgt>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275">
                                            <p:txEl>
                                              <p:pRg st="1" end="1"/>
                                            </p:txEl>
                                          </p:spTgt>
                                        </p:tgtEl>
                                        <p:attrNameLst>
                                          <p:attrName>style.visibility</p:attrName>
                                        </p:attrNameLst>
                                      </p:cBhvr>
                                      <p:to>
                                        <p:strVal val="visible"/>
                                      </p:to>
                                    </p:set>
                                    <p:animEffect filter="wipe(left)" transition="in">
                                      <p:cBhvr additive="repl">
                                        <p:cTn id="744" dur="500"/>
                                        <p:tgtEl>
                                          <p:spTgt spid="275">
                                            <p:txEl>
                                              <p:pRg st="1" end="1"/>
                                            </p:txEl>
                                          </p:spTgt>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75">
                                            <p:txEl>
                                              <p:pRg st="2" end="2"/>
                                            </p:txEl>
                                          </p:spTgt>
                                        </p:tgtEl>
                                        <p:attrNameLst>
                                          <p:attrName>style.visibility</p:attrName>
                                        </p:attrNameLst>
                                      </p:cBhvr>
                                      <p:to>
                                        <p:strVal val="visible"/>
                                      </p:to>
                                    </p:set>
                                    <p:animEffect filter="wipe(left)" transition="in">
                                      <p:cBhvr additive="repl">
                                        <p:cTn id="749" dur="500"/>
                                        <p:tgtEl>
                                          <p:spTgt spid="275">
                                            <p:txEl>
                                              <p:pRg st="2" end="2"/>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75">
                                            <p:txEl>
                                              <p:pRg st="3" end="3"/>
                                            </p:txEl>
                                          </p:spTgt>
                                        </p:tgtEl>
                                        <p:attrNameLst>
                                          <p:attrName>style.visibility</p:attrName>
                                        </p:attrNameLst>
                                      </p:cBhvr>
                                      <p:to>
                                        <p:strVal val="visible"/>
                                      </p:to>
                                    </p:set>
                                    <p:animEffect filter="wipe(left)" transition="in">
                                      <p:cBhvr additive="repl">
                                        <p:cTn id="754" dur="500"/>
                                        <p:tgtEl>
                                          <p:spTgt spid="275">
                                            <p:txEl>
                                              <p:pRg st="3" end="3"/>
                                            </p:txEl>
                                          </p:spTgt>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2" presetSubtype="8">
                                  <p:stCondLst>
                                    <p:cond delay="0"/>
                                  </p:stCondLst>
                                  <p:childTnLst>
                                    <p:set>
                                      <p:cBhvr>
                                        <p:cTn id="758" dur="1" fill="hold">
                                          <p:stCondLst>
                                            <p:cond delay="0"/>
                                          </p:stCondLst>
                                        </p:cTn>
                                        <p:tgtEl>
                                          <p:spTgt spid="275">
                                            <p:txEl>
                                              <p:pRg st="4" end="4"/>
                                            </p:txEl>
                                          </p:spTgt>
                                        </p:tgtEl>
                                        <p:attrNameLst>
                                          <p:attrName>style.visibility</p:attrName>
                                        </p:attrNameLst>
                                      </p:cBhvr>
                                      <p:to>
                                        <p:strVal val="visible"/>
                                      </p:to>
                                    </p:set>
                                    <p:animEffect filter="wipe(left)" transition="in">
                                      <p:cBhvr additive="repl">
                                        <p:cTn id="759" dur="500"/>
                                        <p:tgtEl>
                                          <p:spTgt spid="275">
                                            <p:txEl>
                                              <p:pRg st="4" end="4"/>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275">
                                            <p:txEl>
                                              <p:pRg st="5" end="5"/>
                                            </p:txEl>
                                          </p:spTgt>
                                        </p:tgtEl>
                                        <p:attrNameLst>
                                          <p:attrName>style.visibility</p:attrName>
                                        </p:attrNameLst>
                                      </p:cBhvr>
                                      <p:to>
                                        <p:strVal val="visible"/>
                                      </p:to>
                                    </p:set>
                                    <p:animEffect filter="wipe(left)" transition="in">
                                      <p:cBhvr additive="repl">
                                        <p:cTn id="764" dur="500"/>
                                        <p:tgtEl>
                                          <p:spTgt spid="275">
                                            <p:txEl>
                                              <p:pRg st="5" end="5"/>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75">
                                            <p:txEl>
                                              <p:pRg st="6" end="6"/>
                                            </p:txEl>
                                          </p:spTgt>
                                        </p:tgtEl>
                                        <p:attrNameLst>
                                          <p:attrName>style.visibility</p:attrName>
                                        </p:attrNameLst>
                                      </p:cBhvr>
                                      <p:to>
                                        <p:strVal val="visible"/>
                                      </p:to>
                                    </p:set>
                                    <p:animEffect filter="wipe(left)" transition="in">
                                      <p:cBhvr additive="repl">
                                        <p:cTn id="769" dur="500"/>
                                        <p:tgtEl>
                                          <p:spTgt spid="2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矩形 1"/>
          <p:cNvSpPr/>
          <p:nvPr/>
        </p:nvSpPr>
        <p:spPr>
          <a:xfrm>
            <a:off x="1274760" y="1824120"/>
            <a:ext cx="745632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看守：</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走廊：</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若有所思：</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pSp>
        <p:nvGrpSpPr>
          <p:cNvPr id="277" name="组合 1"/>
          <p:cNvGrpSpPr/>
          <p:nvPr/>
        </p:nvGrpSpPr>
        <p:grpSpPr>
          <a:xfrm>
            <a:off x="558720" y="1190520"/>
            <a:ext cx="2594160" cy="666720"/>
            <a:chOff x="558720" y="1190520"/>
            <a:chExt cx="2594160" cy="666720"/>
          </a:xfrm>
        </p:grpSpPr>
        <p:sp>
          <p:nvSpPr>
            <p:cNvPr id="278" name="圆角矩形 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79" name="图片 9" descr="book.gif"/>
            <p:cNvPicPr/>
            <p:nvPr/>
          </p:nvPicPr>
          <p:blipFill>
            <a:blip r:embed="rId1"/>
            <a:stretch/>
          </p:blipFill>
          <p:spPr>
            <a:xfrm>
              <a:off x="558720" y="1190520"/>
              <a:ext cx="1087560" cy="666720"/>
            </a:xfrm>
            <a:prstGeom prst="rect">
              <a:avLst/>
            </a:prstGeom>
            <a:ln w="0">
              <a:noFill/>
            </a:ln>
          </p:spPr>
        </p:pic>
        <p:sp>
          <p:nvSpPr>
            <p:cNvPr id="280"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grpSp>
      <p:sp>
        <p:nvSpPr>
          <p:cNvPr id="281" name="矩形 1"/>
          <p:cNvSpPr/>
          <p:nvPr/>
        </p:nvSpPr>
        <p:spPr>
          <a:xfrm>
            <a:off x="2435400" y="1778040"/>
            <a:ext cx="62956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监视和管理</a:t>
            </a:r>
            <a:r>
              <a:rPr b="1" lang="en-US" sz="2400" spc="-1" strike="noStrike">
                <a:solidFill>
                  <a:srgbClr val="ff0000"/>
                </a:solidFill>
                <a:latin typeface="Calibri"/>
              </a:rPr>
              <a:t>(</a:t>
            </a:r>
            <a:r>
              <a:rPr b="1" lang="zh-CN" sz="2400" spc="-1" strike="noStrike">
                <a:solidFill>
                  <a:srgbClr val="ff0000"/>
                </a:solidFill>
                <a:latin typeface="Calibri"/>
              </a:rPr>
              <a:t>犯人、俘虏</a:t>
            </a:r>
            <a:r>
              <a:rPr b="1" lang="en-US" sz="2400" spc="-1" strike="noStrike">
                <a:solidFill>
                  <a:srgbClr val="ff0000"/>
                </a:solidFill>
                <a:latin typeface="Calibri"/>
              </a:rPr>
              <a:t>)</a:t>
            </a:r>
            <a:r>
              <a:rPr b="1" lang="zh-CN" sz="2400" spc="-1" strike="noStrike">
                <a:solidFill>
                  <a:srgbClr val="ff0000"/>
                </a:solidFill>
                <a:latin typeface="Calibri"/>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屋檐下高出平地的走道，或房屋之间有顶的走道。</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感觉好像在思索着什么。文中指小萝卜头在想事情。</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造句：他</a:t>
            </a:r>
            <a:r>
              <a:rPr b="1" lang="zh-CN" sz="2400" spc="-1" strike="noStrike" u="sng">
                <a:solidFill>
                  <a:srgbClr val="000000"/>
                </a:solidFill>
                <a:uFillTx/>
                <a:latin typeface="Calibri"/>
              </a:rPr>
              <a:t>若有所思</a:t>
            </a:r>
            <a:r>
              <a:rPr b="1" lang="zh-CN" sz="2400" spc="-1" strike="noStrike">
                <a:solidFill>
                  <a:srgbClr val="000000"/>
                </a:solidFill>
                <a:latin typeface="Calibri"/>
              </a:rPr>
              <a:t>在屋里踱来踱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nodeType="clickEffect" fill="hold">
                      <p:stCondLst>
                        <p:cond delay="indefinite"/>
                      </p:stCondLst>
                      <p:childTnLst>
                        <p:par>
                          <p:cTn id="773" nodeType="withEffect" fill="hold">
                            <p:stCondLst>
                              <p:cond delay="0"/>
                            </p:stCondLst>
                            <p:childTnLst>
                              <p:par>
                                <p:cTn id="774" nodeType="clickEffect" fill="hold" presetClass="entr" presetID="22" presetSubtype="8">
                                  <p:stCondLst>
                                    <p:cond delay="0"/>
                                  </p:stCondLst>
                                  <p:childTnLst>
                                    <p:set>
                                      <p:cBhvr>
                                        <p:cTn id="775"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776" dur="500"/>
                                        <p:tgtEl>
                                          <p:spTgt spid="281">
                                            <p:txEl>
                                              <p:pRg st="0" end="0"/>
                                            </p:txEl>
                                          </p:spTgt>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281">
                                            <p:txEl>
                                              <p:pRg st="1" end="1"/>
                                            </p:txEl>
                                          </p:spTgt>
                                        </p:tgtEl>
                                        <p:attrNameLst>
                                          <p:attrName>style.visibility</p:attrName>
                                        </p:attrNameLst>
                                      </p:cBhvr>
                                      <p:to>
                                        <p:strVal val="visible"/>
                                      </p:to>
                                    </p:set>
                                    <p:animEffect filter="wipe(left)" transition="in">
                                      <p:cBhvr additive="repl">
                                        <p:cTn id="781" dur="500"/>
                                        <p:tgtEl>
                                          <p:spTgt spid="281">
                                            <p:txEl>
                                              <p:pRg st="1" end="1"/>
                                            </p:txEl>
                                          </p:spTgt>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281">
                                            <p:txEl>
                                              <p:pRg st="2" end="2"/>
                                            </p:txEl>
                                          </p:spTgt>
                                        </p:tgtEl>
                                        <p:attrNameLst>
                                          <p:attrName>style.visibility</p:attrName>
                                        </p:attrNameLst>
                                      </p:cBhvr>
                                      <p:to>
                                        <p:strVal val="visible"/>
                                      </p:to>
                                    </p:set>
                                    <p:animEffect filter="wipe(left)" transition="in">
                                      <p:cBhvr additive="repl">
                                        <p:cTn id="786" dur="500"/>
                                        <p:tgtEl>
                                          <p:spTgt spid="281">
                                            <p:txEl>
                                              <p:pRg st="2" end="2"/>
                                            </p:txEl>
                                          </p:spTgt>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81">
                                            <p:txEl>
                                              <p:pRg st="3" end="3"/>
                                            </p:txEl>
                                          </p:spTgt>
                                        </p:tgtEl>
                                        <p:attrNameLst>
                                          <p:attrName>style.visibility</p:attrName>
                                        </p:attrNameLst>
                                      </p:cBhvr>
                                      <p:to>
                                        <p:strVal val="visible"/>
                                      </p:to>
                                    </p:set>
                                    <p:animEffect filter="wipe(left)" transition="in">
                                      <p:cBhvr additive="repl">
                                        <p:cTn id="791" dur="500"/>
                                        <p:tgtEl>
                                          <p:spTgt spid="2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矩形 1"/>
          <p:cNvSpPr/>
          <p:nvPr/>
        </p:nvSpPr>
        <p:spPr>
          <a:xfrm>
            <a:off x="887400" y="2135160"/>
            <a:ext cx="74376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一部分</a:t>
            </a:r>
            <a:r>
              <a:rPr b="1" lang="en-US" sz="2400" spc="-1" strike="noStrike">
                <a:solidFill>
                  <a:srgbClr val="00b0f0"/>
                </a:solidFill>
                <a:latin typeface="黑体"/>
                <a:ea typeface="黑体"/>
              </a:rPr>
              <a:t>(</a:t>
            </a:r>
            <a:r>
              <a:rPr b="1" lang="zh-CN" sz="2400" spc="-1" strike="noStrike">
                <a:solidFill>
                  <a:srgbClr val="00b0f0"/>
                </a:solidFill>
                <a:latin typeface="黑体"/>
                <a:ea typeface="黑体"/>
              </a:rPr>
              <a:t>第</a:t>
            </a:r>
            <a:r>
              <a:rPr b="1" lang="en-US" sz="2400" spc="-1" strike="noStrike">
                <a:solidFill>
                  <a:srgbClr val="00b0f0"/>
                </a:solidFill>
                <a:latin typeface="黑体"/>
                <a:ea typeface="黑体"/>
              </a:rPr>
              <a:t>1</a:t>
            </a:r>
            <a:r>
              <a:rPr b="1" lang="zh-CN" sz="2400" spc="-1" strike="noStrike">
                <a:solidFill>
                  <a:srgbClr val="00b0f0"/>
                </a:solidFill>
                <a:latin typeface="黑体"/>
                <a:ea typeface="黑体"/>
              </a:rPr>
              <a:t>－</a:t>
            </a:r>
            <a:r>
              <a:rPr b="1" lang="en-US" sz="2400" spc="-1" strike="noStrike">
                <a:solidFill>
                  <a:srgbClr val="00b0f0"/>
                </a:solidFill>
                <a:latin typeface="黑体"/>
                <a:ea typeface="黑体"/>
              </a:rPr>
              <a:t>6</a:t>
            </a:r>
            <a:r>
              <a:rPr b="1" lang="zh-CN" sz="2400" spc="-1" strike="noStrike">
                <a:solidFill>
                  <a:srgbClr val="00b0f0"/>
                </a:solidFill>
                <a:latin typeface="黑体"/>
                <a:ea typeface="黑体"/>
              </a:rPr>
              <a:t>自然段</a:t>
            </a:r>
            <a:r>
              <a:rPr b="1" lang="en-US" sz="2400" spc="-1" strike="noStrike">
                <a:solidFill>
                  <a:srgbClr val="00b0f0"/>
                </a:solidFill>
                <a:latin typeface="黑体"/>
                <a:ea typeface="黑体"/>
              </a:rPr>
              <a:t>)</a:t>
            </a:r>
            <a:r>
              <a:rPr b="1" lang="zh-CN" sz="2400" spc="-1" strike="noStrike">
                <a:solidFill>
                  <a:srgbClr val="c00000"/>
                </a:solidFill>
                <a:latin typeface="Calibri"/>
              </a:rPr>
              <a:t>望群山，念家乡。</a:t>
            </a:r>
            <a:r>
              <a:rPr b="1" lang="zh-CN" sz="2400" spc="-1" strike="noStrike">
                <a:solidFill>
                  <a:srgbClr val="000000"/>
                </a:solidFill>
                <a:latin typeface="Calibri"/>
              </a:rPr>
              <a:t>写身陷囹圄的小萝卜头向往监狱外面的世界，想念家乡。</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二部分</a:t>
            </a:r>
            <a:r>
              <a:rPr b="1" lang="en-US" sz="2400" spc="-1" strike="noStrike">
                <a:solidFill>
                  <a:srgbClr val="00b0f0"/>
                </a:solidFill>
                <a:latin typeface="黑体"/>
                <a:ea typeface="黑体"/>
              </a:rPr>
              <a:t>(</a:t>
            </a:r>
            <a:r>
              <a:rPr b="1" lang="zh-CN" sz="2400" spc="-1" strike="noStrike">
                <a:solidFill>
                  <a:srgbClr val="00b0f0"/>
                </a:solidFill>
                <a:latin typeface="黑体"/>
                <a:ea typeface="黑体"/>
              </a:rPr>
              <a:t>第</a:t>
            </a:r>
            <a:r>
              <a:rPr b="1" lang="en-US" sz="2400" spc="-1" strike="noStrike">
                <a:solidFill>
                  <a:srgbClr val="00b0f0"/>
                </a:solidFill>
                <a:latin typeface="黑体"/>
                <a:ea typeface="黑体"/>
              </a:rPr>
              <a:t>7</a:t>
            </a:r>
            <a:r>
              <a:rPr b="1" lang="zh-CN" sz="2400" spc="-1" strike="noStrike">
                <a:solidFill>
                  <a:srgbClr val="00b0f0"/>
                </a:solidFill>
                <a:latin typeface="黑体"/>
                <a:ea typeface="黑体"/>
              </a:rPr>
              <a:t>－</a:t>
            </a:r>
            <a:r>
              <a:rPr b="1" lang="en-US" sz="2400" spc="-1" strike="noStrike">
                <a:solidFill>
                  <a:srgbClr val="00b0f0"/>
                </a:solidFill>
                <a:latin typeface="黑体"/>
                <a:ea typeface="黑体"/>
              </a:rPr>
              <a:t>17</a:t>
            </a:r>
            <a:r>
              <a:rPr b="1" lang="zh-CN" sz="2400" spc="-1" strike="noStrike">
                <a:solidFill>
                  <a:srgbClr val="00b0f0"/>
                </a:solidFill>
                <a:latin typeface="黑体"/>
                <a:ea typeface="黑体"/>
              </a:rPr>
              <a:t>自然段</a:t>
            </a:r>
            <a:r>
              <a:rPr b="1" lang="en-US" sz="2400" spc="-1" strike="noStrike">
                <a:solidFill>
                  <a:srgbClr val="00b0f0"/>
                </a:solidFill>
                <a:latin typeface="黑体"/>
                <a:ea typeface="黑体"/>
              </a:rPr>
              <a:t>)</a:t>
            </a:r>
            <a:r>
              <a:rPr b="1" lang="zh-CN" sz="2400" spc="-1" strike="noStrike">
                <a:solidFill>
                  <a:srgbClr val="c00000"/>
                </a:solidFill>
                <a:latin typeface="Calibri"/>
              </a:rPr>
              <a:t>捉放小虫。</a:t>
            </a:r>
            <a:r>
              <a:rPr b="1" lang="zh-CN" sz="2400" spc="-1" strike="noStrike">
                <a:solidFill>
                  <a:srgbClr val="000000"/>
                </a:solidFill>
                <a:latin typeface="Calibri"/>
              </a:rPr>
              <a:t>写小萝卜头捉到小飞虫，又把它放飞了。</a:t>
            </a:r>
            <a:endParaRPr b="0" lang="en-US" sz="2400" spc="-1" strike="noStrike">
              <a:solidFill>
                <a:srgbClr val="000000"/>
              </a:solidFill>
              <a:latin typeface="Calibri"/>
            </a:endParaRPr>
          </a:p>
        </p:txBody>
      </p:sp>
      <p:pic>
        <p:nvPicPr>
          <p:cNvPr id="283" name="Picture 2" descr="C:\Users\Administrator\Desktop\3333\初读感知.png"/>
          <p:cNvPicPr/>
          <p:nvPr/>
        </p:nvPicPr>
        <p:blipFill>
          <a:blip r:embed="rId1"/>
          <a:stretch/>
        </p:blipFill>
        <p:spPr>
          <a:xfrm>
            <a:off x="3467160" y="306360"/>
            <a:ext cx="2473200" cy="647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798" dur="500"/>
                                        <p:tgtEl>
                                          <p:spTgt spid="282">
                                            <p:txEl>
                                              <p:pRg st="0" end="0"/>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803" dur="500"/>
                                        <p:tgtEl>
                                          <p:spTgt spid="2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矩形 1"/>
          <p:cNvSpPr/>
          <p:nvPr/>
        </p:nvSpPr>
        <p:spPr>
          <a:xfrm>
            <a:off x="887400" y="1589040"/>
            <a:ext cx="7437600" cy="1907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800" spc="-1" strike="noStrike">
                <a:solidFill>
                  <a:srgbClr val="000000"/>
                </a:solidFill>
                <a:latin typeface="黑体"/>
                <a:ea typeface="黑体"/>
              </a:rPr>
              <a:t>通读课文，想一想 小萝卜头是个什么样的孩子。</a:t>
            </a:r>
            <a:endParaRPr b="0" lang="en-US" sz="2800" spc="-1" strike="noStrike">
              <a:solidFill>
                <a:srgbClr val="000000"/>
              </a:solidFill>
              <a:latin typeface="Calibri"/>
            </a:endParaRPr>
          </a:p>
          <a:p>
            <a:pPr marL="457200" indent="-457200">
              <a:lnSpc>
                <a:spcPct val="150000"/>
              </a:lnSpc>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宋体"/>
                <a:ea typeface="华文彩云"/>
              </a:rPr>
              <a:t>小萝卜头是一个天真善良、对自由充满向往的孩子。</a:t>
            </a:r>
            <a:endParaRPr b="0" lang="en-US" sz="2400" spc="-1" strike="noStrike">
              <a:solidFill>
                <a:srgbClr val="000000"/>
              </a:solidFill>
              <a:latin typeface="Calibri"/>
            </a:endParaRPr>
          </a:p>
          <a:p>
            <a:pPr marL="457200" indent="-4572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84">
                                            <p:txEl>
                                              <p:pRg st="0" end="0"/>
                                            </p:txEl>
                                          </p:spTgt>
                                        </p:tgtEl>
                                        <p:attrNameLst>
                                          <p:attrName>style.visibility</p:attrName>
                                        </p:attrNameLst>
                                      </p:cBhvr>
                                      <p:to>
                                        <p:strVal val="visible"/>
                                      </p:to>
                                    </p:set>
                                    <p:animEffect filter="wipe(left)" transition="in">
                                      <p:cBhvr additive="repl">
                                        <p:cTn id="810" dur="500"/>
                                        <p:tgtEl>
                                          <p:spTgt spid="284">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284">
                                            <p:txEl>
                                              <p:pRg st="1" end="1"/>
                                            </p:txEl>
                                          </p:spTgt>
                                        </p:tgtEl>
                                        <p:attrNameLst>
                                          <p:attrName>style.visibility</p:attrName>
                                        </p:attrNameLst>
                                      </p:cBhvr>
                                      <p:to>
                                        <p:strVal val="visible"/>
                                      </p:to>
                                    </p:set>
                                    <p:animEffect filter="wipe(left)" transition="in">
                                      <p:cBhvr additive="repl">
                                        <p:cTn id="815" dur="500"/>
                                        <p:tgtEl>
                                          <p:spTgt spid="2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图示 7" descr=""/>
          <p:cNvPicPr/>
          <p:nvPr/>
        </p:nvPicPr>
        <p:blipFill>
          <a:blip r:embed="rId1"/>
          <a:stretch/>
        </p:blipFill>
        <p:spPr>
          <a:xfrm>
            <a:off x="878040" y="1090440"/>
            <a:ext cx="3090600" cy="1470240"/>
          </a:xfrm>
          <a:prstGeom prst="rect">
            <a:avLst/>
          </a:prstGeom>
          <a:ln w="0">
            <a:noFill/>
          </a:ln>
        </p:spPr>
      </p:pic>
      <p:sp>
        <p:nvSpPr>
          <p:cNvPr id="286" name="矩形 11"/>
          <p:cNvSpPr/>
          <p:nvPr/>
        </p:nvSpPr>
        <p:spPr>
          <a:xfrm>
            <a:off x="1017720" y="2374920"/>
            <a:ext cx="7380000" cy="733680"/>
          </a:xfrm>
          <a:prstGeom prst="rect">
            <a:avLst/>
          </a:prstGeom>
          <a:noFill/>
          <a:ln w="0">
            <a:noFill/>
          </a:ln>
        </p:spPr>
        <p:style>
          <a:lnRef idx="0"/>
          <a:fillRef idx="0"/>
          <a:effectRef idx="0"/>
          <a:fontRef idx="minor"/>
        </p:style>
        <p:txBody>
          <a:bodyPr lIns="90000" rIns="90000" tIns="46800" bIns="46800" anchor="t">
            <a:spAutoFit/>
          </a:bodyPr>
          <a:p>
            <a:pPr marL="82440" indent="7225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宋体"/>
              </a:rPr>
              <a:t>《</a:t>
            </a:r>
            <a:r>
              <a:rPr b="1" lang="zh-CN" sz="2800" spc="-1" strike="noStrike">
                <a:solidFill>
                  <a:srgbClr val="000000"/>
                </a:solidFill>
                <a:latin typeface="宋体"/>
              </a:rPr>
              <a:t>飞吧，你飞吧！</a:t>
            </a:r>
            <a:r>
              <a:rPr b="1" lang="en-US" sz="2800" spc="-1" strike="noStrike">
                <a:solidFill>
                  <a:srgbClr val="000000"/>
                </a:solidFill>
                <a:latin typeface="宋体"/>
              </a:rPr>
              <a:t>》</a:t>
            </a:r>
            <a:r>
              <a:rPr b="1" lang="zh-CN" sz="2800" spc="-1" strike="noStrike">
                <a:solidFill>
                  <a:srgbClr val="000000"/>
                </a:solidFill>
                <a:latin typeface="宋体"/>
              </a:rPr>
              <a:t>文中记叙了在监狱里长大的孩子小萝卜头捉住了一只撞进铁窗的小虫又放飞了它的事情，表现了他天真善良及对自由的向往。</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nodeType="clickEffect" fill="hold">
                      <p:stCondLst>
                        <p:cond delay="indefinite"/>
                      </p:stCondLst>
                      <p:childTnLst>
                        <p:par>
                          <p:cTn id="819" nodeType="withEffect" fill="hold">
                            <p:stCondLst>
                              <p:cond delay="0"/>
                            </p:stCondLst>
                            <p:childTnLst>
                              <p:par>
                                <p:cTn id="820" nodeType="clickEffect" fill="hold" presetClass="entr" presetID="53" presetSubtype="16">
                                  <p:stCondLst>
                                    <p:cond delay="0"/>
                                  </p:stCondLst>
                                  <p:childTnLst>
                                    <p:set>
                                      <p:cBhvr>
                                        <p:cTn id="821" dur="1" fill="hold">
                                          <p:stCondLst>
                                            <p:cond delay="0"/>
                                          </p:stCondLst>
                                        </p:cTn>
                                        <p:tgtEl>
                                          <p:spTgt spid="286"/>
                                        </p:tgtEl>
                                        <p:attrNameLst>
                                          <p:attrName>style.visibility</p:attrName>
                                        </p:attrNameLst>
                                      </p:cBhvr>
                                      <p:to>
                                        <p:strVal val="visible"/>
                                      </p:to>
                                    </p:set>
                                    <p:anim calcmode="lin" valueType="num">
                                      <p:cBhvr additive="repl">
                                        <p:cTn id="822" dur="500" fill="hold"/>
                                        <p:tgtEl>
                                          <p:spTgt spid="286"/>
                                        </p:tgtEl>
                                        <p:attrNameLst>
                                          <p:attrName>ppt_w</p:attrName>
                                        </p:attrNameLst>
                                      </p:cBhvr>
                                      <p:tavLst>
                                        <p:tav tm="0">
                                          <p:val>
                                            <p:fltVal val="0"/>
                                          </p:val>
                                        </p:tav>
                                        <p:tav tm="100000">
                                          <p:val>
                                            <p:strVal val="#ppt_w"/>
                                          </p:val>
                                        </p:tav>
                                      </p:tavLst>
                                    </p:anim>
                                    <p:anim calcmode="lin" valueType="num">
                                      <p:cBhvr additive="repl">
                                        <p:cTn id="823" dur="500" fill="hold"/>
                                        <p:tgtEl>
                                          <p:spTgt spid="286"/>
                                        </p:tgtEl>
                                        <p:attrNameLst>
                                          <p:attrName>ppt_h</p:attrName>
                                        </p:attrNameLst>
                                      </p:cBhvr>
                                      <p:tavLst>
                                        <p:tav tm="0">
                                          <p:val>
                                            <p:fltVal val="0"/>
                                          </p:val>
                                        </p:tav>
                                        <p:tav tm="100000">
                                          <p:val>
                                            <p:strVal val="#ppt_h"/>
                                          </p:val>
                                        </p:tav>
                                      </p:tavLst>
                                    </p:anim>
                                    <p:animEffect filter="fade" transition="in">
                                      <p:cBhvr additive="repl">
                                        <p:cTn id="824"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66880" y="3067200"/>
            <a:ext cx="770868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会认</a:t>
            </a:r>
            <a:r>
              <a:rPr b="1" lang="en-US" sz="2400" spc="-1" strike="noStrike">
                <a:solidFill>
                  <a:srgbClr val="000000"/>
                </a:solidFill>
                <a:latin typeface="宋体"/>
              </a:rPr>
              <a:t>1</a:t>
            </a:r>
            <a:r>
              <a:rPr b="1" lang="zh-CN" sz="2400" spc="-1" strike="noStrike">
                <a:solidFill>
                  <a:srgbClr val="000000"/>
                </a:solidFill>
                <a:latin typeface="宋体"/>
              </a:rPr>
              <a:t>个生字，会写</a:t>
            </a:r>
            <a:r>
              <a:rPr b="1" lang="en-US" sz="2400" spc="-1" strike="noStrike">
                <a:solidFill>
                  <a:srgbClr val="000000"/>
                </a:solidFill>
                <a:latin typeface="宋体"/>
              </a:rPr>
              <a:t>9</a:t>
            </a:r>
            <a:r>
              <a:rPr b="1" lang="zh-CN" sz="2400" spc="-1" strike="noStrike">
                <a:solidFill>
                  <a:srgbClr val="000000"/>
                </a:solidFill>
                <a:latin typeface="宋体"/>
              </a:rPr>
              <a:t>个生字；理解由生字组成的成语。</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有感情地朗读课文。</a:t>
            </a:r>
            <a:endParaRPr b="0" lang="en-US" sz="2400" spc="-1" strike="noStrike">
              <a:solidFill>
                <a:srgbClr val="000000"/>
              </a:solidFill>
              <a:latin typeface="Calibri"/>
            </a:endParaRPr>
          </a:p>
        </p:txBody>
      </p:sp>
      <p:pic>
        <p:nvPicPr>
          <p:cNvPr id="70" name="图示 4" descr=""/>
          <p:cNvPicPr/>
          <p:nvPr/>
        </p:nvPicPr>
        <p:blipFill>
          <a:blip r:embed="rId1"/>
          <a:stretch/>
        </p:blipFill>
        <p:spPr>
          <a:xfrm>
            <a:off x="878040" y="1090440"/>
            <a:ext cx="3090600" cy="147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288" name="矩形 18"/>
          <p:cNvSpPr/>
          <p:nvPr/>
        </p:nvSpPr>
        <p:spPr>
          <a:xfrm>
            <a:off x="1373040" y="2336760"/>
            <a:ext cx="7548840" cy="228852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给下列词语中加点的字选择正确的读音，用“</a:t>
            </a:r>
            <a:r>
              <a:rPr b="1" lang="en-US" sz="2400" spc="-1" strike="noStrike">
                <a:solidFill>
                  <a:srgbClr val="000000"/>
                </a:solidFill>
                <a:latin typeface="宋体"/>
              </a:rPr>
              <a:t>_____”</a:t>
            </a:r>
            <a:r>
              <a:rPr b="1" lang="zh-CN" sz="2400" spc="-1" strike="noStrike">
                <a:solidFill>
                  <a:srgbClr val="000000"/>
                </a:solidFill>
                <a:latin typeface="宋体"/>
              </a:rPr>
              <a:t>画出。</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磁器口</a:t>
            </a:r>
            <a:r>
              <a:rPr b="1" lang="en-US" sz="2400" spc="-1" strike="noStrike">
                <a:solidFill>
                  <a:srgbClr val="000000"/>
                </a:solidFill>
                <a:latin typeface="宋体"/>
              </a:rPr>
              <a:t>(</a:t>
            </a:r>
            <a:r>
              <a:rPr b="1" lang="en-US" sz="2400" spc="-1" strike="noStrike">
                <a:solidFill>
                  <a:srgbClr val="000000"/>
                </a:solidFill>
                <a:latin typeface="方正姚体"/>
                <a:ea typeface="方正姚体"/>
              </a:rPr>
              <a:t>cí</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zī</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踮脚</a:t>
            </a:r>
            <a:r>
              <a:rPr b="1" lang="en-US" sz="2400" spc="-1" strike="noStrike">
                <a:solidFill>
                  <a:srgbClr val="000000"/>
                </a:solidFill>
                <a:latin typeface="宋体"/>
              </a:rPr>
              <a:t>(</a:t>
            </a:r>
            <a:r>
              <a:rPr b="1" lang="en-US" sz="2400" spc="-1" strike="noStrike">
                <a:solidFill>
                  <a:srgbClr val="000000"/>
                </a:solidFill>
                <a:latin typeface="方正姚体"/>
                <a:ea typeface="方正姚体"/>
              </a:rPr>
              <a:t>diān</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diǎn</a:t>
            </a:r>
            <a:r>
              <a:rPr b="1" lang="en-US" sz="2400" spc="-1" strike="noStrike">
                <a:solidFill>
                  <a:srgbClr val="000000"/>
                </a:solidFill>
                <a:latin typeface="宋体"/>
              </a:rPr>
              <a:t>)</a:t>
            </a:r>
            <a:r>
              <a:rPr b="1" lang="zh-CN" sz="2400" spc="-1" strike="noStrike">
                <a:solidFill>
                  <a:srgbClr val="000000"/>
                </a:solidFill>
                <a:latin typeface="宋体"/>
              </a:rPr>
              <a:t>　　　</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走廊</a:t>
            </a:r>
            <a:r>
              <a:rPr b="1" lang="en-US" sz="2400" spc="-1" strike="noStrike">
                <a:solidFill>
                  <a:srgbClr val="000000"/>
                </a:solidFill>
                <a:latin typeface="宋体"/>
              </a:rPr>
              <a:t>(</a:t>
            </a:r>
            <a:r>
              <a:rPr b="1" lang="en-US" sz="2400" spc="-1" strike="noStrike">
                <a:solidFill>
                  <a:srgbClr val="000000"/>
                </a:solidFill>
                <a:latin typeface="方正姚体"/>
                <a:ea typeface="方正姚体"/>
              </a:rPr>
              <a:t>láng</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náng</a:t>
            </a:r>
            <a:r>
              <a:rPr b="1"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薄饼</a:t>
            </a:r>
            <a:r>
              <a:rPr b="1" lang="en-US" sz="2400" spc="-1" strike="noStrike">
                <a:solidFill>
                  <a:srgbClr val="000000"/>
                </a:solidFill>
                <a:latin typeface="宋体"/>
              </a:rPr>
              <a:t>(</a:t>
            </a:r>
            <a:r>
              <a:rPr b="1" lang="en-US" sz="2400" spc="-1" strike="noStrike">
                <a:solidFill>
                  <a:srgbClr val="000000"/>
                </a:solidFill>
                <a:latin typeface="方正姚体"/>
                <a:ea typeface="方正姚体"/>
              </a:rPr>
              <a:t>bó</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báo</a:t>
            </a:r>
            <a:r>
              <a:rPr b="1" lang="en-US" sz="2400" spc="-1" strike="noStrike">
                <a:solidFill>
                  <a:srgbClr val="000000"/>
                </a:solidFill>
                <a:latin typeface="宋体"/>
              </a:rPr>
              <a:t>)  </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瞥见</a:t>
            </a:r>
            <a:r>
              <a:rPr b="1" lang="en-US" sz="2400" spc="-1" strike="noStrike">
                <a:solidFill>
                  <a:srgbClr val="000000"/>
                </a:solidFill>
                <a:latin typeface="宋体"/>
              </a:rPr>
              <a:t>(</a:t>
            </a:r>
            <a:r>
              <a:rPr b="1" lang="en-US" sz="2400" spc="-1" strike="noStrike">
                <a:solidFill>
                  <a:srgbClr val="000000"/>
                </a:solidFill>
                <a:latin typeface="方正姚体"/>
                <a:ea typeface="方正姚体"/>
              </a:rPr>
              <a:t>piē</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piě</a:t>
            </a:r>
            <a:r>
              <a:rPr b="1"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没收</a:t>
            </a:r>
            <a:r>
              <a:rPr b="1" lang="en-US" sz="2400" spc="-1" strike="noStrike">
                <a:solidFill>
                  <a:srgbClr val="000000"/>
                </a:solidFill>
                <a:latin typeface="宋体"/>
              </a:rPr>
              <a:t>(</a:t>
            </a:r>
            <a:r>
              <a:rPr b="1" lang="en-US" sz="2400" spc="-1" strike="noStrike">
                <a:solidFill>
                  <a:srgbClr val="000000"/>
                </a:solidFill>
                <a:latin typeface="方正姚体"/>
                <a:ea typeface="方正姚体"/>
              </a:rPr>
              <a:t>mò</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mó</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89" name="矩形 41"/>
          <p:cNvSpPr/>
          <p:nvPr/>
        </p:nvSpPr>
        <p:spPr>
          <a:xfrm>
            <a:off x="1434240" y="37209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90" name="矩形 41"/>
          <p:cNvSpPr/>
          <p:nvPr/>
        </p:nvSpPr>
        <p:spPr>
          <a:xfrm>
            <a:off x="4645800" y="3703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91" name="矩形 41"/>
          <p:cNvSpPr/>
          <p:nvPr/>
        </p:nvSpPr>
        <p:spPr>
          <a:xfrm>
            <a:off x="1735920" y="4248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92" name="矩形 41"/>
          <p:cNvSpPr/>
          <p:nvPr/>
        </p:nvSpPr>
        <p:spPr>
          <a:xfrm>
            <a:off x="4690080" y="4243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93" name="矩形 24"/>
          <p:cNvSpPr/>
          <p:nvPr/>
        </p:nvSpPr>
        <p:spPr>
          <a:xfrm>
            <a:off x="2502360" y="3584520"/>
            <a:ext cx="4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a:t>
            </a:r>
            <a:endParaRPr b="0" lang="en-US" sz="2400" spc="-1" strike="noStrike">
              <a:solidFill>
                <a:srgbClr val="000000"/>
              </a:solidFill>
              <a:latin typeface="Calibri"/>
            </a:endParaRPr>
          </a:p>
        </p:txBody>
      </p:sp>
      <p:sp>
        <p:nvSpPr>
          <p:cNvPr id="294" name="矩形 41"/>
          <p:cNvSpPr/>
          <p:nvPr/>
        </p:nvSpPr>
        <p:spPr>
          <a:xfrm>
            <a:off x="1438920" y="4791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95" name="矩形 41"/>
          <p:cNvSpPr/>
          <p:nvPr/>
        </p:nvSpPr>
        <p:spPr>
          <a:xfrm>
            <a:off x="4658400" y="48020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96" name="矩形 27"/>
          <p:cNvSpPr/>
          <p:nvPr/>
        </p:nvSpPr>
        <p:spPr>
          <a:xfrm>
            <a:off x="6347520" y="3578400"/>
            <a:ext cx="68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_</a:t>
            </a:r>
            <a:endParaRPr b="0" lang="en-US" sz="2400" spc="-1" strike="noStrike">
              <a:solidFill>
                <a:srgbClr val="000000"/>
              </a:solidFill>
              <a:latin typeface="Calibri"/>
            </a:endParaRPr>
          </a:p>
        </p:txBody>
      </p:sp>
      <p:sp>
        <p:nvSpPr>
          <p:cNvPr id="297" name="矩形 28"/>
          <p:cNvSpPr/>
          <p:nvPr/>
        </p:nvSpPr>
        <p:spPr>
          <a:xfrm>
            <a:off x="2202480" y="4137120"/>
            <a:ext cx="68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_</a:t>
            </a:r>
            <a:endParaRPr b="0" lang="en-US" sz="2400" spc="-1" strike="noStrike">
              <a:solidFill>
                <a:srgbClr val="000000"/>
              </a:solidFill>
              <a:latin typeface="Calibri"/>
            </a:endParaRPr>
          </a:p>
        </p:txBody>
      </p:sp>
      <p:sp>
        <p:nvSpPr>
          <p:cNvPr id="298" name="矩形 29"/>
          <p:cNvSpPr/>
          <p:nvPr/>
        </p:nvSpPr>
        <p:spPr>
          <a:xfrm>
            <a:off x="6013440" y="413856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a:t>
            </a:r>
            <a:endParaRPr b="0" lang="en-US" sz="2400" spc="-1" strike="noStrike">
              <a:solidFill>
                <a:srgbClr val="000000"/>
              </a:solidFill>
              <a:latin typeface="Calibri"/>
            </a:endParaRPr>
          </a:p>
        </p:txBody>
      </p:sp>
      <p:sp>
        <p:nvSpPr>
          <p:cNvPr id="299" name="矩形 30"/>
          <p:cNvSpPr/>
          <p:nvPr/>
        </p:nvSpPr>
        <p:spPr>
          <a:xfrm>
            <a:off x="2205000" y="468468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_</a:t>
            </a:r>
            <a:endParaRPr b="0" lang="en-US" sz="2400" spc="-1" strike="noStrike">
              <a:solidFill>
                <a:srgbClr val="000000"/>
              </a:solidFill>
              <a:latin typeface="Calibri"/>
            </a:endParaRPr>
          </a:p>
        </p:txBody>
      </p:sp>
      <p:sp>
        <p:nvSpPr>
          <p:cNvPr id="300" name="矩形 31"/>
          <p:cNvSpPr/>
          <p:nvPr/>
        </p:nvSpPr>
        <p:spPr>
          <a:xfrm>
            <a:off x="5410800" y="4665600"/>
            <a:ext cx="4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__</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indefinite"/>
                      </p:stCondLst>
                      <p:childTnLst>
                        <p:par>
                          <p:cTn id="828" nodeType="withEffect"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293"/>
                                        </p:tgtEl>
                                        <p:attrNameLst>
                                          <p:attrName>style.visibility</p:attrName>
                                        </p:attrNameLst>
                                      </p:cBhvr>
                                      <p:to>
                                        <p:strVal val="visible"/>
                                      </p:to>
                                    </p:set>
                                    <p:animEffect filter="wipe(left)" transition="in">
                                      <p:cBhvr additive="repl">
                                        <p:cTn id="831" dur="500"/>
                                        <p:tgtEl>
                                          <p:spTgt spid="293"/>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296"/>
                                        </p:tgtEl>
                                        <p:attrNameLst>
                                          <p:attrName>style.visibility</p:attrName>
                                        </p:attrNameLst>
                                      </p:cBhvr>
                                      <p:to>
                                        <p:strVal val="visible"/>
                                      </p:to>
                                    </p:set>
                                    <p:animEffect filter="wipe(left)" transition="in">
                                      <p:cBhvr additive="repl">
                                        <p:cTn id="836" dur="500"/>
                                        <p:tgtEl>
                                          <p:spTgt spid="296"/>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297"/>
                                        </p:tgtEl>
                                        <p:attrNameLst>
                                          <p:attrName>style.visibility</p:attrName>
                                        </p:attrNameLst>
                                      </p:cBhvr>
                                      <p:to>
                                        <p:strVal val="visible"/>
                                      </p:to>
                                    </p:set>
                                    <p:animEffect filter="wipe(left)" transition="in">
                                      <p:cBhvr additive="repl">
                                        <p:cTn id="841" dur="500"/>
                                        <p:tgtEl>
                                          <p:spTgt spid="297"/>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298"/>
                                        </p:tgtEl>
                                        <p:attrNameLst>
                                          <p:attrName>style.visibility</p:attrName>
                                        </p:attrNameLst>
                                      </p:cBhvr>
                                      <p:to>
                                        <p:strVal val="visible"/>
                                      </p:to>
                                    </p:set>
                                    <p:animEffect filter="wipe(left)" transition="in">
                                      <p:cBhvr additive="repl">
                                        <p:cTn id="846" dur="500"/>
                                        <p:tgtEl>
                                          <p:spTgt spid="298"/>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299"/>
                                        </p:tgtEl>
                                        <p:attrNameLst>
                                          <p:attrName>style.visibility</p:attrName>
                                        </p:attrNameLst>
                                      </p:cBhvr>
                                      <p:to>
                                        <p:strVal val="visible"/>
                                      </p:to>
                                    </p:set>
                                    <p:animEffect filter="wipe(left)" transition="in">
                                      <p:cBhvr additive="repl">
                                        <p:cTn id="851" dur="500"/>
                                        <p:tgtEl>
                                          <p:spTgt spid="299"/>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00"/>
                                        </p:tgtEl>
                                        <p:attrNameLst>
                                          <p:attrName>style.visibility</p:attrName>
                                        </p:attrNameLst>
                                      </p:cBhvr>
                                      <p:to>
                                        <p:strVal val="visible"/>
                                      </p:to>
                                    </p:set>
                                    <p:animEffect filter="wipe(left)" transition="in">
                                      <p:cBhvr additive="repl">
                                        <p:cTn id="856"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5"/>
          <p:cNvSpPr/>
          <p:nvPr/>
        </p:nvSpPr>
        <p:spPr>
          <a:xfrm>
            <a:off x="1509840" y="1290600"/>
            <a:ext cx="69055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看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diǎn jiǎo                 zǒu láng                bèi  ké</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chán  yì                    cí  tiě                  shā  jīn</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piē  jiàn                   shá  dì  fɑng</a:t>
            </a:r>
            <a:endParaRPr b="0" lang="en-US" sz="2400" spc="-1" strike="noStrike">
              <a:solidFill>
                <a:srgbClr val="000000"/>
              </a:solidFill>
              <a:latin typeface="Calibri"/>
            </a:endParaRPr>
          </a:p>
        </p:txBody>
      </p:sp>
      <p:graphicFrame>
        <p:nvGraphicFramePr>
          <p:cNvPr id="302" name=""/>
          <p:cNvGraphicFramePr/>
          <p:nvPr/>
        </p:nvGraphicFramePr>
        <p:xfrm>
          <a:off x="3741840" y="2435400"/>
          <a:ext cx="1439640" cy="73152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03" name=""/>
          <p:cNvGraphicFramePr/>
          <p:nvPr/>
        </p:nvGraphicFramePr>
        <p:xfrm>
          <a:off x="1509840" y="2435400"/>
          <a:ext cx="1439640" cy="73152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4" name="矩形 18"/>
          <p:cNvSpPr/>
          <p:nvPr/>
        </p:nvSpPr>
        <p:spPr>
          <a:xfrm>
            <a:off x="1726920" y="24782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踮 脚</a:t>
            </a:r>
            <a:endParaRPr b="0" lang="en-US" sz="3600" spc="-1" strike="noStrike">
              <a:solidFill>
                <a:srgbClr val="000000"/>
              </a:solidFill>
              <a:latin typeface="Calibri"/>
            </a:endParaRPr>
          </a:p>
        </p:txBody>
      </p:sp>
      <p:sp>
        <p:nvSpPr>
          <p:cNvPr id="305" name="矩形 19"/>
          <p:cNvSpPr/>
          <p:nvPr/>
        </p:nvSpPr>
        <p:spPr>
          <a:xfrm>
            <a:off x="3957480" y="24843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走 廊</a:t>
            </a:r>
            <a:endParaRPr b="0" lang="en-US" sz="3600" spc="-1" strike="noStrike">
              <a:solidFill>
                <a:srgbClr val="000000"/>
              </a:solidFill>
              <a:latin typeface="Calibri"/>
            </a:endParaRPr>
          </a:p>
        </p:txBody>
      </p:sp>
      <p:graphicFrame>
        <p:nvGraphicFramePr>
          <p:cNvPr id="306" name=""/>
          <p:cNvGraphicFramePr/>
          <p:nvPr/>
        </p:nvGraphicFramePr>
        <p:xfrm>
          <a:off x="5902200" y="2424240"/>
          <a:ext cx="1440000" cy="731880"/>
        </p:xfrm>
        <a:graphic>
          <a:graphicData uri="http://schemas.openxmlformats.org/drawingml/2006/table">
            <a:tbl>
              <a:tblPr/>
              <a:tblGrid>
                <a:gridCol w="360360"/>
                <a:gridCol w="360360"/>
                <a:gridCol w="35892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7" name="矩形 21"/>
          <p:cNvSpPr/>
          <p:nvPr/>
        </p:nvSpPr>
        <p:spPr>
          <a:xfrm>
            <a:off x="6119640" y="24670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贝 壳</a:t>
            </a:r>
            <a:endParaRPr b="0" lang="en-US" sz="3600" spc="-1" strike="noStrike">
              <a:solidFill>
                <a:srgbClr val="000000"/>
              </a:solidFill>
              <a:latin typeface="Calibri"/>
            </a:endParaRPr>
          </a:p>
        </p:txBody>
      </p:sp>
      <p:graphicFrame>
        <p:nvGraphicFramePr>
          <p:cNvPr id="308" name=""/>
          <p:cNvGraphicFramePr/>
          <p:nvPr/>
        </p:nvGraphicFramePr>
        <p:xfrm>
          <a:off x="3741840" y="354816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09" name=""/>
          <p:cNvGraphicFramePr/>
          <p:nvPr/>
        </p:nvGraphicFramePr>
        <p:xfrm>
          <a:off x="1509840" y="354816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 </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0" name="矩形 24"/>
          <p:cNvSpPr/>
          <p:nvPr/>
        </p:nvSpPr>
        <p:spPr>
          <a:xfrm>
            <a:off x="1726920" y="3591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蝉 翼</a:t>
            </a:r>
            <a:endParaRPr b="0" lang="en-US" sz="3600" spc="-1" strike="noStrike">
              <a:solidFill>
                <a:srgbClr val="000000"/>
              </a:solidFill>
              <a:latin typeface="Calibri"/>
            </a:endParaRPr>
          </a:p>
        </p:txBody>
      </p:sp>
      <p:sp>
        <p:nvSpPr>
          <p:cNvPr id="311" name="矩形 25"/>
          <p:cNvSpPr/>
          <p:nvPr/>
        </p:nvSpPr>
        <p:spPr>
          <a:xfrm>
            <a:off x="3957480" y="35971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磁 铁</a:t>
            </a:r>
            <a:endParaRPr b="0" lang="en-US" sz="3600" spc="-1" strike="noStrike">
              <a:solidFill>
                <a:srgbClr val="000000"/>
              </a:solidFill>
              <a:latin typeface="Calibri"/>
            </a:endParaRPr>
          </a:p>
        </p:txBody>
      </p:sp>
      <p:graphicFrame>
        <p:nvGraphicFramePr>
          <p:cNvPr id="312" name=""/>
          <p:cNvGraphicFramePr/>
          <p:nvPr/>
        </p:nvGraphicFramePr>
        <p:xfrm>
          <a:off x="5902200" y="3537000"/>
          <a:ext cx="1390680" cy="731880"/>
        </p:xfrm>
        <a:graphic>
          <a:graphicData uri="http://schemas.openxmlformats.org/drawingml/2006/table">
            <a:tbl>
              <a:tblPr/>
              <a:tblGrid>
                <a:gridCol w="347760"/>
                <a:gridCol w="347760"/>
                <a:gridCol w="347760"/>
                <a:gridCol w="34740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3" name="矩形 28"/>
          <p:cNvSpPr/>
          <p:nvPr/>
        </p:nvSpPr>
        <p:spPr>
          <a:xfrm>
            <a:off x="6119640" y="35798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纱 巾</a:t>
            </a:r>
            <a:endParaRPr b="0" lang="en-US" sz="3600" spc="-1" strike="noStrike">
              <a:solidFill>
                <a:srgbClr val="000000"/>
              </a:solidFill>
              <a:latin typeface="Calibri"/>
            </a:endParaRPr>
          </a:p>
        </p:txBody>
      </p:sp>
      <p:graphicFrame>
        <p:nvGraphicFramePr>
          <p:cNvPr id="314" name=""/>
          <p:cNvGraphicFramePr/>
          <p:nvPr/>
        </p:nvGraphicFramePr>
        <p:xfrm>
          <a:off x="3741840" y="4668840"/>
          <a:ext cx="2208240" cy="731880"/>
        </p:xfrm>
        <a:graphic>
          <a:graphicData uri="http://schemas.openxmlformats.org/drawingml/2006/table">
            <a:tbl>
              <a:tblPr/>
              <a:tblGrid>
                <a:gridCol w="368280"/>
                <a:gridCol w="368280"/>
                <a:gridCol w="366480"/>
                <a:gridCol w="368640"/>
                <a:gridCol w="368280"/>
                <a:gridCol w="36828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15" name=""/>
          <p:cNvGraphicFramePr/>
          <p:nvPr/>
        </p:nvGraphicFramePr>
        <p:xfrm>
          <a:off x="1509840" y="4638600"/>
          <a:ext cx="1439640" cy="731880"/>
        </p:xfrm>
        <a:graphic>
          <a:graphicData uri="http://schemas.openxmlformats.org/drawingml/2006/table">
            <a:tbl>
              <a:tblPr/>
              <a:tblGrid>
                <a:gridCol w="360360"/>
                <a:gridCol w="360360"/>
                <a:gridCol w="358560"/>
                <a:gridCol w="360360"/>
              </a:tblGrid>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 </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6" name="矩形 42"/>
          <p:cNvSpPr/>
          <p:nvPr/>
        </p:nvSpPr>
        <p:spPr>
          <a:xfrm>
            <a:off x="1726920" y="46814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瞥 见</a:t>
            </a:r>
            <a:endParaRPr b="0" lang="en-US" sz="3600" spc="-1" strike="noStrike">
              <a:solidFill>
                <a:srgbClr val="000000"/>
              </a:solidFill>
              <a:latin typeface="Calibri"/>
            </a:endParaRPr>
          </a:p>
        </p:txBody>
      </p:sp>
      <p:sp>
        <p:nvSpPr>
          <p:cNvPr id="317" name="矩形 43"/>
          <p:cNvSpPr/>
          <p:nvPr/>
        </p:nvSpPr>
        <p:spPr>
          <a:xfrm>
            <a:off x="4082400" y="46814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啥 地 方</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nodeType="clickEffect" fill="hold">
                      <p:stCondLst>
                        <p:cond delay="indefinite"/>
                      </p:stCondLst>
                      <p:childTnLst>
                        <p:par>
                          <p:cTn id="860" nodeType="withEffect" fill="hold">
                            <p:stCondLst>
                              <p:cond delay="0"/>
                            </p:stCondLst>
                            <p:childTnLst>
                              <p:par>
                                <p:cTn id="861" nodeType="clickEffect" fill="hold" presetClass="entr" presetID="22" presetSubtype="8">
                                  <p:stCondLst>
                                    <p:cond delay="0"/>
                                  </p:stCondLst>
                                  <p:childTnLst>
                                    <p:set>
                                      <p:cBhvr>
                                        <p:cTn id="862" dur="1" fill="hold">
                                          <p:stCondLst>
                                            <p:cond delay="0"/>
                                          </p:stCondLst>
                                        </p:cTn>
                                        <p:tgtEl>
                                          <p:spTgt spid="304"/>
                                        </p:tgtEl>
                                        <p:attrNameLst>
                                          <p:attrName>style.visibility</p:attrName>
                                        </p:attrNameLst>
                                      </p:cBhvr>
                                      <p:to>
                                        <p:strVal val="visible"/>
                                      </p:to>
                                    </p:set>
                                    <p:animEffect filter="wipe(left)" transition="in">
                                      <p:cBhvr additive="repl">
                                        <p:cTn id="863" dur="500"/>
                                        <p:tgtEl>
                                          <p:spTgt spid="304"/>
                                        </p:tgtEl>
                                      </p:cBhvr>
                                    </p:animEffect>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2" presetSubtype="8">
                                  <p:stCondLst>
                                    <p:cond delay="0"/>
                                  </p:stCondLst>
                                  <p:childTnLst>
                                    <p:set>
                                      <p:cBhvr>
                                        <p:cTn id="867" dur="1" fill="hold">
                                          <p:stCondLst>
                                            <p:cond delay="0"/>
                                          </p:stCondLst>
                                        </p:cTn>
                                        <p:tgtEl>
                                          <p:spTgt spid="305"/>
                                        </p:tgtEl>
                                        <p:attrNameLst>
                                          <p:attrName>style.visibility</p:attrName>
                                        </p:attrNameLst>
                                      </p:cBhvr>
                                      <p:to>
                                        <p:strVal val="visible"/>
                                      </p:to>
                                    </p:set>
                                    <p:animEffect filter="wipe(left)" transition="in">
                                      <p:cBhvr additive="repl">
                                        <p:cTn id="868" dur="500"/>
                                        <p:tgtEl>
                                          <p:spTgt spid="305"/>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2" presetSubtype="8">
                                  <p:stCondLst>
                                    <p:cond delay="0"/>
                                  </p:stCondLst>
                                  <p:childTnLst>
                                    <p:set>
                                      <p:cBhvr>
                                        <p:cTn id="872" dur="1" fill="hold">
                                          <p:stCondLst>
                                            <p:cond delay="0"/>
                                          </p:stCondLst>
                                        </p:cTn>
                                        <p:tgtEl>
                                          <p:spTgt spid="307"/>
                                        </p:tgtEl>
                                        <p:attrNameLst>
                                          <p:attrName>style.visibility</p:attrName>
                                        </p:attrNameLst>
                                      </p:cBhvr>
                                      <p:to>
                                        <p:strVal val="visible"/>
                                      </p:to>
                                    </p:set>
                                    <p:animEffect filter="wipe(left)" transition="in">
                                      <p:cBhvr additive="repl">
                                        <p:cTn id="873" dur="500"/>
                                        <p:tgtEl>
                                          <p:spTgt spid="307"/>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22" presetSubtype="8">
                                  <p:stCondLst>
                                    <p:cond delay="0"/>
                                  </p:stCondLst>
                                  <p:childTnLst>
                                    <p:set>
                                      <p:cBhvr>
                                        <p:cTn id="877" dur="1" fill="hold">
                                          <p:stCondLst>
                                            <p:cond delay="0"/>
                                          </p:stCondLst>
                                        </p:cTn>
                                        <p:tgtEl>
                                          <p:spTgt spid="310"/>
                                        </p:tgtEl>
                                        <p:attrNameLst>
                                          <p:attrName>style.visibility</p:attrName>
                                        </p:attrNameLst>
                                      </p:cBhvr>
                                      <p:to>
                                        <p:strVal val="visible"/>
                                      </p:to>
                                    </p:set>
                                    <p:animEffect filter="wipe(left)" transition="in">
                                      <p:cBhvr additive="repl">
                                        <p:cTn id="878" dur="500"/>
                                        <p:tgtEl>
                                          <p:spTgt spid="310"/>
                                        </p:tgtEl>
                                      </p:cBhvr>
                                    </p:animEffec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2" presetSubtype="8">
                                  <p:stCondLst>
                                    <p:cond delay="0"/>
                                  </p:stCondLst>
                                  <p:childTnLst>
                                    <p:set>
                                      <p:cBhvr>
                                        <p:cTn id="882" dur="1" fill="hold">
                                          <p:stCondLst>
                                            <p:cond delay="0"/>
                                          </p:stCondLst>
                                        </p:cTn>
                                        <p:tgtEl>
                                          <p:spTgt spid="311"/>
                                        </p:tgtEl>
                                        <p:attrNameLst>
                                          <p:attrName>style.visibility</p:attrName>
                                        </p:attrNameLst>
                                      </p:cBhvr>
                                      <p:to>
                                        <p:strVal val="visible"/>
                                      </p:to>
                                    </p:set>
                                    <p:animEffect filter="wipe(left)" transition="in">
                                      <p:cBhvr additive="repl">
                                        <p:cTn id="883" dur="500"/>
                                        <p:tgtEl>
                                          <p:spTgt spid="311"/>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22" presetSubtype="8">
                                  <p:stCondLst>
                                    <p:cond delay="0"/>
                                  </p:stCondLst>
                                  <p:childTnLst>
                                    <p:set>
                                      <p:cBhvr>
                                        <p:cTn id="887" dur="1" fill="hold">
                                          <p:stCondLst>
                                            <p:cond delay="0"/>
                                          </p:stCondLst>
                                        </p:cTn>
                                        <p:tgtEl>
                                          <p:spTgt spid="313"/>
                                        </p:tgtEl>
                                        <p:attrNameLst>
                                          <p:attrName>style.visibility</p:attrName>
                                        </p:attrNameLst>
                                      </p:cBhvr>
                                      <p:to>
                                        <p:strVal val="visible"/>
                                      </p:to>
                                    </p:set>
                                    <p:animEffect filter="wipe(left)" transition="in">
                                      <p:cBhvr additive="repl">
                                        <p:cTn id="888" dur="500"/>
                                        <p:tgtEl>
                                          <p:spTgt spid="313"/>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22" presetSubtype="8">
                                  <p:stCondLst>
                                    <p:cond delay="0"/>
                                  </p:stCondLst>
                                  <p:childTnLst>
                                    <p:set>
                                      <p:cBhvr>
                                        <p:cTn id="892" dur="1" fill="hold">
                                          <p:stCondLst>
                                            <p:cond delay="0"/>
                                          </p:stCondLst>
                                        </p:cTn>
                                        <p:tgtEl>
                                          <p:spTgt spid="316"/>
                                        </p:tgtEl>
                                        <p:attrNameLst>
                                          <p:attrName>style.visibility</p:attrName>
                                        </p:attrNameLst>
                                      </p:cBhvr>
                                      <p:to>
                                        <p:strVal val="visible"/>
                                      </p:to>
                                    </p:set>
                                    <p:animEffect filter="wipe(left)" transition="in">
                                      <p:cBhvr additive="repl">
                                        <p:cTn id="893" dur="500"/>
                                        <p:tgtEl>
                                          <p:spTgt spid="316"/>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22" presetSubtype="8">
                                  <p:stCondLst>
                                    <p:cond delay="0"/>
                                  </p:stCondLst>
                                  <p:childTnLst>
                                    <p:set>
                                      <p:cBhvr>
                                        <p:cTn id="897" dur="1" fill="hold">
                                          <p:stCondLst>
                                            <p:cond delay="0"/>
                                          </p:stCondLst>
                                        </p:cTn>
                                        <p:tgtEl>
                                          <p:spTgt spid="317"/>
                                        </p:tgtEl>
                                        <p:attrNameLst>
                                          <p:attrName>style.visibility</p:attrName>
                                        </p:attrNameLst>
                                      </p:cBhvr>
                                      <p:to>
                                        <p:strVal val="visible"/>
                                      </p:to>
                                    </p:set>
                                    <p:animEffect filter="wipe(left)" transition="in">
                                      <p:cBhvr additive="repl">
                                        <p:cTn id="898"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矩形 6"/>
          <p:cNvSpPr/>
          <p:nvPr/>
        </p:nvSpPr>
        <p:spPr>
          <a:xfrm>
            <a:off x="2916360" y="-26496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　　　</a:t>
            </a:r>
            <a:endParaRPr b="0" lang="en-US" sz="2400" spc="-1" strike="noStrike">
              <a:solidFill>
                <a:srgbClr val="000000"/>
              </a:solidFill>
              <a:latin typeface="Calibri"/>
            </a:endParaRPr>
          </a:p>
        </p:txBody>
      </p:sp>
      <p:sp>
        <p:nvSpPr>
          <p:cNvPr id="319" name="矩形 23"/>
          <p:cNvSpPr/>
          <p:nvPr/>
        </p:nvSpPr>
        <p:spPr>
          <a:xfrm>
            <a:off x="1585800" y="1285920"/>
            <a:ext cx="66009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选字填空。</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滋　磁</a:t>
            </a:r>
            <a:r>
              <a:rPr b="1" lang="en-US" sz="2400" spc="-1" strike="noStrike">
                <a:solidFill>
                  <a:srgbClr val="000000"/>
                </a:solidFill>
                <a:latin typeface="宋体"/>
              </a:rPr>
              <a:t>)______</a:t>
            </a:r>
            <a:r>
              <a:rPr b="1" lang="zh-CN" sz="2400" spc="-1" strike="noStrike">
                <a:solidFill>
                  <a:srgbClr val="000000"/>
                </a:solidFill>
                <a:latin typeface="宋体"/>
              </a:rPr>
              <a:t>润　</a:t>
            </a:r>
            <a:r>
              <a:rPr b="1" lang="en-US" sz="2400" spc="-1" strike="noStrike">
                <a:solidFill>
                  <a:srgbClr val="000000"/>
                </a:solidFill>
                <a:latin typeface="宋体"/>
              </a:rPr>
              <a:t>______</a:t>
            </a:r>
            <a:r>
              <a:rPr b="1" lang="zh-CN" sz="2400" spc="-1" strike="noStrike">
                <a:solidFill>
                  <a:srgbClr val="000000"/>
                </a:solidFill>
                <a:latin typeface="宋体"/>
              </a:rPr>
              <a:t>石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纱　沙</a:t>
            </a:r>
            <a:r>
              <a:rPr b="1" lang="en-US" sz="2400" spc="-1" strike="noStrike">
                <a:solidFill>
                  <a:srgbClr val="000000"/>
                </a:solidFill>
                <a:latin typeface="宋体"/>
              </a:rPr>
              <a:t>)______</a:t>
            </a:r>
            <a:r>
              <a:rPr b="1" lang="zh-CN" sz="2400" spc="-1" strike="noStrike">
                <a:solidFill>
                  <a:srgbClr val="000000"/>
                </a:solidFill>
                <a:latin typeface="宋体"/>
              </a:rPr>
              <a:t>滩　</a:t>
            </a:r>
            <a:r>
              <a:rPr b="1" lang="en-US" sz="2400" spc="-1" strike="noStrike">
                <a:solidFill>
                  <a:srgbClr val="000000"/>
                </a:solidFill>
                <a:latin typeface="宋体"/>
              </a:rPr>
              <a:t>______</a:t>
            </a:r>
            <a:r>
              <a:rPr b="1" lang="zh-CN" sz="2400" spc="-1" strike="noStrike">
                <a:solidFill>
                  <a:srgbClr val="000000"/>
                </a:solidFill>
                <a:latin typeface="宋体"/>
              </a:rPr>
              <a:t>巾</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蝉　弹</a:t>
            </a:r>
            <a:r>
              <a:rPr b="1" lang="en-US" sz="2400" spc="-1" strike="noStrike">
                <a:solidFill>
                  <a:srgbClr val="000000"/>
                </a:solidFill>
                <a:latin typeface="宋体"/>
              </a:rPr>
              <a:t>)______</a:t>
            </a:r>
            <a:r>
              <a:rPr b="1" lang="zh-CN" sz="2400" spc="-1" strike="noStrike">
                <a:solidFill>
                  <a:srgbClr val="000000"/>
                </a:solidFill>
                <a:latin typeface="宋体"/>
              </a:rPr>
              <a:t>琴　</a:t>
            </a:r>
            <a:r>
              <a:rPr b="1" lang="en-US" sz="2400" spc="-1" strike="noStrike">
                <a:solidFill>
                  <a:srgbClr val="000000"/>
                </a:solidFill>
                <a:latin typeface="宋体"/>
              </a:rPr>
              <a:t>______</a:t>
            </a:r>
            <a:r>
              <a:rPr b="1" lang="zh-CN" sz="2400" spc="-1" strike="noStrike">
                <a:solidFill>
                  <a:srgbClr val="000000"/>
                </a:solidFill>
                <a:latin typeface="宋体"/>
              </a:rPr>
              <a:t>鸣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栏　拦</a:t>
            </a:r>
            <a:r>
              <a:rPr b="1" lang="en-US" sz="2400" spc="-1" strike="noStrike">
                <a:solidFill>
                  <a:srgbClr val="000000"/>
                </a:solidFill>
                <a:latin typeface="宋体"/>
              </a:rPr>
              <a:t>)</a:t>
            </a:r>
            <a:r>
              <a:rPr b="1" lang="zh-CN" sz="2400" spc="-1" strike="noStrike">
                <a:solidFill>
                  <a:srgbClr val="000000"/>
                </a:solidFill>
                <a:latin typeface="宋体"/>
              </a:rPr>
              <a:t>阻</a:t>
            </a:r>
            <a:r>
              <a:rPr b="1" lang="en-US" sz="2400" spc="-1" strike="noStrike">
                <a:solidFill>
                  <a:srgbClr val="000000"/>
                </a:solidFill>
                <a:latin typeface="宋体"/>
              </a:rPr>
              <a:t>______</a:t>
            </a:r>
            <a:r>
              <a:rPr b="1" lang="zh-CN" sz="2400" spc="-1" strike="noStrike">
                <a:solidFill>
                  <a:srgbClr val="000000"/>
                </a:solidFill>
                <a:latin typeface="宋体"/>
              </a:rPr>
              <a:t>　</a:t>
            </a:r>
            <a:r>
              <a:rPr b="1" lang="en-US" sz="2400" spc="-1" strike="noStrike">
                <a:solidFill>
                  <a:srgbClr val="000000"/>
                </a:solidFill>
                <a:latin typeface="宋体"/>
              </a:rPr>
              <a:t>______</a:t>
            </a:r>
            <a:r>
              <a:rPr b="1" lang="zh-CN" sz="2400" spc="-1" strike="noStrike">
                <a:solidFill>
                  <a:srgbClr val="000000"/>
                </a:solidFill>
                <a:latin typeface="宋体"/>
              </a:rPr>
              <a:t>杆</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萝　箩</a:t>
            </a:r>
            <a:r>
              <a:rPr b="1" lang="en-US" sz="2400" spc="-1" strike="noStrike">
                <a:solidFill>
                  <a:srgbClr val="000000"/>
                </a:solidFill>
                <a:latin typeface="宋体"/>
              </a:rPr>
              <a:t>)______</a:t>
            </a:r>
            <a:r>
              <a:rPr b="1" lang="zh-CN" sz="2400" spc="-1" strike="noStrike">
                <a:solidFill>
                  <a:srgbClr val="000000"/>
                </a:solidFill>
                <a:latin typeface="宋体"/>
              </a:rPr>
              <a:t>筐　</a:t>
            </a:r>
            <a:r>
              <a:rPr b="1" lang="en-US" sz="2400" spc="-1" strike="noStrike">
                <a:solidFill>
                  <a:srgbClr val="000000"/>
                </a:solidFill>
                <a:latin typeface="宋体"/>
              </a:rPr>
              <a:t>______</a:t>
            </a:r>
            <a:r>
              <a:rPr b="1" lang="zh-CN" sz="2400" spc="-1" strike="noStrike">
                <a:solidFill>
                  <a:srgbClr val="000000"/>
                </a:solidFill>
                <a:latin typeface="宋体"/>
              </a:rPr>
              <a:t>卜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r>
              <a:rPr b="1" lang="zh-CN" sz="2400" spc="-1" strike="noStrike">
                <a:solidFill>
                  <a:srgbClr val="000000"/>
                </a:solidFill>
                <a:latin typeface="宋体"/>
              </a:rPr>
              <a:t>饱　胞</a:t>
            </a:r>
            <a:r>
              <a:rPr b="1" lang="en-US" sz="2400" spc="-1" strike="noStrike">
                <a:solidFill>
                  <a:srgbClr val="000000"/>
                </a:solidFill>
                <a:latin typeface="宋体"/>
              </a:rPr>
              <a:t>)</a:t>
            </a:r>
            <a:r>
              <a:rPr b="1" lang="zh-CN" sz="2400" spc="-1" strike="noStrike">
                <a:solidFill>
                  <a:srgbClr val="000000"/>
                </a:solidFill>
                <a:latin typeface="宋体"/>
              </a:rPr>
              <a:t>同</a:t>
            </a:r>
            <a:r>
              <a:rPr b="1" lang="en-US" sz="2400" spc="-1" strike="noStrike">
                <a:solidFill>
                  <a:srgbClr val="000000"/>
                </a:solidFill>
                <a:latin typeface="宋体"/>
              </a:rPr>
              <a:t>______</a:t>
            </a:r>
            <a:r>
              <a:rPr b="1" lang="zh-CN" sz="2400" spc="-1" strike="noStrike">
                <a:solidFill>
                  <a:srgbClr val="000000"/>
                </a:solidFill>
                <a:latin typeface="宋体"/>
              </a:rPr>
              <a:t>　吃</a:t>
            </a:r>
            <a:r>
              <a:rPr b="1" lang="en-US" sz="2400" spc="-1" strike="noStrike">
                <a:solidFill>
                  <a:srgbClr val="000000"/>
                </a:solidFill>
                <a:latin typeface="宋体"/>
              </a:rPr>
              <a:t>______</a:t>
            </a:r>
            <a:endParaRPr b="0" lang="en-US" sz="2400" spc="-1" strike="noStrike">
              <a:solidFill>
                <a:srgbClr val="000000"/>
              </a:solidFill>
              <a:latin typeface="Calibri"/>
            </a:endParaRPr>
          </a:p>
        </p:txBody>
      </p:sp>
      <p:sp>
        <p:nvSpPr>
          <p:cNvPr id="320" name="矩形 24"/>
          <p:cNvSpPr/>
          <p:nvPr/>
        </p:nvSpPr>
        <p:spPr>
          <a:xfrm>
            <a:off x="3182760" y="19368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滋</a:t>
            </a:r>
            <a:endParaRPr b="0" lang="en-US" sz="2400" spc="-1" strike="noStrike">
              <a:solidFill>
                <a:srgbClr val="000000"/>
              </a:solidFill>
              <a:latin typeface="Calibri"/>
            </a:endParaRPr>
          </a:p>
        </p:txBody>
      </p:sp>
      <p:sp>
        <p:nvSpPr>
          <p:cNvPr id="321" name="矩形 25"/>
          <p:cNvSpPr/>
          <p:nvPr/>
        </p:nvSpPr>
        <p:spPr>
          <a:xfrm>
            <a:off x="4704480" y="19368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磁</a:t>
            </a:r>
            <a:endParaRPr b="0" lang="en-US" sz="2400" spc="-1" strike="noStrike">
              <a:solidFill>
                <a:srgbClr val="000000"/>
              </a:solidFill>
              <a:latin typeface="Calibri"/>
            </a:endParaRPr>
          </a:p>
        </p:txBody>
      </p:sp>
      <p:sp>
        <p:nvSpPr>
          <p:cNvPr id="322" name="矩形 26"/>
          <p:cNvSpPr/>
          <p:nvPr/>
        </p:nvSpPr>
        <p:spPr>
          <a:xfrm>
            <a:off x="3182760" y="24987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沙</a:t>
            </a:r>
            <a:endParaRPr b="0" lang="en-US" sz="2400" spc="-1" strike="noStrike">
              <a:solidFill>
                <a:srgbClr val="000000"/>
              </a:solidFill>
              <a:latin typeface="Calibri"/>
            </a:endParaRPr>
          </a:p>
        </p:txBody>
      </p:sp>
      <p:sp>
        <p:nvSpPr>
          <p:cNvPr id="323" name="矩形 27"/>
          <p:cNvSpPr/>
          <p:nvPr/>
        </p:nvSpPr>
        <p:spPr>
          <a:xfrm>
            <a:off x="4705200" y="24987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纱</a:t>
            </a:r>
            <a:endParaRPr b="0" lang="en-US" sz="2400" spc="-1" strike="noStrike">
              <a:solidFill>
                <a:srgbClr val="000000"/>
              </a:solidFill>
              <a:latin typeface="Calibri"/>
            </a:endParaRPr>
          </a:p>
        </p:txBody>
      </p:sp>
      <p:sp>
        <p:nvSpPr>
          <p:cNvPr id="324" name="矩形 28"/>
          <p:cNvSpPr/>
          <p:nvPr/>
        </p:nvSpPr>
        <p:spPr>
          <a:xfrm>
            <a:off x="3182760" y="30448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弹</a:t>
            </a:r>
            <a:endParaRPr b="0" lang="en-US" sz="2400" spc="-1" strike="noStrike">
              <a:solidFill>
                <a:srgbClr val="000000"/>
              </a:solidFill>
              <a:latin typeface="Calibri"/>
            </a:endParaRPr>
          </a:p>
        </p:txBody>
      </p:sp>
      <p:sp>
        <p:nvSpPr>
          <p:cNvPr id="325" name="矩形 29"/>
          <p:cNvSpPr/>
          <p:nvPr/>
        </p:nvSpPr>
        <p:spPr>
          <a:xfrm>
            <a:off x="4705200" y="30448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蝉</a:t>
            </a:r>
            <a:endParaRPr b="0" lang="en-US" sz="2400" spc="-1" strike="noStrike">
              <a:solidFill>
                <a:srgbClr val="000000"/>
              </a:solidFill>
              <a:latin typeface="Calibri"/>
            </a:endParaRPr>
          </a:p>
        </p:txBody>
      </p:sp>
      <p:sp>
        <p:nvSpPr>
          <p:cNvPr id="326" name="矩形 30"/>
          <p:cNvSpPr/>
          <p:nvPr/>
        </p:nvSpPr>
        <p:spPr>
          <a:xfrm>
            <a:off x="3429720" y="36068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拦</a:t>
            </a:r>
            <a:endParaRPr b="0" lang="en-US" sz="2400" spc="-1" strike="noStrike">
              <a:solidFill>
                <a:srgbClr val="000000"/>
              </a:solidFill>
              <a:latin typeface="Calibri"/>
            </a:endParaRPr>
          </a:p>
        </p:txBody>
      </p:sp>
      <p:sp>
        <p:nvSpPr>
          <p:cNvPr id="327" name="矩形 31"/>
          <p:cNvSpPr/>
          <p:nvPr/>
        </p:nvSpPr>
        <p:spPr>
          <a:xfrm>
            <a:off x="4704480" y="36068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栏</a:t>
            </a:r>
            <a:endParaRPr b="0" lang="en-US" sz="2400" spc="-1" strike="noStrike">
              <a:solidFill>
                <a:srgbClr val="000000"/>
              </a:solidFill>
              <a:latin typeface="Calibri"/>
            </a:endParaRPr>
          </a:p>
        </p:txBody>
      </p:sp>
      <p:sp>
        <p:nvSpPr>
          <p:cNvPr id="328" name="矩形 32"/>
          <p:cNvSpPr/>
          <p:nvPr/>
        </p:nvSpPr>
        <p:spPr>
          <a:xfrm>
            <a:off x="3182760" y="41274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箩</a:t>
            </a:r>
            <a:endParaRPr b="0" lang="en-US" sz="2400" spc="-1" strike="noStrike">
              <a:solidFill>
                <a:srgbClr val="000000"/>
              </a:solidFill>
              <a:latin typeface="Calibri"/>
            </a:endParaRPr>
          </a:p>
        </p:txBody>
      </p:sp>
      <p:sp>
        <p:nvSpPr>
          <p:cNvPr id="329" name="矩形 33"/>
          <p:cNvSpPr/>
          <p:nvPr/>
        </p:nvSpPr>
        <p:spPr>
          <a:xfrm>
            <a:off x="4705200" y="41274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萝</a:t>
            </a:r>
            <a:endParaRPr b="0" lang="en-US" sz="2400" spc="-1" strike="noStrike">
              <a:solidFill>
                <a:srgbClr val="000000"/>
              </a:solidFill>
              <a:latin typeface="Calibri"/>
            </a:endParaRPr>
          </a:p>
        </p:txBody>
      </p:sp>
      <p:sp>
        <p:nvSpPr>
          <p:cNvPr id="330" name="矩形 34"/>
          <p:cNvSpPr/>
          <p:nvPr/>
        </p:nvSpPr>
        <p:spPr>
          <a:xfrm>
            <a:off x="3429720" y="4680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胞</a:t>
            </a:r>
            <a:endParaRPr b="0" lang="en-US" sz="2400" spc="-1" strike="noStrike">
              <a:solidFill>
                <a:srgbClr val="000000"/>
              </a:solidFill>
              <a:latin typeface="Calibri"/>
            </a:endParaRPr>
          </a:p>
        </p:txBody>
      </p:sp>
      <p:sp>
        <p:nvSpPr>
          <p:cNvPr id="331" name="矩形 35"/>
          <p:cNvSpPr/>
          <p:nvPr/>
        </p:nvSpPr>
        <p:spPr>
          <a:xfrm>
            <a:off x="4951440" y="46944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nodeType="clickEffect" fill="hold">
                      <p:stCondLst>
                        <p:cond delay="indefinite"/>
                      </p:stCondLst>
                      <p:childTnLst>
                        <p:par>
                          <p:cTn id="902" nodeType="withEffect" fill="hold">
                            <p:stCondLst>
                              <p:cond delay="0"/>
                            </p:stCondLst>
                            <p:childTnLst>
                              <p:par>
                                <p:cTn id="903" nodeType="clickEffect" fill="hold" presetClass="entr" presetID="22" presetSubtype="8">
                                  <p:stCondLst>
                                    <p:cond delay="0"/>
                                  </p:stCondLst>
                                  <p:childTnLst>
                                    <p:set>
                                      <p:cBhvr>
                                        <p:cTn id="904" dur="1" fill="hold">
                                          <p:stCondLst>
                                            <p:cond delay="0"/>
                                          </p:stCondLst>
                                        </p:cTn>
                                        <p:tgtEl>
                                          <p:spTgt spid="320"/>
                                        </p:tgtEl>
                                        <p:attrNameLst>
                                          <p:attrName>style.visibility</p:attrName>
                                        </p:attrNameLst>
                                      </p:cBhvr>
                                      <p:to>
                                        <p:strVal val="visible"/>
                                      </p:to>
                                    </p:set>
                                    <p:animEffect filter="wipe(left)" transition="in">
                                      <p:cBhvr additive="repl">
                                        <p:cTn id="905" dur="500"/>
                                        <p:tgtEl>
                                          <p:spTgt spid="320"/>
                                        </p:tgtEl>
                                      </p:cBhvr>
                                    </p:animEffect>
                                  </p:childTnLst>
                                </p:cTn>
                              </p:par>
                            </p:childTnLst>
                          </p:cTn>
                        </p:par>
                      </p:childTnLst>
                    </p:cTn>
                  </p:par>
                  <p:par>
                    <p:cTn id="906" nodeType="clickEffect" fill="hold">
                      <p:stCondLst>
                        <p:cond delay="indefinite"/>
                      </p:stCondLst>
                      <p:childTnLst>
                        <p:par>
                          <p:cTn id="907" nodeType="withEffect" fill="hold">
                            <p:stCondLst>
                              <p:cond delay="0"/>
                            </p:stCondLst>
                            <p:childTnLst>
                              <p:par>
                                <p:cTn id="908" nodeType="clickEffect" fill="hold" presetClass="entr" presetID="22" presetSubtype="8">
                                  <p:stCondLst>
                                    <p:cond delay="0"/>
                                  </p:stCondLst>
                                  <p:childTnLst>
                                    <p:set>
                                      <p:cBhvr>
                                        <p:cTn id="909" dur="1" fill="hold">
                                          <p:stCondLst>
                                            <p:cond delay="0"/>
                                          </p:stCondLst>
                                        </p:cTn>
                                        <p:tgtEl>
                                          <p:spTgt spid="321"/>
                                        </p:tgtEl>
                                        <p:attrNameLst>
                                          <p:attrName>style.visibility</p:attrName>
                                        </p:attrNameLst>
                                      </p:cBhvr>
                                      <p:to>
                                        <p:strVal val="visible"/>
                                      </p:to>
                                    </p:set>
                                    <p:animEffect filter="wipe(left)" transition="in">
                                      <p:cBhvr additive="repl">
                                        <p:cTn id="910" dur="500"/>
                                        <p:tgtEl>
                                          <p:spTgt spid="321"/>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2" presetSubtype="8">
                                  <p:stCondLst>
                                    <p:cond delay="0"/>
                                  </p:stCondLst>
                                  <p:childTnLst>
                                    <p:set>
                                      <p:cBhvr>
                                        <p:cTn id="914" dur="1" fill="hold">
                                          <p:stCondLst>
                                            <p:cond delay="0"/>
                                          </p:stCondLst>
                                        </p:cTn>
                                        <p:tgtEl>
                                          <p:spTgt spid="322"/>
                                        </p:tgtEl>
                                        <p:attrNameLst>
                                          <p:attrName>style.visibility</p:attrName>
                                        </p:attrNameLst>
                                      </p:cBhvr>
                                      <p:to>
                                        <p:strVal val="visible"/>
                                      </p:to>
                                    </p:set>
                                    <p:animEffect filter="wipe(left)" transition="in">
                                      <p:cBhvr additive="repl">
                                        <p:cTn id="915" dur="500"/>
                                        <p:tgtEl>
                                          <p:spTgt spid="322"/>
                                        </p:tgtEl>
                                      </p:cBhvr>
                                    </p:animEffec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323"/>
                                        </p:tgtEl>
                                        <p:attrNameLst>
                                          <p:attrName>style.visibility</p:attrName>
                                        </p:attrNameLst>
                                      </p:cBhvr>
                                      <p:to>
                                        <p:strVal val="visible"/>
                                      </p:to>
                                    </p:set>
                                    <p:animEffect filter="wipe(left)" transition="in">
                                      <p:cBhvr additive="repl">
                                        <p:cTn id="920" dur="500"/>
                                        <p:tgtEl>
                                          <p:spTgt spid="323"/>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2" presetSubtype="8">
                                  <p:stCondLst>
                                    <p:cond delay="0"/>
                                  </p:stCondLst>
                                  <p:childTnLst>
                                    <p:set>
                                      <p:cBhvr>
                                        <p:cTn id="924" dur="1" fill="hold">
                                          <p:stCondLst>
                                            <p:cond delay="0"/>
                                          </p:stCondLst>
                                        </p:cTn>
                                        <p:tgtEl>
                                          <p:spTgt spid="324"/>
                                        </p:tgtEl>
                                        <p:attrNameLst>
                                          <p:attrName>style.visibility</p:attrName>
                                        </p:attrNameLst>
                                      </p:cBhvr>
                                      <p:to>
                                        <p:strVal val="visible"/>
                                      </p:to>
                                    </p:set>
                                    <p:animEffect filter="wipe(left)" transition="in">
                                      <p:cBhvr additive="repl">
                                        <p:cTn id="925" dur="500"/>
                                        <p:tgtEl>
                                          <p:spTgt spid="324"/>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2" presetSubtype="8">
                                  <p:stCondLst>
                                    <p:cond delay="0"/>
                                  </p:stCondLst>
                                  <p:childTnLst>
                                    <p:set>
                                      <p:cBhvr>
                                        <p:cTn id="929" dur="1" fill="hold">
                                          <p:stCondLst>
                                            <p:cond delay="0"/>
                                          </p:stCondLst>
                                        </p:cTn>
                                        <p:tgtEl>
                                          <p:spTgt spid="325"/>
                                        </p:tgtEl>
                                        <p:attrNameLst>
                                          <p:attrName>style.visibility</p:attrName>
                                        </p:attrNameLst>
                                      </p:cBhvr>
                                      <p:to>
                                        <p:strVal val="visible"/>
                                      </p:to>
                                    </p:set>
                                    <p:animEffect filter="wipe(left)" transition="in">
                                      <p:cBhvr additive="repl">
                                        <p:cTn id="930" dur="500"/>
                                        <p:tgtEl>
                                          <p:spTgt spid="325"/>
                                        </p:tgtEl>
                                      </p:cBhvr>
                                    </p:animEffec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22" presetSubtype="8">
                                  <p:stCondLst>
                                    <p:cond delay="0"/>
                                  </p:stCondLst>
                                  <p:childTnLst>
                                    <p:set>
                                      <p:cBhvr>
                                        <p:cTn id="934" dur="1" fill="hold">
                                          <p:stCondLst>
                                            <p:cond delay="0"/>
                                          </p:stCondLst>
                                        </p:cTn>
                                        <p:tgtEl>
                                          <p:spTgt spid="326"/>
                                        </p:tgtEl>
                                        <p:attrNameLst>
                                          <p:attrName>style.visibility</p:attrName>
                                        </p:attrNameLst>
                                      </p:cBhvr>
                                      <p:to>
                                        <p:strVal val="visible"/>
                                      </p:to>
                                    </p:set>
                                    <p:animEffect filter="wipe(left)" transition="in">
                                      <p:cBhvr additive="repl">
                                        <p:cTn id="935" dur="500"/>
                                        <p:tgtEl>
                                          <p:spTgt spid="326"/>
                                        </p:tgtEl>
                                      </p:cBhvr>
                                    </p:animEffect>
                                  </p:childTnLst>
                                </p:cTn>
                              </p:par>
                            </p:childTnLst>
                          </p:cTn>
                        </p:par>
                      </p:childTnLst>
                    </p:cTn>
                  </p:par>
                  <p:par>
                    <p:cTn id="936" nodeType="clickEffect" fill="hold">
                      <p:stCondLst>
                        <p:cond delay="indefinite"/>
                      </p:stCondLst>
                      <p:childTnLst>
                        <p:par>
                          <p:cTn id="937" nodeType="withEffect" fill="hold">
                            <p:stCondLst>
                              <p:cond delay="0"/>
                            </p:stCondLst>
                            <p:childTnLst>
                              <p:par>
                                <p:cTn id="938" nodeType="clickEffect" fill="hold" presetClass="entr" presetID="22" presetSubtype="8">
                                  <p:stCondLst>
                                    <p:cond delay="0"/>
                                  </p:stCondLst>
                                  <p:childTnLst>
                                    <p:set>
                                      <p:cBhvr>
                                        <p:cTn id="939" dur="1" fill="hold">
                                          <p:stCondLst>
                                            <p:cond delay="0"/>
                                          </p:stCondLst>
                                        </p:cTn>
                                        <p:tgtEl>
                                          <p:spTgt spid="327"/>
                                        </p:tgtEl>
                                        <p:attrNameLst>
                                          <p:attrName>style.visibility</p:attrName>
                                        </p:attrNameLst>
                                      </p:cBhvr>
                                      <p:to>
                                        <p:strVal val="visible"/>
                                      </p:to>
                                    </p:set>
                                    <p:animEffect filter="wipe(left)" transition="in">
                                      <p:cBhvr additive="repl">
                                        <p:cTn id="940" dur="500"/>
                                        <p:tgtEl>
                                          <p:spTgt spid="327"/>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22" presetSubtype="8">
                                  <p:stCondLst>
                                    <p:cond delay="0"/>
                                  </p:stCondLst>
                                  <p:childTnLst>
                                    <p:set>
                                      <p:cBhvr>
                                        <p:cTn id="944" dur="1" fill="hold">
                                          <p:stCondLst>
                                            <p:cond delay="0"/>
                                          </p:stCondLst>
                                        </p:cTn>
                                        <p:tgtEl>
                                          <p:spTgt spid="328"/>
                                        </p:tgtEl>
                                        <p:attrNameLst>
                                          <p:attrName>style.visibility</p:attrName>
                                        </p:attrNameLst>
                                      </p:cBhvr>
                                      <p:to>
                                        <p:strVal val="visible"/>
                                      </p:to>
                                    </p:set>
                                    <p:animEffect filter="wipe(left)" transition="in">
                                      <p:cBhvr additive="repl">
                                        <p:cTn id="945" dur="500"/>
                                        <p:tgtEl>
                                          <p:spTgt spid="328"/>
                                        </p:tgtEl>
                                      </p:cBhvr>
                                    </p:animEffec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329"/>
                                        </p:tgtEl>
                                        <p:attrNameLst>
                                          <p:attrName>style.visibility</p:attrName>
                                        </p:attrNameLst>
                                      </p:cBhvr>
                                      <p:to>
                                        <p:strVal val="visible"/>
                                      </p:to>
                                    </p:set>
                                    <p:animEffect filter="wipe(left)" transition="in">
                                      <p:cBhvr additive="repl">
                                        <p:cTn id="950" dur="500"/>
                                        <p:tgtEl>
                                          <p:spTgt spid="329"/>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330"/>
                                        </p:tgtEl>
                                        <p:attrNameLst>
                                          <p:attrName>style.visibility</p:attrName>
                                        </p:attrNameLst>
                                      </p:cBhvr>
                                      <p:to>
                                        <p:strVal val="visible"/>
                                      </p:to>
                                    </p:set>
                                    <p:animEffect filter="wipe(left)" transition="in">
                                      <p:cBhvr additive="repl">
                                        <p:cTn id="955" dur="500"/>
                                        <p:tgtEl>
                                          <p:spTgt spid="330"/>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31"/>
                                        </p:tgtEl>
                                        <p:attrNameLst>
                                          <p:attrName>style.visibility</p:attrName>
                                        </p:attrNameLst>
                                      </p:cBhvr>
                                      <p:to>
                                        <p:strVal val="visible"/>
                                      </p:to>
                                    </p:set>
                                    <p:animEffect filter="wipe(left)" transition="in">
                                      <p:cBhvr additive="repl">
                                        <p:cTn id="960"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矩形 1"/>
          <p:cNvSpPr/>
          <p:nvPr/>
        </p:nvSpPr>
        <p:spPr>
          <a:xfrm>
            <a:off x="803160" y="1455840"/>
            <a:ext cx="7777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000000"/>
                </a:solidFill>
                <a:latin typeface="宋体"/>
              </a:rPr>
              <a:t>．下列句子是比喻句的有</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a:t>
            </a:r>
            <a:r>
              <a:rPr b="1" lang="zh-CN" sz="2400" spc="-1" strike="noStrike">
                <a:solidFill>
                  <a:srgbClr val="000000"/>
                </a:solidFill>
                <a:latin typeface="宋体"/>
              </a:rPr>
              <a:t>．这虫子纤细而柔弱，透过薄壳还可以看见它红珠子似的小眼睛。</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B</a:t>
            </a:r>
            <a:r>
              <a:rPr b="1" lang="zh-CN" sz="2400" spc="-1" strike="noStrike">
                <a:solidFill>
                  <a:srgbClr val="000000"/>
                </a:solidFill>
                <a:latin typeface="宋体"/>
              </a:rPr>
              <a:t>．它们并排在一起，故意在人们面前骄傲地爬着。</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C</a:t>
            </a:r>
            <a:r>
              <a:rPr b="1" lang="zh-CN" sz="2400" spc="-1" strike="noStrike">
                <a:solidFill>
                  <a:srgbClr val="000000"/>
                </a:solidFill>
                <a:latin typeface="宋体"/>
              </a:rPr>
              <a:t>．小萝卜头看着小虫，若有所思。</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D</a:t>
            </a:r>
            <a:r>
              <a:rPr b="1" lang="zh-CN" sz="2400" spc="-1" strike="noStrike">
                <a:solidFill>
                  <a:srgbClr val="000000"/>
                </a:solidFill>
                <a:latin typeface="宋体"/>
              </a:rPr>
              <a:t>．虫子的头上，长着一块美丽的透明的薄壳，像小姑娘披上了薄薄的蝉翼般的纱巾。</a:t>
            </a:r>
            <a:endParaRPr b="0" lang="en-US" sz="2400" spc="-1" strike="noStrike">
              <a:solidFill>
                <a:srgbClr val="000000"/>
              </a:solidFill>
              <a:latin typeface="Calibri"/>
            </a:endParaRPr>
          </a:p>
        </p:txBody>
      </p:sp>
      <p:sp>
        <p:nvSpPr>
          <p:cNvPr id="333" name="矩形 2"/>
          <p:cNvSpPr/>
          <p:nvPr/>
        </p:nvSpPr>
        <p:spPr>
          <a:xfrm>
            <a:off x="4602240" y="1598760"/>
            <a:ext cx="90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a:t>
            </a:r>
            <a:r>
              <a:rPr b="1" lang="zh-CN" sz="2400" spc="-1" strike="noStrike">
                <a:solidFill>
                  <a:srgbClr val="ff0000"/>
                </a:solidFill>
                <a:latin typeface="宋体"/>
              </a:rPr>
              <a:t>、</a:t>
            </a:r>
            <a:r>
              <a:rPr b="1" lang="en-US" sz="2400" spc="-1" strike="noStrike">
                <a:solidFill>
                  <a:srgbClr val="ff0000"/>
                </a:solidFill>
                <a:latin typeface="宋体"/>
              </a:rPr>
              <a:t>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22" presetSubtype="8">
                                  <p:stCondLst>
                                    <p:cond delay="0"/>
                                  </p:stCondLst>
                                  <p:childTnLst>
                                    <p:set>
                                      <p:cBhvr>
                                        <p:cTn id="966" dur="1" fill="hold">
                                          <p:stCondLst>
                                            <p:cond delay="0"/>
                                          </p:stCondLst>
                                        </p:cTn>
                                        <p:tgtEl>
                                          <p:spTgt spid="333"/>
                                        </p:tgtEl>
                                        <p:attrNameLst>
                                          <p:attrName>style.visibility</p:attrName>
                                        </p:attrNameLst>
                                      </p:cBhvr>
                                      <p:to>
                                        <p:strVal val="visible"/>
                                      </p:to>
                                    </p:set>
                                    <p:animEffect filter="wipe(left)" transition="in">
                                      <p:cBhvr additive="repl">
                                        <p:cTn id="967"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矩形 1"/>
          <p:cNvSpPr/>
          <p:nvPr/>
        </p:nvSpPr>
        <p:spPr>
          <a:xfrm>
            <a:off x="669960" y="1184400"/>
            <a:ext cx="7812000" cy="448308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5</a:t>
            </a:r>
            <a:r>
              <a:rPr b="1" lang="zh-CN" sz="2400" spc="-1" strike="noStrike">
                <a:solidFill>
                  <a:srgbClr val="000000"/>
                </a:solidFill>
                <a:latin typeface="宋体"/>
              </a:rPr>
              <a:t>．改写句子。</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一只小虫越过栏杆。</a:t>
            </a:r>
            <a:r>
              <a:rPr b="1" lang="en-US" sz="2400" spc="-1" strike="noStrike">
                <a:solidFill>
                  <a:srgbClr val="000000"/>
                </a:solidFill>
                <a:latin typeface="宋体"/>
              </a:rPr>
              <a:t>(</a:t>
            </a:r>
            <a:r>
              <a:rPr b="1" lang="zh-CN" sz="2400" spc="-1" strike="noStrike">
                <a:solidFill>
                  <a:srgbClr val="000000"/>
                </a:solidFill>
                <a:latin typeface="仿宋"/>
                <a:ea typeface="仿宋"/>
              </a:rPr>
              <a:t>扩写句子</a:t>
            </a:r>
            <a:r>
              <a:rPr b="1" lang="en-US" sz="2400" spc="-1" strike="noStrike">
                <a:solidFill>
                  <a:srgbClr val="000000"/>
                </a:solidFill>
                <a:latin typeface="宋体"/>
              </a:rPr>
              <a:t>)</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小萝卜头对特务说：“磁器口我去耍过一回。”</a:t>
            </a:r>
            <a:r>
              <a:rPr b="1" lang="en-US" sz="2400" spc="-1" strike="noStrike">
                <a:solidFill>
                  <a:srgbClr val="000000"/>
                </a:solidFill>
                <a:latin typeface="宋体"/>
              </a:rPr>
              <a:t>(</a:t>
            </a:r>
            <a:r>
              <a:rPr b="1" lang="zh-CN" sz="2400" spc="-1" strike="noStrike">
                <a:solidFill>
                  <a:srgbClr val="000000"/>
                </a:solidFill>
                <a:latin typeface="仿宋"/>
                <a:ea typeface="仿宋"/>
              </a:rPr>
              <a:t>改成第三人称转述句</a:t>
            </a:r>
            <a:r>
              <a:rPr b="1" lang="en-US" sz="2400" spc="-1" strike="noStrike">
                <a:solidFill>
                  <a:srgbClr val="000000"/>
                </a:solidFill>
                <a:latin typeface="宋体"/>
              </a:rPr>
              <a:t>)</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小鸟叽叽喳喳地叫着。</a:t>
            </a:r>
            <a:r>
              <a:rPr b="1" lang="en-US" sz="2400" spc="-1" strike="noStrike">
                <a:solidFill>
                  <a:srgbClr val="000000"/>
                </a:solidFill>
                <a:latin typeface="宋体"/>
              </a:rPr>
              <a:t>(</a:t>
            </a:r>
            <a:r>
              <a:rPr b="1" lang="zh-CN" sz="2400" spc="-1" strike="noStrike">
                <a:solidFill>
                  <a:srgbClr val="000000"/>
                </a:solidFill>
                <a:latin typeface="仿宋"/>
                <a:ea typeface="仿宋"/>
              </a:rPr>
              <a:t>改写成拟人句</a:t>
            </a:r>
            <a:r>
              <a:rPr b="1" lang="en-US" sz="2400" spc="-1" strike="noStrike">
                <a:solidFill>
                  <a:srgbClr val="000000"/>
                </a:solidFill>
                <a:latin typeface="宋体"/>
              </a:rPr>
              <a:t>)</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endParaRPr b="0" lang="en-US" sz="2400" spc="-1" strike="noStrike">
              <a:solidFill>
                <a:srgbClr val="000000"/>
              </a:solidFill>
              <a:latin typeface="Calibri"/>
            </a:endParaRPr>
          </a:p>
        </p:txBody>
      </p:sp>
      <p:sp>
        <p:nvSpPr>
          <p:cNvPr id="335" name="矩形 3"/>
          <p:cNvSpPr/>
          <p:nvPr/>
        </p:nvSpPr>
        <p:spPr>
          <a:xfrm>
            <a:off x="723960" y="2284560"/>
            <a:ext cx="6148440" cy="642600"/>
          </a:xfrm>
          <a:prstGeom prst="rect">
            <a:avLst/>
          </a:prstGeom>
          <a:noFill/>
          <a:ln w="0">
            <a:noFill/>
          </a:ln>
        </p:spPr>
        <p:style>
          <a:lnRef idx="0"/>
          <a:fillRef idx="0"/>
          <a:effectRef idx="0"/>
          <a:fontRef idx="minor"/>
        </p:style>
        <p:txBody>
          <a:bodyPr lIns="90000" rIns="90000" tIns="46800" bIns="46800" anchor="t">
            <a:spAutoFit/>
          </a:bodyPr>
          <a:p>
            <a:pPr marL="450720" indent="-9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一只美丽的小虫慢慢地越过高高的栏杆。</a:t>
            </a:r>
            <a:endParaRPr b="0" lang="en-US" sz="2400" spc="-1" strike="noStrike">
              <a:solidFill>
                <a:srgbClr val="000000"/>
              </a:solidFill>
              <a:latin typeface="Calibri"/>
            </a:endParaRPr>
          </a:p>
        </p:txBody>
      </p:sp>
      <p:sp>
        <p:nvSpPr>
          <p:cNvPr id="336" name="矩形 4"/>
          <p:cNvSpPr/>
          <p:nvPr/>
        </p:nvSpPr>
        <p:spPr>
          <a:xfrm>
            <a:off x="1135080" y="3894120"/>
            <a:ext cx="6512040" cy="642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小萝卜头对特务说，磁器口他去耍过一回。</a:t>
            </a:r>
            <a:endParaRPr b="0" lang="en-US" sz="2400" spc="-1" strike="noStrike">
              <a:solidFill>
                <a:srgbClr val="000000"/>
              </a:solidFill>
              <a:latin typeface="Calibri"/>
            </a:endParaRPr>
          </a:p>
        </p:txBody>
      </p:sp>
      <p:sp>
        <p:nvSpPr>
          <p:cNvPr id="337" name="矩形 9"/>
          <p:cNvSpPr/>
          <p:nvPr/>
        </p:nvSpPr>
        <p:spPr>
          <a:xfrm>
            <a:off x="763560" y="5030640"/>
            <a:ext cx="4627440" cy="642600"/>
          </a:xfrm>
          <a:prstGeom prst="rect">
            <a:avLst/>
          </a:prstGeom>
          <a:noFill/>
          <a:ln w="0">
            <a:noFill/>
          </a:ln>
        </p:spPr>
        <p:style>
          <a:lnRef idx="0"/>
          <a:fillRef idx="0"/>
          <a:effectRef idx="0"/>
          <a:fontRef idx="minor"/>
        </p:style>
        <p:txBody>
          <a:bodyPr lIns="90000" rIns="90000" tIns="46800" bIns="46800" anchor="t">
            <a:spAutoFit/>
          </a:bodyPr>
          <a:p>
            <a:pPr marL="450720" indent="-936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小鸟唱着婉转的歌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nodeType="clickEffect" fill="hold">
                      <p:stCondLst>
                        <p:cond delay="indefinite"/>
                      </p:stCondLst>
                      <p:childTnLst>
                        <p:par>
                          <p:cTn id="971" nodeType="withEffect" fill="hold">
                            <p:stCondLst>
                              <p:cond delay="0"/>
                            </p:stCondLst>
                            <p:childTnLst>
                              <p:par>
                                <p:cTn id="972" nodeType="clickEffect" fill="hold" presetClass="entr" presetID="22" presetSubtype="8">
                                  <p:stCondLst>
                                    <p:cond delay="0"/>
                                  </p:stCondLst>
                                  <p:childTnLst>
                                    <p:set>
                                      <p:cBhvr>
                                        <p:cTn id="973" dur="1" fill="hold">
                                          <p:stCondLst>
                                            <p:cond delay="0"/>
                                          </p:stCondLst>
                                        </p:cTn>
                                        <p:tgtEl>
                                          <p:spTgt spid="335"/>
                                        </p:tgtEl>
                                        <p:attrNameLst>
                                          <p:attrName>style.visibility</p:attrName>
                                        </p:attrNameLst>
                                      </p:cBhvr>
                                      <p:to>
                                        <p:strVal val="visible"/>
                                      </p:to>
                                    </p:set>
                                    <p:animEffect filter="wipe(left)" transition="in">
                                      <p:cBhvr additive="repl">
                                        <p:cTn id="974" dur="500"/>
                                        <p:tgtEl>
                                          <p:spTgt spid="335"/>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2" presetSubtype="8">
                                  <p:stCondLst>
                                    <p:cond delay="0"/>
                                  </p:stCondLst>
                                  <p:childTnLst>
                                    <p:set>
                                      <p:cBhvr>
                                        <p:cTn id="978" dur="1" fill="hold">
                                          <p:stCondLst>
                                            <p:cond delay="0"/>
                                          </p:stCondLst>
                                        </p:cTn>
                                        <p:tgtEl>
                                          <p:spTgt spid="336"/>
                                        </p:tgtEl>
                                        <p:attrNameLst>
                                          <p:attrName>style.visibility</p:attrName>
                                        </p:attrNameLst>
                                      </p:cBhvr>
                                      <p:to>
                                        <p:strVal val="visible"/>
                                      </p:to>
                                    </p:set>
                                    <p:animEffect filter="wipe(left)" transition="in">
                                      <p:cBhvr additive="repl">
                                        <p:cTn id="979" dur="500"/>
                                        <p:tgtEl>
                                          <p:spTgt spid="336"/>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22" presetSubtype="8">
                                  <p:stCondLst>
                                    <p:cond delay="0"/>
                                  </p:stCondLst>
                                  <p:childTnLst>
                                    <p:set>
                                      <p:cBhvr>
                                        <p:cTn id="983" dur="1" fill="hold">
                                          <p:stCondLst>
                                            <p:cond delay="0"/>
                                          </p:stCondLst>
                                        </p:cTn>
                                        <p:tgtEl>
                                          <p:spTgt spid="337"/>
                                        </p:tgtEl>
                                        <p:attrNameLst>
                                          <p:attrName>style.visibility</p:attrName>
                                        </p:attrNameLst>
                                      </p:cBhvr>
                                      <p:to>
                                        <p:strVal val="visible"/>
                                      </p:to>
                                    </p:set>
                                    <p:animEffect filter="wipe(left)" transition="in">
                                      <p:cBhvr additive="repl">
                                        <p:cTn id="984"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踮</a:t>
            </a:r>
            <a:endParaRPr b="0" lang="en-US" sz="8000" spc="-1" strike="noStrike">
              <a:solidFill>
                <a:srgbClr val="000000"/>
              </a:solidFill>
              <a:latin typeface="Calibri"/>
            </a:endParaRPr>
          </a:p>
        </p:txBody>
      </p:sp>
      <p:graphicFrame>
        <p:nvGraphicFramePr>
          <p:cNvPr id="72"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3" name="图片 10" descr=""/>
          <p:cNvPicPr/>
          <p:nvPr/>
        </p:nvPicPr>
        <p:blipFill>
          <a:blip r:embed="rId1"/>
          <a:stretch/>
        </p:blipFill>
        <p:spPr>
          <a:xfrm>
            <a:off x="3284640" y="322200"/>
            <a:ext cx="2585880" cy="601560"/>
          </a:xfrm>
          <a:prstGeom prst="rect">
            <a:avLst/>
          </a:prstGeom>
          <a:ln w="0">
            <a:noFill/>
          </a:ln>
          <a:effectLst>
            <a:outerShdw dist="153753" dir="2700000" blurRad="0" rotWithShape="0">
              <a:srgbClr val="000000">
                <a:alpha val="40000"/>
              </a:srgbClr>
            </a:outerShdw>
          </a:effectLst>
        </p:spPr>
      </p:pic>
      <p:grpSp>
        <p:nvGrpSpPr>
          <p:cNvPr id="74" name="组合 2"/>
          <p:cNvGrpSpPr/>
          <p:nvPr/>
        </p:nvGrpSpPr>
        <p:grpSpPr>
          <a:xfrm>
            <a:off x="730080" y="1200240"/>
            <a:ext cx="2905200" cy="666720"/>
            <a:chOff x="730080" y="1200240"/>
            <a:chExt cx="2905200" cy="666720"/>
          </a:xfrm>
        </p:grpSpPr>
        <p:sp>
          <p:nvSpPr>
            <p:cNvPr id="75" name="圆角矩形 17"/>
            <p:cNvSpPr/>
            <p:nvPr/>
          </p:nvSpPr>
          <p:spPr>
            <a:xfrm>
              <a:off x="1545840" y="133812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6" name="图片 9" descr="book.gif"/>
            <p:cNvPicPr/>
            <p:nvPr/>
          </p:nvPicPr>
          <p:blipFill>
            <a:blip r:embed="rId2"/>
            <a:stretch/>
          </p:blipFill>
          <p:spPr>
            <a:xfrm>
              <a:off x="730080" y="1200240"/>
              <a:ext cx="1087200" cy="666720"/>
            </a:xfrm>
            <a:prstGeom prst="rect">
              <a:avLst/>
            </a:prstGeom>
            <a:ln w="0">
              <a:noFill/>
            </a:ln>
          </p:spPr>
        </p:pic>
        <p:sp>
          <p:nvSpPr>
            <p:cNvPr id="77" name="文本框 16"/>
            <p:cNvSpPr/>
            <p:nvPr/>
          </p:nvSpPr>
          <p:spPr>
            <a:xfrm>
              <a:off x="1805400" y="13572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我会写</a:t>
              </a:r>
              <a:endParaRPr b="0" lang="en-US" sz="2400" spc="-1" strike="noStrike">
                <a:solidFill>
                  <a:srgbClr val="000000"/>
                </a:solidFill>
                <a:latin typeface="Calibri"/>
              </a:endParaRPr>
            </a:p>
          </p:txBody>
        </p:sp>
      </p:grpSp>
      <p:grpSp>
        <p:nvGrpSpPr>
          <p:cNvPr id="78" name="组合 8"/>
          <p:cNvGrpSpPr/>
          <p:nvPr/>
        </p:nvGrpSpPr>
        <p:grpSpPr>
          <a:xfrm>
            <a:off x="1400040" y="3975120"/>
            <a:ext cx="2840040" cy="1572480"/>
            <a:chOff x="1400040" y="3975120"/>
            <a:chExt cx="2840040" cy="1572480"/>
          </a:xfrm>
        </p:grpSpPr>
        <p:pic>
          <p:nvPicPr>
            <p:cNvPr id="79" name="图示 4" descr=""/>
            <p:cNvPicPr/>
            <p:nvPr/>
          </p:nvPicPr>
          <p:blipFill>
            <a:blip r:embed="rId3"/>
            <a:stretch/>
          </p:blipFill>
          <p:spPr>
            <a:xfrm>
              <a:off x="1400040" y="3975120"/>
              <a:ext cx="2840040" cy="1572480"/>
            </a:xfrm>
            <a:prstGeom prst="rect">
              <a:avLst/>
            </a:prstGeom>
            <a:ln w="0">
              <a:noFill/>
            </a:ln>
          </p:spPr>
        </p:pic>
        <p:sp>
          <p:nvSpPr>
            <p:cNvPr id="80" name="矩形 2"/>
            <p:cNvSpPr/>
            <p:nvPr/>
          </p:nvSpPr>
          <p:spPr>
            <a:xfrm>
              <a:off x="1444680" y="458820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部窄而偏上，右部的撇稍舒展。</a:t>
              </a:r>
              <a:endParaRPr b="0" lang="en-US" sz="2000" spc="-1" strike="noStrike">
                <a:solidFill>
                  <a:srgbClr val="000000"/>
                </a:solidFill>
                <a:latin typeface="Calibri"/>
              </a:endParaRPr>
            </a:p>
          </p:txBody>
        </p:sp>
      </p:grpSp>
      <p:sp>
        <p:nvSpPr>
          <p:cNvPr id="81" name="矩形 3"/>
          <p:cNvSpPr/>
          <p:nvPr/>
        </p:nvSpPr>
        <p:spPr>
          <a:xfrm>
            <a:off x="1887480" y="1868400"/>
            <a:ext cx="1612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diǎn</a:t>
            </a:r>
            <a:endParaRPr b="0" lang="en-US" sz="4800" spc="-1" strike="noStrike">
              <a:solidFill>
                <a:srgbClr val="000000"/>
              </a:solidFill>
              <a:latin typeface="Calibri"/>
            </a:endParaRPr>
          </a:p>
        </p:txBody>
      </p:sp>
      <p:graphicFrame>
        <p:nvGraphicFramePr>
          <p:cNvPr id="82"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Freeform 187"/>
          <p:cNvSpPr/>
          <p:nvPr/>
        </p:nvSpPr>
        <p:spPr>
          <a:xfrm>
            <a:off x="6800760" y="4629240"/>
            <a:ext cx="736560" cy="164880"/>
          </a:xfrm>
          <a:custGeom>
            <a:avLst/>
            <a:gdLst/>
            <a:ahLst/>
            <a:rect l="l" t="t" r="r" b="b"/>
            <a:pathLst>
              <a:path w="927" h="210">
                <a:moveTo>
                  <a:pt x="875" y="39"/>
                </a:moveTo>
                <a:lnTo>
                  <a:pt x="881" y="45"/>
                </a:lnTo>
                <a:lnTo>
                  <a:pt x="888" y="48"/>
                </a:lnTo>
                <a:lnTo>
                  <a:pt x="894" y="54"/>
                </a:lnTo>
                <a:lnTo>
                  <a:pt x="898" y="60"/>
                </a:lnTo>
                <a:lnTo>
                  <a:pt x="904" y="64"/>
                </a:lnTo>
                <a:lnTo>
                  <a:pt x="908" y="68"/>
                </a:lnTo>
                <a:lnTo>
                  <a:pt x="911" y="73"/>
                </a:lnTo>
                <a:lnTo>
                  <a:pt x="915" y="77"/>
                </a:lnTo>
                <a:lnTo>
                  <a:pt x="921" y="85"/>
                </a:lnTo>
                <a:lnTo>
                  <a:pt x="925" y="93"/>
                </a:lnTo>
                <a:lnTo>
                  <a:pt x="927" y="100"/>
                </a:lnTo>
                <a:lnTo>
                  <a:pt x="927" y="106"/>
                </a:lnTo>
                <a:lnTo>
                  <a:pt x="927" y="108"/>
                </a:lnTo>
                <a:lnTo>
                  <a:pt x="925" y="110"/>
                </a:lnTo>
                <a:lnTo>
                  <a:pt x="923" y="112"/>
                </a:lnTo>
                <a:lnTo>
                  <a:pt x="921" y="116"/>
                </a:lnTo>
                <a:lnTo>
                  <a:pt x="919" y="118"/>
                </a:lnTo>
                <a:lnTo>
                  <a:pt x="915" y="119"/>
                </a:lnTo>
                <a:lnTo>
                  <a:pt x="909" y="121"/>
                </a:lnTo>
                <a:lnTo>
                  <a:pt x="904" y="125"/>
                </a:lnTo>
                <a:lnTo>
                  <a:pt x="898" y="127"/>
                </a:lnTo>
                <a:lnTo>
                  <a:pt x="892" y="129"/>
                </a:lnTo>
                <a:lnTo>
                  <a:pt x="885" y="131"/>
                </a:lnTo>
                <a:lnTo>
                  <a:pt x="877" y="135"/>
                </a:lnTo>
                <a:lnTo>
                  <a:pt x="869" y="137"/>
                </a:lnTo>
                <a:lnTo>
                  <a:pt x="860" y="139"/>
                </a:lnTo>
                <a:lnTo>
                  <a:pt x="850" y="141"/>
                </a:lnTo>
                <a:lnTo>
                  <a:pt x="838" y="142"/>
                </a:lnTo>
                <a:lnTo>
                  <a:pt x="829" y="144"/>
                </a:lnTo>
                <a:lnTo>
                  <a:pt x="815" y="146"/>
                </a:lnTo>
                <a:lnTo>
                  <a:pt x="804" y="148"/>
                </a:lnTo>
                <a:lnTo>
                  <a:pt x="790" y="150"/>
                </a:lnTo>
                <a:lnTo>
                  <a:pt x="777" y="154"/>
                </a:lnTo>
                <a:lnTo>
                  <a:pt x="762" y="154"/>
                </a:lnTo>
                <a:lnTo>
                  <a:pt x="746" y="156"/>
                </a:lnTo>
                <a:lnTo>
                  <a:pt x="731" y="158"/>
                </a:lnTo>
                <a:lnTo>
                  <a:pt x="716" y="160"/>
                </a:lnTo>
                <a:lnTo>
                  <a:pt x="698" y="162"/>
                </a:lnTo>
                <a:lnTo>
                  <a:pt x="681" y="164"/>
                </a:lnTo>
                <a:lnTo>
                  <a:pt x="662" y="165"/>
                </a:lnTo>
                <a:lnTo>
                  <a:pt x="643" y="167"/>
                </a:lnTo>
                <a:lnTo>
                  <a:pt x="623" y="167"/>
                </a:lnTo>
                <a:lnTo>
                  <a:pt x="602" y="169"/>
                </a:lnTo>
                <a:lnTo>
                  <a:pt x="583" y="171"/>
                </a:lnTo>
                <a:lnTo>
                  <a:pt x="537" y="175"/>
                </a:lnTo>
                <a:lnTo>
                  <a:pt x="495" y="181"/>
                </a:lnTo>
                <a:lnTo>
                  <a:pt x="453" y="185"/>
                </a:lnTo>
                <a:lnTo>
                  <a:pt x="410" y="189"/>
                </a:lnTo>
                <a:lnTo>
                  <a:pt x="370" y="192"/>
                </a:lnTo>
                <a:lnTo>
                  <a:pt x="332" y="194"/>
                </a:lnTo>
                <a:lnTo>
                  <a:pt x="293" y="198"/>
                </a:lnTo>
                <a:lnTo>
                  <a:pt x="257" y="200"/>
                </a:lnTo>
                <a:lnTo>
                  <a:pt x="220" y="202"/>
                </a:lnTo>
                <a:lnTo>
                  <a:pt x="186" y="204"/>
                </a:lnTo>
                <a:lnTo>
                  <a:pt x="151" y="206"/>
                </a:lnTo>
                <a:lnTo>
                  <a:pt x="119" y="208"/>
                </a:lnTo>
                <a:lnTo>
                  <a:pt x="86" y="210"/>
                </a:lnTo>
                <a:lnTo>
                  <a:pt x="57" y="210"/>
                </a:lnTo>
                <a:lnTo>
                  <a:pt x="27" y="210"/>
                </a:lnTo>
                <a:lnTo>
                  <a:pt x="0" y="210"/>
                </a:lnTo>
                <a:lnTo>
                  <a:pt x="0" y="106"/>
                </a:lnTo>
                <a:lnTo>
                  <a:pt x="13" y="104"/>
                </a:lnTo>
                <a:lnTo>
                  <a:pt x="27" y="104"/>
                </a:lnTo>
                <a:lnTo>
                  <a:pt x="42" y="104"/>
                </a:lnTo>
                <a:lnTo>
                  <a:pt x="59" y="102"/>
                </a:lnTo>
                <a:lnTo>
                  <a:pt x="76" y="100"/>
                </a:lnTo>
                <a:lnTo>
                  <a:pt x="96" y="98"/>
                </a:lnTo>
                <a:lnTo>
                  <a:pt x="117" y="96"/>
                </a:lnTo>
                <a:lnTo>
                  <a:pt x="138" y="94"/>
                </a:lnTo>
                <a:lnTo>
                  <a:pt x="161" y="91"/>
                </a:lnTo>
                <a:lnTo>
                  <a:pt x="186" y="87"/>
                </a:lnTo>
                <a:lnTo>
                  <a:pt x="211" y="83"/>
                </a:lnTo>
                <a:lnTo>
                  <a:pt x="238" y="77"/>
                </a:lnTo>
                <a:lnTo>
                  <a:pt x="266" y="71"/>
                </a:lnTo>
                <a:lnTo>
                  <a:pt x="295" y="66"/>
                </a:lnTo>
                <a:lnTo>
                  <a:pt x="326" y="60"/>
                </a:lnTo>
                <a:lnTo>
                  <a:pt x="357" y="52"/>
                </a:lnTo>
                <a:lnTo>
                  <a:pt x="389" y="46"/>
                </a:lnTo>
                <a:lnTo>
                  <a:pt x="420" y="39"/>
                </a:lnTo>
                <a:lnTo>
                  <a:pt x="449" y="33"/>
                </a:lnTo>
                <a:lnTo>
                  <a:pt x="476" y="27"/>
                </a:lnTo>
                <a:lnTo>
                  <a:pt x="503" y="23"/>
                </a:lnTo>
                <a:lnTo>
                  <a:pt x="529" y="18"/>
                </a:lnTo>
                <a:lnTo>
                  <a:pt x="554" y="14"/>
                </a:lnTo>
                <a:lnTo>
                  <a:pt x="577" y="12"/>
                </a:lnTo>
                <a:lnTo>
                  <a:pt x="600" y="8"/>
                </a:lnTo>
                <a:lnTo>
                  <a:pt x="622" y="6"/>
                </a:lnTo>
                <a:lnTo>
                  <a:pt x="641" y="4"/>
                </a:lnTo>
                <a:lnTo>
                  <a:pt x="660" y="2"/>
                </a:lnTo>
                <a:lnTo>
                  <a:pt x="679" y="2"/>
                </a:lnTo>
                <a:lnTo>
                  <a:pt x="696" y="0"/>
                </a:lnTo>
                <a:lnTo>
                  <a:pt x="712" y="0"/>
                </a:lnTo>
                <a:lnTo>
                  <a:pt x="729" y="0"/>
                </a:lnTo>
                <a:lnTo>
                  <a:pt x="752" y="0"/>
                </a:lnTo>
                <a:lnTo>
                  <a:pt x="775" y="2"/>
                </a:lnTo>
                <a:lnTo>
                  <a:pt x="796" y="6"/>
                </a:lnTo>
                <a:lnTo>
                  <a:pt x="815" y="10"/>
                </a:lnTo>
                <a:lnTo>
                  <a:pt x="825" y="12"/>
                </a:lnTo>
                <a:lnTo>
                  <a:pt x="835" y="16"/>
                </a:lnTo>
                <a:lnTo>
                  <a:pt x="842" y="18"/>
                </a:lnTo>
                <a:lnTo>
                  <a:pt x="850" y="22"/>
                </a:lnTo>
                <a:lnTo>
                  <a:pt x="856" y="25"/>
                </a:lnTo>
                <a:lnTo>
                  <a:pt x="863" y="29"/>
                </a:lnTo>
                <a:lnTo>
                  <a:pt x="869" y="35"/>
                </a:lnTo>
                <a:lnTo>
                  <a:pt x="875" y="3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Freeform 188"/>
          <p:cNvSpPr/>
          <p:nvPr/>
        </p:nvSpPr>
        <p:spPr>
          <a:xfrm>
            <a:off x="6748560" y="4129200"/>
            <a:ext cx="915840" cy="550800"/>
          </a:xfrm>
          <a:custGeom>
            <a:avLst/>
            <a:gdLst/>
            <a:ahLst/>
            <a:rect l="l" t="t" r="r" b="b"/>
            <a:pathLst>
              <a:path w="1154" h="695">
                <a:moveTo>
                  <a:pt x="1089" y="288"/>
                </a:moveTo>
                <a:lnTo>
                  <a:pt x="1085" y="290"/>
                </a:lnTo>
                <a:lnTo>
                  <a:pt x="1079" y="292"/>
                </a:lnTo>
                <a:lnTo>
                  <a:pt x="1075" y="295"/>
                </a:lnTo>
                <a:lnTo>
                  <a:pt x="1072" y="299"/>
                </a:lnTo>
                <a:lnTo>
                  <a:pt x="1068" y="303"/>
                </a:lnTo>
                <a:lnTo>
                  <a:pt x="1062" y="309"/>
                </a:lnTo>
                <a:lnTo>
                  <a:pt x="1058" y="315"/>
                </a:lnTo>
                <a:lnTo>
                  <a:pt x="1052" y="322"/>
                </a:lnTo>
                <a:lnTo>
                  <a:pt x="1048" y="330"/>
                </a:lnTo>
                <a:lnTo>
                  <a:pt x="1043" y="338"/>
                </a:lnTo>
                <a:lnTo>
                  <a:pt x="1039" y="347"/>
                </a:lnTo>
                <a:lnTo>
                  <a:pt x="1033" y="357"/>
                </a:lnTo>
                <a:lnTo>
                  <a:pt x="1027" y="366"/>
                </a:lnTo>
                <a:lnTo>
                  <a:pt x="1022" y="378"/>
                </a:lnTo>
                <a:lnTo>
                  <a:pt x="1016" y="389"/>
                </a:lnTo>
                <a:lnTo>
                  <a:pt x="1012" y="403"/>
                </a:lnTo>
                <a:lnTo>
                  <a:pt x="1006" y="416"/>
                </a:lnTo>
                <a:lnTo>
                  <a:pt x="1000" y="430"/>
                </a:lnTo>
                <a:lnTo>
                  <a:pt x="995" y="445"/>
                </a:lnTo>
                <a:lnTo>
                  <a:pt x="989" y="461"/>
                </a:lnTo>
                <a:lnTo>
                  <a:pt x="981" y="476"/>
                </a:lnTo>
                <a:lnTo>
                  <a:pt x="976" y="493"/>
                </a:lnTo>
                <a:lnTo>
                  <a:pt x="970" y="510"/>
                </a:lnTo>
                <a:lnTo>
                  <a:pt x="964" y="528"/>
                </a:lnTo>
                <a:lnTo>
                  <a:pt x="958" y="547"/>
                </a:lnTo>
                <a:lnTo>
                  <a:pt x="953" y="566"/>
                </a:lnTo>
                <a:lnTo>
                  <a:pt x="947" y="585"/>
                </a:lnTo>
                <a:lnTo>
                  <a:pt x="939" y="606"/>
                </a:lnTo>
                <a:lnTo>
                  <a:pt x="933" y="628"/>
                </a:lnTo>
                <a:lnTo>
                  <a:pt x="928" y="649"/>
                </a:lnTo>
                <a:lnTo>
                  <a:pt x="922" y="672"/>
                </a:lnTo>
                <a:lnTo>
                  <a:pt x="916" y="695"/>
                </a:lnTo>
                <a:lnTo>
                  <a:pt x="849" y="695"/>
                </a:lnTo>
                <a:lnTo>
                  <a:pt x="784" y="695"/>
                </a:lnTo>
                <a:lnTo>
                  <a:pt x="786" y="681"/>
                </a:lnTo>
                <a:lnTo>
                  <a:pt x="787" y="668"/>
                </a:lnTo>
                <a:lnTo>
                  <a:pt x="789" y="654"/>
                </a:lnTo>
                <a:lnTo>
                  <a:pt x="791" y="639"/>
                </a:lnTo>
                <a:lnTo>
                  <a:pt x="791" y="622"/>
                </a:lnTo>
                <a:lnTo>
                  <a:pt x="793" y="604"/>
                </a:lnTo>
                <a:lnTo>
                  <a:pt x="795" y="587"/>
                </a:lnTo>
                <a:lnTo>
                  <a:pt x="795" y="568"/>
                </a:lnTo>
                <a:lnTo>
                  <a:pt x="797" y="549"/>
                </a:lnTo>
                <a:lnTo>
                  <a:pt x="799" y="528"/>
                </a:lnTo>
                <a:lnTo>
                  <a:pt x="801" y="508"/>
                </a:lnTo>
                <a:lnTo>
                  <a:pt x="801" y="485"/>
                </a:lnTo>
                <a:lnTo>
                  <a:pt x="803" y="464"/>
                </a:lnTo>
                <a:lnTo>
                  <a:pt x="805" y="441"/>
                </a:lnTo>
                <a:lnTo>
                  <a:pt x="807" y="416"/>
                </a:lnTo>
                <a:lnTo>
                  <a:pt x="810" y="393"/>
                </a:lnTo>
                <a:lnTo>
                  <a:pt x="812" y="370"/>
                </a:lnTo>
                <a:lnTo>
                  <a:pt x="814" y="351"/>
                </a:lnTo>
                <a:lnTo>
                  <a:pt x="816" y="330"/>
                </a:lnTo>
                <a:lnTo>
                  <a:pt x="816" y="313"/>
                </a:lnTo>
                <a:lnTo>
                  <a:pt x="818" y="294"/>
                </a:lnTo>
                <a:lnTo>
                  <a:pt x="818" y="278"/>
                </a:lnTo>
                <a:lnTo>
                  <a:pt x="820" y="263"/>
                </a:lnTo>
                <a:lnTo>
                  <a:pt x="820" y="247"/>
                </a:lnTo>
                <a:lnTo>
                  <a:pt x="820" y="236"/>
                </a:lnTo>
                <a:lnTo>
                  <a:pt x="818" y="224"/>
                </a:lnTo>
                <a:lnTo>
                  <a:pt x="818" y="213"/>
                </a:lnTo>
                <a:lnTo>
                  <a:pt x="816" y="205"/>
                </a:lnTo>
                <a:lnTo>
                  <a:pt x="816" y="198"/>
                </a:lnTo>
                <a:lnTo>
                  <a:pt x="814" y="190"/>
                </a:lnTo>
                <a:lnTo>
                  <a:pt x="812" y="186"/>
                </a:lnTo>
                <a:lnTo>
                  <a:pt x="810" y="182"/>
                </a:lnTo>
                <a:lnTo>
                  <a:pt x="807" y="182"/>
                </a:lnTo>
                <a:lnTo>
                  <a:pt x="805" y="180"/>
                </a:lnTo>
                <a:lnTo>
                  <a:pt x="799" y="180"/>
                </a:lnTo>
                <a:lnTo>
                  <a:pt x="793" y="180"/>
                </a:lnTo>
                <a:lnTo>
                  <a:pt x="786" y="178"/>
                </a:lnTo>
                <a:lnTo>
                  <a:pt x="776" y="178"/>
                </a:lnTo>
                <a:lnTo>
                  <a:pt x="764" y="180"/>
                </a:lnTo>
                <a:lnTo>
                  <a:pt x="753" y="180"/>
                </a:lnTo>
                <a:lnTo>
                  <a:pt x="738" y="180"/>
                </a:lnTo>
                <a:lnTo>
                  <a:pt x="722" y="180"/>
                </a:lnTo>
                <a:lnTo>
                  <a:pt x="707" y="182"/>
                </a:lnTo>
                <a:lnTo>
                  <a:pt x="688" y="184"/>
                </a:lnTo>
                <a:lnTo>
                  <a:pt x="668" y="184"/>
                </a:lnTo>
                <a:lnTo>
                  <a:pt x="645" y="186"/>
                </a:lnTo>
                <a:lnTo>
                  <a:pt x="622" y="188"/>
                </a:lnTo>
                <a:lnTo>
                  <a:pt x="599" y="190"/>
                </a:lnTo>
                <a:lnTo>
                  <a:pt x="572" y="192"/>
                </a:lnTo>
                <a:lnTo>
                  <a:pt x="546" y="196"/>
                </a:lnTo>
                <a:lnTo>
                  <a:pt x="517" y="198"/>
                </a:lnTo>
                <a:lnTo>
                  <a:pt x="486" y="201"/>
                </a:lnTo>
                <a:lnTo>
                  <a:pt x="453" y="203"/>
                </a:lnTo>
                <a:lnTo>
                  <a:pt x="421" y="207"/>
                </a:lnTo>
                <a:lnTo>
                  <a:pt x="386" y="211"/>
                </a:lnTo>
                <a:lnTo>
                  <a:pt x="350" y="213"/>
                </a:lnTo>
                <a:lnTo>
                  <a:pt x="311" y="217"/>
                </a:lnTo>
                <a:lnTo>
                  <a:pt x="271" y="221"/>
                </a:lnTo>
                <a:lnTo>
                  <a:pt x="231" y="224"/>
                </a:lnTo>
                <a:lnTo>
                  <a:pt x="187" y="230"/>
                </a:lnTo>
                <a:lnTo>
                  <a:pt x="143" y="234"/>
                </a:lnTo>
                <a:lnTo>
                  <a:pt x="96" y="238"/>
                </a:lnTo>
                <a:lnTo>
                  <a:pt x="50" y="244"/>
                </a:lnTo>
                <a:lnTo>
                  <a:pt x="0" y="249"/>
                </a:lnTo>
                <a:lnTo>
                  <a:pt x="0" y="144"/>
                </a:lnTo>
                <a:lnTo>
                  <a:pt x="8" y="144"/>
                </a:lnTo>
                <a:lnTo>
                  <a:pt x="18" y="142"/>
                </a:lnTo>
                <a:lnTo>
                  <a:pt x="27" y="142"/>
                </a:lnTo>
                <a:lnTo>
                  <a:pt x="39" y="142"/>
                </a:lnTo>
                <a:lnTo>
                  <a:pt x="50" y="140"/>
                </a:lnTo>
                <a:lnTo>
                  <a:pt x="62" y="138"/>
                </a:lnTo>
                <a:lnTo>
                  <a:pt x="75" y="136"/>
                </a:lnTo>
                <a:lnTo>
                  <a:pt x="89" y="136"/>
                </a:lnTo>
                <a:lnTo>
                  <a:pt x="104" y="134"/>
                </a:lnTo>
                <a:lnTo>
                  <a:pt x="119" y="130"/>
                </a:lnTo>
                <a:lnTo>
                  <a:pt x="135" y="128"/>
                </a:lnTo>
                <a:lnTo>
                  <a:pt x="152" y="127"/>
                </a:lnTo>
                <a:lnTo>
                  <a:pt x="169" y="125"/>
                </a:lnTo>
                <a:lnTo>
                  <a:pt x="187" y="123"/>
                </a:lnTo>
                <a:lnTo>
                  <a:pt x="206" y="119"/>
                </a:lnTo>
                <a:lnTo>
                  <a:pt x="227" y="117"/>
                </a:lnTo>
                <a:lnTo>
                  <a:pt x="306" y="107"/>
                </a:lnTo>
                <a:lnTo>
                  <a:pt x="346" y="102"/>
                </a:lnTo>
                <a:lnTo>
                  <a:pt x="386" y="98"/>
                </a:lnTo>
                <a:lnTo>
                  <a:pt x="429" y="92"/>
                </a:lnTo>
                <a:lnTo>
                  <a:pt x="471" y="88"/>
                </a:lnTo>
                <a:lnTo>
                  <a:pt x="513" y="82"/>
                </a:lnTo>
                <a:lnTo>
                  <a:pt x="557" y="79"/>
                </a:lnTo>
                <a:lnTo>
                  <a:pt x="580" y="75"/>
                </a:lnTo>
                <a:lnTo>
                  <a:pt x="599" y="73"/>
                </a:lnTo>
                <a:lnTo>
                  <a:pt x="619" y="71"/>
                </a:lnTo>
                <a:lnTo>
                  <a:pt x="638" y="67"/>
                </a:lnTo>
                <a:lnTo>
                  <a:pt x="653" y="65"/>
                </a:lnTo>
                <a:lnTo>
                  <a:pt x="668" y="61"/>
                </a:lnTo>
                <a:lnTo>
                  <a:pt x="684" y="59"/>
                </a:lnTo>
                <a:lnTo>
                  <a:pt x="697" y="55"/>
                </a:lnTo>
                <a:lnTo>
                  <a:pt x="709" y="54"/>
                </a:lnTo>
                <a:lnTo>
                  <a:pt x="718" y="50"/>
                </a:lnTo>
                <a:lnTo>
                  <a:pt x="728" y="46"/>
                </a:lnTo>
                <a:lnTo>
                  <a:pt x="736" y="42"/>
                </a:lnTo>
                <a:lnTo>
                  <a:pt x="743" y="38"/>
                </a:lnTo>
                <a:lnTo>
                  <a:pt x="749" y="34"/>
                </a:lnTo>
                <a:lnTo>
                  <a:pt x="753" y="31"/>
                </a:lnTo>
                <a:lnTo>
                  <a:pt x="757" y="25"/>
                </a:lnTo>
                <a:lnTo>
                  <a:pt x="762" y="21"/>
                </a:lnTo>
                <a:lnTo>
                  <a:pt x="768" y="15"/>
                </a:lnTo>
                <a:lnTo>
                  <a:pt x="776" y="11"/>
                </a:lnTo>
                <a:lnTo>
                  <a:pt x="786" y="8"/>
                </a:lnTo>
                <a:lnTo>
                  <a:pt x="797" y="4"/>
                </a:lnTo>
                <a:lnTo>
                  <a:pt x="809" y="2"/>
                </a:lnTo>
                <a:lnTo>
                  <a:pt x="822" y="0"/>
                </a:lnTo>
                <a:lnTo>
                  <a:pt x="835" y="0"/>
                </a:lnTo>
                <a:lnTo>
                  <a:pt x="843" y="0"/>
                </a:lnTo>
                <a:lnTo>
                  <a:pt x="851" y="0"/>
                </a:lnTo>
                <a:lnTo>
                  <a:pt x="860" y="2"/>
                </a:lnTo>
                <a:lnTo>
                  <a:pt x="868" y="4"/>
                </a:lnTo>
                <a:lnTo>
                  <a:pt x="878" y="6"/>
                </a:lnTo>
                <a:lnTo>
                  <a:pt x="887" y="9"/>
                </a:lnTo>
                <a:lnTo>
                  <a:pt x="899" y="13"/>
                </a:lnTo>
                <a:lnTo>
                  <a:pt x="908" y="19"/>
                </a:lnTo>
                <a:lnTo>
                  <a:pt x="920" y="23"/>
                </a:lnTo>
                <a:lnTo>
                  <a:pt x="933" y="29"/>
                </a:lnTo>
                <a:lnTo>
                  <a:pt x="945" y="36"/>
                </a:lnTo>
                <a:lnTo>
                  <a:pt x="958" y="42"/>
                </a:lnTo>
                <a:lnTo>
                  <a:pt x="974" y="50"/>
                </a:lnTo>
                <a:lnTo>
                  <a:pt x="989" y="59"/>
                </a:lnTo>
                <a:lnTo>
                  <a:pt x="1004" y="67"/>
                </a:lnTo>
                <a:lnTo>
                  <a:pt x="1022" y="79"/>
                </a:lnTo>
                <a:lnTo>
                  <a:pt x="1037" y="90"/>
                </a:lnTo>
                <a:lnTo>
                  <a:pt x="1054" y="102"/>
                </a:lnTo>
                <a:lnTo>
                  <a:pt x="1068" y="113"/>
                </a:lnTo>
                <a:lnTo>
                  <a:pt x="1081" y="123"/>
                </a:lnTo>
                <a:lnTo>
                  <a:pt x="1093" y="132"/>
                </a:lnTo>
                <a:lnTo>
                  <a:pt x="1104" y="142"/>
                </a:lnTo>
                <a:lnTo>
                  <a:pt x="1114" y="150"/>
                </a:lnTo>
                <a:lnTo>
                  <a:pt x="1121" y="159"/>
                </a:lnTo>
                <a:lnTo>
                  <a:pt x="1129" y="167"/>
                </a:lnTo>
                <a:lnTo>
                  <a:pt x="1137" y="173"/>
                </a:lnTo>
                <a:lnTo>
                  <a:pt x="1143" y="180"/>
                </a:lnTo>
                <a:lnTo>
                  <a:pt x="1146" y="186"/>
                </a:lnTo>
                <a:lnTo>
                  <a:pt x="1150" y="194"/>
                </a:lnTo>
                <a:lnTo>
                  <a:pt x="1152" y="199"/>
                </a:lnTo>
                <a:lnTo>
                  <a:pt x="1154" y="203"/>
                </a:lnTo>
                <a:lnTo>
                  <a:pt x="1154" y="209"/>
                </a:lnTo>
                <a:lnTo>
                  <a:pt x="1154" y="215"/>
                </a:lnTo>
                <a:lnTo>
                  <a:pt x="1152" y="219"/>
                </a:lnTo>
                <a:lnTo>
                  <a:pt x="1152" y="224"/>
                </a:lnTo>
                <a:lnTo>
                  <a:pt x="1150" y="228"/>
                </a:lnTo>
                <a:lnTo>
                  <a:pt x="1146" y="234"/>
                </a:lnTo>
                <a:lnTo>
                  <a:pt x="1144" y="238"/>
                </a:lnTo>
                <a:lnTo>
                  <a:pt x="1141" y="244"/>
                </a:lnTo>
                <a:lnTo>
                  <a:pt x="1135" y="247"/>
                </a:lnTo>
                <a:lnTo>
                  <a:pt x="1125" y="257"/>
                </a:lnTo>
                <a:lnTo>
                  <a:pt x="1116" y="269"/>
                </a:lnTo>
                <a:lnTo>
                  <a:pt x="1102" y="278"/>
                </a:lnTo>
                <a:lnTo>
                  <a:pt x="1089" y="28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Freeform 189"/>
          <p:cNvSpPr/>
          <p:nvPr/>
        </p:nvSpPr>
        <p:spPr>
          <a:xfrm>
            <a:off x="6659640" y="4206960"/>
            <a:ext cx="182520" cy="723960"/>
          </a:xfrm>
          <a:custGeom>
            <a:avLst/>
            <a:gdLst/>
            <a:ahLst/>
            <a:rect l="l" t="t" r="r" b="b"/>
            <a:pathLst>
              <a:path w="230" h="911">
                <a:moveTo>
                  <a:pt x="19" y="111"/>
                </a:moveTo>
                <a:lnTo>
                  <a:pt x="14" y="101"/>
                </a:lnTo>
                <a:lnTo>
                  <a:pt x="10" y="92"/>
                </a:lnTo>
                <a:lnTo>
                  <a:pt x="8" y="82"/>
                </a:lnTo>
                <a:lnTo>
                  <a:pt x="4" y="75"/>
                </a:lnTo>
                <a:lnTo>
                  <a:pt x="2" y="65"/>
                </a:lnTo>
                <a:lnTo>
                  <a:pt x="0" y="57"/>
                </a:lnTo>
                <a:lnTo>
                  <a:pt x="0" y="52"/>
                </a:lnTo>
                <a:lnTo>
                  <a:pt x="0" y="44"/>
                </a:lnTo>
                <a:lnTo>
                  <a:pt x="0" y="36"/>
                </a:lnTo>
                <a:lnTo>
                  <a:pt x="0" y="30"/>
                </a:lnTo>
                <a:lnTo>
                  <a:pt x="2" y="25"/>
                </a:lnTo>
                <a:lnTo>
                  <a:pt x="4" y="21"/>
                </a:lnTo>
                <a:lnTo>
                  <a:pt x="8" y="15"/>
                </a:lnTo>
                <a:lnTo>
                  <a:pt x="10" y="11"/>
                </a:lnTo>
                <a:lnTo>
                  <a:pt x="14" y="9"/>
                </a:lnTo>
                <a:lnTo>
                  <a:pt x="19" y="5"/>
                </a:lnTo>
                <a:lnTo>
                  <a:pt x="21" y="4"/>
                </a:lnTo>
                <a:lnTo>
                  <a:pt x="27" y="2"/>
                </a:lnTo>
                <a:lnTo>
                  <a:pt x="33" y="2"/>
                </a:lnTo>
                <a:lnTo>
                  <a:pt x="40" y="0"/>
                </a:lnTo>
                <a:lnTo>
                  <a:pt x="50" y="0"/>
                </a:lnTo>
                <a:lnTo>
                  <a:pt x="60" y="2"/>
                </a:lnTo>
                <a:lnTo>
                  <a:pt x="73" y="2"/>
                </a:lnTo>
                <a:lnTo>
                  <a:pt x="85" y="4"/>
                </a:lnTo>
                <a:lnTo>
                  <a:pt x="100" y="5"/>
                </a:lnTo>
                <a:lnTo>
                  <a:pt x="115" y="9"/>
                </a:lnTo>
                <a:lnTo>
                  <a:pt x="133" y="11"/>
                </a:lnTo>
                <a:lnTo>
                  <a:pt x="150" y="15"/>
                </a:lnTo>
                <a:lnTo>
                  <a:pt x="169" y="19"/>
                </a:lnTo>
                <a:lnTo>
                  <a:pt x="188" y="23"/>
                </a:lnTo>
                <a:lnTo>
                  <a:pt x="209" y="27"/>
                </a:lnTo>
                <a:lnTo>
                  <a:pt x="230" y="32"/>
                </a:lnTo>
                <a:lnTo>
                  <a:pt x="230" y="86"/>
                </a:lnTo>
                <a:lnTo>
                  <a:pt x="230" y="140"/>
                </a:lnTo>
                <a:lnTo>
                  <a:pt x="230" y="190"/>
                </a:lnTo>
                <a:lnTo>
                  <a:pt x="230" y="240"/>
                </a:lnTo>
                <a:lnTo>
                  <a:pt x="230" y="288"/>
                </a:lnTo>
                <a:lnTo>
                  <a:pt x="230" y="332"/>
                </a:lnTo>
                <a:lnTo>
                  <a:pt x="229" y="376"/>
                </a:lnTo>
                <a:lnTo>
                  <a:pt x="229" y="418"/>
                </a:lnTo>
                <a:lnTo>
                  <a:pt x="229" y="458"/>
                </a:lnTo>
                <a:lnTo>
                  <a:pt x="227" y="499"/>
                </a:lnTo>
                <a:lnTo>
                  <a:pt x="227" y="535"/>
                </a:lnTo>
                <a:lnTo>
                  <a:pt x="225" y="570"/>
                </a:lnTo>
                <a:lnTo>
                  <a:pt x="225" y="604"/>
                </a:lnTo>
                <a:lnTo>
                  <a:pt x="223" y="635"/>
                </a:lnTo>
                <a:lnTo>
                  <a:pt x="223" y="666"/>
                </a:lnTo>
                <a:lnTo>
                  <a:pt x="221" y="695"/>
                </a:lnTo>
                <a:lnTo>
                  <a:pt x="221" y="720"/>
                </a:lnTo>
                <a:lnTo>
                  <a:pt x="219" y="744"/>
                </a:lnTo>
                <a:lnTo>
                  <a:pt x="217" y="768"/>
                </a:lnTo>
                <a:lnTo>
                  <a:pt x="215" y="789"/>
                </a:lnTo>
                <a:lnTo>
                  <a:pt x="213" y="810"/>
                </a:lnTo>
                <a:lnTo>
                  <a:pt x="213" y="827"/>
                </a:lnTo>
                <a:lnTo>
                  <a:pt x="211" y="842"/>
                </a:lnTo>
                <a:lnTo>
                  <a:pt x="209" y="858"/>
                </a:lnTo>
                <a:lnTo>
                  <a:pt x="207" y="871"/>
                </a:lnTo>
                <a:lnTo>
                  <a:pt x="206" y="881"/>
                </a:lnTo>
                <a:lnTo>
                  <a:pt x="204" y="890"/>
                </a:lnTo>
                <a:lnTo>
                  <a:pt x="202" y="898"/>
                </a:lnTo>
                <a:lnTo>
                  <a:pt x="198" y="904"/>
                </a:lnTo>
                <a:lnTo>
                  <a:pt x="196" y="910"/>
                </a:lnTo>
                <a:lnTo>
                  <a:pt x="194" y="911"/>
                </a:lnTo>
                <a:lnTo>
                  <a:pt x="192" y="911"/>
                </a:lnTo>
                <a:lnTo>
                  <a:pt x="186" y="911"/>
                </a:lnTo>
                <a:lnTo>
                  <a:pt x="182" y="911"/>
                </a:lnTo>
                <a:lnTo>
                  <a:pt x="179" y="910"/>
                </a:lnTo>
                <a:lnTo>
                  <a:pt x="173" y="908"/>
                </a:lnTo>
                <a:lnTo>
                  <a:pt x="169" y="904"/>
                </a:lnTo>
                <a:lnTo>
                  <a:pt x="167" y="902"/>
                </a:lnTo>
                <a:lnTo>
                  <a:pt x="163" y="898"/>
                </a:lnTo>
                <a:lnTo>
                  <a:pt x="159" y="894"/>
                </a:lnTo>
                <a:lnTo>
                  <a:pt x="154" y="885"/>
                </a:lnTo>
                <a:lnTo>
                  <a:pt x="148" y="873"/>
                </a:lnTo>
                <a:lnTo>
                  <a:pt x="144" y="860"/>
                </a:lnTo>
                <a:lnTo>
                  <a:pt x="138" y="846"/>
                </a:lnTo>
                <a:lnTo>
                  <a:pt x="136" y="837"/>
                </a:lnTo>
                <a:lnTo>
                  <a:pt x="133" y="823"/>
                </a:lnTo>
                <a:lnTo>
                  <a:pt x="131" y="810"/>
                </a:lnTo>
                <a:lnTo>
                  <a:pt x="129" y="794"/>
                </a:lnTo>
                <a:lnTo>
                  <a:pt x="127" y="777"/>
                </a:lnTo>
                <a:lnTo>
                  <a:pt x="123" y="758"/>
                </a:lnTo>
                <a:lnTo>
                  <a:pt x="121" y="739"/>
                </a:lnTo>
                <a:lnTo>
                  <a:pt x="119" y="716"/>
                </a:lnTo>
                <a:lnTo>
                  <a:pt x="115" y="693"/>
                </a:lnTo>
                <a:lnTo>
                  <a:pt x="113" y="668"/>
                </a:lnTo>
                <a:lnTo>
                  <a:pt x="111" y="641"/>
                </a:lnTo>
                <a:lnTo>
                  <a:pt x="108" y="612"/>
                </a:lnTo>
                <a:lnTo>
                  <a:pt x="106" y="581"/>
                </a:lnTo>
                <a:lnTo>
                  <a:pt x="104" y="549"/>
                </a:lnTo>
                <a:lnTo>
                  <a:pt x="102" y="514"/>
                </a:lnTo>
                <a:lnTo>
                  <a:pt x="98" y="480"/>
                </a:lnTo>
                <a:lnTo>
                  <a:pt x="96" y="443"/>
                </a:lnTo>
                <a:lnTo>
                  <a:pt x="92" y="409"/>
                </a:lnTo>
                <a:lnTo>
                  <a:pt x="90" y="376"/>
                </a:lnTo>
                <a:lnTo>
                  <a:pt x="87" y="345"/>
                </a:lnTo>
                <a:lnTo>
                  <a:pt x="83" y="316"/>
                </a:lnTo>
                <a:lnTo>
                  <a:pt x="79" y="290"/>
                </a:lnTo>
                <a:lnTo>
                  <a:pt x="73" y="265"/>
                </a:lnTo>
                <a:lnTo>
                  <a:pt x="69" y="242"/>
                </a:lnTo>
                <a:lnTo>
                  <a:pt x="63" y="219"/>
                </a:lnTo>
                <a:lnTo>
                  <a:pt x="58" y="199"/>
                </a:lnTo>
                <a:lnTo>
                  <a:pt x="52" y="180"/>
                </a:lnTo>
                <a:lnTo>
                  <a:pt x="46" y="163"/>
                </a:lnTo>
                <a:lnTo>
                  <a:pt x="40" y="148"/>
                </a:lnTo>
                <a:lnTo>
                  <a:pt x="33" y="134"/>
                </a:lnTo>
                <a:lnTo>
                  <a:pt x="27" y="123"/>
                </a:lnTo>
                <a:lnTo>
                  <a:pt x="19" y="11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Freeform 190"/>
          <p:cNvSpPr/>
          <p:nvPr/>
        </p:nvSpPr>
        <p:spPr>
          <a:xfrm>
            <a:off x="7062840" y="3616200"/>
            <a:ext cx="538200" cy="179640"/>
          </a:xfrm>
          <a:custGeom>
            <a:avLst/>
            <a:gdLst/>
            <a:ahLst/>
            <a:rect l="l" t="t" r="r" b="b"/>
            <a:pathLst>
              <a:path w="677" h="224">
                <a:moveTo>
                  <a:pt x="318" y="67"/>
                </a:moveTo>
                <a:lnTo>
                  <a:pt x="345" y="59"/>
                </a:lnTo>
                <a:lnTo>
                  <a:pt x="370" y="52"/>
                </a:lnTo>
                <a:lnTo>
                  <a:pt x="393" y="46"/>
                </a:lnTo>
                <a:lnTo>
                  <a:pt x="416" y="38"/>
                </a:lnTo>
                <a:lnTo>
                  <a:pt x="436" y="33"/>
                </a:lnTo>
                <a:lnTo>
                  <a:pt x="455" y="27"/>
                </a:lnTo>
                <a:lnTo>
                  <a:pt x="472" y="23"/>
                </a:lnTo>
                <a:lnTo>
                  <a:pt x="487" y="19"/>
                </a:lnTo>
                <a:lnTo>
                  <a:pt x="501" y="13"/>
                </a:lnTo>
                <a:lnTo>
                  <a:pt x="514" y="11"/>
                </a:lnTo>
                <a:lnTo>
                  <a:pt x="526" y="8"/>
                </a:lnTo>
                <a:lnTo>
                  <a:pt x="535" y="6"/>
                </a:lnTo>
                <a:lnTo>
                  <a:pt x="543" y="4"/>
                </a:lnTo>
                <a:lnTo>
                  <a:pt x="549" y="2"/>
                </a:lnTo>
                <a:lnTo>
                  <a:pt x="555" y="0"/>
                </a:lnTo>
                <a:lnTo>
                  <a:pt x="556" y="0"/>
                </a:lnTo>
                <a:lnTo>
                  <a:pt x="562" y="2"/>
                </a:lnTo>
                <a:lnTo>
                  <a:pt x="568" y="2"/>
                </a:lnTo>
                <a:lnTo>
                  <a:pt x="574" y="6"/>
                </a:lnTo>
                <a:lnTo>
                  <a:pt x="579" y="8"/>
                </a:lnTo>
                <a:lnTo>
                  <a:pt x="589" y="13"/>
                </a:lnTo>
                <a:lnTo>
                  <a:pt x="599" y="17"/>
                </a:lnTo>
                <a:lnTo>
                  <a:pt x="604" y="19"/>
                </a:lnTo>
                <a:lnTo>
                  <a:pt x="610" y="21"/>
                </a:lnTo>
                <a:lnTo>
                  <a:pt x="616" y="25"/>
                </a:lnTo>
                <a:lnTo>
                  <a:pt x="624" y="27"/>
                </a:lnTo>
                <a:lnTo>
                  <a:pt x="631" y="29"/>
                </a:lnTo>
                <a:lnTo>
                  <a:pt x="637" y="33"/>
                </a:lnTo>
                <a:lnTo>
                  <a:pt x="643" y="34"/>
                </a:lnTo>
                <a:lnTo>
                  <a:pt x="649" y="38"/>
                </a:lnTo>
                <a:lnTo>
                  <a:pt x="652" y="42"/>
                </a:lnTo>
                <a:lnTo>
                  <a:pt x="658" y="46"/>
                </a:lnTo>
                <a:lnTo>
                  <a:pt x="662" y="50"/>
                </a:lnTo>
                <a:lnTo>
                  <a:pt x="664" y="54"/>
                </a:lnTo>
                <a:lnTo>
                  <a:pt x="670" y="59"/>
                </a:lnTo>
                <a:lnTo>
                  <a:pt x="674" y="67"/>
                </a:lnTo>
                <a:lnTo>
                  <a:pt x="675" y="73"/>
                </a:lnTo>
                <a:lnTo>
                  <a:pt x="677" y="79"/>
                </a:lnTo>
                <a:lnTo>
                  <a:pt x="675" y="84"/>
                </a:lnTo>
                <a:lnTo>
                  <a:pt x="674" y="88"/>
                </a:lnTo>
                <a:lnTo>
                  <a:pt x="672" y="94"/>
                </a:lnTo>
                <a:lnTo>
                  <a:pt x="666" y="100"/>
                </a:lnTo>
                <a:lnTo>
                  <a:pt x="660" y="104"/>
                </a:lnTo>
                <a:lnTo>
                  <a:pt x="654" y="109"/>
                </a:lnTo>
                <a:lnTo>
                  <a:pt x="647" y="115"/>
                </a:lnTo>
                <a:lnTo>
                  <a:pt x="637" y="121"/>
                </a:lnTo>
                <a:lnTo>
                  <a:pt x="626" y="125"/>
                </a:lnTo>
                <a:lnTo>
                  <a:pt x="614" y="130"/>
                </a:lnTo>
                <a:lnTo>
                  <a:pt x="601" y="138"/>
                </a:lnTo>
                <a:lnTo>
                  <a:pt x="587" y="144"/>
                </a:lnTo>
                <a:lnTo>
                  <a:pt x="572" y="150"/>
                </a:lnTo>
                <a:lnTo>
                  <a:pt x="555" y="157"/>
                </a:lnTo>
                <a:lnTo>
                  <a:pt x="537" y="163"/>
                </a:lnTo>
                <a:lnTo>
                  <a:pt x="518" y="171"/>
                </a:lnTo>
                <a:lnTo>
                  <a:pt x="497" y="178"/>
                </a:lnTo>
                <a:lnTo>
                  <a:pt x="474" y="184"/>
                </a:lnTo>
                <a:lnTo>
                  <a:pt x="451" y="190"/>
                </a:lnTo>
                <a:lnTo>
                  <a:pt x="426" y="196"/>
                </a:lnTo>
                <a:lnTo>
                  <a:pt x="399" y="201"/>
                </a:lnTo>
                <a:lnTo>
                  <a:pt x="370" y="205"/>
                </a:lnTo>
                <a:lnTo>
                  <a:pt x="340" y="209"/>
                </a:lnTo>
                <a:lnTo>
                  <a:pt x="309" y="213"/>
                </a:lnTo>
                <a:lnTo>
                  <a:pt x="276" y="215"/>
                </a:lnTo>
                <a:lnTo>
                  <a:pt x="242" y="217"/>
                </a:lnTo>
                <a:lnTo>
                  <a:pt x="205" y="219"/>
                </a:lnTo>
                <a:lnTo>
                  <a:pt x="167" y="221"/>
                </a:lnTo>
                <a:lnTo>
                  <a:pt x="128" y="223"/>
                </a:lnTo>
                <a:lnTo>
                  <a:pt x="86" y="223"/>
                </a:lnTo>
                <a:lnTo>
                  <a:pt x="44" y="223"/>
                </a:lnTo>
                <a:lnTo>
                  <a:pt x="0" y="224"/>
                </a:lnTo>
                <a:lnTo>
                  <a:pt x="0" y="119"/>
                </a:lnTo>
                <a:lnTo>
                  <a:pt x="13" y="119"/>
                </a:lnTo>
                <a:lnTo>
                  <a:pt x="27" y="117"/>
                </a:lnTo>
                <a:lnTo>
                  <a:pt x="42" y="117"/>
                </a:lnTo>
                <a:lnTo>
                  <a:pt x="57" y="115"/>
                </a:lnTo>
                <a:lnTo>
                  <a:pt x="75" y="115"/>
                </a:lnTo>
                <a:lnTo>
                  <a:pt x="92" y="113"/>
                </a:lnTo>
                <a:lnTo>
                  <a:pt x="111" y="109"/>
                </a:lnTo>
                <a:lnTo>
                  <a:pt x="130" y="107"/>
                </a:lnTo>
                <a:lnTo>
                  <a:pt x="150" y="104"/>
                </a:lnTo>
                <a:lnTo>
                  <a:pt x="171" y="100"/>
                </a:lnTo>
                <a:lnTo>
                  <a:pt x="194" y="96"/>
                </a:lnTo>
                <a:lnTo>
                  <a:pt x="217" y="92"/>
                </a:lnTo>
                <a:lnTo>
                  <a:pt x="242" y="86"/>
                </a:lnTo>
                <a:lnTo>
                  <a:pt x="267" y="81"/>
                </a:lnTo>
                <a:lnTo>
                  <a:pt x="292" y="73"/>
                </a:lnTo>
                <a:lnTo>
                  <a:pt x="318" y="6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Freeform 191"/>
          <p:cNvSpPr/>
          <p:nvPr/>
        </p:nvSpPr>
        <p:spPr>
          <a:xfrm>
            <a:off x="6945480" y="3378240"/>
            <a:ext cx="226800" cy="876240"/>
          </a:xfrm>
          <a:custGeom>
            <a:avLst/>
            <a:gdLst/>
            <a:ahLst/>
            <a:rect l="l" t="t" r="r" b="b"/>
            <a:pathLst>
              <a:path w="286" h="1103">
                <a:moveTo>
                  <a:pt x="98" y="287"/>
                </a:moveTo>
                <a:lnTo>
                  <a:pt x="94" y="266"/>
                </a:lnTo>
                <a:lnTo>
                  <a:pt x="92" y="245"/>
                </a:lnTo>
                <a:lnTo>
                  <a:pt x="90" y="228"/>
                </a:lnTo>
                <a:lnTo>
                  <a:pt x="88" y="209"/>
                </a:lnTo>
                <a:lnTo>
                  <a:pt x="85" y="193"/>
                </a:lnTo>
                <a:lnTo>
                  <a:pt x="83" y="178"/>
                </a:lnTo>
                <a:lnTo>
                  <a:pt x="79" y="163"/>
                </a:lnTo>
                <a:lnTo>
                  <a:pt x="77" y="151"/>
                </a:lnTo>
                <a:lnTo>
                  <a:pt x="73" y="140"/>
                </a:lnTo>
                <a:lnTo>
                  <a:pt x="69" y="128"/>
                </a:lnTo>
                <a:lnTo>
                  <a:pt x="65" y="119"/>
                </a:lnTo>
                <a:lnTo>
                  <a:pt x="62" y="111"/>
                </a:lnTo>
                <a:lnTo>
                  <a:pt x="58" y="105"/>
                </a:lnTo>
                <a:lnTo>
                  <a:pt x="54" y="99"/>
                </a:lnTo>
                <a:lnTo>
                  <a:pt x="50" y="94"/>
                </a:lnTo>
                <a:lnTo>
                  <a:pt x="44" y="92"/>
                </a:lnTo>
                <a:lnTo>
                  <a:pt x="37" y="88"/>
                </a:lnTo>
                <a:lnTo>
                  <a:pt x="31" y="86"/>
                </a:lnTo>
                <a:lnTo>
                  <a:pt x="25" y="82"/>
                </a:lnTo>
                <a:lnTo>
                  <a:pt x="19" y="78"/>
                </a:lnTo>
                <a:lnTo>
                  <a:pt x="15" y="74"/>
                </a:lnTo>
                <a:lnTo>
                  <a:pt x="12" y="71"/>
                </a:lnTo>
                <a:lnTo>
                  <a:pt x="8" y="67"/>
                </a:lnTo>
                <a:lnTo>
                  <a:pt x="4" y="63"/>
                </a:lnTo>
                <a:lnTo>
                  <a:pt x="2" y="59"/>
                </a:lnTo>
                <a:lnTo>
                  <a:pt x="2" y="55"/>
                </a:lnTo>
                <a:lnTo>
                  <a:pt x="0" y="49"/>
                </a:lnTo>
                <a:lnTo>
                  <a:pt x="0" y="46"/>
                </a:lnTo>
                <a:lnTo>
                  <a:pt x="0" y="40"/>
                </a:lnTo>
                <a:lnTo>
                  <a:pt x="2" y="36"/>
                </a:lnTo>
                <a:lnTo>
                  <a:pt x="2" y="30"/>
                </a:lnTo>
                <a:lnTo>
                  <a:pt x="6" y="26"/>
                </a:lnTo>
                <a:lnTo>
                  <a:pt x="10" y="21"/>
                </a:lnTo>
                <a:lnTo>
                  <a:pt x="17" y="15"/>
                </a:lnTo>
                <a:lnTo>
                  <a:pt x="25" y="11"/>
                </a:lnTo>
                <a:lnTo>
                  <a:pt x="37" y="7"/>
                </a:lnTo>
                <a:lnTo>
                  <a:pt x="42" y="5"/>
                </a:lnTo>
                <a:lnTo>
                  <a:pt x="48" y="3"/>
                </a:lnTo>
                <a:lnTo>
                  <a:pt x="56" y="3"/>
                </a:lnTo>
                <a:lnTo>
                  <a:pt x="62" y="1"/>
                </a:lnTo>
                <a:lnTo>
                  <a:pt x="71" y="0"/>
                </a:lnTo>
                <a:lnTo>
                  <a:pt x="79" y="0"/>
                </a:lnTo>
                <a:lnTo>
                  <a:pt x="88" y="0"/>
                </a:lnTo>
                <a:lnTo>
                  <a:pt x="98" y="0"/>
                </a:lnTo>
                <a:lnTo>
                  <a:pt x="113" y="0"/>
                </a:lnTo>
                <a:lnTo>
                  <a:pt x="129" y="1"/>
                </a:lnTo>
                <a:lnTo>
                  <a:pt x="146" y="5"/>
                </a:lnTo>
                <a:lnTo>
                  <a:pt x="163" y="9"/>
                </a:lnTo>
                <a:lnTo>
                  <a:pt x="181" y="15"/>
                </a:lnTo>
                <a:lnTo>
                  <a:pt x="198" y="21"/>
                </a:lnTo>
                <a:lnTo>
                  <a:pt x="215" y="28"/>
                </a:lnTo>
                <a:lnTo>
                  <a:pt x="230" y="38"/>
                </a:lnTo>
                <a:lnTo>
                  <a:pt x="244" y="49"/>
                </a:lnTo>
                <a:lnTo>
                  <a:pt x="257" y="61"/>
                </a:lnTo>
                <a:lnTo>
                  <a:pt x="263" y="67"/>
                </a:lnTo>
                <a:lnTo>
                  <a:pt x="267" y="72"/>
                </a:lnTo>
                <a:lnTo>
                  <a:pt x="273" y="80"/>
                </a:lnTo>
                <a:lnTo>
                  <a:pt x="276" y="86"/>
                </a:lnTo>
                <a:lnTo>
                  <a:pt x="280" y="94"/>
                </a:lnTo>
                <a:lnTo>
                  <a:pt x="282" y="99"/>
                </a:lnTo>
                <a:lnTo>
                  <a:pt x="284" y="107"/>
                </a:lnTo>
                <a:lnTo>
                  <a:pt x="286" y="115"/>
                </a:lnTo>
                <a:lnTo>
                  <a:pt x="286" y="122"/>
                </a:lnTo>
                <a:lnTo>
                  <a:pt x="286" y="128"/>
                </a:lnTo>
                <a:lnTo>
                  <a:pt x="286" y="136"/>
                </a:lnTo>
                <a:lnTo>
                  <a:pt x="284" y="143"/>
                </a:lnTo>
                <a:lnTo>
                  <a:pt x="280" y="151"/>
                </a:lnTo>
                <a:lnTo>
                  <a:pt x="278" y="163"/>
                </a:lnTo>
                <a:lnTo>
                  <a:pt x="276" y="174"/>
                </a:lnTo>
                <a:lnTo>
                  <a:pt x="275" y="188"/>
                </a:lnTo>
                <a:lnTo>
                  <a:pt x="275" y="203"/>
                </a:lnTo>
                <a:lnTo>
                  <a:pt x="273" y="222"/>
                </a:lnTo>
                <a:lnTo>
                  <a:pt x="271" y="241"/>
                </a:lnTo>
                <a:lnTo>
                  <a:pt x="269" y="263"/>
                </a:lnTo>
                <a:lnTo>
                  <a:pt x="269" y="286"/>
                </a:lnTo>
                <a:lnTo>
                  <a:pt x="267" y="310"/>
                </a:lnTo>
                <a:lnTo>
                  <a:pt x="265" y="337"/>
                </a:lnTo>
                <a:lnTo>
                  <a:pt x="265" y="366"/>
                </a:lnTo>
                <a:lnTo>
                  <a:pt x="263" y="395"/>
                </a:lnTo>
                <a:lnTo>
                  <a:pt x="261" y="428"/>
                </a:lnTo>
                <a:lnTo>
                  <a:pt x="259" y="462"/>
                </a:lnTo>
                <a:lnTo>
                  <a:pt x="257" y="499"/>
                </a:lnTo>
                <a:lnTo>
                  <a:pt x="252" y="573"/>
                </a:lnTo>
                <a:lnTo>
                  <a:pt x="250" y="648"/>
                </a:lnTo>
                <a:lnTo>
                  <a:pt x="246" y="723"/>
                </a:lnTo>
                <a:lnTo>
                  <a:pt x="246" y="800"/>
                </a:lnTo>
                <a:lnTo>
                  <a:pt x="244" y="877"/>
                </a:lnTo>
                <a:lnTo>
                  <a:pt x="244" y="954"/>
                </a:lnTo>
                <a:lnTo>
                  <a:pt x="244" y="1028"/>
                </a:lnTo>
                <a:lnTo>
                  <a:pt x="244" y="1103"/>
                </a:lnTo>
                <a:lnTo>
                  <a:pt x="171" y="1103"/>
                </a:lnTo>
                <a:lnTo>
                  <a:pt x="98" y="1103"/>
                </a:lnTo>
                <a:lnTo>
                  <a:pt x="98" y="1063"/>
                </a:lnTo>
                <a:lnTo>
                  <a:pt x="100" y="1023"/>
                </a:lnTo>
                <a:lnTo>
                  <a:pt x="100" y="984"/>
                </a:lnTo>
                <a:lnTo>
                  <a:pt x="102" y="948"/>
                </a:lnTo>
                <a:lnTo>
                  <a:pt x="102" y="911"/>
                </a:lnTo>
                <a:lnTo>
                  <a:pt x="104" y="877"/>
                </a:lnTo>
                <a:lnTo>
                  <a:pt x="104" y="842"/>
                </a:lnTo>
                <a:lnTo>
                  <a:pt x="106" y="810"/>
                </a:lnTo>
                <a:lnTo>
                  <a:pt x="106" y="777"/>
                </a:lnTo>
                <a:lnTo>
                  <a:pt x="106" y="746"/>
                </a:lnTo>
                <a:lnTo>
                  <a:pt x="106" y="715"/>
                </a:lnTo>
                <a:lnTo>
                  <a:pt x="108" y="685"/>
                </a:lnTo>
                <a:lnTo>
                  <a:pt x="108" y="658"/>
                </a:lnTo>
                <a:lnTo>
                  <a:pt x="108" y="629"/>
                </a:lnTo>
                <a:lnTo>
                  <a:pt x="108" y="602"/>
                </a:lnTo>
                <a:lnTo>
                  <a:pt x="108" y="577"/>
                </a:lnTo>
                <a:lnTo>
                  <a:pt x="108" y="552"/>
                </a:lnTo>
                <a:lnTo>
                  <a:pt x="108" y="529"/>
                </a:lnTo>
                <a:lnTo>
                  <a:pt x="108" y="506"/>
                </a:lnTo>
                <a:lnTo>
                  <a:pt x="108" y="483"/>
                </a:lnTo>
                <a:lnTo>
                  <a:pt x="106" y="462"/>
                </a:lnTo>
                <a:lnTo>
                  <a:pt x="106" y="443"/>
                </a:lnTo>
                <a:lnTo>
                  <a:pt x="106" y="422"/>
                </a:lnTo>
                <a:lnTo>
                  <a:pt x="106" y="405"/>
                </a:lnTo>
                <a:lnTo>
                  <a:pt x="104" y="387"/>
                </a:lnTo>
                <a:lnTo>
                  <a:pt x="104" y="370"/>
                </a:lnTo>
                <a:lnTo>
                  <a:pt x="102" y="355"/>
                </a:lnTo>
                <a:lnTo>
                  <a:pt x="102" y="339"/>
                </a:lnTo>
                <a:lnTo>
                  <a:pt x="100" y="326"/>
                </a:lnTo>
                <a:lnTo>
                  <a:pt x="100" y="312"/>
                </a:lnTo>
                <a:lnTo>
                  <a:pt x="98" y="299"/>
                </a:lnTo>
                <a:lnTo>
                  <a:pt x="98" y="28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Freeform 192"/>
          <p:cNvSpPr/>
          <p:nvPr/>
        </p:nvSpPr>
        <p:spPr>
          <a:xfrm>
            <a:off x="5946840" y="3232080"/>
            <a:ext cx="717480" cy="1774800"/>
          </a:xfrm>
          <a:custGeom>
            <a:avLst/>
            <a:gdLst/>
            <a:ahLst/>
            <a:rect l="l" t="t" r="r" b="b"/>
            <a:pathLst>
              <a:path w="904" h="2236">
                <a:moveTo>
                  <a:pt x="175" y="2129"/>
                </a:moveTo>
                <a:lnTo>
                  <a:pt x="157" y="2142"/>
                </a:lnTo>
                <a:lnTo>
                  <a:pt x="142" y="2156"/>
                </a:lnTo>
                <a:lnTo>
                  <a:pt x="127" y="2169"/>
                </a:lnTo>
                <a:lnTo>
                  <a:pt x="111" y="2181"/>
                </a:lnTo>
                <a:lnTo>
                  <a:pt x="98" y="2190"/>
                </a:lnTo>
                <a:lnTo>
                  <a:pt x="84" y="2200"/>
                </a:lnTo>
                <a:lnTo>
                  <a:pt x="71" y="2208"/>
                </a:lnTo>
                <a:lnTo>
                  <a:pt x="59" y="2215"/>
                </a:lnTo>
                <a:lnTo>
                  <a:pt x="48" y="2221"/>
                </a:lnTo>
                <a:lnTo>
                  <a:pt x="38" y="2227"/>
                </a:lnTo>
                <a:lnTo>
                  <a:pt x="31" y="2231"/>
                </a:lnTo>
                <a:lnTo>
                  <a:pt x="23" y="2233"/>
                </a:lnTo>
                <a:lnTo>
                  <a:pt x="15" y="2235"/>
                </a:lnTo>
                <a:lnTo>
                  <a:pt x="9" y="2236"/>
                </a:lnTo>
                <a:lnTo>
                  <a:pt x="6" y="2235"/>
                </a:lnTo>
                <a:lnTo>
                  <a:pt x="4" y="2233"/>
                </a:lnTo>
                <a:lnTo>
                  <a:pt x="2" y="2231"/>
                </a:lnTo>
                <a:lnTo>
                  <a:pt x="0" y="2227"/>
                </a:lnTo>
                <a:lnTo>
                  <a:pt x="0" y="2221"/>
                </a:lnTo>
                <a:lnTo>
                  <a:pt x="2" y="2215"/>
                </a:lnTo>
                <a:lnTo>
                  <a:pt x="4" y="2210"/>
                </a:lnTo>
                <a:lnTo>
                  <a:pt x="6" y="2202"/>
                </a:lnTo>
                <a:lnTo>
                  <a:pt x="11" y="2194"/>
                </a:lnTo>
                <a:lnTo>
                  <a:pt x="17" y="2185"/>
                </a:lnTo>
                <a:lnTo>
                  <a:pt x="23" y="2173"/>
                </a:lnTo>
                <a:lnTo>
                  <a:pt x="31" y="2164"/>
                </a:lnTo>
                <a:lnTo>
                  <a:pt x="40" y="2150"/>
                </a:lnTo>
                <a:lnTo>
                  <a:pt x="52" y="2137"/>
                </a:lnTo>
                <a:lnTo>
                  <a:pt x="63" y="2123"/>
                </a:lnTo>
                <a:lnTo>
                  <a:pt x="77" y="2108"/>
                </a:lnTo>
                <a:lnTo>
                  <a:pt x="92" y="2092"/>
                </a:lnTo>
                <a:lnTo>
                  <a:pt x="109" y="2075"/>
                </a:lnTo>
                <a:lnTo>
                  <a:pt x="138" y="2035"/>
                </a:lnTo>
                <a:lnTo>
                  <a:pt x="169" y="1997"/>
                </a:lnTo>
                <a:lnTo>
                  <a:pt x="199" y="1954"/>
                </a:lnTo>
                <a:lnTo>
                  <a:pt x="230" y="1912"/>
                </a:lnTo>
                <a:lnTo>
                  <a:pt x="246" y="1891"/>
                </a:lnTo>
                <a:lnTo>
                  <a:pt x="261" y="1870"/>
                </a:lnTo>
                <a:lnTo>
                  <a:pt x="278" y="1847"/>
                </a:lnTo>
                <a:lnTo>
                  <a:pt x="294" y="1822"/>
                </a:lnTo>
                <a:lnTo>
                  <a:pt x="311" y="1799"/>
                </a:lnTo>
                <a:lnTo>
                  <a:pt x="326" y="1774"/>
                </a:lnTo>
                <a:lnTo>
                  <a:pt x="343" y="1747"/>
                </a:lnTo>
                <a:lnTo>
                  <a:pt x="361" y="1720"/>
                </a:lnTo>
                <a:lnTo>
                  <a:pt x="378" y="1693"/>
                </a:lnTo>
                <a:lnTo>
                  <a:pt x="393" y="1664"/>
                </a:lnTo>
                <a:lnTo>
                  <a:pt x="411" y="1636"/>
                </a:lnTo>
                <a:lnTo>
                  <a:pt x="426" y="1607"/>
                </a:lnTo>
                <a:lnTo>
                  <a:pt x="439" y="1578"/>
                </a:lnTo>
                <a:lnTo>
                  <a:pt x="455" y="1547"/>
                </a:lnTo>
                <a:lnTo>
                  <a:pt x="468" y="1517"/>
                </a:lnTo>
                <a:lnTo>
                  <a:pt x="484" y="1484"/>
                </a:lnTo>
                <a:lnTo>
                  <a:pt x="497" y="1451"/>
                </a:lnTo>
                <a:lnTo>
                  <a:pt x="510" y="1419"/>
                </a:lnTo>
                <a:lnTo>
                  <a:pt x="524" y="1386"/>
                </a:lnTo>
                <a:lnTo>
                  <a:pt x="535" y="1352"/>
                </a:lnTo>
                <a:lnTo>
                  <a:pt x="549" y="1317"/>
                </a:lnTo>
                <a:lnTo>
                  <a:pt x="560" y="1281"/>
                </a:lnTo>
                <a:lnTo>
                  <a:pt x="574" y="1246"/>
                </a:lnTo>
                <a:lnTo>
                  <a:pt x="585" y="1210"/>
                </a:lnTo>
                <a:lnTo>
                  <a:pt x="597" y="1171"/>
                </a:lnTo>
                <a:lnTo>
                  <a:pt x="608" y="1135"/>
                </a:lnTo>
                <a:lnTo>
                  <a:pt x="620" y="1098"/>
                </a:lnTo>
                <a:lnTo>
                  <a:pt x="629" y="1060"/>
                </a:lnTo>
                <a:lnTo>
                  <a:pt x="639" y="1023"/>
                </a:lnTo>
                <a:lnTo>
                  <a:pt x="649" y="987"/>
                </a:lnTo>
                <a:lnTo>
                  <a:pt x="658" y="950"/>
                </a:lnTo>
                <a:lnTo>
                  <a:pt x="666" y="914"/>
                </a:lnTo>
                <a:lnTo>
                  <a:pt x="672" y="876"/>
                </a:lnTo>
                <a:lnTo>
                  <a:pt x="679" y="839"/>
                </a:lnTo>
                <a:lnTo>
                  <a:pt x="685" y="803"/>
                </a:lnTo>
                <a:lnTo>
                  <a:pt x="691" y="766"/>
                </a:lnTo>
                <a:lnTo>
                  <a:pt x="695" y="728"/>
                </a:lnTo>
                <a:lnTo>
                  <a:pt x="699" y="691"/>
                </a:lnTo>
                <a:lnTo>
                  <a:pt x="702" y="655"/>
                </a:lnTo>
                <a:lnTo>
                  <a:pt x="706" y="618"/>
                </a:lnTo>
                <a:lnTo>
                  <a:pt x="708" y="582"/>
                </a:lnTo>
                <a:lnTo>
                  <a:pt x="710" y="545"/>
                </a:lnTo>
                <a:lnTo>
                  <a:pt x="712" y="513"/>
                </a:lnTo>
                <a:lnTo>
                  <a:pt x="714" y="480"/>
                </a:lnTo>
                <a:lnTo>
                  <a:pt x="716" y="448"/>
                </a:lnTo>
                <a:lnTo>
                  <a:pt x="718" y="417"/>
                </a:lnTo>
                <a:lnTo>
                  <a:pt x="720" y="386"/>
                </a:lnTo>
                <a:lnTo>
                  <a:pt x="722" y="357"/>
                </a:lnTo>
                <a:lnTo>
                  <a:pt x="723" y="330"/>
                </a:lnTo>
                <a:lnTo>
                  <a:pt x="723" y="304"/>
                </a:lnTo>
                <a:lnTo>
                  <a:pt x="723" y="277"/>
                </a:lnTo>
                <a:lnTo>
                  <a:pt x="723" y="252"/>
                </a:lnTo>
                <a:lnTo>
                  <a:pt x="723" y="227"/>
                </a:lnTo>
                <a:lnTo>
                  <a:pt x="722" y="204"/>
                </a:lnTo>
                <a:lnTo>
                  <a:pt x="720" y="181"/>
                </a:lnTo>
                <a:lnTo>
                  <a:pt x="718" y="158"/>
                </a:lnTo>
                <a:lnTo>
                  <a:pt x="716" y="138"/>
                </a:lnTo>
                <a:lnTo>
                  <a:pt x="714" y="121"/>
                </a:lnTo>
                <a:lnTo>
                  <a:pt x="712" y="104"/>
                </a:lnTo>
                <a:lnTo>
                  <a:pt x="712" y="89"/>
                </a:lnTo>
                <a:lnTo>
                  <a:pt x="710" y="75"/>
                </a:lnTo>
                <a:lnTo>
                  <a:pt x="710" y="62"/>
                </a:lnTo>
                <a:lnTo>
                  <a:pt x="710" y="50"/>
                </a:lnTo>
                <a:lnTo>
                  <a:pt x="712" y="39"/>
                </a:lnTo>
                <a:lnTo>
                  <a:pt x="714" y="31"/>
                </a:lnTo>
                <a:lnTo>
                  <a:pt x="716" y="23"/>
                </a:lnTo>
                <a:lnTo>
                  <a:pt x="718" y="16"/>
                </a:lnTo>
                <a:lnTo>
                  <a:pt x="722" y="10"/>
                </a:lnTo>
                <a:lnTo>
                  <a:pt x="727" y="6"/>
                </a:lnTo>
                <a:lnTo>
                  <a:pt x="731" y="2"/>
                </a:lnTo>
                <a:lnTo>
                  <a:pt x="737" y="0"/>
                </a:lnTo>
                <a:lnTo>
                  <a:pt x="745" y="0"/>
                </a:lnTo>
                <a:lnTo>
                  <a:pt x="760" y="0"/>
                </a:lnTo>
                <a:lnTo>
                  <a:pt x="777" y="2"/>
                </a:lnTo>
                <a:lnTo>
                  <a:pt x="795" y="6"/>
                </a:lnTo>
                <a:lnTo>
                  <a:pt x="814" y="8"/>
                </a:lnTo>
                <a:lnTo>
                  <a:pt x="835" y="12"/>
                </a:lnTo>
                <a:lnTo>
                  <a:pt x="856" y="18"/>
                </a:lnTo>
                <a:lnTo>
                  <a:pt x="879" y="21"/>
                </a:lnTo>
                <a:lnTo>
                  <a:pt x="904" y="27"/>
                </a:lnTo>
                <a:lnTo>
                  <a:pt x="904" y="81"/>
                </a:lnTo>
                <a:lnTo>
                  <a:pt x="904" y="135"/>
                </a:lnTo>
                <a:lnTo>
                  <a:pt x="904" y="188"/>
                </a:lnTo>
                <a:lnTo>
                  <a:pt x="904" y="240"/>
                </a:lnTo>
                <a:lnTo>
                  <a:pt x="904" y="292"/>
                </a:lnTo>
                <a:lnTo>
                  <a:pt x="904" y="340"/>
                </a:lnTo>
                <a:lnTo>
                  <a:pt x="904" y="365"/>
                </a:lnTo>
                <a:lnTo>
                  <a:pt x="904" y="388"/>
                </a:lnTo>
                <a:lnTo>
                  <a:pt x="904" y="411"/>
                </a:lnTo>
                <a:lnTo>
                  <a:pt x="904" y="434"/>
                </a:lnTo>
                <a:lnTo>
                  <a:pt x="885" y="630"/>
                </a:lnTo>
                <a:lnTo>
                  <a:pt x="864" y="828"/>
                </a:lnTo>
                <a:lnTo>
                  <a:pt x="860" y="853"/>
                </a:lnTo>
                <a:lnTo>
                  <a:pt x="854" y="877"/>
                </a:lnTo>
                <a:lnTo>
                  <a:pt x="848" y="904"/>
                </a:lnTo>
                <a:lnTo>
                  <a:pt x="842" y="931"/>
                </a:lnTo>
                <a:lnTo>
                  <a:pt x="835" y="958"/>
                </a:lnTo>
                <a:lnTo>
                  <a:pt x="827" y="985"/>
                </a:lnTo>
                <a:lnTo>
                  <a:pt x="821" y="1014"/>
                </a:lnTo>
                <a:lnTo>
                  <a:pt x="812" y="1043"/>
                </a:lnTo>
                <a:lnTo>
                  <a:pt x="795" y="1102"/>
                </a:lnTo>
                <a:lnTo>
                  <a:pt x="787" y="1131"/>
                </a:lnTo>
                <a:lnTo>
                  <a:pt x="775" y="1162"/>
                </a:lnTo>
                <a:lnTo>
                  <a:pt x="766" y="1192"/>
                </a:lnTo>
                <a:lnTo>
                  <a:pt x="754" y="1223"/>
                </a:lnTo>
                <a:lnTo>
                  <a:pt x="743" y="1256"/>
                </a:lnTo>
                <a:lnTo>
                  <a:pt x="731" y="1288"/>
                </a:lnTo>
                <a:lnTo>
                  <a:pt x="720" y="1321"/>
                </a:lnTo>
                <a:lnTo>
                  <a:pt x="706" y="1355"/>
                </a:lnTo>
                <a:lnTo>
                  <a:pt x="693" y="1388"/>
                </a:lnTo>
                <a:lnTo>
                  <a:pt x="677" y="1421"/>
                </a:lnTo>
                <a:lnTo>
                  <a:pt x="662" y="1453"/>
                </a:lnTo>
                <a:lnTo>
                  <a:pt x="647" y="1484"/>
                </a:lnTo>
                <a:lnTo>
                  <a:pt x="631" y="1515"/>
                </a:lnTo>
                <a:lnTo>
                  <a:pt x="616" y="1545"/>
                </a:lnTo>
                <a:lnTo>
                  <a:pt x="583" y="1605"/>
                </a:lnTo>
                <a:lnTo>
                  <a:pt x="549" y="1663"/>
                </a:lnTo>
                <a:lnTo>
                  <a:pt x="514" y="1718"/>
                </a:lnTo>
                <a:lnTo>
                  <a:pt x="480" y="1774"/>
                </a:lnTo>
                <a:lnTo>
                  <a:pt x="462" y="1801"/>
                </a:lnTo>
                <a:lnTo>
                  <a:pt x="445" y="1826"/>
                </a:lnTo>
                <a:lnTo>
                  <a:pt x="426" y="1853"/>
                </a:lnTo>
                <a:lnTo>
                  <a:pt x="409" y="1878"/>
                </a:lnTo>
                <a:lnTo>
                  <a:pt x="390" y="1901"/>
                </a:lnTo>
                <a:lnTo>
                  <a:pt x="370" y="1925"/>
                </a:lnTo>
                <a:lnTo>
                  <a:pt x="351" y="1949"/>
                </a:lnTo>
                <a:lnTo>
                  <a:pt x="332" y="1970"/>
                </a:lnTo>
                <a:lnTo>
                  <a:pt x="313" y="1993"/>
                </a:lnTo>
                <a:lnTo>
                  <a:pt x="294" y="2014"/>
                </a:lnTo>
                <a:lnTo>
                  <a:pt x="274" y="2033"/>
                </a:lnTo>
                <a:lnTo>
                  <a:pt x="253" y="2054"/>
                </a:lnTo>
                <a:lnTo>
                  <a:pt x="234" y="2073"/>
                </a:lnTo>
                <a:lnTo>
                  <a:pt x="215" y="2092"/>
                </a:lnTo>
                <a:lnTo>
                  <a:pt x="196" y="2110"/>
                </a:lnTo>
                <a:lnTo>
                  <a:pt x="175" y="212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Freeform 193"/>
          <p:cNvSpPr/>
          <p:nvPr/>
        </p:nvSpPr>
        <p:spPr>
          <a:xfrm>
            <a:off x="6580080" y="3095640"/>
            <a:ext cx="1009800" cy="230040"/>
          </a:xfrm>
          <a:custGeom>
            <a:avLst/>
            <a:gdLst/>
            <a:ahLst/>
            <a:rect l="l" t="t" r="r" b="b"/>
            <a:pathLst>
              <a:path w="1273" h="290">
                <a:moveTo>
                  <a:pt x="0" y="185"/>
                </a:moveTo>
                <a:lnTo>
                  <a:pt x="35" y="181"/>
                </a:lnTo>
                <a:lnTo>
                  <a:pt x="71" y="179"/>
                </a:lnTo>
                <a:lnTo>
                  <a:pt x="108" y="175"/>
                </a:lnTo>
                <a:lnTo>
                  <a:pt x="144" y="171"/>
                </a:lnTo>
                <a:lnTo>
                  <a:pt x="181" y="167"/>
                </a:lnTo>
                <a:lnTo>
                  <a:pt x="219" y="164"/>
                </a:lnTo>
                <a:lnTo>
                  <a:pt x="258" y="158"/>
                </a:lnTo>
                <a:lnTo>
                  <a:pt x="296" y="152"/>
                </a:lnTo>
                <a:lnTo>
                  <a:pt x="336" y="146"/>
                </a:lnTo>
                <a:lnTo>
                  <a:pt x="377" y="139"/>
                </a:lnTo>
                <a:lnTo>
                  <a:pt x="417" y="131"/>
                </a:lnTo>
                <a:lnTo>
                  <a:pt x="457" y="121"/>
                </a:lnTo>
                <a:lnTo>
                  <a:pt x="497" y="112"/>
                </a:lnTo>
                <a:lnTo>
                  <a:pt x="540" y="102"/>
                </a:lnTo>
                <a:lnTo>
                  <a:pt x="580" y="91"/>
                </a:lnTo>
                <a:lnTo>
                  <a:pt x="622" y="79"/>
                </a:lnTo>
                <a:lnTo>
                  <a:pt x="664" y="70"/>
                </a:lnTo>
                <a:lnTo>
                  <a:pt x="703" y="60"/>
                </a:lnTo>
                <a:lnTo>
                  <a:pt x="741" y="52"/>
                </a:lnTo>
                <a:lnTo>
                  <a:pt x="776" y="45"/>
                </a:lnTo>
                <a:lnTo>
                  <a:pt x="810" y="37"/>
                </a:lnTo>
                <a:lnTo>
                  <a:pt x="843" y="31"/>
                </a:lnTo>
                <a:lnTo>
                  <a:pt x="872" y="25"/>
                </a:lnTo>
                <a:lnTo>
                  <a:pt x="901" y="20"/>
                </a:lnTo>
                <a:lnTo>
                  <a:pt x="927" y="16"/>
                </a:lnTo>
                <a:lnTo>
                  <a:pt x="952" y="12"/>
                </a:lnTo>
                <a:lnTo>
                  <a:pt x="975" y="8"/>
                </a:lnTo>
                <a:lnTo>
                  <a:pt x="995" y="6"/>
                </a:lnTo>
                <a:lnTo>
                  <a:pt x="1014" y="2"/>
                </a:lnTo>
                <a:lnTo>
                  <a:pt x="1031" y="2"/>
                </a:lnTo>
                <a:lnTo>
                  <a:pt x="1046" y="0"/>
                </a:lnTo>
                <a:lnTo>
                  <a:pt x="1060" y="0"/>
                </a:lnTo>
                <a:lnTo>
                  <a:pt x="1085" y="0"/>
                </a:lnTo>
                <a:lnTo>
                  <a:pt x="1108" y="0"/>
                </a:lnTo>
                <a:lnTo>
                  <a:pt x="1129" y="0"/>
                </a:lnTo>
                <a:lnTo>
                  <a:pt x="1150" y="2"/>
                </a:lnTo>
                <a:lnTo>
                  <a:pt x="1169" y="4"/>
                </a:lnTo>
                <a:lnTo>
                  <a:pt x="1187" y="6"/>
                </a:lnTo>
                <a:lnTo>
                  <a:pt x="1204" y="10"/>
                </a:lnTo>
                <a:lnTo>
                  <a:pt x="1219" y="14"/>
                </a:lnTo>
                <a:lnTo>
                  <a:pt x="1227" y="16"/>
                </a:lnTo>
                <a:lnTo>
                  <a:pt x="1233" y="20"/>
                </a:lnTo>
                <a:lnTo>
                  <a:pt x="1238" y="22"/>
                </a:lnTo>
                <a:lnTo>
                  <a:pt x="1244" y="23"/>
                </a:lnTo>
                <a:lnTo>
                  <a:pt x="1250" y="25"/>
                </a:lnTo>
                <a:lnTo>
                  <a:pt x="1254" y="29"/>
                </a:lnTo>
                <a:lnTo>
                  <a:pt x="1258" y="31"/>
                </a:lnTo>
                <a:lnTo>
                  <a:pt x="1261" y="33"/>
                </a:lnTo>
                <a:lnTo>
                  <a:pt x="1265" y="39"/>
                </a:lnTo>
                <a:lnTo>
                  <a:pt x="1269" y="43"/>
                </a:lnTo>
                <a:lnTo>
                  <a:pt x="1271" y="48"/>
                </a:lnTo>
                <a:lnTo>
                  <a:pt x="1273" y="54"/>
                </a:lnTo>
                <a:lnTo>
                  <a:pt x="1271" y="58"/>
                </a:lnTo>
                <a:lnTo>
                  <a:pt x="1269" y="64"/>
                </a:lnTo>
                <a:lnTo>
                  <a:pt x="1267" y="68"/>
                </a:lnTo>
                <a:lnTo>
                  <a:pt x="1263" y="75"/>
                </a:lnTo>
                <a:lnTo>
                  <a:pt x="1259" y="81"/>
                </a:lnTo>
                <a:lnTo>
                  <a:pt x="1256" y="89"/>
                </a:lnTo>
                <a:lnTo>
                  <a:pt x="1250" y="96"/>
                </a:lnTo>
                <a:lnTo>
                  <a:pt x="1246" y="106"/>
                </a:lnTo>
                <a:lnTo>
                  <a:pt x="1242" y="108"/>
                </a:lnTo>
                <a:lnTo>
                  <a:pt x="1238" y="110"/>
                </a:lnTo>
                <a:lnTo>
                  <a:pt x="1235" y="114"/>
                </a:lnTo>
                <a:lnTo>
                  <a:pt x="1231" y="116"/>
                </a:lnTo>
                <a:lnTo>
                  <a:pt x="1225" y="119"/>
                </a:lnTo>
                <a:lnTo>
                  <a:pt x="1217" y="121"/>
                </a:lnTo>
                <a:lnTo>
                  <a:pt x="1211" y="125"/>
                </a:lnTo>
                <a:lnTo>
                  <a:pt x="1204" y="127"/>
                </a:lnTo>
                <a:lnTo>
                  <a:pt x="1194" y="131"/>
                </a:lnTo>
                <a:lnTo>
                  <a:pt x="1185" y="133"/>
                </a:lnTo>
                <a:lnTo>
                  <a:pt x="1175" y="137"/>
                </a:lnTo>
                <a:lnTo>
                  <a:pt x="1165" y="141"/>
                </a:lnTo>
                <a:lnTo>
                  <a:pt x="1154" y="142"/>
                </a:lnTo>
                <a:lnTo>
                  <a:pt x="1140" y="146"/>
                </a:lnTo>
                <a:lnTo>
                  <a:pt x="1129" y="150"/>
                </a:lnTo>
                <a:lnTo>
                  <a:pt x="1116" y="154"/>
                </a:lnTo>
                <a:lnTo>
                  <a:pt x="1100" y="156"/>
                </a:lnTo>
                <a:lnTo>
                  <a:pt x="1085" y="160"/>
                </a:lnTo>
                <a:lnTo>
                  <a:pt x="1069" y="164"/>
                </a:lnTo>
                <a:lnTo>
                  <a:pt x="1052" y="167"/>
                </a:lnTo>
                <a:lnTo>
                  <a:pt x="1035" y="169"/>
                </a:lnTo>
                <a:lnTo>
                  <a:pt x="1018" y="173"/>
                </a:lnTo>
                <a:lnTo>
                  <a:pt x="998" y="177"/>
                </a:lnTo>
                <a:lnTo>
                  <a:pt x="979" y="181"/>
                </a:lnTo>
                <a:lnTo>
                  <a:pt x="958" y="185"/>
                </a:lnTo>
                <a:lnTo>
                  <a:pt x="937" y="189"/>
                </a:lnTo>
                <a:lnTo>
                  <a:pt x="916" y="192"/>
                </a:lnTo>
                <a:lnTo>
                  <a:pt x="893" y="196"/>
                </a:lnTo>
                <a:lnTo>
                  <a:pt x="870" y="200"/>
                </a:lnTo>
                <a:lnTo>
                  <a:pt x="845" y="204"/>
                </a:lnTo>
                <a:lnTo>
                  <a:pt x="820" y="208"/>
                </a:lnTo>
                <a:lnTo>
                  <a:pt x="795" y="212"/>
                </a:lnTo>
                <a:lnTo>
                  <a:pt x="691" y="225"/>
                </a:lnTo>
                <a:lnTo>
                  <a:pt x="590" y="238"/>
                </a:lnTo>
                <a:lnTo>
                  <a:pt x="488" y="250"/>
                </a:lnTo>
                <a:lnTo>
                  <a:pt x="388" y="260"/>
                </a:lnTo>
                <a:lnTo>
                  <a:pt x="288" y="269"/>
                </a:lnTo>
                <a:lnTo>
                  <a:pt x="190" y="277"/>
                </a:lnTo>
                <a:lnTo>
                  <a:pt x="94" y="285"/>
                </a:lnTo>
                <a:lnTo>
                  <a:pt x="0" y="290"/>
                </a:lnTo>
                <a:lnTo>
                  <a:pt x="0" y="18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Freeform 194"/>
          <p:cNvSpPr/>
          <p:nvPr/>
        </p:nvSpPr>
        <p:spPr>
          <a:xfrm>
            <a:off x="6811920" y="2738520"/>
            <a:ext cx="366840" cy="266760"/>
          </a:xfrm>
          <a:custGeom>
            <a:avLst/>
            <a:gdLst/>
            <a:ahLst/>
            <a:rect l="l" t="t" r="r" b="b"/>
            <a:pathLst>
              <a:path w="463" h="336">
                <a:moveTo>
                  <a:pt x="411" y="334"/>
                </a:moveTo>
                <a:lnTo>
                  <a:pt x="407" y="336"/>
                </a:lnTo>
                <a:lnTo>
                  <a:pt x="403" y="336"/>
                </a:lnTo>
                <a:lnTo>
                  <a:pt x="399" y="336"/>
                </a:lnTo>
                <a:lnTo>
                  <a:pt x="394" y="336"/>
                </a:lnTo>
                <a:lnTo>
                  <a:pt x="386" y="334"/>
                </a:lnTo>
                <a:lnTo>
                  <a:pt x="378" y="332"/>
                </a:lnTo>
                <a:lnTo>
                  <a:pt x="371" y="329"/>
                </a:lnTo>
                <a:lnTo>
                  <a:pt x="361" y="325"/>
                </a:lnTo>
                <a:lnTo>
                  <a:pt x="349" y="321"/>
                </a:lnTo>
                <a:lnTo>
                  <a:pt x="338" y="315"/>
                </a:lnTo>
                <a:lnTo>
                  <a:pt x="326" y="309"/>
                </a:lnTo>
                <a:lnTo>
                  <a:pt x="313" y="302"/>
                </a:lnTo>
                <a:lnTo>
                  <a:pt x="300" y="294"/>
                </a:lnTo>
                <a:lnTo>
                  <a:pt x="284" y="286"/>
                </a:lnTo>
                <a:lnTo>
                  <a:pt x="269" y="277"/>
                </a:lnTo>
                <a:lnTo>
                  <a:pt x="252" y="267"/>
                </a:lnTo>
                <a:lnTo>
                  <a:pt x="234" y="258"/>
                </a:lnTo>
                <a:lnTo>
                  <a:pt x="217" y="246"/>
                </a:lnTo>
                <a:lnTo>
                  <a:pt x="200" y="235"/>
                </a:lnTo>
                <a:lnTo>
                  <a:pt x="184" y="223"/>
                </a:lnTo>
                <a:lnTo>
                  <a:pt x="167" y="211"/>
                </a:lnTo>
                <a:lnTo>
                  <a:pt x="152" y="198"/>
                </a:lnTo>
                <a:lnTo>
                  <a:pt x="136" y="183"/>
                </a:lnTo>
                <a:lnTo>
                  <a:pt x="121" y="169"/>
                </a:lnTo>
                <a:lnTo>
                  <a:pt x="104" y="154"/>
                </a:lnTo>
                <a:lnTo>
                  <a:pt x="88" y="139"/>
                </a:lnTo>
                <a:lnTo>
                  <a:pt x="75" y="123"/>
                </a:lnTo>
                <a:lnTo>
                  <a:pt x="60" y="106"/>
                </a:lnTo>
                <a:lnTo>
                  <a:pt x="44" y="89"/>
                </a:lnTo>
                <a:lnTo>
                  <a:pt x="29" y="69"/>
                </a:lnTo>
                <a:lnTo>
                  <a:pt x="14" y="50"/>
                </a:lnTo>
                <a:lnTo>
                  <a:pt x="0" y="31"/>
                </a:lnTo>
                <a:lnTo>
                  <a:pt x="4" y="27"/>
                </a:lnTo>
                <a:lnTo>
                  <a:pt x="12" y="21"/>
                </a:lnTo>
                <a:lnTo>
                  <a:pt x="17" y="18"/>
                </a:lnTo>
                <a:lnTo>
                  <a:pt x="25" y="14"/>
                </a:lnTo>
                <a:lnTo>
                  <a:pt x="33" y="10"/>
                </a:lnTo>
                <a:lnTo>
                  <a:pt x="40" y="8"/>
                </a:lnTo>
                <a:lnTo>
                  <a:pt x="50" y="6"/>
                </a:lnTo>
                <a:lnTo>
                  <a:pt x="60" y="4"/>
                </a:lnTo>
                <a:lnTo>
                  <a:pt x="69" y="2"/>
                </a:lnTo>
                <a:lnTo>
                  <a:pt x="81" y="0"/>
                </a:lnTo>
                <a:lnTo>
                  <a:pt x="92" y="0"/>
                </a:lnTo>
                <a:lnTo>
                  <a:pt x="104" y="0"/>
                </a:lnTo>
                <a:lnTo>
                  <a:pt x="117" y="0"/>
                </a:lnTo>
                <a:lnTo>
                  <a:pt x="131" y="2"/>
                </a:lnTo>
                <a:lnTo>
                  <a:pt x="144" y="2"/>
                </a:lnTo>
                <a:lnTo>
                  <a:pt x="159" y="6"/>
                </a:lnTo>
                <a:lnTo>
                  <a:pt x="188" y="10"/>
                </a:lnTo>
                <a:lnTo>
                  <a:pt x="215" y="18"/>
                </a:lnTo>
                <a:lnTo>
                  <a:pt x="244" y="25"/>
                </a:lnTo>
                <a:lnTo>
                  <a:pt x="269" y="35"/>
                </a:lnTo>
                <a:lnTo>
                  <a:pt x="296" y="45"/>
                </a:lnTo>
                <a:lnTo>
                  <a:pt x="321" y="56"/>
                </a:lnTo>
                <a:lnTo>
                  <a:pt x="346" y="69"/>
                </a:lnTo>
                <a:lnTo>
                  <a:pt x="371" y="85"/>
                </a:lnTo>
                <a:lnTo>
                  <a:pt x="382" y="91"/>
                </a:lnTo>
                <a:lnTo>
                  <a:pt x="394" y="98"/>
                </a:lnTo>
                <a:lnTo>
                  <a:pt x="403" y="106"/>
                </a:lnTo>
                <a:lnTo>
                  <a:pt x="413" y="114"/>
                </a:lnTo>
                <a:lnTo>
                  <a:pt x="420" y="121"/>
                </a:lnTo>
                <a:lnTo>
                  <a:pt x="428" y="129"/>
                </a:lnTo>
                <a:lnTo>
                  <a:pt x="436" y="139"/>
                </a:lnTo>
                <a:lnTo>
                  <a:pt x="442" y="146"/>
                </a:lnTo>
                <a:lnTo>
                  <a:pt x="447" y="156"/>
                </a:lnTo>
                <a:lnTo>
                  <a:pt x="451" y="164"/>
                </a:lnTo>
                <a:lnTo>
                  <a:pt x="455" y="173"/>
                </a:lnTo>
                <a:lnTo>
                  <a:pt x="459" y="183"/>
                </a:lnTo>
                <a:lnTo>
                  <a:pt x="461" y="194"/>
                </a:lnTo>
                <a:lnTo>
                  <a:pt x="463" y="206"/>
                </a:lnTo>
                <a:lnTo>
                  <a:pt x="463" y="217"/>
                </a:lnTo>
                <a:lnTo>
                  <a:pt x="463" y="229"/>
                </a:lnTo>
                <a:lnTo>
                  <a:pt x="461" y="240"/>
                </a:lnTo>
                <a:lnTo>
                  <a:pt x="459" y="252"/>
                </a:lnTo>
                <a:lnTo>
                  <a:pt x="455" y="261"/>
                </a:lnTo>
                <a:lnTo>
                  <a:pt x="453" y="271"/>
                </a:lnTo>
                <a:lnTo>
                  <a:pt x="451" y="279"/>
                </a:lnTo>
                <a:lnTo>
                  <a:pt x="447" y="286"/>
                </a:lnTo>
                <a:lnTo>
                  <a:pt x="445" y="294"/>
                </a:lnTo>
                <a:lnTo>
                  <a:pt x="442" y="300"/>
                </a:lnTo>
                <a:lnTo>
                  <a:pt x="438" y="306"/>
                </a:lnTo>
                <a:lnTo>
                  <a:pt x="436" y="311"/>
                </a:lnTo>
                <a:lnTo>
                  <a:pt x="432" y="317"/>
                </a:lnTo>
                <a:lnTo>
                  <a:pt x="428" y="321"/>
                </a:lnTo>
                <a:lnTo>
                  <a:pt x="420" y="329"/>
                </a:lnTo>
                <a:lnTo>
                  <a:pt x="411" y="33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Freeform 195"/>
          <p:cNvSpPr/>
          <p:nvPr/>
        </p:nvSpPr>
        <p:spPr>
          <a:xfrm>
            <a:off x="5389560" y="4308480"/>
            <a:ext cx="915840" cy="455760"/>
          </a:xfrm>
          <a:custGeom>
            <a:avLst/>
            <a:gdLst/>
            <a:ahLst/>
            <a:rect l="l" t="t" r="r" b="b"/>
            <a:pathLst>
              <a:path w="1156" h="574">
                <a:moveTo>
                  <a:pt x="574" y="206"/>
                </a:moveTo>
                <a:lnTo>
                  <a:pt x="599" y="196"/>
                </a:lnTo>
                <a:lnTo>
                  <a:pt x="624" y="187"/>
                </a:lnTo>
                <a:lnTo>
                  <a:pt x="649" y="177"/>
                </a:lnTo>
                <a:lnTo>
                  <a:pt x="672" y="167"/>
                </a:lnTo>
                <a:lnTo>
                  <a:pt x="695" y="160"/>
                </a:lnTo>
                <a:lnTo>
                  <a:pt x="716" y="150"/>
                </a:lnTo>
                <a:lnTo>
                  <a:pt x="739" y="142"/>
                </a:lnTo>
                <a:lnTo>
                  <a:pt x="760" y="135"/>
                </a:lnTo>
                <a:lnTo>
                  <a:pt x="780" y="127"/>
                </a:lnTo>
                <a:lnTo>
                  <a:pt x="799" y="119"/>
                </a:lnTo>
                <a:lnTo>
                  <a:pt x="818" y="112"/>
                </a:lnTo>
                <a:lnTo>
                  <a:pt x="837" y="104"/>
                </a:lnTo>
                <a:lnTo>
                  <a:pt x="854" y="96"/>
                </a:lnTo>
                <a:lnTo>
                  <a:pt x="872" y="91"/>
                </a:lnTo>
                <a:lnTo>
                  <a:pt x="889" y="83"/>
                </a:lnTo>
                <a:lnTo>
                  <a:pt x="904" y="77"/>
                </a:lnTo>
                <a:lnTo>
                  <a:pt x="920" y="71"/>
                </a:lnTo>
                <a:lnTo>
                  <a:pt x="933" y="66"/>
                </a:lnTo>
                <a:lnTo>
                  <a:pt x="949" y="60"/>
                </a:lnTo>
                <a:lnTo>
                  <a:pt x="962" y="54"/>
                </a:lnTo>
                <a:lnTo>
                  <a:pt x="974" y="50"/>
                </a:lnTo>
                <a:lnTo>
                  <a:pt x="987" y="44"/>
                </a:lnTo>
                <a:lnTo>
                  <a:pt x="998" y="41"/>
                </a:lnTo>
                <a:lnTo>
                  <a:pt x="1010" y="37"/>
                </a:lnTo>
                <a:lnTo>
                  <a:pt x="1020" y="31"/>
                </a:lnTo>
                <a:lnTo>
                  <a:pt x="1029" y="27"/>
                </a:lnTo>
                <a:lnTo>
                  <a:pt x="1039" y="23"/>
                </a:lnTo>
                <a:lnTo>
                  <a:pt x="1048" y="21"/>
                </a:lnTo>
                <a:lnTo>
                  <a:pt x="1056" y="18"/>
                </a:lnTo>
                <a:lnTo>
                  <a:pt x="1064" y="14"/>
                </a:lnTo>
                <a:lnTo>
                  <a:pt x="1069" y="12"/>
                </a:lnTo>
                <a:lnTo>
                  <a:pt x="1077" y="10"/>
                </a:lnTo>
                <a:lnTo>
                  <a:pt x="1087" y="6"/>
                </a:lnTo>
                <a:lnTo>
                  <a:pt x="1096" y="4"/>
                </a:lnTo>
                <a:lnTo>
                  <a:pt x="1104" y="2"/>
                </a:lnTo>
                <a:lnTo>
                  <a:pt x="1112" y="2"/>
                </a:lnTo>
                <a:lnTo>
                  <a:pt x="1119" y="0"/>
                </a:lnTo>
                <a:lnTo>
                  <a:pt x="1125" y="0"/>
                </a:lnTo>
                <a:lnTo>
                  <a:pt x="1131" y="0"/>
                </a:lnTo>
                <a:lnTo>
                  <a:pt x="1137" y="0"/>
                </a:lnTo>
                <a:lnTo>
                  <a:pt x="1140" y="2"/>
                </a:lnTo>
                <a:lnTo>
                  <a:pt x="1144" y="2"/>
                </a:lnTo>
                <a:lnTo>
                  <a:pt x="1148" y="4"/>
                </a:lnTo>
                <a:lnTo>
                  <a:pt x="1152" y="8"/>
                </a:lnTo>
                <a:lnTo>
                  <a:pt x="1154" y="10"/>
                </a:lnTo>
                <a:lnTo>
                  <a:pt x="1156" y="14"/>
                </a:lnTo>
                <a:lnTo>
                  <a:pt x="1156" y="18"/>
                </a:lnTo>
                <a:lnTo>
                  <a:pt x="1156" y="23"/>
                </a:lnTo>
                <a:lnTo>
                  <a:pt x="1156" y="25"/>
                </a:lnTo>
                <a:lnTo>
                  <a:pt x="1154" y="27"/>
                </a:lnTo>
                <a:lnTo>
                  <a:pt x="1152" y="31"/>
                </a:lnTo>
                <a:lnTo>
                  <a:pt x="1150" y="35"/>
                </a:lnTo>
                <a:lnTo>
                  <a:pt x="1146" y="39"/>
                </a:lnTo>
                <a:lnTo>
                  <a:pt x="1140" y="44"/>
                </a:lnTo>
                <a:lnTo>
                  <a:pt x="1135" y="48"/>
                </a:lnTo>
                <a:lnTo>
                  <a:pt x="1129" y="54"/>
                </a:lnTo>
                <a:lnTo>
                  <a:pt x="1121" y="60"/>
                </a:lnTo>
                <a:lnTo>
                  <a:pt x="1114" y="66"/>
                </a:lnTo>
                <a:lnTo>
                  <a:pt x="1104" y="73"/>
                </a:lnTo>
                <a:lnTo>
                  <a:pt x="1094" y="79"/>
                </a:lnTo>
                <a:lnTo>
                  <a:pt x="1083" y="87"/>
                </a:lnTo>
                <a:lnTo>
                  <a:pt x="1071" y="94"/>
                </a:lnTo>
                <a:lnTo>
                  <a:pt x="1058" y="102"/>
                </a:lnTo>
                <a:lnTo>
                  <a:pt x="1045" y="112"/>
                </a:lnTo>
                <a:lnTo>
                  <a:pt x="1031" y="121"/>
                </a:lnTo>
                <a:lnTo>
                  <a:pt x="1016" y="131"/>
                </a:lnTo>
                <a:lnTo>
                  <a:pt x="998" y="140"/>
                </a:lnTo>
                <a:lnTo>
                  <a:pt x="981" y="150"/>
                </a:lnTo>
                <a:lnTo>
                  <a:pt x="964" y="162"/>
                </a:lnTo>
                <a:lnTo>
                  <a:pt x="945" y="173"/>
                </a:lnTo>
                <a:lnTo>
                  <a:pt x="926" y="185"/>
                </a:lnTo>
                <a:lnTo>
                  <a:pt x="904" y="196"/>
                </a:lnTo>
                <a:lnTo>
                  <a:pt x="883" y="210"/>
                </a:lnTo>
                <a:lnTo>
                  <a:pt x="860" y="223"/>
                </a:lnTo>
                <a:lnTo>
                  <a:pt x="837" y="236"/>
                </a:lnTo>
                <a:lnTo>
                  <a:pt x="812" y="250"/>
                </a:lnTo>
                <a:lnTo>
                  <a:pt x="787" y="265"/>
                </a:lnTo>
                <a:lnTo>
                  <a:pt x="760" y="281"/>
                </a:lnTo>
                <a:lnTo>
                  <a:pt x="734" y="296"/>
                </a:lnTo>
                <a:lnTo>
                  <a:pt x="707" y="311"/>
                </a:lnTo>
                <a:lnTo>
                  <a:pt x="678" y="327"/>
                </a:lnTo>
                <a:lnTo>
                  <a:pt x="651" y="342"/>
                </a:lnTo>
                <a:lnTo>
                  <a:pt x="624" y="357"/>
                </a:lnTo>
                <a:lnTo>
                  <a:pt x="597" y="373"/>
                </a:lnTo>
                <a:lnTo>
                  <a:pt x="572" y="386"/>
                </a:lnTo>
                <a:lnTo>
                  <a:pt x="549" y="400"/>
                </a:lnTo>
                <a:lnTo>
                  <a:pt x="526" y="413"/>
                </a:lnTo>
                <a:lnTo>
                  <a:pt x="503" y="425"/>
                </a:lnTo>
                <a:lnTo>
                  <a:pt x="480" y="438"/>
                </a:lnTo>
                <a:lnTo>
                  <a:pt x="459" y="449"/>
                </a:lnTo>
                <a:lnTo>
                  <a:pt x="440" y="459"/>
                </a:lnTo>
                <a:lnTo>
                  <a:pt x="421" y="471"/>
                </a:lnTo>
                <a:lnTo>
                  <a:pt x="402" y="480"/>
                </a:lnTo>
                <a:lnTo>
                  <a:pt x="384" y="490"/>
                </a:lnTo>
                <a:lnTo>
                  <a:pt x="367" y="499"/>
                </a:lnTo>
                <a:lnTo>
                  <a:pt x="350" y="507"/>
                </a:lnTo>
                <a:lnTo>
                  <a:pt x="334" y="515"/>
                </a:lnTo>
                <a:lnTo>
                  <a:pt x="321" y="522"/>
                </a:lnTo>
                <a:lnTo>
                  <a:pt x="306" y="530"/>
                </a:lnTo>
                <a:lnTo>
                  <a:pt x="294" y="536"/>
                </a:lnTo>
                <a:lnTo>
                  <a:pt x="281" y="542"/>
                </a:lnTo>
                <a:lnTo>
                  <a:pt x="269" y="547"/>
                </a:lnTo>
                <a:lnTo>
                  <a:pt x="259" y="553"/>
                </a:lnTo>
                <a:lnTo>
                  <a:pt x="250" y="557"/>
                </a:lnTo>
                <a:lnTo>
                  <a:pt x="240" y="561"/>
                </a:lnTo>
                <a:lnTo>
                  <a:pt x="233" y="565"/>
                </a:lnTo>
                <a:lnTo>
                  <a:pt x="225" y="567"/>
                </a:lnTo>
                <a:lnTo>
                  <a:pt x="219" y="570"/>
                </a:lnTo>
                <a:lnTo>
                  <a:pt x="213" y="572"/>
                </a:lnTo>
                <a:lnTo>
                  <a:pt x="210" y="572"/>
                </a:lnTo>
                <a:lnTo>
                  <a:pt x="206" y="574"/>
                </a:lnTo>
                <a:lnTo>
                  <a:pt x="202" y="574"/>
                </a:lnTo>
                <a:lnTo>
                  <a:pt x="196" y="574"/>
                </a:lnTo>
                <a:lnTo>
                  <a:pt x="192" y="572"/>
                </a:lnTo>
                <a:lnTo>
                  <a:pt x="187" y="570"/>
                </a:lnTo>
                <a:lnTo>
                  <a:pt x="179" y="568"/>
                </a:lnTo>
                <a:lnTo>
                  <a:pt x="173" y="567"/>
                </a:lnTo>
                <a:lnTo>
                  <a:pt x="167" y="563"/>
                </a:lnTo>
                <a:lnTo>
                  <a:pt x="160" y="559"/>
                </a:lnTo>
                <a:lnTo>
                  <a:pt x="152" y="555"/>
                </a:lnTo>
                <a:lnTo>
                  <a:pt x="144" y="549"/>
                </a:lnTo>
                <a:lnTo>
                  <a:pt x="137" y="544"/>
                </a:lnTo>
                <a:lnTo>
                  <a:pt x="129" y="536"/>
                </a:lnTo>
                <a:lnTo>
                  <a:pt x="119" y="530"/>
                </a:lnTo>
                <a:lnTo>
                  <a:pt x="112" y="522"/>
                </a:lnTo>
                <a:lnTo>
                  <a:pt x="102" y="513"/>
                </a:lnTo>
                <a:lnTo>
                  <a:pt x="92" y="505"/>
                </a:lnTo>
                <a:lnTo>
                  <a:pt x="83" y="496"/>
                </a:lnTo>
                <a:lnTo>
                  <a:pt x="71" y="488"/>
                </a:lnTo>
                <a:lnTo>
                  <a:pt x="60" y="480"/>
                </a:lnTo>
                <a:lnTo>
                  <a:pt x="50" y="473"/>
                </a:lnTo>
                <a:lnTo>
                  <a:pt x="41" y="465"/>
                </a:lnTo>
                <a:lnTo>
                  <a:pt x="33" y="457"/>
                </a:lnTo>
                <a:lnTo>
                  <a:pt x="25" y="451"/>
                </a:lnTo>
                <a:lnTo>
                  <a:pt x="20" y="444"/>
                </a:lnTo>
                <a:lnTo>
                  <a:pt x="14" y="436"/>
                </a:lnTo>
                <a:lnTo>
                  <a:pt x="8" y="428"/>
                </a:lnTo>
                <a:lnTo>
                  <a:pt x="6" y="421"/>
                </a:lnTo>
                <a:lnTo>
                  <a:pt x="2" y="413"/>
                </a:lnTo>
                <a:lnTo>
                  <a:pt x="0" y="407"/>
                </a:lnTo>
                <a:lnTo>
                  <a:pt x="0" y="400"/>
                </a:lnTo>
                <a:lnTo>
                  <a:pt x="0" y="392"/>
                </a:lnTo>
                <a:lnTo>
                  <a:pt x="0" y="384"/>
                </a:lnTo>
                <a:lnTo>
                  <a:pt x="4" y="377"/>
                </a:lnTo>
                <a:lnTo>
                  <a:pt x="4" y="367"/>
                </a:lnTo>
                <a:lnTo>
                  <a:pt x="6" y="359"/>
                </a:lnTo>
                <a:lnTo>
                  <a:pt x="10" y="354"/>
                </a:lnTo>
                <a:lnTo>
                  <a:pt x="16" y="350"/>
                </a:lnTo>
                <a:lnTo>
                  <a:pt x="18" y="348"/>
                </a:lnTo>
                <a:lnTo>
                  <a:pt x="21" y="346"/>
                </a:lnTo>
                <a:lnTo>
                  <a:pt x="27" y="346"/>
                </a:lnTo>
                <a:lnTo>
                  <a:pt x="31" y="346"/>
                </a:lnTo>
                <a:lnTo>
                  <a:pt x="37" y="346"/>
                </a:lnTo>
                <a:lnTo>
                  <a:pt x="43" y="348"/>
                </a:lnTo>
                <a:lnTo>
                  <a:pt x="50" y="348"/>
                </a:lnTo>
                <a:lnTo>
                  <a:pt x="56" y="352"/>
                </a:lnTo>
                <a:lnTo>
                  <a:pt x="71" y="355"/>
                </a:lnTo>
                <a:lnTo>
                  <a:pt x="85" y="361"/>
                </a:lnTo>
                <a:lnTo>
                  <a:pt x="96" y="365"/>
                </a:lnTo>
                <a:lnTo>
                  <a:pt x="108" y="367"/>
                </a:lnTo>
                <a:lnTo>
                  <a:pt x="119" y="369"/>
                </a:lnTo>
                <a:lnTo>
                  <a:pt x="129" y="369"/>
                </a:lnTo>
                <a:lnTo>
                  <a:pt x="135" y="369"/>
                </a:lnTo>
                <a:lnTo>
                  <a:pt x="139" y="367"/>
                </a:lnTo>
                <a:lnTo>
                  <a:pt x="144" y="365"/>
                </a:lnTo>
                <a:lnTo>
                  <a:pt x="150" y="363"/>
                </a:lnTo>
                <a:lnTo>
                  <a:pt x="154" y="363"/>
                </a:lnTo>
                <a:lnTo>
                  <a:pt x="156" y="363"/>
                </a:lnTo>
                <a:lnTo>
                  <a:pt x="160" y="361"/>
                </a:lnTo>
                <a:lnTo>
                  <a:pt x="165" y="359"/>
                </a:lnTo>
                <a:lnTo>
                  <a:pt x="171" y="357"/>
                </a:lnTo>
                <a:lnTo>
                  <a:pt x="177" y="355"/>
                </a:lnTo>
                <a:lnTo>
                  <a:pt x="185" y="354"/>
                </a:lnTo>
                <a:lnTo>
                  <a:pt x="192" y="352"/>
                </a:lnTo>
                <a:lnTo>
                  <a:pt x="200" y="348"/>
                </a:lnTo>
                <a:lnTo>
                  <a:pt x="210" y="346"/>
                </a:lnTo>
                <a:lnTo>
                  <a:pt x="219" y="342"/>
                </a:lnTo>
                <a:lnTo>
                  <a:pt x="231" y="338"/>
                </a:lnTo>
                <a:lnTo>
                  <a:pt x="242" y="334"/>
                </a:lnTo>
                <a:lnTo>
                  <a:pt x="254" y="330"/>
                </a:lnTo>
                <a:lnTo>
                  <a:pt x="267" y="325"/>
                </a:lnTo>
                <a:lnTo>
                  <a:pt x="281" y="321"/>
                </a:lnTo>
                <a:lnTo>
                  <a:pt x="296" y="315"/>
                </a:lnTo>
                <a:lnTo>
                  <a:pt x="311" y="309"/>
                </a:lnTo>
                <a:lnTo>
                  <a:pt x="327" y="304"/>
                </a:lnTo>
                <a:lnTo>
                  <a:pt x="344" y="296"/>
                </a:lnTo>
                <a:lnTo>
                  <a:pt x="361" y="290"/>
                </a:lnTo>
                <a:lnTo>
                  <a:pt x="378" y="282"/>
                </a:lnTo>
                <a:lnTo>
                  <a:pt x="398" y="277"/>
                </a:lnTo>
                <a:lnTo>
                  <a:pt x="417" y="269"/>
                </a:lnTo>
                <a:lnTo>
                  <a:pt x="438" y="261"/>
                </a:lnTo>
                <a:lnTo>
                  <a:pt x="457" y="252"/>
                </a:lnTo>
                <a:lnTo>
                  <a:pt x="480" y="244"/>
                </a:lnTo>
                <a:lnTo>
                  <a:pt x="501" y="235"/>
                </a:lnTo>
                <a:lnTo>
                  <a:pt x="524" y="225"/>
                </a:lnTo>
                <a:lnTo>
                  <a:pt x="549" y="215"/>
                </a:lnTo>
                <a:lnTo>
                  <a:pt x="574" y="20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Freeform 196"/>
          <p:cNvSpPr/>
          <p:nvPr/>
        </p:nvSpPr>
        <p:spPr>
          <a:xfrm>
            <a:off x="5521320" y="3828960"/>
            <a:ext cx="249120" cy="736560"/>
          </a:xfrm>
          <a:custGeom>
            <a:avLst/>
            <a:gdLst/>
            <a:ahLst/>
            <a:rect l="l" t="t" r="r" b="b"/>
            <a:pathLst>
              <a:path w="313" h="929">
                <a:moveTo>
                  <a:pt x="8" y="23"/>
                </a:moveTo>
                <a:lnTo>
                  <a:pt x="12" y="17"/>
                </a:lnTo>
                <a:lnTo>
                  <a:pt x="16" y="13"/>
                </a:lnTo>
                <a:lnTo>
                  <a:pt x="20" y="9"/>
                </a:lnTo>
                <a:lnTo>
                  <a:pt x="25" y="7"/>
                </a:lnTo>
                <a:lnTo>
                  <a:pt x="31" y="5"/>
                </a:lnTo>
                <a:lnTo>
                  <a:pt x="39" y="4"/>
                </a:lnTo>
                <a:lnTo>
                  <a:pt x="46" y="2"/>
                </a:lnTo>
                <a:lnTo>
                  <a:pt x="54" y="0"/>
                </a:lnTo>
                <a:lnTo>
                  <a:pt x="64" y="0"/>
                </a:lnTo>
                <a:lnTo>
                  <a:pt x="73" y="0"/>
                </a:lnTo>
                <a:lnTo>
                  <a:pt x="83" y="2"/>
                </a:lnTo>
                <a:lnTo>
                  <a:pt x="94" y="2"/>
                </a:lnTo>
                <a:lnTo>
                  <a:pt x="117" y="4"/>
                </a:lnTo>
                <a:lnTo>
                  <a:pt x="140" y="9"/>
                </a:lnTo>
                <a:lnTo>
                  <a:pt x="154" y="11"/>
                </a:lnTo>
                <a:lnTo>
                  <a:pt x="165" y="15"/>
                </a:lnTo>
                <a:lnTo>
                  <a:pt x="175" y="17"/>
                </a:lnTo>
                <a:lnTo>
                  <a:pt x="187" y="21"/>
                </a:lnTo>
                <a:lnTo>
                  <a:pt x="196" y="25"/>
                </a:lnTo>
                <a:lnTo>
                  <a:pt x="204" y="28"/>
                </a:lnTo>
                <a:lnTo>
                  <a:pt x="213" y="32"/>
                </a:lnTo>
                <a:lnTo>
                  <a:pt x="221" y="36"/>
                </a:lnTo>
                <a:lnTo>
                  <a:pt x="229" y="42"/>
                </a:lnTo>
                <a:lnTo>
                  <a:pt x="235" y="46"/>
                </a:lnTo>
                <a:lnTo>
                  <a:pt x="240" y="50"/>
                </a:lnTo>
                <a:lnTo>
                  <a:pt x="246" y="55"/>
                </a:lnTo>
                <a:lnTo>
                  <a:pt x="250" y="59"/>
                </a:lnTo>
                <a:lnTo>
                  <a:pt x="254" y="65"/>
                </a:lnTo>
                <a:lnTo>
                  <a:pt x="258" y="69"/>
                </a:lnTo>
                <a:lnTo>
                  <a:pt x="261" y="75"/>
                </a:lnTo>
                <a:lnTo>
                  <a:pt x="261" y="78"/>
                </a:lnTo>
                <a:lnTo>
                  <a:pt x="263" y="84"/>
                </a:lnTo>
                <a:lnTo>
                  <a:pt x="263" y="92"/>
                </a:lnTo>
                <a:lnTo>
                  <a:pt x="265" y="101"/>
                </a:lnTo>
                <a:lnTo>
                  <a:pt x="267" y="111"/>
                </a:lnTo>
                <a:lnTo>
                  <a:pt x="267" y="123"/>
                </a:lnTo>
                <a:lnTo>
                  <a:pt x="269" y="134"/>
                </a:lnTo>
                <a:lnTo>
                  <a:pt x="271" y="149"/>
                </a:lnTo>
                <a:lnTo>
                  <a:pt x="271" y="165"/>
                </a:lnTo>
                <a:lnTo>
                  <a:pt x="273" y="182"/>
                </a:lnTo>
                <a:lnTo>
                  <a:pt x="275" y="199"/>
                </a:lnTo>
                <a:lnTo>
                  <a:pt x="277" y="220"/>
                </a:lnTo>
                <a:lnTo>
                  <a:pt x="277" y="242"/>
                </a:lnTo>
                <a:lnTo>
                  <a:pt x="279" y="265"/>
                </a:lnTo>
                <a:lnTo>
                  <a:pt x="281" y="288"/>
                </a:lnTo>
                <a:lnTo>
                  <a:pt x="282" y="314"/>
                </a:lnTo>
                <a:lnTo>
                  <a:pt x="284" y="341"/>
                </a:lnTo>
                <a:lnTo>
                  <a:pt x="284" y="370"/>
                </a:lnTo>
                <a:lnTo>
                  <a:pt x="286" y="401"/>
                </a:lnTo>
                <a:lnTo>
                  <a:pt x="288" y="432"/>
                </a:lnTo>
                <a:lnTo>
                  <a:pt x="290" y="464"/>
                </a:lnTo>
                <a:lnTo>
                  <a:pt x="292" y="499"/>
                </a:lnTo>
                <a:lnTo>
                  <a:pt x="294" y="535"/>
                </a:lnTo>
                <a:lnTo>
                  <a:pt x="296" y="574"/>
                </a:lnTo>
                <a:lnTo>
                  <a:pt x="298" y="612"/>
                </a:lnTo>
                <a:lnTo>
                  <a:pt x="300" y="652"/>
                </a:lnTo>
                <a:lnTo>
                  <a:pt x="302" y="695"/>
                </a:lnTo>
                <a:lnTo>
                  <a:pt x="304" y="739"/>
                </a:lnTo>
                <a:lnTo>
                  <a:pt x="306" y="783"/>
                </a:lnTo>
                <a:lnTo>
                  <a:pt x="309" y="831"/>
                </a:lnTo>
                <a:lnTo>
                  <a:pt x="311" y="879"/>
                </a:lnTo>
                <a:lnTo>
                  <a:pt x="313" y="929"/>
                </a:lnTo>
                <a:lnTo>
                  <a:pt x="259" y="929"/>
                </a:lnTo>
                <a:lnTo>
                  <a:pt x="208" y="929"/>
                </a:lnTo>
                <a:lnTo>
                  <a:pt x="206" y="885"/>
                </a:lnTo>
                <a:lnTo>
                  <a:pt x="206" y="840"/>
                </a:lnTo>
                <a:lnTo>
                  <a:pt x="202" y="796"/>
                </a:lnTo>
                <a:lnTo>
                  <a:pt x="198" y="750"/>
                </a:lnTo>
                <a:lnTo>
                  <a:pt x="194" y="706"/>
                </a:lnTo>
                <a:lnTo>
                  <a:pt x="190" y="662"/>
                </a:lnTo>
                <a:lnTo>
                  <a:pt x="181" y="574"/>
                </a:lnTo>
                <a:lnTo>
                  <a:pt x="171" y="529"/>
                </a:lnTo>
                <a:lnTo>
                  <a:pt x="162" y="487"/>
                </a:lnTo>
                <a:lnTo>
                  <a:pt x="152" y="447"/>
                </a:lnTo>
                <a:lnTo>
                  <a:pt x="140" y="407"/>
                </a:lnTo>
                <a:lnTo>
                  <a:pt x="131" y="368"/>
                </a:lnTo>
                <a:lnTo>
                  <a:pt x="121" y="330"/>
                </a:lnTo>
                <a:lnTo>
                  <a:pt x="112" y="293"/>
                </a:lnTo>
                <a:lnTo>
                  <a:pt x="102" y="259"/>
                </a:lnTo>
                <a:lnTo>
                  <a:pt x="96" y="242"/>
                </a:lnTo>
                <a:lnTo>
                  <a:pt x="91" y="224"/>
                </a:lnTo>
                <a:lnTo>
                  <a:pt x="87" y="209"/>
                </a:lnTo>
                <a:lnTo>
                  <a:pt x="81" y="194"/>
                </a:lnTo>
                <a:lnTo>
                  <a:pt x="77" y="180"/>
                </a:lnTo>
                <a:lnTo>
                  <a:pt x="71" y="167"/>
                </a:lnTo>
                <a:lnTo>
                  <a:pt x="66" y="153"/>
                </a:lnTo>
                <a:lnTo>
                  <a:pt x="62" y="142"/>
                </a:lnTo>
                <a:lnTo>
                  <a:pt x="56" y="130"/>
                </a:lnTo>
                <a:lnTo>
                  <a:pt x="52" y="121"/>
                </a:lnTo>
                <a:lnTo>
                  <a:pt x="46" y="111"/>
                </a:lnTo>
                <a:lnTo>
                  <a:pt x="43" y="101"/>
                </a:lnTo>
                <a:lnTo>
                  <a:pt x="37" y="94"/>
                </a:lnTo>
                <a:lnTo>
                  <a:pt x="31" y="86"/>
                </a:lnTo>
                <a:lnTo>
                  <a:pt x="27" y="80"/>
                </a:lnTo>
                <a:lnTo>
                  <a:pt x="21" y="75"/>
                </a:lnTo>
                <a:lnTo>
                  <a:pt x="18" y="73"/>
                </a:lnTo>
                <a:lnTo>
                  <a:pt x="14" y="69"/>
                </a:lnTo>
                <a:lnTo>
                  <a:pt x="10" y="65"/>
                </a:lnTo>
                <a:lnTo>
                  <a:pt x="6" y="63"/>
                </a:lnTo>
                <a:lnTo>
                  <a:pt x="4" y="59"/>
                </a:lnTo>
                <a:lnTo>
                  <a:pt x="2" y="55"/>
                </a:lnTo>
                <a:lnTo>
                  <a:pt x="2" y="52"/>
                </a:lnTo>
                <a:lnTo>
                  <a:pt x="0" y="48"/>
                </a:lnTo>
                <a:lnTo>
                  <a:pt x="0" y="42"/>
                </a:lnTo>
                <a:lnTo>
                  <a:pt x="2" y="34"/>
                </a:lnTo>
                <a:lnTo>
                  <a:pt x="4" y="28"/>
                </a:lnTo>
                <a:lnTo>
                  <a:pt x="8" y="2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Freeform 197"/>
          <p:cNvSpPr/>
          <p:nvPr/>
        </p:nvSpPr>
        <p:spPr>
          <a:xfrm>
            <a:off x="6022800" y="3911760"/>
            <a:ext cx="304920" cy="122040"/>
          </a:xfrm>
          <a:custGeom>
            <a:avLst/>
            <a:gdLst/>
            <a:ahLst/>
            <a:rect l="l" t="t" r="r" b="b"/>
            <a:pathLst>
              <a:path w="384" h="156">
                <a:moveTo>
                  <a:pt x="384" y="64"/>
                </a:moveTo>
                <a:lnTo>
                  <a:pt x="384" y="66"/>
                </a:lnTo>
                <a:lnTo>
                  <a:pt x="382" y="69"/>
                </a:lnTo>
                <a:lnTo>
                  <a:pt x="380" y="71"/>
                </a:lnTo>
                <a:lnTo>
                  <a:pt x="376" y="75"/>
                </a:lnTo>
                <a:lnTo>
                  <a:pt x="372" y="79"/>
                </a:lnTo>
                <a:lnTo>
                  <a:pt x="368" y="83"/>
                </a:lnTo>
                <a:lnTo>
                  <a:pt x="363" y="87"/>
                </a:lnTo>
                <a:lnTo>
                  <a:pt x="355" y="91"/>
                </a:lnTo>
                <a:lnTo>
                  <a:pt x="349" y="92"/>
                </a:lnTo>
                <a:lnTo>
                  <a:pt x="340" y="96"/>
                </a:lnTo>
                <a:lnTo>
                  <a:pt x="332" y="100"/>
                </a:lnTo>
                <a:lnTo>
                  <a:pt x="322" y="104"/>
                </a:lnTo>
                <a:lnTo>
                  <a:pt x="313" y="108"/>
                </a:lnTo>
                <a:lnTo>
                  <a:pt x="301" y="110"/>
                </a:lnTo>
                <a:lnTo>
                  <a:pt x="290" y="114"/>
                </a:lnTo>
                <a:lnTo>
                  <a:pt x="278" y="116"/>
                </a:lnTo>
                <a:lnTo>
                  <a:pt x="265" y="121"/>
                </a:lnTo>
                <a:lnTo>
                  <a:pt x="251" y="125"/>
                </a:lnTo>
                <a:lnTo>
                  <a:pt x="238" y="129"/>
                </a:lnTo>
                <a:lnTo>
                  <a:pt x="222" y="133"/>
                </a:lnTo>
                <a:lnTo>
                  <a:pt x="207" y="137"/>
                </a:lnTo>
                <a:lnTo>
                  <a:pt x="192" y="140"/>
                </a:lnTo>
                <a:lnTo>
                  <a:pt x="176" y="142"/>
                </a:lnTo>
                <a:lnTo>
                  <a:pt x="159" y="146"/>
                </a:lnTo>
                <a:lnTo>
                  <a:pt x="140" y="148"/>
                </a:lnTo>
                <a:lnTo>
                  <a:pt x="123" y="150"/>
                </a:lnTo>
                <a:lnTo>
                  <a:pt x="103" y="152"/>
                </a:lnTo>
                <a:lnTo>
                  <a:pt x="84" y="154"/>
                </a:lnTo>
                <a:lnTo>
                  <a:pt x="63" y="154"/>
                </a:lnTo>
                <a:lnTo>
                  <a:pt x="42" y="154"/>
                </a:lnTo>
                <a:lnTo>
                  <a:pt x="21" y="156"/>
                </a:lnTo>
                <a:lnTo>
                  <a:pt x="0" y="156"/>
                </a:lnTo>
                <a:lnTo>
                  <a:pt x="0" y="50"/>
                </a:lnTo>
                <a:lnTo>
                  <a:pt x="8" y="50"/>
                </a:lnTo>
                <a:lnTo>
                  <a:pt x="15" y="50"/>
                </a:lnTo>
                <a:lnTo>
                  <a:pt x="25" y="48"/>
                </a:lnTo>
                <a:lnTo>
                  <a:pt x="34" y="48"/>
                </a:lnTo>
                <a:lnTo>
                  <a:pt x="54" y="44"/>
                </a:lnTo>
                <a:lnTo>
                  <a:pt x="77" y="41"/>
                </a:lnTo>
                <a:lnTo>
                  <a:pt x="100" y="35"/>
                </a:lnTo>
                <a:lnTo>
                  <a:pt x="123" y="29"/>
                </a:lnTo>
                <a:lnTo>
                  <a:pt x="148" y="20"/>
                </a:lnTo>
                <a:lnTo>
                  <a:pt x="173" y="12"/>
                </a:lnTo>
                <a:lnTo>
                  <a:pt x="196" y="6"/>
                </a:lnTo>
                <a:lnTo>
                  <a:pt x="219" y="4"/>
                </a:lnTo>
                <a:lnTo>
                  <a:pt x="240" y="2"/>
                </a:lnTo>
                <a:lnTo>
                  <a:pt x="261" y="0"/>
                </a:lnTo>
                <a:lnTo>
                  <a:pt x="280" y="2"/>
                </a:lnTo>
                <a:lnTo>
                  <a:pt x="299" y="4"/>
                </a:lnTo>
                <a:lnTo>
                  <a:pt x="315" y="6"/>
                </a:lnTo>
                <a:lnTo>
                  <a:pt x="332" y="12"/>
                </a:lnTo>
                <a:lnTo>
                  <a:pt x="338" y="14"/>
                </a:lnTo>
                <a:lnTo>
                  <a:pt x="345" y="16"/>
                </a:lnTo>
                <a:lnTo>
                  <a:pt x="351" y="20"/>
                </a:lnTo>
                <a:lnTo>
                  <a:pt x="355" y="23"/>
                </a:lnTo>
                <a:lnTo>
                  <a:pt x="361" y="27"/>
                </a:lnTo>
                <a:lnTo>
                  <a:pt x="365" y="29"/>
                </a:lnTo>
                <a:lnTo>
                  <a:pt x="368" y="33"/>
                </a:lnTo>
                <a:lnTo>
                  <a:pt x="372" y="37"/>
                </a:lnTo>
                <a:lnTo>
                  <a:pt x="378" y="44"/>
                </a:lnTo>
                <a:lnTo>
                  <a:pt x="382" y="52"/>
                </a:lnTo>
                <a:lnTo>
                  <a:pt x="384" y="58"/>
                </a:lnTo>
                <a:lnTo>
                  <a:pt x="384" y="6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Freeform 198"/>
          <p:cNvSpPr/>
          <p:nvPr/>
        </p:nvSpPr>
        <p:spPr>
          <a:xfrm>
            <a:off x="5959440" y="3543480"/>
            <a:ext cx="157320" cy="907920"/>
          </a:xfrm>
          <a:custGeom>
            <a:avLst/>
            <a:gdLst/>
            <a:ahLst/>
            <a:rect l="l" t="t" r="r" b="b"/>
            <a:pathLst>
              <a:path w="200" h="1144">
                <a:moveTo>
                  <a:pt x="0" y="0"/>
                </a:moveTo>
                <a:lnTo>
                  <a:pt x="23" y="13"/>
                </a:lnTo>
                <a:lnTo>
                  <a:pt x="42" y="25"/>
                </a:lnTo>
                <a:lnTo>
                  <a:pt x="62" y="36"/>
                </a:lnTo>
                <a:lnTo>
                  <a:pt x="81" y="48"/>
                </a:lnTo>
                <a:lnTo>
                  <a:pt x="96" y="57"/>
                </a:lnTo>
                <a:lnTo>
                  <a:pt x="112" y="67"/>
                </a:lnTo>
                <a:lnTo>
                  <a:pt x="127" y="77"/>
                </a:lnTo>
                <a:lnTo>
                  <a:pt x="140" y="86"/>
                </a:lnTo>
                <a:lnTo>
                  <a:pt x="152" y="94"/>
                </a:lnTo>
                <a:lnTo>
                  <a:pt x="161" y="101"/>
                </a:lnTo>
                <a:lnTo>
                  <a:pt x="171" y="109"/>
                </a:lnTo>
                <a:lnTo>
                  <a:pt x="181" y="115"/>
                </a:lnTo>
                <a:lnTo>
                  <a:pt x="186" y="121"/>
                </a:lnTo>
                <a:lnTo>
                  <a:pt x="192" y="125"/>
                </a:lnTo>
                <a:lnTo>
                  <a:pt x="196" y="128"/>
                </a:lnTo>
                <a:lnTo>
                  <a:pt x="200" y="132"/>
                </a:lnTo>
                <a:lnTo>
                  <a:pt x="200" y="142"/>
                </a:lnTo>
                <a:lnTo>
                  <a:pt x="200" y="153"/>
                </a:lnTo>
                <a:lnTo>
                  <a:pt x="200" y="167"/>
                </a:lnTo>
                <a:lnTo>
                  <a:pt x="198" y="180"/>
                </a:lnTo>
                <a:lnTo>
                  <a:pt x="196" y="196"/>
                </a:lnTo>
                <a:lnTo>
                  <a:pt x="194" y="213"/>
                </a:lnTo>
                <a:lnTo>
                  <a:pt x="190" y="230"/>
                </a:lnTo>
                <a:lnTo>
                  <a:pt x="186" y="249"/>
                </a:lnTo>
                <a:lnTo>
                  <a:pt x="184" y="255"/>
                </a:lnTo>
                <a:lnTo>
                  <a:pt x="184" y="263"/>
                </a:lnTo>
                <a:lnTo>
                  <a:pt x="183" y="270"/>
                </a:lnTo>
                <a:lnTo>
                  <a:pt x="183" y="280"/>
                </a:lnTo>
                <a:lnTo>
                  <a:pt x="181" y="292"/>
                </a:lnTo>
                <a:lnTo>
                  <a:pt x="181" y="305"/>
                </a:lnTo>
                <a:lnTo>
                  <a:pt x="179" y="318"/>
                </a:lnTo>
                <a:lnTo>
                  <a:pt x="179" y="334"/>
                </a:lnTo>
                <a:lnTo>
                  <a:pt x="179" y="351"/>
                </a:lnTo>
                <a:lnTo>
                  <a:pt x="177" y="368"/>
                </a:lnTo>
                <a:lnTo>
                  <a:pt x="177" y="387"/>
                </a:lnTo>
                <a:lnTo>
                  <a:pt x="175" y="409"/>
                </a:lnTo>
                <a:lnTo>
                  <a:pt x="175" y="432"/>
                </a:lnTo>
                <a:lnTo>
                  <a:pt x="175" y="455"/>
                </a:lnTo>
                <a:lnTo>
                  <a:pt x="173" y="480"/>
                </a:lnTo>
                <a:lnTo>
                  <a:pt x="173" y="506"/>
                </a:lnTo>
                <a:lnTo>
                  <a:pt x="173" y="533"/>
                </a:lnTo>
                <a:lnTo>
                  <a:pt x="171" y="562"/>
                </a:lnTo>
                <a:lnTo>
                  <a:pt x="171" y="593"/>
                </a:lnTo>
                <a:lnTo>
                  <a:pt x="171" y="626"/>
                </a:lnTo>
                <a:lnTo>
                  <a:pt x="169" y="658"/>
                </a:lnTo>
                <a:lnTo>
                  <a:pt x="169" y="693"/>
                </a:lnTo>
                <a:lnTo>
                  <a:pt x="169" y="729"/>
                </a:lnTo>
                <a:lnTo>
                  <a:pt x="167" y="768"/>
                </a:lnTo>
                <a:lnTo>
                  <a:pt x="167" y="806"/>
                </a:lnTo>
                <a:lnTo>
                  <a:pt x="165" y="846"/>
                </a:lnTo>
                <a:lnTo>
                  <a:pt x="165" y="888"/>
                </a:lnTo>
                <a:lnTo>
                  <a:pt x="165" y="931"/>
                </a:lnTo>
                <a:lnTo>
                  <a:pt x="163" y="975"/>
                </a:lnTo>
                <a:lnTo>
                  <a:pt x="161" y="1021"/>
                </a:lnTo>
                <a:lnTo>
                  <a:pt x="161" y="1067"/>
                </a:lnTo>
                <a:lnTo>
                  <a:pt x="160" y="1117"/>
                </a:lnTo>
                <a:lnTo>
                  <a:pt x="94" y="1130"/>
                </a:lnTo>
                <a:lnTo>
                  <a:pt x="27" y="1144"/>
                </a:lnTo>
                <a:lnTo>
                  <a:pt x="27" y="1117"/>
                </a:lnTo>
                <a:lnTo>
                  <a:pt x="27" y="1090"/>
                </a:lnTo>
                <a:lnTo>
                  <a:pt x="27" y="1063"/>
                </a:lnTo>
                <a:lnTo>
                  <a:pt x="27" y="1034"/>
                </a:lnTo>
                <a:lnTo>
                  <a:pt x="27" y="1006"/>
                </a:lnTo>
                <a:lnTo>
                  <a:pt x="27" y="977"/>
                </a:lnTo>
                <a:lnTo>
                  <a:pt x="25" y="946"/>
                </a:lnTo>
                <a:lnTo>
                  <a:pt x="25" y="915"/>
                </a:lnTo>
                <a:lnTo>
                  <a:pt x="25" y="885"/>
                </a:lnTo>
                <a:lnTo>
                  <a:pt x="23" y="854"/>
                </a:lnTo>
                <a:lnTo>
                  <a:pt x="23" y="821"/>
                </a:lnTo>
                <a:lnTo>
                  <a:pt x="23" y="789"/>
                </a:lnTo>
                <a:lnTo>
                  <a:pt x="21" y="754"/>
                </a:lnTo>
                <a:lnTo>
                  <a:pt x="21" y="721"/>
                </a:lnTo>
                <a:lnTo>
                  <a:pt x="19" y="685"/>
                </a:lnTo>
                <a:lnTo>
                  <a:pt x="19" y="650"/>
                </a:lnTo>
                <a:lnTo>
                  <a:pt x="17" y="614"/>
                </a:lnTo>
                <a:lnTo>
                  <a:pt x="17" y="578"/>
                </a:lnTo>
                <a:lnTo>
                  <a:pt x="16" y="541"/>
                </a:lnTo>
                <a:lnTo>
                  <a:pt x="16" y="503"/>
                </a:lnTo>
                <a:lnTo>
                  <a:pt x="14" y="464"/>
                </a:lnTo>
                <a:lnTo>
                  <a:pt x="14" y="426"/>
                </a:lnTo>
                <a:lnTo>
                  <a:pt x="12" y="386"/>
                </a:lnTo>
                <a:lnTo>
                  <a:pt x="10" y="345"/>
                </a:lnTo>
                <a:lnTo>
                  <a:pt x="10" y="305"/>
                </a:lnTo>
                <a:lnTo>
                  <a:pt x="8" y="263"/>
                </a:lnTo>
                <a:lnTo>
                  <a:pt x="6" y="220"/>
                </a:lnTo>
                <a:lnTo>
                  <a:pt x="6" y="178"/>
                </a:lnTo>
                <a:lnTo>
                  <a:pt x="4" y="134"/>
                </a:lnTo>
                <a:lnTo>
                  <a:pt x="4" y="90"/>
                </a:lnTo>
                <a:lnTo>
                  <a:pt x="2" y="46"/>
                </a:lnTo>
                <a:lnTo>
                  <a:pt x="0"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Freeform 199"/>
          <p:cNvSpPr/>
          <p:nvPr/>
        </p:nvSpPr>
        <p:spPr>
          <a:xfrm>
            <a:off x="5823000" y="3481560"/>
            <a:ext cx="420480" cy="134640"/>
          </a:xfrm>
          <a:custGeom>
            <a:avLst/>
            <a:gdLst/>
            <a:ahLst/>
            <a:rect l="l" t="t" r="r" b="b"/>
            <a:pathLst>
              <a:path w="530" h="171">
                <a:moveTo>
                  <a:pt x="0" y="67"/>
                </a:moveTo>
                <a:lnTo>
                  <a:pt x="8" y="65"/>
                </a:lnTo>
                <a:lnTo>
                  <a:pt x="16" y="65"/>
                </a:lnTo>
                <a:lnTo>
                  <a:pt x="25" y="65"/>
                </a:lnTo>
                <a:lnTo>
                  <a:pt x="33" y="63"/>
                </a:lnTo>
                <a:lnTo>
                  <a:pt x="54" y="61"/>
                </a:lnTo>
                <a:lnTo>
                  <a:pt x="75" y="56"/>
                </a:lnTo>
                <a:lnTo>
                  <a:pt x="98" y="52"/>
                </a:lnTo>
                <a:lnTo>
                  <a:pt x="123" y="44"/>
                </a:lnTo>
                <a:lnTo>
                  <a:pt x="146" y="37"/>
                </a:lnTo>
                <a:lnTo>
                  <a:pt x="171" y="27"/>
                </a:lnTo>
                <a:lnTo>
                  <a:pt x="185" y="25"/>
                </a:lnTo>
                <a:lnTo>
                  <a:pt x="200" y="21"/>
                </a:lnTo>
                <a:lnTo>
                  <a:pt x="215" y="19"/>
                </a:lnTo>
                <a:lnTo>
                  <a:pt x="231" y="17"/>
                </a:lnTo>
                <a:lnTo>
                  <a:pt x="250" y="15"/>
                </a:lnTo>
                <a:lnTo>
                  <a:pt x="269" y="13"/>
                </a:lnTo>
                <a:lnTo>
                  <a:pt x="288" y="12"/>
                </a:lnTo>
                <a:lnTo>
                  <a:pt x="311" y="10"/>
                </a:lnTo>
                <a:lnTo>
                  <a:pt x="334" y="8"/>
                </a:lnTo>
                <a:lnTo>
                  <a:pt x="357" y="6"/>
                </a:lnTo>
                <a:lnTo>
                  <a:pt x="384" y="4"/>
                </a:lnTo>
                <a:lnTo>
                  <a:pt x="411" y="2"/>
                </a:lnTo>
                <a:lnTo>
                  <a:pt x="438" y="2"/>
                </a:lnTo>
                <a:lnTo>
                  <a:pt x="467" y="2"/>
                </a:lnTo>
                <a:lnTo>
                  <a:pt x="498" y="0"/>
                </a:lnTo>
                <a:lnTo>
                  <a:pt x="530" y="0"/>
                </a:lnTo>
                <a:lnTo>
                  <a:pt x="530" y="46"/>
                </a:lnTo>
                <a:lnTo>
                  <a:pt x="530" y="92"/>
                </a:lnTo>
                <a:lnTo>
                  <a:pt x="400" y="111"/>
                </a:lnTo>
                <a:lnTo>
                  <a:pt x="271" y="133"/>
                </a:lnTo>
                <a:lnTo>
                  <a:pt x="142" y="152"/>
                </a:lnTo>
                <a:lnTo>
                  <a:pt x="14" y="171"/>
                </a:lnTo>
                <a:lnTo>
                  <a:pt x="6" y="119"/>
                </a:lnTo>
                <a:lnTo>
                  <a:pt x="0" y="6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200"/>
          <p:cNvSpPr/>
          <p:nvPr/>
        </p:nvSpPr>
        <p:spPr>
          <a:xfrm>
            <a:off x="5737320" y="3011400"/>
            <a:ext cx="654120" cy="501840"/>
          </a:xfrm>
          <a:custGeom>
            <a:avLst/>
            <a:gdLst/>
            <a:ahLst/>
            <a:rect l="l" t="t" r="r" b="b"/>
            <a:pathLst>
              <a:path w="823" h="631">
                <a:moveTo>
                  <a:pt x="823" y="184"/>
                </a:moveTo>
                <a:lnTo>
                  <a:pt x="821" y="194"/>
                </a:lnTo>
                <a:lnTo>
                  <a:pt x="819" y="203"/>
                </a:lnTo>
                <a:lnTo>
                  <a:pt x="818" y="213"/>
                </a:lnTo>
                <a:lnTo>
                  <a:pt x="814" y="223"/>
                </a:lnTo>
                <a:lnTo>
                  <a:pt x="810" y="230"/>
                </a:lnTo>
                <a:lnTo>
                  <a:pt x="806" y="238"/>
                </a:lnTo>
                <a:lnTo>
                  <a:pt x="800" y="244"/>
                </a:lnTo>
                <a:lnTo>
                  <a:pt x="796" y="249"/>
                </a:lnTo>
                <a:lnTo>
                  <a:pt x="791" y="253"/>
                </a:lnTo>
                <a:lnTo>
                  <a:pt x="787" y="257"/>
                </a:lnTo>
                <a:lnTo>
                  <a:pt x="781" y="261"/>
                </a:lnTo>
                <a:lnTo>
                  <a:pt x="775" y="267"/>
                </a:lnTo>
                <a:lnTo>
                  <a:pt x="772" y="274"/>
                </a:lnTo>
                <a:lnTo>
                  <a:pt x="766" y="280"/>
                </a:lnTo>
                <a:lnTo>
                  <a:pt x="760" y="290"/>
                </a:lnTo>
                <a:lnTo>
                  <a:pt x="754" y="297"/>
                </a:lnTo>
                <a:lnTo>
                  <a:pt x="748" y="307"/>
                </a:lnTo>
                <a:lnTo>
                  <a:pt x="743" y="318"/>
                </a:lnTo>
                <a:lnTo>
                  <a:pt x="737" y="328"/>
                </a:lnTo>
                <a:lnTo>
                  <a:pt x="731" y="340"/>
                </a:lnTo>
                <a:lnTo>
                  <a:pt x="724" y="353"/>
                </a:lnTo>
                <a:lnTo>
                  <a:pt x="718" y="366"/>
                </a:lnTo>
                <a:lnTo>
                  <a:pt x="710" y="380"/>
                </a:lnTo>
                <a:lnTo>
                  <a:pt x="702" y="395"/>
                </a:lnTo>
                <a:lnTo>
                  <a:pt x="689" y="428"/>
                </a:lnTo>
                <a:lnTo>
                  <a:pt x="676" y="461"/>
                </a:lnTo>
                <a:lnTo>
                  <a:pt x="664" y="493"/>
                </a:lnTo>
                <a:lnTo>
                  <a:pt x="654" y="522"/>
                </a:lnTo>
                <a:lnTo>
                  <a:pt x="651" y="537"/>
                </a:lnTo>
                <a:lnTo>
                  <a:pt x="647" y="551"/>
                </a:lnTo>
                <a:lnTo>
                  <a:pt x="645" y="566"/>
                </a:lnTo>
                <a:lnTo>
                  <a:pt x="641" y="580"/>
                </a:lnTo>
                <a:lnTo>
                  <a:pt x="639" y="593"/>
                </a:lnTo>
                <a:lnTo>
                  <a:pt x="637" y="606"/>
                </a:lnTo>
                <a:lnTo>
                  <a:pt x="637" y="618"/>
                </a:lnTo>
                <a:lnTo>
                  <a:pt x="637" y="631"/>
                </a:lnTo>
                <a:lnTo>
                  <a:pt x="564" y="631"/>
                </a:lnTo>
                <a:lnTo>
                  <a:pt x="491" y="631"/>
                </a:lnTo>
                <a:lnTo>
                  <a:pt x="491" y="624"/>
                </a:lnTo>
                <a:lnTo>
                  <a:pt x="491" y="614"/>
                </a:lnTo>
                <a:lnTo>
                  <a:pt x="493" y="603"/>
                </a:lnTo>
                <a:lnTo>
                  <a:pt x="493" y="591"/>
                </a:lnTo>
                <a:lnTo>
                  <a:pt x="495" y="580"/>
                </a:lnTo>
                <a:lnTo>
                  <a:pt x="497" y="566"/>
                </a:lnTo>
                <a:lnTo>
                  <a:pt x="499" y="551"/>
                </a:lnTo>
                <a:lnTo>
                  <a:pt x="501" y="535"/>
                </a:lnTo>
                <a:lnTo>
                  <a:pt x="503" y="520"/>
                </a:lnTo>
                <a:lnTo>
                  <a:pt x="507" y="503"/>
                </a:lnTo>
                <a:lnTo>
                  <a:pt x="510" y="484"/>
                </a:lnTo>
                <a:lnTo>
                  <a:pt x="514" y="464"/>
                </a:lnTo>
                <a:lnTo>
                  <a:pt x="518" y="445"/>
                </a:lnTo>
                <a:lnTo>
                  <a:pt x="522" y="424"/>
                </a:lnTo>
                <a:lnTo>
                  <a:pt x="526" y="403"/>
                </a:lnTo>
                <a:lnTo>
                  <a:pt x="532" y="382"/>
                </a:lnTo>
                <a:lnTo>
                  <a:pt x="535" y="361"/>
                </a:lnTo>
                <a:lnTo>
                  <a:pt x="539" y="340"/>
                </a:lnTo>
                <a:lnTo>
                  <a:pt x="543" y="320"/>
                </a:lnTo>
                <a:lnTo>
                  <a:pt x="547" y="303"/>
                </a:lnTo>
                <a:lnTo>
                  <a:pt x="551" y="286"/>
                </a:lnTo>
                <a:lnTo>
                  <a:pt x="555" y="271"/>
                </a:lnTo>
                <a:lnTo>
                  <a:pt x="557" y="257"/>
                </a:lnTo>
                <a:lnTo>
                  <a:pt x="558" y="244"/>
                </a:lnTo>
                <a:lnTo>
                  <a:pt x="560" y="232"/>
                </a:lnTo>
                <a:lnTo>
                  <a:pt x="562" y="221"/>
                </a:lnTo>
                <a:lnTo>
                  <a:pt x="562" y="213"/>
                </a:lnTo>
                <a:lnTo>
                  <a:pt x="562" y="203"/>
                </a:lnTo>
                <a:lnTo>
                  <a:pt x="562" y="198"/>
                </a:lnTo>
                <a:lnTo>
                  <a:pt x="560" y="192"/>
                </a:lnTo>
                <a:lnTo>
                  <a:pt x="558" y="188"/>
                </a:lnTo>
                <a:lnTo>
                  <a:pt x="557" y="184"/>
                </a:lnTo>
                <a:lnTo>
                  <a:pt x="555" y="182"/>
                </a:lnTo>
                <a:lnTo>
                  <a:pt x="549" y="180"/>
                </a:lnTo>
                <a:lnTo>
                  <a:pt x="543" y="180"/>
                </a:lnTo>
                <a:lnTo>
                  <a:pt x="535" y="178"/>
                </a:lnTo>
                <a:lnTo>
                  <a:pt x="526" y="178"/>
                </a:lnTo>
                <a:lnTo>
                  <a:pt x="516" y="178"/>
                </a:lnTo>
                <a:lnTo>
                  <a:pt x="505" y="180"/>
                </a:lnTo>
                <a:lnTo>
                  <a:pt x="491" y="180"/>
                </a:lnTo>
                <a:lnTo>
                  <a:pt x="476" y="182"/>
                </a:lnTo>
                <a:lnTo>
                  <a:pt x="461" y="184"/>
                </a:lnTo>
                <a:lnTo>
                  <a:pt x="445" y="186"/>
                </a:lnTo>
                <a:lnTo>
                  <a:pt x="426" y="188"/>
                </a:lnTo>
                <a:lnTo>
                  <a:pt x="409" y="190"/>
                </a:lnTo>
                <a:lnTo>
                  <a:pt x="388" y="192"/>
                </a:lnTo>
                <a:lnTo>
                  <a:pt x="367" y="196"/>
                </a:lnTo>
                <a:lnTo>
                  <a:pt x="345" y="198"/>
                </a:lnTo>
                <a:lnTo>
                  <a:pt x="295" y="203"/>
                </a:lnTo>
                <a:lnTo>
                  <a:pt x="249" y="207"/>
                </a:lnTo>
                <a:lnTo>
                  <a:pt x="203" y="211"/>
                </a:lnTo>
                <a:lnTo>
                  <a:pt x="157" y="217"/>
                </a:lnTo>
                <a:lnTo>
                  <a:pt x="136" y="217"/>
                </a:lnTo>
                <a:lnTo>
                  <a:pt x="115" y="219"/>
                </a:lnTo>
                <a:lnTo>
                  <a:pt x="96" y="221"/>
                </a:lnTo>
                <a:lnTo>
                  <a:pt x="75" y="223"/>
                </a:lnTo>
                <a:lnTo>
                  <a:pt x="56" y="223"/>
                </a:lnTo>
                <a:lnTo>
                  <a:pt x="36" y="223"/>
                </a:lnTo>
                <a:lnTo>
                  <a:pt x="19" y="224"/>
                </a:lnTo>
                <a:lnTo>
                  <a:pt x="0" y="224"/>
                </a:lnTo>
                <a:lnTo>
                  <a:pt x="0" y="132"/>
                </a:lnTo>
                <a:lnTo>
                  <a:pt x="31" y="128"/>
                </a:lnTo>
                <a:lnTo>
                  <a:pt x="57" y="127"/>
                </a:lnTo>
                <a:lnTo>
                  <a:pt x="86" y="123"/>
                </a:lnTo>
                <a:lnTo>
                  <a:pt x="113" y="121"/>
                </a:lnTo>
                <a:lnTo>
                  <a:pt x="138" y="117"/>
                </a:lnTo>
                <a:lnTo>
                  <a:pt x="163" y="113"/>
                </a:lnTo>
                <a:lnTo>
                  <a:pt x="186" y="109"/>
                </a:lnTo>
                <a:lnTo>
                  <a:pt x="209" y="105"/>
                </a:lnTo>
                <a:lnTo>
                  <a:pt x="232" y="102"/>
                </a:lnTo>
                <a:lnTo>
                  <a:pt x="253" y="98"/>
                </a:lnTo>
                <a:lnTo>
                  <a:pt x="272" y="94"/>
                </a:lnTo>
                <a:lnTo>
                  <a:pt x="292" y="92"/>
                </a:lnTo>
                <a:lnTo>
                  <a:pt x="309" y="88"/>
                </a:lnTo>
                <a:lnTo>
                  <a:pt x="326" y="84"/>
                </a:lnTo>
                <a:lnTo>
                  <a:pt x="343" y="82"/>
                </a:lnTo>
                <a:lnTo>
                  <a:pt x="359" y="80"/>
                </a:lnTo>
                <a:lnTo>
                  <a:pt x="382" y="75"/>
                </a:lnTo>
                <a:lnTo>
                  <a:pt x="405" y="69"/>
                </a:lnTo>
                <a:lnTo>
                  <a:pt x="426" y="63"/>
                </a:lnTo>
                <a:lnTo>
                  <a:pt x="447" y="57"/>
                </a:lnTo>
                <a:lnTo>
                  <a:pt x="455" y="56"/>
                </a:lnTo>
                <a:lnTo>
                  <a:pt x="464" y="52"/>
                </a:lnTo>
                <a:lnTo>
                  <a:pt x="472" y="48"/>
                </a:lnTo>
                <a:lnTo>
                  <a:pt x="480" y="44"/>
                </a:lnTo>
                <a:lnTo>
                  <a:pt x="487" y="40"/>
                </a:lnTo>
                <a:lnTo>
                  <a:pt x="493" y="36"/>
                </a:lnTo>
                <a:lnTo>
                  <a:pt x="499" y="32"/>
                </a:lnTo>
                <a:lnTo>
                  <a:pt x="505" y="27"/>
                </a:lnTo>
                <a:lnTo>
                  <a:pt x="510" y="21"/>
                </a:lnTo>
                <a:lnTo>
                  <a:pt x="516" y="17"/>
                </a:lnTo>
                <a:lnTo>
                  <a:pt x="524" y="13"/>
                </a:lnTo>
                <a:lnTo>
                  <a:pt x="532" y="9"/>
                </a:lnTo>
                <a:lnTo>
                  <a:pt x="541" y="6"/>
                </a:lnTo>
                <a:lnTo>
                  <a:pt x="551" y="2"/>
                </a:lnTo>
                <a:lnTo>
                  <a:pt x="560" y="2"/>
                </a:lnTo>
                <a:lnTo>
                  <a:pt x="570" y="0"/>
                </a:lnTo>
                <a:lnTo>
                  <a:pt x="574" y="0"/>
                </a:lnTo>
                <a:lnTo>
                  <a:pt x="578" y="2"/>
                </a:lnTo>
                <a:lnTo>
                  <a:pt x="581" y="4"/>
                </a:lnTo>
                <a:lnTo>
                  <a:pt x="587" y="6"/>
                </a:lnTo>
                <a:lnTo>
                  <a:pt x="595" y="8"/>
                </a:lnTo>
                <a:lnTo>
                  <a:pt x="603" y="11"/>
                </a:lnTo>
                <a:lnTo>
                  <a:pt x="610" y="13"/>
                </a:lnTo>
                <a:lnTo>
                  <a:pt x="618" y="19"/>
                </a:lnTo>
                <a:lnTo>
                  <a:pt x="628" y="23"/>
                </a:lnTo>
                <a:lnTo>
                  <a:pt x="639" y="29"/>
                </a:lnTo>
                <a:lnTo>
                  <a:pt x="651" y="32"/>
                </a:lnTo>
                <a:lnTo>
                  <a:pt x="662" y="38"/>
                </a:lnTo>
                <a:lnTo>
                  <a:pt x="676" y="46"/>
                </a:lnTo>
                <a:lnTo>
                  <a:pt x="687" y="52"/>
                </a:lnTo>
                <a:lnTo>
                  <a:pt x="702" y="59"/>
                </a:lnTo>
                <a:lnTo>
                  <a:pt x="716" y="67"/>
                </a:lnTo>
                <a:lnTo>
                  <a:pt x="729" y="77"/>
                </a:lnTo>
                <a:lnTo>
                  <a:pt x="739" y="86"/>
                </a:lnTo>
                <a:lnTo>
                  <a:pt x="750" y="94"/>
                </a:lnTo>
                <a:lnTo>
                  <a:pt x="760" y="104"/>
                </a:lnTo>
                <a:lnTo>
                  <a:pt x="770" y="111"/>
                </a:lnTo>
                <a:lnTo>
                  <a:pt x="779" y="121"/>
                </a:lnTo>
                <a:lnTo>
                  <a:pt x="787" y="128"/>
                </a:lnTo>
                <a:lnTo>
                  <a:pt x="795" y="136"/>
                </a:lnTo>
                <a:lnTo>
                  <a:pt x="800" y="142"/>
                </a:lnTo>
                <a:lnTo>
                  <a:pt x="806" y="150"/>
                </a:lnTo>
                <a:lnTo>
                  <a:pt x="812" y="155"/>
                </a:lnTo>
                <a:lnTo>
                  <a:pt x="816" y="163"/>
                </a:lnTo>
                <a:lnTo>
                  <a:pt x="818" y="169"/>
                </a:lnTo>
                <a:lnTo>
                  <a:pt x="821" y="175"/>
                </a:lnTo>
                <a:lnTo>
                  <a:pt x="821" y="178"/>
                </a:lnTo>
                <a:lnTo>
                  <a:pt x="823" y="18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201"/>
          <p:cNvSpPr/>
          <p:nvPr/>
        </p:nvSpPr>
        <p:spPr>
          <a:xfrm>
            <a:off x="5653080" y="3090960"/>
            <a:ext cx="209520" cy="568080"/>
          </a:xfrm>
          <a:custGeom>
            <a:avLst/>
            <a:gdLst/>
            <a:ahLst/>
            <a:rect l="l" t="t" r="r" b="b"/>
            <a:pathLst>
              <a:path w="265" h="716">
                <a:moveTo>
                  <a:pt x="29" y="98"/>
                </a:moveTo>
                <a:lnTo>
                  <a:pt x="22" y="88"/>
                </a:lnTo>
                <a:lnTo>
                  <a:pt x="16" y="78"/>
                </a:lnTo>
                <a:lnTo>
                  <a:pt x="12" y="71"/>
                </a:lnTo>
                <a:lnTo>
                  <a:pt x="6" y="63"/>
                </a:lnTo>
                <a:lnTo>
                  <a:pt x="4" y="55"/>
                </a:lnTo>
                <a:lnTo>
                  <a:pt x="2" y="50"/>
                </a:lnTo>
                <a:lnTo>
                  <a:pt x="0" y="42"/>
                </a:lnTo>
                <a:lnTo>
                  <a:pt x="0" y="36"/>
                </a:lnTo>
                <a:lnTo>
                  <a:pt x="0" y="32"/>
                </a:lnTo>
                <a:lnTo>
                  <a:pt x="0" y="27"/>
                </a:lnTo>
                <a:lnTo>
                  <a:pt x="4" y="23"/>
                </a:lnTo>
                <a:lnTo>
                  <a:pt x="6" y="19"/>
                </a:lnTo>
                <a:lnTo>
                  <a:pt x="12" y="15"/>
                </a:lnTo>
                <a:lnTo>
                  <a:pt x="16" y="11"/>
                </a:lnTo>
                <a:lnTo>
                  <a:pt x="22" y="7"/>
                </a:lnTo>
                <a:lnTo>
                  <a:pt x="29" y="5"/>
                </a:lnTo>
                <a:lnTo>
                  <a:pt x="35" y="4"/>
                </a:lnTo>
                <a:lnTo>
                  <a:pt x="41" y="2"/>
                </a:lnTo>
                <a:lnTo>
                  <a:pt x="48" y="0"/>
                </a:lnTo>
                <a:lnTo>
                  <a:pt x="56" y="0"/>
                </a:lnTo>
                <a:lnTo>
                  <a:pt x="66" y="0"/>
                </a:lnTo>
                <a:lnTo>
                  <a:pt x="75" y="2"/>
                </a:lnTo>
                <a:lnTo>
                  <a:pt x="87" y="2"/>
                </a:lnTo>
                <a:lnTo>
                  <a:pt x="98" y="4"/>
                </a:lnTo>
                <a:lnTo>
                  <a:pt x="112" y="5"/>
                </a:lnTo>
                <a:lnTo>
                  <a:pt x="125" y="7"/>
                </a:lnTo>
                <a:lnTo>
                  <a:pt x="141" y="11"/>
                </a:lnTo>
                <a:lnTo>
                  <a:pt x="156" y="15"/>
                </a:lnTo>
                <a:lnTo>
                  <a:pt x="173" y="19"/>
                </a:lnTo>
                <a:lnTo>
                  <a:pt x="190" y="23"/>
                </a:lnTo>
                <a:lnTo>
                  <a:pt x="208" y="27"/>
                </a:lnTo>
                <a:lnTo>
                  <a:pt x="229" y="32"/>
                </a:lnTo>
                <a:lnTo>
                  <a:pt x="231" y="75"/>
                </a:lnTo>
                <a:lnTo>
                  <a:pt x="235" y="115"/>
                </a:lnTo>
                <a:lnTo>
                  <a:pt x="238" y="155"/>
                </a:lnTo>
                <a:lnTo>
                  <a:pt x="240" y="194"/>
                </a:lnTo>
                <a:lnTo>
                  <a:pt x="244" y="230"/>
                </a:lnTo>
                <a:lnTo>
                  <a:pt x="246" y="266"/>
                </a:lnTo>
                <a:lnTo>
                  <a:pt x="250" y="299"/>
                </a:lnTo>
                <a:lnTo>
                  <a:pt x="252" y="332"/>
                </a:lnTo>
                <a:lnTo>
                  <a:pt x="254" y="364"/>
                </a:lnTo>
                <a:lnTo>
                  <a:pt x="256" y="393"/>
                </a:lnTo>
                <a:lnTo>
                  <a:pt x="258" y="422"/>
                </a:lnTo>
                <a:lnTo>
                  <a:pt x="260" y="451"/>
                </a:lnTo>
                <a:lnTo>
                  <a:pt x="261" y="476"/>
                </a:lnTo>
                <a:lnTo>
                  <a:pt x="261" y="501"/>
                </a:lnTo>
                <a:lnTo>
                  <a:pt x="263" y="524"/>
                </a:lnTo>
                <a:lnTo>
                  <a:pt x="263" y="545"/>
                </a:lnTo>
                <a:lnTo>
                  <a:pt x="265" y="566"/>
                </a:lnTo>
                <a:lnTo>
                  <a:pt x="265" y="585"/>
                </a:lnTo>
                <a:lnTo>
                  <a:pt x="265" y="602"/>
                </a:lnTo>
                <a:lnTo>
                  <a:pt x="265" y="620"/>
                </a:lnTo>
                <a:lnTo>
                  <a:pt x="265" y="635"/>
                </a:lnTo>
                <a:lnTo>
                  <a:pt x="263" y="648"/>
                </a:lnTo>
                <a:lnTo>
                  <a:pt x="263" y="662"/>
                </a:lnTo>
                <a:lnTo>
                  <a:pt x="261" y="673"/>
                </a:lnTo>
                <a:lnTo>
                  <a:pt x="260" y="683"/>
                </a:lnTo>
                <a:lnTo>
                  <a:pt x="258" y="691"/>
                </a:lnTo>
                <a:lnTo>
                  <a:pt x="256" y="698"/>
                </a:lnTo>
                <a:lnTo>
                  <a:pt x="254" y="704"/>
                </a:lnTo>
                <a:lnTo>
                  <a:pt x="252" y="708"/>
                </a:lnTo>
                <a:lnTo>
                  <a:pt x="248" y="712"/>
                </a:lnTo>
                <a:lnTo>
                  <a:pt x="244" y="714"/>
                </a:lnTo>
                <a:lnTo>
                  <a:pt x="242" y="716"/>
                </a:lnTo>
                <a:lnTo>
                  <a:pt x="238" y="714"/>
                </a:lnTo>
                <a:lnTo>
                  <a:pt x="235" y="714"/>
                </a:lnTo>
                <a:lnTo>
                  <a:pt x="231" y="712"/>
                </a:lnTo>
                <a:lnTo>
                  <a:pt x="227" y="710"/>
                </a:lnTo>
                <a:lnTo>
                  <a:pt x="223" y="708"/>
                </a:lnTo>
                <a:lnTo>
                  <a:pt x="219" y="704"/>
                </a:lnTo>
                <a:lnTo>
                  <a:pt x="215" y="702"/>
                </a:lnTo>
                <a:lnTo>
                  <a:pt x="212" y="698"/>
                </a:lnTo>
                <a:lnTo>
                  <a:pt x="208" y="693"/>
                </a:lnTo>
                <a:lnTo>
                  <a:pt x="204" y="689"/>
                </a:lnTo>
                <a:lnTo>
                  <a:pt x="200" y="683"/>
                </a:lnTo>
                <a:lnTo>
                  <a:pt x="196" y="675"/>
                </a:lnTo>
                <a:lnTo>
                  <a:pt x="194" y="670"/>
                </a:lnTo>
                <a:lnTo>
                  <a:pt x="190" y="662"/>
                </a:lnTo>
                <a:lnTo>
                  <a:pt x="187" y="654"/>
                </a:lnTo>
                <a:lnTo>
                  <a:pt x="183" y="647"/>
                </a:lnTo>
                <a:lnTo>
                  <a:pt x="179" y="637"/>
                </a:lnTo>
                <a:lnTo>
                  <a:pt x="177" y="627"/>
                </a:lnTo>
                <a:lnTo>
                  <a:pt x="173" y="618"/>
                </a:lnTo>
                <a:lnTo>
                  <a:pt x="169" y="606"/>
                </a:lnTo>
                <a:lnTo>
                  <a:pt x="167" y="597"/>
                </a:lnTo>
                <a:lnTo>
                  <a:pt x="164" y="585"/>
                </a:lnTo>
                <a:lnTo>
                  <a:pt x="160" y="572"/>
                </a:lnTo>
                <a:lnTo>
                  <a:pt x="158" y="560"/>
                </a:lnTo>
                <a:lnTo>
                  <a:pt x="154" y="547"/>
                </a:lnTo>
                <a:lnTo>
                  <a:pt x="152" y="533"/>
                </a:lnTo>
                <a:lnTo>
                  <a:pt x="148" y="518"/>
                </a:lnTo>
                <a:lnTo>
                  <a:pt x="146" y="504"/>
                </a:lnTo>
                <a:lnTo>
                  <a:pt x="142" y="487"/>
                </a:lnTo>
                <a:lnTo>
                  <a:pt x="141" y="472"/>
                </a:lnTo>
                <a:lnTo>
                  <a:pt x="139" y="457"/>
                </a:lnTo>
                <a:lnTo>
                  <a:pt x="135" y="439"/>
                </a:lnTo>
                <a:lnTo>
                  <a:pt x="127" y="405"/>
                </a:lnTo>
                <a:lnTo>
                  <a:pt x="121" y="372"/>
                </a:lnTo>
                <a:lnTo>
                  <a:pt x="114" y="343"/>
                </a:lnTo>
                <a:lnTo>
                  <a:pt x="108" y="314"/>
                </a:lnTo>
                <a:lnTo>
                  <a:pt x="102" y="286"/>
                </a:lnTo>
                <a:lnTo>
                  <a:pt x="94" y="261"/>
                </a:lnTo>
                <a:lnTo>
                  <a:pt x="89" y="236"/>
                </a:lnTo>
                <a:lnTo>
                  <a:pt x="83" y="215"/>
                </a:lnTo>
                <a:lnTo>
                  <a:pt x="75" y="194"/>
                </a:lnTo>
                <a:lnTo>
                  <a:pt x="70" y="174"/>
                </a:lnTo>
                <a:lnTo>
                  <a:pt x="64" y="157"/>
                </a:lnTo>
                <a:lnTo>
                  <a:pt x="56" y="142"/>
                </a:lnTo>
                <a:lnTo>
                  <a:pt x="50" y="128"/>
                </a:lnTo>
                <a:lnTo>
                  <a:pt x="43" y="117"/>
                </a:lnTo>
                <a:lnTo>
                  <a:pt x="37" y="105"/>
                </a:lnTo>
                <a:lnTo>
                  <a:pt x="29" y="9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gtEl>
                                        <p:attrNameLst>
                                          <p:attrName>style.visibility</p:attrName>
                                        </p:attrNameLst>
                                      </p:cBhvr>
                                      <p:to>
                                        <p:strVal val="visible"/>
                                      </p:to>
                                    </p:set>
                                    <p:anim calcmode="lin" valueType="num">
                                      <p:cBhvr additive="base">
                                        <p:cTn id="7" dur="500" fill="hold"/>
                                        <p:tgtEl>
                                          <p:spTgt spid="81"/>
                                        </p:tgtEl>
                                        <p:attrNameLst>
                                          <p:attrName>ppt_x</p:attrName>
                                        </p:attrNameLst>
                                      </p:cBhvr>
                                      <p:tavLst>
                                        <p:tav tm="0">
                                          <p:val>
                                            <p:strVal val="0-#ppt_w/2"/>
                                          </p:val>
                                        </p:tav>
                                        <p:tav tm="100000">
                                          <p:val>
                                            <p:strVal val="#ppt_x"/>
                                          </p:val>
                                        </p:tav>
                                      </p:tavLst>
                                    </p:anim>
                                    <p:anim calcmode="lin" valueType="num">
                                      <p:cBhvr additive="base">
                                        <p:cTn id="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7"/>
                                        </p:tgtEl>
                                        <p:attrNameLst>
                                          <p:attrName>style.visibility</p:attrName>
                                        </p:attrNameLst>
                                      </p:cBhvr>
                                      <p:to>
                                        <p:strVal val="visible"/>
                                      </p:to>
                                    </p:set>
                                    <p:animEffect filter="wipe(left)" transition="in">
                                      <p:cBhvr additive="repl">
                                        <p:cTn id="13" dur="500"/>
                                        <p:tgtEl>
                                          <p:spTgt spid="97"/>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8" presetSubtype="6">
                                  <p:stCondLst>
                                    <p:cond delay="0"/>
                                  </p:stCondLst>
                                  <p:childTnLst>
                                    <p:set>
                                      <p:cBhvr>
                                        <p:cTn id="17" dur="1" fill="hold">
                                          <p:stCondLst>
                                            <p:cond delay="0"/>
                                          </p:stCondLst>
                                        </p:cTn>
                                        <p:tgtEl>
                                          <p:spTgt spid="96"/>
                                        </p:tgtEl>
                                        <p:attrNameLst>
                                          <p:attrName>style.visibility</p:attrName>
                                        </p:attrNameLst>
                                      </p:cBhvr>
                                      <p:to>
                                        <p:strVal val="visible"/>
                                      </p:to>
                                    </p:set>
                                    <p:animEffect filter="strips(downRight)" transition="in">
                                      <p:cBhvr additive="repl">
                                        <p:cTn id="18" dur="500"/>
                                        <p:tgtEl>
                                          <p:spTgt spid="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95"/>
                                        </p:tgtEl>
                                        <p:attrNameLst>
                                          <p:attrName>style.visibility</p:attrName>
                                        </p:attrNameLst>
                                      </p:cBhvr>
                                      <p:to>
                                        <p:strVal val="visible"/>
                                      </p:to>
                                    </p:set>
                                    <p:animEffect filter="wipe(left)" transition="in">
                                      <p:cBhvr additive="repl">
                                        <p:cTn id="23" dur="500"/>
                                        <p:tgtEl>
                                          <p:spTgt spid="95"/>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94"/>
                                        </p:tgtEl>
                                        <p:attrNameLst>
                                          <p:attrName>style.visibility</p:attrName>
                                        </p:attrNameLst>
                                      </p:cBhvr>
                                      <p:to>
                                        <p:strVal val="visible"/>
                                      </p:to>
                                    </p:set>
                                    <p:animEffect filter="wipe(up)" transition="in">
                                      <p:cBhvr additive="repl">
                                        <p:cTn id="28" dur="500"/>
                                        <p:tgtEl>
                                          <p:spTgt spid="94"/>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93"/>
                                        </p:tgtEl>
                                        <p:attrNameLst>
                                          <p:attrName>style.visibility</p:attrName>
                                        </p:attrNameLst>
                                      </p:cBhvr>
                                      <p:to>
                                        <p:strVal val="visible"/>
                                      </p:to>
                                    </p:set>
                                    <p:animEffect filter="wipe(left)" transition="in">
                                      <p:cBhvr additive="repl">
                                        <p:cTn id="33" dur="500"/>
                                        <p:tgtEl>
                                          <p:spTgt spid="9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92"/>
                                        </p:tgtEl>
                                        <p:attrNameLst>
                                          <p:attrName>style.visibility</p:attrName>
                                        </p:attrNameLst>
                                      </p:cBhvr>
                                      <p:to>
                                        <p:strVal val="visible"/>
                                      </p:to>
                                    </p:set>
                                    <p:animEffect filter="wipe(up)" transition="in">
                                      <p:cBhvr additive="repl">
                                        <p:cTn id="38" dur="500"/>
                                        <p:tgtEl>
                                          <p:spTgt spid="92"/>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91"/>
                                        </p:tgtEl>
                                        <p:attrNameLst>
                                          <p:attrName>style.visibility</p:attrName>
                                        </p:attrNameLst>
                                      </p:cBhvr>
                                      <p:to>
                                        <p:strVal val="visible"/>
                                      </p:to>
                                    </p:set>
                                    <p:animEffect filter="wipe(left)" transition="in">
                                      <p:cBhvr additive="repl">
                                        <p:cTn id="43" dur="500"/>
                                        <p:tgtEl>
                                          <p:spTgt spid="91"/>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90"/>
                                        </p:tgtEl>
                                        <p:attrNameLst>
                                          <p:attrName>style.visibility</p:attrName>
                                        </p:attrNameLst>
                                      </p:cBhvr>
                                      <p:to>
                                        <p:strVal val="visible"/>
                                      </p:to>
                                    </p:set>
                                    <p:animEffect filter="wipe(up)" transition="in">
                                      <p:cBhvr additive="repl">
                                        <p:cTn id="48" dur="500"/>
                                        <p:tgtEl>
                                          <p:spTgt spid="90"/>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89"/>
                                        </p:tgtEl>
                                        <p:attrNameLst>
                                          <p:attrName>style.visibility</p:attrName>
                                        </p:attrNameLst>
                                      </p:cBhvr>
                                      <p:to>
                                        <p:strVal val="visible"/>
                                      </p:to>
                                    </p:set>
                                    <p:animEffect filter="wipe(left)" transition="in">
                                      <p:cBhvr additive="repl">
                                        <p:cTn id="53" dur="500"/>
                                        <p:tgtEl>
                                          <p:spTgt spid="89"/>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88"/>
                                        </p:tgtEl>
                                        <p:attrNameLst>
                                          <p:attrName>style.visibility</p:attrName>
                                        </p:attrNameLst>
                                      </p:cBhvr>
                                      <p:to>
                                        <p:strVal val="visible"/>
                                      </p:to>
                                    </p:set>
                                    <p:animEffect filter="wipe(up)" transition="in">
                                      <p:cBhvr additive="repl">
                                        <p:cTn id="58" dur="500"/>
                                        <p:tgtEl>
                                          <p:spTgt spid="8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87"/>
                                        </p:tgtEl>
                                        <p:attrNameLst>
                                          <p:attrName>style.visibility</p:attrName>
                                        </p:attrNameLst>
                                      </p:cBhvr>
                                      <p:to>
                                        <p:strVal val="visible"/>
                                      </p:to>
                                    </p:set>
                                    <p:animEffect filter="wipe(up)" transition="in">
                                      <p:cBhvr additive="repl">
                                        <p:cTn id="63" dur="500"/>
                                        <p:tgtEl>
                                          <p:spTgt spid="87"/>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86"/>
                                        </p:tgtEl>
                                        <p:attrNameLst>
                                          <p:attrName>style.visibility</p:attrName>
                                        </p:attrNameLst>
                                      </p:cBhvr>
                                      <p:to>
                                        <p:strVal val="visible"/>
                                      </p:to>
                                    </p:set>
                                    <p:animEffect filter="wipe(left)" transition="in">
                                      <p:cBhvr additive="repl">
                                        <p:cTn id="68" dur="500"/>
                                        <p:tgtEl>
                                          <p:spTgt spid="86"/>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85"/>
                                        </p:tgtEl>
                                        <p:attrNameLst>
                                          <p:attrName>style.visibility</p:attrName>
                                        </p:attrNameLst>
                                      </p:cBhvr>
                                      <p:to>
                                        <p:strVal val="visible"/>
                                      </p:to>
                                    </p:set>
                                    <p:animEffect filter="wipe(up)" transition="in">
                                      <p:cBhvr additive="repl">
                                        <p:cTn id="73" dur="500"/>
                                        <p:tgtEl>
                                          <p:spTgt spid="85"/>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8" presetSubtype="6">
                                  <p:stCondLst>
                                    <p:cond delay="0"/>
                                  </p:stCondLst>
                                  <p:childTnLst>
                                    <p:set>
                                      <p:cBhvr>
                                        <p:cTn id="77" dur="1" fill="hold">
                                          <p:stCondLst>
                                            <p:cond delay="0"/>
                                          </p:stCondLst>
                                        </p:cTn>
                                        <p:tgtEl>
                                          <p:spTgt spid="84"/>
                                        </p:tgtEl>
                                        <p:attrNameLst>
                                          <p:attrName>style.visibility</p:attrName>
                                        </p:attrNameLst>
                                      </p:cBhvr>
                                      <p:to>
                                        <p:strVal val="visible"/>
                                      </p:to>
                                    </p:set>
                                    <p:animEffect filter="strips(downRight)" transition="in">
                                      <p:cBhvr additive="repl">
                                        <p:cTn id="78" dur="500"/>
                                        <p:tgtEl>
                                          <p:spTgt spid="84"/>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83"/>
                                        </p:tgtEl>
                                        <p:attrNameLst>
                                          <p:attrName>style.visibility</p:attrName>
                                        </p:attrNameLst>
                                      </p:cBhvr>
                                      <p:to>
                                        <p:strVal val="visible"/>
                                      </p:to>
                                    </p:set>
                                    <p:animEffect filter="wipe(left)" transition="in">
                                      <p:cBhvr additive="repl">
                                        <p:cTn id="83" dur="500"/>
                                        <p:tgtEl>
                                          <p:spTgt spid="83"/>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53" presetSubtype="16">
                                  <p:stCondLst>
                                    <p:cond delay="0"/>
                                  </p:stCondLst>
                                  <p:childTnLst>
                                    <p:set>
                                      <p:cBhvr>
                                        <p:cTn id="87" dur="1" fill="hold">
                                          <p:stCondLst>
                                            <p:cond delay="0"/>
                                          </p:stCondLst>
                                        </p:cTn>
                                        <p:tgtEl>
                                          <p:spTgt spid="78"/>
                                        </p:tgtEl>
                                        <p:attrNameLst>
                                          <p:attrName>style.visibility</p:attrName>
                                        </p:attrNameLst>
                                      </p:cBhvr>
                                      <p:to>
                                        <p:strVal val="visible"/>
                                      </p:to>
                                    </p:set>
                                    <p:anim calcmode="lin" valueType="num">
                                      <p:cBhvr additive="repl">
                                        <p:cTn id="88" dur="500" fill="hold"/>
                                        <p:tgtEl>
                                          <p:spTgt spid="78"/>
                                        </p:tgtEl>
                                        <p:attrNameLst>
                                          <p:attrName>ppt_w</p:attrName>
                                        </p:attrNameLst>
                                      </p:cBhvr>
                                      <p:tavLst>
                                        <p:tav tm="0">
                                          <p:val>
                                            <p:fltVal val="0"/>
                                          </p:val>
                                        </p:tav>
                                        <p:tav tm="100000">
                                          <p:val>
                                            <p:strVal val="#ppt_w"/>
                                          </p:val>
                                        </p:tav>
                                      </p:tavLst>
                                    </p:anim>
                                    <p:anim calcmode="lin" valueType="num">
                                      <p:cBhvr additive="repl">
                                        <p:cTn id="89" dur="500" fill="hold"/>
                                        <p:tgtEl>
                                          <p:spTgt spid="78"/>
                                        </p:tgtEl>
                                        <p:attrNameLst>
                                          <p:attrName>ppt_h</p:attrName>
                                        </p:attrNameLst>
                                      </p:cBhvr>
                                      <p:tavLst>
                                        <p:tav tm="0">
                                          <p:val>
                                            <p:fltVal val="0"/>
                                          </p:val>
                                        </p:tav>
                                        <p:tav tm="100000">
                                          <p:val>
                                            <p:strVal val="#ppt_h"/>
                                          </p:val>
                                        </p:tav>
                                      </p:tavLst>
                                    </p:anim>
                                    <p:animEffect filter="fade" transition="in">
                                      <p:cBhvr additive="repl">
                                        <p:cTn id="9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9"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啥</a:t>
            </a:r>
            <a:endParaRPr b="0" lang="en-US" sz="8000" spc="-1" strike="noStrike">
              <a:solidFill>
                <a:srgbClr val="000000"/>
              </a:solidFill>
              <a:latin typeface="Calibri"/>
            </a:endParaRPr>
          </a:p>
        </p:txBody>
      </p:sp>
      <p:grpSp>
        <p:nvGrpSpPr>
          <p:cNvPr id="100" name="组合 3"/>
          <p:cNvGrpSpPr/>
          <p:nvPr/>
        </p:nvGrpSpPr>
        <p:grpSpPr>
          <a:xfrm>
            <a:off x="1400040" y="3975120"/>
            <a:ext cx="2840040" cy="1571760"/>
            <a:chOff x="1400040" y="3975120"/>
            <a:chExt cx="2840040" cy="1571760"/>
          </a:xfrm>
        </p:grpSpPr>
        <p:pic>
          <p:nvPicPr>
            <p:cNvPr id="101" name="图示 4" descr=""/>
            <p:cNvPicPr/>
            <p:nvPr/>
          </p:nvPicPr>
          <p:blipFill>
            <a:blip r:embed="rId1"/>
            <a:stretch/>
          </p:blipFill>
          <p:spPr>
            <a:xfrm>
              <a:off x="1400040" y="3975120"/>
              <a:ext cx="2840040" cy="1571760"/>
            </a:xfrm>
            <a:prstGeom prst="rect">
              <a:avLst/>
            </a:prstGeom>
            <a:ln w="0">
              <a:noFill/>
            </a:ln>
          </p:spPr>
        </p:pic>
        <p:sp>
          <p:nvSpPr>
            <p:cNvPr id="102" name="矩形 2"/>
            <p:cNvSpPr/>
            <p:nvPr/>
          </p:nvSpPr>
          <p:spPr>
            <a:xfrm>
              <a:off x="1444680" y="458784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舍”的起笔在竖中线上，撇、捺要舒展。</a:t>
              </a:r>
              <a:endParaRPr b="0" lang="en-US" sz="2000" spc="-1" strike="noStrike">
                <a:solidFill>
                  <a:srgbClr val="000000"/>
                </a:solidFill>
                <a:latin typeface="Calibri"/>
              </a:endParaRPr>
            </a:p>
          </p:txBody>
        </p:sp>
      </p:grpSp>
      <p:sp>
        <p:nvSpPr>
          <p:cNvPr id="103" name="矩形 2"/>
          <p:cNvSpPr/>
          <p:nvPr/>
        </p:nvSpPr>
        <p:spPr>
          <a:xfrm>
            <a:off x="1971720" y="1825560"/>
            <a:ext cx="1560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shá</a:t>
            </a:r>
            <a:endParaRPr b="0" lang="en-US" sz="4800" spc="-1" strike="noStrike">
              <a:solidFill>
                <a:srgbClr val="000000"/>
              </a:solidFill>
              <a:latin typeface="Calibri"/>
            </a:endParaRPr>
          </a:p>
        </p:txBody>
      </p:sp>
      <p:sp>
        <p:nvSpPr>
          <p:cNvPr id="104" name="Freeform 108"/>
          <p:cNvSpPr/>
          <p:nvPr/>
        </p:nvSpPr>
        <p:spPr>
          <a:xfrm>
            <a:off x="6245280" y="4484520"/>
            <a:ext cx="176040" cy="615960"/>
          </a:xfrm>
          <a:custGeom>
            <a:avLst/>
            <a:gdLst/>
            <a:ahLst/>
            <a:rect l="l" t="t" r="r" b="b"/>
            <a:pathLst>
              <a:path w="223" h="775">
                <a:moveTo>
                  <a:pt x="27" y="128"/>
                </a:moveTo>
                <a:lnTo>
                  <a:pt x="21" y="117"/>
                </a:lnTo>
                <a:lnTo>
                  <a:pt x="15" y="105"/>
                </a:lnTo>
                <a:lnTo>
                  <a:pt x="12" y="94"/>
                </a:lnTo>
                <a:lnTo>
                  <a:pt x="8" y="84"/>
                </a:lnTo>
                <a:lnTo>
                  <a:pt x="6" y="74"/>
                </a:lnTo>
                <a:lnTo>
                  <a:pt x="2" y="65"/>
                </a:lnTo>
                <a:lnTo>
                  <a:pt x="2" y="55"/>
                </a:lnTo>
                <a:lnTo>
                  <a:pt x="0" y="48"/>
                </a:lnTo>
                <a:lnTo>
                  <a:pt x="0" y="40"/>
                </a:lnTo>
                <a:lnTo>
                  <a:pt x="0" y="32"/>
                </a:lnTo>
                <a:lnTo>
                  <a:pt x="2" y="25"/>
                </a:lnTo>
                <a:lnTo>
                  <a:pt x="4" y="19"/>
                </a:lnTo>
                <a:lnTo>
                  <a:pt x="6" y="15"/>
                </a:lnTo>
                <a:lnTo>
                  <a:pt x="8" y="9"/>
                </a:lnTo>
                <a:lnTo>
                  <a:pt x="12" y="7"/>
                </a:lnTo>
                <a:lnTo>
                  <a:pt x="15" y="3"/>
                </a:lnTo>
                <a:lnTo>
                  <a:pt x="19" y="1"/>
                </a:lnTo>
                <a:lnTo>
                  <a:pt x="23" y="0"/>
                </a:lnTo>
                <a:lnTo>
                  <a:pt x="29" y="0"/>
                </a:lnTo>
                <a:lnTo>
                  <a:pt x="35" y="1"/>
                </a:lnTo>
                <a:lnTo>
                  <a:pt x="42" y="1"/>
                </a:lnTo>
                <a:lnTo>
                  <a:pt x="52" y="3"/>
                </a:lnTo>
                <a:lnTo>
                  <a:pt x="62" y="7"/>
                </a:lnTo>
                <a:lnTo>
                  <a:pt x="73" y="9"/>
                </a:lnTo>
                <a:lnTo>
                  <a:pt x="86" y="13"/>
                </a:lnTo>
                <a:lnTo>
                  <a:pt x="100" y="17"/>
                </a:lnTo>
                <a:lnTo>
                  <a:pt x="113" y="23"/>
                </a:lnTo>
                <a:lnTo>
                  <a:pt x="129" y="28"/>
                </a:lnTo>
                <a:lnTo>
                  <a:pt x="146" y="34"/>
                </a:lnTo>
                <a:lnTo>
                  <a:pt x="163" y="40"/>
                </a:lnTo>
                <a:lnTo>
                  <a:pt x="181" y="46"/>
                </a:lnTo>
                <a:lnTo>
                  <a:pt x="200" y="53"/>
                </a:lnTo>
                <a:lnTo>
                  <a:pt x="200" y="99"/>
                </a:lnTo>
                <a:lnTo>
                  <a:pt x="200" y="124"/>
                </a:lnTo>
                <a:lnTo>
                  <a:pt x="202" y="147"/>
                </a:lnTo>
                <a:lnTo>
                  <a:pt x="202" y="170"/>
                </a:lnTo>
                <a:lnTo>
                  <a:pt x="204" y="193"/>
                </a:lnTo>
                <a:lnTo>
                  <a:pt x="207" y="216"/>
                </a:lnTo>
                <a:lnTo>
                  <a:pt x="211" y="240"/>
                </a:lnTo>
                <a:lnTo>
                  <a:pt x="213" y="253"/>
                </a:lnTo>
                <a:lnTo>
                  <a:pt x="215" y="264"/>
                </a:lnTo>
                <a:lnTo>
                  <a:pt x="217" y="280"/>
                </a:lnTo>
                <a:lnTo>
                  <a:pt x="217" y="293"/>
                </a:lnTo>
                <a:lnTo>
                  <a:pt x="219" y="309"/>
                </a:lnTo>
                <a:lnTo>
                  <a:pt x="219" y="326"/>
                </a:lnTo>
                <a:lnTo>
                  <a:pt x="221" y="343"/>
                </a:lnTo>
                <a:lnTo>
                  <a:pt x="221" y="362"/>
                </a:lnTo>
                <a:lnTo>
                  <a:pt x="221" y="382"/>
                </a:lnTo>
                <a:lnTo>
                  <a:pt x="221" y="401"/>
                </a:lnTo>
                <a:lnTo>
                  <a:pt x="223" y="422"/>
                </a:lnTo>
                <a:lnTo>
                  <a:pt x="223" y="443"/>
                </a:lnTo>
                <a:lnTo>
                  <a:pt x="223" y="466"/>
                </a:lnTo>
                <a:lnTo>
                  <a:pt x="223" y="489"/>
                </a:lnTo>
                <a:lnTo>
                  <a:pt x="223" y="514"/>
                </a:lnTo>
                <a:lnTo>
                  <a:pt x="223" y="539"/>
                </a:lnTo>
                <a:lnTo>
                  <a:pt x="223" y="564"/>
                </a:lnTo>
                <a:lnTo>
                  <a:pt x="223" y="587"/>
                </a:lnTo>
                <a:lnTo>
                  <a:pt x="223" y="610"/>
                </a:lnTo>
                <a:lnTo>
                  <a:pt x="223" y="631"/>
                </a:lnTo>
                <a:lnTo>
                  <a:pt x="223" y="648"/>
                </a:lnTo>
                <a:lnTo>
                  <a:pt x="221" y="668"/>
                </a:lnTo>
                <a:lnTo>
                  <a:pt x="221" y="683"/>
                </a:lnTo>
                <a:lnTo>
                  <a:pt x="221" y="698"/>
                </a:lnTo>
                <a:lnTo>
                  <a:pt x="221" y="712"/>
                </a:lnTo>
                <a:lnTo>
                  <a:pt x="219" y="723"/>
                </a:lnTo>
                <a:lnTo>
                  <a:pt x="219" y="733"/>
                </a:lnTo>
                <a:lnTo>
                  <a:pt x="217" y="742"/>
                </a:lnTo>
                <a:lnTo>
                  <a:pt x="217" y="750"/>
                </a:lnTo>
                <a:lnTo>
                  <a:pt x="215" y="756"/>
                </a:lnTo>
                <a:lnTo>
                  <a:pt x="213" y="760"/>
                </a:lnTo>
                <a:lnTo>
                  <a:pt x="211" y="764"/>
                </a:lnTo>
                <a:lnTo>
                  <a:pt x="207" y="767"/>
                </a:lnTo>
                <a:lnTo>
                  <a:pt x="202" y="771"/>
                </a:lnTo>
                <a:lnTo>
                  <a:pt x="198" y="773"/>
                </a:lnTo>
                <a:lnTo>
                  <a:pt x="192" y="775"/>
                </a:lnTo>
                <a:lnTo>
                  <a:pt x="186" y="775"/>
                </a:lnTo>
                <a:lnTo>
                  <a:pt x="181" y="775"/>
                </a:lnTo>
                <a:lnTo>
                  <a:pt x="173" y="775"/>
                </a:lnTo>
                <a:lnTo>
                  <a:pt x="165" y="775"/>
                </a:lnTo>
                <a:lnTo>
                  <a:pt x="163" y="775"/>
                </a:lnTo>
                <a:lnTo>
                  <a:pt x="161" y="775"/>
                </a:lnTo>
                <a:lnTo>
                  <a:pt x="159" y="773"/>
                </a:lnTo>
                <a:lnTo>
                  <a:pt x="157" y="771"/>
                </a:lnTo>
                <a:lnTo>
                  <a:pt x="154" y="769"/>
                </a:lnTo>
                <a:lnTo>
                  <a:pt x="152" y="765"/>
                </a:lnTo>
                <a:lnTo>
                  <a:pt x="150" y="764"/>
                </a:lnTo>
                <a:lnTo>
                  <a:pt x="148" y="760"/>
                </a:lnTo>
                <a:lnTo>
                  <a:pt x="146" y="754"/>
                </a:lnTo>
                <a:lnTo>
                  <a:pt x="144" y="750"/>
                </a:lnTo>
                <a:lnTo>
                  <a:pt x="142" y="744"/>
                </a:lnTo>
                <a:lnTo>
                  <a:pt x="140" y="739"/>
                </a:lnTo>
                <a:lnTo>
                  <a:pt x="138" y="731"/>
                </a:lnTo>
                <a:lnTo>
                  <a:pt x="136" y="725"/>
                </a:lnTo>
                <a:lnTo>
                  <a:pt x="134" y="717"/>
                </a:lnTo>
                <a:lnTo>
                  <a:pt x="133" y="708"/>
                </a:lnTo>
                <a:lnTo>
                  <a:pt x="131" y="700"/>
                </a:lnTo>
                <a:lnTo>
                  <a:pt x="129" y="691"/>
                </a:lnTo>
                <a:lnTo>
                  <a:pt x="127" y="681"/>
                </a:lnTo>
                <a:lnTo>
                  <a:pt x="125" y="671"/>
                </a:lnTo>
                <a:lnTo>
                  <a:pt x="123" y="660"/>
                </a:lnTo>
                <a:lnTo>
                  <a:pt x="121" y="648"/>
                </a:lnTo>
                <a:lnTo>
                  <a:pt x="119" y="637"/>
                </a:lnTo>
                <a:lnTo>
                  <a:pt x="119" y="623"/>
                </a:lnTo>
                <a:lnTo>
                  <a:pt x="117" y="610"/>
                </a:lnTo>
                <a:lnTo>
                  <a:pt x="115" y="597"/>
                </a:lnTo>
                <a:lnTo>
                  <a:pt x="113" y="581"/>
                </a:lnTo>
                <a:lnTo>
                  <a:pt x="113" y="568"/>
                </a:lnTo>
                <a:lnTo>
                  <a:pt x="111" y="552"/>
                </a:lnTo>
                <a:lnTo>
                  <a:pt x="110" y="535"/>
                </a:lnTo>
                <a:lnTo>
                  <a:pt x="110" y="520"/>
                </a:lnTo>
                <a:lnTo>
                  <a:pt x="108" y="502"/>
                </a:lnTo>
                <a:lnTo>
                  <a:pt x="104" y="468"/>
                </a:lnTo>
                <a:lnTo>
                  <a:pt x="100" y="435"/>
                </a:lnTo>
                <a:lnTo>
                  <a:pt x="94" y="403"/>
                </a:lnTo>
                <a:lnTo>
                  <a:pt x="90" y="374"/>
                </a:lnTo>
                <a:lnTo>
                  <a:pt x="86" y="345"/>
                </a:lnTo>
                <a:lnTo>
                  <a:pt x="81" y="318"/>
                </a:lnTo>
                <a:lnTo>
                  <a:pt x="77" y="293"/>
                </a:lnTo>
                <a:lnTo>
                  <a:pt x="71" y="268"/>
                </a:lnTo>
                <a:lnTo>
                  <a:pt x="67" y="245"/>
                </a:lnTo>
                <a:lnTo>
                  <a:pt x="62" y="224"/>
                </a:lnTo>
                <a:lnTo>
                  <a:pt x="56" y="205"/>
                </a:lnTo>
                <a:lnTo>
                  <a:pt x="52" y="186"/>
                </a:lnTo>
                <a:lnTo>
                  <a:pt x="46" y="170"/>
                </a:lnTo>
                <a:lnTo>
                  <a:pt x="40" y="155"/>
                </a:lnTo>
                <a:lnTo>
                  <a:pt x="35" y="140"/>
                </a:lnTo>
                <a:lnTo>
                  <a:pt x="27" y="12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Freeform 109"/>
          <p:cNvSpPr/>
          <p:nvPr/>
        </p:nvSpPr>
        <p:spPr>
          <a:xfrm>
            <a:off x="6375240" y="4803840"/>
            <a:ext cx="755640" cy="168120"/>
          </a:xfrm>
          <a:custGeom>
            <a:avLst/>
            <a:gdLst/>
            <a:ahLst/>
            <a:rect l="l" t="t" r="r" b="b"/>
            <a:pathLst>
              <a:path w="952" h="211">
                <a:moveTo>
                  <a:pt x="0" y="124"/>
                </a:moveTo>
                <a:lnTo>
                  <a:pt x="44" y="115"/>
                </a:lnTo>
                <a:lnTo>
                  <a:pt x="87" y="107"/>
                </a:lnTo>
                <a:lnTo>
                  <a:pt x="127" y="99"/>
                </a:lnTo>
                <a:lnTo>
                  <a:pt x="167" y="92"/>
                </a:lnTo>
                <a:lnTo>
                  <a:pt x="206" y="86"/>
                </a:lnTo>
                <a:lnTo>
                  <a:pt x="244" y="78"/>
                </a:lnTo>
                <a:lnTo>
                  <a:pt x="280" y="73"/>
                </a:lnTo>
                <a:lnTo>
                  <a:pt x="317" y="67"/>
                </a:lnTo>
                <a:lnTo>
                  <a:pt x="350" y="61"/>
                </a:lnTo>
                <a:lnTo>
                  <a:pt x="384" y="55"/>
                </a:lnTo>
                <a:lnTo>
                  <a:pt x="417" y="50"/>
                </a:lnTo>
                <a:lnTo>
                  <a:pt x="447" y="46"/>
                </a:lnTo>
                <a:lnTo>
                  <a:pt x="476" y="40"/>
                </a:lnTo>
                <a:lnTo>
                  <a:pt x="505" y="36"/>
                </a:lnTo>
                <a:lnTo>
                  <a:pt x="532" y="32"/>
                </a:lnTo>
                <a:lnTo>
                  <a:pt x="559" y="28"/>
                </a:lnTo>
                <a:lnTo>
                  <a:pt x="584" y="25"/>
                </a:lnTo>
                <a:lnTo>
                  <a:pt x="609" y="21"/>
                </a:lnTo>
                <a:lnTo>
                  <a:pt x="632" y="19"/>
                </a:lnTo>
                <a:lnTo>
                  <a:pt x="653" y="15"/>
                </a:lnTo>
                <a:lnTo>
                  <a:pt x="674" y="13"/>
                </a:lnTo>
                <a:lnTo>
                  <a:pt x="693" y="9"/>
                </a:lnTo>
                <a:lnTo>
                  <a:pt x="712" y="7"/>
                </a:lnTo>
                <a:lnTo>
                  <a:pt x="730" y="5"/>
                </a:lnTo>
                <a:lnTo>
                  <a:pt x="745" y="5"/>
                </a:lnTo>
                <a:lnTo>
                  <a:pt x="760" y="4"/>
                </a:lnTo>
                <a:lnTo>
                  <a:pt x="774" y="2"/>
                </a:lnTo>
                <a:lnTo>
                  <a:pt x="787" y="2"/>
                </a:lnTo>
                <a:lnTo>
                  <a:pt x="799" y="0"/>
                </a:lnTo>
                <a:lnTo>
                  <a:pt x="808" y="0"/>
                </a:lnTo>
                <a:lnTo>
                  <a:pt x="818" y="0"/>
                </a:lnTo>
                <a:lnTo>
                  <a:pt x="826" y="0"/>
                </a:lnTo>
                <a:lnTo>
                  <a:pt x="841" y="0"/>
                </a:lnTo>
                <a:lnTo>
                  <a:pt x="854" y="0"/>
                </a:lnTo>
                <a:lnTo>
                  <a:pt x="868" y="0"/>
                </a:lnTo>
                <a:lnTo>
                  <a:pt x="879" y="2"/>
                </a:lnTo>
                <a:lnTo>
                  <a:pt x="891" y="4"/>
                </a:lnTo>
                <a:lnTo>
                  <a:pt x="900" y="5"/>
                </a:lnTo>
                <a:lnTo>
                  <a:pt x="910" y="7"/>
                </a:lnTo>
                <a:lnTo>
                  <a:pt x="920" y="9"/>
                </a:lnTo>
                <a:lnTo>
                  <a:pt x="927" y="13"/>
                </a:lnTo>
                <a:lnTo>
                  <a:pt x="933" y="17"/>
                </a:lnTo>
                <a:lnTo>
                  <a:pt x="939" y="21"/>
                </a:lnTo>
                <a:lnTo>
                  <a:pt x="943" y="25"/>
                </a:lnTo>
                <a:lnTo>
                  <a:pt x="946" y="30"/>
                </a:lnTo>
                <a:lnTo>
                  <a:pt x="950" y="36"/>
                </a:lnTo>
                <a:lnTo>
                  <a:pt x="950" y="42"/>
                </a:lnTo>
                <a:lnTo>
                  <a:pt x="952" y="50"/>
                </a:lnTo>
                <a:lnTo>
                  <a:pt x="950" y="63"/>
                </a:lnTo>
                <a:lnTo>
                  <a:pt x="950" y="75"/>
                </a:lnTo>
                <a:lnTo>
                  <a:pt x="946" y="86"/>
                </a:lnTo>
                <a:lnTo>
                  <a:pt x="943" y="96"/>
                </a:lnTo>
                <a:lnTo>
                  <a:pt x="935" y="103"/>
                </a:lnTo>
                <a:lnTo>
                  <a:pt x="927" y="111"/>
                </a:lnTo>
                <a:lnTo>
                  <a:pt x="923" y="115"/>
                </a:lnTo>
                <a:lnTo>
                  <a:pt x="918" y="119"/>
                </a:lnTo>
                <a:lnTo>
                  <a:pt x="912" y="121"/>
                </a:lnTo>
                <a:lnTo>
                  <a:pt x="906" y="124"/>
                </a:lnTo>
                <a:lnTo>
                  <a:pt x="900" y="126"/>
                </a:lnTo>
                <a:lnTo>
                  <a:pt x="895" y="128"/>
                </a:lnTo>
                <a:lnTo>
                  <a:pt x="883" y="130"/>
                </a:lnTo>
                <a:lnTo>
                  <a:pt x="875" y="134"/>
                </a:lnTo>
                <a:lnTo>
                  <a:pt x="868" y="134"/>
                </a:lnTo>
                <a:lnTo>
                  <a:pt x="862" y="136"/>
                </a:lnTo>
                <a:lnTo>
                  <a:pt x="858" y="136"/>
                </a:lnTo>
                <a:lnTo>
                  <a:pt x="852" y="136"/>
                </a:lnTo>
                <a:lnTo>
                  <a:pt x="849" y="136"/>
                </a:lnTo>
                <a:lnTo>
                  <a:pt x="847" y="136"/>
                </a:lnTo>
                <a:lnTo>
                  <a:pt x="843" y="136"/>
                </a:lnTo>
                <a:lnTo>
                  <a:pt x="839" y="136"/>
                </a:lnTo>
                <a:lnTo>
                  <a:pt x="831" y="138"/>
                </a:lnTo>
                <a:lnTo>
                  <a:pt x="824" y="138"/>
                </a:lnTo>
                <a:lnTo>
                  <a:pt x="814" y="138"/>
                </a:lnTo>
                <a:lnTo>
                  <a:pt x="803" y="140"/>
                </a:lnTo>
                <a:lnTo>
                  <a:pt x="789" y="140"/>
                </a:lnTo>
                <a:lnTo>
                  <a:pt x="774" y="142"/>
                </a:lnTo>
                <a:lnTo>
                  <a:pt x="758" y="144"/>
                </a:lnTo>
                <a:lnTo>
                  <a:pt x="739" y="146"/>
                </a:lnTo>
                <a:lnTo>
                  <a:pt x="720" y="146"/>
                </a:lnTo>
                <a:lnTo>
                  <a:pt x="699" y="147"/>
                </a:lnTo>
                <a:lnTo>
                  <a:pt x="676" y="149"/>
                </a:lnTo>
                <a:lnTo>
                  <a:pt x="653" y="151"/>
                </a:lnTo>
                <a:lnTo>
                  <a:pt x="626" y="155"/>
                </a:lnTo>
                <a:lnTo>
                  <a:pt x="599" y="157"/>
                </a:lnTo>
                <a:lnTo>
                  <a:pt x="570" y="159"/>
                </a:lnTo>
                <a:lnTo>
                  <a:pt x="540" y="163"/>
                </a:lnTo>
                <a:lnTo>
                  <a:pt x="507" y="165"/>
                </a:lnTo>
                <a:lnTo>
                  <a:pt x="474" y="169"/>
                </a:lnTo>
                <a:lnTo>
                  <a:pt x="438" y="171"/>
                </a:lnTo>
                <a:lnTo>
                  <a:pt x="401" y="174"/>
                </a:lnTo>
                <a:lnTo>
                  <a:pt x="363" y="178"/>
                </a:lnTo>
                <a:lnTo>
                  <a:pt x="323" y="182"/>
                </a:lnTo>
                <a:lnTo>
                  <a:pt x="282" y="186"/>
                </a:lnTo>
                <a:lnTo>
                  <a:pt x="238" y="190"/>
                </a:lnTo>
                <a:lnTo>
                  <a:pt x="194" y="194"/>
                </a:lnTo>
                <a:lnTo>
                  <a:pt x="148" y="197"/>
                </a:lnTo>
                <a:lnTo>
                  <a:pt x="100" y="201"/>
                </a:lnTo>
                <a:lnTo>
                  <a:pt x="50" y="207"/>
                </a:lnTo>
                <a:lnTo>
                  <a:pt x="0" y="211"/>
                </a:lnTo>
                <a:lnTo>
                  <a:pt x="0" y="167"/>
                </a:lnTo>
                <a:lnTo>
                  <a:pt x="0" y="12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Freeform 110"/>
          <p:cNvSpPr/>
          <p:nvPr/>
        </p:nvSpPr>
        <p:spPr>
          <a:xfrm>
            <a:off x="6302520" y="4398840"/>
            <a:ext cx="920520" cy="454320"/>
          </a:xfrm>
          <a:custGeom>
            <a:avLst/>
            <a:gdLst/>
            <a:ahLst/>
            <a:rect l="l" t="t" r="r" b="b"/>
            <a:pathLst>
              <a:path w="1159" h="572">
                <a:moveTo>
                  <a:pt x="814" y="37"/>
                </a:moveTo>
                <a:lnTo>
                  <a:pt x="820" y="29"/>
                </a:lnTo>
                <a:lnTo>
                  <a:pt x="825" y="21"/>
                </a:lnTo>
                <a:lnTo>
                  <a:pt x="831" y="14"/>
                </a:lnTo>
                <a:lnTo>
                  <a:pt x="841" y="10"/>
                </a:lnTo>
                <a:lnTo>
                  <a:pt x="848" y="4"/>
                </a:lnTo>
                <a:lnTo>
                  <a:pt x="860" y="2"/>
                </a:lnTo>
                <a:lnTo>
                  <a:pt x="871" y="0"/>
                </a:lnTo>
                <a:lnTo>
                  <a:pt x="883" y="0"/>
                </a:lnTo>
                <a:lnTo>
                  <a:pt x="887" y="2"/>
                </a:lnTo>
                <a:lnTo>
                  <a:pt x="893" y="6"/>
                </a:lnTo>
                <a:lnTo>
                  <a:pt x="900" y="8"/>
                </a:lnTo>
                <a:lnTo>
                  <a:pt x="906" y="12"/>
                </a:lnTo>
                <a:lnTo>
                  <a:pt x="914" y="15"/>
                </a:lnTo>
                <a:lnTo>
                  <a:pt x="923" y="19"/>
                </a:lnTo>
                <a:lnTo>
                  <a:pt x="933" y="23"/>
                </a:lnTo>
                <a:lnTo>
                  <a:pt x="942" y="29"/>
                </a:lnTo>
                <a:lnTo>
                  <a:pt x="952" y="35"/>
                </a:lnTo>
                <a:lnTo>
                  <a:pt x="964" y="40"/>
                </a:lnTo>
                <a:lnTo>
                  <a:pt x="975" y="46"/>
                </a:lnTo>
                <a:lnTo>
                  <a:pt x="989" y="54"/>
                </a:lnTo>
                <a:lnTo>
                  <a:pt x="1002" y="62"/>
                </a:lnTo>
                <a:lnTo>
                  <a:pt x="1015" y="69"/>
                </a:lnTo>
                <a:lnTo>
                  <a:pt x="1029" y="77"/>
                </a:lnTo>
                <a:lnTo>
                  <a:pt x="1044" y="86"/>
                </a:lnTo>
                <a:lnTo>
                  <a:pt x="1058" y="98"/>
                </a:lnTo>
                <a:lnTo>
                  <a:pt x="1071" y="109"/>
                </a:lnTo>
                <a:lnTo>
                  <a:pt x="1085" y="119"/>
                </a:lnTo>
                <a:lnTo>
                  <a:pt x="1096" y="129"/>
                </a:lnTo>
                <a:lnTo>
                  <a:pt x="1106" y="138"/>
                </a:lnTo>
                <a:lnTo>
                  <a:pt x="1115" y="148"/>
                </a:lnTo>
                <a:lnTo>
                  <a:pt x="1123" y="156"/>
                </a:lnTo>
                <a:lnTo>
                  <a:pt x="1131" y="163"/>
                </a:lnTo>
                <a:lnTo>
                  <a:pt x="1138" y="171"/>
                </a:lnTo>
                <a:lnTo>
                  <a:pt x="1144" y="177"/>
                </a:lnTo>
                <a:lnTo>
                  <a:pt x="1148" y="184"/>
                </a:lnTo>
                <a:lnTo>
                  <a:pt x="1152" y="190"/>
                </a:lnTo>
                <a:lnTo>
                  <a:pt x="1156" y="196"/>
                </a:lnTo>
                <a:lnTo>
                  <a:pt x="1157" y="202"/>
                </a:lnTo>
                <a:lnTo>
                  <a:pt x="1157" y="207"/>
                </a:lnTo>
                <a:lnTo>
                  <a:pt x="1159" y="211"/>
                </a:lnTo>
                <a:lnTo>
                  <a:pt x="1157" y="215"/>
                </a:lnTo>
                <a:lnTo>
                  <a:pt x="1157" y="221"/>
                </a:lnTo>
                <a:lnTo>
                  <a:pt x="1156" y="225"/>
                </a:lnTo>
                <a:lnTo>
                  <a:pt x="1154" y="229"/>
                </a:lnTo>
                <a:lnTo>
                  <a:pt x="1150" y="234"/>
                </a:lnTo>
                <a:lnTo>
                  <a:pt x="1142" y="240"/>
                </a:lnTo>
                <a:lnTo>
                  <a:pt x="1134" y="246"/>
                </a:lnTo>
                <a:lnTo>
                  <a:pt x="1125" y="252"/>
                </a:lnTo>
                <a:lnTo>
                  <a:pt x="1113" y="255"/>
                </a:lnTo>
                <a:lnTo>
                  <a:pt x="1102" y="261"/>
                </a:lnTo>
                <a:lnTo>
                  <a:pt x="1098" y="263"/>
                </a:lnTo>
                <a:lnTo>
                  <a:pt x="1094" y="265"/>
                </a:lnTo>
                <a:lnTo>
                  <a:pt x="1090" y="267"/>
                </a:lnTo>
                <a:lnTo>
                  <a:pt x="1086" y="271"/>
                </a:lnTo>
                <a:lnTo>
                  <a:pt x="1081" y="273"/>
                </a:lnTo>
                <a:lnTo>
                  <a:pt x="1077" y="276"/>
                </a:lnTo>
                <a:lnTo>
                  <a:pt x="1071" y="282"/>
                </a:lnTo>
                <a:lnTo>
                  <a:pt x="1067" y="286"/>
                </a:lnTo>
                <a:lnTo>
                  <a:pt x="1061" y="292"/>
                </a:lnTo>
                <a:lnTo>
                  <a:pt x="1056" y="298"/>
                </a:lnTo>
                <a:lnTo>
                  <a:pt x="1048" y="305"/>
                </a:lnTo>
                <a:lnTo>
                  <a:pt x="1042" y="313"/>
                </a:lnTo>
                <a:lnTo>
                  <a:pt x="1037" y="321"/>
                </a:lnTo>
                <a:lnTo>
                  <a:pt x="1029" y="328"/>
                </a:lnTo>
                <a:lnTo>
                  <a:pt x="1021" y="338"/>
                </a:lnTo>
                <a:lnTo>
                  <a:pt x="1015" y="346"/>
                </a:lnTo>
                <a:lnTo>
                  <a:pt x="1008" y="357"/>
                </a:lnTo>
                <a:lnTo>
                  <a:pt x="998" y="367"/>
                </a:lnTo>
                <a:lnTo>
                  <a:pt x="990" y="378"/>
                </a:lnTo>
                <a:lnTo>
                  <a:pt x="983" y="390"/>
                </a:lnTo>
                <a:lnTo>
                  <a:pt x="973" y="401"/>
                </a:lnTo>
                <a:lnTo>
                  <a:pt x="964" y="415"/>
                </a:lnTo>
                <a:lnTo>
                  <a:pt x="956" y="428"/>
                </a:lnTo>
                <a:lnTo>
                  <a:pt x="946" y="442"/>
                </a:lnTo>
                <a:lnTo>
                  <a:pt x="937" y="455"/>
                </a:lnTo>
                <a:lnTo>
                  <a:pt x="925" y="470"/>
                </a:lnTo>
                <a:lnTo>
                  <a:pt x="916" y="486"/>
                </a:lnTo>
                <a:lnTo>
                  <a:pt x="906" y="503"/>
                </a:lnTo>
                <a:lnTo>
                  <a:pt x="895" y="518"/>
                </a:lnTo>
                <a:lnTo>
                  <a:pt x="883" y="536"/>
                </a:lnTo>
                <a:lnTo>
                  <a:pt x="871" y="555"/>
                </a:lnTo>
                <a:lnTo>
                  <a:pt x="860" y="572"/>
                </a:lnTo>
                <a:lnTo>
                  <a:pt x="768" y="572"/>
                </a:lnTo>
                <a:lnTo>
                  <a:pt x="768" y="564"/>
                </a:lnTo>
                <a:lnTo>
                  <a:pt x="770" y="557"/>
                </a:lnTo>
                <a:lnTo>
                  <a:pt x="770" y="549"/>
                </a:lnTo>
                <a:lnTo>
                  <a:pt x="772" y="539"/>
                </a:lnTo>
                <a:lnTo>
                  <a:pt x="772" y="530"/>
                </a:lnTo>
                <a:lnTo>
                  <a:pt x="774" y="520"/>
                </a:lnTo>
                <a:lnTo>
                  <a:pt x="775" y="509"/>
                </a:lnTo>
                <a:lnTo>
                  <a:pt x="779" y="497"/>
                </a:lnTo>
                <a:lnTo>
                  <a:pt x="781" y="486"/>
                </a:lnTo>
                <a:lnTo>
                  <a:pt x="785" y="472"/>
                </a:lnTo>
                <a:lnTo>
                  <a:pt x="789" y="461"/>
                </a:lnTo>
                <a:lnTo>
                  <a:pt x="793" y="445"/>
                </a:lnTo>
                <a:lnTo>
                  <a:pt x="799" y="432"/>
                </a:lnTo>
                <a:lnTo>
                  <a:pt x="802" y="417"/>
                </a:lnTo>
                <a:lnTo>
                  <a:pt x="808" y="401"/>
                </a:lnTo>
                <a:lnTo>
                  <a:pt x="814" y="386"/>
                </a:lnTo>
                <a:lnTo>
                  <a:pt x="820" y="372"/>
                </a:lnTo>
                <a:lnTo>
                  <a:pt x="825" y="359"/>
                </a:lnTo>
                <a:lnTo>
                  <a:pt x="831" y="346"/>
                </a:lnTo>
                <a:lnTo>
                  <a:pt x="835" y="334"/>
                </a:lnTo>
                <a:lnTo>
                  <a:pt x="841" y="323"/>
                </a:lnTo>
                <a:lnTo>
                  <a:pt x="845" y="311"/>
                </a:lnTo>
                <a:lnTo>
                  <a:pt x="850" y="290"/>
                </a:lnTo>
                <a:lnTo>
                  <a:pt x="854" y="271"/>
                </a:lnTo>
                <a:lnTo>
                  <a:pt x="858" y="253"/>
                </a:lnTo>
                <a:lnTo>
                  <a:pt x="860" y="238"/>
                </a:lnTo>
                <a:lnTo>
                  <a:pt x="860" y="225"/>
                </a:lnTo>
                <a:lnTo>
                  <a:pt x="860" y="217"/>
                </a:lnTo>
                <a:lnTo>
                  <a:pt x="860" y="211"/>
                </a:lnTo>
                <a:lnTo>
                  <a:pt x="860" y="205"/>
                </a:lnTo>
                <a:lnTo>
                  <a:pt x="860" y="200"/>
                </a:lnTo>
                <a:lnTo>
                  <a:pt x="860" y="190"/>
                </a:lnTo>
                <a:lnTo>
                  <a:pt x="858" y="182"/>
                </a:lnTo>
                <a:lnTo>
                  <a:pt x="858" y="177"/>
                </a:lnTo>
                <a:lnTo>
                  <a:pt x="856" y="171"/>
                </a:lnTo>
                <a:lnTo>
                  <a:pt x="852" y="165"/>
                </a:lnTo>
                <a:lnTo>
                  <a:pt x="848" y="161"/>
                </a:lnTo>
                <a:lnTo>
                  <a:pt x="848" y="159"/>
                </a:lnTo>
                <a:lnTo>
                  <a:pt x="845" y="159"/>
                </a:lnTo>
                <a:lnTo>
                  <a:pt x="843" y="159"/>
                </a:lnTo>
                <a:lnTo>
                  <a:pt x="839" y="157"/>
                </a:lnTo>
                <a:lnTo>
                  <a:pt x="835" y="157"/>
                </a:lnTo>
                <a:lnTo>
                  <a:pt x="829" y="157"/>
                </a:lnTo>
                <a:lnTo>
                  <a:pt x="823" y="157"/>
                </a:lnTo>
                <a:lnTo>
                  <a:pt x="818" y="157"/>
                </a:lnTo>
                <a:lnTo>
                  <a:pt x="810" y="157"/>
                </a:lnTo>
                <a:lnTo>
                  <a:pt x="802" y="157"/>
                </a:lnTo>
                <a:lnTo>
                  <a:pt x="793" y="157"/>
                </a:lnTo>
                <a:lnTo>
                  <a:pt x="783" y="157"/>
                </a:lnTo>
                <a:lnTo>
                  <a:pt x="774" y="157"/>
                </a:lnTo>
                <a:lnTo>
                  <a:pt x="764" y="159"/>
                </a:lnTo>
                <a:lnTo>
                  <a:pt x="752" y="159"/>
                </a:lnTo>
                <a:lnTo>
                  <a:pt x="739" y="161"/>
                </a:lnTo>
                <a:lnTo>
                  <a:pt x="728" y="163"/>
                </a:lnTo>
                <a:lnTo>
                  <a:pt x="714" y="163"/>
                </a:lnTo>
                <a:lnTo>
                  <a:pt x="701" y="165"/>
                </a:lnTo>
                <a:lnTo>
                  <a:pt x="685" y="167"/>
                </a:lnTo>
                <a:lnTo>
                  <a:pt x="670" y="169"/>
                </a:lnTo>
                <a:lnTo>
                  <a:pt x="655" y="171"/>
                </a:lnTo>
                <a:lnTo>
                  <a:pt x="637" y="173"/>
                </a:lnTo>
                <a:lnTo>
                  <a:pt x="620" y="175"/>
                </a:lnTo>
                <a:lnTo>
                  <a:pt x="603" y="177"/>
                </a:lnTo>
                <a:lnTo>
                  <a:pt x="584" y="181"/>
                </a:lnTo>
                <a:lnTo>
                  <a:pt x="564" y="182"/>
                </a:lnTo>
                <a:lnTo>
                  <a:pt x="545" y="186"/>
                </a:lnTo>
                <a:lnTo>
                  <a:pt x="524" y="188"/>
                </a:lnTo>
                <a:lnTo>
                  <a:pt x="503" y="192"/>
                </a:lnTo>
                <a:lnTo>
                  <a:pt x="482" y="196"/>
                </a:lnTo>
                <a:lnTo>
                  <a:pt x="459" y="200"/>
                </a:lnTo>
                <a:lnTo>
                  <a:pt x="415" y="205"/>
                </a:lnTo>
                <a:lnTo>
                  <a:pt x="394" y="209"/>
                </a:lnTo>
                <a:lnTo>
                  <a:pt x="372" y="213"/>
                </a:lnTo>
                <a:lnTo>
                  <a:pt x="351" y="215"/>
                </a:lnTo>
                <a:lnTo>
                  <a:pt x="332" y="219"/>
                </a:lnTo>
                <a:lnTo>
                  <a:pt x="313" y="221"/>
                </a:lnTo>
                <a:lnTo>
                  <a:pt x="294" y="225"/>
                </a:lnTo>
                <a:lnTo>
                  <a:pt x="275" y="227"/>
                </a:lnTo>
                <a:lnTo>
                  <a:pt x="257" y="230"/>
                </a:lnTo>
                <a:lnTo>
                  <a:pt x="240" y="232"/>
                </a:lnTo>
                <a:lnTo>
                  <a:pt x="223" y="234"/>
                </a:lnTo>
                <a:lnTo>
                  <a:pt x="207" y="238"/>
                </a:lnTo>
                <a:lnTo>
                  <a:pt x="192" y="240"/>
                </a:lnTo>
                <a:lnTo>
                  <a:pt x="177" y="242"/>
                </a:lnTo>
                <a:lnTo>
                  <a:pt x="161" y="244"/>
                </a:lnTo>
                <a:lnTo>
                  <a:pt x="146" y="246"/>
                </a:lnTo>
                <a:lnTo>
                  <a:pt x="132" y="248"/>
                </a:lnTo>
                <a:lnTo>
                  <a:pt x="119" y="250"/>
                </a:lnTo>
                <a:lnTo>
                  <a:pt x="108" y="252"/>
                </a:lnTo>
                <a:lnTo>
                  <a:pt x="96" y="253"/>
                </a:lnTo>
                <a:lnTo>
                  <a:pt x="84" y="253"/>
                </a:lnTo>
                <a:lnTo>
                  <a:pt x="73" y="255"/>
                </a:lnTo>
                <a:lnTo>
                  <a:pt x="63" y="257"/>
                </a:lnTo>
                <a:lnTo>
                  <a:pt x="52" y="257"/>
                </a:lnTo>
                <a:lnTo>
                  <a:pt x="44" y="259"/>
                </a:lnTo>
                <a:lnTo>
                  <a:pt x="35" y="259"/>
                </a:lnTo>
                <a:lnTo>
                  <a:pt x="27" y="259"/>
                </a:lnTo>
                <a:lnTo>
                  <a:pt x="19" y="261"/>
                </a:lnTo>
                <a:lnTo>
                  <a:pt x="12" y="261"/>
                </a:lnTo>
                <a:lnTo>
                  <a:pt x="6" y="261"/>
                </a:lnTo>
                <a:lnTo>
                  <a:pt x="0" y="261"/>
                </a:lnTo>
                <a:lnTo>
                  <a:pt x="0" y="217"/>
                </a:lnTo>
                <a:lnTo>
                  <a:pt x="0" y="175"/>
                </a:lnTo>
                <a:lnTo>
                  <a:pt x="4" y="173"/>
                </a:lnTo>
                <a:lnTo>
                  <a:pt x="8" y="173"/>
                </a:lnTo>
                <a:lnTo>
                  <a:pt x="13" y="173"/>
                </a:lnTo>
                <a:lnTo>
                  <a:pt x="19" y="173"/>
                </a:lnTo>
                <a:lnTo>
                  <a:pt x="25" y="173"/>
                </a:lnTo>
                <a:lnTo>
                  <a:pt x="33" y="171"/>
                </a:lnTo>
                <a:lnTo>
                  <a:pt x="38" y="171"/>
                </a:lnTo>
                <a:lnTo>
                  <a:pt x="48" y="169"/>
                </a:lnTo>
                <a:lnTo>
                  <a:pt x="56" y="169"/>
                </a:lnTo>
                <a:lnTo>
                  <a:pt x="65" y="167"/>
                </a:lnTo>
                <a:lnTo>
                  <a:pt x="75" y="165"/>
                </a:lnTo>
                <a:lnTo>
                  <a:pt x="86" y="165"/>
                </a:lnTo>
                <a:lnTo>
                  <a:pt x="98" y="163"/>
                </a:lnTo>
                <a:lnTo>
                  <a:pt x="109" y="161"/>
                </a:lnTo>
                <a:lnTo>
                  <a:pt x="123" y="159"/>
                </a:lnTo>
                <a:lnTo>
                  <a:pt x="134" y="157"/>
                </a:lnTo>
                <a:lnTo>
                  <a:pt x="150" y="156"/>
                </a:lnTo>
                <a:lnTo>
                  <a:pt x="163" y="154"/>
                </a:lnTo>
                <a:lnTo>
                  <a:pt x="179" y="150"/>
                </a:lnTo>
                <a:lnTo>
                  <a:pt x="194" y="148"/>
                </a:lnTo>
                <a:lnTo>
                  <a:pt x="209" y="146"/>
                </a:lnTo>
                <a:lnTo>
                  <a:pt x="227" y="142"/>
                </a:lnTo>
                <a:lnTo>
                  <a:pt x="244" y="140"/>
                </a:lnTo>
                <a:lnTo>
                  <a:pt x="261" y="138"/>
                </a:lnTo>
                <a:lnTo>
                  <a:pt x="280" y="134"/>
                </a:lnTo>
                <a:lnTo>
                  <a:pt x="299" y="131"/>
                </a:lnTo>
                <a:lnTo>
                  <a:pt x="319" y="129"/>
                </a:lnTo>
                <a:lnTo>
                  <a:pt x="338" y="125"/>
                </a:lnTo>
                <a:lnTo>
                  <a:pt x="359" y="121"/>
                </a:lnTo>
                <a:lnTo>
                  <a:pt x="380" y="119"/>
                </a:lnTo>
                <a:lnTo>
                  <a:pt x="403" y="115"/>
                </a:lnTo>
                <a:lnTo>
                  <a:pt x="424" y="111"/>
                </a:lnTo>
                <a:lnTo>
                  <a:pt x="447" y="108"/>
                </a:lnTo>
                <a:lnTo>
                  <a:pt x="468" y="104"/>
                </a:lnTo>
                <a:lnTo>
                  <a:pt x="489" y="102"/>
                </a:lnTo>
                <a:lnTo>
                  <a:pt x="511" y="98"/>
                </a:lnTo>
                <a:lnTo>
                  <a:pt x="530" y="94"/>
                </a:lnTo>
                <a:lnTo>
                  <a:pt x="549" y="92"/>
                </a:lnTo>
                <a:lnTo>
                  <a:pt x="568" y="88"/>
                </a:lnTo>
                <a:lnTo>
                  <a:pt x="585" y="86"/>
                </a:lnTo>
                <a:lnTo>
                  <a:pt x="603" y="83"/>
                </a:lnTo>
                <a:lnTo>
                  <a:pt x="620" y="81"/>
                </a:lnTo>
                <a:lnTo>
                  <a:pt x="635" y="77"/>
                </a:lnTo>
                <a:lnTo>
                  <a:pt x="651" y="75"/>
                </a:lnTo>
                <a:lnTo>
                  <a:pt x="666" y="71"/>
                </a:lnTo>
                <a:lnTo>
                  <a:pt x="680" y="69"/>
                </a:lnTo>
                <a:lnTo>
                  <a:pt x="693" y="67"/>
                </a:lnTo>
                <a:lnTo>
                  <a:pt x="704" y="65"/>
                </a:lnTo>
                <a:lnTo>
                  <a:pt x="718" y="62"/>
                </a:lnTo>
                <a:lnTo>
                  <a:pt x="729" y="60"/>
                </a:lnTo>
                <a:lnTo>
                  <a:pt x="739" y="58"/>
                </a:lnTo>
                <a:lnTo>
                  <a:pt x="749" y="56"/>
                </a:lnTo>
                <a:lnTo>
                  <a:pt x="758" y="54"/>
                </a:lnTo>
                <a:lnTo>
                  <a:pt x="768" y="52"/>
                </a:lnTo>
                <a:lnTo>
                  <a:pt x="775" y="50"/>
                </a:lnTo>
                <a:lnTo>
                  <a:pt x="783" y="48"/>
                </a:lnTo>
                <a:lnTo>
                  <a:pt x="789" y="46"/>
                </a:lnTo>
                <a:lnTo>
                  <a:pt x="795" y="46"/>
                </a:lnTo>
                <a:lnTo>
                  <a:pt x="800" y="44"/>
                </a:lnTo>
                <a:lnTo>
                  <a:pt x="804" y="42"/>
                </a:lnTo>
                <a:lnTo>
                  <a:pt x="808" y="40"/>
                </a:lnTo>
                <a:lnTo>
                  <a:pt x="810" y="40"/>
                </a:lnTo>
                <a:lnTo>
                  <a:pt x="814" y="38"/>
                </a:lnTo>
                <a:lnTo>
                  <a:pt x="814" y="3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Freeform 111"/>
          <p:cNvSpPr/>
          <p:nvPr/>
        </p:nvSpPr>
        <p:spPr>
          <a:xfrm>
            <a:off x="6558120" y="3807000"/>
            <a:ext cx="190440" cy="739440"/>
          </a:xfrm>
          <a:custGeom>
            <a:avLst/>
            <a:gdLst/>
            <a:ahLst/>
            <a:rect l="l" t="t" r="r" b="b"/>
            <a:pathLst>
              <a:path w="239" h="933">
                <a:moveTo>
                  <a:pt x="55" y="0"/>
                </a:moveTo>
                <a:lnTo>
                  <a:pt x="78" y="20"/>
                </a:lnTo>
                <a:lnTo>
                  <a:pt x="99" y="39"/>
                </a:lnTo>
                <a:lnTo>
                  <a:pt x="119" y="58"/>
                </a:lnTo>
                <a:lnTo>
                  <a:pt x="138" y="75"/>
                </a:lnTo>
                <a:lnTo>
                  <a:pt x="153" y="91"/>
                </a:lnTo>
                <a:lnTo>
                  <a:pt x="168" y="106"/>
                </a:lnTo>
                <a:lnTo>
                  <a:pt x="182" y="118"/>
                </a:lnTo>
                <a:lnTo>
                  <a:pt x="193" y="131"/>
                </a:lnTo>
                <a:lnTo>
                  <a:pt x="205" y="142"/>
                </a:lnTo>
                <a:lnTo>
                  <a:pt x="214" y="152"/>
                </a:lnTo>
                <a:lnTo>
                  <a:pt x="222" y="160"/>
                </a:lnTo>
                <a:lnTo>
                  <a:pt x="228" y="167"/>
                </a:lnTo>
                <a:lnTo>
                  <a:pt x="234" y="173"/>
                </a:lnTo>
                <a:lnTo>
                  <a:pt x="236" y="179"/>
                </a:lnTo>
                <a:lnTo>
                  <a:pt x="238" y="183"/>
                </a:lnTo>
                <a:lnTo>
                  <a:pt x="239" y="187"/>
                </a:lnTo>
                <a:lnTo>
                  <a:pt x="238" y="189"/>
                </a:lnTo>
                <a:lnTo>
                  <a:pt x="238" y="190"/>
                </a:lnTo>
                <a:lnTo>
                  <a:pt x="236" y="196"/>
                </a:lnTo>
                <a:lnTo>
                  <a:pt x="234" y="202"/>
                </a:lnTo>
                <a:lnTo>
                  <a:pt x="232" y="210"/>
                </a:lnTo>
                <a:lnTo>
                  <a:pt x="230" y="217"/>
                </a:lnTo>
                <a:lnTo>
                  <a:pt x="228" y="229"/>
                </a:lnTo>
                <a:lnTo>
                  <a:pt x="226" y="240"/>
                </a:lnTo>
                <a:lnTo>
                  <a:pt x="224" y="252"/>
                </a:lnTo>
                <a:lnTo>
                  <a:pt x="220" y="267"/>
                </a:lnTo>
                <a:lnTo>
                  <a:pt x="218" y="283"/>
                </a:lnTo>
                <a:lnTo>
                  <a:pt x="214" y="298"/>
                </a:lnTo>
                <a:lnTo>
                  <a:pt x="213" y="317"/>
                </a:lnTo>
                <a:lnTo>
                  <a:pt x="209" y="336"/>
                </a:lnTo>
                <a:lnTo>
                  <a:pt x="205" y="357"/>
                </a:lnTo>
                <a:lnTo>
                  <a:pt x="201" y="379"/>
                </a:lnTo>
                <a:lnTo>
                  <a:pt x="197" y="402"/>
                </a:lnTo>
                <a:lnTo>
                  <a:pt x="193" y="427"/>
                </a:lnTo>
                <a:lnTo>
                  <a:pt x="190" y="453"/>
                </a:lnTo>
                <a:lnTo>
                  <a:pt x="184" y="480"/>
                </a:lnTo>
                <a:lnTo>
                  <a:pt x="180" y="509"/>
                </a:lnTo>
                <a:lnTo>
                  <a:pt x="174" y="540"/>
                </a:lnTo>
                <a:lnTo>
                  <a:pt x="170" y="570"/>
                </a:lnTo>
                <a:lnTo>
                  <a:pt x="165" y="603"/>
                </a:lnTo>
                <a:lnTo>
                  <a:pt x="159" y="636"/>
                </a:lnTo>
                <a:lnTo>
                  <a:pt x="153" y="672"/>
                </a:lnTo>
                <a:lnTo>
                  <a:pt x="147" y="709"/>
                </a:lnTo>
                <a:lnTo>
                  <a:pt x="142" y="745"/>
                </a:lnTo>
                <a:lnTo>
                  <a:pt x="134" y="784"/>
                </a:lnTo>
                <a:lnTo>
                  <a:pt x="128" y="824"/>
                </a:lnTo>
                <a:lnTo>
                  <a:pt x="120" y="866"/>
                </a:lnTo>
                <a:lnTo>
                  <a:pt x="113" y="908"/>
                </a:lnTo>
                <a:lnTo>
                  <a:pt x="55" y="922"/>
                </a:lnTo>
                <a:lnTo>
                  <a:pt x="0" y="933"/>
                </a:lnTo>
                <a:lnTo>
                  <a:pt x="5" y="862"/>
                </a:lnTo>
                <a:lnTo>
                  <a:pt x="11" y="791"/>
                </a:lnTo>
                <a:lnTo>
                  <a:pt x="17" y="724"/>
                </a:lnTo>
                <a:lnTo>
                  <a:pt x="23" y="657"/>
                </a:lnTo>
                <a:lnTo>
                  <a:pt x="26" y="594"/>
                </a:lnTo>
                <a:lnTo>
                  <a:pt x="32" y="530"/>
                </a:lnTo>
                <a:lnTo>
                  <a:pt x="36" y="469"/>
                </a:lnTo>
                <a:lnTo>
                  <a:pt x="40" y="411"/>
                </a:lnTo>
                <a:lnTo>
                  <a:pt x="44" y="354"/>
                </a:lnTo>
                <a:lnTo>
                  <a:pt x="46" y="298"/>
                </a:lnTo>
                <a:lnTo>
                  <a:pt x="49" y="242"/>
                </a:lnTo>
                <a:lnTo>
                  <a:pt x="51" y="190"/>
                </a:lnTo>
                <a:lnTo>
                  <a:pt x="53" y="141"/>
                </a:lnTo>
                <a:lnTo>
                  <a:pt x="55" y="93"/>
                </a:lnTo>
                <a:lnTo>
                  <a:pt x="55" y="45"/>
                </a:lnTo>
                <a:lnTo>
                  <a:pt x="55"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Freeform 112"/>
          <p:cNvSpPr/>
          <p:nvPr/>
        </p:nvSpPr>
        <p:spPr>
          <a:xfrm>
            <a:off x="6170760" y="4022640"/>
            <a:ext cx="1060200" cy="257400"/>
          </a:xfrm>
          <a:custGeom>
            <a:avLst/>
            <a:gdLst/>
            <a:ahLst/>
            <a:rect l="l" t="t" r="r" b="b"/>
            <a:pathLst>
              <a:path w="1336" h="324">
                <a:moveTo>
                  <a:pt x="624" y="113"/>
                </a:moveTo>
                <a:lnTo>
                  <a:pt x="651" y="106"/>
                </a:lnTo>
                <a:lnTo>
                  <a:pt x="676" y="98"/>
                </a:lnTo>
                <a:lnTo>
                  <a:pt x="702" y="92"/>
                </a:lnTo>
                <a:lnTo>
                  <a:pt x="726" y="86"/>
                </a:lnTo>
                <a:lnTo>
                  <a:pt x="750" y="79"/>
                </a:lnTo>
                <a:lnTo>
                  <a:pt x="774" y="73"/>
                </a:lnTo>
                <a:lnTo>
                  <a:pt x="797" y="67"/>
                </a:lnTo>
                <a:lnTo>
                  <a:pt x="820" y="63"/>
                </a:lnTo>
                <a:lnTo>
                  <a:pt x="841" y="58"/>
                </a:lnTo>
                <a:lnTo>
                  <a:pt x="862" y="52"/>
                </a:lnTo>
                <a:lnTo>
                  <a:pt x="881" y="48"/>
                </a:lnTo>
                <a:lnTo>
                  <a:pt x="902" y="44"/>
                </a:lnTo>
                <a:lnTo>
                  <a:pt x="921" y="38"/>
                </a:lnTo>
                <a:lnTo>
                  <a:pt x="939" y="35"/>
                </a:lnTo>
                <a:lnTo>
                  <a:pt x="956" y="31"/>
                </a:lnTo>
                <a:lnTo>
                  <a:pt x="973" y="27"/>
                </a:lnTo>
                <a:lnTo>
                  <a:pt x="990" y="25"/>
                </a:lnTo>
                <a:lnTo>
                  <a:pt x="1006" y="21"/>
                </a:lnTo>
                <a:lnTo>
                  <a:pt x="1021" y="19"/>
                </a:lnTo>
                <a:lnTo>
                  <a:pt x="1035" y="15"/>
                </a:lnTo>
                <a:lnTo>
                  <a:pt x="1048" y="13"/>
                </a:lnTo>
                <a:lnTo>
                  <a:pt x="1061" y="11"/>
                </a:lnTo>
                <a:lnTo>
                  <a:pt x="1073" y="10"/>
                </a:lnTo>
                <a:lnTo>
                  <a:pt x="1084" y="8"/>
                </a:lnTo>
                <a:lnTo>
                  <a:pt x="1096" y="6"/>
                </a:lnTo>
                <a:lnTo>
                  <a:pt x="1106" y="4"/>
                </a:lnTo>
                <a:lnTo>
                  <a:pt x="1115" y="4"/>
                </a:lnTo>
                <a:lnTo>
                  <a:pt x="1125" y="2"/>
                </a:lnTo>
                <a:lnTo>
                  <a:pt x="1132" y="2"/>
                </a:lnTo>
                <a:lnTo>
                  <a:pt x="1138" y="0"/>
                </a:lnTo>
                <a:lnTo>
                  <a:pt x="1146" y="0"/>
                </a:lnTo>
                <a:lnTo>
                  <a:pt x="1152" y="0"/>
                </a:lnTo>
                <a:lnTo>
                  <a:pt x="1173" y="2"/>
                </a:lnTo>
                <a:lnTo>
                  <a:pt x="1192" y="2"/>
                </a:lnTo>
                <a:lnTo>
                  <a:pt x="1211" y="6"/>
                </a:lnTo>
                <a:lnTo>
                  <a:pt x="1228" y="8"/>
                </a:lnTo>
                <a:lnTo>
                  <a:pt x="1246" y="11"/>
                </a:lnTo>
                <a:lnTo>
                  <a:pt x="1261" y="15"/>
                </a:lnTo>
                <a:lnTo>
                  <a:pt x="1276" y="21"/>
                </a:lnTo>
                <a:lnTo>
                  <a:pt x="1290" y="25"/>
                </a:lnTo>
                <a:lnTo>
                  <a:pt x="1296" y="29"/>
                </a:lnTo>
                <a:lnTo>
                  <a:pt x="1301" y="35"/>
                </a:lnTo>
                <a:lnTo>
                  <a:pt x="1305" y="38"/>
                </a:lnTo>
                <a:lnTo>
                  <a:pt x="1311" y="44"/>
                </a:lnTo>
                <a:lnTo>
                  <a:pt x="1319" y="52"/>
                </a:lnTo>
                <a:lnTo>
                  <a:pt x="1324" y="61"/>
                </a:lnTo>
                <a:lnTo>
                  <a:pt x="1330" y="69"/>
                </a:lnTo>
                <a:lnTo>
                  <a:pt x="1332" y="77"/>
                </a:lnTo>
                <a:lnTo>
                  <a:pt x="1334" y="83"/>
                </a:lnTo>
                <a:lnTo>
                  <a:pt x="1336" y="88"/>
                </a:lnTo>
                <a:lnTo>
                  <a:pt x="1334" y="92"/>
                </a:lnTo>
                <a:lnTo>
                  <a:pt x="1332" y="96"/>
                </a:lnTo>
                <a:lnTo>
                  <a:pt x="1330" y="102"/>
                </a:lnTo>
                <a:lnTo>
                  <a:pt x="1326" y="106"/>
                </a:lnTo>
                <a:lnTo>
                  <a:pt x="1321" y="109"/>
                </a:lnTo>
                <a:lnTo>
                  <a:pt x="1315" y="115"/>
                </a:lnTo>
                <a:lnTo>
                  <a:pt x="1309" y="119"/>
                </a:lnTo>
                <a:lnTo>
                  <a:pt x="1301" y="123"/>
                </a:lnTo>
                <a:lnTo>
                  <a:pt x="1292" y="127"/>
                </a:lnTo>
                <a:lnTo>
                  <a:pt x="1280" y="131"/>
                </a:lnTo>
                <a:lnTo>
                  <a:pt x="1271" y="134"/>
                </a:lnTo>
                <a:lnTo>
                  <a:pt x="1257" y="138"/>
                </a:lnTo>
                <a:lnTo>
                  <a:pt x="1244" y="142"/>
                </a:lnTo>
                <a:lnTo>
                  <a:pt x="1230" y="144"/>
                </a:lnTo>
                <a:lnTo>
                  <a:pt x="1213" y="148"/>
                </a:lnTo>
                <a:lnTo>
                  <a:pt x="1198" y="150"/>
                </a:lnTo>
                <a:lnTo>
                  <a:pt x="1188" y="152"/>
                </a:lnTo>
                <a:lnTo>
                  <a:pt x="1179" y="155"/>
                </a:lnTo>
                <a:lnTo>
                  <a:pt x="1169" y="157"/>
                </a:lnTo>
                <a:lnTo>
                  <a:pt x="1157" y="159"/>
                </a:lnTo>
                <a:lnTo>
                  <a:pt x="1146" y="163"/>
                </a:lnTo>
                <a:lnTo>
                  <a:pt x="1134" y="165"/>
                </a:lnTo>
                <a:lnTo>
                  <a:pt x="1123" y="167"/>
                </a:lnTo>
                <a:lnTo>
                  <a:pt x="1109" y="171"/>
                </a:lnTo>
                <a:lnTo>
                  <a:pt x="1096" y="173"/>
                </a:lnTo>
                <a:lnTo>
                  <a:pt x="1081" y="177"/>
                </a:lnTo>
                <a:lnTo>
                  <a:pt x="1067" y="178"/>
                </a:lnTo>
                <a:lnTo>
                  <a:pt x="1052" y="182"/>
                </a:lnTo>
                <a:lnTo>
                  <a:pt x="1035" y="186"/>
                </a:lnTo>
                <a:lnTo>
                  <a:pt x="1019" y="188"/>
                </a:lnTo>
                <a:lnTo>
                  <a:pt x="1002" y="192"/>
                </a:lnTo>
                <a:lnTo>
                  <a:pt x="983" y="194"/>
                </a:lnTo>
                <a:lnTo>
                  <a:pt x="965" y="198"/>
                </a:lnTo>
                <a:lnTo>
                  <a:pt x="946" y="202"/>
                </a:lnTo>
                <a:lnTo>
                  <a:pt x="927" y="205"/>
                </a:lnTo>
                <a:lnTo>
                  <a:pt x="908" y="207"/>
                </a:lnTo>
                <a:lnTo>
                  <a:pt x="887" y="211"/>
                </a:lnTo>
                <a:lnTo>
                  <a:pt x="866" y="215"/>
                </a:lnTo>
                <a:lnTo>
                  <a:pt x="845" y="219"/>
                </a:lnTo>
                <a:lnTo>
                  <a:pt x="821" y="221"/>
                </a:lnTo>
                <a:lnTo>
                  <a:pt x="798" y="225"/>
                </a:lnTo>
                <a:lnTo>
                  <a:pt x="775" y="228"/>
                </a:lnTo>
                <a:lnTo>
                  <a:pt x="750" y="232"/>
                </a:lnTo>
                <a:lnTo>
                  <a:pt x="727" y="236"/>
                </a:lnTo>
                <a:lnTo>
                  <a:pt x="702" y="238"/>
                </a:lnTo>
                <a:lnTo>
                  <a:pt x="676" y="242"/>
                </a:lnTo>
                <a:lnTo>
                  <a:pt x="651" y="246"/>
                </a:lnTo>
                <a:lnTo>
                  <a:pt x="624" y="250"/>
                </a:lnTo>
                <a:lnTo>
                  <a:pt x="597" y="253"/>
                </a:lnTo>
                <a:lnTo>
                  <a:pt x="570" y="259"/>
                </a:lnTo>
                <a:lnTo>
                  <a:pt x="543" y="263"/>
                </a:lnTo>
                <a:lnTo>
                  <a:pt x="518" y="267"/>
                </a:lnTo>
                <a:lnTo>
                  <a:pt x="493" y="271"/>
                </a:lnTo>
                <a:lnTo>
                  <a:pt x="470" y="274"/>
                </a:lnTo>
                <a:lnTo>
                  <a:pt x="447" y="278"/>
                </a:lnTo>
                <a:lnTo>
                  <a:pt x="426" y="282"/>
                </a:lnTo>
                <a:lnTo>
                  <a:pt x="405" y="286"/>
                </a:lnTo>
                <a:lnTo>
                  <a:pt x="384" y="290"/>
                </a:lnTo>
                <a:lnTo>
                  <a:pt x="365" y="292"/>
                </a:lnTo>
                <a:lnTo>
                  <a:pt x="345" y="296"/>
                </a:lnTo>
                <a:lnTo>
                  <a:pt x="328" y="297"/>
                </a:lnTo>
                <a:lnTo>
                  <a:pt x="311" y="301"/>
                </a:lnTo>
                <a:lnTo>
                  <a:pt x="294" y="303"/>
                </a:lnTo>
                <a:lnTo>
                  <a:pt x="278" y="305"/>
                </a:lnTo>
                <a:lnTo>
                  <a:pt x="263" y="307"/>
                </a:lnTo>
                <a:lnTo>
                  <a:pt x="249" y="309"/>
                </a:lnTo>
                <a:lnTo>
                  <a:pt x="236" y="311"/>
                </a:lnTo>
                <a:lnTo>
                  <a:pt x="223" y="313"/>
                </a:lnTo>
                <a:lnTo>
                  <a:pt x="211" y="315"/>
                </a:lnTo>
                <a:lnTo>
                  <a:pt x="202" y="317"/>
                </a:lnTo>
                <a:lnTo>
                  <a:pt x="190" y="319"/>
                </a:lnTo>
                <a:lnTo>
                  <a:pt x="180" y="319"/>
                </a:lnTo>
                <a:lnTo>
                  <a:pt x="173" y="321"/>
                </a:lnTo>
                <a:lnTo>
                  <a:pt x="163" y="321"/>
                </a:lnTo>
                <a:lnTo>
                  <a:pt x="157" y="322"/>
                </a:lnTo>
                <a:lnTo>
                  <a:pt x="150" y="322"/>
                </a:lnTo>
                <a:lnTo>
                  <a:pt x="144" y="322"/>
                </a:lnTo>
                <a:lnTo>
                  <a:pt x="138" y="324"/>
                </a:lnTo>
                <a:lnTo>
                  <a:pt x="134" y="324"/>
                </a:lnTo>
                <a:lnTo>
                  <a:pt x="130" y="324"/>
                </a:lnTo>
                <a:lnTo>
                  <a:pt x="119" y="322"/>
                </a:lnTo>
                <a:lnTo>
                  <a:pt x="106" y="322"/>
                </a:lnTo>
                <a:lnTo>
                  <a:pt x="92" y="319"/>
                </a:lnTo>
                <a:lnTo>
                  <a:pt x="79" y="315"/>
                </a:lnTo>
                <a:lnTo>
                  <a:pt x="67" y="309"/>
                </a:lnTo>
                <a:lnTo>
                  <a:pt x="54" y="303"/>
                </a:lnTo>
                <a:lnTo>
                  <a:pt x="40" y="296"/>
                </a:lnTo>
                <a:lnTo>
                  <a:pt x="29" y="286"/>
                </a:lnTo>
                <a:lnTo>
                  <a:pt x="19" y="282"/>
                </a:lnTo>
                <a:lnTo>
                  <a:pt x="13" y="276"/>
                </a:lnTo>
                <a:lnTo>
                  <a:pt x="8" y="273"/>
                </a:lnTo>
                <a:lnTo>
                  <a:pt x="4" y="269"/>
                </a:lnTo>
                <a:lnTo>
                  <a:pt x="2" y="263"/>
                </a:lnTo>
                <a:lnTo>
                  <a:pt x="0" y="259"/>
                </a:lnTo>
                <a:lnTo>
                  <a:pt x="0" y="255"/>
                </a:lnTo>
                <a:lnTo>
                  <a:pt x="0" y="251"/>
                </a:lnTo>
                <a:lnTo>
                  <a:pt x="4" y="248"/>
                </a:lnTo>
                <a:lnTo>
                  <a:pt x="6" y="244"/>
                </a:lnTo>
                <a:lnTo>
                  <a:pt x="11" y="240"/>
                </a:lnTo>
                <a:lnTo>
                  <a:pt x="17" y="236"/>
                </a:lnTo>
                <a:lnTo>
                  <a:pt x="23" y="232"/>
                </a:lnTo>
                <a:lnTo>
                  <a:pt x="31" y="230"/>
                </a:lnTo>
                <a:lnTo>
                  <a:pt x="40" y="226"/>
                </a:lnTo>
                <a:lnTo>
                  <a:pt x="52" y="225"/>
                </a:lnTo>
                <a:lnTo>
                  <a:pt x="71" y="221"/>
                </a:lnTo>
                <a:lnTo>
                  <a:pt x="92" y="217"/>
                </a:lnTo>
                <a:lnTo>
                  <a:pt x="109" y="215"/>
                </a:lnTo>
                <a:lnTo>
                  <a:pt x="127" y="213"/>
                </a:lnTo>
                <a:lnTo>
                  <a:pt x="142" y="213"/>
                </a:lnTo>
                <a:lnTo>
                  <a:pt x="155" y="213"/>
                </a:lnTo>
                <a:lnTo>
                  <a:pt x="161" y="213"/>
                </a:lnTo>
                <a:lnTo>
                  <a:pt x="167" y="213"/>
                </a:lnTo>
                <a:lnTo>
                  <a:pt x="173" y="213"/>
                </a:lnTo>
                <a:lnTo>
                  <a:pt x="177" y="213"/>
                </a:lnTo>
                <a:lnTo>
                  <a:pt x="178" y="211"/>
                </a:lnTo>
                <a:lnTo>
                  <a:pt x="180" y="211"/>
                </a:lnTo>
                <a:lnTo>
                  <a:pt x="184" y="211"/>
                </a:lnTo>
                <a:lnTo>
                  <a:pt x="188" y="211"/>
                </a:lnTo>
                <a:lnTo>
                  <a:pt x="192" y="209"/>
                </a:lnTo>
                <a:lnTo>
                  <a:pt x="198" y="209"/>
                </a:lnTo>
                <a:lnTo>
                  <a:pt x="203" y="207"/>
                </a:lnTo>
                <a:lnTo>
                  <a:pt x="211" y="205"/>
                </a:lnTo>
                <a:lnTo>
                  <a:pt x="219" y="203"/>
                </a:lnTo>
                <a:lnTo>
                  <a:pt x="228" y="202"/>
                </a:lnTo>
                <a:lnTo>
                  <a:pt x="238" y="200"/>
                </a:lnTo>
                <a:lnTo>
                  <a:pt x="248" y="198"/>
                </a:lnTo>
                <a:lnTo>
                  <a:pt x="259" y="194"/>
                </a:lnTo>
                <a:lnTo>
                  <a:pt x="271" y="192"/>
                </a:lnTo>
                <a:lnTo>
                  <a:pt x="284" y="190"/>
                </a:lnTo>
                <a:lnTo>
                  <a:pt x="297" y="186"/>
                </a:lnTo>
                <a:lnTo>
                  <a:pt x="311" y="182"/>
                </a:lnTo>
                <a:lnTo>
                  <a:pt x="326" y="178"/>
                </a:lnTo>
                <a:lnTo>
                  <a:pt x="344" y="175"/>
                </a:lnTo>
                <a:lnTo>
                  <a:pt x="359" y="171"/>
                </a:lnTo>
                <a:lnTo>
                  <a:pt x="378" y="167"/>
                </a:lnTo>
                <a:lnTo>
                  <a:pt x="395" y="163"/>
                </a:lnTo>
                <a:lnTo>
                  <a:pt x="415" y="159"/>
                </a:lnTo>
                <a:lnTo>
                  <a:pt x="436" y="155"/>
                </a:lnTo>
                <a:lnTo>
                  <a:pt x="455" y="150"/>
                </a:lnTo>
                <a:lnTo>
                  <a:pt x="478" y="146"/>
                </a:lnTo>
                <a:lnTo>
                  <a:pt x="499" y="140"/>
                </a:lnTo>
                <a:lnTo>
                  <a:pt x="522" y="134"/>
                </a:lnTo>
                <a:lnTo>
                  <a:pt x="547" y="129"/>
                </a:lnTo>
                <a:lnTo>
                  <a:pt x="572" y="125"/>
                </a:lnTo>
                <a:lnTo>
                  <a:pt x="597" y="119"/>
                </a:lnTo>
                <a:lnTo>
                  <a:pt x="624" y="11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Freeform 113"/>
          <p:cNvSpPr/>
          <p:nvPr/>
        </p:nvSpPr>
        <p:spPr>
          <a:xfrm>
            <a:off x="6392880" y="3697200"/>
            <a:ext cx="568440" cy="196920"/>
          </a:xfrm>
          <a:custGeom>
            <a:avLst/>
            <a:gdLst/>
            <a:ahLst/>
            <a:rect l="l" t="t" r="r" b="b"/>
            <a:pathLst>
              <a:path w="716" h="250">
                <a:moveTo>
                  <a:pt x="2" y="211"/>
                </a:moveTo>
                <a:lnTo>
                  <a:pt x="2" y="208"/>
                </a:lnTo>
                <a:lnTo>
                  <a:pt x="0" y="206"/>
                </a:lnTo>
                <a:lnTo>
                  <a:pt x="2" y="202"/>
                </a:lnTo>
                <a:lnTo>
                  <a:pt x="2" y="198"/>
                </a:lnTo>
                <a:lnTo>
                  <a:pt x="4" y="194"/>
                </a:lnTo>
                <a:lnTo>
                  <a:pt x="6" y="190"/>
                </a:lnTo>
                <a:lnTo>
                  <a:pt x="8" y="186"/>
                </a:lnTo>
                <a:lnTo>
                  <a:pt x="12" y="184"/>
                </a:lnTo>
                <a:lnTo>
                  <a:pt x="14" y="181"/>
                </a:lnTo>
                <a:lnTo>
                  <a:pt x="19" y="177"/>
                </a:lnTo>
                <a:lnTo>
                  <a:pt x="23" y="173"/>
                </a:lnTo>
                <a:lnTo>
                  <a:pt x="29" y="169"/>
                </a:lnTo>
                <a:lnTo>
                  <a:pt x="35" y="165"/>
                </a:lnTo>
                <a:lnTo>
                  <a:pt x="41" y="161"/>
                </a:lnTo>
                <a:lnTo>
                  <a:pt x="48" y="158"/>
                </a:lnTo>
                <a:lnTo>
                  <a:pt x="56" y="154"/>
                </a:lnTo>
                <a:lnTo>
                  <a:pt x="64" y="150"/>
                </a:lnTo>
                <a:lnTo>
                  <a:pt x="71" y="144"/>
                </a:lnTo>
                <a:lnTo>
                  <a:pt x="81" y="140"/>
                </a:lnTo>
                <a:lnTo>
                  <a:pt x="90" y="136"/>
                </a:lnTo>
                <a:lnTo>
                  <a:pt x="102" y="133"/>
                </a:lnTo>
                <a:lnTo>
                  <a:pt x="112" y="127"/>
                </a:lnTo>
                <a:lnTo>
                  <a:pt x="123" y="123"/>
                </a:lnTo>
                <a:lnTo>
                  <a:pt x="137" y="117"/>
                </a:lnTo>
                <a:lnTo>
                  <a:pt x="148" y="113"/>
                </a:lnTo>
                <a:lnTo>
                  <a:pt x="162" y="108"/>
                </a:lnTo>
                <a:lnTo>
                  <a:pt x="177" y="104"/>
                </a:lnTo>
                <a:lnTo>
                  <a:pt x="190" y="98"/>
                </a:lnTo>
                <a:lnTo>
                  <a:pt x="206" y="92"/>
                </a:lnTo>
                <a:lnTo>
                  <a:pt x="221" y="87"/>
                </a:lnTo>
                <a:lnTo>
                  <a:pt x="236" y="81"/>
                </a:lnTo>
                <a:lnTo>
                  <a:pt x="254" y="75"/>
                </a:lnTo>
                <a:lnTo>
                  <a:pt x="288" y="65"/>
                </a:lnTo>
                <a:lnTo>
                  <a:pt x="319" y="58"/>
                </a:lnTo>
                <a:lnTo>
                  <a:pt x="350" y="50"/>
                </a:lnTo>
                <a:lnTo>
                  <a:pt x="378" y="42"/>
                </a:lnTo>
                <a:lnTo>
                  <a:pt x="407" y="35"/>
                </a:lnTo>
                <a:lnTo>
                  <a:pt x="432" y="29"/>
                </a:lnTo>
                <a:lnTo>
                  <a:pt x="457" y="23"/>
                </a:lnTo>
                <a:lnTo>
                  <a:pt x="478" y="19"/>
                </a:lnTo>
                <a:lnTo>
                  <a:pt x="501" y="14"/>
                </a:lnTo>
                <a:lnTo>
                  <a:pt x="520" y="10"/>
                </a:lnTo>
                <a:lnTo>
                  <a:pt x="538" y="8"/>
                </a:lnTo>
                <a:lnTo>
                  <a:pt x="555" y="4"/>
                </a:lnTo>
                <a:lnTo>
                  <a:pt x="570" y="2"/>
                </a:lnTo>
                <a:lnTo>
                  <a:pt x="586" y="2"/>
                </a:lnTo>
                <a:lnTo>
                  <a:pt x="599" y="0"/>
                </a:lnTo>
                <a:lnTo>
                  <a:pt x="611" y="0"/>
                </a:lnTo>
                <a:lnTo>
                  <a:pt x="626" y="0"/>
                </a:lnTo>
                <a:lnTo>
                  <a:pt x="641" y="2"/>
                </a:lnTo>
                <a:lnTo>
                  <a:pt x="657" y="6"/>
                </a:lnTo>
                <a:lnTo>
                  <a:pt x="670" y="12"/>
                </a:lnTo>
                <a:lnTo>
                  <a:pt x="682" y="17"/>
                </a:lnTo>
                <a:lnTo>
                  <a:pt x="687" y="21"/>
                </a:lnTo>
                <a:lnTo>
                  <a:pt x="693" y="27"/>
                </a:lnTo>
                <a:lnTo>
                  <a:pt x="699" y="31"/>
                </a:lnTo>
                <a:lnTo>
                  <a:pt x="705" y="37"/>
                </a:lnTo>
                <a:lnTo>
                  <a:pt x="709" y="44"/>
                </a:lnTo>
                <a:lnTo>
                  <a:pt x="712" y="50"/>
                </a:lnTo>
                <a:lnTo>
                  <a:pt x="714" y="54"/>
                </a:lnTo>
                <a:lnTo>
                  <a:pt x="716" y="58"/>
                </a:lnTo>
                <a:lnTo>
                  <a:pt x="716" y="62"/>
                </a:lnTo>
                <a:lnTo>
                  <a:pt x="716" y="65"/>
                </a:lnTo>
                <a:lnTo>
                  <a:pt x="714" y="69"/>
                </a:lnTo>
                <a:lnTo>
                  <a:pt x="714" y="73"/>
                </a:lnTo>
                <a:lnTo>
                  <a:pt x="710" y="77"/>
                </a:lnTo>
                <a:lnTo>
                  <a:pt x="709" y="81"/>
                </a:lnTo>
                <a:lnTo>
                  <a:pt x="705" y="85"/>
                </a:lnTo>
                <a:lnTo>
                  <a:pt x="701" y="89"/>
                </a:lnTo>
                <a:lnTo>
                  <a:pt x="695" y="92"/>
                </a:lnTo>
                <a:lnTo>
                  <a:pt x="689" y="96"/>
                </a:lnTo>
                <a:lnTo>
                  <a:pt x="684" y="100"/>
                </a:lnTo>
                <a:lnTo>
                  <a:pt x="678" y="104"/>
                </a:lnTo>
                <a:lnTo>
                  <a:pt x="670" y="108"/>
                </a:lnTo>
                <a:lnTo>
                  <a:pt x="661" y="112"/>
                </a:lnTo>
                <a:lnTo>
                  <a:pt x="653" y="115"/>
                </a:lnTo>
                <a:lnTo>
                  <a:pt x="643" y="121"/>
                </a:lnTo>
                <a:lnTo>
                  <a:pt x="632" y="125"/>
                </a:lnTo>
                <a:lnTo>
                  <a:pt x="622" y="129"/>
                </a:lnTo>
                <a:lnTo>
                  <a:pt x="609" y="133"/>
                </a:lnTo>
                <a:lnTo>
                  <a:pt x="597" y="136"/>
                </a:lnTo>
                <a:lnTo>
                  <a:pt x="584" y="140"/>
                </a:lnTo>
                <a:lnTo>
                  <a:pt x="570" y="144"/>
                </a:lnTo>
                <a:lnTo>
                  <a:pt x="557" y="148"/>
                </a:lnTo>
                <a:lnTo>
                  <a:pt x="542" y="152"/>
                </a:lnTo>
                <a:lnTo>
                  <a:pt x="526" y="156"/>
                </a:lnTo>
                <a:lnTo>
                  <a:pt x="509" y="160"/>
                </a:lnTo>
                <a:lnTo>
                  <a:pt x="492" y="163"/>
                </a:lnTo>
                <a:lnTo>
                  <a:pt x="474" y="167"/>
                </a:lnTo>
                <a:lnTo>
                  <a:pt x="457" y="171"/>
                </a:lnTo>
                <a:lnTo>
                  <a:pt x="438" y="175"/>
                </a:lnTo>
                <a:lnTo>
                  <a:pt x="419" y="179"/>
                </a:lnTo>
                <a:lnTo>
                  <a:pt x="400" y="184"/>
                </a:lnTo>
                <a:lnTo>
                  <a:pt x="382" y="188"/>
                </a:lnTo>
                <a:lnTo>
                  <a:pt x="365" y="192"/>
                </a:lnTo>
                <a:lnTo>
                  <a:pt x="348" y="196"/>
                </a:lnTo>
                <a:lnTo>
                  <a:pt x="330" y="200"/>
                </a:lnTo>
                <a:lnTo>
                  <a:pt x="315" y="204"/>
                </a:lnTo>
                <a:lnTo>
                  <a:pt x="300" y="208"/>
                </a:lnTo>
                <a:lnTo>
                  <a:pt x="284" y="211"/>
                </a:lnTo>
                <a:lnTo>
                  <a:pt x="271" y="215"/>
                </a:lnTo>
                <a:lnTo>
                  <a:pt x="257" y="217"/>
                </a:lnTo>
                <a:lnTo>
                  <a:pt x="244" y="221"/>
                </a:lnTo>
                <a:lnTo>
                  <a:pt x="231" y="223"/>
                </a:lnTo>
                <a:lnTo>
                  <a:pt x="219" y="227"/>
                </a:lnTo>
                <a:lnTo>
                  <a:pt x="208" y="229"/>
                </a:lnTo>
                <a:lnTo>
                  <a:pt x="196" y="231"/>
                </a:lnTo>
                <a:lnTo>
                  <a:pt x="185" y="232"/>
                </a:lnTo>
                <a:lnTo>
                  <a:pt x="175" y="234"/>
                </a:lnTo>
                <a:lnTo>
                  <a:pt x="165" y="236"/>
                </a:lnTo>
                <a:lnTo>
                  <a:pt x="156" y="238"/>
                </a:lnTo>
                <a:lnTo>
                  <a:pt x="146" y="240"/>
                </a:lnTo>
                <a:lnTo>
                  <a:pt x="138" y="242"/>
                </a:lnTo>
                <a:lnTo>
                  <a:pt x="131" y="244"/>
                </a:lnTo>
                <a:lnTo>
                  <a:pt x="123" y="244"/>
                </a:lnTo>
                <a:lnTo>
                  <a:pt x="117" y="246"/>
                </a:lnTo>
                <a:lnTo>
                  <a:pt x="110" y="246"/>
                </a:lnTo>
                <a:lnTo>
                  <a:pt x="104" y="248"/>
                </a:lnTo>
                <a:lnTo>
                  <a:pt x="98" y="248"/>
                </a:lnTo>
                <a:lnTo>
                  <a:pt x="94" y="248"/>
                </a:lnTo>
                <a:lnTo>
                  <a:pt x="90" y="250"/>
                </a:lnTo>
                <a:lnTo>
                  <a:pt x="83" y="250"/>
                </a:lnTo>
                <a:lnTo>
                  <a:pt x="69" y="248"/>
                </a:lnTo>
                <a:lnTo>
                  <a:pt x="58" y="248"/>
                </a:lnTo>
                <a:lnTo>
                  <a:pt x="48" y="244"/>
                </a:lnTo>
                <a:lnTo>
                  <a:pt x="39" y="240"/>
                </a:lnTo>
                <a:lnTo>
                  <a:pt x="29" y="234"/>
                </a:lnTo>
                <a:lnTo>
                  <a:pt x="19" y="229"/>
                </a:lnTo>
                <a:lnTo>
                  <a:pt x="10" y="221"/>
                </a:lnTo>
                <a:lnTo>
                  <a:pt x="2" y="21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Freeform 114"/>
          <p:cNvSpPr/>
          <p:nvPr/>
        </p:nvSpPr>
        <p:spPr>
          <a:xfrm>
            <a:off x="6648480" y="3044880"/>
            <a:ext cx="1101600" cy="909720"/>
          </a:xfrm>
          <a:custGeom>
            <a:avLst/>
            <a:gdLst/>
            <a:ahLst/>
            <a:rect l="l" t="t" r="r" b="b"/>
            <a:pathLst>
              <a:path w="1388" h="1146">
                <a:moveTo>
                  <a:pt x="1388" y="1121"/>
                </a:moveTo>
                <a:lnTo>
                  <a:pt x="1388" y="1121"/>
                </a:lnTo>
                <a:lnTo>
                  <a:pt x="1386" y="1123"/>
                </a:lnTo>
                <a:lnTo>
                  <a:pt x="1386" y="1124"/>
                </a:lnTo>
                <a:lnTo>
                  <a:pt x="1384" y="1124"/>
                </a:lnTo>
                <a:lnTo>
                  <a:pt x="1380" y="1126"/>
                </a:lnTo>
                <a:lnTo>
                  <a:pt x="1378" y="1126"/>
                </a:lnTo>
                <a:lnTo>
                  <a:pt x="1374" y="1128"/>
                </a:lnTo>
                <a:lnTo>
                  <a:pt x="1370" y="1130"/>
                </a:lnTo>
                <a:lnTo>
                  <a:pt x="1364" y="1130"/>
                </a:lnTo>
                <a:lnTo>
                  <a:pt x="1361" y="1132"/>
                </a:lnTo>
                <a:lnTo>
                  <a:pt x="1355" y="1132"/>
                </a:lnTo>
                <a:lnTo>
                  <a:pt x="1349" y="1134"/>
                </a:lnTo>
                <a:lnTo>
                  <a:pt x="1341" y="1134"/>
                </a:lnTo>
                <a:lnTo>
                  <a:pt x="1334" y="1136"/>
                </a:lnTo>
                <a:lnTo>
                  <a:pt x="1326" y="1136"/>
                </a:lnTo>
                <a:lnTo>
                  <a:pt x="1318" y="1138"/>
                </a:lnTo>
                <a:lnTo>
                  <a:pt x="1309" y="1138"/>
                </a:lnTo>
                <a:lnTo>
                  <a:pt x="1299" y="1140"/>
                </a:lnTo>
                <a:lnTo>
                  <a:pt x="1290" y="1140"/>
                </a:lnTo>
                <a:lnTo>
                  <a:pt x="1280" y="1140"/>
                </a:lnTo>
                <a:lnTo>
                  <a:pt x="1269" y="1142"/>
                </a:lnTo>
                <a:lnTo>
                  <a:pt x="1257" y="1142"/>
                </a:lnTo>
                <a:lnTo>
                  <a:pt x="1245" y="1142"/>
                </a:lnTo>
                <a:lnTo>
                  <a:pt x="1232" y="1144"/>
                </a:lnTo>
                <a:lnTo>
                  <a:pt x="1219" y="1144"/>
                </a:lnTo>
                <a:lnTo>
                  <a:pt x="1205" y="1144"/>
                </a:lnTo>
                <a:lnTo>
                  <a:pt x="1192" y="1144"/>
                </a:lnTo>
                <a:lnTo>
                  <a:pt x="1176" y="1144"/>
                </a:lnTo>
                <a:lnTo>
                  <a:pt x="1161" y="1146"/>
                </a:lnTo>
                <a:lnTo>
                  <a:pt x="1146" y="1146"/>
                </a:lnTo>
                <a:lnTo>
                  <a:pt x="1128" y="1146"/>
                </a:lnTo>
                <a:lnTo>
                  <a:pt x="1113" y="1146"/>
                </a:lnTo>
                <a:lnTo>
                  <a:pt x="1094" y="1146"/>
                </a:lnTo>
                <a:lnTo>
                  <a:pt x="1077" y="1146"/>
                </a:lnTo>
                <a:lnTo>
                  <a:pt x="1059" y="1146"/>
                </a:lnTo>
                <a:lnTo>
                  <a:pt x="1044" y="1144"/>
                </a:lnTo>
                <a:lnTo>
                  <a:pt x="1027" y="1144"/>
                </a:lnTo>
                <a:lnTo>
                  <a:pt x="1011" y="1144"/>
                </a:lnTo>
                <a:lnTo>
                  <a:pt x="998" y="1144"/>
                </a:lnTo>
                <a:lnTo>
                  <a:pt x="983" y="1144"/>
                </a:lnTo>
                <a:lnTo>
                  <a:pt x="969" y="1142"/>
                </a:lnTo>
                <a:lnTo>
                  <a:pt x="956" y="1142"/>
                </a:lnTo>
                <a:lnTo>
                  <a:pt x="944" y="1142"/>
                </a:lnTo>
                <a:lnTo>
                  <a:pt x="931" y="1140"/>
                </a:lnTo>
                <a:lnTo>
                  <a:pt x="919" y="1140"/>
                </a:lnTo>
                <a:lnTo>
                  <a:pt x="908" y="1140"/>
                </a:lnTo>
                <a:lnTo>
                  <a:pt x="898" y="1138"/>
                </a:lnTo>
                <a:lnTo>
                  <a:pt x="887" y="1138"/>
                </a:lnTo>
                <a:lnTo>
                  <a:pt x="877" y="1136"/>
                </a:lnTo>
                <a:lnTo>
                  <a:pt x="867" y="1136"/>
                </a:lnTo>
                <a:lnTo>
                  <a:pt x="860" y="1134"/>
                </a:lnTo>
                <a:lnTo>
                  <a:pt x="852" y="1134"/>
                </a:lnTo>
                <a:lnTo>
                  <a:pt x="844" y="1132"/>
                </a:lnTo>
                <a:lnTo>
                  <a:pt x="837" y="1132"/>
                </a:lnTo>
                <a:lnTo>
                  <a:pt x="829" y="1130"/>
                </a:lnTo>
                <a:lnTo>
                  <a:pt x="823" y="1130"/>
                </a:lnTo>
                <a:lnTo>
                  <a:pt x="817" y="1128"/>
                </a:lnTo>
                <a:lnTo>
                  <a:pt x="812" y="1126"/>
                </a:lnTo>
                <a:lnTo>
                  <a:pt x="808" y="1126"/>
                </a:lnTo>
                <a:lnTo>
                  <a:pt x="804" y="1124"/>
                </a:lnTo>
                <a:lnTo>
                  <a:pt x="796" y="1123"/>
                </a:lnTo>
                <a:lnTo>
                  <a:pt x="791" y="1121"/>
                </a:lnTo>
                <a:lnTo>
                  <a:pt x="789" y="1119"/>
                </a:lnTo>
                <a:lnTo>
                  <a:pt x="787" y="1117"/>
                </a:lnTo>
                <a:lnTo>
                  <a:pt x="783" y="1115"/>
                </a:lnTo>
                <a:lnTo>
                  <a:pt x="781" y="1111"/>
                </a:lnTo>
                <a:lnTo>
                  <a:pt x="777" y="1107"/>
                </a:lnTo>
                <a:lnTo>
                  <a:pt x="773" y="1103"/>
                </a:lnTo>
                <a:lnTo>
                  <a:pt x="769" y="1100"/>
                </a:lnTo>
                <a:lnTo>
                  <a:pt x="766" y="1096"/>
                </a:lnTo>
                <a:lnTo>
                  <a:pt x="756" y="1084"/>
                </a:lnTo>
                <a:lnTo>
                  <a:pt x="745" y="1071"/>
                </a:lnTo>
                <a:lnTo>
                  <a:pt x="733" y="1055"/>
                </a:lnTo>
                <a:lnTo>
                  <a:pt x="720" y="1040"/>
                </a:lnTo>
                <a:lnTo>
                  <a:pt x="706" y="1021"/>
                </a:lnTo>
                <a:lnTo>
                  <a:pt x="691" y="1002"/>
                </a:lnTo>
                <a:lnTo>
                  <a:pt x="673" y="979"/>
                </a:lnTo>
                <a:lnTo>
                  <a:pt x="656" y="956"/>
                </a:lnTo>
                <a:lnTo>
                  <a:pt x="637" y="931"/>
                </a:lnTo>
                <a:lnTo>
                  <a:pt x="618" y="904"/>
                </a:lnTo>
                <a:lnTo>
                  <a:pt x="597" y="877"/>
                </a:lnTo>
                <a:lnTo>
                  <a:pt x="574" y="846"/>
                </a:lnTo>
                <a:lnTo>
                  <a:pt x="562" y="831"/>
                </a:lnTo>
                <a:lnTo>
                  <a:pt x="549" y="815"/>
                </a:lnTo>
                <a:lnTo>
                  <a:pt x="537" y="798"/>
                </a:lnTo>
                <a:lnTo>
                  <a:pt x="524" y="781"/>
                </a:lnTo>
                <a:lnTo>
                  <a:pt x="510" y="764"/>
                </a:lnTo>
                <a:lnTo>
                  <a:pt x="497" y="744"/>
                </a:lnTo>
                <a:lnTo>
                  <a:pt x="482" y="725"/>
                </a:lnTo>
                <a:lnTo>
                  <a:pt x="468" y="706"/>
                </a:lnTo>
                <a:lnTo>
                  <a:pt x="453" y="685"/>
                </a:lnTo>
                <a:lnTo>
                  <a:pt x="437" y="666"/>
                </a:lnTo>
                <a:lnTo>
                  <a:pt x="422" y="645"/>
                </a:lnTo>
                <a:lnTo>
                  <a:pt x="407" y="622"/>
                </a:lnTo>
                <a:lnTo>
                  <a:pt x="389" y="600"/>
                </a:lnTo>
                <a:lnTo>
                  <a:pt x="372" y="577"/>
                </a:lnTo>
                <a:lnTo>
                  <a:pt x="355" y="552"/>
                </a:lnTo>
                <a:lnTo>
                  <a:pt x="338" y="529"/>
                </a:lnTo>
                <a:lnTo>
                  <a:pt x="320" y="505"/>
                </a:lnTo>
                <a:lnTo>
                  <a:pt x="301" y="480"/>
                </a:lnTo>
                <a:lnTo>
                  <a:pt x="282" y="453"/>
                </a:lnTo>
                <a:lnTo>
                  <a:pt x="263" y="426"/>
                </a:lnTo>
                <a:lnTo>
                  <a:pt x="244" y="399"/>
                </a:lnTo>
                <a:lnTo>
                  <a:pt x="224" y="372"/>
                </a:lnTo>
                <a:lnTo>
                  <a:pt x="203" y="343"/>
                </a:lnTo>
                <a:lnTo>
                  <a:pt x="182" y="314"/>
                </a:lnTo>
                <a:lnTo>
                  <a:pt x="161" y="286"/>
                </a:lnTo>
                <a:lnTo>
                  <a:pt x="140" y="255"/>
                </a:lnTo>
                <a:lnTo>
                  <a:pt x="117" y="224"/>
                </a:lnTo>
                <a:lnTo>
                  <a:pt x="94" y="194"/>
                </a:lnTo>
                <a:lnTo>
                  <a:pt x="71" y="161"/>
                </a:lnTo>
                <a:lnTo>
                  <a:pt x="48" y="128"/>
                </a:lnTo>
                <a:lnTo>
                  <a:pt x="25" y="96"/>
                </a:lnTo>
                <a:lnTo>
                  <a:pt x="0" y="61"/>
                </a:lnTo>
                <a:lnTo>
                  <a:pt x="29" y="30"/>
                </a:lnTo>
                <a:lnTo>
                  <a:pt x="57" y="0"/>
                </a:lnTo>
                <a:lnTo>
                  <a:pt x="59" y="2"/>
                </a:lnTo>
                <a:lnTo>
                  <a:pt x="61" y="5"/>
                </a:lnTo>
                <a:lnTo>
                  <a:pt x="63" y="9"/>
                </a:lnTo>
                <a:lnTo>
                  <a:pt x="67" y="13"/>
                </a:lnTo>
                <a:lnTo>
                  <a:pt x="71" y="19"/>
                </a:lnTo>
                <a:lnTo>
                  <a:pt x="77" y="25"/>
                </a:lnTo>
                <a:lnTo>
                  <a:pt x="82" y="30"/>
                </a:lnTo>
                <a:lnTo>
                  <a:pt x="88" y="38"/>
                </a:lnTo>
                <a:lnTo>
                  <a:pt x="94" y="46"/>
                </a:lnTo>
                <a:lnTo>
                  <a:pt x="101" y="55"/>
                </a:lnTo>
                <a:lnTo>
                  <a:pt x="109" y="63"/>
                </a:lnTo>
                <a:lnTo>
                  <a:pt x="119" y="73"/>
                </a:lnTo>
                <a:lnTo>
                  <a:pt x="128" y="84"/>
                </a:lnTo>
                <a:lnTo>
                  <a:pt x="138" y="94"/>
                </a:lnTo>
                <a:lnTo>
                  <a:pt x="149" y="105"/>
                </a:lnTo>
                <a:lnTo>
                  <a:pt x="159" y="119"/>
                </a:lnTo>
                <a:lnTo>
                  <a:pt x="173" y="132"/>
                </a:lnTo>
                <a:lnTo>
                  <a:pt x="184" y="146"/>
                </a:lnTo>
                <a:lnTo>
                  <a:pt x="197" y="159"/>
                </a:lnTo>
                <a:lnTo>
                  <a:pt x="211" y="174"/>
                </a:lnTo>
                <a:lnTo>
                  <a:pt x="226" y="188"/>
                </a:lnTo>
                <a:lnTo>
                  <a:pt x="242" y="205"/>
                </a:lnTo>
                <a:lnTo>
                  <a:pt x="257" y="220"/>
                </a:lnTo>
                <a:lnTo>
                  <a:pt x="272" y="238"/>
                </a:lnTo>
                <a:lnTo>
                  <a:pt x="290" y="257"/>
                </a:lnTo>
                <a:lnTo>
                  <a:pt x="307" y="274"/>
                </a:lnTo>
                <a:lnTo>
                  <a:pt x="326" y="293"/>
                </a:lnTo>
                <a:lnTo>
                  <a:pt x="343" y="313"/>
                </a:lnTo>
                <a:lnTo>
                  <a:pt x="363" y="334"/>
                </a:lnTo>
                <a:lnTo>
                  <a:pt x="384" y="355"/>
                </a:lnTo>
                <a:lnTo>
                  <a:pt x="403" y="376"/>
                </a:lnTo>
                <a:lnTo>
                  <a:pt x="424" y="399"/>
                </a:lnTo>
                <a:lnTo>
                  <a:pt x="464" y="445"/>
                </a:lnTo>
                <a:lnTo>
                  <a:pt x="505" y="489"/>
                </a:lnTo>
                <a:lnTo>
                  <a:pt x="547" y="531"/>
                </a:lnTo>
                <a:lnTo>
                  <a:pt x="587" y="572"/>
                </a:lnTo>
                <a:lnTo>
                  <a:pt x="627" y="610"/>
                </a:lnTo>
                <a:lnTo>
                  <a:pt x="668" y="648"/>
                </a:lnTo>
                <a:lnTo>
                  <a:pt x="710" y="683"/>
                </a:lnTo>
                <a:lnTo>
                  <a:pt x="750" y="718"/>
                </a:lnTo>
                <a:lnTo>
                  <a:pt x="791" y="750"/>
                </a:lnTo>
                <a:lnTo>
                  <a:pt x="833" y="781"/>
                </a:lnTo>
                <a:lnTo>
                  <a:pt x="873" y="810"/>
                </a:lnTo>
                <a:lnTo>
                  <a:pt x="913" y="837"/>
                </a:lnTo>
                <a:lnTo>
                  <a:pt x="956" y="863"/>
                </a:lnTo>
                <a:lnTo>
                  <a:pt x="996" y="888"/>
                </a:lnTo>
                <a:lnTo>
                  <a:pt x="1036" y="911"/>
                </a:lnTo>
                <a:lnTo>
                  <a:pt x="1078" y="934"/>
                </a:lnTo>
                <a:lnTo>
                  <a:pt x="1098" y="944"/>
                </a:lnTo>
                <a:lnTo>
                  <a:pt x="1117" y="954"/>
                </a:lnTo>
                <a:lnTo>
                  <a:pt x="1136" y="963"/>
                </a:lnTo>
                <a:lnTo>
                  <a:pt x="1153" y="973"/>
                </a:lnTo>
                <a:lnTo>
                  <a:pt x="1171" y="982"/>
                </a:lnTo>
                <a:lnTo>
                  <a:pt x="1188" y="992"/>
                </a:lnTo>
                <a:lnTo>
                  <a:pt x="1203" y="1000"/>
                </a:lnTo>
                <a:lnTo>
                  <a:pt x="1219" y="1009"/>
                </a:lnTo>
                <a:lnTo>
                  <a:pt x="1234" y="1017"/>
                </a:lnTo>
                <a:lnTo>
                  <a:pt x="1247" y="1025"/>
                </a:lnTo>
                <a:lnTo>
                  <a:pt x="1261" y="1032"/>
                </a:lnTo>
                <a:lnTo>
                  <a:pt x="1274" y="1040"/>
                </a:lnTo>
                <a:lnTo>
                  <a:pt x="1286" y="1046"/>
                </a:lnTo>
                <a:lnTo>
                  <a:pt x="1297" y="1053"/>
                </a:lnTo>
                <a:lnTo>
                  <a:pt x="1309" y="1059"/>
                </a:lnTo>
                <a:lnTo>
                  <a:pt x="1318" y="1065"/>
                </a:lnTo>
                <a:lnTo>
                  <a:pt x="1328" y="1071"/>
                </a:lnTo>
                <a:lnTo>
                  <a:pt x="1336" y="1077"/>
                </a:lnTo>
                <a:lnTo>
                  <a:pt x="1343" y="1080"/>
                </a:lnTo>
                <a:lnTo>
                  <a:pt x="1351" y="1086"/>
                </a:lnTo>
                <a:lnTo>
                  <a:pt x="1359" y="1090"/>
                </a:lnTo>
                <a:lnTo>
                  <a:pt x="1364" y="1094"/>
                </a:lnTo>
                <a:lnTo>
                  <a:pt x="1370" y="1098"/>
                </a:lnTo>
                <a:lnTo>
                  <a:pt x="1374" y="1101"/>
                </a:lnTo>
                <a:lnTo>
                  <a:pt x="1378" y="1105"/>
                </a:lnTo>
                <a:lnTo>
                  <a:pt x="1382" y="1107"/>
                </a:lnTo>
                <a:lnTo>
                  <a:pt x="1384" y="1111"/>
                </a:lnTo>
                <a:lnTo>
                  <a:pt x="1386" y="1113"/>
                </a:lnTo>
                <a:lnTo>
                  <a:pt x="1388" y="1115"/>
                </a:lnTo>
                <a:lnTo>
                  <a:pt x="1388" y="1117"/>
                </a:lnTo>
                <a:lnTo>
                  <a:pt x="1388" y="1119"/>
                </a:lnTo>
                <a:lnTo>
                  <a:pt x="1388" y="112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Freeform 115"/>
          <p:cNvSpPr/>
          <p:nvPr/>
        </p:nvSpPr>
        <p:spPr>
          <a:xfrm>
            <a:off x="5800680" y="2824200"/>
            <a:ext cx="1020960" cy="1411200"/>
          </a:xfrm>
          <a:custGeom>
            <a:avLst/>
            <a:gdLst/>
            <a:ahLst/>
            <a:rect l="l" t="t" r="r" b="b"/>
            <a:pathLst>
              <a:path w="1286" h="1780">
                <a:moveTo>
                  <a:pt x="1" y="1774"/>
                </a:moveTo>
                <a:lnTo>
                  <a:pt x="0" y="1768"/>
                </a:lnTo>
                <a:lnTo>
                  <a:pt x="0" y="1762"/>
                </a:lnTo>
                <a:lnTo>
                  <a:pt x="1" y="1757"/>
                </a:lnTo>
                <a:lnTo>
                  <a:pt x="5" y="1749"/>
                </a:lnTo>
                <a:lnTo>
                  <a:pt x="9" y="1741"/>
                </a:lnTo>
                <a:lnTo>
                  <a:pt x="17" y="1734"/>
                </a:lnTo>
                <a:lnTo>
                  <a:pt x="24" y="1726"/>
                </a:lnTo>
                <a:lnTo>
                  <a:pt x="32" y="1716"/>
                </a:lnTo>
                <a:lnTo>
                  <a:pt x="44" y="1705"/>
                </a:lnTo>
                <a:lnTo>
                  <a:pt x="55" y="1693"/>
                </a:lnTo>
                <a:lnTo>
                  <a:pt x="67" y="1682"/>
                </a:lnTo>
                <a:lnTo>
                  <a:pt x="82" y="1670"/>
                </a:lnTo>
                <a:lnTo>
                  <a:pt x="97" y="1657"/>
                </a:lnTo>
                <a:lnTo>
                  <a:pt x="113" y="1642"/>
                </a:lnTo>
                <a:lnTo>
                  <a:pt x="132" y="1626"/>
                </a:lnTo>
                <a:lnTo>
                  <a:pt x="149" y="1611"/>
                </a:lnTo>
                <a:lnTo>
                  <a:pt x="168" y="1594"/>
                </a:lnTo>
                <a:lnTo>
                  <a:pt x="190" y="1576"/>
                </a:lnTo>
                <a:lnTo>
                  <a:pt x="209" y="1557"/>
                </a:lnTo>
                <a:lnTo>
                  <a:pt x="230" y="1538"/>
                </a:lnTo>
                <a:lnTo>
                  <a:pt x="249" y="1517"/>
                </a:lnTo>
                <a:lnTo>
                  <a:pt x="270" y="1496"/>
                </a:lnTo>
                <a:lnTo>
                  <a:pt x="291" y="1475"/>
                </a:lnTo>
                <a:lnTo>
                  <a:pt x="314" y="1450"/>
                </a:lnTo>
                <a:lnTo>
                  <a:pt x="335" y="1427"/>
                </a:lnTo>
                <a:lnTo>
                  <a:pt x="357" y="1402"/>
                </a:lnTo>
                <a:lnTo>
                  <a:pt x="380" y="1375"/>
                </a:lnTo>
                <a:lnTo>
                  <a:pt x="403" y="1346"/>
                </a:lnTo>
                <a:lnTo>
                  <a:pt x="424" y="1319"/>
                </a:lnTo>
                <a:lnTo>
                  <a:pt x="447" y="1288"/>
                </a:lnTo>
                <a:lnTo>
                  <a:pt x="470" y="1258"/>
                </a:lnTo>
                <a:lnTo>
                  <a:pt x="495" y="1225"/>
                </a:lnTo>
                <a:lnTo>
                  <a:pt x="518" y="1194"/>
                </a:lnTo>
                <a:lnTo>
                  <a:pt x="541" y="1162"/>
                </a:lnTo>
                <a:lnTo>
                  <a:pt x="564" y="1129"/>
                </a:lnTo>
                <a:lnTo>
                  <a:pt x="587" y="1096"/>
                </a:lnTo>
                <a:lnTo>
                  <a:pt x="612" y="1062"/>
                </a:lnTo>
                <a:lnTo>
                  <a:pt x="635" y="1027"/>
                </a:lnTo>
                <a:lnTo>
                  <a:pt x="658" y="993"/>
                </a:lnTo>
                <a:lnTo>
                  <a:pt x="681" y="956"/>
                </a:lnTo>
                <a:lnTo>
                  <a:pt x="702" y="920"/>
                </a:lnTo>
                <a:lnTo>
                  <a:pt x="725" y="883"/>
                </a:lnTo>
                <a:lnTo>
                  <a:pt x="746" y="847"/>
                </a:lnTo>
                <a:lnTo>
                  <a:pt x="769" y="808"/>
                </a:lnTo>
                <a:lnTo>
                  <a:pt x="790" y="770"/>
                </a:lnTo>
                <a:lnTo>
                  <a:pt x="810" y="732"/>
                </a:lnTo>
                <a:lnTo>
                  <a:pt x="831" y="691"/>
                </a:lnTo>
                <a:lnTo>
                  <a:pt x="850" y="653"/>
                </a:lnTo>
                <a:lnTo>
                  <a:pt x="867" y="613"/>
                </a:lnTo>
                <a:lnTo>
                  <a:pt x="886" y="576"/>
                </a:lnTo>
                <a:lnTo>
                  <a:pt x="904" y="540"/>
                </a:lnTo>
                <a:lnTo>
                  <a:pt x="919" y="507"/>
                </a:lnTo>
                <a:lnTo>
                  <a:pt x="934" y="474"/>
                </a:lnTo>
                <a:lnTo>
                  <a:pt x="950" y="444"/>
                </a:lnTo>
                <a:lnTo>
                  <a:pt x="963" y="415"/>
                </a:lnTo>
                <a:lnTo>
                  <a:pt x="977" y="386"/>
                </a:lnTo>
                <a:lnTo>
                  <a:pt x="988" y="361"/>
                </a:lnTo>
                <a:lnTo>
                  <a:pt x="1000" y="336"/>
                </a:lnTo>
                <a:lnTo>
                  <a:pt x="1009" y="313"/>
                </a:lnTo>
                <a:lnTo>
                  <a:pt x="1019" y="292"/>
                </a:lnTo>
                <a:lnTo>
                  <a:pt x="1026" y="271"/>
                </a:lnTo>
                <a:lnTo>
                  <a:pt x="1034" y="252"/>
                </a:lnTo>
                <a:lnTo>
                  <a:pt x="1040" y="233"/>
                </a:lnTo>
                <a:lnTo>
                  <a:pt x="1044" y="217"/>
                </a:lnTo>
                <a:lnTo>
                  <a:pt x="1048" y="202"/>
                </a:lnTo>
                <a:lnTo>
                  <a:pt x="1051" y="190"/>
                </a:lnTo>
                <a:lnTo>
                  <a:pt x="1055" y="177"/>
                </a:lnTo>
                <a:lnTo>
                  <a:pt x="1057" y="165"/>
                </a:lnTo>
                <a:lnTo>
                  <a:pt x="1059" y="154"/>
                </a:lnTo>
                <a:lnTo>
                  <a:pt x="1061" y="142"/>
                </a:lnTo>
                <a:lnTo>
                  <a:pt x="1061" y="133"/>
                </a:lnTo>
                <a:lnTo>
                  <a:pt x="1063" y="123"/>
                </a:lnTo>
                <a:lnTo>
                  <a:pt x="1063" y="114"/>
                </a:lnTo>
                <a:lnTo>
                  <a:pt x="1063" y="106"/>
                </a:lnTo>
                <a:lnTo>
                  <a:pt x="1063" y="98"/>
                </a:lnTo>
                <a:lnTo>
                  <a:pt x="1061" y="91"/>
                </a:lnTo>
                <a:lnTo>
                  <a:pt x="1061" y="83"/>
                </a:lnTo>
                <a:lnTo>
                  <a:pt x="1059" y="77"/>
                </a:lnTo>
                <a:lnTo>
                  <a:pt x="1057" y="71"/>
                </a:lnTo>
                <a:lnTo>
                  <a:pt x="1055" y="68"/>
                </a:lnTo>
                <a:lnTo>
                  <a:pt x="1051" y="62"/>
                </a:lnTo>
                <a:lnTo>
                  <a:pt x="1048" y="58"/>
                </a:lnTo>
                <a:lnTo>
                  <a:pt x="1046" y="52"/>
                </a:lnTo>
                <a:lnTo>
                  <a:pt x="1044" y="48"/>
                </a:lnTo>
                <a:lnTo>
                  <a:pt x="1042" y="45"/>
                </a:lnTo>
                <a:lnTo>
                  <a:pt x="1040" y="39"/>
                </a:lnTo>
                <a:lnTo>
                  <a:pt x="1040" y="35"/>
                </a:lnTo>
                <a:lnTo>
                  <a:pt x="1040" y="31"/>
                </a:lnTo>
                <a:lnTo>
                  <a:pt x="1040" y="27"/>
                </a:lnTo>
                <a:lnTo>
                  <a:pt x="1042" y="23"/>
                </a:lnTo>
                <a:lnTo>
                  <a:pt x="1044" y="20"/>
                </a:lnTo>
                <a:lnTo>
                  <a:pt x="1048" y="16"/>
                </a:lnTo>
                <a:lnTo>
                  <a:pt x="1051" y="12"/>
                </a:lnTo>
                <a:lnTo>
                  <a:pt x="1055" y="10"/>
                </a:lnTo>
                <a:lnTo>
                  <a:pt x="1061" y="6"/>
                </a:lnTo>
                <a:lnTo>
                  <a:pt x="1067" y="4"/>
                </a:lnTo>
                <a:lnTo>
                  <a:pt x="1073" y="2"/>
                </a:lnTo>
                <a:lnTo>
                  <a:pt x="1076" y="0"/>
                </a:lnTo>
                <a:lnTo>
                  <a:pt x="1082" y="0"/>
                </a:lnTo>
                <a:lnTo>
                  <a:pt x="1088" y="0"/>
                </a:lnTo>
                <a:lnTo>
                  <a:pt x="1096" y="0"/>
                </a:lnTo>
                <a:lnTo>
                  <a:pt x="1101" y="0"/>
                </a:lnTo>
                <a:lnTo>
                  <a:pt x="1109" y="2"/>
                </a:lnTo>
                <a:lnTo>
                  <a:pt x="1117" y="4"/>
                </a:lnTo>
                <a:lnTo>
                  <a:pt x="1126" y="6"/>
                </a:lnTo>
                <a:lnTo>
                  <a:pt x="1134" y="10"/>
                </a:lnTo>
                <a:lnTo>
                  <a:pt x="1144" y="14"/>
                </a:lnTo>
                <a:lnTo>
                  <a:pt x="1153" y="18"/>
                </a:lnTo>
                <a:lnTo>
                  <a:pt x="1163" y="23"/>
                </a:lnTo>
                <a:lnTo>
                  <a:pt x="1172" y="29"/>
                </a:lnTo>
                <a:lnTo>
                  <a:pt x="1182" y="35"/>
                </a:lnTo>
                <a:lnTo>
                  <a:pt x="1193" y="43"/>
                </a:lnTo>
                <a:lnTo>
                  <a:pt x="1203" y="48"/>
                </a:lnTo>
                <a:lnTo>
                  <a:pt x="1213" y="56"/>
                </a:lnTo>
                <a:lnTo>
                  <a:pt x="1222" y="64"/>
                </a:lnTo>
                <a:lnTo>
                  <a:pt x="1230" y="69"/>
                </a:lnTo>
                <a:lnTo>
                  <a:pt x="1238" y="77"/>
                </a:lnTo>
                <a:lnTo>
                  <a:pt x="1243" y="83"/>
                </a:lnTo>
                <a:lnTo>
                  <a:pt x="1251" y="91"/>
                </a:lnTo>
                <a:lnTo>
                  <a:pt x="1257" y="96"/>
                </a:lnTo>
                <a:lnTo>
                  <a:pt x="1261" y="102"/>
                </a:lnTo>
                <a:lnTo>
                  <a:pt x="1266" y="110"/>
                </a:lnTo>
                <a:lnTo>
                  <a:pt x="1274" y="121"/>
                </a:lnTo>
                <a:lnTo>
                  <a:pt x="1280" y="131"/>
                </a:lnTo>
                <a:lnTo>
                  <a:pt x="1286" y="142"/>
                </a:lnTo>
                <a:lnTo>
                  <a:pt x="1284" y="144"/>
                </a:lnTo>
                <a:lnTo>
                  <a:pt x="1284" y="150"/>
                </a:lnTo>
                <a:lnTo>
                  <a:pt x="1284" y="154"/>
                </a:lnTo>
                <a:lnTo>
                  <a:pt x="1282" y="160"/>
                </a:lnTo>
                <a:lnTo>
                  <a:pt x="1280" y="165"/>
                </a:lnTo>
                <a:lnTo>
                  <a:pt x="1278" y="171"/>
                </a:lnTo>
                <a:lnTo>
                  <a:pt x="1276" y="179"/>
                </a:lnTo>
                <a:lnTo>
                  <a:pt x="1274" y="187"/>
                </a:lnTo>
                <a:lnTo>
                  <a:pt x="1270" y="194"/>
                </a:lnTo>
                <a:lnTo>
                  <a:pt x="1268" y="202"/>
                </a:lnTo>
                <a:lnTo>
                  <a:pt x="1264" y="211"/>
                </a:lnTo>
                <a:lnTo>
                  <a:pt x="1261" y="221"/>
                </a:lnTo>
                <a:lnTo>
                  <a:pt x="1255" y="231"/>
                </a:lnTo>
                <a:lnTo>
                  <a:pt x="1251" y="242"/>
                </a:lnTo>
                <a:lnTo>
                  <a:pt x="1247" y="252"/>
                </a:lnTo>
                <a:lnTo>
                  <a:pt x="1241" y="263"/>
                </a:lnTo>
                <a:lnTo>
                  <a:pt x="1236" y="277"/>
                </a:lnTo>
                <a:lnTo>
                  <a:pt x="1230" y="288"/>
                </a:lnTo>
                <a:lnTo>
                  <a:pt x="1224" y="302"/>
                </a:lnTo>
                <a:lnTo>
                  <a:pt x="1216" y="317"/>
                </a:lnTo>
                <a:lnTo>
                  <a:pt x="1211" y="331"/>
                </a:lnTo>
                <a:lnTo>
                  <a:pt x="1203" y="346"/>
                </a:lnTo>
                <a:lnTo>
                  <a:pt x="1195" y="361"/>
                </a:lnTo>
                <a:lnTo>
                  <a:pt x="1188" y="377"/>
                </a:lnTo>
                <a:lnTo>
                  <a:pt x="1180" y="394"/>
                </a:lnTo>
                <a:lnTo>
                  <a:pt x="1170" y="411"/>
                </a:lnTo>
                <a:lnTo>
                  <a:pt x="1161" y="428"/>
                </a:lnTo>
                <a:lnTo>
                  <a:pt x="1153" y="448"/>
                </a:lnTo>
                <a:lnTo>
                  <a:pt x="1144" y="467"/>
                </a:lnTo>
                <a:lnTo>
                  <a:pt x="1134" y="486"/>
                </a:lnTo>
                <a:lnTo>
                  <a:pt x="1122" y="507"/>
                </a:lnTo>
                <a:lnTo>
                  <a:pt x="1113" y="528"/>
                </a:lnTo>
                <a:lnTo>
                  <a:pt x="1092" y="569"/>
                </a:lnTo>
                <a:lnTo>
                  <a:pt x="1069" y="611"/>
                </a:lnTo>
                <a:lnTo>
                  <a:pt x="1046" y="653"/>
                </a:lnTo>
                <a:lnTo>
                  <a:pt x="1023" y="693"/>
                </a:lnTo>
                <a:lnTo>
                  <a:pt x="1000" y="734"/>
                </a:lnTo>
                <a:lnTo>
                  <a:pt x="975" y="774"/>
                </a:lnTo>
                <a:lnTo>
                  <a:pt x="925" y="855"/>
                </a:lnTo>
                <a:lnTo>
                  <a:pt x="873" y="933"/>
                </a:lnTo>
                <a:lnTo>
                  <a:pt x="821" y="1010"/>
                </a:lnTo>
                <a:lnTo>
                  <a:pt x="767" y="1087"/>
                </a:lnTo>
                <a:lnTo>
                  <a:pt x="712" y="1164"/>
                </a:lnTo>
                <a:lnTo>
                  <a:pt x="685" y="1202"/>
                </a:lnTo>
                <a:lnTo>
                  <a:pt x="656" y="1240"/>
                </a:lnTo>
                <a:lnTo>
                  <a:pt x="627" y="1275"/>
                </a:lnTo>
                <a:lnTo>
                  <a:pt x="598" y="1311"/>
                </a:lnTo>
                <a:lnTo>
                  <a:pt x="570" y="1344"/>
                </a:lnTo>
                <a:lnTo>
                  <a:pt x="541" y="1377"/>
                </a:lnTo>
                <a:lnTo>
                  <a:pt x="512" y="1407"/>
                </a:lnTo>
                <a:lnTo>
                  <a:pt x="483" y="1436"/>
                </a:lnTo>
                <a:lnTo>
                  <a:pt x="453" y="1465"/>
                </a:lnTo>
                <a:lnTo>
                  <a:pt x="424" y="1492"/>
                </a:lnTo>
                <a:lnTo>
                  <a:pt x="395" y="1519"/>
                </a:lnTo>
                <a:lnTo>
                  <a:pt x="366" y="1544"/>
                </a:lnTo>
                <a:lnTo>
                  <a:pt x="337" y="1569"/>
                </a:lnTo>
                <a:lnTo>
                  <a:pt x="309" y="1592"/>
                </a:lnTo>
                <a:lnTo>
                  <a:pt x="282" y="1615"/>
                </a:lnTo>
                <a:lnTo>
                  <a:pt x="253" y="1636"/>
                </a:lnTo>
                <a:lnTo>
                  <a:pt x="224" y="1657"/>
                </a:lnTo>
                <a:lnTo>
                  <a:pt x="197" y="1676"/>
                </a:lnTo>
                <a:lnTo>
                  <a:pt x="172" y="1693"/>
                </a:lnTo>
                <a:lnTo>
                  <a:pt x="147" y="1709"/>
                </a:lnTo>
                <a:lnTo>
                  <a:pt x="126" y="1722"/>
                </a:lnTo>
                <a:lnTo>
                  <a:pt x="107" y="1736"/>
                </a:lnTo>
                <a:lnTo>
                  <a:pt x="88" y="1747"/>
                </a:lnTo>
                <a:lnTo>
                  <a:pt x="71" y="1757"/>
                </a:lnTo>
                <a:lnTo>
                  <a:pt x="57" y="1764"/>
                </a:lnTo>
                <a:lnTo>
                  <a:pt x="44" y="1770"/>
                </a:lnTo>
                <a:lnTo>
                  <a:pt x="32" y="1776"/>
                </a:lnTo>
                <a:lnTo>
                  <a:pt x="23" y="1778"/>
                </a:lnTo>
                <a:lnTo>
                  <a:pt x="15" y="1780"/>
                </a:lnTo>
                <a:lnTo>
                  <a:pt x="9" y="1780"/>
                </a:lnTo>
                <a:lnTo>
                  <a:pt x="3" y="1778"/>
                </a:lnTo>
                <a:lnTo>
                  <a:pt x="1" y="177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Freeform 116"/>
          <p:cNvSpPr/>
          <p:nvPr/>
        </p:nvSpPr>
        <p:spPr>
          <a:xfrm>
            <a:off x="5573880" y="3776760"/>
            <a:ext cx="465120" cy="156960"/>
          </a:xfrm>
          <a:custGeom>
            <a:avLst/>
            <a:gdLst/>
            <a:ahLst/>
            <a:rect l="l" t="t" r="r" b="b"/>
            <a:pathLst>
              <a:path w="585" h="200">
                <a:moveTo>
                  <a:pt x="0" y="136"/>
                </a:moveTo>
                <a:lnTo>
                  <a:pt x="26" y="129"/>
                </a:lnTo>
                <a:lnTo>
                  <a:pt x="51" y="121"/>
                </a:lnTo>
                <a:lnTo>
                  <a:pt x="76" y="113"/>
                </a:lnTo>
                <a:lnTo>
                  <a:pt x="101" y="106"/>
                </a:lnTo>
                <a:lnTo>
                  <a:pt x="124" y="98"/>
                </a:lnTo>
                <a:lnTo>
                  <a:pt x="147" y="92"/>
                </a:lnTo>
                <a:lnTo>
                  <a:pt x="168" y="84"/>
                </a:lnTo>
                <a:lnTo>
                  <a:pt x="190" y="79"/>
                </a:lnTo>
                <a:lnTo>
                  <a:pt x="209" y="71"/>
                </a:lnTo>
                <a:lnTo>
                  <a:pt x="228" y="65"/>
                </a:lnTo>
                <a:lnTo>
                  <a:pt x="247" y="60"/>
                </a:lnTo>
                <a:lnTo>
                  <a:pt x="264" y="54"/>
                </a:lnTo>
                <a:lnTo>
                  <a:pt x="282" y="50"/>
                </a:lnTo>
                <a:lnTo>
                  <a:pt x="297" y="44"/>
                </a:lnTo>
                <a:lnTo>
                  <a:pt x="314" y="40"/>
                </a:lnTo>
                <a:lnTo>
                  <a:pt x="328" y="35"/>
                </a:lnTo>
                <a:lnTo>
                  <a:pt x="341" y="31"/>
                </a:lnTo>
                <a:lnTo>
                  <a:pt x="355" y="27"/>
                </a:lnTo>
                <a:lnTo>
                  <a:pt x="368" y="23"/>
                </a:lnTo>
                <a:lnTo>
                  <a:pt x="380" y="19"/>
                </a:lnTo>
                <a:lnTo>
                  <a:pt x="389" y="17"/>
                </a:lnTo>
                <a:lnTo>
                  <a:pt x="401" y="13"/>
                </a:lnTo>
                <a:lnTo>
                  <a:pt x="408" y="12"/>
                </a:lnTo>
                <a:lnTo>
                  <a:pt x="418" y="10"/>
                </a:lnTo>
                <a:lnTo>
                  <a:pt x="426" y="8"/>
                </a:lnTo>
                <a:lnTo>
                  <a:pt x="433" y="6"/>
                </a:lnTo>
                <a:lnTo>
                  <a:pt x="439" y="4"/>
                </a:lnTo>
                <a:lnTo>
                  <a:pt x="445" y="2"/>
                </a:lnTo>
                <a:lnTo>
                  <a:pt x="449" y="2"/>
                </a:lnTo>
                <a:lnTo>
                  <a:pt x="453" y="0"/>
                </a:lnTo>
                <a:lnTo>
                  <a:pt x="456" y="0"/>
                </a:lnTo>
                <a:lnTo>
                  <a:pt x="458" y="0"/>
                </a:lnTo>
                <a:lnTo>
                  <a:pt x="476" y="0"/>
                </a:lnTo>
                <a:lnTo>
                  <a:pt x="485" y="0"/>
                </a:lnTo>
                <a:lnTo>
                  <a:pt x="495" y="2"/>
                </a:lnTo>
                <a:lnTo>
                  <a:pt x="504" y="2"/>
                </a:lnTo>
                <a:lnTo>
                  <a:pt x="516" y="6"/>
                </a:lnTo>
                <a:lnTo>
                  <a:pt x="527" y="8"/>
                </a:lnTo>
                <a:lnTo>
                  <a:pt x="539" y="13"/>
                </a:lnTo>
                <a:lnTo>
                  <a:pt x="545" y="15"/>
                </a:lnTo>
                <a:lnTo>
                  <a:pt x="550" y="17"/>
                </a:lnTo>
                <a:lnTo>
                  <a:pt x="556" y="21"/>
                </a:lnTo>
                <a:lnTo>
                  <a:pt x="560" y="23"/>
                </a:lnTo>
                <a:lnTo>
                  <a:pt x="570" y="31"/>
                </a:lnTo>
                <a:lnTo>
                  <a:pt x="575" y="38"/>
                </a:lnTo>
                <a:lnTo>
                  <a:pt x="579" y="44"/>
                </a:lnTo>
                <a:lnTo>
                  <a:pt x="583" y="52"/>
                </a:lnTo>
                <a:lnTo>
                  <a:pt x="585" y="58"/>
                </a:lnTo>
                <a:lnTo>
                  <a:pt x="585" y="63"/>
                </a:lnTo>
                <a:lnTo>
                  <a:pt x="585" y="67"/>
                </a:lnTo>
                <a:lnTo>
                  <a:pt x="581" y="71"/>
                </a:lnTo>
                <a:lnTo>
                  <a:pt x="577" y="77"/>
                </a:lnTo>
                <a:lnTo>
                  <a:pt x="572" y="81"/>
                </a:lnTo>
                <a:lnTo>
                  <a:pt x="564" y="86"/>
                </a:lnTo>
                <a:lnTo>
                  <a:pt x="556" y="90"/>
                </a:lnTo>
                <a:lnTo>
                  <a:pt x="545" y="96"/>
                </a:lnTo>
                <a:lnTo>
                  <a:pt x="531" y="102"/>
                </a:lnTo>
                <a:lnTo>
                  <a:pt x="518" y="106"/>
                </a:lnTo>
                <a:lnTo>
                  <a:pt x="501" y="111"/>
                </a:lnTo>
                <a:lnTo>
                  <a:pt x="483" y="117"/>
                </a:lnTo>
                <a:lnTo>
                  <a:pt x="464" y="123"/>
                </a:lnTo>
                <a:lnTo>
                  <a:pt x="443" y="129"/>
                </a:lnTo>
                <a:lnTo>
                  <a:pt x="420" y="136"/>
                </a:lnTo>
                <a:lnTo>
                  <a:pt x="395" y="142"/>
                </a:lnTo>
                <a:lnTo>
                  <a:pt x="368" y="150"/>
                </a:lnTo>
                <a:lnTo>
                  <a:pt x="339" y="156"/>
                </a:lnTo>
                <a:lnTo>
                  <a:pt x="312" y="163"/>
                </a:lnTo>
                <a:lnTo>
                  <a:pt x="287" y="169"/>
                </a:lnTo>
                <a:lnTo>
                  <a:pt x="262" y="173"/>
                </a:lnTo>
                <a:lnTo>
                  <a:pt x="238" y="179"/>
                </a:lnTo>
                <a:lnTo>
                  <a:pt x="213" y="182"/>
                </a:lnTo>
                <a:lnTo>
                  <a:pt x="190" y="186"/>
                </a:lnTo>
                <a:lnTo>
                  <a:pt x="167" y="188"/>
                </a:lnTo>
                <a:lnTo>
                  <a:pt x="143" y="192"/>
                </a:lnTo>
                <a:lnTo>
                  <a:pt x="122" y="194"/>
                </a:lnTo>
                <a:lnTo>
                  <a:pt x="80" y="198"/>
                </a:lnTo>
                <a:lnTo>
                  <a:pt x="40" y="198"/>
                </a:lnTo>
                <a:lnTo>
                  <a:pt x="0" y="200"/>
                </a:lnTo>
                <a:lnTo>
                  <a:pt x="0" y="169"/>
                </a:lnTo>
                <a:lnTo>
                  <a:pt x="0" y="13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Freeform 117"/>
          <p:cNvSpPr/>
          <p:nvPr/>
        </p:nvSpPr>
        <p:spPr>
          <a:xfrm>
            <a:off x="5529240" y="3360600"/>
            <a:ext cx="609480" cy="474840"/>
          </a:xfrm>
          <a:custGeom>
            <a:avLst/>
            <a:gdLst/>
            <a:ahLst/>
            <a:rect l="l" t="t" r="r" b="b"/>
            <a:pathLst>
              <a:path w="768" h="597">
                <a:moveTo>
                  <a:pt x="768" y="173"/>
                </a:moveTo>
                <a:lnTo>
                  <a:pt x="766" y="182"/>
                </a:lnTo>
                <a:lnTo>
                  <a:pt x="766" y="190"/>
                </a:lnTo>
                <a:lnTo>
                  <a:pt x="762" y="196"/>
                </a:lnTo>
                <a:lnTo>
                  <a:pt x="756" y="203"/>
                </a:lnTo>
                <a:lnTo>
                  <a:pt x="750" y="209"/>
                </a:lnTo>
                <a:lnTo>
                  <a:pt x="743" y="213"/>
                </a:lnTo>
                <a:lnTo>
                  <a:pt x="739" y="215"/>
                </a:lnTo>
                <a:lnTo>
                  <a:pt x="733" y="219"/>
                </a:lnTo>
                <a:lnTo>
                  <a:pt x="727" y="221"/>
                </a:lnTo>
                <a:lnTo>
                  <a:pt x="722" y="223"/>
                </a:lnTo>
                <a:lnTo>
                  <a:pt x="714" y="226"/>
                </a:lnTo>
                <a:lnTo>
                  <a:pt x="708" y="228"/>
                </a:lnTo>
                <a:lnTo>
                  <a:pt x="702" y="232"/>
                </a:lnTo>
                <a:lnTo>
                  <a:pt x="695" y="238"/>
                </a:lnTo>
                <a:lnTo>
                  <a:pt x="689" y="242"/>
                </a:lnTo>
                <a:lnTo>
                  <a:pt x="683" y="248"/>
                </a:lnTo>
                <a:lnTo>
                  <a:pt x="677" y="253"/>
                </a:lnTo>
                <a:lnTo>
                  <a:pt x="672" y="261"/>
                </a:lnTo>
                <a:lnTo>
                  <a:pt x="666" y="267"/>
                </a:lnTo>
                <a:lnTo>
                  <a:pt x="660" y="276"/>
                </a:lnTo>
                <a:lnTo>
                  <a:pt x="654" y="284"/>
                </a:lnTo>
                <a:lnTo>
                  <a:pt x="649" y="294"/>
                </a:lnTo>
                <a:lnTo>
                  <a:pt x="643" y="303"/>
                </a:lnTo>
                <a:lnTo>
                  <a:pt x="639" y="313"/>
                </a:lnTo>
                <a:lnTo>
                  <a:pt x="633" y="324"/>
                </a:lnTo>
                <a:lnTo>
                  <a:pt x="629" y="336"/>
                </a:lnTo>
                <a:lnTo>
                  <a:pt x="624" y="347"/>
                </a:lnTo>
                <a:lnTo>
                  <a:pt x="618" y="359"/>
                </a:lnTo>
                <a:lnTo>
                  <a:pt x="612" y="372"/>
                </a:lnTo>
                <a:lnTo>
                  <a:pt x="608" y="386"/>
                </a:lnTo>
                <a:lnTo>
                  <a:pt x="604" y="401"/>
                </a:lnTo>
                <a:lnTo>
                  <a:pt x="601" y="416"/>
                </a:lnTo>
                <a:lnTo>
                  <a:pt x="597" y="432"/>
                </a:lnTo>
                <a:lnTo>
                  <a:pt x="593" y="447"/>
                </a:lnTo>
                <a:lnTo>
                  <a:pt x="591" y="464"/>
                </a:lnTo>
                <a:lnTo>
                  <a:pt x="589" y="482"/>
                </a:lnTo>
                <a:lnTo>
                  <a:pt x="587" y="499"/>
                </a:lnTo>
                <a:lnTo>
                  <a:pt x="585" y="518"/>
                </a:lnTo>
                <a:lnTo>
                  <a:pt x="585" y="535"/>
                </a:lnTo>
                <a:lnTo>
                  <a:pt x="583" y="557"/>
                </a:lnTo>
                <a:lnTo>
                  <a:pt x="583" y="576"/>
                </a:lnTo>
                <a:lnTo>
                  <a:pt x="583" y="597"/>
                </a:lnTo>
                <a:lnTo>
                  <a:pt x="520" y="597"/>
                </a:lnTo>
                <a:lnTo>
                  <a:pt x="457" y="597"/>
                </a:lnTo>
                <a:lnTo>
                  <a:pt x="457" y="589"/>
                </a:lnTo>
                <a:lnTo>
                  <a:pt x="459" y="582"/>
                </a:lnTo>
                <a:lnTo>
                  <a:pt x="459" y="572"/>
                </a:lnTo>
                <a:lnTo>
                  <a:pt x="459" y="562"/>
                </a:lnTo>
                <a:lnTo>
                  <a:pt x="461" y="551"/>
                </a:lnTo>
                <a:lnTo>
                  <a:pt x="462" y="539"/>
                </a:lnTo>
                <a:lnTo>
                  <a:pt x="462" y="528"/>
                </a:lnTo>
                <a:lnTo>
                  <a:pt x="464" y="514"/>
                </a:lnTo>
                <a:lnTo>
                  <a:pt x="466" y="501"/>
                </a:lnTo>
                <a:lnTo>
                  <a:pt x="468" y="486"/>
                </a:lnTo>
                <a:lnTo>
                  <a:pt x="470" y="470"/>
                </a:lnTo>
                <a:lnTo>
                  <a:pt x="472" y="455"/>
                </a:lnTo>
                <a:lnTo>
                  <a:pt x="474" y="438"/>
                </a:lnTo>
                <a:lnTo>
                  <a:pt x="476" y="420"/>
                </a:lnTo>
                <a:lnTo>
                  <a:pt x="478" y="403"/>
                </a:lnTo>
                <a:lnTo>
                  <a:pt x="480" y="386"/>
                </a:lnTo>
                <a:lnTo>
                  <a:pt x="482" y="367"/>
                </a:lnTo>
                <a:lnTo>
                  <a:pt x="484" y="349"/>
                </a:lnTo>
                <a:lnTo>
                  <a:pt x="484" y="332"/>
                </a:lnTo>
                <a:lnTo>
                  <a:pt x="485" y="317"/>
                </a:lnTo>
                <a:lnTo>
                  <a:pt x="485" y="303"/>
                </a:lnTo>
                <a:lnTo>
                  <a:pt x="484" y="288"/>
                </a:lnTo>
                <a:lnTo>
                  <a:pt x="484" y="276"/>
                </a:lnTo>
                <a:lnTo>
                  <a:pt x="482" y="263"/>
                </a:lnTo>
                <a:lnTo>
                  <a:pt x="480" y="253"/>
                </a:lnTo>
                <a:lnTo>
                  <a:pt x="478" y="242"/>
                </a:lnTo>
                <a:lnTo>
                  <a:pt x="476" y="232"/>
                </a:lnTo>
                <a:lnTo>
                  <a:pt x="472" y="225"/>
                </a:lnTo>
                <a:lnTo>
                  <a:pt x="468" y="217"/>
                </a:lnTo>
                <a:lnTo>
                  <a:pt x="464" y="209"/>
                </a:lnTo>
                <a:lnTo>
                  <a:pt x="461" y="203"/>
                </a:lnTo>
                <a:lnTo>
                  <a:pt x="457" y="198"/>
                </a:lnTo>
                <a:lnTo>
                  <a:pt x="453" y="196"/>
                </a:lnTo>
                <a:lnTo>
                  <a:pt x="447" y="194"/>
                </a:lnTo>
                <a:lnTo>
                  <a:pt x="441" y="192"/>
                </a:lnTo>
                <a:lnTo>
                  <a:pt x="436" y="190"/>
                </a:lnTo>
                <a:lnTo>
                  <a:pt x="430" y="188"/>
                </a:lnTo>
                <a:lnTo>
                  <a:pt x="422" y="186"/>
                </a:lnTo>
                <a:lnTo>
                  <a:pt x="414" y="184"/>
                </a:lnTo>
                <a:lnTo>
                  <a:pt x="407" y="182"/>
                </a:lnTo>
                <a:lnTo>
                  <a:pt x="397" y="182"/>
                </a:lnTo>
                <a:lnTo>
                  <a:pt x="388" y="180"/>
                </a:lnTo>
                <a:lnTo>
                  <a:pt x="378" y="180"/>
                </a:lnTo>
                <a:lnTo>
                  <a:pt x="366" y="180"/>
                </a:lnTo>
                <a:lnTo>
                  <a:pt x="357" y="180"/>
                </a:lnTo>
                <a:lnTo>
                  <a:pt x="345" y="182"/>
                </a:lnTo>
                <a:lnTo>
                  <a:pt x="332" y="184"/>
                </a:lnTo>
                <a:lnTo>
                  <a:pt x="320" y="186"/>
                </a:lnTo>
                <a:lnTo>
                  <a:pt x="307" y="188"/>
                </a:lnTo>
                <a:lnTo>
                  <a:pt x="292" y="190"/>
                </a:lnTo>
                <a:lnTo>
                  <a:pt x="278" y="192"/>
                </a:lnTo>
                <a:lnTo>
                  <a:pt x="261" y="196"/>
                </a:lnTo>
                <a:lnTo>
                  <a:pt x="246" y="198"/>
                </a:lnTo>
                <a:lnTo>
                  <a:pt x="226" y="200"/>
                </a:lnTo>
                <a:lnTo>
                  <a:pt x="209" y="201"/>
                </a:lnTo>
                <a:lnTo>
                  <a:pt x="190" y="203"/>
                </a:lnTo>
                <a:lnTo>
                  <a:pt x="169" y="205"/>
                </a:lnTo>
                <a:lnTo>
                  <a:pt x="148" y="205"/>
                </a:lnTo>
                <a:lnTo>
                  <a:pt x="125" y="207"/>
                </a:lnTo>
                <a:lnTo>
                  <a:pt x="102" y="209"/>
                </a:lnTo>
                <a:lnTo>
                  <a:pt x="79" y="209"/>
                </a:lnTo>
                <a:lnTo>
                  <a:pt x="52" y="209"/>
                </a:lnTo>
                <a:lnTo>
                  <a:pt x="27" y="211"/>
                </a:lnTo>
                <a:lnTo>
                  <a:pt x="0" y="211"/>
                </a:lnTo>
                <a:lnTo>
                  <a:pt x="0" y="136"/>
                </a:lnTo>
                <a:lnTo>
                  <a:pt x="36" y="134"/>
                </a:lnTo>
                <a:lnTo>
                  <a:pt x="75" y="134"/>
                </a:lnTo>
                <a:lnTo>
                  <a:pt x="111" y="130"/>
                </a:lnTo>
                <a:lnTo>
                  <a:pt x="146" y="125"/>
                </a:lnTo>
                <a:lnTo>
                  <a:pt x="165" y="123"/>
                </a:lnTo>
                <a:lnTo>
                  <a:pt x="182" y="119"/>
                </a:lnTo>
                <a:lnTo>
                  <a:pt x="199" y="115"/>
                </a:lnTo>
                <a:lnTo>
                  <a:pt x="217" y="109"/>
                </a:lnTo>
                <a:lnTo>
                  <a:pt x="234" y="106"/>
                </a:lnTo>
                <a:lnTo>
                  <a:pt x="251" y="100"/>
                </a:lnTo>
                <a:lnTo>
                  <a:pt x="269" y="92"/>
                </a:lnTo>
                <a:lnTo>
                  <a:pt x="286" y="86"/>
                </a:lnTo>
                <a:lnTo>
                  <a:pt x="299" y="81"/>
                </a:lnTo>
                <a:lnTo>
                  <a:pt x="315" y="77"/>
                </a:lnTo>
                <a:lnTo>
                  <a:pt x="328" y="73"/>
                </a:lnTo>
                <a:lnTo>
                  <a:pt x="342" y="67"/>
                </a:lnTo>
                <a:lnTo>
                  <a:pt x="353" y="63"/>
                </a:lnTo>
                <a:lnTo>
                  <a:pt x="365" y="59"/>
                </a:lnTo>
                <a:lnTo>
                  <a:pt x="376" y="54"/>
                </a:lnTo>
                <a:lnTo>
                  <a:pt x="386" y="50"/>
                </a:lnTo>
                <a:lnTo>
                  <a:pt x="395" y="46"/>
                </a:lnTo>
                <a:lnTo>
                  <a:pt x="403" y="42"/>
                </a:lnTo>
                <a:lnTo>
                  <a:pt x="411" y="38"/>
                </a:lnTo>
                <a:lnTo>
                  <a:pt x="418" y="34"/>
                </a:lnTo>
                <a:lnTo>
                  <a:pt x="424" y="33"/>
                </a:lnTo>
                <a:lnTo>
                  <a:pt x="428" y="29"/>
                </a:lnTo>
                <a:lnTo>
                  <a:pt x="432" y="27"/>
                </a:lnTo>
                <a:lnTo>
                  <a:pt x="436" y="25"/>
                </a:lnTo>
                <a:lnTo>
                  <a:pt x="439" y="19"/>
                </a:lnTo>
                <a:lnTo>
                  <a:pt x="445" y="15"/>
                </a:lnTo>
                <a:lnTo>
                  <a:pt x="453" y="10"/>
                </a:lnTo>
                <a:lnTo>
                  <a:pt x="461" y="6"/>
                </a:lnTo>
                <a:lnTo>
                  <a:pt x="470" y="4"/>
                </a:lnTo>
                <a:lnTo>
                  <a:pt x="480" y="2"/>
                </a:lnTo>
                <a:lnTo>
                  <a:pt x="491" y="0"/>
                </a:lnTo>
                <a:lnTo>
                  <a:pt x="503" y="0"/>
                </a:lnTo>
                <a:lnTo>
                  <a:pt x="510" y="0"/>
                </a:lnTo>
                <a:lnTo>
                  <a:pt x="516" y="0"/>
                </a:lnTo>
                <a:lnTo>
                  <a:pt x="524" y="2"/>
                </a:lnTo>
                <a:lnTo>
                  <a:pt x="532" y="4"/>
                </a:lnTo>
                <a:lnTo>
                  <a:pt x="539" y="6"/>
                </a:lnTo>
                <a:lnTo>
                  <a:pt x="549" y="10"/>
                </a:lnTo>
                <a:lnTo>
                  <a:pt x="557" y="11"/>
                </a:lnTo>
                <a:lnTo>
                  <a:pt x="566" y="15"/>
                </a:lnTo>
                <a:lnTo>
                  <a:pt x="576" y="19"/>
                </a:lnTo>
                <a:lnTo>
                  <a:pt x="587" y="25"/>
                </a:lnTo>
                <a:lnTo>
                  <a:pt x="599" y="31"/>
                </a:lnTo>
                <a:lnTo>
                  <a:pt x="610" y="34"/>
                </a:lnTo>
                <a:lnTo>
                  <a:pt x="622" y="40"/>
                </a:lnTo>
                <a:lnTo>
                  <a:pt x="635" y="48"/>
                </a:lnTo>
                <a:lnTo>
                  <a:pt x="649" y="54"/>
                </a:lnTo>
                <a:lnTo>
                  <a:pt x="664" y="61"/>
                </a:lnTo>
                <a:lnTo>
                  <a:pt x="676" y="69"/>
                </a:lnTo>
                <a:lnTo>
                  <a:pt x="689" y="75"/>
                </a:lnTo>
                <a:lnTo>
                  <a:pt x="699" y="82"/>
                </a:lnTo>
                <a:lnTo>
                  <a:pt x="708" y="90"/>
                </a:lnTo>
                <a:lnTo>
                  <a:pt x="718" y="96"/>
                </a:lnTo>
                <a:lnTo>
                  <a:pt x="727" y="104"/>
                </a:lnTo>
                <a:lnTo>
                  <a:pt x="735" y="111"/>
                </a:lnTo>
                <a:lnTo>
                  <a:pt x="741" y="117"/>
                </a:lnTo>
                <a:lnTo>
                  <a:pt x="747" y="125"/>
                </a:lnTo>
                <a:lnTo>
                  <a:pt x="752" y="130"/>
                </a:lnTo>
                <a:lnTo>
                  <a:pt x="756" y="138"/>
                </a:lnTo>
                <a:lnTo>
                  <a:pt x="760" y="146"/>
                </a:lnTo>
                <a:lnTo>
                  <a:pt x="764" y="152"/>
                </a:lnTo>
                <a:lnTo>
                  <a:pt x="766" y="159"/>
                </a:lnTo>
                <a:lnTo>
                  <a:pt x="768" y="167"/>
                </a:lnTo>
                <a:lnTo>
                  <a:pt x="768" y="17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Freeform 118"/>
          <p:cNvSpPr/>
          <p:nvPr/>
        </p:nvSpPr>
        <p:spPr>
          <a:xfrm>
            <a:off x="5486400" y="3419640"/>
            <a:ext cx="142920" cy="672840"/>
          </a:xfrm>
          <a:custGeom>
            <a:avLst/>
            <a:gdLst/>
            <a:ahLst/>
            <a:rect l="l" t="t" r="r" b="b"/>
            <a:pathLst>
              <a:path w="181" h="848">
                <a:moveTo>
                  <a:pt x="67" y="560"/>
                </a:moveTo>
                <a:lnTo>
                  <a:pt x="64" y="526"/>
                </a:lnTo>
                <a:lnTo>
                  <a:pt x="62" y="493"/>
                </a:lnTo>
                <a:lnTo>
                  <a:pt x="60" y="461"/>
                </a:lnTo>
                <a:lnTo>
                  <a:pt x="58" y="428"/>
                </a:lnTo>
                <a:lnTo>
                  <a:pt x="56" y="397"/>
                </a:lnTo>
                <a:lnTo>
                  <a:pt x="52" y="368"/>
                </a:lnTo>
                <a:lnTo>
                  <a:pt x="50" y="340"/>
                </a:lnTo>
                <a:lnTo>
                  <a:pt x="48" y="313"/>
                </a:lnTo>
                <a:lnTo>
                  <a:pt x="44" y="286"/>
                </a:lnTo>
                <a:lnTo>
                  <a:pt x="42" y="261"/>
                </a:lnTo>
                <a:lnTo>
                  <a:pt x="39" y="236"/>
                </a:lnTo>
                <a:lnTo>
                  <a:pt x="35" y="215"/>
                </a:lnTo>
                <a:lnTo>
                  <a:pt x="33" y="194"/>
                </a:lnTo>
                <a:lnTo>
                  <a:pt x="29" y="173"/>
                </a:lnTo>
                <a:lnTo>
                  <a:pt x="25" y="155"/>
                </a:lnTo>
                <a:lnTo>
                  <a:pt x="21" y="138"/>
                </a:lnTo>
                <a:lnTo>
                  <a:pt x="16" y="123"/>
                </a:lnTo>
                <a:lnTo>
                  <a:pt x="10" y="107"/>
                </a:lnTo>
                <a:lnTo>
                  <a:pt x="6" y="94"/>
                </a:lnTo>
                <a:lnTo>
                  <a:pt x="4" y="80"/>
                </a:lnTo>
                <a:lnTo>
                  <a:pt x="2" y="69"/>
                </a:lnTo>
                <a:lnTo>
                  <a:pt x="0" y="59"/>
                </a:lnTo>
                <a:lnTo>
                  <a:pt x="0" y="50"/>
                </a:lnTo>
                <a:lnTo>
                  <a:pt x="0" y="40"/>
                </a:lnTo>
                <a:lnTo>
                  <a:pt x="2" y="33"/>
                </a:lnTo>
                <a:lnTo>
                  <a:pt x="4" y="27"/>
                </a:lnTo>
                <a:lnTo>
                  <a:pt x="8" y="21"/>
                </a:lnTo>
                <a:lnTo>
                  <a:pt x="12" y="15"/>
                </a:lnTo>
                <a:lnTo>
                  <a:pt x="16" y="9"/>
                </a:lnTo>
                <a:lnTo>
                  <a:pt x="19" y="6"/>
                </a:lnTo>
                <a:lnTo>
                  <a:pt x="25" y="4"/>
                </a:lnTo>
                <a:lnTo>
                  <a:pt x="33" y="0"/>
                </a:lnTo>
                <a:lnTo>
                  <a:pt x="46" y="2"/>
                </a:lnTo>
                <a:lnTo>
                  <a:pt x="60" y="4"/>
                </a:lnTo>
                <a:lnTo>
                  <a:pt x="77" y="6"/>
                </a:lnTo>
                <a:lnTo>
                  <a:pt x="94" y="11"/>
                </a:lnTo>
                <a:lnTo>
                  <a:pt x="104" y="13"/>
                </a:lnTo>
                <a:lnTo>
                  <a:pt x="113" y="17"/>
                </a:lnTo>
                <a:lnTo>
                  <a:pt x="123" y="21"/>
                </a:lnTo>
                <a:lnTo>
                  <a:pt x="135" y="27"/>
                </a:lnTo>
                <a:lnTo>
                  <a:pt x="144" y="33"/>
                </a:lnTo>
                <a:lnTo>
                  <a:pt x="156" y="36"/>
                </a:lnTo>
                <a:lnTo>
                  <a:pt x="169" y="44"/>
                </a:lnTo>
                <a:lnTo>
                  <a:pt x="181" y="50"/>
                </a:lnTo>
                <a:lnTo>
                  <a:pt x="181" y="92"/>
                </a:lnTo>
                <a:lnTo>
                  <a:pt x="181" y="134"/>
                </a:lnTo>
                <a:lnTo>
                  <a:pt x="181" y="175"/>
                </a:lnTo>
                <a:lnTo>
                  <a:pt x="181" y="213"/>
                </a:lnTo>
                <a:lnTo>
                  <a:pt x="181" y="251"/>
                </a:lnTo>
                <a:lnTo>
                  <a:pt x="181" y="288"/>
                </a:lnTo>
                <a:lnTo>
                  <a:pt x="181" y="322"/>
                </a:lnTo>
                <a:lnTo>
                  <a:pt x="181" y="357"/>
                </a:lnTo>
                <a:lnTo>
                  <a:pt x="181" y="390"/>
                </a:lnTo>
                <a:lnTo>
                  <a:pt x="181" y="420"/>
                </a:lnTo>
                <a:lnTo>
                  <a:pt x="181" y="451"/>
                </a:lnTo>
                <a:lnTo>
                  <a:pt x="181" y="480"/>
                </a:lnTo>
                <a:lnTo>
                  <a:pt x="181" y="507"/>
                </a:lnTo>
                <a:lnTo>
                  <a:pt x="181" y="533"/>
                </a:lnTo>
                <a:lnTo>
                  <a:pt x="181" y="558"/>
                </a:lnTo>
                <a:lnTo>
                  <a:pt x="179" y="583"/>
                </a:lnTo>
                <a:lnTo>
                  <a:pt x="179" y="606"/>
                </a:lnTo>
                <a:lnTo>
                  <a:pt x="179" y="628"/>
                </a:lnTo>
                <a:lnTo>
                  <a:pt x="179" y="647"/>
                </a:lnTo>
                <a:lnTo>
                  <a:pt x="179" y="666"/>
                </a:lnTo>
                <a:lnTo>
                  <a:pt x="177" y="683"/>
                </a:lnTo>
                <a:lnTo>
                  <a:pt x="177" y="700"/>
                </a:lnTo>
                <a:lnTo>
                  <a:pt x="177" y="716"/>
                </a:lnTo>
                <a:lnTo>
                  <a:pt x="177" y="729"/>
                </a:lnTo>
                <a:lnTo>
                  <a:pt x="175" y="743"/>
                </a:lnTo>
                <a:lnTo>
                  <a:pt x="175" y="754"/>
                </a:lnTo>
                <a:lnTo>
                  <a:pt x="175" y="764"/>
                </a:lnTo>
                <a:lnTo>
                  <a:pt x="173" y="773"/>
                </a:lnTo>
                <a:lnTo>
                  <a:pt x="173" y="781"/>
                </a:lnTo>
                <a:lnTo>
                  <a:pt x="171" y="789"/>
                </a:lnTo>
                <a:lnTo>
                  <a:pt x="171" y="793"/>
                </a:lnTo>
                <a:lnTo>
                  <a:pt x="169" y="798"/>
                </a:lnTo>
                <a:lnTo>
                  <a:pt x="167" y="804"/>
                </a:lnTo>
                <a:lnTo>
                  <a:pt x="165" y="810"/>
                </a:lnTo>
                <a:lnTo>
                  <a:pt x="161" y="816"/>
                </a:lnTo>
                <a:lnTo>
                  <a:pt x="160" y="821"/>
                </a:lnTo>
                <a:lnTo>
                  <a:pt x="156" y="825"/>
                </a:lnTo>
                <a:lnTo>
                  <a:pt x="152" y="829"/>
                </a:lnTo>
                <a:lnTo>
                  <a:pt x="146" y="837"/>
                </a:lnTo>
                <a:lnTo>
                  <a:pt x="136" y="841"/>
                </a:lnTo>
                <a:lnTo>
                  <a:pt x="129" y="844"/>
                </a:lnTo>
                <a:lnTo>
                  <a:pt x="121" y="846"/>
                </a:lnTo>
                <a:lnTo>
                  <a:pt x="112" y="848"/>
                </a:lnTo>
                <a:lnTo>
                  <a:pt x="110" y="846"/>
                </a:lnTo>
                <a:lnTo>
                  <a:pt x="108" y="846"/>
                </a:lnTo>
                <a:lnTo>
                  <a:pt x="106" y="844"/>
                </a:lnTo>
                <a:lnTo>
                  <a:pt x="104" y="843"/>
                </a:lnTo>
                <a:lnTo>
                  <a:pt x="102" y="841"/>
                </a:lnTo>
                <a:lnTo>
                  <a:pt x="100" y="837"/>
                </a:lnTo>
                <a:lnTo>
                  <a:pt x="98" y="833"/>
                </a:lnTo>
                <a:lnTo>
                  <a:pt x="96" y="829"/>
                </a:lnTo>
                <a:lnTo>
                  <a:pt x="94" y="823"/>
                </a:lnTo>
                <a:lnTo>
                  <a:pt x="94" y="819"/>
                </a:lnTo>
                <a:lnTo>
                  <a:pt x="92" y="812"/>
                </a:lnTo>
                <a:lnTo>
                  <a:pt x="90" y="806"/>
                </a:lnTo>
                <a:lnTo>
                  <a:pt x="88" y="798"/>
                </a:lnTo>
                <a:lnTo>
                  <a:pt x="87" y="791"/>
                </a:lnTo>
                <a:lnTo>
                  <a:pt x="87" y="783"/>
                </a:lnTo>
                <a:lnTo>
                  <a:pt x="85" y="773"/>
                </a:lnTo>
                <a:lnTo>
                  <a:pt x="83" y="766"/>
                </a:lnTo>
                <a:lnTo>
                  <a:pt x="83" y="754"/>
                </a:lnTo>
                <a:lnTo>
                  <a:pt x="81" y="745"/>
                </a:lnTo>
                <a:lnTo>
                  <a:pt x="79" y="733"/>
                </a:lnTo>
                <a:lnTo>
                  <a:pt x="79" y="722"/>
                </a:lnTo>
                <a:lnTo>
                  <a:pt x="77" y="710"/>
                </a:lnTo>
                <a:lnTo>
                  <a:pt x="77" y="699"/>
                </a:lnTo>
                <a:lnTo>
                  <a:pt x="75" y="685"/>
                </a:lnTo>
                <a:lnTo>
                  <a:pt x="73" y="672"/>
                </a:lnTo>
                <a:lnTo>
                  <a:pt x="73" y="656"/>
                </a:lnTo>
                <a:lnTo>
                  <a:pt x="71" y="643"/>
                </a:lnTo>
                <a:lnTo>
                  <a:pt x="71" y="628"/>
                </a:lnTo>
                <a:lnTo>
                  <a:pt x="69" y="610"/>
                </a:lnTo>
                <a:lnTo>
                  <a:pt x="69" y="595"/>
                </a:lnTo>
                <a:lnTo>
                  <a:pt x="67" y="578"/>
                </a:lnTo>
                <a:lnTo>
                  <a:pt x="67" y="56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03"/>
                                        </p:tgtEl>
                                        <p:attrNameLst>
                                          <p:attrName>style.visibility</p:attrName>
                                        </p:attrNameLst>
                                      </p:cBhvr>
                                      <p:to>
                                        <p:strVal val="visible"/>
                                      </p:to>
                                    </p:set>
                                    <p:anim calcmode="lin" valueType="num">
                                      <p:cBhvr additive="base">
                                        <p:cTn id="97" dur="500" fill="hold"/>
                                        <p:tgtEl>
                                          <p:spTgt spid="103"/>
                                        </p:tgtEl>
                                        <p:attrNameLst>
                                          <p:attrName>ppt_x</p:attrName>
                                        </p:attrNameLst>
                                      </p:cBhvr>
                                      <p:tavLst>
                                        <p:tav tm="0">
                                          <p:val>
                                            <p:strVal val="0-#ppt_w/2"/>
                                          </p:val>
                                        </p:tav>
                                        <p:tav tm="100000">
                                          <p:val>
                                            <p:strVal val="#ppt_x"/>
                                          </p:val>
                                        </p:tav>
                                      </p:tavLst>
                                    </p:anim>
                                    <p:anim calcmode="lin" valueType="num">
                                      <p:cBhvr additive="base">
                                        <p:cTn id="9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114"/>
                                        </p:tgtEl>
                                        <p:attrNameLst>
                                          <p:attrName>style.visibility</p:attrName>
                                        </p:attrNameLst>
                                      </p:cBhvr>
                                      <p:to>
                                        <p:strVal val="visible"/>
                                      </p:to>
                                    </p:set>
                                    <p:animEffect filter="wipe(up)" transition="in">
                                      <p:cBhvr additive="repl">
                                        <p:cTn id="103" dur="500"/>
                                        <p:tgtEl>
                                          <p:spTgt spid="114"/>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8" presetSubtype="6">
                                  <p:stCondLst>
                                    <p:cond delay="0"/>
                                  </p:stCondLst>
                                  <p:childTnLst>
                                    <p:set>
                                      <p:cBhvr>
                                        <p:cTn id="107" dur="1" fill="hold">
                                          <p:stCondLst>
                                            <p:cond delay="0"/>
                                          </p:stCondLst>
                                        </p:cTn>
                                        <p:tgtEl>
                                          <p:spTgt spid="113"/>
                                        </p:tgtEl>
                                        <p:attrNameLst>
                                          <p:attrName>style.visibility</p:attrName>
                                        </p:attrNameLst>
                                      </p:cBhvr>
                                      <p:to>
                                        <p:strVal val="visible"/>
                                      </p:to>
                                    </p:set>
                                    <p:animEffect filter="strips(downRight)" transition="in">
                                      <p:cBhvr additive="repl">
                                        <p:cTn id="108" dur="500"/>
                                        <p:tgtEl>
                                          <p:spTgt spid="113"/>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12"/>
                                        </p:tgtEl>
                                        <p:attrNameLst>
                                          <p:attrName>style.visibility</p:attrName>
                                        </p:attrNameLst>
                                      </p:cBhvr>
                                      <p:to>
                                        <p:strVal val="visible"/>
                                      </p:to>
                                    </p:set>
                                    <p:animEffect filter="wipe(left)" transition="in">
                                      <p:cBhvr additive="repl">
                                        <p:cTn id="113" dur="500"/>
                                        <p:tgtEl>
                                          <p:spTgt spid="112"/>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111"/>
                                        </p:tgtEl>
                                        <p:attrNameLst>
                                          <p:attrName>style.visibility</p:attrName>
                                        </p:attrNameLst>
                                      </p:cBhvr>
                                      <p:to>
                                        <p:strVal val="visible"/>
                                      </p:to>
                                    </p:set>
                                    <p:animEffect filter="wipe(up)" transition="in">
                                      <p:cBhvr additive="repl">
                                        <p:cTn id="118" dur="500"/>
                                        <p:tgtEl>
                                          <p:spTgt spid="111"/>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10"/>
                                        </p:tgtEl>
                                        <p:attrNameLst>
                                          <p:attrName>style.visibility</p:attrName>
                                        </p:attrNameLst>
                                      </p:cBhvr>
                                      <p:to>
                                        <p:strVal val="visible"/>
                                      </p:to>
                                    </p:set>
                                    <p:animEffect filter="wipe(up)" transition="in">
                                      <p:cBhvr additive="repl">
                                        <p:cTn id="123" dur="500"/>
                                        <p:tgtEl>
                                          <p:spTgt spid="110"/>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09"/>
                                        </p:tgtEl>
                                        <p:attrNameLst>
                                          <p:attrName>style.visibility</p:attrName>
                                        </p:attrNameLst>
                                      </p:cBhvr>
                                      <p:to>
                                        <p:strVal val="visible"/>
                                      </p:to>
                                    </p:set>
                                    <p:animEffect filter="wipe(left)" transition="in">
                                      <p:cBhvr additive="repl">
                                        <p:cTn id="128" dur="500"/>
                                        <p:tgtEl>
                                          <p:spTgt spid="109"/>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08"/>
                                        </p:tgtEl>
                                        <p:attrNameLst>
                                          <p:attrName>style.visibility</p:attrName>
                                        </p:attrNameLst>
                                      </p:cBhvr>
                                      <p:to>
                                        <p:strVal val="visible"/>
                                      </p:to>
                                    </p:set>
                                    <p:animEffect filter="wipe(left)" transition="in">
                                      <p:cBhvr additive="repl">
                                        <p:cTn id="133" dur="500"/>
                                        <p:tgtEl>
                                          <p:spTgt spid="10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07"/>
                                        </p:tgtEl>
                                        <p:attrNameLst>
                                          <p:attrName>style.visibility</p:attrName>
                                        </p:attrNameLst>
                                      </p:cBhvr>
                                      <p:to>
                                        <p:strVal val="visible"/>
                                      </p:to>
                                    </p:set>
                                    <p:animEffect filter="wipe(up)" transition="in">
                                      <p:cBhvr additive="repl">
                                        <p:cTn id="138" dur="500"/>
                                        <p:tgtEl>
                                          <p:spTgt spid="107"/>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04"/>
                                        </p:tgtEl>
                                        <p:attrNameLst>
                                          <p:attrName>style.visibility</p:attrName>
                                        </p:attrNameLst>
                                      </p:cBhvr>
                                      <p:to>
                                        <p:strVal val="visible"/>
                                      </p:to>
                                    </p:set>
                                    <p:animEffect filter="wipe(up)" transition="in">
                                      <p:cBhvr additive="repl">
                                        <p:cTn id="143" dur="500"/>
                                        <p:tgtEl>
                                          <p:spTgt spid="10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8" presetSubtype="6">
                                  <p:stCondLst>
                                    <p:cond delay="0"/>
                                  </p:stCondLst>
                                  <p:childTnLst>
                                    <p:set>
                                      <p:cBhvr>
                                        <p:cTn id="147" dur="1" fill="hold">
                                          <p:stCondLst>
                                            <p:cond delay="0"/>
                                          </p:stCondLst>
                                        </p:cTn>
                                        <p:tgtEl>
                                          <p:spTgt spid="106"/>
                                        </p:tgtEl>
                                        <p:attrNameLst>
                                          <p:attrName>style.visibility</p:attrName>
                                        </p:attrNameLst>
                                      </p:cBhvr>
                                      <p:to>
                                        <p:strVal val="visible"/>
                                      </p:to>
                                    </p:set>
                                    <p:animEffect filter="strips(downRight)" transition="in">
                                      <p:cBhvr additive="repl">
                                        <p:cTn id="148" dur="500"/>
                                        <p:tgtEl>
                                          <p:spTgt spid="10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05"/>
                                        </p:tgtEl>
                                        <p:attrNameLst>
                                          <p:attrName>style.visibility</p:attrName>
                                        </p:attrNameLst>
                                      </p:cBhvr>
                                      <p:to>
                                        <p:strVal val="visible"/>
                                      </p:to>
                                    </p:set>
                                    <p:animEffect filter="wipe(left)" transition="in">
                                      <p:cBhvr additive="repl">
                                        <p:cTn id="153" dur="500"/>
                                        <p:tgtEl>
                                          <p:spTgt spid="105"/>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3" presetSubtype="16">
                                  <p:stCondLst>
                                    <p:cond delay="0"/>
                                  </p:stCondLst>
                                  <p:childTnLst>
                                    <p:set>
                                      <p:cBhvr>
                                        <p:cTn id="157" dur="1" fill="hold">
                                          <p:stCondLst>
                                            <p:cond delay="0"/>
                                          </p:stCondLst>
                                        </p:cTn>
                                        <p:tgtEl>
                                          <p:spTgt spid="100"/>
                                        </p:tgtEl>
                                        <p:attrNameLst>
                                          <p:attrName>style.visibility</p:attrName>
                                        </p:attrNameLst>
                                      </p:cBhvr>
                                      <p:to>
                                        <p:strVal val="visible"/>
                                      </p:to>
                                    </p:set>
                                    <p:anim calcmode="lin" valueType="num">
                                      <p:cBhvr additive="repl">
                                        <p:cTn id="158" dur="500" fill="hold"/>
                                        <p:tgtEl>
                                          <p:spTgt spid="100"/>
                                        </p:tgtEl>
                                        <p:attrNameLst>
                                          <p:attrName>ppt_w</p:attrName>
                                        </p:attrNameLst>
                                      </p:cBhvr>
                                      <p:tavLst>
                                        <p:tav tm="0">
                                          <p:val>
                                            <p:fltVal val="0"/>
                                          </p:val>
                                        </p:tav>
                                        <p:tav tm="100000">
                                          <p:val>
                                            <p:strVal val="#ppt_w"/>
                                          </p:val>
                                        </p:tav>
                                      </p:tavLst>
                                    </p:anim>
                                    <p:anim calcmode="lin" valueType="num">
                                      <p:cBhvr additive="repl">
                                        <p:cTn id="159" dur="500" fill="hold"/>
                                        <p:tgtEl>
                                          <p:spTgt spid="100"/>
                                        </p:tgtEl>
                                        <p:attrNameLst>
                                          <p:attrName>ppt_h</p:attrName>
                                        </p:attrNameLst>
                                      </p:cBhvr>
                                      <p:tavLst>
                                        <p:tav tm="0">
                                          <p:val>
                                            <p:fltVal val="0"/>
                                          </p:val>
                                        </p:tav>
                                        <p:tav tm="100000">
                                          <p:val>
                                            <p:strVal val="#ppt_h"/>
                                          </p:val>
                                        </p:tav>
                                      </p:tavLst>
                                    </p:anim>
                                    <p:animEffect filter="fade" transition="in">
                                      <p:cBhvr additive="repl">
                                        <p:cTn id="160"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磁</a:t>
            </a:r>
            <a:endParaRPr b="0" lang="en-US" sz="8000" spc="-1" strike="noStrike">
              <a:solidFill>
                <a:srgbClr val="000000"/>
              </a:solidFill>
              <a:latin typeface="Calibri"/>
            </a:endParaRPr>
          </a:p>
        </p:txBody>
      </p:sp>
      <p:graphicFrame>
        <p:nvGraphicFramePr>
          <p:cNvPr id="116"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17" name="组合 5"/>
          <p:cNvGrpSpPr/>
          <p:nvPr/>
        </p:nvGrpSpPr>
        <p:grpSpPr>
          <a:xfrm>
            <a:off x="1400040" y="3975120"/>
            <a:ext cx="2714760" cy="1571760"/>
            <a:chOff x="1400040" y="3975120"/>
            <a:chExt cx="2714760" cy="1571760"/>
          </a:xfrm>
        </p:grpSpPr>
        <p:pic>
          <p:nvPicPr>
            <p:cNvPr id="118" name="图示 4" descr=""/>
            <p:cNvPicPr/>
            <p:nvPr/>
          </p:nvPicPr>
          <p:blipFill>
            <a:blip r:embed="rId1"/>
            <a:stretch/>
          </p:blipFill>
          <p:spPr>
            <a:xfrm>
              <a:off x="1400040" y="3975120"/>
              <a:ext cx="2714760" cy="1571760"/>
            </a:xfrm>
            <a:prstGeom prst="rect">
              <a:avLst/>
            </a:prstGeom>
            <a:ln w="0">
              <a:noFill/>
            </a:ln>
          </p:spPr>
        </p:pic>
        <p:sp>
          <p:nvSpPr>
            <p:cNvPr id="119" name="矩形 2"/>
            <p:cNvSpPr/>
            <p:nvPr/>
          </p:nvSpPr>
          <p:spPr>
            <a:xfrm>
              <a:off x="1443240" y="4587840"/>
              <a:ext cx="264528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部偏上，右部上松下紧。</a:t>
              </a:r>
              <a:endParaRPr b="0" lang="en-US" sz="2000" spc="-1" strike="noStrike">
                <a:solidFill>
                  <a:srgbClr val="000000"/>
                </a:solidFill>
                <a:latin typeface="Calibri"/>
              </a:endParaRPr>
            </a:p>
          </p:txBody>
        </p:sp>
      </p:grpSp>
      <p:sp>
        <p:nvSpPr>
          <p:cNvPr id="120" name="AutoShape 22"/>
          <p:cNvSpPr/>
          <p:nvPr/>
        </p:nvSpPr>
        <p:spPr>
          <a:xfrm>
            <a:off x="3746520" y="1442880"/>
            <a:ext cx="5738760" cy="547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1" name="Picture 24" descr=""/>
          <p:cNvPicPr/>
          <p:nvPr/>
        </p:nvPicPr>
        <p:blipFill>
          <a:blip r:embed="rId2"/>
          <a:stretch/>
        </p:blipFill>
        <p:spPr>
          <a:xfrm>
            <a:off x="3767040" y="1444680"/>
            <a:ext cx="5740560" cy="5478480"/>
          </a:xfrm>
          <a:prstGeom prst="rect">
            <a:avLst/>
          </a:prstGeom>
          <a:ln w="0">
            <a:noFill/>
          </a:ln>
        </p:spPr>
      </p:pic>
      <p:graphicFrame>
        <p:nvGraphicFramePr>
          <p:cNvPr id="122"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3" name="矩形 3"/>
          <p:cNvSpPr/>
          <p:nvPr/>
        </p:nvSpPr>
        <p:spPr>
          <a:xfrm>
            <a:off x="2243160" y="1889280"/>
            <a:ext cx="1162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cí</a:t>
            </a:r>
            <a:endParaRPr b="0" lang="en-US" sz="4800" spc="-1" strike="noStrike">
              <a:solidFill>
                <a:srgbClr val="000000"/>
              </a:solidFill>
              <a:latin typeface="Calibri"/>
            </a:endParaRPr>
          </a:p>
        </p:txBody>
      </p:sp>
      <p:sp>
        <p:nvSpPr>
          <p:cNvPr id="124" name="Freeform 204"/>
          <p:cNvSpPr/>
          <p:nvPr/>
        </p:nvSpPr>
        <p:spPr>
          <a:xfrm>
            <a:off x="7326360" y="4530600"/>
            <a:ext cx="249120" cy="492120"/>
          </a:xfrm>
          <a:custGeom>
            <a:avLst/>
            <a:gdLst/>
            <a:ahLst/>
            <a:rect l="l" t="t" r="r" b="b"/>
            <a:pathLst>
              <a:path w="313" h="620">
                <a:moveTo>
                  <a:pt x="286" y="546"/>
                </a:moveTo>
                <a:lnTo>
                  <a:pt x="282" y="561"/>
                </a:lnTo>
                <a:lnTo>
                  <a:pt x="278" y="574"/>
                </a:lnTo>
                <a:lnTo>
                  <a:pt x="272" y="586"/>
                </a:lnTo>
                <a:lnTo>
                  <a:pt x="270" y="592"/>
                </a:lnTo>
                <a:lnTo>
                  <a:pt x="268" y="595"/>
                </a:lnTo>
                <a:lnTo>
                  <a:pt x="267" y="599"/>
                </a:lnTo>
                <a:lnTo>
                  <a:pt x="265" y="603"/>
                </a:lnTo>
                <a:lnTo>
                  <a:pt x="263" y="607"/>
                </a:lnTo>
                <a:lnTo>
                  <a:pt x="261" y="611"/>
                </a:lnTo>
                <a:lnTo>
                  <a:pt x="259" y="613"/>
                </a:lnTo>
                <a:lnTo>
                  <a:pt x="257" y="615"/>
                </a:lnTo>
                <a:lnTo>
                  <a:pt x="253" y="615"/>
                </a:lnTo>
                <a:lnTo>
                  <a:pt x="251" y="615"/>
                </a:lnTo>
                <a:lnTo>
                  <a:pt x="249" y="617"/>
                </a:lnTo>
                <a:lnTo>
                  <a:pt x="247" y="619"/>
                </a:lnTo>
                <a:lnTo>
                  <a:pt x="243" y="620"/>
                </a:lnTo>
                <a:lnTo>
                  <a:pt x="242" y="620"/>
                </a:lnTo>
                <a:lnTo>
                  <a:pt x="238" y="620"/>
                </a:lnTo>
                <a:lnTo>
                  <a:pt x="234" y="620"/>
                </a:lnTo>
                <a:lnTo>
                  <a:pt x="232" y="619"/>
                </a:lnTo>
                <a:lnTo>
                  <a:pt x="228" y="617"/>
                </a:lnTo>
                <a:lnTo>
                  <a:pt x="224" y="615"/>
                </a:lnTo>
                <a:lnTo>
                  <a:pt x="220" y="613"/>
                </a:lnTo>
                <a:lnTo>
                  <a:pt x="211" y="605"/>
                </a:lnTo>
                <a:lnTo>
                  <a:pt x="203" y="597"/>
                </a:lnTo>
                <a:lnTo>
                  <a:pt x="195" y="588"/>
                </a:lnTo>
                <a:lnTo>
                  <a:pt x="194" y="586"/>
                </a:lnTo>
                <a:lnTo>
                  <a:pt x="190" y="584"/>
                </a:lnTo>
                <a:lnTo>
                  <a:pt x="188" y="580"/>
                </a:lnTo>
                <a:lnTo>
                  <a:pt x="186" y="578"/>
                </a:lnTo>
                <a:lnTo>
                  <a:pt x="184" y="574"/>
                </a:lnTo>
                <a:lnTo>
                  <a:pt x="180" y="571"/>
                </a:lnTo>
                <a:lnTo>
                  <a:pt x="178" y="565"/>
                </a:lnTo>
                <a:lnTo>
                  <a:pt x="176" y="561"/>
                </a:lnTo>
                <a:lnTo>
                  <a:pt x="172" y="555"/>
                </a:lnTo>
                <a:lnTo>
                  <a:pt x="171" y="549"/>
                </a:lnTo>
                <a:lnTo>
                  <a:pt x="167" y="544"/>
                </a:lnTo>
                <a:lnTo>
                  <a:pt x="165" y="536"/>
                </a:lnTo>
                <a:lnTo>
                  <a:pt x="161" y="528"/>
                </a:lnTo>
                <a:lnTo>
                  <a:pt x="157" y="521"/>
                </a:lnTo>
                <a:lnTo>
                  <a:pt x="153" y="511"/>
                </a:lnTo>
                <a:lnTo>
                  <a:pt x="151" y="503"/>
                </a:lnTo>
                <a:lnTo>
                  <a:pt x="147" y="494"/>
                </a:lnTo>
                <a:lnTo>
                  <a:pt x="144" y="484"/>
                </a:lnTo>
                <a:lnTo>
                  <a:pt x="140" y="473"/>
                </a:lnTo>
                <a:lnTo>
                  <a:pt x="136" y="463"/>
                </a:lnTo>
                <a:lnTo>
                  <a:pt x="132" y="452"/>
                </a:lnTo>
                <a:lnTo>
                  <a:pt x="128" y="438"/>
                </a:lnTo>
                <a:lnTo>
                  <a:pt x="124" y="427"/>
                </a:lnTo>
                <a:lnTo>
                  <a:pt x="119" y="413"/>
                </a:lnTo>
                <a:lnTo>
                  <a:pt x="115" y="400"/>
                </a:lnTo>
                <a:lnTo>
                  <a:pt x="111" y="386"/>
                </a:lnTo>
                <a:lnTo>
                  <a:pt x="105" y="373"/>
                </a:lnTo>
                <a:lnTo>
                  <a:pt x="101" y="357"/>
                </a:lnTo>
                <a:lnTo>
                  <a:pt x="96" y="342"/>
                </a:lnTo>
                <a:lnTo>
                  <a:pt x="92" y="327"/>
                </a:lnTo>
                <a:lnTo>
                  <a:pt x="86" y="309"/>
                </a:lnTo>
                <a:lnTo>
                  <a:pt x="82" y="292"/>
                </a:lnTo>
                <a:lnTo>
                  <a:pt x="76" y="275"/>
                </a:lnTo>
                <a:lnTo>
                  <a:pt x="71" y="260"/>
                </a:lnTo>
                <a:lnTo>
                  <a:pt x="67" y="244"/>
                </a:lnTo>
                <a:lnTo>
                  <a:pt x="61" y="229"/>
                </a:lnTo>
                <a:lnTo>
                  <a:pt x="57" y="214"/>
                </a:lnTo>
                <a:lnTo>
                  <a:pt x="52" y="200"/>
                </a:lnTo>
                <a:lnTo>
                  <a:pt x="48" y="187"/>
                </a:lnTo>
                <a:lnTo>
                  <a:pt x="44" y="173"/>
                </a:lnTo>
                <a:lnTo>
                  <a:pt x="40" y="162"/>
                </a:lnTo>
                <a:lnTo>
                  <a:pt x="36" y="150"/>
                </a:lnTo>
                <a:lnTo>
                  <a:pt x="32" y="139"/>
                </a:lnTo>
                <a:lnTo>
                  <a:pt x="28" y="127"/>
                </a:lnTo>
                <a:lnTo>
                  <a:pt x="25" y="118"/>
                </a:lnTo>
                <a:lnTo>
                  <a:pt x="23" y="108"/>
                </a:lnTo>
                <a:lnTo>
                  <a:pt x="19" y="98"/>
                </a:lnTo>
                <a:lnTo>
                  <a:pt x="17" y="89"/>
                </a:lnTo>
                <a:lnTo>
                  <a:pt x="13" y="81"/>
                </a:lnTo>
                <a:lnTo>
                  <a:pt x="11" y="73"/>
                </a:lnTo>
                <a:lnTo>
                  <a:pt x="9" y="66"/>
                </a:lnTo>
                <a:lnTo>
                  <a:pt x="7" y="58"/>
                </a:lnTo>
                <a:lnTo>
                  <a:pt x="4" y="47"/>
                </a:lnTo>
                <a:lnTo>
                  <a:pt x="2" y="37"/>
                </a:lnTo>
                <a:lnTo>
                  <a:pt x="0" y="27"/>
                </a:lnTo>
                <a:lnTo>
                  <a:pt x="0" y="20"/>
                </a:lnTo>
                <a:lnTo>
                  <a:pt x="0" y="16"/>
                </a:lnTo>
                <a:lnTo>
                  <a:pt x="2" y="12"/>
                </a:lnTo>
                <a:lnTo>
                  <a:pt x="5" y="8"/>
                </a:lnTo>
                <a:lnTo>
                  <a:pt x="11" y="4"/>
                </a:lnTo>
                <a:lnTo>
                  <a:pt x="15" y="2"/>
                </a:lnTo>
                <a:lnTo>
                  <a:pt x="21" y="0"/>
                </a:lnTo>
                <a:lnTo>
                  <a:pt x="28" y="2"/>
                </a:lnTo>
                <a:lnTo>
                  <a:pt x="36" y="4"/>
                </a:lnTo>
                <a:lnTo>
                  <a:pt x="46" y="8"/>
                </a:lnTo>
                <a:lnTo>
                  <a:pt x="52" y="10"/>
                </a:lnTo>
                <a:lnTo>
                  <a:pt x="59" y="12"/>
                </a:lnTo>
                <a:lnTo>
                  <a:pt x="63" y="16"/>
                </a:lnTo>
                <a:lnTo>
                  <a:pt x="69" y="20"/>
                </a:lnTo>
                <a:lnTo>
                  <a:pt x="73" y="23"/>
                </a:lnTo>
                <a:lnTo>
                  <a:pt x="80" y="29"/>
                </a:lnTo>
                <a:lnTo>
                  <a:pt x="86" y="37"/>
                </a:lnTo>
                <a:lnTo>
                  <a:pt x="94" y="45"/>
                </a:lnTo>
                <a:lnTo>
                  <a:pt x="101" y="52"/>
                </a:lnTo>
                <a:lnTo>
                  <a:pt x="109" y="62"/>
                </a:lnTo>
                <a:lnTo>
                  <a:pt x="119" y="70"/>
                </a:lnTo>
                <a:lnTo>
                  <a:pt x="128" y="81"/>
                </a:lnTo>
                <a:lnTo>
                  <a:pt x="138" y="91"/>
                </a:lnTo>
                <a:lnTo>
                  <a:pt x="147" y="102"/>
                </a:lnTo>
                <a:lnTo>
                  <a:pt x="159" y="114"/>
                </a:lnTo>
                <a:lnTo>
                  <a:pt x="171" y="127"/>
                </a:lnTo>
                <a:lnTo>
                  <a:pt x="182" y="139"/>
                </a:lnTo>
                <a:lnTo>
                  <a:pt x="195" y="152"/>
                </a:lnTo>
                <a:lnTo>
                  <a:pt x="215" y="179"/>
                </a:lnTo>
                <a:lnTo>
                  <a:pt x="236" y="206"/>
                </a:lnTo>
                <a:lnTo>
                  <a:pt x="253" y="231"/>
                </a:lnTo>
                <a:lnTo>
                  <a:pt x="261" y="244"/>
                </a:lnTo>
                <a:lnTo>
                  <a:pt x="268" y="258"/>
                </a:lnTo>
                <a:lnTo>
                  <a:pt x="276" y="271"/>
                </a:lnTo>
                <a:lnTo>
                  <a:pt x="282" y="285"/>
                </a:lnTo>
                <a:lnTo>
                  <a:pt x="290" y="296"/>
                </a:lnTo>
                <a:lnTo>
                  <a:pt x="293" y="309"/>
                </a:lnTo>
                <a:lnTo>
                  <a:pt x="299" y="323"/>
                </a:lnTo>
                <a:lnTo>
                  <a:pt x="303" y="336"/>
                </a:lnTo>
                <a:lnTo>
                  <a:pt x="307" y="350"/>
                </a:lnTo>
                <a:lnTo>
                  <a:pt x="309" y="363"/>
                </a:lnTo>
                <a:lnTo>
                  <a:pt x="311" y="377"/>
                </a:lnTo>
                <a:lnTo>
                  <a:pt x="313" y="388"/>
                </a:lnTo>
                <a:lnTo>
                  <a:pt x="313" y="402"/>
                </a:lnTo>
                <a:lnTo>
                  <a:pt x="313" y="413"/>
                </a:lnTo>
                <a:lnTo>
                  <a:pt x="313" y="436"/>
                </a:lnTo>
                <a:lnTo>
                  <a:pt x="311" y="459"/>
                </a:lnTo>
                <a:lnTo>
                  <a:pt x="305" y="480"/>
                </a:lnTo>
                <a:lnTo>
                  <a:pt x="301" y="503"/>
                </a:lnTo>
                <a:lnTo>
                  <a:pt x="293" y="524"/>
                </a:lnTo>
                <a:lnTo>
                  <a:pt x="286" y="54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 name="Freeform 205"/>
          <p:cNvSpPr/>
          <p:nvPr/>
        </p:nvSpPr>
        <p:spPr>
          <a:xfrm>
            <a:off x="6964200" y="3886200"/>
            <a:ext cx="571680" cy="1076400"/>
          </a:xfrm>
          <a:custGeom>
            <a:avLst/>
            <a:gdLst/>
            <a:ahLst/>
            <a:rect l="l" t="t" r="r" b="b"/>
            <a:pathLst>
              <a:path w="720" h="1357">
                <a:moveTo>
                  <a:pt x="447" y="696"/>
                </a:moveTo>
                <a:lnTo>
                  <a:pt x="436" y="719"/>
                </a:lnTo>
                <a:lnTo>
                  <a:pt x="422" y="742"/>
                </a:lnTo>
                <a:lnTo>
                  <a:pt x="411" y="765"/>
                </a:lnTo>
                <a:lnTo>
                  <a:pt x="399" y="787"/>
                </a:lnTo>
                <a:lnTo>
                  <a:pt x="386" y="808"/>
                </a:lnTo>
                <a:lnTo>
                  <a:pt x="374" y="827"/>
                </a:lnTo>
                <a:lnTo>
                  <a:pt x="363" y="846"/>
                </a:lnTo>
                <a:lnTo>
                  <a:pt x="351" y="865"/>
                </a:lnTo>
                <a:lnTo>
                  <a:pt x="342" y="882"/>
                </a:lnTo>
                <a:lnTo>
                  <a:pt x="330" y="900"/>
                </a:lnTo>
                <a:lnTo>
                  <a:pt x="318" y="917"/>
                </a:lnTo>
                <a:lnTo>
                  <a:pt x="307" y="932"/>
                </a:lnTo>
                <a:lnTo>
                  <a:pt x="297" y="950"/>
                </a:lnTo>
                <a:lnTo>
                  <a:pt x="286" y="963"/>
                </a:lnTo>
                <a:lnTo>
                  <a:pt x="276" y="978"/>
                </a:lnTo>
                <a:lnTo>
                  <a:pt x="265" y="992"/>
                </a:lnTo>
                <a:lnTo>
                  <a:pt x="255" y="1007"/>
                </a:lnTo>
                <a:lnTo>
                  <a:pt x="246" y="1021"/>
                </a:lnTo>
                <a:lnTo>
                  <a:pt x="238" y="1034"/>
                </a:lnTo>
                <a:lnTo>
                  <a:pt x="230" y="1048"/>
                </a:lnTo>
                <a:lnTo>
                  <a:pt x="224" y="1059"/>
                </a:lnTo>
                <a:lnTo>
                  <a:pt x="219" y="1069"/>
                </a:lnTo>
                <a:lnTo>
                  <a:pt x="215" y="1078"/>
                </a:lnTo>
                <a:lnTo>
                  <a:pt x="211" y="1088"/>
                </a:lnTo>
                <a:lnTo>
                  <a:pt x="209" y="1096"/>
                </a:lnTo>
                <a:lnTo>
                  <a:pt x="207" y="1103"/>
                </a:lnTo>
                <a:lnTo>
                  <a:pt x="205" y="1109"/>
                </a:lnTo>
                <a:lnTo>
                  <a:pt x="205" y="1115"/>
                </a:lnTo>
                <a:lnTo>
                  <a:pt x="205" y="1120"/>
                </a:lnTo>
                <a:lnTo>
                  <a:pt x="205" y="1124"/>
                </a:lnTo>
                <a:lnTo>
                  <a:pt x="207" y="1128"/>
                </a:lnTo>
                <a:lnTo>
                  <a:pt x="209" y="1132"/>
                </a:lnTo>
                <a:lnTo>
                  <a:pt x="211" y="1134"/>
                </a:lnTo>
                <a:lnTo>
                  <a:pt x="215" y="1136"/>
                </a:lnTo>
                <a:lnTo>
                  <a:pt x="219" y="1138"/>
                </a:lnTo>
                <a:lnTo>
                  <a:pt x="224" y="1140"/>
                </a:lnTo>
                <a:lnTo>
                  <a:pt x="230" y="1140"/>
                </a:lnTo>
                <a:lnTo>
                  <a:pt x="236" y="1142"/>
                </a:lnTo>
                <a:lnTo>
                  <a:pt x="246" y="1142"/>
                </a:lnTo>
                <a:lnTo>
                  <a:pt x="253" y="1142"/>
                </a:lnTo>
                <a:lnTo>
                  <a:pt x="265" y="1142"/>
                </a:lnTo>
                <a:lnTo>
                  <a:pt x="274" y="1142"/>
                </a:lnTo>
                <a:lnTo>
                  <a:pt x="288" y="1142"/>
                </a:lnTo>
                <a:lnTo>
                  <a:pt x="301" y="1140"/>
                </a:lnTo>
                <a:lnTo>
                  <a:pt x="317" y="1138"/>
                </a:lnTo>
                <a:lnTo>
                  <a:pt x="332" y="1136"/>
                </a:lnTo>
                <a:lnTo>
                  <a:pt x="349" y="1134"/>
                </a:lnTo>
                <a:lnTo>
                  <a:pt x="368" y="1132"/>
                </a:lnTo>
                <a:lnTo>
                  <a:pt x="401" y="1126"/>
                </a:lnTo>
                <a:lnTo>
                  <a:pt x="436" y="1122"/>
                </a:lnTo>
                <a:lnTo>
                  <a:pt x="470" y="1120"/>
                </a:lnTo>
                <a:lnTo>
                  <a:pt x="503" y="1119"/>
                </a:lnTo>
                <a:lnTo>
                  <a:pt x="535" y="1119"/>
                </a:lnTo>
                <a:lnTo>
                  <a:pt x="568" y="1119"/>
                </a:lnTo>
                <a:lnTo>
                  <a:pt x="599" y="1119"/>
                </a:lnTo>
                <a:lnTo>
                  <a:pt x="629" y="1119"/>
                </a:lnTo>
                <a:lnTo>
                  <a:pt x="629" y="1230"/>
                </a:lnTo>
                <a:lnTo>
                  <a:pt x="587" y="1236"/>
                </a:lnTo>
                <a:lnTo>
                  <a:pt x="547" y="1241"/>
                </a:lnTo>
                <a:lnTo>
                  <a:pt x="510" y="1245"/>
                </a:lnTo>
                <a:lnTo>
                  <a:pt x="491" y="1249"/>
                </a:lnTo>
                <a:lnTo>
                  <a:pt x="474" y="1251"/>
                </a:lnTo>
                <a:lnTo>
                  <a:pt x="457" y="1253"/>
                </a:lnTo>
                <a:lnTo>
                  <a:pt x="439" y="1257"/>
                </a:lnTo>
                <a:lnTo>
                  <a:pt x="424" y="1259"/>
                </a:lnTo>
                <a:lnTo>
                  <a:pt x="407" y="1261"/>
                </a:lnTo>
                <a:lnTo>
                  <a:pt x="391" y="1264"/>
                </a:lnTo>
                <a:lnTo>
                  <a:pt x="378" y="1266"/>
                </a:lnTo>
                <a:lnTo>
                  <a:pt x="363" y="1270"/>
                </a:lnTo>
                <a:lnTo>
                  <a:pt x="349" y="1272"/>
                </a:lnTo>
                <a:lnTo>
                  <a:pt x="336" y="1274"/>
                </a:lnTo>
                <a:lnTo>
                  <a:pt x="322" y="1278"/>
                </a:lnTo>
                <a:lnTo>
                  <a:pt x="311" y="1280"/>
                </a:lnTo>
                <a:lnTo>
                  <a:pt x="299" y="1282"/>
                </a:lnTo>
                <a:lnTo>
                  <a:pt x="288" y="1286"/>
                </a:lnTo>
                <a:lnTo>
                  <a:pt x="276" y="1287"/>
                </a:lnTo>
                <a:lnTo>
                  <a:pt x="267" y="1289"/>
                </a:lnTo>
                <a:lnTo>
                  <a:pt x="257" y="1293"/>
                </a:lnTo>
                <a:lnTo>
                  <a:pt x="247" y="1295"/>
                </a:lnTo>
                <a:lnTo>
                  <a:pt x="238" y="1299"/>
                </a:lnTo>
                <a:lnTo>
                  <a:pt x="230" y="1301"/>
                </a:lnTo>
                <a:lnTo>
                  <a:pt x="223" y="1303"/>
                </a:lnTo>
                <a:lnTo>
                  <a:pt x="215" y="1307"/>
                </a:lnTo>
                <a:lnTo>
                  <a:pt x="209" y="1309"/>
                </a:lnTo>
                <a:lnTo>
                  <a:pt x="201" y="1311"/>
                </a:lnTo>
                <a:lnTo>
                  <a:pt x="198" y="1314"/>
                </a:lnTo>
                <a:lnTo>
                  <a:pt x="184" y="1318"/>
                </a:lnTo>
                <a:lnTo>
                  <a:pt x="173" y="1324"/>
                </a:lnTo>
                <a:lnTo>
                  <a:pt x="161" y="1328"/>
                </a:lnTo>
                <a:lnTo>
                  <a:pt x="151" y="1332"/>
                </a:lnTo>
                <a:lnTo>
                  <a:pt x="142" y="1335"/>
                </a:lnTo>
                <a:lnTo>
                  <a:pt x="134" y="1339"/>
                </a:lnTo>
                <a:lnTo>
                  <a:pt x="127" y="1343"/>
                </a:lnTo>
                <a:lnTo>
                  <a:pt x="119" y="1345"/>
                </a:lnTo>
                <a:lnTo>
                  <a:pt x="111" y="1349"/>
                </a:lnTo>
                <a:lnTo>
                  <a:pt x="105" y="1351"/>
                </a:lnTo>
                <a:lnTo>
                  <a:pt x="102" y="1353"/>
                </a:lnTo>
                <a:lnTo>
                  <a:pt x="96" y="1353"/>
                </a:lnTo>
                <a:lnTo>
                  <a:pt x="92" y="1355"/>
                </a:lnTo>
                <a:lnTo>
                  <a:pt x="88" y="1355"/>
                </a:lnTo>
                <a:lnTo>
                  <a:pt x="86" y="1357"/>
                </a:lnTo>
                <a:lnTo>
                  <a:pt x="82" y="1357"/>
                </a:lnTo>
                <a:lnTo>
                  <a:pt x="80" y="1357"/>
                </a:lnTo>
                <a:lnTo>
                  <a:pt x="79" y="1355"/>
                </a:lnTo>
                <a:lnTo>
                  <a:pt x="75" y="1353"/>
                </a:lnTo>
                <a:lnTo>
                  <a:pt x="73" y="1351"/>
                </a:lnTo>
                <a:lnTo>
                  <a:pt x="69" y="1349"/>
                </a:lnTo>
                <a:lnTo>
                  <a:pt x="67" y="1345"/>
                </a:lnTo>
                <a:lnTo>
                  <a:pt x="63" y="1341"/>
                </a:lnTo>
                <a:lnTo>
                  <a:pt x="61" y="1337"/>
                </a:lnTo>
                <a:lnTo>
                  <a:pt x="57" y="1332"/>
                </a:lnTo>
                <a:lnTo>
                  <a:pt x="54" y="1326"/>
                </a:lnTo>
                <a:lnTo>
                  <a:pt x="48" y="1314"/>
                </a:lnTo>
                <a:lnTo>
                  <a:pt x="42" y="1301"/>
                </a:lnTo>
                <a:lnTo>
                  <a:pt x="38" y="1286"/>
                </a:lnTo>
                <a:lnTo>
                  <a:pt x="31" y="1270"/>
                </a:lnTo>
                <a:lnTo>
                  <a:pt x="23" y="1255"/>
                </a:lnTo>
                <a:lnTo>
                  <a:pt x="17" y="1240"/>
                </a:lnTo>
                <a:lnTo>
                  <a:pt x="11" y="1224"/>
                </a:lnTo>
                <a:lnTo>
                  <a:pt x="9" y="1211"/>
                </a:lnTo>
                <a:lnTo>
                  <a:pt x="6" y="1197"/>
                </a:lnTo>
                <a:lnTo>
                  <a:pt x="4" y="1186"/>
                </a:lnTo>
                <a:lnTo>
                  <a:pt x="4" y="1174"/>
                </a:lnTo>
                <a:lnTo>
                  <a:pt x="2" y="1170"/>
                </a:lnTo>
                <a:lnTo>
                  <a:pt x="2" y="1168"/>
                </a:lnTo>
                <a:lnTo>
                  <a:pt x="0" y="1165"/>
                </a:lnTo>
                <a:lnTo>
                  <a:pt x="2" y="1161"/>
                </a:lnTo>
                <a:lnTo>
                  <a:pt x="2" y="1157"/>
                </a:lnTo>
                <a:lnTo>
                  <a:pt x="4" y="1153"/>
                </a:lnTo>
                <a:lnTo>
                  <a:pt x="6" y="1149"/>
                </a:lnTo>
                <a:lnTo>
                  <a:pt x="9" y="1144"/>
                </a:lnTo>
                <a:lnTo>
                  <a:pt x="13" y="1140"/>
                </a:lnTo>
                <a:lnTo>
                  <a:pt x="17" y="1134"/>
                </a:lnTo>
                <a:lnTo>
                  <a:pt x="27" y="1124"/>
                </a:lnTo>
                <a:lnTo>
                  <a:pt x="36" y="1115"/>
                </a:lnTo>
                <a:lnTo>
                  <a:pt x="50" y="1103"/>
                </a:lnTo>
                <a:lnTo>
                  <a:pt x="56" y="1101"/>
                </a:lnTo>
                <a:lnTo>
                  <a:pt x="63" y="1096"/>
                </a:lnTo>
                <a:lnTo>
                  <a:pt x="71" y="1090"/>
                </a:lnTo>
                <a:lnTo>
                  <a:pt x="79" y="1082"/>
                </a:lnTo>
                <a:lnTo>
                  <a:pt x="86" y="1074"/>
                </a:lnTo>
                <a:lnTo>
                  <a:pt x="96" y="1065"/>
                </a:lnTo>
                <a:lnTo>
                  <a:pt x="105" y="1055"/>
                </a:lnTo>
                <a:lnTo>
                  <a:pt x="115" y="1044"/>
                </a:lnTo>
                <a:lnTo>
                  <a:pt x="125" y="1032"/>
                </a:lnTo>
                <a:lnTo>
                  <a:pt x="134" y="1019"/>
                </a:lnTo>
                <a:lnTo>
                  <a:pt x="144" y="1005"/>
                </a:lnTo>
                <a:lnTo>
                  <a:pt x="155" y="990"/>
                </a:lnTo>
                <a:lnTo>
                  <a:pt x="165" y="973"/>
                </a:lnTo>
                <a:lnTo>
                  <a:pt x="176" y="957"/>
                </a:lnTo>
                <a:lnTo>
                  <a:pt x="186" y="940"/>
                </a:lnTo>
                <a:lnTo>
                  <a:pt x="198" y="921"/>
                </a:lnTo>
                <a:lnTo>
                  <a:pt x="217" y="884"/>
                </a:lnTo>
                <a:lnTo>
                  <a:pt x="238" y="846"/>
                </a:lnTo>
                <a:lnTo>
                  <a:pt x="257" y="806"/>
                </a:lnTo>
                <a:lnTo>
                  <a:pt x="274" y="765"/>
                </a:lnTo>
                <a:lnTo>
                  <a:pt x="294" y="723"/>
                </a:lnTo>
                <a:lnTo>
                  <a:pt x="311" y="683"/>
                </a:lnTo>
                <a:lnTo>
                  <a:pt x="345" y="598"/>
                </a:lnTo>
                <a:lnTo>
                  <a:pt x="363" y="562"/>
                </a:lnTo>
                <a:lnTo>
                  <a:pt x="378" y="524"/>
                </a:lnTo>
                <a:lnTo>
                  <a:pt x="395" y="483"/>
                </a:lnTo>
                <a:lnTo>
                  <a:pt x="413" y="445"/>
                </a:lnTo>
                <a:lnTo>
                  <a:pt x="430" y="405"/>
                </a:lnTo>
                <a:lnTo>
                  <a:pt x="447" y="366"/>
                </a:lnTo>
                <a:lnTo>
                  <a:pt x="464" y="328"/>
                </a:lnTo>
                <a:lnTo>
                  <a:pt x="482" y="289"/>
                </a:lnTo>
                <a:lnTo>
                  <a:pt x="489" y="272"/>
                </a:lnTo>
                <a:lnTo>
                  <a:pt x="497" y="255"/>
                </a:lnTo>
                <a:lnTo>
                  <a:pt x="503" y="238"/>
                </a:lnTo>
                <a:lnTo>
                  <a:pt x="509" y="222"/>
                </a:lnTo>
                <a:lnTo>
                  <a:pt x="514" y="207"/>
                </a:lnTo>
                <a:lnTo>
                  <a:pt x="518" y="191"/>
                </a:lnTo>
                <a:lnTo>
                  <a:pt x="522" y="178"/>
                </a:lnTo>
                <a:lnTo>
                  <a:pt x="526" y="165"/>
                </a:lnTo>
                <a:lnTo>
                  <a:pt x="528" y="151"/>
                </a:lnTo>
                <a:lnTo>
                  <a:pt x="530" y="140"/>
                </a:lnTo>
                <a:lnTo>
                  <a:pt x="530" y="128"/>
                </a:lnTo>
                <a:lnTo>
                  <a:pt x="532" y="117"/>
                </a:lnTo>
                <a:lnTo>
                  <a:pt x="530" y="107"/>
                </a:lnTo>
                <a:lnTo>
                  <a:pt x="530" y="97"/>
                </a:lnTo>
                <a:lnTo>
                  <a:pt x="528" y="88"/>
                </a:lnTo>
                <a:lnTo>
                  <a:pt x="528" y="80"/>
                </a:lnTo>
                <a:lnTo>
                  <a:pt x="526" y="72"/>
                </a:lnTo>
                <a:lnTo>
                  <a:pt x="524" y="65"/>
                </a:lnTo>
                <a:lnTo>
                  <a:pt x="522" y="59"/>
                </a:lnTo>
                <a:lnTo>
                  <a:pt x="520" y="53"/>
                </a:lnTo>
                <a:lnTo>
                  <a:pt x="520" y="48"/>
                </a:lnTo>
                <a:lnTo>
                  <a:pt x="520" y="42"/>
                </a:lnTo>
                <a:lnTo>
                  <a:pt x="520" y="34"/>
                </a:lnTo>
                <a:lnTo>
                  <a:pt x="522" y="26"/>
                </a:lnTo>
                <a:lnTo>
                  <a:pt x="526" y="21"/>
                </a:lnTo>
                <a:lnTo>
                  <a:pt x="528" y="17"/>
                </a:lnTo>
                <a:lnTo>
                  <a:pt x="532" y="15"/>
                </a:lnTo>
                <a:lnTo>
                  <a:pt x="533" y="13"/>
                </a:lnTo>
                <a:lnTo>
                  <a:pt x="539" y="9"/>
                </a:lnTo>
                <a:lnTo>
                  <a:pt x="547" y="5"/>
                </a:lnTo>
                <a:lnTo>
                  <a:pt x="555" y="1"/>
                </a:lnTo>
                <a:lnTo>
                  <a:pt x="564" y="0"/>
                </a:lnTo>
                <a:lnTo>
                  <a:pt x="572" y="0"/>
                </a:lnTo>
                <a:lnTo>
                  <a:pt x="581" y="0"/>
                </a:lnTo>
                <a:lnTo>
                  <a:pt x="589" y="1"/>
                </a:lnTo>
                <a:lnTo>
                  <a:pt x="599" y="5"/>
                </a:lnTo>
                <a:lnTo>
                  <a:pt x="606" y="9"/>
                </a:lnTo>
                <a:lnTo>
                  <a:pt x="614" y="15"/>
                </a:lnTo>
                <a:lnTo>
                  <a:pt x="624" y="23"/>
                </a:lnTo>
                <a:lnTo>
                  <a:pt x="633" y="30"/>
                </a:lnTo>
                <a:lnTo>
                  <a:pt x="643" y="42"/>
                </a:lnTo>
                <a:lnTo>
                  <a:pt x="652" y="51"/>
                </a:lnTo>
                <a:lnTo>
                  <a:pt x="662" y="65"/>
                </a:lnTo>
                <a:lnTo>
                  <a:pt x="674" y="78"/>
                </a:lnTo>
                <a:lnTo>
                  <a:pt x="687" y="94"/>
                </a:lnTo>
                <a:lnTo>
                  <a:pt x="695" y="109"/>
                </a:lnTo>
                <a:lnTo>
                  <a:pt x="700" y="122"/>
                </a:lnTo>
                <a:lnTo>
                  <a:pt x="706" y="136"/>
                </a:lnTo>
                <a:lnTo>
                  <a:pt x="712" y="145"/>
                </a:lnTo>
                <a:lnTo>
                  <a:pt x="716" y="157"/>
                </a:lnTo>
                <a:lnTo>
                  <a:pt x="718" y="165"/>
                </a:lnTo>
                <a:lnTo>
                  <a:pt x="720" y="172"/>
                </a:lnTo>
                <a:lnTo>
                  <a:pt x="720" y="178"/>
                </a:lnTo>
                <a:lnTo>
                  <a:pt x="720" y="184"/>
                </a:lnTo>
                <a:lnTo>
                  <a:pt x="720" y="190"/>
                </a:lnTo>
                <a:lnTo>
                  <a:pt x="718" y="197"/>
                </a:lnTo>
                <a:lnTo>
                  <a:pt x="716" y="205"/>
                </a:lnTo>
                <a:lnTo>
                  <a:pt x="714" y="213"/>
                </a:lnTo>
                <a:lnTo>
                  <a:pt x="710" y="222"/>
                </a:lnTo>
                <a:lnTo>
                  <a:pt x="706" y="232"/>
                </a:lnTo>
                <a:lnTo>
                  <a:pt x="700" y="243"/>
                </a:lnTo>
                <a:lnTo>
                  <a:pt x="697" y="255"/>
                </a:lnTo>
                <a:lnTo>
                  <a:pt x="691" y="266"/>
                </a:lnTo>
                <a:lnTo>
                  <a:pt x="683" y="280"/>
                </a:lnTo>
                <a:lnTo>
                  <a:pt x="677" y="293"/>
                </a:lnTo>
                <a:lnTo>
                  <a:pt x="668" y="309"/>
                </a:lnTo>
                <a:lnTo>
                  <a:pt x="660" y="326"/>
                </a:lnTo>
                <a:lnTo>
                  <a:pt x="651" y="343"/>
                </a:lnTo>
                <a:lnTo>
                  <a:pt x="641" y="360"/>
                </a:lnTo>
                <a:lnTo>
                  <a:pt x="618" y="399"/>
                </a:lnTo>
                <a:lnTo>
                  <a:pt x="597" y="437"/>
                </a:lnTo>
                <a:lnTo>
                  <a:pt x="572" y="477"/>
                </a:lnTo>
                <a:lnTo>
                  <a:pt x="549" y="518"/>
                </a:lnTo>
                <a:lnTo>
                  <a:pt x="524" y="560"/>
                </a:lnTo>
                <a:lnTo>
                  <a:pt x="497" y="604"/>
                </a:lnTo>
                <a:lnTo>
                  <a:pt x="472" y="650"/>
                </a:lnTo>
                <a:lnTo>
                  <a:pt x="447" y="69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Freeform 206"/>
          <p:cNvSpPr/>
          <p:nvPr/>
        </p:nvSpPr>
        <p:spPr>
          <a:xfrm>
            <a:off x="6970680" y="3492360"/>
            <a:ext cx="422280" cy="849600"/>
          </a:xfrm>
          <a:custGeom>
            <a:avLst/>
            <a:gdLst/>
            <a:ahLst/>
            <a:rect l="l" t="t" r="r" b="b"/>
            <a:pathLst>
              <a:path w="531" h="1069">
                <a:moveTo>
                  <a:pt x="245" y="703"/>
                </a:moveTo>
                <a:lnTo>
                  <a:pt x="236" y="720"/>
                </a:lnTo>
                <a:lnTo>
                  <a:pt x="226" y="737"/>
                </a:lnTo>
                <a:lnTo>
                  <a:pt x="218" y="753"/>
                </a:lnTo>
                <a:lnTo>
                  <a:pt x="211" y="768"/>
                </a:lnTo>
                <a:lnTo>
                  <a:pt x="205" y="782"/>
                </a:lnTo>
                <a:lnTo>
                  <a:pt x="199" y="795"/>
                </a:lnTo>
                <a:lnTo>
                  <a:pt x="195" y="806"/>
                </a:lnTo>
                <a:lnTo>
                  <a:pt x="191" y="818"/>
                </a:lnTo>
                <a:lnTo>
                  <a:pt x="190" y="828"/>
                </a:lnTo>
                <a:lnTo>
                  <a:pt x="188" y="837"/>
                </a:lnTo>
                <a:lnTo>
                  <a:pt x="186" y="845"/>
                </a:lnTo>
                <a:lnTo>
                  <a:pt x="186" y="853"/>
                </a:lnTo>
                <a:lnTo>
                  <a:pt x="186" y="858"/>
                </a:lnTo>
                <a:lnTo>
                  <a:pt x="186" y="862"/>
                </a:lnTo>
                <a:lnTo>
                  <a:pt x="188" y="868"/>
                </a:lnTo>
                <a:lnTo>
                  <a:pt x="190" y="870"/>
                </a:lnTo>
                <a:lnTo>
                  <a:pt x="190" y="872"/>
                </a:lnTo>
                <a:lnTo>
                  <a:pt x="191" y="874"/>
                </a:lnTo>
                <a:lnTo>
                  <a:pt x="195" y="874"/>
                </a:lnTo>
                <a:lnTo>
                  <a:pt x="197" y="876"/>
                </a:lnTo>
                <a:lnTo>
                  <a:pt x="201" y="876"/>
                </a:lnTo>
                <a:lnTo>
                  <a:pt x="207" y="877"/>
                </a:lnTo>
                <a:lnTo>
                  <a:pt x="211" y="877"/>
                </a:lnTo>
                <a:lnTo>
                  <a:pt x="216" y="877"/>
                </a:lnTo>
                <a:lnTo>
                  <a:pt x="222" y="879"/>
                </a:lnTo>
                <a:lnTo>
                  <a:pt x="230" y="879"/>
                </a:lnTo>
                <a:lnTo>
                  <a:pt x="238" y="879"/>
                </a:lnTo>
                <a:lnTo>
                  <a:pt x="245" y="879"/>
                </a:lnTo>
                <a:lnTo>
                  <a:pt x="253" y="879"/>
                </a:lnTo>
                <a:lnTo>
                  <a:pt x="263" y="879"/>
                </a:lnTo>
                <a:lnTo>
                  <a:pt x="272" y="879"/>
                </a:lnTo>
                <a:lnTo>
                  <a:pt x="282" y="879"/>
                </a:lnTo>
                <a:lnTo>
                  <a:pt x="293" y="879"/>
                </a:lnTo>
                <a:lnTo>
                  <a:pt x="305" y="877"/>
                </a:lnTo>
                <a:lnTo>
                  <a:pt x="318" y="877"/>
                </a:lnTo>
                <a:lnTo>
                  <a:pt x="330" y="877"/>
                </a:lnTo>
                <a:lnTo>
                  <a:pt x="343" y="876"/>
                </a:lnTo>
                <a:lnTo>
                  <a:pt x="357" y="876"/>
                </a:lnTo>
                <a:lnTo>
                  <a:pt x="372" y="874"/>
                </a:lnTo>
                <a:lnTo>
                  <a:pt x="387" y="872"/>
                </a:lnTo>
                <a:lnTo>
                  <a:pt x="403" y="872"/>
                </a:lnTo>
                <a:lnTo>
                  <a:pt x="420" y="870"/>
                </a:lnTo>
                <a:lnTo>
                  <a:pt x="437" y="868"/>
                </a:lnTo>
                <a:lnTo>
                  <a:pt x="454" y="866"/>
                </a:lnTo>
                <a:lnTo>
                  <a:pt x="472" y="864"/>
                </a:lnTo>
                <a:lnTo>
                  <a:pt x="491" y="862"/>
                </a:lnTo>
                <a:lnTo>
                  <a:pt x="510" y="858"/>
                </a:lnTo>
                <a:lnTo>
                  <a:pt x="531" y="856"/>
                </a:lnTo>
                <a:lnTo>
                  <a:pt x="514" y="899"/>
                </a:lnTo>
                <a:lnTo>
                  <a:pt x="497" y="941"/>
                </a:lnTo>
                <a:lnTo>
                  <a:pt x="489" y="941"/>
                </a:lnTo>
                <a:lnTo>
                  <a:pt x="481" y="941"/>
                </a:lnTo>
                <a:lnTo>
                  <a:pt x="472" y="943"/>
                </a:lnTo>
                <a:lnTo>
                  <a:pt x="462" y="943"/>
                </a:lnTo>
                <a:lnTo>
                  <a:pt x="451" y="945"/>
                </a:lnTo>
                <a:lnTo>
                  <a:pt x="439" y="947"/>
                </a:lnTo>
                <a:lnTo>
                  <a:pt x="428" y="949"/>
                </a:lnTo>
                <a:lnTo>
                  <a:pt x="414" y="952"/>
                </a:lnTo>
                <a:lnTo>
                  <a:pt x="399" y="956"/>
                </a:lnTo>
                <a:lnTo>
                  <a:pt x="383" y="960"/>
                </a:lnTo>
                <a:lnTo>
                  <a:pt x="368" y="964"/>
                </a:lnTo>
                <a:lnTo>
                  <a:pt x="353" y="970"/>
                </a:lnTo>
                <a:lnTo>
                  <a:pt x="335" y="975"/>
                </a:lnTo>
                <a:lnTo>
                  <a:pt x="316" y="981"/>
                </a:lnTo>
                <a:lnTo>
                  <a:pt x="299" y="989"/>
                </a:lnTo>
                <a:lnTo>
                  <a:pt x="280" y="997"/>
                </a:lnTo>
                <a:lnTo>
                  <a:pt x="259" y="1004"/>
                </a:lnTo>
                <a:lnTo>
                  <a:pt x="239" y="1012"/>
                </a:lnTo>
                <a:lnTo>
                  <a:pt x="220" y="1020"/>
                </a:lnTo>
                <a:lnTo>
                  <a:pt x="203" y="1025"/>
                </a:lnTo>
                <a:lnTo>
                  <a:pt x="188" y="1031"/>
                </a:lnTo>
                <a:lnTo>
                  <a:pt x="170" y="1037"/>
                </a:lnTo>
                <a:lnTo>
                  <a:pt x="157" y="1043"/>
                </a:lnTo>
                <a:lnTo>
                  <a:pt x="143" y="1048"/>
                </a:lnTo>
                <a:lnTo>
                  <a:pt x="132" y="1052"/>
                </a:lnTo>
                <a:lnTo>
                  <a:pt x="120" y="1056"/>
                </a:lnTo>
                <a:lnTo>
                  <a:pt x="109" y="1060"/>
                </a:lnTo>
                <a:lnTo>
                  <a:pt x="101" y="1062"/>
                </a:lnTo>
                <a:lnTo>
                  <a:pt x="94" y="1064"/>
                </a:lnTo>
                <a:lnTo>
                  <a:pt x="86" y="1066"/>
                </a:lnTo>
                <a:lnTo>
                  <a:pt x="80" y="1066"/>
                </a:lnTo>
                <a:lnTo>
                  <a:pt x="74" y="1068"/>
                </a:lnTo>
                <a:lnTo>
                  <a:pt x="71" y="1069"/>
                </a:lnTo>
                <a:lnTo>
                  <a:pt x="67" y="1069"/>
                </a:lnTo>
                <a:lnTo>
                  <a:pt x="63" y="1069"/>
                </a:lnTo>
                <a:lnTo>
                  <a:pt x="59" y="1069"/>
                </a:lnTo>
                <a:lnTo>
                  <a:pt x="53" y="1068"/>
                </a:lnTo>
                <a:lnTo>
                  <a:pt x="49" y="1066"/>
                </a:lnTo>
                <a:lnTo>
                  <a:pt x="46" y="1064"/>
                </a:lnTo>
                <a:lnTo>
                  <a:pt x="42" y="1060"/>
                </a:lnTo>
                <a:lnTo>
                  <a:pt x="38" y="1056"/>
                </a:lnTo>
                <a:lnTo>
                  <a:pt x="36" y="1050"/>
                </a:lnTo>
                <a:lnTo>
                  <a:pt x="32" y="1044"/>
                </a:lnTo>
                <a:lnTo>
                  <a:pt x="28" y="1039"/>
                </a:lnTo>
                <a:lnTo>
                  <a:pt x="26" y="1033"/>
                </a:lnTo>
                <a:lnTo>
                  <a:pt x="23" y="1025"/>
                </a:lnTo>
                <a:lnTo>
                  <a:pt x="19" y="1010"/>
                </a:lnTo>
                <a:lnTo>
                  <a:pt x="15" y="1002"/>
                </a:lnTo>
                <a:lnTo>
                  <a:pt x="11" y="995"/>
                </a:lnTo>
                <a:lnTo>
                  <a:pt x="7" y="987"/>
                </a:lnTo>
                <a:lnTo>
                  <a:pt x="5" y="979"/>
                </a:lnTo>
                <a:lnTo>
                  <a:pt x="1" y="964"/>
                </a:lnTo>
                <a:lnTo>
                  <a:pt x="0" y="950"/>
                </a:lnTo>
                <a:lnTo>
                  <a:pt x="0" y="939"/>
                </a:lnTo>
                <a:lnTo>
                  <a:pt x="0" y="933"/>
                </a:lnTo>
                <a:lnTo>
                  <a:pt x="1" y="927"/>
                </a:lnTo>
                <a:lnTo>
                  <a:pt x="1" y="924"/>
                </a:lnTo>
                <a:lnTo>
                  <a:pt x="3" y="918"/>
                </a:lnTo>
                <a:lnTo>
                  <a:pt x="5" y="916"/>
                </a:lnTo>
                <a:lnTo>
                  <a:pt x="7" y="912"/>
                </a:lnTo>
                <a:lnTo>
                  <a:pt x="9" y="908"/>
                </a:lnTo>
                <a:lnTo>
                  <a:pt x="11" y="906"/>
                </a:lnTo>
                <a:lnTo>
                  <a:pt x="13" y="902"/>
                </a:lnTo>
                <a:lnTo>
                  <a:pt x="15" y="897"/>
                </a:lnTo>
                <a:lnTo>
                  <a:pt x="19" y="891"/>
                </a:lnTo>
                <a:lnTo>
                  <a:pt x="21" y="885"/>
                </a:lnTo>
                <a:lnTo>
                  <a:pt x="26" y="874"/>
                </a:lnTo>
                <a:lnTo>
                  <a:pt x="34" y="860"/>
                </a:lnTo>
                <a:lnTo>
                  <a:pt x="42" y="845"/>
                </a:lnTo>
                <a:lnTo>
                  <a:pt x="51" y="830"/>
                </a:lnTo>
                <a:lnTo>
                  <a:pt x="57" y="822"/>
                </a:lnTo>
                <a:lnTo>
                  <a:pt x="65" y="814"/>
                </a:lnTo>
                <a:lnTo>
                  <a:pt x="71" y="806"/>
                </a:lnTo>
                <a:lnTo>
                  <a:pt x="76" y="797"/>
                </a:lnTo>
                <a:lnTo>
                  <a:pt x="82" y="787"/>
                </a:lnTo>
                <a:lnTo>
                  <a:pt x="90" y="778"/>
                </a:lnTo>
                <a:lnTo>
                  <a:pt x="96" y="766"/>
                </a:lnTo>
                <a:lnTo>
                  <a:pt x="103" y="755"/>
                </a:lnTo>
                <a:lnTo>
                  <a:pt x="109" y="743"/>
                </a:lnTo>
                <a:lnTo>
                  <a:pt x="117" y="730"/>
                </a:lnTo>
                <a:lnTo>
                  <a:pt x="124" y="716"/>
                </a:lnTo>
                <a:lnTo>
                  <a:pt x="130" y="703"/>
                </a:lnTo>
                <a:lnTo>
                  <a:pt x="138" y="687"/>
                </a:lnTo>
                <a:lnTo>
                  <a:pt x="145" y="672"/>
                </a:lnTo>
                <a:lnTo>
                  <a:pt x="153" y="657"/>
                </a:lnTo>
                <a:lnTo>
                  <a:pt x="161" y="639"/>
                </a:lnTo>
                <a:lnTo>
                  <a:pt x="168" y="622"/>
                </a:lnTo>
                <a:lnTo>
                  <a:pt x="178" y="603"/>
                </a:lnTo>
                <a:lnTo>
                  <a:pt x="190" y="567"/>
                </a:lnTo>
                <a:lnTo>
                  <a:pt x="203" y="530"/>
                </a:lnTo>
                <a:lnTo>
                  <a:pt x="216" y="492"/>
                </a:lnTo>
                <a:lnTo>
                  <a:pt x="228" y="453"/>
                </a:lnTo>
                <a:lnTo>
                  <a:pt x="241" y="413"/>
                </a:lnTo>
                <a:lnTo>
                  <a:pt x="247" y="392"/>
                </a:lnTo>
                <a:lnTo>
                  <a:pt x="255" y="371"/>
                </a:lnTo>
                <a:lnTo>
                  <a:pt x="261" y="350"/>
                </a:lnTo>
                <a:lnTo>
                  <a:pt x="266" y="327"/>
                </a:lnTo>
                <a:lnTo>
                  <a:pt x="274" y="304"/>
                </a:lnTo>
                <a:lnTo>
                  <a:pt x="280" y="281"/>
                </a:lnTo>
                <a:lnTo>
                  <a:pt x="287" y="240"/>
                </a:lnTo>
                <a:lnTo>
                  <a:pt x="295" y="200"/>
                </a:lnTo>
                <a:lnTo>
                  <a:pt x="301" y="162"/>
                </a:lnTo>
                <a:lnTo>
                  <a:pt x="303" y="142"/>
                </a:lnTo>
                <a:lnTo>
                  <a:pt x="305" y="125"/>
                </a:lnTo>
                <a:lnTo>
                  <a:pt x="307" y="108"/>
                </a:lnTo>
                <a:lnTo>
                  <a:pt x="309" y="91"/>
                </a:lnTo>
                <a:lnTo>
                  <a:pt x="310" y="75"/>
                </a:lnTo>
                <a:lnTo>
                  <a:pt x="312" y="58"/>
                </a:lnTo>
                <a:lnTo>
                  <a:pt x="312" y="43"/>
                </a:lnTo>
                <a:lnTo>
                  <a:pt x="312" y="29"/>
                </a:lnTo>
                <a:lnTo>
                  <a:pt x="314" y="14"/>
                </a:lnTo>
                <a:lnTo>
                  <a:pt x="314" y="0"/>
                </a:lnTo>
                <a:lnTo>
                  <a:pt x="349" y="21"/>
                </a:lnTo>
                <a:lnTo>
                  <a:pt x="364" y="33"/>
                </a:lnTo>
                <a:lnTo>
                  <a:pt x="382" y="44"/>
                </a:lnTo>
                <a:lnTo>
                  <a:pt x="397" y="56"/>
                </a:lnTo>
                <a:lnTo>
                  <a:pt x="412" y="69"/>
                </a:lnTo>
                <a:lnTo>
                  <a:pt x="426" y="83"/>
                </a:lnTo>
                <a:lnTo>
                  <a:pt x="439" y="98"/>
                </a:lnTo>
                <a:lnTo>
                  <a:pt x="445" y="106"/>
                </a:lnTo>
                <a:lnTo>
                  <a:pt x="451" y="115"/>
                </a:lnTo>
                <a:lnTo>
                  <a:pt x="460" y="131"/>
                </a:lnTo>
                <a:lnTo>
                  <a:pt x="468" y="144"/>
                </a:lnTo>
                <a:lnTo>
                  <a:pt x="474" y="160"/>
                </a:lnTo>
                <a:lnTo>
                  <a:pt x="479" y="171"/>
                </a:lnTo>
                <a:lnTo>
                  <a:pt x="481" y="177"/>
                </a:lnTo>
                <a:lnTo>
                  <a:pt x="483" y="183"/>
                </a:lnTo>
                <a:lnTo>
                  <a:pt x="483" y="186"/>
                </a:lnTo>
                <a:lnTo>
                  <a:pt x="483" y="190"/>
                </a:lnTo>
                <a:lnTo>
                  <a:pt x="485" y="194"/>
                </a:lnTo>
                <a:lnTo>
                  <a:pt x="485" y="198"/>
                </a:lnTo>
                <a:lnTo>
                  <a:pt x="483" y="200"/>
                </a:lnTo>
                <a:lnTo>
                  <a:pt x="479" y="206"/>
                </a:lnTo>
                <a:lnTo>
                  <a:pt x="477" y="211"/>
                </a:lnTo>
                <a:lnTo>
                  <a:pt x="474" y="217"/>
                </a:lnTo>
                <a:lnTo>
                  <a:pt x="470" y="225"/>
                </a:lnTo>
                <a:lnTo>
                  <a:pt x="466" y="234"/>
                </a:lnTo>
                <a:lnTo>
                  <a:pt x="462" y="246"/>
                </a:lnTo>
                <a:lnTo>
                  <a:pt x="456" y="256"/>
                </a:lnTo>
                <a:lnTo>
                  <a:pt x="453" y="269"/>
                </a:lnTo>
                <a:lnTo>
                  <a:pt x="447" y="282"/>
                </a:lnTo>
                <a:lnTo>
                  <a:pt x="441" y="296"/>
                </a:lnTo>
                <a:lnTo>
                  <a:pt x="435" y="311"/>
                </a:lnTo>
                <a:lnTo>
                  <a:pt x="428" y="327"/>
                </a:lnTo>
                <a:lnTo>
                  <a:pt x="420" y="344"/>
                </a:lnTo>
                <a:lnTo>
                  <a:pt x="414" y="361"/>
                </a:lnTo>
                <a:lnTo>
                  <a:pt x="405" y="380"/>
                </a:lnTo>
                <a:lnTo>
                  <a:pt x="387" y="417"/>
                </a:lnTo>
                <a:lnTo>
                  <a:pt x="370" y="455"/>
                </a:lnTo>
                <a:lnTo>
                  <a:pt x="351" y="496"/>
                </a:lnTo>
                <a:lnTo>
                  <a:pt x="330" y="536"/>
                </a:lnTo>
                <a:lnTo>
                  <a:pt x="309" y="576"/>
                </a:lnTo>
                <a:lnTo>
                  <a:pt x="287" y="618"/>
                </a:lnTo>
                <a:lnTo>
                  <a:pt x="245" y="70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Freeform 207"/>
          <p:cNvSpPr/>
          <p:nvPr/>
        </p:nvSpPr>
        <p:spPr>
          <a:xfrm>
            <a:off x="6705720" y="4610160"/>
            <a:ext cx="190440" cy="396720"/>
          </a:xfrm>
          <a:custGeom>
            <a:avLst/>
            <a:gdLst/>
            <a:ahLst/>
            <a:rect l="l" t="t" r="r" b="b"/>
            <a:pathLst>
              <a:path w="239" h="501">
                <a:moveTo>
                  <a:pt x="0" y="25"/>
                </a:moveTo>
                <a:lnTo>
                  <a:pt x="1" y="19"/>
                </a:lnTo>
                <a:lnTo>
                  <a:pt x="3" y="16"/>
                </a:lnTo>
                <a:lnTo>
                  <a:pt x="7" y="12"/>
                </a:lnTo>
                <a:lnTo>
                  <a:pt x="9" y="8"/>
                </a:lnTo>
                <a:lnTo>
                  <a:pt x="13" y="6"/>
                </a:lnTo>
                <a:lnTo>
                  <a:pt x="17" y="4"/>
                </a:lnTo>
                <a:lnTo>
                  <a:pt x="21" y="2"/>
                </a:lnTo>
                <a:lnTo>
                  <a:pt x="25" y="2"/>
                </a:lnTo>
                <a:lnTo>
                  <a:pt x="30" y="0"/>
                </a:lnTo>
                <a:lnTo>
                  <a:pt x="34" y="0"/>
                </a:lnTo>
                <a:lnTo>
                  <a:pt x="44" y="2"/>
                </a:lnTo>
                <a:lnTo>
                  <a:pt x="55" y="6"/>
                </a:lnTo>
                <a:lnTo>
                  <a:pt x="69" y="10"/>
                </a:lnTo>
                <a:lnTo>
                  <a:pt x="74" y="14"/>
                </a:lnTo>
                <a:lnTo>
                  <a:pt x="80" y="18"/>
                </a:lnTo>
                <a:lnTo>
                  <a:pt x="88" y="21"/>
                </a:lnTo>
                <a:lnTo>
                  <a:pt x="94" y="25"/>
                </a:lnTo>
                <a:lnTo>
                  <a:pt x="99" y="31"/>
                </a:lnTo>
                <a:lnTo>
                  <a:pt x="107" y="37"/>
                </a:lnTo>
                <a:lnTo>
                  <a:pt x="113" y="44"/>
                </a:lnTo>
                <a:lnTo>
                  <a:pt x="119" y="50"/>
                </a:lnTo>
                <a:lnTo>
                  <a:pt x="126" y="58"/>
                </a:lnTo>
                <a:lnTo>
                  <a:pt x="132" y="66"/>
                </a:lnTo>
                <a:lnTo>
                  <a:pt x="145" y="83"/>
                </a:lnTo>
                <a:lnTo>
                  <a:pt x="157" y="102"/>
                </a:lnTo>
                <a:lnTo>
                  <a:pt x="170" y="123"/>
                </a:lnTo>
                <a:lnTo>
                  <a:pt x="182" y="144"/>
                </a:lnTo>
                <a:lnTo>
                  <a:pt x="193" y="167"/>
                </a:lnTo>
                <a:lnTo>
                  <a:pt x="203" y="190"/>
                </a:lnTo>
                <a:lnTo>
                  <a:pt x="213" y="215"/>
                </a:lnTo>
                <a:lnTo>
                  <a:pt x="220" y="240"/>
                </a:lnTo>
                <a:lnTo>
                  <a:pt x="228" y="267"/>
                </a:lnTo>
                <a:lnTo>
                  <a:pt x="234" y="292"/>
                </a:lnTo>
                <a:lnTo>
                  <a:pt x="239" y="319"/>
                </a:lnTo>
                <a:lnTo>
                  <a:pt x="238" y="334"/>
                </a:lnTo>
                <a:lnTo>
                  <a:pt x="238" y="350"/>
                </a:lnTo>
                <a:lnTo>
                  <a:pt x="238" y="363"/>
                </a:lnTo>
                <a:lnTo>
                  <a:pt x="236" y="376"/>
                </a:lnTo>
                <a:lnTo>
                  <a:pt x="236" y="390"/>
                </a:lnTo>
                <a:lnTo>
                  <a:pt x="234" y="401"/>
                </a:lnTo>
                <a:lnTo>
                  <a:pt x="234" y="411"/>
                </a:lnTo>
                <a:lnTo>
                  <a:pt x="232" y="423"/>
                </a:lnTo>
                <a:lnTo>
                  <a:pt x="230" y="432"/>
                </a:lnTo>
                <a:lnTo>
                  <a:pt x="228" y="440"/>
                </a:lnTo>
                <a:lnTo>
                  <a:pt x="226" y="448"/>
                </a:lnTo>
                <a:lnTo>
                  <a:pt x="224" y="455"/>
                </a:lnTo>
                <a:lnTo>
                  <a:pt x="222" y="461"/>
                </a:lnTo>
                <a:lnTo>
                  <a:pt x="220" y="467"/>
                </a:lnTo>
                <a:lnTo>
                  <a:pt x="218" y="471"/>
                </a:lnTo>
                <a:lnTo>
                  <a:pt x="216" y="472"/>
                </a:lnTo>
                <a:lnTo>
                  <a:pt x="207" y="484"/>
                </a:lnTo>
                <a:lnTo>
                  <a:pt x="203" y="488"/>
                </a:lnTo>
                <a:lnTo>
                  <a:pt x="199" y="492"/>
                </a:lnTo>
                <a:lnTo>
                  <a:pt x="195" y="495"/>
                </a:lnTo>
                <a:lnTo>
                  <a:pt x="190" y="499"/>
                </a:lnTo>
                <a:lnTo>
                  <a:pt x="186" y="501"/>
                </a:lnTo>
                <a:lnTo>
                  <a:pt x="182" y="501"/>
                </a:lnTo>
                <a:lnTo>
                  <a:pt x="180" y="501"/>
                </a:lnTo>
                <a:lnTo>
                  <a:pt x="176" y="497"/>
                </a:lnTo>
                <a:lnTo>
                  <a:pt x="172" y="494"/>
                </a:lnTo>
                <a:lnTo>
                  <a:pt x="168" y="488"/>
                </a:lnTo>
                <a:lnTo>
                  <a:pt x="165" y="480"/>
                </a:lnTo>
                <a:lnTo>
                  <a:pt x="159" y="471"/>
                </a:lnTo>
                <a:lnTo>
                  <a:pt x="153" y="459"/>
                </a:lnTo>
                <a:lnTo>
                  <a:pt x="147" y="448"/>
                </a:lnTo>
                <a:lnTo>
                  <a:pt x="140" y="432"/>
                </a:lnTo>
                <a:lnTo>
                  <a:pt x="134" y="415"/>
                </a:lnTo>
                <a:lnTo>
                  <a:pt x="126" y="398"/>
                </a:lnTo>
                <a:lnTo>
                  <a:pt x="117" y="376"/>
                </a:lnTo>
                <a:lnTo>
                  <a:pt x="109" y="355"/>
                </a:lnTo>
                <a:lnTo>
                  <a:pt x="103" y="344"/>
                </a:lnTo>
                <a:lnTo>
                  <a:pt x="99" y="330"/>
                </a:lnTo>
                <a:lnTo>
                  <a:pt x="94" y="319"/>
                </a:lnTo>
                <a:lnTo>
                  <a:pt x="90" y="305"/>
                </a:lnTo>
                <a:lnTo>
                  <a:pt x="84" y="290"/>
                </a:lnTo>
                <a:lnTo>
                  <a:pt x="80" y="277"/>
                </a:lnTo>
                <a:lnTo>
                  <a:pt x="69" y="252"/>
                </a:lnTo>
                <a:lnTo>
                  <a:pt x="59" y="227"/>
                </a:lnTo>
                <a:lnTo>
                  <a:pt x="51" y="204"/>
                </a:lnTo>
                <a:lnTo>
                  <a:pt x="44" y="183"/>
                </a:lnTo>
                <a:lnTo>
                  <a:pt x="36" y="162"/>
                </a:lnTo>
                <a:lnTo>
                  <a:pt x="30" y="142"/>
                </a:lnTo>
                <a:lnTo>
                  <a:pt x="25" y="125"/>
                </a:lnTo>
                <a:lnTo>
                  <a:pt x="19" y="108"/>
                </a:lnTo>
                <a:lnTo>
                  <a:pt x="15" y="92"/>
                </a:lnTo>
                <a:lnTo>
                  <a:pt x="11" y="79"/>
                </a:lnTo>
                <a:lnTo>
                  <a:pt x="7" y="67"/>
                </a:lnTo>
                <a:lnTo>
                  <a:pt x="3" y="56"/>
                </a:lnTo>
                <a:lnTo>
                  <a:pt x="1" y="46"/>
                </a:lnTo>
                <a:lnTo>
                  <a:pt x="1" y="37"/>
                </a:lnTo>
                <a:lnTo>
                  <a:pt x="0" y="31"/>
                </a:lnTo>
                <a:lnTo>
                  <a:pt x="0" y="2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Freeform 208"/>
          <p:cNvSpPr/>
          <p:nvPr/>
        </p:nvSpPr>
        <p:spPr>
          <a:xfrm>
            <a:off x="6321600" y="3913200"/>
            <a:ext cx="630000" cy="1093680"/>
          </a:xfrm>
          <a:custGeom>
            <a:avLst/>
            <a:gdLst/>
            <a:ahLst/>
            <a:rect l="l" t="t" r="r" b="b"/>
            <a:pathLst>
              <a:path w="795" h="1378">
                <a:moveTo>
                  <a:pt x="484" y="720"/>
                </a:moveTo>
                <a:lnTo>
                  <a:pt x="466" y="747"/>
                </a:lnTo>
                <a:lnTo>
                  <a:pt x="449" y="772"/>
                </a:lnTo>
                <a:lnTo>
                  <a:pt x="432" y="799"/>
                </a:lnTo>
                <a:lnTo>
                  <a:pt x="416" y="824"/>
                </a:lnTo>
                <a:lnTo>
                  <a:pt x="401" y="847"/>
                </a:lnTo>
                <a:lnTo>
                  <a:pt x="388" y="870"/>
                </a:lnTo>
                <a:lnTo>
                  <a:pt x="372" y="891"/>
                </a:lnTo>
                <a:lnTo>
                  <a:pt x="359" y="912"/>
                </a:lnTo>
                <a:lnTo>
                  <a:pt x="345" y="933"/>
                </a:lnTo>
                <a:lnTo>
                  <a:pt x="334" y="952"/>
                </a:lnTo>
                <a:lnTo>
                  <a:pt x="322" y="969"/>
                </a:lnTo>
                <a:lnTo>
                  <a:pt x="311" y="987"/>
                </a:lnTo>
                <a:lnTo>
                  <a:pt x="299" y="1004"/>
                </a:lnTo>
                <a:lnTo>
                  <a:pt x="290" y="1019"/>
                </a:lnTo>
                <a:lnTo>
                  <a:pt x="280" y="1035"/>
                </a:lnTo>
                <a:lnTo>
                  <a:pt x="272" y="1050"/>
                </a:lnTo>
                <a:lnTo>
                  <a:pt x="263" y="1062"/>
                </a:lnTo>
                <a:lnTo>
                  <a:pt x="255" y="1075"/>
                </a:lnTo>
                <a:lnTo>
                  <a:pt x="247" y="1086"/>
                </a:lnTo>
                <a:lnTo>
                  <a:pt x="242" y="1098"/>
                </a:lnTo>
                <a:lnTo>
                  <a:pt x="236" y="1108"/>
                </a:lnTo>
                <a:lnTo>
                  <a:pt x="230" y="1117"/>
                </a:lnTo>
                <a:lnTo>
                  <a:pt x="226" y="1125"/>
                </a:lnTo>
                <a:lnTo>
                  <a:pt x="223" y="1133"/>
                </a:lnTo>
                <a:lnTo>
                  <a:pt x="219" y="1140"/>
                </a:lnTo>
                <a:lnTo>
                  <a:pt x="215" y="1146"/>
                </a:lnTo>
                <a:lnTo>
                  <a:pt x="213" y="1152"/>
                </a:lnTo>
                <a:lnTo>
                  <a:pt x="211" y="1156"/>
                </a:lnTo>
                <a:lnTo>
                  <a:pt x="211" y="1161"/>
                </a:lnTo>
                <a:lnTo>
                  <a:pt x="209" y="1163"/>
                </a:lnTo>
                <a:lnTo>
                  <a:pt x="209" y="1165"/>
                </a:lnTo>
                <a:lnTo>
                  <a:pt x="211" y="1167"/>
                </a:lnTo>
                <a:lnTo>
                  <a:pt x="213" y="1171"/>
                </a:lnTo>
                <a:lnTo>
                  <a:pt x="217" y="1171"/>
                </a:lnTo>
                <a:lnTo>
                  <a:pt x="223" y="1173"/>
                </a:lnTo>
                <a:lnTo>
                  <a:pt x="228" y="1173"/>
                </a:lnTo>
                <a:lnTo>
                  <a:pt x="234" y="1173"/>
                </a:lnTo>
                <a:lnTo>
                  <a:pt x="244" y="1173"/>
                </a:lnTo>
                <a:lnTo>
                  <a:pt x="251" y="1171"/>
                </a:lnTo>
                <a:lnTo>
                  <a:pt x="263" y="1169"/>
                </a:lnTo>
                <a:lnTo>
                  <a:pt x="272" y="1167"/>
                </a:lnTo>
                <a:lnTo>
                  <a:pt x="286" y="1165"/>
                </a:lnTo>
                <a:lnTo>
                  <a:pt x="299" y="1161"/>
                </a:lnTo>
                <a:lnTo>
                  <a:pt x="313" y="1158"/>
                </a:lnTo>
                <a:lnTo>
                  <a:pt x="328" y="1154"/>
                </a:lnTo>
                <a:lnTo>
                  <a:pt x="345" y="1150"/>
                </a:lnTo>
                <a:lnTo>
                  <a:pt x="363" y="1144"/>
                </a:lnTo>
                <a:lnTo>
                  <a:pt x="382" y="1140"/>
                </a:lnTo>
                <a:lnTo>
                  <a:pt x="401" y="1136"/>
                </a:lnTo>
                <a:lnTo>
                  <a:pt x="418" y="1134"/>
                </a:lnTo>
                <a:lnTo>
                  <a:pt x="436" y="1133"/>
                </a:lnTo>
                <a:lnTo>
                  <a:pt x="455" y="1129"/>
                </a:lnTo>
                <a:lnTo>
                  <a:pt x="470" y="1127"/>
                </a:lnTo>
                <a:lnTo>
                  <a:pt x="487" y="1125"/>
                </a:lnTo>
                <a:lnTo>
                  <a:pt x="503" y="1123"/>
                </a:lnTo>
                <a:lnTo>
                  <a:pt x="518" y="1121"/>
                </a:lnTo>
                <a:lnTo>
                  <a:pt x="532" y="1119"/>
                </a:lnTo>
                <a:lnTo>
                  <a:pt x="547" y="1117"/>
                </a:lnTo>
                <a:lnTo>
                  <a:pt x="560" y="1115"/>
                </a:lnTo>
                <a:lnTo>
                  <a:pt x="574" y="1113"/>
                </a:lnTo>
                <a:lnTo>
                  <a:pt x="585" y="1113"/>
                </a:lnTo>
                <a:lnTo>
                  <a:pt x="599" y="1111"/>
                </a:lnTo>
                <a:lnTo>
                  <a:pt x="610" y="1111"/>
                </a:lnTo>
                <a:lnTo>
                  <a:pt x="620" y="1111"/>
                </a:lnTo>
                <a:lnTo>
                  <a:pt x="620" y="1225"/>
                </a:lnTo>
                <a:lnTo>
                  <a:pt x="604" y="1225"/>
                </a:lnTo>
                <a:lnTo>
                  <a:pt x="589" y="1225"/>
                </a:lnTo>
                <a:lnTo>
                  <a:pt x="572" y="1227"/>
                </a:lnTo>
                <a:lnTo>
                  <a:pt x="555" y="1229"/>
                </a:lnTo>
                <a:lnTo>
                  <a:pt x="535" y="1232"/>
                </a:lnTo>
                <a:lnTo>
                  <a:pt x="518" y="1234"/>
                </a:lnTo>
                <a:lnTo>
                  <a:pt x="499" y="1238"/>
                </a:lnTo>
                <a:lnTo>
                  <a:pt x="478" y="1242"/>
                </a:lnTo>
                <a:lnTo>
                  <a:pt x="457" y="1248"/>
                </a:lnTo>
                <a:lnTo>
                  <a:pt x="436" y="1253"/>
                </a:lnTo>
                <a:lnTo>
                  <a:pt x="393" y="1265"/>
                </a:lnTo>
                <a:lnTo>
                  <a:pt x="347" y="1278"/>
                </a:lnTo>
                <a:lnTo>
                  <a:pt x="301" y="1294"/>
                </a:lnTo>
                <a:lnTo>
                  <a:pt x="278" y="1303"/>
                </a:lnTo>
                <a:lnTo>
                  <a:pt x="257" y="1313"/>
                </a:lnTo>
                <a:lnTo>
                  <a:pt x="236" y="1323"/>
                </a:lnTo>
                <a:lnTo>
                  <a:pt x="217" y="1330"/>
                </a:lnTo>
                <a:lnTo>
                  <a:pt x="199" y="1338"/>
                </a:lnTo>
                <a:lnTo>
                  <a:pt x="182" y="1346"/>
                </a:lnTo>
                <a:lnTo>
                  <a:pt x="165" y="1351"/>
                </a:lnTo>
                <a:lnTo>
                  <a:pt x="151" y="1357"/>
                </a:lnTo>
                <a:lnTo>
                  <a:pt x="138" y="1363"/>
                </a:lnTo>
                <a:lnTo>
                  <a:pt x="127" y="1367"/>
                </a:lnTo>
                <a:lnTo>
                  <a:pt x="115" y="1371"/>
                </a:lnTo>
                <a:lnTo>
                  <a:pt x="107" y="1372"/>
                </a:lnTo>
                <a:lnTo>
                  <a:pt x="100" y="1376"/>
                </a:lnTo>
                <a:lnTo>
                  <a:pt x="92" y="1376"/>
                </a:lnTo>
                <a:lnTo>
                  <a:pt x="88" y="1378"/>
                </a:lnTo>
                <a:lnTo>
                  <a:pt x="86" y="1378"/>
                </a:lnTo>
                <a:lnTo>
                  <a:pt x="82" y="1378"/>
                </a:lnTo>
                <a:lnTo>
                  <a:pt x="80" y="1376"/>
                </a:lnTo>
                <a:lnTo>
                  <a:pt x="79" y="1374"/>
                </a:lnTo>
                <a:lnTo>
                  <a:pt x="75" y="1372"/>
                </a:lnTo>
                <a:lnTo>
                  <a:pt x="71" y="1369"/>
                </a:lnTo>
                <a:lnTo>
                  <a:pt x="69" y="1365"/>
                </a:lnTo>
                <a:lnTo>
                  <a:pt x="65" y="1361"/>
                </a:lnTo>
                <a:lnTo>
                  <a:pt x="61" y="1355"/>
                </a:lnTo>
                <a:lnTo>
                  <a:pt x="57" y="1349"/>
                </a:lnTo>
                <a:lnTo>
                  <a:pt x="54" y="1342"/>
                </a:lnTo>
                <a:lnTo>
                  <a:pt x="50" y="1334"/>
                </a:lnTo>
                <a:lnTo>
                  <a:pt x="46" y="1325"/>
                </a:lnTo>
                <a:lnTo>
                  <a:pt x="42" y="1315"/>
                </a:lnTo>
                <a:lnTo>
                  <a:pt x="36" y="1303"/>
                </a:lnTo>
                <a:lnTo>
                  <a:pt x="32" y="1292"/>
                </a:lnTo>
                <a:lnTo>
                  <a:pt x="29" y="1280"/>
                </a:lnTo>
                <a:lnTo>
                  <a:pt x="23" y="1267"/>
                </a:lnTo>
                <a:lnTo>
                  <a:pt x="17" y="1255"/>
                </a:lnTo>
                <a:lnTo>
                  <a:pt x="13" y="1244"/>
                </a:lnTo>
                <a:lnTo>
                  <a:pt x="9" y="1232"/>
                </a:lnTo>
                <a:lnTo>
                  <a:pt x="6" y="1223"/>
                </a:lnTo>
                <a:lnTo>
                  <a:pt x="4" y="1213"/>
                </a:lnTo>
                <a:lnTo>
                  <a:pt x="2" y="1204"/>
                </a:lnTo>
                <a:lnTo>
                  <a:pt x="0" y="1196"/>
                </a:lnTo>
                <a:lnTo>
                  <a:pt x="0" y="1188"/>
                </a:lnTo>
                <a:lnTo>
                  <a:pt x="0" y="1181"/>
                </a:lnTo>
                <a:lnTo>
                  <a:pt x="0" y="1175"/>
                </a:lnTo>
                <a:lnTo>
                  <a:pt x="0" y="1169"/>
                </a:lnTo>
                <a:lnTo>
                  <a:pt x="2" y="1165"/>
                </a:lnTo>
                <a:lnTo>
                  <a:pt x="2" y="1159"/>
                </a:lnTo>
                <a:lnTo>
                  <a:pt x="4" y="1158"/>
                </a:lnTo>
                <a:lnTo>
                  <a:pt x="6" y="1154"/>
                </a:lnTo>
                <a:lnTo>
                  <a:pt x="9" y="1148"/>
                </a:lnTo>
                <a:lnTo>
                  <a:pt x="15" y="1142"/>
                </a:lnTo>
                <a:lnTo>
                  <a:pt x="19" y="1138"/>
                </a:lnTo>
                <a:lnTo>
                  <a:pt x="27" y="1133"/>
                </a:lnTo>
                <a:lnTo>
                  <a:pt x="32" y="1127"/>
                </a:lnTo>
                <a:lnTo>
                  <a:pt x="40" y="1123"/>
                </a:lnTo>
                <a:lnTo>
                  <a:pt x="52" y="1117"/>
                </a:lnTo>
                <a:lnTo>
                  <a:pt x="57" y="1113"/>
                </a:lnTo>
                <a:lnTo>
                  <a:pt x="63" y="1111"/>
                </a:lnTo>
                <a:lnTo>
                  <a:pt x="69" y="1108"/>
                </a:lnTo>
                <a:lnTo>
                  <a:pt x="77" y="1104"/>
                </a:lnTo>
                <a:lnTo>
                  <a:pt x="84" y="1098"/>
                </a:lnTo>
                <a:lnTo>
                  <a:pt x="90" y="1090"/>
                </a:lnTo>
                <a:lnTo>
                  <a:pt x="100" y="1083"/>
                </a:lnTo>
                <a:lnTo>
                  <a:pt x="107" y="1073"/>
                </a:lnTo>
                <a:lnTo>
                  <a:pt x="117" y="1062"/>
                </a:lnTo>
                <a:lnTo>
                  <a:pt x="127" y="1050"/>
                </a:lnTo>
                <a:lnTo>
                  <a:pt x="136" y="1037"/>
                </a:lnTo>
                <a:lnTo>
                  <a:pt x="146" y="1023"/>
                </a:lnTo>
                <a:lnTo>
                  <a:pt x="157" y="1008"/>
                </a:lnTo>
                <a:lnTo>
                  <a:pt x="169" y="992"/>
                </a:lnTo>
                <a:lnTo>
                  <a:pt x="180" y="973"/>
                </a:lnTo>
                <a:lnTo>
                  <a:pt x="194" y="956"/>
                </a:lnTo>
                <a:lnTo>
                  <a:pt x="207" y="937"/>
                </a:lnTo>
                <a:lnTo>
                  <a:pt x="223" y="916"/>
                </a:lnTo>
                <a:lnTo>
                  <a:pt x="251" y="872"/>
                </a:lnTo>
                <a:lnTo>
                  <a:pt x="280" y="829"/>
                </a:lnTo>
                <a:lnTo>
                  <a:pt x="309" y="783"/>
                </a:lnTo>
                <a:lnTo>
                  <a:pt x="336" y="737"/>
                </a:lnTo>
                <a:lnTo>
                  <a:pt x="365" y="689"/>
                </a:lnTo>
                <a:lnTo>
                  <a:pt x="391" y="639"/>
                </a:lnTo>
                <a:lnTo>
                  <a:pt x="420" y="589"/>
                </a:lnTo>
                <a:lnTo>
                  <a:pt x="449" y="538"/>
                </a:lnTo>
                <a:lnTo>
                  <a:pt x="462" y="513"/>
                </a:lnTo>
                <a:lnTo>
                  <a:pt x="474" y="490"/>
                </a:lnTo>
                <a:lnTo>
                  <a:pt x="485" y="468"/>
                </a:lnTo>
                <a:lnTo>
                  <a:pt x="497" y="447"/>
                </a:lnTo>
                <a:lnTo>
                  <a:pt x="507" y="426"/>
                </a:lnTo>
                <a:lnTo>
                  <a:pt x="516" y="407"/>
                </a:lnTo>
                <a:lnTo>
                  <a:pt x="526" y="388"/>
                </a:lnTo>
                <a:lnTo>
                  <a:pt x="535" y="369"/>
                </a:lnTo>
                <a:lnTo>
                  <a:pt x="543" y="349"/>
                </a:lnTo>
                <a:lnTo>
                  <a:pt x="551" y="332"/>
                </a:lnTo>
                <a:lnTo>
                  <a:pt x="558" y="317"/>
                </a:lnTo>
                <a:lnTo>
                  <a:pt x="564" y="300"/>
                </a:lnTo>
                <a:lnTo>
                  <a:pt x="570" y="284"/>
                </a:lnTo>
                <a:lnTo>
                  <a:pt x="576" y="269"/>
                </a:lnTo>
                <a:lnTo>
                  <a:pt x="581" y="255"/>
                </a:lnTo>
                <a:lnTo>
                  <a:pt x="585" y="242"/>
                </a:lnTo>
                <a:lnTo>
                  <a:pt x="593" y="217"/>
                </a:lnTo>
                <a:lnTo>
                  <a:pt x="601" y="192"/>
                </a:lnTo>
                <a:lnTo>
                  <a:pt x="606" y="169"/>
                </a:lnTo>
                <a:lnTo>
                  <a:pt x="610" y="146"/>
                </a:lnTo>
                <a:lnTo>
                  <a:pt x="612" y="123"/>
                </a:lnTo>
                <a:lnTo>
                  <a:pt x="612" y="102"/>
                </a:lnTo>
                <a:lnTo>
                  <a:pt x="612" y="92"/>
                </a:lnTo>
                <a:lnTo>
                  <a:pt x="612" y="81"/>
                </a:lnTo>
                <a:lnTo>
                  <a:pt x="610" y="71"/>
                </a:lnTo>
                <a:lnTo>
                  <a:pt x="608" y="60"/>
                </a:lnTo>
                <a:lnTo>
                  <a:pt x="606" y="52"/>
                </a:lnTo>
                <a:lnTo>
                  <a:pt x="606" y="44"/>
                </a:lnTo>
                <a:lnTo>
                  <a:pt x="606" y="38"/>
                </a:lnTo>
                <a:lnTo>
                  <a:pt x="606" y="31"/>
                </a:lnTo>
                <a:lnTo>
                  <a:pt x="608" y="25"/>
                </a:lnTo>
                <a:lnTo>
                  <a:pt x="610" y="19"/>
                </a:lnTo>
                <a:lnTo>
                  <a:pt x="612" y="15"/>
                </a:lnTo>
                <a:lnTo>
                  <a:pt x="614" y="10"/>
                </a:lnTo>
                <a:lnTo>
                  <a:pt x="618" y="8"/>
                </a:lnTo>
                <a:lnTo>
                  <a:pt x="622" y="4"/>
                </a:lnTo>
                <a:lnTo>
                  <a:pt x="626" y="2"/>
                </a:lnTo>
                <a:lnTo>
                  <a:pt x="631" y="0"/>
                </a:lnTo>
                <a:lnTo>
                  <a:pt x="637" y="0"/>
                </a:lnTo>
                <a:lnTo>
                  <a:pt x="643" y="0"/>
                </a:lnTo>
                <a:lnTo>
                  <a:pt x="649" y="2"/>
                </a:lnTo>
                <a:lnTo>
                  <a:pt x="654" y="4"/>
                </a:lnTo>
                <a:lnTo>
                  <a:pt x="660" y="6"/>
                </a:lnTo>
                <a:lnTo>
                  <a:pt x="668" y="10"/>
                </a:lnTo>
                <a:lnTo>
                  <a:pt x="674" y="14"/>
                </a:lnTo>
                <a:lnTo>
                  <a:pt x="679" y="19"/>
                </a:lnTo>
                <a:lnTo>
                  <a:pt x="687" y="25"/>
                </a:lnTo>
                <a:lnTo>
                  <a:pt x="693" y="29"/>
                </a:lnTo>
                <a:lnTo>
                  <a:pt x="706" y="42"/>
                </a:lnTo>
                <a:lnTo>
                  <a:pt x="718" y="56"/>
                </a:lnTo>
                <a:lnTo>
                  <a:pt x="731" y="71"/>
                </a:lnTo>
                <a:lnTo>
                  <a:pt x="745" y="86"/>
                </a:lnTo>
                <a:lnTo>
                  <a:pt x="756" y="102"/>
                </a:lnTo>
                <a:lnTo>
                  <a:pt x="762" y="109"/>
                </a:lnTo>
                <a:lnTo>
                  <a:pt x="768" y="117"/>
                </a:lnTo>
                <a:lnTo>
                  <a:pt x="773" y="125"/>
                </a:lnTo>
                <a:lnTo>
                  <a:pt x="777" y="133"/>
                </a:lnTo>
                <a:lnTo>
                  <a:pt x="781" y="142"/>
                </a:lnTo>
                <a:lnTo>
                  <a:pt x="785" y="150"/>
                </a:lnTo>
                <a:lnTo>
                  <a:pt x="789" y="157"/>
                </a:lnTo>
                <a:lnTo>
                  <a:pt x="791" y="165"/>
                </a:lnTo>
                <a:lnTo>
                  <a:pt x="793" y="173"/>
                </a:lnTo>
                <a:lnTo>
                  <a:pt x="795" y="181"/>
                </a:lnTo>
                <a:lnTo>
                  <a:pt x="795" y="188"/>
                </a:lnTo>
                <a:lnTo>
                  <a:pt x="795" y="196"/>
                </a:lnTo>
                <a:lnTo>
                  <a:pt x="795" y="204"/>
                </a:lnTo>
                <a:lnTo>
                  <a:pt x="795" y="213"/>
                </a:lnTo>
                <a:lnTo>
                  <a:pt x="793" y="221"/>
                </a:lnTo>
                <a:lnTo>
                  <a:pt x="791" y="228"/>
                </a:lnTo>
                <a:lnTo>
                  <a:pt x="789" y="232"/>
                </a:lnTo>
                <a:lnTo>
                  <a:pt x="787" y="238"/>
                </a:lnTo>
                <a:lnTo>
                  <a:pt x="785" y="242"/>
                </a:lnTo>
                <a:lnTo>
                  <a:pt x="783" y="250"/>
                </a:lnTo>
                <a:lnTo>
                  <a:pt x="779" y="255"/>
                </a:lnTo>
                <a:lnTo>
                  <a:pt x="775" y="263"/>
                </a:lnTo>
                <a:lnTo>
                  <a:pt x="770" y="273"/>
                </a:lnTo>
                <a:lnTo>
                  <a:pt x="766" y="280"/>
                </a:lnTo>
                <a:lnTo>
                  <a:pt x="760" y="290"/>
                </a:lnTo>
                <a:lnTo>
                  <a:pt x="752" y="301"/>
                </a:lnTo>
                <a:lnTo>
                  <a:pt x="747" y="311"/>
                </a:lnTo>
                <a:lnTo>
                  <a:pt x="739" y="324"/>
                </a:lnTo>
                <a:lnTo>
                  <a:pt x="731" y="336"/>
                </a:lnTo>
                <a:lnTo>
                  <a:pt x="723" y="349"/>
                </a:lnTo>
                <a:lnTo>
                  <a:pt x="714" y="363"/>
                </a:lnTo>
                <a:lnTo>
                  <a:pt x="704" y="378"/>
                </a:lnTo>
                <a:lnTo>
                  <a:pt x="695" y="394"/>
                </a:lnTo>
                <a:lnTo>
                  <a:pt x="683" y="409"/>
                </a:lnTo>
                <a:lnTo>
                  <a:pt x="674" y="426"/>
                </a:lnTo>
                <a:lnTo>
                  <a:pt x="662" y="445"/>
                </a:lnTo>
                <a:lnTo>
                  <a:pt x="649" y="463"/>
                </a:lnTo>
                <a:lnTo>
                  <a:pt x="637" y="482"/>
                </a:lnTo>
                <a:lnTo>
                  <a:pt x="624" y="503"/>
                </a:lnTo>
                <a:lnTo>
                  <a:pt x="610" y="522"/>
                </a:lnTo>
                <a:lnTo>
                  <a:pt x="597" y="545"/>
                </a:lnTo>
                <a:lnTo>
                  <a:pt x="581" y="566"/>
                </a:lnTo>
                <a:lnTo>
                  <a:pt x="566" y="591"/>
                </a:lnTo>
                <a:lnTo>
                  <a:pt x="551" y="614"/>
                </a:lnTo>
                <a:lnTo>
                  <a:pt x="535" y="639"/>
                </a:lnTo>
                <a:lnTo>
                  <a:pt x="518" y="664"/>
                </a:lnTo>
                <a:lnTo>
                  <a:pt x="501" y="691"/>
                </a:lnTo>
                <a:lnTo>
                  <a:pt x="484" y="72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Freeform 209"/>
          <p:cNvSpPr/>
          <p:nvPr/>
        </p:nvSpPr>
        <p:spPr>
          <a:xfrm>
            <a:off x="6362640" y="3583080"/>
            <a:ext cx="424080" cy="792000"/>
          </a:xfrm>
          <a:custGeom>
            <a:avLst/>
            <a:gdLst/>
            <a:ahLst/>
            <a:rect l="l" t="t" r="r" b="b"/>
            <a:pathLst>
              <a:path w="533" h="998">
                <a:moveTo>
                  <a:pt x="113" y="687"/>
                </a:moveTo>
                <a:lnTo>
                  <a:pt x="119" y="675"/>
                </a:lnTo>
                <a:lnTo>
                  <a:pt x="126" y="662"/>
                </a:lnTo>
                <a:lnTo>
                  <a:pt x="134" y="648"/>
                </a:lnTo>
                <a:lnTo>
                  <a:pt x="142" y="633"/>
                </a:lnTo>
                <a:lnTo>
                  <a:pt x="151" y="618"/>
                </a:lnTo>
                <a:lnTo>
                  <a:pt x="161" y="600"/>
                </a:lnTo>
                <a:lnTo>
                  <a:pt x="171" y="581"/>
                </a:lnTo>
                <a:lnTo>
                  <a:pt x="180" y="562"/>
                </a:lnTo>
                <a:lnTo>
                  <a:pt x="190" y="541"/>
                </a:lnTo>
                <a:lnTo>
                  <a:pt x="201" y="518"/>
                </a:lnTo>
                <a:lnTo>
                  <a:pt x="213" y="495"/>
                </a:lnTo>
                <a:lnTo>
                  <a:pt x="224" y="472"/>
                </a:lnTo>
                <a:lnTo>
                  <a:pt x="236" y="447"/>
                </a:lnTo>
                <a:lnTo>
                  <a:pt x="247" y="420"/>
                </a:lnTo>
                <a:lnTo>
                  <a:pt x="261" y="391"/>
                </a:lnTo>
                <a:lnTo>
                  <a:pt x="272" y="364"/>
                </a:lnTo>
                <a:lnTo>
                  <a:pt x="282" y="335"/>
                </a:lnTo>
                <a:lnTo>
                  <a:pt x="291" y="307"/>
                </a:lnTo>
                <a:lnTo>
                  <a:pt x="301" y="280"/>
                </a:lnTo>
                <a:lnTo>
                  <a:pt x="309" y="255"/>
                </a:lnTo>
                <a:lnTo>
                  <a:pt x="314" y="230"/>
                </a:lnTo>
                <a:lnTo>
                  <a:pt x="322" y="207"/>
                </a:lnTo>
                <a:lnTo>
                  <a:pt x="328" y="182"/>
                </a:lnTo>
                <a:lnTo>
                  <a:pt x="332" y="161"/>
                </a:lnTo>
                <a:lnTo>
                  <a:pt x="336" y="138"/>
                </a:lnTo>
                <a:lnTo>
                  <a:pt x="339" y="117"/>
                </a:lnTo>
                <a:lnTo>
                  <a:pt x="341" y="96"/>
                </a:lnTo>
                <a:lnTo>
                  <a:pt x="343" y="76"/>
                </a:lnTo>
                <a:lnTo>
                  <a:pt x="343" y="55"/>
                </a:lnTo>
                <a:lnTo>
                  <a:pt x="343" y="36"/>
                </a:lnTo>
                <a:lnTo>
                  <a:pt x="343" y="17"/>
                </a:lnTo>
                <a:lnTo>
                  <a:pt x="341" y="0"/>
                </a:lnTo>
                <a:lnTo>
                  <a:pt x="359" y="9"/>
                </a:lnTo>
                <a:lnTo>
                  <a:pt x="378" y="19"/>
                </a:lnTo>
                <a:lnTo>
                  <a:pt x="393" y="30"/>
                </a:lnTo>
                <a:lnTo>
                  <a:pt x="409" y="38"/>
                </a:lnTo>
                <a:lnTo>
                  <a:pt x="424" y="48"/>
                </a:lnTo>
                <a:lnTo>
                  <a:pt x="437" y="57"/>
                </a:lnTo>
                <a:lnTo>
                  <a:pt x="449" y="65"/>
                </a:lnTo>
                <a:lnTo>
                  <a:pt x="460" y="72"/>
                </a:lnTo>
                <a:lnTo>
                  <a:pt x="470" y="80"/>
                </a:lnTo>
                <a:lnTo>
                  <a:pt x="480" y="88"/>
                </a:lnTo>
                <a:lnTo>
                  <a:pt x="487" y="96"/>
                </a:lnTo>
                <a:lnTo>
                  <a:pt x="495" y="101"/>
                </a:lnTo>
                <a:lnTo>
                  <a:pt x="501" y="109"/>
                </a:lnTo>
                <a:lnTo>
                  <a:pt x="504" y="115"/>
                </a:lnTo>
                <a:lnTo>
                  <a:pt x="508" y="120"/>
                </a:lnTo>
                <a:lnTo>
                  <a:pt x="512" y="126"/>
                </a:lnTo>
                <a:lnTo>
                  <a:pt x="514" y="132"/>
                </a:lnTo>
                <a:lnTo>
                  <a:pt x="516" y="140"/>
                </a:lnTo>
                <a:lnTo>
                  <a:pt x="518" y="145"/>
                </a:lnTo>
                <a:lnTo>
                  <a:pt x="520" y="151"/>
                </a:lnTo>
                <a:lnTo>
                  <a:pt x="522" y="157"/>
                </a:lnTo>
                <a:lnTo>
                  <a:pt x="524" y="163"/>
                </a:lnTo>
                <a:lnTo>
                  <a:pt x="528" y="170"/>
                </a:lnTo>
                <a:lnTo>
                  <a:pt x="529" y="178"/>
                </a:lnTo>
                <a:lnTo>
                  <a:pt x="531" y="184"/>
                </a:lnTo>
                <a:lnTo>
                  <a:pt x="533" y="190"/>
                </a:lnTo>
                <a:lnTo>
                  <a:pt x="533" y="195"/>
                </a:lnTo>
                <a:lnTo>
                  <a:pt x="533" y="197"/>
                </a:lnTo>
                <a:lnTo>
                  <a:pt x="533" y="199"/>
                </a:lnTo>
                <a:lnTo>
                  <a:pt x="531" y="201"/>
                </a:lnTo>
                <a:lnTo>
                  <a:pt x="531" y="205"/>
                </a:lnTo>
                <a:lnTo>
                  <a:pt x="529" y="209"/>
                </a:lnTo>
                <a:lnTo>
                  <a:pt x="528" y="213"/>
                </a:lnTo>
                <a:lnTo>
                  <a:pt x="524" y="218"/>
                </a:lnTo>
                <a:lnTo>
                  <a:pt x="522" y="224"/>
                </a:lnTo>
                <a:lnTo>
                  <a:pt x="518" y="230"/>
                </a:lnTo>
                <a:lnTo>
                  <a:pt x="514" y="236"/>
                </a:lnTo>
                <a:lnTo>
                  <a:pt x="510" y="243"/>
                </a:lnTo>
                <a:lnTo>
                  <a:pt x="504" y="251"/>
                </a:lnTo>
                <a:lnTo>
                  <a:pt x="501" y="259"/>
                </a:lnTo>
                <a:lnTo>
                  <a:pt x="495" y="266"/>
                </a:lnTo>
                <a:lnTo>
                  <a:pt x="489" y="276"/>
                </a:lnTo>
                <a:lnTo>
                  <a:pt x="483" y="286"/>
                </a:lnTo>
                <a:lnTo>
                  <a:pt x="478" y="295"/>
                </a:lnTo>
                <a:lnTo>
                  <a:pt x="470" y="307"/>
                </a:lnTo>
                <a:lnTo>
                  <a:pt x="464" y="318"/>
                </a:lnTo>
                <a:lnTo>
                  <a:pt x="457" y="330"/>
                </a:lnTo>
                <a:lnTo>
                  <a:pt x="449" y="341"/>
                </a:lnTo>
                <a:lnTo>
                  <a:pt x="441" y="355"/>
                </a:lnTo>
                <a:lnTo>
                  <a:pt x="424" y="380"/>
                </a:lnTo>
                <a:lnTo>
                  <a:pt x="405" y="408"/>
                </a:lnTo>
                <a:lnTo>
                  <a:pt x="385" y="439"/>
                </a:lnTo>
                <a:lnTo>
                  <a:pt x="362" y="470"/>
                </a:lnTo>
                <a:lnTo>
                  <a:pt x="341" y="504"/>
                </a:lnTo>
                <a:lnTo>
                  <a:pt x="330" y="522"/>
                </a:lnTo>
                <a:lnTo>
                  <a:pt x="318" y="537"/>
                </a:lnTo>
                <a:lnTo>
                  <a:pt x="307" y="552"/>
                </a:lnTo>
                <a:lnTo>
                  <a:pt x="297" y="568"/>
                </a:lnTo>
                <a:lnTo>
                  <a:pt x="288" y="583"/>
                </a:lnTo>
                <a:lnTo>
                  <a:pt x="278" y="598"/>
                </a:lnTo>
                <a:lnTo>
                  <a:pt x="268" y="612"/>
                </a:lnTo>
                <a:lnTo>
                  <a:pt x="259" y="625"/>
                </a:lnTo>
                <a:lnTo>
                  <a:pt x="249" y="639"/>
                </a:lnTo>
                <a:lnTo>
                  <a:pt x="242" y="650"/>
                </a:lnTo>
                <a:lnTo>
                  <a:pt x="234" y="662"/>
                </a:lnTo>
                <a:lnTo>
                  <a:pt x="226" y="673"/>
                </a:lnTo>
                <a:lnTo>
                  <a:pt x="218" y="685"/>
                </a:lnTo>
                <a:lnTo>
                  <a:pt x="211" y="694"/>
                </a:lnTo>
                <a:lnTo>
                  <a:pt x="205" y="706"/>
                </a:lnTo>
                <a:lnTo>
                  <a:pt x="199" y="714"/>
                </a:lnTo>
                <a:lnTo>
                  <a:pt x="194" y="723"/>
                </a:lnTo>
                <a:lnTo>
                  <a:pt x="188" y="733"/>
                </a:lnTo>
                <a:lnTo>
                  <a:pt x="184" y="740"/>
                </a:lnTo>
                <a:lnTo>
                  <a:pt x="178" y="748"/>
                </a:lnTo>
                <a:lnTo>
                  <a:pt x="174" y="754"/>
                </a:lnTo>
                <a:lnTo>
                  <a:pt x="171" y="760"/>
                </a:lnTo>
                <a:lnTo>
                  <a:pt x="169" y="767"/>
                </a:lnTo>
                <a:lnTo>
                  <a:pt x="165" y="771"/>
                </a:lnTo>
                <a:lnTo>
                  <a:pt x="163" y="777"/>
                </a:lnTo>
                <a:lnTo>
                  <a:pt x="161" y="781"/>
                </a:lnTo>
                <a:lnTo>
                  <a:pt x="159" y="785"/>
                </a:lnTo>
                <a:lnTo>
                  <a:pt x="159" y="788"/>
                </a:lnTo>
                <a:lnTo>
                  <a:pt x="157" y="792"/>
                </a:lnTo>
                <a:lnTo>
                  <a:pt x="157" y="794"/>
                </a:lnTo>
                <a:lnTo>
                  <a:pt x="157" y="796"/>
                </a:lnTo>
                <a:lnTo>
                  <a:pt x="159" y="798"/>
                </a:lnTo>
                <a:lnTo>
                  <a:pt x="161" y="800"/>
                </a:lnTo>
                <a:lnTo>
                  <a:pt x="163" y="800"/>
                </a:lnTo>
                <a:lnTo>
                  <a:pt x="165" y="802"/>
                </a:lnTo>
                <a:lnTo>
                  <a:pt x="169" y="802"/>
                </a:lnTo>
                <a:lnTo>
                  <a:pt x="172" y="802"/>
                </a:lnTo>
                <a:lnTo>
                  <a:pt x="176" y="804"/>
                </a:lnTo>
                <a:lnTo>
                  <a:pt x="182" y="804"/>
                </a:lnTo>
                <a:lnTo>
                  <a:pt x="188" y="804"/>
                </a:lnTo>
                <a:lnTo>
                  <a:pt x="195" y="804"/>
                </a:lnTo>
                <a:lnTo>
                  <a:pt x="203" y="804"/>
                </a:lnTo>
                <a:lnTo>
                  <a:pt x="211" y="802"/>
                </a:lnTo>
                <a:lnTo>
                  <a:pt x="220" y="802"/>
                </a:lnTo>
                <a:lnTo>
                  <a:pt x="228" y="802"/>
                </a:lnTo>
                <a:lnTo>
                  <a:pt x="240" y="800"/>
                </a:lnTo>
                <a:lnTo>
                  <a:pt x="249" y="798"/>
                </a:lnTo>
                <a:lnTo>
                  <a:pt x="261" y="796"/>
                </a:lnTo>
                <a:lnTo>
                  <a:pt x="272" y="796"/>
                </a:lnTo>
                <a:lnTo>
                  <a:pt x="286" y="794"/>
                </a:lnTo>
                <a:lnTo>
                  <a:pt x="299" y="790"/>
                </a:lnTo>
                <a:lnTo>
                  <a:pt x="313" y="788"/>
                </a:lnTo>
                <a:lnTo>
                  <a:pt x="328" y="787"/>
                </a:lnTo>
                <a:lnTo>
                  <a:pt x="343" y="783"/>
                </a:lnTo>
                <a:lnTo>
                  <a:pt x="359" y="781"/>
                </a:lnTo>
                <a:lnTo>
                  <a:pt x="376" y="777"/>
                </a:lnTo>
                <a:lnTo>
                  <a:pt x="393" y="773"/>
                </a:lnTo>
                <a:lnTo>
                  <a:pt x="412" y="769"/>
                </a:lnTo>
                <a:lnTo>
                  <a:pt x="430" y="765"/>
                </a:lnTo>
                <a:lnTo>
                  <a:pt x="449" y="762"/>
                </a:lnTo>
                <a:lnTo>
                  <a:pt x="470" y="758"/>
                </a:lnTo>
                <a:lnTo>
                  <a:pt x="491" y="752"/>
                </a:lnTo>
                <a:lnTo>
                  <a:pt x="512" y="748"/>
                </a:lnTo>
                <a:lnTo>
                  <a:pt x="533" y="742"/>
                </a:lnTo>
                <a:lnTo>
                  <a:pt x="522" y="798"/>
                </a:lnTo>
                <a:lnTo>
                  <a:pt x="512" y="854"/>
                </a:lnTo>
                <a:lnTo>
                  <a:pt x="501" y="854"/>
                </a:lnTo>
                <a:lnTo>
                  <a:pt x="489" y="856"/>
                </a:lnTo>
                <a:lnTo>
                  <a:pt x="478" y="858"/>
                </a:lnTo>
                <a:lnTo>
                  <a:pt x="464" y="859"/>
                </a:lnTo>
                <a:lnTo>
                  <a:pt x="453" y="861"/>
                </a:lnTo>
                <a:lnTo>
                  <a:pt x="439" y="865"/>
                </a:lnTo>
                <a:lnTo>
                  <a:pt x="426" y="869"/>
                </a:lnTo>
                <a:lnTo>
                  <a:pt x="412" y="873"/>
                </a:lnTo>
                <a:lnTo>
                  <a:pt x="397" y="879"/>
                </a:lnTo>
                <a:lnTo>
                  <a:pt x="384" y="884"/>
                </a:lnTo>
                <a:lnTo>
                  <a:pt x="355" y="896"/>
                </a:lnTo>
                <a:lnTo>
                  <a:pt x="324" y="909"/>
                </a:lnTo>
                <a:lnTo>
                  <a:pt x="295" y="925"/>
                </a:lnTo>
                <a:lnTo>
                  <a:pt x="280" y="932"/>
                </a:lnTo>
                <a:lnTo>
                  <a:pt x="266" y="940"/>
                </a:lnTo>
                <a:lnTo>
                  <a:pt x="253" y="948"/>
                </a:lnTo>
                <a:lnTo>
                  <a:pt x="240" y="954"/>
                </a:lnTo>
                <a:lnTo>
                  <a:pt x="228" y="959"/>
                </a:lnTo>
                <a:lnTo>
                  <a:pt x="217" y="965"/>
                </a:lnTo>
                <a:lnTo>
                  <a:pt x="205" y="971"/>
                </a:lnTo>
                <a:lnTo>
                  <a:pt x="194" y="977"/>
                </a:lnTo>
                <a:lnTo>
                  <a:pt x="184" y="980"/>
                </a:lnTo>
                <a:lnTo>
                  <a:pt x="176" y="984"/>
                </a:lnTo>
                <a:lnTo>
                  <a:pt x="167" y="988"/>
                </a:lnTo>
                <a:lnTo>
                  <a:pt x="159" y="990"/>
                </a:lnTo>
                <a:lnTo>
                  <a:pt x="153" y="992"/>
                </a:lnTo>
                <a:lnTo>
                  <a:pt x="146" y="994"/>
                </a:lnTo>
                <a:lnTo>
                  <a:pt x="140" y="994"/>
                </a:lnTo>
                <a:lnTo>
                  <a:pt x="136" y="996"/>
                </a:lnTo>
                <a:lnTo>
                  <a:pt x="132" y="998"/>
                </a:lnTo>
                <a:lnTo>
                  <a:pt x="128" y="998"/>
                </a:lnTo>
                <a:lnTo>
                  <a:pt x="123" y="998"/>
                </a:lnTo>
                <a:lnTo>
                  <a:pt x="119" y="998"/>
                </a:lnTo>
                <a:lnTo>
                  <a:pt x="115" y="996"/>
                </a:lnTo>
                <a:lnTo>
                  <a:pt x="109" y="994"/>
                </a:lnTo>
                <a:lnTo>
                  <a:pt x="105" y="992"/>
                </a:lnTo>
                <a:lnTo>
                  <a:pt x="99" y="988"/>
                </a:lnTo>
                <a:lnTo>
                  <a:pt x="96" y="984"/>
                </a:lnTo>
                <a:lnTo>
                  <a:pt x="90" y="978"/>
                </a:lnTo>
                <a:lnTo>
                  <a:pt x="86" y="973"/>
                </a:lnTo>
                <a:lnTo>
                  <a:pt x="80" y="967"/>
                </a:lnTo>
                <a:lnTo>
                  <a:pt x="75" y="961"/>
                </a:lnTo>
                <a:lnTo>
                  <a:pt x="69" y="954"/>
                </a:lnTo>
                <a:lnTo>
                  <a:pt x="57" y="938"/>
                </a:lnTo>
                <a:lnTo>
                  <a:pt x="44" y="923"/>
                </a:lnTo>
                <a:lnTo>
                  <a:pt x="32" y="909"/>
                </a:lnTo>
                <a:lnTo>
                  <a:pt x="23" y="896"/>
                </a:lnTo>
                <a:lnTo>
                  <a:pt x="15" y="884"/>
                </a:lnTo>
                <a:lnTo>
                  <a:pt x="9" y="873"/>
                </a:lnTo>
                <a:lnTo>
                  <a:pt x="4" y="861"/>
                </a:lnTo>
                <a:lnTo>
                  <a:pt x="2" y="856"/>
                </a:lnTo>
                <a:lnTo>
                  <a:pt x="0" y="852"/>
                </a:lnTo>
                <a:lnTo>
                  <a:pt x="0" y="846"/>
                </a:lnTo>
                <a:lnTo>
                  <a:pt x="0" y="840"/>
                </a:lnTo>
                <a:lnTo>
                  <a:pt x="0" y="835"/>
                </a:lnTo>
                <a:lnTo>
                  <a:pt x="2" y="827"/>
                </a:lnTo>
                <a:lnTo>
                  <a:pt x="4" y="821"/>
                </a:lnTo>
                <a:lnTo>
                  <a:pt x="7" y="811"/>
                </a:lnTo>
                <a:lnTo>
                  <a:pt x="13" y="804"/>
                </a:lnTo>
                <a:lnTo>
                  <a:pt x="19" y="796"/>
                </a:lnTo>
                <a:lnTo>
                  <a:pt x="25" y="790"/>
                </a:lnTo>
                <a:lnTo>
                  <a:pt x="34" y="785"/>
                </a:lnTo>
                <a:lnTo>
                  <a:pt x="38" y="781"/>
                </a:lnTo>
                <a:lnTo>
                  <a:pt x="42" y="777"/>
                </a:lnTo>
                <a:lnTo>
                  <a:pt x="46" y="773"/>
                </a:lnTo>
                <a:lnTo>
                  <a:pt x="51" y="769"/>
                </a:lnTo>
                <a:lnTo>
                  <a:pt x="55" y="763"/>
                </a:lnTo>
                <a:lnTo>
                  <a:pt x="59" y="758"/>
                </a:lnTo>
                <a:lnTo>
                  <a:pt x="69" y="746"/>
                </a:lnTo>
                <a:lnTo>
                  <a:pt x="78" y="733"/>
                </a:lnTo>
                <a:lnTo>
                  <a:pt x="90" y="717"/>
                </a:lnTo>
                <a:lnTo>
                  <a:pt x="101" y="702"/>
                </a:lnTo>
                <a:lnTo>
                  <a:pt x="113" y="68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Freeform 210"/>
          <p:cNvSpPr/>
          <p:nvPr/>
        </p:nvSpPr>
        <p:spPr>
          <a:xfrm>
            <a:off x="6280200" y="3370320"/>
            <a:ext cx="1419120" cy="299880"/>
          </a:xfrm>
          <a:custGeom>
            <a:avLst/>
            <a:gdLst/>
            <a:ahLst/>
            <a:rect l="l" t="t" r="r" b="b"/>
            <a:pathLst>
              <a:path w="1787" h="378">
                <a:moveTo>
                  <a:pt x="46" y="322"/>
                </a:moveTo>
                <a:lnTo>
                  <a:pt x="36" y="315"/>
                </a:lnTo>
                <a:lnTo>
                  <a:pt x="29" y="307"/>
                </a:lnTo>
                <a:lnTo>
                  <a:pt x="21" y="301"/>
                </a:lnTo>
                <a:lnTo>
                  <a:pt x="13" y="295"/>
                </a:lnTo>
                <a:lnTo>
                  <a:pt x="10" y="290"/>
                </a:lnTo>
                <a:lnTo>
                  <a:pt x="6" y="286"/>
                </a:lnTo>
                <a:lnTo>
                  <a:pt x="2" y="280"/>
                </a:lnTo>
                <a:lnTo>
                  <a:pt x="2" y="276"/>
                </a:lnTo>
                <a:lnTo>
                  <a:pt x="0" y="272"/>
                </a:lnTo>
                <a:lnTo>
                  <a:pt x="0" y="268"/>
                </a:lnTo>
                <a:lnTo>
                  <a:pt x="2" y="267"/>
                </a:lnTo>
                <a:lnTo>
                  <a:pt x="6" y="263"/>
                </a:lnTo>
                <a:lnTo>
                  <a:pt x="8" y="261"/>
                </a:lnTo>
                <a:lnTo>
                  <a:pt x="12" y="257"/>
                </a:lnTo>
                <a:lnTo>
                  <a:pt x="17" y="255"/>
                </a:lnTo>
                <a:lnTo>
                  <a:pt x="23" y="251"/>
                </a:lnTo>
                <a:lnTo>
                  <a:pt x="36" y="247"/>
                </a:lnTo>
                <a:lnTo>
                  <a:pt x="52" y="244"/>
                </a:lnTo>
                <a:lnTo>
                  <a:pt x="67" y="240"/>
                </a:lnTo>
                <a:lnTo>
                  <a:pt x="83" y="238"/>
                </a:lnTo>
                <a:lnTo>
                  <a:pt x="102" y="236"/>
                </a:lnTo>
                <a:lnTo>
                  <a:pt x="119" y="232"/>
                </a:lnTo>
                <a:lnTo>
                  <a:pt x="140" y="228"/>
                </a:lnTo>
                <a:lnTo>
                  <a:pt x="161" y="224"/>
                </a:lnTo>
                <a:lnTo>
                  <a:pt x="171" y="224"/>
                </a:lnTo>
                <a:lnTo>
                  <a:pt x="184" y="222"/>
                </a:lnTo>
                <a:lnTo>
                  <a:pt x="200" y="222"/>
                </a:lnTo>
                <a:lnTo>
                  <a:pt x="215" y="220"/>
                </a:lnTo>
                <a:lnTo>
                  <a:pt x="234" y="220"/>
                </a:lnTo>
                <a:lnTo>
                  <a:pt x="253" y="219"/>
                </a:lnTo>
                <a:lnTo>
                  <a:pt x="275" y="217"/>
                </a:lnTo>
                <a:lnTo>
                  <a:pt x="298" y="213"/>
                </a:lnTo>
                <a:lnTo>
                  <a:pt x="322" y="211"/>
                </a:lnTo>
                <a:lnTo>
                  <a:pt x="349" y="207"/>
                </a:lnTo>
                <a:lnTo>
                  <a:pt x="378" y="205"/>
                </a:lnTo>
                <a:lnTo>
                  <a:pt x="409" y="201"/>
                </a:lnTo>
                <a:lnTo>
                  <a:pt x="440" y="196"/>
                </a:lnTo>
                <a:lnTo>
                  <a:pt x="474" y="192"/>
                </a:lnTo>
                <a:lnTo>
                  <a:pt x="509" y="186"/>
                </a:lnTo>
                <a:lnTo>
                  <a:pt x="547" y="182"/>
                </a:lnTo>
                <a:lnTo>
                  <a:pt x="620" y="171"/>
                </a:lnTo>
                <a:lnTo>
                  <a:pt x="695" y="157"/>
                </a:lnTo>
                <a:lnTo>
                  <a:pt x="770" y="146"/>
                </a:lnTo>
                <a:lnTo>
                  <a:pt x="847" y="130"/>
                </a:lnTo>
                <a:lnTo>
                  <a:pt x="923" y="117"/>
                </a:lnTo>
                <a:lnTo>
                  <a:pt x="1002" y="101"/>
                </a:lnTo>
                <a:lnTo>
                  <a:pt x="1081" y="86"/>
                </a:lnTo>
                <a:lnTo>
                  <a:pt x="1161" y="69"/>
                </a:lnTo>
                <a:lnTo>
                  <a:pt x="1202" y="61"/>
                </a:lnTo>
                <a:lnTo>
                  <a:pt x="1238" y="53"/>
                </a:lnTo>
                <a:lnTo>
                  <a:pt x="1275" y="48"/>
                </a:lnTo>
                <a:lnTo>
                  <a:pt x="1309" y="40"/>
                </a:lnTo>
                <a:lnTo>
                  <a:pt x="1342" y="34"/>
                </a:lnTo>
                <a:lnTo>
                  <a:pt x="1372" y="29"/>
                </a:lnTo>
                <a:lnTo>
                  <a:pt x="1401" y="23"/>
                </a:lnTo>
                <a:lnTo>
                  <a:pt x="1428" y="19"/>
                </a:lnTo>
                <a:lnTo>
                  <a:pt x="1455" y="13"/>
                </a:lnTo>
                <a:lnTo>
                  <a:pt x="1478" y="9"/>
                </a:lnTo>
                <a:lnTo>
                  <a:pt x="1501" y="7"/>
                </a:lnTo>
                <a:lnTo>
                  <a:pt x="1522" y="4"/>
                </a:lnTo>
                <a:lnTo>
                  <a:pt x="1543" y="2"/>
                </a:lnTo>
                <a:lnTo>
                  <a:pt x="1561" y="0"/>
                </a:lnTo>
                <a:lnTo>
                  <a:pt x="1578" y="0"/>
                </a:lnTo>
                <a:lnTo>
                  <a:pt x="1593" y="0"/>
                </a:lnTo>
                <a:lnTo>
                  <a:pt x="1607" y="0"/>
                </a:lnTo>
                <a:lnTo>
                  <a:pt x="1618" y="0"/>
                </a:lnTo>
                <a:lnTo>
                  <a:pt x="1630" y="2"/>
                </a:lnTo>
                <a:lnTo>
                  <a:pt x="1641" y="2"/>
                </a:lnTo>
                <a:lnTo>
                  <a:pt x="1662" y="6"/>
                </a:lnTo>
                <a:lnTo>
                  <a:pt x="1680" y="9"/>
                </a:lnTo>
                <a:lnTo>
                  <a:pt x="1697" y="15"/>
                </a:lnTo>
                <a:lnTo>
                  <a:pt x="1714" y="23"/>
                </a:lnTo>
                <a:lnTo>
                  <a:pt x="1728" y="32"/>
                </a:lnTo>
                <a:lnTo>
                  <a:pt x="1741" y="42"/>
                </a:lnTo>
                <a:lnTo>
                  <a:pt x="1747" y="50"/>
                </a:lnTo>
                <a:lnTo>
                  <a:pt x="1752" y="57"/>
                </a:lnTo>
                <a:lnTo>
                  <a:pt x="1762" y="71"/>
                </a:lnTo>
                <a:lnTo>
                  <a:pt x="1770" y="84"/>
                </a:lnTo>
                <a:lnTo>
                  <a:pt x="1777" y="96"/>
                </a:lnTo>
                <a:lnTo>
                  <a:pt x="1781" y="107"/>
                </a:lnTo>
                <a:lnTo>
                  <a:pt x="1785" y="119"/>
                </a:lnTo>
                <a:lnTo>
                  <a:pt x="1787" y="128"/>
                </a:lnTo>
                <a:lnTo>
                  <a:pt x="1787" y="140"/>
                </a:lnTo>
                <a:lnTo>
                  <a:pt x="1787" y="144"/>
                </a:lnTo>
                <a:lnTo>
                  <a:pt x="1783" y="149"/>
                </a:lnTo>
                <a:lnTo>
                  <a:pt x="1779" y="153"/>
                </a:lnTo>
                <a:lnTo>
                  <a:pt x="1774" y="157"/>
                </a:lnTo>
                <a:lnTo>
                  <a:pt x="1768" y="161"/>
                </a:lnTo>
                <a:lnTo>
                  <a:pt x="1758" y="165"/>
                </a:lnTo>
                <a:lnTo>
                  <a:pt x="1749" y="169"/>
                </a:lnTo>
                <a:lnTo>
                  <a:pt x="1735" y="171"/>
                </a:lnTo>
                <a:lnTo>
                  <a:pt x="1722" y="174"/>
                </a:lnTo>
                <a:lnTo>
                  <a:pt x="1706" y="176"/>
                </a:lnTo>
                <a:lnTo>
                  <a:pt x="1689" y="178"/>
                </a:lnTo>
                <a:lnTo>
                  <a:pt x="1672" y="178"/>
                </a:lnTo>
                <a:lnTo>
                  <a:pt x="1651" y="180"/>
                </a:lnTo>
                <a:lnTo>
                  <a:pt x="1630" y="180"/>
                </a:lnTo>
                <a:lnTo>
                  <a:pt x="1607" y="182"/>
                </a:lnTo>
                <a:lnTo>
                  <a:pt x="1582" y="182"/>
                </a:lnTo>
                <a:lnTo>
                  <a:pt x="1555" y="182"/>
                </a:lnTo>
                <a:lnTo>
                  <a:pt x="1528" y="182"/>
                </a:lnTo>
                <a:lnTo>
                  <a:pt x="1503" y="182"/>
                </a:lnTo>
                <a:lnTo>
                  <a:pt x="1478" y="182"/>
                </a:lnTo>
                <a:lnTo>
                  <a:pt x="1453" y="182"/>
                </a:lnTo>
                <a:lnTo>
                  <a:pt x="1430" y="182"/>
                </a:lnTo>
                <a:lnTo>
                  <a:pt x="1407" y="182"/>
                </a:lnTo>
                <a:lnTo>
                  <a:pt x="1386" y="184"/>
                </a:lnTo>
                <a:lnTo>
                  <a:pt x="1365" y="184"/>
                </a:lnTo>
                <a:lnTo>
                  <a:pt x="1346" y="186"/>
                </a:lnTo>
                <a:lnTo>
                  <a:pt x="1326" y="186"/>
                </a:lnTo>
                <a:lnTo>
                  <a:pt x="1307" y="188"/>
                </a:lnTo>
                <a:lnTo>
                  <a:pt x="1290" y="190"/>
                </a:lnTo>
                <a:lnTo>
                  <a:pt x="1273" y="192"/>
                </a:lnTo>
                <a:lnTo>
                  <a:pt x="1257" y="194"/>
                </a:lnTo>
                <a:lnTo>
                  <a:pt x="1242" y="196"/>
                </a:lnTo>
                <a:lnTo>
                  <a:pt x="1225" y="199"/>
                </a:lnTo>
                <a:lnTo>
                  <a:pt x="1209" y="201"/>
                </a:lnTo>
                <a:lnTo>
                  <a:pt x="1190" y="205"/>
                </a:lnTo>
                <a:lnTo>
                  <a:pt x="1171" y="209"/>
                </a:lnTo>
                <a:lnTo>
                  <a:pt x="1150" y="213"/>
                </a:lnTo>
                <a:lnTo>
                  <a:pt x="1129" y="217"/>
                </a:lnTo>
                <a:lnTo>
                  <a:pt x="1104" y="220"/>
                </a:lnTo>
                <a:lnTo>
                  <a:pt x="1081" y="224"/>
                </a:lnTo>
                <a:lnTo>
                  <a:pt x="1054" y="228"/>
                </a:lnTo>
                <a:lnTo>
                  <a:pt x="1027" y="232"/>
                </a:lnTo>
                <a:lnTo>
                  <a:pt x="1000" y="236"/>
                </a:lnTo>
                <a:lnTo>
                  <a:pt x="971" y="240"/>
                </a:lnTo>
                <a:lnTo>
                  <a:pt x="941" y="242"/>
                </a:lnTo>
                <a:lnTo>
                  <a:pt x="908" y="245"/>
                </a:lnTo>
                <a:lnTo>
                  <a:pt x="877" y="249"/>
                </a:lnTo>
                <a:lnTo>
                  <a:pt x="843" y="251"/>
                </a:lnTo>
                <a:lnTo>
                  <a:pt x="808" y="257"/>
                </a:lnTo>
                <a:lnTo>
                  <a:pt x="775" y="263"/>
                </a:lnTo>
                <a:lnTo>
                  <a:pt x="743" y="268"/>
                </a:lnTo>
                <a:lnTo>
                  <a:pt x="710" y="272"/>
                </a:lnTo>
                <a:lnTo>
                  <a:pt x="680" y="278"/>
                </a:lnTo>
                <a:lnTo>
                  <a:pt x="649" y="284"/>
                </a:lnTo>
                <a:lnTo>
                  <a:pt x="618" y="290"/>
                </a:lnTo>
                <a:lnTo>
                  <a:pt x="587" y="293"/>
                </a:lnTo>
                <a:lnTo>
                  <a:pt x="559" y="299"/>
                </a:lnTo>
                <a:lnTo>
                  <a:pt x="532" y="305"/>
                </a:lnTo>
                <a:lnTo>
                  <a:pt x="503" y="309"/>
                </a:lnTo>
                <a:lnTo>
                  <a:pt x="476" y="315"/>
                </a:lnTo>
                <a:lnTo>
                  <a:pt x="451" y="320"/>
                </a:lnTo>
                <a:lnTo>
                  <a:pt x="424" y="326"/>
                </a:lnTo>
                <a:lnTo>
                  <a:pt x="399" y="330"/>
                </a:lnTo>
                <a:lnTo>
                  <a:pt x="376" y="336"/>
                </a:lnTo>
                <a:lnTo>
                  <a:pt x="353" y="341"/>
                </a:lnTo>
                <a:lnTo>
                  <a:pt x="332" y="345"/>
                </a:lnTo>
                <a:lnTo>
                  <a:pt x="311" y="351"/>
                </a:lnTo>
                <a:lnTo>
                  <a:pt x="292" y="355"/>
                </a:lnTo>
                <a:lnTo>
                  <a:pt x="273" y="359"/>
                </a:lnTo>
                <a:lnTo>
                  <a:pt x="255" y="363"/>
                </a:lnTo>
                <a:lnTo>
                  <a:pt x="240" y="364"/>
                </a:lnTo>
                <a:lnTo>
                  <a:pt x="227" y="368"/>
                </a:lnTo>
                <a:lnTo>
                  <a:pt x="213" y="370"/>
                </a:lnTo>
                <a:lnTo>
                  <a:pt x="202" y="372"/>
                </a:lnTo>
                <a:lnTo>
                  <a:pt x="190" y="374"/>
                </a:lnTo>
                <a:lnTo>
                  <a:pt x="180" y="376"/>
                </a:lnTo>
                <a:lnTo>
                  <a:pt x="175" y="376"/>
                </a:lnTo>
                <a:lnTo>
                  <a:pt x="167" y="378"/>
                </a:lnTo>
                <a:lnTo>
                  <a:pt x="163" y="378"/>
                </a:lnTo>
                <a:lnTo>
                  <a:pt x="161" y="378"/>
                </a:lnTo>
                <a:lnTo>
                  <a:pt x="152" y="378"/>
                </a:lnTo>
                <a:lnTo>
                  <a:pt x="140" y="376"/>
                </a:lnTo>
                <a:lnTo>
                  <a:pt x="129" y="372"/>
                </a:lnTo>
                <a:lnTo>
                  <a:pt x="123" y="368"/>
                </a:lnTo>
                <a:lnTo>
                  <a:pt x="115" y="366"/>
                </a:lnTo>
                <a:lnTo>
                  <a:pt x="109" y="363"/>
                </a:lnTo>
                <a:lnTo>
                  <a:pt x="102" y="359"/>
                </a:lnTo>
                <a:lnTo>
                  <a:pt x="94" y="353"/>
                </a:lnTo>
                <a:lnTo>
                  <a:pt x="84" y="349"/>
                </a:lnTo>
                <a:lnTo>
                  <a:pt x="77" y="343"/>
                </a:lnTo>
                <a:lnTo>
                  <a:pt x="67" y="336"/>
                </a:lnTo>
                <a:lnTo>
                  <a:pt x="58" y="330"/>
                </a:lnTo>
                <a:lnTo>
                  <a:pt x="46" y="32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Freeform 211"/>
          <p:cNvSpPr/>
          <p:nvPr/>
        </p:nvSpPr>
        <p:spPr>
          <a:xfrm>
            <a:off x="6931080" y="2754360"/>
            <a:ext cx="453960" cy="762120"/>
          </a:xfrm>
          <a:custGeom>
            <a:avLst/>
            <a:gdLst/>
            <a:ahLst/>
            <a:rect l="l" t="t" r="r" b="b"/>
            <a:pathLst>
              <a:path w="572" h="960">
                <a:moveTo>
                  <a:pt x="307" y="20"/>
                </a:moveTo>
                <a:lnTo>
                  <a:pt x="313" y="14"/>
                </a:lnTo>
                <a:lnTo>
                  <a:pt x="318" y="10"/>
                </a:lnTo>
                <a:lnTo>
                  <a:pt x="324" y="6"/>
                </a:lnTo>
                <a:lnTo>
                  <a:pt x="334" y="2"/>
                </a:lnTo>
                <a:lnTo>
                  <a:pt x="341" y="0"/>
                </a:lnTo>
                <a:lnTo>
                  <a:pt x="347" y="0"/>
                </a:lnTo>
                <a:lnTo>
                  <a:pt x="353" y="0"/>
                </a:lnTo>
                <a:lnTo>
                  <a:pt x="357" y="0"/>
                </a:lnTo>
                <a:lnTo>
                  <a:pt x="362" y="2"/>
                </a:lnTo>
                <a:lnTo>
                  <a:pt x="370" y="4"/>
                </a:lnTo>
                <a:lnTo>
                  <a:pt x="376" y="6"/>
                </a:lnTo>
                <a:lnTo>
                  <a:pt x="382" y="10"/>
                </a:lnTo>
                <a:lnTo>
                  <a:pt x="387" y="12"/>
                </a:lnTo>
                <a:lnTo>
                  <a:pt x="395" y="18"/>
                </a:lnTo>
                <a:lnTo>
                  <a:pt x="401" y="21"/>
                </a:lnTo>
                <a:lnTo>
                  <a:pt x="408" y="27"/>
                </a:lnTo>
                <a:lnTo>
                  <a:pt x="414" y="31"/>
                </a:lnTo>
                <a:lnTo>
                  <a:pt x="430" y="45"/>
                </a:lnTo>
                <a:lnTo>
                  <a:pt x="445" y="58"/>
                </a:lnTo>
                <a:lnTo>
                  <a:pt x="462" y="73"/>
                </a:lnTo>
                <a:lnTo>
                  <a:pt x="480" y="89"/>
                </a:lnTo>
                <a:lnTo>
                  <a:pt x="491" y="96"/>
                </a:lnTo>
                <a:lnTo>
                  <a:pt x="501" y="104"/>
                </a:lnTo>
                <a:lnTo>
                  <a:pt x="510" y="112"/>
                </a:lnTo>
                <a:lnTo>
                  <a:pt x="520" y="119"/>
                </a:lnTo>
                <a:lnTo>
                  <a:pt x="529" y="127"/>
                </a:lnTo>
                <a:lnTo>
                  <a:pt x="537" y="137"/>
                </a:lnTo>
                <a:lnTo>
                  <a:pt x="543" y="144"/>
                </a:lnTo>
                <a:lnTo>
                  <a:pt x="551" y="152"/>
                </a:lnTo>
                <a:lnTo>
                  <a:pt x="554" y="160"/>
                </a:lnTo>
                <a:lnTo>
                  <a:pt x="560" y="167"/>
                </a:lnTo>
                <a:lnTo>
                  <a:pt x="564" y="175"/>
                </a:lnTo>
                <a:lnTo>
                  <a:pt x="568" y="183"/>
                </a:lnTo>
                <a:lnTo>
                  <a:pt x="570" y="190"/>
                </a:lnTo>
                <a:lnTo>
                  <a:pt x="572" y="198"/>
                </a:lnTo>
                <a:lnTo>
                  <a:pt x="572" y="206"/>
                </a:lnTo>
                <a:lnTo>
                  <a:pt x="572" y="215"/>
                </a:lnTo>
                <a:lnTo>
                  <a:pt x="570" y="223"/>
                </a:lnTo>
                <a:lnTo>
                  <a:pt x="570" y="231"/>
                </a:lnTo>
                <a:lnTo>
                  <a:pt x="568" y="235"/>
                </a:lnTo>
                <a:lnTo>
                  <a:pt x="566" y="240"/>
                </a:lnTo>
                <a:lnTo>
                  <a:pt x="562" y="246"/>
                </a:lnTo>
                <a:lnTo>
                  <a:pt x="558" y="254"/>
                </a:lnTo>
                <a:lnTo>
                  <a:pt x="552" y="263"/>
                </a:lnTo>
                <a:lnTo>
                  <a:pt x="549" y="273"/>
                </a:lnTo>
                <a:lnTo>
                  <a:pt x="541" y="284"/>
                </a:lnTo>
                <a:lnTo>
                  <a:pt x="535" y="296"/>
                </a:lnTo>
                <a:lnTo>
                  <a:pt x="526" y="309"/>
                </a:lnTo>
                <a:lnTo>
                  <a:pt x="518" y="323"/>
                </a:lnTo>
                <a:lnTo>
                  <a:pt x="508" y="338"/>
                </a:lnTo>
                <a:lnTo>
                  <a:pt x="497" y="355"/>
                </a:lnTo>
                <a:lnTo>
                  <a:pt x="487" y="373"/>
                </a:lnTo>
                <a:lnTo>
                  <a:pt x="474" y="392"/>
                </a:lnTo>
                <a:lnTo>
                  <a:pt x="462" y="411"/>
                </a:lnTo>
                <a:lnTo>
                  <a:pt x="449" y="432"/>
                </a:lnTo>
                <a:lnTo>
                  <a:pt x="433" y="455"/>
                </a:lnTo>
                <a:lnTo>
                  <a:pt x="418" y="478"/>
                </a:lnTo>
                <a:lnTo>
                  <a:pt x="403" y="503"/>
                </a:lnTo>
                <a:lnTo>
                  <a:pt x="385" y="528"/>
                </a:lnTo>
                <a:lnTo>
                  <a:pt x="368" y="555"/>
                </a:lnTo>
                <a:lnTo>
                  <a:pt x="351" y="584"/>
                </a:lnTo>
                <a:lnTo>
                  <a:pt x="332" y="613"/>
                </a:lnTo>
                <a:lnTo>
                  <a:pt x="311" y="643"/>
                </a:lnTo>
                <a:lnTo>
                  <a:pt x="291" y="676"/>
                </a:lnTo>
                <a:lnTo>
                  <a:pt x="268" y="709"/>
                </a:lnTo>
                <a:lnTo>
                  <a:pt x="247" y="743"/>
                </a:lnTo>
                <a:lnTo>
                  <a:pt x="224" y="778"/>
                </a:lnTo>
                <a:lnTo>
                  <a:pt x="201" y="814"/>
                </a:lnTo>
                <a:lnTo>
                  <a:pt x="176" y="853"/>
                </a:lnTo>
                <a:lnTo>
                  <a:pt x="151" y="891"/>
                </a:lnTo>
                <a:lnTo>
                  <a:pt x="124" y="931"/>
                </a:lnTo>
                <a:lnTo>
                  <a:pt x="63" y="947"/>
                </a:lnTo>
                <a:lnTo>
                  <a:pt x="0" y="960"/>
                </a:lnTo>
                <a:lnTo>
                  <a:pt x="23" y="918"/>
                </a:lnTo>
                <a:lnTo>
                  <a:pt x="46" y="876"/>
                </a:lnTo>
                <a:lnTo>
                  <a:pt x="67" y="835"/>
                </a:lnTo>
                <a:lnTo>
                  <a:pt x="86" y="797"/>
                </a:lnTo>
                <a:lnTo>
                  <a:pt x="107" y="757"/>
                </a:lnTo>
                <a:lnTo>
                  <a:pt x="126" y="720"/>
                </a:lnTo>
                <a:lnTo>
                  <a:pt x="144" y="682"/>
                </a:lnTo>
                <a:lnTo>
                  <a:pt x="161" y="645"/>
                </a:lnTo>
                <a:lnTo>
                  <a:pt x="178" y="611"/>
                </a:lnTo>
                <a:lnTo>
                  <a:pt x="195" y="574"/>
                </a:lnTo>
                <a:lnTo>
                  <a:pt x="209" y="542"/>
                </a:lnTo>
                <a:lnTo>
                  <a:pt x="224" y="509"/>
                </a:lnTo>
                <a:lnTo>
                  <a:pt x="238" y="476"/>
                </a:lnTo>
                <a:lnTo>
                  <a:pt x="251" y="444"/>
                </a:lnTo>
                <a:lnTo>
                  <a:pt x="263" y="415"/>
                </a:lnTo>
                <a:lnTo>
                  <a:pt x="274" y="384"/>
                </a:lnTo>
                <a:lnTo>
                  <a:pt x="284" y="357"/>
                </a:lnTo>
                <a:lnTo>
                  <a:pt x="291" y="331"/>
                </a:lnTo>
                <a:lnTo>
                  <a:pt x="299" y="306"/>
                </a:lnTo>
                <a:lnTo>
                  <a:pt x="307" y="281"/>
                </a:lnTo>
                <a:lnTo>
                  <a:pt x="313" y="259"/>
                </a:lnTo>
                <a:lnTo>
                  <a:pt x="318" y="238"/>
                </a:lnTo>
                <a:lnTo>
                  <a:pt x="322" y="219"/>
                </a:lnTo>
                <a:lnTo>
                  <a:pt x="326" y="202"/>
                </a:lnTo>
                <a:lnTo>
                  <a:pt x="328" y="187"/>
                </a:lnTo>
                <a:lnTo>
                  <a:pt x="328" y="171"/>
                </a:lnTo>
                <a:lnTo>
                  <a:pt x="330" y="156"/>
                </a:lnTo>
                <a:lnTo>
                  <a:pt x="328" y="144"/>
                </a:lnTo>
                <a:lnTo>
                  <a:pt x="328" y="133"/>
                </a:lnTo>
                <a:lnTo>
                  <a:pt x="326" y="121"/>
                </a:lnTo>
                <a:lnTo>
                  <a:pt x="322" y="112"/>
                </a:lnTo>
                <a:lnTo>
                  <a:pt x="318" y="104"/>
                </a:lnTo>
                <a:lnTo>
                  <a:pt x="314" y="96"/>
                </a:lnTo>
                <a:lnTo>
                  <a:pt x="311" y="89"/>
                </a:lnTo>
                <a:lnTo>
                  <a:pt x="305" y="75"/>
                </a:lnTo>
                <a:lnTo>
                  <a:pt x="303" y="62"/>
                </a:lnTo>
                <a:lnTo>
                  <a:pt x="301" y="52"/>
                </a:lnTo>
                <a:lnTo>
                  <a:pt x="299" y="41"/>
                </a:lnTo>
                <a:lnTo>
                  <a:pt x="301" y="33"/>
                </a:lnTo>
                <a:lnTo>
                  <a:pt x="303" y="25"/>
                </a:lnTo>
                <a:lnTo>
                  <a:pt x="307" y="2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Freeform 212"/>
          <p:cNvSpPr/>
          <p:nvPr/>
        </p:nvSpPr>
        <p:spPr>
          <a:xfrm>
            <a:off x="6585120" y="2965320"/>
            <a:ext cx="255240" cy="379440"/>
          </a:xfrm>
          <a:custGeom>
            <a:avLst/>
            <a:gdLst/>
            <a:ahLst/>
            <a:rect l="l" t="t" r="r" b="b"/>
            <a:pathLst>
              <a:path w="322" h="478">
                <a:moveTo>
                  <a:pt x="244" y="104"/>
                </a:moveTo>
                <a:lnTo>
                  <a:pt x="251" y="111"/>
                </a:lnTo>
                <a:lnTo>
                  <a:pt x="259" y="121"/>
                </a:lnTo>
                <a:lnTo>
                  <a:pt x="267" y="129"/>
                </a:lnTo>
                <a:lnTo>
                  <a:pt x="272" y="138"/>
                </a:lnTo>
                <a:lnTo>
                  <a:pt x="278" y="148"/>
                </a:lnTo>
                <a:lnTo>
                  <a:pt x="284" y="159"/>
                </a:lnTo>
                <a:lnTo>
                  <a:pt x="290" y="169"/>
                </a:lnTo>
                <a:lnTo>
                  <a:pt x="296" y="181"/>
                </a:lnTo>
                <a:lnTo>
                  <a:pt x="299" y="194"/>
                </a:lnTo>
                <a:lnTo>
                  <a:pt x="303" y="206"/>
                </a:lnTo>
                <a:lnTo>
                  <a:pt x="307" y="219"/>
                </a:lnTo>
                <a:lnTo>
                  <a:pt x="311" y="234"/>
                </a:lnTo>
                <a:lnTo>
                  <a:pt x="315" y="250"/>
                </a:lnTo>
                <a:lnTo>
                  <a:pt x="317" y="265"/>
                </a:lnTo>
                <a:lnTo>
                  <a:pt x="320" y="282"/>
                </a:lnTo>
                <a:lnTo>
                  <a:pt x="322" y="300"/>
                </a:lnTo>
                <a:lnTo>
                  <a:pt x="322" y="319"/>
                </a:lnTo>
                <a:lnTo>
                  <a:pt x="322" y="334"/>
                </a:lnTo>
                <a:lnTo>
                  <a:pt x="320" y="351"/>
                </a:lnTo>
                <a:lnTo>
                  <a:pt x="320" y="365"/>
                </a:lnTo>
                <a:lnTo>
                  <a:pt x="319" y="380"/>
                </a:lnTo>
                <a:lnTo>
                  <a:pt x="319" y="392"/>
                </a:lnTo>
                <a:lnTo>
                  <a:pt x="317" y="405"/>
                </a:lnTo>
                <a:lnTo>
                  <a:pt x="315" y="415"/>
                </a:lnTo>
                <a:lnTo>
                  <a:pt x="311" y="426"/>
                </a:lnTo>
                <a:lnTo>
                  <a:pt x="309" y="434"/>
                </a:lnTo>
                <a:lnTo>
                  <a:pt x="307" y="444"/>
                </a:lnTo>
                <a:lnTo>
                  <a:pt x="303" y="449"/>
                </a:lnTo>
                <a:lnTo>
                  <a:pt x="299" y="455"/>
                </a:lnTo>
                <a:lnTo>
                  <a:pt x="296" y="461"/>
                </a:lnTo>
                <a:lnTo>
                  <a:pt x="292" y="465"/>
                </a:lnTo>
                <a:lnTo>
                  <a:pt x="288" y="469"/>
                </a:lnTo>
                <a:lnTo>
                  <a:pt x="284" y="472"/>
                </a:lnTo>
                <a:lnTo>
                  <a:pt x="278" y="476"/>
                </a:lnTo>
                <a:lnTo>
                  <a:pt x="272" y="478"/>
                </a:lnTo>
                <a:lnTo>
                  <a:pt x="267" y="478"/>
                </a:lnTo>
                <a:lnTo>
                  <a:pt x="261" y="478"/>
                </a:lnTo>
                <a:lnTo>
                  <a:pt x="253" y="476"/>
                </a:lnTo>
                <a:lnTo>
                  <a:pt x="246" y="472"/>
                </a:lnTo>
                <a:lnTo>
                  <a:pt x="238" y="467"/>
                </a:lnTo>
                <a:lnTo>
                  <a:pt x="230" y="461"/>
                </a:lnTo>
                <a:lnTo>
                  <a:pt x="221" y="451"/>
                </a:lnTo>
                <a:lnTo>
                  <a:pt x="213" y="442"/>
                </a:lnTo>
                <a:lnTo>
                  <a:pt x="203" y="432"/>
                </a:lnTo>
                <a:lnTo>
                  <a:pt x="194" y="419"/>
                </a:lnTo>
                <a:lnTo>
                  <a:pt x="184" y="403"/>
                </a:lnTo>
                <a:lnTo>
                  <a:pt x="173" y="388"/>
                </a:lnTo>
                <a:lnTo>
                  <a:pt x="163" y="371"/>
                </a:lnTo>
                <a:lnTo>
                  <a:pt x="152" y="351"/>
                </a:lnTo>
                <a:lnTo>
                  <a:pt x="138" y="334"/>
                </a:lnTo>
                <a:lnTo>
                  <a:pt x="127" y="317"/>
                </a:lnTo>
                <a:lnTo>
                  <a:pt x="117" y="302"/>
                </a:lnTo>
                <a:lnTo>
                  <a:pt x="105" y="284"/>
                </a:lnTo>
                <a:lnTo>
                  <a:pt x="96" y="269"/>
                </a:lnTo>
                <a:lnTo>
                  <a:pt x="86" y="255"/>
                </a:lnTo>
                <a:lnTo>
                  <a:pt x="79" y="240"/>
                </a:lnTo>
                <a:lnTo>
                  <a:pt x="69" y="227"/>
                </a:lnTo>
                <a:lnTo>
                  <a:pt x="61" y="211"/>
                </a:lnTo>
                <a:lnTo>
                  <a:pt x="54" y="198"/>
                </a:lnTo>
                <a:lnTo>
                  <a:pt x="48" y="184"/>
                </a:lnTo>
                <a:lnTo>
                  <a:pt x="42" y="171"/>
                </a:lnTo>
                <a:lnTo>
                  <a:pt x="36" y="158"/>
                </a:lnTo>
                <a:lnTo>
                  <a:pt x="31" y="144"/>
                </a:lnTo>
                <a:lnTo>
                  <a:pt x="27" y="133"/>
                </a:lnTo>
                <a:lnTo>
                  <a:pt x="23" y="119"/>
                </a:lnTo>
                <a:lnTo>
                  <a:pt x="19" y="108"/>
                </a:lnTo>
                <a:lnTo>
                  <a:pt x="15" y="96"/>
                </a:lnTo>
                <a:lnTo>
                  <a:pt x="11" y="85"/>
                </a:lnTo>
                <a:lnTo>
                  <a:pt x="10" y="75"/>
                </a:lnTo>
                <a:lnTo>
                  <a:pt x="6" y="65"/>
                </a:lnTo>
                <a:lnTo>
                  <a:pt x="4" y="56"/>
                </a:lnTo>
                <a:lnTo>
                  <a:pt x="2" y="48"/>
                </a:lnTo>
                <a:lnTo>
                  <a:pt x="2" y="40"/>
                </a:lnTo>
                <a:lnTo>
                  <a:pt x="0" y="33"/>
                </a:lnTo>
                <a:lnTo>
                  <a:pt x="0" y="27"/>
                </a:lnTo>
                <a:lnTo>
                  <a:pt x="0" y="21"/>
                </a:lnTo>
                <a:lnTo>
                  <a:pt x="0" y="16"/>
                </a:lnTo>
                <a:lnTo>
                  <a:pt x="0" y="12"/>
                </a:lnTo>
                <a:lnTo>
                  <a:pt x="2" y="8"/>
                </a:lnTo>
                <a:lnTo>
                  <a:pt x="4" y="6"/>
                </a:lnTo>
                <a:lnTo>
                  <a:pt x="6" y="4"/>
                </a:lnTo>
                <a:lnTo>
                  <a:pt x="8" y="2"/>
                </a:lnTo>
                <a:lnTo>
                  <a:pt x="11" y="0"/>
                </a:lnTo>
                <a:lnTo>
                  <a:pt x="15" y="0"/>
                </a:lnTo>
                <a:lnTo>
                  <a:pt x="19" y="0"/>
                </a:lnTo>
                <a:lnTo>
                  <a:pt x="23" y="0"/>
                </a:lnTo>
                <a:lnTo>
                  <a:pt x="27" y="0"/>
                </a:lnTo>
                <a:lnTo>
                  <a:pt x="33" y="2"/>
                </a:lnTo>
                <a:lnTo>
                  <a:pt x="38" y="4"/>
                </a:lnTo>
                <a:lnTo>
                  <a:pt x="44" y="6"/>
                </a:lnTo>
                <a:lnTo>
                  <a:pt x="50" y="8"/>
                </a:lnTo>
                <a:lnTo>
                  <a:pt x="57" y="10"/>
                </a:lnTo>
                <a:lnTo>
                  <a:pt x="67" y="12"/>
                </a:lnTo>
                <a:lnTo>
                  <a:pt x="75" y="14"/>
                </a:lnTo>
                <a:lnTo>
                  <a:pt x="84" y="17"/>
                </a:lnTo>
                <a:lnTo>
                  <a:pt x="96" y="19"/>
                </a:lnTo>
                <a:lnTo>
                  <a:pt x="115" y="25"/>
                </a:lnTo>
                <a:lnTo>
                  <a:pt x="136" y="33"/>
                </a:lnTo>
                <a:lnTo>
                  <a:pt x="155" y="40"/>
                </a:lnTo>
                <a:lnTo>
                  <a:pt x="173" y="50"/>
                </a:lnTo>
                <a:lnTo>
                  <a:pt x="192" y="62"/>
                </a:lnTo>
                <a:lnTo>
                  <a:pt x="209" y="75"/>
                </a:lnTo>
                <a:lnTo>
                  <a:pt x="226" y="88"/>
                </a:lnTo>
                <a:lnTo>
                  <a:pt x="244" y="10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Freeform 213"/>
          <p:cNvSpPr/>
          <p:nvPr/>
        </p:nvSpPr>
        <p:spPr>
          <a:xfrm>
            <a:off x="5683320" y="3137040"/>
            <a:ext cx="787320" cy="233280"/>
          </a:xfrm>
          <a:custGeom>
            <a:avLst/>
            <a:gdLst/>
            <a:ahLst/>
            <a:rect l="l" t="t" r="r" b="b"/>
            <a:pathLst>
              <a:path w="992" h="296">
                <a:moveTo>
                  <a:pt x="71" y="182"/>
                </a:moveTo>
                <a:lnTo>
                  <a:pt x="80" y="182"/>
                </a:lnTo>
                <a:lnTo>
                  <a:pt x="92" y="182"/>
                </a:lnTo>
                <a:lnTo>
                  <a:pt x="105" y="181"/>
                </a:lnTo>
                <a:lnTo>
                  <a:pt x="121" y="179"/>
                </a:lnTo>
                <a:lnTo>
                  <a:pt x="136" y="175"/>
                </a:lnTo>
                <a:lnTo>
                  <a:pt x="155" y="171"/>
                </a:lnTo>
                <a:lnTo>
                  <a:pt x="176" y="167"/>
                </a:lnTo>
                <a:lnTo>
                  <a:pt x="199" y="161"/>
                </a:lnTo>
                <a:lnTo>
                  <a:pt x="222" y="154"/>
                </a:lnTo>
                <a:lnTo>
                  <a:pt x="249" y="148"/>
                </a:lnTo>
                <a:lnTo>
                  <a:pt x="278" y="140"/>
                </a:lnTo>
                <a:lnTo>
                  <a:pt x="307" y="131"/>
                </a:lnTo>
                <a:lnTo>
                  <a:pt x="339" y="121"/>
                </a:lnTo>
                <a:lnTo>
                  <a:pt x="374" y="110"/>
                </a:lnTo>
                <a:lnTo>
                  <a:pt x="408" y="98"/>
                </a:lnTo>
                <a:lnTo>
                  <a:pt x="447" y="85"/>
                </a:lnTo>
                <a:lnTo>
                  <a:pt x="464" y="81"/>
                </a:lnTo>
                <a:lnTo>
                  <a:pt x="483" y="75"/>
                </a:lnTo>
                <a:lnTo>
                  <a:pt x="501" y="69"/>
                </a:lnTo>
                <a:lnTo>
                  <a:pt x="518" y="65"/>
                </a:lnTo>
                <a:lnTo>
                  <a:pt x="535" y="60"/>
                </a:lnTo>
                <a:lnTo>
                  <a:pt x="552" y="56"/>
                </a:lnTo>
                <a:lnTo>
                  <a:pt x="568" y="52"/>
                </a:lnTo>
                <a:lnTo>
                  <a:pt x="583" y="48"/>
                </a:lnTo>
                <a:lnTo>
                  <a:pt x="597" y="44"/>
                </a:lnTo>
                <a:lnTo>
                  <a:pt x="612" y="40"/>
                </a:lnTo>
                <a:lnTo>
                  <a:pt x="625" y="37"/>
                </a:lnTo>
                <a:lnTo>
                  <a:pt x="639" y="33"/>
                </a:lnTo>
                <a:lnTo>
                  <a:pt x="650" y="31"/>
                </a:lnTo>
                <a:lnTo>
                  <a:pt x="664" y="27"/>
                </a:lnTo>
                <a:lnTo>
                  <a:pt x="675" y="25"/>
                </a:lnTo>
                <a:lnTo>
                  <a:pt x="687" y="21"/>
                </a:lnTo>
                <a:lnTo>
                  <a:pt x="696" y="19"/>
                </a:lnTo>
                <a:lnTo>
                  <a:pt x="708" y="17"/>
                </a:lnTo>
                <a:lnTo>
                  <a:pt x="717" y="14"/>
                </a:lnTo>
                <a:lnTo>
                  <a:pt x="725" y="12"/>
                </a:lnTo>
                <a:lnTo>
                  <a:pt x="735" y="10"/>
                </a:lnTo>
                <a:lnTo>
                  <a:pt x="742" y="8"/>
                </a:lnTo>
                <a:lnTo>
                  <a:pt x="750" y="8"/>
                </a:lnTo>
                <a:lnTo>
                  <a:pt x="758" y="6"/>
                </a:lnTo>
                <a:lnTo>
                  <a:pt x="765" y="4"/>
                </a:lnTo>
                <a:lnTo>
                  <a:pt x="771" y="4"/>
                </a:lnTo>
                <a:lnTo>
                  <a:pt x="777" y="2"/>
                </a:lnTo>
                <a:lnTo>
                  <a:pt x="783" y="2"/>
                </a:lnTo>
                <a:lnTo>
                  <a:pt x="790" y="0"/>
                </a:lnTo>
                <a:lnTo>
                  <a:pt x="798" y="0"/>
                </a:lnTo>
                <a:lnTo>
                  <a:pt x="812" y="2"/>
                </a:lnTo>
                <a:lnTo>
                  <a:pt x="825" y="4"/>
                </a:lnTo>
                <a:lnTo>
                  <a:pt x="838" y="6"/>
                </a:lnTo>
                <a:lnTo>
                  <a:pt x="852" y="10"/>
                </a:lnTo>
                <a:lnTo>
                  <a:pt x="867" y="14"/>
                </a:lnTo>
                <a:lnTo>
                  <a:pt x="884" y="19"/>
                </a:lnTo>
                <a:lnTo>
                  <a:pt x="904" y="23"/>
                </a:lnTo>
                <a:lnTo>
                  <a:pt x="913" y="27"/>
                </a:lnTo>
                <a:lnTo>
                  <a:pt x="925" y="29"/>
                </a:lnTo>
                <a:lnTo>
                  <a:pt x="932" y="35"/>
                </a:lnTo>
                <a:lnTo>
                  <a:pt x="940" y="40"/>
                </a:lnTo>
                <a:lnTo>
                  <a:pt x="948" y="44"/>
                </a:lnTo>
                <a:lnTo>
                  <a:pt x="954" y="50"/>
                </a:lnTo>
                <a:lnTo>
                  <a:pt x="959" y="56"/>
                </a:lnTo>
                <a:lnTo>
                  <a:pt x="965" y="62"/>
                </a:lnTo>
                <a:lnTo>
                  <a:pt x="971" y="67"/>
                </a:lnTo>
                <a:lnTo>
                  <a:pt x="975" y="73"/>
                </a:lnTo>
                <a:lnTo>
                  <a:pt x="979" y="79"/>
                </a:lnTo>
                <a:lnTo>
                  <a:pt x="982" y="85"/>
                </a:lnTo>
                <a:lnTo>
                  <a:pt x="986" y="92"/>
                </a:lnTo>
                <a:lnTo>
                  <a:pt x="988" y="98"/>
                </a:lnTo>
                <a:lnTo>
                  <a:pt x="990" y="106"/>
                </a:lnTo>
                <a:lnTo>
                  <a:pt x="990" y="111"/>
                </a:lnTo>
                <a:lnTo>
                  <a:pt x="992" y="119"/>
                </a:lnTo>
                <a:lnTo>
                  <a:pt x="992" y="127"/>
                </a:lnTo>
                <a:lnTo>
                  <a:pt x="992" y="135"/>
                </a:lnTo>
                <a:lnTo>
                  <a:pt x="992" y="142"/>
                </a:lnTo>
                <a:lnTo>
                  <a:pt x="990" y="148"/>
                </a:lnTo>
                <a:lnTo>
                  <a:pt x="990" y="154"/>
                </a:lnTo>
                <a:lnTo>
                  <a:pt x="988" y="159"/>
                </a:lnTo>
                <a:lnTo>
                  <a:pt x="988" y="163"/>
                </a:lnTo>
                <a:lnTo>
                  <a:pt x="986" y="167"/>
                </a:lnTo>
                <a:lnTo>
                  <a:pt x="984" y="171"/>
                </a:lnTo>
                <a:lnTo>
                  <a:pt x="982" y="173"/>
                </a:lnTo>
                <a:lnTo>
                  <a:pt x="980" y="177"/>
                </a:lnTo>
                <a:lnTo>
                  <a:pt x="977" y="181"/>
                </a:lnTo>
                <a:lnTo>
                  <a:pt x="973" y="182"/>
                </a:lnTo>
                <a:lnTo>
                  <a:pt x="969" y="182"/>
                </a:lnTo>
                <a:lnTo>
                  <a:pt x="965" y="182"/>
                </a:lnTo>
                <a:lnTo>
                  <a:pt x="959" y="182"/>
                </a:lnTo>
                <a:lnTo>
                  <a:pt x="954" y="182"/>
                </a:lnTo>
                <a:lnTo>
                  <a:pt x="946" y="182"/>
                </a:lnTo>
                <a:lnTo>
                  <a:pt x="938" y="182"/>
                </a:lnTo>
                <a:lnTo>
                  <a:pt x="931" y="184"/>
                </a:lnTo>
                <a:lnTo>
                  <a:pt x="921" y="184"/>
                </a:lnTo>
                <a:lnTo>
                  <a:pt x="911" y="184"/>
                </a:lnTo>
                <a:lnTo>
                  <a:pt x="900" y="186"/>
                </a:lnTo>
                <a:lnTo>
                  <a:pt x="888" y="186"/>
                </a:lnTo>
                <a:lnTo>
                  <a:pt x="877" y="188"/>
                </a:lnTo>
                <a:lnTo>
                  <a:pt x="865" y="188"/>
                </a:lnTo>
                <a:lnTo>
                  <a:pt x="852" y="190"/>
                </a:lnTo>
                <a:lnTo>
                  <a:pt x="838" y="192"/>
                </a:lnTo>
                <a:lnTo>
                  <a:pt x="825" y="194"/>
                </a:lnTo>
                <a:lnTo>
                  <a:pt x="810" y="198"/>
                </a:lnTo>
                <a:lnTo>
                  <a:pt x="794" y="200"/>
                </a:lnTo>
                <a:lnTo>
                  <a:pt x="779" y="204"/>
                </a:lnTo>
                <a:lnTo>
                  <a:pt x="762" y="207"/>
                </a:lnTo>
                <a:lnTo>
                  <a:pt x="742" y="209"/>
                </a:lnTo>
                <a:lnTo>
                  <a:pt x="723" y="213"/>
                </a:lnTo>
                <a:lnTo>
                  <a:pt x="702" y="217"/>
                </a:lnTo>
                <a:lnTo>
                  <a:pt x="681" y="221"/>
                </a:lnTo>
                <a:lnTo>
                  <a:pt x="660" y="225"/>
                </a:lnTo>
                <a:lnTo>
                  <a:pt x="637" y="229"/>
                </a:lnTo>
                <a:lnTo>
                  <a:pt x="614" y="232"/>
                </a:lnTo>
                <a:lnTo>
                  <a:pt x="589" y="236"/>
                </a:lnTo>
                <a:lnTo>
                  <a:pt x="564" y="240"/>
                </a:lnTo>
                <a:lnTo>
                  <a:pt x="539" y="244"/>
                </a:lnTo>
                <a:lnTo>
                  <a:pt x="512" y="248"/>
                </a:lnTo>
                <a:lnTo>
                  <a:pt x="485" y="250"/>
                </a:lnTo>
                <a:lnTo>
                  <a:pt x="458" y="254"/>
                </a:lnTo>
                <a:lnTo>
                  <a:pt x="430" y="257"/>
                </a:lnTo>
                <a:lnTo>
                  <a:pt x="405" y="263"/>
                </a:lnTo>
                <a:lnTo>
                  <a:pt x="380" y="267"/>
                </a:lnTo>
                <a:lnTo>
                  <a:pt x="357" y="273"/>
                </a:lnTo>
                <a:lnTo>
                  <a:pt x="335" y="277"/>
                </a:lnTo>
                <a:lnTo>
                  <a:pt x="314" y="278"/>
                </a:lnTo>
                <a:lnTo>
                  <a:pt x="295" y="282"/>
                </a:lnTo>
                <a:lnTo>
                  <a:pt x="278" y="284"/>
                </a:lnTo>
                <a:lnTo>
                  <a:pt x="263" y="288"/>
                </a:lnTo>
                <a:lnTo>
                  <a:pt x="247" y="290"/>
                </a:lnTo>
                <a:lnTo>
                  <a:pt x="234" y="292"/>
                </a:lnTo>
                <a:lnTo>
                  <a:pt x="220" y="292"/>
                </a:lnTo>
                <a:lnTo>
                  <a:pt x="209" y="294"/>
                </a:lnTo>
                <a:lnTo>
                  <a:pt x="199" y="294"/>
                </a:lnTo>
                <a:lnTo>
                  <a:pt x="192" y="296"/>
                </a:lnTo>
                <a:lnTo>
                  <a:pt x="184" y="296"/>
                </a:lnTo>
                <a:lnTo>
                  <a:pt x="172" y="294"/>
                </a:lnTo>
                <a:lnTo>
                  <a:pt x="159" y="292"/>
                </a:lnTo>
                <a:lnTo>
                  <a:pt x="145" y="290"/>
                </a:lnTo>
                <a:lnTo>
                  <a:pt x="132" y="284"/>
                </a:lnTo>
                <a:lnTo>
                  <a:pt x="117" y="278"/>
                </a:lnTo>
                <a:lnTo>
                  <a:pt x="103" y="273"/>
                </a:lnTo>
                <a:lnTo>
                  <a:pt x="88" y="263"/>
                </a:lnTo>
                <a:lnTo>
                  <a:pt x="71" y="254"/>
                </a:lnTo>
                <a:lnTo>
                  <a:pt x="61" y="250"/>
                </a:lnTo>
                <a:lnTo>
                  <a:pt x="51" y="248"/>
                </a:lnTo>
                <a:lnTo>
                  <a:pt x="42" y="244"/>
                </a:lnTo>
                <a:lnTo>
                  <a:pt x="34" y="240"/>
                </a:lnTo>
                <a:lnTo>
                  <a:pt x="26" y="236"/>
                </a:lnTo>
                <a:lnTo>
                  <a:pt x="21" y="232"/>
                </a:lnTo>
                <a:lnTo>
                  <a:pt x="15" y="229"/>
                </a:lnTo>
                <a:lnTo>
                  <a:pt x="11" y="225"/>
                </a:lnTo>
                <a:lnTo>
                  <a:pt x="7" y="221"/>
                </a:lnTo>
                <a:lnTo>
                  <a:pt x="3" y="217"/>
                </a:lnTo>
                <a:lnTo>
                  <a:pt x="2" y="213"/>
                </a:lnTo>
                <a:lnTo>
                  <a:pt x="0" y="209"/>
                </a:lnTo>
                <a:lnTo>
                  <a:pt x="0" y="207"/>
                </a:lnTo>
                <a:lnTo>
                  <a:pt x="0" y="204"/>
                </a:lnTo>
                <a:lnTo>
                  <a:pt x="2" y="200"/>
                </a:lnTo>
                <a:lnTo>
                  <a:pt x="3" y="198"/>
                </a:lnTo>
                <a:lnTo>
                  <a:pt x="3" y="194"/>
                </a:lnTo>
                <a:lnTo>
                  <a:pt x="3" y="192"/>
                </a:lnTo>
                <a:lnTo>
                  <a:pt x="5" y="190"/>
                </a:lnTo>
                <a:lnTo>
                  <a:pt x="7" y="188"/>
                </a:lnTo>
                <a:lnTo>
                  <a:pt x="9" y="188"/>
                </a:lnTo>
                <a:lnTo>
                  <a:pt x="11" y="186"/>
                </a:lnTo>
                <a:lnTo>
                  <a:pt x="15" y="186"/>
                </a:lnTo>
                <a:lnTo>
                  <a:pt x="19" y="184"/>
                </a:lnTo>
                <a:lnTo>
                  <a:pt x="25" y="184"/>
                </a:lnTo>
                <a:lnTo>
                  <a:pt x="28" y="184"/>
                </a:lnTo>
                <a:lnTo>
                  <a:pt x="34" y="182"/>
                </a:lnTo>
                <a:lnTo>
                  <a:pt x="40" y="182"/>
                </a:lnTo>
                <a:lnTo>
                  <a:pt x="48" y="182"/>
                </a:lnTo>
                <a:lnTo>
                  <a:pt x="55" y="182"/>
                </a:lnTo>
                <a:lnTo>
                  <a:pt x="63" y="182"/>
                </a:lnTo>
                <a:lnTo>
                  <a:pt x="71" y="18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Freeform 214"/>
          <p:cNvSpPr/>
          <p:nvPr/>
        </p:nvSpPr>
        <p:spPr>
          <a:xfrm>
            <a:off x="5421240" y="3303720"/>
            <a:ext cx="735120" cy="1471320"/>
          </a:xfrm>
          <a:custGeom>
            <a:avLst/>
            <a:gdLst/>
            <a:ahLst/>
            <a:rect l="l" t="t" r="r" b="b"/>
            <a:pathLst>
              <a:path w="928" h="1854">
                <a:moveTo>
                  <a:pt x="651" y="436"/>
                </a:moveTo>
                <a:lnTo>
                  <a:pt x="668" y="377"/>
                </a:lnTo>
                <a:lnTo>
                  <a:pt x="684" y="319"/>
                </a:lnTo>
                <a:lnTo>
                  <a:pt x="697" y="263"/>
                </a:lnTo>
                <a:lnTo>
                  <a:pt x="711" y="208"/>
                </a:lnTo>
                <a:lnTo>
                  <a:pt x="720" y="152"/>
                </a:lnTo>
                <a:lnTo>
                  <a:pt x="726" y="125"/>
                </a:lnTo>
                <a:lnTo>
                  <a:pt x="730" y="100"/>
                </a:lnTo>
                <a:lnTo>
                  <a:pt x="734" y="73"/>
                </a:lnTo>
                <a:lnTo>
                  <a:pt x="738" y="48"/>
                </a:lnTo>
                <a:lnTo>
                  <a:pt x="741" y="25"/>
                </a:lnTo>
                <a:lnTo>
                  <a:pt x="743" y="0"/>
                </a:lnTo>
                <a:lnTo>
                  <a:pt x="762" y="8"/>
                </a:lnTo>
                <a:lnTo>
                  <a:pt x="784" y="16"/>
                </a:lnTo>
                <a:lnTo>
                  <a:pt x="801" y="23"/>
                </a:lnTo>
                <a:lnTo>
                  <a:pt x="818" y="29"/>
                </a:lnTo>
                <a:lnTo>
                  <a:pt x="833" y="37"/>
                </a:lnTo>
                <a:lnTo>
                  <a:pt x="847" y="43"/>
                </a:lnTo>
                <a:lnTo>
                  <a:pt x="860" y="48"/>
                </a:lnTo>
                <a:lnTo>
                  <a:pt x="872" y="54"/>
                </a:lnTo>
                <a:lnTo>
                  <a:pt x="883" y="60"/>
                </a:lnTo>
                <a:lnTo>
                  <a:pt x="893" y="66"/>
                </a:lnTo>
                <a:lnTo>
                  <a:pt x="901" y="71"/>
                </a:lnTo>
                <a:lnTo>
                  <a:pt x="908" y="77"/>
                </a:lnTo>
                <a:lnTo>
                  <a:pt x="914" y="83"/>
                </a:lnTo>
                <a:lnTo>
                  <a:pt x="918" y="89"/>
                </a:lnTo>
                <a:lnTo>
                  <a:pt x="922" y="92"/>
                </a:lnTo>
                <a:lnTo>
                  <a:pt x="926" y="98"/>
                </a:lnTo>
                <a:lnTo>
                  <a:pt x="926" y="106"/>
                </a:lnTo>
                <a:lnTo>
                  <a:pt x="928" y="115"/>
                </a:lnTo>
                <a:lnTo>
                  <a:pt x="928" y="127"/>
                </a:lnTo>
                <a:lnTo>
                  <a:pt x="928" y="138"/>
                </a:lnTo>
                <a:lnTo>
                  <a:pt x="926" y="150"/>
                </a:lnTo>
                <a:lnTo>
                  <a:pt x="924" y="163"/>
                </a:lnTo>
                <a:lnTo>
                  <a:pt x="922" y="177"/>
                </a:lnTo>
                <a:lnTo>
                  <a:pt x="918" y="192"/>
                </a:lnTo>
                <a:lnTo>
                  <a:pt x="916" y="210"/>
                </a:lnTo>
                <a:lnTo>
                  <a:pt x="910" y="227"/>
                </a:lnTo>
                <a:lnTo>
                  <a:pt x="906" y="244"/>
                </a:lnTo>
                <a:lnTo>
                  <a:pt x="903" y="263"/>
                </a:lnTo>
                <a:lnTo>
                  <a:pt x="897" y="284"/>
                </a:lnTo>
                <a:lnTo>
                  <a:pt x="891" y="305"/>
                </a:lnTo>
                <a:lnTo>
                  <a:pt x="885" y="329"/>
                </a:lnTo>
                <a:lnTo>
                  <a:pt x="880" y="352"/>
                </a:lnTo>
                <a:lnTo>
                  <a:pt x="876" y="363"/>
                </a:lnTo>
                <a:lnTo>
                  <a:pt x="870" y="377"/>
                </a:lnTo>
                <a:lnTo>
                  <a:pt x="866" y="390"/>
                </a:lnTo>
                <a:lnTo>
                  <a:pt x="860" y="403"/>
                </a:lnTo>
                <a:lnTo>
                  <a:pt x="855" y="417"/>
                </a:lnTo>
                <a:lnTo>
                  <a:pt x="849" y="432"/>
                </a:lnTo>
                <a:lnTo>
                  <a:pt x="843" y="448"/>
                </a:lnTo>
                <a:lnTo>
                  <a:pt x="835" y="463"/>
                </a:lnTo>
                <a:lnTo>
                  <a:pt x="830" y="480"/>
                </a:lnTo>
                <a:lnTo>
                  <a:pt x="822" y="497"/>
                </a:lnTo>
                <a:lnTo>
                  <a:pt x="816" y="515"/>
                </a:lnTo>
                <a:lnTo>
                  <a:pt x="809" y="534"/>
                </a:lnTo>
                <a:lnTo>
                  <a:pt x="801" y="553"/>
                </a:lnTo>
                <a:lnTo>
                  <a:pt x="791" y="572"/>
                </a:lnTo>
                <a:lnTo>
                  <a:pt x="784" y="591"/>
                </a:lnTo>
                <a:lnTo>
                  <a:pt x="774" y="613"/>
                </a:lnTo>
                <a:lnTo>
                  <a:pt x="766" y="632"/>
                </a:lnTo>
                <a:lnTo>
                  <a:pt x="757" y="655"/>
                </a:lnTo>
                <a:lnTo>
                  <a:pt x="747" y="676"/>
                </a:lnTo>
                <a:lnTo>
                  <a:pt x="738" y="699"/>
                </a:lnTo>
                <a:lnTo>
                  <a:pt x="726" y="722"/>
                </a:lnTo>
                <a:lnTo>
                  <a:pt x="716" y="745"/>
                </a:lnTo>
                <a:lnTo>
                  <a:pt x="705" y="770"/>
                </a:lnTo>
                <a:lnTo>
                  <a:pt x="695" y="795"/>
                </a:lnTo>
                <a:lnTo>
                  <a:pt x="684" y="820"/>
                </a:lnTo>
                <a:lnTo>
                  <a:pt x="672" y="845"/>
                </a:lnTo>
                <a:lnTo>
                  <a:pt x="659" y="872"/>
                </a:lnTo>
                <a:lnTo>
                  <a:pt x="647" y="899"/>
                </a:lnTo>
                <a:lnTo>
                  <a:pt x="634" y="925"/>
                </a:lnTo>
                <a:lnTo>
                  <a:pt x="622" y="952"/>
                </a:lnTo>
                <a:lnTo>
                  <a:pt x="609" y="981"/>
                </a:lnTo>
                <a:lnTo>
                  <a:pt x="595" y="1010"/>
                </a:lnTo>
                <a:lnTo>
                  <a:pt x="582" y="1039"/>
                </a:lnTo>
                <a:lnTo>
                  <a:pt x="569" y="1068"/>
                </a:lnTo>
                <a:lnTo>
                  <a:pt x="555" y="1094"/>
                </a:lnTo>
                <a:lnTo>
                  <a:pt x="542" y="1121"/>
                </a:lnTo>
                <a:lnTo>
                  <a:pt x="526" y="1148"/>
                </a:lnTo>
                <a:lnTo>
                  <a:pt x="515" y="1175"/>
                </a:lnTo>
                <a:lnTo>
                  <a:pt x="501" y="1200"/>
                </a:lnTo>
                <a:lnTo>
                  <a:pt x="488" y="1225"/>
                </a:lnTo>
                <a:lnTo>
                  <a:pt x="475" y="1250"/>
                </a:lnTo>
                <a:lnTo>
                  <a:pt x="461" y="1275"/>
                </a:lnTo>
                <a:lnTo>
                  <a:pt x="448" y="1298"/>
                </a:lnTo>
                <a:lnTo>
                  <a:pt x="434" y="1321"/>
                </a:lnTo>
                <a:lnTo>
                  <a:pt x="423" y="1344"/>
                </a:lnTo>
                <a:lnTo>
                  <a:pt x="409" y="1365"/>
                </a:lnTo>
                <a:lnTo>
                  <a:pt x="396" y="1386"/>
                </a:lnTo>
                <a:lnTo>
                  <a:pt x="384" y="1407"/>
                </a:lnTo>
                <a:lnTo>
                  <a:pt x="371" y="1428"/>
                </a:lnTo>
                <a:lnTo>
                  <a:pt x="357" y="1448"/>
                </a:lnTo>
                <a:lnTo>
                  <a:pt x="346" y="1467"/>
                </a:lnTo>
                <a:lnTo>
                  <a:pt x="334" y="1486"/>
                </a:lnTo>
                <a:lnTo>
                  <a:pt x="321" y="1505"/>
                </a:lnTo>
                <a:lnTo>
                  <a:pt x="309" y="1522"/>
                </a:lnTo>
                <a:lnTo>
                  <a:pt x="298" y="1540"/>
                </a:lnTo>
                <a:lnTo>
                  <a:pt x="286" y="1557"/>
                </a:lnTo>
                <a:lnTo>
                  <a:pt x="275" y="1572"/>
                </a:lnTo>
                <a:lnTo>
                  <a:pt x="263" y="1588"/>
                </a:lnTo>
                <a:lnTo>
                  <a:pt x="252" y="1603"/>
                </a:lnTo>
                <a:lnTo>
                  <a:pt x="240" y="1616"/>
                </a:lnTo>
                <a:lnTo>
                  <a:pt x="229" y="1632"/>
                </a:lnTo>
                <a:lnTo>
                  <a:pt x="217" y="1643"/>
                </a:lnTo>
                <a:lnTo>
                  <a:pt x="208" y="1657"/>
                </a:lnTo>
                <a:lnTo>
                  <a:pt x="196" y="1670"/>
                </a:lnTo>
                <a:lnTo>
                  <a:pt x="185" y="1682"/>
                </a:lnTo>
                <a:lnTo>
                  <a:pt x="175" y="1695"/>
                </a:lnTo>
                <a:lnTo>
                  <a:pt x="164" y="1707"/>
                </a:lnTo>
                <a:lnTo>
                  <a:pt x="154" y="1718"/>
                </a:lnTo>
                <a:lnTo>
                  <a:pt x="144" y="1730"/>
                </a:lnTo>
                <a:lnTo>
                  <a:pt x="135" y="1739"/>
                </a:lnTo>
                <a:lnTo>
                  <a:pt x="125" y="1751"/>
                </a:lnTo>
                <a:lnTo>
                  <a:pt x="116" y="1759"/>
                </a:lnTo>
                <a:lnTo>
                  <a:pt x="108" y="1768"/>
                </a:lnTo>
                <a:lnTo>
                  <a:pt x="100" y="1778"/>
                </a:lnTo>
                <a:lnTo>
                  <a:pt x="85" y="1793"/>
                </a:lnTo>
                <a:lnTo>
                  <a:pt x="70" y="1807"/>
                </a:lnTo>
                <a:lnTo>
                  <a:pt x="58" y="1818"/>
                </a:lnTo>
                <a:lnTo>
                  <a:pt x="47" y="1830"/>
                </a:lnTo>
                <a:lnTo>
                  <a:pt x="37" y="1837"/>
                </a:lnTo>
                <a:lnTo>
                  <a:pt x="29" y="1845"/>
                </a:lnTo>
                <a:lnTo>
                  <a:pt x="22" y="1849"/>
                </a:lnTo>
                <a:lnTo>
                  <a:pt x="16" y="1853"/>
                </a:lnTo>
                <a:lnTo>
                  <a:pt x="10" y="1854"/>
                </a:lnTo>
                <a:lnTo>
                  <a:pt x="6" y="1853"/>
                </a:lnTo>
                <a:lnTo>
                  <a:pt x="4" y="1853"/>
                </a:lnTo>
                <a:lnTo>
                  <a:pt x="2" y="1849"/>
                </a:lnTo>
                <a:lnTo>
                  <a:pt x="0" y="1845"/>
                </a:lnTo>
                <a:lnTo>
                  <a:pt x="2" y="1839"/>
                </a:lnTo>
                <a:lnTo>
                  <a:pt x="2" y="1833"/>
                </a:lnTo>
                <a:lnTo>
                  <a:pt x="6" y="1826"/>
                </a:lnTo>
                <a:lnTo>
                  <a:pt x="8" y="1818"/>
                </a:lnTo>
                <a:lnTo>
                  <a:pt x="14" y="1808"/>
                </a:lnTo>
                <a:lnTo>
                  <a:pt x="18" y="1799"/>
                </a:lnTo>
                <a:lnTo>
                  <a:pt x="23" y="1787"/>
                </a:lnTo>
                <a:lnTo>
                  <a:pt x="31" y="1776"/>
                </a:lnTo>
                <a:lnTo>
                  <a:pt x="37" y="1762"/>
                </a:lnTo>
                <a:lnTo>
                  <a:pt x="45" y="1749"/>
                </a:lnTo>
                <a:lnTo>
                  <a:pt x="54" y="1734"/>
                </a:lnTo>
                <a:lnTo>
                  <a:pt x="64" y="1718"/>
                </a:lnTo>
                <a:lnTo>
                  <a:pt x="73" y="1701"/>
                </a:lnTo>
                <a:lnTo>
                  <a:pt x="83" y="1684"/>
                </a:lnTo>
                <a:lnTo>
                  <a:pt x="89" y="1674"/>
                </a:lnTo>
                <a:lnTo>
                  <a:pt x="94" y="1664"/>
                </a:lnTo>
                <a:lnTo>
                  <a:pt x="100" y="1653"/>
                </a:lnTo>
                <a:lnTo>
                  <a:pt x="106" y="1641"/>
                </a:lnTo>
                <a:lnTo>
                  <a:pt x="114" y="1630"/>
                </a:lnTo>
                <a:lnTo>
                  <a:pt x="119" y="1618"/>
                </a:lnTo>
                <a:lnTo>
                  <a:pt x="127" y="1607"/>
                </a:lnTo>
                <a:lnTo>
                  <a:pt x="135" y="1593"/>
                </a:lnTo>
                <a:lnTo>
                  <a:pt x="142" y="1580"/>
                </a:lnTo>
                <a:lnTo>
                  <a:pt x="150" y="1567"/>
                </a:lnTo>
                <a:lnTo>
                  <a:pt x="158" y="1551"/>
                </a:lnTo>
                <a:lnTo>
                  <a:pt x="166" y="1536"/>
                </a:lnTo>
                <a:lnTo>
                  <a:pt x="175" y="1521"/>
                </a:lnTo>
                <a:lnTo>
                  <a:pt x="183" y="1503"/>
                </a:lnTo>
                <a:lnTo>
                  <a:pt x="192" y="1488"/>
                </a:lnTo>
                <a:lnTo>
                  <a:pt x="202" y="1469"/>
                </a:lnTo>
                <a:lnTo>
                  <a:pt x="212" y="1451"/>
                </a:lnTo>
                <a:lnTo>
                  <a:pt x="221" y="1432"/>
                </a:lnTo>
                <a:lnTo>
                  <a:pt x="231" y="1413"/>
                </a:lnTo>
                <a:lnTo>
                  <a:pt x="240" y="1394"/>
                </a:lnTo>
                <a:lnTo>
                  <a:pt x="252" y="1375"/>
                </a:lnTo>
                <a:lnTo>
                  <a:pt x="261" y="1354"/>
                </a:lnTo>
                <a:lnTo>
                  <a:pt x="273" y="1330"/>
                </a:lnTo>
                <a:lnTo>
                  <a:pt x="285" y="1309"/>
                </a:lnTo>
                <a:lnTo>
                  <a:pt x="294" y="1286"/>
                </a:lnTo>
                <a:lnTo>
                  <a:pt x="306" y="1263"/>
                </a:lnTo>
                <a:lnTo>
                  <a:pt x="317" y="1238"/>
                </a:lnTo>
                <a:lnTo>
                  <a:pt x="331" y="1213"/>
                </a:lnTo>
                <a:lnTo>
                  <a:pt x="342" y="1188"/>
                </a:lnTo>
                <a:lnTo>
                  <a:pt x="354" y="1162"/>
                </a:lnTo>
                <a:lnTo>
                  <a:pt x="367" y="1137"/>
                </a:lnTo>
                <a:lnTo>
                  <a:pt x="379" y="1108"/>
                </a:lnTo>
                <a:lnTo>
                  <a:pt x="404" y="1054"/>
                </a:lnTo>
                <a:lnTo>
                  <a:pt x="427" y="1000"/>
                </a:lnTo>
                <a:lnTo>
                  <a:pt x="450" y="950"/>
                </a:lnTo>
                <a:lnTo>
                  <a:pt x="473" y="901"/>
                </a:lnTo>
                <a:lnTo>
                  <a:pt x="492" y="853"/>
                </a:lnTo>
                <a:lnTo>
                  <a:pt x="513" y="806"/>
                </a:lnTo>
                <a:lnTo>
                  <a:pt x="530" y="762"/>
                </a:lnTo>
                <a:lnTo>
                  <a:pt x="549" y="718"/>
                </a:lnTo>
                <a:lnTo>
                  <a:pt x="565" y="678"/>
                </a:lnTo>
                <a:lnTo>
                  <a:pt x="582" y="638"/>
                </a:lnTo>
                <a:lnTo>
                  <a:pt x="595" y="601"/>
                </a:lnTo>
                <a:lnTo>
                  <a:pt x="609" y="565"/>
                </a:lnTo>
                <a:lnTo>
                  <a:pt x="622" y="530"/>
                </a:lnTo>
                <a:lnTo>
                  <a:pt x="632" y="496"/>
                </a:lnTo>
                <a:lnTo>
                  <a:pt x="643" y="465"/>
                </a:lnTo>
                <a:lnTo>
                  <a:pt x="651" y="43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Freeform 215"/>
          <p:cNvSpPr/>
          <p:nvPr/>
        </p:nvSpPr>
        <p:spPr>
          <a:xfrm>
            <a:off x="5921280" y="4417920"/>
            <a:ext cx="360360" cy="211320"/>
          </a:xfrm>
          <a:custGeom>
            <a:avLst/>
            <a:gdLst/>
            <a:ahLst/>
            <a:rect l="l" t="t" r="r" b="b"/>
            <a:pathLst>
              <a:path w="455" h="267">
                <a:moveTo>
                  <a:pt x="397" y="0"/>
                </a:moveTo>
                <a:lnTo>
                  <a:pt x="409" y="16"/>
                </a:lnTo>
                <a:lnTo>
                  <a:pt x="420" y="31"/>
                </a:lnTo>
                <a:lnTo>
                  <a:pt x="430" y="46"/>
                </a:lnTo>
                <a:lnTo>
                  <a:pt x="438" y="62"/>
                </a:lnTo>
                <a:lnTo>
                  <a:pt x="445" y="75"/>
                </a:lnTo>
                <a:lnTo>
                  <a:pt x="449" y="89"/>
                </a:lnTo>
                <a:lnTo>
                  <a:pt x="451" y="94"/>
                </a:lnTo>
                <a:lnTo>
                  <a:pt x="453" y="100"/>
                </a:lnTo>
                <a:lnTo>
                  <a:pt x="453" y="106"/>
                </a:lnTo>
                <a:lnTo>
                  <a:pt x="455" y="112"/>
                </a:lnTo>
                <a:lnTo>
                  <a:pt x="453" y="114"/>
                </a:lnTo>
                <a:lnTo>
                  <a:pt x="453" y="118"/>
                </a:lnTo>
                <a:lnTo>
                  <a:pt x="449" y="121"/>
                </a:lnTo>
                <a:lnTo>
                  <a:pt x="447" y="123"/>
                </a:lnTo>
                <a:lnTo>
                  <a:pt x="443" y="127"/>
                </a:lnTo>
                <a:lnTo>
                  <a:pt x="438" y="131"/>
                </a:lnTo>
                <a:lnTo>
                  <a:pt x="432" y="135"/>
                </a:lnTo>
                <a:lnTo>
                  <a:pt x="426" y="139"/>
                </a:lnTo>
                <a:lnTo>
                  <a:pt x="418" y="142"/>
                </a:lnTo>
                <a:lnTo>
                  <a:pt x="411" y="146"/>
                </a:lnTo>
                <a:lnTo>
                  <a:pt x="401" y="150"/>
                </a:lnTo>
                <a:lnTo>
                  <a:pt x="392" y="154"/>
                </a:lnTo>
                <a:lnTo>
                  <a:pt x="380" y="158"/>
                </a:lnTo>
                <a:lnTo>
                  <a:pt x="369" y="164"/>
                </a:lnTo>
                <a:lnTo>
                  <a:pt x="355" y="167"/>
                </a:lnTo>
                <a:lnTo>
                  <a:pt x="342" y="173"/>
                </a:lnTo>
                <a:lnTo>
                  <a:pt x="326" y="177"/>
                </a:lnTo>
                <a:lnTo>
                  <a:pt x="311" y="183"/>
                </a:lnTo>
                <a:lnTo>
                  <a:pt x="296" y="189"/>
                </a:lnTo>
                <a:lnTo>
                  <a:pt x="278" y="194"/>
                </a:lnTo>
                <a:lnTo>
                  <a:pt x="259" y="198"/>
                </a:lnTo>
                <a:lnTo>
                  <a:pt x="240" y="204"/>
                </a:lnTo>
                <a:lnTo>
                  <a:pt x="221" y="210"/>
                </a:lnTo>
                <a:lnTo>
                  <a:pt x="200" y="215"/>
                </a:lnTo>
                <a:lnTo>
                  <a:pt x="179" y="221"/>
                </a:lnTo>
                <a:lnTo>
                  <a:pt x="156" y="229"/>
                </a:lnTo>
                <a:lnTo>
                  <a:pt x="131" y="235"/>
                </a:lnTo>
                <a:lnTo>
                  <a:pt x="108" y="240"/>
                </a:lnTo>
                <a:lnTo>
                  <a:pt x="81" y="246"/>
                </a:lnTo>
                <a:lnTo>
                  <a:pt x="56" y="254"/>
                </a:lnTo>
                <a:lnTo>
                  <a:pt x="27" y="260"/>
                </a:lnTo>
                <a:lnTo>
                  <a:pt x="0" y="267"/>
                </a:lnTo>
                <a:lnTo>
                  <a:pt x="0" y="154"/>
                </a:lnTo>
                <a:lnTo>
                  <a:pt x="17" y="146"/>
                </a:lnTo>
                <a:lnTo>
                  <a:pt x="35" y="139"/>
                </a:lnTo>
                <a:lnTo>
                  <a:pt x="56" y="131"/>
                </a:lnTo>
                <a:lnTo>
                  <a:pt x="75" y="121"/>
                </a:lnTo>
                <a:lnTo>
                  <a:pt x="98" y="114"/>
                </a:lnTo>
                <a:lnTo>
                  <a:pt x="121" y="106"/>
                </a:lnTo>
                <a:lnTo>
                  <a:pt x="144" y="96"/>
                </a:lnTo>
                <a:lnTo>
                  <a:pt x="169" y="87"/>
                </a:lnTo>
                <a:lnTo>
                  <a:pt x="194" y="79"/>
                </a:lnTo>
                <a:lnTo>
                  <a:pt x="221" y="70"/>
                </a:lnTo>
                <a:lnTo>
                  <a:pt x="248" y="58"/>
                </a:lnTo>
                <a:lnTo>
                  <a:pt x="276" y="48"/>
                </a:lnTo>
                <a:lnTo>
                  <a:pt x="305" y="37"/>
                </a:lnTo>
                <a:lnTo>
                  <a:pt x="334" y="25"/>
                </a:lnTo>
                <a:lnTo>
                  <a:pt x="365" y="14"/>
                </a:lnTo>
                <a:lnTo>
                  <a:pt x="397"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Freeform 216"/>
          <p:cNvSpPr/>
          <p:nvPr/>
        </p:nvSpPr>
        <p:spPr>
          <a:xfrm>
            <a:off x="5788080" y="3994200"/>
            <a:ext cx="158760" cy="876240"/>
          </a:xfrm>
          <a:custGeom>
            <a:avLst/>
            <a:gdLst/>
            <a:ahLst/>
            <a:rect l="l" t="t" r="r" b="b"/>
            <a:pathLst>
              <a:path w="200" h="1104">
                <a:moveTo>
                  <a:pt x="8" y="98"/>
                </a:moveTo>
                <a:lnTo>
                  <a:pt x="4" y="82"/>
                </a:lnTo>
                <a:lnTo>
                  <a:pt x="0" y="69"/>
                </a:lnTo>
                <a:lnTo>
                  <a:pt x="0" y="57"/>
                </a:lnTo>
                <a:lnTo>
                  <a:pt x="0" y="46"/>
                </a:lnTo>
                <a:lnTo>
                  <a:pt x="2" y="36"/>
                </a:lnTo>
                <a:lnTo>
                  <a:pt x="6" y="27"/>
                </a:lnTo>
                <a:lnTo>
                  <a:pt x="8" y="23"/>
                </a:lnTo>
                <a:lnTo>
                  <a:pt x="12" y="19"/>
                </a:lnTo>
                <a:lnTo>
                  <a:pt x="13" y="17"/>
                </a:lnTo>
                <a:lnTo>
                  <a:pt x="19" y="13"/>
                </a:lnTo>
                <a:lnTo>
                  <a:pt x="21" y="11"/>
                </a:lnTo>
                <a:lnTo>
                  <a:pt x="25" y="9"/>
                </a:lnTo>
                <a:lnTo>
                  <a:pt x="29" y="7"/>
                </a:lnTo>
                <a:lnTo>
                  <a:pt x="35" y="6"/>
                </a:lnTo>
                <a:lnTo>
                  <a:pt x="42" y="4"/>
                </a:lnTo>
                <a:lnTo>
                  <a:pt x="48" y="4"/>
                </a:lnTo>
                <a:lnTo>
                  <a:pt x="58" y="2"/>
                </a:lnTo>
                <a:lnTo>
                  <a:pt x="67" y="2"/>
                </a:lnTo>
                <a:lnTo>
                  <a:pt x="77" y="2"/>
                </a:lnTo>
                <a:lnTo>
                  <a:pt x="86" y="0"/>
                </a:lnTo>
                <a:lnTo>
                  <a:pt x="98" y="0"/>
                </a:lnTo>
                <a:lnTo>
                  <a:pt x="111" y="0"/>
                </a:lnTo>
                <a:lnTo>
                  <a:pt x="123" y="0"/>
                </a:lnTo>
                <a:lnTo>
                  <a:pt x="138" y="0"/>
                </a:lnTo>
                <a:lnTo>
                  <a:pt x="152" y="0"/>
                </a:lnTo>
                <a:lnTo>
                  <a:pt x="167" y="0"/>
                </a:lnTo>
                <a:lnTo>
                  <a:pt x="169" y="2"/>
                </a:lnTo>
                <a:lnTo>
                  <a:pt x="171" y="6"/>
                </a:lnTo>
                <a:lnTo>
                  <a:pt x="171" y="9"/>
                </a:lnTo>
                <a:lnTo>
                  <a:pt x="173" y="11"/>
                </a:lnTo>
                <a:lnTo>
                  <a:pt x="175" y="15"/>
                </a:lnTo>
                <a:lnTo>
                  <a:pt x="177" y="19"/>
                </a:lnTo>
                <a:lnTo>
                  <a:pt x="179" y="25"/>
                </a:lnTo>
                <a:lnTo>
                  <a:pt x="180" y="29"/>
                </a:lnTo>
                <a:lnTo>
                  <a:pt x="182" y="34"/>
                </a:lnTo>
                <a:lnTo>
                  <a:pt x="184" y="42"/>
                </a:lnTo>
                <a:lnTo>
                  <a:pt x="186" y="48"/>
                </a:lnTo>
                <a:lnTo>
                  <a:pt x="188" y="55"/>
                </a:lnTo>
                <a:lnTo>
                  <a:pt x="190" y="61"/>
                </a:lnTo>
                <a:lnTo>
                  <a:pt x="190" y="65"/>
                </a:lnTo>
                <a:lnTo>
                  <a:pt x="192" y="71"/>
                </a:lnTo>
                <a:lnTo>
                  <a:pt x="192" y="79"/>
                </a:lnTo>
                <a:lnTo>
                  <a:pt x="194" y="84"/>
                </a:lnTo>
                <a:lnTo>
                  <a:pt x="194" y="94"/>
                </a:lnTo>
                <a:lnTo>
                  <a:pt x="194" y="102"/>
                </a:lnTo>
                <a:lnTo>
                  <a:pt x="196" y="111"/>
                </a:lnTo>
                <a:lnTo>
                  <a:pt x="196" y="123"/>
                </a:lnTo>
                <a:lnTo>
                  <a:pt x="196" y="134"/>
                </a:lnTo>
                <a:lnTo>
                  <a:pt x="198" y="146"/>
                </a:lnTo>
                <a:lnTo>
                  <a:pt x="198" y="157"/>
                </a:lnTo>
                <a:lnTo>
                  <a:pt x="198" y="173"/>
                </a:lnTo>
                <a:lnTo>
                  <a:pt x="198" y="186"/>
                </a:lnTo>
                <a:lnTo>
                  <a:pt x="198" y="201"/>
                </a:lnTo>
                <a:lnTo>
                  <a:pt x="200" y="217"/>
                </a:lnTo>
                <a:lnTo>
                  <a:pt x="200" y="234"/>
                </a:lnTo>
                <a:lnTo>
                  <a:pt x="200" y="251"/>
                </a:lnTo>
                <a:lnTo>
                  <a:pt x="200" y="270"/>
                </a:lnTo>
                <a:lnTo>
                  <a:pt x="200" y="290"/>
                </a:lnTo>
                <a:lnTo>
                  <a:pt x="200" y="309"/>
                </a:lnTo>
                <a:lnTo>
                  <a:pt x="200" y="330"/>
                </a:lnTo>
                <a:lnTo>
                  <a:pt x="200" y="353"/>
                </a:lnTo>
                <a:lnTo>
                  <a:pt x="200" y="376"/>
                </a:lnTo>
                <a:lnTo>
                  <a:pt x="200" y="399"/>
                </a:lnTo>
                <a:lnTo>
                  <a:pt x="200" y="424"/>
                </a:lnTo>
                <a:lnTo>
                  <a:pt x="200" y="449"/>
                </a:lnTo>
                <a:lnTo>
                  <a:pt x="200" y="476"/>
                </a:lnTo>
                <a:lnTo>
                  <a:pt x="200" y="503"/>
                </a:lnTo>
                <a:lnTo>
                  <a:pt x="200" y="530"/>
                </a:lnTo>
                <a:lnTo>
                  <a:pt x="200" y="558"/>
                </a:lnTo>
                <a:lnTo>
                  <a:pt x="200" y="589"/>
                </a:lnTo>
                <a:lnTo>
                  <a:pt x="200" y="618"/>
                </a:lnTo>
                <a:lnTo>
                  <a:pt x="200" y="647"/>
                </a:lnTo>
                <a:lnTo>
                  <a:pt x="200" y="675"/>
                </a:lnTo>
                <a:lnTo>
                  <a:pt x="200" y="702"/>
                </a:lnTo>
                <a:lnTo>
                  <a:pt x="200" y="729"/>
                </a:lnTo>
                <a:lnTo>
                  <a:pt x="200" y="754"/>
                </a:lnTo>
                <a:lnTo>
                  <a:pt x="200" y="779"/>
                </a:lnTo>
                <a:lnTo>
                  <a:pt x="200" y="802"/>
                </a:lnTo>
                <a:lnTo>
                  <a:pt x="200" y="825"/>
                </a:lnTo>
                <a:lnTo>
                  <a:pt x="200" y="846"/>
                </a:lnTo>
                <a:lnTo>
                  <a:pt x="200" y="867"/>
                </a:lnTo>
                <a:lnTo>
                  <a:pt x="200" y="887"/>
                </a:lnTo>
                <a:lnTo>
                  <a:pt x="200" y="906"/>
                </a:lnTo>
                <a:lnTo>
                  <a:pt x="200" y="923"/>
                </a:lnTo>
                <a:lnTo>
                  <a:pt x="200" y="940"/>
                </a:lnTo>
                <a:lnTo>
                  <a:pt x="200" y="958"/>
                </a:lnTo>
                <a:lnTo>
                  <a:pt x="198" y="973"/>
                </a:lnTo>
                <a:lnTo>
                  <a:pt x="198" y="986"/>
                </a:lnTo>
                <a:lnTo>
                  <a:pt x="198" y="1000"/>
                </a:lnTo>
                <a:lnTo>
                  <a:pt x="198" y="1013"/>
                </a:lnTo>
                <a:lnTo>
                  <a:pt x="198" y="1025"/>
                </a:lnTo>
                <a:lnTo>
                  <a:pt x="196" y="1036"/>
                </a:lnTo>
                <a:lnTo>
                  <a:pt x="196" y="1046"/>
                </a:lnTo>
                <a:lnTo>
                  <a:pt x="196" y="1054"/>
                </a:lnTo>
                <a:lnTo>
                  <a:pt x="194" y="1063"/>
                </a:lnTo>
                <a:lnTo>
                  <a:pt x="194" y="1069"/>
                </a:lnTo>
                <a:lnTo>
                  <a:pt x="194" y="1077"/>
                </a:lnTo>
                <a:lnTo>
                  <a:pt x="192" y="1080"/>
                </a:lnTo>
                <a:lnTo>
                  <a:pt x="192" y="1086"/>
                </a:lnTo>
                <a:lnTo>
                  <a:pt x="190" y="1090"/>
                </a:lnTo>
                <a:lnTo>
                  <a:pt x="190" y="1092"/>
                </a:lnTo>
                <a:lnTo>
                  <a:pt x="188" y="1094"/>
                </a:lnTo>
                <a:lnTo>
                  <a:pt x="184" y="1098"/>
                </a:lnTo>
                <a:lnTo>
                  <a:pt x="179" y="1102"/>
                </a:lnTo>
                <a:lnTo>
                  <a:pt x="171" y="1104"/>
                </a:lnTo>
                <a:lnTo>
                  <a:pt x="167" y="1104"/>
                </a:lnTo>
                <a:lnTo>
                  <a:pt x="163" y="1104"/>
                </a:lnTo>
                <a:lnTo>
                  <a:pt x="159" y="1102"/>
                </a:lnTo>
                <a:lnTo>
                  <a:pt x="154" y="1100"/>
                </a:lnTo>
                <a:lnTo>
                  <a:pt x="150" y="1098"/>
                </a:lnTo>
                <a:lnTo>
                  <a:pt x="144" y="1096"/>
                </a:lnTo>
                <a:lnTo>
                  <a:pt x="138" y="1092"/>
                </a:lnTo>
                <a:lnTo>
                  <a:pt x="132" y="1088"/>
                </a:lnTo>
                <a:lnTo>
                  <a:pt x="127" y="1084"/>
                </a:lnTo>
                <a:lnTo>
                  <a:pt x="121" y="1080"/>
                </a:lnTo>
                <a:lnTo>
                  <a:pt x="115" y="1077"/>
                </a:lnTo>
                <a:lnTo>
                  <a:pt x="109" y="1071"/>
                </a:lnTo>
                <a:lnTo>
                  <a:pt x="104" y="1065"/>
                </a:lnTo>
                <a:lnTo>
                  <a:pt x="100" y="1056"/>
                </a:lnTo>
                <a:lnTo>
                  <a:pt x="94" y="1046"/>
                </a:lnTo>
                <a:lnTo>
                  <a:pt x="90" y="1034"/>
                </a:lnTo>
                <a:lnTo>
                  <a:pt x="88" y="1021"/>
                </a:lnTo>
                <a:lnTo>
                  <a:pt x="84" y="1006"/>
                </a:lnTo>
                <a:lnTo>
                  <a:pt x="83" y="990"/>
                </a:lnTo>
                <a:lnTo>
                  <a:pt x="81" y="971"/>
                </a:lnTo>
                <a:lnTo>
                  <a:pt x="79" y="952"/>
                </a:lnTo>
                <a:lnTo>
                  <a:pt x="77" y="931"/>
                </a:lnTo>
                <a:lnTo>
                  <a:pt x="77" y="906"/>
                </a:lnTo>
                <a:lnTo>
                  <a:pt x="75" y="881"/>
                </a:lnTo>
                <a:lnTo>
                  <a:pt x="75" y="856"/>
                </a:lnTo>
                <a:lnTo>
                  <a:pt x="75" y="827"/>
                </a:lnTo>
                <a:lnTo>
                  <a:pt x="75" y="770"/>
                </a:lnTo>
                <a:lnTo>
                  <a:pt x="75" y="714"/>
                </a:lnTo>
                <a:lnTo>
                  <a:pt x="75" y="658"/>
                </a:lnTo>
                <a:lnTo>
                  <a:pt x="73" y="603"/>
                </a:lnTo>
                <a:lnTo>
                  <a:pt x="73" y="547"/>
                </a:lnTo>
                <a:lnTo>
                  <a:pt x="69" y="491"/>
                </a:lnTo>
                <a:lnTo>
                  <a:pt x="67" y="436"/>
                </a:lnTo>
                <a:lnTo>
                  <a:pt x="63" y="378"/>
                </a:lnTo>
                <a:lnTo>
                  <a:pt x="61" y="353"/>
                </a:lnTo>
                <a:lnTo>
                  <a:pt x="60" y="328"/>
                </a:lnTo>
                <a:lnTo>
                  <a:pt x="56" y="305"/>
                </a:lnTo>
                <a:lnTo>
                  <a:pt x="54" y="282"/>
                </a:lnTo>
                <a:lnTo>
                  <a:pt x="50" y="259"/>
                </a:lnTo>
                <a:lnTo>
                  <a:pt x="46" y="240"/>
                </a:lnTo>
                <a:lnTo>
                  <a:pt x="42" y="221"/>
                </a:lnTo>
                <a:lnTo>
                  <a:pt x="40" y="201"/>
                </a:lnTo>
                <a:lnTo>
                  <a:pt x="36" y="184"/>
                </a:lnTo>
                <a:lnTo>
                  <a:pt x="33" y="169"/>
                </a:lnTo>
                <a:lnTo>
                  <a:pt x="27" y="153"/>
                </a:lnTo>
                <a:lnTo>
                  <a:pt x="23" y="140"/>
                </a:lnTo>
                <a:lnTo>
                  <a:pt x="19" y="128"/>
                </a:lnTo>
                <a:lnTo>
                  <a:pt x="15" y="117"/>
                </a:lnTo>
                <a:lnTo>
                  <a:pt x="12" y="107"/>
                </a:lnTo>
                <a:lnTo>
                  <a:pt x="8" y="9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Freeform 217"/>
          <p:cNvSpPr/>
          <p:nvPr/>
        </p:nvSpPr>
        <p:spPr>
          <a:xfrm>
            <a:off x="5892840" y="3882960"/>
            <a:ext cx="460440" cy="601560"/>
          </a:xfrm>
          <a:custGeom>
            <a:avLst/>
            <a:gdLst/>
            <a:ahLst/>
            <a:rect l="l" t="t" r="r" b="b"/>
            <a:pathLst>
              <a:path w="580" h="758">
                <a:moveTo>
                  <a:pt x="398" y="743"/>
                </a:moveTo>
                <a:lnTo>
                  <a:pt x="340" y="750"/>
                </a:lnTo>
                <a:lnTo>
                  <a:pt x="285" y="758"/>
                </a:lnTo>
                <a:lnTo>
                  <a:pt x="292" y="710"/>
                </a:lnTo>
                <a:lnTo>
                  <a:pt x="300" y="662"/>
                </a:lnTo>
                <a:lnTo>
                  <a:pt x="306" y="616"/>
                </a:lnTo>
                <a:lnTo>
                  <a:pt x="311" y="570"/>
                </a:lnTo>
                <a:lnTo>
                  <a:pt x="317" y="524"/>
                </a:lnTo>
                <a:lnTo>
                  <a:pt x="321" y="480"/>
                </a:lnTo>
                <a:lnTo>
                  <a:pt x="325" y="435"/>
                </a:lnTo>
                <a:lnTo>
                  <a:pt x="331" y="393"/>
                </a:lnTo>
                <a:lnTo>
                  <a:pt x="333" y="372"/>
                </a:lnTo>
                <a:lnTo>
                  <a:pt x="333" y="353"/>
                </a:lnTo>
                <a:lnTo>
                  <a:pt x="334" y="334"/>
                </a:lnTo>
                <a:lnTo>
                  <a:pt x="336" y="316"/>
                </a:lnTo>
                <a:lnTo>
                  <a:pt x="336" y="299"/>
                </a:lnTo>
                <a:lnTo>
                  <a:pt x="338" y="284"/>
                </a:lnTo>
                <a:lnTo>
                  <a:pt x="338" y="270"/>
                </a:lnTo>
                <a:lnTo>
                  <a:pt x="338" y="257"/>
                </a:lnTo>
                <a:lnTo>
                  <a:pt x="338" y="245"/>
                </a:lnTo>
                <a:lnTo>
                  <a:pt x="338" y="234"/>
                </a:lnTo>
                <a:lnTo>
                  <a:pt x="336" y="224"/>
                </a:lnTo>
                <a:lnTo>
                  <a:pt x="336" y="217"/>
                </a:lnTo>
                <a:lnTo>
                  <a:pt x="334" y="209"/>
                </a:lnTo>
                <a:lnTo>
                  <a:pt x="333" y="203"/>
                </a:lnTo>
                <a:lnTo>
                  <a:pt x="333" y="199"/>
                </a:lnTo>
                <a:lnTo>
                  <a:pt x="331" y="195"/>
                </a:lnTo>
                <a:lnTo>
                  <a:pt x="329" y="195"/>
                </a:lnTo>
                <a:lnTo>
                  <a:pt x="327" y="194"/>
                </a:lnTo>
                <a:lnTo>
                  <a:pt x="325" y="194"/>
                </a:lnTo>
                <a:lnTo>
                  <a:pt x="321" y="192"/>
                </a:lnTo>
                <a:lnTo>
                  <a:pt x="317" y="192"/>
                </a:lnTo>
                <a:lnTo>
                  <a:pt x="313" y="192"/>
                </a:lnTo>
                <a:lnTo>
                  <a:pt x="310" y="192"/>
                </a:lnTo>
                <a:lnTo>
                  <a:pt x="304" y="194"/>
                </a:lnTo>
                <a:lnTo>
                  <a:pt x="298" y="194"/>
                </a:lnTo>
                <a:lnTo>
                  <a:pt x="292" y="194"/>
                </a:lnTo>
                <a:lnTo>
                  <a:pt x="286" y="195"/>
                </a:lnTo>
                <a:lnTo>
                  <a:pt x="279" y="197"/>
                </a:lnTo>
                <a:lnTo>
                  <a:pt x="271" y="197"/>
                </a:lnTo>
                <a:lnTo>
                  <a:pt x="263" y="199"/>
                </a:lnTo>
                <a:lnTo>
                  <a:pt x="256" y="201"/>
                </a:lnTo>
                <a:lnTo>
                  <a:pt x="246" y="205"/>
                </a:lnTo>
                <a:lnTo>
                  <a:pt x="237" y="207"/>
                </a:lnTo>
                <a:lnTo>
                  <a:pt x="227" y="209"/>
                </a:lnTo>
                <a:lnTo>
                  <a:pt x="215" y="213"/>
                </a:lnTo>
                <a:lnTo>
                  <a:pt x="204" y="215"/>
                </a:lnTo>
                <a:lnTo>
                  <a:pt x="192" y="219"/>
                </a:lnTo>
                <a:lnTo>
                  <a:pt x="181" y="222"/>
                </a:lnTo>
                <a:lnTo>
                  <a:pt x="167" y="224"/>
                </a:lnTo>
                <a:lnTo>
                  <a:pt x="156" y="228"/>
                </a:lnTo>
                <a:lnTo>
                  <a:pt x="127" y="238"/>
                </a:lnTo>
                <a:lnTo>
                  <a:pt x="98" y="245"/>
                </a:lnTo>
                <a:lnTo>
                  <a:pt x="68" y="255"/>
                </a:lnTo>
                <a:lnTo>
                  <a:pt x="35" y="266"/>
                </a:lnTo>
                <a:lnTo>
                  <a:pt x="18" y="211"/>
                </a:lnTo>
                <a:lnTo>
                  <a:pt x="0" y="153"/>
                </a:lnTo>
                <a:lnTo>
                  <a:pt x="6" y="153"/>
                </a:lnTo>
                <a:lnTo>
                  <a:pt x="14" y="153"/>
                </a:lnTo>
                <a:lnTo>
                  <a:pt x="22" y="153"/>
                </a:lnTo>
                <a:lnTo>
                  <a:pt x="29" y="151"/>
                </a:lnTo>
                <a:lnTo>
                  <a:pt x="39" y="149"/>
                </a:lnTo>
                <a:lnTo>
                  <a:pt x="48" y="147"/>
                </a:lnTo>
                <a:lnTo>
                  <a:pt x="58" y="146"/>
                </a:lnTo>
                <a:lnTo>
                  <a:pt x="68" y="144"/>
                </a:lnTo>
                <a:lnTo>
                  <a:pt x="79" y="140"/>
                </a:lnTo>
                <a:lnTo>
                  <a:pt x="91" y="138"/>
                </a:lnTo>
                <a:lnTo>
                  <a:pt x="102" y="134"/>
                </a:lnTo>
                <a:lnTo>
                  <a:pt x="116" y="130"/>
                </a:lnTo>
                <a:lnTo>
                  <a:pt x="129" y="126"/>
                </a:lnTo>
                <a:lnTo>
                  <a:pt x="143" y="123"/>
                </a:lnTo>
                <a:lnTo>
                  <a:pt x="156" y="117"/>
                </a:lnTo>
                <a:lnTo>
                  <a:pt x="171" y="111"/>
                </a:lnTo>
                <a:lnTo>
                  <a:pt x="185" y="107"/>
                </a:lnTo>
                <a:lnTo>
                  <a:pt x="198" y="101"/>
                </a:lnTo>
                <a:lnTo>
                  <a:pt x="212" y="96"/>
                </a:lnTo>
                <a:lnTo>
                  <a:pt x="225" y="90"/>
                </a:lnTo>
                <a:lnTo>
                  <a:pt x="237" y="86"/>
                </a:lnTo>
                <a:lnTo>
                  <a:pt x="246" y="80"/>
                </a:lnTo>
                <a:lnTo>
                  <a:pt x="258" y="75"/>
                </a:lnTo>
                <a:lnTo>
                  <a:pt x="267" y="69"/>
                </a:lnTo>
                <a:lnTo>
                  <a:pt x="277" y="65"/>
                </a:lnTo>
                <a:lnTo>
                  <a:pt x="286" y="59"/>
                </a:lnTo>
                <a:lnTo>
                  <a:pt x="302" y="50"/>
                </a:lnTo>
                <a:lnTo>
                  <a:pt x="317" y="38"/>
                </a:lnTo>
                <a:lnTo>
                  <a:pt x="331" y="28"/>
                </a:lnTo>
                <a:lnTo>
                  <a:pt x="346" y="17"/>
                </a:lnTo>
                <a:lnTo>
                  <a:pt x="356" y="13"/>
                </a:lnTo>
                <a:lnTo>
                  <a:pt x="363" y="7"/>
                </a:lnTo>
                <a:lnTo>
                  <a:pt x="373" y="5"/>
                </a:lnTo>
                <a:lnTo>
                  <a:pt x="381" y="2"/>
                </a:lnTo>
                <a:lnTo>
                  <a:pt x="390" y="0"/>
                </a:lnTo>
                <a:lnTo>
                  <a:pt x="398" y="0"/>
                </a:lnTo>
                <a:lnTo>
                  <a:pt x="400" y="2"/>
                </a:lnTo>
                <a:lnTo>
                  <a:pt x="404" y="5"/>
                </a:lnTo>
                <a:lnTo>
                  <a:pt x="407" y="9"/>
                </a:lnTo>
                <a:lnTo>
                  <a:pt x="411" y="13"/>
                </a:lnTo>
                <a:lnTo>
                  <a:pt x="415" y="17"/>
                </a:lnTo>
                <a:lnTo>
                  <a:pt x="421" y="21"/>
                </a:lnTo>
                <a:lnTo>
                  <a:pt x="427" y="27"/>
                </a:lnTo>
                <a:lnTo>
                  <a:pt x="432" y="30"/>
                </a:lnTo>
                <a:lnTo>
                  <a:pt x="438" y="36"/>
                </a:lnTo>
                <a:lnTo>
                  <a:pt x="446" y="42"/>
                </a:lnTo>
                <a:lnTo>
                  <a:pt x="453" y="48"/>
                </a:lnTo>
                <a:lnTo>
                  <a:pt x="463" y="55"/>
                </a:lnTo>
                <a:lnTo>
                  <a:pt x="471" y="61"/>
                </a:lnTo>
                <a:lnTo>
                  <a:pt x="480" y="69"/>
                </a:lnTo>
                <a:lnTo>
                  <a:pt x="490" y="76"/>
                </a:lnTo>
                <a:lnTo>
                  <a:pt x="501" y="84"/>
                </a:lnTo>
                <a:lnTo>
                  <a:pt x="511" y="92"/>
                </a:lnTo>
                <a:lnTo>
                  <a:pt x="521" y="99"/>
                </a:lnTo>
                <a:lnTo>
                  <a:pt x="528" y="107"/>
                </a:lnTo>
                <a:lnTo>
                  <a:pt x="536" y="115"/>
                </a:lnTo>
                <a:lnTo>
                  <a:pt x="544" y="123"/>
                </a:lnTo>
                <a:lnTo>
                  <a:pt x="551" y="130"/>
                </a:lnTo>
                <a:lnTo>
                  <a:pt x="557" y="136"/>
                </a:lnTo>
                <a:lnTo>
                  <a:pt x="561" y="144"/>
                </a:lnTo>
                <a:lnTo>
                  <a:pt x="567" y="149"/>
                </a:lnTo>
                <a:lnTo>
                  <a:pt x="571" y="155"/>
                </a:lnTo>
                <a:lnTo>
                  <a:pt x="572" y="161"/>
                </a:lnTo>
                <a:lnTo>
                  <a:pt x="576" y="167"/>
                </a:lnTo>
                <a:lnTo>
                  <a:pt x="578" y="171"/>
                </a:lnTo>
                <a:lnTo>
                  <a:pt x="578" y="176"/>
                </a:lnTo>
                <a:lnTo>
                  <a:pt x="580" y="178"/>
                </a:lnTo>
                <a:lnTo>
                  <a:pt x="580" y="182"/>
                </a:lnTo>
                <a:lnTo>
                  <a:pt x="576" y="188"/>
                </a:lnTo>
                <a:lnTo>
                  <a:pt x="571" y="195"/>
                </a:lnTo>
                <a:lnTo>
                  <a:pt x="567" y="201"/>
                </a:lnTo>
                <a:lnTo>
                  <a:pt x="561" y="211"/>
                </a:lnTo>
                <a:lnTo>
                  <a:pt x="555" y="219"/>
                </a:lnTo>
                <a:lnTo>
                  <a:pt x="549" y="226"/>
                </a:lnTo>
                <a:lnTo>
                  <a:pt x="542" y="232"/>
                </a:lnTo>
                <a:lnTo>
                  <a:pt x="534" y="238"/>
                </a:lnTo>
                <a:lnTo>
                  <a:pt x="532" y="242"/>
                </a:lnTo>
                <a:lnTo>
                  <a:pt x="528" y="245"/>
                </a:lnTo>
                <a:lnTo>
                  <a:pt x="524" y="249"/>
                </a:lnTo>
                <a:lnTo>
                  <a:pt x="521" y="255"/>
                </a:lnTo>
                <a:lnTo>
                  <a:pt x="517" y="261"/>
                </a:lnTo>
                <a:lnTo>
                  <a:pt x="515" y="268"/>
                </a:lnTo>
                <a:lnTo>
                  <a:pt x="511" y="276"/>
                </a:lnTo>
                <a:lnTo>
                  <a:pt x="507" y="286"/>
                </a:lnTo>
                <a:lnTo>
                  <a:pt x="503" y="295"/>
                </a:lnTo>
                <a:lnTo>
                  <a:pt x="500" y="305"/>
                </a:lnTo>
                <a:lnTo>
                  <a:pt x="496" y="316"/>
                </a:lnTo>
                <a:lnTo>
                  <a:pt x="492" y="330"/>
                </a:lnTo>
                <a:lnTo>
                  <a:pt x="488" y="341"/>
                </a:lnTo>
                <a:lnTo>
                  <a:pt x="482" y="355"/>
                </a:lnTo>
                <a:lnTo>
                  <a:pt x="478" y="370"/>
                </a:lnTo>
                <a:lnTo>
                  <a:pt x="475" y="385"/>
                </a:lnTo>
                <a:lnTo>
                  <a:pt x="471" y="401"/>
                </a:lnTo>
                <a:lnTo>
                  <a:pt x="465" y="418"/>
                </a:lnTo>
                <a:lnTo>
                  <a:pt x="461" y="435"/>
                </a:lnTo>
                <a:lnTo>
                  <a:pt x="457" y="455"/>
                </a:lnTo>
                <a:lnTo>
                  <a:pt x="452" y="474"/>
                </a:lnTo>
                <a:lnTo>
                  <a:pt x="448" y="495"/>
                </a:lnTo>
                <a:lnTo>
                  <a:pt x="442" y="516"/>
                </a:lnTo>
                <a:lnTo>
                  <a:pt x="438" y="537"/>
                </a:lnTo>
                <a:lnTo>
                  <a:pt x="432" y="560"/>
                </a:lnTo>
                <a:lnTo>
                  <a:pt x="429" y="583"/>
                </a:lnTo>
                <a:lnTo>
                  <a:pt x="423" y="608"/>
                </a:lnTo>
                <a:lnTo>
                  <a:pt x="419" y="633"/>
                </a:lnTo>
                <a:lnTo>
                  <a:pt x="413" y="660"/>
                </a:lnTo>
                <a:lnTo>
                  <a:pt x="407" y="687"/>
                </a:lnTo>
                <a:lnTo>
                  <a:pt x="404" y="714"/>
                </a:lnTo>
                <a:lnTo>
                  <a:pt x="398" y="74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3"/>
                                        </p:tgtEl>
                                        <p:attrNameLst>
                                          <p:attrName>style.visibility</p:attrName>
                                        </p:attrNameLst>
                                      </p:cBhvr>
                                      <p:to>
                                        <p:strVal val="visible"/>
                                      </p:to>
                                    </p:set>
                                    <p:anim calcmode="lin" valueType="num">
                                      <p:cBhvr additive="base">
                                        <p:cTn id="167" dur="500" fill="hold"/>
                                        <p:tgtEl>
                                          <p:spTgt spid="123"/>
                                        </p:tgtEl>
                                        <p:attrNameLst>
                                          <p:attrName>ppt_x</p:attrName>
                                        </p:attrNameLst>
                                      </p:cBhvr>
                                      <p:tavLst>
                                        <p:tav tm="0">
                                          <p:val>
                                            <p:strVal val="0-#ppt_w/2"/>
                                          </p:val>
                                        </p:tav>
                                        <p:tav tm="100000">
                                          <p:val>
                                            <p:strVal val="#ppt_x"/>
                                          </p:val>
                                        </p:tav>
                                      </p:tavLst>
                                    </p:anim>
                                    <p:anim calcmode="lin" valueType="num">
                                      <p:cBhvr additive="base">
                                        <p:cTn id="16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3"/>
                                        </p:tgtEl>
                                        <p:attrNameLst>
                                          <p:attrName>style.visibility</p:attrName>
                                        </p:attrNameLst>
                                      </p:cBhvr>
                                      <p:to>
                                        <p:strVal val="visible"/>
                                      </p:to>
                                    </p:set>
                                    <p:animEffect filter="wipe(left)" transition="in">
                                      <p:cBhvr additive="repl">
                                        <p:cTn id="173" dur="500"/>
                                        <p:tgtEl>
                                          <p:spTgt spid="133"/>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34"/>
                                        </p:tgtEl>
                                        <p:attrNameLst>
                                          <p:attrName>style.visibility</p:attrName>
                                        </p:attrNameLst>
                                      </p:cBhvr>
                                      <p:to>
                                        <p:strVal val="visible"/>
                                      </p:to>
                                    </p:set>
                                    <p:animEffect filter="wipe(up)" transition="in">
                                      <p:cBhvr additive="repl">
                                        <p:cTn id="178" dur="500"/>
                                        <p:tgtEl>
                                          <p:spTgt spid="134"/>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136"/>
                                        </p:tgtEl>
                                        <p:attrNameLst>
                                          <p:attrName>style.visibility</p:attrName>
                                        </p:attrNameLst>
                                      </p:cBhvr>
                                      <p:to>
                                        <p:strVal val="visible"/>
                                      </p:to>
                                    </p:set>
                                    <p:animEffect filter="wipe(up)" transition="in">
                                      <p:cBhvr additive="repl">
                                        <p:cTn id="183" dur="500"/>
                                        <p:tgtEl>
                                          <p:spTgt spid="136"/>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8" presetSubtype="6">
                                  <p:stCondLst>
                                    <p:cond delay="0"/>
                                  </p:stCondLst>
                                  <p:childTnLst>
                                    <p:set>
                                      <p:cBhvr>
                                        <p:cTn id="187" dur="1" fill="hold">
                                          <p:stCondLst>
                                            <p:cond delay="0"/>
                                          </p:stCondLst>
                                        </p:cTn>
                                        <p:tgtEl>
                                          <p:spTgt spid="137"/>
                                        </p:tgtEl>
                                        <p:attrNameLst>
                                          <p:attrName>style.visibility</p:attrName>
                                        </p:attrNameLst>
                                      </p:cBhvr>
                                      <p:to>
                                        <p:strVal val="visible"/>
                                      </p:to>
                                    </p:set>
                                    <p:animEffect filter="strips(downRight)" transition="in">
                                      <p:cBhvr additive="repl">
                                        <p:cTn id="188" dur="500"/>
                                        <p:tgtEl>
                                          <p:spTgt spid="137"/>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35"/>
                                        </p:tgtEl>
                                        <p:attrNameLst>
                                          <p:attrName>style.visibility</p:attrName>
                                        </p:attrNameLst>
                                      </p:cBhvr>
                                      <p:to>
                                        <p:strVal val="visible"/>
                                      </p:to>
                                    </p:set>
                                    <p:animEffect filter="wipe(left)" transition="in">
                                      <p:cBhvr additive="repl">
                                        <p:cTn id="193" dur="500"/>
                                        <p:tgtEl>
                                          <p:spTgt spid="135"/>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32"/>
                                        </p:tgtEl>
                                        <p:attrNameLst>
                                          <p:attrName>style.visibility</p:attrName>
                                        </p:attrNameLst>
                                      </p:cBhvr>
                                      <p:to>
                                        <p:strVal val="visible"/>
                                      </p:to>
                                    </p:set>
                                    <p:animEffect filter="wipe(up)" transition="in">
                                      <p:cBhvr additive="repl">
                                        <p:cTn id="198" dur="500"/>
                                        <p:tgtEl>
                                          <p:spTgt spid="132"/>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31"/>
                                        </p:tgtEl>
                                        <p:attrNameLst>
                                          <p:attrName>style.visibility</p:attrName>
                                        </p:attrNameLst>
                                      </p:cBhvr>
                                      <p:to>
                                        <p:strVal val="visible"/>
                                      </p:to>
                                    </p:set>
                                    <p:animEffect filter="wipe(up)" transition="in">
                                      <p:cBhvr additive="repl">
                                        <p:cTn id="203" dur="500"/>
                                        <p:tgtEl>
                                          <p:spTgt spid="131"/>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30"/>
                                        </p:tgtEl>
                                        <p:attrNameLst>
                                          <p:attrName>style.visibility</p:attrName>
                                        </p:attrNameLst>
                                      </p:cBhvr>
                                      <p:to>
                                        <p:strVal val="visible"/>
                                      </p:to>
                                    </p:set>
                                    <p:animEffect filter="wipe(left)" transition="in">
                                      <p:cBhvr additive="repl">
                                        <p:cTn id="208" dur="500"/>
                                        <p:tgtEl>
                                          <p:spTgt spid="130"/>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8" presetSubtype="6">
                                  <p:stCondLst>
                                    <p:cond delay="0"/>
                                  </p:stCondLst>
                                  <p:childTnLst>
                                    <p:set>
                                      <p:cBhvr>
                                        <p:cTn id="212" dur="1" fill="hold">
                                          <p:stCondLst>
                                            <p:cond delay="0"/>
                                          </p:stCondLst>
                                        </p:cTn>
                                        <p:tgtEl>
                                          <p:spTgt spid="129"/>
                                        </p:tgtEl>
                                        <p:attrNameLst>
                                          <p:attrName>style.visibility</p:attrName>
                                        </p:attrNameLst>
                                      </p:cBhvr>
                                      <p:to>
                                        <p:strVal val="visible"/>
                                      </p:to>
                                    </p:set>
                                    <p:animEffect filter="strips(downRight)" transition="in">
                                      <p:cBhvr additive="repl">
                                        <p:cTn id="213" dur="500"/>
                                        <p:tgtEl>
                                          <p:spTgt spid="129"/>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8" presetSubtype="6">
                                  <p:stCondLst>
                                    <p:cond delay="0"/>
                                  </p:stCondLst>
                                  <p:childTnLst>
                                    <p:set>
                                      <p:cBhvr>
                                        <p:cTn id="217" dur="1" fill="hold">
                                          <p:stCondLst>
                                            <p:cond delay="0"/>
                                          </p:stCondLst>
                                        </p:cTn>
                                        <p:tgtEl>
                                          <p:spTgt spid="128"/>
                                        </p:tgtEl>
                                        <p:attrNameLst>
                                          <p:attrName>style.visibility</p:attrName>
                                        </p:attrNameLst>
                                      </p:cBhvr>
                                      <p:to>
                                        <p:strVal val="visible"/>
                                      </p:to>
                                    </p:set>
                                    <p:animEffect filter="strips(downRight)" transition="in">
                                      <p:cBhvr additive="repl">
                                        <p:cTn id="218" dur="500"/>
                                        <p:tgtEl>
                                          <p:spTgt spid="128"/>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27"/>
                                        </p:tgtEl>
                                        <p:attrNameLst>
                                          <p:attrName>style.visibility</p:attrName>
                                        </p:attrNameLst>
                                      </p:cBhvr>
                                      <p:to>
                                        <p:strVal val="visible"/>
                                      </p:to>
                                    </p:set>
                                    <p:animEffect filter="wipe(up)" transition="in">
                                      <p:cBhvr additive="repl">
                                        <p:cTn id="223" dur="500"/>
                                        <p:tgtEl>
                                          <p:spTgt spid="127"/>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8" presetSubtype="6">
                                  <p:stCondLst>
                                    <p:cond delay="0"/>
                                  </p:stCondLst>
                                  <p:childTnLst>
                                    <p:set>
                                      <p:cBhvr>
                                        <p:cTn id="227" dur="1" fill="hold">
                                          <p:stCondLst>
                                            <p:cond delay="0"/>
                                          </p:stCondLst>
                                        </p:cTn>
                                        <p:tgtEl>
                                          <p:spTgt spid="126"/>
                                        </p:tgtEl>
                                        <p:attrNameLst>
                                          <p:attrName>style.visibility</p:attrName>
                                        </p:attrNameLst>
                                      </p:cBhvr>
                                      <p:to>
                                        <p:strVal val="visible"/>
                                      </p:to>
                                    </p:set>
                                    <p:animEffect filter="strips(downRight)" transition="in">
                                      <p:cBhvr additive="repl">
                                        <p:cTn id="228" dur="500"/>
                                        <p:tgtEl>
                                          <p:spTgt spid="126"/>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8" presetSubtype="6">
                                  <p:stCondLst>
                                    <p:cond delay="0"/>
                                  </p:stCondLst>
                                  <p:childTnLst>
                                    <p:set>
                                      <p:cBhvr>
                                        <p:cTn id="232" dur="1" fill="hold">
                                          <p:stCondLst>
                                            <p:cond delay="0"/>
                                          </p:stCondLst>
                                        </p:cTn>
                                        <p:tgtEl>
                                          <p:spTgt spid="125"/>
                                        </p:tgtEl>
                                        <p:attrNameLst>
                                          <p:attrName>style.visibility</p:attrName>
                                        </p:attrNameLst>
                                      </p:cBhvr>
                                      <p:to>
                                        <p:strVal val="visible"/>
                                      </p:to>
                                    </p:set>
                                    <p:animEffect filter="strips(downRight)" transition="in">
                                      <p:cBhvr additive="repl">
                                        <p:cTn id="233" dur="500"/>
                                        <p:tgtEl>
                                          <p:spTgt spid="125"/>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24"/>
                                        </p:tgtEl>
                                        <p:attrNameLst>
                                          <p:attrName>style.visibility</p:attrName>
                                        </p:attrNameLst>
                                      </p:cBhvr>
                                      <p:to>
                                        <p:strVal val="visible"/>
                                      </p:to>
                                    </p:set>
                                    <p:animEffect filter="wipe(up)" transition="in">
                                      <p:cBhvr additive="repl">
                                        <p:cTn id="238" dur="500"/>
                                        <p:tgtEl>
                                          <p:spTgt spid="124"/>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3" presetSubtype="16">
                                  <p:stCondLst>
                                    <p:cond delay="0"/>
                                  </p:stCondLst>
                                  <p:childTnLst>
                                    <p:set>
                                      <p:cBhvr>
                                        <p:cTn id="242" dur="1" fill="hold">
                                          <p:stCondLst>
                                            <p:cond delay="0"/>
                                          </p:stCondLst>
                                        </p:cTn>
                                        <p:tgtEl>
                                          <p:spTgt spid="117"/>
                                        </p:tgtEl>
                                        <p:attrNameLst>
                                          <p:attrName>style.visibility</p:attrName>
                                        </p:attrNameLst>
                                      </p:cBhvr>
                                      <p:to>
                                        <p:strVal val="visible"/>
                                      </p:to>
                                    </p:set>
                                    <p:anim calcmode="lin" valueType="num">
                                      <p:cBhvr additive="repl">
                                        <p:cTn id="243" dur="500" fill="hold"/>
                                        <p:tgtEl>
                                          <p:spTgt spid="117"/>
                                        </p:tgtEl>
                                        <p:attrNameLst>
                                          <p:attrName>ppt_w</p:attrName>
                                        </p:attrNameLst>
                                      </p:cBhvr>
                                      <p:tavLst>
                                        <p:tav tm="0">
                                          <p:val>
                                            <p:fltVal val="0"/>
                                          </p:val>
                                        </p:tav>
                                        <p:tav tm="100000">
                                          <p:val>
                                            <p:strVal val="#ppt_w"/>
                                          </p:val>
                                        </p:tav>
                                      </p:tavLst>
                                    </p:anim>
                                    <p:anim calcmode="lin" valueType="num">
                                      <p:cBhvr additive="repl">
                                        <p:cTn id="244" dur="500" fill="hold"/>
                                        <p:tgtEl>
                                          <p:spTgt spid="117"/>
                                        </p:tgtEl>
                                        <p:attrNameLst>
                                          <p:attrName>ppt_h</p:attrName>
                                        </p:attrNameLst>
                                      </p:cBhvr>
                                      <p:tavLst>
                                        <p:tav tm="0">
                                          <p:val>
                                            <p:fltVal val="0"/>
                                          </p:val>
                                        </p:tav>
                                        <p:tav tm="100000">
                                          <p:val>
                                            <p:strVal val="#ppt_h"/>
                                          </p:val>
                                        </p:tav>
                                      </p:tavLst>
                                    </p:anim>
                                    <p:animEffect filter="fade" transition="in">
                                      <p:cBhvr additive="repl">
                                        <p:cTn id="245"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矩形 4"/>
          <p:cNvSpPr/>
          <p:nvPr/>
        </p:nvSpPr>
        <p:spPr>
          <a:xfrm>
            <a:off x="2218680" y="25322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哟</a:t>
            </a:r>
            <a:endParaRPr b="0" lang="en-US" sz="8000" spc="-1" strike="noStrike">
              <a:solidFill>
                <a:srgbClr val="000000"/>
              </a:solidFill>
              <a:latin typeface="Calibri"/>
            </a:endParaRPr>
          </a:p>
        </p:txBody>
      </p:sp>
      <p:graphicFrame>
        <p:nvGraphicFramePr>
          <p:cNvPr id="139" name=""/>
          <p:cNvGraphicFramePr/>
          <p:nvPr/>
        </p:nvGraphicFramePr>
        <p:xfrm>
          <a:off x="5114880" y="2382840"/>
          <a:ext cx="2941560" cy="3040200"/>
        </p:xfrm>
        <a:graphic>
          <a:graphicData uri="http://schemas.openxmlformats.org/drawingml/2006/table">
            <a:tbl>
              <a:tblPr/>
              <a:tblGrid>
                <a:gridCol w="1471680"/>
                <a:gridCol w="146988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40" name="组合 3"/>
          <p:cNvGrpSpPr/>
          <p:nvPr/>
        </p:nvGrpSpPr>
        <p:grpSpPr>
          <a:xfrm>
            <a:off x="1400040" y="3975120"/>
            <a:ext cx="2840040" cy="1571760"/>
            <a:chOff x="1400040" y="3975120"/>
            <a:chExt cx="2840040" cy="1571760"/>
          </a:xfrm>
        </p:grpSpPr>
        <p:pic>
          <p:nvPicPr>
            <p:cNvPr id="141" name="图示 4" descr=""/>
            <p:cNvPicPr/>
            <p:nvPr/>
          </p:nvPicPr>
          <p:blipFill>
            <a:blip r:embed="rId1"/>
            <a:stretch/>
          </p:blipFill>
          <p:spPr>
            <a:xfrm>
              <a:off x="1400040" y="3975120"/>
              <a:ext cx="2840040" cy="1571760"/>
            </a:xfrm>
            <a:prstGeom prst="rect">
              <a:avLst/>
            </a:prstGeom>
            <a:ln w="0">
              <a:noFill/>
            </a:ln>
          </p:spPr>
        </p:pic>
        <p:sp>
          <p:nvSpPr>
            <p:cNvPr id="142" name="矩形 2"/>
            <p:cNvSpPr/>
            <p:nvPr/>
          </p:nvSpPr>
          <p:spPr>
            <a:xfrm>
              <a:off x="1444680" y="458784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口”要小些，“纟”撇折角度要协调。</a:t>
              </a:r>
              <a:endParaRPr b="0" lang="en-US" sz="2000" spc="-1" strike="noStrike">
                <a:solidFill>
                  <a:srgbClr val="000000"/>
                </a:solidFill>
                <a:latin typeface="Calibri"/>
              </a:endParaRPr>
            </a:p>
          </p:txBody>
        </p:sp>
      </p:grpSp>
      <p:sp>
        <p:nvSpPr>
          <p:cNvPr id="143" name="矩形 2"/>
          <p:cNvSpPr/>
          <p:nvPr/>
        </p:nvSpPr>
        <p:spPr>
          <a:xfrm>
            <a:off x="2209680" y="1855800"/>
            <a:ext cx="808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yō</a:t>
            </a:r>
            <a:endParaRPr b="0" lang="en-US" sz="4800" spc="-1" strike="noStrike">
              <a:solidFill>
                <a:srgbClr val="000000"/>
              </a:solidFill>
              <a:latin typeface="Calibri"/>
            </a:endParaRPr>
          </a:p>
        </p:txBody>
      </p:sp>
      <p:sp>
        <p:nvSpPr>
          <p:cNvPr id="144" name="Freeform 83"/>
          <p:cNvSpPr/>
          <p:nvPr/>
        </p:nvSpPr>
        <p:spPr>
          <a:xfrm>
            <a:off x="7121520" y="3379680"/>
            <a:ext cx="709560" cy="1697040"/>
          </a:xfrm>
          <a:custGeom>
            <a:avLst/>
            <a:gdLst/>
            <a:ahLst/>
            <a:rect l="l" t="t" r="r" b="b"/>
            <a:pathLst>
              <a:path w="892" h="2136">
                <a:moveTo>
                  <a:pt x="598" y="245"/>
                </a:moveTo>
                <a:lnTo>
                  <a:pt x="596" y="243"/>
                </a:lnTo>
                <a:lnTo>
                  <a:pt x="595" y="242"/>
                </a:lnTo>
                <a:lnTo>
                  <a:pt x="591" y="240"/>
                </a:lnTo>
                <a:lnTo>
                  <a:pt x="585" y="238"/>
                </a:lnTo>
                <a:lnTo>
                  <a:pt x="579" y="236"/>
                </a:lnTo>
                <a:lnTo>
                  <a:pt x="572" y="234"/>
                </a:lnTo>
                <a:lnTo>
                  <a:pt x="564" y="232"/>
                </a:lnTo>
                <a:lnTo>
                  <a:pt x="554" y="230"/>
                </a:lnTo>
                <a:lnTo>
                  <a:pt x="543" y="230"/>
                </a:lnTo>
                <a:lnTo>
                  <a:pt x="531" y="228"/>
                </a:lnTo>
                <a:lnTo>
                  <a:pt x="520" y="228"/>
                </a:lnTo>
                <a:lnTo>
                  <a:pt x="506" y="226"/>
                </a:lnTo>
                <a:lnTo>
                  <a:pt x="491" y="226"/>
                </a:lnTo>
                <a:lnTo>
                  <a:pt x="474" y="226"/>
                </a:lnTo>
                <a:lnTo>
                  <a:pt x="458" y="226"/>
                </a:lnTo>
                <a:lnTo>
                  <a:pt x="439" y="226"/>
                </a:lnTo>
                <a:lnTo>
                  <a:pt x="420" y="226"/>
                </a:lnTo>
                <a:lnTo>
                  <a:pt x="399" y="228"/>
                </a:lnTo>
                <a:lnTo>
                  <a:pt x="378" y="228"/>
                </a:lnTo>
                <a:lnTo>
                  <a:pt x="357" y="230"/>
                </a:lnTo>
                <a:lnTo>
                  <a:pt x="332" y="230"/>
                </a:lnTo>
                <a:lnTo>
                  <a:pt x="307" y="232"/>
                </a:lnTo>
                <a:lnTo>
                  <a:pt x="282" y="234"/>
                </a:lnTo>
                <a:lnTo>
                  <a:pt x="255" y="236"/>
                </a:lnTo>
                <a:lnTo>
                  <a:pt x="226" y="238"/>
                </a:lnTo>
                <a:lnTo>
                  <a:pt x="197" y="240"/>
                </a:lnTo>
                <a:lnTo>
                  <a:pt x="167" y="243"/>
                </a:lnTo>
                <a:lnTo>
                  <a:pt x="136" y="245"/>
                </a:lnTo>
                <a:lnTo>
                  <a:pt x="103" y="249"/>
                </a:lnTo>
                <a:lnTo>
                  <a:pt x="71" y="251"/>
                </a:lnTo>
                <a:lnTo>
                  <a:pt x="36" y="255"/>
                </a:lnTo>
                <a:lnTo>
                  <a:pt x="0" y="259"/>
                </a:lnTo>
                <a:lnTo>
                  <a:pt x="0" y="211"/>
                </a:lnTo>
                <a:lnTo>
                  <a:pt x="0" y="165"/>
                </a:lnTo>
                <a:lnTo>
                  <a:pt x="30" y="159"/>
                </a:lnTo>
                <a:lnTo>
                  <a:pt x="61" y="153"/>
                </a:lnTo>
                <a:lnTo>
                  <a:pt x="90" y="149"/>
                </a:lnTo>
                <a:lnTo>
                  <a:pt x="119" y="144"/>
                </a:lnTo>
                <a:lnTo>
                  <a:pt x="145" y="138"/>
                </a:lnTo>
                <a:lnTo>
                  <a:pt x="172" y="134"/>
                </a:lnTo>
                <a:lnTo>
                  <a:pt x="197" y="130"/>
                </a:lnTo>
                <a:lnTo>
                  <a:pt x="222" y="124"/>
                </a:lnTo>
                <a:lnTo>
                  <a:pt x="245" y="121"/>
                </a:lnTo>
                <a:lnTo>
                  <a:pt x="268" y="117"/>
                </a:lnTo>
                <a:lnTo>
                  <a:pt x="291" y="111"/>
                </a:lnTo>
                <a:lnTo>
                  <a:pt x="312" y="107"/>
                </a:lnTo>
                <a:lnTo>
                  <a:pt x="332" y="103"/>
                </a:lnTo>
                <a:lnTo>
                  <a:pt x="351" y="99"/>
                </a:lnTo>
                <a:lnTo>
                  <a:pt x="370" y="96"/>
                </a:lnTo>
                <a:lnTo>
                  <a:pt x="387" y="92"/>
                </a:lnTo>
                <a:lnTo>
                  <a:pt x="405" y="88"/>
                </a:lnTo>
                <a:lnTo>
                  <a:pt x="420" y="84"/>
                </a:lnTo>
                <a:lnTo>
                  <a:pt x="435" y="80"/>
                </a:lnTo>
                <a:lnTo>
                  <a:pt x="449" y="76"/>
                </a:lnTo>
                <a:lnTo>
                  <a:pt x="462" y="73"/>
                </a:lnTo>
                <a:lnTo>
                  <a:pt x="474" y="71"/>
                </a:lnTo>
                <a:lnTo>
                  <a:pt x="485" y="67"/>
                </a:lnTo>
                <a:lnTo>
                  <a:pt x="497" y="63"/>
                </a:lnTo>
                <a:lnTo>
                  <a:pt x="506" y="61"/>
                </a:lnTo>
                <a:lnTo>
                  <a:pt x="514" y="57"/>
                </a:lnTo>
                <a:lnTo>
                  <a:pt x="522" y="55"/>
                </a:lnTo>
                <a:lnTo>
                  <a:pt x="527" y="52"/>
                </a:lnTo>
                <a:lnTo>
                  <a:pt x="533" y="50"/>
                </a:lnTo>
                <a:lnTo>
                  <a:pt x="539" y="46"/>
                </a:lnTo>
                <a:lnTo>
                  <a:pt x="543" y="44"/>
                </a:lnTo>
                <a:lnTo>
                  <a:pt x="547" y="40"/>
                </a:lnTo>
                <a:lnTo>
                  <a:pt x="556" y="30"/>
                </a:lnTo>
                <a:lnTo>
                  <a:pt x="566" y="23"/>
                </a:lnTo>
                <a:lnTo>
                  <a:pt x="575" y="15"/>
                </a:lnTo>
                <a:lnTo>
                  <a:pt x="585" y="9"/>
                </a:lnTo>
                <a:lnTo>
                  <a:pt x="596" y="5"/>
                </a:lnTo>
                <a:lnTo>
                  <a:pt x="606" y="2"/>
                </a:lnTo>
                <a:lnTo>
                  <a:pt x="616" y="0"/>
                </a:lnTo>
                <a:lnTo>
                  <a:pt x="625" y="0"/>
                </a:lnTo>
                <a:lnTo>
                  <a:pt x="629" y="2"/>
                </a:lnTo>
                <a:lnTo>
                  <a:pt x="633" y="4"/>
                </a:lnTo>
                <a:lnTo>
                  <a:pt x="637" y="7"/>
                </a:lnTo>
                <a:lnTo>
                  <a:pt x="643" y="9"/>
                </a:lnTo>
                <a:lnTo>
                  <a:pt x="650" y="13"/>
                </a:lnTo>
                <a:lnTo>
                  <a:pt x="656" y="17"/>
                </a:lnTo>
                <a:lnTo>
                  <a:pt x="666" y="19"/>
                </a:lnTo>
                <a:lnTo>
                  <a:pt x="673" y="23"/>
                </a:lnTo>
                <a:lnTo>
                  <a:pt x="683" y="27"/>
                </a:lnTo>
                <a:lnTo>
                  <a:pt x="694" y="32"/>
                </a:lnTo>
                <a:lnTo>
                  <a:pt x="706" y="36"/>
                </a:lnTo>
                <a:lnTo>
                  <a:pt x="717" y="42"/>
                </a:lnTo>
                <a:lnTo>
                  <a:pt x="731" y="48"/>
                </a:lnTo>
                <a:lnTo>
                  <a:pt x="744" y="53"/>
                </a:lnTo>
                <a:lnTo>
                  <a:pt x="758" y="61"/>
                </a:lnTo>
                <a:lnTo>
                  <a:pt x="773" y="69"/>
                </a:lnTo>
                <a:lnTo>
                  <a:pt x="786" y="76"/>
                </a:lnTo>
                <a:lnTo>
                  <a:pt x="800" y="84"/>
                </a:lnTo>
                <a:lnTo>
                  <a:pt x="813" y="92"/>
                </a:lnTo>
                <a:lnTo>
                  <a:pt x="825" y="99"/>
                </a:lnTo>
                <a:lnTo>
                  <a:pt x="834" y="107"/>
                </a:lnTo>
                <a:lnTo>
                  <a:pt x="844" y="113"/>
                </a:lnTo>
                <a:lnTo>
                  <a:pt x="854" y="121"/>
                </a:lnTo>
                <a:lnTo>
                  <a:pt x="861" y="128"/>
                </a:lnTo>
                <a:lnTo>
                  <a:pt x="869" y="134"/>
                </a:lnTo>
                <a:lnTo>
                  <a:pt x="875" y="142"/>
                </a:lnTo>
                <a:lnTo>
                  <a:pt x="881" y="147"/>
                </a:lnTo>
                <a:lnTo>
                  <a:pt x="884" y="155"/>
                </a:lnTo>
                <a:lnTo>
                  <a:pt x="888" y="161"/>
                </a:lnTo>
                <a:lnTo>
                  <a:pt x="890" y="167"/>
                </a:lnTo>
                <a:lnTo>
                  <a:pt x="892" y="172"/>
                </a:lnTo>
                <a:lnTo>
                  <a:pt x="892" y="178"/>
                </a:lnTo>
                <a:lnTo>
                  <a:pt x="890" y="188"/>
                </a:lnTo>
                <a:lnTo>
                  <a:pt x="888" y="195"/>
                </a:lnTo>
                <a:lnTo>
                  <a:pt x="886" y="203"/>
                </a:lnTo>
                <a:lnTo>
                  <a:pt x="882" y="209"/>
                </a:lnTo>
                <a:lnTo>
                  <a:pt x="877" y="217"/>
                </a:lnTo>
                <a:lnTo>
                  <a:pt x="869" y="222"/>
                </a:lnTo>
                <a:lnTo>
                  <a:pt x="861" y="226"/>
                </a:lnTo>
                <a:lnTo>
                  <a:pt x="852" y="232"/>
                </a:lnTo>
                <a:lnTo>
                  <a:pt x="850" y="234"/>
                </a:lnTo>
                <a:lnTo>
                  <a:pt x="848" y="236"/>
                </a:lnTo>
                <a:lnTo>
                  <a:pt x="844" y="238"/>
                </a:lnTo>
                <a:lnTo>
                  <a:pt x="842" y="242"/>
                </a:lnTo>
                <a:lnTo>
                  <a:pt x="840" y="245"/>
                </a:lnTo>
                <a:lnTo>
                  <a:pt x="838" y="249"/>
                </a:lnTo>
                <a:lnTo>
                  <a:pt x="836" y="253"/>
                </a:lnTo>
                <a:lnTo>
                  <a:pt x="834" y="259"/>
                </a:lnTo>
                <a:lnTo>
                  <a:pt x="833" y="263"/>
                </a:lnTo>
                <a:lnTo>
                  <a:pt x="831" y="270"/>
                </a:lnTo>
                <a:lnTo>
                  <a:pt x="829" y="276"/>
                </a:lnTo>
                <a:lnTo>
                  <a:pt x="827" y="284"/>
                </a:lnTo>
                <a:lnTo>
                  <a:pt x="827" y="290"/>
                </a:lnTo>
                <a:lnTo>
                  <a:pt x="825" y="299"/>
                </a:lnTo>
                <a:lnTo>
                  <a:pt x="823" y="307"/>
                </a:lnTo>
                <a:lnTo>
                  <a:pt x="821" y="316"/>
                </a:lnTo>
                <a:lnTo>
                  <a:pt x="821" y="326"/>
                </a:lnTo>
                <a:lnTo>
                  <a:pt x="819" y="336"/>
                </a:lnTo>
                <a:lnTo>
                  <a:pt x="819" y="347"/>
                </a:lnTo>
                <a:lnTo>
                  <a:pt x="817" y="357"/>
                </a:lnTo>
                <a:lnTo>
                  <a:pt x="817" y="370"/>
                </a:lnTo>
                <a:lnTo>
                  <a:pt x="815" y="382"/>
                </a:lnTo>
                <a:lnTo>
                  <a:pt x="815" y="395"/>
                </a:lnTo>
                <a:lnTo>
                  <a:pt x="815" y="407"/>
                </a:lnTo>
                <a:lnTo>
                  <a:pt x="813" y="422"/>
                </a:lnTo>
                <a:lnTo>
                  <a:pt x="813" y="435"/>
                </a:lnTo>
                <a:lnTo>
                  <a:pt x="813" y="451"/>
                </a:lnTo>
                <a:lnTo>
                  <a:pt x="813" y="466"/>
                </a:lnTo>
                <a:lnTo>
                  <a:pt x="811" y="481"/>
                </a:lnTo>
                <a:lnTo>
                  <a:pt x="811" y="499"/>
                </a:lnTo>
                <a:lnTo>
                  <a:pt x="811" y="516"/>
                </a:lnTo>
                <a:lnTo>
                  <a:pt x="811" y="533"/>
                </a:lnTo>
                <a:lnTo>
                  <a:pt x="811" y="606"/>
                </a:lnTo>
                <a:lnTo>
                  <a:pt x="810" y="679"/>
                </a:lnTo>
                <a:lnTo>
                  <a:pt x="808" y="754"/>
                </a:lnTo>
                <a:lnTo>
                  <a:pt x="804" y="829"/>
                </a:lnTo>
                <a:lnTo>
                  <a:pt x="800" y="906"/>
                </a:lnTo>
                <a:lnTo>
                  <a:pt x="796" y="982"/>
                </a:lnTo>
                <a:lnTo>
                  <a:pt x="786" y="1136"/>
                </a:lnTo>
                <a:lnTo>
                  <a:pt x="781" y="1176"/>
                </a:lnTo>
                <a:lnTo>
                  <a:pt x="775" y="1217"/>
                </a:lnTo>
                <a:lnTo>
                  <a:pt x="769" y="1257"/>
                </a:lnTo>
                <a:lnTo>
                  <a:pt x="763" y="1295"/>
                </a:lnTo>
                <a:lnTo>
                  <a:pt x="756" y="1334"/>
                </a:lnTo>
                <a:lnTo>
                  <a:pt x="750" y="1370"/>
                </a:lnTo>
                <a:lnTo>
                  <a:pt x="742" y="1407"/>
                </a:lnTo>
                <a:lnTo>
                  <a:pt x="735" y="1443"/>
                </a:lnTo>
                <a:lnTo>
                  <a:pt x="727" y="1480"/>
                </a:lnTo>
                <a:lnTo>
                  <a:pt x="719" y="1514"/>
                </a:lnTo>
                <a:lnTo>
                  <a:pt x="712" y="1549"/>
                </a:lnTo>
                <a:lnTo>
                  <a:pt x="702" y="1583"/>
                </a:lnTo>
                <a:lnTo>
                  <a:pt x="694" y="1616"/>
                </a:lnTo>
                <a:lnTo>
                  <a:pt x="685" y="1649"/>
                </a:lnTo>
                <a:lnTo>
                  <a:pt x="675" y="1679"/>
                </a:lnTo>
                <a:lnTo>
                  <a:pt x="666" y="1712"/>
                </a:lnTo>
                <a:lnTo>
                  <a:pt x="656" y="1744"/>
                </a:lnTo>
                <a:lnTo>
                  <a:pt x="646" y="1775"/>
                </a:lnTo>
                <a:lnTo>
                  <a:pt x="637" y="1804"/>
                </a:lnTo>
                <a:lnTo>
                  <a:pt x="625" y="1833"/>
                </a:lnTo>
                <a:lnTo>
                  <a:pt x="616" y="1858"/>
                </a:lnTo>
                <a:lnTo>
                  <a:pt x="606" y="1883"/>
                </a:lnTo>
                <a:lnTo>
                  <a:pt x="596" y="1906"/>
                </a:lnTo>
                <a:lnTo>
                  <a:pt x="585" y="1929"/>
                </a:lnTo>
                <a:lnTo>
                  <a:pt x="575" y="1948"/>
                </a:lnTo>
                <a:lnTo>
                  <a:pt x="566" y="1967"/>
                </a:lnTo>
                <a:lnTo>
                  <a:pt x="556" y="1984"/>
                </a:lnTo>
                <a:lnTo>
                  <a:pt x="547" y="2002"/>
                </a:lnTo>
                <a:lnTo>
                  <a:pt x="535" y="2017"/>
                </a:lnTo>
                <a:lnTo>
                  <a:pt x="525" y="2030"/>
                </a:lnTo>
                <a:lnTo>
                  <a:pt x="516" y="2042"/>
                </a:lnTo>
                <a:lnTo>
                  <a:pt x="506" y="2054"/>
                </a:lnTo>
                <a:lnTo>
                  <a:pt x="497" y="2063"/>
                </a:lnTo>
                <a:lnTo>
                  <a:pt x="487" y="2073"/>
                </a:lnTo>
                <a:lnTo>
                  <a:pt x="477" y="2082"/>
                </a:lnTo>
                <a:lnTo>
                  <a:pt x="468" y="2090"/>
                </a:lnTo>
                <a:lnTo>
                  <a:pt x="460" y="2098"/>
                </a:lnTo>
                <a:lnTo>
                  <a:pt x="453" y="2103"/>
                </a:lnTo>
                <a:lnTo>
                  <a:pt x="445" y="2109"/>
                </a:lnTo>
                <a:lnTo>
                  <a:pt x="437" y="2115"/>
                </a:lnTo>
                <a:lnTo>
                  <a:pt x="431" y="2121"/>
                </a:lnTo>
                <a:lnTo>
                  <a:pt x="426" y="2125"/>
                </a:lnTo>
                <a:lnTo>
                  <a:pt x="420" y="2128"/>
                </a:lnTo>
                <a:lnTo>
                  <a:pt x="414" y="2130"/>
                </a:lnTo>
                <a:lnTo>
                  <a:pt x="410" y="2132"/>
                </a:lnTo>
                <a:lnTo>
                  <a:pt x="406" y="2134"/>
                </a:lnTo>
                <a:lnTo>
                  <a:pt x="403" y="2136"/>
                </a:lnTo>
                <a:lnTo>
                  <a:pt x="399" y="2136"/>
                </a:lnTo>
                <a:lnTo>
                  <a:pt x="395" y="2136"/>
                </a:lnTo>
                <a:lnTo>
                  <a:pt x="389" y="2134"/>
                </a:lnTo>
                <a:lnTo>
                  <a:pt x="383" y="2132"/>
                </a:lnTo>
                <a:lnTo>
                  <a:pt x="380" y="2130"/>
                </a:lnTo>
                <a:lnTo>
                  <a:pt x="374" y="2126"/>
                </a:lnTo>
                <a:lnTo>
                  <a:pt x="370" y="2123"/>
                </a:lnTo>
                <a:lnTo>
                  <a:pt x="366" y="2119"/>
                </a:lnTo>
                <a:lnTo>
                  <a:pt x="360" y="2113"/>
                </a:lnTo>
                <a:lnTo>
                  <a:pt x="357" y="2107"/>
                </a:lnTo>
                <a:lnTo>
                  <a:pt x="353" y="2100"/>
                </a:lnTo>
                <a:lnTo>
                  <a:pt x="349" y="2092"/>
                </a:lnTo>
                <a:lnTo>
                  <a:pt x="345" y="2084"/>
                </a:lnTo>
                <a:lnTo>
                  <a:pt x="341" y="2075"/>
                </a:lnTo>
                <a:lnTo>
                  <a:pt x="337" y="2063"/>
                </a:lnTo>
                <a:lnTo>
                  <a:pt x="335" y="2052"/>
                </a:lnTo>
                <a:lnTo>
                  <a:pt x="333" y="2040"/>
                </a:lnTo>
                <a:lnTo>
                  <a:pt x="328" y="2027"/>
                </a:lnTo>
                <a:lnTo>
                  <a:pt x="322" y="2013"/>
                </a:lnTo>
                <a:lnTo>
                  <a:pt x="314" y="2002"/>
                </a:lnTo>
                <a:lnTo>
                  <a:pt x="309" y="1988"/>
                </a:lnTo>
                <a:lnTo>
                  <a:pt x="301" y="1975"/>
                </a:lnTo>
                <a:lnTo>
                  <a:pt x="291" y="1961"/>
                </a:lnTo>
                <a:lnTo>
                  <a:pt x="282" y="1948"/>
                </a:lnTo>
                <a:lnTo>
                  <a:pt x="272" y="1935"/>
                </a:lnTo>
                <a:lnTo>
                  <a:pt x="262" y="1921"/>
                </a:lnTo>
                <a:lnTo>
                  <a:pt x="251" y="1908"/>
                </a:lnTo>
                <a:lnTo>
                  <a:pt x="239" y="1894"/>
                </a:lnTo>
                <a:lnTo>
                  <a:pt x="228" y="1881"/>
                </a:lnTo>
                <a:lnTo>
                  <a:pt x="214" y="1865"/>
                </a:lnTo>
                <a:lnTo>
                  <a:pt x="201" y="1850"/>
                </a:lnTo>
                <a:lnTo>
                  <a:pt x="188" y="1837"/>
                </a:lnTo>
                <a:lnTo>
                  <a:pt x="172" y="1821"/>
                </a:lnTo>
                <a:lnTo>
                  <a:pt x="157" y="1806"/>
                </a:lnTo>
                <a:lnTo>
                  <a:pt x="142" y="1791"/>
                </a:lnTo>
                <a:lnTo>
                  <a:pt x="126" y="1777"/>
                </a:lnTo>
                <a:lnTo>
                  <a:pt x="113" y="1764"/>
                </a:lnTo>
                <a:lnTo>
                  <a:pt x="101" y="1752"/>
                </a:lnTo>
                <a:lnTo>
                  <a:pt x="92" y="1741"/>
                </a:lnTo>
                <a:lnTo>
                  <a:pt x="82" y="1729"/>
                </a:lnTo>
                <a:lnTo>
                  <a:pt x="74" y="1720"/>
                </a:lnTo>
                <a:lnTo>
                  <a:pt x="67" y="1710"/>
                </a:lnTo>
                <a:lnTo>
                  <a:pt x="61" y="1702"/>
                </a:lnTo>
                <a:lnTo>
                  <a:pt x="57" y="1695"/>
                </a:lnTo>
                <a:lnTo>
                  <a:pt x="53" y="1687"/>
                </a:lnTo>
                <a:lnTo>
                  <a:pt x="51" y="1681"/>
                </a:lnTo>
                <a:lnTo>
                  <a:pt x="51" y="1677"/>
                </a:lnTo>
                <a:lnTo>
                  <a:pt x="51" y="1673"/>
                </a:lnTo>
                <a:lnTo>
                  <a:pt x="53" y="1670"/>
                </a:lnTo>
                <a:lnTo>
                  <a:pt x="57" y="1668"/>
                </a:lnTo>
                <a:lnTo>
                  <a:pt x="61" y="1666"/>
                </a:lnTo>
                <a:lnTo>
                  <a:pt x="65" y="1666"/>
                </a:lnTo>
                <a:lnTo>
                  <a:pt x="71" y="1664"/>
                </a:lnTo>
                <a:lnTo>
                  <a:pt x="78" y="1666"/>
                </a:lnTo>
                <a:lnTo>
                  <a:pt x="86" y="1666"/>
                </a:lnTo>
                <a:lnTo>
                  <a:pt x="94" y="1668"/>
                </a:lnTo>
                <a:lnTo>
                  <a:pt x="103" y="1670"/>
                </a:lnTo>
                <a:lnTo>
                  <a:pt x="113" y="1673"/>
                </a:lnTo>
                <a:lnTo>
                  <a:pt x="124" y="1675"/>
                </a:lnTo>
                <a:lnTo>
                  <a:pt x="138" y="1679"/>
                </a:lnTo>
                <a:lnTo>
                  <a:pt x="151" y="1685"/>
                </a:lnTo>
                <a:lnTo>
                  <a:pt x="165" y="1691"/>
                </a:lnTo>
                <a:lnTo>
                  <a:pt x="180" y="1696"/>
                </a:lnTo>
                <a:lnTo>
                  <a:pt x="195" y="1704"/>
                </a:lnTo>
                <a:lnTo>
                  <a:pt x="213" y="1712"/>
                </a:lnTo>
                <a:lnTo>
                  <a:pt x="230" y="1718"/>
                </a:lnTo>
                <a:lnTo>
                  <a:pt x="247" y="1725"/>
                </a:lnTo>
                <a:lnTo>
                  <a:pt x="262" y="1731"/>
                </a:lnTo>
                <a:lnTo>
                  <a:pt x="278" y="1737"/>
                </a:lnTo>
                <a:lnTo>
                  <a:pt x="293" y="1741"/>
                </a:lnTo>
                <a:lnTo>
                  <a:pt x="307" y="1744"/>
                </a:lnTo>
                <a:lnTo>
                  <a:pt x="320" y="1748"/>
                </a:lnTo>
                <a:lnTo>
                  <a:pt x="333" y="1750"/>
                </a:lnTo>
                <a:lnTo>
                  <a:pt x="345" y="1752"/>
                </a:lnTo>
                <a:lnTo>
                  <a:pt x="357" y="1752"/>
                </a:lnTo>
                <a:lnTo>
                  <a:pt x="368" y="1752"/>
                </a:lnTo>
                <a:lnTo>
                  <a:pt x="378" y="1752"/>
                </a:lnTo>
                <a:lnTo>
                  <a:pt x="387" y="1750"/>
                </a:lnTo>
                <a:lnTo>
                  <a:pt x="397" y="1746"/>
                </a:lnTo>
                <a:lnTo>
                  <a:pt x="405" y="1743"/>
                </a:lnTo>
                <a:lnTo>
                  <a:pt x="412" y="1739"/>
                </a:lnTo>
                <a:lnTo>
                  <a:pt x="420" y="1735"/>
                </a:lnTo>
                <a:lnTo>
                  <a:pt x="428" y="1729"/>
                </a:lnTo>
                <a:lnTo>
                  <a:pt x="433" y="1723"/>
                </a:lnTo>
                <a:lnTo>
                  <a:pt x="441" y="1716"/>
                </a:lnTo>
                <a:lnTo>
                  <a:pt x="447" y="1706"/>
                </a:lnTo>
                <a:lnTo>
                  <a:pt x="454" y="1695"/>
                </a:lnTo>
                <a:lnTo>
                  <a:pt x="460" y="1683"/>
                </a:lnTo>
                <a:lnTo>
                  <a:pt x="466" y="1670"/>
                </a:lnTo>
                <a:lnTo>
                  <a:pt x="472" y="1654"/>
                </a:lnTo>
                <a:lnTo>
                  <a:pt x="479" y="1639"/>
                </a:lnTo>
                <a:lnTo>
                  <a:pt x="485" y="1622"/>
                </a:lnTo>
                <a:lnTo>
                  <a:pt x="491" y="1604"/>
                </a:lnTo>
                <a:lnTo>
                  <a:pt x="499" y="1585"/>
                </a:lnTo>
                <a:lnTo>
                  <a:pt x="504" y="1564"/>
                </a:lnTo>
                <a:lnTo>
                  <a:pt x="512" y="1543"/>
                </a:lnTo>
                <a:lnTo>
                  <a:pt x="520" y="1520"/>
                </a:lnTo>
                <a:lnTo>
                  <a:pt x="524" y="1508"/>
                </a:lnTo>
                <a:lnTo>
                  <a:pt x="525" y="1495"/>
                </a:lnTo>
                <a:lnTo>
                  <a:pt x="529" y="1483"/>
                </a:lnTo>
                <a:lnTo>
                  <a:pt x="533" y="1470"/>
                </a:lnTo>
                <a:lnTo>
                  <a:pt x="537" y="1455"/>
                </a:lnTo>
                <a:lnTo>
                  <a:pt x="541" y="1441"/>
                </a:lnTo>
                <a:lnTo>
                  <a:pt x="543" y="1426"/>
                </a:lnTo>
                <a:lnTo>
                  <a:pt x="547" y="1410"/>
                </a:lnTo>
                <a:lnTo>
                  <a:pt x="548" y="1395"/>
                </a:lnTo>
                <a:lnTo>
                  <a:pt x="552" y="1378"/>
                </a:lnTo>
                <a:lnTo>
                  <a:pt x="556" y="1362"/>
                </a:lnTo>
                <a:lnTo>
                  <a:pt x="558" y="1345"/>
                </a:lnTo>
                <a:lnTo>
                  <a:pt x="560" y="1326"/>
                </a:lnTo>
                <a:lnTo>
                  <a:pt x="564" y="1309"/>
                </a:lnTo>
                <a:lnTo>
                  <a:pt x="566" y="1290"/>
                </a:lnTo>
                <a:lnTo>
                  <a:pt x="570" y="1268"/>
                </a:lnTo>
                <a:lnTo>
                  <a:pt x="572" y="1249"/>
                </a:lnTo>
                <a:lnTo>
                  <a:pt x="573" y="1228"/>
                </a:lnTo>
                <a:lnTo>
                  <a:pt x="575" y="1207"/>
                </a:lnTo>
                <a:lnTo>
                  <a:pt x="579" y="1186"/>
                </a:lnTo>
                <a:lnTo>
                  <a:pt x="581" y="1163"/>
                </a:lnTo>
                <a:lnTo>
                  <a:pt x="583" y="1140"/>
                </a:lnTo>
                <a:lnTo>
                  <a:pt x="585" y="1117"/>
                </a:lnTo>
                <a:lnTo>
                  <a:pt x="587" y="1092"/>
                </a:lnTo>
                <a:lnTo>
                  <a:pt x="589" y="1067"/>
                </a:lnTo>
                <a:lnTo>
                  <a:pt x="591" y="1042"/>
                </a:lnTo>
                <a:lnTo>
                  <a:pt x="593" y="1015"/>
                </a:lnTo>
                <a:lnTo>
                  <a:pt x="593" y="988"/>
                </a:lnTo>
                <a:lnTo>
                  <a:pt x="595" y="961"/>
                </a:lnTo>
                <a:lnTo>
                  <a:pt x="596" y="934"/>
                </a:lnTo>
                <a:lnTo>
                  <a:pt x="598" y="906"/>
                </a:lnTo>
                <a:lnTo>
                  <a:pt x="598" y="877"/>
                </a:lnTo>
                <a:lnTo>
                  <a:pt x="600" y="848"/>
                </a:lnTo>
                <a:lnTo>
                  <a:pt x="602" y="821"/>
                </a:lnTo>
                <a:lnTo>
                  <a:pt x="602" y="794"/>
                </a:lnTo>
                <a:lnTo>
                  <a:pt x="604" y="769"/>
                </a:lnTo>
                <a:lnTo>
                  <a:pt x="604" y="744"/>
                </a:lnTo>
                <a:lnTo>
                  <a:pt x="606" y="719"/>
                </a:lnTo>
                <a:lnTo>
                  <a:pt x="608" y="696"/>
                </a:lnTo>
                <a:lnTo>
                  <a:pt x="608" y="673"/>
                </a:lnTo>
                <a:lnTo>
                  <a:pt x="610" y="650"/>
                </a:lnTo>
                <a:lnTo>
                  <a:pt x="612" y="629"/>
                </a:lnTo>
                <a:lnTo>
                  <a:pt x="612" y="608"/>
                </a:lnTo>
                <a:lnTo>
                  <a:pt x="614" y="589"/>
                </a:lnTo>
                <a:lnTo>
                  <a:pt x="614" y="570"/>
                </a:lnTo>
                <a:lnTo>
                  <a:pt x="616" y="551"/>
                </a:lnTo>
                <a:lnTo>
                  <a:pt x="616" y="533"/>
                </a:lnTo>
                <a:lnTo>
                  <a:pt x="618" y="516"/>
                </a:lnTo>
                <a:lnTo>
                  <a:pt x="618" y="501"/>
                </a:lnTo>
                <a:lnTo>
                  <a:pt x="619" y="485"/>
                </a:lnTo>
                <a:lnTo>
                  <a:pt x="619" y="470"/>
                </a:lnTo>
                <a:lnTo>
                  <a:pt x="621" y="455"/>
                </a:lnTo>
                <a:lnTo>
                  <a:pt x="621" y="441"/>
                </a:lnTo>
                <a:lnTo>
                  <a:pt x="621" y="430"/>
                </a:lnTo>
                <a:lnTo>
                  <a:pt x="623" y="418"/>
                </a:lnTo>
                <a:lnTo>
                  <a:pt x="623" y="407"/>
                </a:lnTo>
                <a:lnTo>
                  <a:pt x="623" y="395"/>
                </a:lnTo>
                <a:lnTo>
                  <a:pt x="625" y="385"/>
                </a:lnTo>
                <a:lnTo>
                  <a:pt x="625" y="376"/>
                </a:lnTo>
                <a:lnTo>
                  <a:pt x="625" y="368"/>
                </a:lnTo>
                <a:lnTo>
                  <a:pt x="625" y="361"/>
                </a:lnTo>
                <a:lnTo>
                  <a:pt x="625" y="353"/>
                </a:lnTo>
                <a:lnTo>
                  <a:pt x="625" y="347"/>
                </a:lnTo>
                <a:lnTo>
                  <a:pt x="625" y="341"/>
                </a:lnTo>
                <a:lnTo>
                  <a:pt x="625" y="326"/>
                </a:lnTo>
                <a:lnTo>
                  <a:pt x="623" y="311"/>
                </a:lnTo>
                <a:lnTo>
                  <a:pt x="621" y="297"/>
                </a:lnTo>
                <a:lnTo>
                  <a:pt x="618" y="284"/>
                </a:lnTo>
                <a:lnTo>
                  <a:pt x="614" y="272"/>
                </a:lnTo>
                <a:lnTo>
                  <a:pt x="608" y="261"/>
                </a:lnTo>
                <a:lnTo>
                  <a:pt x="606" y="257"/>
                </a:lnTo>
                <a:lnTo>
                  <a:pt x="604" y="253"/>
                </a:lnTo>
                <a:lnTo>
                  <a:pt x="602" y="249"/>
                </a:lnTo>
                <a:lnTo>
                  <a:pt x="598" y="24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Freeform 84"/>
          <p:cNvSpPr/>
          <p:nvPr/>
        </p:nvSpPr>
        <p:spPr>
          <a:xfrm>
            <a:off x="6865920" y="2800440"/>
            <a:ext cx="625320" cy="1081080"/>
          </a:xfrm>
          <a:custGeom>
            <a:avLst/>
            <a:gdLst/>
            <a:ahLst/>
            <a:rect l="l" t="t" r="r" b="b"/>
            <a:pathLst>
              <a:path w="789" h="1363">
                <a:moveTo>
                  <a:pt x="4" y="1361"/>
                </a:moveTo>
                <a:lnTo>
                  <a:pt x="2" y="1357"/>
                </a:lnTo>
                <a:lnTo>
                  <a:pt x="0" y="1354"/>
                </a:lnTo>
                <a:lnTo>
                  <a:pt x="0" y="1350"/>
                </a:lnTo>
                <a:lnTo>
                  <a:pt x="0" y="1344"/>
                </a:lnTo>
                <a:lnTo>
                  <a:pt x="2" y="1336"/>
                </a:lnTo>
                <a:lnTo>
                  <a:pt x="4" y="1329"/>
                </a:lnTo>
                <a:lnTo>
                  <a:pt x="8" y="1321"/>
                </a:lnTo>
                <a:lnTo>
                  <a:pt x="12" y="1311"/>
                </a:lnTo>
                <a:lnTo>
                  <a:pt x="17" y="1302"/>
                </a:lnTo>
                <a:lnTo>
                  <a:pt x="23" y="1290"/>
                </a:lnTo>
                <a:lnTo>
                  <a:pt x="29" y="1279"/>
                </a:lnTo>
                <a:lnTo>
                  <a:pt x="35" y="1267"/>
                </a:lnTo>
                <a:lnTo>
                  <a:pt x="42" y="1254"/>
                </a:lnTo>
                <a:lnTo>
                  <a:pt x="52" y="1240"/>
                </a:lnTo>
                <a:lnTo>
                  <a:pt x="60" y="1225"/>
                </a:lnTo>
                <a:lnTo>
                  <a:pt x="69" y="1212"/>
                </a:lnTo>
                <a:lnTo>
                  <a:pt x="81" y="1196"/>
                </a:lnTo>
                <a:lnTo>
                  <a:pt x="90" y="1183"/>
                </a:lnTo>
                <a:lnTo>
                  <a:pt x="102" y="1165"/>
                </a:lnTo>
                <a:lnTo>
                  <a:pt x="111" y="1148"/>
                </a:lnTo>
                <a:lnTo>
                  <a:pt x="123" y="1131"/>
                </a:lnTo>
                <a:lnTo>
                  <a:pt x="136" y="1112"/>
                </a:lnTo>
                <a:lnTo>
                  <a:pt x="148" y="1091"/>
                </a:lnTo>
                <a:lnTo>
                  <a:pt x="159" y="1070"/>
                </a:lnTo>
                <a:lnTo>
                  <a:pt x="173" y="1046"/>
                </a:lnTo>
                <a:lnTo>
                  <a:pt x="186" y="1022"/>
                </a:lnTo>
                <a:lnTo>
                  <a:pt x="200" y="997"/>
                </a:lnTo>
                <a:lnTo>
                  <a:pt x="213" y="970"/>
                </a:lnTo>
                <a:lnTo>
                  <a:pt x="227" y="943"/>
                </a:lnTo>
                <a:lnTo>
                  <a:pt x="240" y="914"/>
                </a:lnTo>
                <a:lnTo>
                  <a:pt x="255" y="885"/>
                </a:lnTo>
                <a:lnTo>
                  <a:pt x="271" y="855"/>
                </a:lnTo>
                <a:lnTo>
                  <a:pt x="299" y="793"/>
                </a:lnTo>
                <a:lnTo>
                  <a:pt x="326" y="732"/>
                </a:lnTo>
                <a:lnTo>
                  <a:pt x="353" y="670"/>
                </a:lnTo>
                <a:lnTo>
                  <a:pt x="380" y="609"/>
                </a:lnTo>
                <a:lnTo>
                  <a:pt x="403" y="549"/>
                </a:lnTo>
                <a:lnTo>
                  <a:pt x="428" y="490"/>
                </a:lnTo>
                <a:lnTo>
                  <a:pt x="449" y="432"/>
                </a:lnTo>
                <a:lnTo>
                  <a:pt x="470" y="375"/>
                </a:lnTo>
                <a:lnTo>
                  <a:pt x="478" y="348"/>
                </a:lnTo>
                <a:lnTo>
                  <a:pt x="488" y="321"/>
                </a:lnTo>
                <a:lnTo>
                  <a:pt x="495" y="296"/>
                </a:lnTo>
                <a:lnTo>
                  <a:pt x="503" y="273"/>
                </a:lnTo>
                <a:lnTo>
                  <a:pt x="511" y="250"/>
                </a:lnTo>
                <a:lnTo>
                  <a:pt x="516" y="229"/>
                </a:lnTo>
                <a:lnTo>
                  <a:pt x="522" y="210"/>
                </a:lnTo>
                <a:lnTo>
                  <a:pt x="528" y="192"/>
                </a:lnTo>
                <a:lnTo>
                  <a:pt x="532" y="175"/>
                </a:lnTo>
                <a:lnTo>
                  <a:pt x="534" y="160"/>
                </a:lnTo>
                <a:lnTo>
                  <a:pt x="537" y="146"/>
                </a:lnTo>
                <a:lnTo>
                  <a:pt x="537" y="135"/>
                </a:lnTo>
                <a:lnTo>
                  <a:pt x="539" y="123"/>
                </a:lnTo>
                <a:lnTo>
                  <a:pt x="539" y="116"/>
                </a:lnTo>
                <a:lnTo>
                  <a:pt x="537" y="108"/>
                </a:lnTo>
                <a:lnTo>
                  <a:pt x="536" y="102"/>
                </a:lnTo>
                <a:lnTo>
                  <a:pt x="532" y="96"/>
                </a:lnTo>
                <a:lnTo>
                  <a:pt x="526" y="89"/>
                </a:lnTo>
                <a:lnTo>
                  <a:pt x="522" y="81"/>
                </a:lnTo>
                <a:lnTo>
                  <a:pt x="518" y="73"/>
                </a:lnTo>
                <a:lnTo>
                  <a:pt x="518" y="64"/>
                </a:lnTo>
                <a:lnTo>
                  <a:pt x="516" y="54"/>
                </a:lnTo>
                <a:lnTo>
                  <a:pt x="518" y="48"/>
                </a:lnTo>
                <a:lnTo>
                  <a:pt x="518" y="43"/>
                </a:lnTo>
                <a:lnTo>
                  <a:pt x="520" y="39"/>
                </a:lnTo>
                <a:lnTo>
                  <a:pt x="522" y="33"/>
                </a:lnTo>
                <a:lnTo>
                  <a:pt x="522" y="27"/>
                </a:lnTo>
                <a:lnTo>
                  <a:pt x="524" y="23"/>
                </a:lnTo>
                <a:lnTo>
                  <a:pt x="526" y="20"/>
                </a:lnTo>
                <a:lnTo>
                  <a:pt x="528" y="16"/>
                </a:lnTo>
                <a:lnTo>
                  <a:pt x="530" y="12"/>
                </a:lnTo>
                <a:lnTo>
                  <a:pt x="534" y="8"/>
                </a:lnTo>
                <a:lnTo>
                  <a:pt x="537" y="6"/>
                </a:lnTo>
                <a:lnTo>
                  <a:pt x="541" y="4"/>
                </a:lnTo>
                <a:lnTo>
                  <a:pt x="545" y="2"/>
                </a:lnTo>
                <a:lnTo>
                  <a:pt x="551" y="0"/>
                </a:lnTo>
                <a:lnTo>
                  <a:pt x="557" y="0"/>
                </a:lnTo>
                <a:lnTo>
                  <a:pt x="562" y="0"/>
                </a:lnTo>
                <a:lnTo>
                  <a:pt x="568" y="0"/>
                </a:lnTo>
                <a:lnTo>
                  <a:pt x="574" y="2"/>
                </a:lnTo>
                <a:lnTo>
                  <a:pt x="582" y="4"/>
                </a:lnTo>
                <a:lnTo>
                  <a:pt x="589" y="6"/>
                </a:lnTo>
                <a:lnTo>
                  <a:pt x="605" y="12"/>
                </a:lnTo>
                <a:lnTo>
                  <a:pt x="622" y="18"/>
                </a:lnTo>
                <a:lnTo>
                  <a:pt x="639" y="27"/>
                </a:lnTo>
                <a:lnTo>
                  <a:pt x="656" y="37"/>
                </a:lnTo>
                <a:lnTo>
                  <a:pt x="674" y="46"/>
                </a:lnTo>
                <a:lnTo>
                  <a:pt x="691" y="60"/>
                </a:lnTo>
                <a:lnTo>
                  <a:pt x="706" y="73"/>
                </a:lnTo>
                <a:lnTo>
                  <a:pt x="722" y="89"/>
                </a:lnTo>
                <a:lnTo>
                  <a:pt x="737" y="102"/>
                </a:lnTo>
                <a:lnTo>
                  <a:pt x="749" y="117"/>
                </a:lnTo>
                <a:lnTo>
                  <a:pt x="760" y="129"/>
                </a:lnTo>
                <a:lnTo>
                  <a:pt x="770" y="140"/>
                </a:lnTo>
                <a:lnTo>
                  <a:pt x="776" y="146"/>
                </a:lnTo>
                <a:lnTo>
                  <a:pt x="777" y="152"/>
                </a:lnTo>
                <a:lnTo>
                  <a:pt x="781" y="158"/>
                </a:lnTo>
                <a:lnTo>
                  <a:pt x="783" y="164"/>
                </a:lnTo>
                <a:lnTo>
                  <a:pt x="787" y="167"/>
                </a:lnTo>
                <a:lnTo>
                  <a:pt x="787" y="173"/>
                </a:lnTo>
                <a:lnTo>
                  <a:pt x="789" y="179"/>
                </a:lnTo>
                <a:lnTo>
                  <a:pt x="789" y="185"/>
                </a:lnTo>
                <a:lnTo>
                  <a:pt x="789" y="187"/>
                </a:lnTo>
                <a:lnTo>
                  <a:pt x="789" y="190"/>
                </a:lnTo>
                <a:lnTo>
                  <a:pt x="787" y="194"/>
                </a:lnTo>
                <a:lnTo>
                  <a:pt x="785" y="200"/>
                </a:lnTo>
                <a:lnTo>
                  <a:pt x="783" y="206"/>
                </a:lnTo>
                <a:lnTo>
                  <a:pt x="779" y="213"/>
                </a:lnTo>
                <a:lnTo>
                  <a:pt x="777" y="221"/>
                </a:lnTo>
                <a:lnTo>
                  <a:pt x="774" y="229"/>
                </a:lnTo>
                <a:lnTo>
                  <a:pt x="770" y="238"/>
                </a:lnTo>
                <a:lnTo>
                  <a:pt x="764" y="250"/>
                </a:lnTo>
                <a:lnTo>
                  <a:pt x="760" y="259"/>
                </a:lnTo>
                <a:lnTo>
                  <a:pt x="754" y="271"/>
                </a:lnTo>
                <a:lnTo>
                  <a:pt x="749" y="284"/>
                </a:lnTo>
                <a:lnTo>
                  <a:pt x="741" y="298"/>
                </a:lnTo>
                <a:lnTo>
                  <a:pt x="733" y="311"/>
                </a:lnTo>
                <a:lnTo>
                  <a:pt x="726" y="327"/>
                </a:lnTo>
                <a:lnTo>
                  <a:pt x="718" y="342"/>
                </a:lnTo>
                <a:lnTo>
                  <a:pt x="710" y="359"/>
                </a:lnTo>
                <a:lnTo>
                  <a:pt x="701" y="377"/>
                </a:lnTo>
                <a:lnTo>
                  <a:pt x="691" y="394"/>
                </a:lnTo>
                <a:lnTo>
                  <a:pt x="681" y="413"/>
                </a:lnTo>
                <a:lnTo>
                  <a:pt x="670" y="434"/>
                </a:lnTo>
                <a:lnTo>
                  <a:pt x="658" y="453"/>
                </a:lnTo>
                <a:lnTo>
                  <a:pt x="647" y="476"/>
                </a:lnTo>
                <a:lnTo>
                  <a:pt x="635" y="497"/>
                </a:lnTo>
                <a:lnTo>
                  <a:pt x="622" y="521"/>
                </a:lnTo>
                <a:lnTo>
                  <a:pt x="609" y="545"/>
                </a:lnTo>
                <a:lnTo>
                  <a:pt x="595" y="570"/>
                </a:lnTo>
                <a:lnTo>
                  <a:pt x="582" y="595"/>
                </a:lnTo>
                <a:lnTo>
                  <a:pt x="566" y="622"/>
                </a:lnTo>
                <a:lnTo>
                  <a:pt x="551" y="649"/>
                </a:lnTo>
                <a:lnTo>
                  <a:pt x="536" y="676"/>
                </a:lnTo>
                <a:lnTo>
                  <a:pt x="520" y="707"/>
                </a:lnTo>
                <a:lnTo>
                  <a:pt x="505" y="734"/>
                </a:lnTo>
                <a:lnTo>
                  <a:pt x="490" y="762"/>
                </a:lnTo>
                <a:lnTo>
                  <a:pt x="474" y="789"/>
                </a:lnTo>
                <a:lnTo>
                  <a:pt x="459" y="816"/>
                </a:lnTo>
                <a:lnTo>
                  <a:pt x="445" y="841"/>
                </a:lnTo>
                <a:lnTo>
                  <a:pt x="430" y="866"/>
                </a:lnTo>
                <a:lnTo>
                  <a:pt x="417" y="891"/>
                </a:lnTo>
                <a:lnTo>
                  <a:pt x="403" y="914"/>
                </a:lnTo>
                <a:lnTo>
                  <a:pt x="390" y="935"/>
                </a:lnTo>
                <a:lnTo>
                  <a:pt x="376" y="958"/>
                </a:lnTo>
                <a:lnTo>
                  <a:pt x="365" y="979"/>
                </a:lnTo>
                <a:lnTo>
                  <a:pt x="351" y="1000"/>
                </a:lnTo>
                <a:lnTo>
                  <a:pt x="340" y="1020"/>
                </a:lnTo>
                <a:lnTo>
                  <a:pt x="326" y="1039"/>
                </a:lnTo>
                <a:lnTo>
                  <a:pt x="315" y="1056"/>
                </a:lnTo>
                <a:lnTo>
                  <a:pt x="303" y="1073"/>
                </a:lnTo>
                <a:lnTo>
                  <a:pt x="292" y="1091"/>
                </a:lnTo>
                <a:lnTo>
                  <a:pt x="282" y="1108"/>
                </a:lnTo>
                <a:lnTo>
                  <a:pt x="271" y="1123"/>
                </a:lnTo>
                <a:lnTo>
                  <a:pt x="261" y="1137"/>
                </a:lnTo>
                <a:lnTo>
                  <a:pt x="250" y="1152"/>
                </a:lnTo>
                <a:lnTo>
                  <a:pt x="240" y="1165"/>
                </a:lnTo>
                <a:lnTo>
                  <a:pt x="230" y="1177"/>
                </a:lnTo>
                <a:lnTo>
                  <a:pt x="221" y="1189"/>
                </a:lnTo>
                <a:lnTo>
                  <a:pt x="213" y="1200"/>
                </a:lnTo>
                <a:lnTo>
                  <a:pt x="204" y="1210"/>
                </a:lnTo>
                <a:lnTo>
                  <a:pt x="196" y="1219"/>
                </a:lnTo>
                <a:lnTo>
                  <a:pt x="186" y="1229"/>
                </a:lnTo>
                <a:lnTo>
                  <a:pt x="179" y="1236"/>
                </a:lnTo>
                <a:lnTo>
                  <a:pt x="171" y="1244"/>
                </a:lnTo>
                <a:lnTo>
                  <a:pt x="163" y="1252"/>
                </a:lnTo>
                <a:lnTo>
                  <a:pt x="146" y="1267"/>
                </a:lnTo>
                <a:lnTo>
                  <a:pt x="131" y="1281"/>
                </a:lnTo>
                <a:lnTo>
                  <a:pt x="115" y="1294"/>
                </a:lnTo>
                <a:lnTo>
                  <a:pt x="102" y="1306"/>
                </a:lnTo>
                <a:lnTo>
                  <a:pt x="88" y="1317"/>
                </a:lnTo>
                <a:lnTo>
                  <a:pt x="75" y="1327"/>
                </a:lnTo>
                <a:lnTo>
                  <a:pt x="63" y="1336"/>
                </a:lnTo>
                <a:lnTo>
                  <a:pt x="54" y="1342"/>
                </a:lnTo>
                <a:lnTo>
                  <a:pt x="44" y="1350"/>
                </a:lnTo>
                <a:lnTo>
                  <a:pt x="35" y="1356"/>
                </a:lnTo>
                <a:lnTo>
                  <a:pt x="27" y="1359"/>
                </a:lnTo>
                <a:lnTo>
                  <a:pt x="21" y="1361"/>
                </a:lnTo>
                <a:lnTo>
                  <a:pt x="15" y="1363"/>
                </a:lnTo>
                <a:lnTo>
                  <a:pt x="10" y="1363"/>
                </a:lnTo>
                <a:lnTo>
                  <a:pt x="6" y="1363"/>
                </a:lnTo>
                <a:lnTo>
                  <a:pt x="4" y="136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85"/>
          <p:cNvSpPr/>
          <p:nvPr/>
        </p:nvSpPr>
        <p:spPr>
          <a:xfrm>
            <a:off x="7080120" y="3843360"/>
            <a:ext cx="257400" cy="396720"/>
          </a:xfrm>
          <a:custGeom>
            <a:avLst/>
            <a:gdLst/>
            <a:ahLst/>
            <a:rect l="l" t="t" r="r" b="b"/>
            <a:pathLst>
              <a:path w="322" h="499">
                <a:moveTo>
                  <a:pt x="0" y="19"/>
                </a:moveTo>
                <a:lnTo>
                  <a:pt x="4" y="14"/>
                </a:lnTo>
                <a:lnTo>
                  <a:pt x="11" y="10"/>
                </a:lnTo>
                <a:lnTo>
                  <a:pt x="21" y="4"/>
                </a:lnTo>
                <a:lnTo>
                  <a:pt x="30" y="2"/>
                </a:lnTo>
                <a:lnTo>
                  <a:pt x="36" y="0"/>
                </a:lnTo>
                <a:lnTo>
                  <a:pt x="42" y="0"/>
                </a:lnTo>
                <a:lnTo>
                  <a:pt x="50" y="0"/>
                </a:lnTo>
                <a:lnTo>
                  <a:pt x="57" y="0"/>
                </a:lnTo>
                <a:lnTo>
                  <a:pt x="65" y="0"/>
                </a:lnTo>
                <a:lnTo>
                  <a:pt x="73" y="0"/>
                </a:lnTo>
                <a:lnTo>
                  <a:pt x="82" y="2"/>
                </a:lnTo>
                <a:lnTo>
                  <a:pt x="92" y="6"/>
                </a:lnTo>
                <a:lnTo>
                  <a:pt x="101" y="8"/>
                </a:lnTo>
                <a:lnTo>
                  <a:pt x="111" y="12"/>
                </a:lnTo>
                <a:lnTo>
                  <a:pt x="123" y="17"/>
                </a:lnTo>
                <a:lnTo>
                  <a:pt x="132" y="23"/>
                </a:lnTo>
                <a:lnTo>
                  <a:pt x="142" y="29"/>
                </a:lnTo>
                <a:lnTo>
                  <a:pt x="153" y="37"/>
                </a:lnTo>
                <a:lnTo>
                  <a:pt x="163" y="44"/>
                </a:lnTo>
                <a:lnTo>
                  <a:pt x="174" y="52"/>
                </a:lnTo>
                <a:lnTo>
                  <a:pt x="184" y="62"/>
                </a:lnTo>
                <a:lnTo>
                  <a:pt x="195" y="71"/>
                </a:lnTo>
                <a:lnTo>
                  <a:pt x="207" y="83"/>
                </a:lnTo>
                <a:lnTo>
                  <a:pt x="217" y="94"/>
                </a:lnTo>
                <a:lnTo>
                  <a:pt x="228" y="106"/>
                </a:lnTo>
                <a:lnTo>
                  <a:pt x="240" y="117"/>
                </a:lnTo>
                <a:lnTo>
                  <a:pt x="265" y="142"/>
                </a:lnTo>
                <a:lnTo>
                  <a:pt x="274" y="158"/>
                </a:lnTo>
                <a:lnTo>
                  <a:pt x="282" y="173"/>
                </a:lnTo>
                <a:lnTo>
                  <a:pt x="290" y="188"/>
                </a:lnTo>
                <a:lnTo>
                  <a:pt x="297" y="204"/>
                </a:lnTo>
                <a:lnTo>
                  <a:pt x="303" y="219"/>
                </a:lnTo>
                <a:lnTo>
                  <a:pt x="309" y="234"/>
                </a:lnTo>
                <a:lnTo>
                  <a:pt x="313" y="250"/>
                </a:lnTo>
                <a:lnTo>
                  <a:pt x="316" y="263"/>
                </a:lnTo>
                <a:lnTo>
                  <a:pt x="318" y="279"/>
                </a:lnTo>
                <a:lnTo>
                  <a:pt x="320" y="294"/>
                </a:lnTo>
                <a:lnTo>
                  <a:pt x="322" y="307"/>
                </a:lnTo>
                <a:lnTo>
                  <a:pt x="322" y="321"/>
                </a:lnTo>
                <a:lnTo>
                  <a:pt x="322" y="334"/>
                </a:lnTo>
                <a:lnTo>
                  <a:pt x="322" y="350"/>
                </a:lnTo>
                <a:lnTo>
                  <a:pt x="320" y="361"/>
                </a:lnTo>
                <a:lnTo>
                  <a:pt x="318" y="374"/>
                </a:lnTo>
                <a:lnTo>
                  <a:pt x="313" y="390"/>
                </a:lnTo>
                <a:lnTo>
                  <a:pt x="309" y="403"/>
                </a:lnTo>
                <a:lnTo>
                  <a:pt x="303" y="417"/>
                </a:lnTo>
                <a:lnTo>
                  <a:pt x="299" y="428"/>
                </a:lnTo>
                <a:lnTo>
                  <a:pt x="293" y="440"/>
                </a:lnTo>
                <a:lnTo>
                  <a:pt x="290" y="449"/>
                </a:lnTo>
                <a:lnTo>
                  <a:pt x="284" y="459"/>
                </a:lnTo>
                <a:lnTo>
                  <a:pt x="280" y="467"/>
                </a:lnTo>
                <a:lnTo>
                  <a:pt x="276" y="474"/>
                </a:lnTo>
                <a:lnTo>
                  <a:pt x="272" y="480"/>
                </a:lnTo>
                <a:lnTo>
                  <a:pt x="268" y="486"/>
                </a:lnTo>
                <a:lnTo>
                  <a:pt x="265" y="490"/>
                </a:lnTo>
                <a:lnTo>
                  <a:pt x="261" y="493"/>
                </a:lnTo>
                <a:lnTo>
                  <a:pt x="257" y="497"/>
                </a:lnTo>
                <a:lnTo>
                  <a:pt x="255" y="497"/>
                </a:lnTo>
                <a:lnTo>
                  <a:pt x="251" y="499"/>
                </a:lnTo>
                <a:lnTo>
                  <a:pt x="249" y="497"/>
                </a:lnTo>
                <a:lnTo>
                  <a:pt x="245" y="497"/>
                </a:lnTo>
                <a:lnTo>
                  <a:pt x="240" y="495"/>
                </a:lnTo>
                <a:lnTo>
                  <a:pt x="234" y="490"/>
                </a:lnTo>
                <a:lnTo>
                  <a:pt x="226" y="484"/>
                </a:lnTo>
                <a:lnTo>
                  <a:pt x="219" y="474"/>
                </a:lnTo>
                <a:lnTo>
                  <a:pt x="211" y="465"/>
                </a:lnTo>
                <a:lnTo>
                  <a:pt x="201" y="453"/>
                </a:lnTo>
                <a:lnTo>
                  <a:pt x="194" y="438"/>
                </a:lnTo>
                <a:lnTo>
                  <a:pt x="184" y="422"/>
                </a:lnTo>
                <a:lnTo>
                  <a:pt x="172" y="405"/>
                </a:lnTo>
                <a:lnTo>
                  <a:pt x="163" y="386"/>
                </a:lnTo>
                <a:lnTo>
                  <a:pt x="151" y="365"/>
                </a:lnTo>
                <a:lnTo>
                  <a:pt x="140" y="342"/>
                </a:lnTo>
                <a:lnTo>
                  <a:pt x="128" y="319"/>
                </a:lnTo>
                <a:lnTo>
                  <a:pt x="117" y="292"/>
                </a:lnTo>
                <a:lnTo>
                  <a:pt x="105" y="265"/>
                </a:lnTo>
                <a:lnTo>
                  <a:pt x="94" y="238"/>
                </a:lnTo>
                <a:lnTo>
                  <a:pt x="82" y="211"/>
                </a:lnTo>
                <a:lnTo>
                  <a:pt x="71" y="188"/>
                </a:lnTo>
                <a:lnTo>
                  <a:pt x="61" y="165"/>
                </a:lnTo>
                <a:lnTo>
                  <a:pt x="52" y="144"/>
                </a:lnTo>
                <a:lnTo>
                  <a:pt x="42" y="125"/>
                </a:lnTo>
                <a:lnTo>
                  <a:pt x="34" y="108"/>
                </a:lnTo>
                <a:lnTo>
                  <a:pt x="27" y="90"/>
                </a:lnTo>
                <a:lnTo>
                  <a:pt x="21" y="75"/>
                </a:lnTo>
                <a:lnTo>
                  <a:pt x="15" y="64"/>
                </a:lnTo>
                <a:lnTo>
                  <a:pt x="9" y="52"/>
                </a:lnTo>
                <a:lnTo>
                  <a:pt x="5" y="42"/>
                </a:lnTo>
                <a:lnTo>
                  <a:pt x="4" y="33"/>
                </a:lnTo>
                <a:lnTo>
                  <a:pt x="2" y="27"/>
                </a:lnTo>
                <a:lnTo>
                  <a:pt x="0" y="23"/>
                </a:lnTo>
                <a:lnTo>
                  <a:pt x="0" y="1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86"/>
          <p:cNvSpPr/>
          <p:nvPr/>
        </p:nvSpPr>
        <p:spPr>
          <a:xfrm>
            <a:off x="6135840" y="4303800"/>
            <a:ext cx="869760" cy="446040"/>
          </a:xfrm>
          <a:custGeom>
            <a:avLst/>
            <a:gdLst/>
            <a:ahLst/>
            <a:rect l="l" t="t" r="r" b="b"/>
            <a:pathLst>
              <a:path w="1096" h="562">
                <a:moveTo>
                  <a:pt x="190" y="562"/>
                </a:moveTo>
                <a:lnTo>
                  <a:pt x="186" y="562"/>
                </a:lnTo>
                <a:lnTo>
                  <a:pt x="180" y="560"/>
                </a:lnTo>
                <a:lnTo>
                  <a:pt x="174" y="558"/>
                </a:lnTo>
                <a:lnTo>
                  <a:pt x="167" y="557"/>
                </a:lnTo>
                <a:lnTo>
                  <a:pt x="161" y="555"/>
                </a:lnTo>
                <a:lnTo>
                  <a:pt x="155" y="551"/>
                </a:lnTo>
                <a:lnTo>
                  <a:pt x="147" y="547"/>
                </a:lnTo>
                <a:lnTo>
                  <a:pt x="140" y="541"/>
                </a:lnTo>
                <a:lnTo>
                  <a:pt x="132" y="535"/>
                </a:lnTo>
                <a:lnTo>
                  <a:pt x="124" y="530"/>
                </a:lnTo>
                <a:lnTo>
                  <a:pt x="117" y="524"/>
                </a:lnTo>
                <a:lnTo>
                  <a:pt x="107" y="516"/>
                </a:lnTo>
                <a:lnTo>
                  <a:pt x="99" y="509"/>
                </a:lnTo>
                <a:lnTo>
                  <a:pt x="90" y="499"/>
                </a:lnTo>
                <a:lnTo>
                  <a:pt x="80" y="489"/>
                </a:lnTo>
                <a:lnTo>
                  <a:pt x="71" y="480"/>
                </a:lnTo>
                <a:lnTo>
                  <a:pt x="61" y="468"/>
                </a:lnTo>
                <a:lnTo>
                  <a:pt x="51" y="459"/>
                </a:lnTo>
                <a:lnTo>
                  <a:pt x="44" y="449"/>
                </a:lnTo>
                <a:lnTo>
                  <a:pt x="36" y="441"/>
                </a:lnTo>
                <a:lnTo>
                  <a:pt x="28" y="432"/>
                </a:lnTo>
                <a:lnTo>
                  <a:pt x="23" y="424"/>
                </a:lnTo>
                <a:lnTo>
                  <a:pt x="17" y="414"/>
                </a:lnTo>
                <a:lnTo>
                  <a:pt x="13" y="407"/>
                </a:lnTo>
                <a:lnTo>
                  <a:pt x="7" y="399"/>
                </a:lnTo>
                <a:lnTo>
                  <a:pt x="5" y="393"/>
                </a:lnTo>
                <a:lnTo>
                  <a:pt x="3" y="386"/>
                </a:lnTo>
                <a:lnTo>
                  <a:pt x="2" y="380"/>
                </a:lnTo>
                <a:lnTo>
                  <a:pt x="0" y="374"/>
                </a:lnTo>
                <a:lnTo>
                  <a:pt x="0" y="366"/>
                </a:lnTo>
                <a:lnTo>
                  <a:pt x="2" y="363"/>
                </a:lnTo>
                <a:lnTo>
                  <a:pt x="3" y="357"/>
                </a:lnTo>
                <a:lnTo>
                  <a:pt x="3" y="351"/>
                </a:lnTo>
                <a:lnTo>
                  <a:pt x="5" y="347"/>
                </a:lnTo>
                <a:lnTo>
                  <a:pt x="9" y="342"/>
                </a:lnTo>
                <a:lnTo>
                  <a:pt x="15" y="340"/>
                </a:lnTo>
                <a:lnTo>
                  <a:pt x="19" y="338"/>
                </a:lnTo>
                <a:lnTo>
                  <a:pt x="23" y="338"/>
                </a:lnTo>
                <a:lnTo>
                  <a:pt x="27" y="338"/>
                </a:lnTo>
                <a:lnTo>
                  <a:pt x="32" y="338"/>
                </a:lnTo>
                <a:lnTo>
                  <a:pt x="38" y="338"/>
                </a:lnTo>
                <a:lnTo>
                  <a:pt x="44" y="338"/>
                </a:lnTo>
                <a:lnTo>
                  <a:pt x="50" y="340"/>
                </a:lnTo>
                <a:lnTo>
                  <a:pt x="57" y="343"/>
                </a:lnTo>
                <a:lnTo>
                  <a:pt x="67" y="347"/>
                </a:lnTo>
                <a:lnTo>
                  <a:pt x="76" y="351"/>
                </a:lnTo>
                <a:lnTo>
                  <a:pt x="86" y="353"/>
                </a:lnTo>
                <a:lnTo>
                  <a:pt x="98" y="355"/>
                </a:lnTo>
                <a:lnTo>
                  <a:pt x="107" y="355"/>
                </a:lnTo>
                <a:lnTo>
                  <a:pt x="117" y="357"/>
                </a:lnTo>
                <a:lnTo>
                  <a:pt x="138" y="357"/>
                </a:lnTo>
                <a:lnTo>
                  <a:pt x="142" y="355"/>
                </a:lnTo>
                <a:lnTo>
                  <a:pt x="144" y="355"/>
                </a:lnTo>
                <a:lnTo>
                  <a:pt x="147" y="353"/>
                </a:lnTo>
                <a:lnTo>
                  <a:pt x="153" y="353"/>
                </a:lnTo>
                <a:lnTo>
                  <a:pt x="159" y="351"/>
                </a:lnTo>
                <a:lnTo>
                  <a:pt x="165" y="349"/>
                </a:lnTo>
                <a:lnTo>
                  <a:pt x="172" y="345"/>
                </a:lnTo>
                <a:lnTo>
                  <a:pt x="180" y="343"/>
                </a:lnTo>
                <a:lnTo>
                  <a:pt x="188" y="340"/>
                </a:lnTo>
                <a:lnTo>
                  <a:pt x="197" y="338"/>
                </a:lnTo>
                <a:lnTo>
                  <a:pt x="209" y="334"/>
                </a:lnTo>
                <a:lnTo>
                  <a:pt x="218" y="328"/>
                </a:lnTo>
                <a:lnTo>
                  <a:pt x="232" y="324"/>
                </a:lnTo>
                <a:lnTo>
                  <a:pt x="243" y="320"/>
                </a:lnTo>
                <a:lnTo>
                  <a:pt x="257" y="315"/>
                </a:lnTo>
                <a:lnTo>
                  <a:pt x="270" y="309"/>
                </a:lnTo>
                <a:lnTo>
                  <a:pt x="286" y="303"/>
                </a:lnTo>
                <a:lnTo>
                  <a:pt x="301" y="297"/>
                </a:lnTo>
                <a:lnTo>
                  <a:pt x="318" y="290"/>
                </a:lnTo>
                <a:lnTo>
                  <a:pt x="336" y="282"/>
                </a:lnTo>
                <a:lnTo>
                  <a:pt x="353" y="274"/>
                </a:lnTo>
                <a:lnTo>
                  <a:pt x="372" y="267"/>
                </a:lnTo>
                <a:lnTo>
                  <a:pt x="391" y="259"/>
                </a:lnTo>
                <a:lnTo>
                  <a:pt x="412" y="251"/>
                </a:lnTo>
                <a:lnTo>
                  <a:pt x="433" y="242"/>
                </a:lnTo>
                <a:lnTo>
                  <a:pt x="455" y="232"/>
                </a:lnTo>
                <a:lnTo>
                  <a:pt x="478" y="223"/>
                </a:lnTo>
                <a:lnTo>
                  <a:pt x="501" y="211"/>
                </a:lnTo>
                <a:lnTo>
                  <a:pt x="526" y="201"/>
                </a:lnTo>
                <a:lnTo>
                  <a:pt x="551" y="190"/>
                </a:lnTo>
                <a:lnTo>
                  <a:pt x="575" y="178"/>
                </a:lnTo>
                <a:lnTo>
                  <a:pt x="602" y="167"/>
                </a:lnTo>
                <a:lnTo>
                  <a:pt x="627" y="155"/>
                </a:lnTo>
                <a:lnTo>
                  <a:pt x="650" y="146"/>
                </a:lnTo>
                <a:lnTo>
                  <a:pt x="675" y="134"/>
                </a:lnTo>
                <a:lnTo>
                  <a:pt x="696" y="125"/>
                </a:lnTo>
                <a:lnTo>
                  <a:pt x="719" y="115"/>
                </a:lnTo>
                <a:lnTo>
                  <a:pt x="741" y="105"/>
                </a:lnTo>
                <a:lnTo>
                  <a:pt x="762" y="98"/>
                </a:lnTo>
                <a:lnTo>
                  <a:pt x="781" y="90"/>
                </a:lnTo>
                <a:lnTo>
                  <a:pt x="800" y="80"/>
                </a:lnTo>
                <a:lnTo>
                  <a:pt x="817" y="75"/>
                </a:lnTo>
                <a:lnTo>
                  <a:pt x="835" y="67"/>
                </a:lnTo>
                <a:lnTo>
                  <a:pt x="852" y="59"/>
                </a:lnTo>
                <a:lnTo>
                  <a:pt x="869" y="54"/>
                </a:lnTo>
                <a:lnTo>
                  <a:pt x="885" y="48"/>
                </a:lnTo>
                <a:lnTo>
                  <a:pt x="898" y="42"/>
                </a:lnTo>
                <a:lnTo>
                  <a:pt x="913" y="36"/>
                </a:lnTo>
                <a:lnTo>
                  <a:pt x="927" y="33"/>
                </a:lnTo>
                <a:lnTo>
                  <a:pt x="938" y="29"/>
                </a:lnTo>
                <a:lnTo>
                  <a:pt x="950" y="23"/>
                </a:lnTo>
                <a:lnTo>
                  <a:pt x="961" y="19"/>
                </a:lnTo>
                <a:lnTo>
                  <a:pt x="973" y="17"/>
                </a:lnTo>
                <a:lnTo>
                  <a:pt x="982" y="13"/>
                </a:lnTo>
                <a:lnTo>
                  <a:pt x="992" y="11"/>
                </a:lnTo>
                <a:lnTo>
                  <a:pt x="1000" y="8"/>
                </a:lnTo>
                <a:lnTo>
                  <a:pt x="1007" y="6"/>
                </a:lnTo>
                <a:lnTo>
                  <a:pt x="1015" y="4"/>
                </a:lnTo>
                <a:lnTo>
                  <a:pt x="1023" y="4"/>
                </a:lnTo>
                <a:lnTo>
                  <a:pt x="1028" y="2"/>
                </a:lnTo>
                <a:lnTo>
                  <a:pt x="1032" y="2"/>
                </a:lnTo>
                <a:lnTo>
                  <a:pt x="1038" y="0"/>
                </a:lnTo>
                <a:lnTo>
                  <a:pt x="1042" y="0"/>
                </a:lnTo>
                <a:lnTo>
                  <a:pt x="1050" y="0"/>
                </a:lnTo>
                <a:lnTo>
                  <a:pt x="1055" y="0"/>
                </a:lnTo>
                <a:lnTo>
                  <a:pt x="1061" y="0"/>
                </a:lnTo>
                <a:lnTo>
                  <a:pt x="1067" y="0"/>
                </a:lnTo>
                <a:lnTo>
                  <a:pt x="1073" y="0"/>
                </a:lnTo>
                <a:lnTo>
                  <a:pt x="1076" y="2"/>
                </a:lnTo>
                <a:lnTo>
                  <a:pt x="1080" y="2"/>
                </a:lnTo>
                <a:lnTo>
                  <a:pt x="1084" y="2"/>
                </a:lnTo>
                <a:lnTo>
                  <a:pt x="1090" y="4"/>
                </a:lnTo>
                <a:lnTo>
                  <a:pt x="1092" y="6"/>
                </a:lnTo>
                <a:lnTo>
                  <a:pt x="1094" y="9"/>
                </a:lnTo>
                <a:lnTo>
                  <a:pt x="1096" y="13"/>
                </a:lnTo>
                <a:lnTo>
                  <a:pt x="1096" y="15"/>
                </a:lnTo>
                <a:lnTo>
                  <a:pt x="1094" y="17"/>
                </a:lnTo>
                <a:lnTo>
                  <a:pt x="1092" y="19"/>
                </a:lnTo>
                <a:lnTo>
                  <a:pt x="1088" y="23"/>
                </a:lnTo>
                <a:lnTo>
                  <a:pt x="1084" y="27"/>
                </a:lnTo>
                <a:lnTo>
                  <a:pt x="1080" y="31"/>
                </a:lnTo>
                <a:lnTo>
                  <a:pt x="1075" y="34"/>
                </a:lnTo>
                <a:lnTo>
                  <a:pt x="1067" y="40"/>
                </a:lnTo>
                <a:lnTo>
                  <a:pt x="1061" y="44"/>
                </a:lnTo>
                <a:lnTo>
                  <a:pt x="1051" y="50"/>
                </a:lnTo>
                <a:lnTo>
                  <a:pt x="1044" y="57"/>
                </a:lnTo>
                <a:lnTo>
                  <a:pt x="1034" y="63"/>
                </a:lnTo>
                <a:lnTo>
                  <a:pt x="1023" y="71"/>
                </a:lnTo>
                <a:lnTo>
                  <a:pt x="1011" y="79"/>
                </a:lnTo>
                <a:lnTo>
                  <a:pt x="1000" y="86"/>
                </a:lnTo>
                <a:lnTo>
                  <a:pt x="986" y="96"/>
                </a:lnTo>
                <a:lnTo>
                  <a:pt x="973" y="104"/>
                </a:lnTo>
                <a:lnTo>
                  <a:pt x="957" y="113"/>
                </a:lnTo>
                <a:lnTo>
                  <a:pt x="942" y="125"/>
                </a:lnTo>
                <a:lnTo>
                  <a:pt x="927" y="134"/>
                </a:lnTo>
                <a:lnTo>
                  <a:pt x="909" y="146"/>
                </a:lnTo>
                <a:lnTo>
                  <a:pt x="892" y="157"/>
                </a:lnTo>
                <a:lnTo>
                  <a:pt x="873" y="171"/>
                </a:lnTo>
                <a:lnTo>
                  <a:pt x="854" y="182"/>
                </a:lnTo>
                <a:lnTo>
                  <a:pt x="833" y="196"/>
                </a:lnTo>
                <a:lnTo>
                  <a:pt x="812" y="209"/>
                </a:lnTo>
                <a:lnTo>
                  <a:pt x="790" y="223"/>
                </a:lnTo>
                <a:lnTo>
                  <a:pt x="767" y="238"/>
                </a:lnTo>
                <a:lnTo>
                  <a:pt x="744" y="253"/>
                </a:lnTo>
                <a:lnTo>
                  <a:pt x="719" y="269"/>
                </a:lnTo>
                <a:lnTo>
                  <a:pt x="694" y="286"/>
                </a:lnTo>
                <a:lnTo>
                  <a:pt x="670" y="301"/>
                </a:lnTo>
                <a:lnTo>
                  <a:pt x="643" y="319"/>
                </a:lnTo>
                <a:lnTo>
                  <a:pt x="616" y="334"/>
                </a:lnTo>
                <a:lnTo>
                  <a:pt x="591" y="349"/>
                </a:lnTo>
                <a:lnTo>
                  <a:pt x="566" y="365"/>
                </a:lnTo>
                <a:lnTo>
                  <a:pt x="543" y="380"/>
                </a:lnTo>
                <a:lnTo>
                  <a:pt x="520" y="393"/>
                </a:lnTo>
                <a:lnTo>
                  <a:pt x="497" y="407"/>
                </a:lnTo>
                <a:lnTo>
                  <a:pt x="476" y="418"/>
                </a:lnTo>
                <a:lnTo>
                  <a:pt x="455" y="430"/>
                </a:lnTo>
                <a:lnTo>
                  <a:pt x="433" y="441"/>
                </a:lnTo>
                <a:lnTo>
                  <a:pt x="414" y="453"/>
                </a:lnTo>
                <a:lnTo>
                  <a:pt x="397" y="462"/>
                </a:lnTo>
                <a:lnTo>
                  <a:pt x="380" y="474"/>
                </a:lnTo>
                <a:lnTo>
                  <a:pt x="362" y="482"/>
                </a:lnTo>
                <a:lnTo>
                  <a:pt x="345" y="491"/>
                </a:lnTo>
                <a:lnTo>
                  <a:pt x="330" y="499"/>
                </a:lnTo>
                <a:lnTo>
                  <a:pt x="316" y="507"/>
                </a:lnTo>
                <a:lnTo>
                  <a:pt x="301" y="514"/>
                </a:lnTo>
                <a:lnTo>
                  <a:pt x="289" y="520"/>
                </a:lnTo>
                <a:lnTo>
                  <a:pt x="276" y="528"/>
                </a:lnTo>
                <a:lnTo>
                  <a:pt x="265" y="533"/>
                </a:lnTo>
                <a:lnTo>
                  <a:pt x="255" y="537"/>
                </a:lnTo>
                <a:lnTo>
                  <a:pt x="243" y="543"/>
                </a:lnTo>
                <a:lnTo>
                  <a:pt x="236" y="547"/>
                </a:lnTo>
                <a:lnTo>
                  <a:pt x="226" y="551"/>
                </a:lnTo>
                <a:lnTo>
                  <a:pt x="218" y="553"/>
                </a:lnTo>
                <a:lnTo>
                  <a:pt x="213" y="557"/>
                </a:lnTo>
                <a:lnTo>
                  <a:pt x="207" y="558"/>
                </a:lnTo>
                <a:lnTo>
                  <a:pt x="201" y="560"/>
                </a:lnTo>
                <a:lnTo>
                  <a:pt x="197" y="560"/>
                </a:lnTo>
                <a:lnTo>
                  <a:pt x="194" y="562"/>
                </a:lnTo>
                <a:lnTo>
                  <a:pt x="190" y="56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87"/>
          <p:cNvSpPr/>
          <p:nvPr/>
        </p:nvSpPr>
        <p:spPr>
          <a:xfrm>
            <a:off x="6276960" y="3321000"/>
            <a:ext cx="719280" cy="982800"/>
          </a:xfrm>
          <a:custGeom>
            <a:avLst/>
            <a:gdLst/>
            <a:ahLst/>
            <a:rect l="l" t="t" r="r" b="b"/>
            <a:pathLst>
              <a:path w="906" h="1238">
                <a:moveTo>
                  <a:pt x="812" y="102"/>
                </a:moveTo>
                <a:lnTo>
                  <a:pt x="822" y="111"/>
                </a:lnTo>
                <a:lnTo>
                  <a:pt x="829" y="123"/>
                </a:lnTo>
                <a:lnTo>
                  <a:pt x="837" y="132"/>
                </a:lnTo>
                <a:lnTo>
                  <a:pt x="843" y="144"/>
                </a:lnTo>
                <a:lnTo>
                  <a:pt x="847" y="153"/>
                </a:lnTo>
                <a:lnTo>
                  <a:pt x="851" y="163"/>
                </a:lnTo>
                <a:lnTo>
                  <a:pt x="852" y="174"/>
                </a:lnTo>
                <a:lnTo>
                  <a:pt x="852" y="184"/>
                </a:lnTo>
                <a:lnTo>
                  <a:pt x="852" y="188"/>
                </a:lnTo>
                <a:lnTo>
                  <a:pt x="852" y="190"/>
                </a:lnTo>
                <a:lnTo>
                  <a:pt x="851" y="196"/>
                </a:lnTo>
                <a:lnTo>
                  <a:pt x="849" y="199"/>
                </a:lnTo>
                <a:lnTo>
                  <a:pt x="847" y="205"/>
                </a:lnTo>
                <a:lnTo>
                  <a:pt x="843" y="211"/>
                </a:lnTo>
                <a:lnTo>
                  <a:pt x="839" y="217"/>
                </a:lnTo>
                <a:lnTo>
                  <a:pt x="835" y="224"/>
                </a:lnTo>
                <a:lnTo>
                  <a:pt x="831" y="232"/>
                </a:lnTo>
                <a:lnTo>
                  <a:pt x="826" y="242"/>
                </a:lnTo>
                <a:lnTo>
                  <a:pt x="820" y="249"/>
                </a:lnTo>
                <a:lnTo>
                  <a:pt x="812" y="259"/>
                </a:lnTo>
                <a:lnTo>
                  <a:pt x="806" y="270"/>
                </a:lnTo>
                <a:lnTo>
                  <a:pt x="799" y="282"/>
                </a:lnTo>
                <a:lnTo>
                  <a:pt x="791" y="293"/>
                </a:lnTo>
                <a:lnTo>
                  <a:pt x="781" y="305"/>
                </a:lnTo>
                <a:lnTo>
                  <a:pt x="774" y="318"/>
                </a:lnTo>
                <a:lnTo>
                  <a:pt x="764" y="332"/>
                </a:lnTo>
                <a:lnTo>
                  <a:pt x="753" y="345"/>
                </a:lnTo>
                <a:lnTo>
                  <a:pt x="743" y="359"/>
                </a:lnTo>
                <a:lnTo>
                  <a:pt x="732" y="374"/>
                </a:lnTo>
                <a:lnTo>
                  <a:pt x="720" y="391"/>
                </a:lnTo>
                <a:lnTo>
                  <a:pt x="707" y="407"/>
                </a:lnTo>
                <a:lnTo>
                  <a:pt x="695" y="424"/>
                </a:lnTo>
                <a:lnTo>
                  <a:pt x="682" y="441"/>
                </a:lnTo>
                <a:lnTo>
                  <a:pt x="668" y="460"/>
                </a:lnTo>
                <a:lnTo>
                  <a:pt x="653" y="478"/>
                </a:lnTo>
                <a:lnTo>
                  <a:pt x="637" y="497"/>
                </a:lnTo>
                <a:lnTo>
                  <a:pt x="622" y="518"/>
                </a:lnTo>
                <a:lnTo>
                  <a:pt x="607" y="537"/>
                </a:lnTo>
                <a:lnTo>
                  <a:pt x="590" y="558"/>
                </a:lnTo>
                <a:lnTo>
                  <a:pt x="574" y="581"/>
                </a:lnTo>
                <a:lnTo>
                  <a:pt x="555" y="603"/>
                </a:lnTo>
                <a:lnTo>
                  <a:pt x="538" y="624"/>
                </a:lnTo>
                <a:lnTo>
                  <a:pt x="520" y="645"/>
                </a:lnTo>
                <a:lnTo>
                  <a:pt x="505" y="664"/>
                </a:lnTo>
                <a:lnTo>
                  <a:pt x="490" y="683"/>
                </a:lnTo>
                <a:lnTo>
                  <a:pt x="474" y="700"/>
                </a:lnTo>
                <a:lnTo>
                  <a:pt x="461" y="720"/>
                </a:lnTo>
                <a:lnTo>
                  <a:pt x="447" y="735"/>
                </a:lnTo>
                <a:lnTo>
                  <a:pt x="434" y="752"/>
                </a:lnTo>
                <a:lnTo>
                  <a:pt x="421" y="768"/>
                </a:lnTo>
                <a:lnTo>
                  <a:pt x="409" y="783"/>
                </a:lnTo>
                <a:lnTo>
                  <a:pt x="399" y="798"/>
                </a:lnTo>
                <a:lnTo>
                  <a:pt x="388" y="812"/>
                </a:lnTo>
                <a:lnTo>
                  <a:pt x="378" y="825"/>
                </a:lnTo>
                <a:lnTo>
                  <a:pt x="369" y="837"/>
                </a:lnTo>
                <a:lnTo>
                  <a:pt x="361" y="848"/>
                </a:lnTo>
                <a:lnTo>
                  <a:pt x="353" y="860"/>
                </a:lnTo>
                <a:lnTo>
                  <a:pt x="346" y="871"/>
                </a:lnTo>
                <a:lnTo>
                  <a:pt x="340" y="881"/>
                </a:lnTo>
                <a:lnTo>
                  <a:pt x="334" y="890"/>
                </a:lnTo>
                <a:lnTo>
                  <a:pt x="328" y="898"/>
                </a:lnTo>
                <a:lnTo>
                  <a:pt x="323" y="906"/>
                </a:lnTo>
                <a:lnTo>
                  <a:pt x="319" y="913"/>
                </a:lnTo>
                <a:lnTo>
                  <a:pt x="315" y="921"/>
                </a:lnTo>
                <a:lnTo>
                  <a:pt x="313" y="927"/>
                </a:lnTo>
                <a:lnTo>
                  <a:pt x="309" y="933"/>
                </a:lnTo>
                <a:lnTo>
                  <a:pt x="307" y="937"/>
                </a:lnTo>
                <a:lnTo>
                  <a:pt x="307" y="940"/>
                </a:lnTo>
                <a:lnTo>
                  <a:pt x="305" y="944"/>
                </a:lnTo>
                <a:lnTo>
                  <a:pt x="305" y="948"/>
                </a:lnTo>
                <a:lnTo>
                  <a:pt x="305" y="950"/>
                </a:lnTo>
                <a:lnTo>
                  <a:pt x="307" y="952"/>
                </a:lnTo>
                <a:lnTo>
                  <a:pt x="309" y="952"/>
                </a:lnTo>
                <a:lnTo>
                  <a:pt x="311" y="954"/>
                </a:lnTo>
                <a:lnTo>
                  <a:pt x="313" y="954"/>
                </a:lnTo>
                <a:lnTo>
                  <a:pt x="315" y="956"/>
                </a:lnTo>
                <a:lnTo>
                  <a:pt x="319" y="956"/>
                </a:lnTo>
                <a:lnTo>
                  <a:pt x="323" y="956"/>
                </a:lnTo>
                <a:lnTo>
                  <a:pt x="327" y="956"/>
                </a:lnTo>
                <a:lnTo>
                  <a:pt x="332" y="956"/>
                </a:lnTo>
                <a:lnTo>
                  <a:pt x="338" y="956"/>
                </a:lnTo>
                <a:lnTo>
                  <a:pt x="344" y="956"/>
                </a:lnTo>
                <a:lnTo>
                  <a:pt x="350" y="956"/>
                </a:lnTo>
                <a:lnTo>
                  <a:pt x="357" y="956"/>
                </a:lnTo>
                <a:lnTo>
                  <a:pt x="365" y="956"/>
                </a:lnTo>
                <a:lnTo>
                  <a:pt x="373" y="954"/>
                </a:lnTo>
                <a:lnTo>
                  <a:pt x="380" y="954"/>
                </a:lnTo>
                <a:lnTo>
                  <a:pt x="390" y="952"/>
                </a:lnTo>
                <a:lnTo>
                  <a:pt x="399" y="952"/>
                </a:lnTo>
                <a:lnTo>
                  <a:pt x="409" y="950"/>
                </a:lnTo>
                <a:lnTo>
                  <a:pt x="421" y="950"/>
                </a:lnTo>
                <a:lnTo>
                  <a:pt x="432" y="948"/>
                </a:lnTo>
                <a:lnTo>
                  <a:pt x="444" y="946"/>
                </a:lnTo>
                <a:lnTo>
                  <a:pt x="457" y="944"/>
                </a:lnTo>
                <a:lnTo>
                  <a:pt x="469" y="942"/>
                </a:lnTo>
                <a:lnTo>
                  <a:pt x="482" y="940"/>
                </a:lnTo>
                <a:lnTo>
                  <a:pt x="497" y="938"/>
                </a:lnTo>
                <a:lnTo>
                  <a:pt x="513" y="937"/>
                </a:lnTo>
                <a:lnTo>
                  <a:pt x="528" y="935"/>
                </a:lnTo>
                <a:lnTo>
                  <a:pt x="543" y="933"/>
                </a:lnTo>
                <a:lnTo>
                  <a:pt x="559" y="931"/>
                </a:lnTo>
                <a:lnTo>
                  <a:pt x="576" y="929"/>
                </a:lnTo>
                <a:lnTo>
                  <a:pt x="595" y="925"/>
                </a:lnTo>
                <a:lnTo>
                  <a:pt x="613" y="923"/>
                </a:lnTo>
                <a:lnTo>
                  <a:pt x="630" y="921"/>
                </a:lnTo>
                <a:lnTo>
                  <a:pt x="647" y="921"/>
                </a:lnTo>
                <a:lnTo>
                  <a:pt x="662" y="919"/>
                </a:lnTo>
                <a:lnTo>
                  <a:pt x="678" y="919"/>
                </a:lnTo>
                <a:lnTo>
                  <a:pt x="693" y="917"/>
                </a:lnTo>
                <a:lnTo>
                  <a:pt x="709" y="917"/>
                </a:lnTo>
                <a:lnTo>
                  <a:pt x="722" y="915"/>
                </a:lnTo>
                <a:lnTo>
                  <a:pt x="735" y="915"/>
                </a:lnTo>
                <a:lnTo>
                  <a:pt x="749" y="915"/>
                </a:lnTo>
                <a:lnTo>
                  <a:pt x="760" y="913"/>
                </a:lnTo>
                <a:lnTo>
                  <a:pt x="774" y="913"/>
                </a:lnTo>
                <a:lnTo>
                  <a:pt x="783" y="913"/>
                </a:lnTo>
                <a:lnTo>
                  <a:pt x="795" y="913"/>
                </a:lnTo>
                <a:lnTo>
                  <a:pt x="806" y="913"/>
                </a:lnTo>
                <a:lnTo>
                  <a:pt x="816" y="913"/>
                </a:lnTo>
                <a:lnTo>
                  <a:pt x="824" y="913"/>
                </a:lnTo>
                <a:lnTo>
                  <a:pt x="833" y="913"/>
                </a:lnTo>
                <a:lnTo>
                  <a:pt x="841" y="913"/>
                </a:lnTo>
                <a:lnTo>
                  <a:pt x="849" y="913"/>
                </a:lnTo>
                <a:lnTo>
                  <a:pt x="856" y="913"/>
                </a:lnTo>
                <a:lnTo>
                  <a:pt x="864" y="913"/>
                </a:lnTo>
                <a:lnTo>
                  <a:pt x="870" y="913"/>
                </a:lnTo>
                <a:lnTo>
                  <a:pt x="875" y="915"/>
                </a:lnTo>
                <a:lnTo>
                  <a:pt x="881" y="915"/>
                </a:lnTo>
                <a:lnTo>
                  <a:pt x="885" y="915"/>
                </a:lnTo>
                <a:lnTo>
                  <a:pt x="891" y="917"/>
                </a:lnTo>
                <a:lnTo>
                  <a:pt x="895" y="917"/>
                </a:lnTo>
                <a:lnTo>
                  <a:pt x="897" y="919"/>
                </a:lnTo>
                <a:lnTo>
                  <a:pt x="902" y="921"/>
                </a:lnTo>
                <a:lnTo>
                  <a:pt x="906" y="923"/>
                </a:lnTo>
                <a:lnTo>
                  <a:pt x="906" y="925"/>
                </a:lnTo>
                <a:lnTo>
                  <a:pt x="904" y="927"/>
                </a:lnTo>
                <a:lnTo>
                  <a:pt x="900" y="929"/>
                </a:lnTo>
                <a:lnTo>
                  <a:pt x="899" y="931"/>
                </a:lnTo>
                <a:lnTo>
                  <a:pt x="895" y="935"/>
                </a:lnTo>
                <a:lnTo>
                  <a:pt x="891" y="937"/>
                </a:lnTo>
                <a:lnTo>
                  <a:pt x="887" y="938"/>
                </a:lnTo>
                <a:lnTo>
                  <a:pt x="881" y="940"/>
                </a:lnTo>
                <a:lnTo>
                  <a:pt x="875" y="944"/>
                </a:lnTo>
                <a:lnTo>
                  <a:pt x="868" y="946"/>
                </a:lnTo>
                <a:lnTo>
                  <a:pt x="862" y="950"/>
                </a:lnTo>
                <a:lnTo>
                  <a:pt x="852" y="954"/>
                </a:lnTo>
                <a:lnTo>
                  <a:pt x="845" y="956"/>
                </a:lnTo>
                <a:lnTo>
                  <a:pt x="835" y="960"/>
                </a:lnTo>
                <a:lnTo>
                  <a:pt x="826" y="963"/>
                </a:lnTo>
                <a:lnTo>
                  <a:pt x="816" y="967"/>
                </a:lnTo>
                <a:lnTo>
                  <a:pt x="804" y="971"/>
                </a:lnTo>
                <a:lnTo>
                  <a:pt x="793" y="977"/>
                </a:lnTo>
                <a:lnTo>
                  <a:pt x="781" y="981"/>
                </a:lnTo>
                <a:lnTo>
                  <a:pt x="768" y="985"/>
                </a:lnTo>
                <a:lnTo>
                  <a:pt x="755" y="990"/>
                </a:lnTo>
                <a:lnTo>
                  <a:pt x="741" y="994"/>
                </a:lnTo>
                <a:lnTo>
                  <a:pt x="726" y="1000"/>
                </a:lnTo>
                <a:lnTo>
                  <a:pt x="710" y="1006"/>
                </a:lnTo>
                <a:lnTo>
                  <a:pt x="695" y="1011"/>
                </a:lnTo>
                <a:lnTo>
                  <a:pt x="678" y="1015"/>
                </a:lnTo>
                <a:lnTo>
                  <a:pt x="661" y="1021"/>
                </a:lnTo>
                <a:lnTo>
                  <a:pt x="643" y="1027"/>
                </a:lnTo>
                <a:lnTo>
                  <a:pt x="626" y="1034"/>
                </a:lnTo>
                <a:lnTo>
                  <a:pt x="607" y="1040"/>
                </a:lnTo>
                <a:lnTo>
                  <a:pt x="588" y="1046"/>
                </a:lnTo>
                <a:lnTo>
                  <a:pt x="566" y="1054"/>
                </a:lnTo>
                <a:lnTo>
                  <a:pt x="545" y="1059"/>
                </a:lnTo>
                <a:lnTo>
                  <a:pt x="526" y="1065"/>
                </a:lnTo>
                <a:lnTo>
                  <a:pt x="507" y="1071"/>
                </a:lnTo>
                <a:lnTo>
                  <a:pt x="488" y="1077"/>
                </a:lnTo>
                <a:lnTo>
                  <a:pt x="470" y="1082"/>
                </a:lnTo>
                <a:lnTo>
                  <a:pt x="453" y="1088"/>
                </a:lnTo>
                <a:lnTo>
                  <a:pt x="436" y="1094"/>
                </a:lnTo>
                <a:lnTo>
                  <a:pt x="421" y="1098"/>
                </a:lnTo>
                <a:lnTo>
                  <a:pt x="405" y="1104"/>
                </a:lnTo>
                <a:lnTo>
                  <a:pt x="390" y="1109"/>
                </a:lnTo>
                <a:lnTo>
                  <a:pt x="376" y="1113"/>
                </a:lnTo>
                <a:lnTo>
                  <a:pt x="363" y="1119"/>
                </a:lnTo>
                <a:lnTo>
                  <a:pt x="350" y="1123"/>
                </a:lnTo>
                <a:lnTo>
                  <a:pt x="338" y="1127"/>
                </a:lnTo>
                <a:lnTo>
                  <a:pt x="325" y="1130"/>
                </a:lnTo>
                <a:lnTo>
                  <a:pt x="315" y="1134"/>
                </a:lnTo>
                <a:lnTo>
                  <a:pt x="304" y="1138"/>
                </a:lnTo>
                <a:lnTo>
                  <a:pt x="294" y="1142"/>
                </a:lnTo>
                <a:lnTo>
                  <a:pt x="284" y="1146"/>
                </a:lnTo>
                <a:lnTo>
                  <a:pt x="275" y="1150"/>
                </a:lnTo>
                <a:lnTo>
                  <a:pt x="267" y="1153"/>
                </a:lnTo>
                <a:lnTo>
                  <a:pt x="259" y="1157"/>
                </a:lnTo>
                <a:lnTo>
                  <a:pt x="252" y="1161"/>
                </a:lnTo>
                <a:lnTo>
                  <a:pt x="244" y="1163"/>
                </a:lnTo>
                <a:lnTo>
                  <a:pt x="238" y="1167"/>
                </a:lnTo>
                <a:lnTo>
                  <a:pt x="232" y="1169"/>
                </a:lnTo>
                <a:lnTo>
                  <a:pt x="229" y="1173"/>
                </a:lnTo>
                <a:lnTo>
                  <a:pt x="223" y="1176"/>
                </a:lnTo>
                <a:lnTo>
                  <a:pt x="219" y="1178"/>
                </a:lnTo>
                <a:lnTo>
                  <a:pt x="217" y="1180"/>
                </a:lnTo>
                <a:lnTo>
                  <a:pt x="213" y="1184"/>
                </a:lnTo>
                <a:lnTo>
                  <a:pt x="209" y="1192"/>
                </a:lnTo>
                <a:lnTo>
                  <a:pt x="204" y="1198"/>
                </a:lnTo>
                <a:lnTo>
                  <a:pt x="200" y="1203"/>
                </a:lnTo>
                <a:lnTo>
                  <a:pt x="194" y="1209"/>
                </a:lnTo>
                <a:lnTo>
                  <a:pt x="190" y="1215"/>
                </a:lnTo>
                <a:lnTo>
                  <a:pt x="185" y="1219"/>
                </a:lnTo>
                <a:lnTo>
                  <a:pt x="181" y="1223"/>
                </a:lnTo>
                <a:lnTo>
                  <a:pt x="175" y="1226"/>
                </a:lnTo>
                <a:lnTo>
                  <a:pt x="171" y="1230"/>
                </a:lnTo>
                <a:lnTo>
                  <a:pt x="167" y="1232"/>
                </a:lnTo>
                <a:lnTo>
                  <a:pt x="160" y="1236"/>
                </a:lnTo>
                <a:lnTo>
                  <a:pt x="152" y="1238"/>
                </a:lnTo>
                <a:lnTo>
                  <a:pt x="148" y="1238"/>
                </a:lnTo>
                <a:lnTo>
                  <a:pt x="142" y="1238"/>
                </a:lnTo>
                <a:lnTo>
                  <a:pt x="137" y="1238"/>
                </a:lnTo>
                <a:lnTo>
                  <a:pt x="133" y="1236"/>
                </a:lnTo>
                <a:lnTo>
                  <a:pt x="127" y="1234"/>
                </a:lnTo>
                <a:lnTo>
                  <a:pt x="121" y="1230"/>
                </a:lnTo>
                <a:lnTo>
                  <a:pt x="117" y="1228"/>
                </a:lnTo>
                <a:lnTo>
                  <a:pt x="112" y="1224"/>
                </a:lnTo>
                <a:lnTo>
                  <a:pt x="106" y="1219"/>
                </a:lnTo>
                <a:lnTo>
                  <a:pt x="100" y="1215"/>
                </a:lnTo>
                <a:lnTo>
                  <a:pt x="94" y="1209"/>
                </a:lnTo>
                <a:lnTo>
                  <a:pt x="81" y="1198"/>
                </a:lnTo>
                <a:lnTo>
                  <a:pt x="67" y="1184"/>
                </a:lnTo>
                <a:lnTo>
                  <a:pt x="54" y="1171"/>
                </a:lnTo>
                <a:lnTo>
                  <a:pt x="46" y="1161"/>
                </a:lnTo>
                <a:lnTo>
                  <a:pt x="41" y="1153"/>
                </a:lnTo>
                <a:lnTo>
                  <a:pt x="35" y="1148"/>
                </a:lnTo>
                <a:lnTo>
                  <a:pt x="29" y="1140"/>
                </a:lnTo>
                <a:lnTo>
                  <a:pt x="25" y="1132"/>
                </a:lnTo>
                <a:lnTo>
                  <a:pt x="19" y="1125"/>
                </a:lnTo>
                <a:lnTo>
                  <a:pt x="16" y="1119"/>
                </a:lnTo>
                <a:lnTo>
                  <a:pt x="12" y="1111"/>
                </a:lnTo>
                <a:lnTo>
                  <a:pt x="8" y="1100"/>
                </a:lnTo>
                <a:lnTo>
                  <a:pt x="4" y="1088"/>
                </a:lnTo>
                <a:lnTo>
                  <a:pt x="2" y="1084"/>
                </a:lnTo>
                <a:lnTo>
                  <a:pt x="2" y="1080"/>
                </a:lnTo>
                <a:lnTo>
                  <a:pt x="0" y="1077"/>
                </a:lnTo>
                <a:lnTo>
                  <a:pt x="0" y="1075"/>
                </a:lnTo>
                <a:lnTo>
                  <a:pt x="0" y="1071"/>
                </a:lnTo>
                <a:lnTo>
                  <a:pt x="2" y="1069"/>
                </a:lnTo>
                <a:lnTo>
                  <a:pt x="4" y="1065"/>
                </a:lnTo>
                <a:lnTo>
                  <a:pt x="6" y="1061"/>
                </a:lnTo>
                <a:lnTo>
                  <a:pt x="8" y="1057"/>
                </a:lnTo>
                <a:lnTo>
                  <a:pt x="12" y="1054"/>
                </a:lnTo>
                <a:lnTo>
                  <a:pt x="16" y="1050"/>
                </a:lnTo>
                <a:lnTo>
                  <a:pt x="19" y="1046"/>
                </a:lnTo>
                <a:lnTo>
                  <a:pt x="29" y="1036"/>
                </a:lnTo>
                <a:lnTo>
                  <a:pt x="41" y="1027"/>
                </a:lnTo>
                <a:lnTo>
                  <a:pt x="54" y="1015"/>
                </a:lnTo>
                <a:lnTo>
                  <a:pt x="67" y="1006"/>
                </a:lnTo>
                <a:lnTo>
                  <a:pt x="75" y="1000"/>
                </a:lnTo>
                <a:lnTo>
                  <a:pt x="83" y="992"/>
                </a:lnTo>
                <a:lnTo>
                  <a:pt x="92" y="983"/>
                </a:lnTo>
                <a:lnTo>
                  <a:pt x="102" y="973"/>
                </a:lnTo>
                <a:lnTo>
                  <a:pt x="113" y="960"/>
                </a:lnTo>
                <a:lnTo>
                  <a:pt x="125" y="946"/>
                </a:lnTo>
                <a:lnTo>
                  <a:pt x="138" y="931"/>
                </a:lnTo>
                <a:lnTo>
                  <a:pt x="152" y="913"/>
                </a:lnTo>
                <a:lnTo>
                  <a:pt x="165" y="894"/>
                </a:lnTo>
                <a:lnTo>
                  <a:pt x="181" y="875"/>
                </a:lnTo>
                <a:lnTo>
                  <a:pt x="196" y="852"/>
                </a:lnTo>
                <a:lnTo>
                  <a:pt x="213" y="829"/>
                </a:lnTo>
                <a:lnTo>
                  <a:pt x="232" y="804"/>
                </a:lnTo>
                <a:lnTo>
                  <a:pt x="252" y="777"/>
                </a:lnTo>
                <a:lnTo>
                  <a:pt x="273" y="748"/>
                </a:lnTo>
                <a:lnTo>
                  <a:pt x="294" y="718"/>
                </a:lnTo>
                <a:lnTo>
                  <a:pt x="315" y="687"/>
                </a:lnTo>
                <a:lnTo>
                  <a:pt x="336" y="656"/>
                </a:lnTo>
                <a:lnTo>
                  <a:pt x="357" y="627"/>
                </a:lnTo>
                <a:lnTo>
                  <a:pt x="376" y="599"/>
                </a:lnTo>
                <a:lnTo>
                  <a:pt x="394" y="572"/>
                </a:lnTo>
                <a:lnTo>
                  <a:pt x="413" y="543"/>
                </a:lnTo>
                <a:lnTo>
                  <a:pt x="430" y="516"/>
                </a:lnTo>
                <a:lnTo>
                  <a:pt x="447" y="489"/>
                </a:lnTo>
                <a:lnTo>
                  <a:pt x="463" y="464"/>
                </a:lnTo>
                <a:lnTo>
                  <a:pt x="478" y="439"/>
                </a:lnTo>
                <a:lnTo>
                  <a:pt x="494" y="414"/>
                </a:lnTo>
                <a:lnTo>
                  <a:pt x="507" y="389"/>
                </a:lnTo>
                <a:lnTo>
                  <a:pt x="520" y="365"/>
                </a:lnTo>
                <a:lnTo>
                  <a:pt x="534" y="341"/>
                </a:lnTo>
                <a:lnTo>
                  <a:pt x="561" y="293"/>
                </a:lnTo>
                <a:lnTo>
                  <a:pt x="572" y="272"/>
                </a:lnTo>
                <a:lnTo>
                  <a:pt x="582" y="253"/>
                </a:lnTo>
                <a:lnTo>
                  <a:pt x="593" y="236"/>
                </a:lnTo>
                <a:lnTo>
                  <a:pt x="601" y="219"/>
                </a:lnTo>
                <a:lnTo>
                  <a:pt x="611" y="201"/>
                </a:lnTo>
                <a:lnTo>
                  <a:pt x="618" y="186"/>
                </a:lnTo>
                <a:lnTo>
                  <a:pt x="624" y="173"/>
                </a:lnTo>
                <a:lnTo>
                  <a:pt x="630" y="157"/>
                </a:lnTo>
                <a:lnTo>
                  <a:pt x="634" y="146"/>
                </a:lnTo>
                <a:lnTo>
                  <a:pt x="637" y="132"/>
                </a:lnTo>
                <a:lnTo>
                  <a:pt x="639" y="121"/>
                </a:lnTo>
                <a:lnTo>
                  <a:pt x="641" y="111"/>
                </a:lnTo>
                <a:lnTo>
                  <a:pt x="643" y="100"/>
                </a:lnTo>
                <a:lnTo>
                  <a:pt x="643" y="90"/>
                </a:lnTo>
                <a:lnTo>
                  <a:pt x="641" y="82"/>
                </a:lnTo>
                <a:lnTo>
                  <a:pt x="639" y="75"/>
                </a:lnTo>
                <a:lnTo>
                  <a:pt x="637" y="69"/>
                </a:lnTo>
                <a:lnTo>
                  <a:pt x="636" y="63"/>
                </a:lnTo>
                <a:lnTo>
                  <a:pt x="636" y="59"/>
                </a:lnTo>
                <a:lnTo>
                  <a:pt x="634" y="54"/>
                </a:lnTo>
                <a:lnTo>
                  <a:pt x="636" y="44"/>
                </a:lnTo>
                <a:lnTo>
                  <a:pt x="636" y="34"/>
                </a:lnTo>
                <a:lnTo>
                  <a:pt x="639" y="27"/>
                </a:lnTo>
                <a:lnTo>
                  <a:pt x="643" y="19"/>
                </a:lnTo>
                <a:lnTo>
                  <a:pt x="649" y="11"/>
                </a:lnTo>
                <a:lnTo>
                  <a:pt x="653" y="6"/>
                </a:lnTo>
                <a:lnTo>
                  <a:pt x="655" y="4"/>
                </a:lnTo>
                <a:lnTo>
                  <a:pt x="659" y="2"/>
                </a:lnTo>
                <a:lnTo>
                  <a:pt x="662" y="2"/>
                </a:lnTo>
                <a:lnTo>
                  <a:pt x="666" y="0"/>
                </a:lnTo>
                <a:lnTo>
                  <a:pt x="670" y="0"/>
                </a:lnTo>
                <a:lnTo>
                  <a:pt x="674" y="0"/>
                </a:lnTo>
                <a:lnTo>
                  <a:pt x="684" y="2"/>
                </a:lnTo>
                <a:lnTo>
                  <a:pt x="693" y="6"/>
                </a:lnTo>
                <a:lnTo>
                  <a:pt x="705" y="9"/>
                </a:lnTo>
                <a:lnTo>
                  <a:pt x="718" y="15"/>
                </a:lnTo>
                <a:lnTo>
                  <a:pt x="733" y="19"/>
                </a:lnTo>
                <a:lnTo>
                  <a:pt x="747" y="31"/>
                </a:lnTo>
                <a:lnTo>
                  <a:pt x="760" y="40"/>
                </a:lnTo>
                <a:lnTo>
                  <a:pt x="772" y="50"/>
                </a:lnTo>
                <a:lnTo>
                  <a:pt x="783" y="61"/>
                </a:lnTo>
                <a:lnTo>
                  <a:pt x="793" y="71"/>
                </a:lnTo>
                <a:lnTo>
                  <a:pt x="801" y="80"/>
                </a:lnTo>
                <a:lnTo>
                  <a:pt x="806" y="92"/>
                </a:lnTo>
                <a:lnTo>
                  <a:pt x="812" y="10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88"/>
          <p:cNvSpPr/>
          <p:nvPr/>
        </p:nvSpPr>
        <p:spPr>
          <a:xfrm>
            <a:off x="6262560" y="2894040"/>
            <a:ext cx="489240" cy="898560"/>
          </a:xfrm>
          <a:custGeom>
            <a:avLst/>
            <a:gdLst/>
            <a:ahLst/>
            <a:rect l="l" t="t" r="r" b="b"/>
            <a:pathLst>
              <a:path w="616" h="1133">
                <a:moveTo>
                  <a:pt x="324" y="338"/>
                </a:moveTo>
                <a:lnTo>
                  <a:pt x="330" y="313"/>
                </a:lnTo>
                <a:lnTo>
                  <a:pt x="338" y="290"/>
                </a:lnTo>
                <a:lnTo>
                  <a:pt x="344" y="267"/>
                </a:lnTo>
                <a:lnTo>
                  <a:pt x="349" y="246"/>
                </a:lnTo>
                <a:lnTo>
                  <a:pt x="353" y="225"/>
                </a:lnTo>
                <a:lnTo>
                  <a:pt x="357" y="208"/>
                </a:lnTo>
                <a:lnTo>
                  <a:pt x="361" y="188"/>
                </a:lnTo>
                <a:lnTo>
                  <a:pt x="363" y="173"/>
                </a:lnTo>
                <a:lnTo>
                  <a:pt x="367" y="158"/>
                </a:lnTo>
                <a:lnTo>
                  <a:pt x="367" y="142"/>
                </a:lnTo>
                <a:lnTo>
                  <a:pt x="368" y="129"/>
                </a:lnTo>
                <a:lnTo>
                  <a:pt x="368" y="117"/>
                </a:lnTo>
                <a:lnTo>
                  <a:pt x="368" y="106"/>
                </a:lnTo>
                <a:lnTo>
                  <a:pt x="367" y="96"/>
                </a:lnTo>
                <a:lnTo>
                  <a:pt x="367" y="87"/>
                </a:lnTo>
                <a:lnTo>
                  <a:pt x="365" y="79"/>
                </a:lnTo>
                <a:lnTo>
                  <a:pt x="359" y="68"/>
                </a:lnTo>
                <a:lnTo>
                  <a:pt x="357" y="58"/>
                </a:lnTo>
                <a:lnTo>
                  <a:pt x="355" y="48"/>
                </a:lnTo>
                <a:lnTo>
                  <a:pt x="353" y="39"/>
                </a:lnTo>
                <a:lnTo>
                  <a:pt x="355" y="31"/>
                </a:lnTo>
                <a:lnTo>
                  <a:pt x="357" y="23"/>
                </a:lnTo>
                <a:lnTo>
                  <a:pt x="359" y="16"/>
                </a:lnTo>
                <a:lnTo>
                  <a:pt x="365" y="10"/>
                </a:lnTo>
                <a:lnTo>
                  <a:pt x="367" y="8"/>
                </a:lnTo>
                <a:lnTo>
                  <a:pt x="370" y="6"/>
                </a:lnTo>
                <a:lnTo>
                  <a:pt x="374" y="4"/>
                </a:lnTo>
                <a:lnTo>
                  <a:pt x="378" y="2"/>
                </a:lnTo>
                <a:lnTo>
                  <a:pt x="388" y="0"/>
                </a:lnTo>
                <a:lnTo>
                  <a:pt x="401" y="0"/>
                </a:lnTo>
                <a:lnTo>
                  <a:pt x="413" y="0"/>
                </a:lnTo>
                <a:lnTo>
                  <a:pt x="428" y="2"/>
                </a:lnTo>
                <a:lnTo>
                  <a:pt x="441" y="6"/>
                </a:lnTo>
                <a:lnTo>
                  <a:pt x="457" y="10"/>
                </a:lnTo>
                <a:lnTo>
                  <a:pt x="472" y="16"/>
                </a:lnTo>
                <a:lnTo>
                  <a:pt x="486" y="23"/>
                </a:lnTo>
                <a:lnTo>
                  <a:pt x="497" y="31"/>
                </a:lnTo>
                <a:lnTo>
                  <a:pt x="511" y="41"/>
                </a:lnTo>
                <a:lnTo>
                  <a:pt x="524" y="52"/>
                </a:lnTo>
                <a:lnTo>
                  <a:pt x="535" y="64"/>
                </a:lnTo>
                <a:lnTo>
                  <a:pt x="549" y="77"/>
                </a:lnTo>
                <a:lnTo>
                  <a:pt x="564" y="92"/>
                </a:lnTo>
                <a:lnTo>
                  <a:pt x="570" y="100"/>
                </a:lnTo>
                <a:lnTo>
                  <a:pt x="578" y="106"/>
                </a:lnTo>
                <a:lnTo>
                  <a:pt x="583" y="114"/>
                </a:lnTo>
                <a:lnTo>
                  <a:pt x="589" y="121"/>
                </a:lnTo>
                <a:lnTo>
                  <a:pt x="593" y="127"/>
                </a:lnTo>
                <a:lnTo>
                  <a:pt x="597" y="133"/>
                </a:lnTo>
                <a:lnTo>
                  <a:pt x="601" y="139"/>
                </a:lnTo>
                <a:lnTo>
                  <a:pt x="605" y="144"/>
                </a:lnTo>
                <a:lnTo>
                  <a:pt x="610" y="154"/>
                </a:lnTo>
                <a:lnTo>
                  <a:pt x="614" y="162"/>
                </a:lnTo>
                <a:lnTo>
                  <a:pt x="616" y="169"/>
                </a:lnTo>
                <a:lnTo>
                  <a:pt x="616" y="175"/>
                </a:lnTo>
                <a:lnTo>
                  <a:pt x="614" y="177"/>
                </a:lnTo>
                <a:lnTo>
                  <a:pt x="610" y="183"/>
                </a:lnTo>
                <a:lnTo>
                  <a:pt x="607" y="188"/>
                </a:lnTo>
                <a:lnTo>
                  <a:pt x="601" y="198"/>
                </a:lnTo>
                <a:lnTo>
                  <a:pt x="597" y="208"/>
                </a:lnTo>
                <a:lnTo>
                  <a:pt x="591" y="219"/>
                </a:lnTo>
                <a:lnTo>
                  <a:pt x="583" y="231"/>
                </a:lnTo>
                <a:lnTo>
                  <a:pt x="576" y="246"/>
                </a:lnTo>
                <a:lnTo>
                  <a:pt x="568" y="261"/>
                </a:lnTo>
                <a:lnTo>
                  <a:pt x="560" y="281"/>
                </a:lnTo>
                <a:lnTo>
                  <a:pt x="551" y="300"/>
                </a:lnTo>
                <a:lnTo>
                  <a:pt x="541" y="321"/>
                </a:lnTo>
                <a:lnTo>
                  <a:pt x="532" y="344"/>
                </a:lnTo>
                <a:lnTo>
                  <a:pt x="520" y="367"/>
                </a:lnTo>
                <a:lnTo>
                  <a:pt x="509" y="394"/>
                </a:lnTo>
                <a:lnTo>
                  <a:pt x="497" y="421"/>
                </a:lnTo>
                <a:lnTo>
                  <a:pt x="482" y="450"/>
                </a:lnTo>
                <a:lnTo>
                  <a:pt x="468" y="476"/>
                </a:lnTo>
                <a:lnTo>
                  <a:pt x="453" y="501"/>
                </a:lnTo>
                <a:lnTo>
                  <a:pt x="440" y="526"/>
                </a:lnTo>
                <a:lnTo>
                  <a:pt x="426" y="551"/>
                </a:lnTo>
                <a:lnTo>
                  <a:pt x="413" y="574"/>
                </a:lnTo>
                <a:lnTo>
                  <a:pt x="399" y="597"/>
                </a:lnTo>
                <a:lnTo>
                  <a:pt x="386" y="618"/>
                </a:lnTo>
                <a:lnTo>
                  <a:pt x="372" y="641"/>
                </a:lnTo>
                <a:lnTo>
                  <a:pt x="359" y="663"/>
                </a:lnTo>
                <a:lnTo>
                  <a:pt x="347" y="682"/>
                </a:lnTo>
                <a:lnTo>
                  <a:pt x="334" y="701"/>
                </a:lnTo>
                <a:lnTo>
                  <a:pt x="309" y="739"/>
                </a:lnTo>
                <a:lnTo>
                  <a:pt x="284" y="778"/>
                </a:lnTo>
                <a:lnTo>
                  <a:pt x="273" y="795"/>
                </a:lnTo>
                <a:lnTo>
                  <a:pt x="261" y="810"/>
                </a:lnTo>
                <a:lnTo>
                  <a:pt x="253" y="826"/>
                </a:lnTo>
                <a:lnTo>
                  <a:pt x="244" y="839"/>
                </a:lnTo>
                <a:lnTo>
                  <a:pt x="236" y="853"/>
                </a:lnTo>
                <a:lnTo>
                  <a:pt x="230" y="864"/>
                </a:lnTo>
                <a:lnTo>
                  <a:pt x="225" y="874"/>
                </a:lnTo>
                <a:lnTo>
                  <a:pt x="221" y="883"/>
                </a:lnTo>
                <a:lnTo>
                  <a:pt x="219" y="891"/>
                </a:lnTo>
                <a:lnTo>
                  <a:pt x="215" y="899"/>
                </a:lnTo>
                <a:lnTo>
                  <a:pt x="213" y="906"/>
                </a:lnTo>
                <a:lnTo>
                  <a:pt x="213" y="912"/>
                </a:lnTo>
                <a:lnTo>
                  <a:pt x="213" y="916"/>
                </a:lnTo>
                <a:lnTo>
                  <a:pt x="213" y="922"/>
                </a:lnTo>
                <a:lnTo>
                  <a:pt x="215" y="924"/>
                </a:lnTo>
                <a:lnTo>
                  <a:pt x="217" y="927"/>
                </a:lnTo>
                <a:lnTo>
                  <a:pt x="221" y="929"/>
                </a:lnTo>
                <a:lnTo>
                  <a:pt x="225" y="931"/>
                </a:lnTo>
                <a:lnTo>
                  <a:pt x="228" y="933"/>
                </a:lnTo>
                <a:lnTo>
                  <a:pt x="236" y="935"/>
                </a:lnTo>
                <a:lnTo>
                  <a:pt x="242" y="937"/>
                </a:lnTo>
                <a:lnTo>
                  <a:pt x="249" y="937"/>
                </a:lnTo>
                <a:lnTo>
                  <a:pt x="259" y="937"/>
                </a:lnTo>
                <a:lnTo>
                  <a:pt x="269" y="937"/>
                </a:lnTo>
                <a:lnTo>
                  <a:pt x="280" y="937"/>
                </a:lnTo>
                <a:lnTo>
                  <a:pt x="292" y="937"/>
                </a:lnTo>
                <a:lnTo>
                  <a:pt x="305" y="937"/>
                </a:lnTo>
                <a:lnTo>
                  <a:pt x="321" y="935"/>
                </a:lnTo>
                <a:lnTo>
                  <a:pt x="336" y="933"/>
                </a:lnTo>
                <a:lnTo>
                  <a:pt x="353" y="931"/>
                </a:lnTo>
                <a:lnTo>
                  <a:pt x="370" y="929"/>
                </a:lnTo>
                <a:lnTo>
                  <a:pt x="392" y="927"/>
                </a:lnTo>
                <a:lnTo>
                  <a:pt x="411" y="926"/>
                </a:lnTo>
                <a:lnTo>
                  <a:pt x="430" y="924"/>
                </a:lnTo>
                <a:lnTo>
                  <a:pt x="447" y="922"/>
                </a:lnTo>
                <a:lnTo>
                  <a:pt x="464" y="920"/>
                </a:lnTo>
                <a:lnTo>
                  <a:pt x="482" y="918"/>
                </a:lnTo>
                <a:lnTo>
                  <a:pt x="499" y="918"/>
                </a:lnTo>
                <a:lnTo>
                  <a:pt x="514" y="916"/>
                </a:lnTo>
                <a:lnTo>
                  <a:pt x="528" y="916"/>
                </a:lnTo>
                <a:lnTo>
                  <a:pt x="543" y="914"/>
                </a:lnTo>
                <a:lnTo>
                  <a:pt x="557" y="914"/>
                </a:lnTo>
                <a:lnTo>
                  <a:pt x="568" y="914"/>
                </a:lnTo>
                <a:lnTo>
                  <a:pt x="580" y="914"/>
                </a:lnTo>
                <a:lnTo>
                  <a:pt x="589" y="914"/>
                </a:lnTo>
                <a:lnTo>
                  <a:pt x="601" y="914"/>
                </a:lnTo>
                <a:lnTo>
                  <a:pt x="608" y="914"/>
                </a:lnTo>
                <a:lnTo>
                  <a:pt x="616" y="914"/>
                </a:lnTo>
                <a:lnTo>
                  <a:pt x="564" y="975"/>
                </a:lnTo>
                <a:lnTo>
                  <a:pt x="537" y="1006"/>
                </a:lnTo>
                <a:lnTo>
                  <a:pt x="511" y="1037"/>
                </a:lnTo>
                <a:lnTo>
                  <a:pt x="487" y="1037"/>
                </a:lnTo>
                <a:lnTo>
                  <a:pt x="466" y="1037"/>
                </a:lnTo>
                <a:lnTo>
                  <a:pt x="447" y="1039"/>
                </a:lnTo>
                <a:lnTo>
                  <a:pt x="428" y="1039"/>
                </a:lnTo>
                <a:lnTo>
                  <a:pt x="409" y="1041"/>
                </a:lnTo>
                <a:lnTo>
                  <a:pt x="392" y="1043"/>
                </a:lnTo>
                <a:lnTo>
                  <a:pt x="374" y="1045"/>
                </a:lnTo>
                <a:lnTo>
                  <a:pt x="357" y="1046"/>
                </a:lnTo>
                <a:lnTo>
                  <a:pt x="342" y="1050"/>
                </a:lnTo>
                <a:lnTo>
                  <a:pt x="326" y="1052"/>
                </a:lnTo>
                <a:lnTo>
                  <a:pt x="311" y="1056"/>
                </a:lnTo>
                <a:lnTo>
                  <a:pt x="297" y="1060"/>
                </a:lnTo>
                <a:lnTo>
                  <a:pt x="271" y="1068"/>
                </a:lnTo>
                <a:lnTo>
                  <a:pt x="244" y="1077"/>
                </a:lnTo>
                <a:lnTo>
                  <a:pt x="232" y="1085"/>
                </a:lnTo>
                <a:lnTo>
                  <a:pt x="221" y="1093"/>
                </a:lnTo>
                <a:lnTo>
                  <a:pt x="209" y="1098"/>
                </a:lnTo>
                <a:lnTo>
                  <a:pt x="198" y="1104"/>
                </a:lnTo>
                <a:lnTo>
                  <a:pt x="186" y="1110"/>
                </a:lnTo>
                <a:lnTo>
                  <a:pt x="177" y="1114"/>
                </a:lnTo>
                <a:lnTo>
                  <a:pt x="165" y="1117"/>
                </a:lnTo>
                <a:lnTo>
                  <a:pt x="155" y="1121"/>
                </a:lnTo>
                <a:lnTo>
                  <a:pt x="148" y="1123"/>
                </a:lnTo>
                <a:lnTo>
                  <a:pt x="138" y="1127"/>
                </a:lnTo>
                <a:lnTo>
                  <a:pt x="130" y="1129"/>
                </a:lnTo>
                <a:lnTo>
                  <a:pt x="123" y="1131"/>
                </a:lnTo>
                <a:lnTo>
                  <a:pt x="115" y="1131"/>
                </a:lnTo>
                <a:lnTo>
                  <a:pt x="109" y="1133"/>
                </a:lnTo>
                <a:lnTo>
                  <a:pt x="104" y="1133"/>
                </a:lnTo>
                <a:lnTo>
                  <a:pt x="98" y="1133"/>
                </a:lnTo>
                <a:lnTo>
                  <a:pt x="88" y="1133"/>
                </a:lnTo>
                <a:lnTo>
                  <a:pt x="79" y="1131"/>
                </a:lnTo>
                <a:lnTo>
                  <a:pt x="69" y="1127"/>
                </a:lnTo>
                <a:lnTo>
                  <a:pt x="59" y="1123"/>
                </a:lnTo>
                <a:lnTo>
                  <a:pt x="52" y="1117"/>
                </a:lnTo>
                <a:lnTo>
                  <a:pt x="44" y="1110"/>
                </a:lnTo>
                <a:lnTo>
                  <a:pt x="36" y="1102"/>
                </a:lnTo>
                <a:lnTo>
                  <a:pt x="31" y="1093"/>
                </a:lnTo>
                <a:lnTo>
                  <a:pt x="21" y="1071"/>
                </a:lnTo>
                <a:lnTo>
                  <a:pt x="17" y="1060"/>
                </a:lnTo>
                <a:lnTo>
                  <a:pt x="13" y="1050"/>
                </a:lnTo>
                <a:lnTo>
                  <a:pt x="10" y="1041"/>
                </a:lnTo>
                <a:lnTo>
                  <a:pt x="6" y="1029"/>
                </a:lnTo>
                <a:lnTo>
                  <a:pt x="6" y="1020"/>
                </a:lnTo>
                <a:lnTo>
                  <a:pt x="4" y="1010"/>
                </a:lnTo>
                <a:lnTo>
                  <a:pt x="2" y="1004"/>
                </a:lnTo>
                <a:lnTo>
                  <a:pt x="0" y="998"/>
                </a:lnTo>
                <a:lnTo>
                  <a:pt x="0" y="995"/>
                </a:lnTo>
                <a:lnTo>
                  <a:pt x="0" y="989"/>
                </a:lnTo>
                <a:lnTo>
                  <a:pt x="0" y="983"/>
                </a:lnTo>
                <a:lnTo>
                  <a:pt x="0" y="979"/>
                </a:lnTo>
                <a:lnTo>
                  <a:pt x="2" y="974"/>
                </a:lnTo>
                <a:lnTo>
                  <a:pt x="4" y="968"/>
                </a:lnTo>
                <a:lnTo>
                  <a:pt x="8" y="964"/>
                </a:lnTo>
                <a:lnTo>
                  <a:pt x="11" y="958"/>
                </a:lnTo>
                <a:lnTo>
                  <a:pt x="15" y="952"/>
                </a:lnTo>
                <a:lnTo>
                  <a:pt x="19" y="949"/>
                </a:lnTo>
                <a:lnTo>
                  <a:pt x="25" y="943"/>
                </a:lnTo>
                <a:lnTo>
                  <a:pt x="31" y="937"/>
                </a:lnTo>
                <a:lnTo>
                  <a:pt x="36" y="933"/>
                </a:lnTo>
                <a:lnTo>
                  <a:pt x="44" y="927"/>
                </a:lnTo>
                <a:lnTo>
                  <a:pt x="50" y="924"/>
                </a:lnTo>
                <a:lnTo>
                  <a:pt x="56" y="920"/>
                </a:lnTo>
                <a:lnTo>
                  <a:pt x="61" y="912"/>
                </a:lnTo>
                <a:lnTo>
                  <a:pt x="67" y="904"/>
                </a:lnTo>
                <a:lnTo>
                  <a:pt x="73" y="895"/>
                </a:lnTo>
                <a:lnTo>
                  <a:pt x="81" y="885"/>
                </a:lnTo>
                <a:lnTo>
                  <a:pt x="88" y="872"/>
                </a:lnTo>
                <a:lnTo>
                  <a:pt x="96" y="858"/>
                </a:lnTo>
                <a:lnTo>
                  <a:pt x="106" y="845"/>
                </a:lnTo>
                <a:lnTo>
                  <a:pt x="113" y="828"/>
                </a:lnTo>
                <a:lnTo>
                  <a:pt x="123" y="810"/>
                </a:lnTo>
                <a:lnTo>
                  <a:pt x="132" y="793"/>
                </a:lnTo>
                <a:lnTo>
                  <a:pt x="144" y="774"/>
                </a:lnTo>
                <a:lnTo>
                  <a:pt x="154" y="753"/>
                </a:lnTo>
                <a:lnTo>
                  <a:pt x="165" y="732"/>
                </a:lnTo>
                <a:lnTo>
                  <a:pt x="178" y="709"/>
                </a:lnTo>
                <a:lnTo>
                  <a:pt x="190" y="686"/>
                </a:lnTo>
                <a:lnTo>
                  <a:pt x="202" y="663"/>
                </a:lnTo>
                <a:lnTo>
                  <a:pt x="211" y="640"/>
                </a:lnTo>
                <a:lnTo>
                  <a:pt x="223" y="617"/>
                </a:lnTo>
                <a:lnTo>
                  <a:pt x="242" y="569"/>
                </a:lnTo>
                <a:lnTo>
                  <a:pt x="261" y="522"/>
                </a:lnTo>
                <a:lnTo>
                  <a:pt x="278" y="476"/>
                </a:lnTo>
                <a:lnTo>
                  <a:pt x="294" y="430"/>
                </a:lnTo>
                <a:lnTo>
                  <a:pt x="309" y="384"/>
                </a:lnTo>
                <a:lnTo>
                  <a:pt x="324" y="33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89"/>
          <p:cNvSpPr/>
          <p:nvPr/>
        </p:nvSpPr>
        <p:spPr>
          <a:xfrm>
            <a:off x="5653080" y="3348000"/>
            <a:ext cx="623880" cy="663480"/>
          </a:xfrm>
          <a:custGeom>
            <a:avLst/>
            <a:gdLst/>
            <a:ahLst/>
            <a:rect l="l" t="t" r="r" b="b"/>
            <a:pathLst>
              <a:path w="785" h="835">
                <a:moveTo>
                  <a:pt x="572" y="835"/>
                </a:moveTo>
                <a:lnTo>
                  <a:pt x="467" y="835"/>
                </a:lnTo>
                <a:lnTo>
                  <a:pt x="467" y="797"/>
                </a:lnTo>
                <a:lnTo>
                  <a:pt x="469" y="760"/>
                </a:lnTo>
                <a:lnTo>
                  <a:pt x="470" y="724"/>
                </a:lnTo>
                <a:lnTo>
                  <a:pt x="470" y="689"/>
                </a:lnTo>
                <a:lnTo>
                  <a:pt x="472" y="657"/>
                </a:lnTo>
                <a:lnTo>
                  <a:pt x="474" y="624"/>
                </a:lnTo>
                <a:lnTo>
                  <a:pt x="474" y="593"/>
                </a:lnTo>
                <a:lnTo>
                  <a:pt x="476" y="563"/>
                </a:lnTo>
                <a:lnTo>
                  <a:pt x="476" y="534"/>
                </a:lnTo>
                <a:lnTo>
                  <a:pt x="478" y="505"/>
                </a:lnTo>
                <a:lnTo>
                  <a:pt x="478" y="480"/>
                </a:lnTo>
                <a:lnTo>
                  <a:pt x="480" y="453"/>
                </a:lnTo>
                <a:lnTo>
                  <a:pt x="480" y="430"/>
                </a:lnTo>
                <a:lnTo>
                  <a:pt x="482" y="407"/>
                </a:lnTo>
                <a:lnTo>
                  <a:pt x="482" y="384"/>
                </a:lnTo>
                <a:lnTo>
                  <a:pt x="482" y="363"/>
                </a:lnTo>
                <a:lnTo>
                  <a:pt x="484" y="344"/>
                </a:lnTo>
                <a:lnTo>
                  <a:pt x="484" y="327"/>
                </a:lnTo>
                <a:lnTo>
                  <a:pt x="484" y="309"/>
                </a:lnTo>
                <a:lnTo>
                  <a:pt x="484" y="292"/>
                </a:lnTo>
                <a:lnTo>
                  <a:pt x="484" y="277"/>
                </a:lnTo>
                <a:lnTo>
                  <a:pt x="484" y="263"/>
                </a:lnTo>
                <a:lnTo>
                  <a:pt x="486" y="252"/>
                </a:lnTo>
                <a:lnTo>
                  <a:pt x="484" y="240"/>
                </a:lnTo>
                <a:lnTo>
                  <a:pt x="484" y="229"/>
                </a:lnTo>
                <a:lnTo>
                  <a:pt x="484" y="221"/>
                </a:lnTo>
                <a:lnTo>
                  <a:pt x="484" y="212"/>
                </a:lnTo>
                <a:lnTo>
                  <a:pt x="484" y="206"/>
                </a:lnTo>
                <a:lnTo>
                  <a:pt x="482" y="200"/>
                </a:lnTo>
                <a:lnTo>
                  <a:pt x="482" y="196"/>
                </a:lnTo>
                <a:lnTo>
                  <a:pt x="480" y="192"/>
                </a:lnTo>
                <a:lnTo>
                  <a:pt x="480" y="190"/>
                </a:lnTo>
                <a:lnTo>
                  <a:pt x="476" y="188"/>
                </a:lnTo>
                <a:lnTo>
                  <a:pt x="472" y="187"/>
                </a:lnTo>
                <a:lnTo>
                  <a:pt x="469" y="187"/>
                </a:lnTo>
                <a:lnTo>
                  <a:pt x="463" y="185"/>
                </a:lnTo>
                <a:lnTo>
                  <a:pt x="455" y="185"/>
                </a:lnTo>
                <a:lnTo>
                  <a:pt x="447" y="187"/>
                </a:lnTo>
                <a:lnTo>
                  <a:pt x="438" y="187"/>
                </a:lnTo>
                <a:lnTo>
                  <a:pt x="428" y="188"/>
                </a:lnTo>
                <a:lnTo>
                  <a:pt x="417" y="190"/>
                </a:lnTo>
                <a:lnTo>
                  <a:pt x="405" y="194"/>
                </a:lnTo>
                <a:lnTo>
                  <a:pt x="392" y="196"/>
                </a:lnTo>
                <a:lnTo>
                  <a:pt x="376" y="200"/>
                </a:lnTo>
                <a:lnTo>
                  <a:pt x="361" y="204"/>
                </a:lnTo>
                <a:lnTo>
                  <a:pt x="344" y="208"/>
                </a:lnTo>
                <a:lnTo>
                  <a:pt x="326" y="213"/>
                </a:lnTo>
                <a:lnTo>
                  <a:pt x="307" y="219"/>
                </a:lnTo>
                <a:lnTo>
                  <a:pt x="286" y="225"/>
                </a:lnTo>
                <a:lnTo>
                  <a:pt x="267" y="233"/>
                </a:lnTo>
                <a:lnTo>
                  <a:pt x="246" y="238"/>
                </a:lnTo>
                <a:lnTo>
                  <a:pt x="227" y="244"/>
                </a:lnTo>
                <a:lnTo>
                  <a:pt x="207" y="250"/>
                </a:lnTo>
                <a:lnTo>
                  <a:pt x="188" y="254"/>
                </a:lnTo>
                <a:lnTo>
                  <a:pt x="167" y="258"/>
                </a:lnTo>
                <a:lnTo>
                  <a:pt x="148" y="261"/>
                </a:lnTo>
                <a:lnTo>
                  <a:pt x="129" y="263"/>
                </a:lnTo>
                <a:lnTo>
                  <a:pt x="110" y="267"/>
                </a:lnTo>
                <a:lnTo>
                  <a:pt x="73" y="271"/>
                </a:lnTo>
                <a:lnTo>
                  <a:pt x="37" y="273"/>
                </a:lnTo>
                <a:lnTo>
                  <a:pt x="0" y="273"/>
                </a:lnTo>
                <a:lnTo>
                  <a:pt x="0" y="164"/>
                </a:lnTo>
                <a:lnTo>
                  <a:pt x="23" y="164"/>
                </a:lnTo>
                <a:lnTo>
                  <a:pt x="44" y="164"/>
                </a:lnTo>
                <a:lnTo>
                  <a:pt x="65" y="162"/>
                </a:lnTo>
                <a:lnTo>
                  <a:pt x="85" y="162"/>
                </a:lnTo>
                <a:lnTo>
                  <a:pt x="125" y="158"/>
                </a:lnTo>
                <a:lnTo>
                  <a:pt x="163" y="154"/>
                </a:lnTo>
                <a:lnTo>
                  <a:pt x="200" y="148"/>
                </a:lnTo>
                <a:lnTo>
                  <a:pt x="236" y="140"/>
                </a:lnTo>
                <a:lnTo>
                  <a:pt x="271" y="133"/>
                </a:lnTo>
                <a:lnTo>
                  <a:pt x="307" y="123"/>
                </a:lnTo>
                <a:lnTo>
                  <a:pt x="323" y="117"/>
                </a:lnTo>
                <a:lnTo>
                  <a:pt x="340" y="112"/>
                </a:lnTo>
                <a:lnTo>
                  <a:pt x="355" y="106"/>
                </a:lnTo>
                <a:lnTo>
                  <a:pt x="369" y="102"/>
                </a:lnTo>
                <a:lnTo>
                  <a:pt x="382" y="96"/>
                </a:lnTo>
                <a:lnTo>
                  <a:pt x="394" y="91"/>
                </a:lnTo>
                <a:lnTo>
                  <a:pt x="405" y="87"/>
                </a:lnTo>
                <a:lnTo>
                  <a:pt x="417" y="81"/>
                </a:lnTo>
                <a:lnTo>
                  <a:pt x="426" y="75"/>
                </a:lnTo>
                <a:lnTo>
                  <a:pt x="434" y="71"/>
                </a:lnTo>
                <a:lnTo>
                  <a:pt x="442" y="66"/>
                </a:lnTo>
                <a:lnTo>
                  <a:pt x="449" y="62"/>
                </a:lnTo>
                <a:lnTo>
                  <a:pt x="455" y="56"/>
                </a:lnTo>
                <a:lnTo>
                  <a:pt x="459" y="50"/>
                </a:lnTo>
                <a:lnTo>
                  <a:pt x="463" y="45"/>
                </a:lnTo>
                <a:lnTo>
                  <a:pt x="467" y="41"/>
                </a:lnTo>
                <a:lnTo>
                  <a:pt x="472" y="31"/>
                </a:lnTo>
                <a:lnTo>
                  <a:pt x="478" y="21"/>
                </a:lnTo>
                <a:lnTo>
                  <a:pt x="486" y="16"/>
                </a:lnTo>
                <a:lnTo>
                  <a:pt x="493" y="10"/>
                </a:lnTo>
                <a:lnTo>
                  <a:pt x="499" y="4"/>
                </a:lnTo>
                <a:lnTo>
                  <a:pt x="507" y="2"/>
                </a:lnTo>
                <a:lnTo>
                  <a:pt x="515" y="0"/>
                </a:lnTo>
                <a:lnTo>
                  <a:pt x="520" y="0"/>
                </a:lnTo>
                <a:lnTo>
                  <a:pt x="522" y="2"/>
                </a:lnTo>
                <a:lnTo>
                  <a:pt x="526" y="4"/>
                </a:lnTo>
                <a:lnTo>
                  <a:pt x="532" y="8"/>
                </a:lnTo>
                <a:lnTo>
                  <a:pt x="536" y="10"/>
                </a:lnTo>
                <a:lnTo>
                  <a:pt x="543" y="14"/>
                </a:lnTo>
                <a:lnTo>
                  <a:pt x="551" y="16"/>
                </a:lnTo>
                <a:lnTo>
                  <a:pt x="559" y="20"/>
                </a:lnTo>
                <a:lnTo>
                  <a:pt x="568" y="23"/>
                </a:lnTo>
                <a:lnTo>
                  <a:pt x="578" y="27"/>
                </a:lnTo>
                <a:lnTo>
                  <a:pt x="588" y="31"/>
                </a:lnTo>
                <a:lnTo>
                  <a:pt x="599" y="37"/>
                </a:lnTo>
                <a:lnTo>
                  <a:pt x="611" y="41"/>
                </a:lnTo>
                <a:lnTo>
                  <a:pt x="624" y="46"/>
                </a:lnTo>
                <a:lnTo>
                  <a:pt x="637" y="54"/>
                </a:lnTo>
                <a:lnTo>
                  <a:pt x="651" y="60"/>
                </a:lnTo>
                <a:lnTo>
                  <a:pt x="666" y="68"/>
                </a:lnTo>
                <a:lnTo>
                  <a:pt x="680" y="75"/>
                </a:lnTo>
                <a:lnTo>
                  <a:pt x="693" y="83"/>
                </a:lnTo>
                <a:lnTo>
                  <a:pt x="707" y="91"/>
                </a:lnTo>
                <a:lnTo>
                  <a:pt x="718" y="98"/>
                </a:lnTo>
                <a:lnTo>
                  <a:pt x="730" y="106"/>
                </a:lnTo>
                <a:lnTo>
                  <a:pt x="739" y="114"/>
                </a:lnTo>
                <a:lnTo>
                  <a:pt x="747" y="119"/>
                </a:lnTo>
                <a:lnTo>
                  <a:pt x="756" y="127"/>
                </a:lnTo>
                <a:lnTo>
                  <a:pt x="762" y="133"/>
                </a:lnTo>
                <a:lnTo>
                  <a:pt x="768" y="139"/>
                </a:lnTo>
                <a:lnTo>
                  <a:pt x="774" y="144"/>
                </a:lnTo>
                <a:lnTo>
                  <a:pt x="778" y="148"/>
                </a:lnTo>
                <a:lnTo>
                  <a:pt x="781" y="154"/>
                </a:lnTo>
                <a:lnTo>
                  <a:pt x="783" y="158"/>
                </a:lnTo>
                <a:lnTo>
                  <a:pt x="785" y="162"/>
                </a:lnTo>
                <a:lnTo>
                  <a:pt x="785" y="164"/>
                </a:lnTo>
                <a:lnTo>
                  <a:pt x="785" y="173"/>
                </a:lnTo>
                <a:lnTo>
                  <a:pt x="783" y="181"/>
                </a:lnTo>
                <a:lnTo>
                  <a:pt x="779" y="188"/>
                </a:lnTo>
                <a:lnTo>
                  <a:pt x="774" y="196"/>
                </a:lnTo>
                <a:lnTo>
                  <a:pt x="770" y="200"/>
                </a:lnTo>
                <a:lnTo>
                  <a:pt x="766" y="202"/>
                </a:lnTo>
                <a:lnTo>
                  <a:pt x="762" y="206"/>
                </a:lnTo>
                <a:lnTo>
                  <a:pt x="758" y="208"/>
                </a:lnTo>
                <a:lnTo>
                  <a:pt x="753" y="210"/>
                </a:lnTo>
                <a:lnTo>
                  <a:pt x="747" y="213"/>
                </a:lnTo>
                <a:lnTo>
                  <a:pt x="739" y="215"/>
                </a:lnTo>
                <a:lnTo>
                  <a:pt x="733" y="219"/>
                </a:lnTo>
                <a:lnTo>
                  <a:pt x="730" y="219"/>
                </a:lnTo>
                <a:lnTo>
                  <a:pt x="726" y="223"/>
                </a:lnTo>
                <a:lnTo>
                  <a:pt x="720" y="227"/>
                </a:lnTo>
                <a:lnTo>
                  <a:pt x="716" y="233"/>
                </a:lnTo>
                <a:lnTo>
                  <a:pt x="712" y="238"/>
                </a:lnTo>
                <a:lnTo>
                  <a:pt x="708" y="246"/>
                </a:lnTo>
                <a:lnTo>
                  <a:pt x="705" y="256"/>
                </a:lnTo>
                <a:lnTo>
                  <a:pt x="701" y="265"/>
                </a:lnTo>
                <a:lnTo>
                  <a:pt x="695" y="275"/>
                </a:lnTo>
                <a:lnTo>
                  <a:pt x="691" y="286"/>
                </a:lnTo>
                <a:lnTo>
                  <a:pt x="685" y="300"/>
                </a:lnTo>
                <a:lnTo>
                  <a:pt x="682" y="315"/>
                </a:lnTo>
                <a:lnTo>
                  <a:pt x="678" y="331"/>
                </a:lnTo>
                <a:lnTo>
                  <a:pt x="672" y="346"/>
                </a:lnTo>
                <a:lnTo>
                  <a:pt x="666" y="363"/>
                </a:lnTo>
                <a:lnTo>
                  <a:pt x="662" y="382"/>
                </a:lnTo>
                <a:lnTo>
                  <a:pt x="657" y="402"/>
                </a:lnTo>
                <a:lnTo>
                  <a:pt x="653" y="423"/>
                </a:lnTo>
                <a:lnTo>
                  <a:pt x="647" y="446"/>
                </a:lnTo>
                <a:lnTo>
                  <a:pt x="641" y="469"/>
                </a:lnTo>
                <a:lnTo>
                  <a:pt x="636" y="494"/>
                </a:lnTo>
                <a:lnTo>
                  <a:pt x="630" y="519"/>
                </a:lnTo>
                <a:lnTo>
                  <a:pt x="626" y="545"/>
                </a:lnTo>
                <a:lnTo>
                  <a:pt x="620" y="572"/>
                </a:lnTo>
                <a:lnTo>
                  <a:pt x="614" y="601"/>
                </a:lnTo>
                <a:lnTo>
                  <a:pt x="609" y="632"/>
                </a:lnTo>
                <a:lnTo>
                  <a:pt x="603" y="663"/>
                </a:lnTo>
                <a:lnTo>
                  <a:pt x="597" y="695"/>
                </a:lnTo>
                <a:lnTo>
                  <a:pt x="591" y="728"/>
                </a:lnTo>
                <a:lnTo>
                  <a:pt x="586" y="762"/>
                </a:lnTo>
                <a:lnTo>
                  <a:pt x="578" y="797"/>
                </a:lnTo>
                <a:lnTo>
                  <a:pt x="572" y="83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90"/>
          <p:cNvSpPr/>
          <p:nvPr/>
        </p:nvSpPr>
        <p:spPr>
          <a:xfrm>
            <a:off x="5707080" y="3956040"/>
            <a:ext cx="474480" cy="141120"/>
          </a:xfrm>
          <a:custGeom>
            <a:avLst/>
            <a:gdLst/>
            <a:ahLst/>
            <a:rect l="l" t="t" r="r" b="b"/>
            <a:pathLst>
              <a:path w="599" h="179">
                <a:moveTo>
                  <a:pt x="292" y="27"/>
                </a:moveTo>
                <a:lnTo>
                  <a:pt x="309" y="25"/>
                </a:lnTo>
                <a:lnTo>
                  <a:pt x="325" y="23"/>
                </a:lnTo>
                <a:lnTo>
                  <a:pt x="340" y="19"/>
                </a:lnTo>
                <a:lnTo>
                  <a:pt x="355" y="18"/>
                </a:lnTo>
                <a:lnTo>
                  <a:pt x="369" y="16"/>
                </a:lnTo>
                <a:lnTo>
                  <a:pt x="380" y="14"/>
                </a:lnTo>
                <a:lnTo>
                  <a:pt x="394" y="10"/>
                </a:lnTo>
                <a:lnTo>
                  <a:pt x="403" y="8"/>
                </a:lnTo>
                <a:lnTo>
                  <a:pt x="415" y="6"/>
                </a:lnTo>
                <a:lnTo>
                  <a:pt x="425" y="6"/>
                </a:lnTo>
                <a:lnTo>
                  <a:pt x="432" y="4"/>
                </a:lnTo>
                <a:lnTo>
                  <a:pt x="440" y="2"/>
                </a:lnTo>
                <a:lnTo>
                  <a:pt x="448" y="2"/>
                </a:lnTo>
                <a:lnTo>
                  <a:pt x="455" y="0"/>
                </a:lnTo>
                <a:lnTo>
                  <a:pt x="461" y="0"/>
                </a:lnTo>
                <a:lnTo>
                  <a:pt x="467" y="0"/>
                </a:lnTo>
                <a:lnTo>
                  <a:pt x="471" y="0"/>
                </a:lnTo>
                <a:lnTo>
                  <a:pt x="478" y="0"/>
                </a:lnTo>
                <a:lnTo>
                  <a:pt x="486" y="0"/>
                </a:lnTo>
                <a:lnTo>
                  <a:pt x="496" y="2"/>
                </a:lnTo>
                <a:lnTo>
                  <a:pt x="507" y="4"/>
                </a:lnTo>
                <a:lnTo>
                  <a:pt x="519" y="6"/>
                </a:lnTo>
                <a:lnTo>
                  <a:pt x="532" y="10"/>
                </a:lnTo>
                <a:lnTo>
                  <a:pt x="545" y="14"/>
                </a:lnTo>
                <a:lnTo>
                  <a:pt x="553" y="16"/>
                </a:lnTo>
                <a:lnTo>
                  <a:pt x="559" y="19"/>
                </a:lnTo>
                <a:lnTo>
                  <a:pt x="565" y="23"/>
                </a:lnTo>
                <a:lnTo>
                  <a:pt x="570" y="27"/>
                </a:lnTo>
                <a:lnTo>
                  <a:pt x="576" y="29"/>
                </a:lnTo>
                <a:lnTo>
                  <a:pt x="580" y="33"/>
                </a:lnTo>
                <a:lnTo>
                  <a:pt x="584" y="37"/>
                </a:lnTo>
                <a:lnTo>
                  <a:pt x="588" y="41"/>
                </a:lnTo>
                <a:lnTo>
                  <a:pt x="592" y="48"/>
                </a:lnTo>
                <a:lnTo>
                  <a:pt x="595" y="56"/>
                </a:lnTo>
                <a:lnTo>
                  <a:pt x="597" y="64"/>
                </a:lnTo>
                <a:lnTo>
                  <a:pt x="599" y="69"/>
                </a:lnTo>
                <a:lnTo>
                  <a:pt x="597" y="75"/>
                </a:lnTo>
                <a:lnTo>
                  <a:pt x="595" y="81"/>
                </a:lnTo>
                <a:lnTo>
                  <a:pt x="592" y="89"/>
                </a:lnTo>
                <a:lnTo>
                  <a:pt x="588" y="96"/>
                </a:lnTo>
                <a:lnTo>
                  <a:pt x="584" y="100"/>
                </a:lnTo>
                <a:lnTo>
                  <a:pt x="580" y="104"/>
                </a:lnTo>
                <a:lnTo>
                  <a:pt x="576" y="108"/>
                </a:lnTo>
                <a:lnTo>
                  <a:pt x="570" y="112"/>
                </a:lnTo>
                <a:lnTo>
                  <a:pt x="565" y="113"/>
                </a:lnTo>
                <a:lnTo>
                  <a:pt x="559" y="117"/>
                </a:lnTo>
                <a:lnTo>
                  <a:pt x="553" y="121"/>
                </a:lnTo>
                <a:lnTo>
                  <a:pt x="545" y="123"/>
                </a:lnTo>
                <a:lnTo>
                  <a:pt x="542" y="125"/>
                </a:lnTo>
                <a:lnTo>
                  <a:pt x="536" y="125"/>
                </a:lnTo>
                <a:lnTo>
                  <a:pt x="530" y="127"/>
                </a:lnTo>
                <a:lnTo>
                  <a:pt x="524" y="129"/>
                </a:lnTo>
                <a:lnTo>
                  <a:pt x="517" y="131"/>
                </a:lnTo>
                <a:lnTo>
                  <a:pt x="509" y="133"/>
                </a:lnTo>
                <a:lnTo>
                  <a:pt x="499" y="135"/>
                </a:lnTo>
                <a:lnTo>
                  <a:pt x="490" y="137"/>
                </a:lnTo>
                <a:lnTo>
                  <a:pt x="480" y="138"/>
                </a:lnTo>
                <a:lnTo>
                  <a:pt x="469" y="140"/>
                </a:lnTo>
                <a:lnTo>
                  <a:pt x="455" y="140"/>
                </a:lnTo>
                <a:lnTo>
                  <a:pt x="444" y="142"/>
                </a:lnTo>
                <a:lnTo>
                  <a:pt x="428" y="144"/>
                </a:lnTo>
                <a:lnTo>
                  <a:pt x="415" y="146"/>
                </a:lnTo>
                <a:lnTo>
                  <a:pt x="400" y="148"/>
                </a:lnTo>
                <a:lnTo>
                  <a:pt x="382" y="150"/>
                </a:lnTo>
                <a:lnTo>
                  <a:pt x="365" y="152"/>
                </a:lnTo>
                <a:lnTo>
                  <a:pt x="348" y="154"/>
                </a:lnTo>
                <a:lnTo>
                  <a:pt x="329" y="156"/>
                </a:lnTo>
                <a:lnTo>
                  <a:pt x="307" y="158"/>
                </a:lnTo>
                <a:lnTo>
                  <a:pt x="288" y="160"/>
                </a:lnTo>
                <a:lnTo>
                  <a:pt x="265" y="161"/>
                </a:lnTo>
                <a:lnTo>
                  <a:pt x="244" y="163"/>
                </a:lnTo>
                <a:lnTo>
                  <a:pt x="219" y="165"/>
                </a:lnTo>
                <a:lnTo>
                  <a:pt x="196" y="167"/>
                </a:lnTo>
                <a:lnTo>
                  <a:pt x="171" y="169"/>
                </a:lnTo>
                <a:lnTo>
                  <a:pt x="144" y="171"/>
                </a:lnTo>
                <a:lnTo>
                  <a:pt x="117" y="173"/>
                </a:lnTo>
                <a:lnTo>
                  <a:pt x="89" y="175"/>
                </a:lnTo>
                <a:lnTo>
                  <a:pt x="60" y="175"/>
                </a:lnTo>
                <a:lnTo>
                  <a:pt x="31" y="177"/>
                </a:lnTo>
                <a:lnTo>
                  <a:pt x="0" y="179"/>
                </a:lnTo>
                <a:lnTo>
                  <a:pt x="0" y="123"/>
                </a:lnTo>
                <a:lnTo>
                  <a:pt x="0" y="69"/>
                </a:lnTo>
                <a:lnTo>
                  <a:pt x="21" y="65"/>
                </a:lnTo>
                <a:lnTo>
                  <a:pt x="43" y="64"/>
                </a:lnTo>
                <a:lnTo>
                  <a:pt x="64" y="60"/>
                </a:lnTo>
                <a:lnTo>
                  <a:pt x="85" y="58"/>
                </a:lnTo>
                <a:lnTo>
                  <a:pt x="104" y="56"/>
                </a:lnTo>
                <a:lnTo>
                  <a:pt x="123" y="54"/>
                </a:lnTo>
                <a:lnTo>
                  <a:pt x="142" y="50"/>
                </a:lnTo>
                <a:lnTo>
                  <a:pt x="162" y="48"/>
                </a:lnTo>
                <a:lnTo>
                  <a:pt x="196" y="42"/>
                </a:lnTo>
                <a:lnTo>
                  <a:pt x="231" y="39"/>
                </a:lnTo>
                <a:lnTo>
                  <a:pt x="261" y="33"/>
                </a:lnTo>
                <a:lnTo>
                  <a:pt x="292" y="2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91"/>
          <p:cNvSpPr/>
          <p:nvPr/>
        </p:nvSpPr>
        <p:spPr>
          <a:xfrm>
            <a:off x="5560920" y="3443400"/>
            <a:ext cx="196920" cy="912600"/>
          </a:xfrm>
          <a:custGeom>
            <a:avLst/>
            <a:gdLst/>
            <a:ahLst/>
            <a:rect l="l" t="t" r="r" b="b"/>
            <a:pathLst>
              <a:path w="250" h="1150">
                <a:moveTo>
                  <a:pt x="250" y="58"/>
                </a:moveTo>
                <a:lnTo>
                  <a:pt x="250" y="93"/>
                </a:lnTo>
                <a:lnTo>
                  <a:pt x="250" y="123"/>
                </a:lnTo>
                <a:lnTo>
                  <a:pt x="250" y="156"/>
                </a:lnTo>
                <a:lnTo>
                  <a:pt x="250" y="188"/>
                </a:lnTo>
                <a:lnTo>
                  <a:pt x="250" y="219"/>
                </a:lnTo>
                <a:lnTo>
                  <a:pt x="250" y="250"/>
                </a:lnTo>
                <a:lnTo>
                  <a:pt x="250" y="279"/>
                </a:lnTo>
                <a:lnTo>
                  <a:pt x="250" y="309"/>
                </a:lnTo>
                <a:lnTo>
                  <a:pt x="250" y="338"/>
                </a:lnTo>
                <a:lnTo>
                  <a:pt x="250" y="367"/>
                </a:lnTo>
                <a:lnTo>
                  <a:pt x="250" y="394"/>
                </a:lnTo>
                <a:lnTo>
                  <a:pt x="250" y="421"/>
                </a:lnTo>
                <a:lnTo>
                  <a:pt x="250" y="448"/>
                </a:lnTo>
                <a:lnTo>
                  <a:pt x="250" y="474"/>
                </a:lnTo>
                <a:lnTo>
                  <a:pt x="250" y="501"/>
                </a:lnTo>
                <a:lnTo>
                  <a:pt x="250" y="526"/>
                </a:lnTo>
                <a:lnTo>
                  <a:pt x="250" y="551"/>
                </a:lnTo>
                <a:lnTo>
                  <a:pt x="250" y="574"/>
                </a:lnTo>
                <a:lnTo>
                  <a:pt x="250" y="599"/>
                </a:lnTo>
                <a:lnTo>
                  <a:pt x="250" y="622"/>
                </a:lnTo>
                <a:lnTo>
                  <a:pt x="250" y="645"/>
                </a:lnTo>
                <a:lnTo>
                  <a:pt x="250" y="666"/>
                </a:lnTo>
                <a:lnTo>
                  <a:pt x="250" y="689"/>
                </a:lnTo>
                <a:lnTo>
                  <a:pt x="250" y="711"/>
                </a:lnTo>
                <a:lnTo>
                  <a:pt x="250" y="730"/>
                </a:lnTo>
                <a:lnTo>
                  <a:pt x="250" y="751"/>
                </a:lnTo>
                <a:lnTo>
                  <a:pt x="250" y="770"/>
                </a:lnTo>
                <a:lnTo>
                  <a:pt x="250" y="789"/>
                </a:lnTo>
                <a:lnTo>
                  <a:pt x="250" y="808"/>
                </a:lnTo>
                <a:lnTo>
                  <a:pt x="250" y="826"/>
                </a:lnTo>
                <a:lnTo>
                  <a:pt x="248" y="843"/>
                </a:lnTo>
                <a:lnTo>
                  <a:pt x="248" y="860"/>
                </a:lnTo>
                <a:lnTo>
                  <a:pt x="248" y="878"/>
                </a:lnTo>
                <a:lnTo>
                  <a:pt x="248" y="893"/>
                </a:lnTo>
                <a:lnTo>
                  <a:pt x="248" y="908"/>
                </a:lnTo>
                <a:lnTo>
                  <a:pt x="248" y="924"/>
                </a:lnTo>
                <a:lnTo>
                  <a:pt x="248" y="939"/>
                </a:lnTo>
                <a:lnTo>
                  <a:pt x="248" y="952"/>
                </a:lnTo>
                <a:lnTo>
                  <a:pt x="248" y="966"/>
                </a:lnTo>
                <a:lnTo>
                  <a:pt x="248" y="979"/>
                </a:lnTo>
                <a:lnTo>
                  <a:pt x="246" y="993"/>
                </a:lnTo>
                <a:lnTo>
                  <a:pt x="246" y="1004"/>
                </a:lnTo>
                <a:lnTo>
                  <a:pt x="246" y="1016"/>
                </a:lnTo>
                <a:lnTo>
                  <a:pt x="246" y="1027"/>
                </a:lnTo>
                <a:lnTo>
                  <a:pt x="246" y="1037"/>
                </a:lnTo>
                <a:lnTo>
                  <a:pt x="246" y="1046"/>
                </a:lnTo>
                <a:lnTo>
                  <a:pt x="246" y="1056"/>
                </a:lnTo>
                <a:lnTo>
                  <a:pt x="244" y="1066"/>
                </a:lnTo>
                <a:lnTo>
                  <a:pt x="244" y="1073"/>
                </a:lnTo>
                <a:lnTo>
                  <a:pt x="244" y="1081"/>
                </a:lnTo>
                <a:lnTo>
                  <a:pt x="244" y="1089"/>
                </a:lnTo>
                <a:lnTo>
                  <a:pt x="244" y="1096"/>
                </a:lnTo>
                <a:lnTo>
                  <a:pt x="242" y="1102"/>
                </a:lnTo>
                <a:lnTo>
                  <a:pt x="242" y="1108"/>
                </a:lnTo>
                <a:lnTo>
                  <a:pt x="242" y="1114"/>
                </a:lnTo>
                <a:lnTo>
                  <a:pt x="242" y="1119"/>
                </a:lnTo>
                <a:lnTo>
                  <a:pt x="240" y="1123"/>
                </a:lnTo>
                <a:lnTo>
                  <a:pt x="240" y="1127"/>
                </a:lnTo>
                <a:lnTo>
                  <a:pt x="240" y="1131"/>
                </a:lnTo>
                <a:lnTo>
                  <a:pt x="240" y="1133"/>
                </a:lnTo>
                <a:lnTo>
                  <a:pt x="238" y="1135"/>
                </a:lnTo>
                <a:lnTo>
                  <a:pt x="238" y="1137"/>
                </a:lnTo>
                <a:lnTo>
                  <a:pt x="238" y="1139"/>
                </a:lnTo>
                <a:lnTo>
                  <a:pt x="236" y="1141"/>
                </a:lnTo>
                <a:lnTo>
                  <a:pt x="232" y="1144"/>
                </a:lnTo>
                <a:lnTo>
                  <a:pt x="227" y="1148"/>
                </a:lnTo>
                <a:lnTo>
                  <a:pt x="223" y="1150"/>
                </a:lnTo>
                <a:lnTo>
                  <a:pt x="217" y="1150"/>
                </a:lnTo>
                <a:lnTo>
                  <a:pt x="211" y="1150"/>
                </a:lnTo>
                <a:lnTo>
                  <a:pt x="207" y="1148"/>
                </a:lnTo>
                <a:lnTo>
                  <a:pt x="202" y="1144"/>
                </a:lnTo>
                <a:lnTo>
                  <a:pt x="198" y="1141"/>
                </a:lnTo>
                <a:lnTo>
                  <a:pt x="194" y="1137"/>
                </a:lnTo>
                <a:lnTo>
                  <a:pt x="192" y="1133"/>
                </a:lnTo>
                <a:lnTo>
                  <a:pt x="188" y="1127"/>
                </a:lnTo>
                <a:lnTo>
                  <a:pt x="184" y="1121"/>
                </a:lnTo>
                <a:lnTo>
                  <a:pt x="182" y="1114"/>
                </a:lnTo>
                <a:lnTo>
                  <a:pt x="179" y="1106"/>
                </a:lnTo>
                <a:lnTo>
                  <a:pt x="175" y="1096"/>
                </a:lnTo>
                <a:lnTo>
                  <a:pt x="171" y="1085"/>
                </a:lnTo>
                <a:lnTo>
                  <a:pt x="167" y="1073"/>
                </a:lnTo>
                <a:lnTo>
                  <a:pt x="163" y="1060"/>
                </a:lnTo>
                <a:lnTo>
                  <a:pt x="159" y="1045"/>
                </a:lnTo>
                <a:lnTo>
                  <a:pt x="156" y="1027"/>
                </a:lnTo>
                <a:lnTo>
                  <a:pt x="152" y="1010"/>
                </a:lnTo>
                <a:lnTo>
                  <a:pt x="150" y="991"/>
                </a:lnTo>
                <a:lnTo>
                  <a:pt x="146" y="970"/>
                </a:lnTo>
                <a:lnTo>
                  <a:pt x="144" y="949"/>
                </a:lnTo>
                <a:lnTo>
                  <a:pt x="140" y="927"/>
                </a:lnTo>
                <a:lnTo>
                  <a:pt x="138" y="904"/>
                </a:lnTo>
                <a:lnTo>
                  <a:pt x="136" y="881"/>
                </a:lnTo>
                <a:lnTo>
                  <a:pt x="134" y="858"/>
                </a:lnTo>
                <a:lnTo>
                  <a:pt x="131" y="833"/>
                </a:lnTo>
                <a:lnTo>
                  <a:pt x="129" y="808"/>
                </a:lnTo>
                <a:lnTo>
                  <a:pt x="127" y="782"/>
                </a:lnTo>
                <a:lnTo>
                  <a:pt x="123" y="753"/>
                </a:lnTo>
                <a:lnTo>
                  <a:pt x="121" y="724"/>
                </a:lnTo>
                <a:lnTo>
                  <a:pt x="119" y="695"/>
                </a:lnTo>
                <a:lnTo>
                  <a:pt x="115" y="665"/>
                </a:lnTo>
                <a:lnTo>
                  <a:pt x="113" y="632"/>
                </a:lnTo>
                <a:lnTo>
                  <a:pt x="111" y="599"/>
                </a:lnTo>
                <a:lnTo>
                  <a:pt x="110" y="567"/>
                </a:lnTo>
                <a:lnTo>
                  <a:pt x="106" y="532"/>
                </a:lnTo>
                <a:lnTo>
                  <a:pt x="104" y="498"/>
                </a:lnTo>
                <a:lnTo>
                  <a:pt x="102" y="461"/>
                </a:lnTo>
                <a:lnTo>
                  <a:pt x="98" y="428"/>
                </a:lnTo>
                <a:lnTo>
                  <a:pt x="96" y="396"/>
                </a:lnTo>
                <a:lnTo>
                  <a:pt x="94" y="365"/>
                </a:lnTo>
                <a:lnTo>
                  <a:pt x="90" y="336"/>
                </a:lnTo>
                <a:lnTo>
                  <a:pt x="86" y="309"/>
                </a:lnTo>
                <a:lnTo>
                  <a:pt x="85" y="283"/>
                </a:lnTo>
                <a:lnTo>
                  <a:pt x="81" y="260"/>
                </a:lnTo>
                <a:lnTo>
                  <a:pt x="77" y="236"/>
                </a:lnTo>
                <a:lnTo>
                  <a:pt x="71" y="213"/>
                </a:lnTo>
                <a:lnTo>
                  <a:pt x="67" y="194"/>
                </a:lnTo>
                <a:lnTo>
                  <a:pt x="62" y="175"/>
                </a:lnTo>
                <a:lnTo>
                  <a:pt x="58" y="158"/>
                </a:lnTo>
                <a:lnTo>
                  <a:pt x="50" y="142"/>
                </a:lnTo>
                <a:lnTo>
                  <a:pt x="44" y="127"/>
                </a:lnTo>
                <a:lnTo>
                  <a:pt x="37" y="114"/>
                </a:lnTo>
                <a:lnTo>
                  <a:pt x="31" y="100"/>
                </a:lnTo>
                <a:lnTo>
                  <a:pt x="23" y="89"/>
                </a:lnTo>
                <a:lnTo>
                  <a:pt x="17" y="79"/>
                </a:lnTo>
                <a:lnTo>
                  <a:pt x="14" y="69"/>
                </a:lnTo>
                <a:lnTo>
                  <a:pt x="8" y="60"/>
                </a:lnTo>
                <a:lnTo>
                  <a:pt x="6" y="52"/>
                </a:lnTo>
                <a:lnTo>
                  <a:pt x="2" y="45"/>
                </a:lnTo>
                <a:lnTo>
                  <a:pt x="0" y="37"/>
                </a:lnTo>
                <a:lnTo>
                  <a:pt x="0" y="31"/>
                </a:lnTo>
                <a:lnTo>
                  <a:pt x="0" y="25"/>
                </a:lnTo>
                <a:lnTo>
                  <a:pt x="2" y="21"/>
                </a:lnTo>
                <a:lnTo>
                  <a:pt x="4" y="18"/>
                </a:lnTo>
                <a:lnTo>
                  <a:pt x="8" y="14"/>
                </a:lnTo>
                <a:lnTo>
                  <a:pt x="12" y="10"/>
                </a:lnTo>
                <a:lnTo>
                  <a:pt x="17" y="6"/>
                </a:lnTo>
                <a:lnTo>
                  <a:pt x="25" y="4"/>
                </a:lnTo>
                <a:lnTo>
                  <a:pt x="29" y="0"/>
                </a:lnTo>
                <a:lnTo>
                  <a:pt x="37" y="0"/>
                </a:lnTo>
                <a:lnTo>
                  <a:pt x="44" y="0"/>
                </a:lnTo>
                <a:lnTo>
                  <a:pt x="54" y="0"/>
                </a:lnTo>
                <a:lnTo>
                  <a:pt x="63" y="2"/>
                </a:lnTo>
                <a:lnTo>
                  <a:pt x="75" y="4"/>
                </a:lnTo>
                <a:lnTo>
                  <a:pt x="88" y="6"/>
                </a:lnTo>
                <a:lnTo>
                  <a:pt x="102" y="10"/>
                </a:lnTo>
                <a:lnTo>
                  <a:pt x="117" y="14"/>
                </a:lnTo>
                <a:lnTo>
                  <a:pt x="133" y="20"/>
                </a:lnTo>
                <a:lnTo>
                  <a:pt x="150" y="23"/>
                </a:lnTo>
                <a:lnTo>
                  <a:pt x="169" y="31"/>
                </a:lnTo>
                <a:lnTo>
                  <a:pt x="186" y="37"/>
                </a:lnTo>
                <a:lnTo>
                  <a:pt x="207" y="43"/>
                </a:lnTo>
                <a:lnTo>
                  <a:pt x="229" y="50"/>
                </a:lnTo>
                <a:lnTo>
                  <a:pt x="250" y="5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43"/>
                                        </p:tgtEl>
                                        <p:attrNameLst>
                                          <p:attrName>style.visibility</p:attrName>
                                        </p:attrNameLst>
                                      </p:cBhvr>
                                      <p:to>
                                        <p:strVal val="visible"/>
                                      </p:to>
                                    </p:set>
                                    <p:anim calcmode="lin" valueType="num">
                                      <p:cBhvr additive="base">
                                        <p:cTn id="252" dur="500" fill="hold"/>
                                        <p:tgtEl>
                                          <p:spTgt spid="143"/>
                                        </p:tgtEl>
                                        <p:attrNameLst>
                                          <p:attrName>ppt_x</p:attrName>
                                        </p:attrNameLst>
                                      </p:cBhvr>
                                      <p:tavLst>
                                        <p:tav tm="0">
                                          <p:val>
                                            <p:strVal val="0-#ppt_w/2"/>
                                          </p:val>
                                        </p:tav>
                                        <p:tav tm="100000">
                                          <p:val>
                                            <p:strVal val="#ppt_x"/>
                                          </p:val>
                                        </p:tav>
                                      </p:tavLst>
                                    </p:anim>
                                    <p:anim calcmode="lin" valueType="num">
                                      <p:cBhvr additive="base">
                                        <p:cTn id="25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152"/>
                                        </p:tgtEl>
                                        <p:attrNameLst>
                                          <p:attrName>style.visibility</p:attrName>
                                        </p:attrNameLst>
                                      </p:cBhvr>
                                      <p:to>
                                        <p:strVal val="visible"/>
                                      </p:to>
                                    </p:set>
                                    <p:animEffect filter="wipe(up)" transition="in">
                                      <p:cBhvr additive="repl">
                                        <p:cTn id="258" dur="500"/>
                                        <p:tgtEl>
                                          <p:spTgt spid="152"/>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6">
                                  <p:stCondLst>
                                    <p:cond delay="0"/>
                                  </p:stCondLst>
                                  <p:childTnLst>
                                    <p:set>
                                      <p:cBhvr>
                                        <p:cTn id="262" dur="1" fill="hold">
                                          <p:stCondLst>
                                            <p:cond delay="0"/>
                                          </p:stCondLst>
                                        </p:cTn>
                                        <p:tgtEl>
                                          <p:spTgt spid="150"/>
                                        </p:tgtEl>
                                        <p:attrNameLst>
                                          <p:attrName>style.visibility</p:attrName>
                                        </p:attrNameLst>
                                      </p:cBhvr>
                                      <p:to>
                                        <p:strVal val="visible"/>
                                      </p:to>
                                    </p:set>
                                    <p:animEffect filter="strips(downRight)" transition="in">
                                      <p:cBhvr additive="repl">
                                        <p:cTn id="263" dur="500"/>
                                        <p:tgtEl>
                                          <p:spTgt spid="150"/>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51"/>
                                        </p:tgtEl>
                                        <p:attrNameLst>
                                          <p:attrName>style.visibility</p:attrName>
                                        </p:attrNameLst>
                                      </p:cBhvr>
                                      <p:to>
                                        <p:strVal val="visible"/>
                                      </p:to>
                                    </p:set>
                                    <p:animEffect filter="wipe(left)" transition="in">
                                      <p:cBhvr additive="repl">
                                        <p:cTn id="268" dur="500"/>
                                        <p:tgtEl>
                                          <p:spTgt spid="151"/>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8" presetSubtype="6">
                                  <p:stCondLst>
                                    <p:cond delay="0"/>
                                  </p:stCondLst>
                                  <p:childTnLst>
                                    <p:set>
                                      <p:cBhvr>
                                        <p:cTn id="272" dur="1" fill="hold">
                                          <p:stCondLst>
                                            <p:cond delay="0"/>
                                          </p:stCondLst>
                                        </p:cTn>
                                        <p:tgtEl>
                                          <p:spTgt spid="149"/>
                                        </p:tgtEl>
                                        <p:attrNameLst>
                                          <p:attrName>style.visibility</p:attrName>
                                        </p:attrNameLst>
                                      </p:cBhvr>
                                      <p:to>
                                        <p:strVal val="visible"/>
                                      </p:to>
                                    </p:set>
                                    <p:animEffect filter="strips(downRight)" transition="in">
                                      <p:cBhvr additive="repl">
                                        <p:cTn id="273" dur="500"/>
                                        <p:tgtEl>
                                          <p:spTgt spid="149"/>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8" presetSubtype="6">
                                  <p:stCondLst>
                                    <p:cond delay="0"/>
                                  </p:stCondLst>
                                  <p:childTnLst>
                                    <p:set>
                                      <p:cBhvr>
                                        <p:cTn id="277" dur="1" fill="hold">
                                          <p:stCondLst>
                                            <p:cond delay="0"/>
                                          </p:stCondLst>
                                        </p:cTn>
                                        <p:tgtEl>
                                          <p:spTgt spid="148"/>
                                        </p:tgtEl>
                                        <p:attrNameLst>
                                          <p:attrName>style.visibility</p:attrName>
                                        </p:attrNameLst>
                                      </p:cBhvr>
                                      <p:to>
                                        <p:strVal val="visible"/>
                                      </p:to>
                                    </p:set>
                                    <p:animEffect filter="strips(downRight)" transition="in">
                                      <p:cBhvr additive="repl">
                                        <p:cTn id="278" dur="500"/>
                                        <p:tgtEl>
                                          <p:spTgt spid="148"/>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47"/>
                                        </p:tgtEl>
                                        <p:attrNameLst>
                                          <p:attrName>style.visibility</p:attrName>
                                        </p:attrNameLst>
                                      </p:cBhvr>
                                      <p:to>
                                        <p:strVal val="visible"/>
                                      </p:to>
                                    </p:set>
                                    <p:animEffect filter="wipe(left)" transition="in">
                                      <p:cBhvr additive="repl">
                                        <p:cTn id="283" dur="500"/>
                                        <p:tgtEl>
                                          <p:spTgt spid="147"/>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45"/>
                                        </p:tgtEl>
                                        <p:attrNameLst>
                                          <p:attrName>style.visibility</p:attrName>
                                        </p:attrNameLst>
                                      </p:cBhvr>
                                      <p:to>
                                        <p:strVal val="visible"/>
                                      </p:to>
                                    </p:set>
                                    <p:animEffect filter="wipe(up)" transition="in">
                                      <p:cBhvr additive="repl">
                                        <p:cTn id="288" dur="500"/>
                                        <p:tgtEl>
                                          <p:spTgt spid="145"/>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8" presetSubtype="6">
                                  <p:stCondLst>
                                    <p:cond delay="0"/>
                                  </p:stCondLst>
                                  <p:childTnLst>
                                    <p:set>
                                      <p:cBhvr>
                                        <p:cTn id="292" dur="1" fill="hold">
                                          <p:stCondLst>
                                            <p:cond delay="0"/>
                                          </p:stCondLst>
                                        </p:cTn>
                                        <p:tgtEl>
                                          <p:spTgt spid="144"/>
                                        </p:tgtEl>
                                        <p:attrNameLst>
                                          <p:attrName>style.visibility</p:attrName>
                                        </p:attrNameLst>
                                      </p:cBhvr>
                                      <p:to>
                                        <p:strVal val="visible"/>
                                      </p:to>
                                    </p:set>
                                    <p:animEffect filter="strips(downRight)" transition="in">
                                      <p:cBhvr additive="repl">
                                        <p:cTn id="293" dur="500"/>
                                        <p:tgtEl>
                                          <p:spTgt spid="144"/>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146"/>
                                        </p:tgtEl>
                                        <p:attrNameLst>
                                          <p:attrName>style.visibility</p:attrName>
                                        </p:attrNameLst>
                                      </p:cBhvr>
                                      <p:to>
                                        <p:strVal val="visible"/>
                                      </p:to>
                                    </p:set>
                                    <p:animEffect filter="wipe(up)" transition="in">
                                      <p:cBhvr additive="repl">
                                        <p:cTn id="298" dur="500"/>
                                        <p:tgtEl>
                                          <p:spTgt spid="146"/>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53" presetSubtype="16">
                                  <p:stCondLst>
                                    <p:cond delay="0"/>
                                  </p:stCondLst>
                                  <p:childTnLst>
                                    <p:set>
                                      <p:cBhvr>
                                        <p:cTn id="302" dur="1" fill="hold">
                                          <p:stCondLst>
                                            <p:cond delay="0"/>
                                          </p:stCondLst>
                                        </p:cTn>
                                        <p:tgtEl>
                                          <p:spTgt spid="140"/>
                                        </p:tgtEl>
                                        <p:attrNameLst>
                                          <p:attrName>style.visibility</p:attrName>
                                        </p:attrNameLst>
                                      </p:cBhvr>
                                      <p:to>
                                        <p:strVal val="visible"/>
                                      </p:to>
                                    </p:set>
                                    <p:anim calcmode="lin" valueType="num">
                                      <p:cBhvr additive="repl">
                                        <p:cTn id="303" dur="500" fill="hold"/>
                                        <p:tgtEl>
                                          <p:spTgt spid="140"/>
                                        </p:tgtEl>
                                        <p:attrNameLst>
                                          <p:attrName>ppt_w</p:attrName>
                                        </p:attrNameLst>
                                      </p:cBhvr>
                                      <p:tavLst>
                                        <p:tav tm="0">
                                          <p:val>
                                            <p:fltVal val="0"/>
                                          </p:val>
                                        </p:tav>
                                        <p:tav tm="100000">
                                          <p:val>
                                            <p:strVal val="#ppt_w"/>
                                          </p:val>
                                        </p:tav>
                                      </p:tavLst>
                                    </p:anim>
                                    <p:anim calcmode="lin" valueType="num">
                                      <p:cBhvr additive="repl">
                                        <p:cTn id="304" dur="500" fill="hold"/>
                                        <p:tgtEl>
                                          <p:spTgt spid="140"/>
                                        </p:tgtEl>
                                        <p:attrNameLst>
                                          <p:attrName>ppt_h</p:attrName>
                                        </p:attrNameLst>
                                      </p:cBhvr>
                                      <p:tavLst>
                                        <p:tav tm="0">
                                          <p:val>
                                            <p:fltVal val="0"/>
                                          </p:val>
                                        </p:tav>
                                        <p:tav tm="100000">
                                          <p:val>
                                            <p:strVal val="#ppt_h"/>
                                          </p:val>
                                        </p:tav>
                                      </p:tavLst>
                                    </p:anim>
                                    <p:animEffect filter="fade" transition="in">
                                      <p:cBhvr additive="repl">
                                        <p:cTn id="30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矩形 4"/>
          <p:cNvSpPr/>
          <p:nvPr/>
        </p:nvSpPr>
        <p:spPr>
          <a:xfrm>
            <a:off x="2218680" y="25322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廊</a:t>
            </a:r>
            <a:endParaRPr b="0" lang="en-US" sz="8000" spc="-1" strike="noStrike">
              <a:solidFill>
                <a:srgbClr val="000000"/>
              </a:solidFill>
              <a:latin typeface="Calibri"/>
            </a:endParaRPr>
          </a:p>
        </p:txBody>
      </p:sp>
      <p:graphicFrame>
        <p:nvGraphicFramePr>
          <p:cNvPr id="154" name=""/>
          <p:cNvGraphicFramePr/>
          <p:nvPr/>
        </p:nvGraphicFramePr>
        <p:xfrm>
          <a:off x="5114880" y="2382840"/>
          <a:ext cx="2941560" cy="3040200"/>
        </p:xfrm>
        <a:graphic>
          <a:graphicData uri="http://schemas.openxmlformats.org/drawingml/2006/table">
            <a:tbl>
              <a:tblPr/>
              <a:tblGrid>
                <a:gridCol w="1471680"/>
                <a:gridCol w="146988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55" name="组合 3"/>
          <p:cNvGrpSpPr/>
          <p:nvPr/>
        </p:nvGrpSpPr>
        <p:grpSpPr>
          <a:xfrm>
            <a:off x="1400040" y="3975120"/>
            <a:ext cx="2840040" cy="1621080"/>
            <a:chOff x="1400040" y="3975120"/>
            <a:chExt cx="2840040" cy="1621080"/>
          </a:xfrm>
        </p:grpSpPr>
        <p:pic>
          <p:nvPicPr>
            <p:cNvPr id="156" name="图示 4" descr=""/>
            <p:cNvPicPr/>
            <p:nvPr/>
          </p:nvPicPr>
          <p:blipFill>
            <a:blip r:embed="rId1"/>
            <a:stretch/>
          </p:blipFill>
          <p:spPr>
            <a:xfrm>
              <a:off x="1400040" y="3975120"/>
              <a:ext cx="2840040" cy="1571760"/>
            </a:xfrm>
            <a:prstGeom prst="rect">
              <a:avLst/>
            </a:prstGeom>
            <a:ln w="0">
              <a:noFill/>
            </a:ln>
          </p:spPr>
        </p:pic>
        <p:sp>
          <p:nvSpPr>
            <p:cNvPr id="157" name="矩形 2"/>
            <p:cNvSpPr/>
            <p:nvPr/>
          </p:nvSpPr>
          <p:spPr>
            <a:xfrm>
              <a:off x="1444680" y="4587840"/>
              <a:ext cx="276660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广”的撇伸展；内部笔画紧凑，竖为悬针竖。</a:t>
              </a:r>
              <a:endParaRPr b="0" lang="en-US" sz="2000" spc="-1" strike="noStrike">
                <a:solidFill>
                  <a:srgbClr val="000000"/>
                </a:solidFill>
                <a:latin typeface="Calibri"/>
              </a:endParaRPr>
            </a:p>
          </p:txBody>
        </p:sp>
      </p:grpSp>
      <p:sp>
        <p:nvSpPr>
          <p:cNvPr id="158" name="矩形 2"/>
          <p:cNvSpPr/>
          <p:nvPr/>
        </p:nvSpPr>
        <p:spPr>
          <a:xfrm>
            <a:off x="1870200" y="1919160"/>
            <a:ext cx="1487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lánɡ</a:t>
            </a:r>
            <a:endParaRPr b="0" lang="en-US" sz="4800" spc="-1" strike="noStrike">
              <a:solidFill>
                <a:srgbClr val="000000"/>
              </a:solidFill>
              <a:latin typeface="Calibri"/>
            </a:endParaRPr>
          </a:p>
        </p:txBody>
      </p:sp>
      <p:sp>
        <p:nvSpPr>
          <p:cNvPr id="159" name="Freeform 106"/>
          <p:cNvSpPr/>
          <p:nvPr/>
        </p:nvSpPr>
        <p:spPr>
          <a:xfrm>
            <a:off x="7018200" y="3313080"/>
            <a:ext cx="646200" cy="1168560"/>
          </a:xfrm>
          <a:custGeom>
            <a:avLst/>
            <a:gdLst/>
            <a:ahLst/>
            <a:rect l="l" t="t" r="r" b="b"/>
            <a:pathLst>
              <a:path w="814" h="1472">
                <a:moveTo>
                  <a:pt x="396" y="1261"/>
                </a:moveTo>
                <a:lnTo>
                  <a:pt x="375" y="1251"/>
                </a:lnTo>
                <a:lnTo>
                  <a:pt x="357" y="1244"/>
                </a:lnTo>
                <a:lnTo>
                  <a:pt x="340" y="1236"/>
                </a:lnTo>
                <a:lnTo>
                  <a:pt x="323" y="1228"/>
                </a:lnTo>
                <a:lnTo>
                  <a:pt x="309" y="1221"/>
                </a:lnTo>
                <a:lnTo>
                  <a:pt x="296" y="1213"/>
                </a:lnTo>
                <a:lnTo>
                  <a:pt x="284" y="1207"/>
                </a:lnTo>
                <a:lnTo>
                  <a:pt x="275" y="1200"/>
                </a:lnTo>
                <a:lnTo>
                  <a:pt x="267" y="1194"/>
                </a:lnTo>
                <a:lnTo>
                  <a:pt x="259" y="1190"/>
                </a:lnTo>
                <a:lnTo>
                  <a:pt x="254" y="1184"/>
                </a:lnTo>
                <a:lnTo>
                  <a:pt x="250" y="1180"/>
                </a:lnTo>
                <a:lnTo>
                  <a:pt x="246" y="1177"/>
                </a:lnTo>
                <a:lnTo>
                  <a:pt x="246" y="1173"/>
                </a:lnTo>
                <a:lnTo>
                  <a:pt x="246" y="1169"/>
                </a:lnTo>
                <a:lnTo>
                  <a:pt x="248" y="1167"/>
                </a:lnTo>
                <a:lnTo>
                  <a:pt x="248" y="1165"/>
                </a:lnTo>
                <a:lnTo>
                  <a:pt x="250" y="1163"/>
                </a:lnTo>
                <a:lnTo>
                  <a:pt x="252" y="1161"/>
                </a:lnTo>
                <a:lnTo>
                  <a:pt x="255" y="1159"/>
                </a:lnTo>
                <a:lnTo>
                  <a:pt x="261" y="1157"/>
                </a:lnTo>
                <a:lnTo>
                  <a:pt x="269" y="1155"/>
                </a:lnTo>
                <a:lnTo>
                  <a:pt x="277" y="1154"/>
                </a:lnTo>
                <a:lnTo>
                  <a:pt x="286" y="1152"/>
                </a:lnTo>
                <a:lnTo>
                  <a:pt x="296" y="1152"/>
                </a:lnTo>
                <a:lnTo>
                  <a:pt x="307" y="1152"/>
                </a:lnTo>
                <a:lnTo>
                  <a:pt x="321" y="1150"/>
                </a:lnTo>
                <a:lnTo>
                  <a:pt x="336" y="1150"/>
                </a:lnTo>
                <a:lnTo>
                  <a:pt x="351" y="1152"/>
                </a:lnTo>
                <a:lnTo>
                  <a:pt x="369" y="1152"/>
                </a:lnTo>
                <a:lnTo>
                  <a:pt x="388" y="1154"/>
                </a:lnTo>
                <a:lnTo>
                  <a:pt x="407" y="1155"/>
                </a:lnTo>
                <a:lnTo>
                  <a:pt x="428" y="1157"/>
                </a:lnTo>
                <a:lnTo>
                  <a:pt x="446" y="1159"/>
                </a:lnTo>
                <a:lnTo>
                  <a:pt x="463" y="1161"/>
                </a:lnTo>
                <a:lnTo>
                  <a:pt x="480" y="1161"/>
                </a:lnTo>
                <a:lnTo>
                  <a:pt x="494" y="1163"/>
                </a:lnTo>
                <a:lnTo>
                  <a:pt x="507" y="1163"/>
                </a:lnTo>
                <a:lnTo>
                  <a:pt x="520" y="1163"/>
                </a:lnTo>
                <a:lnTo>
                  <a:pt x="530" y="1163"/>
                </a:lnTo>
                <a:lnTo>
                  <a:pt x="541" y="1161"/>
                </a:lnTo>
                <a:lnTo>
                  <a:pt x="549" y="1161"/>
                </a:lnTo>
                <a:lnTo>
                  <a:pt x="557" y="1159"/>
                </a:lnTo>
                <a:lnTo>
                  <a:pt x="565" y="1157"/>
                </a:lnTo>
                <a:lnTo>
                  <a:pt x="568" y="1154"/>
                </a:lnTo>
                <a:lnTo>
                  <a:pt x="574" y="1152"/>
                </a:lnTo>
                <a:lnTo>
                  <a:pt x="578" y="1148"/>
                </a:lnTo>
                <a:lnTo>
                  <a:pt x="580" y="1144"/>
                </a:lnTo>
                <a:lnTo>
                  <a:pt x="584" y="1138"/>
                </a:lnTo>
                <a:lnTo>
                  <a:pt x="588" y="1132"/>
                </a:lnTo>
                <a:lnTo>
                  <a:pt x="589" y="1125"/>
                </a:lnTo>
                <a:lnTo>
                  <a:pt x="591" y="1117"/>
                </a:lnTo>
                <a:lnTo>
                  <a:pt x="591" y="1107"/>
                </a:lnTo>
                <a:lnTo>
                  <a:pt x="591" y="1098"/>
                </a:lnTo>
                <a:lnTo>
                  <a:pt x="593" y="1086"/>
                </a:lnTo>
                <a:lnTo>
                  <a:pt x="593" y="1073"/>
                </a:lnTo>
                <a:lnTo>
                  <a:pt x="589" y="1069"/>
                </a:lnTo>
                <a:lnTo>
                  <a:pt x="588" y="1063"/>
                </a:lnTo>
                <a:lnTo>
                  <a:pt x="584" y="1058"/>
                </a:lnTo>
                <a:lnTo>
                  <a:pt x="580" y="1052"/>
                </a:lnTo>
                <a:lnTo>
                  <a:pt x="576" y="1044"/>
                </a:lnTo>
                <a:lnTo>
                  <a:pt x="572" y="1036"/>
                </a:lnTo>
                <a:lnTo>
                  <a:pt x="568" y="1029"/>
                </a:lnTo>
                <a:lnTo>
                  <a:pt x="563" y="1021"/>
                </a:lnTo>
                <a:lnTo>
                  <a:pt x="557" y="1012"/>
                </a:lnTo>
                <a:lnTo>
                  <a:pt x="551" y="1002"/>
                </a:lnTo>
                <a:lnTo>
                  <a:pt x="545" y="992"/>
                </a:lnTo>
                <a:lnTo>
                  <a:pt x="538" y="981"/>
                </a:lnTo>
                <a:lnTo>
                  <a:pt x="532" y="969"/>
                </a:lnTo>
                <a:lnTo>
                  <a:pt x="524" y="958"/>
                </a:lnTo>
                <a:lnTo>
                  <a:pt x="515" y="946"/>
                </a:lnTo>
                <a:lnTo>
                  <a:pt x="507" y="933"/>
                </a:lnTo>
                <a:lnTo>
                  <a:pt x="488" y="910"/>
                </a:lnTo>
                <a:lnTo>
                  <a:pt x="467" y="889"/>
                </a:lnTo>
                <a:lnTo>
                  <a:pt x="446" y="866"/>
                </a:lnTo>
                <a:lnTo>
                  <a:pt x="424" y="845"/>
                </a:lnTo>
                <a:lnTo>
                  <a:pt x="401" y="821"/>
                </a:lnTo>
                <a:lnTo>
                  <a:pt x="380" y="800"/>
                </a:lnTo>
                <a:lnTo>
                  <a:pt x="334" y="756"/>
                </a:lnTo>
                <a:lnTo>
                  <a:pt x="323" y="747"/>
                </a:lnTo>
                <a:lnTo>
                  <a:pt x="311" y="739"/>
                </a:lnTo>
                <a:lnTo>
                  <a:pt x="302" y="731"/>
                </a:lnTo>
                <a:lnTo>
                  <a:pt x="292" y="724"/>
                </a:lnTo>
                <a:lnTo>
                  <a:pt x="282" y="716"/>
                </a:lnTo>
                <a:lnTo>
                  <a:pt x="275" y="708"/>
                </a:lnTo>
                <a:lnTo>
                  <a:pt x="267" y="702"/>
                </a:lnTo>
                <a:lnTo>
                  <a:pt x="261" y="695"/>
                </a:lnTo>
                <a:lnTo>
                  <a:pt x="255" y="689"/>
                </a:lnTo>
                <a:lnTo>
                  <a:pt x="250" y="685"/>
                </a:lnTo>
                <a:lnTo>
                  <a:pt x="246" y="679"/>
                </a:lnTo>
                <a:lnTo>
                  <a:pt x="242" y="676"/>
                </a:lnTo>
                <a:lnTo>
                  <a:pt x="238" y="672"/>
                </a:lnTo>
                <a:lnTo>
                  <a:pt x="236" y="668"/>
                </a:lnTo>
                <a:lnTo>
                  <a:pt x="234" y="664"/>
                </a:lnTo>
                <a:lnTo>
                  <a:pt x="234" y="662"/>
                </a:lnTo>
                <a:lnTo>
                  <a:pt x="234" y="658"/>
                </a:lnTo>
                <a:lnTo>
                  <a:pt x="236" y="654"/>
                </a:lnTo>
                <a:lnTo>
                  <a:pt x="238" y="649"/>
                </a:lnTo>
                <a:lnTo>
                  <a:pt x="242" y="641"/>
                </a:lnTo>
                <a:lnTo>
                  <a:pt x="246" y="631"/>
                </a:lnTo>
                <a:lnTo>
                  <a:pt x="252" y="620"/>
                </a:lnTo>
                <a:lnTo>
                  <a:pt x="257" y="608"/>
                </a:lnTo>
                <a:lnTo>
                  <a:pt x="265" y="593"/>
                </a:lnTo>
                <a:lnTo>
                  <a:pt x="273" y="578"/>
                </a:lnTo>
                <a:lnTo>
                  <a:pt x="282" y="560"/>
                </a:lnTo>
                <a:lnTo>
                  <a:pt x="292" y="541"/>
                </a:lnTo>
                <a:lnTo>
                  <a:pt x="303" y="522"/>
                </a:lnTo>
                <a:lnTo>
                  <a:pt x="315" y="501"/>
                </a:lnTo>
                <a:lnTo>
                  <a:pt x="328" y="478"/>
                </a:lnTo>
                <a:lnTo>
                  <a:pt x="342" y="453"/>
                </a:lnTo>
                <a:lnTo>
                  <a:pt x="359" y="428"/>
                </a:lnTo>
                <a:lnTo>
                  <a:pt x="373" y="401"/>
                </a:lnTo>
                <a:lnTo>
                  <a:pt x="388" y="376"/>
                </a:lnTo>
                <a:lnTo>
                  <a:pt x="399" y="353"/>
                </a:lnTo>
                <a:lnTo>
                  <a:pt x="411" y="332"/>
                </a:lnTo>
                <a:lnTo>
                  <a:pt x="421" y="313"/>
                </a:lnTo>
                <a:lnTo>
                  <a:pt x="430" y="294"/>
                </a:lnTo>
                <a:lnTo>
                  <a:pt x="438" y="276"/>
                </a:lnTo>
                <a:lnTo>
                  <a:pt x="444" y="261"/>
                </a:lnTo>
                <a:lnTo>
                  <a:pt x="449" y="248"/>
                </a:lnTo>
                <a:lnTo>
                  <a:pt x="453" y="234"/>
                </a:lnTo>
                <a:lnTo>
                  <a:pt x="457" y="225"/>
                </a:lnTo>
                <a:lnTo>
                  <a:pt x="459" y="215"/>
                </a:lnTo>
                <a:lnTo>
                  <a:pt x="459" y="207"/>
                </a:lnTo>
                <a:lnTo>
                  <a:pt x="459" y="200"/>
                </a:lnTo>
                <a:lnTo>
                  <a:pt x="459" y="196"/>
                </a:lnTo>
                <a:lnTo>
                  <a:pt x="457" y="192"/>
                </a:lnTo>
                <a:lnTo>
                  <a:pt x="455" y="192"/>
                </a:lnTo>
                <a:lnTo>
                  <a:pt x="453" y="190"/>
                </a:lnTo>
                <a:lnTo>
                  <a:pt x="449" y="190"/>
                </a:lnTo>
                <a:lnTo>
                  <a:pt x="446" y="190"/>
                </a:lnTo>
                <a:lnTo>
                  <a:pt x="440" y="190"/>
                </a:lnTo>
                <a:lnTo>
                  <a:pt x="434" y="190"/>
                </a:lnTo>
                <a:lnTo>
                  <a:pt x="428" y="190"/>
                </a:lnTo>
                <a:lnTo>
                  <a:pt x="421" y="190"/>
                </a:lnTo>
                <a:lnTo>
                  <a:pt x="411" y="190"/>
                </a:lnTo>
                <a:lnTo>
                  <a:pt x="403" y="192"/>
                </a:lnTo>
                <a:lnTo>
                  <a:pt x="392" y="192"/>
                </a:lnTo>
                <a:lnTo>
                  <a:pt x="382" y="194"/>
                </a:lnTo>
                <a:lnTo>
                  <a:pt x="371" y="194"/>
                </a:lnTo>
                <a:lnTo>
                  <a:pt x="357" y="196"/>
                </a:lnTo>
                <a:lnTo>
                  <a:pt x="344" y="198"/>
                </a:lnTo>
                <a:lnTo>
                  <a:pt x="330" y="200"/>
                </a:lnTo>
                <a:lnTo>
                  <a:pt x="315" y="201"/>
                </a:lnTo>
                <a:lnTo>
                  <a:pt x="300" y="203"/>
                </a:lnTo>
                <a:lnTo>
                  <a:pt x="282" y="205"/>
                </a:lnTo>
                <a:lnTo>
                  <a:pt x="265" y="207"/>
                </a:lnTo>
                <a:lnTo>
                  <a:pt x="248" y="211"/>
                </a:lnTo>
                <a:lnTo>
                  <a:pt x="229" y="213"/>
                </a:lnTo>
                <a:lnTo>
                  <a:pt x="209" y="217"/>
                </a:lnTo>
                <a:lnTo>
                  <a:pt x="190" y="221"/>
                </a:lnTo>
                <a:lnTo>
                  <a:pt x="169" y="223"/>
                </a:lnTo>
                <a:lnTo>
                  <a:pt x="146" y="226"/>
                </a:lnTo>
                <a:lnTo>
                  <a:pt x="123" y="230"/>
                </a:lnTo>
                <a:lnTo>
                  <a:pt x="100" y="234"/>
                </a:lnTo>
                <a:lnTo>
                  <a:pt x="77" y="238"/>
                </a:lnTo>
                <a:lnTo>
                  <a:pt x="52" y="242"/>
                </a:lnTo>
                <a:lnTo>
                  <a:pt x="25" y="246"/>
                </a:lnTo>
                <a:lnTo>
                  <a:pt x="0" y="251"/>
                </a:lnTo>
                <a:lnTo>
                  <a:pt x="0" y="198"/>
                </a:lnTo>
                <a:lnTo>
                  <a:pt x="0" y="146"/>
                </a:lnTo>
                <a:lnTo>
                  <a:pt x="25" y="146"/>
                </a:lnTo>
                <a:lnTo>
                  <a:pt x="50" y="144"/>
                </a:lnTo>
                <a:lnTo>
                  <a:pt x="73" y="144"/>
                </a:lnTo>
                <a:lnTo>
                  <a:pt x="96" y="144"/>
                </a:lnTo>
                <a:lnTo>
                  <a:pt x="119" y="142"/>
                </a:lnTo>
                <a:lnTo>
                  <a:pt x="142" y="140"/>
                </a:lnTo>
                <a:lnTo>
                  <a:pt x="163" y="138"/>
                </a:lnTo>
                <a:lnTo>
                  <a:pt x="184" y="136"/>
                </a:lnTo>
                <a:lnTo>
                  <a:pt x="206" y="132"/>
                </a:lnTo>
                <a:lnTo>
                  <a:pt x="225" y="129"/>
                </a:lnTo>
                <a:lnTo>
                  <a:pt x="246" y="125"/>
                </a:lnTo>
                <a:lnTo>
                  <a:pt x="263" y="121"/>
                </a:lnTo>
                <a:lnTo>
                  <a:pt x="282" y="115"/>
                </a:lnTo>
                <a:lnTo>
                  <a:pt x="300" y="111"/>
                </a:lnTo>
                <a:lnTo>
                  <a:pt x="317" y="106"/>
                </a:lnTo>
                <a:lnTo>
                  <a:pt x="334" y="98"/>
                </a:lnTo>
                <a:lnTo>
                  <a:pt x="350" y="94"/>
                </a:lnTo>
                <a:lnTo>
                  <a:pt x="365" y="90"/>
                </a:lnTo>
                <a:lnTo>
                  <a:pt x="378" y="84"/>
                </a:lnTo>
                <a:lnTo>
                  <a:pt x="394" y="81"/>
                </a:lnTo>
                <a:lnTo>
                  <a:pt x="407" y="77"/>
                </a:lnTo>
                <a:lnTo>
                  <a:pt x="419" y="71"/>
                </a:lnTo>
                <a:lnTo>
                  <a:pt x="432" y="67"/>
                </a:lnTo>
                <a:lnTo>
                  <a:pt x="444" y="63"/>
                </a:lnTo>
                <a:lnTo>
                  <a:pt x="453" y="59"/>
                </a:lnTo>
                <a:lnTo>
                  <a:pt x="463" y="54"/>
                </a:lnTo>
                <a:lnTo>
                  <a:pt x="472" y="50"/>
                </a:lnTo>
                <a:lnTo>
                  <a:pt x="480" y="46"/>
                </a:lnTo>
                <a:lnTo>
                  <a:pt x="488" y="40"/>
                </a:lnTo>
                <a:lnTo>
                  <a:pt x="495" y="36"/>
                </a:lnTo>
                <a:lnTo>
                  <a:pt x="501" y="33"/>
                </a:lnTo>
                <a:lnTo>
                  <a:pt x="507" y="29"/>
                </a:lnTo>
                <a:lnTo>
                  <a:pt x="511" y="19"/>
                </a:lnTo>
                <a:lnTo>
                  <a:pt x="518" y="13"/>
                </a:lnTo>
                <a:lnTo>
                  <a:pt x="526" y="8"/>
                </a:lnTo>
                <a:lnTo>
                  <a:pt x="534" y="2"/>
                </a:lnTo>
                <a:lnTo>
                  <a:pt x="543" y="0"/>
                </a:lnTo>
                <a:lnTo>
                  <a:pt x="549" y="0"/>
                </a:lnTo>
                <a:lnTo>
                  <a:pt x="555" y="0"/>
                </a:lnTo>
                <a:lnTo>
                  <a:pt x="561" y="0"/>
                </a:lnTo>
                <a:lnTo>
                  <a:pt x="566" y="2"/>
                </a:lnTo>
                <a:lnTo>
                  <a:pt x="574" y="2"/>
                </a:lnTo>
                <a:lnTo>
                  <a:pt x="580" y="4"/>
                </a:lnTo>
                <a:lnTo>
                  <a:pt x="588" y="8"/>
                </a:lnTo>
                <a:lnTo>
                  <a:pt x="595" y="10"/>
                </a:lnTo>
                <a:lnTo>
                  <a:pt x="611" y="17"/>
                </a:lnTo>
                <a:lnTo>
                  <a:pt x="628" y="27"/>
                </a:lnTo>
                <a:lnTo>
                  <a:pt x="645" y="36"/>
                </a:lnTo>
                <a:lnTo>
                  <a:pt x="664" y="48"/>
                </a:lnTo>
                <a:lnTo>
                  <a:pt x="684" y="61"/>
                </a:lnTo>
                <a:lnTo>
                  <a:pt x="707" y="73"/>
                </a:lnTo>
                <a:lnTo>
                  <a:pt x="728" y="86"/>
                </a:lnTo>
                <a:lnTo>
                  <a:pt x="739" y="96"/>
                </a:lnTo>
                <a:lnTo>
                  <a:pt x="749" y="104"/>
                </a:lnTo>
                <a:lnTo>
                  <a:pt x="758" y="111"/>
                </a:lnTo>
                <a:lnTo>
                  <a:pt x="768" y="121"/>
                </a:lnTo>
                <a:lnTo>
                  <a:pt x="776" y="129"/>
                </a:lnTo>
                <a:lnTo>
                  <a:pt x="783" y="134"/>
                </a:lnTo>
                <a:lnTo>
                  <a:pt x="789" y="142"/>
                </a:lnTo>
                <a:lnTo>
                  <a:pt x="795" y="148"/>
                </a:lnTo>
                <a:lnTo>
                  <a:pt x="799" y="155"/>
                </a:lnTo>
                <a:lnTo>
                  <a:pt x="803" y="161"/>
                </a:lnTo>
                <a:lnTo>
                  <a:pt x="806" y="167"/>
                </a:lnTo>
                <a:lnTo>
                  <a:pt x="810" y="173"/>
                </a:lnTo>
                <a:lnTo>
                  <a:pt x="812" y="178"/>
                </a:lnTo>
                <a:lnTo>
                  <a:pt x="814" y="182"/>
                </a:lnTo>
                <a:lnTo>
                  <a:pt x="814" y="188"/>
                </a:lnTo>
                <a:lnTo>
                  <a:pt x="814" y="192"/>
                </a:lnTo>
                <a:lnTo>
                  <a:pt x="814" y="196"/>
                </a:lnTo>
                <a:lnTo>
                  <a:pt x="814" y="201"/>
                </a:lnTo>
                <a:lnTo>
                  <a:pt x="812" y="205"/>
                </a:lnTo>
                <a:lnTo>
                  <a:pt x="810" y="207"/>
                </a:lnTo>
                <a:lnTo>
                  <a:pt x="808" y="211"/>
                </a:lnTo>
                <a:lnTo>
                  <a:pt x="804" y="213"/>
                </a:lnTo>
                <a:lnTo>
                  <a:pt x="801" y="217"/>
                </a:lnTo>
                <a:lnTo>
                  <a:pt x="797" y="219"/>
                </a:lnTo>
                <a:lnTo>
                  <a:pt x="791" y="221"/>
                </a:lnTo>
                <a:lnTo>
                  <a:pt x="785" y="223"/>
                </a:lnTo>
                <a:lnTo>
                  <a:pt x="779" y="225"/>
                </a:lnTo>
                <a:lnTo>
                  <a:pt x="774" y="225"/>
                </a:lnTo>
                <a:lnTo>
                  <a:pt x="766" y="226"/>
                </a:lnTo>
                <a:lnTo>
                  <a:pt x="758" y="226"/>
                </a:lnTo>
                <a:lnTo>
                  <a:pt x="749" y="226"/>
                </a:lnTo>
                <a:lnTo>
                  <a:pt x="741" y="228"/>
                </a:lnTo>
                <a:lnTo>
                  <a:pt x="730" y="230"/>
                </a:lnTo>
                <a:lnTo>
                  <a:pt x="716" y="234"/>
                </a:lnTo>
                <a:lnTo>
                  <a:pt x="705" y="240"/>
                </a:lnTo>
                <a:lnTo>
                  <a:pt x="691" y="248"/>
                </a:lnTo>
                <a:lnTo>
                  <a:pt x="678" y="255"/>
                </a:lnTo>
                <a:lnTo>
                  <a:pt x="664" y="265"/>
                </a:lnTo>
                <a:lnTo>
                  <a:pt x="651" y="276"/>
                </a:lnTo>
                <a:lnTo>
                  <a:pt x="636" y="288"/>
                </a:lnTo>
                <a:lnTo>
                  <a:pt x="620" y="303"/>
                </a:lnTo>
                <a:lnTo>
                  <a:pt x="605" y="319"/>
                </a:lnTo>
                <a:lnTo>
                  <a:pt x="588" y="334"/>
                </a:lnTo>
                <a:lnTo>
                  <a:pt x="570" y="353"/>
                </a:lnTo>
                <a:lnTo>
                  <a:pt x="553" y="372"/>
                </a:lnTo>
                <a:lnTo>
                  <a:pt x="534" y="393"/>
                </a:lnTo>
                <a:lnTo>
                  <a:pt x="515" y="415"/>
                </a:lnTo>
                <a:lnTo>
                  <a:pt x="494" y="440"/>
                </a:lnTo>
                <a:lnTo>
                  <a:pt x="474" y="464"/>
                </a:lnTo>
                <a:lnTo>
                  <a:pt x="457" y="489"/>
                </a:lnTo>
                <a:lnTo>
                  <a:pt x="440" y="511"/>
                </a:lnTo>
                <a:lnTo>
                  <a:pt x="424" y="532"/>
                </a:lnTo>
                <a:lnTo>
                  <a:pt x="411" y="551"/>
                </a:lnTo>
                <a:lnTo>
                  <a:pt x="399" y="568"/>
                </a:lnTo>
                <a:lnTo>
                  <a:pt x="390" y="585"/>
                </a:lnTo>
                <a:lnTo>
                  <a:pt x="380" y="599"/>
                </a:lnTo>
                <a:lnTo>
                  <a:pt x="373" y="612"/>
                </a:lnTo>
                <a:lnTo>
                  <a:pt x="367" y="624"/>
                </a:lnTo>
                <a:lnTo>
                  <a:pt x="363" y="633"/>
                </a:lnTo>
                <a:lnTo>
                  <a:pt x="359" y="643"/>
                </a:lnTo>
                <a:lnTo>
                  <a:pt x="357" y="649"/>
                </a:lnTo>
                <a:lnTo>
                  <a:pt x="355" y="654"/>
                </a:lnTo>
                <a:lnTo>
                  <a:pt x="357" y="658"/>
                </a:lnTo>
                <a:lnTo>
                  <a:pt x="359" y="662"/>
                </a:lnTo>
                <a:lnTo>
                  <a:pt x="361" y="664"/>
                </a:lnTo>
                <a:lnTo>
                  <a:pt x="365" y="668"/>
                </a:lnTo>
                <a:lnTo>
                  <a:pt x="371" y="672"/>
                </a:lnTo>
                <a:lnTo>
                  <a:pt x="376" y="676"/>
                </a:lnTo>
                <a:lnTo>
                  <a:pt x="384" y="679"/>
                </a:lnTo>
                <a:lnTo>
                  <a:pt x="394" y="685"/>
                </a:lnTo>
                <a:lnTo>
                  <a:pt x="403" y="691"/>
                </a:lnTo>
                <a:lnTo>
                  <a:pt x="413" y="699"/>
                </a:lnTo>
                <a:lnTo>
                  <a:pt x="426" y="706"/>
                </a:lnTo>
                <a:lnTo>
                  <a:pt x="440" y="714"/>
                </a:lnTo>
                <a:lnTo>
                  <a:pt x="453" y="724"/>
                </a:lnTo>
                <a:lnTo>
                  <a:pt x="469" y="733"/>
                </a:lnTo>
                <a:lnTo>
                  <a:pt x="486" y="743"/>
                </a:lnTo>
                <a:lnTo>
                  <a:pt x="503" y="754"/>
                </a:lnTo>
                <a:lnTo>
                  <a:pt x="522" y="768"/>
                </a:lnTo>
                <a:lnTo>
                  <a:pt x="543" y="779"/>
                </a:lnTo>
                <a:lnTo>
                  <a:pt x="563" y="793"/>
                </a:lnTo>
                <a:lnTo>
                  <a:pt x="584" y="806"/>
                </a:lnTo>
                <a:lnTo>
                  <a:pt x="601" y="820"/>
                </a:lnTo>
                <a:lnTo>
                  <a:pt x="620" y="833"/>
                </a:lnTo>
                <a:lnTo>
                  <a:pt x="636" y="846"/>
                </a:lnTo>
                <a:lnTo>
                  <a:pt x="653" y="860"/>
                </a:lnTo>
                <a:lnTo>
                  <a:pt x="668" y="873"/>
                </a:lnTo>
                <a:lnTo>
                  <a:pt x="682" y="885"/>
                </a:lnTo>
                <a:lnTo>
                  <a:pt x="695" y="898"/>
                </a:lnTo>
                <a:lnTo>
                  <a:pt x="708" y="912"/>
                </a:lnTo>
                <a:lnTo>
                  <a:pt x="720" y="925"/>
                </a:lnTo>
                <a:lnTo>
                  <a:pt x="732" y="939"/>
                </a:lnTo>
                <a:lnTo>
                  <a:pt x="741" y="952"/>
                </a:lnTo>
                <a:lnTo>
                  <a:pt x="751" y="965"/>
                </a:lnTo>
                <a:lnTo>
                  <a:pt x="758" y="977"/>
                </a:lnTo>
                <a:lnTo>
                  <a:pt x="766" y="990"/>
                </a:lnTo>
                <a:lnTo>
                  <a:pt x="772" y="1006"/>
                </a:lnTo>
                <a:lnTo>
                  <a:pt x="778" y="1021"/>
                </a:lnTo>
                <a:lnTo>
                  <a:pt x="783" y="1036"/>
                </a:lnTo>
                <a:lnTo>
                  <a:pt x="789" y="1050"/>
                </a:lnTo>
                <a:lnTo>
                  <a:pt x="793" y="1065"/>
                </a:lnTo>
                <a:lnTo>
                  <a:pt x="797" y="1079"/>
                </a:lnTo>
                <a:lnTo>
                  <a:pt x="799" y="1094"/>
                </a:lnTo>
                <a:lnTo>
                  <a:pt x="803" y="1107"/>
                </a:lnTo>
                <a:lnTo>
                  <a:pt x="804" y="1121"/>
                </a:lnTo>
                <a:lnTo>
                  <a:pt x="806" y="1134"/>
                </a:lnTo>
                <a:lnTo>
                  <a:pt x="806" y="1148"/>
                </a:lnTo>
                <a:lnTo>
                  <a:pt x="806" y="1161"/>
                </a:lnTo>
                <a:lnTo>
                  <a:pt x="806" y="1175"/>
                </a:lnTo>
                <a:lnTo>
                  <a:pt x="806" y="1188"/>
                </a:lnTo>
                <a:lnTo>
                  <a:pt x="804" y="1202"/>
                </a:lnTo>
                <a:lnTo>
                  <a:pt x="803" y="1215"/>
                </a:lnTo>
                <a:lnTo>
                  <a:pt x="801" y="1228"/>
                </a:lnTo>
                <a:lnTo>
                  <a:pt x="797" y="1244"/>
                </a:lnTo>
                <a:lnTo>
                  <a:pt x="795" y="1257"/>
                </a:lnTo>
                <a:lnTo>
                  <a:pt x="791" y="1271"/>
                </a:lnTo>
                <a:lnTo>
                  <a:pt x="787" y="1284"/>
                </a:lnTo>
                <a:lnTo>
                  <a:pt x="783" y="1298"/>
                </a:lnTo>
                <a:lnTo>
                  <a:pt x="776" y="1321"/>
                </a:lnTo>
                <a:lnTo>
                  <a:pt x="764" y="1344"/>
                </a:lnTo>
                <a:lnTo>
                  <a:pt x="755" y="1365"/>
                </a:lnTo>
                <a:lnTo>
                  <a:pt x="741" y="1384"/>
                </a:lnTo>
                <a:lnTo>
                  <a:pt x="728" y="1403"/>
                </a:lnTo>
                <a:lnTo>
                  <a:pt x="720" y="1411"/>
                </a:lnTo>
                <a:lnTo>
                  <a:pt x="710" y="1418"/>
                </a:lnTo>
                <a:lnTo>
                  <a:pt x="703" y="1426"/>
                </a:lnTo>
                <a:lnTo>
                  <a:pt x="693" y="1434"/>
                </a:lnTo>
                <a:lnTo>
                  <a:pt x="685" y="1440"/>
                </a:lnTo>
                <a:lnTo>
                  <a:pt x="678" y="1445"/>
                </a:lnTo>
                <a:lnTo>
                  <a:pt x="672" y="1451"/>
                </a:lnTo>
                <a:lnTo>
                  <a:pt x="664" y="1455"/>
                </a:lnTo>
                <a:lnTo>
                  <a:pt x="659" y="1459"/>
                </a:lnTo>
                <a:lnTo>
                  <a:pt x="653" y="1463"/>
                </a:lnTo>
                <a:lnTo>
                  <a:pt x="649" y="1466"/>
                </a:lnTo>
                <a:lnTo>
                  <a:pt x="643" y="1468"/>
                </a:lnTo>
                <a:lnTo>
                  <a:pt x="639" y="1470"/>
                </a:lnTo>
                <a:lnTo>
                  <a:pt x="636" y="1472"/>
                </a:lnTo>
                <a:lnTo>
                  <a:pt x="632" y="1472"/>
                </a:lnTo>
                <a:lnTo>
                  <a:pt x="630" y="1472"/>
                </a:lnTo>
                <a:lnTo>
                  <a:pt x="626" y="1472"/>
                </a:lnTo>
                <a:lnTo>
                  <a:pt x="620" y="1472"/>
                </a:lnTo>
                <a:lnTo>
                  <a:pt x="616" y="1470"/>
                </a:lnTo>
                <a:lnTo>
                  <a:pt x="613" y="1468"/>
                </a:lnTo>
                <a:lnTo>
                  <a:pt x="611" y="1466"/>
                </a:lnTo>
                <a:lnTo>
                  <a:pt x="607" y="1463"/>
                </a:lnTo>
                <a:lnTo>
                  <a:pt x="603" y="1459"/>
                </a:lnTo>
                <a:lnTo>
                  <a:pt x="601" y="1455"/>
                </a:lnTo>
                <a:lnTo>
                  <a:pt x="597" y="1451"/>
                </a:lnTo>
                <a:lnTo>
                  <a:pt x="595" y="1445"/>
                </a:lnTo>
                <a:lnTo>
                  <a:pt x="591" y="1440"/>
                </a:lnTo>
                <a:lnTo>
                  <a:pt x="589" y="1434"/>
                </a:lnTo>
                <a:lnTo>
                  <a:pt x="588" y="1426"/>
                </a:lnTo>
                <a:lnTo>
                  <a:pt x="586" y="1418"/>
                </a:lnTo>
                <a:lnTo>
                  <a:pt x="582" y="1411"/>
                </a:lnTo>
                <a:lnTo>
                  <a:pt x="580" y="1403"/>
                </a:lnTo>
                <a:lnTo>
                  <a:pt x="578" y="1393"/>
                </a:lnTo>
                <a:lnTo>
                  <a:pt x="574" y="1384"/>
                </a:lnTo>
                <a:lnTo>
                  <a:pt x="568" y="1376"/>
                </a:lnTo>
                <a:lnTo>
                  <a:pt x="563" y="1367"/>
                </a:lnTo>
                <a:lnTo>
                  <a:pt x="555" y="1359"/>
                </a:lnTo>
                <a:lnTo>
                  <a:pt x="545" y="1349"/>
                </a:lnTo>
                <a:lnTo>
                  <a:pt x="536" y="1342"/>
                </a:lnTo>
                <a:lnTo>
                  <a:pt x="524" y="1332"/>
                </a:lnTo>
                <a:lnTo>
                  <a:pt x="513" y="1322"/>
                </a:lnTo>
                <a:lnTo>
                  <a:pt x="499" y="1315"/>
                </a:lnTo>
                <a:lnTo>
                  <a:pt x="484" y="1305"/>
                </a:lnTo>
                <a:lnTo>
                  <a:pt x="469" y="1298"/>
                </a:lnTo>
                <a:lnTo>
                  <a:pt x="453" y="1288"/>
                </a:lnTo>
                <a:lnTo>
                  <a:pt x="434" y="1278"/>
                </a:lnTo>
                <a:lnTo>
                  <a:pt x="415" y="1271"/>
                </a:lnTo>
                <a:lnTo>
                  <a:pt x="396" y="126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Freeform 107"/>
          <p:cNvSpPr/>
          <p:nvPr/>
        </p:nvSpPr>
        <p:spPr>
          <a:xfrm>
            <a:off x="6924600" y="3406680"/>
            <a:ext cx="177840" cy="1589040"/>
          </a:xfrm>
          <a:custGeom>
            <a:avLst/>
            <a:gdLst/>
            <a:ahLst/>
            <a:rect l="l" t="t" r="r" b="b"/>
            <a:pathLst>
              <a:path w="225" h="2002">
                <a:moveTo>
                  <a:pt x="17" y="17"/>
                </a:moveTo>
                <a:lnTo>
                  <a:pt x="25" y="12"/>
                </a:lnTo>
                <a:lnTo>
                  <a:pt x="33" y="10"/>
                </a:lnTo>
                <a:lnTo>
                  <a:pt x="42" y="6"/>
                </a:lnTo>
                <a:lnTo>
                  <a:pt x="50" y="4"/>
                </a:lnTo>
                <a:lnTo>
                  <a:pt x="60" y="2"/>
                </a:lnTo>
                <a:lnTo>
                  <a:pt x="71" y="0"/>
                </a:lnTo>
                <a:lnTo>
                  <a:pt x="83" y="0"/>
                </a:lnTo>
                <a:lnTo>
                  <a:pt x="94" y="0"/>
                </a:lnTo>
                <a:lnTo>
                  <a:pt x="106" y="0"/>
                </a:lnTo>
                <a:lnTo>
                  <a:pt x="119" y="2"/>
                </a:lnTo>
                <a:lnTo>
                  <a:pt x="134" y="6"/>
                </a:lnTo>
                <a:lnTo>
                  <a:pt x="148" y="8"/>
                </a:lnTo>
                <a:lnTo>
                  <a:pt x="163" y="12"/>
                </a:lnTo>
                <a:lnTo>
                  <a:pt x="181" y="17"/>
                </a:lnTo>
                <a:lnTo>
                  <a:pt x="198" y="21"/>
                </a:lnTo>
                <a:lnTo>
                  <a:pt x="215" y="29"/>
                </a:lnTo>
                <a:lnTo>
                  <a:pt x="217" y="121"/>
                </a:lnTo>
                <a:lnTo>
                  <a:pt x="217" y="211"/>
                </a:lnTo>
                <a:lnTo>
                  <a:pt x="219" y="298"/>
                </a:lnTo>
                <a:lnTo>
                  <a:pt x="219" y="384"/>
                </a:lnTo>
                <a:lnTo>
                  <a:pt x="221" y="466"/>
                </a:lnTo>
                <a:lnTo>
                  <a:pt x="221" y="547"/>
                </a:lnTo>
                <a:lnTo>
                  <a:pt x="221" y="624"/>
                </a:lnTo>
                <a:lnTo>
                  <a:pt x="223" y="699"/>
                </a:lnTo>
                <a:lnTo>
                  <a:pt x="223" y="772"/>
                </a:lnTo>
                <a:lnTo>
                  <a:pt x="223" y="843"/>
                </a:lnTo>
                <a:lnTo>
                  <a:pt x="225" y="912"/>
                </a:lnTo>
                <a:lnTo>
                  <a:pt x="225" y="977"/>
                </a:lnTo>
                <a:lnTo>
                  <a:pt x="225" y="1040"/>
                </a:lnTo>
                <a:lnTo>
                  <a:pt x="225" y="1100"/>
                </a:lnTo>
                <a:lnTo>
                  <a:pt x="225" y="1159"/>
                </a:lnTo>
                <a:lnTo>
                  <a:pt x="225" y="1215"/>
                </a:lnTo>
                <a:lnTo>
                  <a:pt x="225" y="1267"/>
                </a:lnTo>
                <a:lnTo>
                  <a:pt x="225" y="1319"/>
                </a:lnTo>
                <a:lnTo>
                  <a:pt x="225" y="1367"/>
                </a:lnTo>
                <a:lnTo>
                  <a:pt x="225" y="1413"/>
                </a:lnTo>
                <a:lnTo>
                  <a:pt x="225" y="1457"/>
                </a:lnTo>
                <a:lnTo>
                  <a:pt x="223" y="1497"/>
                </a:lnTo>
                <a:lnTo>
                  <a:pt x="223" y="1536"/>
                </a:lnTo>
                <a:lnTo>
                  <a:pt x="223" y="1570"/>
                </a:lnTo>
                <a:lnTo>
                  <a:pt x="221" y="1605"/>
                </a:lnTo>
                <a:lnTo>
                  <a:pt x="221" y="1635"/>
                </a:lnTo>
                <a:lnTo>
                  <a:pt x="221" y="1662"/>
                </a:lnTo>
                <a:lnTo>
                  <a:pt x="219" y="1689"/>
                </a:lnTo>
                <a:lnTo>
                  <a:pt x="219" y="1712"/>
                </a:lnTo>
                <a:lnTo>
                  <a:pt x="217" y="1733"/>
                </a:lnTo>
                <a:lnTo>
                  <a:pt x="217" y="1751"/>
                </a:lnTo>
                <a:lnTo>
                  <a:pt x="215" y="1766"/>
                </a:lnTo>
                <a:lnTo>
                  <a:pt x="213" y="1795"/>
                </a:lnTo>
                <a:lnTo>
                  <a:pt x="211" y="1820"/>
                </a:lnTo>
                <a:lnTo>
                  <a:pt x="207" y="1845"/>
                </a:lnTo>
                <a:lnTo>
                  <a:pt x="206" y="1868"/>
                </a:lnTo>
                <a:lnTo>
                  <a:pt x="202" y="1889"/>
                </a:lnTo>
                <a:lnTo>
                  <a:pt x="198" y="1908"/>
                </a:lnTo>
                <a:lnTo>
                  <a:pt x="194" y="1925"/>
                </a:lnTo>
                <a:lnTo>
                  <a:pt x="190" y="1941"/>
                </a:lnTo>
                <a:lnTo>
                  <a:pt x="188" y="1956"/>
                </a:lnTo>
                <a:lnTo>
                  <a:pt x="184" y="1967"/>
                </a:lnTo>
                <a:lnTo>
                  <a:pt x="181" y="1977"/>
                </a:lnTo>
                <a:lnTo>
                  <a:pt x="177" y="1987"/>
                </a:lnTo>
                <a:lnTo>
                  <a:pt x="175" y="1992"/>
                </a:lnTo>
                <a:lnTo>
                  <a:pt x="171" y="1998"/>
                </a:lnTo>
                <a:lnTo>
                  <a:pt x="169" y="2000"/>
                </a:lnTo>
                <a:lnTo>
                  <a:pt x="167" y="2002"/>
                </a:lnTo>
                <a:lnTo>
                  <a:pt x="163" y="2002"/>
                </a:lnTo>
                <a:lnTo>
                  <a:pt x="161" y="2000"/>
                </a:lnTo>
                <a:lnTo>
                  <a:pt x="158" y="1998"/>
                </a:lnTo>
                <a:lnTo>
                  <a:pt x="156" y="1996"/>
                </a:lnTo>
                <a:lnTo>
                  <a:pt x="152" y="1994"/>
                </a:lnTo>
                <a:lnTo>
                  <a:pt x="148" y="1991"/>
                </a:lnTo>
                <a:lnTo>
                  <a:pt x="146" y="1987"/>
                </a:lnTo>
                <a:lnTo>
                  <a:pt x="142" y="1983"/>
                </a:lnTo>
                <a:lnTo>
                  <a:pt x="138" y="1977"/>
                </a:lnTo>
                <a:lnTo>
                  <a:pt x="134" y="1971"/>
                </a:lnTo>
                <a:lnTo>
                  <a:pt x="131" y="1964"/>
                </a:lnTo>
                <a:lnTo>
                  <a:pt x="129" y="1956"/>
                </a:lnTo>
                <a:lnTo>
                  <a:pt x="125" y="1948"/>
                </a:lnTo>
                <a:lnTo>
                  <a:pt x="121" y="1939"/>
                </a:lnTo>
                <a:lnTo>
                  <a:pt x="119" y="1929"/>
                </a:lnTo>
                <a:lnTo>
                  <a:pt x="117" y="1920"/>
                </a:lnTo>
                <a:lnTo>
                  <a:pt x="115" y="1908"/>
                </a:lnTo>
                <a:lnTo>
                  <a:pt x="111" y="1896"/>
                </a:lnTo>
                <a:lnTo>
                  <a:pt x="110" y="1883"/>
                </a:lnTo>
                <a:lnTo>
                  <a:pt x="108" y="1872"/>
                </a:lnTo>
                <a:lnTo>
                  <a:pt x="106" y="1858"/>
                </a:lnTo>
                <a:lnTo>
                  <a:pt x="104" y="1843"/>
                </a:lnTo>
                <a:lnTo>
                  <a:pt x="100" y="1829"/>
                </a:lnTo>
                <a:lnTo>
                  <a:pt x="98" y="1814"/>
                </a:lnTo>
                <a:lnTo>
                  <a:pt x="96" y="1799"/>
                </a:lnTo>
                <a:lnTo>
                  <a:pt x="94" y="1781"/>
                </a:lnTo>
                <a:lnTo>
                  <a:pt x="90" y="1764"/>
                </a:lnTo>
                <a:lnTo>
                  <a:pt x="88" y="1747"/>
                </a:lnTo>
                <a:lnTo>
                  <a:pt x="87" y="1729"/>
                </a:lnTo>
                <a:lnTo>
                  <a:pt x="85" y="1712"/>
                </a:lnTo>
                <a:lnTo>
                  <a:pt x="83" y="1693"/>
                </a:lnTo>
                <a:lnTo>
                  <a:pt x="81" y="1674"/>
                </a:lnTo>
                <a:lnTo>
                  <a:pt x="79" y="1662"/>
                </a:lnTo>
                <a:lnTo>
                  <a:pt x="77" y="1649"/>
                </a:lnTo>
                <a:lnTo>
                  <a:pt x="77" y="1635"/>
                </a:lnTo>
                <a:lnTo>
                  <a:pt x="75" y="1622"/>
                </a:lnTo>
                <a:lnTo>
                  <a:pt x="75" y="1607"/>
                </a:lnTo>
                <a:lnTo>
                  <a:pt x="73" y="1589"/>
                </a:lnTo>
                <a:lnTo>
                  <a:pt x="71" y="1572"/>
                </a:lnTo>
                <a:lnTo>
                  <a:pt x="71" y="1555"/>
                </a:lnTo>
                <a:lnTo>
                  <a:pt x="69" y="1534"/>
                </a:lnTo>
                <a:lnTo>
                  <a:pt x="69" y="1515"/>
                </a:lnTo>
                <a:lnTo>
                  <a:pt x="67" y="1493"/>
                </a:lnTo>
                <a:lnTo>
                  <a:pt x="67" y="1470"/>
                </a:lnTo>
                <a:lnTo>
                  <a:pt x="65" y="1447"/>
                </a:lnTo>
                <a:lnTo>
                  <a:pt x="65" y="1424"/>
                </a:lnTo>
                <a:lnTo>
                  <a:pt x="63" y="1399"/>
                </a:lnTo>
                <a:lnTo>
                  <a:pt x="63" y="1372"/>
                </a:lnTo>
                <a:lnTo>
                  <a:pt x="62" y="1346"/>
                </a:lnTo>
                <a:lnTo>
                  <a:pt x="62" y="1319"/>
                </a:lnTo>
                <a:lnTo>
                  <a:pt x="62" y="1290"/>
                </a:lnTo>
                <a:lnTo>
                  <a:pt x="60" y="1259"/>
                </a:lnTo>
                <a:lnTo>
                  <a:pt x="60" y="1228"/>
                </a:lnTo>
                <a:lnTo>
                  <a:pt x="58" y="1198"/>
                </a:lnTo>
                <a:lnTo>
                  <a:pt x="58" y="1165"/>
                </a:lnTo>
                <a:lnTo>
                  <a:pt x="58" y="1131"/>
                </a:lnTo>
                <a:lnTo>
                  <a:pt x="58" y="1096"/>
                </a:lnTo>
                <a:lnTo>
                  <a:pt x="56" y="1062"/>
                </a:lnTo>
                <a:lnTo>
                  <a:pt x="56" y="1023"/>
                </a:lnTo>
                <a:lnTo>
                  <a:pt x="56" y="987"/>
                </a:lnTo>
                <a:lnTo>
                  <a:pt x="56" y="948"/>
                </a:lnTo>
                <a:lnTo>
                  <a:pt x="56" y="908"/>
                </a:lnTo>
                <a:lnTo>
                  <a:pt x="56" y="868"/>
                </a:lnTo>
                <a:lnTo>
                  <a:pt x="56" y="827"/>
                </a:lnTo>
                <a:lnTo>
                  <a:pt x="56" y="787"/>
                </a:lnTo>
                <a:lnTo>
                  <a:pt x="56" y="747"/>
                </a:lnTo>
                <a:lnTo>
                  <a:pt x="56" y="710"/>
                </a:lnTo>
                <a:lnTo>
                  <a:pt x="54" y="674"/>
                </a:lnTo>
                <a:lnTo>
                  <a:pt x="54" y="637"/>
                </a:lnTo>
                <a:lnTo>
                  <a:pt x="54" y="603"/>
                </a:lnTo>
                <a:lnTo>
                  <a:pt x="54" y="568"/>
                </a:lnTo>
                <a:lnTo>
                  <a:pt x="54" y="537"/>
                </a:lnTo>
                <a:lnTo>
                  <a:pt x="52" y="505"/>
                </a:lnTo>
                <a:lnTo>
                  <a:pt x="52" y="474"/>
                </a:lnTo>
                <a:lnTo>
                  <a:pt x="50" y="445"/>
                </a:lnTo>
                <a:lnTo>
                  <a:pt x="50" y="418"/>
                </a:lnTo>
                <a:lnTo>
                  <a:pt x="48" y="392"/>
                </a:lnTo>
                <a:lnTo>
                  <a:pt x="48" y="365"/>
                </a:lnTo>
                <a:lnTo>
                  <a:pt x="46" y="342"/>
                </a:lnTo>
                <a:lnTo>
                  <a:pt x="46" y="317"/>
                </a:lnTo>
                <a:lnTo>
                  <a:pt x="44" y="296"/>
                </a:lnTo>
                <a:lnTo>
                  <a:pt x="42" y="275"/>
                </a:lnTo>
                <a:lnTo>
                  <a:pt x="42" y="253"/>
                </a:lnTo>
                <a:lnTo>
                  <a:pt x="40" y="236"/>
                </a:lnTo>
                <a:lnTo>
                  <a:pt x="39" y="217"/>
                </a:lnTo>
                <a:lnTo>
                  <a:pt x="37" y="202"/>
                </a:lnTo>
                <a:lnTo>
                  <a:pt x="37" y="186"/>
                </a:lnTo>
                <a:lnTo>
                  <a:pt x="35" y="171"/>
                </a:lnTo>
                <a:lnTo>
                  <a:pt x="33" y="157"/>
                </a:lnTo>
                <a:lnTo>
                  <a:pt x="31" y="146"/>
                </a:lnTo>
                <a:lnTo>
                  <a:pt x="29" y="136"/>
                </a:lnTo>
                <a:lnTo>
                  <a:pt x="27" y="127"/>
                </a:lnTo>
                <a:lnTo>
                  <a:pt x="25" y="117"/>
                </a:lnTo>
                <a:lnTo>
                  <a:pt x="23" y="109"/>
                </a:lnTo>
                <a:lnTo>
                  <a:pt x="19" y="104"/>
                </a:lnTo>
                <a:lnTo>
                  <a:pt x="17" y="100"/>
                </a:lnTo>
                <a:lnTo>
                  <a:pt x="14" y="92"/>
                </a:lnTo>
                <a:lnTo>
                  <a:pt x="10" y="86"/>
                </a:lnTo>
                <a:lnTo>
                  <a:pt x="8" y="79"/>
                </a:lnTo>
                <a:lnTo>
                  <a:pt x="4" y="73"/>
                </a:lnTo>
                <a:lnTo>
                  <a:pt x="2" y="67"/>
                </a:lnTo>
                <a:lnTo>
                  <a:pt x="0" y="60"/>
                </a:lnTo>
                <a:lnTo>
                  <a:pt x="0" y="54"/>
                </a:lnTo>
                <a:lnTo>
                  <a:pt x="0" y="48"/>
                </a:lnTo>
                <a:lnTo>
                  <a:pt x="0" y="44"/>
                </a:lnTo>
                <a:lnTo>
                  <a:pt x="0" y="38"/>
                </a:lnTo>
                <a:lnTo>
                  <a:pt x="2" y="35"/>
                </a:lnTo>
                <a:lnTo>
                  <a:pt x="4" y="29"/>
                </a:lnTo>
                <a:lnTo>
                  <a:pt x="6" y="25"/>
                </a:lnTo>
                <a:lnTo>
                  <a:pt x="10" y="21"/>
                </a:lnTo>
                <a:lnTo>
                  <a:pt x="14" y="19"/>
                </a:lnTo>
                <a:lnTo>
                  <a:pt x="17" y="1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Freeform 108"/>
          <p:cNvSpPr/>
          <p:nvPr/>
        </p:nvSpPr>
        <p:spPr>
          <a:xfrm>
            <a:off x="6537240" y="4057560"/>
            <a:ext cx="274680" cy="281160"/>
          </a:xfrm>
          <a:custGeom>
            <a:avLst/>
            <a:gdLst/>
            <a:ahLst/>
            <a:rect l="l" t="t" r="r" b="b"/>
            <a:pathLst>
              <a:path w="345" h="353">
                <a:moveTo>
                  <a:pt x="0" y="17"/>
                </a:moveTo>
                <a:lnTo>
                  <a:pt x="3" y="13"/>
                </a:lnTo>
                <a:lnTo>
                  <a:pt x="11" y="9"/>
                </a:lnTo>
                <a:lnTo>
                  <a:pt x="15" y="7"/>
                </a:lnTo>
                <a:lnTo>
                  <a:pt x="19" y="5"/>
                </a:lnTo>
                <a:lnTo>
                  <a:pt x="25" y="3"/>
                </a:lnTo>
                <a:lnTo>
                  <a:pt x="30" y="1"/>
                </a:lnTo>
                <a:lnTo>
                  <a:pt x="36" y="1"/>
                </a:lnTo>
                <a:lnTo>
                  <a:pt x="42" y="0"/>
                </a:lnTo>
                <a:lnTo>
                  <a:pt x="50" y="0"/>
                </a:lnTo>
                <a:lnTo>
                  <a:pt x="57" y="0"/>
                </a:lnTo>
                <a:lnTo>
                  <a:pt x="67" y="0"/>
                </a:lnTo>
                <a:lnTo>
                  <a:pt x="76" y="1"/>
                </a:lnTo>
                <a:lnTo>
                  <a:pt x="86" y="3"/>
                </a:lnTo>
                <a:lnTo>
                  <a:pt x="97" y="5"/>
                </a:lnTo>
                <a:lnTo>
                  <a:pt x="107" y="7"/>
                </a:lnTo>
                <a:lnTo>
                  <a:pt x="117" y="11"/>
                </a:lnTo>
                <a:lnTo>
                  <a:pt x="126" y="13"/>
                </a:lnTo>
                <a:lnTo>
                  <a:pt x="134" y="19"/>
                </a:lnTo>
                <a:lnTo>
                  <a:pt x="153" y="26"/>
                </a:lnTo>
                <a:lnTo>
                  <a:pt x="174" y="38"/>
                </a:lnTo>
                <a:lnTo>
                  <a:pt x="193" y="51"/>
                </a:lnTo>
                <a:lnTo>
                  <a:pt x="215" y="67"/>
                </a:lnTo>
                <a:lnTo>
                  <a:pt x="236" y="82"/>
                </a:lnTo>
                <a:lnTo>
                  <a:pt x="259" y="99"/>
                </a:lnTo>
                <a:lnTo>
                  <a:pt x="270" y="109"/>
                </a:lnTo>
                <a:lnTo>
                  <a:pt x="280" y="120"/>
                </a:lnTo>
                <a:lnTo>
                  <a:pt x="289" y="130"/>
                </a:lnTo>
                <a:lnTo>
                  <a:pt x="297" y="140"/>
                </a:lnTo>
                <a:lnTo>
                  <a:pt x="305" y="147"/>
                </a:lnTo>
                <a:lnTo>
                  <a:pt x="312" y="157"/>
                </a:lnTo>
                <a:lnTo>
                  <a:pt x="318" y="165"/>
                </a:lnTo>
                <a:lnTo>
                  <a:pt x="324" y="172"/>
                </a:lnTo>
                <a:lnTo>
                  <a:pt x="330" y="180"/>
                </a:lnTo>
                <a:lnTo>
                  <a:pt x="334" y="188"/>
                </a:lnTo>
                <a:lnTo>
                  <a:pt x="337" y="195"/>
                </a:lnTo>
                <a:lnTo>
                  <a:pt x="339" y="201"/>
                </a:lnTo>
                <a:lnTo>
                  <a:pt x="341" y="209"/>
                </a:lnTo>
                <a:lnTo>
                  <a:pt x="343" y="215"/>
                </a:lnTo>
                <a:lnTo>
                  <a:pt x="345" y="222"/>
                </a:lnTo>
                <a:lnTo>
                  <a:pt x="345" y="228"/>
                </a:lnTo>
                <a:lnTo>
                  <a:pt x="345" y="241"/>
                </a:lnTo>
                <a:lnTo>
                  <a:pt x="345" y="253"/>
                </a:lnTo>
                <a:lnTo>
                  <a:pt x="343" y="264"/>
                </a:lnTo>
                <a:lnTo>
                  <a:pt x="343" y="276"/>
                </a:lnTo>
                <a:lnTo>
                  <a:pt x="341" y="286"/>
                </a:lnTo>
                <a:lnTo>
                  <a:pt x="339" y="297"/>
                </a:lnTo>
                <a:lnTo>
                  <a:pt x="335" y="309"/>
                </a:lnTo>
                <a:lnTo>
                  <a:pt x="332" y="322"/>
                </a:lnTo>
                <a:lnTo>
                  <a:pt x="330" y="328"/>
                </a:lnTo>
                <a:lnTo>
                  <a:pt x="328" y="334"/>
                </a:lnTo>
                <a:lnTo>
                  <a:pt x="324" y="339"/>
                </a:lnTo>
                <a:lnTo>
                  <a:pt x="320" y="343"/>
                </a:lnTo>
                <a:lnTo>
                  <a:pt x="316" y="345"/>
                </a:lnTo>
                <a:lnTo>
                  <a:pt x="312" y="349"/>
                </a:lnTo>
                <a:lnTo>
                  <a:pt x="309" y="351"/>
                </a:lnTo>
                <a:lnTo>
                  <a:pt x="305" y="351"/>
                </a:lnTo>
                <a:lnTo>
                  <a:pt x="299" y="353"/>
                </a:lnTo>
                <a:lnTo>
                  <a:pt x="295" y="353"/>
                </a:lnTo>
                <a:lnTo>
                  <a:pt x="289" y="353"/>
                </a:lnTo>
                <a:lnTo>
                  <a:pt x="284" y="353"/>
                </a:lnTo>
                <a:lnTo>
                  <a:pt x="272" y="349"/>
                </a:lnTo>
                <a:lnTo>
                  <a:pt x="259" y="345"/>
                </a:lnTo>
                <a:lnTo>
                  <a:pt x="251" y="343"/>
                </a:lnTo>
                <a:lnTo>
                  <a:pt x="243" y="339"/>
                </a:lnTo>
                <a:lnTo>
                  <a:pt x="236" y="335"/>
                </a:lnTo>
                <a:lnTo>
                  <a:pt x="228" y="330"/>
                </a:lnTo>
                <a:lnTo>
                  <a:pt x="220" y="324"/>
                </a:lnTo>
                <a:lnTo>
                  <a:pt x="211" y="316"/>
                </a:lnTo>
                <a:lnTo>
                  <a:pt x="203" y="309"/>
                </a:lnTo>
                <a:lnTo>
                  <a:pt x="193" y="299"/>
                </a:lnTo>
                <a:lnTo>
                  <a:pt x="184" y="287"/>
                </a:lnTo>
                <a:lnTo>
                  <a:pt x="174" y="276"/>
                </a:lnTo>
                <a:lnTo>
                  <a:pt x="165" y="264"/>
                </a:lnTo>
                <a:lnTo>
                  <a:pt x="153" y="249"/>
                </a:lnTo>
                <a:lnTo>
                  <a:pt x="144" y="236"/>
                </a:lnTo>
                <a:lnTo>
                  <a:pt x="132" y="218"/>
                </a:lnTo>
                <a:lnTo>
                  <a:pt x="121" y="201"/>
                </a:lnTo>
                <a:lnTo>
                  <a:pt x="111" y="182"/>
                </a:lnTo>
                <a:lnTo>
                  <a:pt x="97" y="163"/>
                </a:lnTo>
                <a:lnTo>
                  <a:pt x="84" y="144"/>
                </a:lnTo>
                <a:lnTo>
                  <a:pt x="73" y="128"/>
                </a:lnTo>
                <a:lnTo>
                  <a:pt x="61" y="113"/>
                </a:lnTo>
                <a:lnTo>
                  <a:pt x="51" y="97"/>
                </a:lnTo>
                <a:lnTo>
                  <a:pt x="44" y="86"/>
                </a:lnTo>
                <a:lnTo>
                  <a:pt x="34" y="74"/>
                </a:lnTo>
                <a:lnTo>
                  <a:pt x="26" y="63"/>
                </a:lnTo>
                <a:lnTo>
                  <a:pt x="21" y="53"/>
                </a:lnTo>
                <a:lnTo>
                  <a:pt x="15" y="46"/>
                </a:lnTo>
                <a:lnTo>
                  <a:pt x="11" y="38"/>
                </a:lnTo>
                <a:lnTo>
                  <a:pt x="5" y="32"/>
                </a:lnTo>
                <a:lnTo>
                  <a:pt x="3" y="26"/>
                </a:lnTo>
                <a:lnTo>
                  <a:pt x="2" y="23"/>
                </a:lnTo>
                <a:lnTo>
                  <a:pt x="0" y="19"/>
                </a:lnTo>
                <a:lnTo>
                  <a:pt x="0" y="1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Freeform 109"/>
          <p:cNvSpPr/>
          <p:nvPr/>
        </p:nvSpPr>
        <p:spPr>
          <a:xfrm>
            <a:off x="6076800" y="3462480"/>
            <a:ext cx="598680" cy="1106280"/>
          </a:xfrm>
          <a:custGeom>
            <a:avLst/>
            <a:gdLst/>
            <a:ahLst/>
            <a:rect l="l" t="t" r="r" b="b"/>
            <a:pathLst>
              <a:path w="754" h="1394">
                <a:moveTo>
                  <a:pt x="186" y="839"/>
                </a:moveTo>
                <a:lnTo>
                  <a:pt x="190" y="781"/>
                </a:lnTo>
                <a:lnTo>
                  <a:pt x="194" y="726"/>
                </a:lnTo>
                <a:lnTo>
                  <a:pt x="200" y="670"/>
                </a:lnTo>
                <a:lnTo>
                  <a:pt x="203" y="614"/>
                </a:lnTo>
                <a:lnTo>
                  <a:pt x="205" y="561"/>
                </a:lnTo>
                <a:lnTo>
                  <a:pt x="209" y="505"/>
                </a:lnTo>
                <a:lnTo>
                  <a:pt x="209" y="449"/>
                </a:lnTo>
                <a:lnTo>
                  <a:pt x="211" y="392"/>
                </a:lnTo>
                <a:lnTo>
                  <a:pt x="209" y="367"/>
                </a:lnTo>
                <a:lnTo>
                  <a:pt x="205" y="342"/>
                </a:lnTo>
                <a:lnTo>
                  <a:pt x="203" y="317"/>
                </a:lnTo>
                <a:lnTo>
                  <a:pt x="202" y="296"/>
                </a:lnTo>
                <a:lnTo>
                  <a:pt x="198" y="273"/>
                </a:lnTo>
                <a:lnTo>
                  <a:pt x="196" y="253"/>
                </a:lnTo>
                <a:lnTo>
                  <a:pt x="194" y="232"/>
                </a:lnTo>
                <a:lnTo>
                  <a:pt x="190" y="215"/>
                </a:lnTo>
                <a:lnTo>
                  <a:pt x="188" y="196"/>
                </a:lnTo>
                <a:lnTo>
                  <a:pt x="184" y="180"/>
                </a:lnTo>
                <a:lnTo>
                  <a:pt x="180" y="163"/>
                </a:lnTo>
                <a:lnTo>
                  <a:pt x="177" y="150"/>
                </a:lnTo>
                <a:lnTo>
                  <a:pt x="173" y="134"/>
                </a:lnTo>
                <a:lnTo>
                  <a:pt x="169" y="123"/>
                </a:lnTo>
                <a:lnTo>
                  <a:pt x="165" y="109"/>
                </a:lnTo>
                <a:lnTo>
                  <a:pt x="161" y="98"/>
                </a:lnTo>
                <a:lnTo>
                  <a:pt x="157" y="90"/>
                </a:lnTo>
                <a:lnTo>
                  <a:pt x="154" y="81"/>
                </a:lnTo>
                <a:lnTo>
                  <a:pt x="150" y="73"/>
                </a:lnTo>
                <a:lnTo>
                  <a:pt x="148" y="65"/>
                </a:lnTo>
                <a:lnTo>
                  <a:pt x="146" y="58"/>
                </a:lnTo>
                <a:lnTo>
                  <a:pt x="144" y="52"/>
                </a:lnTo>
                <a:lnTo>
                  <a:pt x="142" y="38"/>
                </a:lnTo>
                <a:lnTo>
                  <a:pt x="140" y="27"/>
                </a:lnTo>
                <a:lnTo>
                  <a:pt x="142" y="17"/>
                </a:lnTo>
                <a:lnTo>
                  <a:pt x="144" y="13"/>
                </a:lnTo>
                <a:lnTo>
                  <a:pt x="144" y="10"/>
                </a:lnTo>
                <a:lnTo>
                  <a:pt x="146" y="8"/>
                </a:lnTo>
                <a:lnTo>
                  <a:pt x="150" y="4"/>
                </a:lnTo>
                <a:lnTo>
                  <a:pt x="152" y="2"/>
                </a:lnTo>
                <a:lnTo>
                  <a:pt x="155" y="0"/>
                </a:lnTo>
                <a:lnTo>
                  <a:pt x="161" y="0"/>
                </a:lnTo>
                <a:lnTo>
                  <a:pt x="167" y="0"/>
                </a:lnTo>
                <a:lnTo>
                  <a:pt x="175" y="0"/>
                </a:lnTo>
                <a:lnTo>
                  <a:pt x="184" y="0"/>
                </a:lnTo>
                <a:lnTo>
                  <a:pt x="194" y="2"/>
                </a:lnTo>
                <a:lnTo>
                  <a:pt x="205" y="2"/>
                </a:lnTo>
                <a:lnTo>
                  <a:pt x="217" y="4"/>
                </a:lnTo>
                <a:lnTo>
                  <a:pt x="230" y="8"/>
                </a:lnTo>
                <a:lnTo>
                  <a:pt x="244" y="10"/>
                </a:lnTo>
                <a:lnTo>
                  <a:pt x="259" y="12"/>
                </a:lnTo>
                <a:lnTo>
                  <a:pt x="276" y="15"/>
                </a:lnTo>
                <a:lnTo>
                  <a:pt x="296" y="19"/>
                </a:lnTo>
                <a:lnTo>
                  <a:pt x="313" y="23"/>
                </a:lnTo>
                <a:lnTo>
                  <a:pt x="334" y="29"/>
                </a:lnTo>
                <a:lnTo>
                  <a:pt x="334" y="58"/>
                </a:lnTo>
                <a:lnTo>
                  <a:pt x="334" y="86"/>
                </a:lnTo>
                <a:lnTo>
                  <a:pt x="334" y="142"/>
                </a:lnTo>
                <a:lnTo>
                  <a:pt x="334" y="198"/>
                </a:lnTo>
                <a:lnTo>
                  <a:pt x="334" y="252"/>
                </a:lnTo>
                <a:lnTo>
                  <a:pt x="334" y="301"/>
                </a:lnTo>
                <a:lnTo>
                  <a:pt x="334" y="351"/>
                </a:lnTo>
                <a:lnTo>
                  <a:pt x="332" y="399"/>
                </a:lnTo>
                <a:lnTo>
                  <a:pt x="332" y="445"/>
                </a:lnTo>
                <a:lnTo>
                  <a:pt x="332" y="490"/>
                </a:lnTo>
                <a:lnTo>
                  <a:pt x="330" y="532"/>
                </a:lnTo>
                <a:lnTo>
                  <a:pt x="330" y="572"/>
                </a:lnTo>
                <a:lnTo>
                  <a:pt x="328" y="612"/>
                </a:lnTo>
                <a:lnTo>
                  <a:pt x="326" y="651"/>
                </a:lnTo>
                <a:lnTo>
                  <a:pt x="326" y="687"/>
                </a:lnTo>
                <a:lnTo>
                  <a:pt x="324" y="722"/>
                </a:lnTo>
                <a:lnTo>
                  <a:pt x="322" y="756"/>
                </a:lnTo>
                <a:lnTo>
                  <a:pt x="321" y="772"/>
                </a:lnTo>
                <a:lnTo>
                  <a:pt x="319" y="787"/>
                </a:lnTo>
                <a:lnTo>
                  <a:pt x="319" y="802"/>
                </a:lnTo>
                <a:lnTo>
                  <a:pt x="317" y="818"/>
                </a:lnTo>
                <a:lnTo>
                  <a:pt x="317" y="833"/>
                </a:lnTo>
                <a:lnTo>
                  <a:pt x="317" y="847"/>
                </a:lnTo>
                <a:lnTo>
                  <a:pt x="315" y="860"/>
                </a:lnTo>
                <a:lnTo>
                  <a:pt x="315" y="873"/>
                </a:lnTo>
                <a:lnTo>
                  <a:pt x="315" y="885"/>
                </a:lnTo>
                <a:lnTo>
                  <a:pt x="313" y="896"/>
                </a:lnTo>
                <a:lnTo>
                  <a:pt x="313" y="908"/>
                </a:lnTo>
                <a:lnTo>
                  <a:pt x="313" y="919"/>
                </a:lnTo>
                <a:lnTo>
                  <a:pt x="313" y="929"/>
                </a:lnTo>
                <a:lnTo>
                  <a:pt x="313" y="941"/>
                </a:lnTo>
                <a:lnTo>
                  <a:pt x="313" y="950"/>
                </a:lnTo>
                <a:lnTo>
                  <a:pt x="313" y="958"/>
                </a:lnTo>
                <a:lnTo>
                  <a:pt x="313" y="967"/>
                </a:lnTo>
                <a:lnTo>
                  <a:pt x="313" y="975"/>
                </a:lnTo>
                <a:lnTo>
                  <a:pt x="313" y="983"/>
                </a:lnTo>
                <a:lnTo>
                  <a:pt x="313" y="991"/>
                </a:lnTo>
                <a:lnTo>
                  <a:pt x="313" y="996"/>
                </a:lnTo>
                <a:lnTo>
                  <a:pt x="313" y="1002"/>
                </a:lnTo>
                <a:lnTo>
                  <a:pt x="315" y="1008"/>
                </a:lnTo>
                <a:lnTo>
                  <a:pt x="315" y="1014"/>
                </a:lnTo>
                <a:lnTo>
                  <a:pt x="315" y="1019"/>
                </a:lnTo>
                <a:lnTo>
                  <a:pt x="317" y="1023"/>
                </a:lnTo>
                <a:lnTo>
                  <a:pt x="317" y="1027"/>
                </a:lnTo>
                <a:lnTo>
                  <a:pt x="317" y="1029"/>
                </a:lnTo>
                <a:lnTo>
                  <a:pt x="319" y="1033"/>
                </a:lnTo>
                <a:lnTo>
                  <a:pt x="319" y="1035"/>
                </a:lnTo>
                <a:lnTo>
                  <a:pt x="321" y="1037"/>
                </a:lnTo>
                <a:lnTo>
                  <a:pt x="322" y="1038"/>
                </a:lnTo>
                <a:lnTo>
                  <a:pt x="324" y="1040"/>
                </a:lnTo>
                <a:lnTo>
                  <a:pt x="328" y="1040"/>
                </a:lnTo>
                <a:lnTo>
                  <a:pt x="332" y="1040"/>
                </a:lnTo>
                <a:lnTo>
                  <a:pt x="336" y="1038"/>
                </a:lnTo>
                <a:lnTo>
                  <a:pt x="342" y="1038"/>
                </a:lnTo>
                <a:lnTo>
                  <a:pt x="347" y="1037"/>
                </a:lnTo>
                <a:lnTo>
                  <a:pt x="355" y="1037"/>
                </a:lnTo>
                <a:lnTo>
                  <a:pt x="361" y="1035"/>
                </a:lnTo>
                <a:lnTo>
                  <a:pt x="370" y="1031"/>
                </a:lnTo>
                <a:lnTo>
                  <a:pt x="378" y="1029"/>
                </a:lnTo>
                <a:lnTo>
                  <a:pt x="388" y="1025"/>
                </a:lnTo>
                <a:lnTo>
                  <a:pt x="397" y="1023"/>
                </a:lnTo>
                <a:lnTo>
                  <a:pt x="409" y="1019"/>
                </a:lnTo>
                <a:lnTo>
                  <a:pt x="420" y="1014"/>
                </a:lnTo>
                <a:lnTo>
                  <a:pt x="434" y="1010"/>
                </a:lnTo>
                <a:lnTo>
                  <a:pt x="445" y="1004"/>
                </a:lnTo>
                <a:lnTo>
                  <a:pt x="461" y="998"/>
                </a:lnTo>
                <a:lnTo>
                  <a:pt x="474" y="992"/>
                </a:lnTo>
                <a:lnTo>
                  <a:pt x="489" y="987"/>
                </a:lnTo>
                <a:lnTo>
                  <a:pt x="507" y="979"/>
                </a:lnTo>
                <a:lnTo>
                  <a:pt x="522" y="971"/>
                </a:lnTo>
                <a:lnTo>
                  <a:pt x="539" y="964"/>
                </a:lnTo>
                <a:lnTo>
                  <a:pt x="559" y="956"/>
                </a:lnTo>
                <a:lnTo>
                  <a:pt x="578" y="948"/>
                </a:lnTo>
                <a:lnTo>
                  <a:pt x="597" y="939"/>
                </a:lnTo>
                <a:lnTo>
                  <a:pt x="616" y="929"/>
                </a:lnTo>
                <a:lnTo>
                  <a:pt x="637" y="919"/>
                </a:lnTo>
                <a:lnTo>
                  <a:pt x="660" y="908"/>
                </a:lnTo>
                <a:lnTo>
                  <a:pt x="681" y="896"/>
                </a:lnTo>
                <a:lnTo>
                  <a:pt x="704" y="885"/>
                </a:lnTo>
                <a:lnTo>
                  <a:pt x="729" y="873"/>
                </a:lnTo>
                <a:lnTo>
                  <a:pt x="741" y="902"/>
                </a:lnTo>
                <a:lnTo>
                  <a:pt x="754" y="933"/>
                </a:lnTo>
                <a:lnTo>
                  <a:pt x="726" y="950"/>
                </a:lnTo>
                <a:lnTo>
                  <a:pt x="699" y="967"/>
                </a:lnTo>
                <a:lnTo>
                  <a:pt x="670" y="983"/>
                </a:lnTo>
                <a:lnTo>
                  <a:pt x="645" y="1000"/>
                </a:lnTo>
                <a:lnTo>
                  <a:pt x="618" y="1015"/>
                </a:lnTo>
                <a:lnTo>
                  <a:pt x="593" y="1031"/>
                </a:lnTo>
                <a:lnTo>
                  <a:pt x="570" y="1046"/>
                </a:lnTo>
                <a:lnTo>
                  <a:pt x="547" y="1062"/>
                </a:lnTo>
                <a:lnTo>
                  <a:pt x="524" y="1075"/>
                </a:lnTo>
                <a:lnTo>
                  <a:pt x="501" y="1088"/>
                </a:lnTo>
                <a:lnTo>
                  <a:pt x="480" y="1102"/>
                </a:lnTo>
                <a:lnTo>
                  <a:pt x="461" y="1115"/>
                </a:lnTo>
                <a:lnTo>
                  <a:pt x="440" y="1129"/>
                </a:lnTo>
                <a:lnTo>
                  <a:pt x="420" y="1140"/>
                </a:lnTo>
                <a:lnTo>
                  <a:pt x="403" y="1152"/>
                </a:lnTo>
                <a:lnTo>
                  <a:pt x="386" y="1163"/>
                </a:lnTo>
                <a:lnTo>
                  <a:pt x="369" y="1175"/>
                </a:lnTo>
                <a:lnTo>
                  <a:pt x="353" y="1184"/>
                </a:lnTo>
                <a:lnTo>
                  <a:pt x="338" y="1196"/>
                </a:lnTo>
                <a:lnTo>
                  <a:pt x="322" y="1205"/>
                </a:lnTo>
                <a:lnTo>
                  <a:pt x="309" y="1215"/>
                </a:lnTo>
                <a:lnTo>
                  <a:pt x="296" y="1225"/>
                </a:lnTo>
                <a:lnTo>
                  <a:pt x="284" y="1232"/>
                </a:lnTo>
                <a:lnTo>
                  <a:pt x="273" y="1242"/>
                </a:lnTo>
                <a:lnTo>
                  <a:pt x="263" y="1250"/>
                </a:lnTo>
                <a:lnTo>
                  <a:pt x="253" y="1257"/>
                </a:lnTo>
                <a:lnTo>
                  <a:pt x="244" y="1265"/>
                </a:lnTo>
                <a:lnTo>
                  <a:pt x="236" y="1271"/>
                </a:lnTo>
                <a:lnTo>
                  <a:pt x="228" y="1278"/>
                </a:lnTo>
                <a:lnTo>
                  <a:pt x="221" y="1284"/>
                </a:lnTo>
                <a:lnTo>
                  <a:pt x="215" y="1290"/>
                </a:lnTo>
                <a:lnTo>
                  <a:pt x="211" y="1296"/>
                </a:lnTo>
                <a:lnTo>
                  <a:pt x="202" y="1307"/>
                </a:lnTo>
                <a:lnTo>
                  <a:pt x="192" y="1317"/>
                </a:lnTo>
                <a:lnTo>
                  <a:pt x="184" y="1326"/>
                </a:lnTo>
                <a:lnTo>
                  <a:pt x="177" y="1336"/>
                </a:lnTo>
                <a:lnTo>
                  <a:pt x="169" y="1344"/>
                </a:lnTo>
                <a:lnTo>
                  <a:pt x="161" y="1351"/>
                </a:lnTo>
                <a:lnTo>
                  <a:pt x="154" y="1359"/>
                </a:lnTo>
                <a:lnTo>
                  <a:pt x="146" y="1365"/>
                </a:lnTo>
                <a:lnTo>
                  <a:pt x="140" y="1371"/>
                </a:lnTo>
                <a:lnTo>
                  <a:pt x="132" y="1376"/>
                </a:lnTo>
                <a:lnTo>
                  <a:pt x="127" y="1380"/>
                </a:lnTo>
                <a:lnTo>
                  <a:pt x="121" y="1384"/>
                </a:lnTo>
                <a:lnTo>
                  <a:pt x="115" y="1386"/>
                </a:lnTo>
                <a:lnTo>
                  <a:pt x="109" y="1388"/>
                </a:lnTo>
                <a:lnTo>
                  <a:pt x="104" y="1390"/>
                </a:lnTo>
                <a:lnTo>
                  <a:pt x="100" y="1390"/>
                </a:lnTo>
                <a:lnTo>
                  <a:pt x="94" y="1392"/>
                </a:lnTo>
                <a:lnTo>
                  <a:pt x="90" y="1394"/>
                </a:lnTo>
                <a:lnTo>
                  <a:pt x="86" y="1394"/>
                </a:lnTo>
                <a:lnTo>
                  <a:pt x="81" y="1392"/>
                </a:lnTo>
                <a:lnTo>
                  <a:pt x="77" y="1392"/>
                </a:lnTo>
                <a:lnTo>
                  <a:pt x="73" y="1388"/>
                </a:lnTo>
                <a:lnTo>
                  <a:pt x="67" y="1386"/>
                </a:lnTo>
                <a:lnTo>
                  <a:pt x="63" y="1382"/>
                </a:lnTo>
                <a:lnTo>
                  <a:pt x="60" y="1376"/>
                </a:lnTo>
                <a:lnTo>
                  <a:pt x="56" y="1371"/>
                </a:lnTo>
                <a:lnTo>
                  <a:pt x="52" y="1365"/>
                </a:lnTo>
                <a:lnTo>
                  <a:pt x="50" y="1357"/>
                </a:lnTo>
                <a:lnTo>
                  <a:pt x="46" y="1349"/>
                </a:lnTo>
                <a:lnTo>
                  <a:pt x="42" y="1340"/>
                </a:lnTo>
                <a:lnTo>
                  <a:pt x="40" y="1330"/>
                </a:lnTo>
                <a:lnTo>
                  <a:pt x="38" y="1321"/>
                </a:lnTo>
                <a:lnTo>
                  <a:pt x="29" y="1303"/>
                </a:lnTo>
                <a:lnTo>
                  <a:pt x="21" y="1286"/>
                </a:lnTo>
                <a:lnTo>
                  <a:pt x="15" y="1273"/>
                </a:lnTo>
                <a:lnTo>
                  <a:pt x="10" y="1257"/>
                </a:lnTo>
                <a:lnTo>
                  <a:pt x="6" y="1246"/>
                </a:lnTo>
                <a:lnTo>
                  <a:pt x="4" y="1234"/>
                </a:lnTo>
                <a:lnTo>
                  <a:pt x="2" y="1223"/>
                </a:lnTo>
                <a:lnTo>
                  <a:pt x="0" y="1215"/>
                </a:lnTo>
                <a:lnTo>
                  <a:pt x="0" y="1211"/>
                </a:lnTo>
                <a:lnTo>
                  <a:pt x="2" y="1209"/>
                </a:lnTo>
                <a:lnTo>
                  <a:pt x="4" y="1205"/>
                </a:lnTo>
                <a:lnTo>
                  <a:pt x="6" y="1202"/>
                </a:lnTo>
                <a:lnTo>
                  <a:pt x="8" y="1196"/>
                </a:lnTo>
                <a:lnTo>
                  <a:pt x="12" y="1192"/>
                </a:lnTo>
                <a:lnTo>
                  <a:pt x="15" y="1186"/>
                </a:lnTo>
                <a:lnTo>
                  <a:pt x="21" y="1181"/>
                </a:lnTo>
                <a:lnTo>
                  <a:pt x="27" y="1175"/>
                </a:lnTo>
                <a:lnTo>
                  <a:pt x="33" y="1167"/>
                </a:lnTo>
                <a:lnTo>
                  <a:pt x="40" y="1161"/>
                </a:lnTo>
                <a:lnTo>
                  <a:pt x="48" y="1154"/>
                </a:lnTo>
                <a:lnTo>
                  <a:pt x="56" y="1146"/>
                </a:lnTo>
                <a:lnTo>
                  <a:pt x="65" y="1136"/>
                </a:lnTo>
                <a:lnTo>
                  <a:pt x="77" y="1129"/>
                </a:lnTo>
                <a:lnTo>
                  <a:pt x="86" y="1121"/>
                </a:lnTo>
                <a:lnTo>
                  <a:pt x="96" y="1113"/>
                </a:lnTo>
                <a:lnTo>
                  <a:pt x="106" y="1104"/>
                </a:lnTo>
                <a:lnTo>
                  <a:pt x="113" y="1094"/>
                </a:lnTo>
                <a:lnTo>
                  <a:pt x="121" y="1083"/>
                </a:lnTo>
                <a:lnTo>
                  <a:pt x="129" y="1069"/>
                </a:lnTo>
                <a:lnTo>
                  <a:pt x="136" y="1056"/>
                </a:lnTo>
                <a:lnTo>
                  <a:pt x="144" y="1040"/>
                </a:lnTo>
                <a:lnTo>
                  <a:pt x="150" y="1023"/>
                </a:lnTo>
                <a:lnTo>
                  <a:pt x="157" y="1004"/>
                </a:lnTo>
                <a:lnTo>
                  <a:pt x="163" y="985"/>
                </a:lnTo>
                <a:lnTo>
                  <a:pt x="167" y="964"/>
                </a:lnTo>
                <a:lnTo>
                  <a:pt x="173" y="943"/>
                </a:lnTo>
                <a:lnTo>
                  <a:pt x="177" y="918"/>
                </a:lnTo>
                <a:lnTo>
                  <a:pt x="180" y="893"/>
                </a:lnTo>
                <a:lnTo>
                  <a:pt x="182" y="866"/>
                </a:lnTo>
                <a:lnTo>
                  <a:pt x="186" y="83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Freeform 110"/>
          <p:cNvSpPr/>
          <p:nvPr/>
        </p:nvSpPr>
        <p:spPr>
          <a:xfrm>
            <a:off x="6292800" y="3903840"/>
            <a:ext cx="371520" cy="102960"/>
          </a:xfrm>
          <a:custGeom>
            <a:avLst/>
            <a:gdLst/>
            <a:ahLst/>
            <a:rect l="l" t="t" r="r" b="b"/>
            <a:pathLst>
              <a:path w="468" h="128">
                <a:moveTo>
                  <a:pt x="456" y="82"/>
                </a:moveTo>
                <a:lnTo>
                  <a:pt x="451" y="82"/>
                </a:lnTo>
                <a:lnTo>
                  <a:pt x="443" y="82"/>
                </a:lnTo>
                <a:lnTo>
                  <a:pt x="435" y="82"/>
                </a:lnTo>
                <a:lnTo>
                  <a:pt x="428" y="82"/>
                </a:lnTo>
                <a:lnTo>
                  <a:pt x="420" y="82"/>
                </a:lnTo>
                <a:lnTo>
                  <a:pt x="410" y="82"/>
                </a:lnTo>
                <a:lnTo>
                  <a:pt x="401" y="84"/>
                </a:lnTo>
                <a:lnTo>
                  <a:pt x="391" y="84"/>
                </a:lnTo>
                <a:lnTo>
                  <a:pt x="382" y="84"/>
                </a:lnTo>
                <a:lnTo>
                  <a:pt x="370" y="86"/>
                </a:lnTo>
                <a:lnTo>
                  <a:pt x="359" y="86"/>
                </a:lnTo>
                <a:lnTo>
                  <a:pt x="347" y="88"/>
                </a:lnTo>
                <a:lnTo>
                  <a:pt x="334" y="88"/>
                </a:lnTo>
                <a:lnTo>
                  <a:pt x="320" y="90"/>
                </a:lnTo>
                <a:lnTo>
                  <a:pt x="307" y="90"/>
                </a:lnTo>
                <a:lnTo>
                  <a:pt x="293" y="92"/>
                </a:lnTo>
                <a:lnTo>
                  <a:pt x="278" y="94"/>
                </a:lnTo>
                <a:lnTo>
                  <a:pt x="263" y="94"/>
                </a:lnTo>
                <a:lnTo>
                  <a:pt x="247" y="96"/>
                </a:lnTo>
                <a:lnTo>
                  <a:pt x="230" y="98"/>
                </a:lnTo>
                <a:lnTo>
                  <a:pt x="215" y="100"/>
                </a:lnTo>
                <a:lnTo>
                  <a:pt x="197" y="101"/>
                </a:lnTo>
                <a:lnTo>
                  <a:pt x="161" y="105"/>
                </a:lnTo>
                <a:lnTo>
                  <a:pt x="122" y="111"/>
                </a:lnTo>
                <a:lnTo>
                  <a:pt x="84" y="117"/>
                </a:lnTo>
                <a:lnTo>
                  <a:pt x="42" y="123"/>
                </a:lnTo>
                <a:lnTo>
                  <a:pt x="0" y="128"/>
                </a:lnTo>
                <a:lnTo>
                  <a:pt x="0" y="34"/>
                </a:lnTo>
                <a:lnTo>
                  <a:pt x="30" y="30"/>
                </a:lnTo>
                <a:lnTo>
                  <a:pt x="61" y="27"/>
                </a:lnTo>
                <a:lnTo>
                  <a:pt x="88" y="23"/>
                </a:lnTo>
                <a:lnTo>
                  <a:pt x="115" y="19"/>
                </a:lnTo>
                <a:lnTo>
                  <a:pt x="140" y="15"/>
                </a:lnTo>
                <a:lnTo>
                  <a:pt x="163" y="13"/>
                </a:lnTo>
                <a:lnTo>
                  <a:pt x="184" y="11"/>
                </a:lnTo>
                <a:lnTo>
                  <a:pt x="205" y="7"/>
                </a:lnTo>
                <a:lnTo>
                  <a:pt x="222" y="5"/>
                </a:lnTo>
                <a:lnTo>
                  <a:pt x="239" y="4"/>
                </a:lnTo>
                <a:lnTo>
                  <a:pt x="255" y="4"/>
                </a:lnTo>
                <a:lnTo>
                  <a:pt x="268" y="2"/>
                </a:lnTo>
                <a:lnTo>
                  <a:pt x="280" y="0"/>
                </a:lnTo>
                <a:lnTo>
                  <a:pt x="291" y="0"/>
                </a:lnTo>
                <a:lnTo>
                  <a:pt x="301" y="0"/>
                </a:lnTo>
                <a:lnTo>
                  <a:pt x="309" y="0"/>
                </a:lnTo>
                <a:lnTo>
                  <a:pt x="322" y="0"/>
                </a:lnTo>
                <a:lnTo>
                  <a:pt x="339" y="0"/>
                </a:lnTo>
                <a:lnTo>
                  <a:pt x="355" y="0"/>
                </a:lnTo>
                <a:lnTo>
                  <a:pt x="374" y="2"/>
                </a:lnTo>
                <a:lnTo>
                  <a:pt x="395" y="2"/>
                </a:lnTo>
                <a:lnTo>
                  <a:pt x="406" y="4"/>
                </a:lnTo>
                <a:lnTo>
                  <a:pt x="418" y="4"/>
                </a:lnTo>
                <a:lnTo>
                  <a:pt x="430" y="5"/>
                </a:lnTo>
                <a:lnTo>
                  <a:pt x="441" y="7"/>
                </a:lnTo>
                <a:lnTo>
                  <a:pt x="454" y="9"/>
                </a:lnTo>
                <a:lnTo>
                  <a:pt x="468" y="11"/>
                </a:lnTo>
                <a:lnTo>
                  <a:pt x="462" y="46"/>
                </a:lnTo>
                <a:lnTo>
                  <a:pt x="456" y="8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Freeform 111"/>
          <p:cNvSpPr/>
          <p:nvPr/>
        </p:nvSpPr>
        <p:spPr>
          <a:xfrm>
            <a:off x="6311880" y="3657600"/>
            <a:ext cx="264960" cy="96840"/>
          </a:xfrm>
          <a:custGeom>
            <a:avLst/>
            <a:gdLst/>
            <a:ahLst/>
            <a:rect l="l" t="t" r="r" b="b"/>
            <a:pathLst>
              <a:path w="334" h="123">
                <a:moveTo>
                  <a:pt x="159" y="29"/>
                </a:moveTo>
                <a:lnTo>
                  <a:pt x="178" y="21"/>
                </a:lnTo>
                <a:lnTo>
                  <a:pt x="195" y="13"/>
                </a:lnTo>
                <a:lnTo>
                  <a:pt x="211" y="7"/>
                </a:lnTo>
                <a:lnTo>
                  <a:pt x="226" y="4"/>
                </a:lnTo>
                <a:lnTo>
                  <a:pt x="241" y="2"/>
                </a:lnTo>
                <a:lnTo>
                  <a:pt x="247" y="0"/>
                </a:lnTo>
                <a:lnTo>
                  <a:pt x="255" y="0"/>
                </a:lnTo>
                <a:lnTo>
                  <a:pt x="262" y="2"/>
                </a:lnTo>
                <a:lnTo>
                  <a:pt x="270" y="2"/>
                </a:lnTo>
                <a:lnTo>
                  <a:pt x="276" y="4"/>
                </a:lnTo>
                <a:lnTo>
                  <a:pt x="284" y="6"/>
                </a:lnTo>
                <a:lnTo>
                  <a:pt x="289" y="7"/>
                </a:lnTo>
                <a:lnTo>
                  <a:pt x="295" y="9"/>
                </a:lnTo>
                <a:lnTo>
                  <a:pt x="301" y="11"/>
                </a:lnTo>
                <a:lnTo>
                  <a:pt x="307" y="13"/>
                </a:lnTo>
                <a:lnTo>
                  <a:pt x="310" y="17"/>
                </a:lnTo>
                <a:lnTo>
                  <a:pt x="314" y="19"/>
                </a:lnTo>
                <a:lnTo>
                  <a:pt x="322" y="23"/>
                </a:lnTo>
                <a:lnTo>
                  <a:pt x="326" y="27"/>
                </a:lnTo>
                <a:lnTo>
                  <a:pt x="330" y="32"/>
                </a:lnTo>
                <a:lnTo>
                  <a:pt x="332" y="36"/>
                </a:lnTo>
                <a:lnTo>
                  <a:pt x="334" y="40"/>
                </a:lnTo>
                <a:lnTo>
                  <a:pt x="332" y="44"/>
                </a:lnTo>
                <a:lnTo>
                  <a:pt x="330" y="50"/>
                </a:lnTo>
                <a:lnTo>
                  <a:pt x="326" y="53"/>
                </a:lnTo>
                <a:lnTo>
                  <a:pt x="322" y="59"/>
                </a:lnTo>
                <a:lnTo>
                  <a:pt x="314" y="65"/>
                </a:lnTo>
                <a:lnTo>
                  <a:pt x="310" y="69"/>
                </a:lnTo>
                <a:lnTo>
                  <a:pt x="307" y="71"/>
                </a:lnTo>
                <a:lnTo>
                  <a:pt x="301" y="75"/>
                </a:lnTo>
                <a:lnTo>
                  <a:pt x="295" y="78"/>
                </a:lnTo>
                <a:lnTo>
                  <a:pt x="289" y="82"/>
                </a:lnTo>
                <a:lnTo>
                  <a:pt x="284" y="88"/>
                </a:lnTo>
                <a:lnTo>
                  <a:pt x="276" y="92"/>
                </a:lnTo>
                <a:lnTo>
                  <a:pt x="266" y="96"/>
                </a:lnTo>
                <a:lnTo>
                  <a:pt x="257" y="100"/>
                </a:lnTo>
                <a:lnTo>
                  <a:pt x="245" y="103"/>
                </a:lnTo>
                <a:lnTo>
                  <a:pt x="234" y="105"/>
                </a:lnTo>
                <a:lnTo>
                  <a:pt x="218" y="109"/>
                </a:lnTo>
                <a:lnTo>
                  <a:pt x="205" y="111"/>
                </a:lnTo>
                <a:lnTo>
                  <a:pt x="188" y="113"/>
                </a:lnTo>
                <a:lnTo>
                  <a:pt x="168" y="117"/>
                </a:lnTo>
                <a:lnTo>
                  <a:pt x="149" y="117"/>
                </a:lnTo>
                <a:lnTo>
                  <a:pt x="128" y="119"/>
                </a:lnTo>
                <a:lnTo>
                  <a:pt x="105" y="121"/>
                </a:lnTo>
                <a:lnTo>
                  <a:pt x="82" y="121"/>
                </a:lnTo>
                <a:lnTo>
                  <a:pt x="55" y="123"/>
                </a:lnTo>
                <a:lnTo>
                  <a:pt x="28" y="123"/>
                </a:lnTo>
                <a:lnTo>
                  <a:pt x="0" y="123"/>
                </a:lnTo>
                <a:lnTo>
                  <a:pt x="0" y="52"/>
                </a:lnTo>
                <a:lnTo>
                  <a:pt x="23" y="52"/>
                </a:lnTo>
                <a:lnTo>
                  <a:pt x="46" y="50"/>
                </a:lnTo>
                <a:lnTo>
                  <a:pt x="67" y="48"/>
                </a:lnTo>
                <a:lnTo>
                  <a:pt x="88" y="44"/>
                </a:lnTo>
                <a:lnTo>
                  <a:pt x="109" y="42"/>
                </a:lnTo>
                <a:lnTo>
                  <a:pt x="128" y="38"/>
                </a:lnTo>
                <a:lnTo>
                  <a:pt x="136" y="34"/>
                </a:lnTo>
                <a:lnTo>
                  <a:pt x="143" y="32"/>
                </a:lnTo>
                <a:lnTo>
                  <a:pt x="153" y="30"/>
                </a:lnTo>
                <a:lnTo>
                  <a:pt x="159" y="2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Freeform 112"/>
          <p:cNvSpPr/>
          <p:nvPr/>
        </p:nvSpPr>
        <p:spPr>
          <a:xfrm>
            <a:off x="6264360" y="3390840"/>
            <a:ext cx="596880" cy="615960"/>
          </a:xfrm>
          <a:custGeom>
            <a:avLst/>
            <a:gdLst/>
            <a:ahLst/>
            <a:rect l="l" t="t" r="r" b="b"/>
            <a:pathLst>
              <a:path w="753" h="775">
                <a:moveTo>
                  <a:pt x="482" y="775"/>
                </a:moveTo>
                <a:lnTo>
                  <a:pt x="478" y="775"/>
                </a:lnTo>
                <a:lnTo>
                  <a:pt x="474" y="773"/>
                </a:lnTo>
                <a:lnTo>
                  <a:pt x="472" y="773"/>
                </a:lnTo>
                <a:lnTo>
                  <a:pt x="468" y="770"/>
                </a:lnTo>
                <a:lnTo>
                  <a:pt x="467" y="768"/>
                </a:lnTo>
                <a:lnTo>
                  <a:pt x="465" y="764"/>
                </a:lnTo>
                <a:lnTo>
                  <a:pt x="461" y="760"/>
                </a:lnTo>
                <a:lnTo>
                  <a:pt x="459" y="756"/>
                </a:lnTo>
                <a:lnTo>
                  <a:pt x="459" y="750"/>
                </a:lnTo>
                <a:lnTo>
                  <a:pt x="457" y="745"/>
                </a:lnTo>
                <a:lnTo>
                  <a:pt x="455" y="739"/>
                </a:lnTo>
                <a:lnTo>
                  <a:pt x="455" y="731"/>
                </a:lnTo>
                <a:lnTo>
                  <a:pt x="453" y="723"/>
                </a:lnTo>
                <a:lnTo>
                  <a:pt x="453" y="716"/>
                </a:lnTo>
                <a:lnTo>
                  <a:pt x="451" y="706"/>
                </a:lnTo>
                <a:lnTo>
                  <a:pt x="451" y="699"/>
                </a:lnTo>
                <a:lnTo>
                  <a:pt x="451" y="687"/>
                </a:lnTo>
                <a:lnTo>
                  <a:pt x="451" y="677"/>
                </a:lnTo>
                <a:lnTo>
                  <a:pt x="451" y="666"/>
                </a:lnTo>
                <a:lnTo>
                  <a:pt x="451" y="654"/>
                </a:lnTo>
                <a:lnTo>
                  <a:pt x="453" y="643"/>
                </a:lnTo>
                <a:lnTo>
                  <a:pt x="453" y="629"/>
                </a:lnTo>
                <a:lnTo>
                  <a:pt x="453" y="616"/>
                </a:lnTo>
                <a:lnTo>
                  <a:pt x="455" y="603"/>
                </a:lnTo>
                <a:lnTo>
                  <a:pt x="457" y="587"/>
                </a:lnTo>
                <a:lnTo>
                  <a:pt x="457" y="572"/>
                </a:lnTo>
                <a:lnTo>
                  <a:pt x="459" y="556"/>
                </a:lnTo>
                <a:lnTo>
                  <a:pt x="461" y="541"/>
                </a:lnTo>
                <a:lnTo>
                  <a:pt x="463" y="524"/>
                </a:lnTo>
                <a:lnTo>
                  <a:pt x="465" y="507"/>
                </a:lnTo>
                <a:lnTo>
                  <a:pt x="467" y="489"/>
                </a:lnTo>
                <a:lnTo>
                  <a:pt x="468" y="470"/>
                </a:lnTo>
                <a:lnTo>
                  <a:pt x="470" y="451"/>
                </a:lnTo>
                <a:lnTo>
                  <a:pt x="470" y="434"/>
                </a:lnTo>
                <a:lnTo>
                  <a:pt x="472" y="416"/>
                </a:lnTo>
                <a:lnTo>
                  <a:pt x="472" y="399"/>
                </a:lnTo>
                <a:lnTo>
                  <a:pt x="474" y="384"/>
                </a:lnTo>
                <a:lnTo>
                  <a:pt x="474" y="368"/>
                </a:lnTo>
                <a:lnTo>
                  <a:pt x="476" y="353"/>
                </a:lnTo>
                <a:lnTo>
                  <a:pt x="478" y="338"/>
                </a:lnTo>
                <a:lnTo>
                  <a:pt x="478" y="324"/>
                </a:lnTo>
                <a:lnTo>
                  <a:pt x="480" y="311"/>
                </a:lnTo>
                <a:lnTo>
                  <a:pt x="480" y="297"/>
                </a:lnTo>
                <a:lnTo>
                  <a:pt x="480" y="286"/>
                </a:lnTo>
                <a:lnTo>
                  <a:pt x="482" y="274"/>
                </a:lnTo>
                <a:lnTo>
                  <a:pt x="482" y="263"/>
                </a:lnTo>
                <a:lnTo>
                  <a:pt x="484" y="251"/>
                </a:lnTo>
                <a:lnTo>
                  <a:pt x="484" y="242"/>
                </a:lnTo>
                <a:lnTo>
                  <a:pt x="484" y="232"/>
                </a:lnTo>
                <a:lnTo>
                  <a:pt x="484" y="223"/>
                </a:lnTo>
                <a:lnTo>
                  <a:pt x="486" y="215"/>
                </a:lnTo>
                <a:lnTo>
                  <a:pt x="486" y="205"/>
                </a:lnTo>
                <a:lnTo>
                  <a:pt x="486" y="199"/>
                </a:lnTo>
                <a:lnTo>
                  <a:pt x="486" y="192"/>
                </a:lnTo>
                <a:lnTo>
                  <a:pt x="486" y="186"/>
                </a:lnTo>
                <a:lnTo>
                  <a:pt x="486" y="180"/>
                </a:lnTo>
                <a:lnTo>
                  <a:pt x="486" y="175"/>
                </a:lnTo>
                <a:lnTo>
                  <a:pt x="486" y="169"/>
                </a:lnTo>
                <a:lnTo>
                  <a:pt x="486" y="165"/>
                </a:lnTo>
                <a:lnTo>
                  <a:pt x="484" y="161"/>
                </a:lnTo>
                <a:lnTo>
                  <a:pt x="484" y="159"/>
                </a:lnTo>
                <a:lnTo>
                  <a:pt x="484" y="157"/>
                </a:lnTo>
                <a:lnTo>
                  <a:pt x="482" y="153"/>
                </a:lnTo>
                <a:lnTo>
                  <a:pt x="478" y="151"/>
                </a:lnTo>
                <a:lnTo>
                  <a:pt x="474" y="150"/>
                </a:lnTo>
                <a:lnTo>
                  <a:pt x="468" y="150"/>
                </a:lnTo>
                <a:lnTo>
                  <a:pt x="461" y="148"/>
                </a:lnTo>
                <a:lnTo>
                  <a:pt x="451" y="148"/>
                </a:lnTo>
                <a:lnTo>
                  <a:pt x="442" y="150"/>
                </a:lnTo>
                <a:lnTo>
                  <a:pt x="432" y="150"/>
                </a:lnTo>
                <a:lnTo>
                  <a:pt x="419" y="151"/>
                </a:lnTo>
                <a:lnTo>
                  <a:pt x="405" y="153"/>
                </a:lnTo>
                <a:lnTo>
                  <a:pt x="392" y="155"/>
                </a:lnTo>
                <a:lnTo>
                  <a:pt x="376" y="157"/>
                </a:lnTo>
                <a:lnTo>
                  <a:pt x="359" y="161"/>
                </a:lnTo>
                <a:lnTo>
                  <a:pt x="342" y="165"/>
                </a:lnTo>
                <a:lnTo>
                  <a:pt x="323" y="169"/>
                </a:lnTo>
                <a:lnTo>
                  <a:pt x="303" y="173"/>
                </a:lnTo>
                <a:lnTo>
                  <a:pt x="284" y="176"/>
                </a:lnTo>
                <a:lnTo>
                  <a:pt x="261" y="180"/>
                </a:lnTo>
                <a:lnTo>
                  <a:pt x="238" y="184"/>
                </a:lnTo>
                <a:lnTo>
                  <a:pt x="217" y="188"/>
                </a:lnTo>
                <a:lnTo>
                  <a:pt x="196" y="192"/>
                </a:lnTo>
                <a:lnTo>
                  <a:pt x="175" y="196"/>
                </a:lnTo>
                <a:lnTo>
                  <a:pt x="156" y="198"/>
                </a:lnTo>
                <a:lnTo>
                  <a:pt x="136" y="201"/>
                </a:lnTo>
                <a:lnTo>
                  <a:pt x="119" y="203"/>
                </a:lnTo>
                <a:lnTo>
                  <a:pt x="100" y="205"/>
                </a:lnTo>
                <a:lnTo>
                  <a:pt x="85" y="207"/>
                </a:lnTo>
                <a:lnTo>
                  <a:pt x="67" y="209"/>
                </a:lnTo>
                <a:lnTo>
                  <a:pt x="52" y="209"/>
                </a:lnTo>
                <a:lnTo>
                  <a:pt x="38" y="211"/>
                </a:lnTo>
                <a:lnTo>
                  <a:pt x="25" y="211"/>
                </a:lnTo>
                <a:lnTo>
                  <a:pt x="12" y="211"/>
                </a:lnTo>
                <a:lnTo>
                  <a:pt x="0" y="213"/>
                </a:lnTo>
                <a:lnTo>
                  <a:pt x="0" y="165"/>
                </a:lnTo>
                <a:lnTo>
                  <a:pt x="0" y="119"/>
                </a:lnTo>
                <a:lnTo>
                  <a:pt x="25" y="117"/>
                </a:lnTo>
                <a:lnTo>
                  <a:pt x="48" y="117"/>
                </a:lnTo>
                <a:lnTo>
                  <a:pt x="73" y="117"/>
                </a:lnTo>
                <a:lnTo>
                  <a:pt x="96" y="115"/>
                </a:lnTo>
                <a:lnTo>
                  <a:pt x="119" y="115"/>
                </a:lnTo>
                <a:lnTo>
                  <a:pt x="142" y="113"/>
                </a:lnTo>
                <a:lnTo>
                  <a:pt x="163" y="111"/>
                </a:lnTo>
                <a:lnTo>
                  <a:pt x="184" y="109"/>
                </a:lnTo>
                <a:lnTo>
                  <a:pt x="205" y="107"/>
                </a:lnTo>
                <a:lnTo>
                  <a:pt x="225" y="103"/>
                </a:lnTo>
                <a:lnTo>
                  <a:pt x="244" y="102"/>
                </a:lnTo>
                <a:lnTo>
                  <a:pt x="263" y="98"/>
                </a:lnTo>
                <a:lnTo>
                  <a:pt x="282" y="94"/>
                </a:lnTo>
                <a:lnTo>
                  <a:pt x="300" y="90"/>
                </a:lnTo>
                <a:lnTo>
                  <a:pt x="317" y="86"/>
                </a:lnTo>
                <a:lnTo>
                  <a:pt x="332" y="82"/>
                </a:lnTo>
                <a:lnTo>
                  <a:pt x="348" y="80"/>
                </a:lnTo>
                <a:lnTo>
                  <a:pt x="363" y="77"/>
                </a:lnTo>
                <a:lnTo>
                  <a:pt x="378" y="75"/>
                </a:lnTo>
                <a:lnTo>
                  <a:pt x="392" y="71"/>
                </a:lnTo>
                <a:lnTo>
                  <a:pt x="403" y="69"/>
                </a:lnTo>
                <a:lnTo>
                  <a:pt x="415" y="65"/>
                </a:lnTo>
                <a:lnTo>
                  <a:pt x="426" y="61"/>
                </a:lnTo>
                <a:lnTo>
                  <a:pt x="436" y="57"/>
                </a:lnTo>
                <a:lnTo>
                  <a:pt x="445" y="54"/>
                </a:lnTo>
                <a:lnTo>
                  <a:pt x="455" y="50"/>
                </a:lnTo>
                <a:lnTo>
                  <a:pt x="463" y="46"/>
                </a:lnTo>
                <a:lnTo>
                  <a:pt x="470" y="42"/>
                </a:lnTo>
                <a:lnTo>
                  <a:pt x="476" y="36"/>
                </a:lnTo>
                <a:lnTo>
                  <a:pt x="482" y="32"/>
                </a:lnTo>
                <a:lnTo>
                  <a:pt x="488" y="29"/>
                </a:lnTo>
                <a:lnTo>
                  <a:pt x="493" y="25"/>
                </a:lnTo>
                <a:lnTo>
                  <a:pt x="511" y="15"/>
                </a:lnTo>
                <a:lnTo>
                  <a:pt x="520" y="11"/>
                </a:lnTo>
                <a:lnTo>
                  <a:pt x="530" y="8"/>
                </a:lnTo>
                <a:lnTo>
                  <a:pt x="539" y="4"/>
                </a:lnTo>
                <a:lnTo>
                  <a:pt x="549" y="2"/>
                </a:lnTo>
                <a:lnTo>
                  <a:pt x="559" y="2"/>
                </a:lnTo>
                <a:lnTo>
                  <a:pt x="568" y="0"/>
                </a:lnTo>
                <a:lnTo>
                  <a:pt x="570" y="2"/>
                </a:lnTo>
                <a:lnTo>
                  <a:pt x="572" y="6"/>
                </a:lnTo>
                <a:lnTo>
                  <a:pt x="576" y="8"/>
                </a:lnTo>
                <a:lnTo>
                  <a:pt x="582" y="9"/>
                </a:lnTo>
                <a:lnTo>
                  <a:pt x="586" y="11"/>
                </a:lnTo>
                <a:lnTo>
                  <a:pt x="591" y="15"/>
                </a:lnTo>
                <a:lnTo>
                  <a:pt x="597" y="17"/>
                </a:lnTo>
                <a:lnTo>
                  <a:pt x="605" y="21"/>
                </a:lnTo>
                <a:lnTo>
                  <a:pt x="612" y="25"/>
                </a:lnTo>
                <a:lnTo>
                  <a:pt x="620" y="29"/>
                </a:lnTo>
                <a:lnTo>
                  <a:pt x="628" y="32"/>
                </a:lnTo>
                <a:lnTo>
                  <a:pt x="637" y="36"/>
                </a:lnTo>
                <a:lnTo>
                  <a:pt x="647" y="42"/>
                </a:lnTo>
                <a:lnTo>
                  <a:pt x="657" y="46"/>
                </a:lnTo>
                <a:lnTo>
                  <a:pt x="666" y="52"/>
                </a:lnTo>
                <a:lnTo>
                  <a:pt x="678" y="59"/>
                </a:lnTo>
                <a:lnTo>
                  <a:pt x="687" y="65"/>
                </a:lnTo>
                <a:lnTo>
                  <a:pt x="695" y="73"/>
                </a:lnTo>
                <a:lnTo>
                  <a:pt x="703" y="79"/>
                </a:lnTo>
                <a:lnTo>
                  <a:pt x="710" y="86"/>
                </a:lnTo>
                <a:lnTo>
                  <a:pt x="718" y="92"/>
                </a:lnTo>
                <a:lnTo>
                  <a:pt x="724" y="98"/>
                </a:lnTo>
                <a:lnTo>
                  <a:pt x="729" y="103"/>
                </a:lnTo>
                <a:lnTo>
                  <a:pt x="733" y="109"/>
                </a:lnTo>
                <a:lnTo>
                  <a:pt x="737" y="115"/>
                </a:lnTo>
                <a:lnTo>
                  <a:pt x="741" y="119"/>
                </a:lnTo>
                <a:lnTo>
                  <a:pt x="745" y="125"/>
                </a:lnTo>
                <a:lnTo>
                  <a:pt x="749" y="128"/>
                </a:lnTo>
                <a:lnTo>
                  <a:pt x="751" y="132"/>
                </a:lnTo>
                <a:lnTo>
                  <a:pt x="751" y="136"/>
                </a:lnTo>
                <a:lnTo>
                  <a:pt x="753" y="138"/>
                </a:lnTo>
                <a:lnTo>
                  <a:pt x="753" y="142"/>
                </a:lnTo>
                <a:lnTo>
                  <a:pt x="753" y="150"/>
                </a:lnTo>
                <a:lnTo>
                  <a:pt x="751" y="159"/>
                </a:lnTo>
                <a:lnTo>
                  <a:pt x="747" y="167"/>
                </a:lnTo>
                <a:lnTo>
                  <a:pt x="741" y="175"/>
                </a:lnTo>
                <a:lnTo>
                  <a:pt x="735" y="182"/>
                </a:lnTo>
                <a:lnTo>
                  <a:pt x="731" y="186"/>
                </a:lnTo>
                <a:lnTo>
                  <a:pt x="726" y="190"/>
                </a:lnTo>
                <a:lnTo>
                  <a:pt x="722" y="192"/>
                </a:lnTo>
                <a:lnTo>
                  <a:pt x="716" y="196"/>
                </a:lnTo>
                <a:lnTo>
                  <a:pt x="710" y="198"/>
                </a:lnTo>
                <a:lnTo>
                  <a:pt x="703" y="199"/>
                </a:lnTo>
                <a:lnTo>
                  <a:pt x="697" y="205"/>
                </a:lnTo>
                <a:lnTo>
                  <a:pt x="689" y="213"/>
                </a:lnTo>
                <a:lnTo>
                  <a:pt x="681" y="223"/>
                </a:lnTo>
                <a:lnTo>
                  <a:pt x="676" y="232"/>
                </a:lnTo>
                <a:lnTo>
                  <a:pt x="668" y="246"/>
                </a:lnTo>
                <a:lnTo>
                  <a:pt x="660" y="261"/>
                </a:lnTo>
                <a:lnTo>
                  <a:pt x="655" y="278"/>
                </a:lnTo>
                <a:lnTo>
                  <a:pt x="647" y="295"/>
                </a:lnTo>
                <a:lnTo>
                  <a:pt x="641" y="317"/>
                </a:lnTo>
                <a:lnTo>
                  <a:pt x="634" y="338"/>
                </a:lnTo>
                <a:lnTo>
                  <a:pt x="626" y="361"/>
                </a:lnTo>
                <a:lnTo>
                  <a:pt x="620" y="388"/>
                </a:lnTo>
                <a:lnTo>
                  <a:pt x="612" y="414"/>
                </a:lnTo>
                <a:lnTo>
                  <a:pt x="605" y="443"/>
                </a:lnTo>
                <a:lnTo>
                  <a:pt x="599" y="474"/>
                </a:lnTo>
                <a:lnTo>
                  <a:pt x="591" y="507"/>
                </a:lnTo>
                <a:lnTo>
                  <a:pt x="587" y="522"/>
                </a:lnTo>
                <a:lnTo>
                  <a:pt x="586" y="537"/>
                </a:lnTo>
                <a:lnTo>
                  <a:pt x="582" y="553"/>
                </a:lnTo>
                <a:lnTo>
                  <a:pt x="578" y="568"/>
                </a:lnTo>
                <a:lnTo>
                  <a:pt x="574" y="581"/>
                </a:lnTo>
                <a:lnTo>
                  <a:pt x="572" y="597"/>
                </a:lnTo>
                <a:lnTo>
                  <a:pt x="568" y="608"/>
                </a:lnTo>
                <a:lnTo>
                  <a:pt x="564" y="622"/>
                </a:lnTo>
                <a:lnTo>
                  <a:pt x="561" y="635"/>
                </a:lnTo>
                <a:lnTo>
                  <a:pt x="557" y="647"/>
                </a:lnTo>
                <a:lnTo>
                  <a:pt x="555" y="658"/>
                </a:lnTo>
                <a:lnTo>
                  <a:pt x="551" y="668"/>
                </a:lnTo>
                <a:lnTo>
                  <a:pt x="547" y="679"/>
                </a:lnTo>
                <a:lnTo>
                  <a:pt x="543" y="689"/>
                </a:lnTo>
                <a:lnTo>
                  <a:pt x="539" y="699"/>
                </a:lnTo>
                <a:lnTo>
                  <a:pt x="536" y="706"/>
                </a:lnTo>
                <a:lnTo>
                  <a:pt x="534" y="714"/>
                </a:lnTo>
                <a:lnTo>
                  <a:pt x="530" y="723"/>
                </a:lnTo>
                <a:lnTo>
                  <a:pt x="526" y="729"/>
                </a:lnTo>
                <a:lnTo>
                  <a:pt x="522" y="737"/>
                </a:lnTo>
                <a:lnTo>
                  <a:pt x="518" y="743"/>
                </a:lnTo>
                <a:lnTo>
                  <a:pt x="516" y="748"/>
                </a:lnTo>
                <a:lnTo>
                  <a:pt x="513" y="754"/>
                </a:lnTo>
                <a:lnTo>
                  <a:pt x="509" y="758"/>
                </a:lnTo>
                <a:lnTo>
                  <a:pt x="505" y="762"/>
                </a:lnTo>
                <a:lnTo>
                  <a:pt x="501" y="766"/>
                </a:lnTo>
                <a:lnTo>
                  <a:pt x="499" y="768"/>
                </a:lnTo>
                <a:lnTo>
                  <a:pt x="495" y="771"/>
                </a:lnTo>
                <a:lnTo>
                  <a:pt x="491" y="773"/>
                </a:lnTo>
                <a:lnTo>
                  <a:pt x="488" y="773"/>
                </a:lnTo>
                <a:lnTo>
                  <a:pt x="484" y="775"/>
                </a:lnTo>
                <a:lnTo>
                  <a:pt x="482" y="77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Freeform 113"/>
          <p:cNvSpPr/>
          <p:nvPr/>
        </p:nvSpPr>
        <p:spPr>
          <a:xfrm>
            <a:off x="6450120" y="3205080"/>
            <a:ext cx="261720" cy="149400"/>
          </a:xfrm>
          <a:custGeom>
            <a:avLst/>
            <a:gdLst/>
            <a:ahLst/>
            <a:rect l="l" t="t" r="r" b="b"/>
            <a:pathLst>
              <a:path w="330" h="188">
                <a:moveTo>
                  <a:pt x="0" y="34"/>
                </a:moveTo>
                <a:lnTo>
                  <a:pt x="10" y="27"/>
                </a:lnTo>
                <a:lnTo>
                  <a:pt x="18" y="19"/>
                </a:lnTo>
                <a:lnTo>
                  <a:pt x="29" y="13"/>
                </a:lnTo>
                <a:lnTo>
                  <a:pt x="39" y="9"/>
                </a:lnTo>
                <a:lnTo>
                  <a:pt x="48" y="5"/>
                </a:lnTo>
                <a:lnTo>
                  <a:pt x="60" y="2"/>
                </a:lnTo>
                <a:lnTo>
                  <a:pt x="73" y="0"/>
                </a:lnTo>
                <a:lnTo>
                  <a:pt x="87" y="0"/>
                </a:lnTo>
                <a:lnTo>
                  <a:pt x="100" y="0"/>
                </a:lnTo>
                <a:lnTo>
                  <a:pt x="114" y="0"/>
                </a:lnTo>
                <a:lnTo>
                  <a:pt x="129" y="0"/>
                </a:lnTo>
                <a:lnTo>
                  <a:pt x="144" y="2"/>
                </a:lnTo>
                <a:lnTo>
                  <a:pt x="162" y="2"/>
                </a:lnTo>
                <a:lnTo>
                  <a:pt x="181" y="4"/>
                </a:lnTo>
                <a:lnTo>
                  <a:pt x="190" y="5"/>
                </a:lnTo>
                <a:lnTo>
                  <a:pt x="200" y="7"/>
                </a:lnTo>
                <a:lnTo>
                  <a:pt x="211" y="9"/>
                </a:lnTo>
                <a:lnTo>
                  <a:pt x="223" y="11"/>
                </a:lnTo>
                <a:lnTo>
                  <a:pt x="240" y="17"/>
                </a:lnTo>
                <a:lnTo>
                  <a:pt x="257" y="23"/>
                </a:lnTo>
                <a:lnTo>
                  <a:pt x="271" y="30"/>
                </a:lnTo>
                <a:lnTo>
                  <a:pt x="286" y="38"/>
                </a:lnTo>
                <a:lnTo>
                  <a:pt x="298" y="48"/>
                </a:lnTo>
                <a:lnTo>
                  <a:pt x="302" y="51"/>
                </a:lnTo>
                <a:lnTo>
                  <a:pt x="307" y="57"/>
                </a:lnTo>
                <a:lnTo>
                  <a:pt x="311" y="63"/>
                </a:lnTo>
                <a:lnTo>
                  <a:pt x="315" y="69"/>
                </a:lnTo>
                <a:lnTo>
                  <a:pt x="319" y="75"/>
                </a:lnTo>
                <a:lnTo>
                  <a:pt x="321" y="82"/>
                </a:lnTo>
                <a:lnTo>
                  <a:pt x="325" y="94"/>
                </a:lnTo>
                <a:lnTo>
                  <a:pt x="328" y="105"/>
                </a:lnTo>
                <a:lnTo>
                  <a:pt x="328" y="117"/>
                </a:lnTo>
                <a:lnTo>
                  <a:pt x="330" y="126"/>
                </a:lnTo>
                <a:lnTo>
                  <a:pt x="328" y="134"/>
                </a:lnTo>
                <a:lnTo>
                  <a:pt x="328" y="142"/>
                </a:lnTo>
                <a:lnTo>
                  <a:pt x="325" y="147"/>
                </a:lnTo>
                <a:lnTo>
                  <a:pt x="321" y="153"/>
                </a:lnTo>
                <a:lnTo>
                  <a:pt x="315" y="161"/>
                </a:lnTo>
                <a:lnTo>
                  <a:pt x="309" y="169"/>
                </a:lnTo>
                <a:lnTo>
                  <a:pt x="302" y="174"/>
                </a:lnTo>
                <a:lnTo>
                  <a:pt x="294" y="178"/>
                </a:lnTo>
                <a:lnTo>
                  <a:pt x="284" y="182"/>
                </a:lnTo>
                <a:lnTo>
                  <a:pt x="273" y="186"/>
                </a:lnTo>
                <a:lnTo>
                  <a:pt x="259" y="186"/>
                </a:lnTo>
                <a:lnTo>
                  <a:pt x="248" y="188"/>
                </a:lnTo>
                <a:lnTo>
                  <a:pt x="240" y="186"/>
                </a:lnTo>
                <a:lnTo>
                  <a:pt x="231" y="186"/>
                </a:lnTo>
                <a:lnTo>
                  <a:pt x="221" y="182"/>
                </a:lnTo>
                <a:lnTo>
                  <a:pt x="211" y="178"/>
                </a:lnTo>
                <a:lnTo>
                  <a:pt x="200" y="174"/>
                </a:lnTo>
                <a:lnTo>
                  <a:pt x="188" y="167"/>
                </a:lnTo>
                <a:lnTo>
                  <a:pt x="175" y="159"/>
                </a:lnTo>
                <a:lnTo>
                  <a:pt x="160" y="151"/>
                </a:lnTo>
                <a:lnTo>
                  <a:pt x="144" y="142"/>
                </a:lnTo>
                <a:lnTo>
                  <a:pt x="127" y="130"/>
                </a:lnTo>
                <a:lnTo>
                  <a:pt x="110" y="117"/>
                </a:lnTo>
                <a:lnTo>
                  <a:pt x="90" y="103"/>
                </a:lnTo>
                <a:lnTo>
                  <a:pt x="69" y="88"/>
                </a:lnTo>
                <a:lnTo>
                  <a:pt x="48" y="73"/>
                </a:lnTo>
                <a:lnTo>
                  <a:pt x="25" y="53"/>
                </a:lnTo>
                <a:lnTo>
                  <a:pt x="0" y="3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Freeform 114"/>
          <p:cNvSpPr/>
          <p:nvPr/>
        </p:nvSpPr>
        <p:spPr>
          <a:xfrm>
            <a:off x="5389560" y="3083040"/>
            <a:ext cx="746280" cy="1623960"/>
          </a:xfrm>
          <a:custGeom>
            <a:avLst/>
            <a:gdLst/>
            <a:ahLst/>
            <a:rect l="l" t="t" r="r" b="b"/>
            <a:pathLst>
              <a:path w="941" h="2046">
                <a:moveTo>
                  <a:pt x="793" y="0"/>
                </a:moveTo>
                <a:lnTo>
                  <a:pt x="807" y="2"/>
                </a:lnTo>
                <a:lnTo>
                  <a:pt x="822" y="2"/>
                </a:lnTo>
                <a:lnTo>
                  <a:pt x="839" y="6"/>
                </a:lnTo>
                <a:lnTo>
                  <a:pt x="858" y="10"/>
                </a:lnTo>
                <a:lnTo>
                  <a:pt x="876" y="14"/>
                </a:lnTo>
                <a:lnTo>
                  <a:pt x="897" y="21"/>
                </a:lnTo>
                <a:lnTo>
                  <a:pt x="918" y="27"/>
                </a:lnTo>
                <a:lnTo>
                  <a:pt x="941" y="37"/>
                </a:lnTo>
                <a:lnTo>
                  <a:pt x="941" y="52"/>
                </a:lnTo>
                <a:lnTo>
                  <a:pt x="941" y="69"/>
                </a:lnTo>
                <a:lnTo>
                  <a:pt x="941" y="86"/>
                </a:lnTo>
                <a:lnTo>
                  <a:pt x="941" y="104"/>
                </a:lnTo>
                <a:lnTo>
                  <a:pt x="941" y="123"/>
                </a:lnTo>
                <a:lnTo>
                  <a:pt x="941" y="144"/>
                </a:lnTo>
                <a:lnTo>
                  <a:pt x="939" y="163"/>
                </a:lnTo>
                <a:lnTo>
                  <a:pt x="939" y="186"/>
                </a:lnTo>
                <a:lnTo>
                  <a:pt x="939" y="207"/>
                </a:lnTo>
                <a:lnTo>
                  <a:pt x="937" y="232"/>
                </a:lnTo>
                <a:lnTo>
                  <a:pt x="937" y="255"/>
                </a:lnTo>
                <a:lnTo>
                  <a:pt x="935" y="280"/>
                </a:lnTo>
                <a:lnTo>
                  <a:pt x="933" y="305"/>
                </a:lnTo>
                <a:lnTo>
                  <a:pt x="933" y="332"/>
                </a:lnTo>
                <a:lnTo>
                  <a:pt x="931" y="361"/>
                </a:lnTo>
                <a:lnTo>
                  <a:pt x="929" y="388"/>
                </a:lnTo>
                <a:lnTo>
                  <a:pt x="926" y="419"/>
                </a:lnTo>
                <a:lnTo>
                  <a:pt x="924" y="451"/>
                </a:lnTo>
                <a:lnTo>
                  <a:pt x="920" y="482"/>
                </a:lnTo>
                <a:lnTo>
                  <a:pt x="914" y="515"/>
                </a:lnTo>
                <a:lnTo>
                  <a:pt x="910" y="545"/>
                </a:lnTo>
                <a:lnTo>
                  <a:pt x="904" y="578"/>
                </a:lnTo>
                <a:lnTo>
                  <a:pt x="893" y="643"/>
                </a:lnTo>
                <a:lnTo>
                  <a:pt x="879" y="710"/>
                </a:lnTo>
                <a:lnTo>
                  <a:pt x="864" y="777"/>
                </a:lnTo>
                <a:lnTo>
                  <a:pt x="847" y="847"/>
                </a:lnTo>
                <a:lnTo>
                  <a:pt x="830" y="918"/>
                </a:lnTo>
                <a:lnTo>
                  <a:pt x="818" y="954"/>
                </a:lnTo>
                <a:lnTo>
                  <a:pt x="807" y="991"/>
                </a:lnTo>
                <a:lnTo>
                  <a:pt x="793" y="1027"/>
                </a:lnTo>
                <a:lnTo>
                  <a:pt x="782" y="1062"/>
                </a:lnTo>
                <a:lnTo>
                  <a:pt x="768" y="1098"/>
                </a:lnTo>
                <a:lnTo>
                  <a:pt x="755" y="1133"/>
                </a:lnTo>
                <a:lnTo>
                  <a:pt x="739" y="1167"/>
                </a:lnTo>
                <a:lnTo>
                  <a:pt x="724" y="1202"/>
                </a:lnTo>
                <a:lnTo>
                  <a:pt x="709" y="1236"/>
                </a:lnTo>
                <a:lnTo>
                  <a:pt x="693" y="1269"/>
                </a:lnTo>
                <a:lnTo>
                  <a:pt x="676" y="1303"/>
                </a:lnTo>
                <a:lnTo>
                  <a:pt x="659" y="1336"/>
                </a:lnTo>
                <a:lnTo>
                  <a:pt x="641" y="1369"/>
                </a:lnTo>
                <a:lnTo>
                  <a:pt x="622" y="1403"/>
                </a:lnTo>
                <a:lnTo>
                  <a:pt x="603" y="1436"/>
                </a:lnTo>
                <a:lnTo>
                  <a:pt x="582" y="1469"/>
                </a:lnTo>
                <a:lnTo>
                  <a:pt x="561" y="1501"/>
                </a:lnTo>
                <a:lnTo>
                  <a:pt x="540" y="1534"/>
                </a:lnTo>
                <a:lnTo>
                  <a:pt x="519" y="1564"/>
                </a:lnTo>
                <a:lnTo>
                  <a:pt x="497" y="1595"/>
                </a:lnTo>
                <a:lnTo>
                  <a:pt x="474" y="1624"/>
                </a:lnTo>
                <a:lnTo>
                  <a:pt x="453" y="1653"/>
                </a:lnTo>
                <a:lnTo>
                  <a:pt x="430" y="1680"/>
                </a:lnTo>
                <a:lnTo>
                  <a:pt x="407" y="1707"/>
                </a:lnTo>
                <a:lnTo>
                  <a:pt x="384" y="1733"/>
                </a:lnTo>
                <a:lnTo>
                  <a:pt x="359" y="1758"/>
                </a:lnTo>
                <a:lnTo>
                  <a:pt x="336" y="1781"/>
                </a:lnTo>
                <a:lnTo>
                  <a:pt x="311" y="1806"/>
                </a:lnTo>
                <a:lnTo>
                  <a:pt x="286" y="1827"/>
                </a:lnTo>
                <a:lnTo>
                  <a:pt x="263" y="1850"/>
                </a:lnTo>
                <a:lnTo>
                  <a:pt x="238" y="1872"/>
                </a:lnTo>
                <a:lnTo>
                  <a:pt x="213" y="1893"/>
                </a:lnTo>
                <a:lnTo>
                  <a:pt x="188" y="1914"/>
                </a:lnTo>
                <a:lnTo>
                  <a:pt x="165" y="1933"/>
                </a:lnTo>
                <a:lnTo>
                  <a:pt x="144" y="1950"/>
                </a:lnTo>
                <a:lnTo>
                  <a:pt x="125" y="1968"/>
                </a:lnTo>
                <a:lnTo>
                  <a:pt x="106" y="1983"/>
                </a:lnTo>
                <a:lnTo>
                  <a:pt x="91" y="1994"/>
                </a:lnTo>
                <a:lnTo>
                  <a:pt x="75" y="2008"/>
                </a:lnTo>
                <a:lnTo>
                  <a:pt x="62" y="2017"/>
                </a:lnTo>
                <a:lnTo>
                  <a:pt x="50" y="2025"/>
                </a:lnTo>
                <a:lnTo>
                  <a:pt x="39" y="2033"/>
                </a:lnTo>
                <a:lnTo>
                  <a:pt x="29" y="2039"/>
                </a:lnTo>
                <a:lnTo>
                  <a:pt x="21" y="2042"/>
                </a:lnTo>
                <a:lnTo>
                  <a:pt x="16" y="2044"/>
                </a:lnTo>
                <a:lnTo>
                  <a:pt x="10" y="2046"/>
                </a:lnTo>
                <a:lnTo>
                  <a:pt x="6" y="2046"/>
                </a:lnTo>
                <a:lnTo>
                  <a:pt x="2" y="2044"/>
                </a:lnTo>
                <a:lnTo>
                  <a:pt x="0" y="2041"/>
                </a:lnTo>
                <a:lnTo>
                  <a:pt x="2" y="2037"/>
                </a:lnTo>
                <a:lnTo>
                  <a:pt x="4" y="2029"/>
                </a:lnTo>
                <a:lnTo>
                  <a:pt x="8" y="2019"/>
                </a:lnTo>
                <a:lnTo>
                  <a:pt x="14" y="2010"/>
                </a:lnTo>
                <a:lnTo>
                  <a:pt x="18" y="2004"/>
                </a:lnTo>
                <a:lnTo>
                  <a:pt x="21" y="1996"/>
                </a:lnTo>
                <a:lnTo>
                  <a:pt x="25" y="1991"/>
                </a:lnTo>
                <a:lnTo>
                  <a:pt x="31" y="1983"/>
                </a:lnTo>
                <a:lnTo>
                  <a:pt x="37" y="1973"/>
                </a:lnTo>
                <a:lnTo>
                  <a:pt x="43" y="1966"/>
                </a:lnTo>
                <a:lnTo>
                  <a:pt x="48" y="1956"/>
                </a:lnTo>
                <a:lnTo>
                  <a:pt x="54" y="1946"/>
                </a:lnTo>
                <a:lnTo>
                  <a:pt x="62" y="1937"/>
                </a:lnTo>
                <a:lnTo>
                  <a:pt x="69" y="1927"/>
                </a:lnTo>
                <a:lnTo>
                  <a:pt x="79" y="1916"/>
                </a:lnTo>
                <a:lnTo>
                  <a:pt x="87" y="1904"/>
                </a:lnTo>
                <a:lnTo>
                  <a:pt x="96" y="1893"/>
                </a:lnTo>
                <a:lnTo>
                  <a:pt x="106" y="1879"/>
                </a:lnTo>
                <a:lnTo>
                  <a:pt x="116" y="1868"/>
                </a:lnTo>
                <a:lnTo>
                  <a:pt x="127" y="1854"/>
                </a:lnTo>
                <a:lnTo>
                  <a:pt x="137" y="1839"/>
                </a:lnTo>
                <a:lnTo>
                  <a:pt x="148" y="1826"/>
                </a:lnTo>
                <a:lnTo>
                  <a:pt x="162" y="1810"/>
                </a:lnTo>
                <a:lnTo>
                  <a:pt x="173" y="1795"/>
                </a:lnTo>
                <a:lnTo>
                  <a:pt x="187" y="1779"/>
                </a:lnTo>
                <a:lnTo>
                  <a:pt x="200" y="1762"/>
                </a:lnTo>
                <a:lnTo>
                  <a:pt x="250" y="1695"/>
                </a:lnTo>
                <a:lnTo>
                  <a:pt x="298" y="1628"/>
                </a:lnTo>
                <a:lnTo>
                  <a:pt x="346" y="1559"/>
                </a:lnTo>
                <a:lnTo>
                  <a:pt x="369" y="1524"/>
                </a:lnTo>
                <a:lnTo>
                  <a:pt x="392" y="1488"/>
                </a:lnTo>
                <a:lnTo>
                  <a:pt x="413" y="1451"/>
                </a:lnTo>
                <a:lnTo>
                  <a:pt x="434" y="1415"/>
                </a:lnTo>
                <a:lnTo>
                  <a:pt x="455" y="1378"/>
                </a:lnTo>
                <a:lnTo>
                  <a:pt x="474" y="1342"/>
                </a:lnTo>
                <a:lnTo>
                  <a:pt x="494" y="1303"/>
                </a:lnTo>
                <a:lnTo>
                  <a:pt x="511" y="1265"/>
                </a:lnTo>
                <a:lnTo>
                  <a:pt x="528" y="1227"/>
                </a:lnTo>
                <a:lnTo>
                  <a:pt x="545" y="1186"/>
                </a:lnTo>
                <a:lnTo>
                  <a:pt x="561" y="1150"/>
                </a:lnTo>
                <a:lnTo>
                  <a:pt x="576" y="1111"/>
                </a:lnTo>
                <a:lnTo>
                  <a:pt x="590" y="1075"/>
                </a:lnTo>
                <a:lnTo>
                  <a:pt x="603" y="1037"/>
                </a:lnTo>
                <a:lnTo>
                  <a:pt x="616" y="1000"/>
                </a:lnTo>
                <a:lnTo>
                  <a:pt x="628" y="962"/>
                </a:lnTo>
                <a:lnTo>
                  <a:pt x="640" y="925"/>
                </a:lnTo>
                <a:lnTo>
                  <a:pt x="651" y="887"/>
                </a:lnTo>
                <a:lnTo>
                  <a:pt x="661" y="850"/>
                </a:lnTo>
                <a:lnTo>
                  <a:pt x="670" y="812"/>
                </a:lnTo>
                <a:lnTo>
                  <a:pt x="680" y="776"/>
                </a:lnTo>
                <a:lnTo>
                  <a:pt x="688" y="737"/>
                </a:lnTo>
                <a:lnTo>
                  <a:pt x="705" y="662"/>
                </a:lnTo>
                <a:lnTo>
                  <a:pt x="718" y="587"/>
                </a:lnTo>
                <a:lnTo>
                  <a:pt x="722" y="551"/>
                </a:lnTo>
                <a:lnTo>
                  <a:pt x="726" y="516"/>
                </a:lnTo>
                <a:lnTo>
                  <a:pt x="730" y="482"/>
                </a:lnTo>
                <a:lnTo>
                  <a:pt x="732" y="449"/>
                </a:lnTo>
                <a:lnTo>
                  <a:pt x="735" y="419"/>
                </a:lnTo>
                <a:lnTo>
                  <a:pt x="735" y="388"/>
                </a:lnTo>
                <a:lnTo>
                  <a:pt x="737" y="359"/>
                </a:lnTo>
                <a:lnTo>
                  <a:pt x="737" y="332"/>
                </a:lnTo>
                <a:lnTo>
                  <a:pt x="739" y="307"/>
                </a:lnTo>
                <a:lnTo>
                  <a:pt x="739" y="282"/>
                </a:lnTo>
                <a:lnTo>
                  <a:pt x="737" y="259"/>
                </a:lnTo>
                <a:lnTo>
                  <a:pt x="737" y="238"/>
                </a:lnTo>
                <a:lnTo>
                  <a:pt x="735" y="217"/>
                </a:lnTo>
                <a:lnTo>
                  <a:pt x="735" y="198"/>
                </a:lnTo>
                <a:lnTo>
                  <a:pt x="734" y="181"/>
                </a:lnTo>
                <a:lnTo>
                  <a:pt x="732" y="165"/>
                </a:lnTo>
                <a:lnTo>
                  <a:pt x="728" y="150"/>
                </a:lnTo>
                <a:lnTo>
                  <a:pt x="726" y="136"/>
                </a:lnTo>
                <a:lnTo>
                  <a:pt x="726" y="121"/>
                </a:lnTo>
                <a:lnTo>
                  <a:pt x="724" y="108"/>
                </a:lnTo>
                <a:lnTo>
                  <a:pt x="722" y="96"/>
                </a:lnTo>
                <a:lnTo>
                  <a:pt x="722" y="85"/>
                </a:lnTo>
                <a:lnTo>
                  <a:pt x="722" y="73"/>
                </a:lnTo>
                <a:lnTo>
                  <a:pt x="722" y="63"/>
                </a:lnTo>
                <a:lnTo>
                  <a:pt x="722" y="54"/>
                </a:lnTo>
                <a:lnTo>
                  <a:pt x="722" y="44"/>
                </a:lnTo>
                <a:lnTo>
                  <a:pt x="722" y="37"/>
                </a:lnTo>
                <a:lnTo>
                  <a:pt x="724" y="31"/>
                </a:lnTo>
                <a:lnTo>
                  <a:pt x="726" y="25"/>
                </a:lnTo>
                <a:lnTo>
                  <a:pt x="726" y="19"/>
                </a:lnTo>
                <a:lnTo>
                  <a:pt x="728" y="15"/>
                </a:lnTo>
                <a:lnTo>
                  <a:pt x="732" y="14"/>
                </a:lnTo>
                <a:lnTo>
                  <a:pt x="735" y="8"/>
                </a:lnTo>
                <a:lnTo>
                  <a:pt x="741" y="6"/>
                </a:lnTo>
                <a:lnTo>
                  <a:pt x="747" y="4"/>
                </a:lnTo>
                <a:lnTo>
                  <a:pt x="753" y="2"/>
                </a:lnTo>
                <a:lnTo>
                  <a:pt x="760" y="2"/>
                </a:lnTo>
                <a:lnTo>
                  <a:pt x="770" y="0"/>
                </a:lnTo>
                <a:lnTo>
                  <a:pt x="774" y="0"/>
                </a:lnTo>
                <a:lnTo>
                  <a:pt x="780" y="0"/>
                </a:lnTo>
                <a:lnTo>
                  <a:pt x="785" y="0"/>
                </a:lnTo>
                <a:lnTo>
                  <a:pt x="793"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Freeform 115"/>
          <p:cNvSpPr/>
          <p:nvPr/>
        </p:nvSpPr>
        <p:spPr>
          <a:xfrm>
            <a:off x="6027840" y="2935440"/>
            <a:ext cx="1411200" cy="250560"/>
          </a:xfrm>
          <a:custGeom>
            <a:avLst/>
            <a:gdLst/>
            <a:ahLst/>
            <a:rect l="l" t="t" r="r" b="b"/>
            <a:pathLst>
              <a:path w="1779" h="317">
                <a:moveTo>
                  <a:pt x="865" y="94"/>
                </a:moveTo>
                <a:lnTo>
                  <a:pt x="896" y="88"/>
                </a:lnTo>
                <a:lnTo>
                  <a:pt x="929" y="82"/>
                </a:lnTo>
                <a:lnTo>
                  <a:pt x="957" y="77"/>
                </a:lnTo>
                <a:lnTo>
                  <a:pt x="988" y="71"/>
                </a:lnTo>
                <a:lnTo>
                  <a:pt x="1017" y="67"/>
                </a:lnTo>
                <a:lnTo>
                  <a:pt x="1046" y="61"/>
                </a:lnTo>
                <a:lnTo>
                  <a:pt x="1073" y="58"/>
                </a:lnTo>
                <a:lnTo>
                  <a:pt x="1099" y="54"/>
                </a:lnTo>
                <a:lnTo>
                  <a:pt x="1126" y="48"/>
                </a:lnTo>
                <a:lnTo>
                  <a:pt x="1151" y="44"/>
                </a:lnTo>
                <a:lnTo>
                  <a:pt x="1176" y="40"/>
                </a:lnTo>
                <a:lnTo>
                  <a:pt x="1201" y="36"/>
                </a:lnTo>
                <a:lnTo>
                  <a:pt x="1224" y="33"/>
                </a:lnTo>
                <a:lnTo>
                  <a:pt x="1245" y="31"/>
                </a:lnTo>
                <a:lnTo>
                  <a:pt x="1268" y="27"/>
                </a:lnTo>
                <a:lnTo>
                  <a:pt x="1289" y="23"/>
                </a:lnTo>
                <a:lnTo>
                  <a:pt x="1309" y="21"/>
                </a:lnTo>
                <a:lnTo>
                  <a:pt x="1328" y="17"/>
                </a:lnTo>
                <a:lnTo>
                  <a:pt x="1347" y="15"/>
                </a:lnTo>
                <a:lnTo>
                  <a:pt x="1364" y="13"/>
                </a:lnTo>
                <a:lnTo>
                  <a:pt x="1382" y="11"/>
                </a:lnTo>
                <a:lnTo>
                  <a:pt x="1399" y="10"/>
                </a:lnTo>
                <a:lnTo>
                  <a:pt x="1414" y="8"/>
                </a:lnTo>
                <a:lnTo>
                  <a:pt x="1428" y="6"/>
                </a:lnTo>
                <a:lnTo>
                  <a:pt x="1443" y="4"/>
                </a:lnTo>
                <a:lnTo>
                  <a:pt x="1456" y="2"/>
                </a:lnTo>
                <a:lnTo>
                  <a:pt x="1468" y="2"/>
                </a:lnTo>
                <a:lnTo>
                  <a:pt x="1479" y="0"/>
                </a:lnTo>
                <a:lnTo>
                  <a:pt x="1491" y="0"/>
                </a:lnTo>
                <a:lnTo>
                  <a:pt x="1501" y="0"/>
                </a:lnTo>
                <a:lnTo>
                  <a:pt x="1510" y="0"/>
                </a:lnTo>
                <a:lnTo>
                  <a:pt x="1518" y="0"/>
                </a:lnTo>
                <a:lnTo>
                  <a:pt x="1535" y="0"/>
                </a:lnTo>
                <a:lnTo>
                  <a:pt x="1550" y="0"/>
                </a:lnTo>
                <a:lnTo>
                  <a:pt x="1564" y="0"/>
                </a:lnTo>
                <a:lnTo>
                  <a:pt x="1579" y="2"/>
                </a:lnTo>
                <a:lnTo>
                  <a:pt x="1593" y="2"/>
                </a:lnTo>
                <a:lnTo>
                  <a:pt x="1606" y="4"/>
                </a:lnTo>
                <a:lnTo>
                  <a:pt x="1631" y="6"/>
                </a:lnTo>
                <a:lnTo>
                  <a:pt x="1654" y="10"/>
                </a:lnTo>
                <a:lnTo>
                  <a:pt x="1677" y="13"/>
                </a:lnTo>
                <a:lnTo>
                  <a:pt x="1696" y="17"/>
                </a:lnTo>
                <a:lnTo>
                  <a:pt x="1716" y="23"/>
                </a:lnTo>
                <a:lnTo>
                  <a:pt x="1729" y="31"/>
                </a:lnTo>
                <a:lnTo>
                  <a:pt x="1741" y="38"/>
                </a:lnTo>
                <a:lnTo>
                  <a:pt x="1752" y="44"/>
                </a:lnTo>
                <a:lnTo>
                  <a:pt x="1762" y="50"/>
                </a:lnTo>
                <a:lnTo>
                  <a:pt x="1767" y="56"/>
                </a:lnTo>
                <a:lnTo>
                  <a:pt x="1771" y="58"/>
                </a:lnTo>
                <a:lnTo>
                  <a:pt x="1773" y="61"/>
                </a:lnTo>
                <a:lnTo>
                  <a:pt x="1775" y="63"/>
                </a:lnTo>
                <a:lnTo>
                  <a:pt x="1777" y="65"/>
                </a:lnTo>
                <a:lnTo>
                  <a:pt x="1777" y="67"/>
                </a:lnTo>
                <a:lnTo>
                  <a:pt x="1779" y="69"/>
                </a:lnTo>
                <a:lnTo>
                  <a:pt x="1777" y="71"/>
                </a:lnTo>
                <a:lnTo>
                  <a:pt x="1775" y="75"/>
                </a:lnTo>
                <a:lnTo>
                  <a:pt x="1771" y="77"/>
                </a:lnTo>
                <a:lnTo>
                  <a:pt x="1767" y="81"/>
                </a:lnTo>
                <a:lnTo>
                  <a:pt x="1760" y="84"/>
                </a:lnTo>
                <a:lnTo>
                  <a:pt x="1752" y="88"/>
                </a:lnTo>
                <a:lnTo>
                  <a:pt x="1744" y="92"/>
                </a:lnTo>
                <a:lnTo>
                  <a:pt x="1733" y="96"/>
                </a:lnTo>
                <a:lnTo>
                  <a:pt x="1721" y="100"/>
                </a:lnTo>
                <a:lnTo>
                  <a:pt x="1708" y="105"/>
                </a:lnTo>
                <a:lnTo>
                  <a:pt x="1694" y="109"/>
                </a:lnTo>
                <a:lnTo>
                  <a:pt x="1679" y="115"/>
                </a:lnTo>
                <a:lnTo>
                  <a:pt x="1662" y="121"/>
                </a:lnTo>
                <a:lnTo>
                  <a:pt x="1645" y="127"/>
                </a:lnTo>
                <a:lnTo>
                  <a:pt x="1625" y="134"/>
                </a:lnTo>
                <a:lnTo>
                  <a:pt x="1606" y="140"/>
                </a:lnTo>
                <a:lnTo>
                  <a:pt x="1593" y="144"/>
                </a:lnTo>
                <a:lnTo>
                  <a:pt x="1577" y="148"/>
                </a:lnTo>
                <a:lnTo>
                  <a:pt x="1560" y="152"/>
                </a:lnTo>
                <a:lnTo>
                  <a:pt x="1539" y="153"/>
                </a:lnTo>
                <a:lnTo>
                  <a:pt x="1518" y="159"/>
                </a:lnTo>
                <a:lnTo>
                  <a:pt x="1493" y="163"/>
                </a:lnTo>
                <a:lnTo>
                  <a:pt x="1466" y="167"/>
                </a:lnTo>
                <a:lnTo>
                  <a:pt x="1435" y="171"/>
                </a:lnTo>
                <a:lnTo>
                  <a:pt x="1405" y="175"/>
                </a:lnTo>
                <a:lnTo>
                  <a:pt x="1370" y="180"/>
                </a:lnTo>
                <a:lnTo>
                  <a:pt x="1334" y="184"/>
                </a:lnTo>
                <a:lnTo>
                  <a:pt x="1293" y="190"/>
                </a:lnTo>
                <a:lnTo>
                  <a:pt x="1253" y="194"/>
                </a:lnTo>
                <a:lnTo>
                  <a:pt x="1209" y="200"/>
                </a:lnTo>
                <a:lnTo>
                  <a:pt x="1161" y="205"/>
                </a:lnTo>
                <a:lnTo>
                  <a:pt x="1113" y="209"/>
                </a:lnTo>
                <a:lnTo>
                  <a:pt x="1061" y="215"/>
                </a:lnTo>
                <a:lnTo>
                  <a:pt x="1007" y="221"/>
                </a:lnTo>
                <a:lnTo>
                  <a:pt x="952" y="226"/>
                </a:lnTo>
                <a:lnTo>
                  <a:pt x="894" y="232"/>
                </a:lnTo>
                <a:lnTo>
                  <a:pt x="833" y="240"/>
                </a:lnTo>
                <a:lnTo>
                  <a:pt x="769" y="246"/>
                </a:lnTo>
                <a:lnTo>
                  <a:pt x="702" y="251"/>
                </a:lnTo>
                <a:lnTo>
                  <a:pt x="635" y="259"/>
                </a:lnTo>
                <a:lnTo>
                  <a:pt x="564" y="265"/>
                </a:lnTo>
                <a:lnTo>
                  <a:pt x="491" y="272"/>
                </a:lnTo>
                <a:lnTo>
                  <a:pt x="414" y="278"/>
                </a:lnTo>
                <a:lnTo>
                  <a:pt x="337" y="286"/>
                </a:lnTo>
                <a:lnTo>
                  <a:pt x="257" y="294"/>
                </a:lnTo>
                <a:lnTo>
                  <a:pt x="174" y="301"/>
                </a:lnTo>
                <a:lnTo>
                  <a:pt x="88" y="309"/>
                </a:lnTo>
                <a:lnTo>
                  <a:pt x="0" y="317"/>
                </a:lnTo>
                <a:lnTo>
                  <a:pt x="0" y="269"/>
                </a:lnTo>
                <a:lnTo>
                  <a:pt x="0" y="223"/>
                </a:lnTo>
                <a:lnTo>
                  <a:pt x="21" y="223"/>
                </a:lnTo>
                <a:lnTo>
                  <a:pt x="40" y="223"/>
                </a:lnTo>
                <a:lnTo>
                  <a:pt x="59" y="221"/>
                </a:lnTo>
                <a:lnTo>
                  <a:pt x="78" y="221"/>
                </a:lnTo>
                <a:lnTo>
                  <a:pt x="97" y="219"/>
                </a:lnTo>
                <a:lnTo>
                  <a:pt x="115" y="219"/>
                </a:lnTo>
                <a:lnTo>
                  <a:pt x="132" y="217"/>
                </a:lnTo>
                <a:lnTo>
                  <a:pt x="147" y="215"/>
                </a:lnTo>
                <a:lnTo>
                  <a:pt x="165" y="213"/>
                </a:lnTo>
                <a:lnTo>
                  <a:pt x="180" y="211"/>
                </a:lnTo>
                <a:lnTo>
                  <a:pt x="193" y="209"/>
                </a:lnTo>
                <a:lnTo>
                  <a:pt x="209" y="207"/>
                </a:lnTo>
                <a:lnTo>
                  <a:pt x="222" y="205"/>
                </a:lnTo>
                <a:lnTo>
                  <a:pt x="236" y="203"/>
                </a:lnTo>
                <a:lnTo>
                  <a:pt x="247" y="201"/>
                </a:lnTo>
                <a:lnTo>
                  <a:pt x="259" y="200"/>
                </a:lnTo>
                <a:lnTo>
                  <a:pt x="266" y="198"/>
                </a:lnTo>
                <a:lnTo>
                  <a:pt x="272" y="196"/>
                </a:lnTo>
                <a:lnTo>
                  <a:pt x="280" y="194"/>
                </a:lnTo>
                <a:lnTo>
                  <a:pt x="289" y="194"/>
                </a:lnTo>
                <a:lnTo>
                  <a:pt x="299" y="192"/>
                </a:lnTo>
                <a:lnTo>
                  <a:pt x="309" y="190"/>
                </a:lnTo>
                <a:lnTo>
                  <a:pt x="320" y="188"/>
                </a:lnTo>
                <a:lnTo>
                  <a:pt x="334" y="186"/>
                </a:lnTo>
                <a:lnTo>
                  <a:pt x="345" y="182"/>
                </a:lnTo>
                <a:lnTo>
                  <a:pt x="360" y="180"/>
                </a:lnTo>
                <a:lnTo>
                  <a:pt x="374" y="178"/>
                </a:lnTo>
                <a:lnTo>
                  <a:pt x="389" y="177"/>
                </a:lnTo>
                <a:lnTo>
                  <a:pt x="407" y="173"/>
                </a:lnTo>
                <a:lnTo>
                  <a:pt x="424" y="171"/>
                </a:lnTo>
                <a:lnTo>
                  <a:pt x="441" y="167"/>
                </a:lnTo>
                <a:lnTo>
                  <a:pt x="460" y="163"/>
                </a:lnTo>
                <a:lnTo>
                  <a:pt x="479" y="161"/>
                </a:lnTo>
                <a:lnTo>
                  <a:pt x="501" y="157"/>
                </a:lnTo>
                <a:lnTo>
                  <a:pt x="522" y="153"/>
                </a:lnTo>
                <a:lnTo>
                  <a:pt x="543" y="150"/>
                </a:lnTo>
                <a:lnTo>
                  <a:pt x="566" y="146"/>
                </a:lnTo>
                <a:lnTo>
                  <a:pt x="589" y="142"/>
                </a:lnTo>
                <a:lnTo>
                  <a:pt x="614" y="138"/>
                </a:lnTo>
                <a:lnTo>
                  <a:pt x="637" y="132"/>
                </a:lnTo>
                <a:lnTo>
                  <a:pt x="664" y="129"/>
                </a:lnTo>
                <a:lnTo>
                  <a:pt x="691" y="125"/>
                </a:lnTo>
                <a:lnTo>
                  <a:pt x="717" y="119"/>
                </a:lnTo>
                <a:lnTo>
                  <a:pt x="744" y="115"/>
                </a:lnTo>
                <a:lnTo>
                  <a:pt x="773" y="109"/>
                </a:lnTo>
                <a:lnTo>
                  <a:pt x="804" y="104"/>
                </a:lnTo>
                <a:lnTo>
                  <a:pt x="833" y="98"/>
                </a:lnTo>
                <a:lnTo>
                  <a:pt x="865" y="9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Freeform 116"/>
          <p:cNvSpPr/>
          <p:nvPr/>
        </p:nvSpPr>
        <p:spPr>
          <a:xfrm>
            <a:off x="6605640" y="2711520"/>
            <a:ext cx="338040" cy="287280"/>
          </a:xfrm>
          <a:custGeom>
            <a:avLst/>
            <a:gdLst/>
            <a:ahLst/>
            <a:rect l="l" t="t" r="r" b="b"/>
            <a:pathLst>
              <a:path w="424" h="363">
                <a:moveTo>
                  <a:pt x="0" y="0"/>
                </a:moveTo>
                <a:lnTo>
                  <a:pt x="15" y="0"/>
                </a:lnTo>
                <a:lnTo>
                  <a:pt x="33" y="0"/>
                </a:lnTo>
                <a:lnTo>
                  <a:pt x="50" y="2"/>
                </a:lnTo>
                <a:lnTo>
                  <a:pt x="67" y="4"/>
                </a:lnTo>
                <a:lnTo>
                  <a:pt x="83" y="6"/>
                </a:lnTo>
                <a:lnTo>
                  <a:pt x="100" y="7"/>
                </a:lnTo>
                <a:lnTo>
                  <a:pt x="136" y="15"/>
                </a:lnTo>
                <a:lnTo>
                  <a:pt x="171" y="23"/>
                </a:lnTo>
                <a:lnTo>
                  <a:pt x="205" y="34"/>
                </a:lnTo>
                <a:lnTo>
                  <a:pt x="238" y="46"/>
                </a:lnTo>
                <a:lnTo>
                  <a:pt x="271" y="57"/>
                </a:lnTo>
                <a:lnTo>
                  <a:pt x="286" y="67"/>
                </a:lnTo>
                <a:lnTo>
                  <a:pt x="301" y="77"/>
                </a:lnTo>
                <a:lnTo>
                  <a:pt x="315" y="84"/>
                </a:lnTo>
                <a:lnTo>
                  <a:pt x="328" y="94"/>
                </a:lnTo>
                <a:lnTo>
                  <a:pt x="342" y="101"/>
                </a:lnTo>
                <a:lnTo>
                  <a:pt x="353" y="111"/>
                </a:lnTo>
                <a:lnTo>
                  <a:pt x="363" y="119"/>
                </a:lnTo>
                <a:lnTo>
                  <a:pt x="372" y="128"/>
                </a:lnTo>
                <a:lnTo>
                  <a:pt x="382" y="138"/>
                </a:lnTo>
                <a:lnTo>
                  <a:pt x="390" y="146"/>
                </a:lnTo>
                <a:lnTo>
                  <a:pt x="397" y="155"/>
                </a:lnTo>
                <a:lnTo>
                  <a:pt x="403" y="163"/>
                </a:lnTo>
                <a:lnTo>
                  <a:pt x="409" y="173"/>
                </a:lnTo>
                <a:lnTo>
                  <a:pt x="413" y="180"/>
                </a:lnTo>
                <a:lnTo>
                  <a:pt x="416" y="190"/>
                </a:lnTo>
                <a:lnTo>
                  <a:pt x="418" y="199"/>
                </a:lnTo>
                <a:lnTo>
                  <a:pt x="420" y="209"/>
                </a:lnTo>
                <a:lnTo>
                  <a:pt x="422" y="220"/>
                </a:lnTo>
                <a:lnTo>
                  <a:pt x="424" y="230"/>
                </a:lnTo>
                <a:lnTo>
                  <a:pt x="424" y="240"/>
                </a:lnTo>
                <a:lnTo>
                  <a:pt x="424" y="249"/>
                </a:lnTo>
                <a:lnTo>
                  <a:pt x="422" y="259"/>
                </a:lnTo>
                <a:lnTo>
                  <a:pt x="420" y="278"/>
                </a:lnTo>
                <a:lnTo>
                  <a:pt x="416" y="295"/>
                </a:lnTo>
                <a:lnTo>
                  <a:pt x="411" y="311"/>
                </a:lnTo>
                <a:lnTo>
                  <a:pt x="403" y="326"/>
                </a:lnTo>
                <a:lnTo>
                  <a:pt x="395" y="340"/>
                </a:lnTo>
                <a:lnTo>
                  <a:pt x="390" y="347"/>
                </a:lnTo>
                <a:lnTo>
                  <a:pt x="384" y="355"/>
                </a:lnTo>
                <a:lnTo>
                  <a:pt x="376" y="359"/>
                </a:lnTo>
                <a:lnTo>
                  <a:pt x="368" y="363"/>
                </a:lnTo>
                <a:lnTo>
                  <a:pt x="361" y="363"/>
                </a:lnTo>
                <a:lnTo>
                  <a:pt x="351" y="363"/>
                </a:lnTo>
                <a:lnTo>
                  <a:pt x="340" y="361"/>
                </a:lnTo>
                <a:lnTo>
                  <a:pt x="330" y="357"/>
                </a:lnTo>
                <a:lnTo>
                  <a:pt x="317" y="353"/>
                </a:lnTo>
                <a:lnTo>
                  <a:pt x="305" y="345"/>
                </a:lnTo>
                <a:lnTo>
                  <a:pt x="290" y="338"/>
                </a:lnTo>
                <a:lnTo>
                  <a:pt x="276" y="326"/>
                </a:lnTo>
                <a:lnTo>
                  <a:pt x="261" y="315"/>
                </a:lnTo>
                <a:lnTo>
                  <a:pt x="244" y="301"/>
                </a:lnTo>
                <a:lnTo>
                  <a:pt x="226" y="286"/>
                </a:lnTo>
                <a:lnTo>
                  <a:pt x="209" y="268"/>
                </a:lnTo>
                <a:lnTo>
                  <a:pt x="192" y="253"/>
                </a:lnTo>
                <a:lnTo>
                  <a:pt x="173" y="238"/>
                </a:lnTo>
                <a:lnTo>
                  <a:pt x="157" y="220"/>
                </a:lnTo>
                <a:lnTo>
                  <a:pt x="140" y="205"/>
                </a:lnTo>
                <a:lnTo>
                  <a:pt x="125" y="188"/>
                </a:lnTo>
                <a:lnTo>
                  <a:pt x="109" y="173"/>
                </a:lnTo>
                <a:lnTo>
                  <a:pt x="96" y="155"/>
                </a:lnTo>
                <a:lnTo>
                  <a:pt x="81" y="138"/>
                </a:lnTo>
                <a:lnTo>
                  <a:pt x="69" y="121"/>
                </a:lnTo>
                <a:lnTo>
                  <a:pt x="56" y="103"/>
                </a:lnTo>
                <a:lnTo>
                  <a:pt x="44" y="86"/>
                </a:lnTo>
                <a:lnTo>
                  <a:pt x="35" y="69"/>
                </a:lnTo>
                <a:lnTo>
                  <a:pt x="25" y="52"/>
                </a:lnTo>
                <a:lnTo>
                  <a:pt x="15" y="34"/>
                </a:lnTo>
                <a:lnTo>
                  <a:pt x="8" y="17"/>
                </a:lnTo>
                <a:lnTo>
                  <a:pt x="0"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58"/>
                                        </p:tgtEl>
                                        <p:attrNameLst>
                                          <p:attrName>style.visibility</p:attrName>
                                        </p:attrNameLst>
                                      </p:cBhvr>
                                      <p:to>
                                        <p:strVal val="visible"/>
                                      </p:to>
                                    </p:set>
                                    <p:anim calcmode="lin" valueType="num">
                                      <p:cBhvr additive="base">
                                        <p:cTn id="312" dur="500" fill="hold"/>
                                        <p:tgtEl>
                                          <p:spTgt spid="158"/>
                                        </p:tgtEl>
                                        <p:attrNameLst>
                                          <p:attrName>ppt_x</p:attrName>
                                        </p:attrNameLst>
                                      </p:cBhvr>
                                      <p:tavLst>
                                        <p:tav tm="0">
                                          <p:val>
                                            <p:strVal val="0-#ppt_w/2"/>
                                          </p:val>
                                        </p:tav>
                                        <p:tav tm="100000">
                                          <p:val>
                                            <p:strVal val="#ppt_x"/>
                                          </p:val>
                                        </p:tav>
                                      </p:tavLst>
                                    </p:anim>
                                    <p:anim calcmode="lin" valueType="num">
                                      <p:cBhvr additive="base">
                                        <p:cTn id="313"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169"/>
                                        </p:tgtEl>
                                        <p:attrNameLst>
                                          <p:attrName>style.visibility</p:attrName>
                                        </p:attrNameLst>
                                      </p:cBhvr>
                                      <p:to>
                                        <p:strVal val="visible"/>
                                      </p:to>
                                    </p:set>
                                    <p:animEffect filter="wipe(up)" transition="in">
                                      <p:cBhvr additive="repl">
                                        <p:cTn id="318" dur="500"/>
                                        <p:tgtEl>
                                          <p:spTgt spid="169"/>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68"/>
                                        </p:tgtEl>
                                        <p:attrNameLst>
                                          <p:attrName>style.visibility</p:attrName>
                                        </p:attrNameLst>
                                      </p:cBhvr>
                                      <p:to>
                                        <p:strVal val="visible"/>
                                      </p:to>
                                    </p:set>
                                    <p:animEffect filter="wipe(left)" transition="in">
                                      <p:cBhvr additive="repl">
                                        <p:cTn id="323" dur="500"/>
                                        <p:tgtEl>
                                          <p:spTgt spid="16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167"/>
                                        </p:tgtEl>
                                        <p:attrNameLst>
                                          <p:attrName>style.visibility</p:attrName>
                                        </p:attrNameLst>
                                      </p:cBhvr>
                                      <p:to>
                                        <p:strVal val="visible"/>
                                      </p:to>
                                    </p:set>
                                    <p:animEffect filter="wipe(up)" transition="in">
                                      <p:cBhvr additive="repl">
                                        <p:cTn id="328" dur="500"/>
                                        <p:tgtEl>
                                          <p:spTgt spid="16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1">
                                  <p:stCondLst>
                                    <p:cond delay="0"/>
                                  </p:stCondLst>
                                  <p:childTnLst>
                                    <p:set>
                                      <p:cBhvr>
                                        <p:cTn id="332" dur="1" fill="hold">
                                          <p:stCondLst>
                                            <p:cond delay="0"/>
                                          </p:stCondLst>
                                        </p:cTn>
                                        <p:tgtEl>
                                          <p:spTgt spid="166"/>
                                        </p:tgtEl>
                                        <p:attrNameLst>
                                          <p:attrName>style.visibility</p:attrName>
                                        </p:attrNameLst>
                                      </p:cBhvr>
                                      <p:to>
                                        <p:strVal val="visible"/>
                                      </p:to>
                                    </p:set>
                                    <p:animEffect filter="wipe(up)" transition="in">
                                      <p:cBhvr additive="repl">
                                        <p:cTn id="333" dur="500"/>
                                        <p:tgtEl>
                                          <p:spTgt spid="166"/>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8" presetSubtype="6">
                                  <p:stCondLst>
                                    <p:cond delay="0"/>
                                  </p:stCondLst>
                                  <p:childTnLst>
                                    <p:set>
                                      <p:cBhvr>
                                        <p:cTn id="337" dur="1" fill="hold">
                                          <p:stCondLst>
                                            <p:cond delay="0"/>
                                          </p:stCondLst>
                                        </p:cTn>
                                        <p:tgtEl>
                                          <p:spTgt spid="165"/>
                                        </p:tgtEl>
                                        <p:attrNameLst>
                                          <p:attrName>style.visibility</p:attrName>
                                        </p:attrNameLst>
                                      </p:cBhvr>
                                      <p:to>
                                        <p:strVal val="visible"/>
                                      </p:to>
                                    </p:set>
                                    <p:animEffect filter="strips(downRight)" transition="in">
                                      <p:cBhvr additive="repl">
                                        <p:cTn id="338" dur="500"/>
                                        <p:tgtEl>
                                          <p:spTgt spid="165"/>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64"/>
                                        </p:tgtEl>
                                        <p:attrNameLst>
                                          <p:attrName>style.visibility</p:attrName>
                                        </p:attrNameLst>
                                      </p:cBhvr>
                                      <p:to>
                                        <p:strVal val="visible"/>
                                      </p:to>
                                    </p:set>
                                    <p:animEffect filter="wipe(left)" transition="in">
                                      <p:cBhvr additive="repl">
                                        <p:cTn id="343" dur="500"/>
                                        <p:tgtEl>
                                          <p:spTgt spid="164"/>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63"/>
                                        </p:tgtEl>
                                        <p:attrNameLst>
                                          <p:attrName>style.visibility</p:attrName>
                                        </p:attrNameLst>
                                      </p:cBhvr>
                                      <p:to>
                                        <p:strVal val="visible"/>
                                      </p:to>
                                    </p:set>
                                    <p:animEffect filter="wipe(left)" transition="in">
                                      <p:cBhvr additive="repl">
                                        <p:cTn id="348" dur="500"/>
                                        <p:tgtEl>
                                          <p:spTgt spid="163"/>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8" presetSubtype="6">
                                  <p:stCondLst>
                                    <p:cond delay="0"/>
                                  </p:stCondLst>
                                  <p:childTnLst>
                                    <p:set>
                                      <p:cBhvr>
                                        <p:cTn id="352" dur="1" fill="hold">
                                          <p:stCondLst>
                                            <p:cond delay="0"/>
                                          </p:stCondLst>
                                        </p:cTn>
                                        <p:tgtEl>
                                          <p:spTgt spid="162"/>
                                        </p:tgtEl>
                                        <p:attrNameLst>
                                          <p:attrName>style.visibility</p:attrName>
                                        </p:attrNameLst>
                                      </p:cBhvr>
                                      <p:to>
                                        <p:strVal val="visible"/>
                                      </p:to>
                                    </p:set>
                                    <p:animEffect filter="strips(downRight)" transition="in">
                                      <p:cBhvr additive="repl">
                                        <p:cTn id="353" dur="500"/>
                                        <p:tgtEl>
                                          <p:spTgt spid="162"/>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1">
                                  <p:stCondLst>
                                    <p:cond delay="0"/>
                                  </p:stCondLst>
                                  <p:childTnLst>
                                    <p:set>
                                      <p:cBhvr>
                                        <p:cTn id="357" dur="1" fill="hold">
                                          <p:stCondLst>
                                            <p:cond delay="0"/>
                                          </p:stCondLst>
                                        </p:cTn>
                                        <p:tgtEl>
                                          <p:spTgt spid="161"/>
                                        </p:tgtEl>
                                        <p:attrNameLst>
                                          <p:attrName>style.visibility</p:attrName>
                                        </p:attrNameLst>
                                      </p:cBhvr>
                                      <p:to>
                                        <p:strVal val="visible"/>
                                      </p:to>
                                    </p:set>
                                    <p:animEffect filter="wipe(up)" transition="in">
                                      <p:cBhvr additive="repl">
                                        <p:cTn id="358" dur="500"/>
                                        <p:tgtEl>
                                          <p:spTgt spid="161"/>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8" presetSubtype="6">
                                  <p:stCondLst>
                                    <p:cond delay="0"/>
                                  </p:stCondLst>
                                  <p:childTnLst>
                                    <p:set>
                                      <p:cBhvr>
                                        <p:cTn id="362" dur="1" fill="hold">
                                          <p:stCondLst>
                                            <p:cond delay="0"/>
                                          </p:stCondLst>
                                        </p:cTn>
                                        <p:tgtEl>
                                          <p:spTgt spid="159"/>
                                        </p:tgtEl>
                                        <p:attrNameLst>
                                          <p:attrName>style.visibility</p:attrName>
                                        </p:attrNameLst>
                                      </p:cBhvr>
                                      <p:to>
                                        <p:strVal val="visible"/>
                                      </p:to>
                                    </p:set>
                                    <p:animEffect filter="strips(downRight)" transition="in">
                                      <p:cBhvr additive="repl">
                                        <p:cTn id="363" dur="500"/>
                                        <p:tgtEl>
                                          <p:spTgt spid="159"/>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160"/>
                                        </p:tgtEl>
                                        <p:attrNameLst>
                                          <p:attrName>style.visibility</p:attrName>
                                        </p:attrNameLst>
                                      </p:cBhvr>
                                      <p:to>
                                        <p:strVal val="visible"/>
                                      </p:to>
                                    </p:set>
                                    <p:animEffect filter="wipe(up)" transition="in">
                                      <p:cBhvr additive="repl">
                                        <p:cTn id="368" dur="500"/>
                                        <p:tgtEl>
                                          <p:spTgt spid="160"/>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3" presetSubtype="16">
                                  <p:stCondLst>
                                    <p:cond delay="0"/>
                                  </p:stCondLst>
                                  <p:childTnLst>
                                    <p:set>
                                      <p:cBhvr>
                                        <p:cTn id="372" dur="1" fill="hold">
                                          <p:stCondLst>
                                            <p:cond delay="0"/>
                                          </p:stCondLst>
                                        </p:cTn>
                                        <p:tgtEl>
                                          <p:spTgt spid="155"/>
                                        </p:tgtEl>
                                        <p:attrNameLst>
                                          <p:attrName>style.visibility</p:attrName>
                                        </p:attrNameLst>
                                      </p:cBhvr>
                                      <p:to>
                                        <p:strVal val="visible"/>
                                      </p:to>
                                    </p:set>
                                    <p:anim calcmode="lin" valueType="num">
                                      <p:cBhvr additive="repl">
                                        <p:cTn id="373" dur="500" fill="hold"/>
                                        <p:tgtEl>
                                          <p:spTgt spid="155"/>
                                        </p:tgtEl>
                                        <p:attrNameLst>
                                          <p:attrName>ppt_w</p:attrName>
                                        </p:attrNameLst>
                                      </p:cBhvr>
                                      <p:tavLst>
                                        <p:tav tm="0">
                                          <p:val>
                                            <p:fltVal val="0"/>
                                          </p:val>
                                        </p:tav>
                                        <p:tav tm="100000">
                                          <p:val>
                                            <p:strVal val="#ppt_w"/>
                                          </p:val>
                                        </p:tav>
                                      </p:tavLst>
                                    </p:anim>
                                    <p:anim calcmode="lin" valueType="num">
                                      <p:cBhvr additive="repl">
                                        <p:cTn id="374" dur="500" fill="hold"/>
                                        <p:tgtEl>
                                          <p:spTgt spid="155"/>
                                        </p:tgtEl>
                                        <p:attrNameLst>
                                          <p:attrName>ppt_h</p:attrName>
                                        </p:attrNameLst>
                                      </p:cBhvr>
                                      <p:tavLst>
                                        <p:tav tm="0">
                                          <p:val>
                                            <p:fltVal val="0"/>
                                          </p:val>
                                        </p:tav>
                                        <p:tav tm="100000">
                                          <p:val>
                                            <p:strVal val="#ppt_h"/>
                                          </p:val>
                                        </p:tav>
                                      </p:tavLst>
                                    </p:anim>
                                    <p:animEffect filter="fade" transition="in">
                                      <p:cBhvr additive="repl">
                                        <p:cTn id="37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矩形 4"/>
          <p:cNvSpPr/>
          <p:nvPr/>
        </p:nvSpPr>
        <p:spPr>
          <a:xfrm>
            <a:off x="2218680" y="25322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壳</a:t>
            </a:r>
            <a:endParaRPr b="0" lang="en-US" sz="8000" spc="-1" strike="noStrike">
              <a:solidFill>
                <a:srgbClr val="000000"/>
              </a:solidFill>
              <a:latin typeface="Calibri"/>
            </a:endParaRPr>
          </a:p>
        </p:txBody>
      </p:sp>
      <p:graphicFrame>
        <p:nvGraphicFramePr>
          <p:cNvPr id="171" name=""/>
          <p:cNvGraphicFramePr/>
          <p:nvPr/>
        </p:nvGraphicFramePr>
        <p:xfrm>
          <a:off x="5114880" y="2382840"/>
          <a:ext cx="2941560" cy="3040200"/>
        </p:xfrm>
        <a:graphic>
          <a:graphicData uri="http://schemas.openxmlformats.org/drawingml/2006/table">
            <a:tbl>
              <a:tblPr/>
              <a:tblGrid>
                <a:gridCol w="1471680"/>
                <a:gridCol w="146988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72" name="组合 3"/>
          <p:cNvGrpSpPr/>
          <p:nvPr/>
        </p:nvGrpSpPr>
        <p:grpSpPr>
          <a:xfrm>
            <a:off x="1201680" y="4019400"/>
            <a:ext cx="3111480" cy="1657440"/>
            <a:chOff x="1201680" y="4019400"/>
            <a:chExt cx="3111480" cy="1657440"/>
          </a:xfrm>
        </p:grpSpPr>
        <p:pic>
          <p:nvPicPr>
            <p:cNvPr id="173" name="图示 4" descr=""/>
            <p:cNvPicPr/>
            <p:nvPr/>
          </p:nvPicPr>
          <p:blipFill>
            <a:blip r:embed="rId1"/>
            <a:stretch/>
          </p:blipFill>
          <p:spPr>
            <a:xfrm>
              <a:off x="1201680" y="4019400"/>
              <a:ext cx="3111480" cy="1534320"/>
            </a:xfrm>
            <a:prstGeom prst="rect">
              <a:avLst/>
            </a:prstGeom>
            <a:ln w="0">
              <a:noFill/>
            </a:ln>
          </p:spPr>
        </p:pic>
        <p:sp>
          <p:nvSpPr>
            <p:cNvPr id="174" name="矩形 2"/>
            <p:cNvSpPr/>
            <p:nvPr/>
          </p:nvSpPr>
          <p:spPr>
            <a:xfrm>
              <a:off x="1252080" y="4668480"/>
              <a:ext cx="303048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士”两横不宜过长；上中下三部分写得要紧凑。</a:t>
              </a:r>
              <a:endParaRPr b="0" lang="en-US" sz="2000" spc="-1" strike="noStrike">
                <a:solidFill>
                  <a:srgbClr val="000000"/>
                </a:solidFill>
                <a:latin typeface="Calibri"/>
              </a:endParaRPr>
            </a:p>
          </p:txBody>
        </p:sp>
      </p:grpSp>
      <p:sp>
        <p:nvSpPr>
          <p:cNvPr id="175" name="矩形 2"/>
          <p:cNvSpPr/>
          <p:nvPr/>
        </p:nvSpPr>
        <p:spPr>
          <a:xfrm>
            <a:off x="2209680" y="1855800"/>
            <a:ext cx="808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ké</a:t>
            </a:r>
            <a:endParaRPr b="0" lang="en-US" sz="4800" spc="-1" strike="noStrike">
              <a:solidFill>
                <a:srgbClr val="000000"/>
              </a:solidFill>
              <a:latin typeface="Calibri"/>
            </a:endParaRPr>
          </a:p>
        </p:txBody>
      </p:sp>
      <p:sp>
        <p:nvSpPr>
          <p:cNvPr id="176" name="Freeform 129"/>
          <p:cNvSpPr/>
          <p:nvPr/>
        </p:nvSpPr>
        <p:spPr>
          <a:xfrm>
            <a:off x="6343560" y="4019400"/>
            <a:ext cx="1530360" cy="965520"/>
          </a:xfrm>
          <a:custGeom>
            <a:avLst/>
            <a:gdLst/>
            <a:ahLst/>
            <a:rect l="l" t="t" r="r" b="b"/>
            <a:pathLst>
              <a:path w="1927" h="1217">
                <a:moveTo>
                  <a:pt x="1221" y="1019"/>
                </a:moveTo>
                <a:lnTo>
                  <a:pt x="1244" y="1015"/>
                </a:lnTo>
                <a:lnTo>
                  <a:pt x="1267" y="1013"/>
                </a:lnTo>
                <a:lnTo>
                  <a:pt x="1288" y="1011"/>
                </a:lnTo>
                <a:lnTo>
                  <a:pt x="1311" y="1009"/>
                </a:lnTo>
                <a:lnTo>
                  <a:pt x="1330" y="1005"/>
                </a:lnTo>
                <a:lnTo>
                  <a:pt x="1352" y="1003"/>
                </a:lnTo>
                <a:lnTo>
                  <a:pt x="1371" y="1000"/>
                </a:lnTo>
                <a:lnTo>
                  <a:pt x="1390" y="998"/>
                </a:lnTo>
                <a:lnTo>
                  <a:pt x="1409" y="994"/>
                </a:lnTo>
                <a:lnTo>
                  <a:pt x="1428" y="990"/>
                </a:lnTo>
                <a:lnTo>
                  <a:pt x="1463" y="982"/>
                </a:lnTo>
                <a:lnTo>
                  <a:pt x="1480" y="977"/>
                </a:lnTo>
                <a:lnTo>
                  <a:pt x="1497" y="971"/>
                </a:lnTo>
                <a:lnTo>
                  <a:pt x="1513" y="965"/>
                </a:lnTo>
                <a:lnTo>
                  <a:pt x="1530" y="959"/>
                </a:lnTo>
                <a:lnTo>
                  <a:pt x="1542" y="952"/>
                </a:lnTo>
                <a:lnTo>
                  <a:pt x="1555" y="944"/>
                </a:lnTo>
                <a:lnTo>
                  <a:pt x="1567" y="934"/>
                </a:lnTo>
                <a:lnTo>
                  <a:pt x="1578" y="925"/>
                </a:lnTo>
                <a:lnTo>
                  <a:pt x="1590" y="913"/>
                </a:lnTo>
                <a:lnTo>
                  <a:pt x="1601" y="900"/>
                </a:lnTo>
                <a:lnTo>
                  <a:pt x="1613" y="886"/>
                </a:lnTo>
                <a:lnTo>
                  <a:pt x="1622" y="871"/>
                </a:lnTo>
                <a:lnTo>
                  <a:pt x="1632" y="856"/>
                </a:lnTo>
                <a:lnTo>
                  <a:pt x="1641" y="838"/>
                </a:lnTo>
                <a:lnTo>
                  <a:pt x="1649" y="821"/>
                </a:lnTo>
                <a:lnTo>
                  <a:pt x="1659" y="802"/>
                </a:lnTo>
                <a:lnTo>
                  <a:pt x="1664" y="781"/>
                </a:lnTo>
                <a:lnTo>
                  <a:pt x="1672" y="760"/>
                </a:lnTo>
                <a:lnTo>
                  <a:pt x="1678" y="737"/>
                </a:lnTo>
                <a:lnTo>
                  <a:pt x="1684" y="714"/>
                </a:lnTo>
                <a:lnTo>
                  <a:pt x="1689" y="691"/>
                </a:lnTo>
                <a:lnTo>
                  <a:pt x="1693" y="669"/>
                </a:lnTo>
                <a:lnTo>
                  <a:pt x="1699" y="648"/>
                </a:lnTo>
                <a:lnTo>
                  <a:pt x="1705" y="631"/>
                </a:lnTo>
                <a:lnTo>
                  <a:pt x="1710" y="614"/>
                </a:lnTo>
                <a:lnTo>
                  <a:pt x="1714" y="598"/>
                </a:lnTo>
                <a:lnTo>
                  <a:pt x="1720" y="585"/>
                </a:lnTo>
                <a:lnTo>
                  <a:pt x="1726" y="572"/>
                </a:lnTo>
                <a:lnTo>
                  <a:pt x="1732" y="562"/>
                </a:lnTo>
                <a:lnTo>
                  <a:pt x="1735" y="552"/>
                </a:lnTo>
                <a:lnTo>
                  <a:pt x="1741" y="545"/>
                </a:lnTo>
                <a:lnTo>
                  <a:pt x="1747" y="537"/>
                </a:lnTo>
                <a:lnTo>
                  <a:pt x="1753" y="533"/>
                </a:lnTo>
                <a:lnTo>
                  <a:pt x="1757" y="529"/>
                </a:lnTo>
                <a:lnTo>
                  <a:pt x="1762" y="527"/>
                </a:lnTo>
                <a:lnTo>
                  <a:pt x="1768" y="527"/>
                </a:lnTo>
                <a:lnTo>
                  <a:pt x="1770" y="527"/>
                </a:lnTo>
                <a:lnTo>
                  <a:pt x="1774" y="529"/>
                </a:lnTo>
                <a:lnTo>
                  <a:pt x="1778" y="533"/>
                </a:lnTo>
                <a:lnTo>
                  <a:pt x="1781" y="537"/>
                </a:lnTo>
                <a:lnTo>
                  <a:pt x="1783" y="545"/>
                </a:lnTo>
                <a:lnTo>
                  <a:pt x="1787" y="552"/>
                </a:lnTo>
                <a:lnTo>
                  <a:pt x="1793" y="562"/>
                </a:lnTo>
                <a:lnTo>
                  <a:pt x="1797" y="572"/>
                </a:lnTo>
                <a:lnTo>
                  <a:pt x="1801" y="585"/>
                </a:lnTo>
                <a:lnTo>
                  <a:pt x="1805" y="598"/>
                </a:lnTo>
                <a:lnTo>
                  <a:pt x="1808" y="614"/>
                </a:lnTo>
                <a:lnTo>
                  <a:pt x="1812" y="631"/>
                </a:lnTo>
                <a:lnTo>
                  <a:pt x="1814" y="648"/>
                </a:lnTo>
                <a:lnTo>
                  <a:pt x="1818" y="669"/>
                </a:lnTo>
                <a:lnTo>
                  <a:pt x="1822" y="691"/>
                </a:lnTo>
                <a:lnTo>
                  <a:pt x="1824" y="714"/>
                </a:lnTo>
                <a:lnTo>
                  <a:pt x="1826" y="737"/>
                </a:lnTo>
                <a:lnTo>
                  <a:pt x="1829" y="760"/>
                </a:lnTo>
                <a:lnTo>
                  <a:pt x="1833" y="781"/>
                </a:lnTo>
                <a:lnTo>
                  <a:pt x="1837" y="802"/>
                </a:lnTo>
                <a:lnTo>
                  <a:pt x="1841" y="821"/>
                </a:lnTo>
                <a:lnTo>
                  <a:pt x="1845" y="838"/>
                </a:lnTo>
                <a:lnTo>
                  <a:pt x="1851" y="856"/>
                </a:lnTo>
                <a:lnTo>
                  <a:pt x="1856" y="873"/>
                </a:lnTo>
                <a:lnTo>
                  <a:pt x="1860" y="888"/>
                </a:lnTo>
                <a:lnTo>
                  <a:pt x="1866" y="904"/>
                </a:lnTo>
                <a:lnTo>
                  <a:pt x="1874" y="917"/>
                </a:lnTo>
                <a:lnTo>
                  <a:pt x="1879" y="929"/>
                </a:lnTo>
                <a:lnTo>
                  <a:pt x="1887" y="940"/>
                </a:lnTo>
                <a:lnTo>
                  <a:pt x="1893" y="952"/>
                </a:lnTo>
                <a:lnTo>
                  <a:pt x="1900" y="961"/>
                </a:lnTo>
                <a:lnTo>
                  <a:pt x="1908" y="971"/>
                </a:lnTo>
                <a:lnTo>
                  <a:pt x="1914" y="980"/>
                </a:lnTo>
                <a:lnTo>
                  <a:pt x="1918" y="988"/>
                </a:lnTo>
                <a:lnTo>
                  <a:pt x="1920" y="996"/>
                </a:lnTo>
                <a:lnTo>
                  <a:pt x="1924" y="1003"/>
                </a:lnTo>
                <a:lnTo>
                  <a:pt x="1925" y="1011"/>
                </a:lnTo>
                <a:lnTo>
                  <a:pt x="1927" y="1019"/>
                </a:lnTo>
                <a:lnTo>
                  <a:pt x="1927" y="1026"/>
                </a:lnTo>
                <a:lnTo>
                  <a:pt x="1927" y="1034"/>
                </a:lnTo>
                <a:lnTo>
                  <a:pt x="1925" y="1040"/>
                </a:lnTo>
                <a:lnTo>
                  <a:pt x="1924" y="1048"/>
                </a:lnTo>
                <a:lnTo>
                  <a:pt x="1922" y="1055"/>
                </a:lnTo>
                <a:lnTo>
                  <a:pt x="1918" y="1061"/>
                </a:lnTo>
                <a:lnTo>
                  <a:pt x="1914" y="1069"/>
                </a:lnTo>
                <a:lnTo>
                  <a:pt x="1908" y="1074"/>
                </a:lnTo>
                <a:lnTo>
                  <a:pt x="1900" y="1082"/>
                </a:lnTo>
                <a:lnTo>
                  <a:pt x="1895" y="1088"/>
                </a:lnTo>
                <a:lnTo>
                  <a:pt x="1885" y="1092"/>
                </a:lnTo>
                <a:lnTo>
                  <a:pt x="1876" y="1097"/>
                </a:lnTo>
                <a:lnTo>
                  <a:pt x="1866" y="1101"/>
                </a:lnTo>
                <a:lnTo>
                  <a:pt x="1854" y="1105"/>
                </a:lnTo>
                <a:lnTo>
                  <a:pt x="1843" y="1111"/>
                </a:lnTo>
                <a:lnTo>
                  <a:pt x="1829" y="1115"/>
                </a:lnTo>
                <a:lnTo>
                  <a:pt x="1816" y="1121"/>
                </a:lnTo>
                <a:lnTo>
                  <a:pt x="1803" y="1124"/>
                </a:lnTo>
                <a:lnTo>
                  <a:pt x="1787" y="1130"/>
                </a:lnTo>
                <a:lnTo>
                  <a:pt x="1772" y="1134"/>
                </a:lnTo>
                <a:lnTo>
                  <a:pt x="1757" y="1140"/>
                </a:lnTo>
                <a:lnTo>
                  <a:pt x="1739" y="1145"/>
                </a:lnTo>
                <a:lnTo>
                  <a:pt x="1724" y="1151"/>
                </a:lnTo>
                <a:lnTo>
                  <a:pt x="1707" y="1157"/>
                </a:lnTo>
                <a:lnTo>
                  <a:pt x="1670" y="1170"/>
                </a:lnTo>
                <a:lnTo>
                  <a:pt x="1649" y="1176"/>
                </a:lnTo>
                <a:lnTo>
                  <a:pt x="1626" y="1182"/>
                </a:lnTo>
                <a:lnTo>
                  <a:pt x="1605" y="1188"/>
                </a:lnTo>
                <a:lnTo>
                  <a:pt x="1584" y="1192"/>
                </a:lnTo>
                <a:lnTo>
                  <a:pt x="1561" y="1197"/>
                </a:lnTo>
                <a:lnTo>
                  <a:pt x="1538" y="1201"/>
                </a:lnTo>
                <a:lnTo>
                  <a:pt x="1492" y="1207"/>
                </a:lnTo>
                <a:lnTo>
                  <a:pt x="1444" y="1211"/>
                </a:lnTo>
                <a:lnTo>
                  <a:pt x="1394" y="1215"/>
                </a:lnTo>
                <a:lnTo>
                  <a:pt x="1344" y="1217"/>
                </a:lnTo>
                <a:lnTo>
                  <a:pt x="1292" y="1217"/>
                </a:lnTo>
                <a:lnTo>
                  <a:pt x="1265" y="1217"/>
                </a:lnTo>
                <a:lnTo>
                  <a:pt x="1240" y="1217"/>
                </a:lnTo>
                <a:lnTo>
                  <a:pt x="1215" y="1215"/>
                </a:lnTo>
                <a:lnTo>
                  <a:pt x="1190" y="1215"/>
                </a:lnTo>
                <a:lnTo>
                  <a:pt x="1167" y="1213"/>
                </a:lnTo>
                <a:lnTo>
                  <a:pt x="1144" y="1213"/>
                </a:lnTo>
                <a:lnTo>
                  <a:pt x="1121" y="1211"/>
                </a:lnTo>
                <a:lnTo>
                  <a:pt x="1100" y="1209"/>
                </a:lnTo>
                <a:lnTo>
                  <a:pt x="1079" y="1207"/>
                </a:lnTo>
                <a:lnTo>
                  <a:pt x="1058" y="1205"/>
                </a:lnTo>
                <a:lnTo>
                  <a:pt x="1018" y="1201"/>
                </a:lnTo>
                <a:lnTo>
                  <a:pt x="977" y="1197"/>
                </a:lnTo>
                <a:lnTo>
                  <a:pt x="941" y="1193"/>
                </a:lnTo>
                <a:lnTo>
                  <a:pt x="922" y="1188"/>
                </a:lnTo>
                <a:lnTo>
                  <a:pt x="904" y="1184"/>
                </a:lnTo>
                <a:lnTo>
                  <a:pt x="887" y="1178"/>
                </a:lnTo>
                <a:lnTo>
                  <a:pt x="872" y="1172"/>
                </a:lnTo>
                <a:lnTo>
                  <a:pt x="856" y="1167"/>
                </a:lnTo>
                <a:lnTo>
                  <a:pt x="841" y="1161"/>
                </a:lnTo>
                <a:lnTo>
                  <a:pt x="810" y="1147"/>
                </a:lnTo>
                <a:lnTo>
                  <a:pt x="782" y="1134"/>
                </a:lnTo>
                <a:lnTo>
                  <a:pt x="768" y="1124"/>
                </a:lnTo>
                <a:lnTo>
                  <a:pt x="755" y="1117"/>
                </a:lnTo>
                <a:lnTo>
                  <a:pt x="741" y="1107"/>
                </a:lnTo>
                <a:lnTo>
                  <a:pt x="728" y="1097"/>
                </a:lnTo>
                <a:lnTo>
                  <a:pt x="714" y="1088"/>
                </a:lnTo>
                <a:lnTo>
                  <a:pt x="703" y="1076"/>
                </a:lnTo>
                <a:lnTo>
                  <a:pt x="689" y="1065"/>
                </a:lnTo>
                <a:lnTo>
                  <a:pt x="678" y="1053"/>
                </a:lnTo>
                <a:lnTo>
                  <a:pt x="666" y="1040"/>
                </a:lnTo>
                <a:lnTo>
                  <a:pt x="655" y="1028"/>
                </a:lnTo>
                <a:lnTo>
                  <a:pt x="643" y="1013"/>
                </a:lnTo>
                <a:lnTo>
                  <a:pt x="634" y="1000"/>
                </a:lnTo>
                <a:lnTo>
                  <a:pt x="624" y="984"/>
                </a:lnTo>
                <a:lnTo>
                  <a:pt x="616" y="969"/>
                </a:lnTo>
                <a:lnTo>
                  <a:pt x="607" y="954"/>
                </a:lnTo>
                <a:lnTo>
                  <a:pt x="599" y="936"/>
                </a:lnTo>
                <a:lnTo>
                  <a:pt x="591" y="919"/>
                </a:lnTo>
                <a:lnTo>
                  <a:pt x="586" y="900"/>
                </a:lnTo>
                <a:lnTo>
                  <a:pt x="578" y="881"/>
                </a:lnTo>
                <a:lnTo>
                  <a:pt x="572" y="861"/>
                </a:lnTo>
                <a:lnTo>
                  <a:pt x="567" y="840"/>
                </a:lnTo>
                <a:lnTo>
                  <a:pt x="563" y="819"/>
                </a:lnTo>
                <a:lnTo>
                  <a:pt x="557" y="798"/>
                </a:lnTo>
                <a:lnTo>
                  <a:pt x="553" y="779"/>
                </a:lnTo>
                <a:lnTo>
                  <a:pt x="549" y="758"/>
                </a:lnTo>
                <a:lnTo>
                  <a:pt x="545" y="737"/>
                </a:lnTo>
                <a:lnTo>
                  <a:pt x="544" y="714"/>
                </a:lnTo>
                <a:lnTo>
                  <a:pt x="542" y="691"/>
                </a:lnTo>
                <a:lnTo>
                  <a:pt x="540" y="668"/>
                </a:lnTo>
                <a:lnTo>
                  <a:pt x="540" y="644"/>
                </a:lnTo>
                <a:lnTo>
                  <a:pt x="540" y="621"/>
                </a:lnTo>
                <a:lnTo>
                  <a:pt x="540" y="597"/>
                </a:lnTo>
                <a:lnTo>
                  <a:pt x="540" y="547"/>
                </a:lnTo>
                <a:lnTo>
                  <a:pt x="544" y="497"/>
                </a:lnTo>
                <a:lnTo>
                  <a:pt x="547" y="445"/>
                </a:lnTo>
                <a:lnTo>
                  <a:pt x="551" y="420"/>
                </a:lnTo>
                <a:lnTo>
                  <a:pt x="553" y="399"/>
                </a:lnTo>
                <a:lnTo>
                  <a:pt x="555" y="378"/>
                </a:lnTo>
                <a:lnTo>
                  <a:pt x="555" y="357"/>
                </a:lnTo>
                <a:lnTo>
                  <a:pt x="557" y="337"/>
                </a:lnTo>
                <a:lnTo>
                  <a:pt x="559" y="320"/>
                </a:lnTo>
                <a:lnTo>
                  <a:pt x="559" y="303"/>
                </a:lnTo>
                <a:lnTo>
                  <a:pt x="561" y="287"/>
                </a:lnTo>
                <a:lnTo>
                  <a:pt x="561" y="274"/>
                </a:lnTo>
                <a:lnTo>
                  <a:pt x="561" y="261"/>
                </a:lnTo>
                <a:lnTo>
                  <a:pt x="561" y="249"/>
                </a:lnTo>
                <a:lnTo>
                  <a:pt x="561" y="239"/>
                </a:lnTo>
                <a:lnTo>
                  <a:pt x="561" y="230"/>
                </a:lnTo>
                <a:lnTo>
                  <a:pt x="561" y="222"/>
                </a:lnTo>
                <a:lnTo>
                  <a:pt x="563" y="216"/>
                </a:lnTo>
                <a:lnTo>
                  <a:pt x="563" y="211"/>
                </a:lnTo>
                <a:lnTo>
                  <a:pt x="561" y="207"/>
                </a:lnTo>
                <a:lnTo>
                  <a:pt x="561" y="201"/>
                </a:lnTo>
                <a:lnTo>
                  <a:pt x="561" y="193"/>
                </a:lnTo>
                <a:lnTo>
                  <a:pt x="561" y="188"/>
                </a:lnTo>
                <a:lnTo>
                  <a:pt x="559" y="180"/>
                </a:lnTo>
                <a:lnTo>
                  <a:pt x="555" y="174"/>
                </a:lnTo>
                <a:lnTo>
                  <a:pt x="553" y="168"/>
                </a:lnTo>
                <a:lnTo>
                  <a:pt x="547" y="165"/>
                </a:lnTo>
                <a:lnTo>
                  <a:pt x="545" y="163"/>
                </a:lnTo>
                <a:lnTo>
                  <a:pt x="540" y="161"/>
                </a:lnTo>
                <a:lnTo>
                  <a:pt x="534" y="159"/>
                </a:lnTo>
                <a:lnTo>
                  <a:pt x="526" y="159"/>
                </a:lnTo>
                <a:lnTo>
                  <a:pt x="519" y="159"/>
                </a:lnTo>
                <a:lnTo>
                  <a:pt x="509" y="159"/>
                </a:lnTo>
                <a:lnTo>
                  <a:pt x="497" y="161"/>
                </a:lnTo>
                <a:lnTo>
                  <a:pt x="486" y="163"/>
                </a:lnTo>
                <a:lnTo>
                  <a:pt x="472" y="165"/>
                </a:lnTo>
                <a:lnTo>
                  <a:pt x="459" y="167"/>
                </a:lnTo>
                <a:lnTo>
                  <a:pt x="444" y="168"/>
                </a:lnTo>
                <a:lnTo>
                  <a:pt x="426" y="172"/>
                </a:lnTo>
                <a:lnTo>
                  <a:pt x="409" y="174"/>
                </a:lnTo>
                <a:lnTo>
                  <a:pt x="392" y="178"/>
                </a:lnTo>
                <a:lnTo>
                  <a:pt x="371" y="184"/>
                </a:lnTo>
                <a:lnTo>
                  <a:pt x="352" y="188"/>
                </a:lnTo>
                <a:lnTo>
                  <a:pt x="309" y="195"/>
                </a:lnTo>
                <a:lnTo>
                  <a:pt x="267" y="203"/>
                </a:lnTo>
                <a:lnTo>
                  <a:pt x="225" y="209"/>
                </a:lnTo>
                <a:lnTo>
                  <a:pt x="181" y="215"/>
                </a:lnTo>
                <a:lnTo>
                  <a:pt x="139" y="218"/>
                </a:lnTo>
                <a:lnTo>
                  <a:pt x="92" y="220"/>
                </a:lnTo>
                <a:lnTo>
                  <a:pt x="48" y="222"/>
                </a:lnTo>
                <a:lnTo>
                  <a:pt x="0" y="222"/>
                </a:lnTo>
                <a:lnTo>
                  <a:pt x="0" y="128"/>
                </a:lnTo>
                <a:lnTo>
                  <a:pt x="29" y="128"/>
                </a:lnTo>
                <a:lnTo>
                  <a:pt x="56" y="128"/>
                </a:lnTo>
                <a:lnTo>
                  <a:pt x="83" y="128"/>
                </a:lnTo>
                <a:lnTo>
                  <a:pt x="110" y="126"/>
                </a:lnTo>
                <a:lnTo>
                  <a:pt x="135" y="126"/>
                </a:lnTo>
                <a:lnTo>
                  <a:pt x="158" y="124"/>
                </a:lnTo>
                <a:lnTo>
                  <a:pt x="181" y="122"/>
                </a:lnTo>
                <a:lnTo>
                  <a:pt x="204" y="120"/>
                </a:lnTo>
                <a:lnTo>
                  <a:pt x="227" y="119"/>
                </a:lnTo>
                <a:lnTo>
                  <a:pt x="248" y="115"/>
                </a:lnTo>
                <a:lnTo>
                  <a:pt x="269" y="113"/>
                </a:lnTo>
                <a:lnTo>
                  <a:pt x="288" y="109"/>
                </a:lnTo>
                <a:lnTo>
                  <a:pt x="309" y="105"/>
                </a:lnTo>
                <a:lnTo>
                  <a:pt x="329" y="101"/>
                </a:lnTo>
                <a:lnTo>
                  <a:pt x="365" y="94"/>
                </a:lnTo>
                <a:lnTo>
                  <a:pt x="380" y="92"/>
                </a:lnTo>
                <a:lnTo>
                  <a:pt x="396" y="88"/>
                </a:lnTo>
                <a:lnTo>
                  <a:pt x="409" y="86"/>
                </a:lnTo>
                <a:lnTo>
                  <a:pt x="423" y="82"/>
                </a:lnTo>
                <a:lnTo>
                  <a:pt x="436" y="80"/>
                </a:lnTo>
                <a:lnTo>
                  <a:pt x="448" y="76"/>
                </a:lnTo>
                <a:lnTo>
                  <a:pt x="459" y="72"/>
                </a:lnTo>
                <a:lnTo>
                  <a:pt x="471" y="69"/>
                </a:lnTo>
                <a:lnTo>
                  <a:pt x="480" y="65"/>
                </a:lnTo>
                <a:lnTo>
                  <a:pt x="490" y="61"/>
                </a:lnTo>
                <a:lnTo>
                  <a:pt x="499" y="57"/>
                </a:lnTo>
                <a:lnTo>
                  <a:pt x="507" y="53"/>
                </a:lnTo>
                <a:lnTo>
                  <a:pt x="515" y="48"/>
                </a:lnTo>
                <a:lnTo>
                  <a:pt x="522" y="44"/>
                </a:lnTo>
                <a:lnTo>
                  <a:pt x="528" y="40"/>
                </a:lnTo>
                <a:lnTo>
                  <a:pt x="534" y="36"/>
                </a:lnTo>
                <a:lnTo>
                  <a:pt x="540" y="26"/>
                </a:lnTo>
                <a:lnTo>
                  <a:pt x="545" y="21"/>
                </a:lnTo>
                <a:lnTo>
                  <a:pt x="555" y="13"/>
                </a:lnTo>
                <a:lnTo>
                  <a:pt x="563" y="9"/>
                </a:lnTo>
                <a:lnTo>
                  <a:pt x="572" y="5"/>
                </a:lnTo>
                <a:lnTo>
                  <a:pt x="582" y="1"/>
                </a:lnTo>
                <a:lnTo>
                  <a:pt x="593" y="1"/>
                </a:lnTo>
                <a:lnTo>
                  <a:pt x="603" y="0"/>
                </a:lnTo>
                <a:lnTo>
                  <a:pt x="609" y="0"/>
                </a:lnTo>
                <a:lnTo>
                  <a:pt x="615" y="1"/>
                </a:lnTo>
                <a:lnTo>
                  <a:pt x="622" y="1"/>
                </a:lnTo>
                <a:lnTo>
                  <a:pt x="630" y="1"/>
                </a:lnTo>
                <a:lnTo>
                  <a:pt x="638" y="3"/>
                </a:lnTo>
                <a:lnTo>
                  <a:pt x="647" y="5"/>
                </a:lnTo>
                <a:lnTo>
                  <a:pt x="655" y="7"/>
                </a:lnTo>
                <a:lnTo>
                  <a:pt x="664" y="9"/>
                </a:lnTo>
                <a:lnTo>
                  <a:pt x="676" y="13"/>
                </a:lnTo>
                <a:lnTo>
                  <a:pt x="686" y="17"/>
                </a:lnTo>
                <a:lnTo>
                  <a:pt x="697" y="21"/>
                </a:lnTo>
                <a:lnTo>
                  <a:pt x="709" y="24"/>
                </a:lnTo>
                <a:lnTo>
                  <a:pt x="720" y="30"/>
                </a:lnTo>
                <a:lnTo>
                  <a:pt x="732" y="34"/>
                </a:lnTo>
                <a:lnTo>
                  <a:pt x="745" y="40"/>
                </a:lnTo>
                <a:lnTo>
                  <a:pt x="758" y="48"/>
                </a:lnTo>
                <a:lnTo>
                  <a:pt x="770" y="53"/>
                </a:lnTo>
                <a:lnTo>
                  <a:pt x="782" y="61"/>
                </a:lnTo>
                <a:lnTo>
                  <a:pt x="793" y="67"/>
                </a:lnTo>
                <a:lnTo>
                  <a:pt x="803" y="72"/>
                </a:lnTo>
                <a:lnTo>
                  <a:pt x="812" y="80"/>
                </a:lnTo>
                <a:lnTo>
                  <a:pt x="820" y="86"/>
                </a:lnTo>
                <a:lnTo>
                  <a:pt x="828" y="92"/>
                </a:lnTo>
                <a:lnTo>
                  <a:pt x="833" y="97"/>
                </a:lnTo>
                <a:lnTo>
                  <a:pt x="839" y="105"/>
                </a:lnTo>
                <a:lnTo>
                  <a:pt x="843" y="111"/>
                </a:lnTo>
                <a:lnTo>
                  <a:pt x="847" y="117"/>
                </a:lnTo>
                <a:lnTo>
                  <a:pt x="851" y="120"/>
                </a:lnTo>
                <a:lnTo>
                  <a:pt x="853" y="126"/>
                </a:lnTo>
                <a:lnTo>
                  <a:pt x="854" y="132"/>
                </a:lnTo>
                <a:lnTo>
                  <a:pt x="856" y="136"/>
                </a:lnTo>
                <a:lnTo>
                  <a:pt x="856" y="142"/>
                </a:lnTo>
                <a:lnTo>
                  <a:pt x="856" y="147"/>
                </a:lnTo>
                <a:lnTo>
                  <a:pt x="856" y="153"/>
                </a:lnTo>
                <a:lnTo>
                  <a:pt x="854" y="159"/>
                </a:lnTo>
                <a:lnTo>
                  <a:pt x="854" y="163"/>
                </a:lnTo>
                <a:lnTo>
                  <a:pt x="851" y="172"/>
                </a:lnTo>
                <a:lnTo>
                  <a:pt x="847" y="174"/>
                </a:lnTo>
                <a:lnTo>
                  <a:pt x="845" y="178"/>
                </a:lnTo>
                <a:lnTo>
                  <a:pt x="841" y="182"/>
                </a:lnTo>
                <a:lnTo>
                  <a:pt x="837" y="184"/>
                </a:lnTo>
                <a:lnTo>
                  <a:pt x="831" y="188"/>
                </a:lnTo>
                <a:lnTo>
                  <a:pt x="828" y="190"/>
                </a:lnTo>
                <a:lnTo>
                  <a:pt x="822" y="191"/>
                </a:lnTo>
                <a:lnTo>
                  <a:pt x="814" y="195"/>
                </a:lnTo>
                <a:lnTo>
                  <a:pt x="808" y="197"/>
                </a:lnTo>
                <a:lnTo>
                  <a:pt x="801" y="199"/>
                </a:lnTo>
                <a:lnTo>
                  <a:pt x="797" y="201"/>
                </a:lnTo>
                <a:lnTo>
                  <a:pt x="793" y="203"/>
                </a:lnTo>
                <a:lnTo>
                  <a:pt x="785" y="207"/>
                </a:lnTo>
                <a:lnTo>
                  <a:pt x="778" y="215"/>
                </a:lnTo>
                <a:lnTo>
                  <a:pt x="772" y="222"/>
                </a:lnTo>
                <a:lnTo>
                  <a:pt x="764" y="234"/>
                </a:lnTo>
                <a:lnTo>
                  <a:pt x="758" y="245"/>
                </a:lnTo>
                <a:lnTo>
                  <a:pt x="753" y="259"/>
                </a:lnTo>
                <a:lnTo>
                  <a:pt x="747" y="276"/>
                </a:lnTo>
                <a:lnTo>
                  <a:pt x="743" y="293"/>
                </a:lnTo>
                <a:lnTo>
                  <a:pt x="737" y="310"/>
                </a:lnTo>
                <a:lnTo>
                  <a:pt x="734" y="332"/>
                </a:lnTo>
                <a:lnTo>
                  <a:pt x="730" y="353"/>
                </a:lnTo>
                <a:lnTo>
                  <a:pt x="726" y="378"/>
                </a:lnTo>
                <a:lnTo>
                  <a:pt x="722" y="403"/>
                </a:lnTo>
                <a:lnTo>
                  <a:pt x="718" y="430"/>
                </a:lnTo>
                <a:lnTo>
                  <a:pt x="716" y="456"/>
                </a:lnTo>
                <a:lnTo>
                  <a:pt x="710" y="485"/>
                </a:lnTo>
                <a:lnTo>
                  <a:pt x="707" y="512"/>
                </a:lnTo>
                <a:lnTo>
                  <a:pt x="703" y="539"/>
                </a:lnTo>
                <a:lnTo>
                  <a:pt x="701" y="566"/>
                </a:lnTo>
                <a:lnTo>
                  <a:pt x="699" y="591"/>
                </a:lnTo>
                <a:lnTo>
                  <a:pt x="697" y="616"/>
                </a:lnTo>
                <a:lnTo>
                  <a:pt x="697" y="641"/>
                </a:lnTo>
                <a:lnTo>
                  <a:pt x="697" y="664"/>
                </a:lnTo>
                <a:lnTo>
                  <a:pt x="699" y="687"/>
                </a:lnTo>
                <a:lnTo>
                  <a:pt x="701" y="708"/>
                </a:lnTo>
                <a:lnTo>
                  <a:pt x="703" y="729"/>
                </a:lnTo>
                <a:lnTo>
                  <a:pt x="707" y="748"/>
                </a:lnTo>
                <a:lnTo>
                  <a:pt x="710" y="767"/>
                </a:lnTo>
                <a:lnTo>
                  <a:pt x="716" y="787"/>
                </a:lnTo>
                <a:lnTo>
                  <a:pt x="722" y="802"/>
                </a:lnTo>
                <a:lnTo>
                  <a:pt x="730" y="819"/>
                </a:lnTo>
                <a:lnTo>
                  <a:pt x="737" y="836"/>
                </a:lnTo>
                <a:lnTo>
                  <a:pt x="747" y="852"/>
                </a:lnTo>
                <a:lnTo>
                  <a:pt x="755" y="867"/>
                </a:lnTo>
                <a:lnTo>
                  <a:pt x="764" y="883"/>
                </a:lnTo>
                <a:lnTo>
                  <a:pt x="774" y="896"/>
                </a:lnTo>
                <a:lnTo>
                  <a:pt x="783" y="909"/>
                </a:lnTo>
                <a:lnTo>
                  <a:pt x="795" y="921"/>
                </a:lnTo>
                <a:lnTo>
                  <a:pt x="805" y="932"/>
                </a:lnTo>
                <a:lnTo>
                  <a:pt x="816" y="944"/>
                </a:lnTo>
                <a:lnTo>
                  <a:pt x="828" y="954"/>
                </a:lnTo>
                <a:lnTo>
                  <a:pt x="841" y="961"/>
                </a:lnTo>
                <a:lnTo>
                  <a:pt x="854" y="971"/>
                </a:lnTo>
                <a:lnTo>
                  <a:pt x="868" y="977"/>
                </a:lnTo>
                <a:lnTo>
                  <a:pt x="881" y="984"/>
                </a:lnTo>
                <a:lnTo>
                  <a:pt x="897" y="990"/>
                </a:lnTo>
                <a:lnTo>
                  <a:pt x="912" y="994"/>
                </a:lnTo>
                <a:lnTo>
                  <a:pt x="945" y="1000"/>
                </a:lnTo>
                <a:lnTo>
                  <a:pt x="977" y="1003"/>
                </a:lnTo>
                <a:lnTo>
                  <a:pt x="1014" y="1007"/>
                </a:lnTo>
                <a:lnTo>
                  <a:pt x="1031" y="1009"/>
                </a:lnTo>
                <a:lnTo>
                  <a:pt x="1050" y="1011"/>
                </a:lnTo>
                <a:lnTo>
                  <a:pt x="1069" y="1013"/>
                </a:lnTo>
                <a:lnTo>
                  <a:pt x="1091" y="1013"/>
                </a:lnTo>
                <a:lnTo>
                  <a:pt x="1110" y="1015"/>
                </a:lnTo>
                <a:lnTo>
                  <a:pt x="1131" y="1015"/>
                </a:lnTo>
                <a:lnTo>
                  <a:pt x="1152" y="1017"/>
                </a:lnTo>
                <a:lnTo>
                  <a:pt x="1175" y="1017"/>
                </a:lnTo>
                <a:lnTo>
                  <a:pt x="1198" y="1017"/>
                </a:lnTo>
                <a:lnTo>
                  <a:pt x="1221" y="101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Freeform 130"/>
          <p:cNvSpPr/>
          <p:nvPr/>
        </p:nvSpPr>
        <p:spPr>
          <a:xfrm>
            <a:off x="5651640" y="4081320"/>
            <a:ext cx="782640" cy="962280"/>
          </a:xfrm>
          <a:custGeom>
            <a:avLst/>
            <a:gdLst/>
            <a:ahLst/>
            <a:rect l="l" t="t" r="r" b="b"/>
            <a:pathLst>
              <a:path w="985" h="1211">
                <a:moveTo>
                  <a:pt x="438" y="916"/>
                </a:moveTo>
                <a:lnTo>
                  <a:pt x="461" y="895"/>
                </a:lnTo>
                <a:lnTo>
                  <a:pt x="484" y="872"/>
                </a:lnTo>
                <a:lnTo>
                  <a:pt x="505" y="847"/>
                </a:lnTo>
                <a:lnTo>
                  <a:pt x="526" y="824"/>
                </a:lnTo>
                <a:lnTo>
                  <a:pt x="547" y="799"/>
                </a:lnTo>
                <a:lnTo>
                  <a:pt x="566" y="774"/>
                </a:lnTo>
                <a:lnTo>
                  <a:pt x="585" y="749"/>
                </a:lnTo>
                <a:lnTo>
                  <a:pt x="603" y="722"/>
                </a:lnTo>
                <a:lnTo>
                  <a:pt x="620" y="695"/>
                </a:lnTo>
                <a:lnTo>
                  <a:pt x="637" y="666"/>
                </a:lnTo>
                <a:lnTo>
                  <a:pt x="653" y="638"/>
                </a:lnTo>
                <a:lnTo>
                  <a:pt x="668" y="609"/>
                </a:lnTo>
                <a:lnTo>
                  <a:pt x="681" y="578"/>
                </a:lnTo>
                <a:lnTo>
                  <a:pt x="695" y="547"/>
                </a:lnTo>
                <a:lnTo>
                  <a:pt x="706" y="517"/>
                </a:lnTo>
                <a:lnTo>
                  <a:pt x="718" y="484"/>
                </a:lnTo>
                <a:lnTo>
                  <a:pt x="727" y="453"/>
                </a:lnTo>
                <a:lnTo>
                  <a:pt x="737" y="424"/>
                </a:lnTo>
                <a:lnTo>
                  <a:pt x="745" y="396"/>
                </a:lnTo>
                <a:lnTo>
                  <a:pt x="750" y="369"/>
                </a:lnTo>
                <a:lnTo>
                  <a:pt x="758" y="344"/>
                </a:lnTo>
                <a:lnTo>
                  <a:pt x="764" y="319"/>
                </a:lnTo>
                <a:lnTo>
                  <a:pt x="768" y="296"/>
                </a:lnTo>
                <a:lnTo>
                  <a:pt x="772" y="273"/>
                </a:lnTo>
                <a:lnTo>
                  <a:pt x="773" y="252"/>
                </a:lnTo>
                <a:lnTo>
                  <a:pt x="777" y="231"/>
                </a:lnTo>
                <a:lnTo>
                  <a:pt x="777" y="211"/>
                </a:lnTo>
                <a:lnTo>
                  <a:pt x="779" y="194"/>
                </a:lnTo>
                <a:lnTo>
                  <a:pt x="777" y="177"/>
                </a:lnTo>
                <a:lnTo>
                  <a:pt x="777" y="161"/>
                </a:lnTo>
                <a:lnTo>
                  <a:pt x="775" y="146"/>
                </a:lnTo>
                <a:lnTo>
                  <a:pt x="773" y="133"/>
                </a:lnTo>
                <a:lnTo>
                  <a:pt x="770" y="119"/>
                </a:lnTo>
                <a:lnTo>
                  <a:pt x="764" y="108"/>
                </a:lnTo>
                <a:lnTo>
                  <a:pt x="762" y="96"/>
                </a:lnTo>
                <a:lnTo>
                  <a:pt x="758" y="85"/>
                </a:lnTo>
                <a:lnTo>
                  <a:pt x="756" y="73"/>
                </a:lnTo>
                <a:lnTo>
                  <a:pt x="754" y="64"/>
                </a:lnTo>
                <a:lnTo>
                  <a:pt x="754" y="56"/>
                </a:lnTo>
                <a:lnTo>
                  <a:pt x="754" y="46"/>
                </a:lnTo>
                <a:lnTo>
                  <a:pt x="756" y="39"/>
                </a:lnTo>
                <a:lnTo>
                  <a:pt x="758" y="31"/>
                </a:lnTo>
                <a:lnTo>
                  <a:pt x="760" y="25"/>
                </a:lnTo>
                <a:lnTo>
                  <a:pt x="764" y="19"/>
                </a:lnTo>
                <a:lnTo>
                  <a:pt x="768" y="14"/>
                </a:lnTo>
                <a:lnTo>
                  <a:pt x="773" y="10"/>
                </a:lnTo>
                <a:lnTo>
                  <a:pt x="779" y="6"/>
                </a:lnTo>
                <a:lnTo>
                  <a:pt x="787" y="4"/>
                </a:lnTo>
                <a:lnTo>
                  <a:pt x="793" y="2"/>
                </a:lnTo>
                <a:lnTo>
                  <a:pt x="800" y="0"/>
                </a:lnTo>
                <a:lnTo>
                  <a:pt x="808" y="0"/>
                </a:lnTo>
                <a:lnTo>
                  <a:pt x="816" y="0"/>
                </a:lnTo>
                <a:lnTo>
                  <a:pt x="825" y="0"/>
                </a:lnTo>
                <a:lnTo>
                  <a:pt x="837" y="0"/>
                </a:lnTo>
                <a:lnTo>
                  <a:pt x="848" y="2"/>
                </a:lnTo>
                <a:lnTo>
                  <a:pt x="860" y="6"/>
                </a:lnTo>
                <a:lnTo>
                  <a:pt x="873" y="8"/>
                </a:lnTo>
                <a:lnTo>
                  <a:pt x="887" y="12"/>
                </a:lnTo>
                <a:lnTo>
                  <a:pt x="900" y="16"/>
                </a:lnTo>
                <a:lnTo>
                  <a:pt x="915" y="21"/>
                </a:lnTo>
                <a:lnTo>
                  <a:pt x="933" y="27"/>
                </a:lnTo>
                <a:lnTo>
                  <a:pt x="948" y="35"/>
                </a:lnTo>
                <a:lnTo>
                  <a:pt x="965" y="42"/>
                </a:lnTo>
                <a:lnTo>
                  <a:pt x="985" y="50"/>
                </a:lnTo>
                <a:lnTo>
                  <a:pt x="981" y="87"/>
                </a:lnTo>
                <a:lnTo>
                  <a:pt x="977" y="123"/>
                </a:lnTo>
                <a:lnTo>
                  <a:pt x="973" y="158"/>
                </a:lnTo>
                <a:lnTo>
                  <a:pt x="969" y="192"/>
                </a:lnTo>
                <a:lnTo>
                  <a:pt x="963" y="225"/>
                </a:lnTo>
                <a:lnTo>
                  <a:pt x="958" y="256"/>
                </a:lnTo>
                <a:lnTo>
                  <a:pt x="952" y="286"/>
                </a:lnTo>
                <a:lnTo>
                  <a:pt x="944" y="317"/>
                </a:lnTo>
                <a:lnTo>
                  <a:pt x="939" y="346"/>
                </a:lnTo>
                <a:lnTo>
                  <a:pt x="931" y="375"/>
                </a:lnTo>
                <a:lnTo>
                  <a:pt x="923" y="401"/>
                </a:lnTo>
                <a:lnTo>
                  <a:pt x="917" y="428"/>
                </a:lnTo>
                <a:lnTo>
                  <a:pt x="910" y="455"/>
                </a:lnTo>
                <a:lnTo>
                  <a:pt x="902" y="480"/>
                </a:lnTo>
                <a:lnTo>
                  <a:pt x="894" y="507"/>
                </a:lnTo>
                <a:lnTo>
                  <a:pt x="887" y="530"/>
                </a:lnTo>
                <a:lnTo>
                  <a:pt x="864" y="578"/>
                </a:lnTo>
                <a:lnTo>
                  <a:pt x="841" y="624"/>
                </a:lnTo>
                <a:lnTo>
                  <a:pt x="816" y="670"/>
                </a:lnTo>
                <a:lnTo>
                  <a:pt x="802" y="693"/>
                </a:lnTo>
                <a:lnTo>
                  <a:pt x="789" y="714"/>
                </a:lnTo>
                <a:lnTo>
                  <a:pt x="775" y="735"/>
                </a:lnTo>
                <a:lnTo>
                  <a:pt x="760" y="758"/>
                </a:lnTo>
                <a:lnTo>
                  <a:pt x="745" y="780"/>
                </a:lnTo>
                <a:lnTo>
                  <a:pt x="729" y="801"/>
                </a:lnTo>
                <a:lnTo>
                  <a:pt x="714" y="820"/>
                </a:lnTo>
                <a:lnTo>
                  <a:pt x="697" y="841"/>
                </a:lnTo>
                <a:lnTo>
                  <a:pt x="679" y="862"/>
                </a:lnTo>
                <a:lnTo>
                  <a:pt x="662" y="881"/>
                </a:lnTo>
                <a:lnTo>
                  <a:pt x="643" y="900"/>
                </a:lnTo>
                <a:lnTo>
                  <a:pt x="624" y="920"/>
                </a:lnTo>
                <a:lnTo>
                  <a:pt x="603" y="939"/>
                </a:lnTo>
                <a:lnTo>
                  <a:pt x="583" y="956"/>
                </a:lnTo>
                <a:lnTo>
                  <a:pt x="560" y="973"/>
                </a:lnTo>
                <a:lnTo>
                  <a:pt x="539" y="991"/>
                </a:lnTo>
                <a:lnTo>
                  <a:pt x="516" y="1006"/>
                </a:lnTo>
                <a:lnTo>
                  <a:pt x="491" y="1023"/>
                </a:lnTo>
                <a:lnTo>
                  <a:pt x="466" y="1039"/>
                </a:lnTo>
                <a:lnTo>
                  <a:pt x="441" y="1054"/>
                </a:lnTo>
                <a:lnTo>
                  <a:pt x="415" y="1069"/>
                </a:lnTo>
                <a:lnTo>
                  <a:pt x="388" y="1083"/>
                </a:lnTo>
                <a:lnTo>
                  <a:pt x="359" y="1098"/>
                </a:lnTo>
                <a:lnTo>
                  <a:pt x="330" y="1112"/>
                </a:lnTo>
                <a:lnTo>
                  <a:pt x="299" y="1125"/>
                </a:lnTo>
                <a:lnTo>
                  <a:pt x="269" y="1139"/>
                </a:lnTo>
                <a:lnTo>
                  <a:pt x="253" y="1144"/>
                </a:lnTo>
                <a:lnTo>
                  <a:pt x="238" y="1150"/>
                </a:lnTo>
                <a:lnTo>
                  <a:pt x="225" y="1154"/>
                </a:lnTo>
                <a:lnTo>
                  <a:pt x="209" y="1160"/>
                </a:lnTo>
                <a:lnTo>
                  <a:pt x="182" y="1167"/>
                </a:lnTo>
                <a:lnTo>
                  <a:pt x="157" y="1177"/>
                </a:lnTo>
                <a:lnTo>
                  <a:pt x="136" y="1183"/>
                </a:lnTo>
                <a:lnTo>
                  <a:pt x="115" y="1190"/>
                </a:lnTo>
                <a:lnTo>
                  <a:pt x="96" y="1196"/>
                </a:lnTo>
                <a:lnTo>
                  <a:pt x="79" y="1200"/>
                </a:lnTo>
                <a:lnTo>
                  <a:pt x="61" y="1204"/>
                </a:lnTo>
                <a:lnTo>
                  <a:pt x="48" y="1208"/>
                </a:lnTo>
                <a:lnTo>
                  <a:pt x="36" y="1210"/>
                </a:lnTo>
                <a:lnTo>
                  <a:pt x="27" y="1211"/>
                </a:lnTo>
                <a:lnTo>
                  <a:pt x="17" y="1211"/>
                </a:lnTo>
                <a:lnTo>
                  <a:pt x="11" y="1211"/>
                </a:lnTo>
                <a:lnTo>
                  <a:pt x="6" y="1211"/>
                </a:lnTo>
                <a:lnTo>
                  <a:pt x="2" y="1210"/>
                </a:lnTo>
                <a:lnTo>
                  <a:pt x="0" y="1208"/>
                </a:lnTo>
                <a:lnTo>
                  <a:pt x="0" y="1204"/>
                </a:lnTo>
                <a:lnTo>
                  <a:pt x="0" y="1202"/>
                </a:lnTo>
                <a:lnTo>
                  <a:pt x="0" y="1198"/>
                </a:lnTo>
                <a:lnTo>
                  <a:pt x="2" y="1194"/>
                </a:lnTo>
                <a:lnTo>
                  <a:pt x="6" y="1190"/>
                </a:lnTo>
                <a:lnTo>
                  <a:pt x="10" y="1186"/>
                </a:lnTo>
                <a:lnTo>
                  <a:pt x="17" y="1183"/>
                </a:lnTo>
                <a:lnTo>
                  <a:pt x="23" y="1179"/>
                </a:lnTo>
                <a:lnTo>
                  <a:pt x="33" y="1173"/>
                </a:lnTo>
                <a:lnTo>
                  <a:pt x="42" y="1169"/>
                </a:lnTo>
                <a:lnTo>
                  <a:pt x="54" y="1163"/>
                </a:lnTo>
                <a:lnTo>
                  <a:pt x="67" y="1158"/>
                </a:lnTo>
                <a:lnTo>
                  <a:pt x="81" y="1152"/>
                </a:lnTo>
                <a:lnTo>
                  <a:pt x="96" y="1144"/>
                </a:lnTo>
                <a:lnTo>
                  <a:pt x="115" y="1139"/>
                </a:lnTo>
                <a:lnTo>
                  <a:pt x="130" y="1131"/>
                </a:lnTo>
                <a:lnTo>
                  <a:pt x="148" y="1123"/>
                </a:lnTo>
                <a:lnTo>
                  <a:pt x="165" y="1114"/>
                </a:lnTo>
                <a:lnTo>
                  <a:pt x="182" y="1104"/>
                </a:lnTo>
                <a:lnTo>
                  <a:pt x="201" y="1092"/>
                </a:lnTo>
                <a:lnTo>
                  <a:pt x="221" y="1081"/>
                </a:lnTo>
                <a:lnTo>
                  <a:pt x="240" y="1067"/>
                </a:lnTo>
                <a:lnTo>
                  <a:pt x="261" y="1054"/>
                </a:lnTo>
                <a:lnTo>
                  <a:pt x="280" y="1039"/>
                </a:lnTo>
                <a:lnTo>
                  <a:pt x="301" y="1023"/>
                </a:lnTo>
                <a:lnTo>
                  <a:pt x="324" y="1008"/>
                </a:lnTo>
                <a:lnTo>
                  <a:pt x="345" y="991"/>
                </a:lnTo>
                <a:lnTo>
                  <a:pt x="368" y="973"/>
                </a:lnTo>
                <a:lnTo>
                  <a:pt x="391" y="954"/>
                </a:lnTo>
                <a:lnTo>
                  <a:pt x="415" y="937"/>
                </a:lnTo>
                <a:lnTo>
                  <a:pt x="438" y="91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Freeform 131"/>
          <p:cNvSpPr/>
          <p:nvPr/>
        </p:nvSpPr>
        <p:spPr>
          <a:xfrm>
            <a:off x="5832360" y="3660840"/>
            <a:ext cx="2003400" cy="379440"/>
          </a:xfrm>
          <a:custGeom>
            <a:avLst/>
            <a:gdLst/>
            <a:ahLst/>
            <a:rect l="l" t="t" r="r" b="b"/>
            <a:pathLst>
              <a:path w="2524" h="478">
                <a:moveTo>
                  <a:pt x="1895" y="476"/>
                </a:moveTo>
                <a:lnTo>
                  <a:pt x="1891" y="473"/>
                </a:lnTo>
                <a:lnTo>
                  <a:pt x="1891" y="469"/>
                </a:lnTo>
                <a:lnTo>
                  <a:pt x="1891" y="465"/>
                </a:lnTo>
                <a:lnTo>
                  <a:pt x="1891" y="459"/>
                </a:lnTo>
                <a:lnTo>
                  <a:pt x="1893" y="452"/>
                </a:lnTo>
                <a:lnTo>
                  <a:pt x="1895" y="444"/>
                </a:lnTo>
                <a:lnTo>
                  <a:pt x="1899" y="436"/>
                </a:lnTo>
                <a:lnTo>
                  <a:pt x="1903" y="427"/>
                </a:lnTo>
                <a:lnTo>
                  <a:pt x="1908" y="415"/>
                </a:lnTo>
                <a:lnTo>
                  <a:pt x="1914" y="405"/>
                </a:lnTo>
                <a:lnTo>
                  <a:pt x="1920" y="392"/>
                </a:lnTo>
                <a:lnTo>
                  <a:pt x="1927" y="381"/>
                </a:lnTo>
                <a:lnTo>
                  <a:pt x="1935" y="367"/>
                </a:lnTo>
                <a:lnTo>
                  <a:pt x="1945" y="354"/>
                </a:lnTo>
                <a:lnTo>
                  <a:pt x="1954" y="338"/>
                </a:lnTo>
                <a:lnTo>
                  <a:pt x="1964" y="323"/>
                </a:lnTo>
                <a:lnTo>
                  <a:pt x="1972" y="308"/>
                </a:lnTo>
                <a:lnTo>
                  <a:pt x="1977" y="294"/>
                </a:lnTo>
                <a:lnTo>
                  <a:pt x="1985" y="281"/>
                </a:lnTo>
                <a:lnTo>
                  <a:pt x="1991" y="269"/>
                </a:lnTo>
                <a:lnTo>
                  <a:pt x="1995" y="256"/>
                </a:lnTo>
                <a:lnTo>
                  <a:pt x="1998" y="246"/>
                </a:lnTo>
                <a:lnTo>
                  <a:pt x="2002" y="235"/>
                </a:lnTo>
                <a:lnTo>
                  <a:pt x="2006" y="225"/>
                </a:lnTo>
                <a:lnTo>
                  <a:pt x="2008" y="217"/>
                </a:lnTo>
                <a:lnTo>
                  <a:pt x="2010" y="208"/>
                </a:lnTo>
                <a:lnTo>
                  <a:pt x="2010" y="200"/>
                </a:lnTo>
                <a:lnTo>
                  <a:pt x="2012" y="194"/>
                </a:lnTo>
                <a:lnTo>
                  <a:pt x="2010" y="187"/>
                </a:lnTo>
                <a:lnTo>
                  <a:pt x="2010" y="181"/>
                </a:lnTo>
                <a:lnTo>
                  <a:pt x="2008" y="175"/>
                </a:lnTo>
                <a:lnTo>
                  <a:pt x="2006" y="171"/>
                </a:lnTo>
                <a:lnTo>
                  <a:pt x="1995" y="164"/>
                </a:lnTo>
                <a:lnTo>
                  <a:pt x="1983" y="156"/>
                </a:lnTo>
                <a:lnTo>
                  <a:pt x="1968" y="150"/>
                </a:lnTo>
                <a:lnTo>
                  <a:pt x="1960" y="148"/>
                </a:lnTo>
                <a:lnTo>
                  <a:pt x="1952" y="146"/>
                </a:lnTo>
                <a:lnTo>
                  <a:pt x="1943" y="144"/>
                </a:lnTo>
                <a:lnTo>
                  <a:pt x="1933" y="144"/>
                </a:lnTo>
                <a:lnTo>
                  <a:pt x="1924" y="142"/>
                </a:lnTo>
                <a:lnTo>
                  <a:pt x="1914" y="142"/>
                </a:lnTo>
                <a:lnTo>
                  <a:pt x="1903" y="144"/>
                </a:lnTo>
                <a:lnTo>
                  <a:pt x="1891" y="144"/>
                </a:lnTo>
                <a:lnTo>
                  <a:pt x="1878" y="146"/>
                </a:lnTo>
                <a:lnTo>
                  <a:pt x="1866" y="148"/>
                </a:lnTo>
                <a:lnTo>
                  <a:pt x="1853" y="150"/>
                </a:lnTo>
                <a:lnTo>
                  <a:pt x="1837" y="152"/>
                </a:lnTo>
                <a:lnTo>
                  <a:pt x="1824" y="156"/>
                </a:lnTo>
                <a:lnTo>
                  <a:pt x="1808" y="158"/>
                </a:lnTo>
                <a:lnTo>
                  <a:pt x="1791" y="162"/>
                </a:lnTo>
                <a:lnTo>
                  <a:pt x="1776" y="166"/>
                </a:lnTo>
                <a:lnTo>
                  <a:pt x="1759" y="167"/>
                </a:lnTo>
                <a:lnTo>
                  <a:pt x="1739" y="171"/>
                </a:lnTo>
                <a:lnTo>
                  <a:pt x="1720" y="175"/>
                </a:lnTo>
                <a:lnTo>
                  <a:pt x="1701" y="177"/>
                </a:lnTo>
                <a:lnTo>
                  <a:pt x="1682" y="181"/>
                </a:lnTo>
                <a:lnTo>
                  <a:pt x="1661" y="185"/>
                </a:lnTo>
                <a:lnTo>
                  <a:pt x="1640" y="187"/>
                </a:lnTo>
                <a:lnTo>
                  <a:pt x="1617" y="190"/>
                </a:lnTo>
                <a:lnTo>
                  <a:pt x="1595" y="192"/>
                </a:lnTo>
                <a:lnTo>
                  <a:pt x="1572" y="194"/>
                </a:lnTo>
                <a:lnTo>
                  <a:pt x="1557" y="196"/>
                </a:lnTo>
                <a:lnTo>
                  <a:pt x="1544" y="198"/>
                </a:lnTo>
                <a:lnTo>
                  <a:pt x="1528" y="198"/>
                </a:lnTo>
                <a:lnTo>
                  <a:pt x="1513" y="200"/>
                </a:lnTo>
                <a:lnTo>
                  <a:pt x="1496" y="202"/>
                </a:lnTo>
                <a:lnTo>
                  <a:pt x="1478" y="204"/>
                </a:lnTo>
                <a:lnTo>
                  <a:pt x="1461" y="206"/>
                </a:lnTo>
                <a:lnTo>
                  <a:pt x="1442" y="208"/>
                </a:lnTo>
                <a:lnTo>
                  <a:pt x="1423" y="210"/>
                </a:lnTo>
                <a:lnTo>
                  <a:pt x="1403" y="212"/>
                </a:lnTo>
                <a:lnTo>
                  <a:pt x="1382" y="214"/>
                </a:lnTo>
                <a:lnTo>
                  <a:pt x="1359" y="217"/>
                </a:lnTo>
                <a:lnTo>
                  <a:pt x="1338" y="219"/>
                </a:lnTo>
                <a:lnTo>
                  <a:pt x="1315" y="221"/>
                </a:lnTo>
                <a:lnTo>
                  <a:pt x="1290" y="225"/>
                </a:lnTo>
                <a:lnTo>
                  <a:pt x="1265" y="227"/>
                </a:lnTo>
                <a:lnTo>
                  <a:pt x="1240" y="229"/>
                </a:lnTo>
                <a:lnTo>
                  <a:pt x="1215" y="233"/>
                </a:lnTo>
                <a:lnTo>
                  <a:pt x="1189" y="235"/>
                </a:lnTo>
                <a:lnTo>
                  <a:pt x="1160" y="238"/>
                </a:lnTo>
                <a:lnTo>
                  <a:pt x="1133" y="240"/>
                </a:lnTo>
                <a:lnTo>
                  <a:pt x="1102" y="244"/>
                </a:lnTo>
                <a:lnTo>
                  <a:pt x="1073" y="248"/>
                </a:lnTo>
                <a:lnTo>
                  <a:pt x="1043" y="250"/>
                </a:lnTo>
                <a:lnTo>
                  <a:pt x="1012" y="254"/>
                </a:lnTo>
                <a:lnTo>
                  <a:pt x="979" y="258"/>
                </a:lnTo>
                <a:lnTo>
                  <a:pt x="947" y="260"/>
                </a:lnTo>
                <a:lnTo>
                  <a:pt x="914" y="263"/>
                </a:lnTo>
                <a:lnTo>
                  <a:pt x="879" y="267"/>
                </a:lnTo>
                <a:lnTo>
                  <a:pt x="845" y="271"/>
                </a:lnTo>
                <a:lnTo>
                  <a:pt x="808" y="273"/>
                </a:lnTo>
                <a:lnTo>
                  <a:pt x="772" y="277"/>
                </a:lnTo>
                <a:lnTo>
                  <a:pt x="734" y="281"/>
                </a:lnTo>
                <a:lnTo>
                  <a:pt x="697" y="286"/>
                </a:lnTo>
                <a:lnTo>
                  <a:pt x="663" y="290"/>
                </a:lnTo>
                <a:lnTo>
                  <a:pt x="626" y="294"/>
                </a:lnTo>
                <a:lnTo>
                  <a:pt x="594" y="298"/>
                </a:lnTo>
                <a:lnTo>
                  <a:pt x="559" y="302"/>
                </a:lnTo>
                <a:lnTo>
                  <a:pt x="526" y="304"/>
                </a:lnTo>
                <a:lnTo>
                  <a:pt x="496" y="308"/>
                </a:lnTo>
                <a:lnTo>
                  <a:pt x="465" y="311"/>
                </a:lnTo>
                <a:lnTo>
                  <a:pt x="436" y="313"/>
                </a:lnTo>
                <a:lnTo>
                  <a:pt x="407" y="317"/>
                </a:lnTo>
                <a:lnTo>
                  <a:pt x="379" y="319"/>
                </a:lnTo>
                <a:lnTo>
                  <a:pt x="352" y="323"/>
                </a:lnTo>
                <a:lnTo>
                  <a:pt x="325" y="325"/>
                </a:lnTo>
                <a:lnTo>
                  <a:pt x="300" y="327"/>
                </a:lnTo>
                <a:lnTo>
                  <a:pt x="275" y="331"/>
                </a:lnTo>
                <a:lnTo>
                  <a:pt x="252" y="333"/>
                </a:lnTo>
                <a:lnTo>
                  <a:pt x="229" y="334"/>
                </a:lnTo>
                <a:lnTo>
                  <a:pt x="208" y="336"/>
                </a:lnTo>
                <a:lnTo>
                  <a:pt x="187" y="336"/>
                </a:lnTo>
                <a:lnTo>
                  <a:pt x="167" y="338"/>
                </a:lnTo>
                <a:lnTo>
                  <a:pt x="146" y="340"/>
                </a:lnTo>
                <a:lnTo>
                  <a:pt x="129" y="342"/>
                </a:lnTo>
                <a:lnTo>
                  <a:pt x="112" y="342"/>
                </a:lnTo>
                <a:lnTo>
                  <a:pt x="94" y="344"/>
                </a:lnTo>
                <a:lnTo>
                  <a:pt x="79" y="344"/>
                </a:lnTo>
                <a:lnTo>
                  <a:pt x="64" y="346"/>
                </a:lnTo>
                <a:lnTo>
                  <a:pt x="48" y="346"/>
                </a:lnTo>
                <a:lnTo>
                  <a:pt x="35" y="346"/>
                </a:lnTo>
                <a:lnTo>
                  <a:pt x="23" y="346"/>
                </a:lnTo>
                <a:lnTo>
                  <a:pt x="12" y="346"/>
                </a:lnTo>
                <a:lnTo>
                  <a:pt x="0" y="348"/>
                </a:lnTo>
                <a:lnTo>
                  <a:pt x="8" y="306"/>
                </a:lnTo>
                <a:lnTo>
                  <a:pt x="14" y="265"/>
                </a:lnTo>
                <a:lnTo>
                  <a:pt x="23" y="265"/>
                </a:lnTo>
                <a:lnTo>
                  <a:pt x="33" y="263"/>
                </a:lnTo>
                <a:lnTo>
                  <a:pt x="45" y="263"/>
                </a:lnTo>
                <a:lnTo>
                  <a:pt x="56" y="263"/>
                </a:lnTo>
                <a:lnTo>
                  <a:pt x="70" y="261"/>
                </a:lnTo>
                <a:lnTo>
                  <a:pt x="85" y="260"/>
                </a:lnTo>
                <a:lnTo>
                  <a:pt x="102" y="258"/>
                </a:lnTo>
                <a:lnTo>
                  <a:pt x="119" y="256"/>
                </a:lnTo>
                <a:lnTo>
                  <a:pt x="139" y="254"/>
                </a:lnTo>
                <a:lnTo>
                  <a:pt x="160" y="252"/>
                </a:lnTo>
                <a:lnTo>
                  <a:pt x="181" y="248"/>
                </a:lnTo>
                <a:lnTo>
                  <a:pt x="204" y="246"/>
                </a:lnTo>
                <a:lnTo>
                  <a:pt x="229" y="242"/>
                </a:lnTo>
                <a:lnTo>
                  <a:pt x="254" y="238"/>
                </a:lnTo>
                <a:lnTo>
                  <a:pt x="281" y="235"/>
                </a:lnTo>
                <a:lnTo>
                  <a:pt x="309" y="231"/>
                </a:lnTo>
                <a:lnTo>
                  <a:pt x="323" y="229"/>
                </a:lnTo>
                <a:lnTo>
                  <a:pt x="338" y="227"/>
                </a:lnTo>
                <a:lnTo>
                  <a:pt x="356" y="225"/>
                </a:lnTo>
                <a:lnTo>
                  <a:pt x="371" y="225"/>
                </a:lnTo>
                <a:lnTo>
                  <a:pt x="388" y="223"/>
                </a:lnTo>
                <a:lnTo>
                  <a:pt x="405" y="221"/>
                </a:lnTo>
                <a:lnTo>
                  <a:pt x="425" y="219"/>
                </a:lnTo>
                <a:lnTo>
                  <a:pt x="444" y="217"/>
                </a:lnTo>
                <a:lnTo>
                  <a:pt x="463" y="215"/>
                </a:lnTo>
                <a:lnTo>
                  <a:pt x="482" y="212"/>
                </a:lnTo>
                <a:lnTo>
                  <a:pt x="503" y="210"/>
                </a:lnTo>
                <a:lnTo>
                  <a:pt x="524" y="208"/>
                </a:lnTo>
                <a:lnTo>
                  <a:pt x="547" y="206"/>
                </a:lnTo>
                <a:lnTo>
                  <a:pt x="569" y="202"/>
                </a:lnTo>
                <a:lnTo>
                  <a:pt x="592" y="200"/>
                </a:lnTo>
                <a:lnTo>
                  <a:pt x="617" y="196"/>
                </a:lnTo>
                <a:lnTo>
                  <a:pt x="640" y="194"/>
                </a:lnTo>
                <a:lnTo>
                  <a:pt x="665" y="190"/>
                </a:lnTo>
                <a:lnTo>
                  <a:pt x="691" y="187"/>
                </a:lnTo>
                <a:lnTo>
                  <a:pt x="716" y="185"/>
                </a:lnTo>
                <a:lnTo>
                  <a:pt x="743" y="181"/>
                </a:lnTo>
                <a:lnTo>
                  <a:pt x="772" y="177"/>
                </a:lnTo>
                <a:lnTo>
                  <a:pt x="799" y="173"/>
                </a:lnTo>
                <a:lnTo>
                  <a:pt x="828" y="169"/>
                </a:lnTo>
                <a:lnTo>
                  <a:pt x="856" y="166"/>
                </a:lnTo>
                <a:lnTo>
                  <a:pt x="887" y="162"/>
                </a:lnTo>
                <a:lnTo>
                  <a:pt x="918" y="158"/>
                </a:lnTo>
                <a:lnTo>
                  <a:pt x="949" y="154"/>
                </a:lnTo>
                <a:lnTo>
                  <a:pt x="981" y="150"/>
                </a:lnTo>
                <a:lnTo>
                  <a:pt x="1014" y="144"/>
                </a:lnTo>
                <a:lnTo>
                  <a:pt x="1046" y="141"/>
                </a:lnTo>
                <a:lnTo>
                  <a:pt x="1081" y="137"/>
                </a:lnTo>
                <a:lnTo>
                  <a:pt x="1114" y="133"/>
                </a:lnTo>
                <a:lnTo>
                  <a:pt x="1146" y="129"/>
                </a:lnTo>
                <a:lnTo>
                  <a:pt x="1179" y="127"/>
                </a:lnTo>
                <a:lnTo>
                  <a:pt x="1212" y="123"/>
                </a:lnTo>
                <a:lnTo>
                  <a:pt x="1240" y="119"/>
                </a:lnTo>
                <a:lnTo>
                  <a:pt x="1271" y="116"/>
                </a:lnTo>
                <a:lnTo>
                  <a:pt x="1300" y="114"/>
                </a:lnTo>
                <a:lnTo>
                  <a:pt x="1329" y="110"/>
                </a:lnTo>
                <a:lnTo>
                  <a:pt x="1355" y="106"/>
                </a:lnTo>
                <a:lnTo>
                  <a:pt x="1382" y="104"/>
                </a:lnTo>
                <a:lnTo>
                  <a:pt x="1407" y="100"/>
                </a:lnTo>
                <a:lnTo>
                  <a:pt x="1432" y="98"/>
                </a:lnTo>
                <a:lnTo>
                  <a:pt x="1455" y="94"/>
                </a:lnTo>
                <a:lnTo>
                  <a:pt x="1480" y="93"/>
                </a:lnTo>
                <a:lnTo>
                  <a:pt x="1501" y="89"/>
                </a:lnTo>
                <a:lnTo>
                  <a:pt x="1524" y="87"/>
                </a:lnTo>
                <a:lnTo>
                  <a:pt x="1546" y="83"/>
                </a:lnTo>
                <a:lnTo>
                  <a:pt x="1565" y="81"/>
                </a:lnTo>
                <a:lnTo>
                  <a:pt x="1584" y="79"/>
                </a:lnTo>
                <a:lnTo>
                  <a:pt x="1603" y="75"/>
                </a:lnTo>
                <a:lnTo>
                  <a:pt x="1620" y="73"/>
                </a:lnTo>
                <a:lnTo>
                  <a:pt x="1638" y="71"/>
                </a:lnTo>
                <a:lnTo>
                  <a:pt x="1655" y="70"/>
                </a:lnTo>
                <a:lnTo>
                  <a:pt x="1670" y="68"/>
                </a:lnTo>
                <a:lnTo>
                  <a:pt x="1686" y="66"/>
                </a:lnTo>
                <a:lnTo>
                  <a:pt x="1699" y="64"/>
                </a:lnTo>
                <a:lnTo>
                  <a:pt x="1712" y="62"/>
                </a:lnTo>
                <a:lnTo>
                  <a:pt x="1724" y="60"/>
                </a:lnTo>
                <a:lnTo>
                  <a:pt x="1737" y="58"/>
                </a:lnTo>
                <a:lnTo>
                  <a:pt x="1747" y="56"/>
                </a:lnTo>
                <a:lnTo>
                  <a:pt x="1759" y="56"/>
                </a:lnTo>
                <a:lnTo>
                  <a:pt x="1768" y="54"/>
                </a:lnTo>
                <a:lnTo>
                  <a:pt x="1785" y="52"/>
                </a:lnTo>
                <a:lnTo>
                  <a:pt x="1803" y="50"/>
                </a:lnTo>
                <a:lnTo>
                  <a:pt x="1820" y="47"/>
                </a:lnTo>
                <a:lnTo>
                  <a:pt x="1835" y="45"/>
                </a:lnTo>
                <a:lnTo>
                  <a:pt x="1851" y="41"/>
                </a:lnTo>
                <a:lnTo>
                  <a:pt x="1866" y="37"/>
                </a:lnTo>
                <a:lnTo>
                  <a:pt x="1879" y="35"/>
                </a:lnTo>
                <a:lnTo>
                  <a:pt x="1893" y="31"/>
                </a:lnTo>
                <a:lnTo>
                  <a:pt x="1906" y="27"/>
                </a:lnTo>
                <a:lnTo>
                  <a:pt x="1920" y="25"/>
                </a:lnTo>
                <a:lnTo>
                  <a:pt x="1931" y="22"/>
                </a:lnTo>
                <a:lnTo>
                  <a:pt x="1941" y="18"/>
                </a:lnTo>
                <a:lnTo>
                  <a:pt x="1950" y="16"/>
                </a:lnTo>
                <a:lnTo>
                  <a:pt x="1960" y="12"/>
                </a:lnTo>
                <a:lnTo>
                  <a:pt x="1970" y="10"/>
                </a:lnTo>
                <a:lnTo>
                  <a:pt x="1977" y="8"/>
                </a:lnTo>
                <a:lnTo>
                  <a:pt x="1995" y="4"/>
                </a:lnTo>
                <a:lnTo>
                  <a:pt x="2012" y="0"/>
                </a:lnTo>
                <a:lnTo>
                  <a:pt x="2022" y="0"/>
                </a:lnTo>
                <a:lnTo>
                  <a:pt x="2031" y="0"/>
                </a:lnTo>
                <a:lnTo>
                  <a:pt x="2041" y="0"/>
                </a:lnTo>
                <a:lnTo>
                  <a:pt x="2052" y="2"/>
                </a:lnTo>
                <a:lnTo>
                  <a:pt x="2062" y="2"/>
                </a:lnTo>
                <a:lnTo>
                  <a:pt x="2073" y="4"/>
                </a:lnTo>
                <a:lnTo>
                  <a:pt x="2085" y="8"/>
                </a:lnTo>
                <a:lnTo>
                  <a:pt x="2096" y="10"/>
                </a:lnTo>
                <a:lnTo>
                  <a:pt x="2108" y="14"/>
                </a:lnTo>
                <a:lnTo>
                  <a:pt x="2121" y="20"/>
                </a:lnTo>
                <a:lnTo>
                  <a:pt x="2133" y="25"/>
                </a:lnTo>
                <a:lnTo>
                  <a:pt x="2146" y="31"/>
                </a:lnTo>
                <a:lnTo>
                  <a:pt x="2173" y="45"/>
                </a:lnTo>
                <a:lnTo>
                  <a:pt x="2202" y="58"/>
                </a:lnTo>
                <a:lnTo>
                  <a:pt x="2231" y="71"/>
                </a:lnTo>
                <a:lnTo>
                  <a:pt x="2261" y="85"/>
                </a:lnTo>
                <a:lnTo>
                  <a:pt x="2294" y="100"/>
                </a:lnTo>
                <a:lnTo>
                  <a:pt x="2329" y="114"/>
                </a:lnTo>
                <a:lnTo>
                  <a:pt x="2363" y="131"/>
                </a:lnTo>
                <a:lnTo>
                  <a:pt x="2400" y="148"/>
                </a:lnTo>
                <a:lnTo>
                  <a:pt x="2413" y="158"/>
                </a:lnTo>
                <a:lnTo>
                  <a:pt x="2428" y="169"/>
                </a:lnTo>
                <a:lnTo>
                  <a:pt x="2442" y="179"/>
                </a:lnTo>
                <a:lnTo>
                  <a:pt x="2453" y="189"/>
                </a:lnTo>
                <a:lnTo>
                  <a:pt x="2465" y="196"/>
                </a:lnTo>
                <a:lnTo>
                  <a:pt x="2474" y="204"/>
                </a:lnTo>
                <a:lnTo>
                  <a:pt x="2484" y="212"/>
                </a:lnTo>
                <a:lnTo>
                  <a:pt x="2494" y="219"/>
                </a:lnTo>
                <a:lnTo>
                  <a:pt x="2501" y="227"/>
                </a:lnTo>
                <a:lnTo>
                  <a:pt x="2507" y="233"/>
                </a:lnTo>
                <a:lnTo>
                  <a:pt x="2513" y="238"/>
                </a:lnTo>
                <a:lnTo>
                  <a:pt x="2517" y="244"/>
                </a:lnTo>
                <a:lnTo>
                  <a:pt x="2521" y="250"/>
                </a:lnTo>
                <a:lnTo>
                  <a:pt x="2522" y="256"/>
                </a:lnTo>
                <a:lnTo>
                  <a:pt x="2524" y="260"/>
                </a:lnTo>
                <a:lnTo>
                  <a:pt x="2524" y="265"/>
                </a:lnTo>
                <a:lnTo>
                  <a:pt x="2524" y="269"/>
                </a:lnTo>
                <a:lnTo>
                  <a:pt x="2522" y="273"/>
                </a:lnTo>
                <a:lnTo>
                  <a:pt x="2521" y="277"/>
                </a:lnTo>
                <a:lnTo>
                  <a:pt x="2517" y="281"/>
                </a:lnTo>
                <a:lnTo>
                  <a:pt x="2513" y="283"/>
                </a:lnTo>
                <a:lnTo>
                  <a:pt x="2507" y="286"/>
                </a:lnTo>
                <a:lnTo>
                  <a:pt x="2501" y="288"/>
                </a:lnTo>
                <a:lnTo>
                  <a:pt x="2494" y="290"/>
                </a:lnTo>
                <a:lnTo>
                  <a:pt x="2484" y="292"/>
                </a:lnTo>
                <a:lnTo>
                  <a:pt x="2476" y="292"/>
                </a:lnTo>
                <a:lnTo>
                  <a:pt x="2465" y="292"/>
                </a:lnTo>
                <a:lnTo>
                  <a:pt x="2453" y="292"/>
                </a:lnTo>
                <a:lnTo>
                  <a:pt x="2442" y="292"/>
                </a:lnTo>
                <a:lnTo>
                  <a:pt x="2428" y="292"/>
                </a:lnTo>
                <a:lnTo>
                  <a:pt x="2413" y="290"/>
                </a:lnTo>
                <a:lnTo>
                  <a:pt x="2400" y="288"/>
                </a:lnTo>
                <a:lnTo>
                  <a:pt x="2380" y="288"/>
                </a:lnTo>
                <a:lnTo>
                  <a:pt x="2361" y="290"/>
                </a:lnTo>
                <a:lnTo>
                  <a:pt x="2344" y="292"/>
                </a:lnTo>
                <a:lnTo>
                  <a:pt x="2325" y="294"/>
                </a:lnTo>
                <a:lnTo>
                  <a:pt x="2306" y="298"/>
                </a:lnTo>
                <a:lnTo>
                  <a:pt x="2288" y="302"/>
                </a:lnTo>
                <a:lnTo>
                  <a:pt x="2269" y="308"/>
                </a:lnTo>
                <a:lnTo>
                  <a:pt x="2250" y="313"/>
                </a:lnTo>
                <a:lnTo>
                  <a:pt x="2231" y="319"/>
                </a:lnTo>
                <a:lnTo>
                  <a:pt x="2212" y="327"/>
                </a:lnTo>
                <a:lnTo>
                  <a:pt x="2192" y="334"/>
                </a:lnTo>
                <a:lnTo>
                  <a:pt x="2171" y="342"/>
                </a:lnTo>
                <a:lnTo>
                  <a:pt x="2152" y="352"/>
                </a:lnTo>
                <a:lnTo>
                  <a:pt x="2131" y="361"/>
                </a:lnTo>
                <a:lnTo>
                  <a:pt x="2112" y="371"/>
                </a:lnTo>
                <a:lnTo>
                  <a:pt x="2091" y="382"/>
                </a:lnTo>
                <a:lnTo>
                  <a:pt x="2069" y="394"/>
                </a:lnTo>
                <a:lnTo>
                  <a:pt x="2050" y="407"/>
                </a:lnTo>
                <a:lnTo>
                  <a:pt x="2031" y="419"/>
                </a:lnTo>
                <a:lnTo>
                  <a:pt x="2014" y="428"/>
                </a:lnTo>
                <a:lnTo>
                  <a:pt x="1998" y="438"/>
                </a:lnTo>
                <a:lnTo>
                  <a:pt x="1983" y="446"/>
                </a:lnTo>
                <a:lnTo>
                  <a:pt x="1968" y="453"/>
                </a:lnTo>
                <a:lnTo>
                  <a:pt x="1956" y="459"/>
                </a:lnTo>
                <a:lnTo>
                  <a:pt x="1943" y="465"/>
                </a:lnTo>
                <a:lnTo>
                  <a:pt x="1933" y="471"/>
                </a:lnTo>
                <a:lnTo>
                  <a:pt x="1924" y="473"/>
                </a:lnTo>
                <a:lnTo>
                  <a:pt x="1914" y="476"/>
                </a:lnTo>
                <a:lnTo>
                  <a:pt x="1908" y="478"/>
                </a:lnTo>
                <a:lnTo>
                  <a:pt x="1903" y="478"/>
                </a:lnTo>
                <a:lnTo>
                  <a:pt x="1897" y="476"/>
                </a:lnTo>
                <a:lnTo>
                  <a:pt x="1895" y="47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Freeform 132"/>
          <p:cNvSpPr/>
          <p:nvPr/>
        </p:nvSpPr>
        <p:spPr>
          <a:xfrm>
            <a:off x="5607000" y="3768840"/>
            <a:ext cx="277920" cy="561960"/>
          </a:xfrm>
          <a:custGeom>
            <a:avLst/>
            <a:gdLst/>
            <a:ahLst/>
            <a:rect l="l" t="t" r="r" b="b"/>
            <a:pathLst>
              <a:path w="352" h="706">
                <a:moveTo>
                  <a:pt x="242" y="560"/>
                </a:moveTo>
                <a:lnTo>
                  <a:pt x="227" y="581"/>
                </a:lnTo>
                <a:lnTo>
                  <a:pt x="211" y="602"/>
                </a:lnTo>
                <a:lnTo>
                  <a:pt x="204" y="612"/>
                </a:lnTo>
                <a:lnTo>
                  <a:pt x="196" y="620"/>
                </a:lnTo>
                <a:lnTo>
                  <a:pt x="187" y="629"/>
                </a:lnTo>
                <a:lnTo>
                  <a:pt x="179" y="637"/>
                </a:lnTo>
                <a:lnTo>
                  <a:pt x="171" y="645"/>
                </a:lnTo>
                <a:lnTo>
                  <a:pt x="164" y="650"/>
                </a:lnTo>
                <a:lnTo>
                  <a:pt x="156" y="658"/>
                </a:lnTo>
                <a:lnTo>
                  <a:pt x="148" y="662"/>
                </a:lnTo>
                <a:lnTo>
                  <a:pt x="140" y="668"/>
                </a:lnTo>
                <a:lnTo>
                  <a:pt x="133" y="672"/>
                </a:lnTo>
                <a:lnTo>
                  <a:pt x="123" y="675"/>
                </a:lnTo>
                <a:lnTo>
                  <a:pt x="116" y="677"/>
                </a:lnTo>
                <a:lnTo>
                  <a:pt x="108" y="681"/>
                </a:lnTo>
                <a:lnTo>
                  <a:pt x="102" y="687"/>
                </a:lnTo>
                <a:lnTo>
                  <a:pt x="94" y="689"/>
                </a:lnTo>
                <a:lnTo>
                  <a:pt x="89" y="693"/>
                </a:lnTo>
                <a:lnTo>
                  <a:pt x="85" y="697"/>
                </a:lnTo>
                <a:lnTo>
                  <a:pt x="79" y="698"/>
                </a:lnTo>
                <a:lnTo>
                  <a:pt x="71" y="702"/>
                </a:lnTo>
                <a:lnTo>
                  <a:pt x="64" y="706"/>
                </a:lnTo>
                <a:lnTo>
                  <a:pt x="56" y="706"/>
                </a:lnTo>
                <a:lnTo>
                  <a:pt x="54" y="706"/>
                </a:lnTo>
                <a:lnTo>
                  <a:pt x="52" y="704"/>
                </a:lnTo>
                <a:lnTo>
                  <a:pt x="48" y="704"/>
                </a:lnTo>
                <a:lnTo>
                  <a:pt x="46" y="702"/>
                </a:lnTo>
                <a:lnTo>
                  <a:pt x="43" y="698"/>
                </a:lnTo>
                <a:lnTo>
                  <a:pt x="41" y="697"/>
                </a:lnTo>
                <a:lnTo>
                  <a:pt x="39" y="693"/>
                </a:lnTo>
                <a:lnTo>
                  <a:pt x="35" y="687"/>
                </a:lnTo>
                <a:lnTo>
                  <a:pt x="33" y="683"/>
                </a:lnTo>
                <a:lnTo>
                  <a:pt x="31" y="677"/>
                </a:lnTo>
                <a:lnTo>
                  <a:pt x="27" y="672"/>
                </a:lnTo>
                <a:lnTo>
                  <a:pt x="25" y="664"/>
                </a:lnTo>
                <a:lnTo>
                  <a:pt x="21" y="656"/>
                </a:lnTo>
                <a:lnTo>
                  <a:pt x="20" y="649"/>
                </a:lnTo>
                <a:lnTo>
                  <a:pt x="18" y="641"/>
                </a:lnTo>
                <a:lnTo>
                  <a:pt x="14" y="631"/>
                </a:lnTo>
                <a:lnTo>
                  <a:pt x="12" y="620"/>
                </a:lnTo>
                <a:lnTo>
                  <a:pt x="10" y="608"/>
                </a:lnTo>
                <a:lnTo>
                  <a:pt x="6" y="597"/>
                </a:lnTo>
                <a:lnTo>
                  <a:pt x="4" y="585"/>
                </a:lnTo>
                <a:lnTo>
                  <a:pt x="2" y="574"/>
                </a:lnTo>
                <a:lnTo>
                  <a:pt x="0" y="562"/>
                </a:lnTo>
                <a:lnTo>
                  <a:pt x="0" y="551"/>
                </a:lnTo>
                <a:lnTo>
                  <a:pt x="2" y="541"/>
                </a:lnTo>
                <a:lnTo>
                  <a:pt x="2" y="530"/>
                </a:lnTo>
                <a:lnTo>
                  <a:pt x="6" y="520"/>
                </a:lnTo>
                <a:lnTo>
                  <a:pt x="8" y="508"/>
                </a:lnTo>
                <a:lnTo>
                  <a:pt x="14" y="499"/>
                </a:lnTo>
                <a:lnTo>
                  <a:pt x="18" y="487"/>
                </a:lnTo>
                <a:lnTo>
                  <a:pt x="23" y="478"/>
                </a:lnTo>
                <a:lnTo>
                  <a:pt x="31" y="468"/>
                </a:lnTo>
                <a:lnTo>
                  <a:pt x="39" y="458"/>
                </a:lnTo>
                <a:lnTo>
                  <a:pt x="46" y="449"/>
                </a:lnTo>
                <a:lnTo>
                  <a:pt x="54" y="439"/>
                </a:lnTo>
                <a:lnTo>
                  <a:pt x="64" y="430"/>
                </a:lnTo>
                <a:lnTo>
                  <a:pt x="75" y="420"/>
                </a:lnTo>
                <a:lnTo>
                  <a:pt x="83" y="414"/>
                </a:lnTo>
                <a:lnTo>
                  <a:pt x="91" y="407"/>
                </a:lnTo>
                <a:lnTo>
                  <a:pt x="98" y="397"/>
                </a:lnTo>
                <a:lnTo>
                  <a:pt x="106" y="387"/>
                </a:lnTo>
                <a:lnTo>
                  <a:pt x="114" y="378"/>
                </a:lnTo>
                <a:lnTo>
                  <a:pt x="121" y="366"/>
                </a:lnTo>
                <a:lnTo>
                  <a:pt x="129" y="355"/>
                </a:lnTo>
                <a:lnTo>
                  <a:pt x="135" y="343"/>
                </a:lnTo>
                <a:lnTo>
                  <a:pt x="142" y="330"/>
                </a:lnTo>
                <a:lnTo>
                  <a:pt x="150" y="316"/>
                </a:lnTo>
                <a:lnTo>
                  <a:pt x="156" y="301"/>
                </a:lnTo>
                <a:lnTo>
                  <a:pt x="164" y="288"/>
                </a:lnTo>
                <a:lnTo>
                  <a:pt x="169" y="272"/>
                </a:lnTo>
                <a:lnTo>
                  <a:pt x="175" y="255"/>
                </a:lnTo>
                <a:lnTo>
                  <a:pt x="181" y="240"/>
                </a:lnTo>
                <a:lnTo>
                  <a:pt x="187" y="222"/>
                </a:lnTo>
                <a:lnTo>
                  <a:pt x="192" y="192"/>
                </a:lnTo>
                <a:lnTo>
                  <a:pt x="196" y="161"/>
                </a:lnTo>
                <a:lnTo>
                  <a:pt x="202" y="130"/>
                </a:lnTo>
                <a:lnTo>
                  <a:pt x="206" y="101"/>
                </a:lnTo>
                <a:lnTo>
                  <a:pt x="210" y="75"/>
                </a:lnTo>
                <a:lnTo>
                  <a:pt x="211" y="48"/>
                </a:lnTo>
                <a:lnTo>
                  <a:pt x="213" y="23"/>
                </a:lnTo>
                <a:lnTo>
                  <a:pt x="213" y="11"/>
                </a:lnTo>
                <a:lnTo>
                  <a:pt x="215" y="0"/>
                </a:lnTo>
                <a:lnTo>
                  <a:pt x="225" y="4"/>
                </a:lnTo>
                <a:lnTo>
                  <a:pt x="235" y="9"/>
                </a:lnTo>
                <a:lnTo>
                  <a:pt x="244" y="15"/>
                </a:lnTo>
                <a:lnTo>
                  <a:pt x="254" y="21"/>
                </a:lnTo>
                <a:lnTo>
                  <a:pt x="271" y="34"/>
                </a:lnTo>
                <a:lnTo>
                  <a:pt x="288" y="52"/>
                </a:lnTo>
                <a:lnTo>
                  <a:pt x="304" y="67"/>
                </a:lnTo>
                <a:lnTo>
                  <a:pt x="317" y="86"/>
                </a:lnTo>
                <a:lnTo>
                  <a:pt x="330" y="107"/>
                </a:lnTo>
                <a:lnTo>
                  <a:pt x="340" y="128"/>
                </a:lnTo>
                <a:lnTo>
                  <a:pt x="346" y="155"/>
                </a:lnTo>
                <a:lnTo>
                  <a:pt x="348" y="180"/>
                </a:lnTo>
                <a:lnTo>
                  <a:pt x="350" y="207"/>
                </a:lnTo>
                <a:lnTo>
                  <a:pt x="352" y="234"/>
                </a:lnTo>
                <a:lnTo>
                  <a:pt x="350" y="263"/>
                </a:lnTo>
                <a:lnTo>
                  <a:pt x="348" y="291"/>
                </a:lnTo>
                <a:lnTo>
                  <a:pt x="346" y="320"/>
                </a:lnTo>
                <a:lnTo>
                  <a:pt x="340" y="351"/>
                </a:lnTo>
                <a:lnTo>
                  <a:pt x="338" y="364"/>
                </a:lnTo>
                <a:lnTo>
                  <a:pt x="334" y="380"/>
                </a:lnTo>
                <a:lnTo>
                  <a:pt x="330" y="395"/>
                </a:lnTo>
                <a:lnTo>
                  <a:pt x="325" y="409"/>
                </a:lnTo>
                <a:lnTo>
                  <a:pt x="321" y="424"/>
                </a:lnTo>
                <a:lnTo>
                  <a:pt x="315" y="437"/>
                </a:lnTo>
                <a:lnTo>
                  <a:pt x="302" y="464"/>
                </a:lnTo>
                <a:lnTo>
                  <a:pt x="288" y="489"/>
                </a:lnTo>
                <a:lnTo>
                  <a:pt x="273" y="514"/>
                </a:lnTo>
                <a:lnTo>
                  <a:pt x="258" y="537"/>
                </a:lnTo>
                <a:lnTo>
                  <a:pt x="242" y="56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Freeform 133"/>
          <p:cNvSpPr/>
          <p:nvPr/>
        </p:nvSpPr>
        <p:spPr>
          <a:xfrm>
            <a:off x="6519960" y="2770200"/>
            <a:ext cx="291960" cy="776160"/>
          </a:xfrm>
          <a:custGeom>
            <a:avLst/>
            <a:gdLst/>
            <a:ahLst/>
            <a:rect l="l" t="t" r="r" b="b"/>
            <a:pathLst>
              <a:path w="369" h="978">
                <a:moveTo>
                  <a:pt x="342" y="182"/>
                </a:moveTo>
                <a:lnTo>
                  <a:pt x="338" y="186"/>
                </a:lnTo>
                <a:lnTo>
                  <a:pt x="334" y="190"/>
                </a:lnTo>
                <a:lnTo>
                  <a:pt x="332" y="197"/>
                </a:lnTo>
                <a:lnTo>
                  <a:pt x="328" y="205"/>
                </a:lnTo>
                <a:lnTo>
                  <a:pt x="324" y="216"/>
                </a:lnTo>
                <a:lnTo>
                  <a:pt x="321" y="228"/>
                </a:lnTo>
                <a:lnTo>
                  <a:pt x="317" y="243"/>
                </a:lnTo>
                <a:lnTo>
                  <a:pt x="313" y="259"/>
                </a:lnTo>
                <a:lnTo>
                  <a:pt x="309" y="276"/>
                </a:lnTo>
                <a:lnTo>
                  <a:pt x="305" y="295"/>
                </a:lnTo>
                <a:lnTo>
                  <a:pt x="301" y="314"/>
                </a:lnTo>
                <a:lnTo>
                  <a:pt x="298" y="337"/>
                </a:lnTo>
                <a:lnTo>
                  <a:pt x="294" y="360"/>
                </a:lnTo>
                <a:lnTo>
                  <a:pt x="290" y="385"/>
                </a:lnTo>
                <a:lnTo>
                  <a:pt x="288" y="412"/>
                </a:lnTo>
                <a:lnTo>
                  <a:pt x="284" y="439"/>
                </a:lnTo>
                <a:lnTo>
                  <a:pt x="282" y="468"/>
                </a:lnTo>
                <a:lnTo>
                  <a:pt x="280" y="499"/>
                </a:lnTo>
                <a:lnTo>
                  <a:pt x="276" y="529"/>
                </a:lnTo>
                <a:lnTo>
                  <a:pt x="275" y="560"/>
                </a:lnTo>
                <a:lnTo>
                  <a:pt x="273" y="593"/>
                </a:lnTo>
                <a:lnTo>
                  <a:pt x="269" y="623"/>
                </a:lnTo>
                <a:lnTo>
                  <a:pt x="267" y="658"/>
                </a:lnTo>
                <a:lnTo>
                  <a:pt x="265" y="691"/>
                </a:lnTo>
                <a:lnTo>
                  <a:pt x="263" y="725"/>
                </a:lnTo>
                <a:lnTo>
                  <a:pt x="261" y="760"/>
                </a:lnTo>
                <a:lnTo>
                  <a:pt x="259" y="831"/>
                </a:lnTo>
                <a:lnTo>
                  <a:pt x="257" y="904"/>
                </a:lnTo>
                <a:lnTo>
                  <a:pt x="257" y="978"/>
                </a:lnTo>
                <a:lnTo>
                  <a:pt x="186" y="978"/>
                </a:lnTo>
                <a:lnTo>
                  <a:pt x="117" y="978"/>
                </a:lnTo>
                <a:lnTo>
                  <a:pt x="115" y="927"/>
                </a:lnTo>
                <a:lnTo>
                  <a:pt x="115" y="875"/>
                </a:lnTo>
                <a:lnTo>
                  <a:pt x="115" y="827"/>
                </a:lnTo>
                <a:lnTo>
                  <a:pt x="115" y="779"/>
                </a:lnTo>
                <a:lnTo>
                  <a:pt x="115" y="735"/>
                </a:lnTo>
                <a:lnTo>
                  <a:pt x="115" y="691"/>
                </a:lnTo>
                <a:lnTo>
                  <a:pt x="113" y="648"/>
                </a:lnTo>
                <a:lnTo>
                  <a:pt x="113" y="606"/>
                </a:lnTo>
                <a:lnTo>
                  <a:pt x="113" y="568"/>
                </a:lnTo>
                <a:lnTo>
                  <a:pt x="111" y="529"/>
                </a:lnTo>
                <a:lnTo>
                  <a:pt x="111" y="493"/>
                </a:lnTo>
                <a:lnTo>
                  <a:pt x="109" y="458"/>
                </a:lnTo>
                <a:lnTo>
                  <a:pt x="108" y="426"/>
                </a:lnTo>
                <a:lnTo>
                  <a:pt x="108" y="395"/>
                </a:lnTo>
                <a:lnTo>
                  <a:pt x="106" y="364"/>
                </a:lnTo>
                <a:lnTo>
                  <a:pt x="104" y="335"/>
                </a:lnTo>
                <a:lnTo>
                  <a:pt x="102" y="309"/>
                </a:lnTo>
                <a:lnTo>
                  <a:pt x="100" y="284"/>
                </a:lnTo>
                <a:lnTo>
                  <a:pt x="98" y="259"/>
                </a:lnTo>
                <a:lnTo>
                  <a:pt x="96" y="238"/>
                </a:lnTo>
                <a:lnTo>
                  <a:pt x="94" y="216"/>
                </a:lnTo>
                <a:lnTo>
                  <a:pt x="92" y="197"/>
                </a:lnTo>
                <a:lnTo>
                  <a:pt x="88" y="180"/>
                </a:lnTo>
                <a:lnTo>
                  <a:pt x="86" y="163"/>
                </a:lnTo>
                <a:lnTo>
                  <a:pt x="85" y="149"/>
                </a:lnTo>
                <a:lnTo>
                  <a:pt x="81" y="136"/>
                </a:lnTo>
                <a:lnTo>
                  <a:pt x="77" y="124"/>
                </a:lnTo>
                <a:lnTo>
                  <a:pt x="75" y="113"/>
                </a:lnTo>
                <a:lnTo>
                  <a:pt x="71" y="105"/>
                </a:lnTo>
                <a:lnTo>
                  <a:pt x="67" y="97"/>
                </a:lnTo>
                <a:lnTo>
                  <a:pt x="63" y="92"/>
                </a:lnTo>
                <a:lnTo>
                  <a:pt x="60" y="88"/>
                </a:lnTo>
                <a:lnTo>
                  <a:pt x="44" y="80"/>
                </a:lnTo>
                <a:lnTo>
                  <a:pt x="38" y="74"/>
                </a:lnTo>
                <a:lnTo>
                  <a:pt x="33" y="71"/>
                </a:lnTo>
                <a:lnTo>
                  <a:pt x="25" y="67"/>
                </a:lnTo>
                <a:lnTo>
                  <a:pt x="21" y="63"/>
                </a:lnTo>
                <a:lnTo>
                  <a:pt x="15" y="57"/>
                </a:lnTo>
                <a:lnTo>
                  <a:pt x="12" y="53"/>
                </a:lnTo>
                <a:lnTo>
                  <a:pt x="8" y="49"/>
                </a:lnTo>
                <a:lnTo>
                  <a:pt x="4" y="44"/>
                </a:lnTo>
                <a:lnTo>
                  <a:pt x="2" y="40"/>
                </a:lnTo>
                <a:lnTo>
                  <a:pt x="0" y="36"/>
                </a:lnTo>
                <a:lnTo>
                  <a:pt x="0" y="32"/>
                </a:lnTo>
                <a:lnTo>
                  <a:pt x="0" y="26"/>
                </a:lnTo>
                <a:lnTo>
                  <a:pt x="2" y="23"/>
                </a:lnTo>
                <a:lnTo>
                  <a:pt x="4" y="19"/>
                </a:lnTo>
                <a:lnTo>
                  <a:pt x="4" y="15"/>
                </a:lnTo>
                <a:lnTo>
                  <a:pt x="6" y="11"/>
                </a:lnTo>
                <a:lnTo>
                  <a:pt x="10" y="7"/>
                </a:lnTo>
                <a:lnTo>
                  <a:pt x="13" y="5"/>
                </a:lnTo>
                <a:lnTo>
                  <a:pt x="19" y="3"/>
                </a:lnTo>
                <a:lnTo>
                  <a:pt x="27" y="1"/>
                </a:lnTo>
                <a:lnTo>
                  <a:pt x="35" y="0"/>
                </a:lnTo>
                <a:lnTo>
                  <a:pt x="44" y="0"/>
                </a:lnTo>
                <a:lnTo>
                  <a:pt x="54" y="0"/>
                </a:lnTo>
                <a:lnTo>
                  <a:pt x="67" y="0"/>
                </a:lnTo>
                <a:lnTo>
                  <a:pt x="79" y="0"/>
                </a:lnTo>
                <a:lnTo>
                  <a:pt x="92" y="0"/>
                </a:lnTo>
                <a:lnTo>
                  <a:pt x="108" y="1"/>
                </a:lnTo>
                <a:lnTo>
                  <a:pt x="123" y="3"/>
                </a:lnTo>
                <a:lnTo>
                  <a:pt x="140" y="5"/>
                </a:lnTo>
                <a:lnTo>
                  <a:pt x="159" y="7"/>
                </a:lnTo>
                <a:lnTo>
                  <a:pt x="177" y="9"/>
                </a:lnTo>
                <a:lnTo>
                  <a:pt x="194" y="11"/>
                </a:lnTo>
                <a:lnTo>
                  <a:pt x="209" y="15"/>
                </a:lnTo>
                <a:lnTo>
                  <a:pt x="225" y="17"/>
                </a:lnTo>
                <a:lnTo>
                  <a:pt x="238" y="21"/>
                </a:lnTo>
                <a:lnTo>
                  <a:pt x="251" y="24"/>
                </a:lnTo>
                <a:lnTo>
                  <a:pt x="265" y="26"/>
                </a:lnTo>
                <a:lnTo>
                  <a:pt x="276" y="30"/>
                </a:lnTo>
                <a:lnTo>
                  <a:pt x="286" y="34"/>
                </a:lnTo>
                <a:lnTo>
                  <a:pt x="296" y="36"/>
                </a:lnTo>
                <a:lnTo>
                  <a:pt x="305" y="40"/>
                </a:lnTo>
                <a:lnTo>
                  <a:pt x="315" y="42"/>
                </a:lnTo>
                <a:lnTo>
                  <a:pt x="323" y="46"/>
                </a:lnTo>
                <a:lnTo>
                  <a:pt x="328" y="48"/>
                </a:lnTo>
                <a:lnTo>
                  <a:pt x="336" y="51"/>
                </a:lnTo>
                <a:lnTo>
                  <a:pt x="342" y="53"/>
                </a:lnTo>
                <a:lnTo>
                  <a:pt x="346" y="59"/>
                </a:lnTo>
                <a:lnTo>
                  <a:pt x="351" y="65"/>
                </a:lnTo>
                <a:lnTo>
                  <a:pt x="355" y="71"/>
                </a:lnTo>
                <a:lnTo>
                  <a:pt x="359" y="78"/>
                </a:lnTo>
                <a:lnTo>
                  <a:pt x="363" y="86"/>
                </a:lnTo>
                <a:lnTo>
                  <a:pt x="367" y="94"/>
                </a:lnTo>
                <a:lnTo>
                  <a:pt x="369" y="103"/>
                </a:lnTo>
                <a:lnTo>
                  <a:pt x="369" y="113"/>
                </a:lnTo>
                <a:lnTo>
                  <a:pt x="369" y="124"/>
                </a:lnTo>
                <a:lnTo>
                  <a:pt x="367" y="136"/>
                </a:lnTo>
                <a:lnTo>
                  <a:pt x="363" y="147"/>
                </a:lnTo>
                <a:lnTo>
                  <a:pt x="359" y="155"/>
                </a:lnTo>
                <a:lnTo>
                  <a:pt x="355" y="165"/>
                </a:lnTo>
                <a:lnTo>
                  <a:pt x="351" y="170"/>
                </a:lnTo>
                <a:lnTo>
                  <a:pt x="346" y="176"/>
                </a:lnTo>
                <a:lnTo>
                  <a:pt x="342" y="18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Freeform 134"/>
          <p:cNvSpPr/>
          <p:nvPr/>
        </p:nvSpPr>
        <p:spPr>
          <a:xfrm>
            <a:off x="6165720" y="3416400"/>
            <a:ext cx="979560" cy="203040"/>
          </a:xfrm>
          <a:custGeom>
            <a:avLst/>
            <a:gdLst/>
            <a:ahLst/>
            <a:rect l="l" t="t" r="r" b="b"/>
            <a:pathLst>
              <a:path w="1234" h="258">
                <a:moveTo>
                  <a:pt x="1178" y="23"/>
                </a:moveTo>
                <a:lnTo>
                  <a:pt x="1186" y="27"/>
                </a:lnTo>
                <a:lnTo>
                  <a:pt x="1194" y="29"/>
                </a:lnTo>
                <a:lnTo>
                  <a:pt x="1199" y="31"/>
                </a:lnTo>
                <a:lnTo>
                  <a:pt x="1205" y="35"/>
                </a:lnTo>
                <a:lnTo>
                  <a:pt x="1211" y="39"/>
                </a:lnTo>
                <a:lnTo>
                  <a:pt x="1215" y="41"/>
                </a:lnTo>
                <a:lnTo>
                  <a:pt x="1219" y="45"/>
                </a:lnTo>
                <a:lnTo>
                  <a:pt x="1222" y="48"/>
                </a:lnTo>
                <a:lnTo>
                  <a:pt x="1224" y="50"/>
                </a:lnTo>
                <a:lnTo>
                  <a:pt x="1228" y="54"/>
                </a:lnTo>
                <a:lnTo>
                  <a:pt x="1232" y="60"/>
                </a:lnTo>
                <a:lnTo>
                  <a:pt x="1234" y="66"/>
                </a:lnTo>
                <a:lnTo>
                  <a:pt x="1234" y="71"/>
                </a:lnTo>
                <a:lnTo>
                  <a:pt x="1234" y="79"/>
                </a:lnTo>
                <a:lnTo>
                  <a:pt x="1232" y="87"/>
                </a:lnTo>
                <a:lnTo>
                  <a:pt x="1228" y="93"/>
                </a:lnTo>
                <a:lnTo>
                  <a:pt x="1224" y="96"/>
                </a:lnTo>
                <a:lnTo>
                  <a:pt x="1222" y="98"/>
                </a:lnTo>
                <a:lnTo>
                  <a:pt x="1219" y="102"/>
                </a:lnTo>
                <a:lnTo>
                  <a:pt x="1215" y="104"/>
                </a:lnTo>
                <a:lnTo>
                  <a:pt x="1211" y="106"/>
                </a:lnTo>
                <a:lnTo>
                  <a:pt x="1205" y="110"/>
                </a:lnTo>
                <a:lnTo>
                  <a:pt x="1199" y="112"/>
                </a:lnTo>
                <a:lnTo>
                  <a:pt x="1194" y="114"/>
                </a:lnTo>
                <a:lnTo>
                  <a:pt x="1186" y="116"/>
                </a:lnTo>
                <a:lnTo>
                  <a:pt x="1178" y="117"/>
                </a:lnTo>
                <a:lnTo>
                  <a:pt x="1174" y="119"/>
                </a:lnTo>
                <a:lnTo>
                  <a:pt x="1169" y="121"/>
                </a:lnTo>
                <a:lnTo>
                  <a:pt x="1163" y="121"/>
                </a:lnTo>
                <a:lnTo>
                  <a:pt x="1157" y="123"/>
                </a:lnTo>
                <a:lnTo>
                  <a:pt x="1149" y="125"/>
                </a:lnTo>
                <a:lnTo>
                  <a:pt x="1142" y="127"/>
                </a:lnTo>
                <a:lnTo>
                  <a:pt x="1132" y="129"/>
                </a:lnTo>
                <a:lnTo>
                  <a:pt x="1123" y="131"/>
                </a:lnTo>
                <a:lnTo>
                  <a:pt x="1113" y="133"/>
                </a:lnTo>
                <a:lnTo>
                  <a:pt x="1101" y="135"/>
                </a:lnTo>
                <a:lnTo>
                  <a:pt x="1090" y="137"/>
                </a:lnTo>
                <a:lnTo>
                  <a:pt x="1078" y="139"/>
                </a:lnTo>
                <a:lnTo>
                  <a:pt x="1065" y="142"/>
                </a:lnTo>
                <a:lnTo>
                  <a:pt x="1052" y="144"/>
                </a:lnTo>
                <a:lnTo>
                  <a:pt x="1036" y="146"/>
                </a:lnTo>
                <a:lnTo>
                  <a:pt x="1021" y="150"/>
                </a:lnTo>
                <a:lnTo>
                  <a:pt x="1006" y="152"/>
                </a:lnTo>
                <a:lnTo>
                  <a:pt x="988" y="156"/>
                </a:lnTo>
                <a:lnTo>
                  <a:pt x="971" y="158"/>
                </a:lnTo>
                <a:lnTo>
                  <a:pt x="952" y="162"/>
                </a:lnTo>
                <a:lnTo>
                  <a:pt x="933" y="164"/>
                </a:lnTo>
                <a:lnTo>
                  <a:pt x="913" y="167"/>
                </a:lnTo>
                <a:lnTo>
                  <a:pt x="892" y="171"/>
                </a:lnTo>
                <a:lnTo>
                  <a:pt x="871" y="173"/>
                </a:lnTo>
                <a:lnTo>
                  <a:pt x="848" y="177"/>
                </a:lnTo>
                <a:lnTo>
                  <a:pt x="825" y="179"/>
                </a:lnTo>
                <a:lnTo>
                  <a:pt x="802" y="183"/>
                </a:lnTo>
                <a:lnTo>
                  <a:pt x="779" y="187"/>
                </a:lnTo>
                <a:lnTo>
                  <a:pt x="752" y="190"/>
                </a:lnTo>
                <a:lnTo>
                  <a:pt x="727" y="192"/>
                </a:lnTo>
                <a:lnTo>
                  <a:pt x="700" y="196"/>
                </a:lnTo>
                <a:lnTo>
                  <a:pt x="673" y="200"/>
                </a:lnTo>
                <a:lnTo>
                  <a:pt x="647" y="204"/>
                </a:lnTo>
                <a:lnTo>
                  <a:pt x="620" y="206"/>
                </a:lnTo>
                <a:lnTo>
                  <a:pt x="595" y="210"/>
                </a:lnTo>
                <a:lnTo>
                  <a:pt x="570" y="212"/>
                </a:lnTo>
                <a:lnTo>
                  <a:pt x="545" y="215"/>
                </a:lnTo>
                <a:lnTo>
                  <a:pt x="522" y="219"/>
                </a:lnTo>
                <a:lnTo>
                  <a:pt x="499" y="221"/>
                </a:lnTo>
                <a:lnTo>
                  <a:pt x="476" y="223"/>
                </a:lnTo>
                <a:lnTo>
                  <a:pt x="455" y="227"/>
                </a:lnTo>
                <a:lnTo>
                  <a:pt x="434" y="229"/>
                </a:lnTo>
                <a:lnTo>
                  <a:pt x="414" y="231"/>
                </a:lnTo>
                <a:lnTo>
                  <a:pt x="395" y="235"/>
                </a:lnTo>
                <a:lnTo>
                  <a:pt x="378" y="236"/>
                </a:lnTo>
                <a:lnTo>
                  <a:pt x="359" y="238"/>
                </a:lnTo>
                <a:lnTo>
                  <a:pt x="343" y="240"/>
                </a:lnTo>
                <a:lnTo>
                  <a:pt x="326" y="242"/>
                </a:lnTo>
                <a:lnTo>
                  <a:pt x="311" y="244"/>
                </a:lnTo>
                <a:lnTo>
                  <a:pt x="295" y="246"/>
                </a:lnTo>
                <a:lnTo>
                  <a:pt x="282" y="248"/>
                </a:lnTo>
                <a:lnTo>
                  <a:pt x="268" y="250"/>
                </a:lnTo>
                <a:lnTo>
                  <a:pt x="257" y="250"/>
                </a:lnTo>
                <a:lnTo>
                  <a:pt x="245" y="252"/>
                </a:lnTo>
                <a:lnTo>
                  <a:pt x="234" y="254"/>
                </a:lnTo>
                <a:lnTo>
                  <a:pt x="224" y="254"/>
                </a:lnTo>
                <a:lnTo>
                  <a:pt x="215" y="256"/>
                </a:lnTo>
                <a:lnTo>
                  <a:pt x="205" y="256"/>
                </a:lnTo>
                <a:lnTo>
                  <a:pt x="197" y="256"/>
                </a:lnTo>
                <a:lnTo>
                  <a:pt x="190" y="258"/>
                </a:lnTo>
                <a:lnTo>
                  <a:pt x="184" y="258"/>
                </a:lnTo>
                <a:lnTo>
                  <a:pt x="178" y="258"/>
                </a:lnTo>
                <a:lnTo>
                  <a:pt x="173" y="258"/>
                </a:lnTo>
                <a:lnTo>
                  <a:pt x="169" y="258"/>
                </a:lnTo>
                <a:lnTo>
                  <a:pt x="153" y="258"/>
                </a:lnTo>
                <a:lnTo>
                  <a:pt x="140" y="256"/>
                </a:lnTo>
                <a:lnTo>
                  <a:pt x="126" y="254"/>
                </a:lnTo>
                <a:lnTo>
                  <a:pt x="113" y="250"/>
                </a:lnTo>
                <a:lnTo>
                  <a:pt x="100" y="248"/>
                </a:lnTo>
                <a:lnTo>
                  <a:pt x="86" y="244"/>
                </a:lnTo>
                <a:lnTo>
                  <a:pt x="71" y="238"/>
                </a:lnTo>
                <a:lnTo>
                  <a:pt x="57" y="235"/>
                </a:lnTo>
                <a:lnTo>
                  <a:pt x="50" y="233"/>
                </a:lnTo>
                <a:lnTo>
                  <a:pt x="42" y="231"/>
                </a:lnTo>
                <a:lnTo>
                  <a:pt x="36" y="229"/>
                </a:lnTo>
                <a:lnTo>
                  <a:pt x="30" y="225"/>
                </a:lnTo>
                <a:lnTo>
                  <a:pt x="25" y="223"/>
                </a:lnTo>
                <a:lnTo>
                  <a:pt x="21" y="221"/>
                </a:lnTo>
                <a:lnTo>
                  <a:pt x="15" y="219"/>
                </a:lnTo>
                <a:lnTo>
                  <a:pt x="13" y="217"/>
                </a:lnTo>
                <a:lnTo>
                  <a:pt x="9" y="215"/>
                </a:lnTo>
                <a:lnTo>
                  <a:pt x="7" y="213"/>
                </a:lnTo>
                <a:lnTo>
                  <a:pt x="4" y="208"/>
                </a:lnTo>
                <a:lnTo>
                  <a:pt x="2" y="204"/>
                </a:lnTo>
                <a:lnTo>
                  <a:pt x="0" y="200"/>
                </a:lnTo>
                <a:lnTo>
                  <a:pt x="2" y="198"/>
                </a:lnTo>
                <a:lnTo>
                  <a:pt x="6" y="196"/>
                </a:lnTo>
                <a:lnTo>
                  <a:pt x="7" y="194"/>
                </a:lnTo>
                <a:lnTo>
                  <a:pt x="13" y="192"/>
                </a:lnTo>
                <a:lnTo>
                  <a:pt x="19" y="190"/>
                </a:lnTo>
                <a:lnTo>
                  <a:pt x="25" y="189"/>
                </a:lnTo>
                <a:lnTo>
                  <a:pt x="32" y="187"/>
                </a:lnTo>
                <a:lnTo>
                  <a:pt x="40" y="185"/>
                </a:lnTo>
                <a:lnTo>
                  <a:pt x="50" y="183"/>
                </a:lnTo>
                <a:lnTo>
                  <a:pt x="59" y="179"/>
                </a:lnTo>
                <a:lnTo>
                  <a:pt x="71" y="177"/>
                </a:lnTo>
                <a:lnTo>
                  <a:pt x="84" y="175"/>
                </a:lnTo>
                <a:lnTo>
                  <a:pt x="98" y="171"/>
                </a:lnTo>
                <a:lnTo>
                  <a:pt x="111" y="167"/>
                </a:lnTo>
                <a:lnTo>
                  <a:pt x="126" y="165"/>
                </a:lnTo>
                <a:lnTo>
                  <a:pt x="144" y="162"/>
                </a:lnTo>
                <a:lnTo>
                  <a:pt x="161" y="158"/>
                </a:lnTo>
                <a:lnTo>
                  <a:pt x="178" y="154"/>
                </a:lnTo>
                <a:lnTo>
                  <a:pt x="197" y="150"/>
                </a:lnTo>
                <a:lnTo>
                  <a:pt x="219" y="146"/>
                </a:lnTo>
                <a:lnTo>
                  <a:pt x="240" y="142"/>
                </a:lnTo>
                <a:lnTo>
                  <a:pt x="261" y="139"/>
                </a:lnTo>
                <a:lnTo>
                  <a:pt x="284" y="135"/>
                </a:lnTo>
                <a:lnTo>
                  <a:pt x="309" y="129"/>
                </a:lnTo>
                <a:lnTo>
                  <a:pt x="334" y="125"/>
                </a:lnTo>
                <a:lnTo>
                  <a:pt x="361" y="121"/>
                </a:lnTo>
                <a:lnTo>
                  <a:pt x="387" y="116"/>
                </a:lnTo>
                <a:lnTo>
                  <a:pt x="414" y="110"/>
                </a:lnTo>
                <a:lnTo>
                  <a:pt x="443" y="106"/>
                </a:lnTo>
                <a:lnTo>
                  <a:pt x="474" y="100"/>
                </a:lnTo>
                <a:lnTo>
                  <a:pt x="505" y="94"/>
                </a:lnTo>
                <a:lnTo>
                  <a:pt x="535" y="89"/>
                </a:lnTo>
                <a:lnTo>
                  <a:pt x="566" y="83"/>
                </a:lnTo>
                <a:lnTo>
                  <a:pt x="595" y="79"/>
                </a:lnTo>
                <a:lnTo>
                  <a:pt x="624" y="73"/>
                </a:lnTo>
                <a:lnTo>
                  <a:pt x="652" y="68"/>
                </a:lnTo>
                <a:lnTo>
                  <a:pt x="677" y="64"/>
                </a:lnTo>
                <a:lnTo>
                  <a:pt x="704" y="60"/>
                </a:lnTo>
                <a:lnTo>
                  <a:pt x="729" y="54"/>
                </a:lnTo>
                <a:lnTo>
                  <a:pt x="752" y="50"/>
                </a:lnTo>
                <a:lnTo>
                  <a:pt x="775" y="46"/>
                </a:lnTo>
                <a:lnTo>
                  <a:pt x="798" y="43"/>
                </a:lnTo>
                <a:lnTo>
                  <a:pt x="819" y="39"/>
                </a:lnTo>
                <a:lnTo>
                  <a:pt x="840" y="35"/>
                </a:lnTo>
                <a:lnTo>
                  <a:pt x="860" y="31"/>
                </a:lnTo>
                <a:lnTo>
                  <a:pt x="879" y="29"/>
                </a:lnTo>
                <a:lnTo>
                  <a:pt x="896" y="25"/>
                </a:lnTo>
                <a:lnTo>
                  <a:pt x="913" y="22"/>
                </a:lnTo>
                <a:lnTo>
                  <a:pt x="929" y="20"/>
                </a:lnTo>
                <a:lnTo>
                  <a:pt x="944" y="18"/>
                </a:lnTo>
                <a:lnTo>
                  <a:pt x="959" y="14"/>
                </a:lnTo>
                <a:lnTo>
                  <a:pt x="973" y="12"/>
                </a:lnTo>
                <a:lnTo>
                  <a:pt x="984" y="10"/>
                </a:lnTo>
                <a:lnTo>
                  <a:pt x="998" y="8"/>
                </a:lnTo>
                <a:lnTo>
                  <a:pt x="1007" y="6"/>
                </a:lnTo>
                <a:lnTo>
                  <a:pt x="1019" y="6"/>
                </a:lnTo>
                <a:lnTo>
                  <a:pt x="1027" y="4"/>
                </a:lnTo>
                <a:lnTo>
                  <a:pt x="1036" y="4"/>
                </a:lnTo>
                <a:lnTo>
                  <a:pt x="1044" y="2"/>
                </a:lnTo>
                <a:lnTo>
                  <a:pt x="1050" y="2"/>
                </a:lnTo>
                <a:lnTo>
                  <a:pt x="1057" y="0"/>
                </a:lnTo>
                <a:lnTo>
                  <a:pt x="1061" y="0"/>
                </a:lnTo>
                <a:lnTo>
                  <a:pt x="1067" y="0"/>
                </a:lnTo>
                <a:lnTo>
                  <a:pt x="1080" y="2"/>
                </a:lnTo>
                <a:lnTo>
                  <a:pt x="1096" y="2"/>
                </a:lnTo>
                <a:lnTo>
                  <a:pt x="1109" y="4"/>
                </a:lnTo>
                <a:lnTo>
                  <a:pt x="1123" y="8"/>
                </a:lnTo>
                <a:lnTo>
                  <a:pt x="1136" y="12"/>
                </a:lnTo>
                <a:lnTo>
                  <a:pt x="1149" y="16"/>
                </a:lnTo>
                <a:lnTo>
                  <a:pt x="1163" y="20"/>
                </a:lnTo>
                <a:lnTo>
                  <a:pt x="1178" y="2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Freeform 135"/>
          <p:cNvSpPr/>
          <p:nvPr/>
        </p:nvSpPr>
        <p:spPr>
          <a:xfrm>
            <a:off x="6043680" y="3054240"/>
            <a:ext cx="1272960" cy="250920"/>
          </a:xfrm>
          <a:custGeom>
            <a:avLst/>
            <a:gdLst/>
            <a:ahLst/>
            <a:rect l="l" t="t" r="r" b="b"/>
            <a:pathLst>
              <a:path w="1605" h="315">
                <a:moveTo>
                  <a:pt x="632" y="129"/>
                </a:moveTo>
                <a:lnTo>
                  <a:pt x="672" y="121"/>
                </a:lnTo>
                <a:lnTo>
                  <a:pt x="710" y="114"/>
                </a:lnTo>
                <a:lnTo>
                  <a:pt x="749" y="106"/>
                </a:lnTo>
                <a:lnTo>
                  <a:pt x="787" y="98"/>
                </a:lnTo>
                <a:lnTo>
                  <a:pt x="822" y="93"/>
                </a:lnTo>
                <a:lnTo>
                  <a:pt x="858" y="85"/>
                </a:lnTo>
                <a:lnTo>
                  <a:pt x="893" y="79"/>
                </a:lnTo>
                <a:lnTo>
                  <a:pt x="925" y="73"/>
                </a:lnTo>
                <a:lnTo>
                  <a:pt x="958" y="68"/>
                </a:lnTo>
                <a:lnTo>
                  <a:pt x="989" y="62"/>
                </a:lnTo>
                <a:lnTo>
                  <a:pt x="1019" y="56"/>
                </a:lnTo>
                <a:lnTo>
                  <a:pt x="1048" y="50"/>
                </a:lnTo>
                <a:lnTo>
                  <a:pt x="1077" y="47"/>
                </a:lnTo>
                <a:lnTo>
                  <a:pt x="1106" y="41"/>
                </a:lnTo>
                <a:lnTo>
                  <a:pt x="1131" y="37"/>
                </a:lnTo>
                <a:lnTo>
                  <a:pt x="1158" y="33"/>
                </a:lnTo>
                <a:lnTo>
                  <a:pt x="1181" y="29"/>
                </a:lnTo>
                <a:lnTo>
                  <a:pt x="1206" y="25"/>
                </a:lnTo>
                <a:lnTo>
                  <a:pt x="1227" y="22"/>
                </a:lnTo>
                <a:lnTo>
                  <a:pt x="1250" y="18"/>
                </a:lnTo>
                <a:lnTo>
                  <a:pt x="1269" y="16"/>
                </a:lnTo>
                <a:lnTo>
                  <a:pt x="1290" y="12"/>
                </a:lnTo>
                <a:lnTo>
                  <a:pt x="1307" y="10"/>
                </a:lnTo>
                <a:lnTo>
                  <a:pt x="1325" y="8"/>
                </a:lnTo>
                <a:lnTo>
                  <a:pt x="1342" y="6"/>
                </a:lnTo>
                <a:lnTo>
                  <a:pt x="1357" y="4"/>
                </a:lnTo>
                <a:lnTo>
                  <a:pt x="1373" y="2"/>
                </a:lnTo>
                <a:lnTo>
                  <a:pt x="1386" y="2"/>
                </a:lnTo>
                <a:lnTo>
                  <a:pt x="1399" y="0"/>
                </a:lnTo>
                <a:lnTo>
                  <a:pt x="1411" y="0"/>
                </a:lnTo>
                <a:lnTo>
                  <a:pt x="1421" y="0"/>
                </a:lnTo>
                <a:lnTo>
                  <a:pt x="1430" y="0"/>
                </a:lnTo>
                <a:lnTo>
                  <a:pt x="1449" y="0"/>
                </a:lnTo>
                <a:lnTo>
                  <a:pt x="1465" y="0"/>
                </a:lnTo>
                <a:lnTo>
                  <a:pt x="1482" y="0"/>
                </a:lnTo>
                <a:lnTo>
                  <a:pt x="1495" y="2"/>
                </a:lnTo>
                <a:lnTo>
                  <a:pt x="1511" y="2"/>
                </a:lnTo>
                <a:lnTo>
                  <a:pt x="1522" y="4"/>
                </a:lnTo>
                <a:lnTo>
                  <a:pt x="1536" y="4"/>
                </a:lnTo>
                <a:lnTo>
                  <a:pt x="1545" y="6"/>
                </a:lnTo>
                <a:lnTo>
                  <a:pt x="1557" y="8"/>
                </a:lnTo>
                <a:lnTo>
                  <a:pt x="1564" y="10"/>
                </a:lnTo>
                <a:lnTo>
                  <a:pt x="1574" y="12"/>
                </a:lnTo>
                <a:lnTo>
                  <a:pt x="1580" y="14"/>
                </a:lnTo>
                <a:lnTo>
                  <a:pt x="1586" y="16"/>
                </a:lnTo>
                <a:lnTo>
                  <a:pt x="1591" y="18"/>
                </a:lnTo>
                <a:lnTo>
                  <a:pt x="1595" y="22"/>
                </a:lnTo>
                <a:lnTo>
                  <a:pt x="1599" y="24"/>
                </a:lnTo>
                <a:lnTo>
                  <a:pt x="1601" y="27"/>
                </a:lnTo>
                <a:lnTo>
                  <a:pt x="1603" y="31"/>
                </a:lnTo>
                <a:lnTo>
                  <a:pt x="1603" y="37"/>
                </a:lnTo>
                <a:lnTo>
                  <a:pt x="1605" y="41"/>
                </a:lnTo>
                <a:lnTo>
                  <a:pt x="1605" y="45"/>
                </a:lnTo>
                <a:lnTo>
                  <a:pt x="1603" y="48"/>
                </a:lnTo>
                <a:lnTo>
                  <a:pt x="1603" y="54"/>
                </a:lnTo>
                <a:lnTo>
                  <a:pt x="1601" y="58"/>
                </a:lnTo>
                <a:lnTo>
                  <a:pt x="1599" y="62"/>
                </a:lnTo>
                <a:lnTo>
                  <a:pt x="1595" y="68"/>
                </a:lnTo>
                <a:lnTo>
                  <a:pt x="1589" y="75"/>
                </a:lnTo>
                <a:lnTo>
                  <a:pt x="1580" y="85"/>
                </a:lnTo>
                <a:lnTo>
                  <a:pt x="1570" y="93"/>
                </a:lnTo>
                <a:lnTo>
                  <a:pt x="1568" y="95"/>
                </a:lnTo>
                <a:lnTo>
                  <a:pt x="1564" y="98"/>
                </a:lnTo>
                <a:lnTo>
                  <a:pt x="1559" y="100"/>
                </a:lnTo>
                <a:lnTo>
                  <a:pt x="1553" y="102"/>
                </a:lnTo>
                <a:lnTo>
                  <a:pt x="1545" y="106"/>
                </a:lnTo>
                <a:lnTo>
                  <a:pt x="1538" y="108"/>
                </a:lnTo>
                <a:lnTo>
                  <a:pt x="1528" y="112"/>
                </a:lnTo>
                <a:lnTo>
                  <a:pt x="1518" y="116"/>
                </a:lnTo>
                <a:lnTo>
                  <a:pt x="1507" y="118"/>
                </a:lnTo>
                <a:lnTo>
                  <a:pt x="1495" y="121"/>
                </a:lnTo>
                <a:lnTo>
                  <a:pt x="1482" y="125"/>
                </a:lnTo>
                <a:lnTo>
                  <a:pt x="1469" y="129"/>
                </a:lnTo>
                <a:lnTo>
                  <a:pt x="1455" y="133"/>
                </a:lnTo>
                <a:lnTo>
                  <a:pt x="1438" y="137"/>
                </a:lnTo>
                <a:lnTo>
                  <a:pt x="1422" y="141"/>
                </a:lnTo>
                <a:lnTo>
                  <a:pt x="1405" y="144"/>
                </a:lnTo>
                <a:lnTo>
                  <a:pt x="1386" y="148"/>
                </a:lnTo>
                <a:lnTo>
                  <a:pt x="1367" y="152"/>
                </a:lnTo>
                <a:lnTo>
                  <a:pt x="1346" y="156"/>
                </a:lnTo>
                <a:lnTo>
                  <a:pt x="1325" y="162"/>
                </a:lnTo>
                <a:lnTo>
                  <a:pt x="1302" y="166"/>
                </a:lnTo>
                <a:lnTo>
                  <a:pt x="1279" y="169"/>
                </a:lnTo>
                <a:lnTo>
                  <a:pt x="1255" y="175"/>
                </a:lnTo>
                <a:lnTo>
                  <a:pt x="1231" y="179"/>
                </a:lnTo>
                <a:lnTo>
                  <a:pt x="1204" y="185"/>
                </a:lnTo>
                <a:lnTo>
                  <a:pt x="1177" y="191"/>
                </a:lnTo>
                <a:lnTo>
                  <a:pt x="1148" y="194"/>
                </a:lnTo>
                <a:lnTo>
                  <a:pt x="1119" y="200"/>
                </a:lnTo>
                <a:lnTo>
                  <a:pt x="1090" y="206"/>
                </a:lnTo>
                <a:lnTo>
                  <a:pt x="1060" y="212"/>
                </a:lnTo>
                <a:lnTo>
                  <a:pt x="1029" y="215"/>
                </a:lnTo>
                <a:lnTo>
                  <a:pt x="996" y="221"/>
                </a:lnTo>
                <a:lnTo>
                  <a:pt x="962" y="227"/>
                </a:lnTo>
                <a:lnTo>
                  <a:pt x="929" y="233"/>
                </a:lnTo>
                <a:lnTo>
                  <a:pt x="897" y="238"/>
                </a:lnTo>
                <a:lnTo>
                  <a:pt x="866" y="242"/>
                </a:lnTo>
                <a:lnTo>
                  <a:pt x="835" y="248"/>
                </a:lnTo>
                <a:lnTo>
                  <a:pt x="804" y="252"/>
                </a:lnTo>
                <a:lnTo>
                  <a:pt x="776" y="258"/>
                </a:lnTo>
                <a:lnTo>
                  <a:pt x="747" y="262"/>
                </a:lnTo>
                <a:lnTo>
                  <a:pt x="718" y="265"/>
                </a:lnTo>
                <a:lnTo>
                  <a:pt x="691" y="269"/>
                </a:lnTo>
                <a:lnTo>
                  <a:pt x="664" y="273"/>
                </a:lnTo>
                <a:lnTo>
                  <a:pt x="639" y="277"/>
                </a:lnTo>
                <a:lnTo>
                  <a:pt x="614" y="281"/>
                </a:lnTo>
                <a:lnTo>
                  <a:pt x="589" y="285"/>
                </a:lnTo>
                <a:lnTo>
                  <a:pt x="566" y="288"/>
                </a:lnTo>
                <a:lnTo>
                  <a:pt x="543" y="290"/>
                </a:lnTo>
                <a:lnTo>
                  <a:pt x="522" y="294"/>
                </a:lnTo>
                <a:lnTo>
                  <a:pt x="501" y="296"/>
                </a:lnTo>
                <a:lnTo>
                  <a:pt x="480" y="300"/>
                </a:lnTo>
                <a:lnTo>
                  <a:pt x="461" y="302"/>
                </a:lnTo>
                <a:lnTo>
                  <a:pt x="442" y="304"/>
                </a:lnTo>
                <a:lnTo>
                  <a:pt x="422" y="306"/>
                </a:lnTo>
                <a:lnTo>
                  <a:pt x="405" y="308"/>
                </a:lnTo>
                <a:lnTo>
                  <a:pt x="388" y="310"/>
                </a:lnTo>
                <a:lnTo>
                  <a:pt x="373" y="311"/>
                </a:lnTo>
                <a:lnTo>
                  <a:pt x="357" y="311"/>
                </a:lnTo>
                <a:lnTo>
                  <a:pt x="342" y="313"/>
                </a:lnTo>
                <a:lnTo>
                  <a:pt x="328" y="313"/>
                </a:lnTo>
                <a:lnTo>
                  <a:pt x="315" y="315"/>
                </a:lnTo>
                <a:lnTo>
                  <a:pt x="303" y="315"/>
                </a:lnTo>
                <a:lnTo>
                  <a:pt x="292" y="315"/>
                </a:lnTo>
                <a:lnTo>
                  <a:pt x="280" y="315"/>
                </a:lnTo>
                <a:lnTo>
                  <a:pt x="259" y="315"/>
                </a:lnTo>
                <a:lnTo>
                  <a:pt x="240" y="315"/>
                </a:lnTo>
                <a:lnTo>
                  <a:pt x="221" y="313"/>
                </a:lnTo>
                <a:lnTo>
                  <a:pt x="204" y="313"/>
                </a:lnTo>
                <a:lnTo>
                  <a:pt x="186" y="311"/>
                </a:lnTo>
                <a:lnTo>
                  <a:pt x="171" y="311"/>
                </a:lnTo>
                <a:lnTo>
                  <a:pt x="156" y="310"/>
                </a:lnTo>
                <a:lnTo>
                  <a:pt x="142" y="308"/>
                </a:lnTo>
                <a:lnTo>
                  <a:pt x="129" y="306"/>
                </a:lnTo>
                <a:lnTo>
                  <a:pt x="115" y="304"/>
                </a:lnTo>
                <a:lnTo>
                  <a:pt x="104" y="302"/>
                </a:lnTo>
                <a:lnTo>
                  <a:pt x="92" y="300"/>
                </a:lnTo>
                <a:lnTo>
                  <a:pt x="83" y="298"/>
                </a:lnTo>
                <a:lnTo>
                  <a:pt x="73" y="296"/>
                </a:lnTo>
                <a:lnTo>
                  <a:pt x="64" y="294"/>
                </a:lnTo>
                <a:lnTo>
                  <a:pt x="56" y="292"/>
                </a:lnTo>
                <a:lnTo>
                  <a:pt x="48" y="290"/>
                </a:lnTo>
                <a:lnTo>
                  <a:pt x="42" y="288"/>
                </a:lnTo>
                <a:lnTo>
                  <a:pt x="35" y="285"/>
                </a:lnTo>
                <a:lnTo>
                  <a:pt x="29" y="283"/>
                </a:lnTo>
                <a:lnTo>
                  <a:pt x="25" y="281"/>
                </a:lnTo>
                <a:lnTo>
                  <a:pt x="19" y="279"/>
                </a:lnTo>
                <a:lnTo>
                  <a:pt x="16" y="277"/>
                </a:lnTo>
                <a:lnTo>
                  <a:pt x="12" y="275"/>
                </a:lnTo>
                <a:lnTo>
                  <a:pt x="10" y="273"/>
                </a:lnTo>
                <a:lnTo>
                  <a:pt x="6" y="269"/>
                </a:lnTo>
                <a:lnTo>
                  <a:pt x="2" y="265"/>
                </a:lnTo>
                <a:lnTo>
                  <a:pt x="0" y="262"/>
                </a:lnTo>
                <a:lnTo>
                  <a:pt x="0" y="258"/>
                </a:lnTo>
                <a:lnTo>
                  <a:pt x="0" y="256"/>
                </a:lnTo>
                <a:lnTo>
                  <a:pt x="2" y="254"/>
                </a:lnTo>
                <a:lnTo>
                  <a:pt x="6" y="254"/>
                </a:lnTo>
                <a:lnTo>
                  <a:pt x="10" y="252"/>
                </a:lnTo>
                <a:lnTo>
                  <a:pt x="16" y="250"/>
                </a:lnTo>
                <a:lnTo>
                  <a:pt x="23" y="248"/>
                </a:lnTo>
                <a:lnTo>
                  <a:pt x="31" y="246"/>
                </a:lnTo>
                <a:lnTo>
                  <a:pt x="41" y="244"/>
                </a:lnTo>
                <a:lnTo>
                  <a:pt x="50" y="240"/>
                </a:lnTo>
                <a:lnTo>
                  <a:pt x="62" y="238"/>
                </a:lnTo>
                <a:lnTo>
                  <a:pt x="75" y="237"/>
                </a:lnTo>
                <a:lnTo>
                  <a:pt x="89" y="233"/>
                </a:lnTo>
                <a:lnTo>
                  <a:pt x="104" y="231"/>
                </a:lnTo>
                <a:lnTo>
                  <a:pt x="121" y="227"/>
                </a:lnTo>
                <a:lnTo>
                  <a:pt x="138" y="223"/>
                </a:lnTo>
                <a:lnTo>
                  <a:pt x="158" y="219"/>
                </a:lnTo>
                <a:lnTo>
                  <a:pt x="179" y="215"/>
                </a:lnTo>
                <a:lnTo>
                  <a:pt x="200" y="212"/>
                </a:lnTo>
                <a:lnTo>
                  <a:pt x="223" y="208"/>
                </a:lnTo>
                <a:lnTo>
                  <a:pt x="248" y="202"/>
                </a:lnTo>
                <a:lnTo>
                  <a:pt x="273" y="198"/>
                </a:lnTo>
                <a:lnTo>
                  <a:pt x="298" y="192"/>
                </a:lnTo>
                <a:lnTo>
                  <a:pt x="327" y="187"/>
                </a:lnTo>
                <a:lnTo>
                  <a:pt x="355" y="181"/>
                </a:lnTo>
                <a:lnTo>
                  <a:pt x="386" y="175"/>
                </a:lnTo>
                <a:lnTo>
                  <a:pt x="417" y="169"/>
                </a:lnTo>
                <a:lnTo>
                  <a:pt x="449" y="164"/>
                </a:lnTo>
                <a:lnTo>
                  <a:pt x="484" y="158"/>
                </a:lnTo>
                <a:lnTo>
                  <a:pt x="518" y="150"/>
                </a:lnTo>
                <a:lnTo>
                  <a:pt x="555" y="143"/>
                </a:lnTo>
                <a:lnTo>
                  <a:pt x="593" y="137"/>
                </a:lnTo>
                <a:lnTo>
                  <a:pt x="632" y="12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175"/>
                                        </p:tgtEl>
                                        <p:attrNameLst>
                                          <p:attrName>style.visibility</p:attrName>
                                        </p:attrNameLst>
                                      </p:cBhvr>
                                      <p:to>
                                        <p:strVal val="visible"/>
                                      </p:to>
                                    </p:set>
                                    <p:anim calcmode="lin" valueType="num">
                                      <p:cBhvr additive="base">
                                        <p:cTn id="382" dur="500" fill="hold"/>
                                        <p:tgtEl>
                                          <p:spTgt spid="175"/>
                                        </p:tgtEl>
                                        <p:attrNameLst>
                                          <p:attrName>ppt_x</p:attrName>
                                        </p:attrNameLst>
                                      </p:cBhvr>
                                      <p:tavLst>
                                        <p:tav tm="0">
                                          <p:val>
                                            <p:strVal val="0-#ppt_w/2"/>
                                          </p:val>
                                        </p:tav>
                                        <p:tav tm="100000">
                                          <p:val>
                                            <p:strVal val="#ppt_x"/>
                                          </p:val>
                                        </p:tav>
                                      </p:tavLst>
                                    </p:anim>
                                    <p:anim calcmode="lin" valueType="num">
                                      <p:cBhvr additive="base">
                                        <p:cTn id="383"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82"/>
                                        </p:tgtEl>
                                        <p:attrNameLst>
                                          <p:attrName>style.visibility</p:attrName>
                                        </p:attrNameLst>
                                      </p:cBhvr>
                                      <p:to>
                                        <p:strVal val="visible"/>
                                      </p:to>
                                    </p:set>
                                    <p:animEffect filter="wipe(left)" transition="in">
                                      <p:cBhvr additive="repl">
                                        <p:cTn id="388" dur="500"/>
                                        <p:tgtEl>
                                          <p:spTgt spid="182"/>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1">
                                  <p:stCondLst>
                                    <p:cond delay="0"/>
                                  </p:stCondLst>
                                  <p:childTnLst>
                                    <p:set>
                                      <p:cBhvr>
                                        <p:cTn id="392" dur="1" fill="hold">
                                          <p:stCondLst>
                                            <p:cond delay="0"/>
                                          </p:stCondLst>
                                        </p:cTn>
                                        <p:tgtEl>
                                          <p:spTgt spid="180"/>
                                        </p:tgtEl>
                                        <p:attrNameLst>
                                          <p:attrName>style.visibility</p:attrName>
                                        </p:attrNameLst>
                                      </p:cBhvr>
                                      <p:to>
                                        <p:strVal val="visible"/>
                                      </p:to>
                                    </p:set>
                                    <p:animEffect filter="wipe(up)" transition="in">
                                      <p:cBhvr additive="repl">
                                        <p:cTn id="393" dur="500"/>
                                        <p:tgtEl>
                                          <p:spTgt spid="18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81"/>
                                        </p:tgtEl>
                                        <p:attrNameLst>
                                          <p:attrName>style.visibility</p:attrName>
                                        </p:attrNameLst>
                                      </p:cBhvr>
                                      <p:to>
                                        <p:strVal val="visible"/>
                                      </p:to>
                                    </p:set>
                                    <p:animEffect filter="wipe(left)" transition="in">
                                      <p:cBhvr additive="repl">
                                        <p:cTn id="398" dur="500"/>
                                        <p:tgtEl>
                                          <p:spTgt spid="181"/>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1">
                                  <p:stCondLst>
                                    <p:cond delay="0"/>
                                  </p:stCondLst>
                                  <p:childTnLst>
                                    <p:set>
                                      <p:cBhvr>
                                        <p:cTn id="402" dur="1" fill="hold">
                                          <p:stCondLst>
                                            <p:cond delay="0"/>
                                          </p:stCondLst>
                                        </p:cTn>
                                        <p:tgtEl>
                                          <p:spTgt spid="179"/>
                                        </p:tgtEl>
                                        <p:attrNameLst>
                                          <p:attrName>style.visibility</p:attrName>
                                        </p:attrNameLst>
                                      </p:cBhvr>
                                      <p:to>
                                        <p:strVal val="visible"/>
                                      </p:to>
                                    </p:set>
                                    <p:animEffect filter="wipe(up)" transition="in">
                                      <p:cBhvr additive="repl">
                                        <p:cTn id="403" dur="500"/>
                                        <p:tgtEl>
                                          <p:spTgt spid="179"/>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8" presetSubtype="6">
                                  <p:stCondLst>
                                    <p:cond delay="0"/>
                                  </p:stCondLst>
                                  <p:childTnLst>
                                    <p:set>
                                      <p:cBhvr>
                                        <p:cTn id="407" dur="1" fill="hold">
                                          <p:stCondLst>
                                            <p:cond delay="0"/>
                                          </p:stCondLst>
                                        </p:cTn>
                                        <p:tgtEl>
                                          <p:spTgt spid="178"/>
                                        </p:tgtEl>
                                        <p:attrNameLst>
                                          <p:attrName>style.visibility</p:attrName>
                                        </p:attrNameLst>
                                      </p:cBhvr>
                                      <p:to>
                                        <p:strVal val="visible"/>
                                      </p:to>
                                    </p:set>
                                    <p:animEffect filter="strips(downRight)" transition="in">
                                      <p:cBhvr additive="repl">
                                        <p:cTn id="408" dur="500"/>
                                        <p:tgtEl>
                                          <p:spTgt spid="178"/>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177"/>
                                        </p:tgtEl>
                                        <p:attrNameLst>
                                          <p:attrName>style.visibility</p:attrName>
                                        </p:attrNameLst>
                                      </p:cBhvr>
                                      <p:to>
                                        <p:strVal val="visible"/>
                                      </p:to>
                                    </p:set>
                                    <p:animEffect filter="wipe(up)" transition="in">
                                      <p:cBhvr additive="repl">
                                        <p:cTn id="413" dur="500"/>
                                        <p:tgtEl>
                                          <p:spTgt spid="177"/>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76"/>
                                        </p:tgtEl>
                                        <p:attrNameLst>
                                          <p:attrName>style.visibility</p:attrName>
                                        </p:attrNameLst>
                                      </p:cBhvr>
                                      <p:to>
                                        <p:strVal val="visible"/>
                                      </p:to>
                                    </p:set>
                                    <p:animEffect filter="wipe(left)" transition="in">
                                      <p:cBhvr additive="repl">
                                        <p:cTn id="418" dur="500"/>
                                        <p:tgtEl>
                                          <p:spTgt spid="176"/>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5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animEffect filter="fade" transition="in">
                                      <p:cBhvr additive="repl">
                                        <p:cTn id="42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矩形 4"/>
          <p:cNvSpPr/>
          <p:nvPr/>
        </p:nvSpPr>
        <p:spPr>
          <a:xfrm>
            <a:off x="2218680" y="25322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蝉</a:t>
            </a:r>
            <a:endParaRPr b="0" lang="en-US" sz="8000" spc="-1" strike="noStrike">
              <a:solidFill>
                <a:srgbClr val="000000"/>
              </a:solidFill>
              <a:latin typeface="Calibri"/>
            </a:endParaRPr>
          </a:p>
        </p:txBody>
      </p:sp>
      <p:graphicFrame>
        <p:nvGraphicFramePr>
          <p:cNvPr id="184" name=""/>
          <p:cNvGraphicFramePr/>
          <p:nvPr/>
        </p:nvGraphicFramePr>
        <p:xfrm>
          <a:off x="5114880" y="2382840"/>
          <a:ext cx="2941560" cy="3040200"/>
        </p:xfrm>
        <a:graphic>
          <a:graphicData uri="http://schemas.openxmlformats.org/drawingml/2006/table">
            <a:tbl>
              <a:tblPr/>
              <a:tblGrid>
                <a:gridCol w="1471680"/>
                <a:gridCol w="1469880"/>
              </a:tblGrid>
              <a:tr h="151272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85" name="组合 3"/>
          <p:cNvGrpSpPr/>
          <p:nvPr/>
        </p:nvGrpSpPr>
        <p:grpSpPr>
          <a:xfrm>
            <a:off x="1530360" y="3975120"/>
            <a:ext cx="2389320" cy="1621080"/>
            <a:chOff x="1530360" y="3975120"/>
            <a:chExt cx="2389320" cy="1621080"/>
          </a:xfrm>
        </p:grpSpPr>
        <p:pic>
          <p:nvPicPr>
            <p:cNvPr id="186" name="图示 4" descr=""/>
            <p:cNvPicPr/>
            <p:nvPr/>
          </p:nvPicPr>
          <p:blipFill>
            <a:blip r:embed="rId1"/>
            <a:stretch/>
          </p:blipFill>
          <p:spPr>
            <a:xfrm>
              <a:off x="1530360" y="3975120"/>
              <a:ext cx="2389320" cy="1571760"/>
            </a:xfrm>
            <a:prstGeom prst="rect">
              <a:avLst/>
            </a:prstGeom>
            <a:ln w="0">
              <a:noFill/>
            </a:ln>
          </p:spPr>
        </p:pic>
        <p:sp>
          <p:nvSpPr>
            <p:cNvPr id="187" name="矩形 2"/>
            <p:cNvSpPr/>
            <p:nvPr/>
          </p:nvSpPr>
          <p:spPr>
            <a:xfrm>
              <a:off x="1572480" y="4587840"/>
              <a:ext cx="232236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部窄而偏上。</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grpSp>
      <p:sp>
        <p:nvSpPr>
          <p:cNvPr id="188" name="矩形 2"/>
          <p:cNvSpPr/>
          <p:nvPr/>
        </p:nvSpPr>
        <p:spPr>
          <a:xfrm>
            <a:off x="1854360" y="1792440"/>
            <a:ext cx="1582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chán</a:t>
            </a:r>
            <a:endParaRPr b="0" lang="en-US" sz="4800" spc="-1" strike="noStrike">
              <a:solidFill>
                <a:srgbClr val="000000"/>
              </a:solidFill>
              <a:latin typeface="Calibri"/>
            </a:endParaRPr>
          </a:p>
        </p:txBody>
      </p:sp>
      <p:sp>
        <p:nvSpPr>
          <p:cNvPr id="189" name="Freeform 181"/>
          <p:cNvSpPr/>
          <p:nvPr/>
        </p:nvSpPr>
        <p:spPr>
          <a:xfrm>
            <a:off x="6859440" y="3370320"/>
            <a:ext cx="135000" cy="1708200"/>
          </a:xfrm>
          <a:custGeom>
            <a:avLst/>
            <a:gdLst/>
            <a:ahLst/>
            <a:rect l="l" t="t" r="r" b="b"/>
            <a:pathLst>
              <a:path w="169" h="2152">
                <a:moveTo>
                  <a:pt x="140" y="2033"/>
                </a:moveTo>
                <a:lnTo>
                  <a:pt x="138" y="2048"/>
                </a:lnTo>
                <a:lnTo>
                  <a:pt x="136" y="2062"/>
                </a:lnTo>
                <a:lnTo>
                  <a:pt x="132" y="2075"/>
                </a:lnTo>
                <a:lnTo>
                  <a:pt x="130" y="2087"/>
                </a:lnTo>
                <a:lnTo>
                  <a:pt x="126" y="2096"/>
                </a:lnTo>
                <a:lnTo>
                  <a:pt x="124" y="2106"/>
                </a:lnTo>
                <a:lnTo>
                  <a:pt x="121" y="2116"/>
                </a:lnTo>
                <a:lnTo>
                  <a:pt x="117" y="2123"/>
                </a:lnTo>
                <a:lnTo>
                  <a:pt x="115" y="2129"/>
                </a:lnTo>
                <a:lnTo>
                  <a:pt x="111" y="2135"/>
                </a:lnTo>
                <a:lnTo>
                  <a:pt x="107" y="2141"/>
                </a:lnTo>
                <a:lnTo>
                  <a:pt x="105" y="2144"/>
                </a:lnTo>
                <a:lnTo>
                  <a:pt x="101" y="2148"/>
                </a:lnTo>
                <a:lnTo>
                  <a:pt x="99" y="2150"/>
                </a:lnTo>
                <a:lnTo>
                  <a:pt x="96" y="2150"/>
                </a:lnTo>
                <a:lnTo>
                  <a:pt x="94" y="2152"/>
                </a:lnTo>
                <a:lnTo>
                  <a:pt x="90" y="2150"/>
                </a:lnTo>
                <a:lnTo>
                  <a:pt x="84" y="2148"/>
                </a:lnTo>
                <a:lnTo>
                  <a:pt x="80" y="2144"/>
                </a:lnTo>
                <a:lnTo>
                  <a:pt x="76" y="2139"/>
                </a:lnTo>
                <a:lnTo>
                  <a:pt x="73" y="2131"/>
                </a:lnTo>
                <a:lnTo>
                  <a:pt x="69" y="2121"/>
                </a:lnTo>
                <a:lnTo>
                  <a:pt x="63" y="2110"/>
                </a:lnTo>
                <a:lnTo>
                  <a:pt x="59" y="2098"/>
                </a:lnTo>
                <a:lnTo>
                  <a:pt x="55" y="2083"/>
                </a:lnTo>
                <a:lnTo>
                  <a:pt x="53" y="2068"/>
                </a:lnTo>
                <a:lnTo>
                  <a:pt x="50" y="2050"/>
                </a:lnTo>
                <a:lnTo>
                  <a:pt x="46" y="2031"/>
                </a:lnTo>
                <a:lnTo>
                  <a:pt x="44" y="2010"/>
                </a:lnTo>
                <a:lnTo>
                  <a:pt x="40" y="1987"/>
                </a:lnTo>
                <a:lnTo>
                  <a:pt x="38" y="1964"/>
                </a:lnTo>
                <a:lnTo>
                  <a:pt x="36" y="1937"/>
                </a:lnTo>
                <a:lnTo>
                  <a:pt x="34" y="1922"/>
                </a:lnTo>
                <a:lnTo>
                  <a:pt x="32" y="1906"/>
                </a:lnTo>
                <a:lnTo>
                  <a:pt x="32" y="1891"/>
                </a:lnTo>
                <a:lnTo>
                  <a:pt x="30" y="1874"/>
                </a:lnTo>
                <a:lnTo>
                  <a:pt x="30" y="1856"/>
                </a:lnTo>
                <a:lnTo>
                  <a:pt x="28" y="1837"/>
                </a:lnTo>
                <a:lnTo>
                  <a:pt x="28" y="1818"/>
                </a:lnTo>
                <a:lnTo>
                  <a:pt x="27" y="1799"/>
                </a:lnTo>
                <a:lnTo>
                  <a:pt x="27" y="1778"/>
                </a:lnTo>
                <a:lnTo>
                  <a:pt x="25" y="1757"/>
                </a:lnTo>
                <a:lnTo>
                  <a:pt x="25" y="1736"/>
                </a:lnTo>
                <a:lnTo>
                  <a:pt x="23" y="1712"/>
                </a:lnTo>
                <a:lnTo>
                  <a:pt x="23" y="1689"/>
                </a:lnTo>
                <a:lnTo>
                  <a:pt x="23" y="1666"/>
                </a:lnTo>
                <a:lnTo>
                  <a:pt x="21" y="1641"/>
                </a:lnTo>
                <a:lnTo>
                  <a:pt x="21" y="1616"/>
                </a:lnTo>
                <a:lnTo>
                  <a:pt x="21" y="1590"/>
                </a:lnTo>
                <a:lnTo>
                  <a:pt x="21" y="1563"/>
                </a:lnTo>
                <a:lnTo>
                  <a:pt x="19" y="1536"/>
                </a:lnTo>
                <a:lnTo>
                  <a:pt x="19" y="1507"/>
                </a:lnTo>
                <a:lnTo>
                  <a:pt x="19" y="1480"/>
                </a:lnTo>
                <a:lnTo>
                  <a:pt x="19" y="1450"/>
                </a:lnTo>
                <a:lnTo>
                  <a:pt x="19" y="1419"/>
                </a:lnTo>
                <a:lnTo>
                  <a:pt x="19" y="1388"/>
                </a:lnTo>
                <a:lnTo>
                  <a:pt x="19" y="1357"/>
                </a:lnTo>
                <a:lnTo>
                  <a:pt x="19" y="1325"/>
                </a:lnTo>
                <a:lnTo>
                  <a:pt x="21" y="1292"/>
                </a:lnTo>
                <a:lnTo>
                  <a:pt x="21" y="1258"/>
                </a:lnTo>
                <a:lnTo>
                  <a:pt x="21" y="1225"/>
                </a:lnTo>
                <a:lnTo>
                  <a:pt x="23" y="1188"/>
                </a:lnTo>
                <a:lnTo>
                  <a:pt x="23" y="1154"/>
                </a:lnTo>
                <a:lnTo>
                  <a:pt x="25" y="1117"/>
                </a:lnTo>
                <a:lnTo>
                  <a:pt x="27" y="1044"/>
                </a:lnTo>
                <a:lnTo>
                  <a:pt x="27" y="972"/>
                </a:lnTo>
                <a:lnTo>
                  <a:pt x="28" y="901"/>
                </a:lnTo>
                <a:lnTo>
                  <a:pt x="28" y="829"/>
                </a:lnTo>
                <a:lnTo>
                  <a:pt x="28" y="758"/>
                </a:lnTo>
                <a:lnTo>
                  <a:pt x="27" y="689"/>
                </a:lnTo>
                <a:lnTo>
                  <a:pt x="27" y="622"/>
                </a:lnTo>
                <a:lnTo>
                  <a:pt x="25" y="553"/>
                </a:lnTo>
                <a:lnTo>
                  <a:pt x="23" y="486"/>
                </a:lnTo>
                <a:lnTo>
                  <a:pt x="21" y="421"/>
                </a:lnTo>
                <a:lnTo>
                  <a:pt x="19" y="353"/>
                </a:lnTo>
                <a:lnTo>
                  <a:pt x="15" y="290"/>
                </a:lnTo>
                <a:lnTo>
                  <a:pt x="11" y="225"/>
                </a:lnTo>
                <a:lnTo>
                  <a:pt x="7" y="161"/>
                </a:lnTo>
                <a:lnTo>
                  <a:pt x="3" y="98"/>
                </a:lnTo>
                <a:lnTo>
                  <a:pt x="0" y="35"/>
                </a:lnTo>
                <a:lnTo>
                  <a:pt x="82" y="18"/>
                </a:lnTo>
                <a:lnTo>
                  <a:pt x="165" y="0"/>
                </a:lnTo>
                <a:lnTo>
                  <a:pt x="165" y="117"/>
                </a:lnTo>
                <a:lnTo>
                  <a:pt x="167" y="231"/>
                </a:lnTo>
                <a:lnTo>
                  <a:pt x="167" y="342"/>
                </a:lnTo>
                <a:lnTo>
                  <a:pt x="167" y="449"/>
                </a:lnTo>
                <a:lnTo>
                  <a:pt x="167" y="551"/>
                </a:lnTo>
                <a:lnTo>
                  <a:pt x="169" y="653"/>
                </a:lnTo>
                <a:lnTo>
                  <a:pt x="169" y="749"/>
                </a:lnTo>
                <a:lnTo>
                  <a:pt x="169" y="843"/>
                </a:lnTo>
                <a:lnTo>
                  <a:pt x="169" y="931"/>
                </a:lnTo>
                <a:lnTo>
                  <a:pt x="169" y="1018"/>
                </a:lnTo>
                <a:lnTo>
                  <a:pt x="169" y="1100"/>
                </a:lnTo>
                <a:lnTo>
                  <a:pt x="167" y="1179"/>
                </a:lnTo>
                <a:lnTo>
                  <a:pt x="167" y="1256"/>
                </a:lnTo>
                <a:lnTo>
                  <a:pt x="167" y="1329"/>
                </a:lnTo>
                <a:lnTo>
                  <a:pt x="167" y="1396"/>
                </a:lnTo>
                <a:lnTo>
                  <a:pt x="165" y="1461"/>
                </a:lnTo>
                <a:lnTo>
                  <a:pt x="165" y="1524"/>
                </a:lnTo>
                <a:lnTo>
                  <a:pt x="163" y="1582"/>
                </a:lnTo>
                <a:lnTo>
                  <a:pt x="163" y="1636"/>
                </a:lnTo>
                <a:lnTo>
                  <a:pt x="161" y="1688"/>
                </a:lnTo>
                <a:lnTo>
                  <a:pt x="159" y="1736"/>
                </a:lnTo>
                <a:lnTo>
                  <a:pt x="159" y="1780"/>
                </a:lnTo>
                <a:lnTo>
                  <a:pt x="157" y="1822"/>
                </a:lnTo>
                <a:lnTo>
                  <a:pt x="155" y="1858"/>
                </a:lnTo>
                <a:lnTo>
                  <a:pt x="153" y="1893"/>
                </a:lnTo>
                <a:lnTo>
                  <a:pt x="151" y="1924"/>
                </a:lnTo>
                <a:lnTo>
                  <a:pt x="149" y="1950"/>
                </a:lnTo>
                <a:lnTo>
                  <a:pt x="147" y="1974"/>
                </a:lnTo>
                <a:lnTo>
                  <a:pt x="146" y="1993"/>
                </a:lnTo>
                <a:lnTo>
                  <a:pt x="144" y="2010"/>
                </a:lnTo>
                <a:lnTo>
                  <a:pt x="142" y="2023"/>
                </a:lnTo>
                <a:lnTo>
                  <a:pt x="140" y="203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Freeform 182"/>
          <p:cNvSpPr/>
          <p:nvPr/>
        </p:nvSpPr>
        <p:spPr>
          <a:xfrm>
            <a:off x="6265800" y="4076640"/>
            <a:ext cx="1533600" cy="282600"/>
          </a:xfrm>
          <a:custGeom>
            <a:avLst/>
            <a:gdLst/>
            <a:ahLst/>
            <a:rect l="l" t="t" r="r" b="b"/>
            <a:pathLst>
              <a:path w="1931" h="357">
                <a:moveTo>
                  <a:pt x="71" y="320"/>
                </a:moveTo>
                <a:lnTo>
                  <a:pt x="61" y="317"/>
                </a:lnTo>
                <a:lnTo>
                  <a:pt x="54" y="313"/>
                </a:lnTo>
                <a:lnTo>
                  <a:pt x="46" y="307"/>
                </a:lnTo>
                <a:lnTo>
                  <a:pt x="40" y="303"/>
                </a:lnTo>
                <a:lnTo>
                  <a:pt x="35" y="299"/>
                </a:lnTo>
                <a:lnTo>
                  <a:pt x="29" y="296"/>
                </a:lnTo>
                <a:lnTo>
                  <a:pt x="23" y="290"/>
                </a:lnTo>
                <a:lnTo>
                  <a:pt x="17" y="286"/>
                </a:lnTo>
                <a:lnTo>
                  <a:pt x="13" y="282"/>
                </a:lnTo>
                <a:lnTo>
                  <a:pt x="10" y="280"/>
                </a:lnTo>
                <a:lnTo>
                  <a:pt x="8" y="276"/>
                </a:lnTo>
                <a:lnTo>
                  <a:pt x="6" y="272"/>
                </a:lnTo>
                <a:lnTo>
                  <a:pt x="4" y="269"/>
                </a:lnTo>
                <a:lnTo>
                  <a:pt x="2" y="267"/>
                </a:lnTo>
                <a:lnTo>
                  <a:pt x="0" y="265"/>
                </a:lnTo>
                <a:lnTo>
                  <a:pt x="0" y="261"/>
                </a:lnTo>
                <a:lnTo>
                  <a:pt x="2" y="259"/>
                </a:lnTo>
                <a:lnTo>
                  <a:pt x="4" y="259"/>
                </a:lnTo>
                <a:lnTo>
                  <a:pt x="6" y="257"/>
                </a:lnTo>
                <a:lnTo>
                  <a:pt x="8" y="255"/>
                </a:lnTo>
                <a:lnTo>
                  <a:pt x="12" y="255"/>
                </a:lnTo>
                <a:lnTo>
                  <a:pt x="15" y="253"/>
                </a:lnTo>
                <a:lnTo>
                  <a:pt x="21" y="251"/>
                </a:lnTo>
                <a:lnTo>
                  <a:pt x="25" y="251"/>
                </a:lnTo>
                <a:lnTo>
                  <a:pt x="31" y="249"/>
                </a:lnTo>
                <a:lnTo>
                  <a:pt x="38" y="248"/>
                </a:lnTo>
                <a:lnTo>
                  <a:pt x="44" y="248"/>
                </a:lnTo>
                <a:lnTo>
                  <a:pt x="52" y="246"/>
                </a:lnTo>
                <a:lnTo>
                  <a:pt x="61" y="244"/>
                </a:lnTo>
                <a:lnTo>
                  <a:pt x="69" y="242"/>
                </a:lnTo>
                <a:lnTo>
                  <a:pt x="79" y="242"/>
                </a:lnTo>
                <a:lnTo>
                  <a:pt x="90" y="240"/>
                </a:lnTo>
                <a:lnTo>
                  <a:pt x="100" y="238"/>
                </a:lnTo>
                <a:lnTo>
                  <a:pt x="111" y="236"/>
                </a:lnTo>
                <a:lnTo>
                  <a:pt x="125" y="234"/>
                </a:lnTo>
                <a:lnTo>
                  <a:pt x="136" y="232"/>
                </a:lnTo>
                <a:lnTo>
                  <a:pt x="150" y="230"/>
                </a:lnTo>
                <a:lnTo>
                  <a:pt x="163" y="226"/>
                </a:lnTo>
                <a:lnTo>
                  <a:pt x="179" y="225"/>
                </a:lnTo>
                <a:lnTo>
                  <a:pt x="194" y="223"/>
                </a:lnTo>
                <a:lnTo>
                  <a:pt x="209" y="221"/>
                </a:lnTo>
                <a:lnTo>
                  <a:pt x="225" y="217"/>
                </a:lnTo>
                <a:lnTo>
                  <a:pt x="242" y="215"/>
                </a:lnTo>
                <a:lnTo>
                  <a:pt x="259" y="211"/>
                </a:lnTo>
                <a:lnTo>
                  <a:pt x="278" y="209"/>
                </a:lnTo>
                <a:lnTo>
                  <a:pt x="298" y="205"/>
                </a:lnTo>
                <a:lnTo>
                  <a:pt x="317" y="201"/>
                </a:lnTo>
                <a:lnTo>
                  <a:pt x="355" y="196"/>
                </a:lnTo>
                <a:lnTo>
                  <a:pt x="394" y="188"/>
                </a:lnTo>
                <a:lnTo>
                  <a:pt x="434" y="182"/>
                </a:lnTo>
                <a:lnTo>
                  <a:pt x="476" y="175"/>
                </a:lnTo>
                <a:lnTo>
                  <a:pt x="520" y="169"/>
                </a:lnTo>
                <a:lnTo>
                  <a:pt x="564" y="161"/>
                </a:lnTo>
                <a:lnTo>
                  <a:pt x="610" y="153"/>
                </a:lnTo>
                <a:lnTo>
                  <a:pt x="657" y="146"/>
                </a:lnTo>
                <a:lnTo>
                  <a:pt x="705" y="138"/>
                </a:lnTo>
                <a:lnTo>
                  <a:pt x="754" y="130"/>
                </a:lnTo>
                <a:lnTo>
                  <a:pt x="806" y="121"/>
                </a:lnTo>
                <a:lnTo>
                  <a:pt x="858" y="113"/>
                </a:lnTo>
                <a:lnTo>
                  <a:pt x="910" y="104"/>
                </a:lnTo>
                <a:lnTo>
                  <a:pt x="966" y="92"/>
                </a:lnTo>
                <a:lnTo>
                  <a:pt x="1019" y="82"/>
                </a:lnTo>
                <a:lnTo>
                  <a:pt x="1077" y="71"/>
                </a:lnTo>
                <a:lnTo>
                  <a:pt x="1104" y="67"/>
                </a:lnTo>
                <a:lnTo>
                  <a:pt x="1133" y="63"/>
                </a:lnTo>
                <a:lnTo>
                  <a:pt x="1159" y="59"/>
                </a:lnTo>
                <a:lnTo>
                  <a:pt x="1184" y="54"/>
                </a:lnTo>
                <a:lnTo>
                  <a:pt x="1211" y="50"/>
                </a:lnTo>
                <a:lnTo>
                  <a:pt x="1234" y="46"/>
                </a:lnTo>
                <a:lnTo>
                  <a:pt x="1259" y="44"/>
                </a:lnTo>
                <a:lnTo>
                  <a:pt x="1282" y="40"/>
                </a:lnTo>
                <a:lnTo>
                  <a:pt x="1305" y="36"/>
                </a:lnTo>
                <a:lnTo>
                  <a:pt x="1326" y="33"/>
                </a:lnTo>
                <a:lnTo>
                  <a:pt x="1349" y="31"/>
                </a:lnTo>
                <a:lnTo>
                  <a:pt x="1369" y="27"/>
                </a:lnTo>
                <a:lnTo>
                  <a:pt x="1390" y="25"/>
                </a:lnTo>
                <a:lnTo>
                  <a:pt x="1409" y="23"/>
                </a:lnTo>
                <a:lnTo>
                  <a:pt x="1426" y="19"/>
                </a:lnTo>
                <a:lnTo>
                  <a:pt x="1445" y="17"/>
                </a:lnTo>
                <a:lnTo>
                  <a:pt x="1463" y="15"/>
                </a:lnTo>
                <a:lnTo>
                  <a:pt x="1478" y="13"/>
                </a:lnTo>
                <a:lnTo>
                  <a:pt x="1495" y="11"/>
                </a:lnTo>
                <a:lnTo>
                  <a:pt x="1509" y="10"/>
                </a:lnTo>
                <a:lnTo>
                  <a:pt x="1524" y="8"/>
                </a:lnTo>
                <a:lnTo>
                  <a:pt x="1538" y="8"/>
                </a:lnTo>
                <a:lnTo>
                  <a:pt x="1551" y="6"/>
                </a:lnTo>
                <a:lnTo>
                  <a:pt x="1563" y="4"/>
                </a:lnTo>
                <a:lnTo>
                  <a:pt x="1576" y="4"/>
                </a:lnTo>
                <a:lnTo>
                  <a:pt x="1586" y="2"/>
                </a:lnTo>
                <a:lnTo>
                  <a:pt x="1597" y="2"/>
                </a:lnTo>
                <a:lnTo>
                  <a:pt x="1607" y="2"/>
                </a:lnTo>
                <a:lnTo>
                  <a:pt x="1614" y="0"/>
                </a:lnTo>
                <a:lnTo>
                  <a:pt x="1624" y="0"/>
                </a:lnTo>
                <a:lnTo>
                  <a:pt x="1632" y="0"/>
                </a:lnTo>
                <a:lnTo>
                  <a:pt x="1637" y="0"/>
                </a:lnTo>
                <a:lnTo>
                  <a:pt x="1664" y="0"/>
                </a:lnTo>
                <a:lnTo>
                  <a:pt x="1691" y="2"/>
                </a:lnTo>
                <a:lnTo>
                  <a:pt x="1716" y="6"/>
                </a:lnTo>
                <a:lnTo>
                  <a:pt x="1743" y="10"/>
                </a:lnTo>
                <a:lnTo>
                  <a:pt x="1768" y="17"/>
                </a:lnTo>
                <a:lnTo>
                  <a:pt x="1779" y="21"/>
                </a:lnTo>
                <a:lnTo>
                  <a:pt x="1791" y="25"/>
                </a:lnTo>
                <a:lnTo>
                  <a:pt x="1802" y="31"/>
                </a:lnTo>
                <a:lnTo>
                  <a:pt x="1814" y="34"/>
                </a:lnTo>
                <a:lnTo>
                  <a:pt x="1825" y="40"/>
                </a:lnTo>
                <a:lnTo>
                  <a:pt x="1837" y="48"/>
                </a:lnTo>
                <a:lnTo>
                  <a:pt x="1849" y="54"/>
                </a:lnTo>
                <a:lnTo>
                  <a:pt x="1858" y="61"/>
                </a:lnTo>
                <a:lnTo>
                  <a:pt x="1868" y="67"/>
                </a:lnTo>
                <a:lnTo>
                  <a:pt x="1875" y="73"/>
                </a:lnTo>
                <a:lnTo>
                  <a:pt x="1885" y="79"/>
                </a:lnTo>
                <a:lnTo>
                  <a:pt x="1893" y="82"/>
                </a:lnTo>
                <a:lnTo>
                  <a:pt x="1898" y="88"/>
                </a:lnTo>
                <a:lnTo>
                  <a:pt x="1906" y="92"/>
                </a:lnTo>
                <a:lnTo>
                  <a:pt x="1912" y="96"/>
                </a:lnTo>
                <a:lnTo>
                  <a:pt x="1916" y="100"/>
                </a:lnTo>
                <a:lnTo>
                  <a:pt x="1921" y="104"/>
                </a:lnTo>
                <a:lnTo>
                  <a:pt x="1923" y="107"/>
                </a:lnTo>
                <a:lnTo>
                  <a:pt x="1927" y="111"/>
                </a:lnTo>
                <a:lnTo>
                  <a:pt x="1929" y="113"/>
                </a:lnTo>
                <a:lnTo>
                  <a:pt x="1931" y="117"/>
                </a:lnTo>
                <a:lnTo>
                  <a:pt x="1931" y="119"/>
                </a:lnTo>
                <a:lnTo>
                  <a:pt x="1929" y="127"/>
                </a:lnTo>
                <a:lnTo>
                  <a:pt x="1929" y="134"/>
                </a:lnTo>
                <a:lnTo>
                  <a:pt x="1925" y="142"/>
                </a:lnTo>
                <a:lnTo>
                  <a:pt x="1920" y="148"/>
                </a:lnTo>
                <a:lnTo>
                  <a:pt x="1914" y="152"/>
                </a:lnTo>
                <a:lnTo>
                  <a:pt x="1906" y="157"/>
                </a:lnTo>
                <a:lnTo>
                  <a:pt x="1900" y="159"/>
                </a:lnTo>
                <a:lnTo>
                  <a:pt x="1896" y="161"/>
                </a:lnTo>
                <a:lnTo>
                  <a:pt x="1891" y="165"/>
                </a:lnTo>
                <a:lnTo>
                  <a:pt x="1883" y="167"/>
                </a:lnTo>
                <a:lnTo>
                  <a:pt x="1870" y="171"/>
                </a:lnTo>
                <a:lnTo>
                  <a:pt x="1854" y="173"/>
                </a:lnTo>
                <a:lnTo>
                  <a:pt x="1847" y="175"/>
                </a:lnTo>
                <a:lnTo>
                  <a:pt x="1839" y="175"/>
                </a:lnTo>
                <a:lnTo>
                  <a:pt x="1829" y="175"/>
                </a:lnTo>
                <a:lnTo>
                  <a:pt x="1820" y="175"/>
                </a:lnTo>
                <a:lnTo>
                  <a:pt x="1810" y="175"/>
                </a:lnTo>
                <a:lnTo>
                  <a:pt x="1799" y="175"/>
                </a:lnTo>
                <a:lnTo>
                  <a:pt x="1787" y="175"/>
                </a:lnTo>
                <a:lnTo>
                  <a:pt x="1776" y="173"/>
                </a:lnTo>
                <a:lnTo>
                  <a:pt x="1762" y="173"/>
                </a:lnTo>
                <a:lnTo>
                  <a:pt x="1749" y="171"/>
                </a:lnTo>
                <a:lnTo>
                  <a:pt x="1735" y="169"/>
                </a:lnTo>
                <a:lnTo>
                  <a:pt x="1720" y="167"/>
                </a:lnTo>
                <a:lnTo>
                  <a:pt x="1705" y="165"/>
                </a:lnTo>
                <a:lnTo>
                  <a:pt x="1687" y="163"/>
                </a:lnTo>
                <a:lnTo>
                  <a:pt x="1670" y="161"/>
                </a:lnTo>
                <a:lnTo>
                  <a:pt x="1653" y="159"/>
                </a:lnTo>
                <a:lnTo>
                  <a:pt x="1634" y="159"/>
                </a:lnTo>
                <a:lnTo>
                  <a:pt x="1614" y="157"/>
                </a:lnTo>
                <a:lnTo>
                  <a:pt x="1593" y="157"/>
                </a:lnTo>
                <a:lnTo>
                  <a:pt x="1572" y="157"/>
                </a:lnTo>
                <a:lnTo>
                  <a:pt x="1551" y="157"/>
                </a:lnTo>
                <a:lnTo>
                  <a:pt x="1528" y="157"/>
                </a:lnTo>
                <a:lnTo>
                  <a:pt x="1505" y="159"/>
                </a:lnTo>
                <a:lnTo>
                  <a:pt x="1482" y="159"/>
                </a:lnTo>
                <a:lnTo>
                  <a:pt x="1457" y="161"/>
                </a:lnTo>
                <a:lnTo>
                  <a:pt x="1432" y="163"/>
                </a:lnTo>
                <a:lnTo>
                  <a:pt x="1407" y="165"/>
                </a:lnTo>
                <a:lnTo>
                  <a:pt x="1380" y="167"/>
                </a:lnTo>
                <a:lnTo>
                  <a:pt x="1351" y="169"/>
                </a:lnTo>
                <a:lnTo>
                  <a:pt x="1323" y="171"/>
                </a:lnTo>
                <a:lnTo>
                  <a:pt x="1292" y="175"/>
                </a:lnTo>
                <a:lnTo>
                  <a:pt x="1261" y="178"/>
                </a:lnTo>
                <a:lnTo>
                  <a:pt x="1230" y="180"/>
                </a:lnTo>
                <a:lnTo>
                  <a:pt x="1200" y="184"/>
                </a:lnTo>
                <a:lnTo>
                  <a:pt x="1167" y="188"/>
                </a:lnTo>
                <a:lnTo>
                  <a:pt x="1133" y="194"/>
                </a:lnTo>
                <a:lnTo>
                  <a:pt x="1100" y="198"/>
                </a:lnTo>
                <a:lnTo>
                  <a:pt x="1065" y="203"/>
                </a:lnTo>
                <a:lnTo>
                  <a:pt x="1031" y="207"/>
                </a:lnTo>
                <a:lnTo>
                  <a:pt x="994" y="213"/>
                </a:lnTo>
                <a:lnTo>
                  <a:pt x="958" y="219"/>
                </a:lnTo>
                <a:lnTo>
                  <a:pt x="919" y="225"/>
                </a:lnTo>
                <a:lnTo>
                  <a:pt x="881" y="232"/>
                </a:lnTo>
                <a:lnTo>
                  <a:pt x="843" y="238"/>
                </a:lnTo>
                <a:lnTo>
                  <a:pt x="804" y="244"/>
                </a:lnTo>
                <a:lnTo>
                  <a:pt x="766" y="251"/>
                </a:lnTo>
                <a:lnTo>
                  <a:pt x="729" y="257"/>
                </a:lnTo>
                <a:lnTo>
                  <a:pt x="693" y="263"/>
                </a:lnTo>
                <a:lnTo>
                  <a:pt x="658" y="269"/>
                </a:lnTo>
                <a:lnTo>
                  <a:pt x="626" y="274"/>
                </a:lnTo>
                <a:lnTo>
                  <a:pt x="595" y="278"/>
                </a:lnTo>
                <a:lnTo>
                  <a:pt x="562" y="284"/>
                </a:lnTo>
                <a:lnTo>
                  <a:pt x="534" y="290"/>
                </a:lnTo>
                <a:lnTo>
                  <a:pt x="505" y="294"/>
                </a:lnTo>
                <a:lnTo>
                  <a:pt x="478" y="297"/>
                </a:lnTo>
                <a:lnTo>
                  <a:pt x="453" y="303"/>
                </a:lnTo>
                <a:lnTo>
                  <a:pt x="428" y="307"/>
                </a:lnTo>
                <a:lnTo>
                  <a:pt x="405" y="313"/>
                </a:lnTo>
                <a:lnTo>
                  <a:pt x="384" y="317"/>
                </a:lnTo>
                <a:lnTo>
                  <a:pt x="363" y="320"/>
                </a:lnTo>
                <a:lnTo>
                  <a:pt x="342" y="326"/>
                </a:lnTo>
                <a:lnTo>
                  <a:pt x="321" y="330"/>
                </a:lnTo>
                <a:lnTo>
                  <a:pt x="301" y="334"/>
                </a:lnTo>
                <a:lnTo>
                  <a:pt x="284" y="338"/>
                </a:lnTo>
                <a:lnTo>
                  <a:pt x="267" y="340"/>
                </a:lnTo>
                <a:lnTo>
                  <a:pt x="252" y="344"/>
                </a:lnTo>
                <a:lnTo>
                  <a:pt x="238" y="345"/>
                </a:lnTo>
                <a:lnTo>
                  <a:pt x="225" y="347"/>
                </a:lnTo>
                <a:lnTo>
                  <a:pt x="213" y="349"/>
                </a:lnTo>
                <a:lnTo>
                  <a:pt x="202" y="351"/>
                </a:lnTo>
                <a:lnTo>
                  <a:pt x="192" y="353"/>
                </a:lnTo>
                <a:lnTo>
                  <a:pt x="184" y="355"/>
                </a:lnTo>
                <a:lnTo>
                  <a:pt x="177" y="355"/>
                </a:lnTo>
                <a:lnTo>
                  <a:pt x="171" y="355"/>
                </a:lnTo>
                <a:lnTo>
                  <a:pt x="167" y="357"/>
                </a:lnTo>
                <a:lnTo>
                  <a:pt x="165" y="357"/>
                </a:lnTo>
                <a:lnTo>
                  <a:pt x="161" y="357"/>
                </a:lnTo>
                <a:lnTo>
                  <a:pt x="159" y="355"/>
                </a:lnTo>
                <a:lnTo>
                  <a:pt x="156" y="355"/>
                </a:lnTo>
                <a:lnTo>
                  <a:pt x="152" y="355"/>
                </a:lnTo>
                <a:lnTo>
                  <a:pt x="146" y="353"/>
                </a:lnTo>
                <a:lnTo>
                  <a:pt x="142" y="351"/>
                </a:lnTo>
                <a:lnTo>
                  <a:pt x="131" y="347"/>
                </a:lnTo>
                <a:lnTo>
                  <a:pt x="117" y="344"/>
                </a:lnTo>
                <a:lnTo>
                  <a:pt x="104" y="336"/>
                </a:lnTo>
                <a:lnTo>
                  <a:pt x="88" y="330"/>
                </a:lnTo>
                <a:lnTo>
                  <a:pt x="71" y="32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Freeform 183"/>
          <p:cNvSpPr/>
          <p:nvPr/>
        </p:nvSpPr>
        <p:spPr>
          <a:xfrm>
            <a:off x="6535800" y="3252960"/>
            <a:ext cx="993600" cy="720720"/>
          </a:xfrm>
          <a:custGeom>
            <a:avLst/>
            <a:gdLst/>
            <a:ahLst/>
            <a:rect l="l" t="t" r="r" b="b"/>
            <a:pathLst>
              <a:path w="1251" h="908">
                <a:moveTo>
                  <a:pt x="0" y="219"/>
                </a:moveTo>
                <a:lnTo>
                  <a:pt x="7" y="217"/>
                </a:lnTo>
                <a:lnTo>
                  <a:pt x="15" y="217"/>
                </a:lnTo>
                <a:lnTo>
                  <a:pt x="23" y="217"/>
                </a:lnTo>
                <a:lnTo>
                  <a:pt x="32" y="215"/>
                </a:lnTo>
                <a:lnTo>
                  <a:pt x="42" y="215"/>
                </a:lnTo>
                <a:lnTo>
                  <a:pt x="54" y="214"/>
                </a:lnTo>
                <a:lnTo>
                  <a:pt x="65" y="212"/>
                </a:lnTo>
                <a:lnTo>
                  <a:pt x="77" y="210"/>
                </a:lnTo>
                <a:lnTo>
                  <a:pt x="90" y="208"/>
                </a:lnTo>
                <a:lnTo>
                  <a:pt x="103" y="204"/>
                </a:lnTo>
                <a:lnTo>
                  <a:pt x="119" y="202"/>
                </a:lnTo>
                <a:lnTo>
                  <a:pt x="132" y="198"/>
                </a:lnTo>
                <a:lnTo>
                  <a:pt x="148" y="194"/>
                </a:lnTo>
                <a:lnTo>
                  <a:pt x="165" y="190"/>
                </a:lnTo>
                <a:lnTo>
                  <a:pt x="182" y="187"/>
                </a:lnTo>
                <a:lnTo>
                  <a:pt x="199" y="183"/>
                </a:lnTo>
                <a:lnTo>
                  <a:pt x="217" y="181"/>
                </a:lnTo>
                <a:lnTo>
                  <a:pt x="236" y="177"/>
                </a:lnTo>
                <a:lnTo>
                  <a:pt x="255" y="173"/>
                </a:lnTo>
                <a:lnTo>
                  <a:pt x="278" y="169"/>
                </a:lnTo>
                <a:lnTo>
                  <a:pt x="299" y="166"/>
                </a:lnTo>
                <a:lnTo>
                  <a:pt x="322" y="162"/>
                </a:lnTo>
                <a:lnTo>
                  <a:pt x="347" y="156"/>
                </a:lnTo>
                <a:lnTo>
                  <a:pt x="372" y="150"/>
                </a:lnTo>
                <a:lnTo>
                  <a:pt x="399" y="144"/>
                </a:lnTo>
                <a:lnTo>
                  <a:pt x="426" y="139"/>
                </a:lnTo>
                <a:lnTo>
                  <a:pt x="455" y="133"/>
                </a:lnTo>
                <a:lnTo>
                  <a:pt x="484" y="127"/>
                </a:lnTo>
                <a:lnTo>
                  <a:pt x="512" y="119"/>
                </a:lnTo>
                <a:lnTo>
                  <a:pt x="543" y="114"/>
                </a:lnTo>
                <a:lnTo>
                  <a:pt x="576" y="106"/>
                </a:lnTo>
                <a:lnTo>
                  <a:pt x="608" y="100"/>
                </a:lnTo>
                <a:lnTo>
                  <a:pt x="639" y="93"/>
                </a:lnTo>
                <a:lnTo>
                  <a:pt x="670" y="87"/>
                </a:lnTo>
                <a:lnTo>
                  <a:pt x="698" y="79"/>
                </a:lnTo>
                <a:lnTo>
                  <a:pt x="727" y="73"/>
                </a:lnTo>
                <a:lnTo>
                  <a:pt x="752" y="68"/>
                </a:lnTo>
                <a:lnTo>
                  <a:pt x="775" y="60"/>
                </a:lnTo>
                <a:lnTo>
                  <a:pt x="798" y="54"/>
                </a:lnTo>
                <a:lnTo>
                  <a:pt x="817" y="48"/>
                </a:lnTo>
                <a:lnTo>
                  <a:pt x="837" y="45"/>
                </a:lnTo>
                <a:lnTo>
                  <a:pt x="854" y="39"/>
                </a:lnTo>
                <a:lnTo>
                  <a:pt x="869" y="33"/>
                </a:lnTo>
                <a:lnTo>
                  <a:pt x="885" y="29"/>
                </a:lnTo>
                <a:lnTo>
                  <a:pt x="896" y="25"/>
                </a:lnTo>
                <a:lnTo>
                  <a:pt x="908" y="22"/>
                </a:lnTo>
                <a:lnTo>
                  <a:pt x="915" y="20"/>
                </a:lnTo>
                <a:lnTo>
                  <a:pt x="923" y="16"/>
                </a:lnTo>
                <a:lnTo>
                  <a:pt x="937" y="12"/>
                </a:lnTo>
                <a:lnTo>
                  <a:pt x="950" y="8"/>
                </a:lnTo>
                <a:lnTo>
                  <a:pt x="963" y="4"/>
                </a:lnTo>
                <a:lnTo>
                  <a:pt x="977" y="0"/>
                </a:lnTo>
                <a:lnTo>
                  <a:pt x="990" y="0"/>
                </a:lnTo>
                <a:lnTo>
                  <a:pt x="1004" y="0"/>
                </a:lnTo>
                <a:lnTo>
                  <a:pt x="1009" y="0"/>
                </a:lnTo>
                <a:lnTo>
                  <a:pt x="1015" y="0"/>
                </a:lnTo>
                <a:lnTo>
                  <a:pt x="1023" y="2"/>
                </a:lnTo>
                <a:lnTo>
                  <a:pt x="1029" y="4"/>
                </a:lnTo>
                <a:lnTo>
                  <a:pt x="1042" y="10"/>
                </a:lnTo>
                <a:lnTo>
                  <a:pt x="1057" y="16"/>
                </a:lnTo>
                <a:lnTo>
                  <a:pt x="1073" y="23"/>
                </a:lnTo>
                <a:lnTo>
                  <a:pt x="1090" y="33"/>
                </a:lnTo>
                <a:lnTo>
                  <a:pt x="1109" y="43"/>
                </a:lnTo>
                <a:lnTo>
                  <a:pt x="1119" y="50"/>
                </a:lnTo>
                <a:lnTo>
                  <a:pt x="1128" y="56"/>
                </a:lnTo>
                <a:lnTo>
                  <a:pt x="1138" y="64"/>
                </a:lnTo>
                <a:lnTo>
                  <a:pt x="1148" y="71"/>
                </a:lnTo>
                <a:lnTo>
                  <a:pt x="1159" y="79"/>
                </a:lnTo>
                <a:lnTo>
                  <a:pt x="1169" y="89"/>
                </a:lnTo>
                <a:lnTo>
                  <a:pt x="1180" y="98"/>
                </a:lnTo>
                <a:lnTo>
                  <a:pt x="1190" y="110"/>
                </a:lnTo>
                <a:lnTo>
                  <a:pt x="1198" y="119"/>
                </a:lnTo>
                <a:lnTo>
                  <a:pt x="1207" y="129"/>
                </a:lnTo>
                <a:lnTo>
                  <a:pt x="1215" y="137"/>
                </a:lnTo>
                <a:lnTo>
                  <a:pt x="1221" y="146"/>
                </a:lnTo>
                <a:lnTo>
                  <a:pt x="1226" y="154"/>
                </a:lnTo>
                <a:lnTo>
                  <a:pt x="1232" y="162"/>
                </a:lnTo>
                <a:lnTo>
                  <a:pt x="1236" y="167"/>
                </a:lnTo>
                <a:lnTo>
                  <a:pt x="1240" y="175"/>
                </a:lnTo>
                <a:lnTo>
                  <a:pt x="1244" y="181"/>
                </a:lnTo>
                <a:lnTo>
                  <a:pt x="1247" y="187"/>
                </a:lnTo>
                <a:lnTo>
                  <a:pt x="1249" y="192"/>
                </a:lnTo>
                <a:lnTo>
                  <a:pt x="1249" y="198"/>
                </a:lnTo>
                <a:lnTo>
                  <a:pt x="1251" y="202"/>
                </a:lnTo>
                <a:lnTo>
                  <a:pt x="1251" y="208"/>
                </a:lnTo>
                <a:lnTo>
                  <a:pt x="1251" y="215"/>
                </a:lnTo>
                <a:lnTo>
                  <a:pt x="1249" y="225"/>
                </a:lnTo>
                <a:lnTo>
                  <a:pt x="1246" y="233"/>
                </a:lnTo>
                <a:lnTo>
                  <a:pt x="1242" y="240"/>
                </a:lnTo>
                <a:lnTo>
                  <a:pt x="1234" y="248"/>
                </a:lnTo>
                <a:lnTo>
                  <a:pt x="1226" y="256"/>
                </a:lnTo>
                <a:lnTo>
                  <a:pt x="1223" y="258"/>
                </a:lnTo>
                <a:lnTo>
                  <a:pt x="1217" y="262"/>
                </a:lnTo>
                <a:lnTo>
                  <a:pt x="1211" y="263"/>
                </a:lnTo>
                <a:lnTo>
                  <a:pt x="1205" y="267"/>
                </a:lnTo>
                <a:lnTo>
                  <a:pt x="1201" y="269"/>
                </a:lnTo>
                <a:lnTo>
                  <a:pt x="1198" y="271"/>
                </a:lnTo>
                <a:lnTo>
                  <a:pt x="1194" y="275"/>
                </a:lnTo>
                <a:lnTo>
                  <a:pt x="1190" y="279"/>
                </a:lnTo>
                <a:lnTo>
                  <a:pt x="1186" y="285"/>
                </a:lnTo>
                <a:lnTo>
                  <a:pt x="1182" y="288"/>
                </a:lnTo>
                <a:lnTo>
                  <a:pt x="1178" y="294"/>
                </a:lnTo>
                <a:lnTo>
                  <a:pt x="1175" y="300"/>
                </a:lnTo>
                <a:lnTo>
                  <a:pt x="1171" y="306"/>
                </a:lnTo>
                <a:lnTo>
                  <a:pt x="1165" y="313"/>
                </a:lnTo>
                <a:lnTo>
                  <a:pt x="1161" y="321"/>
                </a:lnTo>
                <a:lnTo>
                  <a:pt x="1155" y="329"/>
                </a:lnTo>
                <a:lnTo>
                  <a:pt x="1151" y="336"/>
                </a:lnTo>
                <a:lnTo>
                  <a:pt x="1148" y="346"/>
                </a:lnTo>
                <a:lnTo>
                  <a:pt x="1142" y="356"/>
                </a:lnTo>
                <a:lnTo>
                  <a:pt x="1136" y="365"/>
                </a:lnTo>
                <a:lnTo>
                  <a:pt x="1132" y="377"/>
                </a:lnTo>
                <a:lnTo>
                  <a:pt x="1127" y="388"/>
                </a:lnTo>
                <a:lnTo>
                  <a:pt x="1123" y="400"/>
                </a:lnTo>
                <a:lnTo>
                  <a:pt x="1117" y="411"/>
                </a:lnTo>
                <a:lnTo>
                  <a:pt x="1111" y="423"/>
                </a:lnTo>
                <a:lnTo>
                  <a:pt x="1105" y="436"/>
                </a:lnTo>
                <a:lnTo>
                  <a:pt x="1102" y="452"/>
                </a:lnTo>
                <a:lnTo>
                  <a:pt x="1096" y="465"/>
                </a:lnTo>
                <a:lnTo>
                  <a:pt x="1090" y="480"/>
                </a:lnTo>
                <a:lnTo>
                  <a:pt x="1084" y="496"/>
                </a:lnTo>
                <a:lnTo>
                  <a:pt x="1080" y="511"/>
                </a:lnTo>
                <a:lnTo>
                  <a:pt x="1075" y="528"/>
                </a:lnTo>
                <a:lnTo>
                  <a:pt x="1069" y="544"/>
                </a:lnTo>
                <a:lnTo>
                  <a:pt x="1063" y="563"/>
                </a:lnTo>
                <a:lnTo>
                  <a:pt x="1057" y="580"/>
                </a:lnTo>
                <a:lnTo>
                  <a:pt x="1054" y="599"/>
                </a:lnTo>
                <a:lnTo>
                  <a:pt x="1048" y="619"/>
                </a:lnTo>
                <a:lnTo>
                  <a:pt x="1042" y="636"/>
                </a:lnTo>
                <a:lnTo>
                  <a:pt x="1036" y="653"/>
                </a:lnTo>
                <a:lnTo>
                  <a:pt x="1031" y="670"/>
                </a:lnTo>
                <a:lnTo>
                  <a:pt x="1025" y="688"/>
                </a:lnTo>
                <a:lnTo>
                  <a:pt x="1021" y="703"/>
                </a:lnTo>
                <a:lnTo>
                  <a:pt x="1015" y="718"/>
                </a:lnTo>
                <a:lnTo>
                  <a:pt x="1009" y="732"/>
                </a:lnTo>
                <a:lnTo>
                  <a:pt x="1004" y="747"/>
                </a:lnTo>
                <a:lnTo>
                  <a:pt x="1000" y="761"/>
                </a:lnTo>
                <a:lnTo>
                  <a:pt x="994" y="774"/>
                </a:lnTo>
                <a:lnTo>
                  <a:pt x="988" y="786"/>
                </a:lnTo>
                <a:lnTo>
                  <a:pt x="983" y="797"/>
                </a:lnTo>
                <a:lnTo>
                  <a:pt x="979" y="809"/>
                </a:lnTo>
                <a:lnTo>
                  <a:pt x="973" y="820"/>
                </a:lnTo>
                <a:lnTo>
                  <a:pt x="967" y="830"/>
                </a:lnTo>
                <a:lnTo>
                  <a:pt x="963" y="839"/>
                </a:lnTo>
                <a:lnTo>
                  <a:pt x="958" y="849"/>
                </a:lnTo>
                <a:lnTo>
                  <a:pt x="954" y="857"/>
                </a:lnTo>
                <a:lnTo>
                  <a:pt x="948" y="864"/>
                </a:lnTo>
                <a:lnTo>
                  <a:pt x="944" y="872"/>
                </a:lnTo>
                <a:lnTo>
                  <a:pt x="940" y="878"/>
                </a:lnTo>
                <a:lnTo>
                  <a:pt x="935" y="883"/>
                </a:lnTo>
                <a:lnTo>
                  <a:pt x="931" y="889"/>
                </a:lnTo>
                <a:lnTo>
                  <a:pt x="927" y="893"/>
                </a:lnTo>
                <a:lnTo>
                  <a:pt x="923" y="897"/>
                </a:lnTo>
                <a:lnTo>
                  <a:pt x="919" y="901"/>
                </a:lnTo>
                <a:lnTo>
                  <a:pt x="915" y="903"/>
                </a:lnTo>
                <a:lnTo>
                  <a:pt x="912" y="906"/>
                </a:lnTo>
                <a:lnTo>
                  <a:pt x="908" y="906"/>
                </a:lnTo>
                <a:lnTo>
                  <a:pt x="904" y="908"/>
                </a:lnTo>
                <a:lnTo>
                  <a:pt x="900" y="908"/>
                </a:lnTo>
                <a:lnTo>
                  <a:pt x="894" y="908"/>
                </a:lnTo>
                <a:lnTo>
                  <a:pt x="889" y="906"/>
                </a:lnTo>
                <a:lnTo>
                  <a:pt x="883" y="903"/>
                </a:lnTo>
                <a:lnTo>
                  <a:pt x="879" y="899"/>
                </a:lnTo>
                <a:lnTo>
                  <a:pt x="875" y="895"/>
                </a:lnTo>
                <a:lnTo>
                  <a:pt x="873" y="887"/>
                </a:lnTo>
                <a:lnTo>
                  <a:pt x="869" y="880"/>
                </a:lnTo>
                <a:lnTo>
                  <a:pt x="869" y="872"/>
                </a:lnTo>
                <a:lnTo>
                  <a:pt x="867" y="860"/>
                </a:lnTo>
                <a:lnTo>
                  <a:pt x="867" y="849"/>
                </a:lnTo>
                <a:lnTo>
                  <a:pt x="869" y="837"/>
                </a:lnTo>
                <a:lnTo>
                  <a:pt x="871" y="824"/>
                </a:lnTo>
                <a:lnTo>
                  <a:pt x="873" y="809"/>
                </a:lnTo>
                <a:lnTo>
                  <a:pt x="877" y="791"/>
                </a:lnTo>
                <a:lnTo>
                  <a:pt x="883" y="772"/>
                </a:lnTo>
                <a:lnTo>
                  <a:pt x="889" y="753"/>
                </a:lnTo>
                <a:lnTo>
                  <a:pt x="902" y="713"/>
                </a:lnTo>
                <a:lnTo>
                  <a:pt x="913" y="672"/>
                </a:lnTo>
                <a:lnTo>
                  <a:pt x="923" y="632"/>
                </a:lnTo>
                <a:lnTo>
                  <a:pt x="935" y="592"/>
                </a:lnTo>
                <a:lnTo>
                  <a:pt x="944" y="549"/>
                </a:lnTo>
                <a:lnTo>
                  <a:pt x="954" y="507"/>
                </a:lnTo>
                <a:lnTo>
                  <a:pt x="961" y="465"/>
                </a:lnTo>
                <a:lnTo>
                  <a:pt x="971" y="421"/>
                </a:lnTo>
                <a:lnTo>
                  <a:pt x="973" y="402"/>
                </a:lnTo>
                <a:lnTo>
                  <a:pt x="975" y="382"/>
                </a:lnTo>
                <a:lnTo>
                  <a:pt x="977" y="365"/>
                </a:lnTo>
                <a:lnTo>
                  <a:pt x="979" y="348"/>
                </a:lnTo>
                <a:lnTo>
                  <a:pt x="981" y="331"/>
                </a:lnTo>
                <a:lnTo>
                  <a:pt x="983" y="315"/>
                </a:lnTo>
                <a:lnTo>
                  <a:pt x="984" y="302"/>
                </a:lnTo>
                <a:lnTo>
                  <a:pt x="986" y="288"/>
                </a:lnTo>
                <a:lnTo>
                  <a:pt x="988" y="277"/>
                </a:lnTo>
                <a:lnTo>
                  <a:pt x="990" y="265"/>
                </a:lnTo>
                <a:lnTo>
                  <a:pt x="990" y="254"/>
                </a:lnTo>
                <a:lnTo>
                  <a:pt x="992" y="244"/>
                </a:lnTo>
                <a:lnTo>
                  <a:pt x="992" y="237"/>
                </a:lnTo>
                <a:lnTo>
                  <a:pt x="994" y="229"/>
                </a:lnTo>
                <a:lnTo>
                  <a:pt x="994" y="223"/>
                </a:lnTo>
                <a:lnTo>
                  <a:pt x="994" y="219"/>
                </a:lnTo>
                <a:lnTo>
                  <a:pt x="990" y="210"/>
                </a:lnTo>
                <a:lnTo>
                  <a:pt x="984" y="200"/>
                </a:lnTo>
                <a:lnTo>
                  <a:pt x="981" y="192"/>
                </a:lnTo>
                <a:lnTo>
                  <a:pt x="973" y="185"/>
                </a:lnTo>
                <a:lnTo>
                  <a:pt x="967" y="177"/>
                </a:lnTo>
                <a:lnTo>
                  <a:pt x="958" y="169"/>
                </a:lnTo>
                <a:lnTo>
                  <a:pt x="948" y="164"/>
                </a:lnTo>
                <a:lnTo>
                  <a:pt x="942" y="162"/>
                </a:lnTo>
                <a:lnTo>
                  <a:pt x="937" y="160"/>
                </a:lnTo>
                <a:lnTo>
                  <a:pt x="921" y="156"/>
                </a:lnTo>
                <a:lnTo>
                  <a:pt x="908" y="152"/>
                </a:lnTo>
                <a:lnTo>
                  <a:pt x="890" y="150"/>
                </a:lnTo>
                <a:lnTo>
                  <a:pt x="873" y="150"/>
                </a:lnTo>
                <a:lnTo>
                  <a:pt x="856" y="150"/>
                </a:lnTo>
                <a:lnTo>
                  <a:pt x="837" y="152"/>
                </a:lnTo>
                <a:lnTo>
                  <a:pt x="816" y="156"/>
                </a:lnTo>
                <a:lnTo>
                  <a:pt x="794" y="160"/>
                </a:lnTo>
                <a:lnTo>
                  <a:pt x="789" y="160"/>
                </a:lnTo>
                <a:lnTo>
                  <a:pt x="781" y="162"/>
                </a:lnTo>
                <a:lnTo>
                  <a:pt x="773" y="164"/>
                </a:lnTo>
                <a:lnTo>
                  <a:pt x="764" y="166"/>
                </a:lnTo>
                <a:lnTo>
                  <a:pt x="752" y="167"/>
                </a:lnTo>
                <a:lnTo>
                  <a:pt x="741" y="171"/>
                </a:lnTo>
                <a:lnTo>
                  <a:pt x="727" y="173"/>
                </a:lnTo>
                <a:lnTo>
                  <a:pt x="712" y="177"/>
                </a:lnTo>
                <a:lnTo>
                  <a:pt x="697" y="181"/>
                </a:lnTo>
                <a:lnTo>
                  <a:pt x="679" y="183"/>
                </a:lnTo>
                <a:lnTo>
                  <a:pt x="660" y="187"/>
                </a:lnTo>
                <a:lnTo>
                  <a:pt x="641" y="192"/>
                </a:lnTo>
                <a:lnTo>
                  <a:pt x="620" y="196"/>
                </a:lnTo>
                <a:lnTo>
                  <a:pt x="599" y="200"/>
                </a:lnTo>
                <a:lnTo>
                  <a:pt x="576" y="206"/>
                </a:lnTo>
                <a:lnTo>
                  <a:pt x="551" y="210"/>
                </a:lnTo>
                <a:lnTo>
                  <a:pt x="526" y="215"/>
                </a:lnTo>
                <a:lnTo>
                  <a:pt x="499" y="221"/>
                </a:lnTo>
                <a:lnTo>
                  <a:pt x="470" y="227"/>
                </a:lnTo>
                <a:lnTo>
                  <a:pt x="441" y="233"/>
                </a:lnTo>
                <a:lnTo>
                  <a:pt x="411" y="240"/>
                </a:lnTo>
                <a:lnTo>
                  <a:pt x="380" y="246"/>
                </a:lnTo>
                <a:lnTo>
                  <a:pt x="347" y="254"/>
                </a:lnTo>
                <a:lnTo>
                  <a:pt x="313" y="260"/>
                </a:lnTo>
                <a:lnTo>
                  <a:pt x="278" y="267"/>
                </a:lnTo>
                <a:lnTo>
                  <a:pt x="242" y="275"/>
                </a:lnTo>
                <a:lnTo>
                  <a:pt x="205" y="283"/>
                </a:lnTo>
                <a:lnTo>
                  <a:pt x="165" y="290"/>
                </a:lnTo>
                <a:lnTo>
                  <a:pt x="126" y="300"/>
                </a:lnTo>
                <a:lnTo>
                  <a:pt x="84" y="308"/>
                </a:lnTo>
                <a:lnTo>
                  <a:pt x="44" y="317"/>
                </a:lnTo>
                <a:lnTo>
                  <a:pt x="0" y="325"/>
                </a:lnTo>
                <a:lnTo>
                  <a:pt x="0" y="271"/>
                </a:lnTo>
                <a:lnTo>
                  <a:pt x="0" y="21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Freeform 184"/>
          <p:cNvSpPr/>
          <p:nvPr/>
        </p:nvSpPr>
        <p:spPr>
          <a:xfrm>
            <a:off x="6637320" y="3813120"/>
            <a:ext cx="650880" cy="189000"/>
          </a:xfrm>
          <a:custGeom>
            <a:avLst/>
            <a:gdLst/>
            <a:ahLst/>
            <a:rect l="l" t="t" r="r" b="b"/>
            <a:pathLst>
              <a:path w="820" h="238">
                <a:moveTo>
                  <a:pt x="12" y="238"/>
                </a:moveTo>
                <a:lnTo>
                  <a:pt x="6" y="184"/>
                </a:lnTo>
                <a:lnTo>
                  <a:pt x="0" y="130"/>
                </a:lnTo>
                <a:lnTo>
                  <a:pt x="8" y="130"/>
                </a:lnTo>
                <a:lnTo>
                  <a:pt x="18" y="128"/>
                </a:lnTo>
                <a:lnTo>
                  <a:pt x="29" y="128"/>
                </a:lnTo>
                <a:lnTo>
                  <a:pt x="41" y="128"/>
                </a:lnTo>
                <a:lnTo>
                  <a:pt x="54" y="127"/>
                </a:lnTo>
                <a:lnTo>
                  <a:pt x="68" y="125"/>
                </a:lnTo>
                <a:lnTo>
                  <a:pt x="83" y="123"/>
                </a:lnTo>
                <a:lnTo>
                  <a:pt x="98" y="121"/>
                </a:lnTo>
                <a:lnTo>
                  <a:pt x="116" y="119"/>
                </a:lnTo>
                <a:lnTo>
                  <a:pt x="135" y="117"/>
                </a:lnTo>
                <a:lnTo>
                  <a:pt x="154" y="113"/>
                </a:lnTo>
                <a:lnTo>
                  <a:pt x="175" y="111"/>
                </a:lnTo>
                <a:lnTo>
                  <a:pt x="196" y="107"/>
                </a:lnTo>
                <a:lnTo>
                  <a:pt x="219" y="103"/>
                </a:lnTo>
                <a:lnTo>
                  <a:pt x="244" y="100"/>
                </a:lnTo>
                <a:lnTo>
                  <a:pt x="269" y="96"/>
                </a:lnTo>
                <a:lnTo>
                  <a:pt x="296" y="92"/>
                </a:lnTo>
                <a:lnTo>
                  <a:pt x="323" y="88"/>
                </a:lnTo>
                <a:lnTo>
                  <a:pt x="352" y="82"/>
                </a:lnTo>
                <a:lnTo>
                  <a:pt x="380" y="79"/>
                </a:lnTo>
                <a:lnTo>
                  <a:pt x="411" y="73"/>
                </a:lnTo>
                <a:lnTo>
                  <a:pt x="444" y="67"/>
                </a:lnTo>
                <a:lnTo>
                  <a:pt x="476" y="61"/>
                </a:lnTo>
                <a:lnTo>
                  <a:pt x="511" y="56"/>
                </a:lnTo>
                <a:lnTo>
                  <a:pt x="546" y="50"/>
                </a:lnTo>
                <a:lnTo>
                  <a:pt x="582" y="42"/>
                </a:lnTo>
                <a:lnTo>
                  <a:pt x="618" y="36"/>
                </a:lnTo>
                <a:lnTo>
                  <a:pt x="657" y="29"/>
                </a:lnTo>
                <a:lnTo>
                  <a:pt x="695" y="21"/>
                </a:lnTo>
                <a:lnTo>
                  <a:pt x="736" y="15"/>
                </a:lnTo>
                <a:lnTo>
                  <a:pt x="778" y="8"/>
                </a:lnTo>
                <a:lnTo>
                  <a:pt x="820" y="0"/>
                </a:lnTo>
                <a:lnTo>
                  <a:pt x="814" y="52"/>
                </a:lnTo>
                <a:lnTo>
                  <a:pt x="809" y="105"/>
                </a:lnTo>
                <a:lnTo>
                  <a:pt x="799" y="107"/>
                </a:lnTo>
                <a:lnTo>
                  <a:pt x="789" y="109"/>
                </a:lnTo>
                <a:lnTo>
                  <a:pt x="780" y="109"/>
                </a:lnTo>
                <a:lnTo>
                  <a:pt x="768" y="111"/>
                </a:lnTo>
                <a:lnTo>
                  <a:pt x="757" y="113"/>
                </a:lnTo>
                <a:lnTo>
                  <a:pt x="743" y="115"/>
                </a:lnTo>
                <a:lnTo>
                  <a:pt x="728" y="117"/>
                </a:lnTo>
                <a:lnTo>
                  <a:pt x="713" y="119"/>
                </a:lnTo>
                <a:lnTo>
                  <a:pt x="695" y="123"/>
                </a:lnTo>
                <a:lnTo>
                  <a:pt x="678" y="125"/>
                </a:lnTo>
                <a:lnTo>
                  <a:pt x="661" y="128"/>
                </a:lnTo>
                <a:lnTo>
                  <a:pt x="640" y="130"/>
                </a:lnTo>
                <a:lnTo>
                  <a:pt x="618" y="134"/>
                </a:lnTo>
                <a:lnTo>
                  <a:pt x="597" y="136"/>
                </a:lnTo>
                <a:lnTo>
                  <a:pt x="574" y="140"/>
                </a:lnTo>
                <a:lnTo>
                  <a:pt x="549" y="144"/>
                </a:lnTo>
                <a:lnTo>
                  <a:pt x="524" y="148"/>
                </a:lnTo>
                <a:lnTo>
                  <a:pt x="498" y="151"/>
                </a:lnTo>
                <a:lnTo>
                  <a:pt x="471" y="157"/>
                </a:lnTo>
                <a:lnTo>
                  <a:pt x="442" y="161"/>
                </a:lnTo>
                <a:lnTo>
                  <a:pt x="413" y="167"/>
                </a:lnTo>
                <a:lnTo>
                  <a:pt x="382" y="171"/>
                </a:lnTo>
                <a:lnTo>
                  <a:pt x="350" y="176"/>
                </a:lnTo>
                <a:lnTo>
                  <a:pt x="317" y="182"/>
                </a:lnTo>
                <a:lnTo>
                  <a:pt x="283" y="188"/>
                </a:lnTo>
                <a:lnTo>
                  <a:pt x="248" y="194"/>
                </a:lnTo>
                <a:lnTo>
                  <a:pt x="212" y="201"/>
                </a:lnTo>
                <a:lnTo>
                  <a:pt x="173" y="207"/>
                </a:lnTo>
                <a:lnTo>
                  <a:pt x="135" y="215"/>
                </a:lnTo>
                <a:lnTo>
                  <a:pt x="94" y="223"/>
                </a:lnTo>
                <a:lnTo>
                  <a:pt x="54" y="228"/>
                </a:lnTo>
                <a:lnTo>
                  <a:pt x="12" y="23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Freeform 185"/>
          <p:cNvSpPr/>
          <p:nvPr/>
        </p:nvSpPr>
        <p:spPr>
          <a:xfrm>
            <a:off x="6711840" y="3567240"/>
            <a:ext cx="474840" cy="142920"/>
          </a:xfrm>
          <a:custGeom>
            <a:avLst/>
            <a:gdLst/>
            <a:ahLst/>
            <a:rect l="l" t="t" r="r" b="b"/>
            <a:pathLst>
              <a:path w="597" h="178">
                <a:moveTo>
                  <a:pt x="83" y="178"/>
                </a:moveTo>
                <a:lnTo>
                  <a:pt x="77" y="176"/>
                </a:lnTo>
                <a:lnTo>
                  <a:pt x="73" y="176"/>
                </a:lnTo>
                <a:lnTo>
                  <a:pt x="70" y="174"/>
                </a:lnTo>
                <a:lnTo>
                  <a:pt x="64" y="173"/>
                </a:lnTo>
                <a:lnTo>
                  <a:pt x="60" y="171"/>
                </a:lnTo>
                <a:lnTo>
                  <a:pt x="54" y="167"/>
                </a:lnTo>
                <a:lnTo>
                  <a:pt x="50" y="163"/>
                </a:lnTo>
                <a:lnTo>
                  <a:pt x="45" y="157"/>
                </a:lnTo>
                <a:lnTo>
                  <a:pt x="41" y="153"/>
                </a:lnTo>
                <a:lnTo>
                  <a:pt x="35" y="148"/>
                </a:lnTo>
                <a:lnTo>
                  <a:pt x="29" y="140"/>
                </a:lnTo>
                <a:lnTo>
                  <a:pt x="23" y="132"/>
                </a:lnTo>
                <a:lnTo>
                  <a:pt x="18" y="125"/>
                </a:lnTo>
                <a:lnTo>
                  <a:pt x="12" y="115"/>
                </a:lnTo>
                <a:lnTo>
                  <a:pt x="6" y="105"/>
                </a:lnTo>
                <a:lnTo>
                  <a:pt x="0" y="94"/>
                </a:lnTo>
                <a:lnTo>
                  <a:pt x="23" y="88"/>
                </a:lnTo>
                <a:lnTo>
                  <a:pt x="47" y="80"/>
                </a:lnTo>
                <a:lnTo>
                  <a:pt x="70" y="75"/>
                </a:lnTo>
                <a:lnTo>
                  <a:pt x="93" y="69"/>
                </a:lnTo>
                <a:lnTo>
                  <a:pt x="114" y="63"/>
                </a:lnTo>
                <a:lnTo>
                  <a:pt x="135" y="59"/>
                </a:lnTo>
                <a:lnTo>
                  <a:pt x="156" y="54"/>
                </a:lnTo>
                <a:lnTo>
                  <a:pt x="175" y="50"/>
                </a:lnTo>
                <a:lnTo>
                  <a:pt x="194" y="46"/>
                </a:lnTo>
                <a:lnTo>
                  <a:pt x="214" y="42"/>
                </a:lnTo>
                <a:lnTo>
                  <a:pt x="233" y="38"/>
                </a:lnTo>
                <a:lnTo>
                  <a:pt x="250" y="34"/>
                </a:lnTo>
                <a:lnTo>
                  <a:pt x="267" y="31"/>
                </a:lnTo>
                <a:lnTo>
                  <a:pt x="285" y="29"/>
                </a:lnTo>
                <a:lnTo>
                  <a:pt x="300" y="25"/>
                </a:lnTo>
                <a:lnTo>
                  <a:pt x="315" y="23"/>
                </a:lnTo>
                <a:lnTo>
                  <a:pt x="331" y="21"/>
                </a:lnTo>
                <a:lnTo>
                  <a:pt x="344" y="19"/>
                </a:lnTo>
                <a:lnTo>
                  <a:pt x="357" y="15"/>
                </a:lnTo>
                <a:lnTo>
                  <a:pt x="371" y="13"/>
                </a:lnTo>
                <a:lnTo>
                  <a:pt x="382" y="11"/>
                </a:lnTo>
                <a:lnTo>
                  <a:pt x="394" y="9"/>
                </a:lnTo>
                <a:lnTo>
                  <a:pt x="404" y="7"/>
                </a:lnTo>
                <a:lnTo>
                  <a:pt x="413" y="6"/>
                </a:lnTo>
                <a:lnTo>
                  <a:pt x="423" y="6"/>
                </a:lnTo>
                <a:lnTo>
                  <a:pt x="430" y="4"/>
                </a:lnTo>
                <a:lnTo>
                  <a:pt x="438" y="2"/>
                </a:lnTo>
                <a:lnTo>
                  <a:pt x="446" y="2"/>
                </a:lnTo>
                <a:lnTo>
                  <a:pt x="452" y="0"/>
                </a:lnTo>
                <a:lnTo>
                  <a:pt x="457" y="0"/>
                </a:lnTo>
                <a:lnTo>
                  <a:pt x="463" y="0"/>
                </a:lnTo>
                <a:lnTo>
                  <a:pt x="469" y="0"/>
                </a:lnTo>
                <a:lnTo>
                  <a:pt x="476" y="0"/>
                </a:lnTo>
                <a:lnTo>
                  <a:pt x="486" y="2"/>
                </a:lnTo>
                <a:lnTo>
                  <a:pt x="496" y="4"/>
                </a:lnTo>
                <a:lnTo>
                  <a:pt x="505" y="6"/>
                </a:lnTo>
                <a:lnTo>
                  <a:pt x="515" y="9"/>
                </a:lnTo>
                <a:lnTo>
                  <a:pt x="526" y="13"/>
                </a:lnTo>
                <a:lnTo>
                  <a:pt x="538" y="19"/>
                </a:lnTo>
                <a:lnTo>
                  <a:pt x="549" y="23"/>
                </a:lnTo>
                <a:lnTo>
                  <a:pt x="557" y="25"/>
                </a:lnTo>
                <a:lnTo>
                  <a:pt x="563" y="29"/>
                </a:lnTo>
                <a:lnTo>
                  <a:pt x="567" y="31"/>
                </a:lnTo>
                <a:lnTo>
                  <a:pt x="572" y="34"/>
                </a:lnTo>
                <a:lnTo>
                  <a:pt x="576" y="36"/>
                </a:lnTo>
                <a:lnTo>
                  <a:pt x="580" y="40"/>
                </a:lnTo>
                <a:lnTo>
                  <a:pt x="586" y="46"/>
                </a:lnTo>
                <a:lnTo>
                  <a:pt x="592" y="54"/>
                </a:lnTo>
                <a:lnTo>
                  <a:pt x="594" y="59"/>
                </a:lnTo>
                <a:lnTo>
                  <a:pt x="595" y="65"/>
                </a:lnTo>
                <a:lnTo>
                  <a:pt x="597" y="71"/>
                </a:lnTo>
                <a:lnTo>
                  <a:pt x="595" y="71"/>
                </a:lnTo>
                <a:lnTo>
                  <a:pt x="595" y="73"/>
                </a:lnTo>
                <a:lnTo>
                  <a:pt x="594" y="75"/>
                </a:lnTo>
                <a:lnTo>
                  <a:pt x="588" y="78"/>
                </a:lnTo>
                <a:lnTo>
                  <a:pt x="582" y="80"/>
                </a:lnTo>
                <a:lnTo>
                  <a:pt x="572" y="84"/>
                </a:lnTo>
                <a:lnTo>
                  <a:pt x="563" y="88"/>
                </a:lnTo>
                <a:lnTo>
                  <a:pt x="551" y="92"/>
                </a:lnTo>
                <a:lnTo>
                  <a:pt x="536" y="96"/>
                </a:lnTo>
                <a:lnTo>
                  <a:pt x="521" y="100"/>
                </a:lnTo>
                <a:lnTo>
                  <a:pt x="503" y="103"/>
                </a:lnTo>
                <a:lnTo>
                  <a:pt x="484" y="107"/>
                </a:lnTo>
                <a:lnTo>
                  <a:pt x="463" y="111"/>
                </a:lnTo>
                <a:lnTo>
                  <a:pt x="440" y="117"/>
                </a:lnTo>
                <a:lnTo>
                  <a:pt x="417" y="121"/>
                </a:lnTo>
                <a:lnTo>
                  <a:pt x="390" y="125"/>
                </a:lnTo>
                <a:lnTo>
                  <a:pt x="363" y="130"/>
                </a:lnTo>
                <a:lnTo>
                  <a:pt x="334" y="134"/>
                </a:lnTo>
                <a:lnTo>
                  <a:pt x="308" y="138"/>
                </a:lnTo>
                <a:lnTo>
                  <a:pt x="283" y="142"/>
                </a:lnTo>
                <a:lnTo>
                  <a:pt x="260" y="146"/>
                </a:lnTo>
                <a:lnTo>
                  <a:pt x="237" y="150"/>
                </a:lnTo>
                <a:lnTo>
                  <a:pt x="215" y="151"/>
                </a:lnTo>
                <a:lnTo>
                  <a:pt x="196" y="155"/>
                </a:lnTo>
                <a:lnTo>
                  <a:pt x="179" y="157"/>
                </a:lnTo>
                <a:lnTo>
                  <a:pt x="162" y="161"/>
                </a:lnTo>
                <a:lnTo>
                  <a:pt x="146" y="163"/>
                </a:lnTo>
                <a:lnTo>
                  <a:pt x="131" y="167"/>
                </a:lnTo>
                <a:lnTo>
                  <a:pt x="119" y="169"/>
                </a:lnTo>
                <a:lnTo>
                  <a:pt x="108" y="171"/>
                </a:lnTo>
                <a:lnTo>
                  <a:pt x="98" y="173"/>
                </a:lnTo>
                <a:lnTo>
                  <a:pt x="89" y="174"/>
                </a:lnTo>
                <a:lnTo>
                  <a:pt x="83" y="17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6"/>
          <p:cNvSpPr/>
          <p:nvPr/>
        </p:nvSpPr>
        <p:spPr>
          <a:xfrm>
            <a:off x="6448320" y="3416400"/>
            <a:ext cx="227160" cy="633240"/>
          </a:xfrm>
          <a:custGeom>
            <a:avLst/>
            <a:gdLst/>
            <a:ahLst/>
            <a:rect l="l" t="t" r="r" b="b"/>
            <a:pathLst>
              <a:path w="286" h="796">
                <a:moveTo>
                  <a:pt x="87" y="249"/>
                </a:moveTo>
                <a:lnTo>
                  <a:pt x="85" y="236"/>
                </a:lnTo>
                <a:lnTo>
                  <a:pt x="81" y="222"/>
                </a:lnTo>
                <a:lnTo>
                  <a:pt x="79" y="211"/>
                </a:lnTo>
                <a:lnTo>
                  <a:pt x="75" y="199"/>
                </a:lnTo>
                <a:lnTo>
                  <a:pt x="71" y="188"/>
                </a:lnTo>
                <a:lnTo>
                  <a:pt x="69" y="178"/>
                </a:lnTo>
                <a:lnTo>
                  <a:pt x="66" y="169"/>
                </a:lnTo>
                <a:lnTo>
                  <a:pt x="62" y="159"/>
                </a:lnTo>
                <a:lnTo>
                  <a:pt x="58" y="151"/>
                </a:lnTo>
                <a:lnTo>
                  <a:pt x="54" y="142"/>
                </a:lnTo>
                <a:lnTo>
                  <a:pt x="48" y="136"/>
                </a:lnTo>
                <a:lnTo>
                  <a:pt x="45" y="128"/>
                </a:lnTo>
                <a:lnTo>
                  <a:pt x="41" y="123"/>
                </a:lnTo>
                <a:lnTo>
                  <a:pt x="37" y="117"/>
                </a:lnTo>
                <a:lnTo>
                  <a:pt x="33" y="111"/>
                </a:lnTo>
                <a:lnTo>
                  <a:pt x="27" y="105"/>
                </a:lnTo>
                <a:lnTo>
                  <a:pt x="20" y="101"/>
                </a:lnTo>
                <a:lnTo>
                  <a:pt x="12" y="94"/>
                </a:lnTo>
                <a:lnTo>
                  <a:pt x="8" y="88"/>
                </a:lnTo>
                <a:lnTo>
                  <a:pt x="2" y="78"/>
                </a:lnTo>
                <a:lnTo>
                  <a:pt x="0" y="69"/>
                </a:lnTo>
                <a:lnTo>
                  <a:pt x="0" y="59"/>
                </a:lnTo>
                <a:lnTo>
                  <a:pt x="0" y="54"/>
                </a:lnTo>
                <a:lnTo>
                  <a:pt x="0" y="48"/>
                </a:lnTo>
                <a:lnTo>
                  <a:pt x="2" y="40"/>
                </a:lnTo>
                <a:lnTo>
                  <a:pt x="4" y="34"/>
                </a:lnTo>
                <a:lnTo>
                  <a:pt x="6" y="30"/>
                </a:lnTo>
                <a:lnTo>
                  <a:pt x="10" y="27"/>
                </a:lnTo>
                <a:lnTo>
                  <a:pt x="16" y="23"/>
                </a:lnTo>
                <a:lnTo>
                  <a:pt x="22" y="19"/>
                </a:lnTo>
                <a:lnTo>
                  <a:pt x="29" y="15"/>
                </a:lnTo>
                <a:lnTo>
                  <a:pt x="37" y="13"/>
                </a:lnTo>
                <a:lnTo>
                  <a:pt x="46" y="9"/>
                </a:lnTo>
                <a:lnTo>
                  <a:pt x="56" y="7"/>
                </a:lnTo>
                <a:lnTo>
                  <a:pt x="69" y="6"/>
                </a:lnTo>
                <a:lnTo>
                  <a:pt x="81" y="4"/>
                </a:lnTo>
                <a:lnTo>
                  <a:pt x="94" y="2"/>
                </a:lnTo>
                <a:lnTo>
                  <a:pt x="110" y="2"/>
                </a:lnTo>
                <a:lnTo>
                  <a:pt x="125" y="0"/>
                </a:lnTo>
                <a:lnTo>
                  <a:pt x="142" y="0"/>
                </a:lnTo>
                <a:lnTo>
                  <a:pt x="162" y="0"/>
                </a:lnTo>
                <a:lnTo>
                  <a:pt x="181" y="0"/>
                </a:lnTo>
                <a:lnTo>
                  <a:pt x="187" y="46"/>
                </a:lnTo>
                <a:lnTo>
                  <a:pt x="194" y="92"/>
                </a:lnTo>
                <a:lnTo>
                  <a:pt x="202" y="136"/>
                </a:lnTo>
                <a:lnTo>
                  <a:pt x="208" y="178"/>
                </a:lnTo>
                <a:lnTo>
                  <a:pt x="213" y="219"/>
                </a:lnTo>
                <a:lnTo>
                  <a:pt x="221" y="259"/>
                </a:lnTo>
                <a:lnTo>
                  <a:pt x="227" y="297"/>
                </a:lnTo>
                <a:lnTo>
                  <a:pt x="233" y="334"/>
                </a:lnTo>
                <a:lnTo>
                  <a:pt x="236" y="368"/>
                </a:lnTo>
                <a:lnTo>
                  <a:pt x="242" y="403"/>
                </a:lnTo>
                <a:lnTo>
                  <a:pt x="246" y="434"/>
                </a:lnTo>
                <a:lnTo>
                  <a:pt x="252" y="464"/>
                </a:lnTo>
                <a:lnTo>
                  <a:pt x="256" y="493"/>
                </a:lnTo>
                <a:lnTo>
                  <a:pt x="260" y="522"/>
                </a:lnTo>
                <a:lnTo>
                  <a:pt x="263" y="549"/>
                </a:lnTo>
                <a:lnTo>
                  <a:pt x="267" y="572"/>
                </a:lnTo>
                <a:lnTo>
                  <a:pt x="271" y="595"/>
                </a:lnTo>
                <a:lnTo>
                  <a:pt x="273" y="618"/>
                </a:lnTo>
                <a:lnTo>
                  <a:pt x="275" y="637"/>
                </a:lnTo>
                <a:lnTo>
                  <a:pt x="279" y="656"/>
                </a:lnTo>
                <a:lnTo>
                  <a:pt x="281" y="674"/>
                </a:lnTo>
                <a:lnTo>
                  <a:pt x="283" y="691"/>
                </a:lnTo>
                <a:lnTo>
                  <a:pt x="284" y="704"/>
                </a:lnTo>
                <a:lnTo>
                  <a:pt x="284" y="718"/>
                </a:lnTo>
                <a:lnTo>
                  <a:pt x="286" y="729"/>
                </a:lnTo>
                <a:lnTo>
                  <a:pt x="286" y="739"/>
                </a:lnTo>
                <a:lnTo>
                  <a:pt x="286" y="748"/>
                </a:lnTo>
                <a:lnTo>
                  <a:pt x="286" y="756"/>
                </a:lnTo>
                <a:lnTo>
                  <a:pt x="286" y="762"/>
                </a:lnTo>
                <a:lnTo>
                  <a:pt x="286" y="766"/>
                </a:lnTo>
                <a:lnTo>
                  <a:pt x="286" y="769"/>
                </a:lnTo>
                <a:lnTo>
                  <a:pt x="284" y="771"/>
                </a:lnTo>
                <a:lnTo>
                  <a:pt x="277" y="781"/>
                </a:lnTo>
                <a:lnTo>
                  <a:pt x="271" y="785"/>
                </a:lnTo>
                <a:lnTo>
                  <a:pt x="265" y="789"/>
                </a:lnTo>
                <a:lnTo>
                  <a:pt x="260" y="791"/>
                </a:lnTo>
                <a:lnTo>
                  <a:pt x="254" y="793"/>
                </a:lnTo>
                <a:lnTo>
                  <a:pt x="246" y="794"/>
                </a:lnTo>
                <a:lnTo>
                  <a:pt x="238" y="796"/>
                </a:lnTo>
                <a:lnTo>
                  <a:pt x="233" y="794"/>
                </a:lnTo>
                <a:lnTo>
                  <a:pt x="225" y="793"/>
                </a:lnTo>
                <a:lnTo>
                  <a:pt x="219" y="789"/>
                </a:lnTo>
                <a:lnTo>
                  <a:pt x="213" y="781"/>
                </a:lnTo>
                <a:lnTo>
                  <a:pt x="208" y="773"/>
                </a:lnTo>
                <a:lnTo>
                  <a:pt x="204" y="764"/>
                </a:lnTo>
                <a:lnTo>
                  <a:pt x="198" y="754"/>
                </a:lnTo>
                <a:lnTo>
                  <a:pt x="192" y="741"/>
                </a:lnTo>
                <a:lnTo>
                  <a:pt x="189" y="725"/>
                </a:lnTo>
                <a:lnTo>
                  <a:pt x="183" y="708"/>
                </a:lnTo>
                <a:lnTo>
                  <a:pt x="179" y="691"/>
                </a:lnTo>
                <a:lnTo>
                  <a:pt x="173" y="670"/>
                </a:lnTo>
                <a:lnTo>
                  <a:pt x="169" y="649"/>
                </a:lnTo>
                <a:lnTo>
                  <a:pt x="165" y="624"/>
                </a:lnTo>
                <a:lnTo>
                  <a:pt x="164" y="610"/>
                </a:lnTo>
                <a:lnTo>
                  <a:pt x="162" y="597"/>
                </a:lnTo>
                <a:lnTo>
                  <a:pt x="158" y="583"/>
                </a:lnTo>
                <a:lnTo>
                  <a:pt x="156" y="570"/>
                </a:lnTo>
                <a:lnTo>
                  <a:pt x="150" y="543"/>
                </a:lnTo>
                <a:lnTo>
                  <a:pt x="144" y="518"/>
                </a:lnTo>
                <a:lnTo>
                  <a:pt x="139" y="493"/>
                </a:lnTo>
                <a:lnTo>
                  <a:pt x="133" y="468"/>
                </a:lnTo>
                <a:lnTo>
                  <a:pt x="127" y="445"/>
                </a:lnTo>
                <a:lnTo>
                  <a:pt x="123" y="424"/>
                </a:lnTo>
                <a:lnTo>
                  <a:pt x="117" y="403"/>
                </a:lnTo>
                <a:lnTo>
                  <a:pt x="114" y="382"/>
                </a:lnTo>
                <a:lnTo>
                  <a:pt x="108" y="363"/>
                </a:lnTo>
                <a:lnTo>
                  <a:pt x="104" y="343"/>
                </a:lnTo>
                <a:lnTo>
                  <a:pt x="100" y="326"/>
                </a:lnTo>
                <a:lnTo>
                  <a:pt x="98" y="309"/>
                </a:lnTo>
                <a:lnTo>
                  <a:pt x="94" y="292"/>
                </a:lnTo>
                <a:lnTo>
                  <a:pt x="91" y="276"/>
                </a:lnTo>
                <a:lnTo>
                  <a:pt x="89" y="263"/>
                </a:lnTo>
                <a:lnTo>
                  <a:pt x="87" y="24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187"/>
          <p:cNvSpPr/>
          <p:nvPr/>
        </p:nvSpPr>
        <p:spPr>
          <a:xfrm>
            <a:off x="7015320" y="2798640"/>
            <a:ext cx="325440" cy="487440"/>
          </a:xfrm>
          <a:custGeom>
            <a:avLst/>
            <a:gdLst/>
            <a:ahLst/>
            <a:rect l="l" t="t" r="r" b="b"/>
            <a:pathLst>
              <a:path w="409" h="615">
                <a:moveTo>
                  <a:pt x="390" y="185"/>
                </a:moveTo>
                <a:lnTo>
                  <a:pt x="388" y="190"/>
                </a:lnTo>
                <a:lnTo>
                  <a:pt x="384" y="198"/>
                </a:lnTo>
                <a:lnTo>
                  <a:pt x="380" y="206"/>
                </a:lnTo>
                <a:lnTo>
                  <a:pt x="375" y="215"/>
                </a:lnTo>
                <a:lnTo>
                  <a:pt x="369" y="225"/>
                </a:lnTo>
                <a:lnTo>
                  <a:pt x="363" y="235"/>
                </a:lnTo>
                <a:lnTo>
                  <a:pt x="356" y="244"/>
                </a:lnTo>
                <a:lnTo>
                  <a:pt x="350" y="256"/>
                </a:lnTo>
                <a:lnTo>
                  <a:pt x="340" y="267"/>
                </a:lnTo>
                <a:lnTo>
                  <a:pt x="333" y="279"/>
                </a:lnTo>
                <a:lnTo>
                  <a:pt x="323" y="292"/>
                </a:lnTo>
                <a:lnTo>
                  <a:pt x="313" y="304"/>
                </a:lnTo>
                <a:lnTo>
                  <a:pt x="304" y="319"/>
                </a:lnTo>
                <a:lnTo>
                  <a:pt x="294" y="333"/>
                </a:lnTo>
                <a:lnTo>
                  <a:pt x="285" y="348"/>
                </a:lnTo>
                <a:lnTo>
                  <a:pt x="273" y="363"/>
                </a:lnTo>
                <a:lnTo>
                  <a:pt x="252" y="394"/>
                </a:lnTo>
                <a:lnTo>
                  <a:pt x="229" y="423"/>
                </a:lnTo>
                <a:lnTo>
                  <a:pt x="219" y="436"/>
                </a:lnTo>
                <a:lnTo>
                  <a:pt x="208" y="450"/>
                </a:lnTo>
                <a:lnTo>
                  <a:pt x="196" y="463"/>
                </a:lnTo>
                <a:lnTo>
                  <a:pt x="185" y="476"/>
                </a:lnTo>
                <a:lnTo>
                  <a:pt x="175" y="488"/>
                </a:lnTo>
                <a:lnTo>
                  <a:pt x="164" y="500"/>
                </a:lnTo>
                <a:lnTo>
                  <a:pt x="152" y="509"/>
                </a:lnTo>
                <a:lnTo>
                  <a:pt x="141" y="521"/>
                </a:lnTo>
                <a:lnTo>
                  <a:pt x="131" y="528"/>
                </a:lnTo>
                <a:lnTo>
                  <a:pt x="119" y="538"/>
                </a:lnTo>
                <a:lnTo>
                  <a:pt x="108" y="546"/>
                </a:lnTo>
                <a:lnTo>
                  <a:pt x="98" y="553"/>
                </a:lnTo>
                <a:lnTo>
                  <a:pt x="87" y="561"/>
                </a:lnTo>
                <a:lnTo>
                  <a:pt x="77" y="571"/>
                </a:lnTo>
                <a:lnTo>
                  <a:pt x="68" y="576"/>
                </a:lnTo>
                <a:lnTo>
                  <a:pt x="60" y="584"/>
                </a:lnTo>
                <a:lnTo>
                  <a:pt x="52" y="590"/>
                </a:lnTo>
                <a:lnTo>
                  <a:pt x="45" y="595"/>
                </a:lnTo>
                <a:lnTo>
                  <a:pt x="39" y="601"/>
                </a:lnTo>
                <a:lnTo>
                  <a:pt x="33" y="605"/>
                </a:lnTo>
                <a:lnTo>
                  <a:pt x="27" y="609"/>
                </a:lnTo>
                <a:lnTo>
                  <a:pt x="23" y="611"/>
                </a:lnTo>
                <a:lnTo>
                  <a:pt x="20" y="613"/>
                </a:lnTo>
                <a:lnTo>
                  <a:pt x="16" y="615"/>
                </a:lnTo>
                <a:lnTo>
                  <a:pt x="12" y="615"/>
                </a:lnTo>
                <a:lnTo>
                  <a:pt x="8" y="615"/>
                </a:lnTo>
                <a:lnTo>
                  <a:pt x="6" y="615"/>
                </a:lnTo>
                <a:lnTo>
                  <a:pt x="4" y="613"/>
                </a:lnTo>
                <a:lnTo>
                  <a:pt x="2" y="609"/>
                </a:lnTo>
                <a:lnTo>
                  <a:pt x="0" y="607"/>
                </a:lnTo>
                <a:lnTo>
                  <a:pt x="0" y="601"/>
                </a:lnTo>
                <a:lnTo>
                  <a:pt x="0" y="597"/>
                </a:lnTo>
                <a:lnTo>
                  <a:pt x="0" y="592"/>
                </a:lnTo>
                <a:lnTo>
                  <a:pt x="2" y="584"/>
                </a:lnTo>
                <a:lnTo>
                  <a:pt x="4" y="576"/>
                </a:lnTo>
                <a:lnTo>
                  <a:pt x="8" y="569"/>
                </a:lnTo>
                <a:lnTo>
                  <a:pt x="10" y="559"/>
                </a:lnTo>
                <a:lnTo>
                  <a:pt x="16" y="548"/>
                </a:lnTo>
                <a:lnTo>
                  <a:pt x="22" y="538"/>
                </a:lnTo>
                <a:lnTo>
                  <a:pt x="27" y="524"/>
                </a:lnTo>
                <a:lnTo>
                  <a:pt x="35" y="513"/>
                </a:lnTo>
                <a:lnTo>
                  <a:pt x="43" y="500"/>
                </a:lnTo>
                <a:lnTo>
                  <a:pt x="52" y="484"/>
                </a:lnTo>
                <a:lnTo>
                  <a:pt x="62" y="469"/>
                </a:lnTo>
                <a:lnTo>
                  <a:pt x="73" y="453"/>
                </a:lnTo>
                <a:lnTo>
                  <a:pt x="83" y="438"/>
                </a:lnTo>
                <a:lnTo>
                  <a:pt x="93" y="423"/>
                </a:lnTo>
                <a:lnTo>
                  <a:pt x="102" y="407"/>
                </a:lnTo>
                <a:lnTo>
                  <a:pt x="110" y="392"/>
                </a:lnTo>
                <a:lnTo>
                  <a:pt x="118" y="375"/>
                </a:lnTo>
                <a:lnTo>
                  <a:pt x="125" y="359"/>
                </a:lnTo>
                <a:lnTo>
                  <a:pt x="133" y="344"/>
                </a:lnTo>
                <a:lnTo>
                  <a:pt x="139" y="329"/>
                </a:lnTo>
                <a:lnTo>
                  <a:pt x="144" y="313"/>
                </a:lnTo>
                <a:lnTo>
                  <a:pt x="150" y="298"/>
                </a:lnTo>
                <a:lnTo>
                  <a:pt x="154" y="283"/>
                </a:lnTo>
                <a:lnTo>
                  <a:pt x="160" y="267"/>
                </a:lnTo>
                <a:lnTo>
                  <a:pt x="162" y="252"/>
                </a:lnTo>
                <a:lnTo>
                  <a:pt x="166" y="235"/>
                </a:lnTo>
                <a:lnTo>
                  <a:pt x="167" y="219"/>
                </a:lnTo>
                <a:lnTo>
                  <a:pt x="169" y="206"/>
                </a:lnTo>
                <a:lnTo>
                  <a:pt x="171" y="194"/>
                </a:lnTo>
                <a:lnTo>
                  <a:pt x="173" y="183"/>
                </a:lnTo>
                <a:lnTo>
                  <a:pt x="175" y="171"/>
                </a:lnTo>
                <a:lnTo>
                  <a:pt x="175" y="160"/>
                </a:lnTo>
                <a:lnTo>
                  <a:pt x="175" y="148"/>
                </a:lnTo>
                <a:lnTo>
                  <a:pt x="177" y="129"/>
                </a:lnTo>
                <a:lnTo>
                  <a:pt x="175" y="112"/>
                </a:lnTo>
                <a:lnTo>
                  <a:pt x="175" y="94"/>
                </a:lnTo>
                <a:lnTo>
                  <a:pt x="171" y="79"/>
                </a:lnTo>
                <a:lnTo>
                  <a:pt x="167" y="66"/>
                </a:lnTo>
                <a:lnTo>
                  <a:pt x="164" y="58"/>
                </a:lnTo>
                <a:lnTo>
                  <a:pt x="160" y="52"/>
                </a:lnTo>
                <a:lnTo>
                  <a:pt x="158" y="47"/>
                </a:lnTo>
                <a:lnTo>
                  <a:pt x="154" y="43"/>
                </a:lnTo>
                <a:lnTo>
                  <a:pt x="152" y="39"/>
                </a:lnTo>
                <a:lnTo>
                  <a:pt x="152" y="33"/>
                </a:lnTo>
                <a:lnTo>
                  <a:pt x="150" y="29"/>
                </a:lnTo>
                <a:lnTo>
                  <a:pt x="150" y="27"/>
                </a:lnTo>
                <a:lnTo>
                  <a:pt x="150" y="23"/>
                </a:lnTo>
                <a:lnTo>
                  <a:pt x="152" y="20"/>
                </a:lnTo>
                <a:lnTo>
                  <a:pt x="152" y="18"/>
                </a:lnTo>
                <a:lnTo>
                  <a:pt x="154" y="16"/>
                </a:lnTo>
                <a:lnTo>
                  <a:pt x="158" y="12"/>
                </a:lnTo>
                <a:lnTo>
                  <a:pt x="160" y="10"/>
                </a:lnTo>
                <a:lnTo>
                  <a:pt x="164" y="8"/>
                </a:lnTo>
                <a:lnTo>
                  <a:pt x="167" y="6"/>
                </a:lnTo>
                <a:lnTo>
                  <a:pt x="171" y="4"/>
                </a:lnTo>
                <a:lnTo>
                  <a:pt x="173" y="2"/>
                </a:lnTo>
                <a:lnTo>
                  <a:pt x="179" y="0"/>
                </a:lnTo>
                <a:lnTo>
                  <a:pt x="183" y="0"/>
                </a:lnTo>
                <a:lnTo>
                  <a:pt x="189" y="0"/>
                </a:lnTo>
                <a:lnTo>
                  <a:pt x="194" y="0"/>
                </a:lnTo>
                <a:lnTo>
                  <a:pt x="202" y="2"/>
                </a:lnTo>
                <a:lnTo>
                  <a:pt x="210" y="2"/>
                </a:lnTo>
                <a:lnTo>
                  <a:pt x="217" y="4"/>
                </a:lnTo>
                <a:lnTo>
                  <a:pt x="225" y="6"/>
                </a:lnTo>
                <a:lnTo>
                  <a:pt x="244" y="10"/>
                </a:lnTo>
                <a:lnTo>
                  <a:pt x="263" y="14"/>
                </a:lnTo>
                <a:lnTo>
                  <a:pt x="285" y="18"/>
                </a:lnTo>
                <a:lnTo>
                  <a:pt x="296" y="22"/>
                </a:lnTo>
                <a:lnTo>
                  <a:pt x="306" y="27"/>
                </a:lnTo>
                <a:lnTo>
                  <a:pt x="315" y="31"/>
                </a:lnTo>
                <a:lnTo>
                  <a:pt x="325" y="35"/>
                </a:lnTo>
                <a:lnTo>
                  <a:pt x="342" y="45"/>
                </a:lnTo>
                <a:lnTo>
                  <a:pt x="356" y="54"/>
                </a:lnTo>
                <a:lnTo>
                  <a:pt x="369" y="62"/>
                </a:lnTo>
                <a:lnTo>
                  <a:pt x="382" y="71"/>
                </a:lnTo>
                <a:lnTo>
                  <a:pt x="392" y="81"/>
                </a:lnTo>
                <a:lnTo>
                  <a:pt x="402" y="89"/>
                </a:lnTo>
                <a:lnTo>
                  <a:pt x="405" y="102"/>
                </a:lnTo>
                <a:lnTo>
                  <a:pt x="407" y="114"/>
                </a:lnTo>
                <a:lnTo>
                  <a:pt x="409" y="125"/>
                </a:lnTo>
                <a:lnTo>
                  <a:pt x="409" y="137"/>
                </a:lnTo>
                <a:lnTo>
                  <a:pt x="407" y="148"/>
                </a:lnTo>
                <a:lnTo>
                  <a:pt x="404" y="160"/>
                </a:lnTo>
                <a:lnTo>
                  <a:pt x="402" y="166"/>
                </a:lnTo>
                <a:lnTo>
                  <a:pt x="398" y="171"/>
                </a:lnTo>
                <a:lnTo>
                  <a:pt x="394" y="177"/>
                </a:lnTo>
                <a:lnTo>
                  <a:pt x="390" y="18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188"/>
          <p:cNvSpPr/>
          <p:nvPr/>
        </p:nvSpPr>
        <p:spPr>
          <a:xfrm>
            <a:off x="6578640" y="3009960"/>
            <a:ext cx="253800" cy="258840"/>
          </a:xfrm>
          <a:custGeom>
            <a:avLst/>
            <a:gdLst/>
            <a:ahLst/>
            <a:rect l="l" t="t" r="r" b="b"/>
            <a:pathLst>
              <a:path w="320" h="327">
                <a:moveTo>
                  <a:pt x="28" y="108"/>
                </a:moveTo>
                <a:lnTo>
                  <a:pt x="19" y="94"/>
                </a:lnTo>
                <a:lnTo>
                  <a:pt x="13" y="81"/>
                </a:lnTo>
                <a:lnTo>
                  <a:pt x="7" y="69"/>
                </a:lnTo>
                <a:lnTo>
                  <a:pt x="3" y="58"/>
                </a:lnTo>
                <a:lnTo>
                  <a:pt x="1" y="46"/>
                </a:lnTo>
                <a:lnTo>
                  <a:pt x="0" y="37"/>
                </a:lnTo>
                <a:lnTo>
                  <a:pt x="0" y="33"/>
                </a:lnTo>
                <a:lnTo>
                  <a:pt x="1" y="29"/>
                </a:lnTo>
                <a:lnTo>
                  <a:pt x="3" y="27"/>
                </a:lnTo>
                <a:lnTo>
                  <a:pt x="5" y="25"/>
                </a:lnTo>
                <a:lnTo>
                  <a:pt x="5" y="21"/>
                </a:lnTo>
                <a:lnTo>
                  <a:pt x="5" y="19"/>
                </a:lnTo>
                <a:lnTo>
                  <a:pt x="7" y="18"/>
                </a:lnTo>
                <a:lnTo>
                  <a:pt x="9" y="16"/>
                </a:lnTo>
                <a:lnTo>
                  <a:pt x="11" y="14"/>
                </a:lnTo>
                <a:lnTo>
                  <a:pt x="15" y="12"/>
                </a:lnTo>
                <a:lnTo>
                  <a:pt x="17" y="10"/>
                </a:lnTo>
                <a:lnTo>
                  <a:pt x="23" y="8"/>
                </a:lnTo>
                <a:lnTo>
                  <a:pt x="26" y="6"/>
                </a:lnTo>
                <a:lnTo>
                  <a:pt x="32" y="4"/>
                </a:lnTo>
                <a:lnTo>
                  <a:pt x="38" y="4"/>
                </a:lnTo>
                <a:lnTo>
                  <a:pt x="44" y="2"/>
                </a:lnTo>
                <a:lnTo>
                  <a:pt x="51" y="2"/>
                </a:lnTo>
                <a:lnTo>
                  <a:pt x="57" y="0"/>
                </a:lnTo>
                <a:lnTo>
                  <a:pt x="67" y="0"/>
                </a:lnTo>
                <a:lnTo>
                  <a:pt x="74" y="0"/>
                </a:lnTo>
                <a:lnTo>
                  <a:pt x="92" y="6"/>
                </a:lnTo>
                <a:lnTo>
                  <a:pt x="111" y="12"/>
                </a:lnTo>
                <a:lnTo>
                  <a:pt x="132" y="19"/>
                </a:lnTo>
                <a:lnTo>
                  <a:pt x="151" y="27"/>
                </a:lnTo>
                <a:lnTo>
                  <a:pt x="172" y="37"/>
                </a:lnTo>
                <a:lnTo>
                  <a:pt x="195" y="46"/>
                </a:lnTo>
                <a:lnTo>
                  <a:pt x="216" y="60"/>
                </a:lnTo>
                <a:lnTo>
                  <a:pt x="238" y="71"/>
                </a:lnTo>
                <a:lnTo>
                  <a:pt x="249" y="81"/>
                </a:lnTo>
                <a:lnTo>
                  <a:pt x="259" y="90"/>
                </a:lnTo>
                <a:lnTo>
                  <a:pt x="266" y="98"/>
                </a:lnTo>
                <a:lnTo>
                  <a:pt x="276" y="108"/>
                </a:lnTo>
                <a:lnTo>
                  <a:pt x="284" y="115"/>
                </a:lnTo>
                <a:lnTo>
                  <a:pt x="289" y="125"/>
                </a:lnTo>
                <a:lnTo>
                  <a:pt x="295" y="133"/>
                </a:lnTo>
                <a:lnTo>
                  <a:pt x="301" y="142"/>
                </a:lnTo>
                <a:lnTo>
                  <a:pt x="305" y="150"/>
                </a:lnTo>
                <a:lnTo>
                  <a:pt x="309" y="158"/>
                </a:lnTo>
                <a:lnTo>
                  <a:pt x="312" y="165"/>
                </a:lnTo>
                <a:lnTo>
                  <a:pt x="316" y="173"/>
                </a:lnTo>
                <a:lnTo>
                  <a:pt x="318" y="181"/>
                </a:lnTo>
                <a:lnTo>
                  <a:pt x="318" y="188"/>
                </a:lnTo>
                <a:lnTo>
                  <a:pt x="320" y="196"/>
                </a:lnTo>
                <a:lnTo>
                  <a:pt x="320" y="202"/>
                </a:lnTo>
                <a:lnTo>
                  <a:pt x="320" y="215"/>
                </a:lnTo>
                <a:lnTo>
                  <a:pt x="318" y="229"/>
                </a:lnTo>
                <a:lnTo>
                  <a:pt x="316" y="242"/>
                </a:lnTo>
                <a:lnTo>
                  <a:pt x="312" y="256"/>
                </a:lnTo>
                <a:lnTo>
                  <a:pt x="309" y="269"/>
                </a:lnTo>
                <a:lnTo>
                  <a:pt x="305" y="282"/>
                </a:lnTo>
                <a:lnTo>
                  <a:pt x="297" y="309"/>
                </a:lnTo>
                <a:lnTo>
                  <a:pt x="291" y="315"/>
                </a:lnTo>
                <a:lnTo>
                  <a:pt x="287" y="321"/>
                </a:lnTo>
                <a:lnTo>
                  <a:pt x="282" y="325"/>
                </a:lnTo>
                <a:lnTo>
                  <a:pt x="274" y="327"/>
                </a:lnTo>
                <a:lnTo>
                  <a:pt x="268" y="327"/>
                </a:lnTo>
                <a:lnTo>
                  <a:pt x="261" y="327"/>
                </a:lnTo>
                <a:lnTo>
                  <a:pt x="253" y="325"/>
                </a:lnTo>
                <a:lnTo>
                  <a:pt x="245" y="323"/>
                </a:lnTo>
                <a:lnTo>
                  <a:pt x="238" y="317"/>
                </a:lnTo>
                <a:lnTo>
                  <a:pt x="228" y="313"/>
                </a:lnTo>
                <a:lnTo>
                  <a:pt x="218" y="307"/>
                </a:lnTo>
                <a:lnTo>
                  <a:pt x="209" y="300"/>
                </a:lnTo>
                <a:lnTo>
                  <a:pt x="199" y="292"/>
                </a:lnTo>
                <a:lnTo>
                  <a:pt x="190" y="282"/>
                </a:lnTo>
                <a:lnTo>
                  <a:pt x="178" y="273"/>
                </a:lnTo>
                <a:lnTo>
                  <a:pt x="168" y="261"/>
                </a:lnTo>
                <a:lnTo>
                  <a:pt x="155" y="250"/>
                </a:lnTo>
                <a:lnTo>
                  <a:pt x="144" y="240"/>
                </a:lnTo>
                <a:lnTo>
                  <a:pt x="132" y="229"/>
                </a:lnTo>
                <a:lnTo>
                  <a:pt x="120" y="217"/>
                </a:lnTo>
                <a:lnTo>
                  <a:pt x="109" y="208"/>
                </a:lnTo>
                <a:lnTo>
                  <a:pt x="99" y="196"/>
                </a:lnTo>
                <a:lnTo>
                  <a:pt x="90" y="186"/>
                </a:lnTo>
                <a:lnTo>
                  <a:pt x="80" y="175"/>
                </a:lnTo>
                <a:lnTo>
                  <a:pt x="72" y="165"/>
                </a:lnTo>
                <a:lnTo>
                  <a:pt x="63" y="156"/>
                </a:lnTo>
                <a:lnTo>
                  <a:pt x="57" y="146"/>
                </a:lnTo>
                <a:lnTo>
                  <a:pt x="49" y="138"/>
                </a:lnTo>
                <a:lnTo>
                  <a:pt x="44" y="129"/>
                </a:lnTo>
                <a:lnTo>
                  <a:pt x="38" y="121"/>
                </a:lnTo>
                <a:lnTo>
                  <a:pt x="32" y="114"/>
                </a:lnTo>
                <a:lnTo>
                  <a:pt x="28" y="10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189"/>
          <p:cNvSpPr/>
          <p:nvPr/>
        </p:nvSpPr>
        <p:spPr>
          <a:xfrm>
            <a:off x="6210360" y="3887640"/>
            <a:ext cx="177840" cy="312840"/>
          </a:xfrm>
          <a:custGeom>
            <a:avLst/>
            <a:gdLst/>
            <a:ahLst/>
            <a:rect l="l" t="t" r="r" b="b"/>
            <a:pathLst>
              <a:path w="223" h="393">
                <a:moveTo>
                  <a:pt x="0" y="71"/>
                </a:moveTo>
                <a:lnTo>
                  <a:pt x="0" y="59"/>
                </a:lnTo>
                <a:lnTo>
                  <a:pt x="2" y="48"/>
                </a:lnTo>
                <a:lnTo>
                  <a:pt x="4" y="36"/>
                </a:lnTo>
                <a:lnTo>
                  <a:pt x="8" y="27"/>
                </a:lnTo>
                <a:lnTo>
                  <a:pt x="10" y="19"/>
                </a:lnTo>
                <a:lnTo>
                  <a:pt x="13" y="11"/>
                </a:lnTo>
                <a:lnTo>
                  <a:pt x="19" y="6"/>
                </a:lnTo>
                <a:lnTo>
                  <a:pt x="23" y="0"/>
                </a:lnTo>
                <a:lnTo>
                  <a:pt x="25" y="0"/>
                </a:lnTo>
                <a:lnTo>
                  <a:pt x="29" y="2"/>
                </a:lnTo>
                <a:lnTo>
                  <a:pt x="33" y="4"/>
                </a:lnTo>
                <a:lnTo>
                  <a:pt x="38" y="6"/>
                </a:lnTo>
                <a:lnTo>
                  <a:pt x="44" y="8"/>
                </a:lnTo>
                <a:lnTo>
                  <a:pt x="50" y="11"/>
                </a:lnTo>
                <a:lnTo>
                  <a:pt x="56" y="15"/>
                </a:lnTo>
                <a:lnTo>
                  <a:pt x="63" y="19"/>
                </a:lnTo>
                <a:lnTo>
                  <a:pt x="71" y="25"/>
                </a:lnTo>
                <a:lnTo>
                  <a:pt x="81" y="31"/>
                </a:lnTo>
                <a:lnTo>
                  <a:pt x="88" y="38"/>
                </a:lnTo>
                <a:lnTo>
                  <a:pt x="98" y="46"/>
                </a:lnTo>
                <a:lnTo>
                  <a:pt x="107" y="54"/>
                </a:lnTo>
                <a:lnTo>
                  <a:pt x="119" y="63"/>
                </a:lnTo>
                <a:lnTo>
                  <a:pt x="129" y="73"/>
                </a:lnTo>
                <a:lnTo>
                  <a:pt x="140" y="84"/>
                </a:lnTo>
                <a:lnTo>
                  <a:pt x="150" y="94"/>
                </a:lnTo>
                <a:lnTo>
                  <a:pt x="159" y="105"/>
                </a:lnTo>
                <a:lnTo>
                  <a:pt x="169" y="117"/>
                </a:lnTo>
                <a:lnTo>
                  <a:pt x="177" y="129"/>
                </a:lnTo>
                <a:lnTo>
                  <a:pt x="184" y="140"/>
                </a:lnTo>
                <a:lnTo>
                  <a:pt x="192" y="152"/>
                </a:lnTo>
                <a:lnTo>
                  <a:pt x="198" y="161"/>
                </a:lnTo>
                <a:lnTo>
                  <a:pt x="202" y="173"/>
                </a:lnTo>
                <a:lnTo>
                  <a:pt x="207" y="184"/>
                </a:lnTo>
                <a:lnTo>
                  <a:pt x="211" y="196"/>
                </a:lnTo>
                <a:lnTo>
                  <a:pt x="215" y="207"/>
                </a:lnTo>
                <a:lnTo>
                  <a:pt x="217" y="217"/>
                </a:lnTo>
                <a:lnTo>
                  <a:pt x="219" y="228"/>
                </a:lnTo>
                <a:lnTo>
                  <a:pt x="221" y="240"/>
                </a:lnTo>
                <a:lnTo>
                  <a:pt x="221" y="251"/>
                </a:lnTo>
                <a:lnTo>
                  <a:pt x="223" y="263"/>
                </a:lnTo>
                <a:lnTo>
                  <a:pt x="223" y="272"/>
                </a:lnTo>
                <a:lnTo>
                  <a:pt x="223" y="284"/>
                </a:lnTo>
                <a:lnTo>
                  <a:pt x="221" y="294"/>
                </a:lnTo>
                <a:lnTo>
                  <a:pt x="221" y="301"/>
                </a:lnTo>
                <a:lnTo>
                  <a:pt x="221" y="311"/>
                </a:lnTo>
                <a:lnTo>
                  <a:pt x="221" y="319"/>
                </a:lnTo>
                <a:lnTo>
                  <a:pt x="221" y="326"/>
                </a:lnTo>
                <a:lnTo>
                  <a:pt x="221" y="334"/>
                </a:lnTo>
                <a:lnTo>
                  <a:pt x="219" y="340"/>
                </a:lnTo>
                <a:lnTo>
                  <a:pt x="219" y="345"/>
                </a:lnTo>
                <a:lnTo>
                  <a:pt x="217" y="351"/>
                </a:lnTo>
                <a:lnTo>
                  <a:pt x="217" y="355"/>
                </a:lnTo>
                <a:lnTo>
                  <a:pt x="215" y="359"/>
                </a:lnTo>
                <a:lnTo>
                  <a:pt x="213" y="363"/>
                </a:lnTo>
                <a:lnTo>
                  <a:pt x="211" y="367"/>
                </a:lnTo>
                <a:lnTo>
                  <a:pt x="209" y="368"/>
                </a:lnTo>
                <a:lnTo>
                  <a:pt x="205" y="374"/>
                </a:lnTo>
                <a:lnTo>
                  <a:pt x="200" y="378"/>
                </a:lnTo>
                <a:lnTo>
                  <a:pt x="194" y="382"/>
                </a:lnTo>
                <a:lnTo>
                  <a:pt x="186" y="386"/>
                </a:lnTo>
                <a:lnTo>
                  <a:pt x="180" y="388"/>
                </a:lnTo>
                <a:lnTo>
                  <a:pt x="173" y="390"/>
                </a:lnTo>
                <a:lnTo>
                  <a:pt x="169" y="391"/>
                </a:lnTo>
                <a:lnTo>
                  <a:pt x="163" y="393"/>
                </a:lnTo>
                <a:lnTo>
                  <a:pt x="159" y="391"/>
                </a:lnTo>
                <a:lnTo>
                  <a:pt x="154" y="390"/>
                </a:lnTo>
                <a:lnTo>
                  <a:pt x="150" y="388"/>
                </a:lnTo>
                <a:lnTo>
                  <a:pt x="144" y="384"/>
                </a:lnTo>
                <a:lnTo>
                  <a:pt x="138" y="378"/>
                </a:lnTo>
                <a:lnTo>
                  <a:pt x="132" y="372"/>
                </a:lnTo>
                <a:lnTo>
                  <a:pt x="127" y="365"/>
                </a:lnTo>
                <a:lnTo>
                  <a:pt x="121" y="357"/>
                </a:lnTo>
                <a:lnTo>
                  <a:pt x="115" y="347"/>
                </a:lnTo>
                <a:lnTo>
                  <a:pt x="107" y="338"/>
                </a:lnTo>
                <a:lnTo>
                  <a:pt x="102" y="326"/>
                </a:lnTo>
                <a:lnTo>
                  <a:pt x="96" y="313"/>
                </a:lnTo>
                <a:lnTo>
                  <a:pt x="88" y="299"/>
                </a:lnTo>
                <a:lnTo>
                  <a:pt x="82" y="284"/>
                </a:lnTo>
                <a:lnTo>
                  <a:pt x="77" y="267"/>
                </a:lnTo>
                <a:lnTo>
                  <a:pt x="69" y="249"/>
                </a:lnTo>
                <a:lnTo>
                  <a:pt x="61" y="234"/>
                </a:lnTo>
                <a:lnTo>
                  <a:pt x="54" y="221"/>
                </a:lnTo>
                <a:lnTo>
                  <a:pt x="46" y="205"/>
                </a:lnTo>
                <a:lnTo>
                  <a:pt x="38" y="192"/>
                </a:lnTo>
                <a:lnTo>
                  <a:pt x="33" y="178"/>
                </a:lnTo>
                <a:lnTo>
                  <a:pt x="27" y="167"/>
                </a:lnTo>
                <a:lnTo>
                  <a:pt x="21" y="153"/>
                </a:lnTo>
                <a:lnTo>
                  <a:pt x="17" y="142"/>
                </a:lnTo>
                <a:lnTo>
                  <a:pt x="13" y="132"/>
                </a:lnTo>
                <a:lnTo>
                  <a:pt x="10" y="121"/>
                </a:lnTo>
                <a:lnTo>
                  <a:pt x="6" y="111"/>
                </a:lnTo>
                <a:lnTo>
                  <a:pt x="4" y="104"/>
                </a:lnTo>
                <a:lnTo>
                  <a:pt x="2" y="94"/>
                </a:lnTo>
                <a:lnTo>
                  <a:pt x="0" y="86"/>
                </a:lnTo>
                <a:lnTo>
                  <a:pt x="0" y="79"/>
                </a:lnTo>
                <a:lnTo>
                  <a:pt x="0" y="7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Freeform 190"/>
          <p:cNvSpPr/>
          <p:nvPr/>
        </p:nvSpPr>
        <p:spPr>
          <a:xfrm>
            <a:off x="5521320" y="4019400"/>
            <a:ext cx="792000" cy="452520"/>
          </a:xfrm>
          <a:custGeom>
            <a:avLst/>
            <a:gdLst/>
            <a:ahLst/>
            <a:rect l="l" t="t" r="r" b="b"/>
            <a:pathLst>
              <a:path w="999" h="570">
                <a:moveTo>
                  <a:pt x="190" y="570"/>
                </a:moveTo>
                <a:lnTo>
                  <a:pt x="185" y="570"/>
                </a:lnTo>
                <a:lnTo>
                  <a:pt x="177" y="570"/>
                </a:lnTo>
                <a:lnTo>
                  <a:pt x="171" y="568"/>
                </a:lnTo>
                <a:lnTo>
                  <a:pt x="164" y="566"/>
                </a:lnTo>
                <a:lnTo>
                  <a:pt x="158" y="562"/>
                </a:lnTo>
                <a:lnTo>
                  <a:pt x="150" y="560"/>
                </a:lnTo>
                <a:lnTo>
                  <a:pt x="144" y="557"/>
                </a:lnTo>
                <a:lnTo>
                  <a:pt x="137" y="551"/>
                </a:lnTo>
                <a:lnTo>
                  <a:pt x="129" y="545"/>
                </a:lnTo>
                <a:lnTo>
                  <a:pt x="121" y="539"/>
                </a:lnTo>
                <a:lnTo>
                  <a:pt x="114" y="534"/>
                </a:lnTo>
                <a:lnTo>
                  <a:pt x="106" y="526"/>
                </a:lnTo>
                <a:lnTo>
                  <a:pt x="98" y="516"/>
                </a:lnTo>
                <a:lnTo>
                  <a:pt x="91" y="509"/>
                </a:lnTo>
                <a:lnTo>
                  <a:pt x="83" y="497"/>
                </a:lnTo>
                <a:lnTo>
                  <a:pt x="73" y="487"/>
                </a:lnTo>
                <a:lnTo>
                  <a:pt x="64" y="478"/>
                </a:lnTo>
                <a:lnTo>
                  <a:pt x="54" y="470"/>
                </a:lnTo>
                <a:lnTo>
                  <a:pt x="45" y="461"/>
                </a:lnTo>
                <a:lnTo>
                  <a:pt x="37" y="453"/>
                </a:lnTo>
                <a:lnTo>
                  <a:pt x="29" y="445"/>
                </a:lnTo>
                <a:lnTo>
                  <a:pt x="23" y="438"/>
                </a:lnTo>
                <a:lnTo>
                  <a:pt x="18" y="432"/>
                </a:lnTo>
                <a:lnTo>
                  <a:pt x="12" y="424"/>
                </a:lnTo>
                <a:lnTo>
                  <a:pt x="8" y="418"/>
                </a:lnTo>
                <a:lnTo>
                  <a:pt x="6" y="413"/>
                </a:lnTo>
                <a:lnTo>
                  <a:pt x="2" y="405"/>
                </a:lnTo>
                <a:lnTo>
                  <a:pt x="2" y="399"/>
                </a:lnTo>
                <a:lnTo>
                  <a:pt x="0" y="395"/>
                </a:lnTo>
                <a:lnTo>
                  <a:pt x="0" y="390"/>
                </a:lnTo>
                <a:lnTo>
                  <a:pt x="2" y="384"/>
                </a:lnTo>
                <a:lnTo>
                  <a:pt x="4" y="380"/>
                </a:lnTo>
                <a:lnTo>
                  <a:pt x="8" y="376"/>
                </a:lnTo>
                <a:lnTo>
                  <a:pt x="16" y="370"/>
                </a:lnTo>
                <a:lnTo>
                  <a:pt x="20" y="368"/>
                </a:lnTo>
                <a:lnTo>
                  <a:pt x="23" y="367"/>
                </a:lnTo>
                <a:lnTo>
                  <a:pt x="27" y="365"/>
                </a:lnTo>
                <a:lnTo>
                  <a:pt x="33" y="365"/>
                </a:lnTo>
                <a:lnTo>
                  <a:pt x="39" y="363"/>
                </a:lnTo>
                <a:lnTo>
                  <a:pt x="45" y="361"/>
                </a:lnTo>
                <a:lnTo>
                  <a:pt x="52" y="359"/>
                </a:lnTo>
                <a:lnTo>
                  <a:pt x="60" y="359"/>
                </a:lnTo>
                <a:lnTo>
                  <a:pt x="68" y="357"/>
                </a:lnTo>
                <a:lnTo>
                  <a:pt x="77" y="357"/>
                </a:lnTo>
                <a:lnTo>
                  <a:pt x="87" y="357"/>
                </a:lnTo>
                <a:lnTo>
                  <a:pt x="98" y="357"/>
                </a:lnTo>
                <a:lnTo>
                  <a:pt x="108" y="357"/>
                </a:lnTo>
                <a:lnTo>
                  <a:pt x="118" y="357"/>
                </a:lnTo>
                <a:lnTo>
                  <a:pt x="127" y="357"/>
                </a:lnTo>
                <a:lnTo>
                  <a:pt x="137" y="357"/>
                </a:lnTo>
                <a:lnTo>
                  <a:pt x="146" y="357"/>
                </a:lnTo>
                <a:lnTo>
                  <a:pt x="154" y="355"/>
                </a:lnTo>
                <a:lnTo>
                  <a:pt x="169" y="355"/>
                </a:lnTo>
                <a:lnTo>
                  <a:pt x="183" y="353"/>
                </a:lnTo>
                <a:lnTo>
                  <a:pt x="194" y="351"/>
                </a:lnTo>
                <a:lnTo>
                  <a:pt x="206" y="349"/>
                </a:lnTo>
                <a:lnTo>
                  <a:pt x="215" y="345"/>
                </a:lnTo>
                <a:lnTo>
                  <a:pt x="215" y="343"/>
                </a:lnTo>
                <a:lnTo>
                  <a:pt x="219" y="343"/>
                </a:lnTo>
                <a:lnTo>
                  <a:pt x="225" y="342"/>
                </a:lnTo>
                <a:lnTo>
                  <a:pt x="231" y="340"/>
                </a:lnTo>
                <a:lnTo>
                  <a:pt x="238" y="336"/>
                </a:lnTo>
                <a:lnTo>
                  <a:pt x="246" y="332"/>
                </a:lnTo>
                <a:lnTo>
                  <a:pt x="258" y="328"/>
                </a:lnTo>
                <a:lnTo>
                  <a:pt x="269" y="322"/>
                </a:lnTo>
                <a:lnTo>
                  <a:pt x="283" y="317"/>
                </a:lnTo>
                <a:lnTo>
                  <a:pt x="296" y="311"/>
                </a:lnTo>
                <a:lnTo>
                  <a:pt x="313" y="303"/>
                </a:lnTo>
                <a:lnTo>
                  <a:pt x="331" y="296"/>
                </a:lnTo>
                <a:lnTo>
                  <a:pt x="350" y="288"/>
                </a:lnTo>
                <a:lnTo>
                  <a:pt x="369" y="278"/>
                </a:lnTo>
                <a:lnTo>
                  <a:pt x="390" y="269"/>
                </a:lnTo>
                <a:lnTo>
                  <a:pt x="413" y="259"/>
                </a:lnTo>
                <a:lnTo>
                  <a:pt x="438" y="248"/>
                </a:lnTo>
                <a:lnTo>
                  <a:pt x="463" y="236"/>
                </a:lnTo>
                <a:lnTo>
                  <a:pt x="492" y="223"/>
                </a:lnTo>
                <a:lnTo>
                  <a:pt x="519" y="209"/>
                </a:lnTo>
                <a:lnTo>
                  <a:pt x="549" y="196"/>
                </a:lnTo>
                <a:lnTo>
                  <a:pt x="580" y="182"/>
                </a:lnTo>
                <a:lnTo>
                  <a:pt x="613" y="167"/>
                </a:lnTo>
                <a:lnTo>
                  <a:pt x="645" y="150"/>
                </a:lnTo>
                <a:lnTo>
                  <a:pt x="682" y="134"/>
                </a:lnTo>
                <a:lnTo>
                  <a:pt x="718" y="117"/>
                </a:lnTo>
                <a:lnTo>
                  <a:pt x="755" y="100"/>
                </a:lnTo>
                <a:lnTo>
                  <a:pt x="795" y="81"/>
                </a:lnTo>
                <a:lnTo>
                  <a:pt x="835" y="61"/>
                </a:lnTo>
                <a:lnTo>
                  <a:pt x="876" y="42"/>
                </a:lnTo>
                <a:lnTo>
                  <a:pt x="920" y="21"/>
                </a:lnTo>
                <a:lnTo>
                  <a:pt x="964" y="0"/>
                </a:lnTo>
                <a:lnTo>
                  <a:pt x="981" y="48"/>
                </a:lnTo>
                <a:lnTo>
                  <a:pt x="999" y="96"/>
                </a:lnTo>
                <a:lnTo>
                  <a:pt x="993" y="98"/>
                </a:lnTo>
                <a:lnTo>
                  <a:pt x="987" y="100"/>
                </a:lnTo>
                <a:lnTo>
                  <a:pt x="979" y="104"/>
                </a:lnTo>
                <a:lnTo>
                  <a:pt x="972" y="107"/>
                </a:lnTo>
                <a:lnTo>
                  <a:pt x="964" y="111"/>
                </a:lnTo>
                <a:lnTo>
                  <a:pt x="956" y="115"/>
                </a:lnTo>
                <a:lnTo>
                  <a:pt x="949" y="119"/>
                </a:lnTo>
                <a:lnTo>
                  <a:pt x="939" y="123"/>
                </a:lnTo>
                <a:lnTo>
                  <a:pt x="929" y="129"/>
                </a:lnTo>
                <a:lnTo>
                  <a:pt x="920" y="134"/>
                </a:lnTo>
                <a:lnTo>
                  <a:pt x="908" y="140"/>
                </a:lnTo>
                <a:lnTo>
                  <a:pt x="897" y="146"/>
                </a:lnTo>
                <a:lnTo>
                  <a:pt x="874" y="159"/>
                </a:lnTo>
                <a:lnTo>
                  <a:pt x="849" y="175"/>
                </a:lnTo>
                <a:lnTo>
                  <a:pt x="822" y="190"/>
                </a:lnTo>
                <a:lnTo>
                  <a:pt x="791" y="209"/>
                </a:lnTo>
                <a:lnTo>
                  <a:pt x="761" y="226"/>
                </a:lnTo>
                <a:lnTo>
                  <a:pt x="728" y="248"/>
                </a:lnTo>
                <a:lnTo>
                  <a:pt x="693" y="271"/>
                </a:lnTo>
                <a:lnTo>
                  <a:pt x="657" y="294"/>
                </a:lnTo>
                <a:lnTo>
                  <a:pt x="617" y="319"/>
                </a:lnTo>
                <a:lnTo>
                  <a:pt x="576" y="345"/>
                </a:lnTo>
                <a:lnTo>
                  <a:pt x="557" y="359"/>
                </a:lnTo>
                <a:lnTo>
                  <a:pt x="536" y="372"/>
                </a:lnTo>
                <a:lnTo>
                  <a:pt x="517" y="386"/>
                </a:lnTo>
                <a:lnTo>
                  <a:pt x="498" y="399"/>
                </a:lnTo>
                <a:lnTo>
                  <a:pt x="480" y="411"/>
                </a:lnTo>
                <a:lnTo>
                  <a:pt x="463" y="424"/>
                </a:lnTo>
                <a:lnTo>
                  <a:pt x="446" y="436"/>
                </a:lnTo>
                <a:lnTo>
                  <a:pt x="428" y="445"/>
                </a:lnTo>
                <a:lnTo>
                  <a:pt x="413" y="457"/>
                </a:lnTo>
                <a:lnTo>
                  <a:pt x="396" y="466"/>
                </a:lnTo>
                <a:lnTo>
                  <a:pt x="382" y="476"/>
                </a:lnTo>
                <a:lnTo>
                  <a:pt x="367" y="486"/>
                </a:lnTo>
                <a:lnTo>
                  <a:pt x="354" y="493"/>
                </a:lnTo>
                <a:lnTo>
                  <a:pt x="340" y="501"/>
                </a:lnTo>
                <a:lnTo>
                  <a:pt x="327" y="509"/>
                </a:lnTo>
                <a:lnTo>
                  <a:pt x="313" y="516"/>
                </a:lnTo>
                <a:lnTo>
                  <a:pt x="302" y="522"/>
                </a:lnTo>
                <a:lnTo>
                  <a:pt x="290" y="530"/>
                </a:lnTo>
                <a:lnTo>
                  <a:pt x="281" y="535"/>
                </a:lnTo>
                <a:lnTo>
                  <a:pt x="271" y="541"/>
                </a:lnTo>
                <a:lnTo>
                  <a:pt x="261" y="545"/>
                </a:lnTo>
                <a:lnTo>
                  <a:pt x="252" y="549"/>
                </a:lnTo>
                <a:lnTo>
                  <a:pt x="242" y="553"/>
                </a:lnTo>
                <a:lnTo>
                  <a:pt x="235" y="557"/>
                </a:lnTo>
                <a:lnTo>
                  <a:pt x="227" y="560"/>
                </a:lnTo>
                <a:lnTo>
                  <a:pt x="221" y="562"/>
                </a:lnTo>
                <a:lnTo>
                  <a:pt x="213" y="566"/>
                </a:lnTo>
                <a:lnTo>
                  <a:pt x="208" y="568"/>
                </a:lnTo>
                <a:lnTo>
                  <a:pt x="204" y="568"/>
                </a:lnTo>
                <a:lnTo>
                  <a:pt x="198" y="570"/>
                </a:lnTo>
                <a:lnTo>
                  <a:pt x="194" y="570"/>
                </a:lnTo>
                <a:lnTo>
                  <a:pt x="190" y="57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191"/>
          <p:cNvSpPr/>
          <p:nvPr/>
        </p:nvSpPr>
        <p:spPr>
          <a:xfrm>
            <a:off x="5672160" y="3322800"/>
            <a:ext cx="743040" cy="423720"/>
          </a:xfrm>
          <a:custGeom>
            <a:avLst/>
            <a:gdLst/>
            <a:ahLst/>
            <a:rect l="l" t="t" r="r" b="b"/>
            <a:pathLst>
              <a:path w="937" h="533">
                <a:moveTo>
                  <a:pt x="703" y="23"/>
                </a:moveTo>
                <a:lnTo>
                  <a:pt x="715" y="19"/>
                </a:lnTo>
                <a:lnTo>
                  <a:pt x="726" y="13"/>
                </a:lnTo>
                <a:lnTo>
                  <a:pt x="738" y="9"/>
                </a:lnTo>
                <a:lnTo>
                  <a:pt x="747" y="6"/>
                </a:lnTo>
                <a:lnTo>
                  <a:pt x="755" y="4"/>
                </a:lnTo>
                <a:lnTo>
                  <a:pt x="762" y="2"/>
                </a:lnTo>
                <a:lnTo>
                  <a:pt x="768" y="0"/>
                </a:lnTo>
                <a:lnTo>
                  <a:pt x="774" y="0"/>
                </a:lnTo>
                <a:lnTo>
                  <a:pt x="778" y="0"/>
                </a:lnTo>
                <a:lnTo>
                  <a:pt x="784" y="2"/>
                </a:lnTo>
                <a:lnTo>
                  <a:pt x="787" y="2"/>
                </a:lnTo>
                <a:lnTo>
                  <a:pt x="793" y="4"/>
                </a:lnTo>
                <a:lnTo>
                  <a:pt x="797" y="7"/>
                </a:lnTo>
                <a:lnTo>
                  <a:pt x="803" y="9"/>
                </a:lnTo>
                <a:lnTo>
                  <a:pt x="809" y="11"/>
                </a:lnTo>
                <a:lnTo>
                  <a:pt x="814" y="15"/>
                </a:lnTo>
                <a:lnTo>
                  <a:pt x="822" y="19"/>
                </a:lnTo>
                <a:lnTo>
                  <a:pt x="830" y="23"/>
                </a:lnTo>
                <a:lnTo>
                  <a:pt x="837" y="29"/>
                </a:lnTo>
                <a:lnTo>
                  <a:pt x="847" y="34"/>
                </a:lnTo>
                <a:lnTo>
                  <a:pt x="857" y="40"/>
                </a:lnTo>
                <a:lnTo>
                  <a:pt x="866" y="46"/>
                </a:lnTo>
                <a:lnTo>
                  <a:pt x="876" y="54"/>
                </a:lnTo>
                <a:lnTo>
                  <a:pt x="883" y="59"/>
                </a:lnTo>
                <a:lnTo>
                  <a:pt x="891" y="65"/>
                </a:lnTo>
                <a:lnTo>
                  <a:pt x="897" y="71"/>
                </a:lnTo>
                <a:lnTo>
                  <a:pt x="903" y="77"/>
                </a:lnTo>
                <a:lnTo>
                  <a:pt x="908" y="82"/>
                </a:lnTo>
                <a:lnTo>
                  <a:pt x="914" y="88"/>
                </a:lnTo>
                <a:lnTo>
                  <a:pt x="920" y="92"/>
                </a:lnTo>
                <a:lnTo>
                  <a:pt x="924" y="98"/>
                </a:lnTo>
                <a:lnTo>
                  <a:pt x="928" y="101"/>
                </a:lnTo>
                <a:lnTo>
                  <a:pt x="929" y="107"/>
                </a:lnTo>
                <a:lnTo>
                  <a:pt x="931" y="111"/>
                </a:lnTo>
                <a:lnTo>
                  <a:pt x="933" y="117"/>
                </a:lnTo>
                <a:lnTo>
                  <a:pt x="935" y="121"/>
                </a:lnTo>
                <a:lnTo>
                  <a:pt x="937" y="125"/>
                </a:lnTo>
                <a:lnTo>
                  <a:pt x="937" y="130"/>
                </a:lnTo>
                <a:lnTo>
                  <a:pt x="935" y="138"/>
                </a:lnTo>
                <a:lnTo>
                  <a:pt x="935" y="148"/>
                </a:lnTo>
                <a:lnTo>
                  <a:pt x="931" y="155"/>
                </a:lnTo>
                <a:lnTo>
                  <a:pt x="926" y="163"/>
                </a:lnTo>
                <a:lnTo>
                  <a:pt x="920" y="171"/>
                </a:lnTo>
                <a:lnTo>
                  <a:pt x="912" y="178"/>
                </a:lnTo>
                <a:lnTo>
                  <a:pt x="906" y="180"/>
                </a:lnTo>
                <a:lnTo>
                  <a:pt x="903" y="184"/>
                </a:lnTo>
                <a:lnTo>
                  <a:pt x="897" y="186"/>
                </a:lnTo>
                <a:lnTo>
                  <a:pt x="889" y="190"/>
                </a:lnTo>
                <a:lnTo>
                  <a:pt x="887" y="190"/>
                </a:lnTo>
                <a:lnTo>
                  <a:pt x="883" y="192"/>
                </a:lnTo>
                <a:lnTo>
                  <a:pt x="880" y="196"/>
                </a:lnTo>
                <a:lnTo>
                  <a:pt x="876" y="199"/>
                </a:lnTo>
                <a:lnTo>
                  <a:pt x="872" y="203"/>
                </a:lnTo>
                <a:lnTo>
                  <a:pt x="868" y="207"/>
                </a:lnTo>
                <a:lnTo>
                  <a:pt x="864" y="213"/>
                </a:lnTo>
                <a:lnTo>
                  <a:pt x="860" y="219"/>
                </a:lnTo>
                <a:lnTo>
                  <a:pt x="857" y="224"/>
                </a:lnTo>
                <a:lnTo>
                  <a:pt x="853" y="232"/>
                </a:lnTo>
                <a:lnTo>
                  <a:pt x="849" y="240"/>
                </a:lnTo>
                <a:lnTo>
                  <a:pt x="845" y="247"/>
                </a:lnTo>
                <a:lnTo>
                  <a:pt x="841" y="255"/>
                </a:lnTo>
                <a:lnTo>
                  <a:pt x="837" y="265"/>
                </a:lnTo>
                <a:lnTo>
                  <a:pt x="832" y="274"/>
                </a:lnTo>
                <a:lnTo>
                  <a:pt x="828" y="286"/>
                </a:lnTo>
                <a:lnTo>
                  <a:pt x="824" y="297"/>
                </a:lnTo>
                <a:lnTo>
                  <a:pt x="818" y="309"/>
                </a:lnTo>
                <a:lnTo>
                  <a:pt x="814" y="320"/>
                </a:lnTo>
                <a:lnTo>
                  <a:pt x="810" y="334"/>
                </a:lnTo>
                <a:lnTo>
                  <a:pt x="805" y="347"/>
                </a:lnTo>
                <a:lnTo>
                  <a:pt x="801" y="361"/>
                </a:lnTo>
                <a:lnTo>
                  <a:pt x="795" y="376"/>
                </a:lnTo>
                <a:lnTo>
                  <a:pt x="791" y="391"/>
                </a:lnTo>
                <a:lnTo>
                  <a:pt x="786" y="407"/>
                </a:lnTo>
                <a:lnTo>
                  <a:pt x="780" y="424"/>
                </a:lnTo>
                <a:lnTo>
                  <a:pt x="776" y="441"/>
                </a:lnTo>
                <a:lnTo>
                  <a:pt x="770" y="459"/>
                </a:lnTo>
                <a:lnTo>
                  <a:pt x="766" y="476"/>
                </a:lnTo>
                <a:lnTo>
                  <a:pt x="761" y="495"/>
                </a:lnTo>
                <a:lnTo>
                  <a:pt x="755" y="514"/>
                </a:lnTo>
                <a:lnTo>
                  <a:pt x="749" y="533"/>
                </a:lnTo>
                <a:lnTo>
                  <a:pt x="657" y="533"/>
                </a:lnTo>
                <a:lnTo>
                  <a:pt x="659" y="516"/>
                </a:lnTo>
                <a:lnTo>
                  <a:pt x="661" y="499"/>
                </a:lnTo>
                <a:lnTo>
                  <a:pt x="663" y="483"/>
                </a:lnTo>
                <a:lnTo>
                  <a:pt x="665" y="466"/>
                </a:lnTo>
                <a:lnTo>
                  <a:pt x="667" y="451"/>
                </a:lnTo>
                <a:lnTo>
                  <a:pt x="668" y="435"/>
                </a:lnTo>
                <a:lnTo>
                  <a:pt x="670" y="420"/>
                </a:lnTo>
                <a:lnTo>
                  <a:pt x="670" y="407"/>
                </a:lnTo>
                <a:lnTo>
                  <a:pt x="672" y="393"/>
                </a:lnTo>
                <a:lnTo>
                  <a:pt x="674" y="380"/>
                </a:lnTo>
                <a:lnTo>
                  <a:pt x="676" y="366"/>
                </a:lnTo>
                <a:lnTo>
                  <a:pt x="678" y="355"/>
                </a:lnTo>
                <a:lnTo>
                  <a:pt x="678" y="343"/>
                </a:lnTo>
                <a:lnTo>
                  <a:pt x="680" y="332"/>
                </a:lnTo>
                <a:lnTo>
                  <a:pt x="682" y="320"/>
                </a:lnTo>
                <a:lnTo>
                  <a:pt x="682" y="311"/>
                </a:lnTo>
                <a:lnTo>
                  <a:pt x="684" y="301"/>
                </a:lnTo>
                <a:lnTo>
                  <a:pt x="684" y="292"/>
                </a:lnTo>
                <a:lnTo>
                  <a:pt x="686" y="282"/>
                </a:lnTo>
                <a:lnTo>
                  <a:pt x="686" y="274"/>
                </a:lnTo>
                <a:lnTo>
                  <a:pt x="688" y="267"/>
                </a:lnTo>
                <a:lnTo>
                  <a:pt x="688" y="259"/>
                </a:lnTo>
                <a:lnTo>
                  <a:pt x="688" y="253"/>
                </a:lnTo>
                <a:lnTo>
                  <a:pt x="690" y="245"/>
                </a:lnTo>
                <a:lnTo>
                  <a:pt x="690" y="240"/>
                </a:lnTo>
                <a:lnTo>
                  <a:pt x="690" y="234"/>
                </a:lnTo>
                <a:lnTo>
                  <a:pt x="690" y="230"/>
                </a:lnTo>
                <a:lnTo>
                  <a:pt x="690" y="226"/>
                </a:lnTo>
                <a:lnTo>
                  <a:pt x="691" y="222"/>
                </a:lnTo>
                <a:lnTo>
                  <a:pt x="691" y="219"/>
                </a:lnTo>
                <a:lnTo>
                  <a:pt x="691" y="215"/>
                </a:lnTo>
                <a:lnTo>
                  <a:pt x="691" y="213"/>
                </a:lnTo>
                <a:lnTo>
                  <a:pt x="691" y="207"/>
                </a:lnTo>
                <a:lnTo>
                  <a:pt x="691" y="201"/>
                </a:lnTo>
                <a:lnTo>
                  <a:pt x="690" y="196"/>
                </a:lnTo>
                <a:lnTo>
                  <a:pt x="690" y="190"/>
                </a:lnTo>
                <a:lnTo>
                  <a:pt x="688" y="182"/>
                </a:lnTo>
                <a:lnTo>
                  <a:pt x="686" y="176"/>
                </a:lnTo>
                <a:lnTo>
                  <a:pt x="684" y="171"/>
                </a:lnTo>
                <a:lnTo>
                  <a:pt x="680" y="165"/>
                </a:lnTo>
                <a:lnTo>
                  <a:pt x="678" y="163"/>
                </a:lnTo>
                <a:lnTo>
                  <a:pt x="674" y="161"/>
                </a:lnTo>
                <a:lnTo>
                  <a:pt x="670" y="159"/>
                </a:lnTo>
                <a:lnTo>
                  <a:pt x="667" y="159"/>
                </a:lnTo>
                <a:lnTo>
                  <a:pt x="657" y="157"/>
                </a:lnTo>
                <a:lnTo>
                  <a:pt x="647" y="157"/>
                </a:lnTo>
                <a:lnTo>
                  <a:pt x="636" y="157"/>
                </a:lnTo>
                <a:lnTo>
                  <a:pt x="624" y="159"/>
                </a:lnTo>
                <a:lnTo>
                  <a:pt x="611" y="161"/>
                </a:lnTo>
                <a:lnTo>
                  <a:pt x="597" y="165"/>
                </a:lnTo>
                <a:lnTo>
                  <a:pt x="588" y="169"/>
                </a:lnTo>
                <a:lnTo>
                  <a:pt x="578" y="171"/>
                </a:lnTo>
                <a:lnTo>
                  <a:pt x="569" y="173"/>
                </a:lnTo>
                <a:lnTo>
                  <a:pt x="557" y="176"/>
                </a:lnTo>
                <a:lnTo>
                  <a:pt x="546" y="180"/>
                </a:lnTo>
                <a:lnTo>
                  <a:pt x="534" y="184"/>
                </a:lnTo>
                <a:lnTo>
                  <a:pt x="523" y="188"/>
                </a:lnTo>
                <a:lnTo>
                  <a:pt x="509" y="192"/>
                </a:lnTo>
                <a:lnTo>
                  <a:pt x="494" y="196"/>
                </a:lnTo>
                <a:lnTo>
                  <a:pt x="480" y="201"/>
                </a:lnTo>
                <a:lnTo>
                  <a:pt x="463" y="207"/>
                </a:lnTo>
                <a:lnTo>
                  <a:pt x="448" y="211"/>
                </a:lnTo>
                <a:lnTo>
                  <a:pt x="430" y="217"/>
                </a:lnTo>
                <a:lnTo>
                  <a:pt x="413" y="224"/>
                </a:lnTo>
                <a:lnTo>
                  <a:pt x="394" y="230"/>
                </a:lnTo>
                <a:lnTo>
                  <a:pt x="375" y="236"/>
                </a:lnTo>
                <a:lnTo>
                  <a:pt x="296" y="263"/>
                </a:lnTo>
                <a:lnTo>
                  <a:pt x="217" y="290"/>
                </a:lnTo>
                <a:lnTo>
                  <a:pt x="139" y="316"/>
                </a:lnTo>
                <a:lnTo>
                  <a:pt x="60" y="343"/>
                </a:lnTo>
                <a:lnTo>
                  <a:pt x="31" y="295"/>
                </a:lnTo>
                <a:lnTo>
                  <a:pt x="0" y="249"/>
                </a:lnTo>
                <a:lnTo>
                  <a:pt x="22" y="245"/>
                </a:lnTo>
                <a:lnTo>
                  <a:pt x="41" y="242"/>
                </a:lnTo>
                <a:lnTo>
                  <a:pt x="62" y="238"/>
                </a:lnTo>
                <a:lnTo>
                  <a:pt x="85" y="234"/>
                </a:lnTo>
                <a:lnTo>
                  <a:pt x="108" y="228"/>
                </a:lnTo>
                <a:lnTo>
                  <a:pt x="131" y="222"/>
                </a:lnTo>
                <a:lnTo>
                  <a:pt x="154" y="215"/>
                </a:lnTo>
                <a:lnTo>
                  <a:pt x="179" y="207"/>
                </a:lnTo>
                <a:lnTo>
                  <a:pt x="206" y="199"/>
                </a:lnTo>
                <a:lnTo>
                  <a:pt x="231" y="190"/>
                </a:lnTo>
                <a:lnTo>
                  <a:pt x="260" y="182"/>
                </a:lnTo>
                <a:lnTo>
                  <a:pt x="286" y="173"/>
                </a:lnTo>
                <a:lnTo>
                  <a:pt x="317" y="161"/>
                </a:lnTo>
                <a:lnTo>
                  <a:pt x="346" y="151"/>
                </a:lnTo>
                <a:lnTo>
                  <a:pt x="379" y="140"/>
                </a:lnTo>
                <a:lnTo>
                  <a:pt x="411" y="130"/>
                </a:lnTo>
                <a:lnTo>
                  <a:pt x="442" y="119"/>
                </a:lnTo>
                <a:lnTo>
                  <a:pt x="473" y="107"/>
                </a:lnTo>
                <a:lnTo>
                  <a:pt x="500" y="98"/>
                </a:lnTo>
                <a:lnTo>
                  <a:pt x="526" y="88"/>
                </a:lnTo>
                <a:lnTo>
                  <a:pt x="551" y="80"/>
                </a:lnTo>
                <a:lnTo>
                  <a:pt x="574" y="73"/>
                </a:lnTo>
                <a:lnTo>
                  <a:pt x="594" y="65"/>
                </a:lnTo>
                <a:lnTo>
                  <a:pt x="613" y="57"/>
                </a:lnTo>
                <a:lnTo>
                  <a:pt x="630" y="52"/>
                </a:lnTo>
                <a:lnTo>
                  <a:pt x="645" y="46"/>
                </a:lnTo>
                <a:lnTo>
                  <a:pt x="661" y="40"/>
                </a:lnTo>
                <a:lnTo>
                  <a:pt x="672" y="36"/>
                </a:lnTo>
                <a:lnTo>
                  <a:pt x="682" y="32"/>
                </a:lnTo>
                <a:lnTo>
                  <a:pt x="691" y="29"/>
                </a:lnTo>
                <a:lnTo>
                  <a:pt x="697" y="25"/>
                </a:lnTo>
                <a:lnTo>
                  <a:pt x="703" y="2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192"/>
          <p:cNvSpPr/>
          <p:nvPr/>
        </p:nvSpPr>
        <p:spPr>
          <a:xfrm>
            <a:off x="5764320" y="3675240"/>
            <a:ext cx="541080" cy="222120"/>
          </a:xfrm>
          <a:custGeom>
            <a:avLst/>
            <a:gdLst/>
            <a:ahLst/>
            <a:rect l="l" t="t" r="r" b="b"/>
            <a:pathLst>
              <a:path w="681" h="280">
                <a:moveTo>
                  <a:pt x="385" y="67"/>
                </a:moveTo>
                <a:lnTo>
                  <a:pt x="418" y="54"/>
                </a:lnTo>
                <a:lnTo>
                  <a:pt x="449" y="42"/>
                </a:lnTo>
                <a:lnTo>
                  <a:pt x="478" y="33"/>
                </a:lnTo>
                <a:lnTo>
                  <a:pt x="504" y="23"/>
                </a:lnTo>
                <a:lnTo>
                  <a:pt x="529" y="17"/>
                </a:lnTo>
                <a:lnTo>
                  <a:pt x="552" y="10"/>
                </a:lnTo>
                <a:lnTo>
                  <a:pt x="573" y="6"/>
                </a:lnTo>
                <a:lnTo>
                  <a:pt x="593" y="2"/>
                </a:lnTo>
                <a:lnTo>
                  <a:pt x="602" y="2"/>
                </a:lnTo>
                <a:lnTo>
                  <a:pt x="612" y="0"/>
                </a:lnTo>
                <a:lnTo>
                  <a:pt x="620" y="0"/>
                </a:lnTo>
                <a:lnTo>
                  <a:pt x="627" y="0"/>
                </a:lnTo>
                <a:lnTo>
                  <a:pt x="633" y="0"/>
                </a:lnTo>
                <a:lnTo>
                  <a:pt x="641" y="0"/>
                </a:lnTo>
                <a:lnTo>
                  <a:pt x="646" y="0"/>
                </a:lnTo>
                <a:lnTo>
                  <a:pt x="652" y="2"/>
                </a:lnTo>
                <a:lnTo>
                  <a:pt x="658" y="2"/>
                </a:lnTo>
                <a:lnTo>
                  <a:pt x="662" y="4"/>
                </a:lnTo>
                <a:lnTo>
                  <a:pt x="666" y="6"/>
                </a:lnTo>
                <a:lnTo>
                  <a:pt x="669" y="8"/>
                </a:lnTo>
                <a:lnTo>
                  <a:pt x="673" y="10"/>
                </a:lnTo>
                <a:lnTo>
                  <a:pt x="675" y="14"/>
                </a:lnTo>
                <a:lnTo>
                  <a:pt x="677" y="16"/>
                </a:lnTo>
                <a:lnTo>
                  <a:pt x="679" y="19"/>
                </a:lnTo>
                <a:lnTo>
                  <a:pt x="679" y="29"/>
                </a:lnTo>
                <a:lnTo>
                  <a:pt x="681" y="37"/>
                </a:lnTo>
                <a:lnTo>
                  <a:pt x="679" y="44"/>
                </a:lnTo>
                <a:lnTo>
                  <a:pt x="679" y="52"/>
                </a:lnTo>
                <a:lnTo>
                  <a:pt x="675" y="60"/>
                </a:lnTo>
                <a:lnTo>
                  <a:pt x="671" y="67"/>
                </a:lnTo>
                <a:lnTo>
                  <a:pt x="668" y="75"/>
                </a:lnTo>
                <a:lnTo>
                  <a:pt x="662" y="81"/>
                </a:lnTo>
                <a:lnTo>
                  <a:pt x="656" y="87"/>
                </a:lnTo>
                <a:lnTo>
                  <a:pt x="648" y="92"/>
                </a:lnTo>
                <a:lnTo>
                  <a:pt x="641" y="96"/>
                </a:lnTo>
                <a:lnTo>
                  <a:pt x="631" y="102"/>
                </a:lnTo>
                <a:lnTo>
                  <a:pt x="620" y="106"/>
                </a:lnTo>
                <a:lnTo>
                  <a:pt x="610" y="110"/>
                </a:lnTo>
                <a:lnTo>
                  <a:pt x="597" y="111"/>
                </a:lnTo>
                <a:lnTo>
                  <a:pt x="585" y="115"/>
                </a:lnTo>
                <a:lnTo>
                  <a:pt x="577" y="117"/>
                </a:lnTo>
                <a:lnTo>
                  <a:pt x="568" y="119"/>
                </a:lnTo>
                <a:lnTo>
                  <a:pt x="560" y="123"/>
                </a:lnTo>
                <a:lnTo>
                  <a:pt x="550" y="125"/>
                </a:lnTo>
                <a:lnTo>
                  <a:pt x="539" y="129"/>
                </a:lnTo>
                <a:lnTo>
                  <a:pt x="529" y="131"/>
                </a:lnTo>
                <a:lnTo>
                  <a:pt x="518" y="135"/>
                </a:lnTo>
                <a:lnTo>
                  <a:pt x="504" y="138"/>
                </a:lnTo>
                <a:lnTo>
                  <a:pt x="493" y="142"/>
                </a:lnTo>
                <a:lnTo>
                  <a:pt x="479" y="146"/>
                </a:lnTo>
                <a:lnTo>
                  <a:pt x="466" y="152"/>
                </a:lnTo>
                <a:lnTo>
                  <a:pt x="453" y="156"/>
                </a:lnTo>
                <a:lnTo>
                  <a:pt x="437" y="159"/>
                </a:lnTo>
                <a:lnTo>
                  <a:pt x="422" y="165"/>
                </a:lnTo>
                <a:lnTo>
                  <a:pt x="405" y="169"/>
                </a:lnTo>
                <a:lnTo>
                  <a:pt x="389" y="175"/>
                </a:lnTo>
                <a:lnTo>
                  <a:pt x="372" y="181"/>
                </a:lnTo>
                <a:lnTo>
                  <a:pt x="353" y="186"/>
                </a:lnTo>
                <a:lnTo>
                  <a:pt x="335" y="192"/>
                </a:lnTo>
                <a:lnTo>
                  <a:pt x="316" y="198"/>
                </a:lnTo>
                <a:lnTo>
                  <a:pt x="295" y="204"/>
                </a:lnTo>
                <a:lnTo>
                  <a:pt x="276" y="209"/>
                </a:lnTo>
                <a:lnTo>
                  <a:pt x="255" y="217"/>
                </a:lnTo>
                <a:lnTo>
                  <a:pt x="232" y="223"/>
                </a:lnTo>
                <a:lnTo>
                  <a:pt x="211" y="229"/>
                </a:lnTo>
                <a:lnTo>
                  <a:pt x="188" y="236"/>
                </a:lnTo>
                <a:lnTo>
                  <a:pt x="163" y="244"/>
                </a:lnTo>
                <a:lnTo>
                  <a:pt x="140" y="250"/>
                </a:lnTo>
                <a:lnTo>
                  <a:pt x="115" y="257"/>
                </a:lnTo>
                <a:lnTo>
                  <a:pt x="88" y="265"/>
                </a:lnTo>
                <a:lnTo>
                  <a:pt x="63" y="273"/>
                </a:lnTo>
                <a:lnTo>
                  <a:pt x="36" y="280"/>
                </a:lnTo>
                <a:lnTo>
                  <a:pt x="17" y="234"/>
                </a:lnTo>
                <a:lnTo>
                  <a:pt x="0" y="186"/>
                </a:lnTo>
                <a:lnTo>
                  <a:pt x="17" y="183"/>
                </a:lnTo>
                <a:lnTo>
                  <a:pt x="32" y="181"/>
                </a:lnTo>
                <a:lnTo>
                  <a:pt x="51" y="177"/>
                </a:lnTo>
                <a:lnTo>
                  <a:pt x="71" y="173"/>
                </a:lnTo>
                <a:lnTo>
                  <a:pt x="90" y="167"/>
                </a:lnTo>
                <a:lnTo>
                  <a:pt x="111" y="161"/>
                </a:lnTo>
                <a:lnTo>
                  <a:pt x="134" y="156"/>
                </a:lnTo>
                <a:lnTo>
                  <a:pt x="157" y="150"/>
                </a:lnTo>
                <a:lnTo>
                  <a:pt x="182" y="142"/>
                </a:lnTo>
                <a:lnTo>
                  <a:pt x="209" y="133"/>
                </a:lnTo>
                <a:lnTo>
                  <a:pt x="236" y="125"/>
                </a:lnTo>
                <a:lnTo>
                  <a:pt x="263" y="115"/>
                </a:lnTo>
                <a:lnTo>
                  <a:pt x="291" y="104"/>
                </a:lnTo>
                <a:lnTo>
                  <a:pt x="322" y="92"/>
                </a:lnTo>
                <a:lnTo>
                  <a:pt x="353" y="81"/>
                </a:lnTo>
                <a:lnTo>
                  <a:pt x="385" y="6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Freeform 193"/>
          <p:cNvSpPr/>
          <p:nvPr/>
        </p:nvSpPr>
        <p:spPr>
          <a:xfrm>
            <a:off x="5837400" y="2930400"/>
            <a:ext cx="244440" cy="1316160"/>
          </a:xfrm>
          <a:custGeom>
            <a:avLst/>
            <a:gdLst/>
            <a:ahLst/>
            <a:rect l="l" t="t" r="r" b="b"/>
            <a:pathLst>
              <a:path w="307" h="1659">
                <a:moveTo>
                  <a:pt x="259" y="338"/>
                </a:moveTo>
                <a:lnTo>
                  <a:pt x="259" y="342"/>
                </a:lnTo>
                <a:lnTo>
                  <a:pt x="257" y="346"/>
                </a:lnTo>
                <a:lnTo>
                  <a:pt x="257" y="350"/>
                </a:lnTo>
                <a:lnTo>
                  <a:pt x="257" y="356"/>
                </a:lnTo>
                <a:lnTo>
                  <a:pt x="257" y="361"/>
                </a:lnTo>
                <a:lnTo>
                  <a:pt x="255" y="367"/>
                </a:lnTo>
                <a:lnTo>
                  <a:pt x="255" y="375"/>
                </a:lnTo>
                <a:lnTo>
                  <a:pt x="255" y="382"/>
                </a:lnTo>
                <a:lnTo>
                  <a:pt x="255" y="390"/>
                </a:lnTo>
                <a:lnTo>
                  <a:pt x="255" y="398"/>
                </a:lnTo>
                <a:lnTo>
                  <a:pt x="253" y="407"/>
                </a:lnTo>
                <a:lnTo>
                  <a:pt x="253" y="417"/>
                </a:lnTo>
                <a:lnTo>
                  <a:pt x="253" y="427"/>
                </a:lnTo>
                <a:lnTo>
                  <a:pt x="253" y="436"/>
                </a:lnTo>
                <a:lnTo>
                  <a:pt x="253" y="448"/>
                </a:lnTo>
                <a:lnTo>
                  <a:pt x="253" y="459"/>
                </a:lnTo>
                <a:lnTo>
                  <a:pt x="251" y="471"/>
                </a:lnTo>
                <a:lnTo>
                  <a:pt x="251" y="484"/>
                </a:lnTo>
                <a:lnTo>
                  <a:pt x="251" y="496"/>
                </a:lnTo>
                <a:lnTo>
                  <a:pt x="251" y="511"/>
                </a:lnTo>
                <a:lnTo>
                  <a:pt x="251" y="524"/>
                </a:lnTo>
                <a:lnTo>
                  <a:pt x="251" y="540"/>
                </a:lnTo>
                <a:lnTo>
                  <a:pt x="251" y="553"/>
                </a:lnTo>
                <a:lnTo>
                  <a:pt x="249" y="571"/>
                </a:lnTo>
                <a:lnTo>
                  <a:pt x="249" y="586"/>
                </a:lnTo>
                <a:lnTo>
                  <a:pt x="249" y="603"/>
                </a:lnTo>
                <a:lnTo>
                  <a:pt x="249" y="620"/>
                </a:lnTo>
                <a:lnTo>
                  <a:pt x="249" y="638"/>
                </a:lnTo>
                <a:lnTo>
                  <a:pt x="249" y="657"/>
                </a:lnTo>
                <a:lnTo>
                  <a:pt x="249" y="674"/>
                </a:lnTo>
                <a:lnTo>
                  <a:pt x="249" y="695"/>
                </a:lnTo>
                <a:lnTo>
                  <a:pt x="249" y="714"/>
                </a:lnTo>
                <a:lnTo>
                  <a:pt x="249" y="736"/>
                </a:lnTo>
                <a:lnTo>
                  <a:pt x="247" y="757"/>
                </a:lnTo>
                <a:lnTo>
                  <a:pt x="247" y="778"/>
                </a:lnTo>
                <a:lnTo>
                  <a:pt x="247" y="799"/>
                </a:lnTo>
                <a:lnTo>
                  <a:pt x="247" y="822"/>
                </a:lnTo>
                <a:lnTo>
                  <a:pt x="247" y="845"/>
                </a:lnTo>
                <a:lnTo>
                  <a:pt x="247" y="868"/>
                </a:lnTo>
                <a:lnTo>
                  <a:pt x="247" y="893"/>
                </a:lnTo>
                <a:lnTo>
                  <a:pt x="247" y="918"/>
                </a:lnTo>
                <a:lnTo>
                  <a:pt x="247" y="943"/>
                </a:lnTo>
                <a:lnTo>
                  <a:pt x="247" y="970"/>
                </a:lnTo>
                <a:lnTo>
                  <a:pt x="247" y="995"/>
                </a:lnTo>
                <a:lnTo>
                  <a:pt x="247" y="1022"/>
                </a:lnTo>
                <a:lnTo>
                  <a:pt x="247" y="1050"/>
                </a:lnTo>
                <a:lnTo>
                  <a:pt x="247" y="1077"/>
                </a:lnTo>
                <a:lnTo>
                  <a:pt x="247" y="1106"/>
                </a:lnTo>
                <a:lnTo>
                  <a:pt x="247" y="1135"/>
                </a:lnTo>
                <a:lnTo>
                  <a:pt x="247" y="1164"/>
                </a:lnTo>
                <a:lnTo>
                  <a:pt x="247" y="1194"/>
                </a:lnTo>
                <a:lnTo>
                  <a:pt x="247" y="1225"/>
                </a:lnTo>
                <a:lnTo>
                  <a:pt x="247" y="1256"/>
                </a:lnTo>
                <a:lnTo>
                  <a:pt x="247" y="1288"/>
                </a:lnTo>
                <a:lnTo>
                  <a:pt x="247" y="1321"/>
                </a:lnTo>
                <a:lnTo>
                  <a:pt x="247" y="1354"/>
                </a:lnTo>
                <a:lnTo>
                  <a:pt x="247" y="1386"/>
                </a:lnTo>
                <a:lnTo>
                  <a:pt x="247" y="1421"/>
                </a:lnTo>
                <a:lnTo>
                  <a:pt x="247" y="1454"/>
                </a:lnTo>
                <a:lnTo>
                  <a:pt x="247" y="1490"/>
                </a:lnTo>
                <a:lnTo>
                  <a:pt x="247" y="1525"/>
                </a:lnTo>
                <a:lnTo>
                  <a:pt x="247" y="1561"/>
                </a:lnTo>
                <a:lnTo>
                  <a:pt x="247" y="1597"/>
                </a:lnTo>
                <a:lnTo>
                  <a:pt x="247" y="1634"/>
                </a:lnTo>
                <a:lnTo>
                  <a:pt x="188" y="1645"/>
                </a:lnTo>
                <a:lnTo>
                  <a:pt x="130" y="1659"/>
                </a:lnTo>
                <a:lnTo>
                  <a:pt x="130" y="1592"/>
                </a:lnTo>
                <a:lnTo>
                  <a:pt x="130" y="1526"/>
                </a:lnTo>
                <a:lnTo>
                  <a:pt x="130" y="1463"/>
                </a:lnTo>
                <a:lnTo>
                  <a:pt x="130" y="1400"/>
                </a:lnTo>
                <a:lnTo>
                  <a:pt x="130" y="1340"/>
                </a:lnTo>
                <a:lnTo>
                  <a:pt x="130" y="1283"/>
                </a:lnTo>
                <a:lnTo>
                  <a:pt x="130" y="1227"/>
                </a:lnTo>
                <a:lnTo>
                  <a:pt x="130" y="1171"/>
                </a:lnTo>
                <a:lnTo>
                  <a:pt x="130" y="1120"/>
                </a:lnTo>
                <a:lnTo>
                  <a:pt x="130" y="1070"/>
                </a:lnTo>
                <a:lnTo>
                  <a:pt x="130" y="1020"/>
                </a:lnTo>
                <a:lnTo>
                  <a:pt x="130" y="972"/>
                </a:lnTo>
                <a:lnTo>
                  <a:pt x="130" y="928"/>
                </a:lnTo>
                <a:lnTo>
                  <a:pt x="128" y="883"/>
                </a:lnTo>
                <a:lnTo>
                  <a:pt x="128" y="841"/>
                </a:lnTo>
                <a:lnTo>
                  <a:pt x="128" y="803"/>
                </a:lnTo>
                <a:lnTo>
                  <a:pt x="128" y="764"/>
                </a:lnTo>
                <a:lnTo>
                  <a:pt x="128" y="728"/>
                </a:lnTo>
                <a:lnTo>
                  <a:pt x="128" y="693"/>
                </a:lnTo>
                <a:lnTo>
                  <a:pt x="126" y="661"/>
                </a:lnTo>
                <a:lnTo>
                  <a:pt x="126" y="630"/>
                </a:lnTo>
                <a:lnTo>
                  <a:pt x="126" y="601"/>
                </a:lnTo>
                <a:lnTo>
                  <a:pt x="126" y="574"/>
                </a:lnTo>
                <a:lnTo>
                  <a:pt x="124" y="548"/>
                </a:lnTo>
                <a:lnTo>
                  <a:pt x="124" y="524"/>
                </a:lnTo>
                <a:lnTo>
                  <a:pt x="124" y="503"/>
                </a:lnTo>
                <a:lnTo>
                  <a:pt x="123" y="482"/>
                </a:lnTo>
                <a:lnTo>
                  <a:pt x="123" y="465"/>
                </a:lnTo>
                <a:lnTo>
                  <a:pt x="121" y="448"/>
                </a:lnTo>
                <a:lnTo>
                  <a:pt x="121" y="434"/>
                </a:lnTo>
                <a:lnTo>
                  <a:pt x="119" y="421"/>
                </a:lnTo>
                <a:lnTo>
                  <a:pt x="119" y="409"/>
                </a:lnTo>
                <a:lnTo>
                  <a:pt x="117" y="392"/>
                </a:lnTo>
                <a:lnTo>
                  <a:pt x="115" y="375"/>
                </a:lnTo>
                <a:lnTo>
                  <a:pt x="111" y="359"/>
                </a:lnTo>
                <a:lnTo>
                  <a:pt x="109" y="342"/>
                </a:lnTo>
                <a:lnTo>
                  <a:pt x="107" y="327"/>
                </a:lnTo>
                <a:lnTo>
                  <a:pt x="105" y="313"/>
                </a:lnTo>
                <a:lnTo>
                  <a:pt x="103" y="298"/>
                </a:lnTo>
                <a:lnTo>
                  <a:pt x="101" y="285"/>
                </a:lnTo>
                <a:lnTo>
                  <a:pt x="98" y="271"/>
                </a:lnTo>
                <a:lnTo>
                  <a:pt x="96" y="260"/>
                </a:lnTo>
                <a:lnTo>
                  <a:pt x="94" y="248"/>
                </a:lnTo>
                <a:lnTo>
                  <a:pt x="92" y="237"/>
                </a:lnTo>
                <a:lnTo>
                  <a:pt x="90" y="225"/>
                </a:lnTo>
                <a:lnTo>
                  <a:pt x="88" y="215"/>
                </a:lnTo>
                <a:lnTo>
                  <a:pt x="86" y="206"/>
                </a:lnTo>
                <a:lnTo>
                  <a:pt x="84" y="196"/>
                </a:lnTo>
                <a:lnTo>
                  <a:pt x="78" y="179"/>
                </a:lnTo>
                <a:lnTo>
                  <a:pt x="75" y="162"/>
                </a:lnTo>
                <a:lnTo>
                  <a:pt x="69" y="146"/>
                </a:lnTo>
                <a:lnTo>
                  <a:pt x="63" y="131"/>
                </a:lnTo>
                <a:lnTo>
                  <a:pt x="55" y="118"/>
                </a:lnTo>
                <a:lnTo>
                  <a:pt x="48" y="104"/>
                </a:lnTo>
                <a:lnTo>
                  <a:pt x="36" y="91"/>
                </a:lnTo>
                <a:lnTo>
                  <a:pt x="30" y="83"/>
                </a:lnTo>
                <a:lnTo>
                  <a:pt x="25" y="77"/>
                </a:lnTo>
                <a:lnTo>
                  <a:pt x="19" y="71"/>
                </a:lnTo>
                <a:lnTo>
                  <a:pt x="13" y="68"/>
                </a:lnTo>
                <a:lnTo>
                  <a:pt x="9" y="64"/>
                </a:lnTo>
                <a:lnTo>
                  <a:pt x="5" y="58"/>
                </a:lnTo>
                <a:lnTo>
                  <a:pt x="2" y="54"/>
                </a:lnTo>
                <a:lnTo>
                  <a:pt x="0" y="50"/>
                </a:lnTo>
                <a:lnTo>
                  <a:pt x="0" y="45"/>
                </a:lnTo>
                <a:lnTo>
                  <a:pt x="0" y="41"/>
                </a:lnTo>
                <a:lnTo>
                  <a:pt x="0" y="37"/>
                </a:lnTo>
                <a:lnTo>
                  <a:pt x="0" y="31"/>
                </a:lnTo>
                <a:lnTo>
                  <a:pt x="2" y="27"/>
                </a:lnTo>
                <a:lnTo>
                  <a:pt x="5" y="23"/>
                </a:lnTo>
                <a:lnTo>
                  <a:pt x="9" y="20"/>
                </a:lnTo>
                <a:lnTo>
                  <a:pt x="13" y="14"/>
                </a:lnTo>
                <a:lnTo>
                  <a:pt x="19" y="10"/>
                </a:lnTo>
                <a:lnTo>
                  <a:pt x="25" y="6"/>
                </a:lnTo>
                <a:lnTo>
                  <a:pt x="30" y="2"/>
                </a:lnTo>
                <a:lnTo>
                  <a:pt x="34" y="2"/>
                </a:lnTo>
                <a:lnTo>
                  <a:pt x="42" y="0"/>
                </a:lnTo>
                <a:lnTo>
                  <a:pt x="50" y="0"/>
                </a:lnTo>
                <a:lnTo>
                  <a:pt x="57" y="0"/>
                </a:lnTo>
                <a:lnTo>
                  <a:pt x="67" y="2"/>
                </a:lnTo>
                <a:lnTo>
                  <a:pt x="76" y="2"/>
                </a:lnTo>
                <a:lnTo>
                  <a:pt x="86" y="4"/>
                </a:lnTo>
                <a:lnTo>
                  <a:pt x="98" y="8"/>
                </a:lnTo>
                <a:lnTo>
                  <a:pt x="109" y="10"/>
                </a:lnTo>
                <a:lnTo>
                  <a:pt x="123" y="14"/>
                </a:lnTo>
                <a:lnTo>
                  <a:pt x="136" y="18"/>
                </a:lnTo>
                <a:lnTo>
                  <a:pt x="151" y="23"/>
                </a:lnTo>
                <a:lnTo>
                  <a:pt x="167" y="29"/>
                </a:lnTo>
                <a:lnTo>
                  <a:pt x="184" y="35"/>
                </a:lnTo>
                <a:lnTo>
                  <a:pt x="201" y="41"/>
                </a:lnTo>
                <a:lnTo>
                  <a:pt x="215" y="50"/>
                </a:lnTo>
                <a:lnTo>
                  <a:pt x="228" y="58"/>
                </a:lnTo>
                <a:lnTo>
                  <a:pt x="242" y="68"/>
                </a:lnTo>
                <a:lnTo>
                  <a:pt x="253" y="77"/>
                </a:lnTo>
                <a:lnTo>
                  <a:pt x="263" y="85"/>
                </a:lnTo>
                <a:lnTo>
                  <a:pt x="272" y="94"/>
                </a:lnTo>
                <a:lnTo>
                  <a:pt x="280" y="102"/>
                </a:lnTo>
                <a:lnTo>
                  <a:pt x="288" y="112"/>
                </a:lnTo>
                <a:lnTo>
                  <a:pt x="293" y="119"/>
                </a:lnTo>
                <a:lnTo>
                  <a:pt x="299" y="127"/>
                </a:lnTo>
                <a:lnTo>
                  <a:pt x="303" y="135"/>
                </a:lnTo>
                <a:lnTo>
                  <a:pt x="305" y="142"/>
                </a:lnTo>
                <a:lnTo>
                  <a:pt x="307" y="150"/>
                </a:lnTo>
                <a:lnTo>
                  <a:pt x="307" y="158"/>
                </a:lnTo>
                <a:lnTo>
                  <a:pt x="307" y="166"/>
                </a:lnTo>
                <a:lnTo>
                  <a:pt x="305" y="171"/>
                </a:lnTo>
                <a:lnTo>
                  <a:pt x="301" y="179"/>
                </a:lnTo>
                <a:lnTo>
                  <a:pt x="297" y="187"/>
                </a:lnTo>
                <a:lnTo>
                  <a:pt x="293" y="194"/>
                </a:lnTo>
                <a:lnTo>
                  <a:pt x="290" y="202"/>
                </a:lnTo>
                <a:lnTo>
                  <a:pt x="284" y="221"/>
                </a:lnTo>
                <a:lnTo>
                  <a:pt x="278" y="242"/>
                </a:lnTo>
                <a:lnTo>
                  <a:pt x="272" y="263"/>
                </a:lnTo>
                <a:lnTo>
                  <a:pt x="268" y="286"/>
                </a:lnTo>
                <a:lnTo>
                  <a:pt x="263" y="311"/>
                </a:lnTo>
                <a:lnTo>
                  <a:pt x="259" y="33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Freeform 194"/>
          <p:cNvSpPr/>
          <p:nvPr/>
        </p:nvSpPr>
        <p:spPr>
          <a:xfrm>
            <a:off x="5568840" y="3506760"/>
            <a:ext cx="263520" cy="438120"/>
          </a:xfrm>
          <a:custGeom>
            <a:avLst/>
            <a:gdLst/>
            <a:ahLst/>
            <a:rect l="l" t="t" r="r" b="b"/>
            <a:pathLst>
              <a:path w="332" h="553">
                <a:moveTo>
                  <a:pt x="0" y="29"/>
                </a:moveTo>
                <a:lnTo>
                  <a:pt x="2" y="23"/>
                </a:lnTo>
                <a:lnTo>
                  <a:pt x="4" y="17"/>
                </a:lnTo>
                <a:lnTo>
                  <a:pt x="8" y="12"/>
                </a:lnTo>
                <a:lnTo>
                  <a:pt x="13" y="8"/>
                </a:lnTo>
                <a:lnTo>
                  <a:pt x="21" y="6"/>
                </a:lnTo>
                <a:lnTo>
                  <a:pt x="31" y="2"/>
                </a:lnTo>
                <a:lnTo>
                  <a:pt x="42" y="2"/>
                </a:lnTo>
                <a:lnTo>
                  <a:pt x="54" y="0"/>
                </a:lnTo>
                <a:lnTo>
                  <a:pt x="69" y="0"/>
                </a:lnTo>
                <a:lnTo>
                  <a:pt x="86" y="0"/>
                </a:lnTo>
                <a:lnTo>
                  <a:pt x="104" y="2"/>
                </a:lnTo>
                <a:lnTo>
                  <a:pt x="125" y="4"/>
                </a:lnTo>
                <a:lnTo>
                  <a:pt x="146" y="6"/>
                </a:lnTo>
                <a:lnTo>
                  <a:pt x="169" y="8"/>
                </a:lnTo>
                <a:lnTo>
                  <a:pt x="196" y="12"/>
                </a:lnTo>
                <a:lnTo>
                  <a:pt x="209" y="13"/>
                </a:lnTo>
                <a:lnTo>
                  <a:pt x="223" y="17"/>
                </a:lnTo>
                <a:lnTo>
                  <a:pt x="228" y="44"/>
                </a:lnTo>
                <a:lnTo>
                  <a:pt x="232" y="71"/>
                </a:lnTo>
                <a:lnTo>
                  <a:pt x="238" y="96"/>
                </a:lnTo>
                <a:lnTo>
                  <a:pt x="244" y="121"/>
                </a:lnTo>
                <a:lnTo>
                  <a:pt x="247" y="146"/>
                </a:lnTo>
                <a:lnTo>
                  <a:pt x="253" y="169"/>
                </a:lnTo>
                <a:lnTo>
                  <a:pt x="257" y="192"/>
                </a:lnTo>
                <a:lnTo>
                  <a:pt x="261" y="213"/>
                </a:lnTo>
                <a:lnTo>
                  <a:pt x="267" y="234"/>
                </a:lnTo>
                <a:lnTo>
                  <a:pt x="271" y="253"/>
                </a:lnTo>
                <a:lnTo>
                  <a:pt x="274" y="273"/>
                </a:lnTo>
                <a:lnTo>
                  <a:pt x="278" y="292"/>
                </a:lnTo>
                <a:lnTo>
                  <a:pt x="282" y="309"/>
                </a:lnTo>
                <a:lnTo>
                  <a:pt x="286" y="326"/>
                </a:lnTo>
                <a:lnTo>
                  <a:pt x="290" y="342"/>
                </a:lnTo>
                <a:lnTo>
                  <a:pt x="292" y="357"/>
                </a:lnTo>
                <a:lnTo>
                  <a:pt x="295" y="370"/>
                </a:lnTo>
                <a:lnTo>
                  <a:pt x="299" y="384"/>
                </a:lnTo>
                <a:lnTo>
                  <a:pt x="301" y="397"/>
                </a:lnTo>
                <a:lnTo>
                  <a:pt x="305" y="409"/>
                </a:lnTo>
                <a:lnTo>
                  <a:pt x="307" y="420"/>
                </a:lnTo>
                <a:lnTo>
                  <a:pt x="309" y="432"/>
                </a:lnTo>
                <a:lnTo>
                  <a:pt x="313" y="442"/>
                </a:lnTo>
                <a:lnTo>
                  <a:pt x="315" y="449"/>
                </a:lnTo>
                <a:lnTo>
                  <a:pt x="317" y="457"/>
                </a:lnTo>
                <a:lnTo>
                  <a:pt x="318" y="465"/>
                </a:lnTo>
                <a:lnTo>
                  <a:pt x="320" y="472"/>
                </a:lnTo>
                <a:lnTo>
                  <a:pt x="322" y="476"/>
                </a:lnTo>
                <a:lnTo>
                  <a:pt x="324" y="482"/>
                </a:lnTo>
                <a:lnTo>
                  <a:pt x="324" y="486"/>
                </a:lnTo>
                <a:lnTo>
                  <a:pt x="326" y="489"/>
                </a:lnTo>
                <a:lnTo>
                  <a:pt x="328" y="491"/>
                </a:lnTo>
                <a:lnTo>
                  <a:pt x="330" y="497"/>
                </a:lnTo>
                <a:lnTo>
                  <a:pt x="330" y="501"/>
                </a:lnTo>
                <a:lnTo>
                  <a:pt x="332" y="505"/>
                </a:lnTo>
                <a:lnTo>
                  <a:pt x="332" y="511"/>
                </a:lnTo>
                <a:lnTo>
                  <a:pt x="332" y="514"/>
                </a:lnTo>
                <a:lnTo>
                  <a:pt x="330" y="518"/>
                </a:lnTo>
                <a:lnTo>
                  <a:pt x="330" y="522"/>
                </a:lnTo>
                <a:lnTo>
                  <a:pt x="328" y="526"/>
                </a:lnTo>
                <a:lnTo>
                  <a:pt x="324" y="530"/>
                </a:lnTo>
                <a:lnTo>
                  <a:pt x="322" y="534"/>
                </a:lnTo>
                <a:lnTo>
                  <a:pt x="318" y="537"/>
                </a:lnTo>
                <a:lnTo>
                  <a:pt x="315" y="541"/>
                </a:lnTo>
                <a:lnTo>
                  <a:pt x="309" y="543"/>
                </a:lnTo>
                <a:lnTo>
                  <a:pt x="305" y="547"/>
                </a:lnTo>
                <a:lnTo>
                  <a:pt x="299" y="549"/>
                </a:lnTo>
                <a:lnTo>
                  <a:pt x="294" y="551"/>
                </a:lnTo>
                <a:lnTo>
                  <a:pt x="286" y="553"/>
                </a:lnTo>
                <a:lnTo>
                  <a:pt x="280" y="553"/>
                </a:lnTo>
                <a:lnTo>
                  <a:pt x="272" y="551"/>
                </a:lnTo>
                <a:lnTo>
                  <a:pt x="267" y="547"/>
                </a:lnTo>
                <a:lnTo>
                  <a:pt x="259" y="541"/>
                </a:lnTo>
                <a:lnTo>
                  <a:pt x="253" y="534"/>
                </a:lnTo>
                <a:lnTo>
                  <a:pt x="249" y="530"/>
                </a:lnTo>
                <a:lnTo>
                  <a:pt x="246" y="524"/>
                </a:lnTo>
                <a:lnTo>
                  <a:pt x="242" y="518"/>
                </a:lnTo>
                <a:lnTo>
                  <a:pt x="238" y="513"/>
                </a:lnTo>
                <a:lnTo>
                  <a:pt x="234" y="507"/>
                </a:lnTo>
                <a:lnTo>
                  <a:pt x="230" y="499"/>
                </a:lnTo>
                <a:lnTo>
                  <a:pt x="226" y="493"/>
                </a:lnTo>
                <a:lnTo>
                  <a:pt x="224" y="484"/>
                </a:lnTo>
                <a:lnTo>
                  <a:pt x="221" y="476"/>
                </a:lnTo>
                <a:lnTo>
                  <a:pt x="217" y="466"/>
                </a:lnTo>
                <a:lnTo>
                  <a:pt x="213" y="459"/>
                </a:lnTo>
                <a:lnTo>
                  <a:pt x="209" y="447"/>
                </a:lnTo>
                <a:lnTo>
                  <a:pt x="205" y="438"/>
                </a:lnTo>
                <a:lnTo>
                  <a:pt x="199" y="426"/>
                </a:lnTo>
                <a:lnTo>
                  <a:pt x="196" y="415"/>
                </a:lnTo>
                <a:lnTo>
                  <a:pt x="192" y="403"/>
                </a:lnTo>
                <a:lnTo>
                  <a:pt x="188" y="390"/>
                </a:lnTo>
                <a:lnTo>
                  <a:pt x="184" y="378"/>
                </a:lnTo>
                <a:lnTo>
                  <a:pt x="180" y="363"/>
                </a:lnTo>
                <a:lnTo>
                  <a:pt x="176" y="349"/>
                </a:lnTo>
                <a:lnTo>
                  <a:pt x="167" y="322"/>
                </a:lnTo>
                <a:lnTo>
                  <a:pt x="159" y="299"/>
                </a:lnTo>
                <a:lnTo>
                  <a:pt x="151" y="275"/>
                </a:lnTo>
                <a:lnTo>
                  <a:pt x="144" y="253"/>
                </a:lnTo>
                <a:lnTo>
                  <a:pt x="136" y="232"/>
                </a:lnTo>
                <a:lnTo>
                  <a:pt x="128" y="213"/>
                </a:lnTo>
                <a:lnTo>
                  <a:pt x="121" y="196"/>
                </a:lnTo>
                <a:lnTo>
                  <a:pt x="113" y="180"/>
                </a:lnTo>
                <a:lnTo>
                  <a:pt x="105" y="165"/>
                </a:lnTo>
                <a:lnTo>
                  <a:pt x="100" y="152"/>
                </a:lnTo>
                <a:lnTo>
                  <a:pt x="92" y="140"/>
                </a:lnTo>
                <a:lnTo>
                  <a:pt x="86" y="129"/>
                </a:lnTo>
                <a:lnTo>
                  <a:pt x="79" y="119"/>
                </a:lnTo>
                <a:lnTo>
                  <a:pt x="73" y="111"/>
                </a:lnTo>
                <a:lnTo>
                  <a:pt x="65" y="106"/>
                </a:lnTo>
                <a:lnTo>
                  <a:pt x="59" y="100"/>
                </a:lnTo>
                <a:lnTo>
                  <a:pt x="46" y="90"/>
                </a:lnTo>
                <a:lnTo>
                  <a:pt x="34" y="83"/>
                </a:lnTo>
                <a:lnTo>
                  <a:pt x="25" y="73"/>
                </a:lnTo>
                <a:lnTo>
                  <a:pt x="17" y="63"/>
                </a:lnTo>
                <a:lnTo>
                  <a:pt x="9" y="56"/>
                </a:lnTo>
                <a:lnTo>
                  <a:pt x="8" y="50"/>
                </a:lnTo>
                <a:lnTo>
                  <a:pt x="4" y="46"/>
                </a:lnTo>
                <a:lnTo>
                  <a:pt x="4" y="42"/>
                </a:lnTo>
                <a:lnTo>
                  <a:pt x="2" y="36"/>
                </a:lnTo>
                <a:lnTo>
                  <a:pt x="0" y="33"/>
                </a:lnTo>
                <a:lnTo>
                  <a:pt x="0" y="2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188"/>
                                        </p:tgtEl>
                                        <p:attrNameLst>
                                          <p:attrName>style.visibility</p:attrName>
                                        </p:attrNameLst>
                                      </p:cBhvr>
                                      <p:to>
                                        <p:strVal val="visible"/>
                                      </p:to>
                                    </p:set>
                                    <p:anim calcmode="lin" valueType="num">
                                      <p:cBhvr additive="base">
                                        <p:cTn id="432" dur="500" fill="hold"/>
                                        <p:tgtEl>
                                          <p:spTgt spid="188"/>
                                        </p:tgtEl>
                                        <p:attrNameLst>
                                          <p:attrName>ppt_x</p:attrName>
                                        </p:attrNameLst>
                                      </p:cBhvr>
                                      <p:tavLst>
                                        <p:tav tm="0">
                                          <p:val>
                                            <p:strVal val="0-#ppt_w/2"/>
                                          </p:val>
                                        </p:tav>
                                        <p:tav tm="100000">
                                          <p:val>
                                            <p:strVal val="#ppt_x"/>
                                          </p:val>
                                        </p:tav>
                                      </p:tavLst>
                                    </p:anim>
                                    <p:anim calcmode="lin" valueType="num">
                                      <p:cBhvr additive="base">
                                        <p:cTn id="433"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202"/>
                                        </p:tgtEl>
                                        <p:attrNameLst>
                                          <p:attrName>style.visibility</p:attrName>
                                        </p:attrNameLst>
                                      </p:cBhvr>
                                      <p:to>
                                        <p:strVal val="visible"/>
                                      </p:to>
                                    </p:set>
                                    <p:animEffect filter="wipe(up)" transition="in">
                                      <p:cBhvr additive="repl">
                                        <p:cTn id="438" dur="500"/>
                                        <p:tgtEl>
                                          <p:spTgt spid="20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8" presetSubtype="6">
                                  <p:stCondLst>
                                    <p:cond delay="0"/>
                                  </p:stCondLst>
                                  <p:childTnLst>
                                    <p:set>
                                      <p:cBhvr>
                                        <p:cTn id="442" dur="1" fill="hold">
                                          <p:stCondLst>
                                            <p:cond delay="0"/>
                                          </p:stCondLst>
                                        </p:cTn>
                                        <p:tgtEl>
                                          <p:spTgt spid="199"/>
                                        </p:tgtEl>
                                        <p:attrNameLst>
                                          <p:attrName>style.visibility</p:attrName>
                                        </p:attrNameLst>
                                      </p:cBhvr>
                                      <p:to>
                                        <p:strVal val="visible"/>
                                      </p:to>
                                    </p:set>
                                    <p:animEffect filter="strips(downRight)" transition="in">
                                      <p:cBhvr additive="repl">
                                        <p:cTn id="443" dur="500"/>
                                        <p:tgtEl>
                                          <p:spTgt spid="199"/>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200"/>
                                        </p:tgtEl>
                                        <p:attrNameLst>
                                          <p:attrName>style.visibility</p:attrName>
                                        </p:attrNameLst>
                                      </p:cBhvr>
                                      <p:to>
                                        <p:strVal val="visible"/>
                                      </p:to>
                                    </p:set>
                                    <p:animEffect filter="wipe(left)" transition="in">
                                      <p:cBhvr additive="repl">
                                        <p:cTn id="448" dur="500"/>
                                        <p:tgtEl>
                                          <p:spTgt spid="200"/>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201"/>
                                        </p:tgtEl>
                                        <p:attrNameLst>
                                          <p:attrName>style.visibility</p:attrName>
                                        </p:attrNameLst>
                                      </p:cBhvr>
                                      <p:to>
                                        <p:strVal val="visible"/>
                                      </p:to>
                                    </p:set>
                                    <p:animEffect filter="wipe(up)" transition="in">
                                      <p:cBhvr additive="repl">
                                        <p:cTn id="453" dur="500"/>
                                        <p:tgtEl>
                                          <p:spTgt spid="201"/>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98"/>
                                        </p:tgtEl>
                                        <p:attrNameLst>
                                          <p:attrName>style.visibility</p:attrName>
                                        </p:attrNameLst>
                                      </p:cBhvr>
                                      <p:to>
                                        <p:strVal val="visible"/>
                                      </p:to>
                                    </p:set>
                                    <p:animEffect filter="wipe(left)" transition="in">
                                      <p:cBhvr additive="repl">
                                        <p:cTn id="458" dur="500"/>
                                        <p:tgtEl>
                                          <p:spTgt spid="198"/>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197"/>
                                        </p:tgtEl>
                                        <p:attrNameLst>
                                          <p:attrName>style.visibility</p:attrName>
                                        </p:attrNameLst>
                                      </p:cBhvr>
                                      <p:to>
                                        <p:strVal val="visible"/>
                                      </p:to>
                                    </p:set>
                                    <p:animEffect filter="wipe(up)" transition="in">
                                      <p:cBhvr additive="repl">
                                        <p:cTn id="463" dur="500"/>
                                        <p:tgtEl>
                                          <p:spTgt spid="197"/>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196"/>
                                        </p:tgtEl>
                                        <p:attrNameLst>
                                          <p:attrName>style.visibility</p:attrName>
                                        </p:attrNameLst>
                                      </p:cBhvr>
                                      <p:to>
                                        <p:strVal val="visible"/>
                                      </p:to>
                                    </p:set>
                                    <p:animEffect filter="wipe(up)" transition="in">
                                      <p:cBhvr additive="repl">
                                        <p:cTn id="468" dur="500"/>
                                        <p:tgtEl>
                                          <p:spTgt spid="19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1">
                                  <p:stCondLst>
                                    <p:cond delay="0"/>
                                  </p:stCondLst>
                                  <p:childTnLst>
                                    <p:set>
                                      <p:cBhvr>
                                        <p:cTn id="472" dur="1" fill="hold">
                                          <p:stCondLst>
                                            <p:cond delay="0"/>
                                          </p:stCondLst>
                                        </p:cTn>
                                        <p:tgtEl>
                                          <p:spTgt spid="195"/>
                                        </p:tgtEl>
                                        <p:attrNameLst>
                                          <p:attrName>style.visibility</p:attrName>
                                        </p:attrNameLst>
                                      </p:cBhvr>
                                      <p:to>
                                        <p:strVal val="visible"/>
                                      </p:to>
                                    </p:set>
                                    <p:animEffect filter="wipe(up)" transition="in">
                                      <p:cBhvr additive="repl">
                                        <p:cTn id="473" dur="500"/>
                                        <p:tgtEl>
                                          <p:spTgt spid="195"/>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1">
                                  <p:stCondLst>
                                    <p:cond delay="0"/>
                                  </p:stCondLst>
                                  <p:childTnLst>
                                    <p:set>
                                      <p:cBhvr>
                                        <p:cTn id="477" dur="1" fill="hold">
                                          <p:stCondLst>
                                            <p:cond delay="0"/>
                                          </p:stCondLst>
                                        </p:cTn>
                                        <p:tgtEl>
                                          <p:spTgt spid="194"/>
                                        </p:tgtEl>
                                        <p:attrNameLst>
                                          <p:attrName>style.visibility</p:attrName>
                                        </p:attrNameLst>
                                      </p:cBhvr>
                                      <p:to>
                                        <p:strVal val="visible"/>
                                      </p:to>
                                    </p:set>
                                    <p:animEffect filter="wipe(up)" transition="in">
                                      <p:cBhvr additive="repl">
                                        <p:cTn id="478" dur="500"/>
                                        <p:tgtEl>
                                          <p:spTgt spid="194"/>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18" presetSubtype="6">
                                  <p:stCondLst>
                                    <p:cond delay="0"/>
                                  </p:stCondLst>
                                  <p:childTnLst>
                                    <p:set>
                                      <p:cBhvr>
                                        <p:cTn id="482" dur="1" fill="hold">
                                          <p:stCondLst>
                                            <p:cond delay="0"/>
                                          </p:stCondLst>
                                        </p:cTn>
                                        <p:tgtEl>
                                          <p:spTgt spid="191"/>
                                        </p:tgtEl>
                                        <p:attrNameLst>
                                          <p:attrName>style.visibility</p:attrName>
                                        </p:attrNameLst>
                                      </p:cBhvr>
                                      <p:to>
                                        <p:strVal val="visible"/>
                                      </p:to>
                                    </p:set>
                                    <p:animEffect filter="strips(downRight)" transition="in">
                                      <p:cBhvr additive="repl">
                                        <p:cTn id="483" dur="500"/>
                                        <p:tgtEl>
                                          <p:spTgt spid="191"/>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93"/>
                                        </p:tgtEl>
                                        <p:attrNameLst>
                                          <p:attrName>style.visibility</p:attrName>
                                        </p:attrNameLst>
                                      </p:cBhvr>
                                      <p:to>
                                        <p:strVal val="visible"/>
                                      </p:to>
                                    </p:set>
                                    <p:animEffect filter="wipe(left)" transition="in">
                                      <p:cBhvr additive="repl">
                                        <p:cTn id="488" dur="500"/>
                                        <p:tgtEl>
                                          <p:spTgt spid="193"/>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192"/>
                                        </p:tgtEl>
                                        <p:attrNameLst>
                                          <p:attrName>style.visibility</p:attrName>
                                        </p:attrNameLst>
                                      </p:cBhvr>
                                      <p:to>
                                        <p:strVal val="visible"/>
                                      </p:to>
                                    </p:set>
                                    <p:animEffect filter="wipe(left)" transition="in">
                                      <p:cBhvr additive="repl">
                                        <p:cTn id="493" dur="500"/>
                                        <p:tgtEl>
                                          <p:spTgt spid="192"/>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190"/>
                                        </p:tgtEl>
                                        <p:attrNameLst>
                                          <p:attrName>style.visibility</p:attrName>
                                        </p:attrNameLst>
                                      </p:cBhvr>
                                      <p:to>
                                        <p:strVal val="visible"/>
                                      </p:to>
                                    </p:set>
                                    <p:animEffect filter="wipe(left)" transition="in">
                                      <p:cBhvr additive="repl">
                                        <p:cTn id="498" dur="500"/>
                                        <p:tgtEl>
                                          <p:spTgt spid="190"/>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1">
                                  <p:stCondLst>
                                    <p:cond delay="0"/>
                                  </p:stCondLst>
                                  <p:childTnLst>
                                    <p:set>
                                      <p:cBhvr>
                                        <p:cTn id="502" dur="1" fill="hold">
                                          <p:stCondLst>
                                            <p:cond delay="0"/>
                                          </p:stCondLst>
                                        </p:cTn>
                                        <p:tgtEl>
                                          <p:spTgt spid="189"/>
                                        </p:tgtEl>
                                        <p:attrNameLst>
                                          <p:attrName>style.visibility</p:attrName>
                                        </p:attrNameLst>
                                      </p:cBhvr>
                                      <p:to>
                                        <p:strVal val="visible"/>
                                      </p:to>
                                    </p:set>
                                    <p:animEffect filter="wipe(up)" transition="in">
                                      <p:cBhvr additive="repl">
                                        <p:cTn id="503" dur="500"/>
                                        <p:tgtEl>
                                          <p:spTgt spid="189"/>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3" presetSubtype="16">
                                  <p:stCondLst>
                                    <p:cond delay="0"/>
                                  </p:stCondLst>
                                  <p:childTnLst>
                                    <p:set>
                                      <p:cBhvr>
                                        <p:cTn id="507" dur="1" fill="hold">
                                          <p:stCondLst>
                                            <p:cond delay="0"/>
                                          </p:stCondLst>
                                        </p:cTn>
                                        <p:tgtEl>
                                          <p:spTgt spid="185"/>
                                        </p:tgtEl>
                                        <p:attrNameLst>
                                          <p:attrName>style.visibility</p:attrName>
                                        </p:attrNameLst>
                                      </p:cBhvr>
                                      <p:to>
                                        <p:strVal val="visible"/>
                                      </p:to>
                                    </p:set>
                                    <p:anim calcmode="lin" valueType="num">
                                      <p:cBhvr additive="repl">
                                        <p:cTn id="508" dur="500" fill="hold"/>
                                        <p:tgtEl>
                                          <p:spTgt spid="185"/>
                                        </p:tgtEl>
                                        <p:attrNameLst>
                                          <p:attrName>ppt_w</p:attrName>
                                        </p:attrNameLst>
                                      </p:cBhvr>
                                      <p:tavLst>
                                        <p:tav tm="0">
                                          <p:val>
                                            <p:fltVal val="0"/>
                                          </p:val>
                                        </p:tav>
                                        <p:tav tm="100000">
                                          <p:val>
                                            <p:strVal val="#ppt_w"/>
                                          </p:val>
                                        </p:tav>
                                      </p:tavLst>
                                    </p:anim>
                                    <p:anim calcmode="lin" valueType="num">
                                      <p:cBhvr additive="repl">
                                        <p:cTn id="509" dur="500" fill="hold"/>
                                        <p:tgtEl>
                                          <p:spTgt spid="185"/>
                                        </p:tgtEl>
                                        <p:attrNameLst>
                                          <p:attrName>ppt_h</p:attrName>
                                        </p:attrNameLst>
                                      </p:cBhvr>
                                      <p:tavLst>
                                        <p:tav tm="0">
                                          <p:val>
                                            <p:fltVal val="0"/>
                                          </p:val>
                                        </p:tav>
                                        <p:tav tm="100000">
                                          <p:val>
                                            <p:strVal val="#ppt_h"/>
                                          </p:val>
                                        </p:tav>
                                      </p:tavLst>
                                    </p:anim>
                                    <p:animEffect filter="fade" transition="in">
                                      <p:cBhvr additive="repl">
                                        <p:cTn id="510"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30T07:50:22Z</dcterms:modified>
  <cp:revision>46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