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1C94E-E515-492A-A552-EAAC6DE349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1EAFB-639C-4880-A76D-4FAE581E3D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DA482-C8FA-47BB-ACE1-08D59B9151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22B9F-EDC3-4B63-B699-87A7F5498B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321AC-F35A-4B6E-9C68-A711291FE6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520E7-8682-4126-A220-E92EB70828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520-1351-4BFC-AD9F-943935FE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2AE-D9A5-4473-8F55-A69564ED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D5B-AB14-4DB3-8812-266DC141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0E0-B1C0-4057-9C9A-C5F8DCF9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D82-8C47-400A-B54E-2BDE5BB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445-03C7-4F72-ACA6-DB78A104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8D9-E8E5-4AE5-8040-06C44A7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284-D26A-4640-B765-04F7595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F18-9A7A-4FAD-AC4F-91B8749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DA0-43E5-41BD-9825-293E4B1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D38-96B8-4CD7-A54E-E101020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CA5-1E2B-4DCA-9AC9-C062F59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828D2-8729-40BA-8211-9A99AED30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08320" y="3735000"/>
            <a:ext cx="50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维也纳是世界著名的音乐之城，是欧洲古典音乐的摇篮。人们为什么称维也纳是“音乐之城”呢？让我们走进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音乐之城维也纳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一起去看看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风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1969200" y="259236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5169960" y="259236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8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690480" y="3895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4"/>
          <p:cNvGrpSpPr/>
          <p:nvPr/>
        </p:nvGrpSpPr>
        <p:grpSpPr>
          <a:xfrm>
            <a:off x="1216080" y="2438280"/>
            <a:ext cx="4327560" cy="3292560"/>
            <a:chOff x="1216080" y="2438280"/>
            <a:chExt cx="4327560" cy="3292560"/>
          </a:xfrm>
        </p:grpSpPr>
        <p:sp>
          <p:nvSpPr>
            <p:cNvPr id="187" name="左大括号 2"/>
            <p:cNvSpPr/>
            <p:nvPr/>
          </p:nvSpPr>
          <p:spPr>
            <a:xfrm>
              <a:off x="1216080" y="2680920"/>
              <a:ext cx="466560" cy="2916720"/>
            </a:xfrm>
            <a:custGeom>
              <a:avLst/>
              <a:gdLst>
                <a:gd name="textAreaLeft" fmla="*/ 298080 w 466560"/>
                <a:gd name="textAreaRight" fmla="*/ 466920 w 466560"/>
                <a:gd name="textAreaTop" fmla="*/ 10080 h 2916720"/>
                <a:gd name="textAreaBottom" fmla="*/ 2906640 h 29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0"/>
                    <a:pt x="10800" y="240"/>
                  </a:cubicBezTo>
                  <a:lnTo>
                    <a:pt x="10800" y="10560"/>
                  </a:lnTo>
                  <a:cubicBezTo>
                    <a:pt x="10800" y="10680"/>
                    <a:pt x="5400" y="10800"/>
                    <a:pt x="0" y="10800"/>
                  </a:cubicBezTo>
                  <a:cubicBezTo>
                    <a:pt x="5400" y="10800"/>
                    <a:pt x="10800" y="10920"/>
                    <a:pt x="10800" y="11040"/>
                  </a:cubicBezTo>
                  <a:lnTo>
                    <a:pt x="10800" y="21360"/>
                  </a:lnTo>
                  <a:cubicBezTo>
                    <a:pt x="10800" y="2148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3"/>
            <p:cNvSpPr/>
            <p:nvPr/>
          </p:nvSpPr>
          <p:spPr>
            <a:xfrm>
              <a:off x="1682640" y="2438280"/>
              <a:ext cx="3861000" cy="32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é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平 和好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ó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面 和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应和 附和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ò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弄 和稀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ú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牌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Box 13"/>
          <p:cNvSpPr/>
          <p:nvPr/>
        </p:nvSpPr>
        <p:spPr>
          <a:xfrm>
            <a:off x="4548240" y="2901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5"/>
          <p:cNvGrpSpPr/>
          <p:nvPr/>
        </p:nvGrpSpPr>
        <p:grpSpPr>
          <a:xfrm>
            <a:off x="5010120" y="2462040"/>
            <a:ext cx="3772080" cy="1373400"/>
            <a:chOff x="5010120" y="2462040"/>
            <a:chExt cx="3772080" cy="1373400"/>
          </a:xfrm>
        </p:grpSpPr>
        <p:sp>
          <p:nvSpPr>
            <p:cNvPr id="191" name="左大括号 14"/>
            <p:cNvSpPr/>
            <p:nvPr/>
          </p:nvSpPr>
          <p:spPr>
            <a:xfrm>
              <a:off x="5010120" y="2680920"/>
              <a:ext cx="165240" cy="951120"/>
            </a:xfrm>
            <a:custGeom>
              <a:avLst/>
              <a:gdLst>
                <a:gd name="textAreaLeft" fmla="*/ 105480 w 165240"/>
                <a:gd name="textAreaRight" fmla="*/ 165600 w 1652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5"/>
            <p:cNvSpPr/>
            <p:nvPr/>
          </p:nvSpPr>
          <p:spPr>
            <a:xfrm>
              <a:off x="5157720" y="2462040"/>
              <a:ext cx="3624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ǐ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靡丽 靡靡之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í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奢靡 靡费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9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1227240" y="1824120"/>
            <a:ext cx="745632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魅力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浪漫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虔诚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聆听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矩形 1"/>
          <p:cNvSpPr/>
          <p:nvPr/>
        </p:nvSpPr>
        <p:spPr>
          <a:xfrm>
            <a:off x="2043000" y="1825560"/>
            <a:ext cx="66722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很能吸引人的力量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音乐有着无穷的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魅力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，我们已被它深深吸引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富有诗意，充满幻想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李白是一位伟大的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浪漫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主义诗人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恭敬而有诚意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大家都知道他是一个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虔诚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的基督徒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指虔诚而认真地听，带有尊敬的色彩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他曾经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聆听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过孙中山先生的演说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122724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怡然自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之无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心致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1"/>
          <p:cNvSpPr/>
          <p:nvPr/>
        </p:nvSpPr>
        <p:spPr>
          <a:xfrm>
            <a:off x="2641680" y="1806480"/>
            <a:ext cx="615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喜悦而满足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池塘里，很多小鱼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怡然自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游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当得起某种称号或荣誉，无须感到惭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孔繁森为了人民的利益而献身，是新时代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当之无愧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英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心一意，集中全部精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学习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专心致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不可三心二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多瑙河和音乐密不可分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多瑙河与音乐融为一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神圣与平常的统一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奥地利，音乐是很平常的东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-7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音乐家的都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维也纳是音乐家的都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7"/>
          <p:cNvSpPr/>
          <p:nvPr/>
        </p:nvSpPr>
        <p:spPr>
          <a:xfrm>
            <a:off x="1419120" y="2886120"/>
            <a:ext cx="6791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维也纳是座音乐支撑，音乐和这座城市以及人们的生活已经融为一体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898560" y="1865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主要向我们介绍了维也纳的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7"/>
          <p:cNvSpPr/>
          <p:nvPr/>
        </p:nvSpPr>
        <p:spPr>
          <a:xfrm>
            <a:off x="1198440" y="2760840"/>
            <a:ext cx="714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从“音乐与多瑙河融为一体”“音乐似平常生活”“音乐充满了整个城市”等角度来说明音乐与维也纳水乳交融的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5"/>
          <p:cNvSpPr/>
          <p:nvPr/>
        </p:nvSpPr>
        <p:spPr>
          <a:xfrm>
            <a:off x="709560" y="173988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是通过那几个方面介绍音乐之都维也纳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15" name="矩形 11"/>
          <p:cNvSpPr/>
          <p:nvPr/>
        </p:nvSpPr>
        <p:spPr>
          <a:xfrm>
            <a:off x="1017720" y="24051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共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自然段，前三段讲述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维也纳的音乐是神圣的，却寓于平常之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—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从维也纳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大街小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剧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音乐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地方无处不充满了音乐，进一步说明维也纳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音乐之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全世界热爱音乐的人们向往的地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7167"/>
          <p:cNvSpPr/>
          <p:nvPr/>
        </p:nvSpPr>
        <p:spPr>
          <a:xfrm>
            <a:off x="1020600" y="2300400"/>
            <a:ext cx="81234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一段的多瑙河由于孕育了一大批伟大的音乐家而具有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了非同寻常的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èi</a:t>
            </a:r>
            <a:r>
              <a:rPr b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奥地利全境大部分地区都属于多瑙河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ú</a:t>
            </a:r>
            <a:r>
              <a:rPr b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也许真正的神圣恰恰就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常之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ún</a:t>
            </a:r>
            <a:r>
              <a:rPr b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维也纳的大街小巷随便走走，处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可以看到有关大师们的遗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矩形 26"/>
          <p:cNvSpPr/>
          <p:nvPr/>
        </p:nvSpPr>
        <p:spPr>
          <a:xfrm>
            <a:off x="4500720" y="3357720"/>
            <a:ext cx="158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魅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7230960" y="38750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流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9"/>
          <p:cNvSpPr/>
          <p:nvPr/>
        </p:nvSpPr>
        <p:spPr>
          <a:xfrm>
            <a:off x="5497560" y="4394160"/>
            <a:ext cx="16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寓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30"/>
          <p:cNvSpPr/>
          <p:nvPr/>
        </p:nvSpPr>
        <p:spPr>
          <a:xfrm>
            <a:off x="2987640" y="4869000"/>
            <a:ext cx="10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循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3"/>
          <p:cNvSpPr/>
          <p:nvPr/>
        </p:nvSpPr>
        <p:spPr>
          <a:xfrm>
            <a:off x="2035080" y="1652760"/>
            <a:ext cx="661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下列多音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　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ǐ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　　）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3237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2"/>
          <p:cNvSpPr/>
          <p:nvPr/>
        </p:nvSpPr>
        <p:spPr>
          <a:xfrm>
            <a:off x="485280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1348560" y="40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左大括号 6"/>
          <p:cNvSpPr/>
          <p:nvPr/>
        </p:nvSpPr>
        <p:spPr>
          <a:xfrm>
            <a:off x="1778040" y="2492280"/>
            <a:ext cx="230040" cy="865440"/>
          </a:xfrm>
          <a:custGeom>
            <a:avLst/>
            <a:gdLst>
              <a:gd name="textAreaLeft" fmla="*/ 146880 w 230040"/>
              <a:gd name="textAreaRight" fmla="*/ 230400 w 230040"/>
              <a:gd name="textAreaTop" fmla="*/ 5760 h 865440"/>
              <a:gd name="textAreaBottom" fmla="*/ 85968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79"/>
                </a:cubicBezTo>
                <a:lnTo>
                  <a:pt x="10800" y="10321"/>
                </a:lnTo>
                <a:cubicBezTo>
                  <a:pt x="10800" y="10561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79"/>
                </a:cubicBezTo>
                <a:lnTo>
                  <a:pt x="10800" y="21121"/>
                </a:lnTo>
                <a:cubicBezTo>
                  <a:pt x="10800" y="213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左大括号 15"/>
          <p:cNvSpPr/>
          <p:nvPr/>
        </p:nvSpPr>
        <p:spPr>
          <a:xfrm>
            <a:off x="5259240" y="2421000"/>
            <a:ext cx="222480" cy="9064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760 h 906480"/>
              <a:gd name="textAreaBottom" fmla="*/ 900720 h 9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1"/>
                </a:cubicBezTo>
                <a:lnTo>
                  <a:pt x="10800" y="10359"/>
                </a:lnTo>
                <a:cubicBezTo>
                  <a:pt x="10800" y="10580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1"/>
                </a:cubicBezTo>
                <a:lnTo>
                  <a:pt x="10800" y="21159"/>
                </a:lnTo>
                <a:cubicBezTo>
                  <a:pt x="10800" y="213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左大括号 17"/>
          <p:cNvSpPr/>
          <p:nvPr/>
        </p:nvSpPr>
        <p:spPr>
          <a:xfrm>
            <a:off x="1749600" y="3616200"/>
            <a:ext cx="285480" cy="1325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325520"/>
              <a:gd name="textAreaBottom" fmla="*/ 1318320 h 13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6227640" y="282420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奇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3152520" y="22766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几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3152520" y="295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几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6345000" y="22557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奇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6"/>
          <p:cNvSpPr/>
          <p:nvPr/>
        </p:nvSpPr>
        <p:spPr>
          <a:xfrm>
            <a:off x="3152520" y="3357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6"/>
          <p:cNvSpPr/>
          <p:nvPr/>
        </p:nvSpPr>
        <p:spPr>
          <a:xfrm>
            <a:off x="3024360" y="3909960"/>
            <a:ext cx="10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7"/>
          <p:cNvSpPr/>
          <p:nvPr/>
        </p:nvSpPr>
        <p:spPr>
          <a:xfrm>
            <a:off x="3024360" y="4486320"/>
            <a:ext cx="10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1" descr=""/>
          <p:cNvPicPr/>
          <p:nvPr/>
        </p:nvPicPr>
        <p:blipFill>
          <a:blip r:embed="rId1"/>
          <a:stretch/>
        </p:blipFill>
        <p:spPr>
          <a:xfrm>
            <a:off x="2273400" y="2249640"/>
            <a:ext cx="4597200" cy="305424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168560" y="905040"/>
            <a:ext cx="7045200" cy="1180800"/>
            <a:chOff x="1168560" y="905040"/>
            <a:chExt cx="7045200" cy="1180800"/>
          </a:xfrm>
        </p:grpSpPr>
        <p:sp>
          <p:nvSpPr>
            <p:cNvPr id="66" name="Text Box 2"/>
            <p:cNvSpPr/>
            <p:nvPr/>
          </p:nvSpPr>
          <p:spPr>
            <a:xfrm>
              <a:off x="2427480" y="1011240"/>
              <a:ext cx="578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音乐之城维也纳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168560" y="905040"/>
              <a:ext cx="1181160" cy="1180800"/>
              <a:chOff x="1168560" y="905040"/>
              <a:chExt cx="118116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1685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4385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9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2"/>
          <p:cNvGrpSpPr/>
          <p:nvPr/>
        </p:nvGrpSpPr>
        <p:grpSpPr>
          <a:xfrm>
            <a:off x="1033560" y="5640480"/>
            <a:ext cx="7188120" cy="717480"/>
            <a:chOff x="1033560" y="5640480"/>
            <a:chExt cx="7188120" cy="717480"/>
          </a:xfrm>
        </p:grpSpPr>
        <p:grpSp>
          <p:nvGrpSpPr>
            <p:cNvPr id="71" name="组合 1"/>
            <p:cNvGrpSpPr/>
            <p:nvPr/>
          </p:nvGrpSpPr>
          <p:grpSpPr>
            <a:xfrm>
              <a:off x="1033560" y="5640480"/>
              <a:ext cx="7188120" cy="717480"/>
              <a:chOff x="1033560" y="5640480"/>
              <a:chExt cx="7188120" cy="717480"/>
            </a:xfrm>
          </p:grpSpPr>
          <p:pic>
            <p:nvPicPr>
              <p:cNvPr id="72" name="任意多边形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033560" y="5640480"/>
                <a:ext cx="1922040" cy="71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" name="组合 13322"/>
              <p:cNvGrpSpPr/>
              <p:nvPr/>
            </p:nvGrpSpPr>
            <p:grpSpPr>
              <a:xfrm>
                <a:off x="2948760" y="5667120"/>
                <a:ext cx="5272920" cy="603360"/>
                <a:chOff x="2948760" y="5667120"/>
                <a:chExt cx="5272920" cy="603360"/>
              </a:xfrm>
            </p:grpSpPr>
            <p:pic>
              <p:nvPicPr>
                <p:cNvPr id="74" name="任意多边形 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48760" y="5667120"/>
                  <a:ext cx="1844280" cy="60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任意多边形 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654440" y="5667120"/>
                  <a:ext cx="1850040" cy="60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任意多边形 1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7400" y="5667120"/>
                  <a:ext cx="1844280" cy="60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流程图: 摘录 40"/>
                <p:cNvSpPr/>
                <p:nvPr/>
              </p:nvSpPr>
              <p:spPr>
                <a:xfrm rot="5400000">
                  <a:off x="4660560" y="5846040"/>
                  <a:ext cx="127800" cy="210600"/>
                </a:xfrm>
                <a:prstGeom prst="flowChartExtract">
                  <a:avLst/>
                </a:prstGeom>
                <a:solidFill>
                  <a:srgbClr val="ffffff"/>
                </a:solidFill>
                <a:ln w="25560">
                  <a:solidFill>
                    <a:srgbClr val="9bbb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流程图: 摘录 41"/>
                <p:cNvSpPr/>
                <p:nvPr/>
              </p:nvSpPr>
              <p:spPr>
                <a:xfrm rot="5400000">
                  <a:off x="6386040" y="5846040"/>
                  <a:ext cx="127800" cy="210600"/>
                </a:xfrm>
                <a:prstGeom prst="flowChartExtract">
                  <a:avLst/>
                </a:prstGeom>
                <a:solidFill>
                  <a:srgbClr val="ffffff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9" name="流程图: 摘录 24"/>
            <p:cNvSpPr/>
            <p:nvPr/>
          </p:nvSpPr>
          <p:spPr>
            <a:xfrm rot="5400000">
              <a:off x="2717280" y="5898960"/>
              <a:ext cx="180720" cy="2221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2"/>
          <p:cNvSpPr/>
          <p:nvPr/>
        </p:nvSpPr>
        <p:spPr>
          <a:xfrm>
            <a:off x="725400" y="13413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择合适的词语填空，并说说这两个词语的区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聆听　　倾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音乐厅中的人们就像晚霞中的羊群，正虔诚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那美妙的和声，去迎接一个新的春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词语的区别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7346880" y="2541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聆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826920" y="3541680"/>
            <a:ext cx="75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                               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聆听”指集中精力听，指虔诚而认真地听，带有尊敬的色彩。“倾听”指细心地听取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多用于上对下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属于有效沟通的必要部分，以求思想达成一致和感情通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"/>
          <p:cNvSpPr/>
          <p:nvPr/>
        </p:nvSpPr>
        <p:spPr>
          <a:xfrm>
            <a:off x="468360" y="1312920"/>
            <a:ext cx="813600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改写句子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界上又有哪条河流的幸福能与多瑙河相比呢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王老师对同学们说：“星期天，我们一起去滑雪。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转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维也纳人把音乐家也理解为当之无愧的英雄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成被字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5"/>
          <p:cNvSpPr/>
          <p:nvPr/>
        </p:nvSpPr>
        <p:spPr>
          <a:xfrm>
            <a:off x="896760" y="2421000"/>
            <a:ext cx="727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世界上没有哪条河流的幸福能与多瑙河相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3605040" y="3933720"/>
            <a:ext cx="101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王老师对同学们说，星期天，他们一起去滑雪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3671640" y="49417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音乐家也被维也纳人理解为当之无愧的英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851040" y="239724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翰、靡”等生字；会写“魅、域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读懂课文内容，了解这座城市的特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1190520" y="1728720"/>
            <a:ext cx="71344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维也纳，是神圣罗马帝国、奥地利帝国、奥匈帝国、奥地利共和国的首都，同时也是奥地利共和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联邦州之一，是奥地利最大的城市和政治中心，位于多瑙河畔。因市内古典音乐气氛浓厚，引来各国音乐家聚集于此，有“世界音乐之都”和“乐都”等美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维也纳金色大厅，是维也纳最古老、最现代化的音乐厅，是每年举行“维也纳新年音乐会”的法定场所。维也纳交响乐团每季度至少在此举办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场音乐会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7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日，金色大厅举行首场演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5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鬼”的竖弯钩舒展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3"/>
          <p:cNvSpPr/>
          <p:nvPr/>
        </p:nvSpPr>
        <p:spPr>
          <a:xfrm>
            <a:off x="207648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70"/>
          <p:cNvSpPr/>
          <p:nvPr/>
        </p:nvSpPr>
        <p:spPr>
          <a:xfrm>
            <a:off x="6745320" y="3378240"/>
            <a:ext cx="660240" cy="222120"/>
          </a:xfrm>
          <a:custGeom>
            <a:avLst/>
            <a:gdLst/>
            <a:ahLst/>
            <a:rect l="l" t="t" r="r" b="b"/>
            <a:pathLst>
              <a:path w="831" h="280">
                <a:moveTo>
                  <a:pt x="265" y="108"/>
                </a:moveTo>
                <a:lnTo>
                  <a:pt x="304" y="94"/>
                </a:lnTo>
                <a:lnTo>
                  <a:pt x="340" y="83"/>
                </a:lnTo>
                <a:lnTo>
                  <a:pt x="375" y="73"/>
                </a:lnTo>
                <a:lnTo>
                  <a:pt x="407" y="62"/>
                </a:lnTo>
                <a:lnTo>
                  <a:pt x="438" y="52"/>
                </a:lnTo>
                <a:lnTo>
                  <a:pt x="467" y="44"/>
                </a:lnTo>
                <a:lnTo>
                  <a:pt x="496" y="37"/>
                </a:lnTo>
                <a:lnTo>
                  <a:pt x="521" y="29"/>
                </a:lnTo>
                <a:lnTo>
                  <a:pt x="545" y="21"/>
                </a:lnTo>
                <a:lnTo>
                  <a:pt x="569" y="17"/>
                </a:lnTo>
                <a:lnTo>
                  <a:pt x="590" y="12"/>
                </a:lnTo>
                <a:lnTo>
                  <a:pt x="607" y="8"/>
                </a:lnTo>
                <a:lnTo>
                  <a:pt x="624" y="4"/>
                </a:lnTo>
                <a:lnTo>
                  <a:pt x="640" y="2"/>
                </a:lnTo>
                <a:lnTo>
                  <a:pt x="653" y="2"/>
                </a:lnTo>
                <a:lnTo>
                  <a:pt x="666" y="0"/>
                </a:lnTo>
                <a:lnTo>
                  <a:pt x="686" y="0"/>
                </a:lnTo>
                <a:lnTo>
                  <a:pt x="707" y="0"/>
                </a:lnTo>
                <a:lnTo>
                  <a:pt x="726" y="2"/>
                </a:lnTo>
                <a:lnTo>
                  <a:pt x="743" y="2"/>
                </a:lnTo>
                <a:lnTo>
                  <a:pt x="759" y="4"/>
                </a:lnTo>
                <a:lnTo>
                  <a:pt x="776" y="6"/>
                </a:lnTo>
                <a:lnTo>
                  <a:pt x="789" y="10"/>
                </a:lnTo>
                <a:lnTo>
                  <a:pt x="803" y="14"/>
                </a:lnTo>
                <a:lnTo>
                  <a:pt x="808" y="17"/>
                </a:lnTo>
                <a:lnTo>
                  <a:pt x="814" y="19"/>
                </a:lnTo>
                <a:lnTo>
                  <a:pt x="818" y="23"/>
                </a:lnTo>
                <a:lnTo>
                  <a:pt x="822" y="27"/>
                </a:lnTo>
                <a:lnTo>
                  <a:pt x="826" y="29"/>
                </a:lnTo>
                <a:lnTo>
                  <a:pt x="828" y="33"/>
                </a:lnTo>
                <a:lnTo>
                  <a:pt x="830" y="37"/>
                </a:lnTo>
                <a:lnTo>
                  <a:pt x="831" y="40"/>
                </a:lnTo>
                <a:lnTo>
                  <a:pt x="831" y="44"/>
                </a:lnTo>
                <a:lnTo>
                  <a:pt x="831" y="48"/>
                </a:lnTo>
                <a:lnTo>
                  <a:pt x="831" y="56"/>
                </a:lnTo>
                <a:lnTo>
                  <a:pt x="830" y="62"/>
                </a:lnTo>
                <a:lnTo>
                  <a:pt x="826" y="67"/>
                </a:lnTo>
                <a:lnTo>
                  <a:pt x="824" y="69"/>
                </a:lnTo>
                <a:lnTo>
                  <a:pt x="820" y="73"/>
                </a:lnTo>
                <a:lnTo>
                  <a:pt x="816" y="75"/>
                </a:lnTo>
                <a:lnTo>
                  <a:pt x="812" y="79"/>
                </a:lnTo>
                <a:lnTo>
                  <a:pt x="808" y="81"/>
                </a:lnTo>
                <a:lnTo>
                  <a:pt x="803" y="85"/>
                </a:lnTo>
                <a:lnTo>
                  <a:pt x="797" y="87"/>
                </a:lnTo>
                <a:lnTo>
                  <a:pt x="791" y="90"/>
                </a:lnTo>
                <a:lnTo>
                  <a:pt x="785" y="92"/>
                </a:lnTo>
                <a:lnTo>
                  <a:pt x="778" y="96"/>
                </a:lnTo>
                <a:lnTo>
                  <a:pt x="770" y="100"/>
                </a:lnTo>
                <a:lnTo>
                  <a:pt x="762" y="102"/>
                </a:lnTo>
                <a:lnTo>
                  <a:pt x="753" y="106"/>
                </a:lnTo>
                <a:lnTo>
                  <a:pt x="743" y="110"/>
                </a:lnTo>
                <a:lnTo>
                  <a:pt x="734" y="113"/>
                </a:lnTo>
                <a:lnTo>
                  <a:pt x="724" y="117"/>
                </a:lnTo>
                <a:lnTo>
                  <a:pt x="712" y="121"/>
                </a:lnTo>
                <a:lnTo>
                  <a:pt x="703" y="125"/>
                </a:lnTo>
                <a:lnTo>
                  <a:pt x="689" y="129"/>
                </a:lnTo>
                <a:lnTo>
                  <a:pt x="678" y="133"/>
                </a:lnTo>
                <a:lnTo>
                  <a:pt x="666" y="136"/>
                </a:lnTo>
                <a:lnTo>
                  <a:pt x="653" y="140"/>
                </a:lnTo>
                <a:lnTo>
                  <a:pt x="640" y="144"/>
                </a:lnTo>
                <a:lnTo>
                  <a:pt x="624" y="150"/>
                </a:lnTo>
                <a:lnTo>
                  <a:pt x="611" y="154"/>
                </a:lnTo>
                <a:lnTo>
                  <a:pt x="595" y="158"/>
                </a:lnTo>
                <a:lnTo>
                  <a:pt x="563" y="167"/>
                </a:lnTo>
                <a:lnTo>
                  <a:pt x="530" y="177"/>
                </a:lnTo>
                <a:lnTo>
                  <a:pt x="494" y="186"/>
                </a:lnTo>
                <a:lnTo>
                  <a:pt x="457" y="200"/>
                </a:lnTo>
                <a:lnTo>
                  <a:pt x="421" y="211"/>
                </a:lnTo>
                <a:lnTo>
                  <a:pt x="388" y="221"/>
                </a:lnTo>
                <a:lnTo>
                  <a:pt x="355" y="231"/>
                </a:lnTo>
                <a:lnTo>
                  <a:pt x="325" y="238"/>
                </a:lnTo>
                <a:lnTo>
                  <a:pt x="296" y="246"/>
                </a:lnTo>
                <a:lnTo>
                  <a:pt x="269" y="254"/>
                </a:lnTo>
                <a:lnTo>
                  <a:pt x="244" y="259"/>
                </a:lnTo>
                <a:lnTo>
                  <a:pt x="221" y="265"/>
                </a:lnTo>
                <a:lnTo>
                  <a:pt x="200" y="269"/>
                </a:lnTo>
                <a:lnTo>
                  <a:pt x="181" y="273"/>
                </a:lnTo>
                <a:lnTo>
                  <a:pt x="162" y="275"/>
                </a:lnTo>
                <a:lnTo>
                  <a:pt x="146" y="279"/>
                </a:lnTo>
                <a:lnTo>
                  <a:pt x="131" y="279"/>
                </a:lnTo>
                <a:lnTo>
                  <a:pt x="117" y="280"/>
                </a:lnTo>
                <a:lnTo>
                  <a:pt x="106" y="280"/>
                </a:lnTo>
                <a:lnTo>
                  <a:pt x="96" y="280"/>
                </a:lnTo>
                <a:lnTo>
                  <a:pt x="85" y="280"/>
                </a:lnTo>
                <a:lnTo>
                  <a:pt x="77" y="279"/>
                </a:lnTo>
                <a:lnTo>
                  <a:pt x="68" y="279"/>
                </a:lnTo>
                <a:lnTo>
                  <a:pt x="60" y="277"/>
                </a:lnTo>
                <a:lnTo>
                  <a:pt x="52" y="275"/>
                </a:lnTo>
                <a:lnTo>
                  <a:pt x="45" y="273"/>
                </a:lnTo>
                <a:lnTo>
                  <a:pt x="37" y="271"/>
                </a:lnTo>
                <a:lnTo>
                  <a:pt x="31" y="267"/>
                </a:lnTo>
                <a:lnTo>
                  <a:pt x="25" y="265"/>
                </a:lnTo>
                <a:lnTo>
                  <a:pt x="20" y="261"/>
                </a:lnTo>
                <a:lnTo>
                  <a:pt x="16" y="257"/>
                </a:lnTo>
                <a:lnTo>
                  <a:pt x="12" y="254"/>
                </a:lnTo>
                <a:lnTo>
                  <a:pt x="8" y="250"/>
                </a:lnTo>
                <a:lnTo>
                  <a:pt x="6" y="246"/>
                </a:lnTo>
                <a:lnTo>
                  <a:pt x="4" y="240"/>
                </a:lnTo>
                <a:lnTo>
                  <a:pt x="2" y="238"/>
                </a:lnTo>
                <a:lnTo>
                  <a:pt x="0" y="236"/>
                </a:lnTo>
                <a:lnTo>
                  <a:pt x="0" y="232"/>
                </a:lnTo>
                <a:lnTo>
                  <a:pt x="0" y="231"/>
                </a:lnTo>
                <a:lnTo>
                  <a:pt x="2" y="229"/>
                </a:lnTo>
                <a:lnTo>
                  <a:pt x="4" y="227"/>
                </a:lnTo>
                <a:lnTo>
                  <a:pt x="8" y="223"/>
                </a:lnTo>
                <a:lnTo>
                  <a:pt x="12" y="221"/>
                </a:lnTo>
                <a:lnTo>
                  <a:pt x="16" y="217"/>
                </a:lnTo>
                <a:lnTo>
                  <a:pt x="20" y="213"/>
                </a:lnTo>
                <a:lnTo>
                  <a:pt x="25" y="209"/>
                </a:lnTo>
                <a:lnTo>
                  <a:pt x="31" y="206"/>
                </a:lnTo>
                <a:lnTo>
                  <a:pt x="39" y="202"/>
                </a:lnTo>
                <a:lnTo>
                  <a:pt x="46" y="198"/>
                </a:lnTo>
                <a:lnTo>
                  <a:pt x="54" y="194"/>
                </a:lnTo>
                <a:lnTo>
                  <a:pt x="62" y="190"/>
                </a:lnTo>
                <a:lnTo>
                  <a:pt x="71" y="184"/>
                </a:lnTo>
                <a:lnTo>
                  <a:pt x="81" y="181"/>
                </a:lnTo>
                <a:lnTo>
                  <a:pt x="92" y="175"/>
                </a:lnTo>
                <a:lnTo>
                  <a:pt x="102" y="171"/>
                </a:lnTo>
                <a:lnTo>
                  <a:pt x="116" y="165"/>
                </a:lnTo>
                <a:lnTo>
                  <a:pt x="127" y="159"/>
                </a:lnTo>
                <a:lnTo>
                  <a:pt x="140" y="154"/>
                </a:lnTo>
                <a:lnTo>
                  <a:pt x="154" y="150"/>
                </a:lnTo>
                <a:lnTo>
                  <a:pt x="167" y="144"/>
                </a:lnTo>
                <a:lnTo>
                  <a:pt x="183" y="138"/>
                </a:lnTo>
                <a:lnTo>
                  <a:pt x="198" y="133"/>
                </a:lnTo>
                <a:lnTo>
                  <a:pt x="213" y="125"/>
                </a:lnTo>
                <a:lnTo>
                  <a:pt x="231" y="119"/>
                </a:lnTo>
                <a:lnTo>
                  <a:pt x="248" y="113"/>
                </a:lnTo>
                <a:lnTo>
                  <a:pt x="265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71"/>
          <p:cNvSpPr/>
          <p:nvPr/>
        </p:nvSpPr>
        <p:spPr>
          <a:xfrm>
            <a:off x="6738840" y="3716280"/>
            <a:ext cx="606600" cy="201600"/>
          </a:xfrm>
          <a:custGeom>
            <a:avLst/>
            <a:gdLst/>
            <a:ahLst/>
            <a:rect l="l" t="t" r="r" b="b"/>
            <a:pathLst>
              <a:path w="764" h="254">
                <a:moveTo>
                  <a:pt x="318" y="94"/>
                </a:moveTo>
                <a:lnTo>
                  <a:pt x="349" y="81"/>
                </a:lnTo>
                <a:lnTo>
                  <a:pt x="380" y="71"/>
                </a:lnTo>
                <a:lnTo>
                  <a:pt x="407" y="60"/>
                </a:lnTo>
                <a:lnTo>
                  <a:pt x="433" y="50"/>
                </a:lnTo>
                <a:lnTo>
                  <a:pt x="458" y="43"/>
                </a:lnTo>
                <a:lnTo>
                  <a:pt x="481" y="35"/>
                </a:lnTo>
                <a:lnTo>
                  <a:pt x="504" y="27"/>
                </a:lnTo>
                <a:lnTo>
                  <a:pt x="524" y="21"/>
                </a:lnTo>
                <a:lnTo>
                  <a:pt x="543" y="18"/>
                </a:lnTo>
                <a:lnTo>
                  <a:pt x="560" y="12"/>
                </a:lnTo>
                <a:lnTo>
                  <a:pt x="576" y="8"/>
                </a:lnTo>
                <a:lnTo>
                  <a:pt x="589" y="6"/>
                </a:lnTo>
                <a:lnTo>
                  <a:pt x="600" y="4"/>
                </a:lnTo>
                <a:lnTo>
                  <a:pt x="610" y="2"/>
                </a:lnTo>
                <a:lnTo>
                  <a:pt x="620" y="0"/>
                </a:lnTo>
                <a:lnTo>
                  <a:pt x="627" y="0"/>
                </a:lnTo>
                <a:lnTo>
                  <a:pt x="639" y="0"/>
                </a:lnTo>
                <a:lnTo>
                  <a:pt x="650" y="0"/>
                </a:lnTo>
                <a:lnTo>
                  <a:pt x="662" y="2"/>
                </a:lnTo>
                <a:lnTo>
                  <a:pt x="673" y="2"/>
                </a:lnTo>
                <a:lnTo>
                  <a:pt x="683" y="4"/>
                </a:lnTo>
                <a:lnTo>
                  <a:pt x="695" y="6"/>
                </a:lnTo>
                <a:lnTo>
                  <a:pt x="706" y="10"/>
                </a:lnTo>
                <a:lnTo>
                  <a:pt x="718" y="14"/>
                </a:lnTo>
                <a:lnTo>
                  <a:pt x="725" y="18"/>
                </a:lnTo>
                <a:lnTo>
                  <a:pt x="729" y="19"/>
                </a:lnTo>
                <a:lnTo>
                  <a:pt x="735" y="21"/>
                </a:lnTo>
                <a:lnTo>
                  <a:pt x="741" y="23"/>
                </a:lnTo>
                <a:lnTo>
                  <a:pt x="748" y="29"/>
                </a:lnTo>
                <a:lnTo>
                  <a:pt x="754" y="35"/>
                </a:lnTo>
                <a:lnTo>
                  <a:pt x="758" y="39"/>
                </a:lnTo>
                <a:lnTo>
                  <a:pt x="762" y="44"/>
                </a:lnTo>
                <a:lnTo>
                  <a:pt x="764" y="48"/>
                </a:lnTo>
                <a:lnTo>
                  <a:pt x="764" y="54"/>
                </a:lnTo>
                <a:lnTo>
                  <a:pt x="764" y="56"/>
                </a:lnTo>
                <a:lnTo>
                  <a:pt x="762" y="60"/>
                </a:lnTo>
                <a:lnTo>
                  <a:pt x="760" y="62"/>
                </a:lnTo>
                <a:lnTo>
                  <a:pt x="758" y="64"/>
                </a:lnTo>
                <a:lnTo>
                  <a:pt x="754" y="67"/>
                </a:lnTo>
                <a:lnTo>
                  <a:pt x="750" y="69"/>
                </a:lnTo>
                <a:lnTo>
                  <a:pt x="744" y="73"/>
                </a:lnTo>
                <a:lnTo>
                  <a:pt x="739" y="75"/>
                </a:lnTo>
                <a:lnTo>
                  <a:pt x="731" y="79"/>
                </a:lnTo>
                <a:lnTo>
                  <a:pt x="723" y="83"/>
                </a:lnTo>
                <a:lnTo>
                  <a:pt x="716" y="85"/>
                </a:lnTo>
                <a:lnTo>
                  <a:pt x="706" y="89"/>
                </a:lnTo>
                <a:lnTo>
                  <a:pt x="696" y="94"/>
                </a:lnTo>
                <a:lnTo>
                  <a:pt x="685" y="98"/>
                </a:lnTo>
                <a:lnTo>
                  <a:pt x="673" y="102"/>
                </a:lnTo>
                <a:lnTo>
                  <a:pt x="662" y="108"/>
                </a:lnTo>
                <a:lnTo>
                  <a:pt x="647" y="112"/>
                </a:lnTo>
                <a:lnTo>
                  <a:pt x="629" y="117"/>
                </a:lnTo>
                <a:lnTo>
                  <a:pt x="614" y="123"/>
                </a:lnTo>
                <a:lnTo>
                  <a:pt x="597" y="127"/>
                </a:lnTo>
                <a:lnTo>
                  <a:pt x="579" y="133"/>
                </a:lnTo>
                <a:lnTo>
                  <a:pt x="562" y="138"/>
                </a:lnTo>
                <a:lnTo>
                  <a:pt x="543" y="142"/>
                </a:lnTo>
                <a:lnTo>
                  <a:pt x="524" y="148"/>
                </a:lnTo>
                <a:lnTo>
                  <a:pt x="504" y="154"/>
                </a:lnTo>
                <a:lnTo>
                  <a:pt x="485" y="160"/>
                </a:lnTo>
                <a:lnTo>
                  <a:pt x="464" y="165"/>
                </a:lnTo>
                <a:lnTo>
                  <a:pt x="443" y="173"/>
                </a:lnTo>
                <a:lnTo>
                  <a:pt x="422" y="179"/>
                </a:lnTo>
                <a:lnTo>
                  <a:pt x="399" y="186"/>
                </a:lnTo>
                <a:lnTo>
                  <a:pt x="376" y="192"/>
                </a:lnTo>
                <a:lnTo>
                  <a:pt x="353" y="200"/>
                </a:lnTo>
                <a:lnTo>
                  <a:pt x="328" y="208"/>
                </a:lnTo>
                <a:lnTo>
                  <a:pt x="305" y="215"/>
                </a:lnTo>
                <a:lnTo>
                  <a:pt x="282" y="221"/>
                </a:lnTo>
                <a:lnTo>
                  <a:pt x="261" y="227"/>
                </a:lnTo>
                <a:lnTo>
                  <a:pt x="242" y="231"/>
                </a:lnTo>
                <a:lnTo>
                  <a:pt x="224" y="234"/>
                </a:lnTo>
                <a:lnTo>
                  <a:pt x="207" y="238"/>
                </a:lnTo>
                <a:lnTo>
                  <a:pt x="192" y="242"/>
                </a:lnTo>
                <a:lnTo>
                  <a:pt x="178" y="246"/>
                </a:lnTo>
                <a:lnTo>
                  <a:pt x="167" y="248"/>
                </a:lnTo>
                <a:lnTo>
                  <a:pt x="155" y="250"/>
                </a:lnTo>
                <a:lnTo>
                  <a:pt x="146" y="252"/>
                </a:lnTo>
                <a:lnTo>
                  <a:pt x="138" y="252"/>
                </a:lnTo>
                <a:lnTo>
                  <a:pt x="132" y="254"/>
                </a:lnTo>
                <a:lnTo>
                  <a:pt x="128" y="254"/>
                </a:lnTo>
                <a:lnTo>
                  <a:pt x="124" y="254"/>
                </a:lnTo>
                <a:lnTo>
                  <a:pt x="117" y="254"/>
                </a:lnTo>
                <a:lnTo>
                  <a:pt x="107" y="252"/>
                </a:lnTo>
                <a:lnTo>
                  <a:pt x="98" y="250"/>
                </a:lnTo>
                <a:lnTo>
                  <a:pt x="88" y="246"/>
                </a:lnTo>
                <a:lnTo>
                  <a:pt x="78" y="242"/>
                </a:lnTo>
                <a:lnTo>
                  <a:pt x="69" y="236"/>
                </a:lnTo>
                <a:lnTo>
                  <a:pt x="57" y="233"/>
                </a:lnTo>
                <a:lnTo>
                  <a:pt x="44" y="227"/>
                </a:lnTo>
                <a:lnTo>
                  <a:pt x="38" y="225"/>
                </a:lnTo>
                <a:lnTo>
                  <a:pt x="32" y="221"/>
                </a:lnTo>
                <a:lnTo>
                  <a:pt x="27" y="219"/>
                </a:lnTo>
                <a:lnTo>
                  <a:pt x="23" y="217"/>
                </a:lnTo>
                <a:lnTo>
                  <a:pt x="15" y="211"/>
                </a:lnTo>
                <a:lnTo>
                  <a:pt x="9" y="208"/>
                </a:lnTo>
                <a:lnTo>
                  <a:pt x="4" y="202"/>
                </a:lnTo>
                <a:lnTo>
                  <a:pt x="2" y="196"/>
                </a:lnTo>
                <a:lnTo>
                  <a:pt x="0" y="192"/>
                </a:lnTo>
                <a:lnTo>
                  <a:pt x="0" y="186"/>
                </a:lnTo>
                <a:lnTo>
                  <a:pt x="0" y="183"/>
                </a:lnTo>
                <a:lnTo>
                  <a:pt x="2" y="179"/>
                </a:lnTo>
                <a:lnTo>
                  <a:pt x="4" y="177"/>
                </a:lnTo>
                <a:lnTo>
                  <a:pt x="7" y="175"/>
                </a:lnTo>
                <a:lnTo>
                  <a:pt x="13" y="175"/>
                </a:lnTo>
                <a:lnTo>
                  <a:pt x="19" y="173"/>
                </a:lnTo>
                <a:lnTo>
                  <a:pt x="25" y="173"/>
                </a:lnTo>
                <a:lnTo>
                  <a:pt x="34" y="173"/>
                </a:lnTo>
                <a:lnTo>
                  <a:pt x="36" y="173"/>
                </a:lnTo>
                <a:lnTo>
                  <a:pt x="38" y="173"/>
                </a:lnTo>
                <a:lnTo>
                  <a:pt x="42" y="173"/>
                </a:lnTo>
                <a:lnTo>
                  <a:pt x="46" y="171"/>
                </a:lnTo>
                <a:lnTo>
                  <a:pt x="50" y="171"/>
                </a:lnTo>
                <a:lnTo>
                  <a:pt x="53" y="169"/>
                </a:lnTo>
                <a:lnTo>
                  <a:pt x="59" y="169"/>
                </a:lnTo>
                <a:lnTo>
                  <a:pt x="63" y="167"/>
                </a:lnTo>
                <a:lnTo>
                  <a:pt x="71" y="165"/>
                </a:lnTo>
                <a:lnTo>
                  <a:pt x="76" y="165"/>
                </a:lnTo>
                <a:lnTo>
                  <a:pt x="84" y="163"/>
                </a:lnTo>
                <a:lnTo>
                  <a:pt x="90" y="162"/>
                </a:lnTo>
                <a:lnTo>
                  <a:pt x="99" y="160"/>
                </a:lnTo>
                <a:lnTo>
                  <a:pt x="117" y="154"/>
                </a:lnTo>
                <a:lnTo>
                  <a:pt x="136" y="148"/>
                </a:lnTo>
                <a:lnTo>
                  <a:pt x="155" y="142"/>
                </a:lnTo>
                <a:lnTo>
                  <a:pt x="178" y="137"/>
                </a:lnTo>
                <a:lnTo>
                  <a:pt x="203" y="129"/>
                </a:lnTo>
                <a:lnTo>
                  <a:pt x="230" y="121"/>
                </a:lnTo>
                <a:lnTo>
                  <a:pt x="257" y="114"/>
                </a:lnTo>
                <a:lnTo>
                  <a:pt x="288" y="104"/>
                </a:lnTo>
                <a:lnTo>
                  <a:pt x="318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72"/>
          <p:cNvSpPr/>
          <p:nvPr/>
        </p:nvSpPr>
        <p:spPr>
          <a:xfrm>
            <a:off x="7029360" y="3938760"/>
            <a:ext cx="725400" cy="475920"/>
          </a:xfrm>
          <a:custGeom>
            <a:avLst/>
            <a:gdLst/>
            <a:ahLst/>
            <a:rect l="l" t="t" r="r" b="b"/>
            <a:pathLst>
              <a:path w="914" h="598">
                <a:moveTo>
                  <a:pt x="743" y="572"/>
                </a:moveTo>
                <a:lnTo>
                  <a:pt x="724" y="575"/>
                </a:lnTo>
                <a:lnTo>
                  <a:pt x="705" y="577"/>
                </a:lnTo>
                <a:lnTo>
                  <a:pt x="688" y="579"/>
                </a:lnTo>
                <a:lnTo>
                  <a:pt x="672" y="581"/>
                </a:lnTo>
                <a:lnTo>
                  <a:pt x="657" y="585"/>
                </a:lnTo>
                <a:lnTo>
                  <a:pt x="641" y="587"/>
                </a:lnTo>
                <a:lnTo>
                  <a:pt x="628" y="589"/>
                </a:lnTo>
                <a:lnTo>
                  <a:pt x="615" y="591"/>
                </a:lnTo>
                <a:lnTo>
                  <a:pt x="601" y="593"/>
                </a:lnTo>
                <a:lnTo>
                  <a:pt x="590" y="595"/>
                </a:lnTo>
                <a:lnTo>
                  <a:pt x="578" y="595"/>
                </a:lnTo>
                <a:lnTo>
                  <a:pt x="569" y="596"/>
                </a:lnTo>
                <a:lnTo>
                  <a:pt x="559" y="596"/>
                </a:lnTo>
                <a:lnTo>
                  <a:pt x="551" y="598"/>
                </a:lnTo>
                <a:lnTo>
                  <a:pt x="544" y="598"/>
                </a:lnTo>
                <a:lnTo>
                  <a:pt x="538" y="598"/>
                </a:lnTo>
                <a:lnTo>
                  <a:pt x="534" y="598"/>
                </a:lnTo>
                <a:lnTo>
                  <a:pt x="528" y="596"/>
                </a:lnTo>
                <a:lnTo>
                  <a:pt x="524" y="595"/>
                </a:lnTo>
                <a:lnTo>
                  <a:pt x="517" y="591"/>
                </a:lnTo>
                <a:lnTo>
                  <a:pt x="511" y="585"/>
                </a:lnTo>
                <a:lnTo>
                  <a:pt x="503" y="581"/>
                </a:lnTo>
                <a:lnTo>
                  <a:pt x="494" y="573"/>
                </a:lnTo>
                <a:lnTo>
                  <a:pt x="484" y="566"/>
                </a:lnTo>
                <a:lnTo>
                  <a:pt x="474" y="558"/>
                </a:lnTo>
                <a:lnTo>
                  <a:pt x="463" y="548"/>
                </a:lnTo>
                <a:lnTo>
                  <a:pt x="451" y="537"/>
                </a:lnTo>
                <a:lnTo>
                  <a:pt x="438" y="525"/>
                </a:lnTo>
                <a:lnTo>
                  <a:pt x="425" y="512"/>
                </a:lnTo>
                <a:lnTo>
                  <a:pt x="411" y="499"/>
                </a:lnTo>
                <a:lnTo>
                  <a:pt x="396" y="483"/>
                </a:lnTo>
                <a:lnTo>
                  <a:pt x="379" y="468"/>
                </a:lnTo>
                <a:lnTo>
                  <a:pt x="361" y="451"/>
                </a:lnTo>
                <a:lnTo>
                  <a:pt x="344" y="433"/>
                </a:lnTo>
                <a:lnTo>
                  <a:pt x="325" y="414"/>
                </a:lnTo>
                <a:lnTo>
                  <a:pt x="306" y="393"/>
                </a:lnTo>
                <a:lnTo>
                  <a:pt x="284" y="372"/>
                </a:lnTo>
                <a:lnTo>
                  <a:pt x="263" y="351"/>
                </a:lnTo>
                <a:lnTo>
                  <a:pt x="240" y="326"/>
                </a:lnTo>
                <a:lnTo>
                  <a:pt x="217" y="303"/>
                </a:lnTo>
                <a:lnTo>
                  <a:pt x="194" y="276"/>
                </a:lnTo>
                <a:lnTo>
                  <a:pt x="169" y="249"/>
                </a:lnTo>
                <a:lnTo>
                  <a:pt x="142" y="222"/>
                </a:lnTo>
                <a:lnTo>
                  <a:pt x="116" y="193"/>
                </a:lnTo>
                <a:lnTo>
                  <a:pt x="89" y="163"/>
                </a:lnTo>
                <a:lnTo>
                  <a:pt x="60" y="132"/>
                </a:lnTo>
                <a:lnTo>
                  <a:pt x="31" y="99"/>
                </a:lnTo>
                <a:lnTo>
                  <a:pt x="0" y="67"/>
                </a:lnTo>
                <a:lnTo>
                  <a:pt x="18" y="32"/>
                </a:lnTo>
                <a:lnTo>
                  <a:pt x="35" y="0"/>
                </a:lnTo>
                <a:lnTo>
                  <a:pt x="41" y="9"/>
                </a:lnTo>
                <a:lnTo>
                  <a:pt x="50" y="21"/>
                </a:lnTo>
                <a:lnTo>
                  <a:pt x="60" y="30"/>
                </a:lnTo>
                <a:lnTo>
                  <a:pt x="71" y="42"/>
                </a:lnTo>
                <a:lnTo>
                  <a:pt x="83" y="53"/>
                </a:lnTo>
                <a:lnTo>
                  <a:pt x="96" y="65"/>
                </a:lnTo>
                <a:lnTo>
                  <a:pt x="112" y="78"/>
                </a:lnTo>
                <a:lnTo>
                  <a:pt x="127" y="90"/>
                </a:lnTo>
                <a:lnTo>
                  <a:pt x="144" y="103"/>
                </a:lnTo>
                <a:lnTo>
                  <a:pt x="164" y="117"/>
                </a:lnTo>
                <a:lnTo>
                  <a:pt x="183" y="132"/>
                </a:lnTo>
                <a:lnTo>
                  <a:pt x="204" y="147"/>
                </a:lnTo>
                <a:lnTo>
                  <a:pt x="225" y="163"/>
                </a:lnTo>
                <a:lnTo>
                  <a:pt x="248" y="178"/>
                </a:lnTo>
                <a:lnTo>
                  <a:pt x="273" y="195"/>
                </a:lnTo>
                <a:lnTo>
                  <a:pt x="298" y="213"/>
                </a:lnTo>
                <a:lnTo>
                  <a:pt x="344" y="247"/>
                </a:lnTo>
                <a:lnTo>
                  <a:pt x="369" y="264"/>
                </a:lnTo>
                <a:lnTo>
                  <a:pt x="394" y="280"/>
                </a:lnTo>
                <a:lnTo>
                  <a:pt x="417" y="295"/>
                </a:lnTo>
                <a:lnTo>
                  <a:pt x="444" y="310"/>
                </a:lnTo>
                <a:lnTo>
                  <a:pt x="469" y="326"/>
                </a:lnTo>
                <a:lnTo>
                  <a:pt x="494" y="339"/>
                </a:lnTo>
                <a:lnTo>
                  <a:pt x="521" y="353"/>
                </a:lnTo>
                <a:lnTo>
                  <a:pt x="546" y="364"/>
                </a:lnTo>
                <a:lnTo>
                  <a:pt x="572" y="378"/>
                </a:lnTo>
                <a:lnTo>
                  <a:pt x="599" y="387"/>
                </a:lnTo>
                <a:lnTo>
                  <a:pt x="626" y="399"/>
                </a:lnTo>
                <a:lnTo>
                  <a:pt x="653" y="408"/>
                </a:lnTo>
                <a:lnTo>
                  <a:pt x="680" y="418"/>
                </a:lnTo>
                <a:lnTo>
                  <a:pt x="709" y="426"/>
                </a:lnTo>
                <a:lnTo>
                  <a:pt x="734" y="433"/>
                </a:lnTo>
                <a:lnTo>
                  <a:pt x="757" y="441"/>
                </a:lnTo>
                <a:lnTo>
                  <a:pt x="778" y="449"/>
                </a:lnTo>
                <a:lnTo>
                  <a:pt x="799" y="454"/>
                </a:lnTo>
                <a:lnTo>
                  <a:pt x="816" y="462"/>
                </a:lnTo>
                <a:lnTo>
                  <a:pt x="833" y="470"/>
                </a:lnTo>
                <a:lnTo>
                  <a:pt x="849" y="476"/>
                </a:lnTo>
                <a:lnTo>
                  <a:pt x="862" y="481"/>
                </a:lnTo>
                <a:lnTo>
                  <a:pt x="874" y="489"/>
                </a:lnTo>
                <a:lnTo>
                  <a:pt x="885" y="495"/>
                </a:lnTo>
                <a:lnTo>
                  <a:pt x="893" y="499"/>
                </a:lnTo>
                <a:lnTo>
                  <a:pt x="901" y="504"/>
                </a:lnTo>
                <a:lnTo>
                  <a:pt x="906" y="508"/>
                </a:lnTo>
                <a:lnTo>
                  <a:pt x="910" y="512"/>
                </a:lnTo>
                <a:lnTo>
                  <a:pt x="912" y="516"/>
                </a:lnTo>
                <a:lnTo>
                  <a:pt x="914" y="520"/>
                </a:lnTo>
                <a:lnTo>
                  <a:pt x="912" y="522"/>
                </a:lnTo>
                <a:lnTo>
                  <a:pt x="910" y="524"/>
                </a:lnTo>
                <a:lnTo>
                  <a:pt x="908" y="527"/>
                </a:lnTo>
                <a:lnTo>
                  <a:pt x="903" y="531"/>
                </a:lnTo>
                <a:lnTo>
                  <a:pt x="897" y="533"/>
                </a:lnTo>
                <a:lnTo>
                  <a:pt x="889" y="537"/>
                </a:lnTo>
                <a:lnTo>
                  <a:pt x="881" y="541"/>
                </a:lnTo>
                <a:lnTo>
                  <a:pt x="870" y="545"/>
                </a:lnTo>
                <a:lnTo>
                  <a:pt x="860" y="548"/>
                </a:lnTo>
                <a:lnTo>
                  <a:pt x="847" y="552"/>
                </a:lnTo>
                <a:lnTo>
                  <a:pt x="833" y="556"/>
                </a:lnTo>
                <a:lnTo>
                  <a:pt x="818" y="560"/>
                </a:lnTo>
                <a:lnTo>
                  <a:pt x="801" y="564"/>
                </a:lnTo>
                <a:lnTo>
                  <a:pt x="782" y="566"/>
                </a:lnTo>
                <a:lnTo>
                  <a:pt x="762" y="570"/>
                </a:lnTo>
                <a:lnTo>
                  <a:pt x="743" y="5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73"/>
          <p:cNvSpPr/>
          <p:nvPr/>
        </p:nvSpPr>
        <p:spPr>
          <a:xfrm>
            <a:off x="6669000" y="3854520"/>
            <a:ext cx="368280" cy="520560"/>
          </a:xfrm>
          <a:custGeom>
            <a:avLst/>
            <a:gdLst/>
            <a:ahLst/>
            <a:rect l="l" t="t" r="r" b="b"/>
            <a:pathLst>
              <a:path w="465" h="656">
                <a:moveTo>
                  <a:pt x="8" y="653"/>
                </a:moveTo>
                <a:lnTo>
                  <a:pt x="4" y="651"/>
                </a:lnTo>
                <a:lnTo>
                  <a:pt x="2" y="647"/>
                </a:lnTo>
                <a:lnTo>
                  <a:pt x="0" y="643"/>
                </a:lnTo>
                <a:lnTo>
                  <a:pt x="0" y="637"/>
                </a:lnTo>
                <a:lnTo>
                  <a:pt x="0" y="632"/>
                </a:lnTo>
                <a:lnTo>
                  <a:pt x="2" y="626"/>
                </a:lnTo>
                <a:lnTo>
                  <a:pt x="6" y="618"/>
                </a:lnTo>
                <a:lnTo>
                  <a:pt x="10" y="610"/>
                </a:lnTo>
                <a:lnTo>
                  <a:pt x="16" y="601"/>
                </a:lnTo>
                <a:lnTo>
                  <a:pt x="21" y="591"/>
                </a:lnTo>
                <a:lnTo>
                  <a:pt x="29" y="580"/>
                </a:lnTo>
                <a:lnTo>
                  <a:pt x="39" y="568"/>
                </a:lnTo>
                <a:lnTo>
                  <a:pt x="48" y="555"/>
                </a:lnTo>
                <a:lnTo>
                  <a:pt x="60" y="539"/>
                </a:lnTo>
                <a:lnTo>
                  <a:pt x="73" y="524"/>
                </a:lnTo>
                <a:lnTo>
                  <a:pt x="89" y="507"/>
                </a:lnTo>
                <a:lnTo>
                  <a:pt x="102" y="488"/>
                </a:lnTo>
                <a:lnTo>
                  <a:pt x="119" y="468"/>
                </a:lnTo>
                <a:lnTo>
                  <a:pt x="135" y="447"/>
                </a:lnTo>
                <a:lnTo>
                  <a:pt x="152" y="424"/>
                </a:lnTo>
                <a:lnTo>
                  <a:pt x="169" y="399"/>
                </a:lnTo>
                <a:lnTo>
                  <a:pt x="188" y="372"/>
                </a:lnTo>
                <a:lnTo>
                  <a:pt x="206" y="344"/>
                </a:lnTo>
                <a:lnTo>
                  <a:pt x="225" y="313"/>
                </a:lnTo>
                <a:lnTo>
                  <a:pt x="235" y="298"/>
                </a:lnTo>
                <a:lnTo>
                  <a:pt x="244" y="282"/>
                </a:lnTo>
                <a:lnTo>
                  <a:pt x="256" y="265"/>
                </a:lnTo>
                <a:lnTo>
                  <a:pt x="265" y="248"/>
                </a:lnTo>
                <a:lnTo>
                  <a:pt x="275" y="230"/>
                </a:lnTo>
                <a:lnTo>
                  <a:pt x="286" y="211"/>
                </a:lnTo>
                <a:lnTo>
                  <a:pt x="296" y="194"/>
                </a:lnTo>
                <a:lnTo>
                  <a:pt x="307" y="173"/>
                </a:lnTo>
                <a:lnTo>
                  <a:pt x="317" y="154"/>
                </a:lnTo>
                <a:lnTo>
                  <a:pt x="329" y="134"/>
                </a:lnTo>
                <a:lnTo>
                  <a:pt x="340" y="113"/>
                </a:lnTo>
                <a:lnTo>
                  <a:pt x="352" y="92"/>
                </a:lnTo>
                <a:lnTo>
                  <a:pt x="361" y="69"/>
                </a:lnTo>
                <a:lnTo>
                  <a:pt x="373" y="48"/>
                </a:lnTo>
                <a:lnTo>
                  <a:pt x="384" y="25"/>
                </a:lnTo>
                <a:lnTo>
                  <a:pt x="396" y="0"/>
                </a:lnTo>
                <a:lnTo>
                  <a:pt x="413" y="38"/>
                </a:lnTo>
                <a:lnTo>
                  <a:pt x="430" y="75"/>
                </a:lnTo>
                <a:lnTo>
                  <a:pt x="448" y="111"/>
                </a:lnTo>
                <a:lnTo>
                  <a:pt x="465" y="148"/>
                </a:lnTo>
                <a:lnTo>
                  <a:pt x="442" y="184"/>
                </a:lnTo>
                <a:lnTo>
                  <a:pt x="419" y="221"/>
                </a:lnTo>
                <a:lnTo>
                  <a:pt x="398" y="253"/>
                </a:lnTo>
                <a:lnTo>
                  <a:pt x="377" y="286"/>
                </a:lnTo>
                <a:lnTo>
                  <a:pt x="357" y="319"/>
                </a:lnTo>
                <a:lnTo>
                  <a:pt x="336" y="347"/>
                </a:lnTo>
                <a:lnTo>
                  <a:pt x="317" y="376"/>
                </a:lnTo>
                <a:lnTo>
                  <a:pt x="300" y="403"/>
                </a:lnTo>
                <a:lnTo>
                  <a:pt x="281" y="428"/>
                </a:lnTo>
                <a:lnTo>
                  <a:pt x="263" y="453"/>
                </a:lnTo>
                <a:lnTo>
                  <a:pt x="246" y="474"/>
                </a:lnTo>
                <a:lnTo>
                  <a:pt x="231" y="495"/>
                </a:lnTo>
                <a:lnTo>
                  <a:pt x="213" y="514"/>
                </a:lnTo>
                <a:lnTo>
                  <a:pt x="198" y="532"/>
                </a:lnTo>
                <a:lnTo>
                  <a:pt x="183" y="547"/>
                </a:lnTo>
                <a:lnTo>
                  <a:pt x="167" y="561"/>
                </a:lnTo>
                <a:lnTo>
                  <a:pt x="154" y="572"/>
                </a:lnTo>
                <a:lnTo>
                  <a:pt x="141" y="584"/>
                </a:lnTo>
                <a:lnTo>
                  <a:pt x="127" y="595"/>
                </a:lnTo>
                <a:lnTo>
                  <a:pt x="114" y="605"/>
                </a:lnTo>
                <a:lnTo>
                  <a:pt x="102" y="614"/>
                </a:lnTo>
                <a:lnTo>
                  <a:pt x="91" y="622"/>
                </a:lnTo>
                <a:lnTo>
                  <a:pt x="81" y="630"/>
                </a:lnTo>
                <a:lnTo>
                  <a:pt x="71" y="637"/>
                </a:lnTo>
                <a:lnTo>
                  <a:pt x="62" y="643"/>
                </a:lnTo>
                <a:lnTo>
                  <a:pt x="52" y="647"/>
                </a:lnTo>
                <a:lnTo>
                  <a:pt x="45" y="651"/>
                </a:lnTo>
                <a:lnTo>
                  <a:pt x="37" y="655"/>
                </a:lnTo>
                <a:lnTo>
                  <a:pt x="29" y="655"/>
                </a:lnTo>
                <a:lnTo>
                  <a:pt x="21" y="656"/>
                </a:lnTo>
                <a:lnTo>
                  <a:pt x="14" y="655"/>
                </a:lnTo>
                <a:lnTo>
                  <a:pt x="8" y="6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74"/>
          <p:cNvSpPr/>
          <p:nvPr/>
        </p:nvSpPr>
        <p:spPr>
          <a:xfrm>
            <a:off x="6954840" y="2868480"/>
            <a:ext cx="173160" cy="2000520"/>
          </a:xfrm>
          <a:custGeom>
            <a:avLst/>
            <a:gdLst/>
            <a:ahLst/>
            <a:rect l="l" t="t" r="r" b="b"/>
            <a:pathLst>
              <a:path w="219" h="2520">
                <a:moveTo>
                  <a:pt x="25" y="125"/>
                </a:moveTo>
                <a:lnTo>
                  <a:pt x="21" y="110"/>
                </a:lnTo>
                <a:lnTo>
                  <a:pt x="18" y="96"/>
                </a:lnTo>
                <a:lnTo>
                  <a:pt x="14" y="85"/>
                </a:lnTo>
                <a:lnTo>
                  <a:pt x="10" y="73"/>
                </a:lnTo>
                <a:lnTo>
                  <a:pt x="6" y="62"/>
                </a:lnTo>
                <a:lnTo>
                  <a:pt x="4" y="52"/>
                </a:lnTo>
                <a:lnTo>
                  <a:pt x="4" y="40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7"/>
                </a:lnTo>
                <a:lnTo>
                  <a:pt x="0" y="14"/>
                </a:lnTo>
                <a:lnTo>
                  <a:pt x="2" y="10"/>
                </a:lnTo>
                <a:lnTo>
                  <a:pt x="4" y="8"/>
                </a:lnTo>
                <a:lnTo>
                  <a:pt x="6" y="6"/>
                </a:lnTo>
                <a:lnTo>
                  <a:pt x="8" y="2"/>
                </a:lnTo>
                <a:lnTo>
                  <a:pt x="12" y="2"/>
                </a:lnTo>
                <a:lnTo>
                  <a:pt x="16" y="0"/>
                </a:lnTo>
                <a:lnTo>
                  <a:pt x="20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3" y="2"/>
                </a:lnTo>
                <a:lnTo>
                  <a:pt x="48" y="4"/>
                </a:lnTo>
                <a:lnTo>
                  <a:pt x="62" y="10"/>
                </a:lnTo>
                <a:lnTo>
                  <a:pt x="75" y="16"/>
                </a:lnTo>
                <a:lnTo>
                  <a:pt x="91" y="19"/>
                </a:lnTo>
                <a:lnTo>
                  <a:pt x="106" y="27"/>
                </a:lnTo>
                <a:lnTo>
                  <a:pt x="121" y="33"/>
                </a:lnTo>
                <a:lnTo>
                  <a:pt x="135" y="40"/>
                </a:lnTo>
                <a:lnTo>
                  <a:pt x="150" y="48"/>
                </a:lnTo>
                <a:lnTo>
                  <a:pt x="163" y="58"/>
                </a:lnTo>
                <a:lnTo>
                  <a:pt x="175" y="73"/>
                </a:lnTo>
                <a:lnTo>
                  <a:pt x="187" y="85"/>
                </a:lnTo>
                <a:lnTo>
                  <a:pt x="196" y="98"/>
                </a:lnTo>
                <a:lnTo>
                  <a:pt x="204" y="108"/>
                </a:lnTo>
                <a:lnTo>
                  <a:pt x="211" y="117"/>
                </a:lnTo>
                <a:lnTo>
                  <a:pt x="215" y="125"/>
                </a:lnTo>
                <a:lnTo>
                  <a:pt x="217" y="129"/>
                </a:lnTo>
                <a:lnTo>
                  <a:pt x="219" y="133"/>
                </a:lnTo>
                <a:lnTo>
                  <a:pt x="219" y="135"/>
                </a:lnTo>
                <a:lnTo>
                  <a:pt x="219" y="138"/>
                </a:lnTo>
                <a:lnTo>
                  <a:pt x="215" y="144"/>
                </a:lnTo>
                <a:lnTo>
                  <a:pt x="213" y="150"/>
                </a:lnTo>
                <a:lnTo>
                  <a:pt x="211" y="158"/>
                </a:lnTo>
                <a:lnTo>
                  <a:pt x="208" y="165"/>
                </a:lnTo>
                <a:lnTo>
                  <a:pt x="206" y="175"/>
                </a:lnTo>
                <a:lnTo>
                  <a:pt x="204" y="184"/>
                </a:lnTo>
                <a:lnTo>
                  <a:pt x="200" y="194"/>
                </a:lnTo>
                <a:lnTo>
                  <a:pt x="198" y="204"/>
                </a:lnTo>
                <a:lnTo>
                  <a:pt x="196" y="207"/>
                </a:lnTo>
                <a:lnTo>
                  <a:pt x="194" y="213"/>
                </a:lnTo>
                <a:lnTo>
                  <a:pt x="194" y="219"/>
                </a:lnTo>
                <a:lnTo>
                  <a:pt x="194" y="227"/>
                </a:lnTo>
                <a:lnTo>
                  <a:pt x="192" y="234"/>
                </a:lnTo>
                <a:lnTo>
                  <a:pt x="192" y="242"/>
                </a:lnTo>
                <a:lnTo>
                  <a:pt x="190" y="252"/>
                </a:lnTo>
                <a:lnTo>
                  <a:pt x="190" y="261"/>
                </a:lnTo>
                <a:lnTo>
                  <a:pt x="190" y="273"/>
                </a:lnTo>
                <a:lnTo>
                  <a:pt x="188" y="286"/>
                </a:lnTo>
                <a:lnTo>
                  <a:pt x="188" y="298"/>
                </a:lnTo>
                <a:lnTo>
                  <a:pt x="188" y="313"/>
                </a:lnTo>
                <a:lnTo>
                  <a:pt x="187" y="326"/>
                </a:lnTo>
                <a:lnTo>
                  <a:pt x="187" y="344"/>
                </a:lnTo>
                <a:lnTo>
                  <a:pt x="187" y="359"/>
                </a:lnTo>
                <a:lnTo>
                  <a:pt x="187" y="378"/>
                </a:lnTo>
                <a:lnTo>
                  <a:pt x="185" y="396"/>
                </a:lnTo>
                <a:lnTo>
                  <a:pt x="185" y="415"/>
                </a:lnTo>
                <a:lnTo>
                  <a:pt x="185" y="436"/>
                </a:lnTo>
                <a:lnTo>
                  <a:pt x="183" y="457"/>
                </a:lnTo>
                <a:lnTo>
                  <a:pt x="183" y="480"/>
                </a:lnTo>
                <a:lnTo>
                  <a:pt x="183" y="503"/>
                </a:lnTo>
                <a:lnTo>
                  <a:pt x="181" y="528"/>
                </a:lnTo>
                <a:lnTo>
                  <a:pt x="181" y="553"/>
                </a:lnTo>
                <a:lnTo>
                  <a:pt x="181" y="578"/>
                </a:lnTo>
                <a:lnTo>
                  <a:pt x="179" y="607"/>
                </a:lnTo>
                <a:lnTo>
                  <a:pt x="179" y="634"/>
                </a:lnTo>
                <a:lnTo>
                  <a:pt x="179" y="664"/>
                </a:lnTo>
                <a:lnTo>
                  <a:pt x="177" y="693"/>
                </a:lnTo>
                <a:lnTo>
                  <a:pt x="177" y="724"/>
                </a:lnTo>
                <a:lnTo>
                  <a:pt x="175" y="756"/>
                </a:lnTo>
                <a:lnTo>
                  <a:pt x="175" y="791"/>
                </a:lnTo>
                <a:lnTo>
                  <a:pt x="169" y="923"/>
                </a:lnTo>
                <a:lnTo>
                  <a:pt x="165" y="1058"/>
                </a:lnTo>
                <a:lnTo>
                  <a:pt x="162" y="1190"/>
                </a:lnTo>
                <a:lnTo>
                  <a:pt x="158" y="1323"/>
                </a:lnTo>
                <a:lnTo>
                  <a:pt x="156" y="1455"/>
                </a:lnTo>
                <a:lnTo>
                  <a:pt x="154" y="1588"/>
                </a:lnTo>
                <a:lnTo>
                  <a:pt x="152" y="1722"/>
                </a:lnTo>
                <a:lnTo>
                  <a:pt x="152" y="1856"/>
                </a:lnTo>
                <a:lnTo>
                  <a:pt x="152" y="1889"/>
                </a:lnTo>
                <a:lnTo>
                  <a:pt x="152" y="1922"/>
                </a:lnTo>
                <a:lnTo>
                  <a:pt x="152" y="1952"/>
                </a:lnTo>
                <a:lnTo>
                  <a:pt x="150" y="1983"/>
                </a:lnTo>
                <a:lnTo>
                  <a:pt x="150" y="2012"/>
                </a:lnTo>
                <a:lnTo>
                  <a:pt x="150" y="2041"/>
                </a:lnTo>
                <a:lnTo>
                  <a:pt x="150" y="2067"/>
                </a:lnTo>
                <a:lnTo>
                  <a:pt x="150" y="2094"/>
                </a:lnTo>
                <a:lnTo>
                  <a:pt x="148" y="2121"/>
                </a:lnTo>
                <a:lnTo>
                  <a:pt x="148" y="2146"/>
                </a:lnTo>
                <a:lnTo>
                  <a:pt x="148" y="2169"/>
                </a:lnTo>
                <a:lnTo>
                  <a:pt x="146" y="2192"/>
                </a:lnTo>
                <a:lnTo>
                  <a:pt x="146" y="2215"/>
                </a:lnTo>
                <a:lnTo>
                  <a:pt x="146" y="2234"/>
                </a:lnTo>
                <a:lnTo>
                  <a:pt x="144" y="2255"/>
                </a:lnTo>
                <a:lnTo>
                  <a:pt x="144" y="2275"/>
                </a:lnTo>
                <a:lnTo>
                  <a:pt x="142" y="2292"/>
                </a:lnTo>
                <a:lnTo>
                  <a:pt x="142" y="2309"/>
                </a:lnTo>
                <a:lnTo>
                  <a:pt x="142" y="2327"/>
                </a:lnTo>
                <a:lnTo>
                  <a:pt x="140" y="2342"/>
                </a:lnTo>
                <a:lnTo>
                  <a:pt x="140" y="2357"/>
                </a:lnTo>
                <a:lnTo>
                  <a:pt x="139" y="2371"/>
                </a:lnTo>
                <a:lnTo>
                  <a:pt x="139" y="2382"/>
                </a:lnTo>
                <a:lnTo>
                  <a:pt x="137" y="2394"/>
                </a:lnTo>
                <a:lnTo>
                  <a:pt x="137" y="2405"/>
                </a:lnTo>
                <a:lnTo>
                  <a:pt x="135" y="2415"/>
                </a:lnTo>
                <a:lnTo>
                  <a:pt x="133" y="2424"/>
                </a:lnTo>
                <a:lnTo>
                  <a:pt x="133" y="2432"/>
                </a:lnTo>
                <a:lnTo>
                  <a:pt x="131" y="2438"/>
                </a:lnTo>
                <a:lnTo>
                  <a:pt x="131" y="2446"/>
                </a:lnTo>
                <a:lnTo>
                  <a:pt x="129" y="2449"/>
                </a:lnTo>
                <a:lnTo>
                  <a:pt x="129" y="2455"/>
                </a:lnTo>
                <a:lnTo>
                  <a:pt x="121" y="2469"/>
                </a:lnTo>
                <a:lnTo>
                  <a:pt x="114" y="2482"/>
                </a:lnTo>
                <a:lnTo>
                  <a:pt x="108" y="2494"/>
                </a:lnTo>
                <a:lnTo>
                  <a:pt x="102" y="2503"/>
                </a:lnTo>
                <a:lnTo>
                  <a:pt x="98" y="2507"/>
                </a:lnTo>
                <a:lnTo>
                  <a:pt x="96" y="2511"/>
                </a:lnTo>
                <a:lnTo>
                  <a:pt x="94" y="2513"/>
                </a:lnTo>
                <a:lnTo>
                  <a:pt x="92" y="2517"/>
                </a:lnTo>
                <a:lnTo>
                  <a:pt x="89" y="2518"/>
                </a:lnTo>
                <a:lnTo>
                  <a:pt x="87" y="2520"/>
                </a:lnTo>
                <a:lnTo>
                  <a:pt x="85" y="2520"/>
                </a:lnTo>
                <a:lnTo>
                  <a:pt x="83" y="2520"/>
                </a:lnTo>
                <a:lnTo>
                  <a:pt x="81" y="2520"/>
                </a:lnTo>
                <a:lnTo>
                  <a:pt x="79" y="2518"/>
                </a:lnTo>
                <a:lnTo>
                  <a:pt x="75" y="2515"/>
                </a:lnTo>
                <a:lnTo>
                  <a:pt x="73" y="2511"/>
                </a:lnTo>
                <a:lnTo>
                  <a:pt x="69" y="2505"/>
                </a:lnTo>
                <a:lnTo>
                  <a:pt x="66" y="2499"/>
                </a:lnTo>
                <a:lnTo>
                  <a:pt x="64" y="2492"/>
                </a:lnTo>
                <a:lnTo>
                  <a:pt x="60" y="2482"/>
                </a:lnTo>
                <a:lnTo>
                  <a:pt x="56" y="2472"/>
                </a:lnTo>
                <a:lnTo>
                  <a:pt x="54" y="2461"/>
                </a:lnTo>
                <a:lnTo>
                  <a:pt x="50" y="2449"/>
                </a:lnTo>
                <a:lnTo>
                  <a:pt x="48" y="2436"/>
                </a:lnTo>
                <a:lnTo>
                  <a:pt x="44" y="2422"/>
                </a:lnTo>
                <a:lnTo>
                  <a:pt x="43" y="2407"/>
                </a:lnTo>
                <a:lnTo>
                  <a:pt x="39" y="2392"/>
                </a:lnTo>
                <a:lnTo>
                  <a:pt x="37" y="2375"/>
                </a:lnTo>
                <a:lnTo>
                  <a:pt x="33" y="2357"/>
                </a:lnTo>
                <a:lnTo>
                  <a:pt x="29" y="2342"/>
                </a:lnTo>
                <a:lnTo>
                  <a:pt x="25" y="2327"/>
                </a:lnTo>
                <a:lnTo>
                  <a:pt x="23" y="2311"/>
                </a:lnTo>
                <a:lnTo>
                  <a:pt x="20" y="2298"/>
                </a:lnTo>
                <a:lnTo>
                  <a:pt x="18" y="2284"/>
                </a:lnTo>
                <a:lnTo>
                  <a:pt x="16" y="2273"/>
                </a:lnTo>
                <a:lnTo>
                  <a:pt x="14" y="2261"/>
                </a:lnTo>
                <a:lnTo>
                  <a:pt x="12" y="2250"/>
                </a:lnTo>
                <a:lnTo>
                  <a:pt x="10" y="2240"/>
                </a:lnTo>
                <a:lnTo>
                  <a:pt x="10" y="2231"/>
                </a:lnTo>
                <a:lnTo>
                  <a:pt x="10" y="2221"/>
                </a:lnTo>
                <a:lnTo>
                  <a:pt x="10" y="2211"/>
                </a:lnTo>
                <a:lnTo>
                  <a:pt x="12" y="2204"/>
                </a:lnTo>
                <a:lnTo>
                  <a:pt x="12" y="2196"/>
                </a:lnTo>
                <a:lnTo>
                  <a:pt x="14" y="2188"/>
                </a:lnTo>
                <a:lnTo>
                  <a:pt x="14" y="2184"/>
                </a:lnTo>
                <a:lnTo>
                  <a:pt x="14" y="2183"/>
                </a:lnTo>
                <a:lnTo>
                  <a:pt x="14" y="2177"/>
                </a:lnTo>
                <a:lnTo>
                  <a:pt x="16" y="2173"/>
                </a:lnTo>
                <a:lnTo>
                  <a:pt x="16" y="2167"/>
                </a:lnTo>
                <a:lnTo>
                  <a:pt x="16" y="2161"/>
                </a:lnTo>
                <a:lnTo>
                  <a:pt x="16" y="2156"/>
                </a:lnTo>
                <a:lnTo>
                  <a:pt x="16" y="2148"/>
                </a:lnTo>
                <a:lnTo>
                  <a:pt x="18" y="2140"/>
                </a:lnTo>
                <a:lnTo>
                  <a:pt x="18" y="2133"/>
                </a:lnTo>
                <a:lnTo>
                  <a:pt x="18" y="2123"/>
                </a:lnTo>
                <a:lnTo>
                  <a:pt x="20" y="2113"/>
                </a:lnTo>
                <a:lnTo>
                  <a:pt x="20" y="2104"/>
                </a:lnTo>
                <a:lnTo>
                  <a:pt x="21" y="2092"/>
                </a:lnTo>
                <a:lnTo>
                  <a:pt x="21" y="2083"/>
                </a:lnTo>
                <a:lnTo>
                  <a:pt x="23" y="2069"/>
                </a:lnTo>
                <a:lnTo>
                  <a:pt x="23" y="2058"/>
                </a:lnTo>
                <a:lnTo>
                  <a:pt x="25" y="2044"/>
                </a:lnTo>
                <a:lnTo>
                  <a:pt x="27" y="2031"/>
                </a:lnTo>
                <a:lnTo>
                  <a:pt x="27" y="2017"/>
                </a:lnTo>
                <a:lnTo>
                  <a:pt x="29" y="2002"/>
                </a:lnTo>
                <a:lnTo>
                  <a:pt x="31" y="1987"/>
                </a:lnTo>
                <a:lnTo>
                  <a:pt x="33" y="1971"/>
                </a:lnTo>
                <a:lnTo>
                  <a:pt x="33" y="1954"/>
                </a:lnTo>
                <a:lnTo>
                  <a:pt x="35" y="1937"/>
                </a:lnTo>
                <a:lnTo>
                  <a:pt x="37" y="1920"/>
                </a:lnTo>
                <a:lnTo>
                  <a:pt x="39" y="1900"/>
                </a:lnTo>
                <a:lnTo>
                  <a:pt x="41" y="1883"/>
                </a:lnTo>
                <a:lnTo>
                  <a:pt x="43" y="1864"/>
                </a:lnTo>
                <a:lnTo>
                  <a:pt x="44" y="1843"/>
                </a:lnTo>
                <a:lnTo>
                  <a:pt x="46" y="1824"/>
                </a:lnTo>
                <a:lnTo>
                  <a:pt x="48" y="1803"/>
                </a:lnTo>
                <a:lnTo>
                  <a:pt x="50" y="1781"/>
                </a:lnTo>
                <a:lnTo>
                  <a:pt x="50" y="1758"/>
                </a:lnTo>
                <a:lnTo>
                  <a:pt x="52" y="1735"/>
                </a:lnTo>
                <a:lnTo>
                  <a:pt x="52" y="1712"/>
                </a:lnTo>
                <a:lnTo>
                  <a:pt x="54" y="1687"/>
                </a:lnTo>
                <a:lnTo>
                  <a:pt x="54" y="1664"/>
                </a:lnTo>
                <a:lnTo>
                  <a:pt x="56" y="1637"/>
                </a:lnTo>
                <a:lnTo>
                  <a:pt x="56" y="1612"/>
                </a:lnTo>
                <a:lnTo>
                  <a:pt x="58" y="1586"/>
                </a:lnTo>
                <a:lnTo>
                  <a:pt x="58" y="1559"/>
                </a:lnTo>
                <a:lnTo>
                  <a:pt x="60" y="1532"/>
                </a:lnTo>
                <a:lnTo>
                  <a:pt x="60" y="1503"/>
                </a:lnTo>
                <a:lnTo>
                  <a:pt x="62" y="1474"/>
                </a:lnTo>
                <a:lnTo>
                  <a:pt x="62" y="1446"/>
                </a:lnTo>
                <a:lnTo>
                  <a:pt x="64" y="1415"/>
                </a:lnTo>
                <a:lnTo>
                  <a:pt x="64" y="1384"/>
                </a:lnTo>
                <a:lnTo>
                  <a:pt x="66" y="1353"/>
                </a:lnTo>
                <a:lnTo>
                  <a:pt x="66" y="1321"/>
                </a:lnTo>
                <a:lnTo>
                  <a:pt x="66" y="1288"/>
                </a:lnTo>
                <a:lnTo>
                  <a:pt x="68" y="1255"/>
                </a:lnTo>
                <a:lnTo>
                  <a:pt x="68" y="1223"/>
                </a:lnTo>
                <a:lnTo>
                  <a:pt x="68" y="1188"/>
                </a:lnTo>
                <a:lnTo>
                  <a:pt x="69" y="1154"/>
                </a:lnTo>
                <a:lnTo>
                  <a:pt x="69" y="1119"/>
                </a:lnTo>
                <a:lnTo>
                  <a:pt x="69" y="1083"/>
                </a:lnTo>
                <a:lnTo>
                  <a:pt x="69" y="1046"/>
                </a:lnTo>
                <a:lnTo>
                  <a:pt x="71" y="1010"/>
                </a:lnTo>
                <a:lnTo>
                  <a:pt x="71" y="971"/>
                </a:lnTo>
                <a:lnTo>
                  <a:pt x="71" y="935"/>
                </a:lnTo>
                <a:lnTo>
                  <a:pt x="71" y="897"/>
                </a:lnTo>
                <a:lnTo>
                  <a:pt x="71" y="856"/>
                </a:lnTo>
                <a:lnTo>
                  <a:pt x="71" y="818"/>
                </a:lnTo>
                <a:lnTo>
                  <a:pt x="69" y="778"/>
                </a:lnTo>
                <a:lnTo>
                  <a:pt x="69" y="739"/>
                </a:lnTo>
                <a:lnTo>
                  <a:pt x="68" y="703"/>
                </a:lnTo>
                <a:lnTo>
                  <a:pt x="68" y="666"/>
                </a:lnTo>
                <a:lnTo>
                  <a:pt x="66" y="632"/>
                </a:lnTo>
                <a:lnTo>
                  <a:pt x="66" y="599"/>
                </a:lnTo>
                <a:lnTo>
                  <a:pt x="64" y="566"/>
                </a:lnTo>
                <a:lnTo>
                  <a:pt x="64" y="534"/>
                </a:lnTo>
                <a:lnTo>
                  <a:pt x="62" y="505"/>
                </a:lnTo>
                <a:lnTo>
                  <a:pt x="60" y="476"/>
                </a:lnTo>
                <a:lnTo>
                  <a:pt x="60" y="447"/>
                </a:lnTo>
                <a:lnTo>
                  <a:pt x="58" y="421"/>
                </a:lnTo>
                <a:lnTo>
                  <a:pt x="56" y="396"/>
                </a:lnTo>
                <a:lnTo>
                  <a:pt x="56" y="371"/>
                </a:lnTo>
                <a:lnTo>
                  <a:pt x="54" y="348"/>
                </a:lnTo>
                <a:lnTo>
                  <a:pt x="52" y="326"/>
                </a:lnTo>
                <a:lnTo>
                  <a:pt x="52" y="305"/>
                </a:lnTo>
                <a:lnTo>
                  <a:pt x="50" y="286"/>
                </a:lnTo>
                <a:lnTo>
                  <a:pt x="48" y="267"/>
                </a:lnTo>
                <a:lnTo>
                  <a:pt x="46" y="250"/>
                </a:lnTo>
                <a:lnTo>
                  <a:pt x="46" y="232"/>
                </a:lnTo>
                <a:lnTo>
                  <a:pt x="44" y="217"/>
                </a:lnTo>
                <a:lnTo>
                  <a:pt x="43" y="204"/>
                </a:lnTo>
                <a:lnTo>
                  <a:pt x="41" y="190"/>
                </a:lnTo>
                <a:lnTo>
                  <a:pt x="39" y="179"/>
                </a:lnTo>
                <a:lnTo>
                  <a:pt x="37" y="167"/>
                </a:lnTo>
                <a:lnTo>
                  <a:pt x="35" y="158"/>
                </a:lnTo>
                <a:lnTo>
                  <a:pt x="33" y="148"/>
                </a:lnTo>
                <a:lnTo>
                  <a:pt x="31" y="140"/>
                </a:lnTo>
                <a:lnTo>
                  <a:pt x="29" y="135"/>
                </a:lnTo>
                <a:lnTo>
                  <a:pt x="27" y="129"/>
                </a:lnTo>
                <a:lnTo>
                  <a:pt x="25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75"/>
          <p:cNvSpPr/>
          <p:nvPr/>
        </p:nvSpPr>
        <p:spPr>
          <a:xfrm>
            <a:off x="6151680" y="4054320"/>
            <a:ext cx="1504800" cy="1047960"/>
          </a:xfrm>
          <a:custGeom>
            <a:avLst/>
            <a:gdLst/>
            <a:ahLst/>
            <a:rect l="l" t="t" r="r" b="b"/>
            <a:pathLst>
              <a:path w="1896" h="1319">
                <a:moveTo>
                  <a:pt x="111" y="1119"/>
                </a:moveTo>
                <a:lnTo>
                  <a:pt x="101" y="1106"/>
                </a:lnTo>
                <a:lnTo>
                  <a:pt x="92" y="1093"/>
                </a:lnTo>
                <a:lnTo>
                  <a:pt x="82" y="1079"/>
                </a:lnTo>
                <a:lnTo>
                  <a:pt x="73" y="1066"/>
                </a:lnTo>
                <a:lnTo>
                  <a:pt x="65" y="1052"/>
                </a:lnTo>
                <a:lnTo>
                  <a:pt x="57" y="1039"/>
                </a:lnTo>
                <a:lnTo>
                  <a:pt x="50" y="1023"/>
                </a:lnTo>
                <a:lnTo>
                  <a:pt x="44" y="1008"/>
                </a:lnTo>
                <a:lnTo>
                  <a:pt x="36" y="995"/>
                </a:lnTo>
                <a:lnTo>
                  <a:pt x="32" y="979"/>
                </a:lnTo>
                <a:lnTo>
                  <a:pt x="27" y="962"/>
                </a:lnTo>
                <a:lnTo>
                  <a:pt x="21" y="947"/>
                </a:lnTo>
                <a:lnTo>
                  <a:pt x="17" y="931"/>
                </a:lnTo>
                <a:lnTo>
                  <a:pt x="15" y="914"/>
                </a:lnTo>
                <a:lnTo>
                  <a:pt x="11" y="897"/>
                </a:lnTo>
                <a:lnTo>
                  <a:pt x="9" y="880"/>
                </a:lnTo>
                <a:lnTo>
                  <a:pt x="6" y="845"/>
                </a:lnTo>
                <a:lnTo>
                  <a:pt x="4" y="812"/>
                </a:lnTo>
                <a:lnTo>
                  <a:pt x="2" y="780"/>
                </a:lnTo>
                <a:lnTo>
                  <a:pt x="0" y="749"/>
                </a:lnTo>
                <a:lnTo>
                  <a:pt x="2" y="720"/>
                </a:lnTo>
                <a:lnTo>
                  <a:pt x="4" y="691"/>
                </a:lnTo>
                <a:lnTo>
                  <a:pt x="6" y="665"/>
                </a:lnTo>
                <a:lnTo>
                  <a:pt x="9" y="640"/>
                </a:lnTo>
                <a:lnTo>
                  <a:pt x="11" y="626"/>
                </a:lnTo>
                <a:lnTo>
                  <a:pt x="13" y="613"/>
                </a:lnTo>
                <a:lnTo>
                  <a:pt x="15" y="597"/>
                </a:lnTo>
                <a:lnTo>
                  <a:pt x="17" y="580"/>
                </a:lnTo>
                <a:lnTo>
                  <a:pt x="19" y="563"/>
                </a:lnTo>
                <a:lnTo>
                  <a:pt x="21" y="544"/>
                </a:lnTo>
                <a:lnTo>
                  <a:pt x="25" y="524"/>
                </a:lnTo>
                <a:lnTo>
                  <a:pt x="27" y="503"/>
                </a:lnTo>
                <a:lnTo>
                  <a:pt x="29" y="482"/>
                </a:lnTo>
                <a:lnTo>
                  <a:pt x="30" y="459"/>
                </a:lnTo>
                <a:lnTo>
                  <a:pt x="32" y="436"/>
                </a:lnTo>
                <a:lnTo>
                  <a:pt x="34" y="411"/>
                </a:lnTo>
                <a:lnTo>
                  <a:pt x="36" y="386"/>
                </a:lnTo>
                <a:lnTo>
                  <a:pt x="38" y="361"/>
                </a:lnTo>
                <a:lnTo>
                  <a:pt x="40" y="334"/>
                </a:lnTo>
                <a:lnTo>
                  <a:pt x="44" y="308"/>
                </a:lnTo>
                <a:lnTo>
                  <a:pt x="46" y="281"/>
                </a:lnTo>
                <a:lnTo>
                  <a:pt x="48" y="256"/>
                </a:lnTo>
                <a:lnTo>
                  <a:pt x="50" y="233"/>
                </a:lnTo>
                <a:lnTo>
                  <a:pt x="52" y="210"/>
                </a:lnTo>
                <a:lnTo>
                  <a:pt x="54" y="189"/>
                </a:lnTo>
                <a:lnTo>
                  <a:pt x="55" y="171"/>
                </a:lnTo>
                <a:lnTo>
                  <a:pt x="55" y="154"/>
                </a:lnTo>
                <a:lnTo>
                  <a:pt x="57" y="137"/>
                </a:lnTo>
                <a:lnTo>
                  <a:pt x="59" y="123"/>
                </a:lnTo>
                <a:lnTo>
                  <a:pt x="59" y="110"/>
                </a:lnTo>
                <a:lnTo>
                  <a:pt x="59" y="100"/>
                </a:lnTo>
                <a:lnTo>
                  <a:pt x="59" y="91"/>
                </a:lnTo>
                <a:lnTo>
                  <a:pt x="59" y="81"/>
                </a:lnTo>
                <a:lnTo>
                  <a:pt x="57" y="75"/>
                </a:lnTo>
                <a:lnTo>
                  <a:pt x="57" y="70"/>
                </a:lnTo>
                <a:lnTo>
                  <a:pt x="55" y="68"/>
                </a:lnTo>
                <a:lnTo>
                  <a:pt x="50" y="62"/>
                </a:lnTo>
                <a:lnTo>
                  <a:pt x="46" y="58"/>
                </a:lnTo>
                <a:lnTo>
                  <a:pt x="44" y="52"/>
                </a:lnTo>
                <a:lnTo>
                  <a:pt x="40" y="46"/>
                </a:lnTo>
                <a:lnTo>
                  <a:pt x="38" y="43"/>
                </a:lnTo>
                <a:lnTo>
                  <a:pt x="38" y="37"/>
                </a:lnTo>
                <a:lnTo>
                  <a:pt x="40" y="33"/>
                </a:lnTo>
                <a:lnTo>
                  <a:pt x="42" y="29"/>
                </a:lnTo>
                <a:lnTo>
                  <a:pt x="44" y="27"/>
                </a:lnTo>
                <a:lnTo>
                  <a:pt x="44" y="22"/>
                </a:lnTo>
                <a:lnTo>
                  <a:pt x="46" y="18"/>
                </a:lnTo>
                <a:lnTo>
                  <a:pt x="48" y="14"/>
                </a:lnTo>
                <a:lnTo>
                  <a:pt x="52" y="10"/>
                </a:lnTo>
                <a:lnTo>
                  <a:pt x="57" y="6"/>
                </a:lnTo>
                <a:lnTo>
                  <a:pt x="63" y="2"/>
                </a:lnTo>
                <a:lnTo>
                  <a:pt x="69" y="2"/>
                </a:lnTo>
                <a:lnTo>
                  <a:pt x="78" y="0"/>
                </a:lnTo>
                <a:lnTo>
                  <a:pt x="86" y="2"/>
                </a:lnTo>
                <a:lnTo>
                  <a:pt x="94" y="2"/>
                </a:lnTo>
                <a:lnTo>
                  <a:pt x="103" y="6"/>
                </a:lnTo>
                <a:lnTo>
                  <a:pt x="113" y="10"/>
                </a:lnTo>
                <a:lnTo>
                  <a:pt x="123" y="14"/>
                </a:lnTo>
                <a:lnTo>
                  <a:pt x="134" y="18"/>
                </a:lnTo>
                <a:lnTo>
                  <a:pt x="146" y="22"/>
                </a:lnTo>
                <a:lnTo>
                  <a:pt x="157" y="27"/>
                </a:lnTo>
                <a:lnTo>
                  <a:pt x="163" y="33"/>
                </a:lnTo>
                <a:lnTo>
                  <a:pt x="169" y="37"/>
                </a:lnTo>
                <a:lnTo>
                  <a:pt x="178" y="46"/>
                </a:lnTo>
                <a:lnTo>
                  <a:pt x="188" y="56"/>
                </a:lnTo>
                <a:lnTo>
                  <a:pt x="194" y="66"/>
                </a:lnTo>
                <a:lnTo>
                  <a:pt x="201" y="73"/>
                </a:lnTo>
                <a:lnTo>
                  <a:pt x="205" y="81"/>
                </a:lnTo>
                <a:lnTo>
                  <a:pt x="211" y="89"/>
                </a:lnTo>
                <a:lnTo>
                  <a:pt x="215" y="94"/>
                </a:lnTo>
                <a:lnTo>
                  <a:pt x="215" y="114"/>
                </a:lnTo>
                <a:lnTo>
                  <a:pt x="213" y="123"/>
                </a:lnTo>
                <a:lnTo>
                  <a:pt x="213" y="133"/>
                </a:lnTo>
                <a:lnTo>
                  <a:pt x="211" y="141"/>
                </a:lnTo>
                <a:lnTo>
                  <a:pt x="209" y="148"/>
                </a:lnTo>
                <a:lnTo>
                  <a:pt x="207" y="156"/>
                </a:lnTo>
                <a:lnTo>
                  <a:pt x="203" y="162"/>
                </a:lnTo>
                <a:lnTo>
                  <a:pt x="201" y="164"/>
                </a:lnTo>
                <a:lnTo>
                  <a:pt x="197" y="169"/>
                </a:lnTo>
                <a:lnTo>
                  <a:pt x="196" y="177"/>
                </a:lnTo>
                <a:lnTo>
                  <a:pt x="192" y="185"/>
                </a:lnTo>
                <a:lnTo>
                  <a:pt x="190" y="196"/>
                </a:lnTo>
                <a:lnTo>
                  <a:pt x="186" y="208"/>
                </a:lnTo>
                <a:lnTo>
                  <a:pt x="182" y="223"/>
                </a:lnTo>
                <a:lnTo>
                  <a:pt x="178" y="238"/>
                </a:lnTo>
                <a:lnTo>
                  <a:pt x="174" y="256"/>
                </a:lnTo>
                <a:lnTo>
                  <a:pt x="171" y="277"/>
                </a:lnTo>
                <a:lnTo>
                  <a:pt x="167" y="296"/>
                </a:lnTo>
                <a:lnTo>
                  <a:pt x="163" y="319"/>
                </a:lnTo>
                <a:lnTo>
                  <a:pt x="159" y="344"/>
                </a:lnTo>
                <a:lnTo>
                  <a:pt x="155" y="371"/>
                </a:lnTo>
                <a:lnTo>
                  <a:pt x="149" y="398"/>
                </a:lnTo>
                <a:lnTo>
                  <a:pt x="146" y="427"/>
                </a:lnTo>
                <a:lnTo>
                  <a:pt x="140" y="459"/>
                </a:lnTo>
                <a:lnTo>
                  <a:pt x="134" y="488"/>
                </a:lnTo>
                <a:lnTo>
                  <a:pt x="130" y="517"/>
                </a:lnTo>
                <a:lnTo>
                  <a:pt x="125" y="544"/>
                </a:lnTo>
                <a:lnTo>
                  <a:pt x="121" y="570"/>
                </a:lnTo>
                <a:lnTo>
                  <a:pt x="117" y="594"/>
                </a:lnTo>
                <a:lnTo>
                  <a:pt x="113" y="617"/>
                </a:lnTo>
                <a:lnTo>
                  <a:pt x="111" y="636"/>
                </a:lnTo>
                <a:lnTo>
                  <a:pt x="107" y="655"/>
                </a:lnTo>
                <a:lnTo>
                  <a:pt x="105" y="674"/>
                </a:lnTo>
                <a:lnTo>
                  <a:pt x="103" y="689"/>
                </a:lnTo>
                <a:lnTo>
                  <a:pt x="103" y="703"/>
                </a:lnTo>
                <a:lnTo>
                  <a:pt x="101" y="716"/>
                </a:lnTo>
                <a:lnTo>
                  <a:pt x="101" y="728"/>
                </a:lnTo>
                <a:lnTo>
                  <a:pt x="100" y="737"/>
                </a:lnTo>
                <a:lnTo>
                  <a:pt x="100" y="747"/>
                </a:lnTo>
                <a:lnTo>
                  <a:pt x="101" y="762"/>
                </a:lnTo>
                <a:lnTo>
                  <a:pt x="101" y="778"/>
                </a:lnTo>
                <a:lnTo>
                  <a:pt x="105" y="797"/>
                </a:lnTo>
                <a:lnTo>
                  <a:pt x="109" y="814"/>
                </a:lnTo>
                <a:lnTo>
                  <a:pt x="113" y="833"/>
                </a:lnTo>
                <a:lnTo>
                  <a:pt x="121" y="853"/>
                </a:lnTo>
                <a:lnTo>
                  <a:pt x="126" y="874"/>
                </a:lnTo>
                <a:lnTo>
                  <a:pt x="134" y="893"/>
                </a:lnTo>
                <a:lnTo>
                  <a:pt x="138" y="903"/>
                </a:lnTo>
                <a:lnTo>
                  <a:pt x="140" y="912"/>
                </a:lnTo>
                <a:lnTo>
                  <a:pt x="144" y="922"/>
                </a:lnTo>
                <a:lnTo>
                  <a:pt x="149" y="931"/>
                </a:lnTo>
                <a:lnTo>
                  <a:pt x="155" y="939"/>
                </a:lnTo>
                <a:lnTo>
                  <a:pt x="161" y="949"/>
                </a:lnTo>
                <a:lnTo>
                  <a:pt x="169" y="956"/>
                </a:lnTo>
                <a:lnTo>
                  <a:pt x="176" y="964"/>
                </a:lnTo>
                <a:lnTo>
                  <a:pt x="184" y="972"/>
                </a:lnTo>
                <a:lnTo>
                  <a:pt x="194" y="979"/>
                </a:lnTo>
                <a:lnTo>
                  <a:pt x="203" y="987"/>
                </a:lnTo>
                <a:lnTo>
                  <a:pt x="213" y="995"/>
                </a:lnTo>
                <a:lnTo>
                  <a:pt x="224" y="1002"/>
                </a:lnTo>
                <a:lnTo>
                  <a:pt x="236" y="1010"/>
                </a:lnTo>
                <a:lnTo>
                  <a:pt x="247" y="1018"/>
                </a:lnTo>
                <a:lnTo>
                  <a:pt x="261" y="1025"/>
                </a:lnTo>
                <a:lnTo>
                  <a:pt x="286" y="1041"/>
                </a:lnTo>
                <a:lnTo>
                  <a:pt x="315" y="1054"/>
                </a:lnTo>
                <a:lnTo>
                  <a:pt x="341" y="1066"/>
                </a:lnTo>
                <a:lnTo>
                  <a:pt x="372" y="1075"/>
                </a:lnTo>
                <a:lnTo>
                  <a:pt x="403" y="1085"/>
                </a:lnTo>
                <a:lnTo>
                  <a:pt x="434" y="1093"/>
                </a:lnTo>
                <a:lnTo>
                  <a:pt x="466" y="1100"/>
                </a:lnTo>
                <a:lnTo>
                  <a:pt x="501" y="1106"/>
                </a:lnTo>
                <a:lnTo>
                  <a:pt x="530" y="1112"/>
                </a:lnTo>
                <a:lnTo>
                  <a:pt x="558" y="1116"/>
                </a:lnTo>
                <a:lnTo>
                  <a:pt x="585" y="1121"/>
                </a:lnTo>
                <a:lnTo>
                  <a:pt x="612" y="1125"/>
                </a:lnTo>
                <a:lnTo>
                  <a:pt x="637" y="1131"/>
                </a:lnTo>
                <a:lnTo>
                  <a:pt x="660" y="1137"/>
                </a:lnTo>
                <a:lnTo>
                  <a:pt x="683" y="1141"/>
                </a:lnTo>
                <a:lnTo>
                  <a:pt x="706" y="1146"/>
                </a:lnTo>
                <a:lnTo>
                  <a:pt x="716" y="1146"/>
                </a:lnTo>
                <a:lnTo>
                  <a:pt x="725" y="1146"/>
                </a:lnTo>
                <a:lnTo>
                  <a:pt x="737" y="1146"/>
                </a:lnTo>
                <a:lnTo>
                  <a:pt x="748" y="1146"/>
                </a:lnTo>
                <a:lnTo>
                  <a:pt x="762" y="1146"/>
                </a:lnTo>
                <a:lnTo>
                  <a:pt x="775" y="1146"/>
                </a:lnTo>
                <a:lnTo>
                  <a:pt x="791" y="1146"/>
                </a:lnTo>
                <a:lnTo>
                  <a:pt x="806" y="1146"/>
                </a:lnTo>
                <a:lnTo>
                  <a:pt x="823" y="1146"/>
                </a:lnTo>
                <a:lnTo>
                  <a:pt x="842" y="1146"/>
                </a:lnTo>
                <a:lnTo>
                  <a:pt x="862" y="1146"/>
                </a:lnTo>
                <a:lnTo>
                  <a:pt x="881" y="1146"/>
                </a:lnTo>
                <a:lnTo>
                  <a:pt x="902" y="1146"/>
                </a:lnTo>
                <a:lnTo>
                  <a:pt x="923" y="1146"/>
                </a:lnTo>
                <a:lnTo>
                  <a:pt x="944" y="1146"/>
                </a:lnTo>
                <a:lnTo>
                  <a:pt x="969" y="1146"/>
                </a:lnTo>
                <a:lnTo>
                  <a:pt x="1015" y="1144"/>
                </a:lnTo>
                <a:lnTo>
                  <a:pt x="1061" y="1144"/>
                </a:lnTo>
                <a:lnTo>
                  <a:pt x="1105" y="1141"/>
                </a:lnTo>
                <a:lnTo>
                  <a:pt x="1150" y="1137"/>
                </a:lnTo>
                <a:lnTo>
                  <a:pt x="1194" y="1133"/>
                </a:lnTo>
                <a:lnTo>
                  <a:pt x="1236" y="1129"/>
                </a:lnTo>
                <a:lnTo>
                  <a:pt x="1322" y="1119"/>
                </a:lnTo>
                <a:lnTo>
                  <a:pt x="1361" y="1114"/>
                </a:lnTo>
                <a:lnTo>
                  <a:pt x="1397" y="1106"/>
                </a:lnTo>
                <a:lnTo>
                  <a:pt x="1434" y="1098"/>
                </a:lnTo>
                <a:lnTo>
                  <a:pt x="1468" y="1091"/>
                </a:lnTo>
                <a:lnTo>
                  <a:pt x="1501" y="1081"/>
                </a:lnTo>
                <a:lnTo>
                  <a:pt x="1533" y="1073"/>
                </a:lnTo>
                <a:lnTo>
                  <a:pt x="1566" y="1062"/>
                </a:lnTo>
                <a:lnTo>
                  <a:pt x="1597" y="1052"/>
                </a:lnTo>
                <a:lnTo>
                  <a:pt x="1608" y="1048"/>
                </a:lnTo>
                <a:lnTo>
                  <a:pt x="1622" y="1045"/>
                </a:lnTo>
                <a:lnTo>
                  <a:pt x="1633" y="1037"/>
                </a:lnTo>
                <a:lnTo>
                  <a:pt x="1643" y="1027"/>
                </a:lnTo>
                <a:lnTo>
                  <a:pt x="1654" y="1018"/>
                </a:lnTo>
                <a:lnTo>
                  <a:pt x="1664" y="1004"/>
                </a:lnTo>
                <a:lnTo>
                  <a:pt x="1674" y="991"/>
                </a:lnTo>
                <a:lnTo>
                  <a:pt x="1683" y="974"/>
                </a:lnTo>
                <a:lnTo>
                  <a:pt x="1693" y="956"/>
                </a:lnTo>
                <a:lnTo>
                  <a:pt x="1700" y="937"/>
                </a:lnTo>
                <a:lnTo>
                  <a:pt x="1710" y="916"/>
                </a:lnTo>
                <a:lnTo>
                  <a:pt x="1718" y="893"/>
                </a:lnTo>
                <a:lnTo>
                  <a:pt x="1723" y="870"/>
                </a:lnTo>
                <a:lnTo>
                  <a:pt x="1731" y="843"/>
                </a:lnTo>
                <a:lnTo>
                  <a:pt x="1739" y="816"/>
                </a:lnTo>
                <a:lnTo>
                  <a:pt x="1745" y="787"/>
                </a:lnTo>
                <a:lnTo>
                  <a:pt x="1748" y="757"/>
                </a:lnTo>
                <a:lnTo>
                  <a:pt x="1752" y="730"/>
                </a:lnTo>
                <a:lnTo>
                  <a:pt x="1758" y="705"/>
                </a:lnTo>
                <a:lnTo>
                  <a:pt x="1762" y="682"/>
                </a:lnTo>
                <a:lnTo>
                  <a:pt x="1766" y="661"/>
                </a:lnTo>
                <a:lnTo>
                  <a:pt x="1770" y="640"/>
                </a:lnTo>
                <a:lnTo>
                  <a:pt x="1775" y="622"/>
                </a:lnTo>
                <a:lnTo>
                  <a:pt x="1779" y="607"/>
                </a:lnTo>
                <a:lnTo>
                  <a:pt x="1783" y="592"/>
                </a:lnTo>
                <a:lnTo>
                  <a:pt x="1787" y="580"/>
                </a:lnTo>
                <a:lnTo>
                  <a:pt x="1793" y="570"/>
                </a:lnTo>
                <a:lnTo>
                  <a:pt x="1796" y="561"/>
                </a:lnTo>
                <a:lnTo>
                  <a:pt x="1800" y="555"/>
                </a:lnTo>
                <a:lnTo>
                  <a:pt x="1804" y="549"/>
                </a:lnTo>
                <a:lnTo>
                  <a:pt x="1810" y="547"/>
                </a:lnTo>
                <a:lnTo>
                  <a:pt x="1814" y="547"/>
                </a:lnTo>
                <a:lnTo>
                  <a:pt x="1816" y="547"/>
                </a:lnTo>
                <a:lnTo>
                  <a:pt x="1818" y="549"/>
                </a:lnTo>
                <a:lnTo>
                  <a:pt x="1821" y="555"/>
                </a:lnTo>
                <a:lnTo>
                  <a:pt x="1823" y="561"/>
                </a:lnTo>
                <a:lnTo>
                  <a:pt x="1827" y="570"/>
                </a:lnTo>
                <a:lnTo>
                  <a:pt x="1829" y="580"/>
                </a:lnTo>
                <a:lnTo>
                  <a:pt x="1833" y="592"/>
                </a:lnTo>
                <a:lnTo>
                  <a:pt x="1837" y="605"/>
                </a:lnTo>
                <a:lnTo>
                  <a:pt x="1839" y="620"/>
                </a:lnTo>
                <a:lnTo>
                  <a:pt x="1842" y="638"/>
                </a:lnTo>
                <a:lnTo>
                  <a:pt x="1846" y="655"/>
                </a:lnTo>
                <a:lnTo>
                  <a:pt x="1848" y="676"/>
                </a:lnTo>
                <a:lnTo>
                  <a:pt x="1852" y="697"/>
                </a:lnTo>
                <a:lnTo>
                  <a:pt x="1854" y="722"/>
                </a:lnTo>
                <a:lnTo>
                  <a:pt x="1856" y="747"/>
                </a:lnTo>
                <a:lnTo>
                  <a:pt x="1860" y="774"/>
                </a:lnTo>
                <a:lnTo>
                  <a:pt x="1862" y="801"/>
                </a:lnTo>
                <a:lnTo>
                  <a:pt x="1864" y="826"/>
                </a:lnTo>
                <a:lnTo>
                  <a:pt x="1865" y="851"/>
                </a:lnTo>
                <a:lnTo>
                  <a:pt x="1867" y="876"/>
                </a:lnTo>
                <a:lnTo>
                  <a:pt x="1869" y="897"/>
                </a:lnTo>
                <a:lnTo>
                  <a:pt x="1871" y="920"/>
                </a:lnTo>
                <a:lnTo>
                  <a:pt x="1873" y="941"/>
                </a:lnTo>
                <a:lnTo>
                  <a:pt x="1877" y="960"/>
                </a:lnTo>
                <a:lnTo>
                  <a:pt x="1879" y="977"/>
                </a:lnTo>
                <a:lnTo>
                  <a:pt x="1881" y="995"/>
                </a:lnTo>
                <a:lnTo>
                  <a:pt x="1883" y="1010"/>
                </a:lnTo>
                <a:lnTo>
                  <a:pt x="1885" y="1023"/>
                </a:lnTo>
                <a:lnTo>
                  <a:pt x="1887" y="1037"/>
                </a:lnTo>
                <a:lnTo>
                  <a:pt x="1889" y="1048"/>
                </a:lnTo>
                <a:lnTo>
                  <a:pt x="1890" y="1058"/>
                </a:lnTo>
                <a:lnTo>
                  <a:pt x="1894" y="1066"/>
                </a:lnTo>
                <a:lnTo>
                  <a:pt x="1894" y="1073"/>
                </a:lnTo>
                <a:lnTo>
                  <a:pt x="1896" y="1081"/>
                </a:lnTo>
                <a:lnTo>
                  <a:pt x="1896" y="1089"/>
                </a:lnTo>
                <a:lnTo>
                  <a:pt x="1896" y="1096"/>
                </a:lnTo>
                <a:lnTo>
                  <a:pt x="1894" y="1102"/>
                </a:lnTo>
                <a:lnTo>
                  <a:pt x="1892" y="1110"/>
                </a:lnTo>
                <a:lnTo>
                  <a:pt x="1890" y="1118"/>
                </a:lnTo>
                <a:lnTo>
                  <a:pt x="1887" y="1123"/>
                </a:lnTo>
                <a:lnTo>
                  <a:pt x="1885" y="1131"/>
                </a:lnTo>
                <a:lnTo>
                  <a:pt x="1879" y="1137"/>
                </a:lnTo>
                <a:lnTo>
                  <a:pt x="1871" y="1150"/>
                </a:lnTo>
                <a:lnTo>
                  <a:pt x="1860" y="1162"/>
                </a:lnTo>
                <a:lnTo>
                  <a:pt x="1848" y="1173"/>
                </a:lnTo>
                <a:lnTo>
                  <a:pt x="1841" y="1177"/>
                </a:lnTo>
                <a:lnTo>
                  <a:pt x="1833" y="1183"/>
                </a:lnTo>
                <a:lnTo>
                  <a:pt x="1825" y="1187"/>
                </a:lnTo>
                <a:lnTo>
                  <a:pt x="1818" y="1192"/>
                </a:lnTo>
                <a:lnTo>
                  <a:pt x="1810" y="1196"/>
                </a:lnTo>
                <a:lnTo>
                  <a:pt x="1800" y="1202"/>
                </a:lnTo>
                <a:lnTo>
                  <a:pt x="1781" y="1212"/>
                </a:lnTo>
                <a:lnTo>
                  <a:pt x="1760" y="1219"/>
                </a:lnTo>
                <a:lnTo>
                  <a:pt x="1737" y="1227"/>
                </a:lnTo>
                <a:lnTo>
                  <a:pt x="1712" y="1233"/>
                </a:lnTo>
                <a:lnTo>
                  <a:pt x="1687" y="1238"/>
                </a:lnTo>
                <a:lnTo>
                  <a:pt x="1674" y="1242"/>
                </a:lnTo>
                <a:lnTo>
                  <a:pt x="1660" y="1244"/>
                </a:lnTo>
                <a:lnTo>
                  <a:pt x="1647" y="1248"/>
                </a:lnTo>
                <a:lnTo>
                  <a:pt x="1631" y="1252"/>
                </a:lnTo>
                <a:lnTo>
                  <a:pt x="1616" y="1254"/>
                </a:lnTo>
                <a:lnTo>
                  <a:pt x="1601" y="1258"/>
                </a:lnTo>
                <a:lnTo>
                  <a:pt x="1585" y="1261"/>
                </a:lnTo>
                <a:lnTo>
                  <a:pt x="1568" y="1265"/>
                </a:lnTo>
                <a:lnTo>
                  <a:pt x="1551" y="1269"/>
                </a:lnTo>
                <a:lnTo>
                  <a:pt x="1532" y="1273"/>
                </a:lnTo>
                <a:lnTo>
                  <a:pt x="1514" y="1277"/>
                </a:lnTo>
                <a:lnTo>
                  <a:pt x="1495" y="1281"/>
                </a:lnTo>
                <a:lnTo>
                  <a:pt x="1476" y="1283"/>
                </a:lnTo>
                <a:lnTo>
                  <a:pt x="1455" y="1286"/>
                </a:lnTo>
                <a:lnTo>
                  <a:pt x="1436" y="1290"/>
                </a:lnTo>
                <a:lnTo>
                  <a:pt x="1414" y="1292"/>
                </a:lnTo>
                <a:lnTo>
                  <a:pt x="1389" y="1294"/>
                </a:lnTo>
                <a:lnTo>
                  <a:pt x="1365" y="1298"/>
                </a:lnTo>
                <a:lnTo>
                  <a:pt x="1340" y="1300"/>
                </a:lnTo>
                <a:lnTo>
                  <a:pt x="1313" y="1302"/>
                </a:lnTo>
                <a:lnTo>
                  <a:pt x="1286" y="1304"/>
                </a:lnTo>
                <a:lnTo>
                  <a:pt x="1257" y="1306"/>
                </a:lnTo>
                <a:lnTo>
                  <a:pt x="1228" y="1309"/>
                </a:lnTo>
                <a:lnTo>
                  <a:pt x="1199" y="1311"/>
                </a:lnTo>
                <a:lnTo>
                  <a:pt x="1169" y="1311"/>
                </a:lnTo>
                <a:lnTo>
                  <a:pt x="1138" y="1313"/>
                </a:lnTo>
                <a:lnTo>
                  <a:pt x="1105" y="1315"/>
                </a:lnTo>
                <a:lnTo>
                  <a:pt x="1073" y="1317"/>
                </a:lnTo>
                <a:lnTo>
                  <a:pt x="1040" y="1317"/>
                </a:lnTo>
                <a:lnTo>
                  <a:pt x="1006" y="1317"/>
                </a:lnTo>
                <a:lnTo>
                  <a:pt x="971" y="1319"/>
                </a:lnTo>
                <a:lnTo>
                  <a:pt x="935" y="1319"/>
                </a:lnTo>
                <a:lnTo>
                  <a:pt x="896" y="1319"/>
                </a:lnTo>
                <a:lnTo>
                  <a:pt x="858" y="1317"/>
                </a:lnTo>
                <a:lnTo>
                  <a:pt x="821" y="1317"/>
                </a:lnTo>
                <a:lnTo>
                  <a:pt x="787" y="1315"/>
                </a:lnTo>
                <a:lnTo>
                  <a:pt x="750" y="1315"/>
                </a:lnTo>
                <a:lnTo>
                  <a:pt x="718" y="1313"/>
                </a:lnTo>
                <a:lnTo>
                  <a:pt x="683" y="1309"/>
                </a:lnTo>
                <a:lnTo>
                  <a:pt x="650" y="1308"/>
                </a:lnTo>
                <a:lnTo>
                  <a:pt x="620" y="1304"/>
                </a:lnTo>
                <a:lnTo>
                  <a:pt x="589" y="1300"/>
                </a:lnTo>
                <a:lnTo>
                  <a:pt x="558" y="1296"/>
                </a:lnTo>
                <a:lnTo>
                  <a:pt x="530" y="1290"/>
                </a:lnTo>
                <a:lnTo>
                  <a:pt x="501" y="1284"/>
                </a:lnTo>
                <a:lnTo>
                  <a:pt x="474" y="1279"/>
                </a:lnTo>
                <a:lnTo>
                  <a:pt x="447" y="1273"/>
                </a:lnTo>
                <a:lnTo>
                  <a:pt x="420" y="1265"/>
                </a:lnTo>
                <a:lnTo>
                  <a:pt x="395" y="1258"/>
                </a:lnTo>
                <a:lnTo>
                  <a:pt x="370" y="1250"/>
                </a:lnTo>
                <a:lnTo>
                  <a:pt x="347" y="1242"/>
                </a:lnTo>
                <a:lnTo>
                  <a:pt x="324" y="1235"/>
                </a:lnTo>
                <a:lnTo>
                  <a:pt x="301" y="1227"/>
                </a:lnTo>
                <a:lnTo>
                  <a:pt x="280" y="1219"/>
                </a:lnTo>
                <a:lnTo>
                  <a:pt x="261" y="1212"/>
                </a:lnTo>
                <a:lnTo>
                  <a:pt x="240" y="1202"/>
                </a:lnTo>
                <a:lnTo>
                  <a:pt x="221" y="1194"/>
                </a:lnTo>
                <a:lnTo>
                  <a:pt x="203" y="1185"/>
                </a:lnTo>
                <a:lnTo>
                  <a:pt x="186" y="1175"/>
                </a:lnTo>
                <a:lnTo>
                  <a:pt x="169" y="1164"/>
                </a:lnTo>
                <a:lnTo>
                  <a:pt x="153" y="1154"/>
                </a:lnTo>
                <a:lnTo>
                  <a:pt x="138" y="1142"/>
                </a:lnTo>
                <a:lnTo>
                  <a:pt x="125" y="1131"/>
                </a:lnTo>
                <a:lnTo>
                  <a:pt x="111" y="1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76"/>
          <p:cNvSpPr/>
          <p:nvPr/>
        </p:nvSpPr>
        <p:spPr>
          <a:xfrm>
            <a:off x="6589800" y="4341960"/>
            <a:ext cx="149040" cy="326880"/>
          </a:xfrm>
          <a:custGeom>
            <a:avLst/>
            <a:gdLst/>
            <a:ahLst/>
            <a:rect l="l" t="t" r="r" b="b"/>
            <a:pathLst>
              <a:path w="188" h="413">
                <a:moveTo>
                  <a:pt x="142" y="413"/>
                </a:moveTo>
                <a:lnTo>
                  <a:pt x="136" y="413"/>
                </a:lnTo>
                <a:lnTo>
                  <a:pt x="132" y="413"/>
                </a:lnTo>
                <a:lnTo>
                  <a:pt x="128" y="411"/>
                </a:lnTo>
                <a:lnTo>
                  <a:pt x="122" y="407"/>
                </a:lnTo>
                <a:lnTo>
                  <a:pt x="117" y="401"/>
                </a:lnTo>
                <a:lnTo>
                  <a:pt x="111" y="394"/>
                </a:lnTo>
                <a:lnTo>
                  <a:pt x="105" y="384"/>
                </a:lnTo>
                <a:lnTo>
                  <a:pt x="99" y="373"/>
                </a:lnTo>
                <a:lnTo>
                  <a:pt x="94" y="359"/>
                </a:lnTo>
                <a:lnTo>
                  <a:pt x="88" y="344"/>
                </a:lnTo>
                <a:lnTo>
                  <a:pt x="82" y="327"/>
                </a:lnTo>
                <a:lnTo>
                  <a:pt x="74" y="307"/>
                </a:lnTo>
                <a:lnTo>
                  <a:pt x="69" y="286"/>
                </a:lnTo>
                <a:lnTo>
                  <a:pt x="63" y="263"/>
                </a:lnTo>
                <a:lnTo>
                  <a:pt x="57" y="238"/>
                </a:lnTo>
                <a:lnTo>
                  <a:pt x="49" y="213"/>
                </a:lnTo>
                <a:lnTo>
                  <a:pt x="42" y="186"/>
                </a:lnTo>
                <a:lnTo>
                  <a:pt x="34" y="161"/>
                </a:lnTo>
                <a:lnTo>
                  <a:pt x="28" y="138"/>
                </a:lnTo>
                <a:lnTo>
                  <a:pt x="23" y="117"/>
                </a:lnTo>
                <a:lnTo>
                  <a:pt x="17" y="98"/>
                </a:lnTo>
                <a:lnTo>
                  <a:pt x="13" y="81"/>
                </a:lnTo>
                <a:lnTo>
                  <a:pt x="9" y="66"/>
                </a:lnTo>
                <a:lnTo>
                  <a:pt x="5" y="50"/>
                </a:lnTo>
                <a:lnTo>
                  <a:pt x="3" y="39"/>
                </a:lnTo>
                <a:lnTo>
                  <a:pt x="1" y="27"/>
                </a:lnTo>
                <a:lnTo>
                  <a:pt x="1" y="19"/>
                </a:lnTo>
                <a:lnTo>
                  <a:pt x="0" y="12"/>
                </a:lnTo>
                <a:lnTo>
                  <a:pt x="0" y="6"/>
                </a:lnTo>
                <a:lnTo>
                  <a:pt x="1" y="2"/>
                </a:lnTo>
                <a:lnTo>
                  <a:pt x="1" y="0"/>
                </a:lnTo>
                <a:lnTo>
                  <a:pt x="3" y="0"/>
                </a:lnTo>
                <a:lnTo>
                  <a:pt x="9" y="0"/>
                </a:lnTo>
                <a:lnTo>
                  <a:pt x="13" y="0"/>
                </a:lnTo>
                <a:lnTo>
                  <a:pt x="19" y="0"/>
                </a:lnTo>
                <a:lnTo>
                  <a:pt x="25" y="0"/>
                </a:lnTo>
                <a:lnTo>
                  <a:pt x="30" y="2"/>
                </a:lnTo>
                <a:lnTo>
                  <a:pt x="40" y="4"/>
                </a:lnTo>
                <a:lnTo>
                  <a:pt x="49" y="8"/>
                </a:lnTo>
                <a:lnTo>
                  <a:pt x="55" y="10"/>
                </a:lnTo>
                <a:lnTo>
                  <a:pt x="61" y="14"/>
                </a:lnTo>
                <a:lnTo>
                  <a:pt x="67" y="16"/>
                </a:lnTo>
                <a:lnTo>
                  <a:pt x="74" y="19"/>
                </a:lnTo>
                <a:lnTo>
                  <a:pt x="80" y="23"/>
                </a:lnTo>
                <a:lnTo>
                  <a:pt x="86" y="27"/>
                </a:lnTo>
                <a:lnTo>
                  <a:pt x="90" y="33"/>
                </a:lnTo>
                <a:lnTo>
                  <a:pt x="96" y="39"/>
                </a:lnTo>
                <a:lnTo>
                  <a:pt x="101" y="46"/>
                </a:lnTo>
                <a:lnTo>
                  <a:pt x="107" y="52"/>
                </a:lnTo>
                <a:lnTo>
                  <a:pt x="113" y="60"/>
                </a:lnTo>
                <a:lnTo>
                  <a:pt x="119" y="69"/>
                </a:lnTo>
                <a:lnTo>
                  <a:pt x="122" y="77"/>
                </a:lnTo>
                <a:lnTo>
                  <a:pt x="128" y="87"/>
                </a:lnTo>
                <a:lnTo>
                  <a:pt x="134" y="98"/>
                </a:lnTo>
                <a:lnTo>
                  <a:pt x="140" y="108"/>
                </a:lnTo>
                <a:lnTo>
                  <a:pt x="147" y="119"/>
                </a:lnTo>
                <a:lnTo>
                  <a:pt x="153" y="133"/>
                </a:lnTo>
                <a:lnTo>
                  <a:pt x="161" y="156"/>
                </a:lnTo>
                <a:lnTo>
                  <a:pt x="167" y="181"/>
                </a:lnTo>
                <a:lnTo>
                  <a:pt x="172" y="202"/>
                </a:lnTo>
                <a:lnTo>
                  <a:pt x="178" y="225"/>
                </a:lnTo>
                <a:lnTo>
                  <a:pt x="182" y="244"/>
                </a:lnTo>
                <a:lnTo>
                  <a:pt x="184" y="265"/>
                </a:lnTo>
                <a:lnTo>
                  <a:pt x="186" y="286"/>
                </a:lnTo>
                <a:lnTo>
                  <a:pt x="188" y="305"/>
                </a:lnTo>
                <a:lnTo>
                  <a:pt x="182" y="325"/>
                </a:lnTo>
                <a:lnTo>
                  <a:pt x="178" y="342"/>
                </a:lnTo>
                <a:lnTo>
                  <a:pt x="174" y="359"/>
                </a:lnTo>
                <a:lnTo>
                  <a:pt x="168" y="375"/>
                </a:lnTo>
                <a:lnTo>
                  <a:pt x="165" y="380"/>
                </a:lnTo>
                <a:lnTo>
                  <a:pt x="163" y="386"/>
                </a:lnTo>
                <a:lnTo>
                  <a:pt x="159" y="392"/>
                </a:lnTo>
                <a:lnTo>
                  <a:pt x="157" y="398"/>
                </a:lnTo>
                <a:lnTo>
                  <a:pt x="153" y="401"/>
                </a:lnTo>
                <a:lnTo>
                  <a:pt x="149" y="405"/>
                </a:lnTo>
                <a:lnTo>
                  <a:pt x="145" y="409"/>
                </a:lnTo>
                <a:lnTo>
                  <a:pt x="142" y="4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77"/>
          <p:cNvSpPr/>
          <p:nvPr/>
        </p:nvSpPr>
        <p:spPr>
          <a:xfrm>
            <a:off x="6300720" y="4129200"/>
            <a:ext cx="365040" cy="531720"/>
          </a:xfrm>
          <a:custGeom>
            <a:avLst/>
            <a:gdLst/>
            <a:ahLst/>
            <a:rect l="l" t="t" r="r" b="b"/>
            <a:pathLst>
              <a:path w="461" h="670">
                <a:moveTo>
                  <a:pt x="152" y="200"/>
                </a:moveTo>
                <a:lnTo>
                  <a:pt x="155" y="187"/>
                </a:lnTo>
                <a:lnTo>
                  <a:pt x="159" y="175"/>
                </a:lnTo>
                <a:lnTo>
                  <a:pt x="163" y="166"/>
                </a:lnTo>
                <a:lnTo>
                  <a:pt x="167" y="154"/>
                </a:lnTo>
                <a:lnTo>
                  <a:pt x="169" y="144"/>
                </a:lnTo>
                <a:lnTo>
                  <a:pt x="173" y="137"/>
                </a:lnTo>
                <a:lnTo>
                  <a:pt x="175" y="127"/>
                </a:lnTo>
                <a:lnTo>
                  <a:pt x="176" y="119"/>
                </a:lnTo>
                <a:lnTo>
                  <a:pt x="178" y="112"/>
                </a:lnTo>
                <a:lnTo>
                  <a:pt x="178" y="106"/>
                </a:lnTo>
                <a:lnTo>
                  <a:pt x="178" y="100"/>
                </a:lnTo>
                <a:lnTo>
                  <a:pt x="178" y="95"/>
                </a:lnTo>
                <a:lnTo>
                  <a:pt x="178" y="91"/>
                </a:lnTo>
                <a:lnTo>
                  <a:pt x="178" y="87"/>
                </a:lnTo>
                <a:lnTo>
                  <a:pt x="176" y="83"/>
                </a:lnTo>
                <a:lnTo>
                  <a:pt x="175" y="79"/>
                </a:lnTo>
                <a:lnTo>
                  <a:pt x="171" y="75"/>
                </a:lnTo>
                <a:lnTo>
                  <a:pt x="167" y="70"/>
                </a:lnTo>
                <a:lnTo>
                  <a:pt x="163" y="64"/>
                </a:lnTo>
                <a:lnTo>
                  <a:pt x="161" y="58"/>
                </a:lnTo>
                <a:lnTo>
                  <a:pt x="159" y="52"/>
                </a:lnTo>
                <a:lnTo>
                  <a:pt x="159" y="45"/>
                </a:lnTo>
                <a:lnTo>
                  <a:pt x="161" y="35"/>
                </a:lnTo>
                <a:lnTo>
                  <a:pt x="161" y="31"/>
                </a:lnTo>
                <a:lnTo>
                  <a:pt x="163" y="27"/>
                </a:lnTo>
                <a:lnTo>
                  <a:pt x="165" y="22"/>
                </a:lnTo>
                <a:lnTo>
                  <a:pt x="165" y="18"/>
                </a:lnTo>
                <a:lnTo>
                  <a:pt x="169" y="12"/>
                </a:lnTo>
                <a:lnTo>
                  <a:pt x="173" y="8"/>
                </a:lnTo>
                <a:lnTo>
                  <a:pt x="180" y="4"/>
                </a:lnTo>
                <a:lnTo>
                  <a:pt x="188" y="2"/>
                </a:lnTo>
                <a:lnTo>
                  <a:pt x="192" y="0"/>
                </a:lnTo>
                <a:lnTo>
                  <a:pt x="198" y="0"/>
                </a:lnTo>
                <a:lnTo>
                  <a:pt x="203" y="0"/>
                </a:lnTo>
                <a:lnTo>
                  <a:pt x="209" y="0"/>
                </a:lnTo>
                <a:lnTo>
                  <a:pt x="221" y="4"/>
                </a:lnTo>
                <a:lnTo>
                  <a:pt x="232" y="10"/>
                </a:lnTo>
                <a:lnTo>
                  <a:pt x="244" y="16"/>
                </a:lnTo>
                <a:lnTo>
                  <a:pt x="253" y="20"/>
                </a:lnTo>
                <a:lnTo>
                  <a:pt x="263" y="25"/>
                </a:lnTo>
                <a:lnTo>
                  <a:pt x="272" y="29"/>
                </a:lnTo>
                <a:lnTo>
                  <a:pt x="290" y="41"/>
                </a:lnTo>
                <a:lnTo>
                  <a:pt x="297" y="60"/>
                </a:lnTo>
                <a:lnTo>
                  <a:pt x="301" y="70"/>
                </a:lnTo>
                <a:lnTo>
                  <a:pt x="305" y="79"/>
                </a:lnTo>
                <a:lnTo>
                  <a:pt x="307" y="91"/>
                </a:lnTo>
                <a:lnTo>
                  <a:pt x="309" y="100"/>
                </a:lnTo>
                <a:lnTo>
                  <a:pt x="311" y="110"/>
                </a:lnTo>
                <a:lnTo>
                  <a:pt x="313" y="119"/>
                </a:lnTo>
                <a:lnTo>
                  <a:pt x="311" y="131"/>
                </a:lnTo>
                <a:lnTo>
                  <a:pt x="309" y="142"/>
                </a:lnTo>
                <a:lnTo>
                  <a:pt x="307" y="156"/>
                </a:lnTo>
                <a:lnTo>
                  <a:pt x="301" y="171"/>
                </a:lnTo>
                <a:lnTo>
                  <a:pt x="299" y="179"/>
                </a:lnTo>
                <a:lnTo>
                  <a:pt x="295" y="189"/>
                </a:lnTo>
                <a:lnTo>
                  <a:pt x="292" y="198"/>
                </a:lnTo>
                <a:lnTo>
                  <a:pt x="288" y="208"/>
                </a:lnTo>
                <a:lnTo>
                  <a:pt x="282" y="217"/>
                </a:lnTo>
                <a:lnTo>
                  <a:pt x="278" y="229"/>
                </a:lnTo>
                <a:lnTo>
                  <a:pt x="272" y="240"/>
                </a:lnTo>
                <a:lnTo>
                  <a:pt x="267" y="254"/>
                </a:lnTo>
                <a:lnTo>
                  <a:pt x="253" y="277"/>
                </a:lnTo>
                <a:lnTo>
                  <a:pt x="242" y="300"/>
                </a:lnTo>
                <a:lnTo>
                  <a:pt x="228" y="323"/>
                </a:lnTo>
                <a:lnTo>
                  <a:pt x="215" y="342"/>
                </a:lnTo>
                <a:lnTo>
                  <a:pt x="201" y="361"/>
                </a:lnTo>
                <a:lnTo>
                  <a:pt x="190" y="381"/>
                </a:lnTo>
                <a:lnTo>
                  <a:pt x="176" y="398"/>
                </a:lnTo>
                <a:lnTo>
                  <a:pt x="163" y="413"/>
                </a:lnTo>
                <a:lnTo>
                  <a:pt x="157" y="421"/>
                </a:lnTo>
                <a:lnTo>
                  <a:pt x="152" y="427"/>
                </a:lnTo>
                <a:lnTo>
                  <a:pt x="148" y="434"/>
                </a:lnTo>
                <a:lnTo>
                  <a:pt x="144" y="440"/>
                </a:lnTo>
                <a:lnTo>
                  <a:pt x="140" y="446"/>
                </a:lnTo>
                <a:lnTo>
                  <a:pt x="138" y="452"/>
                </a:lnTo>
                <a:lnTo>
                  <a:pt x="136" y="457"/>
                </a:lnTo>
                <a:lnTo>
                  <a:pt x="134" y="463"/>
                </a:lnTo>
                <a:lnTo>
                  <a:pt x="134" y="467"/>
                </a:lnTo>
                <a:lnTo>
                  <a:pt x="134" y="473"/>
                </a:lnTo>
                <a:lnTo>
                  <a:pt x="134" y="480"/>
                </a:lnTo>
                <a:lnTo>
                  <a:pt x="136" y="486"/>
                </a:lnTo>
                <a:lnTo>
                  <a:pt x="140" y="492"/>
                </a:lnTo>
                <a:lnTo>
                  <a:pt x="146" y="498"/>
                </a:lnTo>
                <a:lnTo>
                  <a:pt x="150" y="500"/>
                </a:lnTo>
                <a:lnTo>
                  <a:pt x="155" y="501"/>
                </a:lnTo>
                <a:lnTo>
                  <a:pt x="161" y="503"/>
                </a:lnTo>
                <a:lnTo>
                  <a:pt x="167" y="501"/>
                </a:lnTo>
                <a:lnTo>
                  <a:pt x="176" y="500"/>
                </a:lnTo>
                <a:lnTo>
                  <a:pt x="186" y="498"/>
                </a:lnTo>
                <a:lnTo>
                  <a:pt x="192" y="496"/>
                </a:lnTo>
                <a:lnTo>
                  <a:pt x="198" y="492"/>
                </a:lnTo>
                <a:lnTo>
                  <a:pt x="205" y="490"/>
                </a:lnTo>
                <a:lnTo>
                  <a:pt x="213" y="488"/>
                </a:lnTo>
                <a:lnTo>
                  <a:pt x="223" y="486"/>
                </a:lnTo>
                <a:lnTo>
                  <a:pt x="232" y="484"/>
                </a:lnTo>
                <a:lnTo>
                  <a:pt x="244" y="484"/>
                </a:lnTo>
                <a:lnTo>
                  <a:pt x="257" y="482"/>
                </a:lnTo>
                <a:lnTo>
                  <a:pt x="271" y="482"/>
                </a:lnTo>
                <a:lnTo>
                  <a:pt x="286" y="480"/>
                </a:lnTo>
                <a:lnTo>
                  <a:pt x="303" y="480"/>
                </a:lnTo>
                <a:lnTo>
                  <a:pt x="320" y="480"/>
                </a:lnTo>
                <a:lnTo>
                  <a:pt x="342" y="480"/>
                </a:lnTo>
                <a:lnTo>
                  <a:pt x="361" y="480"/>
                </a:lnTo>
                <a:lnTo>
                  <a:pt x="384" y="480"/>
                </a:lnTo>
                <a:lnTo>
                  <a:pt x="409" y="480"/>
                </a:lnTo>
                <a:lnTo>
                  <a:pt x="434" y="480"/>
                </a:lnTo>
                <a:lnTo>
                  <a:pt x="461" y="480"/>
                </a:lnTo>
                <a:lnTo>
                  <a:pt x="461" y="532"/>
                </a:lnTo>
                <a:lnTo>
                  <a:pt x="443" y="536"/>
                </a:lnTo>
                <a:lnTo>
                  <a:pt x="426" y="540"/>
                </a:lnTo>
                <a:lnTo>
                  <a:pt x="409" y="544"/>
                </a:lnTo>
                <a:lnTo>
                  <a:pt x="391" y="547"/>
                </a:lnTo>
                <a:lnTo>
                  <a:pt x="376" y="551"/>
                </a:lnTo>
                <a:lnTo>
                  <a:pt x="361" y="553"/>
                </a:lnTo>
                <a:lnTo>
                  <a:pt x="345" y="557"/>
                </a:lnTo>
                <a:lnTo>
                  <a:pt x="332" y="561"/>
                </a:lnTo>
                <a:lnTo>
                  <a:pt x="319" y="563"/>
                </a:lnTo>
                <a:lnTo>
                  <a:pt x="305" y="567"/>
                </a:lnTo>
                <a:lnTo>
                  <a:pt x="292" y="571"/>
                </a:lnTo>
                <a:lnTo>
                  <a:pt x="280" y="572"/>
                </a:lnTo>
                <a:lnTo>
                  <a:pt x="267" y="576"/>
                </a:lnTo>
                <a:lnTo>
                  <a:pt x="255" y="578"/>
                </a:lnTo>
                <a:lnTo>
                  <a:pt x="234" y="584"/>
                </a:lnTo>
                <a:lnTo>
                  <a:pt x="215" y="590"/>
                </a:lnTo>
                <a:lnTo>
                  <a:pt x="198" y="595"/>
                </a:lnTo>
                <a:lnTo>
                  <a:pt x="182" y="601"/>
                </a:lnTo>
                <a:lnTo>
                  <a:pt x="169" y="605"/>
                </a:lnTo>
                <a:lnTo>
                  <a:pt x="155" y="611"/>
                </a:lnTo>
                <a:lnTo>
                  <a:pt x="146" y="617"/>
                </a:lnTo>
                <a:lnTo>
                  <a:pt x="136" y="620"/>
                </a:lnTo>
                <a:lnTo>
                  <a:pt x="130" y="626"/>
                </a:lnTo>
                <a:lnTo>
                  <a:pt x="123" y="634"/>
                </a:lnTo>
                <a:lnTo>
                  <a:pt x="117" y="640"/>
                </a:lnTo>
                <a:lnTo>
                  <a:pt x="111" y="645"/>
                </a:lnTo>
                <a:lnTo>
                  <a:pt x="105" y="651"/>
                </a:lnTo>
                <a:lnTo>
                  <a:pt x="102" y="655"/>
                </a:lnTo>
                <a:lnTo>
                  <a:pt x="96" y="659"/>
                </a:lnTo>
                <a:lnTo>
                  <a:pt x="90" y="663"/>
                </a:lnTo>
                <a:lnTo>
                  <a:pt x="86" y="666"/>
                </a:lnTo>
                <a:lnTo>
                  <a:pt x="82" y="668"/>
                </a:lnTo>
                <a:lnTo>
                  <a:pt x="79" y="670"/>
                </a:lnTo>
                <a:lnTo>
                  <a:pt x="75" y="670"/>
                </a:lnTo>
                <a:lnTo>
                  <a:pt x="71" y="670"/>
                </a:lnTo>
                <a:lnTo>
                  <a:pt x="69" y="670"/>
                </a:lnTo>
                <a:lnTo>
                  <a:pt x="65" y="670"/>
                </a:lnTo>
                <a:lnTo>
                  <a:pt x="63" y="668"/>
                </a:lnTo>
                <a:lnTo>
                  <a:pt x="61" y="666"/>
                </a:lnTo>
                <a:lnTo>
                  <a:pt x="56" y="665"/>
                </a:lnTo>
                <a:lnTo>
                  <a:pt x="50" y="663"/>
                </a:lnTo>
                <a:lnTo>
                  <a:pt x="44" y="659"/>
                </a:lnTo>
                <a:lnTo>
                  <a:pt x="38" y="655"/>
                </a:lnTo>
                <a:lnTo>
                  <a:pt x="34" y="651"/>
                </a:lnTo>
                <a:lnTo>
                  <a:pt x="31" y="647"/>
                </a:lnTo>
                <a:lnTo>
                  <a:pt x="29" y="643"/>
                </a:lnTo>
                <a:lnTo>
                  <a:pt x="25" y="638"/>
                </a:lnTo>
                <a:lnTo>
                  <a:pt x="23" y="632"/>
                </a:lnTo>
                <a:lnTo>
                  <a:pt x="19" y="626"/>
                </a:lnTo>
                <a:lnTo>
                  <a:pt x="17" y="620"/>
                </a:lnTo>
                <a:lnTo>
                  <a:pt x="15" y="613"/>
                </a:lnTo>
                <a:lnTo>
                  <a:pt x="11" y="597"/>
                </a:lnTo>
                <a:lnTo>
                  <a:pt x="8" y="586"/>
                </a:lnTo>
                <a:lnTo>
                  <a:pt x="4" y="572"/>
                </a:lnTo>
                <a:lnTo>
                  <a:pt x="2" y="563"/>
                </a:lnTo>
                <a:lnTo>
                  <a:pt x="0" y="553"/>
                </a:lnTo>
                <a:lnTo>
                  <a:pt x="0" y="546"/>
                </a:lnTo>
                <a:lnTo>
                  <a:pt x="0" y="538"/>
                </a:lnTo>
                <a:lnTo>
                  <a:pt x="2" y="536"/>
                </a:lnTo>
                <a:lnTo>
                  <a:pt x="4" y="532"/>
                </a:lnTo>
                <a:lnTo>
                  <a:pt x="4" y="526"/>
                </a:lnTo>
                <a:lnTo>
                  <a:pt x="6" y="521"/>
                </a:lnTo>
                <a:lnTo>
                  <a:pt x="8" y="513"/>
                </a:lnTo>
                <a:lnTo>
                  <a:pt x="11" y="505"/>
                </a:lnTo>
                <a:lnTo>
                  <a:pt x="15" y="500"/>
                </a:lnTo>
                <a:lnTo>
                  <a:pt x="19" y="492"/>
                </a:lnTo>
                <a:lnTo>
                  <a:pt x="23" y="484"/>
                </a:lnTo>
                <a:lnTo>
                  <a:pt x="27" y="480"/>
                </a:lnTo>
                <a:lnTo>
                  <a:pt x="31" y="475"/>
                </a:lnTo>
                <a:lnTo>
                  <a:pt x="36" y="467"/>
                </a:lnTo>
                <a:lnTo>
                  <a:pt x="40" y="463"/>
                </a:lnTo>
                <a:lnTo>
                  <a:pt x="44" y="457"/>
                </a:lnTo>
                <a:lnTo>
                  <a:pt x="48" y="452"/>
                </a:lnTo>
                <a:lnTo>
                  <a:pt x="52" y="446"/>
                </a:lnTo>
                <a:lnTo>
                  <a:pt x="57" y="440"/>
                </a:lnTo>
                <a:lnTo>
                  <a:pt x="61" y="432"/>
                </a:lnTo>
                <a:lnTo>
                  <a:pt x="67" y="425"/>
                </a:lnTo>
                <a:lnTo>
                  <a:pt x="71" y="415"/>
                </a:lnTo>
                <a:lnTo>
                  <a:pt x="77" y="405"/>
                </a:lnTo>
                <a:lnTo>
                  <a:pt x="82" y="396"/>
                </a:lnTo>
                <a:lnTo>
                  <a:pt x="88" y="384"/>
                </a:lnTo>
                <a:lnTo>
                  <a:pt x="96" y="373"/>
                </a:lnTo>
                <a:lnTo>
                  <a:pt x="111" y="333"/>
                </a:lnTo>
                <a:lnTo>
                  <a:pt x="121" y="311"/>
                </a:lnTo>
                <a:lnTo>
                  <a:pt x="128" y="290"/>
                </a:lnTo>
                <a:lnTo>
                  <a:pt x="134" y="269"/>
                </a:lnTo>
                <a:lnTo>
                  <a:pt x="142" y="248"/>
                </a:lnTo>
                <a:lnTo>
                  <a:pt x="148" y="223"/>
                </a:lnTo>
                <a:lnTo>
                  <a:pt x="152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78"/>
          <p:cNvSpPr/>
          <p:nvPr/>
        </p:nvSpPr>
        <p:spPr>
          <a:xfrm>
            <a:off x="5484960" y="3348000"/>
            <a:ext cx="799920" cy="1596960"/>
          </a:xfrm>
          <a:custGeom>
            <a:avLst/>
            <a:gdLst/>
            <a:ahLst/>
            <a:rect l="l" t="t" r="r" b="b"/>
            <a:pathLst>
              <a:path w="1010" h="2011">
                <a:moveTo>
                  <a:pt x="781" y="1011"/>
                </a:moveTo>
                <a:lnTo>
                  <a:pt x="766" y="1048"/>
                </a:lnTo>
                <a:lnTo>
                  <a:pt x="752" y="1084"/>
                </a:lnTo>
                <a:lnTo>
                  <a:pt x="737" y="1121"/>
                </a:lnTo>
                <a:lnTo>
                  <a:pt x="722" y="1155"/>
                </a:lnTo>
                <a:lnTo>
                  <a:pt x="706" y="1190"/>
                </a:lnTo>
                <a:lnTo>
                  <a:pt x="691" y="1224"/>
                </a:lnTo>
                <a:lnTo>
                  <a:pt x="676" y="1257"/>
                </a:lnTo>
                <a:lnTo>
                  <a:pt x="660" y="1288"/>
                </a:lnTo>
                <a:lnTo>
                  <a:pt x="645" y="1320"/>
                </a:lnTo>
                <a:lnTo>
                  <a:pt x="628" y="1351"/>
                </a:lnTo>
                <a:lnTo>
                  <a:pt x="612" y="1380"/>
                </a:lnTo>
                <a:lnTo>
                  <a:pt x="597" y="1409"/>
                </a:lnTo>
                <a:lnTo>
                  <a:pt x="580" y="1437"/>
                </a:lnTo>
                <a:lnTo>
                  <a:pt x="564" y="1464"/>
                </a:lnTo>
                <a:lnTo>
                  <a:pt x="547" y="1491"/>
                </a:lnTo>
                <a:lnTo>
                  <a:pt x="530" y="1516"/>
                </a:lnTo>
                <a:lnTo>
                  <a:pt x="491" y="1566"/>
                </a:lnTo>
                <a:lnTo>
                  <a:pt x="453" y="1614"/>
                </a:lnTo>
                <a:lnTo>
                  <a:pt x="415" y="1660"/>
                </a:lnTo>
                <a:lnTo>
                  <a:pt x="374" y="1706"/>
                </a:lnTo>
                <a:lnTo>
                  <a:pt x="334" y="1750"/>
                </a:lnTo>
                <a:lnTo>
                  <a:pt x="294" y="1793"/>
                </a:lnTo>
                <a:lnTo>
                  <a:pt x="251" y="1835"/>
                </a:lnTo>
                <a:lnTo>
                  <a:pt x="211" y="1877"/>
                </a:lnTo>
                <a:lnTo>
                  <a:pt x="188" y="1896"/>
                </a:lnTo>
                <a:lnTo>
                  <a:pt x="167" y="1913"/>
                </a:lnTo>
                <a:lnTo>
                  <a:pt x="146" y="1929"/>
                </a:lnTo>
                <a:lnTo>
                  <a:pt x="127" y="1944"/>
                </a:lnTo>
                <a:lnTo>
                  <a:pt x="109" y="1958"/>
                </a:lnTo>
                <a:lnTo>
                  <a:pt x="94" y="1969"/>
                </a:lnTo>
                <a:lnTo>
                  <a:pt x="79" y="1979"/>
                </a:lnTo>
                <a:lnTo>
                  <a:pt x="65" y="1988"/>
                </a:lnTo>
                <a:lnTo>
                  <a:pt x="54" y="1996"/>
                </a:lnTo>
                <a:lnTo>
                  <a:pt x="42" y="2002"/>
                </a:lnTo>
                <a:lnTo>
                  <a:pt x="33" y="2006"/>
                </a:lnTo>
                <a:lnTo>
                  <a:pt x="25" y="2009"/>
                </a:lnTo>
                <a:lnTo>
                  <a:pt x="17" y="2011"/>
                </a:lnTo>
                <a:lnTo>
                  <a:pt x="12" y="2011"/>
                </a:lnTo>
                <a:lnTo>
                  <a:pt x="8" y="2011"/>
                </a:lnTo>
                <a:lnTo>
                  <a:pt x="6" y="2009"/>
                </a:lnTo>
                <a:lnTo>
                  <a:pt x="2" y="2006"/>
                </a:lnTo>
                <a:lnTo>
                  <a:pt x="0" y="2002"/>
                </a:lnTo>
                <a:lnTo>
                  <a:pt x="0" y="1996"/>
                </a:lnTo>
                <a:lnTo>
                  <a:pt x="0" y="1988"/>
                </a:lnTo>
                <a:lnTo>
                  <a:pt x="4" y="1981"/>
                </a:lnTo>
                <a:lnTo>
                  <a:pt x="8" y="1971"/>
                </a:lnTo>
                <a:lnTo>
                  <a:pt x="13" y="1961"/>
                </a:lnTo>
                <a:lnTo>
                  <a:pt x="21" y="1950"/>
                </a:lnTo>
                <a:lnTo>
                  <a:pt x="31" y="1936"/>
                </a:lnTo>
                <a:lnTo>
                  <a:pt x="40" y="1923"/>
                </a:lnTo>
                <a:lnTo>
                  <a:pt x="52" y="1906"/>
                </a:lnTo>
                <a:lnTo>
                  <a:pt x="65" y="1890"/>
                </a:lnTo>
                <a:lnTo>
                  <a:pt x="79" y="1871"/>
                </a:lnTo>
                <a:lnTo>
                  <a:pt x="96" y="1852"/>
                </a:lnTo>
                <a:lnTo>
                  <a:pt x="111" y="1831"/>
                </a:lnTo>
                <a:lnTo>
                  <a:pt x="131" y="1810"/>
                </a:lnTo>
                <a:lnTo>
                  <a:pt x="207" y="1720"/>
                </a:lnTo>
                <a:lnTo>
                  <a:pt x="246" y="1674"/>
                </a:lnTo>
                <a:lnTo>
                  <a:pt x="284" y="1627"/>
                </a:lnTo>
                <a:lnTo>
                  <a:pt x="321" y="1581"/>
                </a:lnTo>
                <a:lnTo>
                  <a:pt x="357" y="1533"/>
                </a:lnTo>
                <a:lnTo>
                  <a:pt x="394" y="1485"/>
                </a:lnTo>
                <a:lnTo>
                  <a:pt x="428" y="1437"/>
                </a:lnTo>
                <a:lnTo>
                  <a:pt x="442" y="1411"/>
                </a:lnTo>
                <a:lnTo>
                  <a:pt x="457" y="1386"/>
                </a:lnTo>
                <a:lnTo>
                  <a:pt x="472" y="1359"/>
                </a:lnTo>
                <a:lnTo>
                  <a:pt x="488" y="1332"/>
                </a:lnTo>
                <a:lnTo>
                  <a:pt x="501" y="1305"/>
                </a:lnTo>
                <a:lnTo>
                  <a:pt x="516" y="1276"/>
                </a:lnTo>
                <a:lnTo>
                  <a:pt x="532" y="1247"/>
                </a:lnTo>
                <a:lnTo>
                  <a:pt x="545" y="1219"/>
                </a:lnTo>
                <a:lnTo>
                  <a:pt x="574" y="1159"/>
                </a:lnTo>
                <a:lnTo>
                  <a:pt x="603" y="1098"/>
                </a:lnTo>
                <a:lnTo>
                  <a:pt x="630" y="1034"/>
                </a:lnTo>
                <a:lnTo>
                  <a:pt x="656" y="971"/>
                </a:lnTo>
                <a:lnTo>
                  <a:pt x="676" y="906"/>
                </a:lnTo>
                <a:lnTo>
                  <a:pt x="697" y="842"/>
                </a:lnTo>
                <a:lnTo>
                  <a:pt x="714" y="781"/>
                </a:lnTo>
                <a:lnTo>
                  <a:pt x="733" y="720"/>
                </a:lnTo>
                <a:lnTo>
                  <a:pt x="749" y="658"/>
                </a:lnTo>
                <a:lnTo>
                  <a:pt x="766" y="599"/>
                </a:lnTo>
                <a:lnTo>
                  <a:pt x="779" y="537"/>
                </a:lnTo>
                <a:lnTo>
                  <a:pt x="793" y="478"/>
                </a:lnTo>
                <a:lnTo>
                  <a:pt x="799" y="451"/>
                </a:lnTo>
                <a:lnTo>
                  <a:pt x="804" y="422"/>
                </a:lnTo>
                <a:lnTo>
                  <a:pt x="814" y="366"/>
                </a:lnTo>
                <a:lnTo>
                  <a:pt x="823" y="307"/>
                </a:lnTo>
                <a:lnTo>
                  <a:pt x="829" y="247"/>
                </a:lnTo>
                <a:lnTo>
                  <a:pt x="835" y="188"/>
                </a:lnTo>
                <a:lnTo>
                  <a:pt x="841" y="126"/>
                </a:lnTo>
                <a:lnTo>
                  <a:pt x="847" y="63"/>
                </a:lnTo>
                <a:lnTo>
                  <a:pt x="850" y="0"/>
                </a:lnTo>
                <a:lnTo>
                  <a:pt x="870" y="6"/>
                </a:lnTo>
                <a:lnTo>
                  <a:pt x="887" y="13"/>
                </a:lnTo>
                <a:lnTo>
                  <a:pt x="902" y="21"/>
                </a:lnTo>
                <a:lnTo>
                  <a:pt x="918" y="29"/>
                </a:lnTo>
                <a:lnTo>
                  <a:pt x="933" y="36"/>
                </a:lnTo>
                <a:lnTo>
                  <a:pt x="946" y="44"/>
                </a:lnTo>
                <a:lnTo>
                  <a:pt x="958" y="52"/>
                </a:lnTo>
                <a:lnTo>
                  <a:pt x="967" y="59"/>
                </a:lnTo>
                <a:lnTo>
                  <a:pt x="977" y="67"/>
                </a:lnTo>
                <a:lnTo>
                  <a:pt x="987" y="73"/>
                </a:lnTo>
                <a:lnTo>
                  <a:pt x="992" y="80"/>
                </a:lnTo>
                <a:lnTo>
                  <a:pt x="1000" y="88"/>
                </a:lnTo>
                <a:lnTo>
                  <a:pt x="1004" y="96"/>
                </a:lnTo>
                <a:lnTo>
                  <a:pt x="1008" y="103"/>
                </a:lnTo>
                <a:lnTo>
                  <a:pt x="1010" y="111"/>
                </a:lnTo>
                <a:lnTo>
                  <a:pt x="1010" y="119"/>
                </a:lnTo>
                <a:lnTo>
                  <a:pt x="1010" y="126"/>
                </a:lnTo>
                <a:lnTo>
                  <a:pt x="1010" y="136"/>
                </a:lnTo>
                <a:lnTo>
                  <a:pt x="1008" y="148"/>
                </a:lnTo>
                <a:lnTo>
                  <a:pt x="1008" y="161"/>
                </a:lnTo>
                <a:lnTo>
                  <a:pt x="1006" y="176"/>
                </a:lnTo>
                <a:lnTo>
                  <a:pt x="1004" y="192"/>
                </a:lnTo>
                <a:lnTo>
                  <a:pt x="1002" y="209"/>
                </a:lnTo>
                <a:lnTo>
                  <a:pt x="1000" y="228"/>
                </a:lnTo>
                <a:lnTo>
                  <a:pt x="996" y="249"/>
                </a:lnTo>
                <a:lnTo>
                  <a:pt x="992" y="270"/>
                </a:lnTo>
                <a:lnTo>
                  <a:pt x="990" y="295"/>
                </a:lnTo>
                <a:lnTo>
                  <a:pt x="985" y="320"/>
                </a:lnTo>
                <a:lnTo>
                  <a:pt x="981" y="347"/>
                </a:lnTo>
                <a:lnTo>
                  <a:pt x="975" y="376"/>
                </a:lnTo>
                <a:lnTo>
                  <a:pt x="969" y="407"/>
                </a:lnTo>
                <a:lnTo>
                  <a:pt x="964" y="437"/>
                </a:lnTo>
                <a:lnTo>
                  <a:pt x="958" y="470"/>
                </a:lnTo>
                <a:lnTo>
                  <a:pt x="950" y="505"/>
                </a:lnTo>
                <a:lnTo>
                  <a:pt x="941" y="537"/>
                </a:lnTo>
                <a:lnTo>
                  <a:pt x="933" y="572"/>
                </a:lnTo>
                <a:lnTo>
                  <a:pt x="923" y="606"/>
                </a:lnTo>
                <a:lnTo>
                  <a:pt x="912" y="643"/>
                </a:lnTo>
                <a:lnTo>
                  <a:pt x="902" y="677"/>
                </a:lnTo>
                <a:lnTo>
                  <a:pt x="889" y="714"/>
                </a:lnTo>
                <a:lnTo>
                  <a:pt x="877" y="750"/>
                </a:lnTo>
                <a:lnTo>
                  <a:pt x="866" y="787"/>
                </a:lnTo>
                <a:lnTo>
                  <a:pt x="839" y="862"/>
                </a:lnTo>
                <a:lnTo>
                  <a:pt x="810" y="935"/>
                </a:lnTo>
                <a:lnTo>
                  <a:pt x="781" y="10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79"/>
          <p:cNvSpPr/>
          <p:nvPr/>
        </p:nvSpPr>
        <p:spPr>
          <a:xfrm>
            <a:off x="5796000" y="3209760"/>
            <a:ext cx="925560" cy="790920"/>
          </a:xfrm>
          <a:custGeom>
            <a:avLst/>
            <a:gdLst/>
            <a:ahLst/>
            <a:rect l="l" t="t" r="r" b="b"/>
            <a:pathLst>
              <a:path w="1165" h="996">
                <a:moveTo>
                  <a:pt x="994" y="626"/>
                </a:moveTo>
                <a:lnTo>
                  <a:pt x="988" y="647"/>
                </a:lnTo>
                <a:lnTo>
                  <a:pt x="982" y="668"/>
                </a:lnTo>
                <a:lnTo>
                  <a:pt x="978" y="687"/>
                </a:lnTo>
                <a:lnTo>
                  <a:pt x="973" y="706"/>
                </a:lnTo>
                <a:lnTo>
                  <a:pt x="969" y="726"/>
                </a:lnTo>
                <a:lnTo>
                  <a:pt x="963" y="743"/>
                </a:lnTo>
                <a:lnTo>
                  <a:pt x="959" y="760"/>
                </a:lnTo>
                <a:lnTo>
                  <a:pt x="955" y="776"/>
                </a:lnTo>
                <a:lnTo>
                  <a:pt x="950" y="793"/>
                </a:lnTo>
                <a:lnTo>
                  <a:pt x="946" y="808"/>
                </a:lnTo>
                <a:lnTo>
                  <a:pt x="942" y="822"/>
                </a:lnTo>
                <a:lnTo>
                  <a:pt x="938" y="837"/>
                </a:lnTo>
                <a:lnTo>
                  <a:pt x="934" y="850"/>
                </a:lnTo>
                <a:lnTo>
                  <a:pt x="930" y="862"/>
                </a:lnTo>
                <a:lnTo>
                  <a:pt x="927" y="875"/>
                </a:lnTo>
                <a:lnTo>
                  <a:pt x="923" y="887"/>
                </a:lnTo>
                <a:lnTo>
                  <a:pt x="919" y="896"/>
                </a:lnTo>
                <a:lnTo>
                  <a:pt x="917" y="908"/>
                </a:lnTo>
                <a:lnTo>
                  <a:pt x="913" y="918"/>
                </a:lnTo>
                <a:lnTo>
                  <a:pt x="909" y="925"/>
                </a:lnTo>
                <a:lnTo>
                  <a:pt x="907" y="935"/>
                </a:lnTo>
                <a:lnTo>
                  <a:pt x="904" y="943"/>
                </a:lnTo>
                <a:lnTo>
                  <a:pt x="902" y="948"/>
                </a:lnTo>
                <a:lnTo>
                  <a:pt x="898" y="956"/>
                </a:lnTo>
                <a:lnTo>
                  <a:pt x="896" y="962"/>
                </a:lnTo>
                <a:lnTo>
                  <a:pt x="892" y="968"/>
                </a:lnTo>
                <a:lnTo>
                  <a:pt x="890" y="971"/>
                </a:lnTo>
                <a:lnTo>
                  <a:pt x="888" y="975"/>
                </a:lnTo>
                <a:lnTo>
                  <a:pt x="886" y="979"/>
                </a:lnTo>
                <a:lnTo>
                  <a:pt x="882" y="983"/>
                </a:lnTo>
                <a:lnTo>
                  <a:pt x="881" y="985"/>
                </a:lnTo>
                <a:lnTo>
                  <a:pt x="879" y="987"/>
                </a:lnTo>
                <a:lnTo>
                  <a:pt x="871" y="991"/>
                </a:lnTo>
                <a:lnTo>
                  <a:pt x="863" y="992"/>
                </a:lnTo>
                <a:lnTo>
                  <a:pt x="858" y="994"/>
                </a:lnTo>
                <a:lnTo>
                  <a:pt x="852" y="996"/>
                </a:lnTo>
                <a:lnTo>
                  <a:pt x="846" y="994"/>
                </a:lnTo>
                <a:lnTo>
                  <a:pt x="842" y="992"/>
                </a:lnTo>
                <a:lnTo>
                  <a:pt x="836" y="991"/>
                </a:lnTo>
                <a:lnTo>
                  <a:pt x="833" y="987"/>
                </a:lnTo>
                <a:lnTo>
                  <a:pt x="833" y="985"/>
                </a:lnTo>
                <a:lnTo>
                  <a:pt x="831" y="981"/>
                </a:lnTo>
                <a:lnTo>
                  <a:pt x="831" y="979"/>
                </a:lnTo>
                <a:lnTo>
                  <a:pt x="829" y="975"/>
                </a:lnTo>
                <a:lnTo>
                  <a:pt x="829" y="971"/>
                </a:lnTo>
                <a:lnTo>
                  <a:pt x="829" y="966"/>
                </a:lnTo>
                <a:lnTo>
                  <a:pt x="829" y="960"/>
                </a:lnTo>
                <a:lnTo>
                  <a:pt x="829" y="952"/>
                </a:lnTo>
                <a:lnTo>
                  <a:pt x="829" y="946"/>
                </a:lnTo>
                <a:lnTo>
                  <a:pt x="829" y="937"/>
                </a:lnTo>
                <a:lnTo>
                  <a:pt x="831" y="929"/>
                </a:lnTo>
                <a:lnTo>
                  <a:pt x="831" y="920"/>
                </a:lnTo>
                <a:lnTo>
                  <a:pt x="831" y="910"/>
                </a:lnTo>
                <a:lnTo>
                  <a:pt x="833" y="898"/>
                </a:lnTo>
                <a:lnTo>
                  <a:pt x="833" y="887"/>
                </a:lnTo>
                <a:lnTo>
                  <a:pt x="834" y="873"/>
                </a:lnTo>
                <a:lnTo>
                  <a:pt x="836" y="862"/>
                </a:lnTo>
                <a:lnTo>
                  <a:pt x="838" y="847"/>
                </a:lnTo>
                <a:lnTo>
                  <a:pt x="840" y="833"/>
                </a:lnTo>
                <a:lnTo>
                  <a:pt x="842" y="818"/>
                </a:lnTo>
                <a:lnTo>
                  <a:pt x="844" y="801"/>
                </a:lnTo>
                <a:lnTo>
                  <a:pt x="846" y="783"/>
                </a:lnTo>
                <a:lnTo>
                  <a:pt x="848" y="766"/>
                </a:lnTo>
                <a:lnTo>
                  <a:pt x="852" y="749"/>
                </a:lnTo>
                <a:lnTo>
                  <a:pt x="854" y="730"/>
                </a:lnTo>
                <a:lnTo>
                  <a:pt x="858" y="708"/>
                </a:lnTo>
                <a:lnTo>
                  <a:pt x="859" y="687"/>
                </a:lnTo>
                <a:lnTo>
                  <a:pt x="863" y="666"/>
                </a:lnTo>
                <a:lnTo>
                  <a:pt x="867" y="645"/>
                </a:lnTo>
                <a:lnTo>
                  <a:pt x="871" y="622"/>
                </a:lnTo>
                <a:lnTo>
                  <a:pt x="875" y="597"/>
                </a:lnTo>
                <a:lnTo>
                  <a:pt x="879" y="574"/>
                </a:lnTo>
                <a:lnTo>
                  <a:pt x="882" y="549"/>
                </a:lnTo>
                <a:lnTo>
                  <a:pt x="884" y="526"/>
                </a:lnTo>
                <a:lnTo>
                  <a:pt x="888" y="505"/>
                </a:lnTo>
                <a:lnTo>
                  <a:pt x="890" y="484"/>
                </a:lnTo>
                <a:lnTo>
                  <a:pt x="892" y="463"/>
                </a:lnTo>
                <a:lnTo>
                  <a:pt x="896" y="442"/>
                </a:lnTo>
                <a:lnTo>
                  <a:pt x="898" y="422"/>
                </a:lnTo>
                <a:lnTo>
                  <a:pt x="900" y="403"/>
                </a:lnTo>
                <a:lnTo>
                  <a:pt x="902" y="386"/>
                </a:lnTo>
                <a:lnTo>
                  <a:pt x="904" y="369"/>
                </a:lnTo>
                <a:lnTo>
                  <a:pt x="906" y="351"/>
                </a:lnTo>
                <a:lnTo>
                  <a:pt x="907" y="334"/>
                </a:lnTo>
                <a:lnTo>
                  <a:pt x="907" y="319"/>
                </a:lnTo>
                <a:lnTo>
                  <a:pt x="909" y="305"/>
                </a:lnTo>
                <a:lnTo>
                  <a:pt x="909" y="290"/>
                </a:lnTo>
                <a:lnTo>
                  <a:pt x="911" y="277"/>
                </a:lnTo>
                <a:lnTo>
                  <a:pt x="911" y="265"/>
                </a:lnTo>
                <a:lnTo>
                  <a:pt x="913" y="252"/>
                </a:lnTo>
                <a:lnTo>
                  <a:pt x="913" y="240"/>
                </a:lnTo>
                <a:lnTo>
                  <a:pt x="913" y="230"/>
                </a:lnTo>
                <a:lnTo>
                  <a:pt x="913" y="221"/>
                </a:lnTo>
                <a:lnTo>
                  <a:pt x="913" y="211"/>
                </a:lnTo>
                <a:lnTo>
                  <a:pt x="913" y="204"/>
                </a:lnTo>
                <a:lnTo>
                  <a:pt x="911" y="196"/>
                </a:lnTo>
                <a:lnTo>
                  <a:pt x="911" y="188"/>
                </a:lnTo>
                <a:lnTo>
                  <a:pt x="911" y="182"/>
                </a:lnTo>
                <a:lnTo>
                  <a:pt x="909" y="177"/>
                </a:lnTo>
                <a:lnTo>
                  <a:pt x="907" y="171"/>
                </a:lnTo>
                <a:lnTo>
                  <a:pt x="907" y="167"/>
                </a:lnTo>
                <a:lnTo>
                  <a:pt x="906" y="165"/>
                </a:lnTo>
                <a:lnTo>
                  <a:pt x="904" y="161"/>
                </a:lnTo>
                <a:lnTo>
                  <a:pt x="902" y="161"/>
                </a:lnTo>
                <a:lnTo>
                  <a:pt x="898" y="159"/>
                </a:lnTo>
                <a:lnTo>
                  <a:pt x="894" y="158"/>
                </a:lnTo>
                <a:lnTo>
                  <a:pt x="890" y="158"/>
                </a:lnTo>
                <a:lnTo>
                  <a:pt x="884" y="158"/>
                </a:lnTo>
                <a:lnTo>
                  <a:pt x="879" y="158"/>
                </a:lnTo>
                <a:lnTo>
                  <a:pt x="873" y="158"/>
                </a:lnTo>
                <a:lnTo>
                  <a:pt x="865" y="158"/>
                </a:lnTo>
                <a:lnTo>
                  <a:pt x="858" y="158"/>
                </a:lnTo>
                <a:lnTo>
                  <a:pt x="850" y="158"/>
                </a:lnTo>
                <a:lnTo>
                  <a:pt x="842" y="159"/>
                </a:lnTo>
                <a:lnTo>
                  <a:pt x="833" y="159"/>
                </a:lnTo>
                <a:lnTo>
                  <a:pt x="823" y="161"/>
                </a:lnTo>
                <a:lnTo>
                  <a:pt x="813" y="161"/>
                </a:lnTo>
                <a:lnTo>
                  <a:pt x="802" y="163"/>
                </a:lnTo>
                <a:lnTo>
                  <a:pt x="790" y="165"/>
                </a:lnTo>
                <a:lnTo>
                  <a:pt x="779" y="167"/>
                </a:lnTo>
                <a:lnTo>
                  <a:pt x="765" y="169"/>
                </a:lnTo>
                <a:lnTo>
                  <a:pt x="752" y="171"/>
                </a:lnTo>
                <a:lnTo>
                  <a:pt x="739" y="173"/>
                </a:lnTo>
                <a:lnTo>
                  <a:pt x="725" y="175"/>
                </a:lnTo>
                <a:lnTo>
                  <a:pt x="710" y="179"/>
                </a:lnTo>
                <a:lnTo>
                  <a:pt x="694" y="181"/>
                </a:lnTo>
                <a:lnTo>
                  <a:pt x="677" y="182"/>
                </a:lnTo>
                <a:lnTo>
                  <a:pt x="660" y="186"/>
                </a:lnTo>
                <a:lnTo>
                  <a:pt x="643" y="190"/>
                </a:lnTo>
                <a:lnTo>
                  <a:pt x="625" y="192"/>
                </a:lnTo>
                <a:lnTo>
                  <a:pt x="606" y="196"/>
                </a:lnTo>
                <a:lnTo>
                  <a:pt x="587" y="200"/>
                </a:lnTo>
                <a:lnTo>
                  <a:pt x="566" y="204"/>
                </a:lnTo>
                <a:lnTo>
                  <a:pt x="545" y="206"/>
                </a:lnTo>
                <a:lnTo>
                  <a:pt x="524" y="209"/>
                </a:lnTo>
                <a:lnTo>
                  <a:pt x="502" y="213"/>
                </a:lnTo>
                <a:lnTo>
                  <a:pt x="458" y="221"/>
                </a:lnTo>
                <a:lnTo>
                  <a:pt x="416" y="229"/>
                </a:lnTo>
                <a:lnTo>
                  <a:pt x="376" y="234"/>
                </a:lnTo>
                <a:lnTo>
                  <a:pt x="337" y="242"/>
                </a:lnTo>
                <a:lnTo>
                  <a:pt x="299" y="248"/>
                </a:lnTo>
                <a:lnTo>
                  <a:pt x="264" y="253"/>
                </a:lnTo>
                <a:lnTo>
                  <a:pt x="232" y="257"/>
                </a:lnTo>
                <a:lnTo>
                  <a:pt x="199" y="263"/>
                </a:lnTo>
                <a:lnTo>
                  <a:pt x="168" y="267"/>
                </a:lnTo>
                <a:lnTo>
                  <a:pt x="140" y="271"/>
                </a:lnTo>
                <a:lnTo>
                  <a:pt x="113" y="273"/>
                </a:lnTo>
                <a:lnTo>
                  <a:pt x="88" y="277"/>
                </a:lnTo>
                <a:lnTo>
                  <a:pt x="63" y="278"/>
                </a:lnTo>
                <a:lnTo>
                  <a:pt x="40" y="278"/>
                </a:lnTo>
                <a:lnTo>
                  <a:pt x="19" y="280"/>
                </a:lnTo>
                <a:lnTo>
                  <a:pt x="0" y="280"/>
                </a:lnTo>
                <a:lnTo>
                  <a:pt x="0" y="248"/>
                </a:lnTo>
                <a:lnTo>
                  <a:pt x="0" y="213"/>
                </a:lnTo>
                <a:lnTo>
                  <a:pt x="32" y="206"/>
                </a:lnTo>
                <a:lnTo>
                  <a:pt x="65" y="200"/>
                </a:lnTo>
                <a:lnTo>
                  <a:pt x="95" y="194"/>
                </a:lnTo>
                <a:lnTo>
                  <a:pt x="124" y="188"/>
                </a:lnTo>
                <a:lnTo>
                  <a:pt x="151" y="182"/>
                </a:lnTo>
                <a:lnTo>
                  <a:pt x="176" y="179"/>
                </a:lnTo>
                <a:lnTo>
                  <a:pt x="199" y="175"/>
                </a:lnTo>
                <a:lnTo>
                  <a:pt x="222" y="171"/>
                </a:lnTo>
                <a:lnTo>
                  <a:pt x="243" y="167"/>
                </a:lnTo>
                <a:lnTo>
                  <a:pt x="261" y="163"/>
                </a:lnTo>
                <a:lnTo>
                  <a:pt x="280" y="161"/>
                </a:lnTo>
                <a:lnTo>
                  <a:pt x="295" y="158"/>
                </a:lnTo>
                <a:lnTo>
                  <a:pt x="309" y="156"/>
                </a:lnTo>
                <a:lnTo>
                  <a:pt x="322" y="152"/>
                </a:lnTo>
                <a:lnTo>
                  <a:pt x="332" y="150"/>
                </a:lnTo>
                <a:lnTo>
                  <a:pt x="341" y="148"/>
                </a:lnTo>
                <a:lnTo>
                  <a:pt x="351" y="146"/>
                </a:lnTo>
                <a:lnTo>
                  <a:pt x="360" y="146"/>
                </a:lnTo>
                <a:lnTo>
                  <a:pt x="372" y="146"/>
                </a:lnTo>
                <a:lnTo>
                  <a:pt x="385" y="144"/>
                </a:lnTo>
                <a:lnTo>
                  <a:pt x="399" y="142"/>
                </a:lnTo>
                <a:lnTo>
                  <a:pt x="412" y="140"/>
                </a:lnTo>
                <a:lnTo>
                  <a:pt x="428" y="138"/>
                </a:lnTo>
                <a:lnTo>
                  <a:pt x="445" y="136"/>
                </a:lnTo>
                <a:lnTo>
                  <a:pt x="462" y="133"/>
                </a:lnTo>
                <a:lnTo>
                  <a:pt x="481" y="129"/>
                </a:lnTo>
                <a:lnTo>
                  <a:pt x="501" y="125"/>
                </a:lnTo>
                <a:lnTo>
                  <a:pt x="522" y="119"/>
                </a:lnTo>
                <a:lnTo>
                  <a:pt x="543" y="113"/>
                </a:lnTo>
                <a:lnTo>
                  <a:pt x="566" y="108"/>
                </a:lnTo>
                <a:lnTo>
                  <a:pt x="591" y="102"/>
                </a:lnTo>
                <a:lnTo>
                  <a:pt x="616" y="94"/>
                </a:lnTo>
                <a:lnTo>
                  <a:pt x="641" y="88"/>
                </a:lnTo>
                <a:lnTo>
                  <a:pt x="664" y="85"/>
                </a:lnTo>
                <a:lnTo>
                  <a:pt x="687" y="79"/>
                </a:lnTo>
                <a:lnTo>
                  <a:pt x="708" y="73"/>
                </a:lnTo>
                <a:lnTo>
                  <a:pt x="727" y="69"/>
                </a:lnTo>
                <a:lnTo>
                  <a:pt x="746" y="65"/>
                </a:lnTo>
                <a:lnTo>
                  <a:pt x="763" y="60"/>
                </a:lnTo>
                <a:lnTo>
                  <a:pt x="779" y="56"/>
                </a:lnTo>
                <a:lnTo>
                  <a:pt x="792" y="52"/>
                </a:lnTo>
                <a:lnTo>
                  <a:pt x="806" y="48"/>
                </a:lnTo>
                <a:lnTo>
                  <a:pt x="817" y="44"/>
                </a:lnTo>
                <a:lnTo>
                  <a:pt x="829" y="40"/>
                </a:lnTo>
                <a:lnTo>
                  <a:pt x="836" y="37"/>
                </a:lnTo>
                <a:lnTo>
                  <a:pt x="844" y="33"/>
                </a:lnTo>
                <a:lnTo>
                  <a:pt x="850" y="31"/>
                </a:lnTo>
                <a:lnTo>
                  <a:pt x="856" y="27"/>
                </a:lnTo>
                <a:lnTo>
                  <a:pt x="859" y="23"/>
                </a:lnTo>
                <a:lnTo>
                  <a:pt x="867" y="17"/>
                </a:lnTo>
                <a:lnTo>
                  <a:pt x="873" y="14"/>
                </a:lnTo>
                <a:lnTo>
                  <a:pt x="881" y="10"/>
                </a:lnTo>
                <a:lnTo>
                  <a:pt x="890" y="6"/>
                </a:lnTo>
                <a:lnTo>
                  <a:pt x="900" y="2"/>
                </a:lnTo>
                <a:lnTo>
                  <a:pt x="911" y="2"/>
                </a:lnTo>
                <a:lnTo>
                  <a:pt x="925" y="0"/>
                </a:lnTo>
                <a:lnTo>
                  <a:pt x="930" y="0"/>
                </a:lnTo>
                <a:lnTo>
                  <a:pt x="938" y="2"/>
                </a:lnTo>
                <a:lnTo>
                  <a:pt x="944" y="4"/>
                </a:lnTo>
                <a:lnTo>
                  <a:pt x="952" y="6"/>
                </a:lnTo>
                <a:lnTo>
                  <a:pt x="959" y="8"/>
                </a:lnTo>
                <a:lnTo>
                  <a:pt x="969" y="12"/>
                </a:lnTo>
                <a:lnTo>
                  <a:pt x="977" y="15"/>
                </a:lnTo>
                <a:lnTo>
                  <a:pt x="986" y="21"/>
                </a:lnTo>
                <a:lnTo>
                  <a:pt x="996" y="25"/>
                </a:lnTo>
                <a:lnTo>
                  <a:pt x="1005" y="31"/>
                </a:lnTo>
                <a:lnTo>
                  <a:pt x="1015" y="39"/>
                </a:lnTo>
                <a:lnTo>
                  <a:pt x="1025" y="46"/>
                </a:lnTo>
                <a:lnTo>
                  <a:pt x="1036" y="54"/>
                </a:lnTo>
                <a:lnTo>
                  <a:pt x="1048" y="62"/>
                </a:lnTo>
                <a:lnTo>
                  <a:pt x="1059" y="71"/>
                </a:lnTo>
                <a:lnTo>
                  <a:pt x="1073" y="81"/>
                </a:lnTo>
                <a:lnTo>
                  <a:pt x="1082" y="92"/>
                </a:lnTo>
                <a:lnTo>
                  <a:pt x="1094" y="104"/>
                </a:lnTo>
                <a:lnTo>
                  <a:pt x="1101" y="115"/>
                </a:lnTo>
                <a:lnTo>
                  <a:pt x="1111" y="125"/>
                </a:lnTo>
                <a:lnTo>
                  <a:pt x="1119" y="134"/>
                </a:lnTo>
                <a:lnTo>
                  <a:pt x="1126" y="144"/>
                </a:lnTo>
                <a:lnTo>
                  <a:pt x="1134" y="154"/>
                </a:lnTo>
                <a:lnTo>
                  <a:pt x="1140" y="161"/>
                </a:lnTo>
                <a:lnTo>
                  <a:pt x="1145" y="167"/>
                </a:lnTo>
                <a:lnTo>
                  <a:pt x="1149" y="175"/>
                </a:lnTo>
                <a:lnTo>
                  <a:pt x="1153" y="181"/>
                </a:lnTo>
                <a:lnTo>
                  <a:pt x="1157" y="184"/>
                </a:lnTo>
                <a:lnTo>
                  <a:pt x="1161" y="190"/>
                </a:lnTo>
                <a:lnTo>
                  <a:pt x="1163" y="194"/>
                </a:lnTo>
                <a:lnTo>
                  <a:pt x="1163" y="198"/>
                </a:lnTo>
                <a:lnTo>
                  <a:pt x="1165" y="200"/>
                </a:lnTo>
                <a:lnTo>
                  <a:pt x="1155" y="209"/>
                </a:lnTo>
                <a:lnTo>
                  <a:pt x="1151" y="215"/>
                </a:lnTo>
                <a:lnTo>
                  <a:pt x="1145" y="221"/>
                </a:lnTo>
                <a:lnTo>
                  <a:pt x="1140" y="225"/>
                </a:lnTo>
                <a:lnTo>
                  <a:pt x="1134" y="230"/>
                </a:lnTo>
                <a:lnTo>
                  <a:pt x="1126" y="234"/>
                </a:lnTo>
                <a:lnTo>
                  <a:pt x="1119" y="240"/>
                </a:lnTo>
                <a:lnTo>
                  <a:pt x="1115" y="242"/>
                </a:lnTo>
                <a:lnTo>
                  <a:pt x="1111" y="244"/>
                </a:lnTo>
                <a:lnTo>
                  <a:pt x="1109" y="248"/>
                </a:lnTo>
                <a:lnTo>
                  <a:pt x="1105" y="252"/>
                </a:lnTo>
                <a:lnTo>
                  <a:pt x="1101" y="255"/>
                </a:lnTo>
                <a:lnTo>
                  <a:pt x="1099" y="261"/>
                </a:lnTo>
                <a:lnTo>
                  <a:pt x="1096" y="267"/>
                </a:lnTo>
                <a:lnTo>
                  <a:pt x="1092" y="273"/>
                </a:lnTo>
                <a:lnTo>
                  <a:pt x="1088" y="280"/>
                </a:lnTo>
                <a:lnTo>
                  <a:pt x="1086" y="288"/>
                </a:lnTo>
                <a:lnTo>
                  <a:pt x="1082" y="296"/>
                </a:lnTo>
                <a:lnTo>
                  <a:pt x="1078" y="305"/>
                </a:lnTo>
                <a:lnTo>
                  <a:pt x="1074" y="315"/>
                </a:lnTo>
                <a:lnTo>
                  <a:pt x="1071" y="326"/>
                </a:lnTo>
                <a:lnTo>
                  <a:pt x="1067" y="336"/>
                </a:lnTo>
                <a:lnTo>
                  <a:pt x="1063" y="348"/>
                </a:lnTo>
                <a:lnTo>
                  <a:pt x="1059" y="361"/>
                </a:lnTo>
                <a:lnTo>
                  <a:pt x="1055" y="374"/>
                </a:lnTo>
                <a:lnTo>
                  <a:pt x="1051" y="388"/>
                </a:lnTo>
                <a:lnTo>
                  <a:pt x="1048" y="403"/>
                </a:lnTo>
                <a:lnTo>
                  <a:pt x="1044" y="417"/>
                </a:lnTo>
                <a:lnTo>
                  <a:pt x="1040" y="434"/>
                </a:lnTo>
                <a:lnTo>
                  <a:pt x="1036" y="449"/>
                </a:lnTo>
                <a:lnTo>
                  <a:pt x="1030" y="467"/>
                </a:lnTo>
                <a:lnTo>
                  <a:pt x="1026" y="484"/>
                </a:lnTo>
                <a:lnTo>
                  <a:pt x="1023" y="503"/>
                </a:lnTo>
                <a:lnTo>
                  <a:pt x="1017" y="522"/>
                </a:lnTo>
                <a:lnTo>
                  <a:pt x="1013" y="541"/>
                </a:lnTo>
                <a:lnTo>
                  <a:pt x="1007" y="563"/>
                </a:lnTo>
                <a:lnTo>
                  <a:pt x="1003" y="582"/>
                </a:lnTo>
                <a:lnTo>
                  <a:pt x="998" y="605"/>
                </a:lnTo>
                <a:lnTo>
                  <a:pt x="994" y="6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80"/>
          <p:cNvSpPr/>
          <p:nvPr/>
        </p:nvSpPr>
        <p:spPr>
          <a:xfrm>
            <a:off x="5886360" y="3886200"/>
            <a:ext cx="588960" cy="147600"/>
          </a:xfrm>
          <a:custGeom>
            <a:avLst/>
            <a:gdLst/>
            <a:ahLst/>
            <a:rect l="l" t="t" r="r" b="b"/>
            <a:pathLst>
              <a:path w="743" h="187">
                <a:moveTo>
                  <a:pt x="0" y="94"/>
                </a:moveTo>
                <a:lnTo>
                  <a:pt x="32" y="89"/>
                </a:lnTo>
                <a:lnTo>
                  <a:pt x="65" y="81"/>
                </a:lnTo>
                <a:lnTo>
                  <a:pt x="98" y="75"/>
                </a:lnTo>
                <a:lnTo>
                  <a:pt x="128" y="71"/>
                </a:lnTo>
                <a:lnTo>
                  <a:pt x="157" y="66"/>
                </a:lnTo>
                <a:lnTo>
                  <a:pt x="188" y="60"/>
                </a:lnTo>
                <a:lnTo>
                  <a:pt x="217" y="56"/>
                </a:lnTo>
                <a:lnTo>
                  <a:pt x="245" y="50"/>
                </a:lnTo>
                <a:lnTo>
                  <a:pt x="272" y="46"/>
                </a:lnTo>
                <a:lnTo>
                  <a:pt x="299" y="43"/>
                </a:lnTo>
                <a:lnTo>
                  <a:pt x="326" y="39"/>
                </a:lnTo>
                <a:lnTo>
                  <a:pt x="351" y="35"/>
                </a:lnTo>
                <a:lnTo>
                  <a:pt x="376" y="31"/>
                </a:lnTo>
                <a:lnTo>
                  <a:pt x="401" y="27"/>
                </a:lnTo>
                <a:lnTo>
                  <a:pt x="426" y="25"/>
                </a:lnTo>
                <a:lnTo>
                  <a:pt x="449" y="21"/>
                </a:lnTo>
                <a:lnTo>
                  <a:pt x="472" y="20"/>
                </a:lnTo>
                <a:lnTo>
                  <a:pt x="493" y="18"/>
                </a:lnTo>
                <a:lnTo>
                  <a:pt x="514" y="14"/>
                </a:lnTo>
                <a:lnTo>
                  <a:pt x="535" y="12"/>
                </a:lnTo>
                <a:lnTo>
                  <a:pt x="556" y="10"/>
                </a:lnTo>
                <a:lnTo>
                  <a:pt x="576" y="8"/>
                </a:lnTo>
                <a:lnTo>
                  <a:pt x="595" y="8"/>
                </a:lnTo>
                <a:lnTo>
                  <a:pt x="614" y="6"/>
                </a:lnTo>
                <a:lnTo>
                  <a:pt x="631" y="4"/>
                </a:lnTo>
                <a:lnTo>
                  <a:pt x="649" y="4"/>
                </a:lnTo>
                <a:lnTo>
                  <a:pt x="666" y="2"/>
                </a:lnTo>
                <a:lnTo>
                  <a:pt x="683" y="2"/>
                </a:lnTo>
                <a:lnTo>
                  <a:pt x="698" y="2"/>
                </a:lnTo>
                <a:lnTo>
                  <a:pt x="714" y="0"/>
                </a:lnTo>
                <a:lnTo>
                  <a:pt x="729" y="0"/>
                </a:lnTo>
                <a:lnTo>
                  <a:pt x="743" y="0"/>
                </a:lnTo>
                <a:lnTo>
                  <a:pt x="743" y="46"/>
                </a:lnTo>
                <a:lnTo>
                  <a:pt x="743" y="94"/>
                </a:lnTo>
                <a:lnTo>
                  <a:pt x="735" y="94"/>
                </a:lnTo>
                <a:lnTo>
                  <a:pt x="725" y="94"/>
                </a:lnTo>
                <a:lnTo>
                  <a:pt x="716" y="94"/>
                </a:lnTo>
                <a:lnTo>
                  <a:pt x="704" y="94"/>
                </a:lnTo>
                <a:lnTo>
                  <a:pt x="693" y="96"/>
                </a:lnTo>
                <a:lnTo>
                  <a:pt x="679" y="96"/>
                </a:lnTo>
                <a:lnTo>
                  <a:pt x="666" y="98"/>
                </a:lnTo>
                <a:lnTo>
                  <a:pt x="650" y="98"/>
                </a:lnTo>
                <a:lnTo>
                  <a:pt x="635" y="100"/>
                </a:lnTo>
                <a:lnTo>
                  <a:pt x="618" y="102"/>
                </a:lnTo>
                <a:lnTo>
                  <a:pt x="601" y="104"/>
                </a:lnTo>
                <a:lnTo>
                  <a:pt x="581" y="106"/>
                </a:lnTo>
                <a:lnTo>
                  <a:pt x="562" y="108"/>
                </a:lnTo>
                <a:lnTo>
                  <a:pt x="541" y="110"/>
                </a:lnTo>
                <a:lnTo>
                  <a:pt x="520" y="112"/>
                </a:lnTo>
                <a:lnTo>
                  <a:pt x="497" y="116"/>
                </a:lnTo>
                <a:lnTo>
                  <a:pt x="474" y="117"/>
                </a:lnTo>
                <a:lnTo>
                  <a:pt x="449" y="121"/>
                </a:lnTo>
                <a:lnTo>
                  <a:pt x="424" y="125"/>
                </a:lnTo>
                <a:lnTo>
                  <a:pt x="397" y="127"/>
                </a:lnTo>
                <a:lnTo>
                  <a:pt x="370" y="131"/>
                </a:lnTo>
                <a:lnTo>
                  <a:pt x="341" y="135"/>
                </a:lnTo>
                <a:lnTo>
                  <a:pt x="313" y="140"/>
                </a:lnTo>
                <a:lnTo>
                  <a:pt x="284" y="144"/>
                </a:lnTo>
                <a:lnTo>
                  <a:pt x="253" y="148"/>
                </a:lnTo>
                <a:lnTo>
                  <a:pt x="221" y="154"/>
                </a:lnTo>
                <a:lnTo>
                  <a:pt x="188" y="158"/>
                </a:lnTo>
                <a:lnTo>
                  <a:pt x="155" y="164"/>
                </a:lnTo>
                <a:lnTo>
                  <a:pt x="121" y="169"/>
                </a:lnTo>
                <a:lnTo>
                  <a:pt x="84" y="175"/>
                </a:lnTo>
                <a:lnTo>
                  <a:pt x="50" y="181"/>
                </a:lnTo>
                <a:lnTo>
                  <a:pt x="11" y="187"/>
                </a:lnTo>
                <a:lnTo>
                  <a:pt x="6" y="140"/>
                </a:lnTo>
                <a:lnTo>
                  <a:pt x="0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81"/>
          <p:cNvSpPr/>
          <p:nvPr/>
        </p:nvSpPr>
        <p:spPr>
          <a:xfrm>
            <a:off x="5950080" y="3556080"/>
            <a:ext cx="498240" cy="160200"/>
          </a:xfrm>
          <a:custGeom>
            <a:avLst/>
            <a:gdLst/>
            <a:ahLst/>
            <a:rect l="l" t="t" r="r" b="b"/>
            <a:pathLst>
              <a:path w="628" h="201">
                <a:moveTo>
                  <a:pt x="0" y="123"/>
                </a:moveTo>
                <a:lnTo>
                  <a:pt x="33" y="113"/>
                </a:lnTo>
                <a:lnTo>
                  <a:pt x="66" y="105"/>
                </a:lnTo>
                <a:lnTo>
                  <a:pt x="96" y="96"/>
                </a:lnTo>
                <a:lnTo>
                  <a:pt x="125" y="88"/>
                </a:lnTo>
                <a:lnTo>
                  <a:pt x="154" y="80"/>
                </a:lnTo>
                <a:lnTo>
                  <a:pt x="183" y="75"/>
                </a:lnTo>
                <a:lnTo>
                  <a:pt x="210" y="67"/>
                </a:lnTo>
                <a:lnTo>
                  <a:pt x="236" y="61"/>
                </a:lnTo>
                <a:lnTo>
                  <a:pt x="261" y="55"/>
                </a:lnTo>
                <a:lnTo>
                  <a:pt x="284" y="50"/>
                </a:lnTo>
                <a:lnTo>
                  <a:pt x="308" y="44"/>
                </a:lnTo>
                <a:lnTo>
                  <a:pt x="331" y="38"/>
                </a:lnTo>
                <a:lnTo>
                  <a:pt x="352" y="34"/>
                </a:lnTo>
                <a:lnTo>
                  <a:pt x="373" y="29"/>
                </a:lnTo>
                <a:lnTo>
                  <a:pt x="392" y="25"/>
                </a:lnTo>
                <a:lnTo>
                  <a:pt x="411" y="21"/>
                </a:lnTo>
                <a:lnTo>
                  <a:pt x="428" y="17"/>
                </a:lnTo>
                <a:lnTo>
                  <a:pt x="446" y="15"/>
                </a:lnTo>
                <a:lnTo>
                  <a:pt x="461" y="11"/>
                </a:lnTo>
                <a:lnTo>
                  <a:pt x="476" y="9"/>
                </a:lnTo>
                <a:lnTo>
                  <a:pt x="490" y="7"/>
                </a:lnTo>
                <a:lnTo>
                  <a:pt x="503" y="6"/>
                </a:lnTo>
                <a:lnTo>
                  <a:pt x="515" y="4"/>
                </a:lnTo>
                <a:lnTo>
                  <a:pt x="526" y="2"/>
                </a:lnTo>
                <a:lnTo>
                  <a:pt x="538" y="0"/>
                </a:lnTo>
                <a:lnTo>
                  <a:pt x="546" y="0"/>
                </a:lnTo>
                <a:lnTo>
                  <a:pt x="555" y="0"/>
                </a:lnTo>
                <a:lnTo>
                  <a:pt x="563" y="0"/>
                </a:lnTo>
                <a:lnTo>
                  <a:pt x="569" y="0"/>
                </a:lnTo>
                <a:lnTo>
                  <a:pt x="574" y="0"/>
                </a:lnTo>
                <a:lnTo>
                  <a:pt x="578" y="2"/>
                </a:lnTo>
                <a:lnTo>
                  <a:pt x="582" y="2"/>
                </a:lnTo>
                <a:lnTo>
                  <a:pt x="590" y="6"/>
                </a:lnTo>
                <a:lnTo>
                  <a:pt x="594" y="7"/>
                </a:lnTo>
                <a:lnTo>
                  <a:pt x="599" y="11"/>
                </a:lnTo>
                <a:lnTo>
                  <a:pt x="605" y="15"/>
                </a:lnTo>
                <a:lnTo>
                  <a:pt x="613" y="21"/>
                </a:lnTo>
                <a:lnTo>
                  <a:pt x="618" y="29"/>
                </a:lnTo>
                <a:lnTo>
                  <a:pt x="622" y="36"/>
                </a:lnTo>
                <a:lnTo>
                  <a:pt x="626" y="44"/>
                </a:lnTo>
                <a:lnTo>
                  <a:pt x="628" y="50"/>
                </a:lnTo>
                <a:lnTo>
                  <a:pt x="628" y="55"/>
                </a:lnTo>
                <a:lnTo>
                  <a:pt x="628" y="61"/>
                </a:lnTo>
                <a:lnTo>
                  <a:pt x="624" y="65"/>
                </a:lnTo>
                <a:lnTo>
                  <a:pt x="620" y="71"/>
                </a:lnTo>
                <a:lnTo>
                  <a:pt x="613" y="75"/>
                </a:lnTo>
                <a:lnTo>
                  <a:pt x="605" y="80"/>
                </a:lnTo>
                <a:lnTo>
                  <a:pt x="595" y="86"/>
                </a:lnTo>
                <a:lnTo>
                  <a:pt x="582" y="92"/>
                </a:lnTo>
                <a:lnTo>
                  <a:pt x="569" y="96"/>
                </a:lnTo>
                <a:lnTo>
                  <a:pt x="553" y="101"/>
                </a:lnTo>
                <a:lnTo>
                  <a:pt x="534" y="107"/>
                </a:lnTo>
                <a:lnTo>
                  <a:pt x="515" y="115"/>
                </a:lnTo>
                <a:lnTo>
                  <a:pt x="494" y="121"/>
                </a:lnTo>
                <a:lnTo>
                  <a:pt x="471" y="126"/>
                </a:lnTo>
                <a:lnTo>
                  <a:pt x="446" y="134"/>
                </a:lnTo>
                <a:lnTo>
                  <a:pt x="417" y="142"/>
                </a:lnTo>
                <a:lnTo>
                  <a:pt x="388" y="149"/>
                </a:lnTo>
                <a:lnTo>
                  <a:pt x="359" y="155"/>
                </a:lnTo>
                <a:lnTo>
                  <a:pt x="332" y="163"/>
                </a:lnTo>
                <a:lnTo>
                  <a:pt x="306" y="169"/>
                </a:lnTo>
                <a:lnTo>
                  <a:pt x="281" y="174"/>
                </a:lnTo>
                <a:lnTo>
                  <a:pt x="258" y="178"/>
                </a:lnTo>
                <a:lnTo>
                  <a:pt x="236" y="184"/>
                </a:lnTo>
                <a:lnTo>
                  <a:pt x="217" y="188"/>
                </a:lnTo>
                <a:lnTo>
                  <a:pt x="198" y="190"/>
                </a:lnTo>
                <a:lnTo>
                  <a:pt x="183" y="194"/>
                </a:lnTo>
                <a:lnTo>
                  <a:pt x="165" y="196"/>
                </a:lnTo>
                <a:lnTo>
                  <a:pt x="152" y="197"/>
                </a:lnTo>
                <a:lnTo>
                  <a:pt x="141" y="199"/>
                </a:lnTo>
                <a:lnTo>
                  <a:pt x="129" y="201"/>
                </a:lnTo>
                <a:lnTo>
                  <a:pt x="119" y="201"/>
                </a:lnTo>
                <a:lnTo>
                  <a:pt x="110" y="201"/>
                </a:lnTo>
                <a:lnTo>
                  <a:pt x="104" y="201"/>
                </a:lnTo>
                <a:lnTo>
                  <a:pt x="96" y="201"/>
                </a:lnTo>
                <a:lnTo>
                  <a:pt x="91" y="201"/>
                </a:lnTo>
                <a:lnTo>
                  <a:pt x="83" y="199"/>
                </a:lnTo>
                <a:lnTo>
                  <a:pt x="77" y="197"/>
                </a:lnTo>
                <a:lnTo>
                  <a:pt x="71" y="194"/>
                </a:lnTo>
                <a:lnTo>
                  <a:pt x="64" y="190"/>
                </a:lnTo>
                <a:lnTo>
                  <a:pt x="58" y="186"/>
                </a:lnTo>
                <a:lnTo>
                  <a:pt x="52" y="182"/>
                </a:lnTo>
                <a:lnTo>
                  <a:pt x="45" y="176"/>
                </a:lnTo>
                <a:lnTo>
                  <a:pt x="39" y="171"/>
                </a:lnTo>
                <a:lnTo>
                  <a:pt x="33" y="165"/>
                </a:lnTo>
                <a:lnTo>
                  <a:pt x="25" y="157"/>
                </a:lnTo>
                <a:lnTo>
                  <a:pt x="20" y="149"/>
                </a:lnTo>
                <a:lnTo>
                  <a:pt x="14" y="140"/>
                </a:lnTo>
                <a:lnTo>
                  <a:pt x="6" y="132"/>
                </a:lnTo>
                <a:lnTo>
                  <a:pt x="0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82"/>
          <p:cNvSpPr/>
          <p:nvPr/>
        </p:nvSpPr>
        <p:spPr>
          <a:xfrm>
            <a:off x="5711760" y="3352680"/>
            <a:ext cx="201600" cy="712800"/>
          </a:xfrm>
          <a:custGeom>
            <a:avLst/>
            <a:gdLst/>
            <a:ahLst/>
            <a:rect l="l" t="t" r="r" b="b"/>
            <a:pathLst>
              <a:path w="253" h="898">
                <a:moveTo>
                  <a:pt x="48" y="180"/>
                </a:moveTo>
                <a:lnTo>
                  <a:pt x="42" y="165"/>
                </a:lnTo>
                <a:lnTo>
                  <a:pt x="36" y="151"/>
                </a:lnTo>
                <a:lnTo>
                  <a:pt x="31" y="138"/>
                </a:lnTo>
                <a:lnTo>
                  <a:pt x="25" y="124"/>
                </a:lnTo>
                <a:lnTo>
                  <a:pt x="21" y="113"/>
                </a:lnTo>
                <a:lnTo>
                  <a:pt x="15" y="101"/>
                </a:lnTo>
                <a:lnTo>
                  <a:pt x="11" y="90"/>
                </a:lnTo>
                <a:lnTo>
                  <a:pt x="8" y="78"/>
                </a:lnTo>
                <a:lnTo>
                  <a:pt x="6" y="69"/>
                </a:lnTo>
                <a:lnTo>
                  <a:pt x="4" y="61"/>
                </a:lnTo>
                <a:lnTo>
                  <a:pt x="2" y="51"/>
                </a:lnTo>
                <a:lnTo>
                  <a:pt x="0" y="44"/>
                </a:lnTo>
                <a:lnTo>
                  <a:pt x="0" y="38"/>
                </a:lnTo>
                <a:lnTo>
                  <a:pt x="0" y="30"/>
                </a:lnTo>
                <a:lnTo>
                  <a:pt x="0" y="25"/>
                </a:lnTo>
                <a:lnTo>
                  <a:pt x="2" y="19"/>
                </a:lnTo>
                <a:lnTo>
                  <a:pt x="6" y="15"/>
                </a:lnTo>
                <a:lnTo>
                  <a:pt x="11" y="9"/>
                </a:lnTo>
                <a:lnTo>
                  <a:pt x="17" y="5"/>
                </a:lnTo>
                <a:lnTo>
                  <a:pt x="23" y="3"/>
                </a:lnTo>
                <a:lnTo>
                  <a:pt x="29" y="1"/>
                </a:lnTo>
                <a:lnTo>
                  <a:pt x="38" y="0"/>
                </a:lnTo>
                <a:lnTo>
                  <a:pt x="42" y="1"/>
                </a:lnTo>
                <a:lnTo>
                  <a:pt x="48" y="1"/>
                </a:lnTo>
                <a:lnTo>
                  <a:pt x="54" y="3"/>
                </a:lnTo>
                <a:lnTo>
                  <a:pt x="59" y="5"/>
                </a:lnTo>
                <a:lnTo>
                  <a:pt x="73" y="11"/>
                </a:lnTo>
                <a:lnTo>
                  <a:pt x="86" y="17"/>
                </a:lnTo>
                <a:lnTo>
                  <a:pt x="104" y="21"/>
                </a:lnTo>
                <a:lnTo>
                  <a:pt x="119" y="25"/>
                </a:lnTo>
                <a:lnTo>
                  <a:pt x="138" y="28"/>
                </a:lnTo>
                <a:lnTo>
                  <a:pt x="155" y="30"/>
                </a:lnTo>
                <a:lnTo>
                  <a:pt x="177" y="32"/>
                </a:lnTo>
                <a:lnTo>
                  <a:pt x="198" y="32"/>
                </a:lnTo>
                <a:lnTo>
                  <a:pt x="200" y="76"/>
                </a:lnTo>
                <a:lnTo>
                  <a:pt x="203" y="119"/>
                </a:lnTo>
                <a:lnTo>
                  <a:pt x="205" y="159"/>
                </a:lnTo>
                <a:lnTo>
                  <a:pt x="209" y="197"/>
                </a:lnTo>
                <a:lnTo>
                  <a:pt x="211" y="236"/>
                </a:lnTo>
                <a:lnTo>
                  <a:pt x="215" y="274"/>
                </a:lnTo>
                <a:lnTo>
                  <a:pt x="217" y="311"/>
                </a:lnTo>
                <a:lnTo>
                  <a:pt x="221" y="345"/>
                </a:lnTo>
                <a:lnTo>
                  <a:pt x="223" y="378"/>
                </a:lnTo>
                <a:lnTo>
                  <a:pt x="225" y="410"/>
                </a:lnTo>
                <a:lnTo>
                  <a:pt x="226" y="441"/>
                </a:lnTo>
                <a:lnTo>
                  <a:pt x="230" y="472"/>
                </a:lnTo>
                <a:lnTo>
                  <a:pt x="232" y="501"/>
                </a:lnTo>
                <a:lnTo>
                  <a:pt x="234" y="529"/>
                </a:lnTo>
                <a:lnTo>
                  <a:pt x="236" y="554"/>
                </a:lnTo>
                <a:lnTo>
                  <a:pt x="238" y="581"/>
                </a:lnTo>
                <a:lnTo>
                  <a:pt x="240" y="604"/>
                </a:lnTo>
                <a:lnTo>
                  <a:pt x="242" y="627"/>
                </a:lnTo>
                <a:lnTo>
                  <a:pt x="244" y="648"/>
                </a:lnTo>
                <a:lnTo>
                  <a:pt x="244" y="669"/>
                </a:lnTo>
                <a:lnTo>
                  <a:pt x="246" y="689"/>
                </a:lnTo>
                <a:lnTo>
                  <a:pt x="248" y="706"/>
                </a:lnTo>
                <a:lnTo>
                  <a:pt x="248" y="723"/>
                </a:lnTo>
                <a:lnTo>
                  <a:pt x="249" y="739"/>
                </a:lnTo>
                <a:lnTo>
                  <a:pt x="249" y="752"/>
                </a:lnTo>
                <a:lnTo>
                  <a:pt x="251" y="765"/>
                </a:lnTo>
                <a:lnTo>
                  <a:pt x="251" y="777"/>
                </a:lnTo>
                <a:lnTo>
                  <a:pt x="251" y="788"/>
                </a:lnTo>
                <a:lnTo>
                  <a:pt x="253" y="798"/>
                </a:lnTo>
                <a:lnTo>
                  <a:pt x="253" y="806"/>
                </a:lnTo>
                <a:lnTo>
                  <a:pt x="253" y="813"/>
                </a:lnTo>
                <a:lnTo>
                  <a:pt x="253" y="819"/>
                </a:lnTo>
                <a:lnTo>
                  <a:pt x="253" y="829"/>
                </a:lnTo>
                <a:lnTo>
                  <a:pt x="253" y="836"/>
                </a:lnTo>
                <a:lnTo>
                  <a:pt x="251" y="846"/>
                </a:lnTo>
                <a:lnTo>
                  <a:pt x="251" y="854"/>
                </a:lnTo>
                <a:lnTo>
                  <a:pt x="249" y="859"/>
                </a:lnTo>
                <a:lnTo>
                  <a:pt x="248" y="867"/>
                </a:lnTo>
                <a:lnTo>
                  <a:pt x="246" y="873"/>
                </a:lnTo>
                <a:lnTo>
                  <a:pt x="244" y="879"/>
                </a:lnTo>
                <a:lnTo>
                  <a:pt x="240" y="882"/>
                </a:lnTo>
                <a:lnTo>
                  <a:pt x="238" y="886"/>
                </a:lnTo>
                <a:lnTo>
                  <a:pt x="234" y="890"/>
                </a:lnTo>
                <a:lnTo>
                  <a:pt x="230" y="892"/>
                </a:lnTo>
                <a:lnTo>
                  <a:pt x="225" y="896"/>
                </a:lnTo>
                <a:lnTo>
                  <a:pt x="219" y="896"/>
                </a:lnTo>
                <a:lnTo>
                  <a:pt x="215" y="898"/>
                </a:lnTo>
                <a:lnTo>
                  <a:pt x="207" y="898"/>
                </a:lnTo>
                <a:lnTo>
                  <a:pt x="205" y="898"/>
                </a:lnTo>
                <a:lnTo>
                  <a:pt x="201" y="896"/>
                </a:lnTo>
                <a:lnTo>
                  <a:pt x="198" y="896"/>
                </a:lnTo>
                <a:lnTo>
                  <a:pt x="196" y="892"/>
                </a:lnTo>
                <a:lnTo>
                  <a:pt x="192" y="890"/>
                </a:lnTo>
                <a:lnTo>
                  <a:pt x="188" y="886"/>
                </a:lnTo>
                <a:lnTo>
                  <a:pt x="186" y="882"/>
                </a:lnTo>
                <a:lnTo>
                  <a:pt x="182" y="879"/>
                </a:lnTo>
                <a:lnTo>
                  <a:pt x="180" y="873"/>
                </a:lnTo>
                <a:lnTo>
                  <a:pt x="177" y="867"/>
                </a:lnTo>
                <a:lnTo>
                  <a:pt x="173" y="861"/>
                </a:lnTo>
                <a:lnTo>
                  <a:pt x="171" y="854"/>
                </a:lnTo>
                <a:lnTo>
                  <a:pt x="167" y="846"/>
                </a:lnTo>
                <a:lnTo>
                  <a:pt x="165" y="838"/>
                </a:lnTo>
                <a:lnTo>
                  <a:pt x="161" y="829"/>
                </a:lnTo>
                <a:lnTo>
                  <a:pt x="159" y="819"/>
                </a:lnTo>
                <a:lnTo>
                  <a:pt x="157" y="810"/>
                </a:lnTo>
                <a:lnTo>
                  <a:pt x="154" y="800"/>
                </a:lnTo>
                <a:lnTo>
                  <a:pt x="152" y="788"/>
                </a:lnTo>
                <a:lnTo>
                  <a:pt x="150" y="777"/>
                </a:lnTo>
                <a:lnTo>
                  <a:pt x="148" y="763"/>
                </a:lnTo>
                <a:lnTo>
                  <a:pt x="144" y="752"/>
                </a:lnTo>
                <a:lnTo>
                  <a:pt x="142" y="739"/>
                </a:lnTo>
                <a:lnTo>
                  <a:pt x="140" y="723"/>
                </a:lnTo>
                <a:lnTo>
                  <a:pt x="138" y="710"/>
                </a:lnTo>
                <a:lnTo>
                  <a:pt x="136" y="694"/>
                </a:lnTo>
                <a:lnTo>
                  <a:pt x="134" y="679"/>
                </a:lnTo>
                <a:lnTo>
                  <a:pt x="132" y="662"/>
                </a:lnTo>
                <a:lnTo>
                  <a:pt x="132" y="646"/>
                </a:lnTo>
                <a:lnTo>
                  <a:pt x="130" y="627"/>
                </a:lnTo>
                <a:lnTo>
                  <a:pt x="129" y="610"/>
                </a:lnTo>
                <a:lnTo>
                  <a:pt x="129" y="593"/>
                </a:lnTo>
                <a:lnTo>
                  <a:pt x="127" y="554"/>
                </a:lnTo>
                <a:lnTo>
                  <a:pt x="123" y="520"/>
                </a:lnTo>
                <a:lnTo>
                  <a:pt x="119" y="485"/>
                </a:lnTo>
                <a:lnTo>
                  <a:pt x="115" y="453"/>
                </a:lnTo>
                <a:lnTo>
                  <a:pt x="111" y="422"/>
                </a:lnTo>
                <a:lnTo>
                  <a:pt x="107" y="391"/>
                </a:lnTo>
                <a:lnTo>
                  <a:pt x="102" y="362"/>
                </a:lnTo>
                <a:lnTo>
                  <a:pt x="96" y="335"/>
                </a:lnTo>
                <a:lnTo>
                  <a:pt x="90" y="311"/>
                </a:lnTo>
                <a:lnTo>
                  <a:pt x="84" y="286"/>
                </a:lnTo>
                <a:lnTo>
                  <a:pt x="79" y="264"/>
                </a:lnTo>
                <a:lnTo>
                  <a:pt x="73" y="243"/>
                </a:lnTo>
                <a:lnTo>
                  <a:pt x="67" y="224"/>
                </a:lnTo>
                <a:lnTo>
                  <a:pt x="61" y="207"/>
                </a:lnTo>
                <a:lnTo>
                  <a:pt x="54" y="193"/>
                </a:lnTo>
                <a:lnTo>
                  <a:pt x="48" y="1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83"/>
          <p:cNvSpPr/>
          <p:nvPr/>
        </p:nvSpPr>
        <p:spPr>
          <a:xfrm>
            <a:off x="5959440" y="2819520"/>
            <a:ext cx="371520" cy="581040"/>
          </a:xfrm>
          <a:custGeom>
            <a:avLst/>
            <a:gdLst/>
            <a:ahLst/>
            <a:rect l="l" t="t" r="r" b="b"/>
            <a:pathLst>
              <a:path w="468" h="731">
                <a:moveTo>
                  <a:pt x="251" y="213"/>
                </a:moveTo>
                <a:lnTo>
                  <a:pt x="255" y="199"/>
                </a:lnTo>
                <a:lnTo>
                  <a:pt x="259" y="188"/>
                </a:lnTo>
                <a:lnTo>
                  <a:pt x="261" y="176"/>
                </a:lnTo>
                <a:lnTo>
                  <a:pt x="263" y="165"/>
                </a:lnTo>
                <a:lnTo>
                  <a:pt x="267" y="142"/>
                </a:lnTo>
                <a:lnTo>
                  <a:pt x="269" y="123"/>
                </a:lnTo>
                <a:lnTo>
                  <a:pt x="269" y="103"/>
                </a:lnTo>
                <a:lnTo>
                  <a:pt x="269" y="84"/>
                </a:lnTo>
                <a:lnTo>
                  <a:pt x="267" y="67"/>
                </a:lnTo>
                <a:lnTo>
                  <a:pt x="263" y="52"/>
                </a:lnTo>
                <a:lnTo>
                  <a:pt x="259" y="42"/>
                </a:lnTo>
                <a:lnTo>
                  <a:pt x="257" y="34"/>
                </a:lnTo>
                <a:lnTo>
                  <a:pt x="255" y="27"/>
                </a:lnTo>
                <a:lnTo>
                  <a:pt x="255" y="25"/>
                </a:lnTo>
                <a:lnTo>
                  <a:pt x="257" y="21"/>
                </a:lnTo>
                <a:lnTo>
                  <a:pt x="257" y="17"/>
                </a:lnTo>
                <a:lnTo>
                  <a:pt x="259" y="15"/>
                </a:lnTo>
                <a:lnTo>
                  <a:pt x="263" y="11"/>
                </a:lnTo>
                <a:lnTo>
                  <a:pt x="265" y="9"/>
                </a:lnTo>
                <a:lnTo>
                  <a:pt x="269" y="7"/>
                </a:lnTo>
                <a:lnTo>
                  <a:pt x="274" y="4"/>
                </a:lnTo>
                <a:lnTo>
                  <a:pt x="278" y="2"/>
                </a:lnTo>
                <a:lnTo>
                  <a:pt x="286" y="0"/>
                </a:lnTo>
                <a:lnTo>
                  <a:pt x="294" y="0"/>
                </a:lnTo>
                <a:lnTo>
                  <a:pt x="305" y="2"/>
                </a:lnTo>
                <a:lnTo>
                  <a:pt x="317" y="4"/>
                </a:lnTo>
                <a:lnTo>
                  <a:pt x="328" y="9"/>
                </a:lnTo>
                <a:lnTo>
                  <a:pt x="342" y="15"/>
                </a:lnTo>
                <a:lnTo>
                  <a:pt x="357" y="21"/>
                </a:lnTo>
                <a:lnTo>
                  <a:pt x="372" y="30"/>
                </a:lnTo>
                <a:lnTo>
                  <a:pt x="388" y="40"/>
                </a:lnTo>
                <a:lnTo>
                  <a:pt x="397" y="46"/>
                </a:lnTo>
                <a:lnTo>
                  <a:pt x="405" y="54"/>
                </a:lnTo>
                <a:lnTo>
                  <a:pt x="418" y="67"/>
                </a:lnTo>
                <a:lnTo>
                  <a:pt x="430" y="80"/>
                </a:lnTo>
                <a:lnTo>
                  <a:pt x="441" y="92"/>
                </a:lnTo>
                <a:lnTo>
                  <a:pt x="449" y="105"/>
                </a:lnTo>
                <a:lnTo>
                  <a:pt x="457" y="117"/>
                </a:lnTo>
                <a:lnTo>
                  <a:pt x="463" y="130"/>
                </a:lnTo>
                <a:lnTo>
                  <a:pt x="468" y="146"/>
                </a:lnTo>
                <a:lnTo>
                  <a:pt x="468" y="153"/>
                </a:lnTo>
                <a:lnTo>
                  <a:pt x="466" y="161"/>
                </a:lnTo>
                <a:lnTo>
                  <a:pt x="464" y="171"/>
                </a:lnTo>
                <a:lnTo>
                  <a:pt x="461" y="180"/>
                </a:lnTo>
                <a:lnTo>
                  <a:pt x="459" y="192"/>
                </a:lnTo>
                <a:lnTo>
                  <a:pt x="453" y="201"/>
                </a:lnTo>
                <a:lnTo>
                  <a:pt x="449" y="213"/>
                </a:lnTo>
                <a:lnTo>
                  <a:pt x="443" y="226"/>
                </a:lnTo>
                <a:lnTo>
                  <a:pt x="438" y="238"/>
                </a:lnTo>
                <a:lnTo>
                  <a:pt x="430" y="251"/>
                </a:lnTo>
                <a:lnTo>
                  <a:pt x="422" y="265"/>
                </a:lnTo>
                <a:lnTo>
                  <a:pt x="415" y="280"/>
                </a:lnTo>
                <a:lnTo>
                  <a:pt x="407" y="295"/>
                </a:lnTo>
                <a:lnTo>
                  <a:pt x="397" y="311"/>
                </a:lnTo>
                <a:lnTo>
                  <a:pt x="388" y="328"/>
                </a:lnTo>
                <a:lnTo>
                  <a:pt x="376" y="345"/>
                </a:lnTo>
                <a:lnTo>
                  <a:pt x="363" y="366"/>
                </a:lnTo>
                <a:lnTo>
                  <a:pt x="349" y="387"/>
                </a:lnTo>
                <a:lnTo>
                  <a:pt x="334" y="409"/>
                </a:lnTo>
                <a:lnTo>
                  <a:pt x="319" y="430"/>
                </a:lnTo>
                <a:lnTo>
                  <a:pt x="301" y="453"/>
                </a:lnTo>
                <a:lnTo>
                  <a:pt x="284" y="476"/>
                </a:lnTo>
                <a:lnTo>
                  <a:pt x="267" y="499"/>
                </a:lnTo>
                <a:lnTo>
                  <a:pt x="246" y="524"/>
                </a:lnTo>
                <a:lnTo>
                  <a:pt x="226" y="547"/>
                </a:lnTo>
                <a:lnTo>
                  <a:pt x="205" y="572"/>
                </a:lnTo>
                <a:lnTo>
                  <a:pt x="182" y="599"/>
                </a:lnTo>
                <a:lnTo>
                  <a:pt x="159" y="624"/>
                </a:lnTo>
                <a:lnTo>
                  <a:pt x="136" y="650"/>
                </a:lnTo>
                <a:lnTo>
                  <a:pt x="109" y="677"/>
                </a:lnTo>
                <a:lnTo>
                  <a:pt x="84" y="704"/>
                </a:lnTo>
                <a:lnTo>
                  <a:pt x="57" y="731"/>
                </a:lnTo>
                <a:lnTo>
                  <a:pt x="29" y="718"/>
                </a:lnTo>
                <a:lnTo>
                  <a:pt x="0" y="704"/>
                </a:lnTo>
                <a:lnTo>
                  <a:pt x="13" y="679"/>
                </a:lnTo>
                <a:lnTo>
                  <a:pt x="27" y="656"/>
                </a:lnTo>
                <a:lnTo>
                  <a:pt x="38" y="633"/>
                </a:lnTo>
                <a:lnTo>
                  <a:pt x="52" y="610"/>
                </a:lnTo>
                <a:lnTo>
                  <a:pt x="63" y="587"/>
                </a:lnTo>
                <a:lnTo>
                  <a:pt x="75" y="566"/>
                </a:lnTo>
                <a:lnTo>
                  <a:pt x="86" y="545"/>
                </a:lnTo>
                <a:lnTo>
                  <a:pt x="98" y="524"/>
                </a:lnTo>
                <a:lnTo>
                  <a:pt x="107" y="505"/>
                </a:lnTo>
                <a:lnTo>
                  <a:pt x="119" y="485"/>
                </a:lnTo>
                <a:lnTo>
                  <a:pt x="129" y="466"/>
                </a:lnTo>
                <a:lnTo>
                  <a:pt x="138" y="449"/>
                </a:lnTo>
                <a:lnTo>
                  <a:pt x="146" y="432"/>
                </a:lnTo>
                <a:lnTo>
                  <a:pt x="155" y="414"/>
                </a:lnTo>
                <a:lnTo>
                  <a:pt x="163" y="399"/>
                </a:lnTo>
                <a:lnTo>
                  <a:pt x="171" y="384"/>
                </a:lnTo>
                <a:lnTo>
                  <a:pt x="178" y="368"/>
                </a:lnTo>
                <a:lnTo>
                  <a:pt x="186" y="353"/>
                </a:lnTo>
                <a:lnTo>
                  <a:pt x="194" y="339"/>
                </a:lnTo>
                <a:lnTo>
                  <a:pt x="200" y="326"/>
                </a:lnTo>
                <a:lnTo>
                  <a:pt x="205" y="315"/>
                </a:lnTo>
                <a:lnTo>
                  <a:pt x="213" y="301"/>
                </a:lnTo>
                <a:lnTo>
                  <a:pt x="217" y="290"/>
                </a:lnTo>
                <a:lnTo>
                  <a:pt x="223" y="280"/>
                </a:lnTo>
                <a:lnTo>
                  <a:pt x="228" y="268"/>
                </a:lnTo>
                <a:lnTo>
                  <a:pt x="232" y="259"/>
                </a:lnTo>
                <a:lnTo>
                  <a:pt x="236" y="249"/>
                </a:lnTo>
                <a:lnTo>
                  <a:pt x="240" y="242"/>
                </a:lnTo>
                <a:lnTo>
                  <a:pt x="244" y="234"/>
                </a:lnTo>
                <a:lnTo>
                  <a:pt x="246" y="226"/>
                </a:lnTo>
                <a:lnTo>
                  <a:pt x="249" y="219"/>
                </a:lnTo>
                <a:lnTo>
                  <a:pt x="251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1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左边的“土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末笔变提。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07"/>
          <p:cNvSpPr/>
          <p:nvPr/>
        </p:nvSpPr>
        <p:spPr>
          <a:xfrm>
            <a:off x="7026120" y="2962440"/>
            <a:ext cx="373320" cy="249120"/>
          </a:xfrm>
          <a:custGeom>
            <a:avLst/>
            <a:gdLst/>
            <a:ahLst/>
            <a:rect l="l" t="t" r="r" b="b"/>
            <a:pathLst>
              <a:path w="471" h="313">
                <a:moveTo>
                  <a:pt x="75" y="17"/>
                </a:moveTo>
                <a:lnTo>
                  <a:pt x="98" y="11"/>
                </a:lnTo>
                <a:lnTo>
                  <a:pt x="119" y="7"/>
                </a:lnTo>
                <a:lnTo>
                  <a:pt x="138" y="3"/>
                </a:lnTo>
                <a:lnTo>
                  <a:pt x="160" y="2"/>
                </a:lnTo>
                <a:lnTo>
                  <a:pt x="179" y="0"/>
                </a:lnTo>
                <a:lnTo>
                  <a:pt x="200" y="0"/>
                </a:lnTo>
                <a:lnTo>
                  <a:pt x="211" y="0"/>
                </a:lnTo>
                <a:lnTo>
                  <a:pt x="221" y="0"/>
                </a:lnTo>
                <a:lnTo>
                  <a:pt x="233" y="2"/>
                </a:lnTo>
                <a:lnTo>
                  <a:pt x="244" y="3"/>
                </a:lnTo>
                <a:lnTo>
                  <a:pt x="265" y="9"/>
                </a:lnTo>
                <a:lnTo>
                  <a:pt x="286" y="15"/>
                </a:lnTo>
                <a:lnTo>
                  <a:pt x="305" y="23"/>
                </a:lnTo>
                <a:lnTo>
                  <a:pt x="325" y="32"/>
                </a:lnTo>
                <a:lnTo>
                  <a:pt x="344" y="42"/>
                </a:lnTo>
                <a:lnTo>
                  <a:pt x="363" y="51"/>
                </a:lnTo>
                <a:lnTo>
                  <a:pt x="380" y="65"/>
                </a:lnTo>
                <a:lnTo>
                  <a:pt x="398" y="78"/>
                </a:lnTo>
                <a:lnTo>
                  <a:pt x="407" y="84"/>
                </a:lnTo>
                <a:lnTo>
                  <a:pt x="415" y="92"/>
                </a:lnTo>
                <a:lnTo>
                  <a:pt x="423" y="98"/>
                </a:lnTo>
                <a:lnTo>
                  <a:pt x="430" y="105"/>
                </a:lnTo>
                <a:lnTo>
                  <a:pt x="436" y="113"/>
                </a:lnTo>
                <a:lnTo>
                  <a:pt x="442" y="121"/>
                </a:lnTo>
                <a:lnTo>
                  <a:pt x="447" y="128"/>
                </a:lnTo>
                <a:lnTo>
                  <a:pt x="451" y="136"/>
                </a:lnTo>
                <a:lnTo>
                  <a:pt x="455" y="144"/>
                </a:lnTo>
                <a:lnTo>
                  <a:pt x="459" y="151"/>
                </a:lnTo>
                <a:lnTo>
                  <a:pt x="463" y="161"/>
                </a:lnTo>
                <a:lnTo>
                  <a:pt x="465" y="170"/>
                </a:lnTo>
                <a:lnTo>
                  <a:pt x="467" y="180"/>
                </a:lnTo>
                <a:lnTo>
                  <a:pt x="469" y="190"/>
                </a:lnTo>
                <a:lnTo>
                  <a:pt x="469" y="199"/>
                </a:lnTo>
                <a:lnTo>
                  <a:pt x="471" y="211"/>
                </a:lnTo>
                <a:lnTo>
                  <a:pt x="467" y="222"/>
                </a:lnTo>
                <a:lnTo>
                  <a:pt x="465" y="232"/>
                </a:lnTo>
                <a:lnTo>
                  <a:pt x="463" y="242"/>
                </a:lnTo>
                <a:lnTo>
                  <a:pt x="461" y="251"/>
                </a:lnTo>
                <a:lnTo>
                  <a:pt x="459" y="259"/>
                </a:lnTo>
                <a:lnTo>
                  <a:pt x="457" y="266"/>
                </a:lnTo>
                <a:lnTo>
                  <a:pt x="453" y="272"/>
                </a:lnTo>
                <a:lnTo>
                  <a:pt x="451" y="278"/>
                </a:lnTo>
                <a:lnTo>
                  <a:pt x="449" y="284"/>
                </a:lnTo>
                <a:lnTo>
                  <a:pt x="447" y="290"/>
                </a:lnTo>
                <a:lnTo>
                  <a:pt x="446" y="293"/>
                </a:lnTo>
                <a:lnTo>
                  <a:pt x="444" y="297"/>
                </a:lnTo>
                <a:lnTo>
                  <a:pt x="438" y="303"/>
                </a:lnTo>
                <a:lnTo>
                  <a:pt x="434" y="309"/>
                </a:lnTo>
                <a:lnTo>
                  <a:pt x="432" y="311"/>
                </a:lnTo>
                <a:lnTo>
                  <a:pt x="428" y="313"/>
                </a:lnTo>
                <a:lnTo>
                  <a:pt x="424" y="313"/>
                </a:lnTo>
                <a:lnTo>
                  <a:pt x="419" y="311"/>
                </a:lnTo>
                <a:lnTo>
                  <a:pt x="413" y="311"/>
                </a:lnTo>
                <a:lnTo>
                  <a:pt x="405" y="309"/>
                </a:lnTo>
                <a:lnTo>
                  <a:pt x="399" y="305"/>
                </a:lnTo>
                <a:lnTo>
                  <a:pt x="390" y="301"/>
                </a:lnTo>
                <a:lnTo>
                  <a:pt x="382" y="297"/>
                </a:lnTo>
                <a:lnTo>
                  <a:pt x="373" y="291"/>
                </a:lnTo>
                <a:lnTo>
                  <a:pt x="363" y="286"/>
                </a:lnTo>
                <a:lnTo>
                  <a:pt x="352" y="280"/>
                </a:lnTo>
                <a:lnTo>
                  <a:pt x="340" y="272"/>
                </a:lnTo>
                <a:lnTo>
                  <a:pt x="328" y="265"/>
                </a:lnTo>
                <a:lnTo>
                  <a:pt x="315" y="257"/>
                </a:lnTo>
                <a:lnTo>
                  <a:pt x="304" y="247"/>
                </a:lnTo>
                <a:lnTo>
                  <a:pt x="277" y="234"/>
                </a:lnTo>
                <a:lnTo>
                  <a:pt x="250" y="218"/>
                </a:lnTo>
                <a:lnTo>
                  <a:pt x="223" y="203"/>
                </a:lnTo>
                <a:lnTo>
                  <a:pt x="196" y="188"/>
                </a:lnTo>
                <a:lnTo>
                  <a:pt x="171" y="170"/>
                </a:lnTo>
                <a:lnTo>
                  <a:pt x="146" y="155"/>
                </a:lnTo>
                <a:lnTo>
                  <a:pt x="123" y="140"/>
                </a:lnTo>
                <a:lnTo>
                  <a:pt x="100" y="126"/>
                </a:lnTo>
                <a:lnTo>
                  <a:pt x="89" y="119"/>
                </a:lnTo>
                <a:lnTo>
                  <a:pt x="79" y="113"/>
                </a:lnTo>
                <a:lnTo>
                  <a:pt x="69" y="107"/>
                </a:lnTo>
                <a:lnTo>
                  <a:pt x="60" y="101"/>
                </a:lnTo>
                <a:lnTo>
                  <a:pt x="50" y="96"/>
                </a:lnTo>
                <a:lnTo>
                  <a:pt x="42" y="90"/>
                </a:lnTo>
                <a:lnTo>
                  <a:pt x="37" y="84"/>
                </a:lnTo>
                <a:lnTo>
                  <a:pt x="29" y="80"/>
                </a:lnTo>
                <a:lnTo>
                  <a:pt x="23" y="76"/>
                </a:lnTo>
                <a:lnTo>
                  <a:pt x="19" y="71"/>
                </a:lnTo>
                <a:lnTo>
                  <a:pt x="14" y="67"/>
                </a:lnTo>
                <a:lnTo>
                  <a:pt x="10" y="65"/>
                </a:lnTo>
                <a:lnTo>
                  <a:pt x="8" y="61"/>
                </a:lnTo>
                <a:lnTo>
                  <a:pt x="6" y="57"/>
                </a:lnTo>
                <a:lnTo>
                  <a:pt x="4" y="55"/>
                </a:lnTo>
                <a:lnTo>
                  <a:pt x="4" y="53"/>
                </a:lnTo>
                <a:lnTo>
                  <a:pt x="2" y="51"/>
                </a:lnTo>
                <a:lnTo>
                  <a:pt x="2" y="48"/>
                </a:lnTo>
                <a:lnTo>
                  <a:pt x="0" y="46"/>
                </a:lnTo>
                <a:lnTo>
                  <a:pt x="2" y="44"/>
                </a:lnTo>
                <a:lnTo>
                  <a:pt x="4" y="42"/>
                </a:lnTo>
                <a:lnTo>
                  <a:pt x="6" y="40"/>
                </a:lnTo>
                <a:lnTo>
                  <a:pt x="10" y="36"/>
                </a:lnTo>
                <a:lnTo>
                  <a:pt x="14" y="34"/>
                </a:lnTo>
                <a:lnTo>
                  <a:pt x="18" y="32"/>
                </a:lnTo>
                <a:lnTo>
                  <a:pt x="23" y="30"/>
                </a:lnTo>
                <a:lnTo>
                  <a:pt x="31" y="28"/>
                </a:lnTo>
                <a:lnTo>
                  <a:pt x="37" y="27"/>
                </a:lnTo>
                <a:lnTo>
                  <a:pt x="46" y="23"/>
                </a:lnTo>
                <a:lnTo>
                  <a:pt x="56" y="21"/>
                </a:lnTo>
                <a:lnTo>
                  <a:pt x="66" y="19"/>
                </a:lnTo>
                <a:lnTo>
                  <a:pt x="75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08"/>
          <p:cNvSpPr/>
          <p:nvPr/>
        </p:nvSpPr>
        <p:spPr>
          <a:xfrm>
            <a:off x="6413400" y="3373560"/>
            <a:ext cx="965160" cy="261720"/>
          </a:xfrm>
          <a:custGeom>
            <a:avLst/>
            <a:gdLst/>
            <a:ahLst/>
            <a:rect l="l" t="t" r="r" b="b"/>
            <a:pathLst>
              <a:path w="1217" h="330">
                <a:moveTo>
                  <a:pt x="512" y="134"/>
                </a:moveTo>
                <a:lnTo>
                  <a:pt x="543" y="127"/>
                </a:lnTo>
                <a:lnTo>
                  <a:pt x="572" y="119"/>
                </a:lnTo>
                <a:lnTo>
                  <a:pt x="599" y="111"/>
                </a:lnTo>
                <a:lnTo>
                  <a:pt x="627" y="104"/>
                </a:lnTo>
                <a:lnTo>
                  <a:pt x="652" y="96"/>
                </a:lnTo>
                <a:lnTo>
                  <a:pt x="679" y="90"/>
                </a:lnTo>
                <a:lnTo>
                  <a:pt x="704" y="83"/>
                </a:lnTo>
                <a:lnTo>
                  <a:pt x="727" y="77"/>
                </a:lnTo>
                <a:lnTo>
                  <a:pt x="750" y="71"/>
                </a:lnTo>
                <a:lnTo>
                  <a:pt x="773" y="65"/>
                </a:lnTo>
                <a:lnTo>
                  <a:pt x="794" y="60"/>
                </a:lnTo>
                <a:lnTo>
                  <a:pt x="815" y="54"/>
                </a:lnTo>
                <a:lnTo>
                  <a:pt x="835" y="48"/>
                </a:lnTo>
                <a:lnTo>
                  <a:pt x="854" y="44"/>
                </a:lnTo>
                <a:lnTo>
                  <a:pt x="873" y="38"/>
                </a:lnTo>
                <a:lnTo>
                  <a:pt x="890" y="35"/>
                </a:lnTo>
                <a:lnTo>
                  <a:pt x="908" y="31"/>
                </a:lnTo>
                <a:lnTo>
                  <a:pt x="923" y="27"/>
                </a:lnTo>
                <a:lnTo>
                  <a:pt x="938" y="23"/>
                </a:lnTo>
                <a:lnTo>
                  <a:pt x="952" y="19"/>
                </a:lnTo>
                <a:lnTo>
                  <a:pt x="965" y="17"/>
                </a:lnTo>
                <a:lnTo>
                  <a:pt x="979" y="13"/>
                </a:lnTo>
                <a:lnTo>
                  <a:pt x="990" y="12"/>
                </a:lnTo>
                <a:lnTo>
                  <a:pt x="1002" y="10"/>
                </a:lnTo>
                <a:lnTo>
                  <a:pt x="1011" y="8"/>
                </a:lnTo>
                <a:lnTo>
                  <a:pt x="1021" y="6"/>
                </a:lnTo>
                <a:lnTo>
                  <a:pt x="1030" y="4"/>
                </a:lnTo>
                <a:lnTo>
                  <a:pt x="1038" y="2"/>
                </a:lnTo>
                <a:lnTo>
                  <a:pt x="1044" y="2"/>
                </a:lnTo>
                <a:lnTo>
                  <a:pt x="1051" y="0"/>
                </a:lnTo>
                <a:lnTo>
                  <a:pt x="1057" y="0"/>
                </a:lnTo>
                <a:lnTo>
                  <a:pt x="1061" y="0"/>
                </a:lnTo>
                <a:lnTo>
                  <a:pt x="1088" y="0"/>
                </a:lnTo>
                <a:lnTo>
                  <a:pt x="1101" y="0"/>
                </a:lnTo>
                <a:lnTo>
                  <a:pt x="1115" y="2"/>
                </a:lnTo>
                <a:lnTo>
                  <a:pt x="1128" y="4"/>
                </a:lnTo>
                <a:lnTo>
                  <a:pt x="1142" y="6"/>
                </a:lnTo>
                <a:lnTo>
                  <a:pt x="1155" y="8"/>
                </a:lnTo>
                <a:lnTo>
                  <a:pt x="1169" y="13"/>
                </a:lnTo>
                <a:lnTo>
                  <a:pt x="1176" y="15"/>
                </a:lnTo>
                <a:lnTo>
                  <a:pt x="1182" y="17"/>
                </a:lnTo>
                <a:lnTo>
                  <a:pt x="1186" y="19"/>
                </a:lnTo>
                <a:lnTo>
                  <a:pt x="1192" y="21"/>
                </a:lnTo>
                <a:lnTo>
                  <a:pt x="1199" y="27"/>
                </a:lnTo>
                <a:lnTo>
                  <a:pt x="1207" y="31"/>
                </a:lnTo>
                <a:lnTo>
                  <a:pt x="1211" y="35"/>
                </a:lnTo>
                <a:lnTo>
                  <a:pt x="1215" y="40"/>
                </a:lnTo>
                <a:lnTo>
                  <a:pt x="1217" y="44"/>
                </a:lnTo>
                <a:lnTo>
                  <a:pt x="1217" y="50"/>
                </a:lnTo>
                <a:lnTo>
                  <a:pt x="1217" y="54"/>
                </a:lnTo>
                <a:lnTo>
                  <a:pt x="1215" y="58"/>
                </a:lnTo>
                <a:lnTo>
                  <a:pt x="1213" y="63"/>
                </a:lnTo>
                <a:lnTo>
                  <a:pt x="1209" y="69"/>
                </a:lnTo>
                <a:lnTo>
                  <a:pt x="1205" y="75"/>
                </a:lnTo>
                <a:lnTo>
                  <a:pt x="1201" y="83"/>
                </a:lnTo>
                <a:lnTo>
                  <a:pt x="1197" y="90"/>
                </a:lnTo>
                <a:lnTo>
                  <a:pt x="1194" y="98"/>
                </a:lnTo>
                <a:lnTo>
                  <a:pt x="1190" y="100"/>
                </a:lnTo>
                <a:lnTo>
                  <a:pt x="1188" y="104"/>
                </a:lnTo>
                <a:lnTo>
                  <a:pt x="1184" y="106"/>
                </a:lnTo>
                <a:lnTo>
                  <a:pt x="1178" y="107"/>
                </a:lnTo>
                <a:lnTo>
                  <a:pt x="1172" y="111"/>
                </a:lnTo>
                <a:lnTo>
                  <a:pt x="1167" y="113"/>
                </a:lnTo>
                <a:lnTo>
                  <a:pt x="1159" y="117"/>
                </a:lnTo>
                <a:lnTo>
                  <a:pt x="1151" y="121"/>
                </a:lnTo>
                <a:lnTo>
                  <a:pt x="1142" y="123"/>
                </a:lnTo>
                <a:lnTo>
                  <a:pt x="1132" y="127"/>
                </a:lnTo>
                <a:lnTo>
                  <a:pt x="1123" y="131"/>
                </a:lnTo>
                <a:lnTo>
                  <a:pt x="1111" y="134"/>
                </a:lnTo>
                <a:lnTo>
                  <a:pt x="1099" y="138"/>
                </a:lnTo>
                <a:lnTo>
                  <a:pt x="1088" y="142"/>
                </a:lnTo>
                <a:lnTo>
                  <a:pt x="1075" y="146"/>
                </a:lnTo>
                <a:lnTo>
                  <a:pt x="1061" y="150"/>
                </a:lnTo>
                <a:lnTo>
                  <a:pt x="1046" y="155"/>
                </a:lnTo>
                <a:lnTo>
                  <a:pt x="1030" y="159"/>
                </a:lnTo>
                <a:lnTo>
                  <a:pt x="1013" y="163"/>
                </a:lnTo>
                <a:lnTo>
                  <a:pt x="998" y="169"/>
                </a:lnTo>
                <a:lnTo>
                  <a:pt x="980" y="173"/>
                </a:lnTo>
                <a:lnTo>
                  <a:pt x="961" y="179"/>
                </a:lnTo>
                <a:lnTo>
                  <a:pt x="942" y="182"/>
                </a:lnTo>
                <a:lnTo>
                  <a:pt x="923" y="188"/>
                </a:lnTo>
                <a:lnTo>
                  <a:pt x="902" y="194"/>
                </a:lnTo>
                <a:lnTo>
                  <a:pt x="881" y="198"/>
                </a:lnTo>
                <a:lnTo>
                  <a:pt x="860" y="203"/>
                </a:lnTo>
                <a:lnTo>
                  <a:pt x="837" y="209"/>
                </a:lnTo>
                <a:lnTo>
                  <a:pt x="813" y="215"/>
                </a:lnTo>
                <a:lnTo>
                  <a:pt x="789" y="221"/>
                </a:lnTo>
                <a:lnTo>
                  <a:pt x="764" y="227"/>
                </a:lnTo>
                <a:lnTo>
                  <a:pt x="739" y="232"/>
                </a:lnTo>
                <a:lnTo>
                  <a:pt x="714" y="238"/>
                </a:lnTo>
                <a:lnTo>
                  <a:pt x="689" y="244"/>
                </a:lnTo>
                <a:lnTo>
                  <a:pt x="664" y="248"/>
                </a:lnTo>
                <a:lnTo>
                  <a:pt x="641" y="253"/>
                </a:lnTo>
                <a:lnTo>
                  <a:pt x="618" y="259"/>
                </a:lnTo>
                <a:lnTo>
                  <a:pt x="595" y="263"/>
                </a:lnTo>
                <a:lnTo>
                  <a:pt x="574" y="269"/>
                </a:lnTo>
                <a:lnTo>
                  <a:pt x="552" y="273"/>
                </a:lnTo>
                <a:lnTo>
                  <a:pt x="531" y="278"/>
                </a:lnTo>
                <a:lnTo>
                  <a:pt x="510" y="282"/>
                </a:lnTo>
                <a:lnTo>
                  <a:pt x="491" y="286"/>
                </a:lnTo>
                <a:lnTo>
                  <a:pt x="472" y="290"/>
                </a:lnTo>
                <a:lnTo>
                  <a:pt x="453" y="294"/>
                </a:lnTo>
                <a:lnTo>
                  <a:pt x="435" y="298"/>
                </a:lnTo>
                <a:lnTo>
                  <a:pt x="418" y="301"/>
                </a:lnTo>
                <a:lnTo>
                  <a:pt x="401" y="303"/>
                </a:lnTo>
                <a:lnTo>
                  <a:pt x="385" y="307"/>
                </a:lnTo>
                <a:lnTo>
                  <a:pt x="368" y="309"/>
                </a:lnTo>
                <a:lnTo>
                  <a:pt x="355" y="313"/>
                </a:lnTo>
                <a:lnTo>
                  <a:pt x="339" y="315"/>
                </a:lnTo>
                <a:lnTo>
                  <a:pt x="326" y="317"/>
                </a:lnTo>
                <a:lnTo>
                  <a:pt x="313" y="319"/>
                </a:lnTo>
                <a:lnTo>
                  <a:pt x="299" y="321"/>
                </a:lnTo>
                <a:lnTo>
                  <a:pt x="288" y="322"/>
                </a:lnTo>
                <a:lnTo>
                  <a:pt x="276" y="324"/>
                </a:lnTo>
                <a:lnTo>
                  <a:pt x="266" y="326"/>
                </a:lnTo>
                <a:lnTo>
                  <a:pt x="255" y="326"/>
                </a:lnTo>
                <a:lnTo>
                  <a:pt x="245" y="328"/>
                </a:lnTo>
                <a:lnTo>
                  <a:pt x="238" y="328"/>
                </a:lnTo>
                <a:lnTo>
                  <a:pt x="228" y="328"/>
                </a:lnTo>
                <a:lnTo>
                  <a:pt x="220" y="328"/>
                </a:lnTo>
                <a:lnTo>
                  <a:pt x="215" y="330"/>
                </a:lnTo>
                <a:lnTo>
                  <a:pt x="188" y="328"/>
                </a:lnTo>
                <a:lnTo>
                  <a:pt x="163" y="326"/>
                </a:lnTo>
                <a:lnTo>
                  <a:pt x="140" y="324"/>
                </a:lnTo>
                <a:lnTo>
                  <a:pt x="117" y="321"/>
                </a:lnTo>
                <a:lnTo>
                  <a:pt x="96" y="315"/>
                </a:lnTo>
                <a:lnTo>
                  <a:pt x="88" y="313"/>
                </a:lnTo>
                <a:lnTo>
                  <a:pt x="78" y="309"/>
                </a:lnTo>
                <a:lnTo>
                  <a:pt x="69" y="305"/>
                </a:lnTo>
                <a:lnTo>
                  <a:pt x="61" y="301"/>
                </a:lnTo>
                <a:lnTo>
                  <a:pt x="53" y="298"/>
                </a:lnTo>
                <a:lnTo>
                  <a:pt x="48" y="294"/>
                </a:lnTo>
                <a:lnTo>
                  <a:pt x="38" y="288"/>
                </a:lnTo>
                <a:lnTo>
                  <a:pt x="30" y="284"/>
                </a:lnTo>
                <a:lnTo>
                  <a:pt x="25" y="280"/>
                </a:lnTo>
                <a:lnTo>
                  <a:pt x="17" y="276"/>
                </a:lnTo>
                <a:lnTo>
                  <a:pt x="13" y="273"/>
                </a:lnTo>
                <a:lnTo>
                  <a:pt x="7" y="271"/>
                </a:lnTo>
                <a:lnTo>
                  <a:pt x="5" y="267"/>
                </a:lnTo>
                <a:lnTo>
                  <a:pt x="2" y="265"/>
                </a:lnTo>
                <a:lnTo>
                  <a:pt x="0" y="263"/>
                </a:lnTo>
                <a:lnTo>
                  <a:pt x="0" y="261"/>
                </a:lnTo>
                <a:lnTo>
                  <a:pt x="0" y="259"/>
                </a:lnTo>
                <a:lnTo>
                  <a:pt x="2" y="257"/>
                </a:lnTo>
                <a:lnTo>
                  <a:pt x="3" y="257"/>
                </a:lnTo>
                <a:lnTo>
                  <a:pt x="7" y="257"/>
                </a:lnTo>
                <a:lnTo>
                  <a:pt x="11" y="257"/>
                </a:lnTo>
                <a:lnTo>
                  <a:pt x="13" y="255"/>
                </a:lnTo>
                <a:lnTo>
                  <a:pt x="15" y="255"/>
                </a:lnTo>
                <a:lnTo>
                  <a:pt x="19" y="255"/>
                </a:lnTo>
                <a:lnTo>
                  <a:pt x="23" y="255"/>
                </a:lnTo>
                <a:lnTo>
                  <a:pt x="28" y="253"/>
                </a:lnTo>
                <a:lnTo>
                  <a:pt x="34" y="253"/>
                </a:lnTo>
                <a:lnTo>
                  <a:pt x="42" y="251"/>
                </a:lnTo>
                <a:lnTo>
                  <a:pt x="50" y="250"/>
                </a:lnTo>
                <a:lnTo>
                  <a:pt x="59" y="248"/>
                </a:lnTo>
                <a:lnTo>
                  <a:pt x="69" y="246"/>
                </a:lnTo>
                <a:lnTo>
                  <a:pt x="78" y="244"/>
                </a:lnTo>
                <a:lnTo>
                  <a:pt x="90" y="240"/>
                </a:lnTo>
                <a:lnTo>
                  <a:pt x="103" y="238"/>
                </a:lnTo>
                <a:lnTo>
                  <a:pt x="117" y="234"/>
                </a:lnTo>
                <a:lnTo>
                  <a:pt x="130" y="232"/>
                </a:lnTo>
                <a:lnTo>
                  <a:pt x="146" y="228"/>
                </a:lnTo>
                <a:lnTo>
                  <a:pt x="161" y="225"/>
                </a:lnTo>
                <a:lnTo>
                  <a:pt x="178" y="221"/>
                </a:lnTo>
                <a:lnTo>
                  <a:pt x="197" y="215"/>
                </a:lnTo>
                <a:lnTo>
                  <a:pt x="217" y="211"/>
                </a:lnTo>
                <a:lnTo>
                  <a:pt x="236" y="205"/>
                </a:lnTo>
                <a:lnTo>
                  <a:pt x="257" y="202"/>
                </a:lnTo>
                <a:lnTo>
                  <a:pt x="278" y="196"/>
                </a:lnTo>
                <a:lnTo>
                  <a:pt x="301" y="190"/>
                </a:lnTo>
                <a:lnTo>
                  <a:pt x="324" y="184"/>
                </a:lnTo>
                <a:lnTo>
                  <a:pt x="347" y="179"/>
                </a:lnTo>
                <a:lnTo>
                  <a:pt x="374" y="171"/>
                </a:lnTo>
                <a:lnTo>
                  <a:pt x="399" y="165"/>
                </a:lnTo>
                <a:lnTo>
                  <a:pt x="426" y="157"/>
                </a:lnTo>
                <a:lnTo>
                  <a:pt x="455" y="150"/>
                </a:lnTo>
                <a:lnTo>
                  <a:pt x="483" y="142"/>
                </a:lnTo>
                <a:lnTo>
                  <a:pt x="512" y="1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09"/>
          <p:cNvSpPr/>
          <p:nvPr/>
        </p:nvSpPr>
        <p:spPr>
          <a:xfrm>
            <a:off x="6637320" y="2759040"/>
            <a:ext cx="1146240" cy="2273400"/>
          </a:xfrm>
          <a:custGeom>
            <a:avLst/>
            <a:gdLst/>
            <a:ahLst/>
            <a:rect l="l" t="t" r="r" b="b"/>
            <a:pathLst>
              <a:path w="1443" h="2864">
                <a:moveTo>
                  <a:pt x="303" y="396"/>
                </a:moveTo>
                <a:lnTo>
                  <a:pt x="305" y="409"/>
                </a:lnTo>
                <a:lnTo>
                  <a:pt x="307" y="423"/>
                </a:lnTo>
                <a:lnTo>
                  <a:pt x="309" y="436"/>
                </a:lnTo>
                <a:lnTo>
                  <a:pt x="313" y="450"/>
                </a:lnTo>
                <a:lnTo>
                  <a:pt x="315" y="465"/>
                </a:lnTo>
                <a:lnTo>
                  <a:pt x="318" y="480"/>
                </a:lnTo>
                <a:lnTo>
                  <a:pt x="324" y="513"/>
                </a:lnTo>
                <a:lnTo>
                  <a:pt x="332" y="546"/>
                </a:lnTo>
                <a:lnTo>
                  <a:pt x="340" y="582"/>
                </a:lnTo>
                <a:lnTo>
                  <a:pt x="347" y="619"/>
                </a:lnTo>
                <a:lnTo>
                  <a:pt x="357" y="659"/>
                </a:lnTo>
                <a:lnTo>
                  <a:pt x="366" y="699"/>
                </a:lnTo>
                <a:lnTo>
                  <a:pt x="376" y="741"/>
                </a:lnTo>
                <a:lnTo>
                  <a:pt x="386" y="786"/>
                </a:lnTo>
                <a:lnTo>
                  <a:pt x="397" y="832"/>
                </a:lnTo>
                <a:lnTo>
                  <a:pt x="409" y="880"/>
                </a:lnTo>
                <a:lnTo>
                  <a:pt x="420" y="928"/>
                </a:lnTo>
                <a:lnTo>
                  <a:pt x="434" y="977"/>
                </a:lnTo>
                <a:lnTo>
                  <a:pt x="445" y="1031"/>
                </a:lnTo>
                <a:lnTo>
                  <a:pt x="459" y="1083"/>
                </a:lnTo>
                <a:lnTo>
                  <a:pt x="474" y="1135"/>
                </a:lnTo>
                <a:lnTo>
                  <a:pt x="487" y="1187"/>
                </a:lnTo>
                <a:lnTo>
                  <a:pt x="503" y="1239"/>
                </a:lnTo>
                <a:lnTo>
                  <a:pt x="520" y="1288"/>
                </a:lnTo>
                <a:lnTo>
                  <a:pt x="535" y="1340"/>
                </a:lnTo>
                <a:lnTo>
                  <a:pt x="553" y="1390"/>
                </a:lnTo>
                <a:lnTo>
                  <a:pt x="570" y="1440"/>
                </a:lnTo>
                <a:lnTo>
                  <a:pt x="604" y="1538"/>
                </a:lnTo>
                <a:lnTo>
                  <a:pt x="643" y="1636"/>
                </a:lnTo>
                <a:lnTo>
                  <a:pt x="662" y="1682"/>
                </a:lnTo>
                <a:lnTo>
                  <a:pt x="681" y="1730"/>
                </a:lnTo>
                <a:lnTo>
                  <a:pt x="700" y="1776"/>
                </a:lnTo>
                <a:lnTo>
                  <a:pt x="720" y="1822"/>
                </a:lnTo>
                <a:lnTo>
                  <a:pt x="729" y="1847"/>
                </a:lnTo>
                <a:lnTo>
                  <a:pt x="741" y="1870"/>
                </a:lnTo>
                <a:lnTo>
                  <a:pt x="750" y="1893"/>
                </a:lnTo>
                <a:lnTo>
                  <a:pt x="760" y="1914"/>
                </a:lnTo>
                <a:lnTo>
                  <a:pt x="769" y="1937"/>
                </a:lnTo>
                <a:lnTo>
                  <a:pt x="779" y="1958"/>
                </a:lnTo>
                <a:lnTo>
                  <a:pt x="789" y="1979"/>
                </a:lnTo>
                <a:lnTo>
                  <a:pt x="798" y="1999"/>
                </a:lnTo>
                <a:lnTo>
                  <a:pt x="817" y="2039"/>
                </a:lnTo>
                <a:lnTo>
                  <a:pt x="837" y="2075"/>
                </a:lnTo>
                <a:lnTo>
                  <a:pt x="854" y="2112"/>
                </a:lnTo>
                <a:lnTo>
                  <a:pt x="873" y="2146"/>
                </a:lnTo>
                <a:lnTo>
                  <a:pt x="892" y="2177"/>
                </a:lnTo>
                <a:lnTo>
                  <a:pt x="910" y="2208"/>
                </a:lnTo>
                <a:lnTo>
                  <a:pt x="929" y="2237"/>
                </a:lnTo>
                <a:lnTo>
                  <a:pt x="946" y="2265"/>
                </a:lnTo>
                <a:lnTo>
                  <a:pt x="965" y="2290"/>
                </a:lnTo>
                <a:lnTo>
                  <a:pt x="983" y="2315"/>
                </a:lnTo>
                <a:lnTo>
                  <a:pt x="1002" y="2338"/>
                </a:lnTo>
                <a:lnTo>
                  <a:pt x="1019" y="2360"/>
                </a:lnTo>
                <a:lnTo>
                  <a:pt x="1036" y="2379"/>
                </a:lnTo>
                <a:lnTo>
                  <a:pt x="1052" y="2398"/>
                </a:lnTo>
                <a:lnTo>
                  <a:pt x="1069" y="2415"/>
                </a:lnTo>
                <a:lnTo>
                  <a:pt x="1082" y="2431"/>
                </a:lnTo>
                <a:lnTo>
                  <a:pt x="1098" y="2444"/>
                </a:lnTo>
                <a:lnTo>
                  <a:pt x="1111" y="2457"/>
                </a:lnTo>
                <a:lnTo>
                  <a:pt x="1123" y="2469"/>
                </a:lnTo>
                <a:lnTo>
                  <a:pt x="1134" y="2480"/>
                </a:lnTo>
                <a:lnTo>
                  <a:pt x="1146" y="2488"/>
                </a:lnTo>
                <a:lnTo>
                  <a:pt x="1155" y="2496"/>
                </a:lnTo>
                <a:lnTo>
                  <a:pt x="1165" y="2503"/>
                </a:lnTo>
                <a:lnTo>
                  <a:pt x="1173" y="2507"/>
                </a:lnTo>
                <a:lnTo>
                  <a:pt x="1180" y="2513"/>
                </a:lnTo>
                <a:lnTo>
                  <a:pt x="1186" y="2515"/>
                </a:lnTo>
                <a:lnTo>
                  <a:pt x="1192" y="2517"/>
                </a:lnTo>
                <a:lnTo>
                  <a:pt x="1198" y="2517"/>
                </a:lnTo>
                <a:lnTo>
                  <a:pt x="1199" y="2517"/>
                </a:lnTo>
                <a:lnTo>
                  <a:pt x="1203" y="2515"/>
                </a:lnTo>
                <a:lnTo>
                  <a:pt x="1205" y="2511"/>
                </a:lnTo>
                <a:lnTo>
                  <a:pt x="1209" y="2505"/>
                </a:lnTo>
                <a:lnTo>
                  <a:pt x="1211" y="2500"/>
                </a:lnTo>
                <a:lnTo>
                  <a:pt x="1215" y="2492"/>
                </a:lnTo>
                <a:lnTo>
                  <a:pt x="1219" y="2484"/>
                </a:lnTo>
                <a:lnTo>
                  <a:pt x="1221" y="2473"/>
                </a:lnTo>
                <a:lnTo>
                  <a:pt x="1224" y="2461"/>
                </a:lnTo>
                <a:lnTo>
                  <a:pt x="1228" y="2450"/>
                </a:lnTo>
                <a:lnTo>
                  <a:pt x="1232" y="2434"/>
                </a:lnTo>
                <a:lnTo>
                  <a:pt x="1234" y="2419"/>
                </a:lnTo>
                <a:lnTo>
                  <a:pt x="1238" y="2404"/>
                </a:lnTo>
                <a:lnTo>
                  <a:pt x="1240" y="2386"/>
                </a:lnTo>
                <a:lnTo>
                  <a:pt x="1244" y="2367"/>
                </a:lnTo>
                <a:lnTo>
                  <a:pt x="1246" y="2346"/>
                </a:lnTo>
                <a:lnTo>
                  <a:pt x="1247" y="2327"/>
                </a:lnTo>
                <a:lnTo>
                  <a:pt x="1249" y="2308"/>
                </a:lnTo>
                <a:lnTo>
                  <a:pt x="1253" y="2290"/>
                </a:lnTo>
                <a:lnTo>
                  <a:pt x="1255" y="2275"/>
                </a:lnTo>
                <a:lnTo>
                  <a:pt x="1259" y="2262"/>
                </a:lnTo>
                <a:lnTo>
                  <a:pt x="1263" y="2248"/>
                </a:lnTo>
                <a:lnTo>
                  <a:pt x="1267" y="2237"/>
                </a:lnTo>
                <a:lnTo>
                  <a:pt x="1269" y="2225"/>
                </a:lnTo>
                <a:lnTo>
                  <a:pt x="1272" y="2216"/>
                </a:lnTo>
                <a:lnTo>
                  <a:pt x="1276" y="2206"/>
                </a:lnTo>
                <a:lnTo>
                  <a:pt x="1278" y="2198"/>
                </a:lnTo>
                <a:lnTo>
                  <a:pt x="1282" y="2193"/>
                </a:lnTo>
                <a:lnTo>
                  <a:pt x="1286" y="2187"/>
                </a:lnTo>
                <a:lnTo>
                  <a:pt x="1288" y="2183"/>
                </a:lnTo>
                <a:lnTo>
                  <a:pt x="1292" y="2179"/>
                </a:lnTo>
                <a:lnTo>
                  <a:pt x="1293" y="2177"/>
                </a:lnTo>
                <a:lnTo>
                  <a:pt x="1295" y="2177"/>
                </a:lnTo>
                <a:lnTo>
                  <a:pt x="1297" y="2179"/>
                </a:lnTo>
                <a:lnTo>
                  <a:pt x="1301" y="2185"/>
                </a:lnTo>
                <a:lnTo>
                  <a:pt x="1305" y="2191"/>
                </a:lnTo>
                <a:lnTo>
                  <a:pt x="1307" y="2198"/>
                </a:lnTo>
                <a:lnTo>
                  <a:pt x="1311" y="2208"/>
                </a:lnTo>
                <a:lnTo>
                  <a:pt x="1315" y="2217"/>
                </a:lnTo>
                <a:lnTo>
                  <a:pt x="1318" y="2231"/>
                </a:lnTo>
                <a:lnTo>
                  <a:pt x="1322" y="2246"/>
                </a:lnTo>
                <a:lnTo>
                  <a:pt x="1326" y="2262"/>
                </a:lnTo>
                <a:lnTo>
                  <a:pt x="1332" y="2279"/>
                </a:lnTo>
                <a:lnTo>
                  <a:pt x="1336" y="2300"/>
                </a:lnTo>
                <a:lnTo>
                  <a:pt x="1340" y="2321"/>
                </a:lnTo>
                <a:lnTo>
                  <a:pt x="1343" y="2344"/>
                </a:lnTo>
                <a:lnTo>
                  <a:pt x="1349" y="2369"/>
                </a:lnTo>
                <a:lnTo>
                  <a:pt x="1353" y="2396"/>
                </a:lnTo>
                <a:lnTo>
                  <a:pt x="1357" y="2425"/>
                </a:lnTo>
                <a:lnTo>
                  <a:pt x="1361" y="2452"/>
                </a:lnTo>
                <a:lnTo>
                  <a:pt x="1366" y="2479"/>
                </a:lnTo>
                <a:lnTo>
                  <a:pt x="1370" y="2503"/>
                </a:lnTo>
                <a:lnTo>
                  <a:pt x="1374" y="2527"/>
                </a:lnTo>
                <a:lnTo>
                  <a:pt x="1380" y="2550"/>
                </a:lnTo>
                <a:lnTo>
                  <a:pt x="1384" y="2571"/>
                </a:lnTo>
                <a:lnTo>
                  <a:pt x="1389" y="2590"/>
                </a:lnTo>
                <a:lnTo>
                  <a:pt x="1393" y="2609"/>
                </a:lnTo>
                <a:lnTo>
                  <a:pt x="1397" y="2626"/>
                </a:lnTo>
                <a:lnTo>
                  <a:pt x="1403" y="2644"/>
                </a:lnTo>
                <a:lnTo>
                  <a:pt x="1407" y="2659"/>
                </a:lnTo>
                <a:lnTo>
                  <a:pt x="1411" y="2674"/>
                </a:lnTo>
                <a:lnTo>
                  <a:pt x="1416" y="2688"/>
                </a:lnTo>
                <a:lnTo>
                  <a:pt x="1420" y="2701"/>
                </a:lnTo>
                <a:lnTo>
                  <a:pt x="1424" y="2713"/>
                </a:lnTo>
                <a:lnTo>
                  <a:pt x="1428" y="2722"/>
                </a:lnTo>
                <a:lnTo>
                  <a:pt x="1432" y="2730"/>
                </a:lnTo>
                <a:lnTo>
                  <a:pt x="1436" y="2740"/>
                </a:lnTo>
                <a:lnTo>
                  <a:pt x="1437" y="2747"/>
                </a:lnTo>
                <a:lnTo>
                  <a:pt x="1439" y="2755"/>
                </a:lnTo>
                <a:lnTo>
                  <a:pt x="1441" y="2763"/>
                </a:lnTo>
                <a:lnTo>
                  <a:pt x="1443" y="2778"/>
                </a:lnTo>
                <a:lnTo>
                  <a:pt x="1443" y="2793"/>
                </a:lnTo>
                <a:lnTo>
                  <a:pt x="1443" y="2807"/>
                </a:lnTo>
                <a:lnTo>
                  <a:pt x="1439" y="2820"/>
                </a:lnTo>
                <a:lnTo>
                  <a:pt x="1437" y="2836"/>
                </a:lnTo>
                <a:lnTo>
                  <a:pt x="1434" y="2839"/>
                </a:lnTo>
                <a:lnTo>
                  <a:pt x="1432" y="2843"/>
                </a:lnTo>
                <a:lnTo>
                  <a:pt x="1428" y="2847"/>
                </a:lnTo>
                <a:lnTo>
                  <a:pt x="1424" y="2851"/>
                </a:lnTo>
                <a:lnTo>
                  <a:pt x="1418" y="2853"/>
                </a:lnTo>
                <a:lnTo>
                  <a:pt x="1414" y="2857"/>
                </a:lnTo>
                <a:lnTo>
                  <a:pt x="1403" y="2861"/>
                </a:lnTo>
                <a:lnTo>
                  <a:pt x="1389" y="2862"/>
                </a:lnTo>
                <a:lnTo>
                  <a:pt x="1382" y="2864"/>
                </a:lnTo>
                <a:lnTo>
                  <a:pt x="1374" y="2864"/>
                </a:lnTo>
                <a:lnTo>
                  <a:pt x="1366" y="2862"/>
                </a:lnTo>
                <a:lnTo>
                  <a:pt x="1359" y="2862"/>
                </a:lnTo>
                <a:lnTo>
                  <a:pt x="1349" y="2861"/>
                </a:lnTo>
                <a:lnTo>
                  <a:pt x="1341" y="2859"/>
                </a:lnTo>
                <a:lnTo>
                  <a:pt x="1332" y="2857"/>
                </a:lnTo>
                <a:lnTo>
                  <a:pt x="1322" y="2853"/>
                </a:lnTo>
                <a:lnTo>
                  <a:pt x="1311" y="2849"/>
                </a:lnTo>
                <a:lnTo>
                  <a:pt x="1301" y="2845"/>
                </a:lnTo>
                <a:lnTo>
                  <a:pt x="1290" y="2841"/>
                </a:lnTo>
                <a:lnTo>
                  <a:pt x="1276" y="2836"/>
                </a:lnTo>
                <a:lnTo>
                  <a:pt x="1265" y="2830"/>
                </a:lnTo>
                <a:lnTo>
                  <a:pt x="1251" y="2822"/>
                </a:lnTo>
                <a:lnTo>
                  <a:pt x="1238" y="2816"/>
                </a:lnTo>
                <a:lnTo>
                  <a:pt x="1222" y="2809"/>
                </a:lnTo>
                <a:lnTo>
                  <a:pt x="1209" y="2799"/>
                </a:lnTo>
                <a:lnTo>
                  <a:pt x="1194" y="2791"/>
                </a:lnTo>
                <a:lnTo>
                  <a:pt x="1176" y="2782"/>
                </a:lnTo>
                <a:lnTo>
                  <a:pt x="1161" y="2770"/>
                </a:lnTo>
                <a:lnTo>
                  <a:pt x="1144" y="2761"/>
                </a:lnTo>
                <a:lnTo>
                  <a:pt x="1127" y="2749"/>
                </a:lnTo>
                <a:lnTo>
                  <a:pt x="1107" y="2734"/>
                </a:lnTo>
                <a:lnTo>
                  <a:pt x="1090" y="2718"/>
                </a:lnTo>
                <a:lnTo>
                  <a:pt x="1071" y="2701"/>
                </a:lnTo>
                <a:lnTo>
                  <a:pt x="1052" y="2682"/>
                </a:lnTo>
                <a:lnTo>
                  <a:pt x="1032" y="2663"/>
                </a:lnTo>
                <a:lnTo>
                  <a:pt x="1013" y="2642"/>
                </a:lnTo>
                <a:lnTo>
                  <a:pt x="994" y="2619"/>
                </a:lnTo>
                <a:lnTo>
                  <a:pt x="973" y="2596"/>
                </a:lnTo>
                <a:lnTo>
                  <a:pt x="954" y="2571"/>
                </a:lnTo>
                <a:lnTo>
                  <a:pt x="933" y="2544"/>
                </a:lnTo>
                <a:lnTo>
                  <a:pt x="912" y="2517"/>
                </a:lnTo>
                <a:lnTo>
                  <a:pt x="890" y="2486"/>
                </a:lnTo>
                <a:lnTo>
                  <a:pt x="869" y="2457"/>
                </a:lnTo>
                <a:lnTo>
                  <a:pt x="848" y="2425"/>
                </a:lnTo>
                <a:lnTo>
                  <a:pt x="825" y="2392"/>
                </a:lnTo>
                <a:lnTo>
                  <a:pt x="804" y="2360"/>
                </a:lnTo>
                <a:lnTo>
                  <a:pt x="779" y="2325"/>
                </a:lnTo>
                <a:lnTo>
                  <a:pt x="756" y="2290"/>
                </a:lnTo>
                <a:lnTo>
                  <a:pt x="735" y="2256"/>
                </a:lnTo>
                <a:lnTo>
                  <a:pt x="712" y="2221"/>
                </a:lnTo>
                <a:lnTo>
                  <a:pt x="691" y="2187"/>
                </a:lnTo>
                <a:lnTo>
                  <a:pt x="672" y="2152"/>
                </a:lnTo>
                <a:lnTo>
                  <a:pt x="652" y="2118"/>
                </a:lnTo>
                <a:lnTo>
                  <a:pt x="633" y="2085"/>
                </a:lnTo>
                <a:lnTo>
                  <a:pt x="616" y="2050"/>
                </a:lnTo>
                <a:lnTo>
                  <a:pt x="599" y="2016"/>
                </a:lnTo>
                <a:lnTo>
                  <a:pt x="583" y="1981"/>
                </a:lnTo>
                <a:lnTo>
                  <a:pt x="568" y="1947"/>
                </a:lnTo>
                <a:lnTo>
                  <a:pt x="555" y="1914"/>
                </a:lnTo>
                <a:lnTo>
                  <a:pt x="541" y="1880"/>
                </a:lnTo>
                <a:lnTo>
                  <a:pt x="528" y="1845"/>
                </a:lnTo>
                <a:lnTo>
                  <a:pt x="518" y="1811"/>
                </a:lnTo>
                <a:lnTo>
                  <a:pt x="507" y="1778"/>
                </a:lnTo>
                <a:lnTo>
                  <a:pt x="495" y="1743"/>
                </a:lnTo>
                <a:lnTo>
                  <a:pt x="483" y="1707"/>
                </a:lnTo>
                <a:lnTo>
                  <a:pt x="470" y="1670"/>
                </a:lnTo>
                <a:lnTo>
                  <a:pt x="459" y="1632"/>
                </a:lnTo>
                <a:lnTo>
                  <a:pt x="445" y="1592"/>
                </a:lnTo>
                <a:lnTo>
                  <a:pt x="432" y="1549"/>
                </a:lnTo>
                <a:lnTo>
                  <a:pt x="418" y="1507"/>
                </a:lnTo>
                <a:lnTo>
                  <a:pt x="405" y="1463"/>
                </a:lnTo>
                <a:lnTo>
                  <a:pt x="391" y="1415"/>
                </a:lnTo>
                <a:lnTo>
                  <a:pt x="376" y="1367"/>
                </a:lnTo>
                <a:lnTo>
                  <a:pt x="363" y="1319"/>
                </a:lnTo>
                <a:lnTo>
                  <a:pt x="347" y="1267"/>
                </a:lnTo>
                <a:lnTo>
                  <a:pt x="332" y="1214"/>
                </a:lnTo>
                <a:lnTo>
                  <a:pt x="317" y="1160"/>
                </a:lnTo>
                <a:lnTo>
                  <a:pt x="303" y="1104"/>
                </a:lnTo>
                <a:lnTo>
                  <a:pt x="288" y="1048"/>
                </a:lnTo>
                <a:lnTo>
                  <a:pt x="272" y="997"/>
                </a:lnTo>
                <a:lnTo>
                  <a:pt x="259" y="943"/>
                </a:lnTo>
                <a:lnTo>
                  <a:pt x="244" y="893"/>
                </a:lnTo>
                <a:lnTo>
                  <a:pt x="232" y="843"/>
                </a:lnTo>
                <a:lnTo>
                  <a:pt x="219" y="795"/>
                </a:lnTo>
                <a:lnTo>
                  <a:pt x="207" y="749"/>
                </a:lnTo>
                <a:lnTo>
                  <a:pt x="196" y="703"/>
                </a:lnTo>
                <a:lnTo>
                  <a:pt x="184" y="659"/>
                </a:lnTo>
                <a:lnTo>
                  <a:pt x="174" y="615"/>
                </a:lnTo>
                <a:lnTo>
                  <a:pt x="163" y="572"/>
                </a:lnTo>
                <a:lnTo>
                  <a:pt x="155" y="532"/>
                </a:lnTo>
                <a:lnTo>
                  <a:pt x="146" y="494"/>
                </a:lnTo>
                <a:lnTo>
                  <a:pt x="138" y="455"/>
                </a:lnTo>
                <a:lnTo>
                  <a:pt x="130" y="419"/>
                </a:lnTo>
                <a:lnTo>
                  <a:pt x="123" y="384"/>
                </a:lnTo>
                <a:lnTo>
                  <a:pt x="121" y="367"/>
                </a:lnTo>
                <a:lnTo>
                  <a:pt x="117" y="350"/>
                </a:lnTo>
                <a:lnTo>
                  <a:pt x="113" y="334"/>
                </a:lnTo>
                <a:lnTo>
                  <a:pt x="111" y="319"/>
                </a:lnTo>
                <a:lnTo>
                  <a:pt x="107" y="304"/>
                </a:lnTo>
                <a:lnTo>
                  <a:pt x="105" y="290"/>
                </a:lnTo>
                <a:lnTo>
                  <a:pt x="102" y="277"/>
                </a:lnTo>
                <a:lnTo>
                  <a:pt x="98" y="263"/>
                </a:lnTo>
                <a:lnTo>
                  <a:pt x="96" y="250"/>
                </a:lnTo>
                <a:lnTo>
                  <a:pt x="94" y="237"/>
                </a:lnTo>
                <a:lnTo>
                  <a:pt x="88" y="214"/>
                </a:lnTo>
                <a:lnTo>
                  <a:pt x="82" y="192"/>
                </a:lnTo>
                <a:lnTo>
                  <a:pt x="77" y="173"/>
                </a:lnTo>
                <a:lnTo>
                  <a:pt x="73" y="154"/>
                </a:lnTo>
                <a:lnTo>
                  <a:pt x="67" y="139"/>
                </a:lnTo>
                <a:lnTo>
                  <a:pt x="63" y="123"/>
                </a:lnTo>
                <a:lnTo>
                  <a:pt x="57" y="112"/>
                </a:lnTo>
                <a:lnTo>
                  <a:pt x="54" y="100"/>
                </a:lnTo>
                <a:lnTo>
                  <a:pt x="48" y="93"/>
                </a:lnTo>
                <a:lnTo>
                  <a:pt x="44" y="85"/>
                </a:lnTo>
                <a:lnTo>
                  <a:pt x="40" y="79"/>
                </a:lnTo>
                <a:lnTo>
                  <a:pt x="32" y="77"/>
                </a:lnTo>
                <a:lnTo>
                  <a:pt x="27" y="73"/>
                </a:lnTo>
                <a:lnTo>
                  <a:pt x="23" y="71"/>
                </a:lnTo>
                <a:lnTo>
                  <a:pt x="17" y="68"/>
                </a:lnTo>
                <a:lnTo>
                  <a:pt x="13" y="64"/>
                </a:lnTo>
                <a:lnTo>
                  <a:pt x="9" y="60"/>
                </a:lnTo>
                <a:lnTo>
                  <a:pt x="6" y="58"/>
                </a:lnTo>
                <a:lnTo>
                  <a:pt x="4" y="52"/>
                </a:lnTo>
                <a:lnTo>
                  <a:pt x="2" y="48"/>
                </a:lnTo>
                <a:lnTo>
                  <a:pt x="0" y="45"/>
                </a:lnTo>
                <a:lnTo>
                  <a:pt x="0" y="41"/>
                </a:lnTo>
                <a:lnTo>
                  <a:pt x="0" y="37"/>
                </a:lnTo>
                <a:lnTo>
                  <a:pt x="0" y="31"/>
                </a:lnTo>
                <a:lnTo>
                  <a:pt x="0" y="27"/>
                </a:lnTo>
                <a:lnTo>
                  <a:pt x="2" y="23"/>
                </a:lnTo>
                <a:lnTo>
                  <a:pt x="4" y="18"/>
                </a:lnTo>
                <a:lnTo>
                  <a:pt x="9" y="14"/>
                </a:lnTo>
                <a:lnTo>
                  <a:pt x="15" y="10"/>
                </a:lnTo>
                <a:lnTo>
                  <a:pt x="23" y="6"/>
                </a:lnTo>
                <a:lnTo>
                  <a:pt x="32" y="2"/>
                </a:lnTo>
                <a:lnTo>
                  <a:pt x="44" y="0"/>
                </a:lnTo>
                <a:lnTo>
                  <a:pt x="50" y="0"/>
                </a:lnTo>
                <a:lnTo>
                  <a:pt x="55" y="0"/>
                </a:lnTo>
                <a:lnTo>
                  <a:pt x="63" y="2"/>
                </a:lnTo>
                <a:lnTo>
                  <a:pt x="71" y="2"/>
                </a:lnTo>
                <a:lnTo>
                  <a:pt x="79" y="4"/>
                </a:lnTo>
                <a:lnTo>
                  <a:pt x="88" y="6"/>
                </a:lnTo>
                <a:lnTo>
                  <a:pt x="105" y="12"/>
                </a:lnTo>
                <a:lnTo>
                  <a:pt x="123" y="18"/>
                </a:lnTo>
                <a:lnTo>
                  <a:pt x="140" y="23"/>
                </a:lnTo>
                <a:lnTo>
                  <a:pt x="159" y="31"/>
                </a:lnTo>
                <a:lnTo>
                  <a:pt x="176" y="37"/>
                </a:lnTo>
                <a:lnTo>
                  <a:pt x="196" y="45"/>
                </a:lnTo>
                <a:lnTo>
                  <a:pt x="213" y="50"/>
                </a:lnTo>
                <a:lnTo>
                  <a:pt x="230" y="54"/>
                </a:lnTo>
                <a:lnTo>
                  <a:pt x="240" y="60"/>
                </a:lnTo>
                <a:lnTo>
                  <a:pt x="247" y="64"/>
                </a:lnTo>
                <a:lnTo>
                  <a:pt x="255" y="70"/>
                </a:lnTo>
                <a:lnTo>
                  <a:pt x="261" y="73"/>
                </a:lnTo>
                <a:lnTo>
                  <a:pt x="269" y="79"/>
                </a:lnTo>
                <a:lnTo>
                  <a:pt x="274" y="83"/>
                </a:lnTo>
                <a:lnTo>
                  <a:pt x="278" y="89"/>
                </a:lnTo>
                <a:lnTo>
                  <a:pt x="282" y="93"/>
                </a:lnTo>
                <a:lnTo>
                  <a:pt x="286" y="98"/>
                </a:lnTo>
                <a:lnTo>
                  <a:pt x="290" y="104"/>
                </a:lnTo>
                <a:lnTo>
                  <a:pt x="292" y="110"/>
                </a:lnTo>
                <a:lnTo>
                  <a:pt x="292" y="116"/>
                </a:lnTo>
                <a:lnTo>
                  <a:pt x="293" y="121"/>
                </a:lnTo>
                <a:lnTo>
                  <a:pt x="293" y="127"/>
                </a:lnTo>
                <a:lnTo>
                  <a:pt x="292" y="133"/>
                </a:lnTo>
                <a:lnTo>
                  <a:pt x="290" y="141"/>
                </a:lnTo>
                <a:lnTo>
                  <a:pt x="288" y="148"/>
                </a:lnTo>
                <a:lnTo>
                  <a:pt x="288" y="156"/>
                </a:lnTo>
                <a:lnTo>
                  <a:pt x="286" y="166"/>
                </a:lnTo>
                <a:lnTo>
                  <a:pt x="286" y="177"/>
                </a:lnTo>
                <a:lnTo>
                  <a:pt x="286" y="189"/>
                </a:lnTo>
                <a:lnTo>
                  <a:pt x="286" y="202"/>
                </a:lnTo>
                <a:lnTo>
                  <a:pt x="286" y="215"/>
                </a:lnTo>
                <a:lnTo>
                  <a:pt x="288" y="231"/>
                </a:lnTo>
                <a:lnTo>
                  <a:pt x="290" y="248"/>
                </a:lnTo>
                <a:lnTo>
                  <a:pt x="290" y="265"/>
                </a:lnTo>
                <a:lnTo>
                  <a:pt x="292" y="285"/>
                </a:lnTo>
                <a:lnTo>
                  <a:pt x="293" y="306"/>
                </a:lnTo>
                <a:lnTo>
                  <a:pt x="295" y="327"/>
                </a:lnTo>
                <a:lnTo>
                  <a:pt x="297" y="348"/>
                </a:lnTo>
                <a:lnTo>
                  <a:pt x="299" y="371"/>
                </a:lnTo>
                <a:lnTo>
                  <a:pt x="303" y="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10"/>
          <p:cNvSpPr/>
          <p:nvPr/>
        </p:nvSpPr>
        <p:spPr>
          <a:xfrm>
            <a:off x="6696000" y="3675240"/>
            <a:ext cx="789120" cy="1008000"/>
          </a:xfrm>
          <a:custGeom>
            <a:avLst/>
            <a:gdLst/>
            <a:ahLst/>
            <a:rect l="l" t="t" r="r" b="b"/>
            <a:pathLst>
              <a:path w="992" h="1269">
                <a:moveTo>
                  <a:pt x="0" y="1265"/>
                </a:moveTo>
                <a:lnTo>
                  <a:pt x="0" y="1263"/>
                </a:lnTo>
                <a:lnTo>
                  <a:pt x="0" y="1261"/>
                </a:lnTo>
                <a:lnTo>
                  <a:pt x="0" y="1259"/>
                </a:lnTo>
                <a:lnTo>
                  <a:pt x="0" y="1257"/>
                </a:lnTo>
                <a:lnTo>
                  <a:pt x="2" y="1253"/>
                </a:lnTo>
                <a:lnTo>
                  <a:pt x="4" y="1252"/>
                </a:lnTo>
                <a:lnTo>
                  <a:pt x="5" y="1248"/>
                </a:lnTo>
                <a:lnTo>
                  <a:pt x="7" y="1244"/>
                </a:lnTo>
                <a:lnTo>
                  <a:pt x="11" y="1240"/>
                </a:lnTo>
                <a:lnTo>
                  <a:pt x="13" y="1234"/>
                </a:lnTo>
                <a:lnTo>
                  <a:pt x="19" y="1230"/>
                </a:lnTo>
                <a:lnTo>
                  <a:pt x="23" y="1225"/>
                </a:lnTo>
                <a:lnTo>
                  <a:pt x="28" y="1219"/>
                </a:lnTo>
                <a:lnTo>
                  <a:pt x="32" y="1213"/>
                </a:lnTo>
                <a:lnTo>
                  <a:pt x="40" y="1207"/>
                </a:lnTo>
                <a:lnTo>
                  <a:pt x="46" y="1200"/>
                </a:lnTo>
                <a:lnTo>
                  <a:pt x="53" y="1194"/>
                </a:lnTo>
                <a:lnTo>
                  <a:pt x="59" y="1186"/>
                </a:lnTo>
                <a:lnTo>
                  <a:pt x="69" y="1179"/>
                </a:lnTo>
                <a:lnTo>
                  <a:pt x="76" y="1171"/>
                </a:lnTo>
                <a:lnTo>
                  <a:pt x="86" y="1161"/>
                </a:lnTo>
                <a:lnTo>
                  <a:pt x="96" y="1154"/>
                </a:lnTo>
                <a:lnTo>
                  <a:pt x="105" y="1144"/>
                </a:lnTo>
                <a:lnTo>
                  <a:pt x="115" y="1134"/>
                </a:lnTo>
                <a:lnTo>
                  <a:pt x="126" y="1125"/>
                </a:lnTo>
                <a:lnTo>
                  <a:pt x="138" y="1113"/>
                </a:lnTo>
                <a:lnTo>
                  <a:pt x="149" y="1104"/>
                </a:lnTo>
                <a:lnTo>
                  <a:pt x="161" y="1092"/>
                </a:lnTo>
                <a:lnTo>
                  <a:pt x="188" y="1069"/>
                </a:lnTo>
                <a:lnTo>
                  <a:pt x="215" y="1044"/>
                </a:lnTo>
                <a:lnTo>
                  <a:pt x="243" y="1019"/>
                </a:lnTo>
                <a:lnTo>
                  <a:pt x="272" y="994"/>
                </a:lnTo>
                <a:lnTo>
                  <a:pt x="299" y="967"/>
                </a:lnTo>
                <a:lnTo>
                  <a:pt x="324" y="941"/>
                </a:lnTo>
                <a:lnTo>
                  <a:pt x="349" y="916"/>
                </a:lnTo>
                <a:lnTo>
                  <a:pt x="374" y="889"/>
                </a:lnTo>
                <a:lnTo>
                  <a:pt x="399" y="862"/>
                </a:lnTo>
                <a:lnTo>
                  <a:pt x="422" y="833"/>
                </a:lnTo>
                <a:lnTo>
                  <a:pt x="443" y="806"/>
                </a:lnTo>
                <a:lnTo>
                  <a:pt x="464" y="779"/>
                </a:lnTo>
                <a:lnTo>
                  <a:pt x="485" y="751"/>
                </a:lnTo>
                <a:lnTo>
                  <a:pt x="504" y="722"/>
                </a:lnTo>
                <a:lnTo>
                  <a:pt x="524" y="693"/>
                </a:lnTo>
                <a:lnTo>
                  <a:pt x="541" y="664"/>
                </a:lnTo>
                <a:lnTo>
                  <a:pt x="558" y="635"/>
                </a:lnTo>
                <a:lnTo>
                  <a:pt x="574" y="607"/>
                </a:lnTo>
                <a:lnTo>
                  <a:pt x="589" y="576"/>
                </a:lnTo>
                <a:lnTo>
                  <a:pt x="602" y="547"/>
                </a:lnTo>
                <a:lnTo>
                  <a:pt x="618" y="520"/>
                </a:lnTo>
                <a:lnTo>
                  <a:pt x="631" y="493"/>
                </a:lnTo>
                <a:lnTo>
                  <a:pt x="645" y="466"/>
                </a:lnTo>
                <a:lnTo>
                  <a:pt x="656" y="441"/>
                </a:lnTo>
                <a:lnTo>
                  <a:pt x="670" y="417"/>
                </a:lnTo>
                <a:lnTo>
                  <a:pt x="681" y="393"/>
                </a:lnTo>
                <a:lnTo>
                  <a:pt x="691" y="370"/>
                </a:lnTo>
                <a:lnTo>
                  <a:pt x="702" y="347"/>
                </a:lnTo>
                <a:lnTo>
                  <a:pt x="712" y="326"/>
                </a:lnTo>
                <a:lnTo>
                  <a:pt x="721" y="305"/>
                </a:lnTo>
                <a:lnTo>
                  <a:pt x="729" y="286"/>
                </a:lnTo>
                <a:lnTo>
                  <a:pt x="739" y="265"/>
                </a:lnTo>
                <a:lnTo>
                  <a:pt x="746" y="246"/>
                </a:lnTo>
                <a:lnTo>
                  <a:pt x="752" y="228"/>
                </a:lnTo>
                <a:lnTo>
                  <a:pt x="756" y="213"/>
                </a:lnTo>
                <a:lnTo>
                  <a:pt x="760" y="198"/>
                </a:lnTo>
                <a:lnTo>
                  <a:pt x="764" y="182"/>
                </a:lnTo>
                <a:lnTo>
                  <a:pt x="766" y="169"/>
                </a:lnTo>
                <a:lnTo>
                  <a:pt x="767" y="155"/>
                </a:lnTo>
                <a:lnTo>
                  <a:pt x="769" y="142"/>
                </a:lnTo>
                <a:lnTo>
                  <a:pt x="771" y="131"/>
                </a:lnTo>
                <a:lnTo>
                  <a:pt x="771" y="119"/>
                </a:lnTo>
                <a:lnTo>
                  <a:pt x="771" y="109"/>
                </a:lnTo>
                <a:lnTo>
                  <a:pt x="771" y="100"/>
                </a:lnTo>
                <a:lnTo>
                  <a:pt x="771" y="90"/>
                </a:lnTo>
                <a:lnTo>
                  <a:pt x="771" y="83"/>
                </a:lnTo>
                <a:lnTo>
                  <a:pt x="769" y="75"/>
                </a:lnTo>
                <a:lnTo>
                  <a:pt x="767" y="67"/>
                </a:lnTo>
                <a:lnTo>
                  <a:pt x="766" y="61"/>
                </a:lnTo>
                <a:lnTo>
                  <a:pt x="764" y="58"/>
                </a:lnTo>
                <a:lnTo>
                  <a:pt x="760" y="54"/>
                </a:lnTo>
                <a:lnTo>
                  <a:pt x="756" y="52"/>
                </a:lnTo>
                <a:lnTo>
                  <a:pt x="754" y="50"/>
                </a:lnTo>
                <a:lnTo>
                  <a:pt x="750" y="46"/>
                </a:lnTo>
                <a:lnTo>
                  <a:pt x="748" y="42"/>
                </a:lnTo>
                <a:lnTo>
                  <a:pt x="746" y="40"/>
                </a:lnTo>
                <a:lnTo>
                  <a:pt x="744" y="33"/>
                </a:lnTo>
                <a:lnTo>
                  <a:pt x="744" y="25"/>
                </a:lnTo>
                <a:lnTo>
                  <a:pt x="746" y="19"/>
                </a:lnTo>
                <a:lnTo>
                  <a:pt x="748" y="13"/>
                </a:lnTo>
                <a:lnTo>
                  <a:pt x="752" y="8"/>
                </a:lnTo>
                <a:lnTo>
                  <a:pt x="756" y="6"/>
                </a:lnTo>
                <a:lnTo>
                  <a:pt x="758" y="4"/>
                </a:lnTo>
                <a:lnTo>
                  <a:pt x="764" y="2"/>
                </a:lnTo>
                <a:lnTo>
                  <a:pt x="767" y="2"/>
                </a:lnTo>
                <a:lnTo>
                  <a:pt x="773" y="2"/>
                </a:lnTo>
                <a:lnTo>
                  <a:pt x="781" y="0"/>
                </a:lnTo>
                <a:lnTo>
                  <a:pt x="789" y="2"/>
                </a:lnTo>
                <a:lnTo>
                  <a:pt x="796" y="2"/>
                </a:lnTo>
                <a:lnTo>
                  <a:pt x="804" y="4"/>
                </a:lnTo>
                <a:lnTo>
                  <a:pt x="813" y="6"/>
                </a:lnTo>
                <a:lnTo>
                  <a:pt x="825" y="8"/>
                </a:lnTo>
                <a:lnTo>
                  <a:pt x="835" y="12"/>
                </a:lnTo>
                <a:lnTo>
                  <a:pt x="846" y="15"/>
                </a:lnTo>
                <a:lnTo>
                  <a:pt x="858" y="21"/>
                </a:lnTo>
                <a:lnTo>
                  <a:pt x="871" y="27"/>
                </a:lnTo>
                <a:lnTo>
                  <a:pt x="885" y="33"/>
                </a:lnTo>
                <a:lnTo>
                  <a:pt x="896" y="40"/>
                </a:lnTo>
                <a:lnTo>
                  <a:pt x="909" y="46"/>
                </a:lnTo>
                <a:lnTo>
                  <a:pt x="921" y="54"/>
                </a:lnTo>
                <a:lnTo>
                  <a:pt x="931" y="59"/>
                </a:lnTo>
                <a:lnTo>
                  <a:pt x="940" y="67"/>
                </a:lnTo>
                <a:lnTo>
                  <a:pt x="950" y="73"/>
                </a:lnTo>
                <a:lnTo>
                  <a:pt x="957" y="81"/>
                </a:lnTo>
                <a:lnTo>
                  <a:pt x="963" y="86"/>
                </a:lnTo>
                <a:lnTo>
                  <a:pt x="971" y="92"/>
                </a:lnTo>
                <a:lnTo>
                  <a:pt x="977" y="98"/>
                </a:lnTo>
                <a:lnTo>
                  <a:pt x="980" y="104"/>
                </a:lnTo>
                <a:lnTo>
                  <a:pt x="984" y="109"/>
                </a:lnTo>
                <a:lnTo>
                  <a:pt x="988" y="115"/>
                </a:lnTo>
                <a:lnTo>
                  <a:pt x="990" y="121"/>
                </a:lnTo>
                <a:lnTo>
                  <a:pt x="990" y="125"/>
                </a:lnTo>
                <a:lnTo>
                  <a:pt x="992" y="131"/>
                </a:lnTo>
                <a:lnTo>
                  <a:pt x="990" y="136"/>
                </a:lnTo>
                <a:lnTo>
                  <a:pt x="988" y="142"/>
                </a:lnTo>
                <a:lnTo>
                  <a:pt x="986" y="152"/>
                </a:lnTo>
                <a:lnTo>
                  <a:pt x="982" y="163"/>
                </a:lnTo>
                <a:lnTo>
                  <a:pt x="977" y="175"/>
                </a:lnTo>
                <a:lnTo>
                  <a:pt x="971" y="188"/>
                </a:lnTo>
                <a:lnTo>
                  <a:pt x="965" y="205"/>
                </a:lnTo>
                <a:lnTo>
                  <a:pt x="956" y="223"/>
                </a:lnTo>
                <a:lnTo>
                  <a:pt x="948" y="242"/>
                </a:lnTo>
                <a:lnTo>
                  <a:pt x="938" y="265"/>
                </a:lnTo>
                <a:lnTo>
                  <a:pt x="933" y="276"/>
                </a:lnTo>
                <a:lnTo>
                  <a:pt x="927" y="288"/>
                </a:lnTo>
                <a:lnTo>
                  <a:pt x="921" y="299"/>
                </a:lnTo>
                <a:lnTo>
                  <a:pt x="915" y="313"/>
                </a:lnTo>
                <a:lnTo>
                  <a:pt x="909" y="326"/>
                </a:lnTo>
                <a:lnTo>
                  <a:pt x="902" y="342"/>
                </a:lnTo>
                <a:lnTo>
                  <a:pt x="896" y="355"/>
                </a:lnTo>
                <a:lnTo>
                  <a:pt x="888" y="370"/>
                </a:lnTo>
                <a:lnTo>
                  <a:pt x="883" y="386"/>
                </a:lnTo>
                <a:lnTo>
                  <a:pt x="875" y="401"/>
                </a:lnTo>
                <a:lnTo>
                  <a:pt x="867" y="418"/>
                </a:lnTo>
                <a:lnTo>
                  <a:pt x="860" y="436"/>
                </a:lnTo>
                <a:lnTo>
                  <a:pt x="842" y="468"/>
                </a:lnTo>
                <a:lnTo>
                  <a:pt x="823" y="503"/>
                </a:lnTo>
                <a:lnTo>
                  <a:pt x="806" y="536"/>
                </a:lnTo>
                <a:lnTo>
                  <a:pt x="787" y="568"/>
                </a:lnTo>
                <a:lnTo>
                  <a:pt x="767" y="599"/>
                </a:lnTo>
                <a:lnTo>
                  <a:pt x="746" y="630"/>
                </a:lnTo>
                <a:lnTo>
                  <a:pt x="727" y="660"/>
                </a:lnTo>
                <a:lnTo>
                  <a:pt x="706" y="691"/>
                </a:lnTo>
                <a:lnTo>
                  <a:pt x="685" y="720"/>
                </a:lnTo>
                <a:lnTo>
                  <a:pt x="664" y="749"/>
                </a:lnTo>
                <a:lnTo>
                  <a:pt x="643" y="777"/>
                </a:lnTo>
                <a:lnTo>
                  <a:pt x="620" y="804"/>
                </a:lnTo>
                <a:lnTo>
                  <a:pt x="597" y="831"/>
                </a:lnTo>
                <a:lnTo>
                  <a:pt x="574" y="858"/>
                </a:lnTo>
                <a:lnTo>
                  <a:pt x="551" y="885"/>
                </a:lnTo>
                <a:lnTo>
                  <a:pt x="526" y="910"/>
                </a:lnTo>
                <a:lnTo>
                  <a:pt x="501" y="935"/>
                </a:lnTo>
                <a:lnTo>
                  <a:pt x="478" y="960"/>
                </a:lnTo>
                <a:lnTo>
                  <a:pt x="455" y="983"/>
                </a:lnTo>
                <a:lnTo>
                  <a:pt x="432" y="1004"/>
                </a:lnTo>
                <a:lnTo>
                  <a:pt x="408" y="1025"/>
                </a:lnTo>
                <a:lnTo>
                  <a:pt x="387" y="1046"/>
                </a:lnTo>
                <a:lnTo>
                  <a:pt x="364" y="1065"/>
                </a:lnTo>
                <a:lnTo>
                  <a:pt x="343" y="1085"/>
                </a:lnTo>
                <a:lnTo>
                  <a:pt x="322" y="1102"/>
                </a:lnTo>
                <a:lnTo>
                  <a:pt x="301" y="1119"/>
                </a:lnTo>
                <a:lnTo>
                  <a:pt x="280" y="1134"/>
                </a:lnTo>
                <a:lnTo>
                  <a:pt x="261" y="1150"/>
                </a:lnTo>
                <a:lnTo>
                  <a:pt x="240" y="1165"/>
                </a:lnTo>
                <a:lnTo>
                  <a:pt x="220" y="1179"/>
                </a:lnTo>
                <a:lnTo>
                  <a:pt x="199" y="1192"/>
                </a:lnTo>
                <a:lnTo>
                  <a:pt x="180" y="1204"/>
                </a:lnTo>
                <a:lnTo>
                  <a:pt x="159" y="1215"/>
                </a:lnTo>
                <a:lnTo>
                  <a:pt x="142" y="1225"/>
                </a:lnTo>
                <a:lnTo>
                  <a:pt x="124" y="1232"/>
                </a:lnTo>
                <a:lnTo>
                  <a:pt x="107" y="1240"/>
                </a:lnTo>
                <a:lnTo>
                  <a:pt x="94" y="1248"/>
                </a:lnTo>
                <a:lnTo>
                  <a:pt x="78" y="1253"/>
                </a:lnTo>
                <a:lnTo>
                  <a:pt x="67" y="1257"/>
                </a:lnTo>
                <a:lnTo>
                  <a:pt x="53" y="1261"/>
                </a:lnTo>
                <a:lnTo>
                  <a:pt x="44" y="1265"/>
                </a:lnTo>
                <a:lnTo>
                  <a:pt x="34" y="1267"/>
                </a:lnTo>
                <a:lnTo>
                  <a:pt x="25" y="1269"/>
                </a:lnTo>
                <a:lnTo>
                  <a:pt x="19" y="1269"/>
                </a:lnTo>
                <a:lnTo>
                  <a:pt x="11" y="1269"/>
                </a:lnTo>
                <a:lnTo>
                  <a:pt x="7" y="1267"/>
                </a:lnTo>
                <a:lnTo>
                  <a:pt x="4" y="1267"/>
                </a:lnTo>
                <a:lnTo>
                  <a:pt x="0" y="1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11"/>
          <p:cNvSpPr/>
          <p:nvPr/>
        </p:nvSpPr>
        <p:spPr>
          <a:xfrm>
            <a:off x="6078600" y="4351320"/>
            <a:ext cx="770040" cy="338040"/>
          </a:xfrm>
          <a:custGeom>
            <a:avLst/>
            <a:gdLst/>
            <a:ahLst/>
            <a:rect l="l" t="t" r="r" b="b"/>
            <a:pathLst>
              <a:path w="972" h="426">
                <a:moveTo>
                  <a:pt x="505" y="121"/>
                </a:moveTo>
                <a:lnTo>
                  <a:pt x="526" y="114"/>
                </a:lnTo>
                <a:lnTo>
                  <a:pt x="547" y="106"/>
                </a:lnTo>
                <a:lnTo>
                  <a:pt x="567" y="98"/>
                </a:lnTo>
                <a:lnTo>
                  <a:pt x="586" y="91"/>
                </a:lnTo>
                <a:lnTo>
                  <a:pt x="605" y="85"/>
                </a:lnTo>
                <a:lnTo>
                  <a:pt x="622" y="77"/>
                </a:lnTo>
                <a:lnTo>
                  <a:pt x="641" y="71"/>
                </a:lnTo>
                <a:lnTo>
                  <a:pt x="657" y="66"/>
                </a:lnTo>
                <a:lnTo>
                  <a:pt x="674" y="60"/>
                </a:lnTo>
                <a:lnTo>
                  <a:pt x="689" y="54"/>
                </a:lnTo>
                <a:lnTo>
                  <a:pt x="707" y="50"/>
                </a:lnTo>
                <a:lnTo>
                  <a:pt x="720" y="44"/>
                </a:lnTo>
                <a:lnTo>
                  <a:pt x="736" y="41"/>
                </a:lnTo>
                <a:lnTo>
                  <a:pt x="749" y="35"/>
                </a:lnTo>
                <a:lnTo>
                  <a:pt x="762" y="31"/>
                </a:lnTo>
                <a:lnTo>
                  <a:pt x="776" y="27"/>
                </a:lnTo>
                <a:lnTo>
                  <a:pt x="787" y="23"/>
                </a:lnTo>
                <a:lnTo>
                  <a:pt x="799" y="21"/>
                </a:lnTo>
                <a:lnTo>
                  <a:pt x="810" y="18"/>
                </a:lnTo>
                <a:lnTo>
                  <a:pt x="822" y="16"/>
                </a:lnTo>
                <a:lnTo>
                  <a:pt x="831" y="12"/>
                </a:lnTo>
                <a:lnTo>
                  <a:pt x="841" y="10"/>
                </a:lnTo>
                <a:lnTo>
                  <a:pt x="851" y="8"/>
                </a:lnTo>
                <a:lnTo>
                  <a:pt x="860" y="6"/>
                </a:lnTo>
                <a:lnTo>
                  <a:pt x="868" y="4"/>
                </a:lnTo>
                <a:lnTo>
                  <a:pt x="876" y="4"/>
                </a:lnTo>
                <a:lnTo>
                  <a:pt x="883" y="2"/>
                </a:lnTo>
                <a:lnTo>
                  <a:pt x="889" y="0"/>
                </a:lnTo>
                <a:lnTo>
                  <a:pt x="897" y="0"/>
                </a:lnTo>
                <a:lnTo>
                  <a:pt x="903" y="0"/>
                </a:lnTo>
                <a:lnTo>
                  <a:pt x="906" y="0"/>
                </a:lnTo>
                <a:lnTo>
                  <a:pt x="912" y="0"/>
                </a:lnTo>
                <a:lnTo>
                  <a:pt x="924" y="0"/>
                </a:lnTo>
                <a:lnTo>
                  <a:pt x="937" y="0"/>
                </a:lnTo>
                <a:lnTo>
                  <a:pt x="947" y="0"/>
                </a:lnTo>
                <a:lnTo>
                  <a:pt x="954" y="0"/>
                </a:lnTo>
                <a:lnTo>
                  <a:pt x="962" y="2"/>
                </a:lnTo>
                <a:lnTo>
                  <a:pt x="964" y="4"/>
                </a:lnTo>
                <a:lnTo>
                  <a:pt x="968" y="4"/>
                </a:lnTo>
                <a:lnTo>
                  <a:pt x="970" y="6"/>
                </a:lnTo>
                <a:lnTo>
                  <a:pt x="970" y="8"/>
                </a:lnTo>
                <a:lnTo>
                  <a:pt x="972" y="10"/>
                </a:lnTo>
                <a:lnTo>
                  <a:pt x="972" y="12"/>
                </a:lnTo>
                <a:lnTo>
                  <a:pt x="972" y="14"/>
                </a:lnTo>
                <a:lnTo>
                  <a:pt x="970" y="16"/>
                </a:lnTo>
                <a:lnTo>
                  <a:pt x="968" y="18"/>
                </a:lnTo>
                <a:lnTo>
                  <a:pt x="966" y="20"/>
                </a:lnTo>
                <a:lnTo>
                  <a:pt x="962" y="21"/>
                </a:lnTo>
                <a:lnTo>
                  <a:pt x="958" y="25"/>
                </a:lnTo>
                <a:lnTo>
                  <a:pt x="952" y="29"/>
                </a:lnTo>
                <a:lnTo>
                  <a:pt x="947" y="33"/>
                </a:lnTo>
                <a:lnTo>
                  <a:pt x="941" y="37"/>
                </a:lnTo>
                <a:lnTo>
                  <a:pt x="933" y="41"/>
                </a:lnTo>
                <a:lnTo>
                  <a:pt x="926" y="44"/>
                </a:lnTo>
                <a:lnTo>
                  <a:pt x="916" y="50"/>
                </a:lnTo>
                <a:lnTo>
                  <a:pt x="906" y="56"/>
                </a:lnTo>
                <a:lnTo>
                  <a:pt x="897" y="62"/>
                </a:lnTo>
                <a:lnTo>
                  <a:pt x="885" y="68"/>
                </a:lnTo>
                <a:lnTo>
                  <a:pt x="874" y="75"/>
                </a:lnTo>
                <a:lnTo>
                  <a:pt x="862" y="83"/>
                </a:lnTo>
                <a:lnTo>
                  <a:pt x="849" y="89"/>
                </a:lnTo>
                <a:lnTo>
                  <a:pt x="833" y="96"/>
                </a:lnTo>
                <a:lnTo>
                  <a:pt x="820" y="106"/>
                </a:lnTo>
                <a:lnTo>
                  <a:pt x="805" y="114"/>
                </a:lnTo>
                <a:lnTo>
                  <a:pt x="789" y="123"/>
                </a:lnTo>
                <a:lnTo>
                  <a:pt x="772" y="131"/>
                </a:lnTo>
                <a:lnTo>
                  <a:pt x="755" y="140"/>
                </a:lnTo>
                <a:lnTo>
                  <a:pt x="736" y="152"/>
                </a:lnTo>
                <a:lnTo>
                  <a:pt x="716" y="162"/>
                </a:lnTo>
                <a:lnTo>
                  <a:pt x="697" y="171"/>
                </a:lnTo>
                <a:lnTo>
                  <a:pt x="678" y="183"/>
                </a:lnTo>
                <a:lnTo>
                  <a:pt x="657" y="194"/>
                </a:lnTo>
                <a:lnTo>
                  <a:pt x="634" y="206"/>
                </a:lnTo>
                <a:lnTo>
                  <a:pt x="613" y="219"/>
                </a:lnTo>
                <a:lnTo>
                  <a:pt x="590" y="231"/>
                </a:lnTo>
                <a:lnTo>
                  <a:pt x="567" y="244"/>
                </a:lnTo>
                <a:lnTo>
                  <a:pt x="544" y="256"/>
                </a:lnTo>
                <a:lnTo>
                  <a:pt x="522" y="267"/>
                </a:lnTo>
                <a:lnTo>
                  <a:pt x="501" y="279"/>
                </a:lnTo>
                <a:lnTo>
                  <a:pt x="480" y="290"/>
                </a:lnTo>
                <a:lnTo>
                  <a:pt x="459" y="300"/>
                </a:lnTo>
                <a:lnTo>
                  <a:pt x="440" y="309"/>
                </a:lnTo>
                <a:lnTo>
                  <a:pt x="423" y="319"/>
                </a:lnTo>
                <a:lnTo>
                  <a:pt x="403" y="329"/>
                </a:lnTo>
                <a:lnTo>
                  <a:pt x="386" y="336"/>
                </a:lnTo>
                <a:lnTo>
                  <a:pt x="369" y="346"/>
                </a:lnTo>
                <a:lnTo>
                  <a:pt x="354" y="354"/>
                </a:lnTo>
                <a:lnTo>
                  <a:pt x="338" y="359"/>
                </a:lnTo>
                <a:lnTo>
                  <a:pt x="323" y="367"/>
                </a:lnTo>
                <a:lnTo>
                  <a:pt x="307" y="373"/>
                </a:lnTo>
                <a:lnTo>
                  <a:pt x="294" y="380"/>
                </a:lnTo>
                <a:lnTo>
                  <a:pt x="281" y="386"/>
                </a:lnTo>
                <a:lnTo>
                  <a:pt x="269" y="390"/>
                </a:lnTo>
                <a:lnTo>
                  <a:pt x="256" y="396"/>
                </a:lnTo>
                <a:lnTo>
                  <a:pt x="246" y="400"/>
                </a:lnTo>
                <a:lnTo>
                  <a:pt x="235" y="405"/>
                </a:lnTo>
                <a:lnTo>
                  <a:pt x="225" y="409"/>
                </a:lnTo>
                <a:lnTo>
                  <a:pt x="215" y="411"/>
                </a:lnTo>
                <a:lnTo>
                  <a:pt x="206" y="415"/>
                </a:lnTo>
                <a:lnTo>
                  <a:pt x="198" y="417"/>
                </a:lnTo>
                <a:lnTo>
                  <a:pt x="190" y="419"/>
                </a:lnTo>
                <a:lnTo>
                  <a:pt x="185" y="421"/>
                </a:lnTo>
                <a:lnTo>
                  <a:pt x="177" y="423"/>
                </a:lnTo>
                <a:lnTo>
                  <a:pt x="173" y="425"/>
                </a:lnTo>
                <a:lnTo>
                  <a:pt x="167" y="425"/>
                </a:lnTo>
                <a:lnTo>
                  <a:pt x="164" y="426"/>
                </a:lnTo>
                <a:lnTo>
                  <a:pt x="160" y="426"/>
                </a:lnTo>
                <a:lnTo>
                  <a:pt x="152" y="426"/>
                </a:lnTo>
                <a:lnTo>
                  <a:pt x="146" y="425"/>
                </a:lnTo>
                <a:lnTo>
                  <a:pt x="139" y="423"/>
                </a:lnTo>
                <a:lnTo>
                  <a:pt x="133" y="419"/>
                </a:lnTo>
                <a:lnTo>
                  <a:pt x="125" y="415"/>
                </a:lnTo>
                <a:lnTo>
                  <a:pt x="119" y="411"/>
                </a:lnTo>
                <a:lnTo>
                  <a:pt x="112" y="405"/>
                </a:lnTo>
                <a:lnTo>
                  <a:pt x="106" y="400"/>
                </a:lnTo>
                <a:lnTo>
                  <a:pt x="98" y="394"/>
                </a:lnTo>
                <a:lnTo>
                  <a:pt x="93" y="386"/>
                </a:lnTo>
                <a:lnTo>
                  <a:pt x="85" y="378"/>
                </a:lnTo>
                <a:lnTo>
                  <a:pt x="79" y="369"/>
                </a:lnTo>
                <a:lnTo>
                  <a:pt x="71" y="361"/>
                </a:lnTo>
                <a:lnTo>
                  <a:pt x="66" y="350"/>
                </a:lnTo>
                <a:lnTo>
                  <a:pt x="58" y="340"/>
                </a:lnTo>
                <a:lnTo>
                  <a:pt x="52" y="329"/>
                </a:lnTo>
                <a:lnTo>
                  <a:pt x="46" y="317"/>
                </a:lnTo>
                <a:lnTo>
                  <a:pt x="39" y="307"/>
                </a:lnTo>
                <a:lnTo>
                  <a:pt x="33" y="296"/>
                </a:lnTo>
                <a:lnTo>
                  <a:pt x="27" y="286"/>
                </a:lnTo>
                <a:lnTo>
                  <a:pt x="23" y="279"/>
                </a:lnTo>
                <a:lnTo>
                  <a:pt x="18" y="271"/>
                </a:lnTo>
                <a:lnTo>
                  <a:pt x="14" y="263"/>
                </a:lnTo>
                <a:lnTo>
                  <a:pt x="10" y="256"/>
                </a:lnTo>
                <a:lnTo>
                  <a:pt x="8" y="248"/>
                </a:lnTo>
                <a:lnTo>
                  <a:pt x="4" y="242"/>
                </a:lnTo>
                <a:lnTo>
                  <a:pt x="2" y="236"/>
                </a:lnTo>
                <a:lnTo>
                  <a:pt x="2" y="233"/>
                </a:lnTo>
                <a:lnTo>
                  <a:pt x="0" y="229"/>
                </a:lnTo>
                <a:lnTo>
                  <a:pt x="2" y="225"/>
                </a:lnTo>
                <a:lnTo>
                  <a:pt x="2" y="221"/>
                </a:lnTo>
                <a:lnTo>
                  <a:pt x="4" y="219"/>
                </a:lnTo>
                <a:lnTo>
                  <a:pt x="10" y="213"/>
                </a:lnTo>
                <a:lnTo>
                  <a:pt x="16" y="210"/>
                </a:lnTo>
                <a:lnTo>
                  <a:pt x="23" y="206"/>
                </a:lnTo>
                <a:lnTo>
                  <a:pt x="31" y="204"/>
                </a:lnTo>
                <a:lnTo>
                  <a:pt x="41" y="202"/>
                </a:lnTo>
                <a:lnTo>
                  <a:pt x="52" y="202"/>
                </a:lnTo>
                <a:lnTo>
                  <a:pt x="56" y="202"/>
                </a:lnTo>
                <a:lnTo>
                  <a:pt x="64" y="204"/>
                </a:lnTo>
                <a:lnTo>
                  <a:pt x="69" y="204"/>
                </a:lnTo>
                <a:lnTo>
                  <a:pt x="75" y="208"/>
                </a:lnTo>
                <a:lnTo>
                  <a:pt x="89" y="211"/>
                </a:lnTo>
                <a:lnTo>
                  <a:pt x="100" y="215"/>
                </a:lnTo>
                <a:lnTo>
                  <a:pt x="112" y="219"/>
                </a:lnTo>
                <a:lnTo>
                  <a:pt x="121" y="223"/>
                </a:lnTo>
                <a:lnTo>
                  <a:pt x="133" y="227"/>
                </a:lnTo>
                <a:lnTo>
                  <a:pt x="140" y="229"/>
                </a:lnTo>
                <a:lnTo>
                  <a:pt x="150" y="231"/>
                </a:lnTo>
                <a:lnTo>
                  <a:pt x="160" y="231"/>
                </a:lnTo>
                <a:lnTo>
                  <a:pt x="162" y="231"/>
                </a:lnTo>
                <a:lnTo>
                  <a:pt x="164" y="231"/>
                </a:lnTo>
                <a:lnTo>
                  <a:pt x="165" y="231"/>
                </a:lnTo>
                <a:lnTo>
                  <a:pt x="169" y="229"/>
                </a:lnTo>
                <a:lnTo>
                  <a:pt x="173" y="229"/>
                </a:lnTo>
                <a:lnTo>
                  <a:pt x="177" y="227"/>
                </a:lnTo>
                <a:lnTo>
                  <a:pt x="183" y="227"/>
                </a:lnTo>
                <a:lnTo>
                  <a:pt x="188" y="225"/>
                </a:lnTo>
                <a:lnTo>
                  <a:pt x="194" y="223"/>
                </a:lnTo>
                <a:lnTo>
                  <a:pt x="202" y="221"/>
                </a:lnTo>
                <a:lnTo>
                  <a:pt x="210" y="219"/>
                </a:lnTo>
                <a:lnTo>
                  <a:pt x="217" y="215"/>
                </a:lnTo>
                <a:lnTo>
                  <a:pt x="227" y="213"/>
                </a:lnTo>
                <a:lnTo>
                  <a:pt x="236" y="211"/>
                </a:lnTo>
                <a:lnTo>
                  <a:pt x="246" y="208"/>
                </a:lnTo>
                <a:lnTo>
                  <a:pt x="256" y="204"/>
                </a:lnTo>
                <a:lnTo>
                  <a:pt x="267" y="200"/>
                </a:lnTo>
                <a:lnTo>
                  <a:pt x="279" y="196"/>
                </a:lnTo>
                <a:lnTo>
                  <a:pt x="292" y="192"/>
                </a:lnTo>
                <a:lnTo>
                  <a:pt x="306" y="188"/>
                </a:lnTo>
                <a:lnTo>
                  <a:pt x="319" y="185"/>
                </a:lnTo>
                <a:lnTo>
                  <a:pt x="332" y="179"/>
                </a:lnTo>
                <a:lnTo>
                  <a:pt x="348" y="175"/>
                </a:lnTo>
                <a:lnTo>
                  <a:pt x="363" y="169"/>
                </a:lnTo>
                <a:lnTo>
                  <a:pt x="379" y="165"/>
                </a:lnTo>
                <a:lnTo>
                  <a:pt x="396" y="160"/>
                </a:lnTo>
                <a:lnTo>
                  <a:pt x="413" y="154"/>
                </a:lnTo>
                <a:lnTo>
                  <a:pt x="430" y="148"/>
                </a:lnTo>
                <a:lnTo>
                  <a:pt x="448" y="140"/>
                </a:lnTo>
                <a:lnTo>
                  <a:pt x="467" y="135"/>
                </a:lnTo>
                <a:lnTo>
                  <a:pt x="486" y="129"/>
                </a:lnTo>
                <a:lnTo>
                  <a:pt x="505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12"/>
          <p:cNvSpPr/>
          <p:nvPr/>
        </p:nvSpPr>
        <p:spPr>
          <a:xfrm>
            <a:off x="6346800" y="3808440"/>
            <a:ext cx="511200" cy="349200"/>
          </a:xfrm>
          <a:custGeom>
            <a:avLst/>
            <a:gdLst/>
            <a:ahLst/>
            <a:rect l="l" t="t" r="r" b="b"/>
            <a:pathLst>
              <a:path w="645" h="440">
                <a:moveTo>
                  <a:pt x="549" y="48"/>
                </a:moveTo>
                <a:lnTo>
                  <a:pt x="561" y="56"/>
                </a:lnTo>
                <a:lnTo>
                  <a:pt x="570" y="61"/>
                </a:lnTo>
                <a:lnTo>
                  <a:pt x="580" y="67"/>
                </a:lnTo>
                <a:lnTo>
                  <a:pt x="588" y="73"/>
                </a:lnTo>
                <a:lnTo>
                  <a:pt x="595" y="79"/>
                </a:lnTo>
                <a:lnTo>
                  <a:pt x="603" y="84"/>
                </a:lnTo>
                <a:lnTo>
                  <a:pt x="609" y="90"/>
                </a:lnTo>
                <a:lnTo>
                  <a:pt x="616" y="94"/>
                </a:lnTo>
                <a:lnTo>
                  <a:pt x="620" y="98"/>
                </a:lnTo>
                <a:lnTo>
                  <a:pt x="626" y="104"/>
                </a:lnTo>
                <a:lnTo>
                  <a:pt x="630" y="107"/>
                </a:lnTo>
                <a:lnTo>
                  <a:pt x="634" y="111"/>
                </a:lnTo>
                <a:lnTo>
                  <a:pt x="639" y="117"/>
                </a:lnTo>
                <a:lnTo>
                  <a:pt x="645" y="123"/>
                </a:lnTo>
                <a:lnTo>
                  <a:pt x="645" y="127"/>
                </a:lnTo>
                <a:lnTo>
                  <a:pt x="643" y="132"/>
                </a:lnTo>
                <a:lnTo>
                  <a:pt x="639" y="140"/>
                </a:lnTo>
                <a:lnTo>
                  <a:pt x="636" y="148"/>
                </a:lnTo>
                <a:lnTo>
                  <a:pt x="632" y="155"/>
                </a:lnTo>
                <a:lnTo>
                  <a:pt x="626" y="165"/>
                </a:lnTo>
                <a:lnTo>
                  <a:pt x="618" y="173"/>
                </a:lnTo>
                <a:lnTo>
                  <a:pt x="611" y="182"/>
                </a:lnTo>
                <a:lnTo>
                  <a:pt x="605" y="188"/>
                </a:lnTo>
                <a:lnTo>
                  <a:pt x="601" y="196"/>
                </a:lnTo>
                <a:lnTo>
                  <a:pt x="595" y="203"/>
                </a:lnTo>
                <a:lnTo>
                  <a:pt x="589" y="213"/>
                </a:lnTo>
                <a:lnTo>
                  <a:pt x="584" y="223"/>
                </a:lnTo>
                <a:lnTo>
                  <a:pt x="578" y="236"/>
                </a:lnTo>
                <a:lnTo>
                  <a:pt x="570" y="250"/>
                </a:lnTo>
                <a:lnTo>
                  <a:pt x="565" y="265"/>
                </a:lnTo>
                <a:lnTo>
                  <a:pt x="557" y="282"/>
                </a:lnTo>
                <a:lnTo>
                  <a:pt x="551" y="299"/>
                </a:lnTo>
                <a:lnTo>
                  <a:pt x="543" y="319"/>
                </a:lnTo>
                <a:lnTo>
                  <a:pt x="536" y="340"/>
                </a:lnTo>
                <a:lnTo>
                  <a:pt x="528" y="363"/>
                </a:lnTo>
                <a:lnTo>
                  <a:pt x="518" y="386"/>
                </a:lnTo>
                <a:lnTo>
                  <a:pt x="511" y="413"/>
                </a:lnTo>
                <a:lnTo>
                  <a:pt x="503" y="440"/>
                </a:lnTo>
                <a:lnTo>
                  <a:pt x="455" y="440"/>
                </a:lnTo>
                <a:lnTo>
                  <a:pt x="407" y="440"/>
                </a:lnTo>
                <a:lnTo>
                  <a:pt x="409" y="415"/>
                </a:lnTo>
                <a:lnTo>
                  <a:pt x="411" y="392"/>
                </a:lnTo>
                <a:lnTo>
                  <a:pt x="413" y="369"/>
                </a:lnTo>
                <a:lnTo>
                  <a:pt x="413" y="347"/>
                </a:lnTo>
                <a:lnTo>
                  <a:pt x="415" y="328"/>
                </a:lnTo>
                <a:lnTo>
                  <a:pt x="415" y="309"/>
                </a:lnTo>
                <a:lnTo>
                  <a:pt x="415" y="292"/>
                </a:lnTo>
                <a:lnTo>
                  <a:pt x="415" y="276"/>
                </a:lnTo>
                <a:lnTo>
                  <a:pt x="415" y="261"/>
                </a:lnTo>
                <a:lnTo>
                  <a:pt x="415" y="248"/>
                </a:lnTo>
                <a:lnTo>
                  <a:pt x="415" y="236"/>
                </a:lnTo>
                <a:lnTo>
                  <a:pt x="413" y="225"/>
                </a:lnTo>
                <a:lnTo>
                  <a:pt x="413" y="215"/>
                </a:lnTo>
                <a:lnTo>
                  <a:pt x="411" y="207"/>
                </a:lnTo>
                <a:lnTo>
                  <a:pt x="409" y="200"/>
                </a:lnTo>
                <a:lnTo>
                  <a:pt x="407" y="196"/>
                </a:lnTo>
                <a:lnTo>
                  <a:pt x="403" y="190"/>
                </a:lnTo>
                <a:lnTo>
                  <a:pt x="401" y="186"/>
                </a:lnTo>
                <a:lnTo>
                  <a:pt x="398" y="182"/>
                </a:lnTo>
                <a:lnTo>
                  <a:pt x="394" y="179"/>
                </a:lnTo>
                <a:lnTo>
                  <a:pt x="388" y="177"/>
                </a:lnTo>
                <a:lnTo>
                  <a:pt x="382" y="173"/>
                </a:lnTo>
                <a:lnTo>
                  <a:pt x="376" y="171"/>
                </a:lnTo>
                <a:lnTo>
                  <a:pt x="371" y="169"/>
                </a:lnTo>
                <a:lnTo>
                  <a:pt x="363" y="167"/>
                </a:lnTo>
                <a:lnTo>
                  <a:pt x="355" y="167"/>
                </a:lnTo>
                <a:lnTo>
                  <a:pt x="348" y="165"/>
                </a:lnTo>
                <a:lnTo>
                  <a:pt x="340" y="165"/>
                </a:lnTo>
                <a:lnTo>
                  <a:pt x="330" y="165"/>
                </a:lnTo>
                <a:lnTo>
                  <a:pt x="321" y="167"/>
                </a:lnTo>
                <a:lnTo>
                  <a:pt x="309" y="169"/>
                </a:lnTo>
                <a:lnTo>
                  <a:pt x="300" y="171"/>
                </a:lnTo>
                <a:lnTo>
                  <a:pt x="288" y="173"/>
                </a:lnTo>
                <a:lnTo>
                  <a:pt x="275" y="175"/>
                </a:lnTo>
                <a:lnTo>
                  <a:pt x="261" y="177"/>
                </a:lnTo>
                <a:lnTo>
                  <a:pt x="248" y="179"/>
                </a:lnTo>
                <a:lnTo>
                  <a:pt x="232" y="180"/>
                </a:lnTo>
                <a:lnTo>
                  <a:pt x="215" y="182"/>
                </a:lnTo>
                <a:lnTo>
                  <a:pt x="200" y="184"/>
                </a:lnTo>
                <a:lnTo>
                  <a:pt x="181" y="186"/>
                </a:lnTo>
                <a:lnTo>
                  <a:pt x="161" y="186"/>
                </a:lnTo>
                <a:lnTo>
                  <a:pt x="142" y="188"/>
                </a:lnTo>
                <a:lnTo>
                  <a:pt x="121" y="188"/>
                </a:lnTo>
                <a:lnTo>
                  <a:pt x="100" y="188"/>
                </a:lnTo>
                <a:lnTo>
                  <a:pt x="77" y="188"/>
                </a:lnTo>
                <a:lnTo>
                  <a:pt x="52" y="186"/>
                </a:lnTo>
                <a:lnTo>
                  <a:pt x="27" y="184"/>
                </a:lnTo>
                <a:lnTo>
                  <a:pt x="0" y="182"/>
                </a:lnTo>
                <a:lnTo>
                  <a:pt x="0" y="140"/>
                </a:lnTo>
                <a:lnTo>
                  <a:pt x="0" y="98"/>
                </a:lnTo>
                <a:lnTo>
                  <a:pt x="25" y="98"/>
                </a:lnTo>
                <a:lnTo>
                  <a:pt x="48" y="96"/>
                </a:lnTo>
                <a:lnTo>
                  <a:pt x="69" y="96"/>
                </a:lnTo>
                <a:lnTo>
                  <a:pt x="90" y="96"/>
                </a:lnTo>
                <a:lnTo>
                  <a:pt x="110" y="94"/>
                </a:lnTo>
                <a:lnTo>
                  <a:pt x="129" y="92"/>
                </a:lnTo>
                <a:lnTo>
                  <a:pt x="148" y="92"/>
                </a:lnTo>
                <a:lnTo>
                  <a:pt x="165" y="90"/>
                </a:lnTo>
                <a:lnTo>
                  <a:pt x="181" y="88"/>
                </a:lnTo>
                <a:lnTo>
                  <a:pt x="196" y="86"/>
                </a:lnTo>
                <a:lnTo>
                  <a:pt x="211" y="84"/>
                </a:lnTo>
                <a:lnTo>
                  <a:pt x="225" y="83"/>
                </a:lnTo>
                <a:lnTo>
                  <a:pt x="238" y="81"/>
                </a:lnTo>
                <a:lnTo>
                  <a:pt x="252" y="77"/>
                </a:lnTo>
                <a:lnTo>
                  <a:pt x="263" y="75"/>
                </a:lnTo>
                <a:lnTo>
                  <a:pt x="275" y="73"/>
                </a:lnTo>
                <a:lnTo>
                  <a:pt x="286" y="71"/>
                </a:lnTo>
                <a:lnTo>
                  <a:pt x="296" y="69"/>
                </a:lnTo>
                <a:lnTo>
                  <a:pt x="305" y="65"/>
                </a:lnTo>
                <a:lnTo>
                  <a:pt x="315" y="63"/>
                </a:lnTo>
                <a:lnTo>
                  <a:pt x="325" y="61"/>
                </a:lnTo>
                <a:lnTo>
                  <a:pt x="332" y="59"/>
                </a:lnTo>
                <a:lnTo>
                  <a:pt x="348" y="54"/>
                </a:lnTo>
                <a:lnTo>
                  <a:pt x="363" y="48"/>
                </a:lnTo>
                <a:lnTo>
                  <a:pt x="374" y="40"/>
                </a:lnTo>
                <a:lnTo>
                  <a:pt x="386" y="33"/>
                </a:lnTo>
                <a:lnTo>
                  <a:pt x="396" y="25"/>
                </a:lnTo>
                <a:lnTo>
                  <a:pt x="399" y="19"/>
                </a:lnTo>
                <a:lnTo>
                  <a:pt x="405" y="15"/>
                </a:lnTo>
                <a:lnTo>
                  <a:pt x="413" y="12"/>
                </a:lnTo>
                <a:lnTo>
                  <a:pt x="421" y="8"/>
                </a:lnTo>
                <a:lnTo>
                  <a:pt x="428" y="4"/>
                </a:lnTo>
                <a:lnTo>
                  <a:pt x="436" y="2"/>
                </a:lnTo>
                <a:lnTo>
                  <a:pt x="446" y="0"/>
                </a:lnTo>
                <a:lnTo>
                  <a:pt x="455" y="0"/>
                </a:lnTo>
                <a:lnTo>
                  <a:pt x="457" y="0"/>
                </a:lnTo>
                <a:lnTo>
                  <a:pt x="459" y="0"/>
                </a:lnTo>
                <a:lnTo>
                  <a:pt x="463" y="2"/>
                </a:lnTo>
                <a:lnTo>
                  <a:pt x="467" y="2"/>
                </a:lnTo>
                <a:lnTo>
                  <a:pt x="472" y="4"/>
                </a:lnTo>
                <a:lnTo>
                  <a:pt x="476" y="6"/>
                </a:lnTo>
                <a:lnTo>
                  <a:pt x="488" y="10"/>
                </a:lnTo>
                <a:lnTo>
                  <a:pt x="501" y="17"/>
                </a:lnTo>
                <a:lnTo>
                  <a:pt x="509" y="21"/>
                </a:lnTo>
                <a:lnTo>
                  <a:pt x="517" y="25"/>
                </a:lnTo>
                <a:lnTo>
                  <a:pt x="524" y="31"/>
                </a:lnTo>
                <a:lnTo>
                  <a:pt x="532" y="36"/>
                </a:lnTo>
                <a:lnTo>
                  <a:pt x="541" y="42"/>
                </a:lnTo>
                <a:lnTo>
                  <a:pt x="549" y="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13"/>
          <p:cNvSpPr/>
          <p:nvPr/>
        </p:nvSpPr>
        <p:spPr>
          <a:xfrm>
            <a:off x="6375240" y="4118040"/>
            <a:ext cx="397080" cy="115920"/>
          </a:xfrm>
          <a:custGeom>
            <a:avLst/>
            <a:gdLst/>
            <a:ahLst/>
            <a:rect l="l" t="t" r="r" b="b"/>
            <a:pathLst>
              <a:path w="501" h="146">
                <a:moveTo>
                  <a:pt x="0" y="61"/>
                </a:moveTo>
                <a:lnTo>
                  <a:pt x="23" y="57"/>
                </a:lnTo>
                <a:lnTo>
                  <a:pt x="46" y="53"/>
                </a:lnTo>
                <a:lnTo>
                  <a:pt x="67" y="51"/>
                </a:lnTo>
                <a:lnTo>
                  <a:pt x="88" y="48"/>
                </a:lnTo>
                <a:lnTo>
                  <a:pt x="109" y="44"/>
                </a:lnTo>
                <a:lnTo>
                  <a:pt x="128" y="42"/>
                </a:lnTo>
                <a:lnTo>
                  <a:pt x="149" y="38"/>
                </a:lnTo>
                <a:lnTo>
                  <a:pt x="167" y="36"/>
                </a:lnTo>
                <a:lnTo>
                  <a:pt x="186" y="32"/>
                </a:lnTo>
                <a:lnTo>
                  <a:pt x="203" y="30"/>
                </a:lnTo>
                <a:lnTo>
                  <a:pt x="220" y="28"/>
                </a:lnTo>
                <a:lnTo>
                  <a:pt x="236" y="25"/>
                </a:lnTo>
                <a:lnTo>
                  <a:pt x="253" y="23"/>
                </a:lnTo>
                <a:lnTo>
                  <a:pt x="268" y="21"/>
                </a:lnTo>
                <a:lnTo>
                  <a:pt x="282" y="19"/>
                </a:lnTo>
                <a:lnTo>
                  <a:pt x="297" y="17"/>
                </a:lnTo>
                <a:lnTo>
                  <a:pt x="311" y="15"/>
                </a:lnTo>
                <a:lnTo>
                  <a:pt x="322" y="13"/>
                </a:lnTo>
                <a:lnTo>
                  <a:pt x="336" y="11"/>
                </a:lnTo>
                <a:lnTo>
                  <a:pt x="347" y="9"/>
                </a:lnTo>
                <a:lnTo>
                  <a:pt x="357" y="7"/>
                </a:lnTo>
                <a:lnTo>
                  <a:pt x="368" y="7"/>
                </a:lnTo>
                <a:lnTo>
                  <a:pt x="378" y="5"/>
                </a:lnTo>
                <a:lnTo>
                  <a:pt x="387" y="3"/>
                </a:lnTo>
                <a:lnTo>
                  <a:pt x="395" y="3"/>
                </a:lnTo>
                <a:lnTo>
                  <a:pt x="405" y="2"/>
                </a:lnTo>
                <a:lnTo>
                  <a:pt x="412" y="2"/>
                </a:lnTo>
                <a:lnTo>
                  <a:pt x="418" y="2"/>
                </a:lnTo>
                <a:lnTo>
                  <a:pt x="426" y="0"/>
                </a:lnTo>
                <a:lnTo>
                  <a:pt x="432" y="0"/>
                </a:lnTo>
                <a:lnTo>
                  <a:pt x="437" y="0"/>
                </a:lnTo>
                <a:lnTo>
                  <a:pt x="441" y="0"/>
                </a:lnTo>
                <a:lnTo>
                  <a:pt x="455" y="0"/>
                </a:lnTo>
                <a:lnTo>
                  <a:pt x="466" y="2"/>
                </a:lnTo>
                <a:lnTo>
                  <a:pt x="476" y="5"/>
                </a:lnTo>
                <a:lnTo>
                  <a:pt x="483" y="9"/>
                </a:lnTo>
                <a:lnTo>
                  <a:pt x="491" y="15"/>
                </a:lnTo>
                <a:lnTo>
                  <a:pt x="495" y="17"/>
                </a:lnTo>
                <a:lnTo>
                  <a:pt x="497" y="21"/>
                </a:lnTo>
                <a:lnTo>
                  <a:pt x="499" y="25"/>
                </a:lnTo>
                <a:lnTo>
                  <a:pt x="499" y="28"/>
                </a:lnTo>
                <a:lnTo>
                  <a:pt x="501" y="32"/>
                </a:lnTo>
                <a:lnTo>
                  <a:pt x="501" y="36"/>
                </a:lnTo>
                <a:lnTo>
                  <a:pt x="501" y="42"/>
                </a:lnTo>
                <a:lnTo>
                  <a:pt x="499" y="46"/>
                </a:lnTo>
                <a:lnTo>
                  <a:pt x="495" y="50"/>
                </a:lnTo>
                <a:lnTo>
                  <a:pt x="491" y="55"/>
                </a:lnTo>
                <a:lnTo>
                  <a:pt x="487" y="59"/>
                </a:lnTo>
                <a:lnTo>
                  <a:pt x="480" y="63"/>
                </a:lnTo>
                <a:lnTo>
                  <a:pt x="472" y="69"/>
                </a:lnTo>
                <a:lnTo>
                  <a:pt x="464" y="73"/>
                </a:lnTo>
                <a:lnTo>
                  <a:pt x="453" y="76"/>
                </a:lnTo>
                <a:lnTo>
                  <a:pt x="441" y="82"/>
                </a:lnTo>
                <a:lnTo>
                  <a:pt x="430" y="86"/>
                </a:lnTo>
                <a:lnTo>
                  <a:pt x="414" y="92"/>
                </a:lnTo>
                <a:lnTo>
                  <a:pt x="399" y="96"/>
                </a:lnTo>
                <a:lnTo>
                  <a:pt x="384" y="99"/>
                </a:lnTo>
                <a:lnTo>
                  <a:pt x="364" y="105"/>
                </a:lnTo>
                <a:lnTo>
                  <a:pt x="345" y="109"/>
                </a:lnTo>
                <a:lnTo>
                  <a:pt x="305" y="119"/>
                </a:lnTo>
                <a:lnTo>
                  <a:pt x="263" y="126"/>
                </a:lnTo>
                <a:lnTo>
                  <a:pt x="220" y="132"/>
                </a:lnTo>
                <a:lnTo>
                  <a:pt x="176" y="138"/>
                </a:lnTo>
                <a:lnTo>
                  <a:pt x="132" y="142"/>
                </a:lnTo>
                <a:lnTo>
                  <a:pt x="88" y="144"/>
                </a:lnTo>
                <a:lnTo>
                  <a:pt x="44" y="146"/>
                </a:lnTo>
                <a:lnTo>
                  <a:pt x="0" y="146"/>
                </a:lnTo>
                <a:lnTo>
                  <a:pt x="0" y="103"/>
                </a:lnTo>
                <a:lnTo>
                  <a:pt x="0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14"/>
          <p:cNvSpPr/>
          <p:nvPr/>
        </p:nvSpPr>
        <p:spPr>
          <a:xfrm>
            <a:off x="6284880" y="3862440"/>
            <a:ext cx="138240" cy="439560"/>
          </a:xfrm>
          <a:custGeom>
            <a:avLst/>
            <a:gdLst/>
            <a:ahLst/>
            <a:rect l="l" t="t" r="r" b="b"/>
            <a:pathLst>
              <a:path w="173" h="555">
                <a:moveTo>
                  <a:pt x="18" y="79"/>
                </a:moveTo>
                <a:lnTo>
                  <a:pt x="14" y="73"/>
                </a:lnTo>
                <a:lnTo>
                  <a:pt x="10" y="65"/>
                </a:lnTo>
                <a:lnTo>
                  <a:pt x="6" y="60"/>
                </a:lnTo>
                <a:lnTo>
                  <a:pt x="4" y="54"/>
                </a:lnTo>
                <a:lnTo>
                  <a:pt x="2" y="48"/>
                </a:lnTo>
                <a:lnTo>
                  <a:pt x="0" y="42"/>
                </a:lnTo>
                <a:lnTo>
                  <a:pt x="0" y="39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2" y="21"/>
                </a:lnTo>
                <a:lnTo>
                  <a:pt x="4" y="17"/>
                </a:lnTo>
                <a:lnTo>
                  <a:pt x="6" y="14"/>
                </a:lnTo>
                <a:lnTo>
                  <a:pt x="10" y="12"/>
                </a:lnTo>
                <a:lnTo>
                  <a:pt x="14" y="8"/>
                </a:lnTo>
                <a:lnTo>
                  <a:pt x="18" y="6"/>
                </a:lnTo>
                <a:lnTo>
                  <a:pt x="20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43" y="0"/>
                </a:lnTo>
                <a:lnTo>
                  <a:pt x="50" y="2"/>
                </a:lnTo>
                <a:lnTo>
                  <a:pt x="60" y="2"/>
                </a:lnTo>
                <a:lnTo>
                  <a:pt x="70" y="4"/>
                </a:lnTo>
                <a:lnTo>
                  <a:pt x="79" y="6"/>
                </a:lnTo>
                <a:lnTo>
                  <a:pt x="91" y="8"/>
                </a:lnTo>
                <a:lnTo>
                  <a:pt x="102" y="12"/>
                </a:lnTo>
                <a:lnTo>
                  <a:pt x="116" y="14"/>
                </a:lnTo>
                <a:lnTo>
                  <a:pt x="129" y="17"/>
                </a:lnTo>
                <a:lnTo>
                  <a:pt x="142" y="21"/>
                </a:lnTo>
                <a:lnTo>
                  <a:pt x="158" y="25"/>
                </a:lnTo>
                <a:lnTo>
                  <a:pt x="173" y="31"/>
                </a:lnTo>
                <a:lnTo>
                  <a:pt x="173" y="56"/>
                </a:lnTo>
                <a:lnTo>
                  <a:pt x="173" y="81"/>
                </a:lnTo>
                <a:lnTo>
                  <a:pt x="173" y="106"/>
                </a:lnTo>
                <a:lnTo>
                  <a:pt x="173" y="131"/>
                </a:lnTo>
                <a:lnTo>
                  <a:pt x="173" y="154"/>
                </a:lnTo>
                <a:lnTo>
                  <a:pt x="173" y="175"/>
                </a:lnTo>
                <a:lnTo>
                  <a:pt x="173" y="196"/>
                </a:lnTo>
                <a:lnTo>
                  <a:pt x="173" y="217"/>
                </a:lnTo>
                <a:lnTo>
                  <a:pt x="173" y="238"/>
                </a:lnTo>
                <a:lnTo>
                  <a:pt x="173" y="257"/>
                </a:lnTo>
                <a:lnTo>
                  <a:pt x="173" y="277"/>
                </a:lnTo>
                <a:lnTo>
                  <a:pt x="173" y="294"/>
                </a:lnTo>
                <a:lnTo>
                  <a:pt x="173" y="311"/>
                </a:lnTo>
                <a:lnTo>
                  <a:pt x="171" y="328"/>
                </a:lnTo>
                <a:lnTo>
                  <a:pt x="171" y="344"/>
                </a:lnTo>
                <a:lnTo>
                  <a:pt x="171" y="359"/>
                </a:lnTo>
                <a:lnTo>
                  <a:pt x="171" y="374"/>
                </a:lnTo>
                <a:lnTo>
                  <a:pt x="171" y="388"/>
                </a:lnTo>
                <a:lnTo>
                  <a:pt x="171" y="401"/>
                </a:lnTo>
                <a:lnTo>
                  <a:pt x="169" y="413"/>
                </a:lnTo>
                <a:lnTo>
                  <a:pt x="169" y="424"/>
                </a:lnTo>
                <a:lnTo>
                  <a:pt x="169" y="436"/>
                </a:lnTo>
                <a:lnTo>
                  <a:pt x="169" y="446"/>
                </a:lnTo>
                <a:lnTo>
                  <a:pt x="167" y="455"/>
                </a:lnTo>
                <a:lnTo>
                  <a:pt x="167" y="465"/>
                </a:lnTo>
                <a:lnTo>
                  <a:pt x="167" y="472"/>
                </a:lnTo>
                <a:lnTo>
                  <a:pt x="165" y="480"/>
                </a:lnTo>
                <a:lnTo>
                  <a:pt x="165" y="486"/>
                </a:lnTo>
                <a:lnTo>
                  <a:pt x="164" y="492"/>
                </a:lnTo>
                <a:lnTo>
                  <a:pt x="164" y="497"/>
                </a:lnTo>
                <a:lnTo>
                  <a:pt x="162" y="501"/>
                </a:lnTo>
                <a:lnTo>
                  <a:pt x="162" y="505"/>
                </a:lnTo>
                <a:lnTo>
                  <a:pt x="160" y="513"/>
                </a:lnTo>
                <a:lnTo>
                  <a:pt x="156" y="518"/>
                </a:lnTo>
                <a:lnTo>
                  <a:pt x="154" y="524"/>
                </a:lnTo>
                <a:lnTo>
                  <a:pt x="150" y="528"/>
                </a:lnTo>
                <a:lnTo>
                  <a:pt x="146" y="534"/>
                </a:lnTo>
                <a:lnTo>
                  <a:pt x="144" y="538"/>
                </a:lnTo>
                <a:lnTo>
                  <a:pt x="137" y="543"/>
                </a:lnTo>
                <a:lnTo>
                  <a:pt x="131" y="549"/>
                </a:lnTo>
                <a:lnTo>
                  <a:pt x="123" y="551"/>
                </a:lnTo>
                <a:lnTo>
                  <a:pt x="118" y="553"/>
                </a:lnTo>
                <a:lnTo>
                  <a:pt x="114" y="555"/>
                </a:lnTo>
                <a:lnTo>
                  <a:pt x="110" y="553"/>
                </a:lnTo>
                <a:lnTo>
                  <a:pt x="104" y="551"/>
                </a:lnTo>
                <a:lnTo>
                  <a:pt x="100" y="547"/>
                </a:lnTo>
                <a:lnTo>
                  <a:pt x="98" y="541"/>
                </a:lnTo>
                <a:lnTo>
                  <a:pt x="94" y="534"/>
                </a:lnTo>
                <a:lnTo>
                  <a:pt x="91" y="524"/>
                </a:lnTo>
                <a:lnTo>
                  <a:pt x="89" y="513"/>
                </a:lnTo>
                <a:lnTo>
                  <a:pt x="85" y="499"/>
                </a:lnTo>
                <a:lnTo>
                  <a:pt x="83" y="486"/>
                </a:lnTo>
                <a:lnTo>
                  <a:pt x="79" y="469"/>
                </a:lnTo>
                <a:lnTo>
                  <a:pt x="77" y="451"/>
                </a:lnTo>
                <a:lnTo>
                  <a:pt x="75" y="432"/>
                </a:lnTo>
                <a:lnTo>
                  <a:pt x="71" y="409"/>
                </a:lnTo>
                <a:lnTo>
                  <a:pt x="70" y="386"/>
                </a:lnTo>
                <a:lnTo>
                  <a:pt x="68" y="361"/>
                </a:lnTo>
                <a:lnTo>
                  <a:pt x="66" y="336"/>
                </a:lnTo>
                <a:lnTo>
                  <a:pt x="64" y="309"/>
                </a:lnTo>
                <a:lnTo>
                  <a:pt x="62" y="282"/>
                </a:lnTo>
                <a:lnTo>
                  <a:pt x="58" y="259"/>
                </a:lnTo>
                <a:lnTo>
                  <a:pt x="56" y="236"/>
                </a:lnTo>
                <a:lnTo>
                  <a:pt x="54" y="215"/>
                </a:lnTo>
                <a:lnTo>
                  <a:pt x="52" y="196"/>
                </a:lnTo>
                <a:lnTo>
                  <a:pt x="48" y="179"/>
                </a:lnTo>
                <a:lnTo>
                  <a:pt x="46" y="161"/>
                </a:lnTo>
                <a:lnTo>
                  <a:pt x="43" y="146"/>
                </a:lnTo>
                <a:lnTo>
                  <a:pt x="41" y="133"/>
                </a:lnTo>
                <a:lnTo>
                  <a:pt x="37" y="119"/>
                </a:lnTo>
                <a:lnTo>
                  <a:pt x="33" y="110"/>
                </a:lnTo>
                <a:lnTo>
                  <a:pt x="29" y="100"/>
                </a:lnTo>
                <a:lnTo>
                  <a:pt x="25" y="90"/>
                </a:lnTo>
                <a:lnTo>
                  <a:pt x="22" y="85"/>
                </a:lnTo>
                <a:lnTo>
                  <a:pt x="18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15"/>
          <p:cNvSpPr/>
          <p:nvPr/>
        </p:nvSpPr>
        <p:spPr>
          <a:xfrm>
            <a:off x="5510160" y="4127400"/>
            <a:ext cx="762120" cy="426960"/>
          </a:xfrm>
          <a:custGeom>
            <a:avLst/>
            <a:gdLst/>
            <a:ahLst/>
            <a:rect l="l" t="t" r="r" b="b"/>
            <a:pathLst>
              <a:path w="960" h="540">
                <a:moveTo>
                  <a:pt x="64" y="330"/>
                </a:moveTo>
                <a:lnTo>
                  <a:pt x="77" y="334"/>
                </a:lnTo>
                <a:lnTo>
                  <a:pt x="89" y="340"/>
                </a:lnTo>
                <a:lnTo>
                  <a:pt x="100" y="344"/>
                </a:lnTo>
                <a:lnTo>
                  <a:pt x="112" y="346"/>
                </a:lnTo>
                <a:lnTo>
                  <a:pt x="123" y="348"/>
                </a:lnTo>
                <a:lnTo>
                  <a:pt x="135" y="348"/>
                </a:lnTo>
                <a:lnTo>
                  <a:pt x="141" y="348"/>
                </a:lnTo>
                <a:lnTo>
                  <a:pt x="146" y="346"/>
                </a:lnTo>
                <a:lnTo>
                  <a:pt x="152" y="344"/>
                </a:lnTo>
                <a:lnTo>
                  <a:pt x="160" y="342"/>
                </a:lnTo>
                <a:lnTo>
                  <a:pt x="162" y="342"/>
                </a:lnTo>
                <a:lnTo>
                  <a:pt x="166" y="340"/>
                </a:lnTo>
                <a:lnTo>
                  <a:pt x="169" y="338"/>
                </a:lnTo>
                <a:lnTo>
                  <a:pt x="173" y="336"/>
                </a:lnTo>
                <a:lnTo>
                  <a:pt x="179" y="332"/>
                </a:lnTo>
                <a:lnTo>
                  <a:pt x="185" y="330"/>
                </a:lnTo>
                <a:lnTo>
                  <a:pt x="192" y="326"/>
                </a:lnTo>
                <a:lnTo>
                  <a:pt x="200" y="325"/>
                </a:lnTo>
                <a:lnTo>
                  <a:pt x="208" y="321"/>
                </a:lnTo>
                <a:lnTo>
                  <a:pt x="215" y="317"/>
                </a:lnTo>
                <a:lnTo>
                  <a:pt x="225" y="313"/>
                </a:lnTo>
                <a:lnTo>
                  <a:pt x="237" y="307"/>
                </a:lnTo>
                <a:lnTo>
                  <a:pt x="246" y="303"/>
                </a:lnTo>
                <a:lnTo>
                  <a:pt x="258" y="298"/>
                </a:lnTo>
                <a:lnTo>
                  <a:pt x="271" y="292"/>
                </a:lnTo>
                <a:lnTo>
                  <a:pt x="283" y="286"/>
                </a:lnTo>
                <a:lnTo>
                  <a:pt x="296" y="280"/>
                </a:lnTo>
                <a:lnTo>
                  <a:pt x="311" y="275"/>
                </a:lnTo>
                <a:lnTo>
                  <a:pt x="327" y="267"/>
                </a:lnTo>
                <a:lnTo>
                  <a:pt x="342" y="261"/>
                </a:lnTo>
                <a:lnTo>
                  <a:pt x="357" y="254"/>
                </a:lnTo>
                <a:lnTo>
                  <a:pt x="375" y="246"/>
                </a:lnTo>
                <a:lnTo>
                  <a:pt x="392" y="236"/>
                </a:lnTo>
                <a:lnTo>
                  <a:pt x="409" y="229"/>
                </a:lnTo>
                <a:lnTo>
                  <a:pt x="428" y="219"/>
                </a:lnTo>
                <a:lnTo>
                  <a:pt x="448" y="211"/>
                </a:lnTo>
                <a:lnTo>
                  <a:pt x="469" y="202"/>
                </a:lnTo>
                <a:lnTo>
                  <a:pt x="488" y="190"/>
                </a:lnTo>
                <a:lnTo>
                  <a:pt x="509" y="181"/>
                </a:lnTo>
                <a:lnTo>
                  <a:pt x="532" y="169"/>
                </a:lnTo>
                <a:lnTo>
                  <a:pt x="553" y="159"/>
                </a:lnTo>
                <a:lnTo>
                  <a:pt x="578" y="148"/>
                </a:lnTo>
                <a:lnTo>
                  <a:pt x="601" y="136"/>
                </a:lnTo>
                <a:lnTo>
                  <a:pt x="622" y="127"/>
                </a:lnTo>
                <a:lnTo>
                  <a:pt x="643" y="117"/>
                </a:lnTo>
                <a:lnTo>
                  <a:pt x="665" y="110"/>
                </a:lnTo>
                <a:lnTo>
                  <a:pt x="686" y="100"/>
                </a:lnTo>
                <a:lnTo>
                  <a:pt x="705" y="92"/>
                </a:lnTo>
                <a:lnTo>
                  <a:pt x="722" y="83"/>
                </a:lnTo>
                <a:lnTo>
                  <a:pt x="741" y="75"/>
                </a:lnTo>
                <a:lnTo>
                  <a:pt x="757" y="69"/>
                </a:lnTo>
                <a:lnTo>
                  <a:pt x="774" y="62"/>
                </a:lnTo>
                <a:lnTo>
                  <a:pt x="789" y="56"/>
                </a:lnTo>
                <a:lnTo>
                  <a:pt x="805" y="48"/>
                </a:lnTo>
                <a:lnTo>
                  <a:pt x="818" y="42"/>
                </a:lnTo>
                <a:lnTo>
                  <a:pt x="832" y="37"/>
                </a:lnTo>
                <a:lnTo>
                  <a:pt x="845" y="33"/>
                </a:lnTo>
                <a:lnTo>
                  <a:pt x="856" y="27"/>
                </a:lnTo>
                <a:lnTo>
                  <a:pt x="868" y="23"/>
                </a:lnTo>
                <a:lnTo>
                  <a:pt x="880" y="19"/>
                </a:lnTo>
                <a:lnTo>
                  <a:pt x="889" y="16"/>
                </a:lnTo>
                <a:lnTo>
                  <a:pt x="899" y="12"/>
                </a:lnTo>
                <a:lnTo>
                  <a:pt x="908" y="10"/>
                </a:lnTo>
                <a:lnTo>
                  <a:pt x="916" y="8"/>
                </a:lnTo>
                <a:lnTo>
                  <a:pt x="924" y="4"/>
                </a:lnTo>
                <a:lnTo>
                  <a:pt x="929" y="4"/>
                </a:lnTo>
                <a:lnTo>
                  <a:pt x="935" y="2"/>
                </a:lnTo>
                <a:lnTo>
                  <a:pt x="941" y="0"/>
                </a:lnTo>
                <a:lnTo>
                  <a:pt x="945" y="0"/>
                </a:lnTo>
                <a:lnTo>
                  <a:pt x="951" y="0"/>
                </a:lnTo>
                <a:lnTo>
                  <a:pt x="952" y="0"/>
                </a:lnTo>
                <a:lnTo>
                  <a:pt x="956" y="0"/>
                </a:lnTo>
                <a:lnTo>
                  <a:pt x="958" y="0"/>
                </a:lnTo>
                <a:lnTo>
                  <a:pt x="960" y="2"/>
                </a:lnTo>
                <a:lnTo>
                  <a:pt x="958" y="4"/>
                </a:lnTo>
                <a:lnTo>
                  <a:pt x="956" y="8"/>
                </a:lnTo>
                <a:lnTo>
                  <a:pt x="954" y="12"/>
                </a:lnTo>
                <a:lnTo>
                  <a:pt x="951" y="17"/>
                </a:lnTo>
                <a:lnTo>
                  <a:pt x="945" y="23"/>
                </a:lnTo>
                <a:lnTo>
                  <a:pt x="939" y="29"/>
                </a:lnTo>
                <a:lnTo>
                  <a:pt x="931" y="37"/>
                </a:lnTo>
                <a:lnTo>
                  <a:pt x="922" y="44"/>
                </a:lnTo>
                <a:lnTo>
                  <a:pt x="912" y="54"/>
                </a:lnTo>
                <a:lnTo>
                  <a:pt x="901" y="64"/>
                </a:lnTo>
                <a:lnTo>
                  <a:pt x="887" y="73"/>
                </a:lnTo>
                <a:lnTo>
                  <a:pt x="874" y="85"/>
                </a:lnTo>
                <a:lnTo>
                  <a:pt x="858" y="96"/>
                </a:lnTo>
                <a:lnTo>
                  <a:pt x="841" y="108"/>
                </a:lnTo>
                <a:lnTo>
                  <a:pt x="824" y="121"/>
                </a:lnTo>
                <a:lnTo>
                  <a:pt x="805" y="135"/>
                </a:lnTo>
                <a:lnTo>
                  <a:pt x="764" y="167"/>
                </a:lnTo>
                <a:lnTo>
                  <a:pt x="722" y="200"/>
                </a:lnTo>
                <a:lnTo>
                  <a:pt x="682" y="232"/>
                </a:lnTo>
                <a:lnTo>
                  <a:pt x="640" y="265"/>
                </a:lnTo>
                <a:lnTo>
                  <a:pt x="595" y="298"/>
                </a:lnTo>
                <a:lnTo>
                  <a:pt x="551" y="332"/>
                </a:lnTo>
                <a:lnTo>
                  <a:pt x="505" y="367"/>
                </a:lnTo>
                <a:lnTo>
                  <a:pt x="482" y="384"/>
                </a:lnTo>
                <a:lnTo>
                  <a:pt x="457" y="403"/>
                </a:lnTo>
                <a:lnTo>
                  <a:pt x="434" y="421"/>
                </a:lnTo>
                <a:lnTo>
                  <a:pt x="411" y="438"/>
                </a:lnTo>
                <a:lnTo>
                  <a:pt x="388" y="453"/>
                </a:lnTo>
                <a:lnTo>
                  <a:pt x="367" y="469"/>
                </a:lnTo>
                <a:lnTo>
                  <a:pt x="346" y="480"/>
                </a:lnTo>
                <a:lnTo>
                  <a:pt x="327" y="492"/>
                </a:lnTo>
                <a:lnTo>
                  <a:pt x="308" y="503"/>
                </a:lnTo>
                <a:lnTo>
                  <a:pt x="290" y="513"/>
                </a:lnTo>
                <a:lnTo>
                  <a:pt x="275" y="520"/>
                </a:lnTo>
                <a:lnTo>
                  <a:pt x="260" y="526"/>
                </a:lnTo>
                <a:lnTo>
                  <a:pt x="246" y="532"/>
                </a:lnTo>
                <a:lnTo>
                  <a:pt x="233" y="536"/>
                </a:lnTo>
                <a:lnTo>
                  <a:pt x="221" y="538"/>
                </a:lnTo>
                <a:lnTo>
                  <a:pt x="212" y="540"/>
                </a:lnTo>
                <a:lnTo>
                  <a:pt x="202" y="540"/>
                </a:lnTo>
                <a:lnTo>
                  <a:pt x="194" y="538"/>
                </a:lnTo>
                <a:lnTo>
                  <a:pt x="187" y="538"/>
                </a:lnTo>
                <a:lnTo>
                  <a:pt x="177" y="536"/>
                </a:lnTo>
                <a:lnTo>
                  <a:pt x="167" y="536"/>
                </a:lnTo>
                <a:lnTo>
                  <a:pt x="160" y="534"/>
                </a:lnTo>
                <a:lnTo>
                  <a:pt x="150" y="530"/>
                </a:lnTo>
                <a:lnTo>
                  <a:pt x="142" y="526"/>
                </a:lnTo>
                <a:lnTo>
                  <a:pt x="133" y="522"/>
                </a:lnTo>
                <a:lnTo>
                  <a:pt x="125" y="518"/>
                </a:lnTo>
                <a:lnTo>
                  <a:pt x="116" y="513"/>
                </a:lnTo>
                <a:lnTo>
                  <a:pt x="108" y="507"/>
                </a:lnTo>
                <a:lnTo>
                  <a:pt x="100" y="499"/>
                </a:lnTo>
                <a:lnTo>
                  <a:pt x="93" y="492"/>
                </a:lnTo>
                <a:lnTo>
                  <a:pt x="85" y="482"/>
                </a:lnTo>
                <a:lnTo>
                  <a:pt x="77" y="474"/>
                </a:lnTo>
                <a:lnTo>
                  <a:pt x="71" y="463"/>
                </a:lnTo>
                <a:lnTo>
                  <a:pt x="64" y="453"/>
                </a:lnTo>
                <a:lnTo>
                  <a:pt x="56" y="444"/>
                </a:lnTo>
                <a:lnTo>
                  <a:pt x="47" y="434"/>
                </a:lnTo>
                <a:lnTo>
                  <a:pt x="39" y="426"/>
                </a:lnTo>
                <a:lnTo>
                  <a:pt x="33" y="419"/>
                </a:lnTo>
                <a:lnTo>
                  <a:pt x="27" y="409"/>
                </a:lnTo>
                <a:lnTo>
                  <a:pt x="22" y="401"/>
                </a:lnTo>
                <a:lnTo>
                  <a:pt x="16" y="396"/>
                </a:lnTo>
                <a:lnTo>
                  <a:pt x="12" y="388"/>
                </a:lnTo>
                <a:lnTo>
                  <a:pt x="8" y="382"/>
                </a:lnTo>
                <a:lnTo>
                  <a:pt x="4" y="374"/>
                </a:lnTo>
                <a:lnTo>
                  <a:pt x="2" y="369"/>
                </a:lnTo>
                <a:lnTo>
                  <a:pt x="2" y="363"/>
                </a:lnTo>
                <a:lnTo>
                  <a:pt x="0" y="357"/>
                </a:lnTo>
                <a:lnTo>
                  <a:pt x="0" y="351"/>
                </a:lnTo>
                <a:lnTo>
                  <a:pt x="2" y="348"/>
                </a:lnTo>
                <a:lnTo>
                  <a:pt x="4" y="342"/>
                </a:lnTo>
                <a:lnTo>
                  <a:pt x="6" y="338"/>
                </a:lnTo>
                <a:lnTo>
                  <a:pt x="8" y="334"/>
                </a:lnTo>
                <a:lnTo>
                  <a:pt x="10" y="330"/>
                </a:lnTo>
                <a:lnTo>
                  <a:pt x="14" y="328"/>
                </a:lnTo>
                <a:lnTo>
                  <a:pt x="16" y="326"/>
                </a:lnTo>
                <a:lnTo>
                  <a:pt x="18" y="325"/>
                </a:lnTo>
                <a:lnTo>
                  <a:pt x="25" y="323"/>
                </a:lnTo>
                <a:lnTo>
                  <a:pt x="33" y="323"/>
                </a:lnTo>
                <a:lnTo>
                  <a:pt x="41" y="323"/>
                </a:lnTo>
                <a:lnTo>
                  <a:pt x="47" y="325"/>
                </a:lnTo>
                <a:lnTo>
                  <a:pt x="52" y="326"/>
                </a:lnTo>
                <a:lnTo>
                  <a:pt x="58" y="328"/>
                </a:lnTo>
                <a:lnTo>
                  <a:pt x="64" y="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16"/>
          <p:cNvSpPr/>
          <p:nvPr/>
        </p:nvSpPr>
        <p:spPr>
          <a:xfrm>
            <a:off x="5850000" y="3009960"/>
            <a:ext cx="234720" cy="1292040"/>
          </a:xfrm>
          <a:custGeom>
            <a:avLst/>
            <a:gdLst/>
            <a:ahLst/>
            <a:rect l="l" t="t" r="r" b="b"/>
            <a:pathLst>
              <a:path w="298" h="1628">
                <a:moveTo>
                  <a:pt x="244" y="628"/>
                </a:moveTo>
                <a:lnTo>
                  <a:pt x="244" y="647"/>
                </a:lnTo>
                <a:lnTo>
                  <a:pt x="244" y="668"/>
                </a:lnTo>
                <a:lnTo>
                  <a:pt x="244" y="689"/>
                </a:lnTo>
                <a:lnTo>
                  <a:pt x="244" y="710"/>
                </a:lnTo>
                <a:lnTo>
                  <a:pt x="244" y="733"/>
                </a:lnTo>
                <a:lnTo>
                  <a:pt x="244" y="756"/>
                </a:lnTo>
                <a:lnTo>
                  <a:pt x="244" y="781"/>
                </a:lnTo>
                <a:lnTo>
                  <a:pt x="244" y="806"/>
                </a:lnTo>
                <a:lnTo>
                  <a:pt x="244" y="831"/>
                </a:lnTo>
                <a:lnTo>
                  <a:pt x="244" y="858"/>
                </a:lnTo>
                <a:lnTo>
                  <a:pt x="244" y="885"/>
                </a:lnTo>
                <a:lnTo>
                  <a:pt x="244" y="912"/>
                </a:lnTo>
                <a:lnTo>
                  <a:pt x="244" y="941"/>
                </a:lnTo>
                <a:lnTo>
                  <a:pt x="244" y="970"/>
                </a:lnTo>
                <a:lnTo>
                  <a:pt x="244" y="1000"/>
                </a:lnTo>
                <a:lnTo>
                  <a:pt x="242" y="1031"/>
                </a:lnTo>
                <a:lnTo>
                  <a:pt x="242" y="1062"/>
                </a:lnTo>
                <a:lnTo>
                  <a:pt x="242" y="1094"/>
                </a:lnTo>
                <a:lnTo>
                  <a:pt x="242" y="1127"/>
                </a:lnTo>
                <a:lnTo>
                  <a:pt x="242" y="1160"/>
                </a:lnTo>
                <a:lnTo>
                  <a:pt x="240" y="1194"/>
                </a:lnTo>
                <a:lnTo>
                  <a:pt x="240" y="1229"/>
                </a:lnTo>
                <a:lnTo>
                  <a:pt x="240" y="1263"/>
                </a:lnTo>
                <a:lnTo>
                  <a:pt x="240" y="1300"/>
                </a:lnTo>
                <a:lnTo>
                  <a:pt x="238" y="1336"/>
                </a:lnTo>
                <a:lnTo>
                  <a:pt x="238" y="1375"/>
                </a:lnTo>
                <a:lnTo>
                  <a:pt x="237" y="1413"/>
                </a:lnTo>
                <a:lnTo>
                  <a:pt x="237" y="1451"/>
                </a:lnTo>
                <a:lnTo>
                  <a:pt x="237" y="1492"/>
                </a:lnTo>
                <a:lnTo>
                  <a:pt x="235" y="1532"/>
                </a:lnTo>
                <a:lnTo>
                  <a:pt x="235" y="1574"/>
                </a:lnTo>
                <a:lnTo>
                  <a:pt x="233" y="1616"/>
                </a:lnTo>
                <a:lnTo>
                  <a:pt x="162" y="1622"/>
                </a:lnTo>
                <a:lnTo>
                  <a:pt x="89" y="1628"/>
                </a:lnTo>
                <a:lnTo>
                  <a:pt x="91" y="1570"/>
                </a:lnTo>
                <a:lnTo>
                  <a:pt x="93" y="1515"/>
                </a:lnTo>
                <a:lnTo>
                  <a:pt x="95" y="1461"/>
                </a:lnTo>
                <a:lnTo>
                  <a:pt x="96" y="1405"/>
                </a:lnTo>
                <a:lnTo>
                  <a:pt x="96" y="1353"/>
                </a:lnTo>
                <a:lnTo>
                  <a:pt x="98" y="1302"/>
                </a:lnTo>
                <a:lnTo>
                  <a:pt x="98" y="1250"/>
                </a:lnTo>
                <a:lnTo>
                  <a:pt x="100" y="1200"/>
                </a:lnTo>
                <a:lnTo>
                  <a:pt x="100" y="1150"/>
                </a:lnTo>
                <a:lnTo>
                  <a:pt x="100" y="1102"/>
                </a:lnTo>
                <a:lnTo>
                  <a:pt x="100" y="1054"/>
                </a:lnTo>
                <a:lnTo>
                  <a:pt x="100" y="1008"/>
                </a:lnTo>
                <a:lnTo>
                  <a:pt x="100" y="964"/>
                </a:lnTo>
                <a:lnTo>
                  <a:pt x="102" y="920"/>
                </a:lnTo>
                <a:lnTo>
                  <a:pt x="102" y="877"/>
                </a:lnTo>
                <a:lnTo>
                  <a:pt x="102" y="835"/>
                </a:lnTo>
                <a:lnTo>
                  <a:pt x="98" y="795"/>
                </a:lnTo>
                <a:lnTo>
                  <a:pt x="98" y="755"/>
                </a:lnTo>
                <a:lnTo>
                  <a:pt x="96" y="716"/>
                </a:lnTo>
                <a:lnTo>
                  <a:pt x="95" y="680"/>
                </a:lnTo>
                <a:lnTo>
                  <a:pt x="93" y="643"/>
                </a:lnTo>
                <a:lnTo>
                  <a:pt x="93" y="609"/>
                </a:lnTo>
                <a:lnTo>
                  <a:pt x="91" y="574"/>
                </a:lnTo>
                <a:lnTo>
                  <a:pt x="89" y="541"/>
                </a:lnTo>
                <a:lnTo>
                  <a:pt x="89" y="509"/>
                </a:lnTo>
                <a:lnTo>
                  <a:pt x="87" y="478"/>
                </a:lnTo>
                <a:lnTo>
                  <a:pt x="85" y="447"/>
                </a:lnTo>
                <a:lnTo>
                  <a:pt x="85" y="419"/>
                </a:lnTo>
                <a:lnTo>
                  <a:pt x="83" y="390"/>
                </a:lnTo>
                <a:lnTo>
                  <a:pt x="81" y="363"/>
                </a:lnTo>
                <a:lnTo>
                  <a:pt x="79" y="336"/>
                </a:lnTo>
                <a:lnTo>
                  <a:pt x="77" y="311"/>
                </a:lnTo>
                <a:lnTo>
                  <a:pt x="75" y="288"/>
                </a:lnTo>
                <a:lnTo>
                  <a:pt x="73" y="267"/>
                </a:lnTo>
                <a:lnTo>
                  <a:pt x="71" y="248"/>
                </a:lnTo>
                <a:lnTo>
                  <a:pt x="68" y="229"/>
                </a:lnTo>
                <a:lnTo>
                  <a:pt x="66" y="211"/>
                </a:lnTo>
                <a:lnTo>
                  <a:pt x="64" y="194"/>
                </a:lnTo>
                <a:lnTo>
                  <a:pt x="60" y="179"/>
                </a:lnTo>
                <a:lnTo>
                  <a:pt x="58" y="165"/>
                </a:lnTo>
                <a:lnTo>
                  <a:pt x="54" y="152"/>
                </a:lnTo>
                <a:lnTo>
                  <a:pt x="52" y="140"/>
                </a:lnTo>
                <a:lnTo>
                  <a:pt x="48" y="129"/>
                </a:lnTo>
                <a:lnTo>
                  <a:pt x="45" y="119"/>
                </a:lnTo>
                <a:lnTo>
                  <a:pt x="43" y="110"/>
                </a:lnTo>
                <a:lnTo>
                  <a:pt x="39" y="104"/>
                </a:lnTo>
                <a:lnTo>
                  <a:pt x="35" y="96"/>
                </a:lnTo>
                <a:lnTo>
                  <a:pt x="29" y="92"/>
                </a:lnTo>
                <a:lnTo>
                  <a:pt x="22" y="83"/>
                </a:lnTo>
                <a:lnTo>
                  <a:pt x="14" y="73"/>
                </a:lnTo>
                <a:lnTo>
                  <a:pt x="8" y="64"/>
                </a:lnTo>
                <a:lnTo>
                  <a:pt x="4" y="56"/>
                </a:lnTo>
                <a:lnTo>
                  <a:pt x="2" y="46"/>
                </a:lnTo>
                <a:lnTo>
                  <a:pt x="0" y="40"/>
                </a:lnTo>
                <a:lnTo>
                  <a:pt x="0" y="37"/>
                </a:lnTo>
                <a:lnTo>
                  <a:pt x="2" y="33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4"/>
                </a:lnTo>
                <a:lnTo>
                  <a:pt x="12" y="10"/>
                </a:lnTo>
                <a:lnTo>
                  <a:pt x="16" y="8"/>
                </a:lnTo>
                <a:lnTo>
                  <a:pt x="22" y="4"/>
                </a:lnTo>
                <a:lnTo>
                  <a:pt x="27" y="2"/>
                </a:lnTo>
                <a:lnTo>
                  <a:pt x="35" y="0"/>
                </a:lnTo>
                <a:lnTo>
                  <a:pt x="43" y="0"/>
                </a:lnTo>
                <a:lnTo>
                  <a:pt x="50" y="0"/>
                </a:lnTo>
                <a:lnTo>
                  <a:pt x="60" y="0"/>
                </a:lnTo>
                <a:lnTo>
                  <a:pt x="70" y="0"/>
                </a:lnTo>
                <a:lnTo>
                  <a:pt x="81" y="2"/>
                </a:lnTo>
                <a:lnTo>
                  <a:pt x="93" y="4"/>
                </a:lnTo>
                <a:lnTo>
                  <a:pt x="106" y="8"/>
                </a:lnTo>
                <a:lnTo>
                  <a:pt x="119" y="10"/>
                </a:lnTo>
                <a:lnTo>
                  <a:pt x="135" y="14"/>
                </a:lnTo>
                <a:lnTo>
                  <a:pt x="150" y="19"/>
                </a:lnTo>
                <a:lnTo>
                  <a:pt x="164" y="25"/>
                </a:lnTo>
                <a:lnTo>
                  <a:pt x="179" y="31"/>
                </a:lnTo>
                <a:lnTo>
                  <a:pt x="192" y="39"/>
                </a:lnTo>
                <a:lnTo>
                  <a:pt x="206" y="44"/>
                </a:lnTo>
                <a:lnTo>
                  <a:pt x="217" y="50"/>
                </a:lnTo>
                <a:lnTo>
                  <a:pt x="229" y="56"/>
                </a:lnTo>
                <a:lnTo>
                  <a:pt x="238" y="62"/>
                </a:lnTo>
                <a:lnTo>
                  <a:pt x="248" y="67"/>
                </a:lnTo>
                <a:lnTo>
                  <a:pt x="256" y="73"/>
                </a:lnTo>
                <a:lnTo>
                  <a:pt x="263" y="79"/>
                </a:lnTo>
                <a:lnTo>
                  <a:pt x="271" y="85"/>
                </a:lnTo>
                <a:lnTo>
                  <a:pt x="277" y="90"/>
                </a:lnTo>
                <a:lnTo>
                  <a:pt x="283" y="96"/>
                </a:lnTo>
                <a:lnTo>
                  <a:pt x="286" y="102"/>
                </a:lnTo>
                <a:lnTo>
                  <a:pt x="290" y="110"/>
                </a:lnTo>
                <a:lnTo>
                  <a:pt x="292" y="115"/>
                </a:lnTo>
                <a:lnTo>
                  <a:pt x="294" y="123"/>
                </a:lnTo>
                <a:lnTo>
                  <a:pt x="296" y="129"/>
                </a:lnTo>
                <a:lnTo>
                  <a:pt x="296" y="136"/>
                </a:lnTo>
                <a:lnTo>
                  <a:pt x="298" y="144"/>
                </a:lnTo>
                <a:lnTo>
                  <a:pt x="296" y="158"/>
                </a:lnTo>
                <a:lnTo>
                  <a:pt x="296" y="171"/>
                </a:lnTo>
                <a:lnTo>
                  <a:pt x="292" y="184"/>
                </a:lnTo>
                <a:lnTo>
                  <a:pt x="288" y="198"/>
                </a:lnTo>
                <a:lnTo>
                  <a:pt x="285" y="211"/>
                </a:lnTo>
                <a:lnTo>
                  <a:pt x="281" y="227"/>
                </a:lnTo>
                <a:lnTo>
                  <a:pt x="279" y="231"/>
                </a:lnTo>
                <a:lnTo>
                  <a:pt x="279" y="236"/>
                </a:lnTo>
                <a:lnTo>
                  <a:pt x="277" y="242"/>
                </a:lnTo>
                <a:lnTo>
                  <a:pt x="275" y="248"/>
                </a:lnTo>
                <a:lnTo>
                  <a:pt x="275" y="255"/>
                </a:lnTo>
                <a:lnTo>
                  <a:pt x="273" y="261"/>
                </a:lnTo>
                <a:lnTo>
                  <a:pt x="273" y="271"/>
                </a:lnTo>
                <a:lnTo>
                  <a:pt x="271" y="278"/>
                </a:lnTo>
                <a:lnTo>
                  <a:pt x="271" y="286"/>
                </a:lnTo>
                <a:lnTo>
                  <a:pt x="269" y="296"/>
                </a:lnTo>
                <a:lnTo>
                  <a:pt x="267" y="305"/>
                </a:lnTo>
                <a:lnTo>
                  <a:pt x="267" y="317"/>
                </a:lnTo>
                <a:lnTo>
                  <a:pt x="265" y="326"/>
                </a:lnTo>
                <a:lnTo>
                  <a:pt x="265" y="338"/>
                </a:lnTo>
                <a:lnTo>
                  <a:pt x="263" y="350"/>
                </a:lnTo>
                <a:lnTo>
                  <a:pt x="263" y="363"/>
                </a:lnTo>
                <a:lnTo>
                  <a:pt x="262" y="376"/>
                </a:lnTo>
                <a:lnTo>
                  <a:pt x="260" y="390"/>
                </a:lnTo>
                <a:lnTo>
                  <a:pt x="260" y="403"/>
                </a:lnTo>
                <a:lnTo>
                  <a:pt x="258" y="417"/>
                </a:lnTo>
                <a:lnTo>
                  <a:pt x="258" y="432"/>
                </a:lnTo>
                <a:lnTo>
                  <a:pt x="256" y="447"/>
                </a:lnTo>
                <a:lnTo>
                  <a:pt x="254" y="463"/>
                </a:lnTo>
                <a:lnTo>
                  <a:pt x="254" y="480"/>
                </a:lnTo>
                <a:lnTo>
                  <a:pt x="252" y="495"/>
                </a:lnTo>
                <a:lnTo>
                  <a:pt x="252" y="513"/>
                </a:lnTo>
                <a:lnTo>
                  <a:pt x="250" y="532"/>
                </a:lnTo>
                <a:lnTo>
                  <a:pt x="250" y="549"/>
                </a:lnTo>
                <a:lnTo>
                  <a:pt x="248" y="568"/>
                </a:lnTo>
                <a:lnTo>
                  <a:pt x="246" y="588"/>
                </a:lnTo>
                <a:lnTo>
                  <a:pt x="246" y="607"/>
                </a:lnTo>
                <a:lnTo>
                  <a:pt x="244" y="6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17"/>
          <p:cNvSpPr/>
          <p:nvPr/>
        </p:nvSpPr>
        <p:spPr>
          <a:xfrm>
            <a:off x="5622840" y="3576600"/>
            <a:ext cx="666720" cy="250920"/>
          </a:xfrm>
          <a:custGeom>
            <a:avLst/>
            <a:gdLst/>
            <a:ahLst/>
            <a:rect l="l" t="t" r="r" b="b"/>
            <a:pathLst>
              <a:path w="841" h="317">
                <a:moveTo>
                  <a:pt x="41" y="280"/>
                </a:moveTo>
                <a:lnTo>
                  <a:pt x="35" y="273"/>
                </a:lnTo>
                <a:lnTo>
                  <a:pt x="29" y="267"/>
                </a:lnTo>
                <a:lnTo>
                  <a:pt x="24" y="261"/>
                </a:lnTo>
                <a:lnTo>
                  <a:pt x="20" y="256"/>
                </a:lnTo>
                <a:lnTo>
                  <a:pt x="14" y="252"/>
                </a:lnTo>
                <a:lnTo>
                  <a:pt x="10" y="248"/>
                </a:lnTo>
                <a:lnTo>
                  <a:pt x="8" y="244"/>
                </a:lnTo>
                <a:lnTo>
                  <a:pt x="6" y="240"/>
                </a:lnTo>
                <a:lnTo>
                  <a:pt x="4" y="236"/>
                </a:lnTo>
                <a:lnTo>
                  <a:pt x="2" y="234"/>
                </a:lnTo>
                <a:lnTo>
                  <a:pt x="0" y="231"/>
                </a:lnTo>
                <a:lnTo>
                  <a:pt x="0" y="229"/>
                </a:lnTo>
                <a:lnTo>
                  <a:pt x="0" y="225"/>
                </a:lnTo>
                <a:lnTo>
                  <a:pt x="2" y="223"/>
                </a:lnTo>
                <a:lnTo>
                  <a:pt x="2" y="221"/>
                </a:lnTo>
                <a:lnTo>
                  <a:pt x="6" y="219"/>
                </a:lnTo>
                <a:lnTo>
                  <a:pt x="6" y="217"/>
                </a:lnTo>
                <a:lnTo>
                  <a:pt x="8" y="215"/>
                </a:lnTo>
                <a:lnTo>
                  <a:pt x="12" y="215"/>
                </a:lnTo>
                <a:lnTo>
                  <a:pt x="14" y="213"/>
                </a:lnTo>
                <a:lnTo>
                  <a:pt x="18" y="211"/>
                </a:lnTo>
                <a:lnTo>
                  <a:pt x="22" y="209"/>
                </a:lnTo>
                <a:lnTo>
                  <a:pt x="27" y="208"/>
                </a:lnTo>
                <a:lnTo>
                  <a:pt x="33" y="206"/>
                </a:lnTo>
                <a:lnTo>
                  <a:pt x="39" y="202"/>
                </a:lnTo>
                <a:lnTo>
                  <a:pt x="45" y="200"/>
                </a:lnTo>
                <a:lnTo>
                  <a:pt x="52" y="198"/>
                </a:lnTo>
                <a:lnTo>
                  <a:pt x="60" y="194"/>
                </a:lnTo>
                <a:lnTo>
                  <a:pt x="70" y="190"/>
                </a:lnTo>
                <a:lnTo>
                  <a:pt x="77" y="188"/>
                </a:lnTo>
                <a:lnTo>
                  <a:pt x="87" y="184"/>
                </a:lnTo>
                <a:lnTo>
                  <a:pt x="98" y="181"/>
                </a:lnTo>
                <a:lnTo>
                  <a:pt x="108" y="177"/>
                </a:lnTo>
                <a:lnTo>
                  <a:pt x="119" y="173"/>
                </a:lnTo>
                <a:lnTo>
                  <a:pt x="133" y="169"/>
                </a:lnTo>
                <a:lnTo>
                  <a:pt x="146" y="165"/>
                </a:lnTo>
                <a:lnTo>
                  <a:pt x="160" y="160"/>
                </a:lnTo>
                <a:lnTo>
                  <a:pt x="173" y="156"/>
                </a:lnTo>
                <a:lnTo>
                  <a:pt x="189" y="150"/>
                </a:lnTo>
                <a:lnTo>
                  <a:pt x="204" y="146"/>
                </a:lnTo>
                <a:lnTo>
                  <a:pt x="219" y="140"/>
                </a:lnTo>
                <a:lnTo>
                  <a:pt x="237" y="135"/>
                </a:lnTo>
                <a:lnTo>
                  <a:pt x="254" y="129"/>
                </a:lnTo>
                <a:lnTo>
                  <a:pt x="271" y="123"/>
                </a:lnTo>
                <a:lnTo>
                  <a:pt x="290" y="117"/>
                </a:lnTo>
                <a:lnTo>
                  <a:pt x="309" y="110"/>
                </a:lnTo>
                <a:lnTo>
                  <a:pt x="331" y="104"/>
                </a:lnTo>
                <a:lnTo>
                  <a:pt x="352" y="96"/>
                </a:lnTo>
                <a:lnTo>
                  <a:pt x="373" y="90"/>
                </a:lnTo>
                <a:lnTo>
                  <a:pt x="392" y="85"/>
                </a:lnTo>
                <a:lnTo>
                  <a:pt x="411" y="81"/>
                </a:lnTo>
                <a:lnTo>
                  <a:pt x="430" y="75"/>
                </a:lnTo>
                <a:lnTo>
                  <a:pt x="450" y="69"/>
                </a:lnTo>
                <a:lnTo>
                  <a:pt x="467" y="65"/>
                </a:lnTo>
                <a:lnTo>
                  <a:pt x="484" y="60"/>
                </a:lnTo>
                <a:lnTo>
                  <a:pt x="501" y="56"/>
                </a:lnTo>
                <a:lnTo>
                  <a:pt x="517" y="50"/>
                </a:lnTo>
                <a:lnTo>
                  <a:pt x="532" y="46"/>
                </a:lnTo>
                <a:lnTo>
                  <a:pt x="548" y="42"/>
                </a:lnTo>
                <a:lnTo>
                  <a:pt x="561" y="39"/>
                </a:lnTo>
                <a:lnTo>
                  <a:pt x="574" y="35"/>
                </a:lnTo>
                <a:lnTo>
                  <a:pt x="588" y="31"/>
                </a:lnTo>
                <a:lnTo>
                  <a:pt x="601" y="27"/>
                </a:lnTo>
                <a:lnTo>
                  <a:pt x="613" y="25"/>
                </a:lnTo>
                <a:lnTo>
                  <a:pt x="624" y="21"/>
                </a:lnTo>
                <a:lnTo>
                  <a:pt x="634" y="19"/>
                </a:lnTo>
                <a:lnTo>
                  <a:pt x="643" y="16"/>
                </a:lnTo>
                <a:lnTo>
                  <a:pt x="653" y="14"/>
                </a:lnTo>
                <a:lnTo>
                  <a:pt x="663" y="12"/>
                </a:lnTo>
                <a:lnTo>
                  <a:pt x="670" y="10"/>
                </a:lnTo>
                <a:lnTo>
                  <a:pt x="678" y="8"/>
                </a:lnTo>
                <a:lnTo>
                  <a:pt x="686" y="6"/>
                </a:lnTo>
                <a:lnTo>
                  <a:pt x="691" y="4"/>
                </a:lnTo>
                <a:lnTo>
                  <a:pt x="697" y="2"/>
                </a:lnTo>
                <a:lnTo>
                  <a:pt x="703" y="2"/>
                </a:lnTo>
                <a:lnTo>
                  <a:pt x="709" y="0"/>
                </a:lnTo>
                <a:lnTo>
                  <a:pt x="713" y="0"/>
                </a:lnTo>
                <a:lnTo>
                  <a:pt x="716" y="0"/>
                </a:lnTo>
                <a:lnTo>
                  <a:pt x="718" y="0"/>
                </a:lnTo>
                <a:lnTo>
                  <a:pt x="722" y="0"/>
                </a:lnTo>
                <a:lnTo>
                  <a:pt x="726" y="0"/>
                </a:lnTo>
                <a:lnTo>
                  <a:pt x="732" y="0"/>
                </a:lnTo>
                <a:lnTo>
                  <a:pt x="739" y="0"/>
                </a:lnTo>
                <a:lnTo>
                  <a:pt x="749" y="0"/>
                </a:lnTo>
                <a:lnTo>
                  <a:pt x="759" y="2"/>
                </a:lnTo>
                <a:lnTo>
                  <a:pt x="768" y="4"/>
                </a:lnTo>
                <a:lnTo>
                  <a:pt x="780" y="8"/>
                </a:lnTo>
                <a:lnTo>
                  <a:pt x="793" y="12"/>
                </a:lnTo>
                <a:lnTo>
                  <a:pt x="799" y="14"/>
                </a:lnTo>
                <a:lnTo>
                  <a:pt x="805" y="16"/>
                </a:lnTo>
                <a:lnTo>
                  <a:pt x="810" y="19"/>
                </a:lnTo>
                <a:lnTo>
                  <a:pt x="816" y="23"/>
                </a:lnTo>
                <a:lnTo>
                  <a:pt x="820" y="25"/>
                </a:lnTo>
                <a:lnTo>
                  <a:pt x="824" y="29"/>
                </a:lnTo>
                <a:lnTo>
                  <a:pt x="830" y="37"/>
                </a:lnTo>
                <a:lnTo>
                  <a:pt x="835" y="42"/>
                </a:lnTo>
                <a:lnTo>
                  <a:pt x="839" y="48"/>
                </a:lnTo>
                <a:lnTo>
                  <a:pt x="839" y="56"/>
                </a:lnTo>
                <a:lnTo>
                  <a:pt x="841" y="60"/>
                </a:lnTo>
                <a:lnTo>
                  <a:pt x="839" y="65"/>
                </a:lnTo>
                <a:lnTo>
                  <a:pt x="839" y="71"/>
                </a:lnTo>
                <a:lnTo>
                  <a:pt x="835" y="79"/>
                </a:lnTo>
                <a:lnTo>
                  <a:pt x="834" y="87"/>
                </a:lnTo>
                <a:lnTo>
                  <a:pt x="830" y="94"/>
                </a:lnTo>
                <a:lnTo>
                  <a:pt x="826" y="104"/>
                </a:lnTo>
                <a:lnTo>
                  <a:pt x="818" y="121"/>
                </a:lnTo>
                <a:lnTo>
                  <a:pt x="814" y="123"/>
                </a:lnTo>
                <a:lnTo>
                  <a:pt x="812" y="125"/>
                </a:lnTo>
                <a:lnTo>
                  <a:pt x="809" y="129"/>
                </a:lnTo>
                <a:lnTo>
                  <a:pt x="805" y="131"/>
                </a:lnTo>
                <a:lnTo>
                  <a:pt x="799" y="133"/>
                </a:lnTo>
                <a:lnTo>
                  <a:pt x="795" y="137"/>
                </a:lnTo>
                <a:lnTo>
                  <a:pt x="789" y="138"/>
                </a:lnTo>
                <a:lnTo>
                  <a:pt x="784" y="142"/>
                </a:lnTo>
                <a:lnTo>
                  <a:pt x="778" y="144"/>
                </a:lnTo>
                <a:lnTo>
                  <a:pt x="770" y="148"/>
                </a:lnTo>
                <a:lnTo>
                  <a:pt x="762" y="150"/>
                </a:lnTo>
                <a:lnTo>
                  <a:pt x="755" y="154"/>
                </a:lnTo>
                <a:lnTo>
                  <a:pt x="745" y="158"/>
                </a:lnTo>
                <a:lnTo>
                  <a:pt x="738" y="160"/>
                </a:lnTo>
                <a:lnTo>
                  <a:pt x="728" y="163"/>
                </a:lnTo>
                <a:lnTo>
                  <a:pt x="716" y="167"/>
                </a:lnTo>
                <a:lnTo>
                  <a:pt x="707" y="169"/>
                </a:lnTo>
                <a:lnTo>
                  <a:pt x="695" y="173"/>
                </a:lnTo>
                <a:lnTo>
                  <a:pt x="684" y="177"/>
                </a:lnTo>
                <a:lnTo>
                  <a:pt x="672" y="181"/>
                </a:lnTo>
                <a:lnTo>
                  <a:pt x="659" y="184"/>
                </a:lnTo>
                <a:lnTo>
                  <a:pt x="645" y="188"/>
                </a:lnTo>
                <a:lnTo>
                  <a:pt x="632" y="192"/>
                </a:lnTo>
                <a:lnTo>
                  <a:pt x="617" y="196"/>
                </a:lnTo>
                <a:lnTo>
                  <a:pt x="603" y="200"/>
                </a:lnTo>
                <a:lnTo>
                  <a:pt x="588" y="204"/>
                </a:lnTo>
                <a:lnTo>
                  <a:pt x="571" y="208"/>
                </a:lnTo>
                <a:lnTo>
                  <a:pt x="555" y="213"/>
                </a:lnTo>
                <a:lnTo>
                  <a:pt x="538" y="217"/>
                </a:lnTo>
                <a:lnTo>
                  <a:pt x="521" y="221"/>
                </a:lnTo>
                <a:lnTo>
                  <a:pt x="501" y="227"/>
                </a:lnTo>
                <a:lnTo>
                  <a:pt x="482" y="231"/>
                </a:lnTo>
                <a:lnTo>
                  <a:pt x="465" y="236"/>
                </a:lnTo>
                <a:lnTo>
                  <a:pt x="446" y="242"/>
                </a:lnTo>
                <a:lnTo>
                  <a:pt x="429" y="248"/>
                </a:lnTo>
                <a:lnTo>
                  <a:pt x="411" y="252"/>
                </a:lnTo>
                <a:lnTo>
                  <a:pt x="394" y="257"/>
                </a:lnTo>
                <a:lnTo>
                  <a:pt x="379" y="261"/>
                </a:lnTo>
                <a:lnTo>
                  <a:pt x="361" y="265"/>
                </a:lnTo>
                <a:lnTo>
                  <a:pt x="346" y="271"/>
                </a:lnTo>
                <a:lnTo>
                  <a:pt x="333" y="275"/>
                </a:lnTo>
                <a:lnTo>
                  <a:pt x="317" y="279"/>
                </a:lnTo>
                <a:lnTo>
                  <a:pt x="304" y="282"/>
                </a:lnTo>
                <a:lnTo>
                  <a:pt x="290" y="284"/>
                </a:lnTo>
                <a:lnTo>
                  <a:pt x="279" y="288"/>
                </a:lnTo>
                <a:lnTo>
                  <a:pt x="267" y="292"/>
                </a:lnTo>
                <a:lnTo>
                  <a:pt x="256" y="294"/>
                </a:lnTo>
                <a:lnTo>
                  <a:pt x="244" y="296"/>
                </a:lnTo>
                <a:lnTo>
                  <a:pt x="235" y="300"/>
                </a:lnTo>
                <a:lnTo>
                  <a:pt x="223" y="302"/>
                </a:lnTo>
                <a:lnTo>
                  <a:pt x="215" y="304"/>
                </a:lnTo>
                <a:lnTo>
                  <a:pt x="206" y="305"/>
                </a:lnTo>
                <a:lnTo>
                  <a:pt x="198" y="307"/>
                </a:lnTo>
                <a:lnTo>
                  <a:pt x="190" y="309"/>
                </a:lnTo>
                <a:lnTo>
                  <a:pt x="183" y="309"/>
                </a:lnTo>
                <a:lnTo>
                  <a:pt x="177" y="311"/>
                </a:lnTo>
                <a:lnTo>
                  <a:pt x="171" y="313"/>
                </a:lnTo>
                <a:lnTo>
                  <a:pt x="166" y="313"/>
                </a:lnTo>
                <a:lnTo>
                  <a:pt x="162" y="315"/>
                </a:lnTo>
                <a:lnTo>
                  <a:pt x="158" y="315"/>
                </a:lnTo>
                <a:lnTo>
                  <a:pt x="154" y="315"/>
                </a:lnTo>
                <a:lnTo>
                  <a:pt x="152" y="315"/>
                </a:lnTo>
                <a:lnTo>
                  <a:pt x="150" y="315"/>
                </a:lnTo>
                <a:lnTo>
                  <a:pt x="148" y="317"/>
                </a:lnTo>
                <a:lnTo>
                  <a:pt x="139" y="315"/>
                </a:lnTo>
                <a:lnTo>
                  <a:pt x="129" y="313"/>
                </a:lnTo>
                <a:lnTo>
                  <a:pt x="118" y="311"/>
                </a:lnTo>
                <a:lnTo>
                  <a:pt x="104" y="307"/>
                </a:lnTo>
                <a:lnTo>
                  <a:pt x="89" y="302"/>
                </a:lnTo>
                <a:lnTo>
                  <a:pt x="75" y="296"/>
                </a:lnTo>
                <a:lnTo>
                  <a:pt x="58" y="288"/>
                </a:lnTo>
                <a:lnTo>
                  <a:pt x="41" y="2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宀”的上点居中；“禺”上窄下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40"/>
          <p:cNvSpPr/>
          <p:nvPr/>
        </p:nvSpPr>
        <p:spPr>
          <a:xfrm>
            <a:off x="5745240" y="4213080"/>
            <a:ext cx="195120" cy="677880"/>
          </a:xfrm>
          <a:custGeom>
            <a:avLst/>
            <a:gdLst/>
            <a:ahLst/>
            <a:rect l="l" t="t" r="r" b="b"/>
            <a:pathLst>
              <a:path w="245" h="854">
                <a:moveTo>
                  <a:pt x="15" y="71"/>
                </a:moveTo>
                <a:lnTo>
                  <a:pt x="9" y="63"/>
                </a:lnTo>
                <a:lnTo>
                  <a:pt x="5" y="53"/>
                </a:lnTo>
                <a:lnTo>
                  <a:pt x="4" y="48"/>
                </a:lnTo>
                <a:lnTo>
                  <a:pt x="2" y="40"/>
                </a:lnTo>
                <a:lnTo>
                  <a:pt x="0" y="34"/>
                </a:lnTo>
                <a:lnTo>
                  <a:pt x="0" y="28"/>
                </a:lnTo>
                <a:lnTo>
                  <a:pt x="2" y="23"/>
                </a:lnTo>
                <a:lnTo>
                  <a:pt x="4" y="17"/>
                </a:lnTo>
                <a:lnTo>
                  <a:pt x="7" y="13"/>
                </a:lnTo>
                <a:lnTo>
                  <a:pt x="11" y="9"/>
                </a:lnTo>
                <a:lnTo>
                  <a:pt x="17" y="7"/>
                </a:lnTo>
                <a:lnTo>
                  <a:pt x="23" y="5"/>
                </a:lnTo>
                <a:lnTo>
                  <a:pt x="30" y="3"/>
                </a:lnTo>
                <a:lnTo>
                  <a:pt x="38" y="2"/>
                </a:lnTo>
                <a:lnTo>
                  <a:pt x="48" y="0"/>
                </a:lnTo>
                <a:lnTo>
                  <a:pt x="57" y="0"/>
                </a:lnTo>
                <a:lnTo>
                  <a:pt x="67" y="0"/>
                </a:lnTo>
                <a:lnTo>
                  <a:pt x="75" y="2"/>
                </a:lnTo>
                <a:lnTo>
                  <a:pt x="84" y="2"/>
                </a:lnTo>
                <a:lnTo>
                  <a:pt x="96" y="2"/>
                </a:lnTo>
                <a:lnTo>
                  <a:pt x="105" y="3"/>
                </a:lnTo>
                <a:lnTo>
                  <a:pt x="117" y="5"/>
                </a:lnTo>
                <a:lnTo>
                  <a:pt x="142" y="9"/>
                </a:lnTo>
                <a:lnTo>
                  <a:pt x="167" y="13"/>
                </a:lnTo>
                <a:lnTo>
                  <a:pt x="192" y="21"/>
                </a:lnTo>
                <a:lnTo>
                  <a:pt x="218" y="27"/>
                </a:lnTo>
                <a:lnTo>
                  <a:pt x="245" y="36"/>
                </a:lnTo>
                <a:lnTo>
                  <a:pt x="245" y="80"/>
                </a:lnTo>
                <a:lnTo>
                  <a:pt x="245" y="123"/>
                </a:lnTo>
                <a:lnTo>
                  <a:pt x="245" y="165"/>
                </a:lnTo>
                <a:lnTo>
                  <a:pt x="245" y="205"/>
                </a:lnTo>
                <a:lnTo>
                  <a:pt x="243" y="243"/>
                </a:lnTo>
                <a:lnTo>
                  <a:pt x="243" y="282"/>
                </a:lnTo>
                <a:lnTo>
                  <a:pt x="243" y="318"/>
                </a:lnTo>
                <a:lnTo>
                  <a:pt x="243" y="353"/>
                </a:lnTo>
                <a:lnTo>
                  <a:pt x="242" y="387"/>
                </a:lnTo>
                <a:lnTo>
                  <a:pt x="242" y="420"/>
                </a:lnTo>
                <a:lnTo>
                  <a:pt x="240" y="453"/>
                </a:lnTo>
                <a:lnTo>
                  <a:pt x="240" y="481"/>
                </a:lnTo>
                <a:lnTo>
                  <a:pt x="238" y="510"/>
                </a:lnTo>
                <a:lnTo>
                  <a:pt x="238" y="539"/>
                </a:lnTo>
                <a:lnTo>
                  <a:pt x="236" y="564"/>
                </a:lnTo>
                <a:lnTo>
                  <a:pt x="234" y="589"/>
                </a:lnTo>
                <a:lnTo>
                  <a:pt x="234" y="614"/>
                </a:lnTo>
                <a:lnTo>
                  <a:pt x="232" y="635"/>
                </a:lnTo>
                <a:lnTo>
                  <a:pt x="230" y="658"/>
                </a:lnTo>
                <a:lnTo>
                  <a:pt x="228" y="677"/>
                </a:lnTo>
                <a:lnTo>
                  <a:pt x="226" y="697"/>
                </a:lnTo>
                <a:lnTo>
                  <a:pt x="224" y="714"/>
                </a:lnTo>
                <a:lnTo>
                  <a:pt x="222" y="729"/>
                </a:lnTo>
                <a:lnTo>
                  <a:pt x="220" y="744"/>
                </a:lnTo>
                <a:lnTo>
                  <a:pt x="218" y="758"/>
                </a:lnTo>
                <a:lnTo>
                  <a:pt x="217" y="771"/>
                </a:lnTo>
                <a:lnTo>
                  <a:pt x="215" y="781"/>
                </a:lnTo>
                <a:lnTo>
                  <a:pt x="213" y="792"/>
                </a:lnTo>
                <a:lnTo>
                  <a:pt x="209" y="800"/>
                </a:lnTo>
                <a:lnTo>
                  <a:pt x="207" y="808"/>
                </a:lnTo>
                <a:lnTo>
                  <a:pt x="205" y="814"/>
                </a:lnTo>
                <a:lnTo>
                  <a:pt x="203" y="819"/>
                </a:lnTo>
                <a:lnTo>
                  <a:pt x="197" y="825"/>
                </a:lnTo>
                <a:lnTo>
                  <a:pt x="192" y="831"/>
                </a:lnTo>
                <a:lnTo>
                  <a:pt x="186" y="837"/>
                </a:lnTo>
                <a:lnTo>
                  <a:pt x="180" y="840"/>
                </a:lnTo>
                <a:lnTo>
                  <a:pt x="176" y="844"/>
                </a:lnTo>
                <a:lnTo>
                  <a:pt x="170" y="848"/>
                </a:lnTo>
                <a:lnTo>
                  <a:pt x="165" y="850"/>
                </a:lnTo>
                <a:lnTo>
                  <a:pt x="161" y="852"/>
                </a:lnTo>
                <a:lnTo>
                  <a:pt x="155" y="854"/>
                </a:lnTo>
                <a:lnTo>
                  <a:pt x="151" y="854"/>
                </a:lnTo>
                <a:lnTo>
                  <a:pt x="147" y="854"/>
                </a:lnTo>
                <a:lnTo>
                  <a:pt x="144" y="854"/>
                </a:lnTo>
                <a:lnTo>
                  <a:pt x="140" y="852"/>
                </a:lnTo>
                <a:lnTo>
                  <a:pt x="136" y="850"/>
                </a:lnTo>
                <a:lnTo>
                  <a:pt x="132" y="846"/>
                </a:lnTo>
                <a:lnTo>
                  <a:pt x="130" y="842"/>
                </a:lnTo>
                <a:lnTo>
                  <a:pt x="126" y="840"/>
                </a:lnTo>
                <a:lnTo>
                  <a:pt x="124" y="837"/>
                </a:lnTo>
                <a:lnTo>
                  <a:pt x="123" y="833"/>
                </a:lnTo>
                <a:lnTo>
                  <a:pt x="121" y="829"/>
                </a:lnTo>
                <a:lnTo>
                  <a:pt x="117" y="823"/>
                </a:lnTo>
                <a:lnTo>
                  <a:pt x="115" y="819"/>
                </a:lnTo>
                <a:lnTo>
                  <a:pt x="113" y="812"/>
                </a:lnTo>
                <a:lnTo>
                  <a:pt x="111" y="806"/>
                </a:lnTo>
                <a:lnTo>
                  <a:pt x="109" y="798"/>
                </a:lnTo>
                <a:lnTo>
                  <a:pt x="107" y="791"/>
                </a:lnTo>
                <a:lnTo>
                  <a:pt x="105" y="781"/>
                </a:lnTo>
                <a:lnTo>
                  <a:pt x="103" y="773"/>
                </a:lnTo>
                <a:lnTo>
                  <a:pt x="101" y="764"/>
                </a:lnTo>
                <a:lnTo>
                  <a:pt x="99" y="752"/>
                </a:lnTo>
                <a:lnTo>
                  <a:pt x="99" y="741"/>
                </a:lnTo>
                <a:lnTo>
                  <a:pt x="98" y="729"/>
                </a:lnTo>
                <a:lnTo>
                  <a:pt x="96" y="718"/>
                </a:lnTo>
                <a:lnTo>
                  <a:pt x="96" y="706"/>
                </a:lnTo>
                <a:lnTo>
                  <a:pt x="94" y="693"/>
                </a:lnTo>
                <a:lnTo>
                  <a:pt x="94" y="677"/>
                </a:lnTo>
                <a:lnTo>
                  <a:pt x="92" y="664"/>
                </a:lnTo>
                <a:lnTo>
                  <a:pt x="92" y="649"/>
                </a:lnTo>
                <a:lnTo>
                  <a:pt x="90" y="633"/>
                </a:lnTo>
                <a:lnTo>
                  <a:pt x="90" y="618"/>
                </a:lnTo>
                <a:lnTo>
                  <a:pt x="88" y="601"/>
                </a:lnTo>
                <a:lnTo>
                  <a:pt x="88" y="583"/>
                </a:lnTo>
                <a:lnTo>
                  <a:pt x="88" y="566"/>
                </a:lnTo>
                <a:lnTo>
                  <a:pt x="88" y="547"/>
                </a:lnTo>
                <a:lnTo>
                  <a:pt x="86" y="528"/>
                </a:lnTo>
                <a:lnTo>
                  <a:pt x="86" y="508"/>
                </a:lnTo>
                <a:lnTo>
                  <a:pt x="86" y="489"/>
                </a:lnTo>
                <a:lnTo>
                  <a:pt x="86" y="468"/>
                </a:lnTo>
                <a:lnTo>
                  <a:pt x="86" y="447"/>
                </a:lnTo>
                <a:lnTo>
                  <a:pt x="84" y="428"/>
                </a:lnTo>
                <a:lnTo>
                  <a:pt x="82" y="409"/>
                </a:lnTo>
                <a:lnTo>
                  <a:pt x="80" y="389"/>
                </a:lnTo>
                <a:lnTo>
                  <a:pt x="80" y="370"/>
                </a:lnTo>
                <a:lnTo>
                  <a:pt x="78" y="353"/>
                </a:lnTo>
                <a:lnTo>
                  <a:pt x="76" y="334"/>
                </a:lnTo>
                <a:lnTo>
                  <a:pt x="75" y="316"/>
                </a:lnTo>
                <a:lnTo>
                  <a:pt x="75" y="301"/>
                </a:lnTo>
                <a:lnTo>
                  <a:pt x="73" y="284"/>
                </a:lnTo>
                <a:lnTo>
                  <a:pt x="71" y="268"/>
                </a:lnTo>
                <a:lnTo>
                  <a:pt x="69" y="255"/>
                </a:lnTo>
                <a:lnTo>
                  <a:pt x="67" y="240"/>
                </a:lnTo>
                <a:lnTo>
                  <a:pt x="65" y="226"/>
                </a:lnTo>
                <a:lnTo>
                  <a:pt x="63" y="213"/>
                </a:lnTo>
                <a:lnTo>
                  <a:pt x="61" y="199"/>
                </a:lnTo>
                <a:lnTo>
                  <a:pt x="59" y="188"/>
                </a:lnTo>
                <a:lnTo>
                  <a:pt x="57" y="176"/>
                </a:lnTo>
                <a:lnTo>
                  <a:pt x="55" y="165"/>
                </a:lnTo>
                <a:lnTo>
                  <a:pt x="53" y="153"/>
                </a:lnTo>
                <a:lnTo>
                  <a:pt x="50" y="144"/>
                </a:lnTo>
                <a:lnTo>
                  <a:pt x="48" y="134"/>
                </a:lnTo>
                <a:lnTo>
                  <a:pt x="44" y="124"/>
                </a:lnTo>
                <a:lnTo>
                  <a:pt x="42" y="117"/>
                </a:lnTo>
                <a:lnTo>
                  <a:pt x="38" y="109"/>
                </a:lnTo>
                <a:lnTo>
                  <a:pt x="36" y="101"/>
                </a:lnTo>
                <a:lnTo>
                  <a:pt x="32" y="96"/>
                </a:lnTo>
                <a:lnTo>
                  <a:pt x="28" y="88"/>
                </a:lnTo>
                <a:lnTo>
                  <a:pt x="27" y="84"/>
                </a:lnTo>
                <a:lnTo>
                  <a:pt x="23" y="78"/>
                </a:lnTo>
                <a:lnTo>
                  <a:pt x="19" y="75"/>
                </a:lnTo>
                <a:lnTo>
                  <a:pt x="15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41"/>
          <p:cNvSpPr/>
          <p:nvPr/>
        </p:nvSpPr>
        <p:spPr>
          <a:xfrm>
            <a:off x="5870520" y="4056120"/>
            <a:ext cx="1793880" cy="977760"/>
          </a:xfrm>
          <a:custGeom>
            <a:avLst/>
            <a:gdLst/>
            <a:ahLst/>
            <a:rect l="l" t="t" r="r" b="b"/>
            <a:pathLst>
              <a:path w="2259" h="1230">
                <a:moveTo>
                  <a:pt x="2167" y="432"/>
                </a:moveTo>
                <a:lnTo>
                  <a:pt x="2161" y="464"/>
                </a:lnTo>
                <a:lnTo>
                  <a:pt x="2155" y="497"/>
                </a:lnTo>
                <a:lnTo>
                  <a:pt x="2150" y="530"/>
                </a:lnTo>
                <a:lnTo>
                  <a:pt x="2144" y="566"/>
                </a:lnTo>
                <a:lnTo>
                  <a:pt x="2136" y="603"/>
                </a:lnTo>
                <a:lnTo>
                  <a:pt x="2132" y="622"/>
                </a:lnTo>
                <a:lnTo>
                  <a:pt x="2129" y="641"/>
                </a:lnTo>
                <a:lnTo>
                  <a:pt x="2123" y="660"/>
                </a:lnTo>
                <a:lnTo>
                  <a:pt x="2119" y="681"/>
                </a:lnTo>
                <a:lnTo>
                  <a:pt x="2113" y="703"/>
                </a:lnTo>
                <a:lnTo>
                  <a:pt x="2109" y="726"/>
                </a:lnTo>
                <a:lnTo>
                  <a:pt x="2104" y="747"/>
                </a:lnTo>
                <a:lnTo>
                  <a:pt x="2098" y="768"/>
                </a:lnTo>
                <a:lnTo>
                  <a:pt x="2092" y="789"/>
                </a:lnTo>
                <a:lnTo>
                  <a:pt x="2088" y="808"/>
                </a:lnTo>
                <a:lnTo>
                  <a:pt x="2082" y="827"/>
                </a:lnTo>
                <a:lnTo>
                  <a:pt x="2077" y="847"/>
                </a:lnTo>
                <a:lnTo>
                  <a:pt x="2065" y="885"/>
                </a:lnTo>
                <a:lnTo>
                  <a:pt x="2054" y="919"/>
                </a:lnTo>
                <a:lnTo>
                  <a:pt x="2044" y="954"/>
                </a:lnTo>
                <a:lnTo>
                  <a:pt x="2033" y="987"/>
                </a:lnTo>
                <a:lnTo>
                  <a:pt x="2023" y="1017"/>
                </a:lnTo>
                <a:lnTo>
                  <a:pt x="2006" y="1042"/>
                </a:lnTo>
                <a:lnTo>
                  <a:pt x="1990" y="1067"/>
                </a:lnTo>
                <a:lnTo>
                  <a:pt x="1973" y="1090"/>
                </a:lnTo>
                <a:lnTo>
                  <a:pt x="1956" y="1111"/>
                </a:lnTo>
                <a:lnTo>
                  <a:pt x="1937" y="1133"/>
                </a:lnTo>
                <a:lnTo>
                  <a:pt x="1919" y="1150"/>
                </a:lnTo>
                <a:lnTo>
                  <a:pt x="1908" y="1159"/>
                </a:lnTo>
                <a:lnTo>
                  <a:pt x="1898" y="1167"/>
                </a:lnTo>
                <a:lnTo>
                  <a:pt x="1889" y="1175"/>
                </a:lnTo>
                <a:lnTo>
                  <a:pt x="1877" y="1181"/>
                </a:lnTo>
                <a:lnTo>
                  <a:pt x="1864" y="1188"/>
                </a:lnTo>
                <a:lnTo>
                  <a:pt x="1852" y="1194"/>
                </a:lnTo>
                <a:lnTo>
                  <a:pt x="1841" y="1200"/>
                </a:lnTo>
                <a:lnTo>
                  <a:pt x="1829" y="1205"/>
                </a:lnTo>
                <a:lnTo>
                  <a:pt x="1818" y="1209"/>
                </a:lnTo>
                <a:lnTo>
                  <a:pt x="1808" y="1215"/>
                </a:lnTo>
                <a:lnTo>
                  <a:pt x="1798" y="1219"/>
                </a:lnTo>
                <a:lnTo>
                  <a:pt x="1789" y="1223"/>
                </a:lnTo>
                <a:lnTo>
                  <a:pt x="1781" y="1225"/>
                </a:lnTo>
                <a:lnTo>
                  <a:pt x="1773" y="1229"/>
                </a:lnTo>
                <a:lnTo>
                  <a:pt x="1766" y="1229"/>
                </a:lnTo>
                <a:lnTo>
                  <a:pt x="1758" y="1230"/>
                </a:lnTo>
                <a:lnTo>
                  <a:pt x="1750" y="1230"/>
                </a:lnTo>
                <a:lnTo>
                  <a:pt x="1745" y="1230"/>
                </a:lnTo>
                <a:lnTo>
                  <a:pt x="1739" y="1230"/>
                </a:lnTo>
                <a:lnTo>
                  <a:pt x="1733" y="1229"/>
                </a:lnTo>
                <a:lnTo>
                  <a:pt x="1727" y="1227"/>
                </a:lnTo>
                <a:lnTo>
                  <a:pt x="1724" y="1223"/>
                </a:lnTo>
                <a:lnTo>
                  <a:pt x="1720" y="1221"/>
                </a:lnTo>
                <a:lnTo>
                  <a:pt x="1718" y="1217"/>
                </a:lnTo>
                <a:lnTo>
                  <a:pt x="1714" y="1213"/>
                </a:lnTo>
                <a:lnTo>
                  <a:pt x="1712" y="1209"/>
                </a:lnTo>
                <a:lnTo>
                  <a:pt x="1710" y="1205"/>
                </a:lnTo>
                <a:lnTo>
                  <a:pt x="1710" y="1200"/>
                </a:lnTo>
                <a:lnTo>
                  <a:pt x="1710" y="1196"/>
                </a:lnTo>
                <a:lnTo>
                  <a:pt x="1710" y="1190"/>
                </a:lnTo>
                <a:lnTo>
                  <a:pt x="1710" y="1184"/>
                </a:lnTo>
                <a:lnTo>
                  <a:pt x="1712" y="1177"/>
                </a:lnTo>
                <a:lnTo>
                  <a:pt x="1712" y="1171"/>
                </a:lnTo>
                <a:lnTo>
                  <a:pt x="1714" y="1163"/>
                </a:lnTo>
                <a:lnTo>
                  <a:pt x="1716" y="1154"/>
                </a:lnTo>
                <a:lnTo>
                  <a:pt x="1720" y="1146"/>
                </a:lnTo>
                <a:lnTo>
                  <a:pt x="1722" y="1134"/>
                </a:lnTo>
                <a:lnTo>
                  <a:pt x="1722" y="1125"/>
                </a:lnTo>
                <a:lnTo>
                  <a:pt x="1722" y="1113"/>
                </a:lnTo>
                <a:lnTo>
                  <a:pt x="1718" y="1102"/>
                </a:lnTo>
                <a:lnTo>
                  <a:pt x="1716" y="1092"/>
                </a:lnTo>
                <a:lnTo>
                  <a:pt x="1710" y="1081"/>
                </a:lnTo>
                <a:lnTo>
                  <a:pt x="1704" y="1069"/>
                </a:lnTo>
                <a:lnTo>
                  <a:pt x="1697" y="1058"/>
                </a:lnTo>
                <a:lnTo>
                  <a:pt x="1689" y="1048"/>
                </a:lnTo>
                <a:lnTo>
                  <a:pt x="1677" y="1037"/>
                </a:lnTo>
                <a:lnTo>
                  <a:pt x="1666" y="1025"/>
                </a:lnTo>
                <a:lnTo>
                  <a:pt x="1654" y="1015"/>
                </a:lnTo>
                <a:lnTo>
                  <a:pt x="1639" y="1004"/>
                </a:lnTo>
                <a:lnTo>
                  <a:pt x="1624" y="992"/>
                </a:lnTo>
                <a:lnTo>
                  <a:pt x="1606" y="981"/>
                </a:lnTo>
                <a:lnTo>
                  <a:pt x="1589" y="971"/>
                </a:lnTo>
                <a:lnTo>
                  <a:pt x="1570" y="958"/>
                </a:lnTo>
                <a:lnTo>
                  <a:pt x="1555" y="946"/>
                </a:lnTo>
                <a:lnTo>
                  <a:pt x="1539" y="935"/>
                </a:lnTo>
                <a:lnTo>
                  <a:pt x="1526" y="923"/>
                </a:lnTo>
                <a:lnTo>
                  <a:pt x="1514" y="914"/>
                </a:lnTo>
                <a:lnTo>
                  <a:pt x="1505" y="906"/>
                </a:lnTo>
                <a:lnTo>
                  <a:pt x="1495" y="896"/>
                </a:lnTo>
                <a:lnTo>
                  <a:pt x="1487" y="889"/>
                </a:lnTo>
                <a:lnTo>
                  <a:pt x="1482" y="883"/>
                </a:lnTo>
                <a:lnTo>
                  <a:pt x="1478" y="877"/>
                </a:lnTo>
                <a:lnTo>
                  <a:pt x="1474" y="871"/>
                </a:lnTo>
                <a:lnTo>
                  <a:pt x="1470" y="866"/>
                </a:lnTo>
                <a:lnTo>
                  <a:pt x="1470" y="862"/>
                </a:lnTo>
                <a:lnTo>
                  <a:pt x="1470" y="858"/>
                </a:lnTo>
                <a:lnTo>
                  <a:pt x="1470" y="856"/>
                </a:lnTo>
                <a:lnTo>
                  <a:pt x="1474" y="854"/>
                </a:lnTo>
                <a:lnTo>
                  <a:pt x="1476" y="852"/>
                </a:lnTo>
                <a:lnTo>
                  <a:pt x="1480" y="850"/>
                </a:lnTo>
                <a:lnTo>
                  <a:pt x="1486" y="848"/>
                </a:lnTo>
                <a:lnTo>
                  <a:pt x="1491" y="848"/>
                </a:lnTo>
                <a:lnTo>
                  <a:pt x="1499" y="848"/>
                </a:lnTo>
                <a:lnTo>
                  <a:pt x="1507" y="850"/>
                </a:lnTo>
                <a:lnTo>
                  <a:pt x="1516" y="850"/>
                </a:lnTo>
                <a:lnTo>
                  <a:pt x="1526" y="852"/>
                </a:lnTo>
                <a:lnTo>
                  <a:pt x="1535" y="854"/>
                </a:lnTo>
                <a:lnTo>
                  <a:pt x="1547" y="856"/>
                </a:lnTo>
                <a:lnTo>
                  <a:pt x="1560" y="858"/>
                </a:lnTo>
                <a:lnTo>
                  <a:pt x="1572" y="862"/>
                </a:lnTo>
                <a:lnTo>
                  <a:pt x="1587" y="866"/>
                </a:lnTo>
                <a:lnTo>
                  <a:pt x="1601" y="868"/>
                </a:lnTo>
                <a:lnTo>
                  <a:pt x="1616" y="873"/>
                </a:lnTo>
                <a:lnTo>
                  <a:pt x="1631" y="877"/>
                </a:lnTo>
                <a:lnTo>
                  <a:pt x="1649" y="881"/>
                </a:lnTo>
                <a:lnTo>
                  <a:pt x="1664" y="885"/>
                </a:lnTo>
                <a:lnTo>
                  <a:pt x="1677" y="889"/>
                </a:lnTo>
                <a:lnTo>
                  <a:pt x="1691" y="893"/>
                </a:lnTo>
                <a:lnTo>
                  <a:pt x="1704" y="895"/>
                </a:lnTo>
                <a:lnTo>
                  <a:pt x="1718" y="898"/>
                </a:lnTo>
                <a:lnTo>
                  <a:pt x="1729" y="900"/>
                </a:lnTo>
                <a:lnTo>
                  <a:pt x="1741" y="902"/>
                </a:lnTo>
                <a:lnTo>
                  <a:pt x="1750" y="904"/>
                </a:lnTo>
                <a:lnTo>
                  <a:pt x="1760" y="904"/>
                </a:lnTo>
                <a:lnTo>
                  <a:pt x="1770" y="904"/>
                </a:lnTo>
                <a:lnTo>
                  <a:pt x="1779" y="906"/>
                </a:lnTo>
                <a:lnTo>
                  <a:pt x="1787" y="904"/>
                </a:lnTo>
                <a:lnTo>
                  <a:pt x="1793" y="904"/>
                </a:lnTo>
                <a:lnTo>
                  <a:pt x="1800" y="902"/>
                </a:lnTo>
                <a:lnTo>
                  <a:pt x="1806" y="900"/>
                </a:lnTo>
                <a:lnTo>
                  <a:pt x="1808" y="896"/>
                </a:lnTo>
                <a:lnTo>
                  <a:pt x="1812" y="893"/>
                </a:lnTo>
                <a:lnTo>
                  <a:pt x="1816" y="887"/>
                </a:lnTo>
                <a:lnTo>
                  <a:pt x="1820" y="879"/>
                </a:lnTo>
                <a:lnTo>
                  <a:pt x="1823" y="870"/>
                </a:lnTo>
                <a:lnTo>
                  <a:pt x="1827" y="858"/>
                </a:lnTo>
                <a:lnTo>
                  <a:pt x="1831" y="845"/>
                </a:lnTo>
                <a:lnTo>
                  <a:pt x="1837" y="829"/>
                </a:lnTo>
                <a:lnTo>
                  <a:pt x="1841" y="814"/>
                </a:lnTo>
                <a:lnTo>
                  <a:pt x="1846" y="797"/>
                </a:lnTo>
                <a:lnTo>
                  <a:pt x="1852" y="777"/>
                </a:lnTo>
                <a:lnTo>
                  <a:pt x="1856" y="756"/>
                </a:lnTo>
                <a:lnTo>
                  <a:pt x="1862" y="733"/>
                </a:lnTo>
                <a:lnTo>
                  <a:pt x="1868" y="708"/>
                </a:lnTo>
                <a:lnTo>
                  <a:pt x="1873" y="681"/>
                </a:lnTo>
                <a:lnTo>
                  <a:pt x="1877" y="655"/>
                </a:lnTo>
                <a:lnTo>
                  <a:pt x="1883" y="630"/>
                </a:lnTo>
                <a:lnTo>
                  <a:pt x="1887" y="603"/>
                </a:lnTo>
                <a:lnTo>
                  <a:pt x="1892" y="580"/>
                </a:lnTo>
                <a:lnTo>
                  <a:pt x="1896" y="557"/>
                </a:lnTo>
                <a:lnTo>
                  <a:pt x="1900" y="534"/>
                </a:lnTo>
                <a:lnTo>
                  <a:pt x="1904" y="511"/>
                </a:lnTo>
                <a:lnTo>
                  <a:pt x="1908" y="489"/>
                </a:lnTo>
                <a:lnTo>
                  <a:pt x="1910" y="470"/>
                </a:lnTo>
                <a:lnTo>
                  <a:pt x="1914" y="451"/>
                </a:lnTo>
                <a:lnTo>
                  <a:pt x="1915" y="432"/>
                </a:lnTo>
                <a:lnTo>
                  <a:pt x="1917" y="415"/>
                </a:lnTo>
                <a:lnTo>
                  <a:pt x="1919" y="397"/>
                </a:lnTo>
                <a:lnTo>
                  <a:pt x="1919" y="382"/>
                </a:lnTo>
                <a:lnTo>
                  <a:pt x="1921" y="367"/>
                </a:lnTo>
                <a:lnTo>
                  <a:pt x="1921" y="353"/>
                </a:lnTo>
                <a:lnTo>
                  <a:pt x="1921" y="340"/>
                </a:lnTo>
                <a:lnTo>
                  <a:pt x="1921" y="326"/>
                </a:lnTo>
                <a:lnTo>
                  <a:pt x="1921" y="313"/>
                </a:lnTo>
                <a:lnTo>
                  <a:pt x="1919" y="301"/>
                </a:lnTo>
                <a:lnTo>
                  <a:pt x="1917" y="290"/>
                </a:lnTo>
                <a:lnTo>
                  <a:pt x="1914" y="269"/>
                </a:lnTo>
                <a:lnTo>
                  <a:pt x="1912" y="259"/>
                </a:lnTo>
                <a:lnTo>
                  <a:pt x="1908" y="249"/>
                </a:lnTo>
                <a:lnTo>
                  <a:pt x="1904" y="240"/>
                </a:lnTo>
                <a:lnTo>
                  <a:pt x="1900" y="232"/>
                </a:lnTo>
                <a:lnTo>
                  <a:pt x="1896" y="223"/>
                </a:lnTo>
                <a:lnTo>
                  <a:pt x="1891" y="215"/>
                </a:lnTo>
                <a:lnTo>
                  <a:pt x="1885" y="207"/>
                </a:lnTo>
                <a:lnTo>
                  <a:pt x="1879" y="200"/>
                </a:lnTo>
                <a:lnTo>
                  <a:pt x="1871" y="194"/>
                </a:lnTo>
                <a:lnTo>
                  <a:pt x="1864" y="186"/>
                </a:lnTo>
                <a:lnTo>
                  <a:pt x="1854" y="182"/>
                </a:lnTo>
                <a:lnTo>
                  <a:pt x="1844" y="178"/>
                </a:lnTo>
                <a:lnTo>
                  <a:pt x="1835" y="177"/>
                </a:lnTo>
                <a:lnTo>
                  <a:pt x="1821" y="173"/>
                </a:lnTo>
                <a:lnTo>
                  <a:pt x="1810" y="171"/>
                </a:lnTo>
                <a:lnTo>
                  <a:pt x="1795" y="169"/>
                </a:lnTo>
                <a:lnTo>
                  <a:pt x="1779" y="169"/>
                </a:lnTo>
                <a:lnTo>
                  <a:pt x="1762" y="167"/>
                </a:lnTo>
                <a:lnTo>
                  <a:pt x="1745" y="167"/>
                </a:lnTo>
                <a:lnTo>
                  <a:pt x="1724" y="167"/>
                </a:lnTo>
                <a:lnTo>
                  <a:pt x="1702" y="167"/>
                </a:lnTo>
                <a:lnTo>
                  <a:pt x="1681" y="169"/>
                </a:lnTo>
                <a:lnTo>
                  <a:pt x="1656" y="169"/>
                </a:lnTo>
                <a:lnTo>
                  <a:pt x="1631" y="171"/>
                </a:lnTo>
                <a:lnTo>
                  <a:pt x="1603" y="173"/>
                </a:lnTo>
                <a:lnTo>
                  <a:pt x="1574" y="175"/>
                </a:lnTo>
                <a:lnTo>
                  <a:pt x="1516" y="180"/>
                </a:lnTo>
                <a:lnTo>
                  <a:pt x="1457" y="186"/>
                </a:lnTo>
                <a:lnTo>
                  <a:pt x="1401" y="192"/>
                </a:lnTo>
                <a:lnTo>
                  <a:pt x="1344" y="198"/>
                </a:lnTo>
                <a:lnTo>
                  <a:pt x="1286" y="205"/>
                </a:lnTo>
                <a:lnTo>
                  <a:pt x="1228" y="211"/>
                </a:lnTo>
                <a:lnTo>
                  <a:pt x="1171" y="217"/>
                </a:lnTo>
                <a:lnTo>
                  <a:pt x="1113" y="223"/>
                </a:lnTo>
                <a:lnTo>
                  <a:pt x="1096" y="225"/>
                </a:lnTo>
                <a:lnTo>
                  <a:pt x="1081" y="226"/>
                </a:lnTo>
                <a:lnTo>
                  <a:pt x="1061" y="228"/>
                </a:lnTo>
                <a:lnTo>
                  <a:pt x="1042" y="232"/>
                </a:lnTo>
                <a:lnTo>
                  <a:pt x="1021" y="234"/>
                </a:lnTo>
                <a:lnTo>
                  <a:pt x="1000" y="238"/>
                </a:lnTo>
                <a:lnTo>
                  <a:pt x="977" y="240"/>
                </a:lnTo>
                <a:lnTo>
                  <a:pt x="952" y="244"/>
                </a:lnTo>
                <a:lnTo>
                  <a:pt x="927" y="248"/>
                </a:lnTo>
                <a:lnTo>
                  <a:pt x="900" y="249"/>
                </a:lnTo>
                <a:lnTo>
                  <a:pt x="871" y="253"/>
                </a:lnTo>
                <a:lnTo>
                  <a:pt x="843" y="257"/>
                </a:lnTo>
                <a:lnTo>
                  <a:pt x="812" y="261"/>
                </a:lnTo>
                <a:lnTo>
                  <a:pt x="781" y="265"/>
                </a:lnTo>
                <a:lnTo>
                  <a:pt x="747" y="269"/>
                </a:lnTo>
                <a:lnTo>
                  <a:pt x="714" y="273"/>
                </a:lnTo>
                <a:lnTo>
                  <a:pt x="678" y="276"/>
                </a:lnTo>
                <a:lnTo>
                  <a:pt x="641" y="280"/>
                </a:lnTo>
                <a:lnTo>
                  <a:pt x="603" y="286"/>
                </a:lnTo>
                <a:lnTo>
                  <a:pt x="564" y="290"/>
                </a:lnTo>
                <a:lnTo>
                  <a:pt x="524" y="294"/>
                </a:lnTo>
                <a:lnTo>
                  <a:pt x="482" y="299"/>
                </a:lnTo>
                <a:lnTo>
                  <a:pt x="440" y="303"/>
                </a:lnTo>
                <a:lnTo>
                  <a:pt x="395" y="309"/>
                </a:lnTo>
                <a:lnTo>
                  <a:pt x="349" y="313"/>
                </a:lnTo>
                <a:lnTo>
                  <a:pt x="303" y="319"/>
                </a:lnTo>
                <a:lnTo>
                  <a:pt x="255" y="324"/>
                </a:lnTo>
                <a:lnTo>
                  <a:pt x="207" y="328"/>
                </a:lnTo>
                <a:lnTo>
                  <a:pt x="157" y="334"/>
                </a:lnTo>
                <a:lnTo>
                  <a:pt x="106" y="340"/>
                </a:lnTo>
                <a:lnTo>
                  <a:pt x="54" y="345"/>
                </a:lnTo>
                <a:lnTo>
                  <a:pt x="0" y="351"/>
                </a:lnTo>
                <a:lnTo>
                  <a:pt x="0" y="234"/>
                </a:lnTo>
                <a:lnTo>
                  <a:pt x="48" y="234"/>
                </a:lnTo>
                <a:lnTo>
                  <a:pt x="96" y="232"/>
                </a:lnTo>
                <a:lnTo>
                  <a:pt x="140" y="230"/>
                </a:lnTo>
                <a:lnTo>
                  <a:pt x="186" y="226"/>
                </a:lnTo>
                <a:lnTo>
                  <a:pt x="230" y="223"/>
                </a:lnTo>
                <a:lnTo>
                  <a:pt x="274" y="219"/>
                </a:lnTo>
                <a:lnTo>
                  <a:pt x="361" y="211"/>
                </a:lnTo>
                <a:lnTo>
                  <a:pt x="384" y="207"/>
                </a:lnTo>
                <a:lnTo>
                  <a:pt x="407" y="205"/>
                </a:lnTo>
                <a:lnTo>
                  <a:pt x="434" y="203"/>
                </a:lnTo>
                <a:lnTo>
                  <a:pt x="461" y="201"/>
                </a:lnTo>
                <a:lnTo>
                  <a:pt x="489" y="198"/>
                </a:lnTo>
                <a:lnTo>
                  <a:pt x="520" y="196"/>
                </a:lnTo>
                <a:lnTo>
                  <a:pt x="553" y="194"/>
                </a:lnTo>
                <a:lnTo>
                  <a:pt x="587" y="190"/>
                </a:lnTo>
                <a:lnTo>
                  <a:pt x="622" y="186"/>
                </a:lnTo>
                <a:lnTo>
                  <a:pt x="658" y="182"/>
                </a:lnTo>
                <a:lnTo>
                  <a:pt x="697" y="178"/>
                </a:lnTo>
                <a:lnTo>
                  <a:pt x="737" y="175"/>
                </a:lnTo>
                <a:lnTo>
                  <a:pt x="777" y="169"/>
                </a:lnTo>
                <a:lnTo>
                  <a:pt x="821" y="163"/>
                </a:lnTo>
                <a:lnTo>
                  <a:pt x="864" y="157"/>
                </a:lnTo>
                <a:lnTo>
                  <a:pt x="910" y="152"/>
                </a:lnTo>
                <a:lnTo>
                  <a:pt x="956" y="146"/>
                </a:lnTo>
                <a:lnTo>
                  <a:pt x="1000" y="138"/>
                </a:lnTo>
                <a:lnTo>
                  <a:pt x="1042" y="132"/>
                </a:lnTo>
                <a:lnTo>
                  <a:pt x="1084" y="127"/>
                </a:lnTo>
                <a:lnTo>
                  <a:pt x="1125" y="123"/>
                </a:lnTo>
                <a:lnTo>
                  <a:pt x="1163" y="117"/>
                </a:lnTo>
                <a:lnTo>
                  <a:pt x="1201" y="111"/>
                </a:lnTo>
                <a:lnTo>
                  <a:pt x="1238" y="107"/>
                </a:lnTo>
                <a:lnTo>
                  <a:pt x="1274" y="104"/>
                </a:lnTo>
                <a:lnTo>
                  <a:pt x="1309" y="100"/>
                </a:lnTo>
                <a:lnTo>
                  <a:pt x="1344" y="96"/>
                </a:lnTo>
                <a:lnTo>
                  <a:pt x="1376" y="92"/>
                </a:lnTo>
                <a:lnTo>
                  <a:pt x="1409" y="90"/>
                </a:lnTo>
                <a:lnTo>
                  <a:pt x="1441" y="86"/>
                </a:lnTo>
                <a:lnTo>
                  <a:pt x="1472" y="84"/>
                </a:lnTo>
                <a:lnTo>
                  <a:pt x="1503" y="82"/>
                </a:lnTo>
                <a:lnTo>
                  <a:pt x="1532" y="79"/>
                </a:lnTo>
                <a:lnTo>
                  <a:pt x="1558" y="77"/>
                </a:lnTo>
                <a:lnTo>
                  <a:pt x="1583" y="73"/>
                </a:lnTo>
                <a:lnTo>
                  <a:pt x="1608" y="71"/>
                </a:lnTo>
                <a:lnTo>
                  <a:pt x="1630" y="67"/>
                </a:lnTo>
                <a:lnTo>
                  <a:pt x="1651" y="63"/>
                </a:lnTo>
                <a:lnTo>
                  <a:pt x="1670" y="59"/>
                </a:lnTo>
                <a:lnTo>
                  <a:pt x="1689" y="58"/>
                </a:lnTo>
                <a:lnTo>
                  <a:pt x="1704" y="52"/>
                </a:lnTo>
                <a:lnTo>
                  <a:pt x="1720" y="48"/>
                </a:lnTo>
                <a:lnTo>
                  <a:pt x="1733" y="44"/>
                </a:lnTo>
                <a:lnTo>
                  <a:pt x="1745" y="40"/>
                </a:lnTo>
                <a:lnTo>
                  <a:pt x="1754" y="36"/>
                </a:lnTo>
                <a:lnTo>
                  <a:pt x="1764" y="33"/>
                </a:lnTo>
                <a:lnTo>
                  <a:pt x="1770" y="27"/>
                </a:lnTo>
                <a:lnTo>
                  <a:pt x="1777" y="23"/>
                </a:lnTo>
                <a:lnTo>
                  <a:pt x="1783" y="19"/>
                </a:lnTo>
                <a:lnTo>
                  <a:pt x="1791" y="13"/>
                </a:lnTo>
                <a:lnTo>
                  <a:pt x="1798" y="10"/>
                </a:lnTo>
                <a:lnTo>
                  <a:pt x="1810" y="8"/>
                </a:lnTo>
                <a:lnTo>
                  <a:pt x="1821" y="4"/>
                </a:lnTo>
                <a:lnTo>
                  <a:pt x="1833" y="2"/>
                </a:lnTo>
                <a:lnTo>
                  <a:pt x="1848" y="0"/>
                </a:lnTo>
                <a:lnTo>
                  <a:pt x="1864" y="0"/>
                </a:lnTo>
                <a:lnTo>
                  <a:pt x="1871" y="2"/>
                </a:lnTo>
                <a:lnTo>
                  <a:pt x="1881" y="6"/>
                </a:lnTo>
                <a:lnTo>
                  <a:pt x="1891" y="10"/>
                </a:lnTo>
                <a:lnTo>
                  <a:pt x="1902" y="13"/>
                </a:lnTo>
                <a:lnTo>
                  <a:pt x="1912" y="17"/>
                </a:lnTo>
                <a:lnTo>
                  <a:pt x="1925" y="23"/>
                </a:lnTo>
                <a:lnTo>
                  <a:pt x="1937" y="29"/>
                </a:lnTo>
                <a:lnTo>
                  <a:pt x="1950" y="34"/>
                </a:lnTo>
                <a:lnTo>
                  <a:pt x="1963" y="42"/>
                </a:lnTo>
                <a:lnTo>
                  <a:pt x="1979" y="48"/>
                </a:lnTo>
                <a:lnTo>
                  <a:pt x="1994" y="56"/>
                </a:lnTo>
                <a:lnTo>
                  <a:pt x="2010" y="65"/>
                </a:lnTo>
                <a:lnTo>
                  <a:pt x="2027" y="75"/>
                </a:lnTo>
                <a:lnTo>
                  <a:pt x="2044" y="84"/>
                </a:lnTo>
                <a:lnTo>
                  <a:pt x="2061" y="94"/>
                </a:lnTo>
                <a:lnTo>
                  <a:pt x="2081" y="106"/>
                </a:lnTo>
                <a:lnTo>
                  <a:pt x="2098" y="115"/>
                </a:lnTo>
                <a:lnTo>
                  <a:pt x="2115" y="127"/>
                </a:lnTo>
                <a:lnTo>
                  <a:pt x="2132" y="136"/>
                </a:lnTo>
                <a:lnTo>
                  <a:pt x="2148" y="146"/>
                </a:lnTo>
                <a:lnTo>
                  <a:pt x="2161" y="155"/>
                </a:lnTo>
                <a:lnTo>
                  <a:pt x="2175" y="165"/>
                </a:lnTo>
                <a:lnTo>
                  <a:pt x="2188" y="173"/>
                </a:lnTo>
                <a:lnTo>
                  <a:pt x="2200" y="180"/>
                </a:lnTo>
                <a:lnTo>
                  <a:pt x="2209" y="188"/>
                </a:lnTo>
                <a:lnTo>
                  <a:pt x="2219" y="196"/>
                </a:lnTo>
                <a:lnTo>
                  <a:pt x="2226" y="201"/>
                </a:lnTo>
                <a:lnTo>
                  <a:pt x="2234" y="207"/>
                </a:lnTo>
                <a:lnTo>
                  <a:pt x="2240" y="211"/>
                </a:lnTo>
                <a:lnTo>
                  <a:pt x="2246" y="215"/>
                </a:lnTo>
                <a:lnTo>
                  <a:pt x="2249" y="219"/>
                </a:lnTo>
                <a:lnTo>
                  <a:pt x="2253" y="223"/>
                </a:lnTo>
                <a:lnTo>
                  <a:pt x="2255" y="226"/>
                </a:lnTo>
                <a:lnTo>
                  <a:pt x="2257" y="230"/>
                </a:lnTo>
                <a:lnTo>
                  <a:pt x="2259" y="234"/>
                </a:lnTo>
                <a:lnTo>
                  <a:pt x="2259" y="240"/>
                </a:lnTo>
                <a:lnTo>
                  <a:pt x="2259" y="244"/>
                </a:lnTo>
                <a:lnTo>
                  <a:pt x="2259" y="248"/>
                </a:lnTo>
                <a:lnTo>
                  <a:pt x="2257" y="251"/>
                </a:lnTo>
                <a:lnTo>
                  <a:pt x="2255" y="255"/>
                </a:lnTo>
                <a:lnTo>
                  <a:pt x="2253" y="259"/>
                </a:lnTo>
                <a:lnTo>
                  <a:pt x="2249" y="263"/>
                </a:lnTo>
                <a:lnTo>
                  <a:pt x="2244" y="269"/>
                </a:lnTo>
                <a:lnTo>
                  <a:pt x="2234" y="274"/>
                </a:lnTo>
                <a:lnTo>
                  <a:pt x="2225" y="280"/>
                </a:lnTo>
                <a:lnTo>
                  <a:pt x="2219" y="282"/>
                </a:lnTo>
                <a:lnTo>
                  <a:pt x="2215" y="286"/>
                </a:lnTo>
                <a:lnTo>
                  <a:pt x="2209" y="292"/>
                </a:lnTo>
                <a:lnTo>
                  <a:pt x="2205" y="297"/>
                </a:lnTo>
                <a:lnTo>
                  <a:pt x="2201" y="305"/>
                </a:lnTo>
                <a:lnTo>
                  <a:pt x="2198" y="313"/>
                </a:lnTo>
                <a:lnTo>
                  <a:pt x="2194" y="321"/>
                </a:lnTo>
                <a:lnTo>
                  <a:pt x="2190" y="330"/>
                </a:lnTo>
                <a:lnTo>
                  <a:pt x="2186" y="340"/>
                </a:lnTo>
                <a:lnTo>
                  <a:pt x="2184" y="351"/>
                </a:lnTo>
                <a:lnTo>
                  <a:pt x="2180" y="363"/>
                </a:lnTo>
                <a:lnTo>
                  <a:pt x="2178" y="376"/>
                </a:lnTo>
                <a:lnTo>
                  <a:pt x="2175" y="390"/>
                </a:lnTo>
                <a:lnTo>
                  <a:pt x="2173" y="403"/>
                </a:lnTo>
                <a:lnTo>
                  <a:pt x="2169" y="416"/>
                </a:lnTo>
                <a:lnTo>
                  <a:pt x="2167" y="4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42"/>
          <p:cNvSpPr/>
          <p:nvPr/>
        </p:nvSpPr>
        <p:spPr>
          <a:xfrm>
            <a:off x="6811920" y="4344840"/>
            <a:ext cx="282600" cy="297000"/>
          </a:xfrm>
          <a:custGeom>
            <a:avLst/>
            <a:gdLst/>
            <a:ahLst/>
            <a:rect l="l" t="t" r="r" b="b"/>
            <a:pathLst>
              <a:path w="357" h="374">
                <a:moveTo>
                  <a:pt x="348" y="280"/>
                </a:moveTo>
                <a:lnTo>
                  <a:pt x="344" y="292"/>
                </a:lnTo>
                <a:lnTo>
                  <a:pt x="342" y="301"/>
                </a:lnTo>
                <a:lnTo>
                  <a:pt x="340" y="311"/>
                </a:lnTo>
                <a:lnTo>
                  <a:pt x="336" y="320"/>
                </a:lnTo>
                <a:lnTo>
                  <a:pt x="334" y="328"/>
                </a:lnTo>
                <a:lnTo>
                  <a:pt x="330" y="336"/>
                </a:lnTo>
                <a:lnTo>
                  <a:pt x="328" y="343"/>
                </a:lnTo>
                <a:lnTo>
                  <a:pt x="325" y="349"/>
                </a:lnTo>
                <a:lnTo>
                  <a:pt x="323" y="355"/>
                </a:lnTo>
                <a:lnTo>
                  <a:pt x="321" y="359"/>
                </a:lnTo>
                <a:lnTo>
                  <a:pt x="317" y="364"/>
                </a:lnTo>
                <a:lnTo>
                  <a:pt x="315" y="366"/>
                </a:lnTo>
                <a:lnTo>
                  <a:pt x="311" y="370"/>
                </a:lnTo>
                <a:lnTo>
                  <a:pt x="309" y="372"/>
                </a:lnTo>
                <a:lnTo>
                  <a:pt x="305" y="374"/>
                </a:lnTo>
                <a:lnTo>
                  <a:pt x="303" y="374"/>
                </a:lnTo>
                <a:lnTo>
                  <a:pt x="300" y="372"/>
                </a:lnTo>
                <a:lnTo>
                  <a:pt x="296" y="372"/>
                </a:lnTo>
                <a:lnTo>
                  <a:pt x="290" y="368"/>
                </a:lnTo>
                <a:lnTo>
                  <a:pt x="284" y="364"/>
                </a:lnTo>
                <a:lnTo>
                  <a:pt x="279" y="361"/>
                </a:lnTo>
                <a:lnTo>
                  <a:pt x="271" y="355"/>
                </a:lnTo>
                <a:lnTo>
                  <a:pt x="261" y="347"/>
                </a:lnTo>
                <a:lnTo>
                  <a:pt x="254" y="340"/>
                </a:lnTo>
                <a:lnTo>
                  <a:pt x="242" y="332"/>
                </a:lnTo>
                <a:lnTo>
                  <a:pt x="232" y="322"/>
                </a:lnTo>
                <a:lnTo>
                  <a:pt x="221" y="311"/>
                </a:lnTo>
                <a:lnTo>
                  <a:pt x="209" y="299"/>
                </a:lnTo>
                <a:lnTo>
                  <a:pt x="198" y="288"/>
                </a:lnTo>
                <a:lnTo>
                  <a:pt x="184" y="274"/>
                </a:lnTo>
                <a:lnTo>
                  <a:pt x="173" y="261"/>
                </a:lnTo>
                <a:lnTo>
                  <a:pt x="160" y="245"/>
                </a:lnTo>
                <a:lnTo>
                  <a:pt x="146" y="230"/>
                </a:lnTo>
                <a:lnTo>
                  <a:pt x="133" y="215"/>
                </a:lnTo>
                <a:lnTo>
                  <a:pt x="121" y="201"/>
                </a:lnTo>
                <a:lnTo>
                  <a:pt x="108" y="188"/>
                </a:lnTo>
                <a:lnTo>
                  <a:pt x="96" y="174"/>
                </a:lnTo>
                <a:lnTo>
                  <a:pt x="87" y="161"/>
                </a:lnTo>
                <a:lnTo>
                  <a:pt x="75" y="149"/>
                </a:lnTo>
                <a:lnTo>
                  <a:pt x="65" y="138"/>
                </a:lnTo>
                <a:lnTo>
                  <a:pt x="56" y="126"/>
                </a:lnTo>
                <a:lnTo>
                  <a:pt x="48" y="115"/>
                </a:lnTo>
                <a:lnTo>
                  <a:pt x="41" y="105"/>
                </a:lnTo>
                <a:lnTo>
                  <a:pt x="33" y="96"/>
                </a:lnTo>
                <a:lnTo>
                  <a:pt x="27" y="86"/>
                </a:lnTo>
                <a:lnTo>
                  <a:pt x="21" y="77"/>
                </a:lnTo>
                <a:lnTo>
                  <a:pt x="17" y="67"/>
                </a:lnTo>
                <a:lnTo>
                  <a:pt x="16" y="57"/>
                </a:lnTo>
                <a:lnTo>
                  <a:pt x="10" y="52"/>
                </a:lnTo>
                <a:lnTo>
                  <a:pt x="6" y="46"/>
                </a:lnTo>
                <a:lnTo>
                  <a:pt x="4" y="40"/>
                </a:lnTo>
                <a:lnTo>
                  <a:pt x="2" y="34"/>
                </a:lnTo>
                <a:lnTo>
                  <a:pt x="0" y="29"/>
                </a:lnTo>
                <a:lnTo>
                  <a:pt x="0" y="23"/>
                </a:lnTo>
                <a:lnTo>
                  <a:pt x="2" y="19"/>
                </a:lnTo>
                <a:lnTo>
                  <a:pt x="4" y="15"/>
                </a:lnTo>
                <a:lnTo>
                  <a:pt x="8" y="11"/>
                </a:lnTo>
                <a:lnTo>
                  <a:pt x="12" y="9"/>
                </a:lnTo>
                <a:lnTo>
                  <a:pt x="17" y="6"/>
                </a:lnTo>
                <a:lnTo>
                  <a:pt x="23" y="4"/>
                </a:lnTo>
                <a:lnTo>
                  <a:pt x="31" y="2"/>
                </a:lnTo>
                <a:lnTo>
                  <a:pt x="39" y="0"/>
                </a:lnTo>
                <a:lnTo>
                  <a:pt x="48" y="0"/>
                </a:lnTo>
                <a:lnTo>
                  <a:pt x="58" y="0"/>
                </a:lnTo>
                <a:lnTo>
                  <a:pt x="67" y="0"/>
                </a:lnTo>
                <a:lnTo>
                  <a:pt x="75" y="2"/>
                </a:lnTo>
                <a:lnTo>
                  <a:pt x="87" y="4"/>
                </a:lnTo>
                <a:lnTo>
                  <a:pt x="96" y="6"/>
                </a:lnTo>
                <a:lnTo>
                  <a:pt x="108" y="9"/>
                </a:lnTo>
                <a:lnTo>
                  <a:pt x="119" y="13"/>
                </a:lnTo>
                <a:lnTo>
                  <a:pt x="131" y="19"/>
                </a:lnTo>
                <a:lnTo>
                  <a:pt x="144" y="25"/>
                </a:lnTo>
                <a:lnTo>
                  <a:pt x="156" y="30"/>
                </a:lnTo>
                <a:lnTo>
                  <a:pt x="169" y="36"/>
                </a:lnTo>
                <a:lnTo>
                  <a:pt x="184" y="44"/>
                </a:lnTo>
                <a:lnTo>
                  <a:pt x="198" y="53"/>
                </a:lnTo>
                <a:lnTo>
                  <a:pt x="213" y="63"/>
                </a:lnTo>
                <a:lnTo>
                  <a:pt x="229" y="73"/>
                </a:lnTo>
                <a:lnTo>
                  <a:pt x="244" y="82"/>
                </a:lnTo>
                <a:lnTo>
                  <a:pt x="261" y="94"/>
                </a:lnTo>
                <a:lnTo>
                  <a:pt x="277" y="103"/>
                </a:lnTo>
                <a:lnTo>
                  <a:pt x="290" y="115"/>
                </a:lnTo>
                <a:lnTo>
                  <a:pt x="303" y="126"/>
                </a:lnTo>
                <a:lnTo>
                  <a:pt x="315" y="138"/>
                </a:lnTo>
                <a:lnTo>
                  <a:pt x="325" y="151"/>
                </a:lnTo>
                <a:lnTo>
                  <a:pt x="334" y="163"/>
                </a:lnTo>
                <a:lnTo>
                  <a:pt x="340" y="174"/>
                </a:lnTo>
                <a:lnTo>
                  <a:pt x="348" y="186"/>
                </a:lnTo>
                <a:lnTo>
                  <a:pt x="351" y="199"/>
                </a:lnTo>
                <a:lnTo>
                  <a:pt x="355" y="211"/>
                </a:lnTo>
                <a:lnTo>
                  <a:pt x="357" y="222"/>
                </a:lnTo>
                <a:lnTo>
                  <a:pt x="357" y="234"/>
                </a:lnTo>
                <a:lnTo>
                  <a:pt x="357" y="245"/>
                </a:lnTo>
                <a:lnTo>
                  <a:pt x="355" y="257"/>
                </a:lnTo>
                <a:lnTo>
                  <a:pt x="351" y="269"/>
                </a:lnTo>
                <a:lnTo>
                  <a:pt x="348" y="2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3"/>
          <p:cNvSpPr/>
          <p:nvPr/>
        </p:nvSpPr>
        <p:spPr>
          <a:xfrm>
            <a:off x="6073920" y="4456080"/>
            <a:ext cx="898560" cy="231840"/>
          </a:xfrm>
          <a:custGeom>
            <a:avLst/>
            <a:gdLst/>
            <a:ahLst/>
            <a:rect l="l" t="t" r="r" b="b"/>
            <a:pathLst>
              <a:path w="1133" h="292">
                <a:moveTo>
                  <a:pt x="150" y="292"/>
                </a:moveTo>
                <a:lnTo>
                  <a:pt x="142" y="292"/>
                </a:lnTo>
                <a:lnTo>
                  <a:pt x="135" y="292"/>
                </a:lnTo>
                <a:lnTo>
                  <a:pt x="127" y="290"/>
                </a:lnTo>
                <a:lnTo>
                  <a:pt x="119" y="288"/>
                </a:lnTo>
                <a:lnTo>
                  <a:pt x="112" y="286"/>
                </a:lnTo>
                <a:lnTo>
                  <a:pt x="106" y="282"/>
                </a:lnTo>
                <a:lnTo>
                  <a:pt x="98" y="278"/>
                </a:lnTo>
                <a:lnTo>
                  <a:pt x="90" y="272"/>
                </a:lnTo>
                <a:lnTo>
                  <a:pt x="85" y="269"/>
                </a:lnTo>
                <a:lnTo>
                  <a:pt x="77" y="263"/>
                </a:lnTo>
                <a:lnTo>
                  <a:pt x="71" y="255"/>
                </a:lnTo>
                <a:lnTo>
                  <a:pt x="64" y="248"/>
                </a:lnTo>
                <a:lnTo>
                  <a:pt x="56" y="240"/>
                </a:lnTo>
                <a:lnTo>
                  <a:pt x="50" y="230"/>
                </a:lnTo>
                <a:lnTo>
                  <a:pt x="42" y="221"/>
                </a:lnTo>
                <a:lnTo>
                  <a:pt x="35" y="211"/>
                </a:lnTo>
                <a:lnTo>
                  <a:pt x="27" y="200"/>
                </a:lnTo>
                <a:lnTo>
                  <a:pt x="19" y="190"/>
                </a:lnTo>
                <a:lnTo>
                  <a:pt x="14" y="180"/>
                </a:lnTo>
                <a:lnTo>
                  <a:pt x="10" y="171"/>
                </a:lnTo>
                <a:lnTo>
                  <a:pt x="6" y="161"/>
                </a:lnTo>
                <a:lnTo>
                  <a:pt x="2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4"/>
                </a:lnTo>
                <a:lnTo>
                  <a:pt x="0" y="129"/>
                </a:lnTo>
                <a:lnTo>
                  <a:pt x="2" y="123"/>
                </a:lnTo>
                <a:lnTo>
                  <a:pt x="4" y="119"/>
                </a:lnTo>
                <a:lnTo>
                  <a:pt x="6" y="113"/>
                </a:lnTo>
                <a:lnTo>
                  <a:pt x="10" y="111"/>
                </a:lnTo>
                <a:lnTo>
                  <a:pt x="14" y="107"/>
                </a:lnTo>
                <a:lnTo>
                  <a:pt x="19" y="105"/>
                </a:lnTo>
                <a:lnTo>
                  <a:pt x="25" y="102"/>
                </a:lnTo>
                <a:lnTo>
                  <a:pt x="33" y="98"/>
                </a:lnTo>
                <a:lnTo>
                  <a:pt x="41" y="98"/>
                </a:lnTo>
                <a:lnTo>
                  <a:pt x="50" y="98"/>
                </a:lnTo>
                <a:lnTo>
                  <a:pt x="60" y="100"/>
                </a:lnTo>
                <a:lnTo>
                  <a:pt x="66" y="102"/>
                </a:lnTo>
                <a:lnTo>
                  <a:pt x="69" y="104"/>
                </a:lnTo>
                <a:lnTo>
                  <a:pt x="75" y="105"/>
                </a:lnTo>
                <a:lnTo>
                  <a:pt x="81" y="109"/>
                </a:lnTo>
                <a:lnTo>
                  <a:pt x="87" y="113"/>
                </a:lnTo>
                <a:lnTo>
                  <a:pt x="92" y="117"/>
                </a:lnTo>
                <a:lnTo>
                  <a:pt x="94" y="119"/>
                </a:lnTo>
                <a:lnTo>
                  <a:pt x="100" y="121"/>
                </a:lnTo>
                <a:lnTo>
                  <a:pt x="108" y="121"/>
                </a:lnTo>
                <a:lnTo>
                  <a:pt x="117" y="123"/>
                </a:lnTo>
                <a:lnTo>
                  <a:pt x="129" y="123"/>
                </a:lnTo>
                <a:lnTo>
                  <a:pt x="140" y="123"/>
                </a:lnTo>
                <a:lnTo>
                  <a:pt x="156" y="123"/>
                </a:lnTo>
                <a:lnTo>
                  <a:pt x="173" y="123"/>
                </a:lnTo>
                <a:lnTo>
                  <a:pt x="192" y="123"/>
                </a:lnTo>
                <a:lnTo>
                  <a:pt x="211" y="121"/>
                </a:lnTo>
                <a:lnTo>
                  <a:pt x="234" y="121"/>
                </a:lnTo>
                <a:lnTo>
                  <a:pt x="257" y="119"/>
                </a:lnTo>
                <a:lnTo>
                  <a:pt x="284" y="115"/>
                </a:lnTo>
                <a:lnTo>
                  <a:pt x="311" y="113"/>
                </a:lnTo>
                <a:lnTo>
                  <a:pt x="342" y="111"/>
                </a:lnTo>
                <a:lnTo>
                  <a:pt x="373" y="107"/>
                </a:lnTo>
                <a:lnTo>
                  <a:pt x="407" y="104"/>
                </a:lnTo>
                <a:lnTo>
                  <a:pt x="442" y="100"/>
                </a:lnTo>
                <a:lnTo>
                  <a:pt x="480" y="94"/>
                </a:lnTo>
                <a:lnTo>
                  <a:pt x="518" y="90"/>
                </a:lnTo>
                <a:lnTo>
                  <a:pt x="559" y="84"/>
                </a:lnTo>
                <a:lnTo>
                  <a:pt x="603" y="79"/>
                </a:lnTo>
                <a:lnTo>
                  <a:pt x="647" y="73"/>
                </a:lnTo>
                <a:lnTo>
                  <a:pt x="693" y="67"/>
                </a:lnTo>
                <a:lnTo>
                  <a:pt x="741" y="59"/>
                </a:lnTo>
                <a:lnTo>
                  <a:pt x="791" y="52"/>
                </a:lnTo>
                <a:lnTo>
                  <a:pt x="843" y="44"/>
                </a:lnTo>
                <a:lnTo>
                  <a:pt x="899" y="36"/>
                </a:lnTo>
                <a:lnTo>
                  <a:pt x="954" y="29"/>
                </a:lnTo>
                <a:lnTo>
                  <a:pt x="1012" y="19"/>
                </a:lnTo>
                <a:lnTo>
                  <a:pt x="1071" y="9"/>
                </a:lnTo>
                <a:lnTo>
                  <a:pt x="1133" y="0"/>
                </a:lnTo>
                <a:lnTo>
                  <a:pt x="1133" y="34"/>
                </a:lnTo>
                <a:lnTo>
                  <a:pt x="1133" y="69"/>
                </a:lnTo>
                <a:lnTo>
                  <a:pt x="1075" y="84"/>
                </a:lnTo>
                <a:lnTo>
                  <a:pt x="1019" y="98"/>
                </a:lnTo>
                <a:lnTo>
                  <a:pt x="966" y="111"/>
                </a:lnTo>
                <a:lnTo>
                  <a:pt x="914" y="123"/>
                </a:lnTo>
                <a:lnTo>
                  <a:pt x="862" y="136"/>
                </a:lnTo>
                <a:lnTo>
                  <a:pt x="814" y="148"/>
                </a:lnTo>
                <a:lnTo>
                  <a:pt x="768" y="159"/>
                </a:lnTo>
                <a:lnTo>
                  <a:pt x="722" y="169"/>
                </a:lnTo>
                <a:lnTo>
                  <a:pt x="680" y="180"/>
                </a:lnTo>
                <a:lnTo>
                  <a:pt x="637" y="190"/>
                </a:lnTo>
                <a:lnTo>
                  <a:pt x="597" y="200"/>
                </a:lnTo>
                <a:lnTo>
                  <a:pt x="559" y="207"/>
                </a:lnTo>
                <a:lnTo>
                  <a:pt x="522" y="217"/>
                </a:lnTo>
                <a:lnTo>
                  <a:pt x="488" y="224"/>
                </a:lnTo>
                <a:lnTo>
                  <a:pt x="455" y="232"/>
                </a:lnTo>
                <a:lnTo>
                  <a:pt x="424" y="240"/>
                </a:lnTo>
                <a:lnTo>
                  <a:pt x="394" y="246"/>
                </a:lnTo>
                <a:lnTo>
                  <a:pt x="367" y="251"/>
                </a:lnTo>
                <a:lnTo>
                  <a:pt x="340" y="257"/>
                </a:lnTo>
                <a:lnTo>
                  <a:pt x="315" y="263"/>
                </a:lnTo>
                <a:lnTo>
                  <a:pt x="292" y="267"/>
                </a:lnTo>
                <a:lnTo>
                  <a:pt x="271" y="272"/>
                </a:lnTo>
                <a:lnTo>
                  <a:pt x="252" y="276"/>
                </a:lnTo>
                <a:lnTo>
                  <a:pt x="234" y="280"/>
                </a:lnTo>
                <a:lnTo>
                  <a:pt x="217" y="282"/>
                </a:lnTo>
                <a:lnTo>
                  <a:pt x="204" y="284"/>
                </a:lnTo>
                <a:lnTo>
                  <a:pt x="190" y="288"/>
                </a:lnTo>
                <a:lnTo>
                  <a:pt x="179" y="290"/>
                </a:lnTo>
                <a:lnTo>
                  <a:pt x="169" y="290"/>
                </a:lnTo>
                <a:lnTo>
                  <a:pt x="161" y="292"/>
                </a:lnTo>
                <a:lnTo>
                  <a:pt x="154" y="292"/>
                </a:lnTo>
                <a:lnTo>
                  <a:pt x="150" y="2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4"/>
          <p:cNvSpPr/>
          <p:nvPr/>
        </p:nvSpPr>
        <p:spPr>
          <a:xfrm>
            <a:off x="6489720" y="3452760"/>
            <a:ext cx="181080" cy="1104840"/>
          </a:xfrm>
          <a:custGeom>
            <a:avLst/>
            <a:gdLst/>
            <a:ahLst/>
            <a:rect l="l" t="t" r="r" b="b"/>
            <a:pathLst>
              <a:path w="229" h="1392">
                <a:moveTo>
                  <a:pt x="217" y="128"/>
                </a:moveTo>
                <a:lnTo>
                  <a:pt x="223" y="138"/>
                </a:lnTo>
                <a:lnTo>
                  <a:pt x="225" y="148"/>
                </a:lnTo>
                <a:lnTo>
                  <a:pt x="227" y="159"/>
                </a:lnTo>
                <a:lnTo>
                  <a:pt x="229" y="173"/>
                </a:lnTo>
                <a:lnTo>
                  <a:pt x="227" y="186"/>
                </a:lnTo>
                <a:lnTo>
                  <a:pt x="225" y="199"/>
                </a:lnTo>
                <a:lnTo>
                  <a:pt x="223" y="217"/>
                </a:lnTo>
                <a:lnTo>
                  <a:pt x="217" y="234"/>
                </a:lnTo>
                <a:lnTo>
                  <a:pt x="215" y="240"/>
                </a:lnTo>
                <a:lnTo>
                  <a:pt x="213" y="247"/>
                </a:lnTo>
                <a:lnTo>
                  <a:pt x="209" y="259"/>
                </a:lnTo>
                <a:lnTo>
                  <a:pt x="208" y="270"/>
                </a:lnTo>
                <a:lnTo>
                  <a:pt x="206" y="284"/>
                </a:lnTo>
                <a:lnTo>
                  <a:pt x="204" y="301"/>
                </a:lnTo>
                <a:lnTo>
                  <a:pt x="202" y="318"/>
                </a:lnTo>
                <a:lnTo>
                  <a:pt x="198" y="338"/>
                </a:lnTo>
                <a:lnTo>
                  <a:pt x="196" y="361"/>
                </a:lnTo>
                <a:lnTo>
                  <a:pt x="194" y="384"/>
                </a:lnTo>
                <a:lnTo>
                  <a:pt x="194" y="409"/>
                </a:lnTo>
                <a:lnTo>
                  <a:pt x="192" y="437"/>
                </a:lnTo>
                <a:lnTo>
                  <a:pt x="190" y="466"/>
                </a:lnTo>
                <a:lnTo>
                  <a:pt x="188" y="497"/>
                </a:lnTo>
                <a:lnTo>
                  <a:pt x="186" y="531"/>
                </a:lnTo>
                <a:lnTo>
                  <a:pt x="184" y="566"/>
                </a:lnTo>
                <a:lnTo>
                  <a:pt x="184" y="604"/>
                </a:lnTo>
                <a:lnTo>
                  <a:pt x="183" y="643"/>
                </a:lnTo>
                <a:lnTo>
                  <a:pt x="181" y="683"/>
                </a:lnTo>
                <a:lnTo>
                  <a:pt x="181" y="727"/>
                </a:lnTo>
                <a:lnTo>
                  <a:pt x="179" y="771"/>
                </a:lnTo>
                <a:lnTo>
                  <a:pt x="179" y="794"/>
                </a:lnTo>
                <a:lnTo>
                  <a:pt x="179" y="818"/>
                </a:lnTo>
                <a:lnTo>
                  <a:pt x="179" y="842"/>
                </a:lnTo>
                <a:lnTo>
                  <a:pt x="177" y="867"/>
                </a:lnTo>
                <a:lnTo>
                  <a:pt x="177" y="892"/>
                </a:lnTo>
                <a:lnTo>
                  <a:pt x="177" y="917"/>
                </a:lnTo>
                <a:lnTo>
                  <a:pt x="177" y="944"/>
                </a:lnTo>
                <a:lnTo>
                  <a:pt x="177" y="969"/>
                </a:lnTo>
                <a:lnTo>
                  <a:pt x="177" y="996"/>
                </a:lnTo>
                <a:lnTo>
                  <a:pt x="175" y="1025"/>
                </a:lnTo>
                <a:lnTo>
                  <a:pt x="175" y="1052"/>
                </a:lnTo>
                <a:lnTo>
                  <a:pt x="175" y="1081"/>
                </a:lnTo>
                <a:lnTo>
                  <a:pt x="175" y="1109"/>
                </a:lnTo>
                <a:lnTo>
                  <a:pt x="175" y="1138"/>
                </a:lnTo>
                <a:lnTo>
                  <a:pt x="175" y="1169"/>
                </a:lnTo>
                <a:lnTo>
                  <a:pt x="175" y="1200"/>
                </a:lnTo>
                <a:lnTo>
                  <a:pt x="175" y="1230"/>
                </a:lnTo>
                <a:lnTo>
                  <a:pt x="175" y="1261"/>
                </a:lnTo>
                <a:lnTo>
                  <a:pt x="175" y="1294"/>
                </a:lnTo>
                <a:lnTo>
                  <a:pt x="175" y="1324"/>
                </a:lnTo>
                <a:lnTo>
                  <a:pt x="175" y="1357"/>
                </a:lnTo>
                <a:lnTo>
                  <a:pt x="175" y="1392"/>
                </a:lnTo>
                <a:lnTo>
                  <a:pt x="31" y="1392"/>
                </a:lnTo>
                <a:lnTo>
                  <a:pt x="31" y="1322"/>
                </a:lnTo>
                <a:lnTo>
                  <a:pt x="33" y="1255"/>
                </a:lnTo>
                <a:lnTo>
                  <a:pt x="33" y="1192"/>
                </a:lnTo>
                <a:lnTo>
                  <a:pt x="35" y="1127"/>
                </a:lnTo>
                <a:lnTo>
                  <a:pt x="35" y="1065"/>
                </a:lnTo>
                <a:lnTo>
                  <a:pt x="35" y="1006"/>
                </a:lnTo>
                <a:lnTo>
                  <a:pt x="35" y="946"/>
                </a:lnTo>
                <a:lnTo>
                  <a:pt x="35" y="889"/>
                </a:lnTo>
                <a:lnTo>
                  <a:pt x="35" y="833"/>
                </a:lnTo>
                <a:lnTo>
                  <a:pt x="35" y="779"/>
                </a:lnTo>
                <a:lnTo>
                  <a:pt x="35" y="727"/>
                </a:lnTo>
                <a:lnTo>
                  <a:pt x="35" y="675"/>
                </a:lnTo>
                <a:lnTo>
                  <a:pt x="33" y="627"/>
                </a:lnTo>
                <a:lnTo>
                  <a:pt x="33" y="579"/>
                </a:lnTo>
                <a:lnTo>
                  <a:pt x="33" y="533"/>
                </a:lnTo>
                <a:lnTo>
                  <a:pt x="31" y="489"/>
                </a:lnTo>
                <a:lnTo>
                  <a:pt x="31" y="447"/>
                </a:lnTo>
                <a:lnTo>
                  <a:pt x="29" y="405"/>
                </a:lnTo>
                <a:lnTo>
                  <a:pt x="27" y="366"/>
                </a:lnTo>
                <a:lnTo>
                  <a:pt x="25" y="328"/>
                </a:lnTo>
                <a:lnTo>
                  <a:pt x="25" y="292"/>
                </a:lnTo>
                <a:lnTo>
                  <a:pt x="23" y="257"/>
                </a:lnTo>
                <a:lnTo>
                  <a:pt x="21" y="224"/>
                </a:lnTo>
                <a:lnTo>
                  <a:pt x="19" y="192"/>
                </a:lnTo>
                <a:lnTo>
                  <a:pt x="18" y="163"/>
                </a:lnTo>
                <a:lnTo>
                  <a:pt x="16" y="134"/>
                </a:lnTo>
                <a:lnTo>
                  <a:pt x="14" y="107"/>
                </a:lnTo>
                <a:lnTo>
                  <a:pt x="10" y="82"/>
                </a:lnTo>
                <a:lnTo>
                  <a:pt x="8" y="59"/>
                </a:lnTo>
                <a:lnTo>
                  <a:pt x="6" y="38"/>
                </a:lnTo>
                <a:lnTo>
                  <a:pt x="4" y="17"/>
                </a:lnTo>
                <a:lnTo>
                  <a:pt x="0" y="0"/>
                </a:lnTo>
                <a:lnTo>
                  <a:pt x="25" y="9"/>
                </a:lnTo>
                <a:lnTo>
                  <a:pt x="46" y="21"/>
                </a:lnTo>
                <a:lnTo>
                  <a:pt x="67" y="30"/>
                </a:lnTo>
                <a:lnTo>
                  <a:pt x="87" y="40"/>
                </a:lnTo>
                <a:lnTo>
                  <a:pt x="106" y="48"/>
                </a:lnTo>
                <a:lnTo>
                  <a:pt x="123" y="57"/>
                </a:lnTo>
                <a:lnTo>
                  <a:pt x="138" y="65"/>
                </a:lnTo>
                <a:lnTo>
                  <a:pt x="152" y="73"/>
                </a:lnTo>
                <a:lnTo>
                  <a:pt x="165" y="80"/>
                </a:lnTo>
                <a:lnTo>
                  <a:pt x="177" y="88"/>
                </a:lnTo>
                <a:lnTo>
                  <a:pt x="186" y="94"/>
                </a:lnTo>
                <a:lnTo>
                  <a:pt x="196" y="101"/>
                </a:lnTo>
                <a:lnTo>
                  <a:pt x="204" y="107"/>
                </a:lnTo>
                <a:lnTo>
                  <a:pt x="209" y="115"/>
                </a:lnTo>
                <a:lnTo>
                  <a:pt x="215" y="121"/>
                </a:lnTo>
                <a:lnTo>
                  <a:pt x="217" y="1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45"/>
          <p:cNvSpPr/>
          <p:nvPr/>
        </p:nvSpPr>
        <p:spPr>
          <a:xfrm>
            <a:off x="6089760" y="3313080"/>
            <a:ext cx="1216080" cy="698400"/>
          </a:xfrm>
          <a:custGeom>
            <a:avLst/>
            <a:gdLst/>
            <a:ahLst/>
            <a:rect l="l" t="t" r="r" b="b"/>
            <a:pathLst>
              <a:path w="1532" h="879">
                <a:moveTo>
                  <a:pt x="1300" y="597"/>
                </a:moveTo>
                <a:lnTo>
                  <a:pt x="1294" y="616"/>
                </a:lnTo>
                <a:lnTo>
                  <a:pt x="1286" y="634"/>
                </a:lnTo>
                <a:lnTo>
                  <a:pt x="1281" y="651"/>
                </a:lnTo>
                <a:lnTo>
                  <a:pt x="1275" y="666"/>
                </a:lnTo>
                <a:lnTo>
                  <a:pt x="1269" y="684"/>
                </a:lnTo>
                <a:lnTo>
                  <a:pt x="1263" y="699"/>
                </a:lnTo>
                <a:lnTo>
                  <a:pt x="1258" y="712"/>
                </a:lnTo>
                <a:lnTo>
                  <a:pt x="1252" y="728"/>
                </a:lnTo>
                <a:lnTo>
                  <a:pt x="1246" y="741"/>
                </a:lnTo>
                <a:lnTo>
                  <a:pt x="1242" y="753"/>
                </a:lnTo>
                <a:lnTo>
                  <a:pt x="1237" y="766"/>
                </a:lnTo>
                <a:lnTo>
                  <a:pt x="1233" y="778"/>
                </a:lnTo>
                <a:lnTo>
                  <a:pt x="1227" y="787"/>
                </a:lnTo>
                <a:lnTo>
                  <a:pt x="1223" y="799"/>
                </a:lnTo>
                <a:lnTo>
                  <a:pt x="1219" y="808"/>
                </a:lnTo>
                <a:lnTo>
                  <a:pt x="1213" y="816"/>
                </a:lnTo>
                <a:lnTo>
                  <a:pt x="1210" y="826"/>
                </a:lnTo>
                <a:lnTo>
                  <a:pt x="1206" y="833"/>
                </a:lnTo>
                <a:lnTo>
                  <a:pt x="1202" y="841"/>
                </a:lnTo>
                <a:lnTo>
                  <a:pt x="1198" y="847"/>
                </a:lnTo>
                <a:lnTo>
                  <a:pt x="1196" y="852"/>
                </a:lnTo>
                <a:lnTo>
                  <a:pt x="1192" y="858"/>
                </a:lnTo>
                <a:lnTo>
                  <a:pt x="1190" y="862"/>
                </a:lnTo>
                <a:lnTo>
                  <a:pt x="1187" y="868"/>
                </a:lnTo>
                <a:lnTo>
                  <a:pt x="1185" y="870"/>
                </a:lnTo>
                <a:lnTo>
                  <a:pt x="1181" y="874"/>
                </a:lnTo>
                <a:lnTo>
                  <a:pt x="1179" y="875"/>
                </a:lnTo>
                <a:lnTo>
                  <a:pt x="1177" y="877"/>
                </a:lnTo>
                <a:lnTo>
                  <a:pt x="1175" y="879"/>
                </a:lnTo>
                <a:lnTo>
                  <a:pt x="1173" y="879"/>
                </a:lnTo>
                <a:lnTo>
                  <a:pt x="1171" y="879"/>
                </a:lnTo>
                <a:lnTo>
                  <a:pt x="1171" y="877"/>
                </a:lnTo>
                <a:lnTo>
                  <a:pt x="1164" y="877"/>
                </a:lnTo>
                <a:lnTo>
                  <a:pt x="1158" y="875"/>
                </a:lnTo>
                <a:lnTo>
                  <a:pt x="1148" y="874"/>
                </a:lnTo>
                <a:lnTo>
                  <a:pt x="1139" y="870"/>
                </a:lnTo>
                <a:lnTo>
                  <a:pt x="1129" y="864"/>
                </a:lnTo>
                <a:lnTo>
                  <a:pt x="1119" y="858"/>
                </a:lnTo>
                <a:lnTo>
                  <a:pt x="1110" y="851"/>
                </a:lnTo>
                <a:lnTo>
                  <a:pt x="1098" y="843"/>
                </a:lnTo>
                <a:lnTo>
                  <a:pt x="1094" y="841"/>
                </a:lnTo>
                <a:lnTo>
                  <a:pt x="1091" y="839"/>
                </a:lnTo>
                <a:lnTo>
                  <a:pt x="1087" y="837"/>
                </a:lnTo>
                <a:lnTo>
                  <a:pt x="1085" y="833"/>
                </a:lnTo>
                <a:lnTo>
                  <a:pt x="1083" y="831"/>
                </a:lnTo>
                <a:lnTo>
                  <a:pt x="1079" y="826"/>
                </a:lnTo>
                <a:lnTo>
                  <a:pt x="1079" y="822"/>
                </a:lnTo>
                <a:lnTo>
                  <a:pt x="1077" y="816"/>
                </a:lnTo>
                <a:lnTo>
                  <a:pt x="1075" y="810"/>
                </a:lnTo>
                <a:lnTo>
                  <a:pt x="1075" y="804"/>
                </a:lnTo>
                <a:lnTo>
                  <a:pt x="1073" y="797"/>
                </a:lnTo>
                <a:lnTo>
                  <a:pt x="1073" y="791"/>
                </a:lnTo>
                <a:lnTo>
                  <a:pt x="1073" y="781"/>
                </a:lnTo>
                <a:lnTo>
                  <a:pt x="1075" y="774"/>
                </a:lnTo>
                <a:lnTo>
                  <a:pt x="1075" y="764"/>
                </a:lnTo>
                <a:lnTo>
                  <a:pt x="1077" y="755"/>
                </a:lnTo>
                <a:lnTo>
                  <a:pt x="1079" y="745"/>
                </a:lnTo>
                <a:lnTo>
                  <a:pt x="1081" y="733"/>
                </a:lnTo>
                <a:lnTo>
                  <a:pt x="1083" y="724"/>
                </a:lnTo>
                <a:lnTo>
                  <a:pt x="1085" y="712"/>
                </a:lnTo>
                <a:lnTo>
                  <a:pt x="1089" y="699"/>
                </a:lnTo>
                <a:lnTo>
                  <a:pt x="1091" y="685"/>
                </a:lnTo>
                <a:lnTo>
                  <a:pt x="1094" y="672"/>
                </a:lnTo>
                <a:lnTo>
                  <a:pt x="1098" y="659"/>
                </a:lnTo>
                <a:lnTo>
                  <a:pt x="1102" y="645"/>
                </a:lnTo>
                <a:lnTo>
                  <a:pt x="1108" y="630"/>
                </a:lnTo>
                <a:lnTo>
                  <a:pt x="1112" y="614"/>
                </a:lnTo>
                <a:lnTo>
                  <a:pt x="1118" y="597"/>
                </a:lnTo>
                <a:lnTo>
                  <a:pt x="1123" y="580"/>
                </a:lnTo>
                <a:lnTo>
                  <a:pt x="1129" y="563"/>
                </a:lnTo>
                <a:lnTo>
                  <a:pt x="1135" y="545"/>
                </a:lnTo>
                <a:lnTo>
                  <a:pt x="1142" y="528"/>
                </a:lnTo>
                <a:lnTo>
                  <a:pt x="1146" y="509"/>
                </a:lnTo>
                <a:lnTo>
                  <a:pt x="1152" y="492"/>
                </a:lnTo>
                <a:lnTo>
                  <a:pt x="1156" y="474"/>
                </a:lnTo>
                <a:lnTo>
                  <a:pt x="1162" y="457"/>
                </a:lnTo>
                <a:lnTo>
                  <a:pt x="1165" y="440"/>
                </a:lnTo>
                <a:lnTo>
                  <a:pt x="1169" y="424"/>
                </a:lnTo>
                <a:lnTo>
                  <a:pt x="1173" y="409"/>
                </a:lnTo>
                <a:lnTo>
                  <a:pt x="1177" y="396"/>
                </a:lnTo>
                <a:lnTo>
                  <a:pt x="1179" y="380"/>
                </a:lnTo>
                <a:lnTo>
                  <a:pt x="1183" y="367"/>
                </a:lnTo>
                <a:lnTo>
                  <a:pt x="1187" y="355"/>
                </a:lnTo>
                <a:lnTo>
                  <a:pt x="1189" y="342"/>
                </a:lnTo>
                <a:lnTo>
                  <a:pt x="1190" y="330"/>
                </a:lnTo>
                <a:lnTo>
                  <a:pt x="1192" y="319"/>
                </a:lnTo>
                <a:lnTo>
                  <a:pt x="1194" y="307"/>
                </a:lnTo>
                <a:lnTo>
                  <a:pt x="1196" y="298"/>
                </a:lnTo>
                <a:lnTo>
                  <a:pt x="1198" y="288"/>
                </a:lnTo>
                <a:lnTo>
                  <a:pt x="1200" y="278"/>
                </a:lnTo>
                <a:lnTo>
                  <a:pt x="1202" y="269"/>
                </a:lnTo>
                <a:lnTo>
                  <a:pt x="1202" y="261"/>
                </a:lnTo>
                <a:lnTo>
                  <a:pt x="1204" y="254"/>
                </a:lnTo>
                <a:lnTo>
                  <a:pt x="1204" y="246"/>
                </a:lnTo>
                <a:lnTo>
                  <a:pt x="1204" y="238"/>
                </a:lnTo>
                <a:lnTo>
                  <a:pt x="1204" y="232"/>
                </a:lnTo>
                <a:lnTo>
                  <a:pt x="1204" y="227"/>
                </a:lnTo>
                <a:lnTo>
                  <a:pt x="1204" y="221"/>
                </a:lnTo>
                <a:lnTo>
                  <a:pt x="1204" y="217"/>
                </a:lnTo>
                <a:lnTo>
                  <a:pt x="1204" y="211"/>
                </a:lnTo>
                <a:lnTo>
                  <a:pt x="1202" y="207"/>
                </a:lnTo>
                <a:lnTo>
                  <a:pt x="1202" y="206"/>
                </a:lnTo>
                <a:lnTo>
                  <a:pt x="1200" y="202"/>
                </a:lnTo>
                <a:lnTo>
                  <a:pt x="1200" y="200"/>
                </a:lnTo>
                <a:lnTo>
                  <a:pt x="1189" y="190"/>
                </a:lnTo>
                <a:lnTo>
                  <a:pt x="1177" y="184"/>
                </a:lnTo>
                <a:lnTo>
                  <a:pt x="1165" y="177"/>
                </a:lnTo>
                <a:lnTo>
                  <a:pt x="1154" y="171"/>
                </a:lnTo>
                <a:lnTo>
                  <a:pt x="1142" y="167"/>
                </a:lnTo>
                <a:lnTo>
                  <a:pt x="1129" y="161"/>
                </a:lnTo>
                <a:lnTo>
                  <a:pt x="1114" y="158"/>
                </a:lnTo>
                <a:lnTo>
                  <a:pt x="1098" y="154"/>
                </a:lnTo>
                <a:lnTo>
                  <a:pt x="1093" y="152"/>
                </a:lnTo>
                <a:lnTo>
                  <a:pt x="1087" y="152"/>
                </a:lnTo>
                <a:lnTo>
                  <a:pt x="1077" y="152"/>
                </a:lnTo>
                <a:lnTo>
                  <a:pt x="1068" y="152"/>
                </a:lnTo>
                <a:lnTo>
                  <a:pt x="1054" y="152"/>
                </a:lnTo>
                <a:lnTo>
                  <a:pt x="1041" y="152"/>
                </a:lnTo>
                <a:lnTo>
                  <a:pt x="1023" y="154"/>
                </a:lnTo>
                <a:lnTo>
                  <a:pt x="1006" y="154"/>
                </a:lnTo>
                <a:lnTo>
                  <a:pt x="985" y="156"/>
                </a:lnTo>
                <a:lnTo>
                  <a:pt x="964" y="158"/>
                </a:lnTo>
                <a:lnTo>
                  <a:pt x="941" y="161"/>
                </a:lnTo>
                <a:lnTo>
                  <a:pt x="914" y="163"/>
                </a:lnTo>
                <a:lnTo>
                  <a:pt x="887" y="167"/>
                </a:lnTo>
                <a:lnTo>
                  <a:pt x="858" y="171"/>
                </a:lnTo>
                <a:lnTo>
                  <a:pt x="826" y="175"/>
                </a:lnTo>
                <a:lnTo>
                  <a:pt x="793" y="179"/>
                </a:lnTo>
                <a:lnTo>
                  <a:pt x="759" y="182"/>
                </a:lnTo>
                <a:lnTo>
                  <a:pt x="720" y="188"/>
                </a:lnTo>
                <a:lnTo>
                  <a:pt x="682" y="192"/>
                </a:lnTo>
                <a:lnTo>
                  <a:pt x="642" y="198"/>
                </a:lnTo>
                <a:lnTo>
                  <a:pt x="597" y="204"/>
                </a:lnTo>
                <a:lnTo>
                  <a:pt x="553" y="211"/>
                </a:lnTo>
                <a:lnTo>
                  <a:pt x="530" y="213"/>
                </a:lnTo>
                <a:lnTo>
                  <a:pt x="507" y="217"/>
                </a:lnTo>
                <a:lnTo>
                  <a:pt x="482" y="221"/>
                </a:lnTo>
                <a:lnTo>
                  <a:pt x="457" y="225"/>
                </a:lnTo>
                <a:lnTo>
                  <a:pt x="432" y="229"/>
                </a:lnTo>
                <a:lnTo>
                  <a:pt x="407" y="232"/>
                </a:lnTo>
                <a:lnTo>
                  <a:pt x="382" y="236"/>
                </a:lnTo>
                <a:lnTo>
                  <a:pt x="356" y="240"/>
                </a:lnTo>
                <a:lnTo>
                  <a:pt x="329" y="244"/>
                </a:lnTo>
                <a:lnTo>
                  <a:pt x="302" y="248"/>
                </a:lnTo>
                <a:lnTo>
                  <a:pt x="273" y="252"/>
                </a:lnTo>
                <a:lnTo>
                  <a:pt x="244" y="255"/>
                </a:lnTo>
                <a:lnTo>
                  <a:pt x="215" y="259"/>
                </a:lnTo>
                <a:lnTo>
                  <a:pt x="187" y="265"/>
                </a:lnTo>
                <a:lnTo>
                  <a:pt x="156" y="269"/>
                </a:lnTo>
                <a:lnTo>
                  <a:pt x="127" y="273"/>
                </a:lnTo>
                <a:lnTo>
                  <a:pt x="96" y="278"/>
                </a:lnTo>
                <a:lnTo>
                  <a:pt x="64" y="282"/>
                </a:lnTo>
                <a:lnTo>
                  <a:pt x="33" y="288"/>
                </a:lnTo>
                <a:lnTo>
                  <a:pt x="0" y="294"/>
                </a:lnTo>
                <a:lnTo>
                  <a:pt x="0" y="188"/>
                </a:lnTo>
                <a:lnTo>
                  <a:pt x="4" y="188"/>
                </a:lnTo>
                <a:lnTo>
                  <a:pt x="10" y="188"/>
                </a:lnTo>
                <a:lnTo>
                  <a:pt x="16" y="186"/>
                </a:lnTo>
                <a:lnTo>
                  <a:pt x="23" y="186"/>
                </a:lnTo>
                <a:lnTo>
                  <a:pt x="31" y="186"/>
                </a:lnTo>
                <a:lnTo>
                  <a:pt x="41" y="186"/>
                </a:lnTo>
                <a:lnTo>
                  <a:pt x="50" y="184"/>
                </a:lnTo>
                <a:lnTo>
                  <a:pt x="60" y="184"/>
                </a:lnTo>
                <a:lnTo>
                  <a:pt x="71" y="182"/>
                </a:lnTo>
                <a:lnTo>
                  <a:pt x="83" y="181"/>
                </a:lnTo>
                <a:lnTo>
                  <a:pt x="96" y="181"/>
                </a:lnTo>
                <a:lnTo>
                  <a:pt x="110" y="179"/>
                </a:lnTo>
                <a:lnTo>
                  <a:pt x="125" y="177"/>
                </a:lnTo>
                <a:lnTo>
                  <a:pt x="141" y="175"/>
                </a:lnTo>
                <a:lnTo>
                  <a:pt x="156" y="173"/>
                </a:lnTo>
                <a:lnTo>
                  <a:pt x="173" y="171"/>
                </a:lnTo>
                <a:lnTo>
                  <a:pt x="192" y="169"/>
                </a:lnTo>
                <a:lnTo>
                  <a:pt x="212" y="165"/>
                </a:lnTo>
                <a:lnTo>
                  <a:pt x="231" y="163"/>
                </a:lnTo>
                <a:lnTo>
                  <a:pt x="252" y="161"/>
                </a:lnTo>
                <a:lnTo>
                  <a:pt x="273" y="158"/>
                </a:lnTo>
                <a:lnTo>
                  <a:pt x="294" y="156"/>
                </a:lnTo>
                <a:lnTo>
                  <a:pt x="317" y="152"/>
                </a:lnTo>
                <a:lnTo>
                  <a:pt x="342" y="148"/>
                </a:lnTo>
                <a:lnTo>
                  <a:pt x="367" y="146"/>
                </a:lnTo>
                <a:lnTo>
                  <a:pt x="392" y="142"/>
                </a:lnTo>
                <a:lnTo>
                  <a:pt x="419" y="138"/>
                </a:lnTo>
                <a:lnTo>
                  <a:pt x="446" y="135"/>
                </a:lnTo>
                <a:lnTo>
                  <a:pt x="475" y="131"/>
                </a:lnTo>
                <a:lnTo>
                  <a:pt x="503" y="127"/>
                </a:lnTo>
                <a:lnTo>
                  <a:pt x="534" y="123"/>
                </a:lnTo>
                <a:lnTo>
                  <a:pt x="565" y="117"/>
                </a:lnTo>
                <a:lnTo>
                  <a:pt x="594" y="115"/>
                </a:lnTo>
                <a:lnTo>
                  <a:pt x="624" y="111"/>
                </a:lnTo>
                <a:lnTo>
                  <a:pt x="653" y="108"/>
                </a:lnTo>
                <a:lnTo>
                  <a:pt x="682" y="104"/>
                </a:lnTo>
                <a:lnTo>
                  <a:pt x="709" y="102"/>
                </a:lnTo>
                <a:lnTo>
                  <a:pt x="734" y="98"/>
                </a:lnTo>
                <a:lnTo>
                  <a:pt x="759" y="94"/>
                </a:lnTo>
                <a:lnTo>
                  <a:pt x="784" y="90"/>
                </a:lnTo>
                <a:lnTo>
                  <a:pt x="807" y="88"/>
                </a:lnTo>
                <a:lnTo>
                  <a:pt x="830" y="85"/>
                </a:lnTo>
                <a:lnTo>
                  <a:pt x="851" y="81"/>
                </a:lnTo>
                <a:lnTo>
                  <a:pt x="872" y="79"/>
                </a:lnTo>
                <a:lnTo>
                  <a:pt x="891" y="75"/>
                </a:lnTo>
                <a:lnTo>
                  <a:pt x="910" y="73"/>
                </a:lnTo>
                <a:lnTo>
                  <a:pt x="929" y="69"/>
                </a:lnTo>
                <a:lnTo>
                  <a:pt x="947" y="65"/>
                </a:lnTo>
                <a:lnTo>
                  <a:pt x="964" y="63"/>
                </a:lnTo>
                <a:lnTo>
                  <a:pt x="979" y="60"/>
                </a:lnTo>
                <a:lnTo>
                  <a:pt x="993" y="58"/>
                </a:lnTo>
                <a:lnTo>
                  <a:pt x="1008" y="54"/>
                </a:lnTo>
                <a:lnTo>
                  <a:pt x="1022" y="52"/>
                </a:lnTo>
                <a:lnTo>
                  <a:pt x="1033" y="48"/>
                </a:lnTo>
                <a:lnTo>
                  <a:pt x="1045" y="46"/>
                </a:lnTo>
                <a:lnTo>
                  <a:pt x="1056" y="44"/>
                </a:lnTo>
                <a:lnTo>
                  <a:pt x="1066" y="40"/>
                </a:lnTo>
                <a:lnTo>
                  <a:pt x="1075" y="39"/>
                </a:lnTo>
                <a:lnTo>
                  <a:pt x="1083" y="37"/>
                </a:lnTo>
                <a:lnTo>
                  <a:pt x="1091" y="33"/>
                </a:lnTo>
                <a:lnTo>
                  <a:pt x="1096" y="31"/>
                </a:lnTo>
                <a:lnTo>
                  <a:pt x="1104" y="29"/>
                </a:lnTo>
                <a:lnTo>
                  <a:pt x="1108" y="27"/>
                </a:lnTo>
                <a:lnTo>
                  <a:pt x="1114" y="25"/>
                </a:lnTo>
                <a:lnTo>
                  <a:pt x="1135" y="15"/>
                </a:lnTo>
                <a:lnTo>
                  <a:pt x="1144" y="12"/>
                </a:lnTo>
                <a:lnTo>
                  <a:pt x="1156" y="8"/>
                </a:lnTo>
                <a:lnTo>
                  <a:pt x="1167" y="4"/>
                </a:lnTo>
                <a:lnTo>
                  <a:pt x="1177" y="2"/>
                </a:lnTo>
                <a:lnTo>
                  <a:pt x="1189" y="2"/>
                </a:lnTo>
                <a:lnTo>
                  <a:pt x="1200" y="0"/>
                </a:lnTo>
                <a:lnTo>
                  <a:pt x="1206" y="4"/>
                </a:lnTo>
                <a:lnTo>
                  <a:pt x="1212" y="6"/>
                </a:lnTo>
                <a:lnTo>
                  <a:pt x="1219" y="8"/>
                </a:lnTo>
                <a:lnTo>
                  <a:pt x="1227" y="12"/>
                </a:lnTo>
                <a:lnTo>
                  <a:pt x="1235" y="15"/>
                </a:lnTo>
                <a:lnTo>
                  <a:pt x="1244" y="19"/>
                </a:lnTo>
                <a:lnTo>
                  <a:pt x="1256" y="23"/>
                </a:lnTo>
                <a:lnTo>
                  <a:pt x="1265" y="29"/>
                </a:lnTo>
                <a:lnTo>
                  <a:pt x="1279" y="33"/>
                </a:lnTo>
                <a:lnTo>
                  <a:pt x="1290" y="39"/>
                </a:lnTo>
                <a:lnTo>
                  <a:pt x="1306" y="44"/>
                </a:lnTo>
                <a:lnTo>
                  <a:pt x="1319" y="52"/>
                </a:lnTo>
                <a:lnTo>
                  <a:pt x="1334" y="58"/>
                </a:lnTo>
                <a:lnTo>
                  <a:pt x="1352" y="65"/>
                </a:lnTo>
                <a:lnTo>
                  <a:pt x="1369" y="73"/>
                </a:lnTo>
                <a:lnTo>
                  <a:pt x="1388" y="83"/>
                </a:lnTo>
                <a:lnTo>
                  <a:pt x="1405" y="94"/>
                </a:lnTo>
                <a:lnTo>
                  <a:pt x="1423" y="104"/>
                </a:lnTo>
                <a:lnTo>
                  <a:pt x="1438" y="113"/>
                </a:lnTo>
                <a:lnTo>
                  <a:pt x="1451" y="123"/>
                </a:lnTo>
                <a:lnTo>
                  <a:pt x="1465" y="131"/>
                </a:lnTo>
                <a:lnTo>
                  <a:pt x="1476" y="140"/>
                </a:lnTo>
                <a:lnTo>
                  <a:pt x="1488" y="148"/>
                </a:lnTo>
                <a:lnTo>
                  <a:pt x="1498" y="154"/>
                </a:lnTo>
                <a:lnTo>
                  <a:pt x="1505" y="161"/>
                </a:lnTo>
                <a:lnTo>
                  <a:pt x="1513" y="167"/>
                </a:lnTo>
                <a:lnTo>
                  <a:pt x="1519" y="175"/>
                </a:lnTo>
                <a:lnTo>
                  <a:pt x="1522" y="181"/>
                </a:lnTo>
                <a:lnTo>
                  <a:pt x="1526" y="184"/>
                </a:lnTo>
                <a:lnTo>
                  <a:pt x="1530" y="190"/>
                </a:lnTo>
                <a:lnTo>
                  <a:pt x="1530" y="194"/>
                </a:lnTo>
                <a:lnTo>
                  <a:pt x="1532" y="200"/>
                </a:lnTo>
                <a:lnTo>
                  <a:pt x="1530" y="207"/>
                </a:lnTo>
                <a:lnTo>
                  <a:pt x="1528" y="217"/>
                </a:lnTo>
                <a:lnTo>
                  <a:pt x="1524" y="225"/>
                </a:lnTo>
                <a:lnTo>
                  <a:pt x="1522" y="229"/>
                </a:lnTo>
                <a:lnTo>
                  <a:pt x="1519" y="232"/>
                </a:lnTo>
                <a:lnTo>
                  <a:pt x="1515" y="236"/>
                </a:lnTo>
                <a:lnTo>
                  <a:pt x="1511" y="240"/>
                </a:lnTo>
                <a:lnTo>
                  <a:pt x="1507" y="244"/>
                </a:lnTo>
                <a:lnTo>
                  <a:pt x="1501" y="248"/>
                </a:lnTo>
                <a:lnTo>
                  <a:pt x="1496" y="250"/>
                </a:lnTo>
                <a:lnTo>
                  <a:pt x="1488" y="254"/>
                </a:lnTo>
                <a:lnTo>
                  <a:pt x="1482" y="255"/>
                </a:lnTo>
                <a:lnTo>
                  <a:pt x="1475" y="257"/>
                </a:lnTo>
                <a:lnTo>
                  <a:pt x="1469" y="261"/>
                </a:lnTo>
                <a:lnTo>
                  <a:pt x="1465" y="263"/>
                </a:lnTo>
                <a:lnTo>
                  <a:pt x="1461" y="267"/>
                </a:lnTo>
                <a:lnTo>
                  <a:pt x="1457" y="271"/>
                </a:lnTo>
                <a:lnTo>
                  <a:pt x="1451" y="277"/>
                </a:lnTo>
                <a:lnTo>
                  <a:pt x="1448" y="280"/>
                </a:lnTo>
                <a:lnTo>
                  <a:pt x="1444" y="286"/>
                </a:lnTo>
                <a:lnTo>
                  <a:pt x="1438" y="294"/>
                </a:lnTo>
                <a:lnTo>
                  <a:pt x="1434" y="300"/>
                </a:lnTo>
                <a:lnTo>
                  <a:pt x="1428" y="307"/>
                </a:lnTo>
                <a:lnTo>
                  <a:pt x="1423" y="315"/>
                </a:lnTo>
                <a:lnTo>
                  <a:pt x="1419" y="323"/>
                </a:lnTo>
                <a:lnTo>
                  <a:pt x="1413" y="332"/>
                </a:lnTo>
                <a:lnTo>
                  <a:pt x="1407" y="342"/>
                </a:lnTo>
                <a:lnTo>
                  <a:pt x="1403" y="351"/>
                </a:lnTo>
                <a:lnTo>
                  <a:pt x="1398" y="361"/>
                </a:lnTo>
                <a:lnTo>
                  <a:pt x="1392" y="373"/>
                </a:lnTo>
                <a:lnTo>
                  <a:pt x="1386" y="384"/>
                </a:lnTo>
                <a:lnTo>
                  <a:pt x="1380" y="396"/>
                </a:lnTo>
                <a:lnTo>
                  <a:pt x="1375" y="409"/>
                </a:lnTo>
                <a:lnTo>
                  <a:pt x="1369" y="422"/>
                </a:lnTo>
                <a:lnTo>
                  <a:pt x="1363" y="436"/>
                </a:lnTo>
                <a:lnTo>
                  <a:pt x="1357" y="449"/>
                </a:lnTo>
                <a:lnTo>
                  <a:pt x="1352" y="463"/>
                </a:lnTo>
                <a:lnTo>
                  <a:pt x="1346" y="478"/>
                </a:lnTo>
                <a:lnTo>
                  <a:pt x="1338" y="493"/>
                </a:lnTo>
                <a:lnTo>
                  <a:pt x="1332" y="511"/>
                </a:lnTo>
                <a:lnTo>
                  <a:pt x="1327" y="526"/>
                </a:lnTo>
                <a:lnTo>
                  <a:pt x="1321" y="543"/>
                </a:lnTo>
                <a:lnTo>
                  <a:pt x="1313" y="561"/>
                </a:lnTo>
                <a:lnTo>
                  <a:pt x="1308" y="578"/>
                </a:lnTo>
                <a:lnTo>
                  <a:pt x="1300" y="5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46"/>
          <p:cNvSpPr/>
          <p:nvPr/>
        </p:nvSpPr>
        <p:spPr>
          <a:xfrm>
            <a:off x="6180120" y="3870360"/>
            <a:ext cx="803160" cy="158760"/>
          </a:xfrm>
          <a:custGeom>
            <a:avLst/>
            <a:gdLst/>
            <a:ahLst/>
            <a:rect l="l" t="t" r="r" b="b"/>
            <a:pathLst>
              <a:path w="1011" h="199">
                <a:moveTo>
                  <a:pt x="0" y="199"/>
                </a:moveTo>
                <a:lnTo>
                  <a:pt x="0" y="146"/>
                </a:lnTo>
                <a:lnTo>
                  <a:pt x="0" y="94"/>
                </a:lnTo>
                <a:lnTo>
                  <a:pt x="44" y="88"/>
                </a:lnTo>
                <a:lnTo>
                  <a:pt x="88" y="82"/>
                </a:lnTo>
                <a:lnTo>
                  <a:pt x="130" y="77"/>
                </a:lnTo>
                <a:lnTo>
                  <a:pt x="172" y="73"/>
                </a:lnTo>
                <a:lnTo>
                  <a:pt x="213" y="67"/>
                </a:lnTo>
                <a:lnTo>
                  <a:pt x="253" y="63"/>
                </a:lnTo>
                <a:lnTo>
                  <a:pt x="291" y="59"/>
                </a:lnTo>
                <a:lnTo>
                  <a:pt x="330" y="55"/>
                </a:lnTo>
                <a:lnTo>
                  <a:pt x="368" y="52"/>
                </a:lnTo>
                <a:lnTo>
                  <a:pt x="405" y="48"/>
                </a:lnTo>
                <a:lnTo>
                  <a:pt x="441" y="44"/>
                </a:lnTo>
                <a:lnTo>
                  <a:pt x="476" y="40"/>
                </a:lnTo>
                <a:lnTo>
                  <a:pt x="510" y="36"/>
                </a:lnTo>
                <a:lnTo>
                  <a:pt x="543" y="34"/>
                </a:lnTo>
                <a:lnTo>
                  <a:pt x="577" y="30"/>
                </a:lnTo>
                <a:lnTo>
                  <a:pt x="608" y="29"/>
                </a:lnTo>
                <a:lnTo>
                  <a:pt x="639" y="27"/>
                </a:lnTo>
                <a:lnTo>
                  <a:pt x="669" y="23"/>
                </a:lnTo>
                <a:lnTo>
                  <a:pt x="698" y="21"/>
                </a:lnTo>
                <a:lnTo>
                  <a:pt x="727" y="19"/>
                </a:lnTo>
                <a:lnTo>
                  <a:pt x="756" y="17"/>
                </a:lnTo>
                <a:lnTo>
                  <a:pt x="783" y="15"/>
                </a:lnTo>
                <a:lnTo>
                  <a:pt x="810" y="13"/>
                </a:lnTo>
                <a:lnTo>
                  <a:pt x="835" y="11"/>
                </a:lnTo>
                <a:lnTo>
                  <a:pt x="859" y="9"/>
                </a:lnTo>
                <a:lnTo>
                  <a:pt x="884" y="7"/>
                </a:lnTo>
                <a:lnTo>
                  <a:pt x="907" y="5"/>
                </a:lnTo>
                <a:lnTo>
                  <a:pt x="929" y="5"/>
                </a:lnTo>
                <a:lnTo>
                  <a:pt x="952" y="4"/>
                </a:lnTo>
                <a:lnTo>
                  <a:pt x="971" y="2"/>
                </a:lnTo>
                <a:lnTo>
                  <a:pt x="992" y="2"/>
                </a:lnTo>
                <a:lnTo>
                  <a:pt x="1011" y="0"/>
                </a:lnTo>
                <a:lnTo>
                  <a:pt x="1011" y="117"/>
                </a:lnTo>
                <a:lnTo>
                  <a:pt x="986" y="117"/>
                </a:lnTo>
                <a:lnTo>
                  <a:pt x="961" y="119"/>
                </a:lnTo>
                <a:lnTo>
                  <a:pt x="936" y="121"/>
                </a:lnTo>
                <a:lnTo>
                  <a:pt x="913" y="121"/>
                </a:lnTo>
                <a:lnTo>
                  <a:pt x="890" y="123"/>
                </a:lnTo>
                <a:lnTo>
                  <a:pt x="867" y="123"/>
                </a:lnTo>
                <a:lnTo>
                  <a:pt x="846" y="125"/>
                </a:lnTo>
                <a:lnTo>
                  <a:pt x="825" y="125"/>
                </a:lnTo>
                <a:lnTo>
                  <a:pt x="804" y="126"/>
                </a:lnTo>
                <a:lnTo>
                  <a:pt x="785" y="126"/>
                </a:lnTo>
                <a:lnTo>
                  <a:pt x="764" y="128"/>
                </a:lnTo>
                <a:lnTo>
                  <a:pt x="746" y="128"/>
                </a:lnTo>
                <a:lnTo>
                  <a:pt x="727" y="130"/>
                </a:lnTo>
                <a:lnTo>
                  <a:pt x="710" y="130"/>
                </a:lnTo>
                <a:lnTo>
                  <a:pt x="692" y="132"/>
                </a:lnTo>
                <a:lnTo>
                  <a:pt x="677" y="132"/>
                </a:lnTo>
                <a:lnTo>
                  <a:pt x="662" y="134"/>
                </a:lnTo>
                <a:lnTo>
                  <a:pt x="646" y="134"/>
                </a:lnTo>
                <a:lnTo>
                  <a:pt x="633" y="134"/>
                </a:lnTo>
                <a:lnTo>
                  <a:pt x="618" y="136"/>
                </a:lnTo>
                <a:lnTo>
                  <a:pt x="606" y="136"/>
                </a:lnTo>
                <a:lnTo>
                  <a:pt x="593" y="136"/>
                </a:lnTo>
                <a:lnTo>
                  <a:pt x="581" y="138"/>
                </a:lnTo>
                <a:lnTo>
                  <a:pt x="570" y="138"/>
                </a:lnTo>
                <a:lnTo>
                  <a:pt x="560" y="138"/>
                </a:lnTo>
                <a:lnTo>
                  <a:pt x="550" y="138"/>
                </a:lnTo>
                <a:lnTo>
                  <a:pt x="541" y="140"/>
                </a:lnTo>
                <a:lnTo>
                  <a:pt x="533" y="140"/>
                </a:lnTo>
                <a:lnTo>
                  <a:pt x="526" y="140"/>
                </a:lnTo>
                <a:lnTo>
                  <a:pt x="518" y="140"/>
                </a:lnTo>
                <a:lnTo>
                  <a:pt x="512" y="140"/>
                </a:lnTo>
                <a:lnTo>
                  <a:pt x="506" y="140"/>
                </a:lnTo>
                <a:lnTo>
                  <a:pt x="499" y="142"/>
                </a:lnTo>
                <a:lnTo>
                  <a:pt x="491" y="142"/>
                </a:lnTo>
                <a:lnTo>
                  <a:pt x="483" y="144"/>
                </a:lnTo>
                <a:lnTo>
                  <a:pt x="474" y="144"/>
                </a:lnTo>
                <a:lnTo>
                  <a:pt x="466" y="146"/>
                </a:lnTo>
                <a:lnTo>
                  <a:pt x="456" y="148"/>
                </a:lnTo>
                <a:lnTo>
                  <a:pt x="445" y="148"/>
                </a:lnTo>
                <a:lnTo>
                  <a:pt x="435" y="149"/>
                </a:lnTo>
                <a:lnTo>
                  <a:pt x="424" y="149"/>
                </a:lnTo>
                <a:lnTo>
                  <a:pt x="412" y="151"/>
                </a:lnTo>
                <a:lnTo>
                  <a:pt x="399" y="153"/>
                </a:lnTo>
                <a:lnTo>
                  <a:pt x="385" y="153"/>
                </a:lnTo>
                <a:lnTo>
                  <a:pt x="372" y="155"/>
                </a:lnTo>
                <a:lnTo>
                  <a:pt x="359" y="157"/>
                </a:lnTo>
                <a:lnTo>
                  <a:pt x="343" y="159"/>
                </a:lnTo>
                <a:lnTo>
                  <a:pt x="328" y="161"/>
                </a:lnTo>
                <a:lnTo>
                  <a:pt x="312" y="161"/>
                </a:lnTo>
                <a:lnTo>
                  <a:pt x="295" y="163"/>
                </a:lnTo>
                <a:lnTo>
                  <a:pt x="280" y="165"/>
                </a:lnTo>
                <a:lnTo>
                  <a:pt x="261" y="167"/>
                </a:lnTo>
                <a:lnTo>
                  <a:pt x="243" y="169"/>
                </a:lnTo>
                <a:lnTo>
                  <a:pt x="224" y="171"/>
                </a:lnTo>
                <a:lnTo>
                  <a:pt x="205" y="174"/>
                </a:lnTo>
                <a:lnTo>
                  <a:pt x="184" y="176"/>
                </a:lnTo>
                <a:lnTo>
                  <a:pt x="163" y="178"/>
                </a:lnTo>
                <a:lnTo>
                  <a:pt x="142" y="180"/>
                </a:lnTo>
                <a:lnTo>
                  <a:pt x="121" y="184"/>
                </a:lnTo>
                <a:lnTo>
                  <a:pt x="97" y="186"/>
                </a:lnTo>
                <a:lnTo>
                  <a:pt x="74" y="190"/>
                </a:lnTo>
                <a:lnTo>
                  <a:pt x="50" y="192"/>
                </a:lnTo>
                <a:lnTo>
                  <a:pt x="25" y="196"/>
                </a:lnTo>
                <a:lnTo>
                  <a:pt x="0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47"/>
          <p:cNvSpPr/>
          <p:nvPr/>
        </p:nvSpPr>
        <p:spPr>
          <a:xfrm>
            <a:off x="6307200" y="3638520"/>
            <a:ext cx="549360" cy="115920"/>
          </a:xfrm>
          <a:custGeom>
            <a:avLst/>
            <a:gdLst/>
            <a:ahLst/>
            <a:rect l="l" t="t" r="r" b="b"/>
            <a:pathLst>
              <a:path w="693" h="146">
                <a:moveTo>
                  <a:pt x="0" y="92"/>
                </a:moveTo>
                <a:lnTo>
                  <a:pt x="0" y="90"/>
                </a:lnTo>
                <a:lnTo>
                  <a:pt x="4" y="88"/>
                </a:lnTo>
                <a:lnTo>
                  <a:pt x="8" y="84"/>
                </a:lnTo>
                <a:lnTo>
                  <a:pt x="13" y="82"/>
                </a:lnTo>
                <a:lnTo>
                  <a:pt x="21" y="79"/>
                </a:lnTo>
                <a:lnTo>
                  <a:pt x="31" y="75"/>
                </a:lnTo>
                <a:lnTo>
                  <a:pt x="42" y="71"/>
                </a:lnTo>
                <a:lnTo>
                  <a:pt x="54" y="67"/>
                </a:lnTo>
                <a:lnTo>
                  <a:pt x="69" y="63"/>
                </a:lnTo>
                <a:lnTo>
                  <a:pt x="84" y="59"/>
                </a:lnTo>
                <a:lnTo>
                  <a:pt x="102" y="56"/>
                </a:lnTo>
                <a:lnTo>
                  <a:pt x="121" y="52"/>
                </a:lnTo>
                <a:lnTo>
                  <a:pt x="142" y="48"/>
                </a:lnTo>
                <a:lnTo>
                  <a:pt x="165" y="42"/>
                </a:lnTo>
                <a:lnTo>
                  <a:pt x="190" y="38"/>
                </a:lnTo>
                <a:lnTo>
                  <a:pt x="217" y="34"/>
                </a:lnTo>
                <a:lnTo>
                  <a:pt x="265" y="29"/>
                </a:lnTo>
                <a:lnTo>
                  <a:pt x="311" y="25"/>
                </a:lnTo>
                <a:lnTo>
                  <a:pt x="357" y="21"/>
                </a:lnTo>
                <a:lnTo>
                  <a:pt x="401" y="17"/>
                </a:lnTo>
                <a:lnTo>
                  <a:pt x="443" y="11"/>
                </a:lnTo>
                <a:lnTo>
                  <a:pt x="486" y="8"/>
                </a:lnTo>
                <a:lnTo>
                  <a:pt x="524" y="4"/>
                </a:lnTo>
                <a:lnTo>
                  <a:pt x="564" y="0"/>
                </a:lnTo>
                <a:lnTo>
                  <a:pt x="580" y="0"/>
                </a:lnTo>
                <a:lnTo>
                  <a:pt x="593" y="0"/>
                </a:lnTo>
                <a:lnTo>
                  <a:pt x="606" y="0"/>
                </a:lnTo>
                <a:lnTo>
                  <a:pt x="620" y="2"/>
                </a:lnTo>
                <a:lnTo>
                  <a:pt x="631" y="4"/>
                </a:lnTo>
                <a:lnTo>
                  <a:pt x="643" y="4"/>
                </a:lnTo>
                <a:lnTo>
                  <a:pt x="652" y="8"/>
                </a:lnTo>
                <a:lnTo>
                  <a:pt x="660" y="10"/>
                </a:lnTo>
                <a:lnTo>
                  <a:pt x="668" y="11"/>
                </a:lnTo>
                <a:lnTo>
                  <a:pt x="676" y="15"/>
                </a:lnTo>
                <a:lnTo>
                  <a:pt x="681" y="19"/>
                </a:lnTo>
                <a:lnTo>
                  <a:pt x="685" y="23"/>
                </a:lnTo>
                <a:lnTo>
                  <a:pt x="689" y="29"/>
                </a:lnTo>
                <a:lnTo>
                  <a:pt x="691" y="34"/>
                </a:lnTo>
                <a:lnTo>
                  <a:pt x="693" y="40"/>
                </a:lnTo>
                <a:lnTo>
                  <a:pt x="693" y="46"/>
                </a:lnTo>
                <a:lnTo>
                  <a:pt x="693" y="50"/>
                </a:lnTo>
                <a:lnTo>
                  <a:pt x="693" y="52"/>
                </a:lnTo>
                <a:lnTo>
                  <a:pt x="691" y="56"/>
                </a:lnTo>
                <a:lnTo>
                  <a:pt x="689" y="59"/>
                </a:lnTo>
                <a:lnTo>
                  <a:pt x="685" y="61"/>
                </a:lnTo>
                <a:lnTo>
                  <a:pt x="683" y="65"/>
                </a:lnTo>
                <a:lnTo>
                  <a:pt x="679" y="67"/>
                </a:lnTo>
                <a:lnTo>
                  <a:pt x="674" y="71"/>
                </a:lnTo>
                <a:lnTo>
                  <a:pt x="670" y="73"/>
                </a:lnTo>
                <a:lnTo>
                  <a:pt x="664" y="75"/>
                </a:lnTo>
                <a:lnTo>
                  <a:pt x="658" y="79"/>
                </a:lnTo>
                <a:lnTo>
                  <a:pt x="651" y="81"/>
                </a:lnTo>
                <a:lnTo>
                  <a:pt x="643" y="84"/>
                </a:lnTo>
                <a:lnTo>
                  <a:pt x="635" y="86"/>
                </a:lnTo>
                <a:lnTo>
                  <a:pt x="626" y="88"/>
                </a:lnTo>
                <a:lnTo>
                  <a:pt x="618" y="92"/>
                </a:lnTo>
                <a:lnTo>
                  <a:pt x="608" y="94"/>
                </a:lnTo>
                <a:lnTo>
                  <a:pt x="597" y="96"/>
                </a:lnTo>
                <a:lnTo>
                  <a:pt x="585" y="98"/>
                </a:lnTo>
                <a:lnTo>
                  <a:pt x="574" y="102"/>
                </a:lnTo>
                <a:lnTo>
                  <a:pt x="562" y="104"/>
                </a:lnTo>
                <a:lnTo>
                  <a:pt x="549" y="106"/>
                </a:lnTo>
                <a:lnTo>
                  <a:pt x="537" y="107"/>
                </a:lnTo>
                <a:lnTo>
                  <a:pt x="522" y="109"/>
                </a:lnTo>
                <a:lnTo>
                  <a:pt x="509" y="111"/>
                </a:lnTo>
                <a:lnTo>
                  <a:pt x="493" y="115"/>
                </a:lnTo>
                <a:lnTo>
                  <a:pt x="478" y="117"/>
                </a:lnTo>
                <a:lnTo>
                  <a:pt x="461" y="119"/>
                </a:lnTo>
                <a:lnTo>
                  <a:pt x="443" y="121"/>
                </a:lnTo>
                <a:lnTo>
                  <a:pt x="426" y="123"/>
                </a:lnTo>
                <a:lnTo>
                  <a:pt x="409" y="125"/>
                </a:lnTo>
                <a:lnTo>
                  <a:pt x="390" y="129"/>
                </a:lnTo>
                <a:lnTo>
                  <a:pt x="370" y="130"/>
                </a:lnTo>
                <a:lnTo>
                  <a:pt x="349" y="132"/>
                </a:lnTo>
                <a:lnTo>
                  <a:pt x="332" y="134"/>
                </a:lnTo>
                <a:lnTo>
                  <a:pt x="313" y="136"/>
                </a:lnTo>
                <a:lnTo>
                  <a:pt x="295" y="136"/>
                </a:lnTo>
                <a:lnTo>
                  <a:pt x="278" y="138"/>
                </a:lnTo>
                <a:lnTo>
                  <a:pt x="263" y="140"/>
                </a:lnTo>
                <a:lnTo>
                  <a:pt x="246" y="142"/>
                </a:lnTo>
                <a:lnTo>
                  <a:pt x="230" y="142"/>
                </a:lnTo>
                <a:lnTo>
                  <a:pt x="217" y="144"/>
                </a:lnTo>
                <a:lnTo>
                  <a:pt x="201" y="144"/>
                </a:lnTo>
                <a:lnTo>
                  <a:pt x="188" y="144"/>
                </a:lnTo>
                <a:lnTo>
                  <a:pt x="176" y="144"/>
                </a:lnTo>
                <a:lnTo>
                  <a:pt x="163" y="146"/>
                </a:lnTo>
                <a:lnTo>
                  <a:pt x="152" y="146"/>
                </a:lnTo>
                <a:lnTo>
                  <a:pt x="140" y="146"/>
                </a:lnTo>
                <a:lnTo>
                  <a:pt x="130" y="146"/>
                </a:lnTo>
                <a:lnTo>
                  <a:pt x="121" y="146"/>
                </a:lnTo>
                <a:lnTo>
                  <a:pt x="111" y="144"/>
                </a:lnTo>
                <a:lnTo>
                  <a:pt x="102" y="144"/>
                </a:lnTo>
                <a:lnTo>
                  <a:pt x="94" y="144"/>
                </a:lnTo>
                <a:lnTo>
                  <a:pt x="86" y="142"/>
                </a:lnTo>
                <a:lnTo>
                  <a:pt x="79" y="142"/>
                </a:lnTo>
                <a:lnTo>
                  <a:pt x="73" y="140"/>
                </a:lnTo>
                <a:lnTo>
                  <a:pt x="67" y="140"/>
                </a:lnTo>
                <a:lnTo>
                  <a:pt x="61" y="138"/>
                </a:lnTo>
                <a:lnTo>
                  <a:pt x="57" y="136"/>
                </a:lnTo>
                <a:lnTo>
                  <a:pt x="54" y="136"/>
                </a:lnTo>
                <a:lnTo>
                  <a:pt x="50" y="134"/>
                </a:lnTo>
                <a:lnTo>
                  <a:pt x="48" y="132"/>
                </a:lnTo>
                <a:lnTo>
                  <a:pt x="44" y="130"/>
                </a:lnTo>
                <a:lnTo>
                  <a:pt x="44" y="129"/>
                </a:lnTo>
                <a:lnTo>
                  <a:pt x="33" y="123"/>
                </a:lnTo>
                <a:lnTo>
                  <a:pt x="25" y="119"/>
                </a:lnTo>
                <a:lnTo>
                  <a:pt x="17" y="115"/>
                </a:lnTo>
                <a:lnTo>
                  <a:pt x="11" y="109"/>
                </a:lnTo>
                <a:lnTo>
                  <a:pt x="6" y="106"/>
                </a:lnTo>
                <a:lnTo>
                  <a:pt x="2" y="102"/>
                </a:lnTo>
                <a:lnTo>
                  <a:pt x="0" y="98"/>
                </a:lnTo>
                <a:lnTo>
                  <a:pt x="0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48"/>
          <p:cNvSpPr/>
          <p:nvPr/>
        </p:nvSpPr>
        <p:spPr>
          <a:xfrm>
            <a:off x="5981760" y="3430440"/>
            <a:ext cx="222120" cy="631800"/>
          </a:xfrm>
          <a:custGeom>
            <a:avLst/>
            <a:gdLst/>
            <a:ahLst/>
            <a:rect l="l" t="t" r="r" b="b"/>
            <a:pathLst>
              <a:path w="280" h="797">
                <a:moveTo>
                  <a:pt x="64" y="251"/>
                </a:moveTo>
                <a:lnTo>
                  <a:pt x="60" y="225"/>
                </a:lnTo>
                <a:lnTo>
                  <a:pt x="54" y="200"/>
                </a:lnTo>
                <a:lnTo>
                  <a:pt x="48" y="177"/>
                </a:lnTo>
                <a:lnTo>
                  <a:pt x="42" y="155"/>
                </a:lnTo>
                <a:lnTo>
                  <a:pt x="37" y="136"/>
                </a:lnTo>
                <a:lnTo>
                  <a:pt x="31" y="117"/>
                </a:lnTo>
                <a:lnTo>
                  <a:pt x="29" y="109"/>
                </a:lnTo>
                <a:lnTo>
                  <a:pt x="27" y="102"/>
                </a:lnTo>
                <a:lnTo>
                  <a:pt x="23" y="94"/>
                </a:lnTo>
                <a:lnTo>
                  <a:pt x="21" y="86"/>
                </a:lnTo>
                <a:lnTo>
                  <a:pt x="16" y="81"/>
                </a:lnTo>
                <a:lnTo>
                  <a:pt x="12" y="73"/>
                </a:lnTo>
                <a:lnTo>
                  <a:pt x="8" y="67"/>
                </a:lnTo>
                <a:lnTo>
                  <a:pt x="4" y="61"/>
                </a:lnTo>
                <a:lnTo>
                  <a:pt x="2" y="54"/>
                </a:lnTo>
                <a:lnTo>
                  <a:pt x="0" y="48"/>
                </a:lnTo>
                <a:lnTo>
                  <a:pt x="0" y="42"/>
                </a:lnTo>
                <a:lnTo>
                  <a:pt x="0" y="36"/>
                </a:lnTo>
                <a:lnTo>
                  <a:pt x="0" y="33"/>
                </a:lnTo>
                <a:lnTo>
                  <a:pt x="0" y="27"/>
                </a:lnTo>
                <a:lnTo>
                  <a:pt x="2" y="21"/>
                </a:lnTo>
                <a:lnTo>
                  <a:pt x="4" y="17"/>
                </a:lnTo>
                <a:lnTo>
                  <a:pt x="8" y="13"/>
                </a:lnTo>
                <a:lnTo>
                  <a:pt x="12" y="10"/>
                </a:lnTo>
                <a:lnTo>
                  <a:pt x="16" y="8"/>
                </a:lnTo>
                <a:lnTo>
                  <a:pt x="21" y="6"/>
                </a:lnTo>
                <a:lnTo>
                  <a:pt x="25" y="2"/>
                </a:lnTo>
                <a:lnTo>
                  <a:pt x="29" y="2"/>
                </a:lnTo>
                <a:lnTo>
                  <a:pt x="37" y="0"/>
                </a:lnTo>
                <a:lnTo>
                  <a:pt x="44" y="0"/>
                </a:lnTo>
                <a:lnTo>
                  <a:pt x="54" y="0"/>
                </a:lnTo>
                <a:lnTo>
                  <a:pt x="65" y="2"/>
                </a:lnTo>
                <a:lnTo>
                  <a:pt x="79" y="2"/>
                </a:lnTo>
                <a:lnTo>
                  <a:pt x="92" y="4"/>
                </a:lnTo>
                <a:lnTo>
                  <a:pt x="110" y="8"/>
                </a:lnTo>
                <a:lnTo>
                  <a:pt x="125" y="10"/>
                </a:lnTo>
                <a:lnTo>
                  <a:pt x="144" y="13"/>
                </a:lnTo>
                <a:lnTo>
                  <a:pt x="163" y="17"/>
                </a:lnTo>
                <a:lnTo>
                  <a:pt x="184" y="23"/>
                </a:lnTo>
                <a:lnTo>
                  <a:pt x="206" y="27"/>
                </a:lnTo>
                <a:lnTo>
                  <a:pt x="229" y="33"/>
                </a:lnTo>
                <a:lnTo>
                  <a:pt x="252" y="40"/>
                </a:lnTo>
                <a:lnTo>
                  <a:pt x="254" y="82"/>
                </a:lnTo>
                <a:lnTo>
                  <a:pt x="254" y="123"/>
                </a:lnTo>
                <a:lnTo>
                  <a:pt x="255" y="163"/>
                </a:lnTo>
                <a:lnTo>
                  <a:pt x="257" y="200"/>
                </a:lnTo>
                <a:lnTo>
                  <a:pt x="259" y="238"/>
                </a:lnTo>
                <a:lnTo>
                  <a:pt x="259" y="273"/>
                </a:lnTo>
                <a:lnTo>
                  <a:pt x="261" y="307"/>
                </a:lnTo>
                <a:lnTo>
                  <a:pt x="263" y="340"/>
                </a:lnTo>
                <a:lnTo>
                  <a:pt x="263" y="372"/>
                </a:lnTo>
                <a:lnTo>
                  <a:pt x="265" y="403"/>
                </a:lnTo>
                <a:lnTo>
                  <a:pt x="267" y="432"/>
                </a:lnTo>
                <a:lnTo>
                  <a:pt x="267" y="459"/>
                </a:lnTo>
                <a:lnTo>
                  <a:pt x="269" y="486"/>
                </a:lnTo>
                <a:lnTo>
                  <a:pt x="269" y="511"/>
                </a:lnTo>
                <a:lnTo>
                  <a:pt x="271" y="536"/>
                </a:lnTo>
                <a:lnTo>
                  <a:pt x="271" y="557"/>
                </a:lnTo>
                <a:lnTo>
                  <a:pt x="273" y="580"/>
                </a:lnTo>
                <a:lnTo>
                  <a:pt x="273" y="599"/>
                </a:lnTo>
                <a:lnTo>
                  <a:pt x="275" y="618"/>
                </a:lnTo>
                <a:lnTo>
                  <a:pt x="275" y="635"/>
                </a:lnTo>
                <a:lnTo>
                  <a:pt x="277" y="651"/>
                </a:lnTo>
                <a:lnTo>
                  <a:pt x="277" y="666"/>
                </a:lnTo>
                <a:lnTo>
                  <a:pt x="278" y="680"/>
                </a:lnTo>
                <a:lnTo>
                  <a:pt x="278" y="691"/>
                </a:lnTo>
                <a:lnTo>
                  <a:pt x="278" y="703"/>
                </a:lnTo>
                <a:lnTo>
                  <a:pt x="280" y="712"/>
                </a:lnTo>
                <a:lnTo>
                  <a:pt x="280" y="720"/>
                </a:lnTo>
                <a:lnTo>
                  <a:pt x="280" y="727"/>
                </a:lnTo>
                <a:lnTo>
                  <a:pt x="280" y="733"/>
                </a:lnTo>
                <a:lnTo>
                  <a:pt x="280" y="737"/>
                </a:lnTo>
                <a:lnTo>
                  <a:pt x="280" y="741"/>
                </a:lnTo>
                <a:lnTo>
                  <a:pt x="280" y="743"/>
                </a:lnTo>
                <a:lnTo>
                  <a:pt x="280" y="751"/>
                </a:lnTo>
                <a:lnTo>
                  <a:pt x="280" y="756"/>
                </a:lnTo>
                <a:lnTo>
                  <a:pt x="280" y="764"/>
                </a:lnTo>
                <a:lnTo>
                  <a:pt x="278" y="770"/>
                </a:lnTo>
                <a:lnTo>
                  <a:pt x="277" y="775"/>
                </a:lnTo>
                <a:lnTo>
                  <a:pt x="275" y="779"/>
                </a:lnTo>
                <a:lnTo>
                  <a:pt x="271" y="783"/>
                </a:lnTo>
                <a:lnTo>
                  <a:pt x="267" y="789"/>
                </a:lnTo>
                <a:lnTo>
                  <a:pt x="261" y="793"/>
                </a:lnTo>
                <a:lnTo>
                  <a:pt x="254" y="795"/>
                </a:lnTo>
                <a:lnTo>
                  <a:pt x="250" y="795"/>
                </a:lnTo>
                <a:lnTo>
                  <a:pt x="244" y="797"/>
                </a:lnTo>
                <a:lnTo>
                  <a:pt x="240" y="795"/>
                </a:lnTo>
                <a:lnTo>
                  <a:pt x="236" y="795"/>
                </a:lnTo>
                <a:lnTo>
                  <a:pt x="230" y="793"/>
                </a:lnTo>
                <a:lnTo>
                  <a:pt x="227" y="791"/>
                </a:lnTo>
                <a:lnTo>
                  <a:pt x="221" y="789"/>
                </a:lnTo>
                <a:lnTo>
                  <a:pt x="215" y="785"/>
                </a:lnTo>
                <a:lnTo>
                  <a:pt x="209" y="781"/>
                </a:lnTo>
                <a:lnTo>
                  <a:pt x="206" y="777"/>
                </a:lnTo>
                <a:lnTo>
                  <a:pt x="200" y="772"/>
                </a:lnTo>
                <a:lnTo>
                  <a:pt x="194" y="766"/>
                </a:lnTo>
                <a:lnTo>
                  <a:pt x="188" y="758"/>
                </a:lnTo>
                <a:lnTo>
                  <a:pt x="183" y="751"/>
                </a:lnTo>
                <a:lnTo>
                  <a:pt x="179" y="741"/>
                </a:lnTo>
                <a:lnTo>
                  <a:pt x="173" y="731"/>
                </a:lnTo>
                <a:lnTo>
                  <a:pt x="167" y="722"/>
                </a:lnTo>
                <a:lnTo>
                  <a:pt x="163" y="710"/>
                </a:lnTo>
                <a:lnTo>
                  <a:pt x="158" y="697"/>
                </a:lnTo>
                <a:lnTo>
                  <a:pt x="152" y="683"/>
                </a:lnTo>
                <a:lnTo>
                  <a:pt x="148" y="668"/>
                </a:lnTo>
                <a:lnTo>
                  <a:pt x="144" y="653"/>
                </a:lnTo>
                <a:lnTo>
                  <a:pt x="138" y="635"/>
                </a:lnTo>
                <a:lnTo>
                  <a:pt x="135" y="616"/>
                </a:lnTo>
                <a:lnTo>
                  <a:pt x="131" y="597"/>
                </a:lnTo>
                <a:lnTo>
                  <a:pt x="129" y="576"/>
                </a:lnTo>
                <a:lnTo>
                  <a:pt x="125" y="555"/>
                </a:lnTo>
                <a:lnTo>
                  <a:pt x="123" y="532"/>
                </a:lnTo>
                <a:lnTo>
                  <a:pt x="119" y="509"/>
                </a:lnTo>
                <a:lnTo>
                  <a:pt x="115" y="488"/>
                </a:lnTo>
                <a:lnTo>
                  <a:pt x="113" y="468"/>
                </a:lnTo>
                <a:lnTo>
                  <a:pt x="110" y="447"/>
                </a:lnTo>
                <a:lnTo>
                  <a:pt x="106" y="428"/>
                </a:lnTo>
                <a:lnTo>
                  <a:pt x="102" y="409"/>
                </a:lnTo>
                <a:lnTo>
                  <a:pt x="98" y="392"/>
                </a:lnTo>
                <a:lnTo>
                  <a:pt x="92" y="372"/>
                </a:lnTo>
                <a:lnTo>
                  <a:pt x="88" y="355"/>
                </a:lnTo>
                <a:lnTo>
                  <a:pt x="85" y="340"/>
                </a:lnTo>
                <a:lnTo>
                  <a:pt x="81" y="322"/>
                </a:lnTo>
                <a:lnTo>
                  <a:pt x="77" y="307"/>
                </a:lnTo>
                <a:lnTo>
                  <a:pt x="73" y="292"/>
                </a:lnTo>
                <a:lnTo>
                  <a:pt x="69" y="278"/>
                </a:lnTo>
                <a:lnTo>
                  <a:pt x="67" y="265"/>
                </a:lnTo>
                <a:lnTo>
                  <a:pt x="64" y="2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49"/>
          <p:cNvSpPr/>
          <p:nvPr/>
        </p:nvSpPr>
        <p:spPr>
          <a:xfrm>
            <a:off x="5780160" y="2955960"/>
            <a:ext cx="2017800" cy="377640"/>
          </a:xfrm>
          <a:custGeom>
            <a:avLst/>
            <a:gdLst/>
            <a:ahLst/>
            <a:rect l="l" t="t" r="r" b="b"/>
            <a:pathLst>
              <a:path w="2541" h="476">
                <a:moveTo>
                  <a:pt x="2138" y="403"/>
                </a:moveTo>
                <a:lnTo>
                  <a:pt x="2117" y="413"/>
                </a:lnTo>
                <a:lnTo>
                  <a:pt x="2096" y="422"/>
                </a:lnTo>
                <a:lnTo>
                  <a:pt x="2078" y="432"/>
                </a:lnTo>
                <a:lnTo>
                  <a:pt x="2061" y="440"/>
                </a:lnTo>
                <a:lnTo>
                  <a:pt x="2046" y="447"/>
                </a:lnTo>
                <a:lnTo>
                  <a:pt x="2030" y="455"/>
                </a:lnTo>
                <a:lnTo>
                  <a:pt x="2017" y="461"/>
                </a:lnTo>
                <a:lnTo>
                  <a:pt x="2006" y="464"/>
                </a:lnTo>
                <a:lnTo>
                  <a:pt x="1994" y="468"/>
                </a:lnTo>
                <a:lnTo>
                  <a:pt x="1984" y="472"/>
                </a:lnTo>
                <a:lnTo>
                  <a:pt x="1977" y="474"/>
                </a:lnTo>
                <a:lnTo>
                  <a:pt x="1969" y="476"/>
                </a:lnTo>
                <a:lnTo>
                  <a:pt x="1961" y="476"/>
                </a:lnTo>
                <a:lnTo>
                  <a:pt x="1958" y="476"/>
                </a:lnTo>
                <a:lnTo>
                  <a:pt x="1952" y="474"/>
                </a:lnTo>
                <a:lnTo>
                  <a:pt x="1950" y="474"/>
                </a:lnTo>
                <a:lnTo>
                  <a:pt x="1948" y="470"/>
                </a:lnTo>
                <a:lnTo>
                  <a:pt x="1946" y="466"/>
                </a:lnTo>
                <a:lnTo>
                  <a:pt x="1944" y="463"/>
                </a:lnTo>
                <a:lnTo>
                  <a:pt x="1944" y="457"/>
                </a:lnTo>
                <a:lnTo>
                  <a:pt x="1946" y="451"/>
                </a:lnTo>
                <a:lnTo>
                  <a:pt x="1948" y="445"/>
                </a:lnTo>
                <a:lnTo>
                  <a:pt x="1950" y="438"/>
                </a:lnTo>
                <a:lnTo>
                  <a:pt x="1954" y="430"/>
                </a:lnTo>
                <a:lnTo>
                  <a:pt x="1958" y="420"/>
                </a:lnTo>
                <a:lnTo>
                  <a:pt x="1963" y="411"/>
                </a:lnTo>
                <a:lnTo>
                  <a:pt x="1971" y="399"/>
                </a:lnTo>
                <a:lnTo>
                  <a:pt x="1979" y="388"/>
                </a:lnTo>
                <a:lnTo>
                  <a:pt x="1986" y="374"/>
                </a:lnTo>
                <a:lnTo>
                  <a:pt x="1998" y="363"/>
                </a:lnTo>
                <a:lnTo>
                  <a:pt x="2009" y="347"/>
                </a:lnTo>
                <a:lnTo>
                  <a:pt x="2021" y="332"/>
                </a:lnTo>
                <a:lnTo>
                  <a:pt x="2034" y="317"/>
                </a:lnTo>
                <a:lnTo>
                  <a:pt x="2046" y="303"/>
                </a:lnTo>
                <a:lnTo>
                  <a:pt x="2055" y="290"/>
                </a:lnTo>
                <a:lnTo>
                  <a:pt x="2065" y="278"/>
                </a:lnTo>
                <a:lnTo>
                  <a:pt x="2073" y="265"/>
                </a:lnTo>
                <a:lnTo>
                  <a:pt x="2078" y="255"/>
                </a:lnTo>
                <a:lnTo>
                  <a:pt x="2084" y="244"/>
                </a:lnTo>
                <a:lnTo>
                  <a:pt x="2088" y="234"/>
                </a:lnTo>
                <a:lnTo>
                  <a:pt x="2090" y="226"/>
                </a:lnTo>
                <a:lnTo>
                  <a:pt x="2092" y="217"/>
                </a:lnTo>
                <a:lnTo>
                  <a:pt x="2094" y="209"/>
                </a:lnTo>
                <a:lnTo>
                  <a:pt x="2092" y="203"/>
                </a:lnTo>
                <a:lnTo>
                  <a:pt x="2090" y="196"/>
                </a:lnTo>
                <a:lnTo>
                  <a:pt x="2088" y="190"/>
                </a:lnTo>
                <a:lnTo>
                  <a:pt x="2084" y="184"/>
                </a:lnTo>
                <a:lnTo>
                  <a:pt x="2080" y="180"/>
                </a:lnTo>
                <a:lnTo>
                  <a:pt x="2057" y="173"/>
                </a:lnTo>
                <a:lnTo>
                  <a:pt x="2046" y="169"/>
                </a:lnTo>
                <a:lnTo>
                  <a:pt x="2034" y="165"/>
                </a:lnTo>
                <a:lnTo>
                  <a:pt x="2021" y="161"/>
                </a:lnTo>
                <a:lnTo>
                  <a:pt x="2007" y="159"/>
                </a:lnTo>
                <a:lnTo>
                  <a:pt x="1994" y="157"/>
                </a:lnTo>
                <a:lnTo>
                  <a:pt x="1979" y="157"/>
                </a:lnTo>
                <a:lnTo>
                  <a:pt x="1961" y="157"/>
                </a:lnTo>
                <a:lnTo>
                  <a:pt x="1952" y="157"/>
                </a:lnTo>
                <a:lnTo>
                  <a:pt x="1942" y="157"/>
                </a:lnTo>
                <a:lnTo>
                  <a:pt x="1933" y="157"/>
                </a:lnTo>
                <a:lnTo>
                  <a:pt x="1921" y="157"/>
                </a:lnTo>
                <a:lnTo>
                  <a:pt x="1911" y="157"/>
                </a:lnTo>
                <a:lnTo>
                  <a:pt x="1898" y="159"/>
                </a:lnTo>
                <a:lnTo>
                  <a:pt x="1887" y="159"/>
                </a:lnTo>
                <a:lnTo>
                  <a:pt x="1873" y="159"/>
                </a:lnTo>
                <a:lnTo>
                  <a:pt x="1860" y="161"/>
                </a:lnTo>
                <a:lnTo>
                  <a:pt x="1844" y="161"/>
                </a:lnTo>
                <a:lnTo>
                  <a:pt x="1829" y="163"/>
                </a:lnTo>
                <a:lnTo>
                  <a:pt x="1812" y="165"/>
                </a:lnTo>
                <a:lnTo>
                  <a:pt x="1794" y="167"/>
                </a:lnTo>
                <a:lnTo>
                  <a:pt x="1777" y="169"/>
                </a:lnTo>
                <a:lnTo>
                  <a:pt x="1766" y="171"/>
                </a:lnTo>
                <a:lnTo>
                  <a:pt x="1754" y="171"/>
                </a:lnTo>
                <a:lnTo>
                  <a:pt x="1743" y="173"/>
                </a:lnTo>
                <a:lnTo>
                  <a:pt x="1729" y="175"/>
                </a:lnTo>
                <a:lnTo>
                  <a:pt x="1716" y="177"/>
                </a:lnTo>
                <a:lnTo>
                  <a:pt x="1700" y="178"/>
                </a:lnTo>
                <a:lnTo>
                  <a:pt x="1683" y="180"/>
                </a:lnTo>
                <a:lnTo>
                  <a:pt x="1666" y="182"/>
                </a:lnTo>
                <a:lnTo>
                  <a:pt x="1647" y="184"/>
                </a:lnTo>
                <a:lnTo>
                  <a:pt x="1626" y="186"/>
                </a:lnTo>
                <a:lnTo>
                  <a:pt x="1604" y="188"/>
                </a:lnTo>
                <a:lnTo>
                  <a:pt x="1583" y="192"/>
                </a:lnTo>
                <a:lnTo>
                  <a:pt x="1560" y="194"/>
                </a:lnTo>
                <a:lnTo>
                  <a:pt x="1535" y="196"/>
                </a:lnTo>
                <a:lnTo>
                  <a:pt x="1510" y="200"/>
                </a:lnTo>
                <a:lnTo>
                  <a:pt x="1483" y="201"/>
                </a:lnTo>
                <a:lnTo>
                  <a:pt x="1457" y="205"/>
                </a:lnTo>
                <a:lnTo>
                  <a:pt x="1428" y="209"/>
                </a:lnTo>
                <a:lnTo>
                  <a:pt x="1397" y="211"/>
                </a:lnTo>
                <a:lnTo>
                  <a:pt x="1366" y="215"/>
                </a:lnTo>
                <a:lnTo>
                  <a:pt x="1334" y="219"/>
                </a:lnTo>
                <a:lnTo>
                  <a:pt x="1301" y="223"/>
                </a:lnTo>
                <a:lnTo>
                  <a:pt x="1267" y="226"/>
                </a:lnTo>
                <a:lnTo>
                  <a:pt x="1232" y="228"/>
                </a:lnTo>
                <a:lnTo>
                  <a:pt x="1196" y="232"/>
                </a:lnTo>
                <a:lnTo>
                  <a:pt x="1157" y="238"/>
                </a:lnTo>
                <a:lnTo>
                  <a:pt x="1119" y="242"/>
                </a:lnTo>
                <a:lnTo>
                  <a:pt x="1078" y="246"/>
                </a:lnTo>
                <a:lnTo>
                  <a:pt x="1038" y="249"/>
                </a:lnTo>
                <a:lnTo>
                  <a:pt x="996" y="253"/>
                </a:lnTo>
                <a:lnTo>
                  <a:pt x="954" y="257"/>
                </a:lnTo>
                <a:lnTo>
                  <a:pt x="910" y="263"/>
                </a:lnTo>
                <a:lnTo>
                  <a:pt x="865" y="269"/>
                </a:lnTo>
                <a:lnTo>
                  <a:pt x="821" y="273"/>
                </a:lnTo>
                <a:lnTo>
                  <a:pt x="779" y="278"/>
                </a:lnTo>
                <a:lnTo>
                  <a:pt x="739" y="284"/>
                </a:lnTo>
                <a:lnTo>
                  <a:pt x="698" y="288"/>
                </a:lnTo>
                <a:lnTo>
                  <a:pt x="660" y="292"/>
                </a:lnTo>
                <a:lnTo>
                  <a:pt x="622" y="296"/>
                </a:lnTo>
                <a:lnTo>
                  <a:pt x="585" y="301"/>
                </a:lnTo>
                <a:lnTo>
                  <a:pt x="549" y="305"/>
                </a:lnTo>
                <a:lnTo>
                  <a:pt x="512" y="307"/>
                </a:lnTo>
                <a:lnTo>
                  <a:pt x="480" y="311"/>
                </a:lnTo>
                <a:lnTo>
                  <a:pt x="447" y="315"/>
                </a:lnTo>
                <a:lnTo>
                  <a:pt x="414" y="319"/>
                </a:lnTo>
                <a:lnTo>
                  <a:pt x="384" y="321"/>
                </a:lnTo>
                <a:lnTo>
                  <a:pt x="353" y="322"/>
                </a:lnTo>
                <a:lnTo>
                  <a:pt x="324" y="326"/>
                </a:lnTo>
                <a:lnTo>
                  <a:pt x="297" y="328"/>
                </a:lnTo>
                <a:lnTo>
                  <a:pt x="270" y="330"/>
                </a:lnTo>
                <a:lnTo>
                  <a:pt x="244" y="332"/>
                </a:lnTo>
                <a:lnTo>
                  <a:pt x="219" y="334"/>
                </a:lnTo>
                <a:lnTo>
                  <a:pt x="196" y="336"/>
                </a:lnTo>
                <a:lnTo>
                  <a:pt x="173" y="338"/>
                </a:lnTo>
                <a:lnTo>
                  <a:pt x="150" y="340"/>
                </a:lnTo>
                <a:lnTo>
                  <a:pt x="130" y="340"/>
                </a:lnTo>
                <a:lnTo>
                  <a:pt x="109" y="342"/>
                </a:lnTo>
                <a:lnTo>
                  <a:pt x="90" y="342"/>
                </a:lnTo>
                <a:lnTo>
                  <a:pt x="73" y="344"/>
                </a:lnTo>
                <a:lnTo>
                  <a:pt x="55" y="344"/>
                </a:lnTo>
                <a:lnTo>
                  <a:pt x="40" y="344"/>
                </a:lnTo>
                <a:lnTo>
                  <a:pt x="27" y="344"/>
                </a:lnTo>
                <a:lnTo>
                  <a:pt x="11" y="344"/>
                </a:lnTo>
                <a:lnTo>
                  <a:pt x="0" y="345"/>
                </a:lnTo>
                <a:lnTo>
                  <a:pt x="0" y="292"/>
                </a:lnTo>
                <a:lnTo>
                  <a:pt x="0" y="240"/>
                </a:lnTo>
                <a:lnTo>
                  <a:pt x="13" y="238"/>
                </a:lnTo>
                <a:lnTo>
                  <a:pt x="29" y="238"/>
                </a:lnTo>
                <a:lnTo>
                  <a:pt x="42" y="238"/>
                </a:lnTo>
                <a:lnTo>
                  <a:pt x="59" y="236"/>
                </a:lnTo>
                <a:lnTo>
                  <a:pt x="75" y="236"/>
                </a:lnTo>
                <a:lnTo>
                  <a:pt x="92" y="234"/>
                </a:lnTo>
                <a:lnTo>
                  <a:pt x="111" y="234"/>
                </a:lnTo>
                <a:lnTo>
                  <a:pt x="128" y="232"/>
                </a:lnTo>
                <a:lnTo>
                  <a:pt x="148" y="230"/>
                </a:lnTo>
                <a:lnTo>
                  <a:pt x="169" y="228"/>
                </a:lnTo>
                <a:lnTo>
                  <a:pt x="190" y="226"/>
                </a:lnTo>
                <a:lnTo>
                  <a:pt x="211" y="225"/>
                </a:lnTo>
                <a:lnTo>
                  <a:pt x="232" y="223"/>
                </a:lnTo>
                <a:lnTo>
                  <a:pt x="255" y="221"/>
                </a:lnTo>
                <a:lnTo>
                  <a:pt x="278" y="217"/>
                </a:lnTo>
                <a:lnTo>
                  <a:pt x="303" y="215"/>
                </a:lnTo>
                <a:lnTo>
                  <a:pt x="315" y="215"/>
                </a:lnTo>
                <a:lnTo>
                  <a:pt x="326" y="213"/>
                </a:lnTo>
                <a:lnTo>
                  <a:pt x="340" y="211"/>
                </a:lnTo>
                <a:lnTo>
                  <a:pt x="353" y="211"/>
                </a:lnTo>
                <a:lnTo>
                  <a:pt x="366" y="209"/>
                </a:lnTo>
                <a:lnTo>
                  <a:pt x="382" y="207"/>
                </a:lnTo>
                <a:lnTo>
                  <a:pt x="397" y="205"/>
                </a:lnTo>
                <a:lnTo>
                  <a:pt x="414" y="205"/>
                </a:lnTo>
                <a:lnTo>
                  <a:pt x="432" y="203"/>
                </a:lnTo>
                <a:lnTo>
                  <a:pt x="449" y="201"/>
                </a:lnTo>
                <a:lnTo>
                  <a:pt x="468" y="200"/>
                </a:lnTo>
                <a:lnTo>
                  <a:pt x="487" y="198"/>
                </a:lnTo>
                <a:lnTo>
                  <a:pt x="508" y="196"/>
                </a:lnTo>
                <a:lnTo>
                  <a:pt x="530" y="192"/>
                </a:lnTo>
                <a:lnTo>
                  <a:pt x="551" y="190"/>
                </a:lnTo>
                <a:lnTo>
                  <a:pt x="574" y="188"/>
                </a:lnTo>
                <a:lnTo>
                  <a:pt x="597" y="186"/>
                </a:lnTo>
                <a:lnTo>
                  <a:pt x="622" y="182"/>
                </a:lnTo>
                <a:lnTo>
                  <a:pt x="647" y="180"/>
                </a:lnTo>
                <a:lnTo>
                  <a:pt x="672" y="178"/>
                </a:lnTo>
                <a:lnTo>
                  <a:pt x="698" y="175"/>
                </a:lnTo>
                <a:lnTo>
                  <a:pt x="725" y="171"/>
                </a:lnTo>
                <a:lnTo>
                  <a:pt x="754" y="169"/>
                </a:lnTo>
                <a:lnTo>
                  <a:pt x="783" y="165"/>
                </a:lnTo>
                <a:lnTo>
                  <a:pt x="812" y="161"/>
                </a:lnTo>
                <a:lnTo>
                  <a:pt x="842" y="157"/>
                </a:lnTo>
                <a:lnTo>
                  <a:pt x="873" y="153"/>
                </a:lnTo>
                <a:lnTo>
                  <a:pt x="904" y="150"/>
                </a:lnTo>
                <a:lnTo>
                  <a:pt x="936" y="146"/>
                </a:lnTo>
                <a:lnTo>
                  <a:pt x="971" y="142"/>
                </a:lnTo>
                <a:lnTo>
                  <a:pt x="1004" y="138"/>
                </a:lnTo>
                <a:lnTo>
                  <a:pt x="1040" y="134"/>
                </a:lnTo>
                <a:lnTo>
                  <a:pt x="1073" y="130"/>
                </a:lnTo>
                <a:lnTo>
                  <a:pt x="1105" y="127"/>
                </a:lnTo>
                <a:lnTo>
                  <a:pt x="1138" y="125"/>
                </a:lnTo>
                <a:lnTo>
                  <a:pt x="1169" y="121"/>
                </a:lnTo>
                <a:lnTo>
                  <a:pt x="1199" y="117"/>
                </a:lnTo>
                <a:lnTo>
                  <a:pt x="1230" y="113"/>
                </a:lnTo>
                <a:lnTo>
                  <a:pt x="1259" y="111"/>
                </a:lnTo>
                <a:lnTo>
                  <a:pt x="1288" y="107"/>
                </a:lnTo>
                <a:lnTo>
                  <a:pt x="1316" y="104"/>
                </a:lnTo>
                <a:lnTo>
                  <a:pt x="1343" y="102"/>
                </a:lnTo>
                <a:lnTo>
                  <a:pt x="1370" y="98"/>
                </a:lnTo>
                <a:lnTo>
                  <a:pt x="1397" y="96"/>
                </a:lnTo>
                <a:lnTo>
                  <a:pt x="1422" y="92"/>
                </a:lnTo>
                <a:lnTo>
                  <a:pt x="1447" y="90"/>
                </a:lnTo>
                <a:lnTo>
                  <a:pt x="1472" y="86"/>
                </a:lnTo>
                <a:lnTo>
                  <a:pt x="1495" y="84"/>
                </a:lnTo>
                <a:lnTo>
                  <a:pt x="1518" y="81"/>
                </a:lnTo>
                <a:lnTo>
                  <a:pt x="1539" y="79"/>
                </a:lnTo>
                <a:lnTo>
                  <a:pt x="1560" y="77"/>
                </a:lnTo>
                <a:lnTo>
                  <a:pt x="1581" y="73"/>
                </a:lnTo>
                <a:lnTo>
                  <a:pt x="1601" y="71"/>
                </a:lnTo>
                <a:lnTo>
                  <a:pt x="1620" y="69"/>
                </a:lnTo>
                <a:lnTo>
                  <a:pt x="1639" y="67"/>
                </a:lnTo>
                <a:lnTo>
                  <a:pt x="1656" y="65"/>
                </a:lnTo>
                <a:lnTo>
                  <a:pt x="1673" y="63"/>
                </a:lnTo>
                <a:lnTo>
                  <a:pt x="1691" y="61"/>
                </a:lnTo>
                <a:lnTo>
                  <a:pt x="1706" y="59"/>
                </a:lnTo>
                <a:lnTo>
                  <a:pt x="1721" y="58"/>
                </a:lnTo>
                <a:lnTo>
                  <a:pt x="1737" y="56"/>
                </a:lnTo>
                <a:lnTo>
                  <a:pt x="1750" y="54"/>
                </a:lnTo>
                <a:lnTo>
                  <a:pt x="1764" y="54"/>
                </a:lnTo>
                <a:lnTo>
                  <a:pt x="1777" y="52"/>
                </a:lnTo>
                <a:lnTo>
                  <a:pt x="1798" y="50"/>
                </a:lnTo>
                <a:lnTo>
                  <a:pt x="1817" y="48"/>
                </a:lnTo>
                <a:lnTo>
                  <a:pt x="1837" y="46"/>
                </a:lnTo>
                <a:lnTo>
                  <a:pt x="1854" y="42"/>
                </a:lnTo>
                <a:lnTo>
                  <a:pt x="1871" y="40"/>
                </a:lnTo>
                <a:lnTo>
                  <a:pt x="1888" y="38"/>
                </a:lnTo>
                <a:lnTo>
                  <a:pt x="1902" y="36"/>
                </a:lnTo>
                <a:lnTo>
                  <a:pt x="1917" y="34"/>
                </a:lnTo>
                <a:lnTo>
                  <a:pt x="1931" y="33"/>
                </a:lnTo>
                <a:lnTo>
                  <a:pt x="1942" y="31"/>
                </a:lnTo>
                <a:lnTo>
                  <a:pt x="1954" y="29"/>
                </a:lnTo>
                <a:lnTo>
                  <a:pt x="1963" y="25"/>
                </a:lnTo>
                <a:lnTo>
                  <a:pt x="1971" y="23"/>
                </a:lnTo>
                <a:lnTo>
                  <a:pt x="1981" y="21"/>
                </a:lnTo>
                <a:lnTo>
                  <a:pt x="1986" y="19"/>
                </a:lnTo>
                <a:lnTo>
                  <a:pt x="1992" y="17"/>
                </a:lnTo>
                <a:lnTo>
                  <a:pt x="1998" y="11"/>
                </a:lnTo>
                <a:lnTo>
                  <a:pt x="2006" y="8"/>
                </a:lnTo>
                <a:lnTo>
                  <a:pt x="2015" y="4"/>
                </a:lnTo>
                <a:lnTo>
                  <a:pt x="2025" y="2"/>
                </a:lnTo>
                <a:lnTo>
                  <a:pt x="2036" y="0"/>
                </a:lnTo>
                <a:lnTo>
                  <a:pt x="2050" y="0"/>
                </a:lnTo>
                <a:lnTo>
                  <a:pt x="2057" y="0"/>
                </a:lnTo>
                <a:lnTo>
                  <a:pt x="2063" y="2"/>
                </a:lnTo>
                <a:lnTo>
                  <a:pt x="2071" y="4"/>
                </a:lnTo>
                <a:lnTo>
                  <a:pt x="2080" y="6"/>
                </a:lnTo>
                <a:lnTo>
                  <a:pt x="2088" y="8"/>
                </a:lnTo>
                <a:lnTo>
                  <a:pt x="2098" y="11"/>
                </a:lnTo>
                <a:lnTo>
                  <a:pt x="2109" y="15"/>
                </a:lnTo>
                <a:lnTo>
                  <a:pt x="2121" y="19"/>
                </a:lnTo>
                <a:lnTo>
                  <a:pt x="2132" y="23"/>
                </a:lnTo>
                <a:lnTo>
                  <a:pt x="2146" y="29"/>
                </a:lnTo>
                <a:lnTo>
                  <a:pt x="2161" y="34"/>
                </a:lnTo>
                <a:lnTo>
                  <a:pt x="2176" y="42"/>
                </a:lnTo>
                <a:lnTo>
                  <a:pt x="2194" y="48"/>
                </a:lnTo>
                <a:lnTo>
                  <a:pt x="2211" y="58"/>
                </a:lnTo>
                <a:lnTo>
                  <a:pt x="2230" y="65"/>
                </a:lnTo>
                <a:lnTo>
                  <a:pt x="2251" y="75"/>
                </a:lnTo>
                <a:lnTo>
                  <a:pt x="2270" y="86"/>
                </a:lnTo>
                <a:lnTo>
                  <a:pt x="2293" y="98"/>
                </a:lnTo>
                <a:lnTo>
                  <a:pt x="2316" y="109"/>
                </a:lnTo>
                <a:lnTo>
                  <a:pt x="2340" y="123"/>
                </a:lnTo>
                <a:lnTo>
                  <a:pt x="2363" y="136"/>
                </a:lnTo>
                <a:lnTo>
                  <a:pt x="2386" y="152"/>
                </a:lnTo>
                <a:lnTo>
                  <a:pt x="2407" y="165"/>
                </a:lnTo>
                <a:lnTo>
                  <a:pt x="2426" y="178"/>
                </a:lnTo>
                <a:lnTo>
                  <a:pt x="2443" y="190"/>
                </a:lnTo>
                <a:lnTo>
                  <a:pt x="2460" y="201"/>
                </a:lnTo>
                <a:lnTo>
                  <a:pt x="2476" y="211"/>
                </a:lnTo>
                <a:lnTo>
                  <a:pt x="2489" y="223"/>
                </a:lnTo>
                <a:lnTo>
                  <a:pt x="2501" y="232"/>
                </a:lnTo>
                <a:lnTo>
                  <a:pt x="2512" y="240"/>
                </a:lnTo>
                <a:lnTo>
                  <a:pt x="2520" y="249"/>
                </a:lnTo>
                <a:lnTo>
                  <a:pt x="2528" y="257"/>
                </a:lnTo>
                <a:lnTo>
                  <a:pt x="2533" y="265"/>
                </a:lnTo>
                <a:lnTo>
                  <a:pt x="2539" y="273"/>
                </a:lnTo>
                <a:lnTo>
                  <a:pt x="2541" y="280"/>
                </a:lnTo>
                <a:lnTo>
                  <a:pt x="2541" y="286"/>
                </a:lnTo>
                <a:lnTo>
                  <a:pt x="2541" y="292"/>
                </a:lnTo>
                <a:lnTo>
                  <a:pt x="2539" y="297"/>
                </a:lnTo>
                <a:lnTo>
                  <a:pt x="2537" y="303"/>
                </a:lnTo>
                <a:lnTo>
                  <a:pt x="2533" y="307"/>
                </a:lnTo>
                <a:lnTo>
                  <a:pt x="2530" y="313"/>
                </a:lnTo>
                <a:lnTo>
                  <a:pt x="2524" y="315"/>
                </a:lnTo>
                <a:lnTo>
                  <a:pt x="2518" y="319"/>
                </a:lnTo>
                <a:lnTo>
                  <a:pt x="2510" y="321"/>
                </a:lnTo>
                <a:lnTo>
                  <a:pt x="2503" y="322"/>
                </a:lnTo>
                <a:lnTo>
                  <a:pt x="2495" y="324"/>
                </a:lnTo>
                <a:lnTo>
                  <a:pt x="2485" y="324"/>
                </a:lnTo>
                <a:lnTo>
                  <a:pt x="2474" y="326"/>
                </a:lnTo>
                <a:lnTo>
                  <a:pt x="2464" y="324"/>
                </a:lnTo>
                <a:lnTo>
                  <a:pt x="2451" y="324"/>
                </a:lnTo>
                <a:lnTo>
                  <a:pt x="2439" y="322"/>
                </a:lnTo>
                <a:lnTo>
                  <a:pt x="2426" y="321"/>
                </a:lnTo>
                <a:lnTo>
                  <a:pt x="2412" y="321"/>
                </a:lnTo>
                <a:lnTo>
                  <a:pt x="2397" y="322"/>
                </a:lnTo>
                <a:lnTo>
                  <a:pt x="2382" y="324"/>
                </a:lnTo>
                <a:lnTo>
                  <a:pt x="2366" y="326"/>
                </a:lnTo>
                <a:lnTo>
                  <a:pt x="2351" y="328"/>
                </a:lnTo>
                <a:lnTo>
                  <a:pt x="2334" y="332"/>
                </a:lnTo>
                <a:lnTo>
                  <a:pt x="2316" y="336"/>
                </a:lnTo>
                <a:lnTo>
                  <a:pt x="2297" y="340"/>
                </a:lnTo>
                <a:lnTo>
                  <a:pt x="2280" y="345"/>
                </a:lnTo>
                <a:lnTo>
                  <a:pt x="2261" y="351"/>
                </a:lnTo>
                <a:lnTo>
                  <a:pt x="2240" y="357"/>
                </a:lnTo>
                <a:lnTo>
                  <a:pt x="2221" y="365"/>
                </a:lnTo>
                <a:lnTo>
                  <a:pt x="2199" y="372"/>
                </a:lnTo>
                <a:lnTo>
                  <a:pt x="2180" y="382"/>
                </a:lnTo>
                <a:lnTo>
                  <a:pt x="2159" y="392"/>
                </a:lnTo>
                <a:lnTo>
                  <a:pt x="2138" y="4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50"/>
          <p:cNvSpPr/>
          <p:nvPr/>
        </p:nvSpPr>
        <p:spPr>
          <a:xfrm>
            <a:off x="5522760" y="3025800"/>
            <a:ext cx="325440" cy="520560"/>
          </a:xfrm>
          <a:custGeom>
            <a:avLst/>
            <a:gdLst/>
            <a:ahLst/>
            <a:rect l="l" t="t" r="r" b="b"/>
            <a:pathLst>
              <a:path w="411" h="657">
                <a:moveTo>
                  <a:pt x="296" y="0"/>
                </a:moveTo>
                <a:lnTo>
                  <a:pt x="302" y="2"/>
                </a:lnTo>
                <a:lnTo>
                  <a:pt x="309" y="2"/>
                </a:lnTo>
                <a:lnTo>
                  <a:pt x="317" y="6"/>
                </a:lnTo>
                <a:lnTo>
                  <a:pt x="327" y="12"/>
                </a:lnTo>
                <a:lnTo>
                  <a:pt x="336" y="18"/>
                </a:lnTo>
                <a:lnTo>
                  <a:pt x="342" y="21"/>
                </a:lnTo>
                <a:lnTo>
                  <a:pt x="346" y="25"/>
                </a:lnTo>
                <a:lnTo>
                  <a:pt x="352" y="31"/>
                </a:lnTo>
                <a:lnTo>
                  <a:pt x="357" y="35"/>
                </a:lnTo>
                <a:lnTo>
                  <a:pt x="363" y="41"/>
                </a:lnTo>
                <a:lnTo>
                  <a:pt x="367" y="48"/>
                </a:lnTo>
                <a:lnTo>
                  <a:pt x="379" y="62"/>
                </a:lnTo>
                <a:lnTo>
                  <a:pt x="386" y="77"/>
                </a:lnTo>
                <a:lnTo>
                  <a:pt x="394" y="92"/>
                </a:lnTo>
                <a:lnTo>
                  <a:pt x="400" y="112"/>
                </a:lnTo>
                <a:lnTo>
                  <a:pt x="405" y="131"/>
                </a:lnTo>
                <a:lnTo>
                  <a:pt x="407" y="140"/>
                </a:lnTo>
                <a:lnTo>
                  <a:pt x="407" y="152"/>
                </a:lnTo>
                <a:lnTo>
                  <a:pt x="409" y="163"/>
                </a:lnTo>
                <a:lnTo>
                  <a:pt x="409" y="175"/>
                </a:lnTo>
                <a:lnTo>
                  <a:pt x="411" y="187"/>
                </a:lnTo>
                <a:lnTo>
                  <a:pt x="411" y="200"/>
                </a:lnTo>
                <a:lnTo>
                  <a:pt x="411" y="215"/>
                </a:lnTo>
                <a:lnTo>
                  <a:pt x="409" y="231"/>
                </a:lnTo>
                <a:lnTo>
                  <a:pt x="405" y="248"/>
                </a:lnTo>
                <a:lnTo>
                  <a:pt x="402" y="263"/>
                </a:lnTo>
                <a:lnTo>
                  <a:pt x="398" y="281"/>
                </a:lnTo>
                <a:lnTo>
                  <a:pt x="392" y="296"/>
                </a:lnTo>
                <a:lnTo>
                  <a:pt x="386" y="313"/>
                </a:lnTo>
                <a:lnTo>
                  <a:pt x="379" y="330"/>
                </a:lnTo>
                <a:lnTo>
                  <a:pt x="369" y="350"/>
                </a:lnTo>
                <a:lnTo>
                  <a:pt x="359" y="367"/>
                </a:lnTo>
                <a:lnTo>
                  <a:pt x="350" y="384"/>
                </a:lnTo>
                <a:lnTo>
                  <a:pt x="336" y="403"/>
                </a:lnTo>
                <a:lnTo>
                  <a:pt x="325" y="423"/>
                </a:lnTo>
                <a:lnTo>
                  <a:pt x="311" y="442"/>
                </a:lnTo>
                <a:lnTo>
                  <a:pt x="296" y="461"/>
                </a:lnTo>
                <a:lnTo>
                  <a:pt x="281" y="480"/>
                </a:lnTo>
                <a:lnTo>
                  <a:pt x="265" y="501"/>
                </a:lnTo>
                <a:lnTo>
                  <a:pt x="250" y="522"/>
                </a:lnTo>
                <a:lnTo>
                  <a:pt x="237" y="540"/>
                </a:lnTo>
                <a:lnTo>
                  <a:pt x="221" y="557"/>
                </a:lnTo>
                <a:lnTo>
                  <a:pt x="210" y="574"/>
                </a:lnTo>
                <a:lnTo>
                  <a:pt x="196" y="588"/>
                </a:lnTo>
                <a:lnTo>
                  <a:pt x="185" y="601"/>
                </a:lnTo>
                <a:lnTo>
                  <a:pt x="175" y="613"/>
                </a:lnTo>
                <a:lnTo>
                  <a:pt x="166" y="622"/>
                </a:lnTo>
                <a:lnTo>
                  <a:pt x="156" y="632"/>
                </a:lnTo>
                <a:lnTo>
                  <a:pt x="148" y="640"/>
                </a:lnTo>
                <a:lnTo>
                  <a:pt x="141" y="645"/>
                </a:lnTo>
                <a:lnTo>
                  <a:pt x="135" y="649"/>
                </a:lnTo>
                <a:lnTo>
                  <a:pt x="129" y="653"/>
                </a:lnTo>
                <a:lnTo>
                  <a:pt x="125" y="655"/>
                </a:lnTo>
                <a:lnTo>
                  <a:pt x="121" y="657"/>
                </a:lnTo>
                <a:lnTo>
                  <a:pt x="119" y="655"/>
                </a:lnTo>
                <a:lnTo>
                  <a:pt x="116" y="655"/>
                </a:lnTo>
                <a:lnTo>
                  <a:pt x="112" y="653"/>
                </a:lnTo>
                <a:lnTo>
                  <a:pt x="108" y="651"/>
                </a:lnTo>
                <a:lnTo>
                  <a:pt x="104" y="649"/>
                </a:lnTo>
                <a:lnTo>
                  <a:pt x="100" y="645"/>
                </a:lnTo>
                <a:lnTo>
                  <a:pt x="96" y="641"/>
                </a:lnTo>
                <a:lnTo>
                  <a:pt x="91" y="638"/>
                </a:lnTo>
                <a:lnTo>
                  <a:pt x="87" y="632"/>
                </a:lnTo>
                <a:lnTo>
                  <a:pt x="81" y="626"/>
                </a:lnTo>
                <a:lnTo>
                  <a:pt x="75" y="618"/>
                </a:lnTo>
                <a:lnTo>
                  <a:pt x="71" y="613"/>
                </a:lnTo>
                <a:lnTo>
                  <a:pt x="66" y="603"/>
                </a:lnTo>
                <a:lnTo>
                  <a:pt x="60" y="595"/>
                </a:lnTo>
                <a:lnTo>
                  <a:pt x="56" y="586"/>
                </a:lnTo>
                <a:lnTo>
                  <a:pt x="50" y="574"/>
                </a:lnTo>
                <a:lnTo>
                  <a:pt x="43" y="563"/>
                </a:lnTo>
                <a:lnTo>
                  <a:pt x="35" y="553"/>
                </a:lnTo>
                <a:lnTo>
                  <a:pt x="29" y="544"/>
                </a:lnTo>
                <a:lnTo>
                  <a:pt x="23" y="534"/>
                </a:lnTo>
                <a:lnTo>
                  <a:pt x="18" y="526"/>
                </a:lnTo>
                <a:lnTo>
                  <a:pt x="14" y="519"/>
                </a:lnTo>
                <a:lnTo>
                  <a:pt x="10" y="511"/>
                </a:lnTo>
                <a:lnTo>
                  <a:pt x="6" y="503"/>
                </a:lnTo>
                <a:lnTo>
                  <a:pt x="4" y="498"/>
                </a:lnTo>
                <a:lnTo>
                  <a:pt x="2" y="492"/>
                </a:lnTo>
                <a:lnTo>
                  <a:pt x="2" y="486"/>
                </a:lnTo>
                <a:lnTo>
                  <a:pt x="0" y="482"/>
                </a:lnTo>
                <a:lnTo>
                  <a:pt x="2" y="478"/>
                </a:lnTo>
                <a:lnTo>
                  <a:pt x="2" y="474"/>
                </a:lnTo>
                <a:lnTo>
                  <a:pt x="4" y="471"/>
                </a:lnTo>
                <a:lnTo>
                  <a:pt x="6" y="469"/>
                </a:lnTo>
                <a:lnTo>
                  <a:pt x="6" y="467"/>
                </a:lnTo>
                <a:lnTo>
                  <a:pt x="8" y="463"/>
                </a:lnTo>
                <a:lnTo>
                  <a:pt x="10" y="459"/>
                </a:lnTo>
                <a:lnTo>
                  <a:pt x="12" y="455"/>
                </a:lnTo>
                <a:lnTo>
                  <a:pt x="16" y="451"/>
                </a:lnTo>
                <a:lnTo>
                  <a:pt x="20" y="446"/>
                </a:lnTo>
                <a:lnTo>
                  <a:pt x="23" y="440"/>
                </a:lnTo>
                <a:lnTo>
                  <a:pt x="29" y="434"/>
                </a:lnTo>
                <a:lnTo>
                  <a:pt x="35" y="426"/>
                </a:lnTo>
                <a:lnTo>
                  <a:pt x="41" y="421"/>
                </a:lnTo>
                <a:lnTo>
                  <a:pt x="48" y="411"/>
                </a:lnTo>
                <a:lnTo>
                  <a:pt x="56" y="403"/>
                </a:lnTo>
                <a:lnTo>
                  <a:pt x="64" y="394"/>
                </a:lnTo>
                <a:lnTo>
                  <a:pt x="73" y="384"/>
                </a:lnTo>
                <a:lnTo>
                  <a:pt x="83" y="375"/>
                </a:lnTo>
                <a:lnTo>
                  <a:pt x="93" y="363"/>
                </a:lnTo>
                <a:lnTo>
                  <a:pt x="102" y="354"/>
                </a:lnTo>
                <a:lnTo>
                  <a:pt x="110" y="342"/>
                </a:lnTo>
                <a:lnTo>
                  <a:pt x="121" y="330"/>
                </a:lnTo>
                <a:lnTo>
                  <a:pt x="131" y="315"/>
                </a:lnTo>
                <a:lnTo>
                  <a:pt x="142" y="300"/>
                </a:lnTo>
                <a:lnTo>
                  <a:pt x="154" y="281"/>
                </a:lnTo>
                <a:lnTo>
                  <a:pt x="166" y="261"/>
                </a:lnTo>
                <a:lnTo>
                  <a:pt x="179" y="240"/>
                </a:lnTo>
                <a:lnTo>
                  <a:pt x="192" y="215"/>
                </a:lnTo>
                <a:lnTo>
                  <a:pt x="206" y="190"/>
                </a:lnTo>
                <a:lnTo>
                  <a:pt x="219" y="163"/>
                </a:lnTo>
                <a:lnTo>
                  <a:pt x="235" y="135"/>
                </a:lnTo>
                <a:lnTo>
                  <a:pt x="248" y="104"/>
                </a:lnTo>
                <a:lnTo>
                  <a:pt x="263" y="71"/>
                </a:lnTo>
                <a:lnTo>
                  <a:pt x="271" y="54"/>
                </a:lnTo>
                <a:lnTo>
                  <a:pt x="279" y="37"/>
                </a:lnTo>
                <a:lnTo>
                  <a:pt x="288" y="19"/>
                </a:lnTo>
                <a:lnTo>
                  <a:pt x="29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1"/>
          <p:cNvSpPr/>
          <p:nvPr/>
        </p:nvSpPr>
        <p:spPr>
          <a:xfrm>
            <a:off x="6413400" y="2757600"/>
            <a:ext cx="358920" cy="309600"/>
          </a:xfrm>
          <a:custGeom>
            <a:avLst/>
            <a:gdLst/>
            <a:ahLst/>
            <a:rect l="l" t="t" r="r" b="b"/>
            <a:pathLst>
              <a:path w="451" h="390">
                <a:moveTo>
                  <a:pt x="10" y="0"/>
                </a:moveTo>
                <a:lnTo>
                  <a:pt x="35" y="2"/>
                </a:lnTo>
                <a:lnTo>
                  <a:pt x="58" y="4"/>
                </a:lnTo>
                <a:lnTo>
                  <a:pt x="81" y="8"/>
                </a:lnTo>
                <a:lnTo>
                  <a:pt x="102" y="10"/>
                </a:lnTo>
                <a:lnTo>
                  <a:pt x="123" y="14"/>
                </a:lnTo>
                <a:lnTo>
                  <a:pt x="144" y="18"/>
                </a:lnTo>
                <a:lnTo>
                  <a:pt x="165" y="22"/>
                </a:lnTo>
                <a:lnTo>
                  <a:pt x="185" y="25"/>
                </a:lnTo>
                <a:lnTo>
                  <a:pt x="202" y="29"/>
                </a:lnTo>
                <a:lnTo>
                  <a:pt x="221" y="33"/>
                </a:lnTo>
                <a:lnTo>
                  <a:pt x="238" y="37"/>
                </a:lnTo>
                <a:lnTo>
                  <a:pt x="254" y="41"/>
                </a:lnTo>
                <a:lnTo>
                  <a:pt x="271" y="45"/>
                </a:lnTo>
                <a:lnTo>
                  <a:pt x="284" y="48"/>
                </a:lnTo>
                <a:lnTo>
                  <a:pt x="300" y="54"/>
                </a:lnTo>
                <a:lnTo>
                  <a:pt x="313" y="58"/>
                </a:lnTo>
                <a:lnTo>
                  <a:pt x="334" y="71"/>
                </a:lnTo>
                <a:lnTo>
                  <a:pt x="353" y="85"/>
                </a:lnTo>
                <a:lnTo>
                  <a:pt x="373" y="98"/>
                </a:lnTo>
                <a:lnTo>
                  <a:pt x="390" y="114"/>
                </a:lnTo>
                <a:lnTo>
                  <a:pt x="405" y="129"/>
                </a:lnTo>
                <a:lnTo>
                  <a:pt x="419" y="146"/>
                </a:lnTo>
                <a:lnTo>
                  <a:pt x="426" y="156"/>
                </a:lnTo>
                <a:lnTo>
                  <a:pt x="432" y="166"/>
                </a:lnTo>
                <a:lnTo>
                  <a:pt x="438" y="175"/>
                </a:lnTo>
                <a:lnTo>
                  <a:pt x="444" y="187"/>
                </a:lnTo>
                <a:lnTo>
                  <a:pt x="447" y="208"/>
                </a:lnTo>
                <a:lnTo>
                  <a:pt x="449" y="219"/>
                </a:lnTo>
                <a:lnTo>
                  <a:pt x="451" y="231"/>
                </a:lnTo>
                <a:lnTo>
                  <a:pt x="451" y="240"/>
                </a:lnTo>
                <a:lnTo>
                  <a:pt x="451" y="252"/>
                </a:lnTo>
                <a:lnTo>
                  <a:pt x="451" y="262"/>
                </a:lnTo>
                <a:lnTo>
                  <a:pt x="451" y="271"/>
                </a:lnTo>
                <a:lnTo>
                  <a:pt x="449" y="281"/>
                </a:lnTo>
                <a:lnTo>
                  <a:pt x="446" y="290"/>
                </a:lnTo>
                <a:lnTo>
                  <a:pt x="444" y="300"/>
                </a:lnTo>
                <a:lnTo>
                  <a:pt x="440" y="308"/>
                </a:lnTo>
                <a:lnTo>
                  <a:pt x="434" y="317"/>
                </a:lnTo>
                <a:lnTo>
                  <a:pt x="428" y="325"/>
                </a:lnTo>
                <a:lnTo>
                  <a:pt x="423" y="333"/>
                </a:lnTo>
                <a:lnTo>
                  <a:pt x="415" y="338"/>
                </a:lnTo>
                <a:lnTo>
                  <a:pt x="407" y="348"/>
                </a:lnTo>
                <a:lnTo>
                  <a:pt x="399" y="356"/>
                </a:lnTo>
                <a:lnTo>
                  <a:pt x="392" y="361"/>
                </a:lnTo>
                <a:lnTo>
                  <a:pt x="384" y="367"/>
                </a:lnTo>
                <a:lnTo>
                  <a:pt x="378" y="373"/>
                </a:lnTo>
                <a:lnTo>
                  <a:pt x="371" y="379"/>
                </a:lnTo>
                <a:lnTo>
                  <a:pt x="365" y="382"/>
                </a:lnTo>
                <a:lnTo>
                  <a:pt x="359" y="384"/>
                </a:lnTo>
                <a:lnTo>
                  <a:pt x="353" y="386"/>
                </a:lnTo>
                <a:lnTo>
                  <a:pt x="348" y="388"/>
                </a:lnTo>
                <a:lnTo>
                  <a:pt x="342" y="390"/>
                </a:lnTo>
                <a:lnTo>
                  <a:pt x="336" y="390"/>
                </a:lnTo>
                <a:lnTo>
                  <a:pt x="330" y="390"/>
                </a:lnTo>
                <a:lnTo>
                  <a:pt x="325" y="390"/>
                </a:lnTo>
                <a:lnTo>
                  <a:pt x="319" y="388"/>
                </a:lnTo>
                <a:lnTo>
                  <a:pt x="313" y="386"/>
                </a:lnTo>
                <a:lnTo>
                  <a:pt x="305" y="382"/>
                </a:lnTo>
                <a:lnTo>
                  <a:pt x="298" y="381"/>
                </a:lnTo>
                <a:lnTo>
                  <a:pt x="288" y="375"/>
                </a:lnTo>
                <a:lnTo>
                  <a:pt x="280" y="371"/>
                </a:lnTo>
                <a:lnTo>
                  <a:pt x="273" y="365"/>
                </a:lnTo>
                <a:lnTo>
                  <a:pt x="263" y="357"/>
                </a:lnTo>
                <a:lnTo>
                  <a:pt x="254" y="350"/>
                </a:lnTo>
                <a:lnTo>
                  <a:pt x="244" y="342"/>
                </a:lnTo>
                <a:lnTo>
                  <a:pt x="234" y="333"/>
                </a:lnTo>
                <a:lnTo>
                  <a:pt x="225" y="323"/>
                </a:lnTo>
                <a:lnTo>
                  <a:pt x="215" y="311"/>
                </a:lnTo>
                <a:lnTo>
                  <a:pt x="204" y="300"/>
                </a:lnTo>
                <a:lnTo>
                  <a:pt x="192" y="288"/>
                </a:lnTo>
                <a:lnTo>
                  <a:pt x="181" y="275"/>
                </a:lnTo>
                <a:lnTo>
                  <a:pt x="167" y="260"/>
                </a:lnTo>
                <a:lnTo>
                  <a:pt x="156" y="246"/>
                </a:lnTo>
                <a:lnTo>
                  <a:pt x="142" y="231"/>
                </a:lnTo>
                <a:lnTo>
                  <a:pt x="129" y="215"/>
                </a:lnTo>
                <a:lnTo>
                  <a:pt x="115" y="202"/>
                </a:lnTo>
                <a:lnTo>
                  <a:pt x="104" y="189"/>
                </a:lnTo>
                <a:lnTo>
                  <a:pt x="92" y="175"/>
                </a:lnTo>
                <a:lnTo>
                  <a:pt x="81" y="164"/>
                </a:lnTo>
                <a:lnTo>
                  <a:pt x="71" y="150"/>
                </a:lnTo>
                <a:lnTo>
                  <a:pt x="62" y="141"/>
                </a:lnTo>
                <a:lnTo>
                  <a:pt x="52" y="129"/>
                </a:lnTo>
                <a:lnTo>
                  <a:pt x="42" y="119"/>
                </a:lnTo>
                <a:lnTo>
                  <a:pt x="35" y="110"/>
                </a:lnTo>
                <a:lnTo>
                  <a:pt x="29" y="100"/>
                </a:lnTo>
                <a:lnTo>
                  <a:pt x="23" y="93"/>
                </a:lnTo>
                <a:lnTo>
                  <a:pt x="18" y="85"/>
                </a:lnTo>
                <a:lnTo>
                  <a:pt x="14" y="77"/>
                </a:lnTo>
                <a:lnTo>
                  <a:pt x="10" y="70"/>
                </a:lnTo>
                <a:lnTo>
                  <a:pt x="6" y="58"/>
                </a:lnTo>
                <a:lnTo>
                  <a:pt x="2" y="47"/>
                </a:lnTo>
                <a:lnTo>
                  <a:pt x="0" y="35"/>
                </a:lnTo>
                <a:lnTo>
                  <a:pt x="0" y="25"/>
                </a:lnTo>
                <a:lnTo>
                  <a:pt x="0" y="18"/>
                </a:lnTo>
                <a:lnTo>
                  <a:pt x="2" y="10"/>
                </a:lnTo>
                <a:lnTo>
                  <a:pt x="6" y="4"/>
                </a:lnTo>
                <a:lnTo>
                  <a:pt x="1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0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5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盾”竖撇宜长，“目”窄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 3"/>
          <p:cNvSpPr/>
          <p:nvPr/>
        </p:nvSpPr>
        <p:spPr>
          <a:xfrm>
            <a:off x="2108160" y="186840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ú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20"/>
          <p:cNvSpPr/>
          <p:nvPr/>
        </p:nvSpPr>
        <p:spPr>
          <a:xfrm>
            <a:off x="6804000" y="3673440"/>
            <a:ext cx="752400" cy="1365120"/>
          </a:xfrm>
          <a:custGeom>
            <a:avLst/>
            <a:gdLst/>
            <a:ahLst/>
            <a:rect l="l" t="t" r="r" b="b"/>
            <a:pathLst>
              <a:path w="948" h="1720">
                <a:moveTo>
                  <a:pt x="580" y="1259"/>
                </a:moveTo>
                <a:lnTo>
                  <a:pt x="599" y="1265"/>
                </a:lnTo>
                <a:lnTo>
                  <a:pt x="618" y="1272"/>
                </a:lnTo>
                <a:lnTo>
                  <a:pt x="636" y="1278"/>
                </a:lnTo>
                <a:lnTo>
                  <a:pt x="651" y="1284"/>
                </a:lnTo>
                <a:lnTo>
                  <a:pt x="664" y="1288"/>
                </a:lnTo>
                <a:lnTo>
                  <a:pt x="678" y="1292"/>
                </a:lnTo>
                <a:lnTo>
                  <a:pt x="689" y="1295"/>
                </a:lnTo>
                <a:lnTo>
                  <a:pt x="701" y="1297"/>
                </a:lnTo>
                <a:lnTo>
                  <a:pt x="710" y="1299"/>
                </a:lnTo>
                <a:lnTo>
                  <a:pt x="720" y="1301"/>
                </a:lnTo>
                <a:lnTo>
                  <a:pt x="726" y="1303"/>
                </a:lnTo>
                <a:lnTo>
                  <a:pt x="733" y="1303"/>
                </a:lnTo>
                <a:lnTo>
                  <a:pt x="739" y="1303"/>
                </a:lnTo>
                <a:lnTo>
                  <a:pt x="743" y="1301"/>
                </a:lnTo>
                <a:lnTo>
                  <a:pt x="747" y="1299"/>
                </a:lnTo>
                <a:lnTo>
                  <a:pt x="749" y="1297"/>
                </a:lnTo>
                <a:lnTo>
                  <a:pt x="749" y="1295"/>
                </a:lnTo>
                <a:lnTo>
                  <a:pt x="749" y="1292"/>
                </a:lnTo>
                <a:lnTo>
                  <a:pt x="749" y="1286"/>
                </a:lnTo>
                <a:lnTo>
                  <a:pt x="749" y="1280"/>
                </a:lnTo>
                <a:lnTo>
                  <a:pt x="751" y="1272"/>
                </a:lnTo>
                <a:lnTo>
                  <a:pt x="751" y="1265"/>
                </a:lnTo>
                <a:lnTo>
                  <a:pt x="751" y="1255"/>
                </a:lnTo>
                <a:lnTo>
                  <a:pt x="751" y="1246"/>
                </a:lnTo>
                <a:lnTo>
                  <a:pt x="751" y="1234"/>
                </a:lnTo>
                <a:lnTo>
                  <a:pt x="753" y="1221"/>
                </a:lnTo>
                <a:lnTo>
                  <a:pt x="753" y="1205"/>
                </a:lnTo>
                <a:lnTo>
                  <a:pt x="755" y="1190"/>
                </a:lnTo>
                <a:lnTo>
                  <a:pt x="756" y="1173"/>
                </a:lnTo>
                <a:lnTo>
                  <a:pt x="758" y="1155"/>
                </a:lnTo>
                <a:lnTo>
                  <a:pt x="758" y="1134"/>
                </a:lnTo>
                <a:lnTo>
                  <a:pt x="762" y="1113"/>
                </a:lnTo>
                <a:lnTo>
                  <a:pt x="762" y="1090"/>
                </a:lnTo>
                <a:lnTo>
                  <a:pt x="762" y="1067"/>
                </a:lnTo>
                <a:lnTo>
                  <a:pt x="762" y="1044"/>
                </a:lnTo>
                <a:lnTo>
                  <a:pt x="762" y="1019"/>
                </a:lnTo>
                <a:lnTo>
                  <a:pt x="762" y="994"/>
                </a:lnTo>
                <a:lnTo>
                  <a:pt x="762" y="969"/>
                </a:lnTo>
                <a:lnTo>
                  <a:pt x="762" y="942"/>
                </a:lnTo>
                <a:lnTo>
                  <a:pt x="762" y="915"/>
                </a:lnTo>
                <a:lnTo>
                  <a:pt x="762" y="887"/>
                </a:lnTo>
                <a:lnTo>
                  <a:pt x="762" y="860"/>
                </a:lnTo>
                <a:lnTo>
                  <a:pt x="762" y="831"/>
                </a:lnTo>
                <a:lnTo>
                  <a:pt x="762" y="802"/>
                </a:lnTo>
                <a:lnTo>
                  <a:pt x="762" y="771"/>
                </a:lnTo>
                <a:lnTo>
                  <a:pt x="762" y="741"/>
                </a:lnTo>
                <a:lnTo>
                  <a:pt x="762" y="710"/>
                </a:lnTo>
                <a:lnTo>
                  <a:pt x="762" y="677"/>
                </a:lnTo>
                <a:lnTo>
                  <a:pt x="760" y="647"/>
                </a:lnTo>
                <a:lnTo>
                  <a:pt x="760" y="616"/>
                </a:lnTo>
                <a:lnTo>
                  <a:pt x="760" y="585"/>
                </a:lnTo>
                <a:lnTo>
                  <a:pt x="758" y="556"/>
                </a:lnTo>
                <a:lnTo>
                  <a:pt x="758" y="530"/>
                </a:lnTo>
                <a:lnTo>
                  <a:pt x="756" y="503"/>
                </a:lnTo>
                <a:lnTo>
                  <a:pt x="755" y="476"/>
                </a:lnTo>
                <a:lnTo>
                  <a:pt x="755" y="451"/>
                </a:lnTo>
                <a:lnTo>
                  <a:pt x="753" y="428"/>
                </a:lnTo>
                <a:lnTo>
                  <a:pt x="751" y="405"/>
                </a:lnTo>
                <a:lnTo>
                  <a:pt x="749" y="384"/>
                </a:lnTo>
                <a:lnTo>
                  <a:pt x="747" y="364"/>
                </a:lnTo>
                <a:lnTo>
                  <a:pt x="743" y="345"/>
                </a:lnTo>
                <a:lnTo>
                  <a:pt x="741" y="328"/>
                </a:lnTo>
                <a:lnTo>
                  <a:pt x="739" y="311"/>
                </a:lnTo>
                <a:lnTo>
                  <a:pt x="737" y="295"/>
                </a:lnTo>
                <a:lnTo>
                  <a:pt x="735" y="280"/>
                </a:lnTo>
                <a:lnTo>
                  <a:pt x="731" y="267"/>
                </a:lnTo>
                <a:lnTo>
                  <a:pt x="728" y="253"/>
                </a:lnTo>
                <a:lnTo>
                  <a:pt x="724" y="242"/>
                </a:lnTo>
                <a:lnTo>
                  <a:pt x="720" y="228"/>
                </a:lnTo>
                <a:lnTo>
                  <a:pt x="714" y="219"/>
                </a:lnTo>
                <a:lnTo>
                  <a:pt x="710" y="207"/>
                </a:lnTo>
                <a:lnTo>
                  <a:pt x="705" y="197"/>
                </a:lnTo>
                <a:lnTo>
                  <a:pt x="699" y="190"/>
                </a:lnTo>
                <a:lnTo>
                  <a:pt x="693" y="180"/>
                </a:lnTo>
                <a:lnTo>
                  <a:pt x="685" y="174"/>
                </a:lnTo>
                <a:lnTo>
                  <a:pt x="680" y="167"/>
                </a:lnTo>
                <a:lnTo>
                  <a:pt x="674" y="161"/>
                </a:lnTo>
                <a:lnTo>
                  <a:pt x="666" y="157"/>
                </a:lnTo>
                <a:lnTo>
                  <a:pt x="660" y="153"/>
                </a:lnTo>
                <a:lnTo>
                  <a:pt x="653" y="149"/>
                </a:lnTo>
                <a:lnTo>
                  <a:pt x="643" y="148"/>
                </a:lnTo>
                <a:lnTo>
                  <a:pt x="632" y="146"/>
                </a:lnTo>
                <a:lnTo>
                  <a:pt x="620" y="146"/>
                </a:lnTo>
                <a:lnTo>
                  <a:pt x="607" y="146"/>
                </a:lnTo>
                <a:lnTo>
                  <a:pt x="593" y="146"/>
                </a:lnTo>
                <a:lnTo>
                  <a:pt x="578" y="146"/>
                </a:lnTo>
                <a:lnTo>
                  <a:pt x="563" y="148"/>
                </a:lnTo>
                <a:lnTo>
                  <a:pt x="545" y="149"/>
                </a:lnTo>
                <a:lnTo>
                  <a:pt x="528" y="151"/>
                </a:lnTo>
                <a:lnTo>
                  <a:pt x="509" y="155"/>
                </a:lnTo>
                <a:lnTo>
                  <a:pt x="488" y="159"/>
                </a:lnTo>
                <a:lnTo>
                  <a:pt x="467" y="165"/>
                </a:lnTo>
                <a:lnTo>
                  <a:pt x="445" y="169"/>
                </a:lnTo>
                <a:lnTo>
                  <a:pt x="422" y="176"/>
                </a:lnTo>
                <a:lnTo>
                  <a:pt x="399" y="182"/>
                </a:lnTo>
                <a:lnTo>
                  <a:pt x="374" y="190"/>
                </a:lnTo>
                <a:lnTo>
                  <a:pt x="348" y="197"/>
                </a:lnTo>
                <a:lnTo>
                  <a:pt x="321" y="203"/>
                </a:lnTo>
                <a:lnTo>
                  <a:pt x="296" y="209"/>
                </a:lnTo>
                <a:lnTo>
                  <a:pt x="271" y="215"/>
                </a:lnTo>
                <a:lnTo>
                  <a:pt x="246" y="219"/>
                </a:lnTo>
                <a:lnTo>
                  <a:pt x="221" y="224"/>
                </a:lnTo>
                <a:lnTo>
                  <a:pt x="198" y="228"/>
                </a:lnTo>
                <a:lnTo>
                  <a:pt x="173" y="230"/>
                </a:lnTo>
                <a:lnTo>
                  <a:pt x="129" y="236"/>
                </a:lnTo>
                <a:lnTo>
                  <a:pt x="85" y="240"/>
                </a:lnTo>
                <a:lnTo>
                  <a:pt x="40" y="242"/>
                </a:lnTo>
                <a:lnTo>
                  <a:pt x="0" y="242"/>
                </a:lnTo>
                <a:lnTo>
                  <a:pt x="0" y="163"/>
                </a:lnTo>
                <a:lnTo>
                  <a:pt x="16" y="161"/>
                </a:lnTo>
                <a:lnTo>
                  <a:pt x="33" y="157"/>
                </a:lnTo>
                <a:lnTo>
                  <a:pt x="52" y="155"/>
                </a:lnTo>
                <a:lnTo>
                  <a:pt x="69" y="153"/>
                </a:lnTo>
                <a:lnTo>
                  <a:pt x="90" y="149"/>
                </a:lnTo>
                <a:lnTo>
                  <a:pt x="112" y="148"/>
                </a:lnTo>
                <a:lnTo>
                  <a:pt x="133" y="144"/>
                </a:lnTo>
                <a:lnTo>
                  <a:pt x="156" y="140"/>
                </a:lnTo>
                <a:lnTo>
                  <a:pt x="179" y="136"/>
                </a:lnTo>
                <a:lnTo>
                  <a:pt x="204" y="132"/>
                </a:lnTo>
                <a:lnTo>
                  <a:pt x="231" y="128"/>
                </a:lnTo>
                <a:lnTo>
                  <a:pt x="257" y="123"/>
                </a:lnTo>
                <a:lnTo>
                  <a:pt x="284" y="117"/>
                </a:lnTo>
                <a:lnTo>
                  <a:pt x="313" y="111"/>
                </a:lnTo>
                <a:lnTo>
                  <a:pt x="344" y="105"/>
                </a:lnTo>
                <a:lnTo>
                  <a:pt x="374" y="98"/>
                </a:lnTo>
                <a:lnTo>
                  <a:pt x="403" y="90"/>
                </a:lnTo>
                <a:lnTo>
                  <a:pt x="430" y="82"/>
                </a:lnTo>
                <a:lnTo>
                  <a:pt x="457" y="77"/>
                </a:lnTo>
                <a:lnTo>
                  <a:pt x="480" y="69"/>
                </a:lnTo>
                <a:lnTo>
                  <a:pt x="503" y="63"/>
                </a:lnTo>
                <a:lnTo>
                  <a:pt x="524" y="57"/>
                </a:lnTo>
                <a:lnTo>
                  <a:pt x="545" y="54"/>
                </a:lnTo>
                <a:lnTo>
                  <a:pt x="563" y="48"/>
                </a:lnTo>
                <a:lnTo>
                  <a:pt x="580" y="42"/>
                </a:lnTo>
                <a:lnTo>
                  <a:pt x="595" y="38"/>
                </a:lnTo>
                <a:lnTo>
                  <a:pt x="609" y="34"/>
                </a:lnTo>
                <a:lnTo>
                  <a:pt x="620" y="30"/>
                </a:lnTo>
                <a:lnTo>
                  <a:pt x="632" y="27"/>
                </a:lnTo>
                <a:lnTo>
                  <a:pt x="639" y="23"/>
                </a:lnTo>
                <a:lnTo>
                  <a:pt x="647" y="21"/>
                </a:lnTo>
                <a:lnTo>
                  <a:pt x="653" y="19"/>
                </a:lnTo>
                <a:lnTo>
                  <a:pt x="659" y="13"/>
                </a:lnTo>
                <a:lnTo>
                  <a:pt x="664" y="7"/>
                </a:lnTo>
                <a:lnTo>
                  <a:pt x="672" y="4"/>
                </a:lnTo>
                <a:lnTo>
                  <a:pt x="680" y="2"/>
                </a:lnTo>
                <a:lnTo>
                  <a:pt x="689" y="0"/>
                </a:lnTo>
                <a:lnTo>
                  <a:pt x="701" y="0"/>
                </a:lnTo>
                <a:lnTo>
                  <a:pt x="707" y="0"/>
                </a:lnTo>
                <a:lnTo>
                  <a:pt x="712" y="2"/>
                </a:lnTo>
                <a:lnTo>
                  <a:pt x="718" y="2"/>
                </a:lnTo>
                <a:lnTo>
                  <a:pt x="726" y="6"/>
                </a:lnTo>
                <a:lnTo>
                  <a:pt x="739" y="9"/>
                </a:lnTo>
                <a:lnTo>
                  <a:pt x="753" y="17"/>
                </a:lnTo>
                <a:lnTo>
                  <a:pt x="768" y="25"/>
                </a:lnTo>
                <a:lnTo>
                  <a:pt x="783" y="34"/>
                </a:lnTo>
                <a:lnTo>
                  <a:pt x="799" y="44"/>
                </a:lnTo>
                <a:lnTo>
                  <a:pt x="818" y="57"/>
                </a:lnTo>
                <a:lnTo>
                  <a:pt x="837" y="69"/>
                </a:lnTo>
                <a:lnTo>
                  <a:pt x="847" y="77"/>
                </a:lnTo>
                <a:lnTo>
                  <a:pt x="858" y="84"/>
                </a:lnTo>
                <a:lnTo>
                  <a:pt x="868" y="92"/>
                </a:lnTo>
                <a:lnTo>
                  <a:pt x="875" y="98"/>
                </a:lnTo>
                <a:lnTo>
                  <a:pt x="883" y="105"/>
                </a:lnTo>
                <a:lnTo>
                  <a:pt x="891" y="111"/>
                </a:lnTo>
                <a:lnTo>
                  <a:pt x="897" y="117"/>
                </a:lnTo>
                <a:lnTo>
                  <a:pt x="902" y="125"/>
                </a:lnTo>
                <a:lnTo>
                  <a:pt x="914" y="136"/>
                </a:lnTo>
                <a:lnTo>
                  <a:pt x="923" y="146"/>
                </a:lnTo>
                <a:lnTo>
                  <a:pt x="931" y="157"/>
                </a:lnTo>
                <a:lnTo>
                  <a:pt x="937" y="167"/>
                </a:lnTo>
                <a:lnTo>
                  <a:pt x="943" y="176"/>
                </a:lnTo>
                <a:lnTo>
                  <a:pt x="945" y="182"/>
                </a:lnTo>
                <a:lnTo>
                  <a:pt x="946" y="186"/>
                </a:lnTo>
                <a:lnTo>
                  <a:pt x="946" y="192"/>
                </a:lnTo>
                <a:lnTo>
                  <a:pt x="948" y="196"/>
                </a:lnTo>
                <a:lnTo>
                  <a:pt x="946" y="205"/>
                </a:lnTo>
                <a:lnTo>
                  <a:pt x="946" y="215"/>
                </a:lnTo>
                <a:lnTo>
                  <a:pt x="943" y="222"/>
                </a:lnTo>
                <a:lnTo>
                  <a:pt x="939" y="230"/>
                </a:lnTo>
                <a:lnTo>
                  <a:pt x="935" y="236"/>
                </a:lnTo>
                <a:lnTo>
                  <a:pt x="931" y="242"/>
                </a:lnTo>
                <a:lnTo>
                  <a:pt x="929" y="244"/>
                </a:lnTo>
                <a:lnTo>
                  <a:pt x="927" y="245"/>
                </a:lnTo>
                <a:lnTo>
                  <a:pt x="925" y="249"/>
                </a:lnTo>
                <a:lnTo>
                  <a:pt x="923" y="253"/>
                </a:lnTo>
                <a:lnTo>
                  <a:pt x="922" y="259"/>
                </a:lnTo>
                <a:lnTo>
                  <a:pt x="920" y="265"/>
                </a:lnTo>
                <a:lnTo>
                  <a:pt x="918" y="272"/>
                </a:lnTo>
                <a:lnTo>
                  <a:pt x="918" y="278"/>
                </a:lnTo>
                <a:lnTo>
                  <a:pt x="916" y="288"/>
                </a:lnTo>
                <a:lnTo>
                  <a:pt x="916" y="297"/>
                </a:lnTo>
                <a:lnTo>
                  <a:pt x="914" y="307"/>
                </a:lnTo>
                <a:lnTo>
                  <a:pt x="914" y="316"/>
                </a:lnTo>
                <a:lnTo>
                  <a:pt x="912" y="328"/>
                </a:lnTo>
                <a:lnTo>
                  <a:pt x="912" y="341"/>
                </a:lnTo>
                <a:lnTo>
                  <a:pt x="912" y="353"/>
                </a:lnTo>
                <a:lnTo>
                  <a:pt x="912" y="368"/>
                </a:lnTo>
                <a:lnTo>
                  <a:pt x="910" y="382"/>
                </a:lnTo>
                <a:lnTo>
                  <a:pt x="910" y="397"/>
                </a:lnTo>
                <a:lnTo>
                  <a:pt x="910" y="414"/>
                </a:lnTo>
                <a:lnTo>
                  <a:pt x="910" y="432"/>
                </a:lnTo>
                <a:lnTo>
                  <a:pt x="912" y="449"/>
                </a:lnTo>
                <a:lnTo>
                  <a:pt x="912" y="466"/>
                </a:lnTo>
                <a:lnTo>
                  <a:pt x="912" y="485"/>
                </a:lnTo>
                <a:lnTo>
                  <a:pt x="912" y="507"/>
                </a:lnTo>
                <a:lnTo>
                  <a:pt x="912" y="526"/>
                </a:lnTo>
                <a:lnTo>
                  <a:pt x="914" y="547"/>
                </a:lnTo>
                <a:lnTo>
                  <a:pt x="914" y="570"/>
                </a:lnTo>
                <a:lnTo>
                  <a:pt x="914" y="593"/>
                </a:lnTo>
                <a:lnTo>
                  <a:pt x="916" y="616"/>
                </a:lnTo>
                <a:lnTo>
                  <a:pt x="916" y="641"/>
                </a:lnTo>
                <a:lnTo>
                  <a:pt x="918" y="666"/>
                </a:lnTo>
                <a:lnTo>
                  <a:pt x="920" y="691"/>
                </a:lnTo>
                <a:lnTo>
                  <a:pt x="922" y="743"/>
                </a:lnTo>
                <a:lnTo>
                  <a:pt x="922" y="791"/>
                </a:lnTo>
                <a:lnTo>
                  <a:pt x="923" y="840"/>
                </a:lnTo>
                <a:lnTo>
                  <a:pt x="925" y="887"/>
                </a:lnTo>
                <a:lnTo>
                  <a:pt x="925" y="931"/>
                </a:lnTo>
                <a:lnTo>
                  <a:pt x="927" y="973"/>
                </a:lnTo>
                <a:lnTo>
                  <a:pt x="927" y="1015"/>
                </a:lnTo>
                <a:lnTo>
                  <a:pt x="927" y="1055"/>
                </a:lnTo>
                <a:lnTo>
                  <a:pt x="927" y="1094"/>
                </a:lnTo>
                <a:lnTo>
                  <a:pt x="927" y="1130"/>
                </a:lnTo>
                <a:lnTo>
                  <a:pt x="925" y="1165"/>
                </a:lnTo>
                <a:lnTo>
                  <a:pt x="925" y="1198"/>
                </a:lnTo>
                <a:lnTo>
                  <a:pt x="923" y="1228"/>
                </a:lnTo>
                <a:lnTo>
                  <a:pt x="923" y="1257"/>
                </a:lnTo>
                <a:lnTo>
                  <a:pt x="922" y="1286"/>
                </a:lnTo>
                <a:lnTo>
                  <a:pt x="920" y="1311"/>
                </a:lnTo>
                <a:lnTo>
                  <a:pt x="916" y="1336"/>
                </a:lnTo>
                <a:lnTo>
                  <a:pt x="914" y="1359"/>
                </a:lnTo>
                <a:lnTo>
                  <a:pt x="910" y="1382"/>
                </a:lnTo>
                <a:lnTo>
                  <a:pt x="908" y="1405"/>
                </a:lnTo>
                <a:lnTo>
                  <a:pt x="904" y="1426"/>
                </a:lnTo>
                <a:lnTo>
                  <a:pt x="900" y="1447"/>
                </a:lnTo>
                <a:lnTo>
                  <a:pt x="897" y="1468"/>
                </a:lnTo>
                <a:lnTo>
                  <a:pt x="891" y="1487"/>
                </a:lnTo>
                <a:lnTo>
                  <a:pt x="887" y="1507"/>
                </a:lnTo>
                <a:lnTo>
                  <a:pt x="881" y="1524"/>
                </a:lnTo>
                <a:lnTo>
                  <a:pt x="875" y="1541"/>
                </a:lnTo>
                <a:lnTo>
                  <a:pt x="872" y="1556"/>
                </a:lnTo>
                <a:lnTo>
                  <a:pt x="866" y="1574"/>
                </a:lnTo>
                <a:lnTo>
                  <a:pt x="858" y="1587"/>
                </a:lnTo>
                <a:lnTo>
                  <a:pt x="852" y="1601"/>
                </a:lnTo>
                <a:lnTo>
                  <a:pt x="847" y="1614"/>
                </a:lnTo>
                <a:lnTo>
                  <a:pt x="839" y="1626"/>
                </a:lnTo>
                <a:lnTo>
                  <a:pt x="833" y="1637"/>
                </a:lnTo>
                <a:lnTo>
                  <a:pt x="826" y="1649"/>
                </a:lnTo>
                <a:lnTo>
                  <a:pt x="820" y="1658"/>
                </a:lnTo>
                <a:lnTo>
                  <a:pt x="812" y="1668"/>
                </a:lnTo>
                <a:lnTo>
                  <a:pt x="806" y="1677"/>
                </a:lnTo>
                <a:lnTo>
                  <a:pt x="799" y="1685"/>
                </a:lnTo>
                <a:lnTo>
                  <a:pt x="793" y="1691"/>
                </a:lnTo>
                <a:lnTo>
                  <a:pt x="787" y="1698"/>
                </a:lnTo>
                <a:lnTo>
                  <a:pt x="781" y="1704"/>
                </a:lnTo>
                <a:lnTo>
                  <a:pt x="776" y="1708"/>
                </a:lnTo>
                <a:lnTo>
                  <a:pt x="770" y="1712"/>
                </a:lnTo>
                <a:lnTo>
                  <a:pt x="764" y="1716"/>
                </a:lnTo>
                <a:lnTo>
                  <a:pt x="758" y="1718"/>
                </a:lnTo>
                <a:lnTo>
                  <a:pt x="755" y="1720"/>
                </a:lnTo>
                <a:lnTo>
                  <a:pt x="749" y="1720"/>
                </a:lnTo>
                <a:lnTo>
                  <a:pt x="743" y="1718"/>
                </a:lnTo>
                <a:lnTo>
                  <a:pt x="737" y="1714"/>
                </a:lnTo>
                <a:lnTo>
                  <a:pt x="731" y="1710"/>
                </a:lnTo>
                <a:lnTo>
                  <a:pt x="728" y="1706"/>
                </a:lnTo>
                <a:lnTo>
                  <a:pt x="722" y="1702"/>
                </a:lnTo>
                <a:lnTo>
                  <a:pt x="718" y="1698"/>
                </a:lnTo>
                <a:lnTo>
                  <a:pt x="716" y="1693"/>
                </a:lnTo>
                <a:lnTo>
                  <a:pt x="714" y="1687"/>
                </a:lnTo>
                <a:lnTo>
                  <a:pt x="710" y="1679"/>
                </a:lnTo>
                <a:lnTo>
                  <a:pt x="710" y="1674"/>
                </a:lnTo>
                <a:lnTo>
                  <a:pt x="708" y="1666"/>
                </a:lnTo>
                <a:lnTo>
                  <a:pt x="708" y="1656"/>
                </a:lnTo>
                <a:lnTo>
                  <a:pt x="708" y="1647"/>
                </a:lnTo>
                <a:lnTo>
                  <a:pt x="710" y="1637"/>
                </a:lnTo>
                <a:lnTo>
                  <a:pt x="710" y="1626"/>
                </a:lnTo>
                <a:lnTo>
                  <a:pt x="714" y="1614"/>
                </a:lnTo>
                <a:lnTo>
                  <a:pt x="714" y="1601"/>
                </a:lnTo>
                <a:lnTo>
                  <a:pt x="714" y="1587"/>
                </a:lnTo>
                <a:lnTo>
                  <a:pt x="714" y="1572"/>
                </a:lnTo>
                <a:lnTo>
                  <a:pt x="710" y="1555"/>
                </a:lnTo>
                <a:lnTo>
                  <a:pt x="707" y="1537"/>
                </a:lnTo>
                <a:lnTo>
                  <a:pt x="701" y="1518"/>
                </a:lnTo>
                <a:lnTo>
                  <a:pt x="695" y="1497"/>
                </a:lnTo>
                <a:lnTo>
                  <a:pt x="687" y="1476"/>
                </a:lnTo>
                <a:lnTo>
                  <a:pt x="678" y="1453"/>
                </a:lnTo>
                <a:lnTo>
                  <a:pt x="666" y="1430"/>
                </a:lnTo>
                <a:lnTo>
                  <a:pt x="655" y="1403"/>
                </a:lnTo>
                <a:lnTo>
                  <a:pt x="643" y="1378"/>
                </a:lnTo>
                <a:lnTo>
                  <a:pt x="628" y="1349"/>
                </a:lnTo>
                <a:lnTo>
                  <a:pt x="614" y="1320"/>
                </a:lnTo>
                <a:lnTo>
                  <a:pt x="597" y="1290"/>
                </a:lnTo>
                <a:lnTo>
                  <a:pt x="580" y="1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21"/>
          <p:cNvSpPr/>
          <p:nvPr/>
        </p:nvSpPr>
        <p:spPr>
          <a:xfrm>
            <a:off x="6702480" y="3774960"/>
            <a:ext cx="149040" cy="1117800"/>
          </a:xfrm>
          <a:custGeom>
            <a:avLst/>
            <a:gdLst/>
            <a:ahLst/>
            <a:rect l="l" t="t" r="r" b="b"/>
            <a:pathLst>
              <a:path w="188" h="1407">
                <a:moveTo>
                  <a:pt x="19" y="194"/>
                </a:moveTo>
                <a:lnTo>
                  <a:pt x="15" y="173"/>
                </a:lnTo>
                <a:lnTo>
                  <a:pt x="11" y="156"/>
                </a:lnTo>
                <a:lnTo>
                  <a:pt x="7" y="139"/>
                </a:lnTo>
                <a:lnTo>
                  <a:pt x="5" y="121"/>
                </a:lnTo>
                <a:lnTo>
                  <a:pt x="3" y="106"/>
                </a:lnTo>
                <a:lnTo>
                  <a:pt x="2" y="93"/>
                </a:lnTo>
                <a:lnTo>
                  <a:pt x="0" y="79"/>
                </a:lnTo>
                <a:lnTo>
                  <a:pt x="0" y="66"/>
                </a:lnTo>
                <a:lnTo>
                  <a:pt x="0" y="56"/>
                </a:lnTo>
                <a:lnTo>
                  <a:pt x="0" y="45"/>
                </a:lnTo>
                <a:lnTo>
                  <a:pt x="0" y="37"/>
                </a:lnTo>
                <a:lnTo>
                  <a:pt x="0" y="29"/>
                </a:lnTo>
                <a:lnTo>
                  <a:pt x="2" y="21"/>
                </a:lnTo>
                <a:lnTo>
                  <a:pt x="3" y="16"/>
                </a:lnTo>
                <a:lnTo>
                  <a:pt x="5" y="12"/>
                </a:lnTo>
                <a:lnTo>
                  <a:pt x="7" y="8"/>
                </a:lnTo>
                <a:lnTo>
                  <a:pt x="9" y="6"/>
                </a:lnTo>
                <a:lnTo>
                  <a:pt x="13" y="4"/>
                </a:lnTo>
                <a:lnTo>
                  <a:pt x="19" y="2"/>
                </a:lnTo>
                <a:lnTo>
                  <a:pt x="25" y="2"/>
                </a:lnTo>
                <a:lnTo>
                  <a:pt x="32" y="0"/>
                </a:lnTo>
                <a:lnTo>
                  <a:pt x="42" y="0"/>
                </a:lnTo>
                <a:lnTo>
                  <a:pt x="51" y="0"/>
                </a:lnTo>
                <a:lnTo>
                  <a:pt x="61" y="2"/>
                </a:lnTo>
                <a:lnTo>
                  <a:pt x="73" y="2"/>
                </a:lnTo>
                <a:lnTo>
                  <a:pt x="86" y="6"/>
                </a:lnTo>
                <a:lnTo>
                  <a:pt x="101" y="8"/>
                </a:lnTo>
                <a:lnTo>
                  <a:pt x="117" y="12"/>
                </a:lnTo>
                <a:lnTo>
                  <a:pt x="132" y="16"/>
                </a:lnTo>
                <a:lnTo>
                  <a:pt x="149" y="21"/>
                </a:lnTo>
                <a:lnTo>
                  <a:pt x="168" y="27"/>
                </a:lnTo>
                <a:lnTo>
                  <a:pt x="188" y="35"/>
                </a:lnTo>
                <a:lnTo>
                  <a:pt x="188" y="71"/>
                </a:lnTo>
                <a:lnTo>
                  <a:pt x="188" y="106"/>
                </a:lnTo>
                <a:lnTo>
                  <a:pt x="188" y="142"/>
                </a:lnTo>
                <a:lnTo>
                  <a:pt x="188" y="177"/>
                </a:lnTo>
                <a:lnTo>
                  <a:pt x="188" y="212"/>
                </a:lnTo>
                <a:lnTo>
                  <a:pt x="188" y="244"/>
                </a:lnTo>
                <a:lnTo>
                  <a:pt x="188" y="277"/>
                </a:lnTo>
                <a:lnTo>
                  <a:pt x="188" y="309"/>
                </a:lnTo>
                <a:lnTo>
                  <a:pt x="188" y="342"/>
                </a:lnTo>
                <a:lnTo>
                  <a:pt x="188" y="375"/>
                </a:lnTo>
                <a:lnTo>
                  <a:pt x="188" y="405"/>
                </a:lnTo>
                <a:lnTo>
                  <a:pt x="188" y="436"/>
                </a:lnTo>
                <a:lnTo>
                  <a:pt x="188" y="465"/>
                </a:lnTo>
                <a:lnTo>
                  <a:pt x="188" y="494"/>
                </a:lnTo>
                <a:lnTo>
                  <a:pt x="188" y="524"/>
                </a:lnTo>
                <a:lnTo>
                  <a:pt x="188" y="551"/>
                </a:lnTo>
                <a:lnTo>
                  <a:pt x="188" y="580"/>
                </a:lnTo>
                <a:lnTo>
                  <a:pt x="188" y="607"/>
                </a:lnTo>
                <a:lnTo>
                  <a:pt x="188" y="634"/>
                </a:lnTo>
                <a:lnTo>
                  <a:pt x="188" y="661"/>
                </a:lnTo>
                <a:lnTo>
                  <a:pt x="188" y="686"/>
                </a:lnTo>
                <a:lnTo>
                  <a:pt x="188" y="711"/>
                </a:lnTo>
                <a:lnTo>
                  <a:pt x="188" y="736"/>
                </a:lnTo>
                <a:lnTo>
                  <a:pt x="188" y="760"/>
                </a:lnTo>
                <a:lnTo>
                  <a:pt x="188" y="784"/>
                </a:lnTo>
                <a:lnTo>
                  <a:pt x="188" y="807"/>
                </a:lnTo>
                <a:lnTo>
                  <a:pt x="188" y="830"/>
                </a:lnTo>
                <a:lnTo>
                  <a:pt x="188" y="853"/>
                </a:lnTo>
                <a:lnTo>
                  <a:pt x="188" y="874"/>
                </a:lnTo>
                <a:lnTo>
                  <a:pt x="188" y="895"/>
                </a:lnTo>
                <a:lnTo>
                  <a:pt x="188" y="916"/>
                </a:lnTo>
                <a:lnTo>
                  <a:pt x="186" y="935"/>
                </a:lnTo>
                <a:lnTo>
                  <a:pt x="186" y="954"/>
                </a:lnTo>
                <a:lnTo>
                  <a:pt x="186" y="974"/>
                </a:lnTo>
                <a:lnTo>
                  <a:pt x="186" y="993"/>
                </a:lnTo>
                <a:lnTo>
                  <a:pt x="186" y="1010"/>
                </a:lnTo>
                <a:lnTo>
                  <a:pt x="186" y="1027"/>
                </a:lnTo>
                <a:lnTo>
                  <a:pt x="186" y="1045"/>
                </a:lnTo>
                <a:lnTo>
                  <a:pt x="186" y="1062"/>
                </a:lnTo>
                <a:lnTo>
                  <a:pt x="186" y="1077"/>
                </a:lnTo>
                <a:lnTo>
                  <a:pt x="186" y="1093"/>
                </a:lnTo>
                <a:lnTo>
                  <a:pt x="184" y="1108"/>
                </a:lnTo>
                <a:lnTo>
                  <a:pt x="184" y="1121"/>
                </a:lnTo>
                <a:lnTo>
                  <a:pt x="184" y="1135"/>
                </a:lnTo>
                <a:lnTo>
                  <a:pt x="184" y="1148"/>
                </a:lnTo>
                <a:lnTo>
                  <a:pt x="184" y="1162"/>
                </a:lnTo>
                <a:lnTo>
                  <a:pt x="184" y="1173"/>
                </a:lnTo>
                <a:lnTo>
                  <a:pt x="184" y="1185"/>
                </a:lnTo>
                <a:lnTo>
                  <a:pt x="182" y="1196"/>
                </a:lnTo>
                <a:lnTo>
                  <a:pt x="182" y="1208"/>
                </a:lnTo>
                <a:lnTo>
                  <a:pt x="182" y="1217"/>
                </a:lnTo>
                <a:lnTo>
                  <a:pt x="182" y="1227"/>
                </a:lnTo>
                <a:lnTo>
                  <a:pt x="182" y="1237"/>
                </a:lnTo>
                <a:lnTo>
                  <a:pt x="180" y="1244"/>
                </a:lnTo>
                <a:lnTo>
                  <a:pt x="180" y="1252"/>
                </a:lnTo>
                <a:lnTo>
                  <a:pt x="180" y="1260"/>
                </a:lnTo>
                <a:lnTo>
                  <a:pt x="180" y="1267"/>
                </a:lnTo>
                <a:lnTo>
                  <a:pt x="178" y="1273"/>
                </a:lnTo>
                <a:lnTo>
                  <a:pt x="178" y="1279"/>
                </a:lnTo>
                <a:lnTo>
                  <a:pt x="178" y="1284"/>
                </a:lnTo>
                <a:lnTo>
                  <a:pt x="178" y="1290"/>
                </a:lnTo>
                <a:lnTo>
                  <a:pt x="176" y="1294"/>
                </a:lnTo>
                <a:lnTo>
                  <a:pt x="176" y="1298"/>
                </a:lnTo>
                <a:lnTo>
                  <a:pt x="176" y="1302"/>
                </a:lnTo>
                <a:lnTo>
                  <a:pt x="174" y="1313"/>
                </a:lnTo>
                <a:lnTo>
                  <a:pt x="170" y="1325"/>
                </a:lnTo>
                <a:lnTo>
                  <a:pt x="168" y="1336"/>
                </a:lnTo>
                <a:lnTo>
                  <a:pt x="165" y="1346"/>
                </a:lnTo>
                <a:lnTo>
                  <a:pt x="163" y="1356"/>
                </a:lnTo>
                <a:lnTo>
                  <a:pt x="159" y="1363"/>
                </a:lnTo>
                <a:lnTo>
                  <a:pt x="155" y="1371"/>
                </a:lnTo>
                <a:lnTo>
                  <a:pt x="151" y="1379"/>
                </a:lnTo>
                <a:lnTo>
                  <a:pt x="149" y="1386"/>
                </a:lnTo>
                <a:lnTo>
                  <a:pt x="145" y="1390"/>
                </a:lnTo>
                <a:lnTo>
                  <a:pt x="142" y="1396"/>
                </a:lnTo>
                <a:lnTo>
                  <a:pt x="138" y="1400"/>
                </a:lnTo>
                <a:lnTo>
                  <a:pt x="136" y="1404"/>
                </a:lnTo>
                <a:lnTo>
                  <a:pt x="132" y="1405"/>
                </a:lnTo>
                <a:lnTo>
                  <a:pt x="130" y="1407"/>
                </a:lnTo>
                <a:lnTo>
                  <a:pt x="128" y="1407"/>
                </a:lnTo>
                <a:lnTo>
                  <a:pt x="122" y="1407"/>
                </a:lnTo>
                <a:lnTo>
                  <a:pt x="119" y="1405"/>
                </a:lnTo>
                <a:lnTo>
                  <a:pt x="115" y="1404"/>
                </a:lnTo>
                <a:lnTo>
                  <a:pt x="109" y="1402"/>
                </a:lnTo>
                <a:lnTo>
                  <a:pt x="105" y="1400"/>
                </a:lnTo>
                <a:lnTo>
                  <a:pt x="101" y="1396"/>
                </a:lnTo>
                <a:lnTo>
                  <a:pt x="97" y="1390"/>
                </a:lnTo>
                <a:lnTo>
                  <a:pt x="94" y="1386"/>
                </a:lnTo>
                <a:lnTo>
                  <a:pt x="90" y="1380"/>
                </a:lnTo>
                <a:lnTo>
                  <a:pt x="86" y="1373"/>
                </a:lnTo>
                <a:lnTo>
                  <a:pt x="82" y="1365"/>
                </a:lnTo>
                <a:lnTo>
                  <a:pt x="78" y="1357"/>
                </a:lnTo>
                <a:lnTo>
                  <a:pt x="74" y="1348"/>
                </a:lnTo>
                <a:lnTo>
                  <a:pt x="73" y="1338"/>
                </a:lnTo>
                <a:lnTo>
                  <a:pt x="71" y="1327"/>
                </a:lnTo>
                <a:lnTo>
                  <a:pt x="67" y="1315"/>
                </a:lnTo>
                <a:lnTo>
                  <a:pt x="59" y="1296"/>
                </a:lnTo>
                <a:lnTo>
                  <a:pt x="51" y="1277"/>
                </a:lnTo>
                <a:lnTo>
                  <a:pt x="46" y="1260"/>
                </a:lnTo>
                <a:lnTo>
                  <a:pt x="40" y="1244"/>
                </a:lnTo>
                <a:lnTo>
                  <a:pt x="36" y="1229"/>
                </a:lnTo>
                <a:lnTo>
                  <a:pt x="34" y="1213"/>
                </a:lnTo>
                <a:lnTo>
                  <a:pt x="32" y="1198"/>
                </a:lnTo>
                <a:lnTo>
                  <a:pt x="32" y="1183"/>
                </a:lnTo>
                <a:lnTo>
                  <a:pt x="32" y="1181"/>
                </a:lnTo>
                <a:lnTo>
                  <a:pt x="32" y="1177"/>
                </a:lnTo>
                <a:lnTo>
                  <a:pt x="32" y="1173"/>
                </a:lnTo>
                <a:lnTo>
                  <a:pt x="32" y="1167"/>
                </a:lnTo>
                <a:lnTo>
                  <a:pt x="32" y="1162"/>
                </a:lnTo>
                <a:lnTo>
                  <a:pt x="32" y="1156"/>
                </a:lnTo>
                <a:lnTo>
                  <a:pt x="32" y="1148"/>
                </a:lnTo>
                <a:lnTo>
                  <a:pt x="32" y="1141"/>
                </a:lnTo>
                <a:lnTo>
                  <a:pt x="32" y="1133"/>
                </a:lnTo>
                <a:lnTo>
                  <a:pt x="32" y="1123"/>
                </a:lnTo>
                <a:lnTo>
                  <a:pt x="32" y="1114"/>
                </a:lnTo>
                <a:lnTo>
                  <a:pt x="32" y="1102"/>
                </a:lnTo>
                <a:lnTo>
                  <a:pt x="32" y="1093"/>
                </a:lnTo>
                <a:lnTo>
                  <a:pt x="32" y="1079"/>
                </a:lnTo>
                <a:lnTo>
                  <a:pt x="32" y="1068"/>
                </a:lnTo>
                <a:lnTo>
                  <a:pt x="32" y="1054"/>
                </a:lnTo>
                <a:lnTo>
                  <a:pt x="32" y="1041"/>
                </a:lnTo>
                <a:lnTo>
                  <a:pt x="34" y="1025"/>
                </a:lnTo>
                <a:lnTo>
                  <a:pt x="34" y="1010"/>
                </a:lnTo>
                <a:lnTo>
                  <a:pt x="34" y="995"/>
                </a:lnTo>
                <a:lnTo>
                  <a:pt x="34" y="977"/>
                </a:lnTo>
                <a:lnTo>
                  <a:pt x="36" y="960"/>
                </a:lnTo>
                <a:lnTo>
                  <a:pt x="36" y="943"/>
                </a:lnTo>
                <a:lnTo>
                  <a:pt x="36" y="924"/>
                </a:lnTo>
                <a:lnTo>
                  <a:pt x="38" y="904"/>
                </a:lnTo>
                <a:lnTo>
                  <a:pt x="38" y="883"/>
                </a:lnTo>
                <a:lnTo>
                  <a:pt x="38" y="862"/>
                </a:lnTo>
                <a:lnTo>
                  <a:pt x="40" y="841"/>
                </a:lnTo>
                <a:lnTo>
                  <a:pt x="40" y="818"/>
                </a:lnTo>
                <a:lnTo>
                  <a:pt x="42" y="795"/>
                </a:lnTo>
                <a:lnTo>
                  <a:pt x="42" y="772"/>
                </a:lnTo>
                <a:lnTo>
                  <a:pt x="44" y="747"/>
                </a:lnTo>
                <a:lnTo>
                  <a:pt x="46" y="699"/>
                </a:lnTo>
                <a:lnTo>
                  <a:pt x="48" y="653"/>
                </a:lnTo>
                <a:lnTo>
                  <a:pt x="48" y="607"/>
                </a:lnTo>
                <a:lnTo>
                  <a:pt x="48" y="565"/>
                </a:lnTo>
                <a:lnTo>
                  <a:pt x="48" y="522"/>
                </a:lnTo>
                <a:lnTo>
                  <a:pt x="48" y="484"/>
                </a:lnTo>
                <a:lnTo>
                  <a:pt x="46" y="446"/>
                </a:lnTo>
                <a:lnTo>
                  <a:pt x="44" y="411"/>
                </a:lnTo>
                <a:lnTo>
                  <a:pt x="42" y="377"/>
                </a:lnTo>
                <a:lnTo>
                  <a:pt x="40" y="346"/>
                </a:lnTo>
                <a:lnTo>
                  <a:pt x="38" y="315"/>
                </a:lnTo>
                <a:lnTo>
                  <a:pt x="34" y="288"/>
                </a:lnTo>
                <a:lnTo>
                  <a:pt x="32" y="261"/>
                </a:lnTo>
                <a:lnTo>
                  <a:pt x="28" y="236"/>
                </a:lnTo>
                <a:lnTo>
                  <a:pt x="23" y="213"/>
                </a:lnTo>
                <a:lnTo>
                  <a:pt x="19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22"/>
          <p:cNvSpPr/>
          <p:nvPr/>
        </p:nvSpPr>
        <p:spPr>
          <a:xfrm>
            <a:off x="6804000" y="4608360"/>
            <a:ext cx="538200" cy="127080"/>
          </a:xfrm>
          <a:custGeom>
            <a:avLst/>
            <a:gdLst/>
            <a:ahLst/>
            <a:rect l="l" t="t" r="r" b="b"/>
            <a:pathLst>
              <a:path w="678" h="160">
                <a:moveTo>
                  <a:pt x="0" y="68"/>
                </a:moveTo>
                <a:lnTo>
                  <a:pt x="42" y="60"/>
                </a:lnTo>
                <a:lnTo>
                  <a:pt x="83" y="52"/>
                </a:lnTo>
                <a:lnTo>
                  <a:pt x="121" y="46"/>
                </a:lnTo>
                <a:lnTo>
                  <a:pt x="158" y="39"/>
                </a:lnTo>
                <a:lnTo>
                  <a:pt x="194" y="33"/>
                </a:lnTo>
                <a:lnTo>
                  <a:pt x="227" y="29"/>
                </a:lnTo>
                <a:lnTo>
                  <a:pt x="259" y="23"/>
                </a:lnTo>
                <a:lnTo>
                  <a:pt x="290" y="20"/>
                </a:lnTo>
                <a:lnTo>
                  <a:pt x="319" y="14"/>
                </a:lnTo>
                <a:lnTo>
                  <a:pt x="346" y="12"/>
                </a:lnTo>
                <a:lnTo>
                  <a:pt x="371" y="8"/>
                </a:lnTo>
                <a:lnTo>
                  <a:pt x="394" y="6"/>
                </a:lnTo>
                <a:lnTo>
                  <a:pt x="417" y="4"/>
                </a:lnTo>
                <a:lnTo>
                  <a:pt x="436" y="2"/>
                </a:lnTo>
                <a:lnTo>
                  <a:pt x="455" y="0"/>
                </a:lnTo>
                <a:lnTo>
                  <a:pt x="472" y="0"/>
                </a:lnTo>
                <a:lnTo>
                  <a:pt x="486" y="2"/>
                </a:lnTo>
                <a:lnTo>
                  <a:pt x="499" y="2"/>
                </a:lnTo>
                <a:lnTo>
                  <a:pt x="513" y="4"/>
                </a:lnTo>
                <a:lnTo>
                  <a:pt x="526" y="8"/>
                </a:lnTo>
                <a:lnTo>
                  <a:pt x="540" y="12"/>
                </a:lnTo>
                <a:lnTo>
                  <a:pt x="553" y="18"/>
                </a:lnTo>
                <a:lnTo>
                  <a:pt x="566" y="23"/>
                </a:lnTo>
                <a:lnTo>
                  <a:pt x="580" y="31"/>
                </a:lnTo>
                <a:lnTo>
                  <a:pt x="591" y="39"/>
                </a:lnTo>
                <a:lnTo>
                  <a:pt x="605" y="46"/>
                </a:lnTo>
                <a:lnTo>
                  <a:pt x="618" y="56"/>
                </a:lnTo>
                <a:lnTo>
                  <a:pt x="630" y="68"/>
                </a:lnTo>
                <a:lnTo>
                  <a:pt x="641" y="79"/>
                </a:lnTo>
                <a:lnTo>
                  <a:pt x="655" y="92"/>
                </a:lnTo>
                <a:lnTo>
                  <a:pt x="666" y="106"/>
                </a:lnTo>
                <a:lnTo>
                  <a:pt x="678" y="119"/>
                </a:lnTo>
                <a:lnTo>
                  <a:pt x="338" y="140"/>
                </a:lnTo>
                <a:lnTo>
                  <a:pt x="0" y="160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23"/>
          <p:cNvSpPr/>
          <p:nvPr/>
        </p:nvSpPr>
        <p:spPr>
          <a:xfrm>
            <a:off x="6824520" y="4284720"/>
            <a:ext cx="439920" cy="136440"/>
          </a:xfrm>
          <a:custGeom>
            <a:avLst/>
            <a:gdLst/>
            <a:ahLst/>
            <a:rect l="l" t="t" r="r" b="b"/>
            <a:pathLst>
              <a:path w="555" h="173">
                <a:moveTo>
                  <a:pt x="0" y="81"/>
                </a:moveTo>
                <a:lnTo>
                  <a:pt x="23" y="75"/>
                </a:lnTo>
                <a:lnTo>
                  <a:pt x="46" y="70"/>
                </a:lnTo>
                <a:lnTo>
                  <a:pt x="67" y="66"/>
                </a:lnTo>
                <a:lnTo>
                  <a:pt x="88" y="62"/>
                </a:lnTo>
                <a:lnTo>
                  <a:pt x="110" y="56"/>
                </a:lnTo>
                <a:lnTo>
                  <a:pt x="131" y="52"/>
                </a:lnTo>
                <a:lnTo>
                  <a:pt x="150" y="48"/>
                </a:lnTo>
                <a:lnTo>
                  <a:pt x="169" y="45"/>
                </a:lnTo>
                <a:lnTo>
                  <a:pt x="188" y="41"/>
                </a:lnTo>
                <a:lnTo>
                  <a:pt x="206" y="39"/>
                </a:lnTo>
                <a:lnTo>
                  <a:pt x="223" y="35"/>
                </a:lnTo>
                <a:lnTo>
                  <a:pt x="238" y="31"/>
                </a:lnTo>
                <a:lnTo>
                  <a:pt x="255" y="29"/>
                </a:lnTo>
                <a:lnTo>
                  <a:pt x="269" y="25"/>
                </a:lnTo>
                <a:lnTo>
                  <a:pt x="284" y="24"/>
                </a:lnTo>
                <a:lnTo>
                  <a:pt x="298" y="20"/>
                </a:lnTo>
                <a:lnTo>
                  <a:pt x="311" y="18"/>
                </a:lnTo>
                <a:lnTo>
                  <a:pt x="325" y="16"/>
                </a:lnTo>
                <a:lnTo>
                  <a:pt x="336" y="14"/>
                </a:lnTo>
                <a:lnTo>
                  <a:pt x="348" y="12"/>
                </a:lnTo>
                <a:lnTo>
                  <a:pt x="359" y="10"/>
                </a:lnTo>
                <a:lnTo>
                  <a:pt x="369" y="8"/>
                </a:lnTo>
                <a:lnTo>
                  <a:pt x="378" y="6"/>
                </a:lnTo>
                <a:lnTo>
                  <a:pt x="386" y="6"/>
                </a:lnTo>
                <a:lnTo>
                  <a:pt x="396" y="4"/>
                </a:lnTo>
                <a:lnTo>
                  <a:pt x="403" y="4"/>
                </a:lnTo>
                <a:lnTo>
                  <a:pt x="409" y="2"/>
                </a:lnTo>
                <a:lnTo>
                  <a:pt x="415" y="2"/>
                </a:lnTo>
                <a:lnTo>
                  <a:pt x="420" y="2"/>
                </a:lnTo>
                <a:lnTo>
                  <a:pt x="426" y="0"/>
                </a:lnTo>
                <a:lnTo>
                  <a:pt x="430" y="0"/>
                </a:lnTo>
                <a:lnTo>
                  <a:pt x="434" y="0"/>
                </a:lnTo>
                <a:lnTo>
                  <a:pt x="453" y="10"/>
                </a:lnTo>
                <a:lnTo>
                  <a:pt x="463" y="16"/>
                </a:lnTo>
                <a:lnTo>
                  <a:pt x="472" y="22"/>
                </a:lnTo>
                <a:lnTo>
                  <a:pt x="482" y="25"/>
                </a:lnTo>
                <a:lnTo>
                  <a:pt x="493" y="31"/>
                </a:lnTo>
                <a:lnTo>
                  <a:pt x="507" y="35"/>
                </a:lnTo>
                <a:lnTo>
                  <a:pt x="518" y="41"/>
                </a:lnTo>
                <a:lnTo>
                  <a:pt x="528" y="47"/>
                </a:lnTo>
                <a:lnTo>
                  <a:pt x="534" y="52"/>
                </a:lnTo>
                <a:lnTo>
                  <a:pt x="541" y="60"/>
                </a:lnTo>
                <a:lnTo>
                  <a:pt x="545" y="68"/>
                </a:lnTo>
                <a:lnTo>
                  <a:pt x="549" y="73"/>
                </a:lnTo>
                <a:lnTo>
                  <a:pt x="553" y="81"/>
                </a:lnTo>
                <a:lnTo>
                  <a:pt x="555" y="87"/>
                </a:lnTo>
                <a:lnTo>
                  <a:pt x="555" y="93"/>
                </a:lnTo>
                <a:lnTo>
                  <a:pt x="553" y="96"/>
                </a:lnTo>
                <a:lnTo>
                  <a:pt x="549" y="98"/>
                </a:lnTo>
                <a:lnTo>
                  <a:pt x="543" y="102"/>
                </a:lnTo>
                <a:lnTo>
                  <a:pt x="538" y="106"/>
                </a:lnTo>
                <a:lnTo>
                  <a:pt x="530" y="108"/>
                </a:lnTo>
                <a:lnTo>
                  <a:pt x="520" y="112"/>
                </a:lnTo>
                <a:lnTo>
                  <a:pt x="511" y="116"/>
                </a:lnTo>
                <a:lnTo>
                  <a:pt x="501" y="119"/>
                </a:lnTo>
                <a:lnTo>
                  <a:pt x="490" y="123"/>
                </a:lnTo>
                <a:lnTo>
                  <a:pt x="476" y="127"/>
                </a:lnTo>
                <a:lnTo>
                  <a:pt x="461" y="131"/>
                </a:lnTo>
                <a:lnTo>
                  <a:pt x="445" y="135"/>
                </a:lnTo>
                <a:lnTo>
                  <a:pt x="430" y="137"/>
                </a:lnTo>
                <a:lnTo>
                  <a:pt x="413" y="141"/>
                </a:lnTo>
                <a:lnTo>
                  <a:pt x="394" y="143"/>
                </a:lnTo>
                <a:lnTo>
                  <a:pt x="374" y="146"/>
                </a:lnTo>
                <a:lnTo>
                  <a:pt x="282" y="156"/>
                </a:lnTo>
                <a:lnTo>
                  <a:pt x="238" y="160"/>
                </a:lnTo>
                <a:lnTo>
                  <a:pt x="190" y="164"/>
                </a:lnTo>
                <a:lnTo>
                  <a:pt x="144" y="167"/>
                </a:lnTo>
                <a:lnTo>
                  <a:pt x="96" y="169"/>
                </a:lnTo>
                <a:lnTo>
                  <a:pt x="48" y="171"/>
                </a:lnTo>
                <a:lnTo>
                  <a:pt x="0" y="173"/>
                </a:lnTo>
                <a:lnTo>
                  <a:pt x="0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24"/>
          <p:cNvSpPr/>
          <p:nvPr/>
        </p:nvSpPr>
        <p:spPr>
          <a:xfrm>
            <a:off x="6824520" y="4002120"/>
            <a:ext cx="411480" cy="114120"/>
          </a:xfrm>
          <a:custGeom>
            <a:avLst/>
            <a:gdLst/>
            <a:ahLst/>
            <a:rect l="l" t="t" r="r" b="b"/>
            <a:pathLst>
              <a:path w="518" h="144">
                <a:moveTo>
                  <a:pt x="192" y="39"/>
                </a:moveTo>
                <a:lnTo>
                  <a:pt x="225" y="29"/>
                </a:lnTo>
                <a:lnTo>
                  <a:pt x="255" y="21"/>
                </a:lnTo>
                <a:lnTo>
                  <a:pt x="286" y="16"/>
                </a:lnTo>
                <a:lnTo>
                  <a:pt x="317" y="10"/>
                </a:lnTo>
                <a:lnTo>
                  <a:pt x="346" y="6"/>
                </a:lnTo>
                <a:lnTo>
                  <a:pt x="373" y="2"/>
                </a:lnTo>
                <a:lnTo>
                  <a:pt x="386" y="0"/>
                </a:lnTo>
                <a:lnTo>
                  <a:pt x="397" y="0"/>
                </a:lnTo>
                <a:lnTo>
                  <a:pt x="411" y="0"/>
                </a:lnTo>
                <a:lnTo>
                  <a:pt x="422" y="0"/>
                </a:lnTo>
                <a:lnTo>
                  <a:pt x="434" y="0"/>
                </a:lnTo>
                <a:lnTo>
                  <a:pt x="444" y="0"/>
                </a:lnTo>
                <a:lnTo>
                  <a:pt x="453" y="0"/>
                </a:lnTo>
                <a:lnTo>
                  <a:pt x="463" y="2"/>
                </a:lnTo>
                <a:lnTo>
                  <a:pt x="470" y="4"/>
                </a:lnTo>
                <a:lnTo>
                  <a:pt x="480" y="4"/>
                </a:lnTo>
                <a:lnTo>
                  <a:pt x="486" y="6"/>
                </a:lnTo>
                <a:lnTo>
                  <a:pt x="493" y="8"/>
                </a:lnTo>
                <a:lnTo>
                  <a:pt x="499" y="10"/>
                </a:lnTo>
                <a:lnTo>
                  <a:pt x="505" y="12"/>
                </a:lnTo>
                <a:lnTo>
                  <a:pt x="509" y="14"/>
                </a:lnTo>
                <a:lnTo>
                  <a:pt x="513" y="16"/>
                </a:lnTo>
                <a:lnTo>
                  <a:pt x="515" y="20"/>
                </a:lnTo>
                <a:lnTo>
                  <a:pt x="516" y="21"/>
                </a:lnTo>
                <a:lnTo>
                  <a:pt x="518" y="23"/>
                </a:lnTo>
                <a:lnTo>
                  <a:pt x="518" y="27"/>
                </a:lnTo>
                <a:lnTo>
                  <a:pt x="518" y="31"/>
                </a:lnTo>
                <a:lnTo>
                  <a:pt x="516" y="37"/>
                </a:lnTo>
                <a:lnTo>
                  <a:pt x="515" y="41"/>
                </a:lnTo>
                <a:lnTo>
                  <a:pt x="513" y="46"/>
                </a:lnTo>
                <a:lnTo>
                  <a:pt x="509" y="50"/>
                </a:lnTo>
                <a:lnTo>
                  <a:pt x="505" y="56"/>
                </a:lnTo>
                <a:lnTo>
                  <a:pt x="499" y="60"/>
                </a:lnTo>
                <a:lnTo>
                  <a:pt x="493" y="66"/>
                </a:lnTo>
                <a:lnTo>
                  <a:pt x="486" y="69"/>
                </a:lnTo>
                <a:lnTo>
                  <a:pt x="480" y="75"/>
                </a:lnTo>
                <a:lnTo>
                  <a:pt x="470" y="81"/>
                </a:lnTo>
                <a:lnTo>
                  <a:pt x="463" y="85"/>
                </a:lnTo>
                <a:lnTo>
                  <a:pt x="453" y="91"/>
                </a:lnTo>
                <a:lnTo>
                  <a:pt x="444" y="94"/>
                </a:lnTo>
                <a:lnTo>
                  <a:pt x="434" y="100"/>
                </a:lnTo>
                <a:lnTo>
                  <a:pt x="422" y="106"/>
                </a:lnTo>
                <a:lnTo>
                  <a:pt x="417" y="108"/>
                </a:lnTo>
                <a:lnTo>
                  <a:pt x="409" y="110"/>
                </a:lnTo>
                <a:lnTo>
                  <a:pt x="403" y="112"/>
                </a:lnTo>
                <a:lnTo>
                  <a:pt x="396" y="114"/>
                </a:lnTo>
                <a:lnTo>
                  <a:pt x="388" y="117"/>
                </a:lnTo>
                <a:lnTo>
                  <a:pt x="380" y="119"/>
                </a:lnTo>
                <a:lnTo>
                  <a:pt x="371" y="121"/>
                </a:lnTo>
                <a:lnTo>
                  <a:pt x="361" y="123"/>
                </a:lnTo>
                <a:lnTo>
                  <a:pt x="351" y="125"/>
                </a:lnTo>
                <a:lnTo>
                  <a:pt x="342" y="127"/>
                </a:lnTo>
                <a:lnTo>
                  <a:pt x="319" y="129"/>
                </a:lnTo>
                <a:lnTo>
                  <a:pt x="296" y="133"/>
                </a:lnTo>
                <a:lnTo>
                  <a:pt x="269" y="135"/>
                </a:lnTo>
                <a:lnTo>
                  <a:pt x="242" y="137"/>
                </a:lnTo>
                <a:lnTo>
                  <a:pt x="213" y="139"/>
                </a:lnTo>
                <a:lnTo>
                  <a:pt x="181" y="140"/>
                </a:lnTo>
                <a:lnTo>
                  <a:pt x="148" y="142"/>
                </a:lnTo>
                <a:lnTo>
                  <a:pt x="113" y="144"/>
                </a:lnTo>
                <a:lnTo>
                  <a:pt x="77" y="144"/>
                </a:lnTo>
                <a:lnTo>
                  <a:pt x="39" y="144"/>
                </a:lnTo>
                <a:lnTo>
                  <a:pt x="0" y="144"/>
                </a:lnTo>
                <a:lnTo>
                  <a:pt x="0" y="66"/>
                </a:lnTo>
                <a:lnTo>
                  <a:pt x="6" y="66"/>
                </a:lnTo>
                <a:lnTo>
                  <a:pt x="14" y="66"/>
                </a:lnTo>
                <a:lnTo>
                  <a:pt x="23" y="64"/>
                </a:lnTo>
                <a:lnTo>
                  <a:pt x="33" y="64"/>
                </a:lnTo>
                <a:lnTo>
                  <a:pt x="42" y="62"/>
                </a:lnTo>
                <a:lnTo>
                  <a:pt x="54" y="62"/>
                </a:lnTo>
                <a:lnTo>
                  <a:pt x="65" y="60"/>
                </a:lnTo>
                <a:lnTo>
                  <a:pt x="77" y="58"/>
                </a:lnTo>
                <a:lnTo>
                  <a:pt x="90" y="56"/>
                </a:lnTo>
                <a:lnTo>
                  <a:pt x="104" y="54"/>
                </a:lnTo>
                <a:lnTo>
                  <a:pt x="117" y="52"/>
                </a:lnTo>
                <a:lnTo>
                  <a:pt x="131" y="48"/>
                </a:lnTo>
                <a:lnTo>
                  <a:pt x="161" y="45"/>
                </a:lnTo>
                <a:lnTo>
                  <a:pt x="192" y="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25"/>
          <p:cNvSpPr/>
          <p:nvPr/>
        </p:nvSpPr>
        <p:spPr>
          <a:xfrm>
            <a:off x="6996240" y="3081240"/>
            <a:ext cx="239760" cy="720720"/>
          </a:xfrm>
          <a:custGeom>
            <a:avLst/>
            <a:gdLst/>
            <a:ahLst/>
            <a:rect l="l" t="t" r="r" b="b"/>
            <a:pathLst>
              <a:path w="301" h="910">
                <a:moveTo>
                  <a:pt x="60" y="79"/>
                </a:moveTo>
                <a:lnTo>
                  <a:pt x="56" y="77"/>
                </a:lnTo>
                <a:lnTo>
                  <a:pt x="52" y="73"/>
                </a:lnTo>
                <a:lnTo>
                  <a:pt x="50" y="69"/>
                </a:lnTo>
                <a:lnTo>
                  <a:pt x="46" y="67"/>
                </a:lnTo>
                <a:lnTo>
                  <a:pt x="44" y="63"/>
                </a:lnTo>
                <a:lnTo>
                  <a:pt x="42" y="60"/>
                </a:lnTo>
                <a:lnTo>
                  <a:pt x="40" y="52"/>
                </a:lnTo>
                <a:lnTo>
                  <a:pt x="40" y="44"/>
                </a:lnTo>
                <a:lnTo>
                  <a:pt x="42" y="38"/>
                </a:lnTo>
                <a:lnTo>
                  <a:pt x="44" y="31"/>
                </a:lnTo>
                <a:lnTo>
                  <a:pt x="48" y="27"/>
                </a:lnTo>
                <a:lnTo>
                  <a:pt x="54" y="21"/>
                </a:lnTo>
                <a:lnTo>
                  <a:pt x="60" y="15"/>
                </a:lnTo>
                <a:lnTo>
                  <a:pt x="67" y="12"/>
                </a:lnTo>
                <a:lnTo>
                  <a:pt x="75" y="8"/>
                </a:lnTo>
                <a:lnTo>
                  <a:pt x="84" y="4"/>
                </a:lnTo>
                <a:lnTo>
                  <a:pt x="96" y="2"/>
                </a:lnTo>
                <a:lnTo>
                  <a:pt x="108" y="0"/>
                </a:lnTo>
                <a:lnTo>
                  <a:pt x="121" y="0"/>
                </a:lnTo>
                <a:lnTo>
                  <a:pt x="134" y="0"/>
                </a:lnTo>
                <a:lnTo>
                  <a:pt x="148" y="2"/>
                </a:lnTo>
                <a:lnTo>
                  <a:pt x="161" y="4"/>
                </a:lnTo>
                <a:lnTo>
                  <a:pt x="175" y="8"/>
                </a:lnTo>
                <a:lnTo>
                  <a:pt x="188" y="12"/>
                </a:lnTo>
                <a:lnTo>
                  <a:pt x="202" y="15"/>
                </a:lnTo>
                <a:lnTo>
                  <a:pt x="230" y="27"/>
                </a:lnTo>
                <a:lnTo>
                  <a:pt x="242" y="37"/>
                </a:lnTo>
                <a:lnTo>
                  <a:pt x="253" y="46"/>
                </a:lnTo>
                <a:lnTo>
                  <a:pt x="265" y="56"/>
                </a:lnTo>
                <a:lnTo>
                  <a:pt x="275" y="65"/>
                </a:lnTo>
                <a:lnTo>
                  <a:pt x="284" y="75"/>
                </a:lnTo>
                <a:lnTo>
                  <a:pt x="290" y="85"/>
                </a:lnTo>
                <a:lnTo>
                  <a:pt x="298" y="96"/>
                </a:lnTo>
                <a:lnTo>
                  <a:pt x="301" y="106"/>
                </a:lnTo>
                <a:lnTo>
                  <a:pt x="301" y="108"/>
                </a:lnTo>
                <a:lnTo>
                  <a:pt x="301" y="113"/>
                </a:lnTo>
                <a:lnTo>
                  <a:pt x="299" y="119"/>
                </a:lnTo>
                <a:lnTo>
                  <a:pt x="298" y="127"/>
                </a:lnTo>
                <a:lnTo>
                  <a:pt x="296" y="134"/>
                </a:lnTo>
                <a:lnTo>
                  <a:pt x="294" y="146"/>
                </a:lnTo>
                <a:lnTo>
                  <a:pt x="292" y="157"/>
                </a:lnTo>
                <a:lnTo>
                  <a:pt x="288" y="169"/>
                </a:lnTo>
                <a:lnTo>
                  <a:pt x="284" y="184"/>
                </a:lnTo>
                <a:lnTo>
                  <a:pt x="280" y="200"/>
                </a:lnTo>
                <a:lnTo>
                  <a:pt x="276" y="217"/>
                </a:lnTo>
                <a:lnTo>
                  <a:pt x="271" y="236"/>
                </a:lnTo>
                <a:lnTo>
                  <a:pt x="265" y="255"/>
                </a:lnTo>
                <a:lnTo>
                  <a:pt x="259" y="276"/>
                </a:lnTo>
                <a:lnTo>
                  <a:pt x="253" y="300"/>
                </a:lnTo>
                <a:lnTo>
                  <a:pt x="246" y="324"/>
                </a:lnTo>
                <a:lnTo>
                  <a:pt x="240" y="349"/>
                </a:lnTo>
                <a:lnTo>
                  <a:pt x="232" y="376"/>
                </a:lnTo>
                <a:lnTo>
                  <a:pt x="225" y="405"/>
                </a:lnTo>
                <a:lnTo>
                  <a:pt x="215" y="436"/>
                </a:lnTo>
                <a:lnTo>
                  <a:pt x="207" y="467"/>
                </a:lnTo>
                <a:lnTo>
                  <a:pt x="198" y="501"/>
                </a:lnTo>
                <a:lnTo>
                  <a:pt x="188" y="534"/>
                </a:lnTo>
                <a:lnTo>
                  <a:pt x="179" y="570"/>
                </a:lnTo>
                <a:lnTo>
                  <a:pt x="167" y="609"/>
                </a:lnTo>
                <a:lnTo>
                  <a:pt x="157" y="647"/>
                </a:lnTo>
                <a:lnTo>
                  <a:pt x="146" y="687"/>
                </a:lnTo>
                <a:lnTo>
                  <a:pt x="134" y="728"/>
                </a:lnTo>
                <a:lnTo>
                  <a:pt x="123" y="772"/>
                </a:lnTo>
                <a:lnTo>
                  <a:pt x="109" y="816"/>
                </a:lnTo>
                <a:lnTo>
                  <a:pt x="98" y="862"/>
                </a:lnTo>
                <a:lnTo>
                  <a:pt x="84" y="910"/>
                </a:lnTo>
                <a:lnTo>
                  <a:pt x="42" y="910"/>
                </a:lnTo>
                <a:lnTo>
                  <a:pt x="0" y="910"/>
                </a:lnTo>
                <a:lnTo>
                  <a:pt x="4" y="875"/>
                </a:lnTo>
                <a:lnTo>
                  <a:pt x="8" y="843"/>
                </a:lnTo>
                <a:lnTo>
                  <a:pt x="12" y="810"/>
                </a:lnTo>
                <a:lnTo>
                  <a:pt x="17" y="777"/>
                </a:lnTo>
                <a:lnTo>
                  <a:pt x="21" y="747"/>
                </a:lnTo>
                <a:lnTo>
                  <a:pt x="25" y="718"/>
                </a:lnTo>
                <a:lnTo>
                  <a:pt x="27" y="687"/>
                </a:lnTo>
                <a:lnTo>
                  <a:pt x="31" y="660"/>
                </a:lnTo>
                <a:lnTo>
                  <a:pt x="35" y="632"/>
                </a:lnTo>
                <a:lnTo>
                  <a:pt x="38" y="607"/>
                </a:lnTo>
                <a:lnTo>
                  <a:pt x="40" y="580"/>
                </a:lnTo>
                <a:lnTo>
                  <a:pt x="44" y="555"/>
                </a:lnTo>
                <a:lnTo>
                  <a:pt x="48" y="530"/>
                </a:lnTo>
                <a:lnTo>
                  <a:pt x="50" y="507"/>
                </a:lnTo>
                <a:lnTo>
                  <a:pt x="52" y="486"/>
                </a:lnTo>
                <a:lnTo>
                  <a:pt x="56" y="463"/>
                </a:lnTo>
                <a:lnTo>
                  <a:pt x="58" y="442"/>
                </a:lnTo>
                <a:lnTo>
                  <a:pt x="60" y="422"/>
                </a:lnTo>
                <a:lnTo>
                  <a:pt x="63" y="403"/>
                </a:lnTo>
                <a:lnTo>
                  <a:pt x="65" y="384"/>
                </a:lnTo>
                <a:lnTo>
                  <a:pt x="67" y="367"/>
                </a:lnTo>
                <a:lnTo>
                  <a:pt x="69" y="349"/>
                </a:lnTo>
                <a:lnTo>
                  <a:pt x="71" y="334"/>
                </a:lnTo>
                <a:lnTo>
                  <a:pt x="73" y="319"/>
                </a:lnTo>
                <a:lnTo>
                  <a:pt x="75" y="303"/>
                </a:lnTo>
                <a:lnTo>
                  <a:pt x="77" y="290"/>
                </a:lnTo>
                <a:lnTo>
                  <a:pt x="77" y="276"/>
                </a:lnTo>
                <a:lnTo>
                  <a:pt x="79" y="265"/>
                </a:lnTo>
                <a:lnTo>
                  <a:pt x="81" y="253"/>
                </a:lnTo>
                <a:lnTo>
                  <a:pt x="83" y="244"/>
                </a:lnTo>
                <a:lnTo>
                  <a:pt x="83" y="232"/>
                </a:lnTo>
                <a:lnTo>
                  <a:pt x="84" y="225"/>
                </a:lnTo>
                <a:lnTo>
                  <a:pt x="86" y="207"/>
                </a:lnTo>
                <a:lnTo>
                  <a:pt x="88" y="192"/>
                </a:lnTo>
                <a:lnTo>
                  <a:pt x="88" y="177"/>
                </a:lnTo>
                <a:lnTo>
                  <a:pt x="88" y="165"/>
                </a:lnTo>
                <a:lnTo>
                  <a:pt x="88" y="152"/>
                </a:lnTo>
                <a:lnTo>
                  <a:pt x="88" y="140"/>
                </a:lnTo>
                <a:lnTo>
                  <a:pt x="86" y="131"/>
                </a:lnTo>
                <a:lnTo>
                  <a:pt x="86" y="121"/>
                </a:lnTo>
                <a:lnTo>
                  <a:pt x="84" y="113"/>
                </a:lnTo>
                <a:lnTo>
                  <a:pt x="81" y="106"/>
                </a:lnTo>
                <a:lnTo>
                  <a:pt x="79" y="100"/>
                </a:lnTo>
                <a:lnTo>
                  <a:pt x="75" y="94"/>
                </a:lnTo>
                <a:lnTo>
                  <a:pt x="73" y="88"/>
                </a:lnTo>
                <a:lnTo>
                  <a:pt x="69" y="85"/>
                </a:lnTo>
                <a:lnTo>
                  <a:pt x="65" y="81"/>
                </a:lnTo>
                <a:lnTo>
                  <a:pt x="60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26"/>
          <p:cNvSpPr/>
          <p:nvPr/>
        </p:nvSpPr>
        <p:spPr>
          <a:xfrm>
            <a:off x="6573960" y="3300480"/>
            <a:ext cx="1117440" cy="239760"/>
          </a:xfrm>
          <a:custGeom>
            <a:avLst/>
            <a:gdLst/>
            <a:ahLst/>
            <a:rect l="l" t="t" r="r" b="b"/>
            <a:pathLst>
              <a:path w="1407" h="304">
                <a:moveTo>
                  <a:pt x="133" y="304"/>
                </a:moveTo>
                <a:lnTo>
                  <a:pt x="127" y="304"/>
                </a:lnTo>
                <a:lnTo>
                  <a:pt x="123" y="302"/>
                </a:lnTo>
                <a:lnTo>
                  <a:pt x="117" y="300"/>
                </a:lnTo>
                <a:lnTo>
                  <a:pt x="110" y="296"/>
                </a:lnTo>
                <a:lnTo>
                  <a:pt x="104" y="292"/>
                </a:lnTo>
                <a:lnTo>
                  <a:pt x="96" y="288"/>
                </a:lnTo>
                <a:lnTo>
                  <a:pt x="89" y="283"/>
                </a:lnTo>
                <a:lnTo>
                  <a:pt x="79" y="275"/>
                </a:lnTo>
                <a:lnTo>
                  <a:pt x="71" y="267"/>
                </a:lnTo>
                <a:lnTo>
                  <a:pt x="62" y="258"/>
                </a:lnTo>
                <a:lnTo>
                  <a:pt x="52" y="248"/>
                </a:lnTo>
                <a:lnTo>
                  <a:pt x="43" y="239"/>
                </a:lnTo>
                <a:lnTo>
                  <a:pt x="33" y="225"/>
                </a:lnTo>
                <a:lnTo>
                  <a:pt x="21" y="214"/>
                </a:lnTo>
                <a:lnTo>
                  <a:pt x="12" y="200"/>
                </a:lnTo>
                <a:lnTo>
                  <a:pt x="0" y="185"/>
                </a:lnTo>
                <a:lnTo>
                  <a:pt x="31" y="183"/>
                </a:lnTo>
                <a:lnTo>
                  <a:pt x="62" y="179"/>
                </a:lnTo>
                <a:lnTo>
                  <a:pt x="96" y="175"/>
                </a:lnTo>
                <a:lnTo>
                  <a:pt x="131" y="171"/>
                </a:lnTo>
                <a:lnTo>
                  <a:pt x="169" y="166"/>
                </a:lnTo>
                <a:lnTo>
                  <a:pt x="208" y="160"/>
                </a:lnTo>
                <a:lnTo>
                  <a:pt x="229" y="156"/>
                </a:lnTo>
                <a:lnTo>
                  <a:pt x="250" y="154"/>
                </a:lnTo>
                <a:lnTo>
                  <a:pt x="271" y="150"/>
                </a:lnTo>
                <a:lnTo>
                  <a:pt x="292" y="146"/>
                </a:lnTo>
                <a:lnTo>
                  <a:pt x="315" y="143"/>
                </a:lnTo>
                <a:lnTo>
                  <a:pt x="338" y="139"/>
                </a:lnTo>
                <a:lnTo>
                  <a:pt x="361" y="135"/>
                </a:lnTo>
                <a:lnTo>
                  <a:pt x="386" y="131"/>
                </a:lnTo>
                <a:lnTo>
                  <a:pt x="409" y="125"/>
                </a:lnTo>
                <a:lnTo>
                  <a:pt x="434" y="121"/>
                </a:lnTo>
                <a:lnTo>
                  <a:pt x="459" y="116"/>
                </a:lnTo>
                <a:lnTo>
                  <a:pt x="486" y="112"/>
                </a:lnTo>
                <a:lnTo>
                  <a:pt x="513" y="106"/>
                </a:lnTo>
                <a:lnTo>
                  <a:pt x="540" y="102"/>
                </a:lnTo>
                <a:lnTo>
                  <a:pt x="567" y="96"/>
                </a:lnTo>
                <a:lnTo>
                  <a:pt x="595" y="91"/>
                </a:lnTo>
                <a:lnTo>
                  <a:pt x="624" y="85"/>
                </a:lnTo>
                <a:lnTo>
                  <a:pt x="653" y="79"/>
                </a:lnTo>
                <a:lnTo>
                  <a:pt x="682" y="73"/>
                </a:lnTo>
                <a:lnTo>
                  <a:pt x="712" y="68"/>
                </a:lnTo>
                <a:lnTo>
                  <a:pt x="743" y="60"/>
                </a:lnTo>
                <a:lnTo>
                  <a:pt x="772" y="54"/>
                </a:lnTo>
                <a:lnTo>
                  <a:pt x="801" y="48"/>
                </a:lnTo>
                <a:lnTo>
                  <a:pt x="830" y="45"/>
                </a:lnTo>
                <a:lnTo>
                  <a:pt x="856" y="39"/>
                </a:lnTo>
                <a:lnTo>
                  <a:pt x="883" y="35"/>
                </a:lnTo>
                <a:lnTo>
                  <a:pt x="908" y="31"/>
                </a:lnTo>
                <a:lnTo>
                  <a:pt x="933" y="25"/>
                </a:lnTo>
                <a:lnTo>
                  <a:pt x="956" y="24"/>
                </a:lnTo>
                <a:lnTo>
                  <a:pt x="979" y="20"/>
                </a:lnTo>
                <a:lnTo>
                  <a:pt x="1002" y="16"/>
                </a:lnTo>
                <a:lnTo>
                  <a:pt x="1023" y="14"/>
                </a:lnTo>
                <a:lnTo>
                  <a:pt x="1045" y="10"/>
                </a:lnTo>
                <a:lnTo>
                  <a:pt x="1066" y="8"/>
                </a:lnTo>
                <a:lnTo>
                  <a:pt x="1085" y="6"/>
                </a:lnTo>
                <a:lnTo>
                  <a:pt x="1102" y="4"/>
                </a:lnTo>
                <a:lnTo>
                  <a:pt x="1121" y="4"/>
                </a:lnTo>
                <a:lnTo>
                  <a:pt x="1139" y="2"/>
                </a:lnTo>
                <a:lnTo>
                  <a:pt x="1154" y="2"/>
                </a:lnTo>
                <a:lnTo>
                  <a:pt x="1169" y="0"/>
                </a:lnTo>
                <a:lnTo>
                  <a:pt x="1185" y="0"/>
                </a:lnTo>
                <a:lnTo>
                  <a:pt x="1198" y="0"/>
                </a:lnTo>
                <a:lnTo>
                  <a:pt x="1212" y="0"/>
                </a:lnTo>
                <a:lnTo>
                  <a:pt x="1223" y="0"/>
                </a:lnTo>
                <a:lnTo>
                  <a:pt x="1235" y="2"/>
                </a:lnTo>
                <a:lnTo>
                  <a:pt x="1246" y="2"/>
                </a:lnTo>
                <a:lnTo>
                  <a:pt x="1256" y="4"/>
                </a:lnTo>
                <a:lnTo>
                  <a:pt x="1265" y="6"/>
                </a:lnTo>
                <a:lnTo>
                  <a:pt x="1273" y="8"/>
                </a:lnTo>
                <a:lnTo>
                  <a:pt x="1281" y="10"/>
                </a:lnTo>
                <a:lnTo>
                  <a:pt x="1286" y="12"/>
                </a:lnTo>
                <a:lnTo>
                  <a:pt x="1294" y="14"/>
                </a:lnTo>
                <a:lnTo>
                  <a:pt x="1304" y="20"/>
                </a:lnTo>
                <a:lnTo>
                  <a:pt x="1315" y="24"/>
                </a:lnTo>
                <a:lnTo>
                  <a:pt x="1325" y="29"/>
                </a:lnTo>
                <a:lnTo>
                  <a:pt x="1334" y="33"/>
                </a:lnTo>
                <a:lnTo>
                  <a:pt x="1342" y="39"/>
                </a:lnTo>
                <a:lnTo>
                  <a:pt x="1352" y="43"/>
                </a:lnTo>
                <a:lnTo>
                  <a:pt x="1359" y="48"/>
                </a:lnTo>
                <a:lnTo>
                  <a:pt x="1365" y="52"/>
                </a:lnTo>
                <a:lnTo>
                  <a:pt x="1373" y="56"/>
                </a:lnTo>
                <a:lnTo>
                  <a:pt x="1378" y="60"/>
                </a:lnTo>
                <a:lnTo>
                  <a:pt x="1384" y="64"/>
                </a:lnTo>
                <a:lnTo>
                  <a:pt x="1388" y="68"/>
                </a:lnTo>
                <a:lnTo>
                  <a:pt x="1392" y="72"/>
                </a:lnTo>
                <a:lnTo>
                  <a:pt x="1396" y="75"/>
                </a:lnTo>
                <a:lnTo>
                  <a:pt x="1400" y="77"/>
                </a:lnTo>
                <a:lnTo>
                  <a:pt x="1402" y="81"/>
                </a:lnTo>
                <a:lnTo>
                  <a:pt x="1403" y="85"/>
                </a:lnTo>
                <a:lnTo>
                  <a:pt x="1405" y="89"/>
                </a:lnTo>
                <a:lnTo>
                  <a:pt x="1407" y="95"/>
                </a:lnTo>
                <a:lnTo>
                  <a:pt x="1407" y="98"/>
                </a:lnTo>
                <a:lnTo>
                  <a:pt x="1407" y="102"/>
                </a:lnTo>
                <a:lnTo>
                  <a:pt x="1405" y="104"/>
                </a:lnTo>
                <a:lnTo>
                  <a:pt x="1403" y="112"/>
                </a:lnTo>
                <a:lnTo>
                  <a:pt x="1400" y="118"/>
                </a:lnTo>
                <a:lnTo>
                  <a:pt x="1394" y="123"/>
                </a:lnTo>
                <a:lnTo>
                  <a:pt x="1386" y="127"/>
                </a:lnTo>
                <a:lnTo>
                  <a:pt x="1378" y="133"/>
                </a:lnTo>
                <a:lnTo>
                  <a:pt x="1373" y="135"/>
                </a:lnTo>
                <a:lnTo>
                  <a:pt x="1367" y="137"/>
                </a:lnTo>
                <a:lnTo>
                  <a:pt x="1361" y="139"/>
                </a:lnTo>
                <a:lnTo>
                  <a:pt x="1355" y="141"/>
                </a:lnTo>
                <a:lnTo>
                  <a:pt x="1348" y="141"/>
                </a:lnTo>
                <a:lnTo>
                  <a:pt x="1340" y="143"/>
                </a:lnTo>
                <a:lnTo>
                  <a:pt x="1331" y="144"/>
                </a:lnTo>
                <a:lnTo>
                  <a:pt x="1321" y="144"/>
                </a:lnTo>
                <a:lnTo>
                  <a:pt x="1311" y="144"/>
                </a:lnTo>
                <a:lnTo>
                  <a:pt x="1302" y="144"/>
                </a:lnTo>
                <a:lnTo>
                  <a:pt x="1290" y="146"/>
                </a:lnTo>
                <a:lnTo>
                  <a:pt x="1277" y="146"/>
                </a:lnTo>
                <a:lnTo>
                  <a:pt x="1265" y="146"/>
                </a:lnTo>
                <a:lnTo>
                  <a:pt x="1250" y="146"/>
                </a:lnTo>
                <a:lnTo>
                  <a:pt x="1236" y="146"/>
                </a:lnTo>
                <a:lnTo>
                  <a:pt x="1221" y="146"/>
                </a:lnTo>
                <a:lnTo>
                  <a:pt x="1212" y="146"/>
                </a:lnTo>
                <a:lnTo>
                  <a:pt x="1204" y="146"/>
                </a:lnTo>
                <a:lnTo>
                  <a:pt x="1194" y="146"/>
                </a:lnTo>
                <a:lnTo>
                  <a:pt x="1185" y="146"/>
                </a:lnTo>
                <a:lnTo>
                  <a:pt x="1173" y="148"/>
                </a:lnTo>
                <a:lnTo>
                  <a:pt x="1162" y="148"/>
                </a:lnTo>
                <a:lnTo>
                  <a:pt x="1150" y="150"/>
                </a:lnTo>
                <a:lnTo>
                  <a:pt x="1137" y="150"/>
                </a:lnTo>
                <a:lnTo>
                  <a:pt x="1123" y="152"/>
                </a:lnTo>
                <a:lnTo>
                  <a:pt x="1110" y="154"/>
                </a:lnTo>
                <a:lnTo>
                  <a:pt x="1094" y="156"/>
                </a:lnTo>
                <a:lnTo>
                  <a:pt x="1079" y="156"/>
                </a:lnTo>
                <a:lnTo>
                  <a:pt x="1064" y="158"/>
                </a:lnTo>
                <a:lnTo>
                  <a:pt x="1046" y="162"/>
                </a:lnTo>
                <a:lnTo>
                  <a:pt x="1029" y="164"/>
                </a:lnTo>
                <a:lnTo>
                  <a:pt x="1012" y="166"/>
                </a:lnTo>
                <a:lnTo>
                  <a:pt x="993" y="167"/>
                </a:lnTo>
                <a:lnTo>
                  <a:pt x="975" y="171"/>
                </a:lnTo>
                <a:lnTo>
                  <a:pt x="954" y="173"/>
                </a:lnTo>
                <a:lnTo>
                  <a:pt x="935" y="177"/>
                </a:lnTo>
                <a:lnTo>
                  <a:pt x="914" y="179"/>
                </a:lnTo>
                <a:lnTo>
                  <a:pt x="891" y="183"/>
                </a:lnTo>
                <a:lnTo>
                  <a:pt x="870" y="187"/>
                </a:lnTo>
                <a:lnTo>
                  <a:pt x="847" y="191"/>
                </a:lnTo>
                <a:lnTo>
                  <a:pt x="824" y="194"/>
                </a:lnTo>
                <a:lnTo>
                  <a:pt x="799" y="198"/>
                </a:lnTo>
                <a:lnTo>
                  <a:pt x="774" y="202"/>
                </a:lnTo>
                <a:lnTo>
                  <a:pt x="749" y="206"/>
                </a:lnTo>
                <a:lnTo>
                  <a:pt x="722" y="212"/>
                </a:lnTo>
                <a:lnTo>
                  <a:pt x="695" y="215"/>
                </a:lnTo>
                <a:lnTo>
                  <a:pt x="668" y="219"/>
                </a:lnTo>
                <a:lnTo>
                  <a:pt x="641" y="225"/>
                </a:lnTo>
                <a:lnTo>
                  <a:pt x="611" y="231"/>
                </a:lnTo>
                <a:lnTo>
                  <a:pt x="584" y="235"/>
                </a:lnTo>
                <a:lnTo>
                  <a:pt x="555" y="240"/>
                </a:lnTo>
                <a:lnTo>
                  <a:pt x="530" y="244"/>
                </a:lnTo>
                <a:lnTo>
                  <a:pt x="503" y="248"/>
                </a:lnTo>
                <a:lnTo>
                  <a:pt x="478" y="252"/>
                </a:lnTo>
                <a:lnTo>
                  <a:pt x="455" y="256"/>
                </a:lnTo>
                <a:lnTo>
                  <a:pt x="432" y="260"/>
                </a:lnTo>
                <a:lnTo>
                  <a:pt x="409" y="263"/>
                </a:lnTo>
                <a:lnTo>
                  <a:pt x="388" y="267"/>
                </a:lnTo>
                <a:lnTo>
                  <a:pt x="367" y="271"/>
                </a:lnTo>
                <a:lnTo>
                  <a:pt x="348" y="273"/>
                </a:lnTo>
                <a:lnTo>
                  <a:pt x="329" y="277"/>
                </a:lnTo>
                <a:lnTo>
                  <a:pt x="311" y="279"/>
                </a:lnTo>
                <a:lnTo>
                  <a:pt x="294" y="283"/>
                </a:lnTo>
                <a:lnTo>
                  <a:pt x="279" y="285"/>
                </a:lnTo>
                <a:lnTo>
                  <a:pt x="263" y="286"/>
                </a:lnTo>
                <a:lnTo>
                  <a:pt x="248" y="290"/>
                </a:lnTo>
                <a:lnTo>
                  <a:pt x="235" y="292"/>
                </a:lnTo>
                <a:lnTo>
                  <a:pt x="221" y="294"/>
                </a:lnTo>
                <a:lnTo>
                  <a:pt x="210" y="296"/>
                </a:lnTo>
                <a:lnTo>
                  <a:pt x="198" y="296"/>
                </a:lnTo>
                <a:lnTo>
                  <a:pt x="188" y="298"/>
                </a:lnTo>
                <a:lnTo>
                  <a:pt x="179" y="300"/>
                </a:lnTo>
                <a:lnTo>
                  <a:pt x="169" y="300"/>
                </a:lnTo>
                <a:lnTo>
                  <a:pt x="162" y="302"/>
                </a:lnTo>
                <a:lnTo>
                  <a:pt x="154" y="302"/>
                </a:lnTo>
                <a:lnTo>
                  <a:pt x="148" y="304"/>
                </a:lnTo>
                <a:lnTo>
                  <a:pt x="144" y="304"/>
                </a:lnTo>
                <a:lnTo>
                  <a:pt x="139" y="304"/>
                </a:lnTo>
                <a:lnTo>
                  <a:pt x="135" y="304"/>
                </a:lnTo>
                <a:lnTo>
                  <a:pt x="133" y="3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27"/>
          <p:cNvSpPr/>
          <p:nvPr/>
        </p:nvSpPr>
        <p:spPr>
          <a:xfrm>
            <a:off x="6064200" y="3070080"/>
            <a:ext cx="576360" cy="1812960"/>
          </a:xfrm>
          <a:custGeom>
            <a:avLst/>
            <a:gdLst/>
            <a:ahLst/>
            <a:rect l="l" t="t" r="r" b="b"/>
            <a:pathLst>
              <a:path w="728" h="2284">
                <a:moveTo>
                  <a:pt x="474" y="1188"/>
                </a:moveTo>
                <a:lnTo>
                  <a:pt x="480" y="1149"/>
                </a:lnTo>
                <a:lnTo>
                  <a:pt x="486" y="1111"/>
                </a:lnTo>
                <a:lnTo>
                  <a:pt x="494" y="1073"/>
                </a:lnTo>
                <a:lnTo>
                  <a:pt x="499" y="1034"/>
                </a:lnTo>
                <a:lnTo>
                  <a:pt x="507" y="994"/>
                </a:lnTo>
                <a:lnTo>
                  <a:pt x="513" y="954"/>
                </a:lnTo>
                <a:lnTo>
                  <a:pt x="519" y="913"/>
                </a:lnTo>
                <a:lnTo>
                  <a:pt x="524" y="871"/>
                </a:lnTo>
                <a:lnTo>
                  <a:pt x="536" y="789"/>
                </a:lnTo>
                <a:lnTo>
                  <a:pt x="545" y="702"/>
                </a:lnTo>
                <a:lnTo>
                  <a:pt x="549" y="660"/>
                </a:lnTo>
                <a:lnTo>
                  <a:pt x="553" y="616"/>
                </a:lnTo>
                <a:lnTo>
                  <a:pt x="555" y="572"/>
                </a:lnTo>
                <a:lnTo>
                  <a:pt x="559" y="528"/>
                </a:lnTo>
                <a:lnTo>
                  <a:pt x="559" y="504"/>
                </a:lnTo>
                <a:lnTo>
                  <a:pt x="561" y="483"/>
                </a:lnTo>
                <a:lnTo>
                  <a:pt x="561" y="462"/>
                </a:lnTo>
                <a:lnTo>
                  <a:pt x="561" y="443"/>
                </a:lnTo>
                <a:lnTo>
                  <a:pt x="563" y="422"/>
                </a:lnTo>
                <a:lnTo>
                  <a:pt x="563" y="403"/>
                </a:lnTo>
                <a:lnTo>
                  <a:pt x="563" y="385"/>
                </a:lnTo>
                <a:lnTo>
                  <a:pt x="563" y="366"/>
                </a:lnTo>
                <a:lnTo>
                  <a:pt x="563" y="349"/>
                </a:lnTo>
                <a:lnTo>
                  <a:pt x="563" y="332"/>
                </a:lnTo>
                <a:lnTo>
                  <a:pt x="563" y="314"/>
                </a:lnTo>
                <a:lnTo>
                  <a:pt x="563" y="299"/>
                </a:lnTo>
                <a:lnTo>
                  <a:pt x="563" y="284"/>
                </a:lnTo>
                <a:lnTo>
                  <a:pt x="563" y="268"/>
                </a:lnTo>
                <a:lnTo>
                  <a:pt x="561" y="255"/>
                </a:lnTo>
                <a:lnTo>
                  <a:pt x="561" y="240"/>
                </a:lnTo>
                <a:lnTo>
                  <a:pt x="561" y="226"/>
                </a:lnTo>
                <a:lnTo>
                  <a:pt x="559" y="215"/>
                </a:lnTo>
                <a:lnTo>
                  <a:pt x="559" y="201"/>
                </a:lnTo>
                <a:lnTo>
                  <a:pt x="559" y="190"/>
                </a:lnTo>
                <a:lnTo>
                  <a:pt x="557" y="178"/>
                </a:lnTo>
                <a:lnTo>
                  <a:pt x="557" y="169"/>
                </a:lnTo>
                <a:lnTo>
                  <a:pt x="555" y="159"/>
                </a:lnTo>
                <a:lnTo>
                  <a:pt x="555" y="149"/>
                </a:lnTo>
                <a:lnTo>
                  <a:pt x="553" y="140"/>
                </a:lnTo>
                <a:lnTo>
                  <a:pt x="553" y="132"/>
                </a:lnTo>
                <a:lnTo>
                  <a:pt x="551" y="122"/>
                </a:lnTo>
                <a:lnTo>
                  <a:pt x="551" y="117"/>
                </a:lnTo>
                <a:lnTo>
                  <a:pt x="549" y="109"/>
                </a:lnTo>
                <a:lnTo>
                  <a:pt x="547" y="103"/>
                </a:lnTo>
                <a:lnTo>
                  <a:pt x="547" y="98"/>
                </a:lnTo>
                <a:lnTo>
                  <a:pt x="545" y="92"/>
                </a:lnTo>
                <a:lnTo>
                  <a:pt x="542" y="82"/>
                </a:lnTo>
                <a:lnTo>
                  <a:pt x="538" y="73"/>
                </a:lnTo>
                <a:lnTo>
                  <a:pt x="536" y="65"/>
                </a:lnTo>
                <a:lnTo>
                  <a:pt x="532" y="57"/>
                </a:lnTo>
                <a:lnTo>
                  <a:pt x="532" y="50"/>
                </a:lnTo>
                <a:lnTo>
                  <a:pt x="530" y="44"/>
                </a:lnTo>
                <a:lnTo>
                  <a:pt x="530" y="36"/>
                </a:lnTo>
                <a:lnTo>
                  <a:pt x="530" y="30"/>
                </a:lnTo>
                <a:lnTo>
                  <a:pt x="530" y="27"/>
                </a:lnTo>
                <a:lnTo>
                  <a:pt x="532" y="21"/>
                </a:lnTo>
                <a:lnTo>
                  <a:pt x="534" y="17"/>
                </a:lnTo>
                <a:lnTo>
                  <a:pt x="538" y="13"/>
                </a:lnTo>
                <a:lnTo>
                  <a:pt x="542" y="9"/>
                </a:lnTo>
                <a:lnTo>
                  <a:pt x="545" y="5"/>
                </a:lnTo>
                <a:lnTo>
                  <a:pt x="551" y="2"/>
                </a:lnTo>
                <a:lnTo>
                  <a:pt x="559" y="0"/>
                </a:lnTo>
                <a:lnTo>
                  <a:pt x="563" y="0"/>
                </a:lnTo>
                <a:lnTo>
                  <a:pt x="568" y="0"/>
                </a:lnTo>
                <a:lnTo>
                  <a:pt x="576" y="2"/>
                </a:lnTo>
                <a:lnTo>
                  <a:pt x="584" y="2"/>
                </a:lnTo>
                <a:lnTo>
                  <a:pt x="592" y="3"/>
                </a:lnTo>
                <a:lnTo>
                  <a:pt x="599" y="5"/>
                </a:lnTo>
                <a:lnTo>
                  <a:pt x="609" y="7"/>
                </a:lnTo>
                <a:lnTo>
                  <a:pt x="620" y="11"/>
                </a:lnTo>
                <a:lnTo>
                  <a:pt x="632" y="15"/>
                </a:lnTo>
                <a:lnTo>
                  <a:pt x="643" y="19"/>
                </a:lnTo>
                <a:lnTo>
                  <a:pt x="655" y="23"/>
                </a:lnTo>
                <a:lnTo>
                  <a:pt x="668" y="27"/>
                </a:lnTo>
                <a:lnTo>
                  <a:pt x="682" y="32"/>
                </a:lnTo>
                <a:lnTo>
                  <a:pt x="697" y="38"/>
                </a:lnTo>
                <a:lnTo>
                  <a:pt x="712" y="46"/>
                </a:lnTo>
                <a:lnTo>
                  <a:pt x="728" y="53"/>
                </a:lnTo>
                <a:lnTo>
                  <a:pt x="726" y="122"/>
                </a:lnTo>
                <a:lnTo>
                  <a:pt x="724" y="157"/>
                </a:lnTo>
                <a:lnTo>
                  <a:pt x="722" y="192"/>
                </a:lnTo>
                <a:lnTo>
                  <a:pt x="722" y="226"/>
                </a:lnTo>
                <a:lnTo>
                  <a:pt x="720" y="259"/>
                </a:lnTo>
                <a:lnTo>
                  <a:pt x="720" y="291"/>
                </a:lnTo>
                <a:lnTo>
                  <a:pt x="718" y="324"/>
                </a:lnTo>
                <a:lnTo>
                  <a:pt x="716" y="357"/>
                </a:lnTo>
                <a:lnTo>
                  <a:pt x="716" y="387"/>
                </a:lnTo>
                <a:lnTo>
                  <a:pt x="714" y="418"/>
                </a:lnTo>
                <a:lnTo>
                  <a:pt x="712" y="449"/>
                </a:lnTo>
                <a:lnTo>
                  <a:pt x="712" y="478"/>
                </a:lnTo>
                <a:lnTo>
                  <a:pt x="711" y="506"/>
                </a:lnTo>
                <a:lnTo>
                  <a:pt x="709" y="535"/>
                </a:lnTo>
                <a:lnTo>
                  <a:pt x="707" y="564"/>
                </a:lnTo>
                <a:lnTo>
                  <a:pt x="707" y="591"/>
                </a:lnTo>
                <a:lnTo>
                  <a:pt x="705" y="618"/>
                </a:lnTo>
                <a:lnTo>
                  <a:pt x="703" y="645"/>
                </a:lnTo>
                <a:lnTo>
                  <a:pt x="701" y="670"/>
                </a:lnTo>
                <a:lnTo>
                  <a:pt x="701" y="696"/>
                </a:lnTo>
                <a:lnTo>
                  <a:pt x="699" y="721"/>
                </a:lnTo>
                <a:lnTo>
                  <a:pt x="697" y="744"/>
                </a:lnTo>
                <a:lnTo>
                  <a:pt x="695" y="769"/>
                </a:lnTo>
                <a:lnTo>
                  <a:pt x="693" y="792"/>
                </a:lnTo>
                <a:lnTo>
                  <a:pt x="691" y="814"/>
                </a:lnTo>
                <a:lnTo>
                  <a:pt x="689" y="837"/>
                </a:lnTo>
                <a:lnTo>
                  <a:pt x="688" y="858"/>
                </a:lnTo>
                <a:lnTo>
                  <a:pt x="686" y="879"/>
                </a:lnTo>
                <a:lnTo>
                  <a:pt x="684" y="898"/>
                </a:lnTo>
                <a:lnTo>
                  <a:pt x="682" y="917"/>
                </a:lnTo>
                <a:lnTo>
                  <a:pt x="680" y="936"/>
                </a:lnTo>
                <a:lnTo>
                  <a:pt x="672" y="973"/>
                </a:lnTo>
                <a:lnTo>
                  <a:pt x="666" y="1009"/>
                </a:lnTo>
                <a:lnTo>
                  <a:pt x="659" y="1046"/>
                </a:lnTo>
                <a:lnTo>
                  <a:pt x="651" y="1080"/>
                </a:lnTo>
                <a:lnTo>
                  <a:pt x="645" y="1115"/>
                </a:lnTo>
                <a:lnTo>
                  <a:pt x="638" y="1147"/>
                </a:lnTo>
                <a:lnTo>
                  <a:pt x="630" y="1180"/>
                </a:lnTo>
                <a:lnTo>
                  <a:pt x="622" y="1213"/>
                </a:lnTo>
                <a:lnTo>
                  <a:pt x="615" y="1245"/>
                </a:lnTo>
                <a:lnTo>
                  <a:pt x="607" y="1276"/>
                </a:lnTo>
                <a:lnTo>
                  <a:pt x="599" y="1307"/>
                </a:lnTo>
                <a:lnTo>
                  <a:pt x="592" y="1338"/>
                </a:lnTo>
                <a:lnTo>
                  <a:pt x="584" y="1366"/>
                </a:lnTo>
                <a:lnTo>
                  <a:pt x="576" y="1395"/>
                </a:lnTo>
                <a:lnTo>
                  <a:pt x="567" y="1424"/>
                </a:lnTo>
                <a:lnTo>
                  <a:pt x="559" y="1451"/>
                </a:lnTo>
                <a:lnTo>
                  <a:pt x="540" y="1505"/>
                </a:lnTo>
                <a:lnTo>
                  <a:pt x="521" y="1556"/>
                </a:lnTo>
                <a:lnTo>
                  <a:pt x="499" y="1608"/>
                </a:lnTo>
                <a:lnTo>
                  <a:pt x="478" y="1658"/>
                </a:lnTo>
                <a:lnTo>
                  <a:pt x="455" y="1708"/>
                </a:lnTo>
                <a:lnTo>
                  <a:pt x="434" y="1754"/>
                </a:lnTo>
                <a:lnTo>
                  <a:pt x="411" y="1802"/>
                </a:lnTo>
                <a:lnTo>
                  <a:pt x="390" y="1846"/>
                </a:lnTo>
                <a:lnTo>
                  <a:pt x="361" y="1890"/>
                </a:lnTo>
                <a:lnTo>
                  <a:pt x="332" y="1933"/>
                </a:lnTo>
                <a:lnTo>
                  <a:pt x="304" y="1975"/>
                </a:lnTo>
                <a:lnTo>
                  <a:pt x="273" y="2015"/>
                </a:lnTo>
                <a:lnTo>
                  <a:pt x="242" y="2053"/>
                </a:lnTo>
                <a:lnTo>
                  <a:pt x="210" y="2092"/>
                </a:lnTo>
                <a:lnTo>
                  <a:pt x="179" y="2128"/>
                </a:lnTo>
                <a:lnTo>
                  <a:pt x="148" y="2163"/>
                </a:lnTo>
                <a:lnTo>
                  <a:pt x="133" y="2180"/>
                </a:lnTo>
                <a:lnTo>
                  <a:pt x="117" y="2196"/>
                </a:lnTo>
                <a:lnTo>
                  <a:pt x="104" y="2209"/>
                </a:lnTo>
                <a:lnTo>
                  <a:pt x="91" y="2222"/>
                </a:lnTo>
                <a:lnTo>
                  <a:pt x="79" y="2234"/>
                </a:lnTo>
                <a:lnTo>
                  <a:pt x="68" y="2245"/>
                </a:lnTo>
                <a:lnTo>
                  <a:pt x="58" y="2255"/>
                </a:lnTo>
                <a:lnTo>
                  <a:pt x="48" y="2263"/>
                </a:lnTo>
                <a:lnTo>
                  <a:pt x="39" y="2268"/>
                </a:lnTo>
                <a:lnTo>
                  <a:pt x="31" y="2274"/>
                </a:lnTo>
                <a:lnTo>
                  <a:pt x="23" y="2280"/>
                </a:lnTo>
                <a:lnTo>
                  <a:pt x="18" y="2282"/>
                </a:lnTo>
                <a:lnTo>
                  <a:pt x="12" y="2284"/>
                </a:lnTo>
                <a:lnTo>
                  <a:pt x="8" y="2284"/>
                </a:lnTo>
                <a:lnTo>
                  <a:pt x="4" y="2284"/>
                </a:lnTo>
                <a:lnTo>
                  <a:pt x="2" y="2282"/>
                </a:lnTo>
                <a:lnTo>
                  <a:pt x="0" y="2280"/>
                </a:lnTo>
                <a:lnTo>
                  <a:pt x="0" y="2276"/>
                </a:lnTo>
                <a:lnTo>
                  <a:pt x="0" y="2272"/>
                </a:lnTo>
                <a:lnTo>
                  <a:pt x="2" y="2267"/>
                </a:lnTo>
                <a:lnTo>
                  <a:pt x="4" y="2261"/>
                </a:lnTo>
                <a:lnTo>
                  <a:pt x="8" y="2255"/>
                </a:lnTo>
                <a:lnTo>
                  <a:pt x="12" y="2247"/>
                </a:lnTo>
                <a:lnTo>
                  <a:pt x="18" y="2240"/>
                </a:lnTo>
                <a:lnTo>
                  <a:pt x="23" y="2230"/>
                </a:lnTo>
                <a:lnTo>
                  <a:pt x="31" y="2220"/>
                </a:lnTo>
                <a:lnTo>
                  <a:pt x="39" y="2209"/>
                </a:lnTo>
                <a:lnTo>
                  <a:pt x="46" y="2197"/>
                </a:lnTo>
                <a:lnTo>
                  <a:pt x="56" y="2184"/>
                </a:lnTo>
                <a:lnTo>
                  <a:pt x="66" y="2169"/>
                </a:lnTo>
                <a:lnTo>
                  <a:pt x="75" y="2153"/>
                </a:lnTo>
                <a:lnTo>
                  <a:pt x="87" y="2136"/>
                </a:lnTo>
                <a:lnTo>
                  <a:pt x="98" y="2121"/>
                </a:lnTo>
                <a:lnTo>
                  <a:pt x="110" y="2103"/>
                </a:lnTo>
                <a:lnTo>
                  <a:pt x="121" y="2086"/>
                </a:lnTo>
                <a:lnTo>
                  <a:pt x="133" y="2067"/>
                </a:lnTo>
                <a:lnTo>
                  <a:pt x="144" y="2048"/>
                </a:lnTo>
                <a:lnTo>
                  <a:pt x="156" y="2025"/>
                </a:lnTo>
                <a:lnTo>
                  <a:pt x="167" y="2002"/>
                </a:lnTo>
                <a:lnTo>
                  <a:pt x="181" y="1979"/>
                </a:lnTo>
                <a:lnTo>
                  <a:pt x="194" y="1954"/>
                </a:lnTo>
                <a:lnTo>
                  <a:pt x="206" y="1927"/>
                </a:lnTo>
                <a:lnTo>
                  <a:pt x="219" y="1898"/>
                </a:lnTo>
                <a:lnTo>
                  <a:pt x="233" y="1869"/>
                </a:lnTo>
                <a:lnTo>
                  <a:pt x="248" y="1840"/>
                </a:lnTo>
                <a:lnTo>
                  <a:pt x="261" y="1808"/>
                </a:lnTo>
                <a:lnTo>
                  <a:pt x="277" y="1775"/>
                </a:lnTo>
                <a:lnTo>
                  <a:pt x="292" y="1741"/>
                </a:lnTo>
                <a:lnTo>
                  <a:pt x="307" y="1708"/>
                </a:lnTo>
                <a:lnTo>
                  <a:pt x="323" y="1675"/>
                </a:lnTo>
                <a:lnTo>
                  <a:pt x="336" y="1643"/>
                </a:lnTo>
                <a:lnTo>
                  <a:pt x="352" y="1610"/>
                </a:lnTo>
                <a:lnTo>
                  <a:pt x="363" y="1576"/>
                </a:lnTo>
                <a:lnTo>
                  <a:pt x="377" y="1543"/>
                </a:lnTo>
                <a:lnTo>
                  <a:pt x="390" y="1508"/>
                </a:lnTo>
                <a:lnTo>
                  <a:pt x="402" y="1474"/>
                </a:lnTo>
                <a:lnTo>
                  <a:pt x="411" y="1439"/>
                </a:lnTo>
                <a:lnTo>
                  <a:pt x="423" y="1405"/>
                </a:lnTo>
                <a:lnTo>
                  <a:pt x="432" y="1368"/>
                </a:lnTo>
                <a:lnTo>
                  <a:pt x="442" y="1334"/>
                </a:lnTo>
                <a:lnTo>
                  <a:pt x="451" y="1297"/>
                </a:lnTo>
                <a:lnTo>
                  <a:pt x="459" y="1261"/>
                </a:lnTo>
                <a:lnTo>
                  <a:pt x="467" y="1224"/>
                </a:lnTo>
                <a:lnTo>
                  <a:pt x="474" y="11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28"/>
          <p:cNvSpPr/>
          <p:nvPr/>
        </p:nvSpPr>
        <p:spPr>
          <a:xfrm>
            <a:off x="6573960" y="2779560"/>
            <a:ext cx="796680" cy="395280"/>
          </a:xfrm>
          <a:custGeom>
            <a:avLst/>
            <a:gdLst/>
            <a:ahLst/>
            <a:rect l="l" t="t" r="r" b="b"/>
            <a:pathLst>
              <a:path w="1004" h="499">
                <a:moveTo>
                  <a:pt x="918" y="104"/>
                </a:moveTo>
                <a:lnTo>
                  <a:pt x="929" y="109"/>
                </a:lnTo>
                <a:lnTo>
                  <a:pt x="939" y="117"/>
                </a:lnTo>
                <a:lnTo>
                  <a:pt x="949" y="123"/>
                </a:lnTo>
                <a:lnTo>
                  <a:pt x="956" y="131"/>
                </a:lnTo>
                <a:lnTo>
                  <a:pt x="964" y="136"/>
                </a:lnTo>
                <a:lnTo>
                  <a:pt x="972" y="142"/>
                </a:lnTo>
                <a:lnTo>
                  <a:pt x="977" y="148"/>
                </a:lnTo>
                <a:lnTo>
                  <a:pt x="983" y="154"/>
                </a:lnTo>
                <a:lnTo>
                  <a:pt x="989" y="159"/>
                </a:lnTo>
                <a:lnTo>
                  <a:pt x="993" y="165"/>
                </a:lnTo>
                <a:lnTo>
                  <a:pt x="997" y="169"/>
                </a:lnTo>
                <a:lnTo>
                  <a:pt x="998" y="175"/>
                </a:lnTo>
                <a:lnTo>
                  <a:pt x="1000" y="180"/>
                </a:lnTo>
                <a:lnTo>
                  <a:pt x="1002" y="184"/>
                </a:lnTo>
                <a:lnTo>
                  <a:pt x="1002" y="190"/>
                </a:lnTo>
                <a:lnTo>
                  <a:pt x="1004" y="196"/>
                </a:lnTo>
                <a:lnTo>
                  <a:pt x="1000" y="200"/>
                </a:lnTo>
                <a:lnTo>
                  <a:pt x="995" y="205"/>
                </a:lnTo>
                <a:lnTo>
                  <a:pt x="989" y="211"/>
                </a:lnTo>
                <a:lnTo>
                  <a:pt x="981" y="217"/>
                </a:lnTo>
                <a:lnTo>
                  <a:pt x="970" y="223"/>
                </a:lnTo>
                <a:lnTo>
                  <a:pt x="958" y="230"/>
                </a:lnTo>
                <a:lnTo>
                  <a:pt x="945" y="236"/>
                </a:lnTo>
                <a:lnTo>
                  <a:pt x="931" y="244"/>
                </a:lnTo>
                <a:lnTo>
                  <a:pt x="914" y="251"/>
                </a:lnTo>
                <a:lnTo>
                  <a:pt x="895" y="259"/>
                </a:lnTo>
                <a:lnTo>
                  <a:pt x="876" y="269"/>
                </a:lnTo>
                <a:lnTo>
                  <a:pt x="853" y="276"/>
                </a:lnTo>
                <a:lnTo>
                  <a:pt x="830" y="286"/>
                </a:lnTo>
                <a:lnTo>
                  <a:pt x="805" y="294"/>
                </a:lnTo>
                <a:lnTo>
                  <a:pt x="778" y="303"/>
                </a:lnTo>
                <a:lnTo>
                  <a:pt x="749" y="315"/>
                </a:lnTo>
                <a:lnTo>
                  <a:pt x="716" y="326"/>
                </a:lnTo>
                <a:lnTo>
                  <a:pt x="682" y="338"/>
                </a:lnTo>
                <a:lnTo>
                  <a:pt x="647" y="349"/>
                </a:lnTo>
                <a:lnTo>
                  <a:pt x="609" y="361"/>
                </a:lnTo>
                <a:lnTo>
                  <a:pt x="570" y="372"/>
                </a:lnTo>
                <a:lnTo>
                  <a:pt x="528" y="384"/>
                </a:lnTo>
                <a:lnTo>
                  <a:pt x="486" y="395"/>
                </a:lnTo>
                <a:lnTo>
                  <a:pt x="442" y="407"/>
                </a:lnTo>
                <a:lnTo>
                  <a:pt x="398" y="417"/>
                </a:lnTo>
                <a:lnTo>
                  <a:pt x="350" y="428"/>
                </a:lnTo>
                <a:lnTo>
                  <a:pt x="302" y="440"/>
                </a:lnTo>
                <a:lnTo>
                  <a:pt x="252" y="451"/>
                </a:lnTo>
                <a:lnTo>
                  <a:pt x="200" y="463"/>
                </a:lnTo>
                <a:lnTo>
                  <a:pt x="146" y="474"/>
                </a:lnTo>
                <a:lnTo>
                  <a:pt x="92" y="486"/>
                </a:lnTo>
                <a:lnTo>
                  <a:pt x="37" y="499"/>
                </a:lnTo>
                <a:lnTo>
                  <a:pt x="18" y="466"/>
                </a:lnTo>
                <a:lnTo>
                  <a:pt x="0" y="432"/>
                </a:lnTo>
                <a:lnTo>
                  <a:pt x="27" y="424"/>
                </a:lnTo>
                <a:lnTo>
                  <a:pt x="56" y="415"/>
                </a:lnTo>
                <a:lnTo>
                  <a:pt x="81" y="407"/>
                </a:lnTo>
                <a:lnTo>
                  <a:pt x="108" y="397"/>
                </a:lnTo>
                <a:lnTo>
                  <a:pt x="133" y="390"/>
                </a:lnTo>
                <a:lnTo>
                  <a:pt x="158" y="382"/>
                </a:lnTo>
                <a:lnTo>
                  <a:pt x="183" y="372"/>
                </a:lnTo>
                <a:lnTo>
                  <a:pt x="206" y="365"/>
                </a:lnTo>
                <a:lnTo>
                  <a:pt x="229" y="357"/>
                </a:lnTo>
                <a:lnTo>
                  <a:pt x="252" y="349"/>
                </a:lnTo>
                <a:lnTo>
                  <a:pt x="273" y="342"/>
                </a:lnTo>
                <a:lnTo>
                  <a:pt x="296" y="334"/>
                </a:lnTo>
                <a:lnTo>
                  <a:pt x="315" y="326"/>
                </a:lnTo>
                <a:lnTo>
                  <a:pt x="336" y="319"/>
                </a:lnTo>
                <a:lnTo>
                  <a:pt x="355" y="311"/>
                </a:lnTo>
                <a:lnTo>
                  <a:pt x="375" y="303"/>
                </a:lnTo>
                <a:lnTo>
                  <a:pt x="394" y="296"/>
                </a:lnTo>
                <a:lnTo>
                  <a:pt x="411" y="290"/>
                </a:lnTo>
                <a:lnTo>
                  <a:pt x="428" y="282"/>
                </a:lnTo>
                <a:lnTo>
                  <a:pt x="446" y="275"/>
                </a:lnTo>
                <a:lnTo>
                  <a:pt x="461" y="267"/>
                </a:lnTo>
                <a:lnTo>
                  <a:pt x="476" y="261"/>
                </a:lnTo>
                <a:lnTo>
                  <a:pt x="492" y="253"/>
                </a:lnTo>
                <a:lnTo>
                  <a:pt x="507" y="248"/>
                </a:lnTo>
                <a:lnTo>
                  <a:pt x="521" y="240"/>
                </a:lnTo>
                <a:lnTo>
                  <a:pt x="534" y="234"/>
                </a:lnTo>
                <a:lnTo>
                  <a:pt x="547" y="227"/>
                </a:lnTo>
                <a:lnTo>
                  <a:pt x="559" y="221"/>
                </a:lnTo>
                <a:lnTo>
                  <a:pt x="570" y="213"/>
                </a:lnTo>
                <a:lnTo>
                  <a:pt x="582" y="207"/>
                </a:lnTo>
                <a:lnTo>
                  <a:pt x="593" y="202"/>
                </a:lnTo>
                <a:lnTo>
                  <a:pt x="605" y="196"/>
                </a:lnTo>
                <a:lnTo>
                  <a:pt x="624" y="182"/>
                </a:lnTo>
                <a:lnTo>
                  <a:pt x="641" y="171"/>
                </a:lnTo>
                <a:lnTo>
                  <a:pt x="657" y="159"/>
                </a:lnTo>
                <a:lnTo>
                  <a:pt x="672" y="150"/>
                </a:lnTo>
                <a:lnTo>
                  <a:pt x="686" y="140"/>
                </a:lnTo>
                <a:lnTo>
                  <a:pt x="697" y="131"/>
                </a:lnTo>
                <a:lnTo>
                  <a:pt x="707" y="123"/>
                </a:lnTo>
                <a:lnTo>
                  <a:pt x="714" y="113"/>
                </a:lnTo>
                <a:lnTo>
                  <a:pt x="720" y="106"/>
                </a:lnTo>
                <a:lnTo>
                  <a:pt x="726" y="100"/>
                </a:lnTo>
                <a:lnTo>
                  <a:pt x="730" y="92"/>
                </a:lnTo>
                <a:lnTo>
                  <a:pt x="732" y="86"/>
                </a:lnTo>
                <a:lnTo>
                  <a:pt x="732" y="79"/>
                </a:lnTo>
                <a:lnTo>
                  <a:pt x="732" y="73"/>
                </a:lnTo>
                <a:lnTo>
                  <a:pt x="728" y="67"/>
                </a:lnTo>
                <a:lnTo>
                  <a:pt x="726" y="63"/>
                </a:lnTo>
                <a:lnTo>
                  <a:pt x="718" y="58"/>
                </a:lnTo>
                <a:lnTo>
                  <a:pt x="712" y="54"/>
                </a:lnTo>
                <a:lnTo>
                  <a:pt x="709" y="50"/>
                </a:lnTo>
                <a:lnTo>
                  <a:pt x="705" y="46"/>
                </a:lnTo>
                <a:lnTo>
                  <a:pt x="701" y="42"/>
                </a:lnTo>
                <a:lnTo>
                  <a:pt x="699" y="38"/>
                </a:lnTo>
                <a:lnTo>
                  <a:pt x="697" y="35"/>
                </a:lnTo>
                <a:lnTo>
                  <a:pt x="697" y="31"/>
                </a:lnTo>
                <a:lnTo>
                  <a:pt x="697" y="29"/>
                </a:lnTo>
                <a:lnTo>
                  <a:pt x="697" y="25"/>
                </a:lnTo>
                <a:lnTo>
                  <a:pt x="697" y="23"/>
                </a:lnTo>
                <a:lnTo>
                  <a:pt x="699" y="21"/>
                </a:lnTo>
                <a:lnTo>
                  <a:pt x="703" y="17"/>
                </a:lnTo>
                <a:lnTo>
                  <a:pt x="705" y="15"/>
                </a:lnTo>
                <a:lnTo>
                  <a:pt x="709" y="13"/>
                </a:lnTo>
                <a:lnTo>
                  <a:pt x="712" y="10"/>
                </a:lnTo>
                <a:lnTo>
                  <a:pt x="716" y="8"/>
                </a:lnTo>
                <a:lnTo>
                  <a:pt x="718" y="6"/>
                </a:lnTo>
                <a:lnTo>
                  <a:pt x="722" y="4"/>
                </a:lnTo>
                <a:lnTo>
                  <a:pt x="726" y="2"/>
                </a:lnTo>
                <a:lnTo>
                  <a:pt x="735" y="0"/>
                </a:lnTo>
                <a:lnTo>
                  <a:pt x="747" y="0"/>
                </a:lnTo>
                <a:lnTo>
                  <a:pt x="759" y="0"/>
                </a:lnTo>
                <a:lnTo>
                  <a:pt x="770" y="2"/>
                </a:lnTo>
                <a:lnTo>
                  <a:pt x="783" y="6"/>
                </a:lnTo>
                <a:lnTo>
                  <a:pt x="797" y="10"/>
                </a:lnTo>
                <a:lnTo>
                  <a:pt x="805" y="13"/>
                </a:lnTo>
                <a:lnTo>
                  <a:pt x="810" y="15"/>
                </a:lnTo>
                <a:lnTo>
                  <a:pt x="818" y="21"/>
                </a:lnTo>
                <a:lnTo>
                  <a:pt x="826" y="25"/>
                </a:lnTo>
                <a:lnTo>
                  <a:pt x="839" y="35"/>
                </a:lnTo>
                <a:lnTo>
                  <a:pt x="854" y="46"/>
                </a:lnTo>
                <a:lnTo>
                  <a:pt x="868" y="60"/>
                </a:lnTo>
                <a:lnTo>
                  <a:pt x="885" y="73"/>
                </a:lnTo>
                <a:lnTo>
                  <a:pt x="901" y="88"/>
                </a:lnTo>
                <a:lnTo>
                  <a:pt x="918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29"/>
          <p:cNvSpPr/>
          <p:nvPr/>
        </p:nvSpPr>
        <p:spPr>
          <a:xfrm>
            <a:off x="5892840" y="3886200"/>
            <a:ext cx="169920" cy="1163520"/>
          </a:xfrm>
          <a:custGeom>
            <a:avLst/>
            <a:gdLst/>
            <a:ahLst/>
            <a:rect l="l" t="t" r="r" b="b"/>
            <a:pathLst>
              <a:path w="213" h="1465">
                <a:moveTo>
                  <a:pt x="96" y="1465"/>
                </a:moveTo>
                <a:lnTo>
                  <a:pt x="94" y="1465"/>
                </a:lnTo>
                <a:lnTo>
                  <a:pt x="91" y="1463"/>
                </a:lnTo>
                <a:lnTo>
                  <a:pt x="89" y="1461"/>
                </a:lnTo>
                <a:lnTo>
                  <a:pt x="85" y="1457"/>
                </a:lnTo>
                <a:lnTo>
                  <a:pt x="81" y="1454"/>
                </a:lnTo>
                <a:lnTo>
                  <a:pt x="77" y="1448"/>
                </a:lnTo>
                <a:lnTo>
                  <a:pt x="73" y="1442"/>
                </a:lnTo>
                <a:lnTo>
                  <a:pt x="69" y="1436"/>
                </a:lnTo>
                <a:lnTo>
                  <a:pt x="66" y="1427"/>
                </a:lnTo>
                <a:lnTo>
                  <a:pt x="62" y="1419"/>
                </a:lnTo>
                <a:lnTo>
                  <a:pt x="58" y="1409"/>
                </a:lnTo>
                <a:lnTo>
                  <a:pt x="54" y="1398"/>
                </a:lnTo>
                <a:lnTo>
                  <a:pt x="48" y="1386"/>
                </a:lnTo>
                <a:lnTo>
                  <a:pt x="45" y="1375"/>
                </a:lnTo>
                <a:lnTo>
                  <a:pt x="41" y="1361"/>
                </a:lnTo>
                <a:lnTo>
                  <a:pt x="37" y="1346"/>
                </a:lnTo>
                <a:lnTo>
                  <a:pt x="31" y="1331"/>
                </a:lnTo>
                <a:lnTo>
                  <a:pt x="27" y="1317"/>
                </a:lnTo>
                <a:lnTo>
                  <a:pt x="23" y="1304"/>
                </a:lnTo>
                <a:lnTo>
                  <a:pt x="20" y="1292"/>
                </a:lnTo>
                <a:lnTo>
                  <a:pt x="18" y="1279"/>
                </a:lnTo>
                <a:lnTo>
                  <a:pt x="14" y="1267"/>
                </a:lnTo>
                <a:lnTo>
                  <a:pt x="12" y="1258"/>
                </a:lnTo>
                <a:lnTo>
                  <a:pt x="8" y="1246"/>
                </a:lnTo>
                <a:lnTo>
                  <a:pt x="6" y="1237"/>
                </a:lnTo>
                <a:lnTo>
                  <a:pt x="4" y="1229"/>
                </a:lnTo>
                <a:lnTo>
                  <a:pt x="2" y="1219"/>
                </a:lnTo>
                <a:lnTo>
                  <a:pt x="2" y="1212"/>
                </a:lnTo>
                <a:lnTo>
                  <a:pt x="0" y="1206"/>
                </a:lnTo>
                <a:lnTo>
                  <a:pt x="0" y="1198"/>
                </a:lnTo>
                <a:lnTo>
                  <a:pt x="0" y="1192"/>
                </a:lnTo>
                <a:lnTo>
                  <a:pt x="0" y="1189"/>
                </a:lnTo>
                <a:lnTo>
                  <a:pt x="0" y="1185"/>
                </a:lnTo>
                <a:lnTo>
                  <a:pt x="0" y="1181"/>
                </a:lnTo>
                <a:lnTo>
                  <a:pt x="0" y="1177"/>
                </a:lnTo>
                <a:lnTo>
                  <a:pt x="2" y="1171"/>
                </a:lnTo>
                <a:lnTo>
                  <a:pt x="2" y="1164"/>
                </a:lnTo>
                <a:lnTo>
                  <a:pt x="4" y="1158"/>
                </a:lnTo>
                <a:lnTo>
                  <a:pt x="6" y="1148"/>
                </a:lnTo>
                <a:lnTo>
                  <a:pt x="8" y="1141"/>
                </a:lnTo>
                <a:lnTo>
                  <a:pt x="8" y="1131"/>
                </a:lnTo>
                <a:lnTo>
                  <a:pt x="10" y="1120"/>
                </a:lnTo>
                <a:lnTo>
                  <a:pt x="12" y="1108"/>
                </a:lnTo>
                <a:lnTo>
                  <a:pt x="16" y="1097"/>
                </a:lnTo>
                <a:lnTo>
                  <a:pt x="18" y="1085"/>
                </a:lnTo>
                <a:lnTo>
                  <a:pt x="20" y="1072"/>
                </a:lnTo>
                <a:lnTo>
                  <a:pt x="21" y="1058"/>
                </a:lnTo>
                <a:lnTo>
                  <a:pt x="23" y="1043"/>
                </a:lnTo>
                <a:lnTo>
                  <a:pt x="25" y="1029"/>
                </a:lnTo>
                <a:lnTo>
                  <a:pt x="27" y="1016"/>
                </a:lnTo>
                <a:lnTo>
                  <a:pt x="29" y="1002"/>
                </a:lnTo>
                <a:lnTo>
                  <a:pt x="31" y="989"/>
                </a:lnTo>
                <a:lnTo>
                  <a:pt x="31" y="974"/>
                </a:lnTo>
                <a:lnTo>
                  <a:pt x="33" y="958"/>
                </a:lnTo>
                <a:lnTo>
                  <a:pt x="35" y="943"/>
                </a:lnTo>
                <a:lnTo>
                  <a:pt x="35" y="926"/>
                </a:lnTo>
                <a:lnTo>
                  <a:pt x="39" y="891"/>
                </a:lnTo>
                <a:lnTo>
                  <a:pt x="41" y="855"/>
                </a:lnTo>
                <a:lnTo>
                  <a:pt x="45" y="818"/>
                </a:lnTo>
                <a:lnTo>
                  <a:pt x="48" y="780"/>
                </a:lnTo>
                <a:lnTo>
                  <a:pt x="48" y="770"/>
                </a:lnTo>
                <a:lnTo>
                  <a:pt x="50" y="759"/>
                </a:lnTo>
                <a:lnTo>
                  <a:pt x="52" y="749"/>
                </a:lnTo>
                <a:lnTo>
                  <a:pt x="52" y="736"/>
                </a:lnTo>
                <a:lnTo>
                  <a:pt x="54" y="722"/>
                </a:lnTo>
                <a:lnTo>
                  <a:pt x="54" y="709"/>
                </a:lnTo>
                <a:lnTo>
                  <a:pt x="56" y="693"/>
                </a:lnTo>
                <a:lnTo>
                  <a:pt x="56" y="678"/>
                </a:lnTo>
                <a:lnTo>
                  <a:pt x="58" y="661"/>
                </a:lnTo>
                <a:lnTo>
                  <a:pt x="60" y="644"/>
                </a:lnTo>
                <a:lnTo>
                  <a:pt x="60" y="624"/>
                </a:lnTo>
                <a:lnTo>
                  <a:pt x="62" y="603"/>
                </a:lnTo>
                <a:lnTo>
                  <a:pt x="62" y="582"/>
                </a:lnTo>
                <a:lnTo>
                  <a:pt x="64" y="561"/>
                </a:lnTo>
                <a:lnTo>
                  <a:pt x="66" y="538"/>
                </a:lnTo>
                <a:lnTo>
                  <a:pt x="66" y="513"/>
                </a:lnTo>
                <a:lnTo>
                  <a:pt x="68" y="488"/>
                </a:lnTo>
                <a:lnTo>
                  <a:pt x="68" y="463"/>
                </a:lnTo>
                <a:lnTo>
                  <a:pt x="69" y="436"/>
                </a:lnTo>
                <a:lnTo>
                  <a:pt x="71" y="407"/>
                </a:lnTo>
                <a:lnTo>
                  <a:pt x="71" y="379"/>
                </a:lnTo>
                <a:lnTo>
                  <a:pt x="73" y="350"/>
                </a:lnTo>
                <a:lnTo>
                  <a:pt x="73" y="319"/>
                </a:lnTo>
                <a:lnTo>
                  <a:pt x="75" y="286"/>
                </a:lnTo>
                <a:lnTo>
                  <a:pt x="77" y="254"/>
                </a:lnTo>
                <a:lnTo>
                  <a:pt x="77" y="221"/>
                </a:lnTo>
                <a:lnTo>
                  <a:pt x="79" y="187"/>
                </a:lnTo>
                <a:lnTo>
                  <a:pt x="79" y="152"/>
                </a:lnTo>
                <a:lnTo>
                  <a:pt x="81" y="116"/>
                </a:lnTo>
                <a:lnTo>
                  <a:pt x="81" y="77"/>
                </a:lnTo>
                <a:lnTo>
                  <a:pt x="83" y="39"/>
                </a:lnTo>
                <a:lnTo>
                  <a:pt x="85" y="0"/>
                </a:lnTo>
                <a:lnTo>
                  <a:pt x="96" y="18"/>
                </a:lnTo>
                <a:lnTo>
                  <a:pt x="110" y="33"/>
                </a:lnTo>
                <a:lnTo>
                  <a:pt x="121" y="48"/>
                </a:lnTo>
                <a:lnTo>
                  <a:pt x="131" y="62"/>
                </a:lnTo>
                <a:lnTo>
                  <a:pt x="140" y="75"/>
                </a:lnTo>
                <a:lnTo>
                  <a:pt x="150" y="89"/>
                </a:lnTo>
                <a:lnTo>
                  <a:pt x="160" y="98"/>
                </a:lnTo>
                <a:lnTo>
                  <a:pt x="167" y="110"/>
                </a:lnTo>
                <a:lnTo>
                  <a:pt x="173" y="119"/>
                </a:lnTo>
                <a:lnTo>
                  <a:pt x="181" y="127"/>
                </a:lnTo>
                <a:lnTo>
                  <a:pt x="187" y="135"/>
                </a:lnTo>
                <a:lnTo>
                  <a:pt x="190" y="141"/>
                </a:lnTo>
                <a:lnTo>
                  <a:pt x="196" y="146"/>
                </a:lnTo>
                <a:lnTo>
                  <a:pt x="200" y="152"/>
                </a:lnTo>
                <a:lnTo>
                  <a:pt x="202" y="156"/>
                </a:lnTo>
                <a:lnTo>
                  <a:pt x="206" y="160"/>
                </a:lnTo>
                <a:lnTo>
                  <a:pt x="206" y="162"/>
                </a:lnTo>
                <a:lnTo>
                  <a:pt x="208" y="166"/>
                </a:lnTo>
                <a:lnTo>
                  <a:pt x="208" y="169"/>
                </a:lnTo>
                <a:lnTo>
                  <a:pt x="210" y="173"/>
                </a:lnTo>
                <a:lnTo>
                  <a:pt x="210" y="179"/>
                </a:lnTo>
                <a:lnTo>
                  <a:pt x="210" y="185"/>
                </a:lnTo>
                <a:lnTo>
                  <a:pt x="212" y="192"/>
                </a:lnTo>
                <a:lnTo>
                  <a:pt x="212" y="198"/>
                </a:lnTo>
                <a:lnTo>
                  <a:pt x="212" y="206"/>
                </a:lnTo>
                <a:lnTo>
                  <a:pt x="213" y="215"/>
                </a:lnTo>
                <a:lnTo>
                  <a:pt x="213" y="223"/>
                </a:lnTo>
                <a:lnTo>
                  <a:pt x="213" y="235"/>
                </a:lnTo>
                <a:lnTo>
                  <a:pt x="213" y="244"/>
                </a:lnTo>
                <a:lnTo>
                  <a:pt x="213" y="256"/>
                </a:lnTo>
                <a:lnTo>
                  <a:pt x="213" y="267"/>
                </a:lnTo>
                <a:lnTo>
                  <a:pt x="213" y="279"/>
                </a:lnTo>
                <a:lnTo>
                  <a:pt x="213" y="292"/>
                </a:lnTo>
                <a:lnTo>
                  <a:pt x="213" y="306"/>
                </a:lnTo>
                <a:lnTo>
                  <a:pt x="213" y="321"/>
                </a:lnTo>
                <a:lnTo>
                  <a:pt x="213" y="334"/>
                </a:lnTo>
                <a:lnTo>
                  <a:pt x="213" y="352"/>
                </a:lnTo>
                <a:lnTo>
                  <a:pt x="213" y="367"/>
                </a:lnTo>
                <a:lnTo>
                  <a:pt x="212" y="384"/>
                </a:lnTo>
                <a:lnTo>
                  <a:pt x="212" y="402"/>
                </a:lnTo>
                <a:lnTo>
                  <a:pt x="212" y="421"/>
                </a:lnTo>
                <a:lnTo>
                  <a:pt x="210" y="440"/>
                </a:lnTo>
                <a:lnTo>
                  <a:pt x="210" y="459"/>
                </a:lnTo>
                <a:lnTo>
                  <a:pt x="210" y="478"/>
                </a:lnTo>
                <a:lnTo>
                  <a:pt x="208" y="500"/>
                </a:lnTo>
                <a:lnTo>
                  <a:pt x="208" y="523"/>
                </a:lnTo>
                <a:lnTo>
                  <a:pt x="206" y="544"/>
                </a:lnTo>
                <a:lnTo>
                  <a:pt x="206" y="569"/>
                </a:lnTo>
                <a:lnTo>
                  <a:pt x="202" y="615"/>
                </a:lnTo>
                <a:lnTo>
                  <a:pt x="200" y="661"/>
                </a:lnTo>
                <a:lnTo>
                  <a:pt x="196" y="705"/>
                </a:lnTo>
                <a:lnTo>
                  <a:pt x="194" y="749"/>
                </a:lnTo>
                <a:lnTo>
                  <a:pt x="190" y="791"/>
                </a:lnTo>
                <a:lnTo>
                  <a:pt x="188" y="834"/>
                </a:lnTo>
                <a:lnTo>
                  <a:pt x="185" y="874"/>
                </a:lnTo>
                <a:lnTo>
                  <a:pt x="181" y="914"/>
                </a:lnTo>
                <a:lnTo>
                  <a:pt x="177" y="953"/>
                </a:lnTo>
                <a:lnTo>
                  <a:pt x="173" y="991"/>
                </a:lnTo>
                <a:lnTo>
                  <a:pt x="171" y="1029"/>
                </a:lnTo>
                <a:lnTo>
                  <a:pt x="167" y="1066"/>
                </a:lnTo>
                <a:lnTo>
                  <a:pt x="165" y="1100"/>
                </a:lnTo>
                <a:lnTo>
                  <a:pt x="162" y="1135"/>
                </a:lnTo>
                <a:lnTo>
                  <a:pt x="160" y="1169"/>
                </a:lnTo>
                <a:lnTo>
                  <a:pt x="158" y="1202"/>
                </a:lnTo>
                <a:lnTo>
                  <a:pt x="154" y="1233"/>
                </a:lnTo>
                <a:lnTo>
                  <a:pt x="152" y="1262"/>
                </a:lnTo>
                <a:lnTo>
                  <a:pt x="148" y="1288"/>
                </a:lnTo>
                <a:lnTo>
                  <a:pt x="148" y="1302"/>
                </a:lnTo>
                <a:lnTo>
                  <a:pt x="146" y="1315"/>
                </a:lnTo>
                <a:lnTo>
                  <a:pt x="144" y="1327"/>
                </a:lnTo>
                <a:lnTo>
                  <a:pt x="142" y="1338"/>
                </a:lnTo>
                <a:lnTo>
                  <a:pt x="140" y="1350"/>
                </a:lnTo>
                <a:lnTo>
                  <a:pt x="139" y="1359"/>
                </a:lnTo>
                <a:lnTo>
                  <a:pt x="137" y="1371"/>
                </a:lnTo>
                <a:lnTo>
                  <a:pt x="135" y="1381"/>
                </a:lnTo>
                <a:lnTo>
                  <a:pt x="133" y="1388"/>
                </a:lnTo>
                <a:lnTo>
                  <a:pt x="131" y="1398"/>
                </a:lnTo>
                <a:lnTo>
                  <a:pt x="129" y="1406"/>
                </a:lnTo>
                <a:lnTo>
                  <a:pt x="127" y="1413"/>
                </a:lnTo>
                <a:lnTo>
                  <a:pt x="125" y="1421"/>
                </a:lnTo>
                <a:lnTo>
                  <a:pt x="123" y="1427"/>
                </a:lnTo>
                <a:lnTo>
                  <a:pt x="121" y="1432"/>
                </a:lnTo>
                <a:lnTo>
                  <a:pt x="119" y="1438"/>
                </a:lnTo>
                <a:lnTo>
                  <a:pt x="116" y="1444"/>
                </a:lnTo>
                <a:lnTo>
                  <a:pt x="114" y="1448"/>
                </a:lnTo>
                <a:lnTo>
                  <a:pt x="112" y="1452"/>
                </a:lnTo>
                <a:lnTo>
                  <a:pt x="110" y="1455"/>
                </a:lnTo>
                <a:lnTo>
                  <a:pt x="108" y="1459"/>
                </a:lnTo>
                <a:lnTo>
                  <a:pt x="106" y="1461"/>
                </a:lnTo>
                <a:lnTo>
                  <a:pt x="104" y="1463"/>
                </a:lnTo>
                <a:lnTo>
                  <a:pt x="100" y="1463"/>
                </a:lnTo>
                <a:lnTo>
                  <a:pt x="98" y="1465"/>
                </a:lnTo>
                <a:lnTo>
                  <a:pt x="96" y="14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30"/>
          <p:cNvSpPr/>
          <p:nvPr/>
        </p:nvSpPr>
        <p:spPr>
          <a:xfrm>
            <a:off x="5421240" y="3397320"/>
            <a:ext cx="816120" cy="1050840"/>
          </a:xfrm>
          <a:custGeom>
            <a:avLst/>
            <a:gdLst/>
            <a:ahLst/>
            <a:rect l="l" t="t" r="r" b="b"/>
            <a:pathLst>
              <a:path w="1029" h="1325">
                <a:moveTo>
                  <a:pt x="922" y="405"/>
                </a:moveTo>
                <a:lnTo>
                  <a:pt x="906" y="428"/>
                </a:lnTo>
                <a:lnTo>
                  <a:pt x="893" y="451"/>
                </a:lnTo>
                <a:lnTo>
                  <a:pt x="878" y="474"/>
                </a:lnTo>
                <a:lnTo>
                  <a:pt x="862" y="499"/>
                </a:lnTo>
                <a:lnTo>
                  <a:pt x="845" y="524"/>
                </a:lnTo>
                <a:lnTo>
                  <a:pt x="828" y="549"/>
                </a:lnTo>
                <a:lnTo>
                  <a:pt x="810" y="576"/>
                </a:lnTo>
                <a:lnTo>
                  <a:pt x="791" y="603"/>
                </a:lnTo>
                <a:lnTo>
                  <a:pt x="772" y="630"/>
                </a:lnTo>
                <a:lnTo>
                  <a:pt x="753" y="659"/>
                </a:lnTo>
                <a:lnTo>
                  <a:pt x="732" y="688"/>
                </a:lnTo>
                <a:lnTo>
                  <a:pt x="711" y="716"/>
                </a:lnTo>
                <a:lnTo>
                  <a:pt x="689" y="747"/>
                </a:lnTo>
                <a:lnTo>
                  <a:pt x="666" y="778"/>
                </a:lnTo>
                <a:lnTo>
                  <a:pt x="643" y="808"/>
                </a:lnTo>
                <a:lnTo>
                  <a:pt x="618" y="841"/>
                </a:lnTo>
                <a:lnTo>
                  <a:pt x="593" y="874"/>
                </a:lnTo>
                <a:lnTo>
                  <a:pt x="569" y="902"/>
                </a:lnTo>
                <a:lnTo>
                  <a:pt x="544" y="933"/>
                </a:lnTo>
                <a:lnTo>
                  <a:pt x="519" y="960"/>
                </a:lnTo>
                <a:lnTo>
                  <a:pt x="494" y="987"/>
                </a:lnTo>
                <a:lnTo>
                  <a:pt x="469" y="1014"/>
                </a:lnTo>
                <a:lnTo>
                  <a:pt x="444" y="1039"/>
                </a:lnTo>
                <a:lnTo>
                  <a:pt x="419" y="1062"/>
                </a:lnTo>
                <a:lnTo>
                  <a:pt x="394" y="1085"/>
                </a:lnTo>
                <a:lnTo>
                  <a:pt x="369" y="1108"/>
                </a:lnTo>
                <a:lnTo>
                  <a:pt x="344" y="1129"/>
                </a:lnTo>
                <a:lnTo>
                  <a:pt x="319" y="1148"/>
                </a:lnTo>
                <a:lnTo>
                  <a:pt x="294" y="1167"/>
                </a:lnTo>
                <a:lnTo>
                  <a:pt x="269" y="1187"/>
                </a:lnTo>
                <a:lnTo>
                  <a:pt x="244" y="1206"/>
                </a:lnTo>
                <a:lnTo>
                  <a:pt x="219" y="1223"/>
                </a:lnTo>
                <a:lnTo>
                  <a:pt x="196" y="1240"/>
                </a:lnTo>
                <a:lnTo>
                  <a:pt x="173" y="1256"/>
                </a:lnTo>
                <a:lnTo>
                  <a:pt x="152" y="1269"/>
                </a:lnTo>
                <a:lnTo>
                  <a:pt x="131" y="1281"/>
                </a:lnTo>
                <a:lnTo>
                  <a:pt x="114" y="1292"/>
                </a:lnTo>
                <a:lnTo>
                  <a:pt x="96" y="1302"/>
                </a:lnTo>
                <a:lnTo>
                  <a:pt x="81" y="1307"/>
                </a:lnTo>
                <a:lnTo>
                  <a:pt x="66" y="1315"/>
                </a:lnTo>
                <a:lnTo>
                  <a:pt x="52" y="1319"/>
                </a:lnTo>
                <a:lnTo>
                  <a:pt x="41" y="1323"/>
                </a:lnTo>
                <a:lnTo>
                  <a:pt x="31" y="1325"/>
                </a:lnTo>
                <a:lnTo>
                  <a:pt x="23" y="1325"/>
                </a:lnTo>
                <a:lnTo>
                  <a:pt x="16" y="1325"/>
                </a:lnTo>
                <a:lnTo>
                  <a:pt x="10" y="1323"/>
                </a:lnTo>
                <a:lnTo>
                  <a:pt x="6" y="1321"/>
                </a:lnTo>
                <a:lnTo>
                  <a:pt x="2" y="1315"/>
                </a:lnTo>
                <a:lnTo>
                  <a:pt x="0" y="1313"/>
                </a:lnTo>
                <a:lnTo>
                  <a:pt x="0" y="1307"/>
                </a:lnTo>
                <a:lnTo>
                  <a:pt x="2" y="1304"/>
                </a:lnTo>
                <a:lnTo>
                  <a:pt x="4" y="1296"/>
                </a:lnTo>
                <a:lnTo>
                  <a:pt x="8" y="1288"/>
                </a:lnTo>
                <a:lnTo>
                  <a:pt x="14" y="1281"/>
                </a:lnTo>
                <a:lnTo>
                  <a:pt x="21" y="1271"/>
                </a:lnTo>
                <a:lnTo>
                  <a:pt x="29" y="1260"/>
                </a:lnTo>
                <a:lnTo>
                  <a:pt x="39" y="1248"/>
                </a:lnTo>
                <a:lnTo>
                  <a:pt x="50" y="1236"/>
                </a:lnTo>
                <a:lnTo>
                  <a:pt x="64" y="1223"/>
                </a:lnTo>
                <a:lnTo>
                  <a:pt x="77" y="1210"/>
                </a:lnTo>
                <a:lnTo>
                  <a:pt x="92" y="1194"/>
                </a:lnTo>
                <a:lnTo>
                  <a:pt x="110" y="1179"/>
                </a:lnTo>
                <a:lnTo>
                  <a:pt x="127" y="1162"/>
                </a:lnTo>
                <a:lnTo>
                  <a:pt x="148" y="1144"/>
                </a:lnTo>
                <a:lnTo>
                  <a:pt x="167" y="1127"/>
                </a:lnTo>
                <a:lnTo>
                  <a:pt x="187" y="1108"/>
                </a:lnTo>
                <a:lnTo>
                  <a:pt x="208" y="1089"/>
                </a:lnTo>
                <a:lnTo>
                  <a:pt x="227" y="1069"/>
                </a:lnTo>
                <a:lnTo>
                  <a:pt x="265" y="1031"/>
                </a:lnTo>
                <a:lnTo>
                  <a:pt x="302" y="989"/>
                </a:lnTo>
                <a:lnTo>
                  <a:pt x="336" y="947"/>
                </a:lnTo>
                <a:lnTo>
                  <a:pt x="371" y="902"/>
                </a:lnTo>
                <a:lnTo>
                  <a:pt x="405" y="858"/>
                </a:lnTo>
                <a:lnTo>
                  <a:pt x="438" y="814"/>
                </a:lnTo>
                <a:lnTo>
                  <a:pt x="453" y="791"/>
                </a:lnTo>
                <a:lnTo>
                  <a:pt x="469" y="768"/>
                </a:lnTo>
                <a:lnTo>
                  <a:pt x="486" y="745"/>
                </a:lnTo>
                <a:lnTo>
                  <a:pt x="501" y="720"/>
                </a:lnTo>
                <a:lnTo>
                  <a:pt x="519" y="695"/>
                </a:lnTo>
                <a:lnTo>
                  <a:pt x="536" y="668"/>
                </a:lnTo>
                <a:lnTo>
                  <a:pt x="553" y="641"/>
                </a:lnTo>
                <a:lnTo>
                  <a:pt x="570" y="615"/>
                </a:lnTo>
                <a:lnTo>
                  <a:pt x="588" y="586"/>
                </a:lnTo>
                <a:lnTo>
                  <a:pt x="605" y="557"/>
                </a:lnTo>
                <a:lnTo>
                  <a:pt x="622" y="528"/>
                </a:lnTo>
                <a:lnTo>
                  <a:pt x="638" y="497"/>
                </a:lnTo>
                <a:lnTo>
                  <a:pt x="655" y="467"/>
                </a:lnTo>
                <a:lnTo>
                  <a:pt x="672" y="434"/>
                </a:lnTo>
                <a:lnTo>
                  <a:pt x="688" y="400"/>
                </a:lnTo>
                <a:lnTo>
                  <a:pt x="703" y="367"/>
                </a:lnTo>
                <a:lnTo>
                  <a:pt x="718" y="334"/>
                </a:lnTo>
                <a:lnTo>
                  <a:pt x="732" y="306"/>
                </a:lnTo>
                <a:lnTo>
                  <a:pt x="745" y="277"/>
                </a:lnTo>
                <a:lnTo>
                  <a:pt x="757" y="250"/>
                </a:lnTo>
                <a:lnTo>
                  <a:pt x="768" y="225"/>
                </a:lnTo>
                <a:lnTo>
                  <a:pt x="778" y="202"/>
                </a:lnTo>
                <a:lnTo>
                  <a:pt x="785" y="179"/>
                </a:lnTo>
                <a:lnTo>
                  <a:pt x="793" y="160"/>
                </a:lnTo>
                <a:lnTo>
                  <a:pt x="799" y="140"/>
                </a:lnTo>
                <a:lnTo>
                  <a:pt x="805" y="125"/>
                </a:lnTo>
                <a:lnTo>
                  <a:pt x="808" y="110"/>
                </a:lnTo>
                <a:lnTo>
                  <a:pt x="812" y="96"/>
                </a:lnTo>
                <a:lnTo>
                  <a:pt x="814" y="85"/>
                </a:lnTo>
                <a:lnTo>
                  <a:pt x="814" y="75"/>
                </a:lnTo>
                <a:lnTo>
                  <a:pt x="814" y="68"/>
                </a:lnTo>
                <a:lnTo>
                  <a:pt x="812" y="62"/>
                </a:lnTo>
                <a:lnTo>
                  <a:pt x="808" y="60"/>
                </a:lnTo>
                <a:lnTo>
                  <a:pt x="805" y="56"/>
                </a:lnTo>
                <a:lnTo>
                  <a:pt x="801" y="54"/>
                </a:lnTo>
                <a:lnTo>
                  <a:pt x="799" y="50"/>
                </a:lnTo>
                <a:lnTo>
                  <a:pt x="797" y="46"/>
                </a:lnTo>
                <a:lnTo>
                  <a:pt x="795" y="43"/>
                </a:lnTo>
                <a:lnTo>
                  <a:pt x="795" y="41"/>
                </a:lnTo>
                <a:lnTo>
                  <a:pt x="793" y="37"/>
                </a:lnTo>
                <a:lnTo>
                  <a:pt x="795" y="33"/>
                </a:lnTo>
                <a:lnTo>
                  <a:pt x="795" y="29"/>
                </a:lnTo>
                <a:lnTo>
                  <a:pt x="797" y="25"/>
                </a:lnTo>
                <a:lnTo>
                  <a:pt x="799" y="21"/>
                </a:lnTo>
                <a:lnTo>
                  <a:pt x="801" y="18"/>
                </a:lnTo>
                <a:lnTo>
                  <a:pt x="805" y="16"/>
                </a:lnTo>
                <a:lnTo>
                  <a:pt x="808" y="12"/>
                </a:lnTo>
                <a:lnTo>
                  <a:pt x="812" y="10"/>
                </a:lnTo>
                <a:lnTo>
                  <a:pt x="816" y="6"/>
                </a:lnTo>
                <a:lnTo>
                  <a:pt x="824" y="2"/>
                </a:lnTo>
                <a:lnTo>
                  <a:pt x="831" y="0"/>
                </a:lnTo>
                <a:lnTo>
                  <a:pt x="839" y="0"/>
                </a:lnTo>
                <a:lnTo>
                  <a:pt x="849" y="0"/>
                </a:lnTo>
                <a:lnTo>
                  <a:pt x="860" y="2"/>
                </a:lnTo>
                <a:lnTo>
                  <a:pt x="872" y="4"/>
                </a:lnTo>
                <a:lnTo>
                  <a:pt x="885" y="10"/>
                </a:lnTo>
                <a:lnTo>
                  <a:pt x="899" y="16"/>
                </a:lnTo>
                <a:lnTo>
                  <a:pt x="910" y="21"/>
                </a:lnTo>
                <a:lnTo>
                  <a:pt x="922" y="29"/>
                </a:lnTo>
                <a:lnTo>
                  <a:pt x="933" y="37"/>
                </a:lnTo>
                <a:lnTo>
                  <a:pt x="945" y="46"/>
                </a:lnTo>
                <a:lnTo>
                  <a:pt x="956" y="56"/>
                </a:lnTo>
                <a:lnTo>
                  <a:pt x="968" y="66"/>
                </a:lnTo>
                <a:lnTo>
                  <a:pt x="981" y="75"/>
                </a:lnTo>
                <a:lnTo>
                  <a:pt x="987" y="83"/>
                </a:lnTo>
                <a:lnTo>
                  <a:pt x="993" y="91"/>
                </a:lnTo>
                <a:lnTo>
                  <a:pt x="998" y="96"/>
                </a:lnTo>
                <a:lnTo>
                  <a:pt x="1004" y="104"/>
                </a:lnTo>
                <a:lnTo>
                  <a:pt x="1008" y="110"/>
                </a:lnTo>
                <a:lnTo>
                  <a:pt x="1012" y="116"/>
                </a:lnTo>
                <a:lnTo>
                  <a:pt x="1020" y="127"/>
                </a:lnTo>
                <a:lnTo>
                  <a:pt x="1023" y="139"/>
                </a:lnTo>
                <a:lnTo>
                  <a:pt x="1027" y="148"/>
                </a:lnTo>
                <a:lnTo>
                  <a:pt x="1029" y="158"/>
                </a:lnTo>
                <a:lnTo>
                  <a:pt x="1029" y="167"/>
                </a:lnTo>
                <a:lnTo>
                  <a:pt x="1029" y="173"/>
                </a:lnTo>
                <a:lnTo>
                  <a:pt x="1027" y="181"/>
                </a:lnTo>
                <a:lnTo>
                  <a:pt x="1025" y="188"/>
                </a:lnTo>
                <a:lnTo>
                  <a:pt x="1023" y="198"/>
                </a:lnTo>
                <a:lnTo>
                  <a:pt x="1020" y="208"/>
                </a:lnTo>
                <a:lnTo>
                  <a:pt x="1014" y="219"/>
                </a:lnTo>
                <a:lnTo>
                  <a:pt x="1008" y="233"/>
                </a:lnTo>
                <a:lnTo>
                  <a:pt x="1002" y="246"/>
                </a:lnTo>
                <a:lnTo>
                  <a:pt x="995" y="261"/>
                </a:lnTo>
                <a:lnTo>
                  <a:pt x="987" y="279"/>
                </a:lnTo>
                <a:lnTo>
                  <a:pt x="977" y="298"/>
                </a:lnTo>
                <a:lnTo>
                  <a:pt x="968" y="317"/>
                </a:lnTo>
                <a:lnTo>
                  <a:pt x="958" y="336"/>
                </a:lnTo>
                <a:lnTo>
                  <a:pt x="947" y="357"/>
                </a:lnTo>
                <a:lnTo>
                  <a:pt x="933" y="380"/>
                </a:lnTo>
                <a:lnTo>
                  <a:pt x="922" y="4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31"/>
          <p:cNvSpPr/>
          <p:nvPr/>
        </p:nvSpPr>
        <p:spPr>
          <a:xfrm>
            <a:off x="5651640" y="2773440"/>
            <a:ext cx="663480" cy="770040"/>
          </a:xfrm>
          <a:custGeom>
            <a:avLst/>
            <a:gdLst/>
            <a:ahLst/>
            <a:rect l="l" t="t" r="r" b="b"/>
            <a:pathLst>
              <a:path w="837" h="972">
                <a:moveTo>
                  <a:pt x="837" y="164"/>
                </a:moveTo>
                <a:lnTo>
                  <a:pt x="835" y="171"/>
                </a:lnTo>
                <a:lnTo>
                  <a:pt x="835" y="179"/>
                </a:lnTo>
                <a:lnTo>
                  <a:pt x="831" y="188"/>
                </a:lnTo>
                <a:lnTo>
                  <a:pt x="829" y="198"/>
                </a:lnTo>
                <a:lnTo>
                  <a:pt x="826" y="208"/>
                </a:lnTo>
                <a:lnTo>
                  <a:pt x="820" y="219"/>
                </a:lnTo>
                <a:lnTo>
                  <a:pt x="816" y="231"/>
                </a:lnTo>
                <a:lnTo>
                  <a:pt x="808" y="242"/>
                </a:lnTo>
                <a:lnTo>
                  <a:pt x="801" y="256"/>
                </a:lnTo>
                <a:lnTo>
                  <a:pt x="793" y="269"/>
                </a:lnTo>
                <a:lnTo>
                  <a:pt x="785" y="283"/>
                </a:lnTo>
                <a:lnTo>
                  <a:pt x="776" y="296"/>
                </a:lnTo>
                <a:lnTo>
                  <a:pt x="764" y="311"/>
                </a:lnTo>
                <a:lnTo>
                  <a:pt x="753" y="329"/>
                </a:lnTo>
                <a:lnTo>
                  <a:pt x="741" y="344"/>
                </a:lnTo>
                <a:lnTo>
                  <a:pt x="728" y="361"/>
                </a:lnTo>
                <a:lnTo>
                  <a:pt x="701" y="396"/>
                </a:lnTo>
                <a:lnTo>
                  <a:pt x="672" y="432"/>
                </a:lnTo>
                <a:lnTo>
                  <a:pt x="641" y="469"/>
                </a:lnTo>
                <a:lnTo>
                  <a:pt x="609" y="507"/>
                </a:lnTo>
                <a:lnTo>
                  <a:pt x="574" y="544"/>
                </a:lnTo>
                <a:lnTo>
                  <a:pt x="540" y="580"/>
                </a:lnTo>
                <a:lnTo>
                  <a:pt x="501" y="617"/>
                </a:lnTo>
                <a:lnTo>
                  <a:pt x="482" y="634"/>
                </a:lnTo>
                <a:lnTo>
                  <a:pt x="463" y="651"/>
                </a:lnTo>
                <a:lnTo>
                  <a:pt x="422" y="686"/>
                </a:lnTo>
                <a:lnTo>
                  <a:pt x="382" y="718"/>
                </a:lnTo>
                <a:lnTo>
                  <a:pt x="344" y="751"/>
                </a:lnTo>
                <a:lnTo>
                  <a:pt x="305" y="780"/>
                </a:lnTo>
                <a:lnTo>
                  <a:pt x="269" y="808"/>
                </a:lnTo>
                <a:lnTo>
                  <a:pt x="232" y="837"/>
                </a:lnTo>
                <a:lnTo>
                  <a:pt x="196" y="864"/>
                </a:lnTo>
                <a:lnTo>
                  <a:pt x="159" y="889"/>
                </a:lnTo>
                <a:lnTo>
                  <a:pt x="142" y="901"/>
                </a:lnTo>
                <a:lnTo>
                  <a:pt x="125" y="912"/>
                </a:lnTo>
                <a:lnTo>
                  <a:pt x="110" y="922"/>
                </a:lnTo>
                <a:lnTo>
                  <a:pt x="96" y="931"/>
                </a:lnTo>
                <a:lnTo>
                  <a:pt x="83" y="939"/>
                </a:lnTo>
                <a:lnTo>
                  <a:pt x="71" y="947"/>
                </a:lnTo>
                <a:lnTo>
                  <a:pt x="60" y="952"/>
                </a:lnTo>
                <a:lnTo>
                  <a:pt x="50" y="958"/>
                </a:lnTo>
                <a:lnTo>
                  <a:pt x="40" y="964"/>
                </a:lnTo>
                <a:lnTo>
                  <a:pt x="31" y="966"/>
                </a:lnTo>
                <a:lnTo>
                  <a:pt x="25" y="970"/>
                </a:lnTo>
                <a:lnTo>
                  <a:pt x="17" y="972"/>
                </a:lnTo>
                <a:lnTo>
                  <a:pt x="14" y="972"/>
                </a:lnTo>
                <a:lnTo>
                  <a:pt x="8" y="972"/>
                </a:lnTo>
                <a:lnTo>
                  <a:pt x="4" y="970"/>
                </a:lnTo>
                <a:lnTo>
                  <a:pt x="2" y="968"/>
                </a:lnTo>
                <a:lnTo>
                  <a:pt x="0" y="966"/>
                </a:lnTo>
                <a:lnTo>
                  <a:pt x="0" y="960"/>
                </a:lnTo>
                <a:lnTo>
                  <a:pt x="2" y="954"/>
                </a:lnTo>
                <a:lnTo>
                  <a:pt x="6" y="947"/>
                </a:lnTo>
                <a:lnTo>
                  <a:pt x="12" y="937"/>
                </a:lnTo>
                <a:lnTo>
                  <a:pt x="17" y="927"/>
                </a:lnTo>
                <a:lnTo>
                  <a:pt x="27" y="916"/>
                </a:lnTo>
                <a:lnTo>
                  <a:pt x="37" y="903"/>
                </a:lnTo>
                <a:lnTo>
                  <a:pt x="46" y="889"/>
                </a:lnTo>
                <a:lnTo>
                  <a:pt x="60" y="874"/>
                </a:lnTo>
                <a:lnTo>
                  <a:pt x="73" y="856"/>
                </a:lnTo>
                <a:lnTo>
                  <a:pt x="88" y="839"/>
                </a:lnTo>
                <a:lnTo>
                  <a:pt x="104" y="820"/>
                </a:lnTo>
                <a:lnTo>
                  <a:pt x="121" y="801"/>
                </a:lnTo>
                <a:lnTo>
                  <a:pt x="140" y="780"/>
                </a:lnTo>
                <a:lnTo>
                  <a:pt x="159" y="757"/>
                </a:lnTo>
                <a:lnTo>
                  <a:pt x="200" y="712"/>
                </a:lnTo>
                <a:lnTo>
                  <a:pt x="238" y="670"/>
                </a:lnTo>
                <a:lnTo>
                  <a:pt x="277" y="628"/>
                </a:lnTo>
                <a:lnTo>
                  <a:pt x="311" y="590"/>
                </a:lnTo>
                <a:lnTo>
                  <a:pt x="346" y="549"/>
                </a:lnTo>
                <a:lnTo>
                  <a:pt x="363" y="530"/>
                </a:lnTo>
                <a:lnTo>
                  <a:pt x="378" y="513"/>
                </a:lnTo>
                <a:lnTo>
                  <a:pt x="394" y="494"/>
                </a:lnTo>
                <a:lnTo>
                  <a:pt x="409" y="476"/>
                </a:lnTo>
                <a:lnTo>
                  <a:pt x="424" y="457"/>
                </a:lnTo>
                <a:lnTo>
                  <a:pt x="438" y="440"/>
                </a:lnTo>
                <a:lnTo>
                  <a:pt x="459" y="407"/>
                </a:lnTo>
                <a:lnTo>
                  <a:pt x="480" y="373"/>
                </a:lnTo>
                <a:lnTo>
                  <a:pt x="499" y="342"/>
                </a:lnTo>
                <a:lnTo>
                  <a:pt x="518" y="311"/>
                </a:lnTo>
                <a:lnTo>
                  <a:pt x="536" y="283"/>
                </a:lnTo>
                <a:lnTo>
                  <a:pt x="553" y="256"/>
                </a:lnTo>
                <a:lnTo>
                  <a:pt x="568" y="229"/>
                </a:lnTo>
                <a:lnTo>
                  <a:pt x="582" y="204"/>
                </a:lnTo>
                <a:lnTo>
                  <a:pt x="589" y="190"/>
                </a:lnTo>
                <a:lnTo>
                  <a:pt x="593" y="179"/>
                </a:lnTo>
                <a:lnTo>
                  <a:pt x="599" y="167"/>
                </a:lnTo>
                <a:lnTo>
                  <a:pt x="603" y="158"/>
                </a:lnTo>
                <a:lnTo>
                  <a:pt x="607" y="148"/>
                </a:lnTo>
                <a:lnTo>
                  <a:pt x="609" y="139"/>
                </a:lnTo>
                <a:lnTo>
                  <a:pt x="611" y="129"/>
                </a:lnTo>
                <a:lnTo>
                  <a:pt x="612" y="121"/>
                </a:lnTo>
                <a:lnTo>
                  <a:pt x="612" y="112"/>
                </a:lnTo>
                <a:lnTo>
                  <a:pt x="614" y="104"/>
                </a:lnTo>
                <a:lnTo>
                  <a:pt x="614" y="96"/>
                </a:lnTo>
                <a:lnTo>
                  <a:pt x="612" y="89"/>
                </a:lnTo>
                <a:lnTo>
                  <a:pt x="611" y="73"/>
                </a:lnTo>
                <a:lnTo>
                  <a:pt x="607" y="58"/>
                </a:lnTo>
                <a:lnTo>
                  <a:pt x="603" y="52"/>
                </a:lnTo>
                <a:lnTo>
                  <a:pt x="599" y="48"/>
                </a:lnTo>
                <a:lnTo>
                  <a:pt x="595" y="45"/>
                </a:lnTo>
                <a:lnTo>
                  <a:pt x="593" y="41"/>
                </a:lnTo>
                <a:lnTo>
                  <a:pt x="591" y="37"/>
                </a:lnTo>
                <a:lnTo>
                  <a:pt x="589" y="33"/>
                </a:lnTo>
                <a:lnTo>
                  <a:pt x="589" y="29"/>
                </a:lnTo>
                <a:lnTo>
                  <a:pt x="589" y="27"/>
                </a:lnTo>
                <a:lnTo>
                  <a:pt x="589" y="23"/>
                </a:lnTo>
                <a:lnTo>
                  <a:pt x="589" y="21"/>
                </a:lnTo>
                <a:lnTo>
                  <a:pt x="591" y="18"/>
                </a:lnTo>
                <a:lnTo>
                  <a:pt x="593" y="16"/>
                </a:lnTo>
                <a:lnTo>
                  <a:pt x="595" y="12"/>
                </a:lnTo>
                <a:lnTo>
                  <a:pt x="599" y="10"/>
                </a:lnTo>
                <a:lnTo>
                  <a:pt x="603" y="8"/>
                </a:lnTo>
                <a:lnTo>
                  <a:pt x="607" y="6"/>
                </a:lnTo>
                <a:lnTo>
                  <a:pt x="612" y="2"/>
                </a:lnTo>
                <a:lnTo>
                  <a:pt x="616" y="2"/>
                </a:lnTo>
                <a:lnTo>
                  <a:pt x="622" y="0"/>
                </a:lnTo>
                <a:lnTo>
                  <a:pt x="630" y="0"/>
                </a:lnTo>
                <a:lnTo>
                  <a:pt x="636" y="0"/>
                </a:lnTo>
                <a:lnTo>
                  <a:pt x="643" y="0"/>
                </a:lnTo>
                <a:lnTo>
                  <a:pt x="651" y="2"/>
                </a:lnTo>
                <a:lnTo>
                  <a:pt x="660" y="4"/>
                </a:lnTo>
                <a:lnTo>
                  <a:pt x="668" y="8"/>
                </a:lnTo>
                <a:lnTo>
                  <a:pt x="678" y="12"/>
                </a:lnTo>
                <a:lnTo>
                  <a:pt x="687" y="16"/>
                </a:lnTo>
                <a:lnTo>
                  <a:pt x="697" y="20"/>
                </a:lnTo>
                <a:lnTo>
                  <a:pt x="707" y="25"/>
                </a:lnTo>
                <a:lnTo>
                  <a:pt x="718" y="31"/>
                </a:lnTo>
                <a:lnTo>
                  <a:pt x="728" y="37"/>
                </a:lnTo>
                <a:lnTo>
                  <a:pt x="739" y="45"/>
                </a:lnTo>
                <a:lnTo>
                  <a:pt x="751" y="52"/>
                </a:lnTo>
                <a:lnTo>
                  <a:pt x="760" y="60"/>
                </a:lnTo>
                <a:lnTo>
                  <a:pt x="772" y="68"/>
                </a:lnTo>
                <a:lnTo>
                  <a:pt x="779" y="75"/>
                </a:lnTo>
                <a:lnTo>
                  <a:pt x="789" y="83"/>
                </a:lnTo>
                <a:lnTo>
                  <a:pt x="797" y="89"/>
                </a:lnTo>
                <a:lnTo>
                  <a:pt x="804" y="96"/>
                </a:lnTo>
                <a:lnTo>
                  <a:pt x="810" y="104"/>
                </a:lnTo>
                <a:lnTo>
                  <a:pt x="816" y="112"/>
                </a:lnTo>
                <a:lnTo>
                  <a:pt x="822" y="119"/>
                </a:lnTo>
                <a:lnTo>
                  <a:pt x="826" y="127"/>
                </a:lnTo>
                <a:lnTo>
                  <a:pt x="829" y="135"/>
                </a:lnTo>
                <a:lnTo>
                  <a:pt x="833" y="140"/>
                </a:lnTo>
                <a:lnTo>
                  <a:pt x="835" y="148"/>
                </a:lnTo>
                <a:lnTo>
                  <a:pt x="835" y="156"/>
                </a:lnTo>
                <a:lnTo>
                  <a:pt x="837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任意多边形 8"/>
          <p:cNvSpPr/>
          <p:nvPr/>
        </p:nvSpPr>
        <p:spPr>
          <a:xfrm>
            <a:off x="1690560" y="2568600"/>
            <a:ext cx="603900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翰     靡     麓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孕     荫     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567080" y="234144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3753720" y="23414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5935680" y="2341440"/>
            <a:ext cx="6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1607400" y="374508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3789720" y="374508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5851800" y="37450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7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2:15:07Z</dcterms:modified>
  <cp:revision>4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